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5.wmf" ContentType="image/x-wmf"/>
  <Override PartName="/ppt/media/image10.png" ContentType="image/png"/>
  <Override PartName="/ppt/media/image23.png" ContentType="image/png"/>
  <Override PartName="/ppt/media/image22.png" ContentType="image/png"/>
  <Override PartName="/ppt/media/image4.wmf" ContentType="image/x-wmf"/>
  <Override PartName="/ppt/media/image20.png" ContentType="image/png"/>
  <Override PartName="/ppt/media/image3.png" ContentType="image/png"/>
  <Override PartName="/ppt/media/image21.png" ContentType="image/png"/>
  <Override PartName="/ppt/media/image19.png" ContentType="image/png"/>
  <Override PartName="/ppt/media/image18.wmf" ContentType="image/x-wmf"/>
  <Override PartName="/ppt/media/image1.png" ContentType="image/png"/>
  <Override PartName="/ppt/media/image17.png" ContentType="image/png"/>
  <Override PartName="/ppt/media/image14.png" ContentType="image/png"/>
  <Override PartName="/ppt/media/image2.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file:///../MAT086-Index.pp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80880" y="-380880"/>
            <a:ext cx="9905760" cy="7696080"/>
          </a:xfrm>
          <a:prstGeom prst="rect">
            <a:avLst/>
          </a:prstGeom>
          <a:ln w="0">
            <a:noFill/>
          </a:ln>
        </p:spPr>
      </p:pic>
      <p:sp>
        <p:nvSpPr>
          <p:cNvPr id="1" name=""/>
          <p:cNvSpPr/>
          <p:nvPr/>
        </p:nvSpPr>
        <p:spPr>
          <a:xfrm>
            <a:off x="532800" y="457200"/>
            <a:ext cx="261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AT086  Prealgebra</a:t>
            </a:r>
            <a:endParaRPr b="0" lang="en-US" sz="2000" spc="-1" strike="noStrike">
              <a:solidFill>
                <a:srgbClr val="000000"/>
              </a:solidFill>
              <a:latin typeface="Times New Roman"/>
            </a:endParaRPr>
          </a:p>
        </p:txBody>
      </p:sp>
      <p:sp>
        <p:nvSpPr>
          <p:cNvPr id="2" name=""/>
          <p:cNvSpPr/>
          <p:nvPr/>
        </p:nvSpPr>
        <p:spPr>
          <a:xfrm>
            <a:off x="6132600" y="457200"/>
            <a:ext cx="231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lass 3      Unit B </a:t>
            </a:r>
            <a:endParaRPr b="0" lang="en-US" sz="2000" spc="-1" strike="noStrike">
              <a:solidFill>
                <a:srgbClr val="000000"/>
              </a:solidFill>
              <a:latin typeface="Times New Roman"/>
            </a:endParaRPr>
          </a:p>
        </p:txBody>
      </p:sp>
      <p:sp>
        <p:nvSpPr>
          <p:cNvPr id="3" name="">
            <a:hlinkClick r:id="rId3"/>
          </p:cNvPr>
          <p:cNvSpPr/>
          <p:nvPr/>
        </p:nvSpPr>
        <p:spPr>
          <a:xfrm>
            <a:off x="0" y="0"/>
            <a:ext cx="304920" cy="304920"/>
          </a:xfrm>
          <a:prstGeom prst="leftArrow">
            <a:avLst>
              <a:gd name="adj1" fmla="val 50000"/>
              <a:gd name="adj2" fmla="val 25000"/>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endshow"/>
          </p:cNvPr>
          <p:cNvSpPr/>
          <p:nvPr/>
        </p:nvSpPr>
        <p:spPr>
          <a:xfrm>
            <a:off x="0" y="0"/>
            <a:ext cx="1981080" cy="304920"/>
          </a:xfrm>
          <a:custGeom>
            <a:avLst/>
            <a:gdLst>
              <a:gd name="textAreaLeft" fmla="*/ 19440 w 1981080"/>
              <a:gd name="textAreaRight" fmla="*/ 1961640 w 1981080"/>
              <a:gd name="textAreaTop" fmla="*/ 19440 h 304920"/>
              <a:gd name="textAreaBottom" fmla="*/ 285480 h 304920"/>
            </a:gdLst>
            <a:ahLst/>
            <a:rect l="textAreaLeft" t="textAreaTop" r="textAreaRight" b="textAreaBottom"/>
            <a:pathLst>
              <a:path w="140196" h="21600">
                <a:moveTo>
                  <a:pt x="0" y="0"/>
                </a:moveTo>
                <a:lnTo>
                  <a:pt x="140196" y="0"/>
                </a:lnTo>
                <a:lnTo>
                  <a:pt x="140196" y="21600"/>
                </a:lnTo>
                <a:lnTo>
                  <a:pt x="0" y="21600"/>
                </a:lnTo>
                <a:close/>
              </a:path>
              <a:path fill="lightenLess" w="140196" h="21600">
                <a:moveTo>
                  <a:pt x="0" y="0"/>
                </a:moveTo>
                <a:lnTo>
                  <a:pt x="140196" y="0"/>
                </a:lnTo>
                <a:lnTo>
                  <a:pt x="138796" y="1400"/>
                </a:lnTo>
                <a:lnTo>
                  <a:pt x="1400" y="1400"/>
                </a:lnTo>
                <a:close/>
              </a:path>
              <a:path fill="darken" w="140196" h="21600">
                <a:moveTo>
                  <a:pt x="140196" y="0"/>
                </a:moveTo>
                <a:lnTo>
                  <a:pt x="140196" y="21600"/>
                </a:lnTo>
                <a:lnTo>
                  <a:pt x="138796" y="20200"/>
                </a:lnTo>
                <a:lnTo>
                  <a:pt x="138796" y="1400"/>
                </a:lnTo>
                <a:close/>
              </a:path>
              <a:path fill="darkenLess" w="140196" h="21600">
                <a:moveTo>
                  <a:pt x="140196" y="21600"/>
                </a:moveTo>
                <a:lnTo>
                  <a:pt x="0" y="21600"/>
                </a:lnTo>
                <a:lnTo>
                  <a:pt x="1400" y="20200"/>
                </a:lnTo>
                <a:lnTo>
                  <a:pt x="138796" y="20200"/>
                </a:lnTo>
                <a:close/>
              </a:path>
              <a:path fill="lighten" w="140196" h="21600">
                <a:moveTo>
                  <a:pt x="0" y="21600"/>
                </a:moveTo>
                <a:lnTo>
                  <a:pt x="0" y="0"/>
                </a:lnTo>
                <a:lnTo>
                  <a:pt x="1400" y="1400"/>
                </a:lnTo>
                <a:lnTo>
                  <a:pt x="1400" y="20200"/>
                </a:lnTo>
                <a:close/>
              </a:path>
            </a:pathLst>
          </a:custGeom>
          <a:solidFill>
            <a:srgbClr val="ff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it to T O C</a:t>
            </a:r>
            <a:endParaRPr b="0" lang="en-US" sz="1800" spc="-1" strike="noStrike">
              <a:solidFill>
                <a:srgbClr val="000000"/>
              </a:solidFill>
              <a:latin typeface="Times New Roman"/>
            </a:endParaRPr>
          </a:p>
        </p:txBody>
      </p:sp>
      <p:sp>
        <p:nvSpPr>
          <p:cNvPr id="5" name=""/>
          <p:cNvSpPr/>
          <p:nvPr/>
        </p:nvSpPr>
        <p:spPr>
          <a:xfrm>
            <a:off x="2057400" y="6629400"/>
            <a:ext cx="5105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 Pima Community College 2000</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8.png"/><Relationship Id="rId19" Type="http://schemas.openxmlformats.org/officeDocument/2006/relationships/image" Target="../media/image6.png"/><Relationship Id="rId20" Type="http://schemas.openxmlformats.org/officeDocument/2006/relationships/image" Target="../media/image7.png"/><Relationship Id="rId21" Type="http://schemas.openxmlformats.org/officeDocument/2006/relationships/image" Target="../media/image8.png"/><Relationship Id="rId22" Type="http://schemas.openxmlformats.org/officeDocument/2006/relationships/image" Target="../media/image6.png"/><Relationship Id="rId23" Type="http://schemas.openxmlformats.org/officeDocument/2006/relationships/image" Target="../media/image7.png"/><Relationship Id="rId24" Type="http://schemas.openxmlformats.org/officeDocument/2006/relationships/image" Target="../media/image8.png"/><Relationship Id="rId25" Type="http://schemas.openxmlformats.org/officeDocument/2006/relationships/image" Target="../media/image6.png"/><Relationship Id="rId26" Type="http://schemas.openxmlformats.org/officeDocument/2006/relationships/image" Target="../media/image7.png"/><Relationship Id="rId27" Type="http://schemas.openxmlformats.org/officeDocument/2006/relationships/image" Target="../media/image8.png"/><Relationship Id="rId28" Type="http://schemas.openxmlformats.org/officeDocument/2006/relationships/image" Target="../media/image6.png"/><Relationship Id="rId29" Type="http://schemas.openxmlformats.org/officeDocument/2006/relationships/image" Target="../media/image7.png"/><Relationship Id="rId30" Type="http://schemas.openxmlformats.org/officeDocument/2006/relationships/image" Target="../media/image8.png"/><Relationship Id="rId31" Type="http://schemas.openxmlformats.org/officeDocument/2006/relationships/image" Target="../media/image6.png"/><Relationship Id="rId32" Type="http://schemas.openxmlformats.org/officeDocument/2006/relationships/image" Target="../media/image7.png"/><Relationship Id="rId33" Type="http://schemas.openxmlformats.org/officeDocument/2006/relationships/image" Target="../media/image8.png"/><Relationship Id="rId34" Type="http://schemas.openxmlformats.org/officeDocument/2006/relationships/image" Target="../media/image6.png"/><Relationship Id="rId35" Type="http://schemas.openxmlformats.org/officeDocument/2006/relationships/image" Target="../media/image7.png"/><Relationship Id="rId36" Type="http://schemas.openxmlformats.org/officeDocument/2006/relationships/image" Target="../media/image8.png"/><Relationship Id="rId37" Type="http://schemas.openxmlformats.org/officeDocument/2006/relationships/image" Target="../media/image6.png"/><Relationship Id="rId38" Type="http://schemas.openxmlformats.org/officeDocument/2006/relationships/image" Target="../media/image7.png"/><Relationship Id="rId39" Type="http://schemas.openxmlformats.org/officeDocument/2006/relationships/image" Target="../media/image8.png"/><Relationship Id="rId40" Type="http://schemas.openxmlformats.org/officeDocument/2006/relationships/image" Target="../media/image6.png"/><Relationship Id="rId41" Type="http://schemas.openxmlformats.org/officeDocument/2006/relationships/image" Target="../media/image7.png"/><Relationship Id="rId42" Type="http://schemas.openxmlformats.org/officeDocument/2006/relationships/image" Target="../media/image8.png"/><Relationship Id="rId43" Type="http://schemas.openxmlformats.org/officeDocument/2006/relationships/image" Target="../media/image6.png"/><Relationship Id="rId44" Type="http://schemas.openxmlformats.org/officeDocument/2006/relationships/image" Target="../media/image7.png"/><Relationship Id="rId45" Type="http://schemas.openxmlformats.org/officeDocument/2006/relationships/image" Target="../media/image8.png"/><Relationship Id="rId46" Type="http://schemas.openxmlformats.org/officeDocument/2006/relationships/image" Target="../media/image6.png"/><Relationship Id="rId47" Type="http://schemas.openxmlformats.org/officeDocument/2006/relationships/image" Target="../media/image7.png"/><Relationship Id="rId48" Type="http://schemas.openxmlformats.org/officeDocument/2006/relationships/image" Target="../media/image8.png"/><Relationship Id="rId49" Type="http://schemas.openxmlformats.org/officeDocument/2006/relationships/image" Target="../media/image6.png"/><Relationship Id="rId50" Type="http://schemas.openxmlformats.org/officeDocument/2006/relationships/image" Target="../media/image7.png"/><Relationship Id="rId51" Type="http://schemas.openxmlformats.org/officeDocument/2006/relationships/image" Target="../media/image8.png"/><Relationship Id="rId52" Type="http://schemas.openxmlformats.org/officeDocument/2006/relationships/image" Target="../media/image6.png"/><Relationship Id="rId53" Type="http://schemas.openxmlformats.org/officeDocument/2006/relationships/image" Target="../media/image7.png"/><Relationship Id="rId54" Type="http://schemas.openxmlformats.org/officeDocument/2006/relationships/image" Target="../media/image8.png"/><Relationship Id="rId55" Type="http://schemas.openxmlformats.org/officeDocument/2006/relationships/image" Target="../media/image9.jpeg"/><Relationship Id="rId56" Type="http://schemas.openxmlformats.org/officeDocument/2006/relationships/image" Target="../media/image10.png"/><Relationship Id="rId5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42" name=""/>
          <p:cNvSpPr/>
          <p:nvPr/>
        </p:nvSpPr>
        <p:spPr>
          <a:xfrm>
            <a:off x="532800" y="457200"/>
            <a:ext cx="261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AT086  Prealgebra</a:t>
            </a:r>
            <a:endParaRPr b="0" lang="en-US" sz="2000" spc="-1" strike="noStrike">
              <a:solidFill>
                <a:srgbClr val="000000"/>
              </a:solidFill>
              <a:latin typeface="Times New Roman"/>
            </a:endParaRPr>
          </a:p>
        </p:txBody>
      </p:sp>
      <p:sp>
        <p:nvSpPr>
          <p:cNvPr id="43" name=""/>
          <p:cNvSpPr/>
          <p:nvPr/>
        </p:nvSpPr>
        <p:spPr>
          <a:xfrm>
            <a:off x="6132600" y="457200"/>
            <a:ext cx="231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lass 3      Unit B </a:t>
            </a:r>
            <a:endParaRPr b="0" lang="en-US" sz="2000" spc="-1" strike="noStrike">
              <a:solidFill>
                <a:srgbClr val="000000"/>
              </a:solidFill>
              <a:latin typeface="Times New Roman"/>
            </a:endParaRPr>
          </a:p>
        </p:txBody>
      </p:sp>
      <p:sp>
        <p:nvSpPr>
          <p:cNvPr id="44" name=""/>
          <p:cNvSpPr txBox="1"/>
          <p:nvPr/>
        </p:nvSpPr>
        <p:spPr>
          <a:xfrm>
            <a:off x="1312920" y="1620720"/>
            <a:ext cx="6553080" cy="137160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ubtracting</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grpSp>
        <p:nvGrpSpPr>
          <p:cNvPr id="45" name=""/>
          <p:cNvGrpSpPr/>
          <p:nvPr/>
        </p:nvGrpSpPr>
        <p:grpSpPr>
          <a:xfrm>
            <a:off x="457200" y="2911320"/>
            <a:ext cx="2286000" cy="1889280"/>
            <a:chOff x="457200" y="2911320"/>
            <a:chExt cx="2286000" cy="1889280"/>
          </a:xfrm>
        </p:grpSpPr>
        <p:sp>
          <p:nvSpPr>
            <p:cNvPr id="46" name=""/>
            <p:cNvSpPr/>
            <p:nvPr/>
          </p:nvSpPr>
          <p:spPr>
            <a:xfrm>
              <a:off x="457200" y="2940120"/>
              <a:ext cx="2286000" cy="1790640"/>
            </a:xfrm>
            <a:custGeom>
              <a:avLst/>
              <a:gdLst/>
              <a:ahLst/>
              <a:rect l="l" t="t" r="r" b="b"/>
              <a:pathLst>
                <a:path w="3274" h="2869">
                  <a:moveTo>
                    <a:pt x="1804" y="0"/>
                  </a:moveTo>
                  <a:lnTo>
                    <a:pt x="3274" y="912"/>
                  </a:lnTo>
                  <a:lnTo>
                    <a:pt x="2114" y="2869"/>
                  </a:lnTo>
                  <a:lnTo>
                    <a:pt x="595" y="2790"/>
                  </a:lnTo>
                  <a:lnTo>
                    <a:pt x="0" y="1636"/>
                  </a:lnTo>
                  <a:lnTo>
                    <a:pt x="1804" y="0"/>
                  </a:lnTo>
                  <a:lnTo>
                    <a:pt x="180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014560" y="3278160"/>
              <a:ext cx="304920" cy="115920"/>
            </a:xfrm>
            <a:custGeom>
              <a:avLst/>
              <a:gdLst/>
              <a:ahLst/>
              <a:rect l="l" t="t" r="r" b="b"/>
              <a:pathLst>
                <a:path w="436" h="182">
                  <a:moveTo>
                    <a:pt x="120" y="0"/>
                  </a:moveTo>
                  <a:lnTo>
                    <a:pt x="273" y="14"/>
                  </a:lnTo>
                  <a:lnTo>
                    <a:pt x="436" y="159"/>
                  </a:lnTo>
                  <a:lnTo>
                    <a:pt x="0" y="182"/>
                  </a:lnTo>
                  <a:lnTo>
                    <a:pt x="120" y="0"/>
                  </a:lnTo>
                  <a:lnTo>
                    <a:pt x="1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776240" y="2976480"/>
              <a:ext cx="352440" cy="459000"/>
            </a:xfrm>
            <a:custGeom>
              <a:avLst/>
              <a:gdLst/>
              <a:ahLst/>
              <a:rect l="l" t="t" r="r" b="b"/>
              <a:pathLst>
                <a:path w="505" h="732">
                  <a:moveTo>
                    <a:pt x="373" y="0"/>
                  </a:moveTo>
                  <a:lnTo>
                    <a:pt x="505" y="83"/>
                  </a:lnTo>
                  <a:lnTo>
                    <a:pt x="99" y="732"/>
                  </a:lnTo>
                  <a:lnTo>
                    <a:pt x="0" y="613"/>
                  </a:lnTo>
                  <a:lnTo>
                    <a:pt x="306" y="34"/>
                  </a:lnTo>
                  <a:lnTo>
                    <a:pt x="373" y="0"/>
                  </a:lnTo>
                  <a:lnTo>
                    <a:pt x="373" y="0"/>
                  </a:lnTo>
                  <a:close/>
                </a:path>
              </a:pathLst>
            </a:custGeom>
            <a:solidFill>
              <a:srgbClr val="5ab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78000" y="3056040"/>
              <a:ext cx="236520" cy="309600"/>
            </a:xfrm>
            <a:custGeom>
              <a:avLst/>
              <a:gdLst/>
              <a:ahLst/>
              <a:rect l="l" t="t" r="r" b="b"/>
              <a:pathLst>
                <a:path w="340" h="495">
                  <a:moveTo>
                    <a:pt x="0" y="375"/>
                  </a:moveTo>
                  <a:lnTo>
                    <a:pt x="161" y="495"/>
                  </a:lnTo>
                  <a:lnTo>
                    <a:pt x="340" y="59"/>
                  </a:lnTo>
                  <a:lnTo>
                    <a:pt x="157" y="0"/>
                  </a:lnTo>
                  <a:lnTo>
                    <a:pt x="0" y="375"/>
                  </a:lnTo>
                  <a:lnTo>
                    <a:pt x="0" y="375"/>
                  </a:lnTo>
                  <a:close/>
                </a:path>
              </a:pathLst>
            </a:custGeom>
            <a:solidFill>
              <a:srgbClr val="21a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749600" y="3371760"/>
              <a:ext cx="166680" cy="138240"/>
            </a:xfrm>
            <a:custGeom>
              <a:avLst/>
              <a:gdLst/>
              <a:ahLst/>
              <a:rect l="l" t="t" r="r" b="b"/>
              <a:pathLst>
                <a:path w="242" h="221">
                  <a:moveTo>
                    <a:pt x="7" y="0"/>
                  </a:moveTo>
                  <a:lnTo>
                    <a:pt x="188" y="15"/>
                  </a:lnTo>
                  <a:lnTo>
                    <a:pt x="242" y="221"/>
                  </a:lnTo>
                  <a:lnTo>
                    <a:pt x="0" y="144"/>
                  </a:lnTo>
                  <a:lnTo>
                    <a:pt x="7" y="0"/>
                  </a:lnTo>
                  <a:lnTo>
                    <a:pt x="7" y="0"/>
                  </a:lnTo>
                  <a:close/>
                </a:path>
              </a:pathLst>
            </a:custGeom>
            <a:solidFill>
              <a:srgbClr val="664d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038320" y="3476520"/>
              <a:ext cx="243000" cy="371520"/>
            </a:xfrm>
            <a:custGeom>
              <a:avLst/>
              <a:gdLst/>
              <a:ahLst/>
              <a:rect l="l" t="t" r="r" b="b"/>
              <a:pathLst>
                <a:path w="350" h="594">
                  <a:moveTo>
                    <a:pt x="118" y="25"/>
                  </a:moveTo>
                  <a:lnTo>
                    <a:pt x="350" y="0"/>
                  </a:lnTo>
                  <a:lnTo>
                    <a:pt x="194" y="594"/>
                  </a:lnTo>
                  <a:lnTo>
                    <a:pt x="0" y="437"/>
                  </a:lnTo>
                  <a:lnTo>
                    <a:pt x="118" y="25"/>
                  </a:lnTo>
                  <a:lnTo>
                    <a:pt x="118" y="25"/>
                  </a:lnTo>
                  <a:close/>
                </a:path>
              </a:pathLst>
            </a:custGeom>
            <a:solidFill>
              <a:srgbClr val="664d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866960" y="2982960"/>
              <a:ext cx="684000" cy="906480"/>
            </a:xfrm>
            <a:custGeom>
              <a:avLst/>
              <a:gdLst/>
              <a:ahLst/>
              <a:rect l="l" t="t" r="r" b="b"/>
              <a:pathLst>
                <a:path w="979" h="1453">
                  <a:moveTo>
                    <a:pt x="365" y="62"/>
                  </a:moveTo>
                  <a:lnTo>
                    <a:pt x="0" y="637"/>
                  </a:lnTo>
                  <a:lnTo>
                    <a:pt x="58" y="849"/>
                  </a:lnTo>
                  <a:lnTo>
                    <a:pt x="542" y="776"/>
                  </a:lnTo>
                  <a:lnTo>
                    <a:pt x="369" y="1373"/>
                  </a:lnTo>
                  <a:lnTo>
                    <a:pt x="418" y="1453"/>
                  </a:lnTo>
                  <a:lnTo>
                    <a:pt x="743" y="1426"/>
                  </a:lnTo>
                  <a:lnTo>
                    <a:pt x="743" y="1309"/>
                  </a:lnTo>
                  <a:lnTo>
                    <a:pt x="771" y="907"/>
                  </a:lnTo>
                  <a:lnTo>
                    <a:pt x="813" y="654"/>
                  </a:lnTo>
                  <a:lnTo>
                    <a:pt x="872" y="443"/>
                  </a:lnTo>
                  <a:lnTo>
                    <a:pt x="979" y="173"/>
                  </a:lnTo>
                  <a:lnTo>
                    <a:pt x="965" y="144"/>
                  </a:lnTo>
                  <a:lnTo>
                    <a:pt x="730" y="216"/>
                  </a:lnTo>
                  <a:lnTo>
                    <a:pt x="584" y="600"/>
                  </a:lnTo>
                  <a:lnTo>
                    <a:pt x="274" y="593"/>
                  </a:lnTo>
                  <a:lnTo>
                    <a:pt x="568" y="28"/>
                  </a:lnTo>
                  <a:lnTo>
                    <a:pt x="508" y="0"/>
                  </a:lnTo>
                  <a:lnTo>
                    <a:pt x="365" y="62"/>
                  </a:lnTo>
                  <a:lnTo>
                    <a:pt x="365" y="6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286000" y="2992320"/>
              <a:ext cx="272880" cy="128880"/>
            </a:xfrm>
            <a:custGeom>
              <a:avLst/>
              <a:gdLst/>
              <a:ahLst/>
              <a:rect l="l" t="t" r="r" b="b"/>
              <a:pathLst>
                <a:path w="389" h="206">
                  <a:moveTo>
                    <a:pt x="129" y="206"/>
                  </a:moveTo>
                  <a:lnTo>
                    <a:pt x="389" y="162"/>
                  </a:lnTo>
                  <a:lnTo>
                    <a:pt x="208" y="0"/>
                  </a:lnTo>
                  <a:lnTo>
                    <a:pt x="0" y="103"/>
                  </a:lnTo>
                  <a:lnTo>
                    <a:pt x="129" y="206"/>
                  </a:lnTo>
                  <a:lnTo>
                    <a:pt x="129" y="2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947960" y="2925720"/>
              <a:ext cx="322200" cy="112680"/>
            </a:xfrm>
            <a:custGeom>
              <a:avLst/>
              <a:gdLst/>
              <a:ahLst/>
              <a:rect l="l" t="t" r="r" b="b"/>
              <a:pathLst>
                <a:path w="463" h="184">
                  <a:moveTo>
                    <a:pt x="156" y="121"/>
                  </a:moveTo>
                  <a:lnTo>
                    <a:pt x="233" y="184"/>
                  </a:lnTo>
                  <a:lnTo>
                    <a:pt x="463" y="132"/>
                  </a:lnTo>
                  <a:lnTo>
                    <a:pt x="314" y="0"/>
                  </a:lnTo>
                  <a:lnTo>
                    <a:pt x="0" y="11"/>
                  </a:lnTo>
                  <a:lnTo>
                    <a:pt x="156" y="121"/>
                  </a:lnTo>
                  <a:lnTo>
                    <a:pt x="156"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290680" y="4289400"/>
              <a:ext cx="163440" cy="411120"/>
            </a:xfrm>
            <a:custGeom>
              <a:avLst/>
              <a:gdLst/>
              <a:ahLst/>
              <a:rect l="l" t="t" r="r" b="b"/>
              <a:pathLst>
                <a:path w="233" h="661">
                  <a:moveTo>
                    <a:pt x="200" y="0"/>
                  </a:moveTo>
                  <a:lnTo>
                    <a:pt x="233" y="136"/>
                  </a:lnTo>
                  <a:lnTo>
                    <a:pt x="233" y="517"/>
                  </a:lnTo>
                  <a:lnTo>
                    <a:pt x="60" y="661"/>
                  </a:lnTo>
                  <a:lnTo>
                    <a:pt x="0" y="243"/>
                  </a:lnTo>
                  <a:lnTo>
                    <a:pt x="200" y="0"/>
                  </a:lnTo>
                  <a:lnTo>
                    <a:pt x="2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998720" y="4494240"/>
              <a:ext cx="347760" cy="306360"/>
            </a:xfrm>
            <a:custGeom>
              <a:avLst/>
              <a:gdLst/>
              <a:ahLst/>
              <a:rect l="l" t="t" r="r" b="b"/>
              <a:pathLst>
                <a:path w="499" h="492">
                  <a:moveTo>
                    <a:pt x="487" y="0"/>
                  </a:moveTo>
                  <a:lnTo>
                    <a:pt x="499" y="309"/>
                  </a:lnTo>
                  <a:lnTo>
                    <a:pt x="336" y="396"/>
                  </a:lnTo>
                  <a:lnTo>
                    <a:pt x="33" y="492"/>
                  </a:lnTo>
                  <a:lnTo>
                    <a:pt x="0" y="452"/>
                  </a:lnTo>
                  <a:lnTo>
                    <a:pt x="49" y="79"/>
                  </a:lnTo>
                  <a:lnTo>
                    <a:pt x="487" y="0"/>
                  </a:lnTo>
                  <a:lnTo>
                    <a:pt x="487" y="0"/>
                  </a:lnTo>
                  <a:close/>
                </a:path>
              </a:pathLst>
            </a:custGeom>
            <a:solidFill>
              <a:srgbClr val="8fd1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828800" y="4446720"/>
              <a:ext cx="223920" cy="345960"/>
            </a:xfrm>
            <a:custGeom>
              <a:avLst/>
              <a:gdLst/>
              <a:ahLst/>
              <a:rect l="l" t="t" r="r" b="b"/>
              <a:pathLst>
                <a:path w="320" h="554">
                  <a:moveTo>
                    <a:pt x="320" y="229"/>
                  </a:moveTo>
                  <a:lnTo>
                    <a:pt x="272" y="554"/>
                  </a:lnTo>
                  <a:lnTo>
                    <a:pt x="0" y="339"/>
                  </a:lnTo>
                  <a:lnTo>
                    <a:pt x="62" y="0"/>
                  </a:lnTo>
                  <a:lnTo>
                    <a:pt x="118" y="10"/>
                  </a:lnTo>
                  <a:lnTo>
                    <a:pt x="320" y="229"/>
                  </a:lnTo>
                  <a:lnTo>
                    <a:pt x="320" y="229"/>
                  </a:lnTo>
                  <a:close/>
                </a:path>
              </a:pathLst>
            </a:custGeom>
            <a:solidFill>
              <a:srgbClr val="3eb3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724040" y="3809880"/>
              <a:ext cx="274680" cy="212760"/>
            </a:xfrm>
            <a:custGeom>
              <a:avLst/>
              <a:gdLst/>
              <a:ahLst/>
              <a:rect l="l" t="t" r="r" b="b"/>
              <a:pathLst>
                <a:path w="393" h="341">
                  <a:moveTo>
                    <a:pt x="0" y="16"/>
                  </a:moveTo>
                  <a:lnTo>
                    <a:pt x="189" y="0"/>
                  </a:lnTo>
                  <a:lnTo>
                    <a:pt x="393" y="48"/>
                  </a:lnTo>
                  <a:lnTo>
                    <a:pt x="241" y="341"/>
                  </a:lnTo>
                  <a:lnTo>
                    <a:pt x="163" y="241"/>
                  </a:lnTo>
                  <a:lnTo>
                    <a:pt x="16" y="266"/>
                  </a:lnTo>
                  <a:lnTo>
                    <a:pt x="0" y="16"/>
                  </a:lnTo>
                  <a:lnTo>
                    <a:pt x="0" y="16"/>
                  </a:lnTo>
                  <a:close/>
                </a:path>
              </a:pathLst>
            </a:custGeom>
            <a:solidFill>
              <a:srgbClr val="8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092320" y="3841920"/>
              <a:ext cx="147600" cy="274320"/>
            </a:xfrm>
            <a:custGeom>
              <a:avLst/>
              <a:gdLst/>
              <a:ahLst/>
              <a:rect l="l" t="t" r="r" b="b"/>
              <a:pathLst>
                <a:path w="211" h="440">
                  <a:moveTo>
                    <a:pt x="211" y="418"/>
                  </a:moveTo>
                  <a:lnTo>
                    <a:pt x="200" y="440"/>
                  </a:lnTo>
                  <a:lnTo>
                    <a:pt x="0" y="412"/>
                  </a:lnTo>
                  <a:lnTo>
                    <a:pt x="81" y="155"/>
                  </a:lnTo>
                  <a:lnTo>
                    <a:pt x="94" y="0"/>
                  </a:lnTo>
                  <a:lnTo>
                    <a:pt x="160" y="89"/>
                  </a:lnTo>
                  <a:lnTo>
                    <a:pt x="207" y="240"/>
                  </a:lnTo>
                  <a:lnTo>
                    <a:pt x="188" y="391"/>
                  </a:lnTo>
                  <a:lnTo>
                    <a:pt x="211" y="418"/>
                  </a:lnTo>
                  <a:lnTo>
                    <a:pt x="211" y="4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992240" y="4129200"/>
              <a:ext cx="231840" cy="263520"/>
            </a:xfrm>
            <a:custGeom>
              <a:avLst/>
              <a:gdLst/>
              <a:ahLst/>
              <a:rect l="l" t="t" r="r" b="b"/>
              <a:pathLst>
                <a:path w="333" h="422">
                  <a:moveTo>
                    <a:pt x="0" y="0"/>
                  </a:moveTo>
                  <a:lnTo>
                    <a:pt x="235" y="52"/>
                  </a:lnTo>
                  <a:lnTo>
                    <a:pt x="333" y="191"/>
                  </a:lnTo>
                  <a:lnTo>
                    <a:pt x="124" y="422"/>
                  </a:lnTo>
                  <a:lnTo>
                    <a:pt x="89" y="326"/>
                  </a:lnTo>
                  <a:lnTo>
                    <a:pt x="0" y="278"/>
                  </a:lnTo>
                  <a:lnTo>
                    <a:pt x="0" y="0"/>
                  </a:lnTo>
                  <a:lnTo>
                    <a:pt x="0" y="0"/>
                  </a:lnTo>
                  <a:close/>
                </a:path>
              </a:pathLst>
            </a:custGeom>
            <a:solidFill>
              <a:srgbClr val="8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773360" y="4152960"/>
              <a:ext cx="261720" cy="212760"/>
            </a:xfrm>
            <a:custGeom>
              <a:avLst/>
              <a:gdLst/>
              <a:ahLst/>
              <a:rect l="l" t="t" r="r" b="b"/>
              <a:pathLst>
                <a:path w="374" h="339">
                  <a:moveTo>
                    <a:pt x="38" y="3"/>
                  </a:moveTo>
                  <a:lnTo>
                    <a:pt x="374" y="0"/>
                  </a:lnTo>
                  <a:lnTo>
                    <a:pt x="355" y="259"/>
                  </a:lnTo>
                  <a:lnTo>
                    <a:pt x="271" y="241"/>
                  </a:lnTo>
                  <a:lnTo>
                    <a:pt x="34" y="339"/>
                  </a:lnTo>
                  <a:lnTo>
                    <a:pt x="0" y="293"/>
                  </a:lnTo>
                  <a:lnTo>
                    <a:pt x="38" y="3"/>
                  </a:lnTo>
                  <a:lnTo>
                    <a:pt x="38"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03520" y="4041720"/>
              <a:ext cx="125280" cy="314280"/>
            </a:xfrm>
            <a:custGeom>
              <a:avLst/>
              <a:gdLst/>
              <a:ahLst/>
              <a:rect l="l" t="t" r="r" b="b"/>
              <a:pathLst>
                <a:path w="180" h="505">
                  <a:moveTo>
                    <a:pt x="180" y="217"/>
                  </a:moveTo>
                  <a:lnTo>
                    <a:pt x="139" y="505"/>
                  </a:lnTo>
                  <a:lnTo>
                    <a:pt x="0" y="331"/>
                  </a:lnTo>
                  <a:lnTo>
                    <a:pt x="32" y="0"/>
                  </a:lnTo>
                  <a:lnTo>
                    <a:pt x="63" y="0"/>
                  </a:lnTo>
                  <a:lnTo>
                    <a:pt x="180" y="217"/>
                  </a:lnTo>
                  <a:lnTo>
                    <a:pt x="180" y="217"/>
                  </a:lnTo>
                  <a:close/>
                </a:path>
              </a:pathLst>
            </a:custGeom>
            <a:solidFill>
              <a:srgbClr val="3eb3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79400" y="3706920"/>
              <a:ext cx="757440" cy="895320"/>
            </a:xfrm>
            <a:custGeom>
              <a:avLst/>
              <a:gdLst/>
              <a:ahLst/>
              <a:rect l="l" t="t" r="r" b="b"/>
              <a:pathLst>
                <a:path w="1087" h="1435">
                  <a:moveTo>
                    <a:pt x="63" y="209"/>
                  </a:moveTo>
                  <a:lnTo>
                    <a:pt x="65" y="207"/>
                  </a:lnTo>
                  <a:lnTo>
                    <a:pt x="72" y="206"/>
                  </a:lnTo>
                  <a:lnTo>
                    <a:pt x="83" y="205"/>
                  </a:lnTo>
                  <a:lnTo>
                    <a:pt x="98" y="203"/>
                  </a:lnTo>
                  <a:lnTo>
                    <a:pt x="114" y="201"/>
                  </a:lnTo>
                  <a:lnTo>
                    <a:pt x="135" y="199"/>
                  </a:lnTo>
                  <a:lnTo>
                    <a:pt x="158" y="199"/>
                  </a:lnTo>
                  <a:lnTo>
                    <a:pt x="184" y="199"/>
                  </a:lnTo>
                  <a:lnTo>
                    <a:pt x="209" y="198"/>
                  </a:lnTo>
                  <a:lnTo>
                    <a:pt x="236" y="199"/>
                  </a:lnTo>
                  <a:lnTo>
                    <a:pt x="263" y="201"/>
                  </a:lnTo>
                  <a:lnTo>
                    <a:pt x="292" y="206"/>
                  </a:lnTo>
                  <a:lnTo>
                    <a:pt x="320" y="210"/>
                  </a:lnTo>
                  <a:lnTo>
                    <a:pt x="346" y="218"/>
                  </a:lnTo>
                  <a:lnTo>
                    <a:pt x="370" y="227"/>
                  </a:lnTo>
                  <a:lnTo>
                    <a:pt x="395" y="242"/>
                  </a:lnTo>
                  <a:lnTo>
                    <a:pt x="403" y="452"/>
                  </a:lnTo>
                  <a:lnTo>
                    <a:pt x="279" y="513"/>
                  </a:lnTo>
                  <a:lnTo>
                    <a:pt x="74" y="523"/>
                  </a:lnTo>
                  <a:lnTo>
                    <a:pt x="215" y="761"/>
                  </a:lnTo>
                  <a:lnTo>
                    <a:pt x="220" y="759"/>
                  </a:lnTo>
                  <a:lnTo>
                    <a:pt x="235" y="756"/>
                  </a:lnTo>
                  <a:lnTo>
                    <a:pt x="255" y="750"/>
                  </a:lnTo>
                  <a:lnTo>
                    <a:pt x="285" y="746"/>
                  </a:lnTo>
                  <a:lnTo>
                    <a:pt x="318" y="741"/>
                  </a:lnTo>
                  <a:lnTo>
                    <a:pt x="357" y="735"/>
                  </a:lnTo>
                  <a:lnTo>
                    <a:pt x="398" y="733"/>
                  </a:lnTo>
                  <a:lnTo>
                    <a:pt x="443" y="733"/>
                  </a:lnTo>
                  <a:lnTo>
                    <a:pt x="487" y="733"/>
                  </a:lnTo>
                  <a:lnTo>
                    <a:pt x="531" y="735"/>
                  </a:lnTo>
                  <a:lnTo>
                    <a:pt x="573" y="742"/>
                  </a:lnTo>
                  <a:lnTo>
                    <a:pt x="614" y="756"/>
                  </a:lnTo>
                  <a:lnTo>
                    <a:pt x="649" y="771"/>
                  </a:lnTo>
                  <a:lnTo>
                    <a:pt x="682" y="794"/>
                  </a:lnTo>
                  <a:lnTo>
                    <a:pt x="705" y="823"/>
                  </a:lnTo>
                  <a:lnTo>
                    <a:pt x="724" y="859"/>
                  </a:lnTo>
                  <a:lnTo>
                    <a:pt x="719" y="1077"/>
                  </a:lnTo>
                  <a:lnTo>
                    <a:pt x="549" y="1198"/>
                  </a:lnTo>
                  <a:lnTo>
                    <a:pt x="274" y="1195"/>
                  </a:lnTo>
                  <a:lnTo>
                    <a:pt x="534" y="1435"/>
                  </a:lnTo>
                  <a:lnTo>
                    <a:pt x="539" y="1435"/>
                  </a:lnTo>
                  <a:lnTo>
                    <a:pt x="557" y="1433"/>
                  </a:lnTo>
                  <a:lnTo>
                    <a:pt x="584" y="1428"/>
                  </a:lnTo>
                  <a:lnTo>
                    <a:pt x="623" y="1425"/>
                  </a:lnTo>
                  <a:lnTo>
                    <a:pt x="665" y="1417"/>
                  </a:lnTo>
                  <a:lnTo>
                    <a:pt x="714" y="1406"/>
                  </a:lnTo>
                  <a:lnTo>
                    <a:pt x="767" y="1391"/>
                  </a:lnTo>
                  <a:lnTo>
                    <a:pt x="820" y="1373"/>
                  </a:lnTo>
                  <a:lnTo>
                    <a:pt x="872" y="1350"/>
                  </a:lnTo>
                  <a:lnTo>
                    <a:pt x="923" y="1321"/>
                  </a:lnTo>
                  <a:lnTo>
                    <a:pt x="969" y="1287"/>
                  </a:lnTo>
                  <a:lnTo>
                    <a:pt x="1012" y="1247"/>
                  </a:lnTo>
                  <a:lnTo>
                    <a:pt x="1045" y="1199"/>
                  </a:lnTo>
                  <a:lnTo>
                    <a:pt x="1071" y="1144"/>
                  </a:lnTo>
                  <a:lnTo>
                    <a:pt x="1086" y="1082"/>
                  </a:lnTo>
                  <a:lnTo>
                    <a:pt x="1087" y="1012"/>
                  </a:lnTo>
                  <a:lnTo>
                    <a:pt x="1072" y="897"/>
                  </a:lnTo>
                  <a:lnTo>
                    <a:pt x="982" y="731"/>
                  </a:lnTo>
                  <a:lnTo>
                    <a:pt x="830" y="634"/>
                  </a:lnTo>
                  <a:lnTo>
                    <a:pt x="764" y="627"/>
                  </a:lnTo>
                  <a:lnTo>
                    <a:pt x="760" y="626"/>
                  </a:lnTo>
                  <a:lnTo>
                    <a:pt x="754" y="624"/>
                  </a:lnTo>
                  <a:lnTo>
                    <a:pt x="750" y="622"/>
                  </a:lnTo>
                  <a:lnTo>
                    <a:pt x="745" y="620"/>
                  </a:lnTo>
                  <a:lnTo>
                    <a:pt x="738" y="620"/>
                  </a:lnTo>
                  <a:lnTo>
                    <a:pt x="732" y="619"/>
                  </a:lnTo>
                  <a:lnTo>
                    <a:pt x="724" y="616"/>
                  </a:lnTo>
                  <a:lnTo>
                    <a:pt x="717" y="613"/>
                  </a:lnTo>
                  <a:lnTo>
                    <a:pt x="708" y="612"/>
                  </a:lnTo>
                  <a:lnTo>
                    <a:pt x="699" y="611"/>
                  </a:lnTo>
                  <a:lnTo>
                    <a:pt x="688" y="608"/>
                  </a:lnTo>
                  <a:lnTo>
                    <a:pt x="679" y="607"/>
                  </a:lnTo>
                  <a:lnTo>
                    <a:pt x="666" y="605"/>
                  </a:lnTo>
                  <a:lnTo>
                    <a:pt x="657" y="605"/>
                  </a:lnTo>
                  <a:lnTo>
                    <a:pt x="657" y="602"/>
                  </a:lnTo>
                  <a:lnTo>
                    <a:pt x="660" y="600"/>
                  </a:lnTo>
                  <a:lnTo>
                    <a:pt x="666" y="594"/>
                  </a:lnTo>
                  <a:lnTo>
                    <a:pt x="676" y="587"/>
                  </a:lnTo>
                  <a:lnTo>
                    <a:pt x="686" y="578"/>
                  </a:lnTo>
                  <a:lnTo>
                    <a:pt x="697" y="565"/>
                  </a:lnTo>
                  <a:lnTo>
                    <a:pt x="709" y="550"/>
                  </a:lnTo>
                  <a:lnTo>
                    <a:pt x="721" y="534"/>
                  </a:lnTo>
                  <a:lnTo>
                    <a:pt x="731" y="513"/>
                  </a:lnTo>
                  <a:lnTo>
                    <a:pt x="738" y="489"/>
                  </a:lnTo>
                  <a:lnTo>
                    <a:pt x="743" y="463"/>
                  </a:lnTo>
                  <a:lnTo>
                    <a:pt x="746" y="435"/>
                  </a:lnTo>
                  <a:lnTo>
                    <a:pt x="745" y="401"/>
                  </a:lnTo>
                  <a:lnTo>
                    <a:pt x="741" y="365"/>
                  </a:lnTo>
                  <a:lnTo>
                    <a:pt x="731" y="327"/>
                  </a:lnTo>
                  <a:lnTo>
                    <a:pt x="717" y="284"/>
                  </a:lnTo>
                  <a:lnTo>
                    <a:pt x="694" y="218"/>
                  </a:lnTo>
                  <a:lnTo>
                    <a:pt x="507" y="69"/>
                  </a:lnTo>
                  <a:lnTo>
                    <a:pt x="337" y="0"/>
                  </a:lnTo>
                  <a:lnTo>
                    <a:pt x="0" y="22"/>
                  </a:lnTo>
                  <a:lnTo>
                    <a:pt x="63" y="209"/>
                  </a:lnTo>
                  <a:lnTo>
                    <a:pt x="63" y="209"/>
                  </a:lnTo>
                  <a:close/>
                </a:path>
              </a:pathLst>
            </a:custGeom>
            <a:solidFill>
              <a:srgbClr val="abdb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92320" y="3700440"/>
              <a:ext cx="153720" cy="169920"/>
            </a:xfrm>
            <a:custGeom>
              <a:avLst/>
              <a:gdLst/>
              <a:ahLst/>
              <a:rect l="l" t="t" r="r" b="b"/>
              <a:pathLst>
                <a:path w="222" h="273">
                  <a:moveTo>
                    <a:pt x="0" y="0"/>
                  </a:moveTo>
                  <a:lnTo>
                    <a:pt x="222" y="27"/>
                  </a:lnTo>
                  <a:lnTo>
                    <a:pt x="207" y="203"/>
                  </a:lnTo>
                  <a:lnTo>
                    <a:pt x="152" y="209"/>
                  </a:lnTo>
                  <a:lnTo>
                    <a:pt x="9" y="273"/>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225440" y="3706920"/>
              <a:ext cx="163800" cy="136440"/>
            </a:xfrm>
            <a:custGeom>
              <a:avLst/>
              <a:gdLst/>
              <a:ahLst/>
              <a:rect l="l" t="t" r="r" b="b"/>
              <a:pathLst>
                <a:path w="233" h="218">
                  <a:moveTo>
                    <a:pt x="0" y="50"/>
                  </a:moveTo>
                  <a:lnTo>
                    <a:pt x="145" y="188"/>
                  </a:lnTo>
                  <a:lnTo>
                    <a:pt x="233" y="218"/>
                  </a:lnTo>
                  <a:lnTo>
                    <a:pt x="193" y="0"/>
                  </a:lnTo>
                  <a:lnTo>
                    <a:pt x="0" y="50"/>
                  </a:lnTo>
                  <a:lnTo>
                    <a:pt x="0" y="50"/>
                  </a:lnTo>
                  <a:close/>
                </a:path>
              </a:pathLst>
            </a:custGeom>
            <a:solidFill>
              <a:srgbClr val="ba87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419120" y="3618000"/>
              <a:ext cx="316080" cy="431640"/>
            </a:xfrm>
            <a:custGeom>
              <a:avLst/>
              <a:gdLst/>
              <a:ahLst/>
              <a:rect l="l" t="t" r="r" b="b"/>
              <a:pathLst>
                <a:path w="452" h="692">
                  <a:moveTo>
                    <a:pt x="0" y="0"/>
                  </a:moveTo>
                  <a:lnTo>
                    <a:pt x="253" y="80"/>
                  </a:lnTo>
                  <a:lnTo>
                    <a:pt x="378" y="169"/>
                  </a:lnTo>
                  <a:lnTo>
                    <a:pt x="452" y="450"/>
                  </a:lnTo>
                  <a:lnTo>
                    <a:pt x="438" y="692"/>
                  </a:lnTo>
                  <a:lnTo>
                    <a:pt x="70" y="564"/>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000080" y="3916440"/>
              <a:ext cx="738360" cy="691920"/>
            </a:xfrm>
            <a:custGeom>
              <a:avLst/>
              <a:gdLst/>
              <a:ahLst/>
              <a:rect l="l" t="t" r="r" b="b"/>
              <a:pathLst>
                <a:path w="1055" h="1108">
                  <a:moveTo>
                    <a:pt x="744" y="0"/>
                  </a:moveTo>
                  <a:lnTo>
                    <a:pt x="1055" y="170"/>
                  </a:lnTo>
                  <a:lnTo>
                    <a:pt x="848" y="365"/>
                  </a:lnTo>
                  <a:lnTo>
                    <a:pt x="575" y="534"/>
                  </a:lnTo>
                  <a:lnTo>
                    <a:pt x="634" y="568"/>
                  </a:lnTo>
                  <a:lnTo>
                    <a:pt x="818" y="606"/>
                  </a:lnTo>
                  <a:lnTo>
                    <a:pt x="769" y="925"/>
                  </a:lnTo>
                  <a:lnTo>
                    <a:pt x="308" y="1108"/>
                  </a:lnTo>
                  <a:lnTo>
                    <a:pt x="0" y="542"/>
                  </a:lnTo>
                  <a:lnTo>
                    <a:pt x="744" y="0"/>
                  </a:lnTo>
                  <a:lnTo>
                    <a:pt x="744" y="0"/>
                  </a:lnTo>
                  <a:close/>
                </a:path>
              </a:pathLst>
            </a:custGeom>
            <a:solidFill>
              <a:srgbClr val="ba87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046160" y="4254480"/>
              <a:ext cx="530280" cy="84240"/>
            </a:xfrm>
            <a:custGeom>
              <a:avLst/>
              <a:gdLst/>
              <a:ahLst/>
              <a:rect l="l" t="t" r="r" b="b"/>
              <a:pathLst>
                <a:path w="758" h="134">
                  <a:moveTo>
                    <a:pt x="354" y="134"/>
                  </a:moveTo>
                  <a:lnTo>
                    <a:pt x="758" y="71"/>
                  </a:lnTo>
                  <a:lnTo>
                    <a:pt x="494" y="0"/>
                  </a:lnTo>
                  <a:lnTo>
                    <a:pt x="0" y="23"/>
                  </a:lnTo>
                  <a:lnTo>
                    <a:pt x="354" y="134"/>
                  </a:lnTo>
                  <a:lnTo>
                    <a:pt x="354" y="134"/>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 name=""/>
            <p:cNvSpPr/>
            <p:nvPr/>
          </p:nvSpPr>
          <p:spPr>
            <a:xfrm>
              <a:off x="704880" y="3600360"/>
              <a:ext cx="841320" cy="989280"/>
            </a:xfrm>
            <a:custGeom>
              <a:avLst/>
              <a:gdLst/>
              <a:ahLst/>
              <a:rect l="l" t="t" r="r" b="b"/>
              <a:pathLst>
                <a:path w="1206" h="1584">
                  <a:moveTo>
                    <a:pt x="1050" y="40"/>
                  </a:moveTo>
                  <a:lnTo>
                    <a:pt x="1063" y="50"/>
                  </a:lnTo>
                  <a:lnTo>
                    <a:pt x="1081" y="63"/>
                  </a:lnTo>
                  <a:lnTo>
                    <a:pt x="1098" y="81"/>
                  </a:lnTo>
                  <a:lnTo>
                    <a:pt x="1114" y="105"/>
                  </a:lnTo>
                  <a:lnTo>
                    <a:pt x="1129" y="129"/>
                  </a:lnTo>
                  <a:lnTo>
                    <a:pt x="1146" y="158"/>
                  </a:lnTo>
                  <a:lnTo>
                    <a:pt x="1159" y="190"/>
                  </a:lnTo>
                  <a:lnTo>
                    <a:pt x="1173" y="225"/>
                  </a:lnTo>
                  <a:lnTo>
                    <a:pt x="1183" y="261"/>
                  </a:lnTo>
                  <a:lnTo>
                    <a:pt x="1194" y="299"/>
                  </a:lnTo>
                  <a:lnTo>
                    <a:pt x="1201" y="339"/>
                  </a:lnTo>
                  <a:lnTo>
                    <a:pt x="1205" y="382"/>
                  </a:lnTo>
                  <a:lnTo>
                    <a:pt x="1206" y="423"/>
                  </a:lnTo>
                  <a:lnTo>
                    <a:pt x="1206" y="465"/>
                  </a:lnTo>
                  <a:lnTo>
                    <a:pt x="1202" y="508"/>
                  </a:lnTo>
                  <a:lnTo>
                    <a:pt x="1194" y="552"/>
                  </a:lnTo>
                  <a:lnTo>
                    <a:pt x="1181" y="591"/>
                  </a:lnTo>
                  <a:lnTo>
                    <a:pt x="1168" y="634"/>
                  </a:lnTo>
                  <a:lnTo>
                    <a:pt x="1150" y="671"/>
                  </a:lnTo>
                  <a:lnTo>
                    <a:pt x="1129" y="711"/>
                  </a:lnTo>
                  <a:lnTo>
                    <a:pt x="1105" y="748"/>
                  </a:lnTo>
                  <a:lnTo>
                    <a:pt x="1077" y="783"/>
                  </a:lnTo>
                  <a:lnTo>
                    <a:pt x="1047" y="816"/>
                  </a:lnTo>
                  <a:lnTo>
                    <a:pt x="1013" y="851"/>
                  </a:lnTo>
                  <a:lnTo>
                    <a:pt x="973" y="882"/>
                  </a:lnTo>
                  <a:lnTo>
                    <a:pt x="931" y="912"/>
                  </a:lnTo>
                  <a:lnTo>
                    <a:pt x="883" y="940"/>
                  </a:lnTo>
                  <a:lnTo>
                    <a:pt x="830" y="968"/>
                  </a:lnTo>
                  <a:lnTo>
                    <a:pt x="773" y="995"/>
                  </a:lnTo>
                  <a:lnTo>
                    <a:pt x="711" y="1019"/>
                  </a:lnTo>
                  <a:lnTo>
                    <a:pt x="644" y="1043"/>
                  </a:lnTo>
                  <a:lnTo>
                    <a:pt x="573" y="1064"/>
                  </a:lnTo>
                  <a:lnTo>
                    <a:pt x="856" y="1178"/>
                  </a:lnTo>
                  <a:lnTo>
                    <a:pt x="713" y="1584"/>
                  </a:lnTo>
                  <a:lnTo>
                    <a:pt x="0" y="929"/>
                  </a:lnTo>
                  <a:lnTo>
                    <a:pt x="619" y="756"/>
                  </a:lnTo>
                  <a:lnTo>
                    <a:pt x="856" y="576"/>
                  </a:lnTo>
                  <a:lnTo>
                    <a:pt x="931" y="383"/>
                  </a:lnTo>
                  <a:lnTo>
                    <a:pt x="931" y="380"/>
                  </a:lnTo>
                  <a:lnTo>
                    <a:pt x="932" y="375"/>
                  </a:lnTo>
                  <a:lnTo>
                    <a:pt x="932" y="364"/>
                  </a:lnTo>
                  <a:lnTo>
                    <a:pt x="933" y="351"/>
                  </a:lnTo>
                  <a:lnTo>
                    <a:pt x="932" y="335"/>
                  </a:lnTo>
                  <a:lnTo>
                    <a:pt x="931" y="319"/>
                  </a:lnTo>
                  <a:lnTo>
                    <a:pt x="926" y="302"/>
                  </a:lnTo>
                  <a:lnTo>
                    <a:pt x="921" y="286"/>
                  </a:lnTo>
                  <a:lnTo>
                    <a:pt x="911" y="269"/>
                  </a:lnTo>
                  <a:lnTo>
                    <a:pt x="900" y="254"/>
                  </a:lnTo>
                  <a:lnTo>
                    <a:pt x="883" y="240"/>
                  </a:lnTo>
                  <a:lnTo>
                    <a:pt x="863" y="232"/>
                  </a:lnTo>
                  <a:lnTo>
                    <a:pt x="837" y="225"/>
                  </a:lnTo>
                  <a:lnTo>
                    <a:pt x="807" y="223"/>
                  </a:lnTo>
                  <a:lnTo>
                    <a:pt x="770" y="225"/>
                  </a:lnTo>
                  <a:lnTo>
                    <a:pt x="729" y="234"/>
                  </a:lnTo>
                  <a:lnTo>
                    <a:pt x="737" y="0"/>
                  </a:lnTo>
                  <a:lnTo>
                    <a:pt x="1050" y="40"/>
                  </a:lnTo>
                  <a:lnTo>
                    <a:pt x="1050" y="40"/>
                  </a:lnTo>
                  <a:close/>
                </a:path>
              </a:pathLst>
            </a:custGeom>
            <a:solidFill>
              <a:srgbClr val="d659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00200" y="3454560"/>
              <a:ext cx="290520" cy="709560"/>
            </a:xfrm>
            <a:custGeom>
              <a:avLst/>
              <a:gdLst/>
              <a:ahLst/>
              <a:rect l="l" t="t" r="r" b="b"/>
              <a:pathLst>
                <a:path w="417" h="1138">
                  <a:moveTo>
                    <a:pt x="140" y="242"/>
                  </a:moveTo>
                  <a:lnTo>
                    <a:pt x="146" y="114"/>
                  </a:lnTo>
                  <a:lnTo>
                    <a:pt x="417" y="0"/>
                  </a:lnTo>
                  <a:lnTo>
                    <a:pt x="211" y="1138"/>
                  </a:lnTo>
                  <a:lnTo>
                    <a:pt x="91" y="1138"/>
                  </a:lnTo>
                  <a:lnTo>
                    <a:pt x="0" y="1012"/>
                  </a:lnTo>
                  <a:lnTo>
                    <a:pt x="140" y="242"/>
                  </a:lnTo>
                  <a:lnTo>
                    <a:pt x="140" y="242"/>
                  </a:lnTo>
                  <a:close/>
                </a:path>
              </a:pathLst>
            </a:custGeom>
            <a:solidFill>
              <a:srgbClr val="664d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65280" y="3191040"/>
              <a:ext cx="331560" cy="407880"/>
            </a:xfrm>
            <a:custGeom>
              <a:avLst/>
              <a:gdLst/>
              <a:ahLst/>
              <a:rect l="l" t="t" r="r" b="b"/>
              <a:pathLst>
                <a:path w="478" h="652">
                  <a:moveTo>
                    <a:pt x="0" y="585"/>
                  </a:moveTo>
                  <a:lnTo>
                    <a:pt x="287" y="0"/>
                  </a:lnTo>
                  <a:lnTo>
                    <a:pt x="478" y="189"/>
                  </a:lnTo>
                  <a:lnTo>
                    <a:pt x="170" y="652"/>
                  </a:lnTo>
                  <a:lnTo>
                    <a:pt x="0" y="585"/>
                  </a:lnTo>
                  <a:lnTo>
                    <a:pt x="0" y="585"/>
                  </a:lnTo>
                  <a:close/>
                </a:path>
              </a:pathLst>
            </a:custGeom>
            <a:solidFill>
              <a:srgbClr val="8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838080" y="3181320"/>
              <a:ext cx="390600" cy="133560"/>
            </a:xfrm>
            <a:custGeom>
              <a:avLst/>
              <a:gdLst/>
              <a:ahLst/>
              <a:rect l="l" t="t" r="r" b="b"/>
              <a:pathLst>
                <a:path w="558" h="213">
                  <a:moveTo>
                    <a:pt x="171" y="164"/>
                  </a:moveTo>
                  <a:lnTo>
                    <a:pt x="68" y="70"/>
                  </a:lnTo>
                  <a:lnTo>
                    <a:pt x="0" y="0"/>
                  </a:lnTo>
                  <a:lnTo>
                    <a:pt x="389" y="13"/>
                  </a:lnTo>
                  <a:lnTo>
                    <a:pt x="558" y="213"/>
                  </a:lnTo>
                  <a:lnTo>
                    <a:pt x="171" y="164"/>
                  </a:lnTo>
                  <a:lnTo>
                    <a:pt x="171" y="1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84080" y="3284640"/>
              <a:ext cx="444600" cy="873000"/>
            </a:xfrm>
            <a:custGeom>
              <a:avLst/>
              <a:gdLst/>
              <a:ahLst/>
              <a:rect l="l" t="t" r="r" b="b"/>
              <a:pathLst>
                <a:path w="637" h="1400">
                  <a:moveTo>
                    <a:pt x="637" y="31"/>
                  </a:moveTo>
                  <a:lnTo>
                    <a:pt x="249" y="0"/>
                  </a:lnTo>
                  <a:lnTo>
                    <a:pt x="0" y="491"/>
                  </a:lnTo>
                  <a:lnTo>
                    <a:pt x="250" y="318"/>
                  </a:lnTo>
                  <a:lnTo>
                    <a:pt x="47" y="1400"/>
                  </a:lnTo>
                  <a:lnTo>
                    <a:pt x="620" y="1183"/>
                  </a:lnTo>
                  <a:lnTo>
                    <a:pt x="637" y="31"/>
                  </a:lnTo>
                  <a:lnTo>
                    <a:pt x="637" y="31"/>
                  </a:lnTo>
                  <a:close/>
                </a:path>
              </a:pathLst>
            </a:custGeom>
            <a:solidFill>
              <a:srgbClr val="8fd1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66640" y="3170160"/>
              <a:ext cx="1184400" cy="1462320"/>
            </a:xfrm>
            <a:custGeom>
              <a:avLst/>
              <a:gdLst/>
              <a:ahLst/>
              <a:rect l="l" t="t" r="r" b="b"/>
              <a:pathLst>
                <a:path w="1695" h="2342">
                  <a:moveTo>
                    <a:pt x="981" y="1837"/>
                  </a:moveTo>
                  <a:lnTo>
                    <a:pt x="906" y="2246"/>
                  </a:lnTo>
                  <a:lnTo>
                    <a:pt x="363" y="1690"/>
                  </a:lnTo>
                  <a:lnTo>
                    <a:pt x="370" y="1686"/>
                  </a:lnTo>
                  <a:lnTo>
                    <a:pt x="394" y="1679"/>
                  </a:lnTo>
                  <a:lnTo>
                    <a:pt x="430" y="1667"/>
                  </a:lnTo>
                  <a:lnTo>
                    <a:pt x="477" y="1651"/>
                  </a:lnTo>
                  <a:lnTo>
                    <a:pt x="532" y="1629"/>
                  </a:lnTo>
                  <a:lnTo>
                    <a:pt x="593" y="1603"/>
                  </a:lnTo>
                  <a:lnTo>
                    <a:pt x="660" y="1572"/>
                  </a:lnTo>
                  <a:lnTo>
                    <a:pt x="732" y="1538"/>
                  </a:lnTo>
                  <a:lnTo>
                    <a:pt x="800" y="1498"/>
                  </a:lnTo>
                  <a:lnTo>
                    <a:pt x="869" y="1455"/>
                  </a:lnTo>
                  <a:lnTo>
                    <a:pt x="933" y="1407"/>
                  </a:lnTo>
                  <a:lnTo>
                    <a:pt x="995" y="1356"/>
                  </a:lnTo>
                  <a:lnTo>
                    <a:pt x="1046" y="1298"/>
                  </a:lnTo>
                  <a:lnTo>
                    <a:pt x="1088" y="1238"/>
                  </a:lnTo>
                  <a:lnTo>
                    <a:pt x="1118" y="1173"/>
                  </a:lnTo>
                  <a:lnTo>
                    <a:pt x="1136" y="1108"/>
                  </a:lnTo>
                  <a:lnTo>
                    <a:pt x="1135" y="1094"/>
                  </a:lnTo>
                  <a:lnTo>
                    <a:pt x="1135" y="1083"/>
                  </a:lnTo>
                  <a:lnTo>
                    <a:pt x="1135" y="1072"/>
                  </a:lnTo>
                  <a:lnTo>
                    <a:pt x="1135" y="1060"/>
                  </a:lnTo>
                  <a:lnTo>
                    <a:pt x="1133" y="1053"/>
                  </a:lnTo>
                  <a:lnTo>
                    <a:pt x="1133" y="1047"/>
                  </a:lnTo>
                  <a:lnTo>
                    <a:pt x="1133" y="1040"/>
                  </a:lnTo>
                  <a:lnTo>
                    <a:pt x="1133" y="1035"/>
                  </a:lnTo>
                  <a:lnTo>
                    <a:pt x="1132" y="1028"/>
                  </a:lnTo>
                  <a:lnTo>
                    <a:pt x="1131" y="1021"/>
                  </a:lnTo>
                  <a:lnTo>
                    <a:pt x="1131" y="1014"/>
                  </a:lnTo>
                  <a:lnTo>
                    <a:pt x="1129" y="1008"/>
                  </a:lnTo>
                  <a:lnTo>
                    <a:pt x="1128" y="1009"/>
                  </a:lnTo>
                  <a:lnTo>
                    <a:pt x="1125" y="1018"/>
                  </a:lnTo>
                  <a:lnTo>
                    <a:pt x="1121" y="1032"/>
                  </a:lnTo>
                  <a:lnTo>
                    <a:pt x="1116" y="1051"/>
                  </a:lnTo>
                  <a:lnTo>
                    <a:pt x="1107" y="1072"/>
                  </a:lnTo>
                  <a:lnTo>
                    <a:pt x="1098" y="1095"/>
                  </a:lnTo>
                  <a:lnTo>
                    <a:pt x="1088" y="1121"/>
                  </a:lnTo>
                  <a:lnTo>
                    <a:pt x="1077" y="1149"/>
                  </a:lnTo>
                  <a:lnTo>
                    <a:pt x="1063" y="1173"/>
                  </a:lnTo>
                  <a:lnTo>
                    <a:pt x="1050" y="1199"/>
                  </a:lnTo>
                  <a:lnTo>
                    <a:pt x="1035" y="1223"/>
                  </a:lnTo>
                  <a:lnTo>
                    <a:pt x="1018" y="1245"/>
                  </a:lnTo>
                  <a:lnTo>
                    <a:pt x="1000" y="1263"/>
                  </a:lnTo>
                  <a:lnTo>
                    <a:pt x="983" y="1276"/>
                  </a:lnTo>
                  <a:lnTo>
                    <a:pt x="962" y="1286"/>
                  </a:lnTo>
                  <a:lnTo>
                    <a:pt x="943" y="1289"/>
                  </a:lnTo>
                  <a:lnTo>
                    <a:pt x="961" y="209"/>
                  </a:lnTo>
                  <a:lnTo>
                    <a:pt x="804" y="13"/>
                  </a:lnTo>
                  <a:lnTo>
                    <a:pt x="378" y="0"/>
                  </a:lnTo>
                  <a:lnTo>
                    <a:pt x="83" y="610"/>
                  </a:lnTo>
                  <a:lnTo>
                    <a:pt x="299" y="704"/>
                  </a:lnTo>
                  <a:lnTo>
                    <a:pt x="223" y="1121"/>
                  </a:lnTo>
                  <a:lnTo>
                    <a:pt x="0" y="1077"/>
                  </a:lnTo>
                  <a:lnTo>
                    <a:pt x="96" y="1441"/>
                  </a:lnTo>
                  <a:lnTo>
                    <a:pt x="197" y="1494"/>
                  </a:lnTo>
                  <a:lnTo>
                    <a:pt x="329" y="1424"/>
                  </a:lnTo>
                  <a:lnTo>
                    <a:pt x="253" y="1354"/>
                  </a:lnTo>
                  <a:lnTo>
                    <a:pt x="336" y="1320"/>
                  </a:lnTo>
                  <a:lnTo>
                    <a:pt x="281" y="1252"/>
                  </a:lnTo>
                  <a:lnTo>
                    <a:pt x="351" y="1224"/>
                  </a:lnTo>
                  <a:lnTo>
                    <a:pt x="294" y="1157"/>
                  </a:lnTo>
                  <a:lnTo>
                    <a:pt x="366" y="1125"/>
                  </a:lnTo>
                  <a:lnTo>
                    <a:pt x="312" y="1057"/>
                  </a:lnTo>
                  <a:lnTo>
                    <a:pt x="379" y="1032"/>
                  </a:lnTo>
                  <a:lnTo>
                    <a:pt x="329" y="965"/>
                  </a:lnTo>
                  <a:lnTo>
                    <a:pt x="399" y="943"/>
                  </a:lnTo>
                  <a:lnTo>
                    <a:pt x="346" y="875"/>
                  </a:lnTo>
                  <a:lnTo>
                    <a:pt x="416" y="843"/>
                  </a:lnTo>
                  <a:lnTo>
                    <a:pt x="359" y="772"/>
                  </a:lnTo>
                  <a:lnTo>
                    <a:pt x="437" y="736"/>
                  </a:lnTo>
                  <a:lnTo>
                    <a:pt x="375" y="678"/>
                  </a:lnTo>
                  <a:lnTo>
                    <a:pt x="437" y="628"/>
                  </a:lnTo>
                  <a:lnTo>
                    <a:pt x="412" y="600"/>
                  </a:lnTo>
                  <a:lnTo>
                    <a:pt x="308" y="672"/>
                  </a:lnTo>
                  <a:lnTo>
                    <a:pt x="163" y="608"/>
                  </a:lnTo>
                  <a:lnTo>
                    <a:pt x="253" y="596"/>
                  </a:lnTo>
                  <a:lnTo>
                    <a:pt x="226" y="500"/>
                  </a:lnTo>
                  <a:lnTo>
                    <a:pt x="305" y="499"/>
                  </a:lnTo>
                  <a:lnTo>
                    <a:pt x="281" y="407"/>
                  </a:lnTo>
                  <a:lnTo>
                    <a:pt x="349" y="406"/>
                  </a:lnTo>
                  <a:lnTo>
                    <a:pt x="326" y="326"/>
                  </a:lnTo>
                  <a:lnTo>
                    <a:pt x="394" y="319"/>
                  </a:lnTo>
                  <a:lnTo>
                    <a:pt x="366" y="236"/>
                  </a:lnTo>
                  <a:lnTo>
                    <a:pt x="433" y="236"/>
                  </a:lnTo>
                  <a:lnTo>
                    <a:pt x="403" y="146"/>
                  </a:lnTo>
                  <a:lnTo>
                    <a:pt x="499" y="129"/>
                  </a:lnTo>
                  <a:lnTo>
                    <a:pt x="405" y="28"/>
                  </a:lnTo>
                  <a:lnTo>
                    <a:pt x="777" y="39"/>
                  </a:lnTo>
                  <a:lnTo>
                    <a:pt x="918" y="209"/>
                  </a:lnTo>
                  <a:lnTo>
                    <a:pt x="895" y="1331"/>
                  </a:lnTo>
                  <a:lnTo>
                    <a:pt x="889" y="1333"/>
                  </a:lnTo>
                  <a:lnTo>
                    <a:pt x="880" y="1339"/>
                  </a:lnTo>
                  <a:lnTo>
                    <a:pt x="862" y="1350"/>
                  </a:lnTo>
                  <a:lnTo>
                    <a:pt x="837" y="1364"/>
                  </a:lnTo>
                  <a:lnTo>
                    <a:pt x="806" y="1379"/>
                  </a:lnTo>
                  <a:lnTo>
                    <a:pt x="769" y="1397"/>
                  </a:lnTo>
                  <a:lnTo>
                    <a:pt x="725" y="1418"/>
                  </a:lnTo>
                  <a:lnTo>
                    <a:pt x="677" y="1438"/>
                  </a:lnTo>
                  <a:lnTo>
                    <a:pt x="621" y="1459"/>
                  </a:lnTo>
                  <a:lnTo>
                    <a:pt x="559" y="1479"/>
                  </a:lnTo>
                  <a:lnTo>
                    <a:pt x="493" y="1500"/>
                  </a:lnTo>
                  <a:lnTo>
                    <a:pt x="422" y="1519"/>
                  </a:lnTo>
                  <a:lnTo>
                    <a:pt x="344" y="1535"/>
                  </a:lnTo>
                  <a:lnTo>
                    <a:pt x="264" y="1551"/>
                  </a:lnTo>
                  <a:lnTo>
                    <a:pt x="178" y="1563"/>
                  </a:lnTo>
                  <a:lnTo>
                    <a:pt x="89" y="1572"/>
                  </a:lnTo>
                  <a:lnTo>
                    <a:pt x="915" y="2342"/>
                  </a:lnTo>
                  <a:lnTo>
                    <a:pt x="1423" y="2136"/>
                  </a:lnTo>
                  <a:lnTo>
                    <a:pt x="1473" y="1777"/>
                  </a:lnTo>
                  <a:lnTo>
                    <a:pt x="1246" y="1733"/>
                  </a:lnTo>
                  <a:lnTo>
                    <a:pt x="1251" y="1729"/>
                  </a:lnTo>
                  <a:lnTo>
                    <a:pt x="1265" y="1722"/>
                  </a:lnTo>
                  <a:lnTo>
                    <a:pt x="1287" y="1707"/>
                  </a:lnTo>
                  <a:lnTo>
                    <a:pt x="1316" y="1690"/>
                  </a:lnTo>
                  <a:lnTo>
                    <a:pt x="1350" y="1667"/>
                  </a:lnTo>
                  <a:lnTo>
                    <a:pt x="1388" y="1644"/>
                  </a:lnTo>
                  <a:lnTo>
                    <a:pt x="1428" y="1615"/>
                  </a:lnTo>
                  <a:lnTo>
                    <a:pt x="1472" y="1586"/>
                  </a:lnTo>
                  <a:lnTo>
                    <a:pt x="1514" y="1553"/>
                  </a:lnTo>
                  <a:lnTo>
                    <a:pt x="1556" y="1520"/>
                  </a:lnTo>
                  <a:lnTo>
                    <a:pt x="1593" y="1486"/>
                  </a:lnTo>
                  <a:lnTo>
                    <a:pt x="1627" y="1453"/>
                  </a:lnTo>
                  <a:lnTo>
                    <a:pt x="1656" y="1419"/>
                  </a:lnTo>
                  <a:lnTo>
                    <a:pt x="1676" y="1387"/>
                  </a:lnTo>
                  <a:lnTo>
                    <a:pt x="1690" y="1357"/>
                  </a:lnTo>
                  <a:lnTo>
                    <a:pt x="1695" y="1330"/>
                  </a:lnTo>
                  <a:lnTo>
                    <a:pt x="1693" y="1298"/>
                  </a:lnTo>
                  <a:lnTo>
                    <a:pt x="1691" y="1264"/>
                  </a:lnTo>
                  <a:lnTo>
                    <a:pt x="1689" y="1228"/>
                  </a:lnTo>
                  <a:lnTo>
                    <a:pt x="1684" y="1191"/>
                  </a:lnTo>
                  <a:lnTo>
                    <a:pt x="1679" y="1150"/>
                  </a:lnTo>
                  <a:lnTo>
                    <a:pt x="1674" y="1112"/>
                  </a:lnTo>
                  <a:lnTo>
                    <a:pt x="1667" y="1071"/>
                  </a:lnTo>
                  <a:lnTo>
                    <a:pt x="1660" y="1032"/>
                  </a:lnTo>
                  <a:lnTo>
                    <a:pt x="1649" y="992"/>
                  </a:lnTo>
                  <a:lnTo>
                    <a:pt x="1639" y="955"/>
                  </a:lnTo>
                  <a:lnTo>
                    <a:pt x="1626" y="921"/>
                  </a:lnTo>
                  <a:lnTo>
                    <a:pt x="1612" y="890"/>
                  </a:lnTo>
                  <a:lnTo>
                    <a:pt x="1594" y="862"/>
                  </a:lnTo>
                  <a:lnTo>
                    <a:pt x="1576" y="837"/>
                  </a:lnTo>
                  <a:lnTo>
                    <a:pt x="1556" y="820"/>
                  </a:lnTo>
                  <a:lnTo>
                    <a:pt x="1535" y="807"/>
                  </a:lnTo>
                  <a:lnTo>
                    <a:pt x="1527" y="805"/>
                  </a:lnTo>
                  <a:lnTo>
                    <a:pt x="1521" y="807"/>
                  </a:lnTo>
                  <a:lnTo>
                    <a:pt x="1521" y="814"/>
                  </a:lnTo>
                  <a:lnTo>
                    <a:pt x="1524" y="824"/>
                  </a:lnTo>
                  <a:lnTo>
                    <a:pt x="1527" y="832"/>
                  </a:lnTo>
                  <a:lnTo>
                    <a:pt x="1530" y="842"/>
                  </a:lnTo>
                  <a:lnTo>
                    <a:pt x="1532" y="847"/>
                  </a:lnTo>
                  <a:lnTo>
                    <a:pt x="1535" y="851"/>
                  </a:lnTo>
                  <a:lnTo>
                    <a:pt x="1535" y="851"/>
                  </a:lnTo>
                  <a:lnTo>
                    <a:pt x="1541" y="855"/>
                  </a:lnTo>
                  <a:lnTo>
                    <a:pt x="1547" y="862"/>
                  </a:lnTo>
                  <a:lnTo>
                    <a:pt x="1557" y="873"/>
                  </a:lnTo>
                  <a:lnTo>
                    <a:pt x="1568" y="887"/>
                  </a:lnTo>
                  <a:lnTo>
                    <a:pt x="1580" y="905"/>
                  </a:lnTo>
                  <a:lnTo>
                    <a:pt x="1593" y="925"/>
                  </a:lnTo>
                  <a:lnTo>
                    <a:pt x="1606" y="953"/>
                  </a:lnTo>
                  <a:lnTo>
                    <a:pt x="1619" y="983"/>
                  </a:lnTo>
                  <a:lnTo>
                    <a:pt x="1630" y="1018"/>
                  </a:lnTo>
                  <a:lnTo>
                    <a:pt x="1639" y="1058"/>
                  </a:lnTo>
                  <a:lnTo>
                    <a:pt x="1649" y="1105"/>
                  </a:lnTo>
                  <a:lnTo>
                    <a:pt x="1653" y="1156"/>
                  </a:lnTo>
                  <a:lnTo>
                    <a:pt x="1656" y="1213"/>
                  </a:lnTo>
                  <a:lnTo>
                    <a:pt x="1656" y="1275"/>
                  </a:lnTo>
                  <a:lnTo>
                    <a:pt x="1652" y="1345"/>
                  </a:lnTo>
                  <a:lnTo>
                    <a:pt x="1650" y="1346"/>
                  </a:lnTo>
                  <a:lnTo>
                    <a:pt x="1649" y="1350"/>
                  </a:lnTo>
                  <a:lnTo>
                    <a:pt x="1646" y="1357"/>
                  </a:lnTo>
                  <a:lnTo>
                    <a:pt x="1642" y="1370"/>
                  </a:lnTo>
                  <a:lnTo>
                    <a:pt x="1632" y="1382"/>
                  </a:lnTo>
                  <a:lnTo>
                    <a:pt x="1620" y="1400"/>
                  </a:lnTo>
                  <a:lnTo>
                    <a:pt x="1604" y="1419"/>
                  </a:lnTo>
                  <a:lnTo>
                    <a:pt x="1583" y="1442"/>
                  </a:lnTo>
                  <a:lnTo>
                    <a:pt x="1554" y="1467"/>
                  </a:lnTo>
                  <a:lnTo>
                    <a:pt x="1520" y="1496"/>
                  </a:lnTo>
                  <a:lnTo>
                    <a:pt x="1476" y="1529"/>
                  </a:lnTo>
                  <a:lnTo>
                    <a:pt x="1425" y="1564"/>
                  </a:lnTo>
                  <a:lnTo>
                    <a:pt x="1365" y="1601"/>
                  </a:lnTo>
                  <a:lnTo>
                    <a:pt x="1295" y="1644"/>
                  </a:lnTo>
                  <a:lnTo>
                    <a:pt x="1216" y="1688"/>
                  </a:lnTo>
                  <a:lnTo>
                    <a:pt x="1124" y="1737"/>
                  </a:lnTo>
                  <a:lnTo>
                    <a:pt x="1416" y="1822"/>
                  </a:lnTo>
                  <a:lnTo>
                    <a:pt x="1369" y="2120"/>
                  </a:lnTo>
                  <a:lnTo>
                    <a:pt x="972" y="2266"/>
                  </a:lnTo>
                  <a:lnTo>
                    <a:pt x="1055" y="1867"/>
                  </a:lnTo>
                  <a:lnTo>
                    <a:pt x="981" y="1837"/>
                  </a:lnTo>
                  <a:lnTo>
                    <a:pt x="981" y="18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739880" y="2911320"/>
              <a:ext cx="830160" cy="992520"/>
            </a:xfrm>
            <a:custGeom>
              <a:avLst/>
              <a:gdLst/>
              <a:ahLst/>
              <a:rect l="l" t="t" r="r" b="b"/>
              <a:pathLst>
                <a:path w="1189" h="1588">
                  <a:moveTo>
                    <a:pt x="728" y="889"/>
                  </a:moveTo>
                  <a:lnTo>
                    <a:pt x="233" y="939"/>
                  </a:lnTo>
                  <a:lnTo>
                    <a:pt x="37" y="871"/>
                  </a:lnTo>
                  <a:lnTo>
                    <a:pt x="40" y="742"/>
                  </a:lnTo>
                  <a:lnTo>
                    <a:pt x="126" y="749"/>
                  </a:lnTo>
                  <a:lnTo>
                    <a:pt x="114" y="686"/>
                  </a:lnTo>
                  <a:lnTo>
                    <a:pt x="177" y="676"/>
                  </a:lnTo>
                  <a:lnTo>
                    <a:pt x="152" y="612"/>
                  </a:lnTo>
                  <a:lnTo>
                    <a:pt x="225" y="590"/>
                  </a:lnTo>
                  <a:lnTo>
                    <a:pt x="197" y="531"/>
                  </a:lnTo>
                  <a:lnTo>
                    <a:pt x="277" y="513"/>
                  </a:lnTo>
                  <a:lnTo>
                    <a:pt x="247" y="453"/>
                  </a:lnTo>
                  <a:lnTo>
                    <a:pt x="319" y="439"/>
                  </a:lnTo>
                  <a:lnTo>
                    <a:pt x="287" y="366"/>
                  </a:lnTo>
                  <a:lnTo>
                    <a:pt x="359" y="366"/>
                  </a:lnTo>
                  <a:lnTo>
                    <a:pt x="336" y="292"/>
                  </a:lnTo>
                  <a:lnTo>
                    <a:pt x="403" y="273"/>
                  </a:lnTo>
                  <a:lnTo>
                    <a:pt x="381" y="196"/>
                  </a:lnTo>
                  <a:lnTo>
                    <a:pt x="461" y="150"/>
                  </a:lnTo>
                  <a:lnTo>
                    <a:pt x="343" y="47"/>
                  </a:lnTo>
                  <a:lnTo>
                    <a:pt x="607" y="40"/>
                  </a:lnTo>
                  <a:lnTo>
                    <a:pt x="731" y="161"/>
                  </a:lnTo>
                  <a:lnTo>
                    <a:pt x="452" y="709"/>
                  </a:lnTo>
                  <a:lnTo>
                    <a:pt x="489" y="709"/>
                  </a:lnTo>
                  <a:lnTo>
                    <a:pt x="543" y="609"/>
                  </a:lnTo>
                  <a:lnTo>
                    <a:pt x="629" y="609"/>
                  </a:lnTo>
                  <a:lnTo>
                    <a:pt x="777" y="269"/>
                  </a:lnTo>
                  <a:lnTo>
                    <a:pt x="909" y="336"/>
                  </a:lnTo>
                  <a:lnTo>
                    <a:pt x="940" y="331"/>
                  </a:lnTo>
                  <a:lnTo>
                    <a:pt x="810" y="237"/>
                  </a:lnTo>
                  <a:lnTo>
                    <a:pt x="998" y="152"/>
                  </a:lnTo>
                  <a:lnTo>
                    <a:pt x="1150" y="296"/>
                  </a:lnTo>
                  <a:lnTo>
                    <a:pt x="1146" y="302"/>
                  </a:lnTo>
                  <a:lnTo>
                    <a:pt x="1138" y="321"/>
                  </a:lnTo>
                  <a:lnTo>
                    <a:pt x="1124" y="350"/>
                  </a:lnTo>
                  <a:lnTo>
                    <a:pt x="1106" y="390"/>
                  </a:lnTo>
                  <a:lnTo>
                    <a:pt x="1086" y="439"/>
                  </a:lnTo>
                  <a:lnTo>
                    <a:pt x="1062" y="501"/>
                  </a:lnTo>
                  <a:lnTo>
                    <a:pt x="1039" y="571"/>
                  </a:lnTo>
                  <a:lnTo>
                    <a:pt x="1016" y="650"/>
                  </a:lnTo>
                  <a:lnTo>
                    <a:pt x="991" y="735"/>
                  </a:lnTo>
                  <a:lnTo>
                    <a:pt x="969" y="828"/>
                  </a:lnTo>
                  <a:lnTo>
                    <a:pt x="949" y="929"/>
                  </a:lnTo>
                  <a:lnTo>
                    <a:pt x="934" y="1035"/>
                  </a:lnTo>
                  <a:lnTo>
                    <a:pt x="920" y="1147"/>
                  </a:lnTo>
                  <a:lnTo>
                    <a:pt x="912" y="1266"/>
                  </a:lnTo>
                  <a:lnTo>
                    <a:pt x="909" y="1388"/>
                  </a:lnTo>
                  <a:lnTo>
                    <a:pt x="913" y="1514"/>
                  </a:lnTo>
                  <a:lnTo>
                    <a:pt x="622" y="1517"/>
                  </a:lnTo>
                  <a:lnTo>
                    <a:pt x="657" y="1588"/>
                  </a:lnTo>
                  <a:lnTo>
                    <a:pt x="940" y="1588"/>
                  </a:lnTo>
                  <a:lnTo>
                    <a:pt x="940" y="1578"/>
                  </a:lnTo>
                  <a:lnTo>
                    <a:pt x="940" y="1551"/>
                  </a:lnTo>
                  <a:lnTo>
                    <a:pt x="940" y="1506"/>
                  </a:lnTo>
                  <a:lnTo>
                    <a:pt x="940" y="1447"/>
                  </a:lnTo>
                  <a:lnTo>
                    <a:pt x="942" y="1374"/>
                  </a:lnTo>
                  <a:lnTo>
                    <a:pt x="946" y="1293"/>
                  </a:lnTo>
                  <a:lnTo>
                    <a:pt x="951" y="1203"/>
                  </a:lnTo>
                  <a:lnTo>
                    <a:pt x="962" y="1104"/>
                  </a:lnTo>
                  <a:lnTo>
                    <a:pt x="973" y="1000"/>
                  </a:lnTo>
                  <a:lnTo>
                    <a:pt x="988" y="893"/>
                  </a:lnTo>
                  <a:lnTo>
                    <a:pt x="1008" y="785"/>
                  </a:lnTo>
                  <a:lnTo>
                    <a:pt x="1034" y="678"/>
                  </a:lnTo>
                  <a:lnTo>
                    <a:pt x="1061" y="572"/>
                  </a:lnTo>
                  <a:lnTo>
                    <a:pt x="1098" y="471"/>
                  </a:lnTo>
                  <a:lnTo>
                    <a:pt x="1139" y="375"/>
                  </a:lnTo>
                  <a:lnTo>
                    <a:pt x="1189" y="290"/>
                  </a:lnTo>
                  <a:lnTo>
                    <a:pt x="1005" y="102"/>
                  </a:lnTo>
                  <a:lnTo>
                    <a:pt x="766" y="226"/>
                  </a:lnTo>
                  <a:lnTo>
                    <a:pt x="616" y="593"/>
                  </a:lnTo>
                  <a:lnTo>
                    <a:pt x="547" y="583"/>
                  </a:lnTo>
                  <a:lnTo>
                    <a:pt x="777" y="147"/>
                  </a:lnTo>
                  <a:lnTo>
                    <a:pt x="629" y="0"/>
                  </a:lnTo>
                  <a:lnTo>
                    <a:pt x="284" y="22"/>
                  </a:lnTo>
                  <a:lnTo>
                    <a:pt x="282" y="26"/>
                  </a:lnTo>
                  <a:lnTo>
                    <a:pt x="280" y="41"/>
                  </a:lnTo>
                  <a:lnTo>
                    <a:pt x="274" y="66"/>
                  </a:lnTo>
                  <a:lnTo>
                    <a:pt x="269" y="98"/>
                  </a:lnTo>
                  <a:lnTo>
                    <a:pt x="260" y="136"/>
                  </a:lnTo>
                  <a:lnTo>
                    <a:pt x="251" y="180"/>
                  </a:lnTo>
                  <a:lnTo>
                    <a:pt x="237" y="231"/>
                  </a:lnTo>
                  <a:lnTo>
                    <a:pt x="223" y="285"/>
                  </a:lnTo>
                  <a:lnTo>
                    <a:pt x="204" y="340"/>
                  </a:lnTo>
                  <a:lnTo>
                    <a:pt x="184" y="399"/>
                  </a:lnTo>
                  <a:lnTo>
                    <a:pt x="160" y="458"/>
                  </a:lnTo>
                  <a:lnTo>
                    <a:pt x="134" y="517"/>
                  </a:lnTo>
                  <a:lnTo>
                    <a:pt x="104" y="575"/>
                  </a:lnTo>
                  <a:lnTo>
                    <a:pt x="74" y="631"/>
                  </a:lnTo>
                  <a:lnTo>
                    <a:pt x="38" y="683"/>
                  </a:lnTo>
                  <a:lnTo>
                    <a:pt x="0" y="732"/>
                  </a:lnTo>
                  <a:lnTo>
                    <a:pt x="0" y="896"/>
                  </a:lnTo>
                  <a:lnTo>
                    <a:pt x="223" y="992"/>
                  </a:lnTo>
                  <a:lnTo>
                    <a:pt x="717" y="926"/>
                  </a:lnTo>
                  <a:lnTo>
                    <a:pt x="728" y="889"/>
                  </a:lnTo>
                  <a:lnTo>
                    <a:pt x="728" y="8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31800" y="4057560"/>
              <a:ext cx="160200" cy="95400"/>
            </a:xfrm>
            <a:custGeom>
              <a:avLst/>
              <a:gdLst/>
              <a:ahLst/>
              <a:rect l="l" t="t" r="r" b="b"/>
              <a:pathLst>
                <a:path w="229" h="152">
                  <a:moveTo>
                    <a:pt x="0" y="17"/>
                  </a:moveTo>
                  <a:lnTo>
                    <a:pt x="123" y="152"/>
                  </a:lnTo>
                  <a:lnTo>
                    <a:pt x="229" y="147"/>
                  </a:lnTo>
                  <a:lnTo>
                    <a:pt x="93" y="0"/>
                  </a:lnTo>
                  <a:lnTo>
                    <a:pt x="0" y="1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217520" y="3817800"/>
              <a:ext cx="138240" cy="65160"/>
            </a:xfrm>
            <a:custGeom>
              <a:avLst/>
              <a:gdLst/>
              <a:ahLst/>
              <a:rect l="l" t="t" r="r" b="b"/>
              <a:pathLst>
                <a:path w="197" h="105">
                  <a:moveTo>
                    <a:pt x="1" y="41"/>
                  </a:moveTo>
                  <a:lnTo>
                    <a:pt x="3" y="39"/>
                  </a:lnTo>
                  <a:lnTo>
                    <a:pt x="8" y="36"/>
                  </a:lnTo>
                  <a:lnTo>
                    <a:pt x="16" y="32"/>
                  </a:lnTo>
                  <a:lnTo>
                    <a:pt x="29" y="29"/>
                  </a:lnTo>
                  <a:lnTo>
                    <a:pt x="42" y="22"/>
                  </a:lnTo>
                  <a:lnTo>
                    <a:pt x="57" y="18"/>
                  </a:lnTo>
                  <a:lnTo>
                    <a:pt x="75" y="13"/>
                  </a:lnTo>
                  <a:lnTo>
                    <a:pt x="93" y="9"/>
                  </a:lnTo>
                  <a:lnTo>
                    <a:pt x="110" y="4"/>
                  </a:lnTo>
                  <a:lnTo>
                    <a:pt x="127" y="2"/>
                  </a:lnTo>
                  <a:lnTo>
                    <a:pt x="142" y="0"/>
                  </a:lnTo>
                  <a:lnTo>
                    <a:pt x="159" y="2"/>
                  </a:lnTo>
                  <a:lnTo>
                    <a:pt x="171" y="4"/>
                  </a:lnTo>
                  <a:lnTo>
                    <a:pt x="184" y="10"/>
                  </a:lnTo>
                  <a:lnTo>
                    <a:pt x="192" y="18"/>
                  </a:lnTo>
                  <a:lnTo>
                    <a:pt x="197" y="29"/>
                  </a:lnTo>
                  <a:lnTo>
                    <a:pt x="197" y="36"/>
                  </a:lnTo>
                  <a:lnTo>
                    <a:pt x="196" y="41"/>
                  </a:lnTo>
                  <a:lnTo>
                    <a:pt x="193" y="47"/>
                  </a:lnTo>
                  <a:lnTo>
                    <a:pt x="192" y="54"/>
                  </a:lnTo>
                  <a:lnTo>
                    <a:pt x="186" y="62"/>
                  </a:lnTo>
                  <a:lnTo>
                    <a:pt x="185" y="66"/>
                  </a:lnTo>
                  <a:lnTo>
                    <a:pt x="185" y="62"/>
                  </a:lnTo>
                  <a:lnTo>
                    <a:pt x="179" y="52"/>
                  </a:lnTo>
                  <a:lnTo>
                    <a:pt x="175" y="47"/>
                  </a:lnTo>
                  <a:lnTo>
                    <a:pt x="171" y="43"/>
                  </a:lnTo>
                  <a:lnTo>
                    <a:pt x="164" y="37"/>
                  </a:lnTo>
                  <a:lnTo>
                    <a:pt x="158" y="36"/>
                  </a:lnTo>
                  <a:lnTo>
                    <a:pt x="147" y="32"/>
                  </a:lnTo>
                  <a:lnTo>
                    <a:pt x="134" y="33"/>
                  </a:lnTo>
                  <a:lnTo>
                    <a:pt x="119" y="36"/>
                  </a:lnTo>
                  <a:lnTo>
                    <a:pt x="101" y="43"/>
                  </a:lnTo>
                  <a:lnTo>
                    <a:pt x="81" y="50"/>
                  </a:lnTo>
                  <a:lnTo>
                    <a:pt x="57" y="65"/>
                  </a:lnTo>
                  <a:lnTo>
                    <a:pt x="29" y="81"/>
                  </a:lnTo>
                  <a:lnTo>
                    <a:pt x="0" y="105"/>
                  </a:lnTo>
                  <a:lnTo>
                    <a:pt x="1"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78" name=""/>
          <p:cNvGrpSpPr/>
          <p:nvPr/>
        </p:nvGrpSpPr>
        <p:grpSpPr>
          <a:xfrm>
            <a:off x="6324480" y="2940120"/>
            <a:ext cx="2286000" cy="1860480"/>
            <a:chOff x="6324480" y="2940120"/>
            <a:chExt cx="2286000" cy="1860480"/>
          </a:xfrm>
        </p:grpSpPr>
        <p:sp>
          <p:nvSpPr>
            <p:cNvPr id="79" name=""/>
            <p:cNvSpPr/>
            <p:nvPr/>
          </p:nvSpPr>
          <p:spPr>
            <a:xfrm>
              <a:off x="6324480" y="2940120"/>
              <a:ext cx="2286000" cy="1790640"/>
            </a:xfrm>
            <a:custGeom>
              <a:avLst/>
              <a:gdLst/>
              <a:ahLst/>
              <a:rect l="l" t="t" r="r" b="b"/>
              <a:pathLst>
                <a:path w="3274" h="2869">
                  <a:moveTo>
                    <a:pt x="1804" y="0"/>
                  </a:moveTo>
                  <a:lnTo>
                    <a:pt x="3274" y="912"/>
                  </a:lnTo>
                  <a:lnTo>
                    <a:pt x="2114" y="2869"/>
                  </a:lnTo>
                  <a:lnTo>
                    <a:pt x="595" y="2790"/>
                  </a:lnTo>
                  <a:lnTo>
                    <a:pt x="0" y="1636"/>
                  </a:lnTo>
                  <a:lnTo>
                    <a:pt x="1804" y="0"/>
                  </a:lnTo>
                  <a:lnTo>
                    <a:pt x="180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158320" y="4289400"/>
              <a:ext cx="163440" cy="411120"/>
            </a:xfrm>
            <a:custGeom>
              <a:avLst/>
              <a:gdLst/>
              <a:ahLst/>
              <a:rect l="l" t="t" r="r" b="b"/>
              <a:pathLst>
                <a:path w="233" h="661">
                  <a:moveTo>
                    <a:pt x="200" y="0"/>
                  </a:moveTo>
                  <a:lnTo>
                    <a:pt x="233" y="136"/>
                  </a:lnTo>
                  <a:lnTo>
                    <a:pt x="233" y="517"/>
                  </a:lnTo>
                  <a:lnTo>
                    <a:pt x="60" y="661"/>
                  </a:lnTo>
                  <a:lnTo>
                    <a:pt x="0" y="243"/>
                  </a:lnTo>
                  <a:lnTo>
                    <a:pt x="200" y="0"/>
                  </a:lnTo>
                  <a:lnTo>
                    <a:pt x="2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866000" y="4494240"/>
              <a:ext cx="347760" cy="306360"/>
            </a:xfrm>
            <a:custGeom>
              <a:avLst/>
              <a:gdLst/>
              <a:ahLst/>
              <a:rect l="l" t="t" r="r" b="b"/>
              <a:pathLst>
                <a:path w="499" h="492">
                  <a:moveTo>
                    <a:pt x="487" y="0"/>
                  </a:moveTo>
                  <a:lnTo>
                    <a:pt x="499" y="309"/>
                  </a:lnTo>
                  <a:lnTo>
                    <a:pt x="336" y="396"/>
                  </a:lnTo>
                  <a:lnTo>
                    <a:pt x="33" y="492"/>
                  </a:lnTo>
                  <a:lnTo>
                    <a:pt x="0" y="452"/>
                  </a:lnTo>
                  <a:lnTo>
                    <a:pt x="49" y="79"/>
                  </a:lnTo>
                  <a:lnTo>
                    <a:pt x="487" y="0"/>
                  </a:lnTo>
                  <a:lnTo>
                    <a:pt x="487" y="0"/>
                  </a:lnTo>
                  <a:close/>
                </a:path>
              </a:pathLst>
            </a:custGeom>
            <a:solidFill>
              <a:srgbClr val="8fd1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696080" y="4446720"/>
              <a:ext cx="223920" cy="345960"/>
            </a:xfrm>
            <a:custGeom>
              <a:avLst/>
              <a:gdLst/>
              <a:ahLst/>
              <a:rect l="l" t="t" r="r" b="b"/>
              <a:pathLst>
                <a:path w="320" h="554">
                  <a:moveTo>
                    <a:pt x="320" y="229"/>
                  </a:moveTo>
                  <a:lnTo>
                    <a:pt x="272" y="554"/>
                  </a:lnTo>
                  <a:lnTo>
                    <a:pt x="0" y="339"/>
                  </a:lnTo>
                  <a:lnTo>
                    <a:pt x="62" y="0"/>
                  </a:lnTo>
                  <a:lnTo>
                    <a:pt x="118" y="10"/>
                  </a:lnTo>
                  <a:lnTo>
                    <a:pt x="320" y="229"/>
                  </a:lnTo>
                  <a:lnTo>
                    <a:pt x="320" y="229"/>
                  </a:lnTo>
                  <a:close/>
                </a:path>
              </a:pathLst>
            </a:custGeom>
            <a:solidFill>
              <a:srgbClr val="3eb3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959600" y="3841920"/>
              <a:ext cx="147600" cy="274320"/>
            </a:xfrm>
            <a:custGeom>
              <a:avLst/>
              <a:gdLst/>
              <a:ahLst/>
              <a:rect l="l" t="t" r="r" b="b"/>
              <a:pathLst>
                <a:path w="211" h="440">
                  <a:moveTo>
                    <a:pt x="211" y="418"/>
                  </a:moveTo>
                  <a:lnTo>
                    <a:pt x="200" y="440"/>
                  </a:lnTo>
                  <a:lnTo>
                    <a:pt x="0" y="412"/>
                  </a:lnTo>
                  <a:lnTo>
                    <a:pt x="81" y="155"/>
                  </a:lnTo>
                  <a:lnTo>
                    <a:pt x="94" y="0"/>
                  </a:lnTo>
                  <a:lnTo>
                    <a:pt x="160" y="89"/>
                  </a:lnTo>
                  <a:lnTo>
                    <a:pt x="207" y="240"/>
                  </a:lnTo>
                  <a:lnTo>
                    <a:pt x="188" y="391"/>
                  </a:lnTo>
                  <a:lnTo>
                    <a:pt x="211" y="418"/>
                  </a:lnTo>
                  <a:lnTo>
                    <a:pt x="211" y="4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859880" y="4129200"/>
              <a:ext cx="231480" cy="263520"/>
            </a:xfrm>
            <a:custGeom>
              <a:avLst/>
              <a:gdLst/>
              <a:ahLst/>
              <a:rect l="l" t="t" r="r" b="b"/>
              <a:pathLst>
                <a:path w="333" h="422">
                  <a:moveTo>
                    <a:pt x="0" y="0"/>
                  </a:moveTo>
                  <a:lnTo>
                    <a:pt x="235" y="52"/>
                  </a:lnTo>
                  <a:lnTo>
                    <a:pt x="333" y="191"/>
                  </a:lnTo>
                  <a:lnTo>
                    <a:pt x="124" y="422"/>
                  </a:lnTo>
                  <a:lnTo>
                    <a:pt x="89" y="326"/>
                  </a:lnTo>
                  <a:lnTo>
                    <a:pt x="0" y="278"/>
                  </a:lnTo>
                  <a:lnTo>
                    <a:pt x="0" y="0"/>
                  </a:lnTo>
                  <a:lnTo>
                    <a:pt x="0" y="0"/>
                  </a:lnTo>
                  <a:close/>
                </a:path>
              </a:pathLst>
            </a:custGeom>
            <a:solidFill>
              <a:srgbClr val="8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640640" y="4152960"/>
              <a:ext cx="262080" cy="212760"/>
            </a:xfrm>
            <a:custGeom>
              <a:avLst/>
              <a:gdLst/>
              <a:ahLst/>
              <a:rect l="l" t="t" r="r" b="b"/>
              <a:pathLst>
                <a:path w="374" h="339">
                  <a:moveTo>
                    <a:pt x="38" y="3"/>
                  </a:moveTo>
                  <a:lnTo>
                    <a:pt x="374" y="0"/>
                  </a:lnTo>
                  <a:lnTo>
                    <a:pt x="355" y="259"/>
                  </a:lnTo>
                  <a:lnTo>
                    <a:pt x="271" y="241"/>
                  </a:lnTo>
                  <a:lnTo>
                    <a:pt x="34" y="339"/>
                  </a:lnTo>
                  <a:lnTo>
                    <a:pt x="0" y="293"/>
                  </a:lnTo>
                  <a:lnTo>
                    <a:pt x="38" y="3"/>
                  </a:lnTo>
                  <a:lnTo>
                    <a:pt x="38"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570800" y="4041720"/>
              <a:ext cx="125280" cy="314280"/>
            </a:xfrm>
            <a:custGeom>
              <a:avLst/>
              <a:gdLst/>
              <a:ahLst/>
              <a:rect l="l" t="t" r="r" b="b"/>
              <a:pathLst>
                <a:path w="180" h="505">
                  <a:moveTo>
                    <a:pt x="180" y="217"/>
                  </a:moveTo>
                  <a:lnTo>
                    <a:pt x="139" y="505"/>
                  </a:lnTo>
                  <a:lnTo>
                    <a:pt x="0" y="331"/>
                  </a:lnTo>
                  <a:lnTo>
                    <a:pt x="32" y="0"/>
                  </a:lnTo>
                  <a:lnTo>
                    <a:pt x="63" y="0"/>
                  </a:lnTo>
                  <a:lnTo>
                    <a:pt x="180" y="217"/>
                  </a:lnTo>
                  <a:lnTo>
                    <a:pt x="180" y="217"/>
                  </a:lnTo>
                  <a:close/>
                </a:path>
              </a:pathLst>
            </a:custGeom>
            <a:solidFill>
              <a:srgbClr val="3eb3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47040" y="3706920"/>
              <a:ext cx="757080" cy="895320"/>
            </a:xfrm>
            <a:custGeom>
              <a:avLst/>
              <a:gdLst/>
              <a:ahLst/>
              <a:rect l="l" t="t" r="r" b="b"/>
              <a:pathLst>
                <a:path w="1087" h="1435">
                  <a:moveTo>
                    <a:pt x="63" y="209"/>
                  </a:moveTo>
                  <a:lnTo>
                    <a:pt x="65" y="207"/>
                  </a:lnTo>
                  <a:lnTo>
                    <a:pt x="72" y="206"/>
                  </a:lnTo>
                  <a:lnTo>
                    <a:pt x="83" y="205"/>
                  </a:lnTo>
                  <a:lnTo>
                    <a:pt x="98" y="203"/>
                  </a:lnTo>
                  <a:lnTo>
                    <a:pt x="114" y="201"/>
                  </a:lnTo>
                  <a:lnTo>
                    <a:pt x="135" y="199"/>
                  </a:lnTo>
                  <a:lnTo>
                    <a:pt x="158" y="199"/>
                  </a:lnTo>
                  <a:lnTo>
                    <a:pt x="184" y="199"/>
                  </a:lnTo>
                  <a:lnTo>
                    <a:pt x="209" y="198"/>
                  </a:lnTo>
                  <a:lnTo>
                    <a:pt x="236" y="199"/>
                  </a:lnTo>
                  <a:lnTo>
                    <a:pt x="263" y="201"/>
                  </a:lnTo>
                  <a:lnTo>
                    <a:pt x="292" y="206"/>
                  </a:lnTo>
                  <a:lnTo>
                    <a:pt x="320" y="210"/>
                  </a:lnTo>
                  <a:lnTo>
                    <a:pt x="346" y="218"/>
                  </a:lnTo>
                  <a:lnTo>
                    <a:pt x="370" y="227"/>
                  </a:lnTo>
                  <a:lnTo>
                    <a:pt x="395" y="242"/>
                  </a:lnTo>
                  <a:lnTo>
                    <a:pt x="403" y="452"/>
                  </a:lnTo>
                  <a:lnTo>
                    <a:pt x="279" y="513"/>
                  </a:lnTo>
                  <a:lnTo>
                    <a:pt x="74" y="523"/>
                  </a:lnTo>
                  <a:lnTo>
                    <a:pt x="215" y="761"/>
                  </a:lnTo>
                  <a:lnTo>
                    <a:pt x="220" y="759"/>
                  </a:lnTo>
                  <a:lnTo>
                    <a:pt x="235" y="756"/>
                  </a:lnTo>
                  <a:lnTo>
                    <a:pt x="255" y="750"/>
                  </a:lnTo>
                  <a:lnTo>
                    <a:pt x="285" y="746"/>
                  </a:lnTo>
                  <a:lnTo>
                    <a:pt x="318" y="741"/>
                  </a:lnTo>
                  <a:lnTo>
                    <a:pt x="357" y="735"/>
                  </a:lnTo>
                  <a:lnTo>
                    <a:pt x="398" y="733"/>
                  </a:lnTo>
                  <a:lnTo>
                    <a:pt x="443" y="733"/>
                  </a:lnTo>
                  <a:lnTo>
                    <a:pt x="487" y="733"/>
                  </a:lnTo>
                  <a:lnTo>
                    <a:pt x="531" y="735"/>
                  </a:lnTo>
                  <a:lnTo>
                    <a:pt x="573" y="742"/>
                  </a:lnTo>
                  <a:lnTo>
                    <a:pt x="614" y="756"/>
                  </a:lnTo>
                  <a:lnTo>
                    <a:pt x="649" y="771"/>
                  </a:lnTo>
                  <a:lnTo>
                    <a:pt x="682" y="794"/>
                  </a:lnTo>
                  <a:lnTo>
                    <a:pt x="705" y="823"/>
                  </a:lnTo>
                  <a:lnTo>
                    <a:pt x="724" y="859"/>
                  </a:lnTo>
                  <a:lnTo>
                    <a:pt x="719" y="1077"/>
                  </a:lnTo>
                  <a:lnTo>
                    <a:pt x="549" y="1198"/>
                  </a:lnTo>
                  <a:lnTo>
                    <a:pt x="274" y="1195"/>
                  </a:lnTo>
                  <a:lnTo>
                    <a:pt x="534" y="1435"/>
                  </a:lnTo>
                  <a:lnTo>
                    <a:pt x="539" y="1435"/>
                  </a:lnTo>
                  <a:lnTo>
                    <a:pt x="557" y="1433"/>
                  </a:lnTo>
                  <a:lnTo>
                    <a:pt x="584" y="1428"/>
                  </a:lnTo>
                  <a:lnTo>
                    <a:pt x="623" y="1425"/>
                  </a:lnTo>
                  <a:lnTo>
                    <a:pt x="665" y="1417"/>
                  </a:lnTo>
                  <a:lnTo>
                    <a:pt x="714" y="1406"/>
                  </a:lnTo>
                  <a:lnTo>
                    <a:pt x="767" y="1391"/>
                  </a:lnTo>
                  <a:lnTo>
                    <a:pt x="820" y="1373"/>
                  </a:lnTo>
                  <a:lnTo>
                    <a:pt x="872" y="1350"/>
                  </a:lnTo>
                  <a:lnTo>
                    <a:pt x="923" y="1321"/>
                  </a:lnTo>
                  <a:lnTo>
                    <a:pt x="969" y="1287"/>
                  </a:lnTo>
                  <a:lnTo>
                    <a:pt x="1012" y="1247"/>
                  </a:lnTo>
                  <a:lnTo>
                    <a:pt x="1045" y="1199"/>
                  </a:lnTo>
                  <a:lnTo>
                    <a:pt x="1071" y="1144"/>
                  </a:lnTo>
                  <a:lnTo>
                    <a:pt x="1086" y="1082"/>
                  </a:lnTo>
                  <a:lnTo>
                    <a:pt x="1087" y="1012"/>
                  </a:lnTo>
                  <a:lnTo>
                    <a:pt x="1072" y="897"/>
                  </a:lnTo>
                  <a:lnTo>
                    <a:pt x="982" y="731"/>
                  </a:lnTo>
                  <a:lnTo>
                    <a:pt x="830" y="634"/>
                  </a:lnTo>
                  <a:lnTo>
                    <a:pt x="764" y="627"/>
                  </a:lnTo>
                  <a:lnTo>
                    <a:pt x="760" y="626"/>
                  </a:lnTo>
                  <a:lnTo>
                    <a:pt x="754" y="624"/>
                  </a:lnTo>
                  <a:lnTo>
                    <a:pt x="750" y="622"/>
                  </a:lnTo>
                  <a:lnTo>
                    <a:pt x="745" y="620"/>
                  </a:lnTo>
                  <a:lnTo>
                    <a:pt x="738" y="620"/>
                  </a:lnTo>
                  <a:lnTo>
                    <a:pt x="732" y="619"/>
                  </a:lnTo>
                  <a:lnTo>
                    <a:pt x="724" y="616"/>
                  </a:lnTo>
                  <a:lnTo>
                    <a:pt x="717" y="613"/>
                  </a:lnTo>
                  <a:lnTo>
                    <a:pt x="708" y="612"/>
                  </a:lnTo>
                  <a:lnTo>
                    <a:pt x="699" y="611"/>
                  </a:lnTo>
                  <a:lnTo>
                    <a:pt x="688" y="608"/>
                  </a:lnTo>
                  <a:lnTo>
                    <a:pt x="679" y="607"/>
                  </a:lnTo>
                  <a:lnTo>
                    <a:pt x="666" y="605"/>
                  </a:lnTo>
                  <a:lnTo>
                    <a:pt x="657" y="605"/>
                  </a:lnTo>
                  <a:lnTo>
                    <a:pt x="657" y="602"/>
                  </a:lnTo>
                  <a:lnTo>
                    <a:pt x="660" y="600"/>
                  </a:lnTo>
                  <a:lnTo>
                    <a:pt x="666" y="594"/>
                  </a:lnTo>
                  <a:lnTo>
                    <a:pt x="676" y="587"/>
                  </a:lnTo>
                  <a:lnTo>
                    <a:pt x="686" y="578"/>
                  </a:lnTo>
                  <a:lnTo>
                    <a:pt x="697" y="565"/>
                  </a:lnTo>
                  <a:lnTo>
                    <a:pt x="709" y="550"/>
                  </a:lnTo>
                  <a:lnTo>
                    <a:pt x="721" y="534"/>
                  </a:lnTo>
                  <a:lnTo>
                    <a:pt x="731" y="513"/>
                  </a:lnTo>
                  <a:lnTo>
                    <a:pt x="738" y="489"/>
                  </a:lnTo>
                  <a:lnTo>
                    <a:pt x="743" y="463"/>
                  </a:lnTo>
                  <a:lnTo>
                    <a:pt x="746" y="435"/>
                  </a:lnTo>
                  <a:lnTo>
                    <a:pt x="745" y="401"/>
                  </a:lnTo>
                  <a:lnTo>
                    <a:pt x="741" y="365"/>
                  </a:lnTo>
                  <a:lnTo>
                    <a:pt x="731" y="327"/>
                  </a:lnTo>
                  <a:lnTo>
                    <a:pt x="717" y="284"/>
                  </a:lnTo>
                  <a:lnTo>
                    <a:pt x="694" y="218"/>
                  </a:lnTo>
                  <a:lnTo>
                    <a:pt x="507" y="69"/>
                  </a:lnTo>
                  <a:lnTo>
                    <a:pt x="337" y="0"/>
                  </a:lnTo>
                  <a:lnTo>
                    <a:pt x="0" y="22"/>
                  </a:lnTo>
                  <a:lnTo>
                    <a:pt x="63" y="209"/>
                  </a:lnTo>
                  <a:lnTo>
                    <a:pt x="63" y="209"/>
                  </a:lnTo>
                  <a:close/>
                </a:path>
              </a:pathLst>
            </a:custGeom>
            <a:solidFill>
              <a:srgbClr val="abdb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059600" y="3700440"/>
              <a:ext cx="154080" cy="169920"/>
            </a:xfrm>
            <a:custGeom>
              <a:avLst/>
              <a:gdLst/>
              <a:ahLst/>
              <a:rect l="l" t="t" r="r" b="b"/>
              <a:pathLst>
                <a:path w="222" h="273">
                  <a:moveTo>
                    <a:pt x="0" y="0"/>
                  </a:moveTo>
                  <a:lnTo>
                    <a:pt x="222" y="27"/>
                  </a:lnTo>
                  <a:lnTo>
                    <a:pt x="207" y="203"/>
                  </a:lnTo>
                  <a:lnTo>
                    <a:pt x="152" y="209"/>
                  </a:lnTo>
                  <a:lnTo>
                    <a:pt x="9" y="273"/>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093080" y="3706920"/>
              <a:ext cx="163440" cy="136440"/>
            </a:xfrm>
            <a:custGeom>
              <a:avLst/>
              <a:gdLst/>
              <a:ahLst/>
              <a:rect l="l" t="t" r="r" b="b"/>
              <a:pathLst>
                <a:path w="233" h="218">
                  <a:moveTo>
                    <a:pt x="0" y="50"/>
                  </a:moveTo>
                  <a:lnTo>
                    <a:pt x="145" y="188"/>
                  </a:lnTo>
                  <a:lnTo>
                    <a:pt x="233" y="218"/>
                  </a:lnTo>
                  <a:lnTo>
                    <a:pt x="193" y="0"/>
                  </a:lnTo>
                  <a:lnTo>
                    <a:pt x="0" y="50"/>
                  </a:lnTo>
                  <a:lnTo>
                    <a:pt x="0" y="50"/>
                  </a:lnTo>
                  <a:close/>
                </a:path>
              </a:pathLst>
            </a:custGeom>
            <a:solidFill>
              <a:srgbClr val="ba87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286760" y="3618000"/>
              <a:ext cx="315720" cy="431640"/>
            </a:xfrm>
            <a:custGeom>
              <a:avLst/>
              <a:gdLst/>
              <a:ahLst/>
              <a:rect l="l" t="t" r="r" b="b"/>
              <a:pathLst>
                <a:path w="452" h="692">
                  <a:moveTo>
                    <a:pt x="0" y="0"/>
                  </a:moveTo>
                  <a:lnTo>
                    <a:pt x="253" y="80"/>
                  </a:lnTo>
                  <a:lnTo>
                    <a:pt x="378" y="169"/>
                  </a:lnTo>
                  <a:lnTo>
                    <a:pt x="452" y="450"/>
                  </a:lnTo>
                  <a:lnTo>
                    <a:pt x="438" y="692"/>
                  </a:lnTo>
                  <a:lnTo>
                    <a:pt x="70" y="564"/>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867360" y="3916440"/>
              <a:ext cx="738360" cy="691920"/>
            </a:xfrm>
            <a:custGeom>
              <a:avLst/>
              <a:gdLst/>
              <a:ahLst/>
              <a:rect l="l" t="t" r="r" b="b"/>
              <a:pathLst>
                <a:path w="1055" h="1108">
                  <a:moveTo>
                    <a:pt x="744" y="0"/>
                  </a:moveTo>
                  <a:lnTo>
                    <a:pt x="1055" y="170"/>
                  </a:lnTo>
                  <a:lnTo>
                    <a:pt x="848" y="365"/>
                  </a:lnTo>
                  <a:lnTo>
                    <a:pt x="575" y="534"/>
                  </a:lnTo>
                  <a:lnTo>
                    <a:pt x="634" y="568"/>
                  </a:lnTo>
                  <a:lnTo>
                    <a:pt x="818" y="606"/>
                  </a:lnTo>
                  <a:lnTo>
                    <a:pt x="769" y="925"/>
                  </a:lnTo>
                  <a:lnTo>
                    <a:pt x="308" y="1108"/>
                  </a:lnTo>
                  <a:lnTo>
                    <a:pt x="0" y="542"/>
                  </a:lnTo>
                  <a:lnTo>
                    <a:pt x="744" y="0"/>
                  </a:lnTo>
                  <a:lnTo>
                    <a:pt x="744" y="0"/>
                  </a:lnTo>
                  <a:close/>
                </a:path>
              </a:pathLst>
            </a:custGeom>
            <a:solidFill>
              <a:srgbClr val="ba87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913440" y="4254480"/>
              <a:ext cx="530280" cy="84240"/>
            </a:xfrm>
            <a:custGeom>
              <a:avLst/>
              <a:gdLst/>
              <a:ahLst/>
              <a:rect l="l" t="t" r="r" b="b"/>
              <a:pathLst>
                <a:path w="758" h="134">
                  <a:moveTo>
                    <a:pt x="354" y="134"/>
                  </a:moveTo>
                  <a:lnTo>
                    <a:pt x="758" y="71"/>
                  </a:lnTo>
                  <a:lnTo>
                    <a:pt x="494" y="0"/>
                  </a:lnTo>
                  <a:lnTo>
                    <a:pt x="0" y="23"/>
                  </a:lnTo>
                  <a:lnTo>
                    <a:pt x="354" y="134"/>
                  </a:lnTo>
                  <a:lnTo>
                    <a:pt x="354" y="134"/>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 name=""/>
            <p:cNvSpPr/>
            <p:nvPr/>
          </p:nvSpPr>
          <p:spPr>
            <a:xfrm>
              <a:off x="6572160" y="3600360"/>
              <a:ext cx="841320" cy="989280"/>
            </a:xfrm>
            <a:custGeom>
              <a:avLst/>
              <a:gdLst/>
              <a:ahLst/>
              <a:rect l="l" t="t" r="r" b="b"/>
              <a:pathLst>
                <a:path w="1206" h="1584">
                  <a:moveTo>
                    <a:pt x="1050" y="40"/>
                  </a:moveTo>
                  <a:lnTo>
                    <a:pt x="1063" y="50"/>
                  </a:lnTo>
                  <a:lnTo>
                    <a:pt x="1081" y="63"/>
                  </a:lnTo>
                  <a:lnTo>
                    <a:pt x="1098" y="81"/>
                  </a:lnTo>
                  <a:lnTo>
                    <a:pt x="1114" y="105"/>
                  </a:lnTo>
                  <a:lnTo>
                    <a:pt x="1129" y="129"/>
                  </a:lnTo>
                  <a:lnTo>
                    <a:pt x="1146" y="158"/>
                  </a:lnTo>
                  <a:lnTo>
                    <a:pt x="1159" y="190"/>
                  </a:lnTo>
                  <a:lnTo>
                    <a:pt x="1173" y="225"/>
                  </a:lnTo>
                  <a:lnTo>
                    <a:pt x="1183" y="261"/>
                  </a:lnTo>
                  <a:lnTo>
                    <a:pt x="1194" y="299"/>
                  </a:lnTo>
                  <a:lnTo>
                    <a:pt x="1201" y="339"/>
                  </a:lnTo>
                  <a:lnTo>
                    <a:pt x="1205" y="382"/>
                  </a:lnTo>
                  <a:lnTo>
                    <a:pt x="1206" y="423"/>
                  </a:lnTo>
                  <a:lnTo>
                    <a:pt x="1206" y="465"/>
                  </a:lnTo>
                  <a:lnTo>
                    <a:pt x="1202" y="508"/>
                  </a:lnTo>
                  <a:lnTo>
                    <a:pt x="1194" y="552"/>
                  </a:lnTo>
                  <a:lnTo>
                    <a:pt x="1181" y="591"/>
                  </a:lnTo>
                  <a:lnTo>
                    <a:pt x="1168" y="634"/>
                  </a:lnTo>
                  <a:lnTo>
                    <a:pt x="1150" y="671"/>
                  </a:lnTo>
                  <a:lnTo>
                    <a:pt x="1129" y="711"/>
                  </a:lnTo>
                  <a:lnTo>
                    <a:pt x="1105" y="748"/>
                  </a:lnTo>
                  <a:lnTo>
                    <a:pt x="1077" y="783"/>
                  </a:lnTo>
                  <a:lnTo>
                    <a:pt x="1047" y="816"/>
                  </a:lnTo>
                  <a:lnTo>
                    <a:pt x="1013" y="851"/>
                  </a:lnTo>
                  <a:lnTo>
                    <a:pt x="973" y="882"/>
                  </a:lnTo>
                  <a:lnTo>
                    <a:pt x="931" y="912"/>
                  </a:lnTo>
                  <a:lnTo>
                    <a:pt x="883" y="940"/>
                  </a:lnTo>
                  <a:lnTo>
                    <a:pt x="830" y="968"/>
                  </a:lnTo>
                  <a:lnTo>
                    <a:pt x="773" y="995"/>
                  </a:lnTo>
                  <a:lnTo>
                    <a:pt x="711" y="1019"/>
                  </a:lnTo>
                  <a:lnTo>
                    <a:pt x="644" y="1043"/>
                  </a:lnTo>
                  <a:lnTo>
                    <a:pt x="573" y="1064"/>
                  </a:lnTo>
                  <a:lnTo>
                    <a:pt x="856" y="1178"/>
                  </a:lnTo>
                  <a:lnTo>
                    <a:pt x="713" y="1584"/>
                  </a:lnTo>
                  <a:lnTo>
                    <a:pt x="0" y="929"/>
                  </a:lnTo>
                  <a:lnTo>
                    <a:pt x="619" y="756"/>
                  </a:lnTo>
                  <a:lnTo>
                    <a:pt x="856" y="576"/>
                  </a:lnTo>
                  <a:lnTo>
                    <a:pt x="931" y="383"/>
                  </a:lnTo>
                  <a:lnTo>
                    <a:pt x="931" y="380"/>
                  </a:lnTo>
                  <a:lnTo>
                    <a:pt x="932" y="375"/>
                  </a:lnTo>
                  <a:lnTo>
                    <a:pt x="932" y="364"/>
                  </a:lnTo>
                  <a:lnTo>
                    <a:pt x="933" y="351"/>
                  </a:lnTo>
                  <a:lnTo>
                    <a:pt x="932" y="335"/>
                  </a:lnTo>
                  <a:lnTo>
                    <a:pt x="931" y="319"/>
                  </a:lnTo>
                  <a:lnTo>
                    <a:pt x="926" y="302"/>
                  </a:lnTo>
                  <a:lnTo>
                    <a:pt x="921" y="286"/>
                  </a:lnTo>
                  <a:lnTo>
                    <a:pt x="911" y="269"/>
                  </a:lnTo>
                  <a:lnTo>
                    <a:pt x="900" y="254"/>
                  </a:lnTo>
                  <a:lnTo>
                    <a:pt x="883" y="240"/>
                  </a:lnTo>
                  <a:lnTo>
                    <a:pt x="863" y="232"/>
                  </a:lnTo>
                  <a:lnTo>
                    <a:pt x="837" y="225"/>
                  </a:lnTo>
                  <a:lnTo>
                    <a:pt x="807" y="223"/>
                  </a:lnTo>
                  <a:lnTo>
                    <a:pt x="770" y="225"/>
                  </a:lnTo>
                  <a:lnTo>
                    <a:pt x="729" y="234"/>
                  </a:lnTo>
                  <a:lnTo>
                    <a:pt x="737" y="0"/>
                  </a:lnTo>
                  <a:lnTo>
                    <a:pt x="1050" y="40"/>
                  </a:lnTo>
                  <a:lnTo>
                    <a:pt x="1050" y="40"/>
                  </a:lnTo>
                  <a:close/>
                </a:path>
              </a:pathLst>
            </a:custGeom>
            <a:solidFill>
              <a:srgbClr val="d659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567480" y="3454560"/>
              <a:ext cx="290520" cy="709560"/>
            </a:xfrm>
            <a:custGeom>
              <a:avLst/>
              <a:gdLst/>
              <a:ahLst/>
              <a:rect l="l" t="t" r="r" b="b"/>
              <a:pathLst>
                <a:path w="417" h="1138">
                  <a:moveTo>
                    <a:pt x="140" y="242"/>
                  </a:moveTo>
                  <a:lnTo>
                    <a:pt x="146" y="114"/>
                  </a:lnTo>
                  <a:lnTo>
                    <a:pt x="417" y="0"/>
                  </a:lnTo>
                  <a:lnTo>
                    <a:pt x="211" y="1138"/>
                  </a:lnTo>
                  <a:lnTo>
                    <a:pt x="91" y="1138"/>
                  </a:lnTo>
                  <a:lnTo>
                    <a:pt x="0" y="1012"/>
                  </a:lnTo>
                  <a:lnTo>
                    <a:pt x="140" y="242"/>
                  </a:lnTo>
                  <a:lnTo>
                    <a:pt x="140" y="242"/>
                  </a:lnTo>
                  <a:close/>
                </a:path>
              </a:pathLst>
            </a:custGeom>
            <a:solidFill>
              <a:srgbClr val="664d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532560" y="3191040"/>
              <a:ext cx="331920" cy="407880"/>
            </a:xfrm>
            <a:custGeom>
              <a:avLst/>
              <a:gdLst/>
              <a:ahLst/>
              <a:rect l="l" t="t" r="r" b="b"/>
              <a:pathLst>
                <a:path w="478" h="652">
                  <a:moveTo>
                    <a:pt x="0" y="585"/>
                  </a:moveTo>
                  <a:lnTo>
                    <a:pt x="287" y="0"/>
                  </a:lnTo>
                  <a:lnTo>
                    <a:pt x="478" y="189"/>
                  </a:lnTo>
                  <a:lnTo>
                    <a:pt x="170" y="652"/>
                  </a:lnTo>
                  <a:lnTo>
                    <a:pt x="0" y="585"/>
                  </a:lnTo>
                  <a:lnTo>
                    <a:pt x="0" y="585"/>
                  </a:lnTo>
                  <a:close/>
                </a:path>
              </a:pathLst>
            </a:custGeom>
            <a:solidFill>
              <a:srgbClr val="8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705720" y="3181320"/>
              <a:ext cx="390240" cy="133560"/>
            </a:xfrm>
            <a:custGeom>
              <a:avLst/>
              <a:gdLst/>
              <a:ahLst/>
              <a:rect l="l" t="t" r="r" b="b"/>
              <a:pathLst>
                <a:path w="558" h="213">
                  <a:moveTo>
                    <a:pt x="171" y="164"/>
                  </a:moveTo>
                  <a:lnTo>
                    <a:pt x="68" y="70"/>
                  </a:lnTo>
                  <a:lnTo>
                    <a:pt x="0" y="0"/>
                  </a:lnTo>
                  <a:lnTo>
                    <a:pt x="389" y="13"/>
                  </a:lnTo>
                  <a:lnTo>
                    <a:pt x="558" y="213"/>
                  </a:lnTo>
                  <a:lnTo>
                    <a:pt x="171" y="164"/>
                  </a:lnTo>
                  <a:lnTo>
                    <a:pt x="171" y="1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651720" y="3284640"/>
              <a:ext cx="444240" cy="873000"/>
            </a:xfrm>
            <a:custGeom>
              <a:avLst/>
              <a:gdLst/>
              <a:ahLst/>
              <a:rect l="l" t="t" r="r" b="b"/>
              <a:pathLst>
                <a:path w="637" h="1400">
                  <a:moveTo>
                    <a:pt x="637" y="31"/>
                  </a:moveTo>
                  <a:lnTo>
                    <a:pt x="249" y="0"/>
                  </a:lnTo>
                  <a:lnTo>
                    <a:pt x="0" y="491"/>
                  </a:lnTo>
                  <a:lnTo>
                    <a:pt x="250" y="318"/>
                  </a:lnTo>
                  <a:lnTo>
                    <a:pt x="47" y="1400"/>
                  </a:lnTo>
                  <a:lnTo>
                    <a:pt x="620" y="1183"/>
                  </a:lnTo>
                  <a:lnTo>
                    <a:pt x="637" y="31"/>
                  </a:lnTo>
                  <a:lnTo>
                    <a:pt x="637" y="31"/>
                  </a:lnTo>
                  <a:close/>
                </a:path>
              </a:pathLst>
            </a:custGeom>
            <a:solidFill>
              <a:srgbClr val="8fd1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434280" y="3170160"/>
              <a:ext cx="1184040" cy="1462320"/>
            </a:xfrm>
            <a:custGeom>
              <a:avLst/>
              <a:gdLst/>
              <a:ahLst/>
              <a:rect l="l" t="t" r="r" b="b"/>
              <a:pathLst>
                <a:path w="1695" h="2342">
                  <a:moveTo>
                    <a:pt x="981" y="1837"/>
                  </a:moveTo>
                  <a:lnTo>
                    <a:pt x="906" y="2246"/>
                  </a:lnTo>
                  <a:lnTo>
                    <a:pt x="363" y="1690"/>
                  </a:lnTo>
                  <a:lnTo>
                    <a:pt x="370" y="1686"/>
                  </a:lnTo>
                  <a:lnTo>
                    <a:pt x="394" y="1679"/>
                  </a:lnTo>
                  <a:lnTo>
                    <a:pt x="430" y="1667"/>
                  </a:lnTo>
                  <a:lnTo>
                    <a:pt x="477" y="1651"/>
                  </a:lnTo>
                  <a:lnTo>
                    <a:pt x="532" y="1629"/>
                  </a:lnTo>
                  <a:lnTo>
                    <a:pt x="593" y="1603"/>
                  </a:lnTo>
                  <a:lnTo>
                    <a:pt x="660" y="1572"/>
                  </a:lnTo>
                  <a:lnTo>
                    <a:pt x="732" y="1538"/>
                  </a:lnTo>
                  <a:lnTo>
                    <a:pt x="800" y="1498"/>
                  </a:lnTo>
                  <a:lnTo>
                    <a:pt x="869" y="1455"/>
                  </a:lnTo>
                  <a:lnTo>
                    <a:pt x="933" y="1407"/>
                  </a:lnTo>
                  <a:lnTo>
                    <a:pt x="995" y="1356"/>
                  </a:lnTo>
                  <a:lnTo>
                    <a:pt x="1046" y="1298"/>
                  </a:lnTo>
                  <a:lnTo>
                    <a:pt x="1088" y="1238"/>
                  </a:lnTo>
                  <a:lnTo>
                    <a:pt x="1118" y="1173"/>
                  </a:lnTo>
                  <a:lnTo>
                    <a:pt x="1136" y="1108"/>
                  </a:lnTo>
                  <a:lnTo>
                    <a:pt x="1135" y="1094"/>
                  </a:lnTo>
                  <a:lnTo>
                    <a:pt x="1135" y="1083"/>
                  </a:lnTo>
                  <a:lnTo>
                    <a:pt x="1135" y="1072"/>
                  </a:lnTo>
                  <a:lnTo>
                    <a:pt x="1135" y="1060"/>
                  </a:lnTo>
                  <a:lnTo>
                    <a:pt x="1133" y="1053"/>
                  </a:lnTo>
                  <a:lnTo>
                    <a:pt x="1133" y="1047"/>
                  </a:lnTo>
                  <a:lnTo>
                    <a:pt x="1133" y="1040"/>
                  </a:lnTo>
                  <a:lnTo>
                    <a:pt x="1133" y="1035"/>
                  </a:lnTo>
                  <a:lnTo>
                    <a:pt x="1132" y="1028"/>
                  </a:lnTo>
                  <a:lnTo>
                    <a:pt x="1131" y="1021"/>
                  </a:lnTo>
                  <a:lnTo>
                    <a:pt x="1131" y="1014"/>
                  </a:lnTo>
                  <a:lnTo>
                    <a:pt x="1129" y="1008"/>
                  </a:lnTo>
                  <a:lnTo>
                    <a:pt x="1128" y="1009"/>
                  </a:lnTo>
                  <a:lnTo>
                    <a:pt x="1125" y="1018"/>
                  </a:lnTo>
                  <a:lnTo>
                    <a:pt x="1121" y="1032"/>
                  </a:lnTo>
                  <a:lnTo>
                    <a:pt x="1116" y="1051"/>
                  </a:lnTo>
                  <a:lnTo>
                    <a:pt x="1107" y="1072"/>
                  </a:lnTo>
                  <a:lnTo>
                    <a:pt x="1098" y="1095"/>
                  </a:lnTo>
                  <a:lnTo>
                    <a:pt x="1088" y="1121"/>
                  </a:lnTo>
                  <a:lnTo>
                    <a:pt x="1077" y="1149"/>
                  </a:lnTo>
                  <a:lnTo>
                    <a:pt x="1063" y="1173"/>
                  </a:lnTo>
                  <a:lnTo>
                    <a:pt x="1050" y="1199"/>
                  </a:lnTo>
                  <a:lnTo>
                    <a:pt x="1035" y="1223"/>
                  </a:lnTo>
                  <a:lnTo>
                    <a:pt x="1018" y="1245"/>
                  </a:lnTo>
                  <a:lnTo>
                    <a:pt x="1000" y="1263"/>
                  </a:lnTo>
                  <a:lnTo>
                    <a:pt x="983" y="1276"/>
                  </a:lnTo>
                  <a:lnTo>
                    <a:pt x="962" y="1286"/>
                  </a:lnTo>
                  <a:lnTo>
                    <a:pt x="943" y="1289"/>
                  </a:lnTo>
                  <a:lnTo>
                    <a:pt x="961" y="209"/>
                  </a:lnTo>
                  <a:lnTo>
                    <a:pt x="804" y="13"/>
                  </a:lnTo>
                  <a:lnTo>
                    <a:pt x="378" y="0"/>
                  </a:lnTo>
                  <a:lnTo>
                    <a:pt x="83" y="610"/>
                  </a:lnTo>
                  <a:lnTo>
                    <a:pt x="299" y="704"/>
                  </a:lnTo>
                  <a:lnTo>
                    <a:pt x="223" y="1121"/>
                  </a:lnTo>
                  <a:lnTo>
                    <a:pt x="0" y="1077"/>
                  </a:lnTo>
                  <a:lnTo>
                    <a:pt x="96" y="1441"/>
                  </a:lnTo>
                  <a:lnTo>
                    <a:pt x="197" y="1494"/>
                  </a:lnTo>
                  <a:lnTo>
                    <a:pt x="329" y="1424"/>
                  </a:lnTo>
                  <a:lnTo>
                    <a:pt x="253" y="1354"/>
                  </a:lnTo>
                  <a:lnTo>
                    <a:pt x="336" y="1320"/>
                  </a:lnTo>
                  <a:lnTo>
                    <a:pt x="281" y="1252"/>
                  </a:lnTo>
                  <a:lnTo>
                    <a:pt x="351" y="1224"/>
                  </a:lnTo>
                  <a:lnTo>
                    <a:pt x="294" y="1157"/>
                  </a:lnTo>
                  <a:lnTo>
                    <a:pt x="366" y="1125"/>
                  </a:lnTo>
                  <a:lnTo>
                    <a:pt x="312" y="1057"/>
                  </a:lnTo>
                  <a:lnTo>
                    <a:pt x="379" y="1032"/>
                  </a:lnTo>
                  <a:lnTo>
                    <a:pt x="329" y="965"/>
                  </a:lnTo>
                  <a:lnTo>
                    <a:pt x="399" y="943"/>
                  </a:lnTo>
                  <a:lnTo>
                    <a:pt x="346" y="875"/>
                  </a:lnTo>
                  <a:lnTo>
                    <a:pt x="416" y="843"/>
                  </a:lnTo>
                  <a:lnTo>
                    <a:pt x="359" y="772"/>
                  </a:lnTo>
                  <a:lnTo>
                    <a:pt x="437" y="736"/>
                  </a:lnTo>
                  <a:lnTo>
                    <a:pt x="375" y="678"/>
                  </a:lnTo>
                  <a:lnTo>
                    <a:pt x="437" y="628"/>
                  </a:lnTo>
                  <a:lnTo>
                    <a:pt x="412" y="600"/>
                  </a:lnTo>
                  <a:lnTo>
                    <a:pt x="308" y="672"/>
                  </a:lnTo>
                  <a:lnTo>
                    <a:pt x="163" y="608"/>
                  </a:lnTo>
                  <a:lnTo>
                    <a:pt x="253" y="596"/>
                  </a:lnTo>
                  <a:lnTo>
                    <a:pt x="226" y="500"/>
                  </a:lnTo>
                  <a:lnTo>
                    <a:pt x="305" y="499"/>
                  </a:lnTo>
                  <a:lnTo>
                    <a:pt x="281" y="407"/>
                  </a:lnTo>
                  <a:lnTo>
                    <a:pt x="349" y="406"/>
                  </a:lnTo>
                  <a:lnTo>
                    <a:pt x="326" y="326"/>
                  </a:lnTo>
                  <a:lnTo>
                    <a:pt x="394" y="319"/>
                  </a:lnTo>
                  <a:lnTo>
                    <a:pt x="366" y="236"/>
                  </a:lnTo>
                  <a:lnTo>
                    <a:pt x="433" y="236"/>
                  </a:lnTo>
                  <a:lnTo>
                    <a:pt x="403" y="146"/>
                  </a:lnTo>
                  <a:lnTo>
                    <a:pt x="499" y="129"/>
                  </a:lnTo>
                  <a:lnTo>
                    <a:pt x="405" y="28"/>
                  </a:lnTo>
                  <a:lnTo>
                    <a:pt x="777" y="39"/>
                  </a:lnTo>
                  <a:lnTo>
                    <a:pt x="918" y="209"/>
                  </a:lnTo>
                  <a:lnTo>
                    <a:pt x="895" y="1331"/>
                  </a:lnTo>
                  <a:lnTo>
                    <a:pt x="889" y="1333"/>
                  </a:lnTo>
                  <a:lnTo>
                    <a:pt x="880" y="1339"/>
                  </a:lnTo>
                  <a:lnTo>
                    <a:pt x="862" y="1350"/>
                  </a:lnTo>
                  <a:lnTo>
                    <a:pt x="837" y="1364"/>
                  </a:lnTo>
                  <a:lnTo>
                    <a:pt x="806" y="1379"/>
                  </a:lnTo>
                  <a:lnTo>
                    <a:pt x="769" y="1397"/>
                  </a:lnTo>
                  <a:lnTo>
                    <a:pt x="725" y="1418"/>
                  </a:lnTo>
                  <a:lnTo>
                    <a:pt x="677" y="1438"/>
                  </a:lnTo>
                  <a:lnTo>
                    <a:pt x="621" y="1459"/>
                  </a:lnTo>
                  <a:lnTo>
                    <a:pt x="559" y="1479"/>
                  </a:lnTo>
                  <a:lnTo>
                    <a:pt x="493" y="1500"/>
                  </a:lnTo>
                  <a:lnTo>
                    <a:pt x="422" y="1519"/>
                  </a:lnTo>
                  <a:lnTo>
                    <a:pt x="344" y="1535"/>
                  </a:lnTo>
                  <a:lnTo>
                    <a:pt x="264" y="1551"/>
                  </a:lnTo>
                  <a:lnTo>
                    <a:pt x="178" y="1563"/>
                  </a:lnTo>
                  <a:lnTo>
                    <a:pt x="89" y="1572"/>
                  </a:lnTo>
                  <a:lnTo>
                    <a:pt x="915" y="2342"/>
                  </a:lnTo>
                  <a:lnTo>
                    <a:pt x="1423" y="2136"/>
                  </a:lnTo>
                  <a:lnTo>
                    <a:pt x="1473" y="1777"/>
                  </a:lnTo>
                  <a:lnTo>
                    <a:pt x="1246" y="1733"/>
                  </a:lnTo>
                  <a:lnTo>
                    <a:pt x="1251" y="1729"/>
                  </a:lnTo>
                  <a:lnTo>
                    <a:pt x="1265" y="1722"/>
                  </a:lnTo>
                  <a:lnTo>
                    <a:pt x="1287" y="1707"/>
                  </a:lnTo>
                  <a:lnTo>
                    <a:pt x="1316" y="1690"/>
                  </a:lnTo>
                  <a:lnTo>
                    <a:pt x="1350" y="1667"/>
                  </a:lnTo>
                  <a:lnTo>
                    <a:pt x="1388" y="1644"/>
                  </a:lnTo>
                  <a:lnTo>
                    <a:pt x="1428" y="1615"/>
                  </a:lnTo>
                  <a:lnTo>
                    <a:pt x="1472" y="1586"/>
                  </a:lnTo>
                  <a:lnTo>
                    <a:pt x="1514" y="1553"/>
                  </a:lnTo>
                  <a:lnTo>
                    <a:pt x="1556" y="1520"/>
                  </a:lnTo>
                  <a:lnTo>
                    <a:pt x="1593" y="1486"/>
                  </a:lnTo>
                  <a:lnTo>
                    <a:pt x="1627" y="1453"/>
                  </a:lnTo>
                  <a:lnTo>
                    <a:pt x="1656" y="1419"/>
                  </a:lnTo>
                  <a:lnTo>
                    <a:pt x="1676" y="1387"/>
                  </a:lnTo>
                  <a:lnTo>
                    <a:pt x="1690" y="1357"/>
                  </a:lnTo>
                  <a:lnTo>
                    <a:pt x="1695" y="1330"/>
                  </a:lnTo>
                  <a:lnTo>
                    <a:pt x="1693" y="1298"/>
                  </a:lnTo>
                  <a:lnTo>
                    <a:pt x="1691" y="1264"/>
                  </a:lnTo>
                  <a:lnTo>
                    <a:pt x="1689" y="1228"/>
                  </a:lnTo>
                  <a:lnTo>
                    <a:pt x="1684" y="1191"/>
                  </a:lnTo>
                  <a:lnTo>
                    <a:pt x="1679" y="1150"/>
                  </a:lnTo>
                  <a:lnTo>
                    <a:pt x="1674" y="1112"/>
                  </a:lnTo>
                  <a:lnTo>
                    <a:pt x="1667" y="1071"/>
                  </a:lnTo>
                  <a:lnTo>
                    <a:pt x="1660" y="1032"/>
                  </a:lnTo>
                  <a:lnTo>
                    <a:pt x="1649" y="992"/>
                  </a:lnTo>
                  <a:lnTo>
                    <a:pt x="1639" y="955"/>
                  </a:lnTo>
                  <a:lnTo>
                    <a:pt x="1626" y="921"/>
                  </a:lnTo>
                  <a:lnTo>
                    <a:pt x="1612" y="890"/>
                  </a:lnTo>
                  <a:lnTo>
                    <a:pt x="1594" y="862"/>
                  </a:lnTo>
                  <a:lnTo>
                    <a:pt x="1576" y="837"/>
                  </a:lnTo>
                  <a:lnTo>
                    <a:pt x="1556" y="820"/>
                  </a:lnTo>
                  <a:lnTo>
                    <a:pt x="1535" y="807"/>
                  </a:lnTo>
                  <a:lnTo>
                    <a:pt x="1527" y="805"/>
                  </a:lnTo>
                  <a:lnTo>
                    <a:pt x="1521" y="807"/>
                  </a:lnTo>
                  <a:lnTo>
                    <a:pt x="1521" y="814"/>
                  </a:lnTo>
                  <a:lnTo>
                    <a:pt x="1524" y="824"/>
                  </a:lnTo>
                  <a:lnTo>
                    <a:pt x="1527" y="832"/>
                  </a:lnTo>
                  <a:lnTo>
                    <a:pt x="1530" y="842"/>
                  </a:lnTo>
                  <a:lnTo>
                    <a:pt x="1532" y="847"/>
                  </a:lnTo>
                  <a:lnTo>
                    <a:pt x="1535" y="851"/>
                  </a:lnTo>
                  <a:lnTo>
                    <a:pt x="1535" y="851"/>
                  </a:lnTo>
                  <a:lnTo>
                    <a:pt x="1541" y="855"/>
                  </a:lnTo>
                  <a:lnTo>
                    <a:pt x="1547" y="862"/>
                  </a:lnTo>
                  <a:lnTo>
                    <a:pt x="1557" y="873"/>
                  </a:lnTo>
                  <a:lnTo>
                    <a:pt x="1568" y="887"/>
                  </a:lnTo>
                  <a:lnTo>
                    <a:pt x="1580" y="905"/>
                  </a:lnTo>
                  <a:lnTo>
                    <a:pt x="1593" y="925"/>
                  </a:lnTo>
                  <a:lnTo>
                    <a:pt x="1606" y="953"/>
                  </a:lnTo>
                  <a:lnTo>
                    <a:pt x="1619" y="983"/>
                  </a:lnTo>
                  <a:lnTo>
                    <a:pt x="1630" y="1018"/>
                  </a:lnTo>
                  <a:lnTo>
                    <a:pt x="1639" y="1058"/>
                  </a:lnTo>
                  <a:lnTo>
                    <a:pt x="1649" y="1105"/>
                  </a:lnTo>
                  <a:lnTo>
                    <a:pt x="1653" y="1156"/>
                  </a:lnTo>
                  <a:lnTo>
                    <a:pt x="1656" y="1213"/>
                  </a:lnTo>
                  <a:lnTo>
                    <a:pt x="1656" y="1275"/>
                  </a:lnTo>
                  <a:lnTo>
                    <a:pt x="1652" y="1345"/>
                  </a:lnTo>
                  <a:lnTo>
                    <a:pt x="1650" y="1346"/>
                  </a:lnTo>
                  <a:lnTo>
                    <a:pt x="1649" y="1350"/>
                  </a:lnTo>
                  <a:lnTo>
                    <a:pt x="1646" y="1357"/>
                  </a:lnTo>
                  <a:lnTo>
                    <a:pt x="1642" y="1370"/>
                  </a:lnTo>
                  <a:lnTo>
                    <a:pt x="1632" y="1382"/>
                  </a:lnTo>
                  <a:lnTo>
                    <a:pt x="1620" y="1400"/>
                  </a:lnTo>
                  <a:lnTo>
                    <a:pt x="1604" y="1419"/>
                  </a:lnTo>
                  <a:lnTo>
                    <a:pt x="1583" y="1442"/>
                  </a:lnTo>
                  <a:lnTo>
                    <a:pt x="1554" y="1467"/>
                  </a:lnTo>
                  <a:lnTo>
                    <a:pt x="1520" y="1496"/>
                  </a:lnTo>
                  <a:lnTo>
                    <a:pt x="1476" y="1529"/>
                  </a:lnTo>
                  <a:lnTo>
                    <a:pt x="1425" y="1564"/>
                  </a:lnTo>
                  <a:lnTo>
                    <a:pt x="1365" y="1601"/>
                  </a:lnTo>
                  <a:lnTo>
                    <a:pt x="1295" y="1644"/>
                  </a:lnTo>
                  <a:lnTo>
                    <a:pt x="1216" y="1688"/>
                  </a:lnTo>
                  <a:lnTo>
                    <a:pt x="1124" y="1737"/>
                  </a:lnTo>
                  <a:lnTo>
                    <a:pt x="1416" y="1822"/>
                  </a:lnTo>
                  <a:lnTo>
                    <a:pt x="1369" y="2120"/>
                  </a:lnTo>
                  <a:lnTo>
                    <a:pt x="972" y="2266"/>
                  </a:lnTo>
                  <a:lnTo>
                    <a:pt x="1055" y="1867"/>
                  </a:lnTo>
                  <a:lnTo>
                    <a:pt x="981" y="1837"/>
                  </a:lnTo>
                  <a:lnTo>
                    <a:pt x="981" y="18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99080" y="4057560"/>
              <a:ext cx="160560" cy="95400"/>
            </a:xfrm>
            <a:custGeom>
              <a:avLst/>
              <a:gdLst/>
              <a:ahLst/>
              <a:rect l="l" t="t" r="r" b="b"/>
              <a:pathLst>
                <a:path w="229" h="152">
                  <a:moveTo>
                    <a:pt x="0" y="17"/>
                  </a:moveTo>
                  <a:lnTo>
                    <a:pt x="123" y="152"/>
                  </a:lnTo>
                  <a:lnTo>
                    <a:pt x="229" y="147"/>
                  </a:lnTo>
                  <a:lnTo>
                    <a:pt x="93" y="0"/>
                  </a:lnTo>
                  <a:lnTo>
                    <a:pt x="0" y="1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085160" y="3817800"/>
              <a:ext cx="137880" cy="65160"/>
            </a:xfrm>
            <a:custGeom>
              <a:avLst/>
              <a:gdLst/>
              <a:ahLst/>
              <a:rect l="l" t="t" r="r" b="b"/>
              <a:pathLst>
                <a:path w="197" h="105">
                  <a:moveTo>
                    <a:pt x="1" y="41"/>
                  </a:moveTo>
                  <a:lnTo>
                    <a:pt x="3" y="39"/>
                  </a:lnTo>
                  <a:lnTo>
                    <a:pt x="8" y="36"/>
                  </a:lnTo>
                  <a:lnTo>
                    <a:pt x="16" y="32"/>
                  </a:lnTo>
                  <a:lnTo>
                    <a:pt x="29" y="29"/>
                  </a:lnTo>
                  <a:lnTo>
                    <a:pt x="42" y="22"/>
                  </a:lnTo>
                  <a:lnTo>
                    <a:pt x="57" y="18"/>
                  </a:lnTo>
                  <a:lnTo>
                    <a:pt x="75" y="13"/>
                  </a:lnTo>
                  <a:lnTo>
                    <a:pt x="93" y="9"/>
                  </a:lnTo>
                  <a:lnTo>
                    <a:pt x="110" y="4"/>
                  </a:lnTo>
                  <a:lnTo>
                    <a:pt x="127" y="2"/>
                  </a:lnTo>
                  <a:lnTo>
                    <a:pt x="142" y="0"/>
                  </a:lnTo>
                  <a:lnTo>
                    <a:pt x="159" y="2"/>
                  </a:lnTo>
                  <a:lnTo>
                    <a:pt x="171" y="4"/>
                  </a:lnTo>
                  <a:lnTo>
                    <a:pt x="184" y="10"/>
                  </a:lnTo>
                  <a:lnTo>
                    <a:pt x="192" y="18"/>
                  </a:lnTo>
                  <a:lnTo>
                    <a:pt x="197" y="29"/>
                  </a:lnTo>
                  <a:lnTo>
                    <a:pt x="197" y="36"/>
                  </a:lnTo>
                  <a:lnTo>
                    <a:pt x="196" y="41"/>
                  </a:lnTo>
                  <a:lnTo>
                    <a:pt x="193" y="47"/>
                  </a:lnTo>
                  <a:lnTo>
                    <a:pt x="192" y="54"/>
                  </a:lnTo>
                  <a:lnTo>
                    <a:pt x="186" y="62"/>
                  </a:lnTo>
                  <a:lnTo>
                    <a:pt x="185" y="66"/>
                  </a:lnTo>
                  <a:lnTo>
                    <a:pt x="185" y="62"/>
                  </a:lnTo>
                  <a:lnTo>
                    <a:pt x="179" y="52"/>
                  </a:lnTo>
                  <a:lnTo>
                    <a:pt x="175" y="47"/>
                  </a:lnTo>
                  <a:lnTo>
                    <a:pt x="171" y="43"/>
                  </a:lnTo>
                  <a:lnTo>
                    <a:pt x="164" y="37"/>
                  </a:lnTo>
                  <a:lnTo>
                    <a:pt x="158" y="36"/>
                  </a:lnTo>
                  <a:lnTo>
                    <a:pt x="147" y="32"/>
                  </a:lnTo>
                  <a:lnTo>
                    <a:pt x="134" y="33"/>
                  </a:lnTo>
                  <a:lnTo>
                    <a:pt x="119" y="36"/>
                  </a:lnTo>
                  <a:lnTo>
                    <a:pt x="101" y="43"/>
                  </a:lnTo>
                  <a:lnTo>
                    <a:pt x="81" y="50"/>
                  </a:lnTo>
                  <a:lnTo>
                    <a:pt x="57" y="65"/>
                  </a:lnTo>
                  <a:lnTo>
                    <a:pt x="29" y="81"/>
                  </a:lnTo>
                  <a:lnTo>
                    <a:pt x="0" y="105"/>
                  </a:lnTo>
                  <a:lnTo>
                    <a:pt x="1"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01" name=""/>
          <p:cNvGrpSpPr/>
          <p:nvPr/>
        </p:nvGrpSpPr>
        <p:grpSpPr>
          <a:xfrm>
            <a:off x="4114800" y="3352680"/>
            <a:ext cx="868320" cy="1108080"/>
            <a:chOff x="4114800" y="3352680"/>
            <a:chExt cx="868320" cy="1108080"/>
          </a:xfrm>
        </p:grpSpPr>
        <p:sp>
          <p:nvSpPr>
            <p:cNvPr id="102" name=""/>
            <p:cNvSpPr/>
            <p:nvPr/>
          </p:nvSpPr>
          <p:spPr>
            <a:xfrm>
              <a:off x="4402080" y="3762720"/>
              <a:ext cx="317880" cy="128160"/>
            </a:xfrm>
            <a:custGeom>
              <a:avLst/>
              <a:gdLst/>
              <a:ahLst/>
              <a:rect l="l" t="t" r="r" b="b"/>
              <a:pathLst>
                <a:path w="436" h="182">
                  <a:moveTo>
                    <a:pt x="120" y="0"/>
                  </a:moveTo>
                  <a:lnTo>
                    <a:pt x="273" y="14"/>
                  </a:lnTo>
                  <a:lnTo>
                    <a:pt x="436" y="159"/>
                  </a:lnTo>
                  <a:lnTo>
                    <a:pt x="0" y="182"/>
                  </a:lnTo>
                  <a:lnTo>
                    <a:pt x="120" y="0"/>
                  </a:lnTo>
                  <a:lnTo>
                    <a:pt x="1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154040" y="3425040"/>
              <a:ext cx="367560" cy="512280"/>
            </a:xfrm>
            <a:custGeom>
              <a:avLst/>
              <a:gdLst/>
              <a:ahLst/>
              <a:rect l="l" t="t" r="r" b="b"/>
              <a:pathLst>
                <a:path w="505" h="732">
                  <a:moveTo>
                    <a:pt x="373" y="0"/>
                  </a:moveTo>
                  <a:lnTo>
                    <a:pt x="505" y="83"/>
                  </a:lnTo>
                  <a:lnTo>
                    <a:pt x="99" y="732"/>
                  </a:lnTo>
                  <a:lnTo>
                    <a:pt x="0" y="613"/>
                  </a:lnTo>
                  <a:lnTo>
                    <a:pt x="306" y="34"/>
                  </a:lnTo>
                  <a:lnTo>
                    <a:pt x="373" y="0"/>
                  </a:lnTo>
                  <a:lnTo>
                    <a:pt x="373" y="0"/>
                  </a:lnTo>
                  <a:close/>
                </a:path>
              </a:pathLst>
            </a:custGeom>
            <a:solidFill>
              <a:srgbClr val="5ab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572720" y="3514320"/>
              <a:ext cx="248040" cy="345960"/>
            </a:xfrm>
            <a:custGeom>
              <a:avLst/>
              <a:gdLst/>
              <a:ahLst/>
              <a:rect l="l" t="t" r="r" b="b"/>
              <a:pathLst>
                <a:path w="340" h="495">
                  <a:moveTo>
                    <a:pt x="0" y="375"/>
                  </a:moveTo>
                  <a:lnTo>
                    <a:pt x="161" y="495"/>
                  </a:lnTo>
                  <a:lnTo>
                    <a:pt x="340" y="59"/>
                  </a:lnTo>
                  <a:lnTo>
                    <a:pt x="157" y="0"/>
                  </a:lnTo>
                  <a:lnTo>
                    <a:pt x="0" y="375"/>
                  </a:lnTo>
                  <a:lnTo>
                    <a:pt x="0" y="375"/>
                  </a:lnTo>
                  <a:close/>
                </a:path>
              </a:pathLst>
            </a:custGeom>
            <a:solidFill>
              <a:srgbClr val="21a6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124880" y="3866040"/>
              <a:ext cx="174960" cy="154440"/>
            </a:xfrm>
            <a:custGeom>
              <a:avLst/>
              <a:gdLst/>
              <a:ahLst/>
              <a:rect l="l" t="t" r="r" b="b"/>
              <a:pathLst>
                <a:path w="242" h="221">
                  <a:moveTo>
                    <a:pt x="7" y="0"/>
                  </a:moveTo>
                  <a:lnTo>
                    <a:pt x="188" y="15"/>
                  </a:lnTo>
                  <a:lnTo>
                    <a:pt x="242" y="221"/>
                  </a:lnTo>
                  <a:lnTo>
                    <a:pt x="0" y="144"/>
                  </a:lnTo>
                  <a:lnTo>
                    <a:pt x="7" y="0"/>
                  </a:lnTo>
                  <a:lnTo>
                    <a:pt x="7" y="0"/>
                  </a:lnTo>
                  <a:close/>
                </a:path>
              </a:pathLst>
            </a:custGeom>
            <a:solidFill>
              <a:srgbClr val="664d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426560" y="3984480"/>
              <a:ext cx="253800" cy="414360"/>
            </a:xfrm>
            <a:custGeom>
              <a:avLst/>
              <a:gdLst/>
              <a:ahLst/>
              <a:rect l="l" t="t" r="r" b="b"/>
              <a:pathLst>
                <a:path w="350" h="594">
                  <a:moveTo>
                    <a:pt x="118" y="25"/>
                  </a:moveTo>
                  <a:lnTo>
                    <a:pt x="350" y="0"/>
                  </a:lnTo>
                  <a:lnTo>
                    <a:pt x="194" y="594"/>
                  </a:lnTo>
                  <a:lnTo>
                    <a:pt x="0" y="437"/>
                  </a:lnTo>
                  <a:lnTo>
                    <a:pt x="118" y="25"/>
                  </a:lnTo>
                  <a:lnTo>
                    <a:pt x="118" y="25"/>
                  </a:lnTo>
                  <a:close/>
                </a:path>
              </a:pathLst>
            </a:custGeom>
            <a:solidFill>
              <a:srgbClr val="664d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249080" y="3431880"/>
              <a:ext cx="713160" cy="1013400"/>
            </a:xfrm>
            <a:custGeom>
              <a:avLst/>
              <a:gdLst/>
              <a:ahLst/>
              <a:rect l="l" t="t" r="r" b="b"/>
              <a:pathLst>
                <a:path w="979" h="1453">
                  <a:moveTo>
                    <a:pt x="365" y="62"/>
                  </a:moveTo>
                  <a:lnTo>
                    <a:pt x="0" y="637"/>
                  </a:lnTo>
                  <a:lnTo>
                    <a:pt x="58" y="849"/>
                  </a:lnTo>
                  <a:lnTo>
                    <a:pt x="542" y="776"/>
                  </a:lnTo>
                  <a:lnTo>
                    <a:pt x="369" y="1373"/>
                  </a:lnTo>
                  <a:lnTo>
                    <a:pt x="418" y="1453"/>
                  </a:lnTo>
                  <a:lnTo>
                    <a:pt x="743" y="1426"/>
                  </a:lnTo>
                  <a:lnTo>
                    <a:pt x="743" y="1309"/>
                  </a:lnTo>
                  <a:lnTo>
                    <a:pt x="771" y="907"/>
                  </a:lnTo>
                  <a:lnTo>
                    <a:pt x="813" y="654"/>
                  </a:lnTo>
                  <a:lnTo>
                    <a:pt x="872" y="443"/>
                  </a:lnTo>
                  <a:lnTo>
                    <a:pt x="979" y="173"/>
                  </a:lnTo>
                  <a:lnTo>
                    <a:pt x="965" y="144"/>
                  </a:lnTo>
                  <a:lnTo>
                    <a:pt x="730" y="216"/>
                  </a:lnTo>
                  <a:lnTo>
                    <a:pt x="584" y="600"/>
                  </a:lnTo>
                  <a:lnTo>
                    <a:pt x="274" y="593"/>
                  </a:lnTo>
                  <a:lnTo>
                    <a:pt x="568" y="28"/>
                  </a:lnTo>
                  <a:lnTo>
                    <a:pt x="508" y="0"/>
                  </a:lnTo>
                  <a:lnTo>
                    <a:pt x="365" y="62"/>
                  </a:lnTo>
                  <a:lnTo>
                    <a:pt x="365" y="6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686480" y="3443400"/>
              <a:ext cx="284400" cy="143640"/>
            </a:xfrm>
            <a:custGeom>
              <a:avLst/>
              <a:gdLst/>
              <a:ahLst/>
              <a:rect l="l" t="t" r="r" b="b"/>
              <a:pathLst>
                <a:path w="389" h="206">
                  <a:moveTo>
                    <a:pt x="129" y="206"/>
                  </a:moveTo>
                  <a:lnTo>
                    <a:pt x="389" y="162"/>
                  </a:lnTo>
                  <a:lnTo>
                    <a:pt x="208" y="0"/>
                  </a:lnTo>
                  <a:lnTo>
                    <a:pt x="0" y="103"/>
                  </a:lnTo>
                  <a:lnTo>
                    <a:pt x="129" y="206"/>
                  </a:lnTo>
                  <a:lnTo>
                    <a:pt x="129" y="2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331880" y="3367800"/>
              <a:ext cx="336960" cy="127080"/>
            </a:xfrm>
            <a:custGeom>
              <a:avLst/>
              <a:gdLst/>
              <a:ahLst/>
              <a:rect l="l" t="t" r="r" b="b"/>
              <a:pathLst>
                <a:path w="463" h="184">
                  <a:moveTo>
                    <a:pt x="156" y="121"/>
                  </a:moveTo>
                  <a:lnTo>
                    <a:pt x="233" y="184"/>
                  </a:lnTo>
                  <a:lnTo>
                    <a:pt x="463" y="132"/>
                  </a:lnTo>
                  <a:lnTo>
                    <a:pt x="314" y="0"/>
                  </a:lnTo>
                  <a:lnTo>
                    <a:pt x="0" y="11"/>
                  </a:lnTo>
                  <a:lnTo>
                    <a:pt x="156" y="121"/>
                  </a:lnTo>
                  <a:lnTo>
                    <a:pt x="156"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114800" y="3352680"/>
              <a:ext cx="868320" cy="1108080"/>
            </a:xfrm>
            <a:custGeom>
              <a:avLst/>
              <a:gdLst/>
              <a:ahLst/>
              <a:rect l="l" t="t" r="r" b="b"/>
              <a:pathLst>
                <a:path w="1189" h="1588">
                  <a:moveTo>
                    <a:pt x="728" y="889"/>
                  </a:moveTo>
                  <a:lnTo>
                    <a:pt x="233" y="939"/>
                  </a:lnTo>
                  <a:lnTo>
                    <a:pt x="37" y="871"/>
                  </a:lnTo>
                  <a:lnTo>
                    <a:pt x="40" y="742"/>
                  </a:lnTo>
                  <a:lnTo>
                    <a:pt x="126" y="749"/>
                  </a:lnTo>
                  <a:lnTo>
                    <a:pt x="114" y="686"/>
                  </a:lnTo>
                  <a:lnTo>
                    <a:pt x="177" y="676"/>
                  </a:lnTo>
                  <a:lnTo>
                    <a:pt x="152" y="612"/>
                  </a:lnTo>
                  <a:lnTo>
                    <a:pt x="225" y="590"/>
                  </a:lnTo>
                  <a:lnTo>
                    <a:pt x="197" y="531"/>
                  </a:lnTo>
                  <a:lnTo>
                    <a:pt x="277" y="513"/>
                  </a:lnTo>
                  <a:lnTo>
                    <a:pt x="247" y="453"/>
                  </a:lnTo>
                  <a:lnTo>
                    <a:pt x="319" y="439"/>
                  </a:lnTo>
                  <a:lnTo>
                    <a:pt x="287" y="366"/>
                  </a:lnTo>
                  <a:lnTo>
                    <a:pt x="359" y="366"/>
                  </a:lnTo>
                  <a:lnTo>
                    <a:pt x="336" y="292"/>
                  </a:lnTo>
                  <a:lnTo>
                    <a:pt x="403" y="273"/>
                  </a:lnTo>
                  <a:lnTo>
                    <a:pt x="381" y="196"/>
                  </a:lnTo>
                  <a:lnTo>
                    <a:pt x="461" y="150"/>
                  </a:lnTo>
                  <a:lnTo>
                    <a:pt x="343" y="47"/>
                  </a:lnTo>
                  <a:lnTo>
                    <a:pt x="607" y="40"/>
                  </a:lnTo>
                  <a:lnTo>
                    <a:pt x="731" y="161"/>
                  </a:lnTo>
                  <a:lnTo>
                    <a:pt x="452" y="709"/>
                  </a:lnTo>
                  <a:lnTo>
                    <a:pt x="489" y="709"/>
                  </a:lnTo>
                  <a:lnTo>
                    <a:pt x="543" y="609"/>
                  </a:lnTo>
                  <a:lnTo>
                    <a:pt x="629" y="609"/>
                  </a:lnTo>
                  <a:lnTo>
                    <a:pt x="777" y="269"/>
                  </a:lnTo>
                  <a:lnTo>
                    <a:pt x="909" y="336"/>
                  </a:lnTo>
                  <a:lnTo>
                    <a:pt x="940" y="331"/>
                  </a:lnTo>
                  <a:lnTo>
                    <a:pt x="810" y="237"/>
                  </a:lnTo>
                  <a:lnTo>
                    <a:pt x="998" y="152"/>
                  </a:lnTo>
                  <a:lnTo>
                    <a:pt x="1150" y="296"/>
                  </a:lnTo>
                  <a:lnTo>
                    <a:pt x="1146" y="302"/>
                  </a:lnTo>
                  <a:lnTo>
                    <a:pt x="1138" y="321"/>
                  </a:lnTo>
                  <a:lnTo>
                    <a:pt x="1124" y="350"/>
                  </a:lnTo>
                  <a:lnTo>
                    <a:pt x="1106" y="390"/>
                  </a:lnTo>
                  <a:lnTo>
                    <a:pt x="1086" y="439"/>
                  </a:lnTo>
                  <a:lnTo>
                    <a:pt x="1062" y="501"/>
                  </a:lnTo>
                  <a:lnTo>
                    <a:pt x="1039" y="571"/>
                  </a:lnTo>
                  <a:lnTo>
                    <a:pt x="1016" y="650"/>
                  </a:lnTo>
                  <a:lnTo>
                    <a:pt x="991" y="735"/>
                  </a:lnTo>
                  <a:lnTo>
                    <a:pt x="969" y="828"/>
                  </a:lnTo>
                  <a:lnTo>
                    <a:pt x="949" y="929"/>
                  </a:lnTo>
                  <a:lnTo>
                    <a:pt x="934" y="1035"/>
                  </a:lnTo>
                  <a:lnTo>
                    <a:pt x="920" y="1147"/>
                  </a:lnTo>
                  <a:lnTo>
                    <a:pt x="912" y="1266"/>
                  </a:lnTo>
                  <a:lnTo>
                    <a:pt x="909" y="1388"/>
                  </a:lnTo>
                  <a:lnTo>
                    <a:pt x="913" y="1514"/>
                  </a:lnTo>
                  <a:lnTo>
                    <a:pt x="622" y="1517"/>
                  </a:lnTo>
                  <a:lnTo>
                    <a:pt x="657" y="1588"/>
                  </a:lnTo>
                  <a:lnTo>
                    <a:pt x="940" y="1588"/>
                  </a:lnTo>
                  <a:lnTo>
                    <a:pt x="940" y="1578"/>
                  </a:lnTo>
                  <a:lnTo>
                    <a:pt x="940" y="1551"/>
                  </a:lnTo>
                  <a:lnTo>
                    <a:pt x="940" y="1506"/>
                  </a:lnTo>
                  <a:lnTo>
                    <a:pt x="940" y="1447"/>
                  </a:lnTo>
                  <a:lnTo>
                    <a:pt x="942" y="1374"/>
                  </a:lnTo>
                  <a:lnTo>
                    <a:pt x="946" y="1293"/>
                  </a:lnTo>
                  <a:lnTo>
                    <a:pt x="951" y="1203"/>
                  </a:lnTo>
                  <a:lnTo>
                    <a:pt x="962" y="1104"/>
                  </a:lnTo>
                  <a:lnTo>
                    <a:pt x="973" y="1000"/>
                  </a:lnTo>
                  <a:lnTo>
                    <a:pt x="988" y="893"/>
                  </a:lnTo>
                  <a:lnTo>
                    <a:pt x="1008" y="785"/>
                  </a:lnTo>
                  <a:lnTo>
                    <a:pt x="1034" y="678"/>
                  </a:lnTo>
                  <a:lnTo>
                    <a:pt x="1061" y="572"/>
                  </a:lnTo>
                  <a:lnTo>
                    <a:pt x="1098" y="471"/>
                  </a:lnTo>
                  <a:lnTo>
                    <a:pt x="1139" y="375"/>
                  </a:lnTo>
                  <a:lnTo>
                    <a:pt x="1189" y="290"/>
                  </a:lnTo>
                  <a:lnTo>
                    <a:pt x="1005" y="102"/>
                  </a:lnTo>
                  <a:lnTo>
                    <a:pt x="766" y="226"/>
                  </a:lnTo>
                  <a:lnTo>
                    <a:pt x="616" y="593"/>
                  </a:lnTo>
                  <a:lnTo>
                    <a:pt x="547" y="583"/>
                  </a:lnTo>
                  <a:lnTo>
                    <a:pt x="777" y="147"/>
                  </a:lnTo>
                  <a:lnTo>
                    <a:pt x="629" y="0"/>
                  </a:lnTo>
                  <a:lnTo>
                    <a:pt x="284" y="22"/>
                  </a:lnTo>
                  <a:lnTo>
                    <a:pt x="282" y="26"/>
                  </a:lnTo>
                  <a:lnTo>
                    <a:pt x="280" y="41"/>
                  </a:lnTo>
                  <a:lnTo>
                    <a:pt x="274" y="66"/>
                  </a:lnTo>
                  <a:lnTo>
                    <a:pt x="269" y="98"/>
                  </a:lnTo>
                  <a:lnTo>
                    <a:pt x="260" y="136"/>
                  </a:lnTo>
                  <a:lnTo>
                    <a:pt x="251" y="180"/>
                  </a:lnTo>
                  <a:lnTo>
                    <a:pt x="237" y="231"/>
                  </a:lnTo>
                  <a:lnTo>
                    <a:pt x="223" y="285"/>
                  </a:lnTo>
                  <a:lnTo>
                    <a:pt x="204" y="340"/>
                  </a:lnTo>
                  <a:lnTo>
                    <a:pt x="184" y="399"/>
                  </a:lnTo>
                  <a:lnTo>
                    <a:pt x="160" y="458"/>
                  </a:lnTo>
                  <a:lnTo>
                    <a:pt x="134" y="517"/>
                  </a:lnTo>
                  <a:lnTo>
                    <a:pt x="104" y="575"/>
                  </a:lnTo>
                  <a:lnTo>
                    <a:pt x="74" y="631"/>
                  </a:lnTo>
                  <a:lnTo>
                    <a:pt x="38" y="683"/>
                  </a:lnTo>
                  <a:lnTo>
                    <a:pt x="0" y="732"/>
                  </a:lnTo>
                  <a:lnTo>
                    <a:pt x="0" y="896"/>
                  </a:lnTo>
                  <a:lnTo>
                    <a:pt x="223" y="992"/>
                  </a:lnTo>
                  <a:lnTo>
                    <a:pt x="717" y="926"/>
                  </a:lnTo>
                  <a:lnTo>
                    <a:pt x="728" y="889"/>
                  </a:lnTo>
                  <a:lnTo>
                    <a:pt x="728" y="8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 name=""/>
          <p:cNvSpPr txBox="1"/>
          <p:nvPr/>
        </p:nvSpPr>
        <p:spPr>
          <a:xfrm>
            <a:off x="3048120" y="3886200"/>
            <a:ext cx="68580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9080">
                  <a:solidFill>
                    <a:srgbClr val="99ccff"/>
                  </a:solidFill>
                  <a:miter/>
                </a:ln>
                <a:solidFill>
                  <a:srgbClr val="0066cc"/>
                </a:solidFill>
                <a:effectLst>
                  <a:outerShdw dist="17819" dir="2700000" blurRad="0" rotWithShape="0">
                    <a:srgbClr val="990000"/>
                  </a:outerShdw>
                </a:effectLst>
                <a:latin typeface="Comic Sans MS"/>
              </a:rPr>
              <a:t>-</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Comic Sans MS"/>
              <a:ea typeface="Comic Sans MS"/>
            </a:endParaRPr>
          </a:p>
        </p:txBody>
      </p:sp>
      <p:sp>
        <p:nvSpPr>
          <p:cNvPr id="112" name=""/>
          <p:cNvSpPr txBox="1"/>
          <p:nvPr/>
        </p:nvSpPr>
        <p:spPr>
          <a:xfrm>
            <a:off x="5334120" y="3657600"/>
            <a:ext cx="68580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9080">
                  <a:solidFill>
                    <a:srgbClr val="99ccff"/>
                  </a:solidFill>
                  <a:miter/>
                </a:ln>
                <a:solidFill>
                  <a:srgbClr val="0066cc"/>
                </a:solidFill>
                <a:effectLst>
                  <a:outerShdw dist="17819" dir="2700000" blurRad="0" rotWithShape="0">
                    <a:srgbClr val="990000"/>
                  </a:outerShdw>
                </a:effectLst>
                <a:latin typeface="Comic Sans MS"/>
              </a:rPr>
              <a:t>-</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Comic Sans MS"/>
              <a:ea typeface="Comic Sans MS"/>
            </a:endParaRPr>
          </a:p>
        </p:txBody>
      </p:sp>
      <p:sp>
        <p:nvSpPr>
          <p:cNvPr id="113" name=""/>
          <p:cNvSpPr txBox="1"/>
          <p:nvPr/>
        </p:nvSpPr>
        <p:spPr>
          <a:xfrm>
            <a:off x="5334120" y="3962520"/>
            <a:ext cx="68580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9080">
                  <a:solidFill>
                    <a:srgbClr val="99ccff"/>
                  </a:solidFill>
                  <a:miter/>
                </a:ln>
                <a:solidFill>
                  <a:srgbClr val="0066cc"/>
                </a:solidFill>
                <a:effectLst>
                  <a:outerShdw dist="17819" dir="2700000" blurRad="0" rotWithShape="0">
                    <a:srgbClr val="990000"/>
                  </a:outerShdw>
                </a:effectLst>
                <a:latin typeface="Comic Sans MS"/>
              </a:rPr>
              <a:t>-</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Comic Sans MS"/>
              <a:ea typeface="Comic Sans MS"/>
            </a:endParaRPr>
          </a:p>
        </p:txBody>
      </p:sp>
      <p:sp>
        <p:nvSpPr>
          <p:cNvPr id="114" name=""/>
          <p:cNvSpPr txBox="1"/>
          <p:nvPr/>
        </p:nvSpPr>
        <p:spPr>
          <a:xfrm>
            <a:off x="1905120" y="4800600"/>
            <a:ext cx="5381640" cy="1503360"/>
          </a:xfrm>
          <a:prstGeom prst="rect">
            <a:avLst/>
          </a:prstGeom>
        </p:spPr>
        <p:txBody>
          <a:bodyPr wrap="none" lIns="90000" rIns="90000" tIns="46800" bIns="46800" anchor="t" anchorCtr="1">
            <a:prstTxWarp prst="textDeflateTop">
              <a:avLst>
                <a:gd name="adj" fmla="val 325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Comic Sans MS"/>
              </a:rPr>
              <a:t>Integers</a:t>
            </a:r>
            <a:endParaRPr b="1" lang="en-US" sz="60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Comic Sans MS"/>
              <a:ea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337" name=""/>
          <p:cNvSpPr/>
          <p:nvPr/>
        </p:nvSpPr>
        <p:spPr>
          <a:xfrm>
            <a:off x="685800" y="1752480"/>
            <a:ext cx="7540560" cy="44064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38" name=""/>
          <p:cNvSpPr/>
          <p:nvPr/>
        </p:nvSpPr>
        <p:spPr>
          <a:xfrm>
            <a:off x="5486400" y="1600200"/>
            <a:ext cx="2895480" cy="3934440"/>
          </a:xfrm>
          <a:prstGeom prst="rect">
            <a:avLst/>
          </a:prstGeom>
          <a:solidFill>
            <a:srgbClr val="99ccff"/>
          </a:solidFill>
          <a:ln w="38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at’s the difference between the $13 I have and the $25 I need?</a:t>
            </a:r>
            <a:endParaRPr b="0" lang="en-US" sz="3600" spc="-1" strike="noStrike">
              <a:solidFill>
                <a:srgbClr val="000000"/>
              </a:solidFill>
              <a:latin typeface="Times New Roman"/>
            </a:endParaRPr>
          </a:p>
        </p:txBody>
      </p:sp>
      <p:sp>
        <p:nvSpPr>
          <p:cNvPr id="339" name=""/>
          <p:cNvSpPr/>
          <p:nvPr/>
        </p:nvSpPr>
        <p:spPr>
          <a:xfrm>
            <a:off x="916560" y="1600200"/>
            <a:ext cx="3893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Night out   $25</a:t>
            </a:r>
            <a:endParaRPr b="0" lang="en-US" sz="4000" spc="-1" strike="noStrike">
              <a:solidFill>
                <a:srgbClr val="000000"/>
              </a:solidFill>
              <a:latin typeface="Times New Roman"/>
            </a:endParaRPr>
          </a:p>
        </p:txBody>
      </p:sp>
      <p:sp>
        <p:nvSpPr>
          <p:cNvPr id="340" name=""/>
          <p:cNvSpPr/>
          <p:nvPr/>
        </p:nvSpPr>
        <p:spPr>
          <a:xfrm>
            <a:off x="1120320" y="2514600"/>
            <a:ext cx="3404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 have      $13</a:t>
            </a:r>
            <a:endParaRPr b="0" lang="en-US" sz="4000" spc="-1" strike="noStrike">
              <a:solidFill>
                <a:srgbClr val="000000"/>
              </a:solidFill>
              <a:latin typeface="Times New Roman"/>
            </a:endParaRPr>
          </a:p>
        </p:txBody>
      </p:sp>
      <p:sp>
        <p:nvSpPr>
          <p:cNvPr id="341" name=""/>
          <p:cNvSpPr/>
          <p:nvPr/>
        </p:nvSpPr>
        <p:spPr>
          <a:xfrm>
            <a:off x="868680" y="3352680"/>
            <a:ext cx="1181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o...</a:t>
            </a:r>
            <a:endParaRPr b="0" lang="en-US" sz="4000" spc="-1" strike="noStrike">
              <a:solidFill>
                <a:srgbClr val="000000"/>
              </a:solidFill>
              <a:latin typeface="Times New Roman"/>
            </a:endParaRPr>
          </a:p>
        </p:txBody>
      </p:sp>
      <p:sp>
        <p:nvSpPr>
          <p:cNvPr id="342" name=""/>
          <p:cNvSpPr/>
          <p:nvPr/>
        </p:nvSpPr>
        <p:spPr>
          <a:xfrm>
            <a:off x="1100880" y="4419720"/>
            <a:ext cx="376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5 - $13 = </a:t>
            </a:r>
            <a:r>
              <a:rPr b="1" lang="en-US" sz="4000" spc="-1" strike="noStrike">
                <a:solidFill>
                  <a:srgbClr val="3333cc"/>
                </a:solidFill>
                <a:latin typeface="Comic Sans MS"/>
              </a:rPr>
              <a:t>$12</a:t>
            </a:r>
            <a:endParaRPr b="0" lang="en-US" sz="4000" spc="-1" strike="noStrike">
              <a:solidFill>
                <a:srgbClr val="000000"/>
              </a:solidFill>
              <a:latin typeface="Times New Roman"/>
            </a:endParaRPr>
          </a:p>
        </p:txBody>
      </p:sp>
      <p:sp>
        <p:nvSpPr>
          <p:cNvPr id="343"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344" name=""/>
          <p:cNvSpPr/>
          <p:nvPr/>
        </p:nvSpPr>
        <p:spPr>
          <a:xfrm>
            <a:off x="685800" y="251460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dd the +</a:t>
            </a:r>
            <a:r>
              <a:rPr b="1" lang="en-US" sz="3600" spc="-1" strike="noStrike">
                <a:solidFill>
                  <a:srgbClr val="3333cc"/>
                </a:solidFill>
                <a:latin typeface="Comic Sans MS"/>
              </a:rPr>
              <a:t>$13</a:t>
            </a:r>
            <a:r>
              <a:rPr b="1" lang="en-US" sz="3600" spc="-1" strike="noStrike">
                <a:solidFill>
                  <a:srgbClr val="000000"/>
                </a:solidFill>
                <a:latin typeface="Comic Sans MS"/>
              </a:rPr>
              <a:t> to the </a:t>
            </a:r>
            <a:r>
              <a:rPr b="1" lang="en-US" sz="3600" spc="-1" strike="noStrike">
                <a:solidFill>
                  <a:srgbClr val="6600cc"/>
                </a:solidFill>
                <a:latin typeface="Comic Sans MS"/>
              </a:rPr>
              <a:t>-$25</a:t>
            </a:r>
            <a:endParaRPr b="0" lang="en-US" sz="3600" spc="-1" strike="noStrike">
              <a:solidFill>
                <a:srgbClr val="000000"/>
              </a:solidFill>
              <a:latin typeface="Times New Roman"/>
            </a:endParaRPr>
          </a:p>
        </p:txBody>
      </p:sp>
      <p:grpSp>
        <p:nvGrpSpPr>
          <p:cNvPr id="345" name=""/>
          <p:cNvGrpSpPr/>
          <p:nvPr/>
        </p:nvGrpSpPr>
        <p:grpSpPr>
          <a:xfrm>
            <a:off x="762120" y="5253120"/>
            <a:ext cx="7467120" cy="609480"/>
            <a:chOff x="762120" y="5253120"/>
            <a:chExt cx="7467120" cy="609480"/>
          </a:xfrm>
        </p:grpSpPr>
        <p:sp>
          <p:nvSpPr>
            <p:cNvPr id="346" name=""/>
            <p:cNvSpPr/>
            <p:nvPr/>
          </p:nvSpPr>
          <p:spPr>
            <a:xfrm>
              <a:off x="762120" y="5558040"/>
              <a:ext cx="7467120" cy="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562360" y="525312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522480" y="525312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482240" y="525312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615680" y="525312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575800" y="525312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642120" y="525312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602240" y="5405400"/>
              <a:ext cx="0" cy="381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a:off x="4427280" y="5867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0</a:t>
            </a:r>
            <a:endParaRPr b="0" lang="en-US" sz="2400" spc="-1" strike="noStrike">
              <a:solidFill>
                <a:srgbClr val="000000"/>
              </a:solidFill>
              <a:latin typeface="Times New Roman"/>
            </a:endParaRPr>
          </a:p>
        </p:txBody>
      </p:sp>
      <p:sp>
        <p:nvSpPr>
          <p:cNvPr id="355" name=""/>
          <p:cNvSpPr/>
          <p:nvPr/>
        </p:nvSpPr>
        <p:spPr>
          <a:xfrm>
            <a:off x="5315760" y="586728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a:t>
            </a:r>
            <a:endParaRPr b="0" lang="en-US" sz="2400" spc="-1" strike="noStrike">
              <a:solidFill>
                <a:srgbClr val="000000"/>
              </a:solidFill>
              <a:latin typeface="Times New Roman"/>
            </a:endParaRPr>
          </a:p>
        </p:txBody>
      </p:sp>
      <p:sp>
        <p:nvSpPr>
          <p:cNvPr id="356" name=""/>
          <p:cNvSpPr/>
          <p:nvPr/>
        </p:nvSpPr>
        <p:spPr>
          <a:xfrm>
            <a:off x="6230160" y="586728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0</a:t>
            </a:r>
            <a:endParaRPr b="0" lang="en-US" sz="2400" spc="-1" strike="noStrike">
              <a:solidFill>
                <a:srgbClr val="000000"/>
              </a:solidFill>
              <a:latin typeface="Times New Roman"/>
            </a:endParaRPr>
          </a:p>
        </p:txBody>
      </p:sp>
      <p:sp>
        <p:nvSpPr>
          <p:cNvPr id="357" name=""/>
          <p:cNvSpPr/>
          <p:nvPr/>
        </p:nvSpPr>
        <p:spPr>
          <a:xfrm>
            <a:off x="7220880" y="586728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0</a:t>
            </a:r>
            <a:endParaRPr b="0" lang="en-US" sz="2400" spc="-1" strike="noStrike">
              <a:solidFill>
                <a:srgbClr val="000000"/>
              </a:solidFill>
              <a:latin typeface="Times New Roman"/>
            </a:endParaRPr>
          </a:p>
        </p:txBody>
      </p:sp>
      <p:sp>
        <p:nvSpPr>
          <p:cNvPr id="358" name=""/>
          <p:cNvSpPr/>
          <p:nvPr/>
        </p:nvSpPr>
        <p:spPr>
          <a:xfrm>
            <a:off x="3258000" y="5867280"/>
            <a:ext cx="6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a:t>
            </a:r>
            <a:endParaRPr b="0" lang="en-US" sz="2400" spc="-1" strike="noStrike">
              <a:solidFill>
                <a:srgbClr val="000000"/>
              </a:solidFill>
              <a:latin typeface="Times New Roman"/>
            </a:endParaRPr>
          </a:p>
        </p:txBody>
      </p:sp>
      <p:sp>
        <p:nvSpPr>
          <p:cNvPr id="359" name=""/>
          <p:cNvSpPr/>
          <p:nvPr/>
        </p:nvSpPr>
        <p:spPr>
          <a:xfrm>
            <a:off x="2191320" y="5867280"/>
            <a:ext cx="6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0</a:t>
            </a:r>
            <a:endParaRPr b="0" lang="en-US" sz="2400" spc="-1" strike="noStrike">
              <a:solidFill>
                <a:srgbClr val="000000"/>
              </a:solidFill>
              <a:latin typeface="Times New Roman"/>
            </a:endParaRPr>
          </a:p>
        </p:txBody>
      </p:sp>
      <p:sp>
        <p:nvSpPr>
          <p:cNvPr id="360" name=""/>
          <p:cNvSpPr/>
          <p:nvPr/>
        </p:nvSpPr>
        <p:spPr>
          <a:xfrm>
            <a:off x="1200600" y="5867280"/>
            <a:ext cx="6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0</a:t>
            </a:r>
            <a:endParaRPr b="0" lang="en-US" sz="2400" spc="-1" strike="noStrike">
              <a:solidFill>
                <a:srgbClr val="000000"/>
              </a:solidFill>
              <a:latin typeface="Times New Roman"/>
            </a:endParaRPr>
          </a:p>
        </p:txBody>
      </p:sp>
      <p:grpSp>
        <p:nvGrpSpPr>
          <p:cNvPr id="361" name=""/>
          <p:cNvGrpSpPr/>
          <p:nvPr/>
        </p:nvGrpSpPr>
        <p:grpSpPr>
          <a:xfrm>
            <a:off x="801720" y="1219320"/>
            <a:ext cx="5861160" cy="703440"/>
            <a:chOff x="801720" y="1219320"/>
            <a:chExt cx="5861160" cy="703440"/>
          </a:xfrm>
        </p:grpSpPr>
        <p:sp>
          <p:nvSpPr>
            <p:cNvPr id="362" name=""/>
            <p:cNvSpPr/>
            <p:nvPr/>
          </p:nvSpPr>
          <p:spPr>
            <a:xfrm>
              <a:off x="801720" y="1266840"/>
              <a:ext cx="3690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 will spend </a:t>
              </a:r>
              <a:r>
                <a:rPr b="1" lang="en-US" sz="3600" spc="-1" strike="noStrike">
                  <a:solidFill>
                    <a:srgbClr val="6600cc"/>
                  </a:solidFill>
                  <a:latin typeface="Comic Sans MS"/>
                </a:rPr>
                <a:t>$25</a:t>
              </a:r>
              <a:endParaRPr b="0" lang="en-US" sz="3600" spc="-1" strike="noStrike">
                <a:solidFill>
                  <a:srgbClr val="000000"/>
                </a:solidFill>
                <a:latin typeface="Times New Roman"/>
              </a:endParaRPr>
            </a:p>
          </p:txBody>
        </p:sp>
        <p:sp>
          <p:nvSpPr>
            <p:cNvPr id="363" name=""/>
            <p:cNvSpPr/>
            <p:nvPr/>
          </p:nvSpPr>
          <p:spPr>
            <a:xfrm>
              <a:off x="4973400" y="1219320"/>
              <a:ext cx="1689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25)</a:t>
              </a:r>
              <a:endParaRPr b="0" lang="en-US" sz="4000" spc="-1" strike="noStrike">
                <a:solidFill>
                  <a:srgbClr val="000000"/>
                </a:solidFill>
                <a:latin typeface="Times New Roman"/>
              </a:endParaRPr>
            </a:p>
          </p:txBody>
        </p:sp>
      </p:grpSp>
      <p:sp>
        <p:nvSpPr>
          <p:cNvPr id="364" name=""/>
          <p:cNvSpPr/>
          <p:nvPr/>
        </p:nvSpPr>
        <p:spPr>
          <a:xfrm flipH="1">
            <a:off x="3428640" y="4800600"/>
            <a:ext cx="11430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 name=""/>
          <p:cNvGrpSpPr/>
          <p:nvPr/>
        </p:nvGrpSpPr>
        <p:grpSpPr>
          <a:xfrm>
            <a:off x="2093400" y="3276720"/>
            <a:ext cx="4575960" cy="642600"/>
            <a:chOff x="2093400" y="3276720"/>
            <a:chExt cx="4575960" cy="642600"/>
          </a:xfrm>
        </p:grpSpPr>
        <p:sp>
          <p:nvSpPr>
            <p:cNvPr id="366" name=""/>
            <p:cNvSpPr/>
            <p:nvPr/>
          </p:nvSpPr>
          <p:spPr>
            <a:xfrm>
              <a:off x="3856680" y="327672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omic Sans MS"/>
                </a:rPr>
                <a:t>$13</a:t>
              </a:r>
              <a:endParaRPr b="0" lang="en-US" sz="3600" spc="-1" strike="noStrike">
                <a:solidFill>
                  <a:srgbClr val="000000"/>
                </a:solidFill>
                <a:latin typeface="Times New Roman"/>
              </a:endParaRPr>
            </a:p>
          </p:txBody>
        </p:sp>
        <p:sp>
          <p:nvSpPr>
            <p:cNvPr id="367" name=""/>
            <p:cNvSpPr/>
            <p:nvPr/>
          </p:nvSpPr>
          <p:spPr>
            <a:xfrm>
              <a:off x="3363120" y="32767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t>
              </a:r>
              <a:endParaRPr b="0" lang="en-US" sz="3600" spc="-1" strike="noStrike">
                <a:solidFill>
                  <a:srgbClr val="000000"/>
                </a:solidFill>
                <a:latin typeface="Times New Roman"/>
              </a:endParaRPr>
            </a:p>
          </p:txBody>
        </p:sp>
        <p:sp>
          <p:nvSpPr>
            <p:cNvPr id="368" name=""/>
            <p:cNvSpPr/>
            <p:nvPr/>
          </p:nvSpPr>
          <p:spPr>
            <a:xfrm>
              <a:off x="4963320" y="32767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Comic Sans MS"/>
                </a:rPr>
                <a:t>=</a:t>
              </a:r>
              <a:endParaRPr b="0" lang="en-US" sz="3600" spc="-1" strike="noStrike">
                <a:solidFill>
                  <a:srgbClr val="000000"/>
                </a:solidFill>
                <a:latin typeface="Times New Roman"/>
              </a:endParaRPr>
            </a:p>
          </p:txBody>
        </p:sp>
        <p:sp>
          <p:nvSpPr>
            <p:cNvPr id="369" name=""/>
            <p:cNvSpPr/>
            <p:nvPr/>
          </p:nvSpPr>
          <p:spPr>
            <a:xfrm>
              <a:off x="5554440" y="3276720"/>
              <a:ext cx="1114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12</a:t>
              </a:r>
              <a:endParaRPr b="0" lang="en-US" sz="3600" spc="-1" strike="noStrike">
                <a:solidFill>
                  <a:srgbClr val="000000"/>
                </a:solidFill>
                <a:latin typeface="Times New Roman"/>
              </a:endParaRPr>
            </a:p>
          </p:txBody>
        </p:sp>
        <p:sp>
          <p:nvSpPr>
            <p:cNvPr id="370" name=""/>
            <p:cNvSpPr/>
            <p:nvPr/>
          </p:nvSpPr>
          <p:spPr>
            <a:xfrm>
              <a:off x="2093400" y="3276720"/>
              <a:ext cx="1114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cc"/>
                  </a:solidFill>
                  <a:latin typeface="Comic Sans MS"/>
                </a:rPr>
                <a:t>-$25</a:t>
              </a:r>
              <a:endParaRPr b="0" lang="en-US" sz="3600" spc="-1" strike="noStrike">
                <a:solidFill>
                  <a:srgbClr val="000000"/>
                </a:solidFill>
                <a:latin typeface="Times New Roman"/>
              </a:endParaRPr>
            </a:p>
          </p:txBody>
        </p:sp>
      </p:grpSp>
      <p:sp>
        <p:nvSpPr>
          <p:cNvPr id="371"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
        <p:nvSpPr>
          <p:cNvPr id="372" name=""/>
          <p:cNvSpPr/>
          <p:nvPr/>
        </p:nvSpPr>
        <p:spPr>
          <a:xfrm>
            <a:off x="4495680" y="4952880"/>
            <a:ext cx="152640" cy="152640"/>
          </a:xfrm>
          <a:prstGeom prst="ellipse">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1980720" y="4572000"/>
            <a:ext cx="2590920" cy="459720"/>
            <a:chOff x="1980720" y="4572000"/>
            <a:chExt cx="2590920" cy="459720"/>
          </a:xfrm>
        </p:grpSpPr>
        <p:sp>
          <p:nvSpPr>
            <p:cNvPr id="374" name=""/>
            <p:cNvSpPr/>
            <p:nvPr/>
          </p:nvSpPr>
          <p:spPr>
            <a:xfrm flipH="1">
              <a:off x="1980720" y="5029200"/>
              <a:ext cx="2590920" cy="0"/>
            </a:xfrm>
            <a:prstGeom prst="line">
              <a:avLst/>
            </a:prstGeom>
            <a:ln w="57240">
              <a:solidFill>
                <a:srgbClr val="66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917880" y="4572000"/>
              <a:ext cx="57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Comic Sans MS"/>
                </a:rPr>
                <a:t>25</a:t>
              </a:r>
              <a:endParaRPr b="0" lang="en-US" sz="2400" spc="-1" strike="noStrike">
                <a:solidFill>
                  <a:srgbClr val="000000"/>
                </a:solidFill>
                <a:latin typeface="Times New Roman"/>
              </a:endParaRPr>
            </a:p>
          </p:txBody>
        </p:sp>
      </p:grpSp>
      <p:grpSp>
        <p:nvGrpSpPr>
          <p:cNvPr id="376" name=""/>
          <p:cNvGrpSpPr/>
          <p:nvPr/>
        </p:nvGrpSpPr>
        <p:grpSpPr>
          <a:xfrm>
            <a:off x="2057400" y="3962520"/>
            <a:ext cx="1371600" cy="459720"/>
            <a:chOff x="2057400" y="3962520"/>
            <a:chExt cx="1371600" cy="459720"/>
          </a:xfrm>
        </p:grpSpPr>
        <p:sp>
          <p:nvSpPr>
            <p:cNvPr id="377" name=""/>
            <p:cNvSpPr/>
            <p:nvPr/>
          </p:nvSpPr>
          <p:spPr>
            <a:xfrm>
              <a:off x="2057400" y="4419720"/>
              <a:ext cx="137160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133720" y="3962520"/>
              <a:ext cx="57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3</a:t>
              </a:r>
              <a:endParaRPr b="0" lang="en-US" sz="2400" spc="-1" strike="noStrike">
                <a:solidFill>
                  <a:srgbClr val="000000"/>
                </a:solidFill>
                <a:latin typeface="Times New Roman"/>
              </a:endParaRPr>
            </a:p>
          </p:txBody>
        </p:sp>
      </p:grpSp>
      <p:grpSp>
        <p:nvGrpSpPr>
          <p:cNvPr id="379" name=""/>
          <p:cNvGrpSpPr/>
          <p:nvPr/>
        </p:nvGrpSpPr>
        <p:grpSpPr>
          <a:xfrm>
            <a:off x="3428640" y="3962520"/>
            <a:ext cx="1143000" cy="459720"/>
            <a:chOff x="3428640" y="3962520"/>
            <a:chExt cx="1143000" cy="459720"/>
          </a:xfrm>
        </p:grpSpPr>
        <p:sp>
          <p:nvSpPr>
            <p:cNvPr id="380" name=""/>
            <p:cNvSpPr/>
            <p:nvPr/>
          </p:nvSpPr>
          <p:spPr>
            <a:xfrm flipH="1">
              <a:off x="3428640" y="4419720"/>
              <a:ext cx="1143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941640" y="3962520"/>
              <a:ext cx="57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p:txBody>
        </p:sp>
      </p:grpSp>
      <p:grpSp>
        <p:nvGrpSpPr>
          <p:cNvPr id="382" name=""/>
          <p:cNvGrpSpPr/>
          <p:nvPr/>
        </p:nvGrpSpPr>
        <p:grpSpPr>
          <a:xfrm>
            <a:off x="839520" y="1676520"/>
            <a:ext cx="5829480" cy="1008360"/>
            <a:chOff x="839520" y="1676520"/>
            <a:chExt cx="5829480" cy="1008360"/>
          </a:xfrm>
        </p:grpSpPr>
        <p:sp>
          <p:nvSpPr>
            <p:cNvPr id="383" name=""/>
            <p:cNvSpPr/>
            <p:nvPr/>
          </p:nvSpPr>
          <p:spPr>
            <a:xfrm>
              <a:off x="839520" y="1873080"/>
              <a:ext cx="2489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 have </a:t>
              </a:r>
              <a:r>
                <a:rPr b="1" lang="en-US" sz="3600" spc="-1" strike="noStrike">
                  <a:solidFill>
                    <a:srgbClr val="3333cc"/>
                  </a:solidFill>
                  <a:latin typeface="Comic Sans MS"/>
                </a:rPr>
                <a:t>$13</a:t>
              </a:r>
              <a:endParaRPr b="0" lang="en-US" sz="3600" spc="-1" strike="noStrike">
                <a:solidFill>
                  <a:srgbClr val="000000"/>
                </a:solidFill>
                <a:latin typeface="Times New Roman"/>
              </a:endParaRPr>
            </a:p>
          </p:txBody>
        </p:sp>
        <p:sp>
          <p:nvSpPr>
            <p:cNvPr id="384" name=""/>
            <p:cNvSpPr/>
            <p:nvPr/>
          </p:nvSpPr>
          <p:spPr>
            <a:xfrm>
              <a:off x="4789440" y="1676520"/>
              <a:ext cx="18795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Comic Sans MS"/>
                </a:rPr>
                <a:t>+</a:t>
              </a:r>
              <a:r>
                <a:rPr b="1" lang="en-US" sz="4000" spc="-1" strike="noStrike">
                  <a:solidFill>
                    <a:srgbClr val="3333cc"/>
                  </a:solidFill>
                  <a:latin typeface="Comic Sans MS"/>
                </a:rPr>
                <a:t>$</a:t>
              </a:r>
              <a:r>
                <a:rPr b="1" lang="en-US" sz="4400" spc="-1" strike="noStrike">
                  <a:solidFill>
                    <a:srgbClr val="3333cc"/>
                  </a:solidFill>
                  <a:latin typeface="Comic Sans MS"/>
                </a:rPr>
                <a:t>13</a:t>
              </a:r>
              <a:endParaRPr b="0" lang="en-US" sz="4400" spc="-1" strike="noStrike">
                <a:solidFill>
                  <a:srgbClr val="000000"/>
                </a:solidFill>
                <a:latin typeface="Times New Roman"/>
              </a:endParaRPr>
            </a:p>
          </p:txBody>
        </p:sp>
      </p:gr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361"/>
                                        </p:tgtEl>
                                        <p:attrNameLst>
                                          <p:attrName>style.visibility</p:attrName>
                                        </p:attrNameLst>
                                      </p:cBhvr>
                                      <p:to>
                                        <p:strVal val="visible"/>
                                      </p:to>
                                    </p:set>
                                    <p:animEffect filter="wipe(left)" transition="in">
                                      <p:cBhvr additive="repl">
                                        <p:cTn id="130" dur="500"/>
                                        <p:tgtEl>
                                          <p:spTgt spid="36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2">
                                  <p:stCondLst>
                                    <p:cond delay="0"/>
                                  </p:stCondLst>
                                  <p:childTnLst>
                                    <p:set>
                                      <p:cBhvr>
                                        <p:cTn id="134" dur="1" fill="hold">
                                          <p:stCondLst>
                                            <p:cond delay="0"/>
                                          </p:stCondLst>
                                        </p:cTn>
                                        <p:tgtEl>
                                          <p:spTgt spid="373"/>
                                        </p:tgtEl>
                                        <p:attrNameLst>
                                          <p:attrName>style.visibility</p:attrName>
                                        </p:attrNameLst>
                                      </p:cBhvr>
                                      <p:to>
                                        <p:strVal val="visible"/>
                                      </p:to>
                                    </p:set>
                                    <p:animEffect filter="wipe(right)" transition="in">
                                      <p:cBhvr additive="repl">
                                        <p:cTn id="135" dur="500"/>
                                        <p:tgtEl>
                                          <p:spTgt spid="37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364"/>
                                        </p:tgtEl>
                                        <p:attrNameLst>
                                          <p:attrName>style.visibility</p:attrName>
                                        </p:attrNameLst>
                                      </p:cBhvr>
                                      <p:to>
                                        <p:strVal val="visible"/>
                                      </p:to>
                                    </p:set>
                                    <p:animEffect filter="wipe(left)" transition="in">
                                      <p:cBhvr additive="repl">
                                        <p:cTn id="140" dur="500"/>
                                        <p:tgtEl>
                                          <p:spTgt spid="364"/>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382"/>
                                        </p:tgtEl>
                                        <p:attrNameLst>
                                          <p:attrName>style.visibility</p:attrName>
                                        </p:attrNameLst>
                                      </p:cBhvr>
                                      <p:to>
                                        <p:strVal val="visible"/>
                                      </p:to>
                                    </p:set>
                                    <p:animEffect filter="wipe(left)" transition="in">
                                      <p:cBhvr additive="repl">
                                        <p:cTn id="145" dur="500"/>
                                        <p:tgtEl>
                                          <p:spTgt spid="38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376"/>
                                        </p:tgtEl>
                                        <p:attrNameLst>
                                          <p:attrName>style.visibility</p:attrName>
                                        </p:attrNameLst>
                                      </p:cBhvr>
                                      <p:to>
                                        <p:strVal val="visible"/>
                                      </p:to>
                                    </p:set>
                                    <p:animEffect filter="wipe(left)" transition="in">
                                      <p:cBhvr additive="repl">
                                        <p:cTn id="150" dur="500"/>
                                        <p:tgtEl>
                                          <p:spTgt spid="37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344"/>
                                        </p:tgtEl>
                                        <p:attrNameLst>
                                          <p:attrName>style.visibility</p:attrName>
                                        </p:attrNameLst>
                                      </p:cBhvr>
                                      <p:to>
                                        <p:strVal val="visible"/>
                                      </p:to>
                                    </p:set>
                                    <p:animEffect filter="wipe(left)" transition="in">
                                      <p:cBhvr additive="repl">
                                        <p:cTn id="155" dur="500"/>
                                        <p:tgtEl>
                                          <p:spTgt spid="34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2">
                                  <p:stCondLst>
                                    <p:cond delay="0"/>
                                  </p:stCondLst>
                                  <p:childTnLst>
                                    <p:set>
                                      <p:cBhvr>
                                        <p:cTn id="159" dur="1" fill="hold">
                                          <p:stCondLst>
                                            <p:cond delay="0"/>
                                          </p:stCondLst>
                                        </p:cTn>
                                        <p:tgtEl>
                                          <p:spTgt spid="379"/>
                                        </p:tgtEl>
                                        <p:attrNameLst>
                                          <p:attrName>style.visibility</p:attrName>
                                        </p:attrNameLst>
                                      </p:cBhvr>
                                      <p:to>
                                        <p:strVal val="visible"/>
                                      </p:to>
                                    </p:set>
                                    <p:animEffect filter="wipe(right)" transition="in">
                                      <p:cBhvr additive="repl">
                                        <p:cTn id="160" dur="500"/>
                                        <p:tgtEl>
                                          <p:spTgt spid="379"/>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365"/>
                                        </p:tgtEl>
                                        <p:attrNameLst>
                                          <p:attrName>style.visibility</p:attrName>
                                        </p:attrNameLst>
                                      </p:cBhvr>
                                      <p:to>
                                        <p:strVal val="visible"/>
                                      </p:to>
                                    </p:set>
                                    <p:animEffect filter="wipe(left)" transition="in">
                                      <p:cBhvr additive="repl">
                                        <p:cTn id="165"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385" name=""/>
          <p:cNvSpPr/>
          <p:nvPr/>
        </p:nvSpPr>
        <p:spPr>
          <a:xfrm>
            <a:off x="3016800" y="1295280"/>
            <a:ext cx="2757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3</a:t>
            </a:r>
            <a:r>
              <a:rPr b="0" lang="en-US" sz="4400" spc="-1" strike="noStrike">
                <a:solidFill>
                  <a:srgbClr val="000000"/>
                </a:solidFill>
                <a:latin typeface="Comic Sans MS"/>
              </a:rPr>
              <a:t> </a:t>
            </a:r>
            <a:r>
              <a:rPr b="0" lang="en-US" sz="4400" spc="-1" strike="noStrike">
                <a:solidFill>
                  <a:srgbClr val="008000"/>
                </a:solidFill>
                <a:latin typeface="Comic Sans MS"/>
              </a:rPr>
              <a:t>–</a:t>
            </a:r>
            <a:r>
              <a:rPr b="0" lang="en-US" sz="4400" spc="-1" strike="noStrike">
                <a:solidFill>
                  <a:srgbClr val="000000"/>
                </a:solidFill>
                <a:latin typeface="Comic Sans MS"/>
              </a:rPr>
              <a:t> </a:t>
            </a:r>
            <a:r>
              <a:rPr b="0" lang="en-US" sz="4400" spc="-1" strike="noStrike">
                <a:solidFill>
                  <a:srgbClr val="cc0000"/>
                </a:solidFill>
                <a:latin typeface="Comic Sans MS"/>
              </a:rPr>
              <a:t>(-2)</a:t>
            </a:r>
            <a:r>
              <a:rPr b="0" lang="en-US" sz="4400" spc="-1" strike="noStrike">
                <a:solidFill>
                  <a:srgbClr val="000000"/>
                </a:solidFill>
                <a:latin typeface="Comic Sans MS"/>
              </a:rPr>
              <a:t> = ?</a:t>
            </a:r>
            <a:endParaRPr b="0" lang="en-US" sz="4400" spc="-1" strike="noStrike">
              <a:solidFill>
                <a:srgbClr val="000000"/>
              </a:solidFill>
              <a:latin typeface="Times New Roman"/>
            </a:endParaRPr>
          </a:p>
        </p:txBody>
      </p:sp>
      <p:grpSp>
        <p:nvGrpSpPr>
          <p:cNvPr id="386" name=""/>
          <p:cNvGrpSpPr/>
          <p:nvPr/>
        </p:nvGrpSpPr>
        <p:grpSpPr>
          <a:xfrm>
            <a:off x="762120" y="5842080"/>
            <a:ext cx="7467120" cy="609480"/>
            <a:chOff x="762120" y="5842080"/>
            <a:chExt cx="7467120" cy="609480"/>
          </a:xfrm>
        </p:grpSpPr>
        <p:sp>
          <p:nvSpPr>
            <p:cNvPr id="387" name=""/>
            <p:cNvSpPr/>
            <p:nvPr/>
          </p:nvSpPr>
          <p:spPr>
            <a:xfrm>
              <a:off x="762120" y="6147000"/>
              <a:ext cx="7467120" cy="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562360" y="584208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522480" y="584208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482240" y="584208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615680" y="584208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575800" y="584208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642120" y="584208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602240" y="5994360"/>
              <a:ext cx="0" cy="381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4724280" y="4952880"/>
            <a:ext cx="1287360" cy="1046160"/>
            <a:chOff x="4724280" y="4952880"/>
            <a:chExt cx="1287360" cy="1046160"/>
          </a:xfrm>
        </p:grpSpPr>
        <p:sp>
          <p:nvSpPr>
            <p:cNvPr id="396" name=""/>
            <p:cNvSpPr/>
            <p:nvPr/>
          </p:nvSpPr>
          <p:spPr>
            <a:xfrm>
              <a:off x="5095800" y="4952880"/>
              <a:ext cx="33480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283000" y="5216400"/>
              <a:ext cx="27936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362200" y="5033880"/>
              <a:ext cx="62712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724280" y="5016600"/>
              <a:ext cx="62208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784400" y="5611680"/>
              <a:ext cx="6638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406840" y="5495760"/>
              <a:ext cx="60480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838080" y="5560920"/>
            <a:ext cx="2263680" cy="590760"/>
            <a:chOff x="838080" y="5560920"/>
            <a:chExt cx="2263680" cy="590760"/>
          </a:xfrm>
        </p:grpSpPr>
        <p:grpSp>
          <p:nvGrpSpPr>
            <p:cNvPr id="403" name=""/>
            <p:cNvGrpSpPr/>
            <p:nvPr/>
          </p:nvGrpSpPr>
          <p:grpSpPr>
            <a:xfrm>
              <a:off x="879120" y="5560920"/>
              <a:ext cx="2208240" cy="559080"/>
              <a:chOff x="879120" y="5560920"/>
              <a:chExt cx="2208240" cy="559080"/>
            </a:xfrm>
          </p:grpSpPr>
          <p:grpSp>
            <p:nvGrpSpPr>
              <p:cNvPr id="404" name=""/>
              <p:cNvGrpSpPr/>
              <p:nvPr/>
            </p:nvGrpSpPr>
            <p:grpSpPr>
              <a:xfrm>
                <a:off x="879120" y="5621400"/>
                <a:ext cx="195480" cy="201600"/>
                <a:chOff x="879120" y="5621400"/>
                <a:chExt cx="195480" cy="201600"/>
              </a:xfrm>
            </p:grpSpPr>
            <p:sp>
              <p:nvSpPr>
                <p:cNvPr id="405" name=""/>
                <p:cNvSpPr/>
                <p:nvPr/>
              </p:nvSpPr>
              <p:spPr>
                <a:xfrm>
                  <a:off x="879120" y="5621400"/>
                  <a:ext cx="195480" cy="201600"/>
                </a:xfrm>
                <a:custGeom>
                  <a:avLst/>
                  <a:gdLst/>
                  <a:ahLst/>
                  <a:rect l="l" t="t" r="r" b="b"/>
                  <a:pathLst>
                    <a:path w="123" h="127">
                      <a:moveTo>
                        <a:pt x="27" y="29"/>
                      </a:moveTo>
                      <a:lnTo>
                        <a:pt x="31" y="11"/>
                      </a:lnTo>
                      <a:lnTo>
                        <a:pt x="45" y="0"/>
                      </a:lnTo>
                      <a:lnTo>
                        <a:pt x="58" y="0"/>
                      </a:lnTo>
                      <a:lnTo>
                        <a:pt x="70" y="9"/>
                      </a:lnTo>
                      <a:lnTo>
                        <a:pt x="77" y="24"/>
                      </a:lnTo>
                      <a:lnTo>
                        <a:pt x="96" y="20"/>
                      </a:lnTo>
                      <a:lnTo>
                        <a:pt x="114" y="26"/>
                      </a:lnTo>
                      <a:lnTo>
                        <a:pt x="119" y="27"/>
                      </a:lnTo>
                      <a:lnTo>
                        <a:pt x="123" y="43"/>
                      </a:lnTo>
                      <a:lnTo>
                        <a:pt x="118" y="58"/>
                      </a:lnTo>
                      <a:lnTo>
                        <a:pt x="106" y="71"/>
                      </a:lnTo>
                      <a:lnTo>
                        <a:pt x="100" y="74"/>
                      </a:lnTo>
                      <a:lnTo>
                        <a:pt x="103" y="87"/>
                      </a:lnTo>
                      <a:lnTo>
                        <a:pt x="98" y="103"/>
                      </a:lnTo>
                      <a:lnTo>
                        <a:pt x="89" y="114"/>
                      </a:lnTo>
                      <a:lnTo>
                        <a:pt x="73" y="124"/>
                      </a:lnTo>
                      <a:lnTo>
                        <a:pt x="70" y="127"/>
                      </a:lnTo>
                      <a:lnTo>
                        <a:pt x="53" y="125"/>
                      </a:lnTo>
                      <a:lnTo>
                        <a:pt x="39" y="114"/>
                      </a:lnTo>
                      <a:lnTo>
                        <a:pt x="33" y="110"/>
                      </a:lnTo>
                      <a:lnTo>
                        <a:pt x="17" y="109"/>
                      </a:lnTo>
                      <a:lnTo>
                        <a:pt x="3" y="93"/>
                      </a:lnTo>
                      <a:lnTo>
                        <a:pt x="0" y="76"/>
                      </a:lnTo>
                      <a:lnTo>
                        <a:pt x="4" y="59"/>
                      </a:lnTo>
                      <a:lnTo>
                        <a:pt x="11" y="55"/>
                      </a:lnTo>
                      <a:lnTo>
                        <a:pt x="4" y="43"/>
                      </a:lnTo>
                      <a:lnTo>
                        <a:pt x="11" y="33"/>
                      </a:lnTo>
                      <a:lnTo>
                        <a:pt x="18" y="29"/>
                      </a:lnTo>
                      <a:lnTo>
                        <a:pt x="27" y="29"/>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909360" y="5637240"/>
                  <a:ext cx="142920" cy="162000"/>
                </a:xfrm>
                <a:custGeom>
                  <a:avLst/>
                  <a:gdLst/>
                  <a:ahLst/>
                  <a:rect l="l" t="t" r="r" b="b"/>
                  <a:pathLst>
                    <a:path w="90" h="102">
                      <a:moveTo>
                        <a:pt x="29" y="47"/>
                      </a:moveTo>
                      <a:lnTo>
                        <a:pt x="25" y="33"/>
                      </a:lnTo>
                      <a:lnTo>
                        <a:pt x="19" y="20"/>
                      </a:lnTo>
                      <a:lnTo>
                        <a:pt x="24" y="8"/>
                      </a:lnTo>
                      <a:lnTo>
                        <a:pt x="31" y="0"/>
                      </a:lnTo>
                      <a:lnTo>
                        <a:pt x="38" y="3"/>
                      </a:lnTo>
                      <a:lnTo>
                        <a:pt x="46" y="7"/>
                      </a:lnTo>
                      <a:lnTo>
                        <a:pt x="47" y="18"/>
                      </a:lnTo>
                      <a:lnTo>
                        <a:pt x="44" y="29"/>
                      </a:lnTo>
                      <a:lnTo>
                        <a:pt x="44" y="39"/>
                      </a:lnTo>
                      <a:lnTo>
                        <a:pt x="50" y="36"/>
                      </a:lnTo>
                      <a:lnTo>
                        <a:pt x="56" y="27"/>
                      </a:lnTo>
                      <a:lnTo>
                        <a:pt x="65" y="21"/>
                      </a:lnTo>
                      <a:lnTo>
                        <a:pt x="69" y="21"/>
                      </a:lnTo>
                      <a:lnTo>
                        <a:pt x="78" y="20"/>
                      </a:lnTo>
                      <a:lnTo>
                        <a:pt x="86" y="26"/>
                      </a:lnTo>
                      <a:lnTo>
                        <a:pt x="90" y="38"/>
                      </a:lnTo>
                      <a:lnTo>
                        <a:pt x="86" y="49"/>
                      </a:lnTo>
                      <a:lnTo>
                        <a:pt x="76" y="56"/>
                      </a:lnTo>
                      <a:lnTo>
                        <a:pt x="63" y="56"/>
                      </a:lnTo>
                      <a:lnTo>
                        <a:pt x="52" y="54"/>
                      </a:lnTo>
                      <a:lnTo>
                        <a:pt x="53" y="63"/>
                      </a:lnTo>
                      <a:lnTo>
                        <a:pt x="65" y="65"/>
                      </a:lnTo>
                      <a:lnTo>
                        <a:pt x="74" y="72"/>
                      </a:lnTo>
                      <a:lnTo>
                        <a:pt x="72" y="87"/>
                      </a:lnTo>
                      <a:lnTo>
                        <a:pt x="62" y="99"/>
                      </a:lnTo>
                      <a:lnTo>
                        <a:pt x="49" y="102"/>
                      </a:lnTo>
                      <a:lnTo>
                        <a:pt x="38" y="96"/>
                      </a:lnTo>
                      <a:lnTo>
                        <a:pt x="31" y="86"/>
                      </a:lnTo>
                      <a:lnTo>
                        <a:pt x="36" y="75"/>
                      </a:lnTo>
                      <a:lnTo>
                        <a:pt x="41" y="65"/>
                      </a:lnTo>
                      <a:lnTo>
                        <a:pt x="34" y="61"/>
                      </a:lnTo>
                      <a:lnTo>
                        <a:pt x="31" y="73"/>
                      </a:lnTo>
                      <a:lnTo>
                        <a:pt x="24" y="83"/>
                      </a:lnTo>
                      <a:lnTo>
                        <a:pt x="10" y="84"/>
                      </a:lnTo>
                      <a:lnTo>
                        <a:pt x="1" y="77"/>
                      </a:lnTo>
                      <a:lnTo>
                        <a:pt x="0" y="67"/>
                      </a:lnTo>
                      <a:lnTo>
                        <a:pt x="4" y="59"/>
                      </a:lnTo>
                      <a:lnTo>
                        <a:pt x="9" y="53"/>
                      </a:lnTo>
                      <a:lnTo>
                        <a:pt x="6" y="43"/>
                      </a:lnTo>
                      <a:lnTo>
                        <a:pt x="5" y="34"/>
                      </a:lnTo>
                      <a:lnTo>
                        <a:pt x="13" y="33"/>
                      </a:lnTo>
                      <a:lnTo>
                        <a:pt x="20" y="37"/>
                      </a:lnTo>
                      <a:lnTo>
                        <a:pt x="29" y="47"/>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958680" y="5702400"/>
                  <a:ext cx="31680" cy="30240"/>
                </a:xfrm>
                <a:custGeom>
                  <a:avLst/>
                  <a:gdLst/>
                  <a:ahLst/>
                  <a:rect l="l" t="t" r="r" b="b"/>
                  <a:pathLst>
                    <a:path w="20" h="19">
                      <a:moveTo>
                        <a:pt x="0" y="5"/>
                      </a:moveTo>
                      <a:lnTo>
                        <a:pt x="10" y="0"/>
                      </a:lnTo>
                      <a:lnTo>
                        <a:pt x="17" y="2"/>
                      </a:lnTo>
                      <a:lnTo>
                        <a:pt x="20" y="13"/>
                      </a:lnTo>
                      <a:lnTo>
                        <a:pt x="12" y="19"/>
                      </a:lnTo>
                      <a:lnTo>
                        <a:pt x="2" y="14"/>
                      </a:lnTo>
                      <a:lnTo>
                        <a:pt x="0" y="5"/>
                      </a:lnTo>
                      <a:close/>
                    </a:path>
                  </a:pathLst>
                </a:custGeom>
                <a:blipFill rotWithShape="0">
                  <a:blip r:embed="rId3"/>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08" name=""/>
              <p:cNvGrpSpPr/>
              <p:nvPr/>
            </p:nvGrpSpPr>
            <p:grpSpPr>
              <a:xfrm>
                <a:off x="972720" y="5892840"/>
                <a:ext cx="225720" cy="187200"/>
                <a:chOff x="972720" y="5892840"/>
                <a:chExt cx="225720" cy="187200"/>
              </a:xfrm>
            </p:grpSpPr>
            <p:sp>
              <p:nvSpPr>
                <p:cNvPr id="409" name=""/>
                <p:cNvSpPr/>
                <p:nvPr/>
              </p:nvSpPr>
              <p:spPr>
                <a:xfrm>
                  <a:off x="972720" y="5892840"/>
                  <a:ext cx="225720" cy="187200"/>
                </a:xfrm>
                <a:custGeom>
                  <a:avLst/>
                  <a:gdLst/>
                  <a:ahLst/>
                  <a:rect l="l" t="t" r="r" b="b"/>
                  <a:pathLst>
                    <a:path w="142" h="118">
                      <a:moveTo>
                        <a:pt x="48" y="19"/>
                      </a:moveTo>
                      <a:lnTo>
                        <a:pt x="59" y="5"/>
                      </a:lnTo>
                      <a:lnTo>
                        <a:pt x="76" y="0"/>
                      </a:lnTo>
                      <a:lnTo>
                        <a:pt x="90" y="4"/>
                      </a:lnTo>
                      <a:lnTo>
                        <a:pt x="99" y="16"/>
                      </a:lnTo>
                      <a:lnTo>
                        <a:pt x="101" y="31"/>
                      </a:lnTo>
                      <a:lnTo>
                        <a:pt x="121" y="34"/>
                      </a:lnTo>
                      <a:lnTo>
                        <a:pt x="137" y="45"/>
                      </a:lnTo>
                      <a:lnTo>
                        <a:pt x="142" y="47"/>
                      </a:lnTo>
                      <a:lnTo>
                        <a:pt x="140" y="63"/>
                      </a:lnTo>
                      <a:lnTo>
                        <a:pt x="129" y="73"/>
                      </a:lnTo>
                      <a:lnTo>
                        <a:pt x="113" y="81"/>
                      </a:lnTo>
                      <a:lnTo>
                        <a:pt x="105" y="82"/>
                      </a:lnTo>
                      <a:lnTo>
                        <a:pt x="104" y="94"/>
                      </a:lnTo>
                      <a:lnTo>
                        <a:pt x="93" y="106"/>
                      </a:lnTo>
                      <a:lnTo>
                        <a:pt x="79" y="113"/>
                      </a:lnTo>
                      <a:lnTo>
                        <a:pt x="60" y="117"/>
                      </a:lnTo>
                      <a:lnTo>
                        <a:pt x="56" y="118"/>
                      </a:lnTo>
                      <a:lnTo>
                        <a:pt x="40" y="111"/>
                      </a:lnTo>
                      <a:lnTo>
                        <a:pt x="29" y="98"/>
                      </a:lnTo>
                      <a:lnTo>
                        <a:pt x="25" y="92"/>
                      </a:lnTo>
                      <a:lnTo>
                        <a:pt x="9" y="85"/>
                      </a:lnTo>
                      <a:lnTo>
                        <a:pt x="0" y="67"/>
                      </a:lnTo>
                      <a:lnTo>
                        <a:pt x="5" y="52"/>
                      </a:lnTo>
                      <a:lnTo>
                        <a:pt x="14" y="39"/>
                      </a:lnTo>
                      <a:lnTo>
                        <a:pt x="22" y="37"/>
                      </a:lnTo>
                      <a:lnTo>
                        <a:pt x="19" y="24"/>
                      </a:lnTo>
                      <a:lnTo>
                        <a:pt x="30" y="18"/>
                      </a:lnTo>
                      <a:lnTo>
                        <a:pt x="40" y="17"/>
                      </a:lnTo>
                      <a:lnTo>
                        <a:pt x="48" y="19"/>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1004760" y="5908680"/>
                  <a:ext cx="164880" cy="150840"/>
                </a:xfrm>
                <a:custGeom>
                  <a:avLst/>
                  <a:gdLst/>
                  <a:ahLst/>
                  <a:rect l="l" t="t" r="r" b="b"/>
                  <a:pathLst>
                    <a:path w="104" h="95">
                      <a:moveTo>
                        <a:pt x="39" y="39"/>
                      </a:moveTo>
                      <a:lnTo>
                        <a:pt x="41" y="26"/>
                      </a:lnTo>
                      <a:lnTo>
                        <a:pt x="39" y="13"/>
                      </a:lnTo>
                      <a:lnTo>
                        <a:pt x="49" y="5"/>
                      </a:lnTo>
                      <a:lnTo>
                        <a:pt x="58" y="0"/>
                      </a:lnTo>
                      <a:lnTo>
                        <a:pt x="65" y="5"/>
                      </a:lnTo>
                      <a:lnTo>
                        <a:pt x="70" y="11"/>
                      </a:lnTo>
                      <a:lnTo>
                        <a:pt x="68" y="20"/>
                      </a:lnTo>
                      <a:lnTo>
                        <a:pt x="61" y="29"/>
                      </a:lnTo>
                      <a:lnTo>
                        <a:pt x="57" y="38"/>
                      </a:lnTo>
                      <a:lnTo>
                        <a:pt x="65" y="37"/>
                      </a:lnTo>
                      <a:lnTo>
                        <a:pt x="75" y="31"/>
                      </a:lnTo>
                      <a:lnTo>
                        <a:pt x="85" y="29"/>
                      </a:lnTo>
                      <a:lnTo>
                        <a:pt x="89" y="30"/>
                      </a:lnTo>
                      <a:lnTo>
                        <a:pt x="99" y="32"/>
                      </a:lnTo>
                      <a:lnTo>
                        <a:pt x="104" y="39"/>
                      </a:lnTo>
                      <a:lnTo>
                        <a:pt x="104" y="51"/>
                      </a:lnTo>
                      <a:lnTo>
                        <a:pt x="96" y="60"/>
                      </a:lnTo>
                      <a:lnTo>
                        <a:pt x="84" y="62"/>
                      </a:lnTo>
                      <a:lnTo>
                        <a:pt x="70" y="59"/>
                      </a:lnTo>
                      <a:lnTo>
                        <a:pt x="60" y="53"/>
                      </a:lnTo>
                      <a:lnTo>
                        <a:pt x="58" y="61"/>
                      </a:lnTo>
                      <a:lnTo>
                        <a:pt x="69" y="67"/>
                      </a:lnTo>
                      <a:lnTo>
                        <a:pt x="76" y="75"/>
                      </a:lnTo>
                      <a:lnTo>
                        <a:pt x="68" y="87"/>
                      </a:lnTo>
                      <a:lnTo>
                        <a:pt x="54" y="95"/>
                      </a:lnTo>
                      <a:lnTo>
                        <a:pt x="39" y="93"/>
                      </a:lnTo>
                      <a:lnTo>
                        <a:pt x="31" y="85"/>
                      </a:lnTo>
                      <a:lnTo>
                        <a:pt x="27" y="74"/>
                      </a:lnTo>
                      <a:lnTo>
                        <a:pt x="37" y="66"/>
                      </a:lnTo>
                      <a:lnTo>
                        <a:pt x="45" y="59"/>
                      </a:lnTo>
                      <a:lnTo>
                        <a:pt x="39" y="54"/>
                      </a:lnTo>
                      <a:lnTo>
                        <a:pt x="33" y="63"/>
                      </a:lnTo>
                      <a:lnTo>
                        <a:pt x="22" y="69"/>
                      </a:lnTo>
                      <a:lnTo>
                        <a:pt x="7" y="66"/>
                      </a:lnTo>
                      <a:lnTo>
                        <a:pt x="0" y="56"/>
                      </a:lnTo>
                      <a:lnTo>
                        <a:pt x="3" y="48"/>
                      </a:lnTo>
                      <a:lnTo>
                        <a:pt x="10" y="42"/>
                      </a:lnTo>
                      <a:lnTo>
                        <a:pt x="18" y="38"/>
                      </a:lnTo>
                      <a:lnTo>
                        <a:pt x="18" y="29"/>
                      </a:lnTo>
                      <a:lnTo>
                        <a:pt x="20" y="21"/>
                      </a:lnTo>
                      <a:lnTo>
                        <a:pt x="29" y="23"/>
                      </a:lnTo>
                      <a:lnTo>
                        <a:pt x="34" y="29"/>
                      </a:lnTo>
                      <a:lnTo>
                        <a:pt x="39" y="39"/>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066680" y="5969160"/>
                  <a:ext cx="31680" cy="28440"/>
                </a:xfrm>
                <a:custGeom>
                  <a:avLst/>
                  <a:gdLst/>
                  <a:ahLst/>
                  <a:rect l="l" t="t" r="r" b="b"/>
                  <a:pathLst>
                    <a:path w="20" h="18">
                      <a:moveTo>
                        <a:pt x="2" y="3"/>
                      </a:moveTo>
                      <a:lnTo>
                        <a:pt x="14" y="0"/>
                      </a:lnTo>
                      <a:lnTo>
                        <a:pt x="20" y="5"/>
                      </a:lnTo>
                      <a:lnTo>
                        <a:pt x="19" y="16"/>
                      </a:lnTo>
                      <a:lnTo>
                        <a:pt x="8" y="18"/>
                      </a:lnTo>
                      <a:lnTo>
                        <a:pt x="0" y="11"/>
                      </a:lnTo>
                      <a:lnTo>
                        <a:pt x="2" y="3"/>
                      </a:lnTo>
                      <a:close/>
                    </a:path>
                  </a:pathLst>
                </a:custGeom>
                <a:blipFill rotWithShape="0">
                  <a:blip r:embed="rId6"/>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12" name=""/>
              <p:cNvGrpSpPr/>
              <p:nvPr/>
            </p:nvGrpSpPr>
            <p:grpSpPr>
              <a:xfrm>
                <a:off x="1190520" y="5807160"/>
                <a:ext cx="209520" cy="195120"/>
                <a:chOff x="1190520" y="5807160"/>
                <a:chExt cx="209520" cy="195120"/>
              </a:xfrm>
            </p:grpSpPr>
            <p:sp>
              <p:nvSpPr>
                <p:cNvPr id="413" name=""/>
                <p:cNvSpPr/>
                <p:nvPr/>
              </p:nvSpPr>
              <p:spPr>
                <a:xfrm>
                  <a:off x="1190520" y="5807160"/>
                  <a:ext cx="209520" cy="195120"/>
                </a:xfrm>
                <a:custGeom>
                  <a:avLst/>
                  <a:gdLst/>
                  <a:ahLst/>
                  <a:rect l="l" t="t" r="r" b="b"/>
                  <a:pathLst>
                    <a:path w="132" h="123">
                      <a:moveTo>
                        <a:pt x="44" y="20"/>
                      </a:moveTo>
                      <a:lnTo>
                        <a:pt x="55" y="5"/>
                      </a:lnTo>
                      <a:lnTo>
                        <a:pt x="71" y="0"/>
                      </a:lnTo>
                      <a:lnTo>
                        <a:pt x="84" y="3"/>
                      </a:lnTo>
                      <a:lnTo>
                        <a:pt x="93" y="16"/>
                      </a:lnTo>
                      <a:lnTo>
                        <a:pt x="94" y="32"/>
                      </a:lnTo>
                      <a:lnTo>
                        <a:pt x="113" y="35"/>
                      </a:lnTo>
                      <a:lnTo>
                        <a:pt x="128" y="46"/>
                      </a:lnTo>
                      <a:lnTo>
                        <a:pt x="132" y="48"/>
                      </a:lnTo>
                      <a:lnTo>
                        <a:pt x="131" y="65"/>
                      </a:lnTo>
                      <a:lnTo>
                        <a:pt x="121" y="76"/>
                      </a:lnTo>
                      <a:lnTo>
                        <a:pt x="105" y="84"/>
                      </a:lnTo>
                      <a:lnTo>
                        <a:pt x="98" y="85"/>
                      </a:lnTo>
                      <a:lnTo>
                        <a:pt x="96" y="97"/>
                      </a:lnTo>
                      <a:lnTo>
                        <a:pt x="86" y="110"/>
                      </a:lnTo>
                      <a:lnTo>
                        <a:pt x="74" y="117"/>
                      </a:lnTo>
                      <a:lnTo>
                        <a:pt x="56" y="121"/>
                      </a:lnTo>
                      <a:lnTo>
                        <a:pt x="52" y="123"/>
                      </a:lnTo>
                      <a:lnTo>
                        <a:pt x="37" y="115"/>
                      </a:lnTo>
                      <a:lnTo>
                        <a:pt x="27" y="101"/>
                      </a:lnTo>
                      <a:lnTo>
                        <a:pt x="23" y="95"/>
                      </a:lnTo>
                      <a:lnTo>
                        <a:pt x="8" y="89"/>
                      </a:lnTo>
                      <a:lnTo>
                        <a:pt x="0" y="70"/>
                      </a:lnTo>
                      <a:lnTo>
                        <a:pt x="4" y="53"/>
                      </a:lnTo>
                      <a:lnTo>
                        <a:pt x="13" y="40"/>
                      </a:lnTo>
                      <a:lnTo>
                        <a:pt x="20" y="38"/>
                      </a:lnTo>
                      <a:lnTo>
                        <a:pt x="18" y="25"/>
                      </a:lnTo>
                      <a:lnTo>
                        <a:pt x="28" y="18"/>
                      </a:lnTo>
                      <a:lnTo>
                        <a:pt x="37" y="17"/>
                      </a:lnTo>
                      <a:lnTo>
                        <a:pt x="44" y="2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218960" y="5823000"/>
                  <a:ext cx="154080" cy="158760"/>
                </a:xfrm>
                <a:custGeom>
                  <a:avLst/>
                  <a:gdLst/>
                  <a:ahLst/>
                  <a:rect l="l" t="t" r="r" b="b"/>
                  <a:pathLst>
                    <a:path w="97" h="100">
                      <a:moveTo>
                        <a:pt x="36" y="42"/>
                      </a:moveTo>
                      <a:lnTo>
                        <a:pt x="38" y="28"/>
                      </a:lnTo>
                      <a:lnTo>
                        <a:pt x="36" y="14"/>
                      </a:lnTo>
                      <a:lnTo>
                        <a:pt x="45" y="5"/>
                      </a:lnTo>
                      <a:lnTo>
                        <a:pt x="54" y="0"/>
                      </a:lnTo>
                      <a:lnTo>
                        <a:pt x="60" y="5"/>
                      </a:lnTo>
                      <a:lnTo>
                        <a:pt x="65" y="12"/>
                      </a:lnTo>
                      <a:lnTo>
                        <a:pt x="63" y="22"/>
                      </a:lnTo>
                      <a:lnTo>
                        <a:pt x="56" y="31"/>
                      </a:lnTo>
                      <a:lnTo>
                        <a:pt x="53" y="41"/>
                      </a:lnTo>
                      <a:lnTo>
                        <a:pt x="60" y="39"/>
                      </a:lnTo>
                      <a:lnTo>
                        <a:pt x="69" y="33"/>
                      </a:lnTo>
                      <a:lnTo>
                        <a:pt x="79" y="31"/>
                      </a:lnTo>
                      <a:lnTo>
                        <a:pt x="83" y="32"/>
                      </a:lnTo>
                      <a:lnTo>
                        <a:pt x="92" y="34"/>
                      </a:lnTo>
                      <a:lnTo>
                        <a:pt x="97" y="42"/>
                      </a:lnTo>
                      <a:lnTo>
                        <a:pt x="97" y="55"/>
                      </a:lnTo>
                      <a:lnTo>
                        <a:pt x="89" y="64"/>
                      </a:lnTo>
                      <a:lnTo>
                        <a:pt x="78" y="66"/>
                      </a:lnTo>
                      <a:lnTo>
                        <a:pt x="65" y="62"/>
                      </a:lnTo>
                      <a:lnTo>
                        <a:pt x="55" y="56"/>
                      </a:lnTo>
                      <a:lnTo>
                        <a:pt x="54" y="65"/>
                      </a:lnTo>
                      <a:lnTo>
                        <a:pt x="64" y="71"/>
                      </a:lnTo>
                      <a:lnTo>
                        <a:pt x="70" y="80"/>
                      </a:lnTo>
                      <a:lnTo>
                        <a:pt x="63" y="93"/>
                      </a:lnTo>
                      <a:lnTo>
                        <a:pt x="50" y="100"/>
                      </a:lnTo>
                      <a:lnTo>
                        <a:pt x="36" y="99"/>
                      </a:lnTo>
                      <a:lnTo>
                        <a:pt x="29" y="90"/>
                      </a:lnTo>
                      <a:lnTo>
                        <a:pt x="25" y="79"/>
                      </a:lnTo>
                      <a:lnTo>
                        <a:pt x="34" y="70"/>
                      </a:lnTo>
                      <a:lnTo>
                        <a:pt x="41" y="62"/>
                      </a:lnTo>
                      <a:lnTo>
                        <a:pt x="36" y="57"/>
                      </a:lnTo>
                      <a:lnTo>
                        <a:pt x="30" y="67"/>
                      </a:lnTo>
                      <a:lnTo>
                        <a:pt x="20" y="74"/>
                      </a:lnTo>
                      <a:lnTo>
                        <a:pt x="6" y="70"/>
                      </a:lnTo>
                      <a:lnTo>
                        <a:pt x="0" y="60"/>
                      </a:lnTo>
                      <a:lnTo>
                        <a:pt x="2" y="51"/>
                      </a:lnTo>
                      <a:lnTo>
                        <a:pt x="9" y="45"/>
                      </a:lnTo>
                      <a:lnTo>
                        <a:pt x="16" y="41"/>
                      </a:lnTo>
                      <a:lnTo>
                        <a:pt x="16" y="31"/>
                      </a:lnTo>
                      <a:lnTo>
                        <a:pt x="19" y="23"/>
                      </a:lnTo>
                      <a:lnTo>
                        <a:pt x="26" y="24"/>
                      </a:lnTo>
                      <a:lnTo>
                        <a:pt x="31" y="31"/>
                      </a:lnTo>
                      <a:lnTo>
                        <a:pt x="36" y="42"/>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277640" y="5888160"/>
                  <a:ext cx="28440" cy="28440"/>
                </a:xfrm>
                <a:custGeom>
                  <a:avLst/>
                  <a:gdLst/>
                  <a:ahLst/>
                  <a:rect l="l" t="t" r="r" b="b"/>
                  <a:pathLst>
                    <a:path w="18" h="18">
                      <a:moveTo>
                        <a:pt x="1" y="3"/>
                      </a:moveTo>
                      <a:lnTo>
                        <a:pt x="12" y="0"/>
                      </a:lnTo>
                      <a:lnTo>
                        <a:pt x="18" y="5"/>
                      </a:lnTo>
                      <a:lnTo>
                        <a:pt x="17" y="16"/>
                      </a:lnTo>
                      <a:lnTo>
                        <a:pt x="7" y="18"/>
                      </a:lnTo>
                      <a:lnTo>
                        <a:pt x="0" y="11"/>
                      </a:lnTo>
                      <a:lnTo>
                        <a:pt x="1" y="3"/>
                      </a:lnTo>
                      <a:close/>
                    </a:path>
                  </a:pathLst>
                </a:custGeom>
                <a:blipFill rotWithShape="0">
                  <a:blip r:embed="rId9"/>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16" name=""/>
              <p:cNvGrpSpPr/>
              <p:nvPr/>
            </p:nvGrpSpPr>
            <p:grpSpPr>
              <a:xfrm>
                <a:off x="2016000" y="5913360"/>
                <a:ext cx="220680" cy="179640"/>
                <a:chOff x="2016000" y="5913360"/>
                <a:chExt cx="220680" cy="179640"/>
              </a:xfrm>
            </p:grpSpPr>
            <p:sp>
              <p:nvSpPr>
                <p:cNvPr id="417" name=""/>
                <p:cNvSpPr/>
                <p:nvPr/>
              </p:nvSpPr>
              <p:spPr>
                <a:xfrm>
                  <a:off x="2016000" y="5913360"/>
                  <a:ext cx="220680" cy="179640"/>
                </a:xfrm>
                <a:custGeom>
                  <a:avLst/>
                  <a:gdLst/>
                  <a:ahLst/>
                  <a:rect l="l" t="t" r="r" b="b"/>
                  <a:pathLst>
                    <a:path w="139" h="113">
                      <a:moveTo>
                        <a:pt x="63" y="10"/>
                      </a:moveTo>
                      <a:lnTo>
                        <a:pt x="78" y="0"/>
                      </a:lnTo>
                      <a:lnTo>
                        <a:pt x="97" y="1"/>
                      </a:lnTo>
                      <a:lnTo>
                        <a:pt x="108" y="10"/>
                      </a:lnTo>
                      <a:lnTo>
                        <a:pt x="112" y="25"/>
                      </a:lnTo>
                      <a:lnTo>
                        <a:pt x="107" y="41"/>
                      </a:lnTo>
                      <a:lnTo>
                        <a:pt x="125" y="51"/>
                      </a:lnTo>
                      <a:lnTo>
                        <a:pt x="136" y="68"/>
                      </a:lnTo>
                      <a:lnTo>
                        <a:pt x="139" y="72"/>
                      </a:lnTo>
                      <a:lnTo>
                        <a:pt x="131" y="87"/>
                      </a:lnTo>
                      <a:lnTo>
                        <a:pt x="117" y="93"/>
                      </a:lnTo>
                      <a:lnTo>
                        <a:pt x="99" y="94"/>
                      </a:lnTo>
                      <a:lnTo>
                        <a:pt x="91" y="92"/>
                      </a:lnTo>
                      <a:lnTo>
                        <a:pt x="85" y="103"/>
                      </a:lnTo>
                      <a:lnTo>
                        <a:pt x="70" y="111"/>
                      </a:lnTo>
                      <a:lnTo>
                        <a:pt x="55" y="113"/>
                      </a:lnTo>
                      <a:lnTo>
                        <a:pt x="36" y="109"/>
                      </a:lnTo>
                      <a:lnTo>
                        <a:pt x="31" y="109"/>
                      </a:lnTo>
                      <a:lnTo>
                        <a:pt x="19" y="96"/>
                      </a:lnTo>
                      <a:lnTo>
                        <a:pt x="14" y="79"/>
                      </a:lnTo>
                      <a:lnTo>
                        <a:pt x="13" y="71"/>
                      </a:lnTo>
                      <a:lnTo>
                        <a:pt x="0" y="60"/>
                      </a:lnTo>
                      <a:lnTo>
                        <a:pt x="0" y="39"/>
                      </a:lnTo>
                      <a:lnTo>
                        <a:pt x="10" y="25"/>
                      </a:lnTo>
                      <a:lnTo>
                        <a:pt x="24" y="16"/>
                      </a:lnTo>
                      <a:lnTo>
                        <a:pt x="32" y="18"/>
                      </a:lnTo>
                      <a:lnTo>
                        <a:pt x="35" y="4"/>
                      </a:lnTo>
                      <a:lnTo>
                        <a:pt x="47" y="2"/>
                      </a:lnTo>
                      <a:lnTo>
                        <a:pt x="56" y="4"/>
                      </a:lnTo>
                      <a:lnTo>
                        <a:pt x="63" y="10"/>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044440" y="5932440"/>
                  <a:ext cx="163440" cy="144360"/>
                </a:xfrm>
                <a:custGeom>
                  <a:avLst/>
                  <a:gdLst/>
                  <a:ahLst/>
                  <a:rect l="l" t="t" r="r" b="b"/>
                  <a:pathLst>
                    <a:path w="103" h="91">
                      <a:moveTo>
                        <a:pt x="43" y="31"/>
                      </a:moveTo>
                      <a:lnTo>
                        <a:pt x="49" y="19"/>
                      </a:lnTo>
                      <a:lnTo>
                        <a:pt x="53" y="6"/>
                      </a:lnTo>
                      <a:lnTo>
                        <a:pt x="65" y="1"/>
                      </a:lnTo>
                      <a:lnTo>
                        <a:pt x="76" y="0"/>
                      </a:lnTo>
                      <a:lnTo>
                        <a:pt x="80" y="7"/>
                      </a:lnTo>
                      <a:lnTo>
                        <a:pt x="83" y="15"/>
                      </a:lnTo>
                      <a:lnTo>
                        <a:pt x="77" y="23"/>
                      </a:lnTo>
                      <a:lnTo>
                        <a:pt x="67" y="29"/>
                      </a:lnTo>
                      <a:lnTo>
                        <a:pt x="60" y="37"/>
                      </a:lnTo>
                      <a:lnTo>
                        <a:pt x="68" y="39"/>
                      </a:lnTo>
                      <a:lnTo>
                        <a:pt x="79" y="36"/>
                      </a:lnTo>
                      <a:lnTo>
                        <a:pt x="90" y="38"/>
                      </a:lnTo>
                      <a:lnTo>
                        <a:pt x="93" y="41"/>
                      </a:lnTo>
                      <a:lnTo>
                        <a:pt x="101" y="47"/>
                      </a:lnTo>
                      <a:lnTo>
                        <a:pt x="103" y="56"/>
                      </a:lnTo>
                      <a:lnTo>
                        <a:pt x="98" y="67"/>
                      </a:lnTo>
                      <a:lnTo>
                        <a:pt x="88" y="73"/>
                      </a:lnTo>
                      <a:lnTo>
                        <a:pt x="75" y="71"/>
                      </a:lnTo>
                      <a:lnTo>
                        <a:pt x="64" y="62"/>
                      </a:lnTo>
                      <a:lnTo>
                        <a:pt x="56" y="52"/>
                      </a:lnTo>
                      <a:lnTo>
                        <a:pt x="52" y="60"/>
                      </a:lnTo>
                      <a:lnTo>
                        <a:pt x="60" y="70"/>
                      </a:lnTo>
                      <a:lnTo>
                        <a:pt x="62" y="80"/>
                      </a:lnTo>
                      <a:lnTo>
                        <a:pt x="50" y="89"/>
                      </a:lnTo>
                      <a:lnTo>
                        <a:pt x="35" y="91"/>
                      </a:lnTo>
                      <a:lnTo>
                        <a:pt x="22" y="84"/>
                      </a:lnTo>
                      <a:lnTo>
                        <a:pt x="17" y="73"/>
                      </a:lnTo>
                      <a:lnTo>
                        <a:pt x="18" y="61"/>
                      </a:lnTo>
                      <a:lnTo>
                        <a:pt x="30" y="56"/>
                      </a:lnTo>
                      <a:lnTo>
                        <a:pt x="40" y="52"/>
                      </a:lnTo>
                      <a:lnTo>
                        <a:pt x="37" y="46"/>
                      </a:lnTo>
                      <a:lnTo>
                        <a:pt x="27" y="53"/>
                      </a:lnTo>
                      <a:lnTo>
                        <a:pt x="14" y="54"/>
                      </a:lnTo>
                      <a:lnTo>
                        <a:pt x="2" y="45"/>
                      </a:lnTo>
                      <a:lnTo>
                        <a:pt x="0" y="33"/>
                      </a:lnTo>
                      <a:lnTo>
                        <a:pt x="6" y="26"/>
                      </a:lnTo>
                      <a:lnTo>
                        <a:pt x="14" y="23"/>
                      </a:lnTo>
                      <a:lnTo>
                        <a:pt x="23" y="22"/>
                      </a:lnTo>
                      <a:lnTo>
                        <a:pt x="27" y="13"/>
                      </a:lnTo>
                      <a:lnTo>
                        <a:pt x="32" y="7"/>
                      </a:lnTo>
                      <a:lnTo>
                        <a:pt x="40" y="11"/>
                      </a:lnTo>
                      <a:lnTo>
                        <a:pt x="42" y="19"/>
                      </a:lnTo>
                      <a:lnTo>
                        <a:pt x="43" y="31"/>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106360" y="5986440"/>
                  <a:ext cx="33480" cy="30240"/>
                </a:xfrm>
                <a:custGeom>
                  <a:avLst/>
                  <a:gdLst/>
                  <a:ahLst/>
                  <a:rect l="l" t="t" r="r" b="b"/>
                  <a:pathLst>
                    <a:path w="21" h="19">
                      <a:moveTo>
                        <a:pt x="4" y="0"/>
                      </a:moveTo>
                      <a:lnTo>
                        <a:pt x="16" y="2"/>
                      </a:lnTo>
                      <a:lnTo>
                        <a:pt x="21" y="9"/>
                      </a:lnTo>
                      <a:lnTo>
                        <a:pt x="15" y="19"/>
                      </a:lnTo>
                      <a:lnTo>
                        <a:pt x="5" y="17"/>
                      </a:lnTo>
                      <a:lnTo>
                        <a:pt x="0" y="7"/>
                      </a:lnTo>
                      <a:lnTo>
                        <a:pt x="4" y="0"/>
                      </a:lnTo>
                      <a:close/>
                    </a:path>
                  </a:pathLst>
                </a:custGeom>
                <a:blipFill rotWithShape="0">
                  <a:blip r:embed="rId12"/>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20" name=""/>
              <p:cNvGrpSpPr/>
              <p:nvPr/>
            </p:nvGrpSpPr>
            <p:grpSpPr>
              <a:xfrm>
                <a:off x="2568240" y="5924520"/>
                <a:ext cx="206280" cy="195480"/>
                <a:chOff x="2568240" y="5924520"/>
                <a:chExt cx="206280" cy="195480"/>
              </a:xfrm>
            </p:grpSpPr>
            <p:sp>
              <p:nvSpPr>
                <p:cNvPr id="421" name=""/>
                <p:cNvSpPr/>
                <p:nvPr/>
              </p:nvSpPr>
              <p:spPr>
                <a:xfrm>
                  <a:off x="2568240" y="5924520"/>
                  <a:ext cx="206280" cy="195480"/>
                </a:xfrm>
                <a:custGeom>
                  <a:avLst/>
                  <a:gdLst/>
                  <a:ahLst/>
                  <a:rect l="l" t="t" r="r" b="b"/>
                  <a:pathLst>
                    <a:path w="130" h="123">
                      <a:moveTo>
                        <a:pt x="23" y="36"/>
                      </a:moveTo>
                      <a:lnTo>
                        <a:pt x="26" y="17"/>
                      </a:lnTo>
                      <a:lnTo>
                        <a:pt x="40" y="4"/>
                      </a:lnTo>
                      <a:lnTo>
                        <a:pt x="54" y="0"/>
                      </a:lnTo>
                      <a:lnTo>
                        <a:pt x="69" y="6"/>
                      </a:lnTo>
                      <a:lnTo>
                        <a:pt x="78" y="20"/>
                      </a:lnTo>
                      <a:lnTo>
                        <a:pt x="98" y="12"/>
                      </a:lnTo>
                      <a:lnTo>
                        <a:pt x="119" y="13"/>
                      </a:lnTo>
                      <a:lnTo>
                        <a:pt x="123" y="13"/>
                      </a:lnTo>
                      <a:lnTo>
                        <a:pt x="130" y="28"/>
                      </a:lnTo>
                      <a:lnTo>
                        <a:pt x="126" y="44"/>
                      </a:lnTo>
                      <a:lnTo>
                        <a:pt x="115" y="58"/>
                      </a:lnTo>
                      <a:lnTo>
                        <a:pt x="108" y="64"/>
                      </a:lnTo>
                      <a:lnTo>
                        <a:pt x="113" y="76"/>
                      </a:lnTo>
                      <a:lnTo>
                        <a:pt x="109" y="92"/>
                      </a:lnTo>
                      <a:lnTo>
                        <a:pt x="100" y="105"/>
                      </a:lnTo>
                      <a:lnTo>
                        <a:pt x="85" y="118"/>
                      </a:lnTo>
                      <a:lnTo>
                        <a:pt x="81" y="121"/>
                      </a:lnTo>
                      <a:lnTo>
                        <a:pt x="63" y="123"/>
                      </a:lnTo>
                      <a:lnTo>
                        <a:pt x="46" y="116"/>
                      </a:lnTo>
                      <a:lnTo>
                        <a:pt x="39" y="112"/>
                      </a:lnTo>
                      <a:lnTo>
                        <a:pt x="21" y="115"/>
                      </a:lnTo>
                      <a:lnTo>
                        <a:pt x="5" y="103"/>
                      </a:lnTo>
                      <a:lnTo>
                        <a:pt x="1" y="87"/>
                      </a:lnTo>
                      <a:lnTo>
                        <a:pt x="3" y="70"/>
                      </a:lnTo>
                      <a:lnTo>
                        <a:pt x="9" y="65"/>
                      </a:lnTo>
                      <a:lnTo>
                        <a:pt x="0" y="54"/>
                      </a:lnTo>
                      <a:lnTo>
                        <a:pt x="7" y="43"/>
                      </a:lnTo>
                      <a:lnTo>
                        <a:pt x="15" y="37"/>
                      </a:lnTo>
                      <a:lnTo>
                        <a:pt x="23" y="36"/>
                      </a:lnTo>
                      <a:close/>
                    </a:path>
                  </a:pathLst>
                </a:cu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599920" y="5942160"/>
                  <a:ext cx="149400" cy="152280"/>
                </a:xfrm>
                <a:custGeom>
                  <a:avLst/>
                  <a:gdLst/>
                  <a:ahLst/>
                  <a:rect l="l" t="t" r="r" b="b"/>
                  <a:pathLst>
                    <a:path w="94" h="96">
                      <a:moveTo>
                        <a:pt x="29" y="46"/>
                      </a:moveTo>
                      <a:lnTo>
                        <a:pt x="24" y="33"/>
                      </a:lnTo>
                      <a:lnTo>
                        <a:pt x="15" y="22"/>
                      </a:lnTo>
                      <a:lnTo>
                        <a:pt x="20" y="9"/>
                      </a:lnTo>
                      <a:lnTo>
                        <a:pt x="26" y="0"/>
                      </a:lnTo>
                      <a:lnTo>
                        <a:pt x="35" y="1"/>
                      </a:lnTo>
                      <a:lnTo>
                        <a:pt x="43" y="4"/>
                      </a:lnTo>
                      <a:lnTo>
                        <a:pt x="45" y="14"/>
                      </a:lnTo>
                      <a:lnTo>
                        <a:pt x="43" y="25"/>
                      </a:lnTo>
                      <a:lnTo>
                        <a:pt x="45" y="36"/>
                      </a:lnTo>
                      <a:lnTo>
                        <a:pt x="51" y="31"/>
                      </a:lnTo>
                      <a:lnTo>
                        <a:pt x="57" y="21"/>
                      </a:lnTo>
                      <a:lnTo>
                        <a:pt x="65" y="13"/>
                      </a:lnTo>
                      <a:lnTo>
                        <a:pt x="70" y="12"/>
                      </a:lnTo>
                      <a:lnTo>
                        <a:pt x="80" y="9"/>
                      </a:lnTo>
                      <a:lnTo>
                        <a:pt x="88" y="13"/>
                      </a:lnTo>
                      <a:lnTo>
                        <a:pt x="94" y="25"/>
                      </a:lnTo>
                      <a:lnTo>
                        <a:pt x="92" y="36"/>
                      </a:lnTo>
                      <a:lnTo>
                        <a:pt x="81" y="45"/>
                      </a:lnTo>
                      <a:lnTo>
                        <a:pt x="67" y="48"/>
                      </a:lnTo>
                      <a:lnTo>
                        <a:pt x="55" y="48"/>
                      </a:lnTo>
                      <a:lnTo>
                        <a:pt x="57" y="57"/>
                      </a:lnTo>
                      <a:lnTo>
                        <a:pt x="70" y="57"/>
                      </a:lnTo>
                      <a:lnTo>
                        <a:pt x="81" y="61"/>
                      </a:lnTo>
                      <a:lnTo>
                        <a:pt x="80" y="76"/>
                      </a:lnTo>
                      <a:lnTo>
                        <a:pt x="71" y="89"/>
                      </a:lnTo>
                      <a:lnTo>
                        <a:pt x="57" y="96"/>
                      </a:lnTo>
                      <a:lnTo>
                        <a:pt x="45" y="92"/>
                      </a:lnTo>
                      <a:lnTo>
                        <a:pt x="36" y="85"/>
                      </a:lnTo>
                      <a:lnTo>
                        <a:pt x="40" y="72"/>
                      </a:lnTo>
                      <a:lnTo>
                        <a:pt x="44" y="61"/>
                      </a:lnTo>
                      <a:lnTo>
                        <a:pt x="37" y="59"/>
                      </a:lnTo>
                      <a:lnTo>
                        <a:pt x="35" y="72"/>
                      </a:lnTo>
                      <a:lnTo>
                        <a:pt x="29" y="83"/>
                      </a:lnTo>
                      <a:lnTo>
                        <a:pt x="13" y="87"/>
                      </a:lnTo>
                      <a:lnTo>
                        <a:pt x="2" y="82"/>
                      </a:lnTo>
                      <a:lnTo>
                        <a:pt x="0" y="73"/>
                      </a:lnTo>
                      <a:lnTo>
                        <a:pt x="3" y="64"/>
                      </a:lnTo>
                      <a:lnTo>
                        <a:pt x="9" y="56"/>
                      </a:lnTo>
                      <a:lnTo>
                        <a:pt x="4" y="47"/>
                      </a:lnTo>
                      <a:lnTo>
                        <a:pt x="2" y="39"/>
                      </a:lnTo>
                      <a:lnTo>
                        <a:pt x="11" y="37"/>
                      </a:lnTo>
                      <a:lnTo>
                        <a:pt x="19" y="39"/>
                      </a:lnTo>
                      <a:lnTo>
                        <a:pt x="29" y="46"/>
                      </a:lnTo>
                      <a:close/>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2649240" y="6002280"/>
                  <a:ext cx="34920" cy="31680"/>
                </a:xfrm>
                <a:custGeom>
                  <a:avLst/>
                  <a:gdLst/>
                  <a:ahLst/>
                  <a:rect l="l" t="t" r="r" b="b"/>
                  <a:pathLst>
                    <a:path w="22" h="20">
                      <a:moveTo>
                        <a:pt x="0" y="9"/>
                      </a:moveTo>
                      <a:lnTo>
                        <a:pt x="10" y="0"/>
                      </a:lnTo>
                      <a:lnTo>
                        <a:pt x="19" y="1"/>
                      </a:lnTo>
                      <a:lnTo>
                        <a:pt x="22" y="12"/>
                      </a:lnTo>
                      <a:lnTo>
                        <a:pt x="14" y="20"/>
                      </a:lnTo>
                      <a:lnTo>
                        <a:pt x="3" y="18"/>
                      </a:lnTo>
                      <a:lnTo>
                        <a:pt x="0" y="9"/>
                      </a:lnTo>
                      <a:close/>
                    </a:path>
                  </a:pathLst>
                </a:custGeom>
                <a:blipFill rotWithShape="0">
                  <a:blip r:embed="rId1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424" name=""/>
              <p:cNvGrpSpPr/>
              <p:nvPr/>
            </p:nvGrpSpPr>
            <p:grpSpPr>
              <a:xfrm>
                <a:off x="2892240" y="5560920"/>
                <a:ext cx="195120" cy="258840"/>
                <a:chOff x="2892240" y="5560920"/>
                <a:chExt cx="195120" cy="258840"/>
              </a:xfrm>
            </p:grpSpPr>
            <p:sp>
              <p:nvSpPr>
                <p:cNvPr id="425" name=""/>
                <p:cNvSpPr/>
                <p:nvPr/>
              </p:nvSpPr>
              <p:spPr>
                <a:xfrm>
                  <a:off x="2892240" y="5560920"/>
                  <a:ext cx="195120" cy="258840"/>
                </a:xfrm>
                <a:custGeom>
                  <a:avLst/>
                  <a:gdLst/>
                  <a:ahLst/>
                  <a:rect l="l" t="t" r="r" b="b"/>
                  <a:pathLst>
                    <a:path w="123" h="163">
                      <a:moveTo>
                        <a:pt x="41" y="26"/>
                      </a:moveTo>
                      <a:lnTo>
                        <a:pt x="50" y="6"/>
                      </a:lnTo>
                      <a:lnTo>
                        <a:pt x="66" y="0"/>
                      </a:lnTo>
                      <a:lnTo>
                        <a:pt x="78" y="4"/>
                      </a:lnTo>
                      <a:lnTo>
                        <a:pt x="86" y="21"/>
                      </a:lnTo>
                      <a:lnTo>
                        <a:pt x="87" y="43"/>
                      </a:lnTo>
                      <a:lnTo>
                        <a:pt x="105" y="46"/>
                      </a:lnTo>
                      <a:lnTo>
                        <a:pt x="119" y="61"/>
                      </a:lnTo>
                      <a:lnTo>
                        <a:pt x="123" y="64"/>
                      </a:lnTo>
                      <a:lnTo>
                        <a:pt x="121" y="86"/>
                      </a:lnTo>
                      <a:lnTo>
                        <a:pt x="112" y="101"/>
                      </a:lnTo>
                      <a:lnTo>
                        <a:pt x="98" y="111"/>
                      </a:lnTo>
                      <a:lnTo>
                        <a:pt x="91" y="113"/>
                      </a:lnTo>
                      <a:lnTo>
                        <a:pt x="89" y="129"/>
                      </a:lnTo>
                      <a:lnTo>
                        <a:pt x="80" y="146"/>
                      </a:lnTo>
                      <a:lnTo>
                        <a:pt x="68" y="156"/>
                      </a:lnTo>
                      <a:lnTo>
                        <a:pt x="52" y="161"/>
                      </a:lnTo>
                      <a:lnTo>
                        <a:pt x="48" y="163"/>
                      </a:lnTo>
                      <a:lnTo>
                        <a:pt x="34" y="153"/>
                      </a:lnTo>
                      <a:lnTo>
                        <a:pt x="24" y="134"/>
                      </a:lnTo>
                      <a:lnTo>
                        <a:pt x="21" y="126"/>
                      </a:lnTo>
                      <a:lnTo>
                        <a:pt x="7" y="118"/>
                      </a:lnTo>
                      <a:lnTo>
                        <a:pt x="0" y="93"/>
                      </a:lnTo>
                      <a:lnTo>
                        <a:pt x="3" y="71"/>
                      </a:lnTo>
                      <a:lnTo>
                        <a:pt x="11" y="53"/>
                      </a:lnTo>
                      <a:lnTo>
                        <a:pt x="18" y="51"/>
                      </a:lnTo>
                      <a:lnTo>
                        <a:pt x="16" y="33"/>
                      </a:lnTo>
                      <a:lnTo>
                        <a:pt x="26" y="24"/>
                      </a:lnTo>
                      <a:lnTo>
                        <a:pt x="34" y="23"/>
                      </a:lnTo>
                      <a:lnTo>
                        <a:pt x="41" y="26"/>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919240" y="5581800"/>
                  <a:ext cx="144360" cy="209520"/>
                </a:xfrm>
                <a:custGeom>
                  <a:avLst/>
                  <a:gdLst/>
                  <a:ahLst/>
                  <a:rect l="l" t="t" r="r" b="b"/>
                  <a:pathLst>
                    <a:path w="91" h="132">
                      <a:moveTo>
                        <a:pt x="34" y="55"/>
                      </a:moveTo>
                      <a:lnTo>
                        <a:pt x="35" y="37"/>
                      </a:lnTo>
                      <a:lnTo>
                        <a:pt x="34" y="19"/>
                      </a:lnTo>
                      <a:lnTo>
                        <a:pt x="42" y="7"/>
                      </a:lnTo>
                      <a:lnTo>
                        <a:pt x="51" y="0"/>
                      </a:lnTo>
                      <a:lnTo>
                        <a:pt x="56" y="7"/>
                      </a:lnTo>
                      <a:lnTo>
                        <a:pt x="61" y="15"/>
                      </a:lnTo>
                      <a:lnTo>
                        <a:pt x="59" y="29"/>
                      </a:lnTo>
                      <a:lnTo>
                        <a:pt x="53" y="40"/>
                      </a:lnTo>
                      <a:lnTo>
                        <a:pt x="49" y="54"/>
                      </a:lnTo>
                      <a:lnTo>
                        <a:pt x="56" y="52"/>
                      </a:lnTo>
                      <a:lnTo>
                        <a:pt x="65" y="44"/>
                      </a:lnTo>
                      <a:lnTo>
                        <a:pt x="74" y="40"/>
                      </a:lnTo>
                      <a:lnTo>
                        <a:pt x="78" y="42"/>
                      </a:lnTo>
                      <a:lnTo>
                        <a:pt x="86" y="45"/>
                      </a:lnTo>
                      <a:lnTo>
                        <a:pt x="91" y="55"/>
                      </a:lnTo>
                      <a:lnTo>
                        <a:pt x="91" y="72"/>
                      </a:lnTo>
                      <a:lnTo>
                        <a:pt x="84" y="84"/>
                      </a:lnTo>
                      <a:lnTo>
                        <a:pt x="73" y="87"/>
                      </a:lnTo>
                      <a:lnTo>
                        <a:pt x="61" y="82"/>
                      </a:lnTo>
                      <a:lnTo>
                        <a:pt x="52" y="74"/>
                      </a:lnTo>
                      <a:lnTo>
                        <a:pt x="51" y="85"/>
                      </a:lnTo>
                      <a:lnTo>
                        <a:pt x="60" y="94"/>
                      </a:lnTo>
                      <a:lnTo>
                        <a:pt x="66" y="106"/>
                      </a:lnTo>
                      <a:lnTo>
                        <a:pt x="59" y="122"/>
                      </a:lnTo>
                      <a:lnTo>
                        <a:pt x="47" y="132"/>
                      </a:lnTo>
                      <a:lnTo>
                        <a:pt x="34" y="131"/>
                      </a:lnTo>
                      <a:lnTo>
                        <a:pt x="27" y="119"/>
                      </a:lnTo>
                      <a:lnTo>
                        <a:pt x="23" y="104"/>
                      </a:lnTo>
                      <a:lnTo>
                        <a:pt x="32" y="92"/>
                      </a:lnTo>
                      <a:lnTo>
                        <a:pt x="39" y="82"/>
                      </a:lnTo>
                      <a:lnTo>
                        <a:pt x="34" y="75"/>
                      </a:lnTo>
                      <a:lnTo>
                        <a:pt x="28" y="89"/>
                      </a:lnTo>
                      <a:lnTo>
                        <a:pt x="19" y="97"/>
                      </a:lnTo>
                      <a:lnTo>
                        <a:pt x="6" y="92"/>
                      </a:lnTo>
                      <a:lnTo>
                        <a:pt x="0" y="79"/>
                      </a:lnTo>
                      <a:lnTo>
                        <a:pt x="2" y="67"/>
                      </a:lnTo>
                      <a:lnTo>
                        <a:pt x="8" y="59"/>
                      </a:lnTo>
                      <a:lnTo>
                        <a:pt x="15" y="54"/>
                      </a:lnTo>
                      <a:lnTo>
                        <a:pt x="15" y="40"/>
                      </a:lnTo>
                      <a:lnTo>
                        <a:pt x="17" y="30"/>
                      </a:lnTo>
                      <a:lnTo>
                        <a:pt x="25" y="32"/>
                      </a:lnTo>
                      <a:lnTo>
                        <a:pt x="29" y="40"/>
                      </a:lnTo>
                      <a:lnTo>
                        <a:pt x="34" y="55"/>
                      </a:lnTo>
                      <a:close/>
                    </a:path>
                  </a:pathLst>
                </a:cu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973240" y="5667480"/>
                  <a:ext cx="27000" cy="39600"/>
                </a:xfrm>
                <a:custGeom>
                  <a:avLst/>
                  <a:gdLst/>
                  <a:ahLst/>
                  <a:rect l="l" t="t" r="r" b="b"/>
                  <a:pathLst>
                    <a:path w="17" h="25">
                      <a:moveTo>
                        <a:pt x="1" y="3"/>
                      </a:moveTo>
                      <a:lnTo>
                        <a:pt x="11" y="0"/>
                      </a:lnTo>
                      <a:lnTo>
                        <a:pt x="17" y="6"/>
                      </a:lnTo>
                      <a:lnTo>
                        <a:pt x="16" y="21"/>
                      </a:lnTo>
                      <a:lnTo>
                        <a:pt x="6" y="25"/>
                      </a:lnTo>
                      <a:lnTo>
                        <a:pt x="0" y="15"/>
                      </a:lnTo>
                      <a:lnTo>
                        <a:pt x="1" y="3"/>
                      </a:lnTo>
                      <a:close/>
                    </a:path>
                  </a:pathLst>
                </a:custGeom>
                <a:blipFill rotWithShape="0">
                  <a:blip r:embed="rId18"/>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428" name=""/>
            <p:cNvGrpSpPr/>
            <p:nvPr/>
          </p:nvGrpSpPr>
          <p:grpSpPr>
            <a:xfrm>
              <a:off x="838080" y="5718240"/>
              <a:ext cx="2263680" cy="433440"/>
              <a:chOff x="838080" y="5718240"/>
              <a:chExt cx="2263680" cy="433440"/>
            </a:xfrm>
          </p:grpSpPr>
          <p:sp>
            <p:nvSpPr>
              <p:cNvPr id="429" name=""/>
              <p:cNvSpPr/>
              <p:nvPr/>
            </p:nvSpPr>
            <p:spPr>
              <a:xfrm>
                <a:off x="1820520" y="5832360"/>
                <a:ext cx="142920" cy="270000"/>
              </a:xfrm>
              <a:custGeom>
                <a:avLst/>
                <a:gdLst/>
                <a:ahLst/>
                <a:rect l="l" t="t" r="r" b="b"/>
                <a:pathLst>
                  <a:path w="90" h="170">
                    <a:moveTo>
                      <a:pt x="81" y="148"/>
                    </a:moveTo>
                    <a:lnTo>
                      <a:pt x="89" y="112"/>
                    </a:lnTo>
                    <a:lnTo>
                      <a:pt x="90" y="86"/>
                    </a:lnTo>
                    <a:lnTo>
                      <a:pt x="89" y="57"/>
                    </a:lnTo>
                    <a:lnTo>
                      <a:pt x="83" y="28"/>
                    </a:lnTo>
                    <a:lnTo>
                      <a:pt x="71" y="0"/>
                    </a:lnTo>
                    <a:lnTo>
                      <a:pt x="60" y="0"/>
                    </a:lnTo>
                    <a:lnTo>
                      <a:pt x="60" y="19"/>
                    </a:lnTo>
                    <a:lnTo>
                      <a:pt x="69" y="61"/>
                    </a:lnTo>
                    <a:lnTo>
                      <a:pt x="69" y="93"/>
                    </a:lnTo>
                    <a:lnTo>
                      <a:pt x="65" y="128"/>
                    </a:lnTo>
                    <a:lnTo>
                      <a:pt x="56" y="148"/>
                    </a:lnTo>
                    <a:lnTo>
                      <a:pt x="55" y="123"/>
                    </a:lnTo>
                    <a:lnTo>
                      <a:pt x="47" y="95"/>
                    </a:lnTo>
                    <a:lnTo>
                      <a:pt x="36" y="68"/>
                    </a:lnTo>
                    <a:lnTo>
                      <a:pt x="20" y="45"/>
                    </a:lnTo>
                    <a:lnTo>
                      <a:pt x="3" y="26"/>
                    </a:lnTo>
                    <a:lnTo>
                      <a:pt x="0" y="36"/>
                    </a:lnTo>
                    <a:lnTo>
                      <a:pt x="13" y="68"/>
                    </a:lnTo>
                    <a:lnTo>
                      <a:pt x="26" y="102"/>
                    </a:lnTo>
                    <a:lnTo>
                      <a:pt x="25" y="106"/>
                    </a:lnTo>
                    <a:lnTo>
                      <a:pt x="30" y="137"/>
                    </a:lnTo>
                    <a:lnTo>
                      <a:pt x="31" y="160"/>
                    </a:lnTo>
                    <a:lnTo>
                      <a:pt x="38" y="168"/>
                    </a:lnTo>
                    <a:lnTo>
                      <a:pt x="42" y="170"/>
                    </a:lnTo>
                    <a:lnTo>
                      <a:pt x="55" y="166"/>
                    </a:lnTo>
                    <a:lnTo>
                      <a:pt x="57" y="156"/>
                    </a:lnTo>
                    <a:lnTo>
                      <a:pt x="65" y="165"/>
                    </a:lnTo>
                    <a:lnTo>
                      <a:pt x="79" y="159"/>
                    </a:lnTo>
                    <a:lnTo>
                      <a:pt x="81" y="14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752480" y="5954760"/>
                <a:ext cx="60120" cy="196920"/>
              </a:xfrm>
              <a:custGeom>
                <a:avLst/>
                <a:gdLst/>
                <a:ahLst/>
                <a:rect l="l" t="t" r="r" b="b"/>
                <a:pathLst>
                  <a:path w="38" h="124">
                    <a:moveTo>
                      <a:pt x="6" y="0"/>
                    </a:moveTo>
                    <a:lnTo>
                      <a:pt x="23" y="32"/>
                    </a:lnTo>
                    <a:lnTo>
                      <a:pt x="34" y="66"/>
                    </a:lnTo>
                    <a:lnTo>
                      <a:pt x="38" y="91"/>
                    </a:lnTo>
                    <a:lnTo>
                      <a:pt x="37" y="94"/>
                    </a:lnTo>
                    <a:lnTo>
                      <a:pt x="38" y="112"/>
                    </a:lnTo>
                    <a:lnTo>
                      <a:pt x="31" y="122"/>
                    </a:lnTo>
                    <a:lnTo>
                      <a:pt x="23" y="124"/>
                    </a:lnTo>
                    <a:lnTo>
                      <a:pt x="13" y="120"/>
                    </a:lnTo>
                    <a:lnTo>
                      <a:pt x="9" y="106"/>
                    </a:lnTo>
                    <a:lnTo>
                      <a:pt x="13" y="86"/>
                    </a:lnTo>
                    <a:lnTo>
                      <a:pt x="15" y="63"/>
                    </a:lnTo>
                    <a:lnTo>
                      <a:pt x="11" y="43"/>
                    </a:lnTo>
                    <a:lnTo>
                      <a:pt x="4" y="22"/>
                    </a:lnTo>
                    <a:lnTo>
                      <a:pt x="0" y="3"/>
                    </a:lnTo>
                    <a:lnTo>
                      <a:pt x="6"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626840" y="5864400"/>
                <a:ext cx="61920" cy="217440"/>
              </a:xfrm>
              <a:custGeom>
                <a:avLst/>
                <a:gdLst/>
                <a:ahLst/>
                <a:rect l="l" t="t" r="r" b="b"/>
                <a:pathLst>
                  <a:path w="39" h="137">
                    <a:moveTo>
                      <a:pt x="2" y="111"/>
                    </a:moveTo>
                    <a:lnTo>
                      <a:pt x="5" y="76"/>
                    </a:lnTo>
                    <a:lnTo>
                      <a:pt x="15" y="42"/>
                    </a:lnTo>
                    <a:lnTo>
                      <a:pt x="24" y="18"/>
                    </a:lnTo>
                    <a:lnTo>
                      <a:pt x="34" y="0"/>
                    </a:lnTo>
                    <a:lnTo>
                      <a:pt x="39" y="3"/>
                    </a:lnTo>
                    <a:lnTo>
                      <a:pt x="32" y="35"/>
                    </a:lnTo>
                    <a:lnTo>
                      <a:pt x="25" y="77"/>
                    </a:lnTo>
                    <a:lnTo>
                      <a:pt x="21" y="108"/>
                    </a:lnTo>
                    <a:lnTo>
                      <a:pt x="19" y="128"/>
                    </a:lnTo>
                    <a:lnTo>
                      <a:pt x="12" y="137"/>
                    </a:lnTo>
                    <a:lnTo>
                      <a:pt x="3" y="133"/>
                    </a:lnTo>
                    <a:lnTo>
                      <a:pt x="0" y="122"/>
                    </a:lnTo>
                    <a:lnTo>
                      <a:pt x="2" y="111"/>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566720" y="5803920"/>
                <a:ext cx="77760" cy="314280"/>
              </a:xfrm>
              <a:custGeom>
                <a:avLst/>
                <a:gdLst/>
                <a:ahLst/>
                <a:rect l="l" t="t" r="r" b="b"/>
                <a:pathLst>
                  <a:path w="49" h="198">
                    <a:moveTo>
                      <a:pt x="3" y="169"/>
                    </a:moveTo>
                    <a:lnTo>
                      <a:pt x="7" y="125"/>
                    </a:lnTo>
                    <a:lnTo>
                      <a:pt x="12" y="98"/>
                    </a:lnTo>
                    <a:lnTo>
                      <a:pt x="18" y="69"/>
                    </a:lnTo>
                    <a:lnTo>
                      <a:pt x="26" y="41"/>
                    </a:lnTo>
                    <a:lnTo>
                      <a:pt x="36" y="16"/>
                    </a:lnTo>
                    <a:lnTo>
                      <a:pt x="45" y="0"/>
                    </a:lnTo>
                    <a:lnTo>
                      <a:pt x="49" y="4"/>
                    </a:lnTo>
                    <a:lnTo>
                      <a:pt x="40" y="45"/>
                    </a:lnTo>
                    <a:lnTo>
                      <a:pt x="31" y="89"/>
                    </a:lnTo>
                    <a:lnTo>
                      <a:pt x="28" y="125"/>
                    </a:lnTo>
                    <a:lnTo>
                      <a:pt x="26" y="156"/>
                    </a:lnTo>
                    <a:lnTo>
                      <a:pt x="26" y="184"/>
                    </a:lnTo>
                    <a:lnTo>
                      <a:pt x="23" y="193"/>
                    </a:lnTo>
                    <a:lnTo>
                      <a:pt x="17" y="198"/>
                    </a:lnTo>
                    <a:lnTo>
                      <a:pt x="6" y="195"/>
                    </a:lnTo>
                    <a:lnTo>
                      <a:pt x="4" y="188"/>
                    </a:lnTo>
                    <a:lnTo>
                      <a:pt x="0" y="175"/>
                    </a:lnTo>
                    <a:lnTo>
                      <a:pt x="3" y="169"/>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482480" y="5842080"/>
                <a:ext cx="61920" cy="268200"/>
              </a:xfrm>
              <a:custGeom>
                <a:avLst/>
                <a:gdLst/>
                <a:ahLst/>
                <a:rect l="l" t="t" r="r" b="b"/>
                <a:pathLst>
                  <a:path w="39" h="169">
                    <a:moveTo>
                      <a:pt x="13" y="160"/>
                    </a:moveTo>
                    <a:lnTo>
                      <a:pt x="5" y="134"/>
                    </a:lnTo>
                    <a:lnTo>
                      <a:pt x="2" y="112"/>
                    </a:lnTo>
                    <a:lnTo>
                      <a:pt x="0" y="83"/>
                    </a:lnTo>
                    <a:lnTo>
                      <a:pt x="2" y="52"/>
                    </a:lnTo>
                    <a:lnTo>
                      <a:pt x="7" y="25"/>
                    </a:lnTo>
                    <a:lnTo>
                      <a:pt x="17" y="0"/>
                    </a:lnTo>
                    <a:lnTo>
                      <a:pt x="23" y="2"/>
                    </a:lnTo>
                    <a:lnTo>
                      <a:pt x="18" y="33"/>
                    </a:lnTo>
                    <a:lnTo>
                      <a:pt x="17" y="66"/>
                    </a:lnTo>
                    <a:lnTo>
                      <a:pt x="18" y="91"/>
                    </a:lnTo>
                    <a:lnTo>
                      <a:pt x="21" y="113"/>
                    </a:lnTo>
                    <a:lnTo>
                      <a:pt x="28" y="133"/>
                    </a:lnTo>
                    <a:lnTo>
                      <a:pt x="36" y="148"/>
                    </a:lnTo>
                    <a:lnTo>
                      <a:pt x="39" y="158"/>
                    </a:lnTo>
                    <a:lnTo>
                      <a:pt x="38" y="164"/>
                    </a:lnTo>
                    <a:lnTo>
                      <a:pt x="35" y="166"/>
                    </a:lnTo>
                    <a:lnTo>
                      <a:pt x="30" y="169"/>
                    </a:lnTo>
                    <a:lnTo>
                      <a:pt x="22" y="164"/>
                    </a:lnTo>
                    <a:lnTo>
                      <a:pt x="13" y="16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344240" y="5799240"/>
                <a:ext cx="57240" cy="284040"/>
              </a:xfrm>
              <a:custGeom>
                <a:avLst/>
                <a:gdLst/>
                <a:ahLst/>
                <a:rect l="l" t="t" r="r" b="b"/>
                <a:pathLst>
                  <a:path w="36" h="179">
                    <a:moveTo>
                      <a:pt x="16" y="0"/>
                    </a:moveTo>
                    <a:lnTo>
                      <a:pt x="28" y="32"/>
                    </a:lnTo>
                    <a:lnTo>
                      <a:pt x="35" y="61"/>
                    </a:lnTo>
                    <a:lnTo>
                      <a:pt x="36" y="92"/>
                    </a:lnTo>
                    <a:lnTo>
                      <a:pt x="35" y="121"/>
                    </a:lnTo>
                    <a:lnTo>
                      <a:pt x="29" y="149"/>
                    </a:lnTo>
                    <a:lnTo>
                      <a:pt x="22" y="169"/>
                    </a:lnTo>
                    <a:lnTo>
                      <a:pt x="13" y="179"/>
                    </a:lnTo>
                    <a:lnTo>
                      <a:pt x="5" y="176"/>
                    </a:lnTo>
                    <a:lnTo>
                      <a:pt x="0" y="169"/>
                    </a:lnTo>
                    <a:lnTo>
                      <a:pt x="1" y="158"/>
                    </a:lnTo>
                    <a:lnTo>
                      <a:pt x="8" y="144"/>
                    </a:lnTo>
                    <a:lnTo>
                      <a:pt x="17" y="123"/>
                    </a:lnTo>
                    <a:lnTo>
                      <a:pt x="21" y="98"/>
                    </a:lnTo>
                    <a:lnTo>
                      <a:pt x="22" y="74"/>
                    </a:lnTo>
                    <a:lnTo>
                      <a:pt x="21" y="50"/>
                    </a:lnTo>
                    <a:lnTo>
                      <a:pt x="17" y="31"/>
                    </a:lnTo>
                    <a:lnTo>
                      <a:pt x="13" y="9"/>
                    </a:lnTo>
                    <a:lnTo>
                      <a:pt x="16"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296720" y="5886360"/>
                <a:ext cx="41400" cy="228600"/>
              </a:xfrm>
              <a:custGeom>
                <a:avLst/>
                <a:gdLst/>
                <a:ahLst/>
                <a:rect l="l" t="t" r="r" b="b"/>
                <a:pathLst>
                  <a:path w="26" h="144">
                    <a:moveTo>
                      <a:pt x="13" y="0"/>
                    </a:moveTo>
                    <a:lnTo>
                      <a:pt x="23" y="24"/>
                    </a:lnTo>
                    <a:lnTo>
                      <a:pt x="26" y="51"/>
                    </a:lnTo>
                    <a:lnTo>
                      <a:pt x="25" y="77"/>
                    </a:lnTo>
                    <a:lnTo>
                      <a:pt x="22" y="105"/>
                    </a:lnTo>
                    <a:lnTo>
                      <a:pt x="18" y="130"/>
                    </a:lnTo>
                    <a:lnTo>
                      <a:pt x="14" y="144"/>
                    </a:lnTo>
                    <a:lnTo>
                      <a:pt x="4" y="144"/>
                    </a:lnTo>
                    <a:lnTo>
                      <a:pt x="0" y="135"/>
                    </a:lnTo>
                    <a:lnTo>
                      <a:pt x="0" y="122"/>
                    </a:lnTo>
                    <a:lnTo>
                      <a:pt x="4" y="98"/>
                    </a:lnTo>
                    <a:lnTo>
                      <a:pt x="9" y="65"/>
                    </a:lnTo>
                    <a:lnTo>
                      <a:pt x="11" y="34"/>
                    </a:lnTo>
                    <a:lnTo>
                      <a:pt x="11" y="9"/>
                    </a:lnTo>
                    <a:lnTo>
                      <a:pt x="13"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133280" y="5803920"/>
                <a:ext cx="108000" cy="276120"/>
              </a:xfrm>
              <a:custGeom>
                <a:avLst/>
                <a:gdLst/>
                <a:ahLst/>
                <a:rect l="l" t="t" r="r" b="b"/>
                <a:pathLst>
                  <a:path w="68" h="174">
                    <a:moveTo>
                      <a:pt x="35" y="0"/>
                    </a:moveTo>
                    <a:lnTo>
                      <a:pt x="44" y="33"/>
                    </a:lnTo>
                    <a:lnTo>
                      <a:pt x="46" y="69"/>
                    </a:lnTo>
                    <a:lnTo>
                      <a:pt x="41" y="108"/>
                    </a:lnTo>
                    <a:lnTo>
                      <a:pt x="33" y="136"/>
                    </a:lnTo>
                    <a:lnTo>
                      <a:pt x="36" y="100"/>
                    </a:lnTo>
                    <a:lnTo>
                      <a:pt x="29" y="73"/>
                    </a:lnTo>
                    <a:lnTo>
                      <a:pt x="16" y="48"/>
                    </a:lnTo>
                    <a:lnTo>
                      <a:pt x="3" y="36"/>
                    </a:lnTo>
                    <a:lnTo>
                      <a:pt x="0" y="44"/>
                    </a:lnTo>
                    <a:lnTo>
                      <a:pt x="15" y="77"/>
                    </a:lnTo>
                    <a:lnTo>
                      <a:pt x="21" y="103"/>
                    </a:lnTo>
                    <a:lnTo>
                      <a:pt x="19" y="128"/>
                    </a:lnTo>
                    <a:lnTo>
                      <a:pt x="12" y="158"/>
                    </a:lnTo>
                    <a:lnTo>
                      <a:pt x="16" y="170"/>
                    </a:lnTo>
                    <a:lnTo>
                      <a:pt x="27" y="174"/>
                    </a:lnTo>
                    <a:lnTo>
                      <a:pt x="36" y="162"/>
                    </a:lnTo>
                    <a:lnTo>
                      <a:pt x="44" y="169"/>
                    </a:lnTo>
                    <a:lnTo>
                      <a:pt x="58" y="166"/>
                    </a:lnTo>
                    <a:lnTo>
                      <a:pt x="65" y="150"/>
                    </a:lnTo>
                    <a:lnTo>
                      <a:pt x="68" y="126"/>
                    </a:lnTo>
                    <a:lnTo>
                      <a:pt x="65" y="83"/>
                    </a:lnTo>
                    <a:lnTo>
                      <a:pt x="56" y="37"/>
                    </a:lnTo>
                    <a:lnTo>
                      <a:pt x="43" y="0"/>
                    </a:lnTo>
                    <a:lnTo>
                      <a:pt x="35"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982440" y="5851440"/>
                <a:ext cx="61920" cy="219240"/>
              </a:xfrm>
              <a:custGeom>
                <a:avLst/>
                <a:gdLst/>
                <a:ahLst/>
                <a:rect l="l" t="t" r="r" b="b"/>
                <a:pathLst>
                  <a:path w="39" h="138">
                    <a:moveTo>
                      <a:pt x="2" y="113"/>
                    </a:moveTo>
                    <a:lnTo>
                      <a:pt x="5" y="77"/>
                    </a:lnTo>
                    <a:lnTo>
                      <a:pt x="15" y="43"/>
                    </a:lnTo>
                    <a:lnTo>
                      <a:pt x="24" y="19"/>
                    </a:lnTo>
                    <a:lnTo>
                      <a:pt x="34" y="0"/>
                    </a:lnTo>
                    <a:lnTo>
                      <a:pt x="39" y="3"/>
                    </a:lnTo>
                    <a:lnTo>
                      <a:pt x="32" y="36"/>
                    </a:lnTo>
                    <a:lnTo>
                      <a:pt x="25" y="78"/>
                    </a:lnTo>
                    <a:lnTo>
                      <a:pt x="21" y="110"/>
                    </a:lnTo>
                    <a:lnTo>
                      <a:pt x="19" y="129"/>
                    </a:lnTo>
                    <a:lnTo>
                      <a:pt x="12" y="138"/>
                    </a:lnTo>
                    <a:lnTo>
                      <a:pt x="3" y="135"/>
                    </a:lnTo>
                    <a:lnTo>
                      <a:pt x="0" y="124"/>
                    </a:lnTo>
                    <a:lnTo>
                      <a:pt x="2" y="113"/>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921960" y="5791320"/>
                <a:ext cx="77760" cy="314280"/>
              </a:xfrm>
              <a:custGeom>
                <a:avLst/>
                <a:gdLst/>
                <a:ahLst/>
                <a:rect l="l" t="t" r="r" b="b"/>
                <a:pathLst>
                  <a:path w="49" h="198">
                    <a:moveTo>
                      <a:pt x="3" y="169"/>
                    </a:moveTo>
                    <a:lnTo>
                      <a:pt x="7" y="125"/>
                    </a:lnTo>
                    <a:lnTo>
                      <a:pt x="12" y="98"/>
                    </a:lnTo>
                    <a:lnTo>
                      <a:pt x="18" y="69"/>
                    </a:lnTo>
                    <a:lnTo>
                      <a:pt x="26" y="41"/>
                    </a:lnTo>
                    <a:lnTo>
                      <a:pt x="36" y="16"/>
                    </a:lnTo>
                    <a:lnTo>
                      <a:pt x="45" y="0"/>
                    </a:lnTo>
                    <a:lnTo>
                      <a:pt x="49" y="4"/>
                    </a:lnTo>
                    <a:lnTo>
                      <a:pt x="40" y="45"/>
                    </a:lnTo>
                    <a:lnTo>
                      <a:pt x="31" y="89"/>
                    </a:lnTo>
                    <a:lnTo>
                      <a:pt x="28" y="125"/>
                    </a:lnTo>
                    <a:lnTo>
                      <a:pt x="26" y="156"/>
                    </a:lnTo>
                    <a:lnTo>
                      <a:pt x="26" y="184"/>
                    </a:lnTo>
                    <a:lnTo>
                      <a:pt x="23" y="193"/>
                    </a:lnTo>
                    <a:lnTo>
                      <a:pt x="17" y="198"/>
                    </a:lnTo>
                    <a:lnTo>
                      <a:pt x="6" y="195"/>
                    </a:lnTo>
                    <a:lnTo>
                      <a:pt x="4" y="188"/>
                    </a:lnTo>
                    <a:lnTo>
                      <a:pt x="0" y="175"/>
                    </a:lnTo>
                    <a:lnTo>
                      <a:pt x="3" y="169"/>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38080" y="5829480"/>
                <a:ext cx="61920" cy="268200"/>
              </a:xfrm>
              <a:custGeom>
                <a:avLst/>
                <a:gdLst/>
                <a:ahLst/>
                <a:rect l="l" t="t" r="r" b="b"/>
                <a:pathLst>
                  <a:path w="39" h="169">
                    <a:moveTo>
                      <a:pt x="13" y="160"/>
                    </a:moveTo>
                    <a:lnTo>
                      <a:pt x="5" y="134"/>
                    </a:lnTo>
                    <a:lnTo>
                      <a:pt x="2" y="112"/>
                    </a:lnTo>
                    <a:lnTo>
                      <a:pt x="0" y="83"/>
                    </a:lnTo>
                    <a:lnTo>
                      <a:pt x="2" y="52"/>
                    </a:lnTo>
                    <a:lnTo>
                      <a:pt x="7" y="25"/>
                    </a:lnTo>
                    <a:lnTo>
                      <a:pt x="17" y="0"/>
                    </a:lnTo>
                    <a:lnTo>
                      <a:pt x="23" y="2"/>
                    </a:lnTo>
                    <a:lnTo>
                      <a:pt x="18" y="33"/>
                    </a:lnTo>
                    <a:lnTo>
                      <a:pt x="17" y="66"/>
                    </a:lnTo>
                    <a:lnTo>
                      <a:pt x="18" y="91"/>
                    </a:lnTo>
                    <a:lnTo>
                      <a:pt x="21" y="113"/>
                    </a:lnTo>
                    <a:lnTo>
                      <a:pt x="28" y="133"/>
                    </a:lnTo>
                    <a:lnTo>
                      <a:pt x="36" y="148"/>
                    </a:lnTo>
                    <a:lnTo>
                      <a:pt x="39" y="158"/>
                    </a:lnTo>
                    <a:lnTo>
                      <a:pt x="38" y="164"/>
                    </a:lnTo>
                    <a:lnTo>
                      <a:pt x="35" y="166"/>
                    </a:lnTo>
                    <a:lnTo>
                      <a:pt x="30" y="169"/>
                    </a:lnTo>
                    <a:lnTo>
                      <a:pt x="22" y="164"/>
                    </a:lnTo>
                    <a:lnTo>
                      <a:pt x="13" y="16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950920" y="5783400"/>
                <a:ext cx="150840" cy="330120"/>
              </a:xfrm>
              <a:custGeom>
                <a:avLst/>
                <a:gdLst/>
                <a:ahLst/>
                <a:rect l="l" t="t" r="r" b="b"/>
                <a:pathLst>
                  <a:path w="95" h="208">
                    <a:moveTo>
                      <a:pt x="1" y="172"/>
                    </a:moveTo>
                    <a:lnTo>
                      <a:pt x="8" y="128"/>
                    </a:lnTo>
                    <a:lnTo>
                      <a:pt x="16" y="97"/>
                    </a:lnTo>
                    <a:lnTo>
                      <a:pt x="27" y="62"/>
                    </a:lnTo>
                    <a:lnTo>
                      <a:pt x="40" y="31"/>
                    </a:lnTo>
                    <a:lnTo>
                      <a:pt x="57" y="0"/>
                    </a:lnTo>
                    <a:lnTo>
                      <a:pt x="64" y="3"/>
                    </a:lnTo>
                    <a:lnTo>
                      <a:pt x="58" y="25"/>
                    </a:lnTo>
                    <a:lnTo>
                      <a:pt x="38" y="73"/>
                    </a:lnTo>
                    <a:lnTo>
                      <a:pt x="28" y="110"/>
                    </a:lnTo>
                    <a:lnTo>
                      <a:pt x="20" y="152"/>
                    </a:lnTo>
                    <a:lnTo>
                      <a:pt x="19" y="179"/>
                    </a:lnTo>
                    <a:lnTo>
                      <a:pt x="28" y="149"/>
                    </a:lnTo>
                    <a:lnTo>
                      <a:pt x="42" y="118"/>
                    </a:lnTo>
                    <a:lnTo>
                      <a:pt x="59" y="89"/>
                    </a:lnTo>
                    <a:lnTo>
                      <a:pt x="77" y="67"/>
                    </a:lnTo>
                    <a:lnTo>
                      <a:pt x="95" y="49"/>
                    </a:lnTo>
                    <a:lnTo>
                      <a:pt x="94" y="61"/>
                    </a:lnTo>
                    <a:lnTo>
                      <a:pt x="74" y="95"/>
                    </a:lnTo>
                    <a:lnTo>
                      <a:pt x="54" y="132"/>
                    </a:lnTo>
                    <a:lnTo>
                      <a:pt x="54" y="136"/>
                    </a:lnTo>
                    <a:lnTo>
                      <a:pt x="40" y="173"/>
                    </a:lnTo>
                    <a:lnTo>
                      <a:pt x="32" y="199"/>
                    </a:lnTo>
                    <a:lnTo>
                      <a:pt x="24" y="206"/>
                    </a:lnTo>
                    <a:lnTo>
                      <a:pt x="21" y="208"/>
                    </a:lnTo>
                    <a:lnTo>
                      <a:pt x="14" y="200"/>
                    </a:lnTo>
                    <a:lnTo>
                      <a:pt x="16" y="188"/>
                    </a:lnTo>
                    <a:lnTo>
                      <a:pt x="7" y="195"/>
                    </a:lnTo>
                    <a:lnTo>
                      <a:pt x="0" y="186"/>
                    </a:lnTo>
                    <a:lnTo>
                      <a:pt x="1" y="172"/>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536560" y="5788080"/>
                <a:ext cx="77760" cy="355680"/>
              </a:xfrm>
              <a:custGeom>
                <a:avLst/>
                <a:gdLst/>
                <a:ahLst/>
                <a:rect l="l" t="t" r="r" b="b"/>
                <a:pathLst>
                  <a:path w="49" h="224">
                    <a:moveTo>
                      <a:pt x="2" y="191"/>
                    </a:moveTo>
                    <a:lnTo>
                      <a:pt x="6" y="142"/>
                    </a:lnTo>
                    <a:lnTo>
                      <a:pt x="11" y="111"/>
                    </a:lnTo>
                    <a:lnTo>
                      <a:pt x="17" y="78"/>
                    </a:lnTo>
                    <a:lnTo>
                      <a:pt x="25" y="47"/>
                    </a:lnTo>
                    <a:lnTo>
                      <a:pt x="35" y="18"/>
                    </a:lnTo>
                    <a:lnTo>
                      <a:pt x="44" y="0"/>
                    </a:lnTo>
                    <a:lnTo>
                      <a:pt x="49" y="5"/>
                    </a:lnTo>
                    <a:lnTo>
                      <a:pt x="39" y="50"/>
                    </a:lnTo>
                    <a:lnTo>
                      <a:pt x="30" y="101"/>
                    </a:lnTo>
                    <a:lnTo>
                      <a:pt x="27" y="142"/>
                    </a:lnTo>
                    <a:lnTo>
                      <a:pt x="25" y="176"/>
                    </a:lnTo>
                    <a:lnTo>
                      <a:pt x="25" y="208"/>
                    </a:lnTo>
                    <a:lnTo>
                      <a:pt x="22" y="218"/>
                    </a:lnTo>
                    <a:lnTo>
                      <a:pt x="16" y="224"/>
                    </a:lnTo>
                    <a:lnTo>
                      <a:pt x="5" y="220"/>
                    </a:lnTo>
                    <a:lnTo>
                      <a:pt x="3" y="213"/>
                    </a:lnTo>
                    <a:lnTo>
                      <a:pt x="0" y="198"/>
                    </a:lnTo>
                    <a:lnTo>
                      <a:pt x="2" y="191"/>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2312640" y="5824440"/>
                <a:ext cx="57240" cy="285840"/>
              </a:xfrm>
              <a:custGeom>
                <a:avLst/>
                <a:gdLst/>
                <a:ahLst/>
                <a:rect l="l" t="t" r="r" b="b"/>
                <a:pathLst>
                  <a:path w="36" h="180">
                    <a:moveTo>
                      <a:pt x="16" y="0"/>
                    </a:moveTo>
                    <a:lnTo>
                      <a:pt x="28" y="33"/>
                    </a:lnTo>
                    <a:lnTo>
                      <a:pt x="35" y="62"/>
                    </a:lnTo>
                    <a:lnTo>
                      <a:pt x="36" y="93"/>
                    </a:lnTo>
                    <a:lnTo>
                      <a:pt x="35" y="122"/>
                    </a:lnTo>
                    <a:lnTo>
                      <a:pt x="29" y="151"/>
                    </a:lnTo>
                    <a:lnTo>
                      <a:pt x="22" y="170"/>
                    </a:lnTo>
                    <a:lnTo>
                      <a:pt x="13" y="180"/>
                    </a:lnTo>
                    <a:lnTo>
                      <a:pt x="5" y="178"/>
                    </a:lnTo>
                    <a:lnTo>
                      <a:pt x="0" y="170"/>
                    </a:lnTo>
                    <a:lnTo>
                      <a:pt x="1" y="159"/>
                    </a:lnTo>
                    <a:lnTo>
                      <a:pt x="8" y="145"/>
                    </a:lnTo>
                    <a:lnTo>
                      <a:pt x="17" y="124"/>
                    </a:lnTo>
                    <a:lnTo>
                      <a:pt x="21" y="99"/>
                    </a:lnTo>
                    <a:lnTo>
                      <a:pt x="22" y="75"/>
                    </a:lnTo>
                    <a:lnTo>
                      <a:pt x="21" y="51"/>
                    </a:lnTo>
                    <a:lnTo>
                      <a:pt x="17" y="32"/>
                    </a:lnTo>
                    <a:lnTo>
                      <a:pt x="13" y="10"/>
                    </a:lnTo>
                    <a:lnTo>
                      <a:pt x="16"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265120" y="5911920"/>
                <a:ext cx="41400" cy="228600"/>
              </a:xfrm>
              <a:custGeom>
                <a:avLst/>
                <a:gdLst/>
                <a:ahLst/>
                <a:rect l="l" t="t" r="r" b="b"/>
                <a:pathLst>
                  <a:path w="26" h="144">
                    <a:moveTo>
                      <a:pt x="13" y="0"/>
                    </a:moveTo>
                    <a:lnTo>
                      <a:pt x="23" y="24"/>
                    </a:lnTo>
                    <a:lnTo>
                      <a:pt x="26" y="51"/>
                    </a:lnTo>
                    <a:lnTo>
                      <a:pt x="25" y="77"/>
                    </a:lnTo>
                    <a:lnTo>
                      <a:pt x="22" y="105"/>
                    </a:lnTo>
                    <a:lnTo>
                      <a:pt x="18" y="130"/>
                    </a:lnTo>
                    <a:lnTo>
                      <a:pt x="14" y="144"/>
                    </a:lnTo>
                    <a:lnTo>
                      <a:pt x="4" y="144"/>
                    </a:lnTo>
                    <a:lnTo>
                      <a:pt x="0" y="135"/>
                    </a:lnTo>
                    <a:lnTo>
                      <a:pt x="0" y="122"/>
                    </a:lnTo>
                    <a:lnTo>
                      <a:pt x="4" y="98"/>
                    </a:lnTo>
                    <a:lnTo>
                      <a:pt x="9" y="65"/>
                    </a:lnTo>
                    <a:lnTo>
                      <a:pt x="11" y="34"/>
                    </a:lnTo>
                    <a:lnTo>
                      <a:pt x="11" y="9"/>
                    </a:lnTo>
                    <a:lnTo>
                      <a:pt x="13"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134800" y="5853240"/>
                <a:ext cx="106560" cy="276120"/>
              </a:xfrm>
              <a:custGeom>
                <a:avLst/>
                <a:gdLst/>
                <a:ahLst/>
                <a:rect l="l" t="t" r="r" b="b"/>
                <a:pathLst>
                  <a:path w="67" h="174">
                    <a:moveTo>
                      <a:pt x="35" y="0"/>
                    </a:moveTo>
                    <a:lnTo>
                      <a:pt x="44" y="33"/>
                    </a:lnTo>
                    <a:lnTo>
                      <a:pt x="46" y="69"/>
                    </a:lnTo>
                    <a:lnTo>
                      <a:pt x="40" y="108"/>
                    </a:lnTo>
                    <a:lnTo>
                      <a:pt x="33" y="136"/>
                    </a:lnTo>
                    <a:lnTo>
                      <a:pt x="36" y="100"/>
                    </a:lnTo>
                    <a:lnTo>
                      <a:pt x="29" y="73"/>
                    </a:lnTo>
                    <a:lnTo>
                      <a:pt x="17" y="48"/>
                    </a:lnTo>
                    <a:lnTo>
                      <a:pt x="4" y="36"/>
                    </a:lnTo>
                    <a:lnTo>
                      <a:pt x="0" y="44"/>
                    </a:lnTo>
                    <a:lnTo>
                      <a:pt x="16" y="77"/>
                    </a:lnTo>
                    <a:lnTo>
                      <a:pt x="21" y="103"/>
                    </a:lnTo>
                    <a:lnTo>
                      <a:pt x="19" y="128"/>
                    </a:lnTo>
                    <a:lnTo>
                      <a:pt x="12" y="158"/>
                    </a:lnTo>
                    <a:lnTo>
                      <a:pt x="17" y="170"/>
                    </a:lnTo>
                    <a:lnTo>
                      <a:pt x="28" y="174"/>
                    </a:lnTo>
                    <a:lnTo>
                      <a:pt x="36" y="162"/>
                    </a:lnTo>
                    <a:lnTo>
                      <a:pt x="44" y="169"/>
                    </a:lnTo>
                    <a:lnTo>
                      <a:pt x="58" y="166"/>
                    </a:lnTo>
                    <a:lnTo>
                      <a:pt x="64" y="150"/>
                    </a:lnTo>
                    <a:lnTo>
                      <a:pt x="67" y="126"/>
                    </a:lnTo>
                    <a:lnTo>
                      <a:pt x="64" y="83"/>
                    </a:lnTo>
                    <a:lnTo>
                      <a:pt x="56" y="37"/>
                    </a:lnTo>
                    <a:lnTo>
                      <a:pt x="43" y="0"/>
                    </a:lnTo>
                    <a:lnTo>
                      <a:pt x="35"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474640" y="5918400"/>
                <a:ext cx="69840" cy="222120"/>
              </a:xfrm>
              <a:custGeom>
                <a:avLst/>
                <a:gdLst/>
                <a:ahLst/>
                <a:rect l="l" t="t" r="r" b="b"/>
                <a:pathLst>
                  <a:path w="44" h="140">
                    <a:moveTo>
                      <a:pt x="0" y="0"/>
                    </a:moveTo>
                    <a:lnTo>
                      <a:pt x="17" y="20"/>
                    </a:lnTo>
                    <a:lnTo>
                      <a:pt x="28" y="45"/>
                    </a:lnTo>
                    <a:lnTo>
                      <a:pt x="35" y="71"/>
                    </a:lnTo>
                    <a:lnTo>
                      <a:pt x="40" y="98"/>
                    </a:lnTo>
                    <a:lnTo>
                      <a:pt x="44" y="122"/>
                    </a:lnTo>
                    <a:lnTo>
                      <a:pt x="44" y="138"/>
                    </a:lnTo>
                    <a:lnTo>
                      <a:pt x="34" y="140"/>
                    </a:lnTo>
                    <a:lnTo>
                      <a:pt x="28" y="133"/>
                    </a:lnTo>
                    <a:lnTo>
                      <a:pt x="24" y="121"/>
                    </a:lnTo>
                    <a:lnTo>
                      <a:pt x="21" y="97"/>
                    </a:lnTo>
                    <a:lnTo>
                      <a:pt x="15" y="64"/>
                    </a:lnTo>
                    <a:lnTo>
                      <a:pt x="8" y="33"/>
                    </a:lnTo>
                    <a:lnTo>
                      <a:pt x="1" y="9"/>
                    </a:lnTo>
                    <a:lnTo>
                      <a:pt x="0"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698560" y="5904000"/>
                <a:ext cx="152280" cy="228600"/>
              </a:xfrm>
              <a:custGeom>
                <a:avLst/>
                <a:gdLst/>
                <a:ahLst/>
                <a:rect l="l" t="t" r="r" b="b"/>
                <a:pathLst>
                  <a:path w="96" h="144">
                    <a:moveTo>
                      <a:pt x="17" y="3"/>
                    </a:moveTo>
                    <a:lnTo>
                      <a:pt x="36" y="26"/>
                    </a:lnTo>
                    <a:lnTo>
                      <a:pt x="51" y="54"/>
                    </a:lnTo>
                    <a:lnTo>
                      <a:pt x="60" y="87"/>
                    </a:lnTo>
                    <a:lnTo>
                      <a:pt x="62" y="112"/>
                    </a:lnTo>
                    <a:lnTo>
                      <a:pt x="53" y="82"/>
                    </a:lnTo>
                    <a:lnTo>
                      <a:pt x="36" y="63"/>
                    </a:lnTo>
                    <a:lnTo>
                      <a:pt x="17" y="46"/>
                    </a:lnTo>
                    <a:lnTo>
                      <a:pt x="1" y="41"/>
                    </a:lnTo>
                    <a:lnTo>
                      <a:pt x="0" y="48"/>
                    </a:lnTo>
                    <a:lnTo>
                      <a:pt x="26" y="70"/>
                    </a:lnTo>
                    <a:lnTo>
                      <a:pt x="40" y="90"/>
                    </a:lnTo>
                    <a:lnTo>
                      <a:pt x="47" y="110"/>
                    </a:lnTo>
                    <a:lnTo>
                      <a:pt x="51" y="136"/>
                    </a:lnTo>
                    <a:lnTo>
                      <a:pt x="60" y="144"/>
                    </a:lnTo>
                    <a:lnTo>
                      <a:pt x="71" y="144"/>
                    </a:lnTo>
                    <a:lnTo>
                      <a:pt x="75" y="132"/>
                    </a:lnTo>
                    <a:lnTo>
                      <a:pt x="84" y="135"/>
                    </a:lnTo>
                    <a:lnTo>
                      <a:pt x="96" y="129"/>
                    </a:lnTo>
                    <a:lnTo>
                      <a:pt x="96" y="113"/>
                    </a:lnTo>
                    <a:lnTo>
                      <a:pt x="91" y="93"/>
                    </a:lnTo>
                    <a:lnTo>
                      <a:pt x="72" y="59"/>
                    </a:lnTo>
                    <a:lnTo>
                      <a:pt x="49" y="26"/>
                    </a:lnTo>
                    <a:lnTo>
                      <a:pt x="24" y="0"/>
                    </a:lnTo>
                    <a:lnTo>
                      <a:pt x="17" y="3"/>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585880" y="5776920"/>
                <a:ext cx="77760" cy="357120"/>
              </a:xfrm>
              <a:custGeom>
                <a:avLst/>
                <a:gdLst/>
                <a:ahLst/>
                <a:rect l="l" t="t" r="r" b="b"/>
                <a:pathLst>
                  <a:path w="49" h="225">
                    <a:moveTo>
                      <a:pt x="2" y="191"/>
                    </a:moveTo>
                    <a:lnTo>
                      <a:pt x="6" y="142"/>
                    </a:lnTo>
                    <a:lnTo>
                      <a:pt x="11" y="111"/>
                    </a:lnTo>
                    <a:lnTo>
                      <a:pt x="17" y="77"/>
                    </a:lnTo>
                    <a:lnTo>
                      <a:pt x="25" y="46"/>
                    </a:lnTo>
                    <a:lnTo>
                      <a:pt x="35" y="18"/>
                    </a:lnTo>
                    <a:lnTo>
                      <a:pt x="44" y="0"/>
                    </a:lnTo>
                    <a:lnTo>
                      <a:pt x="49" y="4"/>
                    </a:lnTo>
                    <a:lnTo>
                      <a:pt x="39" y="50"/>
                    </a:lnTo>
                    <a:lnTo>
                      <a:pt x="30" y="101"/>
                    </a:lnTo>
                    <a:lnTo>
                      <a:pt x="27" y="142"/>
                    </a:lnTo>
                    <a:lnTo>
                      <a:pt x="25" y="176"/>
                    </a:lnTo>
                    <a:lnTo>
                      <a:pt x="25" y="208"/>
                    </a:lnTo>
                    <a:lnTo>
                      <a:pt x="22" y="218"/>
                    </a:lnTo>
                    <a:lnTo>
                      <a:pt x="16" y="225"/>
                    </a:lnTo>
                    <a:lnTo>
                      <a:pt x="5" y="221"/>
                    </a:lnTo>
                    <a:lnTo>
                      <a:pt x="3" y="213"/>
                    </a:lnTo>
                    <a:lnTo>
                      <a:pt x="0" y="199"/>
                    </a:lnTo>
                    <a:lnTo>
                      <a:pt x="2" y="191"/>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882440" y="5865840"/>
                <a:ext cx="142920" cy="270000"/>
              </a:xfrm>
              <a:custGeom>
                <a:avLst/>
                <a:gdLst/>
                <a:ahLst/>
                <a:rect l="l" t="t" r="r" b="b"/>
                <a:pathLst>
                  <a:path w="90" h="170">
                    <a:moveTo>
                      <a:pt x="81" y="148"/>
                    </a:moveTo>
                    <a:lnTo>
                      <a:pt x="88" y="112"/>
                    </a:lnTo>
                    <a:lnTo>
                      <a:pt x="90" y="86"/>
                    </a:lnTo>
                    <a:lnTo>
                      <a:pt x="88" y="57"/>
                    </a:lnTo>
                    <a:lnTo>
                      <a:pt x="83" y="28"/>
                    </a:lnTo>
                    <a:lnTo>
                      <a:pt x="71" y="0"/>
                    </a:lnTo>
                    <a:lnTo>
                      <a:pt x="60" y="0"/>
                    </a:lnTo>
                    <a:lnTo>
                      <a:pt x="60" y="19"/>
                    </a:lnTo>
                    <a:lnTo>
                      <a:pt x="69" y="61"/>
                    </a:lnTo>
                    <a:lnTo>
                      <a:pt x="69" y="93"/>
                    </a:lnTo>
                    <a:lnTo>
                      <a:pt x="65" y="128"/>
                    </a:lnTo>
                    <a:lnTo>
                      <a:pt x="56" y="148"/>
                    </a:lnTo>
                    <a:lnTo>
                      <a:pt x="55" y="123"/>
                    </a:lnTo>
                    <a:lnTo>
                      <a:pt x="47" y="95"/>
                    </a:lnTo>
                    <a:lnTo>
                      <a:pt x="36" y="68"/>
                    </a:lnTo>
                    <a:lnTo>
                      <a:pt x="20" y="45"/>
                    </a:lnTo>
                    <a:lnTo>
                      <a:pt x="4" y="26"/>
                    </a:lnTo>
                    <a:lnTo>
                      <a:pt x="0" y="36"/>
                    </a:lnTo>
                    <a:lnTo>
                      <a:pt x="14" y="68"/>
                    </a:lnTo>
                    <a:lnTo>
                      <a:pt x="27" y="102"/>
                    </a:lnTo>
                    <a:lnTo>
                      <a:pt x="25" y="106"/>
                    </a:lnTo>
                    <a:lnTo>
                      <a:pt x="30" y="137"/>
                    </a:lnTo>
                    <a:lnTo>
                      <a:pt x="31" y="160"/>
                    </a:lnTo>
                    <a:lnTo>
                      <a:pt x="38" y="168"/>
                    </a:lnTo>
                    <a:lnTo>
                      <a:pt x="42" y="170"/>
                    </a:lnTo>
                    <a:lnTo>
                      <a:pt x="55" y="166"/>
                    </a:lnTo>
                    <a:lnTo>
                      <a:pt x="57" y="156"/>
                    </a:lnTo>
                    <a:lnTo>
                      <a:pt x="65" y="165"/>
                    </a:lnTo>
                    <a:lnTo>
                      <a:pt x="79" y="159"/>
                    </a:lnTo>
                    <a:lnTo>
                      <a:pt x="81" y="14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800080" y="5718240"/>
                <a:ext cx="142920" cy="396720"/>
              </a:xfrm>
              <a:custGeom>
                <a:avLst/>
                <a:gdLst/>
                <a:ahLst/>
                <a:rect l="l" t="t" r="r" b="b"/>
                <a:pathLst>
                  <a:path w="90" h="250">
                    <a:moveTo>
                      <a:pt x="81" y="218"/>
                    </a:moveTo>
                    <a:lnTo>
                      <a:pt x="89" y="165"/>
                    </a:lnTo>
                    <a:lnTo>
                      <a:pt x="90" y="127"/>
                    </a:lnTo>
                    <a:lnTo>
                      <a:pt x="89" y="83"/>
                    </a:lnTo>
                    <a:lnTo>
                      <a:pt x="83" y="42"/>
                    </a:lnTo>
                    <a:lnTo>
                      <a:pt x="71" y="0"/>
                    </a:lnTo>
                    <a:lnTo>
                      <a:pt x="60" y="0"/>
                    </a:lnTo>
                    <a:lnTo>
                      <a:pt x="60" y="27"/>
                    </a:lnTo>
                    <a:lnTo>
                      <a:pt x="69" y="90"/>
                    </a:lnTo>
                    <a:lnTo>
                      <a:pt x="69" y="136"/>
                    </a:lnTo>
                    <a:lnTo>
                      <a:pt x="65" y="187"/>
                    </a:lnTo>
                    <a:lnTo>
                      <a:pt x="56" y="218"/>
                    </a:lnTo>
                    <a:lnTo>
                      <a:pt x="55" y="181"/>
                    </a:lnTo>
                    <a:lnTo>
                      <a:pt x="47" y="139"/>
                    </a:lnTo>
                    <a:lnTo>
                      <a:pt x="36" y="99"/>
                    </a:lnTo>
                    <a:lnTo>
                      <a:pt x="20" y="66"/>
                    </a:lnTo>
                    <a:lnTo>
                      <a:pt x="3" y="38"/>
                    </a:lnTo>
                    <a:lnTo>
                      <a:pt x="0" y="53"/>
                    </a:lnTo>
                    <a:lnTo>
                      <a:pt x="13" y="99"/>
                    </a:lnTo>
                    <a:lnTo>
                      <a:pt x="26" y="151"/>
                    </a:lnTo>
                    <a:lnTo>
                      <a:pt x="25" y="155"/>
                    </a:lnTo>
                    <a:lnTo>
                      <a:pt x="30" y="202"/>
                    </a:lnTo>
                    <a:lnTo>
                      <a:pt x="31" y="236"/>
                    </a:lnTo>
                    <a:lnTo>
                      <a:pt x="38" y="247"/>
                    </a:lnTo>
                    <a:lnTo>
                      <a:pt x="42" y="250"/>
                    </a:lnTo>
                    <a:lnTo>
                      <a:pt x="55" y="244"/>
                    </a:lnTo>
                    <a:lnTo>
                      <a:pt x="57" y="229"/>
                    </a:lnTo>
                    <a:lnTo>
                      <a:pt x="65" y="242"/>
                    </a:lnTo>
                    <a:lnTo>
                      <a:pt x="79" y="234"/>
                    </a:lnTo>
                    <a:lnTo>
                      <a:pt x="81" y="21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0" name=""/>
          <p:cNvGrpSpPr/>
          <p:nvPr/>
        </p:nvGrpSpPr>
        <p:grpSpPr>
          <a:xfrm>
            <a:off x="3146400" y="5560920"/>
            <a:ext cx="2567880" cy="590760"/>
            <a:chOff x="3146400" y="5560920"/>
            <a:chExt cx="2567880" cy="590760"/>
          </a:xfrm>
        </p:grpSpPr>
        <p:grpSp>
          <p:nvGrpSpPr>
            <p:cNvPr id="451" name=""/>
            <p:cNvGrpSpPr/>
            <p:nvPr/>
          </p:nvGrpSpPr>
          <p:grpSpPr>
            <a:xfrm>
              <a:off x="3192840" y="5560920"/>
              <a:ext cx="2504520" cy="559080"/>
              <a:chOff x="3192840" y="5560920"/>
              <a:chExt cx="2504520" cy="559080"/>
            </a:xfrm>
          </p:grpSpPr>
          <p:grpSp>
            <p:nvGrpSpPr>
              <p:cNvPr id="452" name=""/>
              <p:cNvGrpSpPr/>
              <p:nvPr/>
            </p:nvGrpSpPr>
            <p:grpSpPr>
              <a:xfrm>
                <a:off x="3192840" y="5621400"/>
                <a:ext cx="221400" cy="201600"/>
                <a:chOff x="3192840" y="5621400"/>
                <a:chExt cx="221400" cy="201600"/>
              </a:xfrm>
            </p:grpSpPr>
            <p:sp>
              <p:nvSpPr>
                <p:cNvPr id="453" name=""/>
                <p:cNvSpPr/>
                <p:nvPr/>
              </p:nvSpPr>
              <p:spPr>
                <a:xfrm>
                  <a:off x="3192840" y="5621400"/>
                  <a:ext cx="221400" cy="201600"/>
                </a:xfrm>
                <a:custGeom>
                  <a:avLst/>
                  <a:gdLst/>
                  <a:ahLst/>
                  <a:rect l="l" t="t" r="r" b="b"/>
                  <a:pathLst>
                    <a:path w="123" h="127">
                      <a:moveTo>
                        <a:pt x="27" y="29"/>
                      </a:moveTo>
                      <a:lnTo>
                        <a:pt x="31" y="11"/>
                      </a:lnTo>
                      <a:lnTo>
                        <a:pt x="45" y="0"/>
                      </a:lnTo>
                      <a:lnTo>
                        <a:pt x="58" y="0"/>
                      </a:lnTo>
                      <a:lnTo>
                        <a:pt x="70" y="9"/>
                      </a:lnTo>
                      <a:lnTo>
                        <a:pt x="77" y="24"/>
                      </a:lnTo>
                      <a:lnTo>
                        <a:pt x="96" y="20"/>
                      </a:lnTo>
                      <a:lnTo>
                        <a:pt x="114" y="26"/>
                      </a:lnTo>
                      <a:lnTo>
                        <a:pt x="119" y="27"/>
                      </a:lnTo>
                      <a:lnTo>
                        <a:pt x="123" y="43"/>
                      </a:lnTo>
                      <a:lnTo>
                        <a:pt x="118" y="58"/>
                      </a:lnTo>
                      <a:lnTo>
                        <a:pt x="106" y="71"/>
                      </a:lnTo>
                      <a:lnTo>
                        <a:pt x="100" y="74"/>
                      </a:lnTo>
                      <a:lnTo>
                        <a:pt x="103" y="87"/>
                      </a:lnTo>
                      <a:lnTo>
                        <a:pt x="98" y="103"/>
                      </a:lnTo>
                      <a:lnTo>
                        <a:pt x="89" y="114"/>
                      </a:lnTo>
                      <a:lnTo>
                        <a:pt x="73" y="124"/>
                      </a:lnTo>
                      <a:lnTo>
                        <a:pt x="70" y="127"/>
                      </a:lnTo>
                      <a:lnTo>
                        <a:pt x="53" y="125"/>
                      </a:lnTo>
                      <a:lnTo>
                        <a:pt x="39" y="114"/>
                      </a:lnTo>
                      <a:lnTo>
                        <a:pt x="33" y="110"/>
                      </a:lnTo>
                      <a:lnTo>
                        <a:pt x="17" y="109"/>
                      </a:lnTo>
                      <a:lnTo>
                        <a:pt x="3" y="93"/>
                      </a:lnTo>
                      <a:lnTo>
                        <a:pt x="0" y="76"/>
                      </a:lnTo>
                      <a:lnTo>
                        <a:pt x="4" y="59"/>
                      </a:lnTo>
                      <a:lnTo>
                        <a:pt x="11" y="55"/>
                      </a:lnTo>
                      <a:lnTo>
                        <a:pt x="4" y="43"/>
                      </a:lnTo>
                      <a:lnTo>
                        <a:pt x="11" y="33"/>
                      </a:lnTo>
                      <a:lnTo>
                        <a:pt x="18" y="29"/>
                      </a:lnTo>
                      <a:lnTo>
                        <a:pt x="27" y="29"/>
                      </a:lnTo>
                      <a:close/>
                    </a:path>
                  </a:pathLst>
                </a:cu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227040" y="5637240"/>
                  <a:ext cx="162000" cy="162000"/>
                </a:xfrm>
                <a:custGeom>
                  <a:avLst/>
                  <a:gdLst/>
                  <a:ahLst/>
                  <a:rect l="l" t="t" r="r" b="b"/>
                  <a:pathLst>
                    <a:path w="90" h="102">
                      <a:moveTo>
                        <a:pt x="29" y="47"/>
                      </a:moveTo>
                      <a:lnTo>
                        <a:pt x="25" y="33"/>
                      </a:lnTo>
                      <a:lnTo>
                        <a:pt x="19" y="20"/>
                      </a:lnTo>
                      <a:lnTo>
                        <a:pt x="24" y="8"/>
                      </a:lnTo>
                      <a:lnTo>
                        <a:pt x="31" y="0"/>
                      </a:lnTo>
                      <a:lnTo>
                        <a:pt x="38" y="3"/>
                      </a:lnTo>
                      <a:lnTo>
                        <a:pt x="46" y="7"/>
                      </a:lnTo>
                      <a:lnTo>
                        <a:pt x="47" y="18"/>
                      </a:lnTo>
                      <a:lnTo>
                        <a:pt x="44" y="29"/>
                      </a:lnTo>
                      <a:lnTo>
                        <a:pt x="44" y="39"/>
                      </a:lnTo>
                      <a:lnTo>
                        <a:pt x="50" y="36"/>
                      </a:lnTo>
                      <a:lnTo>
                        <a:pt x="56" y="27"/>
                      </a:lnTo>
                      <a:lnTo>
                        <a:pt x="65" y="21"/>
                      </a:lnTo>
                      <a:lnTo>
                        <a:pt x="69" y="21"/>
                      </a:lnTo>
                      <a:lnTo>
                        <a:pt x="78" y="20"/>
                      </a:lnTo>
                      <a:lnTo>
                        <a:pt x="86" y="26"/>
                      </a:lnTo>
                      <a:lnTo>
                        <a:pt x="90" y="38"/>
                      </a:lnTo>
                      <a:lnTo>
                        <a:pt x="86" y="49"/>
                      </a:lnTo>
                      <a:lnTo>
                        <a:pt x="76" y="56"/>
                      </a:lnTo>
                      <a:lnTo>
                        <a:pt x="63" y="56"/>
                      </a:lnTo>
                      <a:lnTo>
                        <a:pt x="52" y="54"/>
                      </a:lnTo>
                      <a:lnTo>
                        <a:pt x="53" y="63"/>
                      </a:lnTo>
                      <a:lnTo>
                        <a:pt x="65" y="65"/>
                      </a:lnTo>
                      <a:lnTo>
                        <a:pt x="74" y="72"/>
                      </a:lnTo>
                      <a:lnTo>
                        <a:pt x="72" y="87"/>
                      </a:lnTo>
                      <a:lnTo>
                        <a:pt x="62" y="99"/>
                      </a:lnTo>
                      <a:lnTo>
                        <a:pt x="49" y="102"/>
                      </a:lnTo>
                      <a:lnTo>
                        <a:pt x="38" y="96"/>
                      </a:lnTo>
                      <a:lnTo>
                        <a:pt x="31" y="86"/>
                      </a:lnTo>
                      <a:lnTo>
                        <a:pt x="36" y="75"/>
                      </a:lnTo>
                      <a:lnTo>
                        <a:pt x="41" y="65"/>
                      </a:lnTo>
                      <a:lnTo>
                        <a:pt x="34" y="61"/>
                      </a:lnTo>
                      <a:lnTo>
                        <a:pt x="31" y="73"/>
                      </a:lnTo>
                      <a:lnTo>
                        <a:pt x="24" y="83"/>
                      </a:lnTo>
                      <a:lnTo>
                        <a:pt x="10" y="84"/>
                      </a:lnTo>
                      <a:lnTo>
                        <a:pt x="1" y="77"/>
                      </a:lnTo>
                      <a:lnTo>
                        <a:pt x="0" y="67"/>
                      </a:lnTo>
                      <a:lnTo>
                        <a:pt x="4" y="59"/>
                      </a:lnTo>
                      <a:lnTo>
                        <a:pt x="9" y="53"/>
                      </a:lnTo>
                      <a:lnTo>
                        <a:pt x="6" y="43"/>
                      </a:lnTo>
                      <a:lnTo>
                        <a:pt x="5" y="34"/>
                      </a:lnTo>
                      <a:lnTo>
                        <a:pt x="13" y="33"/>
                      </a:lnTo>
                      <a:lnTo>
                        <a:pt x="20" y="37"/>
                      </a:lnTo>
                      <a:lnTo>
                        <a:pt x="29" y="47"/>
                      </a:lnTo>
                      <a:close/>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282840" y="5702400"/>
                  <a:ext cx="35640" cy="30240"/>
                </a:xfrm>
                <a:custGeom>
                  <a:avLst/>
                  <a:gdLst/>
                  <a:ahLst/>
                  <a:rect l="l" t="t" r="r" b="b"/>
                  <a:pathLst>
                    <a:path w="20" h="19">
                      <a:moveTo>
                        <a:pt x="0" y="5"/>
                      </a:moveTo>
                      <a:lnTo>
                        <a:pt x="10" y="0"/>
                      </a:lnTo>
                      <a:lnTo>
                        <a:pt x="17" y="2"/>
                      </a:lnTo>
                      <a:lnTo>
                        <a:pt x="20" y="13"/>
                      </a:lnTo>
                      <a:lnTo>
                        <a:pt x="12" y="19"/>
                      </a:lnTo>
                      <a:lnTo>
                        <a:pt x="2" y="14"/>
                      </a:lnTo>
                      <a:lnTo>
                        <a:pt x="0" y="5"/>
                      </a:lnTo>
                      <a:close/>
                    </a:path>
                  </a:pathLst>
                </a:custGeom>
                <a:blipFill rotWithShape="0">
                  <a:blip r:embed="rId21"/>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56" name=""/>
              <p:cNvGrpSpPr/>
              <p:nvPr/>
            </p:nvGrpSpPr>
            <p:grpSpPr>
              <a:xfrm>
                <a:off x="3299040" y="5892840"/>
                <a:ext cx="255600" cy="187200"/>
                <a:chOff x="3299040" y="5892840"/>
                <a:chExt cx="255600" cy="187200"/>
              </a:xfrm>
            </p:grpSpPr>
            <p:sp>
              <p:nvSpPr>
                <p:cNvPr id="457" name=""/>
                <p:cNvSpPr/>
                <p:nvPr/>
              </p:nvSpPr>
              <p:spPr>
                <a:xfrm>
                  <a:off x="3299040" y="5892840"/>
                  <a:ext cx="255600" cy="187200"/>
                </a:xfrm>
                <a:custGeom>
                  <a:avLst/>
                  <a:gdLst/>
                  <a:ahLst/>
                  <a:rect l="l" t="t" r="r" b="b"/>
                  <a:pathLst>
                    <a:path w="142" h="118">
                      <a:moveTo>
                        <a:pt x="48" y="19"/>
                      </a:moveTo>
                      <a:lnTo>
                        <a:pt x="59" y="5"/>
                      </a:lnTo>
                      <a:lnTo>
                        <a:pt x="76" y="0"/>
                      </a:lnTo>
                      <a:lnTo>
                        <a:pt x="90" y="4"/>
                      </a:lnTo>
                      <a:lnTo>
                        <a:pt x="99" y="16"/>
                      </a:lnTo>
                      <a:lnTo>
                        <a:pt x="101" y="31"/>
                      </a:lnTo>
                      <a:lnTo>
                        <a:pt x="121" y="34"/>
                      </a:lnTo>
                      <a:lnTo>
                        <a:pt x="137" y="45"/>
                      </a:lnTo>
                      <a:lnTo>
                        <a:pt x="142" y="47"/>
                      </a:lnTo>
                      <a:lnTo>
                        <a:pt x="140" y="63"/>
                      </a:lnTo>
                      <a:lnTo>
                        <a:pt x="129" y="73"/>
                      </a:lnTo>
                      <a:lnTo>
                        <a:pt x="113" y="81"/>
                      </a:lnTo>
                      <a:lnTo>
                        <a:pt x="105" y="82"/>
                      </a:lnTo>
                      <a:lnTo>
                        <a:pt x="104" y="94"/>
                      </a:lnTo>
                      <a:lnTo>
                        <a:pt x="93" y="106"/>
                      </a:lnTo>
                      <a:lnTo>
                        <a:pt x="79" y="113"/>
                      </a:lnTo>
                      <a:lnTo>
                        <a:pt x="60" y="117"/>
                      </a:lnTo>
                      <a:lnTo>
                        <a:pt x="56" y="118"/>
                      </a:lnTo>
                      <a:lnTo>
                        <a:pt x="40" y="111"/>
                      </a:lnTo>
                      <a:lnTo>
                        <a:pt x="29" y="98"/>
                      </a:lnTo>
                      <a:lnTo>
                        <a:pt x="25" y="92"/>
                      </a:lnTo>
                      <a:lnTo>
                        <a:pt x="9" y="85"/>
                      </a:lnTo>
                      <a:lnTo>
                        <a:pt x="0" y="67"/>
                      </a:lnTo>
                      <a:lnTo>
                        <a:pt x="5" y="52"/>
                      </a:lnTo>
                      <a:lnTo>
                        <a:pt x="14" y="39"/>
                      </a:lnTo>
                      <a:lnTo>
                        <a:pt x="22" y="37"/>
                      </a:lnTo>
                      <a:lnTo>
                        <a:pt x="19" y="24"/>
                      </a:lnTo>
                      <a:lnTo>
                        <a:pt x="30" y="18"/>
                      </a:lnTo>
                      <a:lnTo>
                        <a:pt x="40" y="17"/>
                      </a:lnTo>
                      <a:lnTo>
                        <a:pt x="48" y="19"/>
                      </a:lnTo>
                      <a:close/>
                    </a:path>
                  </a:pathLst>
                </a:cu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335040" y="5908680"/>
                  <a:ext cx="186840" cy="150840"/>
                </a:xfrm>
                <a:custGeom>
                  <a:avLst/>
                  <a:gdLst/>
                  <a:ahLst/>
                  <a:rect l="l" t="t" r="r" b="b"/>
                  <a:pathLst>
                    <a:path w="104" h="95">
                      <a:moveTo>
                        <a:pt x="39" y="39"/>
                      </a:moveTo>
                      <a:lnTo>
                        <a:pt x="41" y="26"/>
                      </a:lnTo>
                      <a:lnTo>
                        <a:pt x="39" y="13"/>
                      </a:lnTo>
                      <a:lnTo>
                        <a:pt x="49" y="5"/>
                      </a:lnTo>
                      <a:lnTo>
                        <a:pt x="58" y="0"/>
                      </a:lnTo>
                      <a:lnTo>
                        <a:pt x="65" y="5"/>
                      </a:lnTo>
                      <a:lnTo>
                        <a:pt x="70" y="11"/>
                      </a:lnTo>
                      <a:lnTo>
                        <a:pt x="68" y="20"/>
                      </a:lnTo>
                      <a:lnTo>
                        <a:pt x="61" y="29"/>
                      </a:lnTo>
                      <a:lnTo>
                        <a:pt x="57" y="38"/>
                      </a:lnTo>
                      <a:lnTo>
                        <a:pt x="65" y="37"/>
                      </a:lnTo>
                      <a:lnTo>
                        <a:pt x="75" y="31"/>
                      </a:lnTo>
                      <a:lnTo>
                        <a:pt x="85" y="29"/>
                      </a:lnTo>
                      <a:lnTo>
                        <a:pt x="89" y="30"/>
                      </a:lnTo>
                      <a:lnTo>
                        <a:pt x="99" y="32"/>
                      </a:lnTo>
                      <a:lnTo>
                        <a:pt x="104" y="39"/>
                      </a:lnTo>
                      <a:lnTo>
                        <a:pt x="104" y="51"/>
                      </a:lnTo>
                      <a:lnTo>
                        <a:pt x="96" y="60"/>
                      </a:lnTo>
                      <a:lnTo>
                        <a:pt x="84" y="62"/>
                      </a:lnTo>
                      <a:lnTo>
                        <a:pt x="70" y="59"/>
                      </a:lnTo>
                      <a:lnTo>
                        <a:pt x="60" y="53"/>
                      </a:lnTo>
                      <a:lnTo>
                        <a:pt x="58" y="61"/>
                      </a:lnTo>
                      <a:lnTo>
                        <a:pt x="69" y="67"/>
                      </a:lnTo>
                      <a:lnTo>
                        <a:pt x="76" y="75"/>
                      </a:lnTo>
                      <a:lnTo>
                        <a:pt x="68" y="87"/>
                      </a:lnTo>
                      <a:lnTo>
                        <a:pt x="54" y="95"/>
                      </a:lnTo>
                      <a:lnTo>
                        <a:pt x="39" y="93"/>
                      </a:lnTo>
                      <a:lnTo>
                        <a:pt x="31" y="85"/>
                      </a:lnTo>
                      <a:lnTo>
                        <a:pt x="27" y="74"/>
                      </a:lnTo>
                      <a:lnTo>
                        <a:pt x="37" y="66"/>
                      </a:lnTo>
                      <a:lnTo>
                        <a:pt x="45" y="59"/>
                      </a:lnTo>
                      <a:lnTo>
                        <a:pt x="39" y="54"/>
                      </a:lnTo>
                      <a:lnTo>
                        <a:pt x="33" y="63"/>
                      </a:lnTo>
                      <a:lnTo>
                        <a:pt x="22" y="69"/>
                      </a:lnTo>
                      <a:lnTo>
                        <a:pt x="7" y="66"/>
                      </a:lnTo>
                      <a:lnTo>
                        <a:pt x="0" y="56"/>
                      </a:lnTo>
                      <a:lnTo>
                        <a:pt x="3" y="48"/>
                      </a:lnTo>
                      <a:lnTo>
                        <a:pt x="10" y="42"/>
                      </a:lnTo>
                      <a:lnTo>
                        <a:pt x="18" y="38"/>
                      </a:lnTo>
                      <a:lnTo>
                        <a:pt x="18" y="29"/>
                      </a:lnTo>
                      <a:lnTo>
                        <a:pt x="20" y="21"/>
                      </a:lnTo>
                      <a:lnTo>
                        <a:pt x="29" y="23"/>
                      </a:lnTo>
                      <a:lnTo>
                        <a:pt x="34" y="29"/>
                      </a:lnTo>
                      <a:lnTo>
                        <a:pt x="39" y="39"/>
                      </a:lnTo>
                      <a:close/>
                    </a:path>
                  </a:pathLst>
                </a:cu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405240" y="5969160"/>
                  <a:ext cx="35640" cy="28440"/>
                </a:xfrm>
                <a:custGeom>
                  <a:avLst/>
                  <a:gdLst/>
                  <a:ahLst/>
                  <a:rect l="l" t="t" r="r" b="b"/>
                  <a:pathLst>
                    <a:path w="20" h="18">
                      <a:moveTo>
                        <a:pt x="2" y="3"/>
                      </a:moveTo>
                      <a:lnTo>
                        <a:pt x="14" y="0"/>
                      </a:lnTo>
                      <a:lnTo>
                        <a:pt x="20" y="5"/>
                      </a:lnTo>
                      <a:lnTo>
                        <a:pt x="19" y="16"/>
                      </a:lnTo>
                      <a:lnTo>
                        <a:pt x="8" y="18"/>
                      </a:lnTo>
                      <a:lnTo>
                        <a:pt x="0" y="11"/>
                      </a:lnTo>
                      <a:lnTo>
                        <a:pt x="2" y="3"/>
                      </a:lnTo>
                      <a:close/>
                    </a:path>
                  </a:pathLst>
                </a:custGeom>
                <a:blipFill rotWithShape="0">
                  <a:blip r:embed="rId24"/>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60" name=""/>
              <p:cNvGrpSpPr/>
              <p:nvPr/>
            </p:nvGrpSpPr>
            <p:grpSpPr>
              <a:xfrm>
                <a:off x="3546000" y="5807160"/>
                <a:ext cx="237240" cy="195120"/>
                <a:chOff x="3546000" y="5807160"/>
                <a:chExt cx="237240" cy="195120"/>
              </a:xfrm>
            </p:grpSpPr>
            <p:sp>
              <p:nvSpPr>
                <p:cNvPr id="461" name=""/>
                <p:cNvSpPr/>
                <p:nvPr/>
              </p:nvSpPr>
              <p:spPr>
                <a:xfrm>
                  <a:off x="3546000" y="5807160"/>
                  <a:ext cx="237240" cy="195120"/>
                </a:xfrm>
                <a:custGeom>
                  <a:avLst/>
                  <a:gdLst/>
                  <a:ahLst/>
                  <a:rect l="l" t="t" r="r" b="b"/>
                  <a:pathLst>
                    <a:path w="132" h="123">
                      <a:moveTo>
                        <a:pt x="44" y="20"/>
                      </a:moveTo>
                      <a:lnTo>
                        <a:pt x="55" y="5"/>
                      </a:lnTo>
                      <a:lnTo>
                        <a:pt x="71" y="0"/>
                      </a:lnTo>
                      <a:lnTo>
                        <a:pt x="84" y="3"/>
                      </a:lnTo>
                      <a:lnTo>
                        <a:pt x="93" y="16"/>
                      </a:lnTo>
                      <a:lnTo>
                        <a:pt x="94" y="32"/>
                      </a:lnTo>
                      <a:lnTo>
                        <a:pt x="113" y="35"/>
                      </a:lnTo>
                      <a:lnTo>
                        <a:pt x="128" y="46"/>
                      </a:lnTo>
                      <a:lnTo>
                        <a:pt x="132" y="48"/>
                      </a:lnTo>
                      <a:lnTo>
                        <a:pt x="131" y="65"/>
                      </a:lnTo>
                      <a:lnTo>
                        <a:pt x="121" y="76"/>
                      </a:lnTo>
                      <a:lnTo>
                        <a:pt x="105" y="84"/>
                      </a:lnTo>
                      <a:lnTo>
                        <a:pt x="98" y="85"/>
                      </a:lnTo>
                      <a:lnTo>
                        <a:pt x="96" y="97"/>
                      </a:lnTo>
                      <a:lnTo>
                        <a:pt x="86" y="110"/>
                      </a:lnTo>
                      <a:lnTo>
                        <a:pt x="74" y="117"/>
                      </a:lnTo>
                      <a:lnTo>
                        <a:pt x="56" y="121"/>
                      </a:lnTo>
                      <a:lnTo>
                        <a:pt x="52" y="123"/>
                      </a:lnTo>
                      <a:lnTo>
                        <a:pt x="37" y="115"/>
                      </a:lnTo>
                      <a:lnTo>
                        <a:pt x="27" y="101"/>
                      </a:lnTo>
                      <a:lnTo>
                        <a:pt x="23" y="95"/>
                      </a:lnTo>
                      <a:lnTo>
                        <a:pt x="8" y="89"/>
                      </a:lnTo>
                      <a:lnTo>
                        <a:pt x="0" y="70"/>
                      </a:lnTo>
                      <a:lnTo>
                        <a:pt x="4" y="53"/>
                      </a:lnTo>
                      <a:lnTo>
                        <a:pt x="13" y="40"/>
                      </a:lnTo>
                      <a:lnTo>
                        <a:pt x="20" y="38"/>
                      </a:lnTo>
                      <a:lnTo>
                        <a:pt x="18" y="25"/>
                      </a:lnTo>
                      <a:lnTo>
                        <a:pt x="28" y="18"/>
                      </a:lnTo>
                      <a:lnTo>
                        <a:pt x="37" y="17"/>
                      </a:lnTo>
                      <a:lnTo>
                        <a:pt x="44" y="20"/>
                      </a:lnTo>
                      <a:close/>
                    </a:path>
                  </a:pathLst>
                </a:cu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578040" y="5823000"/>
                  <a:ext cx="174600" cy="158760"/>
                </a:xfrm>
                <a:custGeom>
                  <a:avLst/>
                  <a:gdLst/>
                  <a:ahLst/>
                  <a:rect l="l" t="t" r="r" b="b"/>
                  <a:pathLst>
                    <a:path w="97" h="100">
                      <a:moveTo>
                        <a:pt x="36" y="42"/>
                      </a:moveTo>
                      <a:lnTo>
                        <a:pt x="38" y="28"/>
                      </a:lnTo>
                      <a:lnTo>
                        <a:pt x="36" y="14"/>
                      </a:lnTo>
                      <a:lnTo>
                        <a:pt x="45" y="5"/>
                      </a:lnTo>
                      <a:lnTo>
                        <a:pt x="54" y="0"/>
                      </a:lnTo>
                      <a:lnTo>
                        <a:pt x="60" y="5"/>
                      </a:lnTo>
                      <a:lnTo>
                        <a:pt x="65" y="12"/>
                      </a:lnTo>
                      <a:lnTo>
                        <a:pt x="63" y="22"/>
                      </a:lnTo>
                      <a:lnTo>
                        <a:pt x="56" y="31"/>
                      </a:lnTo>
                      <a:lnTo>
                        <a:pt x="53" y="41"/>
                      </a:lnTo>
                      <a:lnTo>
                        <a:pt x="60" y="39"/>
                      </a:lnTo>
                      <a:lnTo>
                        <a:pt x="69" y="33"/>
                      </a:lnTo>
                      <a:lnTo>
                        <a:pt x="79" y="31"/>
                      </a:lnTo>
                      <a:lnTo>
                        <a:pt x="83" y="32"/>
                      </a:lnTo>
                      <a:lnTo>
                        <a:pt x="92" y="34"/>
                      </a:lnTo>
                      <a:lnTo>
                        <a:pt x="97" y="42"/>
                      </a:lnTo>
                      <a:lnTo>
                        <a:pt x="97" y="55"/>
                      </a:lnTo>
                      <a:lnTo>
                        <a:pt x="89" y="64"/>
                      </a:lnTo>
                      <a:lnTo>
                        <a:pt x="78" y="66"/>
                      </a:lnTo>
                      <a:lnTo>
                        <a:pt x="65" y="62"/>
                      </a:lnTo>
                      <a:lnTo>
                        <a:pt x="55" y="56"/>
                      </a:lnTo>
                      <a:lnTo>
                        <a:pt x="54" y="65"/>
                      </a:lnTo>
                      <a:lnTo>
                        <a:pt x="64" y="71"/>
                      </a:lnTo>
                      <a:lnTo>
                        <a:pt x="70" y="80"/>
                      </a:lnTo>
                      <a:lnTo>
                        <a:pt x="63" y="93"/>
                      </a:lnTo>
                      <a:lnTo>
                        <a:pt x="50" y="100"/>
                      </a:lnTo>
                      <a:lnTo>
                        <a:pt x="36" y="99"/>
                      </a:lnTo>
                      <a:lnTo>
                        <a:pt x="29" y="90"/>
                      </a:lnTo>
                      <a:lnTo>
                        <a:pt x="25" y="79"/>
                      </a:lnTo>
                      <a:lnTo>
                        <a:pt x="34" y="70"/>
                      </a:lnTo>
                      <a:lnTo>
                        <a:pt x="41" y="62"/>
                      </a:lnTo>
                      <a:lnTo>
                        <a:pt x="36" y="57"/>
                      </a:lnTo>
                      <a:lnTo>
                        <a:pt x="30" y="67"/>
                      </a:lnTo>
                      <a:lnTo>
                        <a:pt x="20" y="74"/>
                      </a:lnTo>
                      <a:lnTo>
                        <a:pt x="6" y="70"/>
                      </a:lnTo>
                      <a:lnTo>
                        <a:pt x="0" y="60"/>
                      </a:lnTo>
                      <a:lnTo>
                        <a:pt x="2" y="51"/>
                      </a:lnTo>
                      <a:lnTo>
                        <a:pt x="9" y="45"/>
                      </a:lnTo>
                      <a:lnTo>
                        <a:pt x="16" y="41"/>
                      </a:lnTo>
                      <a:lnTo>
                        <a:pt x="16" y="31"/>
                      </a:lnTo>
                      <a:lnTo>
                        <a:pt x="19" y="23"/>
                      </a:lnTo>
                      <a:lnTo>
                        <a:pt x="26" y="24"/>
                      </a:lnTo>
                      <a:lnTo>
                        <a:pt x="31" y="31"/>
                      </a:lnTo>
                      <a:lnTo>
                        <a:pt x="36" y="42"/>
                      </a:lnTo>
                      <a:close/>
                    </a:path>
                  </a:pathLst>
                </a:cu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644640" y="5888160"/>
                  <a:ext cx="32040" cy="28440"/>
                </a:xfrm>
                <a:custGeom>
                  <a:avLst/>
                  <a:gdLst/>
                  <a:ahLst/>
                  <a:rect l="l" t="t" r="r" b="b"/>
                  <a:pathLst>
                    <a:path w="18" h="18">
                      <a:moveTo>
                        <a:pt x="1" y="3"/>
                      </a:moveTo>
                      <a:lnTo>
                        <a:pt x="12" y="0"/>
                      </a:lnTo>
                      <a:lnTo>
                        <a:pt x="18" y="5"/>
                      </a:lnTo>
                      <a:lnTo>
                        <a:pt x="17" y="16"/>
                      </a:lnTo>
                      <a:lnTo>
                        <a:pt x="7" y="18"/>
                      </a:lnTo>
                      <a:lnTo>
                        <a:pt x="0" y="11"/>
                      </a:lnTo>
                      <a:lnTo>
                        <a:pt x="1" y="3"/>
                      </a:lnTo>
                      <a:close/>
                    </a:path>
                  </a:pathLst>
                </a:custGeom>
                <a:blipFill rotWithShape="0">
                  <a:blip r:embed="rId27"/>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64" name=""/>
              <p:cNvGrpSpPr/>
              <p:nvPr/>
            </p:nvGrpSpPr>
            <p:grpSpPr>
              <a:xfrm>
                <a:off x="4482720" y="5913360"/>
                <a:ext cx="249840" cy="179640"/>
                <a:chOff x="4482720" y="5913360"/>
                <a:chExt cx="249840" cy="179640"/>
              </a:xfrm>
            </p:grpSpPr>
            <p:sp>
              <p:nvSpPr>
                <p:cNvPr id="465" name=""/>
                <p:cNvSpPr/>
                <p:nvPr/>
              </p:nvSpPr>
              <p:spPr>
                <a:xfrm>
                  <a:off x="4482720" y="5913360"/>
                  <a:ext cx="249840" cy="179640"/>
                </a:xfrm>
                <a:custGeom>
                  <a:avLst/>
                  <a:gdLst/>
                  <a:ahLst/>
                  <a:rect l="l" t="t" r="r" b="b"/>
                  <a:pathLst>
                    <a:path w="139" h="113">
                      <a:moveTo>
                        <a:pt x="63" y="10"/>
                      </a:moveTo>
                      <a:lnTo>
                        <a:pt x="78" y="0"/>
                      </a:lnTo>
                      <a:lnTo>
                        <a:pt x="97" y="1"/>
                      </a:lnTo>
                      <a:lnTo>
                        <a:pt x="108" y="10"/>
                      </a:lnTo>
                      <a:lnTo>
                        <a:pt x="112" y="25"/>
                      </a:lnTo>
                      <a:lnTo>
                        <a:pt x="107" y="41"/>
                      </a:lnTo>
                      <a:lnTo>
                        <a:pt x="125" y="51"/>
                      </a:lnTo>
                      <a:lnTo>
                        <a:pt x="136" y="68"/>
                      </a:lnTo>
                      <a:lnTo>
                        <a:pt x="139" y="72"/>
                      </a:lnTo>
                      <a:lnTo>
                        <a:pt x="131" y="87"/>
                      </a:lnTo>
                      <a:lnTo>
                        <a:pt x="117" y="93"/>
                      </a:lnTo>
                      <a:lnTo>
                        <a:pt x="99" y="94"/>
                      </a:lnTo>
                      <a:lnTo>
                        <a:pt x="91" y="92"/>
                      </a:lnTo>
                      <a:lnTo>
                        <a:pt x="85" y="103"/>
                      </a:lnTo>
                      <a:lnTo>
                        <a:pt x="70" y="111"/>
                      </a:lnTo>
                      <a:lnTo>
                        <a:pt x="55" y="113"/>
                      </a:lnTo>
                      <a:lnTo>
                        <a:pt x="36" y="109"/>
                      </a:lnTo>
                      <a:lnTo>
                        <a:pt x="31" y="109"/>
                      </a:lnTo>
                      <a:lnTo>
                        <a:pt x="19" y="96"/>
                      </a:lnTo>
                      <a:lnTo>
                        <a:pt x="14" y="79"/>
                      </a:lnTo>
                      <a:lnTo>
                        <a:pt x="13" y="71"/>
                      </a:lnTo>
                      <a:lnTo>
                        <a:pt x="0" y="60"/>
                      </a:lnTo>
                      <a:lnTo>
                        <a:pt x="0" y="39"/>
                      </a:lnTo>
                      <a:lnTo>
                        <a:pt x="10" y="25"/>
                      </a:lnTo>
                      <a:lnTo>
                        <a:pt x="24" y="16"/>
                      </a:lnTo>
                      <a:lnTo>
                        <a:pt x="32" y="18"/>
                      </a:lnTo>
                      <a:lnTo>
                        <a:pt x="35" y="4"/>
                      </a:lnTo>
                      <a:lnTo>
                        <a:pt x="47" y="2"/>
                      </a:lnTo>
                      <a:lnTo>
                        <a:pt x="56" y="4"/>
                      </a:lnTo>
                      <a:lnTo>
                        <a:pt x="63" y="1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4514760" y="5932440"/>
                  <a:ext cx="185040" cy="144360"/>
                </a:xfrm>
                <a:custGeom>
                  <a:avLst/>
                  <a:gdLst/>
                  <a:ahLst/>
                  <a:rect l="l" t="t" r="r" b="b"/>
                  <a:pathLst>
                    <a:path w="103" h="91">
                      <a:moveTo>
                        <a:pt x="43" y="31"/>
                      </a:moveTo>
                      <a:lnTo>
                        <a:pt x="49" y="19"/>
                      </a:lnTo>
                      <a:lnTo>
                        <a:pt x="53" y="6"/>
                      </a:lnTo>
                      <a:lnTo>
                        <a:pt x="65" y="1"/>
                      </a:lnTo>
                      <a:lnTo>
                        <a:pt x="76" y="0"/>
                      </a:lnTo>
                      <a:lnTo>
                        <a:pt x="80" y="7"/>
                      </a:lnTo>
                      <a:lnTo>
                        <a:pt x="83" y="15"/>
                      </a:lnTo>
                      <a:lnTo>
                        <a:pt x="77" y="23"/>
                      </a:lnTo>
                      <a:lnTo>
                        <a:pt x="67" y="29"/>
                      </a:lnTo>
                      <a:lnTo>
                        <a:pt x="60" y="37"/>
                      </a:lnTo>
                      <a:lnTo>
                        <a:pt x="68" y="39"/>
                      </a:lnTo>
                      <a:lnTo>
                        <a:pt x="79" y="36"/>
                      </a:lnTo>
                      <a:lnTo>
                        <a:pt x="90" y="38"/>
                      </a:lnTo>
                      <a:lnTo>
                        <a:pt x="93" y="41"/>
                      </a:lnTo>
                      <a:lnTo>
                        <a:pt x="101" y="47"/>
                      </a:lnTo>
                      <a:lnTo>
                        <a:pt x="103" y="56"/>
                      </a:lnTo>
                      <a:lnTo>
                        <a:pt x="98" y="67"/>
                      </a:lnTo>
                      <a:lnTo>
                        <a:pt x="88" y="73"/>
                      </a:lnTo>
                      <a:lnTo>
                        <a:pt x="75" y="71"/>
                      </a:lnTo>
                      <a:lnTo>
                        <a:pt x="64" y="62"/>
                      </a:lnTo>
                      <a:lnTo>
                        <a:pt x="56" y="52"/>
                      </a:lnTo>
                      <a:lnTo>
                        <a:pt x="52" y="60"/>
                      </a:lnTo>
                      <a:lnTo>
                        <a:pt x="60" y="70"/>
                      </a:lnTo>
                      <a:lnTo>
                        <a:pt x="62" y="80"/>
                      </a:lnTo>
                      <a:lnTo>
                        <a:pt x="50" y="89"/>
                      </a:lnTo>
                      <a:lnTo>
                        <a:pt x="35" y="91"/>
                      </a:lnTo>
                      <a:lnTo>
                        <a:pt x="22" y="84"/>
                      </a:lnTo>
                      <a:lnTo>
                        <a:pt x="17" y="73"/>
                      </a:lnTo>
                      <a:lnTo>
                        <a:pt x="18" y="61"/>
                      </a:lnTo>
                      <a:lnTo>
                        <a:pt x="30" y="56"/>
                      </a:lnTo>
                      <a:lnTo>
                        <a:pt x="40" y="52"/>
                      </a:lnTo>
                      <a:lnTo>
                        <a:pt x="37" y="46"/>
                      </a:lnTo>
                      <a:lnTo>
                        <a:pt x="27" y="53"/>
                      </a:lnTo>
                      <a:lnTo>
                        <a:pt x="14" y="54"/>
                      </a:lnTo>
                      <a:lnTo>
                        <a:pt x="2" y="45"/>
                      </a:lnTo>
                      <a:lnTo>
                        <a:pt x="0" y="33"/>
                      </a:lnTo>
                      <a:lnTo>
                        <a:pt x="6" y="26"/>
                      </a:lnTo>
                      <a:lnTo>
                        <a:pt x="14" y="23"/>
                      </a:lnTo>
                      <a:lnTo>
                        <a:pt x="23" y="22"/>
                      </a:lnTo>
                      <a:lnTo>
                        <a:pt x="27" y="13"/>
                      </a:lnTo>
                      <a:lnTo>
                        <a:pt x="32" y="7"/>
                      </a:lnTo>
                      <a:lnTo>
                        <a:pt x="40" y="11"/>
                      </a:lnTo>
                      <a:lnTo>
                        <a:pt x="42" y="19"/>
                      </a:lnTo>
                      <a:lnTo>
                        <a:pt x="43" y="31"/>
                      </a:lnTo>
                      <a:close/>
                    </a:path>
                  </a:pathLst>
                </a:cu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584960" y="5986440"/>
                  <a:ext cx="37800" cy="30240"/>
                </a:xfrm>
                <a:custGeom>
                  <a:avLst/>
                  <a:gdLst/>
                  <a:ahLst/>
                  <a:rect l="l" t="t" r="r" b="b"/>
                  <a:pathLst>
                    <a:path w="21" h="19">
                      <a:moveTo>
                        <a:pt x="4" y="0"/>
                      </a:moveTo>
                      <a:lnTo>
                        <a:pt x="16" y="2"/>
                      </a:lnTo>
                      <a:lnTo>
                        <a:pt x="21" y="9"/>
                      </a:lnTo>
                      <a:lnTo>
                        <a:pt x="15" y="19"/>
                      </a:lnTo>
                      <a:lnTo>
                        <a:pt x="5" y="17"/>
                      </a:lnTo>
                      <a:lnTo>
                        <a:pt x="0" y="7"/>
                      </a:lnTo>
                      <a:lnTo>
                        <a:pt x="4" y="0"/>
                      </a:lnTo>
                      <a:close/>
                    </a:path>
                  </a:pathLst>
                </a:custGeom>
                <a:blipFill rotWithShape="0">
                  <a:blip r:embed="rId30"/>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68" name=""/>
              <p:cNvGrpSpPr/>
              <p:nvPr/>
            </p:nvGrpSpPr>
            <p:grpSpPr>
              <a:xfrm>
                <a:off x="5109120" y="5924520"/>
                <a:ext cx="233640" cy="195480"/>
                <a:chOff x="5109120" y="5924520"/>
                <a:chExt cx="233640" cy="195480"/>
              </a:xfrm>
            </p:grpSpPr>
            <p:sp>
              <p:nvSpPr>
                <p:cNvPr id="469" name=""/>
                <p:cNvSpPr/>
                <p:nvPr/>
              </p:nvSpPr>
              <p:spPr>
                <a:xfrm>
                  <a:off x="5109120" y="5924520"/>
                  <a:ext cx="233640" cy="195480"/>
                </a:xfrm>
                <a:custGeom>
                  <a:avLst/>
                  <a:gdLst/>
                  <a:ahLst/>
                  <a:rect l="l" t="t" r="r" b="b"/>
                  <a:pathLst>
                    <a:path w="130" h="123">
                      <a:moveTo>
                        <a:pt x="23" y="36"/>
                      </a:moveTo>
                      <a:lnTo>
                        <a:pt x="26" y="17"/>
                      </a:lnTo>
                      <a:lnTo>
                        <a:pt x="40" y="4"/>
                      </a:lnTo>
                      <a:lnTo>
                        <a:pt x="54" y="0"/>
                      </a:lnTo>
                      <a:lnTo>
                        <a:pt x="69" y="6"/>
                      </a:lnTo>
                      <a:lnTo>
                        <a:pt x="78" y="20"/>
                      </a:lnTo>
                      <a:lnTo>
                        <a:pt x="98" y="12"/>
                      </a:lnTo>
                      <a:lnTo>
                        <a:pt x="119" y="13"/>
                      </a:lnTo>
                      <a:lnTo>
                        <a:pt x="123" y="13"/>
                      </a:lnTo>
                      <a:lnTo>
                        <a:pt x="130" y="28"/>
                      </a:lnTo>
                      <a:lnTo>
                        <a:pt x="126" y="44"/>
                      </a:lnTo>
                      <a:lnTo>
                        <a:pt x="115" y="58"/>
                      </a:lnTo>
                      <a:lnTo>
                        <a:pt x="108" y="64"/>
                      </a:lnTo>
                      <a:lnTo>
                        <a:pt x="113" y="76"/>
                      </a:lnTo>
                      <a:lnTo>
                        <a:pt x="109" y="92"/>
                      </a:lnTo>
                      <a:lnTo>
                        <a:pt x="100" y="105"/>
                      </a:lnTo>
                      <a:lnTo>
                        <a:pt x="85" y="118"/>
                      </a:lnTo>
                      <a:lnTo>
                        <a:pt x="81" y="121"/>
                      </a:lnTo>
                      <a:lnTo>
                        <a:pt x="63" y="123"/>
                      </a:lnTo>
                      <a:lnTo>
                        <a:pt x="46" y="116"/>
                      </a:lnTo>
                      <a:lnTo>
                        <a:pt x="39" y="112"/>
                      </a:lnTo>
                      <a:lnTo>
                        <a:pt x="21" y="115"/>
                      </a:lnTo>
                      <a:lnTo>
                        <a:pt x="5" y="103"/>
                      </a:lnTo>
                      <a:lnTo>
                        <a:pt x="1" y="87"/>
                      </a:lnTo>
                      <a:lnTo>
                        <a:pt x="3" y="70"/>
                      </a:lnTo>
                      <a:lnTo>
                        <a:pt x="9" y="65"/>
                      </a:lnTo>
                      <a:lnTo>
                        <a:pt x="0" y="54"/>
                      </a:lnTo>
                      <a:lnTo>
                        <a:pt x="7" y="43"/>
                      </a:lnTo>
                      <a:lnTo>
                        <a:pt x="15" y="37"/>
                      </a:lnTo>
                      <a:lnTo>
                        <a:pt x="23" y="36"/>
                      </a:lnTo>
                      <a:close/>
                    </a:path>
                  </a:pathLst>
                </a:cu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144760" y="5942160"/>
                  <a:ext cx="169200" cy="152280"/>
                </a:xfrm>
                <a:custGeom>
                  <a:avLst/>
                  <a:gdLst/>
                  <a:ahLst/>
                  <a:rect l="l" t="t" r="r" b="b"/>
                  <a:pathLst>
                    <a:path w="94" h="96">
                      <a:moveTo>
                        <a:pt x="29" y="46"/>
                      </a:moveTo>
                      <a:lnTo>
                        <a:pt x="24" y="33"/>
                      </a:lnTo>
                      <a:lnTo>
                        <a:pt x="15" y="22"/>
                      </a:lnTo>
                      <a:lnTo>
                        <a:pt x="20" y="9"/>
                      </a:lnTo>
                      <a:lnTo>
                        <a:pt x="26" y="0"/>
                      </a:lnTo>
                      <a:lnTo>
                        <a:pt x="35" y="1"/>
                      </a:lnTo>
                      <a:lnTo>
                        <a:pt x="43" y="4"/>
                      </a:lnTo>
                      <a:lnTo>
                        <a:pt x="45" y="14"/>
                      </a:lnTo>
                      <a:lnTo>
                        <a:pt x="43" y="25"/>
                      </a:lnTo>
                      <a:lnTo>
                        <a:pt x="45" y="36"/>
                      </a:lnTo>
                      <a:lnTo>
                        <a:pt x="51" y="31"/>
                      </a:lnTo>
                      <a:lnTo>
                        <a:pt x="57" y="21"/>
                      </a:lnTo>
                      <a:lnTo>
                        <a:pt x="65" y="13"/>
                      </a:lnTo>
                      <a:lnTo>
                        <a:pt x="70" y="12"/>
                      </a:lnTo>
                      <a:lnTo>
                        <a:pt x="80" y="9"/>
                      </a:lnTo>
                      <a:lnTo>
                        <a:pt x="88" y="13"/>
                      </a:lnTo>
                      <a:lnTo>
                        <a:pt x="94" y="25"/>
                      </a:lnTo>
                      <a:lnTo>
                        <a:pt x="92" y="36"/>
                      </a:lnTo>
                      <a:lnTo>
                        <a:pt x="81" y="45"/>
                      </a:lnTo>
                      <a:lnTo>
                        <a:pt x="67" y="48"/>
                      </a:lnTo>
                      <a:lnTo>
                        <a:pt x="55" y="48"/>
                      </a:lnTo>
                      <a:lnTo>
                        <a:pt x="57" y="57"/>
                      </a:lnTo>
                      <a:lnTo>
                        <a:pt x="70" y="57"/>
                      </a:lnTo>
                      <a:lnTo>
                        <a:pt x="81" y="61"/>
                      </a:lnTo>
                      <a:lnTo>
                        <a:pt x="80" y="76"/>
                      </a:lnTo>
                      <a:lnTo>
                        <a:pt x="71" y="89"/>
                      </a:lnTo>
                      <a:lnTo>
                        <a:pt x="57" y="96"/>
                      </a:lnTo>
                      <a:lnTo>
                        <a:pt x="45" y="92"/>
                      </a:lnTo>
                      <a:lnTo>
                        <a:pt x="36" y="85"/>
                      </a:lnTo>
                      <a:lnTo>
                        <a:pt x="40" y="72"/>
                      </a:lnTo>
                      <a:lnTo>
                        <a:pt x="44" y="61"/>
                      </a:lnTo>
                      <a:lnTo>
                        <a:pt x="37" y="59"/>
                      </a:lnTo>
                      <a:lnTo>
                        <a:pt x="35" y="72"/>
                      </a:lnTo>
                      <a:lnTo>
                        <a:pt x="29" y="83"/>
                      </a:lnTo>
                      <a:lnTo>
                        <a:pt x="13" y="87"/>
                      </a:lnTo>
                      <a:lnTo>
                        <a:pt x="2" y="82"/>
                      </a:lnTo>
                      <a:lnTo>
                        <a:pt x="0" y="73"/>
                      </a:lnTo>
                      <a:lnTo>
                        <a:pt x="3" y="64"/>
                      </a:lnTo>
                      <a:lnTo>
                        <a:pt x="9" y="56"/>
                      </a:lnTo>
                      <a:lnTo>
                        <a:pt x="4" y="47"/>
                      </a:lnTo>
                      <a:lnTo>
                        <a:pt x="2" y="39"/>
                      </a:lnTo>
                      <a:lnTo>
                        <a:pt x="11" y="37"/>
                      </a:lnTo>
                      <a:lnTo>
                        <a:pt x="19" y="39"/>
                      </a:lnTo>
                      <a:lnTo>
                        <a:pt x="29" y="46"/>
                      </a:lnTo>
                      <a:close/>
                    </a:path>
                  </a:pathLst>
                </a:cu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200920" y="6002280"/>
                  <a:ext cx="39600" cy="31680"/>
                </a:xfrm>
                <a:custGeom>
                  <a:avLst/>
                  <a:gdLst/>
                  <a:ahLst/>
                  <a:rect l="l" t="t" r="r" b="b"/>
                  <a:pathLst>
                    <a:path w="22" h="20">
                      <a:moveTo>
                        <a:pt x="0" y="9"/>
                      </a:moveTo>
                      <a:lnTo>
                        <a:pt x="10" y="0"/>
                      </a:lnTo>
                      <a:lnTo>
                        <a:pt x="19" y="1"/>
                      </a:lnTo>
                      <a:lnTo>
                        <a:pt x="22" y="12"/>
                      </a:lnTo>
                      <a:lnTo>
                        <a:pt x="14" y="20"/>
                      </a:lnTo>
                      <a:lnTo>
                        <a:pt x="3" y="18"/>
                      </a:lnTo>
                      <a:lnTo>
                        <a:pt x="0" y="9"/>
                      </a:lnTo>
                      <a:close/>
                    </a:path>
                  </a:pathLst>
                </a:cu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472" name=""/>
              <p:cNvGrpSpPr/>
              <p:nvPr/>
            </p:nvGrpSpPr>
            <p:grpSpPr>
              <a:xfrm>
                <a:off x="5476680" y="5560920"/>
                <a:ext cx="220680" cy="258840"/>
                <a:chOff x="5476680" y="5560920"/>
                <a:chExt cx="220680" cy="258840"/>
              </a:xfrm>
            </p:grpSpPr>
            <p:sp>
              <p:nvSpPr>
                <p:cNvPr id="473" name=""/>
                <p:cNvSpPr/>
                <p:nvPr/>
              </p:nvSpPr>
              <p:spPr>
                <a:xfrm>
                  <a:off x="5476680" y="5560920"/>
                  <a:ext cx="220680" cy="258840"/>
                </a:xfrm>
                <a:custGeom>
                  <a:avLst/>
                  <a:gdLst/>
                  <a:ahLst/>
                  <a:rect l="l" t="t" r="r" b="b"/>
                  <a:pathLst>
                    <a:path w="123" h="163">
                      <a:moveTo>
                        <a:pt x="41" y="26"/>
                      </a:moveTo>
                      <a:lnTo>
                        <a:pt x="50" y="6"/>
                      </a:lnTo>
                      <a:lnTo>
                        <a:pt x="66" y="0"/>
                      </a:lnTo>
                      <a:lnTo>
                        <a:pt x="78" y="4"/>
                      </a:lnTo>
                      <a:lnTo>
                        <a:pt x="86" y="21"/>
                      </a:lnTo>
                      <a:lnTo>
                        <a:pt x="87" y="43"/>
                      </a:lnTo>
                      <a:lnTo>
                        <a:pt x="105" y="46"/>
                      </a:lnTo>
                      <a:lnTo>
                        <a:pt x="119" y="61"/>
                      </a:lnTo>
                      <a:lnTo>
                        <a:pt x="123" y="64"/>
                      </a:lnTo>
                      <a:lnTo>
                        <a:pt x="121" y="86"/>
                      </a:lnTo>
                      <a:lnTo>
                        <a:pt x="112" y="101"/>
                      </a:lnTo>
                      <a:lnTo>
                        <a:pt x="98" y="111"/>
                      </a:lnTo>
                      <a:lnTo>
                        <a:pt x="91" y="113"/>
                      </a:lnTo>
                      <a:lnTo>
                        <a:pt x="89" y="129"/>
                      </a:lnTo>
                      <a:lnTo>
                        <a:pt x="80" y="146"/>
                      </a:lnTo>
                      <a:lnTo>
                        <a:pt x="68" y="156"/>
                      </a:lnTo>
                      <a:lnTo>
                        <a:pt x="52" y="161"/>
                      </a:lnTo>
                      <a:lnTo>
                        <a:pt x="48" y="163"/>
                      </a:lnTo>
                      <a:lnTo>
                        <a:pt x="34" y="153"/>
                      </a:lnTo>
                      <a:lnTo>
                        <a:pt x="24" y="134"/>
                      </a:lnTo>
                      <a:lnTo>
                        <a:pt x="21" y="126"/>
                      </a:lnTo>
                      <a:lnTo>
                        <a:pt x="7" y="118"/>
                      </a:lnTo>
                      <a:lnTo>
                        <a:pt x="0" y="93"/>
                      </a:lnTo>
                      <a:lnTo>
                        <a:pt x="3" y="71"/>
                      </a:lnTo>
                      <a:lnTo>
                        <a:pt x="11" y="53"/>
                      </a:lnTo>
                      <a:lnTo>
                        <a:pt x="18" y="51"/>
                      </a:lnTo>
                      <a:lnTo>
                        <a:pt x="16" y="33"/>
                      </a:lnTo>
                      <a:lnTo>
                        <a:pt x="26" y="24"/>
                      </a:lnTo>
                      <a:lnTo>
                        <a:pt x="34" y="23"/>
                      </a:lnTo>
                      <a:lnTo>
                        <a:pt x="41" y="26"/>
                      </a:lnTo>
                      <a:close/>
                    </a:path>
                  </a:pathLst>
                </a:cu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506920" y="5581800"/>
                  <a:ext cx="163440" cy="209520"/>
                </a:xfrm>
                <a:custGeom>
                  <a:avLst/>
                  <a:gdLst/>
                  <a:ahLst/>
                  <a:rect l="l" t="t" r="r" b="b"/>
                  <a:pathLst>
                    <a:path w="91" h="132">
                      <a:moveTo>
                        <a:pt x="34" y="55"/>
                      </a:moveTo>
                      <a:lnTo>
                        <a:pt x="35" y="37"/>
                      </a:lnTo>
                      <a:lnTo>
                        <a:pt x="34" y="19"/>
                      </a:lnTo>
                      <a:lnTo>
                        <a:pt x="42" y="7"/>
                      </a:lnTo>
                      <a:lnTo>
                        <a:pt x="51" y="0"/>
                      </a:lnTo>
                      <a:lnTo>
                        <a:pt x="56" y="7"/>
                      </a:lnTo>
                      <a:lnTo>
                        <a:pt x="61" y="15"/>
                      </a:lnTo>
                      <a:lnTo>
                        <a:pt x="59" y="29"/>
                      </a:lnTo>
                      <a:lnTo>
                        <a:pt x="53" y="40"/>
                      </a:lnTo>
                      <a:lnTo>
                        <a:pt x="49" y="54"/>
                      </a:lnTo>
                      <a:lnTo>
                        <a:pt x="56" y="52"/>
                      </a:lnTo>
                      <a:lnTo>
                        <a:pt x="65" y="44"/>
                      </a:lnTo>
                      <a:lnTo>
                        <a:pt x="74" y="40"/>
                      </a:lnTo>
                      <a:lnTo>
                        <a:pt x="78" y="42"/>
                      </a:lnTo>
                      <a:lnTo>
                        <a:pt x="86" y="45"/>
                      </a:lnTo>
                      <a:lnTo>
                        <a:pt x="91" y="55"/>
                      </a:lnTo>
                      <a:lnTo>
                        <a:pt x="91" y="72"/>
                      </a:lnTo>
                      <a:lnTo>
                        <a:pt x="84" y="84"/>
                      </a:lnTo>
                      <a:lnTo>
                        <a:pt x="73" y="87"/>
                      </a:lnTo>
                      <a:lnTo>
                        <a:pt x="61" y="82"/>
                      </a:lnTo>
                      <a:lnTo>
                        <a:pt x="52" y="74"/>
                      </a:lnTo>
                      <a:lnTo>
                        <a:pt x="51" y="85"/>
                      </a:lnTo>
                      <a:lnTo>
                        <a:pt x="60" y="94"/>
                      </a:lnTo>
                      <a:lnTo>
                        <a:pt x="66" y="106"/>
                      </a:lnTo>
                      <a:lnTo>
                        <a:pt x="59" y="122"/>
                      </a:lnTo>
                      <a:lnTo>
                        <a:pt x="47" y="132"/>
                      </a:lnTo>
                      <a:lnTo>
                        <a:pt x="34" y="131"/>
                      </a:lnTo>
                      <a:lnTo>
                        <a:pt x="27" y="119"/>
                      </a:lnTo>
                      <a:lnTo>
                        <a:pt x="23" y="104"/>
                      </a:lnTo>
                      <a:lnTo>
                        <a:pt x="32" y="92"/>
                      </a:lnTo>
                      <a:lnTo>
                        <a:pt x="39" y="82"/>
                      </a:lnTo>
                      <a:lnTo>
                        <a:pt x="34" y="75"/>
                      </a:lnTo>
                      <a:lnTo>
                        <a:pt x="28" y="89"/>
                      </a:lnTo>
                      <a:lnTo>
                        <a:pt x="19" y="97"/>
                      </a:lnTo>
                      <a:lnTo>
                        <a:pt x="6" y="92"/>
                      </a:lnTo>
                      <a:lnTo>
                        <a:pt x="0" y="79"/>
                      </a:lnTo>
                      <a:lnTo>
                        <a:pt x="2" y="67"/>
                      </a:lnTo>
                      <a:lnTo>
                        <a:pt x="8" y="59"/>
                      </a:lnTo>
                      <a:lnTo>
                        <a:pt x="15" y="54"/>
                      </a:lnTo>
                      <a:lnTo>
                        <a:pt x="15" y="40"/>
                      </a:lnTo>
                      <a:lnTo>
                        <a:pt x="17" y="30"/>
                      </a:lnTo>
                      <a:lnTo>
                        <a:pt x="25" y="32"/>
                      </a:lnTo>
                      <a:lnTo>
                        <a:pt x="29" y="40"/>
                      </a:lnTo>
                      <a:lnTo>
                        <a:pt x="34" y="55"/>
                      </a:lnTo>
                      <a:close/>
                    </a:path>
                  </a:pathLst>
                </a:cu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568120" y="5667480"/>
                  <a:ext cx="30240" cy="39600"/>
                </a:xfrm>
                <a:custGeom>
                  <a:avLst/>
                  <a:gdLst/>
                  <a:ahLst/>
                  <a:rect l="l" t="t" r="r" b="b"/>
                  <a:pathLst>
                    <a:path w="17" h="25">
                      <a:moveTo>
                        <a:pt x="1" y="3"/>
                      </a:moveTo>
                      <a:lnTo>
                        <a:pt x="11" y="0"/>
                      </a:lnTo>
                      <a:lnTo>
                        <a:pt x="17" y="6"/>
                      </a:lnTo>
                      <a:lnTo>
                        <a:pt x="16" y="21"/>
                      </a:lnTo>
                      <a:lnTo>
                        <a:pt x="6" y="25"/>
                      </a:lnTo>
                      <a:lnTo>
                        <a:pt x="0" y="15"/>
                      </a:lnTo>
                      <a:lnTo>
                        <a:pt x="1" y="3"/>
                      </a:lnTo>
                      <a:close/>
                    </a:path>
                  </a:pathLst>
                </a:custGeom>
                <a:blipFill rotWithShape="0">
                  <a:blip r:embed="rId36"/>
                  <a:srcRect/>
                  <a:tile tx="0" ty="0" sx="100000" sy="100000" algn="ctr"/>
                </a:blip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476" name=""/>
            <p:cNvGrpSpPr/>
            <p:nvPr/>
          </p:nvGrpSpPr>
          <p:grpSpPr>
            <a:xfrm>
              <a:off x="3146400" y="5718240"/>
              <a:ext cx="2567880" cy="433440"/>
              <a:chOff x="3146400" y="5718240"/>
              <a:chExt cx="2567880" cy="433440"/>
            </a:xfrm>
          </p:grpSpPr>
          <p:sp>
            <p:nvSpPr>
              <p:cNvPr id="477" name=""/>
              <p:cNvSpPr/>
              <p:nvPr/>
            </p:nvSpPr>
            <p:spPr>
              <a:xfrm>
                <a:off x="4260960" y="5832360"/>
                <a:ext cx="162000" cy="270000"/>
              </a:xfrm>
              <a:custGeom>
                <a:avLst/>
                <a:gdLst/>
                <a:ahLst/>
                <a:rect l="l" t="t" r="r" b="b"/>
                <a:pathLst>
                  <a:path w="90" h="170">
                    <a:moveTo>
                      <a:pt x="81" y="148"/>
                    </a:moveTo>
                    <a:lnTo>
                      <a:pt x="89" y="112"/>
                    </a:lnTo>
                    <a:lnTo>
                      <a:pt x="90" y="86"/>
                    </a:lnTo>
                    <a:lnTo>
                      <a:pt x="89" y="57"/>
                    </a:lnTo>
                    <a:lnTo>
                      <a:pt x="83" y="28"/>
                    </a:lnTo>
                    <a:lnTo>
                      <a:pt x="71" y="0"/>
                    </a:lnTo>
                    <a:lnTo>
                      <a:pt x="60" y="0"/>
                    </a:lnTo>
                    <a:lnTo>
                      <a:pt x="60" y="19"/>
                    </a:lnTo>
                    <a:lnTo>
                      <a:pt x="69" y="61"/>
                    </a:lnTo>
                    <a:lnTo>
                      <a:pt x="69" y="93"/>
                    </a:lnTo>
                    <a:lnTo>
                      <a:pt x="65" y="128"/>
                    </a:lnTo>
                    <a:lnTo>
                      <a:pt x="56" y="148"/>
                    </a:lnTo>
                    <a:lnTo>
                      <a:pt x="55" y="123"/>
                    </a:lnTo>
                    <a:lnTo>
                      <a:pt x="47" y="95"/>
                    </a:lnTo>
                    <a:lnTo>
                      <a:pt x="36" y="68"/>
                    </a:lnTo>
                    <a:lnTo>
                      <a:pt x="20" y="45"/>
                    </a:lnTo>
                    <a:lnTo>
                      <a:pt x="3" y="26"/>
                    </a:lnTo>
                    <a:lnTo>
                      <a:pt x="0" y="36"/>
                    </a:lnTo>
                    <a:lnTo>
                      <a:pt x="13" y="68"/>
                    </a:lnTo>
                    <a:lnTo>
                      <a:pt x="26" y="102"/>
                    </a:lnTo>
                    <a:lnTo>
                      <a:pt x="25" y="106"/>
                    </a:lnTo>
                    <a:lnTo>
                      <a:pt x="30" y="137"/>
                    </a:lnTo>
                    <a:lnTo>
                      <a:pt x="31" y="160"/>
                    </a:lnTo>
                    <a:lnTo>
                      <a:pt x="38" y="168"/>
                    </a:lnTo>
                    <a:lnTo>
                      <a:pt x="42" y="170"/>
                    </a:lnTo>
                    <a:lnTo>
                      <a:pt x="55" y="166"/>
                    </a:lnTo>
                    <a:lnTo>
                      <a:pt x="57" y="156"/>
                    </a:lnTo>
                    <a:lnTo>
                      <a:pt x="65" y="165"/>
                    </a:lnTo>
                    <a:lnTo>
                      <a:pt x="79" y="159"/>
                    </a:lnTo>
                    <a:lnTo>
                      <a:pt x="81" y="14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183560" y="5954760"/>
                <a:ext cx="68040" cy="196920"/>
              </a:xfrm>
              <a:custGeom>
                <a:avLst/>
                <a:gdLst/>
                <a:ahLst/>
                <a:rect l="l" t="t" r="r" b="b"/>
                <a:pathLst>
                  <a:path w="38" h="124">
                    <a:moveTo>
                      <a:pt x="6" y="0"/>
                    </a:moveTo>
                    <a:lnTo>
                      <a:pt x="23" y="32"/>
                    </a:lnTo>
                    <a:lnTo>
                      <a:pt x="34" y="66"/>
                    </a:lnTo>
                    <a:lnTo>
                      <a:pt x="38" y="91"/>
                    </a:lnTo>
                    <a:lnTo>
                      <a:pt x="37" y="94"/>
                    </a:lnTo>
                    <a:lnTo>
                      <a:pt x="38" y="112"/>
                    </a:lnTo>
                    <a:lnTo>
                      <a:pt x="31" y="122"/>
                    </a:lnTo>
                    <a:lnTo>
                      <a:pt x="23" y="124"/>
                    </a:lnTo>
                    <a:lnTo>
                      <a:pt x="13" y="120"/>
                    </a:lnTo>
                    <a:lnTo>
                      <a:pt x="9" y="106"/>
                    </a:lnTo>
                    <a:lnTo>
                      <a:pt x="13" y="86"/>
                    </a:lnTo>
                    <a:lnTo>
                      <a:pt x="15" y="63"/>
                    </a:lnTo>
                    <a:lnTo>
                      <a:pt x="11" y="43"/>
                    </a:lnTo>
                    <a:lnTo>
                      <a:pt x="4" y="22"/>
                    </a:lnTo>
                    <a:lnTo>
                      <a:pt x="0" y="3"/>
                    </a:lnTo>
                    <a:lnTo>
                      <a:pt x="6"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041000" y="5864400"/>
                <a:ext cx="70200" cy="217440"/>
              </a:xfrm>
              <a:custGeom>
                <a:avLst/>
                <a:gdLst/>
                <a:ahLst/>
                <a:rect l="l" t="t" r="r" b="b"/>
                <a:pathLst>
                  <a:path w="39" h="137">
                    <a:moveTo>
                      <a:pt x="2" y="111"/>
                    </a:moveTo>
                    <a:lnTo>
                      <a:pt x="5" y="76"/>
                    </a:lnTo>
                    <a:lnTo>
                      <a:pt x="15" y="42"/>
                    </a:lnTo>
                    <a:lnTo>
                      <a:pt x="24" y="18"/>
                    </a:lnTo>
                    <a:lnTo>
                      <a:pt x="34" y="0"/>
                    </a:lnTo>
                    <a:lnTo>
                      <a:pt x="39" y="3"/>
                    </a:lnTo>
                    <a:lnTo>
                      <a:pt x="32" y="35"/>
                    </a:lnTo>
                    <a:lnTo>
                      <a:pt x="25" y="77"/>
                    </a:lnTo>
                    <a:lnTo>
                      <a:pt x="21" y="108"/>
                    </a:lnTo>
                    <a:lnTo>
                      <a:pt x="19" y="128"/>
                    </a:lnTo>
                    <a:lnTo>
                      <a:pt x="12" y="137"/>
                    </a:lnTo>
                    <a:lnTo>
                      <a:pt x="3" y="133"/>
                    </a:lnTo>
                    <a:lnTo>
                      <a:pt x="0" y="122"/>
                    </a:lnTo>
                    <a:lnTo>
                      <a:pt x="2" y="111"/>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972960" y="5803920"/>
                <a:ext cx="88200" cy="314280"/>
              </a:xfrm>
              <a:custGeom>
                <a:avLst/>
                <a:gdLst/>
                <a:ahLst/>
                <a:rect l="l" t="t" r="r" b="b"/>
                <a:pathLst>
                  <a:path w="49" h="198">
                    <a:moveTo>
                      <a:pt x="3" y="169"/>
                    </a:moveTo>
                    <a:lnTo>
                      <a:pt x="7" y="125"/>
                    </a:lnTo>
                    <a:lnTo>
                      <a:pt x="12" y="98"/>
                    </a:lnTo>
                    <a:lnTo>
                      <a:pt x="18" y="69"/>
                    </a:lnTo>
                    <a:lnTo>
                      <a:pt x="26" y="41"/>
                    </a:lnTo>
                    <a:lnTo>
                      <a:pt x="36" y="16"/>
                    </a:lnTo>
                    <a:lnTo>
                      <a:pt x="45" y="0"/>
                    </a:lnTo>
                    <a:lnTo>
                      <a:pt x="49" y="4"/>
                    </a:lnTo>
                    <a:lnTo>
                      <a:pt x="40" y="45"/>
                    </a:lnTo>
                    <a:lnTo>
                      <a:pt x="31" y="89"/>
                    </a:lnTo>
                    <a:lnTo>
                      <a:pt x="28" y="125"/>
                    </a:lnTo>
                    <a:lnTo>
                      <a:pt x="26" y="156"/>
                    </a:lnTo>
                    <a:lnTo>
                      <a:pt x="26" y="184"/>
                    </a:lnTo>
                    <a:lnTo>
                      <a:pt x="23" y="193"/>
                    </a:lnTo>
                    <a:lnTo>
                      <a:pt x="17" y="198"/>
                    </a:lnTo>
                    <a:lnTo>
                      <a:pt x="6" y="195"/>
                    </a:lnTo>
                    <a:lnTo>
                      <a:pt x="4" y="188"/>
                    </a:lnTo>
                    <a:lnTo>
                      <a:pt x="0" y="175"/>
                    </a:lnTo>
                    <a:lnTo>
                      <a:pt x="3" y="169"/>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877200" y="5842080"/>
                <a:ext cx="70200" cy="268200"/>
              </a:xfrm>
              <a:custGeom>
                <a:avLst/>
                <a:gdLst/>
                <a:ahLst/>
                <a:rect l="l" t="t" r="r" b="b"/>
                <a:pathLst>
                  <a:path w="39" h="169">
                    <a:moveTo>
                      <a:pt x="13" y="160"/>
                    </a:moveTo>
                    <a:lnTo>
                      <a:pt x="5" y="134"/>
                    </a:lnTo>
                    <a:lnTo>
                      <a:pt x="2" y="112"/>
                    </a:lnTo>
                    <a:lnTo>
                      <a:pt x="0" y="83"/>
                    </a:lnTo>
                    <a:lnTo>
                      <a:pt x="2" y="52"/>
                    </a:lnTo>
                    <a:lnTo>
                      <a:pt x="7" y="25"/>
                    </a:lnTo>
                    <a:lnTo>
                      <a:pt x="17" y="0"/>
                    </a:lnTo>
                    <a:lnTo>
                      <a:pt x="23" y="2"/>
                    </a:lnTo>
                    <a:lnTo>
                      <a:pt x="18" y="33"/>
                    </a:lnTo>
                    <a:lnTo>
                      <a:pt x="17" y="66"/>
                    </a:lnTo>
                    <a:lnTo>
                      <a:pt x="18" y="91"/>
                    </a:lnTo>
                    <a:lnTo>
                      <a:pt x="21" y="113"/>
                    </a:lnTo>
                    <a:lnTo>
                      <a:pt x="28" y="133"/>
                    </a:lnTo>
                    <a:lnTo>
                      <a:pt x="36" y="148"/>
                    </a:lnTo>
                    <a:lnTo>
                      <a:pt x="39" y="158"/>
                    </a:lnTo>
                    <a:lnTo>
                      <a:pt x="38" y="164"/>
                    </a:lnTo>
                    <a:lnTo>
                      <a:pt x="35" y="166"/>
                    </a:lnTo>
                    <a:lnTo>
                      <a:pt x="30" y="169"/>
                    </a:lnTo>
                    <a:lnTo>
                      <a:pt x="22" y="164"/>
                    </a:lnTo>
                    <a:lnTo>
                      <a:pt x="13" y="16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3720600" y="5799240"/>
                <a:ext cx="64800" cy="284040"/>
              </a:xfrm>
              <a:custGeom>
                <a:avLst/>
                <a:gdLst/>
                <a:ahLst/>
                <a:rect l="l" t="t" r="r" b="b"/>
                <a:pathLst>
                  <a:path w="36" h="179">
                    <a:moveTo>
                      <a:pt x="16" y="0"/>
                    </a:moveTo>
                    <a:lnTo>
                      <a:pt x="28" y="32"/>
                    </a:lnTo>
                    <a:lnTo>
                      <a:pt x="35" y="61"/>
                    </a:lnTo>
                    <a:lnTo>
                      <a:pt x="36" y="92"/>
                    </a:lnTo>
                    <a:lnTo>
                      <a:pt x="35" y="121"/>
                    </a:lnTo>
                    <a:lnTo>
                      <a:pt x="29" y="149"/>
                    </a:lnTo>
                    <a:lnTo>
                      <a:pt x="22" y="169"/>
                    </a:lnTo>
                    <a:lnTo>
                      <a:pt x="13" y="179"/>
                    </a:lnTo>
                    <a:lnTo>
                      <a:pt x="5" y="176"/>
                    </a:lnTo>
                    <a:lnTo>
                      <a:pt x="0" y="169"/>
                    </a:lnTo>
                    <a:lnTo>
                      <a:pt x="1" y="158"/>
                    </a:lnTo>
                    <a:lnTo>
                      <a:pt x="8" y="144"/>
                    </a:lnTo>
                    <a:lnTo>
                      <a:pt x="17" y="123"/>
                    </a:lnTo>
                    <a:lnTo>
                      <a:pt x="21" y="98"/>
                    </a:lnTo>
                    <a:lnTo>
                      <a:pt x="22" y="74"/>
                    </a:lnTo>
                    <a:lnTo>
                      <a:pt x="21" y="50"/>
                    </a:lnTo>
                    <a:lnTo>
                      <a:pt x="17" y="31"/>
                    </a:lnTo>
                    <a:lnTo>
                      <a:pt x="13" y="9"/>
                    </a:lnTo>
                    <a:lnTo>
                      <a:pt x="16"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666600" y="5886360"/>
                <a:ext cx="46800" cy="228600"/>
              </a:xfrm>
              <a:custGeom>
                <a:avLst/>
                <a:gdLst/>
                <a:ahLst/>
                <a:rect l="l" t="t" r="r" b="b"/>
                <a:pathLst>
                  <a:path w="26" h="144">
                    <a:moveTo>
                      <a:pt x="13" y="0"/>
                    </a:moveTo>
                    <a:lnTo>
                      <a:pt x="23" y="24"/>
                    </a:lnTo>
                    <a:lnTo>
                      <a:pt x="26" y="51"/>
                    </a:lnTo>
                    <a:lnTo>
                      <a:pt x="25" y="77"/>
                    </a:lnTo>
                    <a:lnTo>
                      <a:pt x="22" y="105"/>
                    </a:lnTo>
                    <a:lnTo>
                      <a:pt x="18" y="130"/>
                    </a:lnTo>
                    <a:lnTo>
                      <a:pt x="14" y="144"/>
                    </a:lnTo>
                    <a:lnTo>
                      <a:pt x="4" y="144"/>
                    </a:lnTo>
                    <a:lnTo>
                      <a:pt x="0" y="135"/>
                    </a:lnTo>
                    <a:lnTo>
                      <a:pt x="0" y="122"/>
                    </a:lnTo>
                    <a:lnTo>
                      <a:pt x="4" y="98"/>
                    </a:lnTo>
                    <a:lnTo>
                      <a:pt x="9" y="65"/>
                    </a:lnTo>
                    <a:lnTo>
                      <a:pt x="11" y="34"/>
                    </a:lnTo>
                    <a:lnTo>
                      <a:pt x="11" y="9"/>
                    </a:lnTo>
                    <a:lnTo>
                      <a:pt x="13"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481200" y="5803920"/>
                <a:ext cx="122400" cy="276120"/>
              </a:xfrm>
              <a:custGeom>
                <a:avLst/>
                <a:gdLst/>
                <a:ahLst/>
                <a:rect l="l" t="t" r="r" b="b"/>
                <a:pathLst>
                  <a:path w="68" h="174">
                    <a:moveTo>
                      <a:pt x="35" y="0"/>
                    </a:moveTo>
                    <a:lnTo>
                      <a:pt x="44" y="33"/>
                    </a:lnTo>
                    <a:lnTo>
                      <a:pt x="46" y="69"/>
                    </a:lnTo>
                    <a:lnTo>
                      <a:pt x="41" y="108"/>
                    </a:lnTo>
                    <a:lnTo>
                      <a:pt x="33" y="136"/>
                    </a:lnTo>
                    <a:lnTo>
                      <a:pt x="36" y="100"/>
                    </a:lnTo>
                    <a:lnTo>
                      <a:pt x="29" y="73"/>
                    </a:lnTo>
                    <a:lnTo>
                      <a:pt x="16" y="48"/>
                    </a:lnTo>
                    <a:lnTo>
                      <a:pt x="3" y="36"/>
                    </a:lnTo>
                    <a:lnTo>
                      <a:pt x="0" y="44"/>
                    </a:lnTo>
                    <a:lnTo>
                      <a:pt x="15" y="77"/>
                    </a:lnTo>
                    <a:lnTo>
                      <a:pt x="21" y="103"/>
                    </a:lnTo>
                    <a:lnTo>
                      <a:pt x="19" y="128"/>
                    </a:lnTo>
                    <a:lnTo>
                      <a:pt x="12" y="158"/>
                    </a:lnTo>
                    <a:lnTo>
                      <a:pt x="16" y="170"/>
                    </a:lnTo>
                    <a:lnTo>
                      <a:pt x="27" y="174"/>
                    </a:lnTo>
                    <a:lnTo>
                      <a:pt x="36" y="162"/>
                    </a:lnTo>
                    <a:lnTo>
                      <a:pt x="44" y="169"/>
                    </a:lnTo>
                    <a:lnTo>
                      <a:pt x="58" y="166"/>
                    </a:lnTo>
                    <a:lnTo>
                      <a:pt x="65" y="150"/>
                    </a:lnTo>
                    <a:lnTo>
                      <a:pt x="68" y="126"/>
                    </a:lnTo>
                    <a:lnTo>
                      <a:pt x="65" y="83"/>
                    </a:lnTo>
                    <a:lnTo>
                      <a:pt x="56" y="37"/>
                    </a:lnTo>
                    <a:lnTo>
                      <a:pt x="43" y="0"/>
                    </a:lnTo>
                    <a:lnTo>
                      <a:pt x="35"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309840" y="5851440"/>
                <a:ext cx="70200" cy="219240"/>
              </a:xfrm>
              <a:custGeom>
                <a:avLst/>
                <a:gdLst/>
                <a:ahLst/>
                <a:rect l="l" t="t" r="r" b="b"/>
                <a:pathLst>
                  <a:path w="39" h="138">
                    <a:moveTo>
                      <a:pt x="2" y="113"/>
                    </a:moveTo>
                    <a:lnTo>
                      <a:pt x="5" y="77"/>
                    </a:lnTo>
                    <a:lnTo>
                      <a:pt x="15" y="43"/>
                    </a:lnTo>
                    <a:lnTo>
                      <a:pt x="24" y="19"/>
                    </a:lnTo>
                    <a:lnTo>
                      <a:pt x="34" y="0"/>
                    </a:lnTo>
                    <a:lnTo>
                      <a:pt x="39" y="3"/>
                    </a:lnTo>
                    <a:lnTo>
                      <a:pt x="32" y="36"/>
                    </a:lnTo>
                    <a:lnTo>
                      <a:pt x="25" y="78"/>
                    </a:lnTo>
                    <a:lnTo>
                      <a:pt x="21" y="110"/>
                    </a:lnTo>
                    <a:lnTo>
                      <a:pt x="19" y="129"/>
                    </a:lnTo>
                    <a:lnTo>
                      <a:pt x="12" y="138"/>
                    </a:lnTo>
                    <a:lnTo>
                      <a:pt x="3" y="135"/>
                    </a:lnTo>
                    <a:lnTo>
                      <a:pt x="0" y="124"/>
                    </a:lnTo>
                    <a:lnTo>
                      <a:pt x="2" y="113"/>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241440" y="5791320"/>
                <a:ext cx="88200" cy="314280"/>
              </a:xfrm>
              <a:custGeom>
                <a:avLst/>
                <a:gdLst/>
                <a:ahLst/>
                <a:rect l="l" t="t" r="r" b="b"/>
                <a:pathLst>
                  <a:path w="49" h="198">
                    <a:moveTo>
                      <a:pt x="3" y="169"/>
                    </a:moveTo>
                    <a:lnTo>
                      <a:pt x="7" y="125"/>
                    </a:lnTo>
                    <a:lnTo>
                      <a:pt x="12" y="98"/>
                    </a:lnTo>
                    <a:lnTo>
                      <a:pt x="18" y="69"/>
                    </a:lnTo>
                    <a:lnTo>
                      <a:pt x="26" y="41"/>
                    </a:lnTo>
                    <a:lnTo>
                      <a:pt x="36" y="16"/>
                    </a:lnTo>
                    <a:lnTo>
                      <a:pt x="45" y="0"/>
                    </a:lnTo>
                    <a:lnTo>
                      <a:pt x="49" y="4"/>
                    </a:lnTo>
                    <a:lnTo>
                      <a:pt x="40" y="45"/>
                    </a:lnTo>
                    <a:lnTo>
                      <a:pt x="31" y="89"/>
                    </a:lnTo>
                    <a:lnTo>
                      <a:pt x="28" y="125"/>
                    </a:lnTo>
                    <a:lnTo>
                      <a:pt x="26" y="156"/>
                    </a:lnTo>
                    <a:lnTo>
                      <a:pt x="26" y="184"/>
                    </a:lnTo>
                    <a:lnTo>
                      <a:pt x="23" y="193"/>
                    </a:lnTo>
                    <a:lnTo>
                      <a:pt x="17" y="198"/>
                    </a:lnTo>
                    <a:lnTo>
                      <a:pt x="6" y="195"/>
                    </a:lnTo>
                    <a:lnTo>
                      <a:pt x="4" y="188"/>
                    </a:lnTo>
                    <a:lnTo>
                      <a:pt x="0" y="175"/>
                    </a:lnTo>
                    <a:lnTo>
                      <a:pt x="3" y="169"/>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146400" y="5829480"/>
                <a:ext cx="70200" cy="268200"/>
              </a:xfrm>
              <a:custGeom>
                <a:avLst/>
                <a:gdLst/>
                <a:ahLst/>
                <a:rect l="l" t="t" r="r" b="b"/>
                <a:pathLst>
                  <a:path w="39" h="169">
                    <a:moveTo>
                      <a:pt x="13" y="160"/>
                    </a:moveTo>
                    <a:lnTo>
                      <a:pt x="5" y="134"/>
                    </a:lnTo>
                    <a:lnTo>
                      <a:pt x="2" y="112"/>
                    </a:lnTo>
                    <a:lnTo>
                      <a:pt x="0" y="83"/>
                    </a:lnTo>
                    <a:lnTo>
                      <a:pt x="2" y="52"/>
                    </a:lnTo>
                    <a:lnTo>
                      <a:pt x="7" y="25"/>
                    </a:lnTo>
                    <a:lnTo>
                      <a:pt x="17" y="0"/>
                    </a:lnTo>
                    <a:lnTo>
                      <a:pt x="23" y="2"/>
                    </a:lnTo>
                    <a:lnTo>
                      <a:pt x="18" y="33"/>
                    </a:lnTo>
                    <a:lnTo>
                      <a:pt x="17" y="66"/>
                    </a:lnTo>
                    <a:lnTo>
                      <a:pt x="18" y="91"/>
                    </a:lnTo>
                    <a:lnTo>
                      <a:pt x="21" y="113"/>
                    </a:lnTo>
                    <a:lnTo>
                      <a:pt x="28" y="133"/>
                    </a:lnTo>
                    <a:lnTo>
                      <a:pt x="36" y="148"/>
                    </a:lnTo>
                    <a:lnTo>
                      <a:pt x="39" y="158"/>
                    </a:lnTo>
                    <a:lnTo>
                      <a:pt x="38" y="164"/>
                    </a:lnTo>
                    <a:lnTo>
                      <a:pt x="35" y="166"/>
                    </a:lnTo>
                    <a:lnTo>
                      <a:pt x="30" y="169"/>
                    </a:lnTo>
                    <a:lnTo>
                      <a:pt x="22" y="164"/>
                    </a:lnTo>
                    <a:lnTo>
                      <a:pt x="13" y="16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543280" y="5783400"/>
                <a:ext cx="171000" cy="330120"/>
              </a:xfrm>
              <a:custGeom>
                <a:avLst/>
                <a:gdLst/>
                <a:ahLst/>
                <a:rect l="l" t="t" r="r" b="b"/>
                <a:pathLst>
                  <a:path w="95" h="208">
                    <a:moveTo>
                      <a:pt x="1" y="172"/>
                    </a:moveTo>
                    <a:lnTo>
                      <a:pt x="8" y="128"/>
                    </a:lnTo>
                    <a:lnTo>
                      <a:pt x="16" y="97"/>
                    </a:lnTo>
                    <a:lnTo>
                      <a:pt x="27" y="62"/>
                    </a:lnTo>
                    <a:lnTo>
                      <a:pt x="40" y="31"/>
                    </a:lnTo>
                    <a:lnTo>
                      <a:pt x="57" y="0"/>
                    </a:lnTo>
                    <a:lnTo>
                      <a:pt x="64" y="3"/>
                    </a:lnTo>
                    <a:lnTo>
                      <a:pt x="58" y="25"/>
                    </a:lnTo>
                    <a:lnTo>
                      <a:pt x="38" y="73"/>
                    </a:lnTo>
                    <a:lnTo>
                      <a:pt x="28" y="110"/>
                    </a:lnTo>
                    <a:lnTo>
                      <a:pt x="20" y="152"/>
                    </a:lnTo>
                    <a:lnTo>
                      <a:pt x="19" y="179"/>
                    </a:lnTo>
                    <a:lnTo>
                      <a:pt x="28" y="149"/>
                    </a:lnTo>
                    <a:lnTo>
                      <a:pt x="42" y="118"/>
                    </a:lnTo>
                    <a:lnTo>
                      <a:pt x="59" y="89"/>
                    </a:lnTo>
                    <a:lnTo>
                      <a:pt x="77" y="67"/>
                    </a:lnTo>
                    <a:lnTo>
                      <a:pt x="95" y="49"/>
                    </a:lnTo>
                    <a:lnTo>
                      <a:pt x="94" y="61"/>
                    </a:lnTo>
                    <a:lnTo>
                      <a:pt x="74" y="95"/>
                    </a:lnTo>
                    <a:lnTo>
                      <a:pt x="54" y="132"/>
                    </a:lnTo>
                    <a:lnTo>
                      <a:pt x="54" y="136"/>
                    </a:lnTo>
                    <a:lnTo>
                      <a:pt x="40" y="173"/>
                    </a:lnTo>
                    <a:lnTo>
                      <a:pt x="32" y="199"/>
                    </a:lnTo>
                    <a:lnTo>
                      <a:pt x="24" y="206"/>
                    </a:lnTo>
                    <a:lnTo>
                      <a:pt x="21" y="208"/>
                    </a:lnTo>
                    <a:lnTo>
                      <a:pt x="14" y="200"/>
                    </a:lnTo>
                    <a:lnTo>
                      <a:pt x="16" y="188"/>
                    </a:lnTo>
                    <a:lnTo>
                      <a:pt x="7" y="195"/>
                    </a:lnTo>
                    <a:lnTo>
                      <a:pt x="0" y="186"/>
                    </a:lnTo>
                    <a:lnTo>
                      <a:pt x="1" y="172"/>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073120" y="5788080"/>
                <a:ext cx="88200" cy="355680"/>
              </a:xfrm>
              <a:custGeom>
                <a:avLst/>
                <a:gdLst/>
                <a:ahLst/>
                <a:rect l="l" t="t" r="r" b="b"/>
                <a:pathLst>
                  <a:path w="49" h="224">
                    <a:moveTo>
                      <a:pt x="2" y="191"/>
                    </a:moveTo>
                    <a:lnTo>
                      <a:pt x="6" y="142"/>
                    </a:lnTo>
                    <a:lnTo>
                      <a:pt x="11" y="111"/>
                    </a:lnTo>
                    <a:lnTo>
                      <a:pt x="17" y="78"/>
                    </a:lnTo>
                    <a:lnTo>
                      <a:pt x="25" y="47"/>
                    </a:lnTo>
                    <a:lnTo>
                      <a:pt x="35" y="18"/>
                    </a:lnTo>
                    <a:lnTo>
                      <a:pt x="44" y="0"/>
                    </a:lnTo>
                    <a:lnTo>
                      <a:pt x="49" y="5"/>
                    </a:lnTo>
                    <a:lnTo>
                      <a:pt x="39" y="50"/>
                    </a:lnTo>
                    <a:lnTo>
                      <a:pt x="30" y="101"/>
                    </a:lnTo>
                    <a:lnTo>
                      <a:pt x="27" y="142"/>
                    </a:lnTo>
                    <a:lnTo>
                      <a:pt x="25" y="176"/>
                    </a:lnTo>
                    <a:lnTo>
                      <a:pt x="25" y="208"/>
                    </a:lnTo>
                    <a:lnTo>
                      <a:pt x="22" y="218"/>
                    </a:lnTo>
                    <a:lnTo>
                      <a:pt x="16" y="224"/>
                    </a:lnTo>
                    <a:lnTo>
                      <a:pt x="5" y="220"/>
                    </a:lnTo>
                    <a:lnTo>
                      <a:pt x="3" y="213"/>
                    </a:lnTo>
                    <a:lnTo>
                      <a:pt x="0" y="198"/>
                    </a:lnTo>
                    <a:lnTo>
                      <a:pt x="2" y="191"/>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818960" y="5824440"/>
                <a:ext cx="64800" cy="285840"/>
              </a:xfrm>
              <a:custGeom>
                <a:avLst/>
                <a:gdLst/>
                <a:ahLst/>
                <a:rect l="l" t="t" r="r" b="b"/>
                <a:pathLst>
                  <a:path w="36" h="180">
                    <a:moveTo>
                      <a:pt x="16" y="0"/>
                    </a:moveTo>
                    <a:lnTo>
                      <a:pt x="28" y="33"/>
                    </a:lnTo>
                    <a:lnTo>
                      <a:pt x="35" y="62"/>
                    </a:lnTo>
                    <a:lnTo>
                      <a:pt x="36" y="93"/>
                    </a:lnTo>
                    <a:lnTo>
                      <a:pt x="35" y="122"/>
                    </a:lnTo>
                    <a:lnTo>
                      <a:pt x="29" y="151"/>
                    </a:lnTo>
                    <a:lnTo>
                      <a:pt x="22" y="170"/>
                    </a:lnTo>
                    <a:lnTo>
                      <a:pt x="13" y="180"/>
                    </a:lnTo>
                    <a:lnTo>
                      <a:pt x="5" y="178"/>
                    </a:lnTo>
                    <a:lnTo>
                      <a:pt x="0" y="170"/>
                    </a:lnTo>
                    <a:lnTo>
                      <a:pt x="1" y="159"/>
                    </a:lnTo>
                    <a:lnTo>
                      <a:pt x="8" y="145"/>
                    </a:lnTo>
                    <a:lnTo>
                      <a:pt x="17" y="124"/>
                    </a:lnTo>
                    <a:lnTo>
                      <a:pt x="21" y="99"/>
                    </a:lnTo>
                    <a:lnTo>
                      <a:pt x="22" y="75"/>
                    </a:lnTo>
                    <a:lnTo>
                      <a:pt x="21" y="51"/>
                    </a:lnTo>
                    <a:lnTo>
                      <a:pt x="17" y="32"/>
                    </a:lnTo>
                    <a:lnTo>
                      <a:pt x="13" y="10"/>
                    </a:lnTo>
                    <a:lnTo>
                      <a:pt x="16"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765320" y="5911920"/>
                <a:ext cx="46800" cy="228600"/>
              </a:xfrm>
              <a:custGeom>
                <a:avLst/>
                <a:gdLst/>
                <a:ahLst/>
                <a:rect l="l" t="t" r="r" b="b"/>
                <a:pathLst>
                  <a:path w="26" h="144">
                    <a:moveTo>
                      <a:pt x="13" y="0"/>
                    </a:moveTo>
                    <a:lnTo>
                      <a:pt x="23" y="24"/>
                    </a:lnTo>
                    <a:lnTo>
                      <a:pt x="26" y="51"/>
                    </a:lnTo>
                    <a:lnTo>
                      <a:pt x="25" y="77"/>
                    </a:lnTo>
                    <a:lnTo>
                      <a:pt x="22" y="105"/>
                    </a:lnTo>
                    <a:lnTo>
                      <a:pt x="18" y="130"/>
                    </a:lnTo>
                    <a:lnTo>
                      <a:pt x="14" y="144"/>
                    </a:lnTo>
                    <a:lnTo>
                      <a:pt x="4" y="144"/>
                    </a:lnTo>
                    <a:lnTo>
                      <a:pt x="0" y="135"/>
                    </a:lnTo>
                    <a:lnTo>
                      <a:pt x="0" y="122"/>
                    </a:lnTo>
                    <a:lnTo>
                      <a:pt x="4" y="98"/>
                    </a:lnTo>
                    <a:lnTo>
                      <a:pt x="9" y="65"/>
                    </a:lnTo>
                    <a:lnTo>
                      <a:pt x="11" y="34"/>
                    </a:lnTo>
                    <a:lnTo>
                      <a:pt x="11" y="9"/>
                    </a:lnTo>
                    <a:lnTo>
                      <a:pt x="13"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4617360" y="5853240"/>
                <a:ext cx="120600" cy="276120"/>
              </a:xfrm>
              <a:custGeom>
                <a:avLst/>
                <a:gdLst/>
                <a:ahLst/>
                <a:rect l="l" t="t" r="r" b="b"/>
                <a:pathLst>
                  <a:path w="67" h="174">
                    <a:moveTo>
                      <a:pt x="35" y="0"/>
                    </a:moveTo>
                    <a:lnTo>
                      <a:pt x="44" y="33"/>
                    </a:lnTo>
                    <a:lnTo>
                      <a:pt x="46" y="69"/>
                    </a:lnTo>
                    <a:lnTo>
                      <a:pt x="40" y="108"/>
                    </a:lnTo>
                    <a:lnTo>
                      <a:pt x="33" y="136"/>
                    </a:lnTo>
                    <a:lnTo>
                      <a:pt x="36" y="100"/>
                    </a:lnTo>
                    <a:lnTo>
                      <a:pt x="29" y="73"/>
                    </a:lnTo>
                    <a:lnTo>
                      <a:pt x="17" y="48"/>
                    </a:lnTo>
                    <a:lnTo>
                      <a:pt x="4" y="36"/>
                    </a:lnTo>
                    <a:lnTo>
                      <a:pt x="0" y="44"/>
                    </a:lnTo>
                    <a:lnTo>
                      <a:pt x="16" y="77"/>
                    </a:lnTo>
                    <a:lnTo>
                      <a:pt x="21" y="103"/>
                    </a:lnTo>
                    <a:lnTo>
                      <a:pt x="19" y="128"/>
                    </a:lnTo>
                    <a:lnTo>
                      <a:pt x="12" y="158"/>
                    </a:lnTo>
                    <a:lnTo>
                      <a:pt x="17" y="170"/>
                    </a:lnTo>
                    <a:lnTo>
                      <a:pt x="28" y="174"/>
                    </a:lnTo>
                    <a:lnTo>
                      <a:pt x="36" y="162"/>
                    </a:lnTo>
                    <a:lnTo>
                      <a:pt x="44" y="169"/>
                    </a:lnTo>
                    <a:lnTo>
                      <a:pt x="58" y="166"/>
                    </a:lnTo>
                    <a:lnTo>
                      <a:pt x="64" y="150"/>
                    </a:lnTo>
                    <a:lnTo>
                      <a:pt x="67" y="126"/>
                    </a:lnTo>
                    <a:lnTo>
                      <a:pt x="64" y="83"/>
                    </a:lnTo>
                    <a:lnTo>
                      <a:pt x="56" y="37"/>
                    </a:lnTo>
                    <a:lnTo>
                      <a:pt x="43" y="0"/>
                    </a:lnTo>
                    <a:lnTo>
                      <a:pt x="35"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002920" y="5918400"/>
                <a:ext cx="79200" cy="222120"/>
              </a:xfrm>
              <a:custGeom>
                <a:avLst/>
                <a:gdLst/>
                <a:ahLst/>
                <a:rect l="l" t="t" r="r" b="b"/>
                <a:pathLst>
                  <a:path w="44" h="140">
                    <a:moveTo>
                      <a:pt x="0" y="0"/>
                    </a:moveTo>
                    <a:lnTo>
                      <a:pt x="17" y="20"/>
                    </a:lnTo>
                    <a:lnTo>
                      <a:pt x="28" y="45"/>
                    </a:lnTo>
                    <a:lnTo>
                      <a:pt x="35" y="71"/>
                    </a:lnTo>
                    <a:lnTo>
                      <a:pt x="40" y="98"/>
                    </a:lnTo>
                    <a:lnTo>
                      <a:pt x="44" y="122"/>
                    </a:lnTo>
                    <a:lnTo>
                      <a:pt x="44" y="138"/>
                    </a:lnTo>
                    <a:lnTo>
                      <a:pt x="34" y="140"/>
                    </a:lnTo>
                    <a:lnTo>
                      <a:pt x="28" y="133"/>
                    </a:lnTo>
                    <a:lnTo>
                      <a:pt x="24" y="121"/>
                    </a:lnTo>
                    <a:lnTo>
                      <a:pt x="21" y="97"/>
                    </a:lnTo>
                    <a:lnTo>
                      <a:pt x="15" y="64"/>
                    </a:lnTo>
                    <a:lnTo>
                      <a:pt x="8" y="33"/>
                    </a:lnTo>
                    <a:lnTo>
                      <a:pt x="1" y="9"/>
                    </a:lnTo>
                    <a:lnTo>
                      <a:pt x="0"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257080" y="5904000"/>
                <a:ext cx="172440" cy="228600"/>
              </a:xfrm>
              <a:custGeom>
                <a:avLst/>
                <a:gdLst/>
                <a:ahLst/>
                <a:rect l="l" t="t" r="r" b="b"/>
                <a:pathLst>
                  <a:path w="96" h="144">
                    <a:moveTo>
                      <a:pt x="17" y="3"/>
                    </a:moveTo>
                    <a:lnTo>
                      <a:pt x="36" y="26"/>
                    </a:lnTo>
                    <a:lnTo>
                      <a:pt x="51" y="54"/>
                    </a:lnTo>
                    <a:lnTo>
                      <a:pt x="60" y="87"/>
                    </a:lnTo>
                    <a:lnTo>
                      <a:pt x="62" y="112"/>
                    </a:lnTo>
                    <a:lnTo>
                      <a:pt x="53" y="82"/>
                    </a:lnTo>
                    <a:lnTo>
                      <a:pt x="36" y="63"/>
                    </a:lnTo>
                    <a:lnTo>
                      <a:pt x="17" y="46"/>
                    </a:lnTo>
                    <a:lnTo>
                      <a:pt x="1" y="41"/>
                    </a:lnTo>
                    <a:lnTo>
                      <a:pt x="0" y="48"/>
                    </a:lnTo>
                    <a:lnTo>
                      <a:pt x="26" y="70"/>
                    </a:lnTo>
                    <a:lnTo>
                      <a:pt x="40" y="90"/>
                    </a:lnTo>
                    <a:lnTo>
                      <a:pt x="47" y="110"/>
                    </a:lnTo>
                    <a:lnTo>
                      <a:pt x="51" y="136"/>
                    </a:lnTo>
                    <a:lnTo>
                      <a:pt x="60" y="144"/>
                    </a:lnTo>
                    <a:lnTo>
                      <a:pt x="71" y="144"/>
                    </a:lnTo>
                    <a:lnTo>
                      <a:pt x="75" y="132"/>
                    </a:lnTo>
                    <a:lnTo>
                      <a:pt x="84" y="135"/>
                    </a:lnTo>
                    <a:lnTo>
                      <a:pt x="96" y="129"/>
                    </a:lnTo>
                    <a:lnTo>
                      <a:pt x="96" y="113"/>
                    </a:lnTo>
                    <a:lnTo>
                      <a:pt x="91" y="93"/>
                    </a:lnTo>
                    <a:lnTo>
                      <a:pt x="72" y="59"/>
                    </a:lnTo>
                    <a:lnTo>
                      <a:pt x="49" y="26"/>
                    </a:lnTo>
                    <a:lnTo>
                      <a:pt x="24" y="0"/>
                    </a:lnTo>
                    <a:lnTo>
                      <a:pt x="17" y="3"/>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129280" y="5776920"/>
                <a:ext cx="88200" cy="357120"/>
              </a:xfrm>
              <a:custGeom>
                <a:avLst/>
                <a:gdLst/>
                <a:ahLst/>
                <a:rect l="l" t="t" r="r" b="b"/>
                <a:pathLst>
                  <a:path w="49" h="225">
                    <a:moveTo>
                      <a:pt x="2" y="191"/>
                    </a:moveTo>
                    <a:lnTo>
                      <a:pt x="6" y="142"/>
                    </a:lnTo>
                    <a:lnTo>
                      <a:pt x="11" y="111"/>
                    </a:lnTo>
                    <a:lnTo>
                      <a:pt x="17" y="77"/>
                    </a:lnTo>
                    <a:lnTo>
                      <a:pt x="25" y="46"/>
                    </a:lnTo>
                    <a:lnTo>
                      <a:pt x="35" y="18"/>
                    </a:lnTo>
                    <a:lnTo>
                      <a:pt x="44" y="0"/>
                    </a:lnTo>
                    <a:lnTo>
                      <a:pt x="49" y="4"/>
                    </a:lnTo>
                    <a:lnTo>
                      <a:pt x="39" y="50"/>
                    </a:lnTo>
                    <a:lnTo>
                      <a:pt x="30" y="101"/>
                    </a:lnTo>
                    <a:lnTo>
                      <a:pt x="27" y="142"/>
                    </a:lnTo>
                    <a:lnTo>
                      <a:pt x="25" y="176"/>
                    </a:lnTo>
                    <a:lnTo>
                      <a:pt x="25" y="208"/>
                    </a:lnTo>
                    <a:lnTo>
                      <a:pt x="22" y="218"/>
                    </a:lnTo>
                    <a:lnTo>
                      <a:pt x="16" y="225"/>
                    </a:lnTo>
                    <a:lnTo>
                      <a:pt x="5" y="221"/>
                    </a:lnTo>
                    <a:lnTo>
                      <a:pt x="3" y="213"/>
                    </a:lnTo>
                    <a:lnTo>
                      <a:pt x="0" y="199"/>
                    </a:lnTo>
                    <a:lnTo>
                      <a:pt x="2" y="191"/>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331160" y="5865840"/>
                <a:ext cx="162000" cy="270000"/>
              </a:xfrm>
              <a:custGeom>
                <a:avLst/>
                <a:gdLst/>
                <a:ahLst/>
                <a:rect l="l" t="t" r="r" b="b"/>
                <a:pathLst>
                  <a:path w="90" h="170">
                    <a:moveTo>
                      <a:pt x="81" y="148"/>
                    </a:moveTo>
                    <a:lnTo>
                      <a:pt x="88" y="112"/>
                    </a:lnTo>
                    <a:lnTo>
                      <a:pt x="90" y="86"/>
                    </a:lnTo>
                    <a:lnTo>
                      <a:pt x="88" y="57"/>
                    </a:lnTo>
                    <a:lnTo>
                      <a:pt x="83" y="28"/>
                    </a:lnTo>
                    <a:lnTo>
                      <a:pt x="71" y="0"/>
                    </a:lnTo>
                    <a:lnTo>
                      <a:pt x="60" y="0"/>
                    </a:lnTo>
                    <a:lnTo>
                      <a:pt x="60" y="19"/>
                    </a:lnTo>
                    <a:lnTo>
                      <a:pt x="69" y="61"/>
                    </a:lnTo>
                    <a:lnTo>
                      <a:pt x="69" y="93"/>
                    </a:lnTo>
                    <a:lnTo>
                      <a:pt x="65" y="128"/>
                    </a:lnTo>
                    <a:lnTo>
                      <a:pt x="56" y="148"/>
                    </a:lnTo>
                    <a:lnTo>
                      <a:pt x="55" y="123"/>
                    </a:lnTo>
                    <a:lnTo>
                      <a:pt x="47" y="95"/>
                    </a:lnTo>
                    <a:lnTo>
                      <a:pt x="36" y="68"/>
                    </a:lnTo>
                    <a:lnTo>
                      <a:pt x="20" y="45"/>
                    </a:lnTo>
                    <a:lnTo>
                      <a:pt x="4" y="26"/>
                    </a:lnTo>
                    <a:lnTo>
                      <a:pt x="0" y="36"/>
                    </a:lnTo>
                    <a:lnTo>
                      <a:pt x="14" y="68"/>
                    </a:lnTo>
                    <a:lnTo>
                      <a:pt x="27" y="102"/>
                    </a:lnTo>
                    <a:lnTo>
                      <a:pt x="25" y="106"/>
                    </a:lnTo>
                    <a:lnTo>
                      <a:pt x="30" y="137"/>
                    </a:lnTo>
                    <a:lnTo>
                      <a:pt x="31" y="160"/>
                    </a:lnTo>
                    <a:lnTo>
                      <a:pt x="38" y="168"/>
                    </a:lnTo>
                    <a:lnTo>
                      <a:pt x="42" y="170"/>
                    </a:lnTo>
                    <a:lnTo>
                      <a:pt x="55" y="166"/>
                    </a:lnTo>
                    <a:lnTo>
                      <a:pt x="57" y="156"/>
                    </a:lnTo>
                    <a:lnTo>
                      <a:pt x="65" y="165"/>
                    </a:lnTo>
                    <a:lnTo>
                      <a:pt x="79" y="159"/>
                    </a:lnTo>
                    <a:lnTo>
                      <a:pt x="81" y="14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372280" y="5718240"/>
                <a:ext cx="162000" cy="396720"/>
              </a:xfrm>
              <a:custGeom>
                <a:avLst/>
                <a:gdLst/>
                <a:ahLst/>
                <a:rect l="l" t="t" r="r" b="b"/>
                <a:pathLst>
                  <a:path w="90" h="250">
                    <a:moveTo>
                      <a:pt x="81" y="218"/>
                    </a:moveTo>
                    <a:lnTo>
                      <a:pt x="89" y="165"/>
                    </a:lnTo>
                    <a:lnTo>
                      <a:pt x="90" y="127"/>
                    </a:lnTo>
                    <a:lnTo>
                      <a:pt x="89" y="83"/>
                    </a:lnTo>
                    <a:lnTo>
                      <a:pt x="83" y="42"/>
                    </a:lnTo>
                    <a:lnTo>
                      <a:pt x="71" y="0"/>
                    </a:lnTo>
                    <a:lnTo>
                      <a:pt x="60" y="0"/>
                    </a:lnTo>
                    <a:lnTo>
                      <a:pt x="60" y="27"/>
                    </a:lnTo>
                    <a:lnTo>
                      <a:pt x="69" y="90"/>
                    </a:lnTo>
                    <a:lnTo>
                      <a:pt x="69" y="136"/>
                    </a:lnTo>
                    <a:lnTo>
                      <a:pt x="65" y="187"/>
                    </a:lnTo>
                    <a:lnTo>
                      <a:pt x="56" y="218"/>
                    </a:lnTo>
                    <a:lnTo>
                      <a:pt x="55" y="181"/>
                    </a:lnTo>
                    <a:lnTo>
                      <a:pt x="47" y="139"/>
                    </a:lnTo>
                    <a:lnTo>
                      <a:pt x="36" y="99"/>
                    </a:lnTo>
                    <a:lnTo>
                      <a:pt x="20" y="66"/>
                    </a:lnTo>
                    <a:lnTo>
                      <a:pt x="3" y="38"/>
                    </a:lnTo>
                    <a:lnTo>
                      <a:pt x="0" y="53"/>
                    </a:lnTo>
                    <a:lnTo>
                      <a:pt x="13" y="99"/>
                    </a:lnTo>
                    <a:lnTo>
                      <a:pt x="26" y="151"/>
                    </a:lnTo>
                    <a:lnTo>
                      <a:pt x="25" y="155"/>
                    </a:lnTo>
                    <a:lnTo>
                      <a:pt x="30" y="202"/>
                    </a:lnTo>
                    <a:lnTo>
                      <a:pt x="31" y="236"/>
                    </a:lnTo>
                    <a:lnTo>
                      <a:pt x="38" y="247"/>
                    </a:lnTo>
                    <a:lnTo>
                      <a:pt x="42" y="250"/>
                    </a:lnTo>
                    <a:lnTo>
                      <a:pt x="55" y="244"/>
                    </a:lnTo>
                    <a:lnTo>
                      <a:pt x="57" y="229"/>
                    </a:lnTo>
                    <a:lnTo>
                      <a:pt x="65" y="242"/>
                    </a:lnTo>
                    <a:lnTo>
                      <a:pt x="79" y="234"/>
                    </a:lnTo>
                    <a:lnTo>
                      <a:pt x="81" y="21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8" name=""/>
          <p:cNvGrpSpPr/>
          <p:nvPr/>
        </p:nvGrpSpPr>
        <p:grpSpPr>
          <a:xfrm>
            <a:off x="5791320" y="5637240"/>
            <a:ext cx="2437560" cy="589680"/>
            <a:chOff x="5791320" y="5637240"/>
            <a:chExt cx="2437560" cy="589680"/>
          </a:xfrm>
        </p:grpSpPr>
        <p:grpSp>
          <p:nvGrpSpPr>
            <p:cNvPr id="499" name=""/>
            <p:cNvGrpSpPr/>
            <p:nvPr/>
          </p:nvGrpSpPr>
          <p:grpSpPr>
            <a:xfrm>
              <a:off x="5835240" y="5637240"/>
              <a:ext cx="2377800" cy="558360"/>
              <a:chOff x="5835240" y="5637240"/>
              <a:chExt cx="2377800" cy="558360"/>
            </a:xfrm>
          </p:grpSpPr>
          <p:grpSp>
            <p:nvGrpSpPr>
              <p:cNvPr id="500" name=""/>
              <p:cNvGrpSpPr/>
              <p:nvPr/>
            </p:nvGrpSpPr>
            <p:grpSpPr>
              <a:xfrm>
                <a:off x="5835240" y="5697360"/>
                <a:ext cx="209880" cy="201240"/>
                <a:chOff x="5835240" y="5697360"/>
                <a:chExt cx="209880" cy="201240"/>
              </a:xfrm>
            </p:grpSpPr>
            <p:sp>
              <p:nvSpPr>
                <p:cNvPr id="501" name=""/>
                <p:cNvSpPr/>
                <p:nvPr/>
              </p:nvSpPr>
              <p:spPr>
                <a:xfrm>
                  <a:off x="5835240" y="5697360"/>
                  <a:ext cx="209880" cy="201240"/>
                </a:xfrm>
                <a:custGeom>
                  <a:avLst/>
                  <a:gdLst/>
                  <a:ahLst/>
                  <a:rect l="l" t="t" r="r" b="b"/>
                  <a:pathLst>
                    <a:path w="123" h="127">
                      <a:moveTo>
                        <a:pt x="27" y="29"/>
                      </a:moveTo>
                      <a:lnTo>
                        <a:pt x="31" y="11"/>
                      </a:lnTo>
                      <a:lnTo>
                        <a:pt x="45" y="0"/>
                      </a:lnTo>
                      <a:lnTo>
                        <a:pt x="58" y="0"/>
                      </a:lnTo>
                      <a:lnTo>
                        <a:pt x="70" y="9"/>
                      </a:lnTo>
                      <a:lnTo>
                        <a:pt x="77" y="24"/>
                      </a:lnTo>
                      <a:lnTo>
                        <a:pt x="96" y="20"/>
                      </a:lnTo>
                      <a:lnTo>
                        <a:pt x="114" y="26"/>
                      </a:lnTo>
                      <a:lnTo>
                        <a:pt x="119" y="27"/>
                      </a:lnTo>
                      <a:lnTo>
                        <a:pt x="123" y="43"/>
                      </a:lnTo>
                      <a:lnTo>
                        <a:pt x="118" y="58"/>
                      </a:lnTo>
                      <a:lnTo>
                        <a:pt x="106" y="71"/>
                      </a:lnTo>
                      <a:lnTo>
                        <a:pt x="100" y="74"/>
                      </a:lnTo>
                      <a:lnTo>
                        <a:pt x="103" y="87"/>
                      </a:lnTo>
                      <a:lnTo>
                        <a:pt x="98" y="103"/>
                      </a:lnTo>
                      <a:lnTo>
                        <a:pt x="89" y="114"/>
                      </a:lnTo>
                      <a:lnTo>
                        <a:pt x="73" y="124"/>
                      </a:lnTo>
                      <a:lnTo>
                        <a:pt x="70" y="127"/>
                      </a:lnTo>
                      <a:lnTo>
                        <a:pt x="53" y="125"/>
                      </a:lnTo>
                      <a:lnTo>
                        <a:pt x="39" y="114"/>
                      </a:lnTo>
                      <a:lnTo>
                        <a:pt x="33" y="110"/>
                      </a:lnTo>
                      <a:lnTo>
                        <a:pt x="17" y="109"/>
                      </a:lnTo>
                      <a:lnTo>
                        <a:pt x="3" y="93"/>
                      </a:lnTo>
                      <a:lnTo>
                        <a:pt x="0" y="76"/>
                      </a:lnTo>
                      <a:lnTo>
                        <a:pt x="4" y="59"/>
                      </a:lnTo>
                      <a:lnTo>
                        <a:pt x="11" y="55"/>
                      </a:lnTo>
                      <a:lnTo>
                        <a:pt x="4" y="43"/>
                      </a:lnTo>
                      <a:lnTo>
                        <a:pt x="11" y="33"/>
                      </a:lnTo>
                      <a:lnTo>
                        <a:pt x="18" y="29"/>
                      </a:lnTo>
                      <a:lnTo>
                        <a:pt x="27" y="29"/>
                      </a:lnTo>
                      <a:close/>
                    </a:path>
                  </a:pathLst>
                </a:cu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867640" y="5712840"/>
                  <a:ext cx="153360" cy="161640"/>
                </a:xfrm>
                <a:custGeom>
                  <a:avLst/>
                  <a:gdLst/>
                  <a:ahLst/>
                  <a:rect l="l" t="t" r="r" b="b"/>
                  <a:pathLst>
                    <a:path w="90" h="102">
                      <a:moveTo>
                        <a:pt x="29" y="47"/>
                      </a:moveTo>
                      <a:lnTo>
                        <a:pt x="25" y="33"/>
                      </a:lnTo>
                      <a:lnTo>
                        <a:pt x="19" y="20"/>
                      </a:lnTo>
                      <a:lnTo>
                        <a:pt x="24" y="8"/>
                      </a:lnTo>
                      <a:lnTo>
                        <a:pt x="31" y="0"/>
                      </a:lnTo>
                      <a:lnTo>
                        <a:pt x="38" y="3"/>
                      </a:lnTo>
                      <a:lnTo>
                        <a:pt x="46" y="7"/>
                      </a:lnTo>
                      <a:lnTo>
                        <a:pt x="47" y="18"/>
                      </a:lnTo>
                      <a:lnTo>
                        <a:pt x="44" y="29"/>
                      </a:lnTo>
                      <a:lnTo>
                        <a:pt x="44" y="39"/>
                      </a:lnTo>
                      <a:lnTo>
                        <a:pt x="50" y="36"/>
                      </a:lnTo>
                      <a:lnTo>
                        <a:pt x="56" y="27"/>
                      </a:lnTo>
                      <a:lnTo>
                        <a:pt x="65" y="21"/>
                      </a:lnTo>
                      <a:lnTo>
                        <a:pt x="69" y="21"/>
                      </a:lnTo>
                      <a:lnTo>
                        <a:pt x="78" y="20"/>
                      </a:lnTo>
                      <a:lnTo>
                        <a:pt x="86" y="26"/>
                      </a:lnTo>
                      <a:lnTo>
                        <a:pt x="90" y="38"/>
                      </a:lnTo>
                      <a:lnTo>
                        <a:pt x="86" y="49"/>
                      </a:lnTo>
                      <a:lnTo>
                        <a:pt x="76" y="56"/>
                      </a:lnTo>
                      <a:lnTo>
                        <a:pt x="63" y="56"/>
                      </a:lnTo>
                      <a:lnTo>
                        <a:pt x="52" y="54"/>
                      </a:lnTo>
                      <a:lnTo>
                        <a:pt x="53" y="63"/>
                      </a:lnTo>
                      <a:lnTo>
                        <a:pt x="65" y="65"/>
                      </a:lnTo>
                      <a:lnTo>
                        <a:pt x="74" y="72"/>
                      </a:lnTo>
                      <a:lnTo>
                        <a:pt x="72" y="87"/>
                      </a:lnTo>
                      <a:lnTo>
                        <a:pt x="62" y="99"/>
                      </a:lnTo>
                      <a:lnTo>
                        <a:pt x="49" y="102"/>
                      </a:lnTo>
                      <a:lnTo>
                        <a:pt x="38" y="96"/>
                      </a:lnTo>
                      <a:lnTo>
                        <a:pt x="31" y="86"/>
                      </a:lnTo>
                      <a:lnTo>
                        <a:pt x="36" y="75"/>
                      </a:lnTo>
                      <a:lnTo>
                        <a:pt x="41" y="65"/>
                      </a:lnTo>
                      <a:lnTo>
                        <a:pt x="34" y="61"/>
                      </a:lnTo>
                      <a:lnTo>
                        <a:pt x="31" y="73"/>
                      </a:lnTo>
                      <a:lnTo>
                        <a:pt x="24" y="83"/>
                      </a:lnTo>
                      <a:lnTo>
                        <a:pt x="10" y="84"/>
                      </a:lnTo>
                      <a:lnTo>
                        <a:pt x="1" y="77"/>
                      </a:lnTo>
                      <a:lnTo>
                        <a:pt x="0" y="67"/>
                      </a:lnTo>
                      <a:lnTo>
                        <a:pt x="4" y="59"/>
                      </a:lnTo>
                      <a:lnTo>
                        <a:pt x="9" y="53"/>
                      </a:lnTo>
                      <a:lnTo>
                        <a:pt x="6" y="43"/>
                      </a:lnTo>
                      <a:lnTo>
                        <a:pt x="5" y="34"/>
                      </a:lnTo>
                      <a:lnTo>
                        <a:pt x="13" y="33"/>
                      </a:lnTo>
                      <a:lnTo>
                        <a:pt x="20" y="37"/>
                      </a:lnTo>
                      <a:lnTo>
                        <a:pt x="29" y="47"/>
                      </a:lnTo>
                      <a:close/>
                    </a:path>
                  </a:pathLst>
                </a:cu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920560" y="5778000"/>
                  <a:ext cx="33840" cy="29880"/>
                </a:xfrm>
                <a:custGeom>
                  <a:avLst/>
                  <a:gdLst/>
                  <a:ahLst/>
                  <a:rect l="l" t="t" r="r" b="b"/>
                  <a:pathLst>
                    <a:path w="20" h="19">
                      <a:moveTo>
                        <a:pt x="0" y="5"/>
                      </a:moveTo>
                      <a:lnTo>
                        <a:pt x="10" y="0"/>
                      </a:lnTo>
                      <a:lnTo>
                        <a:pt x="17" y="2"/>
                      </a:lnTo>
                      <a:lnTo>
                        <a:pt x="20" y="13"/>
                      </a:lnTo>
                      <a:lnTo>
                        <a:pt x="12" y="19"/>
                      </a:lnTo>
                      <a:lnTo>
                        <a:pt x="2" y="14"/>
                      </a:lnTo>
                      <a:lnTo>
                        <a:pt x="0" y="5"/>
                      </a:lnTo>
                      <a:close/>
                    </a:path>
                  </a:pathLst>
                </a:custGeom>
                <a:blipFill rotWithShape="0">
                  <a:blip r:embed="rId39"/>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504" name=""/>
              <p:cNvGrpSpPr/>
              <p:nvPr/>
            </p:nvGrpSpPr>
            <p:grpSpPr>
              <a:xfrm>
                <a:off x="5936040" y="5968800"/>
                <a:ext cx="242640" cy="186840"/>
                <a:chOff x="5936040" y="5968800"/>
                <a:chExt cx="242640" cy="186840"/>
              </a:xfrm>
            </p:grpSpPr>
            <p:sp>
              <p:nvSpPr>
                <p:cNvPr id="505" name=""/>
                <p:cNvSpPr/>
                <p:nvPr/>
              </p:nvSpPr>
              <p:spPr>
                <a:xfrm>
                  <a:off x="5936040" y="5968800"/>
                  <a:ext cx="242640" cy="186840"/>
                </a:xfrm>
                <a:custGeom>
                  <a:avLst/>
                  <a:gdLst/>
                  <a:ahLst/>
                  <a:rect l="l" t="t" r="r" b="b"/>
                  <a:pathLst>
                    <a:path w="142" h="118">
                      <a:moveTo>
                        <a:pt x="48" y="19"/>
                      </a:moveTo>
                      <a:lnTo>
                        <a:pt x="59" y="5"/>
                      </a:lnTo>
                      <a:lnTo>
                        <a:pt x="76" y="0"/>
                      </a:lnTo>
                      <a:lnTo>
                        <a:pt x="90" y="4"/>
                      </a:lnTo>
                      <a:lnTo>
                        <a:pt x="99" y="16"/>
                      </a:lnTo>
                      <a:lnTo>
                        <a:pt x="101" y="31"/>
                      </a:lnTo>
                      <a:lnTo>
                        <a:pt x="121" y="34"/>
                      </a:lnTo>
                      <a:lnTo>
                        <a:pt x="137" y="45"/>
                      </a:lnTo>
                      <a:lnTo>
                        <a:pt x="142" y="47"/>
                      </a:lnTo>
                      <a:lnTo>
                        <a:pt x="140" y="63"/>
                      </a:lnTo>
                      <a:lnTo>
                        <a:pt x="129" y="73"/>
                      </a:lnTo>
                      <a:lnTo>
                        <a:pt x="113" y="81"/>
                      </a:lnTo>
                      <a:lnTo>
                        <a:pt x="105" y="82"/>
                      </a:lnTo>
                      <a:lnTo>
                        <a:pt x="104" y="94"/>
                      </a:lnTo>
                      <a:lnTo>
                        <a:pt x="93" y="106"/>
                      </a:lnTo>
                      <a:lnTo>
                        <a:pt x="79" y="113"/>
                      </a:lnTo>
                      <a:lnTo>
                        <a:pt x="60" y="117"/>
                      </a:lnTo>
                      <a:lnTo>
                        <a:pt x="56" y="118"/>
                      </a:lnTo>
                      <a:lnTo>
                        <a:pt x="40" y="111"/>
                      </a:lnTo>
                      <a:lnTo>
                        <a:pt x="29" y="98"/>
                      </a:lnTo>
                      <a:lnTo>
                        <a:pt x="25" y="92"/>
                      </a:lnTo>
                      <a:lnTo>
                        <a:pt x="9" y="85"/>
                      </a:lnTo>
                      <a:lnTo>
                        <a:pt x="0" y="67"/>
                      </a:lnTo>
                      <a:lnTo>
                        <a:pt x="5" y="52"/>
                      </a:lnTo>
                      <a:lnTo>
                        <a:pt x="14" y="39"/>
                      </a:lnTo>
                      <a:lnTo>
                        <a:pt x="22" y="37"/>
                      </a:lnTo>
                      <a:lnTo>
                        <a:pt x="19" y="24"/>
                      </a:lnTo>
                      <a:lnTo>
                        <a:pt x="30" y="18"/>
                      </a:lnTo>
                      <a:lnTo>
                        <a:pt x="40" y="17"/>
                      </a:lnTo>
                      <a:lnTo>
                        <a:pt x="48" y="19"/>
                      </a:lnTo>
                      <a:close/>
                    </a:path>
                  </a:pathLst>
                </a:cu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970240" y="5984280"/>
                  <a:ext cx="177480" cy="150480"/>
                </a:xfrm>
                <a:custGeom>
                  <a:avLst/>
                  <a:gdLst/>
                  <a:ahLst/>
                  <a:rect l="l" t="t" r="r" b="b"/>
                  <a:pathLst>
                    <a:path w="104" h="95">
                      <a:moveTo>
                        <a:pt x="39" y="39"/>
                      </a:moveTo>
                      <a:lnTo>
                        <a:pt x="41" y="26"/>
                      </a:lnTo>
                      <a:lnTo>
                        <a:pt x="39" y="13"/>
                      </a:lnTo>
                      <a:lnTo>
                        <a:pt x="49" y="5"/>
                      </a:lnTo>
                      <a:lnTo>
                        <a:pt x="58" y="0"/>
                      </a:lnTo>
                      <a:lnTo>
                        <a:pt x="65" y="5"/>
                      </a:lnTo>
                      <a:lnTo>
                        <a:pt x="70" y="11"/>
                      </a:lnTo>
                      <a:lnTo>
                        <a:pt x="68" y="20"/>
                      </a:lnTo>
                      <a:lnTo>
                        <a:pt x="61" y="29"/>
                      </a:lnTo>
                      <a:lnTo>
                        <a:pt x="57" y="38"/>
                      </a:lnTo>
                      <a:lnTo>
                        <a:pt x="65" y="37"/>
                      </a:lnTo>
                      <a:lnTo>
                        <a:pt x="75" y="31"/>
                      </a:lnTo>
                      <a:lnTo>
                        <a:pt x="85" y="29"/>
                      </a:lnTo>
                      <a:lnTo>
                        <a:pt x="89" y="30"/>
                      </a:lnTo>
                      <a:lnTo>
                        <a:pt x="99" y="32"/>
                      </a:lnTo>
                      <a:lnTo>
                        <a:pt x="104" y="39"/>
                      </a:lnTo>
                      <a:lnTo>
                        <a:pt x="104" y="51"/>
                      </a:lnTo>
                      <a:lnTo>
                        <a:pt x="96" y="60"/>
                      </a:lnTo>
                      <a:lnTo>
                        <a:pt x="84" y="62"/>
                      </a:lnTo>
                      <a:lnTo>
                        <a:pt x="70" y="59"/>
                      </a:lnTo>
                      <a:lnTo>
                        <a:pt x="60" y="53"/>
                      </a:lnTo>
                      <a:lnTo>
                        <a:pt x="58" y="61"/>
                      </a:lnTo>
                      <a:lnTo>
                        <a:pt x="69" y="67"/>
                      </a:lnTo>
                      <a:lnTo>
                        <a:pt x="76" y="75"/>
                      </a:lnTo>
                      <a:lnTo>
                        <a:pt x="68" y="87"/>
                      </a:lnTo>
                      <a:lnTo>
                        <a:pt x="54" y="95"/>
                      </a:lnTo>
                      <a:lnTo>
                        <a:pt x="39" y="93"/>
                      </a:lnTo>
                      <a:lnTo>
                        <a:pt x="31" y="85"/>
                      </a:lnTo>
                      <a:lnTo>
                        <a:pt x="27" y="74"/>
                      </a:lnTo>
                      <a:lnTo>
                        <a:pt x="37" y="66"/>
                      </a:lnTo>
                      <a:lnTo>
                        <a:pt x="45" y="59"/>
                      </a:lnTo>
                      <a:lnTo>
                        <a:pt x="39" y="54"/>
                      </a:lnTo>
                      <a:lnTo>
                        <a:pt x="33" y="63"/>
                      </a:lnTo>
                      <a:lnTo>
                        <a:pt x="22" y="69"/>
                      </a:lnTo>
                      <a:lnTo>
                        <a:pt x="7" y="66"/>
                      </a:lnTo>
                      <a:lnTo>
                        <a:pt x="0" y="56"/>
                      </a:lnTo>
                      <a:lnTo>
                        <a:pt x="3" y="48"/>
                      </a:lnTo>
                      <a:lnTo>
                        <a:pt x="10" y="42"/>
                      </a:lnTo>
                      <a:lnTo>
                        <a:pt x="18" y="38"/>
                      </a:lnTo>
                      <a:lnTo>
                        <a:pt x="18" y="29"/>
                      </a:lnTo>
                      <a:lnTo>
                        <a:pt x="20" y="21"/>
                      </a:lnTo>
                      <a:lnTo>
                        <a:pt x="29" y="23"/>
                      </a:lnTo>
                      <a:lnTo>
                        <a:pt x="34" y="29"/>
                      </a:lnTo>
                      <a:lnTo>
                        <a:pt x="39" y="39"/>
                      </a:lnTo>
                      <a:close/>
                    </a:path>
                  </a:pathLst>
                </a:cu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036840" y="6044760"/>
                  <a:ext cx="33840" cy="28080"/>
                </a:xfrm>
                <a:custGeom>
                  <a:avLst/>
                  <a:gdLst/>
                  <a:ahLst/>
                  <a:rect l="l" t="t" r="r" b="b"/>
                  <a:pathLst>
                    <a:path w="20" h="18">
                      <a:moveTo>
                        <a:pt x="2" y="3"/>
                      </a:moveTo>
                      <a:lnTo>
                        <a:pt x="14" y="0"/>
                      </a:lnTo>
                      <a:lnTo>
                        <a:pt x="20" y="5"/>
                      </a:lnTo>
                      <a:lnTo>
                        <a:pt x="19" y="16"/>
                      </a:lnTo>
                      <a:lnTo>
                        <a:pt x="8" y="18"/>
                      </a:lnTo>
                      <a:lnTo>
                        <a:pt x="0" y="11"/>
                      </a:lnTo>
                      <a:lnTo>
                        <a:pt x="2" y="3"/>
                      </a:lnTo>
                      <a:close/>
                    </a:path>
                  </a:pathLst>
                </a:custGeom>
                <a:blipFill rotWithShape="0">
                  <a:blip r:embed="rId42"/>
                  <a:srcRect/>
                  <a:tile tx="0" ty="0" sx="100000" sy="100000" algn="ctr"/>
                </a:blip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508" name=""/>
              <p:cNvGrpSpPr/>
              <p:nvPr/>
            </p:nvGrpSpPr>
            <p:grpSpPr>
              <a:xfrm>
                <a:off x="6170400" y="5883120"/>
                <a:ext cx="225000" cy="194760"/>
                <a:chOff x="6170400" y="5883120"/>
                <a:chExt cx="225000" cy="194760"/>
              </a:xfrm>
            </p:grpSpPr>
            <p:sp>
              <p:nvSpPr>
                <p:cNvPr id="509" name=""/>
                <p:cNvSpPr/>
                <p:nvPr/>
              </p:nvSpPr>
              <p:spPr>
                <a:xfrm>
                  <a:off x="6170400" y="5883120"/>
                  <a:ext cx="225000" cy="194760"/>
                </a:xfrm>
                <a:custGeom>
                  <a:avLst/>
                  <a:gdLst/>
                  <a:ahLst/>
                  <a:rect l="l" t="t" r="r" b="b"/>
                  <a:pathLst>
                    <a:path w="132" h="123">
                      <a:moveTo>
                        <a:pt x="44" y="20"/>
                      </a:moveTo>
                      <a:lnTo>
                        <a:pt x="55" y="5"/>
                      </a:lnTo>
                      <a:lnTo>
                        <a:pt x="71" y="0"/>
                      </a:lnTo>
                      <a:lnTo>
                        <a:pt x="84" y="3"/>
                      </a:lnTo>
                      <a:lnTo>
                        <a:pt x="93" y="16"/>
                      </a:lnTo>
                      <a:lnTo>
                        <a:pt x="94" y="32"/>
                      </a:lnTo>
                      <a:lnTo>
                        <a:pt x="113" y="35"/>
                      </a:lnTo>
                      <a:lnTo>
                        <a:pt x="128" y="46"/>
                      </a:lnTo>
                      <a:lnTo>
                        <a:pt x="132" y="48"/>
                      </a:lnTo>
                      <a:lnTo>
                        <a:pt x="131" y="65"/>
                      </a:lnTo>
                      <a:lnTo>
                        <a:pt x="121" y="76"/>
                      </a:lnTo>
                      <a:lnTo>
                        <a:pt x="105" y="84"/>
                      </a:lnTo>
                      <a:lnTo>
                        <a:pt x="98" y="85"/>
                      </a:lnTo>
                      <a:lnTo>
                        <a:pt x="96" y="97"/>
                      </a:lnTo>
                      <a:lnTo>
                        <a:pt x="86" y="110"/>
                      </a:lnTo>
                      <a:lnTo>
                        <a:pt x="74" y="117"/>
                      </a:lnTo>
                      <a:lnTo>
                        <a:pt x="56" y="121"/>
                      </a:lnTo>
                      <a:lnTo>
                        <a:pt x="52" y="123"/>
                      </a:lnTo>
                      <a:lnTo>
                        <a:pt x="37" y="115"/>
                      </a:lnTo>
                      <a:lnTo>
                        <a:pt x="27" y="101"/>
                      </a:lnTo>
                      <a:lnTo>
                        <a:pt x="23" y="95"/>
                      </a:lnTo>
                      <a:lnTo>
                        <a:pt x="8" y="89"/>
                      </a:lnTo>
                      <a:lnTo>
                        <a:pt x="0" y="70"/>
                      </a:lnTo>
                      <a:lnTo>
                        <a:pt x="4" y="53"/>
                      </a:lnTo>
                      <a:lnTo>
                        <a:pt x="13" y="40"/>
                      </a:lnTo>
                      <a:lnTo>
                        <a:pt x="20" y="38"/>
                      </a:lnTo>
                      <a:lnTo>
                        <a:pt x="18" y="25"/>
                      </a:lnTo>
                      <a:lnTo>
                        <a:pt x="28" y="18"/>
                      </a:lnTo>
                      <a:lnTo>
                        <a:pt x="37" y="17"/>
                      </a:lnTo>
                      <a:lnTo>
                        <a:pt x="44" y="2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200640" y="5898600"/>
                  <a:ext cx="165600" cy="158400"/>
                </a:xfrm>
                <a:custGeom>
                  <a:avLst/>
                  <a:gdLst/>
                  <a:ahLst/>
                  <a:rect l="l" t="t" r="r" b="b"/>
                  <a:pathLst>
                    <a:path w="97" h="100">
                      <a:moveTo>
                        <a:pt x="36" y="42"/>
                      </a:moveTo>
                      <a:lnTo>
                        <a:pt x="38" y="28"/>
                      </a:lnTo>
                      <a:lnTo>
                        <a:pt x="36" y="14"/>
                      </a:lnTo>
                      <a:lnTo>
                        <a:pt x="45" y="5"/>
                      </a:lnTo>
                      <a:lnTo>
                        <a:pt x="54" y="0"/>
                      </a:lnTo>
                      <a:lnTo>
                        <a:pt x="60" y="5"/>
                      </a:lnTo>
                      <a:lnTo>
                        <a:pt x="65" y="12"/>
                      </a:lnTo>
                      <a:lnTo>
                        <a:pt x="63" y="22"/>
                      </a:lnTo>
                      <a:lnTo>
                        <a:pt x="56" y="31"/>
                      </a:lnTo>
                      <a:lnTo>
                        <a:pt x="53" y="41"/>
                      </a:lnTo>
                      <a:lnTo>
                        <a:pt x="60" y="39"/>
                      </a:lnTo>
                      <a:lnTo>
                        <a:pt x="69" y="33"/>
                      </a:lnTo>
                      <a:lnTo>
                        <a:pt x="79" y="31"/>
                      </a:lnTo>
                      <a:lnTo>
                        <a:pt x="83" y="32"/>
                      </a:lnTo>
                      <a:lnTo>
                        <a:pt x="92" y="34"/>
                      </a:lnTo>
                      <a:lnTo>
                        <a:pt x="97" y="42"/>
                      </a:lnTo>
                      <a:lnTo>
                        <a:pt x="97" y="55"/>
                      </a:lnTo>
                      <a:lnTo>
                        <a:pt x="89" y="64"/>
                      </a:lnTo>
                      <a:lnTo>
                        <a:pt x="78" y="66"/>
                      </a:lnTo>
                      <a:lnTo>
                        <a:pt x="65" y="62"/>
                      </a:lnTo>
                      <a:lnTo>
                        <a:pt x="55" y="56"/>
                      </a:lnTo>
                      <a:lnTo>
                        <a:pt x="54" y="65"/>
                      </a:lnTo>
                      <a:lnTo>
                        <a:pt x="64" y="71"/>
                      </a:lnTo>
                      <a:lnTo>
                        <a:pt x="70" y="80"/>
                      </a:lnTo>
                      <a:lnTo>
                        <a:pt x="63" y="93"/>
                      </a:lnTo>
                      <a:lnTo>
                        <a:pt x="50" y="100"/>
                      </a:lnTo>
                      <a:lnTo>
                        <a:pt x="36" y="99"/>
                      </a:lnTo>
                      <a:lnTo>
                        <a:pt x="29" y="90"/>
                      </a:lnTo>
                      <a:lnTo>
                        <a:pt x="25" y="79"/>
                      </a:lnTo>
                      <a:lnTo>
                        <a:pt x="34" y="70"/>
                      </a:lnTo>
                      <a:lnTo>
                        <a:pt x="41" y="62"/>
                      </a:lnTo>
                      <a:lnTo>
                        <a:pt x="36" y="57"/>
                      </a:lnTo>
                      <a:lnTo>
                        <a:pt x="30" y="67"/>
                      </a:lnTo>
                      <a:lnTo>
                        <a:pt x="20" y="74"/>
                      </a:lnTo>
                      <a:lnTo>
                        <a:pt x="6" y="70"/>
                      </a:lnTo>
                      <a:lnTo>
                        <a:pt x="0" y="60"/>
                      </a:lnTo>
                      <a:lnTo>
                        <a:pt x="2" y="51"/>
                      </a:lnTo>
                      <a:lnTo>
                        <a:pt x="9" y="45"/>
                      </a:lnTo>
                      <a:lnTo>
                        <a:pt x="16" y="41"/>
                      </a:lnTo>
                      <a:lnTo>
                        <a:pt x="16" y="31"/>
                      </a:lnTo>
                      <a:lnTo>
                        <a:pt x="19" y="23"/>
                      </a:lnTo>
                      <a:lnTo>
                        <a:pt x="26" y="24"/>
                      </a:lnTo>
                      <a:lnTo>
                        <a:pt x="31" y="31"/>
                      </a:lnTo>
                      <a:lnTo>
                        <a:pt x="36" y="42"/>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6264000" y="5963760"/>
                  <a:ext cx="30240" cy="28080"/>
                </a:xfrm>
                <a:custGeom>
                  <a:avLst/>
                  <a:gdLst/>
                  <a:ahLst/>
                  <a:rect l="l" t="t" r="r" b="b"/>
                  <a:pathLst>
                    <a:path w="18" h="18">
                      <a:moveTo>
                        <a:pt x="1" y="3"/>
                      </a:moveTo>
                      <a:lnTo>
                        <a:pt x="12" y="0"/>
                      </a:lnTo>
                      <a:lnTo>
                        <a:pt x="18" y="5"/>
                      </a:lnTo>
                      <a:lnTo>
                        <a:pt x="17" y="16"/>
                      </a:lnTo>
                      <a:lnTo>
                        <a:pt x="7" y="18"/>
                      </a:lnTo>
                      <a:lnTo>
                        <a:pt x="0" y="11"/>
                      </a:lnTo>
                      <a:lnTo>
                        <a:pt x="1" y="3"/>
                      </a:lnTo>
                      <a:close/>
                    </a:path>
                  </a:pathLst>
                </a:custGeom>
                <a:blipFill rotWithShape="0">
                  <a:blip r:embed="rId45"/>
                  <a:srcRect/>
                  <a:tile tx="0" ty="0" sx="100000" sy="100000" algn="ctr"/>
                </a:blip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512" name=""/>
              <p:cNvGrpSpPr/>
              <p:nvPr/>
            </p:nvGrpSpPr>
            <p:grpSpPr>
              <a:xfrm>
                <a:off x="7059600" y="5989320"/>
                <a:ext cx="237240" cy="179280"/>
                <a:chOff x="7059600" y="5989320"/>
                <a:chExt cx="237240" cy="179280"/>
              </a:xfrm>
            </p:grpSpPr>
            <p:sp>
              <p:nvSpPr>
                <p:cNvPr id="513" name=""/>
                <p:cNvSpPr/>
                <p:nvPr/>
              </p:nvSpPr>
              <p:spPr>
                <a:xfrm>
                  <a:off x="7059600" y="5989320"/>
                  <a:ext cx="237240" cy="179280"/>
                </a:xfrm>
                <a:custGeom>
                  <a:avLst/>
                  <a:gdLst/>
                  <a:ahLst/>
                  <a:rect l="l" t="t" r="r" b="b"/>
                  <a:pathLst>
                    <a:path w="139" h="113">
                      <a:moveTo>
                        <a:pt x="63" y="10"/>
                      </a:moveTo>
                      <a:lnTo>
                        <a:pt x="78" y="0"/>
                      </a:lnTo>
                      <a:lnTo>
                        <a:pt x="97" y="1"/>
                      </a:lnTo>
                      <a:lnTo>
                        <a:pt x="108" y="10"/>
                      </a:lnTo>
                      <a:lnTo>
                        <a:pt x="112" y="25"/>
                      </a:lnTo>
                      <a:lnTo>
                        <a:pt x="107" y="41"/>
                      </a:lnTo>
                      <a:lnTo>
                        <a:pt x="125" y="51"/>
                      </a:lnTo>
                      <a:lnTo>
                        <a:pt x="136" y="68"/>
                      </a:lnTo>
                      <a:lnTo>
                        <a:pt x="139" y="72"/>
                      </a:lnTo>
                      <a:lnTo>
                        <a:pt x="131" y="87"/>
                      </a:lnTo>
                      <a:lnTo>
                        <a:pt x="117" y="93"/>
                      </a:lnTo>
                      <a:lnTo>
                        <a:pt x="99" y="94"/>
                      </a:lnTo>
                      <a:lnTo>
                        <a:pt x="91" y="92"/>
                      </a:lnTo>
                      <a:lnTo>
                        <a:pt x="85" y="103"/>
                      </a:lnTo>
                      <a:lnTo>
                        <a:pt x="70" y="111"/>
                      </a:lnTo>
                      <a:lnTo>
                        <a:pt x="55" y="113"/>
                      </a:lnTo>
                      <a:lnTo>
                        <a:pt x="36" y="109"/>
                      </a:lnTo>
                      <a:lnTo>
                        <a:pt x="31" y="109"/>
                      </a:lnTo>
                      <a:lnTo>
                        <a:pt x="19" y="96"/>
                      </a:lnTo>
                      <a:lnTo>
                        <a:pt x="14" y="79"/>
                      </a:lnTo>
                      <a:lnTo>
                        <a:pt x="13" y="71"/>
                      </a:lnTo>
                      <a:lnTo>
                        <a:pt x="0" y="60"/>
                      </a:lnTo>
                      <a:lnTo>
                        <a:pt x="0" y="39"/>
                      </a:lnTo>
                      <a:lnTo>
                        <a:pt x="10" y="25"/>
                      </a:lnTo>
                      <a:lnTo>
                        <a:pt x="24" y="16"/>
                      </a:lnTo>
                      <a:lnTo>
                        <a:pt x="32" y="18"/>
                      </a:lnTo>
                      <a:lnTo>
                        <a:pt x="35" y="4"/>
                      </a:lnTo>
                      <a:lnTo>
                        <a:pt x="47" y="2"/>
                      </a:lnTo>
                      <a:lnTo>
                        <a:pt x="56" y="4"/>
                      </a:lnTo>
                      <a:lnTo>
                        <a:pt x="63" y="10"/>
                      </a:lnTo>
                      <a:close/>
                    </a:path>
                  </a:pathLst>
                </a:cu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090200" y="6008040"/>
                  <a:ext cx="175680" cy="144000"/>
                </a:xfrm>
                <a:custGeom>
                  <a:avLst/>
                  <a:gdLst/>
                  <a:ahLst/>
                  <a:rect l="l" t="t" r="r" b="b"/>
                  <a:pathLst>
                    <a:path w="103" h="91">
                      <a:moveTo>
                        <a:pt x="43" y="31"/>
                      </a:moveTo>
                      <a:lnTo>
                        <a:pt x="49" y="19"/>
                      </a:lnTo>
                      <a:lnTo>
                        <a:pt x="53" y="6"/>
                      </a:lnTo>
                      <a:lnTo>
                        <a:pt x="65" y="1"/>
                      </a:lnTo>
                      <a:lnTo>
                        <a:pt x="76" y="0"/>
                      </a:lnTo>
                      <a:lnTo>
                        <a:pt x="80" y="7"/>
                      </a:lnTo>
                      <a:lnTo>
                        <a:pt x="83" y="15"/>
                      </a:lnTo>
                      <a:lnTo>
                        <a:pt x="77" y="23"/>
                      </a:lnTo>
                      <a:lnTo>
                        <a:pt x="67" y="29"/>
                      </a:lnTo>
                      <a:lnTo>
                        <a:pt x="60" y="37"/>
                      </a:lnTo>
                      <a:lnTo>
                        <a:pt x="68" y="39"/>
                      </a:lnTo>
                      <a:lnTo>
                        <a:pt x="79" y="36"/>
                      </a:lnTo>
                      <a:lnTo>
                        <a:pt x="90" y="38"/>
                      </a:lnTo>
                      <a:lnTo>
                        <a:pt x="93" y="41"/>
                      </a:lnTo>
                      <a:lnTo>
                        <a:pt x="101" y="47"/>
                      </a:lnTo>
                      <a:lnTo>
                        <a:pt x="103" y="56"/>
                      </a:lnTo>
                      <a:lnTo>
                        <a:pt x="98" y="67"/>
                      </a:lnTo>
                      <a:lnTo>
                        <a:pt x="88" y="73"/>
                      </a:lnTo>
                      <a:lnTo>
                        <a:pt x="75" y="71"/>
                      </a:lnTo>
                      <a:lnTo>
                        <a:pt x="64" y="62"/>
                      </a:lnTo>
                      <a:lnTo>
                        <a:pt x="56" y="52"/>
                      </a:lnTo>
                      <a:lnTo>
                        <a:pt x="52" y="60"/>
                      </a:lnTo>
                      <a:lnTo>
                        <a:pt x="60" y="70"/>
                      </a:lnTo>
                      <a:lnTo>
                        <a:pt x="62" y="80"/>
                      </a:lnTo>
                      <a:lnTo>
                        <a:pt x="50" y="89"/>
                      </a:lnTo>
                      <a:lnTo>
                        <a:pt x="35" y="91"/>
                      </a:lnTo>
                      <a:lnTo>
                        <a:pt x="22" y="84"/>
                      </a:lnTo>
                      <a:lnTo>
                        <a:pt x="17" y="73"/>
                      </a:lnTo>
                      <a:lnTo>
                        <a:pt x="18" y="61"/>
                      </a:lnTo>
                      <a:lnTo>
                        <a:pt x="30" y="56"/>
                      </a:lnTo>
                      <a:lnTo>
                        <a:pt x="40" y="52"/>
                      </a:lnTo>
                      <a:lnTo>
                        <a:pt x="37" y="46"/>
                      </a:lnTo>
                      <a:lnTo>
                        <a:pt x="27" y="53"/>
                      </a:lnTo>
                      <a:lnTo>
                        <a:pt x="14" y="54"/>
                      </a:lnTo>
                      <a:lnTo>
                        <a:pt x="2" y="45"/>
                      </a:lnTo>
                      <a:lnTo>
                        <a:pt x="0" y="33"/>
                      </a:lnTo>
                      <a:lnTo>
                        <a:pt x="6" y="26"/>
                      </a:lnTo>
                      <a:lnTo>
                        <a:pt x="14" y="23"/>
                      </a:lnTo>
                      <a:lnTo>
                        <a:pt x="23" y="22"/>
                      </a:lnTo>
                      <a:lnTo>
                        <a:pt x="27" y="13"/>
                      </a:lnTo>
                      <a:lnTo>
                        <a:pt x="32" y="7"/>
                      </a:lnTo>
                      <a:lnTo>
                        <a:pt x="40" y="11"/>
                      </a:lnTo>
                      <a:lnTo>
                        <a:pt x="42" y="19"/>
                      </a:lnTo>
                      <a:lnTo>
                        <a:pt x="43" y="31"/>
                      </a:lnTo>
                      <a:close/>
                    </a:path>
                  </a:pathLst>
                </a:cu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156800" y="6062040"/>
                  <a:ext cx="36000" cy="29880"/>
                </a:xfrm>
                <a:custGeom>
                  <a:avLst/>
                  <a:gdLst/>
                  <a:ahLst/>
                  <a:rect l="l" t="t" r="r" b="b"/>
                  <a:pathLst>
                    <a:path w="21" h="19">
                      <a:moveTo>
                        <a:pt x="4" y="0"/>
                      </a:moveTo>
                      <a:lnTo>
                        <a:pt x="16" y="2"/>
                      </a:lnTo>
                      <a:lnTo>
                        <a:pt x="21" y="9"/>
                      </a:lnTo>
                      <a:lnTo>
                        <a:pt x="15" y="19"/>
                      </a:lnTo>
                      <a:lnTo>
                        <a:pt x="5" y="17"/>
                      </a:lnTo>
                      <a:lnTo>
                        <a:pt x="0" y="7"/>
                      </a:lnTo>
                      <a:lnTo>
                        <a:pt x="4" y="0"/>
                      </a:lnTo>
                      <a:close/>
                    </a:path>
                  </a:pathLst>
                </a:custGeom>
                <a:blipFill rotWithShape="0">
                  <a:blip r:embed="rId48"/>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516" name=""/>
              <p:cNvGrpSpPr/>
              <p:nvPr/>
            </p:nvGrpSpPr>
            <p:grpSpPr>
              <a:xfrm>
                <a:off x="7654320" y="6000480"/>
                <a:ext cx="221760" cy="195120"/>
                <a:chOff x="7654320" y="6000480"/>
                <a:chExt cx="221760" cy="195120"/>
              </a:xfrm>
            </p:grpSpPr>
            <p:sp>
              <p:nvSpPr>
                <p:cNvPr id="517" name=""/>
                <p:cNvSpPr/>
                <p:nvPr/>
              </p:nvSpPr>
              <p:spPr>
                <a:xfrm>
                  <a:off x="7654320" y="6000480"/>
                  <a:ext cx="221760" cy="195120"/>
                </a:xfrm>
                <a:custGeom>
                  <a:avLst/>
                  <a:gdLst/>
                  <a:ahLst/>
                  <a:rect l="l" t="t" r="r" b="b"/>
                  <a:pathLst>
                    <a:path w="130" h="123">
                      <a:moveTo>
                        <a:pt x="23" y="36"/>
                      </a:moveTo>
                      <a:lnTo>
                        <a:pt x="26" y="17"/>
                      </a:lnTo>
                      <a:lnTo>
                        <a:pt x="40" y="4"/>
                      </a:lnTo>
                      <a:lnTo>
                        <a:pt x="54" y="0"/>
                      </a:lnTo>
                      <a:lnTo>
                        <a:pt x="69" y="6"/>
                      </a:lnTo>
                      <a:lnTo>
                        <a:pt x="78" y="20"/>
                      </a:lnTo>
                      <a:lnTo>
                        <a:pt x="98" y="12"/>
                      </a:lnTo>
                      <a:lnTo>
                        <a:pt x="119" y="13"/>
                      </a:lnTo>
                      <a:lnTo>
                        <a:pt x="123" y="13"/>
                      </a:lnTo>
                      <a:lnTo>
                        <a:pt x="130" y="28"/>
                      </a:lnTo>
                      <a:lnTo>
                        <a:pt x="126" y="44"/>
                      </a:lnTo>
                      <a:lnTo>
                        <a:pt x="115" y="58"/>
                      </a:lnTo>
                      <a:lnTo>
                        <a:pt x="108" y="64"/>
                      </a:lnTo>
                      <a:lnTo>
                        <a:pt x="113" y="76"/>
                      </a:lnTo>
                      <a:lnTo>
                        <a:pt x="109" y="92"/>
                      </a:lnTo>
                      <a:lnTo>
                        <a:pt x="100" y="105"/>
                      </a:lnTo>
                      <a:lnTo>
                        <a:pt x="85" y="118"/>
                      </a:lnTo>
                      <a:lnTo>
                        <a:pt x="81" y="121"/>
                      </a:lnTo>
                      <a:lnTo>
                        <a:pt x="63" y="123"/>
                      </a:lnTo>
                      <a:lnTo>
                        <a:pt x="46" y="116"/>
                      </a:lnTo>
                      <a:lnTo>
                        <a:pt x="39" y="112"/>
                      </a:lnTo>
                      <a:lnTo>
                        <a:pt x="21" y="115"/>
                      </a:lnTo>
                      <a:lnTo>
                        <a:pt x="5" y="103"/>
                      </a:lnTo>
                      <a:lnTo>
                        <a:pt x="1" y="87"/>
                      </a:lnTo>
                      <a:lnTo>
                        <a:pt x="3" y="70"/>
                      </a:lnTo>
                      <a:lnTo>
                        <a:pt x="9" y="65"/>
                      </a:lnTo>
                      <a:lnTo>
                        <a:pt x="0" y="54"/>
                      </a:lnTo>
                      <a:lnTo>
                        <a:pt x="7" y="43"/>
                      </a:lnTo>
                      <a:lnTo>
                        <a:pt x="15" y="37"/>
                      </a:lnTo>
                      <a:lnTo>
                        <a:pt x="23" y="36"/>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7688160" y="6017760"/>
                  <a:ext cx="160560" cy="151920"/>
                </a:xfrm>
                <a:custGeom>
                  <a:avLst/>
                  <a:gdLst/>
                  <a:ahLst/>
                  <a:rect l="l" t="t" r="r" b="b"/>
                  <a:pathLst>
                    <a:path w="94" h="96">
                      <a:moveTo>
                        <a:pt x="29" y="46"/>
                      </a:moveTo>
                      <a:lnTo>
                        <a:pt x="24" y="33"/>
                      </a:lnTo>
                      <a:lnTo>
                        <a:pt x="15" y="22"/>
                      </a:lnTo>
                      <a:lnTo>
                        <a:pt x="20" y="9"/>
                      </a:lnTo>
                      <a:lnTo>
                        <a:pt x="26" y="0"/>
                      </a:lnTo>
                      <a:lnTo>
                        <a:pt x="35" y="1"/>
                      </a:lnTo>
                      <a:lnTo>
                        <a:pt x="43" y="4"/>
                      </a:lnTo>
                      <a:lnTo>
                        <a:pt x="45" y="14"/>
                      </a:lnTo>
                      <a:lnTo>
                        <a:pt x="43" y="25"/>
                      </a:lnTo>
                      <a:lnTo>
                        <a:pt x="45" y="36"/>
                      </a:lnTo>
                      <a:lnTo>
                        <a:pt x="51" y="31"/>
                      </a:lnTo>
                      <a:lnTo>
                        <a:pt x="57" y="21"/>
                      </a:lnTo>
                      <a:lnTo>
                        <a:pt x="65" y="13"/>
                      </a:lnTo>
                      <a:lnTo>
                        <a:pt x="70" y="12"/>
                      </a:lnTo>
                      <a:lnTo>
                        <a:pt x="80" y="9"/>
                      </a:lnTo>
                      <a:lnTo>
                        <a:pt x="88" y="13"/>
                      </a:lnTo>
                      <a:lnTo>
                        <a:pt x="94" y="25"/>
                      </a:lnTo>
                      <a:lnTo>
                        <a:pt x="92" y="36"/>
                      </a:lnTo>
                      <a:lnTo>
                        <a:pt x="81" y="45"/>
                      </a:lnTo>
                      <a:lnTo>
                        <a:pt x="67" y="48"/>
                      </a:lnTo>
                      <a:lnTo>
                        <a:pt x="55" y="48"/>
                      </a:lnTo>
                      <a:lnTo>
                        <a:pt x="57" y="57"/>
                      </a:lnTo>
                      <a:lnTo>
                        <a:pt x="70" y="57"/>
                      </a:lnTo>
                      <a:lnTo>
                        <a:pt x="81" y="61"/>
                      </a:lnTo>
                      <a:lnTo>
                        <a:pt x="80" y="76"/>
                      </a:lnTo>
                      <a:lnTo>
                        <a:pt x="71" y="89"/>
                      </a:lnTo>
                      <a:lnTo>
                        <a:pt x="57" y="96"/>
                      </a:lnTo>
                      <a:lnTo>
                        <a:pt x="45" y="92"/>
                      </a:lnTo>
                      <a:lnTo>
                        <a:pt x="36" y="85"/>
                      </a:lnTo>
                      <a:lnTo>
                        <a:pt x="40" y="72"/>
                      </a:lnTo>
                      <a:lnTo>
                        <a:pt x="44" y="61"/>
                      </a:lnTo>
                      <a:lnTo>
                        <a:pt x="37" y="59"/>
                      </a:lnTo>
                      <a:lnTo>
                        <a:pt x="35" y="72"/>
                      </a:lnTo>
                      <a:lnTo>
                        <a:pt x="29" y="83"/>
                      </a:lnTo>
                      <a:lnTo>
                        <a:pt x="13" y="87"/>
                      </a:lnTo>
                      <a:lnTo>
                        <a:pt x="2" y="82"/>
                      </a:lnTo>
                      <a:lnTo>
                        <a:pt x="0" y="73"/>
                      </a:lnTo>
                      <a:lnTo>
                        <a:pt x="3" y="64"/>
                      </a:lnTo>
                      <a:lnTo>
                        <a:pt x="9" y="56"/>
                      </a:lnTo>
                      <a:lnTo>
                        <a:pt x="4" y="47"/>
                      </a:lnTo>
                      <a:lnTo>
                        <a:pt x="2" y="39"/>
                      </a:lnTo>
                      <a:lnTo>
                        <a:pt x="11" y="37"/>
                      </a:lnTo>
                      <a:lnTo>
                        <a:pt x="19" y="39"/>
                      </a:lnTo>
                      <a:lnTo>
                        <a:pt x="29" y="46"/>
                      </a:lnTo>
                      <a:close/>
                    </a:path>
                  </a:pathLst>
                </a:cu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7741440" y="6077880"/>
                  <a:ext cx="37440" cy="31320"/>
                </a:xfrm>
                <a:custGeom>
                  <a:avLst/>
                  <a:gdLst/>
                  <a:ahLst/>
                  <a:rect l="l" t="t" r="r" b="b"/>
                  <a:pathLst>
                    <a:path w="22" h="20">
                      <a:moveTo>
                        <a:pt x="0" y="9"/>
                      </a:moveTo>
                      <a:lnTo>
                        <a:pt x="10" y="0"/>
                      </a:lnTo>
                      <a:lnTo>
                        <a:pt x="19" y="1"/>
                      </a:lnTo>
                      <a:lnTo>
                        <a:pt x="22" y="12"/>
                      </a:lnTo>
                      <a:lnTo>
                        <a:pt x="14" y="20"/>
                      </a:lnTo>
                      <a:lnTo>
                        <a:pt x="3" y="18"/>
                      </a:lnTo>
                      <a:lnTo>
                        <a:pt x="0" y="9"/>
                      </a:lnTo>
                      <a:close/>
                    </a:path>
                  </a:pathLst>
                </a:custGeom>
                <a:blipFill rotWithShape="0">
                  <a:blip r:embed="rId51"/>
                  <a:srcRect/>
                  <a:tile tx="0" ty="0" sx="100000" sy="100000" algn="ctr"/>
                </a:blip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520" name=""/>
              <p:cNvGrpSpPr/>
              <p:nvPr/>
            </p:nvGrpSpPr>
            <p:grpSpPr>
              <a:xfrm>
                <a:off x="8003520" y="5637240"/>
                <a:ext cx="209520" cy="258480"/>
                <a:chOff x="8003520" y="5637240"/>
                <a:chExt cx="209520" cy="258480"/>
              </a:xfrm>
            </p:grpSpPr>
            <p:sp>
              <p:nvSpPr>
                <p:cNvPr id="521" name=""/>
                <p:cNvSpPr/>
                <p:nvPr/>
              </p:nvSpPr>
              <p:spPr>
                <a:xfrm>
                  <a:off x="8003520" y="5637240"/>
                  <a:ext cx="209520" cy="258480"/>
                </a:xfrm>
                <a:custGeom>
                  <a:avLst/>
                  <a:gdLst/>
                  <a:ahLst/>
                  <a:rect l="l" t="t" r="r" b="b"/>
                  <a:pathLst>
                    <a:path w="123" h="163">
                      <a:moveTo>
                        <a:pt x="41" y="26"/>
                      </a:moveTo>
                      <a:lnTo>
                        <a:pt x="50" y="6"/>
                      </a:lnTo>
                      <a:lnTo>
                        <a:pt x="66" y="0"/>
                      </a:lnTo>
                      <a:lnTo>
                        <a:pt x="78" y="4"/>
                      </a:lnTo>
                      <a:lnTo>
                        <a:pt x="86" y="21"/>
                      </a:lnTo>
                      <a:lnTo>
                        <a:pt x="87" y="43"/>
                      </a:lnTo>
                      <a:lnTo>
                        <a:pt x="105" y="46"/>
                      </a:lnTo>
                      <a:lnTo>
                        <a:pt x="119" y="61"/>
                      </a:lnTo>
                      <a:lnTo>
                        <a:pt x="123" y="64"/>
                      </a:lnTo>
                      <a:lnTo>
                        <a:pt x="121" y="86"/>
                      </a:lnTo>
                      <a:lnTo>
                        <a:pt x="112" y="101"/>
                      </a:lnTo>
                      <a:lnTo>
                        <a:pt x="98" y="111"/>
                      </a:lnTo>
                      <a:lnTo>
                        <a:pt x="91" y="113"/>
                      </a:lnTo>
                      <a:lnTo>
                        <a:pt x="89" y="129"/>
                      </a:lnTo>
                      <a:lnTo>
                        <a:pt x="80" y="146"/>
                      </a:lnTo>
                      <a:lnTo>
                        <a:pt x="68" y="156"/>
                      </a:lnTo>
                      <a:lnTo>
                        <a:pt x="52" y="161"/>
                      </a:lnTo>
                      <a:lnTo>
                        <a:pt x="48" y="163"/>
                      </a:lnTo>
                      <a:lnTo>
                        <a:pt x="34" y="153"/>
                      </a:lnTo>
                      <a:lnTo>
                        <a:pt x="24" y="134"/>
                      </a:lnTo>
                      <a:lnTo>
                        <a:pt x="21" y="126"/>
                      </a:lnTo>
                      <a:lnTo>
                        <a:pt x="7" y="118"/>
                      </a:lnTo>
                      <a:lnTo>
                        <a:pt x="0" y="93"/>
                      </a:lnTo>
                      <a:lnTo>
                        <a:pt x="3" y="71"/>
                      </a:lnTo>
                      <a:lnTo>
                        <a:pt x="11" y="53"/>
                      </a:lnTo>
                      <a:lnTo>
                        <a:pt x="18" y="51"/>
                      </a:lnTo>
                      <a:lnTo>
                        <a:pt x="16" y="33"/>
                      </a:lnTo>
                      <a:lnTo>
                        <a:pt x="26" y="24"/>
                      </a:lnTo>
                      <a:lnTo>
                        <a:pt x="34" y="23"/>
                      </a:lnTo>
                      <a:lnTo>
                        <a:pt x="41" y="26"/>
                      </a:lnTo>
                      <a:close/>
                    </a:path>
                  </a:pathLst>
                </a:cu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8032320" y="5657760"/>
                  <a:ext cx="155160" cy="209160"/>
                </a:xfrm>
                <a:custGeom>
                  <a:avLst/>
                  <a:gdLst/>
                  <a:ahLst/>
                  <a:rect l="l" t="t" r="r" b="b"/>
                  <a:pathLst>
                    <a:path w="91" h="132">
                      <a:moveTo>
                        <a:pt x="34" y="55"/>
                      </a:moveTo>
                      <a:lnTo>
                        <a:pt x="35" y="37"/>
                      </a:lnTo>
                      <a:lnTo>
                        <a:pt x="34" y="19"/>
                      </a:lnTo>
                      <a:lnTo>
                        <a:pt x="42" y="7"/>
                      </a:lnTo>
                      <a:lnTo>
                        <a:pt x="51" y="0"/>
                      </a:lnTo>
                      <a:lnTo>
                        <a:pt x="56" y="7"/>
                      </a:lnTo>
                      <a:lnTo>
                        <a:pt x="61" y="15"/>
                      </a:lnTo>
                      <a:lnTo>
                        <a:pt x="59" y="29"/>
                      </a:lnTo>
                      <a:lnTo>
                        <a:pt x="53" y="40"/>
                      </a:lnTo>
                      <a:lnTo>
                        <a:pt x="49" y="54"/>
                      </a:lnTo>
                      <a:lnTo>
                        <a:pt x="56" y="52"/>
                      </a:lnTo>
                      <a:lnTo>
                        <a:pt x="65" y="44"/>
                      </a:lnTo>
                      <a:lnTo>
                        <a:pt x="74" y="40"/>
                      </a:lnTo>
                      <a:lnTo>
                        <a:pt x="78" y="42"/>
                      </a:lnTo>
                      <a:lnTo>
                        <a:pt x="86" y="45"/>
                      </a:lnTo>
                      <a:lnTo>
                        <a:pt x="91" y="55"/>
                      </a:lnTo>
                      <a:lnTo>
                        <a:pt x="91" y="72"/>
                      </a:lnTo>
                      <a:lnTo>
                        <a:pt x="84" y="84"/>
                      </a:lnTo>
                      <a:lnTo>
                        <a:pt x="73" y="87"/>
                      </a:lnTo>
                      <a:lnTo>
                        <a:pt x="61" y="82"/>
                      </a:lnTo>
                      <a:lnTo>
                        <a:pt x="52" y="74"/>
                      </a:lnTo>
                      <a:lnTo>
                        <a:pt x="51" y="85"/>
                      </a:lnTo>
                      <a:lnTo>
                        <a:pt x="60" y="94"/>
                      </a:lnTo>
                      <a:lnTo>
                        <a:pt x="66" y="106"/>
                      </a:lnTo>
                      <a:lnTo>
                        <a:pt x="59" y="122"/>
                      </a:lnTo>
                      <a:lnTo>
                        <a:pt x="47" y="132"/>
                      </a:lnTo>
                      <a:lnTo>
                        <a:pt x="34" y="131"/>
                      </a:lnTo>
                      <a:lnTo>
                        <a:pt x="27" y="119"/>
                      </a:lnTo>
                      <a:lnTo>
                        <a:pt x="23" y="104"/>
                      </a:lnTo>
                      <a:lnTo>
                        <a:pt x="32" y="92"/>
                      </a:lnTo>
                      <a:lnTo>
                        <a:pt x="39" y="82"/>
                      </a:lnTo>
                      <a:lnTo>
                        <a:pt x="34" y="75"/>
                      </a:lnTo>
                      <a:lnTo>
                        <a:pt x="28" y="89"/>
                      </a:lnTo>
                      <a:lnTo>
                        <a:pt x="19" y="97"/>
                      </a:lnTo>
                      <a:lnTo>
                        <a:pt x="6" y="92"/>
                      </a:lnTo>
                      <a:lnTo>
                        <a:pt x="0" y="79"/>
                      </a:lnTo>
                      <a:lnTo>
                        <a:pt x="2" y="67"/>
                      </a:lnTo>
                      <a:lnTo>
                        <a:pt x="8" y="59"/>
                      </a:lnTo>
                      <a:lnTo>
                        <a:pt x="15" y="54"/>
                      </a:lnTo>
                      <a:lnTo>
                        <a:pt x="15" y="40"/>
                      </a:lnTo>
                      <a:lnTo>
                        <a:pt x="17" y="30"/>
                      </a:lnTo>
                      <a:lnTo>
                        <a:pt x="25" y="32"/>
                      </a:lnTo>
                      <a:lnTo>
                        <a:pt x="29" y="40"/>
                      </a:lnTo>
                      <a:lnTo>
                        <a:pt x="34" y="55"/>
                      </a:lnTo>
                      <a:close/>
                    </a:path>
                  </a:pathLst>
                </a:cu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8090280" y="5743440"/>
                  <a:ext cx="28800" cy="39240"/>
                </a:xfrm>
                <a:custGeom>
                  <a:avLst/>
                  <a:gdLst/>
                  <a:ahLst/>
                  <a:rect l="l" t="t" r="r" b="b"/>
                  <a:pathLst>
                    <a:path w="17" h="25">
                      <a:moveTo>
                        <a:pt x="1" y="3"/>
                      </a:moveTo>
                      <a:lnTo>
                        <a:pt x="11" y="0"/>
                      </a:lnTo>
                      <a:lnTo>
                        <a:pt x="17" y="6"/>
                      </a:lnTo>
                      <a:lnTo>
                        <a:pt x="16" y="21"/>
                      </a:lnTo>
                      <a:lnTo>
                        <a:pt x="6" y="25"/>
                      </a:lnTo>
                      <a:lnTo>
                        <a:pt x="0" y="15"/>
                      </a:lnTo>
                      <a:lnTo>
                        <a:pt x="1" y="3"/>
                      </a:lnTo>
                      <a:close/>
                    </a:path>
                  </a:pathLst>
                </a:custGeom>
                <a:blipFill rotWithShape="0">
                  <a:blip r:embed="rId54"/>
                  <a:srcRect/>
                  <a:tile tx="0" ty="0" sx="100000" sy="100000" algn="ctr"/>
                </a:blip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grpSp>
          <p:nvGrpSpPr>
            <p:cNvPr id="524" name=""/>
            <p:cNvGrpSpPr/>
            <p:nvPr/>
          </p:nvGrpSpPr>
          <p:grpSpPr>
            <a:xfrm>
              <a:off x="5791320" y="5794200"/>
              <a:ext cx="2437560" cy="432720"/>
              <a:chOff x="5791320" y="5794200"/>
              <a:chExt cx="2437560" cy="432720"/>
            </a:xfrm>
          </p:grpSpPr>
          <p:sp>
            <p:nvSpPr>
              <p:cNvPr id="525" name=""/>
              <p:cNvSpPr/>
              <p:nvPr/>
            </p:nvSpPr>
            <p:spPr>
              <a:xfrm>
                <a:off x="6849360" y="5907960"/>
                <a:ext cx="153720" cy="269640"/>
              </a:xfrm>
              <a:custGeom>
                <a:avLst/>
                <a:gdLst/>
                <a:ahLst/>
                <a:rect l="l" t="t" r="r" b="b"/>
                <a:pathLst>
                  <a:path w="90" h="170">
                    <a:moveTo>
                      <a:pt x="81" y="148"/>
                    </a:moveTo>
                    <a:lnTo>
                      <a:pt x="89" y="112"/>
                    </a:lnTo>
                    <a:lnTo>
                      <a:pt x="90" y="86"/>
                    </a:lnTo>
                    <a:lnTo>
                      <a:pt x="89" y="57"/>
                    </a:lnTo>
                    <a:lnTo>
                      <a:pt x="83" y="28"/>
                    </a:lnTo>
                    <a:lnTo>
                      <a:pt x="71" y="0"/>
                    </a:lnTo>
                    <a:lnTo>
                      <a:pt x="60" y="0"/>
                    </a:lnTo>
                    <a:lnTo>
                      <a:pt x="60" y="19"/>
                    </a:lnTo>
                    <a:lnTo>
                      <a:pt x="69" y="61"/>
                    </a:lnTo>
                    <a:lnTo>
                      <a:pt x="69" y="93"/>
                    </a:lnTo>
                    <a:lnTo>
                      <a:pt x="65" y="128"/>
                    </a:lnTo>
                    <a:lnTo>
                      <a:pt x="56" y="148"/>
                    </a:lnTo>
                    <a:lnTo>
                      <a:pt x="55" y="123"/>
                    </a:lnTo>
                    <a:lnTo>
                      <a:pt x="47" y="95"/>
                    </a:lnTo>
                    <a:lnTo>
                      <a:pt x="36" y="68"/>
                    </a:lnTo>
                    <a:lnTo>
                      <a:pt x="20" y="45"/>
                    </a:lnTo>
                    <a:lnTo>
                      <a:pt x="3" y="26"/>
                    </a:lnTo>
                    <a:lnTo>
                      <a:pt x="0" y="36"/>
                    </a:lnTo>
                    <a:lnTo>
                      <a:pt x="13" y="68"/>
                    </a:lnTo>
                    <a:lnTo>
                      <a:pt x="26" y="102"/>
                    </a:lnTo>
                    <a:lnTo>
                      <a:pt x="25" y="106"/>
                    </a:lnTo>
                    <a:lnTo>
                      <a:pt x="30" y="137"/>
                    </a:lnTo>
                    <a:lnTo>
                      <a:pt x="31" y="160"/>
                    </a:lnTo>
                    <a:lnTo>
                      <a:pt x="38" y="168"/>
                    </a:lnTo>
                    <a:lnTo>
                      <a:pt x="42" y="170"/>
                    </a:lnTo>
                    <a:lnTo>
                      <a:pt x="55" y="166"/>
                    </a:lnTo>
                    <a:lnTo>
                      <a:pt x="57" y="156"/>
                    </a:lnTo>
                    <a:lnTo>
                      <a:pt x="65" y="165"/>
                    </a:lnTo>
                    <a:lnTo>
                      <a:pt x="79" y="159"/>
                    </a:lnTo>
                    <a:lnTo>
                      <a:pt x="81" y="14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775920" y="6030360"/>
                <a:ext cx="64440" cy="196560"/>
              </a:xfrm>
              <a:custGeom>
                <a:avLst/>
                <a:gdLst/>
                <a:ahLst/>
                <a:rect l="l" t="t" r="r" b="b"/>
                <a:pathLst>
                  <a:path w="38" h="124">
                    <a:moveTo>
                      <a:pt x="6" y="0"/>
                    </a:moveTo>
                    <a:lnTo>
                      <a:pt x="23" y="32"/>
                    </a:lnTo>
                    <a:lnTo>
                      <a:pt x="34" y="66"/>
                    </a:lnTo>
                    <a:lnTo>
                      <a:pt x="38" y="91"/>
                    </a:lnTo>
                    <a:lnTo>
                      <a:pt x="37" y="94"/>
                    </a:lnTo>
                    <a:lnTo>
                      <a:pt x="38" y="112"/>
                    </a:lnTo>
                    <a:lnTo>
                      <a:pt x="31" y="122"/>
                    </a:lnTo>
                    <a:lnTo>
                      <a:pt x="23" y="124"/>
                    </a:lnTo>
                    <a:lnTo>
                      <a:pt x="13" y="120"/>
                    </a:lnTo>
                    <a:lnTo>
                      <a:pt x="9" y="106"/>
                    </a:lnTo>
                    <a:lnTo>
                      <a:pt x="13" y="86"/>
                    </a:lnTo>
                    <a:lnTo>
                      <a:pt x="15" y="63"/>
                    </a:lnTo>
                    <a:lnTo>
                      <a:pt x="11" y="43"/>
                    </a:lnTo>
                    <a:lnTo>
                      <a:pt x="4" y="22"/>
                    </a:lnTo>
                    <a:lnTo>
                      <a:pt x="0" y="3"/>
                    </a:lnTo>
                    <a:lnTo>
                      <a:pt x="6"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640560" y="5940000"/>
                <a:ext cx="66600" cy="217080"/>
              </a:xfrm>
              <a:custGeom>
                <a:avLst/>
                <a:gdLst/>
                <a:ahLst/>
                <a:rect l="l" t="t" r="r" b="b"/>
                <a:pathLst>
                  <a:path w="39" h="137">
                    <a:moveTo>
                      <a:pt x="2" y="111"/>
                    </a:moveTo>
                    <a:lnTo>
                      <a:pt x="5" y="76"/>
                    </a:lnTo>
                    <a:lnTo>
                      <a:pt x="15" y="42"/>
                    </a:lnTo>
                    <a:lnTo>
                      <a:pt x="24" y="18"/>
                    </a:lnTo>
                    <a:lnTo>
                      <a:pt x="34" y="0"/>
                    </a:lnTo>
                    <a:lnTo>
                      <a:pt x="39" y="3"/>
                    </a:lnTo>
                    <a:lnTo>
                      <a:pt x="32" y="35"/>
                    </a:lnTo>
                    <a:lnTo>
                      <a:pt x="25" y="77"/>
                    </a:lnTo>
                    <a:lnTo>
                      <a:pt x="21" y="108"/>
                    </a:lnTo>
                    <a:lnTo>
                      <a:pt x="19" y="128"/>
                    </a:lnTo>
                    <a:lnTo>
                      <a:pt x="12" y="137"/>
                    </a:lnTo>
                    <a:lnTo>
                      <a:pt x="3" y="133"/>
                    </a:lnTo>
                    <a:lnTo>
                      <a:pt x="0" y="122"/>
                    </a:lnTo>
                    <a:lnTo>
                      <a:pt x="2" y="111"/>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575760" y="5879520"/>
                <a:ext cx="83520" cy="313920"/>
              </a:xfrm>
              <a:custGeom>
                <a:avLst/>
                <a:gdLst/>
                <a:ahLst/>
                <a:rect l="l" t="t" r="r" b="b"/>
                <a:pathLst>
                  <a:path w="49" h="198">
                    <a:moveTo>
                      <a:pt x="3" y="169"/>
                    </a:moveTo>
                    <a:lnTo>
                      <a:pt x="7" y="125"/>
                    </a:lnTo>
                    <a:lnTo>
                      <a:pt x="12" y="98"/>
                    </a:lnTo>
                    <a:lnTo>
                      <a:pt x="18" y="69"/>
                    </a:lnTo>
                    <a:lnTo>
                      <a:pt x="26" y="41"/>
                    </a:lnTo>
                    <a:lnTo>
                      <a:pt x="36" y="16"/>
                    </a:lnTo>
                    <a:lnTo>
                      <a:pt x="45" y="0"/>
                    </a:lnTo>
                    <a:lnTo>
                      <a:pt x="49" y="4"/>
                    </a:lnTo>
                    <a:lnTo>
                      <a:pt x="40" y="45"/>
                    </a:lnTo>
                    <a:lnTo>
                      <a:pt x="31" y="89"/>
                    </a:lnTo>
                    <a:lnTo>
                      <a:pt x="28" y="125"/>
                    </a:lnTo>
                    <a:lnTo>
                      <a:pt x="26" y="156"/>
                    </a:lnTo>
                    <a:lnTo>
                      <a:pt x="26" y="184"/>
                    </a:lnTo>
                    <a:lnTo>
                      <a:pt x="23" y="193"/>
                    </a:lnTo>
                    <a:lnTo>
                      <a:pt x="17" y="198"/>
                    </a:lnTo>
                    <a:lnTo>
                      <a:pt x="6" y="195"/>
                    </a:lnTo>
                    <a:lnTo>
                      <a:pt x="4" y="188"/>
                    </a:lnTo>
                    <a:lnTo>
                      <a:pt x="0" y="175"/>
                    </a:lnTo>
                    <a:lnTo>
                      <a:pt x="3" y="169"/>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485040" y="5917680"/>
                <a:ext cx="66600" cy="267840"/>
              </a:xfrm>
              <a:custGeom>
                <a:avLst/>
                <a:gdLst/>
                <a:ahLst/>
                <a:rect l="l" t="t" r="r" b="b"/>
                <a:pathLst>
                  <a:path w="39" h="169">
                    <a:moveTo>
                      <a:pt x="13" y="160"/>
                    </a:moveTo>
                    <a:lnTo>
                      <a:pt x="5" y="134"/>
                    </a:lnTo>
                    <a:lnTo>
                      <a:pt x="2" y="112"/>
                    </a:lnTo>
                    <a:lnTo>
                      <a:pt x="0" y="83"/>
                    </a:lnTo>
                    <a:lnTo>
                      <a:pt x="2" y="52"/>
                    </a:lnTo>
                    <a:lnTo>
                      <a:pt x="7" y="25"/>
                    </a:lnTo>
                    <a:lnTo>
                      <a:pt x="17" y="0"/>
                    </a:lnTo>
                    <a:lnTo>
                      <a:pt x="23" y="2"/>
                    </a:lnTo>
                    <a:lnTo>
                      <a:pt x="18" y="33"/>
                    </a:lnTo>
                    <a:lnTo>
                      <a:pt x="17" y="66"/>
                    </a:lnTo>
                    <a:lnTo>
                      <a:pt x="18" y="91"/>
                    </a:lnTo>
                    <a:lnTo>
                      <a:pt x="21" y="113"/>
                    </a:lnTo>
                    <a:lnTo>
                      <a:pt x="28" y="133"/>
                    </a:lnTo>
                    <a:lnTo>
                      <a:pt x="36" y="148"/>
                    </a:lnTo>
                    <a:lnTo>
                      <a:pt x="39" y="158"/>
                    </a:lnTo>
                    <a:lnTo>
                      <a:pt x="38" y="164"/>
                    </a:lnTo>
                    <a:lnTo>
                      <a:pt x="35" y="166"/>
                    </a:lnTo>
                    <a:lnTo>
                      <a:pt x="30" y="169"/>
                    </a:lnTo>
                    <a:lnTo>
                      <a:pt x="22" y="164"/>
                    </a:lnTo>
                    <a:lnTo>
                      <a:pt x="13" y="16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336360" y="5874840"/>
                <a:ext cx="61560" cy="283680"/>
              </a:xfrm>
              <a:custGeom>
                <a:avLst/>
                <a:gdLst/>
                <a:ahLst/>
                <a:rect l="l" t="t" r="r" b="b"/>
                <a:pathLst>
                  <a:path w="36" h="179">
                    <a:moveTo>
                      <a:pt x="16" y="0"/>
                    </a:moveTo>
                    <a:lnTo>
                      <a:pt x="28" y="32"/>
                    </a:lnTo>
                    <a:lnTo>
                      <a:pt x="35" y="61"/>
                    </a:lnTo>
                    <a:lnTo>
                      <a:pt x="36" y="92"/>
                    </a:lnTo>
                    <a:lnTo>
                      <a:pt x="35" y="121"/>
                    </a:lnTo>
                    <a:lnTo>
                      <a:pt x="29" y="149"/>
                    </a:lnTo>
                    <a:lnTo>
                      <a:pt x="22" y="169"/>
                    </a:lnTo>
                    <a:lnTo>
                      <a:pt x="13" y="179"/>
                    </a:lnTo>
                    <a:lnTo>
                      <a:pt x="5" y="176"/>
                    </a:lnTo>
                    <a:lnTo>
                      <a:pt x="0" y="169"/>
                    </a:lnTo>
                    <a:lnTo>
                      <a:pt x="1" y="158"/>
                    </a:lnTo>
                    <a:lnTo>
                      <a:pt x="8" y="144"/>
                    </a:lnTo>
                    <a:lnTo>
                      <a:pt x="17" y="123"/>
                    </a:lnTo>
                    <a:lnTo>
                      <a:pt x="21" y="98"/>
                    </a:lnTo>
                    <a:lnTo>
                      <a:pt x="22" y="74"/>
                    </a:lnTo>
                    <a:lnTo>
                      <a:pt x="21" y="50"/>
                    </a:lnTo>
                    <a:lnTo>
                      <a:pt x="17" y="31"/>
                    </a:lnTo>
                    <a:lnTo>
                      <a:pt x="13" y="9"/>
                    </a:lnTo>
                    <a:lnTo>
                      <a:pt x="16"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285240" y="5961960"/>
                <a:ext cx="44280" cy="228240"/>
              </a:xfrm>
              <a:custGeom>
                <a:avLst/>
                <a:gdLst/>
                <a:ahLst/>
                <a:rect l="l" t="t" r="r" b="b"/>
                <a:pathLst>
                  <a:path w="26" h="144">
                    <a:moveTo>
                      <a:pt x="13" y="0"/>
                    </a:moveTo>
                    <a:lnTo>
                      <a:pt x="23" y="24"/>
                    </a:lnTo>
                    <a:lnTo>
                      <a:pt x="26" y="51"/>
                    </a:lnTo>
                    <a:lnTo>
                      <a:pt x="25" y="77"/>
                    </a:lnTo>
                    <a:lnTo>
                      <a:pt x="22" y="105"/>
                    </a:lnTo>
                    <a:lnTo>
                      <a:pt x="18" y="130"/>
                    </a:lnTo>
                    <a:lnTo>
                      <a:pt x="14" y="144"/>
                    </a:lnTo>
                    <a:lnTo>
                      <a:pt x="4" y="144"/>
                    </a:lnTo>
                    <a:lnTo>
                      <a:pt x="0" y="135"/>
                    </a:lnTo>
                    <a:lnTo>
                      <a:pt x="0" y="122"/>
                    </a:lnTo>
                    <a:lnTo>
                      <a:pt x="4" y="98"/>
                    </a:lnTo>
                    <a:lnTo>
                      <a:pt x="9" y="65"/>
                    </a:lnTo>
                    <a:lnTo>
                      <a:pt x="11" y="34"/>
                    </a:lnTo>
                    <a:lnTo>
                      <a:pt x="11" y="9"/>
                    </a:lnTo>
                    <a:lnTo>
                      <a:pt x="13"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09200" y="5879520"/>
                <a:ext cx="116280" cy="275760"/>
              </a:xfrm>
              <a:custGeom>
                <a:avLst/>
                <a:gdLst/>
                <a:ahLst/>
                <a:rect l="l" t="t" r="r" b="b"/>
                <a:pathLst>
                  <a:path w="68" h="174">
                    <a:moveTo>
                      <a:pt x="35" y="0"/>
                    </a:moveTo>
                    <a:lnTo>
                      <a:pt x="44" y="33"/>
                    </a:lnTo>
                    <a:lnTo>
                      <a:pt x="46" y="69"/>
                    </a:lnTo>
                    <a:lnTo>
                      <a:pt x="41" y="108"/>
                    </a:lnTo>
                    <a:lnTo>
                      <a:pt x="33" y="136"/>
                    </a:lnTo>
                    <a:lnTo>
                      <a:pt x="36" y="100"/>
                    </a:lnTo>
                    <a:lnTo>
                      <a:pt x="29" y="73"/>
                    </a:lnTo>
                    <a:lnTo>
                      <a:pt x="16" y="48"/>
                    </a:lnTo>
                    <a:lnTo>
                      <a:pt x="3" y="36"/>
                    </a:lnTo>
                    <a:lnTo>
                      <a:pt x="0" y="44"/>
                    </a:lnTo>
                    <a:lnTo>
                      <a:pt x="15" y="77"/>
                    </a:lnTo>
                    <a:lnTo>
                      <a:pt x="21" y="103"/>
                    </a:lnTo>
                    <a:lnTo>
                      <a:pt x="19" y="128"/>
                    </a:lnTo>
                    <a:lnTo>
                      <a:pt x="12" y="158"/>
                    </a:lnTo>
                    <a:lnTo>
                      <a:pt x="16" y="170"/>
                    </a:lnTo>
                    <a:lnTo>
                      <a:pt x="27" y="174"/>
                    </a:lnTo>
                    <a:lnTo>
                      <a:pt x="36" y="162"/>
                    </a:lnTo>
                    <a:lnTo>
                      <a:pt x="44" y="169"/>
                    </a:lnTo>
                    <a:lnTo>
                      <a:pt x="58" y="166"/>
                    </a:lnTo>
                    <a:lnTo>
                      <a:pt x="65" y="150"/>
                    </a:lnTo>
                    <a:lnTo>
                      <a:pt x="68" y="126"/>
                    </a:lnTo>
                    <a:lnTo>
                      <a:pt x="65" y="83"/>
                    </a:lnTo>
                    <a:lnTo>
                      <a:pt x="56" y="37"/>
                    </a:lnTo>
                    <a:lnTo>
                      <a:pt x="43" y="0"/>
                    </a:lnTo>
                    <a:lnTo>
                      <a:pt x="35"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46480" y="5927040"/>
                <a:ext cx="66600" cy="218880"/>
              </a:xfrm>
              <a:custGeom>
                <a:avLst/>
                <a:gdLst/>
                <a:ahLst/>
                <a:rect l="l" t="t" r="r" b="b"/>
                <a:pathLst>
                  <a:path w="39" h="138">
                    <a:moveTo>
                      <a:pt x="2" y="113"/>
                    </a:moveTo>
                    <a:lnTo>
                      <a:pt x="5" y="77"/>
                    </a:lnTo>
                    <a:lnTo>
                      <a:pt x="15" y="43"/>
                    </a:lnTo>
                    <a:lnTo>
                      <a:pt x="24" y="19"/>
                    </a:lnTo>
                    <a:lnTo>
                      <a:pt x="34" y="0"/>
                    </a:lnTo>
                    <a:lnTo>
                      <a:pt x="39" y="3"/>
                    </a:lnTo>
                    <a:lnTo>
                      <a:pt x="32" y="36"/>
                    </a:lnTo>
                    <a:lnTo>
                      <a:pt x="25" y="78"/>
                    </a:lnTo>
                    <a:lnTo>
                      <a:pt x="21" y="110"/>
                    </a:lnTo>
                    <a:lnTo>
                      <a:pt x="19" y="129"/>
                    </a:lnTo>
                    <a:lnTo>
                      <a:pt x="12" y="138"/>
                    </a:lnTo>
                    <a:lnTo>
                      <a:pt x="3" y="135"/>
                    </a:lnTo>
                    <a:lnTo>
                      <a:pt x="0" y="124"/>
                    </a:lnTo>
                    <a:lnTo>
                      <a:pt x="2" y="113"/>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881320" y="5866920"/>
                <a:ext cx="83520" cy="313920"/>
              </a:xfrm>
              <a:custGeom>
                <a:avLst/>
                <a:gdLst/>
                <a:ahLst/>
                <a:rect l="l" t="t" r="r" b="b"/>
                <a:pathLst>
                  <a:path w="49" h="198">
                    <a:moveTo>
                      <a:pt x="3" y="169"/>
                    </a:moveTo>
                    <a:lnTo>
                      <a:pt x="7" y="125"/>
                    </a:lnTo>
                    <a:lnTo>
                      <a:pt x="12" y="98"/>
                    </a:lnTo>
                    <a:lnTo>
                      <a:pt x="18" y="69"/>
                    </a:lnTo>
                    <a:lnTo>
                      <a:pt x="26" y="41"/>
                    </a:lnTo>
                    <a:lnTo>
                      <a:pt x="36" y="16"/>
                    </a:lnTo>
                    <a:lnTo>
                      <a:pt x="45" y="0"/>
                    </a:lnTo>
                    <a:lnTo>
                      <a:pt x="49" y="4"/>
                    </a:lnTo>
                    <a:lnTo>
                      <a:pt x="40" y="45"/>
                    </a:lnTo>
                    <a:lnTo>
                      <a:pt x="31" y="89"/>
                    </a:lnTo>
                    <a:lnTo>
                      <a:pt x="28" y="125"/>
                    </a:lnTo>
                    <a:lnTo>
                      <a:pt x="26" y="156"/>
                    </a:lnTo>
                    <a:lnTo>
                      <a:pt x="26" y="184"/>
                    </a:lnTo>
                    <a:lnTo>
                      <a:pt x="23" y="193"/>
                    </a:lnTo>
                    <a:lnTo>
                      <a:pt x="17" y="198"/>
                    </a:lnTo>
                    <a:lnTo>
                      <a:pt x="6" y="195"/>
                    </a:lnTo>
                    <a:lnTo>
                      <a:pt x="4" y="188"/>
                    </a:lnTo>
                    <a:lnTo>
                      <a:pt x="0" y="175"/>
                    </a:lnTo>
                    <a:lnTo>
                      <a:pt x="3" y="169"/>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791320" y="5905080"/>
                <a:ext cx="66600" cy="267840"/>
              </a:xfrm>
              <a:custGeom>
                <a:avLst/>
                <a:gdLst/>
                <a:ahLst/>
                <a:rect l="l" t="t" r="r" b="b"/>
                <a:pathLst>
                  <a:path w="39" h="169">
                    <a:moveTo>
                      <a:pt x="13" y="160"/>
                    </a:moveTo>
                    <a:lnTo>
                      <a:pt x="5" y="134"/>
                    </a:lnTo>
                    <a:lnTo>
                      <a:pt x="2" y="112"/>
                    </a:lnTo>
                    <a:lnTo>
                      <a:pt x="0" y="83"/>
                    </a:lnTo>
                    <a:lnTo>
                      <a:pt x="2" y="52"/>
                    </a:lnTo>
                    <a:lnTo>
                      <a:pt x="7" y="25"/>
                    </a:lnTo>
                    <a:lnTo>
                      <a:pt x="17" y="0"/>
                    </a:lnTo>
                    <a:lnTo>
                      <a:pt x="23" y="2"/>
                    </a:lnTo>
                    <a:lnTo>
                      <a:pt x="18" y="33"/>
                    </a:lnTo>
                    <a:lnTo>
                      <a:pt x="17" y="66"/>
                    </a:lnTo>
                    <a:lnTo>
                      <a:pt x="18" y="91"/>
                    </a:lnTo>
                    <a:lnTo>
                      <a:pt x="21" y="113"/>
                    </a:lnTo>
                    <a:lnTo>
                      <a:pt x="28" y="133"/>
                    </a:lnTo>
                    <a:lnTo>
                      <a:pt x="36" y="148"/>
                    </a:lnTo>
                    <a:lnTo>
                      <a:pt x="39" y="158"/>
                    </a:lnTo>
                    <a:lnTo>
                      <a:pt x="38" y="164"/>
                    </a:lnTo>
                    <a:lnTo>
                      <a:pt x="35" y="166"/>
                    </a:lnTo>
                    <a:lnTo>
                      <a:pt x="30" y="169"/>
                    </a:lnTo>
                    <a:lnTo>
                      <a:pt x="22" y="164"/>
                    </a:lnTo>
                    <a:lnTo>
                      <a:pt x="13" y="16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8066520" y="5859000"/>
                <a:ext cx="162360" cy="329760"/>
              </a:xfrm>
              <a:custGeom>
                <a:avLst/>
                <a:gdLst/>
                <a:ahLst/>
                <a:rect l="l" t="t" r="r" b="b"/>
                <a:pathLst>
                  <a:path w="95" h="208">
                    <a:moveTo>
                      <a:pt x="1" y="172"/>
                    </a:moveTo>
                    <a:lnTo>
                      <a:pt x="8" y="128"/>
                    </a:lnTo>
                    <a:lnTo>
                      <a:pt x="16" y="97"/>
                    </a:lnTo>
                    <a:lnTo>
                      <a:pt x="27" y="62"/>
                    </a:lnTo>
                    <a:lnTo>
                      <a:pt x="40" y="31"/>
                    </a:lnTo>
                    <a:lnTo>
                      <a:pt x="57" y="0"/>
                    </a:lnTo>
                    <a:lnTo>
                      <a:pt x="64" y="3"/>
                    </a:lnTo>
                    <a:lnTo>
                      <a:pt x="58" y="25"/>
                    </a:lnTo>
                    <a:lnTo>
                      <a:pt x="38" y="73"/>
                    </a:lnTo>
                    <a:lnTo>
                      <a:pt x="28" y="110"/>
                    </a:lnTo>
                    <a:lnTo>
                      <a:pt x="20" y="152"/>
                    </a:lnTo>
                    <a:lnTo>
                      <a:pt x="19" y="179"/>
                    </a:lnTo>
                    <a:lnTo>
                      <a:pt x="28" y="149"/>
                    </a:lnTo>
                    <a:lnTo>
                      <a:pt x="42" y="118"/>
                    </a:lnTo>
                    <a:lnTo>
                      <a:pt x="59" y="89"/>
                    </a:lnTo>
                    <a:lnTo>
                      <a:pt x="77" y="67"/>
                    </a:lnTo>
                    <a:lnTo>
                      <a:pt x="95" y="49"/>
                    </a:lnTo>
                    <a:lnTo>
                      <a:pt x="94" y="61"/>
                    </a:lnTo>
                    <a:lnTo>
                      <a:pt x="74" y="95"/>
                    </a:lnTo>
                    <a:lnTo>
                      <a:pt x="54" y="132"/>
                    </a:lnTo>
                    <a:lnTo>
                      <a:pt x="54" y="136"/>
                    </a:lnTo>
                    <a:lnTo>
                      <a:pt x="40" y="173"/>
                    </a:lnTo>
                    <a:lnTo>
                      <a:pt x="32" y="199"/>
                    </a:lnTo>
                    <a:lnTo>
                      <a:pt x="24" y="206"/>
                    </a:lnTo>
                    <a:lnTo>
                      <a:pt x="21" y="208"/>
                    </a:lnTo>
                    <a:lnTo>
                      <a:pt x="14" y="200"/>
                    </a:lnTo>
                    <a:lnTo>
                      <a:pt x="16" y="188"/>
                    </a:lnTo>
                    <a:lnTo>
                      <a:pt x="7" y="195"/>
                    </a:lnTo>
                    <a:lnTo>
                      <a:pt x="0" y="186"/>
                    </a:lnTo>
                    <a:lnTo>
                      <a:pt x="1" y="172"/>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620480" y="5863680"/>
                <a:ext cx="83520" cy="355320"/>
              </a:xfrm>
              <a:custGeom>
                <a:avLst/>
                <a:gdLst/>
                <a:ahLst/>
                <a:rect l="l" t="t" r="r" b="b"/>
                <a:pathLst>
                  <a:path w="49" h="224">
                    <a:moveTo>
                      <a:pt x="2" y="191"/>
                    </a:moveTo>
                    <a:lnTo>
                      <a:pt x="6" y="142"/>
                    </a:lnTo>
                    <a:lnTo>
                      <a:pt x="11" y="111"/>
                    </a:lnTo>
                    <a:lnTo>
                      <a:pt x="17" y="78"/>
                    </a:lnTo>
                    <a:lnTo>
                      <a:pt x="25" y="47"/>
                    </a:lnTo>
                    <a:lnTo>
                      <a:pt x="35" y="18"/>
                    </a:lnTo>
                    <a:lnTo>
                      <a:pt x="44" y="0"/>
                    </a:lnTo>
                    <a:lnTo>
                      <a:pt x="49" y="5"/>
                    </a:lnTo>
                    <a:lnTo>
                      <a:pt x="39" y="50"/>
                    </a:lnTo>
                    <a:lnTo>
                      <a:pt x="30" y="101"/>
                    </a:lnTo>
                    <a:lnTo>
                      <a:pt x="27" y="142"/>
                    </a:lnTo>
                    <a:lnTo>
                      <a:pt x="25" y="176"/>
                    </a:lnTo>
                    <a:lnTo>
                      <a:pt x="25" y="208"/>
                    </a:lnTo>
                    <a:lnTo>
                      <a:pt x="22" y="218"/>
                    </a:lnTo>
                    <a:lnTo>
                      <a:pt x="16" y="224"/>
                    </a:lnTo>
                    <a:lnTo>
                      <a:pt x="5" y="220"/>
                    </a:lnTo>
                    <a:lnTo>
                      <a:pt x="3" y="213"/>
                    </a:lnTo>
                    <a:lnTo>
                      <a:pt x="0" y="198"/>
                    </a:lnTo>
                    <a:lnTo>
                      <a:pt x="2" y="191"/>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379280" y="5900040"/>
                <a:ext cx="61560" cy="285480"/>
              </a:xfrm>
              <a:custGeom>
                <a:avLst/>
                <a:gdLst/>
                <a:ahLst/>
                <a:rect l="l" t="t" r="r" b="b"/>
                <a:pathLst>
                  <a:path w="36" h="180">
                    <a:moveTo>
                      <a:pt x="16" y="0"/>
                    </a:moveTo>
                    <a:lnTo>
                      <a:pt x="28" y="33"/>
                    </a:lnTo>
                    <a:lnTo>
                      <a:pt x="35" y="62"/>
                    </a:lnTo>
                    <a:lnTo>
                      <a:pt x="36" y="93"/>
                    </a:lnTo>
                    <a:lnTo>
                      <a:pt x="35" y="122"/>
                    </a:lnTo>
                    <a:lnTo>
                      <a:pt x="29" y="151"/>
                    </a:lnTo>
                    <a:lnTo>
                      <a:pt x="22" y="170"/>
                    </a:lnTo>
                    <a:lnTo>
                      <a:pt x="13" y="180"/>
                    </a:lnTo>
                    <a:lnTo>
                      <a:pt x="5" y="178"/>
                    </a:lnTo>
                    <a:lnTo>
                      <a:pt x="0" y="170"/>
                    </a:lnTo>
                    <a:lnTo>
                      <a:pt x="1" y="159"/>
                    </a:lnTo>
                    <a:lnTo>
                      <a:pt x="8" y="145"/>
                    </a:lnTo>
                    <a:lnTo>
                      <a:pt x="17" y="124"/>
                    </a:lnTo>
                    <a:lnTo>
                      <a:pt x="21" y="99"/>
                    </a:lnTo>
                    <a:lnTo>
                      <a:pt x="22" y="75"/>
                    </a:lnTo>
                    <a:lnTo>
                      <a:pt x="21" y="51"/>
                    </a:lnTo>
                    <a:lnTo>
                      <a:pt x="17" y="32"/>
                    </a:lnTo>
                    <a:lnTo>
                      <a:pt x="13" y="10"/>
                    </a:lnTo>
                    <a:lnTo>
                      <a:pt x="16"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328160" y="5987520"/>
                <a:ext cx="44280" cy="228240"/>
              </a:xfrm>
              <a:custGeom>
                <a:avLst/>
                <a:gdLst/>
                <a:ahLst/>
                <a:rect l="l" t="t" r="r" b="b"/>
                <a:pathLst>
                  <a:path w="26" h="144">
                    <a:moveTo>
                      <a:pt x="13" y="0"/>
                    </a:moveTo>
                    <a:lnTo>
                      <a:pt x="23" y="24"/>
                    </a:lnTo>
                    <a:lnTo>
                      <a:pt x="26" y="51"/>
                    </a:lnTo>
                    <a:lnTo>
                      <a:pt x="25" y="77"/>
                    </a:lnTo>
                    <a:lnTo>
                      <a:pt x="22" y="105"/>
                    </a:lnTo>
                    <a:lnTo>
                      <a:pt x="18" y="130"/>
                    </a:lnTo>
                    <a:lnTo>
                      <a:pt x="14" y="144"/>
                    </a:lnTo>
                    <a:lnTo>
                      <a:pt x="4" y="144"/>
                    </a:lnTo>
                    <a:lnTo>
                      <a:pt x="0" y="135"/>
                    </a:lnTo>
                    <a:lnTo>
                      <a:pt x="0" y="122"/>
                    </a:lnTo>
                    <a:lnTo>
                      <a:pt x="4" y="98"/>
                    </a:lnTo>
                    <a:lnTo>
                      <a:pt x="9" y="65"/>
                    </a:lnTo>
                    <a:lnTo>
                      <a:pt x="11" y="34"/>
                    </a:lnTo>
                    <a:lnTo>
                      <a:pt x="11" y="9"/>
                    </a:lnTo>
                    <a:lnTo>
                      <a:pt x="13"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7187760" y="5928840"/>
                <a:ext cx="114480" cy="275760"/>
              </a:xfrm>
              <a:custGeom>
                <a:avLst/>
                <a:gdLst/>
                <a:ahLst/>
                <a:rect l="l" t="t" r="r" b="b"/>
                <a:pathLst>
                  <a:path w="67" h="174">
                    <a:moveTo>
                      <a:pt x="35" y="0"/>
                    </a:moveTo>
                    <a:lnTo>
                      <a:pt x="44" y="33"/>
                    </a:lnTo>
                    <a:lnTo>
                      <a:pt x="46" y="69"/>
                    </a:lnTo>
                    <a:lnTo>
                      <a:pt x="40" y="108"/>
                    </a:lnTo>
                    <a:lnTo>
                      <a:pt x="33" y="136"/>
                    </a:lnTo>
                    <a:lnTo>
                      <a:pt x="36" y="100"/>
                    </a:lnTo>
                    <a:lnTo>
                      <a:pt x="29" y="73"/>
                    </a:lnTo>
                    <a:lnTo>
                      <a:pt x="17" y="48"/>
                    </a:lnTo>
                    <a:lnTo>
                      <a:pt x="4" y="36"/>
                    </a:lnTo>
                    <a:lnTo>
                      <a:pt x="0" y="44"/>
                    </a:lnTo>
                    <a:lnTo>
                      <a:pt x="16" y="77"/>
                    </a:lnTo>
                    <a:lnTo>
                      <a:pt x="21" y="103"/>
                    </a:lnTo>
                    <a:lnTo>
                      <a:pt x="19" y="128"/>
                    </a:lnTo>
                    <a:lnTo>
                      <a:pt x="12" y="158"/>
                    </a:lnTo>
                    <a:lnTo>
                      <a:pt x="17" y="170"/>
                    </a:lnTo>
                    <a:lnTo>
                      <a:pt x="28" y="174"/>
                    </a:lnTo>
                    <a:lnTo>
                      <a:pt x="36" y="162"/>
                    </a:lnTo>
                    <a:lnTo>
                      <a:pt x="44" y="169"/>
                    </a:lnTo>
                    <a:lnTo>
                      <a:pt x="58" y="166"/>
                    </a:lnTo>
                    <a:lnTo>
                      <a:pt x="64" y="150"/>
                    </a:lnTo>
                    <a:lnTo>
                      <a:pt x="67" y="126"/>
                    </a:lnTo>
                    <a:lnTo>
                      <a:pt x="64" y="83"/>
                    </a:lnTo>
                    <a:lnTo>
                      <a:pt x="56" y="37"/>
                    </a:lnTo>
                    <a:lnTo>
                      <a:pt x="43" y="0"/>
                    </a:lnTo>
                    <a:lnTo>
                      <a:pt x="35"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7553520" y="5994000"/>
                <a:ext cx="74880" cy="221760"/>
              </a:xfrm>
              <a:custGeom>
                <a:avLst/>
                <a:gdLst/>
                <a:ahLst/>
                <a:rect l="l" t="t" r="r" b="b"/>
                <a:pathLst>
                  <a:path w="44" h="140">
                    <a:moveTo>
                      <a:pt x="0" y="0"/>
                    </a:moveTo>
                    <a:lnTo>
                      <a:pt x="17" y="20"/>
                    </a:lnTo>
                    <a:lnTo>
                      <a:pt x="28" y="45"/>
                    </a:lnTo>
                    <a:lnTo>
                      <a:pt x="35" y="71"/>
                    </a:lnTo>
                    <a:lnTo>
                      <a:pt x="40" y="98"/>
                    </a:lnTo>
                    <a:lnTo>
                      <a:pt x="44" y="122"/>
                    </a:lnTo>
                    <a:lnTo>
                      <a:pt x="44" y="138"/>
                    </a:lnTo>
                    <a:lnTo>
                      <a:pt x="34" y="140"/>
                    </a:lnTo>
                    <a:lnTo>
                      <a:pt x="28" y="133"/>
                    </a:lnTo>
                    <a:lnTo>
                      <a:pt x="24" y="121"/>
                    </a:lnTo>
                    <a:lnTo>
                      <a:pt x="21" y="97"/>
                    </a:lnTo>
                    <a:lnTo>
                      <a:pt x="15" y="64"/>
                    </a:lnTo>
                    <a:lnTo>
                      <a:pt x="8" y="33"/>
                    </a:lnTo>
                    <a:lnTo>
                      <a:pt x="1" y="9"/>
                    </a:lnTo>
                    <a:lnTo>
                      <a:pt x="0"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794720" y="5979600"/>
                <a:ext cx="163800" cy="228240"/>
              </a:xfrm>
              <a:custGeom>
                <a:avLst/>
                <a:gdLst/>
                <a:ahLst/>
                <a:rect l="l" t="t" r="r" b="b"/>
                <a:pathLst>
                  <a:path w="96" h="144">
                    <a:moveTo>
                      <a:pt x="17" y="3"/>
                    </a:moveTo>
                    <a:lnTo>
                      <a:pt x="36" y="26"/>
                    </a:lnTo>
                    <a:lnTo>
                      <a:pt x="51" y="54"/>
                    </a:lnTo>
                    <a:lnTo>
                      <a:pt x="60" y="87"/>
                    </a:lnTo>
                    <a:lnTo>
                      <a:pt x="62" y="112"/>
                    </a:lnTo>
                    <a:lnTo>
                      <a:pt x="53" y="82"/>
                    </a:lnTo>
                    <a:lnTo>
                      <a:pt x="36" y="63"/>
                    </a:lnTo>
                    <a:lnTo>
                      <a:pt x="17" y="46"/>
                    </a:lnTo>
                    <a:lnTo>
                      <a:pt x="1" y="41"/>
                    </a:lnTo>
                    <a:lnTo>
                      <a:pt x="0" y="48"/>
                    </a:lnTo>
                    <a:lnTo>
                      <a:pt x="26" y="70"/>
                    </a:lnTo>
                    <a:lnTo>
                      <a:pt x="40" y="90"/>
                    </a:lnTo>
                    <a:lnTo>
                      <a:pt x="47" y="110"/>
                    </a:lnTo>
                    <a:lnTo>
                      <a:pt x="51" y="136"/>
                    </a:lnTo>
                    <a:lnTo>
                      <a:pt x="60" y="144"/>
                    </a:lnTo>
                    <a:lnTo>
                      <a:pt x="71" y="144"/>
                    </a:lnTo>
                    <a:lnTo>
                      <a:pt x="75" y="132"/>
                    </a:lnTo>
                    <a:lnTo>
                      <a:pt x="84" y="135"/>
                    </a:lnTo>
                    <a:lnTo>
                      <a:pt x="96" y="129"/>
                    </a:lnTo>
                    <a:lnTo>
                      <a:pt x="96" y="113"/>
                    </a:lnTo>
                    <a:lnTo>
                      <a:pt x="91" y="93"/>
                    </a:lnTo>
                    <a:lnTo>
                      <a:pt x="72" y="59"/>
                    </a:lnTo>
                    <a:lnTo>
                      <a:pt x="49" y="26"/>
                    </a:lnTo>
                    <a:lnTo>
                      <a:pt x="24" y="0"/>
                    </a:lnTo>
                    <a:lnTo>
                      <a:pt x="17" y="3"/>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7673400" y="5852520"/>
                <a:ext cx="83520" cy="356760"/>
              </a:xfrm>
              <a:custGeom>
                <a:avLst/>
                <a:gdLst/>
                <a:ahLst/>
                <a:rect l="l" t="t" r="r" b="b"/>
                <a:pathLst>
                  <a:path w="49" h="225">
                    <a:moveTo>
                      <a:pt x="2" y="191"/>
                    </a:moveTo>
                    <a:lnTo>
                      <a:pt x="6" y="142"/>
                    </a:lnTo>
                    <a:lnTo>
                      <a:pt x="11" y="111"/>
                    </a:lnTo>
                    <a:lnTo>
                      <a:pt x="17" y="77"/>
                    </a:lnTo>
                    <a:lnTo>
                      <a:pt x="25" y="46"/>
                    </a:lnTo>
                    <a:lnTo>
                      <a:pt x="35" y="18"/>
                    </a:lnTo>
                    <a:lnTo>
                      <a:pt x="44" y="0"/>
                    </a:lnTo>
                    <a:lnTo>
                      <a:pt x="49" y="4"/>
                    </a:lnTo>
                    <a:lnTo>
                      <a:pt x="39" y="50"/>
                    </a:lnTo>
                    <a:lnTo>
                      <a:pt x="30" y="101"/>
                    </a:lnTo>
                    <a:lnTo>
                      <a:pt x="27" y="142"/>
                    </a:lnTo>
                    <a:lnTo>
                      <a:pt x="25" y="176"/>
                    </a:lnTo>
                    <a:lnTo>
                      <a:pt x="25" y="208"/>
                    </a:lnTo>
                    <a:lnTo>
                      <a:pt x="22" y="218"/>
                    </a:lnTo>
                    <a:lnTo>
                      <a:pt x="16" y="225"/>
                    </a:lnTo>
                    <a:lnTo>
                      <a:pt x="5" y="221"/>
                    </a:lnTo>
                    <a:lnTo>
                      <a:pt x="3" y="213"/>
                    </a:lnTo>
                    <a:lnTo>
                      <a:pt x="0" y="199"/>
                    </a:lnTo>
                    <a:lnTo>
                      <a:pt x="2" y="191"/>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915960" y="5941440"/>
                <a:ext cx="153720" cy="269640"/>
              </a:xfrm>
              <a:custGeom>
                <a:avLst/>
                <a:gdLst/>
                <a:ahLst/>
                <a:rect l="l" t="t" r="r" b="b"/>
                <a:pathLst>
                  <a:path w="90" h="170">
                    <a:moveTo>
                      <a:pt x="81" y="148"/>
                    </a:moveTo>
                    <a:lnTo>
                      <a:pt x="88" y="112"/>
                    </a:lnTo>
                    <a:lnTo>
                      <a:pt x="90" y="86"/>
                    </a:lnTo>
                    <a:lnTo>
                      <a:pt x="88" y="57"/>
                    </a:lnTo>
                    <a:lnTo>
                      <a:pt x="83" y="28"/>
                    </a:lnTo>
                    <a:lnTo>
                      <a:pt x="71" y="0"/>
                    </a:lnTo>
                    <a:lnTo>
                      <a:pt x="60" y="0"/>
                    </a:lnTo>
                    <a:lnTo>
                      <a:pt x="60" y="19"/>
                    </a:lnTo>
                    <a:lnTo>
                      <a:pt x="69" y="61"/>
                    </a:lnTo>
                    <a:lnTo>
                      <a:pt x="69" y="93"/>
                    </a:lnTo>
                    <a:lnTo>
                      <a:pt x="65" y="128"/>
                    </a:lnTo>
                    <a:lnTo>
                      <a:pt x="56" y="148"/>
                    </a:lnTo>
                    <a:lnTo>
                      <a:pt x="55" y="123"/>
                    </a:lnTo>
                    <a:lnTo>
                      <a:pt x="47" y="95"/>
                    </a:lnTo>
                    <a:lnTo>
                      <a:pt x="36" y="68"/>
                    </a:lnTo>
                    <a:lnTo>
                      <a:pt x="20" y="45"/>
                    </a:lnTo>
                    <a:lnTo>
                      <a:pt x="4" y="26"/>
                    </a:lnTo>
                    <a:lnTo>
                      <a:pt x="0" y="36"/>
                    </a:lnTo>
                    <a:lnTo>
                      <a:pt x="14" y="68"/>
                    </a:lnTo>
                    <a:lnTo>
                      <a:pt x="27" y="102"/>
                    </a:lnTo>
                    <a:lnTo>
                      <a:pt x="25" y="106"/>
                    </a:lnTo>
                    <a:lnTo>
                      <a:pt x="30" y="137"/>
                    </a:lnTo>
                    <a:lnTo>
                      <a:pt x="31" y="160"/>
                    </a:lnTo>
                    <a:lnTo>
                      <a:pt x="38" y="168"/>
                    </a:lnTo>
                    <a:lnTo>
                      <a:pt x="42" y="170"/>
                    </a:lnTo>
                    <a:lnTo>
                      <a:pt x="55" y="166"/>
                    </a:lnTo>
                    <a:lnTo>
                      <a:pt x="57" y="156"/>
                    </a:lnTo>
                    <a:lnTo>
                      <a:pt x="65" y="165"/>
                    </a:lnTo>
                    <a:lnTo>
                      <a:pt x="79" y="159"/>
                    </a:lnTo>
                    <a:lnTo>
                      <a:pt x="81" y="14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904160" y="5794200"/>
                <a:ext cx="153720" cy="396360"/>
              </a:xfrm>
              <a:custGeom>
                <a:avLst/>
                <a:gdLst/>
                <a:ahLst/>
                <a:rect l="l" t="t" r="r" b="b"/>
                <a:pathLst>
                  <a:path w="90" h="250">
                    <a:moveTo>
                      <a:pt x="81" y="218"/>
                    </a:moveTo>
                    <a:lnTo>
                      <a:pt x="89" y="165"/>
                    </a:lnTo>
                    <a:lnTo>
                      <a:pt x="90" y="127"/>
                    </a:lnTo>
                    <a:lnTo>
                      <a:pt x="89" y="83"/>
                    </a:lnTo>
                    <a:lnTo>
                      <a:pt x="83" y="42"/>
                    </a:lnTo>
                    <a:lnTo>
                      <a:pt x="71" y="0"/>
                    </a:lnTo>
                    <a:lnTo>
                      <a:pt x="60" y="0"/>
                    </a:lnTo>
                    <a:lnTo>
                      <a:pt x="60" y="27"/>
                    </a:lnTo>
                    <a:lnTo>
                      <a:pt x="69" y="90"/>
                    </a:lnTo>
                    <a:lnTo>
                      <a:pt x="69" y="136"/>
                    </a:lnTo>
                    <a:lnTo>
                      <a:pt x="65" y="187"/>
                    </a:lnTo>
                    <a:lnTo>
                      <a:pt x="56" y="218"/>
                    </a:lnTo>
                    <a:lnTo>
                      <a:pt x="55" y="181"/>
                    </a:lnTo>
                    <a:lnTo>
                      <a:pt x="47" y="139"/>
                    </a:lnTo>
                    <a:lnTo>
                      <a:pt x="36" y="99"/>
                    </a:lnTo>
                    <a:lnTo>
                      <a:pt x="20" y="66"/>
                    </a:lnTo>
                    <a:lnTo>
                      <a:pt x="3" y="38"/>
                    </a:lnTo>
                    <a:lnTo>
                      <a:pt x="0" y="53"/>
                    </a:lnTo>
                    <a:lnTo>
                      <a:pt x="13" y="99"/>
                    </a:lnTo>
                    <a:lnTo>
                      <a:pt x="26" y="151"/>
                    </a:lnTo>
                    <a:lnTo>
                      <a:pt x="25" y="155"/>
                    </a:lnTo>
                    <a:lnTo>
                      <a:pt x="30" y="202"/>
                    </a:lnTo>
                    <a:lnTo>
                      <a:pt x="31" y="236"/>
                    </a:lnTo>
                    <a:lnTo>
                      <a:pt x="38" y="247"/>
                    </a:lnTo>
                    <a:lnTo>
                      <a:pt x="42" y="250"/>
                    </a:lnTo>
                    <a:lnTo>
                      <a:pt x="55" y="244"/>
                    </a:lnTo>
                    <a:lnTo>
                      <a:pt x="57" y="229"/>
                    </a:lnTo>
                    <a:lnTo>
                      <a:pt x="65" y="242"/>
                    </a:lnTo>
                    <a:lnTo>
                      <a:pt x="79" y="234"/>
                    </a:lnTo>
                    <a:lnTo>
                      <a:pt x="81" y="218"/>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6"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grpSp>
        <p:nvGrpSpPr>
          <p:cNvPr id="547" name=""/>
          <p:cNvGrpSpPr/>
          <p:nvPr/>
        </p:nvGrpSpPr>
        <p:grpSpPr>
          <a:xfrm>
            <a:off x="1247400" y="2070000"/>
            <a:ext cx="7438320" cy="1297800"/>
            <a:chOff x="1247400" y="2070000"/>
            <a:chExt cx="7438320" cy="1297800"/>
          </a:xfrm>
        </p:grpSpPr>
        <p:sp>
          <p:nvSpPr>
            <p:cNvPr id="548" name=""/>
            <p:cNvSpPr/>
            <p:nvPr/>
          </p:nvSpPr>
          <p:spPr>
            <a:xfrm>
              <a:off x="1247400" y="2603520"/>
              <a:ext cx="7438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Negative numbers </a:t>
              </a:r>
              <a:r>
                <a:rPr b="0" lang="en-US" sz="4400" spc="-1" strike="noStrike">
                  <a:solidFill>
                    <a:srgbClr val="cc0000"/>
                  </a:solidFill>
                  <a:latin typeface="Comic Sans MS"/>
                </a:rPr>
                <a:t>&lt;-</a:t>
              </a:r>
              <a:r>
                <a:rPr b="0" lang="en-US" sz="3200" spc="-1" strike="noStrike">
                  <a:solidFill>
                    <a:srgbClr val="cc0000"/>
                  </a:solidFill>
                  <a:latin typeface="Comic Sans MS"/>
                </a:rPr>
                <a:t> Steps backward</a:t>
              </a:r>
              <a:endParaRPr b="0" lang="en-US" sz="3200" spc="-1" strike="noStrike">
                <a:solidFill>
                  <a:srgbClr val="000000"/>
                </a:solidFill>
                <a:latin typeface="Times New Roman"/>
              </a:endParaRPr>
            </a:p>
          </p:txBody>
        </p:sp>
        <p:sp>
          <p:nvSpPr>
            <p:cNvPr id="549" name=""/>
            <p:cNvSpPr/>
            <p:nvPr/>
          </p:nvSpPr>
          <p:spPr>
            <a:xfrm>
              <a:off x="1280880" y="2070000"/>
              <a:ext cx="6877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Positive numbers </a:t>
              </a:r>
              <a:r>
                <a:rPr b="0" lang="en-US" sz="4400" spc="-1" strike="noStrike">
                  <a:solidFill>
                    <a:srgbClr val="3333cc"/>
                  </a:solidFill>
                  <a:latin typeface="Comic Sans MS"/>
                </a:rPr>
                <a:t>-&gt;</a:t>
              </a:r>
              <a:r>
                <a:rPr b="0" lang="en-US" sz="3200" spc="-1" strike="noStrike">
                  <a:solidFill>
                    <a:srgbClr val="3333cc"/>
                  </a:solidFill>
                  <a:latin typeface="Comic Sans MS"/>
                </a:rPr>
                <a:t> Steps forward</a:t>
              </a:r>
              <a:endParaRPr b="0" lang="en-US" sz="3200" spc="-1" strike="noStrike">
                <a:solidFill>
                  <a:srgbClr val="000000"/>
                </a:solidFill>
                <a:latin typeface="Times New Roman"/>
              </a:endParaRPr>
            </a:p>
          </p:txBody>
        </p:sp>
      </p:grpSp>
      <p:sp>
        <p:nvSpPr>
          <p:cNvPr id="550" name=""/>
          <p:cNvSpPr/>
          <p:nvPr/>
        </p:nvSpPr>
        <p:spPr>
          <a:xfrm>
            <a:off x="7064640" y="4906800"/>
            <a:ext cx="94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33cc"/>
                </a:solidFill>
                <a:latin typeface="Comic Sans MS"/>
              </a:rPr>
              <a:t>+ </a:t>
            </a:r>
            <a:endParaRPr b="0" lang="en-US" sz="7200" spc="-1" strike="noStrike">
              <a:solidFill>
                <a:srgbClr val="000000"/>
              </a:solidFill>
              <a:latin typeface="Times New Roman"/>
            </a:endParaRPr>
          </a:p>
        </p:txBody>
      </p:sp>
      <p:sp>
        <p:nvSpPr>
          <p:cNvPr id="551" name=""/>
          <p:cNvSpPr/>
          <p:nvPr/>
        </p:nvSpPr>
        <p:spPr>
          <a:xfrm>
            <a:off x="1384920" y="4876920"/>
            <a:ext cx="474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0000"/>
                </a:solidFill>
                <a:latin typeface="Comic Sans MS"/>
              </a:rPr>
              <a:t>-</a:t>
            </a:r>
            <a:endParaRPr b="0" lang="en-US" sz="7200" spc="-1" strike="noStrike">
              <a:solidFill>
                <a:srgbClr val="000000"/>
              </a:solidFill>
              <a:latin typeface="Times New Roman"/>
            </a:endParaRPr>
          </a:p>
        </p:txBody>
      </p:sp>
      <p:sp>
        <p:nvSpPr>
          <p:cNvPr id="552" name=""/>
          <p:cNvSpPr/>
          <p:nvPr/>
        </p:nvSpPr>
        <p:spPr>
          <a:xfrm>
            <a:off x="7772400" y="54864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H="1">
            <a:off x="761760" y="556272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4" name=""/>
          <p:cNvGrpSpPr/>
          <p:nvPr/>
        </p:nvGrpSpPr>
        <p:grpSpPr>
          <a:xfrm>
            <a:off x="1408680" y="3581280"/>
            <a:ext cx="6273720" cy="1295640"/>
            <a:chOff x="1408680" y="3581280"/>
            <a:chExt cx="6273720" cy="1295640"/>
          </a:xfrm>
        </p:grpSpPr>
        <p:sp>
          <p:nvSpPr>
            <p:cNvPr id="555" name=""/>
            <p:cNvSpPr/>
            <p:nvPr/>
          </p:nvSpPr>
          <p:spPr>
            <a:xfrm>
              <a:off x="1461600" y="3584520"/>
              <a:ext cx="586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Addition               Face forward</a:t>
              </a:r>
              <a:endParaRPr b="0" lang="en-US" sz="3200" spc="-1" strike="noStrike">
                <a:solidFill>
                  <a:srgbClr val="000000"/>
                </a:solidFill>
                <a:latin typeface="Times New Roman"/>
              </a:endParaRPr>
            </a:p>
          </p:txBody>
        </p:sp>
        <p:sp>
          <p:nvSpPr>
            <p:cNvPr id="556" name=""/>
            <p:cNvSpPr/>
            <p:nvPr/>
          </p:nvSpPr>
          <p:spPr>
            <a:xfrm>
              <a:off x="1408680" y="4270320"/>
              <a:ext cx="6273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omic Sans MS"/>
                </a:rPr>
                <a:t>Subtraction          Face backward</a:t>
              </a:r>
              <a:endParaRPr b="0" lang="en-US" sz="3200" spc="-1" strike="noStrike">
                <a:solidFill>
                  <a:srgbClr val="000000"/>
                </a:solidFill>
                <a:latin typeface="Times New Roman"/>
              </a:endParaRPr>
            </a:p>
          </p:txBody>
        </p:sp>
        <p:pic>
          <p:nvPicPr>
            <p:cNvPr id="557" name="" descr=""/>
            <p:cNvPicPr/>
            <p:nvPr/>
          </p:nvPicPr>
          <p:blipFill>
            <a:blip r:embed="rId55"/>
            <a:stretch/>
          </p:blipFill>
          <p:spPr>
            <a:xfrm>
              <a:off x="3962520" y="4191120"/>
              <a:ext cx="669960" cy="685800"/>
            </a:xfrm>
            <a:prstGeom prst="rect">
              <a:avLst/>
            </a:prstGeom>
            <a:ln w="0">
              <a:noFill/>
            </a:ln>
          </p:spPr>
        </p:pic>
        <p:pic>
          <p:nvPicPr>
            <p:cNvPr id="558" name="" descr=""/>
            <p:cNvPicPr/>
            <p:nvPr/>
          </p:nvPicPr>
          <p:blipFill>
            <a:blip r:embed="rId56"/>
            <a:stretch/>
          </p:blipFill>
          <p:spPr>
            <a:xfrm>
              <a:off x="3276720" y="3581280"/>
              <a:ext cx="628560" cy="685800"/>
            </a:xfrm>
            <a:prstGeom prst="rect">
              <a:avLst/>
            </a:prstGeom>
            <a:ln w="0">
              <a:noFill/>
            </a:ln>
          </p:spPr>
        </p:pic>
      </p:grpSp>
    </p:spTree>
  </p:cSld>
  <p:transition>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395"/>
                                        </p:tgtEl>
                                        <p:attrNameLst>
                                          <p:attrName>style.visibility</p:attrName>
                                        </p:attrNameLst>
                                      </p:cBhvr>
                                      <p:to>
                                        <p:strVal val="visible"/>
                                      </p:to>
                                    </p:set>
                                    <p:animEffect filter="dissolve" transition="in">
                                      <p:cBhvr additive="repl">
                                        <p:cTn id="172" dur="500"/>
                                        <p:tgtEl>
                                          <p:spTgt spid="39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547"/>
                                        </p:tgtEl>
                                        <p:attrNameLst>
                                          <p:attrName>style.visibility</p:attrName>
                                        </p:attrNameLst>
                                      </p:cBhvr>
                                      <p:to>
                                        <p:strVal val="visible"/>
                                      </p:to>
                                    </p:set>
                                    <p:animEffect filter="wipe(left)" transition="in">
                                      <p:cBhvr additive="repl">
                                        <p:cTn id="177" dur="500"/>
                                        <p:tgtEl>
                                          <p:spTgt spid="547"/>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554"/>
                                        </p:tgtEl>
                                        <p:attrNameLst>
                                          <p:attrName>style.visibility</p:attrName>
                                        </p:attrNameLst>
                                      </p:cBhvr>
                                      <p:to>
                                        <p:strVal val="visible"/>
                                      </p:to>
                                    </p:set>
                                    <p:animEffect filter="wipe(left)" transition="in">
                                      <p:cBhvr additive="repl">
                                        <p:cTn id="182" dur="5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559" name=""/>
          <p:cNvSpPr/>
          <p:nvPr/>
        </p:nvSpPr>
        <p:spPr>
          <a:xfrm>
            <a:off x="1999800" y="1523880"/>
            <a:ext cx="48682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Comic Sans MS"/>
              </a:rPr>
              <a:t>3</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2)</a:t>
            </a:r>
            <a:r>
              <a:rPr b="0" lang="en-US" sz="8000" spc="-1" strike="noStrike">
                <a:solidFill>
                  <a:srgbClr val="000000"/>
                </a:solidFill>
                <a:latin typeface="Comic Sans MS"/>
              </a:rPr>
              <a:t> = ?</a:t>
            </a:r>
            <a:endParaRPr b="0" lang="en-US" sz="8000" spc="-1" strike="noStrike">
              <a:solidFill>
                <a:srgbClr val="000000"/>
              </a:solidFill>
              <a:latin typeface="Times New Roman"/>
            </a:endParaRPr>
          </a:p>
        </p:txBody>
      </p:sp>
      <p:grpSp>
        <p:nvGrpSpPr>
          <p:cNvPr id="560" name=""/>
          <p:cNvGrpSpPr/>
          <p:nvPr/>
        </p:nvGrpSpPr>
        <p:grpSpPr>
          <a:xfrm>
            <a:off x="3809880" y="4135320"/>
            <a:ext cx="1287360" cy="1046160"/>
            <a:chOff x="3809880" y="4135320"/>
            <a:chExt cx="1287360" cy="1046160"/>
          </a:xfrm>
        </p:grpSpPr>
        <p:sp>
          <p:nvSpPr>
            <p:cNvPr id="561" name=""/>
            <p:cNvSpPr/>
            <p:nvPr/>
          </p:nvSpPr>
          <p:spPr>
            <a:xfrm>
              <a:off x="4181400" y="4135320"/>
              <a:ext cx="33480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368600" y="4398840"/>
              <a:ext cx="27936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447800" y="4216320"/>
              <a:ext cx="62712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809880" y="4199040"/>
              <a:ext cx="62208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870000" y="4794120"/>
              <a:ext cx="6638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492440" y="4678200"/>
              <a:ext cx="60480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
          <p:cNvGrpSpPr/>
          <p:nvPr/>
        </p:nvGrpSpPr>
        <p:grpSpPr>
          <a:xfrm>
            <a:off x="1066680" y="4876920"/>
            <a:ext cx="7010640" cy="1068120"/>
            <a:chOff x="1066680" y="4876920"/>
            <a:chExt cx="7010640" cy="1068120"/>
          </a:xfrm>
        </p:grpSpPr>
        <p:sp>
          <p:nvSpPr>
            <p:cNvPr id="568"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581"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582"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583"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584"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585"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586"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587"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588"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589"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590"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grpSp>
        <p:nvGrpSpPr>
          <p:cNvPr id="591" name=""/>
          <p:cNvGrpSpPr/>
          <p:nvPr/>
        </p:nvGrpSpPr>
        <p:grpSpPr>
          <a:xfrm>
            <a:off x="1752480" y="1447920"/>
            <a:ext cx="5105520" cy="3733560"/>
            <a:chOff x="1752480" y="1447920"/>
            <a:chExt cx="5105520" cy="3733560"/>
          </a:xfrm>
        </p:grpSpPr>
        <p:grpSp>
          <p:nvGrpSpPr>
            <p:cNvPr id="592" name=""/>
            <p:cNvGrpSpPr/>
            <p:nvPr/>
          </p:nvGrpSpPr>
          <p:grpSpPr>
            <a:xfrm>
              <a:off x="5570640" y="4135320"/>
              <a:ext cx="1287360" cy="1046160"/>
              <a:chOff x="5570640" y="4135320"/>
              <a:chExt cx="1287360" cy="1046160"/>
            </a:xfrm>
          </p:grpSpPr>
          <p:sp>
            <p:nvSpPr>
              <p:cNvPr id="593" name=""/>
              <p:cNvSpPr/>
              <p:nvPr/>
            </p:nvSpPr>
            <p:spPr>
              <a:xfrm>
                <a:off x="5942160" y="4135320"/>
                <a:ext cx="33480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29360" y="4398840"/>
                <a:ext cx="27936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208560" y="4216320"/>
                <a:ext cx="62712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70640" y="4199040"/>
                <a:ext cx="62208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630760" y="4794120"/>
                <a:ext cx="6638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253200" y="4678200"/>
                <a:ext cx="60480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
            <p:cNvSpPr/>
            <p:nvPr/>
          </p:nvSpPr>
          <p:spPr>
            <a:xfrm>
              <a:off x="1752480" y="1447920"/>
              <a:ext cx="838440" cy="1447560"/>
            </a:xfrm>
            <a:prstGeom prst="ellipse">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0" name=""/>
          <p:cNvGrpSpPr/>
          <p:nvPr/>
        </p:nvGrpSpPr>
        <p:grpSpPr>
          <a:xfrm>
            <a:off x="2666880" y="1447920"/>
            <a:ext cx="4800600" cy="3733560"/>
            <a:chOff x="2666880" y="1447920"/>
            <a:chExt cx="4800600" cy="3733560"/>
          </a:xfrm>
        </p:grpSpPr>
        <p:grpSp>
          <p:nvGrpSpPr>
            <p:cNvPr id="601" name=""/>
            <p:cNvGrpSpPr/>
            <p:nvPr/>
          </p:nvGrpSpPr>
          <p:grpSpPr>
            <a:xfrm>
              <a:off x="6096240" y="4135320"/>
              <a:ext cx="1371240" cy="1046160"/>
              <a:chOff x="6096240" y="4135320"/>
              <a:chExt cx="1371240" cy="1046160"/>
            </a:xfrm>
          </p:grpSpPr>
          <p:sp>
            <p:nvSpPr>
              <p:cNvPr id="602" name=""/>
              <p:cNvSpPr/>
              <p:nvPr/>
            </p:nvSpPr>
            <p:spPr>
              <a:xfrm flipH="1">
                <a:off x="6715440" y="4135320"/>
                <a:ext cx="35640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H="1">
                <a:off x="6575040" y="4398840"/>
                <a:ext cx="29736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H="1">
                <a:off x="6120000" y="4216320"/>
                <a:ext cx="66780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flipH="1">
                <a:off x="6804360" y="4199040"/>
                <a:ext cx="66276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flipH="1">
                <a:off x="6696720" y="4794120"/>
                <a:ext cx="7070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H="1">
                <a:off x="6095880" y="4678200"/>
                <a:ext cx="64404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2666880" y="1447920"/>
              <a:ext cx="762120" cy="1447560"/>
            </a:xfrm>
            <a:prstGeom prst="ellipse">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9" name=""/>
          <p:cNvGrpSpPr/>
          <p:nvPr/>
        </p:nvGrpSpPr>
        <p:grpSpPr>
          <a:xfrm>
            <a:off x="3505320" y="1295280"/>
            <a:ext cx="5181480" cy="3886200"/>
            <a:chOff x="3505320" y="1295280"/>
            <a:chExt cx="5181480" cy="3886200"/>
          </a:xfrm>
        </p:grpSpPr>
        <p:grpSp>
          <p:nvGrpSpPr>
            <p:cNvPr id="610" name=""/>
            <p:cNvGrpSpPr/>
            <p:nvPr/>
          </p:nvGrpSpPr>
          <p:grpSpPr>
            <a:xfrm>
              <a:off x="7315560" y="4135320"/>
              <a:ext cx="1371240" cy="1046160"/>
              <a:chOff x="7315560" y="4135320"/>
              <a:chExt cx="1371240" cy="1046160"/>
            </a:xfrm>
          </p:grpSpPr>
          <p:sp>
            <p:nvSpPr>
              <p:cNvPr id="611" name=""/>
              <p:cNvSpPr/>
              <p:nvPr/>
            </p:nvSpPr>
            <p:spPr>
              <a:xfrm flipH="1">
                <a:off x="7934760" y="4135320"/>
                <a:ext cx="35640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flipH="1">
                <a:off x="7794360" y="4398840"/>
                <a:ext cx="29736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flipH="1">
                <a:off x="7339320" y="4216320"/>
                <a:ext cx="66780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H="1">
                <a:off x="8023680" y="4199040"/>
                <a:ext cx="66276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H="1">
                <a:off x="7916040" y="4794120"/>
                <a:ext cx="7070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a:off x="7315200" y="4678200"/>
                <a:ext cx="64404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
            <p:cNvSpPr/>
            <p:nvPr/>
          </p:nvSpPr>
          <p:spPr>
            <a:xfrm>
              <a:off x="3505320" y="1295280"/>
              <a:ext cx="2057400" cy="1981440"/>
            </a:xfrm>
            <a:prstGeom prst="ellipse">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8" name=""/>
          <p:cNvGrpSpPr/>
          <p:nvPr/>
        </p:nvGrpSpPr>
        <p:grpSpPr>
          <a:xfrm>
            <a:off x="6172200" y="1600200"/>
            <a:ext cx="2514600" cy="3560760"/>
            <a:chOff x="6172200" y="1600200"/>
            <a:chExt cx="2514600" cy="3560760"/>
          </a:xfrm>
        </p:grpSpPr>
        <p:grpSp>
          <p:nvGrpSpPr>
            <p:cNvPr id="619" name=""/>
            <p:cNvGrpSpPr/>
            <p:nvPr/>
          </p:nvGrpSpPr>
          <p:grpSpPr>
            <a:xfrm>
              <a:off x="6172200" y="1600200"/>
              <a:ext cx="1295280" cy="1312920"/>
              <a:chOff x="6172200" y="1600200"/>
              <a:chExt cx="1295280" cy="1312920"/>
            </a:xfrm>
          </p:grpSpPr>
          <p:pic>
            <p:nvPicPr>
              <p:cNvPr id="620" name="" descr=""/>
              <p:cNvPicPr/>
              <p:nvPr/>
            </p:nvPicPr>
            <p:blipFill>
              <a:blip r:embed="rId1"/>
              <a:stretch/>
            </p:blipFill>
            <p:spPr>
              <a:xfrm>
                <a:off x="6172200" y="1676160"/>
                <a:ext cx="1295280" cy="1179000"/>
              </a:xfrm>
              <a:prstGeom prst="rect">
                <a:avLst/>
              </a:prstGeom>
              <a:ln w="0">
                <a:noFill/>
              </a:ln>
            </p:spPr>
          </p:pic>
          <p:sp>
            <p:nvSpPr>
              <p:cNvPr id="621" name=""/>
              <p:cNvSpPr/>
              <p:nvPr/>
            </p:nvSpPr>
            <p:spPr>
              <a:xfrm>
                <a:off x="6421680" y="160020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8000"/>
                    </a:solidFill>
                    <a:latin typeface="Comic Sans MS"/>
                  </a:rPr>
                  <a:t>5</a:t>
                </a:r>
                <a:endParaRPr b="0" lang="en-US" sz="8000" spc="-1" strike="noStrike">
                  <a:solidFill>
                    <a:srgbClr val="000000"/>
                  </a:solidFill>
                  <a:latin typeface="Times New Roman"/>
                </a:endParaRPr>
              </a:p>
            </p:txBody>
          </p:sp>
        </p:grpSp>
        <p:grpSp>
          <p:nvGrpSpPr>
            <p:cNvPr id="622" name=""/>
            <p:cNvGrpSpPr/>
            <p:nvPr/>
          </p:nvGrpSpPr>
          <p:grpSpPr>
            <a:xfrm>
              <a:off x="7315560" y="4114800"/>
              <a:ext cx="1371240" cy="1046160"/>
              <a:chOff x="7315560" y="4114800"/>
              <a:chExt cx="1371240" cy="1046160"/>
            </a:xfrm>
          </p:grpSpPr>
          <p:sp>
            <p:nvSpPr>
              <p:cNvPr id="623" name=""/>
              <p:cNvSpPr/>
              <p:nvPr/>
            </p:nvSpPr>
            <p:spPr>
              <a:xfrm flipH="1">
                <a:off x="7934760" y="4114800"/>
                <a:ext cx="35640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H="1">
                <a:off x="7794360" y="4378320"/>
                <a:ext cx="29736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a:off x="7339320" y="4195800"/>
                <a:ext cx="66780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H="1">
                <a:off x="8023680" y="4178520"/>
                <a:ext cx="66276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H="1">
                <a:off x="7916040" y="4773600"/>
                <a:ext cx="7070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a:off x="7315200" y="4657680"/>
                <a:ext cx="64404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9" name=""/>
          <p:cNvSpPr/>
          <p:nvPr/>
        </p:nvSpPr>
        <p:spPr>
          <a:xfrm>
            <a:off x="1968120" y="2803680"/>
            <a:ext cx="52009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Comic Sans MS"/>
              </a:rPr>
              <a:t>3</a:t>
            </a:r>
            <a:r>
              <a:rPr b="0" lang="en-US" sz="8000" spc="-1" strike="noStrike">
                <a:solidFill>
                  <a:srgbClr val="000000"/>
                </a:solidFill>
                <a:latin typeface="Comic Sans MS"/>
              </a:rPr>
              <a:t>   </a:t>
            </a:r>
            <a:r>
              <a:rPr b="0" lang="en-US" sz="8000" spc="-1" strike="noStrike">
                <a:solidFill>
                  <a:srgbClr val="3333cc"/>
                </a:solidFill>
                <a:latin typeface="Comic Sans MS"/>
              </a:rPr>
              <a:t>+ 2</a:t>
            </a:r>
            <a:r>
              <a:rPr b="0" lang="en-US" sz="8000" spc="-1" strike="noStrike">
                <a:solidFill>
                  <a:srgbClr val="000000"/>
                </a:solidFill>
                <a:latin typeface="Comic Sans MS"/>
              </a:rPr>
              <a:t>   = </a:t>
            </a:r>
            <a:r>
              <a:rPr b="0" lang="en-US" sz="8000" spc="-1" strike="noStrike">
                <a:solidFill>
                  <a:srgbClr val="008000"/>
                </a:solidFill>
                <a:latin typeface="Comic Sans MS"/>
              </a:rPr>
              <a:t>5</a:t>
            </a:r>
            <a:endParaRPr b="0" lang="en-US" sz="8000" spc="-1" strike="noStrike">
              <a:solidFill>
                <a:srgbClr val="000000"/>
              </a:solidFill>
              <a:latin typeface="Times New Roman"/>
            </a:endParaRPr>
          </a:p>
        </p:txBody>
      </p:sp>
      <p:sp>
        <p:nvSpPr>
          <p:cNvPr id="630"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wipe dir="r"/>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560"/>
                                        </p:tgtEl>
                                        <p:attrNameLst>
                                          <p:attrName>style.visibility</p:attrName>
                                        </p:attrNameLst>
                                      </p:cBhvr>
                                      <p:to>
                                        <p:strVal val="visible"/>
                                      </p:to>
                                    </p:set>
                                    <p:animEffect filter="dissolve" transition="in">
                                      <p:cBhvr additive="repl">
                                        <p:cTn id="189" dur="500"/>
                                        <p:tgtEl>
                                          <p:spTgt spid="560"/>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591"/>
                                        </p:tgtEl>
                                        <p:attrNameLst>
                                          <p:attrName>style.visibility</p:attrName>
                                        </p:attrNameLst>
                                      </p:cBhvr>
                                      <p:to>
                                        <p:strVal val="visible"/>
                                      </p:to>
                                    </p:set>
                                    <p:animEffect filter="wipe(left)" transition="in">
                                      <p:cBhvr additive="repl">
                                        <p:cTn id="194" dur="500"/>
                                        <p:tgtEl>
                                          <p:spTgt spid="591"/>
                                        </p:tgtEl>
                                      </p:cBhvr>
                                    </p:animEffect>
                                  </p:childTnLst>
                                </p:cTn>
                              </p:par>
                              <p:set>
                                <p:cBhvr>
                                  <p:cTn id="195" dur="1" fill="hold">
                                    <p:stCondLst>
                                      <p:cond delay="0"/>
                                    </p:stCondLst>
                                  </p:cTn>
                                  <p:tgtEl>
                                    <p:spTgt spid="560"/>
                                  </p:tgtEl>
                                  <p:attrNameLst>
                                    <p:attrName>style.visibility</p:attrName>
                                  </p:attrNameLst>
                                </p:cBhvr>
                                <p:to>
                                  <p:strVal val="hidden"/>
                                </p:to>
                              </p:set>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600"/>
                                        </p:tgtEl>
                                        <p:attrNameLst>
                                          <p:attrName>style.visibility</p:attrName>
                                        </p:attrNameLst>
                                      </p:cBhvr>
                                      <p:to>
                                        <p:strVal val="visible"/>
                                      </p:to>
                                    </p:set>
                                    <p:animEffect filter="wipe(left)" transition="in">
                                      <p:cBhvr additive="repl">
                                        <p:cTn id="200" dur="500"/>
                                        <p:tgtEl>
                                          <p:spTgt spid="600"/>
                                        </p:tgtEl>
                                      </p:cBhvr>
                                    </p:animEffect>
                                  </p:childTnLst>
                                </p:cTn>
                              </p:par>
                              <p:set>
                                <p:cBhvr>
                                  <p:cTn id="201" dur="1" fill="hold">
                                    <p:stCondLst>
                                      <p:cond delay="0"/>
                                    </p:stCondLst>
                                  </p:cTn>
                                  <p:tgtEl>
                                    <p:spTgt spid="591"/>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609"/>
                                        </p:tgtEl>
                                        <p:attrNameLst>
                                          <p:attrName>style.visibility</p:attrName>
                                        </p:attrNameLst>
                                      </p:cBhvr>
                                      <p:to>
                                        <p:strVal val="visible"/>
                                      </p:to>
                                    </p:set>
                                    <p:animEffect filter="wipe(left)" transition="in">
                                      <p:cBhvr additive="repl">
                                        <p:cTn id="206" dur="500"/>
                                        <p:tgtEl>
                                          <p:spTgt spid="609"/>
                                        </p:tgtEl>
                                      </p:cBhvr>
                                    </p:animEffect>
                                  </p:childTnLst>
                                </p:cTn>
                              </p:par>
                              <p:set>
                                <p:cBhvr>
                                  <p:cTn id="207" dur="1" fill="hold">
                                    <p:stCondLst>
                                      <p:cond delay="0"/>
                                    </p:stCondLst>
                                  </p:cTn>
                                  <p:tgtEl>
                                    <p:spTgt spid="600"/>
                                  </p:tgtEl>
                                  <p:attrNameLst>
                                    <p:attrName>style.visibility</p:attrName>
                                  </p:attrNameLst>
                                </p:cBhvr>
                                <p:to>
                                  <p:strVal val="hidden"/>
                                </p:to>
                              </p:set>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618"/>
                                        </p:tgtEl>
                                        <p:attrNameLst>
                                          <p:attrName>style.visibility</p:attrName>
                                        </p:attrNameLst>
                                      </p:cBhvr>
                                      <p:to>
                                        <p:strVal val="visible"/>
                                      </p:to>
                                    </p:set>
                                    <p:animEffect filter="dissolve" transition="in">
                                      <p:cBhvr additive="repl">
                                        <p:cTn id="212" dur="500"/>
                                        <p:tgtEl>
                                          <p:spTgt spid="618"/>
                                        </p:tgtEl>
                                      </p:cBhvr>
                                    </p:animEffect>
                                  </p:childTnLst>
                                </p:cTn>
                              </p:par>
                              <p:set>
                                <p:cBhvr>
                                  <p:cTn id="213" dur="1" fill="hold">
                                    <p:stCondLst>
                                      <p:cond delay="0"/>
                                    </p:stCondLst>
                                  </p:cTn>
                                  <p:tgtEl>
                                    <p:spTgt spid="609"/>
                                  </p:tgtEl>
                                  <p:attrNameLst>
                                    <p:attrName>style.visibility</p:attrName>
                                  </p:attrNameLst>
                                </p:cBhvr>
                                <p:to>
                                  <p:strVal val="hidden"/>
                                </p:to>
                              </p:set>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629"/>
                                        </p:tgtEl>
                                        <p:attrNameLst>
                                          <p:attrName>style.visibility</p:attrName>
                                        </p:attrNameLst>
                                      </p:cBhvr>
                                      <p:to>
                                        <p:strVal val="visible"/>
                                      </p:to>
                                    </p:set>
                                    <p:animEffect filter="dissolve" transition="in">
                                      <p:cBhvr additive="repl">
                                        <p:cTn id="218"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631" name=""/>
          <p:cNvSpPr/>
          <p:nvPr/>
        </p:nvSpPr>
        <p:spPr>
          <a:xfrm>
            <a:off x="2047680" y="1523880"/>
            <a:ext cx="5195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Comic Sans MS"/>
              </a:rPr>
              <a:t>-4</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2)</a:t>
            </a:r>
            <a:r>
              <a:rPr b="0" lang="en-US" sz="8000" spc="-1" strike="noStrike">
                <a:solidFill>
                  <a:srgbClr val="000000"/>
                </a:solidFill>
                <a:latin typeface="Comic Sans MS"/>
              </a:rPr>
              <a:t> = ?</a:t>
            </a:r>
            <a:endParaRPr b="0" lang="en-US" sz="8000" spc="-1" strike="noStrike">
              <a:solidFill>
                <a:srgbClr val="000000"/>
              </a:solidFill>
              <a:latin typeface="Times New Roman"/>
            </a:endParaRPr>
          </a:p>
        </p:txBody>
      </p:sp>
      <p:grpSp>
        <p:nvGrpSpPr>
          <p:cNvPr id="632" name=""/>
          <p:cNvGrpSpPr/>
          <p:nvPr/>
        </p:nvGrpSpPr>
        <p:grpSpPr>
          <a:xfrm>
            <a:off x="3809880" y="4135320"/>
            <a:ext cx="1287360" cy="1046160"/>
            <a:chOff x="3809880" y="4135320"/>
            <a:chExt cx="1287360" cy="1046160"/>
          </a:xfrm>
        </p:grpSpPr>
        <p:sp>
          <p:nvSpPr>
            <p:cNvPr id="633" name=""/>
            <p:cNvSpPr/>
            <p:nvPr/>
          </p:nvSpPr>
          <p:spPr>
            <a:xfrm>
              <a:off x="4181400" y="4135320"/>
              <a:ext cx="33480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368600" y="4398840"/>
              <a:ext cx="27936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447800" y="4216320"/>
              <a:ext cx="62712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809880" y="4199040"/>
              <a:ext cx="62208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870000" y="4794120"/>
              <a:ext cx="6638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492440" y="4678200"/>
              <a:ext cx="60480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9" name=""/>
          <p:cNvGrpSpPr/>
          <p:nvPr/>
        </p:nvGrpSpPr>
        <p:grpSpPr>
          <a:xfrm>
            <a:off x="1066680" y="4876920"/>
            <a:ext cx="7010640" cy="1068120"/>
            <a:chOff x="1066680" y="4876920"/>
            <a:chExt cx="7010640" cy="1068120"/>
          </a:xfrm>
        </p:grpSpPr>
        <p:sp>
          <p:nvSpPr>
            <p:cNvPr id="640"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653"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654"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655"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656"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657"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658"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659"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660"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661"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662"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sp>
        <p:nvSpPr>
          <p:cNvPr id="663"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664" name=""/>
          <p:cNvSpPr/>
          <p:nvPr/>
        </p:nvSpPr>
        <p:spPr>
          <a:xfrm>
            <a:off x="1676520" y="1600200"/>
            <a:ext cx="1600200" cy="1143000"/>
          </a:xfrm>
          <a:prstGeom prst="ellipse">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047680" y="1523880"/>
            <a:ext cx="5195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Comic Sans MS"/>
              </a:rPr>
              <a:t>-4</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2)</a:t>
            </a:r>
            <a:r>
              <a:rPr b="0" lang="en-US" sz="8000" spc="-1" strike="noStrike">
                <a:solidFill>
                  <a:srgbClr val="000000"/>
                </a:solidFill>
                <a:latin typeface="Comic Sans MS"/>
              </a:rPr>
              <a:t> = ?</a:t>
            </a:r>
            <a:endParaRPr b="0" lang="en-US" sz="8000" spc="-1" strike="noStrike">
              <a:solidFill>
                <a:srgbClr val="000000"/>
              </a:solidFill>
              <a:latin typeface="Times New Roman"/>
            </a:endParaRPr>
          </a:p>
        </p:txBody>
      </p:sp>
      <p:grpSp>
        <p:nvGrpSpPr>
          <p:cNvPr id="666" name=""/>
          <p:cNvGrpSpPr/>
          <p:nvPr/>
        </p:nvGrpSpPr>
        <p:grpSpPr>
          <a:xfrm>
            <a:off x="3809880" y="4135320"/>
            <a:ext cx="1287360" cy="1046160"/>
            <a:chOff x="3809880" y="4135320"/>
            <a:chExt cx="1287360" cy="1046160"/>
          </a:xfrm>
        </p:grpSpPr>
        <p:sp>
          <p:nvSpPr>
            <p:cNvPr id="667" name=""/>
            <p:cNvSpPr/>
            <p:nvPr/>
          </p:nvSpPr>
          <p:spPr>
            <a:xfrm>
              <a:off x="4181400" y="4135320"/>
              <a:ext cx="33480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368600" y="4398840"/>
              <a:ext cx="27936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447800" y="4216320"/>
              <a:ext cx="62712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3809880" y="4199040"/>
              <a:ext cx="62208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3870000" y="4794120"/>
              <a:ext cx="6638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492440" y="4678200"/>
              <a:ext cx="60480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1066680" y="4876920"/>
            <a:ext cx="7010640" cy="1068120"/>
            <a:chOff x="1066680" y="4876920"/>
            <a:chExt cx="7010640" cy="1068120"/>
          </a:xfrm>
        </p:grpSpPr>
        <p:sp>
          <p:nvSpPr>
            <p:cNvPr id="674"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687"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688"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689"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690"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691"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692"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693"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694"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695"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696"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sp>
        <p:nvSpPr>
          <p:cNvPr id="697"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698" name=""/>
          <p:cNvSpPr/>
          <p:nvPr/>
        </p:nvSpPr>
        <p:spPr>
          <a:xfrm>
            <a:off x="1676520" y="1600200"/>
            <a:ext cx="1600200" cy="1143000"/>
          </a:xfrm>
          <a:prstGeom prst="ellipse">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2047680" y="1523880"/>
            <a:ext cx="5195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Comic Sans MS"/>
              </a:rPr>
              <a:t>-4</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2)</a:t>
            </a:r>
            <a:r>
              <a:rPr b="0" lang="en-US" sz="8000" spc="-1" strike="noStrike">
                <a:solidFill>
                  <a:srgbClr val="000000"/>
                </a:solidFill>
                <a:latin typeface="Comic Sans MS"/>
              </a:rPr>
              <a:t> = ?</a:t>
            </a:r>
            <a:endParaRPr b="0" lang="en-US" sz="8000" spc="-1" strike="noStrike">
              <a:solidFill>
                <a:srgbClr val="000000"/>
              </a:solidFill>
              <a:latin typeface="Times New Roman"/>
            </a:endParaRPr>
          </a:p>
        </p:txBody>
      </p:sp>
      <p:grpSp>
        <p:nvGrpSpPr>
          <p:cNvPr id="700" name=""/>
          <p:cNvGrpSpPr/>
          <p:nvPr/>
        </p:nvGrpSpPr>
        <p:grpSpPr>
          <a:xfrm>
            <a:off x="1371600" y="4135320"/>
            <a:ext cx="1287360" cy="1046160"/>
            <a:chOff x="1371600" y="4135320"/>
            <a:chExt cx="1287360" cy="1046160"/>
          </a:xfrm>
        </p:grpSpPr>
        <p:sp>
          <p:nvSpPr>
            <p:cNvPr id="701" name=""/>
            <p:cNvSpPr/>
            <p:nvPr/>
          </p:nvSpPr>
          <p:spPr>
            <a:xfrm>
              <a:off x="1743120" y="4135320"/>
              <a:ext cx="33480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930320" y="4398840"/>
              <a:ext cx="27936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009520" y="4216320"/>
              <a:ext cx="62712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371600" y="4199040"/>
              <a:ext cx="62208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431720" y="4794120"/>
              <a:ext cx="6638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054160" y="4678200"/>
              <a:ext cx="60480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7" name=""/>
          <p:cNvGrpSpPr/>
          <p:nvPr/>
        </p:nvGrpSpPr>
        <p:grpSpPr>
          <a:xfrm>
            <a:off x="1066680" y="4876920"/>
            <a:ext cx="7010640" cy="1068120"/>
            <a:chOff x="1066680" y="4876920"/>
            <a:chExt cx="7010640" cy="1068120"/>
          </a:xfrm>
        </p:grpSpPr>
        <p:sp>
          <p:nvSpPr>
            <p:cNvPr id="708"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721"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722"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723"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724"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725"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726"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727"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728"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729"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730"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sp>
        <p:nvSpPr>
          <p:cNvPr id="731"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732" name=""/>
          <p:cNvSpPr/>
          <p:nvPr/>
        </p:nvSpPr>
        <p:spPr>
          <a:xfrm>
            <a:off x="3048120" y="1600200"/>
            <a:ext cx="761760" cy="1143000"/>
          </a:xfrm>
          <a:prstGeom prst="ellipse">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047680" y="1523880"/>
            <a:ext cx="5195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Comic Sans MS"/>
              </a:rPr>
              <a:t>-4</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2)</a:t>
            </a:r>
            <a:r>
              <a:rPr b="0" lang="en-US" sz="8000" spc="-1" strike="noStrike">
                <a:solidFill>
                  <a:srgbClr val="000000"/>
                </a:solidFill>
                <a:latin typeface="Comic Sans MS"/>
              </a:rPr>
              <a:t> = ?</a:t>
            </a:r>
            <a:endParaRPr b="0" lang="en-US" sz="8000" spc="-1" strike="noStrike">
              <a:solidFill>
                <a:srgbClr val="000000"/>
              </a:solidFill>
              <a:latin typeface="Times New Roman"/>
            </a:endParaRPr>
          </a:p>
        </p:txBody>
      </p:sp>
      <p:grpSp>
        <p:nvGrpSpPr>
          <p:cNvPr id="734" name=""/>
          <p:cNvGrpSpPr/>
          <p:nvPr/>
        </p:nvGrpSpPr>
        <p:grpSpPr>
          <a:xfrm>
            <a:off x="1371600" y="4135320"/>
            <a:ext cx="1287360" cy="1046160"/>
            <a:chOff x="1371600" y="4135320"/>
            <a:chExt cx="1287360" cy="1046160"/>
          </a:xfrm>
        </p:grpSpPr>
        <p:sp>
          <p:nvSpPr>
            <p:cNvPr id="735" name=""/>
            <p:cNvSpPr/>
            <p:nvPr/>
          </p:nvSpPr>
          <p:spPr>
            <a:xfrm>
              <a:off x="1743120" y="4135320"/>
              <a:ext cx="33480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930320" y="4398840"/>
              <a:ext cx="27936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009520" y="4216320"/>
              <a:ext cx="62712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371600" y="4199040"/>
              <a:ext cx="62208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431720" y="4794120"/>
              <a:ext cx="6638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054160" y="4678200"/>
              <a:ext cx="60480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1" name=""/>
          <p:cNvGrpSpPr/>
          <p:nvPr/>
        </p:nvGrpSpPr>
        <p:grpSpPr>
          <a:xfrm>
            <a:off x="1066680" y="4876920"/>
            <a:ext cx="7010640" cy="1068120"/>
            <a:chOff x="1066680" y="4876920"/>
            <a:chExt cx="7010640" cy="1068120"/>
          </a:xfrm>
        </p:grpSpPr>
        <p:sp>
          <p:nvSpPr>
            <p:cNvPr id="742"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755"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756"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757"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758"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759"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760"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761"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762"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763"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764"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sp>
        <p:nvSpPr>
          <p:cNvPr id="765"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766" name=""/>
          <p:cNvSpPr/>
          <p:nvPr/>
        </p:nvSpPr>
        <p:spPr>
          <a:xfrm>
            <a:off x="3048120" y="1600200"/>
            <a:ext cx="761760" cy="1143000"/>
          </a:xfrm>
          <a:prstGeom prst="ellipse">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047680" y="1523880"/>
            <a:ext cx="5195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Comic Sans MS"/>
              </a:rPr>
              <a:t>-4</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2)</a:t>
            </a:r>
            <a:r>
              <a:rPr b="0" lang="en-US" sz="8000" spc="-1" strike="noStrike">
                <a:solidFill>
                  <a:srgbClr val="000000"/>
                </a:solidFill>
                <a:latin typeface="Comic Sans MS"/>
              </a:rPr>
              <a:t> = ?</a:t>
            </a:r>
            <a:endParaRPr b="0" lang="en-US" sz="8000" spc="-1" strike="noStrike">
              <a:solidFill>
                <a:srgbClr val="000000"/>
              </a:solidFill>
              <a:latin typeface="Times New Roman"/>
            </a:endParaRPr>
          </a:p>
        </p:txBody>
      </p:sp>
      <p:grpSp>
        <p:nvGrpSpPr>
          <p:cNvPr id="768" name=""/>
          <p:cNvGrpSpPr/>
          <p:nvPr/>
        </p:nvGrpSpPr>
        <p:grpSpPr>
          <a:xfrm>
            <a:off x="1821240" y="4135320"/>
            <a:ext cx="1455480" cy="1046160"/>
            <a:chOff x="1821240" y="4135320"/>
            <a:chExt cx="1455480" cy="1046160"/>
          </a:xfrm>
        </p:grpSpPr>
        <p:sp>
          <p:nvSpPr>
            <p:cNvPr id="769" name=""/>
            <p:cNvSpPr/>
            <p:nvPr/>
          </p:nvSpPr>
          <p:spPr>
            <a:xfrm flipH="1">
              <a:off x="2477880" y="4135320"/>
              <a:ext cx="37836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H="1">
              <a:off x="2328840" y="4398840"/>
              <a:ext cx="31572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H="1">
              <a:off x="1846440" y="4216320"/>
              <a:ext cx="70884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H="1">
              <a:off x="2573280" y="4199040"/>
              <a:ext cx="70344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H="1">
              <a:off x="2458080" y="4794120"/>
              <a:ext cx="75060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H="1">
              <a:off x="1820880" y="4678200"/>
              <a:ext cx="68364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 name=""/>
          <p:cNvGrpSpPr/>
          <p:nvPr/>
        </p:nvGrpSpPr>
        <p:grpSpPr>
          <a:xfrm>
            <a:off x="1066680" y="4876920"/>
            <a:ext cx="7010640" cy="1068120"/>
            <a:chOff x="1066680" y="4876920"/>
            <a:chExt cx="7010640" cy="1068120"/>
          </a:xfrm>
        </p:grpSpPr>
        <p:sp>
          <p:nvSpPr>
            <p:cNvPr id="776"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789"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790"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791"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792"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793"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794"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795"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796"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797"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798"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sp>
        <p:nvSpPr>
          <p:cNvPr id="799"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800" name=""/>
          <p:cNvSpPr/>
          <p:nvPr/>
        </p:nvSpPr>
        <p:spPr>
          <a:xfrm>
            <a:off x="2047680" y="1523880"/>
            <a:ext cx="5195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Comic Sans MS"/>
              </a:rPr>
              <a:t>-4</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2)</a:t>
            </a:r>
            <a:r>
              <a:rPr b="0" lang="en-US" sz="8000" spc="-1" strike="noStrike">
                <a:solidFill>
                  <a:srgbClr val="000000"/>
                </a:solidFill>
                <a:latin typeface="Comic Sans MS"/>
              </a:rPr>
              <a:t> = ?</a:t>
            </a:r>
            <a:endParaRPr b="0" lang="en-US" sz="8000" spc="-1" strike="noStrike">
              <a:solidFill>
                <a:srgbClr val="000000"/>
              </a:solidFill>
              <a:latin typeface="Times New Roman"/>
            </a:endParaRPr>
          </a:p>
        </p:txBody>
      </p:sp>
      <p:sp>
        <p:nvSpPr>
          <p:cNvPr id="801" name=""/>
          <p:cNvSpPr/>
          <p:nvPr/>
        </p:nvSpPr>
        <p:spPr>
          <a:xfrm>
            <a:off x="3809880" y="1447920"/>
            <a:ext cx="2210040" cy="1600200"/>
          </a:xfrm>
          <a:prstGeom prst="ellipse">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2" name=""/>
          <p:cNvGrpSpPr/>
          <p:nvPr/>
        </p:nvGrpSpPr>
        <p:grpSpPr>
          <a:xfrm>
            <a:off x="1821240" y="4135320"/>
            <a:ext cx="1455480" cy="1046160"/>
            <a:chOff x="1821240" y="4135320"/>
            <a:chExt cx="1455480" cy="1046160"/>
          </a:xfrm>
        </p:grpSpPr>
        <p:sp>
          <p:nvSpPr>
            <p:cNvPr id="803" name=""/>
            <p:cNvSpPr/>
            <p:nvPr/>
          </p:nvSpPr>
          <p:spPr>
            <a:xfrm flipH="1">
              <a:off x="2477880" y="4135320"/>
              <a:ext cx="37836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2328840" y="4398840"/>
              <a:ext cx="31572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H="1">
              <a:off x="1846440" y="4216320"/>
              <a:ext cx="70884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H="1">
              <a:off x="2573280" y="4199040"/>
              <a:ext cx="70344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H="1">
              <a:off x="2458080" y="4794120"/>
              <a:ext cx="75060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flipH="1">
              <a:off x="1820880" y="4678200"/>
              <a:ext cx="68364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9" name=""/>
          <p:cNvGrpSpPr/>
          <p:nvPr/>
        </p:nvGrpSpPr>
        <p:grpSpPr>
          <a:xfrm>
            <a:off x="1066680" y="4876920"/>
            <a:ext cx="7010640" cy="1068120"/>
            <a:chOff x="1066680" y="4876920"/>
            <a:chExt cx="7010640" cy="1068120"/>
          </a:xfrm>
        </p:grpSpPr>
        <p:sp>
          <p:nvSpPr>
            <p:cNvPr id="810"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823"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824"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825"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826"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827"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828"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829"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830"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831"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832"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sp>
        <p:nvSpPr>
          <p:cNvPr id="833"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15" name=""/>
          <p:cNvSpPr/>
          <p:nvPr/>
        </p:nvSpPr>
        <p:spPr>
          <a:xfrm>
            <a:off x="3711960" y="609480"/>
            <a:ext cx="149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view</a:t>
            </a:r>
            <a:endParaRPr b="0" lang="en-US" sz="2800" spc="-1" strike="noStrike">
              <a:solidFill>
                <a:srgbClr val="000000"/>
              </a:solidFill>
              <a:latin typeface="Times New Roman"/>
            </a:endParaRPr>
          </a:p>
        </p:txBody>
      </p:sp>
      <p:sp>
        <p:nvSpPr>
          <p:cNvPr id="116" name=""/>
          <p:cNvSpPr/>
          <p:nvPr/>
        </p:nvSpPr>
        <p:spPr>
          <a:xfrm>
            <a:off x="914400" y="144792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When you finish this unit, you will be able to:</a:t>
            </a:r>
            <a:endParaRPr b="0" lang="en-US" sz="3200" spc="-1" strike="noStrike">
              <a:solidFill>
                <a:srgbClr val="000000"/>
              </a:solidFill>
              <a:latin typeface="Times New Roman"/>
            </a:endParaRPr>
          </a:p>
        </p:txBody>
      </p:sp>
      <p:sp>
        <p:nvSpPr>
          <p:cNvPr id="117" name=""/>
          <p:cNvSpPr/>
          <p:nvPr/>
        </p:nvSpPr>
        <p:spPr>
          <a:xfrm>
            <a:off x="2895480" y="2438280"/>
            <a:ext cx="5562720" cy="376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ply the concept of the number line to the solution of problems involving subtraction</a:t>
            </a:r>
            <a:endParaRPr b="0" lang="en-US" sz="3200" spc="-1" strike="noStrike">
              <a:solidFill>
                <a:srgbClr val="000000"/>
              </a:solidFill>
              <a:latin typeface="Times New Roman"/>
            </a:endParaRPr>
          </a:p>
          <a:p>
            <a:pPr marL="457200" indent="-45720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lve  word problems requiring subtraction of integers</a:t>
            </a:r>
            <a:endParaRPr b="0" lang="en-US" sz="3200" spc="-1" strike="noStrike">
              <a:solidFill>
                <a:srgbClr val="000000"/>
              </a:solidFill>
              <a:latin typeface="Times New Roman"/>
            </a:endParaRPr>
          </a:p>
        </p:txBody>
      </p:sp>
      <p:grpSp>
        <p:nvGrpSpPr>
          <p:cNvPr id="118" name=""/>
          <p:cNvGrpSpPr/>
          <p:nvPr/>
        </p:nvGrpSpPr>
        <p:grpSpPr>
          <a:xfrm>
            <a:off x="533520" y="2895480"/>
            <a:ext cx="2361960" cy="2971800"/>
            <a:chOff x="533520" y="2895480"/>
            <a:chExt cx="2361960" cy="2971800"/>
          </a:xfrm>
        </p:grpSpPr>
        <p:sp>
          <p:nvSpPr>
            <p:cNvPr id="119" name=""/>
            <p:cNvSpPr/>
            <p:nvPr/>
          </p:nvSpPr>
          <p:spPr>
            <a:xfrm>
              <a:off x="533520" y="2895480"/>
              <a:ext cx="2361960" cy="29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42160" y="2907720"/>
              <a:ext cx="2344320" cy="2946960"/>
            </a:xfrm>
            <a:custGeom>
              <a:avLst/>
              <a:gdLst/>
              <a:ahLst/>
              <a:rect l="l" t="t" r="r" b="b"/>
              <a:pathLst>
                <a:path w="61339" h="54893">
                  <a:moveTo>
                    <a:pt x="20369" y="694"/>
                  </a:moveTo>
                  <a:lnTo>
                    <a:pt x="20485" y="579"/>
                  </a:lnTo>
                  <a:lnTo>
                    <a:pt x="20485" y="463"/>
                  </a:lnTo>
                  <a:lnTo>
                    <a:pt x="20601" y="463"/>
                  </a:lnTo>
                  <a:lnTo>
                    <a:pt x="20717" y="347"/>
                  </a:lnTo>
                  <a:lnTo>
                    <a:pt x="20832" y="347"/>
                  </a:lnTo>
                  <a:lnTo>
                    <a:pt x="20948" y="347"/>
                  </a:lnTo>
                  <a:lnTo>
                    <a:pt x="21064" y="231"/>
                  </a:lnTo>
                  <a:lnTo>
                    <a:pt x="21179" y="231"/>
                  </a:lnTo>
                  <a:lnTo>
                    <a:pt x="21179" y="231"/>
                  </a:lnTo>
                  <a:lnTo>
                    <a:pt x="21411" y="231"/>
                  </a:lnTo>
                  <a:lnTo>
                    <a:pt x="21527" y="347"/>
                  </a:lnTo>
                  <a:lnTo>
                    <a:pt x="21758" y="463"/>
                  </a:lnTo>
                  <a:lnTo>
                    <a:pt x="21990" y="579"/>
                  </a:lnTo>
                  <a:lnTo>
                    <a:pt x="22105" y="694"/>
                  </a:lnTo>
                  <a:lnTo>
                    <a:pt x="22221" y="810"/>
                  </a:lnTo>
                  <a:lnTo>
                    <a:pt x="22453" y="1042"/>
                  </a:lnTo>
                  <a:lnTo>
                    <a:pt x="22568" y="1274"/>
                  </a:lnTo>
                  <a:lnTo>
                    <a:pt x="22568" y="1274"/>
                  </a:lnTo>
                  <a:lnTo>
                    <a:pt x="22684" y="1158"/>
                  </a:lnTo>
                  <a:lnTo>
                    <a:pt x="22915" y="1042"/>
                  </a:lnTo>
                  <a:lnTo>
                    <a:pt x="23031" y="1042"/>
                  </a:lnTo>
                  <a:lnTo>
                    <a:pt x="23147" y="1042"/>
                  </a:lnTo>
                  <a:lnTo>
                    <a:pt x="23378" y="1042"/>
                  </a:lnTo>
                  <a:lnTo>
                    <a:pt x="23494" y="1042"/>
                  </a:lnTo>
                  <a:lnTo>
                    <a:pt x="23726" y="1042"/>
                  </a:lnTo>
                  <a:lnTo>
                    <a:pt x="23841" y="1158"/>
                  </a:lnTo>
                  <a:lnTo>
                    <a:pt x="23841" y="1158"/>
                  </a:lnTo>
                  <a:lnTo>
                    <a:pt x="23957" y="1158"/>
                  </a:lnTo>
                  <a:lnTo>
                    <a:pt x="24188" y="1274"/>
                  </a:lnTo>
                  <a:lnTo>
                    <a:pt x="24304" y="1389"/>
                  </a:lnTo>
                  <a:lnTo>
                    <a:pt x="24420" y="1505"/>
                  </a:lnTo>
                  <a:lnTo>
                    <a:pt x="24536" y="1621"/>
                  </a:lnTo>
                  <a:lnTo>
                    <a:pt x="24651" y="1621"/>
                  </a:lnTo>
                  <a:lnTo>
                    <a:pt x="24767" y="1621"/>
                  </a:lnTo>
                  <a:lnTo>
                    <a:pt x="24999" y="1389"/>
                  </a:lnTo>
                  <a:lnTo>
                    <a:pt x="24999" y="1389"/>
                  </a:lnTo>
                  <a:lnTo>
                    <a:pt x="25114" y="1389"/>
                  </a:lnTo>
                  <a:lnTo>
                    <a:pt x="25346" y="1505"/>
                  </a:lnTo>
                  <a:lnTo>
                    <a:pt x="25462" y="1505"/>
                  </a:lnTo>
                  <a:lnTo>
                    <a:pt x="25577" y="1621"/>
                  </a:lnTo>
                  <a:lnTo>
                    <a:pt x="25693" y="1737"/>
                  </a:lnTo>
                  <a:lnTo>
                    <a:pt x="25809" y="1853"/>
                  </a:lnTo>
                  <a:lnTo>
                    <a:pt x="25924" y="1968"/>
                  </a:lnTo>
                  <a:lnTo>
                    <a:pt x="26040" y="1968"/>
                  </a:lnTo>
                  <a:lnTo>
                    <a:pt x="26040" y="1968"/>
                  </a:lnTo>
                  <a:lnTo>
                    <a:pt x="26272" y="1968"/>
                  </a:lnTo>
                  <a:lnTo>
                    <a:pt x="26503" y="1853"/>
                  </a:lnTo>
                  <a:lnTo>
                    <a:pt x="26735" y="1853"/>
                  </a:lnTo>
                  <a:lnTo>
                    <a:pt x="26966" y="1737"/>
                  </a:lnTo>
                  <a:lnTo>
                    <a:pt x="27082" y="1737"/>
                  </a:lnTo>
                  <a:lnTo>
                    <a:pt x="27313" y="1737"/>
                  </a:lnTo>
                  <a:lnTo>
                    <a:pt x="27545" y="1853"/>
                  </a:lnTo>
                  <a:lnTo>
                    <a:pt x="27660" y="1968"/>
                  </a:lnTo>
                  <a:lnTo>
                    <a:pt x="27660" y="1968"/>
                  </a:lnTo>
                  <a:lnTo>
                    <a:pt x="28123" y="2316"/>
                  </a:lnTo>
                  <a:lnTo>
                    <a:pt x="28123" y="2316"/>
                  </a:lnTo>
                  <a:lnTo>
                    <a:pt x="28239" y="2084"/>
                  </a:lnTo>
                  <a:lnTo>
                    <a:pt x="28471" y="1968"/>
                  </a:lnTo>
                  <a:lnTo>
                    <a:pt x="28586" y="1968"/>
                  </a:lnTo>
                  <a:lnTo>
                    <a:pt x="28818" y="1968"/>
                  </a:lnTo>
                  <a:lnTo>
                    <a:pt x="29049" y="1968"/>
                  </a:lnTo>
                  <a:lnTo>
                    <a:pt x="29281" y="1968"/>
                  </a:lnTo>
                  <a:lnTo>
                    <a:pt x="29512" y="1968"/>
                  </a:lnTo>
                  <a:lnTo>
                    <a:pt x="29744" y="1968"/>
                  </a:lnTo>
                  <a:lnTo>
                    <a:pt x="29744" y="1968"/>
                  </a:lnTo>
                  <a:lnTo>
                    <a:pt x="29859" y="2084"/>
                  </a:lnTo>
                  <a:lnTo>
                    <a:pt x="29975" y="2200"/>
                  </a:lnTo>
                  <a:lnTo>
                    <a:pt x="29975" y="2316"/>
                  </a:lnTo>
                  <a:lnTo>
                    <a:pt x="30091" y="2432"/>
                  </a:lnTo>
                  <a:lnTo>
                    <a:pt x="30207" y="2547"/>
                  </a:lnTo>
                  <a:lnTo>
                    <a:pt x="30322" y="2663"/>
                  </a:lnTo>
                  <a:lnTo>
                    <a:pt x="30438" y="2779"/>
                  </a:lnTo>
                  <a:lnTo>
                    <a:pt x="30554" y="2779"/>
                  </a:lnTo>
                  <a:lnTo>
                    <a:pt x="30554" y="2779"/>
                  </a:lnTo>
                  <a:lnTo>
                    <a:pt x="30670" y="2779"/>
                  </a:lnTo>
                  <a:lnTo>
                    <a:pt x="30785" y="2663"/>
                  </a:lnTo>
                  <a:lnTo>
                    <a:pt x="30901" y="2663"/>
                  </a:lnTo>
                  <a:lnTo>
                    <a:pt x="31132" y="2663"/>
                  </a:lnTo>
                  <a:lnTo>
                    <a:pt x="31248" y="2663"/>
                  </a:lnTo>
                  <a:lnTo>
                    <a:pt x="31364" y="2663"/>
                  </a:lnTo>
                  <a:lnTo>
                    <a:pt x="31595" y="2663"/>
                  </a:lnTo>
                  <a:lnTo>
                    <a:pt x="31711" y="2663"/>
                  </a:lnTo>
                  <a:lnTo>
                    <a:pt x="31711" y="2663"/>
                  </a:lnTo>
                  <a:lnTo>
                    <a:pt x="31943" y="2895"/>
                  </a:lnTo>
                  <a:lnTo>
                    <a:pt x="32058" y="3011"/>
                  </a:lnTo>
                  <a:lnTo>
                    <a:pt x="32174" y="3126"/>
                  </a:lnTo>
                  <a:lnTo>
                    <a:pt x="32290" y="3358"/>
                  </a:lnTo>
                  <a:lnTo>
                    <a:pt x="32521" y="3474"/>
                  </a:lnTo>
                  <a:lnTo>
                    <a:pt x="32637" y="3474"/>
                  </a:lnTo>
                  <a:lnTo>
                    <a:pt x="-32668" y="3474"/>
                  </a:lnTo>
                  <a:lnTo>
                    <a:pt x="-32436" y="3242"/>
                  </a:lnTo>
                  <a:lnTo>
                    <a:pt x="-32436" y="3242"/>
                  </a:lnTo>
                  <a:lnTo>
                    <a:pt x="-32205" y="3242"/>
                  </a:lnTo>
                  <a:lnTo>
                    <a:pt x="-31973" y="3242"/>
                  </a:lnTo>
                  <a:lnTo>
                    <a:pt x="-31626" y="3358"/>
                  </a:lnTo>
                  <a:lnTo>
                    <a:pt x="-31395" y="3474"/>
                  </a:lnTo>
                  <a:lnTo>
                    <a:pt x="-31163" y="3706"/>
                  </a:lnTo>
                  <a:lnTo>
                    <a:pt x="-30932" y="3706"/>
                  </a:lnTo>
                  <a:lnTo>
                    <a:pt x="-30584" y="3821"/>
                  </a:lnTo>
                  <a:lnTo>
                    <a:pt x="-30237" y="3706"/>
                  </a:lnTo>
                  <a:lnTo>
                    <a:pt x="-30237" y="3706"/>
                  </a:lnTo>
                  <a:lnTo>
                    <a:pt x="-30006" y="3821"/>
                  </a:lnTo>
                  <a:lnTo>
                    <a:pt x="-29774" y="3937"/>
                  </a:lnTo>
                  <a:lnTo>
                    <a:pt x="-29543" y="3937"/>
                  </a:lnTo>
                  <a:lnTo>
                    <a:pt x="-29311" y="3937"/>
                  </a:lnTo>
                  <a:lnTo>
                    <a:pt x="-29080" y="3821"/>
                  </a:lnTo>
                  <a:lnTo>
                    <a:pt x="-28733" y="3937"/>
                  </a:lnTo>
                  <a:lnTo>
                    <a:pt x="-28501" y="4053"/>
                  </a:lnTo>
                  <a:lnTo>
                    <a:pt x="-28385" y="4169"/>
                  </a:lnTo>
                  <a:lnTo>
                    <a:pt x="-28385" y="4169"/>
                  </a:lnTo>
                  <a:lnTo>
                    <a:pt x="-28038" y="4169"/>
                  </a:lnTo>
                  <a:lnTo>
                    <a:pt x="-27807" y="4169"/>
                  </a:lnTo>
                  <a:lnTo>
                    <a:pt x="-27575" y="4169"/>
                  </a:lnTo>
                  <a:lnTo>
                    <a:pt x="-27344" y="4285"/>
                  </a:lnTo>
                  <a:lnTo>
                    <a:pt x="-27112" y="4400"/>
                  </a:lnTo>
                  <a:lnTo>
                    <a:pt x="-26881" y="4516"/>
                  </a:lnTo>
                  <a:lnTo>
                    <a:pt x="-26650" y="4516"/>
                  </a:lnTo>
                  <a:lnTo>
                    <a:pt x="-26418" y="4285"/>
                  </a:lnTo>
                  <a:lnTo>
                    <a:pt x="-26418" y="4285"/>
                  </a:lnTo>
                  <a:lnTo>
                    <a:pt x="-26187" y="4400"/>
                  </a:lnTo>
                  <a:lnTo>
                    <a:pt x="-25955" y="4516"/>
                  </a:lnTo>
                  <a:lnTo>
                    <a:pt x="-25724" y="4632"/>
                  </a:lnTo>
                  <a:lnTo>
                    <a:pt x="-25608" y="4748"/>
                  </a:lnTo>
                  <a:lnTo>
                    <a:pt x="-25492" y="4979"/>
                  </a:lnTo>
                  <a:lnTo>
                    <a:pt x="-25376" y="5095"/>
                  </a:lnTo>
                  <a:lnTo>
                    <a:pt x="-25261" y="5327"/>
                  </a:lnTo>
                  <a:lnTo>
                    <a:pt x="-25145" y="5558"/>
                  </a:lnTo>
                  <a:lnTo>
                    <a:pt x="-25145" y="5558"/>
                  </a:lnTo>
                  <a:lnTo>
                    <a:pt x="-25145" y="6022"/>
                  </a:lnTo>
                  <a:lnTo>
                    <a:pt x="-25145" y="6369"/>
                  </a:lnTo>
                  <a:lnTo>
                    <a:pt x="-25376" y="6717"/>
                  </a:lnTo>
                  <a:lnTo>
                    <a:pt x="-25492" y="7064"/>
                  </a:lnTo>
                  <a:lnTo>
                    <a:pt x="-25724" y="7296"/>
                  </a:lnTo>
                  <a:lnTo>
                    <a:pt x="-25839" y="7643"/>
                  </a:lnTo>
                  <a:lnTo>
                    <a:pt x="-25955" y="7990"/>
                  </a:lnTo>
                  <a:lnTo>
                    <a:pt x="-26071" y="8454"/>
                  </a:lnTo>
                  <a:lnTo>
                    <a:pt x="-26071" y="8454"/>
                  </a:lnTo>
                  <a:lnTo>
                    <a:pt x="-26534" y="9959"/>
                  </a:lnTo>
                  <a:lnTo>
                    <a:pt x="-26997" y="11465"/>
                  </a:lnTo>
                  <a:lnTo>
                    <a:pt x="-27344" y="13086"/>
                  </a:lnTo>
                  <a:lnTo>
                    <a:pt x="-27691" y="14707"/>
                  </a:lnTo>
                  <a:lnTo>
                    <a:pt x="-28038" y="16329"/>
                  </a:lnTo>
                  <a:lnTo>
                    <a:pt x="-28270" y="17950"/>
                  </a:lnTo>
                  <a:lnTo>
                    <a:pt x="-28501" y="19571"/>
                  </a:lnTo>
                  <a:lnTo>
                    <a:pt x="-28617" y="21193"/>
                  </a:lnTo>
                  <a:lnTo>
                    <a:pt x="-28617" y="21193"/>
                  </a:lnTo>
                  <a:lnTo>
                    <a:pt x="-28501" y="21309"/>
                  </a:lnTo>
                  <a:lnTo>
                    <a:pt x="-28501" y="21309"/>
                  </a:lnTo>
                  <a:lnTo>
                    <a:pt x="-26650" y="20845"/>
                  </a:lnTo>
                  <a:lnTo>
                    <a:pt x="-24914" y="20498"/>
                  </a:lnTo>
                  <a:lnTo>
                    <a:pt x="-23178" y="20150"/>
                  </a:lnTo>
                  <a:lnTo>
                    <a:pt x="-21326" y="19919"/>
                  </a:lnTo>
                  <a:lnTo>
                    <a:pt x="-19590" y="19571"/>
                  </a:lnTo>
                  <a:lnTo>
                    <a:pt x="-17738" y="19224"/>
                  </a:lnTo>
                  <a:lnTo>
                    <a:pt x="-16002" y="18992"/>
                  </a:lnTo>
                  <a:lnTo>
                    <a:pt x="-14266" y="18645"/>
                  </a:lnTo>
                  <a:lnTo>
                    <a:pt x="-14266" y="18645"/>
                  </a:lnTo>
                  <a:lnTo>
                    <a:pt x="-12993" y="18761"/>
                  </a:lnTo>
                  <a:lnTo>
                    <a:pt x="-11720" y="18877"/>
                  </a:lnTo>
                  <a:lnTo>
                    <a:pt x="-10563" y="18992"/>
                  </a:lnTo>
                  <a:lnTo>
                    <a:pt x="-9290" y="18992"/>
                  </a:lnTo>
                  <a:lnTo>
                    <a:pt x="-8017" y="19108"/>
                  </a:lnTo>
                  <a:lnTo>
                    <a:pt x="-6859" y="19224"/>
                  </a:lnTo>
                  <a:lnTo>
                    <a:pt x="-5586" y="19340"/>
                  </a:lnTo>
                  <a:lnTo>
                    <a:pt x="-4313" y="19571"/>
                  </a:lnTo>
                  <a:lnTo>
                    <a:pt x="-4313" y="19571"/>
                  </a:lnTo>
                  <a:lnTo>
                    <a:pt x="-4313" y="19571"/>
                  </a:lnTo>
                  <a:lnTo>
                    <a:pt x="-4313" y="19571"/>
                  </a:lnTo>
                  <a:lnTo>
                    <a:pt x="-4197" y="19687"/>
                  </a:lnTo>
                  <a:lnTo>
                    <a:pt x="-4197" y="19687"/>
                  </a:lnTo>
                  <a:lnTo>
                    <a:pt x="-4197" y="19687"/>
                  </a:lnTo>
                  <a:lnTo>
                    <a:pt x="-4197" y="19803"/>
                  </a:lnTo>
                  <a:lnTo>
                    <a:pt x="-4197" y="19803"/>
                  </a:lnTo>
                  <a:lnTo>
                    <a:pt x="-4313" y="19803"/>
                  </a:lnTo>
                  <a:lnTo>
                    <a:pt x="-4313" y="19803"/>
                  </a:lnTo>
                  <a:lnTo>
                    <a:pt x="-17044" y="25246"/>
                  </a:lnTo>
                  <a:lnTo>
                    <a:pt x="-17044" y="25246"/>
                  </a:lnTo>
                  <a:lnTo>
                    <a:pt x="-17159" y="25246"/>
                  </a:lnTo>
                  <a:lnTo>
                    <a:pt x="-17391" y="25246"/>
                  </a:lnTo>
                  <a:lnTo>
                    <a:pt x="-17622" y="25362"/>
                  </a:lnTo>
                  <a:lnTo>
                    <a:pt x="-17854" y="25362"/>
                  </a:lnTo>
                  <a:lnTo>
                    <a:pt x="-17970" y="25478"/>
                  </a:lnTo>
                  <a:lnTo>
                    <a:pt x="-18201" y="25478"/>
                  </a:lnTo>
                  <a:lnTo>
                    <a:pt x="-18317" y="25478"/>
                  </a:lnTo>
                  <a:lnTo>
                    <a:pt x="-18548" y="25594"/>
                  </a:lnTo>
                  <a:lnTo>
                    <a:pt x="-18548" y="25594"/>
                  </a:lnTo>
                  <a:lnTo>
                    <a:pt x="-18548" y="25941"/>
                  </a:lnTo>
                  <a:lnTo>
                    <a:pt x="-18664" y="26288"/>
                  </a:lnTo>
                  <a:lnTo>
                    <a:pt x="-18895" y="26636"/>
                  </a:lnTo>
                  <a:lnTo>
                    <a:pt x="-19127" y="26983"/>
                  </a:lnTo>
                  <a:lnTo>
                    <a:pt x="-19358" y="27215"/>
                  </a:lnTo>
                  <a:lnTo>
                    <a:pt x="-19706" y="27562"/>
                  </a:lnTo>
                  <a:lnTo>
                    <a:pt x="-19937" y="27794"/>
                  </a:lnTo>
                  <a:lnTo>
                    <a:pt x="-20284" y="28026"/>
                  </a:lnTo>
                  <a:lnTo>
                    <a:pt x="-20284" y="28026"/>
                  </a:lnTo>
                  <a:lnTo>
                    <a:pt x="-20631" y="28141"/>
                  </a:lnTo>
                  <a:lnTo>
                    <a:pt x="-20863" y="28257"/>
                  </a:lnTo>
                  <a:lnTo>
                    <a:pt x="-21094" y="28373"/>
                  </a:lnTo>
                  <a:lnTo>
                    <a:pt x="-21442" y="28373"/>
                  </a:lnTo>
                  <a:lnTo>
                    <a:pt x="-21673" y="28489"/>
                  </a:lnTo>
                  <a:lnTo>
                    <a:pt x="-22020" y="28489"/>
                  </a:lnTo>
                  <a:lnTo>
                    <a:pt x="-22252" y="28373"/>
                  </a:lnTo>
                  <a:lnTo>
                    <a:pt x="-22483" y="28141"/>
                  </a:lnTo>
                  <a:lnTo>
                    <a:pt x="-22483" y="28141"/>
                  </a:lnTo>
                  <a:lnTo>
                    <a:pt x="-22715" y="28257"/>
                  </a:lnTo>
                  <a:lnTo>
                    <a:pt x="-22830" y="28373"/>
                  </a:lnTo>
                  <a:lnTo>
                    <a:pt x="-23062" y="28489"/>
                  </a:lnTo>
                  <a:lnTo>
                    <a:pt x="-23293" y="28605"/>
                  </a:lnTo>
                  <a:lnTo>
                    <a:pt x="-23409" y="28605"/>
                  </a:lnTo>
                  <a:lnTo>
                    <a:pt x="-23640" y="28720"/>
                  </a:lnTo>
                  <a:lnTo>
                    <a:pt x="-23872" y="28720"/>
                  </a:lnTo>
                  <a:lnTo>
                    <a:pt x="-24103" y="28605"/>
                  </a:lnTo>
                  <a:lnTo>
                    <a:pt x="-24103" y="28605"/>
                  </a:lnTo>
                  <a:lnTo>
                    <a:pt x="-24335" y="28952"/>
                  </a:lnTo>
                  <a:lnTo>
                    <a:pt x="-24566" y="29184"/>
                  </a:lnTo>
                  <a:lnTo>
                    <a:pt x="-24798" y="29299"/>
                  </a:lnTo>
                  <a:lnTo>
                    <a:pt x="-25145" y="29415"/>
                  </a:lnTo>
                  <a:lnTo>
                    <a:pt x="-25376" y="29531"/>
                  </a:lnTo>
                  <a:lnTo>
                    <a:pt x="-25724" y="29531"/>
                  </a:lnTo>
                  <a:lnTo>
                    <a:pt x="-26071" y="29647"/>
                  </a:lnTo>
                  <a:lnTo>
                    <a:pt x="-26418" y="29531"/>
                  </a:lnTo>
                  <a:lnTo>
                    <a:pt x="-26418" y="29531"/>
                  </a:lnTo>
                  <a:lnTo>
                    <a:pt x="-26534" y="29531"/>
                  </a:lnTo>
                  <a:lnTo>
                    <a:pt x="-26650" y="29415"/>
                  </a:lnTo>
                  <a:lnTo>
                    <a:pt x="-26765" y="29299"/>
                  </a:lnTo>
                  <a:lnTo>
                    <a:pt x="-26881" y="29184"/>
                  </a:lnTo>
                  <a:lnTo>
                    <a:pt x="-26997" y="29068"/>
                  </a:lnTo>
                  <a:lnTo>
                    <a:pt x="-27112" y="28952"/>
                  </a:lnTo>
                  <a:lnTo>
                    <a:pt x="-27228" y="28952"/>
                  </a:lnTo>
                  <a:lnTo>
                    <a:pt x="-27460" y="29068"/>
                  </a:lnTo>
                  <a:lnTo>
                    <a:pt x="-27460" y="29068"/>
                  </a:lnTo>
                  <a:lnTo>
                    <a:pt x="-27575" y="29184"/>
                  </a:lnTo>
                  <a:lnTo>
                    <a:pt x="-27691" y="29299"/>
                  </a:lnTo>
                  <a:lnTo>
                    <a:pt x="-27923" y="29415"/>
                  </a:lnTo>
                  <a:lnTo>
                    <a:pt x="-28038" y="29531"/>
                  </a:lnTo>
                  <a:lnTo>
                    <a:pt x="-28270" y="29647"/>
                  </a:lnTo>
                  <a:lnTo>
                    <a:pt x="-28385" y="29763"/>
                  </a:lnTo>
                  <a:lnTo>
                    <a:pt x="-28617" y="29879"/>
                  </a:lnTo>
                  <a:lnTo>
                    <a:pt x="-28733" y="29994"/>
                  </a:lnTo>
                  <a:lnTo>
                    <a:pt x="-28733" y="29994"/>
                  </a:lnTo>
                  <a:lnTo>
                    <a:pt x="-28733" y="30689"/>
                  </a:lnTo>
                  <a:lnTo>
                    <a:pt x="-28733" y="31268"/>
                  </a:lnTo>
                  <a:lnTo>
                    <a:pt x="-28617" y="31963"/>
                  </a:lnTo>
                  <a:lnTo>
                    <a:pt x="-28501" y="32542"/>
                  </a:lnTo>
                  <a:lnTo>
                    <a:pt x="-28385" y="-32299"/>
                  </a:lnTo>
                  <a:lnTo>
                    <a:pt x="-28385" y="-31720"/>
                  </a:lnTo>
                  <a:lnTo>
                    <a:pt x="-28270" y="-31025"/>
                  </a:lnTo>
                  <a:lnTo>
                    <a:pt x="-28154" y="-30446"/>
                  </a:lnTo>
                  <a:lnTo>
                    <a:pt x="-28154" y="-30446"/>
                  </a:lnTo>
                  <a:lnTo>
                    <a:pt x="-28501" y="-30214"/>
                  </a:lnTo>
                  <a:lnTo>
                    <a:pt x="-28733" y="-29983"/>
                  </a:lnTo>
                  <a:lnTo>
                    <a:pt x="-29196" y="-29867"/>
                  </a:lnTo>
                  <a:lnTo>
                    <a:pt x="-29543" y="-29867"/>
                  </a:lnTo>
                  <a:lnTo>
                    <a:pt x="-29890" y="-29751"/>
                  </a:lnTo>
                  <a:lnTo>
                    <a:pt x="-30237" y="-29751"/>
                  </a:lnTo>
                  <a:lnTo>
                    <a:pt x="-30700" y="-29635"/>
                  </a:lnTo>
                  <a:lnTo>
                    <a:pt x="-31047" y="-29635"/>
                  </a:lnTo>
                  <a:lnTo>
                    <a:pt x="-31047" y="-29635"/>
                  </a:lnTo>
                  <a:lnTo>
                    <a:pt x="-31047" y="-29288"/>
                  </a:lnTo>
                  <a:lnTo>
                    <a:pt x="-31047" y="-29288"/>
                  </a:lnTo>
                  <a:lnTo>
                    <a:pt x="-30700" y="-28825"/>
                  </a:lnTo>
                  <a:lnTo>
                    <a:pt x="-30353" y="-28246"/>
                  </a:lnTo>
                  <a:lnTo>
                    <a:pt x="-30006" y="-27782"/>
                  </a:lnTo>
                  <a:lnTo>
                    <a:pt x="-29774" y="-27319"/>
                  </a:lnTo>
                  <a:lnTo>
                    <a:pt x="-29427" y="-26856"/>
                  </a:lnTo>
                  <a:lnTo>
                    <a:pt x="-29080" y="-26277"/>
                  </a:lnTo>
                  <a:lnTo>
                    <a:pt x="-28848" y="-25814"/>
                  </a:lnTo>
                  <a:lnTo>
                    <a:pt x="-28617" y="-25235"/>
                  </a:lnTo>
                  <a:lnTo>
                    <a:pt x="-28617" y="-25235"/>
                  </a:lnTo>
                  <a:lnTo>
                    <a:pt x="-28733" y="-24540"/>
                  </a:lnTo>
                  <a:lnTo>
                    <a:pt x="-28848" y="-23729"/>
                  </a:lnTo>
                  <a:lnTo>
                    <a:pt x="-28964" y="-23034"/>
                  </a:lnTo>
                  <a:lnTo>
                    <a:pt x="-29196" y="-22224"/>
                  </a:lnTo>
                  <a:lnTo>
                    <a:pt x="-29311" y="-21529"/>
                  </a:lnTo>
                  <a:lnTo>
                    <a:pt x="-29543" y="-20718"/>
                  </a:lnTo>
                  <a:lnTo>
                    <a:pt x="-29659" y="-20023"/>
                  </a:lnTo>
                  <a:lnTo>
                    <a:pt x="-29890" y="-19213"/>
                  </a:lnTo>
                  <a:lnTo>
                    <a:pt x="-29890" y="-19213"/>
                  </a:lnTo>
                  <a:lnTo>
                    <a:pt x="-29774" y="-18865"/>
                  </a:lnTo>
                  <a:lnTo>
                    <a:pt x="-29543" y="-18518"/>
                  </a:lnTo>
                  <a:lnTo>
                    <a:pt x="-29427" y="-18286"/>
                  </a:lnTo>
                  <a:lnTo>
                    <a:pt x="-29196" y="-18054"/>
                  </a:lnTo>
                  <a:lnTo>
                    <a:pt x="-28964" y="-17707"/>
                  </a:lnTo>
                  <a:lnTo>
                    <a:pt x="-28733" y="-17475"/>
                  </a:lnTo>
                  <a:lnTo>
                    <a:pt x="-28501" y="-17244"/>
                  </a:lnTo>
                  <a:lnTo>
                    <a:pt x="-28501" y="-16896"/>
                  </a:lnTo>
                  <a:lnTo>
                    <a:pt x="-28501" y="-16896"/>
                  </a:lnTo>
                  <a:lnTo>
                    <a:pt x="-28385" y="-16665"/>
                  </a:lnTo>
                  <a:lnTo>
                    <a:pt x="-28154" y="-16317"/>
                  </a:lnTo>
                  <a:lnTo>
                    <a:pt x="-28038" y="-16086"/>
                  </a:lnTo>
                  <a:lnTo>
                    <a:pt x="-27807" y="-15854"/>
                  </a:lnTo>
                  <a:lnTo>
                    <a:pt x="-27691" y="-15622"/>
                  </a:lnTo>
                  <a:lnTo>
                    <a:pt x="-27575" y="-15391"/>
                  </a:lnTo>
                  <a:lnTo>
                    <a:pt x="-27344" y="-15159"/>
                  </a:lnTo>
                  <a:lnTo>
                    <a:pt x="-27344" y="-14928"/>
                  </a:lnTo>
                  <a:lnTo>
                    <a:pt x="-27344" y="-14928"/>
                  </a:lnTo>
                  <a:lnTo>
                    <a:pt x="-27228" y="-14464"/>
                  </a:lnTo>
                  <a:lnTo>
                    <a:pt x="-26997" y="-14117"/>
                  </a:lnTo>
                  <a:lnTo>
                    <a:pt x="-26881" y="-13654"/>
                  </a:lnTo>
                  <a:lnTo>
                    <a:pt x="-26881" y="-13190"/>
                  </a:lnTo>
                  <a:lnTo>
                    <a:pt x="-26765" y="-12727"/>
                  </a:lnTo>
                  <a:lnTo>
                    <a:pt x="-26765" y="-12380"/>
                  </a:lnTo>
                  <a:lnTo>
                    <a:pt x="-26881" y="-11917"/>
                  </a:lnTo>
                  <a:lnTo>
                    <a:pt x="-27228" y="-11569"/>
                  </a:lnTo>
                  <a:lnTo>
                    <a:pt x="-27228" y="-11569"/>
                  </a:lnTo>
                  <a:lnTo>
                    <a:pt x="-27228" y="-11453"/>
                  </a:lnTo>
                  <a:lnTo>
                    <a:pt x="-27344" y="-11453"/>
                  </a:lnTo>
                  <a:lnTo>
                    <a:pt x="-27344" y="-11453"/>
                  </a:lnTo>
                  <a:lnTo>
                    <a:pt x="-27460" y="-11453"/>
                  </a:lnTo>
                  <a:lnTo>
                    <a:pt x="-27460" y="-11453"/>
                  </a:lnTo>
                  <a:lnTo>
                    <a:pt x="-27575" y="-11453"/>
                  </a:lnTo>
                  <a:lnTo>
                    <a:pt x="-27691" y="-11453"/>
                  </a:lnTo>
                  <a:lnTo>
                    <a:pt x="-27691" y="-11453"/>
                  </a:lnTo>
                  <a:lnTo>
                    <a:pt x="-27691" y="-11453"/>
                  </a:lnTo>
                  <a:lnTo>
                    <a:pt x="-28154" y="-11222"/>
                  </a:lnTo>
                  <a:lnTo>
                    <a:pt x="-28733" y="-11106"/>
                  </a:lnTo>
                  <a:lnTo>
                    <a:pt x="-29311" y="-11106"/>
                  </a:lnTo>
                  <a:lnTo>
                    <a:pt x="-29890" y="-11222"/>
                  </a:lnTo>
                  <a:lnTo>
                    <a:pt x="-30353" y="-11337"/>
                  </a:lnTo>
                  <a:lnTo>
                    <a:pt x="-30932" y="-11453"/>
                  </a:lnTo>
                  <a:lnTo>
                    <a:pt x="-31395" y="-11685"/>
                  </a:lnTo>
                  <a:lnTo>
                    <a:pt x="-31857" y="-12032"/>
                  </a:lnTo>
                  <a:lnTo>
                    <a:pt x="-31857" y="-12032"/>
                  </a:lnTo>
                  <a:lnTo>
                    <a:pt x="-32320" y="-12496"/>
                  </a:lnTo>
                  <a:lnTo>
                    <a:pt x="-32552" y="-13075"/>
                  </a:lnTo>
                  <a:lnTo>
                    <a:pt x="32753" y="-13769"/>
                  </a:lnTo>
                  <a:lnTo>
                    <a:pt x="32637" y="-14464"/>
                  </a:lnTo>
                  <a:lnTo>
                    <a:pt x="32405" y="-15159"/>
                  </a:lnTo>
                  <a:lnTo>
                    <a:pt x="32058" y="-15622"/>
                  </a:lnTo>
                  <a:lnTo>
                    <a:pt x="31595" y="-16086"/>
                  </a:lnTo>
                  <a:lnTo>
                    <a:pt x="30785" y="-16201"/>
                  </a:lnTo>
                  <a:lnTo>
                    <a:pt x="30785" y="-16201"/>
                  </a:lnTo>
                  <a:lnTo>
                    <a:pt x="30670" y="-16317"/>
                  </a:lnTo>
                  <a:lnTo>
                    <a:pt x="30554" y="-16549"/>
                  </a:lnTo>
                  <a:lnTo>
                    <a:pt x="30438" y="-16781"/>
                  </a:lnTo>
                  <a:lnTo>
                    <a:pt x="30322" y="-16896"/>
                  </a:lnTo>
                  <a:lnTo>
                    <a:pt x="30322" y="-17128"/>
                  </a:lnTo>
                  <a:lnTo>
                    <a:pt x="30322" y="-17360"/>
                  </a:lnTo>
                  <a:lnTo>
                    <a:pt x="30322" y="-17591"/>
                  </a:lnTo>
                  <a:lnTo>
                    <a:pt x="30322" y="-17823"/>
                  </a:lnTo>
                  <a:lnTo>
                    <a:pt x="30322" y="-17823"/>
                  </a:lnTo>
                  <a:lnTo>
                    <a:pt x="30554" y="-18170"/>
                  </a:lnTo>
                  <a:lnTo>
                    <a:pt x="30785" y="-18518"/>
                  </a:lnTo>
                  <a:lnTo>
                    <a:pt x="31132" y="-18749"/>
                  </a:lnTo>
                  <a:lnTo>
                    <a:pt x="31480" y="-18981"/>
                  </a:lnTo>
                  <a:lnTo>
                    <a:pt x="31827" y="-19213"/>
                  </a:lnTo>
                  <a:lnTo>
                    <a:pt x="32174" y="-19444"/>
                  </a:lnTo>
                  <a:lnTo>
                    <a:pt x="32405" y="-19676"/>
                  </a:lnTo>
                  <a:lnTo>
                    <a:pt x="32637" y="-20139"/>
                  </a:lnTo>
                  <a:lnTo>
                    <a:pt x="32637" y="-20139"/>
                  </a:lnTo>
                  <a:lnTo>
                    <a:pt x="-32668" y="-20950"/>
                  </a:lnTo>
                  <a:lnTo>
                    <a:pt x="-32436" y="-21876"/>
                  </a:lnTo>
                  <a:lnTo>
                    <a:pt x="-32205" y="-22803"/>
                  </a:lnTo>
                  <a:lnTo>
                    <a:pt x="-32089" y="-23729"/>
                  </a:lnTo>
                  <a:lnTo>
                    <a:pt x="-32089" y="-24656"/>
                  </a:lnTo>
                  <a:lnTo>
                    <a:pt x="-32205" y="-25466"/>
                  </a:lnTo>
                  <a:lnTo>
                    <a:pt x="-32552" y="-26277"/>
                  </a:lnTo>
                  <a:lnTo>
                    <a:pt x="32290" y="-27088"/>
                  </a:lnTo>
                  <a:lnTo>
                    <a:pt x="32290" y="-27088"/>
                  </a:lnTo>
                  <a:lnTo>
                    <a:pt x="30901" y="-28593"/>
                  </a:lnTo>
                  <a:lnTo>
                    <a:pt x="30901" y="-28593"/>
                  </a:lnTo>
                  <a:lnTo>
                    <a:pt x="29744" y="-28130"/>
                  </a:lnTo>
                  <a:lnTo>
                    <a:pt x="28586" y="-27667"/>
                  </a:lnTo>
                  <a:lnTo>
                    <a:pt x="27545" y="-27203"/>
                  </a:lnTo>
                  <a:lnTo>
                    <a:pt x="26387" y="-26740"/>
                  </a:lnTo>
                  <a:lnTo>
                    <a:pt x="25230" y="-26161"/>
                  </a:lnTo>
                  <a:lnTo>
                    <a:pt x="24073" y="-25698"/>
                  </a:lnTo>
                  <a:lnTo>
                    <a:pt x="23031" y="-25119"/>
                  </a:lnTo>
                  <a:lnTo>
                    <a:pt x="21874" y="-24656"/>
                  </a:lnTo>
                  <a:lnTo>
                    <a:pt x="21874" y="-24656"/>
                  </a:lnTo>
                  <a:lnTo>
                    <a:pt x="21990" y="-24192"/>
                  </a:lnTo>
                  <a:lnTo>
                    <a:pt x="22221" y="-23845"/>
                  </a:lnTo>
                  <a:lnTo>
                    <a:pt x="22337" y="-23382"/>
                  </a:lnTo>
                  <a:lnTo>
                    <a:pt x="22568" y="-23034"/>
                  </a:lnTo>
                  <a:lnTo>
                    <a:pt x="22684" y="-22687"/>
                  </a:lnTo>
                  <a:lnTo>
                    <a:pt x="22915" y="-22224"/>
                  </a:lnTo>
                  <a:lnTo>
                    <a:pt x="23147" y="-21876"/>
                  </a:lnTo>
                  <a:lnTo>
                    <a:pt x="23263" y="-21529"/>
                  </a:lnTo>
                  <a:lnTo>
                    <a:pt x="23263" y="-21529"/>
                  </a:lnTo>
                  <a:lnTo>
                    <a:pt x="23263" y="-21181"/>
                  </a:lnTo>
                  <a:lnTo>
                    <a:pt x="23147" y="-20950"/>
                  </a:lnTo>
                  <a:lnTo>
                    <a:pt x="23031" y="-20718"/>
                  </a:lnTo>
                  <a:lnTo>
                    <a:pt x="22915" y="-20486"/>
                  </a:lnTo>
                  <a:lnTo>
                    <a:pt x="22684" y="-20371"/>
                  </a:lnTo>
                  <a:lnTo>
                    <a:pt x="22453" y="-20139"/>
                  </a:lnTo>
                  <a:lnTo>
                    <a:pt x="22221" y="-19907"/>
                  </a:lnTo>
                  <a:lnTo>
                    <a:pt x="22105" y="-19792"/>
                  </a:lnTo>
                  <a:lnTo>
                    <a:pt x="22105" y="-19792"/>
                  </a:lnTo>
                  <a:lnTo>
                    <a:pt x="20601" y="-17939"/>
                  </a:lnTo>
                  <a:lnTo>
                    <a:pt x="20601" y="-17939"/>
                  </a:lnTo>
                  <a:lnTo>
                    <a:pt x="20485" y="-17475"/>
                  </a:lnTo>
                  <a:lnTo>
                    <a:pt x="20485" y="-17012"/>
                  </a:lnTo>
                  <a:lnTo>
                    <a:pt x="20369" y="-16433"/>
                  </a:lnTo>
                  <a:lnTo>
                    <a:pt x="20254" y="-15970"/>
                  </a:lnTo>
                  <a:lnTo>
                    <a:pt x="20254" y="-15507"/>
                  </a:lnTo>
                  <a:lnTo>
                    <a:pt x="20254" y="-15043"/>
                  </a:lnTo>
                  <a:lnTo>
                    <a:pt x="20254" y="-14580"/>
                  </a:lnTo>
                  <a:lnTo>
                    <a:pt x="20369" y="-14117"/>
                  </a:lnTo>
                  <a:lnTo>
                    <a:pt x="20369" y="-14117"/>
                  </a:lnTo>
                  <a:lnTo>
                    <a:pt x="20485" y="-14117"/>
                  </a:lnTo>
                  <a:lnTo>
                    <a:pt x="20601" y="-14117"/>
                  </a:lnTo>
                  <a:lnTo>
                    <a:pt x="20832" y="-14001"/>
                  </a:lnTo>
                  <a:lnTo>
                    <a:pt x="20832" y="-13885"/>
                  </a:lnTo>
                  <a:lnTo>
                    <a:pt x="20948" y="-13769"/>
                  </a:lnTo>
                  <a:lnTo>
                    <a:pt x="21064" y="-13654"/>
                  </a:lnTo>
                  <a:lnTo>
                    <a:pt x="21179" y="-13538"/>
                  </a:lnTo>
                  <a:lnTo>
                    <a:pt x="21411" y="-13538"/>
                  </a:lnTo>
                  <a:lnTo>
                    <a:pt x="21411" y="-13538"/>
                  </a:lnTo>
                  <a:lnTo>
                    <a:pt x="23031" y="-13422"/>
                  </a:lnTo>
                  <a:lnTo>
                    <a:pt x="23031" y="-13422"/>
                  </a:lnTo>
                  <a:lnTo>
                    <a:pt x="23031" y="-13306"/>
                  </a:lnTo>
                  <a:lnTo>
                    <a:pt x="23147" y="-13190"/>
                  </a:lnTo>
                  <a:lnTo>
                    <a:pt x="23263" y="-13075"/>
                  </a:lnTo>
                  <a:lnTo>
                    <a:pt x="23378" y="-12959"/>
                  </a:lnTo>
                  <a:lnTo>
                    <a:pt x="23494" y="-12843"/>
                  </a:lnTo>
                  <a:lnTo>
                    <a:pt x="23610" y="-12611"/>
                  </a:lnTo>
                  <a:lnTo>
                    <a:pt x="23610" y="-12496"/>
                  </a:lnTo>
                  <a:lnTo>
                    <a:pt x="23726" y="-12264"/>
                  </a:lnTo>
                  <a:lnTo>
                    <a:pt x="23726" y="-12264"/>
                  </a:lnTo>
                  <a:lnTo>
                    <a:pt x="23726" y="-12032"/>
                  </a:lnTo>
                  <a:lnTo>
                    <a:pt x="23610" y="-11801"/>
                  </a:lnTo>
                  <a:lnTo>
                    <a:pt x="23494" y="-11569"/>
                  </a:lnTo>
                  <a:lnTo>
                    <a:pt x="23378" y="-11453"/>
                  </a:lnTo>
                  <a:lnTo>
                    <a:pt x="23147" y="-11222"/>
                  </a:lnTo>
                  <a:lnTo>
                    <a:pt x="22915" y="-11106"/>
                  </a:lnTo>
                  <a:lnTo>
                    <a:pt x="22684" y="-10990"/>
                  </a:lnTo>
                  <a:lnTo>
                    <a:pt x="22453" y="-10874"/>
                  </a:lnTo>
                  <a:lnTo>
                    <a:pt x="22453" y="-10874"/>
                  </a:lnTo>
                  <a:lnTo>
                    <a:pt x="21758" y="-10643"/>
                  </a:lnTo>
                  <a:lnTo>
                    <a:pt x="21179" y="-10643"/>
                  </a:lnTo>
                  <a:lnTo>
                    <a:pt x="20485" y="-10643"/>
                  </a:lnTo>
                  <a:lnTo>
                    <a:pt x="19791" y="-10758"/>
                  </a:lnTo>
                  <a:lnTo>
                    <a:pt x="19096" y="-10990"/>
                  </a:lnTo>
                  <a:lnTo>
                    <a:pt x="18518" y="-11222"/>
                  </a:lnTo>
                  <a:lnTo>
                    <a:pt x="17939" y="-11569"/>
                  </a:lnTo>
                  <a:lnTo>
                    <a:pt x="17360" y="-11917"/>
                  </a:lnTo>
                  <a:lnTo>
                    <a:pt x="17360" y="-11917"/>
                  </a:lnTo>
                  <a:lnTo>
                    <a:pt x="17013" y="-12496"/>
                  </a:lnTo>
                  <a:lnTo>
                    <a:pt x="16782" y="-13190"/>
                  </a:lnTo>
                  <a:lnTo>
                    <a:pt x="16550" y="-13769"/>
                  </a:lnTo>
                  <a:lnTo>
                    <a:pt x="16319" y="-14464"/>
                  </a:lnTo>
                  <a:lnTo>
                    <a:pt x="15972" y="-15043"/>
                  </a:lnTo>
                  <a:lnTo>
                    <a:pt x="15509" y="-15622"/>
                  </a:lnTo>
                  <a:lnTo>
                    <a:pt x="15046" y="-16086"/>
                  </a:lnTo>
                  <a:lnTo>
                    <a:pt x="14351" y="-16317"/>
                  </a:lnTo>
                  <a:lnTo>
                    <a:pt x="14351" y="-16317"/>
                  </a:lnTo>
                  <a:lnTo>
                    <a:pt x="14236" y="-16433"/>
                  </a:lnTo>
                  <a:lnTo>
                    <a:pt x="14120" y="-16549"/>
                  </a:lnTo>
                  <a:lnTo>
                    <a:pt x="14120" y="-16781"/>
                  </a:lnTo>
                  <a:lnTo>
                    <a:pt x="14004" y="-16896"/>
                  </a:lnTo>
                  <a:lnTo>
                    <a:pt x="14004" y="-17128"/>
                  </a:lnTo>
                  <a:lnTo>
                    <a:pt x="14004" y="-17244"/>
                  </a:lnTo>
                  <a:lnTo>
                    <a:pt x="14120" y="-17360"/>
                  </a:lnTo>
                  <a:lnTo>
                    <a:pt x="14120" y="-17591"/>
                  </a:lnTo>
                  <a:lnTo>
                    <a:pt x="14120" y="-17591"/>
                  </a:lnTo>
                  <a:lnTo>
                    <a:pt x="14467" y="-17939"/>
                  </a:lnTo>
                  <a:lnTo>
                    <a:pt x="14930" y="-18286"/>
                  </a:lnTo>
                  <a:lnTo>
                    <a:pt x="15393" y="-18402"/>
                  </a:lnTo>
                  <a:lnTo>
                    <a:pt x="15972" y="-18633"/>
                  </a:lnTo>
                  <a:lnTo>
                    <a:pt x="16434" y="-18749"/>
                  </a:lnTo>
                  <a:lnTo>
                    <a:pt x="17013" y="-18865"/>
                  </a:lnTo>
                  <a:lnTo>
                    <a:pt x="17476" y="-19097"/>
                  </a:lnTo>
                  <a:lnTo>
                    <a:pt x="17939" y="-19444"/>
                  </a:lnTo>
                  <a:lnTo>
                    <a:pt x="17939" y="-19444"/>
                  </a:lnTo>
                  <a:lnTo>
                    <a:pt x="18286" y="-19792"/>
                  </a:lnTo>
                  <a:lnTo>
                    <a:pt x="18633" y="-20023"/>
                  </a:lnTo>
                  <a:lnTo>
                    <a:pt x="18981" y="-20255"/>
                  </a:lnTo>
                  <a:lnTo>
                    <a:pt x="19328" y="-20602"/>
                  </a:lnTo>
                  <a:lnTo>
                    <a:pt x="19559" y="-20950"/>
                  </a:lnTo>
                  <a:lnTo>
                    <a:pt x="19791" y="-21297"/>
                  </a:lnTo>
                  <a:lnTo>
                    <a:pt x="20022" y="-21645"/>
                  </a:lnTo>
                  <a:lnTo>
                    <a:pt x="20369" y="-21992"/>
                  </a:lnTo>
                  <a:lnTo>
                    <a:pt x="20369" y="-21992"/>
                  </a:lnTo>
                  <a:lnTo>
                    <a:pt x="20138" y="-22108"/>
                  </a:lnTo>
                  <a:lnTo>
                    <a:pt x="20022" y="-22339"/>
                  </a:lnTo>
                  <a:lnTo>
                    <a:pt x="19906" y="-22571"/>
                  </a:lnTo>
                  <a:lnTo>
                    <a:pt x="19906" y="-22803"/>
                  </a:lnTo>
                  <a:lnTo>
                    <a:pt x="19791" y="-23034"/>
                  </a:lnTo>
                  <a:lnTo>
                    <a:pt x="19675" y="-23266"/>
                  </a:lnTo>
                  <a:lnTo>
                    <a:pt x="19559" y="-23382"/>
                  </a:lnTo>
                  <a:lnTo>
                    <a:pt x="19443" y="-23613"/>
                  </a:lnTo>
                  <a:lnTo>
                    <a:pt x="19443" y="-23613"/>
                  </a:lnTo>
                  <a:lnTo>
                    <a:pt x="18633" y="-23266"/>
                  </a:lnTo>
                  <a:lnTo>
                    <a:pt x="17823" y="-22918"/>
                  </a:lnTo>
                  <a:lnTo>
                    <a:pt x="17129" y="-22571"/>
                  </a:lnTo>
                  <a:lnTo>
                    <a:pt x="16319" y="-22224"/>
                  </a:lnTo>
                  <a:lnTo>
                    <a:pt x="15624" y="-21876"/>
                  </a:lnTo>
                  <a:lnTo>
                    <a:pt x="14814" y="-21529"/>
                  </a:lnTo>
                  <a:lnTo>
                    <a:pt x="14120" y="-21297"/>
                  </a:lnTo>
                  <a:lnTo>
                    <a:pt x="13194" y="-21181"/>
                  </a:lnTo>
                  <a:lnTo>
                    <a:pt x="13194" y="-21181"/>
                  </a:lnTo>
                  <a:lnTo>
                    <a:pt x="13194" y="-21297"/>
                  </a:lnTo>
                  <a:lnTo>
                    <a:pt x="13194" y="-21413"/>
                  </a:lnTo>
                  <a:lnTo>
                    <a:pt x="13078" y="-21645"/>
                  </a:lnTo>
                  <a:lnTo>
                    <a:pt x="13078" y="-21760"/>
                  </a:lnTo>
                  <a:lnTo>
                    <a:pt x="13078" y="-21876"/>
                  </a:lnTo>
                  <a:lnTo>
                    <a:pt x="13078" y="-22108"/>
                  </a:lnTo>
                  <a:lnTo>
                    <a:pt x="13078" y="-22224"/>
                  </a:lnTo>
                  <a:lnTo>
                    <a:pt x="12962" y="-22339"/>
                  </a:lnTo>
                  <a:lnTo>
                    <a:pt x="12962" y="-22339"/>
                  </a:lnTo>
                  <a:lnTo>
                    <a:pt x="12847" y="-22224"/>
                  </a:lnTo>
                  <a:lnTo>
                    <a:pt x="12731" y="-22224"/>
                  </a:lnTo>
                  <a:lnTo>
                    <a:pt x="12615" y="-22108"/>
                  </a:lnTo>
                  <a:lnTo>
                    <a:pt x="12500" y="-22108"/>
                  </a:lnTo>
                  <a:lnTo>
                    <a:pt x="12384" y="-22108"/>
                  </a:lnTo>
                  <a:lnTo>
                    <a:pt x="12268" y="-21992"/>
                  </a:lnTo>
                  <a:lnTo>
                    <a:pt x="12152" y="-22108"/>
                  </a:lnTo>
                  <a:lnTo>
                    <a:pt x="12037" y="-22108"/>
                  </a:lnTo>
                  <a:lnTo>
                    <a:pt x="12037" y="-22108"/>
                  </a:lnTo>
                  <a:lnTo>
                    <a:pt x="12037" y="-22339"/>
                  </a:lnTo>
                  <a:lnTo>
                    <a:pt x="12037" y="-22339"/>
                  </a:lnTo>
                  <a:lnTo>
                    <a:pt x="12037" y="-22455"/>
                  </a:lnTo>
                  <a:lnTo>
                    <a:pt x="11921" y="-22455"/>
                  </a:lnTo>
                  <a:lnTo>
                    <a:pt x="11805" y="-22455"/>
                  </a:lnTo>
                  <a:lnTo>
                    <a:pt x="11689" y="-22455"/>
                  </a:lnTo>
                  <a:lnTo>
                    <a:pt x="11574" y="-22339"/>
                  </a:lnTo>
                  <a:lnTo>
                    <a:pt x="11574" y="-22339"/>
                  </a:lnTo>
                  <a:lnTo>
                    <a:pt x="11458" y="-22339"/>
                  </a:lnTo>
                  <a:lnTo>
                    <a:pt x="11342" y="-22339"/>
                  </a:lnTo>
                  <a:lnTo>
                    <a:pt x="11342" y="-22339"/>
                  </a:lnTo>
                  <a:lnTo>
                    <a:pt x="11342" y="-22455"/>
                  </a:lnTo>
                  <a:lnTo>
                    <a:pt x="11342" y="-22571"/>
                  </a:lnTo>
                  <a:lnTo>
                    <a:pt x="11342" y="-22687"/>
                  </a:lnTo>
                  <a:lnTo>
                    <a:pt x="11342" y="-22803"/>
                  </a:lnTo>
                  <a:lnTo>
                    <a:pt x="11342" y="-22918"/>
                  </a:lnTo>
                  <a:lnTo>
                    <a:pt x="11342" y="-23034"/>
                  </a:lnTo>
                  <a:lnTo>
                    <a:pt x="11342" y="-23150"/>
                  </a:lnTo>
                  <a:lnTo>
                    <a:pt x="11342" y="-23150"/>
                  </a:lnTo>
                  <a:lnTo>
                    <a:pt x="11342" y="-23150"/>
                  </a:lnTo>
                  <a:lnTo>
                    <a:pt x="11226" y="-23150"/>
                  </a:lnTo>
                  <a:lnTo>
                    <a:pt x="11111" y="-23034"/>
                  </a:lnTo>
                  <a:lnTo>
                    <a:pt x="10995" y="-23034"/>
                  </a:lnTo>
                  <a:lnTo>
                    <a:pt x="10879" y="-22918"/>
                  </a:lnTo>
                  <a:lnTo>
                    <a:pt x="10648" y="-22918"/>
                  </a:lnTo>
                  <a:lnTo>
                    <a:pt x="10532" y="-22918"/>
                  </a:lnTo>
                  <a:lnTo>
                    <a:pt x="10416" y="-22918"/>
                  </a:lnTo>
                  <a:lnTo>
                    <a:pt x="10301" y="-22918"/>
                  </a:lnTo>
                  <a:lnTo>
                    <a:pt x="10301" y="-22918"/>
                  </a:lnTo>
                  <a:lnTo>
                    <a:pt x="10416" y="-24192"/>
                  </a:lnTo>
                  <a:lnTo>
                    <a:pt x="10648" y="-25350"/>
                  </a:lnTo>
                  <a:lnTo>
                    <a:pt x="10764" y="-26509"/>
                  </a:lnTo>
                  <a:lnTo>
                    <a:pt x="10879" y="-27782"/>
                  </a:lnTo>
                  <a:lnTo>
                    <a:pt x="10995" y="-28941"/>
                  </a:lnTo>
                  <a:lnTo>
                    <a:pt x="11226" y="-30099"/>
                  </a:lnTo>
                  <a:lnTo>
                    <a:pt x="11342" y="-31257"/>
                  </a:lnTo>
                  <a:lnTo>
                    <a:pt x="11574" y="-32415"/>
                  </a:lnTo>
                  <a:lnTo>
                    <a:pt x="11574" y="-32415"/>
                  </a:lnTo>
                  <a:lnTo>
                    <a:pt x="11458" y="-32531"/>
                  </a:lnTo>
                  <a:lnTo>
                    <a:pt x="11342" y="-32646"/>
                  </a:lnTo>
                  <a:lnTo>
                    <a:pt x="11111" y="-32762"/>
                  </a:lnTo>
                  <a:lnTo>
                    <a:pt x="10995" y="32658"/>
                  </a:lnTo>
                  <a:lnTo>
                    <a:pt x="10879" y="32542"/>
                  </a:lnTo>
                  <a:lnTo>
                    <a:pt x="10648" y="32426"/>
                  </a:lnTo>
                  <a:lnTo>
                    <a:pt x="10532" y="32311"/>
                  </a:lnTo>
                  <a:lnTo>
                    <a:pt x="10532" y="32195"/>
                  </a:lnTo>
                  <a:lnTo>
                    <a:pt x="10532" y="32195"/>
                  </a:lnTo>
                  <a:lnTo>
                    <a:pt x="10532" y="32542"/>
                  </a:lnTo>
                  <a:lnTo>
                    <a:pt x="10532" y="-32762"/>
                  </a:lnTo>
                  <a:lnTo>
                    <a:pt x="10648" y="-32415"/>
                  </a:lnTo>
                  <a:lnTo>
                    <a:pt x="10764" y="-32067"/>
                  </a:lnTo>
                  <a:lnTo>
                    <a:pt x="10879" y="-31720"/>
                  </a:lnTo>
                  <a:lnTo>
                    <a:pt x="10879" y="-31488"/>
                  </a:lnTo>
                  <a:lnTo>
                    <a:pt x="10879" y="-31141"/>
                  </a:lnTo>
                  <a:lnTo>
                    <a:pt x="10879" y="-30793"/>
                  </a:lnTo>
                  <a:lnTo>
                    <a:pt x="10879" y="-30793"/>
                  </a:lnTo>
                  <a:lnTo>
                    <a:pt x="10764" y="-30678"/>
                  </a:lnTo>
                  <a:lnTo>
                    <a:pt x="10648" y="-30562"/>
                  </a:lnTo>
                  <a:lnTo>
                    <a:pt x="10532" y="-30562"/>
                  </a:lnTo>
                  <a:lnTo>
                    <a:pt x="10301" y="-30446"/>
                  </a:lnTo>
                  <a:lnTo>
                    <a:pt x="10185" y="-30446"/>
                  </a:lnTo>
                  <a:lnTo>
                    <a:pt x="9953" y="-30562"/>
                  </a:lnTo>
                  <a:lnTo>
                    <a:pt x="9838" y="-30562"/>
                  </a:lnTo>
                  <a:lnTo>
                    <a:pt x="9722" y="-30678"/>
                  </a:lnTo>
                  <a:lnTo>
                    <a:pt x="9722" y="-30678"/>
                  </a:lnTo>
                  <a:lnTo>
                    <a:pt x="9491" y="-30678"/>
                  </a:lnTo>
                  <a:lnTo>
                    <a:pt x="9259" y="-30909"/>
                  </a:lnTo>
                  <a:lnTo>
                    <a:pt x="9143" y="-31025"/>
                  </a:lnTo>
                  <a:lnTo>
                    <a:pt x="9028" y="-31257"/>
                  </a:lnTo>
                  <a:lnTo>
                    <a:pt x="8912" y="-31488"/>
                  </a:lnTo>
                  <a:lnTo>
                    <a:pt x="8796" y="-31604"/>
                  </a:lnTo>
                  <a:lnTo>
                    <a:pt x="8680" y="-31836"/>
                  </a:lnTo>
                  <a:lnTo>
                    <a:pt x="8565" y="-32067"/>
                  </a:lnTo>
                  <a:lnTo>
                    <a:pt x="8565" y="-32067"/>
                  </a:lnTo>
                  <a:lnTo>
                    <a:pt x="7870" y="-31836"/>
                  </a:lnTo>
                  <a:lnTo>
                    <a:pt x="7292" y="-31604"/>
                  </a:lnTo>
                  <a:lnTo>
                    <a:pt x="6597" y="-31373"/>
                  </a:lnTo>
                  <a:lnTo>
                    <a:pt x="6019" y="-31025"/>
                  </a:lnTo>
                  <a:lnTo>
                    <a:pt x="5440" y="-30793"/>
                  </a:lnTo>
                  <a:lnTo>
                    <a:pt x="4861" y="-30562"/>
                  </a:lnTo>
                  <a:lnTo>
                    <a:pt x="4167" y="-30330"/>
                  </a:lnTo>
                  <a:lnTo>
                    <a:pt x="3588" y="-30099"/>
                  </a:lnTo>
                  <a:lnTo>
                    <a:pt x="3588" y="-30099"/>
                  </a:lnTo>
                  <a:lnTo>
                    <a:pt x="3241" y="-30099"/>
                  </a:lnTo>
                  <a:lnTo>
                    <a:pt x="2894" y="-30099"/>
                  </a:lnTo>
                  <a:lnTo>
                    <a:pt x="2547" y="-30099"/>
                  </a:lnTo>
                  <a:lnTo>
                    <a:pt x="2199" y="-30330"/>
                  </a:lnTo>
                  <a:lnTo>
                    <a:pt x="1852" y="-30446"/>
                  </a:lnTo>
                  <a:lnTo>
                    <a:pt x="1505" y="-30678"/>
                  </a:lnTo>
                  <a:lnTo>
                    <a:pt x="1274" y="-30909"/>
                  </a:lnTo>
                  <a:lnTo>
                    <a:pt x="926" y="-31141"/>
                  </a:lnTo>
                  <a:lnTo>
                    <a:pt x="926" y="-31141"/>
                  </a:lnTo>
                  <a:lnTo>
                    <a:pt x="579" y="-31720"/>
                  </a:lnTo>
                  <a:lnTo>
                    <a:pt x="232" y="-32415"/>
                  </a:lnTo>
                  <a:lnTo>
                    <a:pt x="116" y="32426"/>
                  </a:lnTo>
                  <a:lnTo>
                    <a:pt x="0" y="31731"/>
                  </a:lnTo>
                  <a:lnTo>
                    <a:pt x="0" y="31037"/>
                  </a:lnTo>
                  <a:lnTo>
                    <a:pt x="116" y="30342"/>
                  </a:lnTo>
                  <a:lnTo>
                    <a:pt x="348" y="29647"/>
                  </a:lnTo>
                  <a:lnTo>
                    <a:pt x="579" y="29068"/>
                  </a:lnTo>
                  <a:lnTo>
                    <a:pt x="579" y="29068"/>
                  </a:lnTo>
                  <a:lnTo>
                    <a:pt x="1158" y="28257"/>
                  </a:lnTo>
                  <a:lnTo>
                    <a:pt x="1968" y="27910"/>
                  </a:lnTo>
                  <a:lnTo>
                    <a:pt x="2894" y="27678"/>
                  </a:lnTo>
                  <a:lnTo>
                    <a:pt x="3820" y="27562"/>
                  </a:lnTo>
                  <a:lnTo>
                    <a:pt x="4745" y="27562"/>
                  </a:lnTo>
                  <a:lnTo>
                    <a:pt x="5671" y="27331"/>
                  </a:lnTo>
                  <a:lnTo>
                    <a:pt x="6597" y="27099"/>
                  </a:lnTo>
                  <a:lnTo>
                    <a:pt x="7407" y="26520"/>
                  </a:lnTo>
                  <a:lnTo>
                    <a:pt x="7407" y="26520"/>
                  </a:lnTo>
                  <a:lnTo>
                    <a:pt x="7407" y="26520"/>
                  </a:lnTo>
                  <a:lnTo>
                    <a:pt x="7523" y="26520"/>
                  </a:lnTo>
                  <a:lnTo>
                    <a:pt x="7523" y="26520"/>
                  </a:lnTo>
                  <a:lnTo>
                    <a:pt x="7639" y="26520"/>
                  </a:lnTo>
                  <a:lnTo>
                    <a:pt x="7639" y="26520"/>
                  </a:lnTo>
                  <a:lnTo>
                    <a:pt x="7755" y="26520"/>
                  </a:lnTo>
                  <a:lnTo>
                    <a:pt x="7755" y="26520"/>
                  </a:lnTo>
                  <a:lnTo>
                    <a:pt x="7870" y="26520"/>
                  </a:lnTo>
                  <a:lnTo>
                    <a:pt x="7870" y="26520"/>
                  </a:lnTo>
                  <a:lnTo>
                    <a:pt x="7292" y="25709"/>
                  </a:lnTo>
                  <a:lnTo>
                    <a:pt x="6713" y="25014"/>
                  </a:lnTo>
                  <a:lnTo>
                    <a:pt x="6250" y="24204"/>
                  </a:lnTo>
                  <a:lnTo>
                    <a:pt x="5787" y="23393"/>
                  </a:lnTo>
                  <a:lnTo>
                    <a:pt x="5440" y="22582"/>
                  </a:lnTo>
                  <a:lnTo>
                    <a:pt x="5208" y="21772"/>
                  </a:lnTo>
                  <a:lnTo>
                    <a:pt x="5208" y="20845"/>
                  </a:lnTo>
                  <a:lnTo>
                    <a:pt x="5324" y="19919"/>
                  </a:lnTo>
                  <a:lnTo>
                    <a:pt x="5324" y="19919"/>
                  </a:lnTo>
                  <a:lnTo>
                    <a:pt x="5440" y="19571"/>
                  </a:lnTo>
                  <a:lnTo>
                    <a:pt x="5671" y="19224"/>
                  </a:lnTo>
                  <a:lnTo>
                    <a:pt x="6019" y="19108"/>
                  </a:lnTo>
                  <a:lnTo>
                    <a:pt x="6366" y="18992"/>
                  </a:lnTo>
                  <a:lnTo>
                    <a:pt x="6713" y="18877"/>
                  </a:lnTo>
                  <a:lnTo>
                    <a:pt x="7060" y="18761"/>
                  </a:lnTo>
                  <a:lnTo>
                    <a:pt x="7523" y="18761"/>
                  </a:lnTo>
                  <a:lnTo>
                    <a:pt x="7870" y="18645"/>
                  </a:lnTo>
                  <a:lnTo>
                    <a:pt x="7870" y="18645"/>
                  </a:lnTo>
                  <a:lnTo>
                    <a:pt x="8565" y="18529"/>
                  </a:lnTo>
                  <a:lnTo>
                    <a:pt x="9259" y="18529"/>
                  </a:lnTo>
                  <a:lnTo>
                    <a:pt x="9953" y="18529"/>
                  </a:lnTo>
                  <a:lnTo>
                    <a:pt x="10648" y="18645"/>
                  </a:lnTo>
                  <a:lnTo>
                    <a:pt x="11342" y="18645"/>
                  </a:lnTo>
                  <a:lnTo>
                    <a:pt x="11921" y="18877"/>
                  </a:lnTo>
                  <a:lnTo>
                    <a:pt x="12615" y="18992"/>
                  </a:lnTo>
                  <a:lnTo>
                    <a:pt x="13310" y="19108"/>
                  </a:lnTo>
                  <a:lnTo>
                    <a:pt x="13310" y="19108"/>
                  </a:lnTo>
                  <a:lnTo>
                    <a:pt x="13425" y="18992"/>
                  </a:lnTo>
                  <a:lnTo>
                    <a:pt x="13425" y="18992"/>
                  </a:lnTo>
                  <a:lnTo>
                    <a:pt x="13773" y="17139"/>
                  </a:lnTo>
                  <a:lnTo>
                    <a:pt x="14004" y="15286"/>
                  </a:lnTo>
                  <a:lnTo>
                    <a:pt x="14351" y="13434"/>
                  </a:lnTo>
                  <a:lnTo>
                    <a:pt x="14814" y="11581"/>
                  </a:lnTo>
                  <a:lnTo>
                    <a:pt x="15161" y="9728"/>
                  </a:lnTo>
                  <a:lnTo>
                    <a:pt x="15509" y="7875"/>
                  </a:lnTo>
                  <a:lnTo>
                    <a:pt x="15856" y="6138"/>
                  </a:lnTo>
                  <a:lnTo>
                    <a:pt x="16203" y="4285"/>
                  </a:lnTo>
                  <a:lnTo>
                    <a:pt x="16203" y="4285"/>
                  </a:lnTo>
                  <a:lnTo>
                    <a:pt x="16319" y="4053"/>
                  </a:lnTo>
                  <a:lnTo>
                    <a:pt x="16319" y="3821"/>
                  </a:lnTo>
                  <a:lnTo>
                    <a:pt x="16203" y="3590"/>
                  </a:lnTo>
                  <a:lnTo>
                    <a:pt x="16203" y="3358"/>
                  </a:lnTo>
                  <a:lnTo>
                    <a:pt x="16319" y="3126"/>
                  </a:lnTo>
                  <a:lnTo>
                    <a:pt x="16434" y="3011"/>
                  </a:lnTo>
                  <a:lnTo>
                    <a:pt x="16550" y="2895"/>
                  </a:lnTo>
                  <a:lnTo>
                    <a:pt x="16897" y="2895"/>
                  </a:lnTo>
                  <a:lnTo>
                    <a:pt x="16897" y="2895"/>
                  </a:lnTo>
                  <a:lnTo>
                    <a:pt x="16782" y="2663"/>
                  </a:lnTo>
                  <a:lnTo>
                    <a:pt x="16782" y="2316"/>
                  </a:lnTo>
                  <a:lnTo>
                    <a:pt x="16782" y="1968"/>
                  </a:lnTo>
                  <a:lnTo>
                    <a:pt x="16782" y="1621"/>
                  </a:lnTo>
                  <a:lnTo>
                    <a:pt x="16897" y="1389"/>
                  </a:lnTo>
                  <a:lnTo>
                    <a:pt x="17013" y="1042"/>
                  </a:lnTo>
                  <a:lnTo>
                    <a:pt x="17129" y="810"/>
                  </a:lnTo>
                  <a:lnTo>
                    <a:pt x="17360" y="579"/>
                  </a:lnTo>
                  <a:lnTo>
                    <a:pt x="17360" y="579"/>
                  </a:lnTo>
                  <a:lnTo>
                    <a:pt x="17707" y="347"/>
                  </a:lnTo>
                  <a:lnTo>
                    <a:pt x="18055" y="115"/>
                  </a:lnTo>
                  <a:lnTo>
                    <a:pt x="18518" y="0"/>
                  </a:lnTo>
                  <a:lnTo>
                    <a:pt x="18981" y="0"/>
                  </a:lnTo>
                  <a:lnTo>
                    <a:pt x="19328" y="0"/>
                  </a:lnTo>
                  <a:lnTo>
                    <a:pt x="19791" y="115"/>
                  </a:lnTo>
                  <a:lnTo>
                    <a:pt x="20138" y="347"/>
                  </a:lnTo>
                  <a:lnTo>
                    <a:pt x="20369" y="694"/>
                  </a:lnTo>
                  <a:lnTo>
                    <a:pt x="20369" y="694"/>
                  </a:lnTo>
                  <a:lnTo>
                    <a:pt x="20369" y="694"/>
                  </a:lnTo>
                  <a:lnTo>
                    <a:pt x="20369" y="694"/>
                  </a:lnTo>
                  <a:lnTo>
                    <a:pt x="20369"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201320" y="2932560"/>
              <a:ext cx="123840" cy="192600"/>
            </a:xfrm>
            <a:custGeom>
              <a:avLst/>
              <a:gdLst/>
              <a:ahLst/>
              <a:rect l="l" t="t" r="r" b="b"/>
              <a:pathLst>
                <a:path w="3240" h="3590">
                  <a:moveTo>
                    <a:pt x="3124" y="926"/>
                  </a:moveTo>
                  <a:lnTo>
                    <a:pt x="3124" y="1274"/>
                  </a:lnTo>
                  <a:lnTo>
                    <a:pt x="3240" y="1621"/>
                  </a:lnTo>
                  <a:lnTo>
                    <a:pt x="3240" y="1969"/>
                  </a:lnTo>
                  <a:lnTo>
                    <a:pt x="3240" y="2316"/>
                  </a:lnTo>
                  <a:lnTo>
                    <a:pt x="3240" y="2663"/>
                  </a:lnTo>
                  <a:lnTo>
                    <a:pt x="3124" y="2895"/>
                  </a:lnTo>
                  <a:lnTo>
                    <a:pt x="3009" y="3243"/>
                  </a:lnTo>
                  <a:lnTo>
                    <a:pt x="2893" y="3590"/>
                  </a:lnTo>
                  <a:lnTo>
                    <a:pt x="2893" y="3590"/>
                  </a:lnTo>
                  <a:lnTo>
                    <a:pt x="2546" y="3590"/>
                  </a:lnTo>
                  <a:lnTo>
                    <a:pt x="2546" y="3243"/>
                  </a:lnTo>
                  <a:lnTo>
                    <a:pt x="2661" y="3243"/>
                  </a:lnTo>
                  <a:lnTo>
                    <a:pt x="2661" y="3243"/>
                  </a:lnTo>
                  <a:lnTo>
                    <a:pt x="2661" y="3011"/>
                  </a:lnTo>
                  <a:lnTo>
                    <a:pt x="2777" y="2663"/>
                  </a:lnTo>
                  <a:lnTo>
                    <a:pt x="2893" y="2432"/>
                  </a:lnTo>
                  <a:lnTo>
                    <a:pt x="2893" y="2084"/>
                  </a:lnTo>
                  <a:lnTo>
                    <a:pt x="3009" y="1737"/>
                  </a:lnTo>
                  <a:lnTo>
                    <a:pt x="2893" y="1505"/>
                  </a:lnTo>
                  <a:lnTo>
                    <a:pt x="2893" y="1158"/>
                  </a:lnTo>
                  <a:lnTo>
                    <a:pt x="2777" y="926"/>
                  </a:lnTo>
                  <a:lnTo>
                    <a:pt x="2777" y="926"/>
                  </a:lnTo>
                  <a:lnTo>
                    <a:pt x="2661" y="811"/>
                  </a:lnTo>
                  <a:lnTo>
                    <a:pt x="2546" y="695"/>
                  </a:lnTo>
                  <a:lnTo>
                    <a:pt x="2430" y="579"/>
                  </a:lnTo>
                  <a:lnTo>
                    <a:pt x="2198" y="463"/>
                  </a:lnTo>
                  <a:lnTo>
                    <a:pt x="2083" y="347"/>
                  </a:lnTo>
                  <a:lnTo>
                    <a:pt x="1967" y="231"/>
                  </a:lnTo>
                  <a:lnTo>
                    <a:pt x="1851" y="231"/>
                  </a:lnTo>
                  <a:lnTo>
                    <a:pt x="1736" y="231"/>
                  </a:lnTo>
                  <a:lnTo>
                    <a:pt x="1736" y="231"/>
                  </a:lnTo>
                  <a:lnTo>
                    <a:pt x="1504" y="231"/>
                  </a:lnTo>
                  <a:lnTo>
                    <a:pt x="1273" y="347"/>
                  </a:lnTo>
                  <a:lnTo>
                    <a:pt x="1041" y="347"/>
                  </a:lnTo>
                  <a:lnTo>
                    <a:pt x="925" y="463"/>
                  </a:lnTo>
                  <a:lnTo>
                    <a:pt x="694" y="695"/>
                  </a:lnTo>
                  <a:lnTo>
                    <a:pt x="578" y="811"/>
                  </a:lnTo>
                  <a:lnTo>
                    <a:pt x="462" y="926"/>
                  </a:lnTo>
                  <a:lnTo>
                    <a:pt x="347" y="1158"/>
                  </a:lnTo>
                  <a:lnTo>
                    <a:pt x="347" y="1158"/>
                  </a:lnTo>
                  <a:lnTo>
                    <a:pt x="347" y="2432"/>
                  </a:lnTo>
                  <a:lnTo>
                    <a:pt x="347" y="2432"/>
                  </a:lnTo>
                  <a:lnTo>
                    <a:pt x="115" y="2316"/>
                  </a:lnTo>
                  <a:lnTo>
                    <a:pt x="115" y="2200"/>
                  </a:lnTo>
                  <a:lnTo>
                    <a:pt x="0" y="1969"/>
                  </a:lnTo>
                  <a:lnTo>
                    <a:pt x="0" y="1737"/>
                  </a:lnTo>
                  <a:lnTo>
                    <a:pt x="0" y="1505"/>
                  </a:lnTo>
                  <a:lnTo>
                    <a:pt x="0" y="1390"/>
                  </a:lnTo>
                  <a:lnTo>
                    <a:pt x="0" y="1158"/>
                  </a:lnTo>
                  <a:lnTo>
                    <a:pt x="115" y="926"/>
                  </a:lnTo>
                  <a:lnTo>
                    <a:pt x="115" y="926"/>
                  </a:lnTo>
                  <a:lnTo>
                    <a:pt x="347" y="579"/>
                  </a:lnTo>
                  <a:lnTo>
                    <a:pt x="694" y="231"/>
                  </a:lnTo>
                  <a:lnTo>
                    <a:pt x="1041" y="116"/>
                  </a:lnTo>
                  <a:lnTo>
                    <a:pt x="1504" y="0"/>
                  </a:lnTo>
                  <a:lnTo>
                    <a:pt x="2083" y="0"/>
                  </a:lnTo>
                  <a:lnTo>
                    <a:pt x="2430" y="231"/>
                  </a:lnTo>
                  <a:lnTo>
                    <a:pt x="2777" y="463"/>
                  </a:lnTo>
                  <a:lnTo>
                    <a:pt x="3124" y="926"/>
                  </a:lnTo>
                  <a:lnTo>
                    <a:pt x="3124" y="926"/>
                  </a:lnTo>
                  <a:lnTo>
                    <a:pt x="3124" y="926"/>
                  </a:lnTo>
                  <a:lnTo>
                    <a:pt x="3124" y="926"/>
                  </a:lnTo>
                  <a:lnTo>
                    <a:pt x="3124"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334160" y="2945160"/>
              <a:ext cx="70560" cy="211320"/>
            </a:xfrm>
            <a:custGeom>
              <a:avLst/>
              <a:gdLst/>
              <a:ahLst/>
              <a:rect l="l" t="t" r="r" b="b"/>
              <a:pathLst>
                <a:path w="1851" h="3938">
                  <a:moveTo>
                    <a:pt x="1851" y="1853"/>
                  </a:moveTo>
                  <a:lnTo>
                    <a:pt x="1851" y="1969"/>
                  </a:lnTo>
                  <a:lnTo>
                    <a:pt x="1851" y="2201"/>
                  </a:lnTo>
                  <a:lnTo>
                    <a:pt x="1851" y="2317"/>
                  </a:lnTo>
                  <a:lnTo>
                    <a:pt x="1736" y="2432"/>
                  </a:lnTo>
                  <a:lnTo>
                    <a:pt x="1736" y="2548"/>
                  </a:lnTo>
                  <a:lnTo>
                    <a:pt x="1736" y="2664"/>
                  </a:lnTo>
                  <a:lnTo>
                    <a:pt x="1736" y="2896"/>
                  </a:lnTo>
                  <a:lnTo>
                    <a:pt x="1736" y="3012"/>
                  </a:lnTo>
                  <a:lnTo>
                    <a:pt x="1736" y="3012"/>
                  </a:lnTo>
                  <a:lnTo>
                    <a:pt x="1620" y="3127"/>
                  </a:lnTo>
                  <a:lnTo>
                    <a:pt x="1620" y="3243"/>
                  </a:lnTo>
                  <a:lnTo>
                    <a:pt x="1504" y="3359"/>
                  </a:lnTo>
                  <a:lnTo>
                    <a:pt x="1388" y="3475"/>
                  </a:lnTo>
                  <a:lnTo>
                    <a:pt x="1273" y="3591"/>
                  </a:lnTo>
                  <a:lnTo>
                    <a:pt x="1157" y="3706"/>
                  </a:lnTo>
                  <a:lnTo>
                    <a:pt x="1041" y="3822"/>
                  </a:lnTo>
                  <a:lnTo>
                    <a:pt x="925" y="3938"/>
                  </a:lnTo>
                  <a:lnTo>
                    <a:pt x="925" y="3938"/>
                  </a:lnTo>
                  <a:lnTo>
                    <a:pt x="810" y="3938"/>
                  </a:lnTo>
                  <a:lnTo>
                    <a:pt x="810" y="3938"/>
                  </a:lnTo>
                  <a:lnTo>
                    <a:pt x="694" y="3938"/>
                  </a:lnTo>
                  <a:lnTo>
                    <a:pt x="694" y="3822"/>
                  </a:lnTo>
                  <a:lnTo>
                    <a:pt x="694" y="3822"/>
                  </a:lnTo>
                  <a:lnTo>
                    <a:pt x="694" y="3706"/>
                  </a:lnTo>
                  <a:lnTo>
                    <a:pt x="694" y="3706"/>
                  </a:lnTo>
                  <a:lnTo>
                    <a:pt x="694" y="3591"/>
                  </a:lnTo>
                  <a:lnTo>
                    <a:pt x="694" y="3591"/>
                  </a:lnTo>
                  <a:lnTo>
                    <a:pt x="925" y="3243"/>
                  </a:lnTo>
                  <a:lnTo>
                    <a:pt x="1157" y="3012"/>
                  </a:lnTo>
                  <a:lnTo>
                    <a:pt x="1273" y="2664"/>
                  </a:lnTo>
                  <a:lnTo>
                    <a:pt x="1273" y="2317"/>
                  </a:lnTo>
                  <a:lnTo>
                    <a:pt x="1273" y="1969"/>
                  </a:lnTo>
                  <a:lnTo>
                    <a:pt x="1157" y="1622"/>
                  </a:lnTo>
                  <a:lnTo>
                    <a:pt x="1041" y="1274"/>
                  </a:lnTo>
                  <a:lnTo>
                    <a:pt x="1041" y="811"/>
                  </a:lnTo>
                  <a:lnTo>
                    <a:pt x="1041" y="811"/>
                  </a:lnTo>
                  <a:lnTo>
                    <a:pt x="925" y="811"/>
                  </a:lnTo>
                  <a:lnTo>
                    <a:pt x="810" y="695"/>
                  </a:lnTo>
                  <a:lnTo>
                    <a:pt x="694" y="580"/>
                  </a:lnTo>
                  <a:lnTo>
                    <a:pt x="578" y="464"/>
                  </a:lnTo>
                  <a:lnTo>
                    <a:pt x="462" y="464"/>
                  </a:lnTo>
                  <a:lnTo>
                    <a:pt x="347" y="464"/>
                  </a:lnTo>
                  <a:lnTo>
                    <a:pt x="231" y="464"/>
                  </a:lnTo>
                  <a:lnTo>
                    <a:pt x="115" y="464"/>
                  </a:lnTo>
                  <a:lnTo>
                    <a:pt x="115" y="464"/>
                  </a:lnTo>
                  <a:lnTo>
                    <a:pt x="0" y="116"/>
                  </a:lnTo>
                  <a:lnTo>
                    <a:pt x="0" y="116"/>
                  </a:lnTo>
                  <a:lnTo>
                    <a:pt x="115" y="116"/>
                  </a:lnTo>
                  <a:lnTo>
                    <a:pt x="231" y="0"/>
                  </a:lnTo>
                  <a:lnTo>
                    <a:pt x="347" y="0"/>
                  </a:lnTo>
                  <a:lnTo>
                    <a:pt x="462" y="0"/>
                  </a:lnTo>
                  <a:lnTo>
                    <a:pt x="694" y="116"/>
                  </a:lnTo>
                  <a:lnTo>
                    <a:pt x="810" y="116"/>
                  </a:lnTo>
                  <a:lnTo>
                    <a:pt x="925" y="232"/>
                  </a:lnTo>
                  <a:lnTo>
                    <a:pt x="1041" y="232"/>
                  </a:lnTo>
                  <a:lnTo>
                    <a:pt x="1041" y="232"/>
                  </a:lnTo>
                  <a:lnTo>
                    <a:pt x="1273" y="464"/>
                  </a:lnTo>
                  <a:lnTo>
                    <a:pt x="1388" y="580"/>
                  </a:lnTo>
                  <a:lnTo>
                    <a:pt x="1504" y="811"/>
                  </a:lnTo>
                  <a:lnTo>
                    <a:pt x="1620" y="1043"/>
                  </a:lnTo>
                  <a:lnTo>
                    <a:pt x="1620" y="1159"/>
                  </a:lnTo>
                  <a:lnTo>
                    <a:pt x="1736" y="1390"/>
                  </a:lnTo>
                  <a:lnTo>
                    <a:pt x="1736" y="1622"/>
                  </a:lnTo>
                  <a:lnTo>
                    <a:pt x="1851" y="1853"/>
                  </a:lnTo>
                  <a:lnTo>
                    <a:pt x="1851" y="1853"/>
                  </a:lnTo>
                  <a:lnTo>
                    <a:pt x="1851" y="1853"/>
                  </a:lnTo>
                  <a:lnTo>
                    <a:pt x="1851" y="1853"/>
                  </a:lnTo>
                  <a:lnTo>
                    <a:pt x="1851" y="18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227960" y="2970000"/>
              <a:ext cx="52920" cy="99360"/>
            </a:xfrm>
            <a:custGeom>
              <a:avLst/>
              <a:gdLst/>
              <a:ahLst/>
              <a:rect l="l" t="t" r="r" b="b"/>
              <a:pathLst>
                <a:path w="1389" h="1853">
                  <a:moveTo>
                    <a:pt x="1389" y="347"/>
                  </a:moveTo>
                  <a:lnTo>
                    <a:pt x="1157" y="579"/>
                  </a:lnTo>
                  <a:lnTo>
                    <a:pt x="1042" y="810"/>
                  </a:lnTo>
                  <a:lnTo>
                    <a:pt x="926" y="1042"/>
                  </a:lnTo>
                  <a:lnTo>
                    <a:pt x="810" y="1389"/>
                  </a:lnTo>
                  <a:lnTo>
                    <a:pt x="810" y="1621"/>
                  </a:lnTo>
                  <a:lnTo>
                    <a:pt x="694" y="1853"/>
                  </a:lnTo>
                  <a:lnTo>
                    <a:pt x="463" y="1853"/>
                  </a:lnTo>
                  <a:lnTo>
                    <a:pt x="116" y="1737"/>
                  </a:lnTo>
                  <a:lnTo>
                    <a:pt x="116" y="1737"/>
                  </a:lnTo>
                  <a:lnTo>
                    <a:pt x="0" y="1505"/>
                  </a:lnTo>
                  <a:lnTo>
                    <a:pt x="0" y="1274"/>
                  </a:lnTo>
                  <a:lnTo>
                    <a:pt x="0" y="1042"/>
                  </a:lnTo>
                  <a:lnTo>
                    <a:pt x="116" y="810"/>
                  </a:lnTo>
                  <a:lnTo>
                    <a:pt x="116" y="579"/>
                  </a:lnTo>
                  <a:lnTo>
                    <a:pt x="231" y="347"/>
                  </a:lnTo>
                  <a:lnTo>
                    <a:pt x="463" y="231"/>
                  </a:lnTo>
                  <a:lnTo>
                    <a:pt x="694" y="116"/>
                  </a:lnTo>
                  <a:lnTo>
                    <a:pt x="694" y="116"/>
                  </a:lnTo>
                  <a:lnTo>
                    <a:pt x="810" y="0"/>
                  </a:lnTo>
                  <a:lnTo>
                    <a:pt x="926" y="0"/>
                  </a:lnTo>
                  <a:lnTo>
                    <a:pt x="1042" y="0"/>
                  </a:lnTo>
                  <a:lnTo>
                    <a:pt x="1157" y="116"/>
                  </a:lnTo>
                  <a:lnTo>
                    <a:pt x="1157" y="116"/>
                  </a:lnTo>
                  <a:lnTo>
                    <a:pt x="1273" y="116"/>
                  </a:lnTo>
                  <a:lnTo>
                    <a:pt x="1389" y="231"/>
                  </a:lnTo>
                  <a:lnTo>
                    <a:pt x="1389" y="347"/>
                  </a:lnTo>
                  <a:lnTo>
                    <a:pt x="1389" y="347"/>
                  </a:lnTo>
                  <a:lnTo>
                    <a:pt x="1389" y="347"/>
                  </a:lnTo>
                  <a:lnTo>
                    <a:pt x="1389" y="347"/>
                  </a:lnTo>
                  <a:lnTo>
                    <a:pt x="1389"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413720" y="2988720"/>
              <a:ext cx="70560" cy="192600"/>
            </a:xfrm>
            <a:custGeom>
              <a:avLst/>
              <a:gdLst/>
              <a:ahLst/>
              <a:rect l="l" t="t" r="r" b="b"/>
              <a:pathLst>
                <a:path w="1851" h="3590">
                  <a:moveTo>
                    <a:pt x="1620" y="695"/>
                  </a:moveTo>
                  <a:lnTo>
                    <a:pt x="1736" y="927"/>
                  </a:lnTo>
                  <a:lnTo>
                    <a:pt x="1736" y="1158"/>
                  </a:lnTo>
                  <a:lnTo>
                    <a:pt x="1851" y="1390"/>
                  </a:lnTo>
                  <a:lnTo>
                    <a:pt x="1851" y="1621"/>
                  </a:lnTo>
                  <a:lnTo>
                    <a:pt x="1851" y="1853"/>
                  </a:lnTo>
                  <a:lnTo>
                    <a:pt x="1851" y="2085"/>
                  </a:lnTo>
                  <a:lnTo>
                    <a:pt x="1851" y="2316"/>
                  </a:lnTo>
                  <a:lnTo>
                    <a:pt x="1736" y="2432"/>
                  </a:lnTo>
                  <a:lnTo>
                    <a:pt x="1736" y="2432"/>
                  </a:lnTo>
                  <a:lnTo>
                    <a:pt x="1736" y="2664"/>
                  </a:lnTo>
                  <a:lnTo>
                    <a:pt x="1620" y="2780"/>
                  </a:lnTo>
                  <a:lnTo>
                    <a:pt x="1504" y="2895"/>
                  </a:lnTo>
                  <a:lnTo>
                    <a:pt x="1388" y="3127"/>
                  </a:lnTo>
                  <a:lnTo>
                    <a:pt x="1273" y="3243"/>
                  </a:lnTo>
                  <a:lnTo>
                    <a:pt x="1157" y="3359"/>
                  </a:lnTo>
                  <a:lnTo>
                    <a:pt x="1041" y="3474"/>
                  </a:lnTo>
                  <a:lnTo>
                    <a:pt x="926" y="3590"/>
                  </a:lnTo>
                  <a:lnTo>
                    <a:pt x="926" y="3590"/>
                  </a:lnTo>
                  <a:lnTo>
                    <a:pt x="810" y="3590"/>
                  </a:lnTo>
                  <a:lnTo>
                    <a:pt x="694" y="3590"/>
                  </a:lnTo>
                  <a:lnTo>
                    <a:pt x="694" y="3474"/>
                  </a:lnTo>
                  <a:lnTo>
                    <a:pt x="578" y="3474"/>
                  </a:lnTo>
                  <a:lnTo>
                    <a:pt x="578" y="3359"/>
                  </a:lnTo>
                  <a:lnTo>
                    <a:pt x="578" y="3359"/>
                  </a:lnTo>
                  <a:lnTo>
                    <a:pt x="578" y="3243"/>
                  </a:lnTo>
                  <a:lnTo>
                    <a:pt x="578" y="3127"/>
                  </a:lnTo>
                  <a:lnTo>
                    <a:pt x="578" y="3127"/>
                  </a:lnTo>
                  <a:lnTo>
                    <a:pt x="694" y="3127"/>
                  </a:lnTo>
                  <a:lnTo>
                    <a:pt x="810" y="3011"/>
                  </a:lnTo>
                  <a:lnTo>
                    <a:pt x="926" y="2895"/>
                  </a:lnTo>
                  <a:lnTo>
                    <a:pt x="1041" y="2780"/>
                  </a:lnTo>
                  <a:lnTo>
                    <a:pt x="1041" y="2664"/>
                  </a:lnTo>
                  <a:lnTo>
                    <a:pt x="1157" y="2432"/>
                  </a:lnTo>
                  <a:lnTo>
                    <a:pt x="1157" y="2316"/>
                  </a:lnTo>
                  <a:lnTo>
                    <a:pt x="1157" y="2201"/>
                  </a:lnTo>
                  <a:lnTo>
                    <a:pt x="1157" y="2201"/>
                  </a:lnTo>
                  <a:lnTo>
                    <a:pt x="1157" y="1969"/>
                  </a:lnTo>
                  <a:lnTo>
                    <a:pt x="1157" y="1621"/>
                  </a:lnTo>
                  <a:lnTo>
                    <a:pt x="1157" y="1390"/>
                  </a:lnTo>
                  <a:lnTo>
                    <a:pt x="1041" y="1042"/>
                  </a:lnTo>
                  <a:lnTo>
                    <a:pt x="926" y="811"/>
                  </a:lnTo>
                  <a:lnTo>
                    <a:pt x="810" y="579"/>
                  </a:lnTo>
                  <a:lnTo>
                    <a:pt x="578" y="348"/>
                  </a:lnTo>
                  <a:lnTo>
                    <a:pt x="347" y="232"/>
                  </a:lnTo>
                  <a:lnTo>
                    <a:pt x="347" y="232"/>
                  </a:lnTo>
                  <a:lnTo>
                    <a:pt x="347" y="232"/>
                  </a:lnTo>
                  <a:lnTo>
                    <a:pt x="231" y="232"/>
                  </a:lnTo>
                  <a:lnTo>
                    <a:pt x="231" y="232"/>
                  </a:lnTo>
                  <a:lnTo>
                    <a:pt x="115" y="232"/>
                  </a:lnTo>
                  <a:lnTo>
                    <a:pt x="115" y="232"/>
                  </a:lnTo>
                  <a:lnTo>
                    <a:pt x="115" y="232"/>
                  </a:lnTo>
                  <a:lnTo>
                    <a:pt x="0" y="232"/>
                  </a:lnTo>
                  <a:lnTo>
                    <a:pt x="0" y="116"/>
                  </a:lnTo>
                  <a:lnTo>
                    <a:pt x="0" y="116"/>
                  </a:lnTo>
                  <a:lnTo>
                    <a:pt x="231" y="0"/>
                  </a:lnTo>
                  <a:lnTo>
                    <a:pt x="347" y="0"/>
                  </a:lnTo>
                  <a:lnTo>
                    <a:pt x="578" y="0"/>
                  </a:lnTo>
                  <a:lnTo>
                    <a:pt x="810" y="0"/>
                  </a:lnTo>
                  <a:lnTo>
                    <a:pt x="1041" y="116"/>
                  </a:lnTo>
                  <a:lnTo>
                    <a:pt x="1273" y="232"/>
                  </a:lnTo>
                  <a:lnTo>
                    <a:pt x="1504" y="463"/>
                  </a:lnTo>
                  <a:lnTo>
                    <a:pt x="1620" y="695"/>
                  </a:lnTo>
                  <a:lnTo>
                    <a:pt x="1620" y="695"/>
                  </a:lnTo>
                  <a:lnTo>
                    <a:pt x="1620" y="695"/>
                  </a:lnTo>
                  <a:lnTo>
                    <a:pt x="1620" y="695"/>
                  </a:lnTo>
                  <a:lnTo>
                    <a:pt x="1620"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493280" y="3013560"/>
              <a:ext cx="61920" cy="186480"/>
            </a:xfrm>
            <a:custGeom>
              <a:avLst/>
              <a:gdLst/>
              <a:ahLst/>
              <a:rect l="l" t="t" r="r" b="b"/>
              <a:pathLst>
                <a:path w="1620" h="3475">
                  <a:moveTo>
                    <a:pt x="1620" y="1390"/>
                  </a:moveTo>
                  <a:lnTo>
                    <a:pt x="1620" y="1622"/>
                  </a:lnTo>
                  <a:lnTo>
                    <a:pt x="1620" y="1853"/>
                  </a:lnTo>
                  <a:lnTo>
                    <a:pt x="1620" y="2085"/>
                  </a:lnTo>
                  <a:lnTo>
                    <a:pt x="1620" y="2317"/>
                  </a:lnTo>
                  <a:lnTo>
                    <a:pt x="1620" y="2432"/>
                  </a:lnTo>
                  <a:lnTo>
                    <a:pt x="1620" y="2664"/>
                  </a:lnTo>
                  <a:lnTo>
                    <a:pt x="1504" y="2896"/>
                  </a:lnTo>
                  <a:lnTo>
                    <a:pt x="1389" y="3011"/>
                  </a:lnTo>
                  <a:lnTo>
                    <a:pt x="1389" y="3011"/>
                  </a:lnTo>
                  <a:lnTo>
                    <a:pt x="1273" y="3127"/>
                  </a:lnTo>
                  <a:lnTo>
                    <a:pt x="1157" y="3127"/>
                  </a:lnTo>
                  <a:lnTo>
                    <a:pt x="1041" y="3243"/>
                  </a:lnTo>
                  <a:lnTo>
                    <a:pt x="1041" y="3359"/>
                  </a:lnTo>
                  <a:lnTo>
                    <a:pt x="926" y="3475"/>
                  </a:lnTo>
                  <a:lnTo>
                    <a:pt x="926" y="3475"/>
                  </a:lnTo>
                  <a:lnTo>
                    <a:pt x="810" y="3475"/>
                  </a:lnTo>
                  <a:lnTo>
                    <a:pt x="694" y="3359"/>
                  </a:lnTo>
                  <a:lnTo>
                    <a:pt x="694" y="3359"/>
                  </a:lnTo>
                  <a:lnTo>
                    <a:pt x="694" y="3243"/>
                  </a:lnTo>
                  <a:lnTo>
                    <a:pt x="810" y="3127"/>
                  </a:lnTo>
                  <a:lnTo>
                    <a:pt x="810" y="3011"/>
                  </a:lnTo>
                  <a:lnTo>
                    <a:pt x="926" y="2896"/>
                  </a:lnTo>
                  <a:lnTo>
                    <a:pt x="1041" y="2780"/>
                  </a:lnTo>
                  <a:lnTo>
                    <a:pt x="1157" y="2664"/>
                  </a:lnTo>
                  <a:lnTo>
                    <a:pt x="1273" y="2548"/>
                  </a:lnTo>
                  <a:lnTo>
                    <a:pt x="1273" y="2432"/>
                  </a:lnTo>
                  <a:lnTo>
                    <a:pt x="1273" y="2432"/>
                  </a:lnTo>
                  <a:lnTo>
                    <a:pt x="1389" y="2085"/>
                  </a:lnTo>
                  <a:lnTo>
                    <a:pt x="1389" y="1853"/>
                  </a:lnTo>
                  <a:lnTo>
                    <a:pt x="1273" y="1506"/>
                  </a:lnTo>
                  <a:lnTo>
                    <a:pt x="1157" y="1274"/>
                  </a:lnTo>
                  <a:lnTo>
                    <a:pt x="1041" y="1043"/>
                  </a:lnTo>
                  <a:lnTo>
                    <a:pt x="810" y="811"/>
                  </a:lnTo>
                  <a:lnTo>
                    <a:pt x="579" y="579"/>
                  </a:lnTo>
                  <a:lnTo>
                    <a:pt x="347" y="348"/>
                  </a:lnTo>
                  <a:lnTo>
                    <a:pt x="347" y="348"/>
                  </a:lnTo>
                  <a:lnTo>
                    <a:pt x="347" y="464"/>
                  </a:lnTo>
                  <a:lnTo>
                    <a:pt x="231" y="464"/>
                  </a:lnTo>
                  <a:lnTo>
                    <a:pt x="116" y="348"/>
                  </a:lnTo>
                  <a:lnTo>
                    <a:pt x="116" y="348"/>
                  </a:lnTo>
                  <a:lnTo>
                    <a:pt x="0" y="348"/>
                  </a:lnTo>
                  <a:lnTo>
                    <a:pt x="0" y="232"/>
                  </a:lnTo>
                  <a:lnTo>
                    <a:pt x="0" y="232"/>
                  </a:lnTo>
                  <a:lnTo>
                    <a:pt x="0" y="116"/>
                  </a:lnTo>
                  <a:lnTo>
                    <a:pt x="0" y="116"/>
                  </a:lnTo>
                  <a:lnTo>
                    <a:pt x="0" y="0"/>
                  </a:lnTo>
                  <a:lnTo>
                    <a:pt x="0" y="0"/>
                  </a:lnTo>
                  <a:lnTo>
                    <a:pt x="0" y="0"/>
                  </a:lnTo>
                  <a:lnTo>
                    <a:pt x="0" y="0"/>
                  </a:lnTo>
                  <a:lnTo>
                    <a:pt x="116" y="0"/>
                  </a:lnTo>
                  <a:lnTo>
                    <a:pt x="116" y="0"/>
                  </a:lnTo>
                  <a:lnTo>
                    <a:pt x="116" y="0"/>
                  </a:lnTo>
                  <a:lnTo>
                    <a:pt x="116" y="0"/>
                  </a:lnTo>
                  <a:lnTo>
                    <a:pt x="116" y="0"/>
                  </a:lnTo>
                  <a:lnTo>
                    <a:pt x="463" y="0"/>
                  </a:lnTo>
                  <a:lnTo>
                    <a:pt x="694" y="116"/>
                  </a:lnTo>
                  <a:lnTo>
                    <a:pt x="926" y="348"/>
                  </a:lnTo>
                  <a:lnTo>
                    <a:pt x="1041" y="464"/>
                  </a:lnTo>
                  <a:lnTo>
                    <a:pt x="1273" y="695"/>
                  </a:lnTo>
                  <a:lnTo>
                    <a:pt x="1389" y="927"/>
                  </a:lnTo>
                  <a:lnTo>
                    <a:pt x="1504" y="1158"/>
                  </a:lnTo>
                  <a:lnTo>
                    <a:pt x="1620" y="1390"/>
                  </a:lnTo>
                  <a:lnTo>
                    <a:pt x="1620" y="1390"/>
                  </a:lnTo>
                  <a:lnTo>
                    <a:pt x="1620" y="1390"/>
                  </a:lnTo>
                  <a:lnTo>
                    <a:pt x="1620" y="1390"/>
                  </a:lnTo>
                  <a:lnTo>
                    <a:pt x="1620"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59520" y="3025800"/>
              <a:ext cx="79560" cy="192600"/>
            </a:xfrm>
            <a:custGeom>
              <a:avLst/>
              <a:gdLst/>
              <a:ahLst/>
              <a:rect l="l" t="t" r="r" b="b"/>
              <a:pathLst>
                <a:path w="2083" h="3590">
                  <a:moveTo>
                    <a:pt x="2083" y="1390"/>
                  </a:moveTo>
                  <a:lnTo>
                    <a:pt x="2083" y="1737"/>
                  </a:lnTo>
                  <a:lnTo>
                    <a:pt x="2083" y="1969"/>
                  </a:lnTo>
                  <a:lnTo>
                    <a:pt x="2083" y="2200"/>
                  </a:lnTo>
                  <a:lnTo>
                    <a:pt x="2083" y="2548"/>
                  </a:lnTo>
                  <a:lnTo>
                    <a:pt x="1967" y="2779"/>
                  </a:lnTo>
                  <a:lnTo>
                    <a:pt x="1967" y="3011"/>
                  </a:lnTo>
                  <a:lnTo>
                    <a:pt x="1852" y="3243"/>
                  </a:lnTo>
                  <a:lnTo>
                    <a:pt x="1620" y="3474"/>
                  </a:lnTo>
                  <a:lnTo>
                    <a:pt x="1620" y="3474"/>
                  </a:lnTo>
                  <a:lnTo>
                    <a:pt x="1620" y="3474"/>
                  </a:lnTo>
                  <a:lnTo>
                    <a:pt x="1504" y="3474"/>
                  </a:lnTo>
                  <a:lnTo>
                    <a:pt x="1389" y="3474"/>
                  </a:lnTo>
                  <a:lnTo>
                    <a:pt x="1273" y="3590"/>
                  </a:lnTo>
                  <a:lnTo>
                    <a:pt x="1273" y="3590"/>
                  </a:lnTo>
                  <a:lnTo>
                    <a:pt x="1157" y="3590"/>
                  </a:lnTo>
                  <a:lnTo>
                    <a:pt x="1041" y="3590"/>
                  </a:lnTo>
                  <a:lnTo>
                    <a:pt x="1041" y="3474"/>
                  </a:lnTo>
                  <a:lnTo>
                    <a:pt x="1041" y="3474"/>
                  </a:lnTo>
                  <a:lnTo>
                    <a:pt x="1157" y="3358"/>
                  </a:lnTo>
                  <a:lnTo>
                    <a:pt x="1273" y="3243"/>
                  </a:lnTo>
                  <a:lnTo>
                    <a:pt x="1389" y="3011"/>
                  </a:lnTo>
                  <a:lnTo>
                    <a:pt x="1504" y="2895"/>
                  </a:lnTo>
                  <a:lnTo>
                    <a:pt x="1504" y="2664"/>
                  </a:lnTo>
                  <a:lnTo>
                    <a:pt x="1620" y="2432"/>
                  </a:lnTo>
                  <a:lnTo>
                    <a:pt x="1620" y="2200"/>
                  </a:lnTo>
                  <a:lnTo>
                    <a:pt x="1620" y="1969"/>
                  </a:lnTo>
                  <a:lnTo>
                    <a:pt x="1620" y="1969"/>
                  </a:lnTo>
                  <a:lnTo>
                    <a:pt x="1620" y="1853"/>
                  </a:lnTo>
                  <a:lnTo>
                    <a:pt x="1620" y="1621"/>
                  </a:lnTo>
                  <a:lnTo>
                    <a:pt x="1504" y="1390"/>
                  </a:lnTo>
                  <a:lnTo>
                    <a:pt x="1389" y="1274"/>
                  </a:lnTo>
                  <a:lnTo>
                    <a:pt x="1273" y="1042"/>
                  </a:lnTo>
                  <a:lnTo>
                    <a:pt x="1157" y="811"/>
                  </a:lnTo>
                  <a:lnTo>
                    <a:pt x="1041" y="695"/>
                  </a:lnTo>
                  <a:lnTo>
                    <a:pt x="810" y="463"/>
                  </a:lnTo>
                  <a:lnTo>
                    <a:pt x="810" y="463"/>
                  </a:lnTo>
                  <a:lnTo>
                    <a:pt x="694" y="463"/>
                  </a:lnTo>
                  <a:lnTo>
                    <a:pt x="579" y="347"/>
                  </a:lnTo>
                  <a:lnTo>
                    <a:pt x="463" y="347"/>
                  </a:lnTo>
                  <a:lnTo>
                    <a:pt x="347" y="463"/>
                  </a:lnTo>
                  <a:lnTo>
                    <a:pt x="231" y="463"/>
                  </a:lnTo>
                  <a:lnTo>
                    <a:pt x="116" y="347"/>
                  </a:lnTo>
                  <a:lnTo>
                    <a:pt x="0" y="347"/>
                  </a:lnTo>
                  <a:lnTo>
                    <a:pt x="0" y="116"/>
                  </a:lnTo>
                  <a:lnTo>
                    <a:pt x="0" y="116"/>
                  </a:lnTo>
                  <a:lnTo>
                    <a:pt x="347" y="0"/>
                  </a:lnTo>
                  <a:lnTo>
                    <a:pt x="579" y="0"/>
                  </a:lnTo>
                  <a:lnTo>
                    <a:pt x="926" y="116"/>
                  </a:lnTo>
                  <a:lnTo>
                    <a:pt x="1157" y="347"/>
                  </a:lnTo>
                  <a:lnTo>
                    <a:pt x="1389" y="579"/>
                  </a:lnTo>
                  <a:lnTo>
                    <a:pt x="1620" y="811"/>
                  </a:lnTo>
                  <a:lnTo>
                    <a:pt x="1852" y="1158"/>
                  </a:lnTo>
                  <a:lnTo>
                    <a:pt x="2083" y="1390"/>
                  </a:lnTo>
                  <a:lnTo>
                    <a:pt x="2083" y="1390"/>
                  </a:lnTo>
                  <a:lnTo>
                    <a:pt x="2083" y="1390"/>
                  </a:lnTo>
                  <a:lnTo>
                    <a:pt x="2083" y="1390"/>
                  </a:lnTo>
                  <a:lnTo>
                    <a:pt x="2083"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30440" y="3032280"/>
              <a:ext cx="74880" cy="173880"/>
            </a:xfrm>
            <a:custGeom>
              <a:avLst/>
              <a:gdLst/>
              <a:ahLst/>
              <a:rect l="l" t="t" r="r" b="b"/>
              <a:pathLst>
                <a:path w="1967" h="3242">
                  <a:moveTo>
                    <a:pt x="1388" y="463"/>
                  </a:moveTo>
                  <a:lnTo>
                    <a:pt x="1620" y="695"/>
                  </a:lnTo>
                  <a:lnTo>
                    <a:pt x="1736" y="810"/>
                  </a:lnTo>
                  <a:lnTo>
                    <a:pt x="1851" y="1042"/>
                  </a:lnTo>
                  <a:lnTo>
                    <a:pt x="1967" y="1274"/>
                  </a:lnTo>
                  <a:lnTo>
                    <a:pt x="1967" y="1621"/>
                  </a:lnTo>
                  <a:lnTo>
                    <a:pt x="1967" y="1853"/>
                  </a:lnTo>
                  <a:lnTo>
                    <a:pt x="1967" y="2084"/>
                  </a:lnTo>
                  <a:lnTo>
                    <a:pt x="1967" y="2316"/>
                  </a:lnTo>
                  <a:lnTo>
                    <a:pt x="1967" y="2316"/>
                  </a:lnTo>
                  <a:lnTo>
                    <a:pt x="1851" y="2548"/>
                  </a:lnTo>
                  <a:lnTo>
                    <a:pt x="1851" y="2663"/>
                  </a:lnTo>
                  <a:lnTo>
                    <a:pt x="1736" y="2779"/>
                  </a:lnTo>
                  <a:lnTo>
                    <a:pt x="1620" y="2895"/>
                  </a:lnTo>
                  <a:lnTo>
                    <a:pt x="1620" y="3011"/>
                  </a:lnTo>
                  <a:lnTo>
                    <a:pt x="1504" y="3127"/>
                  </a:lnTo>
                  <a:lnTo>
                    <a:pt x="1388" y="3242"/>
                  </a:lnTo>
                  <a:lnTo>
                    <a:pt x="1273" y="3242"/>
                  </a:lnTo>
                  <a:lnTo>
                    <a:pt x="1273" y="3242"/>
                  </a:lnTo>
                  <a:lnTo>
                    <a:pt x="1273" y="3011"/>
                  </a:lnTo>
                  <a:lnTo>
                    <a:pt x="1388" y="2663"/>
                  </a:lnTo>
                  <a:lnTo>
                    <a:pt x="1504" y="2316"/>
                  </a:lnTo>
                  <a:lnTo>
                    <a:pt x="1620" y="1969"/>
                  </a:lnTo>
                  <a:lnTo>
                    <a:pt x="1620" y="1621"/>
                  </a:lnTo>
                  <a:lnTo>
                    <a:pt x="1620" y="1274"/>
                  </a:lnTo>
                  <a:lnTo>
                    <a:pt x="1504" y="926"/>
                  </a:lnTo>
                  <a:lnTo>
                    <a:pt x="1273" y="695"/>
                  </a:lnTo>
                  <a:lnTo>
                    <a:pt x="1273" y="695"/>
                  </a:lnTo>
                  <a:lnTo>
                    <a:pt x="1157" y="579"/>
                  </a:lnTo>
                  <a:lnTo>
                    <a:pt x="925" y="579"/>
                  </a:lnTo>
                  <a:lnTo>
                    <a:pt x="810" y="463"/>
                  </a:lnTo>
                  <a:lnTo>
                    <a:pt x="578" y="463"/>
                  </a:lnTo>
                  <a:lnTo>
                    <a:pt x="463" y="463"/>
                  </a:lnTo>
                  <a:lnTo>
                    <a:pt x="231" y="463"/>
                  </a:lnTo>
                  <a:lnTo>
                    <a:pt x="115" y="347"/>
                  </a:lnTo>
                  <a:lnTo>
                    <a:pt x="0" y="231"/>
                  </a:lnTo>
                  <a:lnTo>
                    <a:pt x="0" y="231"/>
                  </a:lnTo>
                  <a:lnTo>
                    <a:pt x="231" y="116"/>
                  </a:lnTo>
                  <a:lnTo>
                    <a:pt x="347" y="0"/>
                  </a:lnTo>
                  <a:lnTo>
                    <a:pt x="578" y="0"/>
                  </a:lnTo>
                  <a:lnTo>
                    <a:pt x="810" y="0"/>
                  </a:lnTo>
                  <a:lnTo>
                    <a:pt x="925" y="116"/>
                  </a:lnTo>
                  <a:lnTo>
                    <a:pt x="1157" y="231"/>
                  </a:lnTo>
                  <a:lnTo>
                    <a:pt x="1273" y="347"/>
                  </a:lnTo>
                  <a:lnTo>
                    <a:pt x="1388" y="463"/>
                  </a:lnTo>
                  <a:lnTo>
                    <a:pt x="1388" y="463"/>
                  </a:lnTo>
                  <a:lnTo>
                    <a:pt x="1388" y="463"/>
                  </a:lnTo>
                  <a:lnTo>
                    <a:pt x="1388" y="463"/>
                  </a:lnTo>
                  <a:lnTo>
                    <a:pt x="138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719000" y="3069360"/>
              <a:ext cx="57240" cy="167760"/>
            </a:xfrm>
            <a:custGeom>
              <a:avLst/>
              <a:gdLst/>
              <a:ahLst/>
              <a:rect l="l" t="t" r="r" b="b"/>
              <a:pathLst>
                <a:path w="1505" h="3127">
                  <a:moveTo>
                    <a:pt x="1505" y="1158"/>
                  </a:moveTo>
                  <a:lnTo>
                    <a:pt x="1505" y="1389"/>
                  </a:lnTo>
                  <a:lnTo>
                    <a:pt x="1505" y="1737"/>
                  </a:lnTo>
                  <a:lnTo>
                    <a:pt x="1505" y="1968"/>
                  </a:lnTo>
                  <a:lnTo>
                    <a:pt x="1389" y="2316"/>
                  </a:lnTo>
                  <a:lnTo>
                    <a:pt x="1273" y="2547"/>
                  </a:lnTo>
                  <a:lnTo>
                    <a:pt x="1158" y="2779"/>
                  </a:lnTo>
                  <a:lnTo>
                    <a:pt x="926" y="2895"/>
                  </a:lnTo>
                  <a:lnTo>
                    <a:pt x="695" y="3127"/>
                  </a:lnTo>
                  <a:lnTo>
                    <a:pt x="695" y="3127"/>
                  </a:lnTo>
                  <a:lnTo>
                    <a:pt x="695" y="3127"/>
                  </a:lnTo>
                  <a:lnTo>
                    <a:pt x="695" y="3127"/>
                  </a:lnTo>
                  <a:lnTo>
                    <a:pt x="695" y="2895"/>
                  </a:lnTo>
                  <a:lnTo>
                    <a:pt x="695" y="2779"/>
                  </a:lnTo>
                  <a:lnTo>
                    <a:pt x="810" y="2663"/>
                  </a:lnTo>
                  <a:lnTo>
                    <a:pt x="810" y="2432"/>
                  </a:lnTo>
                  <a:lnTo>
                    <a:pt x="926" y="2316"/>
                  </a:lnTo>
                  <a:lnTo>
                    <a:pt x="926" y="2200"/>
                  </a:lnTo>
                  <a:lnTo>
                    <a:pt x="1042" y="1968"/>
                  </a:lnTo>
                  <a:lnTo>
                    <a:pt x="1042" y="1737"/>
                  </a:lnTo>
                  <a:lnTo>
                    <a:pt x="1042" y="1737"/>
                  </a:lnTo>
                  <a:lnTo>
                    <a:pt x="1042" y="1621"/>
                  </a:lnTo>
                  <a:lnTo>
                    <a:pt x="1042" y="1389"/>
                  </a:lnTo>
                  <a:lnTo>
                    <a:pt x="926" y="1158"/>
                  </a:lnTo>
                  <a:lnTo>
                    <a:pt x="926" y="926"/>
                  </a:lnTo>
                  <a:lnTo>
                    <a:pt x="926" y="810"/>
                  </a:lnTo>
                  <a:lnTo>
                    <a:pt x="810" y="695"/>
                  </a:lnTo>
                  <a:lnTo>
                    <a:pt x="579" y="463"/>
                  </a:lnTo>
                  <a:lnTo>
                    <a:pt x="463" y="347"/>
                  </a:lnTo>
                  <a:lnTo>
                    <a:pt x="463" y="347"/>
                  </a:lnTo>
                  <a:lnTo>
                    <a:pt x="347" y="347"/>
                  </a:lnTo>
                  <a:lnTo>
                    <a:pt x="232" y="347"/>
                  </a:lnTo>
                  <a:lnTo>
                    <a:pt x="232" y="347"/>
                  </a:lnTo>
                  <a:lnTo>
                    <a:pt x="116" y="347"/>
                  </a:lnTo>
                  <a:lnTo>
                    <a:pt x="116" y="347"/>
                  </a:lnTo>
                  <a:lnTo>
                    <a:pt x="0" y="347"/>
                  </a:lnTo>
                  <a:lnTo>
                    <a:pt x="0" y="347"/>
                  </a:lnTo>
                  <a:lnTo>
                    <a:pt x="0" y="231"/>
                  </a:lnTo>
                  <a:lnTo>
                    <a:pt x="0" y="231"/>
                  </a:lnTo>
                  <a:lnTo>
                    <a:pt x="0" y="115"/>
                  </a:lnTo>
                  <a:lnTo>
                    <a:pt x="0" y="115"/>
                  </a:lnTo>
                  <a:lnTo>
                    <a:pt x="0" y="115"/>
                  </a:lnTo>
                  <a:lnTo>
                    <a:pt x="0" y="115"/>
                  </a:lnTo>
                  <a:lnTo>
                    <a:pt x="116" y="115"/>
                  </a:lnTo>
                  <a:lnTo>
                    <a:pt x="116" y="115"/>
                  </a:lnTo>
                  <a:lnTo>
                    <a:pt x="116" y="115"/>
                  </a:lnTo>
                  <a:lnTo>
                    <a:pt x="232" y="0"/>
                  </a:lnTo>
                  <a:lnTo>
                    <a:pt x="232" y="0"/>
                  </a:lnTo>
                  <a:lnTo>
                    <a:pt x="463" y="0"/>
                  </a:lnTo>
                  <a:lnTo>
                    <a:pt x="695" y="115"/>
                  </a:lnTo>
                  <a:lnTo>
                    <a:pt x="926" y="231"/>
                  </a:lnTo>
                  <a:lnTo>
                    <a:pt x="1042" y="347"/>
                  </a:lnTo>
                  <a:lnTo>
                    <a:pt x="1158" y="579"/>
                  </a:lnTo>
                  <a:lnTo>
                    <a:pt x="1273" y="695"/>
                  </a:lnTo>
                  <a:lnTo>
                    <a:pt x="1389" y="926"/>
                  </a:lnTo>
                  <a:lnTo>
                    <a:pt x="1505" y="1158"/>
                  </a:lnTo>
                  <a:lnTo>
                    <a:pt x="1505" y="1158"/>
                  </a:lnTo>
                  <a:lnTo>
                    <a:pt x="1505" y="1158"/>
                  </a:lnTo>
                  <a:lnTo>
                    <a:pt x="1505" y="1158"/>
                  </a:lnTo>
                  <a:lnTo>
                    <a:pt x="1505"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130400" y="3088080"/>
              <a:ext cx="911160" cy="1181160"/>
            </a:xfrm>
            <a:custGeom>
              <a:avLst/>
              <a:gdLst/>
              <a:ahLst/>
              <a:rect l="l" t="t" r="r" b="b"/>
              <a:pathLst>
                <a:path w="23841" h="22004">
                  <a:moveTo>
                    <a:pt x="4050" y="116"/>
                  </a:moveTo>
                  <a:lnTo>
                    <a:pt x="4050" y="232"/>
                  </a:lnTo>
                  <a:lnTo>
                    <a:pt x="3935" y="348"/>
                  </a:lnTo>
                  <a:lnTo>
                    <a:pt x="3935" y="463"/>
                  </a:lnTo>
                  <a:lnTo>
                    <a:pt x="3935" y="579"/>
                  </a:lnTo>
                  <a:lnTo>
                    <a:pt x="3935" y="695"/>
                  </a:lnTo>
                  <a:lnTo>
                    <a:pt x="3935" y="811"/>
                  </a:lnTo>
                  <a:lnTo>
                    <a:pt x="4050" y="927"/>
                  </a:lnTo>
                  <a:lnTo>
                    <a:pt x="4050" y="1042"/>
                  </a:lnTo>
                  <a:lnTo>
                    <a:pt x="4050" y="1042"/>
                  </a:lnTo>
                  <a:lnTo>
                    <a:pt x="4166" y="1158"/>
                  </a:lnTo>
                  <a:lnTo>
                    <a:pt x="4166" y="1274"/>
                  </a:lnTo>
                  <a:lnTo>
                    <a:pt x="4282" y="1274"/>
                  </a:lnTo>
                  <a:lnTo>
                    <a:pt x="4398" y="1274"/>
                  </a:lnTo>
                  <a:lnTo>
                    <a:pt x="4398" y="1274"/>
                  </a:lnTo>
                  <a:lnTo>
                    <a:pt x="4513" y="1274"/>
                  </a:lnTo>
                  <a:lnTo>
                    <a:pt x="4629" y="1274"/>
                  </a:lnTo>
                  <a:lnTo>
                    <a:pt x="4745" y="1274"/>
                  </a:lnTo>
                  <a:lnTo>
                    <a:pt x="4745" y="1274"/>
                  </a:lnTo>
                  <a:lnTo>
                    <a:pt x="4861" y="1158"/>
                  </a:lnTo>
                  <a:lnTo>
                    <a:pt x="4976" y="1042"/>
                  </a:lnTo>
                  <a:lnTo>
                    <a:pt x="5092" y="927"/>
                  </a:lnTo>
                  <a:lnTo>
                    <a:pt x="5208" y="695"/>
                  </a:lnTo>
                  <a:lnTo>
                    <a:pt x="5324" y="579"/>
                  </a:lnTo>
                  <a:lnTo>
                    <a:pt x="5439" y="463"/>
                  </a:lnTo>
                  <a:lnTo>
                    <a:pt x="5439" y="348"/>
                  </a:lnTo>
                  <a:lnTo>
                    <a:pt x="5439" y="116"/>
                  </a:lnTo>
                  <a:lnTo>
                    <a:pt x="5439" y="116"/>
                  </a:lnTo>
                  <a:lnTo>
                    <a:pt x="5786" y="232"/>
                  </a:lnTo>
                  <a:lnTo>
                    <a:pt x="5786" y="232"/>
                  </a:lnTo>
                  <a:lnTo>
                    <a:pt x="5671" y="348"/>
                  </a:lnTo>
                  <a:lnTo>
                    <a:pt x="5439" y="463"/>
                  </a:lnTo>
                  <a:lnTo>
                    <a:pt x="5439" y="579"/>
                  </a:lnTo>
                  <a:lnTo>
                    <a:pt x="5324" y="811"/>
                  </a:lnTo>
                  <a:lnTo>
                    <a:pt x="5324" y="927"/>
                  </a:lnTo>
                  <a:lnTo>
                    <a:pt x="5324" y="1158"/>
                  </a:lnTo>
                  <a:lnTo>
                    <a:pt x="5439" y="1390"/>
                  </a:lnTo>
                  <a:lnTo>
                    <a:pt x="5439" y="1506"/>
                  </a:lnTo>
                  <a:lnTo>
                    <a:pt x="5439" y="1506"/>
                  </a:lnTo>
                  <a:lnTo>
                    <a:pt x="5555" y="1737"/>
                  </a:lnTo>
                  <a:lnTo>
                    <a:pt x="5671" y="1737"/>
                  </a:lnTo>
                  <a:lnTo>
                    <a:pt x="5786" y="1853"/>
                  </a:lnTo>
                  <a:lnTo>
                    <a:pt x="5902" y="1853"/>
                  </a:lnTo>
                  <a:lnTo>
                    <a:pt x="6018" y="1853"/>
                  </a:lnTo>
                  <a:lnTo>
                    <a:pt x="6249" y="1853"/>
                  </a:lnTo>
                  <a:lnTo>
                    <a:pt x="6365" y="1853"/>
                  </a:lnTo>
                  <a:lnTo>
                    <a:pt x="6481" y="1737"/>
                  </a:lnTo>
                  <a:lnTo>
                    <a:pt x="6481" y="1737"/>
                  </a:lnTo>
                  <a:lnTo>
                    <a:pt x="6712" y="1737"/>
                  </a:lnTo>
                  <a:lnTo>
                    <a:pt x="6828" y="1621"/>
                  </a:lnTo>
                  <a:lnTo>
                    <a:pt x="6944" y="1390"/>
                  </a:lnTo>
                  <a:lnTo>
                    <a:pt x="7060" y="1274"/>
                  </a:lnTo>
                  <a:lnTo>
                    <a:pt x="7175" y="1042"/>
                  </a:lnTo>
                  <a:lnTo>
                    <a:pt x="7291" y="927"/>
                  </a:lnTo>
                  <a:lnTo>
                    <a:pt x="7291" y="695"/>
                  </a:lnTo>
                  <a:lnTo>
                    <a:pt x="7522" y="579"/>
                  </a:lnTo>
                  <a:lnTo>
                    <a:pt x="7522" y="579"/>
                  </a:lnTo>
                  <a:lnTo>
                    <a:pt x="7522" y="579"/>
                  </a:lnTo>
                  <a:lnTo>
                    <a:pt x="7522" y="579"/>
                  </a:lnTo>
                  <a:lnTo>
                    <a:pt x="7522" y="579"/>
                  </a:lnTo>
                  <a:lnTo>
                    <a:pt x="7638" y="695"/>
                  </a:lnTo>
                  <a:lnTo>
                    <a:pt x="7638" y="695"/>
                  </a:lnTo>
                  <a:lnTo>
                    <a:pt x="7638" y="695"/>
                  </a:lnTo>
                  <a:lnTo>
                    <a:pt x="7754" y="695"/>
                  </a:lnTo>
                  <a:lnTo>
                    <a:pt x="7754" y="695"/>
                  </a:lnTo>
                  <a:lnTo>
                    <a:pt x="7754" y="695"/>
                  </a:lnTo>
                  <a:lnTo>
                    <a:pt x="7638" y="695"/>
                  </a:lnTo>
                  <a:lnTo>
                    <a:pt x="7522" y="811"/>
                  </a:lnTo>
                  <a:lnTo>
                    <a:pt x="7407" y="1042"/>
                  </a:lnTo>
                  <a:lnTo>
                    <a:pt x="7407" y="1158"/>
                  </a:lnTo>
                  <a:lnTo>
                    <a:pt x="7291" y="1274"/>
                  </a:lnTo>
                  <a:lnTo>
                    <a:pt x="7291" y="1390"/>
                  </a:lnTo>
                  <a:lnTo>
                    <a:pt x="7291" y="1506"/>
                  </a:lnTo>
                  <a:lnTo>
                    <a:pt x="7291" y="1621"/>
                  </a:lnTo>
                  <a:lnTo>
                    <a:pt x="7291" y="1621"/>
                  </a:lnTo>
                  <a:lnTo>
                    <a:pt x="7407" y="1737"/>
                  </a:lnTo>
                  <a:lnTo>
                    <a:pt x="7407" y="1969"/>
                  </a:lnTo>
                  <a:lnTo>
                    <a:pt x="7407" y="2085"/>
                  </a:lnTo>
                  <a:lnTo>
                    <a:pt x="7522" y="2200"/>
                  </a:lnTo>
                  <a:lnTo>
                    <a:pt x="7522" y="2316"/>
                  </a:lnTo>
                  <a:lnTo>
                    <a:pt x="7638" y="2316"/>
                  </a:lnTo>
                  <a:lnTo>
                    <a:pt x="7754" y="2432"/>
                  </a:lnTo>
                  <a:lnTo>
                    <a:pt x="7870" y="2432"/>
                  </a:lnTo>
                  <a:lnTo>
                    <a:pt x="7870" y="2432"/>
                  </a:lnTo>
                  <a:lnTo>
                    <a:pt x="8101" y="2432"/>
                  </a:lnTo>
                  <a:lnTo>
                    <a:pt x="8217" y="2432"/>
                  </a:lnTo>
                  <a:lnTo>
                    <a:pt x="8333" y="2316"/>
                  </a:lnTo>
                  <a:lnTo>
                    <a:pt x="8448" y="2200"/>
                  </a:lnTo>
                  <a:lnTo>
                    <a:pt x="8564" y="2200"/>
                  </a:lnTo>
                  <a:lnTo>
                    <a:pt x="8564" y="2085"/>
                  </a:lnTo>
                  <a:lnTo>
                    <a:pt x="8680" y="1969"/>
                  </a:lnTo>
                  <a:lnTo>
                    <a:pt x="8911" y="1969"/>
                  </a:lnTo>
                  <a:lnTo>
                    <a:pt x="8911" y="1969"/>
                  </a:lnTo>
                  <a:lnTo>
                    <a:pt x="8911" y="1853"/>
                  </a:lnTo>
                  <a:lnTo>
                    <a:pt x="8911" y="1737"/>
                  </a:lnTo>
                  <a:lnTo>
                    <a:pt x="9027" y="1737"/>
                  </a:lnTo>
                  <a:lnTo>
                    <a:pt x="9143" y="1621"/>
                  </a:lnTo>
                  <a:lnTo>
                    <a:pt x="9258" y="1506"/>
                  </a:lnTo>
                  <a:lnTo>
                    <a:pt x="9374" y="1390"/>
                  </a:lnTo>
                  <a:lnTo>
                    <a:pt x="9374" y="1274"/>
                  </a:lnTo>
                  <a:lnTo>
                    <a:pt x="9490" y="1158"/>
                  </a:lnTo>
                  <a:lnTo>
                    <a:pt x="9490" y="1158"/>
                  </a:lnTo>
                  <a:lnTo>
                    <a:pt x="9837" y="1274"/>
                  </a:lnTo>
                  <a:lnTo>
                    <a:pt x="9837" y="1274"/>
                  </a:lnTo>
                  <a:lnTo>
                    <a:pt x="9837" y="1390"/>
                  </a:lnTo>
                  <a:lnTo>
                    <a:pt x="9721" y="1621"/>
                  </a:lnTo>
                  <a:lnTo>
                    <a:pt x="9721" y="1853"/>
                  </a:lnTo>
                  <a:lnTo>
                    <a:pt x="9606" y="2085"/>
                  </a:lnTo>
                  <a:lnTo>
                    <a:pt x="9606" y="2200"/>
                  </a:lnTo>
                  <a:lnTo>
                    <a:pt x="9721" y="2432"/>
                  </a:lnTo>
                  <a:lnTo>
                    <a:pt x="9721" y="2664"/>
                  </a:lnTo>
                  <a:lnTo>
                    <a:pt x="9953" y="2780"/>
                  </a:lnTo>
                  <a:lnTo>
                    <a:pt x="9953" y="2780"/>
                  </a:lnTo>
                  <a:lnTo>
                    <a:pt x="10069" y="2780"/>
                  </a:lnTo>
                  <a:lnTo>
                    <a:pt x="10184" y="2780"/>
                  </a:lnTo>
                  <a:lnTo>
                    <a:pt x="10300" y="2780"/>
                  </a:lnTo>
                  <a:lnTo>
                    <a:pt x="10531" y="2780"/>
                  </a:lnTo>
                  <a:lnTo>
                    <a:pt x="10647" y="2780"/>
                  </a:lnTo>
                  <a:lnTo>
                    <a:pt x="10763" y="2664"/>
                  </a:lnTo>
                  <a:lnTo>
                    <a:pt x="10763" y="2548"/>
                  </a:lnTo>
                  <a:lnTo>
                    <a:pt x="10879" y="2432"/>
                  </a:lnTo>
                  <a:lnTo>
                    <a:pt x="10879" y="2432"/>
                  </a:lnTo>
                  <a:lnTo>
                    <a:pt x="10763" y="2432"/>
                  </a:lnTo>
                  <a:lnTo>
                    <a:pt x="10763" y="2432"/>
                  </a:lnTo>
                  <a:lnTo>
                    <a:pt x="10994" y="2316"/>
                  </a:lnTo>
                  <a:lnTo>
                    <a:pt x="11110" y="2200"/>
                  </a:lnTo>
                  <a:lnTo>
                    <a:pt x="11226" y="1969"/>
                  </a:lnTo>
                  <a:lnTo>
                    <a:pt x="11342" y="1737"/>
                  </a:lnTo>
                  <a:lnTo>
                    <a:pt x="11457" y="1506"/>
                  </a:lnTo>
                  <a:lnTo>
                    <a:pt x="11689" y="1506"/>
                  </a:lnTo>
                  <a:lnTo>
                    <a:pt x="11805" y="1506"/>
                  </a:lnTo>
                  <a:lnTo>
                    <a:pt x="12036" y="1621"/>
                  </a:lnTo>
                  <a:lnTo>
                    <a:pt x="12036" y="1621"/>
                  </a:lnTo>
                  <a:lnTo>
                    <a:pt x="12036" y="1737"/>
                  </a:lnTo>
                  <a:lnTo>
                    <a:pt x="11920" y="1969"/>
                  </a:lnTo>
                  <a:lnTo>
                    <a:pt x="11920" y="2085"/>
                  </a:lnTo>
                  <a:lnTo>
                    <a:pt x="11805" y="2200"/>
                  </a:lnTo>
                  <a:lnTo>
                    <a:pt x="11805" y="2432"/>
                  </a:lnTo>
                  <a:lnTo>
                    <a:pt x="11805" y="2548"/>
                  </a:lnTo>
                  <a:lnTo>
                    <a:pt x="11920" y="2780"/>
                  </a:lnTo>
                  <a:lnTo>
                    <a:pt x="12036" y="2895"/>
                  </a:lnTo>
                  <a:lnTo>
                    <a:pt x="12036" y="2895"/>
                  </a:lnTo>
                  <a:lnTo>
                    <a:pt x="12152" y="3011"/>
                  </a:lnTo>
                  <a:lnTo>
                    <a:pt x="12267" y="3127"/>
                  </a:lnTo>
                  <a:lnTo>
                    <a:pt x="12383" y="3127"/>
                  </a:lnTo>
                  <a:lnTo>
                    <a:pt x="12499" y="3127"/>
                  </a:lnTo>
                  <a:lnTo>
                    <a:pt x="12615" y="3127"/>
                  </a:lnTo>
                  <a:lnTo>
                    <a:pt x="12730" y="3127"/>
                  </a:lnTo>
                  <a:lnTo>
                    <a:pt x="12846" y="3011"/>
                  </a:lnTo>
                  <a:lnTo>
                    <a:pt x="12962" y="3011"/>
                  </a:lnTo>
                  <a:lnTo>
                    <a:pt x="12962" y="3011"/>
                  </a:lnTo>
                  <a:lnTo>
                    <a:pt x="12846" y="2780"/>
                  </a:lnTo>
                  <a:lnTo>
                    <a:pt x="12962" y="2664"/>
                  </a:lnTo>
                  <a:lnTo>
                    <a:pt x="13078" y="2548"/>
                  </a:lnTo>
                  <a:lnTo>
                    <a:pt x="13193" y="2432"/>
                  </a:lnTo>
                  <a:lnTo>
                    <a:pt x="13309" y="2316"/>
                  </a:lnTo>
                  <a:lnTo>
                    <a:pt x="13425" y="2200"/>
                  </a:lnTo>
                  <a:lnTo>
                    <a:pt x="13541" y="2085"/>
                  </a:lnTo>
                  <a:lnTo>
                    <a:pt x="13656" y="1969"/>
                  </a:lnTo>
                  <a:lnTo>
                    <a:pt x="13656" y="1969"/>
                  </a:lnTo>
                  <a:lnTo>
                    <a:pt x="13772" y="1969"/>
                  </a:lnTo>
                  <a:lnTo>
                    <a:pt x="13772" y="1969"/>
                  </a:lnTo>
                  <a:lnTo>
                    <a:pt x="13772" y="2085"/>
                  </a:lnTo>
                  <a:lnTo>
                    <a:pt x="13772" y="2316"/>
                  </a:lnTo>
                  <a:lnTo>
                    <a:pt x="13772" y="2432"/>
                  </a:lnTo>
                  <a:lnTo>
                    <a:pt x="13656" y="2664"/>
                  </a:lnTo>
                  <a:lnTo>
                    <a:pt x="13772" y="2780"/>
                  </a:lnTo>
                  <a:lnTo>
                    <a:pt x="13772" y="2895"/>
                  </a:lnTo>
                  <a:lnTo>
                    <a:pt x="13888" y="3127"/>
                  </a:lnTo>
                  <a:lnTo>
                    <a:pt x="14003" y="3127"/>
                  </a:lnTo>
                  <a:lnTo>
                    <a:pt x="14003" y="3127"/>
                  </a:lnTo>
                  <a:lnTo>
                    <a:pt x="14119" y="3127"/>
                  </a:lnTo>
                  <a:lnTo>
                    <a:pt x="14235" y="3127"/>
                  </a:lnTo>
                  <a:lnTo>
                    <a:pt x="14351" y="3127"/>
                  </a:lnTo>
                  <a:lnTo>
                    <a:pt x="14466" y="3127"/>
                  </a:lnTo>
                  <a:lnTo>
                    <a:pt x="14582" y="3011"/>
                  </a:lnTo>
                  <a:lnTo>
                    <a:pt x="14582" y="3011"/>
                  </a:lnTo>
                  <a:lnTo>
                    <a:pt x="14698" y="2895"/>
                  </a:lnTo>
                  <a:lnTo>
                    <a:pt x="14814" y="2780"/>
                  </a:lnTo>
                  <a:lnTo>
                    <a:pt x="14814" y="2780"/>
                  </a:lnTo>
                  <a:lnTo>
                    <a:pt x="14814" y="2664"/>
                  </a:lnTo>
                  <a:lnTo>
                    <a:pt x="14814" y="2664"/>
                  </a:lnTo>
                  <a:lnTo>
                    <a:pt x="14814" y="2548"/>
                  </a:lnTo>
                  <a:lnTo>
                    <a:pt x="14929" y="2432"/>
                  </a:lnTo>
                  <a:lnTo>
                    <a:pt x="14929" y="2316"/>
                  </a:lnTo>
                  <a:lnTo>
                    <a:pt x="15045" y="2316"/>
                  </a:lnTo>
                  <a:lnTo>
                    <a:pt x="15045" y="2200"/>
                  </a:lnTo>
                  <a:lnTo>
                    <a:pt x="15161" y="2085"/>
                  </a:lnTo>
                  <a:lnTo>
                    <a:pt x="15161" y="2085"/>
                  </a:lnTo>
                  <a:lnTo>
                    <a:pt x="15624" y="2085"/>
                  </a:lnTo>
                  <a:lnTo>
                    <a:pt x="15624" y="2085"/>
                  </a:lnTo>
                  <a:lnTo>
                    <a:pt x="15624" y="2200"/>
                  </a:lnTo>
                  <a:lnTo>
                    <a:pt x="15508" y="2432"/>
                  </a:lnTo>
                  <a:lnTo>
                    <a:pt x="15508" y="2548"/>
                  </a:lnTo>
                  <a:lnTo>
                    <a:pt x="15508" y="2664"/>
                  </a:lnTo>
                  <a:lnTo>
                    <a:pt x="15508" y="2780"/>
                  </a:lnTo>
                  <a:lnTo>
                    <a:pt x="15508" y="2895"/>
                  </a:lnTo>
                  <a:lnTo>
                    <a:pt x="15624" y="3011"/>
                  </a:lnTo>
                  <a:lnTo>
                    <a:pt x="15739" y="3127"/>
                  </a:lnTo>
                  <a:lnTo>
                    <a:pt x="15739" y="3127"/>
                  </a:lnTo>
                  <a:lnTo>
                    <a:pt x="15739" y="3243"/>
                  </a:lnTo>
                  <a:lnTo>
                    <a:pt x="15855" y="3243"/>
                  </a:lnTo>
                  <a:lnTo>
                    <a:pt x="15855" y="3243"/>
                  </a:lnTo>
                  <a:lnTo>
                    <a:pt x="15971" y="3359"/>
                  </a:lnTo>
                  <a:lnTo>
                    <a:pt x="16087" y="3359"/>
                  </a:lnTo>
                  <a:lnTo>
                    <a:pt x="16202" y="3359"/>
                  </a:lnTo>
                  <a:lnTo>
                    <a:pt x="16202" y="3359"/>
                  </a:lnTo>
                  <a:lnTo>
                    <a:pt x="16318" y="3359"/>
                  </a:lnTo>
                  <a:lnTo>
                    <a:pt x="16318" y="3359"/>
                  </a:lnTo>
                  <a:lnTo>
                    <a:pt x="16550" y="3243"/>
                  </a:lnTo>
                  <a:lnTo>
                    <a:pt x="16665" y="3011"/>
                  </a:lnTo>
                  <a:lnTo>
                    <a:pt x="16781" y="2895"/>
                  </a:lnTo>
                  <a:lnTo>
                    <a:pt x="17012" y="2664"/>
                  </a:lnTo>
                  <a:lnTo>
                    <a:pt x="17128" y="2432"/>
                  </a:lnTo>
                  <a:lnTo>
                    <a:pt x="17244" y="2316"/>
                  </a:lnTo>
                  <a:lnTo>
                    <a:pt x="17475" y="2316"/>
                  </a:lnTo>
                  <a:lnTo>
                    <a:pt x="17823" y="2432"/>
                  </a:lnTo>
                  <a:lnTo>
                    <a:pt x="17823" y="2432"/>
                  </a:lnTo>
                  <a:lnTo>
                    <a:pt x="17823" y="2548"/>
                  </a:lnTo>
                  <a:lnTo>
                    <a:pt x="17707" y="2664"/>
                  </a:lnTo>
                  <a:lnTo>
                    <a:pt x="17707" y="2780"/>
                  </a:lnTo>
                  <a:lnTo>
                    <a:pt x="17591" y="2895"/>
                  </a:lnTo>
                  <a:lnTo>
                    <a:pt x="17591" y="3011"/>
                  </a:lnTo>
                  <a:lnTo>
                    <a:pt x="17475" y="3127"/>
                  </a:lnTo>
                  <a:lnTo>
                    <a:pt x="17475" y="3243"/>
                  </a:lnTo>
                  <a:lnTo>
                    <a:pt x="17591" y="3474"/>
                  </a:lnTo>
                  <a:lnTo>
                    <a:pt x="17591" y="3474"/>
                  </a:lnTo>
                  <a:lnTo>
                    <a:pt x="17591" y="3474"/>
                  </a:lnTo>
                  <a:lnTo>
                    <a:pt x="17707" y="3590"/>
                  </a:lnTo>
                  <a:lnTo>
                    <a:pt x="17707" y="3590"/>
                  </a:lnTo>
                  <a:lnTo>
                    <a:pt x="17823" y="3706"/>
                  </a:lnTo>
                  <a:lnTo>
                    <a:pt x="17938" y="3706"/>
                  </a:lnTo>
                  <a:lnTo>
                    <a:pt x="18054" y="3706"/>
                  </a:lnTo>
                  <a:lnTo>
                    <a:pt x="18170" y="3706"/>
                  </a:lnTo>
                  <a:lnTo>
                    <a:pt x="18286" y="3706"/>
                  </a:lnTo>
                  <a:lnTo>
                    <a:pt x="18286" y="3706"/>
                  </a:lnTo>
                  <a:lnTo>
                    <a:pt x="18401" y="3590"/>
                  </a:lnTo>
                  <a:lnTo>
                    <a:pt x="18517" y="3474"/>
                  </a:lnTo>
                  <a:lnTo>
                    <a:pt x="18748" y="3359"/>
                  </a:lnTo>
                  <a:lnTo>
                    <a:pt x="18864" y="3243"/>
                  </a:lnTo>
                  <a:lnTo>
                    <a:pt x="18980" y="3127"/>
                  </a:lnTo>
                  <a:lnTo>
                    <a:pt x="19096" y="3011"/>
                  </a:lnTo>
                  <a:lnTo>
                    <a:pt x="19211" y="2780"/>
                  </a:lnTo>
                  <a:lnTo>
                    <a:pt x="19327" y="2664"/>
                  </a:lnTo>
                  <a:lnTo>
                    <a:pt x="19327" y="2664"/>
                  </a:lnTo>
                  <a:lnTo>
                    <a:pt x="19559" y="2664"/>
                  </a:lnTo>
                  <a:lnTo>
                    <a:pt x="19559" y="2664"/>
                  </a:lnTo>
                  <a:lnTo>
                    <a:pt x="19559" y="2780"/>
                  </a:lnTo>
                  <a:lnTo>
                    <a:pt x="19559" y="3011"/>
                  </a:lnTo>
                  <a:lnTo>
                    <a:pt x="19559" y="3127"/>
                  </a:lnTo>
                  <a:lnTo>
                    <a:pt x="19443" y="3359"/>
                  </a:lnTo>
                  <a:lnTo>
                    <a:pt x="19443" y="3474"/>
                  </a:lnTo>
                  <a:lnTo>
                    <a:pt x="19559" y="3590"/>
                  </a:lnTo>
                  <a:lnTo>
                    <a:pt x="19674" y="3706"/>
                  </a:lnTo>
                  <a:lnTo>
                    <a:pt x="19790" y="3822"/>
                  </a:lnTo>
                  <a:lnTo>
                    <a:pt x="19790" y="3822"/>
                  </a:lnTo>
                  <a:lnTo>
                    <a:pt x="19906" y="3822"/>
                  </a:lnTo>
                  <a:lnTo>
                    <a:pt x="20022" y="3822"/>
                  </a:lnTo>
                  <a:lnTo>
                    <a:pt x="20137" y="3822"/>
                  </a:lnTo>
                  <a:lnTo>
                    <a:pt x="20253" y="3822"/>
                  </a:lnTo>
                  <a:lnTo>
                    <a:pt x="20369" y="3706"/>
                  </a:lnTo>
                  <a:lnTo>
                    <a:pt x="20484" y="3706"/>
                  </a:lnTo>
                  <a:lnTo>
                    <a:pt x="20600" y="3590"/>
                  </a:lnTo>
                  <a:lnTo>
                    <a:pt x="20716" y="3590"/>
                  </a:lnTo>
                  <a:lnTo>
                    <a:pt x="20716" y="3590"/>
                  </a:lnTo>
                  <a:lnTo>
                    <a:pt x="20600" y="3474"/>
                  </a:lnTo>
                  <a:lnTo>
                    <a:pt x="20600" y="3359"/>
                  </a:lnTo>
                  <a:lnTo>
                    <a:pt x="20716" y="3243"/>
                  </a:lnTo>
                  <a:lnTo>
                    <a:pt x="20716" y="3127"/>
                  </a:lnTo>
                  <a:lnTo>
                    <a:pt x="20832" y="3127"/>
                  </a:lnTo>
                  <a:lnTo>
                    <a:pt x="20832" y="3011"/>
                  </a:lnTo>
                  <a:lnTo>
                    <a:pt x="20947" y="2895"/>
                  </a:lnTo>
                  <a:lnTo>
                    <a:pt x="20947" y="2780"/>
                  </a:lnTo>
                  <a:lnTo>
                    <a:pt x="20947" y="2780"/>
                  </a:lnTo>
                  <a:lnTo>
                    <a:pt x="20947" y="2895"/>
                  </a:lnTo>
                  <a:lnTo>
                    <a:pt x="20947" y="3011"/>
                  </a:lnTo>
                  <a:lnTo>
                    <a:pt x="20947" y="3127"/>
                  </a:lnTo>
                  <a:lnTo>
                    <a:pt x="20947" y="3359"/>
                  </a:lnTo>
                  <a:lnTo>
                    <a:pt x="20832" y="3474"/>
                  </a:lnTo>
                  <a:lnTo>
                    <a:pt x="20832" y="3590"/>
                  </a:lnTo>
                  <a:lnTo>
                    <a:pt x="20832" y="3706"/>
                  </a:lnTo>
                  <a:lnTo>
                    <a:pt x="20832" y="3822"/>
                  </a:lnTo>
                  <a:lnTo>
                    <a:pt x="20832" y="3822"/>
                  </a:lnTo>
                  <a:lnTo>
                    <a:pt x="20947" y="3938"/>
                  </a:lnTo>
                  <a:lnTo>
                    <a:pt x="20947" y="3938"/>
                  </a:lnTo>
                  <a:lnTo>
                    <a:pt x="21063" y="4053"/>
                  </a:lnTo>
                  <a:lnTo>
                    <a:pt x="21179" y="4053"/>
                  </a:lnTo>
                  <a:lnTo>
                    <a:pt x="21295" y="4053"/>
                  </a:lnTo>
                  <a:lnTo>
                    <a:pt x="21295" y="4053"/>
                  </a:lnTo>
                  <a:lnTo>
                    <a:pt x="21410" y="4053"/>
                  </a:lnTo>
                  <a:lnTo>
                    <a:pt x="21526" y="4053"/>
                  </a:lnTo>
                  <a:lnTo>
                    <a:pt x="21526" y="4053"/>
                  </a:lnTo>
                  <a:lnTo>
                    <a:pt x="21642" y="3938"/>
                  </a:lnTo>
                  <a:lnTo>
                    <a:pt x="21642" y="3822"/>
                  </a:lnTo>
                  <a:lnTo>
                    <a:pt x="21758" y="3706"/>
                  </a:lnTo>
                  <a:lnTo>
                    <a:pt x="21873" y="3590"/>
                  </a:lnTo>
                  <a:lnTo>
                    <a:pt x="21989" y="3474"/>
                  </a:lnTo>
                  <a:lnTo>
                    <a:pt x="22105" y="3359"/>
                  </a:lnTo>
                  <a:lnTo>
                    <a:pt x="22105" y="3243"/>
                  </a:lnTo>
                  <a:lnTo>
                    <a:pt x="22220" y="3011"/>
                  </a:lnTo>
                  <a:lnTo>
                    <a:pt x="22220" y="3011"/>
                  </a:lnTo>
                  <a:lnTo>
                    <a:pt x="22105" y="3127"/>
                  </a:lnTo>
                  <a:lnTo>
                    <a:pt x="22105" y="3243"/>
                  </a:lnTo>
                  <a:lnTo>
                    <a:pt x="22105" y="3359"/>
                  </a:lnTo>
                  <a:lnTo>
                    <a:pt x="22105" y="3474"/>
                  </a:lnTo>
                  <a:lnTo>
                    <a:pt x="22105" y="3590"/>
                  </a:lnTo>
                  <a:lnTo>
                    <a:pt x="22105" y="3706"/>
                  </a:lnTo>
                  <a:lnTo>
                    <a:pt x="22105" y="3822"/>
                  </a:lnTo>
                  <a:lnTo>
                    <a:pt x="22220" y="3938"/>
                  </a:lnTo>
                  <a:lnTo>
                    <a:pt x="22220" y="3938"/>
                  </a:lnTo>
                  <a:lnTo>
                    <a:pt x="22336" y="4053"/>
                  </a:lnTo>
                  <a:lnTo>
                    <a:pt x="22452" y="4169"/>
                  </a:lnTo>
                  <a:lnTo>
                    <a:pt x="22568" y="4169"/>
                  </a:lnTo>
                  <a:lnTo>
                    <a:pt x="22683" y="4053"/>
                  </a:lnTo>
                  <a:lnTo>
                    <a:pt x="22799" y="3938"/>
                  </a:lnTo>
                  <a:lnTo>
                    <a:pt x="22915" y="3822"/>
                  </a:lnTo>
                  <a:lnTo>
                    <a:pt x="23031" y="3822"/>
                  </a:lnTo>
                  <a:lnTo>
                    <a:pt x="23146" y="3822"/>
                  </a:lnTo>
                  <a:lnTo>
                    <a:pt x="23146" y="3822"/>
                  </a:lnTo>
                  <a:lnTo>
                    <a:pt x="23146" y="3938"/>
                  </a:lnTo>
                  <a:lnTo>
                    <a:pt x="23146" y="3938"/>
                  </a:lnTo>
                  <a:lnTo>
                    <a:pt x="23146" y="4053"/>
                  </a:lnTo>
                  <a:lnTo>
                    <a:pt x="23146" y="4169"/>
                  </a:lnTo>
                  <a:lnTo>
                    <a:pt x="23146" y="4285"/>
                  </a:lnTo>
                  <a:lnTo>
                    <a:pt x="23262" y="4285"/>
                  </a:lnTo>
                  <a:lnTo>
                    <a:pt x="23378" y="4401"/>
                  </a:lnTo>
                  <a:lnTo>
                    <a:pt x="23378" y="4401"/>
                  </a:lnTo>
                  <a:lnTo>
                    <a:pt x="23378" y="4401"/>
                  </a:lnTo>
                  <a:lnTo>
                    <a:pt x="23841" y="4285"/>
                  </a:lnTo>
                  <a:lnTo>
                    <a:pt x="23841" y="4285"/>
                  </a:lnTo>
                  <a:lnTo>
                    <a:pt x="23378" y="5906"/>
                  </a:lnTo>
                  <a:lnTo>
                    <a:pt x="22799" y="7528"/>
                  </a:lnTo>
                  <a:lnTo>
                    <a:pt x="22452" y="9265"/>
                  </a:lnTo>
                  <a:lnTo>
                    <a:pt x="21989" y="11002"/>
                  </a:lnTo>
                  <a:lnTo>
                    <a:pt x="21642" y="12739"/>
                  </a:lnTo>
                  <a:lnTo>
                    <a:pt x="21410" y="14476"/>
                  </a:lnTo>
                  <a:lnTo>
                    <a:pt x="21179" y="16213"/>
                  </a:lnTo>
                  <a:lnTo>
                    <a:pt x="21063" y="17951"/>
                  </a:lnTo>
                  <a:lnTo>
                    <a:pt x="21063" y="17951"/>
                  </a:lnTo>
                  <a:lnTo>
                    <a:pt x="18517" y="18414"/>
                  </a:lnTo>
                  <a:lnTo>
                    <a:pt x="15971" y="18877"/>
                  </a:lnTo>
                  <a:lnTo>
                    <a:pt x="13541" y="19456"/>
                  </a:lnTo>
                  <a:lnTo>
                    <a:pt x="11110" y="20035"/>
                  </a:lnTo>
                  <a:lnTo>
                    <a:pt x="8564" y="20614"/>
                  </a:lnTo>
                  <a:lnTo>
                    <a:pt x="6134" y="21077"/>
                  </a:lnTo>
                  <a:lnTo>
                    <a:pt x="3588" y="21656"/>
                  </a:lnTo>
                  <a:lnTo>
                    <a:pt x="926" y="22004"/>
                  </a:lnTo>
                  <a:lnTo>
                    <a:pt x="926" y="22004"/>
                  </a:lnTo>
                  <a:lnTo>
                    <a:pt x="1041" y="21888"/>
                  </a:lnTo>
                  <a:lnTo>
                    <a:pt x="1041" y="21656"/>
                  </a:lnTo>
                  <a:lnTo>
                    <a:pt x="1041" y="21541"/>
                  </a:lnTo>
                  <a:lnTo>
                    <a:pt x="1041" y="21309"/>
                  </a:lnTo>
                  <a:lnTo>
                    <a:pt x="1041" y="21193"/>
                  </a:lnTo>
                  <a:lnTo>
                    <a:pt x="926" y="20962"/>
                  </a:lnTo>
                  <a:lnTo>
                    <a:pt x="926" y="20730"/>
                  </a:lnTo>
                  <a:lnTo>
                    <a:pt x="926" y="20614"/>
                  </a:lnTo>
                  <a:lnTo>
                    <a:pt x="926" y="20614"/>
                  </a:lnTo>
                  <a:lnTo>
                    <a:pt x="810" y="20498"/>
                  </a:lnTo>
                  <a:lnTo>
                    <a:pt x="694" y="20383"/>
                  </a:lnTo>
                  <a:lnTo>
                    <a:pt x="579" y="20267"/>
                  </a:lnTo>
                  <a:lnTo>
                    <a:pt x="463" y="20267"/>
                  </a:lnTo>
                  <a:lnTo>
                    <a:pt x="347" y="20151"/>
                  </a:lnTo>
                  <a:lnTo>
                    <a:pt x="231" y="20151"/>
                  </a:lnTo>
                  <a:lnTo>
                    <a:pt x="116" y="20035"/>
                  </a:lnTo>
                  <a:lnTo>
                    <a:pt x="0" y="20035"/>
                  </a:lnTo>
                  <a:lnTo>
                    <a:pt x="0" y="20035"/>
                  </a:lnTo>
                  <a:lnTo>
                    <a:pt x="347" y="17603"/>
                  </a:lnTo>
                  <a:lnTo>
                    <a:pt x="694" y="15055"/>
                  </a:lnTo>
                  <a:lnTo>
                    <a:pt x="1273" y="12623"/>
                  </a:lnTo>
                  <a:lnTo>
                    <a:pt x="1852" y="10076"/>
                  </a:lnTo>
                  <a:lnTo>
                    <a:pt x="2430" y="7644"/>
                  </a:lnTo>
                  <a:lnTo>
                    <a:pt x="2893" y="5096"/>
                  </a:lnTo>
                  <a:lnTo>
                    <a:pt x="3472" y="2548"/>
                  </a:lnTo>
                  <a:lnTo>
                    <a:pt x="3935" y="0"/>
                  </a:lnTo>
                  <a:lnTo>
                    <a:pt x="3935" y="0"/>
                  </a:lnTo>
                  <a:lnTo>
                    <a:pt x="4050" y="116"/>
                  </a:lnTo>
                  <a:lnTo>
                    <a:pt x="4050" y="116"/>
                  </a:lnTo>
                  <a:lnTo>
                    <a:pt x="4050" y="116"/>
                  </a:lnTo>
                  <a:lnTo>
                    <a:pt x="4050" y="116"/>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073160" y="3094200"/>
              <a:ext cx="119160" cy="845280"/>
            </a:xfrm>
            <a:custGeom>
              <a:avLst/>
              <a:gdLst/>
              <a:ahLst/>
              <a:rect l="l" t="t" r="r" b="b"/>
              <a:pathLst>
                <a:path w="3125" h="15750">
                  <a:moveTo>
                    <a:pt x="3125" y="0"/>
                  </a:moveTo>
                  <a:lnTo>
                    <a:pt x="3125" y="347"/>
                  </a:lnTo>
                  <a:lnTo>
                    <a:pt x="3125" y="811"/>
                  </a:lnTo>
                  <a:lnTo>
                    <a:pt x="3009" y="1274"/>
                  </a:lnTo>
                  <a:lnTo>
                    <a:pt x="2894" y="1737"/>
                  </a:lnTo>
                  <a:lnTo>
                    <a:pt x="2894" y="2084"/>
                  </a:lnTo>
                  <a:lnTo>
                    <a:pt x="2778" y="2548"/>
                  </a:lnTo>
                  <a:lnTo>
                    <a:pt x="2662" y="2895"/>
                  </a:lnTo>
                  <a:lnTo>
                    <a:pt x="2546" y="3358"/>
                  </a:lnTo>
                  <a:lnTo>
                    <a:pt x="2546" y="3358"/>
                  </a:lnTo>
                  <a:lnTo>
                    <a:pt x="2199" y="4748"/>
                  </a:lnTo>
                  <a:lnTo>
                    <a:pt x="1968" y="6138"/>
                  </a:lnTo>
                  <a:lnTo>
                    <a:pt x="1736" y="7528"/>
                  </a:lnTo>
                  <a:lnTo>
                    <a:pt x="1389" y="8917"/>
                  </a:lnTo>
                  <a:lnTo>
                    <a:pt x="1158" y="10307"/>
                  </a:lnTo>
                  <a:lnTo>
                    <a:pt x="926" y="11812"/>
                  </a:lnTo>
                  <a:lnTo>
                    <a:pt x="695" y="13086"/>
                  </a:lnTo>
                  <a:lnTo>
                    <a:pt x="463" y="14476"/>
                  </a:lnTo>
                  <a:lnTo>
                    <a:pt x="463" y="14476"/>
                  </a:lnTo>
                  <a:lnTo>
                    <a:pt x="348" y="14592"/>
                  </a:lnTo>
                  <a:lnTo>
                    <a:pt x="348" y="14824"/>
                  </a:lnTo>
                  <a:lnTo>
                    <a:pt x="348" y="14939"/>
                  </a:lnTo>
                  <a:lnTo>
                    <a:pt x="348" y="15055"/>
                  </a:lnTo>
                  <a:lnTo>
                    <a:pt x="232" y="15287"/>
                  </a:lnTo>
                  <a:lnTo>
                    <a:pt x="232" y="15403"/>
                  </a:lnTo>
                  <a:lnTo>
                    <a:pt x="232" y="15518"/>
                  </a:lnTo>
                  <a:lnTo>
                    <a:pt x="232" y="15750"/>
                  </a:lnTo>
                  <a:lnTo>
                    <a:pt x="232" y="15750"/>
                  </a:lnTo>
                  <a:lnTo>
                    <a:pt x="0" y="15750"/>
                  </a:lnTo>
                  <a:lnTo>
                    <a:pt x="0" y="15750"/>
                  </a:lnTo>
                  <a:lnTo>
                    <a:pt x="116" y="14824"/>
                  </a:lnTo>
                  <a:lnTo>
                    <a:pt x="348" y="14013"/>
                  </a:lnTo>
                  <a:lnTo>
                    <a:pt x="463" y="13086"/>
                  </a:lnTo>
                  <a:lnTo>
                    <a:pt x="579" y="12276"/>
                  </a:lnTo>
                  <a:lnTo>
                    <a:pt x="695" y="11349"/>
                  </a:lnTo>
                  <a:lnTo>
                    <a:pt x="810" y="10423"/>
                  </a:lnTo>
                  <a:lnTo>
                    <a:pt x="926" y="9612"/>
                  </a:lnTo>
                  <a:lnTo>
                    <a:pt x="1042" y="8686"/>
                  </a:lnTo>
                  <a:lnTo>
                    <a:pt x="1042" y="8686"/>
                  </a:lnTo>
                  <a:lnTo>
                    <a:pt x="1273" y="7643"/>
                  </a:lnTo>
                  <a:lnTo>
                    <a:pt x="1505" y="6601"/>
                  </a:lnTo>
                  <a:lnTo>
                    <a:pt x="1736" y="5559"/>
                  </a:lnTo>
                  <a:lnTo>
                    <a:pt x="1968" y="4516"/>
                  </a:lnTo>
                  <a:lnTo>
                    <a:pt x="2199" y="3358"/>
                  </a:lnTo>
                  <a:lnTo>
                    <a:pt x="2431" y="2316"/>
                  </a:lnTo>
                  <a:lnTo>
                    <a:pt x="2662" y="1274"/>
                  </a:lnTo>
                  <a:lnTo>
                    <a:pt x="2778" y="116"/>
                  </a:lnTo>
                  <a:lnTo>
                    <a:pt x="2778" y="116"/>
                  </a:lnTo>
                  <a:lnTo>
                    <a:pt x="2778" y="116"/>
                  </a:lnTo>
                  <a:lnTo>
                    <a:pt x="2894" y="0"/>
                  </a:lnTo>
                  <a:lnTo>
                    <a:pt x="2894" y="0"/>
                  </a:lnTo>
                  <a:lnTo>
                    <a:pt x="2894" y="0"/>
                  </a:lnTo>
                  <a:lnTo>
                    <a:pt x="3009" y="0"/>
                  </a:lnTo>
                  <a:lnTo>
                    <a:pt x="3009" y="0"/>
                  </a:lnTo>
                  <a:lnTo>
                    <a:pt x="3009" y="0"/>
                  </a:lnTo>
                  <a:lnTo>
                    <a:pt x="3125" y="0"/>
                  </a:lnTo>
                  <a:lnTo>
                    <a:pt x="3125" y="0"/>
                  </a:lnTo>
                  <a:lnTo>
                    <a:pt x="3125" y="0"/>
                  </a:lnTo>
                  <a:lnTo>
                    <a:pt x="3125" y="0"/>
                  </a:lnTo>
                  <a:lnTo>
                    <a:pt x="31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95120" y="3094200"/>
              <a:ext cx="128160" cy="864000"/>
            </a:xfrm>
            <a:custGeom>
              <a:avLst/>
              <a:gdLst/>
              <a:ahLst/>
              <a:rect l="l" t="t" r="r" b="b"/>
              <a:pathLst>
                <a:path w="3356" h="16097">
                  <a:moveTo>
                    <a:pt x="3356" y="0"/>
                  </a:moveTo>
                  <a:lnTo>
                    <a:pt x="3125" y="1390"/>
                  </a:lnTo>
                  <a:lnTo>
                    <a:pt x="2893" y="2779"/>
                  </a:lnTo>
                  <a:lnTo>
                    <a:pt x="2662" y="4053"/>
                  </a:lnTo>
                  <a:lnTo>
                    <a:pt x="2315" y="5443"/>
                  </a:lnTo>
                  <a:lnTo>
                    <a:pt x="2083" y="6833"/>
                  </a:lnTo>
                  <a:lnTo>
                    <a:pt x="1736" y="8107"/>
                  </a:lnTo>
                  <a:lnTo>
                    <a:pt x="1505" y="9496"/>
                  </a:lnTo>
                  <a:lnTo>
                    <a:pt x="1273" y="10770"/>
                  </a:lnTo>
                  <a:lnTo>
                    <a:pt x="1273" y="10770"/>
                  </a:lnTo>
                  <a:lnTo>
                    <a:pt x="1157" y="11002"/>
                  </a:lnTo>
                  <a:lnTo>
                    <a:pt x="1157" y="11233"/>
                  </a:lnTo>
                  <a:lnTo>
                    <a:pt x="1042" y="11465"/>
                  </a:lnTo>
                  <a:lnTo>
                    <a:pt x="1042" y="11697"/>
                  </a:lnTo>
                  <a:lnTo>
                    <a:pt x="926" y="11928"/>
                  </a:lnTo>
                  <a:lnTo>
                    <a:pt x="926" y="12276"/>
                  </a:lnTo>
                  <a:lnTo>
                    <a:pt x="926" y="12507"/>
                  </a:lnTo>
                  <a:lnTo>
                    <a:pt x="810" y="12739"/>
                  </a:lnTo>
                  <a:lnTo>
                    <a:pt x="810" y="12739"/>
                  </a:lnTo>
                  <a:lnTo>
                    <a:pt x="926" y="13086"/>
                  </a:lnTo>
                  <a:lnTo>
                    <a:pt x="810" y="13550"/>
                  </a:lnTo>
                  <a:lnTo>
                    <a:pt x="810" y="13897"/>
                  </a:lnTo>
                  <a:lnTo>
                    <a:pt x="694" y="14360"/>
                  </a:lnTo>
                  <a:lnTo>
                    <a:pt x="579" y="14824"/>
                  </a:lnTo>
                  <a:lnTo>
                    <a:pt x="463" y="15171"/>
                  </a:lnTo>
                  <a:lnTo>
                    <a:pt x="463" y="15634"/>
                  </a:lnTo>
                  <a:lnTo>
                    <a:pt x="463" y="16097"/>
                  </a:lnTo>
                  <a:lnTo>
                    <a:pt x="463" y="16097"/>
                  </a:lnTo>
                  <a:lnTo>
                    <a:pt x="0" y="15982"/>
                  </a:lnTo>
                  <a:lnTo>
                    <a:pt x="0" y="15982"/>
                  </a:lnTo>
                  <a:lnTo>
                    <a:pt x="347" y="13897"/>
                  </a:lnTo>
                  <a:lnTo>
                    <a:pt x="694" y="11928"/>
                  </a:lnTo>
                  <a:lnTo>
                    <a:pt x="1042" y="9960"/>
                  </a:lnTo>
                  <a:lnTo>
                    <a:pt x="1389" y="7875"/>
                  </a:lnTo>
                  <a:lnTo>
                    <a:pt x="1852" y="5906"/>
                  </a:lnTo>
                  <a:lnTo>
                    <a:pt x="2199" y="3937"/>
                  </a:lnTo>
                  <a:lnTo>
                    <a:pt x="2546" y="1969"/>
                  </a:lnTo>
                  <a:lnTo>
                    <a:pt x="2893" y="0"/>
                  </a:lnTo>
                  <a:lnTo>
                    <a:pt x="2893" y="0"/>
                  </a:lnTo>
                  <a:lnTo>
                    <a:pt x="3009" y="0"/>
                  </a:lnTo>
                  <a:lnTo>
                    <a:pt x="3009" y="0"/>
                  </a:lnTo>
                  <a:lnTo>
                    <a:pt x="3125" y="0"/>
                  </a:lnTo>
                  <a:lnTo>
                    <a:pt x="3125" y="0"/>
                  </a:lnTo>
                  <a:lnTo>
                    <a:pt x="3240" y="0"/>
                  </a:lnTo>
                  <a:lnTo>
                    <a:pt x="3240" y="0"/>
                  </a:lnTo>
                  <a:lnTo>
                    <a:pt x="3356" y="0"/>
                  </a:lnTo>
                  <a:lnTo>
                    <a:pt x="3356" y="0"/>
                  </a:lnTo>
                  <a:lnTo>
                    <a:pt x="3356" y="0"/>
                  </a:lnTo>
                  <a:lnTo>
                    <a:pt x="3356" y="0"/>
                  </a:lnTo>
                  <a:lnTo>
                    <a:pt x="3356" y="0"/>
                  </a:lnTo>
                  <a:lnTo>
                    <a:pt x="3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04120" y="3094200"/>
              <a:ext cx="154800" cy="1087920"/>
            </a:xfrm>
            <a:custGeom>
              <a:avLst/>
              <a:gdLst/>
              <a:ahLst/>
              <a:rect l="l" t="t" r="r" b="b"/>
              <a:pathLst>
                <a:path w="4051" h="20267">
                  <a:moveTo>
                    <a:pt x="3704" y="116"/>
                  </a:moveTo>
                  <a:lnTo>
                    <a:pt x="3935" y="0"/>
                  </a:lnTo>
                  <a:lnTo>
                    <a:pt x="4051" y="232"/>
                  </a:lnTo>
                  <a:lnTo>
                    <a:pt x="4051" y="232"/>
                  </a:lnTo>
                  <a:lnTo>
                    <a:pt x="3588" y="2779"/>
                  </a:lnTo>
                  <a:lnTo>
                    <a:pt x="3009" y="5211"/>
                  </a:lnTo>
                  <a:lnTo>
                    <a:pt x="2547" y="7643"/>
                  </a:lnTo>
                  <a:lnTo>
                    <a:pt x="1968" y="10075"/>
                  </a:lnTo>
                  <a:lnTo>
                    <a:pt x="1389" y="12623"/>
                  </a:lnTo>
                  <a:lnTo>
                    <a:pt x="926" y="15055"/>
                  </a:lnTo>
                  <a:lnTo>
                    <a:pt x="579" y="17603"/>
                  </a:lnTo>
                  <a:lnTo>
                    <a:pt x="348" y="20035"/>
                  </a:lnTo>
                  <a:lnTo>
                    <a:pt x="348" y="20035"/>
                  </a:lnTo>
                  <a:lnTo>
                    <a:pt x="348" y="20151"/>
                  </a:lnTo>
                  <a:lnTo>
                    <a:pt x="232" y="20151"/>
                  </a:lnTo>
                  <a:lnTo>
                    <a:pt x="232" y="20151"/>
                  </a:lnTo>
                  <a:lnTo>
                    <a:pt x="116" y="20151"/>
                  </a:lnTo>
                  <a:lnTo>
                    <a:pt x="116" y="20151"/>
                  </a:lnTo>
                  <a:lnTo>
                    <a:pt x="116" y="20267"/>
                  </a:lnTo>
                  <a:lnTo>
                    <a:pt x="0" y="20267"/>
                  </a:lnTo>
                  <a:lnTo>
                    <a:pt x="0" y="20267"/>
                  </a:lnTo>
                  <a:lnTo>
                    <a:pt x="0" y="20267"/>
                  </a:lnTo>
                  <a:lnTo>
                    <a:pt x="348" y="18761"/>
                  </a:lnTo>
                  <a:lnTo>
                    <a:pt x="579" y="17140"/>
                  </a:lnTo>
                  <a:lnTo>
                    <a:pt x="695" y="15634"/>
                  </a:lnTo>
                  <a:lnTo>
                    <a:pt x="926" y="14129"/>
                  </a:lnTo>
                  <a:lnTo>
                    <a:pt x="1042" y="12507"/>
                  </a:lnTo>
                  <a:lnTo>
                    <a:pt x="1158" y="11002"/>
                  </a:lnTo>
                  <a:lnTo>
                    <a:pt x="1505" y="9496"/>
                  </a:lnTo>
                  <a:lnTo>
                    <a:pt x="1852" y="7991"/>
                  </a:lnTo>
                  <a:lnTo>
                    <a:pt x="1852" y="7991"/>
                  </a:lnTo>
                  <a:lnTo>
                    <a:pt x="1968" y="6948"/>
                  </a:lnTo>
                  <a:lnTo>
                    <a:pt x="2199" y="5906"/>
                  </a:lnTo>
                  <a:lnTo>
                    <a:pt x="2431" y="4980"/>
                  </a:lnTo>
                  <a:lnTo>
                    <a:pt x="2778" y="4053"/>
                  </a:lnTo>
                  <a:lnTo>
                    <a:pt x="3009" y="3011"/>
                  </a:lnTo>
                  <a:lnTo>
                    <a:pt x="3241" y="2084"/>
                  </a:lnTo>
                  <a:lnTo>
                    <a:pt x="3472" y="1042"/>
                  </a:lnTo>
                  <a:lnTo>
                    <a:pt x="3588" y="0"/>
                  </a:lnTo>
                  <a:lnTo>
                    <a:pt x="3588" y="0"/>
                  </a:lnTo>
                  <a:lnTo>
                    <a:pt x="3704" y="0"/>
                  </a:lnTo>
                  <a:lnTo>
                    <a:pt x="3704" y="116"/>
                  </a:lnTo>
                  <a:lnTo>
                    <a:pt x="3704" y="116"/>
                  </a:lnTo>
                  <a:lnTo>
                    <a:pt x="3704" y="116"/>
                  </a:lnTo>
                  <a:lnTo>
                    <a:pt x="370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794240" y="3106800"/>
              <a:ext cx="61920" cy="142920"/>
            </a:xfrm>
            <a:custGeom>
              <a:avLst/>
              <a:gdLst/>
              <a:ahLst/>
              <a:rect l="l" t="t" r="r" b="b"/>
              <a:pathLst>
                <a:path w="1620" h="2663">
                  <a:moveTo>
                    <a:pt x="1620" y="810"/>
                  </a:moveTo>
                  <a:lnTo>
                    <a:pt x="1620" y="1042"/>
                  </a:lnTo>
                  <a:lnTo>
                    <a:pt x="1620" y="1158"/>
                  </a:lnTo>
                  <a:lnTo>
                    <a:pt x="1620" y="1389"/>
                  </a:lnTo>
                  <a:lnTo>
                    <a:pt x="1620" y="1621"/>
                  </a:lnTo>
                  <a:lnTo>
                    <a:pt x="1620" y="1852"/>
                  </a:lnTo>
                  <a:lnTo>
                    <a:pt x="1504" y="1968"/>
                  </a:lnTo>
                  <a:lnTo>
                    <a:pt x="1388" y="2200"/>
                  </a:lnTo>
                  <a:lnTo>
                    <a:pt x="1388" y="2316"/>
                  </a:lnTo>
                  <a:lnTo>
                    <a:pt x="1388" y="2316"/>
                  </a:lnTo>
                  <a:lnTo>
                    <a:pt x="1273" y="2432"/>
                  </a:lnTo>
                  <a:lnTo>
                    <a:pt x="1157" y="2432"/>
                  </a:lnTo>
                  <a:lnTo>
                    <a:pt x="1157" y="2547"/>
                  </a:lnTo>
                  <a:lnTo>
                    <a:pt x="1041" y="2547"/>
                  </a:lnTo>
                  <a:lnTo>
                    <a:pt x="1041" y="2663"/>
                  </a:lnTo>
                  <a:lnTo>
                    <a:pt x="926" y="2663"/>
                  </a:lnTo>
                  <a:lnTo>
                    <a:pt x="810" y="2663"/>
                  </a:lnTo>
                  <a:lnTo>
                    <a:pt x="810" y="2663"/>
                  </a:lnTo>
                  <a:lnTo>
                    <a:pt x="810" y="2663"/>
                  </a:lnTo>
                  <a:lnTo>
                    <a:pt x="926" y="2432"/>
                  </a:lnTo>
                  <a:lnTo>
                    <a:pt x="926" y="2200"/>
                  </a:lnTo>
                  <a:lnTo>
                    <a:pt x="1041" y="1968"/>
                  </a:lnTo>
                  <a:lnTo>
                    <a:pt x="1157" y="1737"/>
                  </a:lnTo>
                  <a:lnTo>
                    <a:pt x="1157" y="1505"/>
                  </a:lnTo>
                  <a:lnTo>
                    <a:pt x="1157" y="1158"/>
                  </a:lnTo>
                  <a:lnTo>
                    <a:pt x="1041" y="926"/>
                  </a:lnTo>
                  <a:lnTo>
                    <a:pt x="1041" y="694"/>
                  </a:lnTo>
                  <a:lnTo>
                    <a:pt x="1041" y="694"/>
                  </a:lnTo>
                  <a:lnTo>
                    <a:pt x="926" y="579"/>
                  </a:lnTo>
                  <a:lnTo>
                    <a:pt x="810" y="463"/>
                  </a:lnTo>
                  <a:lnTo>
                    <a:pt x="694" y="347"/>
                  </a:lnTo>
                  <a:lnTo>
                    <a:pt x="578" y="347"/>
                  </a:lnTo>
                  <a:lnTo>
                    <a:pt x="463" y="231"/>
                  </a:lnTo>
                  <a:lnTo>
                    <a:pt x="231" y="231"/>
                  </a:lnTo>
                  <a:lnTo>
                    <a:pt x="115" y="231"/>
                  </a:lnTo>
                  <a:lnTo>
                    <a:pt x="0" y="347"/>
                  </a:lnTo>
                  <a:lnTo>
                    <a:pt x="0" y="347"/>
                  </a:lnTo>
                  <a:lnTo>
                    <a:pt x="0" y="115"/>
                  </a:lnTo>
                  <a:lnTo>
                    <a:pt x="0" y="115"/>
                  </a:lnTo>
                  <a:lnTo>
                    <a:pt x="115" y="0"/>
                  </a:lnTo>
                  <a:lnTo>
                    <a:pt x="347" y="0"/>
                  </a:lnTo>
                  <a:lnTo>
                    <a:pt x="578" y="0"/>
                  </a:lnTo>
                  <a:lnTo>
                    <a:pt x="810" y="0"/>
                  </a:lnTo>
                  <a:lnTo>
                    <a:pt x="1041" y="115"/>
                  </a:lnTo>
                  <a:lnTo>
                    <a:pt x="1273" y="347"/>
                  </a:lnTo>
                  <a:lnTo>
                    <a:pt x="1504" y="579"/>
                  </a:lnTo>
                  <a:lnTo>
                    <a:pt x="1620" y="810"/>
                  </a:lnTo>
                  <a:lnTo>
                    <a:pt x="1620" y="810"/>
                  </a:lnTo>
                  <a:lnTo>
                    <a:pt x="1620" y="810"/>
                  </a:lnTo>
                  <a:lnTo>
                    <a:pt x="1620" y="810"/>
                  </a:lnTo>
                  <a:lnTo>
                    <a:pt x="1620" y="8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869480" y="3125520"/>
              <a:ext cx="43920" cy="136800"/>
            </a:xfrm>
            <a:custGeom>
              <a:avLst/>
              <a:gdLst/>
              <a:ahLst/>
              <a:rect l="l" t="t" r="r" b="b"/>
              <a:pathLst>
                <a:path w="1157" h="2548">
                  <a:moveTo>
                    <a:pt x="1042" y="811"/>
                  </a:moveTo>
                  <a:lnTo>
                    <a:pt x="1042" y="926"/>
                  </a:lnTo>
                  <a:lnTo>
                    <a:pt x="1157" y="1158"/>
                  </a:lnTo>
                  <a:lnTo>
                    <a:pt x="1157" y="1274"/>
                  </a:lnTo>
                  <a:lnTo>
                    <a:pt x="1157" y="1505"/>
                  </a:lnTo>
                  <a:lnTo>
                    <a:pt x="1157" y="1621"/>
                  </a:lnTo>
                  <a:lnTo>
                    <a:pt x="1157" y="1853"/>
                  </a:lnTo>
                  <a:lnTo>
                    <a:pt x="1157" y="1969"/>
                  </a:lnTo>
                  <a:lnTo>
                    <a:pt x="1042" y="2200"/>
                  </a:lnTo>
                  <a:lnTo>
                    <a:pt x="1042" y="2200"/>
                  </a:lnTo>
                  <a:lnTo>
                    <a:pt x="695" y="2548"/>
                  </a:lnTo>
                  <a:lnTo>
                    <a:pt x="695" y="2548"/>
                  </a:lnTo>
                  <a:lnTo>
                    <a:pt x="695" y="2200"/>
                  </a:lnTo>
                  <a:lnTo>
                    <a:pt x="695" y="1969"/>
                  </a:lnTo>
                  <a:lnTo>
                    <a:pt x="810" y="1621"/>
                  </a:lnTo>
                  <a:lnTo>
                    <a:pt x="810" y="1274"/>
                  </a:lnTo>
                  <a:lnTo>
                    <a:pt x="810" y="1042"/>
                  </a:lnTo>
                  <a:lnTo>
                    <a:pt x="695" y="811"/>
                  </a:lnTo>
                  <a:lnTo>
                    <a:pt x="463" y="579"/>
                  </a:lnTo>
                  <a:lnTo>
                    <a:pt x="116" y="347"/>
                  </a:lnTo>
                  <a:lnTo>
                    <a:pt x="116" y="347"/>
                  </a:lnTo>
                  <a:lnTo>
                    <a:pt x="0" y="0"/>
                  </a:lnTo>
                  <a:lnTo>
                    <a:pt x="0" y="0"/>
                  </a:lnTo>
                  <a:lnTo>
                    <a:pt x="116" y="116"/>
                  </a:lnTo>
                  <a:lnTo>
                    <a:pt x="347" y="116"/>
                  </a:lnTo>
                  <a:lnTo>
                    <a:pt x="463" y="116"/>
                  </a:lnTo>
                  <a:lnTo>
                    <a:pt x="579" y="232"/>
                  </a:lnTo>
                  <a:lnTo>
                    <a:pt x="810" y="347"/>
                  </a:lnTo>
                  <a:lnTo>
                    <a:pt x="926" y="463"/>
                  </a:lnTo>
                  <a:lnTo>
                    <a:pt x="926" y="579"/>
                  </a:lnTo>
                  <a:lnTo>
                    <a:pt x="1042" y="811"/>
                  </a:lnTo>
                  <a:lnTo>
                    <a:pt x="1042" y="811"/>
                  </a:lnTo>
                  <a:lnTo>
                    <a:pt x="1042" y="811"/>
                  </a:lnTo>
                  <a:lnTo>
                    <a:pt x="1042" y="811"/>
                  </a:lnTo>
                  <a:lnTo>
                    <a:pt x="1042" y="8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922400" y="3137760"/>
              <a:ext cx="43920" cy="130320"/>
            </a:xfrm>
            <a:custGeom>
              <a:avLst/>
              <a:gdLst/>
              <a:ahLst/>
              <a:rect l="l" t="t" r="r" b="b"/>
              <a:pathLst>
                <a:path w="1157" h="2432">
                  <a:moveTo>
                    <a:pt x="1157" y="926"/>
                  </a:moveTo>
                  <a:lnTo>
                    <a:pt x="1157" y="1158"/>
                  </a:lnTo>
                  <a:lnTo>
                    <a:pt x="1157" y="1389"/>
                  </a:lnTo>
                  <a:lnTo>
                    <a:pt x="1157" y="1505"/>
                  </a:lnTo>
                  <a:lnTo>
                    <a:pt x="1157" y="1737"/>
                  </a:lnTo>
                  <a:lnTo>
                    <a:pt x="1042" y="1968"/>
                  </a:lnTo>
                  <a:lnTo>
                    <a:pt x="926" y="2200"/>
                  </a:lnTo>
                  <a:lnTo>
                    <a:pt x="810" y="2316"/>
                  </a:lnTo>
                  <a:lnTo>
                    <a:pt x="579" y="2432"/>
                  </a:lnTo>
                  <a:lnTo>
                    <a:pt x="579" y="2432"/>
                  </a:lnTo>
                  <a:lnTo>
                    <a:pt x="694" y="2316"/>
                  </a:lnTo>
                  <a:lnTo>
                    <a:pt x="694" y="2200"/>
                  </a:lnTo>
                  <a:lnTo>
                    <a:pt x="694" y="1968"/>
                  </a:lnTo>
                  <a:lnTo>
                    <a:pt x="810" y="1853"/>
                  </a:lnTo>
                  <a:lnTo>
                    <a:pt x="810" y="1621"/>
                  </a:lnTo>
                  <a:lnTo>
                    <a:pt x="926" y="1389"/>
                  </a:lnTo>
                  <a:lnTo>
                    <a:pt x="926" y="1273"/>
                  </a:lnTo>
                  <a:lnTo>
                    <a:pt x="810" y="1042"/>
                  </a:lnTo>
                  <a:lnTo>
                    <a:pt x="810" y="1042"/>
                  </a:lnTo>
                  <a:lnTo>
                    <a:pt x="810" y="926"/>
                  </a:lnTo>
                  <a:lnTo>
                    <a:pt x="694" y="810"/>
                  </a:lnTo>
                  <a:lnTo>
                    <a:pt x="463" y="694"/>
                  </a:lnTo>
                  <a:lnTo>
                    <a:pt x="347" y="579"/>
                  </a:lnTo>
                  <a:lnTo>
                    <a:pt x="231" y="463"/>
                  </a:lnTo>
                  <a:lnTo>
                    <a:pt x="116" y="347"/>
                  </a:lnTo>
                  <a:lnTo>
                    <a:pt x="0" y="231"/>
                  </a:lnTo>
                  <a:lnTo>
                    <a:pt x="0" y="0"/>
                  </a:lnTo>
                  <a:lnTo>
                    <a:pt x="0" y="0"/>
                  </a:lnTo>
                  <a:lnTo>
                    <a:pt x="116" y="0"/>
                  </a:lnTo>
                  <a:lnTo>
                    <a:pt x="347" y="0"/>
                  </a:lnTo>
                  <a:lnTo>
                    <a:pt x="579" y="115"/>
                  </a:lnTo>
                  <a:lnTo>
                    <a:pt x="694" y="231"/>
                  </a:lnTo>
                  <a:lnTo>
                    <a:pt x="810" y="347"/>
                  </a:lnTo>
                  <a:lnTo>
                    <a:pt x="926" y="579"/>
                  </a:lnTo>
                  <a:lnTo>
                    <a:pt x="1042" y="810"/>
                  </a:lnTo>
                  <a:lnTo>
                    <a:pt x="1157" y="926"/>
                  </a:lnTo>
                  <a:lnTo>
                    <a:pt x="1157" y="926"/>
                  </a:lnTo>
                  <a:lnTo>
                    <a:pt x="1157" y="926"/>
                  </a:lnTo>
                  <a:lnTo>
                    <a:pt x="1157" y="926"/>
                  </a:lnTo>
                  <a:lnTo>
                    <a:pt x="1157"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984320" y="3156480"/>
              <a:ext cx="30960" cy="111600"/>
            </a:xfrm>
            <a:custGeom>
              <a:avLst/>
              <a:gdLst/>
              <a:ahLst/>
              <a:rect l="l" t="t" r="r" b="b"/>
              <a:pathLst>
                <a:path w="810" h="2085">
                  <a:moveTo>
                    <a:pt x="810" y="579"/>
                  </a:moveTo>
                  <a:lnTo>
                    <a:pt x="810" y="811"/>
                  </a:lnTo>
                  <a:lnTo>
                    <a:pt x="810" y="1042"/>
                  </a:lnTo>
                  <a:lnTo>
                    <a:pt x="810" y="1158"/>
                  </a:lnTo>
                  <a:lnTo>
                    <a:pt x="810" y="1390"/>
                  </a:lnTo>
                  <a:lnTo>
                    <a:pt x="695" y="1621"/>
                  </a:lnTo>
                  <a:lnTo>
                    <a:pt x="695" y="1737"/>
                  </a:lnTo>
                  <a:lnTo>
                    <a:pt x="579" y="1969"/>
                  </a:lnTo>
                  <a:lnTo>
                    <a:pt x="347" y="2085"/>
                  </a:lnTo>
                  <a:lnTo>
                    <a:pt x="347" y="2085"/>
                  </a:lnTo>
                  <a:lnTo>
                    <a:pt x="463" y="1969"/>
                  </a:lnTo>
                  <a:lnTo>
                    <a:pt x="463" y="1737"/>
                  </a:lnTo>
                  <a:lnTo>
                    <a:pt x="579" y="1506"/>
                  </a:lnTo>
                  <a:lnTo>
                    <a:pt x="579" y="1274"/>
                  </a:lnTo>
                  <a:lnTo>
                    <a:pt x="579" y="1042"/>
                  </a:lnTo>
                  <a:lnTo>
                    <a:pt x="579" y="811"/>
                  </a:lnTo>
                  <a:lnTo>
                    <a:pt x="579" y="579"/>
                  </a:lnTo>
                  <a:lnTo>
                    <a:pt x="347" y="347"/>
                  </a:lnTo>
                  <a:lnTo>
                    <a:pt x="347" y="347"/>
                  </a:lnTo>
                  <a:lnTo>
                    <a:pt x="0" y="0"/>
                  </a:lnTo>
                  <a:lnTo>
                    <a:pt x="0" y="0"/>
                  </a:lnTo>
                  <a:lnTo>
                    <a:pt x="232" y="0"/>
                  </a:lnTo>
                  <a:lnTo>
                    <a:pt x="347" y="0"/>
                  </a:lnTo>
                  <a:lnTo>
                    <a:pt x="463" y="116"/>
                  </a:lnTo>
                  <a:lnTo>
                    <a:pt x="463" y="116"/>
                  </a:lnTo>
                  <a:lnTo>
                    <a:pt x="579" y="232"/>
                  </a:lnTo>
                  <a:lnTo>
                    <a:pt x="695" y="347"/>
                  </a:lnTo>
                  <a:lnTo>
                    <a:pt x="695" y="463"/>
                  </a:lnTo>
                  <a:lnTo>
                    <a:pt x="810" y="579"/>
                  </a:lnTo>
                  <a:lnTo>
                    <a:pt x="810" y="579"/>
                  </a:lnTo>
                  <a:lnTo>
                    <a:pt x="810" y="579"/>
                  </a:lnTo>
                  <a:lnTo>
                    <a:pt x="810" y="579"/>
                  </a:lnTo>
                  <a:lnTo>
                    <a:pt x="810"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028600" y="3169080"/>
              <a:ext cx="39600" cy="118080"/>
            </a:xfrm>
            <a:custGeom>
              <a:avLst/>
              <a:gdLst/>
              <a:ahLst/>
              <a:rect l="l" t="t" r="r" b="b"/>
              <a:pathLst>
                <a:path w="1042" h="2200">
                  <a:moveTo>
                    <a:pt x="1042" y="694"/>
                  </a:moveTo>
                  <a:lnTo>
                    <a:pt x="1042" y="926"/>
                  </a:lnTo>
                  <a:lnTo>
                    <a:pt x="1042" y="1042"/>
                  </a:lnTo>
                  <a:lnTo>
                    <a:pt x="1042" y="1274"/>
                  </a:lnTo>
                  <a:lnTo>
                    <a:pt x="926" y="1505"/>
                  </a:lnTo>
                  <a:lnTo>
                    <a:pt x="926" y="1737"/>
                  </a:lnTo>
                  <a:lnTo>
                    <a:pt x="811" y="1853"/>
                  </a:lnTo>
                  <a:lnTo>
                    <a:pt x="579" y="2084"/>
                  </a:lnTo>
                  <a:lnTo>
                    <a:pt x="463" y="2200"/>
                  </a:lnTo>
                  <a:lnTo>
                    <a:pt x="463" y="2200"/>
                  </a:lnTo>
                  <a:lnTo>
                    <a:pt x="116" y="2200"/>
                  </a:lnTo>
                  <a:lnTo>
                    <a:pt x="116" y="2200"/>
                  </a:lnTo>
                  <a:lnTo>
                    <a:pt x="232" y="1968"/>
                  </a:lnTo>
                  <a:lnTo>
                    <a:pt x="348" y="1737"/>
                  </a:lnTo>
                  <a:lnTo>
                    <a:pt x="463" y="1621"/>
                  </a:lnTo>
                  <a:lnTo>
                    <a:pt x="463" y="1389"/>
                  </a:lnTo>
                  <a:lnTo>
                    <a:pt x="579" y="1274"/>
                  </a:lnTo>
                  <a:lnTo>
                    <a:pt x="579" y="1042"/>
                  </a:lnTo>
                  <a:lnTo>
                    <a:pt x="579" y="810"/>
                  </a:lnTo>
                  <a:lnTo>
                    <a:pt x="463" y="579"/>
                  </a:lnTo>
                  <a:lnTo>
                    <a:pt x="463" y="579"/>
                  </a:lnTo>
                  <a:lnTo>
                    <a:pt x="0" y="0"/>
                  </a:lnTo>
                  <a:lnTo>
                    <a:pt x="0" y="0"/>
                  </a:lnTo>
                  <a:lnTo>
                    <a:pt x="116" y="0"/>
                  </a:lnTo>
                  <a:lnTo>
                    <a:pt x="348" y="0"/>
                  </a:lnTo>
                  <a:lnTo>
                    <a:pt x="463" y="0"/>
                  </a:lnTo>
                  <a:lnTo>
                    <a:pt x="579" y="115"/>
                  </a:lnTo>
                  <a:lnTo>
                    <a:pt x="811" y="231"/>
                  </a:lnTo>
                  <a:lnTo>
                    <a:pt x="926" y="347"/>
                  </a:lnTo>
                  <a:lnTo>
                    <a:pt x="1042" y="579"/>
                  </a:lnTo>
                  <a:lnTo>
                    <a:pt x="1042" y="694"/>
                  </a:lnTo>
                  <a:lnTo>
                    <a:pt x="1042" y="694"/>
                  </a:lnTo>
                  <a:lnTo>
                    <a:pt x="1042" y="694"/>
                  </a:lnTo>
                  <a:lnTo>
                    <a:pt x="1042" y="694"/>
                  </a:lnTo>
                  <a:lnTo>
                    <a:pt x="1042" y="6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396080" y="3312000"/>
              <a:ext cx="238680" cy="397800"/>
            </a:xfrm>
            <a:custGeom>
              <a:avLst/>
              <a:gdLst/>
              <a:ahLst/>
              <a:rect l="l" t="t" r="r" b="b"/>
              <a:pathLst>
                <a:path w="6249" h="7412">
                  <a:moveTo>
                    <a:pt x="5439" y="1969"/>
                  </a:moveTo>
                  <a:lnTo>
                    <a:pt x="5439" y="2085"/>
                  </a:lnTo>
                  <a:lnTo>
                    <a:pt x="5555" y="2085"/>
                  </a:lnTo>
                  <a:lnTo>
                    <a:pt x="5555" y="2085"/>
                  </a:lnTo>
                  <a:lnTo>
                    <a:pt x="5671" y="2085"/>
                  </a:lnTo>
                  <a:lnTo>
                    <a:pt x="5671" y="2085"/>
                  </a:lnTo>
                  <a:lnTo>
                    <a:pt x="5786" y="2085"/>
                  </a:lnTo>
                  <a:lnTo>
                    <a:pt x="5902" y="2085"/>
                  </a:lnTo>
                  <a:lnTo>
                    <a:pt x="5902" y="2085"/>
                  </a:lnTo>
                  <a:lnTo>
                    <a:pt x="5902" y="2085"/>
                  </a:lnTo>
                  <a:lnTo>
                    <a:pt x="6018" y="1969"/>
                  </a:lnTo>
                  <a:lnTo>
                    <a:pt x="6018" y="1969"/>
                  </a:lnTo>
                  <a:lnTo>
                    <a:pt x="6018" y="1969"/>
                  </a:lnTo>
                  <a:lnTo>
                    <a:pt x="6018" y="1969"/>
                  </a:lnTo>
                  <a:lnTo>
                    <a:pt x="6018" y="1853"/>
                  </a:lnTo>
                  <a:lnTo>
                    <a:pt x="6018" y="1853"/>
                  </a:lnTo>
                  <a:lnTo>
                    <a:pt x="6134" y="1737"/>
                  </a:lnTo>
                  <a:lnTo>
                    <a:pt x="6134" y="1737"/>
                  </a:lnTo>
                  <a:lnTo>
                    <a:pt x="6134" y="1737"/>
                  </a:lnTo>
                  <a:lnTo>
                    <a:pt x="6249" y="1737"/>
                  </a:lnTo>
                  <a:lnTo>
                    <a:pt x="6249" y="1737"/>
                  </a:lnTo>
                  <a:lnTo>
                    <a:pt x="6249" y="1853"/>
                  </a:lnTo>
                  <a:lnTo>
                    <a:pt x="6249" y="1969"/>
                  </a:lnTo>
                  <a:lnTo>
                    <a:pt x="6249" y="2085"/>
                  </a:lnTo>
                  <a:lnTo>
                    <a:pt x="6134" y="2201"/>
                  </a:lnTo>
                  <a:lnTo>
                    <a:pt x="6018" y="2316"/>
                  </a:lnTo>
                  <a:lnTo>
                    <a:pt x="5902" y="2432"/>
                  </a:lnTo>
                  <a:lnTo>
                    <a:pt x="5786" y="2548"/>
                  </a:lnTo>
                  <a:lnTo>
                    <a:pt x="5671" y="2548"/>
                  </a:lnTo>
                  <a:lnTo>
                    <a:pt x="5671" y="2548"/>
                  </a:lnTo>
                  <a:lnTo>
                    <a:pt x="5671" y="2548"/>
                  </a:lnTo>
                  <a:lnTo>
                    <a:pt x="5671" y="2548"/>
                  </a:lnTo>
                  <a:lnTo>
                    <a:pt x="5671" y="2548"/>
                  </a:lnTo>
                  <a:lnTo>
                    <a:pt x="5555" y="2548"/>
                  </a:lnTo>
                  <a:lnTo>
                    <a:pt x="5555" y="2548"/>
                  </a:lnTo>
                  <a:lnTo>
                    <a:pt x="5555" y="2548"/>
                  </a:lnTo>
                  <a:lnTo>
                    <a:pt x="5555" y="2548"/>
                  </a:lnTo>
                  <a:lnTo>
                    <a:pt x="5555" y="2548"/>
                  </a:lnTo>
                  <a:lnTo>
                    <a:pt x="5555" y="2548"/>
                  </a:lnTo>
                  <a:lnTo>
                    <a:pt x="5555" y="3127"/>
                  </a:lnTo>
                  <a:lnTo>
                    <a:pt x="5555" y="3822"/>
                  </a:lnTo>
                  <a:lnTo>
                    <a:pt x="5555" y="4401"/>
                  </a:lnTo>
                  <a:lnTo>
                    <a:pt x="5323" y="4980"/>
                  </a:lnTo>
                  <a:lnTo>
                    <a:pt x="5208" y="5675"/>
                  </a:lnTo>
                  <a:lnTo>
                    <a:pt x="4861" y="6138"/>
                  </a:lnTo>
                  <a:lnTo>
                    <a:pt x="4398" y="6601"/>
                  </a:lnTo>
                  <a:lnTo>
                    <a:pt x="3935" y="7065"/>
                  </a:lnTo>
                  <a:lnTo>
                    <a:pt x="3935" y="7065"/>
                  </a:lnTo>
                  <a:lnTo>
                    <a:pt x="3703" y="7180"/>
                  </a:lnTo>
                  <a:lnTo>
                    <a:pt x="3356" y="7296"/>
                  </a:lnTo>
                  <a:lnTo>
                    <a:pt x="3125" y="7412"/>
                  </a:lnTo>
                  <a:lnTo>
                    <a:pt x="2893" y="7412"/>
                  </a:lnTo>
                  <a:lnTo>
                    <a:pt x="2546" y="7412"/>
                  </a:lnTo>
                  <a:lnTo>
                    <a:pt x="2199" y="7412"/>
                  </a:lnTo>
                  <a:lnTo>
                    <a:pt x="1967" y="7296"/>
                  </a:lnTo>
                  <a:lnTo>
                    <a:pt x="1620" y="7296"/>
                  </a:lnTo>
                  <a:lnTo>
                    <a:pt x="1620" y="7296"/>
                  </a:lnTo>
                  <a:lnTo>
                    <a:pt x="1389" y="7180"/>
                  </a:lnTo>
                  <a:lnTo>
                    <a:pt x="1157" y="7065"/>
                  </a:lnTo>
                  <a:lnTo>
                    <a:pt x="926" y="6949"/>
                  </a:lnTo>
                  <a:lnTo>
                    <a:pt x="694" y="6717"/>
                  </a:lnTo>
                  <a:lnTo>
                    <a:pt x="578" y="6601"/>
                  </a:lnTo>
                  <a:lnTo>
                    <a:pt x="347" y="6370"/>
                  </a:lnTo>
                  <a:lnTo>
                    <a:pt x="231" y="6138"/>
                  </a:lnTo>
                  <a:lnTo>
                    <a:pt x="116" y="5907"/>
                  </a:lnTo>
                  <a:lnTo>
                    <a:pt x="116" y="5907"/>
                  </a:lnTo>
                  <a:lnTo>
                    <a:pt x="0" y="5559"/>
                  </a:lnTo>
                  <a:lnTo>
                    <a:pt x="0" y="5096"/>
                  </a:lnTo>
                  <a:lnTo>
                    <a:pt x="0" y="4748"/>
                  </a:lnTo>
                  <a:lnTo>
                    <a:pt x="0" y="4285"/>
                  </a:lnTo>
                  <a:lnTo>
                    <a:pt x="0" y="3938"/>
                  </a:lnTo>
                  <a:lnTo>
                    <a:pt x="116" y="3590"/>
                  </a:lnTo>
                  <a:lnTo>
                    <a:pt x="347" y="3243"/>
                  </a:lnTo>
                  <a:lnTo>
                    <a:pt x="578" y="2895"/>
                  </a:lnTo>
                  <a:lnTo>
                    <a:pt x="578" y="2895"/>
                  </a:lnTo>
                  <a:lnTo>
                    <a:pt x="926" y="2432"/>
                  </a:lnTo>
                  <a:lnTo>
                    <a:pt x="1273" y="2085"/>
                  </a:lnTo>
                  <a:lnTo>
                    <a:pt x="1736" y="1853"/>
                  </a:lnTo>
                  <a:lnTo>
                    <a:pt x="2083" y="1622"/>
                  </a:lnTo>
                  <a:lnTo>
                    <a:pt x="2546" y="1390"/>
                  </a:lnTo>
                  <a:lnTo>
                    <a:pt x="3009" y="1274"/>
                  </a:lnTo>
                  <a:lnTo>
                    <a:pt x="3587" y="1158"/>
                  </a:lnTo>
                  <a:lnTo>
                    <a:pt x="4050" y="1158"/>
                  </a:lnTo>
                  <a:lnTo>
                    <a:pt x="4050" y="1158"/>
                  </a:lnTo>
                  <a:lnTo>
                    <a:pt x="3587" y="927"/>
                  </a:lnTo>
                  <a:lnTo>
                    <a:pt x="3240" y="811"/>
                  </a:lnTo>
                  <a:lnTo>
                    <a:pt x="2777" y="579"/>
                  </a:lnTo>
                  <a:lnTo>
                    <a:pt x="2314" y="463"/>
                  </a:lnTo>
                  <a:lnTo>
                    <a:pt x="1851" y="463"/>
                  </a:lnTo>
                  <a:lnTo>
                    <a:pt x="1389" y="463"/>
                  </a:lnTo>
                  <a:lnTo>
                    <a:pt x="926" y="579"/>
                  </a:lnTo>
                  <a:lnTo>
                    <a:pt x="578" y="695"/>
                  </a:lnTo>
                  <a:lnTo>
                    <a:pt x="578" y="695"/>
                  </a:lnTo>
                  <a:lnTo>
                    <a:pt x="578" y="463"/>
                  </a:lnTo>
                  <a:lnTo>
                    <a:pt x="694" y="348"/>
                  </a:lnTo>
                  <a:lnTo>
                    <a:pt x="926" y="232"/>
                  </a:lnTo>
                  <a:lnTo>
                    <a:pt x="1041" y="116"/>
                  </a:lnTo>
                  <a:lnTo>
                    <a:pt x="1273" y="116"/>
                  </a:lnTo>
                  <a:lnTo>
                    <a:pt x="1504" y="0"/>
                  </a:lnTo>
                  <a:lnTo>
                    <a:pt x="1620" y="0"/>
                  </a:lnTo>
                  <a:lnTo>
                    <a:pt x="1851" y="0"/>
                  </a:lnTo>
                  <a:lnTo>
                    <a:pt x="1851" y="0"/>
                  </a:lnTo>
                  <a:lnTo>
                    <a:pt x="2314" y="116"/>
                  </a:lnTo>
                  <a:lnTo>
                    <a:pt x="2777" y="232"/>
                  </a:lnTo>
                  <a:lnTo>
                    <a:pt x="3356" y="463"/>
                  </a:lnTo>
                  <a:lnTo>
                    <a:pt x="3819" y="579"/>
                  </a:lnTo>
                  <a:lnTo>
                    <a:pt x="4282" y="811"/>
                  </a:lnTo>
                  <a:lnTo>
                    <a:pt x="4745" y="1043"/>
                  </a:lnTo>
                  <a:lnTo>
                    <a:pt x="5092" y="1506"/>
                  </a:lnTo>
                  <a:lnTo>
                    <a:pt x="5439" y="1969"/>
                  </a:lnTo>
                  <a:lnTo>
                    <a:pt x="5439" y="1969"/>
                  </a:lnTo>
                  <a:lnTo>
                    <a:pt x="5439" y="1969"/>
                  </a:lnTo>
                  <a:lnTo>
                    <a:pt x="5439" y="1969"/>
                  </a:lnTo>
                  <a:lnTo>
                    <a:pt x="5439" y="1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643760" y="3367800"/>
              <a:ext cx="198720" cy="410040"/>
            </a:xfrm>
            <a:custGeom>
              <a:avLst/>
              <a:gdLst/>
              <a:ahLst/>
              <a:rect l="l" t="t" r="r" b="b"/>
              <a:pathLst>
                <a:path w="5208" h="7643">
                  <a:moveTo>
                    <a:pt x="4976" y="347"/>
                  </a:moveTo>
                  <a:lnTo>
                    <a:pt x="4976" y="347"/>
                  </a:lnTo>
                  <a:lnTo>
                    <a:pt x="4861" y="347"/>
                  </a:lnTo>
                  <a:lnTo>
                    <a:pt x="4745" y="347"/>
                  </a:lnTo>
                  <a:lnTo>
                    <a:pt x="4629" y="347"/>
                  </a:lnTo>
                  <a:lnTo>
                    <a:pt x="4513" y="347"/>
                  </a:lnTo>
                  <a:lnTo>
                    <a:pt x="4398" y="347"/>
                  </a:lnTo>
                  <a:lnTo>
                    <a:pt x="4282" y="231"/>
                  </a:lnTo>
                  <a:lnTo>
                    <a:pt x="4166" y="347"/>
                  </a:lnTo>
                  <a:lnTo>
                    <a:pt x="4166" y="347"/>
                  </a:lnTo>
                  <a:lnTo>
                    <a:pt x="4050" y="347"/>
                  </a:lnTo>
                  <a:lnTo>
                    <a:pt x="3819" y="463"/>
                  </a:lnTo>
                  <a:lnTo>
                    <a:pt x="3703" y="463"/>
                  </a:lnTo>
                  <a:lnTo>
                    <a:pt x="3472" y="579"/>
                  </a:lnTo>
                  <a:lnTo>
                    <a:pt x="3356" y="579"/>
                  </a:lnTo>
                  <a:lnTo>
                    <a:pt x="3240" y="694"/>
                  </a:lnTo>
                  <a:lnTo>
                    <a:pt x="3009" y="810"/>
                  </a:lnTo>
                  <a:lnTo>
                    <a:pt x="2893" y="926"/>
                  </a:lnTo>
                  <a:lnTo>
                    <a:pt x="2893" y="926"/>
                  </a:lnTo>
                  <a:lnTo>
                    <a:pt x="3240" y="926"/>
                  </a:lnTo>
                  <a:lnTo>
                    <a:pt x="3472" y="1042"/>
                  </a:lnTo>
                  <a:lnTo>
                    <a:pt x="3819" y="1158"/>
                  </a:lnTo>
                  <a:lnTo>
                    <a:pt x="4050" y="1273"/>
                  </a:lnTo>
                  <a:lnTo>
                    <a:pt x="4282" y="1389"/>
                  </a:lnTo>
                  <a:lnTo>
                    <a:pt x="4513" y="1621"/>
                  </a:lnTo>
                  <a:lnTo>
                    <a:pt x="4745" y="1852"/>
                  </a:lnTo>
                  <a:lnTo>
                    <a:pt x="4976" y="2084"/>
                  </a:lnTo>
                  <a:lnTo>
                    <a:pt x="4976" y="2084"/>
                  </a:lnTo>
                  <a:lnTo>
                    <a:pt x="5092" y="2663"/>
                  </a:lnTo>
                  <a:lnTo>
                    <a:pt x="5208" y="3242"/>
                  </a:lnTo>
                  <a:lnTo>
                    <a:pt x="5208" y="3821"/>
                  </a:lnTo>
                  <a:lnTo>
                    <a:pt x="5092" y="4400"/>
                  </a:lnTo>
                  <a:lnTo>
                    <a:pt x="4976" y="4979"/>
                  </a:lnTo>
                  <a:lnTo>
                    <a:pt x="4745" y="5558"/>
                  </a:lnTo>
                  <a:lnTo>
                    <a:pt x="4513" y="6137"/>
                  </a:lnTo>
                  <a:lnTo>
                    <a:pt x="4166" y="6601"/>
                  </a:lnTo>
                  <a:lnTo>
                    <a:pt x="4166" y="6601"/>
                  </a:lnTo>
                  <a:lnTo>
                    <a:pt x="3819" y="6948"/>
                  </a:lnTo>
                  <a:lnTo>
                    <a:pt x="3472" y="7180"/>
                  </a:lnTo>
                  <a:lnTo>
                    <a:pt x="3125" y="7411"/>
                  </a:lnTo>
                  <a:lnTo>
                    <a:pt x="2662" y="7527"/>
                  </a:lnTo>
                  <a:lnTo>
                    <a:pt x="2199" y="7643"/>
                  </a:lnTo>
                  <a:lnTo>
                    <a:pt x="1736" y="7643"/>
                  </a:lnTo>
                  <a:lnTo>
                    <a:pt x="1273" y="7643"/>
                  </a:lnTo>
                  <a:lnTo>
                    <a:pt x="810" y="7527"/>
                  </a:lnTo>
                  <a:lnTo>
                    <a:pt x="810" y="7527"/>
                  </a:lnTo>
                  <a:lnTo>
                    <a:pt x="463" y="7064"/>
                  </a:lnTo>
                  <a:lnTo>
                    <a:pt x="231" y="6485"/>
                  </a:lnTo>
                  <a:lnTo>
                    <a:pt x="0" y="5906"/>
                  </a:lnTo>
                  <a:lnTo>
                    <a:pt x="0" y="5211"/>
                  </a:lnTo>
                  <a:lnTo>
                    <a:pt x="116" y="4632"/>
                  </a:lnTo>
                  <a:lnTo>
                    <a:pt x="231" y="3937"/>
                  </a:lnTo>
                  <a:lnTo>
                    <a:pt x="347" y="3358"/>
                  </a:lnTo>
                  <a:lnTo>
                    <a:pt x="578" y="2779"/>
                  </a:lnTo>
                  <a:lnTo>
                    <a:pt x="578" y="2779"/>
                  </a:lnTo>
                  <a:lnTo>
                    <a:pt x="578" y="2547"/>
                  </a:lnTo>
                  <a:lnTo>
                    <a:pt x="694" y="2432"/>
                  </a:lnTo>
                  <a:lnTo>
                    <a:pt x="810" y="2316"/>
                  </a:lnTo>
                  <a:lnTo>
                    <a:pt x="810" y="2200"/>
                  </a:lnTo>
                  <a:lnTo>
                    <a:pt x="926" y="1968"/>
                  </a:lnTo>
                  <a:lnTo>
                    <a:pt x="1041" y="1852"/>
                  </a:lnTo>
                  <a:lnTo>
                    <a:pt x="1041" y="1737"/>
                  </a:lnTo>
                  <a:lnTo>
                    <a:pt x="1157" y="1621"/>
                  </a:lnTo>
                  <a:lnTo>
                    <a:pt x="1157" y="1621"/>
                  </a:lnTo>
                  <a:lnTo>
                    <a:pt x="1041" y="1505"/>
                  </a:lnTo>
                  <a:lnTo>
                    <a:pt x="926" y="1505"/>
                  </a:lnTo>
                  <a:lnTo>
                    <a:pt x="926" y="1389"/>
                  </a:lnTo>
                  <a:lnTo>
                    <a:pt x="810" y="1389"/>
                  </a:lnTo>
                  <a:lnTo>
                    <a:pt x="694" y="1389"/>
                  </a:lnTo>
                  <a:lnTo>
                    <a:pt x="694" y="1389"/>
                  </a:lnTo>
                  <a:lnTo>
                    <a:pt x="578" y="1273"/>
                  </a:lnTo>
                  <a:lnTo>
                    <a:pt x="578" y="1273"/>
                  </a:lnTo>
                  <a:lnTo>
                    <a:pt x="578" y="1273"/>
                  </a:lnTo>
                  <a:lnTo>
                    <a:pt x="694" y="1158"/>
                  </a:lnTo>
                  <a:lnTo>
                    <a:pt x="810" y="1158"/>
                  </a:lnTo>
                  <a:lnTo>
                    <a:pt x="926" y="1158"/>
                  </a:lnTo>
                  <a:lnTo>
                    <a:pt x="1041" y="1158"/>
                  </a:lnTo>
                  <a:lnTo>
                    <a:pt x="1157" y="1158"/>
                  </a:lnTo>
                  <a:lnTo>
                    <a:pt x="1389" y="1158"/>
                  </a:lnTo>
                  <a:lnTo>
                    <a:pt x="1504" y="1158"/>
                  </a:lnTo>
                  <a:lnTo>
                    <a:pt x="1620" y="1158"/>
                  </a:lnTo>
                  <a:lnTo>
                    <a:pt x="1620" y="1158"/>
                  </a:lnTo>
                  <a:lnTo>
                    <a:pt x="1967" y="926"/>
                  </a:lnTo>
                  <a:lnTo>
                    <a:pt x="2430" y="694"/>
                  </a:lnTo>
                  <a:lnTo>
                    <a:pt x="2777" y="347"/>
                  </a:lnTo>
                  <a:lnTo>
                    <a:pt x="3240" y="115"/>
                  </a:lnTo>
                  <a:lnTo>
                    <a:pt x="3703" y="0"/>
                  </a:lnTo>
                  <a:lnTo>
                    <a:pt x="4166" y="0"/>
                  </a:lnTo>
                  <a:lnTo>
                    <a:pt x="4629" y="0"/>
                  </a:lnTo>
                  <a:lnTo>
                    <a:pt x="4976" y="347"/>
                  </a:lnTo>
                  <a:lnTo>
                    <a:pt x="4976" y="347"/>
                  </a:lnTo>
                  <a:lnTo>
                    <a:pt x="4976" y="347"/>
                  </a:lnTo>
                  <a:lnTo>
                    <a:pt x="4976" y="347"/>
                  </a:lnTo>
                  <a:lnTo>
                    <a:pt x="4976"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409400" y="3399120"/>
              <a:ext cx="185760" cy="285840"/>
            </a:xfrm>
            <a:custGeom>
              <a:avLst/>
              <a:gdLst/>
              <a:ahLst/>
              <a:rect l="l" t="t" r="r" b="b"/>
              <a:pathLst>
                <a:path w="4861" h="5327">
                  <a:moveTo>
                    <a:pt x="4398" y="463"/>
                  </a:moveTo>
                  <a:lnTo>
                    <a:pt x="4629" y="926"/>
                  </a:lnTo>
                  <a:lnTo>
                    <a:pt x="4745" y="1389"/>
                  </a:lnTo>
                  <a:lnTo>
                    <a:pt x="4745" y="1968"/>
                  </a:lnTo>
                  <a:lnTo>
                    <a:pt x="4861" y="2432"/>
                  </a:lnTo>
                  <a:lnTo>
                    <a:pt x="4745" y="2895"/>
                  </a:lnTo>
                  <a:lnTo>
                    <a:pt x="4629" y="3474"/>
                  </a:lnTo>
                  <a:lnTo>
                    <a:pt x="4398" y="3937"/>
                  </a:lnTo>
                  <a:lnTo>
                    <a:pt x="4051" y="4285"/>
                  </a:lnTo>
                  <a:lnTo>
                    <a:pt x="4051" y="4285"/>
                  </a:lnTo>
                  <a:lnTo>
                    <a:pt x="3935" y="4516"/>
                  </a:lnTo>
                  <a:lnTo>
                    <a:pt x="3819" y="4632"/>
                  </a:lnTo>
                  <a:lnTo>
                    <a:pt x="3588" y="4864"/>
                  </a:lnTo>
                  <a:lnTo>
                    <a:pt x="3356" y="4979"/>
                  </a:lnTo>
                  <a:lnTo>
                    <a:pt x="3125" y="5095"/>
                  </a:lnTo>
                  <a:lnTo>
                    <a:pt x="3009" y="5211"/>
                  </a:lnTo>
                  <a:lnTo>
                    <a:pt x="2778" y="5327"/>
                  </a:lnTo>
                  <a:lnTo>
                    <a:pt x="2430" y="5327"/>
                  </a:lnTo>
                  <a:lnTo>
                    <a:pt x="2430" y="5327"/>
                  </a:lnTo>
                  <a:lnTo>
                    <a:pt x="2083" y="5327"/>
                  </a:lnTo>
                  <a:lnTo>
                    <a:pt x="1736" y="5211"/>
                  </a:lnTo>
                  <a:lnTo>
                    <a:pt x="1389" y="5211"/>
                  </a:lnTo>
                  <a:lnTo>
                    <a:pt x="1157" y="5095"/>
                  </a:lnTo>
                  <a:lnTo>
                    <a:pt x="810" y="4864"/>
                  </a:lnTo>
                  <a:lnTo>
                    <a:pt x="579" y="4748"/>
                  </a:lnTo>
                  <a:lnTo>
                    <a:pt x="347" y="4400"/>
                  </a:lnTo>
                  <a:lnTo>
                    <a:pt x="231" y="4053"/>
                  </a:lnTo>
                  <a:lnTo>
                    <a:pt x="231" y="4053"/>
                  </a:lnTo>
                  <a:lnTo>
                    <a:pt x="116" y="3590"/>
                  </a:lnTo>
                  <a:lnTo>
                    <a:pt x="0" y="3242"/>
                  </a:lnTo>
                  <a:lnTo>
                    <a:pt x="116" y="2779"/>
                  </a:lnTo>
                  <a:lnTo>
                    <a:pt x="231" y="2316"/>
                  </a:lnTo>
                  <a:lnTo>
                    <a:pt x="347" y="1853"/>
                  </a:lnTo>
                  <a:lnTo>
                    <a:pt x="579" y="1505"/>
                  </a:lnTo>
                  <a:lnTo>
                    <a:pt x="810" y="1158"/>
                  </a:lnTo>
                  <a:lnTo>
                    <a:pt x="1157" y="926"/>
                  </a:lnTo>
                  <a:lnTo>
                    <a:pt x="1157" y="926"/>
                  </a:lnTo>
                  <a:lnTo>
                    <a:pt x="1504" y="579"/>
                  </a:lnTo>
                  <a:lnTo>
                    <a:pt x="1852" y="463"/>
                  </a:lnTo>
                  <a:lnTo>
                    <a:pt x="2199" y="347"/>
                  </a:lnTo>
                  <a:lnTo>
                    <a:pt x="2546" y="231"/>
                  </a:lnTo>
                  <a:lnTo>
                    <a:pt x="2893" y="115"/>
                  </a:lnTo>
                  <a:lnTo>
                    <a:pt x="3240" y="115"/>
                  </a:lnTo>
                  <a:lnTo>
                    <a:pt x="3703" y="115"/>
                  </a:lnTo>
                  <a:lnTo>
                    <a:pt x="4051" y="0"/>
                  </a:lnTo>
                  <a:lnTo>
                    <a:pt x="4051" y="0"/>
                  </a:lnTo>
                  <a:lnTo>
                    <a:pt x="4398" y="463"/>
                  </a:lnTo>
                  <a:lnTo>
                    <a:pt x="4398" y="463"/>
                  </a:lnTo>
                  <a:lnTo>
                    <a:pt x="4398" y="463"/>
                  </a:lnTo>
                  <a:lnTo>
                    <a:pt x="439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479960" y="3411360"/>
              <a:ext cx="92880" cy="124200"/>
            </a:xfrm>
            <a:custGeom>
              <a:avLst/>
              <a:gdLst/>
              <a:ahLst/>
              <a:rect l="l" t="t" r="r" b="b"/>
              <a:pathLst>
                <a:path w="2430" h="2316">
                  <a:moveTo>
                    <a:pt x="2314" y="579"/>
                  </a:moveTo>
                  <a:lnTo>
                    <a:pt x="2430" y="811"/>
                  </a:lnTo>
                  <a:lnTo>
                    <a:pt x="2430" y="1042"/>
                  </a:lnTo>
                  <a:lnTo>
                    <a:pt x="2430" y="1274"/>
                  </a:lnTo>
                  <a:lnTo>
                    <a:pt x="2314" y="1506"/>
                  </a:lnTo>
                  <a:lnTo>
                    <a:pt x="2199" y="1737"/>
                  </a:lnTo>
                  <a:lnTo>
                    <a:pt x="2083" y="1969"/>
                  </a:lnTo>
                  <a:lnTo>
                    <a:pt x="1851" y="2085"/>
                  </a:lnTo>
                  <a:lnTo>
                    <a:pt x="1620" y="2201"/>
                  </a:lnTo>
                  <a:lnTo>
                    <a:pt x="1620" y="2201"/>
                  </a:lnTo>
                  <a:lnTo>
                    <a:pt x="1504" y="2201"/>
                  </a:lnTo>
                  <a:lnTo>
                    <a:pt x="1388" y="2316"/>
                  </a:lnTo>
                  <a:lnTo>
                    <a:pt x="1157" y="2316"/>
                  </a:lnTo>
                  <a:lnTo>
                    <a:pt x="1041" y="2201"/>
                  </a:lnTo>
                  <a:lnTo>
                    <a:pt x="926" y="2201"/>
                  </a:lnTo>
                  <a:lnTo>
                    <a:pt x="810" y="2201"/>
                  </a:lnTo>
                  <a:lnTo>
                    <a:pt x="578" y="2085"/>
                  </a:lnTo>
                  <a:lnTo>
                    <a:pt x="463" y="2085"/>
                  </a:lnTo>
                  <a:lnTo>
                    <a:pt x="463" y="2085"/>
                  </a:lnTo>
                  <a:lnTo>
                    <a:pt x="347" y="1969"/>
                  </a:lnTo>
                  <a:lnTo>
                    <a:pt x="231" y="1737"/>
                  </a:lnTo>
                  <a:lnTo>
                    <a:pt x="115" y="1622"/>
                  </a:lnTo>
                  <a:lnTo>
                    <a:pt x="115" y="1390"/>
                  </a:lnTo>
                  <a:lnTo>
                    <a:pt x="0" y="1274"/>
                  </a:lnTo>
                  <a:lnTo>
                    <a:pt x="0" y="1042"/>
                  </a:lnTo>
                  <a:lnTo>
                    <a:pt x="115" y="927"/>
                  </a:lnTo>
                  <a:lnTo>
                    <a:pt x="115" y="695"/>
                  </a:lnTo>
                  <a:lnTo>
                    <a:pt x="115" y="695"/>
                  </a:lnTo>
                  <a:lnTo>
                    <a:pt x="231" y="463"/>
                  </a:lnTo>
                  <a:lnTo>
                    <a:pt x="578" y="232"/>
                  </a:lnTo>
                  <a:lnTo>
                    <a:pt x="810" y="116"/>
                  </a:lnTo>
                  <a:lnTo>
                    <a:pt x="1273" y="0"/>
                  </a:lnTo>
                  <a:lnTo>
                    <a:pt x="1620" y="0"/>
                  </a:lnTo>
                  <a:lnTo>
                    <a:pt x="1851" y="116"/>
                  </a:lnTo>
                  <a:lnTo>
                    <a:pt x="2199" y="232"/>
                  </a:lnTo>
                  <a:lnTo>
                    <a:pt x="2314" y="579"/>
                  </a:lnTo>
                  <a:lnTo>
                    <a:pt x="2314" y="579"/>
                  </a:lnTo>
                  <a:lnTo>
                    <a:pt x="2314" y="579"/>
                  </a:lnTo>
                  <a:lnTo>
                    <a:pt x="2314" y="579"/>
                  </a:lnTo>
                  <a:lnTo>
                    <a:pt x="23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661400" y="3442320"/>
              <a:ext cx="163440" cy="310680"/>
            </a:xfrm>
            <a:custGeom>
              <a:avLst/>
              <a:gdLst/>
              <a:ahLst/>
              <a:rect l="l" t="t" r="r" b="b"/>
              <a:pathLst>
                <a:path w="4282" h="5791">
                  <a:moveTo>
                    <a:pt x="4166" y="927"/>
                  </a:moveTo>
                  <a:lnTo>
                    <a:pt x="4282" y="1506"/>
                  </a:lnTo>
                  <a:lnTo>
                    <a:pt x="4282" y="1969"/>
                  </a:lnTo>
                  <a:lnTo>
                    <a:pt x="4282" y="2432"/>
                  </a:lnTo>
                  <a:lnTo>
                    <a:pt x="4166" y="2895"/>
                  </a:lnTo>
                  <a:lnTo>
                    <a:pt x="4050" y="3359"/>
                  </a:lnTo>
                  <a:lnTo>
                    <a:pt x="3935" y="3822"/>
                  </a:lnTo>
                  <a:lnTo>
                    <a:pt x="3703" y="4285"/>
                  </a:lnTo>
                  <a:lnTo>
                    <a:pt x="3587" y="4633"/>
                  </a:lnTo>
                  <a:lnTo>
                    <a:pt x="3587" y="4633"/>
                  </a:lnTo>
                  <a:lnTo>
                    <a:pt x="3240" y="4980"/>
                  </a:lnTo>
                  <a:lnTo>
                    <a:pt x="3009" y="5327"/>
                  </a:lnTo>
                  <a:lnTo>
                    <a:pt x="2662" y="5443"/>
                  </a:lnTo>
                  <a:lnTo>
                    <a:pt x="2199" y="5675"/>
                  </a:lnTo>
                  <a:lnTo>
                    <a:pt x="1851" y="5791"/>
                  </a:lnTo>
                  <a:lnTo>
                    <a:pt x="1504" y="5791"/>
                  </a:lnTo>
                  <a:lnTo>
                    <a:pt x="1041" y="5791"/>
                  </a:lnTo>
                  <a:lnTo>
                    <a:pt x="578" y="5791"/>
                  </a:lnTo>
                  <a:lnTo>
                    <a:pt x="578" y="5791"/>
                  </a:lnTo>
                  <a:lnTo>
                    <a:pt x="231" y="5096"/>
                  </a:lnTo>
                  <a:lnTo>
                    <a:pt x="0" y="4401"/>
                  </a:lnTo>
                  <a:lnTo>
                    <a:pt x="0" y="3706"/>
                  </a:lnTo>
                  <a:lnTo>
                    <a:pt x="0" y="3011"/>
                  </a:lnTo>
                  <a:lnTo>
                    <a:pt x="231" y="2316"/>
                  </a:lnTo>
                  <a:lnTo>
                    <a:pt x="463" y="1622"/>
                  </a:lnTo>
                  <a:lnTo>
                    <a:pt x="810" y="927"/>
                  </a:lnTo>
                  <a:lnTo>
                    <a:pt x="1157" y="348"/>
                  </a:lnTo>
                  <a:lnTo>
                    <a:pt x="1157" y="348"/>
                  </a:lnTo>
                  <a:lnTo>
                    <a:pt x="1389" y="232"/>
                  </a:lnTo>
                  <a:lnTo>
                    <a:pt x="1620" y="116"/>
                  </a:lnTo>
                  <a:lnTo>
                    <a:pt x="1851" y="0"/>
                  </a:lnTo>
                  <a:lnTo>
                    <a:pt x="2083" y="0"/>
                  </a:lnTo>
                  <a:lnTo>
                    <a:pt x="2314" y="0"/>
                  </a:lnTo>
                  <a:lnTo>
                    <a:pt x="2662" y="0"/>
                  </a:lnTo>
                  <a:lnTo>
                    <a:pt x="2893" y="116"/>
                  </a:lnTo>
                  <a:lnTo>
                    <a:pt x="3124" y="116"/>
                  </a:lnTo>
                  <a:lnTo>
                    <a:pt x="3124" y="116"/>
                  </a:lnTo>
                  <a:lnTo>
                    <a:pt x="3240" y="232"/>
                  </a:lnTo>
                  <a:lnTo>
                    <a:pt x="3472" y="232"/>
                  </a:lnTo>
                  <a:lnTo>
                    <a:pt x="3587" y="348"/>
                  </a:lnTo>
                  <a:lnTo>
                    <a:pt x="3703" y="463"/>
                  </a:lnTo>
                  <a:lnTo>
                    <a:pt x="3819" y="579"/>
                  </a:lnTo>
                  <a:lnTo>
                    <a:pt x="3935" y="695"/>
                  </a:lnTo>
                  <a:lnTo>
                    <a:pt x="4050" y="811"/>
                  </a:lnTo>
                  <a:lnTo>
                    <a:pt x="4166" y="927"/>
                  </a:lnTo>
                  <a:lnTo>
                    <a:pt x="4166" y="927"/>
                  </a:lnTo>
                  <a:lnTo>
                    <a:pt x="4166" y="927"/>
                  </a:lnTo>
                  <a:lnTo>
                    <a:pt x="4166" y="927"/>
                  </a:lnTo>
                  <a:lnTo>
                    <a:pt x="4166"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524240" y="3454920"/>
              <a:ext cx="21960" cy="30960"/>
            </a:xfrm>
            <a:custGeom>
              <a:avLst/>
              <a:gdLst/>
              <a:ahLst/>
              <a:rect l="l" t="t" r="r" b="b"/>
              <a:pathLst>
                <a:path w="579" h="579">
                  <a:moveTo>
                    <a:pt x="463" y="579"/>
                  </a:moveTo>
                  <a:lnTo>
                    <a:pt x="463" y="579"/>
                  </a:lnTo>
                  <a:lnTo>
                    <a:pt x="347" y="579"/>
                  </a:lnTo>
                  <a:lnTo>
                    <a:pt x="231" y="579"/>
                  </a:lnTo>
                  <a:lnTo>
                    <a:pt x="231" y="579"/>
                  </a:lnTo>
                  <a:lnTo>
                    <a:pt x="116" y="579"/>
                  </a:lnTo>
                  <a:lnTo>
                    <a:pt x="116" y="579"/>
                  </a:lnTo>
                  <a:lnTo>
                    <a:pt x="0" y="463"/>
                  </a:lnTo>
                  <a:lnTo>
                    <a:pt x="0" y="347"/>
                  </a:lnTo>
                  <a:lnTo>
                    <a:pt x="0" y="347"/>
                  </a:lnTo>
                  <a:lnTo>
                    <a:pt x="0" y="347"/>
                  </a:lnTo>
                  <a:lnTo>
                    <a:pt x="116" y="347"/>
                  </a:lnTo>
                  <a:lnTo>
                    <a:pt x="116" y="231"/>
                  </a:lnTo>
                  <a:lnTo>
                    <a:pt x="116" y="231"/>
                  </a:lnTo>
                  <a:lnTo>
                    <a:pt x="116" y="231"/>
                  </a:lnTo>
                  <a:lnTo>
                    <a:pt x="116" y="116"/>
                  </a:lnTo>
                  <a:lnTo>
                    <a:pt x="116" y="116"/>
                  </a:lnTo>
                  <a:lnTo>
                    <a:pt x="116" y="116"/>
                  </a:lnTo>
                  <a:lnTo>
                    <a:pt x="116" y="116"/>
                  </a:lnTo>
                  <a:lnTo>
                    <a:pt x="579" y="0"/>
                  </a:lnTo>
                  <a:lnTo>
                    <a:pt x="579" y="0"/>
                  </a:lnTo>
                  <a:lnTo>
                    <a:pt x="579" y="0"/>
                  </a:lnTo>
                  <a:lnTo>
                    <a:pt x="579" y="116"/>
                  </a:lnTo>
                  <a:lnTo>
                    <a:pt x="579" y="116"/>
                  </a:lnTo>
                  <a:lnTo>
                    <a:pt x="579" y="231"/>
                  </a:lnTo>
                  <a:lnTo>
                    <a:pt x="579" y="347"/>
                  </a:lnTo>
                  <a:lnTo>
                    <a:pt x="579" y="463"/>
                  </a:lnTo>
                  <a:lnTo>
                    <a:pt x="579" y="463"/>
                  </a:lnTo>
                  <a:lnTo>
                    <a:pt x="463" y="579"/>
                  </a:lnTo>
                  <a:lnTo>
                    <a:pt x="463" y="579"/>
                  </a:lnTo>
                  <a:lnTo>
                    <a:pt x="463" y="579"/>
                  </a:lnTo>
                  <a:lnTo>
                    <a:pt x="463" y="579"/>
                  </a:lnTo>
                  <a:lnTo>
                    <a:pt x="463" y="57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4" name=""/>
            <p:cNvSpPr/>
            <p:nvPr/>
          </p:nvSpPr>
          <p:spPr>
            <a:xfrm>
              <a:off x="1692360" y="3479760"/>
              <a:ext cx="70560" cy="99360"/>
            </a:xfrm>
            <a:custGeom>
              <a:avLst/>
              <a:gdLst/>
              <a:ahLst/>
              <a:rect l="l" t="t" r="r" b="b"/>
              <a:pathLst>
                <a:path w="1852" h="1853">
                  <a:moveTo>
                    <a:pt x="1852" y="579"/>
                  </a:moveTo>
                  <a:lnTo>
                    <a:pt x="1852" y="811"/>
                  </a:lnTo>
                  <a:lnTo>
                    <a:pt x="1852" y="927"/>
                  </a:lnTo>
                  <a:lnTo>
                    <a:pt x="1736" y="1158"/>
                  </a:lnTo>
                  <a:lnTo>
                    <a:pt x="1736" y="1390"/>
                  </a:lnTo>
                  <a:lnTo>
                    <a:pt x="1620" y="1506"/>
                  </a:lnTo>
                  <a:lnTo>
                    <a:pt x="1389" y="1621"/>
                  </a:lnTo>
                  <a:lnTo>
                    <a:pt x="1273" y="1737"/>
                  </a:lnTo>
                  <a:lnTo>
                    <a:pt x="1041" y="1853"/>
                  </a:lnTo>
                  <a:lnTo>
                    <a:pt x="1041" y="1853"/>
                  </a:lnTo>
                  <a:lnTo>
                    <a:pt x="926" y="1853"/>
                  </a:lnTo>
                  <a:lnTo>
                    <a:pt x="694" y="1853"/>
                  </a:lnTo>
                  <a:lnTo>
                    <a:pt x="579" y="1737"/>
                  </a:lnTo>
                  <a:lnTo>
                    <a:pt x="463" y="1737"/>
                  </a:lnTo>
                  <a:lnTo>
                    <a:pt x="347" y="1621"/>
                  </a:lnTo>
                  <a:lnTo>
                    <a:pt x="231" y="1506"/>
                  </a:lnTo>
                  <a:lnTo>
                    <a:pt x="116" y="1390"/>
                  </a:lnTo>
                  <a:lnTo>
                    <a:pt x="0" y="1274"/>
                  </a:lnTo>
                  <a:lnTo>
                    <a:pt x="0" y="1274"/>
                  </a:lnTo>
                  <a:lnTo>
                    <a:pt x="0" y="1158"/>
                  </a:lnTo>
                  <a:lnTo>
                    <a:pt x="0" y="927"/>
                  </a:lnTo>
                  <a:lnTo>
                    <a:pt x="0" y="811"/>
                  </a:lnTo>
                  <a:lnTo>
                    <a:pt x="0" y="695"/>
                  </a:lnTo>
                  <a:lnTo>
                    <a:pt x="0" y="463"/>
                  </a:lnTo>
                  <a:lnTo>
                    <a:pt x="116" y="348"/>
                  </a:lnTo>
                  <a:lnTo>
                    <a:pt x="116" y="232"/>
                  </a:lnTo>
                  <a:lnTo>
                    <a:pt x="231" y="116"/>
                  </a:lnTo>
                  <a:lnTo>
                    <a:pt x="231" y="116"/>
                  </a:lnTo>
                  <a:lnTo>
                    <a:pt x="463" y="0"/>
                  </a:lnTo>
                  <a:lnTo>
                    <a:pt x="694" y="0"/>
                  </a:lnTo>
                  <a:lnTo>
                    <a:pt x="926" y="0"/>
                  </a:lnTo>
                  <a:lnTo>
                    <a:pt x="1157" y="0"/>
                  </a:lnTo>
                  <a:lnTo>
                    <a:pt x="1389" y="0"/>
                  </a:lnTo>
                  <a:lnTo>
                    <a:pt x="1620" y="116"/>
                  </a:lnTo>
                  <a:lnTo>
                    <a:pt x="1736" y="348"/>
                  </a:lnTo>
                  <a:lnTo>
                    <a:pt x="1852" y="579"/>
                  </a:lnTo>
                  <a:lnTo>
                    <a:pt x="1852" y="579"/>
                  </a:lnTo>
                  <a:lnTo>
                    <a:pt x="1852" y="579"/>
                  </a:lnTo>
                  <a:lnTo>
                    <a:pt x="1852" y="579"/>
                  </a:lnTo>
                  <a:lnTo>
                    <a:pt x="1852"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723320" y="3510720"/>
              <a:ext cx="21960" cy="37080"/>
            </a:xfrm>
            <a:custGeom>
              <a:avLst/>
              <a:gdLst/>
              <a:ahLst/>
              <a:rect l="l" t="t" r="r" b="b"/>
              <a:pathLst>
                <a:path w="579" h="695">
                  <a:moveTo>
                    <a:pt x="463" y="116"/>
                  </a:moveTo>
                  <a:lnTo>
                    <a:pt x="463" y="116"/>
                  </a:lnTo>
                  <a:lnTo>
                    <a:pt x="579" y="232"/>
                  </a:lnTo>
                  <a:lnTo>
                    <a:pt x="463" y="348"/>
                  </a:lnTo>
                  <a:lnTo>
                    <a:pt x="463" y="463"/>
                  </a:lnTo>
                  <a:lnTo>
                    <a:pt x="463" y="463"/>
                  </a:lnTo>
                  <a:lnTo>
                    <a:pt x="347" y="579"/>
                  </a:lnTo>
                  <a:lnTo>
                    <a:pt x="231" y="579"/>
                  </a:lnTo>
                  <a:lnTo>
                    <a:pt x="231" y="695"/>
                  </a:lnTo>
                  <a:lnTo>
                    <a:pt x="231" y="695"/>
                  </a:lnTo>
                  <a:lnTo>
                    <a:pt x="116" y="695"/>
                  </a:lnTo>
                  <a:lnTo>
                    <a:pt x="116" y="695"/>
                  </a:lnTo>
                  <a:lnTo>
                    <a:pt x="0" y="579"/>
                  </a:lnTo>
                  <a:lnTo>
                    <a:pt x="0" y="579"/>
                  </a:lnTo>
                  <a:lnTo>
                    <a:pt x="0" y="579"/>
                  </a:lnTo>
                  <a:lnTo>
                    <a:pt x="0" y="463"/>
                  </a:lnTo>
                  <a:lnTo>
                    <a:pt x="0" y="463"/>
                  </a:lnTo>
                  <a:lnTo>
                    <a:pt x="0" y="348"/>
                  </a:lnTo>
                  <a:lnTo>
                    <a:pt x="0" y="348"/>
                  </a:lnTo>
                  <a:lnTo>
                    <a:pt x="0" y="232"/>
                  </a:lnTo>
                  <a:lnTo>
                    <a:pt x="0" y="232"/>
                  </a:lnTo>
                  <a:lnTo>
                    <a:pt x="0" y="116"/>
                  </a:lnTo>
                  <a:lnTo>
                    <a:pt x="116" y="116"/>
                  </a:lnTo>
                  <a:lnTo>
                    <a:pt x="116" y="116"/>
                  </a:lnTo>
                  <a:lnTo>
                    <a:pt x="231" y="116"/>
                  </a:lnTo>
                  <a:lnTo>
                    <a:pt x="231" y="0"/>
                  </a:lnTo>
                  <a:lnTo>
                    <a:pt x="231" y="0"/>
                  </a:lnTo>
                  <a:lnTo>
                    <a:pt x="231" y="0"/>
                  </a:lnTo>
                  <a:lnTo>
                    <a:pt x="231" y="0"/>
                  </a:lnTo>
                  <a:lnTo>
                    <a:pt x="347" y="0"/>
                  </a:lnTo>
                  <a:lnTo>
                    <a:pt x="347" y="0"/>
                  </a:lnTo>
                  <a:lnTo>
                    <a:pt x="347" y="0"/>
                  </a:lnTo>
                  <a:lnTo>
                    <a:pt x="347" y="116"/>
                  </a:lnTo>
                  <a:lnTo>
                    <a:pt x="463" y="116"/>
                  </a:lnTo>
                  <a:lnTo>
                    <a:pt x="463" y="116"/>
                  </a:lnTo>
                  <a:lnTo>
                    <a:pt x="463" y="116"/>
                  </a:lnTo>
                  <a:lnTo>
                    <a:pt x="463" y="116"/>
                  </a:lnTo>
                  <a:lnTo>
                    <a:pt x="463" y="116"/>
                  </a:lnTo>
                  <a:lnTo>
                    <a:pt x="463" y="116"/>
                  </a:lnTo>
                  <a:lnTo>
                    <a:pt x="463" y="116"/>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46" name=""/>
            <p:cNvSpPr/>
            <p:nvPr/>
          </p:nvSpPr>
          <p:spPr>
            <a:xfrm>
              <a:off x="1267560" y="3784320"/>
              <a:ext cx="61920" cy="37080"/>
            </a:xfrm>
            <a:custGeom>
              <a:avLst/>
              <a:gdLst/>
              <a:ahLst/>
              <a:rect l="l" t="t" r="r" b="b"/>
              <a:pathLst>
                <a:path w="1620" h="695">
                  <a:moveTo>
                    <a:pt x="1620" y="116"/>
                  </a:moveTo>
                  <a:lnTo>
                    <a:pt x="1388" y="116"/>
                  </a:lnTo>
                  <a:lnTo>
                    <a:pt x="1157" y="116"/>
                  </a:lnTo>
                  <a:lnTo>
                    <a:pt x="1041" y="231"/>
                  </a:lnTo>
                  <a:lnTo>
                    <a:pt x="810" y="347"/>
                  </a:lnTo>
                  <a:lnTo>
                    <a:pt x="578" y="347"/>
                  </a:lnTo>
                  <a:lnTo>
                    <a:pt x="462" y="463"/>
                  </a:lnTo>
                  <a:lnTo>
                    <a:pt x="347" y="579"/>
                  </a:lnTo>
                  <a:lnTo>
                    <a:pt x="115" y="695"/>
                  </a:lnTo>
                  <a:lnTo>
                    <a:pt x="115" y="695"/>
                  </a:lnTo>
                  <a:lnTo>
                    <a:pt x="115" y="695"/>
                  </a:lnTo>
                  <a:lnTo>
                    <a:pt x="0" y="695"/>
                  </a:lnTo>
                  <a:lnTo>
                    <a:pt x="0" y="579"/>
                  </a:lnTo>
                  <a:lnTo>
                    <a:pt x="0" y="579"/>
                  </a:lnTo>
                  <a:lnTo>
                    <a:pt x="0" y="463"/>
                  </a:lnTo>
                  <a:lnTo>
                    <a:pt x="0" y="463"/>
                  </a:lnTo>
                  <a:lnTo>
                    <a:pt x="0" y="347"/>
                  </a:lnTo>
                  <a:lnTo>
                    <a:pt x="115" y="347"/>
                  </a:lnTo>
                  <a:lnTo>
                    <a:pt x="115" y="347"/>
                  </a:lnTo>
                  <a:lnTo>
                    <a:pt x="231" y="231"/>
                  </a:lnTo>
                  <a:lnTo>
                    <a:pt x="462" y="116"/>
                  </a:lnTo>
                  <a:lnTo>
                    <a:pt x="578" y="0"/>
                  </a:lnTo>
                  <a:lnTo>
                    <a:pt x="810" y="0"/>
                  </a:lnTo>
                  <a:lnTo>
                    <a:pt x="1041" y="0"/>
                  </a:lnTo>
                  <a:lnTo>
                    <a:pt x="1157" y="0"/>
                  </a:lnTo>
                  <a:lnTo>
                    <a:pt x="1388" y="0"/>
                  </a:lnTo>
                  <a:lnTo>
                    <a:pt x="1620" y="116"/>
                  </a:lnTo>
                  <a:lnTo>
                    <a:pt x="1620" y="116"/>
                  </a:lnTo>
                  <a:lnTo>
                    <a:pt x="1620" y="116"/>
                  </a:lnTo>
                  <a:lnTo>
                    <a:pt x="1620" y="116"/>
                  </a:lnTo>
                  <a:lnTo>
                    <a:pt x="1620" y="11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47" name=""/>
            <p:cNvSpPr/>
            <p:nvPr/>
          </p:nvSpPr>
          <p:spPr>
            <a:xfrm>
              <a:off x="1254240" y="3827880"/>
              <a:ext cx="552960" cy="173880"/>
            </a:xfrm>
            <a:custGeom>
              <a:avLst/>
              <a:gdLst/>
              <a:ahLst/>
              <a:rect l="l" t="t" r="r" b="b"/>
              <a:pathLst>
                <a:path w="14467" h="3243">
                  <a:moveTo>
                    <a:pt x="3820" y="232"/>
                  </a:moveTo>
                  <a:lnTo>
                    <a:pt x="3704" y="232"/>
                  </a:lnTo>
                  <a:lnTo>
                    <a:pt x="3472" y="232"/>
                  </a:lnTo>
                  <a:lnTo>
                    <a:pt x="3357" y="232"/>
                  </a:lnTo>
                  <a:lnTo>
                    <a:pt x="3125" y="232"/>
                  </a:lnTo>
                  <a:lnTo>
                    <a:pt x="3009" y="348"/>
                  </a:lnTo>
                  <a:lnTo>
                    <a:pt x="2778" y="348"/>
                  </a:lnTo>
                  <a:lnTo>
                    <a:pt x="2662" y="348"/>
                  </a:lnTo>
                  <a:lnTo>
                    <a:pt x="2431" y="464"/>
                  </a:lnTo>
                  <a:lnTo>
                    <a:pt x="2431" y="464"/>
                  </a:lnTo>
                  <a:lnTo>
                    <a:pt x="2431" y="695"/>
                  </a:lnTo>
                  <a:lnTo>
                    <a:pt x="2431" y="695"/>
                  </a:lnTo>
                  <a:lnTo>
                    <a:pt x="2894" y="1159"/>
                  </a:lnTo>
                  <a:lnTo>
                    <a:pt x="3472" y="1622"/>
                  </a:lnTo>
                  <a:lnTo>
                    <a:pt x="4051" y="1853"/>
                  </a:lnTo>
                  <a:lnTo>
                    <a:pt x="4745" y="2085"/>
                  </a:lnTo>
                  <a:lnTo>
                    <a:pt x="5440" y="2201"/>
                  </a:lnTo>
                  <a:lnTo>
                    <a:pt x="6018" y="2432"/>
                  </a:lnTo>
                  <a:lnTo>
                    <a:pt x="6713" y="2548"/>
                  </a:lnTo>
                  <a:lnTo>
                    <a:pt x="7291" y="2780"/>
                  </a:lnTo>
                  <a:lnTo>
                    <a:pt x="7291" y="2780"/>
                  </a:lnTo>
                  <a:lnTo>
                    <a:pt x="7639" y="2780"/>
                  </a:lnTo>
                  <a:lnTo>
                    <a:pt x="7986" y="2780"/>
                  </a:lnTo>
                  <a:lnTo>
                    <a:pt x="8333" y="2780"/>
                  </a:lnTo>
                  <a:lnTo>
                    <a:pt x="8680" y="2664"/>
                  </a:lnTo>
                  <a:lnTo>
                    <a:pt x="9027" y="2664"/>
                  </a:lnTo>
                  <a:lnTo>
                    <a:pt x="9375" y="2548"/>
                  </a:lnTo>
                  <a:lnTo>
                    <a:pt x="9722" y="2432"/>
                  </a:lnTo>
                  <a:lnTo>
                    <a:pt x="10069" y="2317"/>
                  </a:lnTo>
                  <a:lnTo>
                    <a:pt x="10069" y="2317"/>
                  </a:lnTo>
                  <a:lnTo>
                    <a:pt x="10185" y="2317"/>
                  </a:lnTo>
                  <a:lnTo>
                    <a:pt x="10185" y="2317"/>
                  </a:lnTo>
                  <a:lnTo>
                    <a:pt x="10301" y="2317"/>
                  </a:lnTo>
                  <a:lnTo>
                    <a:pt x="10416" y="2317"/>
                  </a:lnTo>
                  <a:lnTo>
                    <a:pt x="10532" y="2317"/>
                  </a:lnTo>
                  <a:lnTo>
                    <a:pt x="10648" y="2201"/>
                  </a:lnTo>
                  <a:lnTo>
                    <a:pt x="10763" y="2201"/>
                  </a:lnTo>
                  <a:lnTo>
                    <a:pt x="10763" y="2085"/>
                  </a:lnTo>
                  <a:lnTo>
                    <a:pt x="10763" y="2085"/>
                  </a:lnTo>
                  <a:lnTo>
                    <a:pt x="10879" y="2201"/>
                  </a:lnTo>
                  <a:lnTo>
                    <a:pt x="10879" y="2201"/>
                  </a:lnTo>
                  <a:lnTo>
                    <a:pt x="11226" y="1969"/>
                  </a:lnTo>
                  <a:lnTo>
                    <a:pt x="11574" y="1853"/>
                  </a:lnTo>
                  <a:lnTo>
                    <a:pt x="11921" y="1738"/>
                  </a:lnTo>
                  <a:lnTo>
                    <a:pt x="12268" y="1622"/>
                  </a:lnTo>
                  <a:lnTo>
                    <a:pt x="12615" y="1506"/>
                  </a:lnTo>
                  <a:lnTo>
                    <a:pt x="12962" y="1506"/>
                  </a:lnTo>
                  <a:lnTo>
                    <a:pt x="13310" y="1506"/>
                  </a:lnTo>
                  <a:lnTo>
                    <a:pt x="13772" y="1506"/>
                  </a:lnTo>
                  <a:lnTo>
                    <a:pt x="13772" y="1506"/>
                  </a:lnTo>
                  <a:lnTo>
                    <a:pt x="13772" y="1506"/>
                  </a:lnTo>
                  <a:lnTo>
                    <a:pt x="13888" y="1390"/>
                  </a:lnTo>
                  <a:lnTo>
                    <a:pt x="14004" y="1390"/>
                  </a:lnTo>
                  <a:lnTo>
                    <a:pt x="14120" y="1274"/>
                  </a:lnTo>
                  <a:lnTo>
                    <a:pt x="14120" y="1159"/>
                  </a:lnTo>
                  <a:lnTo>
                    <a:pt x="14235" y="1159"/>
                  </a:lnTo>
                  <a:lnTo>
                    <a:pt x="14351" y="1159"/>
                  </a:lnTo>
                  <a:lnTo>
                    <a:pt x="14467" y="1159"/>
                  </a:lnTo>
                  <a:lnTo>
                    <a:pt x="14467" y="1159"/>
                  </a:lnTo>
                  <a:lnTo>
                    <a:pt x="14467" y="1274"/>
                  </a:lnTo>
                  <a:lnTo>
                    <a:pt x="14351" y="1390"/>
                  </a:lnTo>
                  <a:lnTo>
                    <a:pt x="14351" y="1506"/>
                  </a:lnTo>
                  <a:lnTo>
                    <a:pt x="14235" y="1622"/>
                  </a:lnTo>
                  <a:lnTo>
                    <a:pt x="14120" y="1738"/>
                  </a:lnTo>
                  <a:lnTo>
                    <a:pt x="14004" y="1853"/>
                  </a:lnTo>
                  <a:lnTo>
                    <a:pt x="13888" y="1853"/>
                  </a:lnTo>
                  <a:lnTo>
                    <a:pt x="13772" y="1969"/>
                  </a:lnTo>
                  <a:lnTo>
                    <a:pt x="13772" y="1969"/>
                  </a:lnTo>
                  <a:lnTo>
                    <a:pt x="12962" y="1969"/>
                  </a:lnTo>
                  <a:lnTo>
                    <a:pt x="12152" y="2085"/>
                  </a:lnTo>
                  <a:lnTo>
                    <a:pt x="11458" y="2317"/>
                  </a:lnTo>
                  <a:lnTo>
                    <a:pt x="10648" y="2548"/>
                  </a:lnTo>
                  <a:lnTo>
                    <a:pt x="9953" y="2780"/>
                  </a:lnTo>
                  <a:lnTo>
                    <a:pt x="9143" y="3011"/>
                  </a:lnTo>
                  <a:lnTo>
                    <a:pt x="8333" y="3127"/>
                  </a:lnTo>
                  <a:lnTo>
                    <a:pt x="7523" y="3243"/>
                  </a:lnTo>
                  <a:lnTo>
                    <a:pt x="7523" y="3243"/>
                  </a:lnTo>
                  <a:lnTo>
                    <a:pt x="6713" y="3011"/>
                  </a:lnTo>
                  <a:lnTo>
                    <a:pt x="6018" y="2896"/>
                  </a:lnTo>
                  <a:lnTo>
                    <a:pt x="5208" y="2664"/>
                  </a:lnTo>
                  <a:lnTo>
                    <a:pt x="4514" y="2432"/>
                  </a:lnTo>
                  <a:lnTo>
                    <a:pt x="3704" y="2201"/>
                  </a:lnTo>
                  <a:lnTo>
                    <a:pt x="3125" y="1738"/>
                  </a:lnTo>
                  <a:lnTo>
                    <a:pt x="2431" y="1274"/>
                  </a:lnTo>
                  <a:lnTo>
                    <a:pt x="1968" y="695"/>
                  </a:lnTo>
                  <a:lnTo>
                    <a:pt x="1968" y="695"/>
                  </a:lnTo>
                  <a:lnTo>
                    <a:pt x="1736" y="811"/>
                  </a:lnTo>
                  <a:lnTo>
                    <a:pt x="1505" y="927"/>
                  </a:lnTo>
                  <a:lnTo>
                    <a:pt x="1273" y="1043"/>
                  </a:lnTo>
                  <a:lnTo>
                    <a:pt x="1042" y="1159"/>
                  </a:lnTo>
                  <a:lnTo>
                    <a:pt x="810" y="1274"/>
                  </a:lnTo>
                  <a:lnTo>
                    <a:pt x="579" y="1506"/>
                  </a:lnTo>
                  <a:lnTo>
                    <a:pt x="463" y="1622"/>
                  </a:lnTo>
                  <a:lnTo>
                    <a:pt x="348" y="1853"/>
                  </a:lnTo>
                  <a:lnTo>
                    <a:pt x="348" y="1853"/>
                  </a:lnTo>
                  <a:lnTo>
                    <a:pt x="232" y="1853"/>
                  </a:lnTo>
                  <a:lnTo>
                    <a:pt x="232" y="1853"/>
                  </a:lnTo>
                  <a:lnTo>
                    <a:pt x="116" y="1853"/>
                  </a:lnTo>
                  <a:lnTo>
                    <a:pt x="116" y="1853"/>
                  </a:lnTo>
                  <a:lnTo>
                    <a:pt x="116" y="1853"/>
                  </a:lnTo>
                  <a:lnTo>
                    <a:pt x="116" y="1738"/>
                  </a:lnTo>
                  <a:lnTo>
                    <a:pt x="0" y="1738"/>
                  </a:lnTo>
                  <a:lnTo>
                    <a:pt x="0" y="1738"/>
                  </a:lnTo>
                  <a:lnTo>
                    <a:pt x="0" y="1738"/>
                  </a:lnTo>
                  <a:lnTo>
                    <a:pt x="116" y="1390"/>
                  </a:lnTo>
                  <a:lnTo>
                    <a:pt x="348" y="1159"/>
                  </a:lnTo>
                  <a:lnTo>
                    <a:pt x="463" y="927"/>
                  </a:lnTo>
                  <a:lnTo>
                    <a:pt x="810" y="811"/>
                  </a:lnTo>
                  <a:lnTo>
                    <a:pt x="1042" y="695"/>
                  </a:lnTo>
                  <a:lnTo>
                    <a:pt x="1273" y="579"/>
                  </a:lnTo>
                  <a:lnTo>
                    <a:pt x="1621" y="348"/>
                  </a:lnTo>
                  <a:lnTo>
                    <a:pt x="1852" y="232"/>
                  </a:lnTo>
                  <a:lnTo>
                    <a:pt x="1852" y="232"/>
                  </a:lnTo>
                  <a:lnTo>
                    <a:pt x="2084" y="116"/>
                  </a:lnTo>
                  <a:lnTo>
                    <a:pt x="2315" y="116"/>
                  </a:lnTo>
                  <a:lnTo>
                    <a:pt x="2546" y="0"/>
                  </a:lnTo>
                  <a:lnTo>
                    <a:pt x="2778" y="0"/>
                  </a:lnTo>
                  <a:lnTo>
                    <a:pt x="3125" y="0"/>
                  </a:lnTo>
                  <a:lnTo>
                    <a:pt x="3357" y="116"/>
                  </a:lnTo>
                  <a:lnTo>
                    <a:pt x="3588" y="116"/>
                  </a:lnTo>
                  <a:lnTo>
                    <a:pt x="3820" y="232"/>
                  </a:lnTo>
                  <a:lnTo>
                    <a:pt x="3820" y="232"/>
                  </a:lnTo>
                  <a:lnTo>
                    <a:pt x="3820" y="232"/>
                  </a:lnTo>
                  <a:lnTo>
                    <a:pt x="3820" y="232"/>
                  </a:lnTo>
                  <a:lnTo>
                    <a:pt x="382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329560" y="3927600"/>
              <a:ext cx="366840" cy="298440"/>
            </a:xfrm>
            <a:custGeom>
              <a:avLst/>
              <a:gdLst/>
              <a:ahLst/>
              <a:rect l="l" t="t" r="r" b="b"/>
              <a:pathLst>
                <a:path w="9606" h="5559">
                  <a:moveTo>
                    <a:pt x="9606" y="695"/>
                  </a:moveTo>
                  <a:lnTo>
                    <a:pt x="9606" y="811"/>
                  </a:lnTo>
                  <a:lnTo>
                    <a:pt x="9606" y="811"/>
                  </a:lnTo>
                  <a:lnTo>
                    <a:pt x="9490" y="811"/>
                  </a:lnTo>
                  <a:lnTo>
                    <a:pt x="9375" y="811"/>
                  </a:lnTo>
                  <a:lnTo>
                    <a:pt x="9259" y="811"/>
                  </a:lnTo>
                  <a:lnTo>
                    <a:pt x="9143" y="811"/>
                  </a:lnTo>
                  <a:lnTo>
                    <a:pt x="9027" y="811"/>
                  </a:lnTo>
                  <a:lnTo>
                    <a:pt x="8912" y="927"/>
                  </a:lnTo>
                  <a:lnTo>
                    <a:pt x="8796" y="927"/>
                  </a:lnTo>
                  <a:lnTo>
                    <a:pt x="8680" y="1043"/>
                  </a:lnTo>
                  <a:lnTo>
                    <a:pt x="8680" y="1043"/>
                  </a:lnTo>
                  <a:lnTo>
                    <a:pt x="8912" y="1158"/>
                  </a:lnTo>
                  <a:lnTo>
                    <a:pt x="8912" y="1158"/>
                  </a:lnTo>
                  <a:lnTo>
                    <a:pt x="8680" y="1158"/>
                  </a:lnTo>
                  <a:lnTo>
                    <a:pt x="8564" y="1274"/>
                  </a:lnTo>
                  <a:lnTo>
                    <a:pt x="8333" y="1274"/>
                  </a:lnTo>
                  <a:lnTo>
                    <a:pt x="8102" y="1274"/>
                  </a:lnTo>
                  <a:lnTo>
                    <a:pt x="7986" y="1390"/>
                  </a:lnTo>
                  <a:lnTo>
                    <a:pt x="7754" y="1390"/>
                  </a:lnTo>
                  <a:lnTo>
                    <a:pt x="7639" y="1506"/>
                  </a:lnTo>
                  <a:lnTo>
                    <a:pt x="7407" y="1622"/>
                  </a:lnTo>
                  <a:lnTo>
                    <a:pt x="7407" y="1622"/>
                  </a:lnTo>
                  <a:lnTo>
                    <a:pt x="7639" y="1622"/>
                  </a:lnTo>
                  <a:lnTo>
                    <a:pt x="7754" y="1622"/>
                  </a:lnTo>
                  <a:lnTo>
                    <a:pt x="7870" y="1738"/>
                  </a:lnTo>
                  <a:lnTo>
                    <a:pt x="7986" y="1738"/>
                  </a:lnTo>
                  <a:lnTo>
                    <a:pt x="8102" y="1738"/>
                  </a:lnTo>
                  <a:lnTo>
                    <a:pt x="8217" y="1853"/>
                  </a:lnTo>
                  <a:lnTo>
                    <a:pt x="8333" y="1853"/>
                  </a:lnTo>
                  <a:lnTo>
                    <a:pt x="8564" y="1853"/>
                  </a:lnTo>
                  <a:lnTo>
                    <a:pt x="8564" y="1853"/>
                  </a:lnTo>
                  <a:lnTo>
                    <a:pt x="8564" y="1969"/>
                  </a:lnTo>
                  <a:lnTo>
                    <a:pt x="8564" y="1969"/>
                  </a:lnTo>
                  <a:lnTo>
                    <a:pt x="8564" y="1969"/>
                  </a:lnTo>
                  <a:lnTo>
                    <a:pt x="8680" y="2085"/>
                  </a:lnTo>
                  <a:lnTo>
                    <a:pt x="8680" y="2085"/>
                  </a:lnTo>
                  <a:lnTo>
                    <a:pt x="8796" y="1969"/>
                  </a:lnTo>
                  <a:lnTo>
                    <a:pt x="8796" y="1969"/>
                  </a:lnTo>
                  <a:lnTo>
                    <a:pt x="8912" y="1969"/>
                  </a:lnTo>
                  <a:lnTo>
                    <a:pt x="8912" y="1969"/>
                  </a:lnTo>
                  <a:lnTo>
                    <a:pt x="9027" y="1969"/>
                  </a:lnTo>
                  <a:lnTo>
                    <a:pt x="9027" y="1969"/>
                  </a:lnTo>
                  <a:lnTo>
                    <a:pt x="8796" y="2085"/>
                  </a:lnTo>
                  <a:lnTo>
                    <a:pt x="8680" y="2085"/>
                  </a:lnTo>
                  <a:lnTo>
                    <a:pt x="8449" y="2201"/>
                  </a:lnTo>
                  <a:lnTo>
                    <a:pt x="8333" y="2317"/>
                  </a:lnTo>
                  <a:lnTo>
                    <a:pt x="8102" y="2317"/>
                  </a:lnTo>
                  <a:lnTo>
                    <a:pt x="7986" y="2432"/>
                  </a:lnTo>
                  <a:lnTo>
                    <a:pt x="7754" y="2664"/>
                  </a:lnTo>
                  <a:lnTo>
                    <a:pt x="7639" y="2780"/>
                  </a:lnTo>
                  <a:lnTo>
                    <a:pt x="7639" y="2780"/>
                  </a:lnTo>
                  <a:lnTo>
                    <a:pt x="7870" y="2780"/>
                  </a:lnTo>
                  <a:lnTo>
                    <a:pt x="8102" y="2780"/>
                  </a:lnTo>
                  <a:lnTo>
                    <a:pt x="8333" y="2780"/>
                  </a:lnTo>
                  <a:lnTo>
                    <a:pt x="8564" y="2664"/>
                  </a:lnTo>
                  <a:lnTo>
                    <a:pt x="8796" y="2548"/>
                  </a:lnTo>
                  <a:lnTo>
                    <a:pt x="9027" y="2548"/>
                  </a:lnTo>
                  <a:lnTo>
                    <a:pt x="9259" y="2432"/>
                  </a:lnTo>
                  <a:lnTo>
                    <a:pt x="9490" y="2432"/>
                  </a:lnTo>
                  <a:lnTo>
                    <a:pt x="9490" y="2432"/>
                  </a:lnTo>
                  <a:lnTo>
                    <a:pt x="8564" y="2896"/>
                  </a:lnTo>
                  <a:lnTo>
                    <a:pt x="7754" y="3243"/>
                  </a:lnTo>
                  <a:lnTo>
                    <a:pt x="6828" y="3590"/>
                  </a:lnTo>
                  <a:lnTo>
                    <a:pt x="6018" y="3938"/>
                  </a:lnTo>
                  <a:lnTo>
                    <a:pt x="5092" y="4401"/>
                  </a:lnTo>
                  <a:lnTo>
                    <a:pt x="4282" y="4749"/>
                  </a:lnTo>
                  <a:lnTo>
                    <a:pt x="3357" y="5096"/>
                  </a:lnTo>
                  <a:lnTo>
                    <a:pt x="2546" y="5559"/>
                  </a:lnTo>
                  <a:lnTo>
                    <a:pt x="2546" y="5559"/>
                  </a:lnTo>
                  <a:lnTo>
                    <a:pt x="2431" y="5443"/>
                  </a:lnTo>
                  <a:lnTo>
                    <a:pt x="2199" y="5328"/>
                  </a:lnTo>
                  <a:lnTo>
                    <a:pt x="1968" y="5212"/>
                  </a:lnTo>
                  <a:lnTo>
                    <a:pt x="1736" y="5212"/>
                  </a:lnTo>
                  <a:lnTo>
                    <a:pt x="1505" y="5096"/>
                  </a:lnTo>
                  <a:lnTo>
                    <a:pt x="1389" y="4980"/>
                  </a:lnTo>
                  <a:lnTo>
                    <a:pt x="1273" y="4864"/>
                  </a:lnTo>
                  <a:lnTo>
                    <a:pt x="1273" y="4517"/>
                  </a:lnTo>
                  <a:lnTo>
                    <a:pt x="1273" y="4517"/>
                  </a:lnTo>
                  <a:lnTo>
                    <a:pt x="1389" y="4401"/>
                  </a:lnTo>
                  <a:lnTo>
                    <a:pt x="1505" y="4170"/>
                  </a:lnTo>
                  <a:lnTo>
                    <a:pt x="1621" y="4054"/>
                  </a:lnTo>
                  <a:lnTo>
                    <a:pt x="1852" y="3822"/>
                  </a:lnTo>
                  <a:lnTo>
                    <a:pt x="1968" y="3706"/>
                  </a:lnTo>
                  <a:lnTo>
                    <a:pt x="2083" y="3590"/>
                  </a:lnTo>
                  <a:lnTo>
                    <a:pt x="2199" y="3359"/>
                  </a:lnTo>
                  <a:lnTo>
                    <a:pt x="2315" y="3243"/>
                  </a:lnTo>
                  <a:lnTo>
                    <a:pt x="2315" y="3243"/>
                  </a:lnTo>
                  <a:lnTo>
                    <a:pt x="2083" y="3011"/>
                  </a:lnTo>
                  <a:lnTo>
                    <a:pt x="1621" y="2896"/>
                  </a:lnTo>
                  <a:lnTo>
                    <a:pt x="1273" y="2896"/>
                  </a:lnTo>
                  <a:lnTo>
                    <a:pt x="810" y="2896"/>
                  </a:lnTo>
                  <a:lnTo>
                    <a:pt x="347" y="2780"/>
                  </a:lnTo>
                  <a:lnTo>
                    <a:pt x="116" y="2664"/>
                  </a:lnTo>
                  <a:lnTo>
                    <a:pt x="0" y="2317"/>
                  </a:lnTo>
                  <a:lnTo>
                    <a:pt x="0" y="1853"/>
                  </a:lnTo>
                  <a:lnTo>
                    <a:pt x="0" y="1853"/>
                  </a:lnTo>
                  <a:lnTo>
                    <a:pt x="810" y="1274"/>
                  </a:lnTo>
                  <a:lnTo>
                    <a:pt x="1736" y="811"/>
                  </a:lnTo>
                  <a:lnTo>
                    <a:pt x="2662" y="464"/>
                  </a:lnTo>
                  <a:lnTo>
                    <a:pt x="3588" y="232"/>
                  </a:lnTo>
                  <a:lnTo>
                    <a:pt x="4630" y="0"/>
                  </a:lnTo>
                  <a:lnTo>
                    <a:pt x="5555" y="0"/>
                  </a:lnTo>
                  <a:lnTo>
                    <a:pt x="6597" y="116"/>
                  </a:lnTo>
                  <a:lnTo>
                    <a:pt x="7639" y="348"/>
                  </a:lnTo>
                  <a:lnTo>
                    <a:pt x="7639" y="348"/>
                  </a:lnTo>
                  <a:lnTo>
                    <a:pt x="7870" y="464"/>
                  </a:lnTo>
                  <a:lnTo>
                    <a:pt x="8102" y="464"/>
                  </a:lnTo>
                  <a:lnTo>
                    <a:pt x="8333" y="464"/>
                  </a:lnTo>
                  <a:lnTo>
                    <a:pt x="8564" y="464"/>
                  </a:lnTo>
                  <a:lnTo>
                    <a:pt x="8796" y="579"/>
                  </a:lnTo>
                  <a:lnTo>
                    <a:pt x="9143" y="579"/>
                  </a:lnTo>
                  <a:lnTo>
                    <a:pt x="9375" y="579"/>
                  </a:lnTo>
                  <a:lnTo>
                    <a:pt x="9606" y="695"/>
                  </a:lnTo>
                  <a:lnTo>
                    <a:pt x="9606" y="695"/>
                  </a:lnTo>
                  <a:lnTo>
                    <a:pt x="9606" y="695"/>
                  </a:lnTo>
                  <a:lnTo>
                    <a:pt x="9606" y="695"/>
                  </a:lnTo>
                  <a:lnTo>
                    <a:pt x="9606"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077480" y="3964680"/>
              <a:ext cx="1291680" cy="466200"/>
            </a:xfrm>
            <a:custGeom>
              <a:avLst/>
              <a:gdLst/>
              <a:ahLst/>
              <a:rect l="l" t="t" r="r" b="b"/>
              <a:pathLst>
                <a:path w="33794" h="8686">
                  <a:moveTo>
                    <a:pt x="-31742" y="0"/>
                  </a:moveTo>
                  <a:lnTo>
                    <a:pt x="-31974" y="116"/>
                  </a:lnTo>
                  <a:lnTo>
                    <a:pt x="-32205" y="348"/>
                  </a:lnTo>
                  <a:lnTo>
                    <a:pt x="-32437" y="463"/>
                  </a:lnTo>
                  <a:lnTo>
                    <a:pt x="-32668" y="579"/>
                  </a:lnTo>
                  <a:lnTo>
                    <a:pt x="32637" y="811"/>
                  </a:lnTo>
                  <a:lnTo>
                    <a:pt x="32521" y="927"/>
                  </a:lnTo>
                  <a:lnTo>
                    <a:pt x="32289" y="1158"/>
                  </a:lnTo>
                  <a:lnTo>
                    <a:pt x="32174" y="1390"/>
                  </a:lnTo>
                  <a:lnTo>
                    <a:pt x="32174" y="1390"/>
                  </a:lnTo>
                  <a:lnTo>
                    <a:pt x="32289" y="1506"/>
                  </a:lnTo>
                  <a:lnTo>
                    <a:pt x="32289" y="1737"/>
                  </a:lnTo>
                  <a:lnTo>
                    <a:pt x="32405" y="1853"/>
                  </a:lnTo>
                  <a:lnTo>
                    <a:pt x="32405" y="1969"/>
                  </a:lnTo>
                  <a:lnTo>
                    <a:pt x="32521" y="2085"/>
                  </a:lnTo>
                  <a:lnTo>
                    <a:pt x="32637" y="2201"/>
                  </a:lnTo>
                  <a:lnTo>
                    <a:pt x="32752" y="2316"/>
                  </a:lnTo>
                  <a:lnTo>
                    <a:pt x="-32668" y="2432"/>
                  </a:lnTo>
                  <a:lnTo>
                    <a:pt x="-32668" y="2432"/>
                  </a:lnTo>
                  <a:lnTo>
                    <a:pt x="29628" y="3011"/>
                  </a:lnTo>
                  <a:lnTo>
                    <a:pt x="26271" y="3590"/>
                  </a:lnTo>
                  <a:lnTo>
                    <a:pt x="23031" y="4169"/>
                  </a:lnTo>
                  <a:lnTo>
                    <a:pt x="19790" y="4864"/>
                  </a:lnTo>
                  <a:lnTo>
                    <a:pt x="16550" y="5443"/>
                  </a:lnTo>
                  <a:lnTo>
                    <a:pt x="13309" y="6138"/>
                  </a:lnTo>
                  <a:lnTo>
                    <a:pt x="10069" y="6833"/>
                  </a:lnTo>
                  <a:lnTo>
                    <a:pt x="6713" y="7644"/>
                  </a:lnTo>
                  <a:lnTo>
                    <a:pt x="6713" y="7644"/>
                  </a:lnTo>
                  <a:lnTo>
                    <a:pt x="0" y="8686"/>
                  </a:lnTo>
                  <a:lnTo>
                    <a:pt x="0" y="8686"/>
                  </a:lnTo>
                  <a:lnTo>
                    <a:pt x="0" y="8454"/>
                  </a:lnTo>
                  <a:lnTo>
                    <a:pt x="0" y="8223"/>
                  </a:lnTo>
                  <a:lnTo>
                    <a:pt x="0" y="7991"/>
                  </a:lnTo>
                  <a:lnTo>
                    <a:pt x="0" y="7760"/>
                  </a:lnTo>
                  <a:lnTo>
                    <a:pt x="116" y="7528"/>
                  </a:lnTo>
                  <a:lnTo>
                    <a:pt x="116" y="7296"/>
                  </a:lnTo>
                  <a:lnTo>
                    <a:pt x="232" y="7065"/>
                  </a:lnTo>
                  <a:lnTo>
                    <a:pt x="232" y="6833"/>
                  </a:lnTo>
                  <a:lnTo>
                    <a:pt x="232" y="6833"/>
                  </a:lnTo>
                  <a:lnTo>
                    <a:pt x="694" y="6486"/>
                  </a:lnTo>
                  <a:lnTo>
                    <a:pt x="694" y="6486"/>
                  </a:lnTo>
                  <a:lnTo>
                    <a:pt x="2662" y="6138"/>
                  </a:lnTo>
                  <a:lnTo>
                    <a:pt x="4745" y="5791"/>
                  </a:lnTo>
                  <a:lnTo>
                    <a:pt x="6713" y="5327"/>
                  </a:lnTo>
                  <a:lnTo>
                    <a:pt x="8796" y="4980"/>
                  </a:lnTo>
                  <a:lnTo>
                    <a:pt x="10879" y="4633"/>
                  </a:lnTo>
                  <a:lnTo>
                    <a:pt x="12962" y="4169"/>
                  </a:lnTo>
                  <a:lnTo>
                    <a:pt x="14930" y="3706"/>
                  </a:lnTo>
                  <a:lnTo>
                    <a:pt x="17013" y="3243"/>
                  </a:lnTo>
                  <a:lnTo>
                    <a:pt x="17013" y="3243"/>
                  </a:lnTo>
                  <a:lnTo>
                    <a:pt x="30553" y="579"/>
                  </a:lnTo>
                  <a:lnTo>
                    <a:pt x="30553" y="579"/>
                  </a:lnTo>
                  <a:lnTo>
                    <a:pt x="31016" y="463"/>
                  </a:lnTo>
                  <a:lnTo>
                    <a:pt x="31363" y="463"/>
                  </a:lnTo>
                  <a:lnTo>
                    <a:pt x="31826" y="348"/>
                  </a:lnTo>
                  <a:lnTo>
                    <a:pt x="32174" y="232"/>
                  </a:lnTo>
                  <a:lnTo>
                    <a:pt x="32521" y="232"/>
                  </a:lnTo>
                  <a:lnTo>
                    <a:pt x="-32552" y="116"/>
                  </a:lnTo>
                  <a:lnTo>
                    <a:pt x="-32205" y="116"/>
                  </a:lnTo>
                  <a:lnTo>
                    <a:pt x="-31742" y="0"/>
                  </a:lnTo>
                  <a:lnTo>
                    <a:pt x="-31742" y="0"/>
                  </a:lnTo>
                  <a:lnTo>
                    <a:pt x="-31742" y="0"/>
                  </a:lnTo>
                  <a:lnTo>
                    <a:pt x="-31742" y="0"/>
                  </a:lnTo>
                  <a:lnTo>
                    <a:pt x="-31742"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47440" y="4045680"/>
              <a:ext cx="181080" cy="204840"/>
            </a:xfrm>
            <a:custGeom>
              <a:avLst/>
              <a:gdLst/>
              <a:ahLst/>
              <a:rect l="l" t="t" r="r" b="b"/>
              <a:pathLst>
                <a:path w="4745" h="3821">
                  <a:moveTo>
                    <a:pt x="4745" y="695"/>
                  </a:moveTo>
                  <a:lnTo>
                    <a:pt x="4514" y="2895"/>
                  </a:lnTo>
                  <a:lnTo>
                    <a:pt x="4514" y="2895"/>
                  </a:lnTo>
                  <a:lnTo>
                    <a:pt x="4282" y="3011"/>
                  </a:lnTo>
                  <a:lnTo>
                    <a:pt x="4051" y="3242"/>
                  </a:lnTo>
                  <a:lnTo>
                    <a:pt x="3819" y="3474"/>
                  </a:lnTo>
                  <a:lnTo>
                    <a:pt x="3588" y="3590"/>
                  </a:lnTo>
                  <a:lnTo>
                    <a:pt x="3356" y="3706"/>
                  </a:lnTo>
                  <a:lnTo>
                    <a:pt x="3125" y="3821"/>
                  </a:lnTo>
                  <a:lnTo>
                    <a:pt x="2893" y="3706"/>
                  </a:lnTo>
                  <a:lnTo>
                    <a:pt x="2662" y="3358"/>
                  </a:lnTo>
                  <a:lnTo>
                    <a:pt x="2662" y="3358"/>
                  </a:lnTo>
                  <a:lnTo>
                    <a:pt x="2430" y="3358"/>
                  </a:lnTo>
                  <a:lnTo>
                    <a:pt x="2315" y="3358"/>
                  </a:lnTo>
                  <a:lnTo>
                    <a:pt x="2199" y="3474"/>
                  </a:lnTo>
                  <a:lnTo>
                    <a:pt x="1967" y="3474"/>
                  </a:lnTo>
                  <a:lnTo>
                    <a:pt x="1852" y="3590"/>
                  </a:lnTo>
                  <a:lnTo>
                    <a:pt x="1736" y="3706"/>
                  </a:lnTo>
                  <a:lnTo>
                    <a:pt x="1505" y="3706"/>
                  </a:lnTo>
                  <a:lnTo>
                    <a:pt x="1389" y="3821"/>
                  </a:lnTo>
                  <a:lnTo>
                    <a:pt x="1389" y="3821"/>
                  </a:lnTo>
                  <a:lnTo>
                    <a:pt x="1042" y="3474"/>
                  </a:lnTo>
                  <a:lnTo>
                    <a:pt x="810" y="3127"/>
                  </a:lnTo>
                  <a:lnTo>
                    <a:pt x="579" y="2663"/>
                  </a:lnTo>
                  <a:lnTo>
                    <a:pt x="463" y="2200"/>
                  </a:lnTo>
                  <a:lnTo>
                    <a:pt x="231" y="1853"/>
                  </a:lnTo>
                  <a:lnTo>
                    <a:pt x="116" y="1389"/>
                  </a:lnTo>
                  <a:lnTo>
                    <a:pt x="0" y="926"/>
                  </a:lnTo>
                  <a:lnTo>
                    <a:pt x="0" y="347"/>
                  </a:lnTo>
                  <a:lnTo>
                    <a:pt x="0" y="347"/>
                  </a:lnTo>
                  <a:lnTo>
                    <a:pt x="463" y="231"/>
                  </a:lnTo>
                  <a:lnTo>
                    <a:pt x="1157" y="0"/>
                  </a:lnTo>
                  <a:lnTo>
                    <a:pt x="1736" y="0"/>
                  </a:lnTo>
                  <a:lnTo>
                    <a:pt x="2430" y="0"/>
                  </a:lnTo>
                  <a:lnTo>
                    <a:pt x="3009" y="116"/>
                  </a:lnTo>
                  <a:lnTo>
                    <a:pt x="3703" y="231"/>
                  </a:lnTo>
                  <a:lnTo>
                    <a:pt x="4282" y="463"/>
                  </a:lnTo>
                  <a:lnTo>
                    <a:pt x="4745" y="695"/>
                  </a:lnTo>
                  <a:lnTo>
                    <a:pt x="4745" y="695"/>
                  </a:lnTo>
                  <a:lnTo>
                    <a:pt x="4745" y="695"/>
                  </a:lnTo>
                  <a:lnTo>
                    <a:pt x="4745" y="695"/>
                  </a:lnTo>
                  <a:lnTo>
                    <a:pt x="4745"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033200" y="4089240"/>
              <a:ext cx="26280" cy="105480"/>
            </a:xfrm>
            <a:custGeom>
              <a:avLst/>
              <a:gdLst/>
              <a:ahLst/>
              <a:rect l="l" t="t" r="r" b="b"/>
              <a:pathLst>
                <a:path w="694" h="1969">
                  <a:moveTo>
                    <a:pt x="578" y="1969"/>
                  </a:moveTo>
                  <a:lnTo>
                    <a:pt x="463" y="1969"/>
                  </a:lnTo>
                  <a:lnTo>
                    <a:pt x="347" y="1969"/>
                  </a:lnTo>
                  <a:lnTo>
                    <a:pt x="231" y="1969"/>
                  </a:lnTo>
                  <a:lnTo>
                    <a:pt x="231" y="1969"/>
                  </a:lnTo>
                  <a:lnTo>
                    <a:pt x="115" y="1969"/>
                  </a:lnTo>
                  <a:lnTo>
                    <a:pt x="0" y="1969"/>
                  </a:lnTo>
                  <a:lnTo>
                    <a:pt x="0" y="1853"/>
                  </a:lnTo>
                  <a:lnTo>
                    <a:pt x="0" y="1738"/>
                  </a:lnTo>
                  <a:lnTo>
                    <a:pt x="0" y="1738"/>
                  </a:lnTo>
                  <a:lnTo>
                    <a:pt x="347" y="0"/>
                  </a:lnTo>
                  <a:lnTo>
                    <a:pt x="694" y="116"/>
                  </a:lnTo>
                  <a:lnTo>
                    <a:pt x="578" y="1969"/>
                  </a:lnTo>
                  <a:lnTo>
                    <a:pt x="578" y="1969"/>
                  </a:lnTo>
                  <a:lnTo>
                    <a:pt x="578" y="1969"/>
                  </a:lnTo>
                  <a:lnTo>
                    <a:pt x="578" y="19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068480" y="4101480"/>
              <a:ext cx="30960" cy="105480"/>
            </a:xfrm>
            <a:custGeom>
              <a:avLst/>
              <a:gdLst/>
              <a:ahLst/>
              <a:rect l="l" t="t" r="r" b="b"/>
              <a:pathLst>
                <a:path w="810" h="1969">
                  <a:moveTo>
                    <a:pt x="694" y="232"/>
                  </a:moveTo>
                  <a:lnTo>
                    <a:pt x="810" y="463"/>
                  </a:lnTo>
                  <a:lnTo>
                    <a:pt x="694" y="579"/>
                  </a:lnTo>
                  <a:lnTo>
                    <a:pt x="694" y="695"/>
                  </a:lnTo>
                  <a:lnTo>
                    <a:pt x="694" y="927"/>
                  </a:lnTo>
                  <a:lnTo>
                    <a:pt x="694" y="1042"/>
                  </a:lnTo>
                  <a:lnTo>
                    <a:pt x="694" y="1274"/>
                  </a:lnTo>
                  <a:lnTo>
                    <a:pt x="694" y="1390"/>
                  </a:lnTo>
                  <a:lnTo>
                    <a:pt x="694" y="1621"/>
                  </a:lnTo>
                  <a:lnTo>
                    <a:pt x="694" y="1621"/>
                  </a:lnTo>
                  <a:lnTo>
                    <a:pt x="694" y="1621"/>
                  </a:lnTo>
                  <a:lnTo>
                    <a:pt x="694" y="1621"/>
                  </a:lnTo>
                  <a:lnTo>
                    <a:pt x="694" y="1737"/>
                  </a:lnTo>
                  <a:lnTo>
                    <a:pt x="578" y="1737"/>
                  </a:lnTo>
                  <a:lnTo>
                    <a:pt x="463" y="1853"/>
                  </a:lnTo>
                  <a:lnTo>
                    <a:pt x="463" y="1853"/>
                  </a:lnTo>
                  <a:lnTo>
                    <a:pt x="347" y="1969"/>
                  </a:lnTo>
                  <a:lnTo>
                    <a:pt x="231" y="1969"/>
                  </a:lnTo>
                  <a:lnTo>
                    <a:pt x="231" y="1969"/>
                  </a:lnTo>
                  <a:lnTo>
                    <a:pt x="231" y="1969"/>
                  </a:lnTo>
                  <a:lnTo>
                    <a:pt x="231" y="1969"/>
                  </a:lnTo>
                  <a:lnTo>
                    <a:pt x="115" y="1853"/>
                  </a:lnTo>
                  <a:lnTo>
                    <a:pt x="115" y="1853"/>
                  </a:lnTo>
                  <a:lnTo>
                    <a:pt x="0" y="1853"/>
                  </a:lnTo>
                  <a:lnTo>
                    <a:pt x="0" y="1853"/>
                  </a:lnTo>
                  <a:lnTo>
                    <a:pt x="0" y="1737"/>
                  </a:lnTo>
                  <a:lnTo>
                    <a:pt x="0" y="1737"/>
                  </a:lnTo>
                  <a:lnTo>
                    <a:pt x="0" y="1737"/>
                  </a:lnTo>
                  <a:lnTo>
                    <a:pt x="0" y="1506"/>
                  </a:lnTo>
                  <a:lnTo>
                    <a:pt x="0" y="1274"/>
                  </a:lnTo>
                  <a:lnTo>
                    <a:pt x="0" y="1042"/>
                  </a:lnTo>
                  <a:lnTo>
                    <a:pt x="115" y="927"/>
                  </a:lnTo>
                  <a:lnTo>
                    <a:pt x="115" y="695"/>
                  </a:lnTo>
                  <a:lnTo>
                    <a:pt x="231" y="463"/>
                  </a:lnTo>
                  <a:lnTo>
                    <a:pt x="231" y="232"/>
                  </a:lnTo>
                  <a:lnTo>
                    <a:pt x="115" y="0"/>
                  </a:lnTo>
                  <a:lnTo>
                    <a:pt x="115" y="0"/>
                  </a:lnTo>
                  <a:lnTo>
                    <a:pt x="231" y="0"/>
                  </a:lnTo>
                  <a:lnTo>
                    <a:pt x="347" y="116"/>
                  </a:lnTo>
                  <a:lnTo>
                    <a:pt x="347" y="116"/>
                  </a:lnTo>
                  <a:lnTo>
                    <a:pt x="463" y="232"/>
                  </a:lnTo>
                  <a:lnTo>
                    <a:pt x="463" y="232"/>
                  </a:lnTo>
                  <a:lnTo>
                    <a:pt x="578" y="347"/>
                  </a:lnTo>
                  <a:lnTo>
                    <a:pt x="578" y="347"/>
                  </a:lnTo>
                  <a:lnTo>
                    <a:pt x="694" y="232"/>
                  </a:lnTo>
                  <a:lnTo>
                    <a:pt x="694" y="232"/>
                  </a:lnTo>
                  <a:lnTo>
                    <a:pt x="694" y="232"/>
                  </a:lnTo>
                  <a:lnTo>
                    <a:pt x="694" y="232"/>
                  </a:lnTo>
                  <a:lnTo>
                    <a:pt x="69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081800" y="4101480"/>
              <a:ext cx="1326960" cy="441360"/>
            </a:xfrm>
            <a:custGeom>
              <a:avLst/>
              <a:gdLst/>
              <a:ahLst/>
              <a:rect l="l" t="t" r="r" b="b"/>
              <a:pathLst>
                <a:path w="34719" h="8223">
                  <a:moveTo>
                    <a:pt x="-31048" y="0"/>
                  </a:moveTo>
                  <a:lnTo>
                    <a:pt x="-31279" y="232"/>
                  </a:lnTo>
                  <a:lnTo>
                    <a:pt x="-31395" y="347"/>
                  </a:lnTo>
                  <a:lnTo>
                    <a:pt x="-31627" y="579"/>
                  </a:lnTo>
                  <a:lnTo>
                    <a:pt x="-31742" y="811"/>
                  </a:lnTo>
                  <a:lnTo>
                    <a:pt x="-31858" y="1042"/>
                  </a:lnTo>
                  <a:lnTo>
                    <a:pt x="-31858" y="1390"/>
                  </a:lnTo>
                  <a:lnTo>
                    <a:pt x="-31858" y="1621"/>
                  </a:lnTo>
                  <a:lnTo>
                    <a:pt x="-31742" y="1853"/>
                  </a:lnTo>
                  <a:lnTo>
                    <a:pt x="-31742" y="1853"/>
                  </a:lnTo>
                  <a:lnTo>
                    <a:pt x="-31742" y="2085"/>
                  </a:lnTo>
                  <a:lnTo>
                    <a:pt x="-31627" y="2200"/>
                  </a:lnTo>
                  <a:lnTo>
                    <a:pt x="-31511" y="2200"/>
                  </a:lnTo>
                  <a:lnTo>
                    <a:pt x="-31395" y="2316"/>
                  </a:lnTo>
                  <a:lnTo>
                    <a:pt x="-31279" y="2432"/>
                  </a:lnTo>
                  <a:lnTo>
                    <a:pt x="-31164" y="2432"/>
                  </a:lnTo>
                  <a:lnTo>
                    <a:pt x="-30932" y="2548"/>
                  </a:lnTo>
                  <a:lnTo>
                    <a:pt x="-30817" y="2548"/>
                  </a:lnTo>
                  <a:lnTo>
                    <a:pt x="-30817" y="2548"/>
                  </a:lnTo>
                  <a:lnTo>
                    <a:pt x="-31048" y="2664"/>
                  </a:lnTo>
                  <a:lnTo>
                    <a:pt x="-31395" y="2664"/>
                  </a:lnTo>
                  <a:lnTo>
                    <a:pt x="-31627" y="2779"/>
                  </a:lnTo>
                  <a:lnTo>
                    <a:pt x="-31858" y="2779"/>
                  </a:lnTo>
                  <a:lnTo>
                    <a:pt x="-32090" y="2779"/>
                  </a:lnTo>
                  <a:lnTo>
                    <a:pt x="-32437" y="2895"/>
                  </a:lnTo>
                  <a:lnTo>
                    <a:pt x="-32668" y="2895"/>
                  </a:lnTo>
                  <a:lnTo>
                    <a:pt x="32636" y="3011"/>
                  </a:lnTo>
                  <a:lnTo>
                    <a:pt x="32636" y="3011"/>
                  </a:lnTo>
                  <a:lnTo>
                    <a:pt x="32405" y="2895"/>
                  </a:lnTo>
                  <a:lnTo>
                    <a:pt x="32173" y="2779"/>
                  </a:lnTo>
                  <a:lnTo>
                    <a:pt x="31942" y="2779"/>
                  </a:lnTo>
                  <a:lnTo>
                    <a:pt x="31710" y="2779"/>
                  </a:lnTo>
                  <a:lnTo>
                    <a:pt x="31479" y="2779"/>
                  </a:lnTo>
                  <a:lnTo>
                    <a:pt x="31247" y="2779"/>
                  </a:lnTo>
                  <a:lnTo>
                    <a:pt x="31016" y="2895"/>
                  </a:lnTo>
                  <a:lnTo>
                    <a:pt x="30785" y="2895"/>
                  </a:lnTo>
                  <a:lnTo>
                    <a:pt x="30785" y="2895"/>
                  </a:lnTo>
                  <a:lnTo>
                    <a:pt x="29974" y="3474"/>
                  </a:lnTo>
                  <a:lnTo>
                    <a:pt x="29974" y="3474"/>
                  </a:lnTo>
                  <a:lnTo>
                    <a:pt x="29974" y="3359"/>
                  </a:lnTo>
                  <a:lnTo>
                    <a:pt x="29974" y="3359"/>
                  </a:lnTo>
                  <a:lnTo>
                    <a:pt x="29859" y="3243"/>
                  </a:lnTo>
                  <a:lnTo>
                    <a:pt x="29859" y="3127"/>
                  </a:lnTo>
                  <a:lnTo>
                    <a:pt x="29859" y="3127"/>
                  </a:lnTo>
                  <a:lnTo>
                    <a:pt x="29859" y="3011"/>
                  </a:lnTo>
                  <a:lnTo>
                    <a:pt x="29859" y="3011"/>
                  </a:lnTo>
                  <a:lnTo>
                    <a:pt x="29974" y="2895"/>
                  </a:lnTo>
                  <a:lnTo>
                    <a:pt x="29974" y="2895"/>
                  </a:lnTo>
                  <a:lnTo>
                    <a:pt x="-32321" y="2316"/>
                  </a:lnTo>
                  <a:lnTo>
                    <a:pt x="-32321" y="2316"/>
                  </a:lnTo>
                  <a:lnTo>
                    <a:pt x="-32205" y="2316"/>
                  </a:lnTo>
                  <a:lnTo>
                    <a:pt x="-32205" y="2200"/>
                  </a:lnTo>
                  <a:lnTo>
                    <a:pt x="-32205" y="2200"/>
                  </a:lnTo>
                  <a:lnTo>
                    <a:pt x="-32205" y="2200"/>
                  </a:lnTo>
                  <a:lnTo>
                    <a:pt x="-32205" y="2200"/>
                  </a:lnTo>
                  <a:lnTo>
                    <a:pt x="-32205" y="2085"/>
                  </a:lnTo>
                  <a:lnTo>
                    <a:pt x="-32090" y="2085"/>
                  </a:lnTo>
                  <a:lnTo>
                    <a:pt x="-32090" y="2085"/>
                  </a:lnTo>
                  <a:lnTo>
                    <a:pt x="-32090" y="2085"/>
                  </a:lnTo>
                  <a:lnTo>
                    <a:pt x="-32553" y="2085"/>
                  </a:lnTo>
                  <a:lnTo>
                    <a:pt x="32521" y="2200"/>
                  </a:lnTo>
                  <a:lnTo>
                    <a:pt x="31942" y="2200"/>
                  </a:lnTo>
                  <a:lnTo>
                    <a:pt x="31479" y="2316"/>
                  </a:lnTo>
                  <a:lnTo>
                    <a:pt x="31016" y="2432"/>
                  </a:lnTo>
                  <a:lnTo>
                    <a:pt x="30437" y="2548"/>
                  </a:lnTo>
                  <a:lnTo>
                    <a:pt x="29974" y="2664"/>
                  </a:lnTo>
                  <a:lnTo>
                    <a:pt x="29512" y="2779"/>
                  </a:lnTo>
                  <a:lnTo>
                    <a:pt x="29512" y="2779"/>
                  </a:lnTo>
                  <a:lnTo>
                    <a:pt x="29396" y="2664"/>
                  </a:lnTo>
                  <a:lnTo>
                    <a:pt x="29164" y="2664"/>
                  </a:lnTo>
                  <a:lnTo>
                    <a:pt x="28933" y="2548"/>
                  </a:lnTo>
                  <a:lnTo>
                    <a:pt x="28701" y="2548"/>
                  </a:lnTo>
                  <a:lnTo>
                    <a:pt x="28470" y="2432"/>
                  </a:lnTo>
                  <a:lnTo>
                    <a:pt x="28238" y="2548"/>
                  </a:lnTo>
                  <a:lnTo>
                    <a:pt x="28123" y="2548"/>
                  </a:lnTo>
                  <a:lnTo>
                    <a:pt x="27891" y="2664"/>
                  </a:lnTo>
                  <a:lnTo>
                    <a:pt x="27891" y="2664"/>
                  </a:lnTo>
                  <a:lnTo>
                    <a:pt x="27660" y="2895"/>
                  </a:lnTo>
                  <a:lnTo>
                    <a:pt x="27544" y="3011"/>
                  </a:lnTo>
                  <a:lnTo>
                    <a:pt x="27428" y="3011"/>
                  </a:lnTo>
                  <a:lnTo>
                    <a:pt x="27197" y="3011"/>
                  </a:lnTo>
                  <a:lnTo>
                    <a:pt x="27081" y="2895"/>
                  </a:lnTo>
                  <a:lnTo>
                    <a:pt x="26850" y="2895"/>
                  </a:lnTo>
                  <a:lnTo>
                    <a:pt x="26618" y="2895"/>
                  </a:lnTo>
                  <a:lnTo>
                    <a:pt x="26502" y="3127"/>
                  </a:lnTo>
                  <a:lnTo>
                    <a:pt x="26502" y="3127"/>
                  </a:lnTo>
                  <a:lnTo>
                    <a:pt x="26387" y="3474"/>
                  </a:lnTo>
                  <a:lnTo>
                    <a:pt x="26155" y="3706"/>
                  </a:lnTo>
                  <a:lnTo>
                    <a:pt x="25924" y="3822"/>
                  </a:lnTo>
                  <a:lnTo>
                    <a:pt x="25577" y="3822"/>
                  </a:lnTo>
                  <a:lnTo>
                    <a:pt x="25229" y="3822"/>
                  </a:lnTo>
                  <a:lnTo>
                    <a:pt x="24882" y="3822"/>
                  </a:lnTo>
                  <a:lnTo>
                    <a:pt x="24651" y="3822"/>
                  </a:lnTo>
                  <a:lnTo>
                    <a:pt x="24304" y="3938"/>
                  </a:lnTo>
                  <a:lnTo>
                    <a:pt x="24304" y="3938"/>
                  </a:lnTo>
                  <a:lnTo>
                    <a:pt x="21526" y="4517"/>
                  </a:lnTo>
                  <a:lnTo>
                    <a:pt x="18633" y="5096"/>
                  </a:lnTo>
                  <a:lnTo>
                    <a:pt x="15855" y="5559"/>
                  </a:lnTo>
                  <a:lnTo>
                    <a:pt x="13078" y="6138"/>
                  </a:lnTo>
                  <a:lnTo>
                    <a:pt x="10184" y="6717"/>
                  </a:lnTo>
                  <a:lnTo>
                    <a:pt x="7407" y="7296"/>
                  </a:lnTo>
                  <a:lnTo>
                    <a:pt x="4513" y="7759"/>
                  </a:lnTo>
                  <a:lnTo>
                    <a:pt x="1620" y="8223"/>
                  </a:lnTo>
                  <a:lnTo>
                    <a:pt x="1620" y="8223"/>
                  </a:lnTo>
                  <a:lnTo>
                    <a:pt x="1389" y="8107"/>
                  </a:lnTo>
                  <a:lnTo>
                    <a:pt x="1157" y="7875"/>
                  </a:lnTo>
                  <a:lnTo>
                    <a:pt x="926" y="7759"/>
                  </a:lnTo>
                  <a:lnTo>
                    <a:pt x="694" y="7528"/>
                  </a:lnTo>
                  <a:lnTo>
                    <a:pt x="463" y="7296"/>
                  </a:lnTo>
                  <a:lnTo>
                    <a:pt x="231" y="7064"/>
                  </a:lnTo>
                  <a:lnTo>
                    <a:pt x="116" y="6717"/>
                  </a:lnTo>
                  <a:lnTo>
                    <a:pt x="0" y="6485"/>
                  </a:lnTo>
                  <a:lnTo>
                    <a:pt x="0" y="6485"/>
                  </a:lnTo>
                  <a:lnTo>
                    <a:pt x="4398" y="5675"/>
                  </a:lnTo>
                  <a:lnTo>
                    <a:pt x="8680" y="4864"/>
                  </a:lnTo>
                  <a:lnTo>
                    <a:pt x="12846" y="3938"/>
                  </a:lnTo>
                  <a:lnTo>
                    <a:pt x="17128" y="3127"/>
                  </a:lnTo>
                  <a:lnTo>
                    <a:pt x="21295" y="2316"/>
                  </a:lnTo>
                  <a:lnTo>
                    <a:pt x="25577" y="1506"/>
                  </a:lnTo>
                  <a:lnTo>
                    <a:pt x="29859" y="695"/>
                  </a:lnTo>
                  <a:lnTo>
                    <a:pt x="-31279" y="116"/>
                  </a:lnTo>
                  <a:lnTo>
                    <a:pt x="-31279" y="116"/>
                  </a:lnTo>
                  <a:lnTo>
                    <a:pt x="-31279" y="0"/>
                  </a:lnTo>
                  <a:lnTo>
                    <a:pt x="-31279" y="0"/>
                  </a:lnTo>
                  <a:lnTo>
                    <a:pt x="-31164" y="0"/>
                  </a:lnTo>
                  <a:lnTo>
                    <a:pt x="-31164" y="0"/>
                  </a:lnTo>
                  <a:lnTo>
                    <a:pt x="-31164" y="0"/>
                  </a:lnTo>
                  <a:lnTo>
                    <a:pt x="-31164" y="0"/>
                  </a:lnTo>
                  <a:lnTo>
                    <a:pt x="-31048" y="0"/>
                  </a:lnTo>
                  <a:lnTo>
                    <a:pt x="-31048" y="0"/>
                  </a:lnTo>
                  <a:lnTo>
                    <a:pt x="-31048" y="0"/>
                  </a:lnTo>
                  <a:lnTo>
                    <a:pt x="-31048" y="0"/>
                  </a:lnTo>
                  <a:lnTo>
                    <a:pt x="-31048" y="0"/>
                  </a:lnTo>
                  <a:lnTo>
                    <a:pt x="-31048"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78400" y="4194720"/>
              <a:ext cx="344880" cy="565560"/>
            </a:xfrm>
            <a:custGeom>
              <a:avLst/>
              <a:gdLst/>
              <a:ahLst/>
              <a:rect l="l" t="t" r="r" b="b"/>
              <a:pathLst>
                <a:path w="9027" h="10539">
                  <a:moveTo>
                    <a:pt x="7176" y="579"/>
                  </a:moveTo>
                  <a:lnTo>
                    <a:pt x="7176" y="695"/>
                  </a:lnTo>
                  <a:lnTo>
                    <a:pt x="7176" y="811"/>
                  </a:lnTo>
                  <a:lnTo>
                    <a:pt x="7176" y="927"/>
                  </a:lnTo>
                  <a:lnTo>
                    <a:pt x="7060" y="1042"/>
                  </a:lnTo>
                  <a:lnTo>
                    <a:pt x="7060" y="1158"/>
                  </a:lnTo>
                  <a:lnTo>
                    <a:pt x="6944" y="1274"/>
                  </a:lnTo>
                  <a:lnTo>
                    <a:pt x="6828" y="1274"/>
                  </a:lnTo>
                  <a:lnTo>
                    <a:pt x="6713" y="1274"/>
                  </a:lnTo>
                  <a:lnTo>
                    <a:pt x="6713" y="1274"/>
                  </a:lnTo>
                  <a:lnTo>
                    <a:pt x="6597" y="1274"/>
                  </a:lnTo>
                  <a:lnTo>
                    <a:pt x="6365" y="1274"/>
                  </a:lnTo>
                  <a:lnTo>
                    <a:pt x="6134" y="1274"/>
                  </a:lnTo>
                  <a:lnTo>
                    <a:pt x="6018" y="1274"/>
                  </a:lnTo>
                  <a:lnTo>
                    <a:pt x="5787" y="1390"/>
                  </a:lnTo>
                  <a:lnTo>
                    <a:pt x="5671" y="1506"/>
                  </a:lnTo>
                  <a:lnTo>
                    <a:pt x="5555" y="1622"/>
                  </a:lnTo>
                  <a:lnTo>
                    <a:pt x="5440" y="1737"/>
                  </a:lnTo>
                  <a:lnTo>
                    <a:pt x="5440" y="1737"/>
                  </a:lnTo>
                  <a:lnTo>
                    <a:pt x="5324" y="1969"/>
                  </a:lnTo>
                  <a:lnTo>
                    <a:pt x="5092" y="2201"/>
                  </a:lnTo>
                  <a:lnTo>
                    <a:pt x="4977" y="2432"/>
                  </a:lnTo>
                  <a:lnTo>
                    <a:pt x="4861" y="2664"/>
                  </a:lnTo>
                  <a:lnTo>
                    <a:pt x="4745" y="2895"/>
                  </a:lnTo>
                  <a:lnTo>
                    <a:pt x="4745" y="3127"/>
                  </a:lnTo>
                  <a:lnTo>
                    <a:pt x="4629" y="3359"/>
                  </a:lnTo>
                  <a:lnTo>
                    <a:pt x="4745" y="3590"/>
                  </a:lnTo>
                  <a:lnTo>
                    <a:pt x="4745" y="3590"/>
                  </a:lnTo>
                  <a:lnTo>
                    <a:pt x="4629" y="3822"/>
                  </a:lnTo>
                  <a:lnTo>
                    <a:pt x="4629" y="4054"/>
                  </a:lnTo>
                  <a:lnTo>
                    <a:pt x="4629" y="4401"/>
                  </a:lnTo>
                  <a:lnTo>
                    <a:pt x="4745" y="4633"/>
                  </a:lnTo>
                  <a:lnTo>
                    <a:pt x="4861" y="4864"/>
                  </a:lnTo>
                  <a:lnTo>
                    <a:pt x="4861" y="5212"/>
                  </a:lnTo>
                  <a:lnTo>
                    <a:pt x="4977" y="5443"/>
                  </a:lnTo>
                  <a:lnTo>
                    <a:pt x="5092" y="5675"/>
                  </a:lnTo>
                  <a:lnTo>
                    <a:pt x="5092" y="5675"/>
                  </a:lnTo>
                  <a:lnTo>
                    <a:pt x="5555" y="6138"/>
                  </a:lnTo>
                  <a:lnTo>
                    <a:pt x="5902" y="6486"/>
                  </a:lnTo>
                  <a:lnTo>
                    <a:pt x="6481" y="6717"/>
                  </a:lnTo>
                  <a:lnTo>
                    <a:pt x="6944" y="6949"/>
                  </a:lnTo>
                  <a:lnTo>
                    <a:pt x="7523" y="7180"/>
                  </a:lnTo>
                  <a:lnTo>
                    <a:pt x="7986" y="7296"/>
                  </a:lnTo>
                  <a:lnTo>
                    <a:pt x="8564" y="7528"/>
                  </a:lnTo>
                  <a:lnTo>
                    <a:pt x="9027" y="7875"/>
                  </a:lnTo>
                  <a:lnTo>
                    <a:pt x="9027" y="7875"/>
                  </a:lnTo>
                  <a:lnTo>
                    <a:pt x="9027" y="7991"/>
                  </a:lnTo>
                  <a:lnTo>
                    <a:pt x="9027" y="8107"/>
                  </a:lnTo>
                  <a:lnTo>
                    <a:pt x="9027" y="8223"/>
                  </a:lnTo>
                  <a:lnTo>
                    <a:pt x="8911" y="8339"/>
                  </a:lnTo>
                  <a:lnTo>
                    <a:pt x="8911" y="8454"/>
                  </a:lnTo>
                  <a:lnTo>
                    <a:pt x="8911" y="8570"/>
                  </a:lnTo>
                  <a:lnTo>
                    <a:pt x="8796" y="8686"/>
                  </a:lnTo>
                  <a:lnTo>
                    <a:pt x="8796" y="8802"/>
                  </a:lnTo>
                  <a:lnTo>
                    <a:pt x="8796" y="8802"/>
                  </a:lnTo>
                  <a:lnTo>
                    <a:pt x="8449" y="8918"/>
                  </a:lnTo>
                  <a:lnTo>
                    <a:pt x="8217" y="9033"/>
                  </a:lnTo>
                  <a:lnTo>
                    <a:pt x="7870" y="8918"/>
                  </a:lnTo>
                  <a:lnTo>
                    <a:pt x="7638" y="8918"/>
                  </a:lnTo>
                  <a:lnTo>
                    <a:pt x="7291" y="8686"/>
                  </a:lnTo>
                  <a:lnTo>
                    <a:pt x="7060" y="8570"/>
                  </a:lnTo>
                  <a:lnTo>
                    <a:pt x="6828" y="8454"/>
                  </a:lnTo>
                  <a:lnTo>
                    <a:pt x="6597" y="8223"/>
                  </a:lnTo>
                  <a:lnTo>
                    <a:pt x="6597" y="8223"/>
                  </a:lnTo>
                  <a:lnTo>
                    <a:pt x="6134" y="8223"/>
                  </a:lnTo>
                  <a:lnTo>
                    <a:pt x="5787" y="8107"/>
                  </a:lnTo>
                  <a:lnTo>
                    <a:pt x="5440" y="7991"/>
                  </a:lnTo>
                  <a:lnTo>
                    <a:pt x="5092" y="7759"/>
                  </a:lnTo>
                  <a:lnTo>
                    <a:pt x="4745" y="7528"/>
                  </a:lnTo>
                  <a:lnTo>
                    <a:pt x="4398" y="7296"/>
                  </a:lnTo>
                  <a:lnTo>
                    <a:pt x="4051" y="7065"/>
                  </a:lnTo>
                  <a:lnTo>
                    <a:pt x="3704" y="6949"/>
                  </a:lnTo>
                  <a:lnTo>
                    <a:pt x="3704" y="6949"/>
                  </a:lnTo>
                  <a:lnTo>
                    <a:pt x="3588" y="6833"/>
                  </a:lnTo>
                  <a:lnTo>
                    <a:pt x="3472" y="6949"/>
                  </a:lnTo>
                  <a:lnTo>
                    <a:pt x="4861" y="8223"/>
                  </a:lnTo>
                  <a:lnTo>
                    <a:pt x="4861" y="8223"/>
                  </a:lnTo>
                  <a:lnTo>
                    <a:pt x="4514" y="8223"/>
                  </a:lnTo>
                  <a:lnTo>
                    <a:pt x="4166" y="8107"/>
                  </a:lnTo>
                  <a:lnTo>
                    <a:pt x="3819" y="7875"/>
                  </a:lnTo>
                  <a:lnTo>
                    <a:pt x="3588" y="7644"/>
                  </a:lnTo>
                  <a:lnTo>
                    <a:pt x="3241" y="7412"/>
                  </a:lnTo>
                  <a:lnTo>
                    <a:pt x="3009" y="7180"/>
                  </a:lnTo>
                  <a:lnTo>
                    <a:pt x="2662" y="7065"/>
                  </a:lnTo>
                  <a:lnTo>
                    <a:pt x="2430" y="6949"/>
                  </a:lnTo>
                  <a:lnTo>
                    <a:pt x="2430" y="6949"/>
                  </a:lnTo>
                  <a:lnTo>
                    <a:pt x="2546" y="7180"/>
                  </a:lnTo>
                  <a:lnTo>
                    <a:pt x="2662" y="7412"/>
                  </a:lnTo>
                  <a:lnTo>
                    <a:pt x="2893" y="7644"/>
                  </a:lnTo>
                  <a:lnTo>
                    <a:pt x="3125" y="7875"/>
                  </a:lnTo>
                  <a:lnTo>
                    <a:pt x="3241" y="7991"/>
                  </a:lnTo>
                  <a:lnTo>
                    <a:pt x="3472" y="8223"/>
                  </a:lnTo>
                  <a:lnTo>
                    <a:pt x="3704" y="8454"/>
                  </a:lnTo>
                  <a:lnTo>
                    <a:pt x="3935" y="8570"/>
                  </a:lnTo>
                  <a:lnTo>
                    <a:pt x="3935" y="8570"/>
                  </a:lnTo>
                  <a:lnTo>
                    <a:pt x="3935" y="8686"/>
                  </a:lnTo>
                  <a:lnTo>
                    <a:pt x="3819" y="8686"/>
                  </a:lnTo>
                  <a:lnTo>
                    <a:pt x="3588" y="8802"/>
                  </a:lnTo>
                  <a:lnTo>
                    <a:pt x="3472" y="8802"/>
                  </a:lnTo>
                  <a:lnTo>
                    <a:pt x="3356" y="8802"/>
                  </a:lnTo>
                  <a:lnTo>
                    <a:pt x="3241" y="8802"/>
                  </a:lnTo>
                  <a:lnTo>
                    <a:pt x="3009" y="8802"/>
                  </a:lnTo>
                  <a:lnTo>
                    <a:pt x="3009" y="8686"/>
                  </a:lnTo>
                  <a:lnTo>
                    <a:pt x="3009" y="8686"/>
                  </a:lnTo>
                  <a:lnTo>
                    <a:pt x="2662" y="8570"/>
                  </a:lnTo>
                  <a:lnTo>
                    <a:pt x="2546" y="8339"/>
                  </a:lnTo>
                  <a:lnTo>
                    <a:pt x="2315" y="8107"/>
                  </a:lnTo>
                  <a:lnTo>
                    <a:pt x="2083" y="7875"/>
                  </a:lnTo>
                  <a:lnTo>
                    <a:pt x="1852" y="7644"/>
                  </a:lnTo>
                  <a:lnTo>
                    <a:pt x="1620" y="7412"/>
                  </a:lnTo>
                  <a:lnTo>
                    <a:pt x="1505" y="7296"/>
                  </a:lnTo>
                  <a:lnTo>
                    <a:pt x="1273" y="7065"/>
                  </a:lnTo>
                  <a:lnTo>
                    <a:pt x="1273" y="7065"/>
                  </a:lnTo>
                  <a:lnTo>
                    <a:pt x="1157" y="7412"/>
                  </a:lnTo>
                  <a:lnTo>
                    <a:pt x="1157" y="7759"/>
                  </a:lnTo>
                  <a:lnTo>
                    <a:pt x="1157" y="8107"/>
                  </a:lnTo>
                  <a:lnTo>
                    <a:pt x="1157" y="8454"/>
                  </a:lnTo>
                  <a:lnTo>
                    <a:pt x="1273" y="8802"/>
                  </a:lnTo>
                  <a:lnTo>
                    <a:pt x="1389" y="9149"/>
                  </a:lnTo>
                  <a:lnTo>
                    <a:pt x="1505" y="9612"/>
                  </a:lnTo>
                  <a:lnTo>
                    <a:pt x="1620" y="9960"/>
                  </a:lnTo>
                  <a:lnTo>
                    <a:pt x="1620" y="9960"/>
                  </a:lnTo>
                  <a:lnTo>
                    <a:pt x="1620" y="10539"/>
                  </a:lnTo>
                  <a:lnTo>
                    <a:pt x="1620" y="10539"/>
                  </a:lnTo>
                  <a:lnTo>
                    <a:pt x="1389" y="10539"/>
                  </a:lnTo>
                  <a:lnTo>
                    <a:pt x="1273" y="10539"/>
                  </a:lnTo>
                  <a:lnTo>
                    <a:pt x="1042" y="10423"/>
                  </a:lnTo>
                  <a:lnTo>
                    <a:pt x="926" y="10423"/>
                  </a:lnTo>
                  <a:lnTo>
                    <a:pt x="810" y="10191"/>
                  </a:lnTo>
                  <a:lnTo>
                    <a:pt x="695" y="10076"/>
                  </a:lnTo>
                  <a:lnTo>
                    <a:pt x="579" y="9960"/>
                  </a:lnTo>
                  <a:lnTo>
                    <a:pt x="463" y="9844"/>
                  </a:lnTo>
                  <a:lnTo>
                    <a:pt x="463" y="9844"/>
                  </a:lnTo>
                  <a:lnTo>
                    <a:pt x="116" y="9149"/>
                  </a:lnTo>
                  <a:lnTo>
                    <a:pt x="0" y="8570"/>
                  </a:lnTo>
                  <a:lnTo>
                    <a:pt x="116" y="7991"/>
                  </a:lnTo>
                  <a:lnTo>
                    <a:pt x="347" y="7412"/>
                  </a:lnTo>
                  <a:lnTo>
                    <a:pt x="579" y="6833"/>
                  </a:lnTo>
                  <a:lnTo>
                    <a:pt x="810" y="6138"/>
                  </a:lnTo>
                  <a:lnTo>
                    <a:pt x="926" y="5559"/>
                  </a:lnTo>
                  <a:lnTo>
                    <a:pt x="926" y="4864"/>
                  </a:lnTo>
                  <a:lnTo>
                    <a:pt x="926" y="4864"/>
                  </a:lnTo>
                  <a:lnTo>
                    <a:pt x="1157" y="4864"/>
                  </a:lnTo>
                  <a:lnTo>
                    <a:pt x="1389" y="4864"/>
                  </a:lnTo>
                  <a:lnTo>
                    <a:pt x="1620" y="4864"/>
                  </a:lnTo>
                  <a:lnTo>
                    <a:pt x="1852" y="4748"/>
                  </a:lnTo>
                  <a:lnTo>
                    <a:pt x="2083" y="4633"/>
                  </a:lnTo>
                  <a:lnTo>
                    <a:pt x="2315" y="4517"/>
                  </a:lnTo>
                  <a:lnTo>
                    <a:pt x="2546" y="4401"/>
                  </a:lnTo>
                  <a:lnTo>
                    <a:pt x="2662" y="4169"/>
                  </a:lnTo>
                  <a:lnTo>
                    <a:pt x="2662" y="4169"/>
                  </a:lnTo>
                  <a:lnTo>
                    <a:pt x="2778" y="3822"/>
                  </a:lnTo>
                  <a:lnTo>
                    <a:pt x="3009" y="3475"/>
                  </a:lnTo>
                  <a:lnTo>
                    <a:pt x="3125" y="3127"/>
                  </a:lnTo>
                  <a:lnTo>
                    <a:pt x="3241" y="2780"/>
                  </a:lnTo>
                  <a:lnTo>
                    <a:pt x="3241" y="2432"/>
                  </a:lnTo>
                  <a:lnTo>
                    <a:pt x="3241" y="2085"/>
                  </a:lnTo>
                  <a:lnTo>
                    <a:pt x="3125" y="1737"/>
                  </a:lnTo>
                  <a:lnTo>
                    <a:pt x="3009" y="1390"/>
                  </a:lnTo>
                  <a:lnTo>
                    <a:pt x="3009" y="1390"/>
                  </a:lnTo>
                  <a:lnTo>
                    <a:pt x="3125" y="1274"/>
                  </a:lnTo>
                  <a:lnTo>
                    <a:pt x="3241" y="1042"/>
                  </a:lnTo>
                  <a:lnTo>
                    <a:pt x="3472" y="811"/>
                  </a:lnTo>
                  <a:lnTo>
                    <a:pt x="3704" y="695"/>
                  </a:lnTo>
                  <a:lnTo>
                    <a:pt x="3819" y="579"/>
                  </a:lnTo>
                  <a:lnTo>
                    <a:pt x="4051" y="463"/>
                  </a:lnTo>
                  <a:lnTo>
                    <a:pt x="4282" y="463"/>
                  </a:lnTo>
                  <a:lnTo>
                    <a:pt x="4629" y="463"/>
                  </a:lnTo>
                  <a:lnTo>
                    <a:pt x="4629" y="463"/>
                  </a:lnTo>
                  <a:lnTo>
                    <a:pt x="4745" y="579"/>
                  </a:lnTo>
                  <a:lnTo>
                    <a:pt x="4977" y="579"/>
                  </a:lnTo>
                  <a:lnTo>
                    <a:pt x="5092" y="695"/>
                  </a:lnTo>
                  <a:lnTo>
                    <a:pt x="5324" y="811"/>
                  </a:lnTo>
                  <a:lnTo>
                    <a:pt x="5440" y="927"/>
                  </a:lnTo>
                  <a:lnTo>
                    <a:pt x="5555" y="927"/>
                  </a:lnTo>
                  <a:lnTo>
                    <a:pt x="5787" y="927"/>
                  </a:lnTo>
                  <a:lnTo>
                    <a:pt x="6018" y="811"/>
                  </a:lnTo>
                  <a:lnTo>
                    <a:pt x="6018" y="811"/>
                  </a:lnTo>
                  <a:lnTo>
                    <a:pt x="5671" y="463"/>
                  </a:lnTo>
                  <a:lnTo>
                    <a:pt x="5671" y="463"/>
                  </a:lnTo>
                  <a:lnTo>
                    <a:pt x="5902" y="348"/>
                  </a:lnTo>
                  <a:lnTo>
                    <a:pt x="6134" y="232"/>
                  </a:lnTo>
                  <a:lnTo>
                    <a:pt x="6365" y="116"/>
                  </a:lnTo>
                  <a:lnTo>
                    <a:pt x="6597" y="0"/>
                  </a:lnTo>
                  <a:lnTo>
                    <a:pt x="6828" y="0"/>
                  </a:lnTo>
                  <a:lnTo>
                    <a:pt x="6944" y="116"/>
                  </a:lnTo>
                  <a:lnTo>
                    <a:pt x="7060" y="232"/>
                  </a:lnTo>
                  <a:lnTo>
                    <a:pt x="7176" y="579"/>
                  </a:lnTo>
                  <a:lnTo>
                    <a:pt x="7176" y="579"/>
                  </a:lnTo>
                  <a:lnTo>
                    <a:pt x="7176" y="579"/>
                  </a:lnTo>
                  <a:lnTo>
                    <a:pt x="7176" y="579"/>
                  </a:lnTo>
                  <a:lnTo>
                    <a:pt x="717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69400" y="4250880"/>
              <a:ext cx="110520" cy="173880"/>
            </a:xfrm>
            <a:custGeom>
              <a:avLst/>
              <a:gdLst/>
              <a:ahLst/>
              <a:rect l="l" t="t" r="r" b="b"/>
              <a:pathLst>
                <a:path w="2893" h="3243">
                  <a:moveTo>
                    <a:pt x="2893" y="927"/>
                  </a:moveTo>
                  <a:lnTo>
                    <a:pt x="2893" y="1159"/>
                  </a:lnTo>
                  <a:lnTo>
                    <a:pt x="2893" y="1390"/>
                  </a:lnTo>
                  <a:lnTo>
                    <a:pt x="2893" y="1622"/>
                  </a:lnTo>
                  <a:lnTo>
                    <a:pt x="2893" y="1853"/>
                  </a:lnTo>
                  <a:lnTo>
                    <a:pt x="2777" y="2085"/>
                  </a:lnTo>
                  <a:lnTo>
                    <a:pt x="2661" y="2317"/>
                  </a:lnTo>
                  <a:lnTo>
                    <a:pt x="2546" y="2548"/>
                  </a:lnTo>
                  <a:lnTo>
                    <a:pt x="2430" y="2780"/>
                  </a:lnTo>
                  <a:lnTo>
                    <a:pt x="2430" y="2780"/>
                  </a:lnTo>
                  <a:lnTo>
                    <a:pt x="2314" y="2896"/>
                  </a:lnTo>
                  <a:lnTo>
                    <a:pt x="2199" y="3012"/>
                  </a:lnTo>
                  <a:lnTo>
                    <a:pt x="1967" y="3127"/>
                  </a:lnTo>
                  <a:lnTo>
                    <a:pt x="1851" y="3243"/>
                  </a:lnTo>
                  <a:lnTo>
                    <a:pt x="1620" y="3243"/>
                  </a:lnTo>
                  <a:lnTo>
                    <a:pt x="1388" y="3243"/>
                  </a:lnTo>
                  <a:lnTo>
                    <a:pt x="1157" y="3243"/>
                  </a:lnTo>
                  <a:lnTo>
                    <a:pt x="1041" y="3243"/>
                  </a:lnTo>
                  <a:lnTo>
                    <a:pt x="1041" y="3243"/>
                  </a:lnTo>
                  <a:lnTo>
                    <a:pt x="810" y="3127"/>
                  </a:lnTo>
                  <a:lnTo>
                    <a:pt x="694" y="3127"/>
                  </a:lnTo>
                  <a:lnTo>
                    <a:pt x="463" y="3012"/>
                  </a:lnTo>
                  <a:lnTo>
                    <a:pt x="347" y="2896"/>
                  </a:lnTo>
                  <a:lnTo>
                    <a:pt x="231" y="2664"/>
                  </a:lnTo>
                  <a:lnTo>
                    <a:pt x="231" y="2548"/>
                  </a:lnTo>
                  <a:lnTo>
                    <a:pt x="115" y="2433"/>
                  </a:lnTo>
                  <a:lnTo>
                    <a:pt x="0" y="2201"/>
                  </a:lnTo>
                  <a:lnTo>
                    <a:pt x="0" y="2201"/>
                  </a:lnTo>
                  <a:lnTo>
                    <a:pt x="231" y="2317"/>
                  </a:lnTo>
                  <a:lnTo>
                    <a:pt x="347" y="2317"/>
                  </a:lnTo>
                  <a:lnTo>
                    <a:pt x="578" y="2317"/>
                  </a:lnTo>
                  <a:lnTo>
                    <a:pt x="810" y="2317"/>
                  </a:lnTo>
                  <a:lnTo>
                    <a:pt x="926" y="2317"/>
                  </a:lnTo>
                  <a:lnTo>
                    <a:pt x="1157" y="2201"/>
                  </a:lnTo>
                  <a:lnTo>
                    <a:pt x="1388" y="2201"/>
                  </a:lnTo>
                  <a:lnTo>
                    <a:pt x="1620" y="1969"/>
                  </a:lnTo>
                  <a:lnTo>
                    <a:pt x="1620" y="1969"/>
                  </a:lnTo>
                  <a:lnTo>
                    <a:pt x="1620" y="1853"/>
                  </a:lnTo>
                  <a:lnTo>
                    <a:pt x="1736" y="1738"/>
                  </a:lnTo>
                  <a:lnTo>
                    <a:pt x="1851" y="1506"/>
                  </a:lnTo>
                  <a:lnTo>
                    <a:pt x="1851" y="1390"/>
                  </a:lnTo>
                  <a:lnTo>
                    <a:pt x="1967" y="1159"/>
                  </a:lnTo>
                  <a:lnTo>
                    <a:pt x="1967" y="1043"/>
                  </a:lnTo>
                  <a:lnTo>
                    <a:pt x="1851" y="811"/>
                  </a:lnTo>
                  <a:lnTo>
                    <a:pt x="1736" y="695"/>
                  </a:lnTo>
                  <a:lnTo>
                    <a:pt x="1736" y="695"/>
                  </a:lnTo>
                  <a:lnTo>
                    <a:pt x="1504" y="232"/>
                  </a:lnTo>
                  <a:lnTo>
                    <a:pt x="1504" y="232"/>
                  </a:lnTo>
                  <a:lnTo>
                    <a:pt x="1620" y="116"/>
                  </a:lnTo>
                  <a:lnTo>
                    <a:pt x="1851" y="0"/>
                  </a:lnTo>
                  <a:lnTo>
                    <a:pt x="2083" y="116"/>
                  </a:lnTo>
                  <a:lnTo>
                    <a:pt x="2314" y="232"/>
                  </a:lnTo>
                  <a:lnTo>
                    <a:pt x="2546" y="348"/>
                  </a:lnTo>
                  <a:lnTo>
                    <a:pt x="2661" y="580"/>
                  </a:lnTo>
                  <a:lnTo>
                    <a:pt x="2777" y="811"/>
                  </a:lnTo>
                  <a:lnTo>
                    <a:pt x="2893" y="927"/>
                  </a:lnTo>
                  <a:lnTo>
                    <a:pt x="2893" y="927"/>
                  </a:lnTo>
                  <a:lnTo>
                    <a:pt x="2893" y="927"/>
                  </a:lnTo>
                  <a:lnTo>
                    <a:pt x="2893" y="927"/>
                  </a:lnTo>
                  <a:lnTo>
                    <a:pt x="2893"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130480" y="4257000"/>
              <a:ext cx="79560" cy="173880"/>
            </a:xfrm>
            <a:custGeom>
              <a:avLst/>
              <a:gdLst/>
              <a:ahLst/>
              <a:rect l="l" t="t" r="r" b="b"/>
              <a:pathLst>
                <a:path w="2084" h="3243">
                  <a:moveTo>
                    <a:pt x="2084" y="464"/>
                  </a:moveTo>
                  <a:lnTo>
                    <a:pt x="2084" y="811"/>
                  </a:lnTo>
                  <a:lnTo>
                    <a:pt x="2084" y="1043"/>
                  </a:lnTo>
                  <a:lnTo>
                    <a:pt x="1968" y="1274"/>
                  </a:lnTo>
                  <a:lnTo>
                    <a:pt x="1852" y="1622"/>
                  </a:lnTo>
                  <a:lnTo>
                    <a:pt x="1736" y="1853"/>
                  </a:lnTo>
                  <a:lnTo>
                    <a:pt x="1621" y="2085"/>
                  </a:lnTo>
                  <a:lnTo>
                    <a:pt x="1505" y="2317"/>
                  </a:lnTo>
                  <a:lnTo>
                    <a:pt x="1389" y="2548"/>
                  </a:lnTo>
                  <a:lnTo>
                    <a:pt x="1389" y="2548"/>
                  </a:lnTo>
                  <a:lnTo>
                    <a:pt x="1158" y="2664"/>
                  </a:lnTo>
                  <a:lnTo>
                    <a:pt x="1042" y="2780"/>
                  </a:lnTo>
                  <a:lnTo>
                    <a:pt x="926" y="2896"/>
                  </a:lnTo>
                  <a:lnTo>
                    <a:pt x="695" y="3011"/>
                  </a:lnTo>
                  <a:lnTo>
                    <a:pt x="579" y="3127"/>
                  </a:lnTo>
                  <a:lnTo>
                    <a:pt x="463" y="3243"/>
                  </a:lnTo>
                  <a:lnTo>
                    <a:pt x="232" y="3243"/>
                  </a:lnTo>
                  <a:lnTo>
                    <a:pt x="0" y="3243"/>
                  </a:lnTo>
                  <a:lnTo>
                    <a:pt x="0" y="3243"/>
                  </a:lnTo>
                  <a:lnTo>
                    <a:pt x="116" y="2896"/>
                  </a:lnTo>
                  <a:lnTo>
                    <a:pt x="116" y="2548"/>
                  </a:lnTo>
                  <a:lnTo>
                    <a:pt x="232" y="2317"/>
                  </a:lnTo>
                  <a:lnTo>
                    <a:pt x="348" y="1969"/>
                  </a:lnTo>
                  <a:lnTo>
                    <a:pt x="348" y="1622"/>
                  </a:lnTo>
                  <a:lnTo>
                    <a:pt x="348" y="1274"/>
                  </a:lnTo>
                  <a:lnTo>
                    <a:pt x="348" y="927"/>
                  </a:lnTo>
                  <a:lnTo>
                    <a:pt x="232" y="579"/>
                  </a:lnTo>
                  <a:lnTo>
                    <a:pt x="232" y="579"/>
                  </a:lnTo>
                  <a:lnTo>
                    <a:pt x="348" y="232"/>
                  </a:lnTo>
                  <a:lnTo>
                    <a:pt x="463" y="116"/>
                  </a:lnTo>
                  <a:lnTo>
                    <a:pt x="695" y="0"/>
                  </a:lnTo>
                  <a:lnTo>
                    <a:pt x="1042" y="0"/>
                  </a:lnTo>
                  <a:lnTo>
                    <a:pt x="1273" y="116"/>
                  </a:lnTo>
                  <a:lnTo>
                    <a:pt x="1621" y="232"/>
                  </a:lnTo>
                  <a:lnTo>
                    <a:pt x="1852" y="348"/>
                  </a:lnTo>
                  <a:lnTo>
                    <a:pt x="2084" y="464"/>
                  </a:lnTo>
                  <a:lnTo>
                    <a:pt x="2084" y="464"/>
                  </a:lnTo>
                  <a:lnTo>
                    <a:pt x="2084" y="464"/>
                  </a:lnTo>
                  <a:lnTo>
                    <a:pt x="2084" y="464"/>
                  </a:lnTo>
                  <a:lnTo>
                    <a:pt x="2084"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196720" y="4269600"/>
              <a:ext cx="128160" cy="142920"/>
            </a:xfrm>
            <a:custGeom>
              <a:avLst/>
              <a:gdLst/>
              <a:ahLst/>
              <a:rect l="l" t="t" r="r" b="b"/>
              <a:pathLst>
                <a:path w="3357" h="2664">
                  <a:moveTo>
                    <a:pt x="3357" y="347"/>
                  </a:moveTo>
                  <a:lnTo>
                    <a:pt x="3125" y="811"/>
                  </a:lnTo>
                  <a:lnTo>
                    <a:pt x="2894" y="1158"/>
                  </a:lnTo>
                  <a:lnTo>
                    <a:pt x="2546" y="1505"/>
                  </a:lnTo>
                  <a:lnTo>
                    <a:pt x="2199" y="1853"/>
                  </a:lnTo>
                  <a:lnTo>
                    <a:pt x="1852" y="2200"/>
                  </a:lnTo>
                  <a:lnTo>
                    <a:pt x="1505" y="2432"/>
                  </a:lnTo>
                  <a:lnTo>
                    <a:pt x="1042" y="2548"/>
                  </a:lnTo>
                  <a:lnTo>
                    <a:pt x="695" y="2664"/>
                  </a:lnTo>
                  <a:lnTo>
                    <a:pt x="695" y="2664"/>
                  </a:lnTo>
                  <a:lnTo>
                    <a:pt x="0" y="2548"/>
                  </a:lnTo>
                  <a:lnTo>
                    <a:pt x="0" y="2548"/>
                  </a:lnTo>
                  <a:lnTo>
                    <a:pt x="348" y="2200"/>
                  </a:lnTo>
                  <a:lnTo>
                    <a:pt x="463" y="1853"/>
                  </a:lnTo>
                  <a:lnTo>
                    <a:pt x="695" y="1505"/>
                  </a:lnTo>
                  <a:lnTo>
                    <a:pt x="810" y="1158"/>
                  </a:lnTo>
                  <a:lnTo>
                    <a:pt x="926" y="811"/>
                  </a:lnTo>
                  <a:lnTo>
                    <a:pt x="1158" y="579"/>
                  </a:lnTo>
                  <a:lnTo>
                    <a:pt x="1505" y="232"/>
                  </a:lnTo>
                  <a:lnTo>
                    <a:pt x="1852" y="116"/>
                  </a:lnTo>
                  <a:lnTo>
                    <a:pt x="1852" y="116"/>
                  </a:lnTo>
                  <a:lnTo>
                    <a:pt x="2083" y="0"/>
                  </a:lnTo>
                  <a:lnTo>
                    <a:pt x="2315" y="0"/>
                  </a:lnTo>
                  <a:lnTo>
                    <a:pt x="2431" y="0"/>
                  </a:lnTo>
                  <a:lnTo>
                    <a:pt x="2662" y="0"/>
                  </a:lnTo>
                  <a:lnTo>
                    <a:pt x="2778" y="116"/>
                  </a:lnTo>
                  <a:lnTo>
                    <a:pt x="3009" y="116"/>
                  </a:lnTo>
                  <a:lnTo>
                    <a:pt x="3125" y="232"/>
                  </a:lnTo>
                  <a:lnTo>
                    <a:pt x="3357" y="347"/>
                  </a:lnTo>
                  <a:lnTo>
                    <a:pt x="3357" y="347"/>
                  </a:lnTo>
                  <a:lnTo>
                    <a:pt x="3357" y="347"/>
                  </a:lnTo>
                  <a:lnTo>
                    <a:pt x="3357" y="347"/>
                  </a:lnTo>
                  <a:lnTo>
                    <a:pt x="3357"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019600" y="4287960"/>
              <a:ext cx="105840" cy="186480"/>
            </a:xfrm>
            <a:custGeom>
              <a:avLst/>
              <a:gdLst/>
              <a:ahLst/>
              <a:rect l="l" t="t" r="r" b="b"/>
              <a:pathLst>
                <a:path w="2778" h="3475">
                  <a:moveTo>
                    <a:pt x="2778" y="1158"/>
                  </a:moveTo>
                  <a:lnTo>
                    <a:pt x="2662" y="1506"/>
                  </a:lnTo>
                  <a:lnTo>
                    <a:pt x="2662" y="1738"/>
                  </a:lnTo>
                  <a:lnTo>
                    <a:pt x="2546" y="2085"/>
                  </a:lnTo>
                  <a:lnTo>
                    <a:pt x="2430" y="2317"/>
                  </a:lnTo>
                  <a:lnTo>
                    <a:pt x="2430" y="2664"/>
                  </a:lnTo>
                  <a:lnTo>
                    <a:pt x="2199" y="2896"/>
                  </a:lnTo>
                  <a:lnTo>
                    <a:pt x="2083" y="3127"/>
                  </a:lnTo>
                  <a:lnTo>
                    <a:pt x="1736" y="3243"/>
                  </a:lnTo>
                  <a:lnTo>
                    <a:pt x="1736" y="3243"/>
                  </a:lnTo>
                  <a:lnTo>
                    <a:pt x="1620" y="3359"/>
                  </a:lnTo>
                  <a:lnTo>
                    <a:pt x="1505" y="3359"/>
                  </a:lnTo>
                  <a:lnTo>
                    <a:pt x="1273" y="3359"/>
                  </a:lnTo>
                  <a:lnTo>
                    <a:pt x="1157" y="3475"/>
                  </a:lnTo>
                  <a:lnTo>
                    <a:pt x="1042" y="3475"/>
                  </a:lnTo>
                  <a:lnTo>
                    <a:pt x="810" y="3475"/>
                  </a:lnTo>
                  <a:lnTo>
                    <a:pt x="694" y="3359"/>
                  </a:lnTo>
                  <a:lnTo>
                    <a:pt x="579" y="3359"/>
                  </a:lnTo>
                  <a:lnTo>
                    <a:pt x="579" y="3359"/>
                  </a:lnTo>
                  <a:lnTo>
                    <a:pt x="347" y="3127"/>
                  </a:lnTo>
                  <a:lnTo>
                    <a:pt x="231" y="2896"/>
                  </a:lnTo>
                  <a:lnTo>
                    <a:pt x="231" y="2664"/>
                  </a:lnTo>
                  <a:lnTo>
                    <a:pt x="116" y="2432"/>
                  </a:lnTo>
                  <a:lnTo>
                    <a:pt x="116" y="2201"/>
                  </a:lnTo>
                  <a:lnTo>
                    <a:pt x="116" y="1969"/>
                  </a:lnTo>
                  <a:lnTo>
                    <a:pt x="0" y="1738"/>
                  </a:lnTo>
                  <a:lnTo>
                    <a:pt x="0" y="1506"/>
                  </a:lnTo>
                  <a:lnTo>
                    <a:pt x="0" y="1506"/>
                  </a:lnTo>
                  <a:lnTo>
                    <a:pt x="926" y="1274"/>
                  </a:lnTo>
                  <a:lnTo>
                    <a:pt x="926" y="1274"/>
                  </a:lnTo>
                  <a:lnTo>
                    <a:pt x="926" y="1390"/>
                  </a:lnTo>
                  <a:lnTo>
                    <a:pt x="926" y="1506"/>
                  </a:lnTo>
                  <a:lnTo>
                    <a:pt x="926" y="1622"/>
                  </a:lnTo>
                  <a:lnTo>
                    <a:pt x="926" y="1738"/>
                  </a:lnTo>
                  <a:lnTo>
                    <a:pt x="926" y="1853"/>
                  </a:lnTo>
                  <a:lnTo>
                    <a:pt x="926" y="1853"/>
                  </a:lnTo>
                  <a:lnTo>
                    <a:pt x="926" y="1969"/>
                  </a:lnTo>
                  <a:lnTo>
                    <a:pt x="1042" y="2085"/>
                  </a:lnTo>
                  <a:lnTo>
                    <a:pt x="1042" y="2085"/>
                  </a:lnTo>
                  <a:lnTo>
                    <a:pt x="1157" y="1738"/>
                  </a:lnTo>
                  <a:lnTo>
                    <a:pt x="1273" y="1390"/>
                  </a:lnTo>
                  <a:lnTo>
                    <a:pt x="1389" y="1158"/>
                  </a:lnTo>
                  <a:lnTo>
                    <a:pt x="1620" y="927"/>
                  </a:lnTo>
                  <a:lnTo>
                    <a:pt x="1852" y="579"/>
                  </a:lnTo>
                  <a:lnTo>
                    <a:pt x="2083" y="348"/>
                  </a:lnTo>
                  <a:lnTo>
                    <a:pt x="2315" y="232"/>
                  </a:lnTo>
                  <a:lnTo>
                    <a:pt x="2546" y="0"/>
                  </a:lnTo>
                  <a:lnTo>
                    <a:pt x="2546" y="0"/>
                  </a:lnTo>
                  <a:lnTo>
                    <a:pt x="2662" y="116"/>
                  </a:lnTo>
                  <a:lnTo>
                    <a:pt x="2778" y="232"/>
                  </a:lnTo>
                  <a:lnTo>
                    <a:pt x="2778" y="348"/>
                  </a:lnTo>
                  <a:lnTo>
                    <a:pt x="2778" y="579"/>
                  </a:lnTo>
                  <a:lnTo>
                    <a:pt x="2778" y="695"/>
                  </a:lnTo>
                  <a:lnTo>
                    <a:pt x="2778" y="927"/>
                  </a:lnTo>
                  <a:lnTo>
                    <a:pt x="2778" y="1043"/>
                  </a:lnTo>
                  <a:lnTo>
                    <a:pt x="2778" y="1158"/>
                  </a:lnTo>
                  <a:lnTo>
                    <a:pt x="2778" y="1158"/>
                  </a:lnTo>
                  <a:lnTo>
                    <a:pt x="2778" y="1158"/>
                  </a:lnTo>
                  <a:lnTo>
                    <a:pt x="2778" y="1158"/>
                  </a:lnTo>
                  <a:lnTo>
                    <a:pt x="2778"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183680" y="4319280"/>
              <a:ext cx="884520" cy="254880"/>
            </a:xfrm>
            <a:custGeom>
              <a:avLst/>
              <a:gdLst/>
              <a:ahLst/>
              <a:rect l="l" t="t" r="r" b="b"/>
              <a:pathLst>
                <a:path w="23146" h="4749">
                  <a:moveTo>
                    <a:pt x="23146" y="0"/>
                  </a:moveTo>
                  <a:lnTo>
                    <a:pt x="22336" y="232"/>
                  </a:lnTo>
                  <a:lnTo>
                    <a:pt x="21526" y="464"/>
                  </a:lnTo>
                  <a:lnTo>
                    <a:pt x="20600" y="695"/>
                  </a:lnTo>
                  <a:lnTo>
                    <a:pt x="19790" y="1043"/>
                  </a:lnTo>
                  <a:lnTo>
                    <a:pt x="18980" y="1274"/>
                  </a:lnTo>
                  <a:lnTo>
                    <a:pt x="18054" y="1390"/>
                  </a:lnTo>
                  <a:lnTo>
                    <a:pt x="17128" y="1622"/>
                  </a:lnTo>
                  <a:lnTo>
                    <a:pt x="16318" y="1738"/>
                  </a:lnTo>
                  <a:lnTo>
                    <a:pt x="16318" y="1738"/>
                  </a:lnTo>
                  <a:lnTo>
                    <a:pt x="4397" y="4054"/>
                  </a:lnTo>
                  <a:lnTo>
                    <a:pt x="810" y="4749"/>
                  </a:lnTo>
                  <a:lnTo>
                    <a:pt x="0" y="4401"/>
                  </a:lnTo>
                  <a:lnTo>
                    <a:pt x="0" y="4401"/>
                  </a:lnTo>
                  <a:lnTo>
                    <a:pt x="2314" y="3938"/>
                  </a:lnTo>
                  <a:lnTo>
                    <a:pt x="4629" y="3591"/>
                  </a:lnTo>
                  <a:lnTo>
                    <a:pt x="6944" y="3127"/>
                  </a:lnTo>
                  <a:lnTo>
                    <a:pt x="9258" y="2664"/>
                  </a:lnTo>
                  <a:lnTo>
                    <a:pt x="11573" y="2201"/>
                  </a:lnTo>
                  <a:lnTo>
                    <a:pt x="13888" y="1738"/>
                  </a:lnTo>
                  <a:lnTo>
                    <a:pt x="16202" y="1274"/>
                  </a:lnTo>
                  <a:lnTo>
                    <a:pt x="18633" y="927"/>
                  </a:lnTo>
                  <a:lnTo>
                    <a:pt x="18633" y="927"/>
                  </a:lnTo>
                  <a:lnTo>
                    <a:pt x="19211" y="811"/>
                  </a:lnTo>
                  <a:lnTo>
                    <a:pt x="19674" y="695"/>
                  </a:lnTo>
                  <a:lnTo>
                    <a:pt x="20253" y="695"/>
                  </a:lnTo>
                  <a:lnTo>
                    <a:pt x="20831" y="579"/>
                  </a:lnTo>
                  <a:lnTo>
                    <a:pt x="21410" y="464"/>
                  </a:lnTo>
                  <a:lnTo>
                    <a:pt x="21989" y="348"/>
                  </a:lnTo>
                  <a:lnTo>
                    <a:pt x="22567" y="116"/>
                  </a:lnTo>
                  <a:lnTo>
                    <a:pt x="23146" y="0"/>
                  </a:lnTo>
                  <a:lnTo>
                    <a:pt x="23146" y="0"/>
                  </a:lnTo>
                  <a:lnTo>
                    <a:pt x="23146" y="0"/>
                  </a:lnTo>
                  <a:lnTo>
                    <a:pt x="23146" y="0"/>
                  </a:lnTo>
                  <a:lnTo>
                    <a:pt x="23146"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72200" y="4356360"/>
              <a:ext cx="79560" cy="335520"/>
            </a:xfrm>
            <a:custGeom>
              <a:avLst/>
              <a:gdLst/>
              <a:ahLst/>
              <a:rect l="l" t="t" r="r" b="b"/>
              <a:pathLst>
                <a:path w="2083" h="6254">
                  <a:moveTo>
                    <a:pt x="1620" y="0"/>
                  </a:moveTo>
                  <a:lnTo>
                    <a:pt x="1273" y="695"/>
                  </a:lnTo>
                  <a:lnTo>
                    <a:pt x="1041" y="1506"/>
                  </a:lnTo>
                  <a:lnTo>
                    <a:pt x="925" y="2316"/>
                  </a:lnTo>
                  <a:lnTo>
                    <a:pt x="925" y="3127"/>
                  </a:lnTo>
                  <a:lnTo>
                    <a:pt x="1041" y="3822"/>
                  </a:lnTo>
                  <a:lnTo>
                    <a:pt x="1273" y="4633"/>
                  </a:lnTo>
                  <a:lnTo>
                    <a:pt x="1620" y="5328"/>
                  </a:lnTo>
                  <a:lnTo>
                    <a:pt x="2083" y="5907"/>
                  </a:lnTo>
                  <a:lnTo>
                    <a:pt x="2083" y="5907"/>
                  </a:lnTo>
                  <a:lnTo>
                    <a:pt x="2083" y="6254"/>
                  </a:lnTo>
                  <a:lnTo>
                    <a:pt x="2083" y="6254"/>
                  </a:lnTo>
                  <a:lnTo>
                    <a:pt x="1851" y="6254"/>
                  </a:lnTo>
                  <a:lnTo>
                    <a:pt x="1736" y="6254"/>
                  </a:lnTo>
                  <a:lnTo>
                    <a:pt x="1504" y="6254"/>
                  </a:lnTo>
                  <a:lnTo>
                    <a:pt x="1388" y="6138"/>
                  </a:lnTo>
                  <a:lnTo>
                    <a:pt x="1273" y="6022"/>
                  </a:lnTo>
                  <a:lnTo>
                    <a:pt x="1041" y="5907"/>
                  </a:lnTo>
                  <a:lnTo>
                    <a:pt x="925" y="5907"/>
                  </a:lnTo>
                  <a:lnTo>
                    <a:pt x="810" y="5791"/>
                  </a:lnTo>
                  <a:lnTo>
                    <a:pt x="810" y="5791"/>
                  </a:lnTo>
                  <a:lnTo>
                    <a:pt x="462" y="5212"/>
                  </a:lnTo>
                  <a:lnTo>
                    <a:pt x="231" y="4748"/>
                  </a:lnTo>
                  <a:lnTo>
                    <a:pt x="0" y="4169"/>
                  </a:lnTo>
                  <a:lnTo>
                    <a:pt x="0" y="3475"/>
                  </a:lnTo>
                  <a:lnTo>
                    <a:pt x="0" y="2896"/>
                  </a:lnTo>
                  <a:lnTo>
                    <a:pt x="0" y="2201"/>
                  </a:lnTo>
                  <a:lnTo>
                    <a:pt x="115" y="1622"/>
                  </a:lnTo>
                  <a:lnTo>
                    <a:pt x="231" y="1043"/>
                  </a:lnTo>
                  <a:lnTo>
                    <a:pt x="231" y="1043"/>
                  </a:lnTo>
                  <a:lnTo>
                    <a:pt x="347" y="927"/>
                  </a:lnTo>
                  <a:lnTo>
                    <a:pt x="462" y="695"/>
                  </a:lnTo>
                  <a:lnTo>
                    <a:pt x="694" y="579"/>
                  </a:lnTo>
                  <a:lnTo>
                    <a:pt x="810" y="348"/>
                  </a:lnTo>
                  <a:lnTo>
                    <a:pt x="925" y="232"/>
                  </a:lnTo>
                  <a:lnTo>
                    <a:pt x="1157" y="116"/>
                  </a:lnTo>
                  <a:lnTo>
                    <a:pt x="1388" y="0"/>
                  </a:lnTo>
                  <a:lnTo>
                    <a:pt x="1620" y="0"/>
                  </a:lnTo>
                  <a:lnTo>
                    <a:pt x="1620" y="0"/>
                  </a:lnTo>
                  <a:lnTo>
                    <a:pt x="1620" y="0"/>
                  </a:lnTo>
                  <a:lnTo>
                    <a:pt x="1620" y="0"/>
                  </a:lnTo>
                  <a:lnTo>
                    <a:pt x="16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29800" y="4375080"/>
              <a:ext cx="39600" cy="279720"/>
            </a:xfrm>
            <a:custGeom>
              <a:avLst/>
              <a:gdLst/>
              <a:ahLst/>
              <a:rect l="l" t="t" r="r" b="b"/>
              <a:pathLst>
                <a:path w="1042" h="5211">
                  <a:moveTo>
                    <a:pt x="694" y="1968"/>
                  </a:moveTo>
                  <a:lnTo>
                    <a:pt x="1042" y="3706"/>
                  </a:lnTo>
                  <a:lnTo>
                    <a:pt x="810" y="5211"/>
                  </a:lnTo>
                  <a:lnTo>
                    <a:pt x="810" y="5211"/>
                  </a:lnTo>
                  <a:lnTo>
                    <a:pt x="463" y="4632"/>
                  </a:lnTo>
                  <a:lnTo>
                    <a:pt x="232" y="3937"/>
                  </a:lnTo>
                  <a:lnTo>
                    <a:pt x="0" y="3358"/>
                  </a:lnTo>
                  <a:lnTo>
                    <a:pt x="0" y="2663"/>
                  </a:lnTo>
                  <a:lnTo>
                    <a:pt x="0" y="1968"/>
                  </a:lnTo>
                  <a:lnTo>
                    <a:pt x="0" y="1274"/>
                  </a:lnTo>
                  <a:lnTo>
                    <a:pt x="232" y="579"/>
                  </a:lnTo>
                  <a:lnTo>
                    <a:pt x="463" y="0"/>
                  </a:lnTo>
                  <a:lnTo>
                    <a:pt x="463" y="0"/>
                  </a:lnTo>
                  <a:lnTo>
                    <a:pt x="694" y="231"/>
                  </a:lnTo>
                  <a:lnTo>
                    <a:pt x="810" y="463"/>
                  </a:lnTo>
                  <a:lnTo>
                    <a:pt x="810" y="695"/>
                  </a:lnTo>
                  <a:lnTo>
                    <a:pt x="810" y="926"/>
                  </a:lnTo>
                  <a:lnTo>
                    <a:pt x="694" y="1158"/>
                  </a:lnTo>
                  <a:lnTo>
                    <a:pt x="694" y="1505"/>
                  </a:lnTo>
                  <a:lnTo>
                    <a:pt x="579" y="1737"/>
                  </a:lnTo>
                  <a:lnTo>
                    <a:pt x="694" y="1968"/>
                  </a:lnTo>
                  <a:lnTo>
                    <a:pt x="694" y="1968"/>
                  </a:lnTo>
                  <a:lnTo>
                    <a:pt x="694" y="1968"/>
                  </a:lnTo>
                  <a:lnTo>
                    <a:pt x="694" y="1968"/>
                  </a:lnTo>
                  <a:lnTo>
                    <a:pt x="694" y="19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000" y="4381560"/>
              <a:ext cx="35280" cy="55800"/>
            </a:xfrm>
            <a:custGeom>
              <a:avLst/>
              <a:gdLst/>
              <a:ahLst/>
              <a:rect l="l" t="t" r="r" b="b"/>
              <a:pathLst>
                <a:path w="926" h="1042">
                  <a:moveTo>
                    <a:pt x="926" y="926"/>
                  </a:moveTo>
                  <a:lnTo>
                    <a:pt x="926" y="1042"/>
                  </a:lnTo>
                  <a:lnTo>
                    <a:pt x="926" y="1042"/>
                  </a:lnTo>
                  <a:lnTo>
                    <a:pt x="810" y="1042"/>
                  </a:lnTo>
                  <a:lnTo>
                    <a:pt x="694" y="1042"/>
                  </a:lnTo>
                  <a:lnTo>
                    <a:pt x="579" y="1042"/>
                  </a:lnTo>
                  <a:lnTo>
                    <a:pt x="463" y="926"/>
                  </a:lnTo>
                  <a:lnTo>
                    <a:pt x="347" y="926"/>
                  </a:lnTo>
                  <a:lnTo>
                    <a:pt x="231" y="810"/>
                  </a:lnTo>
                  <a:lnTo>
                    <a:pt x="116" y="694"/>
                  </a:lnTo>
                  <a:lnTo>
                    <a:pt x="0" y="579"/>
                  </a:lnTo>
                  <a:lnTo>
                    <a:pt x="0" y="579"/>
                  </a:lnTo>
                  <a:lnTo>
                    <a:pt x="0" y="463"/>
                  </a:lnTo>
                  <a:lnTo>
                    <a:pt x="0" y="347"/>
                  </a:lnTo>
                  <a:lnTo>
                    <a:pt x="0" y="231"/>
                  </a:lnTo>
                  <a:lnTo>
                    <a:pt x="116" y="115"/>
                  </a:lnTo>
                  <a:lnTo>
                    <a:pt x="116" y="115"/>
                  </a:lnTo>
                  <a:lnTo>
                    <a:pt x="231" y="0"/>
                  </a:lnTo>
                  <a:lnTo>
                    <a:pt x="347" y="0"/>
                  </a:lnTo>
                  <a:lnTo>
                    <a:pt x="463" y="0"/>
                  </a:lnTo>
                  <a:lnTo>
                    <a:pt x="463" y="0"/>
                  </a:lnTo>
                  <a:lnTo>
                    <a:pt x="579" y="0"/>
                  </a:lnTo>
                  <a:lnTo>
                    <a:pt x="694" y="115"/>
                  </a:lnTo>
                  <a:lnTo>
                    <a:pt x="810" y="115"/>
                  </a:lnTo>
                  <a:lnTo>
                    <a:pt x="810" y="347"/>
                  </a:lnTo>
                  <a:lnTo>
                    <a:pt x="810" y="463"/>
                  </a:lnTo>
                  <a:lnTo>
                    <a:pt x="926" y="579"/>
                  </a:lnTo>
                  <a:lnTo>
                    <a:pt x="926" y="810"/>
                  </a:lnTo>
                  <a:lnTo>
                    <a:pt x="926" y="926"/>
                  </a:lnTo>
                  <a:lnTo>
                    <a:pt x="926" y="926"/>
                  </a:lnTo>
                  <a:lnTo>
                    <a:pt x="926" y="926"/>
                  </a:lnTo>
                  <a:lnTo>
                    <a:pt x="926" y="926"/>
                  </a:lnTo>
                  <a:lnTo>
                    <a:pt x="926" y="92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3" name=""/>
            <p:cNvSpPr/>
            <p:nvPr/>
          </p:nvSpPr>
          <p:spPr>
            <a:xfrm>
              <a:off x="564120" y="4393800"/>
              <a:ext cx="243000" cy="391680"/>
            </a:xfrm>
            <a:custGeom>
              <a:avLst/>
              <a:gdLst/>
              <a:ahLst/>
              <a:rect l="l" t="t" r="r" b="b"/>
              <a:pathLst>
                <a:path w="6365" h="7296">
                  <a:moveTo>
                    <a:pt x="6365" y="5791"/>
                  </a:moveTo>
                  <a:lnTo>
                    <a:pt x="5671" y="6022"/>
                  </a:lnTo>
                  <a:lnTo>
                    <a:pt x="4977" y="6370"/>
                  </a:lnTo>
                  <a:lnTo>
                    <a:pt x="4282" y="6717"/>
                  </a:lnTo>
                  <a:lnTo>
                    <a:pt x="3588" y="7065"/>
                  </a:lnTo>
                  <a:lnTo>
                    <a:pt x="2778" y="7296"/>
                  </a:lnTo>
                  <a:lnTo>
                    <a:pt x="2083" y="7296"/>
                  </a:lnTo>
                  <a:lnTo>
                    <a:pt x="1389" y="6949"/>
                  </a:lnTo>
                  <a:lnTo>
                    <a:pt x="810" y="6370"/>
                  </a:lnTo>
                  <a:lnTo>
                    <a:pt x="810" y="6370"/>
                  </a:lnTo>
                  <a:lnTo>
                    <a:pt x="463" y="5906"/>
                  </a:lnTo>
                  <a:lnTo>
                    <a:pt x="116" y="5327"/>
                  </a:lnTo>
                  <a:lnTo>
                    <a:pt x="0" y="4748"/>
                  </a:lnTo>
                  <a:lnTo>
                    <a:pt x="0" y="4169"/>
                  </a:lnTo>
                  <a:lnTo>
                    <a:pt x="0" y="3590"/>
                  </a:lnTo>
                  <a:lnTo>
                    <a:pt x="0" y="3011"/>
                  </a:lnTo>
                  <a:lnTo>
                    <a:pt x="116" y="2432"/>
                  </a:lnTo>
                  <a:lnTo>
                    <a:pt x="232" y="1853"/>
                  </a:lnTo>
                  <a:lnTo>
                    <a:pt x="232" y="1853"/>
                  </a:lnTo>
                  <a:lnTo>
                    <a:pt x="695" y="1274"/>
                  </a:lnTo>
                  <a:lnTo>
                    <a:pt x="1157" y="811"/>
                  </a:lnTo>
                  <a:lnTo>
                    <a:pt x="1736" y="579"/>
                  </a:lnTo>
                  <a:lnTo>
                    <a:pt x="2431" y="463"/>
                  </a:lnTo>
                  <a:lnTo>
                    <a:pt x="3125" y="348"/>
                  </a:lnTo>
                  <a:lnTo>
                    <a:pt x="3935" y="232"/>
                  </a:lnTo>
                  <a:lnTo>
                    <a:pt x="4629" y="232"/>
                  </a:lnTo>
                  <a:lnTo>
                    <a:pt x="5208" y="0"/>
                  </a:lnTo>
                  <a:lnTo>
                    <a:pt x="5208" y="0"/>
                  </a:lnTo>
                  <a:lnTo>
                    <a:pt x="5092" y="811"/>
                  </a:lnTo>
                  <a:lnTo>
                    <a:pt x="4977" y="1506"/>
                  </a:lnTo>
                  <a:lnTo>
                    <a:pt x="4977" y="2316"/>
                  </a:lnTo>
                  <a:lnTo>
                    <a:pt x="4977" y="3127"/>
                  </a:lnTo>
                  <a:lnTo>
                    <a:pt x="5092" y="3938"/>
                  </a:lnTo>
                  <a:lnTo>
                    <a:pt x="5324" y="4633"/>
                  </a:lnTo>
                  <a:lnTo>
                    <a:pt x="5787" y="5327"/>
                  </a:lnTo>
                  <a:lnTo>
                    <a:pt x="6365" y="5791"/>
                  </a:lnTo>
                  <a:lnTo>
                    <a:pt x="6365" y="5791"/>
                  </a:lnTo>
                  <a:lnTo>
                    <a:pt x="6365" y="5791"/>
                  </a:lnTo>
                  <a:lnTo>
                    <a:pt x="6365" y="5791"/>
                  </a:lnTo>
                  <a:lnTo>
                    <a:pt x="6365" y="5791"/>
                  </a:lnTo>
                  <a:close/>
                </a:path>
              </a:pathLst>
            </a:custGeom>
            <a:solidFill>
              <a:srgbClr val="ff3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059840" y="4399920"/>
              <a:ext cx="893520" cy="857880"/>
            </a:xfrm>
            <a:custGeom>
              <a:avLst/>
              <a:gdLst/>
              <a:ahLst/>
              <a:rect l="l" t="t" r="r" b="b"/>
              <a:pathLst>
                <a:path w="23378" h="15982">
                  <a:moveTo>
                    <a:pt x="23378" y="6949"/>
                  </a:moveTo>
                  <a:lnTo>
                    <a:pt x="23031" y="7180"/>
                  </a:lnTo>
                  <a:lnTo>
                    <a:pt x="22568" y="7412"/>
                  </a:lnTo>
                  <a:lnTo>
                    <a:pt x="22221" y="7528"/>
                  </a:lnTo>
                  <a:lnTo>
                    <a:pt x="21758" y="7528"/>
                  </a:lnTo>
                  <a:lnTo>
                    <a:pt x="21295" y="7643"/>
                  </a:lnTo>
                  <a:lnTo>
                    <a:pt x="20832" y="7643"/>
                  </a:lnTo>
                  <a:lnTo>
                    <a:pt x="20369" y="7759"/>
                  </a:lnTo>
                  <a:lnTo>
                    <a:pt x="19906" y="7875"/>
                  </a:lnTo>
                  <a:lnTo>
                    <a:pt x="19906" y="7875"/>
                  </a:lnTo>
                  <a:lnTo>
                    <a:pt x="16203" y="9033"/>
                  </a:lnTo>
                  <a:lnTo>
                    <a:pt x="2778" y="15055"/>
                  </a:lnTo>
                  <a:lnTo>
                    <a:pt x="2778" y="15055"/>
                  </a:lnTo>
                  <a:lnTo>
                    <a:pt x="2546" y="15171"/>
                  </a:lnTo>
                  <a:lnTo>
                    <a:pt x="2199" y="15403"/>
                  </a:lnTo>
                  <a:lnTo>
                    <a:pt x="1852" y="15518"/>
                  </a:lnTo>
                  <a:lnTo>
                    <a:pt x="1505" y="15750"/>
                  </a:lnTo>
                  <a:lnTo>
                    <a:pt x="1157" y="15866"/>
                  </a:lnTo>
                  <a:lnTo>
                    <a:pt x="810" y="15982"/>
                  </a:lnTo>
                  <a:lnTo>
                    <a:pt x="463" y="15982"/>
                  </a:lnTo>
                  <a:lnTo>
                    <a:pt x="0" y="15982"/>
                  </a:lnTo>
                  <a:lnTo>
                    <a:pt x="0" y="15982"/>
                  </a:lnTo>
                  <a:lnTo>
                    <a:pt x="0" y="14592"/>
                  </a:lnTo>
                  <a:lnTo>
                    <a:pt x="116" y="13202"/>
                  </a:lnTo>
                  <a:lnTo>
                    <a:pt x="116" y="11813"/>
                  </a:lnTo>
                  <a:lnTo>
                    <a:pt x="232" y="10423"/>
                  </a:lnTo>
                  <a:lnTo>
                    <a:pt x="347" y="8917"/>
                  </a:lnTo>
                  <a:lnTo>
                    <a:pt x="347" y="7528"/>
                  </a:lnTo>
                  <a:lnTo>
                    <a:pt x="463" y="6138"/>
                  </a:lnTo>
                  <a:lnTo>
                    <a:pt x="579" y="4748"/>
                  </a:lnTo>
                  <a:lnTo>
                    <a:pt x="579" y="4748"/>
                  </a:lnTo>
                  <a:lnTo>
                    <a:pt x="1157" y="4748"/>
                  </a:lnTo>
                  <a:lnTo>
                    <a:pt x="1620" y="4980"/>
                  </a:lnTo>
                  <a:lnTo>
                    <a:pt x="2083" y="5211"/>
                  </a:lnTo>
                  <a:lnTo>
                    <a:pt x="2546" y="5559"/>
                  </a:lnTo>
                  <a:lnTo>
                    <a:pt x="3009" y="5790"/>
                  </a:lnTo>
                  <a:lnTo>
                    <a:pt x="3472" y="5790"/>
                  </a:lnTo>
                  <a:lnTo>
                    <a:pt x="3935" y="5675"/>
                  </a:lnTo>
                  <a:lnTo>
                    <a:pt x="4514" y="5327"/>
                  </a:lnTo>
                  <a:lnTo>
                    <a:pt x="4514" y="5327"/>
                  </a:lnTo>
                  <a:lnTo>
                    <a:pt x="4514" y="5211"/>
                  </a:lnTo>
                  <a:lnTo>
                    <a:pt x="4629" y="5096"/>
                  </a:lnTo>
                  <a:lnTo>
                    <a:pt x="4629" y="4980"/>
                  </a:lnTo>
                  <a:lnTo>
                    <a:pt x="4745" y="4980"/>
                  </a:lnTo>
                  <a:lnTo>
                    <a:pt x="4745" y="4864"/>
                  </a:lnTo>
                  <a:lnTo>
                    <a:pt x="4745" y="4748"/>
                  </a:lnTo>
                  <a:lnTo>
                    <a:pt x="4861" y="4632"/>
                  </a:lnTo>
                  <a:lnTo>
                    <a:pt x="4861" y="4517"/>
                  </a:lnTo>
                  <a:lnTo>
                    <a:pt x="4861" y="4517"/>
                  </a:lnTo>
                  <a:lnTo>
                    <a:pt x="4861" y="4401"/>
                  </a:lnTo>
                  <a:lnTo>
                    <a:pt x="4745" y="4285"/>
                  </a:lnTo>
                  <a:lnTo>
                    <a:pt x="4745" y="4169"/>
                  </a:lnTo>
                  <a:lnTo>
                    <a:pt x="4745" y="4053"/>
                  </a:lnTo>
                  <a:lnTo>
                    <a:pt x="4745" y="3937"/>
                  </a:lnTo>
                  <a:lnTo>
                    <a:pt x="4629" y="3822"/>
                  </a:lnTo>
                  <a:lnTo>
                    <a:pt x="4629" y="3706"/>
                  </a:lnTo>
                  <a:lnTo>
                    <a:pt x="4514" y="3706"/>
                  </a:lnTo>
                  <a:lnTo>
                    <a:pt x="4514" y="3706"/>
                  </a:lnTo>
                  <a:lnTo>
                    <a:pt x="6828" y="3127"/>
                  </a:lnTo>
                  <a:lnTo>
                    <a:pt x="9143" y="2664"/>
                  </a:lnTo>
                  <a:lnTo>
                    <a:pt x="11458" y="2316"/>
                  </a:lnTo>
                  <a:lnTo>
                    <a:pt x="13772" y="1853"/>
                  </a:lnTo>
                  <a:lnTo>
                    <a:pt x="15971" y="1390"/>
                  </a:lnTo>
                  <a:lnTo>
                    <a:pt x="18286" y="1042"/>
                  </a:lnTo>
                  <a:lnTo>
                    <a:pt x="20600" y="579"/>
                  </a:lnTo>
                  <a:lnTo>
                    <a:pt x="22799" y="0"/>
                  </a:lnTo>
                  <a:lnTo>
                    <a:pt x="22799" y="0"/>
                  </a:lnTo>
                  <a:lnTo>
                    <a:pt x="22799" y="926"/>
                  </a:lnTo>
                  <a:lnTo>
                    <a:pt x="22799" y="1737"/>
                  </a:lnTo>
                  <a:lnTo>
                    <a:pt x="22799" y="2664"/>
                  </a:lnTo>
                  <a:lnTo>
                    <a:pt x="22799" y="3590"/>
                  </a:lnTo>
                  <a:lnTo>
                    <a:pt x="22915" y="4401"/>
                  </a:lnTo>
                  <a:lnTo>
                    <a:pt x="23031" y="5327"/>
                  </a:lnTo>
                  <a:lnTo>
                    <a:pt x="23147" y="6138"/>
                  </a:lnTo>
                  <a:lnTo>
                    <a:pt x="23378" y="6949"/>
                  </a:lnTo>
                  <a:lnTo>
                    <a:pt x="23378" y="6949"/>
                  </a:lnTo>
                  <a:lnTo>
                    <a:pt x="23378" y="6949"/>
                  </a:lnTo>
                  <a:lnTo>
                    <a:pt x="23378" y="6949"/>
                  </a:lnTo>
                  <a:lnTo>
                    <a:pt x="23378" y="6949"/>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874080" y="4437360"/>
              <a:ext cx="21960" cy="111600"/>
            </a:xfrm>
            <a:custGeom>
              <a:avLst/>
              <a:gdLst/>
              <a:ahLst/>
              <a:rect l="l" t="t" r="r" b="b"/>
              <a:pathLst>
                <a:path w="579" h="2084">
                  <a:moveTo>
                    <a:pt x="579" y="695"/>
                  </a:moveTo>
                  <a:lnTo>
                    <a:pt x="116" y="2084"/>
                  </a:lnTo>
                  <a:lnTo>
                    <a:pt x="116" y="2084"/>
                  </a:lnTo>
                  <a:lnTo>
                    <a:pt x="0" y="1853"/>
                  </a:lnTo>
                  <a:lnTo>
                    <a:pt x="0" y="1621"/>
                  </a:lnTo>
                  <a:lnTo>
                    <a:pt x="0" y="1274"/>
                  </a:lnTo>
                  <a:lnTo>
                    <a:pt x="0" y="1042"/>
                  </a:lnTo>
                  <a:lnTo>
                    <a:pt x="0" y="810"/>
                  </a:lnTo>
                  <a:lnTo>
                    <a:pt x="0" y="579"/>
                  </a:lnTo>
                  <a:lnTo>
                    <a:pt x="0" y="231"/>
                  </a:lnTo>
                  <a:lnTo>
                    <a:pt x="116" y="0"/>
                  </a:lnTo>
                  <a:lnTo>
                    <a:pt x="116" y="0"/>
                  </a:lnTo>
                  <a:lnTo>
                    <a:pt x="232" y="0"/>
                  </a:lnTo>
                  <a:lnTo>
                    <a:pt x="348" y="116"/>
                  </a:lnTo>
                  <a:lnTo>
                    <a:pt x="348" y="116"/>
                  </a:lnTo>
                  <a:lnTo>
                    <a:pt x="463" y="231"/>
                  </a:lnTo>
                  <a:lnTo>
                    <a:pt x="463" y="347"/>
                  </a:lnTo>
                  <a:lnTo>
                    <a:pt x="463" y="463"/>
                  </a:lnTo>
                  <a:lnTo>
                    <a:pt x="463" y="579"/>
                  </a:lnTo>
                  <a:lnTo>
                    <a:pt x="579" y="695"/>
                  </a:lnTo>
                  <a:lnTo>
                    <a:pt x="579" y="695"/>
                  </a:lnTo>
                  <a:lnTo>
                    <a:pt x="579" y="695"/>
                  </a:lnTo>
                  <a:lnTo>
                    <a:pt x="579" y="695"/>
                  </a:lnTo>
                  <a:lnTo>
                    <a:pt x="579"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0760" y="4654800"/>
              <a:ext cx="154800" cy="105480"/>
            </a:xfrm>
            <a:custGeom>
              <a:avLst/>
              <a:gdLst/>
              <a:ahLst/>
              <a:rect l="l" t="t" r="r" b="b"/>
              <a:pathLst>
                <a:path w="4050" h="1969">
                  <a:moveTo>
                    <a:pt x="1157" y="1274"/>
                  </a:moveTo>
                  <a:lnTo>
                    <a:pt x="1157" y="1158"/>
                  </a:lnTo>
                  <a:lnTo>
                    <a:pt x="1157" y="1042"/>
                  </a:lnTo>
                  <a:lnTo>
                    <a:pt x="1041" y="1042"/>
                  </a:lnTo>
                  <a:lnTo>
                    <a:pt x="1041" y="927"/>
                  </a:lnTo>
                  <a:lnTo>
                    <a:pt x="1041" y="811"/>
                  </a:lnTo>
                  <a:lnTo>
                    <a:pt x="925" y="695"/>
                  </a:lnTo>
                  <a:lnTo>
                    <a:pt x="925" y="579"/>
                  </a:lnTo>
                  <a:lnTo>
                    <a:pt x="925" y="463"/>
                  </a:lnTo>
                  <a:lnTo>
                    <a:pt x="925" y="463"/>
                  </a:lnTo>
                  <a:lnTo>
                    <a:pt x="1157" y="463"/>
                  </a:lnTo>
                  <a:lnTo>
                    <a:pt x="1273" y="579"/>
                  </a:lnTo>
                  <a:lnTo>
                    <a:pt x="1388" y="695"/>
                  </a:lnTo>
                  <a:lnTo>
                    <a:pt x="1504" y="927"/>
                  </a:lnTo>
                  <a:lnTo>
                    <a:pt x="1620" y="1042"/>
                  </a:lnTo>
                  <a:lnTo>
                    <a:pt x="1620" y="1158"/>
                  </a:lnTo>
                  <a:lnTo>
                    <a:pt x="1851" y="1274"/>
                  </a:lnTo>
                  <a:lnTo>
                    <a:pt x="1967" y="1390"/>
                  </a:lnTo>
                  <a:lnTo>
                    <a:pt x="1967" y="1390"/>
                  </a:lnTo>
                  <a:lnTo>
                    <a:pt x="1851" y="1274"/>
                  </a:lnTo>
                  <a:lnTo>
                    <a:pt x="1851" y="1158"/>
                  </a:lnTo>
                  <a:lnTo>
                    <a:pt x="1851" y="1042"/>
                  </a:lnTo>
                  <a:lnTo>
                    <a:pt x="1736" y="927"/>
                  </a:lnTo>
                  <a:lnTo>
                    <a:pt x="1736" y="811"/>
                  </a:lnTo>
                  <a:lnTo>
                    <a:pt x="1736" y="695"/>
                  </a:lnTo>
                  <a:lnTo>
                    <a:pt x="1620" y="579"/>
                  </a:lnTo>
                  <a:lnTo>
                    <a:pt x="1620" y="463"/>
                  </a:lnTo>
                  <a:lnTo>
                    <a:pt x="1620" y="463"/>
                  </a:lnTo>
                  <a:lnTo>
                    <a:pt x="1851" y="463"/>
                  </a:lnTo>
                  <a:lnTo>
                    <a:pt x="1967" y="579"/>
                  </a:lnTo>
                  <a:lnTo>
                    <a:pt x="2083" y="811"/>
                  </a:lnTo>
                  <a:lnTo>
                    <a:pt x="2083" y="927"/>
                  </a:lnTo>
                  <a:lnTo>
                    <a:pt x="2198" y="1158"/>
                  </a:lnTo>
                  <a:lnTo>
                    <a:pt x="2314" y="1274"/>
                  </a:lnTo>
                  <a:lnTo>
                    <a:pt x="2546" y="1274"/>
                  </a:lnTo>
                  <a:lnTo>
                    <a:pt x="2777" y="1274"/>
                  </a:lnTo>
                  <a:lnTo>
                    <a:pt x="2777" y="1274"/>
                  </a:lnTo>
                  <a:lnTo>
                    <a:pt x="2661" y="1158"/>
                  </a:lnTo>
                  <a:lnTo>
                    <a:pt x="2661" y="1042"/>
                  </a:lnTo>
                  <a:lnTo>
                    <a:pt x="2661" y="1042"/>
                  </a:lnTo>
                  <a:lnTo>
                    <a:pt x="2546" y="927"/>
                  </a:lnTo>
                  <a:lnTo>
                    <a:pt x="2546" y="811"/>
                  </a:lnTo>
                  <a:lnTo>
                    <a:pt x="2430" y="695"/>
                  </a:lnTo>
                  <a:lnTo>
                    <a:pt x="2430" y="695"/>
                  </a:lnTo>
                  <a:lnTo>
                    <a:pt x="2430" y="579"/>
                  </a:lnTo>
                  <a:lnTo>
                    <a:pt x="2430" y="579"/>
                  </a:lnTo>
                  <a:lnTo>
                    <a:pt x="2546" y="579"/>
                  </a:lnTo>
                  <a:lnTo>
                    <a:pt x="2777" y="695"/>
                  </a:lnTo>
                  <a:lnTo>
                    <a:pt x="2777" y="811"/>
                  </a:lnTo>
                  <a:lnTo>
                    <a:pt x="2893" y="927"/>
                  </a:lnTo>
                  <a:lnTo>
                    <a:pt x="3009" y="1042"/>
                  </a:lnTo>
                  <a:lnTo>
                    <a:pt x="3124" y="1158"/>
                  </a:lnTo>
                  <a:lnTo>
                    <a:pt x="3356" y="1158"/>
                  </a:lnTo>
                  <a:lnTo>
                    <a:pt x="3471" y="1042"/>
                  </a:lnTo>
                  <a:lnTo>
                    <a:pt x="3471" y="1042"/>
                  </a:lnTo>
                  <a:lnTo>
                    <a:pt x="3471" y="1042"/>
                  </a:lnTo>
                  <a:lnTo>
                    <a:pt x="3356" y="927"/>
                  </a:lnTo>
                  <a:lnTo>
                    <a:pt x="3240" y="811"/>
                  </a:lnTo>
                  <a:lnTo>
                    <a:pt x="3124" y="695"/>
                  </a:lnTo>
                  <a:lnTo>
                    <a:pt x="3009" y="579"/>
                  </a:lnTo>
                  <a:lnTo>
                    <a:pt x="3009" y="463"/>
                  </a:lnTo>
                  <a:lnTo>
                    <a:pt x="3009" y="348"/>
                  </a:lnTo>
                  <a:lnTo>
                    <a:pt x="3009" y="232"/>
                  </a:lnTo>
                  <a:lnTo>
                    <a:pt x="3009" y="232"/>
                  </a:lnTo>
                  <a:lnTo>
                    <a:pt x="3124" y="348"/>
                  </a:lnTo>
                  <a:lnTo>
                    <a:pt x="3240" y="348"/>
                  </a:lnTo>
                  <a:lnTo>
                    <a:pt x="3356" y="463"/>
                  </a:lnTo>
                  <a:lnTo>
                    <a:pt x="3471" y="579"/>
                  </a:lnTo>
                  <a:lnTo>
                    <a:pt x="3587" y="695"/>
                  </a:lnTo>
                  <a:lnTo>
                    <a:pt x="3819" y="811"/>
                  </a:lnTo>
                  <a:lnTo>
                    <a:pt x="3934" y="811"/>
                  </a:lnTo>
                  <a:lnTo>
                    <a:pt x="4050" y="927"/>
                  </a:lnTo>
                  <a:lnTo>
                    <a:pt x="4050" y="927"/>
                  </a:lnTo>
                  <a:lnTo>
                    <a:pt x="3934" y="1042"/>
                  </a:lnTo>
                  <a:lnTo>
                    <a:pt x="3819" y="1042"/>
                  </a:lnTo>
                  <a:lnTo>
                    <a:pt x="3703" y="1158"/>
                  </a:lnTo>
                  <a:lnTo>
                    <a:pt x="3587" y="1158"/>
                  </a:lnTo>
                  <a:lnTo>
                    <a:pt x="3471" y="1158"/>
                  </a:lnTo>
                  <a:lnTo>
                    <a:pt x="3356" y="1158"/>
                  </a:lnTo>
                  <a:lnTo>
                    <a:pt x="3356" y="1274"/>
                  </a:lnTo>
                  <a:lnTo>
                    <a:pt x="3471" y="1390"/>
                  </a:lnTo>
                  <a:lnTo>
                    <a:pt x="3471" y="1390"/>
                  </a:lnTo>
                  <a:lnTo>
                    <a:pt x="3009" y="1506"/>
                  </a:lnTo>
                  <a:lnTo>
                    <a:pt x="3009" y="1506"/>
                  </a:lnTo>
                  <a:lnTo>
                    <a:pt x="2893" y="1621"/>
                  </a:lnTo>
                  <a:lnTo>
                    <a:pt x="2777" y="1737"/>
                  </a:lnTo>
                  <a:lnTo>
                    <a:pt x="2661" y="1737"/>
                  </a:lnTo>
                  <a:lnTo>
                    <a:pt x="2546" y="1853"/>
                  </a:lnTo>
                  <a:lnTo>
                    <a:pt x="2314" y="1853"/>
                  </a:lnTo>
                  <a:lnTo>
                    <a:pt x="2198" y="1853"/>
                  </a:lnTo>
                  <a:lnTo>
                    <a:pt x="1967" y="1969"/>
                  </a:lnTo>
                  <a:lnTo>
                    <a:pt x="1851" y="1969"/>
                  </a:lnTo>
                  <a:lnTo>
                    <a:pt x="1851" y="1969"/>
                  </a:lnTo>
                  <a:lnTo>
                    <a:pt x="1736" y="1969"/>
                  </a:lnTo>
                  <a:lnTo>
                    <a:pt x="1504" y="1969"/>
                  </a:lnTo>
                  <a:lnTo>
                    <a:pt x="1273" y="1853"/>
                  </a:lnTo>
                  <a:lnTo>
                    <a:pt x="1157" y="1737"/>
                  </a:lnTo>
                  <a:lnTo>
                    <a:pt x="925" y="1621"/>
                  </a:lnTo>
                  <a:lnTo>
                    <a:pt x="810" y="1506"/>
                  </a:lnTo>
                  <a:lnTo>
                    <a:pt x="694" y="1390"/>
                  </a:lnTo>
                  <a:lnTo>
                    <a:pt x="462" y="1274"/>
                  </a:lnTo>
                  <a:lnTo>
                    <a:pt x="462" y="1274"/>
                  </a:lnTo>
                  <a:lnTo>
                    <a:pt x="347" y="1158"/>
                  </a:lnTo>
                  <a:lnTo>
                    <a:pt x="231" y="927"/>
                  </a:lnTo>
                  <a:lnTo>
                    <a:pt x="231" y="811"/>
                  </a:lnTo>
                  <a:lnTo>
                    <a:pt x="115" y="579"/>
                  </a:lnTo>
                  <a:lnTo>
                    <a:pt x="0" y="463"/>
                  </a:lnTo>
                  <a:lnTo>
                    <a:pt x="0" y="232"/>
                  </a:lnTo>
                  <a:lnTo>
                    <a:pt x="0" y="116"/>
                  </a:lnTo>
                  <a:lnTo>
                    <a:pt x="0" y="0"/>
                  </a:lnTo>
                  <a:lnTo>
                    <a:pt x="0" y="0"/>
                  </a:lnTo>
                  <a:lnTo>
                    <a:pt x="115" y="116"/>
                  </a:lnTo>
                  <a:lnTo>
                    <a:pt x="231" y="348"/>
                  </a:lnTo>
                  <a:lnTo>
                    <a:pt x="347" y="463"/>
                  </a:lnTo>
                  <a:lnTo>
                    <a:pt x="462" y="695"/>
                  </a:lnTo>
                  <a:lnTo>
                    <a:pt x="578" y="811"/>
                  </a:lnTo>
                  <a:lnTo>
                    <a:pt x="810" y="1042"/>
                  </a:lnTo>
                  <a:lnTo>
                    <a:pt x="925" y="1158"/>
                  </a:lnTo>
                  <a:lnTo>
                    <a:pt x="1157" y="1274"/>
                  </a:lnTo>
                  <a:lnTo>
                    <a:pt x="1157" y="1274"/>
                  </a:lnTo>
                  <a:lnTo>
                    <a:pt x="1157" y="1274"/>
                  </a:lnTo>
                  <a:lnTo>
                    <a:pt x="1157" y="1274"/>
                  </a:lnTo>
                  <a:lnTo>
                    <a:pt x="1157"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32240" y="4654800"/>
              <a:ext cx="39600" cy="43200"/>
            </a:xfrm>
            <a:custGeom>
              <a:avLst/>
              <a:gdLst/>
              <a:ahLst/>
              <a:rect l="l" t="t" r="r" b="b"/>
              <a:pathLst>
                <a:path w="1042" h="811">
                  <a:moveTo>
                    <a:pt x="1042" y="811"/>
                  </a:moveTo>
                  <a:lnTo>
                    <a:pt x="926" y="811"/>
                  </a:lnTo>
                  <a:lnTo>
                    <a:pt x="810" y="811"/>
                  </a:lnTo>
                  <a:lnTo>
                    <a:pt x="694" y="811"/>
                  </a:lnTo>
                  <a:lnTo>
                    <a:pt x="579" y="811"/>
                  </a:lnTo>
                  <a:lnTo>
                    <a:pt x="463" y="695"/>
                  </a:lnTo>
                  <a:lnTo>
                    <a:pt x="347" y="695"/>
                  </a:lnTo>
                  <a:lnTo>
                    <a:pt x="231" y="579"/>
                  </a:lnTo>
                  <a:lnTo>
                    <a:pt x="116" y="579"/>
                  </a:lnTo>
                  <a:lnTo>
                    <a:pt x="116" y="579"/>
                  </a:lnTo>
                  <a:lnTo>
                    <a:pt x="0" y="0"/>
                  </a:lnTo>
                  <a:lnTo>
                    <a:pt x="0" y="0"/>
                  </a:lnTo>
                  <a:lnTo>
                    <a:pt x="116" y="116"/>
                  </a:lnTo>
                  <a:lnTo>
                    <a:pt x="231" y="232"/>
                  </a:lnTo>
                  <a:lnTo>
                    <a:pt x="463" y="348"/>
                  </a:lnTo>
                  <a:lnTo>
                    <a:pt x="694" y="348"/>
                  </a:lnTo>
                  <a:lnTo>
                    <a:pt x="810" y="348"/>
                  </a:lnTo>
                  <a:lnTo>
                    <a:pt x="926" y="463"/>
                  </a:lnTo>
                  <a:lnTo>
                    <a:pt x="1042" y="579"/>
                  </a:lnTo>
                  <a:lnTo>
                    <a:pt x="1042" y="811"/>
                  </a:lnTo>
                  <a:lnTo>
                    <a:pt x="1042" y="811"/>
                  </a:lnTo>
                  <a:lnTo>
                    <a:pt x="1042" y="811"/>
                  </a:lnTo>
                  <a:lnTo>
                    <a:pt x="1042" y="811"/>
                  </a:lnTo>
                  <a:lnTo>
                    <a:pt x="1042" y="8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8" name=""/>
            <p:cNvSpPr/>
            <p:nvPr/>
          </p:nvSpPr>
          <p:spPr>
            <a:xfrm>
              <a:off x="1015560" y="4661280"/>
              <a:ext cx="48600" cy="553320"/>
            </a:xfrm>
            <a:custGeom>
              <a:avLst/>
              <a:gdLst/>
              <a:ahLst/>
              <a:rect l="l" t="t" r="r" b="b"/>
              <a:pathLst>
                <a:path w="1273" h="10307">
                  <a:moveTo>
                    <a:pt x="1273" y="116"/>
                  </a:moveTo>
                  <a:lnTo>
                    <a:pt x="1273" y="1274"/>
                  </a:lnTo>
                  <a:lnTo>
                    <a:pt x="1157" y="2548"/>
                  </a:lnTo>
                  <a:lnTo>
                    <a:pt x="1157" y="3706"/>
                  </a:lnTo>
                  <a:lnTo>
                    <a:pt x="1041" y="4980"/>
                  </a:lnTo>
                  <a:lnTo>
                    <a:pt x="926" y="6254"/>
                  </a:lnTo>
                  <a:lnTo>
                    <a:pt x="810" y="7528"/>
                  </a:lnTo>
                  <a:lnTo>
                    <a:pt x="694" y="8917"/>
                  </a:lnTo>
                  <a:lnTo>
                    <a:pt x="694" y="10191"/>
                  </a:lnTo>
                  <a:lnTo>
                    <a:pt x="694" y="10191"/>
                  </a:lnTo>
                  <a:lnTo>
                    <a:pt x="578" y="10191"/>
                  </a:lnTo>
                  <a:lnTo>
                    <a:pt x="463" y="10191"/>
                  </a:lnTo>
                  <a:lnTo>
                    <a:pt x="347" y="10191"/>
                  </a:lnTo>
                  <a:lnTo>
                    <a:pt x="347" y="10307"/>
                  </a:lnTo>
                  <a:lnTo>
                    <a:pt x="231" y="10307"/>
                  </a:lnTo>
                  <a:lnTo>
                    <a:pt x="116" y="10307"/>
                  </a:lnTo>
                  <a:lnTo>
                    <a:pt x="116" y="10307"/>
                  </a:lnTo>
                  <a:lnTo>
                    <a:pt x="0" y="10307"/>
                  </a:lnTo>
                  <a:lnTo>
                    <a:pt x="0" y="10307"/>
                  </a:lnTo>
                  <a:lnTo>
                    <a:pt x="0" y="9033"/>
                  </a:lnTo>
                  <a:lnTo>
                    <a:pt x="116" y="7759"/>
                  </a:lnTo>
                  <a:lnTo>
                    <a:pt x="231" y="6485"/>
                  </a:lnTo>
                  <a:lnTo>
                    <a:pt x="347" y="5211"/>
                  </a:lnTo>
                  <a:lnTo>
                    <a:pt x="463" y="4053"/>
                  </a:lnTo>
                  <a:lnTo>
                    <a:pt x="578" y="2779"/>
                  </a:lnTo>
                  <a:lnTo>
                    <a:pt x="694" y="1505"/>
                  </a:lnTo>
                  <a:lnTo>
                    <a:pt x="926" y="232"/>
                  </a:lnTo>
                  <a:lnTo>
                    <a:pt x="926" y="232"/>
                  </a:lnTo>
                  <a:lnTo>
                    <a:pt x="926" y="232"/>
                  </a:lnTo>
                  <a:lnTo>
                    <a:pt x="926" y="232"/>
                  </a:lnTo>
                  <a:lnTo>
                    <a:pt x="810" y="232"/>
                  </a:lnTo>
                  <a:lnTo>
                    <a:pt x="810" y="232"/>
                  </a:lnTo>
                  <a:lnTo>
                    <a:pt x="810" y="232"/>
                  </a:lnTo>
                  <a:lnTo>
                    <a:pt x="694" y="232"/>
                  </a:lnTo>
                  <a:lnTo>
                    <a:pt x="694" y="232"/>
                  </a:lnTo>
                  <a:lnTo>
                    <a:pt x="694" y="116"/>
                  </a:lnTo>
                  <a:lnTo>
                    <a:pt x="694" y="116"/>
                  </a:lnTo>
                  <a:lnTo>
                    <a:pt x="694" y="116"/>
                  </a:lnTo>
                  <a:lnTo>
                    <a:pt x="810" y="116"/>
                  </a:lnTo>
                  <a:lnTo>
                    <a:pt x="810" y="0"/>
                  </a:lnTo>
                  <a:lnTo>
                    <a:pt x="926" y="0"/>
                  </a:lnTo>
                  <a:lnTo>
                    <a:pt x="1041" y="116"/>
                  </a:lnTo>
                  <a:lnTo>
                    <a:pt x="1157" y="116"/>
                  </a:lnTo>
                  <a:lnTo>
                    <a:pt x="1273" y="116"/>
                  </a:lnTo>
                  <a:lnTo>
                    <a:pt x="1273" y="116"/>
                  </a:lnTo>
                  <a:lnTo>
                    <a:pt x="1273" y="116"/>
                  </a:lnTo>
                  <a:lnTo>
                    <a:pt x="1273" y="116"/>
                  </a:lnTo>
                  <a:lnTo>
                    <a:pt x="1273" y="116"/>
                  </a:lnTo>
                  <a:lnTo>
                    <a:pt x="1273"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88920" y="4679640"/>
              <a:ext cx="48600" cy="528480"/>
            </a:xfrm>
            <a:custGeom>
              <a:avLst/>
              <a:gdLst/>
              <a:ahLst/>
              <a:rect l="l" t="t" r="r" b="b"/>
              <a:pathLst>
                <a:path w="1273" h="9844">
                  <a:moveTo>
                    <a:pt x="1273" y="0"/>
                  </a:moveTo>
                  <a:lnTo>
                    <a:pt x="1042" y="1158"/>
                  </a:lnTo>
                  <a:lnTo>
                    <a:pt x="926" y="2432"/>
                  </a:lnTo>
                  <a:lnTo>
                    <a:pt x="811" y="3590"/>
                  </a:lnTo>
                  <a:lnTo>
                    <a:pt x="695" y="4864"/>
                  </a:lnTo>
                  <a:lnTo>
                    <a:pt x="579" y="6138"/>
                  </a:lnTo>
                  <a:lnTo>
                    <a:pt x="463" y="7412"/>
                  </a:lnTo>
                  <a:lnTo>
                    <a:pt x="463" y="8570"/>
                  </a:lnTo>
                  <a:lnTo>
                    <a:pt x="348" y="9844"/>
                  </a:lnTo>
                  <a:lnTo>
                    <a:pt x="348" y="9844"/>
                  </a:lnTo>
                  <a:lnTo>
                    <a:pt x="463" y="9844"/>
                  </a:lnTo>
                  <a:lnTo>
                    <a:pt x="463" y="9844"/>
                  </a:lnTo>
                  <a:lnTo>
                    <a:pt x="348" y="9844"/>
                  </a:lnTo>
                  <a:lnTo>
                    <a:pt x="348" y="9728"/>
                  </a:lnTo>
                  <a:lnTo>
                    <a:pt x="232" y="9728"/>
                  </a:lnTo>
                  <a:lnTo>
                    <a:pt x="116" y="9728"/>
                  </a:lnTo>
                  <a:lnTo>
                    <a:pt x="0" y="9844"/>
                  </a:lnTo>
                  <a:lnTo>
                    <a:pt x="0" y="9844"/>
                  </a:lnTo>
                  <a:lnTo>
                    <a:pt x="0" y="9844"/>
                  </a:lnTo>
                  <a:lnTo>
                    <a:pt x="0" y="8570"/>
                  </a:lnTo>
                  <a:lnTo>
                    <a:pt x="116" y="7412"/>
                  </a:lnTo>
                  <a:lnTo>
                    <a:pt x="116" y="6254"/>
                  </a:lnTo>
                  <a:lnTo>
                    <a:pt x="232" y="4980"/>
                  </a:lnTo>
                  <a:lnTo>
                    <a:pt x="348" y="3822"/>
                  </a:lnTo>
                  <a:lnTo>
                    <a:pt x="463" y="2548"/>
                  </a:lnTo>
                  <a:lnTo>
                    <a:pt x="579" y="1390"/>
                  </a:lnTo>
                  <a:lnTo>
                    <a:pt x="811" y="232"/>
                  </a:lnTo>
                  <a:lnTo>
                    <a:pt x="811" y="232"/>
                  </a:lnTo>
                  <a:lnTo>
                    <a:pt x="926" y="232"/>
                  </a:lnTo>
                  <a:lnTo>
                    <a:pt x="926" y="116"/>
                  </a:lnTo>
                  <a:lnTo>
                    <a:pt x="1042" y="116"/>
                  </a:lnTo>
                  <a:lnTo>
                    <a:pt x="1042" y="116"/>
                  </a:lnTo>
                  <a:lnTo>
                    <a:pt x="1042" y="0"/>
                  </a:lnTo>
                  <a:lnTo>
                    <a:pt x="1158" y="0"/>
                  </a:lnTo>
                  <a:lnTo>
                    <a:pt x="1158" y="0"/>
                  </a:lnTo>
                  <a:lnTo>
                    <a:pt x="1273" y="0"/>
                  </a:lnTo>
                  <a:lnTo>
                    <a:pt x="1273" y="0"/>
                  </a:lnTo>
                  <a:lnTo>
                    <a:pt x="1273" y="0"/>
                  </a:lnTo>
                  <a:lnTo>
                    <a:pt x="1273" y="0"/>
                  </a:lnTo>
                  <a:lnTo>
                    <a:pt x="1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953640" y="4698360"/>
              <a:ext cx="48600" cy="472320"/>
            </a:xfrm>
            <a:custGeom>
              <a:avLst/>
              <a:gdLst/>
              <a:ahLst/>
              <a:rect l="l" t="t" r="r" b="b"/>
              <a:pathLst>
                <a:path w="1273" h="8801">
                  <a:moveTo>
                    <a:pt x="578" y="8801"/>
                  </a:moveTo>
                  <a:lnTo>
                    <a:pt x="462" y="8801"/>
                  </a:lnTo>
                  <a:lnTo>
                    <a:pt x="462" y="8801"/>
                  </a:lnTo>
                  <a:lnTo>
                    <a:pt x="347" y="8801"/>
                  </a:lnTo>
                  <a:lnTo>
                    <a:pt x="231" y="8801"/>
                  </a:lnTo>
                  <a:lnTo>
                    <a:pt x="231" y="8801"/>
                  </a:lnTo>
                  <a:lnTo>
                    <a:pt x="115" y="8801"/>
                  </a:lnTo>
                  <a:lnTo>
                    <a:pt x="0" y="8801"/>
                  </a:lnTo>
                  <a:lnTo>
                    <a:pt x="0" y="8801"/>
                  </a:lnTo>
                  <a:lnTo>
                    <a:pt x="0" y="8801"/>
                  </a:lnTo>
                  <a:lnTo>
                    <a:pt x="115" y="7643"/>
                  </a:lnTo>
                  <a:lnTo>
                    <a:pt x="231" y="6485"/>
                  </a:lnTo>
                  <a:lnTo>
                    <a:pt x="347" y="5443"/>
                  </a:lnTo>
                  <a:lnTo>
                    <a:pt x="462" y="4285"/>
                  </a:lnTo>
                  <a:lnTo>
                    <a:pt x="694" y="3127"/>
                  </a:lnTo>
                  <a:lnTo>
                    <a:pt x="925" y="2084"/>
                  </a:lnTo>
                  <a:lnTo>
                    <a:pt x="1041" y="1042"/>
                  </a:lnTo>
                  <a:lnTo>
                    <a:pt x="1273" y="0"/>
                  </a:lnTo>
                  <a:lnTo>
                    <a:pt x="1273" y="0"/>
                  </a:lnTo>
                  <a:lnTo>
                    <a:pt x="1157" y="1042"/>
                  </a:lnTo>
                  <a:lnTo>
                    <a:pt x="1041" y="2200"/>
                  </a:lnTo>
                  <a:lnTo>
                    <a:pt x="925" y="3242"/>
                  </a:lnTo>
                  <a:lnTo>
                    <a:pt x="810" y="4401"/>
                  </a:lnTo>
                  <a:lnTo>
                    <a:pt x="810" y="5443"/>
                  </a:lnTo>
                  <a:lnTo>
                    <a:pt x="694" y="6485"/>
                  </a:lnTo>
                  <a:lnTo>
                    <a:pt x="694" y="7643"/>
                  </a:lnTo>
                  <a:lnTo>
                    <a:pt x="578" y="8801"/>
                  </a:lnTo>
                  <a:lnTo>
                    <a:pt x="578" y="8801"/>
                  </a:lnTo>
                  <a:lnTo>
                    <a:pt x="578" y="8801"/>
                  </a:lnTo>
                  <a:lnTo>
                    <a:pt x="578" y="8801"/>
                  </a:lnTo>
                  <a:lnTo>
                    <a:pt x="578" y="88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719000" y="4860000"/>
              <a:ext cx="282960" cy="945000"/>
            </a:xfrm>
            <a:custGeom>
              <a:avLst/>
              <a:gdLst/>
              <a:ahLst/>
              <a:rect l="l" t="t" r="r" b="b"/>
              <a:pathLst>
                <a:path w="7407" h="17603">
                  <a:moveTo>
                    <a:pt x="3356" y="0"/>
                  </a:moveTo>
                  <a:lnTo>
                    <a:pt x="3588" y="463"/>
                  </a:lnTo>
                  <a:lnTo>
                    <a:pt x="3935" y="1042"/>
                  </a:lnTo>
                  <a:lnTo>
                    <a:pt x="4282" y="1505"/>
                  </a:lnTo>
                  <a:lnTo>
                    <a:pt x="4630" y="1969"/>
                  </a:lnTo>
                  <a:lnTo>
                    <a:pt x="4861" y="2432"/>
                  </a:lnTo>
                  <a:lnTo>
                    <a:pt x="5208" y="2895"/>
                  </a:lnTo>
                  <a:lnTo>
                    <a:pt x="5440" y="3358"/>
                  </a:lnTo>
                  <a:lnTo>
                    <a:pt x="5555" y="3937"/>
                  </a:lnTo>
                  <a:lnTo>
                    <a:pt x="5555" y="3937"/>
                  </a:lnTo>
                  <a:lnTo>
                    <a:pt x="5555" y="4632"/>
                  </a:lnTo>
                  <a:lnTo>
                    <a:pt x="5324" y="5443"/>
                  </a:lnTo>
                  <a:lnTo>
                    <a:pt x="5208" y="6254"/>
                  </a:lnTo>
                  <a:lnTo>
                    <a:pt x="4977" y="7064"/>
                  </a:lnTo>
                  <a:lnTo>
                    <a:pt x="4861" y="7875"/>
                  </a:lnTo>
                  <a:lnTo>
                    <a:pt x="4745" y="8686"/>
                  </a:lnTo>
                  <a:lnTo>
                    <a:pt x="4630" y="9496"/>
                  </a:lnTo>
                  <a:lnTo>
                    <a:pt x="4514" y="10307"/>
                  </a:lnTo>
                  <a:lnTo>
                    <a:pt x="4514" y="10307"/>
                  </a:lnTo>
                  <a:lnTo>
                    <a:pt x="4630" y="10654"/>
                  </a:lnTo>
                  <a:lnTo>
                    <a:pt x="4861" y="10886"/>
                  </a:lnTo>
                  <a:lnTo>
                    <a:pt x="5092" y="11118"/>
                  </a:lnTo>
                  <a:lnTo>
                    <a:pt x="5208" y="11349"/>
                  </a:lnTo>
                  <a:lnTo>
                    <a:pt x="5440" y="11697"/>
                  </a:lnTo>
                  <a:lnTo>
                    <a:pt x="5555" y="11928"/>
                  </a:lnTo>
                  <a:lnTo>
                    <a:pt x="5787" y="12160"/>
                  </a:lnTo>
                  <a:lnTo>
                    <a:pt x="5903" y="12507"/>
                  </a:lnTo>
                  <a:lnTo>
                    <a:pt x="5903" y="12507"/>
                  </a:lnTo>
                  <a:lnTo>
                    <a:pt x="5440" y="12507"/>
                  </a:lnTo>
                  <a:lnTo>
                    <a:pt x="5208" y="12623"/>
                  </a:lnTo>
                  <a:lnTo>
                    <a:pt x="4861" y="12739"/>
                  </a:lnTo>
                  <a:lnTo>
                    <a:pt x="4514" y="12739"/>
                  </a:lnTo>
                  <a:lnTo>
                    <a:pt x="4167" y="12855"/>
                  </a:lnTo>
                  <a:lnTo>
                    <a:pt x="3935" y="13086"/>
                  </a:lnTo>
                  <a:lnTo>
                    <a:pt x="3588" y="13202"/>
                  </a:lnTo>
                  <a:lnTo>
                    <a:pt x="3356" y="13434"/>
                  </a:lnTo>
                  <a:lnTo>
                    <a:pt x="3356" y="13434"/>
                  </a:lnTo>
                  <a:lnTo>
                    <a:pt x="3704" y="13318"/>
                  </a:lnTo>
                  <a:lnTo>
                    <a:pt x="4051" y="13318"/>
                  </a:lnTo>
                  <a:lnTo>
                    <a:pt x="4398" y="13202"/>
                  </a:lnTo>
                  <a:lnTo>
                    <a:pt x="4745" y="13086"/>
                  </a:lnTo>
                  <a:lnTo>
                    <a:pt x="5092" y="13086"/>
                  </a:lnTo>
                  <a:lnTo>
                    <a:pt x="5440" y="12971"/>
                  </a:lnTo>
                  <a:lnTo>
                    <a:pt x="5787" y="12971"/>
                  </a:lnTo>
                  <a:lnTo>
                    <a:pt x="6134" y="12971"/>
                  </a:lnTo>
                  <a:lnTo>
                    <a:pt x="6134" y="12971"/>
                  </a:lnTo>
                  <a:lnTo>
                    <a:pt x="6134" y="13086"/>
                  </a:lnTo>
                  <a:lnTo>
                    <a:pt x="6134" y="13086"/>
                  </a:lnTo>
                  <a:lnTo>
                    <a:pt x="6134" y="13086"/>
                  </a:lnTo>
                  <a:lnTo>
                    <a:pt x="6250" y="13086"/>
                  </a:lnTo>
                  <a:lnTo>
                    <a:pt x="6250" y="13202"/>
                  </a:lnTo>
                  <a:lnTo>
                    <a:pt x="6250" y="13202"/>
                  </a:lnTo>
                  <a:lnTo>
                    <a:pt x="6250" y="13202"/>
                  </a:lnTo>
                  <a:lnTo>
                    <a:pt x="6250" y="13318"/>
                  </a:lnTo>
                  <a:lnTo>
                    <a:pt x="6250" y="13318"/>
                  </a:lnTo>
                  <a:lnTo>
                    <a:pt x="5903" y="13318"/>
                  </a:lnTo>
                  <a:lnTo>
                    <a:pt x="5555" y="13318"/>
                  </a:lnTo>
                  <a:lnTo>
                    <a:pt x="5324" y="13434"/>
                  </a:lnTo>
                  <a:lnTo>
                    <a:pt x="5092" y="13550"/>
                  </a:lnTo>
                  <a:lnTo>
                    <a:pt x="4745" y="13781"/>
                  </a:lnTo>
                  <a:lnTo>
                    <a:pt x="4514" y="13897"/>
                  </a:lnTo>
                  <a:lnTo>
                    <a:pt x="4282" y="14129"/>
                  </a:lnTo>
                  <a:lnTo>
                    <a:pt x="4051" y="14244"/>
                  </a:lnTo>
                  <a:lnTo>
                    <a:pt x="4051" y="14244"/>
                  </a:lnTo>
                  <a:lnTo>
                    <a:pt x="4167" y="14244"/>
                  </a:lnTo>
                  <a:lnTo>
                    <a:pt x="4282" y="14244"/>
                  </a:lnTo>
                  <a:lnTo>
                    <a:pt x="4514" y="14244"/>
                  </a:lnTo>
                  <a:lnTo>
                    <a:pt x="4630" y="14129"/>
                  </a:lnTo>
                  <a:lnTo>
                    <a:pt x="4745" y="14013"/>
                  </a:lnTo>
                  <a:lnTo>
                    <a:pt x="4861" y="14013"/>
                  </a:lnTo>
                  <a:lnTo>
                    <a:pt x="5092" y="14013"/>
                  </a:lnTo>
                  <a:lnTo>
                    <a:pt x="5208" y="13897"/>
                  </a:lnTo>
                  <a:lnTo>
                    <a:pt x="5208" y="13897"/>
                  </a:lnTo>
                  <a:lnTo>
                    <a:pt x="5440" y="13897"/>
                  </a:lnTo>
                  <a:lnTo>
                    <a:pt x="5555" y="13897"/>
                  </a:lnTo>
                  <a:lnTo>
                    <a:pt x="5787" y="13897"/>
                  </a:lnTo>
                  <a:lnTo>
                    <a:pt x="6018" y="13781"/>
                  </a:lnTo>
                  <a:lnTo>
                    <a:pt x="6134" y="13781"/>
                  </a:lnTo>
                  <a:lnTo>
                    <a:pt x="6366" y="13781"/>
                  </a:lnTo>
                  <a:lnTo>
                    <a:pt x="6481" y="13781"/>
                  </a:lnTo>
                  <a:lnTo>
                    <a:pt x="6713" y="13781"/>
                  </a:lnTo>
                  <a:lnTo>
                    <a:pt x="6713" y="13781"/>
                  </a:lnTo>
                  <a:lnTo>
                    <a:pt x="6828" y="14244"/>
                  </a:lnTo>
                  <a:lnTo>
                    <a:pt x="7060" y="14592"/>
                  </a:lnTo>
                  <a:lnTo>
                    <a:pt x="7176" y="15055"/>
                  </a:lnTo>
                  <a:lnTo>
                    <a:pt x="7291" y="15518"/>
                  </a:lnTo>
                  <a:lnTo>
                    <a:pt x="7407" y="15982"/>
                  </a:lnTo>
                  <a:lnTo>
                    <a:pt x="7407" y="16329"/>
                  </a:lnTo>
                  <a:lnTo>
                    <a:pt x="7407" y="16792"/>
                  </a:lnTo>
                  <a:lnTo>
                    <a:pt x="7176" y="17255"/>
                  </a:lnTo>
                  <a:lnTo>
                    <a:pt x="7176" y="17255"/>
                  </a:lnTo>
                  <a:lnTo>
                    <a:pt x="6713" y="17371"/>
                  </a:lnTo>
                  <a:lnTo>
                    <a:pt x="6250" y="17487"/>
                  </a:lnTo>
                  <a:lnTo>
                    <a:pt x="5671" y="17603"/>
                  </a:lnTo>
                  <a:lnTo>
                    <a:pt x="5208" y="17487"/>
                  </a:lnTo>
                  <a:lnTo>
                    <a:pt x="4745" y="17371"/>
                  </a:lnTo>
                  <a:lnTo>
                    <a:pt x="4167" y="17255"/>
                  </a:lnTo>
                  <a:lnTo>
                    <a:pt x="3704" y="17024"/>
                  </a:lnTo>
                  <a:lnTo>
                    <a:pt x="3356" y="16792"/>
                  </a:lnTo>
                  <a:lnTo>
                    <a:pt x="3356" y="16792"/>
                  </a:lnTo>
                  <a:lnTo>
                    <a:pt x="2894" y="16329"/>
                  </a:lnTo>
                  <a:lnTo>
                    <a:pt x="2662" y="15634"/>
                  </a:lnTo>
                  <a:lnTo>
                    <a:pt x="2431" y="15055"/>
                  </a:lnTo>
                  <a:lnTo>
                    <a:pt x="2199" y="14360"/>
                  </a:lnTo>
                  <a:lnTo>
                    <a:pt x="1968" y="13665"/>
                  </a:lnTo>
                  <a:lnTo>
                    <a:pt x="1620" y="13202"/>
                  </a:lnTo>
                  <a:lnTo>
                    <a:pt x="1158" y="12855"/>
                  </a:lnTo>
                  <a:lnTo>
                    <a:pt x="463" y="12623"/>
                  </a:lnTo>
                  <a:lnTo>
                    <a:pt x="463" y="12623"/>
                  </a:lnTo>
                  <a:lnTo>
                    <a:pt x="232" y="12507"/>
                  </a:lnTo>
                  <a:lnTo>
                    <a:pt x="232" y="12391"/>
                  </a:lnTo>
                  <a:lnTo>
                    <a:pt x="116" y="12276"/>
                  </a:lnTo>
                  <a:lnTo>
                    <a:pt x="0" y="12044"/>
                  </a:lnTo>
                  <a:lnTo>
                    <a:pt x="0" y="11928"/>
                  </a:lnTo>
                  <a:lnTo>
                    <a:pt x="0" y="11812"/>
                  </a:lnTo>
                  <a:lnTo>
                    <a:pt x="0" y="11581"/>
                  </a:lnTo>
                  <a:lnTo>
                    <a:pt x="116" y="11465"/>
                  </a:lnTo>
                  <a:lnTo>
                    <a:pt x="116" y="11465"/>
                  </a:lnTo>
                  <a:lnTo>
                    <a:pt x="347" y="11118"/>
                  </a:lnTo>
                  <a:lnTo>
                    <a:pt x="579" y="10770"/>
                  </a:lnTo>
                  <a:lnTo>
                    <a:pt x="926" y="10539"/>
                  </a:lnTo>
                  <a:lnTo>
                    <a:pt x="1273" y="10307"/>
                  </a:lnTo>
                  <a:lnTo>
                    <a:pt x="1620" y="10075"/>
                  </a:lnTo>
                  <a:lnTo>
                    <a:pt x="1968" y="9844"/>
                  </a:lnTo>
                  <a:lnTo>
                    <a:pt x="2199" y="9612"/>
                  </a:lnTo>
                  <a:lnTo>
                    <a:pt x="2431" y="9265"/>
                  </a:lnTo>
                  <a:lnTo>
                    <a:pt x="2431" y="9265"/>
                  </a:lnTo>
                  <a:lnTo>
                    <a:pt x="2546" y="8570"/>
                  </a:lnTo>
                  <a:lnTo>
                    <a:pt x="2662" y="7991"/>
                  </a:lnTo>
                  <a:lnTo>
                    <a:pt x="2778" y="7412"/>
                  </a:lnTo>
                  <a:lnTo>
                    <a:pt x="2894" y="6833"/>
                  </a:lnTo>
                  <a:lnTo>
                    <a:pt x="3009" y="6254"/>
                  </a:lnTo>
                  <a:lnTo>
                    <a:pt x="3125" y="5675"/>
                  </a:lnTo>
                  <a:lnTo>
                    <a:pt x="3241" y="5095"/>
                  </a:lnTo>
                  <a:lnTo>
                    <a:pt x="3241" y="4516"/>
                  </a:lnTo>
                  <a:lnTo>
                    <a:pt x="3241" y="4516"/>
                  </a:lnTo>
                  <a:lnTo>
                    <a:pt x="3125" y="4053"/>
                  </a:lnTo>
                  <a:lnTo>
                    <a:pt x="3009" y="3706"/>
                  </a:lnTo>
                  <a:lnTo>
                    <a:pt x="2778" y="3243"/>
                  </a:lnTo>
                  <a:lnTo>
                    <a:pt x="2546" y="2895"/>
                  </a:lnTo>
                  <a:lnTo>
                    <a:pt x="2315" y="2548"/>
                  </a:lnTo>
                  <a:lnTo>
                    <a:pt x="2083" y="2200"/>
                  </a:lnTo>
                  <a:lnTo>
                    <a:pt x="1736" y="1853"/>
                  </a:lnTo>
                  <a:lnTo>
                    <a:pt x="1505" y="1505"/>
                  </a:lnTo>
                  <a:lnTo>
                    <a:pt x="1505" y="1505"/>
                  </a:lnTo>
                  <a:lnTo>
                    <a:pt x="1389" y="1390"/>
                  </a:lnTo>
                  <a:lnTo>
                    <a:pt x="1273" y="1274"/>
                  </a:lnTo>
                  <a:lnTo>
                    <a:pt x="1273" y="1158"/>
                  </a:lnTo>
                  <a:lnTo>
                    <a:pt x="1273" y="1042"/>
                  </a:lnTo>
                  <a:lnTo>
                    <a:pt x="1389" y="926"/>
                  </a:lnTo>
                  <a:lnTo>
                    <a:pt x="1389" y="811"/>
                  </a:lnTo>
                  <a:lnTo>
                    <a:pt x="1505" y="811"/>
                  </a:lnTo>
                  <a:lnTo>
                    <a:pt x="1620" y="695"/>
                  </a:lnTo>
                  <a:lnTo>
                    <a:pt x="1620" y="695"/>
                  </a:lnTo>
                  <a:lnTo>
                    <a:pt x="1852" y="463"/>
                  </a:lnTo>
                  <a:lnTo>
                    <a:pt x="1852" y="463"/>
                  </a:lnTo>
                  <a:lnTo>
                    <a:pt x="1852" y="579"/>
                  </a:lnTo>
                  <a:lnTo>
                    <a:pt x="1736" y="695"/>
                  </a:lnTo>
                  <a:lnTo>
                    <a:pt x="1620" y="811"/>
                  </a:lnTo>
                  <a:lnTo>
                    <a:pt x="1505" y="926"/>
                  </a:lnTo>
                  <a:lnTo>
                    <a:pt x="1505" y="1042"/>
                  </a:lnTo>
                  <a:lnTo>
                    <a:pt x="1505" y="1158"/>
                  </a:lnTo>
                  <a:lnTo>
                    <a:pt x="1505" y="1274"/>
                  </a:lnTo>
                  <a:lnTo>
                    <a:pt x="1852" y="1274"/>
                  </a:lnTo>
                  <a:lnTo>
                    <a:pt x="1852" y="1274"/>
                  </a:lnTo>
                  <a:lnTo>
                    <a:pt x="1968" y="1158"/>
                  </a:lnTo>
                  <a:lnTo>
                    <a:pt x="2083" y="926"/>
                  </a:lnTo>
                  <a:lnTo>
                    <a:pt x="2315" y="695"/>
                  </a:lnTo>
                  <a:lnTo>
                    <a:pt x="2431" y="579"/>
                  </a:lnTo>
                  <a:lnTo>
                    <a:pt x="2662" y="463"/>
                  </a:lnTo>
                  <a:lnTo>
                    <a:pt x="2894" y="347"/>
                  </a:lnTo>
                  <a:lnTo>
                    <a:pt x="3125" y="116"/>
                  </a:lnTo>
                  <a:lnTo>
                    <a:pt x="3356" y="0"/>
                  </a:lnTo>
                  <a:lnTo>
                    <a:pt x="3356" y="0"/>
                  </a:lnTo>
                  <a:lnTo>
                    <a:pt x="3356" y="0"/>
                  </a:lnTo>
                  <a:lnTo>
                    <a:pt x="3356" y="0"/>
                  </a:lnTo>
                  <a:lnTo>
                    <a:pt x="3356"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798560" y="4884840"/>
              <a:ext cx="43920" cy="80640"/>
            </a:xfrm>
            <a:custGeom>
              <a:avLst/>
              <a:gdLst/>
              <a:ahLst/>
              <a:rect l="l" t="t" r="r" b="b"/>
              <a:pathLst>
                <a:path w="1158" h="1506">
                  <a:moveTo>
                    <a:pt x="1158" y="0"/>
                  </a:moveTo>
                  <a:lnTo>
                    <a:pt x="1158" y="116"/>
                  </a:lnTo>
                  <a:lnTo>
                    <a:pt x="1042" y="232"/>
                  </a:lnTo>
                  <a:lnTo>
                    <a:pt x="1042" y="348"/>
                  </a:lnTo>
                  <a:lnTo>
                    <a:pt x="926" y="463"/>
                  </a:lnTo>
                  <a:lnTo>
                    <a:pt x="811" y="463"/>
                  </a:lnTo>
                  <a:lnTo>
                    <a:pt x="695" y="579"/>
                  </a:lnTo>
                  <a:lnTo>
                    <a:pt x="579" y="695"/>
                  </a:lnTo>
                  <a:lnTo>
                    <a:pt x="579" y="695"/>
                  </a:lnTo>
                  <a:lnTo>
                    <a:pt x="579" y="695"/>
                  </a:lnTo>
                  <a:lnTo>
                    <a:pt x="463" y="811"/>
                  </a:lnTo>
                  <a:lnTo>
                    <a:pt x="463" y="927"/>
                  </a:lnTo>
                  <a:lnTo>
                    <a:pt x="348" y="1042"/>
                  </a:lnTo>
                  <a:lnTo>
                    <a:pt x="348" y="1158"/>
                  </a:lnTo>
                  <a:lnTo>
                    <a:pt x="232" y="1274"/>
                  </a:lnTo>
                  <a:lnTo>
                    <a:pt x="232" y="1274"/>
                  </a:lnTo>
                  <a:lnTo>
                    <a:pt x="116" y="1390"/>
                  </a:lnTo>
                  <a:lnTo>
                    <a:pt x="116" y="1506"/>
                  </a:lnTo>
                  <a:lnTo>
                    <a:pt x="116" y="1506"/>
                  </a:lnTo>
                  <a:lnTo>
                    <a:pt x="0" y="1274"/>
                  </a:lnTo>
                  <a:lnTo>
                    <a:pt x="0" y="1158"/>
                  </a:lnTo>
                  <a:lnTo>
                    <a:pt x="0" y="1042"/>
                  </a:lnTo>
                  <a:lnTo>
                    <a:pt x="0" y="811"/>
                  </a:lnTo>
                  <a:lnTo>
                    <a:pt x="116" y="695"/>
                  </a:lnTo>
                  <a:lnTo>
                    <a:pt x="232" y="579"/>
                  </a:lnTo>
                  <a:lnTo>
                    <a:pt x="348" y="463"/>
                  </a:lnTo>
                  <a:lnTo>
                    <a:pt x="348" y="348"/>
                  </a:lnTo>
                  <a:lnTo>
                    <a:pt x="348" y="348"/>
                  </a:lnTo>
                  <a:lnTo>
                    <a:pt x="463" y="232"/>
                  </a:lnTo>
                  <a:lnTo>
                    <a:pt x="579" y="232"/>
                  </a:lnTo>
                  <a:lnTo>
                    <a:pt x="695" y="116"/>
                  </a:lnTo>
                  <a:lnTo>
                    <a:pt x="811" y="116"/>
                  </a:lnTo>
                  <a:lnTo>
                    <a:pt x="811" y="0"/>
                  </a:lnTo>
                  <a:lnTo>
                    <a:pt x="926" y="0"/>
                  </a:lnTo>
                  <a:lnTo>
                    <a:pt x="1042" y="0"/>
                  </a:lnTo>
                  <a:lnTo>
                    <a:pt x="1158" y="0"/>
                  </a:lnTo>
                  <a:lnTo>
                    <a:pt x="1158" y="0"/>
                  </a:lnTo>
                  <a:lnTo>
                    <a:pt x="1158" y="0"/>
                  </a:lnTo>
                  <a:lnTo>
                    <a:pt x="1158" y="0"/>
                  </a:lnTo>
                  <a:lnTo>
                    <a:pt x="115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3" name=""/>
            <p:cNvSpPr/>
            <p:nvPr/>
          </p:nvSpPr>
          <p:spPr>
            <a:xfrm>
              <a:off x="1811880" y="4922280"/>
              <a:ext cx="30600" cy="49680"/>
            </a:xfrm>
            <a:custGeom>
              <a:avLst/>
              <a:gdLst/>
              <a:ahLst/>
              <a:rect l="l" t="t" r="r" b="b"/>
              <a:pathLst>
                <a:path w="810" h="926">
                  <a:moveTo>
                    <a:pt x="810" y="0"/>
                  </a:moveTo>
                  <a:lnTo>
                    <a:pt x="694" y="116"/>
                  </a:lnTo>
                  <a:lnTo>
                    <a:pt x="694" y="232"/>
                  </a:lnTo>
                  <a:lnTo>
                    <a:pt x="694" y="347"/>
                  </a:lnTo>
                  <a:lnTo>
                    <a:pt x="578" y="463"/>
                  </a:lnTo>
                  <a:lnTo>
                    <a:pt x="463" y="579"/>
                  </a:lnTo>
                  <a:lnTo>
                    <a:pt x="463" y="695"/>
                  </a:lnTo>
                  <a:lnTo>
                    <a:pt x="347" y="811"/>
                  </a:lnTo>
                  <a:lnTo>
                    <a:pt x="347" y="926"/>
                  </a:lnTo>
                  <a:lnTo>
                    <a:pt x="347" y="926"/>
                  </a:lnTo>
                  <a:lnTo>
                    <a:pt x="0" y="926"/>
                  </a:lnTo>
                  <a:lnTo>
                    <a:pt x="0" y="926"/>
                  </a:lnTo>
                  <a:lnTo>
                    <a:pt x="0" y="811"/>
                  </a:lnTo>
                  <a:lnTo>
                    <a:pt x="115" y="579"/>
                  </a:lnTo>
                  <a:lnTo>
                    <a:pt x="115" y="463"/>
                  </a:lnTo>
                  <a:lnTo>
                    <a:pt x="231" y="347"/>
                  </a:lnTo>
                  <a:lnTo>
                    <a:pt x="347" y="232"/>
                  </a:lnTo>
                  <a:lnTo>
                    <a:pt x="463" y="116"/>
                  </a:lnTo>
                  <a:lnTo>
                    <a:pt x="578" y="0"/>
                  </a:lnTo>
                  <a:lnTo>
                    <a:pt x="810" y="0"/>
                  </a:lnTo>
                  <a:lnTo>
                    <a:pt x="810" y="0"/>
                  </a:lnTo>
                  <a:lnTo>
                    <a:pt x="810" y="0"/>
                  </a:lnTo>
                  <a:lnTo>
                    <a:pt x="810" y="0"/>
                  </a:lnTo>
                  <a:lnTo>
                    <a:pt x="8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74" name=""/>
            <p:cNvSpPr/>
            <p:nvPr/>
          </p:nvSpPr>
          <p:spPr>
            <a:xfrm>
              <a:off x="1842840" y="4965840"/>
              <a:ext cx="12960" cy="18360"/>
            </a:xfrm>
            <a:custGeom>
              <a:avLst/>
              <a:gdLst/>
              <a:ahLst/>
              <a:rect l="l" t="t" r="r" b="b"/>
              <a:pathLst>
                <a:path w="347" h="347">
                  <a:moveTo>
                    <a:pt x="231" y="347"/>
                  </a:moveTo>
                  <a:lnTo>
                    <a:pt x="0" y="231"/>
                  </a:lnTo>
                  <a:lnTo>
                    <a:pt x="0" y="231"/>
                  </a:lnTo>
                  <a:lnTo>
                    <a:pt x="0" y="231"/>
                  </a:lnTo>
                  <a:lnTo>
                    <a:pt x="0" y="115"/>
                  </a:lnTo>
                  <a:lnTo>
                    <a:pt x="0" y="115"/>
                  </a:lnTo>
                  <a:lnTo>
                    <a:pt x="0" y="0"/>
                  </a:lnTo>
                  <a:lnTo>
                    <a:pt x="115" y="0"/>
                  </a:lnTo>
                  <a:lnTo>
                    <a:pt x="115" y="0"/>
                  </a:lnTo>
                  <a:lnTo>
                    <a:pt x="231" y="0"/>
                  </a:lnTo>
                  <a:lnTo>
                    <a:pt x="347" y="0"/>
                  </a:lnTo>
                  <a:lnTo>
                    <a:pt x="347" y="0"/>
                  </a:lnTo>
                  <a:lnTo>
                    <a:pt x="231" y="347"/>
                  </a:lnTo>
                  <a:lnTo>
                    <a:pt x="231" y="347"/>
                  </a:lnTo>
                  <a:lnTo>
                    <a:pt x="231" y="347"/>
                  </a:lnTo>
                  <a:lnTo>
                    <a:pt x="231" y="34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5" name=""/>
            <p:cNvSpPr/>
            <p:nvPr/>
          </p:nvSpPr>
          <p:spPr>
            <a:xfrm>
              <a:off x="1099440" y="5140080"/>
              <a:ext cx="331560" cy="690120"/>
            </a:xfrm>
            <a:custGeom>
              <a:avLst/>
              <a:gdLst/>
              <a:ahLst/>
              <a:rect l="l" t="t" r="r" b="b"/>
              <a:pathLst>
                <a:path w="8680" h="12855">
                  <a:moveTo>
                    <a:pt x="7059" y="0"/>
                  </a:moveTo>
                  <a:lnTo>
                    <a:pt x="6944" y="116"/>
                  </a:lnTo>
                  <a:lnTo>
                    <a:pt x="6712" y="232"/>
                  </a:lnTo>
                  <a:lnTo>
                    <a:pt x="6596" y="348"/>
                  </a:lnTo>
                  <a:lnTo>
                    <a:pt x="6481" y="464"/>
                  </a:lnTo>
                  <a:lnTo>
                    <a:pt x="6365" y="579"/>
                  </a:lnTo>
                  <a:lnTo>
                    <a:pt x="6134" y="695"/>
                  </a:lnTo>
                  <a:lnTo>
                    <a:pt x="6018" y="811"/>
                  </a:lnTo>
                  <a:lnTo>
                    <a:pt x="5902" y="927"/>
                  </a:lnTo>
                  <a:lnTo>
                    <a:pt x="5902" y="927"/>
                  </a:lnTo>
                  <a:lnTo>
                    <a:pt x="5902" y="927"/>
                  </a:lnTo>
                  <a:lnTo>
                    <a:pt x="5902" y="1043"/>
                  </a:lnTo>
                  <a:lnTo>
                    <a:pt x="6018" y="1043"/>
                  </a:lnTo>
                  <a:lnTo>
                    <a:pt x="6018" y="1158"/>
                  </a:lnTo>
                  <a:lnTo>
                    <a:pt x="6134" y="1158"/>
                  </a:lnTo>
                  <a:lnTo>
                    <a:pt x="6249" y="1274"/>
                  </a:lnTo>
                  <a:lnTo>
                    <a:pt x="6249" y="1158"/>
                  </a:lnTo>
                  <a:lnTo>
                    <a:pt x="6365" y="1158"/>
                  </a:lnTo>
                  <a:lnTo>
                    <a:pt x="6365" y="1158"/>
                  </a:lnTo>
                  <a:lnTo>
                    <a:pt x="7291" y="348"/>
                  </a:lnTo>
                  <a:lnTo>
                    <a:pt x="7291" y="348"/>
                  </a:lnTo>
                  <a:lnTo>
                    <a:pt x="7291" y="464"/>
                  </a:lnTo>
                  <a:lnTo>
                    <a:pt x="7291" y="579"/>
                  </a:lnTo>
                  <a:lnTo>
                    <a:pt x="7291" y="695"/>
                  </a:lnTo>
                  <a:lnTo>
                    <a:pt x="7175" y="695"/>
                  </a:lnTo>
                  <a:lnTo>
                    <a:pt x="7059" y="811"/>
                  </a:lnTo>
                  <a:lnTo>
                    <a:pt x="6944" y="927"/>
                  </a:lnTo>
                  <a:lnTo>
                    <a:pt x="6828" y="1043"/>
                  </a:lnTo>
                  <a:lnTo>
                    <a:pt x="6828" y="1158"/>
                  </a:lnTo>
                  <a:lnTo>
                    <a:pt x="6828" y="1158"/>
                  </a:lnTo>
                  <a:lnTo>
                    <a:pt x="6712" y="1158"/>
                  </a:lnTo>
                  <a:lnTo>
                    <a:pt x="6712" y="1158"/>
                  </a:lnTo>
                  <a:lnTo>
                    <a:pt x="6712" y="1274"/>
                  </a:lnTo>
                  <a:lnTo>
                    <a:pt x="6712" y="1274"/>
                  </a:lnTo>
                  <a:lnTo>
                    <a:pt x="6712" y="1274"/>
                  </a:lnTo>
                  <a:lnTo>
                    <a:pt x="6712" y="1390"/>
                  </a:lnTo>
                  <a:lnTo>
                    <a:pt x="6712" y="1390"/>
                  </a:lnTo>
                  <a:lnTo>
                    <a:pt x="6712" y="1390"/>
                  </a:lnTo>
                  <a:lnTo>
                    <a:pt x="6712" y="1390"/>
                  </a:lnTo>
                  <a:lnTo>
                    <a:pt x="6828" y="1506"/>
                  </a:lnTo>
                  <a:lnTo>
                    <a:pt x="6944" y="1506"/>
                  </a:lnTo>
                  <a:lnTo>
                    <a:pt x="7059" y="1506"/>
                  </a:lnTo>
                  <a:lnTo>
                    <a:pt x="7175" y="1390"/>
                  </a:lnTo>
                  <a:lnTo>
                    <a:pt x="7175" y="1274"/>
                  </a:lnTo>
                  <a:lnTo>
                    <a:pt x="7291" y="1158"/>
                  </a:lnTo>
                  <a:lnTo>
                    <a:pt x="7407" y="1158"/>
                  </a:lnTo>
                  <a:lnTo>
                    <a:pt x="7522" y="1043"/>
                  </a:lnTo>
                  <a:lnTo>
                    <a:pt x="7522" y="1043"/>
                  </a:lnTo>
                  <a:lnTo>
                    <a:pt x="7638" y="1274"/>
                  </a:lnTo>
                  <a:lnTo>
                    <a:pt x="7754" y="1506"/>
                  </a:lnTo>
                  <a:lnTo>
                    <a:pt x="7870" y="1737"/>
                  </a:lnTo>
                  <a:lnTo>
                    <a:pt x="8101" y="2085"/>
                  </a:lnTo>
                  <a:lnTo>
                    <a:pt x="8101" y="2316"/>
                  </a:lnTo>
                  <a:lnTo>
                    <a:pt x="8217" y="2548"/>
                  </a:lnTo>
                  <a:lnTo>
                    <a:pt x="8101" y="2780"/>
                  </a:lnTo>
                  <a:lnTo>
                    <a:pt x="7985" y="3011"/>
                  </a:lnTo>
                  <a:lnTo>
                    <a:pt x="7985" y="3011"/>
                  </a:lnTo>
                  <a:lnTo>
                    <a:pt x="7522" y="3359"/>
                  </a:lnTo>
                  <a:lnTo>
                    <a:pt x="7291" y="3706"/>
                  </a:lnTo>
                  <a:lnTo>
                    <a:pt x="6944" y="4054"/>
                  </a:lnTo>
                  <a:lnTo>
                    <a:pt x="6712" y="4517"/>
                  </a:lnTo>
                  <a:lnTo>
                    <a:pt x="6481" y="4864"/>
                  </a:lnTo>
                  <a:lnTo>
                    <a:pt x="6249" y="5212"/>
                  </a:lnTo>
                  <a:lnTo>
                    <a:pt x="5902" y="5559"/>
                  </a:lnTo>
                  <a:lnTo>
                    <a:pt x="5555" y="5791"/>
                  </a:lnTo>
                  <a:lnTo>
                    <a:pt x="5555" y="5791"/>
                  </a:lnTo>
                  <a:lnTo>
                    <a:pt x="5439" y="6486"/>
                  </a:lnTo>
                  <a:lnTo>
                    <a:pt x="5323" y="7180"/>
                  </a:lnTo>
                  <a:lnTo>
                    <a:pt x="5208" y="7760"/>
                  </a:lnTo>
                  <a:lnTo>
                    <a:pt x="5208" y="8454"/>
                  </a:lnTo>
                  <a:lnTo>
                    <a:pt x="5208" y="9149"/>
                  </a:lnTo>
                  <a:lnTo>
                    <a:pt x="5323" y="9844"/>
                  </a:lnTo>
                  <a:lnTo>
                    <a:pt x="5555" y="10423"/>
                  </a:lnTo>
                  <a:lnTo>
                    <a:pt x="5902" y="11002"/>
                  </a:lnTo>
                  <a:lnTo>
                    <a:pt x="5902" y="11002"/>
                  </a:lnTo>
                  <a:lnTo>
                    <a:pt x="5902" y="11002"/>
                  </a:lnTo>
                  <a:lnTo>
                    <a:pt x="6018" y="10886"/>
                  </a:lnTo>
                  <a:lnTo>
                    <a:pt x="6018" y="10771"/>
                  </a:lnTo>
                  <a:lnTo>
                    <a:pt x="6018" y="10771"/>
                  </a:lnTo>
                  <a:lnTo>
                    <a:pt x="6018" y="10655"/>
                  </a:lnTo>
                  <a:lnTo>
                    <a:pt x="6018" y="10539"/>
                  </a:lnTo>
                  <a:lnTo>
                    <a:pt x="5902" y="10423"/>
                  </a:lnTo>
                  <a:lnTo>
                    <a:pt x="5902" y="10423"/>
                  </a:lnTo>
                  <a:lnTo>
                    <a:pt x="5902" y="10423"/>
                  </a:lnTo>
                  <a:lnTo>
                    <a:pt x="6018" y="10423"/>
                  </a:lnTo>
                  <a:lnTo>
                    <a:pt x="6134" y="10423"/>
                  </a:lnTo>
                  <a:lnTo>
                    <a:pt x="6134" y="10539"/>
                  </a:lnTo>
                  <a:lnTo>
                    <a:pt x="6249" y="10539"/>
                  </a:lnTo>
                  <a:lnTo>
                    <a:pt x="6249" y="10655"/>
                  </a:lnTo>
                  <a:lnTo>
                    <a:pt x="6365" y="10655"/>
                  </a:lnTo>
                  <a:lnTo>
                    <a:pt x="6365" y="10771"/>
                  </a:lnTo>
                  <a:lnTo>
                    <a:pt x="6481" y="10886"/>
                  </a:lnTo>
                  <a:lnTo>
                    <a:pt x="6481" y="10886"/>
                  </a:lnTo>
                  <a:lnTo>
                    <a:pt x="6365" y="11465"/>
                  </a:lnTo>
                  <a:lnTo>
                    <a:pt x="6365" y="11465"/>
                  </a:lnTo>
                  <a:lnTo>
                    <a:pt x="6481" y="11465"/>
                  </a:lnTo>
                  <a:lnTo>
                    <a:pt x="6596" y="11465"/>
                  </a:lnTo>
                  <a:lnTo>
                    <a:pt x="6712" y="11465"/>
                  </a:lnTo>
                  <a:lnTo>
                    <a:pt x="6712" y="11350"/>
                  </a:lnTo>
                  <a:lnTo>
                    <a:pt x="6712" y="11234"/>
                  </a:lnTo>
                  <a:lnTo>
                    <a:pt x="6828" y="11118"/>
                  </a:lnTo>
                  <a:lnTo>
                    <a:pt x="6828" y="11002"/>
                  </a:lnTo>
                  <a:lnTo>
                    <a:pt x="6944" y="10886"/>
                  </a:lnTo>
                  <a:lnTo>
                    <a:pt x="6944" y="10886"/>
                  </a:lnTo>
                  <a:lnTo>
                    <a:pt x="7175" y="10886"/>
                  </a:lnTo>
                  <a:lnTo>
                    <a:pt x="7407" y="10886"/>
                  </a:lnTo>
                  <a:lnTo>
                    <a:pt x="7638" y="10886"/>
                  </a:lnTo>
                  <a:lnTo>
                    <a:pt x="7870" y="10886"/>
                  </a:lnTo>
                  <a:lnTo>
                    <a:pt x="8101" y="11002"/>
                  </a:lnTo>
                  <a:lnTo>
                    <a:pt x="8332" y="11002"/>
                  </a:lnTo>
                  <a:lnTo>
                    <a:pt x="8564" y="11234"/>
                  </a:lnTo>
                  <a:lnTo>
                    <a:pt x="8564" y="11581"/>
                  </a:lnTo>
                  <a:lnTo>
                    <a:pt x="8564" y="11581"/>
                  </a:lnTo>
                  <a:lnTo>
                    <a:pt x="8680" y="11929"/>
                  </a:lnTo>
                  <a:lnTo>
                    <a:pt x="8564" y="12160"/>
                  </a:lnTo>
                  <a:lnTo>
                    <a:pt x="8448" y="12392"/>
                  </a:lnTo>
                  <a:lnTo>
                    <a:pt x="8217" y="12508"/>
                  </a:lnTo>
                  <a:lnTo>
                    <a:pt x="7985" y="12624"/>
                  </a:lnTo>
                  <a:lnTo>
                    <a:pt x="7638" y="12624"/>
                  </a:lnTo>
                  <a:lnTo>
                    <a:pt x="7291" y="12739"/>
                  </a:lnTo>
                  <a:lnTo>
                    <a:pt x="7059" y="12855"/>
                  </a:lnTo>
                  <a:lnTo>
                    <a:pt x="7059" y="12855"/>
                  </a:lnTo>
                  <a:lnTo>
                    <a:pt x="6596" y="12855"/>
                  </a:lnTo>
                  <a:lnTo>
                    <a:pt x="6018" y="12739"/>
                  </a:lnTo>
                  <a:lnTo>
                    <a:pt x="5555" y="12739"/>
                  </a:lnTo>
                  <a:lnTo>
                    <a:pt x="5092" y="12624"/>
                  </a:lnTo>
                  <a:lnTo>
                    <a:pt x="4513" y="12508"/>
                  </a:lnTo>
                  <a:lnTo>
                    <a:pt x="4166" y="12276"/>
                  </a:lnTo>
                  <a:lnTo>
                    <a:pt x="3703" y="12044"/>
                  </a:lnTo>
                  <a:lnTo>
                    <a:pt x="3240" y="11813"/>
                  </a:lnTo>
                  <a:lnTo>
                    <a:pt x="3240" y="11813"/>
                  </a:lnTo>
                  <a:lnTo>
                    <a:pt x="2893" y="11234"/>
                  </a:lnTo>
                  <a:lnTo>
                    <a:pt x="2662" y="10539"/>
                  </a:lnTo>
                  <a:lnTo>
                    <a:pt x="2430" y="9960"/>
                  </a:lnTo>
                  <a:lnTo>
                    <a:pt x="2199" y="9265"/>
                  </a:lnTo>
                  <a:lnTo>
                    <a:pt x="1851" y="8686"/>
                  </a:lnTo>
                  <a:lnTo>
                    <a:pt x="1504" y="8107"/>
                  </a:lnTo>
                  <a:lnTo>
                    <a:pt x="926" y="7644"/>
                  </a:lnTo>
                  <a:lnTo>
                    <a:pt x="231" y="7412"/>
                  </a:lnTo>
                  <a:lnTo>
                    <a:pt x="231" y="7412"/>
                  </a:lnTo>
                  <a:lnTo>
                    <a:pt x="115" y="7296"/>
                  </a:lnTo>
                  <a:lnTo>
                    <a:pt x="115" y="7296"/>
                  </a:lnTo>
                  <a:lnTo>
                    <a:pt x="0" y="7180"/>
                  </a:lnTo>
                  <a:lnTo>
                    <a:pt x="0" y="7065"/>
                  </a:lnTo>
                  <a:lnTo>
                    <a:pt x="0" y="6949"/>
                  </a:lnTo>
                  <a:lnTo>
                    <a:pt x="0" y="6833"/>
                  </a:lnTo>
                  <a:lnTo>
                    <a:pt x="0" y="6717"/>
                  </a:lnTo>
                  <a:lnTo>
                    <a:pt x="0" y="6601"/>
                  </a:lnTo>
                  <a:lnTo>
                    <a:pt x="0" y="6601"/>
                  </a:lnTo>
                  <a:lnTo>
                    <a:pt x="231" y="6370"/>
                  </a:lnTo>
                  <a:lnTo>
                    <a:pt x="463" y="6138"/>
                  </a:lnTo>
                  <a:lnTo>
                    <a:pt x="810" y="6022"/>
                  </a:lnTo>
                  <a:lnTo>
                    <a:pt x="1157" y="5907"/>
                  </a:lnTo>
                  <a:lnTo>
                    <a:pt x="1504" y="5907"/>
                  </a:lnTo>
                  <a:lnTo>
                    <a:pt x="1851" y="5791"/>
                  </a:lnTo>
                  <a:lnTo>
                    <a:pt x="2199" y="5675"/>
                  </a:lnTo>
                  <a:lnTo>
                    <a:pt x="2430" y="5559"/>
                  </a:lnTo>
                  <a:lnTo>
                    <a:pt x="2430" y="5559"/>
                  </a:lnTo>
                  <a:lnTo>
                    <a:pt x="3009" y="5328"/>
                  </a:lnTo>
                  <a:lnTo>
                    <a:pt x="3472" y="4980"/>
                  </a:lnTo>
                  <a:lnTo>
                    <a:pt x="3935" y="4633"/>
                  </a:lnTo>
                  <a:lnTo>
                    <a:pt x="4398" y="4285"/>
                  </a:lnTo>
                  <a:lnTo>
                    <a:pt x="4860" y="3822"/>
                  </a:lnTo>
                  <a:lnTo>
                    <a:pt x="5323" y="3475"/>
                  </a:lnTo>
                  <a:lnTo>
                    <a:pt x="5671" y="3011"/>
                  </a:lnTo>
                  <a:lnTo>
                    <a:pt x="6018" y="2432"/>
                  </a:lnTo>
                  <a:lnTo>
                    <a:pt x="6018" y="2432"/>
                  </a:lnTo>
                  <a:lnTo>
                    <a:pt x="6018" y="2548"/>
                  </a:lnTo>
                  <a:lnTo>
                    <a:pt x="6134" y="2548"/>
                  </a:lnTo>
                  <a:lnTo>
                    <a:pt x="6134" y="2548"/>
                  </a:lnTo>
                  <a:lnTo>
                    <a:pt x="6134" y="2548"/>
                  </a:lnTo>
                  <a:lnTo>
                    <a:pt x="6249" y="2548"/>
                  </a:lnTo>
                  <a:lnTo>
                    <a:pt x="6249" y="2548"/>
                  </a:lnTo>
                  <a:lnTo>
                    <a:pt x="6249" y="2432"/>
                  </a:lnTo>
                  <a:lnTo>
                    <a:pt x="6249" y="2432"/>
                  </a:lnTo>
                  <a:lnTo>
                    <a:pt x="6249" y="2432"/>
                  </a:lnTo>
                  <a:lnTo>
                    <a:pt x="6249" y="2201"/>
                  </a:lnTo>
                  <a:lnTo>
                    <a:pt x="6134" y="1969"/>
                  </a:lnTo>
                  <a:lnTo>
                    <a:pt x="6018" y="1737"/>
                  </a:lnTo>
                  <a:lnTo>
                    <a:pt x="5902" y="1506"/>
                  </a:lnTo>
                  <a:lnTo>
                    <a:pt x="5786" y="1274"/>
                  </a:lnTo>
                  <a:lnTo>
                    <a:pt x="5671" y="1043"/>
                  </a:lnTo>
                  <a:lnTo>
                    <a:pt x="5555" y="811"/>
                  </a:lnTo>
                  <a:lnTo>
                    <a:pt x="5439" y="579"/>
                  </a:lnTo>
                  <a:lnTo>
                    <a:pt x="5439" y="579"/>
                  </a:lnTo>
                  <a:lnTo>
                    <a:pt x="5555" y="579"/>
                  </a:lnTo>
                  <a:lnTo>
                    <a:pt x="5555" y="579"/>
                  </a:lnTo>
                  <a:lnTo>
                    <a:pt x="5555" y="579"/>
                  </a:lnTo>
                  <a:lnTo>
                    <a:pt x="5555" y="579"/>
                  </a:lnTo>
                  <a:lnTo>
                    <a:pt x="5671" y="695"/>
                  </a:lnTo>
                  <a:lnTo>
                    <a:pt x="5671" y="695"/>
                  </a:lnTo>
                  <a:lnTo>
                    <a:pt x="5671" y="695"/>
                  </a:lnTo>
                  <a:lnTo>
                    <a:pt x="5671" y="811"/>
                  </a:lnTo>
                  <a:lnTo>
                    <a:pt x="5671" y="811"/>
                  </a:lnTo>
                  <a:lnTo>
                    <a:pt x="5786" y="811"/>
                  </a:lnTo>
                  <a:lnTo>
                    <a:pt x="5786" y="811"/>
                  </a:lnTo>
                  <a:lnTo>
                    <a:pt x="5902" y="695"/>
                  </a:lnTo>
                  <a:lnTo>
                    <a:pt x="6018" y="579"/>
                  </a:lnTo>
                  <a:lnTo>
                    <a:pt x="6249" y="464"/>
                  </a:lnTo>
                  <a:lnTo>
                    <a:pt x="6365" y="348"/>
                  </a:lnTo>
                  <a:lnTo>
                    <a:pt x="6481" y="232"/>
                  </a:lnTo>
                  <a:lnTo>
                    <a:pt x="6712" y="116"/>
                  </a:lnTo>
                  <a:lnTo>
                    <a:pt x="6828" y="0"/>
                  </a:lnTo>
                  <a:lnTo>
                    <a:pt x="7059" y="0"/>
                  </a:lnTo>
                  <a:lnTo>
                    <a:pt x="7059" y="0"/>
                  </a:lnTo>
                  <a:lnTo>
                    <a:pt x="7059" y="0"/>
                  </a:lnTo>
                  <a:lnTo>
                    <a:pt x="7059" y="0"/>
                  </a:lnTo>
                  <a:lnTo>
                    <a:pt x="7059"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272">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 calcmode="lin" valueType="num">
                                      <p:cBhvr additive="repl">
                                        <p:cTn id="7" dur="500" fill="hold"/>
                                        <p:tgtEl>
                                          <p:spTgt spid="117">
                                            <p:txEl>
                                              <p:pRg st="0" end="0"/>
                                            </p:txEl>
                                          </p:spTgt>
                                        </p:tgtEl>
                                        <p:attrNameLst>
                                          <p:attrName>ppt_w</p:attrName>
                                        </p:attrNameLst>
                                      </p:cBhvr>
                                      <p:tavLst>
                                        <p:tav tm="0">
                                          <p:val>
                                            <p:strVal val="2/3*#ppt_w"/>
                                          </p:val>
                                        </p:tav>
                                        <p:tav tm="100000">
                                          <p:val>
                                            <p:strVal val="#ppt_w"/>
                                          </p:val>
                                        </p:tav>
                                      </p:tavLst>
                                    </p:anim>
                                    <p:anim calcmode="lin" valueType="num">
                                      <p:cBhvr additive="repl">
                                        <p:cTn id="8" dur="500" fill="hold"/>
                                        <p:tgtEl>
                                          <p:spTgt spid="117">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272">
                                  <p:stCondLst>
                                    <p:cond delay="0"/>
                                  </p:stCondLst>
                                  <p:childTnLst>
                                    <p:set>
                                      <p:cBhvr>
                                        <p:cTn id="12" dur="1" fill="hold">
                                          <p:stCondLst>
                                            <p:cond delay="0"/>
                                          </p:stCondLst>
                                        </p:cTn>
                                        <p:tgtEl>
                                          <p:spTgt spid="117">
                                            <p:txEl>
                                              <p:pRg st="1" end="1"/>
                                            </p:txEl>
                                          </p:spTgt>
                                        </p:tgtEl>
                                        <p:attrNameLst>
                                          <p:attrName>style.visibility</p:attrName>
                                        </p:attrNameLst>
                                      </p:cBhvr>
                                      <p:to>
                                        <p:strVal val="visible"/>
                                      </p:to>
                                    </p:set>
                                    <p:anim calcmode="lin" valueType="num">
                                      <p:cBhvr additive="repl">
                                        <p:cTn id="13" dur="500" fill="hold"/>
                                        <p:tgtEl>
                                          <p:spTgt spid="117">
                                            <p:txEl>
                                              <p:pRg st="1" end="1"/>
                                            </p:txEl>
                                          </p:spTgt>
                                        </p:tgtEl>
                                        <p:attrNameLst>
                                          <p:attrName>ppt_w</p:attrName>
                                        </p:attrNameLst>
                                      </p:cBhvr>
                                      <p:tavLst>
                                        <p:tav tm="0">
                                          <p:val>
                                            <p:strVal val="2/3*#ppt_w"/>
                                          </p:val>
                                        </p:tav>
                                        <p:tav tm="100000">
                                          <p:val>
                                            <p:strVal val="#ppt_w"/>
                                          </p:val>
                                        </p:tav>
                                      </p:tavLst>
                                    </p:anim>
                                    <p:anim calcmode="lin" valueType="num">
                                      <p:cBhvr additive="repl">
                                        <p:cTn id="14" dur="500" fill="hold"/>
                                        <p:tgtEl>
                                          <p:spTgt spid="117">
                                            <p:txEl>
                                              <p:pRg st="1" end="1"/>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834" name=""/>
          <p:cNvSpPr/>
          <p:nvPr/>
        </p:nvSpPr>
        <p:spPr>
          <a:xfrm>
            <a:off x="2047680" y="1523880"/>
            <a:ext cx="5195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Comic Sans MS"/>
              </a:rPr>
              <a:t>-4</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2)</a:t>
            </a:r>
            <a:r>
              <a:rPr b="0" lang="en-US" sz="8000" spc="-1" strike="noStrike">
                <a:solidFill>
                  <a:srgbClr val="000000"/>
                </a:solidFill>
                <a:latin typeface="Comic Sans MS"/>
              </a:rPr>
              <a:t> = ?</a:t>
            </a:r>
            <a:endParaRPr b="0" lang="en-US" sz="8000" spc="-1" strike="noStrike">
              <a:solidFill>
                <a:srgbClr val="000000"/>
              </a:solidFill>
              <a:latin typeface="Times New Roman"/>
            </a:endParaRPr>
          </a:p>
        </p:txBody>
      </p:sp>
      <p:sp>
        <p:nvSpPr>
          <p:cNvPr id="835" name=""/>
          <p:cNvSpPr/>
          <p:nvPr/>
        </p:nvSpPr>
        <p:spPr>
          <a:xfrm>
            <a:off x="3809880" y="1447920"/>
            <a:ext cx="2210040" cy="1600200"/>
          </a:xfrm>
          <a:prstGeom prst="ellipse">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3040200" y="4135320"/>
            <a:ext cx="1455120" cy="1046160"/>
            <a:chOff x="3040200" y="4135320"/>
            <a:chExt cx="1455120" cy="1046160"/>
          </a:xfrm>
        </p:grpSpPr>
        <p:sp>
          <p:nvSpPr>
            <p:cNvPr id="837" name=""/>
            <p:cNvSpPr/>
            <p:nvPr/>
          </p:nvSpPr>
          <p:spPr>
            <a:xfrm flipH="1">
              <a:off x="3696840" y="4135320"/>
              <a:ext cx="37836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H="1">
              <a:off x="3547800" y="4398840"/>
              <a:ext cx="31572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H="1">
              <a:off x="3065040" y="4216320"/>
              <a:ext cx="70884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H="1">
              <a:off x="3791880" y="4199040"/>
              <a:ext cx="70308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H="1">
              <a:off x="3677400" y="4794120"/>
              <a:ext cx="7502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flipH="1">
              <a:off x="3039840" y="4678200"/>
              <a:ext cx="68364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3" name=""/>
          <p:cNvGrpSpPr/>
          <p:nvPr/>
        </p:nvGrpSpPr>
        <p:grpSpPr>
          <a:xfrm>
            <a:off x="1066680" y="4876920"/>
            <a:ext cx="7010640" cy="1068120"/>
            <a:chOff x="1066680" y="4876920"/>
            <a:chExt cx="7010640" cy="1068120"/>
          </a:xfrm>
        </p:grpSpPr>
        <p:sp>
          <p:nvSpPr>
            <p:cNvPr id="844"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857"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858"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859"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860"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861"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862"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863"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864"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865"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866"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sp>
        <p:nvSpPr>
          <p:cNvPr id="867" name=""/>
          <p:cNvSpPr/>
          <p:nvPr/>
        </p:nvSpPr>
        <p:spPr>
          <a:xfrm>
            <a:off x="6765120" y="1660680"/>
            <a:ext cx="1090440" cy="1312920"/>
          </a:xfrm>
          <a:prstGeom prst="rect">
            <a:avLst/>
          </a:prstGeom>
          <a:gradFill rotWithShape="0">
            <a:gsLst>
              <a:gs pos="0">
                <a:srgbClr val="00cc99"/>
              </a:gs>
              <a:gs pos="100000">
                <a:srgbClr val="ffff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omic Sans MS"/>
              </a:rPr>
              <a:t>-2</a:t>
            </a:r>
            <a:endParaRPr b="0" lang="en-US" sz="8000" spc="-1" strike="noStrike">
              <a:solidFill>
                <a:srgbClr val="000000"/>
              </a:solidFill>
              <a:latin typeface="Times New Roman"/>
            </a:endParaRPr>
          </a:p>
        </p:txBody>
      </p:sp>
      <p:sp>
        <p:nvSpPr>
          <p:cNvPr id="868"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
        <p:nvSpPr>
          <p:cNvPr id="869" name=""/>
          <p:cNvSpPr/>
          <p:nvPr/>
        </p:nvSpPr>
        <p:spPr>
          <a:xfrm>
            <a:off x="2942640" y="3048120"/>
            <a:ext cx="3355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4 </a:t>
            </a:r>
            <a:r>
              <a:rPr b="0" lang="en-US" sz="4800" spc="-1" strike="noStrike">
                <a:solidFill>
                  <a:srgbClr val="cc0000"/>
                </a:solidFill>
                <a:latin typeface="Comic Sans MS"/>
              </a:rPr>
              <a:t>+</a:t>
            </a:r>
            <a:r>
              <a:rPr b="0" lang="en-US" sz="4800" spc="-1" strike="noStrike">
                <a:solidFill>
                  <a:srgbClr val="000000"/>
                </a:solidFill>
                <a:latin typeface="Comic Sans MS"/>
              </a:rPr>
              <a:t> 2 = -2]</a:t>
            </a:r>
            <a:endParaRPr b="0" lang="en-US" sz="4800" spc="-1" strike="noStrike">
              <a:solidFill>
                <a:srgbClr val="000000"/>
              </a:solidFill>
              <a:latin typeface="Times New Roman"/>
            </a:endParaRPr>
          </a:p>
        </p:txBody>
      </p:sp>
    </p:spTree>
  </p:cSld>
  <p:transition>
    <p:dissolv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7" presetSubtype="4">
                                  <p:stCondLst>
                                    <p:cond delay="0"/>
                                  </p:stCondLst>
                                  <p:childTnLst>
                                    <p:set>
                                      <p:cBhvr>
                                        <p:cTn id="224" dur="1" fill="hold">
                                          <p:stCondLst>
                                            <p:cond delay="0"/>
                                          </p:stCondLst>
                                        </p:cTn>
                                        <p:tgtEl>
                                          <p:spTgt spid="867"/>
                                        </p:tgtEl>
                                        <p:attrNameLst>
                                          <p:attrName>style.visibility</p:attrName>
                                        </p:attrNameLst>
                                      </p:cBhvr>
                                      <p:to>
                                        <p:strVal val="visible"/>
                                      </p:to>
                                    </p:set>
                                    <p:anim calcmode="lin" valueType="num">
                                      <p:cBhvr additive="repl">
                                        <p:cTn id="225" dur="500" fill="hold"/>
                                        <p:tgtEl>
                                          <p:spTgt spid="867"/>
                                        </p:tgtEl>
                                        <p:attrNameLst>
                                          <p:attrName>ppt_x</p:attrName>
                                        </p:attrNameLst>
                                      </p:cBhvr>
                                      <p:tavLst>
                                        <p:tav tm="0">
                                          <p:val>
                                            <p:strVal val="#ppt_x"/>
                                          </p:val>
                                        </p:tav>
                                        <p:tav tm="100000">
                                          <p:val>
                                            <p:strVal val="#ppt_x"/>
                                          </p:val>
                                        </p:tav>
                                      </p:tavLst>
                                    </p:anim>
                                    <p:anim calcmode="lin" valueType="num">
                                      <p:cBhvr additive="repl">
                                        <p:cTn id="226" dur="500" fill="hold"/>
                                        <p:tgtEl>
                                          <p:spTgt spid="867"/>
                                        </p:tgtEl>
                                        <p:attrNameLst>
                                          <p:attrName>ppt_y</p:attrName>
                                        </p:attrNameLst>
                                      </p:cBhvr>
                                      <p:tavLst>
                                        <p:tav tm="0">
                                          <p:val>
                                            <p:strVal val="#ppt_y+#ppt_h/2"/>
                                          </p:val>
                                        </p:tav>
                                        <p:tav tm="100000">
                                          <p:val>
                                            <p:strVal val="#ppt_y"/>
                                          </p:val>
                                        </p:tav>
                                      </p:tavLst>
                                    </p:anim>
                                    <p:anim calcmode="lin" valueType="num">
                                      <p:cBhvr additive="repl">
                                        <p:cTn id="227" dur="500" fill="hold"/>
                                        <p:tgtEl>
                                          <p:spTgt spid="867"/>
                                        </p:tgtEl>
                                        <p:attrNameLst>
                                          <p:attrName>ppt_w</p:attrName>
                                        </p:attrNameLst>
                                      </p:cBhvr>
                                      <p:tavLst>
                                        <p:tav tm="0">
                                          <p:val>
                                            <p:strVal val="#ppt_w"/>
                                          </p:val>
                                        </p:tav>
                                        <p:tav tm="100000">
                                          <p:val>
                                            <p:strVal val="#ppt_w"/>
                                          </p:val>
                                        </p:tav>
                                      </p:tavLst>
                                    </p:anim>
                                    <p:anim calcmode="lin" valueType="num">
                                      <p:cBhvr additive="repl">
                                        <p:cTn id="228" dur="500" fill="hold"/>
                                        <p:tgtEl>
                                          <p:spTgt spid="867"/>
                                        </p:tgtEl>
                                        <p:attrNameLst>
                                          <p:attrName>ppt_h</p:attrName>
                                        </p:attrNameLst>
                                      </p:cBhvr>
                                      <p:tavLst>
                                        <p:tav tm="0">
                                          <p:val>
                                            <p:fltVal val="0"/>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869"/>
                                        </p:tgtEl>
                                        <p:attrNameLst>
                                          <p:attrName>style.visibility</p:attrName>
                                        </p:attrNameLst>
                                      </p:cBhvr>
                                      <p:to>
                                        <p:strVal val="visible"/>
                                      </p:to>
                                    </p:set>
                                    <p:animEffect filter="dissolve" transition="in">
                                      <p:cBhvr additive="repl">
                                        <p:cTn id="233"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870" name=""/>
          <p:cNvSpPr/>
          <p:nvPr/>
        </p:nvSpPr>
        <p:spPr>
          <a:xfrm>
            <a:off x="1965960" y="1523880"/>
            <a:ext cx="5195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Comic Sans MS"/>
              </a:rPr>
              <a:t>-1</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4)</a:t>
            </a:r>
            <a:r>
              <a:rPr b="0" lang="en-US" sz="8000" spc="-1" strike="noStrike">
                <a:solidFill>
                  <a:srgbClr val="000000"/>
                </a:solidFill>
                <a:latin typeface="Comic Sans MS"/>
              </a:rPr>
              <a:t> = ?</a:t>
            </a:r>
            <a:endParaRPr b="0" lang="en-US" sz="8000" spc="-1" strike="noStrike">
              <a:solidFill>
                <a:srgbClr val="000000"/>
              </a:solidFill>
              <a:latin typeface="Times New Roman"/>
            </a:endParaRPr>
          </a:p>
        </p:txBody>
      </p:sp>
      <p:grpSp>
        <p:nvGrpSpPr>
          <p:cNvPr id="871" name=""/>
          <p:cNvGrpSpPr/>
          <p:nvPr/>
        </p:nvGrpSpPr>
        <p:grpSpPr>
          <a:xfrm>
            <a:off x="3809880" y="4135320"/>
            <a:ext cx="1287360" cy="1046160"/>
            <a:chOff x="3809880" y="4135320"/>
            <a:chExt cx="1287360" cy="1046160"/>
          </a:xfrm>
        </p:grpSpPr>
        <p:sp>
          <p:nvSpPr>
            <p:cNvPr id="872" name=""/>
            <p:cNvSpPr/>
            <p:nvPr/>
          </p:nvSpPr>
          <p:spPr>
            <a:xfrm>
              <a:off x="4181400" y="4135320"/>
              <a:ext cx="33480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4368600" y="4398840"/>
              <a:ext cx="27936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4447800" y="4216320"/>
              <a:ext cx="62712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3809880" y="4199040"/>
              <a:ext cx="62208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3870000" y="4794120"/>
              <a:ext cx="6638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492440" y="4678200"/>
              <a:ext cx="60480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8" name=""/>
          <p:cNvGrpSpPr/>
          <p:nvPr/>
        </p:nvGrpSpPr>
        <p:grpSpPr>
          <a:xfrm>
            <a:off x="1066680" y="4876920"/>
            <a:ext cx="7010640" cy="1068120"/>
            <a:chOff x="1066680" y="4876920"/>
            <a:chExt cx="7010640" cy="1068120"/>
          </a:xfrm>
        </p:grpSpPr>
        <p:sp>
          <p:nvSpPr>
            <p:cNvPr id="879"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892"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893"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894"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895"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896"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897"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898"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899"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900"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901"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sp>
        <p:nvSpPr>
          <p:cNvPr id="902"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903" name=""/>
          <p:cNvSpPr/>
          <p:nvPr/>
        </p:nvSpPr>
        <p:spPr>
          <a:xfrm>
            <a:off x="1676520" y="1600200"/>
            <a:ext cx="1600200" cy="1143000"/>
          </a:xfrm>
          <a:prstGeom prst="ellipse">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965960" y="1523880"/>
            <a:ext cx="5195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Comic Sans MS"/>
              </a:rPr>
              <a:t>-1</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4)</a:t>
            </a:r>
            <a:r>
              <a:rPr b="0" lang="en-US" sz="8000" spc="-1" strike="noStrike">
                <a:solidFill>
                  <a:srgbClr val="000000"/>
                </a:solidFill>
                <a:latin typeface="Comic Sans MS"/>
              </a:rPr>
              <a:t> = ?</a:t>
            </a:r>
            <a:endParaRPr b="0" lang="en-US" sz="8000" spc="-1" strike="noStrike">
              <a:solidFill>
                <a:srgbClr val="000000"/>
              </a:solidFill>
              <a:latin typeface="Times New Roman"/>
            </a:endParaRPr>
          </a:p>
        </p:txBody>
      </p:sp>
      <p:grpSp>
        <p:nvGrpSpPr>
          <p:cNvPr id="905" name=""/>
          <p:cNvGrpSpPr/>
          <p:nvPr/>
        </p:nvGrpSpPr>
        <p:grpSpPr>
          <a:xfrm>
            <a:off x="3809880" y="4135320"/>
            <a:ext cx="1287360" cy="1046160"/>
            <a:chOff x="3809880" y="4135320"/>
            <a:chExt cx="1287360" cy="1046160"/>
          </a:xfrm>
        </p:grpSpPr>
        <p:sp>
          <p:nvSpPr>
            <p:cNvPr id="906" name=""/>
            <p:cNvSpPr/>
            <p:nvPr/>
          </p:nvSpPr>
          <p:spPr>
            <a:xfrm>
              <a:off x="4181400" y="4135320"/>
              <a:ext cx="33480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4368600" y="4398840"/>
              <a:ext cx="27936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4447800" y="4216320"/>
              <a:ext cx="62712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809880" y="4199040"/>
              <a:ext cx="62208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870000" y="4794120"/>
              <a:ext cx="6638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4492440" y="4678200"/>
              <a:ext cx="60480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2" name=""/>
          <p:cNvGrpSpPr/>
          <p:nvPr/>
        </p:nvGrpSpPr>
        <p:grpSpPr>
          <a:xfrm>
            <a:off x="1066680" y="4876920"/>
            <a:ext cx="7010640" cy="1068120"/>
            <a:chOff x="1066680" y="4876920"/>
            <a:chExt cx="7010640" cy="1068120"/>
          </a:xfrm>
        </p:grpSpPr>
        <p:sp>
          <p:nvSpPr>
            <p:cNvPr id="913"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926"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927"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928"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929"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930"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931"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932"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933"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934"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935"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sp>
        <p:nvSpPr>
          <p:cNvPr id="936"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937" name=""/>
          <p:cNvSpPr/>
          <p:nvPr/>
        </p:nvSpPr>
        <p:spPr>
          <a:xfrm>
            <a:off x="1676520" y="1600200"/>
            <a:ext cx="1600200" cy="1143000"/>
          </a:xfrm>
          <a:prstGeom prst="ellipse">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965960" y="1523880"/>
            <a:ext cx="5195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Comic Sans MS"/>
              </a:rPr>
              <a:t>-1</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4)</a:t>
            </a:r>
            <a:r>
              <a:rPr b="0" lang="en-US" sz="8000" spc="-1" strike="noStrike">
                <a:solidFill>
                  <a:srgbClr val="000000"/>
                </a:solidFill>
                <a:latin typeface="Comic Sans MS"/>
              </a:rPr>
              <a:t> = ?</a:t>
            </a:r>
            <a:endParaRPr b="0" lang="en-US" sz="8000" spc="-1" strike="noStrike">
              <a:solidFill>
                <a:srgbClr val="000000"/>
              </a:solidFill>
              <a:latin typeface="Times New Roman"/>
            </a:endParaRPr>
          </a:p>
        </p:txBody>
      </p:sp>
      <p:grpSp>
        <p:nvGrpSpPr>
          <p:cNvPr id="939" name=""/>
          <p:cNvGrpSpPr/>
          <p:nvPr/>
        </p:nvGrpSpPr>
        <p:grpSpPr>
          <a:xfrm>
            <a:off x="3132000" y="4135320"/>
            <a:ext cx="1287360" cy="1046160"/>
            <a:chOff x="3132000" y="4135320"/>
            <a:chExt cx="1287360" cy="1046160"/>
          </a:xfrm>
        </p:grpSpPr>
        <p:sp>
          <p:nvSpPr>
            <p:cNvPr id="940" name=""/>
            <p:cNvSpPr/>
            <p:nvPr/>
          </p:nvSpPr>
          <p:spPr>
            <a:xfrm>
              <a:off x="3503520" y="4135320"/>
              <a:ext cx="33480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3690720" y="4398840"/>
              <a:ext cx="27936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3769920" y="4216320"/>
              <a:ext cx="62712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3132000" y="4199040"/>
              <a:ext cx="62208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3192120" y="4794120"/>
              <a:ext cx="6638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3814560" y="4678200"/>
              <a:ext cx="60480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6" name=""/>
          <p:cNvGrpSpPr/>
          <p:nvPr/>
        </p:nvGrpSpPr>
        <p:grpSpPr>
          <a:xfrm>
            <a:off x="1066680" y="4876920"/>
            <a:ext cx="7010640" cy="1068120"/>
            <a:chOff x="1066680" y="4876920"/>
            <a:chExt cx="7010640" cy="1068120"/>
          </a:xfrm>
        </p:grpSpPr>
        <p:sp>
          <p:nvSpPr>
            <p:cNvPr id="947"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960"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961"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962"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963"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964"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965"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966"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967"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968"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969"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sp>
        <p:nvSpPr>
          <p:cNvPr id="970"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971" name=""/>
          <p:cNvSpPr/>
          <p:nvPr/>
        </p:nvSpPr>
        <p:spPr>
          <a:xfrm>
            <a:off x="3048120" y="1600200"/>
            <a:ext cx="761760" cy="1143000"/>
          </a:xfrm>
          <a:prstGeom prst="ellipse">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965960" y="1523880"/>
            <a:ext cx="5195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Comic Sans MS"/>
              </a:rPr>
              <a:t>-1</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4)</a:t>
            </a:r>
            <a:r>
              <a:rPr b="0" lang="en-US" sz="8000" spc="-1" strike="noStrike">
                <a:solidFill>
                  <a:srgbClr val="000000"/>
                </a:solidFill>
                <a:latin typeface="Comic Sans MS"/>
              </a:rPr>
              <a:t> = ?</a:t>
            </a:r>
            <a:endParaRPr b="0" lang="en-US" sz="8000" spc="-1" strike="noStrike">
              <a:solidFill>
                <a:srgbClr val="000000"/>
              </a:solidFill>
              <a:latin typeface="Times New Roman"/>
            </a:endParaRPr>
          </a:p>
        </p:txBody>
      </p:sp>
      <p:grpSp>
        <p:nvGrpSpPr>
          <p:cNvPr id="973" name=""/>
          <p:cNvGrpSpPr/>
          <p:nvPr/>
        </p:nvGrpSpPr>
        <p:grpSpPr>
          <a:xfrm>
            <a:off x="3132000" y="4135320"/>
            <a:ext cx="1287360" cy="1046160"/>
            <a:chOff x="3132000" y="4135320"/>
            <a:chExt cx="1287360" cy="1046160"/>
          </a:xfrm>
        </p:grpSpPr>
        <p:sp>
          <p:nvSpPr>
            <p:cNvPr id="974" name=""/>
            <p:cNvSpPr/>
            <p:nvPr/>
          </p:nvSpPr>
          <p:spPr>
            <a:xfrm>
              <a:off x="3503520" y="4135320"/>
              <a:ext cx="33480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690720" y="4398840"/>
              <a:ext cx="27936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3769920" y="4216320"/>
              <a:ext cx="62712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132000" y="4199040"/>
              <a:ext cx="62208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3192120" y="4794120"/>
              <a:ext cx="6638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3814560" y="4678200"/>
              <a:ext cx="60480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0" name=""/>
          <p:cNvGrpSpPr/>
          <p:nvPr/>
        </p:nvGrpSpPr>
        <p:grpSpPr>
          <a:xfrm>
            <a:off x="1066680" y="4876920"/>
            <a:ext cx="7010640" cy="1068120"/>
            <a:chOff x="1066680" y="4876920"/>
            <a:chExt cx="7010640" cy="1068120"/>
          </a:xfrm>
        </p:grpSpPr>
        <p:sp>
          <p:nvSpPr>
            <p:cNvPr id="981"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994"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995"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996"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997"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998"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999"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000"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001"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002"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003"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sp>
        <p:nvSpPr>
          <p:cNvPr id="1004"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05" name=""/>
          <p:cNvSpPr/>
          <p:nvPr/>
        </p:nvSpPr>
        <p:spPr>
          <a:xfrm>
            <a:off x="3048120" y="1600200"/>
            <a:ext cx="761760" cy="1143000"/>
          </a:xfrm>
          <a:prstGeom prst="ellipse">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965960" y="1523880"/>
            <a:ext cx="5195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Comic Sans MS"/>
              </a:rPr>
              <a:t>-1</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4)</a:t>
            </a:r>
            <a:r>
              <a:rPr b="0" lang="en-US" sz="8000" spc="-1" strike="noStrike">
                <a:solidFill>
                  <a:srgbClr val="000000"/>
                </a:solidFill>
                <a:latin typeface="Comic Sans MS"/>
              </a:rPr>
              <a:t> = ?</a:t>
            </a:r>
            <a:endParaRPr b="0" lang="en-US" sz="8000" spc="-1" strike="noStrike">
              <a:solidFill>
                <a:srgbClr val="000000"/>
              </a:solidFill>
              <a:latin typeface="Times New Roman"/>
            </a:endParaRPr>
          </a:p>
        </p:txBody>
      </p:sp>
      <p:grpSp>
        <p:nvGrpSpPr>
          <p:cNvPr id="1007" name=""/>
          <p:cNvGrpSpPr/>
          <p:nvPr/>
        </p:nvGrpSpPr>
        <p:grpSpPr>
          <a:xfrm>
            <a:off x="3650040" y="4135320"/>
            <a:ext cx="1455480" cy="1046160"/>
            <a:chOff x="3650040" y="4135320"/>
            <a:chExt cx="1455480" cy="1046160"/>
          </a:xfrm>
        </p:grpSpPr>
        <p:sp>
          <p:nvSpPr>
            <p:cNvPr id="1008" name=""/>
            <p:cNvSpPr/>
            <p:nvPr/>
          </p:nvSpPr>
          <p:spPr>
            <a:xfrm flipH="1">
              <a:off x="4306680" y="4135320"/>
              <a:ext cx="37836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flipH="1">
              <a:off x="4157640" y="4398840"/>
              <a:ext cx="31572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H="1">
              <a:off x="3675240" y="4216320"/>
              <a:ext cx="70884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flipH="1">
              <a:off x="4402080" y="4199040"/>
              <a:ext cx="70344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H="1">
              <a:off x="4286880" y="4794120"/>
              <a:ext cx="75060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H="1">
              <a:off x="3649680" y="4678200"/>
              <a:ext cx="68364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4" name=""/>
          <p:cNvGrpSpPr/>
          <p:nvPr/>
        </p:nvGrpSpPr>
        <p:grpSpPr>
          <a:xfrm>
            <a:off x="1066680" y="4876920"/>
            <a:ext cx="7010640" cy="1068120"/>
            <a:chOff x="1066680" y="4876920"/>
            <a:chExt cx="7010640" cy="1068120"/>
          </a:xfrm>
        </p:grpSpPr>
        <p:sp>
          <p:nvSpPr>
            <p:cNvPr id="1015"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1028"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1029"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030"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031"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032"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033"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034"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035"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036"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037"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sp>
        <p:nvSpPr>
          <p:cNvPr id="1038"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39" name=""/>
          <p:cNvSpPr/>
          <p:nvPr/>
        </p:nvSpPr>
        <p:spPr>
          <a:xfrm>
            <a:off x="1965960" y="1523880"/>
            <a:ext cx="5195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Comic Sans MS"/>
              </a:rPr>
              <a:t>-1</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4)</a:t>
            </a:r>
            <a:r>
              <a:rPr b="0" lang="en-US" sz="8000" spc="-1" strike="noStrike">
                <a:solidFill>
                  <a:srgbClr val="000000"/>
                </a:solidFill>
                <a:latin typeface="Comic Sans MS"/>
              </a:rPr>
              <a:t> = ?</a:t>
            </a:r>
            <a:endParaRPr b="0" lang="en-US" sz="8000" spc="-1" strike="noStrike">
              <a:solidFill>
                <a:srgbClr val="000000"/>
              </a:solidFill>
              <a:latin typeface="Times New Roman"/>
            </a:endParaRPr>
          </a:p>
        </p:txBody>
      </p:sp>
      <p:sp>
        <p:nvSpPr>
          <p:cNvPr id="1040" name=""/>
          <p:cNvSpPr/>
          <p:nvPr/>
        </p:nvSpPr>
        <p:spPr>
          <a:xfrm>
            <a:off x="3809880" y="1447920"/>
            <a:ext cx="2210040" cy="1600200"/>
          </a:xfrm>
          <a:prstGeom prst="ellipse">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3650040" y="4135320"/>
            <a:ext cx="1455480" cy="1046160"/>
            <a:chOff x="3650040" y="4135320"/>
            <a:chExt cx="1455480" cy="1046160"/>
          </a:xfrm>
        </p:grpSpPr>
        <p:sp>
          <p:nvSpPr>
            <p:cNvPr id="1042" name=""/>
            <p:cNvSpPr/>
            <p:nvPr/>
          </p:nvSpPr>
          <p:spPr>
            <a:xfrm flipH="1">
              <a:off x="4306680" y="4135320"/>
              <a:ext cx="37836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flipH="1">
              <a:off x="4157640" y="4398840"/>
              <a:ext cx="31572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flipH="1">
              <a:off x="3675240" y="4216320"/>
              <a:ext cx="70884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H="1">
              <a:off x="4402080" y="4199040"/>
              <a:ext cx="70344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flipH="1">
              <a:off x="4286880" y="4794120"/>
              <a:ext cx="75060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H="1">
              <a:off x="3649680" y="4678200"/>
              <a:ext cx="68364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8" name=""/>
          <p:cNvGrpSpPr/>
          <p:nvPr/>
        </p:nvGrpSpPr>
        <p:grpSpPr>
          <a:xfrm>
            <a:off x="1066680" y="4876920"/>
            <a:ext cx="7010640" cy="1068120"/>
            <a:chOff x="1066680" y="4876920"/>
            <a:chExt cx="7010640" cy="1068120"/>
          </a:xfrm>
        </p:grpSpPr>
        <p:sp>
          <p:nvSpPr>
            <p:cNvPr id="1049"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1062"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1063"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064"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065"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066"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067"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068"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069"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070"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071"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sp>
        <p:nvSpPr>
          <p:cNvPr id="1072"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73" name=""/>
          <p:cNvSpPr/>
          <p:nvPr/>
        </p:nvSpPr>
        <p:spPr>
          <a:xfrm>
            <a:off x="1965960" y="1523880"/>
            <a:ext cx="5195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Comic Sans MS"/>
              </a:rPr>
              <a:t>-1</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4)</a:t>
            </a:r>
            <a:r>
              <a:rPr b="0" lang="en-US" sz="8000" spc="-1" strike="noStrike">
                <a:solidFill>
                  <a:srgbClr val="000000"/>
                </a:solidFill>
                <a:latin typeface="Comic Sans MS"/>
              </a:rPr>
              <a:t> = ?</a:t>
            </a:r>
            <a:endParaRPr b="0" lang="en-US" sz="8000" spc="-1" strike="noStrike">
              <a:solidFill>
                <a:srgbClr val="000000"/>
              </a:solidFill>
              <a:latin typeface="Times New Roman"/>
            </a:endParaRPr>
          </a:p>
        </p:txBody>
      </p:sp>
      <p:sp>
        <p:nvSpPr>
          <p:cNvPr id="1074" name=""/>
          <p:cNvSpPr/>
          <p:nvPr/>
        </p:nvSpPr>
        <p:spPr>
          <a:xfrm>
            <a:off x="3809880" y="1447920"/>
            <a:ext cx="2210040" cy="1600200"/>
          </a:xfrm>
          <a:prstGeom prst="ellipse">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5" name=""/>
          <p:cNvGrpSpPr/>
          <p:nvPr/>
        </p:nvGrpSpPr>
        <p:grpSpPr>
          <a:xfrm>
            <a:off x="6088320" y="4135320"/>
            <a:ext cx="1455480" cy="1046160"/>
            <a:chOff x="6088320" y="4135320"/>
            <a:chExt cx="1455480" cy="1046160"/>
          </a:xfrm>
        </p:grpSpPr>
        <p:sp>
          <p:nvSpPr>
            <p:cNvPr id="1076" name=""/>
            <p:cNvSpPr/>
            <p:nvPr/>
          </p:nvSpPr>
          <p:spPr>
            <a:xfrm flipH="1">
              <a:off x="6744960" y="4135320"/>
              <a:ext cx="37836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flipH="1">
              <a:off x="6595920" y="4398840"/>
              <a:ext cx="31572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flipH="1">
              <a:off x="6113520" y="4216320"/>
              <a:ext cx="70884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flipH="1">
              <a:off x="6840360" y="4199040"/>
              <a:ext cx="70344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flipH="1">
              <a:off x="6725160" y="4794120"/>
              <a:ext cx="75060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flipH="1">
              <a:off x="6087960" y="4678200"/>
              <a:ext cx="68364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2" name=""/>
          <p:cNvGrpSpPr/>
          <p:nvPr/>
        </p:nvGrpSpPr>
        <p:grpSpPr>
          <a:xfrm>
            <a:off x="1066680" y="4876920"/>
            <a:ext cx="7010640" cy="1068120"/>
            <a:chOff x="1066680" y="4876920"/>
            <a:chExt cx="7010640" cy="1068120"/>
          </a:xfrm>
        </p:grpSpPr>
        <p:sp>
          <p:nvSpPr>
            <p:cNvPr id="1083"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1096"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1097"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098"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099"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100"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101"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102"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103"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104"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105"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sp>
        <p:nvSpPr>
          <p:cNvPr id="1106" name=""/>
          <p:cNvSpPr/>
          <p:nvPr/>
        </p:nvSpPr>
        <p:spPr>
          <a:xfrm>
            <a:off x="6716880" y="1660680"/>
            <a:ext cx="762840" cy="1312920"/>
          </a:xfrm>
          <a:prstGeom prst="rect">
            <a:avLst/>
          </a:prstGeom>
          <a:gradFill rotWithShape="0">
            <a:gsLst>
              <a:gs pos="0">
                <a:srgbClr val="00cc99"/>
              </a:gs>
              <a:gs pos="100000">
                <a:srgbClr val="ffff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omic Sans MS"/>
              </a:rPr>
              <a:t>3</a:t>
            </a:r>
            <a:endParaRPr b="0" lang="en-US" sz="8000" spc="-1" strike="noStrike">
              <a:solidFill>
                <a:srgbClr val="000000"/>
              </a:solidFill>
              <a:latin typeface="Times New Roman"/>
            </a:endParaRPr>
          </a:p>
        </p:txBody>
      </p:sp>
      <p:sp>
        <p:nvSpPr>
          <p:cNvPr id="1107"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dissolve/>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7" presetSubtype="4">
                                  <p:stCondLst>
                                    <p:cond delay="0"/>
                                  </p:stCondLst>
                                  <p:childTnLst>
                                    <p:set>
                                      <p:cBhvr>
                                        <p:cTn id="239" dur="1" fill="hold">
                                          <p:stCondLst>
                                            <p:cond delay="0"/>
                                          </p:stCondLst>
                                        </p:cTn>
                                        <p:tgtEl>
                                          <p:spTgt spid="1106"/>
                                        </p:tgtEl>
                                        <p:attrNameLst>
                                          <p:attrName>style.visibility</p:attrName>
                                        </p:attrNameLst>
                                      </p:cBhvr>
                                      <p:to>
                                        <p:strVal val="visible"/>
                                      </p:to>
                                    </p:set>
                                    <p:anim calcmode="lin" valueType="num">
                                      <p:cBhvr additive="repl">
                                        <p:cTn id="240" dur="500" fill="hold"/>
                                        <p:tgtEl>
                                          <p:spTgt spid="1106"/>
                                        </p:tgtEl>
                                        <p:attrNameLst>
                                          <p:attrName>ppt_x</p:attrName>
                                        </p:attrNameLst>
                                      </p:cBhvr>
                                      <p:tavLst>
                                        <p:tav tm="0">
                                          <p:val>
                                            <p:strVal val="#ppt_x"/>
                                          </p:val>
                                        </p:tav>
                                        <p:tav tm="100000">
                                          <p:val>
                                            <p:strVal val="#ppt_x"/>
                                          </p:val>
                                        </p:tav>
                                      </p:tavLst>
                                    </p:anim>
                                    <p:anim calcmode="lin" valueType="num">
                                      <p:cBhvr additive="repl">
                                        <p:cTn id="241" dur="500" fill="hold"/>
                                        <p:tgtEl>
                                          <p:spTgt spid="1106"/>
                                        </p:tgtEl>
                                        <p:attrNameLst>
                                          <p:attrName>ppt_y</p:attrName>
                                        </p:attrNameLst>
                                      </p:cBhvr>
                                      <p:tavLst>
                                        <p:tav tm="0">
                                          <p:val>
                                            <p:strVal val="#ppt_y+#ppt_h/2"/>
                                          </p:val>
                                        </p:tav>
                                        <p:tav tm="100000">
                                          <p:val>
                                            <p:strVal val="#ppt_y"/>
                                          </p:val>
                                        </p:tav>
                                      </p:tavLst>
                                    </p:anim>
                                    <p:anim calcmode="lin" valueType="num">
                                      <p:cBhvr additive="repl">
                                        <p:cTn id="242" dur="500" fill="hold"/>
                                        <p:tgtEl>
                                          <p:spTgt spid="1106"/>
                                        </p:tgtEl>
                                        <p:attrNameLst>
                                          <p:attrName>ppt_w</p:attrName>
                                        </p:attrNameLst>
                                      </p:cBhvr>
                                      <p:tavLst>
                                        <p:tav tm="0">
                                          <p:val>
                                            <p:strVal val="#ppt_w"/>
                                          </p:val>
                                        </p:tav>
                                        <p:tav tm="100000">
                                          <p:val>
                                            <p:strVal val="#ppt_w"/>
                                          </p:val>
                                        </p:tav>
                                      </p:tavLst>
                                    </p:anim>
                                    <p:anim calcmode="lin" valueType="num">
                                      <p:cBhvr additive="repl">
                                        <p:cTn id="243" dur="500" fill="hold"/>
                                        <p:tgtEl>
                                          <p:spTgt spid="1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108" name=""/>
          <p:cNvSpPr/>
          <p:nvPr/>
        </p:nvSpPr>
        <p:spPr>
          <a:xfrm>
            <a:off x="2746800" y="1523880"/>
            <a:ext cx="3930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Comic Sans MS"/>
              </a:rPr>
              <a:t>3</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5</a:t>
            </a:r>
            <a:r>
              <a:rPr b="0" lang="en-US" sz="8000" spc="-1" strike="noStrike">
                <a:solidFill>
                  <a:srgbClr val="000000"/>
                </a:solidFill>
                <a:latin typeface="Comic Sans MS"/>
              </a:rPr>
              <a:t> = ?</a:t>
            </a:r>
            <a:endParaRPr b="0" lang="en-US" sz="8000" spc="-1" strike="noStrike">
              <a:solidFill>
                <a:srgbClr val="000000"/>
              </a:solidFill>
              <a:latin typeface="Times New Roman"/>
            </a:endParaRPr>
          </a:p>
        </p:txBody>
      </p:sp>
      <p:grpSp>
        <p:nvGrpSpPr>
          <p:cNvPr id="1109" name=""/>
          <p:cNvGrpSpPr/>
          <p:nvPr/>
        </p:nvGrpSpPr>
        <p:grpSpPr>
          <a:xfrm>
            <a:off x="3809880" y="4135320"/>
            <a:ext cx="1287360" cy="1046160"/>
            <a:chOff x="3809880" y="4135320"/>
            <a:chExt cx="1287360" cy="1046160"/>
          </a:xfrm>
        </p:grpSpPr>
        <p:sp>
          <p:nvSpPr>
            <p:cNvPr id="1110" name=""/>
            <p:cNvSpPr/>
            <p:nvPr/>
          </p:nvSpPr>
          <p:spPr>
            <a:xfrm>
              <a:off x="4181400" y="4135320"/>
              <a:ext cx="33480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4368600" y="4398840"/>
              <a:ext cx="27936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4447800" y="4216320"/>
              <a:ext cx="62712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3809880" y="4199040"/>
              <a:ext cx="62208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3870000" y="4794120"/>
              <a:ext cx="6638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4492440" y="4678200"/>
              <a:ext cx="60480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6" name=""/>
          <p:cNvGrpSpPr/>
          <p:nvPr/>
        </p:nvGrpSpPr>
        <p:grpSpPr>
          <a:xfrm>
            <a:off x="1066680" y="4876920"/>
            <a:ext cx="7010640" cy="1068120"/>
            <a:chOff x="1066680" y="4876920"/>
            <a:chExt cx="7010640" cy="1068120"/>
          </a:xfrm>
        </p:grpSpPr>
        <p:sp>
          <p:nvSpPr>
            <p:cNvPr id="1117"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1130"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1131"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132"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133"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134"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135"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136"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137"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138"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139"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sp>
        <p:nvSpPr>
          <p:cNvPr id="1140"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141" name=""/>
          <p:cNvSpPr/>
          <p:nvPr/>
        </p:nvSpPr>
        <p:spPr>
          <a:xfrm>
            <a:off x="1905120" y="1523880"/>
            <a:ext cx="51228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Comic Sans MS"/>
              </a:rPr>
              <a:t>3</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5)</a:t>
            </a:r>
            <a:r>
              <a:rPr b="0" lang="en-US" sz="8000" spc="-1" strike="noStrike">
                <a:solidFill>
                  <a:srgbClr val="000000"/>
                </a:solidFill>
                <a:latin typeface="Comic Sans MS"/>
              </a:rPr>
              <a:t> = ?</a:t>
            </a:r>
            <a:endParaRPr b="0" lang="en-US" sz="8000" spc="-1" strike="noStrike">
              <a:solidFill>
                <a:srgbClr val="000000"/>
              </a:solidFill>
              <a:latin typeface="Times New Roman"/>
            </a:endParaRPr>
          </a:p>
        </p:txBody>
      </p:sp>
      <p:grpSp>
        <p:nvGrpSpPr>
          <p:cNvPr id="1142" name=""/>
          <p:cNvGrpSpPr/>
          <p:nvPr/>
        </p:nvGrpSpPr>
        <p:grpSpPr>
          <a:xfrm>
            <a:off x="3809880" y="4135320"/>
            <a:ext cx="1287360" cy="1046160"/>
            <a:chOff x="3809880" y="4135320"/>
            <a:chExt cx="1287360" cy="1046160"/>
          </a:xfrm>
        </p:grpSpPr>
        <p:sp>
          <p:nvSpPr>
            <p:cNvPr id="1143" name=""/>
            <p:cNvSpPr/>
            <p:nvPr/>
          </p:nvSpPr>
          <p:spPr>
            <a:xfrm>
              <a:off x="4181400" y="4135320"/>
              <a:ext cx="33480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4368600" y="4398840"/>
              <a:ext cx="27936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447800" y="4216320"/>
              <a:ext cx="62712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3809880" y="4199040"/>
              <a:ext cx="62208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870000" y="4794120"/>
              <a:ext cx="6638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4492440" y="4678200"/>
              <a:ext cx="60480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9" name=""/>
          <p:cNvGrpSpPr/>
          <p:nvPr/>
        </p:nvGrpSpPr>
        <p:grpSpPr>
          <a:xfrm>
            <a:off x="1066680" y="4876920"/>
            <a:ext cx="7010640" cy="1068120"/>
            <a:chOff x="1066680" y="4876920"/>
            <a:chExt cx="7010640" cy="1068120"/>
          </a:xfrm>
        </p:grpSpPr>
        <p:sp>
          <p:nvSpPr>
            <p:cNvPr id="1150"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1163"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1164"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165"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166"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167"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168"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169"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170"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171"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172"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sp>
        <p:nvSpPr>
          <p:cNvPr id="1173"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6" name=""/>
          <p:cNvSpPr/>
          <p:nvPr/>
        </p:nvSpPr>
        <p:spPr>
          <a:xfrm>
            <a:off x="609480" y="1308240"/>
            <a:ext cx="81536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Ann has $456, and repays a $234 loan, how much money does she have left?</a:t>
            </a:r>
            <a:endParaRPr b="0" lang="en-US" sz="4000" spc="-1" strike="noStrike">
              <a:solidFill>
                <a:srgbClr val="000000"/>
              </a:solidFill>
              <a:latin typeface="Times New Roman"/>
            </a:endParaRPr>
          </a:p>
        </p:txBody>
      </p:sp>
      <p:grpSp>
        <p:nvGrpSpPr>
          <p:cNvPr id="177" name=""/>
          <p:cNvGrpSpPr/>
          <p:nvPr/>
        </p:nvGrpSpPr>
        <p:grpSpPr>
          <a:xfrm>
            <a:off x="609480" y="4114800"/>
            <a:ext cx="2590560" cy="2125440"/>
            <a:chOff x="609480" y="4114800"/>
            <a:chExt cx="2590560" cy="2125440"/>
          </a:xfrm>
        </p:grpSpPr>
        <p:sp>
          <p:nvSpPr>
            <p:cNvPr id="178" name=""/>
            <p:cNvSpPr/>
            <p:nvPr/>
          </p:nvSpPr>
          <p:spPr>
            <a:xfrm>
              <a:off x="609480" y="4114800"/>
              <a:ext cx="2590560" cy="2125440"/>
            </a:xfrm>
            <a:custGeom>
              <a:avLst/>
              <a:gdLst/>
              <a:ahLst/>
              <a:rect l="l" t="t" r="r" b="b"/>
              <a:pathLst>
                <a:path w="2970" h="2608">
                  <a:moveTo>
                    <a:pt x="1607" y="67"/>
                  </a:moveTo>
                  <a:lnTo>
                    <a:pt x="1610" y="72"/>
                  </a:lnTo>
                  <a:lnTo>
                    <a:pt x="1613" y="77"/>
                  </a:lnTo>
                  <a:lnTo>
                    <a:pt x="1614" y="83"/>
                  </a:lnTo>
                  <a:lnTo>
                    <a:pt x="1619" y="88"/>
                  </a:lnTo>
                  <a:lnTo>
                    <a:pt x="1631" y="74"/>
                  </a:lnTo>
                  <a:lnTo>
                    <a:pt x="1645" y="63"/>
                  </a:lnTo>
                  <a:lnTo>
                    <a:pt x="1659" y="53"/>
                  </a:lnTo>
                  <a:lnTo>
                    <a:pt x="1675" y="46"/>
                  </a:lnTo>
                  <a:lnTo>
                    <a:pt x="1692" y="39"/>
                  </a:lnTo>
                  <a:lnTo>
                    <a:pt x="1709" y="36"/>
                  </a:lnTo>
                  <a:lnTo>
                    <a:pt x="1726" y="35"/>
                  </a:lnTo>
                  <a:lnTo>
                    <a:pt x="1745" y="35"/>
                  </a:lnTo>
                  <a:lnTo>
                    <a:pt x="1767" y="36"/>
                  </a:lnTo>
                  <a:lnTo>
                    <a:pt x="1787" y="41"/>
                  </a:lnTo>
                  <a:lnTo>
                    <a:pt x="1807" y="49"/>
                  </a:lnTo>
                  <a:lnTo>
                    <a:pt x="1824" y="58"/>
                  </a:lnTo>
                  <a:lnTo>
                    <a:pt x="1843" y="70"/>
                  </a:lnTo>
                  <a:lnTo>
                    <a:pt x="1859" y="83"/>
                  </a:lnTo>
                  <a:lnTo>
                    <a:pt x="1874" y="98"/>
                  </a:lnTo>
                  <a:lnTo>
                    <a:pt x="1890" y="116"/>
                  </a:lnTo>
                  <a:lnTo>
                    <a:pt x="1916" y="116"/>
                  </a:lnTo>
                  <a:lnTo>
                    <a:pt x="1941" y="120"/>
                  </a:lnTo>
                  <a:lnTo>
                    <a:pt x="1965" y="127"/>
                  </a:lnTo>
                  <a:lnTo>
                    <a:pt x="1986" y="134"/>
                  </a:lnTo>
                  <a:lnTo>
                    <a:pt x="2010" y="144"/>
                  </a:lnTo>
                  <a:lnTo>
                    <a:pt x="2031" y="155"/>
                  </a:lnTo>
                  <a:lnTo>
                    <a:pt x="2053" y="164"/>
                  </a:lnTo>
                  <a:lnTo>
                    <a:pt x="2077" y="173"/>
                  </a:lnTo>
                  <a:lnTo>
                    <a:pt x="2097" y="189"/>
                  </a:lnTo>
                  <a:lnTo>
                    <a:pt x="2114" y="206"/>
                  </a:lnTo>
                  <a:lnTo>
                    <a:pt x="2128" y="226"/>
                  </a:lnTo>
                  <a:lnTo>
                    <a:pt x="2142" y="246"/>
                  </a:lnTo>
                  <a:lnTo>
                    <a:pt x="2156" y="265"/>
                  </a:lnTo>
                  <a:lnTo>
                    <a:pt x="2170" y="285"/>
                  </a:lnTo>
                  <a:lnTo>
                    <a:pt x="2187" y="301"/>
                  </a:lnTo>
                  <a:lnTo>
                    <a:pt x="2207" y="315"/>
                  </a:lnTo>
                  <a:lnTo>
                    <a:pt x="2240" y="351"/>
                  </a:lnTo>
                  <a:lnTo>
                    <a:pt x="2265" y="391"/>
                  </a:lnTo>
                  <a:lnTo>
                    <a:pt x="2280" y="435"/>
                  </a:lnTo>
                  <a:lnTo>
                    <a:pt x="2290" y="480"/>
                  </a:lnTo>
                  <a:lnTo>
                    <a:pt x="2293" y="528"/>
                  </a:lnTo>
                  <a:lnTo>
                    <a:pt x="2290" y="577"/>
                  </a:lnTo>
                  <a:lnTo>
                    <a:pt x="2284" y="625"/>
                  </a:lnTo>
                  <a:lnTo>
                    <a:pt x="2273" y="673"/>
                  </a:lnTo>
                  <a:lnTo>
                    <a:pt x="2282" y="687"/>
                  </a:lnTo>
                  <a:lnTo>
                    <a:pt x="2285" y="704"/>
                  </a:lnTo>
                  <a:lnTo>
                    <a:pt x="2287" y="720"/>
                  </a:lnTo>
                  <a:lnTo>
                    <a:pt x="2301" y="728"/>
                  </a:lnTo>
                  <a:lnTo>
                    <a:pt x="2318" y="748"/>
                  </a:lnTo>
                  <a:lnTo>
                    <a:pt x="2324" y="773"/>
                  </a:lnTo>
                  <a:lnTo>
                    <a:pt x="2326" y="801"/>
                  </a:lnTo>
                  <a:lnTo>
                    <a:pt x="2326" y="828"/>
                  </a:lnTo>
                  <a:lnTo>
                    <a:pt x="2324" y="848"/>
                  </a:lnTo>
                  <a:lnTo>
                    <a:pt x="2319" y="868"/>
                  </a:lnTo>
                  <a:lnTo>
                    <a:pt x="2315" y="888"/>
                  </a:lnTo>
                  <a:lnTo>
                    <a:pt x="2308" y="909"/>
                  </a:lnTo>
                  <a:lnTo>
                    <a:pt x="2301" y="927"/>
                  </a:lnTo>
                  <a:lnTo>
                    <a:pt x="2291" y="947"/>
                  </a:lnTo>
                  <a:lnTo>
                    <a:pt x="2280" y="966"/>
                  </a:lnTo>
                  <a:lnTo>
                    <a:pt x="2270" y="985"/>
                  </a:lnTo>
                  <a:lnTo>
                    <a:pt x="2315" y="1032"/>
                  </a:lnTo>
                  <a:lnTo>
                    <a:pt x="2357" y="1081"/>
                  </a:lnTo>
                  <a:lnTo>
                    <a:pt x="2391" y="1136"/>
                  </a:lnTo>
                  <a:lnTo>
                    <a:pt x="2421" y="1192"/>
                  </a:lnTo>
                  <a:lnTo>
                    <a:pt x="2442" y="1251"/>
                  </a:lnTo>
                  <a:lnTo>
                    <a:pt x="2458" y="1314"/>
                  </a:lnTo>
                  <a:lnTo>
                    <a:pt x="2466" y="1377"/>
                  </a:lnTo>
                  <a:lnTo>
                    <a:pt x="2467" y="1444"/>
                  </a:lnTo>
                  <a:lnTo>
                    <a:pt x="2463" y="1471"/>
                  </a:lnTo>
                  <a:lnTo>
                    <a:pt x="2459" y="1496"/>
                  </a:lnTo>
                  <a:lnTo>
                    <a:pt x="2455" y="1522"/>
                  </a:lnTo>
                  <a:lnTo>
                    <a:pt x="2447" y="1547"/>
                  </a:lnTo>
                  <a:lnTo>
                    <a:pt x="2461" y="1591"/>
                  </a:lnTo>
                  <a:lnTo>
                    <a:pt x="2470" y="1636"/>
                  </a:lnTo>
                  <a:lnTo>
                    <a:pt x="2473" y="1684"/>
                  </a:lnTo>
                  <a:lnTo>
                    <a:pt x="2473" y="1731"/>
                  </a:lnTo>
                  <a:lnTo>
                    <a:pt x="2467" y="1778"/>
                  </a:lnTo>
                  <a:lnTo>
                    <a:pt x="2458" y="1823"/>
                  </a:lnTo>
                  <a:lnTo>
                    <a:pt x="2445" y="1868"/>
                  </a:lnTo>
                  <a:lnTo>
                    <a:pt x="2428" y="1909"/>
                  </a:lnTo>
                  <a:lnTo>
                    <a:pt x="2453" y="1910"/>
                  </a:lnTo>
                  <a:lnTo>
                    <a:pt x="2481" y="1913"/>
                  </a:lnTo>
                  <a:lnTo>
                    <a:pt x="2508" y="1915"/>
                  </a:lnTo>
                  <a:lnTo>
                    <a:pt x="2537" y="1915"/>
                  </a:lnTo>
                  <a:lnTo>
                    <a:pt x="2565" y="1915"/>
                  </a:lnTo>
                  <a:lnTo>
                    <a:pt x="2592" y="1912"/>
                  </a:lnTo>
                  <a:lnTo>
                    <a:pt x="2620" y="1909"/>
                  </a:lnTo>
                  <a:lnTo>
                    <a:pt x="2645" y="1902"/>
                  </a:lnTo>
                  <a:lnTo>
                    <a:pt x="2649" y="1912"/>
                  </a:lnTo>
                  <a:lnTo>
                    <a:pt x="2652" y="1923"/>
                  </a:lnTo>
                  <a:lnTo>
                    <a:pt x="2654" y="1934"/>
                  </a:lnTo>
                  <a:lnTo>
                    <a:pt x="2656" y="1944"/>
                  </a:lnTo>
                  <a:lnTo>
                    <a:pt x="2668" y="1977"/>
                  </a:lnTo>
                  <a:lnTo>
                    <a:pt x="2680" y="2010"/>
                  </a:lnTo>
                  <a:lnTo>
                    <a:pt x="2695" y="2041"/>
                  </a:lnTo>
                  <a:lnTo>
                    <a:pt x="2709" y="2074"/>
                  </a:lnTo>
                  <a:lnTo>
                    <a:pt x="2723" y="2105"/>
                  </a:lnTo>
                  <a:lnTo>
                    <a:pt x="2738" y="2136"/>
                  </a:lnTo>
                  <a:lnTo>
                    <a:pt x="2757" y="2167"/>
                  </a:lnTo>
                  <a:lnTo>
                    <a:pt x="2775" y="2195"/>
                  </a:lnTo>
                  <a:lnTo>
                    <a:pt x="2783" y="2209"/>
                  </a:lnTo>
                  <a:lnTo>
                    <a:pt x="2807" y="2245"/>
                  </a:lnTo>
                  <a:lnTo>
                    <a:pt x="2838" y="2297"/>
                  </a:lnTo>
                  <a:lnTo>
                    <a:pt x="2873" y="2359"/>
                  </a:lnTo>
                  <a:lnTo>
                    <a:pt x="2908" y="2426"/>
                  </a:lnTo>
                  <a:lnTo>
                    <a:pt x="2939" y="2490"/>
                  </a:lnTo>
                  <a:lnTo>
                    <a:pt x="2962" y="2544"/>
                  </a:lnTo>
                  <a:lnTo>
                    <a:pt x="2970" y="2585"/>
                  </a:lnTo>
                  <a:lnTo>
                    <a:pt x="2965" y="2586"/>
                  </a:lnTo>
                  <a:lnTo>
                    <a:pt x="2956" y="2586"/>
                  </a:lnTo>
                  <a:lnTo>
                    <a:pt x="2942" y="2586"/>
                  </a:lnTo>
                  <a:lnTo>
                    <a:pt x="2922" y="2586"/>
                  </a:lnTo>
                  <a:lnTo>
                    <a:pt x="2900" y="2585"/>
                  </a:lnTo>
                  <a:lnTo>
                    <a:pt x="2875" y="2583"/>
                  </a:lnTo>
                  <a:lnTo>
                    <a:pt x="2847" y="2582"/>
                  </a:lnTo>
                  <a:lnTo>
                    <a:pt x="2816" y="2578"/>
                  </a:lnTo>
                  <a:lnTo>
                    <a:pt x="2785" y="2575"/>
                  </a:lnTo>
                  <a:lnTo>
                    <a:pt x="2752" y="2574"/>
                  </a:lnTo>
                  <a:lnTo>
                    <a:pt x="2721" y="2571"/>
                  </a:lnTo>
                  <a:lnTo>
                    <a:pt x="2688" y="2568"/>
                  </a:lnTo>
                  <a:lnTo>
                    <a:pt x="2657" y="2564"/>
                  </a:lnTo>
                  <a:lnTo>
                    <a:pt x="2628" y="2563"/>
                  </a:lnTo>
                  <a:lnTo>
                    <a:pt x="2601" y="2560"/>
                  </a:lnTo>
                  <a:lnTo>
                    <a:pt x="2576" y="2558"/>
                  </a:lnTo>
                  <a:lnTo>
                    <a:pt x="2315" y="2558"/>
                  </a:lnTo>
                  <a:lnTo>
                    <a:pt x="2291" y="2557"/>
                  </a:lnTo>
                  <a:lnTo>
                    <a:pt x="2270" y="2557"/>
                  </a:lnTo>
                  <a:lnTo>
                    <a:pt x="2246" y="2560"/>
                  </a:lnTo>
                  <a:lnTo>
                    <a:pt x="2224" y="2563"/>
                  </a:lnTo>
                  <a:lnTo>
                    <a:pt x="2203" y="2566"/>
                  </a:lnTo>
                  <a:lnTo>
                    <a:pt x="2179" y="2569"/>
                  </a:lnTo>
                  <a:lnTo>
                    <a:pt x="2158" y="2571"/>
                  </a:lnTo>
                  <a:lnTo>
                    <a:pt x="2134" y="2572"/>
                  </a:lnTo>
                  <a:lnTo>
                    <a:pt x="1801" y="2572"/>
                  </a:lnTo>
                  <a:lnTo>
                    <a:pt x="1348" y="2608"/>
                  </a:lnTo>
                  <a:lnTo>
                    <a:pt x="1196" y="2600"/>
                  </a:lnTo>
                  <a:lnTo>
                    <a:pt x="836" y="2568"/>
                  </a:lnTo>
                  <a:lnTo>
                    <a:pt x="592" y="2568"/>
                  </a:lnTo>
                  <a:lnTo>
                    <a:pt x="347" y="2577"/>
                  </a:lnTo>
                  <a:lnTo>
                    <a:pt x="326" y="2577"/>
                  </a:lnTo>
                  <a:lnTo>
                    <a:pt x="304" y="2578"/>
                  </a:lnTo>
                  <a:lnTo>
                    <a:pt x="282" y="2580"/>
                  </a:lnTo>
                  <a:lnTo>
                    <a:pt x="262" y="2583"/>
                  </a:lnTo>
                  <a:lnTo>
                    <a:pt x="240" y="2586"/>
                  </a:lnTo>
                  <a:lnTo>
                    <a:pt x="218" y="2589"/>
                  </a:lnTo>
                  <a:lnTo>
                    <a:pt x="198" y="2593"/>
                  </a:lnTo>
                  <a:lnTo>
                    <a:pt x="176" y="2596"/>
                  </a:lnTo>
                  <a:lnTo>
                    <a:pt x="156" y="2599"/>
                  </a:lnTo>
                  <a:lnTo>
                    <a:pt x="134" y="2602"/>
                  </a:lnTo>
                  <a:lnTo>
                    <a:pt x="114" y="2603"/>
                  </a:lnTo>
                  <a:lnTo>
                    <a:pt x="92" y="2607"/>
                  </a:lnTo>
                  <a:lnTo>
                    <a:pt x="72" y="2607"/>
                  </a:lnTo>
                  <a:lnTo>
                    <a:pt x="50" y="2607"/>
                  </a:lnTo>
                  <a:lnTo>
                    <a:pt x="30" y="2605"/>
                  </a:lnTo>
                  <a:lnTo>
                    <a:pt x="8" y="2603"/>
                  </a:lnTo>
                  <a:lnTo>
                    <a:pt x="2" y="2597"/>
                  </a:lnTo>
                  <a:lnTo>
                    <a:pt x="0" y="2588"/>
                  </a:lnTo>
                  <a:lnTo>
                    <a:pt x="3" y="2577"/>
                  </a:lnTo>
                  <a:lnTo>
                    <a:pt x="6" y="2568"/>
                  </a:lnTo>
                  <a:lnTo>
                    <a:pt x="19" y="2532"/>
                  </a:lnTo>
                  <a:lnTo>
                    <a:pt x="34" y="2497"/>
                  </a:lnTo>
                  <a:lnTo>
                    <a:pt x="55" y="2465"/>
                  </a:lnTo>
                  <a:lnTo>
                    <a:pt x="76" y="2432"/>
                  </a:lnTo>
                  <a:lnTo>
                    <a:pt x="100" y="2401"/>
                  </a:lnTo>
                  <a:lnTo>
                    <a:pt x="125" y="2370"/>
                  </a:lnTo>
                  <a:lnTo>
                    <a:pt x="151" y="2339"/>
                  </a:lnTo>
                  <a:lnTo>
                    <a:pt x="179" y="2309"/>
                  </a:lnTo>
                  <a:lnTo>
                    <a:pt x="355" y="2075"/>
                  </a:lnTo>
                  <a:lnTo>
                    <a:pt x="478" y="1913"/>
                  </a:lnTo>
                  <a:lnTo>
                    <a:pt x="483" y="1907"/>
                  </a:lnTo>
                  <a:lnTo>
                    <a:pt x="491" y="1906"/>
                  </a:lnTo>
                  <a:lnTo>
                    <a:pt x="497" y="1906"/>
                  </a:lnTo>
                  <a:lnTo>
                    <a:pt x="503" y="1906"/>
                  </a:lnTo>
                  <a:lnTo>
                    <a:pt x="529" y="1902"/>
                  </a:lnTo>
                  <a:lnTo>
                    <a:pt x="554" y="1902"/>
                  </a:lnTo>
                  <a:lnTo>
                    <a:pt x="581" y="1902"/>
                  </a:lnTo>
                  <a:lnTo>
                    <a:pt x="606" y="1906"/>
                  </a:lnTo>
                  <a:lnTo>
                    <a:pt x="632" y="1907"/>
                  </a:lnTo>
                  <a:lnTo>
                    <a:pt x="659" y="1910"/>
                  </a:lnTo>
                  <a:lnTo>
                    <a:pt x="685" y="1912"/>
                  </a:lnTo>
                  <a:lnTo>
                    <a:pt x="712" y="1912"/>
                  </a:lnTo>
                  <a:lnTo>
                    <a:pt x="713" y="1899"/>
                  </a:lnTo>
                  <a:lnTo>
                    <a:pt x="716" y="1887"/>
                  </a:lnTo>
                  <a:lnTo>
                    <a:pt x="718" y="1876"/>
                  </a:lnTo>
                  <a:lnTo>
                    <a:pt x="716" y="1863"/>
                  </a:lnTo>
                  <a:lnTo>
                    <a:pt x="687" y="1853"/>
                  </a:lnTo>
                  <a:lnTo>
                    <a:pt x="656" y="1840"/>
                  </a:lnTo>
                  <a:lnTo>
                    <a:pt x="626" y="1825"/>
                  </a:lnTo>
                  <a:lnTo>
                    <a:pt x="598" y="1807"/>
                  </a:lnTo>
                  <a:lnTo>
                    <a:pt x="571" y="1789"/>
                  </a:lnTo>
                  <a:lnTo>
                    <a:pt x="547" y="1767"/>
                  </a:lnTo>
                  <a:lnTo>
                    <a:pt x="525" y="1740"/>
                  </a:lnTo>
                  <a:lnTo>
                    <a:pt x="506" y="1711"/>
                  </a:lnTo>
                  <a:lnTo>
                    <a:pt x="478" y="1641"/>
                  </a:lnTo>
                  <a:lnTo>
                    <a:pt x="464" y="1567"/>
                  </a:lnTo>
                  <a:lnTo>
                    <a:pt x="463" y="1494"/>
                  </a:lnTo>
                  <a:lnTo>
                    <a:pt x="473" y="1419"/>
                  </a:lnTo>
                  <a:lnTo>
                    <a:pt x="492" y="1346"/>
                  </a:lnTo>
                  <a:lnTo>
                    <a:pt x="520" y="1276"/>
                  </a:lnTo>
                  <a:lnTo>
                    <a:pt x="553" y="1211"/>
                  </a:lnTo>
                  <a:lnTo>
                    <a:pt x="590" y="1148"/>
                  </a:lnTo>
                  <a:lnTo>
                    <a:pt x="618" y="1116"/>
                  </a:lnTo>
                  <a:lnTo>
                    <a:pt x="648" y="1085"/>
                  </a:lnTo>
                  <a:lnTo>
                    <a:pt x="677" y="1055"/>
                  </a:lnTo>
                  <a:lnTo>
                    <a:pt x="708" y="1027"/>
                  </a:lnTo>
                  <a:lnTo>
                    <a:pt x="740" y="999"/>
                  </a:lnTo>
                  <a:lnTo>
                    <a:pt x="772" y="974"/>
                  </a:lnTo>
                  <a:lnTo>
                    <a:pt x="805" y="951"/>
                  </a:lnTo>
                  <a:lnTo>
                    <a:pt x="838" y="927"/>
                  </a:lnTo>
                  <a:lnTo>
                    <a:pt x="872" y="905"/>
                  </a:lnTo>
                  <a:lnTo>
                    <a:pt x="908" y="885"/>
                  </a:lnTo>
                  <a:lnTo>
                    <a:pt x="942" y="865"/>
                  </a:lnTo>
                  <a:lnTo>
                    <a:pt x="978" y="846"/>
                  </a:lnTo>
                  <a:lnTo>
                    <a:pt x="1013" y="828"/>
                  </a:lnTo>
                  <a:lnTo>
                    <a:pt x="1049" y="810"/>
                  </a:lnTo>
                  <a:lnTo>
                    <a:pt x="1087" y="793"/>
                  </a:lnTo>
                  <a:lnTo>
                    <a:pt x="1122" y="778"/>
                  </a:lnTo>
                  <a:lnTo>
                    <a:pt x="1112" y="753"/>
                  </a:lnTo>
                  <a:lnTo>
                    <a:pt x="1108" y="728"/>
                  </a:lnTo>
                  <a:lnTo>
                    <a:pt x="1108" y="700"/>
                  </a:lnTo>
                  <a:lnTo>
                    <a:pt x="1113" y="673"/>
                  </a:lnTo>
                  <a:lnTo>
                    <a:pt x="1101" y="670"/>
                  </a:lnTo>
                  <a:lnTo>
                    <a:pt x="1090" y="662"/>
                  </a:lnTo>
                  <a:lnTo>
                    <a:pt x="1080" y="655"/>
                  </a:lnTo>
                  <a:lnTo>
                    <a:pt x="1073" y="644"/>
                  </a:lnTo>
                  <a:lnTo>
                    <a:pt x="1066" y="633"/>
                  </a:lnTo>
                  <a:lnTo>
                    <a:pt x="1060" y="622"/>
                  </a:lnTo>
                  <a:lnTo>
                    <a:pt x="1057" y="609"/>
                  </a:lnTo>
                  <a:lnTo>
                    <a:pt x="1054" y="597"/>
                  </a:lnTo>
                  <a:lnTo>
                    <a:pt x="1056" y="583"/>
                  </a:lnTo>
                  <a:lnTo>
                    <a:pt x="1054" y="572"/>
                  </a:lnTo>
                  <a:lnTo>
                    <a:pt x="1046" y="564"/>
                  </a:lnTo>
                  <a:lnTo>
                    <a:pt x="1038" y="560"/>
                  </a:lnTo>
                  <a:lnTo>
                    <a:pt x="1029" y="553"/>
                  </a:lnTo>
                  <a:lnTo>
                    <a:pt x="1020" y="547"/>
                  </a:lnTo>
                  <a:lnTo>
                    <a:pt x="1015" y="539"/>
                  </a:lnTo>
                  <a:lnTo>
                    <a:pt x="1012" y="527"/>
                  </a:lnTo>
                  <a:lnTo>
                    <a:pt x="1013" y="508"/>
                  </a:lnTo>
                  <a:lnTo>
                    <a:pt x="1017" y="489"/>
                  </a:lnTo>
                  <a:lnTo>
                    <a:pt x="1023" y="472"/>
                  </a:lnTo>
                  <a:lnTo>
                    <a:pt x="1031" y="457"/>
                  </a:lnTo>
                  <a:lnTo>
                    <a:pt x="1042" y="441"/>
                  </a:lnTo>
                  <a:lnTo>
                    <a:pt x="1054" y="427"/>
                  </a:lnTo>
                  <a:lnTo>
                    <a:pt x="1066" y="415"/>
                  </a:lnTo>
                  <a:lnTo>
                    <a:pt x="1082" y="402"/>
                  </a:lnTo>
                  <a:lnTo>
                    <a:pt x="1076" y="376"/>
                  </a:lnTo>
                  <a:lnTo>
                    <a:pt x="1077" y="351"/>
                  </a:lnTo>
                  <a:lnTo>
                    <a:pt x="1084" y="327"/>
                  </a:lnTo>
                  <a:lnTo>
                    <a:pt x="1094" y="306"/>
                  </a:lnTo>
                  <a:lnTo>
                    <a:pt x="1110" y="284"/>
                  </a:lnTo>
                  <a:lnTo>
                    <a:pt x="1127" y="265"/>
                  </a:lnTo>
                  <a:lnTo>
                    <a:pt x="1146" y="246"/>
                  </a:lnTo>
                  <a:lnTo>
                    <a:pt x="1164" y="229"/>
                  </a:lnTo>
                  <a:lnTo>
                    <a:pt x="1177" y="223"/>
                  </a:lnTo>
                  <a:lnTo>
                    <a:pt x="1189" y="217"/>
                  </a:lnTo>
                  <a:lnTo>
                    <a:pt x="1202" y="211"/>
                  </a:lnTo>
                  <a:lnTo>
                    <a:pt x="1216" y="206"/>
                  </a:lnTo>
                  <a:lnTo>
                    <a:pt x="1228" y="203"/>
                  </a:lnTo>
                  <a:lnTo>
                    <a:pt x="1242" y="200"/>
                  </a:lnTo>
                  <a:lnTo>
                    <a:pt x="1256" y="198"/>
                  </a:lnTo>
                  <a:lnTo>
                    <a:pt x="1272" y="198"/>
                  </a:lnTo>
                  <a:lnTo>
                    <a:pt x="1267" y="169"/>
                  </a:lnTo>
                  <a:lnTo>
                    <a:pt x="1267" y="136"/>
                  </a:lnTo>
                  <a:lnTo>
                    <a:pt x="1273" y="105"/>
                  </a:lnTo>
                  <a:lnTo>
                    <a:pt x="1291" y="78"/>
                  </a:lnTo>
                  <a:lnTo>
                    <a:pt x="1311" y="56"/>
                  </a:lnTo>
                  <a:lnTo>
                    <a:pt x="1334" y="39"/>
                  </a:lnTo>
                  <a:lnTo>
                    <a:pt x="1359" y="25"/>
                  </a:lnTo>
                  <a:lnTo>
                    <a:pt x="1384" y="13"/>
                  </a:lnTo>
                  <a:lnTo>
                    <a:pt x="1412" y="5"/>
                  </a:lnTo>
                  <a:lnTo>
                    <a:pt x="1440" y="2"/>
                  </a:lnTo>
                  <a:lnTo>
                    <a:pt x="1470" y="0"/>
                  </a:lnTo>
                  <a:lnTo>
                    <a:pt x="1501" y="3"/>
                  </a:lnTo>
                  <a:lnTo>
                    <a:pt x="1515" y="10"/>
                  </a:lnTo>
                  <a:lnTo>
                    <a:pt x="1529" y="16"/>
                  </a:lnTo>
                  <a:lnTo>
                    <a:pt x="1541" y="22"/>
                  </a:lnTo>
                  <a:lnTo>
                    <a:pt x="1555" y="30"/>
                  </a:lnTo>
                  <a:lnTo>
                    <a:pt x="1568" y="39"/>
                  </a:lnTo>
                  <a:lnTo>
                    <a:pt x="1580" y="49"/>
                  </a:lnTo>
                  <a:lnTo>
                    <a:pt x="1594" y="58"/>
                  </a:lnTo>
                  <a:lnTo>
                    <a:pt x="1607"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593360" y="4585680"/>
              <a:ext cx="905040" cy="488880"/>
            </a:xfrm>
            <a:custGeom>
              <a:avLst/>
              <a:gdLst/>
              <a:ahLst/>
              <a:rect l="l" t="t" r="r" b="b"/>
              <a:pathLst>
                <a:path w="1038" h="600">
                  <a:moveTo>
                    <a:pt x="824" y="35"/>
                  </a:moveTo>
                  <a:lnTo>
                    <a:pt x="831" y="33"/>
                  </a:lnTo>
                  <a:lnTo>
                    <a:pt x="839" y="30"/>
                  </a:lnTo>
                  <a:lnTo>
                    <a:pt x="847" y="27"/>
                  </a:lnTo>
                  <a:lnTo>
                    <a:pt x="855" y="24"/>
                  </a:lnTo>
                  <a:lnTo>
                    <a:pt x="862" y="22"/>
                  </a:lnTo>
                  <a:lnTo>
                    <a:pt x="870" y="21"/>
                  </a:lnTo>
                  <a:lnTo>
                    <a:pt x="878" y="21"/>
                  </a:lnTo>
                  <a:lnTo>
                    <a:pt x="887" y="24"/>
                  </a:lnTo>
                  <a:lnTo>
                    <a:pt x="900" y="42"/>
                  </a:lnTo>
                  <a:lnTo>
                    <a:pt x="904" y="66"/>
                  </a:lnTo>
                  <a:lnTo>
                    <a:pt x="909" y="89"/>
                  </a:lnTo>
                  <a:lnTo>
                    <a:pt x="923" y="108"/>
                  </a:lnTo>
                  <a:lnTo>
                    <a:pt x="936" y="125"/>
                  </a:lnTo>
                  <a:lnTo>
                    <a:pt x="950" y="136"/>
                  </a:lnTo>
                  <a:lnTo>
                    <a:pt x="967" y="144"/>
                  </a:lnTo>
                  <a:lnTo>
                    <a:pt x="985" y="148"/>
                  </a:lnTo>
                  <a:lnTo>
                    <a:pt x="1002" y="153"/>
                  </a:lnTo>
                  <a:lnTo>
                    <a:pt x="1018" y="161"/>
                  </a:lnTo>
                  <a:lnTo>
                    <a:pt x="1031" y="172"/>
                  </a:lnTo>
                  <a:lnTo>
                    <a:pt x="1038" y="190"/>
                  </a:lnTo>
                  <a:lnTo>
                    <a:pt x="990" y="262"/>
                  </a:lnTo>
                  <a:lnTo>
                    <a:pt x="848" y="407"/>
                  </a:lnTo>
                  <a:lnTo>
                    <a:pt x="842" y="418"/>
                  </a:lnTo>
                  <a:lnTo>
                    <a:pt x="839" y="430"/>
                  </a:lnTo>
                  <a:lnTo>
                    <a:pt x="836" y="444"/>
                  </a:lnTo>
                  <a:lnTo>
                    <a:pt x="834" y="457"/>
                  </a:lnTo>
                  <a:lnTo>
                    <a:pt x="831" y="469"/>
                  </a:lnTo>
                  <a:lnTo>
                    <a:pt x="825" y="480"/>
                  </a:lnTo>
                  <a:lnTo>
                    <a:pt x="816" y="488"/>
                  </a:lnTo>
                  <a:lnTo>
                    <a:pt x="802" y="493"/>
                  </a:lnTo>
                  <a:lnTo>
                    <a:pt x="788" y="503"/>
                  </a:lnTo>
                  <a:lnTo>
                    <a:pt x="774" y="513"/>
                  </a:lnTo>
                  <a:lnTo>
                    <a:pt x="758" y="521"/>
                  </a:lnTo>
                  <a:lnTo>
                    <a:pt x="743" y="527"/>
                  </a:lnTo>
                  <a:lnTo>
                    <a:pt x="727" y="533"/>
                  </a:lnTo>
                  <a:lnTo>
                    <a:pt x="710" y="539"/>
                  </a:lnTo>
                  <a:lnTo>
                    <a:pt x="694" y="544"/>
                  </a:lnTo>
                  <a:lnTo>
                    <a:pt x="677" y="547"/>
                  </a:lnTo>
                  <a:lnTo>
                    <a:pt x="660" y="552"/>
                  </a:lnTo>
                  <a:lnTo>
                    <a:pt x="645" y="556"/>
                  </a:lnTo>
                  <a:lnTo>
                    <a:pt x="627" y="561"/>
                  </a:lnTo>
                  <a:lnTo>
                    <a:pt x="612" y="566"/>
                  </a:lnTo>
                  <a:lnTo>
                    <a:pt x="596" y="572"/>
                  </a:lnTo>
                  <a:lnTo>
                    <a:pt x="581" y="580"/>
                  </a:lnTo>
                  <a:lnTo>
                    <a:pt x="565" y="588"/>
                  </a:lnTo>
                  <a:lnTo>
                    <a:pt x="551" y="597"/>
                  </a:lnTo>
                  <a:lnTo>
                    <a:pt x="534" y="598"/>
                  </a:lnTo>
                  <a:lnTo>
                    <a:pt x="517" y="600"/>
                  </a:lnTo>
                  <a:lnTo>
                    <a:pt x="500" y="598"/>
                  </a:lnTo>
                  <a:lnTo>
                    <a:pt x="483" y="597"/>
                  </a:lnTo>
                  <a:lnTo>
                    <a:pt x="467" y="594"/>
                  </a:lnTo>
                  <a:lnTo>
                    <a:pt x="452" y="589"/>
                  </a:lnTo>
                  <a:lnTo>
                    <a:pt x="434" y="584"/>
                  </a:lnTo>
                  <a:lnTo>
                    <a:pt x="419" y="580"/>
                  </a:lnTo>
                  <a:lnTo>
                    <a:pt x="403" y="574"/>
                  </a:lnTo>
                  <a:lnTo>
                    <a:pt x="388" y="567"/>
                  </a:lnTo>
                  <a:lnTo>
                    <a:pt x="374" y="561"/>
                  </a:lnTo>
                  <a:lnTo>
                    <a:pt x="358" y="553"/>
                  </a:lnTo>
                  <a:lnTo>
                    <a:pt x="343" y="547"/>
                  </a:lnTo>
                  <a:lnTo>
                    <a:pt x="329" y="539"/>
                  </a:lnTo>
                  <a:lnTo>
                    <a:pt x="313" y="531"/>
                  </a:lnTo>
                  <a:lnTo>
                    <a:pt x="299" y="525"/>
                  </a:lnTo>
                  <a:lnTo>
                    <a:pt x="268" y="514"/>
                  </a:lnTo>
                  <a:lnTo>
                    <a:pt x="237" y="502"/>
                  </a:lnTo>
                  <a:lnTo>
                    <a:pt x="207" y="486"/>
                  </a:lnTo>
                  <a:lnTo>
                    <a:pt x="179" y="466"/>
                  </a:lnTo>
                  <a:lnTo>
                    <a:pt x="153" y="444"/>
                  </a:lnTo>
                  <a:lnTo>
                    <a:pt x="132" y="418"/>
                  </a:lnTo>
                  <a:lnTo>
                    <a:pt x="117" y="388"/>
                  </a:lnTo>
                  <a:lnTo>
                    <a:pt x="109" y="354"/>
                  </a:lnTo>
                  <a:lnTo>
                    <a:pt x="123" y="345"/>
                  </a:lnTo>
                  <a:lnTo>
                    <a:pt x="132" y="332"/>
                  </a:lnTo>
                  <a:lnTo>
                    <a:pt x="142" y="318"/>
                  </a:lnTo>
                  <a:lnTo>
                    <a:pt x="150" y="304"/>
                  </a:lnTo>
                  <a:lnTo>
                    <a:pt x="150" y="287"/>
                  </a:lnTo>
                  <a:lnTo>
                    <a:pt x="146" y="271"/>
                  </a:lnTo>
                  <a:lnTo>
                    <a:pt x="142" y="256"/>
                  </a:lnTo>
                  <a:lnTo>
                    <a:pt x="136" y="240"/>
                  </a:lnTo>
                  <a:lnTo>
                    <a:pt x="126" y="232"/>
                  </a:lnTo>
                  <a:lnTo>
                    <a:pt x="115" y="225"/>
                  </a:lnTo>
                  <a:lnTo>
                    <a:pt x="106" y="218"/>
                  </a:lnTo>
                  <a:lnTo>
                    <a:pt x="94" y="221"/>
                  </a:lnTo>
                  <a:lnTo>
                    <a:pt x="87" y="221"/>
                  </a:lnTo>
                  <a:lnTo>
                    <a:pt x="83" y="223"/>
                  </a:lnTo>
                  <a:lnTo>
                    <a:pt x="76" y="225"/>
                  </a:lnTo>
                  <a:lnTo>
                    <a:pt x="70" y="226"/>
                  </a:lnTo>
                  <a:lnTo>
                    <a:pt x="64" y="226"/>
                  </a:lnTo>
                  <a:lnTo>
                    <a:pt x="58" y="228"/>
                  </a:lnTo>
                  <a:lnTo>
                    <a:pt x="51" y="228"/>
                  </a:lnTo>
                  <a:lnTo>
                    <a:pt x="45" y="226"/>
                  </a:lnTo>
                  <a:lnTo>
                    <a:pt x="34" y="215"/>
                  </a:lnTo>
                  <a:lnTo>
                    <a:pt x="23" y="204"/>
                  </a:lnTo>
                  <a:lnTo>
                    <a:pt x="14" y="192"/>
                  </a:lnTo>
                  <a:lnTo>
                    <a:pt x="8" y="178"/>
                  </a:lnTo>
                  <a:lnTo>
                    <a:pt x="3" y="164"/>
                  </a:lnTo>
                  <a:lnTo>
                    <a:pt x="0" y="148"/>
                  </a:lnTo>
                  <a:lnTo>
                    <a:pt x="0" y="133"/>
                  </a:lnTo>
                  <a:lnTo>
                    <a:pt x="5" y="116"/>
                  </a:lnTo>
                  <a:lnTo>
                    <a:pt x="9" y="100"/>
                  </a:lnTo>
                  <a:lnTo>
                    <a:pt x="19" y="86"/>
                  </a:lnTo>
                  <a:lnTo>
                    <a:pt x="28" y="74"/>
                  </a:lnTo>
                  <a:lnTo>
                    <a:pt x="41" y="63"/>
                  </a:lnTo>
                  <a:lnTo>
                    <a:pt x="47" y="61"/>
                  </a:lnTo>
                  <a:lnTo>
                    <a:pt x="53" y="61"/>
                  </a:lnTo>
                  <a:lnTo>
                    <a:pt x="59" y="59"/>
                  </a:lnTo>
                  <a:lnTo>
                    <a:pt x="65" y="59"/>
                  </a:lnTo>
                  <a:lnTo>
                    <a:pt x="73" y="59"/>
                  </a:lnTo>
                  <a:lnTo>
                    <a:pt x="80" y="59"/>
                  </a:lnTo>
                  <a:lnTo>
                    <a:pt x="87" y="59"/>
                  </a:lnTo>
                  <a:lnTo>
                    <a:pt x="94" y="59"/>
                  </a:lnTo>
                  <a:lnTo>
                    <a:pt x="100" y="70"/>
                  </a:lnTo>
                  <a:lnTo>
                    <a:pt x="106" y="81"/>
                  </a:lnTo>
                  <a:lnTo>
                    <a:pt x="115" y="88"/>
                  </a:lnTo>
                  <a:lnTo>
                    <a:pt x="126" y="81"/>
                  </a:lnTo>
                  <a:lnTo>
                    <a:pt x="129" y="72"/>
                  </a:lnTo>
                  <a:lnTo>
                    <a:pt x="132" y="63"/>
                  </a:lnTo>
                  <a:lnTo>
                    <a:pt x="137" y="52"/>
                  </a:lnTo>
                  <a:lnTo>
                    <a:pt x="142" y="42"/>
                  </a:lnTo>
                  <a:lnTo>
                    <a:pt x="148" y="35"/>
                  </a:lnTo>
                  <a:lnTo>
                    <a:pt x="156" y="27"/>
                  </a:lnTo>
                  <a:lnTo>
                    <a:pt x="164" y="19"/>
                  </a:lnTo>
                  <a:lnTo>
                    <a:pt x="173" y="14"/>
                  </a:lnTo>
                  <a:lnTo>
                    <a:pt x="192" y="11"/>
                  </a:lnTo>
                  <a:lnTo>
                    <a:pt x="207" y="16"/>
                  </a:lnTo>
                  <a:lnTo>
                    <a:pt x="220" y="24"/>
                  </a:lnTo>
                  <a:lnTo>
                    <a:pt x="232" y="36"/>
                  </a:lnTo>
                  <a:lnTo>
                    <a:pt x="243" y="49"/>
                  </a:lnTo>
                  <a:lnTo>
                    <a:pt x="255" y="63"/>
                  </a:lnTo>
                  <a:lnTo>
                    <a:pt x="269" y="72"/>
                  </a:lnTo>
                  <a:lnTo>
                    <a:pt x="285" y="80"/>
                  </a:lnTo>
                  <a:lnTo>
                    <a:pt x="308" y="84"/>
                  </a:lnTo>
                  <a:lnTo>
                    <a:pt x="332" y="86"/>
                  </a:lnTo>
                  <a:lnTo>
                    <a:pt x="355" y="88"/>
                  </a:lnTo>
                  <a:lnTo>
                    <a:pt x="380" y="88"/>
                  </a:lnTo>
                  <a:lnTo>
                    <a:pt x="402" y="86"/>
                  </a:lnTo>
                  <a:lnTo>
                    <a:pt x="425" y="83"/>
                  </a:lnTo>
                  <a:lnTo>
                    <a:pt x="448" y="78"/>
                  </a:lnTo>
                  <a:lnTo>
                    <a:pt x="472" y="74"/>
                  </a:lnTo>
                  <a:lnTo>
                    <a:pt x="494" y="67"/>
                  </a:lnTo>
                  <a:lnTo>
                    <a:pt x="515" y="61"/>
                  </a:lnTo>
                  <a:lnTo>
                    <a:pt x="537" y="53"/>
                  </a:lnTo>
                  <a:lnTo>
                    <a:pt x="559" y="44"/>
                  </a:lnTo>
                  <a:lnTo>
                    <a:pt x="579" y="35"/>
                  </a:lnTo>
                  <a:lnTo>
                    <a:pt x="601" y="24"/>
                  </a:lnTo>
                  <a:lnTo>
                    <a:pt x="620" y="13"/>
                  </a:lnTo>
                  <a:lnTo>
                    <a:pt x="640" y="0"/>
                  </a:lnTo>
                  <a:lnTo>
                    <a:pt x="665" y="2"/>
                  </a:lnTo>
                  <a:lnTo>
                    <a:pt x="687" y="7"/>
                  </a:lnTo>
                  <a:lnTo>
                    <a:pt x="710" y="13"/>
                  </a:lnTo>
                  <a:lnTo>
                    <a:pt x="732" y="21"/>
                  </a:lnTo>
                  <a:lnTo>
                    <a:pt x="753" y="27"/>
                  </a:lnTo>
                  <a:lnTo>
                    <a:pt x="775" y="33"/>
                  </a:lnTo>
                  <a:lnTo>
                    <a:pt x="799" y="36"/>
                  </a:lnTo>
                  <a:lnTo>
                    <a:pt x="824" y="35"/>
                  </a:lnTo>
                  <a:close/>
                </a:path>
              </a:pathLst>
            </a:custGeom>
            <a:solidFill>
              <a:srgbClr val="8c3f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340000" y="4678560"/>
              <a:ext cx="275760" cy="369720"/>
            </a:xfrm>
            <a:custGeom>
              <a:avLst/>
              <a:gdLst/>
              <a:ahLst/>
              <a:rect l="l" t="t" r="r" b="b"/>
              <a:pathLst>
                <a:path w="316" h="453">
                  <a:moveTo>
                    <a:pt x="282" y="110"/>
                  </a:moveTo>
                  <a:lnTo>
                    <a:pt x="283" y="115"/>
                  </a:lnTo>
                  <a:lnTo>
                    <a:pt x="282" y="126"/>
                  </a:lnTo>
                  <a:lnTo>
                    <a:pt x="280" y="135"/>
                  </a:lnTo>
                  <a:lnTo>
                    <a:pt x="283" y="138"/>
                  </a:lnTo>
                  <a:lnTo>
                    <a:pt x="293" y="126"/>
                  </a:lnTo>
                  <a:lnTo>
                    <a:pt x="301" y="107"/>
                  </a:lnTo>
                  <a:lnTo>
                    <a:pt x="307" y="90"/>
                  </a:lnTo>
                  <a:lnTo>
                    <a:pt x="315" y="77"/>
                  </a:lnTo>
                  <a:lnTo>
                    <a:pt x="316" y="126"/>
                  </a:lnTo>
                  <a:lnTo>
                    <a:pt x="310" y="172"/>
                  </a:lnTo>
                  <a:lnTo>
                    <a:pt x="299" y="216"/>
                  </a:lnTo>
                  <a:lnTo>
                    <a:pt x="282" y="258"/>
                  </a:lnTo>
                  <a:lnTo>
                    <a:pt x="262" y="300"/>
                  </a:lnTo>
                  <a:lnTo>
                    <a:pt x="237" y="339"/>
                  </a:lnTo>
                  <a:lnTo>
                    <a:pt x="210" y="378"/>
                  </a:lnTo>
                  <a:lnTo>
                    <a:pt x="184" y="417"/>
                  </a:lnTo>
                  <a:lnTo>
                    <a:pt x="165" y="423"/>
                  </a:lnTo>
                  <a:lnTo>
                    <a:pt x="146" y="431"/>
                  </a:lnTo>
                  <a:lnTo>
                    <a:pt x="126" y="440"/>
                  </a:lnTo>
                  <a:lnTo>
                    <a:pt x="106" y="447"/>
                  </a:lnTo>
                  <a:lnTo>
                    <a:pt x="86" y="451"/>
                  </a:lnTo>
                  <a:lnTo>
                    <a:pt x="67" y="453"/>
                  </a:lnTo>
                  <a:lnTo>
                    <a:pt x="48" y="448"/>
                  </a:lnTo>
                  <a:lnTo>
                    <a:pt x="30" y="436"/>
                  </a:lnTo>
                  <a:lnTo>
                    <a:pt x="13" y="412"/>
                  </a:lnTo>
                  <a:lnTo>
                    <a:pt x="3" y="387"/>
                  </a:lnTo>
                  <a:lnTo>
                    <a:pt x="0" y="359"/>
                  </a:lnTo>
                  <a:lnTo>
                    <a:pt x="3" y="330"/>
                  </a:lnTo>
                  <a:lnTo>
                    <a:pt x="16" y="306"/>
                  </a:lnTo>
                  <a:lnTo>
                    <a:pt x="30" y="286"/>
                  </a:lnTo>
                  <a:lnTo>
                    <a:pt x="47" y="266"/>
                  </a:lnTo>
                  <a:lnTo>
                    <a:pt x="66" y="247"/>
                  </a:lnTo>
                  <a:lnTo>
                    <a:pt x="86" y="230"/>
                  </a:lnTo>
                  <a:lnTo>
                    <a:pt x="104" y="211"/>
                  </a:lnTo>
                  <a:lnTo>
                    <a:pt x="125" y="194"/>
                  </a:lnTo>
                  <a:lnTo>
                    <a:pt x="142" y="174"/>
                  </a:lnTo>
                  <a:lnTo>
                    <a:pt x="151" y="163"/>
                  </a:lnTo>
                  <a:lnTo>
                    <a:pt x="161" y="152"/>
                  </a:lnTo>
                  <a:lnTo>
                    <a:pt x="170" y="141"/>
                  </a:lnTo>
                  <a:lnTo>
                    <a:pt x="178" y="129"/>
                  </a:lnTo>
                  <a:lnTo>
                    <a:pt x="185" y="116"/>
                  </a:lnTo>
                  <a:lnTo>
                    <a:pt x="192" y="104"/>
                  </a:lnTo>
                  <a:lnTo>
                    <a:pt x="199" y="91"/>
                  </a:lnTo>
                  <a:lnTo>
                    <a:pt x="206" y="79"/>
                  </a:lnTo>
                  <a:lnTo>
                    <a:pt x="209" y="105"/>
                  </a:lnTo>
                  <a:lnTo>
                    <a:pt x="207" y="130"/>
                  </a:lnTo>
                  <a:lnTo>
                    <a:pt x="203" y="155"/>
                  </a:lnTo>
                  <a:lnTo>
                    <a:pt x="198" y="180"/>
                  </a:lnTo>
                  <a:lnTo>
                    <a:pt x="203" y="185"/>
                  </a:lnTo>
                  <a:lnTo>
                    <a:pt x="207" y="187"/>
                  </a:lnTo>
                  <a:lnTo>
                    <a:pt x="212" y="188"/>
                  </a:lnTo>
                  <a:lnTo>
                    <a:pt x="218" y="188"/>
                  </a:lnTo>
                  <a:lnTo>
                    <a:pt x="227" y="165"/>
                  </a:lnTo>
                  <a:lnTo>
                    <a:pt x="235" y="141"/>
                  </a:lnTo>
                  <a:lnTo>
                    <a:pt x="243" y="118"/>
                  </a:lnTo>
                  <a:lnTo>
                    <a:pt x="249" y="93"/>
                  </a:lnTo>
                  <a:lnTo>
                    <a:pt x="254" y="70"/>
                  </a:lnTo>
                  <a:lnTo>
                    <a:pt x="262" y="46"/>
                  </a:lnTo>
                  <a:lnTo>
                    <a:pt x="269" y="23"/>
                  </a:lnTo>
                  <a:lnTo>
                    <a:pt x="279" y="0"/>
                  </a:lnTo>
                  <a:lnTo>
                    <a:pt x="282" y="110"/>
                  </a:lnTo>
                  <a:close/>
                </a:path>
              </a:pathLst>
            </a:custGeom>
            <a:solidFill>
              <a:srgbClr val="8c3f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027800" y="4766760"/>
              <a:ext cx="1409760" cy="907920"/>
            </a:xfrm>
            <a:custGeom>
              <a:avLst/>
              <a:gdLst/>
              <a:ahLst/>
              <a:rect l="l" t="t" r="r" b="b"/>
              <a:pathLst>
                <a:path w="1615" h="1114">
                  <a:moveTo>
                    <a:pt x="684" y="23"/>
                  </a:moveTo>
                  <a:lnTo>
                    <a:pt x="675" y="37"/>
                  </a:lnTo>
                  <a:lnTo>
                    <a:pt x="669" y="53"/>
                  </a:lnTo>
                  <a:lnTo>
                    <a:pt x="667" y="70"/>
                  </a:lnTo>
                  <a:lnTo>
                    <a:pt x="670" y="87"/>
                  </a:lnTo>
                  <a:lnTo>
                    <a:pt x="675" y="103"/>
                  </a:lnTo>
                  <a:lnTo>
                    <a:pt x="684" y="118"/>
                  </a:lnTo>
                  <a:lnTo>
                    <a:pt x="695" y="129"/>
                  </a:lnTo>
                  <a:lnTo>
                    <a:pt x="712" y="134"/>
                  </a:lnTo>
                  <a:lnTo>
                    <a:pt x="719" y="136"/>
                  </a:lnTo>
                  <a:lnTo>
                    <a:pt x="725" y="137"/>
                  </a:lnTo>
                  <a:lnTo>
                    <a:pt x="733" y="137"/>
                  </a:lnTo>
                  <a:lnTo>
                    <a:pt x="741" y="137"/>
                  </a:lnTo>
                  <a:lnTo>
                    <a:pt x="745" y="164"/>
                  </a:lnTo>
                  <a:lnTo>
                    <a:pt x="755" y="187"/>
                  </a:lnTo>
                  <a:lnTo>
                    <a:pt x="765" y="209"/>
                  </a:lnTo>
                  <a:lnTo>
                    <a:pt x="779" y="227"/>
                  </a:lnTo>
                  <a:lnTo>
                    <a:pt x="795" y="245"/>
                  </a:lnTo>
                  <a:lnTo>
                    <a:pt x="814" y="260"/>
                  </a:lnTo>
                  <a:lnTo>
                    <a:pt x="832" y="274"/>
                  </a:lnTo>
                  <a:lnTo>
                    <a:pt x="853" y="287"/>
                  </a:lnTo>
                  <a:lnTo>
                    <a:pt x="874" y="298"/>
                  </a:lnTo>
                  <a:lnTo>
                    <a:pt x="896" y="308"/>
                  </a:lnTo>
                  <a:lnTo>
                    <a:pt x="920" y="318"/>
                  </a:lnTo>
                  <a:lnTo>
                    <a:pt x="943" y="327"/>
                  </a:lnTo>
                  <a:lnTo>
                    <a:pt x="965" y="337"/>
                  </a:lnTo>
                  <a:lnTo>
                    <a:pt x="986" y="346"/>
                  </a:lnTo>
                  <a:lnTo>
                    <a:pt x="1008" y="355"/>
                  </a:lnTo>
                  <a:lnTo>
                    <a:pt x="1028" y="365"/>
                  </a:lnTo>
                  <a:lnTo>
                    <a:pt x="1044" y="372"/>
                  </a:lnTo>
                  <a:lnTo>
                    <a:pt x="1060" y="380"/>
                  </a:lnTo>
                  <a:lnTo>
                    <a:pt x="1077" y="386"/>
                  </a:lnTo>
                  <a:lnTo>
                    <a:pt x="1094" y="391"/>
                  </a:lnTo>
                  <a:lnTo>
                    <a:pt x="1109" y="397"/>
                  </a:lnTo>
                  <a:lnTo>
                    <a:pt x="1127" y="400"/>
                  </a:lnTo>
                  <a:lnTo>
                    <a:pt x="1144" y="402"/>
                  </a:lnTo>
                  <a:lnTo>
                    <a:pt x="1162" y="404"/>
                  </a:lnTo>
                  <a:lnTo>
                    <a:pt x="1179" y="404"/>
                  </a:lnTo>
                  <a:lnTo>
                    <a:pt x="1197" y="402"/>
                  </a:lnTo>
                  <a:lnTo>
                    <a:pt x="1214" y="399"/>
                  </a:lnTo>
                  <a:lnTo>
                    <a:pt x="1232" y="394"/>
                  </a:lnTo>
                  <a:lnTo>
                    <a:pt x="1249" y="388"/>
                  </a:lnTo>
                  <a:lnTo>
                    <a:pt x="1267" y="380"/>
                  </a:lnTo>
                  <a:lnTo>
                    <a:pt x="1284" y="369"/>
                  </a:lnTo>
                  <a:lnTo>
                    <a:pt x="1301" y="357"/>
                  </a:lnTo>
                  <a:lnTo>
                    <a:pt x="1326" y="352"/>
                  </a:lnTo>
                  <a:lnTo>
                    <a:pt x="1351" y="346"/>
                  </a:lnTo>
                  <a:lnTo>
                    <a:pt x="1374" y="337"/>
                  </a:lnTo>
                  <a:lnTo>
                    <a:pt x="1397" y="327"/>
                  </a:lnTo>
                  <a:lnTo>
                    <a:pt x="1419" y="316"/>
                  </a:lnTo>
                  <a:lnTo>
                    <a:pt x="1441" y="304"/>
                  </a:lnTo>
                  <a:lnTo>
                    <a:pt x="1463" y="291"/>
                  </a:lnTo>
                  <a:lnTo>
                    <a:pt x="1485" y="279"/>
                  </a:lnTo>
                  <a:lnTo>
                    <a:pt x="1486" y="294"/>
                  </a:lnTo>
                  <a:lnTo>
                    <a:pt x="1492" y="308"/>
                  </a:lnTo>
                  <a:lnTo>
                    <a:pt x="1500" y="321"/>
                  </a:lnTo>
                  <a:lnTo>
                    <a:pt x="1509" y="333"/>
                  </a:lnTo>
                  <a:lnTo>
                    <a:pt x="1520" y="344"/>
                  </a:lnTo>
                  <a:lnTo>
                    <a:pt x="1531" y="355"/>
                  </a:lnTo>
                  <a:lnTo>
                    <a:pt x="1541" y="368"/>
                  </a:lnTo>
                  <a:lnTo>
                    <a:pt x="1547" y="379"/>
                  </a:lnTo>
                  <a:lnTo>
                    <a:pt x="1553" y="472"/>
                  </a:lnTo>
                  <a:lnTo>
                    <a:pt x="1550" y="567"/>
                  </a:lnTo>
                  <a:lnTo>
                    <a:pt x="1542" y="662"/>
                  </a:lnTo>
                  <a:lnTo>
                    <a:pt x="1536" y="756"/>
                  </a:lnTo>
                  <a:lnTo>
                    <a:pt x="1536" y="849"/>
                  </a:lnTo>
                  <a:lnTo>
                    <a:pt x="1545" y="938"/>
                  </a:lnTo>
                  <a:lnTo>
                    <a:pt x="1570" y="1022"/>
                  </a:lnTo>
                  <a:lnTo>
                    <a:pt x="1615" y="1101"/>
                  </a:lnTo>
                  <a:lnTo>
                    <a:pt x="1595" y="1101"/>
                  </a:lnTo>
                  <a:lnTo>
                    <a:pt x="1569" y="1101"/>
                  </a:lnTo>
                  <a:lnTo>
                    <a:pt x="1536" y="1103"/>
                  </a:lnTo>
                  <a:lnTo>
                    <a:pt x="1499" y="1105"/>
                  </a:lnTo>
                  <a:lnTo>
                    <a:pt x="1456" y="1105"/>
                  </a:lnTo>
                  <a:lnTo>
                    <a:pt x="1413" y="1106"/>
                  </a:lnTo>
                  <a:lnTo>
                    <a:pt x="1366" y="1108"/>
                  </a:lnTo>
                  <a:lnTo>
                    <a:pt x="1320" y="1109"/>
                  </a:lnTo>
                  <a:lnTo>
                    <a:pt x="1274" y="1109"/>
                  </a:lnTo>
                  <a:lnTo>
                    <a:pt x="1229" y="1111"/>
                  </a:lnTo>
                  <a:lnTo>
                    <a:pt x="1189" y="1112"/>
                  </a:lnTo>
                  <a:lnTo>
                    <a:pt x="1151" y="1112"/>
                  </a:lnTo>
                  <a:lnTo>
                    <a:pt x="1120" y="1112"/>
                  </a:lnTo>
                  <a:lnTo>
                    <a:pt x="1095" y="1114"/>
                  </a:lnTo>
                  <a:lnTo>
                    <a:pt x="1077" y="1112"/>
                  </a:lnTo>
                  <a:lnTo>
                    <a:pt x="1067" y="1112"/>
                  </a:lnTo>
                  <a:lnTo>
                    <a:pt x="1078" y="1103"/>
                  </a:lnTo>
                  <a:lnTo>
                    <a:pt x="1091" y="1095"/>
                  </a:lnTo>
                  <a:lnTo>
                    <a:pt x="1100" y="1084"/>
                  </a:lnTo>
                  <a:lnTo>
                    <a:pt x="1103" y="1070"/>
                  </a:lnTo>
                  <a:lnTo>
                    <a:pt x="1089" y="1061"/>
                  </a:lnTo>
                  <a:lnTo>
                    <a:pt x="1080" y="1073"/>
                  </a:lnTo>
                  <a:lnTo>
                    <a:pt x="1069" y="1084"/>
                  </a:lnTo>
                  <a:lnTo>
                    <a:pt x="1055" y="1094"/>
                  </a:lnTo>
                  <a:lnTo>
                    <a:pt x="1041" y="1100"/>
                  </a:lnTo>
                  <a:lnTo>
                    <a:pt x="1025" y="1105"/>
                  </a:lnTo>
                  <a:lnTo>
                    <a:pt x="1010" y="1106"/>
                  </a:lnTo>
                  <a:lnTo>
                    <a:pt x="994" y="1106"/>
                  </a:lnTo>
                  <a:lnTo>
                    <a:pt x="977" y="1105"/>
                  </a:lnTo>
                  <a:lnTo>
                    <a:pt x="966" y="1103"/>
                  </a:lnTo>
                  <a:lnTo>
                    <a:pt x="957" y="1097"/>
                  </a:lnTo>
                  <a:lnTo>
                    <a:pt x="948" y="1087"/>
                  </a:lnTo>
                  <a:lnTo>
                    <a:pt x="941" y="1076"/>
                  </a:lnTo>
                  <a:lnTo>
                    <a:pt x="934" y="1069"/>
                  </a:lnTo>
                  <a:lnTo>
                    <a:pt x="927" y="1062"/>
                  </a:lnTo>
                  <a:lnTo>
                    <a:pt x="918" y="1062"/>
                  </a:lnTo>
                  <a:lnTo>
                    <a:pt x="909" y="1070"/>
                  </a:lnTo>
                  <a:lnTo>
                    <a:pt x="913" y="1083"/>
                  </a:lnTo>
                  <a:lnTo>
                    <a:pt x="923" y="1092"/>
                  </a:lnTo>
                  <a:lnTo>
                    <a:pt x="932" y="1101"/>
                  </a:lnTo>
                  <a:lnTo>
                    <a:pt x="940" y="1112"/>
                  </a:lnTo>
                  <a:lnTo>
                    <a:pt x="896" y="1111"/>
                  </a:lnTo>
                  <a:lnTo>
                    <a:pt x="851" y="1109"/>
                  </a:lnTo>
                  <a:lnTo>
                    <a:pt x="807" y="1108"/>
                  </a:lnTo>
                  <a:lnTo>
                    <a:pt x="765" y="1108"/>
                  </a:lnTo>
                  <a:lnTo>
                    <a:pt x="722" y="1108"/>
                  </a:lnTo>
                  <a:lnTo>
                    <a:pt x="680" y="1108"/>
                  </a:lnTo>
                  <a:lnTo>
                    <a:pt x="636" y="1108"/>
                  </a:lnTo>
                  <a:lnTo>
                    <a:pt x="594" y="1109"/>
                  </a:lnTo>
                  <a:lnTo>
                    <a:pt x="552" y="1109"/>
                  </a:lnTo>
                  <a:lnTo>
                    <a:pt x="510" y="1111"/>
                  </a:lnTo>
                  <a:lnTo>
                    <a:pt x="467" y="1111"/>
                  </a:lnTo>
                  <a:lnTo>
                    <a:pt x="425" y="1111"/>
                  </a:lnTo>
                  <a:lnTo>
                    <a:pt x="383" y="1112"/>
                  </a:lnTo>
                  <a:lnTo>
                    <a:pt x="340" y="1112"/>
                  </a:lnTo>
                  <a:lnTo>
                    <a:pt x="298" y="1111"/>
                  </a:lnTo>
                  <a:lnTo>
                    <a:pt x="256" y="1111"/>
                  </a:lnTo>
                  <a:lnTo>
                    <a:pt x="256" y="1075"/>
                  </a:lnTo>
                  <a:lnTo>
                    <a:pt x="280" y="1080"/>
                  </a:lnTo>
                  <a:lnTo>
                    <a:pt x="305" y="1084"/>
                  </a:lnTo>
                  <a:lnTo>
                    <a:pt x="330" y="1089"/>
                  </a:lnTo>
                  <a:lnTo>
                    <a:pt x="356" y="1092"/>
                  </a:lnTo>
                  <a:lnTo>
                    <a:pt x="381" y="1095"/>
                  </a:lnTo>
                  <a:lnTo>
                    <a:pt x="407" y="1098"/>
                  </a:lnTo>
                  <a:lnTo>
                    <a:pt x="434" y="1100"/>
                  </a:lnTo>
                  <a:lnTo>
                    <a:pt x="460" y="1098"/>
                  </a:lnTo>
                  <a:lnTo>
                    <a:pt x="487" y="1097"/>
                  </a:lnTo>
                  <a:lnTo>
                    <a:pt x="512" y="1094"/>
                  </a:lnTo>
                  <a:lnTo>
                    <a:pt x="537" y="1089"/>
                  </a:lnTo>
                  <a:lnTo>
                    <a:pt x="560" y="1081"/>
                  </a:lnTo>
                  <a:lnTo>
                    <a:pt x="583" y="1073"/>
                  </a:lnTo>
                  <a:lnTo>
                    <a:pt x="605" y="1061"/>
                  </a:lnTo>
                  <a:lnTo>
                    <a:pt x="627" y="1047"/>
                  </a:lnTo>
                  <a:lnTo>
                    <a:pt x="646" y="1030"/>
                  </a:lnTo>
                  <a:lnTo>
                    <a:pt x="661" y="1011"/>
                  </a:lnTo>
                  <a:lnTo>
                    <a:pt x="677" y="992"/>
                  </a:lnTo>
                  <a:lnTo>
                    <a:pt x="691" y="974"/>
                  </a:lnTo>
                  <a:lnTo>
                    <a:pt x="706" y="955"/>
                  </a:lnTo>
                  <a:lnTo>
                    <a:pt x="720" y="936"/>
                  </a:lnTo>
                  <a:lnTo>
                    <a:pt x="736" y="916"/>
                  </a:lnTo>
                  <a:lnTo>
                    <a:pt x="750" y="896"/>
                  </a:lnTo>
                  <a:lnTo>
                    <a:pt x="762" y="876"/>
                  </a:lnTo>
                  <a:lnTo>
                    <a:pt x="767" y="869"/>
                  </a:lnTo>
                  <a:lnTo>
                    <a:pt x="773" y="865"/>
                  </a:lnTo>
                  <a:lnTo>
                    <a:pt x="781" y="862"/>
                  </a:lnTo>
                  <a:lnTo>
                    <a:pt x="787" y="860"/>
                  </a:lnTo>
                  <a:lnTo>
                    <a:pt x="795" y="858"/>
                  </a:lnTo>
                  <a:lnTo>
                    <a:pt x="801" y="857"/>
                  </a:lnTo>
                  <a:lnTo>
                    <a:pt x="807" y="854"/>
                  </a:lnTo>
                  <a:lnTo>
                    <a:pt x="814" y="849"/>
                  </a:lnTo>
                  <a:lnTo>
                    <a:pt x="826" y="840"/>
                  </a:lnTo>
                  <a:lnTo>
                    <a:pt x="837" y="830"/>
                  </a:lnTo>
                  <a:lnTo>
                    <a:pt x="849" y="819"/>
                  </a:lnTo>
                  <a:lnTo>
                    <a:pt x="860" y="810"/>
                  </a:lnTo>
                  <a:lnTo>
                    <a:pt x="873" y="801"/>
                  </a:lnTo>
                  <a:lnTo>
                    <a:pt x="885" y="795"/>
                  </a:lnTo>
                  <a:lnTo>
                    <a:pt x="898" y="788"/>
                  </a:lnTo>
                  <a:lnTo>
                    <a:pt x="912" y="785"/>
                  </a:lnTo>
                  <a:lnTo>
                    <a:pt x="951" y="974"/>
                  </a:lnTo>
                  <a:lnTo>
                    <a:pt x="935" y="963"/>
                  </a:lnTo>
                  <a:lnTo>
                    <a:pt x="930" y="947"/>
                  </a:lnTo>
                  <a:lnTo>
                    <a:pt x="929" y="928"/>
                  </a:lnTo>
                  <a:lnTo>
                    <a:pt x="926" y="910"/>
                  </a:lnTo>
                  <a:lnTo>
                    <a:pt x="920" y="888"/>
                  </a:lnTo>
                  <a:lnTo>
                    <a:pt x="913" y="866"/>
                  </a:lnTo>
                  <a:lnTo>
                    <a:pt x="905" y="846"/>
                  </a:lnTo>
                  <a:lnTo>
                    <a:pt x="890" y="830"/>
                  </a:lnTo>
                  <a:lnTo>
                    <a:pt x="884" y="830"/>
                  </a:lnTo>
                  <a:lnTo>
                    <a:pt x="877" y="829"/>
                  </a:lnTo>
                  <a:lnTo>
                    <a:pt x="871" y="830"/>
                  </a:lnTo>
                  <a:lnTo>
                    <a:pt x="868" y="835"/>
                  </a:lnTo>
                  <a:lnTo>
                    <a:pt x="871" y="874"/>
                  </a:lnTo>
                  <a:lnTo>
                    <a:pt x="874" y="913"/>
                  </a:lnTo>
                  <a:lnTo>
                    <a:pt x="882" y="950"/>
                  </a:lnTo>
                  <a:lnTo>
                    <a:pt x="896" y="985"/>
                  </a:lnTo>
                  <a:lnTo>
                    <a:pt x="902" y="988"/>
                  </a:lnTo>
                  <a:lnTo>
                    <a:pt x="910" y="991"/>
                  </a:lnTo>
                  <a:lnTo>
                    <a:pt x="918" y="994"/>
                  </a:lnTo>
                  <a:lnTo>
                    <a:pt x="926" y="997"/>
                  </a:lnTo>
                  <a:lnTo>
                    <a:pt x="934" y="1002"/>
                  </a:lnTo>
                  <a:lnTo>
                    <a:pt x="940" y="1006"/>
                  </a:lnTo>
                  <a:lnTo>
                    <a:pt x="944" y="1011"/>
                  </a:lnTo>
                  <a:lnTo>
                    <a:pt x="949" y="1019"/>
                  </a:lnTo>
                  <a:lnTo>
                    <a:pt x="949" y="1030"/>
                  </a:lnTo>
                  <a:lnTo>
                    <a:pt x="954" y="1039"/>
                  </a:lnTo>
                  <a:lnTo>
                    <a:pt x="960" y="1047"/>
                  </a:lnTo>
                  <a:lnTo>
                    <a:pt x="968" y="1053"/>
                  </a:lnTo>
                  <a:lnTo>
                    <a:pt x="976" y="1059"/>
                  </a:lnTo>
                  <a:lnTo>
                    <a:pt x="985" y="1064"/>
                  </a:lnTo>
                  <a:lnTo>
                    <a:pt x="994" y="1070"/>
                  </a:lnTo>
                  <a:lnTo>
                    <a:pt x="1004" y="1075"/>
                  </a:lnTo>
                  <a:lnTo>
                    <a:pt x="1014" y="1075"/>
                  </a:lnTo>
                  <a:lnTo>
                    <a:pt x="1024" y="1073"/>
                  </a:lnTo>
                  <a:lnTo>
                    <a:pt x="1033" y="1070"/>
                  </a:lnTo>
                  <a:lnTo>
                    <a:pt x="1041" y="1067"/>
                  </a:lnTo>
                  <a:lnTo>
                    <a:pt x="1049" y="1061"/>
                  </a:lnTo>
                  <a:lnTo>
                    <a:pt x="1056" y="1055"/>
                  </a:lnTo>
                  <a:lnTo>
                    <a:pt x="1063" y="1048"/>
                  </a:lnTo>
                  <a:lnTo>
                    <a:pt x="1067" y="1041"/>
                  </a:lnTo>
                  <a:lnTo>
                    <a:pt x="1072" y="1019"/>
                  </a:lnTo>
                  <a:lnTo>
                    <a:pt x="1074" y="997"/>
                  </a:lnTo>
                  <a:lnTo>
                    <a:pt x="1070" y="977"/>
                  </a:lnTo>
                  <a:lnTo>
                    <a:pt x="1064" y="957"/>
                  </a:lnTo>
                  <a:lnTo>
                    <a:pt x="1058" y="936"/>
                  </a:lnTo>
                  <a:lnTo>
                    <a:pt x="1052" y="916"/>
                  </a:lnTo>
                  <a:lnTo>
                    <a:pt x="1046" y="896"/>
                  </a:lnTo>
                  <a:lnTo>
                    <a:pt x="1042" y="874"/>
                  </a:lnTo>
                  <a:lnTo>
                    <a:pt x="1053" y="876"/>
                  </a:lnTo>
                  <a:lnTo>
                    <a:pt x="1061" y="871"/>
                  </a:lnTo>
                  <a:lnTo>
                    <a:pt x="1067" y="863"/>
                  </a:lnTo>
                  <a:lnTo>
                    <a:pt x="1070" y="854"/>
                  </a:lnTo>
                  <a:lnTo>
                    <a:pt x="1074" y="821"/>
                  </a:lnTo>
                  <a:lnTo>
                    <a:pt x="1072" y="788"/>
                  </a:lnTo>
                  <a:lnTo>
                    <a:pt x="1064" y="757"/>
                  </a:lnTo>
                  <a:lnTo>
                    <a:pt x="1049" y="729"/>
                  </a:lnTo>
                  <a:lnTo>
                    <a:pt x="1050" y="714"/>
                  </a:lnTo>
                  <a:lnTo>
                    <a:pt x="1047" y="698"/>
                  </a:lnTo>
                  <a:lnTo>
                    <a:pt x="1042" y="682"/>
                  </a:lnTo>
                  <a:lnTo>
                    <a:pt x="1035" y="668"/>
                  </a:lnTo>
                  <a:lnTo>
                    <a:pt x="1025" y="654"/>
                  </a:lnTo>
                  <a:lnTo>
                    <a:pt x="1014" y="642"/>
                  </a:lnTo>
                  <a:lnTo>
                    <a:pt x="1000" y="631"/>
                  </a:lnTo>
                  <a:lnTo>
                    <a:pt x="986" y="622"/>
                  </a:lnTo>
                  <a:lnTo>
                    <a:pt x="1002" y="612"/>
                  </a:lnTo>
                  <a:lnTo>
                    <a:pt x="1013" y="597"/>
                  </a:lnTo>
                  <a:lnTo>
                    <a:pt x="1021" y="580"/>
                  </a:lnTo>
                  <a:lnTo>
                    <a:pt x="1027" y="562"/>
                  </a:lnTo>
                  <a:lnTo>
                    <a:pt x="1027" y="548"/>
                  </a:lnTo>
                  <a:lnTo>
                    <a:pt x="1025" y="534"/>
                  </a:lnTo>
                  <a:lnTo>
                    <a:pt x="1022" y="523"/>
                  </a:lnTo>
                  <a:lnTo>
                    <a:pt x="1014" y="513"/>
                  </a:lnTo>
                  <a:lnTo>
                    <a:pt x="1005" y="506"/>
                  </a:lnTo>
                  <a:lnTo>
                    <a:pt x="996" y="500"/>
                  </a:lnTo>
                  <a:lnTo>
                    <a:pt x="986" y="499"/>
                  </a:lnTo>
                  <a:lnTo>
                    <a:pt x="977" y="505"/>
                  </a:lnTo>
                  <a:lnTo>
                    <a:pt x="968" y="509"/>
                  </a:lnTo>
                  <a:lnTo>
                    <a:pt x="958" y="483"/>
                  </a:lnTo>
                  <a:lnTo>
                    <a:pt x="952" y="456"/>
                  </a:lnTo>
                  <a:lnTo>
                    <a:pt x="946" y="428"/>
                  </a:lnTo>
                  <a:lnTo>
                    <a:pt x="940" y="402"/>
                  </a:lnTo>
                  <a:lnTo>
                    <a:pt x="932" y="391"/>
                  </a:lnTo>
                  <a:lnTo>
                    <a:pt x="923" y="382"/>
                  </a:lnTo>
                  <a:lnTo>
                    <a:pt x="915" y="371"/>
                  </a:lnTo>
                  <a:lnTo>
                    <a:pt x="907" y="360"/>
                  </a:lnTo>
                  <a:lnTo>
                    <a:pt x="899" y="349"/>
                  </a:lnTo>
                  <a:lnTo>
                    <a:pt x="890" y="340"/>
                  </a:lnTo>
                  <a:lnTo>
                    <a:pt x="882" y="329"/>
                  </a:lnTo>
                  <a:lnTo>
                    <a:pt x="873" y="319"/>
                  </a:lnTo>
                  <a:lnTo>
                    <a:pt x="868" y="319"/>
                  </a:lnTo>
                  <a:lnTo>
                    <a:pt x="863" y="321"/>
                  </a:lnTo>
                  <a:lnTo>
                    <a:pt x="860" y="326"/>
                  </a:lnTo>
                  <a:lnTo>
                    <a:pt x="856" y="329"/>
                  </a:lnTo>
                  <a:lnTo>
                    <a:pt x="840" y="377"/>
                  </a:lnTo>
                  <a:lnTo>
                    <a:pt x="843" y="424"/>
                  </a:lnTo>
                  <a:lnTo>
                    <a:pt x="853" y="472"/>
                  </a:lnTo>
                  <a:lnTo>
                    <a:pt x="862" y="520"/>
                  </a:lnTo>
                  <a:lnTo>
                    <a:pt x="828" y="531"/>
                  </a:lnTo>
                  <a:lnTo>
                    <a:pt x="798" y="548"/>
                  </a:lnTo>
                  <a:lnTo>
                    <a:pt x="776" y="573"/>
                  </a:lnTo>
                  <a:lnTo>
                    <a:pt x="758" y="601"/>
                  </a:lnTo>
                  <a:lnTo>
                    <a:pt x="742" y="633"/>
                  </a:lnTo>
                  <a:lnTo>
                    <a:pt x="730" y="664"/>
                  </a:lnTo>
                  <a:lnTo>
                    <a:pt x="717" y="696"/>
                  </a:lnTo>
                  <a:lnTo>
                    <a:pt x="706" y="726"/>
                  </a:lnTo>
                  <a:lnTo>
                    <a:pt x="684" y="746"/>
                  </a:lnTo>
                  <a:lnTo>
                    <a:pt x="661" y="763"/>
                  </a:lnTo>
                  <a:lnTo>
                    <a:pt x="636" y="777"/>
                  </a:lnTo>
                  <a:lnTo>
                    <a:pt x="611" y="787"/>
                  </a:lnTo>
                  <a:lnTo>
                    <a:pt x="583" y="795"/>
                  </a:lnTo>
                  <a:lnTo>
                    <a:pt x="555" y="798"/>
                  </a:lnTo>
                  <a:lnTo>
                    <a:pt x="527" y="798"/>
                  </a:lnTo>
                  <a:lnTo>
                    <a:pt x="498" y="793"/>
                  </a:lnTo>
                  <a:lnTo>
                    <a:pt x="485" y="787"/>
                  </a:lnTo>
                  <a:lnTo>
                    <a:pt x="473" y="779"/>
                  </a:lnTo>
                  <a:lnTo>
                    <a:pt x="462" y="768"/>
                  </a:lnTo>
                  <a:lnTo>
                    <a:pt x="453" y="757"/>
                  </a:lnTo>
                  <a:lnTo>
                    <a:pt x="449" y="726"/>
                  </a:lnTo>
                  <a:lnTo>
                    <a:pt x="449" y="696"/>
                  </a:lnTo>
                  <a:lnTo>
                    <a:pt x="456" y="667"/>
                  </a:lnTo>
                  <a:lnTo>
                    <a:pt x="463" y="639"/>
                  </a:lnTo>
                  <a:lnTo>
                    <a:pt x="476" y="611"/>
                  </a:lnTo>
                  <a:lnTo>
                    <a:pt x="490" y="584"/>
                  </a:lnTo>
                  <a:lnTo>
                    <a:pt x="505" y="559"/>
                  </a:lnTo>
                  <a:lnTo>
                    <a:pt x="521" y="534"/>
                  </a:lnTo>
                  <a:lnTo>
                    <a:pt x="527" y="527"/>
                  </a:lnTo>
                  <a:lnTo>
                    <a:pt x="532" y="520"/>
                  </a:lnTo>
                  <a:lnTo>
                    <a:pt x="537" y="516"/>
                  </a:lnTo>
                  <a:lnTo>
                    <a:pt x="543" y="511"/>
                  </a:lnTo>
                  <a:lnTo>
                    <a:pt x="549" y="508"/>
                  </a:lnTo>
                  <a:lnTo>
                    <a:pt x="557" y="505"/>
                  </a:lnTo>
                  <a:lnTo>
                    <a:pt x="566" y="502"/>
                  </a:lnTo>
                  <a:lnTo>
                    <a:pt x="579" y="500"/>
                  </a:lnTo>
                  <a:lnTo>
                    <a:pt x="579" y="494"/>
                  </a:lnTo>
                  <a:lnTo>
                    <a:pt x="577" y="489"/>
                  </a:lnTo>
                  <a:lnTo>
                    <a:pt x="572" y="485"/>
                  </a:lnTo>
                  <a:lnTo>
                    <a:pt x="568" y="483"/>
                  </a:lnTo>
                  <a:lnTo>
                    <a:pt x="548" y="483"/>
                  </a:lnTo>
                  <a:lnTo>
                    <a:pt x="530" y="491"/>
                  </a:lnTo>
                  <a:lnTo>
                    <a:pt x="513" y="502"/>
                  </a:lnTo>
                  <a:lnTo>
                    <a:pt x="501" y="517"/>
                  </a:lnTo>
                  <a:lnTo>
                    <a:pt x="488" y="534"/>
                  </a:lnTo>
                  <a:lnTo>
                    <a:pt x="477" y="553"/>
                  </a:lnTo>
                  <a:lnTo>
                    <a:pt x="467" y="570"/>
                  </a:lnTo>
                  <a:lnTo>
                    <a:pt x="457" y="587"/>
                  </a:lnTo>
                  <a:lnTo>
                    <a:pt x="449" y="609"/>
                  </a:lnTo>
                  <a:lnTo>
                    <a:pt x="440" y="633"/>
                  </a:lnTo>
                  <a:lnTo>
                    <a:pt x="432" y="656"/>
                  </a:lnTo>
                  <a:lnTo>
                    <a:pt x="426" y="681"/>
                  </a:lnTo>
                  <a:lnTo>
                    <a:pt x="423" y="706"/>
                  </a:lnTo>
                  <a:lnTo>
                    <a:pt x="425" y="731"/>
                  </a:lnTo>
                  <a:lnTo>
                    <a:pt x="429" y="754"/>
                  </a:lnTo>
                  <a:lnTo>
                    <a:pt x="440" y="776"/>
                  </a:lnTo>
                  <a:lnTo>
                    <a:pt x="456" y="793"/>
                  </a:lnTo>
                  <a:lnTo>
                    <a:pt x="473" y="805"/>
                  </a:lnTo>
                  <a:lnTo>
                    <a:pt x="491" y="813"/>
                  </a:lnTo>
                  <a:lnTo>
                    <a:pt x="513" y="818"/>
                  </a:lnTo>
                  <a:lnTo>
                    <a:pt x="535" y="819"/>
                  </a:lnTo>
                  <a:lnTo>
                    <a:pt x="557" y="821"/>
                  </a:lnTo>
                  <a:lnTo>
                    <a:pt x="580" y="819"/>
                  </a:lnTo>
                  <a:lnTo>
                    <a:pt x="602" y="818"/>
                  </a:lnTo>
                  <a:lnTo>
                    <a:pt x="616" y="816"/>
                  </a:lnTo>
                  <a:lnTo>
                    <a:pt x="630" y="812"/>
                  </a:lnTo>
                  <a:lnTo>
                    <a:pt x="644" y="805"/>
                  </a:lnTo>
                  <a:lnTo>
                    <a:pt x="656" y="798"/>
                  </a:lnTo>
                  <a:lnTo>
                    <a:pt x="669" y="788"/>
                  </a:lnTo>
                  <a:lnTo>
                    <a:pt x="681" y="779"/>
                  </a:lnTo>
                  <a:lnTo>
                    <a:pt x="694" y="770"/>
                  </a:lnTo>
                  <a:lnTo>
                    <a:pt x="706" y="760"/>
                  </a:lnTo>
                  <a:lnTo>
                    <a:pt x="722" y="781"/>
                  </a:lnTo>
                  <a:lnTo>
                    <a:pt x="736" y="802"/>
                  </a:lnTo>
                  <a:lnTo>
                    <a:pt x="745" y="827"/>
                  </a:lnTo>
                  <a:lnTo>
                    <a:pt x="748" y="854"/>
                  </a:lnTo>
                  <a:lnTo>
                    <a:pt x="725" y="885"/>
                  </a:lnTo>
                  <a:lnTo>
                    <a:pt x="703" y="916"/>
                  </a:lnTo>
                  <a:lnTo>
                    <a:pt x="678" y="949"/>
                  </a:lnTo>
                  <a:lnTo>
                    <a:pt x="653" y="980"/>
                  </a:lnTo>
                  <a:lnTo>
                    <a:pt x="625" y="1010"/>
                  </a:lnTo>
                  <a:lnTo>
                    <a:pt x="596" y="1033"/>
                  </a:lnTo>
                  <a:lnTo>
                    <a:pt x="563" y="1052"/>
                  </a:lnTo>
                  <a:lnTo>
                    <a:pt x="526" y="1062"/>
                  </a:lnTo>
                  <a:lnTo>
                    <a:pt x="498" y="1069"/>
                  </a:lnTo>
                  <a:lnTo>
                    <a:pt x="471" y="1072"/>
                  </a:lnTo>
                  <a:lnTo>
                    <a:pt x="445" y="1075"/>
                  </a:lnTo>
                  <a:lnTo>
                    <a:pt x="418" y="1075"/>
                  </a:lnTo>
                  <a:lnTo>
                    <a:pt x="392" y="1075"/>
                  </a:lnTo>
                  <a:lnTo>
                    <a:pt x="365" y="1072"/>
                  </a:lnTo>
                  <a:lnTo>
                    <a:pt x="339" y="1069"/>
                  </a:lnTo>
                  <a:lnTo>
                    <a:pt x="314" y="1062"/>
                  </a:lnTo>
                  <a:lnTo>
                    <a:pt x="288" y="1056"/>
                  </a:lnTo>
                  <a:lnTo>
                    <a:pt x="263" y="1048"/>
                  </a:lnTo>
                  <a:lnTo>
                    <a:pt x="238" y="1039"/>
                  </a:lnTo>
                  <a:lnTo>
                    <a:pt x="213" y="1028"/>
                  </a:lnTo>
                  <a:lnTo>
                    <a:pt x="188" y="1017"/>
                  </a:lnTo>
                  <a:lnTo>
                    <a:pt x="163" y="1005"/>
                  </a:lnTo>
                  <a:lnTo>
                    <a:pt x="140" y="991"/>
                  </a:lnTo>
                  <a:lnTo>
                    <a:pt x="115" y="975"/>
                  </a:lnTo>
                  <a:lnTo>
                    <a:pt x="71" y="939"/>
                  </a:lnTo>
                  <a:lnTo>
                    <a:pt x="40" y="896"/>
                  </a:lnTo>
                  <a:lnTo>
                    <a:pt x="18" y="847"/>
                  </a:lnTo>
                  <a:lnTo>
                    <a:pt x="4" y="795"/>
                  </a:lnTo>
                  <a:lnTo>
                    <a:pt x="0" y="740"/>
                  </a:lnTo>
                  <a:lnTo>
                    <a:pt x="1" y="682"/>
                  </a:lnTo>
                  <a:lnTo>
                    <a:pt x="11" y="626"/>
                  </a:lnTo>
                  <a:lnTo>
                    <a:pt x="23" y="573"/>
                  </a:lnTo>
                  <a:lnTo>
                    <a:pt x="34" y="534"/>
                  </a:lnTo>
                  <a:lnTo>
                    <a:pt x="49" y="497"/>
                  </a:lnTo>
                  <a:lnTo>
                    <a:pt x="67" y="460"/>
                  </a:lnTo>
                  <a:lnTo>
                    <a:pt x="88" y="424"/>
                  </a:lnTo>
                  <a:lnTo>
                    <a:pt x="112" y="388"/>
                  </a:lnTo>
                  <a:lnTo>
                    <a:pt x="137" y="354"/>
                  </a:lnTo>
                  <a:lnTo>
                    <a:pt x="165" y="321"/>
                  </a:lnTo>
                  <a:lnTo>
                    <a:pt x="194" y="290"/>
                  </a:lnTo>
                  <a:lnTo>
                    <a:pt x="225" y="260"/>
                  </a:lnTo>
                  <a:lnTo>
                    <a:pt x="258" y="231"/>
                  </a:lnTo>
                  <a:lnTo>
                    <a:pt x="291" y="203"/>
                  </a:lnTo>
                  <a:lnTo>
                    <a:pt x="325" y="178"/>
                  </a:lnTo>
                  <a:lnTo>
                    <a:pt x="361" y="153"/>
                  </a:lnTo>
                  <a:lnTo>
                    <a:pt x="395" y="129"/>
                  </a:lnTo>
                  <a:lnTo>
                    <a:pt x="431" y="108"/>
                  </a:lnTo>
                  <a:lnTo>
                    <a:pt x="465" y="87"/>
                  </a:lnTo>
                  <a:lnTo>
                    <a:pt x="488" y="76"/>
                  </a:lnTo>
                  <a:lnTo>
                    <a:pt x="512" y="64"/>
                  </a:lnTo>
                  <a:lnTo>
                    <a:pt x="533" y="53"/>
                  </a:lnTo>
                  <a:lnTo>
                    <a:pt x="557" y="41"/>
                  </a:lnTo>
                  <a:lnTo>
                    <a:pt x="580" y="30"/>
                  </a:lnTo>
                  <a:lnTo>
                    <a:pt x="604" y="19"/>
                  </a:lnTo>
                  <a:lnTo>
                    <a:pt x="627" y="9"/>
                  </a:lnTo>
                  <a:lnTo>
                    <a:pt x="652" y="0"/>
                  </a:lnTo>
                  <a:lnTo>
                    <a:pt x="661" y="2"/>
                  </a:lnTo>
                  <a:lnTo>
                    <a:pt x="669" y="9"/>
                  </a:lnTo>
                  <a:lnTo>
                    <a:pt x="677" y="17"/>
                  </a:lnTo>
                  <a:lnTo>
                    <a:pt x="684" y="23"/>
                  </a:lnTo>
                  <a:close/>
                </a:path>
              </a:pathLst>
            </a:custGeom>
            <a:solidFill>
              <a:srgbClr val="ba7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629720" y="4786200"/>
              <a:ext cx="73080" cy="71640"/>
            </a:xfrm>
            <a:custGeom>
              <a:avLst/>
              <a:gdLst/>
              <a:ahLst/>
              <a:rect l="l" t="t" r="r" b="b"/>
              <a:pathLst>
                <a:path w="84" h="89">
                  <a:moveTo>
                    <a:pt x="81" y="19"/>
                  </a:moveTo>
                  <a:lnTo>
                    <a:pt x="84" y="36"/>
                  </a:lnTo>
                  <a:lnTo>
                    <a:pt x="81" y="50"/>
                  </a:lnTo>
                  <a:lnTo>
                    <a:pt x="73" y="66"/>
                  </a:lnTo>
                  <a:lnTo>
                    <a:pt x="66" y="78"/>
                  </a:lnTo>
                  <a:lnTo>
                    <a:pt x="55" y="85"/>
                  </a:lnTo>
                  <a:lnTo>
                    <a:pt x="44" y="89"/>
                  </a:lnTo>
                  <a:lnTo>
                    <a:pt x="31" y="89"/>
                  </a:lnTo>
                  <a:lnTo>
                    <a:pt x="20" y="86"/>
                  </a:lnTo>
                  <a:lnTo>
                    <a:pt x="13" y="78"/>
                  </a:lnTo>
                  <a:lnTo>
                    <a:pt x="8" y="71"/>
                  </a:lnTo>
                  <a:lnTo>
                    <a:pt x="5" y="61"/>
                  </a:lnTo>
                  <a:lnTo>
                    <a:pt x="0" y="53"/>
                  </a:lnTo>
                  <a:lnTo>
                    <a:pt x="3" y="36"/>
                  </a:lnTo>
                  <a:lnTo>
                    <a:pt x="13" y="22"/>
                  </a:lnTo>
                  <a:lnTo>
                    <a:pt x="25" y="10"/>
                  </a:lnTo>
                  <a:lnTo>
                    <a:pt x="38" y="0"/>
                  </a:lnTo>
                  <a:lnTo>
                    <a:pt x="52" y="0"/>
                  </a:lnTo>
                  <a:lnTo>
                    <a:pt x="64" y="2"/>
                  </a:lnTo>
                  <a:lnTo>
                    <a:pt x="75" y="7"/>
                  </a:lnTo>
                  <a:lnTo>
                    <a:pt x="81" y="1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3" name=""/>
            <p:cNvSpPr/>
            <p:nvPr/>
          </p:nvSpPr>
          <p:spPr>
            <a:xfrm>
              <a:off x="2169000" y="4788000"/>
              <a:ext cx="132480" cy="42480"/>
            </a:xfrm>
            <a:custGeom>
              <a:avLst/>
              <a:gdLst/>
              <a:ahLst/>
              <a:rect l="l" t="t" r="r" b="b"/>
              <a:pathLst>
                <a:path w="153" h="51">
                  <a:moveTo>
                    <a:pt x="149" y="18"/>
                  </a:moveTo>
                  <a:lnTo>
                    <a:pt x="134" y="29"/>
                  </a:lnTo>
                  <a:lnTo>
                    <a:pt x="118" y="38"/>
                  </a:lnTo>
                  <a:lnTo>
                    <a:pt x="101" y="45"/>
                  </a:lnTo>
                  <a:lnTo>
                    <a:pt x="83" y="49"/>
                  </a:lnTo>
                  <a:lnTo>
                    <a:pt x="64" y="51"/>
                  </a:lnTo>
                  <a:lnTo>
                    <a:pt x="45" y="51"/>
                  </a:lnTo>
                  <a:lnTo>
                    <a:pt x="27" y="46"/>
                  </a:lnTo>
                  <a:lnTo>
                    <a:pt x="8" y="40"/>
                  </a:lnTo>
                  <a:lnTo>
                    <a:pt x="5" y="37"/>
                  </a:lnTo>
                  <a:lnTo>
                    <a:pt x="2" y="32"/>
                  </a:lnTo>
                  <a:lnTo>
                    <a:pt x="0" y="29"/>
                  </a:lnTo>
                  <a:lnTo>
                    <a:pt x="3" y="24"/>
                  </a:lnTo>
                  <a:lnTo>
                    <a:pt x="20" y="29"/>
                  </a:lnTo>
                  <a:lnTo>
                    <a:pt x="37" y="32"/>
                  </a:lnTo>
                  <a:lnTo>
                    <a:pt x="56" y="32"/>
                  </a:lnTo>
                  <a:lnTo>
                    <a:pt x="73" y="31"/>
                  </a:lnTo>
                  <a:lnTo>
                    <a:pt x="92" y="26"/>
                  </a:lnTo>
                  <a:lnTo>
                    <a:pt x="109" y="20"/>
                  </a:lnTo>
                  <a:lnTo>
                    <a:pt x="125" y="10"/>
                  </a:lnTo>
                  <a:lnTo>
                    <a:pt x="139" y="0"/>
                  </a:lnTo>
                  <a:lnTo>
                    <a:pt x="146" y="1"/>
                  </a:lnTo>
                  <a:lnTo>
                    <a:pt x="151" y="6"/>
                  </a:lnTo>
                  <a:lnTo>
                    <a:pt x="153" y="12"/>
                  </a:lnTo>
                  <a:lnTo>
                    <a:pt x="149" y="1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4" name=""/>
            <p:cNvSpPr/>
            <p:nvPr/>
          </p:nvSpPr>
          <p:spPr>
            <a:xfrm>
              <a:off x="1811520" y="4789440"/>
              <a:ext cx="142560" cy="43920"/>
            </a:xfrm>
            <a:custGeom>
              <a:avLst/>
              <a:gdLst/>
              <a:ahLst/>
              <a:rect l="l" t="t" r="r" b="b"/>
              <a:pathLst>
                <a:path w="165" h="53">
                  <a:moveTo>
                    <a:pt x="165" y="37"/>
                  </a:moveTo>
                  <a:lnTo>
                    <a:pt x="165" y="45"/>
                  </a:lnTo>
                  <a:lnTo>
                    <a:pt x="158" y="47"/>
                  </a:lnTo>
                  <a:lnTo>
                    <a:pt x="152" y="50"/>
                  </a:lnTo>
                  <a:lnTo>
                    <a:pt x="148" y="53"/>
                  </a:lnTo>
                  <a:lnTo>
                    <a:pt x="127" y="53"/>
                  </a:lnTo>
                  <a:lnTo>
                    <a:pt x="107" y="52"/>
                  </a:lnTo>
                  <a:lnTo>
                    <a:pt x="87" y="50"/>
                  </a:lnTo>
                  <a:lnTo>
                    <a:pt x="68" y="45"/>
                  </a:lnTo>
                  <a:lnTo>
                    <a:pt x="50" y="41"/>
                  </a:lnTo>
                  <a:lnTo>
                    <a:pt x="31" y="33"/>
                  </a:lnTo>
                  <a:lnTo>
                    <a:pt x="15" y="22"/>
                  </a:lnTo>
                  <a:lnTo>
                    <a:pt x="0" y="9"/>
                  </a:lnTo>
                  <a:lnTo>
                    <a:pt x="3" y="0"/>
                  </a:lnTo>
                  <a:lnTo>
                    <a:pt x="22" y="9"/>
                  </a:lnTo>
                  <a:lnTo>
                    <a:pt x="40" y="19"/>
                  </a:lnTo>
                  <a:lnTo>
                    <a:pt x="60" y="25"/>
                  </a:lnTo>
                  <a:lnTo>
                    <a:pt x="81" y="30"/>
                  </a:lnTo>
                  <a:lnTo>
                    <a:pt x="101" y="33"/>
                  </a:lnTo>
                  <a:lnTo>
                    <a:pt x="123" y="36"/>
                  </a:lnTo>
                  <a:lnTo>
                    <a:pt x="143" y="37"/>
                  </a:lnTo>
                  <a:lnTo>
                    <a:pt x="165" y="3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85" name=""/>
            <p:cNvSpPr/>
            <p:nvPr/>
          </p:nvSpPr>
          <p:spPr>
            <a:xfrm>
              <a:off x="1978560" y="4879080"/>
              <a:ext cx="137880" cy="58680"/>
            </a:xfrm>
            <a:custGeom>
              <a:avLst/>
              <a:gdLst/>
              <a:ahLst/>
              <a:rect l="l" t="t" r="r" b="b"/>
              <a:pathLst>
                <a:path w="159" h="71">
                  <a:moveTo>
                    <a:pt x="38" y="56"/>
                  </a:moveTo>
                  <a:lnTo>
                    <a:pt x="47" y="54"/>
                  </a:lnTo>
                  <a:lnTo>
                    <a:pt x="58" y="53"/>
                  </a:lnTo>
                  <a:lnTo>
                    <a:pt x="67" y="50"/>
                  </a:lnTo>
                  <a:lnTo>
                    <a:pt x="78" y="48"/>
                  </a:lnTo>
                  <a:lnTo>
                    <a:pt x="89" y="45"/>
                  </a:lnTo>
                  <a:lnTo>
                    <a:pt x="100" y="45"/>
                  </a:lnTo>
                  <a:lnTo>
                    <a:pt x="109" y="43"/>
                  </a:lnTo>
                  <a:lnTo>
                    <a:pt x="120" y="45"/>
                  </a:lnTo>
                  <a:lnTo>
                    <a:pt x="129" y="40"/>
                  </a:lnTo>
                  <a:lnTo>
                    <a:pt x="140" y="32"/>
                  </a:lnTo>
                  <a:lnTo>
                    <a:pt x="150" y="28"/>
                  </a:lnTo>
                  <a:lnTo>
                    <a:pt x="159" y="34"/>
                  </a:lnTo>
                  <a:lnTo>
                    <a:pt x="156" y="48"/>
                  </a:lnTo>
                  <a:lnTo>
                    <a:pt x="146" y="57"/>
                  </a:lnTo>
                  <a:lnTo>
                    <a:pt x="132" y="65"/>
                  </a:lnTo>
                  <a:lnTo>
                    <a:pt x="120" y="70"/>
                  </a:lnTo>
                  <a:lnTo>
                    <a:pt x="104" y="68"/>
                  </a:lnTo>
                  <a:lnTo>
                    <a:pt x="87" y="68"/>
                  </a:lnTo>
                  <a:lnTo>
                    <a:pt x="70" y="70"/>
                  </a:lnTo>
                  <a:lnTo>
                    <a:pt x="53" y="71"/>
                  </a:lnTo>
                  <a:lnTo>
                    <a:pt x="38" y="71"/>
                  </a:lnTo>
                  <a:lnTo>
                    <a:pt x="22" y="67"/>
                  </a:lnTo>
                  <a:lnTo>
                    <a:pt x="10" y="57"/>
                  </a:lnTo>
                  <a:lnTo>
                    <a:pt x="0" y="40"/>
                  </a:lnTo>
                  <a:lnTo>
                    <a:pt x="0" y="29"/>
                  </a:lnTo>
                  <a:lnTo>
                    <a:pt x="2" y="20"/>
                  </a:lnTo>
                  <a:lnTo>
                    <a:pt x="3" y="11"/>
                  </a:lnTo>
                  <a:lnTo>
                    <a:pt x="6" y="0"/>
                  </a:lnTo>
                  <a:lnTo>
                    <a:pt x="17" y="9"/>
                  </a:lnTo>
                  <a:lnTo>
                    <a:pt x="17" y="28"/>
                  </a:lnTo>
                  <a:lnTo>
                    <a:pt x="20" y="46"/>
                  </a:lnTo>
                  <a:lnTo>
                    <a:pt x="38" y="5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18200" y="4935960"/>
              <a:ext cx="225000" cy="414000"/>
            </a:xfrm>
            <a:custGeom>
              <a:avLst/>
              <a:gdLst/>
              <a:ahLst/>
              <a:rect l="l" t="t" r="r" b="b"/>
              <a:pathLst>
                <a:path w="258" h="508">
                  <a:moveTo>
                    <a:pt x="187" y="139"/>
                  </a:moveTo>
                  <a:lnTo>
                    <a:pt x="210" y="179"/>
                  </a:lnTo>
                  <a:lnTo>
                    <a:pt x="229" y="223"/>
                  </a:lnTo>
                  <a:lnTo>
                    <a:pt x="243" y="268"/>
                  </a:lnTo>
                  <a:lnTo>
                    <a:pt x="252" y="316"/>
                  </a:lnTo>
                  <a:lnTo>
                    <a:pt x="257" y="365"/>
                  </a:lnTo>
                  <a:lnTo>
                    <a:pt x="258" y="413"/>
                  </a:lnTo>
                  <a:lnTo>
                    <a:pt x="254" y="461"/>
                  </a:lnTo>
                  <a:lnTo>
                    <a:pt x="246" y="508"/>
                  </a:lnTo>
                  <a:lnTo>
                    <a:pt x="229" y="485"/>
                  </a:lnTo>
                  <a:lnTo>
                    <a:pt x="210" y="461"/>
                  </a:lnTo>
                  <a:lnTo>
                    <a:pt x="190" y="438"/>
                  </a:lnTo>
                  <a:lnTo>
                    <a:pt x="171" y="415"/>
                  </a:lnTo>
                  <a:lnTo>
                    <a:pt x="153" y="391"/>
                  </a:lnTo>
                  <a:lnTo>
                    <a:pt x="136" y="366"/>
                  </a:lnTo>
                  <a:lnTo>
                    <a:pt x="120" y="343"/>
                  </a:lnTo>
                  <a:lnTo>
                    <a:pt x="106" y="316"/>
                  </a:lnTo>
                  <a:lnTo>
                    <a:pt x="89" y="295"/>
                  </a:lnTo>
                  <a:lnTo>
                    <a:pt x="72" y="271"/>
                  </a:lnTo>
                  <a:lnTo>
                    <a:pt x="56" y="248"/>
                  </a:lnTo>
                  <a:lnTo>
                    <a:pt x="44" y="223"/>
                  </a:lnTo>
                  <a:lnTo>
                    <a:pt x="31" y="198"/>
                  </a:lnTo>
                  <a:lnTo>
                    <a:pt x="19" y="173"/>
                  </a:lnTo>
                  <a:lnTo>
                    <a:pt x="9" y="148"/>
                  </a:lnTo>
                  <a:lnTo>
                    <a:pt x="0" y="122"/>
                  </a:lnTo>
                  <a:lnTo>
                    <a:pt x="75" y="0"/>
                  </a:lnTo>
                  <a:lnTo>
                    <a:pt x="93" y="11"/>
                  </a:lnTo>
                  <a:lnTo>
                    <a:pt x="111" y="27"/>
                  </a:lnTo>
                  <a:lnTo>
                    <a:pt x="125" y="42"/>
                  </a:lnTo>
                  <a:lnTo>
                    <a:pt x="139" y="61"/>
                  </a:lnTo>
                  <a:lnTo>
                    <a:pt x="151" y="81"/>
                  </a:lnTo>
                  <a:lnTo>
                    <a:pt x="164" y="100"/>
                  </a:lnTo>
                  <a:lnTo>
                    <a:pt x="176" y="120"/>
                  </a:lnTo>
                  <a:lnTo>
                    <a:pt x="187" y="139"/>
                  </a:lnTo>
                  <a:close/>
                </a:path>
              </a:pathLst>
            </a:custGeom>
            <a:solidFill>
              <a:srgbClr val="ba7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097360" y="4944240"/>
              <a:ext cx="117000" cy="53640"/>
            </a:xfrm>
            <a:custGeom>
              <a:avLst/>
              <a:gdLst/>
              <a:ahLst/>
              <a:rect l="l" t="t" r="r" b="b"/>
              <a:pathLst>
                <a:path w="134" h="66">
                  <a:moveTo>
                    <a:pt x="134" y="14"/>
                  </a:moveTo>
                  <a:lnTo>
                    <a:pt x="128" y="19"/>
                  </a:lnTo>
                  <a:lnTo>
                    <a:pt x="115" y="25"/>
                  </a:lnTo>
                  <a:lnTo>
                    <a:pt x="100" y="33"/>
                  </a:lnTo>
                  <a:lnTo>
                    <a:pt x="81" y="41"/>
                  </a:lnTo>
                  <a:lnTo>
                    <a:pt x="61" y="48"/>
                  </a:lnTo>
                  <a:lnTo>
                    <a:pt x="42" y="56"/>
                  </a:lnTo>
                  <a:lnTo>
                    <a:pt x="25" y="61"/>
                  </a:lnTo>
                  <a:lnTo>
                    <a:pt x="11" y="66"/>
                  </a:lnTo>
                  <a:lnTo>
                    <a:pt x="0" y="56"/>
                  </a:lnTo>
                  <a:lnTo>
                    <a:pt x="14" y="48"/>
                  </a:lnTo>
                  <a:lnTo>
                    <a:pt x="28" y="41"/>
                  </a:lnTo>
                  <a:lnTo>
                    <a:pt x="42" y="33"/>
                  </a:lnTo>
                  <a:lnTo>
                    <a:pt x="56" y="25"/>
                  </a:lnTo>
                  <a:lnTo>
                    <a:pt x="72" y="19"/>
                  </a:lnTo>
                  <a:lnTo>
                    <a:pt x="87" y="13"/>
                  </a:lnTo>
                  <a:lnTo>
                    <a:pt x="101" y="6"/>
                  </a:lnTo>
                  <a:lnTo>
                    <a:pt x="117" y="0"/>
                  </a:lnTo>
                  <a:lnTo>
                    <a:pt x="123" y="2"/>
                  </a:lnTo>
                  <a:lnTo>
                    <a:pt x="128" y="5"/>
                  </a:lnTo>
                  <a:lnTo>
                    <a:pt x="132" y="8"/>
                  </a:lnTo>
                  <a:lnTo>
                    <a:pt x="134" y="1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8" name=""/>
            <p:cNvSpPr/>
            <p:nvPr/>
          </p:nvSpPr>
          <p:spPr>
            <a:xfrm>
              <a:off x="2388600" y="5043600"/>
              <a:ext cx="361080" cy="691200"/>
            </a:xfrm>
            <a:custGeom>
              <a:avLst/>
              <a:gdLst/>
              <a:ahLst/>
              <a:rect l="l" t="t" r="r" b="b"/>
              <a:pathLst>
                <a:path w="414" h="849">
                  <a:moveTo>
                    <a:pt x="126" y="0"/>
                  </a:moveTo>
                  <a:lnTo>
                    <a:pt x="140" y="37"/>
                  </a:lnTo>
                  <a:lnTo>
                    <a:pt x="157" y="74"/>
                  </a:lnTo>
                  <a:lnTo>
                    <a:pt x="178" y="109"/>
                  </a:lnTo>
                  <a:lnTo>
                    <a:pt x="199" y="145"/>
                  </a:lnTo>
                  <a:lnTo>
                    <a:pt x="221" y="179"/>
                  </a:lnTo>
                  <a:lnTo>
                    <a:pt x="245" y="213"/>
                  </a:lnTo>
                  <a:lnTo>
                    <a:pt x="268" y="247"/>
                  </a:lnTo>
                  <a:lnTo>
                    <a:pt x="290" y="282"/>
                  </a:lnTo>
                  <a:lnTo>
                    <a:pt x="326" y="316"/>
                  </a:lnTo>
                  <a:lnTo>
                    <a:pt x="354" y="353"/>
                  </a:lnTo>
                  <a:lnTo>
                    <a:pt x="377" y="392"/>
                  </a:lnTo>
                  <a:lnTo>
                    <a:pt x="394" y="436"/>
                  </a:lnTo>
                  <a:lnTo>
                    <a:pt x="406" y="479"/>
                  </a:lnTo>
                  <a:lnTo>
                    <a:pt x="413" y="526"/>
                  </a:lnTo>
                  <a:lnTo>
                    <a:pt x="414" y="573"/>
                  </a:lnTo>
                  <a:lnTo>
                    <a:pt x="411" y="623"/>
                  </a:lnTo>
                  <a:lnTo>
                    <a:pt x="403" y="652"/>
                  </a:lnTo>
                  <a:lnTo>
                    <a:pt x="396" y="684"/>
                  </a:lnTo>
                  <a:lnTo>
                    <a:pt x="386" y="713"/>
                  </a:lnTo>
                  <a:lnTo>
                    <a:pt x="375" y="741"/>
                  </a:lnTo>
                  <a:lnTo>
                    <a:pt x="361" y="769"/>
                  </a:lnTo>
                  <a:lnTo>
                    <a:pt x="344" y="796"/>
                  </a:lnTo>
                  <a:lnTo>
                    <a:pt x="324" y="819"/>
                  </a:lnTo>
                  <a:lnTo>
                    <a:pt x="301" y="842"/>
                  </a:lnTo>
                  <a:lnTo>
                    <a:pt x="268" y="849"/>
                  </a:lnTo>
                  <a:lnTo>
                    <a:pt x="237" y="849"/>
                  </a:lnTo>
                  <a:lnTo>
                    <a:pt x="206" y="842"/>
                  </a:lnTo>
                  <a:lnTo>
                    <a:pt x="178" y="832"/>
                  </a:lnTo>
                  <a:lnTo>
                    <a:pt x="150" y="814"/>
                  </a:lnTo>
                  <a:lnTo>
                    <a:pt x="123" y="796"/>
                  </a:lnTo>
                  <a:lnTo>
                    <a:pt x="98" y="774"/>
                  </a:lnTo>
                  <a:lnTo>
                    <a:pt x="75" y="751"/>
                  </a:lnTo>
                  <a:lnTo>
                    <a:pt x="50" y="708"/>
                  </a:lnTo>
                  <a:lnTo>
                    <a:pt x="30" y="663"/>
                  </a:lnTo>
                  <a:lnTo>
                    <a:pt x="16" y="617"/>
                  </a:lnTo>
                  <a:lnTo>
                    <a:pt x="6" y="567"/>
                  </a:lnTo>
                  <a:lnTo>
                    <a:pt x="2" y="515"/>
                  </a:lnTo>
                  <a:lnTo>
                    <a:pt x="0" y="464"/>
                  </a:lnTo>
                  <a:lnTo>
                    <a:pt x="2" y="412"/>
                  </a:lnTo>
                  <a:lnTo>
                    <a:pt x="5" y="361"/>
                  </a:lnTo>
                  <a:lnTo>
                    <a:pt x="19" y="129"/>
                  </a:lnTo>
                  <a:lnTo>
                    <a:pt x="17" y="102"/>
                  </a:lnTo>
                  <a:lnTo>
                    <a:pt x="14" y="78"/>
                  </a:lnTo>
                  <a:lnTo>
                    <a:pt x="10" y="53"/>
                  </a:lnTo>
                  <a:lnTo>
                    <a:pt x="5" y="28"/>
                  </a:lnTo>
                  <a:lnTo>
                    <a:pt x="22" y="29"/>
                  </a:lnTo>
                  <a:lnTo>
                    <a:pt x="38" y="29"/>
                  </a:lnTo>
                  <a:lnTo>
                    <a:pt x="53" y="26"/>
                  </a:lnTo>
                  <a:lnTo>
                    <a:pt x="67" y="21"/>
                  </a:lnTo>
                  <a:lnTo>
                    <a:pt x="83" y="15"/>
                  </a:lnTo>
                  <a:lnTo>
                    <a:pt x="97" y="9"/>
                  </a:lnTo>
                  <a:lnTo>
                    <a:pt x="111" y="4"/>
                  </a:lnTo>
                  <a:lnTo>
                    <a:pt x="126" y="0"/>
                  </a:lnTo>
                  <a:close/>
                </a:path>
              </a:pathLst>
            </a:custGeom>
            <a:solidFill>
              <a:srgbClr val="ba7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779840" y="5059800"/>
              <a:ext cx="64800" cy="125640"/>
            </a:xfrm>
            <a:custGeom>
              <a:avLst/>
              <a:gdLst/>
              <a:ahLst/>
              <a:rect l="l" t="t" r="r" b="b"/>
              <a:pathLst>
                <a:path w="75" h="154">
                  <a:moveTo>
                    <a:pt x="75" y="139"/>
                  </a:moveTo>
                  <a:lnTo>
                    <a:pt x="22" y="154"/>
                  </a:lnTo>
                  <a:lnTo>
                    <a:pt x="14" y="117"/>
                  </a:lnTo>
                  <a:lnTo>
                    <a:pt x="5" y="78"/>
                  </a:lnTo>
                  <a:lnTo>
                    <a:pt x="0" y="39"/>
                  </a:lnTo>
                  <a:lnTo>
                    <a:pt x="11" y="0"/>
                  </a:lnTo>
                  <a:lnTo>
                    <a:pt x="26" y="14"/>
                  </a:lnTo>
                  <a:lnTo>
                    <a:pt x="40" y="31"/>
                  </a:lnTo>
                  <a:lnTo>
                    <a:pt x="50" y="47"/>
                  </a:lnTo>
                  <a:lnTo>
                    <a:pt x="59" y="64"/>
                  </a:lnTo>
                  <a:lnTo>
                    <a:pt x="65" y="82"/>
                  </a:lnTo>
                  <a:lnTo>
                    <a:pt x="70" y="101"/>
                  </a:lnTo>
                  <a:lnTo>
                    <a:pt x="73" y="120"/>
                  </a:lnTo>
                  <a:lnTo>
                    <a:pt x="75"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662840" y="5195160"/>
              <a:ext cx="277200" cy="252720"/>
            </a:xfrm>
            <a:custGeom>
              <a:avLst/>
              <a:gdLst/>
              <a:ahLst/>
              <a:rect l="l" t="t" r="r" b="b"/>
              <a:pathLst>
                <a:path w="318" h="308">
                  <a:moveTo>
                    <a:pt x="207" y="21"/>
                  </a:moveTo>
                  <a:lnTo>
                    <a:pt x="201" y="28"/>
                  </a:lnTo>
                  <a:lnTo>
                    <a:pt x="193" y="34"/>
                  </a:lnTo>
                  <a:lnTo>
                    <a:pt x="185" y="39"/>
                  </a:lnTo>
                  <a:lnTo>
                    <a:pt x="177" y="45"/>
                  </a:lnTo>
                  <a:lnTo>
                    <a:pt x="170" y="49"/>
                  </a:lnTo>
                  <a:lnTo>
                    <a:pt x="163" y="56"/>
                  </a:lnTo>
                  <a:lnTo>
                    <a:pt x="160" y="65"/>
                  </a:lnTo>
                  <a:lnTo>
                    <a:pt x="159" y="74"/>
                  </a:lnTo>
                  <a:lnTo>
                    <a:pt x="171" y="81"/>
                  </a:lnTo>
                  <a:lnTo>
                    <a:pt x="182" y="85"/>
                  </a:lnTo>
                  <a:lnTo>
                    <a:pt x="195" y="90"/>
                  </a:lnTo>
                  <a:lnTo>
                    <a:pt x="207" y="93"/>
                  </a:lnTo>
                  <a:lnTo>
                    <a:pt x="220" y="98"/>
                  </a:lnTo>
                  <a:lnTo>
                    <a:pt x="232" y="102"/>
                  </a:lnTo>
                  <a:lnTo>
                    <a:pt x="243" y="109"/>
                  </a:lnTo>
                  <a:lnTo>
                    <a:pt x="254" y="116"/>
                  </a:lnTo>
                  <a:lnTo>
                    <a:pt x="260" y="121"/>
                  </a:lnTo>
                  <a:lnTo>
                    <a:pt x="268" y="127"/>
                  </a:lnTo>
                  <a:lnTo>
                    <a:pt x="276" y="134"/>
                  </a:lnTo>
                  <a:lnTo>
                    <a:pt x="283" y="141"/>
                  </a:lnTo>
                  <a:lnTo>
                    <a:pt x="290" y="148"/>
                  </a:lnTo>
                  <a:lnTo>
                    <a:pt x="296" y="155"/>
                  </a:lnTo>
                  <a:lnTo>
                    <a:pt x="300" y="163"/>
                  </a:lnTo>
                  <a:lnTo>
                    <a:pt x="304" y="171"/>
                  </a:lnTo>
                  <a:lnTo>
                    <a:pt x="293" y="169"/>
                  </a:lnTo>
                  <a:lnTo>
                    <a:pt x="283" y="171"/>
                  </a:lnTo>
                  <a:lnTo>
                    <a:pt x="276" y="176"/>
                  </a:lnTo>
                  <a:lnTo>
                    <a:pt x="271" y="180"/>
                  </a:lnTo>
                  <a:lnTo>
                    <a:pt x="282" y="191"/>
                  </a:lnTo>
                  <a:lnTo>
                    <a:pt x="291" y="202"/>
                  </a:lnTo>
                  <a:lnTo>
                    <a:pt x="300" y="215"/>
                  </a:lnTo>
                  <a:lnTo>
                    <a:pt x="307" y="227"/>
                  </a:lnTo>
                  <a:lnTo>
                    <a:pt x="311" y="241"/>
                  </a:lnTo>
                  <a:lnTo>
                    <a:pt x="316" y="255"/>
                  </a:lnTo>
                  <a:lnTo>
                    <a:pt x="318" y="271"/>
                  </a:lnTo>
                  <a:lnTo>
                    <a:pt x="318" y="286"/>
                  </a:lnTo>
                  <a:lnTo>
                    <a:pt x="302" y="274"/>
                  </a:lnTo>
                  <a:lnTo>
                    <a:pt x="285" y="261"/>
                  </a:lnTo>
                  <a:lnTo>
                    <a:pt x="266" y="249"/>
                  </a:lnTo>
                  <a:lnTo>
                    <a:pt x="248" y="239"/>
                  </a:lnTo>
                  <a:lnTo>
                    <a:pt x="229" y="232"/>
                  </a:lnTo>
                  <a:lnTo>
                    <a:pt x="207" y="229"/>
                  </a:lnTo>
                  <a:lnTo>
                    <a:pt x="185" y="229"/>
                  </a:lnTo>
                  <a:lnTo>
                    <a:pt x="162" y="233"/>
                  </a:lnTo>
                  <a:lnTo>
                    <a:pt x="146" y="239"/>
                  </a:lnTo>
                  <a:lnTo>
                    <a:pt x="131" y="249"/>
                  </a:lnTo>
                  <a:lnTo>
                    <a:pt x="117" y="260"/>
                  </a:lnTo>
                  <a:lnTo>
                    <a:pt x="103" y="271"/>
                  </a:lnTo>
                  <a:lnTo>
                    <a:pt x="89" y="282"/>
                  </a:lnTo>
                  <a:lnTo>
                    <a:pt x="75" y="291"/>
                  </a:lnTo>
                  <a:lnTo>
                    <a:pt x="61" y="300"/>
                  </a:lnTo>
                  <a:lnTo>
                    <a:pt x="45" y="308"/>
                  </a:lnTo>
                  <a:lnTo>
                    <a:pt x="36" y="286"/>
                  </a:lnTo>
                  <a:lnTo>
                    <a:pt x="25" y="266"/>
                  </a:lnTo>
                  <a:lnTo>
                    <a:pt x="13" y="244"/>
                  </a:lnTo>
                  <a:lnTo>
                    <a:pt x="0" y="224"/>
                  </a:lnTo>
                  <a:lnTo>
                    <a:pt x="6" y="196"/>
                  </a:lnTo>
                  <a:lnTo>
                    <a:pt x="14" y="168"/>
                  </a:lnTo>
                  <a:lnTo>
                    <a:pt x="23" y="140"/>
                  </a:lnTo>
                  <a:lnTo>
                    <a:pt x="36" y="113"/>
                  </a:lnTo>
                  <a:lnTo>
                    <a:pt x="51" y="87"/>
                  </a:lnTo>
                  <a:lnTo>
                    <a:pt x="70" y="63"/>
                  </a:lnTo>
                  <a:lnTo>
                    <a:pt x="92" y="43"/>
                  </a:lnTo>
                  <a:lnTo>
                    <a:pt x="118" y="25"/>
                  </a:lnTo>
                  <a:lnTo>
                    <a:pt x="131" y="21"/>
                  </a:lnTo>
                  <a:lnTo>
                    <a:pt x="143" y="18"/>
                  </a:lnTo>
                  <a:lnTo>
                    <a:pt x="156" y="15"/>
                  </a:lnTo>
                  <a:lnTo>
                    <a:pt x="168" y="12"/>
                  </a:lnTo>
                  <a:lnTo>
                    <a:pt x="181" y="7"/>
                  </a:lnTo>
                  <a:lnTo>
                    <a:pt x="193" y="4"/>
                  </a:lnTo>
                  <a:lnTo>
                    <a:pt x="206" y="1"/>
                  </a:lnTo>
                  <a:lnTo>
                    <a:pt x="218" y="0"/>
                  </a:lnTo>
                  <a:lnTo>
                    <a:pt x="207" y="21"/>
                  </a:lnTo>
                  <a:close/>
                </a:path>
              </a:pathLst>
            </a:custGeom>
            <a:solidFill>
              <a:srgbClr val="8c3f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881000" y="5193720"/>
              <a:ext cx="24480" cy="48600"/>
            </a:xfrm>
            <a:custGeom>
              <a:avLst/>
              <a:gdLst/>
              <a:ahLst/>
              <a:rect l="l" t="t" r="r" b="b"/>
              <a:pathLst>
                <a:path w="28" h="61">
                  <a:moveTo>
                    <a:pt x="23" y="18"/>
                  </a:moveTo>
                  <a:lnTo>
                    <a:pt x="28" y="33"/>
                  </a:lnTo>
                  <a:lnTo>
                    <a:pt x="27" y="46"/>
                  </a:lnTo>
                  <a:lnTo>
                    <a:pt x="20" y="57"/>
                  </a:lnTo>
                  <a:lnTo>
                    <a:pt x="9" y="61"/>
                  </a:lnTo>
                  <a:lnTo>
                    <a:pt x="3" y="47"/>
                  </a:lnTo>
                  <a:lnTo>
                    <a:pt x="0" y="32"/>
                  </a:lnTo>
                  <a:lnTo>
                    <a:pt x="3" y="16"/>
                  </a:lnTo>
                  <a:lnTo>
                    <a:pt x="9" y="0"/>
                  </a:lnTo>
                  <a:lnTo>
                    <a:pt x="16" y="2"/>
                  </a:lnTo>
                  <a:lnTo>
                    <a:pt x="19" y="7"/>
                  </a:lnTo>
                  <a:lnTo>
                    <a:pt x="22" y="11"/>
                  </a:lnTo>
                  <a:lnTo>
                    <a:pt x="23" y="18"/>
                  </a:lnTo>
                  <a:close/>
                </a:path>
              </a:pathLst>
            </a:custGeom>
            <a:solidFill>
              <a:srgbClr val="8c3f2b"/>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2" name=""/>
            <p:cNvSpPr/>
            <p:nvPr/>
          </p:nvSpPr>
          <p:spPr>
            <a:xfrm>
              <a:off x="1837440" y="5228280"/>
              <a:ext cx="46800" cy="42120"/>
            </a:xfrm>
            <a:custGeom>
              <a:avLst/>
              <a:gdLst/>
              <a:ahLst/>
              <a:rect l="l" t="t" r="r" b="b"/>
              <a:pathLst>
                <a:path w="53" h="52">
                  <a:moveTo>
                    <a:pt x="53" y="52"/>
                  </a:moveTo>
                  <a:lnTo>
                    <a:pt x="47" y="48"/>
                  </a:lnTo>
                  <a:lnTo>
                    <a:pt x="40" y="43"/>
                  </a:lnTo>
                  <a:lnTo>
                    <a:pt x="34" y="40"/>
                  </a:lnTo>
                  <a:lnTo>
                    <a:pt x="28" y="37"/>
                  </a:lnTo>
                  <a:lnTo>
                    <a:pt x="22" y="34"/>
                  </a:lnTo>
                  <a:lnTo>
                    <a:pt x="14" y="31"/>
                  </a:lnTo>
                  <a:lnTo>
                    <a:pt x="8" y="29"/>
                  </a:lnTo>
                  <a:lnTo>
                    <a:pt x="0" y="28"/>
                  </a:lnTo>
                  <a:lnTo>
                    <a:pt x="28" y="0"/>
                  </a:lnTo>
                  <a:lnTo>
                    <a:pt x="29" y="15"/>
                  </a:lnTo>
                  <a:lnTo>
                    <a:pt x="34" y="28"/>
                  </a:lnTo>
                  <a:lnTo>
                    <a:pt x="43" y="40"/>
                  </a:lnTo>
                  <a:lnTo>
                    <a:pt x="53" y="52"/>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3" name=""/>
            <p:cNvSpPr/>
            <p:nvPr/>
          </p:nvSpPr>
          <p:spPr>
            <a:xfrm>
              <a:off x="1847880" y="5407560"/>
              <a:ext cx="69840" cy="97560"/>
            </a:xfrm>
            <a:custGeom>
              <a:avLst/>
              <a:gdLst/>
              <a:ahLst/>
              <a:rect l="l" t="t" r="r" b="b"/>
              <a:pathLst>
                <a:path w="81" h="120">
                  <a:moveTo>
                    <a:pt x="73" y="31"/>
                  </a:moveTo>
                  <a:lnTo>
                    <a:pt x="71" y="42"/>
                  </a:lnTo>
                  <a:lnTo>
                    <a:pt x="73" y="55"/>
                  </a:lnTo>
                  <a:lnTo>
                    <a:pt x="76" y="67"/>
                  </a:lnTo>
                  <a:lnTo>
                    <a:pt x="79" y="81"/>
                  </a:lnTo>
                  <a:lnTo>
                    <a:pt x="81" y="92"/>
                  </a:lnTo>
                  <a:lnTo>
                    <a:pt x="79" y="103"/>
                  </a:lnTo>
                  <a:lnTo>
                    <a:pt x="71" y="112"/>
                  </a:lnTo>
                  <a:lnTo>
                    <a:pt x="56" y="117"/>
                  </a:lnTo>
                  <a:lnTo>
                    <a:pt x="45" y="120"/>
                  </a:lnTo>
                  <a:lnTo>
                    <a:pt x="32" y="119"/>
                  </a:lnTo>
                  <a:lnTo>
                    <a:pt x="23" y="114"/>
                  </a:lnTo>
                  <a:lnTo>
                    <a:pt x="17" y="105"/>
                  </a:lnTo>
                  <a:lnTo>
                    <a:pt x="15" y="78"/>
                  </a:lnTo>
                  <a:lnTo>
                    <a:pt x="12" y="52"/>
                  </a:lnTo>
                  <a:lnTo>
                    <a:pt x="8" y="25"/>
                  </a:lnTo>
                  <a:lnTo>
                    <a:pt x="0" y="0"/>
                  </a:lnTo>
                  <a:lnTo>
                    <a:pt x="11" y="0"/>
                  </a:lnTo>
                  <a:lnTo>
                    <a:pt x="20" y="2"/>
                  </a:lnTo>
                  <a:lnTo>
                    <a:pt x="31" y="5"/>
                  </a:lnTo>
                  <a:lnTo>
                    <a:pt x="39" y="8"/>
                  </a:lnTo>
                  <a:lnTo>
                    <a:pt x="48" y="13"/>
                  </a:lnTo>
                  <a:lnTo>
                    <a:pt x="56" y="19"/>
                  </a:lnTo>
                  <a:lnTo>
                    <a:pt x="65" y="25"/>
                  </a:lnTo>
                  <a:lnTo>
                    <a:pt x="73"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806120" y="5483880"/>
              <a:ext cx="22320" cy="66600"/>
            </a:xfrm>
            <a:custGeom>
              <a:avLst/>
              <a:gdLst/>
              <a:ahLst/>
              <a:rect l="l" t="t" r="r" b="b"/>
              <a:pathLst>
                <a:path w="27" h="83">
                  <a:moveTo>
                    <a:pt x="27" y="83"/>
                  </a:moveTo>
                  <a:lnTo>
                    <a:pt x="13" y="70"/>
                  </a:lnTo>
                  <a:lnTo>
                    <a:pt x="4" y="48"/>
                  </a:lnTo>
                  <a:lnTo>
                    <a:pt x="0" y="22"/>
                  </a:lnTo>
                  <a:lnTo>
                    <a:pt x="5" y="0"/>
                  </a:lnTo>
                  <a:lnTo>
                    <a:pt x="27" y="8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 name=""/>
            <p:cNvSpPr/>
            <p:nvPr/>
          </p:nvSpPr>
          <p:spPr>
            <a:xfrm>
              <a:off x="1868760" y="5508360"/>
              <a:ext cx="69840" cy="110880"/>
            </a:xfrm>
            <a:custGeom>
              <a:avLst/>
              <a:gdLst/>
              <a:ahLst/>
              <a:rect l="l" t="t" r="r" b="b"/>
              <a:pathLst>
                <a:path w="81" h="137">
                  <a:moveTo>
                    <a:pt x="59" y="137"/>
                  </a:moveTo>
                  <a:lnTo>
                    <a:pt x="48" y="137"/>
                  </a:lnTo>
                  <a:lnTo>
                    <a:pt x="37" y="134"/>
                  </a:lnTo>
                  <a:lnTo>
                    <a:pt x="28" y="129"/>
                  </a:lnTo>
                  <a:lnTo>
                    <a:pt x="19" y="123"/>
                  </a:lnTo>
                  <a:lnTo>
                    <a:pt x="14" y="96"/>
                  </a:lnTo>
                  <a:lnTo>
                    <a:pt x="11" y="70"/>
                  </a:lnTo>
                  <a:lnTo>
                    <a:pt x="6" y="43"/>
                  </a:lnTo>
                  <a:lnTo>
                    <a:pt x="0" y="17"/>
                  </a:lnTo>
                  <a:lnTo>
                    <a:pt x="8" y="18"/>
                  </a:lnTo>
                  <a:lnTo>
                    <a:pt x="17" y="18"/>
                  </a:lnTo>
                  <a:lnTo>
                    <a:pt x="25" y="20"/>
                  </a:lnTo>
                  <a:lnTo>
                    <a:pt x="34" y="18"/>
                  </a:lnTo>
                  <a:lnTo>
                    <a:pt x="44" y="17"/>
                  </a:lnTo>
                  <a:lnTo>
                    <a:pt x="51" y="14"/>
                  </a:lnTo>
                  <a:lnTo>
                    <a:pt x="58" y="8"/>
                  </a:lnTo>
                  <a:lnTo>
                    <a:pt x="64" y="0"/>
                  </a:lnTo>
                  <a:lnTo>
                    <a:pt x="72" y="34"/>
                  </a:lnTo>
                  <a:lnTo>
                    <a:pt x="81" y="70"/>
                  </a:lnTo>
                  <a:lnTo>
                    <a:pt x="79" y="107"/>
                  </a:lnTo>
                  <a:lnTo>
                    <a:pt x="59" y="1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31800" y="5679720"/>
              <a:ext cx="2543760" cy="545760"/>
            </a:xfrm>
            <a:custGeom>
              <a:avLst/>
              <a:gdLst/>
              <a:ahLst/>
              <a:rect l="l" t="t" r="r" b="b"/>
              <a:pathLst>
                <a:path w="2917" h="670">
                  <a:moveTo>
                    <a:pt x="1418" y="16"/>
                  </a:moveTo>
                  <a:lnTo>
                    <a:pt x="1437" y="14"/>
                  </a:lnTo>
                  <a:lnTo>
                    <a:pt x="1462" y="14"/>
                  </a:lnTo>
                  <a:lnTo>
                    <a:pt x="1491" y="13"/>
                  </a:lnTo>
                  <a:lnTo>
                    <a:pt x="1525" y="13"/>
                  </a:lnTo>
                  <a:lnTo>
                    <a:pt x="1563" y="11"/>
                  </a:lnTo>
                  <a:lnTo>
                    <a:pt x="1603" y="11"/>
                  </a:lnTo>
                  <a:lnTo>
                    <a:pt x="1644" y="9"/>
                  </a:lnTo>
                  <a:lnTo>
                    <a:pt x="1686" y="9"/>
                  </a:lnTo>
                  <a:lnTo>
                    <a:pt x="1726" y="8"/>
                  </a:lnTo>
                  <a:lnTo>
                    <a:pt x="1764" y="8"/>
                  </a:lnTo>
                  <a:lnTo>
                    <a:pt x="1799" y="8"/>
                  </a:lnTo>
                  <a:lnTo>
                    <a:pt x="1831" y="8"/>
                  </a:lnTo>
                  <a:lnTo>
                    <a:pt x="1857" y="6"/>
                  </a:lnTo>
                  <a:lnTo>
                    <a:pt x="1877" y="6"/>
                  </a:lnTo>
                  <a:lnTo>
                    <a:pt x="1890" y="6"/>
                  </a:lnTo>
                  <a:lnTo>
                    <a:pt x="1894" y="6"/>
                  </a:lnTo>
                  <a:lnTo>
                    <a:pt x="1910" y="6"/>
                  </a:lnTo>
                  <a:lnTo>
                    <a:pt x="1926" y="6"/>
                  </a:lnTo>
                  <a:lnTo>
                    <a:pt x="1943" y="5"/>
                  </a:lnTo>
                  <a:lnTo>
                    <a:pt x="1960" y="3"/>
                  </a:lnTo>
                  <a:lnTo>
                    <a:pt x="1977" y="2"/>
                  </a:lnTo>
                  <a:lnTo>
                    <a:pt x="1994" y="2"/>
                  </a:lnTo>
                  <a:lnTo>
                    <a:pt x="2013" y="0"/>
                  </a:lnTo>
                  <a:lnTo>
                    <a:pt x="2030" y="0"/>
                  </a:lnTo>
                  <a:lnTo>
                    <a:pt x="2047" y="0"/>
                  </a:lnTo>
                  <a:lnTo>
                    <a:pt x="2064" y="2"/>
                  </a:lnTo>
                  <a:lnTo>
                    <a:pt x="2080" y="5"/>
                  </a:lnTo>
                  <a:lnTo>
                    <a:pt x="2095" y="11"/>
                  </a:lnTo>
                  <a:lnTo>
                    <a:pt x="2111" y="17"/>
                  </a:lnTo>
                  <a:lnTo>
                    <a:pt x="2125" y="27"/>
                  </a:lnTo>
                  <a:lnTo>
                    <a:pt x="2137" y="37"/>
                  </a:lnTo>
                  <a:lnTo>
                    <a:pt x="2150" y="52"/>
                  </a:lnTo>
                  <a:lnTo>
                    <a:pt x="2168" y="62"/>
                  </a:lnTo>
                  <a:lnTo>
                    <a:pt x="2190" y="73"/>
                  </a:lnTo>
                  <a:lnTo>
                    <a:pt x="2210" y="81"/>
                  </a:lnTo>
                  <a:lnTo>
                    <a:pt x="2232" y="87"/>
                  </a:lnTo>
                  <a:lnTo>
                    <a:pt x="2255" y="92"/>
                  </a:lnTo>
                  <a:lnTo>
                    <a:pt x="2277" y="94"/>
                  </a:lnTo>
                  <a:lnTo>
                    <a:pt x="2301" y="92"/>
                  </a:lnTo>
                  <a:lnTo>
                    <a:pt x="2322" y="87"/>
                  </a:lnTo>
                  <a:lnTo>
                    <a:pt x="2333" y="80"/>
                  </a:lnTo>
                  <a:lnTo>
                    <a:pt x="2344" y="72"/>
                  </a:lnTo>
                  <a:lnTo>
                    <a:pt x="2354" y="62"/>
                  </a:lnTo>
                  <a:lnTo>
                    <a:pt x="2363" y="52"/>
                  </a:lnTo>
                  <a:lnTo>
                    <a:pt x="2372" y="42"/>
                  </a:lnTo>
                  <a:lnTo>
                    <a:pt x="2380" y="31"/>
                  </a:lnTo>
                  <a:lnTo>
                    <a:pt x="2388" y="22"/>
                  </a:lnTo>
                  <a:lnTo>
                    <a:pt x="2394" y="13"/>
                  </a:lnTo>
                  <a:lnTo>
                    <a:pt x="2422" y="13"/>
                  </a:lnTo>
                  <a:lnTo>
                    <a:pt x="2448" y="13"/>
                  </a:lnTo>
                  <a:lnTo>
                    <a:pt x="2475" y="13"/>
                  </a:lnTo>
                  <a:lnTo>
                    <a:pt x="2501" y="13"/>
                  </a:lnTo>
                  <a:lnTo>
                    <a:pt x="2528" y="13"/>
                  </a:lnTo>
                  <a:lnTo>
                    <a:pt x="2554" y="11"/>
                  </a:lnTo>
                  <a:lnTo>
                    <a:pt x="2581" y="9"/>
                  </a:lnTo>
                  <a:lnTo>
                    <a:pt x="2607" y="5"/>
                  </a:lnTo>
                  <a:lnTo>
                    <a:pt x="2631" y="66"/>
                  </a:lnTo>
                  <a:lnTo>
                    <a:pt x="2655" y="126"/>
                  </a:lnTo>
                  <a:lnTo>
                    <a:pt x="2682" y="187"/>
                  </a:lnTo>
                  <a:lnTo>
                    <a:pt x="2712" y="246"/>
                  </a:lnTo>
                  <a:lnTo>
                    <a:pt x="2743" y="304"/>
                  </a:lnTo>
                  <a:lnTo>
                    <a:pt x="2775" y="363"/>
                  </a:lnTo>
                  <a:lnTo>
                    <a:pt x="2810" y="419"/>
                  </a:lnTo>
                  <a:lnTo>
                    <a:pt x="2845" y="477"/>
                  </a:lnTo>
                  <a:lnTo>
                    <a:pt x="2856" y="497"/>
                  </a:lnTo>
                  <a:lnTo>
                    <a:pt x="2867" y="517"/>
                  </a:lnTo>
                  <a:lnTo>
                    <a:pt x="2877" y="538"/>
                  </a:lnTo>
                  <a:lnTo>
                    <a:pt x="2886" y="559"/>
                  </a:lnTo>
                  <a:lnTo>
                    <a:pt x="2894" y="580"/>
                  </a:lnTo>
                  <a:lnTo>
                    <a:pt x="2901" y="601"/>
                  </a:lnTo>
                  <a:lnTo>
                    <a:pt x="2909" y="622"/>
                  </a:lnTo>
                  <a:lnTo>
                    <a:pt x="2917" y="643"/>
                  </a:lnTo>
                  <a:lnTo>
                    <a:pt x="2895" y="642"/>
                  </a:lnTo>
                  <a:lnTo>
                    <a:pt x="2873" y="642"/>
                  </a:lnTo>
                  <a:lnTo>
                    <a:pt x="2850" y="640"/>
                  </a:lnTo>
                  <a:lnTo>
                    <a:pt x="2828" y="640"/>
                  </a:lnTo>
                  <a:lnTo>
                    <a:pt x="2805" y="639"/>
                  </a:lnTo>
                  <a:lnTo>
                    <a:pt x="2783" y="637"/>
                  </a:lnTo>
                  <a:lnTo>
                    <a:pt x="2760" y="637"/>
                  </a:lnTo>
                  <a:lnTo>
                    <a:pt x="2736" y="636"/>
                  </a:lnTo>
                  <a:lnTo>
                    <a:pt x="2713" y="636"/>
                  </a:lnTo>
                  <a:lnTo>
                    <a:pt x="2691" y="634"/>
                  </a:lnTo>
                  <a:lnTo>
                    <a:pt x="2668" y="633"/>
                  </a:lnTo>
                  <a:lnTo>
                    <a:pt x="2645" y="631"/>
                  </a:lnTo>
                  <a:lnTo>
                    <a:pt x="2621" y="629"/>
                  </a:lnTo>
                  <a:lnTo>
                    <a:pt x="2598" y="626"/>
                  </a:lnTo>
                  <a:lnTo>
                    <a:pt x="2576" y="625"/>
                  </a:lnTo>
                  <a:lnTo>
                    <a:pt x="2553" y="622"/>
                  </a:lnTo>
                  <a:lnTo>
                    <a:pt x="2192" y="625"/>
                  </a:lnTo>
                  <a:lnTo>
                    <a:pt x="2176" y="629"/>
                  </a:lnTo>
                  <a:lnTo>
                    <a:pt x="2161" y="631"/>
                  </a:lnTo>
                  <a:lnTo>
                    <a:pt x="2143" y="633"/>
                  </a:lnTo>
                  <a:lnTo>
                    <a:pt x="2126" y="634"/>
                  </a:lnTo>
                  <a:lnTo>
                    <a:pt x="2109" y="634"/>
                  </a:lnTo>
                  <a:lnTo>
                    <a:pt x="2092" y="636"/>
                  </a:lnTo>
                  <a:lnTo>
                    <a:pt x="2076" y="636"/>
                  </a:lnTo>
                  <a:lnTo>
                    <a:pt x="2059" y="637"/>
                  </a:lnTo>
                  <a:lnTo>
                    <a:pt x="1848" y="636"/>
                  </a:lnTo>
                  <a:lnTo>
                    <a:pt x="1714" y="637"/>
                  </a:lnTo>
                  <a:lnTo>
                    <a:pt x="1351" y="670"/>
                  </a:lnTo>
                  <a:lnTo>
                    <a:pt x="1253" y="670"/>
                  </a:lnTo>
                  <a:lnTo>
                    <a:pt x="764" y="628"/>
                  </a:lnTo>
                  <a:lnTo>
                    <a:pt x="497" y="633"/>
                  </a:lnTo>
                  <a:lnTo>
                    <a:pt x="464" y="633"/>
                  </a:lnTo>
                  <a:lnTo>
                    <a:pt x="433" y="633"/>
                  </a:lnTo>
                  <a:lnTo>
                    <a:pt x="402" y="634"/>
                  </a:lnTo>
                  <a:lnTo>
                    <a:pt x="371" y="636"/>
                  </a:lnTo>
                  <a:lnTo>
                    <a:pt x="339" y="637"/>
                  </a:lnTo>
                  <a:lnTo>
                    <a:pt x="308" y="640"/>
                  </a:lnTo>
                  <a:lnTo>
                    <a:pt x="279" y="643"/>
                  </a:lnTo>
                  <a:lnTo>
                    <a:pt x="248" y="647"/>
                  </a:lnTo>
                  <a:lnTo>
                    <a:pt x="216" y="650"/>
                  </a:lnTo>
                  <a:lnTo>
                    <a:pt x="187" y="653"/>
                  </a:lnTo>
                  <a:lnTo>
                    <a:pt x="156" y="656"/>
                  </a:lnTo>
                  <a:lnTo>
                    <a:pt x="125" y="659"/>
                  </a:lnTo>
                  <a:lnTo>
                    <a:pt x="94" y="661"/>
                  </a:lnTo>
                  <a:lnTo>
                    <a:pt x="62" y="664"/>
                  </a:lnTo>
                  <a:lnTo>
                    <a:pt x="31" y="665"/>
                  </a:lnTo>
                  <a:lnTo>
                    <a:pt x="0" y="665"/>
                  </a:lnTo>
                  <a:lnTo>
                    <a:pt x="3" y="647"/>
                  </a:lnTo>
                  <a:lnTo>
                    <a:pt x="9" y="625"/>
                  </a:lnTo>
                  <a:lnTo>
                    <a:pt x="19" y="605"/>
                  </a:lnTo>
                  <a:lnTo>
                    <a:pt x="31" y="583"/>
                  </a:lnTo>
                  <a:lnTo>
                    <a:pt x="45" y="564"/>
                  </a:lnTo>
                  <a:lnTo>
                    <a:pt x="61" y="545"/>
                  </a:lnTo>
                  <a:lnTo>
                    <a:pt x="75" y="530"/>
                  </a:lnTo>
                  <a:lnTo>
                    <a:pt x="89" y="516"/>
                  </a:lnTo>
                  <a:lnTo>
                    <a:pt x="94" y="510"/>
                  </a:lnTo>
                  <a:lnTo>
                    <a:pt x="104" y="494"/>
                  </a:lnTo>
                  <a:lnTo>
                    <a:pt x="123" y="469"/>
                  </a:lnTo>
                  <a:lnTo>
                    <a:pt x="146" y="436"/>
                  </a:lnTo>
                  <a:lnTo>
                    <a:pt x="173" y="399"/>
                  </a:lnTo>
                  <a:lnTo>
                    <a:pt x="204" y="355"/>
                  </a:lnTo>
                  <a:lnTo>
                    <a:pt x="238" y="310"/>
                  </a:lnTo>
                  <a:lnTo>
                    <a:pt x="273" y="262"/>
                  </a:lnTo>
                  <a:lnTo>
                    <a:pt x="307" y="215"/>
                  </a:lnTo>
                  <a:lnTo>
                    <a:pt x="339" y="168"/>
                  </a:lnTo>
                  <a:lnTo>
                    <a:pt x="372" y="126"/>
                  </a:lnTo>
                  <a:lnTo>
                    <a:pt x="400" y="87"/>
                  </a:lnTo>
                  <a:lnTo>
                    <a:pt x="425" y="55"/>
                  </a:lnTo>
                  <a:lnTo>
                    <a:pt x="444" y="30"/>
                  </a:lnTo>
                  <a:lnTo>
                    <a:pt x="456" y="13"/>
                  </a:lnTo>
                  <a:lnTo>
                    <a:pt x="462" y="6"/>
                  </a:lnTo>
                  <a:lnTo>
                    <a:pt x="478" y="5"/>
                  </a:lnTo>
                  <a:lnTo>
                    <a:pt x="494" y="3"/>
                  </a:lnTo>
                  <a:lnTo>
                    <a:pt x="511" y="2"/>
                  </a:lnTo>
                  <a:lnTo>
                    <a:pt x="528" y="2"/>
                  </a:lnTo>
                  <a:lnTo>
                    <a:pt x="545" y="3"/>
                  </a:lnTo>
                  <a:lnTo>
                    <a:pt x="562" y="3"/>
                  </a:lnTo>
                  <a:lnTo>
                    <a:pt x="581" y="5"/>
                  </a:lnTo>
                  <a:lnTo>
                    <a:pt x="598" y="5"/>
                  </a:lnTo>
                  <a:lnTo>
                    <a:pt x="616" y="6"/>
                  </a:lnTo>
                  <a:lnTo>
                    <a:pt x="634" y="8"/>
                  </a:lnTo>
                  <a:lnTo>
                    <a:pt x="652" y="9"/>
                  </a:lnTo>
                  <a:lnTo>
                    <a:pt x="669" y="11"/>
                  </a:lnTo>
                  <a:lnTo>
                    <a:pt x="687" y="11"/>
                  </a:lnTo>
                  <a:lnTo>
                    <a:pt x="704" y="13"/>
                  </a:lnTo>
                  <a:lnTo>
                    <a:pt x="721" y="13"/>
                  </a:lnTo>
                  <a:lnTo>
                    <a:pt x="736" y="13"/>
                  </a:lnTo>
                  <a:lnTo>
                    <a:pt x="766" y="14"/>
                  </a:lnTo>
                  <a:lnTo>
                    <a:pt x="803" y="14"/>
                  </a:lnTo>
                  <a:lnTo>
                    <a:pt x="848" y="16"/>
                  </a:lnTo>
                  <a:lnTo>
                    <a:pt x="898" y="16"/>
                  </a:lnTo>
                  <a:lnTo>
                    <a:pt x="953" y="16"/>
                  </a:lnTo>
                  <a:lnTo>
                    <a:pt x="1010" y="16"/>
                  </a:lnTo>
                  <a:lnTo>
                    <a:pt x="1068" y="16"/>
                  </a:lnTo>
                  <a:lnTo>
                    <a:pt x="1127" y="16"/>
                  </a:lnTo>
                  <a:lnTo>
                    <a:pt x="1183" y="16"/>
                  </a:lnTo>
                  <a:lnTo>
                    <a:pt x="1238" y="16"/>
                  </a:lnTo>
                  <a:lnTo>
                    <a:pt x="1286" y="16"/>
                  </a:lnTo>
                  <a:lnTo>
                    <a:pt x="1329" y="16"/>
                  </a:lnTo>
                  <a:lnTo>
                    <a:pt x="1367" y="16"/>
                  </a:lnTo>
                  <a:lnTo>
                    <a:pt x="1395" y="16"/>
                  </a:lnTo>
                  <a:lnTo>
                    <a:pt x="1412" y="16"/>
                  </a:lnTo>
                  <a:lnTo>
                    <a:pt x="1418"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342080" y="5735160"/>
              <a:ext cx="1252440" cy="469440"/>
            </a:xfrm>
            <a:custGeom>
              <a:avLst/>
              <a:gdLst/>
              <a:ahLst/>
              <a:rect l="l" t="t" r="r" b="b"/>
              <a:pathLst>
                <a:path w="1437" h="576">
                  <a:moveTo>
                    <a:pt x="325" y="5"/>
                  </a:moveTo>
                  <a:lnTo>
                    <a:pt x="355" y="8"/>
                  </a:lnTo>
                  <a:lnTo>
                    <a:pt x="385" y="11"/>
                  </a:lnTo>
                  <a:lnTo>
                    <a:pt x="414" y="16"/>
                  </a:lnTo>
                  <a:lnTo>
                    <a:pt x="444" y="19"/>
                  </a:lnTo>
                  <a:lnTo>
                    <a:pt x="473" y="25"/>
                  </a:lnTo>
                  <a:lnTo>
                    <a:pt x="501" y="30"/>
                  </a:lnTo>
                  <a:lnTo>
                    <a:pt x="531" y="34"/>
                  </a:lnTo>
                  <a:lnTo>
                    <a:pt x="561" y="39"/>
                  </a:lnTo>
                  <a:lnTo>
                    <a:pt x="590" y="44"/>
                  </a:lnTo>
                  <a:lnTo>
                    <a:pt x="620" y="47"/>
                  </a:lnTo>
                  <a:lnTo>
                    <a:pt x="649" y="48"/>
                  </a:lnTo>
                  <a:lnTo>
                    <a:pt x="680" y="50"/>
                  </a:lnTo>
                  <a:lnTo>
                    <a:pt x="710" y="50"/>
                  </a:lnTo>
                  <a:lnTo>
                    <a:pt x="741" y="48"/>
                  </a:lnTo>
                  <a:lnTo>
                    <a:pt x="772" y="45"/>
                  </a:lnTo>
                  <a:lnTo>
                    <a:pt x="803" y="41"/>
                  </a:lnTo>
                  <a:lnTo>
                    <a:pt x="806" y="55"/>
                  </a:lnTo>
                  <a:lnTo>
                    <a:pt x="803" y="69"/>
                  </a:lnTo>
                  <a:lnTo>
                    <a:pt x="796" y="83"/>
                  </a:lnTo>
                  <a:lnTo>
                    <a:pt x="789" y="98"/>
                  </a:lnTo>
                  <a:lnTo>
                    <a:pt x="800" y="104"/>
                  </a:lnTo>
                  <a:lnTo>
                    <a:pt x="828" y="101"/>
                  </a:lnTo>
                  <a:lnTo>
                    <a:pt x="855" y="97"/>
                  </a:lnTo>
                  <a:lnTo>
                    <a:pt x="881" y="94"/>
                  </a:lnTo>
                  <a:lnTo>
                    <a:pt x="908" y="89"/>
                  </a:lnTo>
                  <a:lnTo>
                    <a:pt x="934" y="84"/>
                  </a:lnTo>
                  <a:lnTo>
                    <a:pt x="961" y="78"/>
                  </a:lnTo>
                  <a:lnTo>
                    <a:pt x="987" y="72"/>
                  </a:lnTo>
                  <a:lnTo>
                    <a:pt x="1015" y="62"/>
                  </a:lnTo>
                  <a:lnTo>
                    <a:pt x="1017" y="73"/>
                  </a:lnTo>
                  <a:lnTo>
                    <a:pt x="1018" y="84"/>
                  </a:lnTo>
                  <a:lnTo>
                    <a:pt x="1023" y="95"/>
                  </a:lnTo>
                  <a:lnTo>
                    <a:pt x="1029" y="104"/>
                  </a:lnTo>
                  <a:lnTo>
                    <a:pt x="1048" y="98"/>
                  </a:lnTo>
                  <a:lnTo>
                    <a:pt x="1063" y="98"/>
                  </a:lnTo>
                  <a:lnTo>
                    <a:pt x="1077" y="104"/>
                  </a:lnTo>
                  <a:lnTo>
                    <a:pt x="1091" y="114"/>
                  </a:lnTo>
                  <a:lnTo>
                    <a:pt x="1104" y="126"/>
                  </a:lnTo>
                  <a:lnTo>
                    <a:pt x="1116" y="142"/>
                  </a:lnTo>
                  <a:lnTo>
                    <a:pt x="1129" y="156"/>
                  </a:lnTo>
                  <a:lnTo>
                    <a:pt x="1143" y="168"/>
                  </a:lnTo>
                  <a:lnTo>
                    <a:pt x="1158" y="187"/>
                  </a:lnTo>
                  <a:lnTo>
                    <a:pt x="1175" y="206"/>
                  </a:lnTo>
                  <a:lnTo>
                    <a:pt x="1196" y="226"/>
                  </a:lnTo>
                  <a:lnTo>
                    <a:pt x="1219" y="246"/>
                  </a:lnTo>
                  <a:lnTo>
                    <a:pt x="1242" y="266"/>
                  </a:lnTo>
                  <a:lnTo>
                    <a:pt x="1267" y="287"/>
                  </a:lnTo>
                  <a:lnTo>
                    <a:pt x="1294" y="307"/>
                  </a:lnTo>
                  <a:lnTo>
                    <a:pt x="1319" y="327"/>
                  </a:lnTo>
                  <a:lnTo>
                    <a:pt x="1342" y="346"/>
                  </a:lnTo>
                  <a:lnTo>
                    <a:pt x="1364" y="365"/>
                  </a:lnTo>
                  <a:lnTo>
                    <a:pt x="1385" y="382"/>
                  </a:lnTo>
                  <a:lnTo>
                    <a:pt x="1403" y="396"/>
                  </a:lnTo>
                  <a:lnTo>
                    <a:pt x="1418" y="410"/>
                  </a:lnTo>
                  <a:lnTo>
                    <a:pt x="1429" y="422"/>
                  </a:lnTo>
                  <a:lnTo>
                    <a:pt x="1435" y="432"/>
                  </a:lnTo>
                  <a:lnTo>
                    <a:pt x="1437" y="438"/>
                  </a:lnTo>
                  <a:lnTo>
                    <a:pt x="1407" y="439"/>
                  </a:lnTo>
                  <a:lnTo>
                    <a:pt x="1378" y="443"/>
                  </a:lnTo>
                  <a:lnTo>
                    <a:pt x="1350" y="447"/>
                  </a:lnTo>
                  <a:lnTo>
                    <a:pt x="1322" y="452"/>
                  </a:lnTo>
                  <a:lnTo>
                    <a:pt x="1292" y="458"/>
                  </a:lnTo>
                  <a:lnTo>
                    <a:pt x="1264" y="464"/>
                  </a:lnTo>
                  <a:lnTo>
                    <a:pt x="1236" y="471"/>
                  </a:lnTo>
                  <a:lnTo>
                    <a:pt x="1208" y="477"/>
                  </a:lnTo>
                  <a:lnTo>
                    <a:pt x="1180" y="483"/>
                  </a:lnTo>
                  <a:lnTo>
                    <a:pt x="1152" y="489"/>
                  </a:lnTo>
                  <a:lnTo>
                    <a:pt x="1124" y="494"/>
                  </a:lnTo>
                  <a:lnTo>
                    <a:pt x="1096" y="499"/>
                  </a:lnTo>
                  <a:lnTo>
                    <a:pt x="1068" y="502"/>
                  </a:lnTo>
                  <a:lnTo>
                    <a:pt x="1038" y="503"/>
                  </a:lnTo>
                  <a:lnTo>
                    <a:pt x="1009" y="503"/>
                  </a:lnTo>
                  <a:lnTo>
                    <a:pt x="979" y="502"/>
                  </a:lnTo>
                  <a:lnTo>
                    <a:pt x="954" y="513"/>
                  </a:lnTo>
                  <a:lnTo>
                    <a:pt x="928" y="522"/>
                  </a:lnTo>
                  <a:lnTo>
                    <a:pt x="901" y="530"/>
                  </a:lnTo>
                  <a:lnTo>
                    <a:pt x="875" y="536"/>
                  </a:lnTo>
                  <a:lnTo>
                    <a:pt x="847" y="542"/>
                  </a:lnTo>
                  <a:lnTo>
                    <a:pt x="820" y="547"/>
                  </a:lnTo>
                  <a:lnTo>
                    <a:pt x="792" y="550"/>
                  </a:lnTo>
                  <a:lnTo>
                    <a:pt x="763" y="553"/>
                  </a:lnTo>
                  <a:lnTo>
                    <a:pt x="735" y="556"/>
                  </a:lnTo>
                  <a:lnTo>
                    <a:pt x="707" y="558"/>
                  </a:lnTo>
                  <a:lnTo>
                    <a:pt x="677" y="561"/>
                  </a:lnTo>
                  <a:lnTo>
                    <a:pt x="649" y="562"/>
                  </a:lnTo>
                  <a:lnTo>
                    <a:pt x="621" y="566"/>
                  </a:lnTo>
                  <a:lnTo>
                    <a:pt x="593" y="569"/>
                  </a:lnTo>
                  <a:lnTo>
                    <a:pt x="565" y="572"/>
                  </a:lnTo>
                  <a:lnTo>
                    <a:pt x="537" y="576"/>
                  </a:lnTo>
                  <a:lnTo>
                    <a:pt x="529" y="561"/>
                  </a:lnTo>
                  <a:lnTo>
                    <a:pt x="528" y="541"/>
                  </a:lnTo>
                  <a:lnTo>
                    <a:pt x="528" y="519"/>
                  </a:lnTo>
                  <a:lnTo>
                    <a:pt x="520" y="502"/>
                  </a:lnTo>
                  <a:lnTo>
                    <a:pt x="486" y="506"/>
                  </a:lnTo>
                  <a:lnTo>
                    <a:pt x="453" y="508"/>
                  </a:lnTo>
                  <a:lnTo>
                    <a:pt x="420" y="506"/>
                  </a:lnTo>
                  <a:lnTo>
                    <a:pt x="388" y="505"/>
                  </a:lnTo>
                  <a:lnTo>
                    <a:pt x="355" y="500"/>
                  </a:lnTo>
                  <a:lnTo>
                    <a:pt x="324" y="495"/>
                  </a:lnTo>
                  <a:lnTo>
                    <a:pt x="293" y="489"/>
                  </a:lnTo>
                  <a:lnTo>
                    <a:pt x="260" y="483"/>
                  </a:lnTo>
                  <a:lnTo>
                    <a:pt x="229" y="477"/>
                  </a:lnTo>
                  <a:lnTo>
                    <a:pt x="198" y="471"/>
                  </a:lnTo>
                  <a:lnTo>
                    <a:pt x="165" y="466"/>
                  </a:lnTo>
                  <a:lnTo>
                    <a:pt x="134" y="463"/>
                  </a:lnTo>
                  <a:lnTo>
                    <a:pt x="101" y="460"/>
                  </a:lnTo>
                  <a:lnTo>
                    <a:pt x="69" y="460"/>
                  </a:lnTo>
                  <a:lnTo>
                    <a:pt x="36" y="461"/>
                  </a:lnTo>
                  <a:lnTo>
                    <a:pt x="3" y="466"/>
                  </a:lnTo>
                  <a:lnTo>
                    <a:pt x="0" y="463"/>
                  </a:lnTo>
                  <a:lnTo>
                    <a:pt x="0" y="458"/>
                  </a:lnTo>
                  <a:lnTo>
                    <a:pt x="0" y="453"/>
                  </a:lnTo>
                  <a:lnTo>
                    <a:pt x="0" y="449"/>
                  </a:lnTo>
                  <a:lnTo>
                    <a:pt x="24" y="424"/>
                  </a:lnTo>
                  <a:lnTo>
                    <a:pt x="47" y="397"/>
                  </a:lnTo>
                  <a:lnTo>
                    <a:pt x="69" y="371"/>
                  </a:lnTo>
                  <a:lnTo>
                    <a:pt x="90" y="343"/>
                  </a:lnTo>
                  <a:lnTo>
                    <a:pt x="111" y="316"/>
                  </a:lnTo>
                  <a:lnTo>
                    <a:pt x="129" y="288"/>
                  </a:lnTo>
                  <a:lnTo>
                    <a:pt x="148" y="260"/>
                  </a:lnTo>
                  <a:lnTo>
                    <a:pt x="167" y="232"/>
                  </a:lnTo>
                  <a:lnTo>
                    <a:pt x="185" y="204"/>
                  </a:lnTo>
                  <a:lnTo>
                    <a:pt x="203" y="176"/>
                  </a:lnTo>
                  <a:lnTo>
                    <a:pt x="220" y="148"/>
                  </a:lnTo>
                  <a:lnTo>
                    <a:pt x="237" y="118"/>
                  </a:lnTo>
                  <a:lnTo>
                    <a:pt x="254" y="90"/>
                  </a:lnTo>
                  <a:lnTo>
                    <a:pt x="271" y="62"/>
                  </a:lnTo>
                  <a:lnTo>
                    <a:pt x="290" y="33"/>
                  </a:lnTo>
                  <a:lnTo>
                    <a:pt x="307" y="5"/>
                  </a:lnTo>
                  <a:lnTo>
                    <a:pt x="311" y="2"/>
                  </a:lnTo>
                  <a:lnTo>
                    <a:pt x="316" y="0"/>
                  </a:lnTo>
                  <a:lnTo>
                    <a:pt x="321" y="2"/>
                  </a:lnTo>
                  <a:lnTo>
                    <a:pt x="32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371600" y="5756040"/>
              <a:ext cx="648720" cy="371880"/>
            </a:xfrm>
            <a:custGeom>
              <a:avLst/>
              <a:gdLst/>
              <a:ahLst/>
              <a:rect l="l" t="t" r="r" b="b"/>
              <a:pathLst>
                <a:path w="744" h="456">
                  <a:moveTo>
                    <a:pt x="744" y="37"/>
                  </a:moveTo>
                  <a:lnTo>
                    <a:pt x="643" y="442"/>
                  </a:lnTo>
                  <a:lnTo>
                    <a:pt x="616" y="444"/>
                  </a:lnTo>
                  <a:lnTo>
                    <a:pt x="588" y="445"/>
                  </a:lnTo>
                  <a:lnTo>
                    <a:pt x="562" y="447"/>
                  </a:lnTo>
                  <a:lnTo>
                    <a:pt x="535" y="448"/>
                  </a:lnTo>
                  <a:lnTo>
                    <a:pt x="510" y="450"/>
                  </a:lnTo>
                  <a:lnTo>
                    <a:pt x="484" y="453"/>
                  </a:lnTo>
                  <a:lnTo>
                    <a:pt x="458" y="454"/>
                  </a:lnTo>
                  <a:lnTo>
                    <a:pt x="433" y="454"/>
                  </a:lnTo>
                  <a:lnTo>
                    <a:pt x="406" y="456"/>
                  </a:lnTo>
                  <a:lnTo>
                    <a:pt x="380" y="456"/>
                  </a:lnTo>
                  <a:lnTo>
                    <a:pt x="355" y="454"/>
                  </a:lnTo>
                  <a:lnTo>
                    <a:pt x="328" y="453"/>
                  </a:lnTo>
                  <a:lnTo>
                    <a:pt x="303" y="450"/>
                  </a:lnTo>
                  <a:lnTo>
                    <a:pt x="277" y="445"/>
                  </a:lnTo>
                  <a:lnTo>
                    <a:pt x="252" y="440"/>
                  </a:lnTo>
                  <a:lnTo>
                    <a:pt x="226" y="433"/>
                  </a:lnTo>
                  <a:lnTo>
                    <a:pt x="199" y="426"/>
                  </a:lnTo>
                  <a:lnTo>
                    <a:pt x="170" y="422"/>
                  </a:lnTo>
                  <a:lnTo>
                    <a:pt x="142" y="417"/>
                  </a:lnTo>
                  <a:lnTo>
                    <a:pt x="112" y="416"/>
                  </a:lnTo>
                  <a:lnTo>
                    <a:pt x="82" y="414"/>
                  </a:lnTo>
                  <a:lnTo>
                    <a:pt x="53" y="412"/>
                  </a:lnTo>
                  <a:lnTo>
                    <a:pt x="26" y="412"/>
                  </a:lnTo>
                  <a:lnTo>
                    <a:pt x="0" y="411"/>
                  </a:lnTo>
                  <a:lnTo>
                    <a:pt x="23" y="386"/>
                  </a:lnTo>
                  <a:lnTo>
                    <a:pt x="47" y="358"/>
                  </a:lnTo>
                  <a:lnTo>
                    <a:pt x="72" y="327"/>
                  </a:lnTo>
                  <a:lnTo>
                    <a:pt x="95" y="294"/>
                  </a:lnTo>
                  <a:lnTo>
                    <a:pt x="120" y="260"/>
                  </a:lnTo>
                  <a:lnTo>
                    <a:pt x="143" y="225"/>
                  </a:lnTo>
                  <a:lnTo>
                    <a:pt x="165" y="191"/>
                  </a:lnTo>
                  <a:lnTo>
                    <a:pt x="187" y="158"/>
                  </a:lnTo>
                  <a:lnTo>
                    <a:pt x="205" y="127"/>
                  </a:lnTo>
                  <a:lnTo>
                    <a:pt x="224" y="96"/>
                  </a:lnTo>
                  <a:lnTo>
                    <a:pt x="240" y="70"/>
                  </a:lnTo>
                  <a:lnTo>
                    <a:pt x="254" y="46"/>
                  </a:lnTo>
                  <a:lnTo>
                    <a:pt x="265" y="28"/>
                  </a:lnTo>
                  <a:lnTo>
                    <a:pt x="274" y="12"/>
                  </a:lnTo>
                  <a:lnTo>
                    <a:pt x="279" y="3"/>
                  </a:lnTo>
                  <a:lnTo>
                    <a:pt x="280" y="0"/>
                  </a:lnTo>
                  <a:lnTo>
                    <a:pt x="308" y="1"/>
                  </a:lnTo>
                  <a:lnTo>
                    <a:pt x="338" y="4"/>
                  </a:lnTo>
                  <a:lnTo>
                    <a:pt x="366" y="9"/>
                  </a:lnTo>
                  <a:lnTo>
                    <a:pt x="395" y="12"/>
                  </a:lnTo>
                  <a:lnTo>
                    <a:pt x="423" y="17"/>
                  </a:lnTo>
                  <a:lnTo>
                    <a:pt x="451" y="21"/>
                  </a:lnTo>
                  <a:lnTo>
                    <a:pt x="481" y="26"/>
                  </a:lnTo>
                  <a:lnTo>
                    <a:pt x="510" y="31"/>
                  </a:lnTo>
                  <a:lnTo>
                    <a:pt x="539" y="35"/>
                  </a:lnTo>
                  <a:lnTo>
                    <a:pt x="568" y="39"/>
                  </a:lnTo>
                  <a:lnTo>
                    <a:pt x="596" y="42"/>
                  </a:lnTo>
                  <a:lnTo>
                    <a:pt x="626" y="43"/>
                  </a:lnTo>
                  <a:lnTo>
                    <a:pt x="655" y="45"/>
                  </a:lnTo>
                  <a:lnTo>
                    <a:pt x="685" y="43"/>
                  </a:lnTo>
                  <a:lnTo>
                    <a:pt x="714" y="42"/>
                  </a:lnTo>
                  <a:lnTo>
                    <a:pt x="744"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812960" y="5808240"/>
              <a:ext cx="556560" cy="378000"/>
            </a:xfrm>
            <a:custGeom>
              <a:avLst/>
              <a:gdLst/>
              <a:ahLst/>
              <a:rect l="l" t="t" r="r" b="b"/>
              <a:pathLst>
                <a:path w="636" h="465">
                  <a:moveTo>
                    <a:pt x="478" y="47"/>
                  </a:moveTo>
                  <a:lnTo>
                    <a:pt x="493" y="81"/>
                  </a:lnTo>
                  <a:lnTo>
                    <a:pt x="510" y="116"/>
                  </a:lnTo>
                  <a:lnTo>
                    <a:pt x="527" y="150"/>
                  </a:lnTo>
                  <a:lnTo>
                    <a:pt x="546" y="184"/>
                  </a:lnTo>
                  <a:lnTo>
                    <a:pt x="566" y="217"/>
                  </a:lnTo>
                  <a:lnTo>
                    <a:pt x="588" y="250"/>
                  </a:lnTo>
                  <a:lnTo>
                    <a:pt x="612" y="281"/>
                  </a:lnTo>
                  <a:lnTo>
                    <a:pt x="636" y="312"/>
                  </a:lnTo>
                  <a:lnTo>
                    <a:pt x="439" y="384"/>
                  </a:lnTo>
                  <a:lnTo>
                    <a:pt x="414" y="395"/>
                  </a:lnTo>
                  <a:lnTo>
                    <a:pt x="389" y="405"/>
                  </a:lnTo>
                  <a:lnTo>
                    <a:pt x="364" y="413"/>
                  </a:lnTo>
                  <a:lnTo>
                    <a:pt x="338" y="421"/>
                  </a:lnTo>
                  <a:lnTo>
                    <a:pt x="311" y="427"/>
                  </a:lnTo>
                  <a:lnTo>
                    <a:pt x="283" y="432"/>
                  </a:lnTo>
                  <a:lnTo>
                    <a:pt x="257" y="437"/>
                  </a:lnTo>
                  <a:lnTo>
                    <a:pt x="229" y="440"/>
                  </a:lnTo>
                  <a:lnTo>
                    <a:pt x="201" y="443"/>
                  </a:lnTo>
                  <a:lnTo>
                    <a:pt x="173" y="446"/>
                  </a:lnTo>
                  <a:lnTo>
                    <a:pt x="145" y="449"/>
                  </a:lnTo>
                  <a:lnTo>
                    <a:pt x="117" y="451"/>
                  </a:lnTo>
                  <a:lnTo>
                    <a:pt x="89" y="454"/>
                  </a:lnTo>
                  <a:lnTo>
                    <a:pt x="62" y="457"/>
                  </a:lnTo>
                  <a:lnTo>
                    <a:pt x="34" y="460"/>
                  </a:lnTo>
                  <a:lnTo>
                    <a:pt x="6" y="465"/>
                  </a:lnTo>
                  <a:lnTo>
                    <a:pt x="3" y="454"/>
                  </a:lnTo>
                  <a:lnTo>
                    <a:pt x="1" y="441"/>
                  </a:lnTo>
                  <a:lnTo>
                    <a:pt x="0" y="429"/>
                  </a:lnTo>
                  <a:lnTo>
                    <a:pt x="0" y="415"/>
                  </a:lnTo>
                  <a:lnTo>
                    <a:pt x="22" y="415"/>
                  </a:lnTo>
                  <a:lnTo>
                    <a:pt x="43" y="413"/>
                  </a:lnTo>
                  <a:lnTo>
                    <a:pt x="62" y="410"/>
                  </a:lnTo>
                  <a:lnTo>
                    <a:pt x="82" y="407"/>
                  </a:lnTo>
                  <a:lnTo>
                    <a:pt x="101" y="404"/>
                  </a:lnTo>
                  <a:lnTo>
                    <a:pt x="121" y="404"/>
                  </a:lnTo>
                  <a:lnTo>
                    <a:pt x="141" y="405"/>
                  </a:lnTo>
                  <a:lnTo>
                    <a:pt x="162" y="412"/>
                  </a:lnTo>
                  <a:lnTo>
                    <a:pt x="171" y="399"/>
                  </a:lnTo>
                  <a:lnTo>
                    <a:pt x="171" y="384"/>
                  </a:lnTo>
                  <a:lnTo>
                    <a:pt x="169" y="367"/>
                  </a:lnTo>
                  <a:lnTo>
                    <a:pt x="173" y="349"/>
                  </a:lnTo>
                  <a:lnTo>
                    <a:pt x="179" y="309"/>
                  </a:lnTo>
                  <a:lnTo>
                    <a:pt x="187" y="268"/>
                  </a:lnTo>
                  <a:lnTo>
                    <a:pt x="194" y="228"/>
                  </a:lnTo>
                  <a:lnTo>
                    <a:pt x="204" y="189"/>
                  </a:lnTo>
                  <a:lnTo>
                    <a:pt x="213" y="148"/>
                  </a:lnTo>
                  <a:lnTo>
                    <a:pt x="224" y="109"/>
                  </a:lnTo>
                  <a:lnTo>
                    <a:pt x="233" y="69"/>
                  </a:lnTo>
                  <a:lnTo>
                    <a:pt x="244" y="30"/>
                  </a:lnTo>
                  <a:lnTo>
                    <a:pt x="271" y="28"/>
                  </a:lnTo>
                  <a:lnTo>
                    <a:pt x="299" y="27"/>
                  </a:lnTo>
                  <a:lnTo>
                    <a:pt x="325" y="24"/>
                  </a:lnTo>
                  <a:lnTo>
                    <a:pt x="352" y="19"/>
                  </a:lnTo>
                  <a:lnTo>
                    <a:pt x="380" y="16"/>
                  </a:lnTo>
                  <a:lnTo>
                    <a:pt x="406" y="11"/>
                  </a:lnTo>
                  <a:lnTo>
                    <a:pt x="433" y="5"/>
                  </a:lnTo>
                  <a:lnTo>
                    <a:pt x="459" y="0"/>
                  </a:lnTo>
                  <a:lnTo>
                    <a:pt x="462" y="7"/>
                  </a:lnTo>
                  <a:lnTo>
                    <a:pt x="468" y="19"/>
                  </a:lnTo>
                  <a:lnTo>
                    <a:pt x="475" y="35"/>
                  </a:lnTo>
                  <a:lnTo>
                    <a:pt x="478" y="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240640" y="5834520"/>
              <a:ext cx="308520" cy="291600"/>
            </a:xfrm>
            <a:custGeom>
              <a:avLst/>
              <a:gdLst/>
              <a:ahLst/>
              <a:rect l="l" t="t" r="r" b="b"/>
              <a:pathLst>
                <a:path w="354" h="358">
                  <a:moveTo>
                    <a:pt x="56" y="14"/>
                  </a:moveTo>
                  <a:lnTo>
                    <a:pt x="236" y="201"/>
                  </a:lnTo>
                  <a:lnTo>
                    <a:pt x="252" y="212"/>
                  </a:lnTo>
                  <a:lnTo>
                    <a:pt x="266" y="224"/>
                  </a:lnTo>
                  <a:lnTo>
                    <a:pt x="281" y="237"/>
                  </a:lnTo>
                  <a:lnTo>
                    <a:pt x="295" y="249"/>
                  </a:lnTo>
                  <a:lnTo>
                    <a:pt x="309" y="262"/>
                  </a:lnTo>
                  <a:lnTo>
                    <a:pt x="323" y="273"/>
                  </a:lnTo>
                  <a:lnTo>
                    <a:pt x="339" y="284"/>
                  </a:lnTo>
                  <a:lnTo>
                    <a:pt x="354" y="295"/>
                  </a:lnTo>
                  <a:lnTo>
                    <a:pt x="207" y="326"/>
                  </a:lnTo>
                  <a:lnTo>
                    <a:pt x="6" y="358"/>
                  </a:lnTo>
                  <a:lnTo>
                    <a:pt x="0" y="358"/>
                  </a:lnTo>
                  <a:lnTo>
                    <a:pt x="21" y="351"/>
                  </a:lnTo>
                  <a:lnTo>
                    <a:pt x="45" y="344"/>
                  </a:lnTo>
                  <a:lnTo>
                    <a:pt x="66" y="337"/>
                  </a:lnTo>
                  <a:lnTo>
                    <a:pt x="90" y="327"/>
                  </a:lnTo>
                  <a:lnTo>
                    <a:pt x="112" y="320"/>
                  </a:lnTo>
                  <a:lnTo>
                    <a:pt x="135" y="312"/>
                  </a:lnTo>
                  <a:lnTo>
                    <a:pt x="157" y="305"/>
                  </a:lnTo>
                  <a:lnTo>
                    <a:pt x="180" y="298"/>
                  </a:lnTo>
                  <a:lnTo>
                    <a:pt x="177" y="288"/>
                  </a:lnTo>
                  <a:lnTo>
                    <a:pt x="174" y="279"/>
                  </a:lnTo>
                  <a:lnTo>
                    <a:pt x="168" y="270"/>
                  </a:lnTo>
                  <a:lnTo>
                    <a:pt x="160" y="262"/>
                  </a:lnTo>
                  <a:lnTo>
                    <a:pt x="152" y="254"/>
                  </a:lnTo>
                  <a:lnTo>
                    <a:pt x="146" y="246"/>
                  </a:lnTo>
                  <a:lnTo>
                    <a:pt x="140" y="237"/>
                  </a:lnTo>
                  <a:lnTo>
                    <a:pt x="133" y="229"/>
                  </a:lnTo>
                  <a:lnTo>
                    <a:pt x="115" y="203"/>
                  </a:lnTo>
                  <a:lnTo>
                    <a:pt x="96" y="176"/>
                  </a:lnTo>
                  <a:lnTo>
                    <a:pt x="77" y="148"/>
                  </a:lnTo>
                  <a:lnTo>
                    <a:pt x="62" y="120"/>
                  </a:lnTo>
                  <a:lnTo>
                    <a:pt x="46" y="92"/>
                  </a:lnTo>
                  <a:lnTo>
                    <a:pt x="32" y="62"/>
                  </a:lnTo>
                  <a:lnTo>
                    <a:pt x="20" y="33"/>
                  </a:lnTo>
                  <a:lnTo>
                    <a:pt x="7" y="3"/>
                  </a:lnTo>
                  <a:lnTo>
                    <a:pt x="14" y="2"/>
                  </a:lnTo>
                  <a:lnTo>
                    <a:pt x="21" y="0"/>
                  </a:lnTo>
                  <a:lnTo>
                    <a:pt x="28" y="0"/>
                  </a:lnTo>
                  <a:lnTo>
                    <a:pt x="34" y="2"/>
                  </a:lnTo>
                  <a:lnTo>
                    <a:pt x="40" y="3"/>
                  </a:lnTo>
                  <a:lnTo>
                    <a:pt x="46" y="6"/>
                  </a:lnTo>
                  <a:lnTo>
                    <a:pt x="51" y="10"/>
                  </a:lnTo>
                  <a:lnTo>
                    <a:pt x="5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170720" y="4934520"/>
              <a:ext cx="537480" cy="614160"/>
            </a:xfrm>
            <a:custGeom>
              <a:avLst/>
              <a:gdLst/>
              <a:ahLst/>
              <a:rect l="l" t="t" r="r" b="b"/>
              <a:pathLst>
                <a:path w="618" h="754">
                  <a:moveTo>
                    <a:pt x="557" y="138"/>
                  </a:moveTo>
                  <a:lnTo>
                    <a:pt x="554" y="135"/>
                  </a:lnTo>
                  <a:lnTo>
                    <a:pt x="546" y="126"/>
                  </a:lnTo>
                  <a:lnTo>
                    <a:pt x="537" y="113"/>
                  </a:lnTo>
                  <a:lnTo>
                    <a:pt x="523" y="98"/>
                  </a:lnTo>
                  <a:lnTo>
                    <a:pt x="509" y="81"/>
                  </a:lnTo>
                  <a:lnTo>
                    <a:pt x="495" y="64"/>
                  </a:lnTo>
                  <a:lnTo>
                    <a:pt x="479" y="48"/>
                  </a:lnTo>
                  <a:lnTo>
                    <a:pt x="465" y="34"/>
                  </a:lnTo>
                  <a:lnTo>
                    <a:pt x="445" y="20"/>
                  </a:lnTo>
                  <a:lnTo>
                    <a:pt x="423" y="9"/>
                  </a:lnTo>
                  <a:lnTo>
                    <a:pt x="400" y="3"/>
                  </a:lnTo>
                  <a:lnTo>
                    <a:pt x="375" y="0"/>
                  </a:lnTo>
                  <a:lnTo>
                    <a:pt x="350" y="0"/>
                  </a:lnTo>
                  <a:lnTo>
                    <a:pt x="325" y="4"/>
                  </a:lnTo>
                  <a:lnTo>
                    <a:pt x="302" y="11"/>
                  </a:lnTo>
                  <a:lnTo>
                    <a:pt x="279" y="20"/>
                  </a:lnTo>
                  <a:lnTo>
                    <a:pt x="260" y="29"/>
                  </a:lnTo>
                  <a:lnTo>
                    <a:pt x="241" y="39"/>
                  </a:lnTo>
                  <a:lnTo>
                    <a:pt x="224" y="50"/>
                  </a:lnTo>
                  <a:lnTo>
                    <a:pt x="207" y="62"/>
                  </a:lnTo>
                  <a:lnTo>
                    <a:pt x="192" y="74"/>
                  </a:lnTo>
                  <a:lnTo>
                    <a:pt x="176" y="88"/>
                  </a:lnTo>
                  <a:lnTo>
                    <a:pt x="162" y="104"/>
                  </a:lnTo>
                  <a:lnTo>
                    <a:pt x="149" y="120"/>
                  </a:lnTo>
                  <a:lnTo>
                    <a:pt x="118" y="160"/>
                  </a:lnTo>
                  <a:lnTo>
                    <a:pt x="90" y="202"/>
                  </a:lnTo>
                  <a:lnTo>
                    <a:pt x="64" y="244"/>
                  </a:lnTo>
                  <a:lnTo>
                    <a:pt x="41" y="286"/>
                  </a:lnTo>
                  <a:lnTo>
                    <a:pt x="22" y="330"/>
                  </a:lnTo>
                  <a:lnTo>
                    <a:pt x="8" y="375"/>
                  </a:lnTo>
                  <a:lnTo>
                    <a:pt x="2" y="422"/>
                  </a:lnTo>
                  <a:lnTo>
                    <a:pt x="0" y="469"/>
                  </a:lnTo>
                  <a:lnTo>
                    <a:pt x="3" y="494"/>
                  </a:lnTo>
                  <a:lnTo>
                    <a:pt x="6" y="518"/>
                  </a:lnTo>
                  <a:lnTo>
                    <a:pt x="14" y="543"/>
                  </a:lnTo>
                  <a:lnTo>
                    <a:pt x="23" y="568"/>
                  </a:lnTo>
                  <a:lnTo>
                    <a:pt x="34" y="592"/>
                  </a:lnTo>
                  <a:lnTo>
                    <a:pt x="47" y="617"/>
                  </a:lnTo>
                  <a:lnTo>
                    <a:pt x="62" y="638"/>
                  </a:lnTo>
                  <a:lnTo>
                    <a:pt x="79" y="660"/>
                  </a:lnTo>
                  <a:lnTo>
                    <a:pt x="98" y="679"/>
                  </a:lnTo>
                  <a:lnTo>
                    <a:pt x="120" y="698"/>
                  </a:lnTo>
                  <a:lnTo>
                    <a:pt x="142" y="713"/>
                  </a:lnTo>
                  <a:lnTo>
                    <a:pt x="167" y="727"/>
                  </a:lnTo>
                  <a:lnTo>
                    <a:pt x="192" y="738"/>
                  </a:lnTo>
                  <a:lnTo>
                    <a:pt x="220" y="746"/>
                  </a:lnTo>
                  <a:lnTo>
                    <a:pt x="249" y="752"/>
                  </a:lnTo>
                  <a:lnTo>
                    <a:pt x="279" y="754"/>
                  </a:lnTo>
                  <a:lnTo>
                    <a:pt x="294" y="754"/>
                  </a:lnTo>
                  <a:lnTo>
                    <a:pt x="308" y="751"/>
                  </a:lnTo>
                  <a:lnTo>
                    <a:pt x="322" y="746"/>
                  </a:lnTo>
                  <a:lnTo>
                    <a:pt x="333" y="738"/>
                  </a:lnTo>
                  <a:lnTo>
                    <a:pt x="344" y="730"/>
                  </a:lnTo>
                  <a:lnTo>
                    <a:pt x="352" y="719"/>
                  </a:lnTo>
                  <a:lnTo>
                    <a:pt x="356" y="707"/>
                  </a:lnTo>
                  <a:lnTo>
                    <a:pt x="360" y="694"/>
                  </a:lnTo>
                  <a:lnTo>
                    <a:pt x="360" y="682"/>
                  </a:lnTo>
                  <a:lnTo>
                    <a:pt x="356" y="670"/>
                  </a:lnTo>
                  <a:lnTo>
                    <a:pt x="352" y="657"/>
                  </a:lnTo>
                  <a:lnTo>
                    <a:pt x="342" y="648"/>
                  </a:lnTo>
                  <a:lnTo>
                    <a:pt x="333" y="638"/>
                  </a:lnTo>
                  <a:lnTo>
                    <a:pt x="321" y="632"/>
                  </a:lnTo>
                  <a:lnTo>
                    <a:pt x="307" y="627"/>
                  </a:lnTo>
                  <a:lnTo>
                    <a:pt x="293" y="624"/>
                  </a:lnTo>
                  <a:lnTo>
                    <a:pt x="285" y="624"/>
                  </a:lnTo>
                  <a:lnTo>
                    <a:pt x="277" y="624"/>
                  </a:lnTo>
                  <a:lnTo>
                    <a:pt x="269" y="624"/>
                  </a:lnTo>
                  <a:lnTo>
                    <a:pt x="262" y="623"/>
                  </a:lnTo>
                  <a:lnTo>
                    <a:pt x="254" y="623"/>
                  </a:lnTo>
                  <a:lnTo>
                    <a:pt x="248" y="621"/>
                  </a:lnTo>
                  <a:lnTo>
                    <a:pt x="241" y="620"/>
                  </a:lnTo>
                  <a:lnTo>
                    <a:pt x="237" y="617"/>
                  </a:lnTo>
                  <a:lnTo>
                    <a:pt x="229" y="610"/>
                  </a:lnTo>
                  <a:lnTo>
                    <a:pt x="223" y="606"/>
                  </a:lnTo>
                  <a:lnTo>
                    <a:pt x="215" y="598"/>
                  </a:lnTo>
                  <a:lnTo>
                    <a:pt x="209" y="592"/>
                  </a:lnTo>
                  <a:lnTo>
                    <a:pt x="202" y="585"/>
                  </a:lnTo>
                  <a:lnTo>
                    <a:pt x="198" y="578"/>
                  </a:lnTo>
                  <a:lnTo>
                    <a:pt x="192" y="571"/>
                  </a:lnTo>
                  <a:lnTo>
                    <a:pt x="185" y="564"/>
                  </a:lnTo>
                  <a:lnTo>
                    <a:pt x="168" y="537"/>
                  </a:lnTo>
                  <a:lnTo>
                    <a:pt x="156" y="511"/>
                  </a:lnTo>
                  <a:lnTo>
                    <a:pt x="149" y="483"/>
                  </a:lnTo>
                  <a:lnTo>
                    <a:pt x="148" y="455"/>
                  </a:lnTo>
                  <a:lnTo>
                    <a:pt x="153" y="417"/>
                  </a:lnTo>
                  <a:lnTo>
                    <a:pt x="162" y="381"/>
                  </a:lnTo>
                  <a:lnTo>
                    <a:pt x="176" y="347"/>
                  </a:lnTo>
                  <a:lnTo>
                    <a:pt x="193" y="313"/>
                  </a:lnTo>
                  <a:lnTo>
                    <a:pt x="212" y="280"/>
                  </a:lnTo>
                  <a:lnTo>
                    <a:pt x="234" y="247"/>
                  </a:lnTo>
                  <a:lnTo>
                    <a:pt x="255" y="215"/>
                  </a:lnTo>
                  <a:lnTo>
                    <a:pt x="277" y="184"/>
                  </a:lnTo>
                  <a:lnTo>
                    <a:pt x="286" y="165"/>
                  </a:lnTo>
                  <a:lnTo>
                    <a:pt x="299" y="149"/>
                  </a:lnTo>
                  <a:lnTo>
                    <a:pt x="314" y="140"/>
                  </a:lnTo>
                  <a:lnTo>
                    <a:pt x="330" y="132"/>
                  </a:lnTo>
                  <a:lnTo>
                    <a:pt x="344" y="127"/>
                  </a:lnTo>
                  <a:lnTo>
                    <a:pt x="355" y="126"/>
                  </a:lnTo>
                  <a:lnTo>
                    <a:pt x="361" y="124"/>
                  </a:lnTo>
                  <a:lnTo>
                    <a:pt x="363" y="124"/>
                  </a:lnTo>
                  <a:lnTo>
                    <a:pt x="383" y="137"/>
                  </a:lnTo>
                  <a:lnTo>
                    <a:pt x="402" y="157"/>
                  </a:lnTo>
                  <a:lnTo>
                    <a:pt x="417" y="182"/>
                  </a:lnTo>
                  <a:lnTo>
                    <a:pt x="431" y="210"/>
                  </a:lnTo>
                  <a:lnTo>
                    <a:pt x="445" y="238"/>
                  </a:lnTo>
                  <a:lnTo>
                    <a:pt x="455" y="263"/>
                  </a:lnTo>
                  <a:lnTo>
                    <a:pt x="464" y="280"/>
                  </a:lnTo>
                  <a:lnTo>
                    <a:pt x="472" y="288"/>
                  </a:lnTo>
                  <a:lnTo>
                    <a:pt x="506" y="317"/>
                  </a:lnTo>
                  <a:lnTo>
                    <a:pt x="528" y="321"/>
                  </a:lnTo>
                  <a:lnTo>
                    <a:pt x="548" y="316"/>
                  </a:lnTo>
                  <a:lnTo>
                    <a:pt x="567" y="307"/>
                  </a:lnTo>
                  <a:lnTo>
                    <a:pt x="582" y="293"/>
                  </a:lnTo>
                  <a:lnTo>
                    <a:pt x="595" y="275"/>
                  </a:lnTo>
                  <a:lnTo>
                    <a:pt x="604" y="255"/>
                  </a:lnTo>
                  <a:lnTo>
                    <a:pt x="612" y="235"/>
                  </a:lnTo>
                  <a:lnTo>
                    <a:pt x="616" y="215"/>
                  </a:lnTo>
                  <a:lnTo>
                    <a:pt x="618" y="202"/>
                  </a:lnTo>
                  <a:lnTo>
                    <a:pt x="616" y="190"/>
                  </a:lnTo>
                  <a:lnTo>
                    <a:pt x="612" y="177"/>
                  </a:lnTo>
                  <a:lnTo>
                    <a:pt x="606" y="166"/>
                  </a:lnTo>
                  <a:lnTo>
                    <a:pt x="596" y="157"/>
                  </a:lnTo>
                  <a:lnTo>
                    <a:pt x="585" y="149"/>
                  </a:lnTo>
                  <a:lnTo>
                    <a:pt x="571" y="143"/>
                  </a:lnTo>
                  <a:lnTo>
                    <a:pt x="557" y="138"/>
                  </a:lnTo>
                  <a:close/>
                </a:path>
              </a:pathLst>
            </a:custGeom>
            <a:solidFill>
              <a:srgbClr val="8c1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947600" y="5115240"/>
              <a:ext cx="371520" cy="490680"/>
            </a:xfrm>
            <a:custGeom>
              <a:avLst/>
              <a:gdLst/>
              <a:ahLst/>
              <a:rect l="l" t="t" r="r" b="b"/>
              <a:pathLst>
                <a:path w="425" h="602">
                  <a:moveTo>
                    <a:pt x="419" y="83"/>
                  </a:moveTo>
                  <a:lnTo>
                    <a:pt x="416" y="74"/>
                  </a:lnTo>
                  <a:lnTo>
                    <a:pt x="409" y="53"/>
                  </a:lnTo>
                  <a:lnTo>
                    <a:pt x="400" y="32"/>
                  </a:lnTo>
                  <a:lnTo>
                    <a:pt x="391" y="18"/>
                  </a:lnTo>
                  <a:lnTo>
                    <a:pt x="378" y="10"/>
                  </a:lnTo>
                  <a:lnTo>
                    <a:pt x="366" y="4"/>
                  </a:lnTo>
                  <a:lnTo>
                    <a:pt x="353" y="2"/>
                  </a:lnTo>
                  <a:lnTo>
                    <a:pt x="339" y="0"/>
                  </a:lnTo>
                  <a:lnTo>
                    <a:pt x="325" y="4"/>
                  </a:lnTo>
                  <a:lnTo>
                    <a:pt x="313" y="8"/>
                  </a:lnTo>
                  <a:lnTo>
                    <a:pt x="302" y="16"/>
                  </a:lnTo>
                  <a:lnTo>
                    <a:pt x="291" y="25"/>
                  </a:lnTo>
                  <a:lnTo>
                    <a:pt x="288" y="33"/>
                  </a:lnTo>
                  <a:lnTo>
                    <a:pt x="279" y="52"/>
                  </a:lnTo>
                  <a:lnTo>
                    <a:pt x="263" y="80"/>
                  </a:lnTo>
                  <a:lnTo>
                    <a:pt x="246" y="114"/>
                  </a:lnTo>
                  <a:lnTo>
                    <a:pt x="227" y="150"/>
                  </a:lnTo>
                  <a:lnTo>
                    <a:pt x="208" y="187"/>
                  </a:lnTo>
                  <a:lnTo>
                    <a:pt x="190" y="222"/>
                  </a:lnTo>
                  <a:lnTo>
                    <a:pt x="176" y="250"/>
                  </a:lnTo>
                  <a:lnTo>
                    <a:pt x="168" y="203"/>
                  </a:lnTo>
                  <a:lnTo>
                    <a:pt x="160" y="156"/>
                  </a:lnTo>
                  <a:lnTo>
                    <a:pt x="152" y="111"/>
                  </a:lnTo>
                  <a:lnTo>
                    <a:pt x="142" y="64"/>
                  </a:lnTo>
                  <a:lnTo>
                    <a:pt x="138" y="50"/>
                  </a:lnTo>
                  <a:lnTo>
                    <a:pt x="132" y="38"/>
                  </a:lnTo>
                  <a:lnTo>
                    <a:pt x="124" y="27"/>
                  </a:lnTo>
                  <a:lnTo>
                    <a:pt x="115" y="16"/>
                  </a:lnTo>
                  <a:lnTo>
                    <a:pt x="103" y="10"/>
                  </a:lnTo>
                  <a:lnTo>
                    <a:pt x="90" y="4"/>
                  </a:lnTo>
                  <a:lnTo>
                    <a:pt x="76" y="2"/>
                  </a:lnTo>
                  <a:lnTo>
                    <a:pt x="62" y="2"/>
                  </a:lnTo>
                  <a:lnTo>
                    <a:pt x="48" y="5"/>
                  </a:lnTo>
                  <a:lnTo>
                    <a:pt x="36" y="11"/>
                  </a:lnTo>
                  <a:lnTo>
                    <a:pt x="25" y="19"/>
                  </a:lnTo>
                  <a:lnTo>
                    <a:pt x="15" y="28"/>
                  </a:lnTo>
                  <a:lnTo>
                    <a:pt x="8" y="41"/>
                  </a:lnTo>
                  <a:lnTo>
                    <a:pt x="1" y="53"/>
                  </a:lnTo>
                  <a:lnTo>
                    <a:pt x="0" y="67"/>
                  </a:lnTo>
                  <a:lnTo>
                    <a:pt x="0" y="81"/>
                  </a:lnTo>
                  <a:lnTo>
                    <a:pt x="9" y="128"/>
                  </a:lnTo>
                  <a:lnTo>
                    <a:pt x="19" y="176"/>
                  </a:lnTo>
                  <a:lnTo>
                    <a:pt x="26" y="223"/>
                  </a:lnTo>
                  <a:lnTo>
                    <a:pt x="34" y="272"/>
                  </a:lnTo>
                  <a:lnTo>
                    <a:pt x="44" y="318"/>
                  </a:lnTo>
                  <a:lnTo>
                    <a:pt x="54" y="367"/>
                  </a:lnTo>
                  <a:lnTo>
                    <a:pt x="68" y="412"/>
                  </a:lnTo>
                  <a:lnTo>
                    <a:pt x="86" y="457"/>
                  </a:lnTo>
                  <a:lnTo>
                    <a:pt x="86" y="458"/>
                  </a:lnTo>
                  <a:lnTo>
                    <a:pt x="89" y="465"/>
                  </a:lnTo>
                  <a:lnTo>
                    <a:pt x="90" y="471"/>
                  </a:lnTo>
                  <a:lnTo>
                    <a:pt x="92" y="476"/>
                  </a:lnTo>
                  <a:lnTo>
                    <a:pt x="100" y="488"/>
                  </a:lnTo>
                  <a:lnTo>
                    <a:pt x="107" y="499"/>
                  </a:lnTo>
                  <a:lnTo>
                    <a:pt x="118" y="507"/>
                  </a:lnTo>
                  <a:lnTo>
                    <a:pt x="131" y="513"/>
                  </a:lnTo>
                  <a:lnTo>
                    <a:pt x="145" y="516"/>
                  </a:lnTo>
                  <a:lnTo>
                    <a:pt x="159" y="516"/>
                  </a:lnTo>
                  <a:lnTo>
                    <a:pt x="173" y="515"/>
                  </a:lnTo>
                  <a:lnTo>
                    <a:pt x="187" y="510"/>
                  </a:lnTo>
                  <a:lnTo>
                    <a:pt x="190" y="505"/>
                  </a:lnTo>
                  <a:lnTo>
                    <a:pt x="199" y="493"/>
                  </a:lnTo>
                  <a:lnTo>
                    <a:pt x="212" y="476"/>
                  </a:lnTo>
                  <a:lnTo>
                    <a:pt x="226" y="454"/>
                  </a:lnTo>
                  <a:lnTo>
                    <a:pt x="241" y="430"/>
                  </a:lnTo>
                  <a:lnTo>
                    <a:pt x="257" y="407"/>
                  </a:lnTo>
                  <a:lnTo>
                    <a:pt x="269" y="385"/>
                  </a:lnTo>
                  <a:lnTo>
                    <a:pt x="279" y="367"/>
                  </a:lnTo>
                  <a:lnTo>
                    <a:pt x="277" y="407"/>
                  </a:lnTo>
                  <a:lnTo>
                    <a:pt x="279" y="448"/>
                  </a:lnTo>
                  <a:lnTo>
                    <a:pt x="279" y="490"/>
                  </a:lnTo>
                  <a:lnTo>
                    <a:pt x="282" y="530"/>
                  </a:lnTo>
                  <a:lnTo>
                    <a:pt x="283" y="544"/>
                  </a:lnTo>
                  <a:lnTo>
                    <a:pt x="288" y="558"/>
                  </a:lnTo>
                  <a:lnTo>
                    <a:pt x="294" y="571"/>
                  </a:lnTo>
                  <a:lnTo>
                    <a:pt x="303" y="582"/>
                  </a:lnTo>
                  <a:lnTo>
                    <a:pt x="313" y="589"/>
                  </a:lnTo>
                  <a:lnTo>
                    <a:pt x="325" y="596"/>
                  </a:lnTo>
                  <a:lnTo>
                    <a:pt x="339" y="600"/>
                  </a:lnTo>
                  <a:lnTo>
                    <a:pt x="353" y="602"/>
                  </a:lnTo>
                  <a:lnTo>
                    <a:pt x="367" y="600"/>
                  </a:lnTo>
                  <a:lnTo>
                    <a:pt x="381" y="596"/>
                  </a:lnTo>
                  <a:lnTo>
                    <a:pt x="394" y="589"/>
                  </a:lnTo>
                  <a:lnTo>
                    <a:pt x="403" y="582"/>
                  </a:lnTo>
                  <a:lnTo>
                    <a:pt x="412" y="571"/>
                  </a:lnTo>
                  <a:lnTo>
                    <a:pt x="419" y="558"/>
                  </a:lnTo>
                  <a:lnTo>
                    <a:pt x="423" y="544"/>
                  </a:lnTo>
                  <a:lnTo>
                    <a:pt x="425" y="530"/>
                  </a:lnTo>
                  <a:lnTo>
                    <a:pt x="422" y="419"/>
                  </a:lnTo>
                  <a:lnTo>
                    <a:pt x="423" y="307"/>
                  </a:lnTo>
                  <a:lnTo>
                    <a:pt x="425" y="195"/>
                  </a:lnTo>
                  <a:lnTo>
                    <a:pt x="419" y="83"/>
                  </a:lnTo>
                  <a:close/>
                </a:path>
              </a:pathLst>
            </a:custGeom>
            <a:solidFill>
              <a:srgbClr val="8c1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425320" y="5166000"/>
              <a:ext cx="300240" cy="516600"/>
            </a:xfrm>
            <a:custGeom>
              <a:avLst/>
              <a:gdLst/>
              <a:ahLst/>
              <a:rect l="l" t="t" r="r" b="b"/>
              <a:pathLst>
                <a:path w="346" h="634">
                  <a:moveTo>
                    <a:pt x="298" y="335"/>
                  </a:moveTo>
                  <a:lnTo>
                    <a:pt x="290" y="324"/>
                  </a:lnTo>
                  <a:lnTo>
                    <a:pt x="280" y="316"/>
                  </a:lnTo>
                  <a:lnTo>
                    <a:pt x="270" y="310"/>
                  </a:lnTo>
                  <a:lnTo>
                    <a:pt x="259" y="306"/>
                  </a:lnTo>
                  <a:lnTo>
                    <a:pt x="246" y="304"/>
                  </a:lnTo>
                  <a:lnTo>
                    <a:pt x="234" y="304"/>
                  </a:lnTo>
                  <a:lnTo>
                    <a:pt x="221" y="307"/>
                  </a:lnTo>
                  <a:lnTo>
                    <a:pt x="209" y="313"/>
                  </a:lnTo>
                  <a:lnTo>
                    <a:pt x="190" y="330"/>
                  </a:lnTo>
                  <a:lnTo>
                    <a:pt x="179" y="352"/>
                  </a:lnTo>
                  <a:lnTo>
                    <a:pt x="178" y="377"/>
                  </a:lnTo>
                  <a:lnTo>
                    <a:pt x="187" y="402"/>
                  </a:lnTo>
                  <a:lnTo>
                    <a:pt x="195" y="416"/>
                  </a:lnTo>
                  <a:lnTo>
                    <a:pt x="203" y="430"/>
                  </a:lnTo>
                  <a:lnTo>
                    <a:pt x="209" y="444"/>
                  </a:lnTo>
                  <a:lnTo>
                    <a:pt x="213" y="460"/>
                  </a:lnTo>
                  <a:lnTo>
                    <a:pt x="201" y="447"/>
                  </a:lnTo>
                  <a:lnTo>
                    <a:pt x="190" y="433"/>
                  </a:lnTo>
                  <a:lnTo>
                    <a:pt x="181" y="418"/>
                  </a:lnTo>
                  <a:lnTo>
                    <a:pt x="173" y="402"/>
                  </a:lnTo>
                  <a:lnTo>
                    <a:pt x="148" y="320"/>
                  </a:lnTo>
                  <a:lnTo>
                    <a:pt x="137" y="235"/>
                  </a:lnTo>
                  <a:lnTo>
                    <a:pt x="133" y="150"/>
                  </a:lnTo>
                  <a:lnTo>
                    <a:pt x="129" y="66"/>
                  </a:lnTo>
                  <a:lnTo>
                    <a:pt x="128" y="53"/>
                  </a:lnTo>
                  <a:lnTo>
                    <a:pt x="125" y="41"/>
                  </a:lnTo>
                  <a:lnTo>
                    <a:pt x="119" y="30"/>
                  </a:lnTo>
                  <a:lnTo>
                    <a:pt x="111" y="19"/>
                  </a:lnTo>
                  <a:lnTo>
                    <a:pt x="100" y="11"/>
                  </a:lnTo>
                  <a:lnTo>
                    <a:pt x="89" y="5"/>
                  </a:lnTo>
                  <a:lnTo>
                    <a:pt x="77" y="2"/>
                  </a:lnTo>
                  <a:lnTo>
                    <a:pt x="64" y="0"/>
                  </a:lnTo>
                  <a:lnTo>
                    <a:pt x="52" y="2"/>
                  </a:lnTo>
                  <a:lnTo>
                    <a:pt x="39" y="5"/>
                  </a:lnTo>
                  <a:lnTo>
                    <a:pt x="28" y="11"/>
                  </a:lnTo>
                  <a:lnTo>
                    <a:pt x="19" y="19"/>
                  </a:lnTo>
                  <a:lnTo>
                    <a:pt x="11" y="30"/>
                  </a:lnTo>
                  <a:lnTo>
                    <a:pt x="5" y="41"/>
                  </a:lnTo>
                  <a:lnTo>
                    <a:pt x="2" y="53"/>
                  </a:lnTo>
                  <a:lnTo>
                    <a:pt x="0" y="66"/>
                  </a:lnTo>
                  <a:lnTo>
                    <a:pt x="2" y="144"/>
                  </a:lnTo>
                  <a:lnTo>
                    <a:pt x="3" y="228"/>
                  </a:lnTo>
                  <a:lnTo>
                    <a:pt x="10" y="315"/>
                  </a:lnTo>
                  <a:lnTo>
                    <a:pt x="24" y="399"/>
                  </a:lnTo>
                  <a:lnTo>
                    <a:pt x="47" y="478"/>
                  </a:lnTo>
                  <a:lnTo>
                    <a:pt x="86" y="545"/>
                  </a:lnTo>
                  <a:lnTo>
                    <a:pt x="142" y="598"/>
                  </a:lnTo>
                  <a:lnTo>
                    <a:pt x="218" y="631"/>
                  </a:lnTo>
                  <a:lnTo>
                    <a:pt x="251" y="634"/>
                  </a:lnTo>
                  <a:lnTo>
                    <a:pt x="259" y="631"/>
                  </a:lnTo>
                  <a:lnTo>
                    <a:pt x="270" y="623"/>
                  </a:lnTo>
                  <a:lnTo>
                    <a:pt x="280" y="612"/>
                  </a:lnTo>
                  <a:lnTo>
                    <a:pt x="293" y="600"/>
                  </a:lnTo>
                  <a:lnTo>
                    <a:pt x="305" y="587"/>
                  </a:lnTo>
                  <a:lnTo>
                    <a:pt x="315" y="578"/>
                  </a:lnTo>
                  <a:lnTo>
                    <a:pt x="321" y="570"/>
                  </a:lnTo>
                  <a:lnTo>
                    <a:pt x="324" y="567"/>
                  </a:lnTo>
                  <a:lnTo>
                    <a:pt x="336" y="538"/>
                  </a:lnTo>
                  <a:lnTo>
                    <a:pt x="343" y="508"/>
                  </a:lnTo>
                  <a:lnTo>
                    <a:pt x="346" y="478"/>
                  </a:lnTo>
                  <a:lnTo>
                    <a:pt x="343" y="449"/>
                  </a:lnTo>
                  <a:lnTo>
                    <a:pt x="336" y="419"/>
                  </a:lnTo>
                  <a:lnTo>
                    <a:pt x="327" y="390"/>
                  </a:lnTo>
                  <a:lnTo>
                    <a:pt x="313" y="362"/>
                  </a:lnTo>
                  <a:lnTo>
                    <a:pt x="298" y="335"/>
                  </a:lnTo>
                  <a:close/>
                </a:path>
              </a:pathLst>
            </a:custGeom>
            <a:solidFill>
              <a:srgbClr val="8c1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837440" y="5707440"/>
              <a:ext cx="148320" cy="38880"/>
            </a:xfrm>
            <a:custGeom>
              <a:avLst/>
              <a:gdLst/>
              <a:ahLst/>
              <a:rect l="l" t="t" r="r" b="b"/>
              <a:pathLst>
                <a:path w="170" h="47">
                  <a:moveTo>
                    <a:pt x="170" y="7"/>
                  </a:moveTo>
                  <a:lnTo>
                    <a:pt x="165" y="14"/>
                  </a:lnTo>
                  <a:lnTo>
                    <a:pt x="159" y="22"/>
                  </a:lnTo>
                  <a:lnTo>
                    <a:pt x="151" y="27"/>
                  </a:lnTo>
                  <a:lnTo>
                    <a:pt x="141" y="32"/>
                  </a:lnTo>
                  <a:lnTo>
                    <a:pt x="132" y="36"/>
                  </a:lnTo>
                  <a:lnTo>
                    <a:pt x="121" y="39"/>
                  </a:lnTo>
                  <a:lnTo>
                    <a:pt x="112" y="42"/>
                  </a:lnTo>
                  <a:lnTo>
                    <a:pt x="103" y="46"/>
                  </a:lnTo>
                  <a:lnTo>
                    <a:pt x="89" y="47"/>
                  </a:lnTo>
                  <a:lnTo>
                    <a:pt x="76" y="47"/>
                  </a:lnTo>
                  <a:lnTo>
                    <a:pt x="62" y="47"/>
                  </a:lnTo>
                  <a:lnTo>
                    <a:pt x="50" y="44"/>
                  </a:lnTo>
                  <a:lnTo>
                    <a:pt x="37" y="41"/>
                  </a:lnTo>
                  <a:lnTo>
                    <a:pt x="25" y="36"/>
                  </a:lnTo>
                  <a:lnTo>
                    <a:pt x="14" y="28"/>
                  </a:lnTo>
                  <a:lnTo>
                    <a:pt x="3" y="21"/>
                  </a:lnTo>
                  <a:lnTo>
                    <a:pt x="3" y="18"/>
                  </a:lnTo>
                  <a:lnTo>
                    <a:pt x="3" y="13"/>
                  </a:lnTo>
                  <a:lnTo>
                    <a:pt x="1" y="10"/>
                  </a:lnTo>
                  <a:lnTo>
                    <a:pt x="0" y="7"/>
                  </a:lnTo>
                  <a:lnTo>
                    <a:pt x="5" y="5"/>
                  </a:lnTo>
                  <a:lnTo>
                    <a:pt x="9" y="5"/>
                  </a:lnTo>
                  <a:lnTo>
                    <a:pt x="15" y="7"/>
                  </a:lnTo>
                  <a:lnTo>
                    <a:pt x="22" y="11"/>
                  </a:lnTo>
                  <a:lnTo>
                    <a:pt x="28" y="14"/>
                  </a:lnTo>
                  <a:lnTo>
                    <a:pt x="34" y="19"/>
                  </a:lnTo>
                  <a:lnTo>
                    <a:pt x="42" y="22"/>
                  </a:lnTo>
                  <a:lnTo>
                    <a:pt x="48" y="25"/>
                  </a:lnTo>
                  <a:lnTo>
                    <a:pt x="64" y="28"/>
                  </a:lnTo>
                  <a:lnTo>
                    <a:pt x="79" y="28"/>
                  </a:lnTo>
                  <a:lnTo>
                    <a:pt x="95" y="27"/>
                  </a:lnTo>
                  <a:lnTo>
                    <a:pt x="109" y="24"/>
                  </a:lnTo>
                  <a:lnTo>
                    <a:pt x="123" y="19"/>
                  </a:lnTo>
                  <a:lnTo>
                    <a:pt x="137" y="13"/>
                  </a:lnTo>
                  <a:lnTo>
                    <a:pt x="151" y="7"/>
                  </a:lnTo>
                  <a:lnTo>
                    <a:pt x="163" y="0"/>
                  </a:lnTo>
                  <a:lnTo>
                    <a:pt x="170" y="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5" name=""/>
            <p:cNvSpPr/>
            <p:nvPr/>
          </p:nvSpPr>
          <p:spPr>
            <a:xfrm>
              <a:off x="1868760" y="5797080"/>
              <a:ext cx="64800" cy="24120"/>
            </a:xfrm>
            <a:custGeom>
              <a:avLst/>
              <a:gdLst/>
              <a:ahLst/>
              <a:rect l="l" t="t" r="r" b="b"/>
              <a:pathLst>
                <a:path w="73" h="30">
                  <a:moveTo>
                    <a:pt x="71" y="12"/>
                  </a:moveTo>
                  <a:lnTo>
                    <a:pt x="73" y="19"/>
                  </a:lnTo>
                  <a:lnTo>
                    <a:pt x="70" y="23"/>
                  </a:lnTo>
                  <a:lnTo>
                    <a:pt x="63" y="26"/>
                  </a:lnTo>
                  <a:lnTo>
                    <a:pt x="57" y="28"/>
                  </a:lnTo>
                  <a:lnTo>
                    <a:pt x="51" y="30"/>
                  </a:lnTo>
                  <a:lnTo>
                    <a:pt x="43" y="30"/>
                  </a:lnTo>
                  <a:lnTo>
                    <a:pt x="37" y="28"/>
                  </a:lnTo>
                  <a:lnTo>
                    <a:pt x="29" y="28"/>
                  </a:lnTo>
                  <a:lnTo>
                    <a:pt x="23" y="26"/>
                  </a:lnTo>
                  <a:lnTo>
                    <a:pt x="15" y="25"/>
                  </a:lnTo>
                  <a:lnTo>
                    <a:pt x="9" y="22"/>
                  </a:lnTo>
                  <a:lnTo>
                    <a:pt x="3" y="20"/>
                  </a:lnTo>
                  <a:lnTo>
                    <a:pt x="0" y="16"/>
                  </a:lnTo>
                  <a:lnTo>
                    <a:pt x="1" y="9"/>
                  </a:lnTo>
                  <a:lnTo>
                    <a:pt x="4" y="3"/>
                  </a:lnTo>
                  <a:lnTo>
                    <a:pt x="7" y="0"/>
                  </a:lnTo>
                  <a:lnTo>
                    <a:pt x="15" y="5"/>
                  </a:lnTo>
                  <a:lnTo>
                    <a:pt x="23" y="8"/>
                  </a:lnTo>
                  <a:lnTo>
                    <a:pt x="31" y="9"/>
                  </a:lnTo>
                  <a:lnTo>
                    <a:pt x="39" y="9"/>
                  </a:lnTo>
                  <a:lnTo>
                    <a:pt x="46" y="9"/>
                  </a:lnTo>
                  <a:lnTo>
                    <a:pt x="54" y="9"/>
                  </a:lnTo>
                  <a:lnTo>
                    <a:pt x="62" y="11"/>
                  </a:lnTo>
                  <a:lnTo>
                    <a:pt x="71" y="1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206" name=""/>
          <p:cNvSpPr/>
          <p:nvPr/>
        </p:nvSpPr>
        <p:spPr>
          <a:xfrm>
            <a:off x="609480" y="1308240"/>
            <a:ext cx="81536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Ann has </a:t>
            </a:r>
            <a:r>
              <a:rPr b="0" lang="en-US" sz="4000" spc="-1" strike="noStrike">
                <a:solidFill>
                  <a:srgbClr val="6600cc"/>
                </a:solidFill>
                <a:latin typeface="Comic Sans MS"/>
              </a:rPr>
              <a:t>$456,</a:t>
            </a:r>
            <a:r>
              <a:rPr b="0" lang="en-US" sz="4000" spc="-1" strike="noStrike">
                <a:solidFill>
                  <a:srgbClr val="000000"/>
                </a:solidFill>
                <a:latin typeface="Comic Sans MS"/>
              </a:rPr>
              <a:t> and </a:t>
            </a:r>
            <a:r>
              <a:rPr b="0" lang="en-US" sz="4000" spc="-1" strike="noStrike">
                <a:solidFill>
                  <a:srgbClr val="6600cc"/>
                </a:solidFill>
                <a:latin typeface="Comic Sans MS"/>
              </a:rPr>
              <a:t>repays</a:t>
            </a:r>
            <a:r>
              <a:rPr b="0" lang="en-US" sz="4000" spc="-1" strike="noStrike">
                <a:solidFill>
                  <a:srgbClr val="000000"/>
                </a:solidFill>
                <a:latin typeface="Comic Sans MS"/>
              </a:rPr>
              <a:t> a </a:t>
            </a:r>
            <a:r>
              <a:rPr b="0" lang="en-US" sz="4000" spc="-1" strike="noStrike">
                <a:solidFill>
                  <a:srgbClr val="6600cc"/>
                </a:solidFill>
                <a:latin typeface="Comic Sans MS"/>
              </a:rPr>
              <a:t>$234</a:t>
            </a:r>
            <a:r>
              <a:rPr b="0" lang="en-US" sz="4000" spc="-1" strike="noStrike">
                <a:solidFill>
                  <a:srgbClr val="000000"/>
                </a:solidFill>
                <a:latin typeface="Comic Sans MS"/>
              </a:rPr>
              <a:t> loan, </a:t>
            </a:r>
            <a:r>
              <a:rPr b="0" lang="en-US" sz="4000" spc="-1" strike="noStrike">
                <a:solidFill>
                  <a:srgbClr val="3333cc"/>
                </a:solidFill>
                <a:latin typeface="Comic Sans MS"/>
              </a:rPr>
              <a:t>how much money does she have left?</a:t>
            </a:r>
            <a:endParaRPr b="0" lang="en-US" sz="4000" spc="-1" strike="noStrike">
              <a:solidFill>
                <a:srgbClr val="000000"/>
              </a:solidFill>
              <a:latin typeface="Times New Roman"/>
            </a:endParaRPr>
          </a:p>
        </p:txBody>
      </p:sp>
      <p:sp>
        <p:nvSpPr>
          <p:cNvPr id="207" name=""/>
          <p:cNvSpPr/>
          <p:nvPr/>
        </p:nvSpPr>
        <p:spPr>
          <a:xfrm>
            <a:off x="3352680" y="3505320"/>
            <a:ext cx="51055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Given: Total = $456</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	</a:t>
            </a:r>
            <a:r>
              <a:rPr b="0" lang="en-US" sz="3200" spc="-1" strike="noStrike">
                <a:solidFill>
                  <a:srgbClr val="6600cc"/>
                </a:solidFill>
                <a:latin typeface="Comic Sans MS"/>
              </a:rPr>
              <a:t>    </a:t>
            </a:r>
            <a:r>
              <a:rPr b="0" lang="en-US" sz="3200" spc="-1" strike="noStrike">
                <a:solidFill>
                  <a:srgbClr val="6600cc"/>
                </a:solidFill>
                <a:latin typeface="Comic Sans MS"/>
              </a:rPr>
              <a:t>Repays $234</a:t>
            </a:r>
            <a:endParaRPr b="0" lang="en-US" sz="3200" spc="-1" strike="noStrike">
              <a:solidFill>
                <a:srgbClr val="000000"/>
              </a:solidFill>
              <a:latin typeface="Times New Roman"/>
            </a:endParaRPr>
          </a:p>
        </p:txBody>
      </p:sp>
      <p:sp>
        <p:nvSpPr>
          <p:cNvPr id="208" name=""/>
          <p:cNvSpPr/>
          <p:nvPr/>
        </p:nvSpPr>
        <p:spPr>
          <a:xfrm>
            <a:off x="3352680" y="5181480"/>
            <a:ext cx="5334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Question:  How much lef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  </a:t>
            </a:r>
            <a:r>
              <a:rPr b="0" lang="en-US" sz="3200" spc="-1" strike="noStrike">
                <a:solidFill>
                  <a:srgbClr val="3333cc"/>
                </a:solidFill>
                <a:latin typeface="Comic Sans MS"/>
              </a:rPr>
              <a:t>(difference)</a:t>
            </a:r>
            <a:endParaRPr b="0" lang="en-US" sz="3200" spc="-1" strike="noStrike">
              <a:solidFill>
                <a:srgbClr val="000000"/>
              </a:solidFill>
              <a:latin typeface="Times New Roman"/>
            </a:endParaRPr>
          </a:p>
        </p:txBody>
      </p:sp>
      <p:sp>
        <p:nvSpPr>
          <p:cNvPr id="209" name=""/>
          <p:cNvSpPr/>
          <p:nvPr/>
        </p:nvSpPr>
        <p:spPr>
          <a:xfrm>
            <a:off x="3505320" y="609480"/>
            <a:ext cx="2819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on</a:t>
            </a:r>
            <a:endParaRPr b="0" lang="en-US" sz="2800" spc="-1" strike="noStrike">
              <a:solidFill>
                <a:srgbClr val="000000"/>
              </a:solidFill>
              <a:latin typeface="Times New Roman"/>
            </a:endParaRPr>
          </a:p>
        </p:txBody>
      </p:sp>
    </p:spTree>
  </p:cSld>
  <p:transition>
    <p:pull dir="l"/>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206"/>
                                        </p:tgtEl>
                                        <p:attrNameLst>
                                          <p:attrName>style.visibility</p:attrName>
                                        </p:attrNameLst>
                                      </p:cBhvr>
                                      <p:to>
                                        <p:strVal val="visible"/>
                                      </p:to>
                                    </p:set>
                                    <p:animEffect filter="dissolve" transition="in">
                                      <p:cBhvr additive="repl">
                                        <p:cTn id="21" dur="500"/>
                                        <p:tgtEl>
                                          <p:spTgt spid="20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26" dur="500"/>
                                        <p:tgtEl>
                                          <p:spTgt spid="207">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207">
                                            <p:txEl>
                                              <p:pRg st="1" end="1"/>
                                            </p:txEl>
                                          </p:spTgt>
                                        </p:tgtEl>
                                        <p:attrNameLst>
                                          <p:attrName>style.visibility</p:attrName>
                                        </p:attrNameLst>
                                      </p:cBhvr>
                                      <p:to>
                                        <p:strVal val="visible"/>
                                      </p:to>
                                    </p:set>
                                    <p:animEffect filter="dissolve" transition="in">
                                      <p:cBhvr additive="repl">
                                        <p:cTn id="31" dur="500"/>
                                        <p:tgtEl>
                                          <p:spTgt spid="207">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08"/>
                                        </p:tgtEl>
                                        <p:attrNameLst>
                                          <p:attrName>style.visibility</p:attrName>
                                        </p:attrNameLst>
                                      </p:cBhvr>
                                      <p:to>
                                        <p:strVal val="visible"/>
                                      </p:to>
                                    </p:set>
                                    <p:animEffect filter="dissolve" transition="in">
                                      <p:cBhvr additive="repl">
                                        <p:cTn id="36"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174" name=""/>
          <p:cNvSpPr/>
          <p:nvPr/>
        </p:nvSpPr>
        <p:spPr>
          <a:xfrm>
            <a:off x="1676520" y="1600200"/>
            <a:ext cx="990360" cy="1143000"/>
          </a:xfrm>
          <a:prstGeom prst="ellipse">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1905120" y="1523880"/>
            <a:ext cx="51228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Comic Sans MS"/>
              </a:rPr>
              <a:t>3</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5)</a:t>
            </a:r>
            <a:r>
              <a:rPr b="0" lang="en-US" sz="8000" spc="-1" strike="noStrike">
                <a:solidFill>
                  <a:srgbClr val="000000"/>
                </a:solidFill>
                <a:latin typeface="Comic Sans MS"/>
              </a:rPr>
              <a:t> = ?</a:t>
            </a:r>
            <a:endParaRPr b="0" lang="en-US" sz="8000" spc="-1" strike="noStrike">
              <a:solidFill>
                <a:srgbClr val="000000"/>
              </a:solidFill>
              <a:latin typeface="Times New Roman"/>
            </a:endParaRPr>
          </a:p>
        </p:txBody>
      </p:sp>
      <p:grpSp>
        <p:nvGrpSpPr>
          <p:cNvPr id="1176" name=""/>
          <p:cNvGrpSpPr/>
          <p:nvPr/>
        </p:nvGrpSpPr>
        <p:grpSpPr>
          <a:xfrm>
            <a:off x="3809880" y="4135320"/>
            <a:ext cx="1287360" cy="1046160"/>
            <a:chOff x="3809880" y="4135320"/>
            <a:chExt cx="1287360" cy="1046160"/>
          </a:xfrm>
        </p:grpSpPr>
        <p:sp>
          <p:nvSpPr>
            <p:cNvPr id="1177" name=""/>
            <p:cNvSpPr/>
            <p:nvPr/>
          </p:nvSpPr>
          <p:spPr>
            <a:xfrm>
              <a:off x="4181400" y="4135320"/>
              <a:ext cx="33480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4368600" y="4398840"/>
              <a:ext cx="27936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4447800" y="4216320"/>
              <a:ext cx="62712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3809880" y="4199040"/>
              <a:ext cx="62208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3870000" y="4794120"/>
              <a:ext cx="6638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4492440" y="4678200"/>
              <a:ext cx="60480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3" name=""/>
          <p:cNvGrpSpPr/>
          <p:nvPr/>
        </p:nvGrpSpPr>
        <p:grpSpPr>
          <a:xfrm>
            <a:off x="1066680" y="4876920"/>
            <a:ext cx="7010640" cy="1068120"/>
            <a:chOff x="1066680" y="4876920"/>
            <a:chExt cx="7010640" cy="1068120"/>
          </a:xfrm>
        </p:grpSpPr>
        <p:sp>
          <p:nvSpPr>
            <p:cNvPr id="1184"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1197"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1198"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199"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200"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201"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202"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203"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204"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205"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206"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sp>
        <p:nvSpPr>
          <p:cNvPr id="1207"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grpSp>
        <p:nvGrpSpPr>
          <p:cNvPr id="1208" name=""/>
          <p:cNvGrpSpPr/>
          <p:nvPr/>
        </p:nvGrpSpPr>
        <p:grpSpPr>
          <a:xfrm>
            <a:off x="5570640" y="4135320"/>
            <a:ext cx="1287360" cy="1046160"/>
            <a:chOff x="5570640" y="4135320"/>
            <a:chExt cx="1287360" cy="1046160"/>
          </a:xfrm>
        </p:grpSpPr>
        <p:sp>
          <p:nvSpPr>
            <p:cNvPr id="1209" name=""/>
            <p:cNvSpPr/>
            <p:nvPr/>
          </p:nvSpPr>
          <p:spPr>
            <a:xfrm>
              <a:off x="5942160" y="4135320"/>
              <a:ext cx="33480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6129360" y="4398840"/>
              <a:ext cx="27936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6208560" y="4216320"/>
              <a:ext cx="62712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5570640" y="4199040"/>
              <a:ext cx="62208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5630760" y="4794120"/>
              <a:ext cx="6638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6253200" y="4678200"/>
              <a:ext cx="60480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5" name=""/>
          <p:cNvGrpSpPr/>
          <p:nvPr/>
        </p:nvGrpSpPr>
        <p:grpSpPr>
          <a:xfrm>
            <a:off x="1066680" y="4876920"/>
            <a:ext cx="7010640" cy="1068120"/>
            <a:chOff x="1066680" y="4876920"/>
            <a:chExt cx="7010640" cy="1068120"/>
          </a:xfrm>
        </p:grpSpPr>
        <p:sp>
          <p:nvSpPr>
            <p:cNvPr id="1216"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1229"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1230"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231"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232"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233"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234"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235"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236"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237"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238"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sp>
        <p:nvSpPr>
          <p:cNvPr id="1239" name=""/>
          <p:cNvSpPr/>
          <p:nvPr/>
        </p:nvSpPr>
        <p:spPr>
          <a:xfrm>
            <a:off x="1676520" y="1600200"/>
            <a:ext cx="990360" cy="1143000"/>
          </a:xfrm>
          <a:prstGeom prst="ellipse">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1905120" y="1523880"/>
            <a:ext cx="51228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Comic Sans MS"/>
              </a:rPr>
              <a:t>3</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5)</a:t>
            </a:r>
            <a:r>
              <a:rPr b="0" lang="en-US" sz="8000" spc="-1" strike="noStrike">
                <a:solidFill>
                  <a:srgbClr val="000000"/>
                </a:solidFill>
                <a:latin typeface="Comic Sans MS"/>
              </a:rPr>
              <a:t> = ?</a:t>
            </a:r>
            <a:endParaRPr b="0" lang="en-US" sz="8000" spc="-1" strike="noStrike">
              <a:solidFill>
                <a:srgbClr val="000000"/>
              </a:solidFill>
              <a:latin typeface="Times New Roman"/>
            </a:endParaRPr>
          </a:p>
        </p:txBody>
      </p:sp>
      <p:sp>
        <p:nvSpPr>
          <p:cNvPr id="1241"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grpSp>
        <p:nvGrpSpPr>
          <p:cNvPr id="1242" name=""/>
          <p:cNvGrpSpPr/>
          <p:nvPr/>
        </p:nvGrpSpPr>
        <p:grpSpPr>
          <a:xfrm>
            <a:off x="5646600" y="4135320"/>
            <a:ext cx="1287360" cy="1046160"/>
            <a:chOff x="5646600" y="4135320"/>
            <a:chExt cx="1287360" cy="1046160"/>
          </a:xfrm>
        </p:grpSpPr>
        <p:sp>
          <p:nvSpPr>
            <p:cNvPr id="1243" name=""/>
            <p:cNvSpPr/>
            <p:nvPr/>
          </p:nvSpPr>
          <p:spPr>
            <a:xfrm>
              <a:off x="6018120" y="4135320"/>
              <a:ext cx="33480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6205320" y="4398840"/>
              <a:ext cx="27936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6284520" y="4216320"/>
              <a:ext cx="62712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5646600" y="4199040"/>
              <a:ext cx="62208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5706720" y="4794120"/>
              <a:ext cx="6638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329160" y="4678200"/>
              <a:ext cx="60480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1066680" y="4876920"/>
            <a:ext cx="7010640" cy="1068120"/>
            <a:chOff x="1066680" y="4876920"/>
            <a:chExt cx="7010640" cy="1068120"/>
          </a:xfrm>
        </p:grpSpPr>
        <p:sp>
          <p:nvSpPr>
            <p:cNvPr id="1250"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1263"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1264"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265"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266"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267"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268"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269"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270"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271"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272"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sp>
        <p:nvSpPr>
          <p:cNvPr id="1273" name=""/>
          <p:cNvSpPr/>
          <p:nvPr/>
        </p:nvSpPr>
        <p:spPr>
          <a:xfrm>
            <a:off x="2514600" y="1600200"/>
            <a:ext cx="990720" cy="1143000"/>
          </a:xfrm>
          <a:prstGeom prst="ellipse">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1905120" y="1523880"/>
            <a:ext cx="51228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Comic Sans MS"/>
              </a:rPr>
              <a:t>3</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5)</a:t>
            </a:r>
            <a:r>
              <a:rPr b="0" lang="en-US" sz="8000" spc="-1" strike="noStrike">
                <a:solidFill>
                  <a:srgbClr val="000000"/>
                </a:solidFill>
                <a:latin typeface="Comic Sans MS"/>
              </a:rPr>
              <a:t> = ?</a:t>
            </a:r>
            <a:endParaRPr b="0" lang="en-US" sz="8000" spc="-1" strike="noStrike">
              <a:solidFill>
                <a:srgbClr val="000000"/>
              </a:solidFill>
              <a:latin typeface="Times New Roman"/>
            </a:endParaRPr>
          </a:p>
        </p:txBody>
      </p:sp>
      <p:sp>
        <p:nvSpPr>
          <p:cNvPr id="1275"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grpSp>
        <p:nvGrpSpPr>
          <p:cNvPr id="1276" name=""/>
          <p:cNvGrpSpPr/>
          <p:nvPr/>
        </p:nvGrpSpPr>
        <p:grpSpPr>
          <a:xfrm>
            <a:off x="6020280" y="4135320"/>
            <a:ext cx="1371240" cy="1046160"/>
            <a:chOff x="6020280" y="4135320"/>
            <a:chExt cx="1371240" cy="1046160"/>
          </a:xfrm>
        </p:grpSpPr>
        <p:sp>
          <p:nvSpPr>
            <p:cNvPr id="1277" name=""/>
            <p:cNvSpPr/>
            <p:nvPr/>
          </p:nvSpPr>
          <p:spPr>
            <a:xfrm flipH="1">
              <a:off x="6639480" y="4135320"/>
              <a:ext cx="35640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flipH="1">
              <a:off x="6499080" y="4398840"/>
              <a:ext cx="29736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flipH="1">
              <a:off x="6044040" y="4216320"/>
              <a:ext cx="66780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flipH="1">
              <a:off x="6728400" y="4199040"/>
              <a:ext cx="66276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flipH="1">
              <a:off x="6620760" y="4794120"/>
              <a:ext cx="7070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H="1">
              <a:off x="6019920" y="4678200"/>
              <a:ext cx="64404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3" name=""/>
          <p:cNvGrpSpPr/>
          <p:nvPr/>
        </p:nvGrpSpPr>
        <p:grpSpPr>
          <a:xfrm>
            <a:off x="1066680" y="4876920"/>
            <a:ext cx="7010640" cy="1068120"/>
            <a:chOff x="1066680" y="4876920"/>
            <a:chExt cx="7010640" cy="1068120"/>
          </a:xfrm>
        </p:grpSpPr>
        <p:sp>
          <p:nvSpPr>
            <p:cNvPr id="1284"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1297"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1298"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299"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300"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301"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302"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303"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304"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305"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306"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sp>
        <p:nvSpPr>
          <p:cNvPr id="1307" name=""/>
          <p:cNvSpPr/>
          <p:nvPr/>
        </p:nvSpPr>
        <p:spPr>
          <a:xfrm>
            <a:off x="2514600" y="1600200"/>
            <a:ext cx="990720" cy="1143000"/>
          </a:xfrm>
          <a:prstGeom prst="ellipse">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1905120" y="1523880"/>
            <a:ext cx="51228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Comic Sans MS"/>
              </a:rPr>
              <a:t>3</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5)</a:t>
            </a:r>
            <a:r>
              <a:rPr b="0" lang="en-US" sz="8000" spc="-1" strike="noStrike">
                <a:solidFill>
                  <a:srgbClr val="000000"/>
                </a:solidFill>
                <a:latin typeface="Comic Sans MS"/>
              </a:rPr>
              <a:t> = ?</a:t>
            </a:r>
            <a:endParaRPr b="0" lang="en-US" sz="8000" spc="-1" strike="noStrike">
              <a:solidFill>
                <a:srgbClr val="000000"/>
              </a:solidFill>
              <a:latin typeface="Times New Roman"/>
            </a:endParaRPr>
          </a:p>
        </p:txBody>
      </p:sp>
      <p:sp>
        <p:nvSpPr>
          <p:cNvPr id="1309"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310" name=""/>
          <p:cNvSpPr/>
          <p:nvPr/>
        </p:nvSpPr>
        <p:spPr>
          <a:xfrm>
            <a:off x="1905120" y="1523880"/>
            <a:ext cx="51228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Comic Sans MS"/>
              </a:rPr>
              <a:t>3</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5)</a:t>
            </a:r>
            <a:r>
              <a:rPr b="0" lang="en-US" sz="8000" spc="-1" strike="noStrike">
                <a:solidFill>
                  <a:srgbClr val="000000"/>
                </a:solidFill>
                <a:latin typeface="Comic Sans MS"/>
              </a:rPr>
              <a:t> = ?</a:t>
            </a:r>
            <a:endParaRPr b="0" lang="en-US" sz="8000" spc="-1" strike="noStrike">
              <a:solidFill>
                <a:srgbClr val="000000"/>
              </a:solidFill>
              <a:latin typeface="Times New Roman"/>
            </a:endParaRPr>
          </a:p>
        </p:txBody>
      </p:sp>
      <p:grpSp>
        <p:nvGrpSpPr>
          <p:cNvPr id="1311" name=""/>
          <p:cNvGrpSpPr/>
          <p:nvPr/>
        </p:nvGrpSpPr>
        <p:grpSpPr>
          <a:xfrm>
            <a:off x="6020280" y="4135320"/>
            <a:ext cx="1371240" cy="1046160"/>
            <a:chOff x="6020280" y="4135320"/>
            <a:chExt cx="1371240" cy="1046160"/>
          </a:xfrm>
        </p:grpSpPr>
        <p:sp>
          <p:nvSpPr>
            <p:cNvPr id="1312" name=""/>
            <p:cNvSpPr/>
            <p:nvPr/>
          </p:nvSpPr>
          <p:spPr>
            <a:xfrm flipH="1">
              <a:off x="6639480" y="4135320"/>
              <a:ext cx="35640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flipH="1">
              <a:off x="6499080" y="4398840"/>
              <a:ext cx="29736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flipH="1">
              <a:off x="6044040" y="4216320"/>
              <a:ext cx="66780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flipH="1">
              <a:off x="6728400" y="4199040"/>
              <a:ext cx="66276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6620760" y="4794120"/>
              <a:ext cx="7070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flipH="1">
              <a:off x="6019920" y="4678200"/>
              <a:ext cx="64404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1066680" y="4876920"/>
            <a:ext cx="7010640" cy="1068120"/>
            <a:chOff x="1066680" y="4876920"/>
            <a:chExt cx="7010640" cy="1068120"/>
          </a:xfrm>
        </p:grpSpPr>
        <p:sp>
          <p:nvSpPr>
            <p:cNvPr id="1319"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1332"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1333"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334"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335"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336"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337"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338"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339"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340"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341"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sp>
        <p:nvSpPr>
          <p:cNvPr id="1342" name=""/>
          <p:cNvSpPr/>
          <p:nvPr/>
        </p:nvSpPr>
        <p:spPr>
          <a:xfrm>
            <a:off x="3429000" y="1295280"/>
            <a:ext cx="2209680" cy="1828800"/>
          </a:xfrm>
          <a:prstGeom prst="ellipse">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344" name=""/>
          <p:cNvSpPr/>
          <p:nvPr/>
        </p:nvSpPr>
        <p:spPr>
          <a:xfrm>
            <a:off x="6765120" y="1523880"/>
            <a:ext cx="1090440" cy="1312920"/>
          </a:xfrm>
          <a:prstGeom prst="rect">
            <a:avLst/>
          </a:prstGeom>
          <a:gradFill rotWithShape="0">
            <a:gsLst>
              <a:gs pos="0">
                <a:srgbClr val="00cc99"/>
              </a:gs>
              <a:gs pos="100000">
                <a:srgbClr val="ffff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omic Sans MS"/>
              </a:rPr>
              <a:t>-2</a:t>
            </a:r>
            <a:endParaRPr b="0" lang="en-US" sz="8000" spc="-1" strike="noStrike">
              <a:solidFill>
                <a:srgbClr val="000000"/>
              </a:solidFill>
              <a:latin typeface="Times New Roman"/>
            </a:endParaRPr>
          </a:p>
        </p:txBody>
      </p:sp>
      <p:sp>
        <p:nvSpPr>
          <p:cNvPr id="1345" name=""/>
          <p:cNvSpPr/>
          <p:nvPr/>
        </p:nvSpPr>
        <p:spPr>
          <a:xfrm>
            <a:off x="1839240" y="1523880"/>
            <a:ext cx="4419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Comic Sans MS"/>
              </a:rPr>
              <a:t>3</a:t>
            </a:r>
            <a:r>
              <a:rPr b="0" lang="en-US" sz="8000" spc="-1" strike="noStrike">
                <a:solidFill>
                  <a:srgbClr val="000000"/>
                </a:solidFill>
                <a:latin typeface="Comic Sans MS"/>
              </a:rPr>
              <a:t> </a:t>
            </a:r>
            <a:r>
              <a:rPr b="0" lang="en-US" sz="8000" spc="-1" strike="noStrike">
                <a:solidFill>
                  <a:srgbClr val="008000"/>
                </a:solidFill>
                <a:latin typeface="Comic Sans MS"/>
              </a:rPr>
              <a:t>–</a:t>
            </a:r>
            <a:r>
              <a:rPr b="0" lang="en-US" sz="8000" spc="-1" strike="noStrike">
                <a:solidFill>
                  <a:srgbClr val="000000"/>
                </a:solidFill>
                <a:latin typeface="Comic Sans MS"/>
              </a:rPr>
              <a:t> </a:t>
            </a:r>
            <a:r>
              <a:rPr b="0" lang="en-US" sz="8000" spc="-1" strike="noStrike">
                <a:solidFill>
                  <a:srgbClr val="cc0000"/>
                </a:solidFill>
                <a:latin typeface="Comic Sans MS"/>
              </a:rPr>
              <a:t>(+5)</a:t>
            </a:r>
            <a:r>
              <a:rPr b="0" lang="en-US" sz="8000" spc="-1" strike="noStrike">
                <a:solidFill>
                  <a:srgbClr val="000000"/>
                </a:solidFill>
                <a:latin typeface="Comic Sans MS"/>
              </a:rPr>
              <a:t> =</a:t>
            </a:r>
            <a:endParaRPr b="0" lang="en-US" sz="8000" spc="-1" strike="noStrike">
              <a:solidFill>
                <a:srgbClr val="000000"/>
              </a:solidFill>
              <a:latin typeface="Times New Roman"/>
            </a:endParaRPr>
          </a:p>
        </p:txBody>
      </p:sp>
      <p:grpSp>
        <p:nvGrpSpPr>
          <p:cNvPr id="1346" name=""/>
          <p:cNvGrpSpPr/>
          <p:nvPr/>
        </p:nvGrpSpPr>
        <p:grpSpPr>
          <a:xfrm>
            <a:off x="2972160" y="4135320"/>
            <a:ext cx="1371240" cy="1046160"/>
            <a:chOff x="2972160" y="4135320"/>
            <a:chExt cx="1371240" cy="1046160"/>
          </a:xfrm>
        </p:grpSpPr>
        <p:sp>
          <p:nvSpPr>
            <p:cNvPr id="1347" name=""/>
            <p:cNvSpPr/>
            <p:nvPr/>
          </p:nvSpPr>
          <p:spPr>
            <a:xfrm flipH="1">
              <a:off x="3591360" y="4135320"/>
              <a:ext cx="356400" cy="260280"/>
            </a:xfrm>
            <a:custGeom>
              <a:avLst/>
              <a:gdLst/>
              <a:ahLst/>
              <a:rect l="l" t="t" r="r" b="b"/>
              <a:pathLst>
                <a:path w="211" h="164">
                  <a:moveTo>
                    <a:pt x="135" y="54"/>
                  </a:moveTo>
                  <a:lnTo>
                    <a:pt x="115" y="35"/>
                  </a:lnTo>
                  <a:lnTo>
                    <a:pt x="101" y="22"/>
                  </a:lnTo>
                  <a:lnTo>
                    <a:pt x="85" y="13"/>
                  </a:lnTo>
                  <a:lnTo>
                    <a:pt x="67" y="5"/>
                  </a:lnTo>
                  <a:lnTo>
                    <a:pt x="54" y="2"/>
                  </a:lnTo>
                  <a:lnTo>
                    <a:pt x="37" y="0"/>
                  </a:lnTo>
                  <a:lnTo>
                    <a:pt x="26" y="2"/>
                  </a:lnTo>
                  <a:lnTo>
                    <a:pt x="16" y="7"/>
                  </a:lnTo>
                  <a:lnTo>
                    <a:pt x="9" y="13"/>
                  </a:lnTo>
                  <a:lnTo>
                    <a:pt x="4" y="23"/>
                  </a:lnTo>
                  <a:lnTo>
                    <a:pt x="2" y="35"/>
                  </a:lnTo>
                  <a:lnTo>
                    <a:pt x="0" y="51"/>
                  </a:lnTo>
                  <a:lnTo>
                    <a:pt x="4" y="71"/>
                  </a:lnTo>
                  <a:lnTo>
                    <a:pt x="8" y="85"/>
                  </a:lnTo>
                  <a:lnTo>
                    <a:pt x="15" y="99"/>
                  </a:lnTo>
                  <a:lnTo>
                    <a:pt x="22" y="113"/>
                  </a:lnTo>
                  <a:lnTo>
                    <a:pt x="33" y="125"/>
                  </a:lnTo>
                  <a:lnTo>
                    <a:pt x="46" y="137"/>
                  </a:lnTo>
                  <a:lnTo>
                    <a:pt x="63" y="148"/>
                  </a:lnTo>
                  <a:lnTo>
                    <a:pt x="82" y="159"/>
                  </a:lnTo>
                  <a:lnTo>
                    <a:pt x="101" y="164"/>
                  </a:lnTo>
                  <a:lnTo>
                    <a:pt x="117" y="163"/>
                  </a:lnTo>
                  <a:lnTo>
                    <a:pt x="132" y="161"/>
                  </a:lnTo>
                  <a:lnTo>
                    <a:pt x="144" y="155"/>
                  </a:lnTo>
                  <a:lnTo>
                    <a:pt x="152" y="147"/>
                  </a:lnTo>
                  <a:lnTo>
                    <a:pt x="158" y="136"/>
                  </a:lnTo>
                  <a:lnTo>
                    <a:pt x="159" y="122"/>
                  </a:lnTo>
                  <a:lnTo>
                    <a:pt x="157" y="109"/>
                  </a:lnTo>
                  <a:lnTo>
                    <a:pt x="156" y="96"/>
                  </a:lnTo>
                  <a:lnTo>
                    <a:pt x="151" y="85"/>
                  </a:lnTo>
                  <a:lnTo>
                    <a:pt x="148" y="74"/>
                  </a:lnTo>
                  <a:lnTo>
                    <a:pt x="144" y="67"/>
                  </a:lnTo>
                  <a:lnTo>
                    <a:pt x="168" y="56"/>
                  </a:lnTo>
                  <a:lnTo>
                    <a:pt x="193" y="49"/>
                  </a:lnTo>
                  <a:lnTo>
                    <a:pt x="209" y="42"/>
                  </a:lnTo>
                  <a:lnTo>
                    <a:pt x="211" y="34"/>
                  </a:lnTo>
                  <a:lnTo>
                    <a:pt x="209" y="25"/>
                  </a:lnTo>
                  <a:lnTo>
                    <a:pt x="202" y="17"/>
                  </a:lnTo>
                  <a:lnTo>
                    <a:pt x="192" y="18"/>
                  </a:lnTo>
                  <a:lnTo>
                    <a:pt x="182" y="20"/>
                  </a:lnTo>
                  <a:lnTo>
                    <a:pt x="170" y="29"/>
                  </a:lnTo>
                  <a:lnTo>
                    <a:pt x="154" y="39"/>
                  </a:lnTo>
                  <a:lnTo>
                    <a:pt x="143" y="47"/>
                  </a:lnTo>
                  <a:lnTo>
                    <a:pt x="13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flipH="1">
              <a:off x="3450960" y="4398840"/>
              <a:ext cx="297360" cy="524160"/>
            </a:xfrm>
            <a:custGeom>
              <a:avLst/>
              <a:gdLst/>
              <a:ahLst/>
              <a:rect l="l" t="t" r="r" b="b"/>
              <a:pathLst>
                <a:path w="176" h="330">
                  <a:moveTo>
                    <a:pt x="23" y="4"/>
                  </a:moveTo>
                  <a:lnTo>
                    <a:pt x="40" y="2"/>
                  </a:lnTo>
                  <a:lnTo>
                    <a:pt x="58" y="0"/>
                  </a:lnTo>
                  <a:lnTo>
                    <a:pt x="77" y="3"/>
                  </a:lnTo>
                  <a:lnTo>
                    <a:pt x="93" y="10"/>
                  </a:lnTo>
                  <a:lnTo>
                    <a:pt x="113" y="23"/>
                  </a:lnTo>
                  <a:lnTo>
                    <a:pt x="130" y="39"/>
                  </a:lnTo>
                  <a:lnTo>
                    <a:pt x="142" y="57"/>
                  </a:lnTo>
                  <a:lnTo>
                    <a:pt x="154" y="75"/>
                  </a:lnTo>
                  <a:lnTo>
                    <a:pt x="163" y="99"/>
                  </a:lnTo>
                  <a:lnTo>
                    <a:pt x="169" y="122"/>
                  </a:lnTo>
                  <a:lnTo>
                    <a:pt x="174" y="147"/>
                  </a:lnTo>
                  <a:lnTo>
                    <a:pt x="176" y="174"/>
                  </a:lnTo>
                  <a:lnTo>
                    <a:pt x="174" y="196"/>
                  </a:lnTo>
                  <a:lnTo>
                    <a:pt x="172" y="221"/>
                  </a:lnTo>
                  <a:lnTo>
                    <a:pt x="169" y="244"/>
                  </a:lnTo>
                  <a:lnTo>
                    <a:pt x="163" y="268"/>
                  </a:lnTo>
                  <a:lnTo>
                    <a:pt x="156" y="286"/>
                  </a:lnTo>
                  <a:lnTo>
                    <a:pt x="147" y="304"/>
                  </a:lnTo>
                  <a:lnTo>
                    <a:pt x="137" y="317"/>
                  </a:lnTo>
                  <a:lnTo>
                    <a:pt x="125" y="322"/>
                  </a:lnTo>
                  <a:lnTo>
                    <a:pt x="112" y="328"/>
                  </a:lnTo>
                  <a:lnTo>
                    <a:pt x="96" y="330"/>
                  </a:lnTo>
                  <a:lnTo>
                    <a:pt x="83" y="328"/>
                  </a:lnTo>
                  <a:lnTo>
                    <a:pt x="72" y="326"/>
                  </a:lnTo>
                  <a:lnTo>
                    <a:pt x="62" y="318"/>
                  </a:lnTo>
                  <a:lnTo>
                    <a:pt x="53" y="308"/>
                  </a:lnTo>
                  <a:lnTo>
                    <a:pt x="48" y="297"/>
                  </a:lnTo>
                  <a:lnTo>
                    <a:pt x="42" y="281"/>
                  </a:lnTo>
                  <a:lnTo>
                    <a:pt x="40" y="267"/>
                  </a:lnTo>
                  <a:lnTo>
                    <a:pt x="44" y="247"/>
                  </a:lnTo>
                  <a:lnTo>
                    <a:pt x="50" y="227"/>
                  </a:lnTo>
                  <a:lnTo>
                    <a:pt x="57" y="208"/>
                  </a:lnTo>
                  <a:lnTo>
                    <a:pt x="62" y="194"/>
                  </a:lnTo>
                  <a:lnTo>
                    <a:pt x="66" y="178"/>
                  </a:lnTo>
                  <a:lnTo>
                    <a:pt x="66" y="168"/>
                  </a:lnTo>
                  <a:lnTo>
                    <a:pt x="64" y="158"/>
                  </a:lnTo>
                  <a:lnTo>
                    <a:pt x="60" y="146"/>
                  </a:lnTo>
                  <a:lnTo>
                    <a:pt x="53" y="133"/>
                  </a:lnTo>
                  <a:lnTo>
                    <a:pt x="41" y="119"/>
                  </a:lnTo>
                  <a:lnTo>
                    <a:pt x="28" y="107"/>
                  </a:lnTo>
                  <a:lnTo>
                    <a:pt x="19" y="95"/>
                  </a:lnTo>
                  <a:lnTo>
                    <a:pt x="9" y="78"/>
                  </a:lnTo>
                  <a:lnTo>
                    <a:pt x="3" y="62"/>
                  </a:lnTo>
                  <a:lnTo>
                    <a:pt x="0" y="44"/>
                  </a:lnTo>
                  <a:lnTo>
                    <a:pt x="0" y="29"/>
                  </a:lnTo>
                  <a:lnTo>
                    <a:pt x="3" y="20"/>
                  </a:lnTo>
                  <a:lnTo>
                    <a:pt x="11" y="12"/>
                  </a:lnTo>
                  <a:lnTo>
                    <a:pt x="2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2995920" y="4216320"/>
              <a:ext cx="667800" cy="345960"/>
            </a:xfrm>
            <a:custGeom>
              <a:avLst/>
              <a:gdLst/>
              <a:ahLst/>
              <a:rect l="l" t="t" r="r" b="b"/>
              <a:pathLst>
                <a:path w="395" h="218">
                  <a:moveTo>
                    <a:pt x="10" y="120"/>
                  </a:moveTo>
                  <a:lnTo>
                    <a:pt x="32" y="118"/>
                  </a:lnTo>
                  <a:lnTo>
                    <a:pt x="55" y="121"/>
                  </a:lnTo>
                  <a:lnTo>
                    <a:pt x="82" y="131"/>
                  </a:lnTo>
                  <a:lnTo>
                    <a:pt x="111" y="146"/>
                  </a:lnTo>
                  <a:lnTo>
                    <a:pt x="139" y="161"/>
                  </a:lnTo>
                  <a:lnTo>
                    <a:pt x="165" y="175"/>
                  </a:lnTo>
                  <a:lnTo>
                    <a:pt x="182" y="182"/>
                  </a:lnTo>
                  <a:lnTo>
                    <a:pt x="194" y="184"/>
                  </a:lnTo>
                  <a:lnTo>
                    <a:pt x="209" y="180"/>
                  </a:lnTo>
                  <a:lnTo>
                    <a:pt x="217" y="173"/>
                  </a:lnTo>
                  <a:lnTo>
                    <a:pt x="230" y="158"/>
                  </a:lnTo>
                  <a:lnTo>
                    <a:pt x="245" y="135"/>
                  </a:lnTo>
                  <a:lnTo>
                    <a:pt x="264" y="108"/>
                  </a:lnTo>
                  <a:lnTo>
                    <a:pt x="280" y="81"/>
                  </a:lnTo>
                  <a:lnTo>
                    <a:pt x="295" y="63"/>
                  </a:lnTo>
                  <a:lnTo>
                    <a:pt x="308" y="47"/>
                  </a:lnTo>
                  <a:lnTo>
                    <a:pt x="317" y="25"/>
                  </a:lnTo>
                  <a:lnTo>
                    <a:pt x="320" y="14"/>
                  </a:lnTo>
                  <a:lnTo>
                    <a:pt x="329" y="3"/>
                  </a:lnTo>
                  <a:lnTo>
                    <a:pt x="340" y="0"/>
                  </a:lnTo>
                  <a:lnTo>
                    <a:pt x="350" y="0"/>
                  </a:lnTo>
                  <a:lnTo>
                    <a:pt x="357" y="4"/>
                  </a:lnTo>
                  <a:lnTo>
                    <a:pt x="355" y="14"/>
                  </a:lnTo>
                  <a:lnTo>
                    <a:pt x="343" y="16"/>
                  </a:lnTo>
                  <a:lnTo>
                    <a:pt x="334" y="27"/>
                  </a:lnTo>
                  <a:lnTo>
                    <a:pt x="339" y="33"/>
                  </a:lnTo>
                  <a:lnTo>
                    <a:pt x="352" y="27"/>
                  </a:lnTo>
                  <a:lnTo>
                    <a:pt x="370" y="17"/>
                  </a:lnTo>
                  <a:lnTo>
                    <a:pt x="384" y="20"/>
                  </a:lnTo>
                  <a:lnTo>
                    <a:pt x="391" y="26"/>
                  </a:lnTo>
                  <a:lnTo>
                    <a:pt x="395" y="34"/>
                  </a:lnTo>
                  <a:lnTo>
                    <a:pt x="393" y="46"/>
                  </a:lnTo>
                  <a:lnTo>
                    <a:pt x="386" y="53"/>
                  </a:lnTo>
                  <a:lnTo>
                    <a:pt x="373" y="56"/>
                  </a:lnTo>
                  <a:lnTo>
                    <a:pt x="351" y="64"/>
                  </a:lnTo>
                  <a:lnTo>
                    <a:pt x="332" y="65"/>
                  </a:lnTo>
                  <a:lnTo>
                    <a:pt x="316" y="69"/>
                  </a:lnTo>
                  <a:lnTo>
                    <a:pt x="295" y="95"/>
                  </a:lnTo>
                  <a:lnTo>
                    <a:pt x="279" y="128"/>
                  </a:lnTo>
                  <a:lnTo>
                    <a:pt x="266" y="150"/>
                  </a:lnTo>
                  <a:lnTo>
                    <a:pt x="253" y="171"/>
                  </a:lnTo>
                  <a:lnTo>
                    <a:pt x="238" y="190"/>
                  </a:lnTo>
                  <a:lnTo>
                    <a:pt x="222" y="206"/>
                  </a:lnTo>
                  <a:lnTo>
                    <a:pt x="208" y="214"/>
                  </a:lnTo>
                  <a:lnTo>
                    <a:pt x="192" y="218"/>
                  </a:lnTo>
                  <a:lnTo>
                    <a:pt x="178" y="216"/>
                  </a:lnTo>
                  <a:lnTo>
                    <a:pt x="165" y="210"/>
                  </a:lnTo>
                  <a:lnTo>
                    <a:pt x="146" y="203"/>
                  </a:lnTo>
                  <a:lnTo>
                    <a:pt x="125" y="194"/>
                  </a:lnTo>
                  <a:lnTo>
                    <a:pt x="100" y="183"/>
                  </a:lnTo>
                  <a:lnTo>
                    <a:pt x="75" y="175"/>
                  </a:lnTo>
                  <a:lnTo>
                    <a:pt x="49" y="170"/>
                  </a:lnTo>
                  <a:lnTo>
                    <a:pt x="28" y="163"/>
                  </a:lnTo>
                  <a:lnTo>
                    <a:pt x="10" y="155"/>
                  </a:lnTo>
                  <a:lnTo>
                    <a:pt x="3" y="138"/>
                  </a:lnTo>
                  <a:lnTo>
                    <a:pt x="0" y="140"/>
                  </a:lnTo>
                  <a:lnTo>
                    <a:pt x="0" y="128"/>
                  </a:lnTo>
                  <a:lnTo>
                    <a:pt x="6" y="120"/>
                  </a:lnTo>
                  <a:lnTo>
                    <a:pt x="1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flipH="1">
              <a:off x="3680280" y="4199040"/>
              <a:ext cx="662760" cy="420480"/>
            </a:xfrm>
            <a:custGeom>
              <a:avLst/>
              <a:gdLst/>
              <a:ahLst/>
              <a:rect l="l" t="t" r="r" b="b"/>
              <a:pathLst>
                <a:path w="392" h="265">
                  <a:moveTo>
                    <a:pt x="338" y="174"/>
                  </a:moveTo>
                  <a:lnTo>
                    <a:pt x="354" y="148"/>
                  </a:lnTo>
                  <a:lnTo>
                    <a:pt x="365" y="142"/>
                  </a:lnTo>
                  <a:lnTo>
                    <a:pt x="384" y="146"/>
                  </a:lnTo>
                  <a:lnTo>
                    <a:pt x="392" y="161"/>
                  </a:lnTo>
                  <a:lnTo>
                    <a:pt x="388" y="183"/>
                  </a:lnTo>
                  <a:lnTo>
                    <a:pt x="374" y="202"/>
                  </a:lnTo>
                  <a:lnTo>
                    <a:pt x="351" y="221"/>
                  </a:lnTo>
                  <a:lnTo>
                    <a:pt x="326" y="236"/>
                  </a:lnTo>
                  <a:lnTo>
                    <a:pt x="303" y="249"/>
                  </a:lnTo>
                  <a:lnTo>
                    <a:pt x="277" y="261"/>
                  </a:lnTo>
                  <a:lnTo>
                    <a:pt x="255" y="264"/>
                  </a:lnTo>
                  <a:lnTo>
                    <a:pt x="236" y="265"/>
                  </a:lnTo>
                  <a:lnTo>
                    <a:pt x="220" y="264"/>
                  </a:lnTo>
                  <a:lnTo>
                    <a:pt x="206" y="256"/>
                  </a:lnTo>
                  <a:lnTo>
                    <a:pt x="191" y="243"/>
                  </a:lnTo>
                  <a:lnTo>
                    <a:pt x="168" y="215"/>
                  </a:lnTo>
                  <a:lnTo>
                    <a:pt x="151" y="187"/>
                  </a:lnTo>
                  <a:lnTo>
                    <a:pt x="135" y="158"/>
                  </a:lnTo>
                  <a:lnTo>
                    <a:pt x="118" y="129"/>
                  </a:lnTo>
                  <a:lnTo>
                    <a:pt x="96" y="105"/>
                  </a:lnTo>
                  <a:lnTo>
                    <a:pt x="76" y="94"/>
                  </a:lnTo>
                  <a:lnTo>
                    <a:pt x="62" y="93"/>
                  </a:lnTo>
                  <a:lnTo>
                    <a:pt x="43" y="98"/>
                  </a:lnTo>
                  <a:lnTo>
                    <a:pt x="29" y="105"/>
                  </a:lnTo>
                  <a:lnTo>
                    <a:pt x="16" y="108"/>
                  </a:lnTo>
                  <a:lnTo>
                    <a:pt x="7" y="105"/>
                  </a:lnTo>
                  <a:lnTo>
                    <a:pt x="6" y="95"/>
                  </a:lnTo>
                  <a:lnTo>
                    <a:pt x="10" y="89"/>
                  </a:lnTo>
                  <a:lnTo>
                    <a:pt x="20" y="82"/>
                  </a:lnTo>
                  <a:lnTo>
                    <a:pt x="33" y="81"/>
                  </a:lnTo>
                  <a:lnTo>
                    <a:pt x="47" y="82"/>
                  </a:lnTo>
                  <a:lnTo>
                    <a:pt x="54" y="79"/>
                  </a:lnTo>
                  <a:lnTo>
                    <a:pt x="51" y="71"/>
                  </a:lnTo>
                  <a:lnTo>
                    <a:pt x="38" y="66"/>
                  </a:lnTo>
                  <a:lnTo>
                    <a:pt x="22" y="66"/>
                  </a:lnTo>
                  <a:lnTo>
                    <a:pt x="13" y="62"/>
                  </a:lnTo>
                  <a:lnTo>
                    <a:pt x="5" y="55"/>
                  </a:lnTo>
                  <a:lnTo>
                    <a:pt x="0" y="45"/>
                  </a:lnTo>
                  <a:lnTo>
                    <a:pt x="3" y="38"/>
                  </a:lnTo>
                  <a:lnTo>
                    <a:pt x="7" y="34"/>
                  </a:lnTo>
                  <a:lnTo>
                    <a:pt x="16" y="34"/>
                  </a:lnTo>
                  <a:lnTo>
                    <a:pt x="27" y="39"/>
                  </a:lnTo>
                  <a:lnTo>
                    <a:pt x="38" y="46"/>
                  </a:lnTo>
                  <a:lnTo>
                    <a:pt x="46" y="54"/>
                  </a:lnTo>
                  <a:lnTo>
                    <a:pt x="55" y="56"/>
                  </a:lnTo>
                  <a:lnTo>
                    <a:pt x="64" y="55"/>
                  </a:lnTo>
                  <a:lnTo>
                    <a:pt x="69" y="48"/>
                  </a:lnTo>
                  <a:lnTo>
                    <a:pt x="73" y="36"/>
                  </a:lnTo>
                  <a:lnTo>
                    <a:pt x="69" y="23"/>
                  </a:lnTo>
                  <a:lnTo>
                    <a:pt x="71" y="10"/>
                  </a:lnTo>
                  <a:lnTo>
                    <a:pt x="75" y="4"/>
                  </a:lnTo>
                  <a:lnTo>
                    <a:pt x="85" y="0"/>
                  </a:lnTo>
                  <a:lnTo>
                    <a:pt x="93" y="5"/>
                  </a:lnTo>
                  <a:lnTo>
                    <a:pt x="96" y="15"/>
                  </a:lnTo>
                  <a:lnTo>
                    <a:pt x="92" y="26"/>
                  </a:lnTo>
                  <a:lnTo>
                    <a:pt x="87" y="36"/>
                  </a:lnTo>
                  <a:lnTo>
                    <a:pt x="84" y="53"/>
                  </a:lnTo>
                  <a:lnTo>
                    <a:pt x="85" y="66"/>
                  </a:lnTo>
                  <a:lnTo>
                    <a:pt x="97" y="79"/>
                  </a:lnTo>
                  <a:lnTo>
                    <a:pt x="116" y="91"/>
                  </a:lnTo>
                  <a:lnTo>
                    <a:pt x="130" y="105"/>
                  </a:lnTo>
                  <a:lnTo>
                    <a:pt x="145" y="124"/>
                  </a:lnTo>
                  <a:lnTo>
                    <a:pt x="161" y="146"/>
                  </a:lnTo>
                  <a:lnTo>
                    <a:pt x="175" y="168"/>
                  </a:lnTo>
                  <a:lnTo>
                    <a:pt x="191" y="189"/>
                  </a:lnTo>
                  <a:lnTo>
                    <a:pt x="207" y="210"/>
                  </a:lnTo>
                  <a:lnTo>
                    <a:pt x="217" y="221"/>
                  </a:lnTo>
                  <a:lnTo>
                    <a:pt x="230" y="228"/>
                  </a:lnTo>
                  <a:lnTo>
                    <a:pt x="243" y="233"/>
                  </a:lnTo>
                  <a:lnTo>
                    <a:pt x="254" y="234"/>
                  </a:lnTo>
                  <a:lnTo>
                    <a:pt x="267" y="232"/>
                  </a:lnTo>
                  <a:lnTo>
                    <a:pt x="281" y="225"/>
                  </a:lnTo>
                  <a:lnTo>
                    <a:pt x="298" y="214"/>
                  </a:lnTo>
                  <a:lnTo>
                    <a:pt x="312" y="200"/>
                  </a:lnTo>
                  <a:lnTo>
                    <a:pt x="327" y="185"/>
                  </a:lnTo>
                  <a:lnTo>
                    <a:pt x="338"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3572640" y="4794120"/>
              <a:ext cx="707040" cy="387360"/>
            </a:xfrm>
            <a:custGeom>
              <a:avLst/>
              <a:gdLst/>
              <a:ahLst/>
              <a:rect l="l" t="t" r="r" b="b"/>
              <a:pathLst>
                <a:path w="418" h="244">
                  <a:moveTo>
                    <a:pt x="354" y="77"/>
                  </a:moveTo>
                  <a:lnTo>
                    <a:pt x="362" y="30"/>
                  </a:lnTo>
                  <a:lnTo>
                    <a:pt x="379" y="0"/>
                  </a:lnTo>
                  <a:lnTo>
                    <a:pt x="399" y="2"/>
                  </a:lnTo>
                  <a:lnTo>
                    <a:pt x="411" y="14"/>
                  </a:lnTo>
                  <a:lnTo>
                    <a:pt x="418" y="34"/>
                  </a:lnTo>
                  <a:lnTo>
                    <a:pt x="414" y="64"/>
                  </a:lnTo>
                  <a:lnTo>
                    <a:pt x="410" y="81"/>
                  </a:lnTo>
                  <a:lnTo>
                    <a:pt x="403" y="113"/>
                  </a:lnTo>
                  <a:lnTo>
                    <a:pt x="393" y="141"/>
                  </a:lnTo>
                  <a:lnTo>
                    <a:pt x="383" y="165"/>
                  </a:lnTo>
                  <a:lnTo>
                    <a:pt x="369" y="188"/>
                  </a:lnTo>
                  <a:lnTo>
                    <a:pt x="352" y="215"/>
                  </a:lnTo>
                  <a:lnTo>
                    <a:pt x="336" y="232"/>
                  </a:lnTo>
                  <a:lnTo>
                    <a:pt x="324" y="240"/>
                  </a:lnTo>
                  <a:lnTo>
                    <a:pt x="305" y="244"/>
                  </a:lnTo>
                  <a:lnTo>
                    <a:pt x="285" y="237"/>
                  </a:lnTo>
                  <a:lnTo>
                    <a:pt x="261" y="223"/>
                  </a:lnTo>
                  <a:lnTo>
                    <a:pt x="236" y="203"/>
                  </a:lnTo>
                  <a:lnTo>
                    <a:pt x="211" y="178"/>
                  </a:lnTo>
                  <a:lnTo>
                    <a:pt x="188" y="148"/>
                  </a:lnTo>
                  <a:lnTo>
                    <a:pt x="170" y="123"/>
                  </a:lnTo>
                  <a:lnTo>
                    <a:pt x="149" y="106"/>
                  </a:lnTo>
                  <a:lnTo>
                    <a:pt x="129" y="96"/>
                  </a:lnTo>
                  <a:lnTo>
                    <a:pt x="114" y="94"/>
                  </a:lnTo>
                  <a:lnTo>
                    <a:pt x="92" y="97"/>
                  </a:lnTo>
                  <a:lnTo>
                    <a:pt x="69" y="111"/>
                  </a:lnTo>
                  <a:lnTo>
                    <a:pt x="45" y="125"/>
                  </a:lnTo>
                  <a:lnTo>
                    <a:pt x="23" y="128"/>
                  </a:lnTo>
                  <a:lnTo>
                    <a:pt x="10" y="120"/>
                  </a:lnTo>
                  <a:lnTo>
                    <a:pt x="0" y="108"/>
                  </a:lnTo>
                  <a:lnTo>
                    <a:pt x="3" y="95"/>
                  </a:lnTo>
                  <a:lnTo>
                    <a:pt x="11" y="91"/>
                  </a:lnTo>
                  <a:lnTo>
                    <a:pt x="21" y="94"/>
                  </a:lnTo>
                  <a:lnTo>
                    <a:pt x="18" y="95"/>
                  </a:lnTo>
                  <a:lnTo>
                    <a:pt x="37" y="100"/>
                  </a:lnTo>
                  <a:lnTo>
                    <a:pt x="57" y="93"/>
                  </a:lnTo>
                  <a:lnTo>
                    <a:pt x="75" y="76"/>
                  </a:lnTo>
                  <a:lnTo>
                    <a:pt x="93" y="62"/>
                  </a:lnTo>
                  <a:lnTo>
                    <a:pt x="105" y="46"/>
                  </a:lnTo>
                  <a:lnTo>
                    <a:pt x="122" y="40"/>
                  </a:lnTo>
                  <a:lnTo>
                    <a:pt x="135" y="43"/>
                  </a:lnTo>
                  <a:lnTo>
                    <a:pt x="144" y="58"/>
                  </a:lnTo>
                  <a:lnTo>
                    <a:pt x="159" y="78"/>
                  </a:lnTo>
                  <a:lnTo>
                    <a:pt x="183" y="96"/>
                  </a:lnTo>
                  <a:lnTo>
                    <a:pt x="211" y="114"/>
                  </a:lnTo>
                  <a:lnTo>
                    <a:pt x="234" y="132"/>
                  </a:lnTo>
                  <a:lnTo>
                    <a:pt x="257" y="155"/>
                  </a:lnTo>
                  <a:lnTo>
                    <a:pt x="277" y="172"/>
                  </a:lnTo>
                  <a:lnTo>
                    <a:pt x="296" y="184"/>
                  </a:lnTo>
                  <a:lnTo>
                    <a:pt x="309" y="186"/>
                  </a:lnTo>
                  <a:lnTo>
                    <a:pt x="315" y="180"/>
                  </a:lnTo>
                  <a:lnTo>
                    <a:pt x="324" y="170"/>
                  </a:lnTo>
                  <a:lnTo>
                    <a:pt x="335" y="145"/>
                  </a:lnTo>
                  <a:lnTo>
                    <a:pt x="344" y="118"/>
                  </a:lnTo>
                  <a:lnTo>
                    <a:pt x="350" y="96"/>
                  </a:lnTo>
                  <a:lnTo>
                    <a:pt x="35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flipH="1">
              <a:off x="2971800" y="4678200"/>
              <a:ext cx="644040" cy="495360"/>
            </a:xfrm>
            <a:custGeom>
              <a:avLst/>
              <a:gdLst/>
              <a:ahLst/>
              <a:rect l="l" t="t" r="r" b="b"/>
              <a:pathLst>
                <a:path w="381" h="312">
                  <a:moveTo>
                    <a:pt x="83" y="111"/>
                  </a:moveTo>
                  <a:lnTo>
                    <a:pt x="48" y="143"/>
                  </a:lnTo>
                  <a:lnTo>
                    <a:pt x="16" y="155"/>
                  </a:lnTo>
                  <a:lnTo>
                    <a:pt x="2" y="142"/>
                  </a:lnTo>
                  <a:lnTo>
                    <a:pt x="0" y="125"/>
                  </a:lnTo>
                  <a:lnTo>
                    <a:pt x="7" y="105"/>
                  </a:lnTo>
                  <a:lnTo>
                    <a:pt x="28" y="84"/>
                  </a:lnTo>
                  <a:lnTo>
                    <a:pt x="42" y="73"/>
                  </a:lnTo>
                  <a:lnTo>
                    <a:pt x="66" y="52"/>
                  </a:lnTo>
                  <a:lnTo>
                    <a:pt x="91" y="35"/>
                  </a:lnTo>
                  <a:lnTo>
                    <a:pt x="115" y="23"/>
                  </a:lnTo>
                  <a:lnTo>
                    <a:pt x="139" y="14"/>
                  </a:lnTo>
                  <a:lnTo>
                    <a:pt x="170" y="3"/>
                  </a:lnTo>
                  <a:lnTo>
                    <a:pt x="193" y="0"/>
                  </a:lnTo>
                  <a:lnTo>
                    <a:pt x="207" y="1"/>
                  </a:lnTo>
                  <a:lnTo>
                    <a:pt x="224" y="9"/>
                  </a:lnTo>
                  <a:lnTo>
                    <a:pt x="236" y="27"/>
                  </a:lnTo>
                  <a:lnTo>
                    <a:pt x="246" y="52"/>
                  </a:lnTo>
                  <a:lnTo>
                    <a:pt x="253" y="83"/>
                  </a:lnTo>
                  <a:lnTo>
                    <a:pt x="257" y="118"/>
                  </a:lnTo>
                  <a:lnTo>
                    <a:pt x="257" y="157"/>
                  </a:lnTo>
                  <a:lnTo>
                    <a:pt x="256" y="188"/>
                  </a:lnTo>
                  <a:lnTo>
                    <a:pt x="262" y="214"/>
                  </a:lnTo>
                  <a:lnTo>
                    <a:pt x="272" y="233"/>
                  </a:lnTo>
                  <a:lnTo>
                    <a:pt x="283" y="244"/>
                  </a:lnTo>
                  <a:lnTo>
                    <a:pt x="302" y="255"/>
                  </a:lnTo>
                  <a:lnTo>
                    <a:pt x="328" y="259"/>
                  </a:lnTo>
                  <a:lnTo>
                    <a:pt x="355" y="263"/>
                  </a:lnTo>
                  <a:lnTo>
                    <a:pt x="375" y="274"/>
                  </a:lnTo>
                  <a:lnTo>
                    <a:pt x="380" y="287"/>
                  </a:lnTo>
                  <a:lnTo>
                    <a:pt x="381" y="303"/>
                  </a:lnTo>
                  <a:lnTo>
                    <a:pt x="371" y="312"/>
                  </a:lnTo>
                  <a:lnTo>
                    <a:pt x="361" y="310"/>
                  </a:lnTo>
                  <a:lnTo>
                    <a:pt x="355" y="302"/>
                  </a:lnTo>
                  <a:lnTo>
                    <a:pt x="359" y="303"/>
                  </a:lnTo>
                  <a:lnTo>
                    <a:pt x="347" y="288"/>
                  </a:lnTo>
                  <a:lnTo>
                    <a:pt x="326" y="280"/>
                  </a:lnTo>
                  <a:lnTo>
                    <a:pt x="302" y="283"/>
                  </a:lnTo>
                  <a:lnTo>
                    <a:pt x="279" y="283"/>
                  </a:lnTo>
                  <a:lnTo>
                    <a:pt x="260" y="288"/>
                  </a:lnTo>
                  <a:lnTo>
                    <a:pt x="243" y="283"/>
                  </a:lnTo>
                  <a:lnTo>
                    <a:pt x="235" y="272"/>
                  </a:lnTo>
                  <a:lnTo>
                    <a:pt x="237" y="255"/>
                  </a:lnTo>
                  <a:lnTo>
                    <a:pt x="237" y="230"/>
                  </a:lnTo>
                  <a:lnTo>
                    <a:pt x="230" y="201"/>
                  </a:lnTo>
                  <a:lnTo>
                    <a:pt x="218" y="169"/>
                  </a:lnTo>
                  <a:lnTo>
                    <a:pt x="211" y="141"/>
                  </a:lnTo>
                  <a:lnTo>
                    <a:pt x="207" y="109"/>
                  </a:lnTo>
                  <a:lnTo>
                    <a:pt x="202" y="83"/>
                  </a:lnTo>
                  <a:lnTo>
                    <a:pt x="194" y="62"/>
                  </a:lnTo>
                  <a:lnTo>
                    <a:pt x="185" y="52"/>
                  </a:lnTo>
                  <a:lnTo>
                    <a:pt x="177" y="53"/>
                  </a:lnTo>
                  <a:lnTo>
                    <a:pt x="164" y="56"/>
                  </a:lnTo>
                  <a:lnTo>
                    <a:pt x="140" y="69"/>
                  </a:lnTo>
                  <a:lnTo>
                    <a:pt x="116" y="84"/>
                  </a:lnTo>
                  <a:lnTo>
                    <a:pt x="99" y="98"/>
                  </a:lnTo>
                  <a:lnTo>
                    <a:pt x="8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3" name=""/>
          <p:cNvGrpSpPr/>
          <p:nvPr/>
        </p:nvGrpSpPr>
        <p:grpSpPr>
          <a:xfrm>
            <a:off x="1066680" y="4876920"/>
            <a:ext cx="7010640" cy="1068120"/>
            <a:chOff x="1066680" y="4876920"/>
            <a:chExt cx="7010640" cy="1068120"/>
          </a:xfrm>
        </p:grpSpPr>
        <p:sp>
          <p:nvSpPr>
            <p:cNvPr id="1354" name=""/>
            <p:cNvSpPr/>
            <p:nvPr/>
          </p:nvSpPr>
          <p:spPr>
            <a:xfrm>
              <a:off x="64771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76960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16002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28195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40384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1066680" y="5181480"/>
              <a:ext cx="70106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58672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70866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220968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34290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525780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4648320" y="48769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44841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1367" name=""/>
            <p:cNvSpPr/>
            <p:nvPr/>
          </p:nvSpPr>
          <p:spPr>
            <a:xfrm>
              <a:off x="504612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sp>
          <p:nvSpPr>
            <p:cNvPr id="1368" name=""/>
            <p:cNvSpPr/>
            <p:nvPr/>
          </p:nvSpPr>
          <p:spPr>
            <a:xfrm>
              <a:off x="57034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369" name=""/>
            <p:cNvSpPr/>
            <p:nvPr/>
          </p:nvSpPr>
          <p:spPr>
            <a:xfrm>
              <a:off x="692244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370" name=""/>
            <p:cNvSpPr/>
            <p:nvPr/>
          </p:nvSpPr>
          <p:spPr>
            <a:xfrm>
              <a:off x="631296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371" name=""/>
            <p:cNvSpPr/>
            <p:nvPr/>
          </p:nvSpPr>
          <p:spPr>
            <a:xfrm>
              <a:off x="7532280" y="5424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372" name=""/>
            <p:cNvSpPr/>
            <p:nvPr/>
          </p:nvSpPr>
          <p:spPr>
            <a:xfrm>
              <a:off x="11430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p:txBody>
        </p:sp>
        <p:sp>
          <p:nvSpPr>
            <p:cNvPr id="1373" name=""/>
            <p:cNvSpPr/>
            <p:nvPr/>
          </p:nvSpPr>
          <p:spPr>
            <a:xfrm>
              <a:off x="3124080" y="5424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p:txBody>
        </p:sp>
        <p:sp>
          <p:nvSpPr>
            <p:cNvPr id="1374" name=""/>
            <p:cNvSpPr/>
            <p:nvPr/>
          </p:nvSpPr>
          <p:spPr>
            <a:xfrm>
              <a:off x="18288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p:txBody>
        </p:sp>
        <p:sp>
          <p:nvSpPr>
            <p:cNvPr id="1375" name=""/>
            <p:cNvSpPr/>
            <p:nvPr/>
          </p:nvSpPr>
          <p:spPr>
            <a:xfrm>
              <a:off x="2514600" y="54244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p:txBody>
        </p:sp>
        <p:sp>
          <p:nvSpPr>
            <p:cNvPr id="1376" name=""/>
            <p:cNvSpPr/>
            <p:nvPr/>
          </p:nvSpPr>
          <p:spPr>
            <a:xfrm>
              <a:off x="3733920" y="54244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p:txBody>
        </p:sp>
      </p:grpSp>
      <p:sp>
        <p:nvSpPr>
          <p:cNvPr id="1377" name=""/>
          <p:cNvSpPr/>
          <p:nvPr/>
        </p:nvSpPr>
        <p:spPr>
          <a:xfrm>
            <a:off x="3429000" y="1295280"/>
            <a:ext cx="2209680" cy="1828800"/>
          </a:xfrm>
          <a:prstGeom prst="ellipse">
            <a:avLst/>
          </a:pr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dissolve/>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7" presetSubtype="4">
                                  <p:stCondLst>
                                    <p:cond delay="0"/>
                                  </p:stCondLst>
                                  <p:childTnLst>
                                    <p:set>
                                      <p:cBhvr>
                                        <p:cTn id="249" dur="1" fill="hold">
                                          <p:stCondLst>
                                            <p:cond delay="0"/>
                                          </p:stCondLst>
                                        </p:cTn>
                                        <p:tgtEl>
                                          <p:spTgt spid="1344"/>
                                        </p:tgtEl>
                                        <p:attrNameLst>
                                          <p:attrName>style.visibility</p:attrName>
                                        </p:attrNameLst>
                                      </p:cBhvr>
                                      <p:to>
                                        <p:strVal val="visible"/>
                                      </p:to>
                                    </p:set>
                                    <p:anim calcmode="lin" valueType="num">
                                      <p:cBhvr additive="repl">
                                        <p:cTn id="250" dur="500" fill="hold"/>
                                        <p:tgtEl>
                                          <p:spTgt spid="1344"/>
                                        </p:tgtEl>
                                        <p:attrNameLst>
                                          <p:attrName>ppt_x</p:attrName>
                                        </p:attrNameLst>
                                      </p:cBhvr>
                                      <p:tavLst>
                                        <p:tav tm="0">
                                          <p:val>
                                            <p:strVal val="#ppt_x"/>
                                          </p:val>
                                        </p:tav>
                                        <p:tav tm="100000">
                                          <p:val>
                                            <p:strVal val="#ppt_x"/>
                                          </p:val>
                                        </p:tav>
                                      </p:tavLst>
                                    </p:anim>
                                    <p:anim calcmode="lin" valueType="num">
                                      <p:cBhvr additive="repl">
                                        <p:cTn id="251" dur="500" fill="hold"/>
                                        <p:tgtEl>
                                          <p:spTgt spid="1344"/>
                                        </p:tgtEl>
                                        <p:attrNameLst>
                                          <p:attrName>ppt_y</p:attrName>
                                        </p:attrNameLst>
                                      </p:cBhvr>
                                      <p:tavLst>
                                        <p:tav tm="0">
                                          <p:val>
                                            <p:strVal val="#ppt_y+#ppt_h/2"/>
                                          </p:val>
                                        </p:tav>
                                        <p:tav tm="100000">
                                          <p:val>
                                            <p:strVal val="#ppt_y"/>
                                          </p:val>
                                        </p:tav>
                                      </p:tavLst>
                                    </p:anim>
                                    <p:anim calcmode="lin" valueType="num">
                                      <p:cBhvr additive="repl">
                                        <p:cTn id="252" dur="500" fill="hold"/>
                                        <p:tgtEl>
                                          <p:spTgt spid="1344"/>
                                        </p:tgtEl>
                                        <p:attrNameLst>
                                          <p:attrName>ppt_w</p:attrName>
                                        </p:attrNameLst>
                                      </p:cBhvr>
                                      <p:tavLst>
                                        <p:tav tm="0">
                                          <p:val>
                                            <p:strVal val="#ppt_w"/>
                                          </p:val>
                                        </p:tav>
                                        <p:tav tm="100000">
                                          <p:val>
                                            <p:strVal val="#ppt_w"/>
                                          </p:val>
                                        </p:tav>
                                      </p:tavLst>
                                    </p:anim>
                                    <p:anim calcmode="lin" valueType="num">
                                      <p:cBhvr additive="repl">
                                        <p:cTn id="253" dur="500" fill="hold"/>
                                        <p:tgtEl>
                                          <p:spTgt spid="13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grpSp>
        <p:nvGrpSpPr>
          <p:cNvPr id="1379" name=""/>
          <p:cNvGrpSpPr/>
          <p:nvPr/>
        </p:nvGrpSpPr>
        <p:grpSpPr>
          <a:xfrm>
            <a:off x="693720" y="2986200"/>
            <a:ext cx="7913880" cy="3262320"/>
            <a:chOff x="693720" y="2986200"/>
            <a:chExt cx="7913880" cy="3262320"/>
          </a:xfrm>
        </p:grpSpPr>
        <p:grpSp>
          <p:nvGrpSpPr>
            <p:cNvPr id="1380" name=""/>
            <p:cNvGrpSpPr/>
            <p:nvPr/>
          </p:nvGrpSpPr>
          <p:grpSpPr>
            <a:xfrm>
              <a:off x="693720" y="3657600"/>
              <a:ext cx="7913880" cy="2590920"/>
              <a:chOff x="693720" y="3657600"/>
              <a:chExt cx="7913880" cy="2590920"/>
            </a:xfrm>
          </p:grpSpPr>
          <p:grpSp>
            <p:nvGrpSpPr>
              <p:cNvPr id="1381" name=""/>
              <p:cNvGrpSpPr/>
              <p:nvPr/>
            </p:nvGrpSpPr>
            <p:grpSpPr>
              <a:xfrm>
                <a:off x="693720" y="4892760"/>
                <a:ext cx="7913880" cy="1355760"/>
                <a:chOff x="693720" y="4892760"/>
                <a:chExt cx="7913880" cy="1355760"/>
              </a:xfrm>
            </p:grpSpPr>
            <p:grpSp>
              <p:nvGrpSpPr>
                <p:cNvPr id="1382" name=""/>
                <p:cNvGrpSpPr/>
                <p:nvPr/>
              </p:nvGrpSpPr>
              <p:grpSpPr>
                <a:xfrm>
                  <a:off x="693720" y="4892760"/>
                  <a:ext cx="7913880" cy="1355760"/>
                  <a:chOff x="693720" y="4892760"/>
                  <a:chExt cx="7913880" cy="1355760"/>
                </a:xfrm>
              </p:grpSpPr>
              <p:grpSp>
                <p:nvGrpSpPr>
                  <p:cNvPr id="1383" name=""/>
                  <p:cNvGrpSpPr/>
                  <p:nvPr/>
                </p:nvGrpSpPr>
                <p:grpSpPr>
                  <a:xfrm>
                    <a:off x="693720" y="4892760"/>
                    <a:ext cx="7913880" cy="1355760"/>
                    <a:chOff x="693720" y="4892760"/>
                    <a:chExt cx="7913880" cy="1355760"/>
                  </a:xfrm>
                </p:grpSpPr>
                <p:sp>
                  <p:nvSpPr>
                    <p:cNvPr id="1384" name=""/>
                    <p:cNvSpPr/>
                    <p:nvPr/>
                  </p:nvSpPr>
                  <p:spPr>
                    <a:xfrm>
                      <a:off x="693720" y="4892760"/>
                      <a:ext cx="7913880" cy="403200"/>
                    </a:xfrm>
                    <a:custGeom>
                      <a:avLst/>
                      <a:gdLst/>
                      <a:ahLst/>
                      <a:rect l="l" t="t" r="r" b="b"/>
                      <a:pathLst>
                        <a:path w="4985" h="254">
                          <a:moveTo>
                            <a:pt x="0" y="253"/>
                          </a:moveTo>
                          <a:lnTo>
                            <a:pt x="0" y="111"/>
                          </a:lnTo>
                          <a:lnTo>
                            <a:pt x="163" y="96"/>
                          </a:lnTo>
                          <a:lnTo>
                            <a:pt x="308" y="47"/>
                          </a:lnTo>
                          <a:lnTo>
                            <a:pt x="687" y="87"/>
                          </a:lnTo>
                          <a:lnTo>
                            <a:pt x="921" y="0"/>
                          </a:lnTo>
                          <a:lnTo>
                            <a:pt x="1101" y="48"/>
                          </a:lnTo>
                          <a:lnTo>
                            <a:pt x="1173" y="64"/>
                          </a:lnTo>
                          <a:lnTo>
                            <a:pt x="1340" y="98"/>
                          </a:lnTo>
                          <a:lnTo>
                            <a:pt x="1499" y="82"/>
                          </a:lnTo>
                          <a:lnTo>
                            <a:pt x="1763" y="166"/>
                          </a:lnTo>
                          <a:lnTo>
                            <a:pt x="1934" y="105"/>
                          </a:lnTo>
                          <a:lnTo>
                            <a:pt x="2114" y="167"/>
                          </a:lnTo>
                          <a:lnTo>
                            <a:pt x="2367" y="54"/>
                          </a:lnTo>
                          <a:lnTo>
                            <a:pt x="2482" y="149"/>
                          </a:lnTo>
                          <a:lnTo>
                            <a:pt x="2779" y="85"/>
                          </a:lnTo>
                          <a:lnTo>
                            <a:pt x="2820" y="178"/>
                          </a:lnTo>
                          <a:lnTo>
                            <a:pt x="3052" y="67"/>
                          </a:lnTo>
                          <a:lnTo>
                            <a:pt x="3345" y="127"/>
                          </a:lnTo>
                          <a:lnTo>
                            <a:pt x="3524" y="63"/>
                          </a:lnTo>
                          <a:lnTo>
                            <a:pt x="3642" y="63"/>
                          </a:lnTo>
                          <a:lnTo>
                            <a:pt x="3829" y="111"/>
                          </a:lnTo>
                          <a:lnTo>
                            <a:pt x="4091" y="33"/>
                          </a:lnTo>
                          <a:lnTo>
                            <a:pt x="4463" y="123"/>
                          </a:lnTo>
                          <a:lnTo>
                            <a:pt x="4682" y="94"/>
                          </a:lnTo>
                          <a:lnTo>
                            <a:pt x="4893" y="118"/>
                          </a:lnTo>
                          <a:lnTo>
                            <a:pt x="4985" y="102"/>
                          </a:lnTo>
                          <a:lnTo>
                            <a:pt x="4985" y="254"/>
                          </a:lnTo>
                          <a:lnTo>
                            <a:pt x="0" y="253"/>
                          </a:lnTo>
                          <a:close/>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693720" y="5294520"/>
                      <a:ext cx="7913880" cy="954000"/>
                    </a:xfrm>
                    <a:custGeom>
                      <a:avLst/>
                      <a:gdLst/>
                      <a:ahLst/>
                      <a:rect l="l" t="t" r="r" b="b"/>
                      <a:pathLst>
                        <a:path w="4985" h="601">
                          <a:moveTo>
                            <a:pt x="0" y="0"/>
                          </a:moveTo>
                          <a:lnTo>
                            <a:pt x="0" y="601"/>
                          </a:lnTo>
                          <a:lnTo>
                            <a:pt x="4985" y="597"/>
                          </a:lnTo>
                          <a:lnTo>
                            <a:pt x="4985" y="1"/>
                          </a:lnTo>
                          <a:lnTo>
                            <a:pt x="0" y="0"/>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6" name=""/>
                  <p:cNvGrpSpPr/>
                  <p:nvPr/>
                </p:nvGrpSpPr>
                <p:grpSpPr>
                  <a:xfrm>
                    <a:off x="828720" y="5532480"/>
                    <a:ext cx="7742160" cy="621000"/>
                    <a:chOff x="828720" y="5532480"/>
                    <a:chExt cx="7742160" cy="621000"/>
                  </a:xfrm>
                </p:grpSpPr>
                <p:sp>
                  <p:nvSpPr>
                    <p:cNvPr id="1387" name=""/>
                    <p:cNvSpPr/>
                    <p:nvPr/>
                  </p:nvSpPr>
                  <p:spPr>
                    <a:xfrm>
                      <a:off x="903240" y="5954760"/>
                      <a:ext cx="773280" cy="81000"/>
                    </a:xfrm>
                    <a:custGeom>
                      <a:avLst/>
                      <a:gdLst/>
                      <a:ahLst/>
                      <a:rect l="l" t="t" r="r" b="b"/>
                      <a:pathLst>
                        <a:path w="487" h="51">
                          <a:moveTo>
                            <a:pt x="151" y="0"/>
                          </a:moveTo>
                          <a:lnTo>
                            <a:pt x="118" y="4"/>
                          </a:lnTo>
                          <a:lnTo>
                            <a:pt x="83" y="5"/>
                          </a:lnTo>
                          <a:lnTo>
                            <a:pt x="38" y="13"/>
                          </a:lnTo>
                          <a:lnTo>
                            <a:pt x="11" y="24"/>
                          </a:lnTo>
                          <a:lnTo>
                            <a:pt x="0" y="38"/>
                          </a:lnTo>
                          <a:lnTo>
                            <a:pt x="56" y="46"/>
                          </a:lnTo>
                          <a:lnTo>
                            <a:pt x="127" y="51"/>
                          </a:lnTo>
                          <a:lnTo>
                            <a:pt x="185" y="42"/>
                          </a:lnTo>
                          <a:lnTo>
                            <a:pt x="285" y="43"/>
                          </a:lnTo>
                          <a:lnTo>
                            <a:pt x="398" y="48"/>
                          </a:lnTo>
                          <a:lnTo>
                            <a:pt x="487" y="42"/>
                          </a:lnTo>
                        </a:path>
                      </a:pathLst>
                    </a:custGeom>
                    <a:noFill/>
                    <a:ln w="176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8" name=""/>
                    <p:cNvSpPr/>
                    <p:nvPr/>
                  </p:nvSpPr>
                  <p:spPr>
                    <a:xfrm>
                      <a:off x="828720" y="6045480"/>
                      <a:ext cx="611280" cy="25200"/>
                    </a:xfrm>
                    <a:custGeom>
                      <a:avLst/>
                      <a:gdLst/>
                      <a:ahLst/>
                      <a:rect l="l" t="t" r="r" b="b"/>
                      <a:pathLst>
                        <a:path w="385" h="16">
                          <a:moveTo>
                            <a:pt x="0" y="11"/>
                          </a:moveTo>
                          <a:lnTo>
                            <a:pt x="56" y="14"/>
                          </a:lnTo>
                          <a:lnTo>
                            <a:pt x="165" y="16"/>
                          </a:lnTo>
                          <a:lnTo>
                            <a:pt x="212" y="7"/>
                          </a:lnTo>
                          <a:lnTo>
                            <a:pt x="254" y="14"/>
                          </a:lnTo>
                          <a:lnTo>
                            <a:pt x="317" y="7"/>
                          </a:lnTo>
                          <a:lnTo>
                            <a:pt x="385" y="0"/>
                          </a:lnTo>
                        </a:path>
                      </a:pathLst>
                    </a:custGeom>
                    <a:noFill/>
                    <a:ln w="1764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9" name=""/>
                    <p:cNvSpPr/>
                    <p:nvPr/>
                  </p:nvSpPr>
                  <p:spPr>
                    <a:xfrm>
                      <a:off x="1682640" y="5689800"/>
                      <a:ext cx="689040" cy="31680"/>
                    </a:xfrm>
                    <a:custGeom>
                      <a:avLst/>
                      <a:gdLst/>
                      <a:ahLst/>
                      <a:rect l="l" t="t" r="r" b="b"/>
                      <a:pathLst>
                        <a:path w="434" h="20">
                          <a:moveTo>
                            <a:pt x="0" y="14"/>
                          </a:moveTo>
                          <a:lnTo>
                            <a:pt x="135" y="20"/>
                          </a:lnTo>
                          <a:lnTo>
                            <a:pt x="184" y="7"/>
                          </a:lnTo>
                          <a:lnTo>
                            <a:pt x="268" y="6"/>
                          </a:lnTo>
                          <a:lnTo>
                            <a:pt x="316" y="15"/>
                          </a:lnTo>
                          <a:lnTo>
                            <a:pt x="358" y="10"/>
                          </a:lnTo>
                          <a:lnTo>
                            <a:pt x="434" y="0"/>
                          </a:lnTo>
                        </a:path>
                      </a:pathLst>
                    </a:custGeom>
                    <a:noFill/>
                    <a:ln w="1764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0" name=""/>
                    <p:cNvSpPr/>
                    <p:nvPr/>
                  </p:nvSpPr>
                  <p:spPr>
                    <a:xfrm>
                      <a:off x="2093760" y="5705640"/>
                      <a:ext cx="225720" cy="92160"/>
                    </a:xfrm>
                    <a:custGeom>
                      <a:avLst/>
                      <a:gdLst/>
                      <a:ahLst/>
                      <a:rect l="l" t="t" r="r" b="b"/>
                      <a:pathLst>
                        <a:path w="142" h="58">
                          <a:moveTo>
                            <a:pt x="0" y="58"/>
                          </a:moveTo>
                          <a:lnTo>
                            <a:pt x="27" y="45"/>
                          </a:lnTo>
                          <a:lnTo>
                            <a:pt x="61" y="37"/>
                          </a:lnTo>
                          <a:lnTo>
                            <a:pt x="87" y="33"/>
                          </a:lnTo>
                          <a:lnTo>
                            <a:pt x="110" y="26"/>
                          </a:lnTo>
                          <a:lnTo>
                            <a:pt x="129" y="12"/>
                          </a:lnTo>
                          <a:lnTo>
                            <a:pt x="142" y="0"/>
                          </a:lnTo>
                        </a:path>
                      </a:pathLst>
                    </a:custGeom>
                    <a:noFill/>
                    <a:ln w="17640">
                      <a:solidFill>
                        <a:srgbClr val="ff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1" name=""/>
                    <p:cNvSpPr/>
                    <p:nvPr/>
                  </p:nvSpPr>
                  <p:spPr>
                    <a:xfrm>
                      <a:off x="2525760" y="5551560"/>
                      <a:ext cx="609480" cy="306360"/>
                    </a:xfrm>
                    <a:custGeom>
                      <a:avLst/>
                      <a:gdLst/>
                      <a:ahLst/>
                      <a:rect l="l" t="t" r="r" b="b"/>
                      <a:pathLst>
                        <a:path w="384" h="193">
                          <a:moveTo>
                            <a:pt x="145" y="0"/>
                          </a:moveTo>
                          <a:lnTo>
                            <a:pt x="87" y="15"/>
                          </a:lnTo>
                          <a:lnTo>
                            <a:pt x="50" y="24"/>
                          </a:lnTo>
                          <a:lnTo>
                            <a:pt x="22" y="39"/>
                          </a:lnTo>
                          <a:lnTo>
                            <a:pt x="0" y="50"/>
                          </a:lnTo>
                          <a:lnTo>
                            <a:pt x="5" y="75"/>
                          </a:lnTo>
                          <a:lnTo>
                            <a:pt x="21" y="102"/>
                          </a:lnTo>
                          <a:lnTo>
                            <a:pt x="76" y="107"/>
                          </a:lnTo>
                          <a:lnTo>
                            <a:pt x="134" y="111"/>
                          </a:lnTo>
                          <a:lnTo>
                            <a:pt x="168" y="118"/>
                          </a:lnTo>
                          <a:lnTo>
                            <a:pt x="217" y="130"/>
                          </a:lnTo>
                          <a:lnTo>
                            <a:pt x="258" y="137"/>
                          </a:lnTo>
                          <a:lnTo>
                            <a:pt x="319" y="143"/>
                          </a:lnTo>
                          <a:lnTo>
                            <a:pt x="291" y="168"/>
                          </a:lnTo>
                          <a:lnTo>
                            <a:pt x="269" y="188"/>
                          </a:lnTo>
                          <a:lnTo>
                            <a:pt x="334" y="193"/>
                          </a:lnTo>
                          <a:lnTo>
                            <a:pt x="384" y="190"/>
                          </a:lnTo>
                        </a:path>
                      </a:pathLst>
                    </a:custGeom>
                    <a:noFill/>
                    <a:ln w="176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2868480" y="5572440"/>
                      <a:ext cx="2211480" cy="326880"/>
                    </a:xfrm>
                    <a:custGeom>
                      <a:avLst/>
                      <a:gdLst/>
                      <a:ahLst/>
                      <a:rect l="l" t="t" r="r" b="b"/>
                      <a:pathLst>
                        <a:path w="1393" h="206">
                          <a:moveTo>
                            <a:pt x="193" y="0"/>
                          </a:moveTo>
                          <a:lnTo>
                            <a:pt x="119" y="2"/>
                          </a:lnTo>
                          <a:lnTo>
                            <a:pt x="66" y="7"/>
                          </a:lnTo>
                          <a:lnTo>
                            <a:pt x="28" y="17"/>
                          </a:lnTo>
                          <a:lnTo>
                            <a:pt x="9" y="32"/>
                          </a:lnTo>
                          <a:lnTo>
                            <a:pt x="0" y="51"/>
                          </a:lnTo>
                          <a:lnTo>
                            <a:pt x="9" y="66"/>
                          </a:lnTo>
                          <a:lnTo>
                            <a:pt x="33" y="74"/>
                          </a:lnTo>
                          <a:lnTo>
                            <a:pt x="81" y="81"/>
                          </a:lnTo>
                          <a:lnTo>
                            <a:pt x="113" y="83"/>
                          </a:lnTo>
                          <a:lnTo>
                            <a:pt x="146" y="82"/>
                          </a:lnTo>
                          <a:lnTo>
                            <a:pt x="165" y="83"/>
                          </a:lnTo>
                          <a:lnTo>
                            <a:pt x="173" y="96"/>
                          </a:lnTo>
                          <a:lnTo>
                            <a:pt x="174" y="108"/>
                          </a:lnTo>
                          <a:lnTo>
                            <a:pt x="207" y="115"/>
                          </a:lnTo>
                          <a:lnTo>
                            <a:pt x="295" y="125"/>
                          </a:lnTo>
                          <a:lnTo>
                            <a:pt x="314" y="121"/>
                          </a:lnTo>
                          <a:lnTo>
                            <a:pt x="339" y="118"/>
                          </a:lnTo>
                          <a:lnTo>
                            <a:pt x="372" y="123"/>
                          </a:lnTo>
                          <a:lnTo>
                            <a:pt x="404" y="127"/>
                          </a:lnTo>
                          <a:lnTo>
                            <a:pt x="435" y="130"/>
                          </a:lnTo>
                          <a:lnTo>
                            <a:pt x="432" y="143"/>
                          </a:lnTo>
                          <a:lnTo>
                            <a:pt x="420" y="158"/>
                          </a:lnTo>
                          <a:lnTo>
                            <a:pt x="476" y="173"/>
                          </a:lnTo>
                          <a:lnTo>
                            <a:pt x="626" y="206"/>
                          </a:lnTo>
                          <a:lnTo>
                            <a:pt x="805" y="202"/>
                          </a:lnTo>
                          <a:lnTo>
                            <a:pt x="1091" y="182"/>
                          </a:lnTo>
                          <a:lnTo>
                            <a:pt x="1140" y="157"/>
                          </a:lnTo>
                          <a:lnTo>
                            <a:pt x="1261" y="154"/>
                          </a:lnTo>
                          <a:lnTo>
                            <a:pt x="1393" y="167"/>
                          </a:lnTo>
                        </a:path>
                      </a:pathLst>
                    </a:custGeom>
                    <a:noFill/>
                    <a:ln w="176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4757760" y="5821560"/>
                      <a:ext cx="1538280" cy="109440"/>
                    </a:xfrm>
                    <a:custGeom>
                      <a:avLst/>
                      <a:gdLst/>
                      <a:ahLst/>
                      <a:rect l="l" t="t" r="r" b="b"/>
                      <a:pathLst>
                        <a:path w="969" h="69">
                          <a:moveTo>
                            <a:pt x="0" y="63"/>
                          </a:moveTo>
                          <a:lnTo>
                            <a:pt x="33" y="55"/>
                          </a:lnTo>
                          <a:lnTo>
                            <a:pt x="69" y="49"/>
                          </a:lnTo>
                          <a:lnTo>
                            <a:pt x="123" y="58"/>
                          </a:lnTo>
                          <a:lnTo>
                            <a:pt x="186" y="69"/>
                          </a:lnTo>
                          <a:lnTo>
                            <a:pt x="250" y="64"/>
                          </a:lnTo>
                          <a:lnTo>
                            <a:pt x="299" y="62"/>
                          </a:lnTo>
                          <a:lnTo>
                            <a:pt x="326" y="57"/>
                          </a:lnTo>
                          <a:lnTo>
                            <a:pt x="375" y="51"/>
                          </a:lnTo>
                          <a:lnTo>
                            <a:pt x="420" y="47"/>
                          </a:lnTo>
                          <a:lnTo>
                            <a:pt x="492" y="50"/>
                          </a:lnTo>
                          <a:lnTo>
                            <a:pt x="551" y="54"/>
                          </a:lnTo>
                          <a:lnTo>
                            <a:pt x="577" y="55"/>
                          </a:lnTo>
                          <a:lnTo>
                            <a:pt x="662" y="40"/>
                          </a:lnTo>
                          <a:lnTo>
                            <a:pt x="757" y="25"/>
                          </a:lnTo>
                          <a:lnTo>
                            <a:pt x="861" y="25"/>
                          </a:lnTo>
                          <a:lnTo>
                            <a:pt x="969" y="0"/>
                          </a:lnTo>
                        </a:path>
                      </a:pathLst>
                    </a:custGeom>
                    <a:noFill/>
                    <a:ln w="176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5440320" y="5561280"/>
                      <a:ext cx="1087560" cy="260280"/>
                    </a:xfrm>
                    <a:custGeom>
                      <a:avLst/>
                      <a:gdLst/>
                      <a:ahLst/>
                      <a:rect l="l" t="t" r="r" b="b"/>
                      <a:pathLst>
                        <a:path w="685" h="164">
                          <a:moveTo>
                            <a:pt x="0" y="164"/>
                          </a:moveTo>
                          <a:lnTo>
                            <a:pt x="80" y="157"/>
                          </a:lnTo>
                          <a:lnTo>
                            <a:pt x="130" y="153"/>
                          </a:lnTo>
                          <a:lnTo>
                            <a:pt x="198" y="141"/>
                          </a:lnTo>
                          <a:lnTo>
                            <a:pt x="300" y="137"/>
                          </a:lnTo>
                          <a:lnTo>
                            <a:pt x="420" y="126"/>
                          </a:lnTo>
                          <a:lnTo>
                            <a:pt x="504" y="119"/>
                          </a:lnTo>
                          <a:lnTo>
                            <a:pt x="563" y="100"/>
                          </a:lnTo>
                          <a:lnTo>
                            <a:pt x="599" y="93"/>
                          </a:lnTo>
                          <a:lnTo>
                            <a:pt x="621" y="89"/>
                          </a:lnTo>
                          <a:lnTo>
                            <a:pt x="674" y="59"/>
                          </a:lnTo>
                          <a:lnTo>
                            <a:pt x="684" y="45"/>
                          </a:lnTo>
                          <a:lnTo>
                            <a:pt x="685" y="33"/>
                          </a:lnTo>
                          <a:lnTo>
                            <a:pt x="677" y="25"/>
                          </a:lnTo>
                          <a:lnTo>
                            <a:pt x="662" y="18"/>
                          </a:lnTo>
                          <a:lnTo>
                            <a:pt x="630" y="18"/>
                          </a:lnTo>
                          <a:lnTo>
                            <a:pt x="594" y="7"/>
                          </a:lnTo>
                          <a:lnTo>
                            <a:pt x="544" y="0"/>
                          </a:lnTo>
                          <a:lnTo>
                            <a:pt x="479" y="0"/>
                          </a:lnTo>
                        </a:path>
                      </a:pathLst>
                    </a:custGeom>
                    <a:noFill/>
                    <a:ln w="176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6575400" y="5532480"/>
                      <a:ext cx="287280" cy="247680"/>
                    </a:xfrm>
                    <a:custGeom>
                      <a:avLst/>
                      <a:gdLst/>
                      <a:ahLst/>
                      <a:rect l="l" t="t" r="r" b="b"/>
                      <a:pathLst>
                        <a:path w="181" h="156">
                          <a:moveTo>
                            <a:pt x="40" y="156"/>
                          </a:moveTo>
                          <a:lnTo>
                            <a:pt x="95" y="129"/>
                          </a:lnTo>
                          <a:lnTo>
                            <a:pt x="148" y="107"/>
                          </a:lnTo>
                          <a:lnTo>
                            <a:pt x="137" y="93"/>
                          </a:lnTo>
                          <a:lnTo>
                            <a:pt x="129" y="73"/>
                          </a:lnTo>
                          <a:lnTo>
                            <a:pt x="151" y="51"/>
                          </a:lnTo>
                          <a:lnTo>
                            <a:pt x="181" y="33"/>
                          </a:lnTo>
                          <a:lnTo>
                            <a:pt x="142" y="19"/>
                          </a:lnTo>
                          <a:lnTo>
                            <a:pt x="88" y="0"/>
                          </a:lnTo>
                          <a:lnTo>
                            <a:pt x="0" y="6"/>
                          </a:lnTo>
                        </a:path>
                      </a:pathLst>
                    </a:custGeom>
                    <a:noFill/>
                    <a:ln w="176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7259760" y="5739120"/>
                      <a:ext cx="636480" cy="28440"/>
                    </a:xfrm>
                    <a:custGeom>
                      <a:avLst/>
                      <a:gdLst/>
                      <a:ahLst/>
                      <a:rect l="l" t="t" r="r" b="b"/>
                      <a:pathLst>
                        <a:path w="401" h="18">
                          <a:moveTo>
                            <a:pt x="0" y="3"/>
                          </a:moveTo>
                          <a:lnTo>
                            <a:pt x="43" y="0"/>
                          </a:lnTo>
                          <a:lnTo>
                            <a:pt x="71" y="4"/>
                          </a:lnTo>
                          <a:lnTo>
                            <a:pt x="151" y="18"/>
                          </a:lnTo>
                          <a:lnTo>
                            <a:pt x="187" y="15"/>
                          </a:lnTo>
                          <a:lnTo>
                            <a:pt x="230" y="13"/>
                          </a:lnTo>
                          <a:lnTo>
                            <a:pt x="401" y="16"/>
                          </a:lnTo>
                        </a:path>
                      </a:pathLst>
                    </a:custGeom>
                    <a:noFill/>
                    <a:ln w="17640">
                      <a:solidFill>
                        <a:srgbClr val="ffff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97" name=""/>
                    <p:cNvSpPr/>
                    <p:nvPr/>
                  </p:nvSpPr>
                  <p:spPr>
                    <a:xfrm>
                      <a:off x="7099200" y="5776920"/>
                      <a:ext cx="677880" cy="43200"/>
                    </a:xfrm>
                    <a:custGeom>
                      <a:avLst/>
                      <a:gdLst/>
                      <a:ahLst/>
                      <a:rect l="l" t="t" r="r" b="b"/>
                      <a:pathLst>
                        <a:path w="427" h="27">
                          <a:moveTo>
                            <a:pt x="0" y="5"/>
                          </a:moveTo>
                          <a:lnTo>
                            <a:pt x="45" y="0"/>
                          </a:lnTo>
                          <a:lnTo>
                            <a:pt x="92" y="1"/>
                          </a:lnTo>
                          <a:lnTo>
                            <a:pt x="129" y="9"/>
                          </a:lnTo>
                          <a:lnTo>
                            <a:pt x="158" y="16"/>
                          </a:lnTo>
                          <a:lnTo>
                            <a:pt x="194" y="12"/>
                          </a:lnTo>
                          <a:lnTo>
                            <a:pt x="254" y="10"/>
                          </a:lnTo>
                          <a:lnTo>
                            <a:pt x="309" y="14"/>
                          </a:lnTo>
                          <a:lnTo>
                            <a:pt x="361" y="22"/>
                          </a:lnTo>
                          <a:lnTo>
                            <a:pt x="402" y="24"/>
                          </a:lnTo>
                          <a:lnTo>
                            <a:pt x="427" y="27"/>
                          </a:lnTo>
                        </a:path>
                      </a:pathLst>
                    </a:custGeom>
                    <a:noFill/>
                    <a:ln w="17640">
                      <a:solidFill>
                        <a:srgbClr val="ffffff"/>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98" name=""/>
                    <p:cNvSpPr/>
                    <p:nvPr/>
                  </p:nvSpPr>
                  <p:spPr>
                    <a:xfrm>
                      <a:off x="7192800" y="5823000"/>
                      <a:ext cx="854280" cy="330480"/>
                    </a:xfrm>
                    <a:custGeom>
                      <a:avLst/>
                      <a:gdLst/>
                      <a:ahLst/>
                      <a:rect l="l" t="t" r="r" b="b"/>
                      <a:pathLst>
                        <a:path w="538" h="208">
                          <a:moveTo>
                            <a:pt x="0" y="0"/>
                          </a:moveTo>
                          <a:lnTo>
                            <a:pt x="75" y="22"/>
                          </a:lnTo>
                          <a:lnTo>
                            <a:pt x="119" y="36"/>
                          </a:lnTo>
                          <a:lnTo>
                            <a:pt x="151" y="49"/>
                          </a:lnTo>
                          <a:lnTo>
                            <a:pt x="193" y="65"/>
                          </a:lnTo>
                          <a:lnTo>
                            <a:pt x="228" y="88"/>
                          </a:lnTo>
                          <a:lnTo>
                            <a:pt x="283" y="119"/>
                          </a:lnTo>
                          <a:lnTo>
                            <a:pt x="339" y="128"/>
                          </a:lnTo>
                          <a:lnTo>
                            <a:pt x="396" y="137"/>
                          </a:lnTo>
                          <a:lnTo>
                            <a:pt x="443" y="169"/>
                          </a:lnTo>
                          <a:lnTo>
                            <a:pt x="538" y="208"/>
                          </a:lnTo>
                        </a:path>
                      </a:pathLst>
                    </a:custGeom>
                    <a:noFill/>
                    <a:ln w="176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8143920" y="5977080"/>
                      <a:ext cx="426960" cy="111240"/>
                    </a:xfrm>
                    <a:custGeom>
                      <a:avLst/>
                      <a:gdLst/>
                      <a:ahLst/>
                      <a:rect l="l" t="t" r="r" b="b"/>
                      <a:pathLst>
                        <a:path w="269" h="70">
                          <a:moveTo>
                            <a:pt x="0" y="47"/>
                          </a:moveTo>
                          <a:lnTo>
                            <a:pt x="36" y="49"/>
                          </a:lnTo>
                          <a:lnTo>
                            <a:pt x="71" y="52"/>
                          </a:lnTo>
                          <a:lnTo>
                            <a:pt x="105" y="55"/>
                          </a:lnTo>
                          <a:lnTo>
                            <a:pt x="151" y="57"/>
                          </a:lnTo>
                          <a:lnTo>
                            <a:pt x="212" y="70"/>
                          </a:lnTo>
                          <a:lnTo>
                            <a:pt x="230" y="65"/>
                          </a:lnTo>
                          <a:lnTo>
                            <a:pt x="253" y="60"/>
                          </a:lnTo>
                          <a:lnTo>
                            <a:pt x="264" y="53"/>
                          </a:lnTo>
                          <a:lnTo>
                            <a:pt x="269" y="37"/>
                          </a:lnTo>
                          <a:lnTo>
                            <a:pt x="264" y="24"/>
                          </a:lnTo>
                          <a:lnTo>
                            <a:pt x="256" y="13"/>
                          </a:lnTo>
                          <a:lnTo>
                            <a:pt x="242" y="0"/>
                          </a:lnTo>
                        </a:path>
                      </a:pathLst>
                    </a:custGeom>
                    <a:noFill/>
                    <a:ln w="176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00" name=""/>
                <p:cNvGrpSpPr/>
                <p:nvPr/>
              </p:nvGrpSpPr>
              <p:grpSpPr>
                <a:xfrm>
                  <a:off x="1209600" y="5578560"/>
                  <a:ext cx="7274160" cy="466920"/>
                  <a:chOff x="1209600" y="5578560"/>
                  <a:chExt cx="7274160" cy="466920"/>
                </a:xfrm>
              </p:grpSpPr>
              <p:grpSp>
                <p:nvGrpSpPr>
                  <p:cNvPr id="1401" name=""/>
                  <p:cNvGrpSpPr/>
                  <p:nvPr/>
                </p:nvGrpSpPr>
                <p:grpSpPr>
                  <a:xfrm>
                    <a:off x="2036880" y="5578560"/>
                    <a:ext cx="5314680" cy="182520"/>
                    <a:chOff x="2036880" y="5578560"/>
                    <a:chExt cx="5314680" cy="182520"/>
                  </a:xfrm>
                </p:grpSpPr>
                <p:sp>
                  <p:nvSpPr>
                    <p:cNvPr id="1402" name=""/>
                    <p:cNvSpPr/>
                    <p:nvPr/>
                  </p:nvSpPr>
                  <p:spPr>
                    <a:xfrm>
                      <a:off x="2036880" y="5578560"/>
                      <a:ext cx="388800" cy="128520"/>
                    </a:xfrm>
                    <a:custGeom>
                      <a:avLst/>
                      <a:gdLst/>
                      <a:ahLst/>
                      <a:rect l="l" t="t" r="r" b="b"/>
                      <a:pathLst>
                        <a:path w="245" h="81">
                          <a:moveTo>
                            <a:pt x="0" y="0"/>
                          </a:moveTo>
                          <a:lnTo>
                            <a:pt x="82" y="3"/>
                          </a:lnTo>
                          <a:lnTo>
                            <a:pt x="137" y="6"/>
                          </a:lnTo>
                          <a:lnTo>
                            <a:pt x="176" y="14"/>
                          </a:lnTo>
                          <a:lnTo>
                            <a:pt x="200" y="24"/>
                          </a:lnTo>
                          <a:lnTo>
                            <a:pt x="215" y="38"/>
                          </a:lnTo>
                          <a:lnTo>
                            <a:pt x="233" y="57"/>
                          </a:lnTo>
                          <a:lnTo>
                            <a:pt x="245" y="66"/>
                          </a:lnTo>
                          <a:lnTo>
                            <a:pt x="218" y="65"/>
                          </a:lnTo>
                          <a:lnTo>
                            <a:pt x="189" y="68"/>
                          </a:lnTo>
                          <a:lnTo>
                            <a:pt x="146" y="74"/>
                          </a:lnTo>
                          <a:lnTo>
                            <a:pt x="91" y="81"/>
                          </a:lnTo>
                          <a:lnTo>
                            <a:pt x="77" y="77"/>
                          </a:lnTo>
                          <a:lnTo>
                            <a:pt x="61" y="56"/>
                          </a:lnTo>
                          <a:lnTo>
                            <a:pt x="28" y="2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6875640" y="5581800"/>
                      <a:ext cx="475920" cy="179280"/>
                    </a:xfrm>
                    <a:custGeom>
                      <a:avLst/>
                      <a:gdLst/>
                      <a:ahLst/>
                      <a:rect l="l" t="t" r="r" b="b"/>
                      <a:pathLst>
                        <a:path w="300" h="113">
                          <a:moveTo>
                            <a:pt x="300" y="0"/>
                          </a:moveTo>
                          <a:lnTo>
                            <a:pt x="200" y="4"/>
                          </a:lnTo>
                          <a:lnTo>
                            <a:pt x="132" y="8"/>
                          </a:lnTo>
                          <a:lnTo>
                            <a:pt x="85" y="19"/>
                          </a:lnTo>
                          <a:lnTo>
                            <a:pt x="55" y="33"/>
                          </a:lnTo>
                          <a:lnTo>
                            <a:pt x="36" y="54"/>
                          </a:lnTo>
                          <a:lnTo>
                            <a:pt x="14" y="79"/>
                          </a:lnTo>
                          <a:lnTo>
                            <a:pt x="0" y="91"/>
                          </a:lnTo>
                          <a:lnTo>
                            <a:pt x="31" y="90"/>
                          </a:lnTo>
                          <a:lnTo>
                            <a:pt x="69" y="94"/>
                          </a:lnTo>
                          <a:lnTo>
                            <a:pt x="121" y="103"/>
                          </a:lnTo>
                          <a:lnTo>
                            <a:pt x="189" y="113"/>
                          </a:lnTo>
                          <a:lnTo>
                            <a:pt x="206" y="107"/>
                          </a:lnTo>
                          <a:lnTo>
                            <a:pt x="225" y="77"/>
                          </a:lnTo>
                          <a:lnTo>
                            <a:pt x="266" y="37"/>
                          </a:lnTo>
                          <a:lnTo>
                            <a:pt x="3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4" name=""/>
                  <p:cNvGrpSpPr/>
                  <p:nvPr/>
                </p:nvGrpSpPr>
                <p:grpSpPr>
                  <a:xfrm>
                    <a:off x="1209600" y="5731200"/>
                    <a:ext cx="7274160" cy="314280"/>
                    <a:chOff x="1209600" y="5731200"/>
                    <a:chExt cx="7274160" cy="314280"/>
                  </a:xfrm>
                </p:grpSpPr>
                <p:grpSp>
                  <p:nvGrpSpPr>
                    <p:cNvPr id="1405" name=""/>
                    <p:cNvGrpSpPr/>
                    <p:nvPr/>
                  </p:nvGrpSpPr>
                  <p:grpSpPr>
                    <a:xfrm>
                      <a:off x="1209600" y="5731200"/>
                      <a:ext cx="905040" cy="288720"/>
                      <a:chOff x="1209600" y="5731200"/>
                      <a:chExt cx="905040" cy="288720"/>
                    </a:xfrm>
                  </p:grpSpPr>
                  <p:grpSp>
                    <p:nvGrpSpPr>
                      <p:cNvPr id="1406" name=""/>
                      <p:cNvGrpSpPr/>
                      <p:nvPr/>
                    </p:nvGrpSpPr>
                    <p:grpSpPr>
                      <a:xfrm>
                        <a:off x="1209600" y="5731200"/>
                        <a:ext cx="905040" cy="288720"/>
                        <a:chOff x="1209600" y="5731200"/>
                        <a:chExt cx="905040" cy="288720"/>
                      </a:xfrm>
                    </p:grpSpPr>
                    <p:grpSp>
                      <p:nvGrpSpPr>
                        <p:cNvPr id="1407" name=""/>
                        <p:cNvGrpSpPr/>
                        <p:nvPr/>
                      </p:nvGrpSpPr>
                      <p:grpSpPr>
                        <a:xfrm>
                          <a:off x="1209600" y="5731200"/>
                          <a:ext cx="905040" cy="288720"/>
                          <a:chOff x="1209600" y="5731200"/>
                          <a:chExt cx="905040" cy="288720"/>
                        </a:xfrm>
                      </p:grpSpPr>
                      <p:sp>
                        <p:nvSpPr>
                          <p:cNvPr id="1408" name=""/>
                          <p:cNvSpPr/>
                          <p:nvPr/>
                        </p:nvSpPr>
                        <p:spPr>
                          <a:xfrm>
                            <a:off x="1617840" y="5803920"/>
                            <a:ext cx="479160" cy="165240"/>
                          </a:xfrm>
                          <a:custGeom>
                            <a:avLst/>
                            <a:gdLst/>
                            <a:ahLst/>
                            <a:rect l="l" t="t" r="r" b="b"/>
                            <a:pathLst>
                              <a:path w="302" h="104">
                                <a:moveTo>
                                  <a:pt x="272" y="0"/>
                                </a:moveTo>
                                <a:lnTo>
                                  <a:pt x="240" y="9"/>
                                </a:lnTo>
                                <a:lnTo>
                                  <a:pt x="100" y="50"/>
                                </a:lnTo>
                                <a:lnTo>
                                  <a:pt x="36" y="52"/>
                                </a:lnTo>
                                <a:lnTo>
                                  <a:pt x="0" y="71"/>
                                </a:lnTo>
                                <a:lnTo>
                                  <a:pt x="20" y="103"/>
                                </a:lnTo>
                                <a:lnTo>
                                  <a:pt x="86" y="104"/>
                                </a:lnTo>
                                <a:lnTo>
                                  <a:pt x="203" y="84"/>
                                </a:lnTo>
                                <a:lnTo>
                                  <a:pt x="289" y="54"/>
                                </a:lnTo>
                                <a:lnTo>
                                  <a:pt x="302" y="36"/>
                                </a:lnTo>
                                <a:lnTo>
                                  <a:pt x="272" y="0"/>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1209600" y="5731200"/>
                            <a:ext cx="905040" cy="288720"/>
                          </a:xfrm>
                          <a:custGeom>
                            <a:avLst/>
                            <a:gdLst/>
                            <a:ahLst/>
                            <a:rect l="l" t="t" r="r" b="b"/>
                            <a:pathLst>
                              <a:path w="570" h="182">
                                <a:moveTo>
                                  <a:pt x="0" y="159"/>
                                </a:moveTo>
                                <a:lnTo>
                                  <a:pt x="32" y="128"/>
                                </a:lnTo>
                                <a:lnTo>
                                  <a:pt x="74" y="93"/>
                                </a:lnTo>
                                <a:lnTo>
                                  <a:pt x="93" y="86"/>
                                </a:lnTo>
                                <a:lnTo>
                                  <a:pt x="117" y="76"/>
                                </a:lnTo>
                                <a:lnTo>
                                  <a:pt x="139" y="70"/>
                                </a:lnTo>
                                <a:lnTo>
                                  <a:pt x="162" y="66"/>
                                </a:lnTo>
                                <a:lnTo>
                                  <a:pt x="186" y="69"/>
                                </a:lnTo>
                                <a:lnTo>
                                  <a:pt x="200" y="77"/>
                                </a:lnTo>
                                <a:lnTo>
                                  <a:pt x="211" y="80"/>
                                </a:lnTo>
                                <a:lnTo>
                                  <a:pt x="233" y="82"/>
                                </a:lnTo>
                                <a:lnTo>
                                  <a:pt x="279" y="80"/>
                                </a:lnTo>
                                <a:lnTo>
                                  <a:pt x="293" y="91"/>
                                </a:lnTo>
                                <a:lnTo>
                                  <a:pt x="315" y="79"/>
                                </a:lnTo>
                                <a:lnTo>
                                  <a:pt x="340" y="68"/>
                                </a:lnTo>
                                <a:lnTo>
                                  <a:pt x="395" y="54"/>
                                </a:lnTo>
                                <a:lnTo>
                                  <a:pt x="400" y="49"/>
                                </a:lnTo>
                                <a:lnTo>
                                  <a:pt x="452" y="36"/>
                                </a:lnTo>
                                <a:lnTo>
                                  <a:pt x="464" y="24"/>
                                </a:lnTo>
                                <a:lnTo>
                                  <a:pt x="480" y="7"/>
                                </a:lnTo>
                                <a:lnTo>
                                  <a:pt x="494" y="0"/>
                                </a:lnTo>
                                <a:lnTo>
                                  <a:pt x="510" y="3"/>
                                </a:lnTo>
                                <a:lnTo>
                                  <a:pt x="527" y="10"/>
                                </a:lnTo>
                                <a:lnTo>
                                  <a:pt x="543" y="18"/>
                                </a:lnTo>
                                <a:lnTo>
                                  <a:pt x="538" y="32"/>
                                </a:lnTo>
                                <a:lnTo>
                                  <a:pt x="532" y="47"/>
                                </a:lnTo>
                                <a:lnTo>
                                  <a:pt x="505" y="59"/>
                                </a:lnTo>
                                <a:lnTo>
                                  <a:pt x="460" y="78"/>
                                </a:lnTo>
                                <a:lnTo>
                                  <a:pt x="409" y="92"/>
                                </a:lnTo>
                                <a:lnTo>
                                  <a:pt x="378" y="101"/>
                                </a:lnTo>
                                <a:lnTo>
                                  <a:pt x="357" y="103"/>
                                </a:lnTo>
                                <a:lnTo>
                                  <a:pt x="337" y="104"/>
                                </a:lnTo>
                                <a:lnTo>
                                  <a:pt x="318" y="102"/>
                                </a:lnTo>
                                <a:lnTo>
                                  <a:pt x="304" y="103"/>
                                </a:lnTo>
                                <a:lnTo>
                                  <a:pt x="288" y="108"/>
                                </a:lnTo>
                                <a:lnTo>
                                  <a:pt x="280" y="115"/>
                                </a:lnTo>
                                <a:lnTo>
                                  <a:pt x="276" y="123"/>
                                </a:lnTo>
                                <a:lnTo>
                                  <a:pt x="279" y="130"/>
                                </a:lnTo>
                                <a:lnTo>
                                  <a:pt x="287" y="141"/>
                                </a:lnTo>
                                <a:lnTo>
                                  <a:pt x="309" y="143"/>
                                </a:lnTo>
                                <a:lnTo>
                                  <a:pt x="345" y="140"/>
                                </a:lnTo>
                                <a:lnTo>
                                  <a:pt x="386" y="130"/>
                                </a:lnTo>
                                <a:lnTo>
                                  <a:pt x="438" y="123"/>
                                </a:lnTo>
                                <a:lnTo>
                                  <a:pt x="499" y="109"/>
                                </a:lnTo>
                                <a:lnTo>
                                  <a:pt x="541" y="93"/>
                                </a:lnTo>
                                <a:lnTo>
                                  <a:pt x="560" y="74"/>
                                </a:lnTo>
                                <a:lnTo>
                                  <a:pt x="570" y="84"/>
                                </a:lnTo>
                                <a:lnTo>
                                  <a:pt x="566" y="96"/>
                                </a:lnTo>
                                <a:lnTo>
                                  <a:pt x="560" y="106"/>
                                </a:lnTo>
                                <a:lnTo>
                                  <a:pt x="537" y="118"/>
                                </a:lnTo>
                                <a:lnTo>
                                  <a:pt x="508" y="129"/>
                                </a:lnTo>
                                <a:lnTo>
                                  <a:pt x="480" y="135"/>
                                </a:lnTo>
                                <a:lnTo>
                                  <a:pt x="433" y="153"/>
                                </a:lnTo>
                                <a:lnTo>
                                  <a:pt x="398" y="160"/>
                                </a:lnTo>
                                <a:lnTo>
                                  <a:pt x="354" y="172"/>
                                </a:lnTo>
                                <a:lnTo>
                                  <a:pt x="316" y="177"/>
                                </a:lnTo>
                                <a:lnTo>
                                  <a:pt x="260" y="175"/>
                                </a:lnTo>
                                <a:lnTo>
                                  <a:pt x="219" y="181"/>
                                </a:lnTo>
                                <a:lnTo>
                                  <a:pt x="191" y="182"/>
                                </a:lnTo>
                                <a:lnTo>
                                  <a:pt x="170" y="175"/>
                                </a:lnTo>
                                <a:lnTo>
                                  <a:pt x="137" y="172"/>
                                </a:lnTo>
                                <a:lnTo>
                                  <a:pt x="121" y="165"/>
                                </a:lnTo>
                                <a:lnTo>
                                  <a:pt x="126" y="174"/>
                                </a:lnTo>
                                <a:lnTo>
                                  <a:pt x="117" y="177"/>
                                </a:lnTo>
                                <a:lnTo>
                                  <a:pt x="103" y="178"/>
                                </a:lnTo>
                                <a:lnTo>
                                  <a:pt x="79" y="178"/>
                                </a:lnTo>
                                <a:lnTo>
                                  <a:pt x="55" y="176"/>
                                </a:lnTo>
                                <a:lnTo>
                                  <a:pt x="32" y="174"/>
                                </a:lnTo>
                                <a:lnTo>
                                  <a:pt x="11" y="168"/>
                                </a:lnTo>
                                <a:lnTo>
                                  <a:pt x="0" y="159"/>
                                </a:lnTo>
                                <a:close/>
                              </a:path>
                            </a:pathLst>
                          </a:custGeom>
                          <a:solidFill>
                            <a:srgbClr val="00ff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1674720" y="5820120"/>
                            <a:ext cx="379440" cy="125280"/>
                          </a:xfrm>
                          <a:custGeom>
                            <a:avLst/>
                            <a:gdLst/>
                            <a:ahLst/>
                            <a:rect l="l" t="t" r="r" b="b"/>
                            <a:pathLst>
                              <a:path w="239" h="79">
                                <a:moveTo>
                                  <a:pt x="0" y="57"/>
                                </a:moveTo>
                                <a:lnTo>
                                  <a:pt x="36" y="79"/>
                                </a:lnTo>
                                <a:lnTo>
                                  <a:pt x="60" y="52"/>
                                </a:lnTo>
                                <a:lnTo>
                                  <a:pt x="85" y="69"/>
                                </a:lnTo>
                                <a:lnTo>
                                  <a:pt x="105" y="47"/>
                                </a:lnTo>
                                <a:lnTo>
                                  <a:pt x="140" y="60"/>
                                </a:lnTo>
                                <a:lnTo>
                                  <a:pt x="154" y="31"/>
                                </a:lnTo>
                                <a:lnTo>
                                  <a:pt x="176" y="43"/>
                                </a:lnTo>
                                <a:lnTo>
                                  <a:pt x="179" y="36"/>
                                </a:lnTo>
                                <a:lnTo>
                                  <a:pt x="203" y="48"/>
                                </a:lnTo>
                                <a:lnTo>
                                  <a:pt x="206" y="13"/>
                                </a:lnTo>
                                <a:lnTo>
                                  <a:pt x="239" y="34"/>
                                </a:lnTo>
                                <a:lnTo>
                                  <a:pt x="234"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1" name=""/>
                        <p:cNvGrpSpPr/>
                        <p:nvPr/>
                      </p:nvGrpSpPr>
                      <p:grpSpPr>
                        <a:xfrm>
                          <a:off x="1425600" y="5764320"/>
                          <a:ext cx="568440" cy="216000"/>
                          <a:chOff x="1425600" y="5764320"/>
                          <a:chExt cx="568440" cy="216000"/>
                        </a:xfrm>
                      </p:grpSpPr>
                      <p:sp>
                        <p:nvSpPr>
                          <p:cNvPr id="1412" name=""/>
                          <p:cNvSpPr/>
                          <p:nvPr/>
                        </p:nvSpPr>
                        <p:spPr>
                          <a:xfrm>
                            <a:off x="1932120" y="5764320"/>
                            <a:ext cx="61920" cy="28800"/>
                          </a:xfrm>
                          <a:custGeom>
                            <a:avLst/>
                            <a:gdLst/>
                            <a:ahLst/>
                            <a:rect l="l" t="t" r="r" b="b"/>
                            <a:pathLst>
                              <a:path w="39" h="18">
                                <a:moveTo>
                                  <a:pt x="39" y="0"/>
                                </a:moveTo>
                                <a:lnTo>
                                  <a:pt x="38" y="6"/>
                                </a:lnTo>
                                <a:lnTo>
                                  <a:pt x="28" y="9"/>
                                </a:lnTo>
                                <a:lnTo>
                                  <a:pt x="19" y="15"/>
                                </a:lnTo>
                                <a:lnTo>
                                  <a:pt x="12" y="15"/>
                                </a:lnTo>
                                <a:lnTo>
                                  <a:pt x="0" y="18"/>
                                </a:lnTo>
                              </a:path>
                            </a:pathLst>
                          </a:custGeom>
                          <a:noFill/>
                          <a:ln w="176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13" name=""/>
                          <p:cNvSpPr/>
                          <p:nvPr/>
                        </p:nvSpPr>
                        <p:spPr>
                          <a:xfrm>
                            <a:off x="1606680" y="5931000"/>
                            <a:ext cx="28440" cy="49320"/>
                          </a:xfrm>
                          <a:custGeom>
                            <a:avLst/>
                            <a:gdLst/>
                            <a:ahLst/>
                            <a:rect l="l" t="t" r="r" b="b"/>
                            <a:pathLst>
                              <a:path w="18" h="31">
                                <a:moveTo>
                                  <a:pt x="18" y="0"/>
                                </a:moveTo>
                                <a:lnTo>
                                  <a:pt x="5" y="9"/>
                                </a:lnTo>
                                <a:lnTo>
                                  <a:pt x="0" y="19"/>
                                </a:lnTo>
                                <a:lnTo>
                                  <a:pt x="2" y="31"/>
                                </a:lnTo>
                              </a:path>
                            </a:pathLst>
                          </a:custGeom>
                          <a:no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4" name=""/>
                          <p:cNvSpPr/>
                          <p:nvPr/>
                        </p:nvSpPr>
                        <p:spPr>
                          <a:xfrm>
                            <a:off x="1425600" y="5843880"/>
                            <a:ext cx="52200" cy="64800"/>
                          </a:xfrm>
                          <a:custGeom>
                            <a:avLst/>
                            <a:gdLst/>
                            <a:ahLst/>
                            <a:rect l="l" t="t" r="r" b="b"/>
                            <a:pathLst>
                              <a:path w="33" h="41">
                                <a:moveTo>
                                  <a:pt x="33" y="0"/>
                                </a:moveTo>
                                <a:lnTo>
                                  <a:pt x="17" y="5"/>
                                </a:lnTo>
                                <a:lnTo>
                                  <a:pt x="6" y="11"/>
                                </a:lnTo>
                                <a:lnTo>
                                  <a:pt x="0" y="20"/>
                                </a:lnTo>
                                <a:lnTo>
                                  <a:pt x="0" y="31"/>
                                </a:lnTo>
                                <a:lnTo>
                                  <a:pt x="4" y="41"/>
                                </a:lnTo>
                              </a:path>
                            </a:pathLst>
                          </a:custGeom>
                          <a:noFill/>
                          <a:ln w="176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grpSp>
                    <p:nvGrpSpPr>
                      <p:cNvPr id="1415" name=""/>
                      <p:cNvGrpSpPr/>
                      <p:nvPr/>
                    </p:nvGrpSpPr>
                    <p:grpSpPr>
                      <a:xfrm>
                        <a:off x="1500120" y="5857920"/>
                        <a:ext cx="66600" cy="49320"/>
                        <a:chOff x="1500120" y="5857920"/>
                        <a:chExt cx="66600" cy="49320"/>
                      </a:xfrm>
                    </p:grpSpPr>
                    <p:sp>
                      <p:nvSpPr>
                        <p:cNvPr id="1416" name=""/>
                        <p:cNvSpPr/>
                        <p:nvPr/>
                      </p:nvSpPr>
                      <p:spPr>
                        <a:xfrm>
                          <a:off x="1500120" y="5857920"/>
                          <a:ext cx="61920" cy="47880"/>
                        </a:xfrm>
                        <a:prstGeom prst="ellipse">
                          <a:avLst/>
                        </a:pr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417" name=""/>
                        <p:cNvSpPr/>
                        <p:nvPr/>
                      </p:nvSpPr>
                      <p:spPr>
                        <a:xfrm>
                          <a:off x="1530360" y="5861160"/>
                          <a:ext cx="36360" cy="27000"/>
                        </a:xfrm>
                        <a:prstGeom prst="ellipse">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8" name=""/>
                        <p:cNvSpPr/>
                        <p:nvPr/>
                      </p:nvSpPr>
                      <p:spPr>
                        <a:xfrm>
                          <a:off x="1500120" y="5857920"/>
                          <a:ext cx="36720" cy="49320"/>
                        </a:xfrm>
                        <a:custGeom>
                          <a:avLst/>
                          <a:gdLst/>
                          <a:ahLst/>
                          <a:rect l="l" t="t" r="r" b="b"/>
                          <a:pathLst>
                            <a:path w="23" h="31">
                              <a:moveTo>
                                <a:pt x="23" y="1"/>
                              </a:moveTo>
                              <a:lnTo>
                                <a:pt x="12" y="0"/>
                              </a:lnTo>
                              <a:lnTo>
                                <a:pt x="4" y="4"/>
                              </a:lnTo>
                              <a:lnTo>
                                <a:pt x="0" y="10"/>
                              </a:lnTo>
                              <a:lnTo>
                                <a:pt x="0" y="16"/>
                              </a:lnTo>
                              <a:lnTo>
                                <a:pt x="3" y="23"/>
                              </a:lnTo>
                              <a:lnTo>
                                <a:pt x="9" y="31"/>
                              </a:lnTo>
                            </a:path>
                          </a:pathLst>
                        </a:custGeom>
                        <a:noFill/>
                        <a:ln w="176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grpSp>
                  <p:nvGrpSpPr>
                    <p:cNvPr id="1419" name=""/>
                    <p:cNvGrpSpPr/>
                    <p:nvPr/>
                  </p:nvGrpSpPr>
                  <p:grpSpPr>
                    <a:xfrm>
                      <a:off x="7777080" y="5799240"/>
                      <a:ext cx="706680" cy="246240"/>
                      <a:chOff x="7777080" y="5799240"/>
                      <a:chExt cx="706680" cy="246240"/>
                    </a:xfrm>
                  </p:grpSpPr>
                  <p:grpSp>
                    <p:nvGrpSpPr>
                      <p:cNvPr id="1420" name=""/>
                      <p:cNvGrpSpPr/>
                      <p:nvPr/>
                    </p:nvGrpSpPr>
                    <p:grpSpPr>
                      <a:xfrm>
                        <a:off x="7777080" y="5799240"/>
                        <a:ext cx="706680" cy="246240"/>
                        <a:chOff x="7777080" y="5799240"/>
                        <a:chExt cx="706680" cy="246240"/>
                      </a:xfrm>
                    </p:grpSpPr>
                    <p:sp>
                      <p:nvSpPr>
                        <p:cNvPr id="1421" name=""/>
                        <p:cNvSpPr/>
                        <p:nvPr/>
                      </p:nvSpPr>
                      <p:spPr>
                        <a:xfrm>
                          <a:off x="7777080" y="5865840"/>
                          <a:ext cx="104760" cy="68400"/>
                        </a:xfrm>
                        <a:custGeom>
                          <a:avLst/>
                          <a:gdLst/>
                          <a:ahLst/>
                          <a:rect l="l" t="t" r="r" b="b"/>
                          <a:pathLst>
                            <a:path w="66" h="43">
                              <a:moveTo>
                                <a:pt x="9" y="0"/>
                              </a:moveTo>
                              <a:lnTo>
                                <a:pt x="0" y="30"/>
                              </a:lnTo>
                              <a:lnTo>
                                <a:pt x="19" y="26"/>
                              </a:lnTo>
                              <a:lnTo>
                                <a:pt x="19" y="43"/>
                              </a:lnTo>
                              <a:lnTo>
                                <a:pt x="66" y="37"/>
                              </a:lnTo>
                              <a:lnTo>
                                <a:pt x="9" y="0"/>
                              </a:lnTo>
                              <a:close/>
                            </a:path>
                          </a:pathLst>
                        </a:custGeom>
                        <a:solidFill>
                          <a:srgbClr val="ffffff"/>
                        </a:solidFill>
                        <a:ln w="176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22" name=""/>
                        <p:cNvSpPr/>
                        <p:nvPr/>
                      </p:nvSpPr>
                      <p:spPr>
                        <a:xfrm>
                          <a:off x="7778880" y="5799240"/>
                          <a:ext cx="704880" cy="246240"/>
                        </a:xfrm>
                        <a:custGeom>
                          <a:avLst/>
                          <a:gdLst/>
                          <a:ahLst/>
                          <a:rect l="l" t="t" r="r" b="b"/>
                          <a:pathLst>
                            <a:path w="444" h="155">
                              <a:moveTo>
                                <a:pt x="305" y="153"/>
                              </a:moveTo>
                              <a:lnTo>
                                <a:pt x="276" y="143"/>
                              </a:lnTo>
                              <a:lnTo>
                                <a:pt x="253" y="134"/>
                              </a:lnTo>
                              <a:lnTo>
                                <a:pt x="211" y="128"/>
                              </a:lnTo>
                              <a:lnTo>
                                <a:pt x="162" y="124"/>
                              </a:lnTo>
                              <a:lnTo>
                                <a:pt x="136" y="118"/>
                              </a:lnTo>
                              <a:lnTo>
                                <a:pt x="107" y="110"/>
                              </a:lnTo>
                              <a:lnTo>
                                <a:pt x="82" y="98"/>
                              </a:lnTo>
                              <a:lnTo>
                                <a:pt x="47" y="82"/>
                              </a:lnTo>
                              <a:lnTo>
                                <a:pt x="33" y="73"/>
                              </a:lnTo>
                              <a:lnTo>
                                <a:pt x="24" y="63"/>
                              </a:lnTo>
                              <a:lnTo>
                                <a:pt x="11" y="58"/>
                              </a:lnTo>
                              <a:lnTo>
                                <a:pt x="3" y="48"/>
                              </a:lnTo>
                              <a:lnTo>
                                <a:pt x="0" y="29"/>
                              </a:lnTo>
                              <a:lnTo>
                                <a:pt x="3" y="13"/>
                              </a:lnTo>
                              <a:lnTo>
                                <a:pt x="13" y="3"/>
                              </a:lnTo>
                              <a:lnTo>
                                <a:pt x="44" y="0"/>
                              </a:lnTo>
                              <a:lnTo>
                                <a:pt x="80" y="3"/>
                              </a:lnTo>
                              <a:lnTo>
                                <a:pt x="101" y="14"/>
                              </a:lnTo>
                              <a:lnTo>
                                <a:pt x="118" y="24"/>
                              </a:lnTo>
                              <a:lnTo>
                                <a:pt x="139" y="34"/>
                              </a:lnTo>
                              <a:lnTo>
                                <a:pt x="164" y="45"/>
                              </a:lnTo>
                              <a:lnTo>
                                <a:pt x="178" y="52"/>
                              </a:lnTo>
                              <a:lnTo>
                                <a:pt x="216" y="63"/>
                              </a:lnTo>
                              <a:lnTo>
                                <a:pt x="241" y="65"/>
                              </a:lnTo>
                              <a:lnTo>
                                <a:pt x="268" y="68"/>
                              </a:lnTo>
                              <a:lnTo>
                                <a:pt x="299" y="73"/>
                              </a:lnTo>
                              <a:lnTo>
                                <a:pt x="305" y="67"/>
                              </a:lnTo>
                              <a:lnTo>
                                <a:pt x="318" y="63"/>
                              </a:lnTo>
                              <a:lnTo>
                                <a:pt x="335" y="62"/>
                              </a:lnTo>
                              <a:lnTo>
                                <a:pt x="353" y="65"/>
                              </a:lnTo>
                              <a:lnTo>
                                <a:pt x="367" y="70"/>
                              </a:lnTo>
                              <a:lnTo>
                                <a:pt x="379" y="78"/>
                              </a:lnTo>
                              <a:lnTo>
                                <a:pt x="389" y="93"/>
                              </a:lnTo>
                              <a:lnTo>
                                <a:pt x="395" y="111"/>
                              </a:lnTo>
                              <a:lnTo>
                                <a:pt x="414" y="118"/>
                              </a:lnTo>
                              <a:lnTo>
                                <a:pt x="425" y="124"/>
                              </a:lnTo>
                              <a:lnTo>
                                <a:pt x="439" y="136"/>
                              </a:lnTo>
                              <a:lnTo>
                                <a:pt x="442" y="145"/>
                              </a:lnTo>
                              <a:lnTo>
                                <a:pt x="444" y="155"/>
                              </a:lnTo>
                              <a:lnTo>
                                <a:pt x="433" y="152"/>
                              </a:lnTo>
                              <a:lnTo>
                                <a:pt x="412" y="148"/>
                              </a:lnTo>
                              <a:lnTo>
                                <a:pt x="393" y="146"/>
                              </a:lnTo>
                              <a:lnTo>
                                <a:pt x="376" y="149"/>
                              </a:lnTo>
                              <a:lnTo>
                                <a:pt x="353" y="153"/>
                              </a:lnTo>
                              <a:lnTo>
                                <a:pt x="305" y="153"/>
                              </a:lnTo>
                              <a:close/>
                            </a:path>
                          </a:pathLst>
                        </a:custGeom>
                        <a:solidFill>
                          <a:srgbClr val="00ff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3" name=""/>
                      <p:cNvGrpSpPr/>
                      <p:nvPr/>
                    </p:nvGrpSpPr>
                    <p:grpSpPr>
                      <a:xfrm>
                        <a:off x="7888320" y="5829480"/>
                        <a:ext cx="426960" cy="146160"/>
                        <a:chOff x="7888320" y="5829480"/>
                        <a:chExt cx="426960" cy="146160"/>
                      </a:xfrm>
                    </p:grpSpPr>
                    <p:sp>
                      <p:nvSpPr>
                        <p:cNvPr id="1424" name=""/>
                        <p:cNvSpPr/>
                        <p:nvPr/>
                      </p:nvSpPr>
                      <p:spPr>
                        <a:xfrm>
                          <a:off x="8193240" y="5915160"/>
                          <a:ext cx="122040" cy="60480"/>
                        </a:xfrm>
                        <a:custGeom>
                          <a:avLst/>
                          <a:gdLst/>
                          <a:ahLst/>
                          <a:rect l="l" t="t" r="r" b="b"/>
                          <a:pathLst>
                            <a:path w="77" h="38">
                              <a:moveTo>
                                <a:pt x="0" y="16"/>
                              </a:moveTo>
                              <a:lnTo>
                                <a:pt x="10" y="8"/>
                              </a:lnTo>
                              <a:lnTo>
                                <a:pt x="18" y="3"/>
                              </a:lnTo>
                              <a:lnTo>
                                <a:pt x="30" y="0"/>
                              </a:lnTo>
                              <a:lnTo>
                                <a:pt x="44" y="0"/>
                              </a:lnTo>
                              <a:lnTo>
                                <a:pt x="54" y="4"/>
                              </a:lnTo>
                              <a:lnTo>
                                <a:pt x="63" y="9"/>
                              </a:lnTo>
                              <a:lnTo>
                                <a:pt x="71" y="16"/>
                              </a:lnTo>
                              <a:lnTo>
                                <a:pt x="76" y="25"/>
                              </a:lnTo>
                              <a:lnTo>
                                <a:pt x="77" y="38"/>
                              </a:lnTo>
                            </a:path>
                          </a:pathLst>
                        </a:custGeom>
                        <a:noFill/>
                        <a:ln w="176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25" name=""/>
                        <p:cNvSpPr/>
                        <p:nvPr/>
                      </p:nvSpPr>
                      <p:spPr>
                        <a:xfrm>
                          <a:off x="7888320" y="5829480"/>
                          <a:ext cx="90360" cy="27000"/>
                        </a:xfrm>
                        <a:custGeom>
                          <a:avLst/>
                          <a:gdLst/>
                          <a:ahLst/>
                          <a:rect l="l" t="t" r="r" b="b"/>
                          <a:pathLst>
                            <a:path w="57" h="17">
                              <a:moveTo>
                                <a:pt x="0" y="0"/>
                              </a:moveTo>
                              <a:lnTo>
                                <a:pt x="16" y="10"/>
                              </a:lnTo>
                              <a:lnTo>
                                <a:pt x="29" y="10"/>
                              </a:lnTo>
                              <a:lnTo>
                                <a:pt x="46" y="12"/>
                              </a:lnTo>
                              <a:lnTo>
                                <a:pt x="57" y="17"/>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426" name=""/>
              <p:cNvGrpSpPr/>
              <p:nvPr/>
            </p:nvGrpSpPr>
            <p:grpSpPr>
              <a:xfrm>
                <a:off x="3060720" y="3657600"/>
                <a:ext cx="3217680" cy="2140200"/>
                <a:chOff x="3060720" y="3657600"/>
                <a:chExt cx="3217680" cy="2140200"/>
              </a:xfrm>
            </p:grpSpPr>
            <p:grpSp>
              <p:nvGrpSpPr>
                <p:cNvPr id="1427" name=""/>
                <p:cNvGrpSpPr/>
                <p:nvPr/>
              </p:nvGrpSpPr>
              <p:grpSpPr>
                <a:xfrm>
                  <a:off x="3060720" y="3657600"/>
                  <a:ext cx="3217680" cy="2059200"/>
                  <a:chOff x="3060720" y="3657600"/>
                  <a:chExt cx="3217680" cy="2059200"/>
                </a:xfrm>
              </p:grpSpPr>
              <p:grpSp>
                <p:nvGrpSpPr>
                  <p:cNvPr id="1428" name=""/>
                  <p:cNvGrpSpPr/>
                  <p:nvPr/>
                </p:nvGrpSpPr>
                <p:grpSpPr>
                  <a:xfrm>
                    <a:off x="3254400" y="3794400"/>
                    <a:ext cx="2906640" cy="1922400"/>
                    <a:chOff x="3254400" y="3794400"/>
                    <a:chExt cx="2906640" cy="1922400"/>
                  </a:xfrm>
                </p:grpSpPr>
                <p:grpSp>
                  <p:nvGrpSpPr>
                    <p:cNvPr id="1429" name=""/>
                    <p:cNvGrpSpPr/>
                    <p:nvPr/>
                  </p:nvGrpSpPr>
                  <p:grpSpPr>
                    <a:xfrm>
                      <a:off x="3254400" y="3794400"/>
                      <a:ext cx="2906640" cy="1922400"/>
                      <a:chOff x="3254400" y="3794400"/>
                      <a:chExt cx="2906640" cy="1922400"/>
                    </a:xfrm>
                  </p:grpSpPr>
                  <p:grpSp>
                    <p:nvGrpSpPr>
                      <p:cNvPr id="1430" name=""/>
                      <p:cNvGrpSpPr/>
                      <p:nvPr/>
                    </p:nvGrpSpPr>
                    <p:grpSpPr>
                      <a:xfrm>
                        <a:off x="3254400" y="3814920"/>
                        <a:ext cx="2906640" cy="1901880"/>
                        <a:chOff x="3254400" y="3814920"/>
                        <a:chExt cx="2906640" cy="1901880"/>
                      </a:xfrm>
                    </p:grpSpPr>
                    <p:sp>
                      <p:nvSpPr>
                        <p:cNvPr id="1431" name=""/>
                        <p:cNvSpPr/>
                        <p:nvPr/>
                      </p:nvSpPr>
                      <p:spPr>
                        <a:xfrm>
                          <a:off x="3254400" y="3818160"/>
                          <a:ext cx="2906640" cy="1898640"/>
                        </a:xfrm>
                        <a:custGeom>
                          <a:avLst/>
                          <a:gdLst/>
                          <a:ahLst/>
                          <a:rect l="l" t="t" r="r" b="b"/>
                          <a:pathLst>
                            <a:path w="1831" h="1196">
                              <a:moveTo>
                                <a:pt x="7" y="0"/>
                              </a:moveTo>
                              <a:lnTo>
                                <a:pt x="26" y="28"/>
                              </a:lnTo>
                              <a:lnTo>
                                <a:pt x="48" y="53"/>
                              </a:lnTo>
                              <a:lnTo>
                                <a:pt x="43" y="97"/>
                              </a:lnTo>
                              <a:lnTo>
                                <a:pt x="68" y="176"/>
                              </a:lnTo>
                              <a:lnTo>
                                <a:pt x="87" y="214"/>
                              </a:lnTo>
                              <a:lnTo>
                                <a:pt x="82" y="243"/>
                              </a:lnTo>
                              <a:lnTo>
                                <a:pt x="95" y="265"/>
                              </a:lnTo>
                              <a:lnTo>
                                <a:pt x="96" y="335"/>
                              </a:lnTo>
                              <a:lnTo>
                                <a:pt x="77" y="389"/>
                              </a:lnTo>
                              <a:lnTo>
                                <a:pt x="66" y="442"/>
                              </a:lnTo>
                              <a:lnTo>
                                <a:pt x="66" y="502"/>
                              </a:lnTo>
                              <a:lnTo>
                                <a:pt x="73" y="526"/>
                              </a:lnTo>
                              <a:lnTo>
                                <a:pt x="81" y="588"/>
                              </a:lnTo>
                              <a:lnTo>
                                <a:pt x="38" y="754"/>
                              </a:lnTo>
                              <a:lnTo>
                                <a:pt x="30" y="926"/>
                              </a:lnTo>
                              <a:lnTo>
                                <a:pt x="38" y="1045"/>
                              </a:lnTo>
                              <a:lnTo>
                                <a:pt x="0" y="1123"/>
                              </a:lnTo>
                              <a:lnTo>
                                <a:pt x="10" y="1146"/>
                              </a:lnTo>
                              <a:lnTo>
                                <a:pt x="110" y="1141"/>
                              </a:lnTo>
                              <a:lnTo>
                                <a:pt x="252" y="1144"/>
                              </a:lnTo>
                              <a:lnTo>
                                <a:pt x="370" y="1159"/>
                              </a:lnTo>
                              <a:lnTo>
                                <a:pt x="469" y="1166"/>
                              </a:lnTo>
                              <a:lnTo>
                                <a:pt x="606" y="1186"/>
                              </a:lnTo>
                              <a:lnTo>
                                <a:pt x="944" y="1192"/>
                              </a:lnTo>
                              <a:lnTo>
                                <a:pt x="1238" y="1192"/>
                              </a:lnTo>
                              <a:lnTo>
                                <a:pt x="1400" y="1196"/>
                              </a:lnTo>
                              <a:lnTo>
                                <a:pt x="1660" y="1174"/>
                              </a:lnTo>
                              <a:lnTo>
                                <a:pt x="1730" y="1168"/>
                              </a:lnTo>
                              <a:lnTo>
                                <a:pt x="1778" y="1157"/>
                              </a:lnTo>
                              <a:lnTo>
                                <a:pt x="1817" y="1126"/>
                              </a:lnTo>
                              <a:lnTo>
                                <a:pt x="1815" y="1107"/>
                              </a:lnTo>
                              <a:lnTo>
                                <a:pt x="1831" y="1074"/>
                              </a:lnTo>
                              <a:lnTo>
                                <a:pt x="1815" y="1025"/>
                              </a:lnTo>
                              <a:lnTo>
                                <a:pt x="1787" y="971"/>
                              </a:lnTo>
                              <a:lnTo>
                                <a:pt x="1787" y="919"/>
                              </a:lnTo>
                              <a:lnTo>
                                <a:pt x="1774" y="849"/>
                              </a:lnTo>
                              <a:lnTo>
                                <a:pt x="1784" y="775"/>
                              </a:lnTo>
                              <a:lnTo>
                                <a:pt x="1765" y="713"/>
                              </a:lnTo>
                              <a:lnTo>
                                <a:pt x="1765" y="553"/>
                              </a:lnTo>
                              <a:lnTo>
                                <a:pt x="1759" y="485"/>
                              </a:lnTo>
                              <a:lnTo>
                                <a:pt x="1768" y="431"/>
                              </a:lnTo>
                              <a:lnTo>
                                <a:pt x="1756" y="409"/>
                              </a:lnTo>
                              <a:lnTo>
                                <a:pt x="1767" y="283"/>
                              </a:lnTo>
                              <a:lnTo>
                                <a:pt x="1754" y="252"/>
                              </a:lnTo>
                              <a:lnTo>
                                <a:pt x="1798" y="185"/>
                              </a:lnTo>
                              <a:lnTo>
                                <a:pt x="1774" y="0"/>
                              </a:lnTo>
                              <a:lnTo>
                                <a:pt x="7" y="0"/>
                              </a:lnTo>
                              <a:close/>
                            </a:path>
                          </a:pathLst>
                        </a:custGeom>
                        <a:solidFill>
                          <a:srgbClr val="9f3f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3254400" y="3816360"/>
                          <a:ext cx="280800" cy="1819440"/>
                        </a:xfrm>
                        <a:custGeom>
                          <a:avLst/>
                          <a:gdLst/>
                          <a:ahLst/>
                          <a:rect l="l" t="t" r="r" b="b"/>
                          <a:pathLst>
                            <a:path w="177" h="1146">
                              <a:moveTo>
                                <a:pt x="7" y="0"/>
                              </a:moveTo>
                              <a:lnTo>
                                <a:pt x="26" y="28"/>
                              </a:lnTo>
                              <a:lnTo>
                                <a:pt x="48" y="53"/>
                              </a:lnTo>
                              <a:lnTo>
                                <a:pt x="43" y="97"/>
                              </a:lnTo>
                              <a:lnTo>
                                <a:pt x="68" y="176"/>
                              </a:lnTo>
                              <a:lnTo>
                                <a:pt x="87" y="214"/>
                              </a:lnTo>
                              <a:lnTo>
                                <a:pt x="82" y="243"/>
                              </a:lnTo>
                              <a:lnTo>
                                <a:pt x="95" y="265"/>
                              </a:lnTo>
                              <a:lnTo>
                                <a:pt x="96" y="335"/>
                              </a:lnTo>
                              <a:lnTo>
                                <a:pt x="77" y="389"/>
                              </a:lnTo>
                              <a:lnTo>
                                <a:pt x="66" y="442"/>
                              </a:lnTo>
                              <a:lnTo>
                                <a:pt x="66" y="502"/>
                              </a:lnTo>
                              <a:lnTo>
                                <a:pt x="73" y="526"/>
                              </a:lnTo>
                              <a:lnTo>
                                <a:pt x="81" y="588"/>
                              </a:lnTo>
                              <a:lnTo>
                                <a:pt x="38" y="754"/>
                              </a:lnTo>
                              <a:lnTo>
                                <a:pt x="30" y="926"/>
                              </a:lnTo>
                              <a:lnTo>
                                <a:pt x="38" y="1045"/>
                              </a:lnTo>
                              <a:lnTo>
                                <a:pt x="0" y="1123"/>
                              </a:lnTo>
                              <a:lnTo>
                                <a:pt x="10" y="1146"/>
                              </a:lnTo>
                              <a:lnTo>
                                <a:pt x="126" y="1143"/>
                              </a:lnTo>
                              <a:lnTo>
                                <a:pt x="120" y="1064"/>
                              </a:lnTo>
                              <a:lnTo>
                                <a:pt x="110" y="969"/>
                              </a:lnTo>
                              <a:lnTo>
                                <a:pt x="96" y="850"/>
                              </a:lnTo>
                              <a:lnTo>
                                <a:pt x="101" y="814"/>
                              </a:lnTo>
                              <a:lnTo>
                                <a:pt x="117" y="699"/>
                              </a:lnTo>
                              <a:lnTo>
                                <a:pt x="155" y="576"/>
                              </a:lnTo>
                              <a:lnTo>
                                <a:pt x="177" y="434"/>
                              </a:lnTo>
                              <a:lnTo>
                                <a:pt x="172" y="319"/>
                              </a:lnTo>
                              <a:lnTo>
                                <a:pt x="166" y="195"/>
                              </a:lnTo>
                              <a:lnTo>
                                <a:pt x="144" y="122"/>
                              </a:lnTo>
                              <a:lnTo>
                                <a:pt x="136" y="92"/>
                              </a:lnTo>
                              <a:lnTo>
                                <a:pt x="144" y="0"/>
                              </a:lnTo>
                              <a:lnTo>
                                <a:pt x="7" y="0"/>
                              </a:lnTo>
                              <a:close/>
                            </a:path>
                          </a:pathLst>
                        </a:custGeom>
                        <a:solidFill>
                          <a:srgbClr val="7f5f3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3821040" y="3814920"/>
                          <a:ext cx="1668600" cy="1901880"/>
                        </a:xfrm>
                        <a:custGeom>
                          <a:avLst/>
                          <a:gdLst/>
                          <a:ahLst/>
                          <a:rect l="l" t="t" r="r" b="b"/>
                          <a:pathLst>
                            <a:path w="1051" h="1198">
                              <a:moveTo>
                                <a:pt x="68" y="0"/>
                              </a:moveTo>
                              <a:lnTo>
                                <a:pt x="92" y="94"/>
                              </a:lnTo>
                              <a:lnTo>
                                <a:pt x="111" y="133"/>
                              </a:lnTo>
                              <a:lnTo>
                                <a:pt x="114" y="213"/>
                              </a:lnTo>
                              <a:lnTo>
                                <a:pt x="140" y="383"/>
                              </a:lnTo>
                              <a:lnTo>
                                <a:pt x="131" y="474"/>
                              </a:lnTo>
                              <a:lnTo>
                                <a:pt x="103" y="571"/>
                              </a:lnTo>
                              <a:lnTo>
                                <a:pt x="129" y="617"/>
                              </a:lnTo>
                              <a:lnTo>
                                <a:pt x="139" y="668"/>
                              </a:lnTo>
                              <a:lnTo>
                                <a:pt x="144" y="751"/>
                              </a:lnTo>
                              <a:lnTo>
                                <a:pt x="120" y="804"/>
                              </a:lnTo>
                              <a:lnTo>
                                <a:pt x="79" y="866"/>
                              </a:lnTo>
                              <a:lnTo>
                                <a:pt x="82" y="1036"/>
                              </a:lnTo>
                              <a:lnTo>
                                <a:pt x="0" y="1133"/>
                              </a:lnTo>
                              <a:lnTo>
                                <a:pt x="2" y="1159"/>
                              </a:lnTo>
                              <a:lnTo>
                                <a:pt x="125" y="1169"/>
                              </a:lnTo>
                              <a:lnTo>
                                <a:pt x="239" y="1188"/>
                              </a:lnTo>
                              <a:lnTo>
                                <a:pt x="530" y="1193"/>
                              </a:lnTo>
                              <a:lnTo>
                                <a:pt x="814" y="1194"/>
                              </a:lnTo>
                              <a:lnTo>
                                <a:pt x="1040" y="1198"/>
                              </a:lnTo>
                              <a:lnTo>
                                <a:pt x="1037" y="1073"/>
                              </a:lnTo>
                              <a:lnTo>
                                <a:pt x="1051" y="821"/>
                              </a:lnTo>
                              <a:lnTo>
                                <a:pt x="1004" y="754"/>
                              </a:lnTo>
                              <a:lnTo>
                                <a:pt x="943" y="665"/>
                              </a:lnTo>
                              <a:lnTo>
                                <a:pt x="938" y="622"/>
                              </a:lnTo>
                              <a:lnTo>
                                <a:pt x="946" y="539"/>
                              </a:lnTo>
                              <a:lnTo>
                                <a:pt x="979" y="377"/>
                              </a:lnTo>
                              <a:lnTo>
                                <a:pt x="957" y="314"/>
                              </a:lnTo>
                              <a:lnTo>
                                <a:pt x="985" y="222"/>
                              </a:lnTo>
                              <a:lnTo>
                                <a:pt x="1023" y="172"/>
                              </a:lnTo>
                              <a:lnTo>
                                <a:pt x="993" y="0"/>
                              </a:lnTo>
                              <a:lnTo>
                                <a:pt x="68" y="0"/>
                              </a:lnTo>
                              <a:close/>
                            </a:path>
                          </a:pathLst>
                        </a:custGeom>
                        <a:solidFill>
                          <a:srgbClr val="bf7f3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4" name=""/>
                      <p:cNvSpPr/>
                      <p:nvPr/>
                    </p:nvSpPr>
                    <p:spPr>
                      <a:xfrm>
                        <a:off x="3262320" y="3794400"/>
                        <a:ext cx="2846520" cy="353880"/>
                      </a:xfrm>
                      <a:custGeom>
                        <a:avLst/>
                        <a:gdLst/>
                        <a:ahLst/>
                        <a:rect l="l" t="t" r="r" b="b"/>
                        <a:pathLst>
                          <a:path w="1793" h="223">
                            <a:moveTo>
                              <a:pt x="0" y="5"/>
                            </a:moveTo>
                            <a:lnTo>
                              <a:pt x="39" y="69"/>
                            </a:lnTo>
                            <a:lnTo>
                              <a:pt x="68" y="83"/>
                            </a:lnTo>
                            <a:lnTo>
                              <a:pt x="87" y="114"/>
                            </a:lnTo>
                            <a:lnTo>
                              <a:pt x="99" y="136"/>
                            </a:lnTo>
                            <a:lnTo>
                              <a:pt x="173" y="119"/>
                            </a:lnTo>
                            <a:lnTo>
                              <a:pt x="227" y="94"/>
                            </a:lnTo>
                            <a:lnTo>
                              <a:pt x="275" y="104"/>
                            </a:lnTo>
                            <a:lnTo>
                              <a:pt x="304" y="208"/>
                            </a:lnTo>
                            <a:lnTo>
                              <a:pt x="428" y="145"/>
                            </a:lnTo>
                            <a:lnTo>
                              <a:pt x="540" y="103"/>
                            </a:lnTo>
                            <a:lnTo>
                              <a:pt x="549" y="111"/>
                            </a:lnTo>
                            <a:lnTo>
                              <a:pt x="607" y="114"/>
                            </a:lnTo>
                            <a:lnTo>
                              <a:pt x="629" y="162"/>
                            </a:lnTo>
                            <a:lnTo>
                              <a:pt x="678" y="154"/>
                            </a:lnTo>
                            <a:lnTo>
                              <a:pt x="705" y="223"/>
                            </a:lnTo>
                            <a:lnTo>
                              <a:pt x="785" y="180"/>
                            </a:lnTo>
                            <a:lnTo>
                              <a:pt x="868" y="159"/>
                            </a:lnTo>
                            <a:lnTo>
                              <a:pt x="923" y="107"/>
                            </a:lnTo>
                            <a:lnTo>
                              <a:pt x="963" y="122"/>
                            </a:lnTo>
                            <a:lnTo>
                              <a:pt x="997" y="182"/>
                            </a:lnTo>
                            <a:lnTo>
                              <a:pt x="1066" y="138"/>
                            </a:lnTo>
                            <a:lnTo>
                              <a:pt x="1115" y="161"/>
                            </a:lnTo>
                            <a:lnTo>
                              <a:pt x="1203" y="110"/>
                            </a:lnTo>
                            <a:lnTo>
                              <a:pt x="1225" y="122"/>
                            </a:lnTo>
                            <a:lnTo>
                              <a:pt x="1254" y="128"/>
                            </a:lnTo>
                            <a:lnTo>
                              <a:pt x="1282" y="206"/>
                            </a:lnTo>
                            <a:lnTo>
                              <a:pt x="1326" y="162"/>
                            </a:lnTo>
                            <a:lnTo>
                              <a:pt x="1390" y="119"/>
                            </a:lnTo>
                            <a:lnTo>
                              <a:pt x="1422" y="140"/>
                            </a:lnTo>
                            <a:lnTo>
                              <a:pt x="1486" y="102"/>
                            </a:lnTo>
                            <a:lnTo>
                              <a:pt x="1537" y="110"/>
                            </a:lnTo>
                            <a:lnTo>
                              <a:pt x="1557" y="126"/>
                            </a:lnTo>
                            <a:lnTo>
                              <a:pt x="1568" y="159"/>
                            </a:lnTo>
                            <a:lnTo>
                              <a:pt x="1587" y="121"/>
                            </a:lnTo>
                            <a:lnTo>
                              <a:pt x="1593" y="108"/>
                            </a:lnTo>
                            <a:lnTo>
                              <a:pt x="1661" y="95"/>
                            </a:lnTo>
                            <a:lnTo>
                              <a:pt x="1762" y="89"/>
                            </a:lnTo>
                            <a:lnTo>
                              <a:pt x="1793" y="0"/>
                            </a:lnTo>
                            <a:lnTo>
                              <a:pt x="0" y="5"/>
                            </a:lnTo>
                            <a:close/>
                          </a:path>
                        </a:pathLst>
                      </a:custGeom>
                      <a:solidFill>
                        <a:srgbClr val="3f1f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5" name=""/>
                    <p:cNvGrpSpPr/>
                    <p:nvPr/>
                  </p:nvGrpSpPr>
                  <p:grpSpPr>
                    <a:xfrm>
                      <a:off x="3465360" y="3864240"/>
                      <a:ext cx="2621160" cy="1844640"/>
                      <a:chOff x="3465360" y="3864240"/>
                      <a:chExt cx="2621160" cy="1844640"/>
                    </a:xfrm>
                  </p:grpSpPr>
                  <p:sp>
                    <p:nvSpPr>
                      <p:cNvPr id="1436" name=""/>
                      <p:cNvSpPr/>
                      <p:nvPr/>
                    </p:nvSpPr>
                    <p:spPr>
                      <a:xfrm>
                        <a:off x="3465360" y="3873600"/>
                        <a:ext cx="22320" cy="122400"/>
                      </a:xfrm>
                      <a:custGeom>
                        <a:avLst/>
                        <a:gdLst/>
                        <a:ahLst/>
                        <a:rect l="l" t="t" r="r" b="b"/>
                        <a:pathLst>
                          <a:path w="14" h="77">
                            <a:moveTo>
                              <a:pt x="7" y="77"/>
                            </a:moveTo>
                            <a:lnTo>
                              <a:pt x="0" y="56"/>
                            </a:lnTo>
                            <a:lnTo>
                              <a:pt x="14"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3627360" y="3864240"/>
                        <a:ext cx="231840" cy="1763640"/>
                      </a:xfrm>
                      <a:custGeom>
                        <a:avLst/>
                        <a:gdLst/>
                        <a:ahLst/>
                        <a:rect l="l" t="t" r="r" b="b"/>
                        <a:pathLst>
                          <a:path w="146" h="1111">
                            <a:moveTo>
                              <a:pt x="127" y="0"/>
                            </a:moveTo>
                            <a:lnTo>
                              <a:pt x="141" y="128"/>
                            </a:lnTo>
                            <a:lnTo>
                              <a:pt x="146" y="332"/>
                            </a:lnTo>
                            <a:lnTo>
                              <a:pt x="137" y="408"/>
                            </a:lnTo>
                            <a:lnTo>
                              <a:pt x="85" y="493"/>
                            </a:lnTo>
                            <a:lnTo>
                              <a:pt x="89" y="554"/>
                            </a:lnTo>
                            <a:lnTo>
                              <a:pt x="113" y="703"/>
                            </a:lnTo>
                            <a:lnTo>
                              <a:pt x="47" y="871"/>
                            </a:lnTo>
                            <a:lnTo>
                              <a:pt x="37" y="980"/>
                            </a:lnTo>
                            <a:lnTo>
                              <a:pt x="0" y="1111"/>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4308480" y="3864240"/>
                        <a:ext cx="142920" cy="1832040"/>
                      </a:xfrm>
                      <a:custGeom>
                        <a:avLst/>
                        <a:gdLst/>
                        <a:ahLst/>
                        <a:rect l="l" t="t" r="r" b="b"/>
                        <a:pathLst>
                          <a:path w="90" h="1154">
                            <a:moveTo>
                              <a:pt x="71" y="0"/>
                            </a:moveTo>
                            <a:lnTo>
                              <a:pt x="57" y="110"/>
                            </a:lnTo>
                            <a:lnTo>
                              <a:pt x="0" y="378"/>
                            </a:lnTo>
                            <a:lnTo>
                              <a:pt x="57" y="597"/>
                            </a:lnTo>
                            <a:lnTo>
                              <a:pt x="38" y="700"/>
                            </a:lnTo>
                            <a:lnTo>
                              <a:pt x="24" y="786"/>
                            </a:lnTo>
                            <a:lnTo>
                              <a:pt x="90" y="929"/>
                            </a:lnTo>
                            <a:lnTo>
                              <a:pt x="33" y="115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4743360" y="4289760"/>
                        <a:ext cx="292320" cy="1419120"/>
                      </a:xfrm>
                      <a:custGeom>
                        <a:avLst/>
                        <a:gdLst/>
                        <a:ahLst/>
                        <a:rect l="l" t="t" r="r" b="b"/>
                        <a:pathLst>
                          <a:path w="184" h="894">
                            <a:moveTo>
                              <a:pt x="42" y="0"/>
                            </a:moveTo>
                            <a:lnTo>
                              <a:pt x="0" y="177"/>
                            </a:lnTo>
                            <a:lnTo>
                              <a:pt x="14" y="329"/>
                            </a:lnTo>
                            <a:lnTo>
                              <a:pt x="122" y="557"/>
                            </a:lnTo>
                            <a:lnTo>
                              <a:pt x="113" y="655"/>
                            </a:lnTo>
                            <a:lnTo>
                              <a:pt x="165" y="715"/>
                            </a:lnTo>
                            <a:lnTo>
                              <a:pt x="184" y="89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5551560" y="3883320"/>
                        <a:ext cx="225360" cy="1807920"/>
                      </a:xfrm>
                      <a:custGeom>
                        <a:avLst/>
                        <a:gdLst/>
                        <a:ahLst/>
                        <a:rect l="l" t="t" r="r" b="b"/>
                        <a:pathLst>
                          <a:path w="142" h="1139">
                            <a:moveTo>
                              <a:pt x="52" y="0"/>
                            </a:moveTo>
                            <a:lnTo>
                              <a:pt x="109" y="177"/>
                            </a:lnTo>
                            <a:lnTo>
                              <a:pt x="24" y="326"/>
                            </a:lnTo>
                            <a:lnTo>
                              <a:pt x="0" y="445"/>
                            </a:lnTo>
                            <a:lnTo>
                              <a:pt x="29" y="554"/>
                            </a:lnTo>
                            <a:lnTo>
                              <a:pt x="99" y="667"/>
                            </a:lnTo>
                            <a:lnTo>
                              <a:pt x="142" y="725"/>
                            </a:lnTo>
                            <a:lnTo>
                              <a:pt x="104" y="914"/>
                            </a:lnTo>
                            <a:lnTo>
                              <a:pt x="137" y="959"/>
                            </a:lnTo>
                            <a:lnTo>
                              <a:pt x="110" y="1139"/>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873760" y="3873600"/>
                        <a:ext cx="187200" cy="1174680"/>
                      </a:xfrm>
                      <a:custGeom>
                        <a:avLst/>
                        <a:gdLst/>
                        <a:ahLst/>
                        <a:rect l="l" t="t" r="r" b="b"/>
                        <a:pathLst>
                          <a:path w="118" h="740">
                            <a:moveTo>
                              <a:pt x="5" y="0"/>
                            </a:moveTo>
                            <a:lnTo>
                              <a:pt x="0" y="171"/>
                            </a:lnTo>
                            <a:lnTo>
                              <a:pt x="52" y="259"/>
                            </a:lnTo>
                            <a:lnTo>
                              <a:pt x="10" y="414"/>
                            </a:lnTo>
                            <a:lnTo>
                              <a:pt x="38" y="506"/>
                            </a:lnTo>
                            <a:lnTo>
                              <a:pt x="118" y="74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3693960" y="4921560"/>
                        <a:ext cx="270000" cy="718920"/>
                      </a:xfrm>
                      <a:custGeom>
                        <a:avLst/>
                        <a:gdLst/>
                        <a:ahLst/>
                        <a:rect l="l" t="t" r="r" b="b"/>
                        <a:pathLst>
                          <a:path w="170" h="453">
                            <a:moveTo>
                              <a:pt x="170" y="0"/>
                            </a:moveTo>
                            <a:lnTo>
                              <a:pt x="95" y="119"/>
                            </a:lnTo>
                            <a:lnTo>
                              <a:pt x="118" y="170"/>
                            </a:lnTo>
                            <a:lnTo>
                              <a:pt x="99" y="301"/>
                            </a:lnTo>
                            <a:lnTo>
                              <a:pt x="0" y="453"/>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5859360" y="4940640"/>
                        <a:ext cx="227160" cy="706320"/>
                      </a:xfrm>
                      <a:custGeom>
                        <a:avLst/>
                        <a:gdLst/>
                        <a:ahLst/>
                        <a:rect l="l" t="t" r="r" b="b"/>
                        <a:pathLst>
                          <a:path w="143" h="445">
                            <a:moveTo>
                              <a:pt x="0" y="0"/>
                            </a:moveTo>
                            <a:lnTo>
                              <a:pt x="42" y="155"/>
                            </a:lnTo>
                            <a:lnTo>
                              <a:pt x="19" y="256"/>
                            </a:lnTo>
                            <a:lnTo>
                              <a:pt x="122" y="353"/>
                            </a:lnTo>
                            <a:lnTo>
                              <a:pt x="143" y="445"/>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44" name=""/>
                  <p:cNvSpPr/>
                  <p:nvPr/>
                </p:nvSpPr>
                <p:spPr>
                  <a:xfrm>
                    <a:off x="3060720" y="3657600"/>
                    <a:ext cx="3217680" cy="309600"/>
                  </a:xfrm>
                  <a:custGeom>
                    <a:avLst/>
                    <a:gdLst/>
                    <a:ahLst/>
                    <a:rect l="l" t="t" r="r" b="b"/>
                    <a:pathLst>
                      <a:path w="2027" h="195">
                        <a:moveTo>
                          <a:pt x="0" y="186"/>
                        </a:moveTo>
                        <a:lnTo>
                          <a:pt x="121" y="74"/>
                        </a:lnTo>
                        <a:lnTo>
                          <a:pt x="174" y="55"/>
                        </a:lnTo>
                        <a:lnTo>
                          <a:pt x="243" y="47"/>
                        </a:lnTo>
                        <a:lnTo>
                          <a:pt x="409" y="41"/>
                        </a:lnTo>
                        <a:lnTo>
                          <a:pt x="457" y="40"/>
                        </a:lnTo>
                        <a:lnTo>
                          <a:pt x="578" y="25"/>
                        </a:lnTo>
                        <a:lnTo>
                          <a:pt x="660" y="16"/>
                        </a:lnTo>
                        <a:lnTo>
                          <a:pt x="726" y="22"/>
                        </a:lnTo>
                        <a:lnTo>
                          <a:pt x="819" y="38"/>
                        </a:lnTo>
                        <a:lnTo>
                          <a:pt x="901" y="34"/>
                        </a:lnTo>
                        <a:lnTo>
                          <a:pt x="1008" y="23"/>
                        </a:lnTo>
                        <a:lnTo>
                          <a:pt x="1107" y="12"/>
                        </a:lnTo>
                        <a:lnTo>
                          <a:pt x="1208" y="7"/>
                        </a:lnTo>
                        <a:lnTo>
                          <a:pt x="1352" y="1"/>
                        </a:lnTo>
                        <a:lnTo>
                          <a:pt x="1429" y="7"/>
                        </a:lnTo>
                        <a:lnTo>
                          <a:pt x="1532" y="0"/>
                        </a:lnTo>
                        <a:lnTo>
                          <a:pt x="1712" y="22"/>
                        </a:lnTo>
                        <a:lnTo>
                          <a:pt x="1777" y="16"/>
                        </a:lnTo>
                        <a:lnTo>
                          <a:pt x="1835" y="19"/>
                        </a:lnTo>
                        <a:lnTo>
                          <a:pt x="1892" y="31"/>
                        </a:lnTo>
                        <a:lnTo>
                          <a:pt x="1942" y="55"/>
                        </a:lnTo>
                        <a:lnTo>
                          <a:pt x="2027" y="116"/>
                        </a:lnTo>
                        <a:lnTo>
                          <a:pt x="1977" y="108"/>
                        </a:lnTo>
                        <a:lnTo>
                          <a:pt x="1930" y="107"/>
                        </a:lnTo>
                        <a:lnTo>
                          <a:pt x="1972" y="154"/>
                        </a:lnTo>
                        <a:lnTo>
                          <a:pt x="1819" y="132"/>
                        </a:lnTo>
                        <a:lnTo>
                          <a:pt x="1741" y="174"/>
                        </a:lnTo>
                        <a:lnTo>
                          <a:pt x="1722" y="150"/>
                        </a:lnTo>
                        <a:lnTo>
                          <a:pt x="1651" y="165"/>
                        </a:lnTo>
                        <a:lnTo>
                          <a:pt x="1585" y="157"/>
                        </a:lnTo>
                        <a:lnTo>
                          <a:pt x="1552" y="150"/>
                        </a:lnTo>
                        <a:lnTo>
                          <a:pt x="1510" y="153"/>
                        </a:lnTo>
                        <a:lnTo>
                          <a:pt x="1444" y="169"/>
                        </a:lnTo>
                        <a:lnTo>
                          <a:pt x="1371" y="192"/>
                        </a:lnTo>
                        <a:lnTo>
                          <a:pt x="1178" y="171"/>
                        </a:lnTo>
                        <a:lnTo>
                          <a:pt x="1107" y="189"/>
                        </a:lnTo>
                        <a:lnTo>
                          <a:pt x="918" y="157"/>
                        </a:lnTo>
                        <a:lnTo>
                          <a:pt x="783" y="154"/>
                        </a:lnTo>
                        <a:lnTo>
                          <a:pt x="668" y="195"/>
                        </a:lnTo>
                        <a:lnTo>
                          <a:pt x="635" y="174"/>
                        </a:lnTo>
                        <a:lnTo>
                          <a:pt x="490" y="138"/>
                        </a:lnTo>
                        <a:lnTo>
                          <a:pt x="405" y="190"/>
                        </a:lnTo>
                        <a:lnTo>
                          <a:pt x="343" y="177"/>
                        </a:lnTo>
                        <a:lnTo>
                          <a:pt x="324" y="177"/>
                        </a:lnTo>
                        <a:lnTo>
                          <a:pt x="262" y="156"/>
                        </a:lnTo>
                        <a:lnTo>
                          <a:pt x="250" y="140"/>
                        </a:lnTo>
                        <a:lnTo>
                          <a:pt x="201" y="147"/>
                        </a:lnTo>
                        <a:lnTo>
                          <a:pt x="201" y="131"/>
                        </a:lnTo>
                        <a:lnTo>
                          <a:pt x="94" y="135"/>
                        </a:lnTo>
                        <a:lnTo>
                          <a:pt x="0" y="186"/>
                        </a:lnTo>
                        <a:close/>
                      </a:path>
                    </a:pathLst>
                  </a:custGeom>
                  <a:solidFill>
                    <a:srgbClr val="00ff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5" name=""/>
                <p:cNvGrpSpPr/>
                <p:nvPr/>
              </p:nvGrpSpPr>
              <p:grpSpPr>
                <a:xfrm>
                  <a:off x="3436920" y="5564520"/>
                  <a:ext cx="888840" cy="233280"/>
                  <a:chOff x="3436920" y="5564520"/>
                  <a:chExt cx="888840" cy="233280"/>
                </a:xfrm>
              </p:grpSpPr>
              <p:grpSp>
                <p:nvGrpSpPr>
                  <p:cNvPr id="1446" name=""/>
                  <p:cNvGrpSpPr/>
                  <p:nvPr/>
                </p:nvGrpSpPr>
                <p:grpSpPr>
                  <a:xfrm>
                    <a:off x="3774960" y="5564520"/>
                    <a:ext cx="550800" cy="233280"/>
                    <a:chOff x="3774960" y="5564520"/>
                    <a:chExt cx="550800" cy="233280"/>
                  </a:xfrm>
                </p:grpSpPr>
                <p:sp>
                  <p:nvSpPr>
                    <p:cNvPr id="1447" name=""/>
                    <p:cNvSpPr/>
                    <p:nvPr/>
                  </p:nvSpPr>
                  <p:spPr>
                    <a:xfrm>
                      <a:off x="3976560" y="5564520"/>
                      <a:ext cx="349200" cy="223560"/>
                    </a:xfrm>
                    <a:custGeom>
                      <a:avLst/>
                      <a:gdLst/>
                      <a:ahLst/>
                      <a:rect l="l" t="t" r="r" b="b"/>
                      <a:pathLst>
                        <a:path w="220" h="141">
                          <a:moveTo>
                            <a:pt x="14" y="0"/>
                          </a:moveTo>
                          <a:lnTo>
                            <a:pt x="90" y="6"/>
                          </a:lnTo>
                          <a:lnTo>
                            <a:pt x="146" y="36"/>
                          </a:lnTo>
                          <a:lnTo>
                            <a:pt x="149" y="31"/>
                          </a:lnTo>
                          <a:lnTo>
                            <a:pt x="215" y="75"/>
                          </a:lnTo>
                          <a:lnTo>
                            <a:pt x="220" y="118"/>
                          </a:lnTo>
                          <a:lnTo>
                            <a:pt x="181" y="141"/>
                          </a:lnTo>
                          <a:lnTo>
                            <a:pt x="36" y="72"/>
                          </a:lnTo>
                          <a:lnTo>
                            <a:pt x="0" y="26"/>
                          </a:lnTo>
                          <a:lnTo>
                            <a:pt x="14" y="0"/>
                          </a:lnTo>
                          <a:close/>
                        </a:path>
                      </a:pathLst>
                    </a:custGeom>
                    <a:solidFill>
                      <a:srgbClr val="7f3f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3774960" y="5564520"/>
                      <a:ext cx="480960" cy="233280"/>
                    </a:xfrm>
                    <a:custGeom>
                      <a:avLst/>
                      <a:gdLst/>
                      <a:ahLst/>
                      <a:rect l="l" t="t" r="r" b="b"/>
                      <a:pathLst>
                        <a:path w="303" h="147">
                          <a:moveTo>
                            <a:pt x="140" y="0"/>
                          </a:moveTo>
                          <a:lnTo>
                            <a:pt x="102" y="21"/>
                          </a:lnTo>
                          <a:lnTo>
                            <a:pt x="69" y="33"/>
                          </a:lnTo>
                          <a:lnTo>
                            <a:pt x="50" y="60"/>
                          </a:lnTo>
                          <a:lnTo>
                            <a:pt x="31" y="85"/>
                          </a:lnTo>
                          <a:lnTo>
                            <a:pt x="20" y="114"/>
                          </a:lnTo>
                          <a:lnTo>
                            <a:pt x="15" y="133"/>
                          </a:lnTo>
                          <a:lnTo>
                            <a:pt x="0" y="140"/>
                          </a:lnTo>
                          <a:lnTo>
                            <a:pt x="136" y="145"/>
                          </a:lnTo>
                          <a:lnTo>
                            <a:pt x="250" y="147"/>
                          </a:lnTo>
                          <a:lnTo>
                            <a:pt x="303" y="141"/>
                          </a:lnTo>
                          <a:lnTo>
                            <a:pt x="290" y="114"/>
                          </a:lnTo>
                          <a:lnTo>
                            <a:pt x="257" y="95"/>
                          </a:lnTo>
                          <a:lnTo>
                            <a:pt x="243" y="76"/>
                          </a:lnTo>
                          <a:lnTo>
                            <a:pt x="229" y="61"/>
                          </a:lnTo>
                          <a:lnTo>
                            <a:pt x="207" y="52"/>
                          </a:lnTo>
                          <a:lnTo>
                            <a:pt x="177" y="42"/>
                          </a:lnTo>
                          <a:lnTo>
                            <a:pt x="165" y="29"/>
                          </a:lnTo>
                          <a:lnTo>
                            <a:pt x="154" y="13"/>
                          </a:lnTo>
                          <a:lnTo>
                            <a:pt x="140" y="0"/>
                          </a:lnTo>
                          <a:close/>
                        </a:path>
                      </a:pathLst>
                    </a:custGeom>
                    <a:solidFill>
                      <a:srgbClr val="bf7f3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9" name=""/>
                  <p:cNvGrpSpPr/>
                  <p:nvPr/>
                </p:nvGrpSpPr>
                <p:grpSpPr>
                  <a:xfrm>
                    <a:off x="3436920" y="5583240"/>
                    <a:ext cx="208080" cy="115920"/>
                    <a:chOff x="3436920" y="5583240"/>
                    <a:chExt cx="208080" cy="115920"/>
                  </a:xfrm>
                </p:grpSpPr>
                <p:sp>
                  <p:nvSpPr>
                    <p:cNvPr id="1450" name=""/>
                    <p:cNvSpPr/>
                    <p:nvPr/>
                  </p:nvSpPr>
                  <p:spPr>
                    <a:xfrm>
                      <a:off x="3546360" y="5583240"/>
                      <a:ext cx="98640" cy="103320"/>
                    </a:xfrm>
                    <a:custGeom>
                      <a:avLst/>
                      <a:gdLst/>
                      <a:ahLst/>
                      <a:rect l="l" t="t" r="r" b="b"/>
                      <a:pathLst>
                        <a:path w="62" h="65">
                          <a:moveTo>
                            <a:pt x="4" y="0"/>
                          </a:moveTo>
                          <a:lnTo>
                            <a:pt x="27" y="11"/>
                          </a:lnTo>
                          <a:lnTo>
                            <a:pt x="51" y="35"/>
                          </a:lnTo>
                          <a:lnTo>
                            <a:pt x="60" y="50"/>
                          </a:lnTo>
                          <a:lnTo>
                            <a:pt x="62" y="65"/>
                          </a:lnTo>
                          <a:lnTo>
                            <a:pt x="15" y="59"/>
                          </a:lnTo>
                          <a:lnTo>
                            <a:pt x="0" y="25"/>
                          </a:lnTo>
                          <a:lnTo>
                            <a:pt x="4" y="0"/>
                          </a:lnTo>
                          <a:close/>
                        </a:path>
                      </a:pathLst>
                    </a:custGeom>
                    <a:solidFill>
                      <a:srgbClr val="bf7f3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3436920" y="5585040"/>
                      <a:ext cx="147600" cy="114120"/>
                    </a:xfrm>
                    <a:custGeom>
                      <a:avLst/>
                      <a:gdLst/>
                      <a:ahLst/>
                      <a:rect l="l" t="t" r="r" b="b"/>
                      <a:pathLst>
                        <a:path w="93" h="72">
                          <a:moveTo>
                            <a:pt x="69" y="0"/>
                          </a:moveTo>
                          <a:lnTo>
                            <a:pt x="51" y="11"/>
                          </a:lnTo>
                          <a:lnTo>
                            <a:pt x="38" y="15"/>
                          </a:lnTo>
                          <a:lnTo>
                            <a:pt x="32" y="24"/>
                          </a:lnTo>
                          <a:lnTo>
                            <a:pt x="19" y="32"/>
                          </a:lnTo>
                          <a:lnTo>
                            <a:pt x="13" y="55"/>
                          </a:lnTo>
                          <a:lnTo>
                            <a:pt x="0" y="61"/>
                          </a:lnTo>
                          <a:lnTo>
                            <a:pt x="22" y="72"/>
                          </a:lnTo>
                          <a:lnTo>
                            <a:pt x="49" y="64"/>
                          </a:lnTo>
                          <a:lnTo>
                            <a:pt x="58" y="69"/>
                          </a:lnTo>
                          <a:lnTo>
                            <a:pt x="84" y="60"/>
                          </a:lnTo>
                          <a:lnTo>
                            <a:pt x="93" y="51"/>
                          </a:lnTo>
                          <a:lnTo>
                            <a:pt x="88" y="36"/>
                          </a:lnTo>
                          <a:lnTo>
                            <a:pt x="88" y="24"/>
                          </a:lnTo>
                          <a:lnTo>
                            <a:pt x="69" y="0"/>
                          </a:lnTo>
                          <a:close/>
                        </a:path>
                      </a:pathLst>
                    </a:custGeom>
                    <a:solidFill>
                      <a:srgbClr val="bf7f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nvGrpSpPr>
            <p:cNvPr id="1452" name=""/>
            <p:cNvGrpSpPr/>
            <p:nvPr/>
          </p:nvGrpSpPr>
          <p:grpSpPr>
            <a:xfrm>
              <a:off x="2320920" y="2986200"/>
              <a:ext cx="4794120" cy="881280"/>
              <a:chOff x="2320920" y="2986200"/>
              <a:chExt cx="4794120" cy="881280"/>
            </a:xfrm>
          </p:grpSpPr>
          <p:grpSp>
            <p:nvGrpSpPr>
              <p:cNvPr id="1453" name=""/>
              <p:cNvGrpSpPr/>
              <p:nvPr/>
            </p:nvGrpSpPr>
            <p:grpSpPr>
              <a:xfrm>
                <a:off x="2320920" y="2986200"/>
                <a:ext cx="2597040" cy="846360"/>
                <a:chOff x="2320920" y="2986200"/>
                <a:chExt cx="2597040" cy="846360"/>
              </a:xfrm>
            </p:grpSpPr>
            <p:grpSp>
              <p:nvGrpSpPr>
                <p:cNvPr id="1454" name=""/>
                <p:cNvGrpSpPr/>
                <p:nvPr/>
              </p:nvGrpSpPr>
              <p:grpSpPr>
                <a:xfrm>
                  <a:off x="2320920" y="3108600"/>
                  <a:ext cx="1860480" cy="722160"/>
                  <a:chOff x="2320920" y="3108600"/>
                  <a:chExt cx="1860480" cy="722160"/>
                </a:xfrm>
              </p:grpSpPr>
              <p:grpSp>
                <p:nvGrpSpPr>
                  <p:cNvPr id="1455" name=""/>
                  <p:cNvGrpSpPr/>
                  <p:nvPr/>
                </p:nvGrpSpPr>
                <p:grpSpPr>
                  <a:xfrm>
                    <a:off x="2320920" y="3108600"/>
                    <a:ext cx="1860480" cy="722160"/>
                    <a:chOff x="2320920" y="3108600"/>
                    <a:chExt cx="1860480" cy="722160"/>
                  </a:xfrm>
                </p:grpSpPr>
                <p:grpSp>
                  <p:nvGrpSpPr>
                    <p:cNvPr id="1456" name=""/>
                    <p:cNvGrpSpPr/>
                    <p:nvPr/>
                  </p:nvGrpSpPr>
                  <p:grpSpPr>
                    <a:xfrm>
                      <a:off x="2406600" y="3108600"/>
                      <a:ext cx="1152720" cy="722160"/>
                      <a:chOff x="2406600" y="3108600"/>
                      <a:chExt cx="1152720" cy="722160"/>
                    </a:xfrm>
                  </p:grpSpPr>
                  <p:grpSp>
                    <p:nvGrpSpPr>
                      <p:cNvPr id="1457" name=""/>
                      <p:cNvGrpSpPr/>
                      <p:nvPr/>
                    </p:nvGrpSpPr>
                    <p:grpSpPr>
                      <a:xfrm>
                        <a:off x="2406600" y="3108600"/>
                        <a:ext cx="523800" cy="290520"/>
                        <a:chOff x="2406600" y="3108600"/>
                        <a:chExt cx="523800" cy="290520"/>
                      </a:xfrm>
                    </p:grpSpPr>
                    <p:sp>
                      <p:nvSpPr>
                        <p:cNvPr id="1458" name=""/>
                        <p:cNvSpPr/>
                        <p:nvPr/>
                      </p:nvSpPr>
                      <p:spPr>
                        <a:xfrm>
                          <a:off x="2535120" y="3114720"/>
                          <a:ext cx="395280" cy="284400"/>
                        </a:xfrm>
                        <a:custGeom>
                          <a:avLst/>
                          <a:gdLst/>
                          <a:ahLst/>
                          <a:rect l="l" t="t" r="r" b="b"/>
                          <a:pathLst>
                            <a:path w="249" h="179">
                              <a:moveTo>
                                <a:pt x="30" y="128"/>
                              </a:moveTo>
                              <a:lnTo>
                                <a:pt x="8" y="138"/>
                              </a:lnTo>
                              <a:lnTo>
                                <a:pt x="0" y="155"/>
                              </a:lnTo>
                              <a:lnTo>
                                <a:pt x="18" y="165"/>
                              </a:lnTo>
                              <a:lnTo>
                                <a:pt x="29" y="168"/>
                              </a:lnTo>
                              <a:lnTo>
                                <a:pt x="30" y="179"/>
                              </a:lnTo>
                              <a:lnTo>
                                <a:pt x="55" y="179"/>
                              </a:lnTo>
                              <a:lnTo>
                                <a:pt x="65" y="169"/>
                              </a:lnTo>
                              <a:lnTo>
                                <a:pt x="74" y="153"/>
                              </a:lnTo>
                              <a:lnTo>
                                <a:pt x="74" y="141"/>
                              </a:lnTo>
                              <a:lnTo>
                                <a:pt x="84" y="150"/>
                              </a:lnTo>
                              <a:lnTo>
                                <a:pt x="85" y="157"/>
                              </a:lnTo>
                              <a:lnTo>
                                <a:pt x="93" y="163"/>
                              </a:lnTo>
                              <a:lnTo>
                                <a:pt x="111" y="167"/>
                              </a:lnTo>
                              <a:lnTo>
                                <a:pt x="133" y="166"/>
                              </a:lnTo>
                              <a:lnTo>
                                <a:pt x="150" y="163"/>
                              </a:lnTo>
                              <a:lnTo>
                                <a:pt x="167" y="166"/>
                              </a:lnTo>
                              <a:lnTo>
                                <a:pt x="181" y="177"/>
                              </a:lnTo>
                              <a:lnTo>
                                <a:pt x="224" y="163"/>
                              </a:lnTo>
                              <a:lnTo>
                                <a:pt x="249" y="151"/>
                              </a:lnTo>
                              <a:lnTo>
                                <a:pt x="235" y="144"/>
                              </a:lnTo>
                              <a:lnTo>
                                <a:pt x="221" y="140"/>
                              </a:lnTo>
                              <a:lnTo>
                                <a:pt x="208" y="138"/>
                              </a:lnTo>
                              <a:lnTo>
                                <a:pt x="208" y="118"/>
                              </a:lnTo>
                              <a:lnTo>
                                <a:pt x="228" y="105"/>
                              </a:lnTo>
                              <a:lnTo>
                                <a:pt x="236" y="95"/>
                              </a:lnTo>
                              <a:lnTo>
                                <a:pt x="238" y="85"/>
                              </a:lnTo>
                              <a:lnTo>
                                <a:pt x="230" y="78"/>
                              </a:lnTo>
                              <a:lnTo>
                                <a:pt x="219" y="72"/>
                              </a:lnTo>
                              <a:lnTo>
                                <a:pt x="203" y="64"/>
                              </a:lnTo>
                              <a:lnTo>
                                <a:pt x="191" y="61"/>
                              </a:lnTo>
                              <a:lnTo>
                                <a:pt x="178" y="35"/>
                              </a:lnTo>
                              <a:lnTo>
                                <a:pt x="164" y="13"/>
                              </a:lnTo>
                              <a:lnTo>
                                <a:pt x="153" y="6"/>
                              </a:lnTo>
                              <a:lnTo>
                                <a:pt x="137" y="1"/>
                              </a:lnTo>
                              <a:lnTo>
                                <a:pt x="117" y="0"/>
                              </a:lnTo>
                              <a:lnTo>
                                <a:pt x="98" y="0"/>
                              </a:lnTo>
                              <a:lnTo>
                                <a:pt x="74" y="4"/>
                              </a:lnTo>
                              <a:lnTo>
                                <a:pt x="51" y="14"/>
                              </a:lnTo>
                              <a:lnTo>
                                <a:pt x="30" y="26"/>
                              </a:lnTo>
                              <a:lnTo>
                                <a:pt x="22" y="34"/>
                              </a:lnTo>
                              <a:lnTo>
                                <a:pt x="13" y="50"/>
                              </a:lnTo>
                              <a:lnTo>
                                <a:pt x="10" y="66"/>
                              </a:lnTo>
                              <a:lnTo>
                                <a:pt x="18" y="97"/>
                              </a:lnTo>
                              <a:lnTo>
                                <a:pt x="30" y="128"/>
                              </a:lnTo>
                              <a:close/>
                            </a:path>
                          </a:pathLst>
                        </a:custGeom>
                        <a:solidFill>
                          <a:srgbClr val="ffbf5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9" name=""/>
                        <p:cNvGrpSpPr/>
                        <p:nvPr/>
                      </p:nvGrpSpPr>
                      <p:grpSpPr>
                        <a:xfrm>
                          <a:off x="2406600" y="3108600"/>
                          <a:ext cx="461880" cy="253800"/>
                          <a:chOff x="2406600" y="3108600"/>
                          <a:chExt cx="461880" cy="253800"/>
                        </a:xfrm>
                      </p:grpSpPr>
                      <p:sp>
                        <p:nvSpPr>
                          <p:cNvPr id="1460" name=""/>
                          <p:cNvSpPr/>
                          <p:nvPr/>
                        </p:nvSpPr>
                        <p:spPr>
                          <a:xfrm>
                            <a:off x="2827440" y="3225960"/>
                            <a:ext cx="41040" cy="69840"/>
                          </a:xfrm>
                          <a:custGeom>
                            <a:avLst/>
                            <a:gdLst/>
                            <a:ahLst/>
                            <a:rect l="l" t="t" r="r" b="b"/>
                            <a:pathLst>
                              <a:path w="26" h="44">
                                <a:moveTo>
                                  <a:pt x="4" y="0"/>
                                </a:moveTo>
                                <a:lnTo>
                                  <a:pt x="0" y="17"/>
                                </a:lnTo>
                                <a:lnTo>
                                  <a:pt x="18" y="27"/>
                                </a:lnTo>
                                <a:lnTo>
                                  <a:pt x="5" y="44"/>
                                </a:lnTo>
                                <a:lnTo>
                                  <a:pt x="26" y="44"/>
                                </a:lnTo>
                              </a:path>
                            </a:pathLst>
                          </a:custGeom>
                          <a:noFill/>
                          <a:ln w="176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1" name=""/>
                          <p:cNvSpPr/>
                          <p:nvPr/>
                        </p:nvSpPr>
                        <p:spPr>
                          <a:xfrm>
                            <a:off x="2676600" y="3160800"/>
                            <a:ext cx="106200" cy="77760"/>
                          </a:xfrm>
                          <a:custGeom>
                            <a:avLst/>
                            <a:gdLst/>
                            <a:ahLst/>
                            <a:rect l="l" t="t" r="r" b="b"/>
                            <a:pathLst>
                              <a:path w="67" h="49">
                                <a:moveTo>
                                  <a:pt x="0" y="0"/>
                                </a:moveTo>
                                <a:lnTo>
                                  <a:pt x="14" y="3"/>
                                </a:lnTo>
                                <a:lnTo>
                                  <a:pt x="34" y="8"/>
                                </a:lnTo>
                                <a:lnTo>
                                  <a:pt x="48" y="14"/>
                                </a:lnTo>
                                <a:lnTo>
                                  <a:pt x="56" y="19"/>
                                </a:lnTo>
                                <a:lnTo>
                                  <a:pt x="61" y="31"/>
                                </a:lnTo>
                                <a:lnTo>
                                  <a:pt x="67" y="49"/>
                                </a:lnTo>
                              </a:path>
                            </a:pathLst>
                          </a:custGeom>
                          <a:noFill/>
                          <a:ln w="176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62" name=""/>
                          <p:cNvSpPr/>
                          <p:nvPr/>
                        </p:nvSpPr>
                        <p:spPr>
                          <a:xfrm>
                            <a:off x="2700360" y="3213360"/>
                            <a:ext cx="95400" cy="19080"/>
                          </a:xfrm>
                          <a:custGeom>
                            <a:avLst/>
                            <a:gdLst/>
                            <a:ahLst/>
                            <a:rect l="l" t="t" r="r" b="b"/>
                            <a:pathLst>
                              <a:path w="60" h="12">
                                <a:moveTo>
                                  <a:pt x="0" y="0"/>
                                </a:moveTo>
                                <a:lnTo>
                                  <a:pt x="18" y="8"/>
                                </a:lnTo>
                                <a:lnTo>
                                  <a:pt x="35" y="12"/>
                                </a:lnTo>
                                <a:lnTo>
                                  <a:pt x="60" y="7"/>
                                </a:lnTo>
                              </a:path>
                            </a:pathLst>
                          </a:custGeom>
                          <a:noFill/>
                          <a:ln w="176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3" name=""/>
                          <p:cNvSpPr/>
                          <p:nvPr/>
                        </p:nvSpPr>
                        <p:spPr>
                          <a:xfrm>
                            <a:off x="2635200" y="3240360"/>
                            <a:ext cx="73080" cy="38160"/>
                          </a:xfrm>
                          <a:custGeom>
                            <a:avLst/>
                            <a:gdLst/>
                            <a:ahLst/>
                            <a:rect l="l" t="t" r="r" b="b"/>
                            <a:pathLst>
                              <a:path w="46" h="24">
                                <a:moveTo>
                                  <a:pt x="0" y="0"/>
                                </a:moveTo>
                                <a:lnTo>
                                  <a:pt x="16" y="3"/>
                                </a:lnTo>
                                <a:lnTo>
                                  <a:pt x="29" y="6"/>
                                </a:lnTo>
                                <a:lnTo>
                                  <a:pt x="46" y="24"/>
                                </a:lnTo>
                              </a:path>
                            </a:pathLst>
                          </a:custGeom>
                          <a:noFill/>
                          <a:ln w="176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64" name=""/>
                          <p:cNvSpPr/>
                          <p:nvPr/>
                        </p:nvSpPr>
                        <p:spPr>
                          <a:xfrm>
                            <a:off x="2668680" y="3348360"/>
                            <a:ext cx="92160" cy="14040"/>
                          </a:xfrm>
                          <a:custGeom>
                            <a:avLst/>
                            <a:gdLst/>
                            <a:ahLst/>
                            <a:rect l="l" t="t" r="r" b="b"/>
                            <a:pathLst>
                              <a:path w="58" h="9">
                                <a:moveTo>
                                  <a:pt x="0" y="3"/>
                                </a:moveTo>
                                <a:lnTo>
                                  <a:pt x="14" y="0"/>
                                </a:lnTo>
                                <a:lnTo>
                                  <a:pt x="30" y="1"/>
                                </a:lnTo>
                                <a:lnTo>
                                  <a:pt x="47" y="6"/>
                                </a:lnTo>
                                <a:lnTo>
                                  <a:pt x="58" y="9"/>
                                </a:lnTo>
                              </a:path>
                            </a:pathLst>
                          </a:custGeom>
                          <a:noFill/>
                          <a:ln w="176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65" name=""/>
                          <p:cNvSpPr/>
                          <p:nvPr/>
                        </p:nvSpPr>
                        <p:spPr>
                          <a:xfrm>
                            <a:off x="2406600" y="3205440"/>
                            <a:ext cx="149400" cy="21960"/>
                          </a:xfrm>
                          <a:custGeom>
                            <a:avLst/>
                            <a:gdLst/>
                            <a:ahLst/>
                            <a:rect l="l" t="t" r="r" b="b"/>
                            <a:pathLst>
                              <a:path w="94" h="14">
                                <a:moveTo>
                                  <a:pt x="0" y="0"/>
                                </a:moveTo>
                                <a:lnTo>
                                  <a:pt x="19" y="8"/>
                                </a:lnTo>
                                <a:lnTo>
                                  <a:pt x="34" y="12"/>
                                </a:lnTo>
                                <a:lnTo>
                                  <a:pt x="56" y="14"/>
                                </a:lnTo>
                                <a:lnTo>
                                  <a:pt x="75" y="12"/>
                                </a:lnTo>
                                <a:lnTo>
                                  <a:pt x="94" y="9"/>
                                </a:lnTo>
                              </a:path>
                            </a:pathLst>
                          </a:custGeom>
                          <a:noFill/>
                          <a:ln w="176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6" name=""/>
                          <p:cNvSpPr/>
                          <p:nvPr/>
                        </p:nvSpPr>
                        <p:spPr>
                          <a:xfrm>
                            <a:off x="2463840" y="3162600"/>
                            <a:ext cx="152280" cy="27000"/>
                          </a:xfrm>
                          <a:custGeom>
                            <a:avLst/>
                            <a:gdLst/>
                            <a:ahLst/>
                            <a:rect l="l" t="t" r="r" b="b"/>
                            <a:pathLst>
                              <a:path w="96" h="17">
                                <a:moveTo>
                                  <a:pt x="0" y="5"/>
                                </a:moveTo>
                                <a:lnTo>
                                  <a:pt x="9" y="13"/>
                                </a:lnTo>
                                <a:lnTo>
                                  <a:pt x="19" y="16"/>
                                </a:lnTo>
                                <a:lnTo>
                                  <a:pt x="39" y="17"/>
                                </a:lnTo>
                                <a:lnTo>
                                  <a:pt x="58" y="15"/>
                                </a:lnTo>
                                <a:lnTo>
                                  <a:pt x="69" y="11"/>
                                </a:lnTo>
                                <a:lnTo>
                                  <a:pt x="82" y="5"/>
                                </a:lnTo>
                                <a:lnTo>
                                  <a:pt x="96" y="0"/>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7" name=""/>
                          <p:cNvSpPr/>
                          <p:nvPr/>
                        </p:nvSpPr>
                        <p:spPr>
                          <a:xfrm>
                            <a:off x="2576520" y="3108600"/>
                            <a:ext cx="128520" cy="21960"/>
                          </a:xfrm>
                          <a:custGeom>
                            <a:avLst/>
                            <a:gdLst/>
                            <a:ahLst/>
                            <a:rect l="l" t="t" r="r" b="b"/>
                            <a:pathLst>
                              <a:path w="81" h="14">
                                <a:moveTo>
                                  <a:pt x="0" y="14"/>
                                </a:moveTo>
                                <a:lnTo>
                                  <a:pt x="18" y="10"/>
                                </a:lnTo>
                                <a:lnTo>
                                  <a:pt x="39" y="2"/>
                                </a:lnTo>
                                <a:lnTo>
                                  <a:pt x="58" y="0"/>
                                </a:lnTo>
                                <a:lnTo>
                                  <a:pt x="81" y="9"/>
                                </a:lnTo>
                              </a:path>
                            </a:pathLst>
                          </a:custGeom>
                          <a:noFill/>
                          <a:ln w="176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8" name=""/>
                          <p:cNvSpPr/>
                          <p:nvPr/>
                        </p:nvSpPr>
                        <p:spPr>
                          <a:xfrm>
                            <a:off x="2622600" y="3265560"/>
                            <a:ext cx="23760" cy="28800"/>
                          </a:xfrm>
                          <a:prstGeom prst="ellipse">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nvGrpSpPr>
                      <p:cNvPr id="1469" name=""/>
                      <p:cNvGrpSpPr/>
                      <p:nvPr/>
                    </p:nvGrpSpPr>
                    <p:grpSpPr>
                      <a:xfrm>
                        <a:off x="2673360" y="3314880"/>
                        <a:ext cx="885960" cy="515880"/>
                        <a:chOff x="2673360" y="3314880"/>
                        <a:chExt cx="885960" cy="515880"/>
                      </a:xfrm>
                    </p:grpSpPr>
                    <p:grpSp>
                      <p:nvGrpSpPr>
                        <p:cNvPr id="1470" name=""/>
                        <p:cNvGrpSpPr/>
                        <p:nvPr/>
                      </p:nvGrpSpPr>
                      <p:grpSpPr>
                        <a:xfrm>
                          <a:off x="2935440" y="3483000"/>
                          <a:ext cx="623880" cy="347760"/>
                          <a:chOff x="2935440" y="3483000"/>
                          <a:chExt cx="623880" cy="347760"/>
                        </a:xfrm>
                      </p:grpSpPr>
                      <p:grpSp>
                        <p:nvGrpSpPr>
                          <p:cNvPr id="1471" name=""/>
                          <p:cNvGrpSpPr/>
                          <p:nvPr/>
                        </p:nvGrpSpPr>
                        <p:grpSpPr>
                          <a:xfrm>
                            <a:off x="3209760" y="3575160"/>
                            <a:ext cx="349560" cy="255600"/>
                            <a:chOff x="3209760" y="3575160"/>
                            <a:chExt cx="349560" cy="255600"/>
                          </a:xfrm>
                        </p:grpSpPr>
                        <p:sp>
                          <p:nvSpPr>
                            <p:cNvPr id="1472" name=""/>
                            <p:cNvSpPr/>
                            <p:nvPr/>
                          </p:nvSpPr>
                          <p:spPr>
                            <a:xfrm>
                              <a:off x="3209760" y="3575160"/>
                              <a:ext cx="349560" cy="255600"/>
                            </a:xfrm>
                            <a:custGeom>
                              <a:avLst/>
                              <a:gdLst/>
                              <a:ahLst/>
                              <a:rect l="l" t="t" r="r" b="b"/>
                              <a:pathLst>
                                <a:path w="220" h="161">
                                  <a:moveTo>
                                    <a:pt x="112" y="41"/>
                                  </a:moveTo>
                                  <a:lnTo>
                                    <a:pt x="138" y="28"/>
                                  </a:lnTo>
                                  <a:lnTo>
                                    <a:pt x="157" y="14"/>
                                  </a:lnTo>
                                  <a:lnTo>
                                    <a:pt x="164" y="7"/>
                                  </a:lnTo>
                                  <a:lnTo>
                                    <a:pt x="175" y="2"/>
                                  </a:lnTo>
                                  <a:lnTo>
                                    <a:pt x="187" y="0"/>
                                  </a:lnTo>
                                  <a:lnTo>
                                    <a:pt x="212" y="16"/>
                                  </a:lnTo>
                                  <a:lnTo>
                                    <a:pt x="216" y="28"/>
                                  </a:lnTo>
                                  <a:lnTo>
                                    <a:pt x="220" y="49"/>
                                  </a:lnTo>
                                  <a:lnTo>
                                    <a:pt x="217" y="56"/>
                                  </a:lnTo>
                                  <a:lnTo>
                                    <a:pt x="189" y="74"/>
                                  </a:lnTo>
                                  <a:lnTo>
                                    <a:pt x="194" y="95"/>
                                  </a:lnTo>
                                  <a:lnTo>
                                    <a:pt x="167" y="110"/>
                                  </a:lnTo>
                                  <a:lnTo>
                                    <a:pt x="140" y="122"/>
                                  </a:lnTo>
                                  <a:lnTo>
                                    <a:pt x="118" y="111"/>
                                  </a:lnTo>
                                  <a:lnTo>
                                    <a:pt x="120" y="128"/>
                                  </a:lnTo>
                                  <a:lnTo>
                                    <a:pt x="77" y="145"/>
                                  </a:lnTo>
                                  <a:lnTo>
                                    <a:pt x="36" y="161"/>
                                  </a:lnTo>
                                  <a:lnTo>
                                    <a:pt x="19" y="149"/>
                                  </a:lnTo>
                                  <a:lnTo>
                                    <a:pt x="8" y="142"/>
                                  </a:lnTo>
                                  <a:lnTo>
                                    <a:pt x="0" y="121"/>
                                  </a:lnTo>
                                  <a:lnTo>
                                    <a:pt x="115" y="76"/>
                                  </a:lnTo>
                                  <a:lnTo>
                                    <a:pt x="112" y="41"/>
                                  </a:lnTo>
                                  <a:close/>
                                </a:path>
                              </a:pathLst>
                            </a:custGeom>
                            <a:solidFill>
                              <a:srgbClr val="7f5f3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3436920" y="3675240"/>
                              <a:ext cx="69840" cy="20520"/>
                            </a:xfrm>
                            <a:custGeom>
                              <a:avLst/>
                              <a:gdLst/>
                              <a:ahLst/>
                              <a:rect l="l" t="t" r="r" b="b"/>
                              <a:pathLst>
                                <a:path w="44" h="13">
                                  <a:moveTo>
                                    <a:pt x="0" y="8"/>
                                  </a:moveTo>
                                  <a:lnTo>
                                    <a:pt x="27" y="0"/>
                                  </a:lnTo>
                                  <a:lnTo>
                                    <a:pt x="44" y="13"/>
                                  </a:lnTo>
                                </a:path>
                              </a:pathLst>
                            </a:custGeom>
                            <a:noFill/>
                            <a:ln w="176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74" name=""/>
                          <p:cNvGrpSpPr/>
                          <p:nvPr/>
                        </p:nvGrpSpPr>
                        <p:grpSpPr>
                          <a:xfrm>
                            <a:off x="2935440" y="3483000"/>
                            <a:ext cx="517320" cy="293760"/>
                            <a:chOff x="2935440" y="3483000"/>
                            <a:chExt cx="517320" cy="293760"/>
                          </a:xfrm>
                        </p:grpSpPr>
                        <p:sp>
                          <p:nvSpPr>
                            <p:cNvPr id="1475" name=""/>
                            <p:cNvSpPr/>
                            <p:nvPr/>
                          </p:nvSpPr>
                          <p:spPr>
                            <a:xfrm>
                              <a:off x="3049560" y="3483000"/>
                              <a:ext cx="403200" cy="260640"/>
                            </a:xfrm>
                            <a:custGeom>
                              <a:avLst/>
                              <a:gdLst/>
                              <a:ahLst/>
                              <a:rect l="l" t="t" r="r" b="b"/>
                              <a:pathLst>
                                <a:path w="254" h="164">
                                  <a:moveTo>
                                    <a:pt x="0" y="21"/>
                                  </a:moveTo>
                                  <a:lnTo>
                                    <a:pt x="30" y="0"/>
                                  </a:lnTo>
                                  <a:lnTo>
                                    <a:pt x="60" y="12"/>
                                  </a:lnTo>
                                  <a:lnTo>
                                    <a:pt x="65" y="23"/>
                                  </a:lnTo>
                                  <a:lnTo>
                                    <a:pt x="93" y="21"/>
                                  </a:lnTo>
                                  <a:lnTo>
                                    <a:pt x="126" y="27"/>
                                  </a:lnTo>
                                  <a:lnTo>
                                    <a:pt x="155" y="21"/>
                                  </a:lnTo>
                                  <a:lnTo>
                                    <a:pt x="180" y="31"/>
                                  </a:lnTo>
                                  <a:lnTo>
                                    <a:pt x="208" y="27"/>
                                  </a:lnTo>
                                  <a:lnTo>
                                    <a:pt x="219" y="35"/>
                                  </a:lnTo>
                                  <a:lnTo>
                                    <a:pt x="222" y="53"/>
                                  </a:lnTo>
                                  <a:lnTo>
                                    <a:pt x="217" y="66"/>
                                  </a:lnTo>
                                  <a:lnTo>
                                    <a:pt x="221" y="81"/>
                                  </a:lnTo>
                                  <a:lnTo>
                                    <a:pt x="230" y="90"/>
                                  </a:lnTo>
                                  <a:lnTo>
                                    <a:pt x="241" y="96"/>
                                  </a:lnTo>
                                  <a:lnTo>
                                    <a:pt x="247" y="111"/>
                                  </a:lnTo>
                                  <a:lnTo>
                                    <a:pt x="254" y="126"/>
                                  </a:lnTo>
                                  <a:lnTo>
                                    <a:pt x="249" y="137"/>
                                  </a:lnTo>
                                  <a:lnTo>
                                    <a:pt x="199" y="158"/>
                                  </a:lnTo>
                                  <a:lnTo>
                                    <a:pt x="173" y="164"/>
                                  </a:lnTo>
                                  <a:lnTo>
                                    <a:pt x="133" y="68"/>
                                  </a:lnTo>
                                  <a:lnTo>
                                    <a:pt x="15" y="48"/>
                                  </a:lnTo>
                                  <a:lnTo>
                                    <a:pt x="0" y="21"/>
                                  </a:lnTo>
                                  <a:close/>
                                </a:path>
                              </a:pathLst>
                            </a:custGeom>
                            <a:solidFill>
                              <a:srgbClr val="0000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2935440" y="3500640"/>
                              <a:ext cx="436320" cy="276120"/>
                            </a:xfrm>
                            <a:custGeom>
                              <a:avLst/>
                              <a:gdLst/>
                              <a:ahLst/>
                              <a:rect l="l" t="t" r="r" b="b"/>
                              <a:pathLst>
                                <a:path w="275" h="174">
                                  <a:moveTo>
                                    <a:pt x="0" y="38"/>
                                  </a:moveTo>
                                  <a:lnTo>
                                    <a:pt x="21" y="10"/>
                                  </a:lnTo>
                                  <a:lnTo>
                                    <a:pt x="44" y="0"/>
                                  </a:lnTo>
                                  <a:lnTo>
                                    <a:pt x="63" y="1"/>
                                  </a:lnTo>
                                  <a:lnTo>
                                    <a:pt x="83" y="1"/>
                                  </a:lnTo>
                                  <a:lnTo>
                                    <a:pt x="99" y="16"/>
                                  </a:lnTo>
                                  <a:lnTo>
                                    <a:pt x="98" y="24"/>
                                  </a:lnTo>
                                  <a:lnTo>
                                    <a:pt x="115" y="29"/>
                                  </a:lnTo>
                                  <a:lnTo>
                                    <a:pt x="135" y="30"/>
                                  </a:lnTo>
                                  <a:lnTo>
                                    <a:pt x="159" y="25"/>
                                  </a:lnTo>
                                  <a:lnTo>
                                    <a:pt x="176" y="31"/>
                                  </a:lnTo>
                                  <a:lnTo>
                                    <a:pt x="194" y="42"/>
                                  </a:lnTo>
                                  <a:lnTo>
                                    <a:pt x="219" y="42"/>
                                  </a:lnTo>
                                  <a:lnTo>
                                    <a:pt x="233" y="50"/>
                                  </a:lnTo>
                                  <a:lnTo>
                                    <a:pt x="223" y="59"/>
                                  </a:lnTo>
                                  <a:lnTo>
                                    <a:pt x="239" y="62"/>
                                  </a:lnTo>
                                  <a:lnTo>
                                    <a:pt x="241" y="91"/>
                                  </a:lnTo>
                                  <a:lnTo>
                                    <a:pt x="247" y="100"/>
                                  </a:lnTo>
                                  <a:lnTo>
                                    <a:pt x="253" y="113"/>
                                  </a:lnTo>
                                  <a:lnTo>
                                    <a:pt x="256" y="126"/>
                                  </a:lnTo>
                                  <a:lnTo>
                                    <a:pt x="261" y="138"/>
                                  </a:lnTo>
                                  <a:lnTo>
                                    <a:pt x="275" y="153"/>
                                  </a:lnTo>
                                  <a:lnTo>
                                    <a:pt x="205" y="174"/>
                                  </a:lnTo>
                                  <a:lnTo>
                                    <a:pt x="172" y="171"/>
                                  </a:lnTo>
                                  <a:lnTo>
                                    <a:pt x="179" y="155"/>
                                  </a:lnTo>
                                  <a:lnTo>
                                    <a:pt x="186" y="141"/>
                                  </a:lnTo>
                                  <a:lnTo>
                                    <a:pt x="176" y="120"/>
                                  </a:lnTo>
                                  <a:lnTo>
                                    <a:pt x="186" y="97"/>
                                  </a:lnTo>
                                  <a:lnTo>
                                    <a:pt x="173" y="86"/>
                                  </a:lnTo>
                                  <a:lnTo>
                                    <a:pt x="164" y="74"/>
                                  </a:lnTo>
                                  <a:lnTo>
                                    <a:pt x="148" y="71"/>
                                  </a:lnTo>
                                  <a:lnTo>
                                    <a:pt x="145" y="58"/>
                                  </a:lnTo>
                                  <a:lnTo>
                                    <a:pt x="123" y="54"/>
                                  </a:lnTo>
                                  <a:lnTo>
                                    <a:pt x="102" y="51"/>
                                  </a:lnTo>
                                  <a:lnTo>
                                    <a:pt x="77" y="53"/>
                                  </a:lnTo>
                                  <a:lnTo>
                                    <a:pt x="52" y="65"/>
                                  </a:lnTo>
                                  <a:lnTo>
                                    <a:pt x="19" y="56"/>
                                  </a:lnTo>
                                  <a:lnTo>
                                    <a:pt x="0" y="38"/>
                                  </a:lnTo>
                                  <a:close/>
                                </a:path>
                              </a:pathLst>
                            </a:custGeom>
                            <a:solidFill>
                              <a:srgbClr val="0000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77" name=""/>
                        <p:cNvSpPr/>
                        <p:nvPr/>
                      </p:nvSpPr>
                      <p:spPr>
                        <a:xfrm>
                          <a:off x="2673360" y="3314880"/>
                          <a:ext cx="428760" cy="214200"/>
                        </a:xfrm>
                        <a:custGeom>
                          <a:avLst/>
                          <a:gdLst/>
                          <a:ahLst/>
                          <a:rect l="l" t="t" r="r" b="b"/>
                          <a:pathLst>
                            <a:path w="270" h="135">
                              <a:moveTo>
                                <a:pt x="132" y="0"/>
                              </a:moveTo>
                              <a:lnTo>
                                <a:pt x="113" y="38"/>
                              </a:lnTo>
                              <a:lnTo>
                                <a:pt x="63" y="42"/>
                              </a:lnTo>
                              <a:lnTo>
                                <a:pt x="71" y="54"/>
                              </a:lnTo>
                              <a:lnTo>
                                <a:pt x="49" y="53"/>
                              </a:lnTo>
                              <a:lnTo>
                                <a:pt x="36" y="62"/>
                              </a:lnTo>
                              <a:lnTo>
                                <a:pt x="17" y="69"/>
                              </a:lnTo>
                              <a:lnTo>
                                <a:pt x="14" y="86"/>
                              </a:lnTo>
                              <a:lnTo>
                                <a:pt x="0" y="93"/>
                              </a:lnTo>
                              <a:lnTo>
                                <a:pt x="0" y="105"/>
                              </a:lnTo>
                              <a:lnTo>
                                <a:pt x="16" y="114"/>
                              </a:lnTo>
                              <a:lnTo>
                                <a:pt x="86" y="120"/>
                              </a:lnTo>
                              <a:lnTo>
                                <a:pt x="105" y="122"/>
                              </a:lnTo>
                              <a:lnTo>
                                <a:pt x="127" y="127"/>
                              </a:lnTo>
                              <a:lnTo>
                                <a:pt x="132" y="135"/>
                              </a:lnTo>
                              <a:lnTo>
                                <a:pt x="217" y="120"/>
                              </a:lnTo>
                              <a:lnTo>
                                <a:pt x="250" y="120"/>
                              </a:lnTo>
                              <a:lnTo>
                                <a:pt x="267" y="109"/>
                              </a:lnTo>
                              <a:lnTo>
                                <a:pt x="267" y="102"/>
                              </a:lnTo>
                              <a:lnTo>
                                <a:pt x="248" y="91"/>
                              </a:lnTo>
                              <a:lnTo>
                                <a:pt x="266" y="80"/>
                              </a:lnTo>
                              <a:lnTo>
                                <a:pt x="270" y="74"/>
                              </a:lnTo>
                              <a:lnTo>
                                <a:pt x="261" y="62"/>
                              </a:lnTo>
                              <a:lnTo>
                                <a:pt x="241" y="61"/>
                              </a:lnTo>
                              <a:lnTo>
                                <a:pt x="226" y="62"/>
                              </a:lnTo>
                              <a:lnTo>
                                <a:pt x="208" y="53"/>
                              </a:lnTo>
                              <a:lnTo>
                                <a:pt x="164" y="57"/>
                              </a:lnTo>
                              <a:lnTo>
                                <a:pt x="176" y="25"/>
                              </a:lnTo>
                              <a:lnTo>
                                <a:pt x="132" y="0"/>
                              </a:lnTo>
                              <a:close/>
                            </a:path>
                          </a:pathLst>
                        </a:custGeom>
                        <a:solidFill>
                          <a:srgbClr val="ff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78" name=""/>
                    <p:cNvSpPr/>
                    <p:nvPr/>
                  </p:nvSpPr>
                  <p:spPr>
                    <a:xfrm>
                      <a:off x="2320920" y="3386160"/>
                      <a:ext cx="1860480" cy="392400"/>
                    </a:xfrm>
                    <a:custGeom>
                      <a:avLst/>
                      <a:gdLst/>
                      <a:ahLst/>
                      <a:rect l="l" t="t" r="r" b="b"/>
                      <a:pathLst>
                        <a:path w="1172" h="247">
                          <a:moveTo>
                            <a:pt x="0" y="241"/>
                          </a:moveTo>
                          <a:lnTo>
                            <a:pt x="5" y="247"/>
                          </a:lnTo>
                          <a:lnTo>
                            <a:pt x="13" y="246"/>
                          </a:lnTo>
                          <a:lnTo>
                            <a:pt x="50" y="205"/>
                          </a:lnTo>
                          <a:lnTo>
                            <a:pt x="95" y="190"/>
                          </a:lnTo>
                          <a:lnTo>
                            <a:pt x="112" y="174"/>
                          </a:lnTo>
                          <a:lnTo>
                            <a:pt x="165" y="158"/>
                          </a:lnTo>
                          <a:lnTo>
                            <a:pt x="164" y="131"/>
                          </a:lnTo>
                          <a:lnTo>
                            <a:pt x="195" y="116"/>
                          </a:lnTo>
                          <a:lnTo>
                            <a:pt x="228" y="116"/>
                          </a:lnTo>
                          <a:lnTo>
                            <a:pt x="241" y="102"/>
                          </a:lnTo>
                          <a:lnTo>
                            <a:pt x="266" y="108"/>
                          </a:lnTo>
                          <a:lnTo>
                            <a:pt x="310" y="99"/>
                          </a:lnTo>
                          <a:lnTo>
                            <a:pt x="359" y="95"/>
                          </a:lnTo>
                          <a:lnTo>
                            <a:pt x="398" y="81"/>
                          </a:lnTo>
                          <a:lnTo>
                            <a:pt x="450" y="68"/>
                          </a:lnTo>
                          <a:lnTo>
                            <a:pt x="502" y="64"/>
                          </a:lnTo>
                          <a:lnTo>
                            <a:pt x="614" y="52"/>
                          </a:lnTo>
                          <a:lnTo>
                            <a:pt x="738" y="41"/>
                          </a:lnTo>
                          <a:lnTo>
                            <a:pt x="835" y="29"/>
                          </a:lnTo>
                          <a:lnTo>
                            <a:pt x="914" y="12"/>
                          </a:lnTo>
                          <a:lnTo>
                            <a:pt x="939" y="14"/>
                          </a:lnTo>
                          <a:lnTo>
                            <a:pt x="977" y="20"/>
                          </a:lnTo>
                          <a:lnTo>
                            <a:pt x="1063" y="14"/>
                          </a:lnTo>
                          <a:lnTo>
                            <a:pt x="1172" y="11"/>
                          </a:lnTo>
                          <a:lnTo>
                            <a:pt x="1158" y="0"/>
                          </a:lnTo>
                          <a:lnTo>
                            <a:pt x="1059" y="3"/>
                          </a:lnTo>
                          <a:lnTo>
                            <a:pt x="977" y="8"/>
                          </a:lnTo>
                          <a:lnTo>
                            <a:pt x="934" y="2"/>
                          </a:lnTo>
                          <a:lnTo>
                            <a:pt x="901" y="4"/>
                          </a:lnTo>
                          <a:lnTo>
                            <a:pt x="826" y="20"/>
                          </a:lnTo>
                          <a:lnTo>
                            <a:pt x="714" y="33"/>
                          </a:lnTo>
                          <a:lnTo>
                            <a:pt x="609" y="41"/>
                          </a:lnTo>
                          <a:lnTo>
                            <a:pt x="500" y="54"/>
                          </a:lnTo>
                          <a:lnTo>
                            <a:pt x="445" y="59"/>
                          </a:lnTo>
                          <a:lnTo>
                            <a:pt x="408" y="70"/>
                          </a:lnTo>
                          <a:lnTo>
                            <a:pt x="346" y="86"/>
                          </a:lnTo>
                          <a:lnTo>
                            <a:pt x="313" y="89"/>
                          </a:lnTo>
                          <a:lnTo>
                            <a:pt x="290" y="93"/>
                          </a:lnTo>
                          <a:lnTo>
                            <a:pt x="266" y="98"/>
                          </a:lnTo>
                          <a:lnTo>
                            <a:pt x="236" y="91"/>
                          </a:lnTo>
                          <a:lnTo>
                            <a:pt x="222" y="105"/>
                          </a:lnTo>
                          <a:lnTo>
                            <a:pt x="190" y="104"/>
                          </a:lnTo>
                          <a:lnTo>
                            <a:pt x="146" y="128"/>
                          </a:lnTo>
                          <a:lnTo>
                            <a:pt x="148" y="151"/>
                          </a:lnTo>
                          <a:lnTo>
                            <a:pt x="101" y="167"/>
                          </a:lnTo>
                          <a:lnTo>
                            <a:pt x="85" y="183"/>
                          </a:lnTo>
                          <a:lnTo>
                            <a:pt x="39" y="199"/>
                          </a:lnTo>
                          <a:lnTo>
                            <a:pt x="0" y="2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9" name=""/>
                  <p:cNvGrpSpPr/>
                  <p:nvPr/>
                </p:nvGrpSpPr>
                <p:grpSpPr>
                  <a:xfrm>
                    <a:off x="2868480" y="3386160"/>
                    <a:ext cx="411120" cy="168480"/>
                    <a:chOff x="2868480" y="3386160"/>
                    <a:chExt cx="411120" cy="168480"/>
                  </a:xfrm>
                </p:grpSpPr>
                <p:sp>
                  <p:nvSpPr>
                    <p:cNvPr id="1480" name=""/>
                    <p:cNvSpPr/>
                    <p:nvPr/>
                  </p:nvSpPr>
                  <p:spPr>
                    <a:xfrm>
                      <a:off x="2868480" y="3464280"/>
                      <a:ext cx="169920" cy="90360"/>
                    </a:xfrm>
                    <a:custGeom>
                      <a:avLst/>
                      <a:gdLst/>
                      <a:ahLst/>
                      <a:rect l="l" t="t" r="r" b="b"/>
                      <a:pathLst>
                        <a:path w="107" h="57">
                          <a:moveTo>
                            <a:pt x="0" y="40"/>
                          </a:moveTo>
                          <a:lnTo>
                            <a:pt x="7" y="29"/>
                          </a:lnTo>
                          <a:lnTo>
                            <a:pt x="18" y="23"/>
                          </a:lnTo>
                          <a:lnTo>
                            <a:pt x="28" y="15"/>
                          </a:lnTo>
                          <a:lnTo>
                            <a:pt x="41" y="3"/>
                          </a:lnTo>
                          <a:lnTo>
                            <a:pt x="59" y="0"/>
                          </a:lnTo>
                          <a:lnTo>
                            <a:pt x="80" y="0"/>
                          </a:lnTo>
                          <a:lnTo>
                            <a:pt x="91" y="6"/>
                          </a:lnTo>
                          <a:lnTo>
                            <a:pt x="103" y="12"/>
                          </a:lnTo>
                          <a:lnTo>
                            <a:pt x="107" y="23"/>
                          </a:lnTo>
                          <a:lnTo>
                            <a:pt x="103" y="36"/>
                          </a:lnTo>
                          <a:lnTo>
                            <a:pt x="80" y="33"/>
                          </a:lnTo>
                          <a:lnTo>
                            <a:pt x="77" y="42"/>
                          </a:lnTo>
                          <a:lnTo>
                            <a:pt x="64" y="52"/>
                          </a:lnTo>
                          <a:lnTo>
                            <a:pt x="55" y="57"/>
                          </a:lnTo>
                          <a:lnTo>
                            <a:pt x="20" y="50"/>
                          </a:lnTo>
                          <a:lnTo>
                            <a:pt x="0" y="40"/>
                          </a:lnTo>
                          <a:close/>
                        </a:path>
                      </a:pathLst>
                    </a:custGeom>
                    <a:solidFill>
                      <a:srgbClr val="ffbf7f"/>
                    </a:solidFill>
                    <a:ln w="176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1481" name=""/>
                    <p:cNvGrpSpPr/>
                    <p:nvPr/>
                  </p:nvGrpSpPr>
                  <p:grpSpPr>
                    <a:xfrm>
                      <a:off x="3073320" y="3386160"/>
                      <a:ext cx="206280" cy="119160"/>
                      <a:chOff x="3073320" y="3386160"/>
                      <a:chExt cx="206280" cy="119160"/>
                    </a:xfrm>
                  </p:grpSpPr>
                  <p:sp>
                    <p:nvSpPr>
                      <p:cNvPr id="1482" name=""/>
                      <p:cNvSpPr/>
                      <p:nvPr/>
                    </p:nvSpPr>
                    <p:spPr>
                      <a:xfrm>
                        <a:off x="3073320" y="3427560"/>
                        <a:ext cx="206280" cy="77760"/>
                      </a:xfrm>
                      <a:custGeom>
                        <a:avLst/>
                        <a:gdLst/>
                        <a:ahLst/>
                        <a:rect l="l" t="t" r="r" b="b"/>
                        <a:pathLst>
                          <a:path w="130" h="49">
                            <a:moveTo>
                              <a:pt x="0" y="16"/>
                            </a:moveTo>
                            <a:lnTo>
                              <a:pt x="11" y="10"/>
                            </a:lnTo>
                            <a:lnTo>
                              <a:pt x="33" y="15"/>
                            </a:lnTo>
                            <a:lnTo>
                              <a:pt x="31" y="3"/>
                            </a:lnTo>
                            <a:lnTo>
                              <a:pt x="45" y="0"/>
                            </a:lnTo>
                            <a:lnTo>
                              <a:pt x="59" y="3"/>
                            </a:lnTo>
                            <a:lnTo>
                              <a:pt x="80" y="20"/>
                            </a:lnTo>
                            <a:lnTo>
                              <a:pt x="78" y="9"/>
                            </a:lnTo>
                            <a:lnTo>
                              <a:pt x="88" y="1"/>
                            </a:lnTo>
                            <a:lnTo>
                              <a:pt x="103" y="1"/>
                            </a:lnTo>
                            <a:lnTo>
                              <a:pt x="130" y="25"/>
                            </a:lnTo>
                            <a:lnTo>
                              <a:pt x="116" y="39"/>
                            </a:lnTo>
                            <a:lnTo>
                              <a:pt x="99" y="38"/>
                            </a:lnTo>
                            <a:lnTo>
                              <a:pt x="88" y="35"/>
                            </a:lnTo>
                            <a:lnTo>
                              <a:pt x="83" y="40"/>
                            </a:lnTo>
                            <a:lnTo>
                              <a:pt x="75" y="48"/>
                            </a:lnTo>
                            <a:lnTo>
                              <a:pt x="47" y="49"/>
                            </a:lnTo>
                            <a:lnTo>
                              <a:pt x="22" y="41"/>
                            </a:lnTo>
                            <a:lnTo>
                              <a:pt x="7" y="31"/>
                            </a:lnTo>
                            <a:lnTo>
                              <a:pt x="0" y="16"/>
                            </a:lnTo>
                            <a:close/>
                          </a:path>
                        </a:pathLst>
                      </a:custGeom>
                      <a:solidFill>
                        <a:srgbClr val="ffbf7f"/>
                      </a:solidFill>
                      <a:ln w="1764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83" name=""/>
                      <p:cNvSpPr/>
                      <p:nvPr/>
                    </p:nvSpPr>
                    <p:spPr>
                      <a:xfrm>
                        <a:off x="3182760" y="3386160"/>
                        <a:ext cx="70200" cy="51120"/>
                      </a:xfrm>
                      <a:custGeom>
                        <a:avLst/>
                        <a:gdLst/>
                        <a:ahLst/>
                        <a:rect l="l" t="t" r="r" b="b"/>
                        <a:pathLst>
                          <a:path w="44" h="32">
                            <a:moveTo>
                              <a:pt x="11" y="32"/>
                            </a:moveTo>
                            <a:lnTo>
                              <a:pt x="0" y="12"/>
                            </a:lnTo>
                            <a:lnTo>
                              <a:pt x="17" y="0"/>
                            </a:lnTo>
                            <a:lnTo>
                              <a:pt x="44" y="9"/>
                            </a:lnTo>
                            <a:lnTo>
                              <a:pt x="38" y="27"/>
                            </a:lnTo>
                            <a:lnTo>
                              <a:pt x="11" y="32"/>
                            </a:lnTo>
                            <a:close/>
                          </a:path>
                        </a:pathLst>
                      </a:custGeom>
                      <a:solidFill>
                        <a:srgbClr val="ffbf7f"/>
                      </a:solidFill>
                      <a:ln w="176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84" name=""/>
                      <p:cNvSpPr/>
                      <p:nvPr/>
                    </p:nvSpPr>
                    <p:spPr>
                      <a:xfrm>
                        <a:off x="3125880" y="3453120"/>
                        <a:ext cx="2196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grpSp>
            <p:grpSp>
              <p:nvGrpSpPr>
                <p:cNvPr id="1485" name=""/>
                <p:cNvGrpSpPr/>
                <p:nvPr/>
              </p:nvGrpSpPr>
              <p:grpSpPr>
                <a:xfrm>
                  <a:off x="3078000" y="2986200"/>
                  <a:ext cx="968400" cy="836640"/>
                  <a:chOff x="3078000" y="2986200"/>
                  <a:chExt cx="968400" cy="836640"/>
                </a:xfrm>
              </p:grpSpPr>
              <p:grpSp>
                <p:nvGrpSpPr>
                  <p:cNvPr id="1486" name=""/>
                  <p:cNvGrpSpPr/>
                  <p:nvPr/>
                </p:nvGrpSpPr>
                <p:grpSpPr>
                  <a:xfrm>
                    <a:off x="3078000" y="2986200"/>
                    <a:ext cx="968400" cy="836640"/>
                    <a:chOff x="3078000" y="2986200"/>
                    <a:chExt cx="968400" cy="836640"/>
                  </a:xfrm>
                </p:grpSpPr>
                <p:grpSp>
                  <p:nvGrpSpPr>
                    <p:cNvPr id="1487" name=""/>
                    <p:cNvGrpSpPr/>
                    <p:nvPr/>
                  </p:nvGrpSpPr>
                  <p:grpSpPr>
                    <a:xfrm>
                      <a:off x="3078000" y="2986200"/>
                      <a:ext cx="968400" cy="836640"/>
                      <a:chOff x="3078000" y="2986200"/>
                      <a:chExt cx="968400" cy="836640"/>
                    </a:xfrm>
                  </p:grpSpPr>
                  <p:grpSp>
                    <p:nvGrpSpPr>
                      <p:cNvPr id="1488" name=""/>
                      <p:cNvGrpSpPr/>
                      <p:nvPr/>
                    </p:nvGrpSpPr>
                    <p:grpSpPr>
                      <a:xfrm>
                        <a:off x="3454560" y="3449880"/>
                        <a:ext cx="591840" cy="372960"/>
                        <a:chOff x="3454560" y="3449880"/>
                        <a:chExt cx="591840" cy="372960"/>
                      </a:xfrm>
                    </p:grpSpPr>
                    <p:grpSp>
                      <p:nvGrpSpPr>
                        <p:cNvPr id="1489" name=""/>
                        <p:cNvGrpSpPr/>
                        <p:nvPr/>
                      </p:nvGrpSpPr>
                      <p:grpSpPr>
                        <a:xfrm>
                          <a:off x="3537000" y="3457800"/>
                          <a:ext cx="509400" cy="365040"/>
                          <a:chOff x="3537000" y="3457800"/>
                          <a:chExt cx="509400" cy="365040"/>
                        </a:xfrm>
                      </p:grpSpPr>
                      <p:grpSp>
                        <p:nvGrpSpPr>
                          <p:cNvPr id="1490" name=""/>
                          <p:cNvGrpSpPr/>
                          <p:nvPr/>
                        </p:nvGrpSpPr>
                        <p:grpSpPr>
                          <a:xfrm>
                            <a:off x="3537000" y="3457800"/>
                            <a:ext cx="509400" cy="282600"/>
                            <a:chOff x="3537000" y="3457800"/>
                            <a:chExt cx="509400" cy="282600"/>
                          </a:xfrm>
                        </p:grpSpPr>
                        <p:sp>
                          <p:nvSpPr>
                            <p:cNvPr id="1491" name=""/>
                            <p:cNvSpPr/>
                            <p:nvPr/>
                          </p:nvSpPr>
                          <p:spPr>
                            <a:xfrm>
                              <a:off x="3836880" y="3575160"/>
                              <a:ext cx="209520" cy="165240"/>
                            </a:xfrm>
                            <a:custGeom>
                              <a:avLst/>
                              <a:gdLst/>
                              <a:ahLst/>
                              <a:rect l="l" t="t" r="r" b="b"/>
                              <a:pathLst>
                                <a:path w="132" h="104">
                                  <a:moveTo>
                                    <a:pt x="0" y="79"/>
                                  </a:moveTo>
                                  <a:lnTo>
                                    <a:pt x="12" y="52"/>
                                  </a:lnTo>
                                  <a:lnTo>
                                    <a:pt x="28" y="30"/>
                                  </a:lnTo>
                                  <a:lnTo>
                                    <a:pt x="49" y="11"/>
                                  </a:lnTo>
                                  <a:lnTo>
                                    <a:pt x="66" y="5"/>
                                  </a:lnTo>
                                  <a:lnTo>
                                    <a:pt x="83" y="1"/>
                                  </a:lnTo>
                                  <a:lnTo>
                                    <a:pt x="97" y="0"/>
                                  </a:lnTo>
                                  <a:lnTo>
                                    <a:pt x="113" y="4"/>
                                  </a:lnTo>
                                  <a:lnTo>
                                    <a:pt x="123" y="10"/>
                                  </a:lnTo>
                                  <a:lnTo>
                                    <a:pt x="127" y="18"/>
                                  </a:lnTo>
                                  <a:lnTo>
                                    <a:pt x="132" y="29"/>
                                  </a:lnTo>
                                  <a:lnTo>
                                    <a:pt x="130" y="42"/>
                                  </a:lnTo>
                                  <a:lnTo>
                                    <a:pt x="123" y="56"/>
                                  </a:lnTo>
                                  <a:lnTo>
                                    <a:pt x="113" y="69"/>
                                  </a:lnTo>
                                  <a:lnTo>
                                    <a:pt x="99" y="80"/>
                                  </a:lnTo>
                                  <a:lnTo>
                                    <a:pt x="89" y="86"/>
                                  </a:lnTo>
                                  <a:lnTo>
                                    <a:pt x="14" y="104"/>
                                  </a:lnTo>
                                  <a:lnTo>
                                    <a:pt x="1" y="97"/>
                                  </a:lnTo>
                                  <a:lnTo>
                                    <a:pt x="0" y="79"/>
                                  </a:lnTo>
                                  <a:close/>
                                </a:path>
                              </a:pathLst>
                            </a:custGeom>
                            <a:solidFill>
                              <a:srgbClr val="3f5f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3537000" y="3457800"/>
                              <a:ext cx="395280" cy="249120"/>
                            </a:xfrm>
                            <a:custGeom>
                              <a:avLst/>
                              <a:gdLst/>
                              <a:ahLst/>
                              <a:rect l="l" t="t" r="r" b="b"/>
                              <a:pathLst>
                                <a:path w="249" h="157">
                                  <a:moveTo>
                                    <a:pt x="76" y="0"/>
                                  </a:moveTo>
                                  <a:lnTo>
                                    <a:pt x="101" y="22"/>
                                  </a:lnTo>
                                  <a:lnTo>
                                    <a:pt x="137" y="41"/>
                                  </a:lnTo>
                                  <a:lnTo>
                                    <a:pt x="172" y="60"/>
                                  </a:lnTo>
                                  <a:lnTo>
                                    <a:pt x="178" y="71"/>
                                  </a:lnTo>
                                  <a:lnTo>
                                    <a:pt x="223" y="81"/>
                                  </a:lnTo>
                                  <a:lnTo>
                                    <a:pt x="247" y="90"/>
                                  </a:lnTo>
                                  <a:lnTo>
                                    <a:pt x="249" y="100"/>
                                  </a:lnTo>
                                  <a:lnTo>
                                    <a:pt x="238" y="121"/>
                                  </a:lnTo>
                                  <a:lnTo>
                                    <a:pt x="227" y="138"/>
                                  </a:lnTo>
                                  <a:lnTo>
                                    <a:pt x="201" y="157"/>
                                  </a:lnTo>
                                  <a:lnTo>
                                    <a:pt x="159" y="140"/>
                                  </a:lnTo>
                                  <a:lnTo>
                                    <a:pt x="128" y="126"/>
                                  </a:lnTo>
                                  <a:lnTo>
                                    <a:pt x="99" y="117"/>
                                  </a:lnTo>
                                  <a:lnTo>
                                    <a:pt x="74" y="97"/>
                                  </a:lnTo>
                                  <a:lnTo>
                                    <a:pt x="47" y="90"/>
                                  </a:lnTo>
                                  <a:lnTo>
                                    <a:pt x="25" y="68"/>
                                  </a:lnTo>
                                  <a:lnTo>
                                    <a:pt x="0" y="50"/>
                                  </a:lnTo>
                                  <a:lnTo>
                                    <a:pt x="76" y="0"/>
                                  </a:lnTo>
                                  <a:close/>
                                </a:path>
                              </a:pathLst>
                            </a:custGeom>
                            <a:solidFill>
                              <a:srgbClr val="bf3f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3" name=""/>
                          <p:cNvSpPr/>
                          <p:nvPr/>
                        </p:nvSpPr>
                        <p:spPr>
                          <a:xfrm>
                            <a:off x="3692520" y="3706920"/>
                            <a:ext cx="314280" cy="115920"/>
                          </a:xfrm>
                          <a:custGeom>
                            <a:avLst/>
                            <a:gdLst/>
                            <a:ahLst/>
                            <a:rect l="l" t="t" r="r" b="b"/>
                            <a:pathLst>
                              <a:path w="198" h="73">
                                <a:moveTo>
                                  <a:pt x="23" y="30"/>
                                </a:moveTo>
                                <a:lnTo>
                                  <a:pt x="103" y="21"/>
                                </a:lnTo>
                                <a:lnTo>
                                  <a:pt x="136" y="10"/>
                                </a:lnTo>
                                <a:lnTo>
                                  <a:pt x="180" y="0"/>
                                </a:lnTo>
                                <a:lnTo>
                                  <a:pt x="190" y="4"/>
                                </a:lnTo>
                                <a:lnTo>
                                  <a:pt x="196" y="15"/>
                                </a:lnTo>
                                <a:lnTo>
                                  <a:pt x="198" y="31"/>
                                </a:lnTo>
                                <a:lnTo>
                                  <a:pt x="179" y="43"/>
                                </a:lnTo>
                                <a:lnTo>
                                  <a:pt x="166" y="49"/>
                                </a:lnTo>
                                <a:lnTo>
                                  <a:pt x="140" y="56"/>
                                </a:lnTo>
                                <a:lnTo>
                                  <a:pt x="129" y="48"/>
                                </a:lnTo>
                                <a:lnTo>
                                  <a:pt x="114" y="52"/>
                                </a:lnTo>
                                <a:lnTo>
                                  <a:pt x="110" y="65"/>
                                </a:lnTo>
                                <a:lnTo>
                                  <a:pt x="81" y="69"/>
                                </a:lnTo>
                                <a:lnTo>
                                  <a:pt x="56" y="73"/>
                                </a:lnTo>
                                <a:lnTo>
                                  <a:pt x="33" y="70"/>
                                </a:lnTo>
                                <a:lnTo>
                                  <a:pt x="1" y="68"/>
                                </a:lnTo>
                                <a:lnTo>
                                  <a:pt x="0" y="55"/>
                                </a:lnTo>
                                <a:lnTo>
                                  <a:pt x="1" y="43"/>
                                </a:lnTo>
                                <a:lnTo>
                                  <a:pt x="23" y="30"/>
                                </a:lnTo>
                                <a:close/>
                              </a:path>
                            </a:pathLst>
                          </a:custGeom>
                          <a:solidFill>
                            <a:srgbClr val="008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4" name=""/>
                        <p:cNvSpPr/>
                        <p:nvPr/>
                      </p:nvSpPr>
                      <p:spPr>
                        <a:xfrm>
                          <a:off x="3454560" y="3449880"/>
                          <a:ext cx="401400" cy="314280"/>
                        </a:xfrm>
                        <a:custGeom>
                          <a:avLst/>
                          <a:gdLst/>
                          <a:ahLst/>
                          <a:rect l="l" t="t" r="r" b="b"/>
                          <a:pathLst>
                            <a:path w="253" h="198">
                              <a:moveTo>
                                <a:pt x="0" y="13"/>
                              </a:moveTo>
                              <a:lnTo>
                                <a:pt x="43" y="10"/>
                              </a:lnTo>
                              <a:lnTo>
                                <a:pt x="71" y="0"/>
                              </a:lnTo>
                              <a:lnTo>
                                <a:pt x="107" y="3"/>
                              </a:lnTo>
                              <a:lnTo>
                                <a:pt x="126" y="4"/>
                              </a:lnTo>
                              <a:lnTo>
                                <a:pt x="142" y="12"/>
                              </a:lnTo>
                              <a:lnTo>
                                <a:pt x="164" y="21"/>
                              </a:lnTo>
                              <a:lnTo>
                                <a:pt x="180" y="22"/>
                              </a:lnTo>
                              <a:lnTo>
                                <a:pt x="194" y="25"/>
                              </a:lnTo>
                              <a:lnTo>
                                <a:pt x="211" y="34"/>
                              </a:lnTo>
                              <a:lnTo>
                                <a:pt x="225" y="44"/>
                              </a:lnTo>
                              <a:lnTo>
                                <a:pt x="242" y="62"/>
                              </a:lnTo>
                              <a:lnTo>
                                <a:pt x="239" y="72"/>
                              </a:lnTo>
                              <a:lnTo>
                                <a:pt x="231" y="87"/>
                              </a:lnTo>
                              <a:lnTo>
                                <a:pt x="224" y="92"/>
                              </a:lnTo>
                              <a:lnTo>
                                <a:pt x="225" y="106"/>
                              </a:lnTo>
                              <a:lnTo>
                                <a:pt x="236" y="107"/>
                              </a:lnTo>
                              <a:lnTo>
                                <a:pt x="235" y="116"/>
                              </a:lnTo>
                              <a:lnTo>
                                <a:pt x="244" y="121"/>
                              </a:lnTo>
                              <a:lnTo>
                                <a:pt x="241" y="137"/>
                              </a:lnTo>
                              <a:lnTo>
                                <a:pt x="241" y="158"/>
                              </a:lnTo>
                              <a:lnTo>
                                <a:pt x="253" y="184"/>
                              </a:lnTo>
                              <a:lnTo>
                                <a:pt x="239" y="188"/>
                              </a:lnTo>
                              <a:lnTo>
                                <a:pt x="224" y="193"/>
                              </a:lnTo>
                              <a:lnTo>
                                <a:pt x="198" y="192"/>
                              </a:lnTo>
                              <a:lnTo>
                                <a:pt x="172" y="194"/>
                              </a:lnTo>
                              <a:lnTo>
                                <a:pt x="143" y="198"/>
                              </a:lnTo>
                              <a:lnTo>
                                <a:pt x="156" y="168"/>
                              </a:lnTo>
                              <a:lnTo>
                                <a:pt x="162" y="151"/>
                              </a:lnTo>
                              <a:lnTo>
                                <a:pt x="145" y="122"/>
                              </a:lnTo>
                              <a:lnTo>
                                <a:pt x="162" y="115"/>
                              </a:lnTo>
                              <a:lnTo>
                                <a:pt x="161" y="109"/>
                              </a:lnTo>
                              <a:lnTo>
                                <a:pt x="146" y="103"/>
                              </a:lnTo>
                              <a:lnTo>
                                <a:pt x="148" y="97"/>
                              </a:lnTo>
                              <a:lnTo>
                                <a:pt x="129" y="89"/>
                              </a:lnTo>
                              <a:lnTo>
                                <a:pt x="143" y="82"/>
                              </a:lnTo>
                              <a:lnTo>
                                <a:pt x="151" y="77"/>
                              </a:lnTo>
                              <a:lnTo>
                                <a:pt x="132" y="76"/>
                              </a:lnTo>
                              <a:lnTo>
                                <a:pt x="110" y="70"/>
                              </a:lnTo>
                              <a:lnTo>
                                <a:pt x="99" y="66"/>
                              </a:lnTo>
                              <a:lnTo>
                                <a:pt x="93" y="58"/>
                              </a:lnTo>
                              <a:lnTo>
                                <a:pt x="74" y="61"/>
                              </a:lnTo>
                              <a:lnTo>
                                <a:pt x="57" y="62"/>
                              </a:lnTo>
                              <a:lnTo>
                                <a:pt x="41" y="57"/>
                              </a:lnTo>
                              <a:lnTo>
                                <a:pt x="22" y="46"/>
                              </a:lnTo>
                              <a:lnTo>
                                <a:pt x="10" y="34"/>
                              </a:lnTo>
                              <a:lnTo>
                                <a:pt x="0" y="13"/>
                              </a:lnTo>
                              <a:close/>
                            </a:path>
                          </a:pathLst>
                        </a:custGeom>
                        <a:solidFill>
                          <a:srgbClr val="ff5f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5" name=""/>
                      <p:cNvGrpSpPr/>
                      <p:nvPr/>
                    </p:nvGrpSpPr>
                    <p:grpSpPr>
                      <a:xfrm>
                        <a:off x="3078000" y="2986200"/>
                        <a:ext cx="486000" cy="344520"/>
                        <a:chOff x="3078000" y="2986200"/>
                        <a:chExt cx="486000" cy="344520"/>
                      </a:xfrm>
                    </p:grpSpPr>
                    <p:sp>
                      <p:nvSpPr>
                        <p:cNvPr id="1496" name=""/>
                        <p:cNvSpPr/>
                        <p:nvPr/>
                      </p:nvSpPr>
                      <p:spPr>
                        <a:xfrm>
                          <a:off x="3078000" y="3035520"/>
                          <a:ext cx="401760" cy="295200"/>
                        </a:xfrm>
                        <a:custGeom>
                          <a:avLst/>
                          <a:gdLst/>
                          <a:ahLst/>
                          <a:rect l="l" t="t" r="r" b="b"/>
                          <a:pathLst>
                            <a:path w="253" h="186">
                              <a:moveTo>
                                <a:pt x="3" y="81"/>
                              </a:moveTo>
                              <a:lnTo>
                                <a:pt x="15" y="78"/>
                              </a:lnTo>
                              <a:lnTo>
                                <a:pt x="31" y="78"/>
                              </a:lnTo>
                              <a:lnTo>
                                <a:pt x="28" y="69"/>
                              </a:lnTo>
                              <a:lnTo>
                                <a:pt x="30" y="54"/>
                              </a:lnTo>
                              <a:lnTo>
                                <a:pt x="34" y="42"/>
                              </a:lnTo>
                              <a:lnTo>
                                <a:pt x="42" y="33"/>
                              </a:lnTo>
                              <a:lnTo>
                                <a:pt x="55" y="23"/>
                              </a:lnTo>
                              <a:lnTo>
                                <a:pt x="69" y="15"/>
                              </a:lnTo>
                              <a:lnTo>
                                <a:pt x="78" y="11"/>
                              </a:lnTo>
                              <a:lnTo>
                                <a:pt x="100" y="8"/>
                              </a:lnTo>
                              <a:lnTo>
                                <a:pt x="113" y="8"/>
                              </a:lnTo>
                              <a:lnTo>
                                <a:pt x="127" y="2"/>
                              </a:lnTo>
                              <a:lnTo>
                                <a:pt x="143" y="0"/>
                              </a:lnTo>
                              <a:lnTo>
                                <a:pt x="159" y="5"/>
                              </a:lnTo>
                              <a:lnTo>
                                <a:pt x="173" y="9"/>
                              </a:lnTo>
                              <a:lnTo>
                                <a:pt x="196" y="17"/>
                              </a:lnTo>
                              <a:lnTo>
                                <a:pt x="210" y="24"/>
                              </a:lnTo>
                              <a:lnTo>
                                <a:pt x="231" y="35"/>
                              </a:lnTo>
                              <a:lnTo>
                                <a:pt x="248" y="48"/>
                              </a:lnTo>
                              <a:lnTo>
                                <a:pt x="253" y="60"/>
                              </a:lnTo>
                              <a:lnTo>
                                <a:pt x="253" y="80"/>
                              </a:lnTo>
                              <a:lnTo>
                                <a:pt x="248" y="102"/>
                              </a:lnTo>
                              <a:lnTo>
                                <a:pt x="237" y="111"/>
                              </a:lnTo>
                              <a:lnTo>
                                <a:pt x="221" y="120"/>
                              </a:lnTo>
                              <a:lnTo>
                                <a:pt x="201" y="126"/>
                              </a:lnTo>
                              <a:lnTo>
                                <a:pt x="199" y="151"/>
                              </a:lnTo>
                              <a:lnTo>
                                <a:pt x="187" y="165"/>
                              </a:lnTo>
                              <a:lnTo>
                                <a:pt x="170" y="168"/>
                              </a:lnTo>
                              <a:lnTo>
                                <a:pt x="157" y="186"/>
                              </a:lnTo>
                              <a:lnTo>
                                <a:pt x="135" y="174"/>
                              </a:lnTo>
                              <a:lnTo>
                                <a:pt x="137" y="164"/>
                              </a:lnTo>
                              <a:lnTo>
                                <a:pt x="141" y="154"/>
                              </a:lnTo>
                              <a:lnTo>
                                <a:pt x="121" y="150"/>
                              </a:lnTo>
                              <a:lnTo>
                                <a:pt x="96" y="143"/>
                              </a:lnTo>
                              <a:lnTo>
                                <a:pt x="82" y="136"/>
                              </a:lnTo>
                              <a:lnTo>
                                <a:pt x="61" y="120"/>
                              </a:lnTo>
                              <a:lnTo>
                                <a:pt x="55" y="111"/>
                              </a:lnTo>
                              <a:lnTo>
                                <a:pt x="45" y="113"/>
                              </a:lnTo>
                              <a:lnTo>
                                <a:pt x="36" y="114"/>
                              </a:lnTo>
                              <a:lnTo>
                                <a:pt x="22" y="111"/>
                              </a:lnTo>
                              <a:lnTo>
                                <a:pt x="9" y="105"/>
                              </a:lnTo>
                              <a:lnTo>
                                <a:pt x="1" y="98"/>
                              </a:lnTo>
                              <a:lnTo>
                                <a:pt x="0" y="90"/>
                              </a:lnTo>
                              <a:lnTo>
                                <a:pt x="3" y="81"/>
                              </a:lnTo>
                              <a:close/>
                            </a:path>
                          </a:pathLst>
                        </a:custGeom>
                        <a:solidFill>
                          <a:srgbClr val="ffbf7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7" name=""/>
                        <p:cNvGrpSpPr/>
                        <p:nvPr/>
                      </p:nvGrpSpPr>
                      <p:grpSpPr>
                        <a:xfrm>
                          <a:off x="3079800" y="2986200"/>
                          <a:ext cx="484200" cy="235080"/>
                          <a:chOff x="3079800" y="2986200"/>
                          <a:chExt cx="484200" cy="235080"/>
                        </a:xfrm>
                      </p:grpSpPr>
                      <p:grpSp>
                        <p:nvGrpSpPr>
                          <p:cNvPr id="1498" name=""/>
                          <p:cNvGrpSpPr/>
                          <p:nvPr/>
                        </p:nvGrpSpPr>
                        <p:grpSpPr>
                          <a:xfrm>
                            <a:off x="3079800" y="2986200"/>
                            <a:ext cx="484200" cy="168480"/>
                            <a:chOff x="3079800" y="2986200"/>
                            <a:chExt cx="484200" cy="168480"/>
                          </a:xfrm>
                        </p:grpSpPr>
                        <p:sp>
                          <p:nvSpPr>
                            <p:cNvPr id="1499" name=""/>
                            <p:cNvSpPr/>
                            <p:nvPr/>
                          </p:nvSpPr>
                          <p:spPr>
                            <a:xfrm>
                              <a:off x="3079800" y="3038760"/>
                              <a:ext cx="73080" cy="115920"/>
                            </a:xfrm>
                            <a:custGeom>
                              <a:avLst/>
                              <a:gdLst/>
                              <a:ahLst/>
                              <a:rect l="l" t="t" r="r" b="b"/>
                              <a:pathLst>
                                <a:path w="46" h="73">
                                  <a:moveTo>
                                    <a:pt x="21" y="73"/>
                                  </a:moveTo>
                                  <a:lnTo>
                                    <a:pt x="7" y="45"/>
                                  </a:lnTo>
                                  <a:lnTo>
                                    <a:pt x="0" y="20"/>
                                  </a:lnTo>
                                  <a:lnTo>
                                    <a:pt x="8" y="11"/>
                                  </a:lnTo>
                                  <a:lnTo>
                                    <a:pt x="25" y="4"/>
                                  </a:lnTo>
                                  <a:lnTo>
                                    <a:pt x="46"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3187800" y="3000600"/>
                              <a:ext cx="117360" cy="33120"/>
                            </a:xfrm>
                            <a:custGeom>
                              <a:avLst/>
                              <a:gdLst/>
                              <a:ahLst/>
                              <a:rect l="l" t="t" r="r" b="b"/>
                              <a:pathLst>
                                <a:path w="74" h="21">
                                  <a:moveTo>
                                    <a:pt x="0" y="21"/>
                                  </a:moveTo>
                                  <a:lnTo>
                                    <a:pt x="19" y="21"/>
                                  </a:lnTo>
                                  <a:lnTo>
                                    <a:pt x="38" y="18"/>
                                  </a:lnTo>
                                  <a:lnTo>
                                    <a:pt x="53" y="11"/>
                                  </a:lnTo>
                                  <a:lnTo>
                                    <a:pt x="74" y="0"/>
                                  </a:lnTo>
                                </a:path>
                              </a:pathLst>
                            </a:custGeom>
                            <a:noFill/>
                            <a:ln w="176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01" name=""/>
                            <p:cNvSpPr/>
                            <p:nvPr/>
                          </p:nvSpPr>
                          <p:spPr>
                            <a:xfrm>
                              <a:off x="3300480" y="2986200"/>
                              <a:ext cx="187200" cy="52560"/>
                            </a:xfrm>
                            <a:custGeom>
                              <a:avLst/>
                              <a:gdLst/>
                              <a:ahLst/>
                              <a:rect l="l" t="t" r="r" b="b"/>
                              <a:pathLst>
                                <a:path w="118" h="33">
                                  <a:moveTo>
                                    <a:pt x="0" y="33"/>
                                  </a:moveTo>
                                  <a:lnTo>
                                    <a:pt x="12" y="27"/>
                                  </a:lnTo>
                                  <a:lnTo>
                                    <a:pt x="22" y="17"/>
                                  </a:lnTo>
                                  <a:lnTo>
                                    <a:pt x="37" y="18"/>
                                  </a:lnTo>
                                  <a:lnTo>
                                    <a:pt x="59" y="15"/>
                                  </a:lnTo>
                                  <a:lnTo>
                                    <a:pt x="75" y="8"/>
                                  </a:lnTo>
                                  <a:lnTo>
                                    <a:pt x="94" y="2"/>
                                  </a:lnTo>
                                  <a:lnTo>
                                    <a:pt x="118" y="0"/>
                                  </a:lnTo>
                                </a:path>
                              </a:pathLst>
                            </a:custGeom>
                            <a:noFill/>
                            <a:ln w="176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02" name=""/>
                            <p:cNvSpPr/>
                            <p:nvPr/>
                          </p:nvSpPr>
                          <p:spPr>
                            <a:xfrm>
                              <a:off x="3322800" y="3003840"/>
                              <a:ext cx="164880" cy="58680"/>
                            </a:xfrm>
                            <a:custGeom>
                              <a:avLst/>
                              <a:gdLst/>
                              <a:ahLst/>
                              <a:rect l="l" t="t" r="r" b="b"/>
                              <a:pathLst>
                                <a:path w="104" h="37">
                                  <a:moveTo>
                                    <a:pt x="0" y="37"/>
                                  </a:moveTo>
                                  <a:lnTo>
                                    <a:pt x="25" y="34"/>
                                  </a:lnTo>
                                  <a:lnTo>
                                    <a:pt x="42" y="30"/>
                                  </a:lnTo>
                                  <a:lnTo>
                                    <a:pt x="64" y="23"/>
                                  </a:lnTo>
                                  <a:lnTo>
                                    <a:pt x="80" y="16"/>
                                  </a:lnTo>
                                  <a:lnTo>
                                    <a:pt x="104" y="1"/>
                                  </a:lnTo>
                                  <a:lnTo>
                                    <a:pt x="104" y="0"/>
                                  </a:lnTo>
                                </a:path>
                              </a:pathLst>
                            </a:custGeom>
                            <a:noFill/>
                            <a:ln w="176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03" name=""/>
                            <p:cNvSpPr/>
                            <p:nvPr/>
                          </p:nvSpPr>
                          <p:spPr>
                            <a:xfrm>
                              <a:off x="3457440" y="3038760"/>
                              <a:ext cx="106560" cy="9360"/>
                            </a:xfrm>
                            <a:custGeom>
                              <a:avLst/>
                              <a:gdLst/>
                              <a:ahLst/>
                              <a:rect l="l" t="t" r="r" b="b"/>
                              <a:pathLst>
                                <a:path w="67" h="6">
                                  <a:moveTo>
                                    <a:pt x="0" y="1"/>
                                  </a:moveTo>
                                  <a:lnTo>
                                    <a:pt x="25" y="6"/>
                                  </a:lnTo>
                                  <a:lnTo>
                                    <a:pt x="42" y="6"/>
                                  </a:lnTo>
                                  <a:lnTo>
                                    <a:pt x="67" y="0"/>
                                  </a:lnTo>
                                </a:path>
                              </a:pathLst>
                            </a:custGeom>
                            <a:noFill/>
                            <a:ln w="176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4" name=""/>
                            <p:cNvSpPr/>
                            <p:nvPr/>
                          </p:nvSpPr>
                          <p:spPr>
                            <a:xfrm>
                              <a:off x="3367080" y="3067200"/>
                              <a:ext cx="100080" cy="20520"/>
                            </a:xfrm>
                            <a:custGeom>
                              <a:avLst/>
                              <a:gdLst/>
                              <a:ahLst/>
                              <a:rect l="l" t="t" r="r" b="b"/>
                              <a:pathLst>
                                <a:path w="63" h="13">
                                  <a:moveTo>
                                    <a:pt x="0" y="4"/>
                                  </a:moveTo>
                                  <a:lnTo>
                                    <a:pt x="35" y="13"/>
                                  </a:lnTo>
                                  <a:lnTo>
                                    <a:pt x="63" y="0"/>
                                  </a:lnTo>
                                </a:path>
                              </a:pathLst>
                            </a:custGeom>
                            <a:noFill/>
                            <a:ln w="176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05" name=""/>
                            <p:cNvSpPr/>
                            <p:nvPr/>
                          </p:nvSpPr>
                          <p:spPr>
                            <a:xfrm>
                              <a:off x="3419640" y="3092760"/>
                              <a:ext cx="120600" cy="27000"/>
                            </a:xfrm>
                            <a:custGeom>
                              <a:avLst/>
                              <a:gdLst/>
                              <a:ahLst/>
                              <a:rect l="l" t="t" r="r" b="b"/>
                              <a:pathLst>
                                <a:path w="76" h="17">
                                  <a:moveTo>
                                    <a:pt x="0" y="17"/>
                                  </a:moveTo>
                                  <a:lnTo>
                                    <a:pt x="10" y="8"/>
                                  </a:lnTo>
                                  <a:lnTo>
                                    <a:pt x="24" y="3"/>
                                  </a:lnTo>
                                  <a:lnTo>
                                    <a:pt x="38" y="6"/>
                                  </a:lnTo>
                                  <a:lnTo>
                                    <a:pt x="44" y="12"/>
                                  </a:lnTo>
                                  <a:lnTo>
                                    <a:pt x="76" y="0"/>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6" name=""/>
                            <p:cNvSpPr/>
                            <p:nvPr/>
                          </p:nvSpPr>
                          <p:spPr>
                            <a:xfrm flipV="1">
                              <a:off x="3427560" y="3138480"/>
                              <a:ext cx="79200" cy="12600"/>
                            </a:xfrm>
                            <a:prstGeom prst="line">
                              <a:avLst/>
                            </a:prstGeom>
                            <a:ln w="176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507" name=""/>
                          <p:cNvGrpSpPr/>
                          <p:nvPr/>
                        </p:nvGrpSpPr>
                        <p:grpSpPr>
                          <a:xfrm>
                            <a:off x="3110040" y="3119760"/>
                            <a:ext cx="249120" cy="101520"/>
                            <a:chOff x="3110040" y="3119760"/>
                            <a:chExt cx="249120" cy="101520"/>
                          </a:xfrm>
                        </p:grpSpPr>
                        <p:grpSp>
                          <p:nvGrpSpPr>
                            <p:cNvPr id="1508" name=""/>
                            <p:cNvGrpSpPr/>
                            <p:nvPr/>
                          </p:nvGrpSpPr>
                          <p:grpSpPr>
                            <a:xfrm>
                              <a:off x="3236760" y="3119760"/>
                              <a:ext cx="122400" cy="101520"/>
                              <a:chOff x="3236760" y="3119760"/>
                              <a:chExt cx="122400" cy="101520"/>
                            </a:xfrm>
                          </p:grpSpPr>
                          <p:sp>
                            <p:nvSpPr>
                              <p:cNvPr id="1509" name=""/>
                              <p:cNvSpPr/>
                              <p:nvPr/>
                            </p:nvSpPr>
                            <p:spPr>
                              <a:xfrm>
                                <a:off x="3236760" y="3154680"/>
                                <a:ext cx="122400" cy="66600"/>
                              </a:xfrm>
                              <a:custGeom>
                                <a:avLst/>
                                <a:gdLst/>
                                <a:ahLst/>
                                <a:rect l="l" t="t" r="r" b="b"/>
                                <a:pathLst>
                                  <a:path w="77" h="42">
                                    <a:moveTo>
                                      <a:pt x="24" y="1"/>
                                    </a:moveTo>
                                    <a:lnTo>
                                      <a:pt x="11" y="8"/>
                                    </a:lnTo>
                                    <a:lnTo>
                                      <a:pt x="2" y="15"/>
                                    </a:lnTo>
                                    <a:lnTo>
                                      <a:pt x="0" y="22"/>
                                    </a:lnTo>
                                    <a:lnTo>
                                      <a:pt x="2" y="28"/>
                                    </a:lnTo>
                                    <a:lnTo>
                                      <a:pt x="11" y="30"/>
                                    </a:lnTo>
                                    <a:lnTo>
                                      <a:pt x="21" y="29"/>
                                    </a:lnTo>
                                    <a:lnTo>
                                      <a:pt x="24" y="35"/>
                                    </a:lnTo>
                                    <a:lnTo>
                                      <a:pt x="30" y="39"/>
                                    </a:lnTo>
                                    <a:lnTo>
                                      <a:pt x="43" y="41"/>
                                    </a:lnTo>
                                    <a:lnTo>
                                      <a:pt x="54" y="42"/>
                                    </a:lnTo>
                                    <a:lnTo>
                                      <a:pt x="63" y="39"/>
                                    </a:lnTo>
                                    <a:lnTo>
                                      <a:pt x="74" y="34"/>
                                    </a:lnTo>
                                    <a:lnTo>
                                      <a:pt x="77" y="24"/>
                                    </a:lnTo>
                                    <a:lnTo>
                                      <a:pt x="73" y="14"/>
                                    </a:lnTo>
                                    <a:lnTo>
                                      <a:pt x="55" y="0"/>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510" name=""/>
                              <p:cNvGrpSpPr/>
                              <p:nvPr/>
                            </p:nvGrpSpPr>
                            <p:grpSpPr>
                              <a:xfrm>
                                <a:off x="3267000" y="3119760"/>
                                <a:ext cx="52560" cy="21960"/>
                                <a:chOff x="3267000" y="3119760"/>
                                <a:chExt cx="52560" cy="21960"/>
                              </a:xfrm>
                            </p:grpSpPr>
                            <p:sp>
                              <p:nvSpPr>
                                <p:cNvPr id="1511" name=""/>
                                <p:cNvSpPr/>
                                <p:nvPr/>
                              </p:nvSpPr>
                              <p:spPr>
                                <a:xfrm>
                                  <a:off x="3267000" y="3119760"/>
                                  <a:ext cx="25560" cy="2196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12" name=""/>
                                <p:cNvSpPr/>
                                <p:nvPr/>
                              </p:nvSpPr>
                              <p:spPr>
                                <a:xfrm>
                                  <a:off x="3295800" y="3119760"/>
                                  <a:ext cx="23760" cy="2196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sp>
                          <p:nvSpPr>
                            <p:cNvPr id="1513" name=""/>
                            <p:cNvSpPr/>
                            <p:nvPr/>
                          </p:nvSpPr>
                          <p:spPr>
                            <a:xfrm>
                              <a:off x="3110040" y="3175200"/>
                              <a:ext cx="20520" cy="20520"/>
                            </a:xfrm>
                            <a:prstGeom prst="ellipse">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sp>
                  <p:nvSpPr>
                    <p:cNvPr id="1514" name=""/>
                    <p:cNvSpPr/>
                    <p:nvPr/>
                  </p:nvSpPr>
                  <p:spPr>
                    <a:xfrm>
                      <a:off x="3287880" y="3265560"/>
                      <a:ext cx="345960" cy="193680"/>
                    </a:xfrm>
                    <a:custGeom>
                      <a:avLst/>
                      <a:gdLst/>
                      <a:ahLst/>
                      <a:rect l="l" t="t" r="r" b="b"/>
                      <a:pathLst>
                        <a:path w="218" h="122">
                          <a:moveTo>
                            <a:pt x="64" y="0"/>
                          </a:moveTo>
                          <a:lnTo>
                            <a:pt x="42" y="24"/>
                          </a:lnTo>
                          <a:lnTo>
                            <a:pt x="0" y="37"/>
                          </a:lnTo>
                          <a:lnTo>
                            <a:pt x="22" y="48"/>
                          </a:lnTo>
                          <a:lnTo>
                            <a:pt x="44" y="51"/>
                          </a:lnTo>
                          <a:lnTo>
                            <a:pt x="33" y="56"/>
                          </a:lnTo>
                          <a:lnTo>
                            <a:pt x="19" y="55"/>
                          </a:lnTo>
                          <a:lnTo>
                            <a:pt x="5" y="65"/>
                          </a:lnTo>
                          <a:lnTo>
                            <a:pt x="1" y="76"/>
                          </a:lnTo>
                          <a:lnTo>
                            <a:pt x="5" y="88"/>
                          </a:lnTo>
                          <a:lnTo>
                            <a:pt x="14" y="98"/>
                          </a:lnTo>
                          <a:lnTo>
                            <a:pt x="31" y="106"/>
                          </a:lnTo>
                          <a:lnTo>
                            <a:pt x="53" y="111"/>
                          </a:lnTo>
                          <a:lnTo>
                            <a:pt x="83" y="120"/>
                          </a:lnTo>
                          <a:lnTo>
                            <a:pt x="96" y="122"/>
                          </a:lnTo>
                          <a:lnTo>
                            <a:pt x="118" y="121"/>
                          </a:lnTo>
                          <a:lnTo>
                            <a:pt x="137" y="106"/>
                          </a:lnTo>
                          <a:lnTo>
                            <a:pt x="159" y="84"/>
                          </a:lnTo>
                          <a:lnTo>
                            <a:pt x="179" y="89"/>
                          </a:lnTo>
                          <a:lnTo>
                            <a:pt x="203" y="93"/>
                          </a:lnTo>
                          <a:lnTo>
                            <a:pt x="218" y="85"/>
                          </a:lnTo>
                          <a:lnTo>
                            <a:pt x="212" y="79"/>
                          </a:lnTo>
                          <a:lnTo>
                            <a:pt x="203" y="71"/>
                          </a:lnTo>
                          <a:lnTo>
                            <a:pt x="184" y="65"/>
                          </a:lnTo>
                          <a:lnTo>
                            <a:pt x="171" y="48"/>
                          </a:lnTo>
                          <a:lnTo>
                            <a:pt x="138" y="41"/>
                          </a:lnTo>
                          <a:lnTo>
                            <a:pt x="118" y="24"/>
                          </a:lnTo>
                          <a:lnTo>
                            <a:pt x="97" y="9"/>
                          </a:lnTo>
                          <a:lnTo>
                            <a:pt x="64" y="0"/>
                          </a:lnTo>
                          <a:close/>
                        </a:path>
                      </a:pathLst>
                    </a:custGeom>
                    <a:solidFill>
                      <a:srgbClr val="3f5f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5" name=""/>
                  <p:cNvGrpSpPr/>
                  <p:nvPr/>
                </p:nvGrpSpPr>
                <p:grpSpPr>
                  <a:xfrm>
                    <a:off x="3452760" y="3356280"/>
                    <a:ext cx="392040" cy="126720"/>
                    <a:chOff x="3452760" y="3356280"/>
                    <a:chExt cx="392040" cy="126720"/>
                  </a:xfrm>
                </p:grpSpPr>
                <p:sp>
                  <p:nvSpPr>
                    <p:cNvPr id="1516" name=""/>
                    <p:cNvSpPr/>
                    <p:nvPr/>
                  </p:nvSpPr>
                  <p:spPr>
                    <a:xfrm>
                      <a:off x="3452760" y="3400560"/>
                      <a:ext cx="201600" cy="82440"/>
                    </a:xfrm>
                    <a:custGeom>
                      <a:avLst/>
                      <a:gdLst/>
                      <a:ahLst/>
                      <a:rect l="l" t="t" r="r" b="b"/>
                      <a:pathLst>
                        <a:path w="127" h="52">
                          <a:moveTo>
                            <a:pt x="0" y="41"/>
                          </a:moveTo>
                          <a:lnTo>
                            <a:pt x="8" y="30"/>
                          </a:lnTo>
                          <a:lnTo>
                            <a:pt x="19" y="23"/>
                          </a:lnTo>
                          <a:lnTo>
                            <a:pt x="33" y="16"/>
                          </a:lnTo>
                          <a:lnTo>
                            <a:pt x="41" y="0"/>
                          </a:lnTo>
                          <a:lnTo>
                            <a:pt x="63" y="3"/>
                          </a:lnTo>
                          <a:lnTo>
                            <a:pt x="78" y="5"/>
                          </a:lnTo>
                          <a:lnTo>
                            <a:pt x="91" y="3"/>
                          </a:lnTo>
                          <a:lnTo>
                            <a:pt x="103" y="8"/>
                          </a:lnTo>
                          <a:lnTo>
                            <a:pt x="116" y="15"/>
                          </a:lnTo>
                          <a:lnTo>
                            <a:pt x="125" y="24"/>
                          </a:lnTo>
                          <a:lnTo>
                            <a:pt x="127" y="30"/>
                          </a:lnTo>
                          <a:lnTo>
                            <a:pt x="119" y="36"/>
                          </a:lnTo>
                          <a:lnTo>
                            <a:pt x="107" y="40"/>
                          </a:lnTo>
                          <a:lnTo>
                            <a:pt x="94" y="39"/>
                          </a:lnTo>
                          <a:lnTo>
                            <a:pt x="80" y="36"/>
                          </a:lnTo>
                          <a:lnTo>
                            <a:pt x="74" y="45"/>
                          </a:lnTo>
                          <a:lnTo>
                            <a:pt x="66" y="52"/>
                          </a:lnTo>
                          <a:lnTo>
                            <a:pt x="37" y="52"/>
                          </a:lnTo>
                          <a:lnTo>
                            <a:pt x="23" y="47"/>
                          </a:lnTo>
                          <a:lnTo>
                            <a:pt x="0" y="41"/>
                          </a:lnTo>
                          <a:close/>
                        </a:path>
                      </a:pathLst>
                    </a:custGeom>
                    <a:solidFill>
                      <a:srgbClr val="ffbf7f"/>
                    </a:solidFill>
                    <a:ln w="176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1517" name=""/>
                    <p:cNvGrpSpPr/>
                    <p:nvPr/>
                  </p:nvGrpSpPr>
                  <p:grpSpPr>
                    <a:xfrm>
                      <a:off x="3676680" y="3356280"/>
                      <a:ext cx="168120" cy="109440"/>
                      <a:chOff x="3676680" y="3356280"/>
                      <a:chExt cx="168120" cy="109440"/>
                    </a:xfrm>
                  </p:grpSpPr>
                  <p:sp>
                    <p:nvSpPr>
                      <p:cNvPr id="1518" name=""/>
                      <p:cNvSpPr/>
                      <p:nvPr/>
                    </p:nvSpPr>
                    <p:spPr>
                      <a:xfrm>
                        <a:off x="3676680" y="3386160"/>
                        <a:ext cx="63360" cy="79560"/>
                      </a:xfrm>
                      <a:custGeom>
                        <a:avLst/>
                        <a:gdLst/>
                        <a:ahLst/>
                        <a:rect l="l" t="t" r="r" b="b"/>
                        <a:pathLst>
                          <a:path w="40" h="50">
                            <a:moveTo>
                              <a:pt x="0" y="24"/>
                            </a:moveTo>
                            <a:lnTo>
                              <a:pt x="13" y="27"/>
                            </a:lnTo>
                            <a:lnTo>
                              <a:pt x="10" y="20"/>
                            </a:lnTo>
                            <a:lnTo>
                              <a:pt x="3" y="4"/>
                            </a:lnTo>
                            <a:lnTo>
                              <a:pt x="10" y="0"/>
                            </a:lnTo>
                            <a:lnTo>
                              <a:pt x="19" y="1"/>
                            </a:lnTo>
                            <a:lnTo>
                              <a:pt x="33" y="10"/>
                            </a:lnTo>
                            <a:lnTo>
                              <a:pt x="38" y="17"/>
                            </a:lnTo>
                            <a:lnTo>
                              <a:pt x="38" y="24"/>
                            </a:lnTo>
                            <a:lnTo>
                              <a:pt x="40" y="41"/>
                            </a:lnTo>
                            <a:lnTo>
                              <a:pt x="24" y="50"/>
                            </a:lnTo>
                            <a:lnTo>
                              <a:pt x="11" y="44"/>
                            </a:lnTo>
                            <a:lnTo>
                              <a:pt x="0" y="34"/>
                            </a:lnTo>
                            <a:lnTo>
                              <a:pt x="0" y="24"/>
                            </a:lnTo>
                            <a:close/>
                          </a:path>
                        </a:pathLst>
                      </a:custGeom>
                      <a:solidFill>
                        <a:srgbClr val="ffbf7f"/>
                      </a:solidFill>
                      <a:ln w="176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19" name=""/>
                      <p:cNvSpPr/>
                      <p:nvPr/>
                    </p:nvSpPr>
                    <p:spPr>
                      <a:xfrm>
                        <a:off x="3714840" y="3356280"/>
                        <a:ext cx="57240" cy="31680"/>
                      </a:xfrm>
                      <a:custGeom>
                        <a:avLst/>
                        <a:gdLst/>
                        <a:ahLst/>
                        <a:rect l="l" t="t" r="r" b="b"/>
                        <a:pathLst>
                          <a:path w="36" h="20">
                            <a:moveTo>
                              <a:pt x="0" y="20"/>
                            </a:moveTo>
                            <a:lnTo>
                              <a:pt x="4" y="10"/>
                            </a:lnTo>
                            <a:lnTo>
                              <a:pt x="14" y="0"/>
                            </a:lnTo>
                            <a:lnTo>
                              <a:pt x="23" y="2"/>
                            </a:lnTo>
                            <a:lnTo>
                              <a:pt x="36" y="12"/>
                            </a:lnTo>
                            <a:lnTo>
                              <a:pt x="31" y="19"/>
                            </a:lnTo>
                            <a:lnTo>
                              <a:pt x="0" y="20"/>
                            </a:lnTo>
                            <a:close/>
                          </a:path>
                        </a:pathLst>
                      </a:custGeom>
                      <a:solidFill>
                        <a:srgbClr val="ffbf7f"/>
                      </a:solidFill>
                      <a:ln w="176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0" name=""/>
                      <p:cNvSpPr/>
                      <p:nvPr/>
                    </p:nvSpPr>
                    <p:spPr>
                      <a:xfrm>
                        <a:off x="3728880" y="3386160"/>
                        <a:ext cx="55800" cy="65160"/>
                      </a:xfrm>
                      <a:custGeom>
                        <a:avLst/>
                        <a:gdLst/>
                        <a:ahLst/>
                        <a:rect l="l" t="t" r="r" b="b"/>
                        <a:pathLst>
                          <a:path w="35" h="41">
                            <a:moveTo>
                              <a:pt x="22" y="4"/>
                            </a:moveTo>
                            <a:lnTo>
                              <a:pt x="11" y="0"/>
                            </a:lnTo>
                            <a:lnTo>
                              <a:pt x="3" y="1"/>
                            </a:lnTo>
                            <a:lnTo>
                              <a:pt x="0" y="6"/>
                            </a:lnTo>
                            <a:lnTo>
                              <a:pt x="11" y="16"/>
                            </a:lnTo>
                            <a:lnTo>
                              <a:pt x="7" y="24"/>
                            </a:lnTo>
                            <a:lnTo>
                              <a:pt x="11" y="39"/>
                            </a:lnTo>
                            <a:lnTo>
                              <a:pt x="24" y="41"/>
                            </a:lnTo>
                            <a:lnTo>
                              <a:pt x="35" y="38"/>
                            </a:lnTo>
                            <a:lnTo>
                              <a:pt x="35" y="25"/>
                            </a:lnTo>
                            <a:lnTo>
                              <a:pt x="30" y="17"/>
                            </a:lnTo>
                            <a:lnTo>
                              <a:pt x="22" y="4"/>
                            </a:lnTo>
                            <a:close/>
                          </a:path>
                        </a:pathLst>
                      </a:custGeom>
                      <a:solidFill>
                        <a:srgbClr val="ffbf7f"/>
                      </a:solidFill>
                      <a:ln w="176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21" name=""/>
                      <p:cNvSpPr/>
                      <p:nvPr/>
                    </p:nvSpPr>
                    <p:spPr>
                      <a:xfrm>
                        <a:off x="3789360" y="3395880"/>
                        <a:ext cx="55440" cy="42840"/>
                      </a:xfrm>
                      <a:custGeom>
                        <a:avLst/>
                        <a:gdLst/>
                        <a:ahLst/>
                        <a:rect l="l" t="t" r="r" b="b"/>
                        <a:pathLst>
                          <a:path w="35" h="27">
                            <a:moveTo>
                              <a:pt x="2" y="0"/>
                            </a:moveTo>
                            <a:lnTo>
                              <a:pt x="0" y="6"/>
                            </a:lnTo>
                            <a:lnTo>
                              <a:pt x="5" y="21"/>
                            </a:lnTo>
                            <a:lnTo>
                              <a:pt x="14" y="25"/>
                            </a:lnTo>
                            <a:lnTo>
                              <a:pt x="24" y="27"/>
                            </a:lnTo>
                            <a:lnTo>
                              <a:pt x="31" y="23"/>
                            </a:lnTo>
                            <a:lnTo>
                              <a:pt x="35" y="14"/>
                            </a:lnTo>
                            <a:lnTo>
                              <a:pt x="17" y="0"/>
                            </a:lnTo>
                            <a:lnTo>
                              <a:pt x="2" y="0"/>
                            </a:lnTo>
                            <a:close/>
                          </a:path>
                        </a:pathLst>
                      </a:custGeom>
                      <a:solidFill>
                        <a:srgbClr val="ffbf7f"/>
                      </a:solid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grpSp>
              <p:nvGrpSpPr>
                <p:cNvPr id="1522" name=""/>
                <p:cNvGrpSpPr/>
                <p:nvPr/>
              </p:nvGrpSpPr>
              <p:grpSpPr>
                <a:xfrm>
                  <a:off x="3654360" y="3033720"/>
                  <a:ext cx="1263600" cy="798840"/>
                  <a:chOff x="3654360" y="3033720"/>
                  <a:chExt cx="1263600" cy="798840"/>
                </a:xfrm>
              </p:grpSpPr>
              <p:grpSp>
                <p:nvGrpSpPr>
                  <p:cNvPr id="1523" name=""/>
                  <p:cNvGrpSpPr/>
                  <p:nvPr/>
                </p:nvGrpSpPr>
                <p:grpSpPr>
                  <a:xfrm>
                    <a:off x="4259160" y="3167280"/>
                    <a:ext cx="658800" cy="243000"/>
                    <a:chOff x="4259160" y="3167280"/>
                    <a:chExt cx="658800" cy="243000"/>
                  </a:xfrm>
                </p:grpSpPr>
                <p:sp>
                  <p:nvSpPr>
                    <p:cNvPr id="1524" name=""/>
                    <p:cNvSpPr/>
                    <p:nvPr/>
                  </p:nvSpPr>
                  <p:spPr>
                    <a:xfrm>
                      <a:off x="4645080" y="3167280"/>
                      <a:ext cx="272880" cy="181080"/>
                    </a:xfrm>
                    <a:custGeom>
                      <a:avLst/>
                      <a:gdLst/>
                      <a:ahLst/>
                      <a:rect l="l" t="t" r="r" b="b"/>
                      <a:pathLst>
                        <a:path w="172" h="114">
                          <a:moveTo>
                            <a:pt x="10" y="99"/>
                          </a:moveTo>
                          <a:lnTo>
                            <a:pt x="40" y="106"/>
                          </a:lnTo>
                          <a:lnTo>
                            <a:pt x="79" y="106"/>
                          </a:lnTo>
                          <a:lnTo>
                            <a:pt x="85" y="101"/>
                          </a:lnTo>
                          <a:lnTo>
                            <a:pt x="101" y="101"/>
                          </a:lnTo>
                          <a:lnTo>
                            <a:pt x="128" y="94"/>
                          </a:lnTo>
                          <a:lnTo>
                            <a:pt x="136" y="93"/>
                          </a:lnTo>
                          <a:lnTo>
                            <a:pt x="136" y="86"/>
                          </a:lnTo>
                          <a:lnTo>
                            <a:pt x="131" y="80"/>
                          </a:lnTo>
                          <a:lnTo>
                            <a:pt x="129" y="75"/>
                          </a:lnTo>
                          <a:lnTo>
                            <a:pt x="117" y="67"/>
                          </a:lnTo>
                          <a:lnTo>
                            <a:pt x="107" y="61"/>
                          </a:lnTo>
                          <a:lnTo>
                            <a:pt x="93" y="46"/>
                          </a:lnTo>
                          <a:lnTo>
                            <a:pt x="162" y="0"/>
                          </a:lnTo>
                          <a:lnTo>
                            <a:pt x="169" y="1"/>
                          </a:lnTo>
                          <a:lnTo>
                            <a:pt x="172" y="6"/>
                          </a:lnTo>
                          <a:lnTo>
                            <a:pt x="114" y="46"/>
                          </a:lnTo>
                          <a:lnTo>
                            <a:pt x="125" y="56"/>
                          </a:lnTo>
                          <a:lnTo>
                            <a:pt x="144" y="68"/>
                          </a:lnTo>
                          <a:lnTo>
                            <a:pt x="153" y="86"/>
                          </a:lnTo>
                          <a:lnTo>
                            <a:pt x="153" y="98"/>
                          </a:lnTo>
                          <a:lnTo>
                            <a:pt x="145" y="101"/>
                          </a:lnTo>
                          <a:lnTo>
                            <a:pt x="140" y="104"/>
                          </a:lnTo>
                          <a:lnTo>
                            <a:pt x="134" y="104"/>
                          </a:lnTo>
                          <a:lnTo>
                            <a:pt x="109" y="110"/>
                          </a:lnTo>
                          <a:lnTo>
                            <a:pt x="92" y="111"/>
                          </a:lnTo>
                          <a:lnTo>
                            <a:pt x="87" y="114"/>
                          </a:lnTo>
                          <a:lnTo>
                            <a:pt x="32" y="114"/>
                          </a:lnTo>
                          <a:lnTo>
                            <a:pt x="0" y="106"/>
                          </a:lnTo>
                          <a:lnTo>
                            <a:pt x="10"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4259160" y="3310200"/>
                      <a:ext cx="541440" cy="100080"/>
                    </a:xfrm>
                    <a:custGeom>
                      <a:avLst/>
                      <a:gdLst/>
                      <a:ahLst/>
                      <a:rect l="l" t="t" r="r" b="b"/>
                      <a:pathLst>
                        <a:path w="341" h="63">
                          <a:moveTo>
                            <a:pt x="0" y="54"/>
                          </a:moveTo>
                          <a:lnTo>
                            <a:pt x="41" y="47"/>
                          </a:lnTo>
                          <a:lnTo>
                            <a:pt x="83" y="41"/>
                          </a:lnTo>
                          <a:lnTo>
                            <a:pt x="127" y="34"/>
                          </a:lnTo>
                          <a:lnTo>
                            <a:pt x="185" y="39"/>
                          </a:lnTo>
                          <a:lnTo>
                            <a:pt x="302" y="51"/>
                          </a:lnTo>
                          <a:lnTo>
                            <a:pt x="324" y="51"/>
                          </a:lnTo>
                          <a:lnTo>
                            <a:pt x="324" y="39"/>
                          </a:lnTo>
                          <a:lnTo>
                            <a:pt x="313" y="27"/>
                          </a:lnTo>
                          <a:lnTo>
                            <a:pt x="298" y="11"/>
                          </a:lnTo>
                          <a:lnTo>
                            <a:pt x="286" y="10"/>
                          </a:lnTo>
                          <a:lnTo>
                            <a:pt x="273" y="13"/>
                          </a:lnTo>
                          <a:lnTo>
                            <a:pt x="253" y="18"/>
                          </a:lnTo>
                          <a:lnTo>
                            <a:pt x="245" y="17"/>
                          </a:lnTo>
                          <a:lnTo>
                            <a:pt x="243" y="14"/>
                          </a:lnTo>
                          <a:lnTo>
                            <a:pt x="247" y="8"/>
                          </a:lnTo>
                          <a:lnTo>
                            <a:pt x="281" y="0"/>
                          </a:lnTo>
                          <a:lnTo>
                            <a:pt x="309" y="4"/>
                          </a:lnTo>
                          <a:lnTo>
                            <a:pt x="325" y="17"/>
                          </a:lnTo>
                          <a:lnTo>
                            <a:pt x="339" y="36"/>
                          </a:lnTo>
                          <a:lnTo>
                            <a:pt x="341" y="54"/>
                          </a:lnTo>
                          <a:lnTo>
                            <a:pt x="339" y="60"/>
                          </a:lnTo>
                          <a:lnTo>
                            <a:pt x="335" y="63"/>
                          </a:lnTo>
                          <a:lnTo>
                            <a:pt x="302" y="62"/>
                          </a:lnTo>
                          <a:lnTo>
                            <a:pt x="231" y="55"/>
                          </a:lnTo>
                          <a:lnTo>
                            <a:pt x="165" y="48"/>
                          </a:lnTo>
                          <a:lnTo>
                            <a:pt x="132" y="46"/>
                          </a:lnTo>
                          <a:lnTo>
                            <a:pt x="97" y="50"/>
                          </a:lnTo>
                          <a:lnTo>
                            <a:pt x="41" y="58"/>
                          </a:lnTo>
                          <a:lnTo>
                            <a:pt x="9" y="63"/>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6" name=""/>
                  <p:cNvGrpSpPr/>
                  <p:nvPr/>
                </p:nvGrpSpPr>
                <p:grpSpPr>
                  <a:xfrm>
                    <a:off x="3654360" y="3033720"/>
                    <a:ext cx="968400" cy="798840"/>
                    <a:chOff x="3654360" y="3033720"/>
                    <a:chExt cx="968400" cy="798840"/>
                  </a:xfrm>
                </p:grpSpPr>
                <p:grpSp>
                  <p:nvGrpSpPr>
                    <p:cNvPr id="1527" name=""/>
                    <p:cNvGrpSpPr/>
                    <p:nvPr/>
                  </p:nvGrpSpPr>
                  <p:grpSpPr>
                    <a:xfrm>
                      <a:off x="3654360" y="3033720"/>
                      <a:ext cx="968400" cy="798840"/>
                      <a:chOff x="3654360" y="3033720"/>
                      <a:chExt cx="968400" cy="798840"/>
                    </a:xfrm>
                  </p:grpSpPr>
                  <p:grpSp>
                    <p:nvGrpSpPr>
                      <p:cNvPr id="1528" name=""/>
                      <p:cNvGrpSpPr/>
                      <p:nvPr/>
                    </p:nvGrpSpPr>
                    <p:grpSpPr>
                      <a:xfrm>
                        <a:off x="3654360" y="3033720"/>
                        <a:ext cx="968400" cy="798840"/>
                        <a:chOff x="3654360" y="3033720"/>
                        <a:chExt cx="968400" cy="798840"/>
                      </a:xfrm>
                    </p:grpSpPr>
                    <p:grpSp>
                      <p:nvGrpSpPr>
                        <p:cNvPr id="1529" name=""/>
                        <p:cNvGrpSpPr/>
                        <p:nvPr/>
                      </p:nvGrpSpPr>
                      <p:grpSpPr>
                        <a:xfrm>
                          <a:off x="3654360" y="3033720"/>
                          <a:ext cx="482760" cy="274680"/>
                          <a:chOff x="3654360" y="3033720"/>
                          <a:chExt cx="482760" cy="274680"/>
                        </a:xfrm>
                      </p:grpSpPr>
                      <p:sp>
                        <p:nvSpPr>
                          <p:cNvPr id="1530" name=""/>
                          <p:cNvSpPr/>
                          <p:nvPr/>
                        </p:nvSpPr>
                        <p:spPr>
                          <a:xfrm>
                            <a:off x="3724200" y="3048120"/>
                            <a:ext cx="412920" cy="260280"/>
                          </a:xfrm>
                          <a:custGeom>
                            <a:avLst/>
                            <a:gdLst/>
                            <a:ahLst/>
                            <a:rect l="l" t="t" r="r" b="b"/>
                            <a:pathLst>
                              <a:path w="260" h="164">
                                <a:moveTo>
                                  <a:pt x="14" y="119"/>
                                </a:moveTo>
                                <a:lnTo>
                                  <a:pt x="6" y="111"/>
                                </a:lnTo>
                                <a:lnTo>
                                  <a:pt x="2" y="96"/>
                                </a:lnTo>
                                <a:lnTo>
                                  <a:pt x="0" y="81"/>
                                </a:lnTo>
                                <a:lnTo>
                                  <a:pt x="2" y="65"/>
                                </a:lnTo>
                                <a:lnTo>
                                  <a:pt x="6" y="47"/>
                                </a:lnTo>
                                <a:lnTo>
                                  <a:pt x="11" y="35"/>
                                </a:lnTo>
                                <a:lnTo>
                                  <a:pt x="21" y="24"/>
                                </a:lnTo>
                                <a:lnTo>
                                  <a:pt x="35" y="16"/>
                                </a:lnTo>
                                <a:lnTo>
                                  <a:pt x="54" y="8"/>
                                </a:lnTo>
                                <a:lnTo>
                                  <a:pt x="69" y="4"/>
                                </a:lnTo>
                                <a:lnTo>
                                  <a:pt x="88" y="2"/>
                                </a:lnTo>
                                <a:lnTo>
                                  <a:pt x="107" y="1"/>
                                </a:lnTo>
                                <a:lnTo>
                                  <a:pt x="126" y="0"/>
                                </a:lnTo>
                                <a:lnTo>
                                  <a:pt x="153" y="2"/>
                                </a:lnTo>
                                <a:lnTo>
                                  <a:pt x="167" y="7"/>
                                </a:lnTo>
                                <a:lnTo>
                                  <a:pt x="172" y="13"/>
                                </a:lnTo>
                                <a:lnTo>
                                  <a:pt x="172" y="21"/>
                                </a:lnTo>
                                <a:lnTo>
                                  <a:pt x="176" y="29"/>
                                </a:lnTo>
                                <a:lnTo>
                                  <a:pt x="179" y="46"/>
                                </a:lnTo>
                                <a:lnTo>
                                  <a:pt x="173" y="69"/>
                                </a:lnTo>
                                <a:lnTo>
                                  <a:pt x="201" y="66"/>
                                </a:lnTo>
                                <a:lnTo>
                                  <a:pt x="227" y="68"/>
                                </a:lnTo>
                                <a:lnTo>
                                  <a:pt x="253" y="73"/>
                                </a:lnTo>
                                <a:lnTo>
                                  <a:pt x="260" y="80"/>
                                </a:lnTo>
                                <a:lnTo>
                                  <a:pt x="256" y="91"/>
                                </a:lnTo>
                                <a:lnTo>
                                  <a:pt x="250" y="100"/>
                                </a:lnTo>
                                <a:lnTo>
                                  <a:pt x="239" y="103"/>
                                </a:lnTo>
                                <a:lnTo>
                                  <a:pt x="225" y="101"/>
                                </a:lnTo>
                                <a:lnTo>
                                  <a:pt x="212" y="96"/>
                                </a:lnTo>
                                <a:lnTo>
                                  <a:pt x="203" y="96"/>
                                </a:lnTo>
                                <a:lnTo>
                                  <a:pt x="194" y="100"/>
                                </a:lnTo>
                                <a:lnTo>
                                  <a:pt x="181" y="103"/>
                                </a:lnTo>
                                <a:lnTo>
                                  <a:pt x="186" y="129"/>
                                </a:lnTo>
                                <a:lnTo>
                                  <a:pt x="176" y="128"/>
                                </a:lnTo>
                                <a:lnTo>
                                  <a:pt x="162" y="121"/>
                                </a:lnTo>
                                <a:lnTo>
                                  <a:pt x="134" y="119"/>
                                </a:lnTo>
                                <a:lnTo>
                                  <a:pt x="112" y="130"/>
                                </a:lnTo>
                                <a:lnTo>
                                  <a:pt x="134" y="125"/>
                                </a:lnTo>
                                <a:lnTo>
                                  <a:pt x="153" y="126"/>
                                </a:lnTo>
                                <a:lnTo>
                                  <a:pt x="168" y="130"/>
                                </a:lnTo>
                                <a:lnTo>
                                  <a:pt x="176" y="137"/>
                                </a:lnTo>
                                <a:lnTo>
                                  <a:pt x="172" y="151"/>
                                </a:lnTo>
                                <a:lnTo>
                                  <a:pt x="157" y="162"/>
                                </a:lnTo>
                                <a:lnTo>
                                  <a:pt x="145" y="163"/>
                                </a:lnTo>
                                <a:lnTo>
                                  <a:pt x="131" y="158"/>
                                </a:lnTo>
                                <a:lnTo>
                                  <a:pt x="118" y="157"/>
                                </a:lnTo>
                                <a:lnTo>
                                  <a:pt x="96" y="160"/>
                                </a:lnTo>
                                <a:lnTo>
                                  <a:pt x="88" y="164"/>
                                </a:lnTo>
                                <a:lnTo>
                                  <a:pt x="87" y="148"/>
                                </a:lnTo>
                                <a:lnTo>
                                  <a:pt x="90" y="137"/>
                                </a:lnTo>
                                <a:lnTo>
                                  <a:pt x="74" y="138"/>
                                </a:lnTo>
                                <a:lnTo>
                                  <a:pt x="43" y="135"/>
                                </a:lnTo>
                                <a:lnTo>
                                  <a:pt x="25" y="130"/>
                                </a:lnTo>
                                <a:lnTo>
                                  <a:pt x="14" y="119"/>
                                </a:lnTo>
                                <a:close/>
                              </a:path>
                            </a:pathLst>
                          </a:custGeom>
                          <a:solidFill>
                            <a:srgbClr val="ffbf5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1" name=""/>
                          <p:cNvGrpSpPr/>
                          <p:nvPr/>
                        </p:nvGrpSpPr>
                        <p:grpSpPr>
                          <a:xfrm>
                            <a:off x="3654360" y="3033720"/>
                            <a:ext cx="399960" cy="168480"/>
                            <a:chOff x="3654360" y="3033720"/>
                            <a:chExt cx="399960" cy="168480"/>
                          </a:xfrm>
                        </p:grpSpPr>
                        <p:sp>
                          <p:nvSpPr>
                            <p:cNvPr id="1532" name=""/>
                            <p:cNvSpPr/>
                            <p:nvPr/>
                          </p:nvSpPr>
                          <p:spPr>
                            <a:xfrm>
                              <a:off x="3981600" y="3059280"/>
                              <a:ext cx="72720" cy="19080"/>
                            </a:xfrm>
                            <a:custGeom>
                              <a:avLst/>
                              <a:gdLst/>
                              <a:ahLst/>
                              <a:rect l="l" t="t" r="r" b="b"/>
                              <a:pathLst>
                                <a:path w="46" h="12">
                                  <a:moveTo>
                                    <a:pt x="0" y="9"/>
                                  </a:moveTo>
                                  <a:lnTo>
                                    <a:pt x="13" y="12"/>
                                  </a:lnTo>
                                  <a:lnTo>
                                    <a:pt x="25" y="11"/>
                                  </a:lnTo>
                                  <a:lnTo>
                                    <a:pt x="38" y="5"/>
                                  </a:lnTo>
                                  <a:lnTo>
                                    <a:pt x="46" y="0"/>
                                  </a:lnTo>
                                </a:path>
                              </a:pathLst>
                            </a:custGeom>
                            <a:noFill/>
                            <a:ln w="176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33" name=""/>
                            <p:cNvSpPr/>
                            <p:nvPr/>
                          </p:nvSpPr>
                          <p:spPr>
                            <a:xfrm>
                              <a:off x="3929040" y="3033720"/>
                              <a:ext cx="87480" cy="28800"/>
                            </a:xfrm>
                            <a:custGeom>
                              <a:avLst/>
                              <a:gdLst/>
                              <a:ahLst/>
                              <a:rect l="l" t="t" r="r" b="b"/>
                              <a:pathLst>
                                <a:path w="55" h="18">
                                  <a:moveTo>
                                    <a:pt x="55" y="0"/>
                                  </a:moveTo>
                                  <a:lnTo>
                                    <a:pt x="43" y="9"/>
                                  </a:lnTo>
                                  <a:lnTo>
                                    <a:pt x="25" y="15"/>
                                  </a:lnTo>
                                  <a:lnTo>
                                    <a:pt x="9" y="18"/>
                                  </a:lnTo>
                                  <a:lnTo>
                                    <a:pt x="0" y="16"/>
                                  </a:lnTo>
                                </a:path>
                              </a:pathLst>
                            </a:custGeom>
                            <a:noFill/>
                            <a:ln w="176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34" name=""/>
                            <p:cNvSpPr/>
                            <p:nvPr/>
                          </p:nvSpPr>
                          <p:spPr>
                            <a:xfrm>
                              <a:off x="3762360" y="3051360"/>
                              <a:ext cx="166680" cy="38160"/>
                            </a:xfrm>
                            <a:custGeom>
                              <a:avLst/>
                              <a:gdLst/>
                              <a:ahLst/>
                              <a:rect l="l" t="t" r="r" b="b"/>
                              <a:pathLst>
                                <a:path w="105" h="24">
                                  <a:moveTo>
                                    <a:pt x="0" y="24"/>
                                  </a:moveTo>
                                  <a:lnTo>
                                    <a:pt x="3" y="13"/>
                                  </a:lnTo>
                                  <a:lnTo>
                                    <a:pt x="11" y="5"/>
                                  </a:lnTo>
                                  <a:lnTo>
                                    <a:pt x="20" y="1"/>
                                  </a:lnTo>
                                  <a:lnTo>
                                    <a:pt x="36" y="0"/>
                                  </a:lnTo>
                                  <a:lnTo>
                                    <a:pt x="48" y="3"/>
                                  </a:lnTo>
                                  <a:lnTo>
                                    <a:pt x="61" y="9"/>
                                  </a:lnTo>
                                  <a:lnTo>
                                    <a:pt x="67" y="15"/>
                                  </a:lnTo>
                                  <a:lnTo>
                                    <a:pt x="77" y="10"/>
                                  </a:lnTo>
                                  <a:lnTo>
                                    <a:pt x="91" y="12"/>
                                  </a:lnTo>
                                  <a:lnTo>
                                    <a:pt x="105" y="18"/>
                                  </a:lnTo>
                                </a:path>
                              </a:pathLst>
                            </a:custGeom>
                            <a:noFill/>
                            <a:ln w="176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5" name=""/>
                            <p:cNvSpPr/>
                            <p:nvPr/>
                          </p:nvSpPr>
                          <p:spPr>
                            <a:xfrm>
                              <a:off x="3727440" y="3086280"/>
                              <a:ext cx="174600" cy="108000"/>
                            </a:xfrm>
                            <a:custGeom>
                              <a:avLst/>
                              <a:gdLst/>
                              <a:ahLst/>
                              <a:rect l="l" t="t" r="r" b="b"/>
                              <a:pathLst>
                                <a:path w="110" h="68">
                                  <a:moveTo>
                                    <a:pt x="41" y="68"/>
                                  </a:moveTo>
                                  <a:lnTo>
                                    <a:pt x="28" y="63"/>
                                  </a:lnTo>
                                  <a:lnTo>
                                    <a:pt x="19" y="63"/>
                                  </a:lnTo>
                                  <a:lnTo>
                                    <a:pt x="9" y="58"/>
                                  </a:lnTo>
                                  <a:lnTo>
                                    <a:pt x="4" y="55"/>
                                  </a:lnTo>
                                  <a:lnTo>
                                    <a:pt x="0" y="46"/>
                                  </a:lnTo>
                                  <a:lnTo>
                                    <a:pt x="3" y="40"/>
                                  </a:lnTo>
                                  <a:lnTo>
                                    <a:pt x="9" y="36"/>
                                  </a:lnTo>
                                  <a:lnTo>
                                    <a:pt x="19" y="35"/>
                                  </a:lnTo>
                                  <a:lnTo>
                                    <a:pt x="28" y="40"/>
                                  </a:lnTo>
                                  <a:lnTo>
                                    <a:pt x="36" y="45"/>
                                  </a:lnTo>
                                  <a:lnTo>
                                    <a:pt x="37" y="31"/>
                                  </a:lnTo>
                                  <a:lnTo>
                                    <a:pt x="47" y="27"/>
                                  </a:lnTo>
                                  <a:lnTo>
                                    <a:pt x="63" y="19"/>
                                  </a:lnTo>
                                  <a:lnTo>
                                    <a:pt x="72" y="13"/>
                                  </a:lnTo>
                                  <a:lnTo>
                                    <a:pt x="75" y="4"/>
                                  </a:lnTo>
                                  <a:lnTo>
                                    <a:pt x="86" y="1"/>
                                  </a:lnTo>
                                  <a:lnTo>
                                    <a:pt x="99" y="0"/>
                                  </a:lnTo>
                                  <a:lnTo>
                                    <a:pt x="11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3654360" y="3073680"/>
                              <a:ext cx="177840" cy="87120"/>
                            </a:xfrm>
                            <a:custGeom>
                              <a:avLst/>
                              <a:gdLst/>
                              <a:ahLst/>
                              <a:rect l="l" t="t" r="r" b="b"/>
                              <a:pathLst>
                                <a:path w="112" h="55">
                                  <a:moveTo>
                                    <a:pt x="0" y="55"/>
                                  </a:moveTo>
                                  <a:lnTo>
                                    <a:pt x="22" y="47"/>
                                  </a:lnTo>
                                  <a:lnTo>
                                    <a:pt x="41" y="42"/>
                                  </a:lnTo>
                                  <a:lnTo>
                                    <a:pt x="63" y="41"/>
                                  </a:lnTo>
                                  <a:lnTo>
                                    <a:pt x="65" y="36"/>
                                  </a:lnTo>
                                  <a:lnTo>
                                    <a:pt x="63" y="29"/>
                                  </a:lnTo>
                                  <a:lnTo>
                                    <a:pt x="74" y="23"/>
                                  </a:lnTo>
                                  <a:lnTo>
                                    <a:pt x="93" y="19"/>
                                  </a:lnTo>
                                  <a:lnTo>
                                    <a:pt x="91" y="12"/>
                                  </a:lnTo>
                                  <a:lnTo>
                                    <a:pt x="93" y="7"/>
                                  </a:lnTo>
                                  <a:lnTo>
                                    <a:pt x="101" y="2"/>
                                  </a:lnTo>
                                  <a:lnTo>
                                    <a:pt x="112" y="0"/>
                                  </a:lnTo>
                                </a:path>
                              </a:pathLst>
                            </a:custGeom>
                            <a:noFill/>
                            <a:ln w="176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37" name=""/>
                            <p:cNvSpPr/>
                            <p:nvPr/>
                          </p:nvSpPr>
                          <p:spPr>
                            <a:xfrm>
                              <a:off x="3697200" y="3168720"/>
                              <a:ext cx="27000" cy="33480"/>
                            </a:xfrm>
                            <a:custGeom>
                              <a:avLst/>
                              <a:gdLst/>
                              <a:ahLst/>
                              <a:rect l="l" t="t" r="r" b="b"/>
                              <a:pathLst>
                                <a:path w="17" h="21">
                                  <a:moveTo>
                                    <a:pt x="17" y="0"/>
                                  </a:moveTo>
                                  <a:lnTo>
                                    <a:pt x="8" y="2"/>
                                  </a:lnTo>
                                  <a:lnTo>
                                    <a:pt x="1" y="7"/>
                                  </a:lnTo>
                                  <a:lnTo>
                                    <a:pt x="0" y="13"/>
                                  </a:lnTo>
                                  <a:lnTo>
                                    <a:pt x="4" y="21"/>
                                  </a:lnTo>
                                </a:path>
                              </a:pathLst>
                            </a:custGeom>
                            <a:no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8" name=""/>
                            <p:cNvSpPr/>
                            <p:nvPr/>
                          </p:nvSpPr>
                          <p:spPr>
                            <a:xfrm>
                              <a:off x="3924360" y="3124440"/>
                              <a:ext cx="22320" cy="55440"/>
                            </a:xfrm>
                            <a:custGeom>
                              <a:avLst/>
                              <a:gdLst/>
                              <a:ahLst/>
                              <a:rect l="l" t="t" r="r" b="b"/>
                              <a:pathLst>
                                <a:path w="14" h="35">
                                  <a:moveTo>
                                    <a:pt x="14" y="0"/>
                                  </a:moveTo>
                                  <a:lnTo>
                                    <a:pt x="6" y="7"/>
                                  </a:lnTo>
                                  <a:lnTo>
                                    <a:pt x="0" y="16"/>
                                  </a:lnTo>
                                  <a:lnTo>
                                    <a:pt x="1" y="25"/>
                                  </a:lnTo>
                                  <a:lnTo>
                                    <a:pt x="8" y="35"/>
                                  </a:lnTo>
                                  <a:lnTo>
                                    <a:pt x="8" y="34"/>
                                  </a:lnTo>
                                </a:path>
                              </a:pathLst>
                            </a:custGeom>
                            <a:noFill/>
                            <a:ln w="176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9" name=""/>
                            <p:cNvSpPr/>
                            <p:nvPr/>
                          </p:nvSpPr>
                          <p:spPr>
                            <a:xfrm>
                              <a:off x="3959280" y="3143520"/>
                              <a:ext cx="22320" cy="21960"/>
                            </a:xfrm>
                            <a:prstGeom prst="ellips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grpSp>
                      <p:nvGrpSpPr>
                        <p:cNvPr id="1540" name=""/>
                        <p:cNvGrpSpPr/>
                        <p:nvPr/>
                      </p:nvGrpSpPr>
                      <p:grpSpPr>
                        <a:xfrm>
                          <a:off x="3919680" y="3449880"/>
                          <a:ext cx="703080" cy="382680"/>
                          <a:chOff x="3919680" y="3449880"/>
                          <a:chExt cx="703080" cy="382680"/>
                        </a:xfrm>
                      </p:grpSpPr>
                      <p:grpSp>
                        <p:nvGrpSpPr>
                          <p:cNvPr id="1541" name=""/>
                          <p:cNvGrpSpPr/>
                          <p:nvPr/>
                        </p:nvGrpSpPr>
                        <p:grpSpPr>
                          <a:xfrm>
                            <a:off x="4071960" y="3453120"/>
                            <a:ext cx="550800" cy="379440"/>
                            <a:chOff x="4071960" y="3453120"/>
                            <a:chExt cx="550800" cy="379440"/>
                          </a:xfrm>
                        </p:grpSpPr>
                        <p:grpSp>
                          <p:nvGrpSpPr>
                            <p:cNvPr id="1542" name=""/>
                            <p:cNvGrpSpPr/>
                            <p:nvPr/>
                          </p:nvGrpSpPr>
                          <p:grpSpPr>
                            <a:xfrm>
                              <a:off x="4368960" y="3503880"/>
                              <a:ext cx="253800" cy="328680"/>
                              <a:chOff x="4368960" y="3503880"/>
                              <a:chExt cx="253800" cy="328680"/>
                            </a:xfrm>
                          </p:grpSpPr>
                          <p:sp>
                            <p:nvSpPr>
                              <p:cNvPr id="1543" name=""/>
                              <p:cNvSpPr/>
                              <p:nvPr/>
                            </p:nvSpPr>
                            <p:spPr>
                              <a:xfrm>
                                <a:off x="4368960" y="3503880"/>
                                <a:ext cx="253800" cy="328680"/>
                              </a:xfrm>
                              <a:custGeom>
                                <a:avLst/>
                                <a:gdLst/>
                                <a:ahLst/>
                                <a:rect l="l" t="t" r="r" b="b"/>
                                <a:pathLst>
                                  <a:path w="160" h="207">
                                    <a:moveTo>
                                      <a:pt x="0" y="147"/>
                                    </a:moveTo>
                                    <a:lnTo>
                                      <a:pt x="5" y="167"/>
                                    </a:lnTo>
                                    <a:lnTo>
                                      <a:pt x="12" y="186"/>
                                    </a:lnTo>
                                    <a:lnTo>
                                      <a:pt x="38" y="207"/>
                                    </a:lnTo>
                                    <a:lnTo>
                                      <a:pt x="56" y="198"/>
                                    </a:lnTo>
                                    <a:lnTo>
                                      <a:pt x="94" y="198"/>
                                    </a:lnTo>
                                    <a:lnTo>
                                      <a:pt x="113" y="182"/>
                                    </a:lnTo>
                                    <a:lnTo>
                                      <a:pt x="108" y="160"/>
                                    </a:lnTo>
                                    <a:lnTo>
                                      <a:pt x="127" y="168"/>
                                    </a:lnTo>
                                    <a:lnTo>
                                      <a:pt x="160" y="137"/>
                                    </a:lnTo>
                                    <a:lnTo>
                                      <a:pt x="156" y="122"/>
                                    </a:lnTo>
                                    <a:lnTo>
                                      <a:pt x="154" y="109"/>
                                    </a:lnTo>
                                    <a:lnTo>
                                      <a:pt x="156" y="100"/>
                                    </a:lnTo>
                                    <a:lnTo>
                                      <a:pt x="160" y="84"/>
                                    </a:lnTo>
                                    <a:lnTo>
                                      <a:pt x="138" y="64"/>
                                    </a:lnTo>
                                    <a:lnTo>
                                      <a:pt x="151" y="58"/>
                                    </a:lnTo>
                                    <a:lnTo>
                                      <a:pt x="154" y="40"/>
                                    </a:lnTo>
                                    <a:lnTo>
                                      <a:pt x="151" y="19"/>
                                    </a:lnTo>
                                    <a:lnTo>
                                      <a:pt x="143" y="3"/>
                                    </a:lnTo>
                                    <a:lnTo>
                                      <a:pt x="119" y="0"/>
                                    </a:lnTo>
                                    <a:lnTo>
                                      <a:pt x="77" y="0"/>
                                    </a:lnTo>
                                    <a:lnTo>
                                      <a:pt x="72" y="12"/>
                                    </a:lnTo>
                                    <a:lnTo>
                                      <a:pt x="66" y="33"/>
                                    </a:lnTo>
                                    <a:lnTo>
                                      <a:pt x="71" y="47"/>
                                    </a:lnTo>
                                    <a:lnTo>
                                      <a:pt x="85" y="67"/>
                                    </a:lnTo>
                                    <a:lnTo>
                                      <a:pt x="0" y="147"/>
                                    </a:lnTo>
                                    <a:close/>
                                  </a:path>
                                </a:pathLst>
                              </a:custGeom>
                              <a:solidFill>
                                <a:srgbClr val="9f7f5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4" name=""/>
                              <p:cNvGrpSpPr/>
                              <p:nvPr/>
                            </p:nvGrpSpPr>
                            <p:grpSpPr>
                              <a:xfrm>
                                <a:off x="4483080" y="3507120"/>
                                <a:ext cx="112320" cy="291960"/>
                                <a:chOff x="4483080" y="3507120"/>
                                <a:chExt cx="112320" cy="291960"/>
                              </a:xfrm>
                            </p:grpSpPr>
                            <p:sp>
                              <p:nvSpPr>
                                <p:cNvPr id="1545" name=""/>
                                <p:cNvSpPr/>
                                <p:nvPr/>
                              </p:nvSpPr>
                              <p:spPr>
                                <a:xfrm>
                                  <a:off x="4556160" y="3507120"/>
                                  <a:ext cx="27000" cy="69840"/>
                                </a:xfrm>
                                <a:custGeom>
                                  <a:avLst/>
                                  <a:gdLst/>
                                  <a:ahLst/>
                                  <a:rect l="l" t="t" r="r" b="b"/>
                                  <a:pathLst>
                                    <a:path w="17" h="44">
                                      <a:moveTo>
                                        <a:pt x="0" y="0"/>
                                      </a:moveTo>
                                      <a:lnTo>
                                        <a:pt x="17" y="27"/>
                                      </a:lnTo>
                                      <a:lnTo>
                                        <a:pt x="16" y="44"/>
                                      </a:lnTo>
                                    </a:path>
                                  </a:pathLst>
                                </a:custGeom>
                                <a:noFill/>
                                <a:ln w="176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46" name=""/>
                                <p:cNvSpPr/>
                                <p:nvPr/>
                              </p:nvSpPr>
                              <p:spPr>
                                <a:xfrm>
                                  <a:off x="4498920" y="3596040"/>
                                  <a:ext cx="79560" cy="936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7" name=""/>
                                <p:cNvSpPr/>
                                <p:nvPr/>
                              </p:nvSpPr>
                              <p:spPr>
                                <a:xfrm>
                                  <a:off x="4513320" y="3616560"/>
                                  <a:ext cx="74520" cy="23760"/>
                                </a:xfrm>
                                <a:custGeom>
                                  <a:avLst/>
                                  <a:gdLst/>
                                  <a:ahLst/>
                                  <a:rect l="l" t="t" r="r" b="b"/>
                                  <a:pathLst>
                                    <a:path w="47" h="15">
                                      <a:moveTo>
                                        <a:pt x="47" y="3"/>
                                      </a:moveTo>
                                      <a:lnTo>
                                        <a:pt x="24" y="0"/>
                                      </a:lnTo>
                                      <a:lnTo>
                                        <a:pt x="0" y="15"/>
                                      </a:lnTo>
                                    </a:path>
                                  </a:pathLst>
                                </a:custGeom>
                                <a:noFill/>
                                <a:ln w="176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48" name=""/>
                                <p:cNvSpPr/>
                                <p:nvPr/>
                              </p:nvSpPr>
                              <p:spPr>
                                <a:xfrm flipH="1">
                                  <a:off x="4560480" y="3673800"/>
                                  <a:ext cx="34920" cy="540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9" name=""/>
                                <p:cNvSpPr/>
                                <p:nvPr/>
                              </p:nvSpPr>
                              <p:spPr>
                                <a:xfrm flipH="1">
                                  <a:off x="4483080" y="3760920"/>
                                  <a:ext cx="38160" cy="38160"/>
                                </a:xfrm>
                                <a:prstGeom prst="line">
                                  <a:avLst/>
                                </a:prstGeom>
                                <a:ln w="176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sp>
                          <p:nvSpPr>
                            <p:cNvPr id="1550" name=""/>
                            <p:cNvSpPr/>
                            <p:nvPr/>
                          </p:nvSpPr>
                          <p:spPr>
                            <a:xfrm>
                              <a:off x="4071960" y="3453120"/>
                              <a:ext cx="458640" cy="218880"/>
                            </a:xfrm>
                            <a:custGeom>
                              <a:avLst/>
                              <a:gdLst/>
                              <a:ahLst/>
                              <a:rect l="l" t="t" r="r" b="b"/>
                              <a:pathLst>
                                <a:path w="289" h="138">
                                  <a:moveTo>
                                    <a:pt x="0" y="0"/>
                                  </a:moveTo>
                                  <a:lnTo>
                                    <a:pt x="63" y="13"/>
                                  </a:lnTo>
                                  <a:lnTo>
                                    <a:pt x="108" y="31"/>
                                  </a:lnTo>
                                  <a:lnTo>
                                    <a:pt x="119" y="43"/>
                                  </a:lnTo>
                                  <a:lnTo>
                                    <a:pt x="126" y="56"/>
                                  </a:lnTo>
                                  <a:lnTo>
                                    <a:pt x="146" y="54"/>
                                  </a:lnTo>
                                  <a:lnTo>
                                    <a:pt x="166" y="55"/>
                                  </a:lnTo>
                                  <a:lnTo>
                                    <a:pt x="225" y="74"/>
                                  </a:lnTo>
                                  <a:lnTo>
                                    <a:pt x="234" y="68"/>
                                  </a:lnTo>
                                  <a:lnTo>
                                    <a:pt x="248" y="89"/>
                                  </a:lnTo>
                                  <a:lnTo>
                                    <a:pt x="269" y="93"/>
                                  </a:lnTo>
                                  <a:lnTo>
                                    <a:pt x="289" y="87"/>
                                  </a:lnTo>
                                  <a:lnTo>
                                    <a:pt x="286" y="118"/>
                                  </a:lnTo>
                                  <a:lnTo>
                                    <a:pt x="253" y="138"/>
                                  </a:lnTo>
                                  <a:lnTo>
                                    <a:pt x="146" y="109"/>
                                  </a:lnTo>
                                  <a:lnTo>
                                    <a:pt x="26" y="50"/>
                                  </a:lnTo>
                                  <a:lnTo>
                                    <a:pt x="0" y="0"/>
                                  </a:lnTo>
                                  <a:close/>
                                </a:path>
                              </a:pathLst>
                            </a:custGeom>
                            <a:solidFill>
                              <a:srgbClr val="7f7f9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1" name=""/>
                          <p:cNvSpPr/>
                          <p:nvPr/>
                        </p:nvSpPr>
                        <p:spPr>
                          <a:xfrm>
                            <a:off x="3919680" y="3449880"/>
                            <a:ext cx="588960" cy="333360"/>
                          </a:xfrm>
                          <a:custGeom>
                            <a:avLst/>
                            <a:gdLst/>
                            <a:ahLst/>
                            <a:rect l="l" t="t" r="r" b="b"/>
                            <a:pathLst>
                              <a:path w="371" h="210">
                                <a:moveTo>
                                  <a:pt x="0" y="39"/>
                                </a:moveTo>
                                <a:lnTo>
                                  <a:pt x="47" y="17"/>
                                </a:lnTo>
                                <a:lnTo>
                                  <a:pt x="118" y="0"/>
                                </a:lnTo>
                                <a:lnTo>
                                  <a:pt x="127" y="8"/>
                                </a:lnTo>
                                <a:lnTo>
                                  <a:pt x="126" y="15"/>
                                </a:lnTo>
                                <a:lnTo>
                                  <a:pt x="151" y="27"/>
                                </a:lnTo>
                                <a:lnTo>
                                  <a:pt x="160" y="37"/>
                                </a:lnTo>
                                <a:lnTo>
                                  <a:pt x="184" y="66"/>
                                </a:lnTo>
                                <a:lnTo>
                                  <a:pt x="220" y="72"/>
                                </a:lnTo>
                                <a:lnTo>
                                  <a:pt x="258" y="91"/>
                                </a:lnTo>
                                <a:lnTo>
                                  <a:pt x="302" y="119"/>
                                </a:lnTo>
                                <a:lnTo>
                                  <a:pt x="350" y="133"/>
                                </a:lnTo>
                                <a:lnTo>
                                  <a:pt x="371" y="138"/>
                                </a:lnTo>
                                <a:lnTo>
                                  <a:pt x="349" y="152"/>
                                </a:lnTo>
                                <a:lnTo>
                                  <a:pt x="324" y="160"/>
                                </a:lnTo>
                                <a:lnTo>
                                  <a:pt x="316" y="167"/>
                                </a:lnTo>
                                <a:lnTo>
                                  <a:pt x="306" y="180"/>
                                </a:lnTo>
                                <a:lnTo>
                                  <a:pt x="289" y="194"/>
                                </a:lnTo>
                                <a:lnTo>
                                  <a:pt x="266" y="210"/>
                                </a:lnTo>
                                <a:lnTo>
                                  <a:pt x="245" y="190"/>
                                </a:lnTo>
                                <a:lnTo>
                                  <a:pt x="215" y="156"/>
                                </a:lnTo>
                                <a:lnTo>
                                  <a:pt x="203" y="146"/>
                                </a:lnTo>
                                <a:lnTo>
                                  <a:pt x="181" y="135"/>
                                </a:lnTo>
                                <a:lnTo>
                                  <a:pt x="179" y="126"/>
                                </a:lnTo>
                                <a:lnTo>
                                  <a:pt x="176" y="111"/>
                                </a:lnTo>
                                <a:lnTo>
                                  <a:pt x="159" y="103"/>
                                </a:lnTo>
                                <a:lnTo>
                                  <a:pt x="133" y="89"/>
                                </a:lnTo>
                                <a:lnTo>
                                  <a:pt x="100" y="83"/>
                                </a:lnTo>
                                <a:lnTo>
                                  <a:pt x="80" y="82"/>
                                </a:lnTo>
                                <a:lnTo>
                                  <a:pt x="58" y="83"/>
                                </a:lnTo>
                                <a:lnTo>
                                  <a:pt x="41" y="82"/>
                                </a:lnTo>
                                <a:lnTo>
                                  <a:pt x="22" y="77"/>
                                </a:lnTo>
                                <a:lnTo>
                                  <a:pt x="12" y="69"/>
                                </a:lnTo>
                                <a:lnTo>
                                  <a:pt x="3" y="52"/>
                                </a:lnTo>
                                <a:lnTo>
                                  <a:pt x="0" y="39"/>
                                </a:lnTo>
                                <a:close/>
                              </a:path>
                            </a:pathLst>
                          </a:custGeom>
                          <a:solidFill>
                            <a:srgbClr val="9f9fb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52" name=""/>
                      <p:cNvGrpSpPr/>
                      <p:nvPr/>
                    </p:nvGrpSpPr>
                    <p:grpSpPr>
                      <a:xfrm>
                        <a:off x="3819600" y="3284640"/>
                        <a:ext cx="318960" cy="231840"/>
                        <a:chOff x="3819600" y="3284640"/>
                        <a:chExt cx="318960" cy="231840"/>
                      </a:xfrm>
                    </p:grpSpPr>
                    <p:sp>
                      <p:nvSpPr>
                        <p:cNvPr id="1553" name=""/>
                        <p:cNvSpPr/>
                        <p:nvPr/>
                      </p:nvSpPr>
                      <p:spPr>
                        <a:xfrm>
                          <a:off x="3819600" y="3284640"/>
                          <a:ext cx="318960" cy="231840"/>
                        </a:xfrm>
                        <a:custGeom>
                          <a:avLst/>
                          <a:gdLst/>
                          <a:ahLst/>
                          <a:rect l="l" t="t" r="r" b="b"/>
                          <a:pathLst>
                            <a:path w="201" h="146">
                              <a:moveTo>
                                <a:pt x="16" y="0"/>
                              </a:moveTo>
                              <a:lnTo>
                                <a:pt x="72" y="5"/>
                              </a:lnTo>
                              <a:lnTo>
                                <a:pt x="86" y="9"/>
                              </a:lnTo>
                              <a:lnTo>
                                <a:pt x="112" y="6"/>
                              </a:lnTo>
                              <a:lnTo>
                                <a:pt x="116" y="29"/>
                              </a:lnTo>
                              <a:lnTo>
                                <a:pt x="132" y="27"/>
                              </a:lnTo>
                              <a:lnTo>
                                <a:pt x="154" y="28"/>
                              </a:lnTo>
                              <a:lnTo>
                                <a:pt x="185" y="33"/>
                              </a:lnTo>
                              <a:lnTo>
                                <a:pt x="201" y="38"/>
                              </a:lnTo>
                              <a:lnTo>
                                <a:pt x="189" y="68"/>
                              </a:lnTo>
                              <a:lnTo>
                                <a:pt x="138" y="72"/>
                              </a:lnTo>
                              <a:lnTo>
                                <a:pt x="124" y="83"/>
                              </a:lnTo>
                              <a:lnTo>
                                <a:pt x="196" y="105"/>
                              </a:lnTo>
                              <a:lnTo>
                                <a:pt x="181" y="124"/>
                              </a:lnTo>
                              <a:lnTo>
                                <a:pt x="149" y="133"/>
                              </a:lnTo>
                              <a:lnTo>
                                <a:pt x="124" y="129"/>
                              </a:lnTo>
                              <a:lnTo>
                                <a:pt x="105" y="139"/>
                              </a:lnTo>
                              <a:lnTo>
                                <a:pt x="69" y="145"/>
                              </a:lnTo>
                              <a:lnTo>
                                <a:pt x="39" y="146"/>
                              </a:lnTo>
                              <a:lnTo>
                                <a:pt x="47" y="125"/>
                              </a:lnTo>
                              <a:lnTo>
                                <a:pt x="25" y="99"/>
                              </a:lnTo>
                              <a:lnTo>
                                <a:pt x="8" y="70"/>
                              </a:lnTo>
                              <a:lnTo>
                                <a:pt x="0" y="53"/>
                              </a:lnTo>
                              <a:lnTo>
                                <a:pt x="11" y="44"/>
                              </a:lnTo>
                              <a:lnTo>
                                <a:pt x="19" y="34"/>
                              </a:lnTo>
                              <a:lnTo>
                                <a:pt x="16" y="0"/>
                              </a:lnTo>
                              <a:close/>
                            </a:path>
                          </a:pathLst>
                        </a:custGeom>
                        <a:solidFill>
                          <a:srgbClr val="007f9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3881520" y="3345120"/>
                          <a:ext cx="169920" cy="109440"/>
                        </a:xfrm>
                        <a:custGeom>
                          <a:avLst/>
                          <a:gdLst/>
                          <a:ahLst/>
                          <a:rect l="l" t="t" r="r" b="b"/>
                          <a:pathLst>
                            <a:path w="107" h="69">
                              <a:moveTo>
                                <a:pt x="0" y="15"/>
                              </a:moveTo>
                              <a:lnTo>
                                <a:pt x="14" y="45"/>
                              </a:lnTo>
                              <a:lnTo>
                                <a:pt x="28" y="51"/>
                              </a:lnTo>
                              <a:lnTo>
                                <a:pt x="38" y="69"/>
                              </a:lnTo>
                              <a:lnTo>
                                <a:pt x="80" y="50"/>
                              </a:lnTo>
                              <a:lnTo>
                                <a:pt x="107" y="27"/>
                              </a:lnTo>
                              <a:lnTo>
                                <a:pt x="65"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55" name=""/>
                    <p:cNvGrpSpPr/>
                    <p:nvPr/>
                  </p:nvGrpSpPr>
                  <p:grpSpPr>
                    <a:xfrm>
                      <a:off x="4019400" y="3326040"/>
                      <a:ext cx="528840" cy="136440"/>
                      <a:chOff x="4019400" y="3326040"/>
                      <a:chExt cx="528840" cy="136440"/>
                    </a:xfrm>
                  </p:grpSpPr>
                  <p:grpSp>
                    <p:nvGrpSpPr>
                      <p:cNvPr id="1556" name=""/>
                      <p:cNvGrpSpPr/>
                      <p:nvPr/>
                    </p:nvGrpSpPr>
                    <p:grpSpPr>
                      <a:xfrm>
                        <a:off x="4019400" y="3362400"/>
                        <a:ext cx="328680" cy="100080"/>
                        <a:chOff x="4019400" y="3362400"/>
                        <a:chExt cx="328680" cy="100080"/>
                      </a:xfrm>
                    </p:grpSpPr>
                    <p:sp>
                      <p:nvSpPr>
                        <p:cNvPr id="1557" name=""/>
                        <p:cNvSpPr/>
                        <p:nvPr/>
                      </p:nvSpPr>
                      <p:spPr>
                        <a:xfrm>
                          <a:off x="4111560" y="3362400"/>
                          <a:ext cx="106560" cy="39960"/>
                        </a:xfrm>
                        <a:custGeom>
                          <a:avLst/>
                          <a:gdLst/>
                          <a:ahLst/>
                          <a:rect l="l" t="t" r="r" b="b"/>
                          <a:pathLst>
                            <a:path w="67" h="25">
                              <a:moveTo>
                                <a:pt x="12" y="0"/>
                              </a:moveTo>
                              <a:lnTo>
                                <a:pt x="67" y="12"/>
                              </a:lnTo>
                              <a:lnTo>
                                <a:pt x="53" y="25"/>
                              </a:lnTo>
                              <a:lnTo>
                                <a:pt x="0" y="25"/>
                              </a:lnTo>
                              <a:lnTo>
                                <a:pt x="12" y="0"/>
                              </a:lnTo>
                              <a:close/>
                            </a:path>
                          </a:pathLst>
                        </a:custGeom>
                        <a:solidFill>
                          <a:srgbClr val="ffbf5f"/>
                        </a:solidFill>
                        <a:ln w="176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58" name=""/>
                        <p:cNvSpPr/>
                        <p:nvPr/>
                      </p:nvSpPr>
                      <p:spPr>
                        <a:xfrm>
                          <a:off x="4019400" y="3365640"/>
                          <a:ext cx="328680" cy="96840"/>
                        </a:xfrm>
                        <a:custGeom>
                          <a:avLst/>
                          <a:gdLst/>
                          <a:ahLst/>
                          <a:rect l="l" t="t" r="r" b="b"/>
                          <a:pathLst>
                            <a:path w="207" h="61">
                              <a:moveTo>
                                <a:pt x="22" y="14"/>
                              </a:moveTo>
                              <a:lnTo>
                                <a:pt x="0" y="33"/>
                              </a:lnTo>
                              <a:lnTo>
                                <a:pt x="55" y="51"/>
                              </a:lnTo>
                              <a:lnTo>
                                <a:pt x="69" y="47"/>
                              </a:lnTo>
                              <a:lnTo>
                                <a:pt x="89" y="58"/>
                              </a:lnTo>
                              <a:lnTo>
                                <a:pt x="103" y="48"/>
                              </a:lnTo>
                              <a:lnTo>
                                <a:pt x="118" y="58"/>
                              </a:lnTo>
                              <a:lnTo>
                                <a:pt x="135" y="61"/>
                              </a:lnTo>
                              <a:lnTo>
                                <a:pt x="151" y="56"/>
                              </a:lnTo>
                              <a:lnTo>
                                <a:pt x="144" y="33"/>
                              </a:lnTo>
                              <a:lnTo>
                                <a:pt x="176" y="44"/>
                              </a:lnTo>
                              <a:lnTo>
                                <a:pt x="196" y="50"/>
                              </a:lnTo>
                              <a:lnTo>
                                <a:pt x="204" y="49"/>
                              </a:lnTo>
                              <a:lnTo>
                                <a:pt x="207" y="42"/>
                              </a:lnTo>
                              <a:lnTo>
                                <a:pt x="181" y="26"/>
                              </a:lnTo>
                              <a:lnTo>
                                <a:pt x="174" y="11"/>
                              </a:lnTo>
                              <a:lnTo>
                                <a:pt x="165" y="2"/>
                              </a:lnTo>
                              <a:lnTo>
                                <a:pt x="141" y="0"/>
                              </a:lnTo>
                              <a:lnTo>
                                <a:pt x="116" y="4"/>
                              </a:lnTo>
                              <a:lnTo>
                                <a:pt x="96" y="16"/>
                              </a:lnTo>
                              <a:lnTo>
                                <a:pt x="61" y="13"/>
                              </a:lnTo>
                              <a:lnTo>
                                <a:pt x="22" y="14"/>
                              </a:lnTo>
                              <a:close/>
                            </a:path>
                          </a:pathLst>
                        </a:custGeom>
                        <a:solidFill>
                          <a:srgbClr val="ffbf5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9" name=""/>
                      <p:cNvGrpSpPr/>
                      <p:nvPr/>
                    </p:nvGrpSpPr>
                    <p:grpSpPr>
                      <a:xfrm>
                        <a:off x="4346640" y="3326040"/>
                        <a:ext cx="201600" cy="120600"/>
                        <a:chOff x="4346640" y="3326040"/>
                        <a:chExt cx="201600" cy="120600"/>
                      </a:xfrm>
                    </p:grpSpPr>
                    <p:sp>
                      <p:nvSpPr>
                        <p:cNvPr id="1560" name=""/>
                        <p:cNvSpPr/>
                        <p:nvPr/>
                      </p:nvSpPr>
                      <p:spPr>
                        <a:xfrm>
                          <a:off x="4346640" y="3380040"/>
                          <a:ext cx="65160" cy="66600"/>
                        </a:xfrm>
                        <a:custGeom>
                          <a:avLst/>
                          <a:gdLst/>
                          <a:ahLst/>
                          <a:rect l="l" t="t" r="r" b="b"/>
                          <a:pathLst>
                            <a:path w="41" h="42">
                              <a:moveTo>
                                <a:pt x="9" y="0"/>
                              </a:moveTo>
                              <a:lnTo>
                                <a:pt x="23" y="2"/>
                              </a:lnTo>
                              <a:lnTo>
                                <a:pt x="31" y="6"/>
                              </a:lnTo>
                              <a:lnTo>
                                <a:pt x="34" y="20"/>
                              </a:lnTo>
                              <a:lnTo>
                                <a:pt x="41" y="36"/>
                              </a:lnTo>
                              <a:lnTo>
                                <a:pt x="33" y="40"/>
                              </a:lnTo>
                              <a:lnTo>
                                <a:pt x="20" y="42"/>
                              </a:lnTo>
                              <a:lnTo>
                                <a:pt x="11" y="41"/>
                              </a:lnTo>
                              <a:lnTo>
                                <a:pt x="0" y="33"/>
                              </a:lnTo>
                              <a:lnTo>
                                <a:pt x="3" y="18"/>
                              </a:lnTo>
                              <a:lnTo>
                                <a:pt x="9" y="0"/>
                              </a:lnTo>
                              <a:close/>
                            </a:path>
                          </a:pathLst>
                        </a:custGeom>
                        <a:solidFill>
                          <a:srgbClr val="ffbf5f"/>
                        </a:solid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1" name=""/>
                        <p:cNvSpPr/>
                        <p:nvPr/>
                      </p:nvSpPr>
                      <p:spPr>
                        <a:xfrm>
                          <a:off x="4408560" y="3373560"/>
                          <a:ext cx="69840" cy="69840"/>
                        </a:xfrm>
                        <a:custGeom>
                          <a:avLst/>
                          <a:gdLst/>
                          <a:ahLst/>
                          <a:rect l="l" t="t" r="r" b="b"/>
                          <a:pathLst>
                            <a:path w="44" h="44">
                              <a:moveTo>
                                <a:pt x="0" y="3"/>
                              </a:moveTo>
                              <a:lnTo>
                                <a:pt x="11" y="0"/>
                              </a:lnTo>
                              <a:lnTo>
                                <a:pt x="22" y="1"/>
                              </a:lnTo>
                              <a:lnTo>
                                <a:pt x="31" y="10"/>
                              </a:lnTo>
                              <a:lnTo>
                                <a:pt x="38" y="19"/>
                              </a:lnTo>
                              <a:lnTo>
                                <a:pt x="44" y="34"/>
                              </a:lnTo>
                              <a:lnTo>
                                <a:pt x="39" y="40"/>
                              </a:lnTo>
                              <a:lnTo>
                                <a:pt x="28" y="44"/>
                              </a:lnTo>
                              <a:lnTo>
                                <a:pt x="14" y="43"/>
                              </a:lnTo>
                              <a:lnTo>
                                <a:pt x="6" y="40"/>
                              </a:lnTo>
                              <a:lnTo>
                                <a:pt x="0" y="23"/>
                              </a:lnTo>
                              <a:lnTo>
                                <a:pt x="0" y="3"/>
                              </a:lnTo>
                              <a:close/>
                            </a:path>
                          </a:pathLst>
                        </a:custGeom>
                        <a:solidFill>
                          <a:srgbClr val="ffbf5f"/>
                        </a:solidFill>
                        <a:ln w="176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62" name=""/>
                        <p:cNvSpPr/>
                        <p:nvPr/>
                      </p:nvSpPr>
                      <p:spPr>
                        <a:xfrm>
                          <a:off x="4446720" y="3326040"/>
                          <a:ext cx="54000" cy="54000"/>
                        </a:xfrm>
                        <a:custGeom>
                          <a:avLst/>
                          <a:gdLst/>
                          <a:ahLst/>
                          <a:rect l="l" t="t" r="r" b="b"/>
                          <a:pathLst>
                            <a:path w="34" h="34">
                              <a:moveTo>
                                <a:pt x="0" y="30"/>
                              </a:moveTo>
                              <a:lnTo>
                                <a:pt x="3" y="4"/>
                              </a:lnTo>
                              <a:lnTo>
                                <a:pt x="12" y="1"/>
                              </a:lnTo>
                              <a:lnTo>
                                <a:pt x="22" y="0"/>
                              </a:lnTo>
                              <a:lnTo>
                                <a:pt x="26" y="4"/>
                              </a:lnTo>
                              <a:lnTo>
                                <a:pt x="31" y="19"/>
                              </a:lnTo>
                              <a:lnTo>
                                <a:pt x="34" y="31"/>
                              </a:lnTo>
                              <a:lnTo>
                                <a:pt x="17" y="34"/>
                              </a:lnTo>
                              <a:lnTo>
                                <a:pt x="0" y="30"/>
                              </a:lnTo>
                              <a:close/>
                            </a:path>
                          </a:pathLst>
                        </a:custGeom>
                        <a:solidFill>
                          <a:srgbClr val="ffbf5f"/>
                        </a:solidFill>
                        <a:ln w="176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63" name=""/>
                        <p:cNvSpPr/>
                        <p:nvPr/>
                      </p:nvSpPr>
                      <p:spPr>
                        <a:xfrm>
                          <a:off x="4473720" y="3376800"/>
                          <a:ext cx="74520" cy="54000"/>
                        </a:xfrm>
                        <a:custGeom>
                          <a:avLst/>
                          <a:gdLst/>
                          <a:ahLst/>
                          <a:rect l="l" t="t" r="r" b="b"/>
                          <a:pathLst>
                            <a:path w="47" h="34">
                              <a:moveTo>
                                <a:pt x="31" y="3"/>
                              </a:moveTo>
                              <a:lnTo>
                                <a:pt x="19" y="1"/>
                              </a:lnTo>
                              <a:lnTo>
                                <a:pt x="9" y="0"/>
                              </a:lnTo>
                              <a:lnTo>
                                <a:pt x="3" y="4"/>
                              </a:lnTo>
                              <a:lnTo>
                                <a:pt x="0" y="11"/>
                              </a:lnTo>
                              <a:lnTo>
                                <a:pt x="5" y="23"/>
                              </a:lnTo>
                              <a:lnTo>
                                <a:pt x="12" y="29"/>
                              </a:lnTo>
                              <a:lnTo>
                                <a:pt x="23" y="34"/>
                              </a:lnTo>
                              <a:lnTo>
                                <a:pt x="39" y="33"/>
                              </a:lnTo>
                              <a:lnTo>
                                <a:pt x="47" y="27"/>
                              </a:lnTo>
                              <a:lnTo>
                                <a:pt x="31" y="3"/>
                              </a:lnTo>
                              <a:close/>
                            </a:path>
                          </a:pathLst>
                        </a:custGeom>
                        <a:solidFill>
                          <a:srgbClr val="ffbf5f"/>
                        </a:solidFill>
                        <a:ln w="176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grpSp>
          <p:grpSp>
            <p:nvGrpSpPr>
              <p:cNvPr id="1564" name=""/>
              <p:cNvGrpSpPr/>
              <p:nvPr/>
            </p:nvGrpSpPr>
            <p:grpSpPr>
              <a:xfrm>
                <a:off x="4960800" y="3030840"/>
                <a:ext cx="2154240" cy="836640"/>
                <a:chOff x="4960800" y="3030840"/>
                <a:chExt cx="2154240" cy="836640"/>
              </a:xfrm>
            </p:grpSpPr>
            <p:grpSp>
              <p:nvGrpSpPr>
                <p:cNvPr id="1565" name=""/>
                <p:cNvGrpSpPr/>
                <p:nvPr/>
              </p:nvGrpSpPr>
              <p:grpSpPr>
                <a:xfrm>
                  <a:off x="5943600" y="3189600"/>
                  <a:ext cx="1171440" cy="677880"/>
                  <a:chOff x="5943600" y="3189600"/>
                  <a:chExt cx="1171440" cy="677880"/>
                </a:xfrm>
              </p:grpSpPr>
              <p:sp>
                <p:nvSpPr>
                  <p:cNvPr id="1566" name=""/>
                  <p:cNvSpPr/>
                  <p:nvPr/>
                </p:nvSpPr>
                <p:spPr>
                  <a:xfrm>
                    <a:off x="6726240" y="3578400"/>
                    <a:ext cx="274680" cy="87480"/>
                  </a:xfrm>
                  <a:custGeom>
                    <a:avLst/>
                    <a:gdLst/>
                    <a:ahLst/>
                    <a:rect l="l" t="t" r="r" b="b"/>
                    <a:pathLst>
                      <a:path w="173" h="55">
                        <a:moveTo>
                          <a:pt x="44" y="0"/>
                        </a:moveTo>
                        <a:lnTo>
                          <a:pt x="22" y="41"/>
                        </a:lnTo>
                        <a:lnTo>
                          <a:pt x="80" y="18"/>
                        </a:lnTo>
                        <a:lnTo>
                          <a:pt x="108" y="17"/>
                        </a:lnTo>
                        <a:lnTo>
                          <a:pt x="173" y="46"/>
                        </a:lnTo>
                        <a:lnTo>
                          <a:pt x="173" y="50"/>
                        </a:lnTo>
                        <a:lnTo>
                          <a:pt x="168" y="53"/>
                        </a:lnTo>
                        <a:lnTo>
                          <a:pt x="162" y="53"/>
                        </a:lnTo>
                        <a:lnTo>
                          <a:pt x="108" y="29"/>
                        </a:lnTo>
                        <a:lnTo>
                          <a:pt x="86" y="29"/>
                        </a:lnTo>
                        <a:lnTo>
                          <a:pt x="15" y="55"/>
                        </a:lnTo>
                        <a:lnTo>
                          <a:pt x="6" y="54"/>
                        </a:lnTo>
                        <a:lnTo>
                          <a:pt x="0" y="51"/>
                        </a:lnTo>
                        <a:lnTo>
                          <a:pt x="26" y="5"/>
                        </a:lnTo>
                        <a:lnTo>
                          <a:pt x="4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1567" name=""/>
                  <p:cNvGrpSpPr/>
                  <p:nvPr/>
                </p:nvGrpSpPr>
                <p:grpSpPr>
                  <a:xfrm>
                    <a:off x="5943600" y="3189600"/>
                    <a:ext cx="1171440" cy="677880"/>
                    <a:chOff x="5943600" y="3189600"/>
                    <a:chExt cx="1171440" cy="677880"/>
                  </a:xfrm>
                </p:grpSpPr>
                <p:grpSp>
                  <p:nvGrpSpPr>
                    <p:cNvPr id="1568" name=""/>
                    <p:cNvGrpSpPr/>
                    <p:nvPr/>
                  </p:nvGrpSpPr>
                  <p:grpSpPr>
                    <a:xfrm>
                      <a:off x="5943600" y="3189600"/>
                      <a:ext cx="1171440" cy="677880"/>
                      <a:chOff x="5943600" y="3189600"/>
                      <a:chExt cx="1171440" cy="677880"/>
                    </a:xfrm>
                  </p:grpSpPr>
                  <p:grpSp>
                    <p:nvGrpSpPr>
                      <p:cNvPr id="1569" name=""/>
                      <p:cNvGrpSpPr/>
                      <p:nvPr/>
                    </p:nvGrpSpPr>
                    <p:grpSpPr>
                      <a:xfrm>
                        <a:off x="6653160" y="3189600"/>
                        <a:ext cx="461880" cy="349200"/>
                        <a:chOff x="6653160" y="3189600"/>
                        <a:chExt cx="461880" cy="349200"/>
                      </a:xfrm>
                    </p:grpSpPr>
                    <p:sp>
                      <p:nvSpPr>
                        <p:cNvPr id="1570" name=""/>
                        <p:cNvSpPr/>
                        <p:nvPr/>
                      </p:nvSpPr>
                      <p:spPr>
                        <a:xfrm>
                          <a:off x="6653160" y="3248280"/>
                          <a:ext cx="417600" cy="290520"/>
                        </a:xfrm>
                        <a:custGeom>
                          <a:avLst/>
                          <a:gdLst/>
                          <a:ahLst/>
                          <a:rect l="l" t="t" r="r" b="b"/>
                          <a:pathLst>
                            <a:path w="263" h="183">
                              <a:moveTo>
                                <a:pt x="0" y="156"/>
                              </a:moveTo>
                              <a:lnTo>
                                <a:pt x="33" y="143"/>
                              </a:lnTo>
                              <a:lnTo>
                                <a:pt x="55" y="132"/>
                              </a:lnTo>
                              <a:lnTo>
                                <a:pt x="58" y="114"/>
                              </a:lnTo>
                              <a:lnTo>
                                <a:pt x="66" y="96"/>
                              </a:lnTo>
                              <a:lnTo>
                                <a:pt x="52" y="91"/>
                              </a:lnTo>
                              <a:lnTo>
                                <a:pt x="41" y="82"/>
                              </a:lnTo>
                              <a:lnTo>
                                <a:pt x="33" y="69"/>
                              </a:lnTo>
                              <a:lnTo>
                                <a:pt x="35" y="53"/>
                              </a:lnTo>
                              <a:lnTo>
                                <a:pt x="41" y="47"/>
                              </a:lnTo>
                              <a:lnTo>
                                <a:pt x="50" y="42"/>
                              </a:lnTo>
                              <a:lnTo>
                                <a:pt x="61" y="39"/>
                              </a:lnTo>
                              <a:lnTo>
                                <a:pt x="71" y="42"/>
                              </a:lnTo>
                              <a:lnTo>
                                <a:pt x="74" y="33"/>
                              </a:lnTo>
                              <a:lnTo>
                                <a:pt x="82" y="27"/>
                              </a:lnTo>
                              <a:lnTo>
                                <a:pt x="93" y="25"/>
                              </a:lnTo>
                              <a:lnTo>
                                <a:pt x="110" y="20"/>
                              </a:lnTo>
                              <a:lnTo>
                                <a:pt x="123" y="16"/>
                              </a:lnTo>
                              <a:lnTo>
                                <a:pt x="130" y="9"/>
                              </a:lnTo>
                              <a:lnTo>
                                <a:pt x="140" y="3"/>
                              </a:lnTo>
                              <a:lnTo>
                                <a:pt x="154" y="0"/>
                              </a:lnTo>
                              <a:lnTo>
                                <a:pt x="170" y="3"/>
                              </a:lnTo>
                              <a:lnTo>
                                <a:pt x="184" y="7"/>
                              </a:lnTo>
                              <a:lnTo>
                                <a:pt x="198" y="11"/>
                              </a:lnTo>
                              <a:lnTo>
                                <a:pt x="219" y="13"/>
                              </a:lnTo>
                              <a:lnTo>
                                <a:pt x="236" y="15"/>
                              </a:lnTo>
                              <a:lnTo>
                                <a:pt x="241" y="18"/>
                              </a:lnTo>
                              <a:lnTo>
                                <a:pt x="245" y="27"/>
                              </a:lnTo>
                              <a:lnTo>
                                <a:pt x="248" y="40"/>
                              </a:lnTo>
                              <a:lnTo>
                                <a:pt x="255" y="54"/>
                              </a:lnTo>
                              <a:lnTo>
                                <a:pt x="259" y="68"/>
                              </a:lnTo>
                              <a:lnTo>
                                <a:pt x="263" y="85"/>
                              </a:lnTo>
                              <a:lnTo>
                                <a:pt x="258" y="101"/>
                              </a:lnTo>
                              <a:lnTo>
                                <a:pt x="248" y="118"/>
                              </a:lnTo>
                              <a:lnTo>
                                <a:pt x="236" y="129"/>
                              </a:lnTo>
                              <a:lnTo>
                                <a:pt x="223" y="140"/>
                              </a:lnTo>
                              <a:lnTo>
                                <a:pt x="209" y="148"/>
                              </a:lnTo>
                              <a:lnTo>
                                <a:pt x="192" y="155"/>
                              </a:lnTo>
                              <a:lnTo>
                                <a:pt x="193" y="161"/>
                              </a:lnTo>
                              <a:lnTo>
                                <a:pt x="190" y="168"/>
                              </a:lnTo>
                              <a:lnTo>
                                <a:pt x="189" y="173"/>
                              </a:lnTo>
                              <a:lnTo>
                                <a:pt x="184" y="179"/>
                              </a:lnTo>
                              <a:lnTo>
                                <a:pt x="176" y="182"/>
                              </a:lnTo>
                              <a:lnTo>
                                <a:pt x="162" y="183"/>
                              </a:lnTo>
                              <a:lnTo>
                                <a:pt x="151" y="181"/>
                              </a:lnTo>
                              <a:lnTo>
                                <a:pt x="145" y="175"/>
                              </a:lnTo>
                              <a:lnTo>
                                <a:pt x="135" y="167"/>
                              </a:lnTo>
                              <a:lnTo>
                                <a:pt x="130" y="159"/>
                              </a:lnTo>
                              <a:lnTo>
                                <a:pt x="129" y="151"/>
                              </a:lnTo>
                              <a:lnTo>
                                <a:pt x="132" y="139"/>
                              </a:lnTo>
                              <a:lnTo>
                                <a:pt x="132" y="130"/>
                              </a:lnTo>
                              <a:lnTo>
                                <a:pt x="129" y="142"/>
                              </a:lnTo>
                              <a:lnTo>
                                <a:pt x="124" y="156"/>
                              </a:lnTo>
                              <a:lnTo>
                                <a:pt x="115" y="164"/>
                              </a:lnTo>
                              <a:lnTo>
                                <a:pt x="97" y="173"/>
                              </a:lnTo>
                              <a:lnTo>
                                <a:pt x="38" y="167"/>
                              </a:lnTo>
                              <a:lnTo>
                                <a:pt x="0" y="156"/>
                              </a:lnTo>
                              <a:close/>
                            </a:path>
                          </a:pathLst>
                        </a:custGeom>
                        <a:solidFill>
                          <a:srgbClr val="ffbf7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1" name=""/>
                        <p:cNvGrpSpPr/>
                        <p:nvPr/>
                      </p:nvGrpSpPr>
                      <p:grpSpPr>
                        <a:xfrm>
                          <a:off x="6748560" y="3189600"/>
                          <a:ext cx="366480" cy="303120"/>
                          <a:chOff x="6748560" y="3189600"/>
                          <a:chExt cx="366480" cy="303120"/>
                        </a:xfrm>
                      </p:grpSpPr>
                      <p:grpSp>
                        <p:nvGrpSpPr>
                          <p:cNvPr id="1572" name=""/>
                          <p:cNvGrpSpPr/>
                          <p:nvPr/>
                        </p:nvGrpSpPr>
                        <p:grpSpPr>
                          <a:xfrm>
                            <a:off x="6748560" y="3189600"/>
                            <a:ext cx="366480" cy="303120"/>
                            <a:chOff x="6748560" y="3189600"/>
                            <a:chExt cx="366480" cy="303120"/>
                          </a:xfrm>
                        </p:grpSpPr>
                        <p:sp>
                          <p:nvSpPr>
                            <p:cNvPr id="1573" name=""/>
                            <p:cNvSpPr/>
                            <p:nvPr/>
                          </p:nvSpPr>
                          <p:spPr>
                            <a:xfrm>
                              <a:off x="6940440" y="3459240"/>
                              <a:ext cx="14400" cy="33480"/>
                            </a:xfrm>
                            <a:custGeom>
                              <a:avLst/>
                              <a:gdLst/>
                              <a:ahLst/>
                              <a:rect l="l" t="t" r="r" b="b"/>
                              <a:pathLst>
                                <a:path w="9" h="21">
                                  <a:moveTo>
                                    <a:pt x="9" y="21"/>
                                  </a:moveTo>
                                  <a:lnTo>
                                    <a:pt x="6" y="9"/>
                                  </a:lnTo>
                                  <a:lnTo>
                                    <a:pt x="0" y="0"/>
                                  </a:lnTo>
                                </a:path>
                              </a:pathLst>
                            </a:custGeom>
                            <a:no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74" name=""/>
                            <p:cNvSpPr/>
                            <p:nvPr/>
                          </p:nvSpPr>
                          <p:spPr>
                            <a:xfrm>
                              <a:off x="6765840" y="3314880"/>
                              <a:ext cx="79560" cy="60480"/>
                            </a:xfrm>
                            <a:custGeom>
                              <a:avLst/>
                              <a:gdLst/>
                              <a:ahLst/>
                              <a:rect l="l" t="t" r="r" b="b"/>
                              <a:pathLst>
                                <a:path w="50" h="38">
                                  <a:moveTo>
                                    <a:pt x="0" y="0"/>
                                  </a:moveTo>
                                  <a:lnTo>
                                    <a:pt x="11" y="6"/>
                                  </a:lnTo>
                                  <a:lnTo>
                                    <a:pt x="17" y="12"/>
                                  </a:lnTo>
                                  <a:lnTo>
                                    <a:pt x="19" y="20"/>
                                  </a:lnTo>
                                  <a:lnTo>
                                    <a:pt x="19" y="33"/>
                                  </a:lnTo>
                                  <a:lnTo>
                                    <a:pt x="17" y="38"/>
                                  </a:lnTo>
                                  <a:lnTo>
                                    <a:pt x="28" y="22"/>
                                  </a:lnTo>
                                  <a:lnTo>
                                    <a:pt x="36" y="17"/>
                                  </a:lnTo>
                                  <a:lnTo>
                                    <a:pt x="50" y="13"/>
                                  </a:lnTo>
                                </a:path>
                              </a:pathLst>
                            </a:custGeom>
                            <a:noFill/>
                            <a:ln w="176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75" name=""/>
                            <p:cNvSpPr/>
                            <p:nvPr/>
                          </p:nvSpPr>
                          <p:spPr>
                            <a:xfrm>
                              <a:off x="6748560" y="3343320"/>
                              <a:ext cx="19080" cy="20880"/>
                            </a:xfrm>
                            <a:prstGeom prst="line">
                              <a:avLst/>
                            </a:prstGeom>
                            <a:ln w="176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76" name=""/>
                            <p:cNvSpPr/>
                            <p:nvPr/>
                          </p:nvSpPr>
                          <p:spPr>
                            <a:xfrm>
                              <a:off x="6765840" y="3268800"/>
                              <a:ext cx="27000" cy="50760"/>
                            </a:xfrm>
                            <a:custGeom>
                              <a:avLst/>
                              <a:gdLst/>
                              <a:ahLst/>
                              <a:rect l="l" t="t" r="r" b="b"/>
                              <a:pathLst>
                                <a:path w="17" h="32">
                                  <a:moveTo>
                                    <a:pt x="9" y="32"/>
                                  </a:moveTo>
                                  <a:lnTo>
                                    <a:pt x="15" y="27"/>
                                  </a:lnTo>
                                  <a:lnTo>
                                    <a:pt x="17" y="18"/>
                                  </a:lnTo>
                                  <a:lnTo>
                                    <a:pt x="14" y="11"/>
                                  </a:lnTo>
                                  <a:lnTo>
                                    <a:pt x="0" y="0"/>
                                  </a:lnTo>
                                </a:path>
                              </a:pathLst>
                            </a:custGeom>
                            <a:no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77" name=""/>
                            <p:cNvSpPr/>
                            <p:nvPr/>
                          </p:nvSpPr>
                          <p:spPr>
                            <a:xfrm>
                              <a:off x="6797520" y="3262320"/>
                              <a:ext cx="79560" cy="44640"/>
                            </a:xfrm>
                            <a:custGeom>
                              <a:avLst/>
                              <a:gdLst/>
                              <a:ahLst/>
                              <a:rect l="l" t="t" r="r" b="b"/>
                              <a:pathLst>
                                <a:path w="50" h="28">
                                  <a:moveTo>
                                    <a:pt x="0" y="28"/>
                                  </a:moveTo>
                                  <a:lnTo>
                                    <a:pt x="13" y="27"/>
                                  </a:lnTo>
                                  <a:lnTo>
                                    <a:pt x="25" y="25"/>
                                  </a:lnTo>
                                  <a:lnTo>
                                    <a:pt x="35" y="21"/>
                                  </a:lnTo>
                                  <a:lnTo>
                                    <a:pt x="44" y="14"/>
                                  </a:lnTo>
                                  <a:lnTo>
                                    <a:pt x="49" y="5"/>
                                  </a:lnTo>
                                  <a:lnTo>
                                    <a:pt x="50" y="0"/>
                                  </a:lnTo>
                                </a:path>
                              </a:pathLst>
                            </a:custGeom>
                            <a:noFill/>
                            <a:ln w="176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78" name=""/>
                            <p:cNvSpPr/>
                            <p:nvPr/>
                          </p:nvSpPr>
                          <p:spPr>
                            <a:xfrm>
                              <a:off x="6885000" y="3195720"/>
                              <a:ext cx="73080" cy="101520"/>
                            </a:xfrm>
                            <a:custGeom>
                              <a:avLst/>
                              <a:gdLst/>
                              <a:ahLst/>
                              <a:rect l="l" t="t" r="r" b="b"/>
                              <a:pathLst>
                                <a:path w="46" h="64">
                                  <a:moveTo>
                                    <a:pt x="46" y="0"/>
                                  </a:moveTo>
                                  <a:lnTo>
                                    <a:pt x="40" y="10"/>
                                  </a:lnTo>
                                  <a:lnTo>
                                    <a:pt x="30" y="13"/>
                                  </a:lnTo>
                                  <a:lnTo>
                                    <a:pt x="19" y="15"/>
                                  </a:lnTo>
                                  <a:lnTo>
                                    <a:pt x="8" y="19"/>
                                  </a:lnTo>
                                  <a:lnTo>
                                    <a:pt x="3" y="23"/>
                                  </a:lnTo>
                                  <a:lnTo>
                                    <a:pt x="0" y="33"/>
                                  </a:lnTo>
                                  <a:lnTo>
                                    <a:pt x="5" y="48"/>
                                  </a:lnTo>
                                  <a:lnTo>
                                    <a:pt x="10" y="6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6877080" y="3189600"/>
                              <a:ext cx="46080" cy="96840"/>
                            </a:xfrm>
                            <a:custGeom>
                              <a:avLst/>
                              <a:gdLst/>
                              <a:ahLst/>
                              <a:rect l="l" t="t" r="r" b="b"/>
                              <a:pathLst>
                                <a:path w="29" h="61">
                                  <a:moveTo>
                                    <a:pt x="0" y="0"/>
                                  </a:moveTo>
                                  <a:lnTo>
                                    <a:pt x="12" y="3"/>
                                  </a:lnTo>
                                  <a:lnTo>
                                    <a:pt x="19" y="10"/>
                                  </a:lnTo>
                                  <a:lnTo>
                                    <a:pt x="26" y="18"/>
                                  </a:lnTo>
                                  <a:lnTo>
                                    <a:pt x="29" y="27"/>
                                  </a:lnTo>
                                  <a:lnTo>
                                    <a:pt x="27" y="37"/>
                                  </a:lnTo>
                                  <a:lnTo>
                                    <a:pt x="24" y="45"/>
                                  </a:lnTo>
                                  <a:lnTo>
                                    <a:pt x="24" y="52"/>
                                  </a:lnTo>
                                  <a:lnTo>
                                    <a:pt x="29" y="61"/>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6942240" y="3227400"/>
                              <a:ext cx="108000" cy="88920"/>
                            </a:xfrm>
                            <a:custGeom>
                              <a:avLst/>
                              <a:gdLst/>
                              <a:ahLst/>
                              <a:rect l="l" t="t" r="r" b="b"/>
                              <a:pathLst>
                                <a:path w="68" h="56">
                                  <a:moveTo>
                                    <a:pt x="0" y="0"/>
                                  </a:moveTo>
                                  <a:lnTo>
                                    <a:pt x="11" y="8"/>
                                  </a:lnTo>
                                  <a:lnTo>
                                    <a:pt x="16" y="19"/>
                                  </a:lnTo>
                                  <a:lnTo>
                                    <a:pt x="16" y="26"/>
                                  </a:lnTo>
                                  <a:lnTo>
                                    <a:pt x="16" y="32"/>
                                  </a:lnTo>
                                  <a:lnTo>
                                    <a:pt x="24" y="37"/>
                                  </a:lnTo>
                                  <a:lnTo>
                                    <a:pt x="35" y="40"/>
                                  </a:lnTo>
                                  <a:lnTo>
                                    <a:pt x="49" y="46"/>
                                  </a:lnTo>
                                  <a:lnTo>
                                    <a:pt x="59" y="50"/>
                                  </a:lnTo>
                                  <a:lnTo>
                                    <a:pt x="68" y="56"/>
                                  </a:lnTo>
                                </a:path>
                              </a:pathLst>
                            </a:custGeom>
                            <a:noFill/>
                            <a:ln w="176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1" name=""/>
                            <p:cNvSpPr/>
                            <p:nvPr/>
                          </p:nvSpPr>
                          <p:spPr>
                            <a:xfrm>
                              <a:off x="6832440" y="3214800"/>
                              <a:ext cx="51120" cy="28800"/>
                            </a:xfrm>
                            <a:custGeom>
                              <a:avLst/>
                              <a:gdLst/>
                              <a:ahLst/>
                              <a:rect l="l" t="t" r="r" b="b"/>
                              <a:pathLst>
                                <a:path w="32" h="18">
                                  <a:moveTo>
                                    <a:pt x="32" y="18"/>
                                  </a:moveTo>
                                  <a:lnTo>
                                    <a:pt x="25" y="8"/>
                                  </a:lnTo>
                                  <a:lnTo>
                                    <a:pt x="14" y="4"/>
                                  </a:lnTo>
                                  <a:lnTo>
                                    <a:pt x="0" y="0"/>
                                  </a:lnTo>
                                </a:path>
                              </a:pathLst>
                            </a:custGeom>
                            <a:noFill/>
                            <a:ln w="176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82" name=""/>
                            <p:cNvSpPr/>
                            <p:nvPr/>
                          </p:nvSpPr>
                          <p:spPr>
                            <a:xfrm>
                              <a:off x="7054920" y="3281400"/>
                              <a:ext cx="60120" cy="57240"/>
                            </a:xfrm>
                            <a:custGeom>
                              <a:avLst/>
                              <a:gdLst/>
                              <a:ahLst/>
                              <a:rect l="l" t="t" r="r" b="b"/>
                              <a:pathLst>
                                <a:path w="38" h="36">
                                  <a:moveTo>
                                    <a:pt x="0" y="36"/>
                                  </a:moveTo>
                                  <a:lnTo>
                                    <a:pt x="5" y="29"/>
                                  </a:lnTo>
                                  <a:lnTo>
                                    <a:pt x="16" y="15"/>
                                  </a:lnTo>
                                  <a:lnTo>
                                    <a:pt x="25" y="7"/>
                                  </a:lnTo>
                                  <a:lnTo>
                                    <a:pt x="38" y="0"/>
                                  </a:lnTo>
                                </a:path>
                              </a:pathLst>
                            </a:custGeom>
                            <a:noFill/>
                            <a:ln w="176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83" name=""/>
                            <p:cNvSpPr/>
                            <p:nvPr/>
                          </p:nvSpPr>
                          <p:spPr>
                            <a:xfrm>
                              <a:off x="7064280" y="3257640"/>
                              <a:ext cx="42840" cy="133560"/>
                            </a:xfrm>
                            <a:custGeom>
                              <a:avLst/>
                              <a:gdLst/>
                              <a:ahLst/>
                              <a:rect l="l" t="t" r="r" b="b"/>
                              <a:pathLst>
                                <a:path w="27" h="84">
                                  <a:moveTo>
                                    <a:pt x="5" y="0"/>
                                  </a:moveTo>
                                  <a:lnTo>
                                    <a:pt x="0" y="9"/>
                                  </a:lnTo>
                                  <a:lnTo>
                                    <a:pt x="5" y="19"/>
                                  </a:lnTo>
                                  <a:lnTo>
                                    <a:pt x="13" y="25"/>
                                  </a:lnTo>
                                  <a:lnTo>
                                    <a:pt x="21" y="33"/>
                                  </a:lnTo>
                                  <a:lnTo>
                                    <a:pt x="27" y="43"/>
                                  </a:lnTo>
                                  <a:lnTo>
                                    <a:pt x="27" y="50"/>
                                  </a:lnTo>
                                  <a:lnTo>
                                    <a:pt x="22" y="62"/>
                                  </a:lnTo>
                                  <a:lnTo>
                                    <a:pt x="16" y="70"/>
                                  </a:lnTo>
                                  <a:lnTo>
                                    <a:pt x="4" y="8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4" name=""/>
                          <p:cNvGrpSpPr/>
                          <p:nvPr/>
                        </p:nvGrpSpPr>
                        <p:grpSpPr>
                          <a:xfrm>
                            <a:off x="6880320" y="3403800"/>
                            <a:ext cx="61920" cy="31680"/>
                            <a:chOff x="6880320" y="3403800"/>
                            <a:chExt cx="61920" cy="31680"/>
                          </a:xfrm>
                        </p:grpSpPr>
                        <p:sp>
                          <p:nvSpPr>
                            <p:cNvPr id="1585" name=""/>
                            <p:cNvSpPr/>
                            <p:nvPr/>
                          </p:nvSpPr>
                          <p:spPr>
                            <a:xfrm>
                              <a:off x="6918480" y="3403800"/>
                              <a:ext cx="23760" cy="31680"/>
                            </a:xfrm>
                            <a:prstGeom prst="ellipse">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86" name=""/>
                            <p:cNvSpPr/>
                            <p:nvPr/>
                          </p:nvSpPr>
                          <p:spPr>
                            <a:xfrm>
                              <a:off x="6880320" y="3403800"/>
                              <a:ext cx="25200" cy="31680"/>
                            </a:xfrm>
                            <a:prstGeom prst="ellipse">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grpSp>
                    <p:nvGrpSpPr>
                      <p:cNvPr id="1587" name=""/>
                      <p:cNvGrpSpPr/>
                      <p:nvPr/>
                    </p:nvGrpSpPr>
                    <p:grpSpPr>
                      <a:xfrm>
                        <a:off x="5943600" y="3451320"/>
                        <a:ext cx="915840" cy="416160"/>
                        <a:chOff x="5943600" y="3451320"/>
                        <a:chExt cx="915840" cy="416160"/>
                      </a:xfrm>
                    </p:grpSpPr>
                    <p:grpSp>
                      <p:nvGrpSpPr>
                        <p:cNvPr id="1588" name=""/>
                        <p:cNvGrpSpPr/>
                        <p:nvPr/>
                      </p:nvGrpSpPr>
                      <p:grpSpPr>
                        <a:xfrm>
                          <a:off x="5943600" y="3551400"/>
                          <a:ext cx="712800" cy="316080"/>
                          <a:chOff x="5943600" y="3551400"/>
                          <a:chExt cx="712800" cy="316080"/>
                        </a:xfrm>
                      </p:grpSpPr>
                      <p:grpSp>
                        <p:nvGrpSpPr>
                          <p:cNvPr id="1589" name=""/>
                          <p:cNvGrpSpPr/>
                          <p:nvPr/>
                        </p:nvGrpSpPr>
                        <p:grpSpPr>
                          <a:xfrm>
                            <a:off x="5943600" y="3651480"/>
                            <a:ext cx="282600" cy="216000"/>
                            <a:chOff x="5943600" y="3651480"/>
                            <a:chExt cx="282600" cy="216000"/>
                          </a:xfrm>
                        </p:grpSpPr>
                        <p:sp>
                          <p:nvSpPr>
                            <p:cNvPr id="1590" name=""/>
                            <p:cNvSpPr/>
                            <p:nvPr/>
                          </p:nvSpPr>
                          <p:spPr>
                            <a:xfrm>
                              <a:off x="5943600" y="3651480"/>
                              <a:ext cx="282600" cy="216000"/>
                            </a:xfrm>
                            <a:custGeom>
                              <a:avLst/>
                              <a:gdLst/>
                              <a:ahLst/>
                              <a:rect l="l" t="t" r="r" b="b"/>
                              <a:pathLst>
                                <a:path w="178" h="136">
                                  <a:moveTo>
                                    <a:pt x="0" y="5"/>
                                  </a:moveTo>
                                  <a:lnTo>
                                    <a:pt x="22" y="0"/>
                                  </a:lnTo>
                                  <a:lnTo>
                                    <a:pt x="46" y="2"/>
                                  </a:lnTo>
                                  <a:lnTo>
                                    <a:pt x="60" y="9"/>
                                  </a:lnTo>
                                  <a:lnTo>
                                    <a:pt x="68" y="15"/>
                                  </a:lnTo>
                                  <a:lnTo>
                                    <a:pt x="82" y="20"/>
                                  </a:lnTo>
                                  <a:lnTo>
                                    <a:pt x="104" y="25"/>
                                  </a:lnTo>
                                  <a:lnTo>
                                    <a:pt x="125" y="26"/>
                                  </a:lnTo>
                                  <a:lnTo>
                                    <a:pt x="176" y="78"/>
                                  </a:lnTo>
                                  <a:lnTo>
                                    <a:pt x="178" y="95"/>
                                  </a:lnTo>
                                  <a:lnTo>
                                    <a:pt x="173" y="109"/>
                                  </a:lnTo>
                                  <a:lnTo>
                                    <a:pt x="164" y="121"/>
                                  </a:lnTo>
                                  <a:lnTo>
                                    <a:pt x="156" y="124"/>
                                  </a:lnTo>
                                  <a:lnTo>
                                    <a:pt x="140" y="122"/>
                                  </a:lnTo>
                                  <a:lnTo>
                                    <a:pt x="129" y="130"/>
                                  </a:lnTo>
                                  <a:lnTo>
                                    <a:pt x="106" y="136"/>
                                  </a:lnTo>
                                  <a:lnTo>
                                    <a:pt x="95" y="124"/>
                                  </a:lnTo>
                                  <a:lnTo>
                                    <a:pt x="82" y="104"/>
                                  </a:lnTo>
                                  <a:lnTo>
                                    <a:pt x="68" y="112"/>
                                  </a:lnTo>
                                  <a:lnTo>
                                    <a:pt x="52" y="109"/>
                                  </a:lnTo>
                                  <a:lnTo>
                                    <a:pt x="44" y="103"/>
                                  </a:lnTo>
                                  <a:lnTo>
                                    <a:pt x="30" y="71"/>
                                  </a:lnTo>
                                  <a:lnTo>
                                    <a:pt x="25" y="59"/>
                                  </a:lnTo>
                                  <a:lnTo>
                                    <a:pt x="7" y="38"/>
                                  </a:lnTo>
                                  <a:lnTo>
                                    <a:pt x="3" y="22"/>
                                  </a:lnTo>
                                  <a:lnTo>
                                    <a:pt x="0" y="5"/>
                                  </a:lnTo>
                                  <a:close/>
                                </a:path>
                              </a:pathLst>
                            </a:custGeom>
                            <a:solidFill>
                              <a:srgbClr val="7f7f9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5999040" y="3675240"/>
                              <a:ext cx="74880" cy="141120"/>
                            </a:xfrm>
                            <a:custGeom>
                              <a:avLst/>
                              <a:gdLst/>
                              <a:ahLst/>
                              <a:rect l="l" t="t" r="r" b="b"/>
                              <a:pathLst>
                                <a:path w="47" h="89">
                                  <a:moveTo>
                                    <a:pt x="25" y="3"/>
                                  </a:moveTo>
                                  <a:lnTo>
                                    <a:pt x="14" y="0"/>
                                  </a:lnTo>
                                  <a:lnTo>
                                    <a:pt x="6" y="0"/>
                                  </a:lnTo>
                                  <a:lnTo>
                                    <a:pt x="0" y="6"/>
                                  </a:lnTo>
                                  <a:lnTo>
                                    <a:pt x="0" y="24"/>
                                  </a:lnTo>
                                  <a:lnTo>
                                    <a:pt x="5" y="31"/>
                                  </a:lnTo>
                                  <a:lnTo>
                                    <a:pt x="17" y="40"/>
                                  </a:lnTo>
                                  <a:lnTo>
                                    <a:pt x="28" y="53"/>
                                  </a:lnTo>
                                  <a:lnTo>
                                    <a:pt x="38" y="67"/>
                                  </a:lnTo>
                                  <a:lnTo>
                                    <a:pt x="47" y="89"/>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2" name=""/>
                          <p:cNvGrpSpPr/>
                          <p:nvPr/>
                        </p:nvGrpSpPr>
                        <p:grpSpPr>
                          <a:xfrm>
                            <a:off x="6095880" y="3551400"/>
                            <a:ext cx="560520" cy="241200"/>
                            <a:chOff x="6095880" y="3551400"/>
                            <a:chExt cx="560520" cy="241200"/>
                          </a:xfrm>
                        </p:grpSpPr>
                        <p:sp>
                          <p:nvSpPr>
                            <p:cNvPr id="1593" name=""/>
                            <p:cNvSpPr/>
                            <p:nvPr/>
                          </p:nvSpPr>
                          <p:spPr>
                            <a:xfrm>
                              <a:off x="6095880" y="3551400"/>
                              <a:ext cx="560520" cy="241200"/>
                            </a:xfrm>
                            <a:custGeom>
                              <a:avLst/>
                              <a:gdLst/>
                              <a:ahLst/>
                              <a:rect l="l" t="t" r="r" b="b"/>
                              <a:pathLst>
                                <a:path w="353" h="152">
                                  <a:moveTo>
                                    <a:pt x="0" y="60"/>
                                  </a:moveTo>
                                  <a:lnTo>
                                    <a:pt x="2" y="75"/>
                                  </a:lnTo>
                                  <a:lnTo>
                                    <a:pt x="14" y="91"/>
                                  </a:lnTo>
                                  <a:lnTo>
                                    <a:pt x="22" y="102"/>
                                  </a:lnTo>
                                  <a:lnTo>
                                    <a:pt x="33" y="126"/>
                                  </a:lnTo>
                                  <a:lnTo>
                                    <a:pt x="52" y="139"/>
                                  </a:lnTo>
                                  <a:lnTo>
                                    <a:pt x="80" y="152"/>
                                  </a:lnTo>
                                  <a:lnTo>
                                    <a:pt x="107" y="148"/>
                                  </a:lnTo>
                                  <a:lnTo>
                                    <a:pt x="126" y="127"/>
                                  </a:lnTo>
                                  <a:lnTo>
                                    <a:pt x="140" y="98"/>
                                  </a:lnTo>
                                  <a:lnTo>
                                    <a:pt x="150" y="74"/>
                                  </a:lnTo>
                                  <a:lnTo>
                                    <a:pt x="184" y="89"/>
                                  </a:lnTo>
                                  <a:lnTo>
                                    <a:pt x="197" y="62"/>
                                  </a:lnTo>
                                  <a:lnTo>
                                    <a:pt x="217" y="76"/>
                                  </a:lnTo>
                                  <a:lnTo>
                                    <a:pt x="238" y="81"/>
                                  </a:lnTo>
                                  <a:lnTo>
                                    <a:pt x="255" y="78"/>
                                  </a:lnTo>
                                  <a:lnTo>
                                    <a:pt x="264" y="75"/>
                                  </a:lnTo>
                                  <a:lnTo>
                                    <a:pt x="272" y="72"/>
                                  </a:lnTo>
                                  <a:lnTo>
                                    <a:pt x="279" y="77"/>
                                  </a:lnTo>
                                  <a:lnTo>
                                    <a:pt x="353" y="63"/>
                                  </a:lnTo>
                                  <a:lnTo>
                                    <a:pt x="271" y="9"/>
                                  </a:lnTo>
                                  <a:lnTo>
                                    <a:pt x="208" y="2"/>
                                  </a:lnTo>
                                  <a:lnTo>
                                    <a:pt x="173" y="0"/>
                                  </a:lnTo>
                                  <a:lnTo>
                                    <a:pt x="110" y="2"/>
                                  </a:lnTo>
                                  <a:lnTo>
                                    <a:pt x="101" y="13"/>
                                  </a:lnTo>
                                  <a:lnTo>
                                    <a:pt x="68" y="24"/>
                                  </a:lnTo>
                                  <a:lnTo>
                                    <a:pt x="40" y="51"/>
                                  </a:lnTo>
                                  <a:lnTo>
                                    <a:pt x="0" y="60"/>
                                  </a:lnTo>
                                  <a:close/>
                                </a:path>
                              </a:pathLst>
                            </a:custGeom>
                            <a:solidFill>
                              <a:srgbClr val="8000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6124680" y="3579840"/>
                              <a:ext cx="315720" cy="109800"/>
                            </a:xfrm>
                            <a:custGeom>
                              <a:avLst/>
                              <a:gdLst/>
                              <a:ahLst/>
                              <a:rect l="l" t="t" r="r" b="b"/>
                              <a:pathLst>
                                <a:path w="199" h="69">
                                  <a:moveTo>
                                    <a:pt x="0" y="69"/>
                                  </a:moveTo>
                                  <a:lnTo>
                                    <a:pt x="29" y="51"/>
                                  </a:lnTo>
                                  <a:lnTo>
                                    <a:pt x="48" y="42"/>
                                  </a:lnTo>
                                  <a:lnTo>
                                    <a:pt x="66" y="22"/>
                                  </a:lnTo>
                                  <a:lnTo>
                                    <a:pt x="88" y="15"/>
                                  </a:lnTo>
                                  <a:lnTo>
                                    <a:pt x="97" y="2"/>
                                  </a:lnTo>
                                  <a:lnTo>
                                    <a:pt x="147" y="0"/>
                                  </a:lnTo>
                                  <a:lnTo>
                                    <a:pt x="199" y="3"/>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95" name=""/>
                        <p:cNvGrpSpPr/>
                        <p:nvPr/>
                      </p:nvGrpSpPr>
                      <p:grpSpPr>
                        <a:xfrm>
                          <a:off x="6362640" y="3451320"/>
                          <a:ext cx="496800" cy="219240"/>
                          <a:chOff x="6362640" y="3451320"/>
                          <a:chExt cx="496800" cy="219240"/>
                        </a:xfrm>
                      </p:grpSpPr>
                      <p:sp>
                        <p:nvSpPr>
                          <p:cNvPr id="1596" name=""/>
                          <p:cNvSpPr/>
                          <p:nvPr/>
                        </p:nvSpPr>
                        <p:spPr>
                          <a:xfrm>
                            <a:off x="6362640" y="3451320"/>
                            <a:ext cx="496800" cy="219240"/>
                          </a:xfrm>
                          <a:custGeom>
                            <a:avLst/>
                            <a:gdLst/>
                            <a:ahLst/>
                            <a:rect l="l" t="t" r="r" b="b"/>
                            <a:pathLst>
                              <a:path w="313" h="138">
                                <a:moveTo>
                                  <a:pt x="0" y="12"/>
                                </a:moveTo>
                                <a:lnTo>
                                  <a:pt x="29" y="2"/>
                                </a:lnTo>
                                <a:lnTo>
                                  <a:pt x="70" y="0"/>
                                </a:lnTo>
                                <a:lnTo>
                                  <a:pt x="100" y="2"/>
                                </a:lnTo>
                                <a:lnTo>
                                  <a:pt x="150" y="8"/>
                                </a:lnTo>
                                <a:lnTo>
                                  <a:pt x="192" y="15"/>
                                </a:lnTo>
                                <a:lnTo>
                                  <a:pt x="205" y="24"/>
                                </a:lnTo>
                                <a:lnTo>
                                  <a:pt x="313" y="41"/>
                                </a:lnTo>
                                <a:lnTo>
                                  <a:pt x="299" y="68"/>
                                </a:lnTo>
                                <a:lnTo>
                                  <a:pt x="282" y="91"/>
                                </a:lnTo>
                                <a:lnTo>
                                  <a:pt x="260" y="102"/>
                                </a:lnTo>
                                <a:lnTo>
                                  <a:pt x="216" y="122"/>
                                </a:lnTo>
                                <a:lnTo>
                                  <a:pt x="200" y="138"/>
                                </a:lnTo>
                                <a:lnTo>
                                  <a:pt x="180" y="136"/>
                                </a:lnTo>
                                <a:lnTo>
                                  <a:pt x="164" y="133"/>
                                </a:lnTo>
                                <a:lnTo>
                                  <a:pt x="147" y="112"/>
                                </a:lnTo>
                                <a:lnTo>
                                  <a:pt x="115" y="91"/>
                                </a:lnTo>
                                <a:lnTo>
                                  <a:pt x="84" y="54"/>
                                </a:lnTo>
                                <a:lnTo>
                                  <a:pt x="112" y="42"/>
                                </a:lnTo>
                                <a:lnTo>
                                  <a:pt x="81" y="38"/>
                                </a:lnTo>
                                <a:lnTo>
                                  <a:pt x="45" y="37"/>
                                </a:lnTo>
                                <a:lnTo>
                                  <a:pt x="32" y="38"/>
                                </a:lnTo>
                                <a:lnTo>
                                  <a:pt x="0" y="12"/>
                                </a:lnTo>
                                <a:close/>
                              </a:path>
                            </a:pathLst>
                          </a:custGeom>
                          <a:solidFill>
                            <a:srgbClr val="ff9fd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6527880" y="3480120"/>
                            <a:ext cx="137880" cy="27000"/>
                          </a:xfrm>
                          <a:custGeom>
                            <a:avLst/>
                            <a:gdLst/>
                            <a:ahLst/>
                            <a:rect l="l" t="t" r="r" b="b"/>
                            <a:pathLst>
                              <a:path w="87" h="17">
                                <a:moveTo>
                                  <a:pt x="0" y="17"/>
                                </a:moveTo>
                                <a:lnTo>
                                  <a:pt x="11" y="9"/>
                                </a:lnTo>
                                <a:lnTo>
                                  <a:pt x="21" y="4"/>
                                </a:lnTo>
                                <a:lnTo>
                                  <a:pt x="38" y="0"/>
                                </a:lnTo>
                                <a:lnTo>
                                  <a:pt x="54" y="0"/>
                                </a:lnTo>
                                <a:lnTo>
                                  <a:pt x="87" y="3"/>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8" name=""/>
                          <p:cNvSpPr/>
                          <p:nvPr/>
                        </p:nvSpPr>
                        <p:spPr>
                          <a:xfrm>
                            <a:off x="6543720" y="3517920"/>
                            <a:ext cx="231840" cy="111240"/>
                          </a:xfrm>
                          <a:custGeom>
                            <a:avLst/>
                            <a:gdLst/>
                            <a:ahLst/>
                            <a:rect l="l" t="t" r="r" b="b"/>
                            <a:pathLst>
                              <a:path w="146" h="70">
                                <a:moveTo>
                                  <a:pt x="146" y="13"/>
                                </a:moveTo>
                                <a:lnTo>
                                  <a:pt x="110" y="27"/>
                                </a:lnTo>
                                <a:lnTo>
                                  <a:pt x="102" y="21"/>
                                </a:lnTo>
                                <a:lnTo>
                                  <a:pt x="89" y="22"/>
                                </a:lnTo>
                                <a:lnTo>
                                  <a:pt x="0" y="0"/>
                                </a:lnTo>
                                <a:lnTo>
                                  <a:pt x="4" y="40"/>
                                </a:lnTo>
                                <a:lnTo>
                                  <a:pt x="111" y="7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599" name=""/>
                    <p:cNvGrpSpPr/>
                    <p:nvPr/>
                  </p:nvGrpSpPr>
                  <p:grpSpPr>
                    <a:xfrm>
                      <a:off x="6296040" y="3441960"/>
                      <a:ext cx="260280" cy="142920"/>
                      <a:chOff x="6296040" y="3441960"/>
                      <a:chExt cx="260280" cy="142920"/>
                    </a:xfrm>
                  </p:grpSpPr>
                  <p:sp>
                    <p:nvSpPr>
                      <p:cNvPr id="1600" name=""/>
                      <p:cNvSpPr/>
                      <p:nvPr/>
                    </p:nvSpPr>
                    <p:spPr>
                      <a:xfrm>
                        <a:off x="6296040" y="3441960"/>
                        <a:ext cx="130320" cy="54000"/>
                      </a:xfrm>
                      <a:custGeom>
                        <a:avLst/>
                        <a:gdLst/>
                        <a:ahLst/>
                        <a:rect l="l" t="t" r="r" b="b"/>
                        <a:pathLst>
                          <a:path w="82" h="34">
                            <a:moveTo>
                              <a:pt x="82" y="6"/>
                            </a:moveTo>
                            <a:lnTo>
                              <a:pt x="54" y="34"/>
                            </a:lnTo>
                            <a:lnTo>
                              <a:pt x="8" y="28"/>
                            </a:lnTo>
                            <a:lnTo>
                              <a:pt x="0" y="22"/>
                            </a:lnTo>
                            <a:lnTo>
                              <a:pt x="2" y="0"/>
                            </a:lnTo>
                            <a:lnTo>
                              <a:pt x="82" y="6"/>
                            </a:lnTo>
                            <a:close/>
                          </a:path>
                        </a:pathLst>
                      </a:custGeom>
                      <a:solidFill>
                        <a:srgbClr val="ffbf7f"/>
                      </a:solidFill>
                      <a:ln w="176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01" name=""/>
                      <p:cNvSpPr/>
                      <p:nvPr/>
                    </p:nvSpPr>
                    <p:spPr>
                      <a:xfrm>
                        <a:off x="6378480" y="3480120"/>
                        <a:ext cx="177840" cy="104760"/>
                      </a:xfrm>
                      <a:custGeom>
                        <a:avLst/>
                        <a:gdLst/>
                        <a:ahLst/>
                        <a:rect l="l" t="t" r="r" b="b"/>
                        <a:pathLst>
                          <a:path w="112" h="66">
                            <a:moveTo>
                              <a:pt x="108" y="24"/>
                            </a:moveTo>
                            <a:lnTo>
                              <a:pt x="83" y="14"/>
                            </a:lnTo>
                            <a:lnTo>
                              <a:pt x="74" y="5"/>
                            </a:lnTo>
                            <a:lnTo>
                              <a:pt x="63" y="3"/>
                            </a:lnTo>
                            <a:lnTo>
                              <a:pt x="39" y="0"/>
                            </a:lnTo>
                            <a:lnTo>
                              <a:pt x="13" y="2"/>
                            </a:lnTo>
                            <a:lnTo>
                              <a:pt x="5" y="4"/>
                            </a:lnTo>
                            <a:lnTo>
                              <a:pt x="0" y="9"/>
                            </a:lnTo>
                            <a:lnTo>
                              <a:pt x="2" y="18"/>
                            </a:lnTo>
                            <a:lnTo>
                              <a:pt x="9" y="27"/>
                            </a:lnTo>
                            <a:lnTo>
                              <a:pt x="22" y="31"/>
                            </a:lnTo>
                            <a:lnTo>
                              <a:pt x="30" y="34"/>
                            </a:lnTo>
                            <a:lnTo>
                              <a:pt x="25" y="45"/>
                            </a:lnTo>
                            <a:lnTo>
                              <a:pt x="31" y="62"/>
                            </a:lnTo>
                            <a:lnTo>
                              <a:pt x="50" y="58"/>
                            </a:lnTo>
                            <a:lnTo>
                              <a:pt x="112" y="66"/>
                            </a:lnTo>
                            <a:lnTo>
                              <a:pt x="108" y="24"/>
                            </a:lnTo>
                            <a:close/>
                          </a:path>
                        </a:pathLst>
                      </a:custGeom>
                      <a:solidFill>
                        <a:srgbClr val="ffbf7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602" name=""/>
                <p:cNvGrpSpPr/>
                <p:nvPr/>
              </p:nvGrpSpPr>
              <p:grpSpPr>
                <a:xfrm>
                  <a:off x="5389560" y="3062520"/>
                  <a:ext cx="1281240" cy="735120"/>
                  <a:chOff x="5389560" y="3062520"/>
                  <a:chExt cx="1281240" cy="735120"/>
                </a:xfrm>
              </p:grpSpPr>
              <p:grpSp>
                <p:nvGrpSpPr>
                  <p:cNvPr id="1603" name=""/>
                  <p:cNvGrpSpPr/>
                  <p:nvPr/>
                </p:nvGrpSpPr>
                <p:grpSpPr>
                  <a:xfrm>
                    <a:off x="5389560" y="3062520"/>
                    <a:ext cx="1281240" cy="735120"/>
                    <a:chOff x="5389560" y="3062520"/>
                    <a:chExt cx="1281240" cy="735120"/>
                  </a:xfrm>
                </p:grpSpPr>
                <p:grpSp>
                  <p:nvGrpSpPr>
                    <p:cNvPr id="1604" name=""/>
                    <p:cNvGrpSpPr/>
                    <p:nvPr/>
                  </p:nvGrpSpPr>
                  <p:grpSpPr>
                    <a:xfrm>
                      <a:off x="5389560" y="3062520"/>
                      <a:ext cx="1281240" cy="735120"/>
                      <a:chOff x="5389560" y="3062520"/>
                      <a:chExt cx="1281240" cy="735120"/>
                    </a:xfrm>
                  </p:grpSpPr>
                  <p:grpSp>
                    <p:nvGrpSpPr>
                      <p:cNvPr id="1605" name=""/>
                      <p:cNvGrpSpPr/>
                      <p:nvPr/>
                    </p:nvGrpSpPr>
                    <p:grpSpPr>
                      <a:xfrm>
                        <a:off x="6221520" y="3062520"/>
                        <a:ext cx="449280" cy="325440"/>
                        <a:chOff x="6221520" y="3062520"/>
                        <a:chExt cx="449280" cy="325440"/>
                      </a:xfrm>
                    </p:grpSpPr>
                    <p:grpSp>
                      <p:nvGrpSpPr>
                        <p:cNvPr id="1606" name=""/>
                        <p:cNvGrpSpPr/>
                        <p:nvPr/>
                      </p:nvGrpSpPr>
                      <p:grpSpPr>
                        <a:xfrm>
                          <a:off x="6221520" y="3097440"/>
                          <a:ext cx="357120" cy="290520"/>
                          <a:chOff x="6221520" y="3097440"/>
                          <a:chExt cx="357120" cy="290520"/>
                        </a:xfrm>
                      </p:grpSpPr>
                      <p:grpSp>
                        <p:nvGrpSpPr>
                          <p:cNvPr id="1607" name=""/>
                          <p:cNvGrpSpPr/>
                          <p:nvPr/>
                        </p:nvGrpSpPr>
                        <p:grpSpPr>
                          <a:xfrm>
                            <a:off x="6257880" y="3256200"/>
                            <a:ext cx="193680" cy="81000"/>
                            <a:chOff x="6257880" y="3256200"/>
                            <a:chExt cx="193680" cy="81000"/>
                          </a:xfrm>
                        </p:grpSpPr>
                        <p:sp>
                          <p:nvSpPr>
                            <p:cNvPr id="1608" name=""/>
                            <p:cNvSpPr/>
                            <p:nvPr/>
                          </p:nvSpPr>
                          <p:spPr>
                            <a:xfrm>
                              <a:off x="6257880" y="3256200"/>
                              <a:ext cx="193680" cy="81000"/>
                            </a:xfrm>
                            <a:custGeom>
                              <a:avLst/>
                              <a:gdLst/>
                              <a:ahLst/>
                              <a:rect l="l" t="t" r="r" b="b"/>
                              <a:pathLst>
                                <a:path w="122" h="51">
                                  <a:moveTo>
                                    <a:pt x="122" y="22"/>
                                  </a:moveTo>
                                  <a:lnTo>
                                    <a:pt x="107" y="27"/>
                                  </a:lnTo>
                                  <a:lnTo>
                                    <a:pt x="93" y="32"/>
                                  </a:lnTo>
                                  <a:lnTo>
                                    <a:pt x="81" y="40"/>
                                  </a:lnTo>
                                  <a:lnTo>
                                    <a:pt x="73" y="51"/>
                                  </a:lnTo>
                                  <a:lnTo>
                                    <a:pt x="55" y="50"/>
                                  </a:lnTo>
                                  <a:lnTo>
                                    <a:pt x="15" y="41"/>
                                  </a:lnTo>
                                  <a:lnTo>
                                    <a:pt x="0" y="26"/>
                                  </a:lnTo>
                                  <a:lnTo>
                                    <a:pt x="19" y="1"/>
                                  </a:lnTo>
                                  <a:lnTo>
                                    <a:pt x="79" y="0"/>
                                  </a:lnTo>
                                  <a:lnTo>
                                    <a:pt x="109" y="7"/>
                                  </a:lnTo>
                                  <a:lnTo>
                                    <a:pt x="122" y="22"/>
                                  </a:lnTo>
                                  <a:close/>
                                </a:path>
                              </a:pathLst>
                            </a:custGeom>
                            <a:solidFill>
                              <a:srgbClr val="ffffff"/>
                            </a:solid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9" name=""/>
                            <p:cNvSpPr/>
                            <p:nvPr/>
                          </p:nvSpPr>
                          <p:spPr>
                            <a:xfrm>
                              <a:off x="6323040" y="3273480"/>
                              <a:ext cx="28440" cy="42840"/>
                            </a:xfrm>
                            <a:custGeom>
                              <a:avLst/>
                              <a:gdLst/>
                              <a:ahLst/>
                              <a:rect l="l" t="t" r="r" b="b"/>
                              <a:pathLst>
                                <a:path w="18" h="27">
                                  <a:moveTo>
                                    <a:pt x="18" y="0"/>
                                  </a:moveTo>
                                  <a:lnTo>
                                    <a:pt x="5" y="11"/>
                                  </a:lnTo>
                                  <a:lnTo>
                                    <a:pt x="0" y="27"/>
                                  </a:lnTo>
                                </a:path>
                              </a:pathLst>
                            </a:custGeom>
                            <a:no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0" name=""/>
                            <p:cNvSpPr/>
                            <p:nvPr/>
                          </p:nvSpPr>
                          <p:spPr>
                            <a:xfrm>
                              <a:off x="6357960" y="3276720"/>
                              <a:ext cx="38160" cy="46080"/>
                            </a:xfrm>
                            <a:custGeom>
                              <a:avLst/>
                              <a:gdLst/>
                              <a:ahLst/>
                              <a:rect l="l" t="t" r="r" b="b"/>
                              <a:pathLst>
                                <a:path w="24" h="29">
                                  <a:moveTo>
                                    <a:pt x="24" y="0"/>
                                  </a:moveTo>
                                  <a:lnTo>
                                    <a:pt x="3" y="13"/>
                                  </a:lnTo>
                                  <a:lnTo>
                                    <a:pt x="0" y="29"/>
                                  </a:lnTo>
                                </a:path>
                              </a:pathLst>
                            </a:custGeom>
                            <a:noFill/>
                            <a:ln w="176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611" name=""/>
                          <p:cNvSpPr/>
                          <p:nvPr/>
                        </p:nvSpPr>
                        <p:spPr>
                          <a:xfrm>
                            <a:off x="6221520" y="3097440"/>
                            <a:ext cx="357120" cy="290520"/>
                          </a:xfrm>
                          <a:custGeom>
                            <a:avLst/>
                            <a:gdLst/>
                            <a:ahLst/>
                            <a:rect l="l" t="t" r="r" b="b"/>
                            <a:pathLst>
                              <a:path w="225" h="183">
                                <a:moveTo>
                                  <a:pt x="8" y="144"/>
                                </a:moveTo>
                                <a:lnTo>
                                  <a:pt x="5" y="132"/>
                                </a:lnTo>
                                <a:lnTo>
                                  <a:pt x="6" y="119"/>
                                </a:lnTo>
                                <a:lnTo>
                                  <a:pt x="12" y="108"/>
                                </a:lnTo>
                                <a:lnTo>
                                  <a:pt x="9" y="94"/>
                                </a:lnTo>
                                <a:lnTo>
                                  <a:pt x="11" y="82"/>
                                </a:lnTo>
                                <a:lnTo>
                                  <a:pt x="5" y="75"/>
                                </a:lnTo>
                                <a:lnTo>
                                  <a:pt x="3" y="64"/>
                                </a:lnTo>
                                <a:lnTo>
                                  <a:pt x="0" y="53"/>
                                </a:lnTo>
                                <a:lnTo>
                                  <a:pt x="1" y="43"/>
                                </a:lnTo>
                                <a:lnTo>
                                  <a:pt x="6" y="39"/>
                                </a:lnTo>
                                <a:lnTo>
                                  <a:pt x="16" y="36"/>
                                </a:lnTo>
                                <a:lnTo>
                                  <a:pt x="31" y="34"/>
                                </a:lnTo>
                                <a:lnTo>
                                  <a:pt x="42" y="36"/>
                                </a:lnTo>
                                <a:lnTo>
                                  <a:pt x="60" y="40"/>
                                </a:lnTo>
                                <a:lnTo>
                                  <a:pt x="66" y="30"/>
                                </a:lnTo>
                                <a:lnTo>
                                  <a:pt x="77" y="20"/>
                                </a:lnTo>
                                <a:lnTo>
                                  <a:pt x="93" y="9"/>
                                </a:lnTo>
                                <a:lnTo>
                                  <a:pt x="110" y="4"/>
                                </a:lnTo>
                                <a:lnTo>
                                  <a:pt x="126" y="1"/>
                                </a:lnTo>
                                <a:lnTo>
                                  <a:pt x="146" y="0"/>
                                </a:lnTo>
                                <a:lnTo>
                                  <a:pt x="163" y="2"/>
                                </a:lnTo>
                                <a:lnTo>
                                  <a:pt x="176" y="5"/>
                                </a:lnTo>
                                <a:lnTo>
                                  <a:pt x="189" y="11"/>
                                </a:lnTo>
                                <a:lnTo>
                                  <a:pt x="201" y="20"/>
                                </a:lnTo>
                                <a:lnTo>
                                  <a:pt x="212" y="32"/>
                                </a:lnTo>
                                <a:lnTo>
                                  <a:pt x="220" y="42"/>
                                </a:lnTo>
                                <a:lnTo>
                                  <a:pt x="225" y="57"/>
                                </a:lnTo>
                                <a:lnTo>
                                  <a:pt x="225" y="71"/>
                                </a:lnTo>
                                <a:lnTo>
                                  <a:pt x="218" y="87"/>
                                </a:lnTo>
                                <a:lnTo>
                                  <a:pt x="207" y="104"/>
                                </a:lnTo>
                                <a:lnTo>
                                  <a:pt x="195" y="115"/>
                                </a:lnTo>
                                <a:lnTo>
                                  <a:pt x="203" y="122"/>
                                </a:lnTo>
                                <a:lnTo>
                                  <a:pt x="214" y="132"/>
                                </a:lnTo>
                                <a:lnTo>
                                  <a:pt x="218" y="140"/>
                                </a:lnTo>
                                <a:lnTo>
                                  <a:pt x="214" y="146"/>
                                </a:lnTo>
                                <a:lnTo>
                                  <a:pt x="203" y="151"/>
                                </a:lnTo>
                                <a:lnTo>
                                  <a:pt x="209" y="157"/>
                                </a:lnTo>
                                <a:lnTo>
                                  <a:pt x="206" y="166"/>
                                </a:lnTo>
                                <a:lnTo>
                                  <a:pt x="198" y="174"/>
                                </a:lnTo>
                                <a:lnTo>
                                  <a:pt x="187" y="181"/>
                                </a:lnTo>
                                <a:lnTo>
                                  <a:pt x="173" y="183"/>
                                </a:lnTo>
                                <a:lnTo>
                                  <a:pt x="159" y="180"/>
                                </a:lnTo>
                                <a:lnTo>
                                  <a:pt x="151" y="172"/>
                                </a:lnTo>
                                <a:lnTo>
                                  <a:pt x="156" y="157"/>
                                </a:lnTo>
                                <a:lnTo>
                                  <a:pt x="160" y="142"/>
                                </a:lnTo>
                                <a:lnTo>
                                  <a:pt x="156" y="133"/>
                                </a:lnTo>
                                <a:lnTo>
                                  <a:pt x="146" y="128"/>
                                </a:lnTo>
                                <a:lnTo>
                                  <a:pt x="132" y="125"/>
                                </a:lnTo>
                                <a:lnTo>
                                  <a:pt x="129" y="117"/>
                                </a:lnTo>
                                <a:lnTo>
                                  <a:pt x="119" y="112"/>
                                </a:lnTo>
                                <a:lnTo>
                                  <a:pt x="104" y="109"/>
                                </a:lnTo>
                                <a:lnTo>
                                  <a:pt x="63" y="110"/>
                                </a:lnTo>
                                <a:lnTo>
                                  <a:pt x="52" y="113"/>
                                </a:lnTo>
                                <a:lnTo>
                                  <a:pt x="42" y="118"/>
                                </a:lnTo>
                                <a:lnTo>
                                  <a:pt x="39" y="127"/>
                                </a:lnTo>
                                <a:lnTo>
                                  <a:pt x="42" y="134"/>
                                </a:lnTo>
                                <a:lnTo>
                                  <a:pt x="49" y="138"/>
                                </a:lnTo>
                                <a:lnTo>
                                  <a:pt x="61" y="138"/>
                                </a:lnTo>
                                <a:lnTo>
                                  <a:pt x="75" y="141"/>
                                </a:lnTo>
                                <a:lnTo>
                                  <a:pt x="89" y="145"/>
                                </a:lnTo>
                                <a:lnTo>
                                  <a:pt x="96" y="151"/>
                                </a:lnTo>
                                <a:lnTo>
                                  <a:pt x="94" y="162"/>
                                </a:lnTo>
                                <a:lnTo>
                                  <a:pt x="82" y="170"/>
                                </a:lnTo>
                                <a:lnTo>
                                  <a:pt x="8" y="144"/>
                                </a:lnTo>
                                <a:close/>
                              </a:path>
                            </a:pathLst>
                          </a:custGeom>
                          <a:solidFill>
                            <a:srgbClr val="ffbf5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2" name=""/>
                        <p:cNvGrpSpPr/>
                        <p:nvPr/>
                      </p:nvGrpSpPr>
                      <p:grpSpPr>
                        <a:xfrm>
                          <a:off x="6257880" y="3062520"/>
                          <a:ext cx="412920" cy="209520"/>
                          <a:chOff x="6257880" y="3062520"/>
                          <a:chExt cx="412920" cy="209520"/>
                        </a:xfrm>
                      </p:grpSpPr>
                      <p:grpSp>
                        <p:nvGrpSpPr>
                          <p:cNvPr id="1613" name=""/>
                          <p:cNvGrpSpPr/>
                          <p:nvPr/>
                        </p:nvGrpSpPr>
                        <p:grpSpPr>
                          <a:xfrm>
                            <a:off x="6257880" y="3062520"/>
                            <a:ext cx="412920" cy="163440"/>
                            <a:chOff x="6257880" y="3062520"/>
                            <a:chExt cx="412920" cy="163440"/>
                          </a:xfrm>
                        </p:grpSpPr>
                        <p:sp>
                          <p:nvSpPr>
                            <p:cNvPr id="1614" name=""/>
                            <p:cNvSpPr/>
                            <p:nvPr/>
                          </p:nvSpPr>
                          <p:spPr>
                            <a:xfrm flipV="1">
                              <a:off x="6257880" y="3179520"/>
                              <a:ext cx="15840" cy="17640"/>
                            </a:xfrm>
                            <a:prstGeom prst="line">
                              <a:avLst/>
                            </a:prstGeom>
                            <a:ln w="176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5" name=""/>
                            <p:cNvSpPr/>
                            <p:nvPr/>
                          </p:nvSpPr>
                          <p:spPr>
                            <a:xfrm>
                              <a:off x="6273720" y="3062520"/>
                              <a:ext cx="130320" cy="90360"/>
                            </a:xfrm>
                            <a:custGeom>
                              <a:avLst/>
                              <a:gdLst/>
                              <a:ahLst/>
                              <a:rect l="l" t="t" r="r" b="b"/>
                              <a:pathLst>
                                <a:path w="82" h="57">
                                  <a:moveTo>
                                    <a:pt x="0" y="57"/>
                                  </a:moveTo>
                                  <a:lnTo>
                                    <a:pt x="11" y="27"/>
                                  </a:lnTo>
                                  <a:lnTo>
                                    <a:pt x="17" y="19"/>
                                  </a:lnTo>
                                  <a:lnTo>
                                    <a:pt x="28" y="14"/>
                                  </a:lnTo>
                                  <a:lnTo>
                                    <a:pt x="45" y="11"/>
                                  </a:lnTo>
                                  <a:lnTo>
                                    <a:pt x="58" y="9"/>
                                  </a:lnTo>
                                  <a:lnTo>
                                    <a:pt x="71" y="6"/>
                                  </a:lnTo>
                                  <a:lnTo>
                                    <a:pt x="82" y="0"/>
                                  </a:lnTo>
                                </a:path>
                              </a:pathLst>
                            </a:custGeom>
                            <a:noFill/>
                            <a:ln w="176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16" name=""/>
                            <p:cNvSpPr/>
                            <p:nvPr/>
                          </p:nvSpPr>
                          <p:spPr>
                            <a:xfrm>
                              <a:off x="6296040" y="3087720"/>
                              <a:ext cx="96840" cy="81000"/>
                            </a:xfrm>
                            <a:custGeom>
                              <a:avLst/>
                              <a:gdLst/>
                              <a:ahLst/>
                              <a:rect l="l" t="t" r="r" b="b"/>
                              <a:pathLst>
                                <a:path w="61" h="51">
                                  <a:moveTo>
                                    <a:pt x="61" y="0"/>
                                  </a:moveTo>
                                  <a:lnTo>
                                    <a:pt x="46" y="0"/>
                                  </a:lnTo>
                                  <a:lnTo>
                                    <a:pt x="33" y="5"/>
                                  </a:lnTo>
                                  <a:lnTo>
                                    <a:pt x="30" y="13"/>
                                  </a:lnTo>
                                  <a:lnTo>
                                    <a:pt x="22" y="30"/>
                                  </a:lnTo>
                                  <a:lnTo>
                                    <a:pt x="0" y="51"/>
                                  </a:lnTo>
                                </a:path>
                              </a:pathLst>
                            </a:custGeom>
                            <a:no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7" name=""/>
                            <p:cNvSpPr/>
                            <p:nvPr/>
                          </p:nvSpPr>
                          <p:spPr>
                            <a:xfrm>
                              <a:off x="6434280" y="3073680"/>
                              <a:ext cx="156960" cy="28440"/>
                            </a:xfrm>
                            <a:custGeom>
                              <a:avLst/>
                              <a:gdLst/>
                              <a:ahLst/>
                              <a:rect l="l" t="t" r="r" b="b"/>
                              <a:pathLst>
                                <a:path w="99" h="18">
                                  <a:moveTo>
                                    <a:pt x="0" y="18"/>
                                  </a:moveTo>
                                  <a:lnTo>
                                    <a:pt x="15" y="9"/>
                                  </a:lnTo>
                                  <a:lnTo>
                                    <a:pt x="29" y="2"/>
                                  </a:lnTo>
                                  <a:lnTo>
                                    <a:pt x="42" y="0"/>
                                  </a:lnTo>
                                  <a:lnTo>
                                    <a:pt x="56" y="1"/>
                                  </a:lnTo>
                                  <a:lnTo>
                                    <a:pt x="78" y="5"/>
                                  </a:lnTo>
                                  <a:lnTo>
                                    <a:pt x="99" y="10"/>
                                  </a:lnTo>
                                </a:path>
                              </a:pathLst>
                            </a:custGeom>
                            <a:noFill/>
                            <a:ln w="176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18" name=""/>
                            <p:cNvSpPr/>
                            <p:nvPr/>
                          </p:nvSpPr>
                          <p:spPr>
                            <a:xfrm>
                              <a:off x="6375240" y="3122640"/>
                              <a:ext cx="273240" cy="22320"/>
                            </a:xfrm>
                            <a:custGeom>
                              <a:avLst/>
                              <a:gdLst/>
                              <a:ahLst/>
                              <a:rect l="l" t="t" r="r" b="b"/>
                              <a:pathLst>
                                <a:path w="172" h="14">
                                  <a:moveTo>
                                    <a:pt x="0" y="13"/>
                                  </a:moveTo>
                                  <a:lnTo>
                                    <a:pt x="15" y="5"/>
                                  </a:lnTo>
                                  <a:lnTo>
                                    <a:pt x="27" y="2"/>
                                  </a:lnTo>
                                  <a:lnTo>
                                    <a:pt x="46" y="0"/>
                                  </a:lnTo>
                                  <a:lnTo>
                                    <a:pt x="65" y="1"/>
                                  </a:lnTo>
                                  <a:lnTo>
                                    <a:pt x="81" y="7"/>
                                  </a:lnTo>
                                  <a:lnTo>
                                    <a:pt x="98" y="12"/>
                                  </a:lnTo>
                                  <a:lnTo>
                                    <a:pt x="115" y="14"/>
                                  </a:lnTo>
                                  <a:lnTo>
                                    <a:pt x="134" y="11"/>
                                  </a:lnTo>
                                  <a:lnTo>
                                    <a:pt x="151" y="9"/>
                                  </a:lnTo>
                                  <a:lnTo>
                                    <a:pt x="172" y="10"/>
                                  </a:lnTo>
                                </a:path>
                              </a:pathLst>
                            </a:custGeom>
                            <a:noFill/>
                            <a:ln w="176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19" name=""/>
                            <p:cNvSpPr/>
                            <p:nvPr/>
                          </p:nvSpPr>
                          <p:spPr>
                            <a:xfrm>
                              <a:off x="6458040" y="3159360"/>
                              <a:ext cx="212760" cy="30240"/>
                            </a:xfrm>
                            <a:custGeom>
                              <a:avLst/>
                              <a:gdLst/>
                              <a:ahLst/>
                              <a:rect l="l" t="t" r="r" b="b"/>
                              <a:pathLst>
                                <a:path w="134" h="19">
                                  <a:moveTo>
                                    <a:pt x="0" y="0"/>
                                  </a:moveTo>
                                  <a:lnTo>
                                    <a:pt x="13" y="6"/>
                                  </a:lnTo>
                                  <a:lnTo>
                                    <a:pt x="30" y="14"/>
                                  </a:lnTo>
                                  <a:lnTo>
                                    <a:pt x="49" y="17"/>
                                  </a:lnTo>
                                  <a:lnTo>
                                    <a:pt x="71" y="18"/>
                                  </a:lnTo>
                                  <a:lnTo>
                                    <a:pt x="87" y="16"/>
                                  </a:lnTo>
                                  <a:lnTo>
                                    <a:pt x="106" y="14"/>
                                  </a:lnTo>
                                  <a:lnTo>
                                    <a:pt x="134" y="19"/>
                                  </a:lnTo>
                                </a:path>
                              </a:pathLst>
                            </a:custGeom>
                            <a:noFill/>
                            <a:ln w="176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0" name=""/>
                            <p:cNvSpPr/>
                            <p:nvPr/>
                          </p:nvSpPr>
                          <p:spPr>
                            <a:xfrm>
                              <a:off x="6351480" y="3154680"/>
                              <a:ext cx="274680" cy="71280"/>
                            </a:xfrm>
                            <a:custGeom>
                              <a:avLst/>
                              <a:gdLst/>
                              <a:ahLst/>
                              <a:rect l="l" t="t" r="r" b="b"/>
                              <a:pathLst>
                                <a:path w="173" h="45">
                                  <a:moveTo>
                                    <a:pt x="0" y="7"/>
                                  </a:moveTo>
                                  <a:lnTo>
                                    <a:pt x="11" y="3"/>
                                  </a:lnTo>
                                  <a:lnTo>
                                    <a:pt x="25" y="0"/>
                                  </a:lnTo>
                                  <a:lnTo>
                                    <a:pt x="36" y="2"/>
                                  </a:lnTo>
                                  <a:lnTo>
                                    <a:pt x="45" y="6"/>
                                  </a:lnTo>
                                  <a:lnTo>
                                    <a:pt x="53" y="12"/>
                                  </a:lnTo>
                                  <a:lnTo>
                                    <a:pt x="59" y="20"/>
                                  </a:lnTo>
                                  <a:lnTo>
                                    <a:pt x="72" y="27"/>
                                  </a:lnTo>
                                  <a:lnTo>
                                    <a:pt x="83" y="31"/>
                                  </a:lnTo>
                                  <a:lnTo>
                                    <a:pt x="105" y="38"/>
                                  </a:lnTo>
                                  <a:lnTo>
                                    <a:pt x="127" y="42"/>
                                  </a:lnTo>
                                  <a:lnTo>
                                    <a:pt x="151" y="45"/>
                                  </a:lnTo>
                                  <a:lnTo>
                                    <a:pt x="173" y="41"/>
                                  </a:lnTo>
                                </a:path>
                              </a:pathLst>
                            </a:custGeom>
                            <a:noFill/>
                            <a:ln w="176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1621" name=""/>
                          <p:cNvGrpSpPr/>
                          <p:nvPr/>
                        </p:nvGrpSpPr>
                        <p:grpSpPr>
                          <a:xfrm>
                            <a:off x="6470640" y="3229200"/>
                            <a:ext cx="65160" cy="42840"/>
                            <a:chOff x="6470640" y="3229200"/>
                            <a:chExt cx="65160" cy="42840"/>
                          </a:xfrm>
                        </p:grpSpPr>
                        <p:sp>
                          <p:nvSpPr>
                            <p:cNvPr id="1622" name=""/>
                            <p:cNvSpPr/>
                            <p:nvPr/>
                          </p:nvSpPr>
                          <p:spPr>
                            <a:xfrm>
                              <a:off x="6470640" y="3229200"/>
                              <a:ext cx="22320" cy="33120"/>
                            </a:xfrm>
                            <a:prstGeom prst="ellipse">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23" name=""/>
                            <p:cNvSpPr/>
                            <p:nvPr/>
                          </p:nvSpPr>
                          <p:spPr>
                            <a:xfrm>
                              <a:off x="6513480" y="3238560"/>
                              <a:ext cx="22320" cy="33480"/>
                            </a:xfrm>
                            <a:prstGeom prst="ellipse">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1624" name=""/>
                      <p:cNvGrpSpPr/>
                      <p:nvPr/>
                    </p:nvGrpSpPr>
                    <p:grpSpPr>
                      <a:xfrm>
                        <a:off x="5389560" y="3319560"/>
                        <a:ext cx="973080" cy="478080"/>
                        <a:chOff x="5389560" y="3319560"/>
                        <a:chExt cx="973080" cy="478080"/>
                      </a:xfrm>
                    </p:grpSpPr>
                    <p:grpSp>
                      <p:nvGrpSpPr>
                        <p:cNvPr id="1625" name=""/>
                        <p:cNvGrpSpPr/>
                        <p:nvPr/>
                      </p:nvGrpSpPr>
                      <p:grpSpPr>
                        <a:xfrm>
                          <a:off x="5389560" y="3435480"/>
                          <a:ext cx="806400" cy="362160"/>
                          <a:chOff x="5389560" y="3435480"/>
                          <a:chExt cx="806400" cy="362160"/>
                        </a:xfrm>
                      </p:grpSpPr>
                      <p:grpSp>
                        <p:nvGrpSpPr>
                          <p:cNvPr id="1626" name=""/>
                          <p:cNvGrpSpPr/>
                          <p:nvPr/>
                        </p:nvGrpSpPr>
                        <p:grpSpPr>
                          <a:xfrm>
                            <a:off x="5389560" y="3579840"/>
                            <a:ext cx="312840" cy="217800"/>
                            <a:chOff x="5389560" y="3579840"/>
                            <a:chExt cx="312840" cy="217800"/>
                          </a:xfrm>
                        </p:grpSpPr>
                        <p:sp>
                          <p:nvSpPr>
                            <p:cNvPr id="1627" name=""/>
                            <p:cNvSpPr/>
                            <p:nvPr/>
                          </p:nvSpPr>
                          <p:spPr>
                            <a:xfrm>
                              <a:off x="5410080" y="3579840"/>
                              <a:ext cx="292320" cy="214560"/>
                            </a:xfrm>
                            <a:custGeom>
                              <a:avLst/>
                              <a:gdLst/>
                              <a:ahLst/>
                              <a:rect l="l" t="t" r="r" b="b"/>
                              <a:pathLst>
                                <a:path w="184" h="135">
                                  <a:moveTo>
                                    <a:pt x="0" y="12"/>
                                  </a:moveTo>
                                  <a:lnTo>
                                    <a:pt x="23" y="67"/>
                                  </a:lnTo>
                                  <a:lnTo>
                                    <a:pt x="99" y="134"/>
                                  </a:lnTo>
                                  <a:lnTo>
                                    <a:pt x="130" y="130"/>
                                  </a:lnTo>
                                  <a:lnTo>
                                    <a:pt x="141" y="134"/>
                                  </a:lnTo>
                                  <a:lnTo>
                                    <a:pt x="154" y="135"/>
                                  </a:lnTo>
                                  <a:lnTo>
                                    <a:pt x="165" y="132"/>
                                  </a:lnTo>
                                  <a:lnTo>
                                    <a:pt x="173" y="124"/>
                                  </a:lnTo>
                                  <a:lnTo>
                                    <a:pt x="176" y="106"/>
                                  </a:lnTo>
                                  <a:lnTo>
                                    <a:pt x="184" y="98"/>
                                  </a:lnTo>
                                  <a:lnTo>
                                    <a:pt x="177" y="56"/>
                                  </a:lnTo>
                                  <a:lnTo>
                                    <a:pt x="122" y="39"/>
                                  </a:lnTo>
                                  <a:lnTo>
                                    <a:pt x="104" y="24"/>
                                  </a:lnTo>
                                  <a:lnTo>
                                    <a:pt x="88" y="22"/>
                                  </a:lnTo>
                                  <a:lnTo>
                                    <a:pt x="61" y="21"/>
                                  </a:lnTo>
                                  <a:lnTo>
                                    <a:pt x="48" y="11"/>
                                  </a:lnTo>
                                  <a:lnTo>
                                    <a:pt x="31" y="3"/>
                                  </a:lnTo>
                                  <a:lnTo>
                                    <a:pt x="17" y="0"/>
                                  </a:lnTo>
                                  <a:lnTo>
                                    <a:pt x="4" y="2"/>
                                  </a:lnTo>
                                  <a:lnTo>
                                    <a:pt x="0" y="12"/>
                                  </a:lnTo>
                                  <a:close/>
                                </a:path>
                              </a:pathLst>
                            </a:custGeom>
                            <a:solidFill>
                              <a:srgbClr val="bf7f1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5454720" y="3608640"/>
                              <a:ext cx="164880" cy="176040"/>
                            </a:xfrm>
                            <a:custGeom>
                              <a:avLst/>
                              <a:gdLst/>
                              <a:ahLst/>
                              <a:rect l="l" t="t" r="r" b="b"/>
                              <a:pathLst>
                                <a:path w="104" h="111">
                                  <a:moveTo>
                                    <a:pt x="24" y="0"/>
                                  </a:moveTo>
                                  <a:lnTo>
                                    <a:pt x="3" y="1"/>
                                  </a:lnTo>
                                  <a:lnTo>
                                    <a:pt x="0" y="9"/>
                                  </a:lnTo>
                                  <a:lnTo>
                                    <a:pt x="0" y="22"/>
                                  </a:lnTo>
                                  <a:lnTo>
                                    <a:pt x="6" y="32"/>
                                  </a:lnTo>
                                  <a:lnTo>
                                    <a:pt x="22" y="39"/>
                                  </a:lnTo>
                                  <a:lnTo>
                                    <a:pt x="38" y="58"/>
                                  </a:lnTo>
                                  <a:lnTo>
                                    <a:pt x="42" y="66"/>
                                  </a:lnTo>
                                  <a:lnTo>
                                    <a:pt x="52" y="72"/>
                                  </a:lnTo>
                                  <a:lnTo>
                                    <a:pt x="53" y="79"/>
                                  </a:lnTo>
                                  <a:lnTo>
                                    <a:pt x="85" y="91"/>
                                  </a:lnTo>
                                  <a:lnTo>
                                    <a:pt x="104" y="111"/>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9" name=""/>
                            <p:cNvGrpSpPr/>
                            <p:nvPr/>
                          </p:nvGrpSpPr>
                          <p:grpSpPr>
                            <a:xfrm>
                              <a:off x="5389560" y="3592800"/>
                              <a:ext cx="185760" cy="204840"/>
                              <a:chOff x="5389560" y="3592800"/>
                              <a:chExt cx="185760" cy="204840"/>
                            </a:xfrm>
                          </p:grpSpPr>
                          <p:sp>
                            <p:nvSpPr>
                              <p:cNvPr id="1630" name=""/>
                              <p:cNvSpPr/>
                              <p:nvPr/>
                            </p:nvSpPr>
                            <p:spPr>
                              <a:xfrm>
                                <a:off x="5389560" y="3592800"/>
                                <a:ext cx="185760" cy="204840"/>
                              </a:xfrm>
                              <a:custGeom>
                                <a:avLst/>
                                <a:gdLst/>
                                <a:ahLst/>
                                <a:rect l="l" t="t" r="r" b="b"/>
                                <a:pathLst>
                                  <a:path w="117" h="129">
                                    <a:moveTo>
                                      <a:pt x="10" y="0"/>
                                    </a:moveTo>
                                    <a:lnTo>
                                      <a:pt x="24" y="11"/>
                                    </a:lnTo>
                                    <a:lnTo>
                                      <a:pt x="33" y="21"/>
                                    </a:lnTo>
                                    <a:lnTo>
                                      <a:pt x="41" y="35"/>
                                    </a:lnTo>
                                    <a:lnTo>
                                      <a:pt x="41" y="47"/>
                                    </a:lnTo>
                                    <a:lnTo>
                                      <a:pt x="49" y="61"/>
                                    </a:lnTo>
                                    <a:lnTo>
                                      <a:pt x="58" y="71"/>
                                    </a:lnTo>
                                    <a:lnTo>
                                      <a:pt x="71" y="81"/>
                                    </a:lnTo>
                                    <a:lnTo>
                                      <a:pt x="88" y="94"/>
                                    </a:lnTo>
                                    <a:lnTo>
                                      <a:pt x="99" y="107"/>
                                    </a:lnTo>
                                    <a:lnTo>
                                      <a:pt x="113" y="122"/>
                                    </a:lnTo>
                                    <a:lnTo>
                                      <a:pt x="117" y="129"/>
                                    </a:lnTo>
                                    <a:lnTo>
                                      <a:pt x="101" y="129"/>
                                    </a:lnTo>
                                    <a:lnTo>
                                      <a:pt x="76" y="125"/>
                                    </a:lnTo>
                                    <a:lnTo>
                                      <a:pt x="54" y="112"/>
                                    </a:lnTo>
                                    <a:lnTo>
                                      <a:pt x="43" y="95"/>
                                    </a:lnTo>
                                    <a:lnTo>
                                      <a:pt x="33" y="80"/>
                                    </a:lnTo>
                                    <a:lnTo>
                                      <a:pt x="22" y="67"/>
                                    </a:lnTo>
                                    <a:lnTo>
                                      <a:pt x="5" y="51"/>
                                    </a:lnTo>
                                    <a:lnTo>
                                      <a:pt x="0" y="28"/>
                                    </a:lnTo>
                                    <a:lnTo>
                                      <a:pt x="2" y="16"/>
                                    </a:lnTo>
                                    <a:lnTo>
                                      <a:pt x="10" y="0"/>
                                    </a:lnTo>
                                    <a:close/>
                                  </a:path>
                                </a:pathLst>
                              </a:custGeom>
                              <a:solidFill>
                                <a:srgbClr val="7f5f3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flipV="1">
                                <a:off x="5486400" y="3741840"/>
                                <a:ext cx="34920" cy="7920"/>
                              </a:xfrm>
                              <a:prstGeom prst="line">
                                <a:avLst/>
                              </a:prstGeom>
                              <a:ln w="176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nvGrpSpPr>
                          <p:cNvPr id="1632" name=""/>
                          <p:cNvGrpSpPr/>
                          <p:nvPr/>
                        </p:nvGrpSpPr>
                        <p:grpSpPr>
                          <a:xfrm>
                            <a:off x="5592600" y="3435480"/>
                            <a:ext cx="603360" cy="303120"/>
                            <a:chOff x="5592600" y="3435480"/>
                            <a:chExt cx="603360" cy="303120"/>
                          </a:xfrm>
                        </p:grpSpPr>
                        <p:sp>
                          <p:nvSpPr>
                            <p:cNvPr id="1633" name=""/>
                            <p:cNvSpPr/>
                            <p:nvPr/>
                          </p:nvSpPr>
                          <p:spPr>
                            <a:xfrm>
                              <a:off x="5592600" y="3435480"/>
                              <a:ext cx="603360" cy="303120"/>
                            </a:xfrm>
                            <a:custGeom>
                              <a:avLst/>
                              <a:gdLst/>
                              <a:ahLst/>
                              <a:rect l="l" t="t" r="r" b="b"/>
                              <a:pathLst>
                                <a:path w="380" h="191">
                                  <a:moveTo>
                                    <a:pt x="336" y="5"/>
                                  </a:moveTo>
                                  <a:lnTo>
                                    <a:pt x="312" y="2"/>
                                  </a:lnTo>
                                  <a:lnTo>
                                    <a:pt x="286" y="0"/>
                                  </a:lnTo>
                                  <a:lnTo>
                                    <a:pt x="267" y="8"/>
                                  </a:lnTo>
                                  <a:lnTo>
                                    <a:pt x="246" y="22"/>
                                  </a:lnTo>
                                  <a:lnTo>
                                    <a:pt x="228" y="23"/>
                                  </a:lnTo>
                                  <a:lnTo>
                                    <a:pt x="209" y="25"/>
                                  </a:lnTo>
                                  <a:lnTo>
                                    <a:pt x="199" y="25"/>
                                  </a:lnTo>
                                  <a:lnTo>
                                    <a:pt x="185" y="25"/>
                                  </a:lnTo>
                                  <a:lnTo>
                                    <a:pt x="176" y="27"/>
                                  </a:lnTo>
                                  <a:lnTo>
                                    <a:pt x="166" y="33"/>
                                  </a:lnTo>
                                  <a:lnTo>
                                    <a:pt x="157" y="40"/>
                                  </a:lnTo>
                                  <a:lnTo>
                                    <a:pt x="143" y="46"/>
                                  </a:lnTo>
                                  <a:lnTo>
                                    <a:pt x="111" y="60"/>
                                  </a:lnTo>
                                  <a:lnTo>
                                    <a:pt x="59" y="81"/>
                                  </a:lnTo>
                                  <a:lnTo>
                                    <a:pt x="11" y="103"/>
                                  </a:lnTo>
                                  <a:lnTo>
                                    <a:pt x="0" y="131"/>
                                  </a:lnTo>
                                  <a:lnTo>
                                    <a:pt x="11" y="141"/>
                                  </a:lnTo>
                                  <a:lnTo>
                                    <a:pt x="11" y="148"/>
                                  </a:lnTo>
                                  <a:lnTo>
                                    <a:pt x="22" y="151"/>
                                  </a:lnTo>
                                  <a:lnTo>
                                    <a:pt x="34" y="160"/>
                                  </a:lnTo>
                                  <a:lnTo>
                                    <a:pt x="40" y="168"/>
                                  </a:lnTo>
                                  <a:lnTo>
                                    <a:pt x="48" y="171"/>
                                  </a:lnTo>
                                  <a:lnTo>
                                    <a:pt x="58" y="176"/>
                                  </a:lnTo>
                                  <a:lnTo>
                                    <a:pt x="62" y="184"/>
                                  </a:lnTo>
                                  <a:lnTo>
                                    <a:pt x="69" y="191"/>
                                  </a:lnTo>
                                  <a:lnTo>
                                    <a:pt x="81" y="186"/>
                                  </a:lnTo>
                                  <a:lnTo>
                                    <a:pt x="97" y="178"/>
                                  </a:lnTo>
                                  <a:lnTo>
                                    <a:pt x="103" y="168"/>
                                  </a:lnTo>
                                  <a:lnTo>
                                    <a:pt x="110" y="161"/>
                                  </a:lnTo>
                                  <a:lnTo>
                                    <a:pt x="110" y="145"/>
                                  </a:lnTo>
                                  <a:lnTo>
                                    <a:pt x="128" y="130"/>
                                  </a:lnTo>
                                  <a:lnTo>
                                    <a:pt x="147" y="139"/>
                                  </a:lnTo>
                                  <a:lnTo>
                                    <a:pt x="158" y="141"/>
                                  </a:lnTo>
                                  <a:lnTo>
                                    <a:pt x="179" y="121"/>
                                  </a:lnTo>
                                  <a:lnTo>
                                    <a:pt x="237" y="113"/>
                                  </a:lnTo>
                                  <a:lnTo>
                                    <a:pt x="281" y="106"/>
                                  </a:lnTo>
                                  <a:lnTo>
                                    <a:pt x="306" y="109"/>
                                  </a:lnTo>
                                  <a:lnTo>
                                    <a:pt x="324" y="108"/>
                                  </a:lnTo>
                                  <a:lnTo>
                                    <a:pt x="344" y="103"/>
                                  </a:lnTo>
                                  <a:lnTo>
                                    <a:pt x="360" y="94"/>
                                  </a:lnTo>
                                  <a:lnTo>
                                    <a:pt x="369" y="79"/>
                                  </a:lnTo>
                                  <a:lnTo>
                                    <a:pt x="380" y="49"/>
                                  </a:lnTo>
                                  <a:lnTo>
                                    <a:pt x="336" y="5"/>
                                  </a:lnTo>
                                  <a:close/>
                                </a:path>
                              </a:pathLst>
                            </a:custGeom>
                            <a:solidFill>
                              <a:srgbClr val="00808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5597640" y="3483000"/>
                              <a:ext cx="515880" cy="154080"/>
                            </a:xfrm>
                            <a:custGeom>
                              <a:avLst/>
                              <a:gdLst/>
                              <a:ahLst/>
                              <a:rect l="l" t="t" r="r" b="b"/>
                              <a:pathLst>
                                <a:path w="325" h="97">
                                  <a:moveTo>
                                    <a:pt x="0" y="97"/>
                                  </a:moveTo>
                                  <a:lnTo>
                                    <a:pt x="124" y="39"/>
                                  </a:lnTo>
                                  <a:lnTo>
                                    <a:pt x="185" y="16"/>
                                  </a:lnTo>
                                  <a:lnTo>
                                    <a:pt x="325"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35" name=""/>
                        <p:cNvGrpSpPr/>
                        <p:nvPr/>
                      </p:nvGrpSpPr>
                      <p:grpSpPr>
                        <a:xfrm>
                          <a:off x="6016680" y="3319560"/>
                          <a:ext cx="345960" cy="241200"/>
                          <a:chOff x="6016680" y="3319560"/>
                          <a:chExt cx="345960" cy="241200"/>
                        </a:xfrm>
                      </p:grpSpPr>
                      <p:grpSp>
                        <p:nvGrpSpPr>
                          <p:cNvPr id="1636" name=""/>
                          <p:cNvGrpSpPr/>
                          <p:nvPr/>
                        </p:nvGrpSpPr>
                        <p:grpSpPr>
                          <a:xfrm>
                            <a:off x="6016680" y="3321360"/>
                            <a:ext cx="341280" cy="239400"/>
                            <a:chOff x="6016680" y="3321360"/>
                            <a:chExt cx="341280" cy="239400"/>
                          </a:xfrm>
                        </p:grpSpPr>
                        <p:sp>
                          <p:nvSpPr>
                            <p:cNvPr id="1637" name=""/>
                            <p:cNvSpPr/>
                            <p:nvPr/>
                          </p:nvSpPr>
                          <p:spPr>
                            <a:xfrm>
                              <a:off x="6016680" y="3321360"/>
                              <a:ext cx="341280" cy="239400"/>
                            </a:xfrm>
                            <a:custGeom>
                              <a:avLst/>
                              <a:gdLst/>
                              <a:ahLst/>
                              <a:rect l="l" t="t" r="r" b="b"/>
                              <a:pathLst>
                                <a:path w="215" h="151">
                                  <a:moveTo>
                                    <a:pt x="0" y="58"/>
                                  </a:moveTo>
                                  <a:lnTo>
                                    <a:pt x="25" y="52"/>
                                  </a:lnTo>
                                  <a:lnTo>
                                    <a:pt x="45" y="48"/>
                                  </a:lnTo>
                                  <a:lnTo>
                                    <a:pt x="72" y="44"/>
                                  </a:lnTo>
                                  <a:lnTo>
                                    <a:pt x="82" y="42"/>
                                  </a:lnTo>
                                  <a:lnTo>
                                    <a:pt x="90" y="35"/>
                                  </a:lnTo>
                                  <a:lnTo>
                                    <a:pt x="101" y="20"/>
                                  </a:lnTo>
                                  <a:lnTo>
                                    <a:pt x="105" y="8"/>
                                  </a:lnTo>
                                  <a:lnTo>
                                    <a:pt x="134" y="0"/>
                                  </a:lnTo>
                                  <a:lnTo>
                                    <a:pt x="214" y="44"/>
                                  </a:lnTo>
                                  <a:lnTo>
                                    <a:pt x="215" y="54"/>
                                  </a:lnTo>
                                  <a:lnTo>
                                    <a:pt x="207" y="68"/>
                                  </a:lnTo>
                                  <a:lnTo>
                                    <a:pt x="196" y="84"/>
                                  </a:lnTo>
                                  <a:lnTo>
                                    <a:pt x="187" y="95"/>
                                  </a:lnTo>
                                  <a:lnTo>
                                    <a:pt x="171" y="105"/>
                                  </a:lnTo>
                                  <a:lnTo>
                                    <a:pt x="154" y="116"/>
                                  </a:lnTo>
                                  <a:lnTo>
                                    <a:pt x="152" y="130"/>
                                  </a:lnTo>
                                  <a:lnTo>
                                    <a:pt x="148" y="144"/>
                                  </a:lnTo>
                                  <a:lnTo>
                                    <a:pt x="137" y="150"/>
                                  </a:lnTo>
                                  <a:lnTo>
                                    <a:pt x="124" y="151"/>
                                  </a:lnTo>
                                  <a:lnTo>
                                    <a:pt x="86" y="145"/>
                                  </a:lnTo>
                                  <a:lnTo>
                                    <a:pt x="91" y="141"/>
                                  </a:lnTo>
                                  <a:lnTo>
                                    <a:pt x="90" y="132"/>
                                  </a:lnTo>
                                  <a:lnTo>
                                    <a:pt x="82" y="123"/>
                                  </a:lnTo>
                                  <a:lnTo>
                                    <a:pt x="82" y="114"/>
                                  </a:lnTo>
                                  <a:lnTo>
                                    <a:pt x="74" y="107"/>
                                  </a:lnTo>
                                  <a:lnTo>
                                    <a:pt x="66" y="100"/>
                                  </a:lnTo>
                                  <a:lnTo>
                                    <a:pt x="58" y="92"/>
                                  </a:lnTo>
                                  <a:lnTo>
                                    <a:pt x="55" y="89"/>
                                  </a:lnTo>
                                  <a:lnTo>
                                    <a:pt x="44" y="72"/>
                                  </a:lnTo>
                                  <a:lnTo>
                                    <a:pt x="0" y="58"/>
                                  </a:lnTo>
                                  <a:close/>
                                </a:path>
                              </a:pathLst>
                            </a:custGeom>
                            <a:solidFill>
                              <a:srgbClr val="ffff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8" name=""/>
                            <p:cNvGrpSpPr/>
                            <p:nvPr/>
                          </p:nvGrpSpPr>
                          <p:grpSpPr>
                            <a:xfrm>
                              <a:off x="6116760" y="3387960"/>
                              <a:ext cx="156960" cy="155520"/>
                              <a:chOff x="6116760" y="3387960"/>
                              <a:chExt cx="156960" cy="155520"/>
                            </a:xfrm>
                          </p:grpSpPr>
                          <p:sp>
                            <p:nvSpPr>
                              <p:cNvPr id="1639" name=""/>
                              <p:cNvSpPr/>
                              <p:nvPr/>
                            </p:nvSpPr>
                            <p:spPr>
                              <a:xfrm>
                                <a:off x="6121440" y="3399120"/>
                                <a:ext cx="152280" cy="71280"/>
                              </a:xfrm>
                              <a:custGeom>
                                <a:avLst/>
                                <a:gdLst/>
                                <a:ahLst/>
                                <a:rect l="l" t="t" r="r" b="b"/>
                                <a:pathLst>
                                  <a:path w="96" h="45">
                                    <a:moveTo>
                                      <a:pt x="0" y="45"/>
                                    </a:moveTo>
                                    <a:lnTo>
                                      <a:pt x="64" y="30"/>
                                    </a:lnTo>
                                    <a:lnTo>
                                      <a:pt x="80" y="30"/>
                                    </a:lnTo>
                                    <a:lnTo>
                                      <a:pt x="96" y="0"/>
                                    </a:lnTo>
                                  </a:path>
                                </a:pathLst>
                              </a:custGeom>
                              <a:noFill/>
                              <a:ln w="176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40" name=""/>
                              <p:cNvSpPr/>
                              <p:nvPr/>
                            </p:nvSpPr>
                            <p:spPr>
                              <a:xfrm flipV="1">
                                <a:off x="6165720" y="3503880"/>
                                <a:ext cx="82800" cy="396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41" name=""/>
                              <p:cNvSpPr/>
                              <p:nvPr/>
                            </p:nvSpPr>
                            <p:spPr>
                              <a:xfrm flipH="1">
                                <a:off x="6116760" y="3387960"/>
                                <a:ext cx="31680" cy="27000"/>
                              </a:xfrm>
                              <a:prstGeom prst="line">
                                <a:avLst/>
                              </a:prstGeom>
                              <a:ln w="1764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sp>
                        <p:nvSpPr>
                          <p:cNvPr id="1642" name=""/>
                          <p:cNvSpPr/>
                          <p:nvPr/>
                        </p:nvSpPr>
                        <p:spPr>
                          <a:xfrm>
                            <a:off x="6186600" y="3319560"/>
                            <a:ext cx="176040" cy="71640"/>
                          </a:xfrm>
                          <a:custGeom>
                            <a:avLst/>
                            <a:gdLst/>
                            <a:ahLst/>
                            <a:rect l="l" t="t" r="r" b="b"/>
                            <a:pathLst>
                              <a:path w="111" h="45">
                                <a:moveTo>
                                  <a:pt x="27" y="0"/>
                                </a:moveTo>
                                <a:lnTo>
                                  <a:pt x="0" y="8"/>
                                </a:lnTo>
                                <a:lnTo>
                                  <a:pt x="34" y="12"/>
                                </a:lnTo>
                                <a:lnTo>
                                  <a:pt x="41" y="35"/>
                                </a:lnTo>
                                <a:lnTo>
                                  <a:pt x="111" y="45"/>
                                </a:lnTo>
                                <a:lnTo>
                                  <a:pt x="104" y="24"/>
                                </a:lnTo>
                                <a:lnTo>
                                  <a:pt x="27" y="0"/>
                                </a:lnTo>
                                <a:close/>
                              </a:path>
                            </a:pathLst>
                          </a:custGeom>
                          <a:solidFill>
                            <a:srgbClr val="ffff9f"/>
                          </a:solidFill>
                          <a:ln w="176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grpSp>
                <p:grpSp>
                  <p:nvGrpSpPr>
                    <p:cNvPr id="1643" name=""/>
                    <p:cNvGrpSpPr/>
                    <p:nvPr/>
                  </p:nvGrpSpPr>
                  <p:grpSpPr>
                    <a:xfrm>
                      <a:off x="5929200" y="3410280"/>
                      <a:ext cx="258840" cy="171360"/>
                      <a:chOff x="5929200" y="3410280"/>
                      <a:chExt cx="258840" cy="171360"/>
                    </a:xfrm>
                  </p:grpSpPr>
                  <p:grpSp>
                    <p:nvGrpSpPr>
                      <p:cNvPr id="1644" name=""/>
                      <p:cNvGrpSpPr/>
                      <p:nvPr/>
                    </p:nvGrpSpPr>
                    <p:grpSpPr>
                      <a:xfrm>
                        <a:off x="5999040" y="3454560"/>
                        <a:ext cx="189000" cy="127080"/>
                        <a:chOff x="5999040" y="3454560"/>
                        <a:chExt cx="189000" cy="127080"/>
                      </a:xfrm>
                    </p:grpSpPr>
                    <p:sp>
                      <p:nvSpPr>
                        <p:cNvPr id="1645" name=""/>
                        <p:cNvSpPr/>
                        <p:nvPr/>
                      </p:nvSpPr>
                      <p:spPr>
                        <a:xfrm>
                          <a:off x="5999040" y="3454560"/>
                          <a:ext cx="189000" cy="127080"/>
                        </a:xfrm>
                        <a:custGeom>
                          <a:avLst/>
                          <a:gdLst/>
                          <a:ahLst/>
                          <a:rect l="l" t="t" r="r" b="b"/>
                          <a:pathLst>
                            <a:path w="119" h="80">
                              <a:moveTo>
                                <a:pt x="74" y="11"/>
                              </a:moveTo>
                              <a:lnTo>
                                <a:pt x="66" y="7"/>
                              </a:lnTo>
                              <a:lnTo>
                                <a:pt x="52" y="1"/>
                              </a:lnTo>
                              <a:lnTo>
                                <a:pt x="41" y="0"/>
                              </a:lnTo>
                              <a:lnTo>
                                <a:pt x="27" y="1"/>
                              </a:lnTo>
                              <a:lnTo>
                                <a:pt x="19" y="6"/>
                              </a:lnTo>
                              <a:lnTo>
                                <a:pt x="11" y="12"/>
                              </a:lnTo>
                              <a:lnTo>
                                <a:pt x="3" y="19"/>
                              </a:lnTo>
                              <a:lnTo>
                                <a:pt x="0" y="26"/>
                              </a:lnTo>
                              <a:lnTo>
                                <a:pt x="3" y="37"/>
                              </a:lnTo>
                              <a:lnTo>
                                <a:pt x="11" y="44"/>
                              </a:lnTo>
                              <a:lnTo>
                                <a:pt x="20" y="49"/>
                              </a:lnTo>
                              <a:lnTo>
                                <a:pt x="31" y="52"/>
                              </a:lnTo>
                              <a:lnTo>
                                <a:pt x="34" y="56"/>
                              </a:lnTo>
                              <a:lnTo>
                                <a:pt x="31" y="62"/>
                              </a:lnTo>
                              <a:lnTo>
                                <a:pt x="31" y="68"/>
                              </a:lnTo>
                              <a:lnTo>
                                <a:pt x="38" y="74"/>
                              </a:lnTo>
                              <a:lnTo>
                                <a:pt x="50" y="80"/>
                              </a:lnTo>
                              <a:lnTo>
                                <a:pt x="63" y="78"/>
                              </a:lnTo>
                              <a:lnTo>
                                <a:pt x="74" y="70"/>
                              </a:lnTo>
                              <a:lnTo>
                                <a:pt x="79" y="75"/>
                              </a:lnTo>
                              <a:lnTo>
                                <a:pt x="85" y="80"/>
                              </a:lnTo>
                              <a:lnTo>
                                <a:pt x="97" y="80"/>
                              </a:lnTo>
                              <a:lnTo>
                                <a:pt x="104" y="75"/>
                              </a:lnTo>
                              <a:lnTo>
                                <a:pt x="110" y="74"/>
                              </a:lnTo>
                              <a:lnTo>
                                <a:pt x="116" y="70"/>
                              </a:lnTo>
                              <a:lnTo>
                                <a:pt x="119" y="64"/>
                              </a:lnTo>
                              <a:lnTo>
                                <a:pt x="116" y="58"/>
                              </a:lnTo>
                              <a:lnTo>
                                <a:pt x="112" y="52"/>
                              </a:lnTo>
                              <a:lnTo>
                                <a:pt x="112" y="49"/>
                              </a:lnTo>
                              <a:lnTo>
                                <a:pt x="105" y="42"/>
                              </a:lnTo>
                              <a:lnTo>
                                <a:pt x="97" y="34"/>
                              </a:lnTo>
                              <a:lnTo>
                                <a:pt x="91" y="28"/>
                              </a:lnTo>
                              <a:lnTo>
                                <a:pt x="88" y="21"/>
                              </a:lnTo>
                              <a:lnTo>
                                <a:pt x="74" y="11"/>
                              </a:lnTo>
                              <a:close/>
                            </a:path>
                          </a:pathLst>
                        </a:custGeom>
                        <a:solidFill>
                          <a:srgbClr val="ffbf7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6" name=""/>
                        <p:cNvGrpSpPr/>
                        <p:nvPr/>
                      </p:nvGrpSpPr>
                      <p:grpSpPr>
                        <a:xfrm>
                          <a:off x="6039000" y="3492720"/>
                          <a:ext cx="125280" cy="74520"/>
                          <a:chOff x="6039000" y="3492720"/>
                          <a:chExt cx="125280" cy="74520"/>
                        </a:xfrm>
                      </p:grpSpPr>
                      <p:sp>
                        <p:nvSpPr>
                          <p:cNvPr id="1647" name=""/>
                          <p:cNvSpPr/>
                          <p:nvPr/>
                        </p:nvSpPr>
                        <p:spPr>
                          <a:xfrm>
                            <a:off x="6039000" y="3492720"/>
                            <a:ext cx="39600" cy="42840"/>
                          </a:xfrm>
                          <a:custGeom>
                            <a:avLst/>
                            <a:gdLst/>
                            <a:ahLst/>
                            <a:rect l="l" t="t" r="r" b="b"/>
                            <a:pathLst>
                              <a:path w="25" h="27">
                                <a:moveTo>
                                  <a:pt x="0" y="0"/>
                                </a:moveTo>
                                <a:lnTo>
                                  <a:pt x="14" y="4"/>
                                </a:lnTo>
                                <a:lnTo>
                                  <a:pt x="20" y="10"/>
                                </a:lnTo>
                                <a:lnTo>
                                  <a:pt x="25" y="18"/>
                                </a:lnTo>
                                <a:lnTo>
                                  <a:pt x="24" y="25"/>
                                </a:lnTo>
                                <a:lnTo>
                                  <a:pt x="19" y="26"/>
                                </a:lnTo>
                                <a:lnTo>
                                  <a:pt x="9" y="27"/>
                                </a:lnTo>
                              </a:path>
                            </a:pathLst>
                          </a:custGeom>
                          <a:noFill/>
                          <a:ln w="176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48" name=""/>
                          <p:cNvSpPr/>
                          <p:nvPr/>
                        </p:nvSpPr>
                        <p:spPr>
                          <a:xfrm>
                            <a:off x="6107040" y="3529080"/>
                            <a:ext cx="14400" cy="33480"/>
                          </a:xfrm>
                          <a:custGeom>
                            <a:avLst/>
                            <a:gdLst/>
                            <a:ahLst/>
                            <a:rect l="l" t="t" r="r" b="b"/>
                            <a:pathLst>
                              <a:path w="9" h="21">
                                <a:moveTo>
                                  <a:pt x="6" y="21"/>
                                </a:moveTo>
                                <a:lnTo>
                                  <a:pt x="9" y="14"/>
                                </a:lnTo>
                                <a:lnTo>
                                  <a:pt x="6" y="4"/>
                                </a:lnTo>
                                <a:lnTo>
                                  <a:pt x="0" y="0"/>
                                </a:lnTo>
                              </a:path>
                            </a:pathLst>
                          </a:custGeom>
                          <a:noFill/>
                          <a:ln w="176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49" name=""/>
                          <p:cNvSpPr/>
                          <p:nvPr/>
                        </p:nvSpPr>
                        <p:spPr>
                          <a:xfrm>
                            <a:off x="6156360" y="3543480"/>
                            <a:ext cx="7920" cy="23760"/>
                          </a:xfrm>
                          <a:custGeom>
                            <a:avLst/>
                            <a:gdLst/>
                            <a:ahLst/>
                            <a:rect l="l" t="t" r="r" b="b"/>
                            <a:pathLst>
                              <a:path w="5" h="15">
                                <a:moveTo>
                                  <a:pt x="0" y="0"/>
                                </a:moveTo>
                                <a:lnTo>
                                  <a:pt x="5" y="9"/>
                                </a:lnTo>
                                <a:lnTo>
                                  <a:pt x="3" y="15"/>
                                </a:lnTo>
                              </a:path>
                            </a:pathLst>
                          </a:custGeom>
                          <a:noFill/>
                          <a:ln w="176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sp>
                    <p:nvSpPr>
                      <p:cNvPr id="1650" name=""/>
                      <p:cNvSpPr/>
                      <p:nvPr/>
                    </p:nvSpPr>
                    <p:spPr>
                      <a:xfrm>
                        <a:off x="5929200" y="3410280"/>
                        <a:ext cx="119160" cy="45720"/>
                      </a:xfrm>
                      <a:custGeom>
                        <a:avLst/>
                        <a:gdLst/>
                        <a:ahLst/>
                        <a:rect l="l" t="t" r="r" b="b"/>
                        <a:pathLst>
                          <a:path w="75" h="29">
                            <a:moveTo>
                              <a:pt x="75" y="9"/>
                            </a:moveTo>
                            <a:lnTo>
                              <a:pt x="47" y="2"/>
                            </a:lnTo>
                            <a:lnTo>
                              <a:pt x="33" y="0"/>
                            </a:lnTo>
                            <a:lnTo>
                              <a:pt x="16" y="0"/>
                            </a:lnTo>
                            <a:lnTo>
                              <a:pt x="5" y="4"/>
                            </a:lnTo>
                            <a:lnTo>
                              <a:pt x="0" y="10"/>
                            </a:lnTo>
                            <a:lnTo>
                              <a:pt x="5" y="17"/>
                            </a:lnTo>
                            <a:lnTo>
                              <a:pt x="14" y="19"/>
                            </a:lnTo>
                            <a:lnTo>
                              <a:pt x="9" y="21"/>
                            </a:lnTo>
                            <a:lnTo>
                              <a:pt x="11" y="26"/>
                            </a:lnTo>
                            <a:lnTo>
                              <a:pt x="22" y="29"/>
                            </a:lnTo>
                            <a:lnTo>
                              <a:pt x="47" y="27"/>
                            </a:lnTo>
                            <a:lnTo>
                              <a:pt x="75" y="9"/>
                            </a:lnTo>
                            <a:close/>
                          </a:path>
                        </a:pathLst>
                      </a:custGeom>
                      <a:solidFill>
                        <a:srgbClr val="ffbf7f"/>
                      </a:solidFill>
                      <a:ln w="176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sp>
                <p:nvSpPr>
                  <p:cNvPr id="1651" name=""/>
                  <p:cNvSpPr/>
                  <p:nvPr/>
                </p:nvSpPr>
                <p:spPr>
                  <a:xfrm>
                    <a:off x="5878440" y="3399120"/>
                    <a:ext cx="530280" cy="93600"/>
                  </a:xfrm>
                  <a:custGeom>
                    <a:avLst/>
                    <a:gdLst/>
                    <a:ahLst/>
                    <a:rect l="l" t="t" r="r" b="b"/>
                    <a:pathLst>
                      <a:path w="334" h="59">
                        <a:moveTo>
                          <a:pt x="10" y="0"/>
                        </a:moveTo>
                        <a:lnTo>
                          <a:pt x="334" y="53"/>
                        </a:lnTo>
                        <a:lnTo>
                          <a:pt x="320" y="59"/>
                        </a:lnTo>
                        <a:lnTo>
                          <a:pt x="0" y="1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2" name=""/>
                <p:cNvGrpSpPr/>
                <p:nvPr/>
              </p:nvGrpSpPr>
              <p:grpSpPr>
                <a:xfrm>
                  <a:off x="4960800" y="3030840"/>
                  <a:ext cx="1192320" cy="788760"/>
                  <a:chOff x="4960800" y="3030840"/>
                  <a:chExt cx="1192320" cy="788760"/>
                </a:xfrm>
              </p:grpSpPr>
              <p:grpSp>
                <p:nvGrpSpPr>
                  <p:cNvPr id="1653" name=""/>
                  <p:cNvGrpSpPr/>
                  <p:nvPr/>
                </p:nvGrpSpPr>
                <p:grpSpPr>
                  <a:xfrm>
                    <a:off x="4960800" y="3030840"/>
                    <a:ext cx="1192320" cy="788760"/>
                    <a:chOff x="4960800" y="3030840"/>
                    <a:chExt cx="1192320" cy="788760"/>
                  </a:xfrm>
                </p:grpSpPr>
                <p:grpSp>
                  <p:nvGrpSpPr>
                    <p:cNvPr id="1654" name=""/>
                    <p:cNvGrpSpPr/>
                    <p:nvPr/>
                  </p:nvGrpSpPr>
                  <p:grpSpPr>
                    <a:xfrm>
                      <a:off x="5610240" y="3030840"/>
                      <a:ext cx="542880" cy="293400"/>
                      <a:chOff x="5610240" y="3030840"/>
                      <a:chExt cx="542880" cy="293400"/>
                    </a:xfrm>
                  </p:grpSpPr>
                  <p:grpSp>
                    <p:nvGrpSpPr>
                      <p:cNvPr id="1655" name=""/>
                      <p:cNvGrpSpPr/>
                      <p:nvPr/>
                    </p:nvGrpSpPr>
                    <p:grpSpPr>
                      <a:xfrm>
                        <a:off x="5610240" y="3056040"/>
                        <a:ext cx="520560" cy="268200"/>
                        <a:chOff x="5610240" y="3056040"/>
                        <a:chExt cx="520560" cy="268200"/>
                      </a:xfrm>
                    </p:grpSpPr>
                    <p:sp>
                      <p:nvSpPr>
                        <p:cNvPr id="1656" name=""/>
                        <p:cNvSpPr/>
                        <p:nvPr/>
                      </p:nvSpPr>
                      <p:spPr>
                        <a:xfrm>
                          <a:off x="5824440" y="3184560"/>
                          <a:ext cx="101520" cy="87480"/>
                        </a:xfrm>
                        <a:custGeom>
                          <a:avLst/>
                          <a:gdLst/>
                          <a:ahLst/>
                          <a:rect l="l" t="t" r="r" b="b"/>
                          <a:pathLst>
                            <a:path w="64" h="55">
                              <a:moveTo>
                                <a:pt x="0" y="0"/>
                              </a:moveTo>
                              <a:lnTo>
                                <a:pt x="8" y="55"/>
                              </a:lnTo>
                              <a:lnTo>
                                <a:pt x="64" y="48"/>
                              </a:lnTo>
                              <a:lnTo>
                                <a:pt x="49" y="11"/>
                              </a:lnTo>
                              <a:lnTo>
                                <a:pt x="0" y="0"/>
                              </a:lnTo>
                              <a:close/>
                            </a:path>
                          </a:pathLst>
                        </a:custGeom>
                        <a:solidFill>
                          <a:srgbClr val="ffffff"/>
                        </a:solidFill>
                        <a:ln w="176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7" name=""/>
                        <p:cNvSpPr/>
                        <p:nvPr/>
                      </p:nvSpPr>
                      <p:spPr>
                        <a:xfrm>
                          <a:off x="5610240" y="3056040"/>
                          <a:ext cx="520560" cy="268200"/>
                        </a:xfrm>
                        <a:custGeom>
                          <a:avLst/>
                          <a:gdLst/>
                          <a:ahLst/>
                          <a:rect l="l" t="t" r="r" b="b"/>
                          <a:pathLst>
                            <a:path w="328" h="169">
                              <a:moveTo>
                                <a:pt x="0" y="57"/>
                              </a:moveTo>
                              <a:lnTo>
                                <a:pt x="3" y="47"/>
                              </a:lnTo>
                              <a:lnTo>
                                <a:pt x="9" y="39"/>
                              </a:lnTo>
                              <a:lnTo>
                                <a:pt x="20" y="34"/>
                              </a:lnTo>
                              <a:lnTo>
                                <a:pt x="44" y="27"/>
                              </a:lnTo>
                              <a:lnTo>
                                <a:pt x="55" y="26"/>
                              </a:lnTo>
                              <a:lnTo>
                                <a:pt x="83" y="30"/>
                              </a:lnTo>
                              <a:lnTo>
                                <a:pt x="102" y="29"/>
                              </a:lnTo>
                              <a:lnTo>
                                <a:pt x="121" y="31"/>
                              </a:lnTo>
                              <a:lnTo>
                                <a:pt x="132" y="23"/>
                              </a:lnTo>
                              <a:lnTo>
                                <a:pt x="144" y="16"/>
                              </a:lnTo>
                              <a:lnTo>
                                <a:pt x="163" y="8"/>
                              </a:lnTo>
                              <a:lnTo>
                                <a:pt x="179" y="4"/>
                              </a:lnTo>
                              <a:lnTo>
                                <a:pt x="196" y="0"/>
                              </a:lnTo>
                              <a:lnTo>
                                <a:pt x="212" y="1"/>
                              </a:lnTo>
                              <a:lnTo>
                                <a:pt x="231" y="0"/>
                              </a:lnTo>
                              <a:lnTo>
                                <a:pt x="253" y="3"/>
                              </a:lnTo>
                              <a:lnTo>
                                <a:pt x="272" y="14"/>
                              </a:lnTo>
                              <a:lnTo>
                                <a:pt x="287" y="21"/>
                              </a:lnTo>
                              <a:lnTo>
                                <a:pt x="306" y="30"/>
                              </a:lnTo>
                              <a:lnTo>
                                <a:pt x="317" y="36"/>
                              </a:lnTo>
                              <a:lnTo>
                                <a:pt x="324" y="43"/>
                              </a:lnTo>
                              <a:lnTo>
                                <a:pt x="328" y="55"/>
                              </a:lnTo>
                              <a:lnTo>
                                <a:pt x="325" y="70"/>
                              </a:lnTo>
                              <a:lnTo>
                                <a:pt x="319" y="84"/>
                              </a:lnTo>
                              <a:lnTo>
                                <a:pt x="313" y="96"/>
                              </a:lnTo>
                              <a:lnTo>
                                <a:pt x="303" y="104"/>
                              </a:lnTo>
                              <a:lnTo>
                                <a:pt x="289" y="110"/>
                              </a:lnTo>
                              <a:lnTo>
                                <a:pt x="275" y="114"/>
                              </a:lnTo>
                              <a:lnTo>
                                <a:pt x="275" y="127"/>
                              </a:lnTo>
                              <a:lnTo>
                                <a:pt x="265" y="136"/>
                              </a:lnTo>
                              <a:lnTo>
                                <a:pt x="253" y="142"/>
                              </a:lnTo>
                              <a:lnTo>
                                <a:pt x="239" y="147"/>
                              </a:lnTo>
                              <a:lnTo>
                                <a:pt x="221" y="148"/>
                              </a:lnTo>
                              <a:lnTo>
                                <a:pt x="215" y="169"/>
                              </a:lnTo>
                              <a:lnTo>
                                <a:pt x="165" y="158"/>
                              </a:lnTo>
                              <a:lnTo>
                                <a:pt x="139" y="167"/>
                              </a:lnTo>
                              <a:lnTo>
                                <a:pt x="91" y="156"/>
                              </a:lnTo>
                              <a:lnTo>
                                <a:pt x="92" y="131"/>
                              </a:lnTo>
                              <a:lnTo>
                                <a:pt x="97" y="124"/>
                              </a:lnTo>
                              <a:lnTo>
                                <a:pt x="108" y="121"/>
                              </a:lnTo>
                              <a:lnTo>
                                <a:pt x="124" y="120"/>
                              </a:lnTo>
                              <a:lnTo>
                                <a:pt x="143" y="124"/>
                              </a:lnTo>
                              <a:lnTo>
                                <a:pt x="155" y="121"/>
                              </a:lnTo>
                              <a:lnTo>
                                <a:pt x="176" y="119"/>
                              </a:lnTo>
                              <a:lnTo>
                                <a:pt x="168" y="99"/>
                              </a:lnTo>
                              <a:lnTo>
                                <a:pt x="149" y="95"/>
                              </a:lnTo>
                              <a:lnTo>
                                <a:pt x="133" y="92"/>
                              </a:lnTo>
                              <a:lnTo>
                                <a:pt x="111" y="84"/>
                              </a:lnTo>
                              <a:lnTo>
                                <a:pt x="95" y="82"/>
                              </a:lnTo>
                              <a:lnTo>
                                <a:pt x="61" y="80"/>
                              </a:lnTo>
                              <a:lnTo>
                                <a:pt x="42" y="73"/>
                              </a:lnTo>
                              <a:lnTo>
                                <a:pt x="20" y="64"/>
                              </a:lnTo>
                              <a:lnTo>
                                <a:pt x="0" y="57"/>
                              </a:lnTo>
                              <a:close/>
                            </a:path>
                          </a:pathLst>
                        </a:custGeom>
                        <a:solidFill>
                          <a:srgbClr val="ffbf5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8" name=""/>
                      <p:cNvGrpSpPr/>
                      <p:nvPr/>
                    </p:nvGrpSpPr>
                    <p:grpSpPr>
                      <a:xfrm>
                        <a:off x="5786280" y="3030840"/>
                        <a:ext cx="366840" cy="199800"/>
                        <a:chOff x="5786280" y="3030840"/>
                        <a:chExt cx="366840" cy="199800"/>
                      </a:xfrm>
                    </p:grpSpPr>
                    <p:grpSp>
                      <p:nvGrpSpPr>
                        <p:cNvPr id="1659" name=""/>
                        <p:cNvGrpSpPr/>
                        <p:nvPr/>
                      </p:nvGrpSpPr>
                      <p:grpSpPr>
                        <a:xfrm>
                          <a:off x="5942160" y="3030840"/>
                          <a:ext cx="210960" cy="158760"/>
                          <a:chOff x="5942160" y="3030840"/>
                          <a:chExt cx="210960" cy="158760"/>
                        </a:xfrm>
                      </p:grpSpPr>
                      <p:sp>
                        <p:nvSpPr>
                          <p:cNvPr id="1660" name=""/>
                          <p:cNvSpPr/>
                          <p:nvPr/>
                        </p:nvSpPr>
                        <p:spPr>
                          <a:xfrm>
                            <a:off x="5942160" y="3030840"/>
                            <a:ext cx="106200" cy="23760"/>
                          </a:xfrm>
                          <a:custGeom>
                            <a:avLst/>
                            <a:gdLst/>
                            <a:ahLst/>
                            <a:rect l="l" t="t" r="r" b="b"/>
                            <a:pathLst>
                              <a:path w="67" h="15">
                                <a:moveTo>
                                  <a:pt x="0" y="15"/>
                                </a:moveTo>
                                <a:lnTo>
                                  <a:pt x="12" y="9"/>
                                </a:lnTo>
                                <a:lnTo>
                                  <a:pt x="26" y="6"/>
                                </a:lnTo>
                                <a:lnTo>
                                  <a:pt x="39" y="6"/>
                                </a:lnTo>
                                <a:lnTo>
                                  <a:pt x="52" y="5"/>
                                </a:lnTo>
                                <a:lnTo>
                                  <a:pt x="67" y="0"/>
                                </a:lnTo>
                              </a:path>
                            </a:pathLst>
                          </a:custGeom>
                          <a:noFill/>
                          <a:ln w="176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61" name=""/>
                          <p:cNvSpPr/>
                          <p:nvPr/>
                        </p:nvSpPr>
                        <p:spPr>
                          <a:xfrm>
                            <a:off x="5981760" y="3062520"/>
                            <a:ext cx="127080" cy="22320"/>
                          </a:xfrm>
                          <a:custGeom>
                            <a:avLst/>
                            <a:gdLst/>
                            <a:ahLst/>
                            <a:rect l="l" t="t" r="r" b="b"/>
                            <a:pathLst>
                              <a:path w="80" h="14">
                                <a:moveTo>
                                  <a:pt x="0" y="14"/>
                                </a:moveTo>
                                <a:lnTo>
                                  <a:pt x="12" y="7"/>
                                </a:lnTo>
                                <a:lnTo>
                                  <a:pt x="27" y="2"/>
                                </a:lnTo>
                                <a:lnTo>
                                  <a:pt x="42" y="0"/>
                                </a:lnTo>
                                <a:lnTo>
                                  <a:pt x="64" y="1"/>
                                </a:lnTo>
                                <a:lnTo>
                                  <a:pt x="80" y="4"/>
                                </a:lnTo>
                              </a:path>
                            </a:pathLst>
                          </a:custGeom>
                          <a:noFill/>
                          <a:ln w="1764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2" name=""/>
                          <p:cNvSpPr/>
                          <p:nvPr/>
                        </p:nvSpPr>
                        <p:spPr>
                          <a:xfrm>
                            <a:off x="6031080" y="3081600"/>
                            <a:ext cx="107640" cy="27000"/>
                          </a:xfrm>
                          <a:custGeom>
                            <a:avLst/>
                            <a:gdLst/>
                            <a:ahLst/>
                            <a:rect l="l" t="t" r="r" b="b"/>
                            <a:pathLst>
                              <a:path w="68" h="17">
                                <a:moveTo>
                                  <a:pt x="0" y="17"/>
                                </a:moveTo>
                                <a:lnTo>
                                  <a:pt x="13" y="9"/>
                                </a:lnTo>
                                <a:lnTo>
                                  <a:pt x="25" y="3"/>
                                </a:lnTo>
                                <a:lnTo>
                                  <a:pt x="38" y="0"/>
                                </a:lnTo>
                                <a:lnTo>
                                  <a:pt x="54" y="1"/>
                                </a:lnTo>
                                <a:lnTo>
                                  <a:pt x="68" y="8"/>
                                </a:lnTo>
                              </a:path>
                            </a:pathLst>
                          </a:custGeom>
                          <a:noFill/>
                          <a:ln w="176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3" name=""/>
                          <p:cNvSpPr/>
                          <p:nvPr/>
                        </p:nvSpPr>
                        <p:spPr>
                          <a:xfrm>
                            <a:off x="6073920" y="3113280"/>
                            <a:ext cx="79200" cy="12600"/>
                          </a:xfrm>
                          <a:custGeom>
                            <a:avLst/>
                            <a:gdLst/>
                            <a:ahLst/>
                            <a:rect l="l" t="t" r="r" b="b"/>
                            <a:pathLst>
                              <a:path w="50" h="8">
                                <a:moveTo>
                                  <a:pt x="0" y="8"/>
                                </a:moveTo>
                                <a:lnTo>
                                  <a:pt x="19" y="2"/>
                                </a:lnTo>
                                <a:lnTo>
                                  <a:pt x="28" y="0"/>
                                </a:lnTo>
                                <a:lnTo>
                                  <a:pt x="35" y="0"/>
                                </a:lnTo>
                                <a:lnTo>
                                  <a:pt x="44" y="2"/>
                                </a:lnTo>
                                <a:lnTo>
                                  <a:pt x="50" y="7"/>
                                </a:lnTo>
                                <a:lnTo>
                                  <a:pt x="50" y="8"/>
                                </a:lnTo>
                              </a:path>
                            </a:pathLst>
                          </a:custGeom>
                          <a:noFill/>
                          <a:ln w="176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4" name=""/>
                          <p:cNvSpPr/>
                          <p:nvPr/>
                        </p:nvSpPr>
                        <p:spPr>
                          <a:xfrm>
                            <a:off x="6066000" y="3148200"/>
                            <a:ext cx="80640" cy="41400"/>
                          </a:xfrm>
                          <a:custGeom>
                            <a:avLst/>
                            <a:gdLst/>
                            <a:ahLst/>
                            <a:rect l="l" t="t" r="r" b="b"/>
                            <a:pathLst>
                              <a:path w="51" h="26">
                                <a:moveTo>
                                  <a:pt x="0" y="0"/>
                                </a:moveTo>
                                <a:lnTo>
                                  <a:pt x="18" y="2"/>
                                </a:lnTo>
                                <a:lnTo>
                                  <a:pt x="32" y="6"/>
                                </a:lnTo>
                                <a:lnTo>
                                  <a:pt x="41" y="11"/>
                                </a:lnTo>
                                <a:lnTo>
                                  <a:pt x="48" y="16"/>
                                </a:lnTo>
                                <a:lnTo>
                                  <a:pt x="51" y="26"/>
                                </a:lnTo>
                              </a:path>
                            </a:pathLst>
                          </a:custGeom>
                          <a:noFill/>
                          <a:ln w="176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665" name=""/>
                        <p:cNvGrpSpPr/>
                        <p:nvPr/>
                      </p:nvGrpSpPr>
                      <p:grpSpPr>
                        <a:xfrm>
                          <a:off x="5786280" y="3094200"/>
                          <a:ext cx="300240" cy="136440"/>
                          <a:chOff x="5786280" y="3094200"/>
                          <a:chExt cx="300240" cy="136440"/>
                        </a:xfrm>
                      </p:grpSpPr>
                      <p:grpSp>
                        <p:nvGrpSpPr>
                          <p:cNvPr id="1666" name=""/>
                          <p:cNvGrpSpPr/>
                          <p:nvPr/>
                        </p:nvGrpSpPr>
                        <p:grpSpPr>
                          <a:xfrm>
                            <a:off x="5786280" y="3094200"/>
                            <a:ext cx="113040" cy="95400"/>
                            <a:chOff x="5786280" y="3094200"/>
                            <a:chExt cx="113040" cy="95400"/>
                          </a:xfrm>
                        </p:grpSpPr>
                        <p:grpSp>
                          <p:nvGrpSpPr>
                            <p:cNvPr id="1667" name=""/>
                            <p:cNvGrpSpPr/>
                            <p:nvPr/>
                          </p:nvGrpSpPr>
                          <p:grpSpPr>
                            <a:xfrm>
                              <a:off x="5808600" y="3094200"/>
                              <a:ext cx="90720" cy="47520"/>
                              <a:chOff x="5808600" y="3094200"/>
                              <a:chExt cx="90720" cy="47520"/>
                            </a:xfrm>
                          </p:grpSpPr>
                          <p:sp>
                            <p:nvSpPr>
                              <p:cNvPr id="1668" name=""/>
                              <p:cNvSpPr/>
                              <p:nvPr/>
                            </p:nvSpPr>
                            <p:spPr>
                              <a:xfrm>
                                <a:off x="5816520" y="3094200"/>
                                <a:ext cx="82800" cy="7920"/>
                              </a:xfrm>
                              <a:custGeom>
                                <a:avLst/>
                                <a:gdLst/>
                                <a:ahLst/>
                                <a:rect l="l" t="t" r="r" b="b"/>
                                <a:pathLst>
                                  <a:path w="52" h="5">
                                    <a:moveTo>
                                      <a:pt x="0" y="5"/>
                                    </a:moveTo>
                                    <a:lnTo>
                                      <a:pt x="27" y="0"/>
                                    </a:lnTo>
                                    <a:lnTo>
                                      <a:pt x="52" y="0"/>
                                    </a:lnTo>
                                  </a:path>
                                </a:pathLst>
                              </a:custGeom>
                              <a:noFill/>
                              <a:ln w="176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9" name=""/>
                              <p:cNvSpPr/>
                              <p:nvPr/>
                            </p:nvSpPr>
                            <p:spPr>
                              <a:xfrm>
                                <a:off x="5808600" y="3111840"/>
                                <a:ext cx="77760" cy="29880"/>
                              </a:xfrm>
                              <a:custGeom>
                                <a:avLst/>
                                <a:gdLst/>
                                <a:ahLst/>
                                <a:rect l="l" t="t" r="r" b="b"/>
                                <a:pathLst>
                                  <a:path w="49" h="19">
                                    <a:moveTo>
                                      <a:pt x="0" y="0"/>
                                    </a:moveTo>
                                    <a:lnTo>
                                      <a:pt x="14" y="4"/>
                                    </a:lnTo>
                                    <a:lnTo>
                                      <a:pt x="24" y="7"/>
                                    </a:lnTo>
                                    <a:lnTo>
                                      <a:pt x="29" y="12"/>
                                    </a:lnTo>
                                    <a:lnTo>
                                      <a:pt x="37" y="18"/>
                                    </a:lnTo>
                                    <a:lnTo>
                                      <a:pt x="49" y="19"/>
                                    </a:lnTo>
                                  </a:path>
                                </a:pathLst>
                              </a:custGeom>
                              <a:noFill/>
                              <a:ln w="176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670" name=""/>
                            <p:cNvSpPr/>
                            <p:nvPr/>
                          </p:nvSpPr>
                          <p:spPr>
                            <a:xfrm>
                              <a:off x="5786280" y="3165480"/>
                              <a:ext cx="90720" cy="24120"/>
                            </a:xfrm>
                            <a:custGeom>
                              <a:avLst/>
                              <a:gdLst/>
                              <a:ahLst/>
                              <a:rect l="l" t="t" r="r" b="b"/>
                              <a:pathLst>
                                <a:path w="57" h="15">
                                  <a:moveTo>
                                    <a:pt x="0" y="14"/>
                                  </a:moveTo>
                                  <a:lnTo>
                                    <a:pt x="11" y="10"/>
                                  </a:lnTo>
                                  <a:lnTo>
                                    <a:pt x="21" y="10"/>
                                  </a:lnTo>
                                  <a:lnTo>
                                    <a:pt x="30" y="13"/>
                                  </a:lnTo>
                                  <a:lnTo>
                                    <a:pt x="43" y="15"/>
                                  </a:lnTo>
                                  <a:lnTo>
                                    <a:pt x="51" y="14"/>
                                  </a:lnTo>
                                  <a:lnTo>
                                    <a:pt x="55" y="10"/>
                                  </a:lnTo>
                                  <a:lnTo>
                                    <a:pt x="57" y="5"/>
                                  </a:lnTo>
                                  <a:lnTo>
                                    <a:pt x="52" y="2"/>
                                  </a:lnTo>
                                  <a:lnTo>
                                    <a:pt x="47" y="0"/>
                                  </a:lnTo>
                                </a:path>
                              </a:pathLst>
                            </a:custGeom>
                            <a:noFill/>
                            <a:ln w="176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671" name=""/>
                          <p:cNvGrpSpPr/>
                          <p:nvPr/>
                        </p:nvGrpSpPr>
                        <p:grpSpPr>
                          <a:xfrm>
                            <a:off x="5959440" y="3165480"/>
                            <a:ext cx="127080" cy="65160"/>
                            <a:chOff x="5959440" y="3165480"/>
                            <a:chExt cx="127080" cy="65160"/>
                          </a:xfrm>
                        </p:grpSpPr>
                        <p:sp>
                          <p:nvSpPr>
                            <p:cNvPr id="1672" name=""/>
                            <p:cNvSpPr/>
                            <p:nvPr/>
                          </p:nvSpPr>
                          <p:spPr>
                            <a:xfrm flipH="1">
                              <a:off x="5995800" y="3189600"/>
                              <a:ext cx="34920" cy="19080"/>
                            </a:xfrm>
                            <a:prstGeom prst="line">
                              <a:avLst/>
                            </a:prstGeom>
                            <a:ln w="176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3" name=""/>
                            <p:cNvSpPr/>
                            <p:nvPr/>
                          </p:nvSpPr>
                          <p:spPr>
                            <a:xfrm>
                              <a:off x="5959440" y="3165480"/>
                              <a:ext cx="127080" cy="65160"/>
                            </a:xfrm>
                            <a:custGeom>
                              <a:avLst/>
                              <a:gdLst/>
                              <a:ahLst/>
                              <a:rect l="l" t="t" r="r" b="b"/>
                              <a:pathLst>
                                <a:path w="80" h="41">
                                  <a:moveTo>
                                    <a:pt x="33" y="4"/>
                                  </a:moveTo>
                                  <a:lnTo>
                                    <a:pt x="42" y="1"/>
                                  </a:lnTo>
                                  <a:lnTo>
                                    <a:pt x="53" y="0"/>
                                  </a:lnTo>
                                  <a:lnTo>
                                    <a:pt x="64" y="2"/>
                                  </a:lnTo>
                                  <a:lnTo>
                                    <a:pt x="72" y="6"/>
                                  </a:lnTo>
                                  <a:lnTo>
                                    <a:pt x="77" y="11"/>
                                  </a:lnTo>
                                  <a:lnTo>
                                    <a:pt x="80" y="18"/>
                                  </a:lnTo>
                                  <a:lnTo>
                                    <a:pt x="78" y="24"/>
                                  </a:lnTo>
                                  <a:lnTo>
                                    <a:pt x="66" y="30"/>
                                  </a:lnTo>
                                  <a:lnTo>
                                    <a:pt x="56" y="34"/>
                                  </a:lnTo>
                                  <a:lnTo>
                                    <a:pt x="42" y="37"/>
                                  </a:lnTo>
                                  <a:lnTo>
                                    <a:pt x="25" y="39"/>
                                  </a:lnTo>
                                  <a:lnTo>
                                    <a:pt x="11" y="41"/>
                                  </a:lnTo>
                                  <a:lnTo>
                                    <a:pt x="0" y="38"/>
                                  </a:lnTo>
                                  <a:lnTo>
                                    <a:pt x="0" y="32"/>
                                  </a:lnTo>
                                </a:path>
                              </a:pathLst>
                            </a:custGeom>
                            <a:noFill/>
                            <a:ln w="176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grpSp>
                </p:grpSp>
                <p:grpSp>
                  <p:nvGrpSpPr>
                    <p:cNvPr id="1674" name=""/>
                    <p:cNvGrpSpPr/>
                    <p:nvPr/>
                  </p:nvGrpSpPr>
                  <p:grpSpPr>
                    <a:xfrm>
                      <a:off x="4960800" y="3268800"/>
                      <a:ext cx="995400" cy="550800"/>
                      <a:chOff x="4960800" y="3268800"/>
                      <a:chExt cx="995400" cy="550800"/>
                    </a:xfrm>
                  </p:grpSpPr>
                  <p:grpSp>
                    <p:nvGrpSpPr>
                      <p:cNvPr id="1675" name=""/>
                      <p:cNvGrpSpPr/>
                      <p:nvPr/>
                    </p:nvGrpSpPr>
                    <p:grpSpPr>
                      <a:xfrm>
                        <a:off x="4960800" y="3437280"/>
                        <a:ext cx="736560" cy="382320"/>
                        <a:chOff x="4960800" y="3437280"/>
                        <a:chExt cx="736560" cy="382320"/>
                      </a:xfrm>
                    </p:grpSpPr>
                    <p:grpSp>
                      <p:nvGrpSpPr>
                        <p:cNvPr id="1676" name=""/>
                        <p:cNvGrpSpPr/>
                        <p:nvPr/>
                      </p:nvGrpSpPr>
                      <p:grpSpPr>
                        <a:xfrm>
                          <a:off x="4960800" y="3544920"/>
                          <a:ext cx="268560" cy="273240"/>
                          <a:chOff x="4960800" y="3544920"/>
                          <a:chExt cx="268560" cy="273240"/>
                        </a:xfrm>
                      </p:grpSpPr>
                      <p:grpSp>
                        <p:nvGrpSpPr>
                          <p:cNvPr id="1677" name=""/>
                          <p:cNvGrpSpPr/>
                          <p:nvPr/>
                        </p:nvGrpSpPr>
                        <p:grpSpPr>
                          <a:xfrm>
                            <a:off x="4960800" y="3544920"/>
                            <a:ext cx="268560" cy="273240"/>
                            <a:chOff x="4960800" y="3544920"/>
                            <a:chExt cx="268560" cy="273240"/>
                          </a:xfrm>
                        </p:grpSpPr>
                        <p:sp>
                          <p:nvSpPr>
                            <p:cNvPr id="1678" name=""/>
                            <p:cNvSpPr/>
                            <p:nvPr/>
                          </p:nvSpPr>
                          <p:spPr>
                            <a:xfrm>
                              <a:off x="4960800" y="3544920"/>
                              <a:ext cx="268560" cy="273240"/>
                            </a:xfrm>
                            <a:custGeom>
                              <a:avLst/>
                              <a:gdLst/>
                              <a:ahLst/>
                              <a:rect l="l" t="t" r="r" b="b"/>
                              <a:pathLst>
                                <a:path w="169" h="172">
                                  <a:moveTo>
                                    <a:pt x="169" y="98"/>
                                  </a:moveTo>
                                  <a:lnTo>
                                    <a:pt x="146" y="46"/>
                                  </a:lnTo>
                                  <a:lnTo>
                                    <a:pt x="129" y="31"/>
                                  </a:lnTo>
                                  <a:lnTo>
                                    <a:pt x="80" y="0"/>
                                  </a:lnTo>
                                  <a:lnTo>
                                    <a:pt x="47" y="4"/>
                                  </a:lnTo>
                                  <a:lnTo>
                                    <a:pt x="70" y="73"/>
                                  </a:lnTo>
                                  <a:lnTo>
                                    <a:pt x="34" y="44"/>
                                  </a:lnTo>
                                  <a:lnTo>
                                    <a:pt x="0" y="56"/>
                                  </a:lnTo>
                                  <a:lnTo>
                                    <a:pt x="12" y="103"/>
                                  </a:lnTo>
                                  <a:lnTo>
                                    <a:pt x="58" y="165"/>
                                  </a:lnTo>
                                  <a:lnTo>
                                    <a:pt x="89" y="172"/>
                                  </a:lnTo>
                                  <a:lnTo>
                                    <a:pt x="136" y="121"/>
                                  </a:lnTo>
                                  <a:lnTo>
                                    <a:pt x="169" y="98"/>
                                  </a:lnTo>
                                  <a:close/>
                                </a:path>
                              </a:pathLst>
                            </a:custGeom>
                            <a:solidFill>
                              <a:srgbClr val="fffff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5072040" y="3660840"/>
                              <a:ext cx="108000" cy="76320"/>
                            </a:xfrm>
                            <a:custGeom>
                              <a:avLst/>
                              <a:gdLst/>
                              <a:ahLst/>
                              <a:rect l="l" t="t" r="r" b="b"/>
                              <a:pathLst>
                                <a:path w="68" h="48">
                                  <a:moveTo>
                                    <a:pt x="0" y="0"/>
                                  </a:moveTo>
                                  <a:lnTo>
                                    <a:pt x="29" y="48"/>
                                  </a:lnTo>
                                  <a:lnTo>
                                    <a:pt x="68" y="48"/>
                                  </a:lnTo>
                                </a:path>
                              </a:pathLst>
                            </a:custGeom>
                            <a:noFill/>
                            <a:ln w="176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80" name=""/>
                          <p:cNvGrpSpPr/>
                          <p:nvPr/>
                        </p:nvGrpSpPr>
                        <p:grpSpPr>
                          <a:xfrm>
                            <a:off x="4984920" y="3557880"/>
                            <a:ext cx="217440" cy="239760"/>
                            <a:chOff x="4984920" y="3557880"/>
                            <a:chExt cx="217440" cy="239760"/>
                          </a:xfrm>
                        </p:grpSpPr>
                        <p:sp>
                          <p:nvSpPr>
                            <p:cNvPr id="1681" name=""/>
                            <p:cNvSpPr/>
                            <p:nvPr/>
                          </p:nvSpPr>
                          <p:spPr>
                            <a:xfrm flipH="1">
                              <a:off x="5113080" y="3575160"/>
                              <a:ext cx="11160" cy="22320"/>
                            </a:xfrm>
                            <a:prstGeom prst="line">
                              <a:avLst/>
                            </a:prstGeom>
                            <a:ln w="17640">
                              <a:solidFill>
                                <a:srgbClr val="0000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82" name=""/>
                            <p:cNvSpPr/>
                            <p:nvPr/>
                          </p:nvSpPr>
                          <p:spPr>
                            <a:xfrm flipH="1">
                              <a:off x="5159520" y="3602160"/>
                              <a:ext cx="10800" cy="36720"/>
                            </a:xfrm>
                            <a:prstGeom prst="line">
                              <a:avLst/>
                            </a:prstGeom>
                            <a:ln w="17640">
                              <a:solidFill>
                                <a:srgbClr val="0000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83" name=""/>
                            <p:cNvSpPr/>
                            <p:nvPr/>
                          </p:nvSpPr>
                          <p:spPr>
                            <a:xfrm>
                              <a:off x="5176800" y="3659400"/>
                              <a:ext cx="25560" cy="44280"/>
                            </a:xfrm>
                            <a:prstGeom prst="line">
                              <a:avLst/>
                            </a:prstGeom>
                            <a:ln w="17640">
                              <a:solidFill>
                                <a:srgbClr val="0000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84" name=""/>
                            <p:cNvSpPr/>
                            <p:nvPr/>
                          </p:nvSpPr>
                          <p:spPr>
                            <a:xfrm>
                              <a:off x="5067360" y="3557880"/>
                              <a:ext cx="81000" cy="172800"/>
                            </a:xfrm>
                            <a:custGeom>
                              <a:avLst/>
                              <a:gdLst/>
                              <a:ahLst/>
                              <a:rect l="l" t="t" r="r" b="b"/>
                              <a:pathLst>
                                <a:path w="51" h="109">
                                  <a:moveTo>
                                    <a:pt x="0" y="0"/>
                                  </a:moveTo>
                                  <a:lnTo>
                                    <a:pt x="22" y="63"/>
                                  </a:lnTo>
                                  <a:lnTo>
                                    <a:pt x="51" y="109"/>
                                  </a:lnTo>
                                </a:path>
                              </a:pathLst>
                            </a:custGeom>
                            <a:noFill/>
                            <a:ln w="176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flipH="1">
                              <a:off x="5035320" y="3645000"/>
                              <a:ext cx="12600" cy="23760"/>
                            </a:xfrm>
                            <a:prstGeom prst="line">
                              <a:avLst/>
                            </a:prstGeom>
                            <a:ln w="17640">
                              <a:solidFill>
                                <a:srgbClr val="0000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86" name=""/>
                            <p:cNvSpPr/>
                            <p:nvPr/>
                          </p:nvSpPr>
                          <p:spPr>
                            <a:xfrm flipH="1">
                              <a:off x="5065560" y="3668760"/>
                              <a:ext cx="6480" cy="42840"/>
                            </a:xfrm>
                            <a:prstGeom prst="line">
                              <a:avLst/>
                            </a:prstGeom>
                            <a:ln w="17640">
                              <a:solidFill>
                                <a:srgbClr val="00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7" name=""/>
                            <p:cNvSpPr/>
                            <p:nvPr/>
                          </p:nvSpPr>
                          <p:spPr>
                            <a:xfrm>
                              <a:off x="5092560" y="3738600"/>
                              <a:ext cx="47880" cy="17640"/>
                            </a:xfrm>
                            <a:custGeom>
                              <a:avLst/>
                              <a:gdLst/>
                              <a:ahLst/>
                              <a:rect l="l" t="t" r="r" b="b"/>
                              <a:pathLst>
                                <a:path w="30" h="11">
                                  <a:moveTo>
                                    <a:pt x="0" y="0"/>
                                  </a:moveTo>
                                  <a:lnTo>
                                    <a:pt x="16" y="11"/>
                                  </a:lnTo>
                                  <a:lnTo>
                                    <a:pt x="30" y="11"/>
                                  </a:lnTo>
                                </a:path>
                              </a:pathLst>
                            </a:custGeom>
                            <a:noFill/>
                            <a:ln w="17640">
                              <a:solidFill>
                                <a:srgbClr val="0000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8" name=""/>
                            <p:cNvSpPr/>
                            <p:nvPr/>
                          </p:nvSpPr>
                          <p:spPr>
                            <a:xfrm>
                              <a:off x="4984920" y="3632400"/>
                              <a:ext cx="122040" cy="165240"/>
                            </a:xfrm>
                            <a:custGeom>
                              <a:avLst/>
                              <a:gdLst/>
                              <a:ahLst/>
                              <a:rect l="l" t="t" r="r" b="b"/>
                              <a:pathLst>
                                <a:path w="77" h="104">
                                  <a:moveTo>
                                    <a:pt x="0" y="0"/>
                                  </a:moveTo>
                                  <a:lnTo>
                                    <a:pt x="13" y="44"/>
                                  </a:lnTo>
                                  <a:lnTo>
                                    <a:pt x="55" y="99"/>
                                  </a:lnTo>
                                  <a:lnTo>
                                    <a:pt x="77" y="104"/>
                                  </a:lnTo>
                                </a:path>
                              </a:pathLst>
                            </a:custGeom>
                            <a:noFill/>
                            <a:ln w="176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89" name=""/>
                        <p:cNvGrpSpPr/>
                        <p:nvPr/>
                      </p:nvGrpSpPr>
                      <p:grpSpPr>
                        <a:xfrm>
                          <a:off x="5106960" y="3437280"/>
                          <a:ext cx="590400" cy="382320"/>
                          <a:chOff x="5106960" y="3437280"/>
                          <a:chExt cx="590400" cy="382320"/>
                        </a:xfrm>
                      </p:grpSpPr>
                      <p:sp>
                        <p:nvSpPr>
                          <p:cNvPr id="1690" name=""/>
                          <p:cNvSpPr/>
                          <p:nvPr/>
                        </p:nvSpPr>
                        <p:spPr>
                          <a:xfrm>
                            <a:off x="5106960" y="3437280"/>
                            <a:ext cx="590400" cy="382320"/>
                          </a:xfrm>
                          <a:custGeom>
                            <a:avLst/>
                            <a:gdLst/>
                            <a:ahLst/>
                            <a:rect l="l" t="t" r="r" b="b"/>
                            <a:pathLst>
                              <a:path w="372" h="241">
                                <a:moveTo>
                                  <a:pt x="38" y="154"/>
                                </a:moveTo>
                                <a:lnTo>
                                  <a:pt x="27" y="176"/>
                                </a:lnTo>
                                <a:lnTo>
                                  <a:pt x="0" y="241"/>
                                </a:lnTo>
                                <a:lnTo>
                                  <a:pt x="148" y="130"/>
                                </a:lnTo>
                                <a:lnTo>
                                  <a:pt x="167" y="117"/>
                                </a:lnTo>
                                <a:lnTo>
                                  <a:pt x="252" y="87"/>
                                </a:lnTo>
                                <a:lnTo>
                                  <a:pt x="272" y="71"/>
                                </a:lnTo>
                                <a:lnTo>
                                  <a:pt x="299" y="77"/>
                                </a:lnTo>
                                <a:lnTo>
                                  <a:pt x="320" y="81"/>
                                </a:lnTo>
                                <a:lnTo>
                                  <a:pt x="337" y="79"/>
                                </a:lnTo>
                                <a:lnTo>
                                  <a:pt x="356" y="72"/>
                                </a:lnTo>
                                <a:lnTo>
                                  <a:pt x="372" y="59"/>
                                </a:lnTo>
                                <a:lnTo>
                                  <a:pt x="296" y="0"/>
                                </a:lnTo>
                                <a:lnTo>
                                  <a:pt x="272" y="1"/>
                                </a:lnTo>
                                <a:lnTo>
                                  <a:pt x="247" y="7"/>
                                </a:lnTo>
                                <a:lnTo>
                                  <a:pt x="227" y="6"/>
                                </a:lnTo>
                                <a:lnTo>
                                  <a:pt x="205" y="8"/>
                                </a:lnTo>
                                <a:lnTo>
                                  <a:pt x="191" y="10"/>
                                </a:lnTo>
                                <a:lnTo>
                                  <a:pt x="175" y="5"/>
                                </a:lnTo>
                                <a:lnTo>
                                  <a:pt x="161" y="4"/>
                                </a:lnTo>
                                <a:lnTo>
                                  <a:pt x="144" y="7"/>
                                </a:lnTo>
                                <a:lnTo>
                                  <a:pt x="134" y="14"/>
                                </a:lnTo>
                                <a:lnTo>
                                  <a:pt x="129" y="23"/>
                                </a:lnTo>
                                <a:lnTo>
                                  <a:pt x="131" y="35"/>
                                </a:lnTo>
                                <a:lnTo>
                                  <a:pt x="101" y="48"/>
                                </a:lnTo>
                                <a:lnTo>
                                  <a:pt x="71" y="61"/>
                                </a:lnTo>
                                <a:lnTo>
                                  <a:pt x="30" y="90"/>
                                </a:lnTo>
                                <a:lnTo>
                                  <a:pt x="38" y="154"/>
                                </a:lnTo>
                                <a:close/>
                              </a:path>
                            </a:pathLst>
                          </a:custGeom>
                          <a:solidFill>
                            <a:srgbClr val="ff7f3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5170320" y="3532320"/>
                            <a:ext cx="368640" cy="157320"/>
                          </a:xfrm>
                          <a:custGeom>
                            <a:avLst/>
                            <a:gdLst/>
                            <a:ahLst/>
                            <a:rect l="l" t="t" r="r" b="b"/>
                            <a:pathLst>
                              <a:path w="232" h="99">
                                <a:moveTo>
                                  <a:pt x="0" y="99"/>
                                </a:moveTo>
                                <a:lnTo>
                                  <a:pt x="78" y="55"/>
                                </a:lnTo>
                                <a:lnTo>
                                  <a:pt x="149" y="0"/>
                                </a:lnTo>
                                <a:lnTo>
                                  <a:pt x="232" y="11"/>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92" name=""/>
                      <p:cNvGrpSpPr/>
                      <p:nvPr/>
                    </p:nvGrpSpPr>
                    <p:grpSpPr>
                      <a:xfrm>
                        <a:off x="5486400" y="3268800"/>
                        <a:ext cx="469800" cy="281160"/>
                        <a:chOff x="5486400" y="3268800"/>
                        <a:chExt cx="469800" cy="281160"/>
                      </a:xfrm>
                    </p:grpSpPr>
                    <p:sp>
                      <p:nvSpPr>
                        <p:cNvPr id="1693" name=""/>
                        <p:cNvSpPr/>
                        <p:nvPr/>
                      </p:nvSpPr>
                      <p:spPr>
                        <a:xfrm>
                          <a:off x="5486400" y="3268800"/>
                          <a:ext cx="469800" cy="281160"/>
                        </a:xfrm>
                        <a:custGeom>
                          <a:avLst/>
                          <a:gdLst/>
                          <a:ahLst/>
                          <a:rect l="l" t="t" r="r" b="b"/>
                          <a:pathLst>
                            <a:path w="296" h="177">
                              <a:moveTo>
                                <a:pt x="164" y="0"/>
                              </a:moveTo>
                              <a:lnTo>
                                <a:pt x="178" y="24"/>
                              </a:lnTo>
                              <a:lnTo>
                                <a:pt x="224" y="11"/>
                              </a:lnTo>
                              <a:lnTo>
                                <a:pt x="296" y="30"/>
                              </a:lnTo>
                              <a:lnTo>
                                <a:pt x="296" y="64"/>
                              </a:lnTo>
                              <a:lnTo>
                                <a:pt x="258" y="64"/>
                              </a:lnTo>
                              <a:lnTo>
                                <a:pt x="260" y="85"/>
                              </a:lnTo>
                              <a:lnTo>
                                <a:pt x="265" y="101"/>
                              </a:lnTo>
                              <a:lnTo>
                                <a:pt x="263" y="116"/>
                              </a:lnTo>
                              <a:lnTo>
                                <a:pt x="258" y="129"/>
                              </a:lnTo>
                              <a:lnTo>
                                <a:pt x="251" y="141"/>
                              </a:lnTo>
                              <a:lnTo>
                                <a:pt x="236" y="149"/>
                              </a:lnTo>
                              <a:lnTo>
                                <a:pt x="189" y="167"/>
                              </a:lnTo>
                              <a:lnTo>
                                <a:pt x="133" y="164"/>
                              </a:lnTo>
                              <a:lnTo>
                                <a:pt x="128" y="177"/>
                              </a:lnTo>
                              <a:lnTo>
                                <a:pt x="104" y="168"/>
                              </a:lnTo>
                              <a:lnTo>
                                <a:pt x="90" y="154"/>
                              </a:lnTo>
                              <a:lnTo>
                                <a:pt x="73" y="134"/>
                              </a:lnTo>
                              <a:lnTo>
                                <a:pt x="57" y="116"/>
                              </a:lnTo>
                              <a:lnTo>
                                <a:pt x="46" y="112"/>
                              </a:lnTo>
                              <a:lnTo>
                                <a:pt x="56" y="102"/>
                              </a:lnTo>
                              <a:lnTo>
                                <a:pt x="71" y="96"/>
                              </a:lnTo>
                              <a:lnTo>
                                <a:pt x="90" y="89"/>
                              </a:lnTo>
                              <a:lnTo>
                                <a:pt x="38" y="72"/>
                              </a:lnTo>
                              <a:lnTo>
                                <a:pt x="0" y="51"/>
                              </a:lnTo>
                              <a:lnTo>
                                <a:pt x="137" y="34"/>
                              </a:lnTo>
                              <a:lnTo>
                                <a:pt x="90" y="23"/>
                              </a:lnTo>
                              <a:lnTo>
                                <a:pt x="164" y="0"/>
                              </a:lnTo>
                              <a:close/>
                            </a:path>
                          </a:pathLst>
                        </a:custGeom>
                        <a:solidFill>
                          <a:srgbClr val="7f00d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4" name=""/>
                        <p:cNvGrpSpPr/>
                        <p:nvPr/>
                      </p:nvGrpSpPr>
                      <p:grpSpPr>
                        <a:xfrm>
                          <a:off x="5691240" y="3305520"/>
                          <a:ext cx="102960" cy="218880"/>
                          <a:chOff x="5691240" y="3305520"/>
                          <a:chExt cx="102960" cy="218880"/>
                        </a:xfrm>
                      </p:grpSpPr>
                      <p:sp>
                        <p:nvSpPr>
                          <p:cNvPr id="1695" name=""/>
                          <p:cNvSpPr/>
                          <p:nvPr/>
                        </p:nvSpPr>
                        <p:spPr>
                          <a:xfrm>
                            <a:off x="5751360" y="3365640"/>
                            <a:ext cx="42840" cy="90360"/>
                          </a:xfrm>
                          <a:custGeom>
                            <a:avLst/>
                            <a:gdLst/>
                            <a:ahLst/>
                            <a:rect l="l" t="t" r="r" b="b"/>
                            <a:pathLst>
                              <a:path w="27" h="57">
                                <a:moveTo>
                                  <a:pt x="0" y="46"/>
                                </a:moveTo>
                                <a:lnTo>
                                  <a:pt x="8" y="57"/>
                                </a:lnTo>
                                <a:lnTo>
                                  <a:pt x="27" y="0"/>
                                </a:lnTo>
                              </a:path>
                            </a:pathLst>
                          </a:custGeom>
                          <a:noFill/>
                          <a:ln w="176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6" name=""/>
                          <p:cNvSpPr/>
                          <p:nvPr/>
                        </p:nvSpPr>
                        <p:spPr>
                          <a:xfrm>
                            <a:off x="5691240" y="3454560"/>
                            <a:ext cx="612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7" name=""/>
                          <p:cNvSpPr/>
                          <p:nvPr/>
                        </p:nvSpPr>
                        <p:spPr>
                          <a:xfrm flipV="1">
                            <a:off x="5707080" y="3305520"/>
                            <a:ext cx="4428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grpSp>
              </p:grpSp>
              <p:grpSp>
                <p:nvGrpSpPr>
                  <p:cNvPr id="1698" name=""/>
                  <p:cNvGrpSpPr/>
                  <p:nvPr/>
                </p:nvGrpSpPr>
                <p:grpSpPr>
                  <a:xfrm>
                    <a:off x="5027760" y="3090960"/>
                    <a:ext cx="879480" cy="362160"/>
                    <a:chOff x="5027760" y="3090960"/>
                    <a:chExt cx="879480" cy="362160"/>
                  </a:xfrm>
                </p:grpSpPr>
                <p:grpSp>
                  <p:nvGrpSpPr>
                    <p:cNvPr id="1699" name=""/>
                    <p:cNvGrpSpPr/>
                    <p:nvPr/>
                  </p:nvGrpSpPr>
                  <p:grpSpPr>
                    <a:xfrm>
                      <a:off x="5027760" y="3090960"/>
                      <a:ext cx="879480" cy="327240"/>
                      <a:chOff x="5027760" y="3090960"/>
                      <a:chExt cx="879480" cy="327240"/>
                    </a:xfrm>
                  </p:grpSpPr>
                  <p:sp>
                    <p:nvSpPr>
                      <p:cNvPr id="1700" name=""/>
                      <p:cNvSpPr/>
                      <p:nvPr/>
                    </p:nvSpPr>
                    <p:spPr>
                      <a:xfrm>
                        <a:off x="5259240" y="3341880"/>
                        <a:ext cx="648000" cy="76320"/>
                      </a:xfrm>
                      <a:custGeom>
                        <a:avLst/>
                        <a:gdLst/>
                        <a:ahLst/>
                        <a:rect l="l" t="t" r="r" b="b"/>
                        <a:pathLst>
                          <a:path w="408" h="48">
                            <a:moveTo>
                              <a:pt x="408" y="38"/>
                            </a:moveTo>
                            <a:lnTo>
                              <a:pt x="7" y="0"/>
                            </a:lnTo>
                            <a:lnTo>
                              <a:pt x="2" y="2"/>
                            </a:lnTo>
                            <a:lnTo>
                              <a:pt x="0" y="7"/>
                            </a:lnTo>
                            <a:lnTo>
                              <a:pt x="5" y="12"/>
                            </a:lnTo>
                            <a:lnTo>
                              <a:pt x="408" y="48"/>
                            </a:lnTo>
                            <a:lnTo>
                              <a:pt x="408" y="3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1" name=""/>
                      <p:cNvSpPr/>
                      <p:nvPr/>
                    </p:nvSpPr>
                    <p:spPr>
                      <a:xfrm>
                        <a:off x="5027760" y="3090960"/>
                        <a:ext cx="242640" cy="265320"/>
                      </a:xfrm>
                      <a:custGeom>
                        <a:avLst/>
                        <a:gdLst/>
                        <a:ahLst/>
                        <a:rect l="l" t="t" r="r" b="b"/>
                        <a:pathLst>
                          <a:path w="153" h="167">
                            <a:moveTo>
                              <a:pt x="153" y="165"/>
                            </a:moveTo>
                            <a:lnTo>
                              <a:pt x="120" y="167"/>
                            </a:lnTo>
                            <a:lnTo>
                              <a:pt x="91" y="163"/>
                            </a:lnTo>
                            <a:lnTo>
                              <a:pt x="68" y="158"/>
                            </a:lnTo>
                            <a:lnTo>
                              <a:pt x="43" y="153"/>
                            </a:lnTo>
                            <a:lnTo>
                              <a:pt x="32" y="149"/>
                            </a:lnTo>
                            <a:lnTo>
                              <a:pt x="16" y="143"/>
                            </a:lnTo>
                            <a:lnTo>
                              <a:pt x="5" y="137"/>
                            </a:lnTo>
                            <a:lnTo>
                              <a:pt x="0" y="132"/>
                            </a:lnTo>
                            <a:lnTo>
                              <a:pt x="2" y="127"/>
                            </a:lnTo>
                            <a:lnTo>
                              <a:pt x="13" y="121"/>
                            </a:lnTo>
                            <a:lnTo>
                              <a:pt x="25" y="115"/>
                            </a:lnTo>
                            <a:lnTo>
                              <a:pt x="44" y="112"/>
                            </a:lnTo>
                            <a:lnTo>
                              <a:pt x="66" y="110"/>
                            </a:lnTo>
                            <a:lnTo>
                              <a:pt x="76" y="103"/>
                            </a:lnTo>
                            <a:lnTo>
                              <a:pt x="83" y="97"/>
                            </a:lnTo>
                            <a:lnTo>
                              <a:pt x="93" y="92"/>
                            </a:lnTo>
                            <a:lnTo>
                              <a:pt x="105" y="88"/>
                            </a:lnTo>
                            <a:lnTo>
                              <a:pt x="109" y="82"/>
                            </a:lnTo>
                            <a:lnTo>
                              <a:pt x="105" y="76"/>
                            </a:lnTo>
                            <a:lnTo>
                              <a:pt x="98" y="74"/>
                            </a:lnTo>
                            <a:lnTo>
                              <a:pt x="80" y="72"/>
                            </a:lnTo>
                            <a:lnTo>
                              <a:pt x="57" y="74"/>
                            </a:lnTo>
                            <a:lnTo>
                              <a:pt x="44" y="72"/>
                            </a:lnTo>
                            <a:lnTo>
                              <a:pt x="27" y="67"/>
                            </a:lnTo>
                            <a:lnTo>
                              <a:pt x="21" y="63"/>
                            </a:lnTo>
                            <a:lnTo>
                              <a:pt x="19" y="56"/>
                            </a:lnTo>
                            <a:lnTo>
                              <a:pt x="21" y="49"/>
                            </a:lnTo>
                            <a:lnTo>
                              <a:pt x="28" y="41"/>
                            </a:lnTo>
                            <a:lnTo>
                              <a:pt x="32" y="32"/>
                            </a:lnTo>
                            <a:lnTo>
                              <a:pt x="30" y="23"/>
                            </a:lnTo>
                            <a:lnTo>
                              <a:pt x="22" y="14"/>
                            </a:lnTo>
                            <a:lnTo>
                              <a:pt x="14" y="6"/>
                            </a:lnTo>
                            <a:lnTo>
                              <a:pt x="2"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2" name=""/>
                    <p:cNvGrpSpPr/>
                    <p:nvPr/>
                  </p:nvGrpSpPr>
                  <p:grpSpPr>
                    <a:xfrm>
                      <a:off x="5394240" y="3322800"/>
                      <a:ext cx="357120" cy="130320"/>
                      <a:chOff x="5394240" y="3322800"/>
                      <a:chExt cx="357120" cy="130320"/>
                    </a:xfrm>
                  </p:grpSpPr>
                  <p:grpSp>
                    <p:nvGrpSpPr>
                      <p:cNvPr id="1703" name=""/>
                      <p:cNvGrpSpPr/>
                      <p:nvPr/>
                    </p:nvGrpSpPr>
                    <p:grpSpPr>
                      <a:xfrm>
                        <a:off x="5564160" y="3346560"/>
                        <a:ext cx="187200" cy="106560"/>
                        <a:chOff x="5564160" y="3346560"/>
                        <a:chExt cx="187200" cy="106560"/>
                      </a:xfrm>
                    </p:grpSpPr>
                    <p:sp>
                      <p:nvSpPr>
                        <p:cNvPr id="1704" name=""/>
                        <p:cNvSpPr/>
                        <p:nvPr/>
                      </p:nvSpPr>
                      <p:spPr>
                        <a:xfrm>
                          <a:off x="5564160" y="3346560"/>
                          <a:ext cx="187200" cy="106560"/>
                        </a:xfrm>
                        <a:custGeom>
                          <a:avLst/>
                          <a:gdLst/>
                          <a:ahLst/>
                          <a:rect l="l" t="t" r="r" b="b"/>
                          <a:pathLst>
                            <a:path w="118" h="67">
                              <a:moveTo>
                                <a:pt x="77" y="67"/>
                              </a:moveTo>
                              <a:lnTo>
                                <a:pt x="118" y="55"/>
                              </a:lnTo>
                              <a:lnTo>
                                <a:pt x="112" y="36"/>
                              </a:lnTo>
                              <a:lnTo>
                                <a:pt x="104" y="18"/>
                              </a:lnTo>
                              <a:lnTo>
                                <a:pt x="93" y="9"/>
                              </a:lnTo>
                              <a:lnTo>
                                <a:pt x="77" y="2"/>
                              </a:lnTo>
                              <a:lnTo>
                                <a:pt x="63" y="0"/>
                              </a:lnTo>
                              <a:lnTo>
                                <a:pt x="47" y="0"/>
                              </a:lnTo>
                              <a:lnTo>
                                <a:pt x="33" y="1"/>
                              </a:lnTo>
                              <a:lnTo>
                                <a:pt x="18" y="5"/>
                              </a:lnTo>
                              <a:lnTo>
                                <a:pt x="8" y="10"/>
                              </a:lnTo>
                              <a:lnTo>
                                <a:pt x="2" y="16"/>
                              </a:lnTo>
                              <a:lnTo>
                                <a:pt x="0" y="24"/>
                              </a:lnTo>
                              <a:lnTo>
                                <a:pt x="3" y="33"/>
                              </a:lnTo>
                              <a:lnTo>
                                <a:pt x="13" y="40"/>
                              </a:lnTo>
                              <a:lnTo>
                                <a:pt x="30" y="41"/>
                              </a:lnTo>
                              <a:lnTo>
                                <a:pt x="51" y="42"/>
                              </a:lnTo>
                              <a:lnTo>
                                <a:pt x="66" y="42"/>
                              </a:lnTo>
                              <a:lnTo>
                                <a:pt x="69" y="41"/>
                              </a:lnTo>
                              <a:lnTo>
                                <a:pt x="77" y="67"/>
                              </a:lnTo>
                              <a:close/>
                            </a:path>
                          </a:pathLst>
                        </a:custGeom>
                        <a:solidFill>
                          <a:srgbClr val="ffbf5f"/>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flipV="1">
                          <a:off x="5672160" y="3396960"/>
                          <a:ext cx="19080" cy="9720"/>
                        </a:xfrm>
                        <a:prstGeom prst="line">
                          <a:avLst/>
                        </a:prstGeom>
                        <a:ln w="176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1706" name=""/>
                      <p:cNvGrpSpPr/>
                      <p:nvPr/>
                    </p:nvGrpSpPr>
                    <p:grpSpPr>
                      <a:xfrm>
                        <a:off x="5394240" y="3322800"/>
                        <a:ext cx="162000" cy="82440"/>
                        <a:chOff x="5394240" y="3322800"/>
                        <a:chExt cx="162000" cy="82440"/>
                      </a:xfrm>
                    </p:grpSpPr>
                    <p:sp>
                      <p:nvSpPr>
                        <p:cNvPr id="1707" name=""/>
                        <p:cNvSpPr/>
                        <p:nvPr/>
                      </p:nvSpPr>
                      <p:spPr>
                        <a:xfrm>
                          <a:off x="5394240" y="3322800"/>
                          <a:ext cx="162000" cy="82440"/>
                        </a:xfrm>
                        <a:custGeom>
                          <a:avLst/>
                          <a:gdLst/>
                          <a:ahLst/>
                          <a:rect l="l" t="t" r="r" b="b"/>
                          <a:pathLst>
                            <a:path w="102" h="52">
                              <a:moveTo>
                                <a:pt x="10" y="0"/>
                              </a:moveTo>
                              <a:lnTo>
                                <a:pt x="2" y="4"/>
                              </a:lnTo>
                              <a:lnTo>
                                <a:pt x="0" y="8"/>
                              </a:lnTo>
                              <a:lnTo>
                                <a:pt x="2" y="12"/>
                              </a:lnTo>
                              <a:lnTo>
                                <a:pt x="7" y="16"/>
                              </a:lnTo>
                              <a:lnTo>
                                <a:pt x="7" y="27"/>
                              </a:lnTo>
                              <a:lnTo>
                                <a:pt x="10" y="42"/>
                              </a:lnTo>
                              <a:lnTo>
                                <a:pt x="13" y="48"/>
                              </a:lnTo>
                              <a:lnTo>
                                <a:pt x="21" y="50"/>
                              </a:lnTo>
                              <a:lnTo>
                                <a:pt x="27" y="48"/>
                              </a:lnTo>
                              <a:lnTo>
                                <a:pt x="33" y="43"/>
                              </a:lnTo>
                              <a:lnTo>
                                <a:pt x="43" y="45"/>
                              </a:lnTo>
                              <a:lnTo>
                                <a:pt x="44" y="50"/>
                              </a:lnTo>
                              <a:lnTo>
                                <a:pt x="51" y="52"/>
                              </a:lnTo>
                              <a:lnTo>
                                <a:pt x="57" y="51"/>
                              </a:lnTo>
                              <a:lnTo>
                                <a:pt x="60" y="51"/>
                              </a:lnTo>
                              <a:lnTo>
                                <a:pt x="63" y="52"/>
                              </a:lnTo>
                              <a:lnTo>
                                <a:pt x="71" y="52"/>
                              </a:lnTo>
                              <a:lnTo>
                                <a:pt x="76" y="50"/>
                              </a:lnTo>
                              <a:lnTo>
                                <a:pt x="84" y="52"/>
                              </a:lnTo>
                              <a:lnTo>
                                <a:pt x="91" y="50"/>
                              </a:lnTo>
                              <a:lnTo>
                                <a:pt x="96" y="45"/>
                              </a:lnTo>
                              <a:lnTo>
                                <a:pt x="96" y="34"/>
                              </a:lnTo>
                              <a:lnTo>
                                <a:pt x="102" y="16"/>
                              </a:lnTo>
                              <a:lnTo>
                                <a:pt x="96" y="9"/>
                              </a:lnTo>
                              <a:lnTo>
                                <a:pt x="88" y="3"/>
                              </a:lnTo>
                              <a:lnTo>
                                <a:pt x="80" y="2"/>
                              </a:lnTo>
                              <a:lnTo>
                                <a:pt x="73" y="4"/>
                              </a:lnTo>
                              <a:lnTo>
                                <a:pt x="68" y="9"/>
                              </a:lnTo>
                              <a:lnTo>
                                <a:pt x="63" y="5"/>
                              </a:lnTo>
                              <a:lnTo>
                                <a:pt x="58" y="3"/>
                              </a:lnTo>
                              <a:lnTo>
                                <a:pt x="52" y="2"/>
                              </a:lnTo>
                              <a:lnTo>
                                <a:pt x="44" y="4"/>
                              </a:lnTo>
                              <a:lnTo>
                                <a:pt x="43" y="8"/>
                              </a:lnTo>
                              <a:lnTo>
                                <a:pt x="40" y="5"/>
                              </a:lnTo>
                              <a:lnTo>
                                <a:pt x="35" y="3"/>
                              </a:lnTo>
                              <a:lnTo>
                                <a:pt x="30" y="3"/>
                              </a:lnTo>
                              <a:lnTo>
                                <a:pt x="25" y="5"/>
                              </a:lnTo>
                              <a:lnTo>
                                <a:pt x="18" y="1"/>
                              </a:lnTo>
                              <a:lnTo>
                                <a:pt x="10" y="0"/>
                              </a:lnTo>
                              <a:close/>
                            </a:path>
                          </a:pathLst>
                        </a:custGeom>
                        <a:solidFill>
                          <a:srgbClr val="ffbf7f"/>
                        </a:solidFill>
                        <a:ln w="176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8" name=""/>
                        <p:cNvSpPr/>
                        <p:nvPr/>
                      </p:nvSpPr>
                      <p:spPr>
                        <a:xfrm>
                          <a:off x="5494320" y="3341880"/>
                          <a:ext cx="9720" cy="47520"/>
                        </a:xfrm>
                        <a:prstGeom prst="line">
                          <a:avLst/>
                        </a:prstGeom>
                        <a:ln w="176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09" name=""/>
                        <p:cNvSpPr/>
                        <p:nvPr/>
                      </p:nvSpPr>
                      <p:spPr>
                        <a:xfrm>
                          <a:off x="5457960" y="3337200"/>
                          <a:ext cx="612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10" name=""/>
                        <p:cNvSpPr/>
                        <p:nvPr/>
                      </p:nvSpPr>
                      <p:spPr>
                        <a:xfrm>
                          <a:off x="5427720" y="3329280"/>
                          <a:ext cx="6120" cy="55440"/>
                        </a:xfrm>
                        <a:prstGeom prst="line">
                          <a:avLst/>
                        </a:prstGeom>
                        <a:ln w="176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grpSp>
        </p:grpSp>
      </p:grpSp>
      <p:sp>
        <p:nvSpPr>
          <p:cNvPr id="1711" name=""/>
          <p:cNvSpPr/>
          <p:nvPr/>
        </p:nvSpPr>
        <p:spPr>
          <a:xfrm>
            <a:off x="3984480" y="3159000"/>
            <a:ext cx="30240" cy="108000"/>
          </a:xfrm>
          <a:custGeom>
            <a:avLst/>
            <a:gdLst/>
            <a:ahLst/>
            <a:rect l="l" t="t" r="r" b="b"/>
            <a:pathLst>
              <a:path w="19" h="68">
                <a:moveTo>
                  <a:pt x="0" y="0"/>
                </a:moveTo>
                <a:lnTo>
                  <a:pt x="19" y="68"/>
                </a:lnTo>
                <a:lnTo>
                  <a:pt x="0" y="0"/>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5791320" y="1447920"/>
            <a:ext cx="2743200" cy="1218960"/>
          </a:xfrm>
          <a:prstGeom prst="wedgeRoundRectCallout">
            <a:avLst>
              <a:gd name="adj1" fmla="val -39407"/>
              <a:gd name="adj2" fmla="val 77342"/>
              <a:gd name="adj3" fmla="val 16667"/>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Add th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Opposite!</a:t>
            </a:r>
            <a:endParaRPr b="0" lang="en-US" sz="3600" spc="-1" strike="noStrike">
              <a:solidFill>
                <a:srgbClr val="000000"/>
              </a:solidFill>
              <a:latin typeface="Times New Roman"/>
            </a:endParaRPr>
          </a:p>
        </p:txBody>
      </p:sp>
      <p:sp>
        <p:nvSpPr>
          <p:cNvPr id="1713" name=""/>
          <p:cNvSpPr/>
          <p:nvPr/>
        </p:nvSpPr>
        <p:spPr>
          <a:xfrm>
            <a:off x="685800" y="1447920"/>
            <a:ext cx="2743200" cy="1218960"/>
          </a:xfrm>
          <a:prstGeom prst="wedgeRoundRectCallout">
            <a:avLst>
              <a:gd name="adj1" fmla="val 63833"/>
              <a:gd name="adj2" fmla="val 86587"/>
              <a:gd name="adj3" fmla="val 16667"/>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Subtract!</a:t>
            </a:r>
            <a:endParaRPr b="0" lang="en-US" sz="3600" spc="-1" strike="noStrike">
              <a:solidFill>
                <a:srgbClr val="000000"/>
              </a:solidFill>
              <a:latin typeface="Times New Roman"/>
            </a:endParaRPr>
          </a:p>
        </p:txBody>
      </p:sp>
      <p:pic>
        <p:nvPicPr>
          <p:cNvPr id="1714" name="" descr=""/>
          <p:cNvPicPr/>
          <p:nvPr/>
        </p:nvPicPr>
        <p:blipFill>
          <a:blip r:embed="rId1"/>
          <a:stretch/>
        </p:blipFill>
        <p:spPr>
          <a:xfrm>
            <a:off x="4572000" y="2971800"/>
            <a:ext cx="828720" cy="457200"/>
          </a:xfrm>
          <a:prstGeom prst="rect">
            <a:avLst/>
          </a:prstGeom>
          <a:ln w="0">
            <a:noFill/>
          </a:ln>
        </p:spPr>
      </p:pic>
      <p:sp>
        <p:nvSpPr>
          <p:cNvPr id="1715" name=""/>
          <p:cNvSpPr/>
          <p:nvPr/>
        </p:nvSpPr>
        <p:spPr>
          <a:xfrm>
            <a:off x="4495680" y="335268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17"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
        <p:nvSpPr>
          <p:cNvPr id="1718" name=""/>
          <p:cNvSpPr/>
          <p:nvPr/>
        </p:nvSpPr>
        <p:spPr>
          <a:xfrm>
            <a:off x="3636720" y="1417680"/>
            <a:ext cx="141516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Comic Sans MS"/>
              </a:rPr>
              <a:t>Rule</a:t>
            </a:r>
            <a:endParaRPr b="0" lang="en-US" sz="5400" spc="-1" strike="noStrike">
              <a:solidFill>
                <a:srgbClr val="000000"/>
              </a:solidFill>
              <a:latin typeface="Times New Roman"/>
            </a:endParaRPr>
          </a:p>
        </p:txBody>
      </p:sp>
      <p:sp>
        <p:nvSpPr>
          <p:cNvPr id="1719" name=""/>
          <p:cNvSpPr/>
          <p:nvPr/>
        </p:nvSpPr>
        <p:spPr>
          <a:xfrm>
            <a:off x="1783440" y="2239920"/>
            <a:ext cx="56530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 subtract a negative integer</a:t>
            </a:r>
            <a:endParaRPr b="0" lang="en-US" sz="3200" spc="-1" strike="noStrike">
              <a:solidFill>
                <a:srgbClr val="000000"/>
              </a:solidFill>
              <a:latin typeface="Times New Roman"/>
            </a:endParaRPr>
          </a:p>
        </p:txBody>
      </p:sp>
      <p:sp>
        <p:nvSpPr>
          <p:cNvPr id="1720" name=""/>
          <p:cNvSpPr/>
          <p:nvPr/>
        </p:nvSpPr>
        <p:spPr>
          <a:xfrm>
            <a:off x="939960" y="2895480"/>
            <a:ext cx="7140240" cy="2022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289080" indent="-289080">
              <a:lnSpc>
                <a:spcPct val="100000"/>
              </a:lnSpc>
              <a:spcBef>
                <a:spcPts val="17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minus x minus = plus </a:t>
            </a:r>
            <a:br>
              <a:rPr sz="2800"/>
            </a:br>
            <a:r>
              <a:rPr b="0" lang="en-US" sz="2800" spc="-1" strike="noStrike">
                <a:solidFill>
                  <a:srgbClr val="3333cc"/>
                </a:solidFill>
                <a:latin typeface="Comic Sans MS"/>
              </a:rPr>
              <a:t>Therefore, change minus combination to plus</a:t>
            </a:r>
            <a:endParaRPr b="0" lang="en-US" sz="2800" spc="-1" strike="noStrike">
              <a:solidFill>
                <a:srgbClr val="000000"/>
              </a:solidFill>
              <a:latin typeface="Times New Roman"/>
            </a:endParaRPr>
          </a:p>
          <a:p>
            <a:pPr marL="289080" indent="-289080">
              <a:lnSpc>
                <a:spcPct val="100000"/>
              </a:lnSpc>
              <a:spcBef>
                <a:spcPts val="174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proceed as in addition</a:t>
            </a:r>
            <a:endParaRPr b="0" lang="en-US" sz="2800" spc="-1" strike="noStrike">
              <a:solidFill>
                <a:srgbClr val="000000"/>
              </a:solidFill>
              <a:latin typeface="Times New Roman"/>
            </a:endParaRPr>
          </a:p>
        </p:txBody>
      </p:sp>
      <p:sp>
        <p:nvSpPr>
          <p:cNvPr id="1721" name=""/>
          <p:cNvSpPr/>
          <p:nvPr/>
        </p:nvSpPr>
        <p:spPr>
          <a:xfrm>
            <a:off x="5794200" y="4267080"/>
            <a:ext cx="304488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2" name=""/>
          <p:cNvSpPr/>
          <p:nvPr/>
        </p:nvSpPr>
        <p:spPr>
          <a:xfrm>
            <a:off x="1600200" y="4952880"/>
            <a:ext cx="5865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4 -(-3) = -4 +3 = -1 </a:t>
            </a:r>
            <a:endParaRPr b="0" lang="en-US" sz="4400" spc="-1" strike="noStrike">
              <a:solidFill>
                <a:srgbClr val="000000"/>
              </a:solidFill>
              <a:latin typeface="Times New Roman"/>
            </a:endParaRPr>
          </a:p>
        </p:txBody>
      </p:sp>
    </p:spTree>
  </p:cSld>
  <p:transition>
    <p:random/>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3" presetSubtype="16">
                                  <p:stCondLst>
                                    <p:cond delay="0"/>
                                  </p:stCondLst>
                                  <p:childTnLst>
                                    <p:set>
                                      <p:cBhvr>
                                        <p:cTn id="259" dur="1" fill="hold">
                                          <p:stCondLst>
                                            <p:cond delay="0"/>
                                          </p:stCondLst>
                                        </p:cTn>
                                        <p:tgtEl>
                                          <p:spTgt spid="1719"/>
                                        </p:tgtEl>
                                        <p:attrNameLst>
                                          <p:attrName>style.visibility</p:attrName>
                                        </p:attrNameLst>
                                      </p:cBhvr>
                                      <p:to>
                                        <p:strVal val="visible"/>
                                      </p:to>
                                    </p:set>
                                    <p:anim calcmode="lin" valueType="num">
                                      <p:cBhvr additive="repl">
                                        <p:cTn id="260" dur="500" fill="hold"/>
                                        <p:tgtEl>
                                          <p:spTgt spid="1719"/>
                                        </p:tgtEl>
                                        <p:attrNameLst>
                                          <p:attrName>ppt_w</p:attrName>
                                        </p:attrNameLst>
                                      </p:cBhvr>
                                      <p:tavLst>
                                        <p:tav tm="0">
                                          <p:val>
                                            <p:fltVal val="0"/>
                                          </p:val>
                                        </p:tav>
                                        <p:tav tm="100000">
                                          <p:val>
                                            <p:strVal val="#ppt_w"/>
                                          </p:val>
                                        </p:tav>
                                      </p:tavLst>
                                    </p:anim>
                                    <p:anim calcmode="lin" valueType="num">
                                      <p:cBhvr additive="repl">
                                        <p:cTn id="261" dur="500" fill="hold"/>
                                        <p:tgtEl>
                                          <p:spTgt spid="1719"/>
                                        </p:tgtEl>
                                        <p:attrNameLst>
                                          <p:attrName>ppt_h</p:attrName>
                                        </p:attrNameLst>
                                      </p:cBhvr>
                                      <p:tavLst>
                                        <p:tav tm="0">
                                          <p:val>
                                            <p:fltVal val="0"/>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720"/>
                                        </p:tgtEl>
                                        <p:attrNameLst>
                                          <p:attrName>style.visibility</p:attrName>
                                        </p:attrNameLst>
                                      </p:cBhvr>
                                      <p:to>
                                        <p:strVal val="visible"/>
                                      </p:to>
                                    </p:set>
                                    <p:animEffect filter="wipe(left)" transition="in">
                                      <p:cBhvr additive="repl">
                                        <p:cTn id="266" dur="500"/>
                                        <p:tgtEl>
                                          <p:spTgt spid="1720"/>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720">
                                            <p:txEl>
                                              <p:pRg st="0" end="0"/>
                                            </p:txEl>
                                          </p:spTgt>
                                        </p:tgtEl>
                                        <p:attrNameLst>
                                          <p:attrName>style.visibility</p:attrName>
                                        </p:attrNameLst>
                                      </p:cBhvr>
                                      <p:to>
                                        <p:strVal val="visible"/>
                                      </p:to>
                                    </p:set>
                                    <p:animEffect filter="wipe(left)" transition="in">
                                      <p:cBhvr additive="repl">
                                        <p:cTn id="271" dur="500"/>
                                        <p:tgtEl>
                                          <p:spTgt spid="1720">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720">
                                            <p:txEl>
                                              <p:pRg st="1" end="1"/>
                                            </p:txEl>
                                          </p:spTgt>
                                        </p:tgtEl>
                                        <p:attrNameLst>
                                          <p:attrName>style.visibility</p:attrName>
                                        </p:attrNameLst>
                                      </p:cBhvr>
                                      <p:to>
                                        <p:strVal val="visible"/>
                                      </p:to>
                                    </p:set>
                                    <p:animEffect filter="wipe(left)" transition="in">
                                      <p:cBhvr additive="repl">
                                        <p:cTn id="276" dur="500"/>
                                        <p:tgtEl>
                                          <p:spTgt spid="1720">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722"/>
                                        </p:tgtEl>
                                        <p:attrNameLst>
                                          <p:attrName>style.visibility</p:attrName>
                                        </p:attrNameLst>
                                      </p:cBhvr>
                                      <p:to>
                                        <p:strVal val="visible"/>
                                      </p:to>
                                    </p:set>
                                    <p:animEffect filter="wipe(left)" transition="in">
                                      <p:cBhvr additive="repl">
                                        <p:cTn id="281" dur="500"/>
                                        <p:tgtEl>
                                          <p:spTgt spid="1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pic>
        <p:nvPicPr>
          <p:cNvPr id="1723" name="" descr=""/>
          <p:cNvPicPr/>
          <p:nvPr/>
        </p:nvPicPr>
        <p:blipFill>
          <a:blip r:embed="rId1"/>
          <a:stretch/>
        </p:blipFill>
        <p:spPr>
          <a:xfrm>
            <a:off x="380880" y="1523880"/>
            <a:ext cx="8153640" cy="4705560"/>
          </a:xfrm>
          <a:prstGeom prst="rect">
            <a:avLst/>
          </a:prstGeom>
          <a:ln w="0">
            <a:noFill/>
          </a:ln>
        </p:spPr>
      </p:pic>
      <p:sp>
        <p:nvSpPr>
          <p:cNvPr id="1724" name=""/>
          <p:cNvSpPr/>
          <p:nvPr/>
        </p:nvSpPr>
        <p:spPr>
          <a:xfrm>
            <a:off x="304920" y="1204920"/>
            <a:ext cx="8229600" cy="5181480"/>
          </a:xfrm>
          <a:prstGeom prst="roundRect">
            <a:avLst>
              <a:gd name="adj" fmla="val 6532"/>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txBox="1"/>
          <p:nvPr/>
        </p:nvSpPr>
        <p:spPr>
          <a:xfrm>
            <a:off x="838080" y="1523880"/>
            <a:ext cx="7239240" cy="470556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Comic Sans MS"/>
              </a:rPr>
              <a:t>Solving Problems</a:t>
            </a:r>
            <a:endParaRPr b="1" lang="en-US" sz="4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Comic Sans MS"/>
              </a:rPr>
              <a:t>Using </a:t>
            </a:r>
            <a:endParaRPr b="1" lang="en-US" sz="4800" spc="1" strike="noStrike">
              <a:ln w="12600">
                <a:solidFill>
                  <a:srgbClr val="000000"/>
                </a:solidFill>
                <a:miter/>
              </a:ln>
              <a:blipFill rotWithShape="0">
                <a:blip r:embed="rId5"/>
                <a:srcRect/>
                <a:tile tx="0" ty="0" sx="100000" sy="100000" algn="ctr"/>
              </a:blipFill>
              <a:effectLst>
                <a:outerShdw dist="40186" dir="1096358" blurRad="0" rotWithShape="0">
                  <a:srgbClr val="80808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000000"/>
                  </a:solidFill>
                  <a:miter/>
                </a:ln>
                <a:blipFill rotWithShape="0">
                  <a:blip r:embed="rId6"/>
                  <a:srcRect/>
                  <a:tile tx="0" ty="0" sx="100000" sy="100000" algn="ctr"/>
                </a:blipFill>
                <a:effectLst>
                  <a:outerShdw dist="40186" dir="1096358" blurRad="0" rotWithShape="0">
                    <a:srgbClr val="808080"/>
                  </a:outerShdw>
                </a:effectLst>
                <a:latin typeface="Comic Sans MS"/>
              </a:rPr>
              <a:t>Subtraction of Integers</a:t>
            </a:r>
            <a:endParaRPr b="1" lang="en-US" sz="4800" spc="1" strike="noStrike">
              <a:ln w="12600">
                <a:solidFill>
                  <a:srgbClr val="000000"/>
                </a:solidFill>
                <a:miter/>
              </a:ln>
              <a:blipFill rotWithShape="0">
                <a:blip r:embed="rId7"/>
                <a:srcRect/>
                <a:tile tx="0" ty="0" sx="100000" sy="100000" algn="ctr"/>
              </a:blipFill>
              <a:effectLst>
                <a:outerShdw dist="40186" dir="1096358" blurRad="0" rotWithShape="0">
                  <a:srgbClr val="808080"/>
                </a:outerShdw>
              </a:effectLst>
              <a:latin typeface="Comic Sans MS"/>
              <a:ea typeface="Comic Sans MS"/>
            </a:endParaRPr>
          </a:p>
        </p:txBody>
      </p:sp>
      <p:sp>
        <p:nvSpPr>
          <p:cNvPr id="1726"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27" name=""/>
          <p:cNvSpPr/>
          <p:nvPr/>
        </p:nvSpPr>
        <p:spPr>
          <a:xfrm>
            <a:off x="615960" y="2860560"/>
            <a:ext cx="8299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 automobile rally driver sees the 47 mile marker and realizes that she really needs to be 16 miles in the opposite direction from the rally start (0 mile marker).  How far is she from where she needs to be?</a:t>
            </a:r>
            <a:endParaRPr b="0" lang="en-US" sz="3600" spc="-1" strike="noStrike">
              <a:solidFill>
                <a:srgbClr val="000000"/>
              </a:solidFill>
              <a:latin typeface="Times New Roman"/>
            </a:endParaRPr>
          </a:p>
        </p:txBody>
      </p:sp>
      <p:sp>
        <p:nvSpPr>
          <p:cNvPr id="1728" name=""/>
          <p:cNvSpPr/>
          <p:nvPr/>
        </p:nvSpPr>
        <p:spPr>
          <a:xfrm>
            <a:off x="609480" y="2860560"/>
            <a:ext cx="8299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 automobile rally driver sees the 47 mile marker and realizes that she really needs to be 16 miles in the opposite direction from the rally start (0 mile marker).  How far is she from where she needs to be?</a:t>
            </a:r>
            <a:endParaRPr b="0" lang="en-US" sz="3600" spc="-1" strike="noStrike">
              <a:solidFill>
                <a:srgbClr val="000000"/>
              </a:solidFill>
              <a:latin typeface="Times New Roman"/>
            </a:endParaRPr>
          </a:p>
        </p:txBody>
      </p:sp>
      <p:pic>
        <p:nvPicPr>
          <p:cNvPr id="1729" name="" descr=""/>
          <p:cNvPicPr/>
          <p:nvPr/>
        </p:nvPicPr>
        <p:blipFill>
          <a:blip r:embed="rId1"/>
          <a:stretch/>
        </p:blipFill>
        <p:spPr>
          <a:xfrm>
            <a:off x="685800" y="1523880"/>
            <a:ext cx="3124080" cy="1295640"/>
          </a:xfrm>
          <a:prstGeom prst="rect">
            <a:avLst/>
          </a:prstGeom>
          <a:ln w="0">
            <a:noFill/>
          </a:ln>
        </p:spPr>
      </p:pic>
      <p:sp>
        <p:nvSpPr>
          <p:cNvPr id="1730" name=""/>
          <p:cNvSpPr/>
          <p:nvPr/>
        </p:nvSpPr>
        <p:spPr>
          <a:xfrm>
            <a:off x="4191120" y="1447920"/>
            <a:ext cx="4114800" cy="1066680"/>
          </a:xfrm>
          <a:prstGeom prst="wedgeRoundRectCallout">
            <a:avLst>
              <a:gd name="adj1" fmla="val -79666"/>
              <a:gd name="adj2" fmla="val -30953"/>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ops!!</a:t>
            </a:r>
            <a:endParaRPr b="0" lang="en-US" sz="6000" spc="-1" strike="noStrike">
              <a:solidFill>
                <a:srgbClr val="000000"/>
              </a:solidFill>
              <a:latin typeface="Times New Roman"/>
            </a:endParaRPr>
          </a:p>
        </p:txBody>
      </p:sp>
      <p:sp>
        <p:nvSpPr>
          <p:cNvPr id="1731" name=""/>
          <p:cNvSpPr/>
          <p:nvPr/>
        </p:nvSpPr>
        <p:spPr>
          <a:xfrm>
            <a:off x="609480" y="2860560"/>
            <a:ext cx="8299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 automobile rally driver sees </a:t>
            </a:r>
            <a:r>
              <a:rPr b="0" lang="en-US" sz="3600" spc="-1" strike="noStrike">
                <a:solidFill>
                  <a:srgbClr val="6600cc"/>
                </a:solidFill>
                <a:latin typeface="Comic Sans MS"/>
              </a:rPr>
              <a:t>the 47 mile marker</a:t>
            </a:r>
            <a:r>
              <a:rPr b="0" lang="en-US" sz="3600" spc="-1" strike="noStrike">
                <a:solidFill>
                  <a:srgbClr val="000000"/>
                </a:solidFill>
                <a:latin typeface="Comic Sans MS"/>
              </a:rPr>
              <a:t> and realizes that she really needs to be </a:t>
            </a:r>
            <a:r>
              <a:rPr b="0" lang="en-US" sz="3600" spc="-1" strike="noStrike">
                <a:solidFill>
                  <a:srgbClr val="6600cc"/>
                </a:solidFill>
                <a:latin typeface="Comic Sans MS"/>
              </a:rPr>
              <a:t>16 miles in the opposite direction</a:t>
            </a:r>
            <a:r>
              <a:rPr b="0" lang="en-US" sz="3600" spc="-1" strike="noStrike">
                <a:solidFill>
                  <a:srgbClr val="000000"/>
                </a:solidFill>
                <a:latin typeface="Comic Sans MS"/>
              </a:rPr>
              <a:t> from the rally start (0 mile marker).  </a:t>
            </a:r>
            <a:r>
              <a:rPr b="0" lang="en-US" sz="3600" spc="-1" strike="noStrike">
                <a:solidFill>
                  <a:srgbClr val="3333cc"/>
                </a:solidFill>
                <a:latin typeface="Comic Sans MS"/>
              </a:rPr>
              <a:t>How far is she from where she needs to be?</a:t>
            </a:r>
            <a:endParaRPr b="0" lang="en-US" sz="3600" spc="-1" strike="noStrike">
              <a:solidFill>
                <a:srgbClr val="000000"/>
              </a:solidFill>
              <a:latin typeface="Times New Roman"/>
            </a:endParaRPr>
          </a:p>
        </p:txBody>
      </p:sp>
      <p:sp>
        <p:nvSpPr>
          <p:cNvPr id="1732"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ransition>
    <p:pull dir="l"/>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731"/>
                                        </p:tgtEl>
                                        <p:attrNameLst>
                                          <p:attrName>style.visibility</p:attrName>
                                        </p:attrNameLst>
                                      </p:cBhvr>
                                      <p:to>
                                        <p:strVal val="visible"/>
                                      </p:to>
                                    </p:set>
                                    <p:animEffect filter="dissolve" transition="in">
                                      <p:cBhvr additive="repl">
                                        <p:cTn id="288" dur="500"/>
                                        <p:tgtEl>
                                          <p:spTgt spid="1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10" name=""/>
          <p:cNvSpPr/>
          <p:nvPr/>
        </p:nvSpPr>
        <p:spPr>
          <a:xfrm>
            <a:off x="3505320" y="609480"/>
            <a:ext cx="2819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on</a:t>
            </a:r>
            <a:endParaRPr b="0" lang="en-US" sz="2800" spc="-1" strike="noStrike">
              <a:solidFill>
                <a:srgbClr val="000000"/>
              </a:solidFill>
              <a:latin typeface="Times New Roman"/>
            </a:endParaRPr>
          </a:p>
        </p:txBody>
      </p:sp>
      <p:sp>
        <p:nvSpPr>
          <p:cNvPr id="211" name=""/>
          <p:cNvSpPr/>
          <p:nvPr/>
        </p:nvSpPr>
        <p:spPr>
          <a:xfrm>
            <a:off x="631800" y="1355760"/>
            <a:ext cx="8153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Ann has </a:t>
            </a:r>
            <a:r>
              <a:rPr b="0" lang="en-US" sz="4000" spc="-1" strike="noStrike">
                <a:solidFill>
                  <a:srgbClr val="6600cc"/>
                </a:solidFill>
                <a:latin typeface="Comic Sans MS"/>
              </a:rPr>
              <a:t>$456</a:t>
            </a:r>
            <a:r>
              <a:rPr b="0" lang="en-US" sz="4000" spc="-1" strike="noStrike">
                <a:solidFill>
                  <a:srgbClr val="000000"/>
                </a:solidFill>
                <a:latin typeface="Comic Sans MS"/>
              </a:rPr>
              <a:t>, and </a:t>
            </a:r>
            <a:r>
              <a:rPr b="0" lang="en-US" sz="4000" spc="-1" strike="noStrike">
                <a:solidFill>
                  <a:srgbClr val="6600cc"/>
                </a:solidFill>
                <a:latin typeface="Comic Sans MS"/>
              </a:rPr>
              <a:t>repays a $234</a:t>
            </a:r>
            <a:r>
              <a:rPr b="0" lang="en-US" sz="4000" spc="-1" strike="noStrike">
                <a:solidFill>
                  <a:srgbClr val="000000"/>
                </a:solidFill>
                <a:latin typeface="Comic Sans MS"/>
              </a:rPr>
              <a:t> loan, how much money does she </a:t>
            </a:r>
            <a:r>
              <a:rPr b="0" lang="en-US" sz="4000" spc="-1" strike="noStrike">
                <a:solidFill>
                  <a:srgbClr val="3333cc"/>
                </a:solidFill>
                <a:latin typeface="Comic Sans MS"/>
              </a:rPr>
              <a:t>have left</a:t>
            </a:r>
            <a:r>
              <a:rPr b="0" lang="en-US" sz="4000" spc="-1" strike="noStrike">
                <a:solidFill>
                  <a:srgbClr val="000000"/>
                </a:solidFill>
                <a:latin typeface="Comic Sans MS"/>
              </a:rPr>
              <a:t>?</a:t>
            </a:r>
            <a:endParaRPr b="0" lang="en-US" sz="4000" spc="-1" strike="noStrike">
              <a:solidFill>
                <a:srgbClr val="000000"/>
              </a:solidFill>
              <a:latin typeface="Times New Roman"/>
            </a:endParaRPr>
          </a:p>
        </p:txBody>
      </p:sp>
      <p:grpSp>
        <p:nvGrpSpPr>
          <p:cNvPr id="212" name=""/>
          <p:cNvGrpSpPr/>
          <p:nvPr/>
        </p:nvGrpSpPr>
        <p:grpSpPr>
          <a:xfrm>
            <a:off x="609480" y="3200400"/>
            <a:ext cx="8077320" cy="2837160"/>
            <a:chOff x="609480" y="3200400"/>
            <a:chExt cx="8077320" cy="2837160"/>
          </a:xfrm>
        </p:grpSpPr>
        <p:sp>
          <p:nvSpPr>
            <p:cNvPr id="213" name=""/>
            <p:cNvSpPr/>
            <p:nvPr/>
          </p:nvSpPr>
          <p:spPr>
            <a:xfrm>
              <a:off x="4192560" y="3200400"/>
              <a:ext cx="24667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urier New"/>
                </a:rPr>
                <a:t> </a:t>
              </a:r>
              <a:r>
                <a:rPr b="1" lang="en-US" sz="6000" spc="-1" strike="noStrike">
                  <a:solidFill>
                    <a:srgbClr val="000000"/>
                  </a:solidFill>
                  <a:latin typeface="Courier New"/>
                </a:rPr>
                <a:t>$456</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urier New"/>
                </a:rPr>
                <a:t> </a:t>
              </a:r>
              <a:endParaRPr b="0" lang="en-US" sz="6000" spc="-1" strike="noStrike">
                <a:solidFill>
                  <a:srgbClr val="000000"/>
                </a:solidFill>
                <a:latin typeface="Times New Roman"/>
              </a:endParaRPr>
            </a:p>
          </p:txBody>
        </p:sp>
        <p:sp>
          <p:nvSpPr>
            <p:cNvPr id="214" name=""/>
            <p:cNvSpPr/>
            <p:nvPr/>
          </p:nvSpPr>
          <p:spPr>
            <a:xfrm>
              <a:off x="609480" y="329256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ut larger number                   on top.</a:t>
              </a:r>
              <a:endParaRPr b="0" lang="en-US" sz="3600" spc="-1" strike="noStrike">
                <a:solidFill>
                  <a:srgbClr val="000000"/>
                </a:solidFill>
                <a:latin typeface="Times New Roman"/>
              </a:endParaRPr>
            </a:p>
          </p:txBody>
        </p:sp>
      </p:grpSp>
      <p:grpSp>
        <p:nvGrpSpPr>
          <p:cNvPr id="215" name=""/>
          <p:cNvGrpSpPr/>
          <p:nvPr/>
        </p:nvGrpSpPr>
        <p:grpSpPr>
          <a:xfrm>
            <a:off x="609480" y="4114800"/>
            <a:ext cx="2590560" cy="2125440"/>
            <a:chOff x="609480" y="4114800"/>
            <a:chExt cx="2590560" cy="2125440"/>
          </a:xfrm>
        </p:grpSpPr>
        <p:sp>
          <p:nvSpPr>
            <p:cNvPr id="216" name=""/>
            <p:cNvSpPr/>
            <p:nvPr/>
          </p:nvSpPr>
          <p:spPr>
            <a:xfrm>
              <a:off x="609480" y="4114800"/>
              <a:ext cx="2590560" cy="2125440"/>
            </a:xfrm>
            <a:custGeom>
              <a:avLst/>
              <a:gdLst/>
              <a:ahLst/>
              <a:rect l="l" t="t" r="r" b="b"/>
              <a:pathLst>
                <a:path w="2970" h="2608">
                  <a:moveTo>
                    <a:pt x="1607" y="67"/>
                  </a:moveTo>
                  <a:lnTo>
                    <a:pt x="1610" y="72"/>
                  </a:lnTo>
                  <a:lnTo>
                    <a:pt x="1613" y="77"/>
                  </a:lnTo>
                  <a:lnTo>
                    <a:pt x="1614" y="83"/>
                  </a:lnTo>
                  <a:lnTo>
                    <a:pt x="1619" y="88"/>
                  </a:lnTo>
                  <a:lnTo>
                    <a:pt x="1631" y="74"/>
                  </a:lnTo>
                  <a:lnTo>
                    <a:pt x="1645" y="63"/>
                  </a:lnTo>
                  <a:lnTo>
                    <a:pt x="1659" y="53"/>
                  </a:lnTo>
                  <a:lnTo>
                    <a:pt x="1675" y="46"/>
                  </a:lnTo>
                  <a:lnTo>
                    <a:pt x="1692" y="39"/>
                  </a:lnTo>
                  <a:lnTo>
                    <a:pt x="1709" y="36"/>
                  </a:lnTo>
                  <a:lnTo>
                    <a:pt x="1726" y="35"/>
                  </a:lnTo>
                  <a:lnTo>
                    <a:pt x="1745" y="35"/>
                  </a:lnTo>
                  <a:lnTo>
                    <a:pt x="1767" y="36"/>
                  </a:lnTo>
                  <a:lnTo>
                    <a:pt x="1787" y="41"/>
                  </a:lnTo>
                  <a:lnTo>
                    <a:pt x="1807" y="49"/>
                  </a:lnTo>
                  <a:lnTo>
                    <a:pt x="1824" y="58"/>
                  </a:lnTo>
                  <a:lnTo>
                    <a:pt x="1843" y="70"/>
                  </a:lnTo>
                  <a:lnTo>
                    <a:pt x="1859" y="83"/>
                  </a:lnTo>
                  <a:lnTo>
                    <a:pt x="1874" y="98"/>
                  </a:lnTo>
                  <a:lnTo>
                    <a:pt x="1890" y="116"/>
                  </a:lnTo>
                  <a:lnTo>
                    <a:pt x="1916" y="116"/>
                  </a:lnTo>
                  <a:lnTo>
                    <a:pt x="1941" y="120"/>
                  </a:lnTo>
                  <a:lnTo>
                    <a:pt x="1965" y="127"/>
                  </a:lnTo>
                  <a:lnTo>
                    <a:pt x="1986" y="134"/>
                  </a:lnTo>
                  <a:lnTo>
                    <a:pt x="2010" y="144"/>
                  </a:lnTo>
                  <a:lnTo>
                    <a:pt x="2031" y="155"/>
                  </a:lnTo>
                  <a:lnTo>
                    <a:pt x="2053" y="164"/>
                  </a:lnTo>
                  <a:lnTo>
                    <a:pt x="2077" y="173"/>
                  </a:lnTo>
                  <a:lnTo>
                    <a:pt x="2097" y="189"/>
                  </a:lnTo>
                  <a:lnTo>
                    <a:pt x="2114" y="206"/>
                  </a:lnTo>
                  <a:lnTo>
                    <a:pt x="2128" y="226"/>
                  </a:lnTo>
                  <a:lnTo>
                    <a:pt x="2142" y="246"/>
                  </a:lnTo>
                  <a:lnTo>
                    <a:pt x="2156" y="265"/>
                  </a:lnTo>
                  <a:lnTo>
                    <a:pt x="2170" y="285"/>
                  </a:lnTo>
                  <a:lnTo>
                    <a:pt x="2187" y="301"/>
                  </a:lnTo>
                  <a:lnTo>
                    <a:pt x="2207" y="315"/>
                  </a:lnTo>
                  <a:lnTo>
                    <a:pt x="2240" y="351"/>
                  </a:lnTo>
                  <a:lnTo>
                    <a:pt x="2265" y="391"/>
                  </a:lnTo>
                  <a:lnTo>
                    <a:pt x="2280" y="435"/>
                  </a:lnTo>
                  <a:lnTo>
                    <a:pt x="2290" y="480"/>
                  </a:lnTo>
                  <a:lnTo>
                    <a:pt x="2293" y="528"/>
                  </a:lnTo>
                  <a:lnTo>
                    <a:pt x="2290" y="577"/>
                  </a:lnTo>
                  <a:lnTo>
                    <a:pt x="2284" y="625"/>
                  </a:lnTo>
                  <a:lnTo>
                    <a:pt x="2273" y="673"/>
                  </a:lnTo>
                  <a:lnTo>
                    <a:pt x="2282" y="687"/>
                  </a:lnTo>
                  <a:lnTo>
                    <a:pt x="2285" y="704"/>
                  </a:lnTo>
                  <a:lnTo>
                    <a:pt x="2287" y="720"/>
                  </a:lnTo>
                  <a:lnTo>
                    <a:pt x="2301" y="728"/>
                  </a:lnTo>
                  <a:lnTo>
                    <a:pt x="2318" y="748"/>
                  </a:lnTo>
                  <a:lnTo>
                    <a:pt x="2324" y="773"/>
                  </a:lnTo>
                  <a:lnTo>
                    <a:pt x="2326" y="801"/>
                  </a:lnTo>
                  <a:lnTo>
                    <a:pt x="2326" y="828"/>
                  </a:lnTo>
                  <a:lnTo>
                    <a:pt x="2324" y="848"/>
                  </a:lnTo>
                  <a:lnTo>
                    <a:pt x="2319" y="868"/>
                  </a:lnTo>
                  <a:lnTo>
                    <a:pt x="2315" y="888"/>
                  </a:lnTo>
                  <a:lnTo>
                    <a:pt x="2308" y="909"/>
                  </a:lnTo>
                  <a:lnTo>
                    <a:pt x="2301" y="927"/>
                  </a:lnTo>
                  <a:lnTo>
                    <a:pt x="2291" y="947"/>
                  </a:lnTo>
                  <a:lnTo>
                    <a:pt x="2280" y="966"/>
                  </a:lnTo>
                  <a:lnTo>
                    <a:pt x="2270" y="985"/>
                  </a:lnTo>
                  <a:lnTo>
                    <a:pt x="2315" y="1032"/>
                  </a:lnTo>
                  <a:lnTo>
                    <a:pt x="2357" y="1081"/>
                  </a:lnTo>
                  <a:lnTo>
                    <a:pt x="2391" y="1136"/>
                  </a:lnTo>
                  <a:lnTo>
                    <a:pt x="2421" y="1192"/>
                  </a:lnTo>
                  <a:lnTo>
                    <a:pt x="2442" y="1251"/>
                  </a:lnTo>
                  <a:lnTo>
                    <a:pt x="2458" y="1314"/>
                  </a:lnTo>
                  <a:lnTo>
                    <a:pt x="2466" y="1377"/>
                  </a:lnTo>
                  <a:lnTo>
                    <a:pt x="2467" y="1444"/>
                  </a:lnTo>
                  <a:lnTo>
                    <a:pt x="2463" y="1471"/>
                  </a:lnTo>
                  <a:lnTo>
                    <a:pt x="2459" y="1496"/>
                  </a:lnTo>
                  <a:lnTo>
                    <a:pt x="2455" y="1522"/>
                  </a:lnTo>
                  <a:lnTo>
                    <a:pt x="2447" y="1547"/>
                  </a:lnTo>
                  <a:lnTo>
                    <a:pt x="2461" y="1591"/>
                  </a:lnTo>
                  <a:lnTo>
                    <a:pt x="2470" y="1636"/>
                  </a:lnTo>
                  <a:lnTo>
                    <a:pt x="2473" y="1684"/>
                  </a:lnTo>
                  <a:lnTo>
                    <a:pt x="2473" y="1731"/>
                  </a:lnTo>
                  <a:lnTo>
                    <a:pt x="2467" y="1778"/>
                  </a:lnTo>
                  <a:lnTo>
                    <a:pt x="2458" y="1823"/>
                  </a:lnTo>
                  <a:lnTo>
                    <a:pt x="2445" y="1868"/>
                  </a:lnTo>
                  <a:lnTo>
                    <a:pt x="2428" y="1909"/>
                  </a:lnTo>
                  <a:lnTo>
                    <a:pt x="2453" y="1910"/>
                  </a:lnTo>
                  <a:lnTo>
                    <a:pt x="2481" y="1913"/>
                  </a:lnTo>
                  <a:lnTo>
                    <a:pt x="2508" y="1915"/>
                  </a:lnTo>
                  <a:lnTo>
                    <a:pt x="2537" y="1915"/>
                  </a:lnTo>
                  <a:lnTo>
                    <a:pt x="2565" y="1915"/>
                  </a:lnTo>
                  <a:lnTo>
                    <a:pt x="2592" y="1912"/>
                  </a:lnTo>
                  <a:lnTo>
                    <a:pt x="2620" y="1909"/>
                  </a:lnTo>
                  <a:lnTo>
                    <a:pt x="2645" y="1902"/>
                  </a:lnTo>
                  <a:lnTo>
                    <a:pt x="2649" y="1912"/>
                  </a:lnTo>
                  <a:lnTo>
                    <a:pt x="2652" y="1923"/>
                  </a:lnTo>
                  <a:lnTo>
                    <a:pt x="2654" y="1934"/>
                  </a:lnTo>
                  <a:lnTo>
                    <a:pt x="2656" y="1944"/>
                  </a:lnTo>
                  <a:lnTo>
                    <a:pt x="2668" y="1977"/>
                  </a:lnTo>
                  <a:lnTo>
                    <a:pt x="2680" y="2010"/>
                  </a:lnTo>
                  <a:lnTo>
                    <a:pt x="2695" y="2041"/>
                  </a:lnTo>
                  <a:lnTo>
                    <a:pt x="2709" y="2074"/>
                  </a:lnTo>
                  <a:lnTo>
                    <a:pt x="2723" y="2105"/>
                  </a:lnTo>
                  <a:lnTo>
                    <a:pt x="2738" y="2136"/>
                  </a:lnTo>
                  <a:lnTo>
                    <a:pt x="2757" y="2167"/>
                  </a:lnTo>
                  <a:lnTo>
                    <a:pt x="2775" y="2195"/>
                  </a:lnTo>
                  <a:lnTo>
                    <a:pt x="2783" y="2209"/>
                  </a:lnTo>
                  <a:lnTo>
                    <a:pt x="2807" y="2245"/>
                  </a:lnTo>
                  <a:lnTo>
                    <a:pt x="2838" y="2297"/>
                  </a:lnTo>
                  <a:lnTo>
                    <a:pt x="2873" y="2359"/>
                  </a:lnTo>
                  <a:lnTo>
                    <a:pt x="2908" y="2426"/>
                  </a:lnTo>
                  <a:lnTo>
                    <a:pt x="2939" y="2490"/>
                  </a:lnTo>
                  <a:lnTo>
                    <a:pt x="2962" y="2544"/>
                  </a:lnTo>
                  <a:lnTo>
                    <a:pt x="2970" y="2585"/>
                  </a:lnTo>
                  <a:lnTo>
                    <a:pt x="2965" y="2586"/>
                  </a:lnTo>
                  <a:lnTo>
                    <a:pt x="2956" y="2586"/>
                  </a:lnTo>
                  <a:lnTo>
                    <a:pt x="2942" y="2586"/>
                  </a:lnTo>
                  <a:lnTo>
                    <a:pt x="2922" y="2586"/>
                  </a:lnTo>
                  <a:lnTo>
                    <a:pt x="2900" y="2585"/>
                  </a:lnTo>
                  <a:lnTo>
                    <a:pt x="2875" y="2583"/>
                  </a:lnTo>
                  <a:lnTo>
                    <a:pt x="2847" y="2582"/>
                  </a:lnTo>
                  <a:lnTo>
                    <a:pt x="2816" y="2578"/>
                  </a:lnTo>
                  <a:lnTo>
                    <a:pt x="2785" y="2575"/>
                  </a:lnTo>
                  <a:lnTo>
                    <a:pt x="2752" y="2574"/>
                  </a:lnTo>
                  <a:lnTo>
                    <a:pt x="2721" y="2571"/>
                  </a:lnTo>
                  <a:lnTo>
                    <a:pt x="2688" y="2568"/>
                  </a:lnTo>
                  <a:lnTo>
                    <a:pt x="2657" y="2564"/>
                  </a:lnTo>
                  <a:lnTo>
                    <a:pt x="2628" y="2563"/>
                  </a:lnTo>
                  <a:lnTo>
                    <a:pt x="2601" y="2560"/>
                  </a:lnTo>
                  <a:lnTo>
                    <a:pt x="2576" y="2558"/>
                  </a:lnTo>
                  <a:lnTo>
                    <a:pt x="2315" y="2558"/>
                  </a:lnTo>
                  <a:lnTo>
                    <a:pt x="2291" y="2557"/>
                  </a:lnTo>
                  <a:lnTo>
                    <a:pt x="2270" y="2557"/>
                  </a:lnTo>
                  <a:lnTo>
                    <a:pt x="2246" y="2560"/>
                  </a:lnTo>
                  <a:lnTo>
                    <a:pt x="2224" y="2563"/>
                  </a:lnTo>
                  <a:lnTo>
                    <a:pt x="2203" y="2566"/>
                  </a:lnTo>
                  <a:lnTo>
                    <a:pt x="2179" y="2569"/>
                  </a:lnTo>
                  <a:lnTo>
                    <a:pt x="2158" y="2571"/>
                  </a:lnTo>
                  <a:lnTo>
                    <a:pt x="2134" y="2572"/>
                  </a:lnTo>
                  <a:lnTo>
                    <a:pt x="1801" y="2572"/>
                  </a:lnTo>
                  <a:lnTo>
                    <a:pt x="1348" y="2608"/>
                  </a:lnTo>
                  <a:lnTo>
                    <a:pt x="1196" y="2600"/>
                  </a:lnTo>
                  <a:lnTo>
                    <a:pt x="836" y="2568"/>
                  </a:lnTo>
                  <a:lnTo>
                    <a:pt x="592" y="2568"/>
                  </a:lnTo>
                  <a:lnTo>
                    <a:pt x="347" y="2577"/>
                  </a:lnTo>
                  <a:lnTo>
                    <a:pt x="326" y="2577"/>
                  </a:lnTo>
                  <a:lnTo>
                    <a:pt x="304" y="2578"/>
                  </a:lnTo>
                  <a:lnTo>
                    <a:pt x="282" y="2580"/>
                  </a:lnTo>
                  <a:lnTo>
                    <a:pt x="262" y="2583"/>
                  </a:lnTo>
                  <a:lnTo>
                    <a:pt x="240" y="2586"/>
                  </a:lnTo>
                  <a:lnTo>
                    <a:pt x="218" y="2589"/>
                  </a:lnTo>
                  <a:lnTo>
                    <a:pt x="198" y="2593"/>
                  </a:lnTo>
                  <a:lnTo>
                    <a:pt x="176" y="2596"/>
                  </a:lnTo>
                  <a:lnTo>
                    <a:pt x="156" y="2599"/>
                  </a:lnTo>
                  <a:lnTo>
                    <a:pt x="134" y="2602"/>
                  </a:lnTo>
                  <a:lnTo>
                    <a:pt x="114" y="2603"/>
                  </a:lnTo>
                  <a:lnTo>
                    <a:pt x="92" y="2607"/>
                  </a:lnTo>
                  <a:lnTo>
                    <a:pt x="72" y="2607"/>
                  </a:lnTo>
                  <a:lnTo>
                    <a:pt x="50" y="2607"/>
                  </a:lnTo>
                  <a:lnTo>
                    <a:pt x="30" y="2605"/>
                  </a:lnTo>
                  <a:lnTo>
                    <a:pt x="8" y="2603"/>
                  </a:lnTo>
                  <a:lnTo>
                    <a:pt x="2" y="2597"/>
                  </a:lnTo>
                  <a:lnTo>
                    <a:pt x="0" y="2588"/>
                  </a:lnTo>
                  <a:lnTo>
                    <a:pt x="3" y="2577"/>
                  </a:lnTo>
                  <a:lnTo>
                    <a:pt x="6" y="2568"/>
                  </a:lnTo>
                  <a:lnTo>
                    <a:pt x="19" y="2532"/>
                  </a:lnTo>
                  <a:lnTo>
                    <a:pt x="34" y="2497"/>
                  </a:lnTo>
                  <a:lnTo>
                    <a:pt x="55" y="2465"/>
                  </a:lnTo>
                  <a:lnTo>
                    <a:pt x="76" y="2432"/>
                  </a:lnTo>
                  <a:lnTo>
                    <a:pt x="100" y="2401"/>
                  </a:lnTo>
                  <a:lnTo>
                    <a:pt x="125" y="2370"/>
                  </a:lnTo>
                  <a:lnTo>
                    <a:pt x="151" y="2339"/>
                  </a:lnTo>
                  <a:lnTo>
                    <a:pt x="179" y="2309"/>
                  </a:lnTo>
                  <a:lnTo>
                    <a:pt x="355" y="2075"/>
                  </a:lnTo>
                  <a:lnTo>
                    <a:pt x="478" y="1913"/>
                  </a:lnTo>
                  <a:lnTo>
                    <a:pt x="483" y="1907"/>
                  </a:lnTo>
                  <a:lnTo>
                    <a:pt x="491" y="1906"/>
                  </a:lnTo>
                  <a:lnTo>
                    <a:pt x="497" y="1906"/>
                  </a:lnTo>
                  <a:lnTo>
                    <a:pt x="503" y="1906"/>
                  </a:lnTo>
                  <a:lnTo>
                    <a:pt x="529" y="1902"/>
                  </a:lnTo>
                  <a:lnTo>
                    <a:pt x="554" y="1902"/>
                  </a:lnTo>
                  <a:lnTo>
                    <a:pt x="581" y="1902"/>
                  </a:lnTo>
                  <a:lnTo>
                    <a:pt x="606" y="1906"/>
                  </a:lnTo>
                  <a:lnTo>
                    <a:pt x="632" y="1907"/>
                  </a:lnTo>
                  <a:lnTo>
                    <a:pt x="659" y="1910"/>
                  </a:lnTo>
                  <a:lnTo>
                    <a:pt x="685" y="1912"/>
                  </a:lnTo>
                  <a:lnTo>
                    <a:pt x="712" y="1912"/>
                  </a:lnTo>
                  <a:lnTo>
                    <a:pt x="713" y="1899"/>
                  </a:lnTo>
                  <a:lnTo>
                    <a:pt x="716" y="1887"/>
                  </a:lnTo>
                  <a:lnTo>
                    <a:pt x="718" y="1876"/>
                  </a:lnTo>
                  <a:lnTo>
                    <a:pt x="716" y="1863"/>
                  </a:lnTo>
                  <a:lnTo>
                    <a:pt x="687" y="1853"/>
                  </a:lnTo>
                  <a:lnTo>
                    <a:pt x="656" y="1840"/>
                  </a:lnTo>
                  <a:lnTo>
                    <a:pt x="626" y="1825"/>
                  </a:lnTo>
                  <a:lnTo>
                    <a:pt x="598" y="1807"/>
                  </a:lnTo>
                  <a:lnTo>
                    <a:pt x="571" y="1789"/>
                  </a:lnTo>
                  <a:lnTo>
                    <a:pt x="547" y="1767"/>
                  </a:lnTo>
                  <a:lnTo>
                    <a:pt x="525" y="1740"/>
                  </a:lnTo>
                  <a:lnTo>
                    <a:pt x="506" y="1711"/>
                  </a:lnTo>
                  <a:lnTo>
                    <a:pt x="478" y="1641"/>
                  </a:lnTo>
                  <a:lnTo>
                    <a:pt x="464" y="1567"/>
                  </a:lnTo>
                  <a:lnTo>
                    <a:pt x="463" y="1494"/>
                  </a:lnTo>
                  <a:lnTo>
                    <a:pt x="473" y="1419"/>
                  </a:lnTo>
                  <a:lnTo>
                    <a:pt x="492" y="1346"/>
                  </a:lnTo>
                  <a:lnTo>
                    <a:pt x="520" y="1276"/>
                  </a:lnTo>
                  <a:lnTo>
                    <a:pt x="553" y="1211"/>
                  </a:lnTo>
                  <a:lnTo>
                    <a:pt x="590" y="1148"/>
                  </a:lnTo>
                  <a:lnTo>
                    <a:pt x="618" y="1116"/>
                  </a:lnTo>
                  <a:lnTo>
                    <a:pt x="648" y="1085"/>
                  </a:lnTo>
                  <a:lnTo>
                    <a:pt x="677" y="1055"/>
                  </a:lnTo>
                  <a:lnTo>
                    <a:pt x="708" y="1027"/>
                  </a:lnTo>
                  <a:lnTo>
                    <a:pt x="740" y="999"/>
                  </a:lnTo>
                  <a:lnTo>
                    <a:pt x="772" y="974"/>
                  </a:lnTo>
                  <a:lnTo>
                    <a:pt x="805" y="951"/>
                  </a:lnTo>
                  <a:lnTo>
                    <a:pt x="838" y="927"/>
                  </a:lnTo>
                  <a:lnTo>
                    <a:pt x="872" y="905"/>
                  </a:lnTo>
                  <a:lnTo>
                    <a:pt x="908" y="885"/>
                  </a:lnTo>
                  <a:lnTo>
                    <a:pt x="942" y="865"/>
                  </a:lnTo>
                  <a:lnTo>
                    <a:pt x="978" y="846"/>
                  </a:lnTo>
                  <a:lnTo>
                    <a:pt x="1013" y="828"/>
                  </a:lnTo>
                  <a:lnTo>
                    <a:pt x="1049" y="810"/>
                  </a:lnTo>
                  <a:lnTo>
                    <a:pt x="1087" y="793"/>
                  </a:lnTo>
                  <a:lnTo>
                    <a:pt x="1122" y="778"/>
                  </a:lnTo>
                  <a:lnTo>
                    <a:pt x="1112" y="753"/>
                  </a:lnTo>
                  <a:lnTo>
                    <a:pt x="1108" y="728"/>
                  </a:lnTo>
                  <a:lnTo>
                    <a:pt x="1108" y="700"/>
                  </a:lnTo>
                  <a:lnTo>
                    <a:pt x="1113" y="673"/>
                  </a:lnTo>
                  <a:lnTo>
                    <a:pt x="1101" y="670"/>
                  </a:lnTo>
                  <a:lnTo>
                    <a:pt x="1090" y="662"/>
                  </a:lnTo>
                  <a:lnTo>
                    <a:pt x="1080" y="655"/>
                  </a:lnTo>
                  <a:lnTo>
                    <a:pt x="1073" y="644"/>
                  </a:lnTo>
                  <a:lnTo>
                    <a:pt x="1066" y="633"/>
                  </a:lnTo>
                  <a:lnTo>
                    <a:pt x="1060" y="622"/>
                  </a:lnTo>
                  <a:lnTo>
                    <a:pt x="1057" y="609"/>
                  </a:lnTo>
                  <a:lnTo>
                    <a:pt x="1054" y="597"/>
                  </a:lnTo>
                  <a:lnTo>
                    <a:pt x="1056" y="583"/>
                  </a:lnTo>
                  <a:lnTo>
                    <a:pt x="1054" y="572"/>
                  </a:lnTo>
                  <a:lnTo>
                    <a:pt x="1046" y="564"/>
                  </a:lnTo>
                  <a:lnTo>
                    <a:pt x="1038" y="560"/>
                  </a:lnTo>
                  <a:lnTo>
                    <a:pt x="1029" y="553"/>
                  </a:lnTo>
                  <a:lnTo>
                    <a:pt x="1020" y="547"/>
                  </a:lnTo>
                  <a:lnTo>
                    <a:pt x="1015" y="539"/>
                  </a:lnTo>
                  <a:lnTo>
                    <a:pt x="1012" y="527"/>
                  </a:lnTo>
                  <a:lnTo>
                    <a:pt x="1013" y="508"/>
                  </a:lnTo>
                  <a:lnTo>
                    <a:pt x="1017" y="489"/>
                  </a:lnTo>
                  <a:lnTo>
                    <a:pt x="1023" y="472"/>
                  </a:lnTo>
                  <a:lnTo>
                    <a:pt x="1031" y="457"/>
                  </a:lnTo>
                  <a:lnTo>
                    <a:pt x="1042" y="441"/>
                  </a:lnTo>
                  <a:lnTo>
                    <a:pt x="1054" y="427"/>
                  </a:lnTo>
                  <a:lnTo>
                    <a:pt x="1066" y="415"/>
                  </a:lnTo>
                  <a:lnTo>
                    <a:pt x="1082" y="402"/>
                  </a:lnTo>
                  <a:lnTo>
                    <a:pt x="1076" y="376"/>
                  </a:lnTo>
                  <a:lnTo>
                    <a:pt x="1077" y="351"/>
                  </a:lnTo>
                  <a:lnTo>
                    <a:pt x="1084" y="327"/>
                  </a:lnTo>
                  <a:lnTo>
                    <a:pt x="1094" y="306"/>
                  </a:lnTo>
                  <a:lnTo>
                    <a:pt x="1110" y="284"/>
                  </a:lnTo>
                  <a:lnTo>
                    <a:pt x="1127" y="265"/>
                  </a:lnTo>
                  <a:lnTo>
                    <a:pt x="1146" y="246"/>
                  </a:lnTo>
                  <a:lnTo>
                    <a:pt x="1164" y="229"/>
                  </a:lnTo>
                  <a:lnTo>
                    <a:pt x="1177" y="223"/>
                  </a:lnTo>
                  <a:lnTo>
                    <a:pt x="1189" y="217"/>
                  </a:lnTo>
                  <a:lnTo>
                    <a:pt x="1202" y="211"/>
                  </a:lnTo>
                  <a:lnTo>
                    <a:pt x="1216" y="206"/>
                  </a:lnTo>
                  <a:lnTo>
                    <a:pt x="1228" y="203"/>
                  </a:lnTo>
                  <a:lnTo>
                    <a:pt x="1242" y="200"/>
                  </a:lnTo>
                  <a:lnTo>
                    <a:pt x="1256" y="198"/>
                  </a:lnTo>
                  <a:lnTo>
                    <a:pt x="1272" y="198"/>
                  </a:lnTo>
                  <a:lnTo>
                    <a:pt x="1267" y="169"/>
                  </a:lnTo>
                  <a:lnTo>
                    <a:pt x="1267" y="136"/>
                  </a:lnTo>
                  <a:lnTo>
                    <a:pt x="1273" y="105"/>
                  </a:lnTo>
                  <a:lnTo>
                    <a:pt x="1291" y="78"/>
                  </a:lnTo>
                  <a:lnTo>
                    <a:pt x="1311" y="56"/>
                  </a:lnTo>
                  <a:lnTo>
                    <a:pt x="1334" y="39"/>
                  </a:lnTo>
                  <a:lnTo>
                    <a:pt x="1359" y="25"/>
                  </a:lnTo>
                  <a:lnTo>
                    <a:pt x="1384" y="13"/>
                  </a:lnTo>
                  <a:lnTo>
                    <a:pt x="1412" y="5"/>
                  </a:lnTo>
                  <a:lnTo>
                    <a:pt x="1440" y="2"/>
                  </a:lnTo>
                  <a:lnTo>
                    <a:pt x="1470" y="0"/>
                  </a:lnTo>
                  <a:lnTo>
                    <a:pt x="1501" y="3"/>
                  </a:lnTo>
                  <a:lnTo>
                    <a:pt x="1515" y="10"/>
                  </a:lnTo>
                  <a:lnTo>
                    <a:pt x="1529" y="16"/>
                  </a:lnTo>
                  <a:lnTo>
                    <a:pt x="1541" y="22"/>
                  </a:lnTo>
                  <a:lnTo>
                    <a:pt x="1555" y="30"/>
                  </a:lnTo>
                  <a:lnTo>
                    <a:pt x="1568" y="39"/>
                  </a:lnTo>
                  <a:lnTo>
                    <a:pt x="1580" y="49"/>
                  </a:lnTo>
                  <a:lnTo>
                    <a:pt x="1594" y="58"/>
                  </a:lnTo>
                  <a:lnTo>
                    <a:pt x="1607"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593360" y="4585680"/>
              <a:ext cx="905040" cy="488880"/>
            </a:xfrm>
            <a:custGeom>
              <a:avLst/>
              <a:gdLst/>
              <a:ahLst/>
              <a:rect l="l" t="t" r="r" b="b"/>
              <a:pathLst>
                <a:path w="1038" h="600">
                  <a:moveTo>
                    <a:pt x="824" y="35"/>
                  </a:moveTo>
                  <a:lnTo>
                    <a:pt x="831" y="33"/>
                  </a:lnTo>
                  <a:lnTo>
                    <a:pt x="839" y="30"/>
                  </a:lnTo>
                  <a:lnTo>
                    <a:pt x="847" y="27"/>
                  </a:lnTo>
                  <a:lnTo>
                    <a:pt x="855" y="24"/>
                  </a:lnTo>
                  <a:lnTo>
                    <a:pt x="862" y="22"/>
                  </a:lnTo>
                  <a:lnTo>
                    <a:pt x="870" y="21"/>
                  </a:lnTo>
                  <a:lnTo>
                    <a:pt x="878" y="21"/>
                  </a:lnTo>
                  <a:lnTo>
                    <a:pt x="887" y="24"/>
                  </a:lnTo>
                  <a:lnTo>
                    <a:pt x="900" y="42"/>
                  </a:lnTo>
                  <a:lnTo>
                    <a:pt x="904" y="66"/>
                  </a:lnTo>
                  <a:lnTo>
                    <a:pt x="909" y="89"/>
                  </a:lnTo>
                  <a:lnTo>
                    <a:pt x="923" y="108"/>
                  </a:lnTo>
                  <a:lnTo>
                    <a:pt x="936" y="125"/>
                  </a:lnTo>
                  <a:lnTo>
                    <a:pt x="950" y="136"/>
                  </a:lnTo>
                  <a:lnTo>
                    <a:pt x="967" y="144"/>
                  </a:lnTo>
                  <a:lnTo>
                    <a:pt x="985" y="148"/>
                  </a:lnTo>
                  <a:lnTo>
                    <a:pt x="1002" y="153"/>
                  </a:lnTo>
                  <a:lnTo>
                    <a:pt x="1018" y="161"/>
                  </a:lnTo>
                  <a:lnTo>
                    <a:pt x="1031" y="172"/>
                  </a:lnTo>
                  <a:lnTo>
                    <a:pt x="1038" y="190"/>
                  </a:lnTo>
                  <a:lnTo>
                    <a:pt x="990" y="262"/>
                  </a:lnTo>
                  <a:lnTo>
                    <a:pt x="848" y="407"/>
                  </a:lnTo>
                  <a:lnTo>
                    <a:pt x="842" y="418"/>
                  </a:lnTo>
                  <a:lnTo>
                    <a:pt x="839" y="430"/>
                  </a:lnTo>
                  <a:lnTo>
                    <a:pt x="836" y="444"/>
                  </a:lnTo>
                  <a:lnTo>
                    <a:pt x="834" y="457"/>
                  </a:lnTo>
                  <a:lnTo>
                    <a:pt x="831" y="469"/>
                  </a:lnTo>
                  <a:lnTo>
                    <a:pt x="825" y="480"/>
                  </a:lnTo>
                  <a:lnTo>
                    <a:pt x="816" y="488"/>
                  </a:lnTo>
                  <a:lnTo>
                    <a:pt x="802" y="493"/>
                  </a:lnTo>
                  <a:lnTo>
                    <a:pt x="788" y="503"/>
                  </a:lnTo>
                  <a:lnTo>
                    <a:pt x="774" y="513"/>
                  </a:lnTo>
                  <a:lnTo>
                    <a:pt x="758" y="521"/>
                  </a:lnTo>
                  <a:lnTo>
                    <a:pt x="743" y="527"/>
                  </a:lnTo>
                  <a:lnTo>
                    <a:pt x="727" y="533"/>
                  </a:lnTo>
                  <a:lnTo>
                    <a:pt x="710" y="539"/>
                  </a:lnTo>
                  <a:lnTo>
                    <a:pt x="694" y="544"/>
                  </a:lnTo>
                  <a:lnTo>
                    <a:pt x="677" y="547"/>
                  </a:lnTo>
                  <a:lnTo>
                    <a:pt x="660" y="552"/>
                  </a:lnTo>
                  <a:lnTo>
                    <a:pt x="645" y="556"/>
                  </a:lnTo>
                  <a:lnTo>
                    <a:pt x="627" y="561"/>
                  </a:lnTo>
                  <a:lnTo>
                    <a:pt x="612" y="566"/>
                  </a:lnTo>
                  <a:lnTo>
                    <a:pt x="596" y="572"/>
                  </a:lnTo>
                  <a:lnTo>
                    <a:pt x="581" y="580"/>
                  </a:lnTo>
                  <a:lnTo>
                    <a:pt x="565" y="588"/>
                  </a:lnTo>
                  <a:lnTo>
                    <a:pt x="551" y="597"/>
                  </a:lnTo>
                  <a:lnTo>
                    <a:pt x="534" y="598"/>
                  </a:lnTo>
                  <a:lnTo>
                    <a:pt x="517" y="600"/>
                  </a:lnTo>
                  <a:lnTo>
                    <a:pt x="500" y="598"/>
                  </a:lnTo>
                  <a:lnTo>
                    <a:pt x="483" y="597"/>
                  </a:lnTo>
                  <a:lnTo>
                    <a:pt x="467" y="594"/>
                  </a:lnTo>
                  <a:lnTo>
                    <a:pt x="452" y="589"/>
                  </a:lnTo>
                  <a:lnTo>
                    <a:pt x="434" y="584"/>
                  </a:lnTo>
                  <a:lnTo>
                    <a:pt x="419" y="580"/>
                  </a:lnTo>
                  <a:lnTo>
                    <a:pt x="403" y="574"/>
                  </a:lnTo>
                  <a:lnTo>
                    <a:pt x="388" y="567"/>
                  </a:lnTo>
                  <a:lnTo>
                    <a:pt x="374" y="561"/>
                  </a:lnTo>
                  <a:lnTo>
                    <a:pt x="358" y="553"/>
                  </a:lnTo>
                  <a:lnTo>
                    <a:pt x="343" y="547"/>
                  </a:lnTo>
                  <a:lnTo>
                    <a:pt x="329" y="539"/>
                  </a:lnTo>
                  <a:lnTo>
                    <a:pt x="313" y="531"/>
                  </a:lnTo>
                  <a:lnTo>
                    <a:pt x="299" y="525"/>
                  </a:lnTo>
                  <a:lnTo>
                    <a:pt x="268" y="514"/>
                  </a:lnTo>
                  <a:lnTo>
                    <a:pt x="237" y="502"/>
                  </a:lnTo>
                  <a:lnTo>
                    <a:pt x="207" y="486"/>
                  </a:lnTo>
                  <a:lnTo>
                    <a:pt x="179" y="466"/>
                  </a:lnTo>
                  <a:lnTo>
                    <a:pt x="153" y="444"/>
                  </a:lnTo>
                  <a:lnTo>
                    <a:pt x="132" y="418"/>
                  </a:lnTo>
                  <a:lnTo>
                    <a:pt x="117" y="388"/>
                  </a:lnTo>
                  <a:lnTo>
                    <a:pt x="109" y="354"/>
                  </a:lnTo>
                  <a:lnTo>
                    <a:pt x="123" y="345"/>
                  </a:lnTo>
                  <a:lnTo>
                    <a:pt x="132" y="332"/>
                  </a:lnTo>
                  <a:lnTo>
                    <a:pt x="142" y="318"/>
                  </a:lnTo>
                  <a:lnTo>
                    <a:pt x="150" y="304"/>
                  </a:lnTo>
                  <a:lnTo>
                    <a:pt x="150" y="287"/>
                  </a:lnTo>
                  <a:lnTo>
                    <a:pt x="146" y="271"/>
                  </a:lnTo>
                  <a:lnTo>
                    <a:pt x="142" y="256"/>
                  </a:lnTo>
                  <a:lnTo>
                    <a:pt x="136" y="240"/>
                  </a:lnTo>
                  <a:lnTo>
                    <a:pt x="126" y="232"/>
                  </a:lnTo>
                  <a:lnTo>
                    <a:pt x="115" y="225"/>
                  </a:lnTo>
                  <a:lnTo>
                    <a:pt x="106" y="218"/>
                  </a:lnTo>
                  <a:lnTo>
                    <a:pt x="94" y="221"/>
                  </a:lnTo>
                  <a:lnTo>
                    <a:pt x="87" y="221"/>
                  </a:lnTo>
                  <a:lnTo>
                    <a:pt x="83" y="223"/>
                  </a:lnTo>
                  <a:lnTo>
                    <a:pt x="76" y="225"/>
                  </a:lnTo>
                  <a:lnTo>
                    <a:pt x="70" y="226"/>
                  </a:lnTo>
                  <a:lnTo>
                    <a:pt x="64" y="226"/>
                  </a:lnTo>
                  <a:lnTo>
                    <a:pt x="58" y="228"/>
                  </a:lnTo>
                  <a:lnTo>
                    <a:pt x="51" y="228"/>
                  </a:lnTo>
                  <a:lnTo>
                    <a:pt x="45" y="226"/>
                  </a:lnTo>
                  <a:lnTo>
                    <a:pt x="34" y="215"/>
                  </a:lnTo>
                  <a:lnTo>
                    <a:pt x="23" y="204"/>
                  </a:lnTo>
                  <a:lnTo>
                    <a:pt x="14" y="192"/>
                  </a:lnTo>
                  <a:lnTo>
                    <a:pt x="8" y="178"/>
                  </a:lnTo>
                  <a:lnTo>
                    <a:pt x="3" y="164"/>
                  </a:lnTo>
                  <a:lnTo>
                    <a:pt x="0" y="148"/>
                  </a:lnTo>
                  <a:lnTo>
                    <a:pt x="0" y="133"/>
                  </a:lnTo>
                  <a:lnTo>
                    <a:pt x="5" y="116"/>
                  </a:lnTo>
                  <a:lnTo>
                    <a:pt x="9" y="100"/>
                  </a:lnTo>
                  <a:lnTo>
                    <a:pt x="19" y="86"/>
                  </a:lnTo>
                  <a:lnTo>
                    <a:pt x="28" y="74"/>
                  </a:lnTo>
                  <a:lnTo>
                    <a:pt x="41" y="63"/>
                  </a:lnTo>
                  <a:lnTo>
                    <a:pt x="47" y="61"/>
                  </a:lnTo>
                  <a:lnTo>
                    <a:pt x="53" y="61"/>
                  </a:lnTo>
                  <a:lnTo>
                    <a:pt x="59" y="59"/>
                  </a:lnTo>
                  <a:lnTo>
                    <a:pt x="65" y="59"/>
                  </a:lnTo>
                  <a:lnTo>
                    <a:pt x="73" y="59"/>
                  </a:lnTo>
                  <a:lnTo>
                    <a:pt x="80" y="59"/>
                  </a:lnTo>
                  <a:lnTo>
                    <a:pt x="87" y="59"/>
                  </a:lnTo>
                  <a:lnTo>
                    <a:pt x="94" y="59"/>
                  </a:lnTo>
                  <a:lnTo>
                    <a:pt x="100" y="70"/>
                  </a:lnTo>
                  <a:lnTo>
                    <a:pt x="106" y="81"/>
                  </a:lnTo>
                  <a:lnTo>
                    <a:pt x="115" y="88"/>
                  </a:lnTo>
                  <a:lnTo>
                    <a:pt x="126" y="81"/>
                  </a:lnTo>
                  <a:lnTo>
                    <a:pt x="129" y="72"/>
                  </a:lnTo>
                  <a:lnTo>
                    <a:pt x="132" y="63"/>
                  </a:lnTo>
                  <a:lnTo>
                    <a:pt x="137" y="52"/>
                  </a:lnTo>
                  <a:lnTo>
                    <a:pt x="142" y="42"/>
                  </a:lnTo>
                  <a:lnTo>
                    <a:pt x="148" y="35"/>
                  </a:lnTo>
                  <a:lnTo>
                    <a:pt x="156" y="27"/>
                  </a:lnTo>
                  <a:lnTo>
                    <a:pt x="164" y="19"/>
                  </a:lnTo>
                  <a:lnTo>
                    <a:pt x="173" y="14"/>
                  </a:lnTo>
                  <a:lnTo>
                    <a:pt x="192" y="11"/>
                  </a:lnTo>
                  <a:lnTo>
                    <a:pt x="207" y="16"/>
                  </a:lnTo>
                  <a:lnTo>
                    <a:pt x="220" y="24"/>
                  </a:lnTo>
                  <a:lnTo>
                    <a:pt x="232" y="36"/>
                  </a:lnTo>
                  <a:lnTo>
                    <a:pt x="243" y="49"/>
                  </a:lnTo>
                  <a:lnTo>
                    <a:pt x="255" y="63"/>
                  </a:lnTo>
                  <a:lnTo>
                    <a:pt x="269" y="72"/>
                  </a:lnTo>
                  <a:lnTo>
                    <a:pt x="285" y="80"/>
                  </a:lnTo>
                  <a:lnTo>
                    <a:pt x="308" y="84"/>
                  </a:lnTo>
                  <a:lnTo>
                    <a:pt x="332" y="86"/>
                  </a:lnTo>
                  <a:lnTo>
                    <a:pt x="355" y="88"/>
                  </a:lnTo>
                  <a:lnTo>
                    <a:pt x="380" y="88"/>
                  </a:lnTo>
                  <a:lnTo>
                    <a:pt x="402" y="86"/>
                  </a:lnTo>
                  <a:lnTo>
                    <a:pt x="425" y="83"/>
                  </a:lnTo>
                  <a:lnTo>
                    <a:pt x="448" y="78"/>
                  </a:lnTo>
                  <a:lnTo>
                    <a:pt x="472" y="74"/>
                  </a:lnTo>
                  <a:lnTo>
                    <a:pt x="494" y="67"/>
                  </a:lnTo>
                  <a:lnTo>
                    <a:pt x="515" y="61"/>
                  </a:lnTo>
                  <a:lnTo>
                    <a:pt x="537" y="53"/>
                  </a:lnTo>
                  <a:lnTo>
                    <a:pt x="559" y="44"/>
                  </a:lnTo>
                  <a:lnTo>
                    <a:pt x="579" y="35"/>
                  </a:lnTo>
                  <a:lnTo>
                    <a:pt x="601" y="24"/>
                  </a:lnTo>
                  <a:lnTo>
                    <a:pt x="620" y="13"/>
                  </a:lnTo>
                  <a:lnTo>
                    <a:pt x="640" y="0"/>
                  </a:lnTo>
                  <a:lnTo>
                    <a:pt x="665" y="2"/>
                  </a:lnTo>
                  <a:lnTo>
                    <a:pt x="687" y="7"/>
                  </a:lnTo>
                  <a:lnTo>
                    <a:pt x="710" y="13"/>
                  </a:lnTo>
                  <a:lnTo>
                    <a:pt x="732" y="21"/>
                  </a:lnTo>
                  <a:lnTo>
                    <a:pt x="753" y="27"/>
                  </a:lnTo>
                  <a:lnTo>
                    <a:pt x="775" y="33"/>
                  </a:lnTo>
                  <a:lnTo>
                    <a:pt x="799" y="36"/>
                  </a:lnTo>
                  <a:lnTo>
                    <a:pt x="824" y="35"/>
                  </a:lnTo>
                  <a:close/>
                </a:path>
              </a:pathLst>
            </a:custGeom>
            <a:solidFill>
              <a:srgbClr val="8c3f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340000" y="4678560"/>
              <a:ext cx="275760" cy="369720"/>
            </a:xfrm>
            <a:custGeom>
              <a:avLst/>
              <a:gdLst/>
              <a:ahLst/>
              <a:rect l="l" t="t" r="r" b="b"/>
              <a:pathLst>
                <a:path w="316" h="453">
                  <a:moveTo>
                    <a:pt x="282" y="110"/>
                  </a:moveTo>
                  <a:lnTo>
                    <a:pt x="283" y="115"/>
                  </a:lnTo>
                  <a:lnTo>
                    <a:pt x="282" y="126"/>
                  </a:lnTo>
                  <a:lnTo>
                    <a:pt x="280" y="135"/>
                  </a:lnTo>
                  <a:lnTo>
                    <a:pt x="283" y="138"/>
                  </a:lnTo>
                  <a:lnTo>
                    <a:pt x="293" y="126"/>
                  </a:lnTo>
                  <a:lnTo>
                    <a:pt x="301" y="107"/>
                  </a:lnTo>
                  <a:lnTo>
                    <a:pt x="307" y="90"/>
                  </a:lnTo>
                  <a:lnTo>
                    <a:pt x="315" y="77"/>
                  </a:lnTo>
                  <a:lnTo>
                    <a:pt x="316" y="126"/>
                  </a:lnTo>
                  <a:lnTo>
                    <a:pt x="310" y="172"/>
                  </a:lnTo>
                  <a:lnTo>
                    <a:pt x="299" y="216"/>
                  </a:lnTo>
                  <a:lnTo>
                    <a:pt x="282" y="258"/>
                  </a:lnTo>
                  <a:lnTo>
                    <a:pt x="262" y="300"/>
                  </a:lnTo>
                  <a:lnTo>
                    <a:pt x="237" y="339"/>
                  </a:lnTo>
                  <a:lnTo>
                    <a:pt x="210" y="378"/>
                  </a:lnTo>
                  <a:lnTo>
                    <a:pt x="184" y="417"/>
                  </a:lnTo>
                  <a:lnTo>
                    <a:pt x="165" y="423"/>
                  </a:lnTo>
                  <a:lnTo>
                    <a:pt x="146" y="431"/>
                  </a:lnTo>
                  <a:lnTo>
                    <a:pt x="126" y="440"/>
                  </a:lnTo>
                  <a:lnTo>
                    <a:pt x="106" y="447"/>
                  </a:lnTo>
                  <a:lnTo>
                    <a:pt x="86" y="451"/>
                  </a:lnTo>
                  <a:lnTo>
                    <a:pt x="67" y="453"/>
                  </a:lnTo>
                  <a:lnTo>
                    <a:pt x="48" y="448"/>
                  </a:lnTo>
                  <a:lnTo>
                    <a:pt x="30" y="436"/>
                  </a:lnTo>
                  <a:lnTo>
                    <a:pt x="13" y="412"/>
                  </a:lnTo>
                  <a:lnTo>
                    <a:pt x="3" y="387"/>
                  </a:lnTo>
                  <a:lnTo>
                    <a:pt x="0" y="359"/>
                  </a:lnTo>
                  <a:lnTo>
                    <a:pt x="3" y="330"/>
                  </a:lnTo>
                  <a:lnTo>
                    <a:pt x="16" y="306"/>
                  </a:lnTo>
                  <a:lnTo>
                    <a:pt x="30" y="286"/>
                  </a:lnTo>
                  <a:lnTo>
                    <a:pt x="47" y="266"/>
                  </a:lnTo>
                  <a:lnTo>
                    <a:pt x="66" y="247"/>
                  </a:lnTo>
                  <a:lnTo>
                    <a:pt x="86" y="230"/>
                  </a:lnTo>
                  <a:lnTo>
                    <a:pt x="104" y="211"/>
                  </a:lnTo>
                  <a:lnTo>
                    <a:pt x="125" y="194"/>
                  </a:lnTo>
                  <a:lnTo>
                    <a:pt x="142" y="174"/>
                  </a:lnTo>
                  <a:lnTo>
                    <a:pt x="151" y="163"/>
                  </a:lnTo>
                  <a:lnTo>
                    <a:pt x="161" y="152"/>
                  </a:lnTo>
                  <a:lnTo>
                    <a:pt x="170" y="141"/>
                  </a:lnTo>
                  <a:lnTo>
                    <a:pt x="178" y="129"/>
                  </a:lnTo>
                  <a:lnTo>
                    <a:pt x="185" y="116"/>
                  </a:lnTo>
                  <a:lnTo>
                    <a:pt x="192" y="104"/>
                  </a:lnTo>
                  <a:lnTo>
                    <a:pt x="199" y="91"/>
                  </a:lnTo>
                  <a:lnTo>
                    <a:pt x="206" y="79"/>
                  </a:lnTo>
                  <a:lnTo>
                    <a:pt x="209" y="105"/>
                  </a:lnTo>
                  <a:lnTo>
                    <a:pt x="207" y="130"/>
                  </a:lnTo>
                  <a:lnTo>
                    <a:pt x="203" y="155"/>
                  </a:lnTo>
                  <a:lnTo>
                    <a:pt x="198" y="180"/>
                  </a:lnTo>
                  <a:lnTo>
                    <a:pt x="203" y="185"/>
                  </a:lnTo>
                  <a:lnTo>
                    <a:pt x="207" y="187"/>
                  </a:lnTo>
                  <a:lnTo>
                    <a:pt x="212" y="188"/>
                  </a:lnTo>
                  <a:lnTo>
                    <a:pt x="218" y="188"/>
                  </a:lnTo>
                  <a:lnTo>
                    <a:pt x="227" y="165"/>
                  </a:lnTo>
                  <a:lnTo>
                    <a:pt x="235" y="141"/>
                  </a:lnTo>
                  <a:lnTo>
                    <a:pt x="243" y="118"/>
                  </a:lnTo>
                  <a:lnTo>
                    <a:pt x="249" y="93"/>
                  </a:lnTo>
                  <a:lnTo>
                    <a:pt x="254" y="70"/>
                  </a:lnTo>
                  <a:lnTo>
                    <a:pt x="262" y="46"/>
                  </a:lnTo>
                  <a:lnTo>
                    <a:pt x="269" y="23"/>
                  </a:lnTo>
                  <a:lnTo>
                    <a:pt x="279" y="0"/>
                  </a:lnTo>
                  <a:lnTo>
                    <a:pt x="282" y="110"/>
                  </a:lnTo>
                  <a:close/>
                </a:path>
              </a:pathLst>
            </a:custGeom>
            <a:solidFill>
              <a:srgbClr val="8c3f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027800" y="4766760"/>
              <a:ext cx="1409760" cy="907920"/>
            </a:xfrm>
            <a:custGeom>
              <a:avLst/>
              <a:gdLst/>
              <a:ahLst/>
              <a:rect l="l" t="t" r="r" b="b"/>
              <a:pathLst>
                <a:path w="1615" h="1114">
                  <a:moveTo>
                    <a:pt x="684" y="23"/>
                  </a:moveTo>
                  <a:lnTo>
                    <a:pt x="675" y="37"/>
                  </a:lnTo>
                  <a:lnTo>
                    <a:pt x="669" y="53"/>
                  </a:lnTo>
                  <a:lnTo>
                    <a:pt x="667" y="70"/>
                  </a:lnTo>
                  <a:lnTo>
                    <a:pt x="670" y="87"/>
                  </a:lnTo>
                  <a:lnTo>
                    <a:pt x="675" y="103"/>
                  </a:lnTo>
                  <a:lnTo>
                    <a:pt x="684" y="118"/>
                  </a:lnTo>
                  <a:lnTo>
                    <a:pt x="695" y="129"/>
                  </a:lnTo>
                  <a:lnTo>
                    <a:pt x="712" y="134"/>
                  </a:lnTo>
                  <a:lnTo>
                    <a:pt x="719" y="136"/>
                  </a:lnTo>
                  <a:lnTo>
                    <a:pt x="725" y="137"/>
                  </a:lnTo>
                  <a:lnTo>
                    <a:pt x="733" y="137"/>
                  </a:lnTo>
                  <a:lnTo>
                    <a:pt x="741" y="137"/>
                  </a:lnTo>
                  <a:lnTo>
                    <a:pt x="745" y="164"/>
                  </a:lnTo>
                  <a:lnTo>
                    <a:pt x="755" y="187"/>
                  </a:lnTo>
                  <a:lnTo>
                    <a:pt x="765" y="209"/>
                  </a:lnTo>
                  <a:lnTo>
                    <a:pt x="779" y="227"/>
                  </a:lnTo>
                  <a:lnTo>
                    <a:pt x="795" y="245"/>
                  </a:lnTo>
                  <a:lnTo>
                    <a:pt x="814" y="260"/>
                  </a:lnTo>
                  <a:lnTo>
                    <a:pt x="832" y="274"/>
                  </a:lnTo>
                  <a:lnTo>
                    <a:pt x="853" y="287"/>
                  </a:lnTo>
                  <a:lnTo>
                    <a:pt x="874" y="298"/>
                  </a:lnTo>
                  <a:lnTo>
                    <a:pt x="896" y="308"/>
                  </a:lnTo>
                  <a:lnTo>
                    <a:pt x="920" y="318"/>
                  </a:lnTo>
                  <a:lnTo>
                    <a:pt x="943" y="327"/>
                  </a:lnTo>
                  <a:lnTo>
                    <a:pt x="965" y="337"/>
                  </a:lnTo>
                  <a:lnTo>
                    <a:pt x="986" y="346"/>
                  </a:lnTo>
                  <a:lnTo>
                    <a:pt x="1008" y="355"/>
                  </a:lnTo>
                  <a:lnTo>
                    <a:pt x="1028" y="365"/>
                  </a:lnTo>
                  <a:lnTo>
                    <a:pt x="1044" y="372"/>
                  </a:lnTo>
                  <a:lnTo>
                    <a:pt x="1060" y="380"/>
                  </a:lnTo>
                  <a:lnTo>
                    <a:pt x="1077" y="386"/>
                  </a:lnTo>
                  <a:lnTo>
                    <a:pt x="1094" y="391"/>
                  </a:lnTo>
                  <a:lnTo>
                    <a:pt x="1109" y="397"/>
                  </a:lnTo>
                  <a:lnTo>
                    <a:pt x="1127" y="400"/>
                  </a:lnTo>
                  <a:lnTo>
                    <a:pt x="1144" y="402"/>
                  </a:lnTo>
                  <a:lnTo>
                    <a:pt x="1162" y="404"/>
                  </a:lnTo>
                  <a:lnTo>
                    <a:pt x="1179" y="404"/>
                  </a:lnTo>
                  <a:lnTo>
                    <a:pt x="1197" y="402"/>
                  </a:lnTo>
                  <a:lnTo>
                    <a:pt x="1214" y="399"/>
                  </a:lnTo>
                  <a:lnTo>
                    <a:pt x="1232" y="394"/>
                  </a:lnTo>
                  <a:lnTo>
                    <a:pt x="1249" y="388"/>
                  </a:lnTo>
                  <a:lnTo>
                    <a:pt x="1267" y="380"/>
                  </a:lnTo>
                  <a:lnTo>
                    <a:pt x="1284" y="369"/>
                  </a:lnTo>
                  <a:lnTo>
                    <a:pt x="1301" y="357"/>
                  </a:lnTo>
                  <a:lnTo>
                    <a:pt x="1326" y="352"/>
                  </a:lnTo>
                  <a:lnTo>
                    <a:pt x="1351" y="346"/>
                  </a:lnTo>
                  <a:lnTo>
                    <a:pt x="1374" y="337"/>
                  </a:lnTo>
                  <a:lnTo>
                    <a:pt x="1397" y="327"/>
                  </a:lnTo>
                  <a:lnTo>
                    <a:pt x="1419" y="316"/>
                  </a:lnTo>
                  <a:lnTo>
                    <a:pt x="1441" y="304"/>
                  </a:lnTo>
                  <a:lnTo>
                    <a:pt x="1463" y="291"/>
                  </a:lnTo>
                  <a:lnTo>
                    <a:pt x="1485" y="279"/>
                  </a:lnTo>
                  <a:lnTo>
                    <a:pt x="1486" y="294"/>
                  </a:lnTo>
                  <a:lnTo>
                    <a:pt x="1492" y="308"/>
                  </a:lnTo>
                  <a:lnTo>
                    <a:pt x="1500" y="321"/>
                  </a:lnTo>
                  <a:lnTo>
                    <a:pt x="1509" y="333"/>
                  </a:lnTo>
                  <a:lnTo>
                    <a:pt x="1520" y="344"/>
                  </a:lnTo>
                  <a:lnTo>
                    <a:pt x="1531" y="355"/>
                  </a:lnTo>
                  <a:lnTo>
                    <a:pt x="1541" y="368"/>
                  </a:lnTo>
                  <a:lnTo>
                    <a:pt x="1547" y="379"/>
                  </a:lnTo>
                  <a:lnTo>
                    <a:pt x="1553" y="472"/>
                  </a:lnTo>
                  <a:lnTo>
                    <a:pt x="1550" y="567"/>
                  </a:lnTo>
                  <a:lnTo>
                    <a:pt x="1542" y="662"/>
                  </a:lnTo>
                  <a:lnTo>
                    <a:pt x="1536" y="756"/>
                  </a:lnTo>
                  <a:lnTo>
                    <a:pt x="1536" y="849"/>
                  </a:lnTo>
                  <a:lnTo>
                    <a:pt x="1545" y="938"/>
                  </a:lnTo>
                  <a:lnTo>
                    <a:pt x="1570" y="1022"/>
                  </a:lnTo>
                  <a:lnTo>
                    <a:pt x="1615" y="1101"/>
                  </a:lnTo>
                  <a:lnTo>
                    <a:pt x="1595" y="1101"/>
                  </a:lnTo>
                  <a:lnTo>
                    <a:pt x="1569" y="1101"/>
                  </a:lnTo>
                  <a:lnTo>
                    <a:pt x="1536" y="1103"/>
                  </a:lnTo>
                  <a:lnTo>
                    <a:pt x="1499" y="1105"/>
                  </a:lnTo>
                  <a:lnTo>
                    <a:pt x="1456" y="1105"/>
                  </a:lnTo>
                  <a:lnTo>
                    <a:pt x="1413" y="1106"/>
                  </a:lnTo>
                  <a:lnTo>
                    <a:pt x="1366" y="1108"/>
                  </a:lnTo>
                  <a:lnTo>
                    <a:pt x="1320" y="1109"/>
                  </a:lnTo>
                  <a:lnTo>
                    <a:pt x="1274" y="1109"/>
                  </a:lnTo>
                  <a:lnTo>
                    <a:pt x="1229" y="1111"/>
                  </a:lnTo>
                  <a:lnTo>
                    <a:pt x="1189" y="1112"/>
                  </a:lnTo>
                  <a:lnTo>
                    <a:pt x="1151" y="1112"/>
                  </a:lnTo>
                  <a:lnTo>
                    <a:pt x="1120" y="1112"/>
                  </a:lnTo>
                  <a:lnTo>
                    <a:pt x="1095" y="1114"/>
                  </a:lnTo>
                  <a:lnTo>
                    <a:pt x="1077" y="1112"/>
                  </a:lnTo>
                  <a:lnTo>
                    <a:pt x="1067" y="1112"/>
                  </a:lnTo>
                  <a:lnTo>
                    <a:pt x="1078" y="1103"/>
                  </a:lnTo>
                  <a:lnTo>
                    <a:pt x="1091" y="1095"/>
                  </a:lnTo>
                  <a:lnTo>
                    <a:pt x="1100" y="1084"/>
                  </a:lnTo>
                  <a:lnTo>
                    <a:pt x="1103" y="1070"/>
                  </a:lnTo>
                  <a:lnTo>
                    <a:pt x="1089" y="1061"/>
                  </a:lnTo>
                  <a:lnTo>
                    <a:pt x="1080" y="1073"/>
                  </a:lnTo>
                  <a:lnTo>
                    <a:pt x="1069" y="1084"/>
                  </a:lnTo>
                  <a:lnTo>
                    <a:pt x="1055" y="1094"/>
                  </a:lnTo>
                  <a:lnTo>
                    <a:pt x="1041" y="1100"/>
                  </a:lnTo>
                  <a:lnTo>
                    <a:pt x="1025" y="1105"/>
                  </a:lnTo>
                  <a:lnTo>
                    <a:pt x="1010" y="1106"/>
                  </a:lnTo>
                  <a:lnTo>
                    <a:pt x="994" y="1106"/>
                  </a:lnTo>
                  <a:lnTo>
                    <a:pt x="977" y="1105"/>
                  </a:lnTo>
                  <a:lnTo>
                    <a:pt x="966" y="1103"/>
                  </a:lnTo>
                  <a:lnTo>
                    <a:pt x="957" y="1097"/>
                  </a:lnTo>
                  <a:lnTo>
                    <a:pt x="948" y="1087"/>
                  </a:lnTo>
                  <a:lnTo>
                    <a:pt x="941" y="1076"/>
                  </a:lnTo>
                  <a:lnTo>
                    <a:pt x="934" y="1069"/>
                  </a:lnTo>
                  <a:lnTo>
                    <a:pt x="927" y="1062"/>
                  </a:lnTo>
                  <a:lnTo>
                    <a:pt x="918" y="1062"/>
                  </a:lnTo>
                  <a:lnTo>
                    <a:pt x="909" y="1070"/>
                  </a:lnTo>
                  <a:lnTo>
                    <a:pt x="913" y="1083"/>
                  </a:lnTo>
                  <a:lnTo>
                    <a:pt x="923" y="1092"/>
                  </a:lnTo>
                  <a:lnTo>
                    <a:pt x="932" y="1101"/>
                  </a:lnTo>
                  <a:lnTo>
                    <a:pt x="940" y="1112"/>
                  </a:lnTo>
                  <a:lnTo>
                    <a:pt x="896" y="1111"/>
                  </a:lnTo>
                  <a:lnTo>
                    <a:pt x="851" y="1109"/>
                  </a:lnTo>
                  <a:lnTo>
                    <a:pt x="807" y="1108"/>
                  </a:lnTo>
                  <a:lnTo>
                    <a:pt x="765" y="1108"/>
                  </a:lnTo>
                  <a:lnTo>
                    <a:pt x="722" y="1108"/>
                  </a:lnTo>
                  <a:lnTo>
                    <a:pt x="680" y="1108"/>
                  </a:lnTo>
                  <a:lnTo>
                    <a:pt x="636" y="1108"/>
                  </a:lnTo>
                  <a:lnTo>
                    <a:pt x="594" y="1109"/>
                  </a:lnTo>
                  <a:lnTo>
                    <a:pt x="552" y="1109"/>
                  </a:lnTo>
                  <a:lnTo>
                    <a:pt x="510" y="1111"/>
                  </a:lnTo>
                  <a:lnTo>
                    <a:pt x="467" y="1111"/>
                  </a:lnTo>
                  <a:lnTo>
                    <a:pt x="425" y="1111"/>
                  </a:lnTo>
                  <a:lnTo>
                    <a:pt x="383" y="1112"/>
                  </a:lnTo>
                  <a:lnTo>
                    <a:pt x="340" y="1112"/>
                  </a:lnTo>
                  <a:lnTo>
                    <a:pt x="298" y="1111"/>
                  </a:lnTo>
                  <a:lnTo>
                    <a:pt x="256" y="1111"/>
                  </a:lnTo>
                  <a:lnTo>
                    <a:pt x="256" y="1075"/>
                  </a:lnTo>
                  <a:lnTo>
                    <a:pt x="280" y="1080"/>
                  </a:lnTo>
                  <a:lnTo>
                    <a:pt x="305" y="1084"/>
                  </a:lnTo>
                  <a:lnTo>
                    <a:pt x="330" y="1089"/>
                  </a:lnTo>
                  <a:lnTo>
                    <a:pt x="356" y="1092"/>
                  </a:lnTo>
                  <a:lnTo>
                    <a:pt x="381" y="1095"/>
                  </a:lnTo>
                  <a:lnTo>
                    <a:pt x="407" y="1098"/>
                  </a:lnTo>
                  <a:lnTo>
                    <a:pt x="434" y="1100"/>
                  </a:lnTo>
                  <a:lnTo>
                    <a:pt x="460" y="1098"/>
                  </a:lnTo>
                  <a:lnTo>
                    <a:pt x="487" y="1097"/>
                  </a:lnTo>
                  <a:lnTo>
                    <a:pt x="512" y="1094"/>
                  </a:lnTo>
                  <a:lnTo>
                    <a:pt x="537" y="1089"/>
                  </a:lnTo>
                  <a:lnTo>
                    <a:pt x="560" y="1081"/>
                  </a:lnTo>
                  <a:lnTo>
                    <a:pt x="583" y="1073"/>
                  </a:lnTo>
                  <a:lnTo>
                    <a:pt x="605" y="1061"/>
                  </a:lnTo>
                  <a:lnTo>
                    <a:pt x="627" y="1047"/>
                  </a:lnTo>
                  <a:lnTo>
                    <a:pt x="646" y="1030"/>
                  </a:lnTo>
                  <a:lnTo>
                    <a:pt x="661" y="1011"/>
                  </a:lnTo>
                  <a:lnTo>
                    <a:pt x="677" y="992"/>
                  </a:lnTo>
                  <a:lnTo>
                    <a:pt x="691" y="974"/>
                  </a:lnTo>
                  <a:lnTo>
                    <a:pt x="706" y="955"/>
                  </a:lnTo>
                  <a:lnTo>
                    <a:pt x="720" y="936"/>
                  </a:lnTo>
                  <a:lnTo>
                    <a:pt x="736" y="916"/>
                  </a:lnTo>
                  <a:lnTo>
                    <a:pt x="750" y="896"/>
                  </a:lnTo>
                  <a:lnTo>
                    <a:pt x="762" y="876"/>
                  </a:lnTo>
                  <a:lnTo>
                    <a:pt x="767" y="869"/>
                  </a:lnTo>
                  <a:lnTo>
                    <a:pt x="773" y="865"/>
                  </a:lnTo>
                  <a:lnTo>
                    <a:pt x="781" y="862"/>
                  </a:lnTo>
                  <a:lnTo>
                    <a:pt x="787" y="860"/>
                  </a:lnTo>
                  <a:lnTo>
                    <a:pt x="795" y="858"/>
                  </a:lnTo>
                  <a:lnTo>
                    <a:pt x="801" y="857"/>
                  </a:lnTo>
                  <a:lnTo>
                    <a:pt x="807" y="854"/>
                  </a:lnTo>
                  <a:lnTo>
                    <a:pt x="814" y="849"/>
                  </a:lnTo>
                  <a:lnTo>
                    <a:pt x="826" y="840"/>
                  </a:lnTo>
                  <a:lnTo>
                    <a:pt x="837" y="830"/>
                  </a:lnTo>
                  <a:lnTo>
                    <a:pt x="849" y="819"/>
                  </a:lnTo>
                  <a:lnTo>
                    <a:pt x="860" y="810"/>
                  </a:lnTo>
                  <a:lnTo>
                    <a:pt x="873" y="801"/>
                  </a:lnTo>
                  <a:lnTo>
                    <a:pt x="885" y="795"/>
                  </a:lnTo>
                  <a:lnTo>
                    <a:pt x="898" y="788"/>
                  </a:lnTo>
                  <a:lnTo>
                    <a:pt x="912" y="785"/>
                  </a:lnTo>
                  <a:lnTo>
                    <a:pt x="951" y="974"/>
                  </a:lnTo>
                  <a:lnTo>
                    <a:pt x="935" y="963"/>
                  </a:lnTo>
                  <a:lnTo>
                    <a:pt x="930" y="947"/>
                  </a:lnTo>
                  <a:lnTo>
                    <a:pt x="929" y="928"/>
                  </a:lnTo>
                  <a:lnTo>
                    <a:pt x="926" y="910"/>
                  </a:lnTo>
                  <a:lnTo>
                    <a:pt x="920" y="888"/>
                  </a:lnTo>
                  <a:lnTo>
                    <a:pt x="913" y="866"/>
                  </a:lnTo>
                  <a:lnTo>
                    <a:pt x="905" y="846"/>
                  </a:lnTo>
                  <a:lnTo>
                    <a:pt x="890" y="830"/>
                  </a:lnTo>
                  <a:lnTo>
                    <a:pt x="884" y="830"/>
                  </a:lnTo>
                  <a:lnTo>
                    <a:pt x="877" y="829"/>
                  </a:lnTo>
                  <a:lnTo>
                    <a:pt x="871" y="830"/>
                  </a:lnTo>
                  <a:lnTo>
                    <a:pt x="868" y="835"/>
                  </a:lnTo>
                  <a:lnTo>
                    <a:pt x="871" y="874"/>
                  </a:lnTo>
                  <a:lnTo>
                    <a:pt x="874" y="913"/>
                  </a:lnTo>
                  <a:lnTo>
                    <a:pt x="882" y="950"/>
                  </a:lnTo>
                  <a:lnTo>
                    <a:pt x="896" y="985"/>
                  </a:lnTo>
                  <a:lnTo>
                    <a:pt x="902" y="988"/>
                  </a:lnTo>
                  <a:lnTo>
                    <a:pt x="910" y="991"/>
                  </a:lnTo>
                  <a:lnTo>
                    <a:pt x="918" y="994"/>
                  </a:lnTo>
                  <a:lnTo>
                    <a:pt x="926" y="997"/>
                  </a:lnTo>
                  <a:lnTo>
                    <a:pt x="934" y="1002"/>
                  </a:lnTo>
                  <a:lnTo>
                    <a:pt x="940" y="1006"/>
                  </a:lnTo>
                  <a:lnTo>
                    <a:pt x="944" y="1011"/>
                  </a:lnTo>
                  <a:lnTo>
                    <a:pt x="949" y="1019"/>
                  </a:lnTo>
                  <a:lnTo>
                    <a:pt x="949" y="1030"/>
                  </a:lnTo>
                  <a:lnTo>
                    <a:pt x="954" y="1039"/>
                  </a:lnTo>
                  <a:lnTo>
                    <a:pt x="960" y="1047"/>
                  </a:lnTo>
                  <a:lnTo>
                    <a:pt x="968" y="1053"/>
                  </a:lnTo>
                  <a:lnTo>
                    <a:pt x="976" y="1059"/>
                  </a:lnTo>
                  <a:lnTo>
                    <a:pt x="985" y="1064"/>
                  </a:lnTo>
                  <a:lnTo>
                    <a:pt x="994" y="1070"/>
                  </a:lnTo>
                  <a:lnTo>
                    <a:pt x="1004" y="1075"/>
                  </a:lnTo>
                  <a:lnTo>
                    <a:pt x="1014" y="1075"/>
                  </a:lnTo>
                  <a:lnTo>
                    <a:pt x="1024" y="1073"/>
                  </a:lnTo>
                  <a:lnTo>
                    <a:pt x="1033" y="1070"/>
                  </a:lnTo>
                  <a:lnTo>
                    <a:pt x="1041" y="1067"/>
                  </a:lnTo>
                  <a:lnTo>
                    <a:pt x="1049" y="1061"/>
                  </a:lnTo>
                  <a:lnTo>
                    <a:pt x="1056" y="1055"/>
                  </a:lnTo>
                  <a:lnTo>
                    <a:pt x="1063" y="1048"/>
                  </a:lnTo>
                  <a:lnTo>
                    <a:pt x="1067" y="1041"/>
                  </a:lnTo>
                  <a:lnTo>
                    <a:pt x="1072" y="1019"/>
                  </a:lnTo>
                  <a:lnTo>
                    <a:pt x="1074" y="997"/>
                  </a:lnTo>
                  <a:lnTo>
                    <a:pt x="1070" y="977"/>
                  </a:lnTo>
                  <a:lnTo>
                    <a:pt x="1064" y="957"/>
                  </a:lnTo>
                  <a:lnTo>
                    <a:pt x="1058" y="936"/>
                  </a:lnTo>
                  <a:lnTo>
                    <a:pt x="1052" y="916"/>
                  </a:lnTo>
                  <a:lnTo>
                    <a:pt x="1046" y="896"/>
                  </a:lnTo>
                  <a:lnTo>
                    <a:pt x="1042" y="874"/>
                  </a:lnTo>
                  <a:lnTo>
                    <a:pt x="1053" y="876"/>
                  </a:lnTo>
                  <a:lnTo>
                    <a:pt x="1061" y="871"/>
                  </a:lnTo>
                  <a:lnTo>
                    <a:pt x="1067" y="863"/>
                  </a:lnTo>
                  <a:lnTo>
                    <a:pt x="1070" y="854"/>
                  </a:lnTo>
                  <a:lnTo>
                    <a:pt x="1074" y="821"/>
                  </a:lnTo>
                  <a:lnTo>
                    <a:pt x="1072" y="788"/>
                  </a:lnTo>
                  <a:lnTo>
                    <a:pt x="1064" y="757"/>
                  </a:lnTo>
                  <a:lnTo>
                    <a:pt x="1049" y="729"/>
                  </a:lnTo>
                  <a:lnTo>
                    <a:pt x="1050" y="714"/>
                  </a:lnTo>
                  <a:lnTo>
                    <a:pt x="1047" y="698"/>
                  </a:lnTo>
                  <a:lnTo>
                    <a:pt x="1042" y="682"/>
                  </a:lnTo>
                  <a:lnTo>
                    <a:pt x="1035" y="668"/>
                  </a:lnTo>
                  <a:lnTo>
                    <a:pt x="1025" y="654"/>
                  </a:lnTo>
                  <a:lnTo>
                    <a:pt x="1014" y="642"/>
                  </a:lnTo>
                  <a:lnTo>
                    <a:pt x="1000" y="631"/>
                  </a:lnTo>
                  <a:lnTo>
                    <a:pt x="986" y="622"/>
                  </a:lnTo>
                  <a:lnTo>
                    <a:pt x="1002" y="612"/>
                  </a:lnTo>
                  <a:lnTo>
                    <a:pt x="1013" y="597"/>
                  </a:lnTo>
                  <a:lnTo>
                    <a:pt x="1021" y="580"/>
                  </a:lnTo>
                  <a:lnTo>
                    <a:pt x="1027" y="562"/>
                  </a:lnTo>
                  <a:lnTo>
                    <a:pt x="1027" y="548"/>
                  </a:lnTo>
                  <a:lnTo>
                    <a:pt x="1025" y="534"/>
                  </a:lnTo>
                  <a:lnTo>
                    <a:pt x="1022" y="523"/>
                  </a:lnTo>
                  <a:lnTo>
                    <a:pt x="1014" y="513"/>
                  </a:lnTo>
                  <a:lnTo>
                    <a:pt x="1005" y="506"/>
                  </a:lnTo>
                  <a:lnTo>
                    <a:pt x="996" y="500"/>
                  </a:lnTo>
                  <a:lnTo>
                    <a:pt x="986" y="499"/>
                  </a:lnTo>
                  <a:lnTo>
                    <a:pt x="977" y="505"/>
                  </a:lnTo>
                  <a:lnTo>
                    <a:pt x="968" y="509"/>
                  </a:lnTo>
                  <a:lnTo>
                    <a:pt x="958" y="483"/>
                  </a:lnTo>
                  <a:lnTo>
                    <a:pt x="952" y="456"/>
                  </a:lnTo>
                  <a:lnTo>
                    <a:pt x="946" y="428"/>
                  </a:lnTo>
                  <a:lnTo>
                    <a:pt x="940" y="402"/>
                  </a:lnTo>
                  <a:lnTo>
                    <a:pt x="932" y="391"/>
                  </a:lnTo>
                  <a:lnTo>
                    <a:pt x="923" y="382"/>
                  </a:lnTo>
                  <a:lnTo>
                    <a:pt x="915" y="371"/>
                  </a:lnTo>
                  <a:lnTo>
                    <a:pt x="907" y="360"/>
                  </a:lnTo>
                  <a:lnTo>
                    <a:pt x="899" y="349"/>
                  </a:lnTo>
                  <a:lnTo>
                    <a:pt x="890" y="340"/>
                  </a:lnTo>
                  <a:lnTo>
                    <a:pt x="882" y="329"/>
                  </a:lnTo>
                  <a:lnTo>
                    <a:pt x="873" y="319"/>
                  </a:lnTo>
                  <a:lnTo>
                    <a:pt x="868" y="319"/>
                  </a:lnTo>
                  <a:lnTo>
                    <a:pt x="863" y="321"/>
                  </a:lnTo>
                  <a:lnTo>
                    <a:pt x="860" y="326"/>
                  </a:lnTo>
                  <a:lnTo>
                    <a:pt x="856" y="329"/>
                  </a:lnTo>
                  <a:lnTo>
                    <a:pt x="840" y="377"/>
                  </a:lnTo>
                  <a:lnTo>
                    <a:pt x="843" y="424"/>
                  </a:lnTo>
                  <a:lnTo>
                    <a:pt x="853" y="472"/>
                  </a:lnTo>
                  <a:lnTo>
                    <a:pt x="862" y="520"/>
                  </a:lnTo>
                  <a:lnTo>
                    <a:pt x="828" y="531"/>
                  </a:lnTo>
                  <a:lnTo>
                    <a:pt x="798" y="548"/>
                  </a:lnTo>
                  <a:lnTo>
                    <a:pt x="776" y="573"/>
                  </a:lnTo>
                  <a:lnTo>
                    <a:pt x="758" y="601"/>
                  </a:lnTo>
                  <a:lnTo>
                    <a:pt x="742" y="633"/>
                  </a:lnTo>
                  <a:lnTo>
                    <a:pt x="730" y="664"/>
                  </a:lnTo>
                  <a:lnTo>
                    <a:pt x="717" y="696"/>
                  </a:lnTo>
                  <a:lnTo>
                    <a:pt x="706" y="726"/>
                  </a:lnTo>
                  <a:lnTo>
                    <a:pt x="684" y="746"/>
                  </a:lnTo>
                  <a:lnTo>
                    <a:pt x="661" y="763"/>
                  </a:lnTo>
                  <a:lnTo>
                    <a:pt x="636" y="777"/>
                  </a:lnTo>
                  <a:lnTo>
                    <a:pt x="611" y="787"/>
                  </a:lnTo>
                  <a:lnTo>
                    <a:pt x="583" y="795"/>
                  </a:lnTo>
                  <a:lnTo>
                    <a:pt x="555" y="798"/>
                  </a:lnTo>
                  <a:lnTo>
                    <a:pt x="527" y="798"/>
                  </a:lnTo>
                  <a:lnTo>
                    <a:pt x="498" y="793"/>
                  </a:lnTo>
                  <a:lnTo>
                    <a:pt x="485" y="787"/>
                  </a:lnTo>
                  <a:lnTo>
                    <a:pt x="473" y="779"/>
                  </a:lnTo>
                  <a:lnTo>
                    <a:pt x="462" y="768"/>
                  </a:lnTo>
                  <a:lnTo>
                    <a:pt x="453" y="757"/>
                  </a:lnTo>
                  <a:lnTo>
                    <a:pt x="449" y="726"/>
                  </a:lnTo>
                  <a:lnTo>
                    <a:pt x="449" y="696"/>
                  </a:lnTo>
                  <a:lnTo>
                    <a:pt x="456" y="667"/>
                  </a:lnTo>
                  <a:lnTo>
                    <a:pt x="463" y="639"/>
                  </a:lnTo>
                  <a:lnTo>
                    <a:pt x="476" y="611"/>
                  </a:lnTo>
                  <a:lnTo>
                    <a:pt x="490" y="584"/>
                  </a:lnTo>
                  <a:lnTo>
                    <a:pt x="505" y="559"/>
                  </a:lnTo>
                  <a:lnTo>
                    <a:pt x="521" y="534"/>
                  </a:lnTo>
                  <a:lnTo>
                    <a:pt x="527" y="527"/>
                  </a:lnTo>
                  <a:lnTo>
                    <a:pt x="532" y="520"/>
                  </a:lnTo>
                  <a:lnTo>
                    <a:pt x="537" y="516"/>
                  </a:lnTo>
                  <a:lnTo>
                    <a:pt x="543" y="511"/>
                  </a:lnTo>
                  <a:lnTo>
                    <a:pt x="549" y="508"/>
                  </a:lnTo>
                  <a:lnTo>
                    <a:pt x="557" y="505"/>
                  </a:lnTo>
                  <a:lnTo>
                    <a:pt x="566" y="502"/>
                  </a:lnTo>
                  <a:lnTo>
                    <a:pt x="579" y="500"/>
                  </a:lnTo>
                  <a:lnTo>
                    <a:pt x="579" y="494"/>
                  </a:lnTo>
                  <a:lnTo>
                    <a:pt x="577" y="489"/>
                  </a:lnTo>
                  <a:lnTo>
                    <a:pt x="572" y="485"/>
                  </a:lnTo>
                  <a:lnTo>
                    <a:pt x="568" y="483"/>
                  </a:lnTo>
                  <a:lnTo>
                    <a:pt x="548" y="483"/>
                  </a:lnTo>
                  <a:lnTo>
                    <a:pt x="530" y="491"/>
                  </a:lnTo>
                  <a:lnTo>
                    <a:pt x="513" y="502"/>
                  </a:lnTo>
                  <a:lnTo>
                    <a:pt x="501" y="517"/>
                  </a:lnTo>
                  <a:lnTo>
                    <a:pt x="488" y="534"/>
                  </a:lnTo>
                  <a:lnTo>
                    <a:pt x="477" y="553"/>
                  </a:lnTo>
                  <a:lnTo>
                    <a:pt x="467" y="570"/>
                  </a:lnTo>
                  <a:lnTo>
                    <a:pt x="457" y="587"/>
                  </a:lnTo>
                  <a:lnTo>
                    <a:pt x="449" y="609"/>
                  </a:lnTo>
                  <a:lnTo>
                    <a:pt x="440" y="633"/>
                  </a:lnTo>
                  <a:lnTo>
                    <a:pt x="432" y="656"/>
                  </a:lnTo>
                  <a:lnTo>
                    <a:pt x="426" y="681"/>
                  </a:lnTo>
                  <a:lnTo>
                    <a:pt x="423" y="706"/>
                  </a:lnTo>
                  <a:lnTo>
                    <a:pt x="425" y="731"/>
                  </a:lnTo>
                  <a:lnTo>
                    <a:pt x="429" y="754"/>
                  </a:lnTo>
                  <a:lnTo>
                    <a:pt x="440" y="776"/>
                  </a:lnTo>
                  <a:lnTo>
                    <a:pt x="456" y="793"/>
                  </a:lnTo>
                  <a:lnTo>
                    <a:pt x="473" y="805"/>
                  </a:lnTo>
                  <a:lnTo>
                    <a:pt x="491" y="813"/>
                  </a:lnTo>
                  <a:lnTo>
                    <a:pt x="513" y="818"/>
                  </a:lnTo>
                  <a:lnTo>
                    <a:pt x="535" y="819"/>
                  </a:lnTo>
                  <a:lnTo>
                    <a:pt x="557" y="821"/>
                  </a:lnTo>
                  <a:lnTo>
                    <a:pt x="580" y="819"/>
                  </a:lnTo>
                  <a:lnTo>
                    <a:pt x="602" y="818"/>
                  </a:lnTo>
                  <a:lnTo>
                    <a:pt x="616" y="816"/>
                  </a:lnTo>
                  <a:lnTo>
                    <a:pt x="630" y="812"/>
                  </a:lnTo>
                  <a:lnTo>
                    <a:pt x="644" y="805"/>
                  </a:lnTo>
                  <a:lnTo>
                    <a:pt x="656" y="798"/>
                  </a:lnTo>
                  <a:lnTo>
                    <a:pt x="669" y="788"/>
                  </a:lnTo>
                  <a:lnTo>
                    <a:pt x="681" y="779"/>
                  </a:lnTo>
                  <a:lnTo>
                    <a:pt x="694" y="770"/>
                  </a:lnTo>
                  <a:lnTo>
                    <a:pt x="706" y="760"/>
                  </a:lnTo>
                  <a:lnTo>
                    <a:pt x="722" y="781"/>
                  </a:lnTo>
                  <a:lnTo>
                    <a:pt x="736" y="802"/>
                  </a:lnTo>
                  <a:lnTo>
                    <a:pt x="745" y="827"/>
                  </a:lnTo>
                  <a:lnTo>
                    <a:pt x="748" y="854"/>
                  </a:lnTo>
                  <a:lnTo>
                    <a:pt x="725" y="885"/>
                  </a:lnTo>
                  <a:lnTo>
                    <a:pt x="703" y="916"/>
                  </a:lnTo>
                  <a:lnTo>
                    <a:pt x="678" y="949"/>
                  </a:lnTo>
                  <a:lnTo>
                    <a:pt x="653" y="980"/>
                  </a:lnTo>
                  <a:lnTo>
                    <a:pt x="625" y="1010"/>
                  </a:lnTo>
                  <a:lnTo>
                    <a:pt x="596" y="1033"/>
                  </a:lnTo>
                  <a:lnTo>
                    <a:pt x="563" y="1052"/>
                  </a:lnTo>
                  <a:lnTo>
                    <a:pt x="526" y="1062"/>
                  </a:lnTo>
                  <a:lnTo>
                    <a:pt x="498" y="1069"/>
                  </a:lnTo>
                  <a:lnTo>
                    <a:pt x="471" y="1072"/>
                  </a:lnTo>
                  <a:lnTo>
                    <a:pt x="445" y="1075"/>
                  </a:lnTo>
                  <a:lnTo>
                    <a:pt x="418" y="1075"/>
                  </a:lnTo>
                  <a:lnTo>
                    <a:pt x="392" y="1075"/>
                  </a:lnTo>
                  <a:lnTo>
                    <a:pt x="365" y="1072"/>
                  </a:lnTo>
                  <a:lnTo>
                    <a:pt x="339" y="1069"/>
                  </a:lnTo>
                  <a:lnTo>
                    <a:pt x="314" y="1062"/>
                  </a:lnTo>
                  <a:lnTo>
                    <a:pt x="288" y="1056"/>
                  </a:lnTo>
                  <a:lnTo>
                    <a:pt x="263" y="1048"/>
                  </a:lnTo>
                  <a:lnTo>
                    <a:pt x="238" y="1039"/>
                  </a:lnTo>
                  <a:lnTo>
                    <a:pt x="213" y="1028"/>
                  </a:lnTo>
                  <a:lnTo>
                    <a:pt x="188" y="1017"/>
                  </a:lnTo>
                  <a:lnTo>
                    <a:pt x="163" y="1005"/>
                  </a:lnTo>
                  <a:lnTo>
                    <a:pt x="140" y="991"/>
                  </a:lnTo>
                  <a:lnTo>
                    <a:pt x="115" y="975"/>
                  </a:lnTo>
                  <a:lnTo>
                    <a:pt x="71" y="939"/>
                  </a:lnTo>
                  <a:lnTo>
                    <a:pt x="40" y="896"/>
                  </a:lnTo>
                  <a:lnTo>
                    <a:pt x="18" y="847"/>
                  </a:lnTo>
                  <a:lnTo>
                    <a:pt x="4" y="795"/>
                  </a:lnTo>
                  <a:lnTo>
                    <a:pt x="0" y="740"/>
                  </a:lnTo>
                  <a:lnTo>
                    <a:pt x="1" y="682"/>
                  </a:lnTo>
                  <a:lnTo>
                    <a:pt x="11" y="626"/>
                  </a:lnTo>
                  <a:lnTo>
                    <a:pt x="23" y="573"/>
                  </a:lnTo>
                  <a:lnTo>
                    <a:pt x="34" y="534"/>
                  </a:lnTo>
                  <a:lnTo>
                    <a:pt x="49" y="497"/>
                  </a:lnTo>
                  <a:lnTo>
                    <a:pt x="67" y="460"/>
                  </a:lnTo>
                  <a:lnTo>
                    <a:pt x="88" y="424"/>
                  </a:lnTo>
                  <a:lnTo>
                    <a:pt x="112" y="388"/>
                  </a:lnTo>
                  <a:lnTo>
                    <a:pt x="137" y="354"/>
                  </a:lnTo>
                  <a:lnTo>
                    <a:pt x="165" y="321"/>
                  </a:lnTo>
                  <a:lnTo>
                    <a:pt x="194" y="290"/>
                  </a:lnTo>
                  <a:lnTo>
                    <a:pt x="225" y="260"/>
                  </a:lnTo>
                  <a:lnTo>
                    <a:pt x="258" y="231"/>
                  </a:lnTo>
                  <a:lnTo>
                    <a:pt x="291" y="203"/>
                  </a:lnTo>
                  <a:lnTo>
                    <a:pt x="325" y="178"/>
                  </a:lnTo>
                  <a:lnTo>
                    <a:pt x="361" y="153"/>
                  </a:lnTo>
                  <a:lnTo>
                    <a:pt x="395" y="129"/>
                  </a:lnTo>
                  <a:lnTo>
                    <a:pt x="431" y="108"/>
                  </a:lnTo>
                  <a:lnTo>
                    <a:pt x="465" y="87"/>
                  </a:lnTo>
                  <a:lnTo>
                    <a:pt x="488" y="76"/>
                  </a:lnTo>
                  <a:lnTo>
                    <a:pt x="512" y="64"/>
                  </a:lnTo>
                  <a:lnTo>
                    <a:pt x="533" y="53"/>
                  </a:lnTo>
                  <a:lnTo>
                    <a:pt x="557" y="41"/>
                  </a:lnTo>
                  <a:lnTo>
                    <a:pt x="580" y="30"/>
                  </a:lnTo>
                  <a:lnTo>
                    <a:pt x="604" y="19"/>
                  </a:lnTo>
                  <a:lnTo>
                    <a:pt x="627" y="9"/>
                  </a:lnTo>
                  <a:lnTo>
                    <a:pt x="652" y="0"/>
                  </a:lnTo>
                  <a:lnTo>
                    <a:pt x="661" y="2"/>
                  </a:lnTo>
                  <a:lnTo>
                    <a:pt x="669" y="9"/>
                  </a:lnTo>
                  <a:lnTo>
                    <a:pt x="677" y="17"/>
                  </a:lnTo>
                  <a:lnTo>
                    <a:pt x="684" y="23"/>
                  </a:lnTo>
                  <a:close/>
                </a:path>
              </a:pathLst>
            </a:custGeom>
            <a:solidFill>
              <a:srgbClr val="ba7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629720" y="4786200"/>
              <a:ext cx="73080" cy="71640"/>
            </a:xfrm>
            <a:custGeom>
              <a:avLst/>
              <a:gdLst/>
              <a:ahLst/>
              <a:rect l="l" t="t" r="r" b="b"/>
              <a:pathLst>
                <a:path w="84" h="89">
                  <a:moveTo>
                    <a:pt x="81" y="19"/>
                  </a:moveTo>
                  <a:lnTo>
                    <a:pt x="84" y="36"/>
                  </a:lnTo>
                  <a:lnTo>
                    <a:pt x="81" y="50"/>
                  </a:lnTo>
                  <a:lnTo>
                    <a:pt x="73" y="66"/>
                  </a:lnTo>
                  <a:lnTo>
                    <a:pt x="66" y="78"/>
                  </a:lnTo>
                  <a:lnTo>
                    <a:pt x="55" y="85"/>
                  </a:lnTo>
                  <a:lnTo>
                    <a:pt x="44" y="89"/>
                  </a:lnTo>
                  <a:lnTo>
                    <a:pt x="31" y="89"/>
                  </a:lnTo>
                  <a:lnTo>
                    <a:pt x="20" y="86"/>
                  </a:lnTo>
                  <a:lnTo>
                    <a:pt x="13" y="78"/>
                  </a:lnTo>
                  <a:lnTo>
                    <a:pt x="8" y="71"/>
                  </a:lnTo>
                  <a:lnTo>
                    <a:pt x="5" y="61"/>
                  </a:lnTo>
                  <a:lnTo>
                    <a:pt x="0" y="53"/>
                  </a:lnTo>
                  <a:lnTo>
                    <a:pt x="3" y="36"/>
                  </a:lnTo>
                  <a:lnTo>
                    <a:pt x="13" y="22"/>
                  </a:lnTo>
                  <a:lnTo>
                    <a:pt x="25" y="10"/>
                  </a:lnTo>
                  <a:lnTo>
                    <a:pt x="38" y="0"/>
                  </a:lnTo>
                  <a:lnTo>
                    <a:pt x="52" y="0"/>
                  </a:lnTo>
                  <a:lnTo>
                    <a:pt x="64" y="2"/>
                  </a:lnTo>
                  <a:lnTo>
                    <a:pt x="75" y="7"/>
                  </a:lnTo>
                  <a:lnTo>
                    <a:pt x="81" y="1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1" name=""/>
            <p:cNvSpPr/>
            <p:nvPr/>
          </p:nvSpPr>
          <p:spPr>
            <a:xfrm>
              <a:off x="2169000" y="4788000"/>
              <a:ext cx="132480" cy="42480"/>
            </a:xfrm>
            <a:custGeom>
              <a:avLst/>
              <a:gdLst/>
              <a:ahLst/>
              <a:rect l="l" t="t" r="r" b="b"/>
              <a:pathLst>
                <a:path w="153" h="51">
                  <a:moveTo>
                    <a:pt x="149" y="18"/>
                  </a:moveTo>
                  <a:lnTo>
                    <a:pt x="134" y="29"/>
                  </a:lnTo>
                  <a:lnTo>
                    <a:pt x="118" y="38"/>
                  </a:lnTo>
                  <a:lnTo>
                    <a:pt x="101" y="45"/>
                  </a:lnTo>
                  <a:lnTo>
                    <a:pt x="83" y="49"/>
                  </a:lnTo>
                  <a:lnTo>
                    <a:pt x="64" y="51"/>
                  </a:lnTo>
                  <a:lnTo>
                    <a:pt x="45" y="51"/>
                  </a:lnTo>
                  <a:lnTo>
                    <a:pt x="27" y="46"/>
                  </a:lnTo>
                  <a:lnTo>
                    <a:pt x="8" y="40"/>
                  </a:lnTo>
                  <a:lnTo>
                    <a:pt x="5" y="37"/>
                  </a:lnTo>
                  <a:lnTo>
                    <a:pt x="2" y="32"/>
                  </a:lnTo>
                  <a:lnTo>
                    <a:pt x="0" y="29"/>
                  </a:lnTo>
                  <a:lnTo>
                    <a:pt x="3" y="24"/>
                  </a:lnTo>
                  <a:lnTo>
                    <a:pt x="20" y="29"/>
                  </a:lnTo>
                  <a:lnTo>
                    <a:pt x="37" y="32"/>
                  </a:lnTo>
                  <a:lnTo>
                    <a:pt x="56" y="32"/>
                  </a:lnTo>
                  <a:lnTo>
                    <a:pt x="73" y="31"/>
                  </a:lnTo>
                  <a:lnTo>
                    <a:pt x="92" y="26"/>
                  </a:lnTo>
                  <a:lnTo>
                    <a:pt x="109" y="20"/>
                  </a:lnTo>
                  <a:lnTo>
                    <a:pt x="125" y="10"/>
                  </a:lnTo>
                  <a:lnTo>
                    <a:pt x="139" y="0"/>
                  </a:lnTo>
                  <a:lnTo>
                    <a:pt x="146" y="1"/>
                  </a:lnTo>
                  <a:lnTo>
                    <a:pt x="151" y="6"/>
                  </a:lnTo>
                  <a:lnTo>
                    <a:pt x="153" y="12"/>
                  </a:lnTo>
                  <a:lnTo>
                    <a:pt x="149" y="1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2" name=""/>
            <p:cNvSpPr/>
            <p:nvPr/>
          </p:nvSpPr>
          <p:spPr>
            <a:xfrm>
              <a:off x="1811520" y="4789440"/>
              <a:ext cx="142560" cy="43920"/>
            </a:xfrm>
            <a:custGeom>
              <a:avLst/>
              <a:gdLst/>
              <a:ahLst/>
              <a:rect l="l" t="t" r="r" b="b"/>
              <a:pathLst>
                <a:path w="165" h="53">
                  <a:moveTo>
                    <a:pt x="165" y="37"/>
                  </a:moveTo>
                  <a:lnTo>
                    <a:pt x="165" y="45"/>
                  </a:lnTo>
                  <a:lnTo>
                    <a:pt x="158" y="47"/>
                  </a:lnTo>
                  <a:lnTo>
                    <a:pt x="152" y="50"/>
                  </a:lnTo>
                  <a:lnTo>
                    <a:pt x="148" y="53"/>
                  </a:lnTo>
                  <a:lnTo>
                    <a:pt x="127" y="53"/>
                  </a:lnTo>
                  <a:lnTo>
                    <a:pt x="107" y="52"/>
                  </a:lnTo>
                  <a:lnTo>
                    <a:pt x="87" y="50"/>
                  </a:lnTo>
                  <a:lnTo>
                    <a:pt x="68" y="45"/>
                  </a:lnTo>
                  <a:lnTo>
                    <a:pt x="50" y="41"/>
                  </a:lnTo>
                  <a:lnTo>
                    <a:pt x="31" y="33"/>
                  </a:lnTo>
                  <a:lnTo>
                    <a:pt x="15" y="22"/>
                  </a:lnTo>
                  <a:lnTo>
                    <a:pt x="0" y="9"/>
                  </a:lnTo>
                  <a:lnTo>
                    <a:pt x="3" y="0"/>
                  </a:lnTo>
                  <a:lnTo>
                    <a:pt x="22" y="9"/>
                  </a:lnTo>
                  <a:lnTo>
                    <a:pt x="40" y="19"/>
                  </a:lnTo>
                  <a:lnTo>
                    <a:pt x="60" y="25"/>
                  </a:lnTo>
                  <a:lnTo>
                    <a:pt x="81" y="30"/>
                  </a:lnTo>
                  <a:lnTo>
                    <a:pt x="101" y="33"/>
                  </a:lnTo>
                  <a:lnTo>
                    <a:pt x="123" y="36"/>
                  </a:lnTo>
                  <a:lnTo>
                    <a:pt x="143" y="37"/>
                  </a:lnTo>
                  <a:lnTo>
                    <a:pt x="165" y="3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3" name=""/>
            <p:cNvSpPr/>
            <p:nvPr/>
          </p:nvSpPr>
          <p:spPr>
            <a:xfrm>
              <a:off x="1978560" y="4879080"/>
              <a:ext cx="137880" cy="58680"/>
            </a:xfrm>
            <a:custGeom>
              <a:avLst/>
              <a:gdLst/>
              <a:ahLst/>
              <a:rect l="l" t="t" r="r" b="b"/>
              <a:pathLst>
                <a:path w="159" h="71">
                  <a:moveTo>
                    <a:pt x="38" y="56"/>
                  </a:moveTo>
                  <a:lnTo>
                    <a:pt x="47" y="54"/>
                  </a:lnTo>
                  <a:lnTo>
                    <a:pt x="58" y="53"/>
                  </a:lnTo>
                  <a:lnTo>
                    <a:pt x="67" y="50"/>
                  </a:lnTo>
                  <a:lnTo>
                    <a:pt x="78" y="48"/>
                  </a:lnTo>
                  <a:lnTo>
                    <a:pt x="89" y="45"/>
                  </a:lnTo>
                  <a:lnTo>
                    <a:pt x="100" y="45"/>
                  </a:lnTo>
                  <a:lnTo>
                    <a:pt x="109" y="43"/>
                  </a:lnTo>
                  <a:lnTo>
                    <a:pt x="120" y="45"/>
                  </a:lnTo>
                  <a:lnTo>
                    <a:pt x="129" y="40"/>
                  </a:lnTo>
                  <a:lnTo>
                    <a:pt x="140" y="32"/>
                  </a:lnTo>
                  <a:lnTo>
                    <a:pt x="150" y="28"/>
                  </a:lnTo>
                  <a:lnTo>
                    <a:pt x="159" y="34"/>
                  </a:lnTo>
                  <a:lnTo>
                    <a:pt x="156" y="48"/>
                  </a:lnTo>
                  <a:lnTo>
                    <a:pt x="146" y="57"/>
                  </a:lnTo>
                  <a:lnTo>
                    <a:pt x="132" y="65"/>
                  </a:lnTo>
                  <a:lnTo>
                    <a:pt x="120" y="70"/>
                  </a:lnTo>
                  <a:lnTo>
                    <a:pt x="104" y="68"/>
                  </a:lnTo>
                  <a:lnTo>
                    <a:pt x="87" y="68"/>
                  </a:lnTo>
                  <a:lnTo>
                    <a:pt x="70" y="70"/>
                  </a:lnTo>
                  <a:lnTo>
                    <a:pt x="53" y="71"/>
                  </a:lnTo>
                  <a:lnTo>
                    <a:pt x="38" y="71"/>
                  </a:lnTo>
                  <a:lnTo>
                    <a:pt x="22" y="67"/>
                  </a:lnTo>
                  <a:lnTo>
                    <a:pt x="10" y="57"/>
                  </a:lnTo>
                  <a:lnTo>
                    <a:pt x="0" y="40"/>
                  </a:lnTo>
                  <a:lnTo>
                    <a:pt x="0" y="29"/>
                  </a:lnTo>
                  <a:lnTo>
                    <a:pt x="2" y="20"/>
                  </a:lnTo>
                  <a:lnTo>
                    <a:pt x="3" y="11"/>
                  </a:lnTo>
                  <a:lnTo>
                    <a:pt x="6" y="0"/>
                  </a:lnTo>
                  <a:lnTo>
                    <a:pt x="17" y="9"/>
                  </a:lnTo>
                  <a:lnTo>
                    <a:pt x="17" y="28"/>
                  </a:lnTo>
                  <a:lnTo>
                    <a:pt x="20" y="46"/>
                  </a:lnTo>
                  <a:lnTo>
                    <a:pt x="38" y="5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4" name=""/>
            <p:cNvSpPr/>
            <p:nvPr/>
          </p:nvSpPr>
          <p:spPr>
            <a:xfrm>
              <a:off x="2518200" y="4935960"/>
              <a:ext cx="225000" cy="414000"/>
            </a:xfrm>
            <a:custGeom>
              <a:avLst/>
              <a:gdLst/>
              <a:ahLst/>
              <a:rect l="l" t="t" r="r" b="b"/>
              <a:pathLst>
                <a:path w="258" h="508">
                  <a:moveTo>
                    <a:pt x="187" y="139"/>
                  </a:moveTo>
                  <a:lnTo>
                    <a:pt x="210" y="179"/>
                  </a:lnTo>
                  <a:lnTo>
                    <a:pt x="229" y="223"/>
                  </a:lnTo>
                  <a:lnTo>
                    <a:pt x="243" y="268"/>
                  </a:lnTo>
                  <a:lnTo>
                    <a:pt x="252" y="316"/>
                  </a:lnTo>
                  <a:lnTo>
                    <a:pt x="257" y="365"/>
                  </a:lnTo>
                  <a:lnTo>
                    <a:pt x="258" y="413"/>
                  </a:lnTo>
                  <a:lnTo>
                    <a:pt x="254" y="461"/>
                  </a:lnTo>
                  <a:lnTo>
                    <a:pt x="246" y="508"/>
                  </a:lnTo>
                  <a:lnTo>
                    <a:pt x="229" y="485"/>
                  </a:lnTo>
                  <a:lnTo>
                    <a:pt x="210" y="461"/>
                  </a:lnTo>
                  <a:lnTo>
                    <a:pt x="190" y="438"/>
                  </a:lnTo>
                  <a:lnTo>
                    <a:pt x="171" y="415"/>
                  </a:lnTo>
                  <a:lnTo>
                    <a:pt x="153" y="391"/>
                  </a:lnTo>
                  <a:lnTo>
                    <a:pt x="136" y="366"/>
                  </a:lnTo>
                  <a:lnTo>
                    <a:pt x="120" y="343"/>
                  </a:lnTo>
                  <a:lnTo>
                    <a:pt x="106" y="316"/>
                  </a:lnTo>
                  <a:lnTo>
                    <a:pt x="89" y="295"/>
                  </a:lnTo>
                  <a:lnTo>
                    <a:pt x="72" y="271"/>
                  </a:lnTo>
                  <a:lnTo>
                    <a:pt x="56" y="248"/>
                  </a:lnTo>
                  <a:lnTo>
                    <a:pt x="44" y="223"/>
                  </a:lnTo>
                  <a:lnTo>
                    <a:pt x="31" y="198"/>
                  </a:lnTo>
                  <a:lnTo>
                    <a:pt x="19" y="173"/>
                  </a:lnTo>
                  <a:lnTo>
                    <a:pt x="9" y="148"/>
                  </a:lnTo>
                  <a:lnTo>
                    <a:pt x="0" y="122"/>
                  </a:lnTo>
                  <a:lnTo>
                    <a:pt x="75" y="0"/>
                  </a:lnTo>
                  <a:lnTo>
                    <a:pt x="93" y="11"/>
                  </a:lnTo>
                  <a:lnTo>
                    <a:pt x="111" y="27"/>
                  </a:lnTo>
                  <a:lnTo>
                    <a:pt x="125" y="42"/>
                  </a:lnTo>
                  <a:lnTo>
                    <a:pt x="139" y="61"/>
                  </a:lnTo>
                  <a:lnTo>
                    <a:pt x="151" y="81"/>
                  </a:lnTo>
                  <a:lnTo>
                    <a:pt x="164" y="100"/>
                  </a:lnTo>
                  <a:lnTo>
                    <a:pt x="176" y="120"/>
                  </a:lnTo>
                  <a:lnTo>
                    <a:pt x="187" y="139"/>
                  </a:lnTo>
                  <a:close/>
                </a:path>
              </a:pathLst>
            </a:custGeom>
            <a:solidFill>
              <a:srgbClr val="ba7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097360" y="4944240"/>
              <a:ext cx="117000" cy="53640"/>
            </a:xfrm>
            <a:custGeom>
              <a:avLst/>
              <a:gdLst/>
              <a:ahLst/>
              <a:rect l="l" t="t" r="r" b="b"/>
              <a:pathLst>
                <a:path w="134" h="66">
                  <a:moveTo>
                    <a:pt x="134" y="14"/>
                  </a:moveTo>
                  <a:lnTo>
                    <a:pt x="128" y="19"/>
                  </a:lnTo>
                  <a:lnTo>
                    <a:pt x="115" y="25"/>
                  </a:lnTo>
                  <a:lnTo>
                    <a:pt x="100" y="33"/>
                  </a:lnTo>
                  <a:lnTo>
                    <a:pt x="81" y="41"/>
                  </a:lnTo>
                  <a:lnTo>
                    <a:pt x="61" y="48"/>
                  </a:lnTo>
                  <a:lnTo>
                    <a:pt x="42" y="56"/>
                  </a:lnTo>
                  <a:lnTo>
                    <a:pt x="25" y="61"/>
                  </a:lnTo>
                  <a:lnTo>
                    <a:pt x="11" y="66"/>
                  </a:lnTo>
                  <a:lnTo>
                    <a:pt x="0" y="56"/>
                  </a:lnTo>
                  <a:lnTo>
                    <a:pt x="14" y="48"/>
                  </a:lnTo>
                  <a:lnTo>
                    <a:pt x="28" y="41"/>
                  </a:lnTo>
                  <a:lnTo>
                    <a:pt x="42" y="33"/>
                  </a:lnTo>
                  <a:lnTo>
                    <a:pt x="56" y="25"/>
                  </a:lnTo>
                  <a:lnTo>
                    <a:pt x="72" y="19"/>
                  </a:lnTo>
                  <a:lnTo>
                    <a:pt x="87" y="13"/>
                  </a:lnTo>
                  <a:lnTo>
                    <a:pt x="101" y="6"/>
                  </a:lnTo>
                  <a:lnTo>
                    <a:pt x="117" y="0"/>
                  </a:lnTo>
                  <a:lnTo>
                    <a:pt x="123" y="2"/>
                  </a:lnTo>
                  <a:lnTo>
                    <a:pt x="128" y="5"/>
                  </a:lnTo>
                  <a:lnTo>
                    <a:pt x="132" y="8"/>
                  </a:lnTo>
                  <a:lnTo>
                    <a:pt x="134" y="1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6" name=""/>
            <p:cNvSpPr/>
            <p:nvPr/>
          </p:nvSpPr>
          <p:spPr>
            <a:xfrm>
              <a:off x="2388600" y="5043600"/>
              <a:ext cx="361080" cy="691200"/>
            </a:xfrm>
            <a:custGeom>
              <a:avLst/>
              <a:gdLst/>
              <a:ahLst/>
              <a:rect l="l" t="t" r="r" b="b"/>
              <a:pathLst>
                <a:path w="414" h="849">
                  <a:moveTo>
                    <a:pt x="126" y="0"/>
                  </a:moveTo>
                  <a:lnTo>
                    <a:pt x="140" y="37"/>
                  </a:lnTo>
                  <a:lnTo>
                    <a:pt x="157" y="74"/>
                  </a:lnTo>
                  <a:lnTo>
                    <a:pt x="178" y="109"/>
                  </a:lnTo>
                  <a:lnTo>
                    <a:pt x="199" y="145"/>
                  </a:lnTo>
                  <a:lnTo>
                    <a:pt x="221" y="179"/>
                  </a:lnTo>
                  <a:lnTo>
                    <a:pt x="245" y="213"/>
                  </a:lnTo>
                  <a:lnTo>
                    <a:pt x="268" y="247"/>
                  </a:lnTo>
                  <a:lnTo>
                    <a:pt x="290" y="282"/>
                  </a:lnTo>
                  <a:lnTo>
                    <a:pt x="326" y="316"/>
                  </a:lnTo>
                  <a:lnTo>
                    <a:pt x="354" y="353"/>
                  </a:lnTo>
                  <a:lnTo>
                    <a:pt x="377" y="392"/>
                  </a:lnTo>
                  <a:lnTo>
                    <a:pt x="394" y="436"/>
                  </a:lnTo>
                  <a:lnTo>
                    <a:pt x="406" y="479"/>
                  </a:lnTo>
                  <a:lnTo>
                    <a:pt x="413" y="526"/>
                  </a:lnTo>
                  <a:lnTo>
                    <a:pt x="414" y="573"/>
                  </a:lnTo>
                  <a:lnTo>
                    <a:pt x="411" y="623"/>
                  </a:lnTo>
                  <a:lnTo>
                    <a:pt x="403" y="652"/>
                  </a:lnTo>
                  <a:lnTo>
                    <a:pt x="396" y="684"/>
                  </a:lnTo>
                  <a:lnTo>
                    <a:pt x="386" y="713"/>
                  </a:lnTo>
                  <a:lnTo>
                    <a:pt x="375" y="741"/>
                  </a:lnTo>
                  <a:lnTo>
                    <a:pt x="361" y="769"/>
                  </a:lnTo>
                  <a:lnTo>
                    <a:pt x="344" y="796"/>
                  </a:lnTo>
                  <a:lnTo>
                    <a:pt x="324" y="819"/>
                  </a:lnTo>
                  <a:lnTo>
                    <a:pt x="301" y="842"/>
                  </a:lnTo>
                  <a:lnTo>
                    <a:pt x="268" y="849"/>
                  </a:lnTo>
                  <a:lnTo>
                    <a:pt x="237" y="849"/>
                  </a:lnTo>
                  <a:lnTo>
                    <a:pt x="206" y="842"/>
                  </a:lnTo>
                  <a:lnTo>
                    <a:pt x="178" y="832"/>
                  </a:lnTo>
                  <a:lnTo>
                    <a:pt x="150" y="814"/>
                  </a:lnTo>
                  <a:lnTo>
                    <a:pt x="123" y="796"/>
                  </a:lnTo>
                  <a:lnTo>
                    <a:pt x="98" y="774"/>
                  </a:lnTo>
                  <a:lnTo>
                    <a:pt x="75" y="751"/>
                  </a:lnTo>
                  <a:lnTo>
                    <a:pt x="50" y="708"/>
                  </a:lnTo>
                  <a:lnTo>
                    <a:pt x="30" y="663"/>
                  </a:lnTo>
                  <a:lnTo>
                    <a:pt x="16" y="617"/>
                  </a:lnTo>
                  <a:lnTo>
                    <a:pt x="6" y="567"/>
                  </a:lnTo>
                  <a:lnTo>
                    <a:pt x="2" y="515"/>
                  </a:lnTo>
                  <a:lnTo>
                    <a:pt x="0" y="464"/>
                  </a:lnTo>
                  <a:lnTo>
                    <a:pt x="2" y="412"/>
                  </a:lnTo>
                  <a:lnTo>
                    <a:pt x="5" y="361"/>
                  </a:lnTo>
                  <a:lnTo>
                    <a:pt x="19" y="129"/>
                  </a:lnTo>
                  <a:lnTo>
                    <a:pt x="17" y="102"/>
                  </a:lnTo>
                  <a:lnTo>
                    <a:pt x="14" y="78"/>
                  </a:lnTo>
                  <a:lnTo>
                    <a:pt x="10" y="53"/>
                  </a:lnTo>
                  <a:lnTo>
                    <a:pt x="5" y="28"/>
                  </a:lnTo>
                  <a:lnTo>
                    <a:pt x="22" y="29"/>
                  </a:lnTo>
                  <a:lnTo>
                    <a:pt x="38" y="29"/>
                  </a:lnTo>
                  <a:lnTo>
                    <a:pt x="53" y="26"/>
                  </a:lnTo>
                  <a:lnTo>
                    <a:pt x="67" y="21"/>
                  </a:lnTo>
                  <a:lnTo>
                    <a:pt x="83" y="15"/>
                  </a:lnTo>
                  <a:lnTo>
                    <a:pt x="97" y="9"/>
                  </a:lnTo>
                  <a:lnTo>
                    <a:pt x="111" y="4"/>
                  </a:lnTo>
                  <a:lnTo>
                    <a:pt x="126" y="0"/>
                  </a:lnTo>
                  <a:close/>
                </a:path>
              </a:pathLst>
            </a:custGeom>
            <a:solidFill>
              <a:srgbClr val="ba7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779840" y="5059800"/>
              <a:ext cx="64800" cy="125640"/>
            </a:xfrm>
            <a:custGeom>
              <a:avLst/>
              <a:gdLst/>
              <a:ahLst/>
              <a:rect l="l" t="t" r="r" b="b"/>
              <a:pathLst>
                <a:path w="75" h="154">
                  <a:moveTo>
                    <a:pt x="75" y="139"/>
                  </a:moveTo>
                  <a:lnTo>
                    <a:pt x="22" y="154"/>
                  </a:lnTo>
                  <a:lnTo>
                    <a:pt x="14" y="117"/>
                  </a:lnTo>
                  <a:lnTo>
                    <a:pt x="5" y="78"/>
                  </a:lnTo>
                  <a:lnTo>
                    <a:pt x="0" y="39"/>
                  </a:lnTo>
                  <a:lnTo>
                    <a:pt x="11" y="0"/>
                  </a:lnTo>
                  <a:lnTo>
                    <a:pt x="26" y="14"/>
                  </a:lnTo>
                  <a:lnTo>
                    <a:pt x="40" y="31"/>
                  </a:lnTo>
                  <a:lnTo>
                    <a:pt x="50" y="47"/>
                  </a:lnTo>
                  <a:lnTo>
                    <a:pt x="59" y="64"/>
                  </a:lnTo>
                  <a:lnTo>
                    <a:pt x="65" y="82"/>
                  </a:lnTo>
                  <a:lnTo>
                    <a:pt x="70" y="101"/>
                  </a:lnTo>
                  <a:lnTo>
                    <a:pt x="73" y="120"/>
                  </a:lnTo>
                  <a:lnTo>
                    <a:pt x="75"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662840" y="5195160"/>
              <a:ext cx="277200" cy="252720"/>
            </a:xfrm>
            <a:custGeom>
              <a:avLst/>
              <a:gdLst/>
              <a:ahLst/>
              <a:rect l="l" t="t" r="r" b="b"/>
              <a:pathLst>
                <a:path w="318" h="308">
                  <a:moveTo>
                    <a:pt x="207" y="21"/>
                  </a:moveTo>
                  <a:lnTo>
                    <a:pt x="201" y="28"/>
                  </a:lnTo>
                  <a:lnTo>
                    <a:pt x="193" y="34"/>
                  </a:lnTo>
                  <a:lnTo>
                    <a:pt x="185" y="39"/>
                  </a:lnTo>
                  <a:lnTo>
                    <a:pt x="177" y="45"/>
                  </a:lnTo>
                  <a:lnTo>
                    <a:pt x="170" y="49"/>
                  </a:lnTo>
                  <a:lnTo>
                    <a:pt x="163" y="56"/>
                  </a:lnTo>
                  <a:lnTo>
                    <a:pt x="160" y="65"/>
                  </a:lnTo>
                  <a:lnTo>
                    <a:pt x="159" y="74"/>
                  </a:lnTo>
                  <a:lnTo>
                    <a:pt x="171" y="81"/>
                  </a:lnTo>
                  <a:lnTo>
                    <a:pt x="182" y="85"/>
                  </a:lnTo>
                  <a:lnTo>
                    <a:pt x="195" y="90"/>
                  </a:lnTo>
                  <a:lnTo>
                    <a:pt x="207" y="93"/>
                  </a:lnTo>
                  <a:lnTo>
                    <a:pt x="220" y="98"/>
                  </a:lnTo>
                  <a:lnTo>
                    <a:pt x="232" y="102"/>
                  </a:lnTo>
                  <a:lnTo>
                    <a:pt x="243" y="109"/>
                  </a:lnTo>
                  <a:lnTo>
                    <a:pt x="254" y="116"/>
                  </a:lnTo>
                  <a:lnTo>
                    <a:pt x="260" y="121"/>
                  </a:lnTo>
                  <a:lnTo>
                    <a:pt x="268" y="127"/>
                  </a:lnTo>
                  <a:lnTo>
                    <a:pt x="276" y="134"/>
                  </a:lnTo>
                  <a:lnTo>
                    <a:pt x="283" y="141"/>
                  </a:lnTo>
                  <a:lnTo>
                    <a:pt x="290" y="148"/>
                  </a:lnTo>
                  <a:lnTo>
                    <a:pt x="296" y="155"/>
                  </a:lnTo>
                  <a:lnTo>
                    <a:pt x="300" y="163"/>
                  </a:lnTo>
                  <a:lnTo>
                    <a:pt x="304" y="171"/>
                  </a:lnTo>
                  <a:lnTo>
                    <a:pt x="293" y="169"/>
                  </a:lnTo>
                  <a:lnTo>
                    <a:pt x="283" y="171"/>
                  </a:lnTo>
                  <a:lnTo>
                    <a:pt x="276" y="176"/>
                  </a:lnTo>
                  <a:lnTo>
                    <a:pt x="271" y="180"/>
                  </a:lnTo>
                  <a:lnTo>
                    <a:pt x="282" y="191"/>
                  </a:lnTo>
                  <a:lnTo>
                    <a:pt x="291" y="202"/>
                  </a:lnTo>
                  <a:lnTo>
                    <a:pt x="300" y="215"/>
                  </a:lnTo>
                  <a:lnTo>
                    <a:pt x="307" y="227"/>
                  </a:lnTo>
                  <a:lnTo>
                    <a:pt x="311" y="241"/>
                  </a:lnTo>
                  <a:lnTo>
                    <a:pt x="316" y="255"/>
                  </a:lnTo>
                  <a:lnTo>
                    <a:pt x="318" y="271"/>
                  </a:lnTo>
                  <a:lnTo>
                    <a:pt x="318" y="286"/>
                  </a:lnTo>
                  <a:lnTo>
                    <a:pt x="302" y="274"/>
                  </a:lnTo>
                  <a:lnTo>
                    <a:pt x="285" y="261"/>
                  </a:lnTo>
                  <a:lnTo>
                    <a:pt x="266" y="249"/>
                  </a:lnTo>
                  <a:lnTo>
                    <a:pt x="248" y="239"/>
                  </a:lnTo>
                  <a:lnTo>
                    <a:pt x="229" y="232"/>
                  </a:lnTo>
                  <a:lnTo>
                    <a:pt x="207" y="229"/>
                  </a:lnTo>
                  <a:lnTo>
                    <a:pt x="185" y="229"/>
                  </a:lnTo>
                  <a:lnTo>
                    <a:pt x="162" y="233"/>
                  </a:lnTo>
                  <a:lnTo>
                    <a:pt x="146" y="239"/>
                  </a:lnTo>
                  <a:lnTo>
                    <a:pt x="131" y="249"/>
                  </a:lnTo>
                  <a:lnTo>
                    <a:pt x="117" y="260"/>
                  </a:lnTo>
                  <a:lnTo>
                    <a:pt x="103" y="271"/>
                  </a:lnTo>
                  <a:lnTo>
                    <a:pt x="89" y="282"/>
                  </a:lnTo>
                  <a:lnTo>
                    <a:pt x="75" y="291"/>
                  </a:lnTo>
                  <a:lnTo>
                    <a:pt x="61" y="300"/>
                  </a:lnTo>
                  <a:lnTo>
                    <a:pt x="45" y="308"/>
                  </a:lnTo>
                  <a:lnTo>
                    <a:pt x="36" y="286"/>
                  </a:lnTo>
                  <a:lnTo>
                    <a:pt x="25" y="266"/>
                  </a:lnTo>
                  <a:lnTo>
                    <a:pt x="13" y="244"/>
                  </a:lnTo>
                  <a:lnTo>
                    <a:pt x="0" y="224"/>
                  </a:lnTo>
                  <a:lnTo>
                    <a:pt x="6" y="196"/>
                  </a:lnTo>
                  <a:lnTo>
                    <a:pt x="14" y="168"/>
                  </a:lnTo>
                  <a:lnTo>
                    <a:pt x="23" y="140"/>
                  </a:lnTo>
                  <a:lnTo>
                    <a:pt x="36" y="113"/>
                  </a:lnTo>
                  <a:lnTo>
                    <a:pt x="51" y="87"/>
                  </a:lnTo>
                  <a:lnTo>
                    <a:pt x="70" y="63"/>
                  </a:lnTo>
                  <a:lnTo>
                    <a:pt x="92" y="43"/>
                  </a:lnTo>
                  <a:lnTo>
                    <a:pt x="118" y="25"/>
                  </a:lnTo>
                  <a:lnTo>
                    <a:pt x="131" y="21"/>
                  </a:lnTo>
                  <a:lnTo>
                    <a:pt x="143" y="18"/>
                  </a:lnTo>
                  <a:lnTo>
                    <a:pt x="156" y="15"/>
                  </a:lnTo>
                  <a:lnTo>
                    <a:pt x="168" y="12"/>
                  </a:lnTo>
                  <a:lnTo>
                    <a:pt x="181" y="7"/>
                  </a:lnTo>
                  <a:lnTo>
                    <a:pt x="193" y="4"/>
                  </a:lnTo>
                  <a:lnTo>
                    <a:pt x="206" y="1"/>
                  </a:lnTo>
                  <a:lnTo>
                    <a:pt x="218" y="0"/>
                  </a:lnTo>
                  <a:lnTo>
                    <a:pt x="207" y="21"/>
                  </a:lnTo>
                  <a:close/>
                </a:path>
              </a:pathLst>
            </a:custGeom>
            <a:solidFill>
              <a:srgbClr val="8c3f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881000" y="5193720"/>
              <a:ext cx="24480" cy="48600"/>
            </a:xfrm>
            <a:custGeom>
              <a:avLst/>
              <a:gdLst/>
              <a:ahLst/>
              <a:rect l="l" t="t" r="r" b="b"/>
              <a:pathLst>
                <a:path w="28" h="61">
                  <a:moveTo>
                    <a:pt x="23" y="18"/>
                  </a:moveTo>
                  <a:lnTo>
                    <a:pt x="28" y="33"/>
                  </a:lnTo>
                  <a:lnTo>
                    <a:pt x="27" y="46"/>
                  </a:lnTo>
                  <a:lnTo>
                    <a:pt x="20" y="57"/>
                  </a:lnTo>
                  <a:lnTo>
                    <a:pt x="9" y="61"/>
                  </a:lnTo>
                  <a:lnTo>
                    <a:pt x="3" y="47"/>
                  </a:lnTo>
                  <a:lnTo>
                    <a:pt x="0" y="32"/>
                  </a:lnTo>
                  <a:lnTo>
                    <a:pt x="3" y="16"/>
                  </a:lnTo>
                  <a:lnTo>
                    <a:pt x="9" y="0"/>
                  </a:lnTo>
                  <a:lnTo>
                    <a:pt x="16" y="2"/>
                  </a:lnTo>
                  <a:lnTo>
                    <a:pt x="19" y="7"/>
                  </a:lnTo>
                  <a:lnTo>
                    <a:pt x="22" y="11"/>
                  </a:lnTo>
                  <a:lnTo>
                    <a:pt x="23" y="18"/>
                  </a:lnTo>
                  <a:close/>
                </a:path>
              </a:pathLst>
            </a:custGeom>
            <a:solidFill>
              <a:srgbClr val="8c3f2b"/>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0" name=""/>
            <p:cNvSpPr/>
            <p:nvPr/>
          </p:nvSpPr>
          <p:spPr>
            <a:xfrm>
              <a:off x="1837440" y="5228280"/>
              <a:ext cx="46800" cy="42120"/>
            </a:xfrm>
            <a:custGeom>
              <a:avLst/>
              <a:gdLst/>
              <a:ahLst/>
              <a:rect l="l" t="t" r="r" b="b"/>
              <a:pathLst>
                <a:path w="53" h="52">
                  <a:moveTo>
                    <a:pt x="53" y="52"/>
                  </a:moveTo>
                  <a:lnTo>
                    <a:pt x="47" y="48"/>
                  </a:lnTo>
                  <a:lnTo>
                    <a:pt x="40" y="43"/>
                  </a:lnTo>
                  <a:lnTo>
                    <a:pt x="34" y="40"/>
                  </a:lnTo>
                  <a:lnTo>
                    <a:pt x="28" y="37"/>
                  </a:lnTo>
                  <a:lnTo>
                    <a:pt x="22" y="34"/>
                  </a:lnTo>
                  <a:lnTo>
                    <a:pt x="14" y="31"/>
                  </a:lnTo>
                  <a:lnTo>
                    <a:pt x="8" y="29"/>
                  </a:lnTo>
                  <a:lnTo>
                    <a:pt x="0" y="28"/>
                  </a:lnTo>
                  <a:lnTo>
                    <a:pt x="28" y="0"/>
                  </a:lnTo>
                  <a:lnTo>
                    <a:pt x="29" y="15"/>
                  </a:lnTo>
                  <a:lnTo>
                    <a:pt x="34" y="28"/>
                  </a:lnTo>
                  <a:lnTo>
                    <a:pt x="43" y="40"/>
                  </a:lnTo>
                  <a:lnTo>
                    <a:pt x="53" y="52"/>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1" name=""/>
            <p:cNvSpPr/>
            <p:nvPr/>
          </p:nvSpPr>
          <p:spPr>
            <a:xfrm>
              <a:off x="1847880" y="5407560"/>
              <a:ext cx="69840" cy="97560"/>
            </a:xfrm>
            <a:custGeom>
              <a:avLst/>
              <a:gdLst/>
              <a:ahLst/>
              <a:rect l="l" t="t" r="r" b="b"/>
              <a:pathLst>
                <a:path w="81" h="120">
                  <a:moveTo>
                    <a:pt x="73" y="31"/>
                  </a:moveTo>
                  <a:lnTo>
                    <a:pt x="71" y="42"/>
                  </a:lnTo>
                  <a:lnTo>
                    <a:pt x="73" y="55"/>
                  </a:lnTo>
                  <a:lnTo>
                    <a:pt x="76" y="67"/>
                  </a:lnTo>
                  <a:lnTo>
                    <a:pt x="79" y="81"/>
                  </a:lnTo>
                  <a:lnTo>
                    <a:pt x="81" y="92"/>
                  </a:lnTo>
                  <a:lnTo>
                    <a:pt x="79" y="103"/>
                  </a:lnTo>
                  <a:lnTo>
                    <a:pt x="71" y="112"/>
                  </a:lnTo>
                  <a:lnTo>
                    <a:pt x="56" y="117"/>
                  </a:lnTo>
                  <a:lnTo>
                    <a:pt x="45" y="120"/>
                  </a:lnTo>
                  <a:lnTo>
                    <a:pt x="32" y="119"/>
                  </a:lnTo>
                  <a:lnTo>
                    <a:pt x="23" y="114"/>
                  </a:lnTo>
                  <a:lnTo>
                    <a:pt x="17" y="105"/>
                  </a:lnTo>
                  <a:lnTo>
                    <a:pt x="15" y="78"/>
                  </a:lnTo>
                  <a:lnTo>
                    <a:pt x="12" y="52"/>
                  </a:lnTo>
                  <a:lnTo>
                    <a:pt x="8" y="25"/>
                  </a:lnTo>
                  <a:lnTo>
                    <a:pt x="0" y="0"/>
                  </a:lnTo>
                  <a:lnTo>
                    <a:pt x="11" y="0"/>
                  </a:lnTo>
                  <a:lnTo>
                    <a:pt x="20" y="2"/>
                  </a:lnTo>
                  <a:lnTo>
                    <a:pt x="31" y="5"/>
                  </a:lnTo>
                  <a:lnTo>
                    <a:pt x="39" y="8"/>
                  </a:lnTo>
                  <a:lnTo>
                    <a:pt x="48" y="13"/>
                  </a:lnTo>
                  <a:lnTo>
                    <a:pt x="56" y="19"/>
                  </a:lnTo>
                  <a:lnTo>
                    <a:pt x="65" y="25"/>
                  </a:lnTo>
                  <a:lnTo>
                    <a:pt x="73"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806120" y="5483880"/>
              <a:ext cx="22320" cy="66600"/>
            </a:xfrm>
            <a:custGeom>
              <a:avLst/>
              <a:gdLst/>
              <a:ahLst/>
              <a:rect l="l" t="t" r="r" b="b"/>
              <a:pathLst>
                <a:path w="27" h="83">
                  <a:moveTo>
                    <a:pt x="27" y="83"/>
                  </a:moveTo>
                  <a:lnTo>
                    <a:pt x="13" y="70"/>
                  </a:lnTo>
                  <a:lnTo>
                    <a:pt x="4" y="48"/>
                  </a:lnTo>
                  <a:lnTo>
                    <a:pt x="0" y="22"/>
                  </a:lnTo>
                  <a:lnTo>
                    <a:pt x="5" y="0"/>
                  </a:lnTo>
                  <a:lnTo>
                    <a:pt x="27" y="8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3" name=""/>
            <p:cNvSpPr/>
            <p:nvPr/>
          </p:nvSpPr>
          <p:spPr>
            <a:xfrm>
              <a:off x="1868760" y="5508360"/>
              <a:ext cx="69840" cy="110880"/>
            </a:xfrm>
            <a:custGeom>
              <a:avLst/>
              <a:gdLst/>
              <a:ahLst/>
              <a:rect l="l" t="t" r="r" b="b"/>
              <a:pathLst>
                <a:path w="81" h="137">
                  <a:moveTo>
                    <a:pt x="59" y="137"/>
                  </a:moveTo>
                  <a:lnTo>
                    <a:pt x="48" y="137"/>
                  </a:lnTo>
                  <a:lnTo>
                    <a:pt x="37" y="134"/>
                  </a:lnTo>
                  <a:lnTo>
                    <a:pt x="28" y="129"/>
                  </a:lnTo>
                  <a:lnTo>
                    <a:pt x="19" y="123"/>
                  </a:lnTo>
                  <a:lnTo>
                    <a:pt x="14" y="96"/>
                  </a:lnTo>
                  <a:lnTo>
                    <a:pt x="11" y="70"/>
                  </a:lnTo>
                  <a:lnTo>
                    <a:pt x="6" y="43"/>
                  </a:lnTo>
                  <a:lnTo>
                    <a:pt x="0" y="17"/>
                  </a:lnTo>
                  <a:lnTo>
                    <a:pt x="8" y="18"/>
                  </a:lnTo>
                  <a:lnTo>
                    <a:pt x="17" y="18"/>
                  </a:lnTo>
                  <a:lnTo>
                    <a:pt x="25" y="20"/>
                  </a:lnTo>
                  <a:lnTo>
                    <a:pt x="34" y="18"/>
                  </a:lnTo>
                  <a:lnTo>
                    <a:pt x="44" y="17"/>
                  </a:lnTo>
                  <a:lnTo>
                    <a:pt x="51" y="14"/>
                  </a:lnTo>
                  <a:lnTo>
                    <a:pt x="58" y="8"/>
                  </a:lnTo>
                  <a:lnTo>
                    <a:pt x="64" y="0"/>
                  </a:lnTo>
                  <a:lnTo>
                    <a:pt x="72" y="34"/>
                  </a:lnTo>
                  <a:lnTo>
                    <a:pt x="81" y="70"/>
                  </a:lnTo>
                  <a:lnTo>
                    <a:pt x="79" y="107"/>
                  </a:lnTo>
                  <a:lnTo>
                    <a:pt x="59" y="1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31800" y="5679720"/>
              <a:ext cx="2543760" cy="545760"/>
            </a:xfrm>
            <a:custGeom>
              <a:avLst/>
              <a:gdLst/>
              <a:ahLst/>
              <a:rect l="l" t="t" r="r" b="b"/>
              <a:pathLst>
                <a:path w="2917" h="670">
                  <a:moveTo>
                    <a:pt x="1418" y="16"/>
                  </a:moveTo>
                  <a:lnTo>
                    <a:pt x="1437" y="14"/>
                  </a:lnTo>
                  <a:lnTo>
                    <a:pt x="1462" y="14"/>
                  </a:lnTo>
                  <a:lnTo>
                    <a:pt x="1491" y="13"/>
                  </a:lnTo>
                  <a:lnTo>
                    <a:pt x="1525" y="13"/>
                  </a:lnTo>
                  <a:lnTo>
                    <a:pt x="1563" y="11"/>
                  </a:lnTo>
                  <a:lnTo>
                    <a:pt x="1603" y="11"/>
                  </a:lnTo>
                  <a:lnTo>
                    <a:pt x="1644" y="9"/>
                  </a:lnTo>
                  <a:lnTo>
                    <a:pt x="1686" y="9"/>
                  </a:lnTo>
                  <a:lnTo>
                    <a:pt x="1726" y="8"/>
                  </a:lnTo>
                  <a:lnTo>
                    <a:pt x="1764" y="8"/>
                  </a:lnTo>
                  <a:lnTo>
                    <a:pt x="1799" y="8"/>
                  </a:lnTo>
                  <a:lnTo>
                    <a:pt x="1831" y="8"/>
                  </a:lnTo>
                  <a:lnTo>
                    <a:pt x="1857" y="6"/>
                  </a:lnTo>
                  <a:lnTo>
                    <a:pt x="1877" y="6"/>
                  </a:lnTo>
                  <a:lnTo>
                    <a:pt x="1890" y="6"/>
                  </a:lnTo>
                  <a:lnTo>
                    <a:pt x="1894" y="6"/>
                  </a:lnTo>
                  <a:lnTo>
                    <a:pt x="1910" y="6"/>
                  </a:lnTo>
                  <a:lnTo>
                    <a:pt x="1926" y="6"/>
                  </a:lnTo>
                  <a:lnTo>
                    <a:pt x="1943" y="5"/>
                  </a:lnTo>
                  <a:lnTo>
                    <a:pt x="1960" y="3"/>
                  </a:lnTo>
                  <a:lnTo>
                    <a:pt x="1977" y="2"/>
                  </a:lnTo>
                  <a:lnTo>
                    <a:pt x="1994" y="2"/>
                  </a:lnTo>
                  <a:lnTo>
                    <a:pt x="2013" y="0"/>
                  </a:lnTo>
                  <a:lnTo>
                    <a:pt x="2030" y="0"/>
                  </a:lnTo>
                  <a:lnTo>
                    <a:pt x="2047" y="0"/>
                  </a:lnTo>
                  <a:lnTo>
                    <a:pt x="2064" y="2"/>
                  </a:lnTo>
                  <a:lnTo>
                    <a:pt x="2080" y="5"/>
                  </a:lnTo>
                  <a:lnTo>
                    <a:pt x="2095" y="11"/>
                  </a:lnTo>
                  <a:lnTo>
                    <a:pt x="2111" y="17"/>
                  </a:lnTo>
                  <a:lnTo>
                    <a:pt x="2125" y="27"/>
                  </a:lnTo>
                  <a:lnTo>
                    <a:pt x="2137" y="37"/>
                  </a:lnTo>
                  <a:lnTo>
                    <a:pt x="2150" y="52"/>
                  </a:lnTo>
                  <a:lnTo>
                    <a:pt x="2168" y="62"/>
                  </a:lnTo>
                  <a:lnTo>
                    <a:pt x="2190" y="73"/>
                  </a:lnTo>
                  <a:lnTo>
                    <a:pt x="2210" y="81"/>
                  </a:lnTo>
                  <a:lnTo>
                    <a:pt x="2232" y="87"/>
                  </a:lnTo>
                  <a:lnTo>
                    <a:pt x="2255" y="92"/>
                  </a:lnTo>
                  <a:lnTo>
                    <a:pt x="2277" y="94"/>
                  </a:lnTo>
                  <a:lnTo>
                    <a:pt x="2301" y="92"/>
                  </a:lnTo>
                  <a:lnTo>
                    <a:pt x="2322" y="87"/>
                  </a:lnTo>
                  <a:lnTo>
                    <a:pt x="2333" y="80"/>
                  </a:lnTo>
                  <a:lnTo>
                    <a:pt x="2344" y="72"/>
                  </a:lnTo>
                  <a:lnTo>
                    <a:pt x="2354" y="62"/>
                  </a:lnTo>
                  <a:lnTo>
                    <a:pt x="2363" y="52"/>
                  </a:lnTo>
                  <a:lnTo>
                    <a:pt x="2372" y="42"/>
                  </a:lnTo>
                  <a:lnTo>
                    <a:pt x="2380" y="31"/>
                  </a:lnTo>
                  <a:lnTo>
                    <a:pt x="2388" y="22"/>
                  </a:lnTo>
                  <a:lnTo>
                    <a:pt x="2394" y="13"/>
                  </a:lnTo>
                  <a:lnTo>
                    <a:pt x="2422" y="13"/>
                  </a:lnTo>
                  <a:lnTo>
                    <a:pt x="2448" y="13"/>
                  </a:lnTo>
                  <a:lnTo>
                    <a:pt x="2475" y="13"/>
                  </a:lnTo>
                  <a:lnTo>
                    <a:pt x="2501" y="13"/>
                  </a:lnTo>
                  <a:lnTo>
                    <a:pt x="2528" y="13"/>
                  </a:lnTo>
                  <a:lnTo>
                    <a:pt x="2554" y="11"/>
                  </a:lnTo>
                  <a:lnTo>
                    <a:pt x="2581" y="9"/>
                  </a:lnTo>
                  <a:lnTo>
                    <a:pt x="2607" y="5"/>
                  </a:lnTo>
                  <a:lnTo>
                    <a:pt x="2631" y="66"/>
                  </a:lnTo>
                  <a:lnTo>
                    <a:pt x="2655" y="126"/>
                  </a:lnTo>
                  <a:lnTo>
                    <a:pt x="2682" y="187"/>
                  </a:lnTo>
                  <a:lnTo>
                    <a:pt x="2712" y="246"/>
                  </a:lnTo>
                  <a:lnTo>
                    <a:pt x="2743" y="304"/>
                  </a:lnTo>
                  <a:lnTo>
                    <a:pt x="2775" y="363"/>
                  </a:lnTo>
                  <a:lnTo>
                    <a:pt x="2810" y="419"/>
                  </a:lnTo>
                  <a:lnTo>
                    <a:pt x="2845" y="477"/>
                  </a:lnTo>
                  <a:lnTo>
                    <a:pt x="2856" y="497"/>
                  </a:lnTo>
                  <a:lnTo>
                    <a:pt x="2867" y="517"/>
                  </a:lnTo>
                  <a:lnTo>
                    <a:pt x="2877" y="538"/>
                  </a:lnTo>
                  <a:lnTo>
                    <a:pt x="2886" y="559"/>
                  </a:lnTo>
                  <a:lnTo>
                    <a:pt x="2894" y="580"/>
                  </a:lnTo>
                  <a:lnTo>
                    <a:pt x="2901" y="601"/>
                  </a:lnTo>
                  <a:lnTo>
                    <a:pt x="2909" y="622"/>
                  </a:lnTo>
                  <a:lnTo>
                    <a:pt x="2917" y="643"/>
                  </a:lnTo>
                  <a:lnTo>
                    <a:pt x="2895" y="642"/>
                  </a:lnTo>
                  <a:lnTo>
                    <a:pt x="2873" y="642"/>
                  </a:lnTo>
                  <a:lnTo>
                    <a:pt x="2850" y="640"/>
                  </a:lnTo>
                  <a:lnTo>
                    <a:pt x="2828" y="640"/>
                  </a:lnTo>
                  <a:lnTo>
                    <a:pt x="2805" y="639"/>
                  </a:lnTo>
                  <a:lnTo>
                    <a:pt x="2783" y="637"/>
                  </a:lnTo>
                  <a:lnTo>
                    <a:pt x="2760" y="637"/>
                  </a:lnTo>
                  <a:lnTo>
                    <a:pt x="2736" y="636"/>
                  </a:lnTo>
                  <a:lnTo>
                    <a:pt x="2713" y="636"/>
                  </a:lnTo>
                  <a:lnTo>
                    <a:pt x="2691" y="634"/>
                  </a:lnTo>
                  <a:lnTo>
                    <a:pt x="2668" y="633"/>
                  </a:lnTo>
                  <a:lnTo>
                    <a:pt x="2645" y="631"/>
                  </a:lnTo>
                  <a:lnTo>
                    <a:pt x="2621" y="629"/>
                  </a:lnTo>
                  <a:lnTo>
                    <a:pt x="2598" y="626"/>
                  </a:lnTo>
                  <a:lnTo>
                    <a:pt x="2576" y="625"/>
                  </a:lnTo>
                  <a:lnTo>
                    <a:pt x="2553" y="622"/>
                  </a:lnTo>
                  <a:lnTo>
                    <a:pt x="2192" y="625"/>
                  </a:lnTo>
                  <a:lnTo>
                    <a:pt x="2176" y="629"/>
                  </a:lnTo>
                  <a:lnTo>
                    <a:pt x="2161" y="631"/>
                  </a:lnTo>
                  <a:lnTo>
                    <a:pt x="2143" y="633"/>
                  </a:lnTo>
                  <a:lnTo>
                    <a:pt x="2126" y="634"/>
                  </a:lnTo>
                  <a:lnTo>
                    <a:pt x="2109" y="634"/>
                  </a:lnTo>
                  <a:lnTo>
                    <a:pt x="2092" y="636"/>
                  </a:lnTo>
                  <a:lnTo>
                    <a:pt x="2076" y="636"/>
                  </a:lnTo>
                  <a:lnTo>
                    <a:pt x="2059" y="637"/>
                  </a:lnTo>
                  <a:lnTo>
                    <a:pt x="1848" y="636"/>
                  </a:lnTo>
                  <a:lnTo>
                    <a:pt x="1714" y="637"/>
                  </a:lnTo>
                  <a:lnTo>
                    <a:pt x="1351" y="670"/>
                  </a:lnTo>
                  <a:lnTo>
                    <a:pt x="1253" y="670"/>
                  </a:lnTo>
                  <a:lnTo>
                    <a:pt x="764" y="628"/>
                  </a:lnTo>
                  <a:lnTo>
                    <a:pt x="497" y="633"/>
                  </a:lnTo>
                  <a:lnTo>
                    <a:pt x="464" y="633"/>
                  </a:lnTo>
                  <a:lnTo>
                    <a:pt x="433" y="633"/>
                  </a:lnTo>
                  <a:lnTo>
                    <a:pt x="402" y="634"/>
                  </a:lnTo>
                  <a:lnTo>
                    <a:pt x="371" y="636"/>
                  </a:lnTo>
                  <a:lnTo>
                    <a:pt x="339" y="637"/>
                  </a:lnTo>
                  <a:lnTo>
                    <a:pt x="308" y="640"/>
                  </a:lnTo>
                  <a:lnTo>
                    <a:pt x="279" y="643"/>
                  </a:lnTo>
                  <a:lnTo>
                    <a:pt x="248" y="647"/>
                  </a:lnTo>
                  <a:lnTo>
                    <a:pt x="216" y="650"/>
                  </a:lnTo>
                  <a:lnTo>
                    <a:pt x="187" y="653"/>
                  </a:lnTo>
                  <a:lnTo>
                    <a:pt x="156" y="656"/>
                  </a:lnTo>
                  <a:lnTo>
                    <a:pt x="125" y="659"/>
                  </a:lnTo>
                  <a:lnTo>
                    <a:pt x="94" y="661"/>
                  </a:lnTo>
                  <a:lnTo>
                    <a:pt x="62" y="664"/>
                  </a:lnTo>
                  <a:lnTo>
                    <a:pt x="31" y="665"/>
                  </a:lnTo>
                  <a:lnTo>
                    <a:pt x="0" y="665"/>
                  </a:lnTo>
                  <a:lnTo>
                    <a:pt x="3" y="647"/>
                  </a:lnTo>
                  <a:lnTo>
                    <a:pt x="9" y="625"/>
                  </a:lnTo>
                  <a:lnTo>
                    <a:pt x="19" y="605"/>
                  </a:lnTo>
                  <a:lnTo>
                    <a:pt x="31" y="583"/>
                  </a:lnTo>
                  <a:lnTo>
                    <a:pt x="45" y="564"/>
                  </a:lnTo>
                  <a:lnTo>
                    <a:pt x="61" y="545"/>
                  </a:lnTo>
                  <a:lnTo>
                    <a:pt x="75" y="530"/>
                  </a:lnTo>
                  <a:lnTo>
                    <a:pt x="89" y="516"/>
                  </a:lnTo>
                  <a:lnTo>
                    <a:pt x="94" y="510"/>
                  </a:lnTo>
                  <a:lnTo>
                    <a:pt x="104" y="494"/>
                  </a:lnTo>
                  <a:lnTo>
                    <a:pt x="123" y="469"/>
                  </a:lnTo>
                  <a:lnTo>
                    <a:pt x="146" y="436"/>
                  </a:lnTo>
                  <a:lnTo>
                    <a:pt x="173" y="399"/>
                  </a:lnTo>
                  <a:lnTo>
                    <a:pt x="204" y="355"/>
                  </a:lnTo>
                  <a:lnTo>
                    <a:pt x="238" y="310"/>
                  </a:lnTo>
                  <a:lnTo>
                    <a:pt x="273" y="262"/>
                  </a:lnTo>
                  <a:lnTo>
                    <a:pt x="307" y="215"/>
                  </a:lnTo>
                  <a:lnTo>
                    <a:pt x="339" y="168"/>
                  </a:lnTo>
                  <a:lnTo>
                    <a:pt x="372" y="126"/>
                  </a:lnTo>
                  <a:lnTo>
                    <a:pt x="400" y="87"/>
                  </a:lnTo>
                  <a:lnTo>
                    <a:pt x="425" y="55"/>
                  </a:lnTo>
                  <a:lnTo>
                    <a:pt x="444" y="30"/>
                  </a:lnTo>
                  <a:lnTo>
                    <a:pt x="456" y="13"/>
                  </a:lnTo>
                  <a:lnTo>
                    <a:pt x="462" y="6"/>
                  </a:lnTo>
                  <a:lnTo>
                    <a:pt x="478" y="5"/>
                  </a:lnTo>
                  <a:lnTo>
                    <a:pt x="494" y="3"/>
                  </a:lnTo>
                  <a:lnTo>
                    <a:pt x="511" y="2"/>
                  </a:lnTo>
                  <a:lnTo>
                    <a:pt x="528" y="2"/>
                  </a:lnTo>
                  <a:lnTo>
                    <a:pt x="545" y="3"/>
                  </a:lnTo>
                  <a:lnTo>
                    <a:pt x="562" y="3"/>
                  </a:lnTo>
                  <a:lnTo>
                    <a:pt x="581" y="5"/>
                  </a:lnTo>
                  <a:lnTo>
                    <a:pt x="598" y="5"/>
                  </a:lnTo>
                  <a:lnTo>
                    <a:pt x="616" y="6"/>
                  </a:lnTo>
                  <a:lnTo>
                    <a:pt x="634" y="8"/>
                  </a:lnTo>
                  <a:lnTo>
                    <a:pt x="652" y="9"/>
                  </a:lnTo>
                  <a:lnTo>
                    <a:pt x="669" y="11"/>
                  </a:lnTo>
                  <a:lnTo>
                    <a:pt x="687" y="11"/>
                  </a:lnTo>
                  <a:lnTo>
                    <a:pt x="704" y="13"/>
                  </a:lnTo>
                  <a:lnTo>
                    <a:pt x="721" y="13"/>
                  </a:lnTo>
                  <a:lnTo>
                    <a:pt x="736" y="13"/>
                  </a:lnTo>
                  <a:lnTo>
                    <a:pt x="766" y="14"/>
                  </a:lnTo>
                  <a:lnTo>
                    <a:pt x="803" y="14"/>
                  </a:lnTo>
                  <a:lnTo>
                    <a:pt x="848" y="16"/>
                  </a:lnTo>
                  <a:lnTo>
                    <a:pt x="898" y="16"/>
                  </a:lnTo>
                  <a:lnTo>
                    <a:pt x="953" y="16"/>
                  </a:lnTo>
                  <a:lnTo>
                    <a:pt x="1010" y="16"/>
                  </a:lnTo>
                  <a:lnTo>
                    <a:pt x="1068" y="16"/>
                  </a:lnTo>
                  <a:lnTo>
                    <a:pt x="1127" y="16"/>
                  </a:lnTo>
                  <a:lnTo>
                    <a:pt x="1183" y="16"/>
                  </a:lnTo>
                  <a:lnTo>
                    <a:pt x="1238" y="16"/>
                  </a:lnTo>
                  <a:lnTo>
                    <a:pt x="1286" y="16"/>
                  </a:lnTo>
                  <a:lnTo>
                    <a:pt x="1329" y="16"/>
                  </a:lnTo>
                  <a:lnTo>
                    <a:pt x="1367" y="16"/>
                  </a:lnTo>
                  <a:lnTo>
                    <a:pt x="1395" y="16"/>
                  </a:lnTo>
                  <a:lnTo>
                    <a:pt x="1412" y="16"/>
                  </a:lnTo>
                  <a:lnTo>
                    <a:pt x="1418"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342080" y="5735160"/>
              <a:ext cx="1252440" cy="469440"/>
            </a:xfrm>
            <a:custGeom>
              <a:avLst/>
              <a:gdLst/>
              <a:ahLst/>
              <a:rect l="l" t="t" r="r" b="b"/>
              <a:pathLst>
                <a:path w="1437" h="576">
                  <a:moveTo>
                    <a:pt x="325" y="5"/>
                  </a:moveTo>
                  <a:lnTo>
                    <a:pt x="355" y="8"/>
                  </a:lnTo>
                  <a:lnTo>
                    <a:pt x="385" y="11"/>
                  </a:lnTo>
                  <a:lnTo>
                    <a:pt x="414" y="16"/>
                  </a:lnTo>
                  <a:lnTo>
                    <a:pt x="444" y="19"/>
                  </a:lnTo>
                  <a:lnTo>
                    <a:pt x="473" y="25"/>
                  </a:lnTo>
                  <a:lnTo>
                    <a:pt x="501" y="30"/>
                  </a:lnTo>
                  <a:lnTo>
                    <a:pt x="531" y="34"/>
                  </a:lnTo>
                  <a:lnTo>
                    <a:pt x="561" y="39"/>
                  </a:lnTo>
                  <a:lnTo>
                    <a:pt x="590" y="44"/>
                  </a:lnTo>
                  <a:lnTo>
                    <a:pt x="620" y="47"/>
                  </a:lnTo>
                  <a:lnTo>
                    <a:pt x="649" y="48"/>
                  </a:lnTo>
                  <a:lnTo>
                    <a:pt x="680" y="50"/>
                  </a:lnTo>
                  <a:lnTo>
                    <a:pt x="710" y="50"/>
                  </a:lnTo>
                  <a:lnTo>
                    <a:pt x="741" y="48"/>
                  </a:lnTo>
                  <a:lnTo>
                    <a:pt x="772" y="45"/>
                  </a:lnTo>
                  <a:lnTo>
                    <a:pt x="803" y="41"/>
                  </a:lnTo>
                  <a:lnTo>
                    <a:pt x="806" y="55"/>
                  </a:lnTo>
                  <a:lnTo>
                    <a:pt x="803" y="69"/>
                  </a:lnTo>
                  <a:lnTo>
                    <a:pt x="796" y="83"/>
                  </a:lnTo>
                  <a:lnTo>
                    <a:pt x="789" y="98"/>
                  </a:lnTo>
                  <a:lnTo>
                    <a:pt x="800" y="104"/>
                  </a:lnTo>
                  <a:lnTo>
                    <a:pt x="828" y="101"/>
                  </a:lnTo>
                  <a:lnTo>
                    <a:pt x="855" y="97"/>
                  </a:lnTo>
                  <a:lnTo>
                    <a:pt x="881" y="94"/>
                  </a:lnTo>
                  <a:lnTo>
                    <a:pt x="908" y="89"/>
                  </a:lnTo>
                  <a:lnTo>
                    <a:pt x="934" y="84"/>
                  </a:lnTo>
                  <a:lnTo>
                    <a:pt x="961" y="78"/>
                  </a:lnTo>
                  <a:lnTo>
                    <a:pt x="987" y="72"/>
                  </a:lnTo>
                  <a:lnTo>
                    <a:pt x="1015" y="62"/>
                  </a:lnTo>
                  <a:lnTo>
                    <a:pt x="1017" y="73"/>
                  </a:lnTo>
                  <a:lnTo>
                    <a:pt x="1018" y="84"/>
                  </a:lnTo>
                  <a:lnTo>
                    <a:pt x="1023" y="95"/>
                  </a:lnTo>
                  <a:lnTo>
                    <a:pt x="1029" y="104"/>
                  </a:lnTo>
                  <a:lnTo>
                    <a:pt x="1048" y="98"/>
                  </a:lnTo>
                  <a:lnTo>
                    <a:pt x="1063" y="98"/>
                  </a:lnTo>
                  <a:lnTo>
                    <a:pt x="1077" y="104"/>
                  </a:lnTo>
                  <a:lnTo>
                    <a:pt x="1091" y="114"/>
                  </a:lnTo>
                  <a:lnTo>
                    <a:pt x="1104" y="126"/>
                  </a:lnTo>
                  <a:lnTo>
                    <a:pt x="1116" y="142"/>
                  </a:lnTo>
                  <a:lnTo>
                    <a:pt x="1129" y="156"/>
                  </a:lnTo>
                  <a:lnTo>
                    <a:pt x="1143" y="168"/>
                  </a:lnTo>
                  <a:lnTo>
                    <a:pt x="1158" y="187"/>
                  </a:lnTo>
                  <a:lnTo>
                    <a:pt x="1175" y="206"/>
                  </a:lnTo>
                  <a:lnTo>
                    <a:pt x="1196" y="226"/>
                  </a:lnTo>
                  <a:lnTo>
                    <a:pt x="1219" y="246"/>
                  </a:lnTo>
                  <a:lnTo>
                    <a:pt x="1242" y="266"/>
                  </a:lnTo>
                  <a:lnTo>
                    <a:pt x="1267" y="287"/>
                  </a:lnTo>
                  <a:lnTo>
                    <a:pt x="1294" y="307"/>
                  </a:lnTo>
                  <a:lnTo>
                    <a:pt x="1319" y="327"/>
                  </a:lnTo>
                  <a:lnTo>
                    <a:pt x="1342" y="346"/>
                  </a:lnTo>
                  <a:lnTo>
                    <a:pt x="1364" y="365"/>
                  </a:lnTo>
                  <a:lnTo>
                    <a:pt x="1385" y="382"/>
                  </a:lnTo>
                  <a:lnTo>
                    <a:pt x="1403" y="396"/>
                  </a:lnTo>
                  <a:lnTo>
                    <a:pt x="1418" y="410"/>
                  </a:lnTo>
                  <a:lnTo>
                    <a:pt x="1429" y="422"/>
                  </a:lnTo>
                  <a:lnTo>
                    <a:pt x="1435" y="432"/>
                  </a:lnTo>
                  <a:lnTo>
                    <a:pt x="1437" y="438"/>
                  </a:lnTo>
                  <a:lnTo>
                    <a:pt x="1407" y="439"/>
                  </a:lnTo>
                  <a:lnTo>
                    <a:pt x="1378" y="443"/>
                  </a:lnTo>
                  <a:lnTo>
                    <a:pt x="1350" y="447"/>
                  </a:lnTo>
                  <a:lnTo>
                    <a:pt x="1322" y="452"/>
                  </a:lnTo>
                  <a:lnTo>
                    <a:pt x="1292" y="458"/>
                  </a:lnTo>
                  <a:lnTo>
                    <a:pt x="1264" y="464"/>
                  </a:lnTo>
                  <a:lnTo>
                    <a:pt x="1236" y="471"/>
                  </a:lnTo>
                  <a:lnTo>
                    <a:pt x="1208" y="477"/>
                  </a:lnTo>
                  <a:lnTo>
                    <a:pt x="1180" y="483"/>
                  </a:lnTo>
                  <a:lnTo>
                    <a:pt x="1152" y="489"/>
                  </a:lnTo>
                  <a:lnTo>
                    <a:pt x="1124" y="494"/>
                  </a:lnTo>
                  <a:lnTo>
                    <a:pt x="1096" y="499"/>
                  </a:lnTo>
                  <a:lnTo>
                    <a:pt x="1068" y="502"/>
                  </a:lnTo>
                  <a:lnTo>
                    <a:pt x="1038" y="503"/>
                  </a:lnTo>
                  <a:lnTo>
                    <a:pt x="1009" y="503"/>
                  </a:lnTo>
                  <a:lnTo>
                    <a:pt x="979" y="502"/>
                  </a:lnTo>
                  <a:lnTo>
                    <a:pt x="954" y="513"/>
                  </a:lnTo>
                  <a:lnTo>
                    <a:pt x="928" y="522"/>
                  </a:lnTo>
                  <a:lnTo>
                    <a:pt x="901" y="530"/>
                  </a:lnTo>
                  <a:lnTo>
                    <a:pt x="875" y="536"/>
                  </a:lnTo>
                  <a:lnTo>
                    <a:pt x="847" y="542"/>
                  </a:lnTo>
                  <a:lnTo>
                    <a:pt x="820" y="547"/>
                  </a:lnTo>
                  <a:lnTo>
                    <a:pt x="792" y="550"/>
                  </a:lnTo>
                  <a:lnTo>
                    <a:pt x="763" y="553"/>
                  </a:lnTo>
                  <a:lnTo>
                    <a:pt x="735" y="556"/>
                  </a:lnTo>
                  <a:lnTo>
                    <a:pt x="707" y="558"/>
                  </a:lnTo>
                  <a:lnTo>
                    <a:pt x="677" y="561"/>
                  </a:lnTo>
                  <a:lnTo>
                    <a:pt x="649" y="562"/>
                  </a:lnTo>
                  <a:lnTo>
                    <a:pt x="621" y="566"/>
                  </a:lnTo>
                  <a:lnTo>
                    <a:pt x="593" y="569"/>
                  </a:lnTo>
                  <a:lnTo>
                    <a:pt x="565" y="572"/>
                  </a:lnTo>
                  <a:lnTo>
                    <a:pt x="537" y="576"/>
                  </a:lnTo>
                  <a:lnTo>
                    <a:pt x="529" y="561"/>
                  </a:lnTo>
                  <a:lnTo>
                    <a:pt x="528" y="541"/>
                  </a:lnTo>
                  <a:lnTo>
                    <a:pt x="528" y="519"/>
                  </a:lnTo>
                  <a:lnTo>
                    <a:pt x="520" y="502"/>
                  </a:lnTo>
                  <a:lnTo>
                    <a:pt x="486" y="506"/>
                  </a:lnTo>
                  <a:lnTo>
                    <a:pt x="453" y="508"/>
                  </a:lnTo>
                  <a:lnTo>
                    <a:pt x="420" y="506"/>
                  </a:lnTo>
                  <a:lnTo>
                    <a:pt x="388" y="505"/>
                  </a:lnTo>
                  <a:lnTo>
                    <a:pt x="355" y="500"/>
                  </a:lnTo>
                  <a:lnTo>
                    <a:pt x="324" y="495"/>
                  </a:lnTo>
                  <a:lnTo>
                    <a:pt x="293" y="489"/>
                  </a:lnTo>
                  <a:lnTo>
                    <a:pt x="260" y="483"/>
                  </a:lnTo>
                  <a:lnTo>
                    <a:pt x="229" y="477"/>
                  </a:lnTo>
                  <a:lnTo>
                    <a:pt x="198" y="471"/>
                  </a:lnTo>
                  <a:lnTo>
                    <a:pt x="165" y="466"/>
                  </a:lnTo>
                  <a:lnTo>
                    <a:pt x="134" y="463"/>
                  </a:lnTo>
                  <a:lnTo>
                    <a:pt x="101" y="460"/>
                  </a:lnTo>
                  <a:lnTo>
                    <a:pt x="69" y="460"/>
                  </a:lnTo>
                  <a:lnTo>
                    <a:pt x="36" y="461"/>
                  </a:lnTo>
                  <a:lnTo>
                    <a:pt x="3" y="466"/>
                  </a:lnTo>
                  <a:lnTo>
                    <a:pt x="0" y="463"/>
                  </a:lnTo>
                  <a:lnTo>
                    <a:pt x="0" y="458"/>
                  </a:lnTo>
                  <a:lnTo>
                    <a:pt x="0" y="453"/>
                  </a:lnTo>
                  <a:lnTo>
                    <a:pt x="0" y="449"/>
                  </a:lnTo>
                  <a:lnTo>
                    <a:pt x="24" y="424"/>
                  </a:lnTo>
                  <a:lnTo>
                    <a:pt x="47" y="397"/>
                  </a:lnTo>
                  <a:lnTo>
                    <a:pt x="69" y="371"/>
                  </a:lnTo>
                  <a:lnTo>
                    <a:pt x="90" y="343"/>
                  </a:lnTo>
                  <a:lnTo>
                    <a:pt x="111" y="316"/>
                  </a:lnTo>
                  <a:lnTo>
                    <a:pt x="129" y="288"/>
                  </a:lnTo>
                  <a:lnTo>
                    <a:pt x="148" y="260"/>
                  </a:lnTo>
                  <a:lnTo>
                    <a:pt x="167" y="232"/>
                  </a:lnTo>
                  <a:lnTo>
                    <a:pt x="185" y="204"/>
                  </a:lnTo>
                  <a:lnTo>
                    <a:pt x="203" y="176"/>
                  </a:lnTo>
                  <a:lnTo>
                    <a:pt x="220" y="148"/>
                  </a:lnTo>
                  <a:lnTo>
                    <a:pt x="237" y="118"/>
                  </a:lnTo>
                  <a:lnTo>
                    <a:pt x="254" y="90"/>
                  </a:lnTo>
                  <a:lnTo>
                    <a:pt x="271" y="62"/>
                  </a:lnTo>
                  <a:lnTo>
                    <a:pt x="290" y="33"/>
                  </a:lnTo>
                  <a:lnTo>
                    <a:pt x="307" y="5"/>
                  </a:lnTo>
                  <a:lnTo>
                    <a:pt x="311" y="2"/>
                  </a:lnTo>
                  <a:lnTo>
                    <a:pt x="316" y="0"/>
                  </a:lnTo>
                  <a:lnTo>
                    <a:pt x="321" y="2"/>
                  </a:lnTo>
                  <a:lnTo>
                    <a:pt x="32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371600" y="5756040"/>
              <a:ext cx="648720" cy="371880"/>
            </a:xfrm>
            <a:custGeom>
              <a:avLst/>
              <a:gdLst/>
              <a:ahLst/>
              <a:rect l="l" t="t" r="r" b="b"/>
              <a:pathLst>
                <a:path w="744" h="456">
                  <a:moveTo>
                    <a:pt x="744" y="37"/>
                  </a:moveTo>
                  <a:lnTo>
                    <a:pt x="643" y="442"/>
                  </a:lnTo>
                  <a:lnTo>
                    <a:pt x="616" y="444"/>
                  </a:lnTo>
                  <a:lnTo>
                    <a:pt x="588" y="445"/>
                  </a:lnTo>
                  <a:lnTo>
                    <a:pt x="562" y="447"/>
                  </a:lnTo>
                  <a:lnTo>
                    <a:pt x="535" y="448"/>
                  </a:lnTo>
                  <a:lnTo>
                    <a:pt x="510" y="450"/>
                  </a:lnTo>
                  <a:lnTo>
                    <a:pt x="484" y="453"/>
                  </a:lnTo>
                  <a:lnTo>
                    <a:pt x="458" y="454"/>
                  </a:lnTo>
                  <a:lnTo>
                    <a:pt x="433" y="454"/>
                  </a:lnTo>
                  <a:lnTo>
                    <a:pt x="406" y="456"/>
                  </a:lnTo>
                  <a:lnTo>
                    <a:pt x="380" y="456"/>
                  </a:lnTo>
                  <a:lnTo>
                    <a:pt x="355" y="454"/>
                  </a:lnTo>
                  <a:lnTo>
                    <a:pt x="328" y="453"/>
                  </a:lnTo>
                  <a:lnTo>
                    <a:pt x="303" y="450"/>
                  </a:lnTo>
                  <a:lnTo>
                    <a:pt x="277" y="445"/>
                  </a:lnTo>
                  <a:lnTo>
                    <a:pt x="252" y="440"/>
                  </a:lnTo>
                  <a:lnTo>
                    <a:pt x="226" y="433"/>
                  </a:lnTo>
                  <a:lnTo>
                    <a:pt x="199" y="426"/>
                  </a:lnTo>
                  <a:lnTo>
                    <a:pt x="170" y="422"/>
                  </a:lnTo>
                  <a:lnTo>
                    <a:pt x="142" y="417"/>
                  </a:lnTo>
                  <a:lnTo>
                    <a:pt x="112" y="416"/>
                  </a:lnTo>
                  <a:lnTo>
                    <a:pt x="82" y="414"/>
                  </a:lnTo>
                  <a:lnTo>
                    <a:pt x="53" y="412"/>
                  </a:lnTo>
                  <a:lnTo>
                    <a:pt x="26" y="412"/>
                  </a:lnTo>
                  <a:lnTo>
                    <a:pt x="0" y="411"/>
                  </a:lnTo>
                  <a:lnTo>
                    <a:pt x="23" y="386"/>
                  </a:lnTo>
                  <a:lnTo>
                    <a:pt x="47" y="358"/>
                  </a:lnTo>
                  <a:lnTo>
                    <a:pt x="72" y="327"/>
                  </a:lnTo>
                  <a:lnTo>
                    <a:pt x="95" y="294"/>
                  </a:lnTo>
                  <a:lnTo>
                    <a:pt x="120" y="260"/>
                  </a:lnTo>
                  <a:lnTo>
                    <a:pt x="143" y="225"/>
                  </a:lnTo>
                  <a:lnTo>
                    <a:pt x="165" y="191"/>
                  </a:lnTo>
                  <a:lnTo>
                    <a:pt x="187" y="158"/>
                  </a:lnTo>
                  <a:lnTo>
                    <a:pt x="205" y="127"/>
                  </a:lnTo>
                  <a:lnTo>
                    <a:pt x="224" y="96"/>
                  </a:lnTo>
                  <a:lnTo>
                    <a:pt x="240" y="70"/>
                  </a:lnTo>
                  <a:lnTo>
                    <a:pt x="254" y="46"/>
                  </a:lnTo>
                  <a:lnTo>
                    <a:pt x="265" y="28"/>
                  </a:lnTo>
                  <a:lnTo>
                    <a:pt x="274" y="12"/>
                  </a:lnTo>
                  <a:lnTo>
                    <a:pt x="279" y="3"/>
                  </a:lnTo>
                  <a:lnTo>
                    <a:pt x="280" y="0"/>
                  </a:lnTo>
                  <a:lnTo>
                    <a:pt x="308" y="1"/>
                  </a:lnTo>
                  <a:lnTo>
                    <a:pt x="338" y="4"/>
                  </a:lnTo>
                  <a:lnTo>
                    <a:pt x="366" y="9"/>
                  </a:lnTo>
                  <a:lnTo>
                    <a:pt x="395" y="12"/>
                  </a:lnTo>
                  <a:lnTo>
                    <a:pt x="423" y="17"/>
                  </a:lnTo>
                  <a:lnTo>
                    <a:pt x="451" y="21"/>
                  </a:lnTo>
                  <a:lnTo>
                    <a:pt x="481" y="26"/>
                  </a:lnTo>
                  <a:lnTo>
                    <a:pt x="510" y="31"/>
                  </a:lnTo>
                  <a:lnTo>
                    <a:pt x="539" y="35"/>
                  </a:lnTo>
                  <a:lnTo>
                    <a:pt x="568" y="39"/>
                  </a:lnTo>
                  <a:lnTo>
                    <a:pt x="596" y="42"/>
                  </a:lnTo>
                  <a:lnTo>
                    <a:pt x="626" y="43"/>
                  </a:lnTo>
                  <a:lnTo>
                    <a:pt x="655" y="45"/>
                  </a:lnTo>
                  <a:lnTo>
                    <a:pt x="685" y="43"/>
                  </a:lnTo>
                  <a:lnTo>
                    <a:pt x="714" y="42"/>
                  </a:lnTo>
                  <a:lnTo>
                    <a:pt x="744"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812960" y="5808240"/>
              <a:ext cx="556560" cy="378000"/>
            </a:xfrm>
            <a:custGeom>
              <a:avLst/>
              <a:gdLst/>
              <a:ahLst/>
              <a:rect l="l" t="t" r="r" b="b"/>
              <a:pathLst>
                <a:path w="636" h="465">
                  <a:moveTo>
                    <a:pt x="478" y="47"/>
                  </a:moveTo>
                  <a:lnTo>
                    <a:pt x="493" y="81"/>
                  </a:lnTo>
                  <a:lnTo>
                    <a:pt x="510" y="116"/>
                  </a:lnTo>
                  <a:lnTo>
                    <a:pt x="527" y="150"/>
                  </a:lnTo>
                  <a:lnTo>
                    <a:pt x="546" y="184"/>
                  </a:lnTo>
                  <a:lnTo>
                    <a:pt x="566" y="217"/>
                  </a:lnTo>
                  <a:lnTo>
                    <a:pt x="588" y="250"/>
                  </a:lnTo>
                  <a:lnTo>
                    <a:pt x="612" y="281"/>
                  </a:lnTo>
                  <a:lnTo>
                    <a:pt x="636" y="312"/>
                  </a:lnTo>
                  <a:lnTo>
                    <a:pt x="439" y="384"/>
                  </a:lnTo>
                  <a:lnTo>
                    <a:pt x="414" y="395"/>
                  </a:lnTo>
                  <a:lnTo>
                    <a:pt x="389" y="405"/>
                  </a:lnTo>
                  <a:lnTo>
                    <a:pt x="364" y="413"/>
                  </a:lnTo>
                  <a:lnTo>
                    <a:pt x="338" y="421"/>
                  </a:lnTo>
                  <a:lnTo>
                    <a:pt x="311" y="427"/>
                  </a:lnTo>
                  <a:lnTo>
                    <a:pt x="283" y="432"/>
                  </a:lnTo>
                  <a:lnTo>
                    <a:pt x="257" y="437"/>
                  </a:lnTo>
                  <a:lnTo>
                    <a:pt x="229" y="440"/>
                  </a:lnTo>
                  <a:lnTo>
                    <a:pt x="201" y="443"/>
                  </a:lnTo>
                  <a:lnTo>
                    <a:pt x="173" y="446"/>
                  </a:lnTo>
                  <a:lnTo>
                    <a:pt x="145" y="449"/>
                  </a:lnTo>
                  <a:lnTo>
                    <a:pt x="117" y="451"/>
                  </a:lnTo>
                  <a:lnTo>
                    <a:pt x="89" y="454"/>
                  </a:lnTo>
                  <a:lnTo>
                    <a:pt x="62" y="457"/>
                  </a:lnTo>
                  <a:lnTo>
                    <a:pt x="34" y="460"/>
                  </a:lnTo>
                  <a:lnTo>
                    <a:pt x="6" y="465"/>
                  </a:lnTo>
                  <a:lnTo>
                    <a:pt x="3" y="454"/>
                  </a:lnTo>
                  <a:lnTo>
                    <a:pt x="1" y="441"/>
                  </a:lnTo>
                  <a:lnTo>
                    <a:pt x="0" y="429"/>
                  </a:lnTo>
                  <a:lnTo>
                    <a:pt x="0" y="415"/>
                  </a:lnTo>
                  <a:lnTo>
                    <a:pt x="22" y="415"/>
                  </a:lnTo>
                  <a:lnTo>
                    <a:pt x="43" y="413"/>
                  </a:lnTo>
                  <a:lnTo>
                    <a:pt x="62" y="410"/>
                  </a:lnTo>
                  <a:lnTo>
                    <a:pt x="82" y="407"/>
                  </a:lnTo>
                  <a:lnTo>
                    <a:pt x="101" y="404"/>
                  </a:lnTo>
                  <a:lnTo>
                    <a:pt x="121" y="404"/>
                  </a:lnTo>
                  <a:lnTo>
                    <a:pt x="141" y="405"/>
                  </a:lnTo>
                  <a:lnTo>
                    <a:pt x="162" y="412"/>
                  </a:lnTo>
                  <a:lnTo>
                    <a:pt x="171" y="399"/>
                  </a:lnTo>
                  <a:lnTo>
                    <a:pt x="171" y="384"/>
                  </a:lnTo>
                  <a:lnTo>
                    <a:pt x="169" y="367"/>
                  </a:lnTo>
                  <a:lnTo>
                    <a:pt x="173" y="349"/>
                  </a:lnTo>
                  <a:lnTo>
                    <a:pt x="179" y="309"/>
                  </a:lnTo>
                  <a:lnTo>
                    <a:pt x="187" y="268"/>
                  </a:lnTo>
                  <a:lnTo>
                    <a:pt x="194" y="228"/>
                  </a:lnTo>
                  <a:lnTo>
                    <a:pt x="204" y="189"/>
                  </a:lnTo>
                  <a:lnTo>
                    <a:pt x="213" y="148"/>
                  </a:lnTo>
                  <a:lnTo>
                    <a:pt x="224" y="109"/>
                  </a:lnTo>
                  <a:lnTo>
                    <a:pt x="233" y="69"/>
                  </a:lnTo>
                  <a:lnTo>
                    <a:pt x="244" y="30"/>
                  </a:lnTo>
                  <a:lnTo>
                    <a:pt x="271" y="28"/>
                  </a:lnTo>
                  <a:lnTo>
                    <a:pt x="299" y="27"/>
                  </a:lnTo>
                  <a:lnTo>
                    <a:pt x="325" y="24"/>
                  </a:lnTo>
                  <a:lnTo>
                    <a:pt x="352" y="19"/>
                  </a:lnTo>
                  <a:lnTo>
                    <a:pt x="380" y="16"/>
                  </a:lnTo>
                  <a:lnTo>
                    <a:pt x="406" y="11"/>
                  </a:lnTo>
                  <a:lnTo>
                    <a:pt x="433" y="5"/>
                  </a:lnTo>
                  <a:lnTo>
                    <a:pt x="459" y="0"/>
                  </a:lnTo>
                  <a:lnTo>
                    <a:pt x="462" y="7"/>
                  </a:lnTo>
                  <a:lnTo>
                    <a:pt x="468" y="19"/>
                  </a:lnTo>
                  <a:lnTo>
                    <a:pt x="475" y="35"/>
                  </a:lnTo>
                  <a:lnTo>
                    <a:pt x="478" y="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240640" y="5834520"/>
              <a:ext cx="308520" cy="291600"/>
            </a:xfrm>
            <a:custGeom>
              <a:avLst/>
              <a:gdLst/>
              <a:ahLst/>
              <a:rect l="l" t="t" r="r" b="b"/>
              <a:pathLst>
                <a:path w="354" h="358">
                  <a:moveTo>
                    <a:pt x="56" y="14"/>
                  </a:moveTo>
                  <a:lnTo>
                    <a:pt x="236" y="201"/>
                  </a:lnTo>
                  <a:lnTo>
                    <a:pt x="252" y="212"/>
                  </a:lnTo>
                  <a:lnTo>
                    <a:pt x="266" y="224"/>
                  </a:lnTo>
                  <a:lnTo>
                    <a:pt x="281" y="237"/>
                  </a:lnTo>
                  <a:lnTo>
                    <a:pt x="295" y="249"/>
                  </a:lnTo>
                  <a:lnTo>
                    <a:pt x="309" y="262"/>
                  </a:lnTo>
                  <a:lnTo>
                    <a:pt x="323" y="273"/>
                  </a:lnTo>
                  <a:lnTo>
                    <a:pt x="339" y="284"/>
                  </a:lnTo>
                  <a:lnTo>
                    <a:pt x="354" y="295"/>
                  </a:lnTo>
                  <a:lnTo>
                    <a:pt x="207" y="326"/>
                  </a:lnTo>
                  <a:lnTo>
                    <a:pt x="6" y="358"/>
                  </a:lnTo>
                  <a:lnTo>
                    <a:pt x="0" y="358"/>
                  </a:lnTo>
                  <a:lnTo>
                    <a:pt x="21" y="351"/>
                  </a:lnTo>
                  <a:lnTo>
                    <a:pt x="45" y="344"/>
                  </a:lnTo>
                  <a:lnTo>
                    <a:pt x="66" y="337"/>
                  </a:lnTo>
                  <a:lnTo>
                    <a:pt x="90" y="327"/>
                  </a:lnTo>
                  <a:lnTo>
                    <a:pt x="112" y="320"/>
                  </a:lnTo>
                  <a:lnTo>
                    <a:pt x="135" y="312"/>
                  </a:lnTo>
                  <a:lnTo>
                    <a:pt x="157" y="305"/>
                  </a:lnTo>
                  <a:lnTo>
                    <a:pt x="180" y="298"/>
                  </a:lnTo>
                  <a:lnTo>
                    <a:pt x="177" y="288"/>
                  </a:lnTo>
                  <a:lnTo>
                    <a:pt x="174" y="279"/>
                  </a:lnTo>
                  <a:lnTo>
                    <a:pt x="168" y="270"/>
                  </a:lnTo>
                  <a:lnTo>
                    <a:pt x="160" y="262"/>
                  </a:lnTo>
                  <a:lnTo>
                    <a:pt x="152" y="254"/>
                  </a:lnTo>
                  <a:lnTo>
                    <a:pt x="146" y="246"/>
                  </a:lnTo>
                  <a:lnTo>
                    <a:pt x="140" y="237"/>
                  </a:lnTo>
                  <a:lnTo>
                    <a:pt x="133" y="229"/>
                  </a:lnTo>
                  <a:lnTo>
                    <a:pt x="115" y="203"/>
                  </a:lnTo>
                  <a:lnTo>
                    <a:pt x="96" y="176"/>
                  </a:lnTo>
                  <a:lnTo>
                    <a:pt x="77" y="148"/>
                  </a:lnTo>
                  <a:lnTo>
                    <a:pt x="62" y="120"/>
                  </a:lnTo>
                  <a:lnTo>
                    <a:pt x="46" y="92"/>
                  </a:lnTo>
                  <a:lnTo>
                    <a:pt x="32" y="62"/>
                  </a:lnTo>
                  <a:lnTo>
                    <a:pt x="20" y="33"/>
                  </a:lnTo>
                  <a:lnTo>
                    <a:pt x="7" y="3"/>
                  </a:lnTo>
                  <a:lnTo>
                    <a:pt x="14" y="2"/>
                  </a:lnTo>
                  <a:lnTo>
                    <a:pt x="21" y="0"/>
                  </a:lnTo>
                  <a:lnTo>
                    <a:pt x="28" y="0"/>
                  </a:lnTo>
                  <a:lnTo>
                    <a:pt x="34" y="2"/>
                  </a:lnTo>
                  <a:lnTo>
                    <a:pt x="40" y="3"/>
                  </a:lnTo>
                  <a:lnTo>
                    <a:pt x="46" y="6"/>
                  </a:lnTo>
                  <a:lnTo>
                    <a:pt x="51" y="10"/>
                  </a:lnTo>
                  <a:lnTo>
                    <a:pt x="5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170720" y="4934520"/>
              <a:ext cx="537480" cy="614160"/>
            </a:xfrm>
            <a:custGeom>
              <a:avLst/>
              <a:gdLst/>
              <a:ahLst/>
              <a:rect l="l" t="t" r="r" b="b"/>
              <a:pathLst>
                <a:path w="618" h="754">
                  <a:moveTo>
                    <a:pt x="557" y="138"/>
                  </a:moveTo>
                  <a:lnTo>
                    <a:pt x="554" y="135"/>
                  </a:lnTo>
                  <a:lnTo>
                    <a:pt x="546" y="126"/>
                  </a:lnTo>
                  <a:lnTo>
                    <a:pt x="537" y="113"/>
                  </a:lnTo>
                  <a:lnTo>
                    <a:pt x="523" y="98"/>
                  </a:lnTo>
                  <a:lnTo>
                    <a:pt x="509" y="81"/>
                  </a:lnTo>
                  <a:lnTo>
                    <a:pt x="495" y="64"/>
                  </a:lnTo>
                  <a:lnTo>
                    <a:pt x="479" y="48"/>
                  </a:lnTo>
                  <a:lnTo>
                    <a:pt x="465" y="34"/>
                  </a:lnTo>
                  <a:lnTo>
                    <a:pt x="445" y="20"/>
                  </a:lnTo>
                  <a:lnTo>
                    <a:pt x="423" y="9"/>
                  </a:lnTo>
                  <a:lnTo>
                    <a:pt x="400" y="3"/>
                  </a:lnTo>
                  <a:lnTo>
                    <a:pt x="375" y="0"/>
                  </a:lnTo>
                  <a:lnTo>
                    <a:pt x="350" y="0"/>
                  </a:lnTo>
                  <a:lnTo>
                    <a:pt x="325" y="4"/>
                  </a:lnTo>
                  <a:lnTo>
                    <a:pt x="302" y="11"/>
                  </a:lnTo>
                  <a:lnTo>
                    <a:pt x="279" y="20"/>
                  </a:lnTo>
                  <a:lnTo>
                    <a:pt x="260" y="29"/>
                  </a:lnTo>
                  <a:lnTo>
                    <a:pt x="241" y="39"/>
                  </a:lnTo>
                  <a:lnTo>
                    <a:pt x="224" y="50"/>
                  </a:lnTo>
                  <a:lnTo>
                    <a:pt x="207" y="62"/>
                  </a:lnTo>
                  <a:lnTo>
                    <a:pt x="192" y="74"/>
                  </a:lnTo>
                  <a:lnTo>
                    <a:pt x="176" y="88"/>
                  </a:lnTo>
                  <a:lnTo>
                    <a:pt x="162" y="104"/>
                  </a:lnTo>
                  <a:lnTo>
                    <a:pt x="149" y="120"/>
                  </a:lnTo>
                  <a:lnTo>
                    <a:pt x="118" y="160"/>
                  </a:lnTo>
                  <a:lnTo>
                    <a:pt x="90" y="202"/>
                  </a:lnTo>
                  <a:lnTo>
                    <a:pt x="64" y="244"/>
                  </a:lnTo>
                  <a:lnTo>
                    <a:pt x="41" y="286"/>
                  </a:lnTo>
                  <a:lnTo>
                    <a:pt x="22" y="330"/>
                  </a:lnTo>
                  <a:lnTo>
                    <a:pt x="8" y="375"/>
                  </a:lnTo>
                  <a:lnTo>
                    <a:pt x="2" y="422"/>
                  </a:lnTo>
                  <a:lnTo>
                    <a:pt x="0" y="469"/>
                  </a:lnTo>
                  <a:lnTo>
                    <a:pt x="3" y="494"/>
                  </a:lnTo>
                  <a:lnTo>
                    <a:pt x="6" y="518"/>
                  </a:lnTo>
                  <a:lnTo>
                    <a:pt x="14" y="543"/>
                  </a:lnTo>
                  <a:lnTo>
                    <a:pt x="23" y="568"/>
                  </a:lnTo>
                  <a:lnTo>
                    <a:pt x="34" y="592"/>
                  </a:lnTo>
                  <a:lnTo>
                    <a:pt x="47" y="617"/>
                  </a:lnTo>
                  <a:lnTo>
                    <a:pt x="62" y="638"/>
                  </a:lnTo>
                  <a:lnTo>
                    <a:pt x="79" y="660"/>
                  </a:lnTo>
                  <a:lnTo>
                    <a:pt x="98" y="679"/>
                  </a:lnTo>
                  <a:lnTo>
                    <a:pt x="120" y="698"/>
                  </a:lnTo>
                  <a:lnTo>
                    <a:pt x="142" y="713"/>
                  </a:lnTo>
                  <a:lnTo>
                    <a:pt x="167" y="727"/>
                  </a:lnTo>
                  <a:lnTo>
                    <a:pt x="192" y="738"/>
                  </a:lnTo>
                  <a:lnTo>
                    <a:pt x="220" y="746"/>
                  </a:lnTo>
                  <a:lnTo>
                    <a:pt x="249" y="752"/>
                  </a:lnTo>
                  <a:lnTo>
                    <a:pt x="279" y="754"/>
                  </a:lnTo>
                  <a:lnTo>
                    <a:pt x="294" y="754"/>
                  </a:lnTo>
                  <a:lnTo>
                    <a:pt x="308" y="751"/>
                  </a:lnTo>
                  <a:lnTo>
                    <a:pt x="322" y="746"/>
                  </a:lnTo>
                  <a:lnTo>
                    <a:pt x="333" y="738"/>
                  </a:lnTo>
                  <a:lnTo>
                    <a:pt x="344" y="730"/>
                  </a:lnTo>
                  <a:lnTo>
                    <a:pt x="352" y="719"/>
                  </a:lnTo>
                  <a:lnTo>
                    <a:pt x="356" y="707"/>
                  </a:lnTo>
                  <a:lnTo>
                    <a:pt x="360" y="694"/>
                  </a:lnTo>
                  <a:lnTo>
                    <a:pt x="360" y="682"/>
                  </a:lnTo>
                  <a:lnTo>
                    <a:pt x="356" y="670"/>
                  </a:lnTo>
                  <a:lnTo>
                    <a:pt x="352" y="657"/>
                  </a:lnTo>
                  <a:lnTo>
                    <a:pt x="342" y="648"/>
                  </a:lnTo>
                  <a:lnTo>
                    <a:pt x="333" y="638"/>
                  </a:lnTo>
                  <a:lnTo>
                    <a:pt x="321" y="632"/>
                  </a:lnTo>
                  <a:lnTo>
                    <a:pt x="307" y="627"/>
                  </a:lnTo>
                  <a:lnTo>
                    <a:pt x="293" y="624"/>
                  </a:lnTo>
                  <a:lnTo>
                    <a:pt x="285" y="624"/>
                  </a:lnTo>
                  <a:lnTo>
                    <a:pt x="277" y="624"/>
                  </a:lnTo>
                  <a:lnTo>
                    <a:pt x="269" y="624"/>
                  </a:lnTo>
                  <a:lnTo>
                    <a:pt x="262" y="623"/>
                  </a:lnTo>
                  <a:lnTo>
                    <a:pt x="254" y="623"/>
                  </a:lnTo>
                  <a:lnTo>
                    <a:pt x="248" y="621"/>
                  </a:lnTo>
                  <a:lnTo>
                    <a:pt x="241" y="620"/>
                  </a:lnTo>
                  <a:lnTo>
                    <a:pt x="237" y="617"/>
                  </a:lnTo>
                  <a:lnTo>
                    <a:pt x="229" y="610"/>
                  </a:lnTo>
                  <a:lnTo>
                    <a:pt x="223" y="606"/>
                  </a:lnTo>
                  <a:lnTo>
                    <a:pt x="215" y="598"/>
                  </a:lnTo>
                  <a:lnTo>
                    <a:pt x="209" y="592"/>
                  </a:lnTo>
                  <a:lnTo>
                    <a:pt x="202" y="585"/>
                  </a:lnTo>
                  <a:lnTo>
                    <a:pt x="198" y="578"/>
                  </a:lnTo>
                  <a:lnTo>
                    <a:pt x="192" y="571"/>
                  </a:lnTo>
                  <a:lnTo>
                    <a:pt x="185" y="564"/>
                  </a:lnTo>
                  <a:lnTo>
                    <a:pt x="168" y="537"/>
                  </a:lnTo>
                  <a:lnTo>
                    <a:pt x="156" y="511"/>
                  </a:lnTo>
                  <a:lnTo>
                    <a:pt x="149" y="483"/>
                  </a:lnTo>
                  <a:lnTo>
                    <a:pt x="148" y="455"/>
                  </a:lnTo>
                  <a:lnTo>
                    <a:pt x="153" y="417"/>
                  </a:lnTo>
                  <a:lnTo>
                    <a:pt x="162" y="381"/>
                  </a:lnTo>
                  <a:lnTo>
                    <a:pt x="176" y="347"/>
                  </a:lnTo>
                  <a:lnTo>
                    <a:pt x="193" y="313"/>
                  </a:lnTo>
                  <a:lnTo>
                    <a:pt x="212" y="280"/>
                  </a:lnTo>
                  <a:lnTo>
                    <a:pt x="234" y="247"/>
                  </a:lnTo>
                  <a:lnTo>
                    <a:pt x="255" y="215"/>
                  </a:lnTo>
                  <a:lnTo>
                    <a:pt x="277" y="184"/>
                  </a:lnTo>
                  <a:lnTo>
                    <a:pt x="286" y="165"/>
                  </a:lnTo>
                  <a:lnTo>
                    <a:pt x="299" y="149"/>
                  </a:lnTo>
                  <a:lnTo>
                    <a:pt x="314" y="140"/>
                  </a:lnTo>
                  <a:lnTo>
                    <a:pt x="330" y="132"/>
                  </a:lnTo>
                  <a:lnTo>
                    <a:pt x="344" y="127"/>
                  </a:lnTo>
                  <a:lnTo>
                    <a:pt x="355" y="126"/>
                  </a:lnTo>
                  <a:lnTo>
                    <a:pt x="361" y="124"/>
                  </a:lnTo>
                  <a:lnTo>
                    <a:pt x="363" y="124"/>
                  </a:lnTo>
                  <a:lnTo>
                    <a:pt x="383" y="137"/>
                  </a:lnTo>
                  <a:lnTo>
                    <a:pt x="402" y="157"/>
                  </a:lnTo>
                  <a:lnTo>
                    <a:pt x="417" y="182"/>
                  </a:lnTo>
                  <a:lnTo>
                    <a:pt x="431" y="210"/>
                  </a:lnTo>
                  <a:lnTo>
                    <a:pt x="445" y="238"/>
                  </a:lnTo>
                  <a:lnTo>
                    <a:pt x="455" y="263"/>
                  </a:lnTo>
                  <a:lnTo>
                    <a:pt x="464" y="280"/>
                  </a:lnTo>
                  <a:lnTo>
                    <a:pt x="472" y="288"/>
                  </a:lnTo>
                  <a:lnTo>
                    <a:pt x="506" y="317"/>
                  </a:lnTo>
                  <a:lnTo>
                    <a:pt x="528" y="321"/>
                  </a:lnTo>
                  <a:lnTo>
                    <a:pt x="548" y="316"/>
                  </a:lnTo>
                  <a:lnTo>
                    <a:pt x="567" y="307"/>
                  </a:lnTo>
                  <a:lnTo>
                    <a:pt x="582" y="293"/>
                  </a:lnTo>
                  <a:lnTo>
                    <a:pt x="595" y="275"/>
                  </a:lnTo>
                  <a:lnTo>
                    <a:pt x="604" y="255"/>
                  </a:lnTo>
                  <a:lnTo>
                    <a:pt x="612" y="235"/>
                  </a:lnTo>
                  <a:lnTo>
                    <a:pt x="616" y="215"/>
                  </a:lnTo>
                  <a:lnTo>
                    <a:pt x="618" y="202"/>
                  </a:lnTo>
                  <a:lnTo>
                    <a:pt x="616" y="190"/>
                  </a:lnTo>
                  <a:lnTo>
                    <a:pt x="612" y="177"/>
                  </a:lnTo>
                  <a:lnTo>
                    <a:pt x="606" y="166"/>
                  </a:lnTo>
                  <a:lnTo>
                    <a:pt x="596" y="157"/>
                  </a:lnTo>
                  <a:lnTo>
                    <a:pt x="585" y="149"/>
                  </a:lnTo>
                  <a:lnTo>
                    <a:pt x="571" y="143"/>
                  </a:lnTo>
                  <a:lnTo>
                    <a:pt x="557" y="138"/>
                  </a:lnTo>
                  <a:close/>
                </a:path>
              </a:pathLst>
            </a:custGeom>
            <a:solidFill>
              <a:srgbClr val="8c1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47600" y="5115240"/>
              <a:ext cx="371520" cy="490680"/>
            </a:xfrm>
            <a:custGeom>
              <a:avLst/>
              <a:gdLst/>
              <a:ahLst/>
              <a:rect l="l" t="t" r="r" b="b"/>
              <a:pathLst>
                <a:path w="425" h="602">
                  <a:moveTo>
                    <a:pt x="419" y="83"/>
                  </a:moveTo>
                  <a:lnTo>
                    <a:pt x="416" y="74"/>
                  </a:lnTo>
                  <a:lnTo>
                    <a:pt x="409" y="53"/>
                  </a:lnTo>
                  <a:lnTo>
                    <a:pt x="400" y="32"/>
                  </a:lnTo>
                  <a:lnTo>
                    <a:pt x="391" y="18"/>
                  </a:lnTo>
                  <a:lnTo>
                    <a:pt x="378" y="10"/>
                  </a:lnTo>
                  <a:lnTo>
                    <a:pt x="366" y="4"/>
                  </a:lnTo>
                  <a:lnTo>
                    <a:pt x="353" y="2"/>
                  </a:lnTo>
                  <a:lnTo>
                    <a:pt x="339" y="0"/>
                  </a:lnTo>
                  <a:lnTo>
                    <a:pt x="325" y="4"/>
                  </a:lnTo>
                  <a:lnTo>
                    <a:pt x="313" y="8"/>
                  </a:lnTo>
                  <a:lnTo>
                    <a:pt x="302" y="16"/>
                  </a:lnTo>
                  <a:lnTo>
                    <a:pt x="291" y="25"/>
                  </a:lnTo>
                  <a:lnTo>
                    <a:pt x="288" y="33"/>
                  </a:lnTo>
                  <a:lnTo>
                    <a:pt x="279" y="52"/>
                  </a:lnTo>
                  <a:lnTo>
                    <a:pt x="263" y="80"/>
                  </a:lnTo>
                  <a:lnTo>
                    <a:pt x="246" y="114"/>
                  </a:lnTo>
                  <a:lnTo>
                    <a:pt x="227" y="150"/>
                  </a:lnTo>
                  <a:lnTo>
                    <a:pt x="208" y="187"/>
                  </a:lnTo>
                  <a:lnTo>
                    <a:pt x="190" y="222"/>
                  </a:lnTo>
                  <a:lnTo>
                    <a:pt x="176" y="250"/>
                  </a:lnTo>
                  <a:lnTo>
                    <a:pt x="168" y="203"/>
                  </a:lnTo>
                  <a:lnTo>
                    <a:pt x="160" y="156"/>
                  </a:lnTo>
                  <a:lnTo>
                    <a:pt x="152" y="111"/>
                  </a:lnTo>
                  <a:lnTo>
                    <a:pt x="142" y="64"/>
                  </a:lnTo>
                  <a:lnTo>
                    <a:pt x="138" y="50"/>
                  </a:lnTo>
                  <a:lnTo>
                    <a:pt x="132" y="38"/>
                  </a:lnTo>
                  <a:lnTo>
                    <a:pt x="124" y="27"/>
                  </a:lnTo>
                  <a:lnTo>
                    <a:pt x="115" y="16"/>
                  </a:lnTo>
                  <a:lnTo>
                    <a:pt x="103" y="10"/>
                  </a:lnTo>
                  <a:lnTo>
                    <a:pt x="90" y="4"/>
                  </a:lnTo>
                  <a:lnTo>
                    <a:pt x="76" y="2"/>
                  </a:lnTo>
                  <a:lnTo>
                    <a:pt x="62" y="2"/>
                  </a:lnTo>
                  <a:lnTo>
                    <a:pt x="48" y="5"/>
                  </a:lnTo>
                  <a:lnTo>
                    <a:pt x="36" y="11"/>
                  </a:lnTo>
                  <a:lnTo>
                    <a:pt x="25" y="19"/>
                  </a:lnTo>
                  <a:lnTo>
                    <a:pt x="15" y="28"/>
                  </a:lnTo>
                  <a:lnTo>
                    <a:pt x="8" y="41"/>
                  </a:lnTo>
                  <a:lnTo>
                    <a:pt x="1" y="53"/>
                  </a:lnTo>
                  <a:lnTo>
                    <a:pt x="0" y="67"/>
                  </a:lnTo>
                  <a:lnTo>
                    <a:pt x="0" y="81"/>
                  </a:lnTo>
                  <a:lnTo>
                    <a:pt x="9" y="128"/>
                  </a:lnTo>
                  <a:lnTo>
                    <a:pt x="19" y="176"/>
                  </a:lnTo>
                  <a:lnTo>
                    <a:pt x="26" y="223"/>
                  </a:lnTo>
                  <a:lnTo>
                    <a:pt x="34" y="272"/>
                  </a:lnTo>
                  <a:lnTo>
                    <a:pt x="44" y="318"/>
                  </a:lnTo>
                  <a:lnTo>
                    <a:pt x="54" y="367"/>
                  </a:lnTo>
                  <a:lnTo>
                    <a:pt x="68" y="412"/>
                  </a:lnTo>
                  <a:lnTo>
                    <a:pt x="86" y="457"/>
                  </a:lnTo>
                  <a:lnTo>
                    <a:pt x="86" y="458"/>
                  </a:lnTo>
                  <a:lnTo>
                    <a:pt x="89" y="465"/>
                  </a:lnTo>
                  <a:lnTo>
                    <a:pt x="90" y="471"/>
                  </a:lnTo>
                  <a:lnTo>
                    <a:pt x="92" y="476"/>
                  </a:lnTo>
                  <a:lnTo>
                    <a:pt x="100" y="488"/>
                  </a:lnTo>
                  <a:lnTo>
                    <a:pt x="107" y="499"/>
                  </a:lnTo>
                  <a:lnTo>
                    <a:pt x="118" y="507"/>
                  </a:lnTo>
                  <a:lnTo>
                    <a:pt x="131" y="513"/>
                  </a:lnTo>
                  <a:lnTo>
                    <a:pt x="145" y="516"/>
                  </a:lnTo>
                  <a:lnTo>
                    <a:pt x="159" y="516"/>
                  </a:lnTo>
                  <a:lnTo>
                    <a:pt x="173" y="515"/>
                  </a:lnTo>
                  <a:lnTo>
                    <a:pt x="187" y="510"/>
                  </a:lnTo>
                  <a:lnTo>
                    <a:pt x="190" y="505"/>
                  </a:lnTo>
                  <a:lnTo>
                    <a:pt x="199" y="493"/>
                  </a:lnTo>
                  <a:lnTo>
                    <a:pt x="212" y="476"/>
                  </a:lnTo>
                  <a:lnTo>
                    <a:pt x="226" y="454"/>
                  </a:lnTo>
                  <a:lnTo>
                    <a:pt x="241" y="430"/>
                  </a:lnTo>
                  <a:lnTo>
                    <a:pt x="257" y="407"/>
                  </a:lnTo>
                  <a:lnTo>
                    <a:pt x="269" y="385"/>
                  </a:lnTo>
                  <a:lnTo>
                    <a:pt x="279" y="367"/>
                  </a:lnTo>
                  <a:lnTo>
                    <a:pt x="277" y="407"/>
                  </a:lnTo>
                  <a:lnTo>
                    <a:pt x="279" y="448"/>
                  </a:lnTo>
                  <a:lnTo>
                    <a:pt x="279" y="490"/>
                  </a:lnTo>
                  <a:lnTo>
                    <a:pt x="282" y="530"/>
                  </a:lnTo>
                  <a:lnTo>
                    <a:pt x="283" y="544"/>
                  </a:lnTo>
                  <a:lnTo>
                    <a:pt x="288" y="558"/>
                  </a:lnTo>
                  <a:lnTo>
                    <a:pt x="294" y="571"/>
                  </a:lnTo>
                  <a:lnTo>
                    <a:pt x="303" y="582"/>
                  </a:lnTo>
                  <a:lnTo>
                    <a:pt x="313" y="589"/>
                  </a:lnTo>
                  <a:lnTo>
                    <a:pt x="325" y="596"/>
                  </a:lnTo>
                  <a:lnTo>
                    <a:pt x="339" y="600"/>
                  </a:lnTo>
                  <a:lnTo>
                    <a:pt x="353" y="602"/>
                  </a:lnTo>
                  <a:lnTo>
                    <a:pt x="367" y="600"/>
                  </a:lnTo>
                  <a:lnTo>
                    <a:pt x="381" y="596"/>
                  </a:lnTo>
                  <a:lnTo>
                    <a:pt x="394" y="589"/>
                  </a:lnTo>
                  <a:lnTo>
                    <a:pt x="403" y="582"/>
                  </a:lnTo>
                  <a:lnTo>
                    <a:pt x="412" y="571"/>
                  </a:lnTo>
                  <a:lnTo>
                    <a:pt x="419" y="558"/>
                  </a:lnTo>
                  <a:lnTo>
                    <a:pt x="423" y="544"/>
                  </a:lnTo>
                  <a:lnTo>
                    <a:pt x="425" y="530"/>
                  </a:lnTo>
                  <a:lnTo>
                    <a:pt x="422" y="419"/>
                  </a:lnTo>
                  <a:lnTo>
                    <a:pt x="423" y="307"/>
                  </a:lnTo>
                  <a:lnTo>
                    <a:pt x="425" y="195"/>
                  </a:lnTo>
                  <a:lnTo>
                    <a:pt x="419" y="83"/>
                  </a:lnTo>
                  <a:close/>
                </a:path>
              </a:pathLst>
            </a:custGeom>
            <a:solidFill>
              <a:srgbClr val="8c1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425320" y="5166000"/>
              <a:ext cx="300240" cy="516600"/>
            </a:xfrm>
            <a:custGeom>
              <a:avLst/>
              <a:gdLst/>
              <a:ahLst/>
              <a:rect l="l" t="t" r="r" b="b"/>
              <a:pathLst>
                <a:path w="346" h="634">
                  <a:moveTo>
                    <a:pt x="298" y="335"/>
                  </a:moveTo>
                  <a:lnTo>
                    <a:pt x="290" y="324"/>
                  </a:lnTo>
                  <a:lnTo>
                    <a:pt x="280" y="316"/>
                  </a:lnTo>
                  <a:lnTo>
                    <a:pt x="270" y="310"/>
                  </a:lnTo>
                  <a:lnTo>
                    <a:pt x="259" y="306"/>
                  </a:lnTo>
                  <a:lnTo>
                    <a:pt x="246" y="304"/>
                  </a:lnTo>
                  <a:lnTo>
                    <a:pt x="234" y="304"/>
                  </a:lnTo>
                  <a:lnTo>
                    <a:pt x="221" y="307"/>
                  </a:lnTo>
                  <a:lnTo>
                    <a:pt x="209" y="313"/>
                  </a:lnTo>
                  <a:lnTo>
                    <a:pt x="190" y="330"/>
                  </a:lnTo>
                  <a:lnTo>
                    <a:pt x="179" y="352"/>
                  </a:lnTo>
                  <a:lnTo>
                    <a:pt x="178" y="377"/>
                  </a:lnTo>
                  <a:lnTo>
                    <a:pt x="187" y="402"/>
                  </a:lnTo>
                  <a:lnTo>
                    <a:pt x="195" y="416"/>
                  </a:lnTo>
                  <a:lnTo>
                    <a:pt x="203" y="430"/>
                  </a:lnTo>
                  <a:lnTo>
                    <a:pt x="209" y="444"/>
                  </a:lnTo>
                  <a:lnTo>
                    <a:pt x="213" y="460"/>
                  </a:lnTo>
                  <a:lnTo>
                    <a:pt x="201" y="447"/>
                  </a:lnTo>
                  <a:lnTo>
                    <a:pt x="190" y="433"/>
                  </a:lnTo>
                  <a:lnTo>
                    <a:pt x="181" y="418"/>
                  </a:lnTo>
                  <a:lnTo>
                    <a:pt x="173" y="402"/>
                  </a:lnTo>
                  <a:lnTo>
                    <a:pt x="148" y="320"/>
                  </a:lnTo>
                  <a:lnTo>
                    <a:pt x="137" y="235"/>
                  </a:lnTo>
                  <a:lnTo>
                    <a:pt x="133" y="150"/>
                  </a:lnTo>
                  <a:lnTo>
                    <a:pt x="129" y="66"/>
                  </a:lnTo>
                  <a:lnTo>
                    <a:pt x="128" y="53"/>
                  </a:lnTo>
                  <a:lnTo>
                    <a:pt x="125" y="41"/>
                  </a:lnTo>
                  <a:lnTo>
                    <a:pt x="119" y="30"/>
                  </a:lnTo>
                  <a:lnTo>
                    <a:pt x="111" y="19"/>
                  </a:lnTo>
                  <a:lnTo>
                    <a:pt x="100" y="11"/>
                  </a:lnTo>
                  <a:lnTo>
                    <a:pt x="89" y="5"/>
                  </a:lnTo>
                  <a:lnTo>
                    <a:pt x="77" y="2"/>
                  </a:lnTo>
                  <a:lnTo>
                    <a:pt x="64" y="0"/>
                  </a:lnTo>
                  <a:lnTo>
                    <a:pt x="52" y="2"/>
                  </a:lnTo>
                  <a:lnTo>
                    <a:pt x="39" y="5"/>
                  </a:lnTo>
                  <a:lnTo>
                    <a:pt x="28" y="11"/>
                  </a:lnTo>
                  <a:lnTo>
                    <a:pt x="19" y="19"/>
                  </a:lnTo>
                  <a:lnTo>
                    <a:pt x="11" y="30"/>
                  </a:lnTo>
                  <a:lnTo>
                    <a:pt x="5" y="41"/>
                  </a:lnTo>
                  <a:lnTo>
                    <a:pt x="2" y="53"/>
                  </a:lnTo>
                  <a:lnTo>
                    <a:pt x="0" y="66"/>
                  </a:lnTo>
                  <a:lnTo>
                    <a:pt x="2" y="144"/>
                  </a:lnTo>
                  <a:lnTo>
                    <a:pt x="3" y="228"/>
                  </a:lnTo>
                  <a:lnTo>
                    <a:pt x="10" y="315"/>
                  </a:lnTo>
                  <a:lnTo>
                    <a:pt x="24" y="399"/>
                  </a:lnTo>
                  <a:lnTo>
                    <a:pt x="47" y="478"/>
                  </a:lnTo>
                  <a:lnTo>
                    <a:pt x="86" y="545"/>
                  </a:lnTo>
                  <a:lnTo>
                    <a:pt x="142" y="598"/>
                  </a:lnTo>
                  <a:lnTo>
                    <a:pt x="218" y="631"/>
                  </a:lnTo>
                  <a:lnTo>
                    <a:pt x="251" y="634"/>
                  </a:lnTo>
                  <a:lnTo>
                    <a:pt x="259" y="631"/>
                  </a:lnTo>
                  <a:lnTo>
                    <a:pt x="270" y="623"/>
                  </a:lnTo>
                  <a:lnTo>
                    <a:pt x="280" y="612"/>
                  </a:lnTo>
                  <a:lnTo>
                    <a:pt x="293" y="600"/>
                  </a:lnTo>
                  <a:lnTo>
                    <a:pt x="305" y="587"/>
                  </a:lnTo>
                  <a:lnTo>
                    <a:pt x="315" y="578"/>
                  </a:lnTo>
                  <a:lnTo>
                    <a:pt x="321" y="570"/>
                  </a:lnTo>
                  <a:lnTo>
                    <a:pt x="324" y="567"/>
                  </a:lnTo>
                  <a:lnTo>
                    <a:pt x="336" y="538"/>
                  </a:lnTo>
                  <a:lnTo>
                    <a:pt x="343" y="508"/>
                  </a:lnTo>
                  <a:lnTo>
                    <a:pt x="346" y="478"/>
                  </a:lnTo>
                  <a:lnTo>
                    <a:pt x="343" y="449"/>
                  </a:lnTo>
                  <a:lnTo>
                    <a:pt x="336" y="419"/>
                  </a:lnTo>
                  <a:lnTo>
                    <a:pt x="327" y="390"/>
                  </a:lnTo>
                  <a:lnTo>
                    <a:pt x="313" y="362"/>
                  </a:lnTo>
                  <a:lnTo>
                    <a:pt x="298" y="335"/>
                  </a:lnTo>
                  <a:close/>
                </a:path>
              </a:pathLst>
            </a:custGeom>
            <a:solidFill>
              <a:srgbClr val="8c1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837440" y="5707440"/>
              <a:ext cx="148320" cy="38880"/>
            </a:xfrm>
            <a:custGeom>
              <a:avLst/>
              <a:gdLst/>
              <a:ahLst/>
              <a:rect l="l" t="t" r="r" b="b"/>
              <a:pathLst>
                <a:path w="170" h="47">
                  <a:moveTo>
                    <a:pt x="170" y="7"/>
                  </a:moveTo>
                  <a:lnTo>
                    <a:pt x="165" y="14"/>
                  </a:lnTo>
                  <a:lnTo>
                    <a:pt x="159" y="22"/>
                  </a:lnTo>
                  <a:lnTo>
                    <a:pt x="151" y="27"/>
                  </a:lnTo>
                  <a:lnTo>
                    <a:pt x="141" y="32"/>
                  </a:lnTo>
                  <a:lnTo>
                    <a:pt x="132" y="36"/>
                  </a:lnTo>
                  <a:lnTo>
                    <a:pt x="121" y="39"/>
                  </a:lnTo>
                  <a:lnTo>
                    <a:pt x="112" y="42"/>
                  </a:lnTo>
                  <a:lnTo>
                    <a:pt x="103" y="46"/>
                  </a:lnTo>
                  <a:lnTo>
                    <a:pt x="89" y="47"/>
                  </a:lnTo>
                  <a:lnTo>
                    <a:pt x="76" y="47"/>
                  </a:lnTo>
                  <a:lnTo>
                    <a:pt x="62" y="47"/>
                  </a:lnTo>
                  <a:lnTo>
                    <a:pt x="50" y="44"/>
                  </a:lnTo>
                  <a:lnTo>
                    <a:pt x="37" y="41"/>
                  </a:lnTo>
                  <a:lnTo>
                    <a:pt x="25" y="36"/>
                  </a:lnTo>
                  <a:lnTo>
                    <a:pt x="14" y="28"/>
                  </a:lnTo>
                  <a:lnTo>
                    <a:pt x="3" y="21"/>
                  </a:lnTo>
                  <a:lnTo>
                    <a:pt x="3" y="18"/>
                  </a:lnTo>
                  <a:lnTo>
                    <a:pt x="3" y="13"/>
                  </a:lnTo>
                  <a:lnTo>
                    <a:pt x="1" y="10"/>
                  </a:lnTo>
                  <a:lnTo>
                    <a:pt x="0" y="7"/>
                  </a:lnTo>
                  <a:lnTo>
                    <a:pt x="5" y="5"/>
                  </a:lnTo>
                  <a:lnTo>
                    <a:pt x="9" y="5"/>
                  </a:lnTo>
                  <a:lnTo>
                    <a:pt x="15" y="7"/>
                  </a:lnTo>
                  <a:lnTo>
                    <a:pt x="22" y="11"/>
                  </a:lnTo>
                  <a:lnTo>
                    <a:pt x="28" y="14"/>
                  </a:lnTo>
                  <a:lnTo>
                    <a:pt x="34" y="19"/>
                  </a:lnTo>
                  <a:lnTo>
                    <a:pt x="42" y="22"/>
                  </a:lnTo>
                  <a:lnTo>
                    <a:pt x="48" y="25"/>
                  </a:lnTo>
                  <a:lnTo>
                    <a:pt x="64" y="28"/>
                  </a:lnTo>
                  <a:lnTo>
                    <a:pt x="79" y="28"/>
                  </a:lnTo>
                  <a:lnTo>
                    <a:pt x="95" y="27"/>
                  </a:lnTo>
                  <a:lnTo>
                    <a:pt x="109" y="24"/>
                  </a:lnTo>
                  <a:lnTo>
                    <a:pt x="123" y="19"/>
                  </a:lnTo>
                  <a:lnTo>
                    <a:pt x="137" y="13"/>
                  </a:lnTo>
                  <a:lnTo>
                    <a:pt x="151" y="7"/>
                  </a:lnTo>
                  <a:lnTo>
                    <a:pt x="163" y="0"/>
                  </a:lnTo>
                  <a:lnTo>
                    <a:pt x="170" y="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43" name=""/>
            <p:cNvSpPr/>
            <p:nvPr/>
          </p:nvSpPr>
          <p:spPr>
            <a:xfrm>
              <a:off x="1868760" y="5797080"/>
              <a:ext cx="64800" cy="24120"/>
            </a:xfrm>
            <a:custGeom>
              <a:avLst/>
              <a:gdLst/>
              <a:ahLst/>
              <a:rect l="l" t="t" r="r" b="b"/>
              <a:pathLst>
                <a:path w="73" h="30">
                  <a:moveTo>
                    <a:pt x="71" y="12"/>
                  </a:moveTo>
                  <a:lnTo>
                    <a:pt x="73" y="19"/>
                  </a:lnTo>
                  <a:lnTo>
                    <a:pt x="70" y="23"/>
                  </a:lnTo>
                  <a:lnTo>
                    <a:pt x="63" y="26"/>
                  </a:lnTo>
                  <a:lnTo>
                    <a:pt x="57" y="28"/>
                  </a:lnTo>
                  <a:lnTo>
                    <a:pt x="51" y="30"/>
                  </a:lnTo>
                  <a:lnTo>
                    <a:pt x="43" y="30"/>
                  </a:lnTo>
                  <a:lnTo>
                    <a:pt x="37" y="28"/>
                  </a:lnTo>
                  <a:lnTo>
                    <a:pt x="29" y="28"/>
                  </a:lnTo>
                  <a:lnTo>
                    <a:pt x="23" y="26"/>
                  </a:lnTo>
                  <a:lnTo>
                    <a:pt x="15" y="25"/>
                  </a:lnTo>
                  <a:lnTo>
                    <a:pt x="9" y="22"/>
                  </a:lnTo>
                  <a:lnTo>
                    <a:pt x="3" y="20"/>
                  </a:lnTo>
                  <a:lnTo>
                    <a:pt x="0" y="16"/>
                  </a:lnTo>
                  <a:lnTo>
                    <a:pt x="1" y="9"/>
                  </a:lnTo>
                  <a:lnTo>
                    <a:pt x="4" y="3"/>
                  </a:lnTo>
                  <a:lnTo>
                    <a:pt x="7" y="0"/>
                  </a:lnTo>
                  <a:lnTo>
                    <a:pt x="15" y="5"/>
                  </a:lnTo>
                  <a:lnTo>
                    <a:pt x="23" y="8"/>
                  </a:lnTo>
                  <a:lnTo>
                    <a:pt x="31" y="9"/>
                  </a:lnTo>
                  <a:lnTo>
                    <a:pt x="39" y="9"/>
                  </a:lnTo>
                  <a:lnTo>
                    <a:pt x="46" y="9"/>
                  </a:lnTo>
                  <a:lnTo>
                    <a:pt x="54" y="9"/>
                  </a:lnTo>
                  <a:lnTo>
                    <a:pt x="62" y="11"/>
                  </a:lnTo>
                  <a:lnTo>
                    <a:pt x="71" y="1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44" name=""/>
          <p:cNvGrpSpPr/>
          <p:nvPr/>
        </p:nvGrpSpPr>
        <p:grpSpPr>
          <a:xfrm>
            <a:off x="4268880" y="3962520"/>
            <a:ext cx="2589120" cy="1066680"/>
            <a:chOff x="4268880" y="3962520"/>
            <a:chExt cx="2589120" cy="1066680"/>
          </a:xfrm>
        </p:grpSpPr>
        <p:sp>
          <p:nvSpPr>
            <p:cNvPr id="245" name=""/>
            <p:cNvSpPr/>
            <p:nvPr/>
          </p:nvSpPr>
          <p:spPr>
            <a:xfrm>
              <a:off x="4419720" y="5029200"/>
              <a:ext cx="2438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268880" y="3962520"/>
              <a:ext cx="24667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urier New"/>
                </a:rPr>
                <a:t>-$234</a:t>
              </a:r>
              <a:endParaRPr b="0" lang="en-US" sz="6000" spc="-1" strike="noStrike">
                <a:solidFill>
                  <a:srgbClr val="000000"/>
                </a:solidFill>
                <a:latin typeface="Times New Roman"/>
              </a:endParaRPr>
            </a:p>
          </p:txBody>
        </p:sp>
      </p:grpSp>
      <p:grpSp>
        <p:nvGrpSpPr>
          <p:cNvPr id="247" name=""/>
          <p:cNvGrpSpPr/>
          <p:nvPr/>
        </p:nvGrpSpPr>
        <p:grpSpPr>
          <a:xfrm>
            <a:off x="4770360" y="4937040"/>
            <a:ext cx="2041560" cy="1024200"/>
            <a:chOff x="4770360" y="4937040"/>
            <a:chExt cx="2041560" cy="1024200"/>
          </a:xfrm>
        </p:grpSpPr>
        <p:sp>
          <p:nvSpPr>
            <p:cNvPr id="248" name=""/>
            <p:cNvSpPr/>
            <p:nvPr/>
          </p:nvSpPr>
          <p:spPr>
            <a:xfrm>
              <a:off x="4770360" y="495288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urier New"/>
                </a:rPr>
                <a:t>$</a:t>
              </a:r>
              <a:endParaRPr b="0" lang="en-US" sz="6000" spc="-1" strike="noStrike">
                <a:solidFill>
                  <a:srgbClr val="000000"/>
                </a:solidFill>
                <a:latin typeface="Times New Roman"/>
              </a:endParaRPr>
            </a:p>
          </p:txBody>
        </p:sp>
        <p:sp>
          <p:nvSpPr>
            <p:cNvPr id="249" name=""/>
            <p:cNvSpPr/>
            <p:nvPr/>
          </p:nvSpPr>
          <p:spPr>
            <a:xfrm>
              <a:off x="6174000" y="493704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urier New"/>
                </a:rPr>
                <a:t>2</a:t>
              </a:r>
              <a:endParaRPr b="0" lang="en-US" sz="6000" spc="-1" strike="noStrike">
                <a:solidFill>
                  <a:srgbClr val="000000"/>
                </a:solidFill>
                <a:latin typeface="Times New Roman"/>
              </a:endParaRPr>
            </a:p>
          </p:txBody>
        </p:sp>
        <p:sp>
          <p:nvSpPr>
            <p:cNvPr id="250" name=""/>
            <p:cNvSpPr/>
            <p:nvPr/>
          </p:nvSpPr>
          <p:spPr>
            <a:xfrm>
              <a:off x="5684760" y="495288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urier New"/>
                </a:rPr>
                <a:t>2</a:t>
              </a:r>
              <a:endParaRPr b="0" lang="en-US" sz="6000" spc="-1" strike="noStrike">
                <a:solidFill>
                  <a:srgbClr val="000000"/>
                </a:solidFill>
                <a:latin typeface="Times New Roman"/>
              </a:endParaRPr>
            </a:p>
          </p:txBody>
        </p:sp>
        <p:sp>
          <p:nvSpPr>
            <p:cNvPr id="251" name=""/>
            <p:cNvSpPr/>
            <p:nvPr/>
          </p:nvSpPr>
          <p:spPr>
            <a:xfrm>
              <a:off x="5183280" y="495288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urier New"/>
                </a:rPr>
                <a:t>2</a:t>
              </a:r>
              <a:endParaRPr b="0" lang="en-US" sz="6000" spc="-1" strike="noStrike">
                <a:solidFill>
                  <a:srgbClr val="000000"/>
                </a:solidFill>
                <a:latin typeface="Times New Roman"/>
              </a:endParaRPr>
            </a:p>
          </p:txBody>
        </p:sp>
      </p:gr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212"/>
                                        </p:tgtEl>
                                        <p:attrNameLst>
                                          <p:attrName>style.visibility</p:attrName>
                                        </p:attrNameLst>
                                      </p:cBhvr>
                                      <p:to>
                                        <p:strVal val="visible"/>
                                      </p:to>
                                    </p:set>
                                    <p:animEffect filter="wipe(left)" transition="in">
                                      <p:cBhvr additive="repl">
                                        <p:cTn id="43" dur="500"/>
                                        <p:tgtEl>
                                          <p:spTgt spid="21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244"/>
                                        </p:tgtEl>
                                        <p:attrNameLst>
                                          <p:attrName>style.visibility</p:attrName>
                                        </p:attrNameLst>
                                      </p:cBhvr>
                                      <p:to>
                                        <p:strVal val="visible"/>
                                      </p:to>
                                    </p:set>
                                    <p:animEffect filter="wipe(up)" transition="in">
                                      <p:cBhvr additive="repl">
                                        <p:cTn id="48" dur="500"/>
                                        <p:tgtEl>
                                          <p:spTgt spid="2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247"/>
                                        </p:tgtEl>
                                        <p:attrNameLst>
                                          <p:attrName>style.visibility</p:attrName>
                                        </p:attrNameLst>
                                      </p:cBhvr>
                                      <p:to>
                                        <p:strVal val="visible"/>
                                      </p:to>
                                    </p:set>
                                    <p:anim calcmode="lin" valueType="num">
                                      <p:cBhvr additive="repl">
                                        <p:cTn id="53" dur="500" fill="hold"/>
                                        <p:tgtEl>
                                          <p:spTgt spid="247"/>
                                        </p:tgtEl>
                                        <p:attrNameLst>
                                          <p:attrName>ppt_w</p:attrName>
                                        </p:attrNameLst>
                                      </p:cBhvr>
                                      <p:tavLst>
                                        <p:tav tm="0">
                                          <p:val>
                                            <p:fltVal val="0"/>
                                          </p:val>
                                        </p:tav>
                                        <p:tav tm="100000">
                                          <p:val>
                                            <p:strVal val="#ppt_w"/>
                                          </p:val>
                                        </p:tav>
                                      </p:tavLst>
                                    </p:anim>
                                    <p:anim calcmode="lin" valueType="num">
                                      <p:cBhvr additive="repl">
                                        <p:cTn id="54" dur="500" fill="hold"/>
                                        <p:tgtEl>
                                          <p:spTgt spid="2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pic>
        <p:nvPicPr>
          <p:cNvPr id="1733" name="" descr=""/>
          <p:cNvPicPr/>
          <p:nvPr/>
        </p:nvPicPr>
        <p:blipFill>
          <a:blip r:embed="rId1"/>
          <a:stretch/>
        </p:blipFill>
        <p:spPr>
          <a:xfrm>
            <a:off x="5562720" y="1523880"/>
            <a:ext cx="3124080" cy="1295640"/>
          </a:xfrm>
          <a:prstGeom prst="rect">
            <a:avLst/>
          </a:prstGeom>
          <a:ln w="0">
            <a:noFill/>
          </a:ln>
        </p:spPr>
      </p:pic>
      <p:sp>
        <p:nvSpPr>
          <p:cNvPr id="1734" name=""/>
          <p:cNvSpPr/>
          <p:nvPr/>
        </p:nvSpPr>
        <p:spPr>
          <a:xfrm>
            <a:off x="609480" y="144792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Given: At 47 mi marker, </a:t>
            </a:r>
            <a:endParaRPr b="0" lang="en-US" sz="3200" spc="-1" strike="noStrike">
              <a:solidFill>
                <a:srgbClr val="000000"/>
              </a:solidFill>
              <a:latin typeface="Times New Roman"/>
            </a:endParaRPr>
          </a:p>
        </p:txBody>
      </p:sp>
      <p:sp>
        <p:nvSpPr>
          <p:cNvPr id="1735" name=""/>
          <p:cNvSpPr/>
          <p:nvPr/>
        </p:nvSpPr>
        <p:spPr>
          <a:xfrm>
            <a:off x="762120" y="312408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Question: how far from right place? </a:t>
            </a:r>
            <a:endParaRPr b="0" lang="en-US" sz="3200" spc="-1" strike="noStrike">
              <a:solidFill>
                <a:srgbClr val="000000"/>
              </a:solidFill>
              <a:latin typeface="Times New Roman"/>
            </a:endParaRPr>
          </a:p>
        </p:txBody>
      </p:sp>
      <p:sp>
        <p:nvSpPr>
          <p:cNvPr id="1736" name=""/>
          <p:cNvSpPr/>
          <p:nvPr/>
        </p:nvSpPr>
        <p:spPr>
          <a:xfrm>
            <a:off x="6553080" y="48625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7772400" y="48625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1676520" y="48625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2895480" y="48625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4114800" y="48625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143000" y="5167440"/>
            <a:ext cx="7010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5943600" y="48625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7162920" y="48625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86000" y="48625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3505320" y="48625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5334120" y="48625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4724280" y="48625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4560480" y="5410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1749" name=""/>
          <p:cNvSpPr/>
          <p:nvPr/>
        </p:nvSpPr>
        <p:spPr>
          <a:xfrm>
            <a:off x="5130000" y="5410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0</a:t>
            </a:r>
            <a:endParaRPr b="0" lang="en-US" sz="2800" spc="-1" strike="noStrike">
              <a:solidFill>
                <a:srgbClr val="000000"/>
              </a:solidFill>
              <a:latin typeface="Times New Roman"/>
            </a:endParaRPr>
          </a:p>
        </p:txBody>
      </p:sp>
      <p:sp>
        <p:nvSpPr>
          <p:cNvPr id="1750" name=""/>
          <p:cNvSpPr/>
          <p:nvPr/>
        </p:nvSpPr>
        <p:spPr>
          <a:xfrm>
            <a:off x="5787000" y="5410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0</a:t>
            </a:r>
            <a:endParaRPr b="0" lang="en-US" sz="2800" spc="-1" strike="noStrike">
              <a:solidFill>
                <a:srgbClr val="000000"/>
              </a:solidFill>
              <a:latin typeface="Times New Roman"/>
            </a:endParaRPr>
          </a:p>
        </p:txBody>
      </p:sp>
      <p:sp>
        <p:nvSpPr>
          <p:cNvPr id="1751" name=""/>
          <p:cNvSpPr/>
          <p:nvPr/>
        </p:nvSpPr>
        <p:spPr>
          <a:xfrm>
            <a:off x="7006320" y="5410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0</a:t>
            </a:r>
            <a:endParaRPr b="0" lang="en-US" sz="2800" spc="-1" strike="noStrike">
              <a:solidFill>
                <a:srgbClr val="000000"/>
              </a:solidFill>
              <a:latin typeface="Times New Roman"/>
            </a:endParaRPr>
          </a:p>
        </p:txBody>
      </p:sp>
      <p:sp>
        <p:nvSpPr>
          <p:cNvPr id="1752" name=""/>
          <p:cNvSpPr/>
          <p:nvPr/>
        </p:nvSpPr>
        <p:spPr>
          <a:xfrm>
            <a:off x="6396480" y="5410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0</a:t>
            </a:r>
            <a:endParaRPr b="0" lang="en-US" sz="2800" spc="-1" strike="noStrike">
              <a:solidFill>
                <a:srgbClr val="000000"/>
              </a:solidFill>
              <a:latin typeface="Times New Roman"/>
            </a:endParaRPr>
          </a:p>
        </p:txBody>
      </p:sp>
      <p:sp>
        <p:nvSpPr>
          <p:cNvPr id="1753" name=""/>
          <p:cNvSpPr/>
          <p:nvPr/>
        </p:nvSpPr>
        <p:spPr>
          <a:xfrm>
            <a:off x="7615800" y="5410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0</a:t>
            </a:r>
            <a:endParaRPr b="0" lang="en-US" sz="2800" spc="-1" strike="noStrike">
              <a:solidFill>
                <a:srgbClr val="000000"/>
              </a:solidFill>
              <a:latin typeface="Times New Roman"/>
            </a:endParaRPr>
          </a:p>
        </p:txBody>
      </p:sp>
      <p:sp>
        <p:nvSpPr>
          <p:cNvPr id="1754" name=""/>
          <p:cNvSpPr/>
          <p:nvPr/>
        </p:nvSpPr>
        <p:spPr>
          <a:xfrm>
            <a:off x="1066680" y="54100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0</a:t>
            </a:r>
            <a:endParaRPr b="0" lang="en-US" sz="2800" spc="-1" strike="noStrike">
              <a:solidFill>
                <a:srgbClr val="000000"/>
              </a:solidFill>
              <a:latin typeface="Times New Roman"/>
            </a:endParaRPr>
          </a:p>
        </p:txBody>
      </p:sp>
      <p:sp>
        <p:nvSpPr>
          <p:cNvPr id="1755" name=""/>
          <p:cNvSpPr/>
          <p:nvPr/>
        </p:nvSpPr>
        <p:spPr>
          <a:xfrm>
            <a:off x="3124080" y="5410080"/>
            <a:ext cx="83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0</a:t>
            </a:r>
            <a:endParaRPr b="0" lang="en-US" sz="2800" spc="-1" strike="noStrike">
              <a:solidFill>
                <a:srgbClr val="000000"/>
              </a:solidFill>
              <a:latin typeface="Times New Roman"/>
            </a:endParaRPr>
          </a:p>
        </p:txBody>
      </p:sp>
      <p:sp>
        <p:nvSpPr>
          <p:cNvPr id="1756" name=""/>
          <p:cNvSpPr/>
          <p:nvPr/>
        </p:nvSpPr>
        <p:spPr>
          <a:xfrm>
            <a:off x="1752480" y="5410080"/>
            <a:ext cx="83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0</a:t>
            </a:r>
            <a:endParaRPr b="0" lang="en-US" sz="2800" spc="-1" strike="noStrike">
              <a:solidFill>
                <a:srgbClr val="000000"/>
              </a:solidFill>
              <a:latin typeface="Times New Roman"/>
            </a:endParaRPr>
          </a:p>
        </p:txBody>
      </p:sp>
      <p:sp>
        <p:nvSpPr>
          <p:cNvPr id="1757" name=""/>
          <p:cNvSpPr/>
          <p:nvPr/>
        </p:nvSpPr>
        <p:spPr>
          <a:xfrm>
            <a:off x="2438280" y="5410080"/>
            <a:ext cx="83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0</a:t>
            </a:r>
            <a:endParaRPr b="0" lang="en-US" sz="2800" spc="-1" strike="noStrike">
              <a:solidFill>
                <a:srgbClr val="000000"/>
              </a:solidFill>
              <a:latin typeface="Times New Roman"/>
            </a:endParaRPr>
          </a:p>
        </p:txBody>
      </p:sp>
      <p:sp>
        <p:nvSpPr>
          <p:cNvPr id="1758" name=""/>
          <p:cNvSpPr/>
          <p:nvPr/>
        </p:nvSpPr>
        <p:spPr>
          <a:xfrm>
            <a:off x="3809880" y="5410080"/>
            <a:ext cx="83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0</a:t>
            </a:r>
            <a:endParaRPr b="0" lang="en-US" sz="2800" spc="-1" strike="noStrike">
              <a:solidFill>
                <a:srgbClr val="000000"/>
              </a:solidFill>
              <a:latin typeface="Times New Roman"/>
            </a:endParaRPr>
          </a:p>
        </p:txBody>
      </p:sp>
      <p:sp>
        <p:nvSpPr>
          <p:cNvPr id="1759" name=""/>
          <p:cNvSpPr/>
          <p:nvPr/>
        </p:nvSpPr>
        <p:spPr>
          <a:xfrm>
            <a:off x="4085640" y="5897520"/>
            <a:ext cx="72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i</a:t>
            </a:r>
            <a:endParaRPr b="0" lang="en-US" sz="3600" spc="-1" strike="noStrike">
              <a:solidFill>
                <a:srgbClr val="000000"/>
              </a:solidFill>
              <a:latin typeface="Times New Roman"/>
            </a:endParaRPr>
          </a:p>
        </p:txBody>
      </p:sp>
      <p:sp>
        <p:nvSpPr>
          <p:cNvPr id="1760"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
        <p:nvSpPr>
          <p:cNvPr id="1761" name=""/>
          <p:cNvSpPr/>
          <p:nvPr/>
        </p:nvSpPr>
        <p:spPr>
          <a:xfrm>
            <a:off x="7467480" y="50911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2" name=""/>
          <p:cNvGrpSpPr/>
          <p:nvPr/>
        </p:nvGrpSpPr>
        <p:grpSpPr>
          <a:xfrm>
            <a:off x="4647960" y="3809880"/>
            <a:ext cx="3353040" cy="1281240"/>
            <a:chOff x="4647960" y="3809880"/>
            <a:chExt cx="3353040" cy="1281240"/>
          </a:xfrm>
        </p:grpSpPr>
        <p:sp>
          <p:nvSpPr>
            <p:cNvPr id="1763" name=""/>
            <p:cNvSpPr/>
            <p:nvPr/>
          </p:nvSpPr>
          <p:spPr>
            <a:xfrm>
              <a:off x="7543800" y="4557600"/>
              <a:ext cx="0" cy="533520"/>
            </a:xfrm>
            <a:prstGeom prst="line">
              <a:avLst/>
            </a:prstGeom>
            <a:ln w="57240">
              <a:solidFill>
                <a:srgbClr val="66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64" name="" descr=""/>
            <p:cNvPicPr/>
            <p:nvPr/>
          </p:nvPicPr>
          <p:blipFill>
            <a:blip r:embed="rId2"/>
            <a:stretch/>
          </p:blipFill>
          <p:spPr>
            <a:xfrm>
              <a:off x="6781680" y="4176720"/>
              <a:ext cx="1219320" cy="504720"/>
            </a:xfrm>
            <a:prstGeom prst="rect">
              <a:avLst/>
            </a:prstGeom>
            <a:ln w="0">
              <a:noFill/>
            </a:ln>
          </p:spPr>
        </p:pic>
        <p:grpSp>
          <p:nvGrpSpPr>
            <p:cNvPr id="1765" name=""/>
            <p:cNvGrpSpPr/>
            <p:nvPr/>
          </p:nvGrpSpPr>
          <p:grpSpPr>
            <a:xfrm>
              <a:off x="4647960" y="3809880"/>
              <a:ext cx="2895480" cy="520560"/>
              <a:chOff x="4647960" y="3809880"/>
              <a:chExt cx="2895480" cy="520560"/>
            </a:xfrm>
          </p:grpSpPr>
          <p:sp>
            <p:nvSpPr>
              <p:cNvPr id="1766" name=""/>
              <p:cNvSpPr/>
              <p:nvPr/>
            </p:nvSpPr>
            <p:spPr>
              <a:xfrm flipH="1">
                <a:off x="4647960" y="4267080"/>
                <a:ext cx="2895480" cy="0"/>
              </a:xfrm>
              <a:prstGeom prst="line">
                <a:avLst/>
              </a:prstGeom>
              <a:ln w="57240">
                <a:solidFill>
                  <a:srgbClr val="66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6324480" y="3809880"/>
                <a:ext cx="106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47</a:t>
                </a:r>
                <a:endParaRPr b="0" lang="en-US" sz="2800" spc="-1" strike="noStrike">
                  <a:solidFill>
                    <a:srgbClr val="000000"/>
                  </a:solidFill>
                  <a:latin typeface="Times New Roman"/>
                </a:endParaRPr>
              </a:p>
            </p:txBody>
          </p:sp>
        </p:grpSp>
      </p:grpSp>
      <p:sp>
        <p:nvSpPr>
          <p:cNvPr id="1768" name=""/>
          <p:cNvSpPr/>
          <p:nvPr/>
        </p:nvSpPr>
        <p:spPr>
          <a:xfrm>
            <a:off x="3733920" y="507672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9" name=""/>
          <p:cNvGrpSpPr/>
          <p:nvPr/>
        </p:nvGrpSpPr>
        <p:grpSpPr>
          <a:xfrm>
            <a:off x="2666880" y="3838680"/>
            <a:ext cx="1981440" cy="1266840"/>
            <a:chOff x="2666880" y="3838680"/>
            <a:chExt cx="1981440" cy="1266840"/>
          </a:xfrm>
        </p:grpSpPr>
        <p:sp>
          <p:nvSpPr>
            <p:cNvPr id="1770" name=""/>
            <p:cNvSpPr/>
            <p:nvPr/>
          </p:nvSpPr>
          <p:spPr>
            <a:xfrm flipH="1">
              <a:off x="3733920" y="4270320"/>
              <a:ext cx="914400" cy="0"/>
            </a:xfrm>
            <a:prstGeom prst="line">
              <a:avLst/>
            </a:prstGeom>
            <a:ln w="57240">
              <a:solidFill>
                <a:srgbClr val="66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1" name=""/>
            <p:cNvGrpSpPr/>
            <p:nvPr/>
          </p:nvGrpSpPr>
          <p:grpSpPr>
            <a:xfrm>
              <a:off x="2666880" y="3838680"/>
              <a:ext cx="1981080" cy="1266840"/>
              <a:chOff x="2666880" y="3838680"/>
              <a:chExt cx="1981080" cy="1266840"/>
            </a:xfrm>
          </p:grpSpPr>
          <p:pic>
            <p:nvPicPr>
              <p:cNvPr id="1772" name="" descr=""/>
              <p:cNvPicPr/>
              <p:nvPr/>
            </p:nvPicPr>
            <p:blipFill>
              <a:blip r:embed="rId3"/>
              <a:stretch/>
            </p:blipFill>
            <p:spPr>
              <a:xfrm>
                <a:off x="2666880" y="4143600"/>
                <a:ext cx="1219320" cy="504720"/>
              </a:xfrm>
              <a:prstGeom prst="rect">
                <a:avLst/>
              </a:prstGeom>
              <a:ln w="0">
                <a:noFill/>
              </a:ln>
            </p:spPr>
          </p:pic>
          <p:sp>
            <p:nvSpPr>
              <p:cNvPr id="1773" name=""/>
              <p:cNvSpPr/>
              <p:nvPr/>
            </p:nvSpPr>
            <p:spPr>
              <a:xfrm>
                <a:off x="3733560" y="4572360"/>
                <a:ext cx="0" cy="533160"/>
              </a:xfrm>
              <a:prstGeom prst="line">
                <a:avLst/>
              </a:prstGeom>
              <a:ln w="57240">
                <a:solidFill>
                  <a:srgbClr val="66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3962160" y="383868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6</a:t>
                </a:r>
                <a:endParaRPr b="0" lang="en-US" sz="2800" spc="-1" strike="noStrike">
                  <a:solidFill>
                    <a:srgbClr val="000000"/>
                  </a:solidFill>
                  <a:latin typeface="Times New Roman"/>
                </a:endParaRPr>
              </a:p>
            </p:txBody>
          </p:sp>
        </p:grpSp>
      </p:grpSp>
      <p:grpSp>
        <p:nvGrpSpPr>
          <p:cNvPr id="1775" name=""/>
          <p:cNvGrpSpPr/>
          <p:nvPr/>
        </p:nvGrpSpPr>
        <p:grpSpPr>
          <a:xfrm>
            <a:off x="3809880" y="3629160"/>
            <a:ext cx="3581640" cy="642600"/>
            <a:chOff x="3809880" y="3629160"/>
            <a:chExt cx="3581640" cy="642600"/>
          </a:xfrm>
        </p:grpSpPr>
        <p:sp>
          <p:nvSpPr>
            <p:cNvPr id="1776" name=""/>
            <p:cNvSpPr/>
            <p:nvPr/>
          </p:nvSpPr>
          <p:spPr>
            <a:xfrm>
              <a:off x="5280120" y="3629160"/>
              <a:ext cx="37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a:t>
              </a:r>
              <a:endParaRPr b="0" lang="en-US" sz="3600" spc="-1" strike="noStrike">
                <a:solidFill>
                  <a:srgbClr val="000000"/>
                </a:solidFill>
                <a:latin typeface="Times New Roman"/>
              </a:endParaRPr>
            </a:p>
          </p:txBody>
        </p:sp>
        <p:sp>
          <p:nvSpPr>
            <p:cNvPr id="1777" name=""/>
            <p:cNvSpPr/>
            <p:nvPr/>
          </p:nvSpPr>
          <p:spPr>
            <a:xfrm>
              <a:off x="3809880" y="3733920"/>
              <a:ext cx="3581640" cy="0"/>
            </a:xfrm>
            <a:prstGeom prst="line">
              <a:avLst/>
            </a:prstGeom>
            <a:ln w="572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8" name=""/>
          <p:cNvSpPr/>
          <p:nvPr/>
        </p:nvSpPr>
        <p:spPr>
          <a:xfrm>
            <a:off x="609480" y="2057400"/>
            <a:ext cx="5072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should be 16 miles in the opposite direction</a:t>
            </a:r>
            <a:endParaRPr b="0" lang="en-US" sz="32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34"/>
                                        </p:tgtEl>
                                        <p:attrNameLst>
                                          <p:attrName>style.visibility</p:attrName>
                                        </p:attrNameLst>
                                      </p:cBhvr>
                                      <p:to>
                                        <p:strVal val="visible"/>
                                      </p:to>
                                    </p:set>
                                    <p:animEffect filter="wipe(left)" transition="in">
                                      <p:cBhvr additive="repl">
                                        <p:cTn id="295" dur="500"/>
                                        <p:tgtEl>
                                          <p:spTgt spid="173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2">
                                  <p:stCondLst>
                                    <p:cond delay="0"/>
                                  </p:stCondLst>
                                  <p:childTnLst>
                                    <p:set>
                                      <p:cBhvr>
                                        <p:cTn id="299" dur="1" fill="hold">
                                          <p:stCondLst>
                                            <p:cond delay="0"/>
                                          </p:stCondLst>
                                        </p:cTn>
                                        <p:tgtEl>
                                          <p:spTgt spid="1762"/>
                                        </p:tgtEl>
                                        <p:attrNameLst>
                                          <p:attrName>style.visibility</p:attrName>
                                        </p:attrNameLst>
                                      </p:cBhvr>
                                      <p:to>
                                        <p:strVal val="visible"/>
                                      </p:to>
                                    </p:set>
                                    <p:animEffect filter="wipe(right)" transition="in">
                                      <p:cBhvr additive="repl">
                                        <p:cTn id="300" dur="500"/>
                                        <p:tgtEl>
                                          <p:spTgt spid="176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1778"/>
                                        </p:tgtEl>
                                        <p:attrNameLst>
                                          <p:attrName>style.visibility</p:attrName>
                                        </p:attrNameLst>
                                      </p:cBhvr>
                                      <p:to>
                                        <p:strVal val="visible"/>
                                      </p:to>
                                    </p:set>
                                    <p:animEffect filter="wipe(up)" transition="in">
                                      <p:cBhvr additive="repl">
                                        <p:cTn id="305" dur="500"/>
                                        <p:tgtEl>
                                          <p:spTgt spid="1778"/>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2">
                                  <p:stCondLst>
                                    <p:cond delay="0"/>
                                  </p:stCondLst>
                                  <p:childTnLst>
                                    <p:set>
                                      <p:cBhvr>
                                        <p:cTn id="309" dur="1" fill="hold">
                                          <p:stCondLst>
                                            <p:cond delay="0"/>
                                          </p:stCondLst>
                                        </p:cTn>
                                        <p:tgtEl>
                                          <p:spTgt spid="1769"/>
                                        </p:tgtEl>
                                        <p:attrNameLst>
                                          <p:attrName>style.visibility</p:attrName>
                                        </p:attrNameLst>
                                      </p:cBhvr>
                                      <p:to>
                                        <p:strVal val="visible"/>
                                      </p:to>
                                    </p:set>
                                    <p:animEffect filter="wipe(right)" transition="in">
                                      <p:cBhvr additive="repl">
                                        <p:cTn id="310" dur="500"/>
                                        <p:tgtEl>
                                          <p:spTgt spid="176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735"/>
                                        </p:tgtEl>
                                        <p:attrNameLst>
                                          <p:attrName>style.visibility</p:attrName>
                                        </p:attrNameLst>
                                      </p:cBhvr>
                                      <p:to>
                                        <p:strVal val="visible"/>
                                      </p:to>
                                    </p:set>
                                    <p:animEffect filter="wipe(left)" transition="in">
                                      <p:cBhvr additive="repl">
                                        <p:cTn id="315" dur="500"/>
                                        <p:tgtEl>
                                          <p:spTgt spid="173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2">
                                  <p:stCondLst>
                                    <p:cond delay="0"/>
                                  </p:stCondLst>
                                  <p:childTnLst>
                                    <p:set>
                                      <p:cBhvr>
                                        <p:cTn id="319" dur="1" fill="hold">
                                          <p:stCondLst>
                                            <p:cond delay="0"/>
                                          </p:stCondLst>
                                        </p:cTn>
                                        <p:tgtEl>
                                          <p:spTgt spid="1775"/>
                                        </p:tgtEl>
                                        <p:attrNameLst>
                                          <p:attrName>style.visibility</p:attrName>
                                        </p:attrNameLst>
                                      </p:cBhvr>
                                      <p:to>
                                        <p:strVal val="visible"/>
                                      </p:to>
                                    </p:set>
                                    <p:animEffect filter="wipe(right)" transition="in">
                                      <p:cBhvr additive="repl">
                                        <p:cTn id="320" dur="500"/>
                                        <p:tgtEl>
                                          <p:spTgt spid="1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79" name=""/>
          <p:cNvSpPr/>
          <p:nvPr/>
        </p:nvSpPr>
        <p:spPr>
          <a:xfrm>
            <a:off x="6335640" y="25765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7554960" y="25765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1459080" y="25765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2678040" y="25765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3897360" y="25765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925560" y="2890800"/>
            <a:ext cx="7010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5726160" y="25765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6945480" y="25765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2068560" y="25765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3287880" y="25765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5116680" y="25765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4506840" y="2576520"/>
            <a:ext cx="0" cy="609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4343040" y="3124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1792" name=""/>
          <p:cNvSpPr/>
          <p:nvPr/>
        </p:nvSpPr>
        <p:spPr>
          <a:xfrm>
            <a:off x="4912560" y="3124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0</a:t>
            </a:r>
            <a:endParaRPr b="0" lang="en-US" sz="2800" spc="-1" strike="noStrike">
              <a:solidFill>
                <a:srgbClr val="000000"/>
              </a:solidFill>
              <a:latin typeface="Times New Roman"/>
            </a:endParaRPr>
          </a:p>
        </p:txBody>
      </p:sp>
      <p:sp>
        <p:nvSpPr>
          <p:cNvPr id="1793" name=""/>
          <p:cNvSpPr/>
          <p:nvPr/>
        </p:nvSpPr>
        <p:spPr>
          <a:xfrm>
            <a:off x="5569560" y="3124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0</a:t>
            </a:r>
            <a:endParaRPr b="0" lang="en-US" sz="2800" spc="-1" strike="noStrike">
              <a:solidFill>
                <a:srgbClr val="000000"/>
              </a:solidFill>
              <a:latin typeface="Times New Roman"/>
            </a:endParaRPr>
          </a:p>
        </p:txBody>
      </p:sp>
      <p:sp>
        <p:nvSpPr>
          <p:cNvPr id="1794" name=""/>
          <p:cNvSpPr/>
          <p:nvPr/>
        </p:nvSpPr>
        <p:spPr>
          <a:xfrm>
            <a:off x="6788880" y="3124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0</a:t>
            </a:r>
            <a:endParaRPr b="0" lang="en-US" sz="2800" spc="-1" strike="noStrike">
              <a:solidFill>
                <a:srgbClr val="000000"/>
              </a:solidFill>
              <a:latin typeface="Times New Roman"/>
            </a:endParaRPr>
          </a:p>
        </p:txBody>
      </p:sp>
      <p:sp>
        <p:nvSpPr>
          <p:cNvPr id="1795" name=""/>
          <p:cNvSpPr/>
          <p:nvPr/>
        </p:nvSpPr>
        <p:spPr>
          <a:xfrm>
            <a:off x="6179040" y="3124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0</a:t>
            </a:r>
            <a:endParaRPr b="0" lang="en-US" sz="2800" spc="-1" strike="noStrike">
              <a:solidFill>
                <a:srgbClr val="000000"/>
              </a:solidFill>
              <a:latin typeface="Times New Roman"/>
            </a:endParaRPr>
          </a:p>
        </p:txBody>
      </p:sp>
      <p:sp>
        <p:nvSpPr>
          <p:cNvPr id="1796" name=""/>
          <p:cNvSpPr/>
          <p:nvPr/>
        </p:nvSpPr>
        <p:spPr>
          <a:xfrm>
            <a:off x="7398360" y="3124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0</a:t>
            </a:r>
            <a:endParaRPr b="0" lang="en-US" sz="2800" spc="-1" strike="noStrike">
              <a:solidFill>
                <a:srgbClr val="000000"/>
              </a:solidFill>
              <a:latin typeface="Times New Roman"/>
            </a:endParaRPr>
          </a:p>
        </p:txBody>
      </p:sp>
      <p:sp>
        <p:nvSpPr>
          <p:cNvPr id="1797" name=""/>
          <p:cNvSpPr/>
          <p:nvPr/>
        </p:nvSpPr>
        <p:spPr>
          <a:xfrm>
            <a:off x="849240" y="31240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0</a:t>
            </a:r>
            <a:endParaRPr b="0" lang="en-US" sz="2800" spc="-1" strike="noStrike">
              <a:solidFill>
                <a:srgbClr val="000000"/>
              </a:solidFill>
              <a:latin typeface="Times New Roman"/>
            </a:endParaRPr>
          </a:p>
        </p:txBody>
      </p:sp>
      <p:sp>
        <p:nvSpPr>
          <p:cNvPr id="1798" name=""/>
          <p:cNvSpPr/>
          <p:nvPr/>
        </p:nvSpPr>
        <p:spPr>
          <a:xfrm>
            <a:off x="2906640" y="3124080"/>
            <a:ext cx="83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0</a:t>
            </a:r>
            <a:endParaRPr b="0" lang="en-US" sz="2800" spc="-1" strike="noStrike">
              <a:solidFill>
                <a:srgbClr val="000000"/>
              </a:solidFill>
              <a:latin typeface="Times New Roman"/>
            </a:endParaRPr>
          </a:p>
        </p:txBody>
      </p:sp>
      <p:sp>
        <p:nvSpPr>
          <p:cNvPr id="1799" name=""/>
          <p:cNvSpPr/>
          <p:nvPr/>
        </p:nvSpPr>
        <p:spPr>
          <a:xfrm>
            <a:off x="1535040" y="3124080"/>
            <a:ext cx="83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0</a:t>
            </a:r>
            <a:endParaRPr b="0" lang="en-US" sz="2800" spc="-1" strike="noStrike">
              <a:solidFill>
                <a:srgbClr val="000000"/>
              </a:solidFill>
              <a:latin typeface="Times New Roman"/>
            </a:endParaRPr>
          </a:p>
        </p:txBody>
      </p:sp>
      <p:sp>
        <p:nvSpPr>
          <p:cNvPr id="1800" name=""/>
          <p:cNvSpPr/>
          <p:nvPr/>
        </p:nvSpPr>
        <p:spPr>
          <a:xfrm>
            <a:off x="2220840" y="3124080"/>
            <a:ext cx="83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0</a:t>
            </a:r>
            <a:endParaRPr b="0" lang="en-US" sz="2800" spc="-1" strike="noStrike">
              <a:solidFill>
                <a:srgbClr val="000000"/>
              </a:solidFill>
              <a:latin typeface="Times New Roman"/>
            </a:endParaRPr>
          </a:p>
        </p:txBody>
      </p:sp>
      <p:sp>
        <p:nvSpPr>
          <p:cNvPr id="1801" name=""/>
          <p:cNvSpPr/>
          <p:nvPr/>
        </p:nvSpPr>
        <p:spPr>
          <a:xfrm>
            <a:off x="3592440" y="3124080"/>
            <a:ext cx="83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0</a:t>
            </a:r>
            <a:endParaRPr b="0" lang="en-US" sz="2800" spc="-1" strike="noStrike">
              <a:solidFill>
                <a:srgbClr val="000000"/>
              </a:solidFill>
              <a:latin typeface="Times New Roman"/>
            </a:endParaRPr>
          </a:p>
        </p:txBody>
      </p:sp>
      <p:sp>
        <p:nvSpPr>
          <p:cNvPr id="1802" name=""/>
          <p:cNvSpPr/>
          <p:nvPr/>
        </p:nvSpPr>
        <p:spPr>
          <a:xfrm>
            <a:off x="7871400" y="252396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i.</a:t>
            </a:r>
            <a:endParaRPr b="0" lang="en-US" sz="3600" spc="-1" strike="noStrike">
              <a:solidFill>
                <a:srgbClr val="000000"/>
              </a:solidFill>
              <a:latin typeface="Times New Roman"/>
            </a:endParaRPr>
          </a:p>
        </p:txBody>
      </p:sp>
      <p:grpSp>
        <p:nvGrpSpPr>
          <p:cNvPr id="1803" name=""/>
          <p:cNvGrpSpPr/>
          <p:nvPr/>
        </p:nvGrpSpPr>
        <p:grpSpPr>
          <a:xfrm>
            <a:off x="6564240" y="1900080"/>
            <a:ext cx="1218960" cy="1066680"/>
            <a:chOff x="6564240" y="1900080"/>
            <a:chExt cx="1218960" cy="1066680"/>
          </a:xfrm>
        </p:grpSpPr>
        <p:pic>
          <p:nvPicPr>
            <p:cNvPr id="1804" name="" descr=""/>
            <p:cNvPicPr/>
            <p:nvPr/>
          </p:nvPicPr>
          <p:blipFill>
            <a:blip r:embed="rId1"/>
            <a:stretch/>
          </p:blipFill>
          <p:spPr>
            <a:xfrm>
              <a:off x="6564240" y="1900080"/>
              <a:ext cx="1218960" cy="504720"/>
            </a:xfrm>
            <a:prstGeom prst="rect">
              <a:avLst/>
            </a:prstGeom>
            <a:ln w="0">
              <a:noFill/>
            </a:ln>
          </p:spPr>
        </p:pic>
        <p:sp>
          <p:nvSpPr>
            <p:cNvPr id="1805" name=""/>
            <p:cNvSpPr/>
            <p:nvPr/>
          </p:nvSpPr>
          <p:spPr>
            <a:xfrm>
              <a:off x="7326000" y="2280960"/>
              <a:ext cx="0" cy="53352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7250040" y="2814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7" name=""/>
          <p:cNvGrpSpPr/>
          <p:nvPr/>
        </p:nvGrpSpPr>
        <p:grpSpPr>
          <a:xfrm>
            <a:off x="2830680" y="1900080"/>
            <a:ext cx="1218960" cy="1066680"/>
            <a:chOff x="2830680" y="1900080"/>
            <a:chExt cx="1218960" cy="1066680"/>
          </a:xfrm>
        </p:grpSpPr>
        <p:pic>
          <p:nvPicPr>
            <p:cNvPr id="1808" name="" descr=""/>
            <p:cNvPicPr/>
            <p:nvPr/>
          </p:nvPicPr>
          <p:blipFill>
            <a:blip r:embed="rId2"/>
            <a:stretch/>
          </p:blipFill>
          <p:spPr>
            <a:xfrm>
              <a:off x="2830680" y="1900080"/>
              <a:ext cx="1218960" cy="504720"/>
            </a:xfrm>
            <a:prstGeom prst="rect">
              <a:avLst/>
            </a:prstGeom>
            <a:ln w="0">
              <a:noFill/>
            </a:ln>
          </p:spPr>
        </p:pic>
        <p:sp>
          <p:nvSpPr>
            <p:cNvPr id="1809" name=""/>
            <p:cNvSpPr/>
            <p:nvPr/>
          </p:nvSpPr>
          <p:spPr>
            <a:xfrm>
              <a:off x="3592440" y="2280960"/>
              <a:ext cx="0" cy="53352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3516480" y="2814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1" name=""/>
          <p:cNvGrpSpPr/>
          <p:nvPr/>
        </p:nvGrpSpPr>
        <p:grpSpPr>
          <a:xfrm>
            <a:off x="791280" y="3962520"/>
            <a:ext cx="5703840" cy="992880"/>
            <a:chOff x="791280" y="3962520"/>
            <a:chExt cx="5703840" cy="992880"/>
          </a:xfrm>
        </p:grpSpPr>
        <p:sp>
          <p:nvSpPr>
            <p:cNvPr id="1812" name=""/>
            <p:cNvSpPr/>
            <p:nvPr/>
          </p:nvSpPr>
          <p:spPr>
            <a:xfrm>
              <a:off x="791280" y="39942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cc"/>
                  </a:solidFill>
                  <a:latin typeface="Comic Sans MS"/>
                </a:rPr>
                <a:t>47</a:t>
              </a:r>
              <a:endParaRPr b="0" lang="en-US" sz="5400" spc="-1" strike="noStrike">
                <a:solidFill>
                  <a:srgbClr val="000000"/>
                </a:solidFill>
                <a:latin typeface="Times New Roman"/>
              </a:endParaRPr>
            </a:p>
          </p:txBody>
        </p:sp>
        <p:sp>
          <p:nvSpPr>
            <p:cNvPr id="1813" name=""/>
            <p:cNvSpPr/>
            <p:nvPr/>
          </p:nvSpPr>
          <p:spPr>
            <a:xfrm>
              <a:off x="1628640" y="4116240"/>
              <a:ext cx="360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endParaRPr b="0" lang="en-US" sz="4400" spc="-1" strike="noStrike">
                <a:solidFill>
                  <a:srgbClr val="000000"/>
                </a:solidFill>
                <a:latin typeface="Times New Roman"/>
              </a:endParaRPr>
            </a:p>
          </p:txBody>
        </p:sp>
        <p:sp>
          <p:nvSpPr>
            <p:cNvPr id="1814" name=""/>
            <p:cNvSpPr/>
            <p:nvPr/>
          </p:nvSpPr>
          <p:spPr>
            <a:xfrm>
              <a:off x="1916280" y="3994200"/>
              <a:ext cx="1596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Comic Sans MS"/>
                </a:rPr>
                <a:t>(-16)</a:t>
              </a:r>
              <a:endParaRPr b="0" lang="en-US" sz="5400" spc="-1" strike="noStrike">
                <a:solidFill>
                  <a:srgbClr val="000000"/>
                </a:solidFill>
                <a:latin typeface="Times New Roman"/>
              </a:endParaRPr>
            </a:p>
          </p:txBody>
        </p:sp>
        <p:sp>
          <p:nvSpPr>
            <p:cNvPr id="1815" name=""/>
            <p:cNvSpPr/>
            <p:nvPr/>
          </p:nvSpPr>
          <p:spPr>
            <a:xfrm>
              <a:off x="3561840" y="396252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a:solidFill>
                  <a:srgbClr val="000000"/>
                </a:solidFill>
                <a:latin typeface="Times New Roman"/>
              </a:endParaRPr>
            </a:p>
          </p:txBody>
        </p:sp>
        <p:sp>
          <p:nvSpPr>
            <p:cNvPr id="1816" name=""/>
            <p:cNvSpPr/>
            <p:nvPr/>
          </p:nvSpPr>
          <p:spPr>
            <a:xfrm>
              <a:off x="4092120" y="4019400"/>
              <a:ext cx="1142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cc"/>
                  </a:solidFill>
                  <a:latin typeface="Comic Sans MS"/>
                </a:rPr>
                <a:t>47 </a:t>
              </a:r>
              <a:endParaRPr b="0" lang="en-US" sz="5400" spc="-1" strike="noStrike">
                <a:solidFill>
                  <a:srgbClr val="000000"/>
                </a:solidFill>
                <a:latin typeface="Times New Roman"/>
              </a:endParaRPr>
            </a:p>
          </p:txBody>
        </p:sp>
        <p:sp>
          <p:nvSpPr>
            <p:cNvPr id="1817" name=""/>
            <p:cNvSpPr/>
            <p:nvPr/>
          </p:nvSpPr>
          <p:spPr>
            <a:xfrm>
              <a:off x="4943160" y="403848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a:solidFill>
                  <a:srgbClr val="000000"/>
                </a:solidFill>
                <a:latin typeface="Times New Roman"/>
              </a:endParaRPr>
            </a:p>
          </p:txBody>
        </p:sp>
        <p:sp>
          <p:nvSpPr>
            <p:cNvPr id="1818" name=""/>
            <p:cNvSpPr/>
            <p:nvPr/>
          </p:nvSpPr>
          <p:spPr>
            <a:xfrm>
              <a:off x="5352840" y="4019400"/>
              <a:ext cx="1142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cc"/>
                  </a:solidFill>
                  <a:latin typeface="Comic Sans MS"/>
                </a:rPr>
                <a:t>16</a:t>
              </a:r>
              <a:r>
                <a:rPr b="0" lang="en-US" sz="5400" spc="-1" strike="noStrike">
                  <a:solidFill>
                    <a:srgbClr val="cc0000"/>
                  </a:solidFill>
                  <a:latin typeface="Comic Sans MS"/>
                </a:rPr>
                <a:t> </a:t>
              </a:r>
              <a:endParaRPr b="0" lang="en-US" sz="5400" spc="-1" strike="noStrike">
                <a:solidFill>
                  <a:srgbClr val="000000"/>
                </a:solidFill>
                <a:latin typeface="Times New Roman"/>
              </a:endParaRPr>
            </a:p>
          </p:txBody>
        </p:sp>
      </p:grpSp>
      <p:sp>
        <p:nvSpPr>
          <p:cNvPr id="1819" name=""/>
          <p:cNvSpPr/>
          <p:nvPr/>
        </p:nvSpPr>
        <p:spPr>
          <a:xfrm>
            <a:off x="6156720" y="416412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endParaRPr b="0" lang="en-US" sz="4400" spc="-1" strike="noStrike">
              <a:solidFill>
                <a:srgbClr val="000000"/>
              </a:solidFill>
              <a:latin typeface="Times New Roman"/>
            </a:endParaRPr>
          </a:p>
        </p:txBody>
      </p:sp>
      <p:sp>
        <p:nvSpPr>
          <p:cNvPr id="1820" name=""/>
          <p:cNvSpPr/>
          <p:nvPr/>
        </p:nvSpPr>
        <p:spPr>
          <a:xfrm>
            <a:off x="6678720" y="4114800"/>
            <a:ext cx="2008080" cy="916920"/>
          </a:xfrm>
          <a:prstGeom prst="rect">
            <a:avLst/>
          </a:prstGeom>
          <a:gradFill rotWithShape="0">
            <a:gsLst>
              <a:gs pos="0">
                <a:srgbClr val="00cc99"/>
              </a:gs>
              <a:gs pos="100000">
                <a:srgbClr val="ffffff"/>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63 mi</a:t>
            </a:r>
            <a:endParaRPr b="0" lang="en-US" sz="5400" spc="-1" strike="noStrike">
              <a:solidFill>
                <a:srgbClr val="000000"/>
              </a:solidFill>
              <a:latin typeface="Times New Roman"/>
            </a:endParaRPr>
          </a:p>
        </p:txBody>
      </p:sp>
      <p:sp>
        <p:nvSpPr>
          <p:cNvPr id="1821" name=""/>
          <p:cNvSpPr/>
          <p:nvPr/>
        </p:nvSpPr>
        <p:spPr>
          <a:xfrm>
            <a:off x="533520" y="556272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e is 63 mi. from where she needs to be.</a:t>
            </a:r>
            <a:endParaRPr b="0" lang="en-US" sz="3200" spc="-1" strike="noStrike">
              <a:solidFill>
                <a:srgbClr val="000000"/>
              </a:solidFill>
              <a:latin typeface="Times New Roman"/>
            </a:endParaRPr>
          </a:p>
        </p:txBody>
      </p:sp>
      <p:sp>
        <p:nvSpPr>
          <p:cNvPr id="1822"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grpSp>
        <p:nvGrpSpPr>
          <p:cNvPr id="1823" name=""/>
          <p:cNvGrpSpPr/>
          <p:nvPr/>
        </p:nvGrpSpPr>
        <p:grpSpPr>
          <a:xfrm>
            <a:off x="3581280" y="1447920"/>
            <a:ext cx="3733920" cy="642600"/>
            <a:chOff x="3581280" y="1447920"/>
            <a:chExt cx="3733920" cy="642600"/>
          </a:xfrm>
        </p:grpSpPr>
        <p:sp>
          <p:nvSpPr>
            <p:cNvPr id="1824" name=""/>
            <p:cNvSpPr/>
            <p:nvPr/>
          </p:nvSpPr>
          <p:spPr>
            <a:xfrm>
              <a:off x="5356440" y="1447920"/>
              <a:ext cx="37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a:t>
              </a:r>
              <a:endParaRPr b="0" lang="en-US" sz="3600" spc="-1" strike="noStrike">
                <a:solidFill>
                  <a:srgbClr val="000000"/>
                </a:solidFill>
                <a:latin typeface="Times New Roman"/>
              </a:endParaRPr>
            </a:p>
          </p:txBody>
        </p:sp>
        <p:sp>
          <p:nvSpPr>
            <p:cNvPr id="1825" name=""/>
            <p:cNvSpPr/>
            <p:nvPr/>
          </p:nvSpPr>
          <p:spPr>
            <a:xfrm flipV="1">
              <a:off x="3581280" y="1523880"/>
              <a:ext cx="3733920" cy="28800"/>
            </a:xfrm>
            <a:prstGeom prst="line">
              <a:avLst/>
            </a:prstGeom>
            <a:ln w="57240">
              <a:solidFill>
                <a:srgbClr val="3333cc"/>
              </a:solidFill>
              <a:miter/>
              <a:headEnd len="med" type="triangle" w="med"/>
              <a:tailEnd len="med" type="triangle" w="med"/>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gr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6" presetSubtype="37">
                                  <p:stCondLst>
                                    <p:cond delay="0"/>
                                  </p:stCondLst>
                                  <p:childTnLst>
                                    <p:set>
                                      <p:cBhvr>
                                        <p:cTn id="326" dur="1" fill="hold">
                                          <p:stCondLst>
                                            <p:cond delay="0"/>
                                          </p:stCondLst>
                                        </p:cTn>
                                        <p:tgtEl>
                                          <p:spTgt spid="1823"/>
                                        </p:tgtEl>
                                        <p:attrNameLst>
                                          <p:attrName>style.visibility</p:attrName>
                                        </p:attrNameLst>
                                      </p:cBhvr>
                                      <p:to>
                                        <p:strVal val="visible"/>
                                      </p:to>
                                    </p:set>
                                    <p:animEffect filter="barn(outVertical)" transition="in">
                                      <p:cBhvr additive="repl">
                                        <p:cTn id="327" dur="500"/>
                                        <p:tgtEl>
                                          <p:spTgt spid="1823"/>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1811"/>
                                        </p:tgtEl>
                                        <p:attrNameLst>
                                          <p:attrName>style.visibility</p:attrName>
                                        </p:attrNameLst>
                                      </p:cBhvr>
                                      <p:to>
                                        <p:strVal val="visible"/>
                                      </p:to>
                                    </p:set>
                                    <p:animEffect filter="wipe(left)" transition="in">
                                      <p:cBhvr additive="repl">
                                        <p:cTn id="332" dur="500"/>
                                        <p:tgtEl>
                                          <p:spTgt spid="1811"/>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3" presetSubtype="272">
                                  <p:stCondLst>
                                    <p:cond delay="0"/>
                                  </p:stCondLst>
                                  <p:childTnLst>
                                    <p:set>
                                      <p:cBhvr>
                                        <p:cTn id="336" dur="1" fill="hold">
                                          <p:stCondLst>
                                            <p:cond delay="0"/>
                                          </p:stCondLst>
                                        </p:cTn>
                                        <p:tgtEl>
                                          <p:spTgt spid="1820"/>
                                        </p:tgtEl>
                                        <p:attrNameLst>
                                          <p:attrName>style.visibility</p:attrName>
                                        </p:attrNameLst>
                                      </p:cBhvr>
                                      <p:to>
                                        <p:strVal val="visible"/>
                                      </p:to>
                                    </p:set>
                                    <p:anim calcmode="lin" valueType="num">
                                      <p:cBhvr additive="repl">
                                        <p:cTn id="337" dur="500" fill="hold"/>
                                        <p:tgtEl>
                                          <p:spTgt spid="1820"/>
                                        </p:tgtEl>
                                        <p:attrNameLst>
                                          <p:attrName>ppt_w</p:attrName>
                                        </p:attrNameLst>
                                      </p:cBhvr>
                                      <p:tavLst>
                                        <p:tav tm="0">
                                          <p:val>
                                            <p:strVal val="2/3*#ppt_w"/>
                                          </p:val>
                                        </p:tav>
                                        <p:tav tm="100000">
                                          <p:val>
                                            <p:strVal val="#ppt_w"/>
                                          </p:val>
                                        </p:tav>
                                      </p:tavLst>
                                    </p:anim>
                                    <p:anim calcmode="lin" valueType="num">
                                      <p:cBhvr additive="repl">
                                        <p:cTn id="338" dur="500" fill="hold"/>
                                        <p:tgtEl>
                                          <p:spTgt spid="1820"/>
                                        </p:tgtEl>
                                        <p:attrNameLst>
                                          <p:attrName>ppt_h</p:attrName>
                                        </p:attrNameLst>
                                      </p:cBhvr>
                                      <p:tavLst>
                                        <p:tav tm="0">
                                          <p:val>
                                            <p:strVal val="2/3*#ppt_h"/>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821"/>
                                        </p:tgtEl>
                                        <p:attrNameLst>
                                          <p:attrName>style.visibility</p:attrName>
                                        </p:attrNameLst>
                                      </p:cBhvr>
                                      <p:to>
                                        <p:strVal val="visible"/>
                                      </p:to>
                                    </p:set>
                                    <p:animEffect filter="wipe(left)" transition="in">
                                      <p:cBhvr additive="repl">
                                        <p:cTn id="343" dur="500"/>
                                        <p:tgtEl>
                                          <p:spTgt spid="1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26" name=""/>
          <p:cNvSpPr/>
          <p:nvPr/>
        </p:nvSpPr>
        <p:spPr>
          <a:xfrm>
            <a:off x="782640" y="3241800"/>
            <a:ext cx="76755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n a nice winter day in Tucson, the temperature is 72</a:t>
            </a:r>
            <a:r>
              <a:rPr b="0" lang="en-US" sz="3600" spc="-1" strike="noStrike">
                <a:solidFill>
                  <a:srgbClr val="000000"/>
                </a:solidFill>
                <a:latin typeface="Comic Sans MS"/>
                <a:ea typeface="Tahoma"/>
              </a:rPr>
              <a:t>° F.  In Bismark, ND the temperature is  -13 ° F.   What is the difference in temperature between the two cities?</a:t>
            </a:r>
            <a:endParaRPr b="0" lang="en-US" sz="3600" spc="-1" strike="noStrike">
              <a:solidFill>
                <a:srgbClr val="000000"/>
              </a:solidFill>
              <a:latin typeface="Times New Roman"/>
            </a:endParaRPr>
          </a:p>
        </p:txBody>
      </p:sp>
      <p:pic>
        <p:nvPicPr>
          <p:cNvPr id="1827" name="" descr=""/>
          <p:cNvPicPr/>
          <p:nvPr/>
        </p:nvPicPr>
        <p:blipFill>
          <a:blip r:embed="rId1"/>
          <a:stretch/>
        </p:blipFill>
        <p:spPr>
          <a:xfrm>
            <a:off x="5321160" y="1630440"/>
            <a:ext cx="2213280" cy="1220760"/>
          </a:xfrm>
          <a:prstGeom prst="rect">
            <a:avLst/>
          </a:prstGeom>
          <a:ln w="0">
            <a:noFill/>
          </a:ln>
        </p:spPr>
      </p:pic>
      <p:pic>
        <p:nvPicPr>
          <p:cNvPr id="1828" name="" descr=""/>
          <p:cNvPicPr/>
          <p:nvPr/>
        </p:nvPicPr>
        <p:blipFill>
          <a:blip r:embed="rId2"/>
          <a:stretch/>
        </p:blipFill>
        <p:spPr>
          <a:xfrm>
            <a:off x="2649600" y="1765440"/>
            <a:ext cx="1981080" cy="1358640"/>
          </a:xfrm>
          <a:prstGeom prst="rect">
            <a:avLst/>
          </a:prstGeom>
          <a:ln w="0">
            <a:noFill/>
          </a:ln>
        </p:spPr>
      </p:pic>
      <p:sp>
        <p:nvSpPr>
          <p:cNvPr id="1829" name=""/>
          <p:cNvSpPr/>
          <p:nvPr/>
        </p:nvSpPr>
        <p:spPr>
          <a:xfrm>
            <a:off x="1496520" y="2241720"/>
            <a:ext cx="171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ucson</a:t>
            </a:r>
            <a:endParaRPr b="0" lang="en-US" sz="3600" spc="-1" strike="noStrike">
              <a:solidFill>
                <a:srgbClr val="000000"/>
              </a:solidFill>
              <a:latin typeface="Times New Roman"/>
            </a:endParaRPr>
          </a:p>
        </p:txBody>
      </p:sp>
      <p:sp>
        <p:nvSpPr>
          <p:cNvPr id="1830" name=""/>
          <p:cNvSpPr/>
          <p:nvPr/>
        </p:nvSpPr>
        <p:spPr>
          <a:xfrm>
            <a:off x="6374880" y="2241720"/>
            <a:ext cx="193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ahoma"/>
              </a:rPr>
              <a:t>Bismark</a:t>
            </a:r>
            <a:endParaRPr b="0" lang="en-US" sz="3600" spc="-1" strike="noStrike">
              <a:solidFill>
                <a:srgbClr val="000000"/>
              </a:solidFill>
              <a:latin typeface="Times New Roman"/>
            </a:endParaRPr>
          </a:p>
        </p:txBody>
      </p:sp>
      <p:sp>
        <p:nvSpPr>
          <p:cNvPr id="1831" name=""/>
          <p:cNvSpPr/>
          <p:nvPr/>
        </p:nvSpPr>
        <p:spPr>
          <a:xfrm>
            <a:off x="782640" y="3241800"/>
            <a:ext cx="76755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n a nice winter day in Tucson,</a:t>
            </a:r>
            <a:r>
              <a:rPr b="0" lang="en-US" sz="3600" spc="-1" strike="noStrike">
                <a:solidFill>
                  <a:srgbClr val="3333cc"/>
                </a:solidFill>
                <a:latin typeface="Comic Sans MS"/>
              </a:rPr>
              <a:t> </a:t>
            </a:r>
            <a:r>
              <a:rPr b="0" lang="en-US" sz="3600" spc="-1" strike="noStrike">
                <a:solidFill>
                  <a:srgbClr val="000000"/>
                </a:solidFill>
                <a:latin typeface="Comic Sans MS"/>
              </a:rPr>
              <a:t>the temperature is</a:t>
            </a:r>
            <a:r>
              <a:rPr b="0" lang="en-US" sz="3600" spc="-1" strike="noStrike">
                <a:solidFill>
                  <a:srgbClr val="3333cc"/>
                </a:solidFill>
                <a:latin typeface="Comic Sans MS"/>
              </a:rPr>
              <a:t> </a:t>
            </a:r>
            <a:r>
              <a:rPr b="0" lang="en-US" sz="3600" spc="-1" strike="noStrike">
                <a:solidFill>
                  <a:srgbClr val="6600cc"/>
                </a:solidFill>
                <a:latin typeface="Comic Sans MS"/>
              </a:rPr>
              <a:t>72</a:t>
            </a:r>
            <a:r>
              <a:rPr b="0" lang="en-US" sz="3600" spc="-1" strike="noStrike">
                <a:solidFill>
                  <a:srgbClr val="6600cc"/>
                </a:solidFill>
                <a:latin typeface="Comic Sans MS"/>
                <a:ea typeface="Tahoma"/>
              </a:rPr>
              <a:t>° F</a:t>
            </a:r>
            <a:r>
              <a:rPr b="0" lang="en-US" sz="3600" spc="-1" strike="noStrike">
                <a:solidFill>
                  <a:srgbClr val="000000"/>
                </a:solidFill>
                <a:latin typeface="Comic Sans MS"/>
                <a:ea typeface="Tahoma"/>
              </a:rPr>
              <a:t>.  In Bismark, ND the temperature is  </a:t>
            </a:r>
            <a:r>
              <a:rPr b="0" lang="en-US" sz="3600" spc="-1" strike="noStrike">
                <a:solidFill>
                  <a:srgbClr val="6600cc"/>
                </a:solidFill>
                <a:latin typeface="Comic Sans MS"/>
                <a:ea typeface="Tahoma"/>
              </a:rPr>
              <a:t>-13 ° F</a:t>
            </a:r>
            <a:r>
              <a:rPr b="0" lang="en-US" sz="3600" spc="-1" strike="noStrike">
                <a:solidFill>
                  <a:srgbClr val="3333cc"/>
                </a:solidFill>
                <a:latin typeface="Comic Sans MS"/>
                <a:ea typeface="Tahoma"/>
              </a:rPr>
              <a:t>.</a:t>
            </a:r>
            <a:r>
              <a:rPr b="0" lang="en-US" sz="3600" spc="-1" strike="noStrike">
                <a:solidFill>
                  <a:srgbClr val="000000"/>
                </a:solidFill>
                <a:latin typeface="Comic Sans MS"/>
                <a:ea typeface="Tahoma"/>
              </a:rPr>
              <a:t>   What is the </a:t>
            </a:r>
            <a:r>
              <a:rPr b="0" lang="en-US" sz="3600" spc="-1" strike="noStrike">
                <a:solidFill>
                  <a:srgbClr val="006600"/>
                </a:solidFill>
                <a:latin typeface="Comic Sans MS"/>
                <a:ea typeface="Tahoma"/>
              </a:rPr>
              <a:t>difference in temperature</a:t>
            </a:r>
            <a:r>
              <a:rPr b="0" lang="en-US" sz="3600" spc="-1" strike="noStrike">
                <a:solidFill>
                  <a:srgbClr val="000000"/>
                </a:solidFill>
                <a:latin typeface="Comic Sans MS"/>
                <a:ea typeface="Tahoma"/>
              </a:rPr>
              <a:t> between the two cities?</a:t>
            </a:r>
            <a:endParaRPr b="0" lang="en-US" sz="3600" spc="-1" strike="noStrike">
              <a:solidFill>
                <a:srgbClr val="000000"/>
              </a:solidFill>
              <a:latin typeface="Times New Roman"/>
            </a:endParaRPr>
          </a:p>
        </p:txBody>
      </p:sp>
      <p:sp>
        <p:nvSpPr>
          <p:cNvPr id="1832"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grpSp>
        <p:nvGrpSpPr>
          <p:cNvPr id="1833" name=""/>
          <p:cNvGrpSpPr/>
          <p:nvPr/>
        </p:nvGrpSpPr>
        <p:grpSpPr>
          <a:xfrm>
            <a:off x="203760" y="1215720"/>
            <a:ext cx="3169440" cy="1154160"/>
            <a:chOff x="203760" y="1215720"/>
            <a:chExt cx="3169440" cy="1154160"/>
          </a:xfrm>
        </p:grpSpPr>
        <p:sp>
          <p:nvSpPr>
            <p:cNvPr id="1834" name=""/>
            <p:cNvSpPr/>
            <p:nvPr/>
          </p:nvSpPr>
          <p:spPr>
            <a:xfrm rot="20897400">
              <a:off x="217440" y="1512360"/>
              <a:ext cx="2971800" cy="43956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rot="20897400">
              <a:off x="228600" y="153756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other example</a:t>
              </a:r>
              <a:endParaRPr b="0" lang="en-US" sz="2800" spc="-1" strike="noStrike">
                <a:solidFill>
                  <a:srgbClr val="000000"/>
                </a:solidFill>
                <a:latin typeface="Times New Roman"/>
              </a:endParaRPr>
            </a:p>
          </p:txBody>
        </p:sp>
      </p:grpSp>
    </p:spTree>
  </p:cSld>
  <p:transition>
    <p:pull dir="l"/>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1831"/>
                                        </p:tgtEl>
                                        <p:attrNameLst>
                                          <p:attrName>style.visibility</p:attrName>
                                        </p:attrNameLst>
                                      </p:cBhvr>
                                      <p:to>
                                        <p:strVal val="visible"/>
                                      </p:to>
                                    </p:set>
                                    <p:animEffect filter="dissolve" transition="in">
                                      <p:cBhvr additive="repl">
                                        <p:cTn id="350" dur="500"/>
                                        <p:tgtEl>
                                          <p:spTgt spid="1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36" name=""/>
          <p:cNvSpPr/>
          <p:nvPr/>
        </p:nvSpPr>
        <p:spPr>
          <a:xfrm>
            <a:off x="1058760" y="2743200"/>
            <a:ext cx="679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ea typeface="Tahoma"/>
              </a:rPr>
              <a:t>Question: temperature difference?</a:t>
            </a:r>
            <a:endParaRPr b="0" lang="en-US" sz="3200" spc="-1" strike="noStrike">
              <a:solidFill>
                <a:srgbClr val="000000"/>
              </a:solidFill>
              <a:latin typeface="Times New Roman"/>
            </a:endParaRPr>
          </a:p>
        </p:txBody>
      </p:sp>
      <p:sp>
        <p:nvSpPr>
          <p:cNvPr id="1837" name=""/>
          <p:cNvSpPr/>
          <p:nvPr/>
        </p:nvSpPr>
        <p:spPr>
          <a:xfrm>
            <a:off x="914400" y="1523880"/>
            <a:ext cx="472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Given: Tucson is 72</a:t>
            </a:r>
            <a:r>
              <a:rPr b="0" lang="en-US" sz="3200" spc="-1" strike="noStrike">
                <a:solidFill>
                  <a:srgbClr val="6600cc"/>
                </a:solidFill>
                <a:latin typeface="Comic Sans MS"/>
                <a:ea typeface="Tahoma"/>
              </a:rPr>
              <a:t>° F</a:t>
            </a:r>
            <a:endParaRPr b="0" lang="en-US" sz="3200" spc="-1" strike="noStrike">
              <a:solidFill>
                <a:srgbClr val="000000"/>
              </a:solidFill>
              <a:latin typeface="Times New Roman"/>
            </a:endParaRPr>
          </a:p>
        </p:txBody>
      </p:sp>
      <p:sp>
        <p:nvSpPr>
          <p:cNvPr id="1838" name=""/>
          <p:cNvSpPr/>
          <p:nvPr/>
        </p:nvSpPr>
        <p:spPr>
          <a:xfrm>
            <a:off x="2324520" y="2133720"/>
            <a:ext cx="3555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ea typeface="Tahoma"/>
              </a:rPr>
              <a:t>Bismark is -13 ° F.</a:t>
            </a:r>
            <a:endParaRPr b="0" lang="en-US" sz="3200" spc="-1" strike="noStrike">
              <a:solidFill>
                <a:srgbClr val="000000"/>
              </a:solidFill>
              <a:latin typeface="Times New Roman"/>
            </a:endParaRPr>
          </a:p>
        </p:txBody>
      </p:sp>
      <p:sp>
        <p:nvSpPr>
          <p:cNvPr id="1839" name=""/>
          <p:cNvSpPr/>
          <p:nvPr/>
        </p:nvSpPr>
        <p:spPr>
          <a:xfrm>
            <a:off x="5715000" y="432900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057400" y="432900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276720" y="432900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990720" y="4633920"/>
            <a:ext cx="63244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5105520" y="432900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6324480" y="432900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1447920" y="432900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2666880" y="432900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4495680" y="432900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3886200" y="432900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337880" y="4297320"/>
            <a:ext cx="85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ahoma"/>
              </a:rPr>
              <a:t>° F.</a:t>
            </a:r>
            <a:endParaRPr b="0" lang="en-US" sz="3600" spc="-1" strike="noStrike">
              <a:solidFill>
                <a:srgbClr val="000000"/>
              </a:solidFill>
              <a:latin typeface="Times New Roman"/>
            </a:endParaRPr>
          </a:p>
        </p:txBody>
      </p:sp>
      <p:sp>
        <p:nvSpPr>
          <p:cNvPr id="1850" name=""/>
          <p:cNvSpPr/>
          <p:nvPr/>
        </p:nvSpPr>
        <p:spPr>
          <a:xfrm>
            <a:off x="2590920" y="35672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2523600" y="3886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1852" name=""/>
          <p:cNvSpPr/>
          <p:nvPr/>
        </p:nvSpPr>
        <p:spPr>
          <a:xfrm>
            <a:off x="3597840" y="38862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20</a:t>
            </a:r>
            <a:endParaRPr b="0" lang="en-US" sz="2800" spc="-1" strike="noStrike">
              <a:solidFill>
                <a:srgbClr val="000000"/>
              </a:solidFill>
              <a:latin typeface="Times New Roman"/>
            </a:endParaRPr>
          </a:p>
        </p:txBody>
      </p:sp>
      <p:sp>
        <p:nvSpPr>
          <p:cNvPr id="1853" name=""/>
          <p:cNvSpPr/>
          <p:nvPr/>
        </p:nvSpPr>
        <p:spPr>
          <a:xfrm>
            <a:off x="6026760" y="38862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60</a:t>
            </a:r>
            <a:endParaRPr b="0" lang="en-US" sz="2800" spc="-1" strike="noStrike">
              <a:solidFill>
                <a:srgbClr val="000000"/>
              </a:solidFill>
              <a:latin typeface="Times New Roman"/>
            </a:endParaRPr>
          </a:p>
        </p:txBody>
      </p:sp>
      <p:sp>
        <p:nvSpPr>
          <p:cNvPr id="1854" name=""/>
          <p:cNvSpPr/>
          <p:nvPr/>
        </p:nvSpPr>
        <p:spPr>
          <a:xfrm>
            <a:off x="4817160" y="38862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40</a:t>
            </a:r>
            <a:endParaRPr b="0" lang="en-US" sz="2800" spc="-1" strike="noStrike">
              <a:solidFill>
                <a:srgbClr val="000000"/>
              </a:solidFill>
              <a:latin typeface="Times New Roman"/>
            </a:endParaRPr>
          </a:p>
        </p:txBody>
      </p:sp>
      <p:sp>
        <p:nvSpPr>
          <p:cNvPr id="1855" name=""/>
          <p:cNvSpPr/>
          <p:nvPr/>
        </p:nvSpPr>
        <p:spPr>
          <a:xfrm>
            <a:off x="1176120" y="388620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20</a:t>
            </a:r>
            <a:endParaRPr b="0" lang="en-US" sz="2800" spc="-1" strike="noStrike">
              <a:solidFill>
                <a:srgbClr val="000000"/>
              </a:solidFill>
              <a:latin typeface="Times New Roman"/>
            </a:endParaRPr>
          </a:p>
        </p:txBody>
      </p:sp>
      <p:sp>
        <p:nvSpPr>
          <p:cNvPr id="1856" name=""/>
          <p:cNvSpPr/>
          <p:nvPr/>
        </p:nvSpPr>
        <p:spPr>
          <a:xfrm>
            <a:off x="2666880" y="3657600"/>
            <a:ext cx="4419720" cy="0"/>
          </a:xfrm>
          <a:prstGeom prst="line">
            <a:avLst/>
          </a:prstGeom>
          <a:ln w="57240">
            <a:solidFill>
              <a:srgbClr val="66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flipH="1">
            <a:off x="1904760" y="3657600"/>
            <a:ext cx="685800" cy="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6934320" y="432900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9" name=""/>
          <p:cNvGrpSpPr/>
          <p:nvPr/>
        </p:nvGrpSpPr>
        <p:grpSpPr>
          <a:xfrm>
            <a:off x="1905120" y="4952880"/>
            <a:ext cx="5105160" cy="1099800"/>
            <a:chOff x="1905120" y="4952880"/>
            <a:chExt cx="5105160" cy="1099800"/>
          </a:xfrm>
        </p:grpSpPr>
        <p:sp>
          <p:nvSpPr>
            <p:cNvPr id="1860" name=""/>
            <p:cNvSpPr/>
            <p:nvPr/>
          </p:nvSpPr>
          <p:spPr>
            <a:xfrm rot="16200000">
              <a:off x="4228920" y="2628720"/>
              <a:ext cx="457200" cy="5105160"/>
            </a:xfrm>
            <a:custGeom>
              <a:avLst/>
              <a:gdLst>
                <a:gd name="textAreaLeft" fmla="*/ 292320 w 457200"/>
                <a:gd name="textAreaRight" fmla="*/ 457560 w 457200"/>
                <a:gd name="textAreaTop" fmla="*/ 132840 h 5105160"/>
                <a:gd name="textAreaBottom" fmla="*/ 4972320 h 5105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2057400" y="5410080"/>
              <a:ext cx="495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ahoma"/>
                </a:rPr>
                <a:t>difference is larger</a:t>
              </a:r>
              <a:endParaRPr b="0" lang="en-US" sz="3600" spc="-1" strike="noStrike">
                <a:solidFill>
                  <a:srgbClr val="000000"/>
                </a:solidFill>
                <a:latin typeface="Times New Roman"/>
              </a:endParaRPr>
            </a:p>
          </p:txBody>
        </p:sp>
      </p:grpSp>
      <p:sp>
        <p:nvSpPr>
          <p:cNvPr id="1862"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
        <p:nvSpPr>
          <p:cNvPr id="1863" name=""/>
          <p:cNvSpPr/>
          <p:nvPr/>
        </p:nvSpPr>
        <p:spPr>
          <a:xfrm>
            <a:off x="1905120" y="4952880"/>
            <a:ext cx="5181480" cy="0"/>
          </a:xfrm>
          <a:prstGeom prst="line">
            <a:avLst/>
          </a:prstGeom>
          <a:ln w="572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1837"/>
                                        </p:tgtEl>
                                        <p:attrNameLst>
                                          <p:attrName>style.visibility</p:attrName>
                                        </p:attrNameLst>
                                      </p:cBhvr>
                                      <p:to>
                                        <p:strVal val="visible"/>
                                      </p:to>
                                    </p:set>
                                    <p:animEffect filter="wipe(left)" transition="in">
                                      <p:cBhvr additive="repl">
                                        <p:cTn id="357" dur="500"/>
                                        <p:tgtEl>
                                          <p:spTgt spid="1837"/>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1856"/>
                                        </p:tgtEl>
                                        <p:attrNameLst>
                                          <p:attrName>style.visibility</p:attrName>
                                        </p:attrNameLst>
                                      </p:cBhvr>
                                      <p:to>
                                        <p:strVal val="visible"/>
                                      </p:to>
                                    </p:set>
                                    <p:animEffect filter="wipe(left)" transition="in">
                                      <p:cBhvr additive="repl">
                                        <p:cTn id="362" dur="500"/>
                                        <p:tgtEl>
                                          <p:spTgt spid="1856"/>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1838"/>
                                        </p:tgtEl>
                                        <p:attrNameLst>
                                          <p:attrName>style.visibility</p:attrName>
                                        </p:attrNameLst>
                                      </p:cBhvr>
                                      <p:to>
                                        <p:strVal val="visible"/>
                                      </p:to>
                                    </p:set>
                                    <p:animEffect filter="wipe(left)" transition="in">
                                      <p:cBhvr additive="repl">
                                        <p:cTn id="367" dur="500"/>
                                        <p:tgtEl>
                                          <p:spTgt spid="1838"/>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2">
                                  <p:stCondLst>
                                    <p:cond delay="0"/>
                                  </p:stCondLst>
                                  <p:childTnLst>
                                    <p:set>
                                      <p:cBhvr>
                                        <p:cTn id="371" dur="1" fill="hold">
                                          <p:stCondLst>
                                            <p:cond delay="0"/>
                                          </p:stCondLst>
                                        </p:cTn>
                                        <p:tgtEl>
                                          <p:spTgt spid="1857"/>
                                        </p:tgtEl>
                                        <p:attrNameLst>
                                          <p:attrName>style.visibility</p:attrName>
                                        </p:attrNameLst>
                                      </p:cBhvr>
                                      <p:to>
                                        <p:strVal val="visible"/>
                                      </p:to>
                                    </p:set>
                                    <p:animEffect filter="wipe(right)" transition="in">
                                      <p:cBhvr additive="repl">
                                        <p:cTn id="372" dur="500"/>
                                        <p:tgtEl>
                                          <p:spTgt spid="1857"/>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1836"/>
                                        </p:tgtEl>
                                        <p:attrNameLst>
                                          <p:attrName>style.visibility</p:attrName>
                                        </p:attrNameLst>
                                      </p:cBhvr>
                                      <p:to>
                                        <p:strVal val="visible"/>
                                      </p:to>
                                    </p:set>
                                    <p:animEffect filter="wipe(left)" transition="in">
                                      <p:cBhvr additive="repl">
                                        <p:cTn id="377" dur="500"/>
                                        <p:tgtEl>
                                          <p:spTgt spid="1836"/>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6" presetSubtype="37">
                                  <p:stCondLst>
                                    <p:cond delay="0"/>
                                  </p:stCondLst>
                                  <p:childTnLst>
                                    <p:set>
                                      <p:cBhvr>
                                        <p:cTn id="381" dur="1" fill="hold">
                                          <p:stCondLst>
                                            <p:cond delay="0"/>
                                          </p:stCondLst>
                                        </p:cTn>
                                        <p:tgtEl>
                                          <p:spTgt spid="1863"/>
                                        </p:tgtEl>
                                        <p:attrNameLst>
                                          <p:attrName>style.visibility</p:attrName>
                                        </p:attrNameLst>
                                      </p:cBhvr>
                                      <p:to>
                                        <p:strVal val="visible"/>
                                      </p:to>
                                    </p:set>
                                    <p:animEffect filter="barn(outVertical)" transition="in">
                                      <p:cBhvr additive="repl">
                                        <p:cTn id="382" dur="500"/>
                                        <p:tgtEl>
                                          <p:spTgt spid="186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859"/>
                                        </p:tgtEl>
                                        <p:attrNameLst>
                                          <p:attrName>style.visibility</p:attrName>
                                        </p:attrNameLst>
                                      </p:cBhvr>
                                      <p:to>
                                        <p:strVal val="visible"/>
                                      </p:to>
                                    </p:set>
                                    <p:animEffect filter="wipe(left)" transition="in">
                                      <p:cBhvr additive="repl">
                                        <p:cTn id="387" dur="5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64" name=""/>
          <p:cNvSpPr/>
          <p:nvPr/>
        </p:nvSpPr>
        <p:spPr>
          <a:xfrm>
            <a:off x="763920" y="4419720"/>
            <a:ext cx="39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72 </a:t>
            </a:r>
            <a:r>
              <a:rPr b="0" lang="en-US" sz="3600" spc="-1" strike="noStrike">
                <a:solidFill>
                  <a:srgbClr val="6600cc"/>
                </a:solidFill>
                <a:latin typeface="Comic Sans MS"/>
                <a:ea typeface="Tahoma"/>
              </a:rPr>
              <a:t>° F</a:t>
            </a:r>
            <a:r>
              <a:rPr b="0" lang="en-US" sz="3600" spc="-1" strike="noStrike">
                <a:solidFill>
                  <a:srgbClr val="000000"/>
                </a:solidFill>
                <a:latin typeface="Comic Sans MS"/>
                <a:ea typeface="Tahoma"/>
              </a:rPr>
              <a:t> – </a:t>
            </a:r>
            <a:r>
              <a:rPr b="0" lang="en-US" sz="3600" spc="-1" strike="noStrike">
                <a:solidFill>
                  <a:srgbClr val="3333cc"/>
                </a:solidFill>
                <a:latin typeface="Comic Sans MS"/>
                <a:ea typeface="Tahoma"/>
              </a:rPr>
              <a:t>(-13 ° F )</a:t>
            </a:r>
            <a:r>
              <a:rPr b="0" lang="en-US" sz="3600" spc="-1" strike="noStrike">
                <a:solidFill>
                  <a:srgbClr val="000000"/>
                </a:solidFill>
                <a:latin typeface="Comic Sans MS"/>
                <a:ea typeface="Tahoma"/>
              </a:rPr>
              <a:t> =</a:t>
            </a:r>
            <a:endParaRPr b="0" lang="en-US" sz="3600" spc="-1" strike="noStrike">
              <a:solidFill>
                <a:srgbClr val="000000"/>
              </a:solidFill>
              <a:latin typeface="Times New Roman"/>
            </a:endParaRPr>
          </a:p>
        </p:txBody>
      </p:sp>
      <p:sp>
        <p:nvSpPr>
          <p:cNvPr id="1865" name=""/>
          <p:cNvSpPr/>
          <p:nvPr/>
        </p:nvSpPr>
        <p:spPr>
          <a:xfrm>
            <a:off x="5715000" y="234792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2057400" y="234792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3276720" y="234792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990720" y="2652840"/>
            <a:ext cx="63244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5105520" y="234792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6324480" y="234792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1447920" y="234792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2666880" y="234792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4495680" y="234792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3886200" y="234792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7337880" y="2316240"/>
            <a:ext cx="85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ahoma"/>
              </a:rPr>
              <a:t>° F.</a:t>
            </a:r>
            <a:endParaRPr b="0" lang="en-US" sz="3600" spc="-1" strike="noStrike">
              <a:solidFill>
                <a:srgbClr val="000000"/>
              </a:solidFill>
              <a:latin typeface="Times New Roman"/>
            </a:endParaRPr>
          </a:p>
        </p:txBody>
      </p:sp>
      <p:sp>
        <p:nvSpPr>
          <p:cNvPr id="1876" name=""/>
          <p:cNvSpPr/>
          <p:nvPr/>
        </p:nvSpPr>
        <p:spPr>
          <a:xfrm>
            <a:off x="259092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2523600" y="19051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1878" name=""/>
          <p:cNvSpPr/>
          <p:nvPr/>
        </p:nvSpPr>
        <p:spPr>
          <a:xfrm>
            <a:off x="3597840" y="19051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20</a:t>
            </a:r>
            <a:endParaRPr b="0" lang="en-US" sz="2800" spc="-1" strike="noStrike">
              <a:solidFill>
                <a:srgbClr val="000000"/>
              </a:solidFill>
              <a:latin typeface="Times New Roman"/>
            </a:endParaRPr>
          </a:p>
        </p:txBody>
      </p:sp>
      <p:sp>
        <p:nvSpPr>
          <p:cNvPr id="1879" name=""/>
          <p:cNvSpPr/>
          <p:nvPr/>
        </p:nvSpPr>
        <p:spPr>
          <a:xfrm>
            <a:off x="6026760" y="19051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60</a:t>
            </a:r>
            <a:endParaRPr b="0" lang="en-US" sz="2800" spc="-1" strike="noStrike">
              <a:solidFill>
                <a:srgbClr val="000000"/>
              </a:solidFill>
              <a:latin typeface="Times New Roman"/>
            </a:endParaRPr>
          </a:p>
        </p:txBody>
      </p:sp>
      <p:sp>
        <p:nvSpPr>
          <p:cNvPr id="1880" name=""/>
          <p:cNvSpPr/>
          <p:nvPr/>
        </p:nvSpPr>
        <p:spPr>
          <a:xfrm>
            <a:off x="4817160" y="19051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40</a:t>
            </a:r>
            <a:endParaRPr b="0" lang="en-US" sz="2800" spc="-1" strike="noStrike">
              <a:solidFill>
                <a:srgbClr val="000000"/>
              </a:solidFill>
              <a:latin typeface="Times New Roman"/>
            </a:endParaRPr>
          </a:p>
        </p:txBody>
      </p:sp>
      <p:sp>
        <p:nvSpPr>
          <p:cNvPr id="1881" name=""/>
          <p:cNvSpPr/>
          <p:nvPr/>
        </p:nvSpPr>
        <p:spPr>
          <a:xfrm>
            <a:off x="1176120" y="190512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20</a:t>
            </a:r>
            <a:endParaRPr b="0" lang="en-US" sz="2800" spc="-1" strike="noStrike">
              <a:solidFill>
                <a:srgbClr val="000000"/>
              </a:solidFill>
              <a:latin typeface="Times New Roman"/>
            </a:endParaRPr>
          </a:p>
        </p:txBody>
      </p:sp>
      <p:sp>
        <p:nvSpPr>
          <p:cNvPr id="1882" name=""/>
          <p:cNvSpPr/>
          <p:nvPr/>
        </p:nvSpPr>
        <p:spPr>
          <a:xfrm>
            <a:off x="6934320" y="234792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5235480" y="4464000"/>
            <a:ext cx="307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72 </a:t>
            </a:r>
            <a:r>
              <a:rPr b="0" lang="en-US" sz="3600" spc="-1" strike="noStrike">
                <a:solidFill>
                  <a:srgbClr val="000000"/>
                </a:solidFill>
                <a:latin typeface="Comic Sans MS"/>
                <a:ea typeface="Tahoma"/>
              </a:rPr>
              <a:t>° F + 13 ° F</a:t>
            </a:r>
            <a:endParaRPr b="0" lang="en-US" sz="3600" spc="-1" strike="noStrike">
              <a:solidFill>
                <a:srgbClr val="000000"/>
              </a:solidFill>
              <a:latin typeface="Times New Roman"/>
            </a:endParaRPr>
          </a:p>
        </p:txBody>
      </p:sp>
      <p:sp>
        <p:nvSpPr>
          <p:cNvPr id="1884" name=""/>
          <p:cNvSpPr/>
          <p:nvPr/>
        </p:nvSpPr>
        <p:spPr>
          <a:xfrm>
            <a:off x="2675880" y="5302080"/>
            <a:ext cx="4447800" cy="642600"/>
          </a:xfrm>
          <a:prstGeom prst="rect">
            <a:avLst/>
          </a:prstGeom>
          <a:gradFill rotWithShape="0">
            <a:gsLst>
              <a:gs pos="0">
                <a:srgbClr val="00cc99"/>
              </a:gs>
              <a:gs pos="100000">
                <a:srgbClr val="ffff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85 </a:t>
            </a:r>
            <a:r>
              <a:rPr b="1" lang="en-US" sz="3600" spc="-1" strike="noStrike">
                <a:solidFill>
                  <a:srgbClr val="000000"/>
                </a:solidFill>
                <a:latin typeface="Comic Sans MS"/>
                <a:ea typeface="Tahoma"/>
              </a:rPr>
              <a:t>° F is difference</a:t>
            </a:r>
            <a:r>
              <a:rPr b="1" lang="en-US" sz="3600" spc="-1" strike="noStrike">
                <a:solidFill>
                  <a:srgbClr val="000000"/>
                </a:solidFill>
                <a:latin typeface="Comic Sans MS"/>
              </a:rPr>
              <a:t> </a:t>
            </a:r>
            <a:endParaRPr b="0" lang="en-US" sz="3600" spc="-1" strike="noStrike">
              <a:solidFill>
                <a:srgbClr val="000000"/>
              </a:solidFill>
              <a:latin typeface="Times New Roman"/>
            </a:endParaRPr>
          </a:p>
        </p:txBody>
      </p:sp>
      <p:sp>
        <p:nvSpPr>
          <p:cNvPr id="1885"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
        <p:nvSpPr>
          <p:cNvPr id="1886" name=""/>
          <p:cNvSpPr/>
          <p:nvPr/>
        </p:nvSpPr>
        <p:spPr>
          <a:xfrm>
            <a:off x="2666880" y="1676520"/>
            <a:ext cx="4419720" cy="0"/>
          </a:xfrm>
          <a:prstGeom prst="line">
            <a:avLst/>
          </a:prstGeom>
          <a:ln w="57240">
            <a:solidFill>
              <a:srgbClr val="66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flipH="1">
            <a:off x="1904760" y="1676520"/>
            <a:ext cx="685800" cy="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8" name=""/>
          <p:cNvGrpSpPr/>
          <p:nvPr/>
        </p:nvGrpSpPr>
        <p:grpSpPr>
          <a:xfrm>
            <a:off x="1828800" y="3124080"/>
            <a:ext cx="5186520" cy="991800"/>
            <a:chOff x="1828800" y="3124080"/>
            <a:chExt cx="5186520" cy="991800"/>
          </a:xfrm>
        </p:grpSpPr>
        <p:sp>
          <p:nvSpPr>
            <p:cNvPr id="1889" name=""/>
            <p:cNvSpPr/>
            <p:nvPr/>
          </p:nvSpPr>
          <p:spPr>
            <a:xfrm rot="16200000">
              <a:off x="4152960" y="876240"/>
              <a:ext cx="457200" cy="5105520"/>
            </a:xfrm>
            <a:custGeom>
              <a:avLst/>
              <a:gdLst>
                <a:gd name="textAreaLeft" fmla="*/ 292320 w 457200"/>
                <a:gd name="textAreaRight" fmla="*/ 457560 w 457200"/>
                <a:gd name="textAreaTop" fmla="*/ 132840 h 5105520"/>
                <a:gd name="textAreaBottom" fmla="*/ 4972680 h 5105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3305520" y="3473280"/>
              <a:ext cx="235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ahoma"/>
                </a:rPr>
                <a:t>difference</a:t>
              </a:r>
              <a:endParaRPr b="0" lang="en-US" sz="3600" spc="-1" strike="noStrike">
                <a:solidFill>
                  <a:srgbClr val="000000"/>
                </a:solidFill>
                <a:latin typeface="Times New Roman"/>
              </a:endParaRPr>
            </a:p>
          </p:txBody>
        </p:sp>
        <p:sp>
          <p:nvSpPr>
            <p:cNvPr id="1891" name=""/>
            <p:cNvSpPr/>
            <p:nvPr/>
          </p:nvSpPr>
          <p:spPr>
            <a:xfrm>
              <a:off x="1833480" y="3124080"/>
              <a:ext cx="5181840" cy="0"/>
            </a:xfrm>
            <a:prstGeom prst="line">
              <a:avLst/>
            </a:prstGeom>
            <a:ln w="572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1886"/>
                                        </p:tgtEl>
                                        <p:attrNameLst>
                                          <p:attrName>style.visibility</p:attrName>
                                        </p:attrNameLst>
                                      </p:cBhvr>
                                      <p:to>
                                        <p:strVal val="visible"/>
                                      </p:to>
                                    </p:set>
                                    <p:animEffect filter="wipe(left)" transition="in">
                                      <p:cBhvr additive="repl">
                                        <p:cTn id="394" dur="500"/>
                                        <p:tgtEl>
                                          <p:spTgt spid="1886"/>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2">
                                  <p:stCondLst>
                                    <p:cond delay="0"/>
                                  </p:stCondLst>
                                  <p:childTnLst>
                                    <p:set>
                                      <p:cBhvr>
                                        <p:cTn id="398" dur="1" fill="hold">
                                          <p:stCondLst>
                                            <p:cond delay="0"/>
                                          </p:stCondLst>
                                        </p:cTn>
                                        <p:tgtEl>
                                          <p:spTgt spid="1887"/>
                                        </p:tgtEl>
                                        <p:attrNameLst>
                                          <p:attrName>style.visibility</p:attrName>
                                        </p:attrNameLst>
                                      </p:cBhvr>
                                      <p:to>
                                        <p:strVal val="visible"/>
                                      </p:to>
                                    </p:set>
                                    <p:animEffect filter="wipe(right)" transition="in">
                                      <p:cBhvr additive="repl">
                                        <p:cTn id="399" dur="500"/>
                                        <p:tgtEl>
                                          <p:spTgt spid="1887"/>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1">
                                  <p:stCondLst>
                                    <p:cond delay="0"/>
                                  </p:stCondLst>
                                  <p:childTnLst>
                                    <p:set>
                                      <p:cBhvr>
                                        <p:cTn id="403" dur="1" fill="hold">
                                          <p:stCondLst>
                                            <p:cond delay="0"/>
                                          </p:stCondLst>
                                        </p:cTn>
                                        <p:tgtEl>
                                          <p:spTgt spid="1888"/>
                                        </p:tgtEl>
                                        <p:attrNameLst>
                                          <p:attrName>style.visibility</p:attrName>
                                        </p:attrNameLst>
                                      </p:cBhvr>
                                      <p:to>
                                        <p:strVal val="visible"/>
                                      </p:to>
                                    </p:set>
                                    <p:animEffect filter="wipe(up)" transition="in">
                                      <p:cBhvr additive="repl">
                                        <p:cTn id="404" dur="500"/>
                                        <p:tgtEl>
                                          <p:spTgt spid="188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864"/>
                                        </p:tgtEl>
                                        <p:attrNameLst>
                                          <p:attrName>style.visibility</p:attrName>
                                        </p:attrNameLst>
                                      </p:cBhvr>
                                      <p:to>
                                        <p:strVal val="visible"/>
                                      </p:to>
                                    </p:set>
                                    <p:animEffect filter="wipe(left)" transition="in">
                                      <p:cBhvr additive="repl">
                                        <p:cTn id="409" dur="500"/>
                                        <p:tgtEl>
                                          <p:spTgt spid="1864"/>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883"/>
                                        </p:tgtEl>
                                        <p:attrNameLst>
                                          <p:attrName>style.visibility</p:attrName>
                                        </p:attrNameLst>
                                      </p:cBhvr>
                                      <p:to>
                                        <p:strVal val="visible"/>
                                      </p:to>
                                    </p:set>
                                    <p:animEffect filter="wipe(left)" transition="in">
                                      <p:cBhvr additive="repl">
                                        <p:cTn id="414" dur="500"/>
                                        <p:tgtEl>
                                          <p:spTgt spid="1883"/>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7" presetSubtype="4">
                                  <p:stCondLst>
                                    <p:cond delay="0"/>
                                  </p:stCondLst>
                                  <p:childTnLst>
                                    <p:set>
                                      <p:cBhvr>
                                        <p:cTn id="418" dur="1" fill="hold">
                                          <p:stCondLst>
                                            <p:cond delay="0"/>
                                          </p:stCondLst>
                                        </p:cTn>
                                        <p:tgtEl>
                                          <p:spTgt spid="1884"/>
                                        </p:tgtEl>
                                        <p:attrNameLst>
                                          <p:attrName>style.visibility</p:attrName>
                                        </p:attrNameLst>
                                      </p:cBhvr>
                                      <p:to>
                                        <p:strVal val="visible"/>
                                      </p:to>
                                    </p:set>
                                    <p:anim calcmode="lin" valueType="num">
                                      <p:cBhvr additive="repl">
                                        <p:cTn id="419" dur="500" fill="hold"/>
                                        <p:tgtEl>
                                          <p:spTgt spid="1884"/>
                                        </p:tgtEl>
                                        <p:attrNameLst>
                                          <p:attrName>ppt_x</p:attrName>
                                        </p:attrNameLst>
                                      </p:cBhvr>
                                      <p:tavLst>
                                        <p:tav tm="0">
                                          <p:val>
                                            <p:strVal val="#ppt_x"/>
                                          </p:val>
                                        </p:tav>
                                        <p:tav tm="100000">
                                          <p:val>
                                            <p:strVal val="#ppt_x"/>
                                          </p:val>
                                        </p:tav>
                                      </p:tavLst>
                                    </p:anim>
                                    <p:anim calcmode="lin" valueType="num">
                                      <p:cBhvr additive="repl">
                                        <p:cTn id="420" dur="500" fill="hold"/>
                                        <p:tgtEl>
                                          <p:spTgt spid="1884"/>
                                        </p:tgtEl>
                                        <p:attrNameLst>
                                          <p:attrName>ppt_y</p:attrName>
                                        </p:attrNameLst>
                                      </p:cBhvr>
                                      <p:tavLst>
                                        <p:tav tm="0">
                                          <p:val>
                                            <p:strVal val="#ppt_y+#ppt_h/2"/>
                                          </p:val>
                                        </p:tav>
                                        <p:tav tm="100000">
                                          <p:val>
                                            <p:strVal val="#ppt_y"/>
                                          </p:val>
                                        </p:tav>
                                      </p:tavLst>
                                    </p:anim>
                                    <p:anim calcmode="lin" valueType="num">
                                      <p:cBhvr additive="repl">
                                        <p:cTn id="421" dur="500" fill="hold"/>
                                        <p:tgtEl>
                                          <p:spTgt spid="1884"/>
                                        </p:tgtEl>
                                        <p:attrNameLst>
                                          <p:attrName>ppt_w</p:attrName>
                                        </p:attrNameLst>
                                      </p:cBhvr>
                                      <p:tavLst>
                                        <p:tav tm="0">
                                          <p:val>
                                            <p:strVal val="#ppt_w"/>
                                          </p:val>
                                        </p:tav>
                                        <p:tav tm="100000">
                                          <p:val>
                                            <p:strVal val="#ppt_w"/>
                                          </p:val>
                                        </p:tav>
                                      </p:tavLst>
                                    </p:anim>
                                    <p:anim calcmode="lin" valueType="num">
                                      <p:cBhvr additive="repl">
                                        <p:cTn id="422" dur="500" fill="hold"/>
                                        <p:tgtEl>
                                          <p:spTgt spid="18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92" name=""/>
          <p:cNvSpPr/>
          <p:nvPr/>
        </p:nvSpPr>
        <p:spPr>
          <a:xfrm>
            <a:off x="3352680" y="1295280"/>
            <a:ext cx="5562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n engine falls off an airplane traveling 12,286 ft above the earth.  It falls to the ocean floor, 5,678 ft below sea level.  How far does the engine drop before it stops completely?</a:t>
            </a:r>
            <a:endParaRPr b="0" lang="en-US" sz="3600" spc="-1" strike="noStrike">
              <a:solidFill>
                <a:srgbClr val="000000"/>
              </a:solidFill>
              <a:latin typeface="Times New Roman"/>
            </a:endParaRPr>
          </a:p>
        </p:txBody>
      </p:sp>
      <p:sp>
        <p:nvSpPr>
          <p:cNvPr id="1893"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pic>
        <p:nvPicPr>
          <p:cNvPr id="1894" name="" descr=""/>
          <p:cNvPicPr/>
          <p:nvPr/>
        </p:nvPicPr>
        <p:blipFill>
          <a:blip r:embed="rId1"/>
          <a:stretch/>
        </p:blipFill>
        <p:spPr>
          <a:xfrm>
            <a:off x="609480" y="2133720"/>
            <a:ext cx="2667240" cy="4190760"/>
          </a:xfrm>
          <a:prstGeom prst="rect">
            <a:avLst/>
          </a:prstGeom>
          <a:ln w="0">
            <a:noFill/>
          </a:ln>
        </p:spPr>
      </p:pic>
      <p:sp>
        <p:nvSpPr>
          <p:cNvPr id="1895" name=""/>
          <p:cNvSpPr/>
          <p:nvPr/>
        </p:nvSpPr>
        <p:spPr>
          <a:xfrm>
            <a:off x="3352680" y="1295280"/>
            <a:ext cx="5562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n engine falls off an airplane traveling </a:t>
            </a:r>
            <a:r>
              <a:rPr b="1" lang="en-US" sz="3600" spc="-1" strike="noStrike">
                <a:solidFill>
                  <a:srgbClr val="333399"/>
                </a:solidFill>
                <a:latin typeface="Comic Sans MS"/>
              </a:rPr>
              <a:t>12,286 ft above the earth</a:t>
            </a:r>
            <a:r>
              <a:rPr b="1" lang="en-US" sz="3600" spc="-1" strike="noStrike">
                <a:solidFill>
                  <a:srgbClr val="000000"/>
                </a:solidFill>
                <a:latin typeface="Comic Sans MS"/>
              </a:rPr>
              <a:t>.  It falls to the ocean floor, </a:t>
            </a:r>
            <a:r>
              <a:rPr b="1" lang="en-US" sz="3600" spc="-1" strike="noStrike">
                <a:solidFill>
                  <a:srgbClr val="333399"/>
                </a:solidFill>
                <a:latin typeface="Comic Sans MS"/>
              </a:rPr>
              <a:t>5,678 ft below sea level</a:t>
            </a:r>
            <a:r>
              <a:rPr b="1" lang="en-US" sz="3600" spc="-1" strike="noStrike">
                <a:solidFill>
                  <a:srgbClr val="000000"/>
                </a:solidFill>
                <a:latin typeface="Comic Sans MS"/>
              </a:rPr>
              <a:t>.  </a:t>
            </a:r>
            <a:r>
              <a:rPr b="1" lang="en-US" sz="3600" spc="-1" strike="noStrike">
                <a:solidFill>
                  <a:srgbClr val="006600"/>
                </a:solidFill>
                <a:latin typeface="Comic Sans MS"/>
              </a:rPr>
              <a:t>How far</a:t>
            </a:r>
            <a:r>
              <a:rPr b="1" lang="en-US" sz="3600" spc="-1" strike="noStrike">
                <a:solidFill>
                  <a:srgbClr val="000000"/>
                </a:solidFill>
                <a:latin typeface="Comic Sans MS"/>
              </a:rPr>
              <a:t> does the engine drop before it stops completely?</a:t>
            </a:r>
            <a:endParaRPr b="0" lang="en-US" sz="3600" spc="-1" strike="noStrike">
              <a:solidFill>
                <a:srgbClr val="000000"/>
              </a:solidFill>
              <a:latin typeface="Times New Roman"/>
            </a:endParaRPr>
          </a:p>
        </p:txBody>
      </p:sp>
      <p:grpSp>
        <p:nvGrpSpPr>
          <p:cNvPr id="1896" name=""/>
          <p:cNvGrpSpPr/>
          <p:nvPr/>
        </p:nvGrpSpPr>
        <p:grpSpPr>
          <a:xfrm>
            <a:off x="200880" y="1000080"/>
            <a:ext cx="3172320" cy="1200240"/>
            <a:chOff x="200880" y="1000080"/>
            <a:chExt cx="3172320" cy="1200240"/>
          </a:xfrm>
        </p:grpSpPr>
        <p:sp>
          <p:nvSpPr>
            <p:cNvPr id="1897" name=""/>
            <p:cNvSpPr/>
            <p:nvPr/>
          </p:nvSpPr>
          <p:spPr>
            <a:xfrm rot="20897400">
              <a:off x="231840" y="1294920"/>
              <a:ext cx="2971800" cy="60984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rot="20897400">
              <a:off x="228600" y="133344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other example</a:t>
              </a:r>
              <a:endParaRPr b="0" lang="en-US" sz="2800" spc="-1" strike="noStrike">
                <a:solidFill>
                  <a:srgbClr val="000000"/>
                </a:solidFill>
                <a:latin typeface="Times New Roman"/>
              </a:endParaRPr>
            </a:p>
          </p:txBody>
        </p:sp>
      </p:grpSp>
    </p:spTree>
  </p:cSld>
  <p:transition>
    <p:pull dir="l"/>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1895"/>
                                        </p:tgtEl>
                                        <p:attrNameLst>
                                          <p:attrName>style.visibility</p:attrName>
                                        </p:attrNameLst>
                                      </p:cBhvr>
                                      <p:to>
                                        <p:strVal val="visible"/>
                                      </p:to>
                                    </p:set>
                                    <p:animEffect filter="dissolve" transition="in">
                                      <p:cBhvr additive="repl">
                                        <p:cTn id="429" dur="500"/>
                                        <p:tgtEl>
                                          <p:spTgt spid="1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grpSp>
        <p:nvGrpSpPr>
          <p:cNvPr id="1899" name=""/>
          <p:cNvGrpSpPr/>
          <p:nvPr/>
        </p:nvGrpSpPr>
        <p:grpSpPr>
          <a:xfrm>
            <a:off x="380880" y="4191120"/>
            <a:ext cx="2057400" cy="1066320"/>
            <a:chOff x="380880" y="4191120"/>
            <a:chExt cx="2057400" cy="1066320"/>
          </a:xfrm>
        </p:grpSpPr>
        <p:sp>
          <p:nvSpPr>
            <p:cNvPr id="1900" name=""/>
            <p:cNvSpPr/>
            <p:nvPr/>
          </p:nvSpPr>
          <p:spPr>
            <a:xfrm>
              <a:off x="380880" y="4191120"/>
              <a:ext cx="1981440" cy="152280"/>
            </a:xfrm>
            <a:custGeom>
              <a:avLst/>
              <a:gdLst/>
              <a:ahLst/>
              <a:rect l="l" t="t" r="r" b="b"/>
              <a:pathLst>
                <a:path w="720" h="104">
                  <a:moveTo>
                    <a:pt x="0" y="56"/>
                  </a:moveTo>
                  <a:cubicBezTo>
                    <a:pt x="24" y="32"/>
                    <a:pt x="48" y="8"/>
                    <a:pt x="96" y="8"/>
                  </a:cubicBezTo>
                  <a:cubicBezTo>
                    <a:pt x="144" y="8"/>
                    <a:pt x="216" y="56"/>
                    <a:pt x="288" y="56"/>
                  </a:cubicBezTo>
                  <a:cubicBezTo>
                    <a:pt x="360" y="56"/>
                    <a:pt x="456" y="0"/>
                    <a:pt x="528" y="8"/>
                  </a:cubicBezTo>
                  <a:cubicBezTo>
                    <a:pt x="600" y="16"/>
                    <a:pt x="696" y="88"/>
                    <a:pt x="720" y="1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1" name=""/>
            <p:cNvGrpSpPr/>
            <p:nvPr/>
          </p:nvGrpSpPr>
          <p:grpSpPr>
            <a:xfrm>
              <a:off x="380880" y="4240080"/>
              <a:ext cx="2057400" cy="1017360"/>
              <a:chOff x="380880" y="4240080"/>
              <a:chExt cx="2057400" cy="1017360"/>
            </a:xfrm>
          </p:grpSpPr>
          <p:sp>
            <p:nvSpPr>
              <p:cNvPr id="1902" name=""/>
              <p:cNvSpPr/>
              <p:nvPr/>
            </p:nvSpPr>
            <p:spPr>
              <a:xfrm>
                <a:off x="380880" y="4240080"/>
                <a:ext cx="2057400" cy="1017360"/>
              </a:xfrm>
              <a:prstGeom prst="rect">
                <a:avLst/>
              </a:prstGeom>
              <a:solidFill>
                <a:srgbClr val="33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09480" y="4419000"/>
                <a:ext cx="1752840" cy="152280"/>
              </a:xfrm>
              <a:custGeom>
                <a:avLst/>
                <a:gdLst/>
                <a:ahLst/>
                <a:rect l="l" t="t" r="r" b="b"/>
                <a:pathLst>
                  <a:path w="720" h="104">
                    <a:moveTo>
                      <a:pt x="0" y="56"/>
                    </a:moveTo>
                    <a:cubicBezTo>
                      <a:pt x="24" y="32"/>
                      <a:pt x="48" y="8"/>
                      <a:pt x="96" y="8"/>
                    </a:cubicBezTo>
                    <a:cubicBezTo>
                      <a:pt x="144" y="8"/>
                      <a:pt x="216" y="56"/>
                      <a:pt x="288" y="56"/>
                    </a:cubicBezTo>
                    <a:cubicBezTo>
                      <a:pt x="360" y="56"/>
                      <a:pt x="456" y="0"/>
                      <a:pt x="528" y="8"/>
                    </a:cubicBezTo>
                    <a:cubicBezTo>
                      <a:pt x="600" y="16"/>
                      <a:pt x="696" y="88"/>
                      <a:pt x="720" y="104"/>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04" name=""/>
          <p:cNvSpPr/>
          <p:nvPr/>
        </p:nvSpPr>
        <p:spPr>
          <a:xfrm>
            <a:off x="3352680" y="3733920"/>
            <a:ext cx="5359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Question: total distance fallen?</a:t>
            </a:r>
            <a:r>
              <a:rPr b="0" lang="en-US" sz="3200" spc="-1" strike="noStrike">
                <a:solidFill>
                  <a:srgbClr val="3333cc"/>
                </a:solidFill>
                <a:latin typeface="Comic Sans MS"/>
              </a:rPr>
              <a:t> </a:t>
            </a:r>
            <a:r>
              <a:rPr b="0" lang="en-US" sz="2400" spc="-1" strike="noStrike">
                <a:solidFill>
                  <a:srgbClr val="3333cc"/>
                </a:solidFill>
                <a:latin typeface="Comic Sans MS"/>
              </a:rPr>
              <a:t>(difference between where it started and where it ends)</a:t>
            </a:r>
            <a:endParaRPr b="0" lang="en-US" sz="2400" spc="-1" strike="noStrike">
              <a:solidFill>
                <a:srgbClr val="000000"/>
              </a:solidFill>
              <a:latin typeface="Times New Roman"/>
            </a:endParaRPr>
          </a:p>
        </p:txBody>
      </p:sp>
      <p:sp>
        <p:nvSpPr>
          <p:cNvPr id="1905" name=""/>
          <p:cNvSpPr/>
          <p:nvPr/>
        </p:nvSpPr>
        <p:spPr>
          <a:xfrm>
            <a:off x="1905120" y="1371600"/>
            <a:ext cx="6959520" cy="1068840"/>
          </a:xfrm>
          <a:prstGeom prst="rect">
            <a:avLst/>
          </a:prstGeom>
          <a:noFill/>
          <a:ln w="0">
            <a:noFill/>
          </a:ln>
        </p:spPr>
        <p:style>
          <a:lnRef idx="0"/>
          <a:fillRef idx="0"/>
          <a:effectRef idx="0"/>
          <a:fontRef idx="minor"/>
        </p:style>
        <p:txBody>
          <a:bodyPr lIns="90000" rIns="90000" tIns="46800" bIns="46800" anchor="t">
            <a:spAutoFit/>
          </a:bodyPr>
          <a:p>
            <a:pPr marL="1255680" indent="-1255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Given: engine starts at 12,286 ft </a:t>
            </a:r>
            <a:r>
              <a:rPr b="0" lang="en-US" sz="3200" spc="-1" strike="noStrike">
                <a:solidFill>
                  <a:srgbClr val="333399"/>
                </a:solidFill>
                <a:latin typeface="Comic Sans MS"/>
              </a:rPr>
              <a:t>	</a:t>
            </a:r>
            <a:r>
              <a:rPr b="0" lang="en-US" sz="3200" spc="-1" strike="noStrike">
                <a:solidFill>
                  <a:srgbClr val="333399"/>
                </a:solidFill>
                <a:latin typeface="Comic Sans MS"/>
              </a:rPr>
              <a:t>above ground  </a:t>
            </a:r>
            <a:endParaRPr b="0" lang="en-US" sz="3200" spc="-1" strike="noStrike">
              <a:solidFill>
                <a:srgbClr val="000000"/>
              </a:solidFill>
              <a:latin typeface="Times New Roman"/>
            </a:endParaRPr>
          </a:p>
        </p:txBody>
      </p:sp>
      <p:sp>
        <p:nvSpPr>
          <p:cNvPr id="1906" name=""/>
          <p:cNvSpPr/>
          <p:nvPr/>
        </p:nvSpPr>
        <p:spPr>
          <a:xfrm>
            <a:off x="3124080" y="2487600"/>
            <a:ext cx="5356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falls additional 5,678 ft below sea level</a:t>
            </a:r>
            <a:endParaRPr b="0" lang="en-US" sz="3200" spc="-1" strike="noStrike">
              <a:solidFill>
                <a:srgbClr val="000000"/>
              </a:solidFill>
              <a:latin typeface="Times New Roman"/>
            </a:endParaRPr>
          </a:p>
        </p:txBody>
      </p:sp>
      <p:sp>
        <p:nvSpPr>
          <p:cNvPr id="1907"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grpSp>
        <p:nvGrpSpPr>
          <p:cNvPr id="1908" name=""/>
          <p:cNvGrpSpPr/>
          <p:nvPr/>
        </p:nvGrpSpPr>
        <p:grpSpPr>
          <a:xfrm>
            <a:off x="380880" y="1828800"/>
            <a:ext cx="1676520" cy="2411280"/>
            <a:chOff x="380880" y="1828800"/>
            <a:chExt cx="1676520" cy="2411280"/>
          </a:xfrm>
        </p:grpSpPr>
        <p:sp>
          <p:nvSpPr>
            <p:cNvPr id="1909" name=""/>
            <p:cNvSpPr/>
            <p:nvPr/>
          </p:nvSpPr>
          <p:spPr>
            <a:xfrm>
              <a:off x="838080" y="1828800"/>
              <a:ext cx="0" cy="2411280"/>
            </a:xfrm>
            <a:prstGeom prst="line">
              <a:avLst/>
            </a:prstGeom>
            <a:ln w="38160">
              <a:solidFill>
                <a:srgbClr val="66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380880" y="23623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2,286ft</a:t>
              </a:r>
              <a:endParaRPr b="0" lang="en-US" sz="2400" spc="-1" strike="noStrike">
                <a:solidFill>
                  <a:srgbClr val="000000"/>
                </a:solidFill>
                <a:latin typeface="Times New Roman"/>
              </a:endParaRPr>
            </a:p>
          </p:txBody>
        </p:sp>
      </p:grpSp>
      <p:grpSp>
        <p:nvGrpSpPr>
          <p:cNvPr id="1911" name=""/>
          <p:cNvGrpSpPr/>
          <p:nvPr/>
        </p:nvGrpSpPr>
        <p:grpSpPr>
          <a:xfrm>
            <a:off x="457200" y="4240080"/>
            <a:ext cx="1676520" cy="1017720"/>
            <a:chOff x="457200" y="4240080"/>
            <a:chExt cx="1676520" cy="1017720"/>
          </a:xfrm>
        </p:grpSpPr>
        <p:sp>
          <p:nvSpPr>
            <p:cNvPr id="1912" name=""/>
            <p:cNvSpPr/>
            <p:nvPr/>
          </p:nvSpPr>
          <p:spPr>
            <a:xfrm>
              <a:off x="838080" y="4240080"/>
              <a:ext cx="0" cy="101772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457200" y="4495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5,678ft</a:t>
              </a:r>
              <a:endParaRPr b="0" lang="en-US" sz="2400" spc="-1" strike="noStrike">
                <a:solidFill>
                  <a:srgbClr val="000000"/>
                </a:solidFill>
                <a:latin typeface="Times New Roman"/>
              </a:endParaRPr>
            </a:p>
          </p:txBody>
        </p:sp>
      </p:grpSp>
      <p:grpSp>
        <p:nvGrpSpPr>
          <p:cNvPr id="1914" name=""/>
          <p:cNvGrpSpPr/>
          <p:nvPr/>
        </p:nvGrpSpPr>
        <p:grpSpPr>
          <a:xfrm>
            <a:off x="1541520" y="1828800"/>
            <a:ext cx="744480" cy="3429000"/>
            <a:chOff x="1541520" y="1828800"/>
            <a:chExt cx="744480" cy="3429000"/>
          </a:xfrm>
        </p:grpSpPr>
        <p:sp>
          <p:nvSpPr>
            <p:cNvPr id="1915" name=""/>
            <p:cNvSpPr/>
            <p:nvPr/>
          </p:nvSpPr>
          <p:spPr>
            <a:xfrm>
              <a:off x="1905120" y="1828800"/>
              <a:ext cx="0" cy="3429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1541520" y="3062160"/>
              <a:ext cx="74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grpSp>
      <p:sp>
        <p:nvSpPr>
          <p:cNvPr id="1917" name=""/>
          <p:cNvSpPr/>
          <p:nvPr/>
        </p:nvSpPr>
        <p:spPr>
          <a:xfrm>
            <a:off x="1066680" y="5492880"/>
            <a:ext cx="6858000" cy="947160"/>
          </a:xfrm>
          <a:prstGeom prst="rect">
            <a:avLst/>
          </a:prstGeom>
          <a:solidFill>
            <a:srgbClr val="00cc66"/>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1828800"/>
                <a:tab algn="l" pos="3657600"/>
                <a:tab algn="l" pos="5486400"/>
                <a:tab algn="l" pos="7315200"/>
                <a:tab algn="l" pos="9144000"/>
              </a:tabLst>
            </a:pPr>
            <a:r>
              <a:rPr b="1" lang="en-US" sz="2800" spc="-1" strike="noStrike">
                <a:solidFill>
                  <a:srgbClr val="333399"/>
                </a:solidFill>
                <a:latin typeface="Comic Sans MS"/>
              </a:rPr>
              <a:t>Analysis:</a:t>
            </a:r>
            <a:r>
              <a:rPr b="1" lang="en-US" sz="2800" spc="-1" strike="noStrike">
                <a:solidFill>
                  <a:srgbClr val="000000"/>
                </a:solidFill>
                <a:latin typeface="Comic Sans MS"/>
              </a:rPr>
              <a:t>  total distance is larger - </a:t>
            </a:r>
            <a:r>
              <a:rPr b="1" lang="en-US" sz="2800" spc="-1" strike="noStrike">
                <a:solidFill>
                  <a:srgbClr val="000000"/>
                </a:solidFill>
                <a:latin typeface="Comic Sans MS"/>
              </a:rPr>
              <a:t>	</a:t>
            </a:r>
            <a:r>
              <a:rPr b="1" lang="en-US" sz="2800" spc="-1" strike="noStrike">
                <a:solidFill>
                  <a:srgbClr val="000000"/>
                </a:solidFill>
                <a:latin typeface="Comic Sans MS"/>
              </a:rPr>
              <a:t>therefore, add</a:t>
            </a:r>
            <a:endParaRPr b="0" lang="en-US" sz="2800" spc="-1" strike="noStrike">
              <a:solidFill>
                <a:srgbClr val="000000"/>
              </a:solidFill>
              <a:latin typeface="Times New Roman"/>
            </a:endParaRPr>
          </a:p>
        </p:txBody>
      </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905"/>
                                        </p:tgtEl>
                                        <p:attrNameLst>
                                          <p:attrName>style.visibility</p:attrName>
                                        </p:attrNameLst>
                                      </p:cBhvr>
                                      <p:to>
                                        <p:strVal val="visible"/>
                                      </p:to>
                                    </p:set>
                                    <p:animEffect filter="wipe(left)" transition="in">
                                      <p:cBhvr additive="repl">
                                        <p:cTn id="436" dur="500"/>
                                        <p:tgtEl>
                                          <p:spTgt spid="190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1">
                                  <p:stCondLst>
                                    <p:cond delay="0"/>
                                  </p:stCondLst>
                                  <p:childTnLst>
                                    <p:set>
                                      <p:cBhvr>
                                        <p:cTn id="440" dur="1" fill="hold">
                                          <p:stCondLst>
                                            <p:cond delay="0"/>
                                          </p:stCondLst>
                                        </p:cTn>
                                        <p:tgtEl>
                                          <p:spTgt spid="1908"/>
                                        </p:tgtEl>
                                        <p:attrNameLst>
                                          <p:attrName>style.visibility</p:attrName>
                                        </p:attrNameLst>
                                      </p:cBhvr>
                                      <p:to>
                                        <p:strVal val="visible"/>
                                      </p:to>
                                    </p:set>
                                    <p:animEffect filter="wipe(up)" transition="in">
                                      <p:cBhvr additive="repl">
                                        <p:cTn id="441" dur="500"/>
                                        <p:tgtEl>
                                          <p:spTgt spid="1908"/>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906"/>
                                        </p:tgtEl>
                                        <p:attrNameLst>
                                          <p:attrName>style.visibility</p:attrName>
                                        </p:attrNameLst>
                                      </p:cBhvr>
                                      <p:to>
                                        <p:strVal val="visible"/>
                                      </p:to>
                                    </p:set>
                                    <p:animEffect filter="wipe(left)" transition="in">
                                      <p:cBhvr additive="repl">
                                        <p:cTn id="446" dur="500"/>
                                        <p:tgtEl>
                                          <p:spTgt spid="1906"/>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2">
                                  <p:stCondLst>
                                    <p:cond delay="0"/>
                                  </p:stCondLst>
                                  <p:childTnLst>
                                    <p:set>
                                      <p:cBhvr>
                                        <p:cTn id="450" dur="1" fill="hold">
                                          <p:stCondLst>
                                            <p:cond delay="0"/>
                                          </p:stCondLst>
                                        </p:cTn>
                                        <p:tgtEl>
                                          <p:spTgt spid="1911"/>
                                        </p:tgtEl>
                                        <p:attrNameLst>
                                          <p:attrName>style.visibility</p:attrName>
                                        </p:attrNameLst>
                                      </p:cBhvr>
                                      <p:to>
                                        <p:strVal val="visible"/>
                                      </p:to>
                                    </p:set>
                                    <p:animEffect filter="wipe(right)" transition="in">
                                      <p:cBhvr additive="repl">
                                        <p:cTn id="451" dur="500"/>
                                        <p:tgtEl>
                                          <p:spTgt spid="1911"/>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6" presetSubtype="37">
                                  <p:stCondLst>
                                    <p:cond delay="0"/>
                                  </p:stCondLst>
                                  <p:childTnLst>
                                    <p:set>
                                      <p:cBhvr>
                                        <p:cTn id="455" dur="1" fill="hold">
                                          <p:stCondLst>
                                            <p:cond delay="0"/>
                                          </p:stCondLst>
                                        </p:cTn>
                                        <p:tgtEl>
                                          <p:spTgt spid="1899"/>
                                        </p:tgtEl>
                                        <p:attrNameLst>
                                          <p:attrName>style.visibility</p:attrName>
                                        </p:attrNameLst>
                                      </p:cBhvr>
                                      <p:to>
                                        <p:strVal val="visible"/>
                                      </p:to>
                                    </p:set>
                                    <p:animEffect filter="barn(outVertical)" transition="in">
                                      <p:cBhvr additive="repl">
                                        <p:cTn id="456" dur="500"/>
                                        <p:tgtEl>
                                          <p:spTgt spid="1899"/>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1904"/>
                                        </p:tgtEl>
                                        <p:attrNameLst>
                                          <p:attrName>style.visibility</p:attrName>
                                        </p:attrNameLst>
                                      </p:cBhvr>
                                      <p:to>
                                        <p:strVal val="visible"/>
                                      </p:to>
                                    </p:set>
                                    <p:animEffect filter="wipe(left)" transition="in">
                                      <p:cBhvr additive="repl">
                                        <p:cTn id="461" dur="500"/>
                                        <p:tgtEl>
                                          <p:spTgt spid="1904"/>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914"/>
                                        </p:tgtEl>
                                        <p:attrNameLst>
                                          <p:attrName>style.visibility</p:attrName>
                                        </p:attrNameLst>
                                      </p:cBhvr>
                                      <p:to>
                                        <p:strVal val="visible"/>
                                      </p:to>
                                    </p:set>
                                    <p:animEffect filter="wipe(up)" transition="in">
                                      <p:cBhvr additive="repl">
                                        <p:cTn id="466" dur="500"/>
                                        <p:tgtEl>
                                          <p:spTgt spid="1914"/>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1917"/>
                                        </p:tgtEl>
                                        <p:attrNameLst>
                                          <p:attrName>style.visibility</p:attrName>
                                        </p:attrNameLst>
                                      </p:cBhvr>
                                      <p:to>
                                        <p:strVal val="visible"/>
                                      </p:to>
                                    </p:set>
                                    <p:animEffect filter="dissolve" transition="in">
                                      <p:cBhvr additive="repl">
                                        <p:cTn id="471" dur="500"/>
                                        <p:tgtEl>
                                          <p:spTgt spid="19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pic>
        <p:nvPicPr>
          <p:cNvPr id="1918" name="" descr=""/>
          <p:cNvPicPr/>
          <p:nvPr/>
        </p:nvPicPr>
        <p:blipFill>
          <a:blip r:embed="rId1"/>
          <a:stretch/>
        </p:blipFill>
        <p:spPr>
          <a:xfrm>
            <a:off x="609480" y="3429000"/>
            <a:ext cx="1943280" cy="2743200"/>
          </a:xfrm>
          <a:prstGeom prst="rect">
            <a:avLst/>
          </a:prstGeom>
          <a:ln w="0">
            <a:noFill/>
          </a:ln>
        </p:spPr>
      </p:pic>
      <p:sp>
        <p:nvSpPr>
          <p:cNvPr id="1919" name=""/>
          <p:cNvSpPr/>
          <p:nvPr/>
        </p:nvSpPr>
        <p:spPr>
          <a:xfrm>
            <a:off x="1373400" y="1600200"/>
            <a:ext cx="6130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12,286 ft</a:t>
            </a:r>
            <a:r>
              <a:rPr b="0" lang="en-US" sz="4400" spc="-1" strike="noStrike">
                <a:solidFill>
                  <a:srgbClr val="000000"/>
                </a:solidFill>
                <a:latin typeface="Comic Sans MS"/>
              </a:rPr>
              <a:t>  – </a:t>
            </a:r>
            <a:r>
              <a:rPr b="0" lang="en-US" sz="4400" spc="-1" strike="noStrike">
                <a:solidFill>
                  <a:srgbClr val="006600"/>
                </a:solidFill>
                <a:latin typeface="Comic Sans MS"/>
              </a:rPr>
              <a:t>(-5,678 ft)</a:t>
            </a:r>
            <a:r>
              <a:rPr b="0" lang="en-US" sz="4400" spc="-1" strike="noStrike">
                <a:solidFill>
                  <a:srgbClr val="000000"/>
                </a:solidFill>
                <a:latin typeface="Comic Sans MS"/>
              </a:rPr>
              <a:t> =</a:t>
            </a:r>
            <a:endParaRPr b="0" lang="en-US" sz="4400" spc="-1" strike="noStrike">
              <a:solidFill>
                <a:srgbClr val="000000"/>
              </a:solidFill>
              <a:latin typeface="Times New Roman"/>
            </a:endParaRPr>
          </a:p>
        </p:txBody>
      </p:sp>
      <p:sp>
        <p:nvSpPr>
          <p:cNvPr id="1920" name=""/>
          <p:cNvSpPr/>
          <p:nvPr/>
        </p:nvSpPr>
        <p:spPr>
          <a:xfrm>
            <a:off x="1344600" y="2362320"/>
            <a:ext cx="6234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12,286 ft</a:t>
            </a:r>
            <a:r>
              <a:rPr b="0" lang="en-US" sz="4400" spc="-1" strike="noStrike">
                <a:solidFill>
                  <a:srgbClr val="000000"/>
                </a:solidFill>
                <a:latin typeface="Comic Sans MS"/>
              </a:rPr>
              <a:t>  +   </a:t>
            </a:r>
            <a:r>
              <a:rPr b="0" lang="en-US" sz="4400" spc="-1" strike="noStrike">
                <a:solidFill>
                  <a:srgbClr val="006600"/>
                </a:solidFill>
                <a:latin typeface="Comic Sans MS"/>
              </a:rPr>
              <a:t>5,678 ft</a:t>
            </a:r>
            <a:r>
              <a:rPr b="0" lang="en-US" sz="4400" spc="-1" strike="noStrike">
                <a:solidFill>
                  <a:srgbClr val="00cc99"/>
                </a:solidFill>
                <a:latin typeface="Comic Sans MS"/>
              </a:rPr>
              <a:t>   </a:t>
            </a:r>
            <a:r>
              <a:rPr b="0" lang="en-US" sz="4400" spc="-1" strike="noStrike">
                <a:solidFill>
                  <a:srgbClr val="000000"/>
                </a:solidFill>
                <a:latin typeface="Comic Sans MS"/>
              </a:rPr>
              <a:t>=</a:t>
            </a:r>
            <a:endParaRPr b="0" lang="en-US" sz="4400" spc="-1" strike="noStrike">
              <a:solidFill>
                <a:srgbClr val="000000"/>
              </a:solidFill>
              <a:latin typeface="Times New Roman"/>
            </a:endParaRPr>
          </a:p>
        </p:txBody>
      </p:sp>
      <p:sp>
        <p:nvSpPr>
          <p:cNvPr id="1921" name=""/>
          <p:cNvSpPr/>
          <p:nvPr/>
        </p:nvSpPr>
        <p:spPr>
          <a:xfrm>
            <a:off x="5184360" y="3352680"/>
            <a:ext cx="2704320" cy="764280"/>
          </a:xfrm>
          <a:prstGeom prst="rect">
            <a:avLst/>
          </a:prstGeom>
          <a:gradFill rotWithShape="0">
            <a:gsLst>
              <a:gs pos="0">
                <a:srgbClr val="00cc99"/>
              </a:gs>
              <a:gs pos="100000">
                <a:srgbClr val="ffff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17,964 ft.</a:t>
            </a:r>
            <a:endParaRPr b="0" lang="en-US" sz="4400" spc="-1" strike="noStrike">
              <a:solidFill>
                <a:srgbClr val="000000"/>
              </a:solidFill>
              <a:latin typeface="Times New Roman"/>
            </a:endParaRPr>
          </a:p>
        </p:txBody>
      </p:sp>
      <p:sp>
        <p:nvSpPr>
          <p:cNvPr id="1922" name=""/>
          <p:cNvSpPr/>
          <p:nvPr/>
        </p:nvSpPr>
        <p:spPr>
          <a:xfrm>
            <a:off x="3352680" y="4724280"/>
            <a:ext cx="495324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heck answer</a:t>
            </a:r>
            <a:br>
              <a:rPr sz="3600"/>
            </a:br>
            <a:r>
              <a:rPr b="0" lang="en-US" sz="3600" spc="-1" strike="noStrike">
                <a:solidFill>
                  <a:srgbClr val="3333cc"/>
                </a:solidFill>
                <a:latin typeface="Comic Sans MS"/>
              </a:rPr>
              <a:t>Distance is reasonable!</a:t>
            </a:r>
            <a:endParaRPr b="0" lang="en-US" sz="3600" spc="-1" strike="noStrike">
              <a:solidFill>
                <a:srgbClr val="000000"/>
              </a:solidFill>
              <a:latin typeface="Times New Roman"/>
            </a:endParaRPr>
          </a:p>
        </p:txBody>
      </p:sp>
      <p:sp>
        <p:nvSpPr>
          <p:cNvPr id="1923"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Tree>
  </p:cSld>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919"/>
                                        </p:tgtEl>
                                        <p:attrNameLst>
                                          <p:attrName>style.visibility</p:attrName>
                                        </p:attrNameLst>
                                      </p:cBhvr>
                                      <p:to>
                                        <p:strVal val="visible"/>
                                      </p:to>
                                    </p:set>
                                    <p:animEffect filter="dissolve" transition="in">
                                      <p:cBhvr additive="repl">
                                        <p:cTn id="478" dur="500"/>
                                        <p:tgtEl>
                                          <p:spTgt spid="1919"/>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920"/>
                                        </p:tgtEl>
                                        <p:attrNameLst>
                                          <p:attrName>style.visibility</p:attrName>
                                        </p:attrNameLst>
                                      </p:cBhvr>
                                      <p:to>
                                        <p:strVal val="visible"/>
                                      </p:to>
                                    </p:set>
                                    <p:animEffect filter="dissolve" transition="in">
                                      <p:cBhvr additive="repl">
                                        <p:cTn id="483" dur="500"/>
                                        <p:tgtEl>
                                          <p:spTgt spid="1920"/>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3" presetSubtype="16">
                                  <p:stCondLst>
                                    <p:cond delay="0"/>
                                  </p:stCondLst>
                                  <p:childTnLst>
                                    <p:set>
                                      <p:cBhvr>
                                        <p:cTn id="487" dur="1" fill="hold">
                                          <p:stCondLst>
                                            <p:cond delay="0"/>
                                          </p:stCondLst>
                                        </p:cTn>
                                        <p:tgtEl>
                                          <p:spTgt spid="1921"/>
                                        </p:tgtEl>
                                        <p:attrNameLst>
                                          <p:attrName>style.visibility</p:attrName>
                                        </p:attrNameLst>
                                      </p:cBhvr>
                                      <p:to>
                                        <p:strVal val="visible"/>
                                      </p:to>
                                    </p:set>
                                    <p:anim calcmode="lin" valueType="num">
                                      <p:cBhvr additive="repl">
                                        <p:cTn id="488" dur="500" fill="hold"/>
                                        <p:tgtEl>
                                          <p:spTgt spid="1921"/>
                                        </p:tgtEl>
                                        <p:attrNameLst>
                                          <p:attrName>ppt_w</p:attrName>
                                        </p:attrNameLst>
                                      </p:cBhvr>
                                      <p:tavLst>
                                        <p:tav tm="0">
                                          <p:val>
                                            <p:fltVal val="0"/>
                                          </p:val>
                                        </p:tav>
                                        <p:tav tm="100000">
                                          <p:val>
                                            <p:strVal val="#ppt_w"/>
                                          </p:val>
                                        </p:tav>
                                      </p:tavLst>
                                    </p:anim>
                                    <p:anim calcmode="lin" valueType="num">
                                      <p:cBhvr additive="repl">
                                        <p:cTn id="489" dur="500" fill="hold"/>
                                        <p:tgtEl>
                                          <p:spTgt spid="1921"/>
                                        </p:tgtEl>
                                        <p:attrNameLst>
                                          <p:attrName>ppt_h</p:attrName>
                                        </p:attrNameLst>
                                      </p:cBhvr>
                                      <p:tavLst>
                                        <p:tav tm="0">
                                          <p:val>
                                            <p:fltVal val="0"/>
                                          </p:val>
                                        </p:tav>
                                        <p:tav tm="100000">
                                          <p:val>
                                            <p:strVal val="#ppt_h"/>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3" presetSubtype="16">
                                  <p:stCondLst>
                                    <p:cond delay="0"/>
                                  </p:stCondLst>
                                  <p:childTnLst>
                                    <p:set>
                                      <p:cBhvr>
                                        <p:cTn id="493" dur="1" fill="hold">
                                          <p:stCondLst>
                                            <p:cond delay="0"/>
                                          </p:stCondLst>
                                        </p:cTn>
                                        <p:tgtEl>
                                          <p:spTgt spid="1922"/>
                                        </p:tgtEl>
                                        <p:attrNameLst>
                                          <p:attrName>style.visibility</p:attrName>
                                        </p:attrNameLst>
                                      </p:cBhvr>
                                      <p:to>
                                        <p:strVal val="visible"/>
                                      </p:to>
                                    </p:set>
                                    <p:anim calcmode="lin" valueType="num">
                                      <p:cBhvr additive="repl">
                                        <p:cTn id="494" dur="500" fill="hold"/>
                                        <p:tgtEl>
                                          <p:spTgt spid="1922"/>
                                        </p:tgtEl>
                                        <p:attrNameLst>
                                          <p:attrName>ppt_w</p:attrName>
                                        </p:attrNameLst>
                                      </p:cBhvr>
                                      <p:tavLst>
                                        <p:tav tm="0">
                                          <p:val>
                                            <p:fltVal val="0"/>
                                          </p:val>
                                        </p:tav>
                                        <p:tav tm="100000">
                                          <p:val>
                                            <p:strVal val="#ppt_w"/>
                                          </p:val>
                                        </p:tav>
                                      </p:tavLst>
                                    </p:anim>
                                    <p:anim calcmode="lin" valueType="num">
                                      <p:cBhvr additive="repl">
                                        <p:cTn id="495" dur="500" fill="hold"/>
                                        <p:tgtEl>
                                          <p:spTgt spid="19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24"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
        <p:nvSpPr>
          <p:cNvPr id="1925" name=""/>
          <p:cNvSpPr/>
          <p:nvPr/>
        </p:nvSpPr>
        <p:spPr>
          <a:xfrm>
            <a:off x="533520" y="1990800"/>
            <a:ext cx="7711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 internet business has lost $456,897 in the first quarter of the year.  The stockholders have been promised a profit of $950,000 by the end of the year.  How much money must the company make to keep the promise to the stockholders?</a:t>
            </a:r>
            <a:endParaRPr b="0" lang="en-US" sz="3600" spc="-1" strike="noStrike">
              <a:solidFill>
                <a:srgbClr val="000000"/>
              </a:solidFill>
              <a:latin typeface="Times New Roman"/>
            </a:endParaRPr>
          </a:p>
        </p:txBody>
      </p:sp>
      <p:sp>
        <p:nvSpPr>
          <p:cNvPr id="1926" name=""/>
          <p:cNvSpPr/>
          <p:nvPr/>
        </p:nvSpPr>
        <p:spPr>
          <a:xfrm>
            <a:off x="533520" y="1990800"/>
            <a:ext cx="7711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 internet business has </a:t>
            </a:r>
            <a:r>
              <a:rPr b="0" lang="en-US" sz="3600" spc="-1" strike="noStrike">
                <a:solidFill>
                  <a:srgbClr val="6600cc"/>
                </a:solidFill>
                <a:latin typeface="Comic Sans MS"/>
              </a:rPr>
              <a:t>lost $456,897</a:t>
            </a:r>
            <a:r>
              <a:rPr b="0" lang="en-US" sz="3600" spc="-1" strike="noStrike">
                <a:solidFill>
                  <a:srgbClr val="000000"/>
                </a:solidFill>
                <a:latin typeface="Comic Sans MS"/>
              </a:rPr>
              <a:t> in the first quarter of the year.  The stockholders have been promised a </a:t>
            </a:r>
            <a:r>
              <a:rPr b="0" lang="en-US" sz="3600" spc="-1" strike="noStrike">
                <a:solidFill>
                  <a:srgbClr val="6600cc"/>
                </a:solidFill>
                <a:latin typeface="Comic Sans MS"/>
              </a:rPr>
              <a:t>profit of $950,000</a:t>
            </a:r>
            <a:r>
              <a:rPr b="0" lang="en-US" sz="3600" spc="-1" strike="noStrike">
                <a:solidFill>
                  <a:srgbClr val="000000"/>
                </a:solidFill>
                <a:latin typeface="Comic Sans MS"/>
              </a:rPr>
              <a:t> by the end of the year.  </a:t>
            </a:r>
            <a:r>
              <a:rPr b="0" lang="en-US" sz="3600" spc="-1" strike="noStrike">
                <a:solidFill>
                  <a:srgbClr val="006600"/>
                </a:solidFill>
                <a:latin typeface="Comic Sans MS"/>
              </a:rPr>
              <a:t>How much money must the company make to keep the promise to the stockholders?</a:t>
            </a:r>
            <a:endParaRPr b="0" lang="en-US" sz="3600" spc="-1" strike="noStrike">
              <a:solidFill>
                <a:srgbClr val="000000"/>
              </a:solidFill>
              <a:latin typeface="Times New Roman"/>
            </a:endParaRPr>
          </a:p>
        </p:txBody>
      </p:sp>
      <p:grpSp>
        <p:nvGrpSpPr>
          <p:cNvPr id="1927" name=""/>
          <p:cNvGrpSpPr/>
          <p:nvPr/>
        </p:nvGrpSpPr>
        <p:grpSpPr>
          <a:xfrm>
            <a:off x="290520" y="1105920"/>
            <a:ext cx="2701440" cy="990720"/>
            <a:chOff x="290520" y="1105920"/>
            <a:chExt cx="2701440" cy="990720"/>
          </a:xfrm>
        </p:grpSpPr>
        <p:sp>
          <p:nvSpPr>
            <p:cNvPr id="1928" name=""/>
            <p:cNvSpPr/>
            <p:nvPr/>
          </p:nvSpPr>
          <p:spPr>
            <a:xfrm rot="20897400">
              <a:off x="304560" y="1473480"/>
              <a:ext cx="2566440" cy="35532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rot="20897400">
              <a:off x="309240" y="1371240"/>
              <a:ext cx="26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other example</a:t>
              </a:r>
              <a:endParaRPr b="0" lang="en-US" sz="2400" spc="-1" strike="noStrike">
                <a:solidFill>
                  <a:srgbClr val="000000"/>
                </a:solidFill>
                <a:latin typeface="Times New Roman"/>
              </a:endParaRPr>
            </a:p>
          </p:txBody>
        </p:sp>
      </p:grpSp>
      <p:pic>
        <p:nvPicPr>
          <p:cNvPr id="1930" name="" descr=""/>
          <p:cNvPicPr/>
          <p:nvPr/>
        </p:nvPicPr>
        <p:blipFill>
          <a:blip r:embed="rId1"/>
          <a:stretch/>
        </p:blipFill>
        <p:spPr>
          <a:xfrm>
            <a:off x="6858000" y="1219320"/>
            <a:ext cx="1844640" cy="1554120"/>
          </a:xfrm>
          <a:prstGeom prst="rect">
            <a:avLst/>
          </a:prstGeom>
          <a:ln w="0">
            <a:noFill/>
          </a:ln>
        </p:spPr>
      </p:pic>
    </p:spTree>
  </p:cSld>
  <p:transition>
    <p:pull dir="l"/>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1926"/>
                                        </p:tgtEl>
                                        <p:attrNameLst>
                                          <p:attrName>style.visibility</p:attrName>
                                        </p:attrNameLst>
                                      </p:cBhvr>
                                      <p:to>
                                        <p:strVal val="visible"/>
                                      </p:to>
                                    </p:set>
                                    <p:animEffect filter="dissolve" transition="in">
                                      <p:cBhvr additive="repl">
                                        <p:cTn id="502" dur="500"/>
                                        <p:tgtEl>
                                          <p:spTgt spid="1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31"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
        <p:nvSpPr>
          <p:cNvPr id="1932" name=""/>
          <p:cNvSpPr/>
          <p:nvPr/>
        </p:nvSpPr>
        <p:spPr>
          <a:xfrm>
            <a:off x="609480" y="16002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Given:  lost $456,897 </a:t>
            </a:r>
            <a:endParaRPr b="0" lang="en-US" sz="3600" spc="-1" strike="noStrike">
              <a:solidFill>
                <a:srgbClr val="000000"/>
              </a:solidFill>
              <a:latin typeface="Times New Roman"/>
            </a:endParaRPr>
          </a:p>
        </p:txBody>
      </p:sp>
      <p:grpSp>
        <p:nvGrpSpPr>
          <p:cNvPr id="1933" name=""/>
          <p:cNvGrpSpPr/>
          <p:nvPr/>
        </p:nvGrpSpPr>
        <p:grpSpPr>
          <a:xfrm>
            <a:off x="1396080" y="4938840"/>
            <a:ext cx="5996880" cy="1082520"/>
            <a:chOff x="1396080" y="4938840"/>
            <a:chExt cx="5996880" cy="1082520"/>
          </a:xfrm>
        </p:grpSpPr>
        <p:sp>
          <p:nvSpPr>
            <p:cNvPr id="1934" name=""/>
            <p:cNvSpPr/>
            <p:nvPr/>
          </p:nvSpPr>
          <p:spPr>
            <a:xfrm>
              <a:off x="1600200" y="5257800"/>
              <a:ext cx="5562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5638680" y="49388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6858000" y="49388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1981080" y="49388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3200400" y="49388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4419720" y="49388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585160" y="5500800"/>
              <a:ext cx="132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00K</a:t>
              </a:r>
              <a:endParaRPr b="0" lang="en-US" sz="2800" spc="-1" strike="noStrike">
                <a:solidFill>
                  <a:srgbClr val="000000"/>
                </a:solidFill>
                <a:latin typeface="Times New Roman"/>
              </a:endParaRPr>
            </a:p>
          </p:txBody>
        </p:sp>
        <p:sp>
          <p:nvSpPr>
            <p:cNvPr id="1941" name=""/>
            <p:cNvSpPr/>
            <p:nvPr/>
          </p:nvSpPr>
          <p:spPr>
            <a:xfrm>
              <a:off x="4209480" y="5500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0</a:t>
              </a:r>
              <a:endParaRPr b="0" lang="en-US" sz="2800" spc="-1" strike="noStrike">
                <a:solidFill>
                  <a:srgbClr val="000000"/>
                </a:solidFill>
                <a:latin typeface="Times New Roman"/>
              </a:endParaRPr>
            </a:p>
          </p:txBody>
        </p:sp>
        <p:sp>
          <p:nvSpPr>
            <p:cNvPr id="1942" name=""/>
            <p:cNvSpPr/>
            <p:nvPr/>
          </p:nvSpPr>
          <p:spPr>
            <a:xfrm>
              <a:off x="6485400" y="5500800"/>
              <a:ext cx="90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1M</a:t>
              </a:r>
              <a:endParaRPr b="0" lang="en-US" sz="2800" spc="-1" strike="noStrike">
                <a:solidFill>
                  <a:srgbClr val="000000"/>
                </a:solidFill>
                <a:latin typeface="Times New Roman"/>
              </a:endParaRPr>
            </a:p>
          </p:txBody>
        </p:sp>
        <p:sp>
          <p:nvSpPr>
            <p:cNvPr id="1943" name=""/>
            <p:cNvSpPr/>
            <p:nvPr/>
          </p:nvSpPr>
          <p:spPr>
            <a:xfrm>
              <a:off x="5083200" y="5500800"/>
              <a:ext cx="121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500K</a:t>
              </a:r>
              <a:endParaRPr b="0" lang="en-US" sz="2800" spc="-1" strike="noStrike">
                <a:solidFill>
                  <a:srgbClr val="000000"/>
                </a:solidFill>
                <a:latin typeface="Times New Roman"/>
              </a:endParaRPr>
            </a:p>
          </p:txBody>
        </p:sp>
        <p:sp>
          <p:nvSpPr>
            <p:cNvPr id="1944" name=""/>
            <p:cNvSpPr/>
            <p:nvPr/>
          </p:nvSpPr>
          <p:spPr>
            <a:xfrm>
              <a:off x="1396080" y="5500800"/>
              <a:ext cx="102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M</a:t>
              </a:r>
              <a:endParaRPr b="0" lang="en-US" sz="2800" spc="-1" strike="noStrike">
                <a:solidFill>
                  <a:srgbClr val="000000"/>
                </a:solidFill>
                <a:latin typeface="Times New Roman"/>
              </a:endParaRPr>
            </a:p>
          </p:txBody>
        </p:sp>
      </p:grpSp>
      <p:sp>
        <p:nvSpPr>
          <p:cNvPr id="1945" name=""/>
          <p:cNvSpPr/>
          <p:nvPr/>
        </p:nvSpPr>
        <p:spPr>
          <a:xfrm rot="5400000">
            <a:off x="4914720" y="2476440"/>
            <a:ext cx="228600" cy="3504960"/>
          </a:xfrm>
          <a:custGeom>
            <a:avLst/>
            <a:gdLst>
              <a:gd name="textAreaLeft" fmla="*/ 146160 w 228600"/>
              <a:gd name="textAreaRight" fmla="*/ 228960 w 228600"/>
              <a:gd name="textAreaTop" fmla="*/ 91080 h 3504960"/>
              <a:gd name="textAreaBottom" fmla="*/ 3413880 h 350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609480" y="29718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omic Sans MS"/>
              </a:rPr>
              <a:t>Question:  how much is needed?</a:t>
            </a:r>
            <a:endParaRPr b="0" lang="en-US" sz="3600" spc="-1" strike="noStrike">
              <a:solidFill>
                <a:srgbClr val="000000"/>
              </a:solidFill>
              <a:latin typeface="Times New Roman"/>
            </a:endParaRPr>
          </a:p>
        </p:txBody>
      </p:sp>
      <p:grpSp>
        <p:nvGrpSpPr>
          <p:cNvPr id="1947" name=""/>
          <p:cNvGrpSpPr/>
          <p:nvPr/>
        </p:nvGrpSpPr>
        <p:grpSpPr>
          <a:xfrm>
            <a:off x="3276720" y="3429000"/>
            <a:ext cx="3504960" cy="520560"/>
            <a:chOff x="3276720" y="3429000"/>
            <a:chExt cx="3504960" cy="520560"/>
          </a:xfrm>
        </p:grpSpPr>
        <p:sp>
          <p:nvSpPr>
            <p:cNvPr id="1948" name=""/>
            <p:cNvSpPr/>
            <p:nvPr/>
          </p:nvSpPr>
          <p:spPr>
            <a:xfrm>
              <a:off x="3276720" y="3948120"/>
              <a:ext cx="3504960" cy="0"/>
            </a:xfrm>
            <a:prstGeom prst="line">
              <a:avLst/>
            </a:prstGeom>
            <a:ln w="572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4200480" y="3429000"/>
              <a:ext cx="52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grpSp>
      <p:grpSp>
        <p:nvGrpSpPr>
          <p:cNvPr id="1950" name=""/>
          <p:cNvGrpSpPr/>
          <p:nvPr/>
        </p:nvGrpSpPr>
        <p:grpSpPr>
          <a:xfrm>
            <a:off x="4419720" y="4419720"/>
            <a:ext cx="3276360" cy="459720"/>
            <a:chOff x="4419720" y="4419720"/>
            <a:chExt cx="3276360" cy="459720"/>
          </a:xfrm>
        </p:grpSpPr>
        <p:sp>
          <p:nvSpPr>
            <p:cNvPr id="1951" name=""/>
            <p:cNvSpPr/>
            <p:nvPr/>
          </p:nvSpPr>
          <p:spPr>
            <a:xfrm>
              <a:off x="4419720" y="4800600"/>
              <a:ext cx="236196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5038560" y="4419720"/>
              <a:ext cx="265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Comic Sans MS"/>
                </a:rPr>
                <a:t>promised</a:t>
              </a:r>
              <a:endParaRPr b="0" lang="en-US" sz="2400" spc="-1" strike="noStrike">
                <a:solidFill>
                  <a:srgbClr val="000000"/>
                </a:solidFill>
                <a:latin typeface="Times New Roman"/>
              </a:endParaRPr>
            </a:p>
          </p:txBody>
        </p:sp>
      </p:grpSp>
      <p:grpSp>
        <p:nvGrpSpPr>
          <p:cNvPr id="1953" name=""/>
          <p:cNvGrpSpPr/>
          <p:nvPr/>
        </p:nvGrpSpPr>
        <p:grpSpPr>
          <a:xfrm>
            <a:off x="2895480" y="4343400"/>
            <a:ext cx="1523880" cy="459720"/>
            <a:chOff x="2895480" y="4343400"/>
            <a:chExt cx="1523880" cy="459720"/>
          </a:xfrm>
        </p:grpSpPr>
        <p:sp>
          <p:nvSpPr>
            <p:cNvPr id="1954" name=""/>
            <p:cNvSpPr/>
            <p:nvPr/>
          </p:nvSpPr>
          <p:spPr>
            <a:xfrm flipH="1">
              <a:off x="3322440" y="4800600"/>
              <a:ext cx="1096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2895480" y="43434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Comic Sans MS"/>
                </a:rPr>
                <a:t>lost</a:t>
              </a:r>
              <a:endParaRPr b="0" lang="en-US" sz="2400" spc="-1" strike="noStrike">
                <a:solidFill>
                  <a:srgbClr val="000000"/>
                </a:solidFill>
                <a:latin typeface="Times New Roman"/>
              </a:endParaRPr>
            </a:p>
          </p:txBody>
        </p:sp>
      </p:grpSp>
      <p:sp>
        <p:nvSpPr>
          <p:cNvPr id="1956" name=""/>
          <p:cNvSpPr/>
          <p:nvPr/>
        </p:nvSpPr>
        <p:spPr>
          <a:xfrm>
            <a:off x="2281320" y="2241720"/>
            <a:ext cx="640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Comic Sans MS"/>
              </a:rPr>
              <a:t>profit of $950,000 promised</a:t>
            </a:r>
            <a:endParaRPr b="0" lang="en-US" sz="3600" spc="-1" strike="noStrike">
              <a:solidFill>
                <a:srgbClr val="000000"/>
              </a:solidFill>
              <a:latin typeface="Times New Roman"/>
            </a:endParaRPr>
          </a:p>
        </p:txBody>
      </p:sp>
      <p:sp>
        <p:nvSpPr>
          <p:cNvPr id="1957" name=""/>
          <p:cNvSpPr/>
          <p:nvPr/>
        </p:nvSpPr>
        <p:spPr>
          <a:xfrm>
            <a:off x="1295280" y="3581280"/>
            <a:ext cx="305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rger amount</a:t>
            </a:r>
            <a:endParaRPr b="0" lang="en-US" sz="2400" spc="-1" strike="noStrike">
              <a:solidFill>
                <a:srgbClr val="000000"/>
              </a:solidFill>
              <a:latin typeface="Times New Roman"/>
            </a:endParaRPr>
          </a:p>
        </p:txBody>
      </p:sp>
    </p:spTree>
  </p:cSld>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2" presetSubtype="8">
                                  <p:stCondLst>
                                    <p:cond delay="0"/>
                                  </p:stCondLst>
                                  <p:childTnLst>
                                    <p:set>
                                      <p:cBhvr>
                                        <p:cTn id="508" dur="1" fill="hold">
                                          <p:stCondLst>
                                            <p:cond delay="0"/>
                                          </p:stCondLst>
                                        </p:cTn>
                                        <p:tgtEl>
                                          <p:spTgt spid="1932">
                                            <p:txEl>
                                              <p:pRg st="0" end="0"/>
                                            </p:txEl>
                                          </p:spTgt>
                                        </p:tgtEl>
                                        <p:attrNameLst>
                                          <p:attrName>style.visibility</p:attrName>
                                        </p:attrNameLst>
                                      </p:cBhvr>
                                      <p:to>
                                        <p:strVal val="visible"/>
                                      </p:to>
                                    </p:set>
                                    <p:animEffect filter="wipe(left)" transition="in">
                                      <p:cBhvr additive="repl">
                                        <p:cTn id="509" dur="500"/>
                                        <p:tgtEl>
                                          <p:spTgt spid="1932">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2">
                                  <p:stCondLst>
                                    <p:cond delay="0"/>
                                  </p:stCondLst>
                                  <p:childTnLst>
                                    <p:set>
                                      <p:cBhvr>
                                        <p:cTn id="513" dur="1" fill="hold">
                                          <p:stCondLst>
                                            <p:cond delay="0"/>
                                          </p:stCondLst>
                                        </p:cTn>
                                        <p:tgtEl>
                                          <p:spTgt spid="1953"/>
                                        </p:tgtEl>
                                        <p:attrNameLst>
                                          <p:attrName>style.visibility</p:attrName>
                                        </p:attrNameLst>
                                      </p:cBhvr>
                                      <p:to>
                                        <p:strVal val="visible"/>
                                      </p:to>
                                    </p:set>
                                    <p:animEffect filter="wipe(right)" transition="in">
                                      <p:cBhvr additive="repl">
                                        <p:cTn id="514" dur="500"/>
                                        <p:tgtEl>
                                          <p:spTgt spid="1953"/>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956"/>
                                        </p:tgtEl>
                                        <p:attrNameLst>
                                          <p:attrName>style.visibility</p:attrName>
                                        </p:attrNameLst>
                                      </p:cBhvr>
                                      <p:to>
                                        <p:strVal val="visible"/>
                                      </p:to>
                                    </p:set>
                                    <p:animEffect filter="wipe(left)" transition="in">
                                      <p:cBhvr additive="repl">
                                        <p:cTn id="519" dur="500"/>
                                        <p:tgtEl>
                                          <p:spTgt spid="1956"/>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950"/>
                                        </p:tgtEl>
                                        <p:attrNameLst>
                                          <p:attrName>style.visibility</p:attrName>
                                        </p:attrNameLst>
                                      </p:cBhvr>
                                      <p:to>
                                        <p:strVal val="visible"/>
                                      </p:to>
                                    </p:set>
                                    <p:animEffect filter="wipe(left)" transition="in">
                                      <p:cBhvr additive="repl">
                                        <p:cTn id="524" dur="500"/>
                                        <p:tgtEl>
                                          <p:spTgt spid="195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8">
                                  <p:stCondLst>
                                    <p:cond delay="0"/>
                                  </p:stCondLst>
                                  <p:childTnLst>
                                    <p:set>
                                      <p:cBhvr>
                                        <p:cTn id="528" dur="1" fill="hold">
                                          <p:stCondLst>
                                            <p:cond delay="0"/>
                                          </p:stCondLst>
                                        </p:cTn>
                                        <p:tgtEl>
                                          <p:spTgt spid="1946"/>
                                        </p:tgtEl>
                                        <p:attrNameLst>
                                          <p:attrName>style.visibility</p:attrName>
                                        </p:attrNameLst>
                                      </p:cBhvr>
                                      <p:to>
                                        <p:strVal val="visible"/>
                                      </p:to>
                                    </p:set>
                                    <p:animEffect filter="wipe(left)" transition="in">
                                      <p:cBhvr additive="repl">
                                        <p:cTn id="529" dur="500"/>
                                        <p:tgtEl>
                                          <p:spTgt spid="1946"/>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6" presetSubtype="37">
                                  <p:stCondLst>
                                    <p:cond delay="0"/>
                                  </p:stCondLst>
                                  <p:childTnLst>
                                    <p:set>
                                      <p:cBhvr>
                                        <p:cTn id="533" dur="1" fill="hold">
                                          <p:stCondLst>
                                            <p:cond delay="0"/>
                                          </p:stCondLst>
                                        </p:cTn>
                                        <p:tgtEl>
                                          <p:spTgt spid="1947"/>
                                        </p:tgtEl>
                                        <p:attrNameLst>
                                          <p:attrName>style.visibility</p:attrName>
                                        </p:attrNameLst>
                                      </p:cBhvr>
                                      <p:to>
                                        <p:strVal val="visible"/>
                                      </p:to>
                                    </p:set>
                                    <p:animEffect filter="barn(outVertical)" transition="in">
                                      <p:cBhvr additive="repl">
                                        <p:cTn id="534" dur="500"/>
                                        <p:tgtEl>
                                          <p:spTgt spid="1947"/>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2" presetSubtype="4">
                                  <p:stCondLst>
                                    <p:cond delay="0"/>
                                  </p:stCondLst>
                                  <p:childTnLst>
                                    <p:set>
                                      <p:cBhvr>
                                        <p:cTn id="538" dur="1" fill="hold">
                                          <p:stCondLst>
                                            <p:cond delay="0"/>
                                          </p:stCondLst>
                                        </p:cTn>
                                        <p:tgtEl>
                                          <p:spTgt spid="1945"/>
                                        </p:tgtEl>
                                        <p:attrNameLst>
                                          <p:attrName>style.visibility</p:attrName>
                                        </p:attrNameLst>
                                      </p:cBhvr>
                                      <p:to>
                                        <p:strVal val="visible"/>
                                      </p:to>
                                    </p:set>
                                    <p:animEffect filter="wipe(down)" transition="in">
                                      <p:cBhvr additive="repl">
                                        <p:cTn id="539" dur="500"/>
                                        <p:tgtEl>
                                          <p:spTgt spid="1945"/>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1957"/>
                                        </p:tgtEl>
                                        <p:attrNameLst>
                                          <p:attrName>style.visibility</p:attrName>
                                        </p:attrNameLst>
                                      </p:cBhvr>
                                      <p:to>
                                        <p:strVal val="visible"/>
                                      </p:to>
                                    </p:set>
                                    <p:animEffect filter="wipe(left)" transition="in">
                                      <p:cBhvr additive="repl">
                                        <p:cTn id="544" dur="500"/>
                                        <p:tgtEl>
                                          <p:spTgt spid="1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62120" y="1600200"/>
            <a:ext cx="7543800" cy="4675320"/>
          </a:xfrm>
          <a:prstGeom prst="rect">
            <a:avLst/>
          </a:prstGeom>
          <a:ln w="0">
            <a:noFill/>
          </a:ln>
        </p:spPr>
      </p:pic>
      <p:sp>
        <p:nvSpPr>
          <p:cNvPr id="253"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
        <p:nvSpPr>
          <p:cNvPr id="254" name=""/>
          <p:cNvSpPr/>
          <p:nvPr/>
        </p:nvSpPr>
        <p:spPr>
          <a:xfrm>
            <a:off x="457200" y="1093680"/>
            <a:ext cx="8229600" cy="5181840"/>
          </a:xfrm>
          <a:prstGeom prst="roundRect">
            <a:avLst>
              <a:gd name="adj" fmla="val 6532"/>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txBox="1"/>
          <p:nvPr/>
        </p:nvSpPr>
        <p:spPr>
          <a:xfrm>
            <a:off x="609480" y="1600200"/>
            <a:ext cx="7839360" cy="5257800"/>
          </a:xfrm>
          <a:prstGeom prst="rect">
            <a:avLst/>
          </a:prstGeom>
        </p:spPr>
        <p:txBody>
          <a:bodyPr wrap="none" lIns="90000" rIns="90000" tIns="46800" bIns="46800" anchor="t" anchorCtr="1">
            <a:prstTxWarp prst="textCanUp">
              <a:avLst>
                <a:gd name="adj" fmla="val 719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Comic Sans MS"/>
              </a:rPr>
              <a:t> </a:t>
            </a:r>
            <a:r>
              <a:rPr b="1" lang="en-US" sz="4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Comic Sans MS"/>
              </a:rPr>
              <a:t>Subtraction of Integers </a:t>
            </a:r>
            <a:endParaRPr b="1" lang="en-US" sz="48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000000"/>
                  </a:solidFill>
                  <a:miter/>
                </a:ln>
                <a:blipFill rotWithShape="0">
                  <a:blip r:embed="rId5"/>
                  <a:srcRect/>
                  <a:tile tx="0" ty="0" sx="100000" sy="100000" algn="ctr"/>
                </a:blipFill>
                <a:effectLst>
                  <a:outerShdw dist="40186" dir="1096358" blurRad="0" rotWithShape="0">
                    <a:srgbClr val="808080"/>
                  </a:outerShdw>
                </a:effectLst>
                <a:latin typeface="Comic Sans MS"/>
              </a:rPr>
              <a:t>Using </a:t>
            </a:r>
            <a:endParaRPr b="1" lang="en-US" sz="4800" spc="1" strike="noStrike">
              <a:ln w="12600">
                <a:solidFill>
                  <a:srgbClr val="000000"/>
                </a:solidFill>
                <a:miter/>
              </a:ln>
              <a:blipFill rotWithShape="0">
                <a:blip r:embed="rId6"/>
                <a:srcRect/>
                <a:tile tx="0" ty="0" sx="100000" sy="100000" algn="ctr"/>
              </a:blipFill>
              <a:effectLst>
                <a:outerShdw dist="40186" dir="1096358" blurRad="0" rotWithShape="0">
                  <a:srgbClr val="80808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2600">
                  <a:solidFill>
                    <a:srgbClr val="000000"/>
                  </a:solidFill>
                  <a:miter/>
                </a:ln>
                <a:blipFill rotWithShape="0">
                  <a:blip r:embed="rId7"/>
                  <a:srcRect/>
                  <a:tile tx="0" ty="0" sx="100000" sy="100000" algn="ctr"/>
                </a:blipFill>
                <a:effectLst>
                  <a:outerShdw dist="40186" dir="1096358" blurRad="0" rotWithShape="0">
                    <a:srgbClr val="808080"/>
                  </a:outerShdw>
                </a:effectLst>
                <a:latin typeface="Comic Sans MS"/>
              </a:rPr>
              <a:t>the Number Line</a:t>
            </a:r>
            <a:endParaRPr b="1" lang="en-US" sz="4800" spc="1" strike="noStrike">
              <a:ln w="12600">
                <a:solidFill>
                  <a:srgbClr val="000000"/>
                </a:solidFill>
                <a:miter/>
              </a:ln>
              <a:blipFill rotWithShape="0">
                <a:blip r:embed="rId8"/>
                <a:srcRect/>
                <a:tile tx="0" ty="0" sx="100000" sy="100000" algn="ctr"/>
              </a:blipFill>
              <a:effectLst>
                <a:outerShdw dist="40186" dir="1096358" blurRad="0" rotWithShape="0">
                  <a:srgbClr val="808080"/>
                </a:outerShdw>
              </a:effectLst>
              <a:latin typeface="Comic Sans MS"/>
              <a:ea typeface="Comic Sans MS"/>
            </a:endParaRPr>
          </a:p>
        </p:txBody>
      </p:sp>
    </p:spTree>
  </p:cSld>
  <p:transition>
    <p:zoom dir="in"/>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254"/>
                                        </p:tgtEl>
                                        <p:attrNameLst>
                                          <p:attrName>style.visibility</p:attrName>
                                        </p:attrNameLst>
                                      </p:cBhvr>
                                      <p:to>
                                        <p:strVal val="visible"/>
                                      </p:to>
                                    </p:set>
                                    <p:animEffect filter="box(in)" transition="in">
                                      <p:cBhvr additive="repl">
                                        <p:cTn id="6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58"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grpSp>
        <p:nvGrpSpPr>
          <p:cNvPr id="1959" name=""/>
          <p:cNvGrpSpPr/>
          <p:nvPr/>
        </p:nvGrpSpPr>
        <p:grpSpPr>
          <a:xfrm>
            <a:off x="1010160" y="3794040"/>
            <a:ext cx="7448040" cy="719280"/>
            <a:chOff x="1010160" y="3794040"/>
            <a:chExt cx="7448040" cy="719280"/>
          </a:xfrm>
        </p:grpSpPr>
        <p:sp>
          <p:nvSpPr>
            <p:cNvPr id="1960" name=""/>
            <p:cNvSpPr/>
            <p:nvPr/>
          </p:nvSpPr>
          <p:spPr>
            <a:xfrm>
              <a:off x="4038480" y="379404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Comic Sans MS"/>
                </a:rPr>
                <a:t>(-$456,897) = </a:t>
              </a:r>
              <a:endParaRPr b="0" lang="en-US" sz="4000" spc="-1" strike="noStrike">
                <a:solidFill>
                  <a:srgbClr val="000000"/>
                </a:solidFill>
                <a:latin typeface="Times New Roman"/>
              </a:endParaRPr>
            </a:p>
          </p:txBody>
        </p:sp>
        <p:sp>
          <p:nvSpPr>
            <p:cNvPr id="1961" name=""/>
            <p:cNvSpPr/>
            <p:nvPr/>
          </p:nvSpPr>
          <p:spPr>
            <a:xfrm>
              <a:off x="1010160" y="3809880"/>
              <a:ext cx="2343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Comic Sans MS"/>
                </a:rPr>
                <a:t>$950,000</a:t>
              </a:r>
              <a:endParaRPr b="0" lang="en-US" sz="4000" spc="-1" strike="noStrike">
                <a:solidFill>
                  <a:srgbClr val="000000"/>
                </a:solidFill>
                <a:latin typeface="Times New Roman"/>
              </a:endParaRPr>
            </a:p>
          </p:txBody>
        </p:sp>
        <p:sp>
          <p:nvSpPr>
            <p:cNvPr id="1962" name=""/>
            <p:cNvSpPr/>
            <p:nvPr/>
          </p:nvSpPr>
          <p:spPr>
            <a:xfrm>
              <a:off x="3530880" y="3794040"/>
              <a:ext cx="343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Comic Sans MS"/>
                </a:rPr>
                <a:t>-</a:t>
              </a:r>
              <a:endParaRPr b="0" lang="en-US" sz="4000" spc="-1" strike="noStrike">
                <a:solidFill>
                  <a:srgbClr val="000000"/>
                </a:solidFill>
                <a:latin typeface="Times New Roman"/>
              </a:endParaRPr>
            </a:p>
          </p:txBody>
        </p:sp>
      </p:grpSp>
      <p:grpSp>
        <p:nvGrpSpPr>
          <p:cNvPr id="1963" name=""/>
          <p:cNvGrpSpPr/>
          <p:nvPr/>
        </p:nvGrpSpPr>
        <p:grpSpPr>
          <a:xfrm>
            <a:off x="1086480" y="4616280"/>
            <a:ext cx="7448040" cy="750960"/>
            <a:chOff x="1086480" y="4616280"/>
            <a:chExt cx="7448040" cy="750960"/>
          </a:xfrm>
        </p:grpSpPr>
        <p:sp>
          <p:nvSpPr>
            <p:cNvPr id="1964" name=""/>
            <p:cNvSpPr/>
            <p:nvPr/>
          </p:nvSpPr>
          <p:spPr>
            <a:xfrm>
              <a:off x="4114800" y="461628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Comic Sans MS"/>
                </a:rPr>
                <a:t>$456,897 = </a:t>
              </a:r>
              <a:endParaRPr b="0" lang="en-US" sz="4000" spc="-1" strike="noStrike">
                <a:solidFill>
                  <a:srgbClr val="000000"/>
                </a:solidFill>
                <a:latin typeface="Times New Roman"/>
              </a:endParaRPr>
            </a:p>
          </p:txBody>
        </p:sp>
        <p:sp>
          <p:nvSpPr>
            <p:cNvPr id="1965" name=""/>
            <p:cNvSpPr/>
            <p:nvPr/>
          </p:nvSpPr>
          <p:spPr>
            <a:xfrm>
              <a:off x="1086480" y="4663800"/>
              <a:ext cx="2343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Comic Sans MS"/>
                </a:rPr>
                <a:t>$950,000</a:t>
              </a:r>
              <a:endParaRPr b="0" lang="en-US" sz="4000" spc="-1" strike="noStrike">
                <a:solidFill>
                  <a:srgbClr val="000000"/>
                </a:solidFill>
                <a:latin typeface="Times New Roman"/>
              </a:endParaRPr>
            </a:p>
          </p:txBody>
        </p:sp>
        <p:sp>
          <p:nvSpPr>
            <p:cNvPr id="1966" name=""/>
            <p:cNvSpPr/>
            <p:nvPr/>
          </p:nvSpPr>
          <p:spPr>
            <a:xfrm>
              <a:off x="3637080" y="4647960"/>
              <a:ext cx="47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Comic Sans MS"/>
                </a:rPr>
                <a:t>+</a:t>
              </a:r>
              <a:endParaRPr b="0" lang="en-US" sz="4000" spc="-1" strike="noStrike">
                <a:solidFill>
                  <a:srgbClr val="000000"/>
                </a:solidFill>
                <a:latin typeface="Times New Roman"/>
              </a:endParaRPr>
            </a:p>
          </p:txBody>
        </p:sp>
      </p:grpSp>
      <p:grpSp>
        <p:nvGrpSpPr>
          <p:cNvPr id="1967" name=""/>
          <p:cNvGrpSpPr/>
          <p:nvPr/>
        </p:nvGrpSpPr>
        <p:grpSpPr>
          <a:xfrm>
            <a:off x="1396080" y="2500200"/>
            <a:ext cx="5996880" cy="1082520"/>
            <a:chOff x="1396080" y="2500200"/>
            <a:chExt cx="5996880" cy="1082520"/>
          </a:xfrm>
        </p:grpSpPr>
        <p:sp>
          <p:nvSpPr>
            <p:cNvPr id="1968" name=""/>
            <p:cNvSpPr/>
            <p:nvPr/>
          </p:nvSpPr>
          <p:spPr>
            <a:xfrm>
              <a:off x="1600200" y="2819160"/>
              <a:ext cx="5562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5638680" y="250020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6858000" y="250020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1981080" y="250020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3200400" y="250020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4419720" y="250020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2585160" y="3062160"/>
              <a:ext cx="132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00K</a:t>
              </a:r>
              <a:endParaRPr b="0" lang="en-US" sz="2800" spc="-1" strike="noStrike">
                <a:solidFill>
                  <a:srgbClr val="000000"/>
                </a:solidFill>
                <a:latin typeface="Times New Roman"/>
              </a:endParaRPr>
            </a:p>
          </p:txBody>
        </p:sp>
        <p:sp>
          <p:nvSpPr>
            <p:cNvPr id="1975" name=""/>
            <p:cNvSpPr/>
            <p:nvPr/>
          </p:nvSpPr>
          <p:spPr>
            <a:xfrm>
              <a:off x="4209480" y="3062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0</a:t>
              </a:r>
              <a:endParaRPr b="0" lang="en-US" sz="2800" spc="-1" strike="noStrike">
                <a:solidFill>
                  <a:srgbClr val="000000"/>
                </a:solidFill>
                <a:latin typeface="Times New Roman"/>
              </a:endParaRPr>
            </a:p>
          </p:txBody>
        </p:sp>
        <p:sp>
          <p:nvSpPr>
            <p:cNvPr id="1976" name=""/>
            <p:cNvSpPr/>
            <p:nvPr/>
          </p:nvSpPr>
          <p:spPr>
            <a:xfrm>
              <a:off x="6485400" y="3062160"/>
              <a:ext cx="90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1M</a:t>
              </a:r>
              <a:endParaRPr b="0" lang="en-US" sz="2800" spc="-1" strike="noStrike">
                <a:solidFill>
                  <a:srgbClr val="000000"/>
                </a:solidFill>
                <a:latin typeface="Times New Roman"/>
              </a:endParaRPr>
            </a:p>
          </p:txBody>
        </p:sp>
        <p:sp>
          <p:nvSpPr>
            <p:cNvPr id="1977" name=""/>
            <p:cNvSpPr/>
            <p:nvPr/>
          </p:nvSpPr>
          <p:spPr>
            <a:xfrm>
              <a:off x="5083200" y="3062160"/>
              <a:ext cx="121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Comic Sans MS"/>
                </a:rPr>
                <a:t>$500K</a:t>
              </a:r>
              <a:endParaRPr b="0" lang="en-US" sz="2800" spc="-1" strike="noStrike">
                <a:solidFill>
                  <a:srgbClr val="000000"/>
                </a:solidFill>
                <a:latin typeface="Times New Roman"/>
              </a:endParaRPr>
            </a:p>
          </p:txBody>
        </p:sp>
        <p:sp>
          <p:nvSpPr>
            <p:cNvPr id="1978" name=""/>
            <p:cNvSpPr/>
            <p:nvPr/>
          </p:nvSpPr>
          <p:spPr>
            <a:xfrm>
              <a:off x="1396080" y="3062160"/>
              <a:ext cx="102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M</a:t>
              </a:r>
              <a:endParaRPr b="0" lang="en-US" sz="2800" spc="-1" strike="noStrike">
                <a:solidFill>
                  <a:srgbClr val="000000"/>
                </a:solidFill>
                <a:latin typeface="Times New Roman"/>
              </a:endParaRPr>
            </a:p>
          </p:txBody>
        </p:sp>
      </p:grpSp>
      <p:sp>
        <p:nvSpPr>
          <p:cNvPr id="1979" name=""/>
          <p:cNvSpPr/>
          <p:nvPr/>
        </p:nvSpPr>
        <p:spPr>
          <a:xfrm flipH="1">
            <a:off x="3200040" y="2362320"/>
            <a:ext cx="114300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4419720" y="2362320"/>
            <a:ext cx="236196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rot="5400000">
            <a:off x="4876560" y="304560"/>
            <a:ext cx="228600" cy="3581280"/>
          </a:xfrm>
          <a:custGeom>
            <a:avLst/>
            <a:gdLst>
              <a:gd name="textAreaLeft" fmla="*/ 146160 w 228600"/>
              <a:gd name="textAreaRight" fmla="*/ 228960 w 228600"/>
              <a:gd name="textAreaTop" fmla="*/ 93240 h 3581280"/>
              <a:gd name="textAreaBottom" fmla="*/ 3488040 h 358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2" name=""/>
          <p:cNvGrpSpPr/>
          <p:nvPr/>
        </p:nvGrpSpPr>
        <p:grpSpPr>
          <a:xfrm>
            <a:off x="3200400" y="1219320"/>
            <a:ext cx="3580920" cy="520560"/>
            <a:chOff x="3200400" y="1219320"/>
            <a:chExt cx="3580920" cy="520560"/>
          </a:xfrm>
        </p:grpSpPr>
        <p:sp>
          <p:nvSpPr>
            <p:cNvPr id="1983" name=""/>
            <p:cNvSpPr/>
            <p:nvPr/>
          </p:nvSpPr>
          <p:spPr>
            <a:xfrm>
              <a:off x="3200400" y="1738440"/>
              <a:ext cx="3580920" cy="0"/>
            </a:xfrm>
            <a:prstGeom prst="line">
              <a:avLst/>
            </a:prstGeom>
            <a:ln w="572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4143960" y="1219320"/>
              <a:ext cx="5349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grpSp>
      <p:sp>
        <p:nvSpPr>
          <p:cNvPr id="1985" name=""/>
          <p:cNvSpPr/>
          <p:nvPr/>
        </p:nvSpPr>
        <p:spPr>
          <a:xfrm>
            <a:off x="3121920" y="5365800"/>
            <a:ext cx="3298680" cy="825120"/>
          </a:xfrm>
          <a:prstGeom prst="rect">
            <a:avLst/>
          </a:prstGeom>
          <a:gradFill rotWithShape="0">
            <a:gsLst>
              <a:gs pos="0">
                <a:srgbClr val="00cc99"/>
              </a:gs>
              <a:gs pos="100000">
                <a:srgbClr val="ffff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Comic Sans MS"/>
              </a:rPr>
              <a:t>$1,406,897</a:t>
            </a:r>
            <a:endParaRPr b="0" lang="en-US" sz="4800" spc="-1" strike="noStrike">
              <a:solidFill>
                <a:srgbClr val="000000"/>
              </a:solidFill>
              <a:latin typeface="Times New Roman"/>
            </a:endParaRPr>
          </a:p>
        </p:txBody>
      </p:sp>
    </p:spTree>
  </p:cSld>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1959"/>
                                        </p:tgtEl>
                                        <p:attrNameLst>
                                          <p:attrName>style.visibility</p:attrName>
                                        </p:attrNameLst>
                                      </p:cBhvr>
                                      <p:to>
                                        <p:strVal val="visible"/>
                                      </p:to>
                                    </p:set>
                                    <p:animEffect filter="wipe(left)" transition="in">
                                      <p:cBhvr additive="repl">
                                        <p:cTn id="551" dur="500"/>
                                        <p:tgtEl>
                                          <p:spTgt spid="1959"/>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1963"/>
                                        </p:tgtEl>
                                        <p:attrNameLst>
                                          <p:attrName>style.visibility</p:attrName>
                                        </p:attrNameLst>
                                      </p:cBhvr>
                                      <p:to>
                                        <p:strVal val="visible"/>
                                      </p:to>
                                    </p:set>
                                    <p:animEffect filter="wipe(left)" transition="in">
                                      <p:cBhvr additive="repl">
                                        <p:cTn id="556" dur="500"/>
                                        <p:tgtEl>
                                          <p:spTgt spid="1963"/>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3" presetSubtype="16">
                                  <p:stCondLst>
                                    <p:cond delay="0"/>
                                  </p:stCondLst>
                                  <p:childTnLst>
                                    <p:set>
                                      <p:cBhvr>
                                        <p:cTn id="560" dur="1" fill="hold">
                                          <p:stCondLst>
                                            <p:cond delay="0"/>
                                          </p:stCondLst>
                                        </p:cTn>
                                        <p:tgtEl>
                                          <p:spTgt spid="1985"/>
                                        </p:tgtEl>
                                        <p:attrNameLst>
                                          <p:attrName>style.visibility</p:attrName>
                                        </p:attrNameLst>
                                      </p:cBhvr>
                                      <p:to>
                                        <p:strVal val="visible"/>
                                      </p:to>
                                    </p:set>
                                    <p:anim calcmode="lin" valueType="num">
                                      <p:cBhvr additive="repl">
                                        <p:cTn id="561" dur="500" fill="hold"/>
                                        <p:tgtEl>
                                          <p:spTgt spid="1985"/>
                                        </p:tgtEl>
                                        <p:attrNameLst>
                                          <p:attrName>ppt_w</p:attrName>
                                        </p:attrNameLst>
                                      </p:cBhvr>
                                      <p:tavLst>
                                        <p:tav tm="0">
                                          <p:val>
                                            <p:fltVal val="0"/>
                                          </p:val>
                                        </p:tav>
                                        <p:tav tm="100000">
                                          <p:val>
                                            <p:strVal val="#ppt_w"/>
                                          </p:val>
                                        </p:tav>
                                      </p:tavLst>
                                    </p:anim>
                                    <p:anim calcmode="lin" valueType="num">
                                      <p:cBhvr additive="repl">
                                        <p:cTn id="562" dur="500" fill="hold"/>
                                        <p:tgtEl>
                                          <p:spTgt spid="19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86"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
        <p:nvSpPr>
          <p:cNvPr id="1987" name=""/>
          <p:cNvSpPr/>
          <p:nvPr/>
        </p:nvSpPr>
        <p:spPr>
          <a:xfrm>
            <a:off x="822240" y="1965240"/>
            <a:ext cx="7712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bsolute zero at –460 F. is temperature at which molecular motion effectively ceases.  Liquid hydrogen has a boiling point of - 423 F. How far above absolute zero does hydrogen boil?</a:t>
            </a:r>
            <a:endParaRPr b="0" lang="en-US" sz="4000" spc="-1" strike="noStrike">
              <a:solidFill>
                <a:srgbClr val="000000"/>
              </a:solidFill>
              <a:latin typeface="Times New Roman"/>
            </a:endParaRPr>
          </a:p>
        </p:txBody>
      </p:sp>
      <p:sp>
        <p:nvSpPr>
          <p:cNvPr id="1988" name=""/>
          <p:cNvSpPr/>
          <p:nvPr/>
        </p:nvSpPr>
        <p:spPr>
          <a:xfrm>
            <a:off x="822240" y="1965240"/>
            <a:ext cx="7712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bsolute zero at</a:t>
            </a:r>
            <a:r>
              <a:rPr b="0" lang="en-US" sz="4000" spc="-1" strike="noStrike">
                <a:solidFill>
                  <a:srgbClr val="3333cc"/>
                </a:solidFill>
                <a:latin typeface="Comic Sans MS"/>
              </a:rPr>
              <a:t> </a:t>
            </a:r>
            <a:r>
              <a:rPr b="0" lang="en-US" sz="4000" spc="-1" strike="noStrike">
                <a:solidFill>
                  <a:srgbClr val="006600"/>
                </a:solidFill>
                <a:latin typeface="Comic Sans MS"/>
              </a:rPr>
              <a:t>–460 F.</a:t>
            </a:r>
            <a:r>
              <a:rPr b="0" lang="en-US" sz="4000" spc="-1" strike="noStrike">
                <a:solidFill>
                  <a:srgbClr val="000000"/>
                </a:solidFill>
                <a:latin typeface="Comic Sans MS"/>
              </a:rPr>
              <a:t> is temperature at which molecular motion effectively ceases.  Liquid hydrogen has a boiling point of</a:t>
            </a:r>
            <a:r>
              <a:rPr b="0" lang="en-US" sz="4000" spc="-1" strike="noStrike">
                <a:solidFill>
                  <a:srgbClr val="3333cc"/>
                </a:solidFill>
                <a:latin typeface="Comic Sans MS"/>
              </a:rPr>
              <a:t> </a:t>
            </a:r>
            <a:r>
              <a:rPr b="0" lang="en-US" sz="4000" spc="-1" strike="noStrike">
                <a:solidFill>
                  <a:srgbClr val="006600"/>
                </a:solidFill>
                <a:latin typeface="Comic Sans MS"/>
              </a:rPr>
              <a:t>- 423 F</a:t>
            </a:r>
            <a:r>
              <a:rPr b="0" lang="en-US" sz="4000" spc="-1" strike="noStrike">
                <a:solidFill>
                  <a:srgbClr val="3333cc"/>
                </a:solidFill>
                <a:latin typeface="Comic Sans MS"/>
              </a:rPr>
              <a:t>.</a:t>
            </a:r>
            <a:r>
              <a:rPr b="0" lang="en-US" sz="4000" spc="-1" strike="noStrike">
                <a:solidFill>
                  <a:srgbClr val="000000"/>
                </a:solidFill>
                <a:latin typeface="Comic Sans MS"/>
              </a:rPr>
              <a:t> </a:t>
            </a:r>
            <a:r>
              <a:rPr b="0" lang="en-US" sz="4000" spc="-1" strike="noStrike">
                <a:solidFill>
                  <a:srgbClr val="3333cc"/>
                </a:solidFill>
                <a:latin typeface="Comic Sans MS"/>
              </a:rPr>
              <a:t>How far above absolute zero does hydrogen boil?</a:t>
            </a:r>
            <a:endParaRPr b="0" lang="en-US" sz="4000" spc="-1" strike="noStrike">
              <a:solidFill>
                <a:srgbClr val="000000"/>
              </a:solidFill>
              <a:latin typeface="Times New Roman"/>
            </a:endParaRPr>
          </a:p>
        </p:txBody>
      </p:sp>
      <p:grpSp>
        <p:nvGrpSpPr>
          <p:cNvPr id="1989" name=""/>
          <p:cNvGrpSpPr/>
          <p:nvPr/>
        </p:nvGrpSpPr>
        <p:grpSpPr>
          <a:xfrm>
            <a:off x="351360" y="1116360"/>
            <a:ext cx="2715840" cy="1008360"/>
            <a:chOff x="351360" y="1116360"/>
            <a:chExt cx="2715840" cy="1008360"/>
          </a:xfrm>
        </p:grpSpPr>
        <p:sp>
          <p:nvSpPr>
            <p:cNvPr id="1990" name=""/>
            <p:cNvSpPr/>
            <p:nvPr/>
          </p:nvSpPr>
          <p:spPr>
            <a:xfrm rot="20897400">
              <a:off x="374400" y="1371600"/>
              <a:ext cx="2567160" cy="49356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rot="20897400">
              <a:off x="384480" y="1399320"/>
              <a:ext cx="26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other example</a:t>
              </a:r>
              <a:endParaRPr b="0" lang="en-US" sz="2400" spc="-1" strike="noStrike">
                <a:solidFill>
                  <a:srgbClr val="000000"/>
                </a:solidFill>
                <a:latin typeface="Times New Roman"/>
              </a:endParaRPr>
            </a:p>
          </p:txBody>
        </p:sp>
      </p:grpSp>
    </p:spTree>
  </p:cSld>
  <p:transition>
    <p:pull dir="l"/>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1988"/>
                                        </p:tgtEl>
                                        <p:attrNameLst>
                                          <p:attrName>style.visibility</p:attrName>
                                        </p:attrNameLst>
                                      </p:cBhvr>
                                      <p:to>
                                        <p:strVal val="visible"/>
                                      </p:to>
                                    </p:set>
                                    <p:animEffect filter="dissolve" transition="in">
                                      <p:cBhvr additive="repl">
                                        <p:cTn id="569" dur="500"/>
                                        <p:tgtEl>
                                          <p:spTgt spid="1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92"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
        <p:nvSpPr>
          <p:cNvPr id="1993" name=""/>
          <p:cNvSpPr/>
          <p:nvPr/>
        </p:nvSpPr>
        <p:spPr>
          <a:xfrm>
            <a:off x="685800" y="1523880"/>
            <a:ext cx="771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Comic Sans MS"/>
              </a:rPr>
              <a:t>Given:</a:t>
            </a:r>
            <a:r>
              <a:rPr b="0" lang="en-US" sz="3600" spc="-1" strike="noStrike">
                <a:solidFill>
                  <a:srgbClr val="006600"/>
                </a:solidFill>
                <a:latin typeface="Comic Sans MS"/>
              </a:rPr>
              <a:t>  absolute zero    –460 F</a:t>
            </a:r>
            <a:endParaRPr b="0" lang="en-US" sz="3600" spc="-1" strike="noStrike">
              <a:solidFill>
                <a:srgbClr val="000000"/>
              </a:solidFill>
              <a:latin typeface="Times New Roman"/>
            </a:endParaRPr>
          </a:p>
        </p:txBody>
      </p:sp>
      <p:sp>
        <p:nvSpPr>
          <p:cNvPr id="1994" name=""/>
          <p:cNvSpPr/>
          <p:nvPr/>
        </p:nvSpPr>
        <p:spPr>
          <a:xfrm>
            <a:off x="914400" y="5348160"/>
            <a:ext cx="7191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6581880" y="502920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7800840" y="502920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2924280" y="502920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4143240" y="502920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5362560" y="502920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635000" y="5576760"/>
            <a:ext cx="118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200 F</a:t>
            </a:r>
            <a:endParaRPr b="0" lang="en-US" sz="2800" spc="-1" strike="noStrike">
              <a:solidFill>
                <a:srgbClr val="000000"/>
              </a:solidFill>
              <a:latin typeface="Times New Roman"/>
            </a:endParaRPr>
          </a:p>
        </p:txBody>
      </p:sp>
      <p:sp>
        <p:nvSpPr>
          <p:cNvPr id="2001" name=""/>
          <p:cNvSpPr/>
          <p:nvPr/>
        </p:nvSpPr>
        <p:spPr>
          <a:xfrm>
            <a:off x="7536960" y="5576760"/>
            <a:ext cx="66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0 F</a:t>
            </a:r>
            <a:endParaRPr b="0" lang="en-US" sz="2800" spc="-1" strike="noStrike">
              <a:solidFill>
                <a:srgbClr val="000000"/>
              </a:solidFill>
              <a:latin typeface="Times New Roman"/>
            </a:endParaRPr>
          </a:p>
        </p:txBody>
      </p:sp>
      <p:sp>
        <p:nvSpPr>
          <p:cNvPr id="2002" name=""/>
          <p:cNvSpPr/>
          <p:nvPr/>
        </p:nvSpPr>
        <p:spPr>
          <a:xfrm>
            <a:off x="2272680" y="5576760"/>
            <a:ext cx="118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400 F</a:t>
            </a:r>
            <a:endParaRPr b="0" lang="en-US" sz="2800" spc="-1" strike="noStrike">
              <a:solidFill>
                <a:srgbClr val="000000"/>
              </a:solidFill>
              <a:latin typeface="Times New Roman"/>
            </a:endParaRPr>
          </a:p>
        </p:txBody>
      </p:sp>
      <p:sp>
        <p:nvSpPr>
          <p:cNvPr id="2003" name=""/>
          <p:cNvSpPr/>
          <p:nvPr/>
        </p:nvSpPr>
        <p:spPr>
          <a:xfrm>
            <a:off x="3415680" y="5576760"/>
            <a:ext cx="118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300 F</a:t>
            </a:r>
            <a:endParaRPr b="0" lang="en-US" sz="2800" spc="-1" strike="noStrike">
              <a:solidFill>
                <a:srgbClr val="000000"/>
              </a:solidFill>
              <a:latin typeface="Times New Roman"/>
            </a:endParaRPr>
          </a:p>
        </p:txBody>
      </p:sp>
      <p:sp>
        <p:nvSpPr>
          <p:cNvPr id="2004" name=""/>
          <p:cNvSpPr/>
          <p:nvPr/>
        </p:nvSpPr>
        <p:spPr>
          <a:xfrm>
            <a:off x="5977800" y="5576760"/>
            <a:ext cx="118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00 F</a:t>
            </a:r>
            <a:endParaRPr b="0" lang="en-US" sz="2800" spc="-1" strike="noStrike">
              <a:solidFill>
                <a:srgbClr val="000000"/>
              </a:solidFill>
              <a:latin typeface="Times New Roman"/>
            </a:endParaRPr>
          </a:p>
        </p:txBody>
      </p:sp>
      <p:sp>
        <p:nvSpPr>
          <p:cNvPr id="2005" name=""/>
          <p:cNvSpPr/>
          <p:nvPr/>
        </p:nvSpPr>
        <p:spPr>
          <a:xfrm>
            <a:off x="1447920" y="511956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a:off x="825120" y="5576760"/>
            <a:ext cx="118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500 F</a:t>
            </a:r>
            <a:endParaRPr b="0" lang="en-US" sz="2800" spc="-1" strike="noStrike">
              <a:solidFill>
                <a:srgbClr val="000000"/>
              </a:solidFill>
              <a:latin typeface="Times New Roman"/>
            </a:endParaRPr>
          </a:p>
        </p:txBody>
      </p:sp>
      <p:sp>
        <p:nvSpPr>
          <p:cNvPr id="2007" name=""/>
          <p:cNvSpPr/>
          <p:nvPr/>
        </p:nvSpPr>
        <p:spPr>
          <a:xfrm>
            <a:off x="2286000" y="2165400"/>
            <a:ext cx="603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Comic Sans MS"/>
              </a:rPr>
              <a:t>liquid helium boils - 423 F. </a:t>
            </a:r>
            <a:endParaRPr b="0" lang="en-US" sz="3600" spc="-1" strike="noStrike">
              <a:solidFill>
                <a:srgbClr val="000000"/>
              </a:solidFill>
              <a:latin typeface="Times New Roman"/>
            </a:endParaRPr>
          </a:p>
        </p:txBody>
      </p:sp>
      <p:sp>
        <p:nvSpPr>
          <p:cNvPr id="2008" name=""/>
          <p:cNvSpPr/>
          <p:nvPr/>
        </p:nvSpPr>
        <p:spPr>
          <a:xfrm>
            <a:off x="685800" y="2806560"/>
            <a:ext cx="7924680" cy="1068840"/>
          </a:xfrm>
          <a:prstGeom prst="rect">
            <a:avLst/>
          </a:prstGeom>
          <a:noFill/>
          <a:ln w="0">
            <a:noFill/>
          </a:ln>
        </p:spPr>
        <p:style>
          <a:lnRef idx="0"/>
          <a:fillRef idx="0"/>
          <a:effectRef idx="0"/>
          <a:fontRef idx="minor"/>
        </p:style>
        <p:txBody>
          <a:bodyPr lIns="90000" rIns="90000" tIns="46800" bIns="46800" anchor="t">
            <a:spAutoFit/>
          </a:bodyPr>
          <a:p>
            <a:pPr marL="2063880" indent="-2063880">
              <a:lnSpc>
                <a:spcPct val="100000"/>
              </a:lnSpc>
              <a:spcBef>
                <a:spcPts val="2001"/>
              </a:spcBef>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estion:  difference between given </a:t>
            </a:r>
            <a:r>
              <a:rPr b="0" lang="en-US" sz="3200" spc="-1" strike="noStrike">
                <a:solidFill>
                  <a:srgbClr val="000000"/>
                </a:solidFill>
                <a:latin typeface="Comic Sans MS"/>
              </a:rPr>
              <a:t>	</a:t>
            </a:r>
            <a:r>
              <a:rPr b="0" lang="en-US" sz="3200" spc="-1" strike="noStrike">
                <a:solidFill>
                  <a:srgbClr val="000000"/>
                </a:solidFill>
                <a:latin typeface="Comic Sans MS"/>
              </a:rPr>
              <a:t>temperatures?</a:t>
            </a:r>
            <a:endParaRPr b="0" lang="en-US" sz="3200" spc="-1" strike="noStrike">
              <a:solidFill>
                <a:srgbClr val="000000"/>
              </a:solidFill>
              <a:latin typeface="Times New Roman"/>
            </a:endParaRPr>
          </a:p>
        </p:txBody>
      </p:sp>
      <p:grpSp>
        <p:nvGrpSpPr>
          <p:cNvPr id="2009" name=""/>
          <p:cNvGrpSpPr/>
          <p:nvPr/>
        </p:nvGrpSpPr>
        <p:grpSpPr>
          <a:xfrm>
            <a:off x="2133360" y="4572000"/>
            <a:ext cx="6477120" cy="459720"/>
            <a:chOff x="2133360" y="4572000"/>
            <a:chExt cx="6477120" cy="459720"/>
          </a:xfrm>
        </p:grpSpPr>
        <p:sp>
          <p:nvSpPr>
            <p:cNvPr id="2010" name=""/>
            <p:cNvSpPr/>
            <p:nvPr/>
          </p:nvSpPr>
          <p:spPr>
            <a:xfrm flipH="1">
              <a:off x="2133360" y="4967280"/>
              <a:ext cx="56005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5575320" y="4572000"/>
              <a:ext cx="303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solute zero</a:t>
              </a:r>
              <a:endParaRPr b="0" lang="en-US" sz="2400" spc="-1" strike="noStrike">
                <a:solidFill>
                  <a:srgbClr val="000000"/>
                </a:solidFill>
                <a:latin typeface="Times New Roman"/>
              </a:endParaRPr>
            </a:p>
          </p:txBody>
        </p:sp>
      </p:grpSp>
      <p:grpSp>
        <p:nvGrpSpPr>
          <p:cNvPr id="2012" name=""/>
          <p:cNvGrpSpPr/>
          <p:nvPr/>
        </p:nvGrpSpPr>
        <p:grpSpPr>
          <a:xfrm>
            <a:off x="2781360" y="4038480"/>
            <a:ext cx="5616360" cy="825480"/>
            <a:chOff x="2781360" y="4038480"/>
            <a:chExt cx="5616360" cy="825480"/>
          </a:xfrm>
        </p:grpSpPr>
        <p:sp>
          <p:nvSpPr>
            <p:cNvPr id="2013" name=""/>
            <p:cNvSpPr/>
            <p:nvPr/>
          </p:nvSpPr>
          <p:spPr>
            <a:xfrm flipH="1">
              <a:off x="2781360" y="4495680"/>
              <a:ext cx="4952880" cy="1800"/>
            </a:xfrm>
            <a:prstGeom prst="line">
              <a:avLst/>
            </a:prstGeom>
            <a:ln w="3816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4" name=""/>
            <p:cNvSpPr/>
            <p:nvPr/>
          </p:nvSpPr>
          <p:spPr>
            <a:xfrm>
              <a:off x="5362560" y="4038480"/>
              <a:ext cx="3035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ium boiling point</a:t>
              </a:r>
              <a:endParaRPr b="0" lang="en-US" sz="2400" spc="-1" strike="noStrike">
                <a:solidFill>
                  <a:srgbClr val="000000"/>
                </a:solidFill>
                <a:latin typeface="Times New Roman"/>
              </a:endParaRPr>
            </a:p>
          </p:txBody>
        </p:sp>
      </p:grpSp>
      <p:grpSp>
        <p:nvGrpSpPr>
          <p:cNvPr id="2015" name=""/>
          <p:cNvGrpSpPr/>
          <p:nvPr/>
        </p:nvGrpSpPr>
        <p:grpSpPr>
          <a:xfrm>
            <a:off x="1143000" y="4038480"/>
            <a:ext cx="2438280" cy="459720"/>
            <a:chOff x="1143000" y="4038480"/>
            <a:chExt cx="2438280" cy="459720"/>
          </a:xfrm>
        </p:grpSpPr>
        <p:sp>
          <p:nvSpPr>
            <p:cNvPr id="2016" name=""/>
            <p:cNvSpPr/>
            <p:nvPr/>
          </p:nvSpPr>
          <p:spPr>
            <a:xfrm>
              <a:off x="2181240" y="4495680"/>
              <a:ext cx="714240" cy="0"/>
            </a:xfrm>
            <a:prstGeom prst="line">
              <a:avLst/>
            </a:prstGeom>
            <a:ln w="57240">
              <a:solidFill>
                <a:srgbClr val="66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1143000" y="40384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ce</a:t>
              </a:r>
              <a:endParaRPr b="0" lang="en-US" sz="2400" spc="-1" strike="noStrike">
                <a:solidFill>
                  <a:srgbClr val="000000"/>
                </a:solidFill>
                <a:latin typeface="Times New Roman"/>
              </a:endParaRPr>
            </a:p>
          </p:txBody>
        </p:sp>
      </p:grpSp>
    </p:spTree>
  </p:cSld>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1993"/>
                                        </p:tgtEl>
                                        <p:attrNameLst>
                                          <p:attrName>style.visibility</p:attrName>
                                        </p:attrNameLst>
                                      </p:cBhvr>
                                      <p:to>
                                        <p:strVal val="visible"/>
                                      </p:to>
                                    </p:set>
                                    <p:animEffect filter="wipe(left)" transition="in">
                                      <p:cBhvr additive="repl">
                                        <p:cTn id="576" dur="500"/>
                                        <p:tgtEl>
                                          <p:spTgt spid="1993"/>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2">
                                  <p:stCondLst>
                                    <p:cond delay="0"/>
                                  </p:stCondLst>
                                  <p:childTnLst>
                                    <p:set>
                                      <p:cBhvr>
                                        <p:cTn id="580" dur="1" fill="hold">
                                          <p:stCondLst>
                                            <p:cond delay="0"/>
                                          </p:stCondLst>
                                        </p:cTn>
                                        <p:tgtEl>
                                          <p:spTgt spid="2009"/>
                                        </p:tgtEl>
                                        <p:attrNameLst>
                                          <p:attrName>style.visibility</p:attrName>
                                        </p:attrNameLst>
                                      </p:cBhvr>
                                      <p:to>
                                        <p:strVal val="visible"/>
                                      </p:to>
                                    </p:set>
                                    <p:animEffect filter="wipe(right)" transition="in">
                                      <p:cBhvr additive="repl">
                                        <p:cTn id="581" dur="500"/>
                                        <p:tgtEl>
                                          <p:spTgt spid="2009"/>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2007"/>
                                        </p:tgtEl>
                                        <p:attrNameLst>
                                          <p:attrName>style.visibility</p:attrName>
                                        </p:attrNameLst>
                                      </p:cBhvr>
                                      <p:to>
                                        <p:strVal val="visible"/>
                                      </p:to>
                                    </p:set>
                                    <p:animEffect filter="wipe(left)" transition="in">
                                      <p:cBhvr additive="repl">
                                        <p:cTn id="586" dur="500"/>
                                        <p:tgtEl>
                                          <p:spTgt spid="2007"/>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2" presetSubtype="2">
                                  <p:stCondLst>
                                    <p:cond delay="0"/>
                                  </p:stCondLst>
                                  <p:childTnLst>
                                    <p:set>
                                      <p:cBhvr>
                                        <p:cTn id="590" dur="1" fill="hold">
                                          <p:stCondLst>
                                            <p:cond delay="0"/>
                                          </p:stCondLst>
                                        </p:cTn>
                                        <p:tgtEl>
                                          <p:spTgt spid="2012"/>
                                        </p:tgtEl>
                                        <p:attrNameLst>
                                          <p:attrName>style.visibility</p:attrName>
                                        </p:attrNameLst>
                                      </p:cBhvr>
                                      <p:to>
                                        <p:strVal val="visible"/>
                                      </p:to>
                                    </p:set>
                                    <p:animEffect filter="wipe(right)" transition="in">
                                      <p:cBhvr additive="repl">
                                        <p:cTn id="591" dur="500"/>
                                        <p:tgtEl>
                                          <p:spTgt spid="2012"/>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2" presetSubtype="8">
                                  <p:stCondLst>
                                    <p:cond delay="0"/>
                                  </p:stCondLst>
                                  <p:childTnLst>
                                    <p:set>
                                      <p:cBhvr>
                                        <p:cTn id="595" dur="1" fill="hold">
                                          <p:stCondLst>
                                            <p:cond delay="0"/>
                                          </p:stCondLst>
                                        </p:cTn>
                                        <p:tgtEl>
                                          <p:spTgt spid="2015"/>
                                        </p:tgtEl>
                                        <p:attrNameLst>
                                          <p:attrName>style.visibility</p:attrName>
                                        </p:attrNameLst>
                                      </p:cBhvr>
                                      <p:to>
                                        <p:strVal val="visible"/>
                                      </p:to>
                                    </p:set>
                                    <p:animEffect filter="wipe(left)" transition="in">
                                      <p:cBhvr additive="repl">
                                        <p:cTn id="596" dur="500"/>
                                        <p:tgtEl>
                                          <p:spTgt spid="2015"/>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2008"/>
                                        </p:tgtEl>
                                        <p:attrNameLst>
                                          <p:attrName>style.visibility</p:attrName>
                                        </p:attrNameLst>
                                      </p:cBhvr>
                                      <p:to>
                                        <p:strVal val="visible"/>
                                      </p:to>
                                    </p:set>
                                    <p:animEffect filter="wipe(left)" transition="in">
                                      <p:cBhvr additive="repl">
                                        <p:cTn id="601" dur="500"/>
                                        <p:tgtEl>
                                          <p:spTgt spid="20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018" name=""/>
          <p:cNvSpPr/>
          <p:nvPr/>
        </p:nvSpPr>
        <p:spPr>
          <a:xfrm>
            <a:off x="2720160" y="7002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
        <p:nvSpPr>
          <p:cNvPr id="2019" name=""/>
          <p:cNvSpPr/>
          <p:nvPr/>
        </p:nvSpPr>
        <p:spPr>
          <a:xfrm>
            <a:off x="914400" y="2300400"/>
            <a:ext cx="71913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6581880" y="198108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7800840" y="198108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2924280" y="198108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4143240" y="198108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5362560" y="198108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4635000" y="2529000"/>
            <a:ext cx="118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200 F</a:t>
            </a:r>
            <a:endParaRPr b="0" lang="en-US" sz="2800" spc="-1" strike="noStrike">
              <a:solidFill>
                <a:srgbClr val="000000"/>
              </a:solidFill>
              <a:latin typeface="Times New Roman"/>
            </a:endParaRPr>
          </a:p>
        </p:txBody>
      </p:sp>
      <p:sp>
        <p:nvSpPr>
          <p:cNvPr id="2026" name=""/>
          <p:cNvSpPr/>
          <p:nvPr/>
        </p:nvSpPr>
        <p:spPr>
          <a:xfrm>
            <a:off x="7536960" y="2529000"/>
            <a:ext cx="66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0 F</a:t>
            </a:r>
            <a:endParaRPr b="0" lang="en-US" sz="2800" spc="-1" strike="noStrike">
              <a:solidFill>
                <a:srgbClr val="000000"/>
              </a:solidFill>
              <a:latin typeface="Times New Roman"/>
            </a:endParaRPr>
          </a:p>
        </p:txBody>
      </p:sp>
      <p:sp>
        <p:nvSpPr>
          <p:cNvPr id="2027" name=""/>
          <p:cNvSpPr/>
          <p:nvPr/>
        </p:nvSpPr>
        <p:spPr>
          <a:xfrm>
            <a:off x="2272680" y="2529000"/>
            <a:ext cx="118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400 F</a:t>
            </a:r>
            <a:endParaRPr b="0" lang="en-US" sz="2800" spc="-1" strike="noStrike">
              <a:solidFill>
                <a:srgbClr val="000000"/>
              </a:solidFill>
              <a:latin typeface="Times New Roman"/>
            </a:endParaRPr>
          </a:p>
        </p:txBody>
      </p:sp>
      <p:sp>
        <p:nvSpPr>
          <p:cNvPr id="2028" name=""/>
          <p:cNvSpPr/>
          <p:nvPr/>
        </p:nvSpPr>
        <p:spPr>
          <a:xfrm>
            <a:off x="3415680" y="2529000"/>
            <a:ext cx="118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300 F</a:t>
            </a:r>
            <a:endParaRPr b="0" lang="en-US" sz="2800" spc="-1" strike="noStrike">
              <a:solidFill>
                <a:srgbClr val="000000"/>
              </a:solidFill>
              <a:latin typeface="Times New Roman"/>
            </a:endParaRPr>
          </a:p>
        </p:txBody>
      </p:sp>
      <p:sp>
        <p:nvSpPr>
          <p:cNvPr id="2029" name=""/>
          <p:cNvSpPr/>
          <p:nvPr/>
        </p:nvSpPr>
        <p:spPr>
          <a:xfrm>
            <a:off x="5977800" y="2529000"/>
            <a:ext cx="118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00 F</a:t>
            </a:r>
            <a:endParaRPr b="0" lang="en-US" sz="2800" spc="-1" strike="noStrike">
              <a:solidFill>
                <a:srgbClr val="000000"/>
              </a:solidFill>
              <a:latin typeface="Times New Roman"/>
            </a:endParaRPr>
          </a:p>
        </p:txBody>
      </p:sp>
      <p:sp>
        <p:nvSpPr>
          <p:cNvPr id="2030" name=""/>
          <p:cNvSpPr/>
          <p:nvPr/>
        </p:nvSpPr>
        <p:spPr>
          <a:xfrm flipH="1">
            <a:off x="2743200" y="1766880"/>
            <a:ext cx="4952880" cy="0"/>
          </a:xfrm>
          <a:prstGeom prst="line">
            <a:avLst/>
          </a:prstGeom>
          <a:ln w="38160">
            <a:solidFill>
              <a:srgbClr val="66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flipH="1">
            <a:off x="2133360" y="1919160"/>
            <a:ext cx="56005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1447920" y="207180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825120" y="2529000"/>
            <a:ext cx="118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500 F</a:t>
            </a:r>
            <a:endParaRPr b="0" lang="en-US" sz="2800" spc="-1" strike="noStrike">
              <a:solidFill>
                <a:srgbClr val="000000"/>
              </a:solidFill>
              <a:latin typeface="Times New Roman"/>
            </a:endParaRPr>
          </a:p>
        </p:txBody>
      </p:sp>
      <p:grpSp>
        <p:nvGrpSpPr>
          <p:cNvPr id="2034" name=""/>
          <p:cNvGrpSpPr/>
          <p:nvPr/>
        </p:nvGrpSpPr>
        <p:grpSpPr>
          <a:xfrm>
            <a:off x="1333800" y="3254400"/>
            <a:ext cx="6107400" cy="861480"/>
            <a:chOff x="1333800" y="3254400"/>
            <a:chExt cx="6107400" cy="861480"/>
          </a:xfrm>
        </p:grpSpPr>
        <p:sp>
          <p:nvSpPr>
            <p:cNvPr id="2035" name=""/>
            <p:cNvSpPr/>
            <p:nvPr/>
          </p:nvSpPr>
          <p:spPr>
            <a:xfrm>
              <a:off x="4401360" y="3254400"/>
              <a:ext cx="303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Comic Sans MS"/>
                </a:rPr>
                <a:t>(– 460 F) =</a:t>
              </a:r>
              <a:endParaRPr b="0" lang="en-US" sz="4800" spc="-1" strike="noStrike">
                <a:solidFill>
                  <a:srgbClr val="000000"/>
                </a:solidFill>
                <a:latin typeface="Times New Roman"/>
              </a:endParaRPr>
            </a:p>
          </p:txBody>
        </p:sp>
        <p:sp>
          <p:nvSpPr>
            <p:cNvPr id="2036" name=""/>
            <p:cNvSpPr/>
            <p:nvPr/>
          </p:nvSpPr>
          <p:spPr>
            <a:xfrm>
              <a:off x="1333800" y="3254400"/>
              <a:ext cx="2058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cc"/>
                  </a:solidFill>
                  <a:latin typeface="Comic Sans MS"/>
                </a:rPr>
                <a:t>- 423 F</a:t>
              </a:r>
              <a:endParaRPr b="0" lang="en-US" sz="4800" spc="-1" strike="noStrike">
                <a:solidFill>
                  <a:srgbClr val="000000"/>
                </a:solidFill>
                <a:latin typeface="Times New Roman"/>
              </a:endParaRPr>
            </a:p>
          </p:txBody>
        </p:sp>
        <p:sp>
          <p:nvSpPr>
            <p:cNvPr id="2037" name=""/>
            <p:cNvSpPr/>
            <p:nvPr/>
          </p:nvSpPr>
          <p:spPr>
            <a:xfrm>
              <a:off x="3855600" y="3290760"/>
              <a:ext cx="644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a:t>
              </a:r>
              <a:r>
                <a:rPr b="0" lang="en-US" sz="4800" spc="-1" strike="noStrike">
                  <a:solidFill>
                    <a:srgbClr val="3333cc"/>
                  </a:solidFill>
                  <a:latin typeface="Comic Sans MS"/>
                </a:rPr>
                <a:t> </a:t>
              </a:r>
              <a:endParaRPr b="0" lang="en-US" sz="4800" spc="-1" strike="noStrike">
                <a:solidFill>
                  <a:srgbClr val="000000"/>
                </a:solidFill>
                <a:latin typeface="Times New Roman"/>
              </a:endParaRPr>
            </a:p>
          </p:txBody>
        </p:sp>
      </p:grpSp>
      <p:grpSp>
        <p:nvGrpSpPr>
          <p:cNvPr id="2038" name=""/>
          <p:cNvGrpSpPr/>
          <p:nvPr/>
        </p:nvGrpSpPr>
        <p:grpSpPr>
          <a:xfrm>
            <a:off x="1370520" y="4137120"/>
            <a:ext cx="5022000" cy="856800"/>
            <a:chOff x="1370520" y="4137120"/>
            <a:chExt cx="5022000" cy="856800"/>
          </a:xfrm>
        </p:grpSpPr>
        <p:sp>
          <p:nvSpPr>
            <p:cNvPr id="2039" name=""/>
            <p:cNvSpPr/>
            <p:nvPr/>
          </p:nvSpPr>
          <p:spPr>
            <a:xfrm>
              <a:off x="4181760" y="4168800"/>
              <a:ext cx="2210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Comic Sans MS"/>
                </a:rPr>
                <a:t>460 F =</a:t>
              </a:r>
              <a:endParaRPr b="0" lang="en-US" sz="4800" spc="-1" strike="noStrike">
                <a:solidFill>
                  <a:srgbClr val="000000"/>
                </a:solidFill>
                <a:latin typeface="Times New Roman"/>
              </a:endParaRPr>
            </a:p>
          </p:txBody>
        </p:sp>
        <p:sp>
          <p:nvSpPr>
            <p:cNvPr id="2040" name=""/>
            <p:cNvSpPr/>
            <p:nvPr/>
          </p:nvSpPr>
          <p:spPr>
            <a:xfrm>
              <a:off x="1370520" y="4168800"/>
              <a:ext cx="2058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Comic Sans MS"/>
                </a:rPr>
                <a:t>- 423 F</a:t>
              </a:r>
              <a:endParaRPr b="0" lang="en-US" sz="4800" spc="-1" strike="noStrike">
                <a:solidFill>
                  <a:srgbClr val="000000"/>
                </a:solidFill>
                <a:latin typeface="Times New Roman"/>
              </a:endParaRPr>
            </a:p>
          </p:txBody>
        </p:sp>
        <p:sp>
          <p:nvSpPr>
            <p:cNvPr id="2041" name=""/>
            <p:cNvSpPr/>
            <p:nvPr/>
          </p:nvSpPr>
          <p:spPr>
            <a:xfrm>
              <a:off x="3567600" y="4137120"/>
              <a:ext cx="687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a:t>
              </a:r>
              <a:r>
                <a:rPr b="0" lang="en-US" sz="4800" spc="-1" strike="noStrike">
                  <a:solidFill>
                    <a:srgbClr val="3333cc"/>
                  </a:solidFill>
                  <a:latin typeface="Comic Sans MS"/>
                </a:rPr>
                <a:t> </a:t>
              </a:r>
              <a:endParaRPr b="0" lang="en-US" sz="4800" spc="-1" strike="noStrike">
                <a:solidFill>
                  <a:srgbClr val="000000"/>
                </a:solidFill>
                <a:latin typeface="Times New Roman"/>
              </a:endParaRPr>
            </a:p>
          </p:txBody>
        </p:sp>
      </p:grpSp>
      <p:grpSp>
        <p:nvGrpSpPr>
          <p:cNvPr id="2042" name=""/>
          <p:cNvGrpSpPr/>
          <p:nvPr/>
        </p:nvGrpSpPr>
        <p:grpSpPr>
          <a:xfrm>
            <a:off x="1077840" y="1295280"/>
            <a:ext cx="2438640" cy="459720"/>
            <a:chOff x="1077840" y="1295280"/>
            <a:chExt cx="2438640" cy="459720"/>
          </a:xfrm>
        </p:grpSpPr>
        <p:sp>
          <p:nvSpPr>
            <p:cNvPr id="2043" name=""/>
            <p:cNvSpPr/>
            <p:nvPr/>
          </p:nvSpPr>
          <p:spPr>
            <a:xfrm>
              <a:off x="2144880" y="1752480"/>
              <a:ext cx="714240" cy="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1077840" y="12952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ce</a:t>
              </a:r>
              <a:endParaRPr b="0" lang="en-US" sz="2400" spc="-1" strike="noStrike">
                <a:solidFill>
                  <a:srgbClr val="000000"/>
                </a:solidFill>
                <a:latin typeface="Times New Roman"/>
              </a:endParaRPr>
            </a:p>
          </p:txBody>
        </p:sp>
      </p:grpSp>
      <p:sp>
        <p:nvSpPr>
          <p:cNvPr id="2045" name=""/>
          <p:cNvSpPr/>
          <p:nvPr/>
        </p:nvSpPr>
        <p:spPr>
          <a:xfrm>
            <a:off x="6522120" y="4168800"/>
            <a:ext cx="1354320" cy="825120"/>
          </a:xfrm>
          <a:prstGeom prst="rect">
            <a:avLst/>
          </a:prstGeom>
          <a:gradFill rotWithShape="0">
            <a:gsLst>
              <a:gs pos="0">
                <a:srgbClr val="00cc99"/>
              </a:gs>
              <a:gs pos="100000">
                <a:srgbClr val="ffff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Comic Sans MS"/>
              </a:rPr>
              <a:t>37 F</a:t>
            </a:r>
            <a:endParaRPr b="0" lang="en-US" sz="4800" spc="-1" strike="noStrike">
              <a:solidFill>
                <a:srgbClr val="000000"/>
              </a:solidFill>
              <a:latin typeface="Times New Roman"/>
            </a:endParaRPr>
          </a:p>
        </p:txBody>
      </p:sp>
      <p:sp>
        <p:nvSpPr>
          <p:cNvPr id="2046" name=""/>
          <p:cNvSpPr/>
          <p:nvPr/>
        </p:nvSpPr>
        <p:spPr>
          <a:xfrm>
            <a:off x="914400" y="5272200"/>
            <a:ext cx="7696080" cy="825120"/>
          </a:xfrm>
          <a:prstGeom prst="rect">
            <a:avLst/>
          </a:prstGeom>
          <a:gradFill rotWithShape="0">
            <a:gsLst>
              <a:gs pos="0">
                <a:srgbClr val="00cc99"/>
              </a:gs>
              <a:gs pos="100000">
                <a:srgbClr val="ffffff"/>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Comic Sans MS"/>
              </a:rPr>
              <a:t>37 F above absolute zero</a:t>
            </a:r>
            <a:endParaRPr b="0" lang="en-US" sz="4800" spc="-1" strike="noStrike">
              <a:solidFill>
                <a:srgbClr val="000000"/>
              </a:solidFill>
              <a:latin typeface="Times New Roman"/>
            </a:endParaRPr>
          </a:p>
        </p:txBody>
      </p:sp>
    </p:spTree>
  </p:cSld>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034"/>
                                        </p:tgtEl>
                                        <p:attrNameLst>
                                          <p:attrName>style.visibility</p:attrName>
                                        </p:attrNameLst>
                                      </p:cBhvr>
                                      <p:to>
                                        <p:strVal val="visible"/>
                                      </p:to>
                                    </p:set>
                                    <p:animEffect filter="wipe(left)" transition="in">
                                      <p:cBhvr additive="repl">
                                        <p:cTn id="608" dur="500"/>
                                        <p:tgtEl>
                                          <p:spTgt spid="2034"/>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2038"/>
                                        </p:tgtEl>
                                        <p:attrNameLst>
                                          <p:attrName>style.visibility</p:attrName>
                                        </p:attrNameLst>
                                      </p:cBhvr>
                                      <p:to>
                                        <p:strVal val="visible"/>
                                      </p:to>
                                    </p:set>
                                    <p:animEffect filter="wipe(left)" transition="in">
                                      <p:cBhvr additive="repl">
                                        <p:cTn id="613" dur="500"/>
                                        <p:tgtEl>
                                          <p:spTgt spid="2038"/>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3" presetSubtype="272">
                                  <p:stCondLst>
                                    <p:cond delay="0"/>
                                  </p:stCondLst>
                                  <p:childTnLst>
                                    <p:set>
                                      <p:cBhvr>
                                        <p:cTn id="617" dur="1" fill="hold">
                                          <p:stCondLst>
                                            <p:cond delay="0"/>
                                          </p:stCondLst>
                                        </p:cTn>
                                        <p:tgtEl>
                                          <p:spTgt spid="2045"/>
                                        </p:tgtEl>
                                        <p:attrNameLst>
                                          <p:attrName>style.visibility</p:attrName>
                                        </p:attrNameLst>
                                      </p:cBhvr>
                                      <p:to>
                                        <p:strVal val="visible"/>
                                      </p:to>
                                    </p:set>
                                    <p:anim calcmode="lin" valueType="num">
                                      <p:cBhvr additive="repl">
                                        <p:cTn id="618" dur="500" fill="hold"/>
                                        <p:tgtEl>
                                          <p:spTgt spid="2045"/>
                                        </p:tgtEl>
                                        <p:attrNameLst>
                                          <p:attrName>ppt_w</p:attrName>
                                        </p:attrNameLst>
                                      </p:cBhvr>
                                      <p:tavLst>
                                        <p:tav tm="0">
                                          <p:val>
                                            <p:strVal val="2/3*#ppt_w"/>
                                          </p:val>
                                        </p:tav>
                                        <p:tav tm="100000">
                                          <p:val>
                                            <p:strVal val="#ppt_w"/>
                                          </p:val>
                                        </p:tav>
                                      </p:tavLst>
                                    </p:anim>
                                    <p:anim calcmode="lin" valueType="num">
                                      <p:cBhvr additive="repl">
                                        <p:cTn id="619" dur="500" fill="hold"/>
                                        <p:tgtEl>
                                          <p:spTgt spid="2045"/>
                                        </p:tgtEl>
                                        <p:attrNameLst>
                                          <p:attrName>ppt_h</p:attrName>
                                        </p:attrNameLst>
                                      </p:cBhvr>
                                      <p:tavLst>
                                        <p:tav tm="0">
                                          <p:val>
                                            <p:strVal val="2/3*#ppt_h"/>
                                          </p:val>
                                        </p:tav>
                                        <p:tav tm="100000">
                                          <p:val>
                                            <p:strVal val="#ppt_h"/>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3" presetSubtype="272">
                                  <p:stCondLst>
                                    <p:cond delay="0"/>
                                  </p:stCondLst>
                                  <p:childTnLst>
                                    <p:set>
                                      <p:cBhvr>
                                        <p:cTn id="623" dur="1" fill="hold">
                                          <p:stCondLst>
                                            <p:cond delay="0"/>
                                          </p:stCondLst>
                                        </p:cTn>
                                        <p:tgtEl>
                                          <p:spTgt spid="2046"/>
                                        </p:tgtEl>
                                        <p:attrNameLst>
                                          <p:attrName>style.visibility</p:attrName>
                                        </p:attrNameLst>
                                      </p:cBhvr>
                                      <p:to>
                                        <p:strVal val="visible"/>
                                      </p:to>
                                    </p:set>
                                    <p:anim calcmode="lin" valueType="num">
                                      <p:cBhvr additive="repl">
                                        <p:cTn id="624" dur="500" fill="hold"/>
                                        <p:tgtEl>
                                          <p:spTgt spid="2046"/>
                                        </p:tgtEl>
                                        <p:attrNameLst>
                                          <p:attrName>ppt_w</p:attrName>
                                        </p:attrNameLst>
                                      </p:cBhvr>
                                      <p:tavLst>
                                        <p:tav tm="0">
                                          <p:val>
                                            <p:strVal val="2/3*#ppt_w"/>
                                          </p:val>
                                        </p:tav>
                                        <p:tav tm="100000">
                                          <p:val>
                                            <p:strVal val="#ppt_w"/>
                                          </p:val>
                                        </p:tav>
                                      </p:tavLst>
                                    </p:anim>
                                    <p:anim calcmode="lin" valueType="num">
                                      <p:cBhvr additive="repl">
                                        <p:cTn id="625" dur="500" fill="hold"/>
                                        <p:tgtEl>
                                          <p:spTgt spid="204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047" name=""/>
          <p:cNvSpPr/>
          <p:nvPr/>
        </p:nvSpPr>
        <p:spPr>
          <a:xfrm>
            <a:off x="782640" y="2057400"/>
            <a:ext cx="74469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greatest temperature change for a single location on a given day was recorded in Browning, Montana where the temperature fell from a high of 44 degrees F to a low of  -56 degrees F.  How much did the temperature drop?</a:t>
            </a:r>
            <a:endParaRPr b="0" lang="en-US" sz="3600" spc="-1" strike="noStrike">
              <a:solidFill>
                <a:srgbClr val="000000"/>
              </a:solidFill>
              <a:latin typeface="Times New Roman"/>
            </a:endParaRPr>
          </a:p>
        </p:txBody>
      </p:sp>
      <p:sp>
        <p:nvSpPr>
          <p:cNvPr id="2048"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grpSp>
        <p:nvGrpSpPr>
          <p:cNvPr id="2049" name=""/>
          <p:cNvGrpSpPr/>
          <p:nvPr/>
        </p:nvGrpSpPr>
        <p:grpSpPr>
          <a:xfrm>
            <a:off x="203760" y="1215720"/>
            <a:ext cx="3169440" cy="1154160"/>
            <a:chOff x="203760" y="1215720"/>
            <a:chExt cx="3169440" cy="1154160"/>
          </a:xfrm>
        </p:grpSpPr>
        <p:sp>
          <p:nvSpPr>
            <p:cNvPr id="2050" name=""/>
            <p:cNvSpPr/>
            <p:nvPr/>
          </p:nvSpPr>
          <p:spPr>
            <a:xfrm rot="20897400">
              <a:off x="217440" y="1512360"/>
              <a:ext cx="2971800" cy="43956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rot="20897400">
              <a:off x="228600" y="153756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other example</a:t>
              </a:r>
              <a:endParaRPr b="0" lang="en-US" sz="2800" spc="-1" strike="noStrike">
                <a:solidFill>
                  <a:srgbClr val="000000"/>
                </a:solidFill>
                <a:latin typeface="Times New Roman"/>
              </a:endParaRPr>
            </a:p>
          </p:txBody>
        </p:sp>
      </p:grpSp>
      <p:sp>
        <p:nvSpPr>
          <p:cNvPr id="2052" name=""/>
          <p:cNvSpPr/>
          <p:nvPr/>
        </p:nvSpPr>
        <p:spPr>
          <a:xfrm>
            <a:off x="762120" y="2057400"/>
            <a:ext cx="74469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greatest temperature change for a single location on a given day was recorded in Browning, Montana where the temperature fell from a high of </a:t>
            </a:r>
            <a:r>
              <a:rPr b="0" lang="en-US" sz="3600" spc="-1" strike="noStrike">
                <a:solidFill>
                  <a:srgbClr val="00cc99"/>
                </a:solidFill>
                <a:latin typeface="Comic Sans MS"/>
              </a:rPr>
              <a:t>44 degrees F</a:t>
            </a:r>
            <a:r>
              <a:rPr b="0" lang="en-US" sz="3600" spc="-1" strike="noStrike">
                <a:solidFill>
                  <a:srgbClr val="000000"/>
                </a:solidFill>
                <a:latin typeface="Comic Sans MS"/>
              </a:rPr>
              <a:t> to a low of  </a:t>
            </a:r>
            <a:r>
              <a:rPr b="0" lang="en-US" sz="3600" spc="-1" strike="noStrike">
                <a:solidFill>
                  <a:srgbClr val="00cc99"/>
                </a:solidFill>
                <a:latin typeface="Comic Sans MS"/>
              </a:rPr>
              <a:t>-56 degrees F</a:t>
            </a:r>
            <a:r>
              <a:rPr b="0" lang="en-US" sz="3600" spc="-1" strike="noStrike">
                <a:solidFill>
                  <a:srgbClr val="000000"/>
                </a:solidFill>
                <a:latin typeface="Comic Sans MS"/>
              </a:rPr>
              <a:t>.  </a:t>
            </a:r>
            <a:r>
              <a:rPr b="0" lang="en-US" sz="3600" spc="-1" strike="noStrike">
                <a:solidFill>
                  <a:srgbClr val="3333cc"/>
                </a:solidFill>
                <a:latin typeface="Comic Sans MS"/>
              </a:rPr>
              <a:t>How much did the temperature drop</a:t>
            </a:r>
            <a:r>
              <a:rPr b="0" lang="en-US" sz="3600" spc="-1" strike="noStrike">
                <a:solidFill>
                  <a:srgbClr val="000000"/>
                </a:solidFill>
                <a:latin typeface="Comic Sans MS"/>
              </a:rPr>
              <a:t>?</a:t>
            </a:r>
            <a:endParaRPr b="0" lang="en-US" sz="3600" spc="-1" strike="noStrike">
              <a:solidFill>
                <a:srgbClr val="000000"/>
              </a:solidFill>
              <a:latin typeface="Times New Roman"/>
            </a:endParaRPr>
          </a:p>
        </p:txBody>
      </p:sp>
    </p:spTree>
  </p:cSld>
  <p:transition>
    <p:pull dir="l"/>
  </p:transition>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9">
                                  <p:stCondLst>
                                    <p:cond delay="0"/>
                                  </p:stCondLst>
                                  <p:childTnLst>
                                    <p:set>
                                      <p:cBhvr>
                                        <p:cTn id="631" dur="1" fill="hold">
                                          <p:stCondLst>
                                            <p:cond delay="0"/>
                                          </p:stCondLst>
                                        </p:cTn>
                                        <p:tgtEl>
                                          <p:spTgt spid="2047"/>
                                        </p:tgtEl>
                                        <p:attrNameLst>
                                          <p:attrName>style.visibility</p:attrName>
                                        </p:attrNameLst>
                                      </p:cBhvr>
                                      <p:to>
                                        <p:strVal val="visible"/>
                                      </p:to>
                                    </p:set>
                                    <p:animEffect filter="dissolve" transition="in">
                                      <p:cBhvr additive="repl">
                                        <p:cTn id="632" dur="500"/>
                                        <p:tgtEl>
                                          <p:spTgt spid="2047"/>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9">
                                  <p:stCondLst>
                                    <p:cond delay="0"/>
                                  </p:stCondLst>
                                  <p:childTnLst>
                                    <p:set>
                                      <p:cBhvr>
                                        <p:cTn id="636" dur="1" fill="hold">
                                          <p:stCondLst>
                                            <p:cond delay="0"/>
                                          </p:stCondLst>
                                        </p:cTn>
                                        <p:tgtEl>
                                          <p:spTgt spid="2052"/>
                                        </p:tgtEl>
                                        <p:attrNameLst>
                                          <p:attrName>style.visibility</p:attrName>
                                        </p:attrNameLst>
                                      </p:cBhvr>
                                      <p:to>
                                        <p:strVal val="visible"/>
                                      </p:to>
                                    </p:set>
                                    <p:animEffect filter="dissolve" transition="in">
                                      <p:cBhvr additive="repl">
                                        <p:cTn id="637" dur="500"/>
                                        <p:tgtEl>
                                          <p:spTgt spid="2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053" name=""/>
          <p:cNvSpPr/>
          <p:nvPr/>
        </p:nvSpPr>
        <p:spPr>
          <a:xfrm>
            <a:off x="1058760" y="2743200"/>
            <a:ext cx="679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ea typeface="Tahoma"/>
              </a:rPr>
              <a:t>Question: temperature difference?</a:t>
            </a:r>
            <a:endParaRPr b="0" lang="en-US" sz="3200" spc="-1" strike="noStrike">
              <a:solidFill>
                <a:srgbClr val="000000"/>
              </a:solidFill>
              <a:latin typeface="Times New Roman"/>
            </a:endParaRPr>
          </a:p>
        </p:txBody>
      </p:sp>
      <p:sp>
        <p:nvSpPr>
          <p:cNvPr id="2054" name=""/>
          <p:cNvSpPr/>
          <p:nvPr/>
        </p:nvSpPr>
        <p:spPr>
          <a:xfrm>
            <a:off x="914400" y="1523880"/>
            <a:ext cx="472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Given:  high 44</a:t>
            </a:r>
            <a:r>
              <a:rPr b="0" lang="en-US" sz="3200" spc="-1" strike="noStrike">
                <a:solidFill>
                  <a:srgbClr val="00cc99"/>
                </a:solidFill>
                <a:latin typeface="Comic Sans MS"/>
                <a:ea typeface="Tahoma"/>
              </a:rPr>
              <a:t>° F</a:t>
            </a:r>
            <a:endParaRPr b="0" lang="en-US" sz="3200" spc="-1" strike="noStrike">
              <a:solidFill>
                <a:srgbClr val="000000"/>
              </a:solidFill>
              <a:latin typeface="Times New Roman"/>
            </a:endParaRPr>
          </a:p>
        </p:txBody>
      </p:sp>
      <p:sp>
        <p:nvSpPr>
          <p:cNvPr id="2055" name=""/>
          <p:cNvSpPr/>
          <p:nvPr/>
        </p:nvSpPr>
        <p:spPr>
          <a:xfrm>
            <a:off x="2330280" y="2133720"/>
            <a:ext cx="2046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ea typeface="Tahoma"/>
              </a:rPr>
              <a:t>low -56° F</a:t>
            </a:r>
            <a:endParaRPr b="0" lang="en-US" sz="3200" spc="-1" strike="noStrike">
              <a:solidFill>
                <a:srgbClr val="000000"/>
              </a:solidFill>
              <a:latin typeface="Times New Roman"/>
            </a:endParaRPr>
          </a:p>
        </p:txBody>
      </p:sp>
      <p:sp>
        <p:nvSpPr>
          <p:cNvPr id="2056" name=""/>
          <p:cNvSpPr/>
          <p:nvPr/>
        </p:nvSpPr>
        <p:spPr>
          <a:xfrm>
            <a:off x="7620120" y="432900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3962520" y="432900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5181480" y="432900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533520" y="4633920"/>
            <a:ext cx="83055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7010280" y="432900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8229600" y="432900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3352680" y="432900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4572000" y="432900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6400800" y="432900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5791320" y="432900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a:off x="4636800" y="3719520"/>
            <a:ext cx="73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ahoma"/>
              </a:rPr>
              <a:t>° F</a:t>
            </a:r>
            <a:endParaRPr b="0" lang="en-US" sz="3600" spc="-1" strike="noStrike">
              <a:solidFill>
                <a:srgbClr val="000000"/>
              </a:solidFill>
              <a:latin typeface="Times New Roman"/>
            </a:endParaRPr>
          </a:p>
        </p:txBody>
      </p:sp>
      <p:sp>
        <p:nvSpPr>
          <p:cNvPr id="2067" name=""/>
          <p:cNvSpPr/>
          <p:nvPr/>
        </p:nvSpPr>
        <p:spPr>
          <a:xfrm>
            <a:off x="4495680" y="356724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4428720" y="3886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2069" name=""/>
          <p:cNvSpPr/>
          <p:nvPr/>
        </p:nvSpPr>
        <p:spPr>
          <a:xfrm>
            <a:off x="5502960" y="38862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20</a:t>
            </a:r>
            <a:endParaRPr b="0" lang="en-US" sz="2800" spc="-1" strike="noStrike">
              <a:solidFill>
                <a:srgbClr val="000000"/>
              </a:solidFill>
              <a:latin typeface="Times New Roman"/>
            </a:endParaRPr>
          </a:p>
        </p:txBody>
      </p:sp>
      <p:sp>
        <p:nvSpPr>
          <p:cNvPr id="2070" name=""/>
          <p:cNvSpPr/>
          <p:nvPr/>
        </p:nvSpPr>
        <p:spPr>
          <a:xfrm>
            <a:off x="7931880" y="38862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60</a:t>
            </a:r>
            <a:endParaRPr b="0" lang="en-US" sz="2800" spc="-1" strike="noStrike">
              <a:solidFill>
                <a:srgbClr val="000000"/>
              </a:solidFill>
              <a:latin typeface="Times New Roman"/>
            </a:endParaRPr>
          </a:p>
        </p:txBody>
      </p:sp>
      <p:sp>
        <p:nvSpPr>
          <p:cNvPr id="2071" name=""/>
          <p:cNvSpPr/>
          <p:nvPr/>
        </p:nvSpPr>
        <p:spPr>
          <a:xfrm>
            <a:off x="6721920" y="38862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40</a:t>
            </a:r>
            <a:endParaRPr b="0" lang="en-US" sz="2800" spc="-1" strike="noStrike">
              <a:solidFill>
                <a:srgbClr val="000000"/>
              </a:solidFill>
              <a:latin typeface="Times New Roman"/>
            </a:endParaRPr>
          </a:p>
        </p:txBody>
      </p:sp>
      <p:sp>
        <p:nvSpPr>
          <p:cNvPr id="2072" name=""/>
          <p:cNvSpPr/>
          <p:nvPr/>
        </p:nvSpPr>
        <p:spPr>
          <a:xfrm>
            <a:off x="3081240" y="388620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20</a:t>
            </a:r>
            <a:endParaRPr b="0" lang="en-US" sz="2800" spc="-1" strike="noStrike">
              <a:solidFill>
                <a:srgbClr val="000000"/>
              </a:solidFill>
              <a:latin typeface="Times New Roman"/>
            </a:endParaRPr>
          </a:p>
        </p:txBody>
      </p:sp>
      <p:sp>
        <p:nvSpPr>
          <p:cNvPr id="2073" name=""/>
          <p:cNvSpPr/>
          <p:nvPr/>
        </p:nvSpPr>
        <p:spPr>
          <a:xfrm>
            <a:off x="4572000" y="3657600"/>
            <a:ext cx="275256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flipH="1">
            <a:off x="1371600" y="3657600"/>
            <a:ext cx="312408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2819520" y="434340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6" name=""/>
          <p:cNvGrpSpPr/>
          <p:nvPr/>
        </p:nvGrpSpPr>
        <p:grpSpPr>
          <a:xfrm>
            <a:off x="1371600" y="5181480"/>
            <a:ext cx="5952600" cy="1099800"/>
            <a:chOff x="1371600" y="5181480"/>
            <a:chExt cx="5952600" cy="1099800"/>
          </a:xfrm>
        </p:grpSpPr>
        <p:sp>
          <p:nvSpPr>
            <p:cNvPr id="2077" name=""/>
            <p:cNvSpPr/>
            <p:nvPr/>
          </p:nvSpPr>
          <p:spPr>
            <a:xfrm rot="16200000">
              <a:off x="4119120" y="2433600"/>
              <a:ext cx="457200" cy="5952600"/>
            </a:xfrm>
            <a:custGeom>
              <a:avLst/>
              <a:gdLst>
                <a:gd name="textAreaLeft" fmla="*/ 292320 w 457200"/>
                <a:gd name="textAreaRight" fmla="*/ 457560 w 457200"/>
                <a:gd name="textAreaTop" fmla="*/ 155160 h 5952600"/>
                <a:gd name="textAreaBottom" fmla="*/ 5797440 h 5952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1549080" y="5638680"/>
              <a:ext cx="577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ahoma"/>
                </a:rPr>
                <a:t>difference is larger</a:t>
              </a:r>
              <a:endParaRPr b="0" lang="en-US" sz="3600" spc="-1" strike="noStrike">
                <a:solidFill>
                  <a:srgbClr val="000000"/>
                </a:solidFill>
                <a:latin typeface="Times New Roman"/>
              </a:endParaRPr>
            </a:p>
          </p:txBody>
        </p:sp>
      </p:grpSp>
      <p:sp>
        <p:nvSpPr>
          <p:cNvPr id="2079"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
        <p:nvSpPr>
          <p:cNvPr id="2080" name=""/>
          <p:cNvSpPr/>
          <p:nvPr/>
        </p:nvSpPr>
        <p:spPr>
          <a:xfrm>
            <a:off x="1371600" y="5181480"/>
            <a:ext cx="595296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676520" y="426708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1066680" y="426708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2286000" y="426708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2052720" y="3886200"/>
            <a:ext cx="7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40</a:t>
            </a:r>
            <a:endParaRPr b="0" lang="en-US" sz="2800" spc="-1" strike="noStrike">
              <a:solidFill>
                <a:srgbClr val="000000"/>
              </a:solidFill>
              <a:latin typeface="Times New Roman"/>
            </a:endParaRPr>
          </a:p>
        </p:txBody>
      </p:sp>
      <p:sp>
        <p:nvSpPr>
          <p:cNvPr id="2085" name=""/>
          <p:cNvSpPr/>
          <p:nvPr/>
        </p:nvSpPr>
        <p:spPr>
          <a:xfrm>
            <a:off x="637920" y="388620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60</a:t>
            </a:r>
            <a:endParaRPr b="0" lang="en-US" sz="2800" spc="-1" strike="noStrike">
              <a:solidFill>
                <a:srgbClr val="000000"/>
              </a:solidFill>
              <a:latin typeface="Times New Roman"/>
            </a:endParaRPr>
          </a:p>
        </p:txBody>
      </p:sp>
    </p:spTree>
  </p:cSld>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22" presetSubtype="8">
                                  <p:stCondLst>
                                    <p:cond delay="0"/>
                                  </p:stCondLst>
                                  <p:childTnLst>
                                    <p:set>
                                      <p:cBhvr>
                                        <p:cTn id="643" dur="1" fill="hold">
                                          <p:stCondLst>
                                            <p:cond delay="0"/>
                                          </p:stCondLst>
                                        </p:cTn>
                                        <p:tgtEl>
                                          <p:spTgt spid="2054"/>
                                        </p:tgtEl>
                                        <p:attrNameLst>
                                          <p:attrName>style.visibility</p:attrName>
                                        </p:attrNameLst>
                                      </p:cBhvr>
                                      <p:to>
                                        <p:strVal val="visible"/>
                                      </p:to>
                                    </p:set>
                                    <p:animEffect filter="wipe(left)" transition="in">
                                      <p:cBhvr additive="repl">
                                        <p:cTn id="644" dur="500"/>
                                        <p:tgtEl>
                                          <p:spTgt spid="2054"/>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2" presetSubtype="8">
                                  <p:stCondLst>
                                    <p:cond delay="0"/>
                                  </p:stCondLst>
                                  <p:childTnLst>
                                    <p:set>
                                      <p:cBhvr>
                                        <p:cTn id="648" dur="1" fill="hold">
                                          <p:stCondLst>
                                            <p:cond delay="0"/>
                                          </p:stCondLst>
                                        </p:cTn>
                                        <p:tgtEl>
                                          <p:spTgt spid="2073"/>
                                        </p:tgtEl>
                                        <p:attrNameLst>
                                          <p:attrName>style.visibility</p:attrName>
                                        </p:attrNameLst>
                                      </p:cBhvr>
                                      <p:to>
                                        <p:strVal val="visible"/>
                                      </p:to>
                                    </p:set>
                                    <p:animEffect filter="wipe(left)" transition="in">
                                      <p:cBhvr additive="repl">
                                        <p:cTn id="649" dur="500"/>
                                        <p:tgtEl>
                                          <p:spTgt spid="2073"/>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2" presetSubtype="8">
                                  <p:stCondLst>
                                    <p:cond delay="0"/>
                                  </p:stCondLst>
                                  <p:childTnLst>
                                    <p:set>
                                      <p:cBhvr>
                                        <p:cTn id="653" dur="1" fill="hold">
                                          <p:stCondLst>
                                            <p:cond delay="0"/>
                                          </p:stCondLst>
                                        </p:cTn>
                                        <p:tgtEl>
                                          <p:spTgt spid="2055"/>
                                        </p:tgtEl>
                                        <p:attrNameLst>
                                          <p:attrName>style.visibility</p:attrName>
                                        </p:attrNameLst>
                                      </p:cBhvr>
                                      <p:to>
                                        <p:strVal val="visible"/>
                                      </p:to>
                                    </p:set>
                                    <p:animEffect filter="wipe(left)" transition="in">
                                      <p:cBhvr additive="repl">
                                        <p:cTn id="654" dur="500"/>
                                        <p:tgtEl>
                                          <p:spTgt spid="2055"/>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2" presetSubtype="2">
                                  <p:stCondLst>
                                    <p:cond delay="0"/>
                                  </p:stCondLst>
                                  <p:childTnLst>
                                    <p:set>
                                      <p:cBhvr>
                                        <p:cTn id="658" dur="1" fill="hold">
                                          <p:stCondLst>
                                            <p:cond delay="0"/>
                                          </p:stCondLst>
                                        </p:cTn>
                                        <p:tgtEl>
                                          <p:spTgt spid="2074"/>
                                        </p:tgtEl>
                                        <p:attrNameLst>
                                          <p:attrName>style.visibility</p:attrName>
                                        </p:attrNameLst>
                                      </p:cBhvr>
                                      <p:to>
                                        <p:strVal val="visible"/>
                                      </p:to>
                                    </p:set>
                                    <p:animEffect filter="wipe(right)" transition="in">
                                      <p:cBhvr additive="repl">
                                        <p:cTn id="659" dur="500"/>
                                        <p:tgtEl>
                                          <p:spTgt spid="2074"/>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2" presetSubtype="8">
                                  <p:stCondLst>
                                    <p:cond delay="0"/>
                                  </p:stCondLst>
                                  <p:childTnLst>
                                    <p:set>
                                      <p:cBhvr>
                                        <p:cTn id="663" dur="1" fill="hold">
                                          <p:stCondLst>
                                            <p:cond delay="0"/>
                                          </p:stCondLst>
                                        </p:cTn>
                                        <p:tgtEl>
                                          <p:spTgt spid="2053"/>
                                        </p:tgtEl>
                                        <p:attrNameLst>
                                          <p:attrName>style.visibility</p:attrName>
                                        </p:attrNameLst>
                                      </p:cBhvr>
                                      <p:to>
                                        <p:strVal val="visible"/>
                                      </p:to>
                                    </p:set>
                                    <p:animEffect filter="wipe(left)" transition="in">
                                      <p:cBhvr additive="repl">
                                        <p:cTn id="664" dur="500"/>
                                        <p:tgtEl>
                                          <p:spTgt spid="2053"/>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37">
                                  <p:stCondLst>
                                    <p:cond delay="0"/>
                                  </p:stCondLst>
                                  <p:childTnLst>
                                    <p:set>
                                      <p:cBhvr>
                                        <p:cTn id="668" dur="1" fill="hold">
                                          <p:stCondLst>
                                            <p:cond delay="0"/>
                                          </p:stCondLst>
                                        </p:cTn>
                                        <p:tgtEl>
                                          <p:spTgt spid="2080"/>
                                        </p:tgtEl>
                                        <p:attrNameLst>
                                          <p:attrName>style.visibility</p:attrName>
                                        </p:attrNameLst>
                                      </p:cBhvr>
                                      <p:to>
                                        <p:strVal val="visible"/>
                                      </p:to>
                                    </p:set>
                                    <p:animEffect filter="barn(outVertical)" transition="in">
                                      <p:cBhvr additive="repl">
                                        <p:cTn id="669" dur="500"/>
                                        <p:tgtEl>
                                          <p:spTgt spid="2080"/>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2" presetSubtype="8">
                                  <p:stCondLst>
                                    <p:cond delay="0"/>
                                  </p:stCondLst>
                                  <p:childTnLst>
                                    <p:set>
                                      <p:cBhvr>
                                        <p:cTn id="673" dur="1" fill="hold">
                                          <p:stCondLst>
                                            <p:cond delay="0"/>
                                          </p:stCondLst>
                                        </p:cTn>
                                        <p:tgtEl>
                                          <p:spTgt spid="2076"/>
                                        </p:tgtEl>
                                        <p:attrNameLst>
                                          <p:attrName>style.visibility</p:attrName>
                                        </p:attrNameLst>
                                      </p:cBhvr>
                                      <p:to>
                                        <p:strVal val="visible"/>
                                      </p:to>
                                    </p:set>
                                    <p:animEffect filter="wipe(left)" transition="in">
                                      <p:cBhvr additive="repl">
                                        <p:cTn id="674" dur="500"/>
                                        <p:tgtEl>
                                          <p:spTgt spid="2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086" name=""/>
          <p:cNvSpPr/>
          <p:nvPr/>
        </p:nvSpPr>
        <p:spPr>
          <a:xfrm>
            <a:off x="800640" y="3809880"/>
            <a:ext cx="395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44 </a:t>
            </a:r>
            <a:r>
              <a:rPr b="0" lang="en-US" sz="3600" spc="-1" strike="noStrike">
                <a:solidFill>
                  <a:srgbClr val="6600cc"/>
                </a:solidFill>
                <a:latin typeface="Comic Sans MS"/>
                <a:ea typeface="Tahoma"/>
              </a:rPr>
              <a:t>° F</a:t>
            </a:r>
            <a:r>
              <a:rPr b="0" lang="en-US" sz="3600" spc="-1" strike="noStrike">
                <a:solidFill>
                  <a:srgbClr val="000000"/>
                </a:solidFill>
                <a:latin typeface="Comic Sans MS"/>
                <a:ea typeface="Tahoma"/>
              </a:rPr>
              <a:t> – </a:t>
            </a:r>
            <a:r>
              <a:rPr b="0" lang="en-US" sz="3600" spc="-1" strike="noStrike">
                <a:solidFill>
                  <a:srgbClr val="3333cc"/>
                </a:solidFill>
                <a:latin typeface="Comic Sans MS"/>
                <a:ea typeface="Tahoma"/>
              </a:rPr>
              <a:t>(-56 ° F )</a:t>
            </a:r>
            <a:r>
              <a:rPr b="0" lang="en-US" sz="3600" spc="-1" strike="noStrike">
                <a:solidFill>
                  <a:srgbClr val="000000"/>
                </a:solidFill>
                <a:latin typeface="Comic Sans MS"/>
                <a:ea typeface="Tahoma"/>
              </a:rPr>
              <a:t> =</a:t>
            </a:r>
            <a:endParaRPr b="0" lang="en-US" sz="3600" spc="-1" strike="noStrike">
              <a:solidFill>
                <a:srgbClr val="000000"/>
              </a:solidFill>
              <a:latin typeface="Times New Roman"/>
            </a:endParaRPr>
          </a:p>
        </p:txBody>
      </p:sp>
      <p:sp>
        <p:nvSpPr>
          <p:cNvPr id="2087" name=""/>
          <p:cNvSpPr/>
          <p:nvPr/>
        </p:nvSpPr>
        <p:spPr>
          <a:xfrm>
            <a:off x="5272200" y="3854520"/>
            <a:ext cx="307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44 </a:t>
            </a:r>
            <a:r>
              <a:rPr b="0" lang="en-US" sz="3600" spc="-1" strike="noStrike">
                <a:solidFill>
                  <a:srgbClr val="000000"/>
                </a:solidFill>
                <a:latin typeface="Comic Sans MS"/>
                <a:ea typeface="Tahoma"/>
              </a:rPr>
              <a:t>° F + 56 ° F</a:t>
            </a:r>
            <a:endParaRPr b="0" lang="en-US" sz="3600" spc="-1" strike="noStrike">
              <a:solidFill>
                <a:srgbClr val="000000"/>
              </a:solidFill>
              <a:latin typeface="Times New Roman"/>
            </a:endParaRPr>
          </a:p>
        </p:txBody>
      </p:sp>
      <p:sp>
        <p:nvSpPr>
          <p:cNvPr id="2088" name=""/>
          <p:cNvSpPr/>
          <p:nvPr/>
        </p:nvSpPr>
        <p:spPr>
          <a:xfrm>
            <a:off x="1929240" y="4903920"/>
            <a:ext cx="5572440" cy="764280"/>
          </a:xfrm>
          <a:prstGeom prst="rect">
            <a:avLst/>
          </a:prstGeom>
          <a:gradFill rotWithShape="0">
            <a:gsLst>
              <a:gs pos="0">
                <a:srgbClr val="00cc99"/>
              </a:gs>
              <a:gs pos="100000">
                <a:srgbClr val="ffff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100</a:t>
            </a:r>
            <a:r>
              <a:rPr b="1" lang="en-US" sz="4400" spc="-1" strike="noStrike">
                <a:solidFill>
                  <a:srgbClr val="000000"/>
                </a:solidFill>
                <a:latin typeface="Comic Sans MS"/>
                <a:ea typeface="Tahoma"/>
              </a:rPr>
              <a:t>° F is difference</a:t>
            </a:r>
            <a:r>
              <a:rPr b="1" lang="en-US" sz="4400" spc="-1" strike="noStrike">
                <a:solidFill>
                  <a:srgbClr val="000000"/>
                </a:solidFill>
                <a:latin typeface="Comic Sans MS"/>
              </a:rPr>
              <a:t> </a:t>
            </a:r>
            <a:endParaRPr b="0" lang="en-US" sz="4400" spc="-1" strike="noStrike">
              <a:solidFill>
                <a:srgbClr val="000000"/>
              </a:solidFill>
              <a:latin typeface="Times New Roman"/>
            </a:endParaRPr>
          </a:p>
        </p:txBody>
      </p:sp>
      <p:sp>
        <p:nvSpPr>
          <p:cNvPr id="2089"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
        <p:nvSpPr>
          <p:cNvPr id="2090" name=""/>
          <p:cNvSpPr/>
          <p:nvPr/>
        </p:nvSpPr>
        <p:spPr>
          <a:xfrm>
            <a:off x="7620120" y="236232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3962520" y="236232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5181480" y="236232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533520" y="2666880"/>
            <a:ext cx="83055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7010280" y="236232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8229600" y="236232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3352680" y="236232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4572000" y="236232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6400800" y="236232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5791320" y="236232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4636800" y="1752480"/>
            <a:ext cx="73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ahoma"/>
              </a:rPr>
              <a:t>° F</a:t>
            </a:r>
            <a:endParaRPr b="0" lang="en-US" sz="3600" spc="-1" strike="noStrike">
              <a:solidFill>
                <a:srgbClr val="000000"/>
              </a:solidFill>
              <a:latin typeface="Times New Roman"/>
            </a:endParaRPr>
          </a:p>
        </p:txBody>
      </p:sp>
      <p:sp>
        <p:nvSpPr>
          <p:cNvPr id="2101" name=""/>
          <p:cNvSpPr/>
          <p:nvPr/>
        </p:nvSpPr>
        <p:spPr>
          <a:xfrm>
            <a:off x="4495680" y="1600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4428720" y="1919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2103" name=""/>
          <p:cNvSpPr/>
          <p:nvPr/>
        </p:nvSpPr>
        <p:spPr>
          <a:xfrm>
            <a:off x="5502960" y="19191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20</a:t>
            </a:r>
            <a:endParaRPr b="0" lang="en-US" sz="2800" spc="-1" strike="noStrike">
              <a:solidFill>
                <a:srgbClr val="000000"/>
              </a:solidFill>
              <a:latin typeface="Times New Roman"/>
            </a:endParaRPr>
          </a:p>
        </p:txBody>
      </p:sp>
      <p:sp>
        <p:nvSpPr>
          <p:cNvPr id="2104" name=""/>
          <p:cNvSpPr/>
          <p:nvPr/>
        </p:nvSpPr>
        <p:spPr>
          <a:xfrm>
            <a:off x="7931880" y="19191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60</a:t>
            </a:r>
            <a:endParaRPr b="0" lang="en-US" sz="2800" spc="-1" strike="noStrike">
              <a:solidFill>
                <a:srgbClr val="000000"/>
              </a:solidFill>
              <a:latin typeface="Times New Roman"/>
            </a:endParaRPr>
          </a:p>
        </p:txBody>
      </p:sp>
      <p:sp>
        <p:nvSpPr>
          <p:cNvPr id="2105" name=""/>
          <p:cNvSpPr/>
          <p:nvPr/>
        </p:nvSpPr>
        <p:spPr>
          <a:xfrm>
            <a:off x="6721920" y="19191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40</a:t>
            </a:r>
            <a:endParaRPr b="0" lang="en-US" sz="2800" spc="-1" strike="noStrike">
              <a:solidFill>
                <a:srgbClr val="000000"/>
              </a:solidFill>
              <a:latin typeface="Times New Roman"/>
            </a:endParaRPr>
          </a:p>
        </p:txBody>
      </p:sp>
      <p:sp>
        <p:nvSpPr>
          <p:cNvPr id="2106" name=""/>
          <p:cNvSpPr/>
          <p:nvPr/>
        </p:nvSpPr>
        <p:spPr>
          <a:xfrm>
            <a:off x="3081240" y="191916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20</a:t>
            </a:r>
            <a:endParaRPr b="0" lang="en-US" sz="2800" spc="-1" strike="noStrike">
              <a:solidFill>
                <a:srgbClr val="000000"/>
              </a:solidFill>
              <a:latin typeface="Times New Roman"/>
            </a:endParaRPr>
          </a:p>
        </p:txBody>
      </p:sp>
      <p:sp>
        <p:nvSpPr>
          <p:cNvPr id="2107" name=""/>
          <p:cNvSpPr/>
          <p:nvPr/>
        </p:nvSpPr>
        <p:spPr>
          <a:xfrm>
            <a:off x="4572000" y="1690560"/>
            <a:ext cx="275256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flipH="1">
            <a:off x="1371600" y="1690560"/>
            <a:ext cx="312408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2819520" y="237636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1371600" y="3214800"/>
            <a:ext cx="595296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1676520" y="230040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1066680" y="230040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2286000" y="230040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2052720" y="1919160"/>
            <a:ext cx="7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40</a:t>
            </a:r>
            <a:endParaRPr b="0" lang="en-US" sz="2800" spc="-1" strike="noStrike">
              <a:solidFill>
                <a:srgbClr val="000000"/>
              </a:solidFill>
              <a:latin typeface="Times New Roman"/>
            </a:endParaRPr>
          </a:p>
        </p:txBody>
      </p:sp>
      <p:sp>
        <p:nvSpPr>
          <p:cNvPr id="2115" name=""/>
          <p:cNvSpPr/>
          <p:nvPr/>
        </p:nvSpPr>
        <p:spPr>
          <a:xfrm>
            <a:off x="637920" y="191916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60</a:t>
            </a:r>
            <a:endParaRPr b="0" lang="en-US" sz="2800" spc="-1" strike="noStrike">
              <a:solidFill>
                <a:srgbClr val="000000"/>
              </a:solidFill>
              <a:latin typeface="Times New Roman"/>
            </a:endParaRPr>
          </a:p>
        </p:txBody>
      </p:sp>
    </p:spTree>
  </p:cSld>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2107"/>
                                        </p:tgtEl>
                                        <p:attrNameLst>
                                          <p:attrName>style.visibility</p:attrName>
                                        </p:attrNameLst>
                                      </p:cBhvr>
                                      <p:to>
                                        <p:strVal val="visible"/>
                                      </p:to>
                                    </p:set>
                                    <p:animEffect filter="wipe(left)" transition="in">
                                      <p:cBhvr additive="repl">
                                        <p:cTn id="681" dur="500"/>
                                        <p:tgtEl>
                                          <p:spTgt spid="2107"/>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8">
                                  <p:stCondLst>
                                    <p:cond delay="0"/>
                                  </p:stCondLst>
                                  <p:childTnLst>
                                    <p:set>
                                      <p:cBhvr>
                                        <p:cTn id="685" dur="1" fill="hold">
                                          <p:stCondLst>
                                            <p:cond delay="0"/>
                                          </p:stCondLst>
                                        </p:cTn>
                                        <p:tgtEl>
                                          <p:spTgt spid="2086"/>
                                        </p:tgtEl>
                                        <p:attrNameLst>
                                          <p:attrName>style.visibility</p:attrName>
                                        </p:attrNameLst>
                                      </p:cBhvr>
                                      <p:to>
                                        <p:strVal val="visible"/>
                                      </p:to>
                                    </p:set>
                                    <p:animEffect filter="wipe(left)" transition="in">
                                      <p:cBhvr additive="repl">
                                        <p:cTn id="686" dur="500"/>
                                        <p:tgtEl>
                                          <p:spTgt spid="2086"/>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2">
                                  <p:stCondLst>
                                    <p:cond delay="0"/>
                                  </p:stCondLst>
                                  <p:childTnLst>
                                    <p:set>
                                      <p:cBhvr>
                                        <p:cTn id="690" dur="1" fill="hold">
                                          <p:stCondLst>
                                            <p:cond delay="0"/>
                                          </p:stCondLst>
                                        </p:cTn>
                                        <p:tgtEl>
                                          <p:spTgt spid="2108"/>
                                        </p:tgtEl>
                                        <p:attrNameLst>
                                          <p:attrName>style.visibility</p:attrName>
                                        </p:attrNameLst>
                                      </p:cBhvr>
                                      <p:to>
                                        <p:strVal val="visible"/>
                                      </p:to>
                                    </p:set>
                                    <p:animEffect filter="wipe(right)" transition="in">
                                      <p:cBhvr additive="repl">
                                        <p:cTn id="691" dur="500"/>
                                        <p:tgtEl>
                                          <p:spTgt spid="2108"/>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8">
                                  <p:stCondLst>
                                    <p:cond delay="0"/>
                                  </p:stCondLst>
                                  <p:childTnLst>
                                    <p:set>
                                      <p:cBhvr>
                                        <p:cTn id="695" dur="1" fill="hold">
                                          <p:stCondLst>
                                            <p:cond delay="0"/>
                                          </p:stCondLst>
                                        </p:cTn>
                                        <p:tgtEl>
                                          <p:spTgt spid="2087"/>
                                        </p:tgtEl>
                                        <p:attrNameLst>
                                          <p:attrName>style.visibility</p:attrName>
                                        </p:attrNameLst>
                                      </p:cBhvr>
                                      <p:to>
                                        <p:strVal val="visible"/>
                                      </p:to>
                                    </p:set>
                                    <p:animEffect filter="wipe(left)" transition="in">
                                      <p:cBhvr additive="repl">
                                        <p:cTn id="696" dur="500"/>
                                        <p:tgtEl>
                                          <p:spTgt spid="208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7" presetSubtype="4">
                                  <p:stCondLst>
                                    <p:cond delay="0"/>
                                  </p:stCondLst>
                                  <p:childTnLst>
                                    <p:set>
                                      <p:cBhvr>
                                        <p:cTn id="700" dur="1" fill="hold">
                                          <p:stCondLst>
                                            <p:cond delay="0"/>
                                          </p:stCondLst>
                                        </p:cTn>
                                        <p:tgtEl>
                                          <p:spTgt spid="2088"/>
                                        </p:tgtEl>
                                        <p:attrNameLst>
                                          <p:attrName>style.visibility</p:attrName>
                                        </p:attrNameLst>
                                      </p:cBhvr>
                                      <p:to>
                                        <p:strVal val="visible"/>
                                      </p:to>
                                    </p:set>
                                    <p:anim calcmode="lin" valueType="num">
                                      <p:cBhvr additive="repl">
                                        <p:cTn id="701" dur="500" fill="hold"/>
                                        <p:tgtEl>
                                          <p:spTgt spid="2088"/>
                                        </p:tgtEl>
                                        <p:attrNameLst>
                                          <p:attrName>ppt_x</p:attrName>
                                        </p:attrNameLst>
                                      </p:cBhvr>
                                      <p:tavLst>
                                        <p:tav tm="0">
                                          <p:val>
                                            <p:strVal val="#ppt_x"/>
                                          </p:val>
                                        </p:tav>
                                        <p:tav tm="100000">
                                          <p:val>
                                            <p:strVal val="#ppt_x"/>
                                          </p:val>
                                        </p:tav>
                                      </p:tavLst>
                                    </p:anim>
                                    <p:anim calcmode="lin" valueType="num">
                                      <p:cBhvr additive="repl">
                                        <p:cTn id="702" dur="500" fill="hold"/>
                                        <p:tgtEl>
                                          <p:spTgt spid="2088"/>
                                        </p:tgtEl>
                                        <p:attrNameLst>
                                          <p:attrName>ppt_y</p:attrName>
                                        </p:attrNameLst>
                                      </p:cBhvr>
                                      <p:tavLst>
                                        <p:tav tm="0">
                                          <p:val>
                                            <p:strVal val="#ppt_y+#ppt_h/2"/>
                                          </p:val>
                                        </p:tav>
                                        <p:tav tm="100000">
                                          <p:val>
                                            <p:strVal val="#ppt_y"/>
                                          </p:val>
                                        </p:tav>
                                      </p:tavLst>
                                    </p:anim>
                                    <p:anim calcmode="lin" valueType="num">
                                      <p:cBhvr additive="repl">
                                        <p:cTn id="703" dur="500" fill="hold"/>
                                        <p:tgtEl>
                                          <p:spTgt spid="2088"/>
                                        </p:tgtEl>
                                        <p:attrNameLst>
                                          <p:attrName>ppt_w</p:attrName>
                                        </p:attrNameLst>
                                      </p:cBhvr>
                                      <p:tavLst>
                                        <p:tav tm="0">
                                          <p:val>
                                            <p:strVal val="#ppt_w"/>
                                          </p:val>
                                        </p:tav>
                                        <p:tav tm="100000">
                                          <p:val>
                                            <p:strVal val="#ppt_w"/>
                                          </p:val>
                                        </p:tav>
                                      </p:tavLst>
                                    </p:anim>
                                    <p:anim calcmode="lin" valueType="num">
                                      <p:cBhvr additive="repl">
                                        <p:cTn id="704" dur="500" fill="hold"/>
                                        <p:tgtEl>
                                          <p:spTgt spid="2088"/>
                                        </p:tgtEl>
                                        <p:attrNameLst>
                                          <p:attrName>ppt_h</p:attrName>
                                        </p:attrNameLst>
                                      </p:cBhvr>
                                      <p:tavLst>
                                        <p:tav tm="0">
                                          <p:val>
                                            <p:fltVal val="0"/>
                                          </p:val>
                                        </p:tav>
                                        <p:tav tm="100000">
                                          <p:val>
                                            <p:strVal val="#ppt_h"/>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6" presetSubtype="37">
                                  <p:stCondLst>
                                    <p:cond delay="0"/>
                                  </p:stCondLst>
                                  <p:childTnLst>
                                    <p:set>
                                      <p:cBhvr>
                                        <p:cTn id="708" dur="1" fill="hold">
                                          <p:stCondLst>
                                            <p:cond delay="0"/>
                                          </p:stCondLst>
                                        </p:cTn>
                                        <p:tgtEl>
                                          <p:spTgt spid="2110"/>
                                        </p:tgtEl>
                                        <p:attrNameLst>
                                          <p:attrName>style.visibility</p:attrName>
                                        </p:attrNameLst>
                                      </p:cBhvr>
                                      <p:to>
                                        <p:strVal val="visible"/>
                                      </p:to>
                                    </p:set>
                                    <p:animEffect filter="barn(outVertical)" transition="in">
                                      <p:cBhvr additive="repl">
                                        <p:cTn id="709" dur="500"/>
                                        <p:tgtEl>
                                          <p:spTgt spid="2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116" name=""/>
          <p:cNvSpPr/>
          <p:nvPr/>
        </p:nvSpPr>
        <p:spPr>
          <a:xfrm>
            <a:off x="782640" y="2057400"/>
            <a:ext cx="74469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lowest point in Africa is Lake Assal which is 515 feet below sea level.  The lowest point in South America is the Valdes Peninsula which is 132 feet below sea level.  How much lower is Lake Assal than the Valdes Peninsula?</a:t>
            </a:r>
            <a:endParaRPr b="0" lang="en-US" sz="3600" spc="-1" strike="noStrike">
              <a:solidFill>
                <a:srgbClr val="000000"/>
              </a:solidFill>
              <a:latin typeface="Times New Roman"/>
            </a:endParaRPr>
          </a:p>
        </p:txBody>
      </p:sp>
      <p:sp>
        <p:nvSpPr>
          <p:cNvPr id="2117"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grpSp>
        <p:nvGrpSpPr>
          <p:cNvPr id="2118" name=""/>
          <p:cNvGrpSpPr/>
          <p:nvPr/>
        </p:nvGrpSpPr>
        <p:grpSpPr>
          <a:xfrm>
            <a:off x="203760" y="1215720"/>
            <a:ext cx="3169440" cy="1154160"/>
            <a:chOff x="203760" y="1215720"/>
            <a:chExt cx="3169440" cy="1154160"/>
          </a:xfrm>
        </p:grpSpPr>
        <p:sp>
          <p:nvSpPr>
            <p:cNvPr id="2119" name=""/>
            <p:cNvSpPr/>
            <p:nvPr/>
          </p:nvSpPr>
          <p:spPr>
            <a:xfrm rot="20897400">
              <a:off x="217440" y="1512360"/>
              <a:ext cx="2971800" cy="43956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rot="20897400">
              <a:off x="228600" y="153756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other example</a:t>
              </a:r>
              <a:endParaRPr b="0" lang="en-US" sz="2800" spc="-1" strike="noStrike">
                <a:solidFill>
                  <a:srgbClr val="000000"/>
                </a:solidFill>
                <a:latin typeface="Times New Roman"/>
              </a:endParaRPr>
            </a:p>
          </p:txBody>
        </p:sp>
      </p:grpSp>
      <p:sp>
        <p:nvSpPr>
          <p:cNvPr id="2121" name=""/>
          <p:cNvSpPr/>
          <p:nvPr/>
        </p:nvSpPr>
        <p:spPr>
          <a:xfrm>
            <a:off x="782640" y="2057400"/>
            <a:ext cx="74469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lowest point in Africa is Lake Assal which is </a:t>
            </a:r>
            <a:r>
              <a:rPr b="0" lang="en-US" sz="3600" spc="-1" strike="noStrike">
                <a:solidFill>
                  <a:srgbClr val="00cc99"/>
                </a:solidFill>
                <a:latin typeface="Comic Sans MS"/>
              </a:rPr>
              <a:t>515 feet below sea level</a:t>
            </a:r>
            <a:r>
              <a:rPr b="0" lang="en-US" sz="3600" spc="-1" strike="noStrike">
                <a:solidFill>
                  <a:srgbClr val="000000"/>
                </a:solidFill>
                <a:latin typeface="Comic Sans MS"/>
              </a:rPr>
              <a:t>.  The lowest point in South America is the Valdes Peninsula which is </a:t>
            </a:r>
            <a:r>
              <a:rPr b="0" lang="en-US" sz="3600" spc="-1" strike="noStrike">
                <a:solidFill>
                  <a:srgbClr val="00cc99"/>
                </a:solidFill>
                <a:latin typeface="Comic Sans MS"/>
              </a:rPr>
              <a:t>132 feet below sea level</a:t>
            </a:r>
            <a:r>
              <a:rPr b="0" lang="en-US" sz="3600" spc="-1" strike="noStrike">
                <a:solidFill>
                  <a:srgbClr val="000000"/>
                </a:solidFill>
                <a:latin typeface="Comic Sans MS"/>
              </a:rPr>
              <a:t>.  </a:t>
            </a:r>
            <a:r>
              <a:rPr b="0" lang="en-US" sz="3600" spc="-1" strike="noStrike">
                <a:solidFill>
                  <a:srgbClr val="3333cc"/>
                </a:solidFill>
                <a:latin typeface="Comic Sans MS"/>
              </a:rPr>
              <a:t>How much lower</a:t>
            </a:r>
            <a:r>
              <a:rPr b="0" lang="en-US" sz="3600" spc="-1" strike="noStrike">
                <a:solidFill>
                  <a:srgbClr val="000000"/>
                </a:solidFill>
                <a:latin typeface="Comic Sans MS"/>
              </a:rPr>
              <a:t> is Lake Assal than the Valdes Peninsula?</a:t>
            </a:r>
            <a:endParaRPr b="0" lang="en-US" sz="3600" spc="-1" strike="noStrike">
              <a:solidFill>
                <a:srgbClr val="000000"/>
              </a:solidFill>
              <a:latin typeface="Times New Roman"/>
            </a:endParaRPr>
          </a:p>
        </p:txBody>
      </p:sp>
    </p:spTree>
  </p:cSld>
  <p:transition>
    <p:pull dir="l"/>
  </p:transition>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9">
                                  <p:stCondLst>
                                    <p:cond delay="0"/>
                                  </p:stCondLst>
                                  <p:childTnLst>
                                    <p:set>
                                      <p:cBhvr>
                                        <p:cTn id="715" dur="1" fill="hold">
                                          <p:stCondLst>
                                            <p:cond delay="0"/>
                                          </p:stCondLst>
                                        </p:cTn>
                                        <p:tgtEl>
                                          <p:spTgt spid="2116"/>
                                        </p:tgtEl>
                                        <p:attrNameLst>
                                          <p:attrName>style.visibility</p:attrName>
                                        </p:attrNameLst>
                                      </p:cBhvr>
                                      <p:to>
                                        <p:strVal val="visible"/>
                                      </p:to>
                                    </p:set>
                                    <p:animEffect filter="dissolve" transition="in">
                                      <p:cBhvr additive="repl">
                                        <p:cTn id="716" dur="500"/>
                                        <p:tgtEl>
                                          <p:spTgt spid="2116"/>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9">
                                  <p:stCondLst>
                                    <p:cond delay="0"/>
                                  </p:stCondLst>
                                  <p:childTnLst>
                                    <p:set>
                                      <p:cBhvr>
                                        <p:cTn id="720" dur="1" fill="hold">
                                          <p:stCondLst>
                                            <p:cond delay="0"/>
                                          </p:stCondLst>
                                        </p:cTn>
                                        <p:tgtEl>
                                          <p:spTgt spid="2121"/>
                                        </p:tgtEl>
                                        <p:attrNameLst>
                                          <p:attrName>style.visibility</p:attrName>
                                        </p:attrNameLst>
                                      </p:cBhvr>
                                      <p:to>
                                        <p:strVal val="visible"/>
                                      </p:to>
                                    </p:set>
                                    <p:animEffect filter="dissolve" transition="in">
                                      <p:cBhvr additive="repl">
                                        <p:cTn id="721" dur="500"/>
                                        <p:tgtEl>
                                          <p:spTgt spid="2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122" name=""/>
          <p:cNvSpPr/>
          <p:nvPr/>
        </p:nvSpPr>
        <p:spPr>
          <a:xfrm>
            <a:off x="1067760" y="2743200"/>
            <a:ext cx="425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ea typeface="Tahoma"/>
              </a:rPr>
              <a:t>Question: difference?</a:t>
            </a:r>
            <a:endParaRPr b="0" lang="en-US" sz="3200" spc="-1" strike="noStrike">
              <a:solidFill>
                <a:srgbClr val="000000"/>
              </a:solidFill>
              <a:latin typeface="Times New Roman"/>
            </a:endParaRPr>
          </a:p>
        </p:txBody>
      </p:sp>
      <p:sp>
        <p:nvSpPr>
          <p:cNvPr id="2123" name=""/>
          <p:cNvSpPr/>
          <p:nvPr/>
        </p:nvSpPr>
        <p:spPr>
          <a:xfrm>
            <a:off x="914400" y="1523880"/>
            <a:ext cx="641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Given:  515 ft below sea level</a:t>
            </a:r>
            <a:endParaRPr b="0" lang="en-US" sz="3200" spc="-1" strike="noStrike">
              <a:solidFill>
                <a:srgbClr val="000000"/>
              </a:solidFill>
              <a:latin typeface="Times New Roman"/>
            </a:endParaRPr>
          </a:p>
        </p:txBody>
      </p:sp>
      <p:sp>
        <p:nvSpPr>
          <p:cNvPr id="2124" name=""/>
          <p:cNvSpPr/>
          <p:nvPr/>
        </p:nvSpPr>
        <p:spPr>
          <a:xfrm>
            <a:off x="2305440" y="2133720"/>
            <a:ext cx="427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ea typeface="Tahoma"/>
              </a:rPr>
              <a:t>132 ft below sea level</a:t>
            </a:r>
            <a:endParaRPr b="0" lang="en-US" sz="3200" spc="-1" strike="noStrike">
              <a:solidFill>
                <a:srgbClr val="000000"/>
              </a:solidFill>
              <a:latin typeface="Times New Roman"/>
            </a:endParaRPr>
          </a:p>
        </p:txBody>
      </p:sp>
      <p:sp>
        <p:nvSpPr>
          <p:cNvPr id="2125" name=""/>
          <p:cNvSpPr/>
          <p:nvPr/>
        </p:nvSpPr>
        <p:spPr>
          <a:xfrm flipH="1">
            <a:off x="7543440" y="5181480"/>
            <a:ext cx="6094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flipH="1">
            <a:off x="7543440" y="3276720"/>
            <a:ext cx="6094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flipH="1">
            <a:off x="7543440" y="2666880"/>
            <a:ext cx="6094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flipH="1">
            <a:off x="7543440" y="5791320"/>
            <a:ext cx="6094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flipH="1">
            <a:off x="7543440" y="3886200"/>
            <a:ext cx="6094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flipH="1">
            <a:off x="7543440" y="4572000"/>
            <a:ext cx="6094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7772400" y="2103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7151040" y="182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p:txBody>
      </p:sp>
      <p:sp>
        <p:nvSpPr>
          <p:cNvPr id="2133" name=""/>
          <p:cNvSpPr/>
          <p:nvPr/>
        </p:nvSpPr>
        <p:spPr>
          <a:xfrm>
            <a:off x="6595920" y="3048120"/>
            <a:ext cx="105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200</a:t>
            </a:r>
            <a:endParaRPr b="0" lang="en-US" sz="2800" spc="-1" strike="noStrike">
              <a:solidFill>
                <a:srgbClr val="000000"/>
              </a:solidFill>
              <a:latin typeface="Times New Roman"/>
            </a:endParaRPr>
          </a:p>
        </p:txBody>
      </p:sp>
      <p:sp>
        <p:nvSpPr>
          <p:cNvPr id="2134" name=""/>
          <p:cNvSpPr/>
          <p:nvPr/>
        </p:nvSpPr>
        <p:spPr>
          <a:xfrm>
            <a:off x="6477120" y="56386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600</a:t>
            </a:r>
            <a:endParaRPr b="0" lang="en-US" sz="2800" spc="-1" strike="noStrike">
              <a:solidFill>
                <a:srgbClr val="000000"/>
              </a:solidFill>
              <a:latin typeface="Times New Roman"/>
            </a:endParaRPr>
          </a:p>
        </p:txBody>
      </p:sp>
      <p:sp>
        <p:nvSpPr>
          <p:cNvPr id="2135" name=""/>
          <p:cNvSpPr/>
          <p:nvPr/>
        </p:nvSpPr>
        <p:spPr>
          <a:xfrm>
            <a:off x="6519960" y="4361040"/>
            <a:ext cx="125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400</a:t>
            </a:r>
            <a:endParaRPr b="0" lang="en-US" sz="2800" spc="-1" strike="noStrike">
              <a:solidFill>
                <a:srgbClr val="000000"/>
              </a:solidFill>
              <a:latin typeface="Times New Roman"/>
            </a:endParaRPr>
          </a:p>
        </p:txBody>
      </p:sp>
      <p:sp>
        <p:nvSpPr>
          <p:cNvPr id="2136" name=""/>
          <p:cNvSpPr/>
          <p:nvPr/>
        </p:nvSpPr>
        <p:spPr>
          <a:xfrm>
            <a:off x="8305920" y="2133720"/>
            <a:ext cx="0" cy="33321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8534520" y="2133720"/>
            <a:ext cx="0" cy="73008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
        <p:nvSpPr>
          <p:cNvPr id="2139" name=""/>
          <p:cNvSpPr/>
          <p:nvPr/>
        </p:nvSpPr>
        <p:spPr>
          <a:xfrm>
            <a:off x="8534520" y="2863800"/>
            <a:ext cx="0" cy="267516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7848720" y="2133720"/>
            <a:ext cx="0" cy="4146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1118520" y="3567240"/>
            <a:ext cx="417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515 ft</a:t>
            </a:r>
            <a:r>
              <a:rPr b="0" lang="en-US" sz="3600" spc="-1" strike="noStrike">
                <a:solidFill>
                  <a:srgbClr val="000000"/>
                </a:solidFill>
                <a:latin typeface="Comic Sans MS"/>
                <a:ea typeface="Tahoma"/>
              </a:rPr>
              <a:t> – </a:t>
            </a:r>
            <a:r>
              <a:rPr b="0" lang="en-US" sz="3600" spc="-1" strike="noStrike">
                <a:solidFill>
                  <a:srgbClr val="3333cc"/>
                </a:solidFill>
                <a:latin typeface="Comic Sans MS"/>
                <a:ea typeface="Tahoma"/>
              </a:rPr>
              <a:t>(-132 ft )</a:t>
            </a:r>
            <a:r>
              <a:rPr b="0" lang="en-US" sz="3600" spc="-1" strike="noStrike">
                <a:solidFill>
                  <a:srgbClr val="000000"/>
                </a:solidFill>
                <a:latin typeface="Comic Sans MS"/>
                <a:ea typeface="Tahoma"/>
              </a:rPr>
              <a:t> =</a:t>
            </a:r>
            <a:endParaRPr b="0" lang="en-US" sz="3600" spc="-1" strike="noStrike">
              <a:solidFill>
                <a:srgbClr val="000000"/>
              </a:solidFill>
              <a:latin typeface="Times New Roman"/>
            </a:endParaRPr>
          </a:p>
        </p:txBody>
      </p:sp>
      <p:sp>
        <p:nvSpPr>
          <p:cNvPr id="2142" name=""/>
          <p:cNvSpPr/>
          <p:nvPr/>
        </p:nvSpPr>
        <p:spPr>
          <a:xfrm>
            <a:off x="1157760" y="4540320"/>
            <a:ext cx="328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515 ft</a:t>
            </a:r>
            <a:r>
              <a:rPr b="0" lang="en-US" sz="3600" spc="-1" strike="noStrike">
                <a:solidFill>
                  <a:srgbClr val="000000"/>
                </a:solidFill>
                <a:latin typeface="Comic Sans MS"/>
                <a:ea typeface="Tahoma"/>
              </a:rPr>
              <a:t> + 132 ft</a:t>
            </a:r>
            <a:endParaRPr b="0" lang="en-US" sz="3600" spc="-1" strike="noStrike">
              <a:solidFill>
                <a:srgbClr val="000000"/>
              </a:solidFill>
              <a:latin typeface="Times New Roman"/>
            </a:endParaRPr>
          </a:p>
        </p:txBody>
      </p:sp>
      <p:sp>
        <p:nvSpPr>
          <p:cNvPr id="2143" name=""/>
          <p:cNvSpPr/>
          <p:nvPr/>
        </p:nvSpPr>
        <p:spPr>
          <a:xfrm>
            <a:off x="901800" y="5396040"/>
            <a:ext cx="5694120" cy="703440"/>
          </a:xfrm>
          <a:prstGeom prst="rect">
            <a:avLst/>
          </a:prstGeom>
          <a:gradFill rotWithShape="0">
            <a:gsLst>
              <a:gs pos="0">
                <a:srgbClr val="00cc99"/>
              </a:gs>
              <a:gs pos="100000">
                <a:srgbClr val="ffffff"/>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383 ft</a:t>
            </a:r>
            <a:r>
              <a:rPr b="1" lang="en-US" sz="4000" spc="-1" strike="noStrike">
                <a:solidFill>
                  <a:srgbClr val="000000"/>
                </a:solidFill>
                <a:latin typeface="Comic Sans MS"/>
                <a:ea typeface="Tahoma"/>
              </a:rPr>
              <a:t> is difference</a:t>
            </a:r>
            <a:endParaRPr b="0" lang="en-US" sz="4000" spc="-1" strike="noStrike">
              <a:solidFill>
                <a:srgbClr val="000000"/>
              </a:solidFill>
              <a:latin typeface="Times New Roman"/>
            </a:endParaRPr>
          </a:p>
        </p:txBody>
      </p:sp>
    </p:spTree>
  </p:cSld>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22" presetSubtype="8">
                                  <p:stCondLst>
                                    <p:cond delay="0"/>
                                  </p:stCondLst>
                                  <p:childTnLst>
                                    <p:set>
                                      <p:cBhvr>
                                        <p:cTn id="727" dur="1" fill="hold">
                                          <p:stCondLst>
                                            <p:cond delay="0"/>
                                          </p:stCondLst>
                                        </p:cTn>
                                        <p:tgtEl>
                                          <p:spTgt spid="2123"/>
                                        </p:tgtEl>
                                        <p:attrNameLst>
                                          <p:attrName>style.visibility</p:attrName>
                                        </p:attrNameLst>
                                      </p:cBhvr>
                                      <p:to>
                                        <p:strVal val="visible"/>
                                      </p:to>
                                    </p:set>
                                    <p:animEffect filter="wipe(left)" transition="in">
                                      <p:cBhvr additive="repl">
                                        <p:cTn id="728" dur="500"/>
                                        <p:tgtEl>
                                          <p:spTgt spid="2123"/>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2" presetSubtype="1">
                                  <p:stCondLst>
                                    <p:cond delay="0"/>
                                  </p:stCondLst>
                                  <p:childTnLst>
                                    <p:set>
                                      <p:cBhvr>
                                        <p:cTn id="732" dur="1" fill="hold">
                                          <p:stCondLst>
                                            <p:cond delay="0"/>
                                          </p:stCondLst>
                                        </p:cTn>
                                        <p:tgtEl>
                                          <p:spTgt spid="2136"/>
                                        </p:tgtEl>
                                        <p:attrNameLst>
                                          <p:attrName>style.visibility</p:attrName>
                                        </p:attrNameLst>
                                      </p:cBhvr>
                                      <p:to>
                                        <p:strVal val="visible"/>
                                      </p:to>
                                    </p:set>
                                    <p:animEffect filter="wipe(up)" transition="in">
                                      <p:cBhvr additive="repl">
                                        <p:cTn id="733" dur="500"/>
                                        <p:tgtEl>
                                          <p:spTgt spid="2136"/>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2" presetSubtype="8">
                                  <p:stCondLst>
                                    <p:cond delay="0"/>
                                  </p:stCondLst>
                                  <p:childTnLst>
                                    <p:set>
                                      <p:cBhvr>
                                        <p:cTn id="737" dur="1" fill="hold">
                                          <p:stCondLst>
                                            <p:cond delay="0"/>
                                          </p:stCondLst>
                                        </p:cTn>
                                        <p:tgtEl>
                                          <p:spTgt spid="2124"/>
                                        </p:tgtEl>
                                        <p:attrNameLst>
                                          <p:attrName>style.visibility</p:attrName>
                                        </p:attrNameLst>
                                      </p:cBhvr>
                                      <p:to>
                                        <p:strVal val="visible"/>
                                      </p:to>
                                    </p:set>
                                    <p:animEffect filter="wipe(left)" transition="in">
                                      <p:cBhvr additive="repl">
                                        <p:cTn id="738" dur="500"/>
                                        <p:tgtEl>
                                          <p:spTgt spid="2124"/>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1">
                                  <p:stCondLst>
                                    <p:cond delay="0"/>
                                  </p:stCondLst>
                                  <p:childTnLst>
                                    <p:set>
                                      <p:cBhvr>
                                        <p:cTn id="742" dur="1" fill="hold">
                                          <p:stCondLst>
                                            <p:cond delay="0"/>
                                          </p:stCondLst>
                                        </p:cTn>
                                        <p:tgtEl>
                                          <p:spTgt spid="2137"/>
                                        </p:tgtEl>
                                        <p:attrNameLst>
                                          <p:attrName>style.visibility</p:attrName>
                                        </p:attrNameLst>
                                      </p:cBhvr>
                                      <p:to>
                                        <p:strVal val="visible"/>
                                      </p:to>
                                    </p:set>
                                    <p:animEffect filter="wipe(up)" transition="in">
                                      <p:cBhvr additive="repl">
                                        <p:cTn id="743" dur="500"/>
                                        <p:tgtEl>
                                          <p:spTgt spid="2137"/>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122"/>
                                        </p:tgtEl>
                                        <p:attrNameLst>
                                          <p:attrName>style.visibility</p:attrName>
                                        </p:attrNameLst>
                                      </p:cBhvr>
                                      <p:to>
                                        <p:strVal val="visible"/>
                                      </p:to>
                                    </p:set>
                                    <p:animEffect filter="wipe(left)" transition="in">
                                      <p:cBhvr additive="repl">
                                        <p:cTn id="748" dur="500"/>
                                        <p:tgtEl>
                                          <p:spTgt spid="2122"/>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1">
                                  <p:stCondLst>
                                    <p:cond delay="0"/>
                                  </p:stCondLst>
                                  <p:childTnLst>
                                    <p:set>
                                      <p:cBhvr>
                                        <p:cTn id="752" dur="1" fill="hold">
                                          <p:stCondLst>
                                            <p:cond delay="0"/>
                                          </p:stCondLst>
                                        </p:cTn>
                                        <p:tgtEl>
                                          <p:spTgt spid="2139"/>
                                        </p:tgtEl>
                                        <p:attrNameLst>
                                          <p:attrName>style.visibility</p:attrName>
                                        </p:attrNameLst>
                                      </p:cBhvr>
                                      <p:to>
                                        <p:strVal val="visible"/>
                                      </p:to>
                                    </p:set>
                                    <p:animEffect filter="wipe(up)" transition="in">
                                      <p:cBhvr additive="repl">
                                        <p:cTn id="753" dur="500"/>
                                        <p:tgtEl>
                                          <p:spTgt spid="2139"/>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2" presetSubtype="8">
                                  <p:stCondLst>
                                    <p:cond delay="0"/>
                                  </p:stCondLst>
                                  <p:childTnLst>
                                    <p:set>
                                      <p:cBhvr>
                                        <p:cTn id="757" dur="1" fill="hold">
                                          <p:stCondLst>
                                            <p:cond delay="0"/>
                                          </p:stCondLst>
                                        </p:cTn>
                                        <p:tgtEl>
                                          <p:spTgt spid="2141"/>
                                        </p:tgtEl>
                                        <p:attrNameLst>
                                          <p:attrName>style.visibility</p:attrName>
                                        </p:attrNameLst>
                                      </p:cBhvr>
                                      <p:to>
                                        <p:strVal val="visible"/>
                                      </p:to>
                                    </p:set>
                                    <p:animEffect filter="wipe(left)" transition="in">
                                      <p:cBhvr additive="repl">
                                        <p:cTn id="758" dur="500"/>
                                        <p:tgtEl>
                                          <p:spTgt spid="214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2" presetSubtype="8">
                                  <p:stCondLst>
                                    <p:cond delay="0"/>
                                  </p:stCondLst>
                                  <p:childTnLst>
                                    <p:set>
                                      <p:cBhvr>
                                        <p:cTn id="762" dur="1" fill="hold">
                                          <p:stCondLst>
                                            <p:cond delay="0"/>
                                          </p:stCondLst>
                                        </p:cTn>
                                        <p:tgtEl>
                                          <p:spTgt spid="2142"/>
                                        </p:tgtEl>
                                        <p:attrNameLst>
                                          <p:attrName>style.visibility</p:attrName>
                                        </p:attrNameLst>
                                      </p:cBhvr>
                                      <p:to>
                                        <p:strVal val="visible"/>
                                      </p:to>
                                    </p:set>
                                    <p:animEffect filter="wipe(left)" transition="in">
                                      <p:cBhvr additive="repl">
                                        <p:cTn id="763" dur="500"/>
                                        <p:tgtEl>
                                          <p:spTgt spid="2142"/>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7" presetSubtype="4">
                                  <p:stCondLst>
                                    <p:cond delay="0"/>
                                  </p:stCondLst>
                                  <p:childTnLst>
                                    <p:set>
                                      <p:cBhvr>
                                        <p:cTn id="767" dur="1" fill="hold">
                                          <p:stCondLst>
                                            <p:cond delay="0"/>
                                          </p:stCondLst>
                                        </p:cTn>
                                        <p:tgtEl>
                                          <p:spTgt spid="2143"/>
                                        </p:tgtEl>
                                        <p:attrNameLst>
                                          <p:attrName>style.visibility</p:attrName>
                                        </p:attrNameLst>
                                      </p:cBhvr>
                                      <p:to>
                                        <p:strVal val="visible"/>
                                      </p:to>
                                    </p:set>
                                    <p:anim calcmode="lin" valueType="num">
                                      <p:cBhvr additive="repl">
                                        <p:cTn id="768" dur="500" fill="hold"/>
                                        <p:tgtEl>
                                          <p:spTgt spid="2143"/>
                                        </p:tgtEl>
                                        <p:attrNameLst>
                                          <p:attrName>ppt_x</p:attrName>
                                        </p:attrNameLst>
                                      </p:cBhvr>
                                      <p:tavLst>
                                        <p:tav tm="0">
                                          <p:val>
                                            <p:strVal val="#ppt_x"/>
                                          </p:val>
                                        </p:tav>
                                        <p:tav tm="100000">
                                          <p:val>
                                            <p:strVal val="#ppt_x"/>
                                          </p:val>
                                        </p:tav>
                                      </p:tavLst>
                                    </p:anim>
                                    <p:anim calcmode="lin" valueType="num">
                                      <p:cBhvr additive="repl">
                                        <p:cTn id="769" dur="500" fill="hold"/>
                                        <p:tgtEl>
                                          <p:spTgt spid="2143"/>
                                        </p:tgtEl>
                                        <p:attrNameLst>
                                          <p:attrName>ppt_y</p:attrName>
                                        </p:attrNameLst>
                                      </p:cBhvr>
                                      <p:tavLst>
                                        <p:tav tm="0">
                                          <p:val>
                                            <p:strVal val="#ppt_y+#ppt_h/2"/>
                                          </p:val>
                                        </p:tav>
                                        <p:tav tm="100000">
                                          <p:val>
                                            <p:strVal val="#ppt_y"/>
                                          </p:val>
                                        </p:tav>
                                      </p:tavLst>
                                    </p:anim>
                                    <p:anim calcmode="lin" valueType="num">
                                      <p:cBhvr additive="repl">
                                        <p:cTn id="770" dur="500" fill="hold"/>
                                        <p:tgtEl>
                                          <p:spTgt spid="2143"/>
                                        </p:tgtEl>
                                        <p:attrNameLst>
                                          <p:attrName>ppt_w</p:attrName>
                                        </p:attrNameLst>
                                      </p:cBhvr>
                                      <p:tavLst>
                                        <p:tav tm="0">
                                          <p:val>
                                            <p:strVal val="#ppt_w"/>
                                          </p:val>
                                        </p:tav>
                                        <p:tav tm="100000">
                                          <p:val>
                                            <p:strVal val="#ppt_w"/>
                                          </p:val>
                                        </p:tav>
                                      </p:tavLst>
                                    </p:anim>
                                    <p:anim calcmode="lin" valueType="num">
                                      <p:cBhvr additive="repl">
                                        <p:cTn id="771" dur="500" fill="hold"/>
                                        <p:tgtEl>
                                          <p:spTgt spid="2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144" name=""/>
          <p:cNvSpPr/>
          <p:nvPr/>
        </p:nvSpPr>
        <p:spPr>
          <a:xfrm>
            <a:off x="782640" y="2631960"/>
            <a:ext cx="7446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aura has a bill for $489 on her charge card.  She returns a dress than cost $115 and while at the store, picks up a skirt on sale at $50.  How much does she now owe on her credit card?</a:t>
            </a:r>
            <a:endParaRPr b="0" lang="en-US" sz="3600" spc="-1" strike="noStrike">
              <a:solidFill>
                <a:srgbClr val="000000"/>
              </a:solidFill>
              <a:latin typeface="Times New Roman"/>
            </a:endParaRPr>
          </a:p>
        </p:txBody>
      </p:sp>
      <p:sp>
        <p:nvSpPr>
          <p:cNvPr id="2145"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grpSp>
        <p:nvGrpSpPr>
          <p:cNvPr id="2146" name=""/>
          <p:cNvGrpSpPr/>
          <p:nvPr/>
        </p:nvGrpSpPr>
        <p:grpSpPr>
          <a:xfrm>
            <a:off x="203760" y="1215720"/>
            <a:ext cx="3169440" cy="1154160"/>
            <a:chOff x="203760" y="1215720"/>
            <a:chExt cx="3169440" cy="1154160"/>
          </a:xfrm>
        </p:grpSpPr>
        <p:sp>
          <p:nvSpPr>
            <p:cNvPr id="2147" name=""/>
            <p:cNvSpPr/>
            <p:nvPr/>
          </p:nvSpPr>
          <p:spPr>
            <a:xfrm rot="20897400">
              <a:off x="217440" y="1512360"/>
              <a:ext cx="2971800" cy="43956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rot="20897400">
              <a:off x="228600" y="153756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other example</a:t>
              </a:r>
              <a:endParaRPr b="0" lang="en-US" sz="2800" spc="-1" strike="noStrike">
                <a:solidFill>
                  <a:srgbClr val="000000"/>
                </a:solidFill>
                <a:latin typeface="Times New Roman"/>
              </a:endParaRPr>
            </a:p>
          </p:txBody>
        </p:sp>
      </p:grpSp>
      <p:sp>
        <p:nvSpPr>
          <p:cNvPr id="2149" name=""/>
          <p:cNvSpPr/>
          <p:nvPr/>
        </p:nvSpPr>
        <p:spPr>
          <a:xfrm>
            <a:off x="782640" y="2631960"/>
            <a:ext cx="7446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aura has a bill for </a:t>
            </a:r>
            <a:r>
              <a:rPr b="0" lang="en-US" sz="3600" spc="-1" strike="noStrike">
                <a:solidFill>
                  <a:srgbClr val="00cc99"/>
                </a:solidFill>
                <a:latin typeface="Comic Sans MS"/>
              </a:rPr>
              <a:t>$489 </a:t>
            </a:r>
            <a:r>
              <a:rPr b="0" lang="en-US" sz="3600" spc="-1" strike="noStrike">
                <a:solidFill>
                  <a:srgbClr val="000000"/>
                </a:solidFill>
                <a:latin typeface="Comic Sans MS"/>
              </a:rPr>
              <a:t>on her charge card.  She returns a dress than cost </a:t>
            </a:r>
            <a:r>
              <a:rPr b="0" lang="en-US" sz="3600" spc="-1" strike="noStrike">
                <a:solidFill>
                  <a:srgbClr val="00cc99"/>
                </a:solidFill>
                <a:latin typeface="Comic Sans MS"/>
              </a:rPr>
              <a:t>$115</a:t>
            </a:r>
            <a:r>
              <a:rPr b="0" lang="en-US" sz="3600" spc="-1" strike="noStrike">
                <a:solidFill>
                  <a:srgbClr val="000000"/>
                </a:solidFill>
                <a:latin typeface="Comic Sans MS"/>
              </a:rPr>
              <a:t> and while at the store, picks up a skirt on sale at </a:t>
            </a:r>
            <a:r>
              <a:rPr b="0" lang="en-US" sz="3600" spc="-1" strike="noStrike">
                <a:solidFill>
                  <a:srgbClr val="00cc99"/>
                </a:solidFill>
                <a:latin typeface="Comic Sans MS"/>
              </a:rPr>
              <a:t>$50</a:t>
            </a:r>
            <a:r>
              <a:rPr b="0" lang="en-US" sz="3600" spc="-1" strike="noStrike">
                <a:solidFill>
                  <a:srgbClr val="000000"/>
                </a:solidFill>
                <a:latin typeface="Comic Sans MS"/>
              </a:rPr>
              <a:t>.  </a:t>
            </a:r>
            <a:r>
              <a:rPr b="0" lang="en-US" sz="3600" spc="-1" strike="noStrike">
                <a:solidFill>
                  <a:srgbClr val="333399"/>
                </a:solidFill>
                <a:latin typeface="Comic Sans MS"/>
              </a:rPr>
              <a:t>How much does she now owe</a:t>
            </a:r>
            <a:r>
              <a:rPr b="0" lang="en-US" sz="3600" spc="-1" strike="noStrike">
                <a:solidFill>
                  <a:srgbClr val="000000"/>
                </a:solidFill>
                <a:latin typeface="Comic Sans MS"/>
              </a:rPr>
              <a:t> on her credit card?</a:t>
            </a:r>
            <a:endParaRPr b="0" lang="en-US" sz="3600" spc="-1" strike="noStrike">
              <a:solidFill>
                <a:srgbClr val="000000"/>
              </a:solidFill>
              <a:latin typeface="Times New Roman"/>
            </a:endParaRPr>
          </a:p>
        </p:txBody>
      </p:sp>
    </p:spTree>
  </p:cSld>
  <p:transition>
    <p:pull dir="l"/>
  </p:transition>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9">
                                  <p:stCondLst>
                                    <p:cond delay="0"/>
                                  </p:stCondLst>
                                  <p:childTnLst>
                                    <p:set>
                                      <p:cBhvr>
                                        <p:cTn id="777" dur="1" fill="hold">
                                          <p:stCondLst>
                                            <p:cond delay="0"/>
                                          </p:stCondLst>
                                        </p:cTn>
                                        <p:tgtEl>
                                          <p:spTgt spid="2144"/>
                                        </p:tgtEl>
                                        <p:attrNameLst>
                                          <p:attrName>style.visibility</p:attrName>
                                        </p:attrNameLst>
                                      </p:cBhvr>
                                      <p:to>
                                        <p:strVal val="visible"/>
                                      </p:to>
                                    </p:set>
                                    <p:animEffect filter="dissolve" transition="in">
                                      <p:cBhvr additive="repl">
                                        <p:cTn id="778" dur="500"/>
                                        <p:tgtEl>
                                          <p:spTgt spid="2144"/>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9">
                                  <p:stCondLst>
                                    <p:cond delay="0"/>
                                  </p:stCondLst>
                                  <p:childTnLst>
                                    <p:set>
                                      <p:cBhvr>
                                        <p:cTn id="782" dur="1" fill="hold">
                                          <p:stCondLst>
                                            <p:cond delay="0"/>
                                          </p:stCondLst>
                                        </p:cTn>
                                        <p:tgtEl>
                                          <p:spTgt spid="2149"/>
                                        </p:tgtEl>
                                        <p:attrNameLst>
                                          <p:attrName>style.visibility</p:attrName>
                                        </p:attrNameLst>
                                      </p:cBhvr>
                                      <p:to>
                                        <p:strVal val="visible"/>
                                      </p:to>
                                    </p:set>
                                    <p:animEffect filter="dissolve" transition="in">
                                      <p:cBhvr additive="repl">
                                        <p:cTn id="783" dur="500"/>
                                        <p:tgtEl>
                                          <p:spTgt spid="2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56" name=""/>
          <p:cNvSpPr/>
          <p:nvPr/>
        </p:nvSpPr>
        <p:spPr>
          <a:xfrm>
            <a:off x="609480" y="1308240"/>
            <a:ext cx="8153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f Ann has </a:t>
            </a:r>
            <a:r>
              <a:rPr b="0" lang="en-US" sz="3600" spc="-1" strike="noStrike">
                <a:solidFill>
                  <a:srgbClr val="3333cc"/>
                </a:solidFill>
                <a:latin typeface="Comic Sans MS"/>
              </a:rPr>
              <a:t>$456</a:t>
            </a:r>
            <a:r>
              <a:rPr b="0" lang="en-US" sz="3600" spc="-1" strike="noStrike">
                <a:solidFill>
                  <a:srgbClr val="000000"/>
                </a:solidFill>
                <a:latin typeface="Comic Sans MS"/>
              </a:rPr>
              <a:t>, and repays a </a:t>
            </a:r>
            <a:r>
              <a:rPr b="0" lang="en-US" sz="3600" spc="-1" strike="noStrike">
                <a:solidFill>
                  <a:srgbClr val="6600cc"/>
                </a:solidFill>
                <a:latin typeface="Comic Sans MS"/>
              </a:rPr>
              <a:t>$234</a:t>
            </a:r>
            <a:r>
              <a:rPr b="0" lang="en-US" sz="3600" spc="-1" strike="noStrike">
                <a:solidFill>
                  <a:srgbClr val="000000"/>
                </a:solidFill>
                <a:latin typeface="Comic Sans MS"/>
              </a:rPr>
              <a:t> loan, how much money does she have left?</a:t>
            </a:r>
            <a:endParaRPr b="0" lang="en-US" sz="3600" spc="-1" strike="noStrike">
              <a:solidFill>
                <a:srgbClr val="000000"/>
              </a:solidFill>
              <a:latin typeface="Times New Roman"/>
            </a:endParaRPr>
          </a:p>
        </p:txBody>
      </p:sp>
      <p:grpSp>
        <p:nvGrpSpPr>
          <p:cNvPr id="257" name=""/>
          <p:cNvGrpSpPr/>
          <p:nvPr/>
        </p:nvGrpSpPr>
        <p:grpSpPr>
          <a:xfrm>
            <a:off x="762120" y="5253120"/>
            <a:ext cx="7467120" cy="609480"/>
            <a:chOff x="762120" y="5253120"/>
            <a:chExt cx="7467120" cy="609480"/>
          </a:xfrm>
        </p:grpSpPr>
        <p:sp>
          <p:nvSpPr>
            <p:cNvPr id="258" name=""/>
            <p:cNvSpPr/>
            <p:nvPr/>
          </p:nvSpPr>
          <p:spPr>
            <a:xfrm>
              <a:off x="762120" y="5558040"/>
              <a:ext cx="7467120" cy="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562360" y="525312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522480" y="525312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482240" y="525312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615680" y="525312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575800" y="525312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42120" y="525312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602240" y="5405400"/>
              <a:ext cx="0" cy="381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4427280" y="5867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0</a:t>
            </a:r>
            <a:endParaRPr b="0" lang="en-US" sz="2400" spc="-1" strike="noStrike">
              <a:solidFill>
                <a:srgbClr val="000000"/>
              </a:solidFill>
              <a:latin typeface="Times New Roman"/>
            </a:endParaRPr>
          </a:p>
        </p:txBody>
      </p:sp>
      <p:sp>
        <p:nvSpPr>
          <p:cNvPr id="267" name=""/>
          <p:cNvSpPr/>
          <p:nvPr/>
        </p:nvSpPr>
        <p:spPr>
          <a:xfrm>
            <a:off x="5321880" y="5867280"/>
            <a:ext cx="70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00</a:t>
            </a:r>
            <a:endParaRPr b="0" lang="en-US" sz="2400" spc="-1" strike="noStrike">
              <a:solidFill>
                <a:srgbClr val="000000"/>
              </a:solidFill>
              <a:latin typeface="Times New Roman"/>
            </a:endParaRPr>
          </a:p>
        </p:txBody>
      </p:sp>
      <p:sp>
        <p:nvSpPr>
          <p:cNvPr id="268" name=""/>
          <p:cNvSpPr/>
          <p:nvPr/>
        </p:nvSpPr>
        <p:spPr>
          <a:xfrm>
            <a:off x="6236280" y="5867280"/>
            <a:ext cx="70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00</a:t>
            </a:r>
            <a:endParaRPr b="0" lang="en-US" sz="2400" spc="-1" strike="noStrike">
              <a:solidFill>
                <a:srgbClr val="000000"/>
              </a:solidFill>
              <a:latin typeface="Times New Roman"/>
            </a:endParaRPr>
          </a:p>
        </p:txBody>
      </p:sp>
      <p:sp>
        <p:nvSpPr>
          <p:cNvPr id="269" name=""/>
          <p:cNvSpPr/>
          <p:nvPr/>
        </p:nvSpPr>
        <p:spPr>
          <a:xfrm>
            <a:off x="7226640" y="5867280"/>
            <a:ext cx="70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600</a:t>
            </a:r>
            <a:endParaRPr b="0" lang="en-US" sz="2400" spc="-1" strike="noStrike">
              <a:solidFill>
                <a:srgbClr val="000000"/>
              </a:solidFill>
              <a:latin typeface="Times New Roman"/>
            </a:endParaRPr>
          </a:p>
        </p:txBody>
      </p:sp>
      <p:sp>
        <p:nvSpPr>
          <p:cNvPr id="270" name=""/>
          <p:cNvSpPr/>
          <p:nvPr/>
        </p:nvSpPr>
        <p:spPr>
          <a:xfrm>
            <a:off x="3264120" y="5867280"/>
            <a:ext cx="79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00</a:t>
            </a:r>
            <a:endParaRPr b="0" lang="en-US" sz="2400" spc="-1" strike="noStrike">
              <a:solidFill>
                <a:srgbClr val="000000"/>
              </a:solidFill>
              <a:latin typeface="Times New Roman"/>
            </a:endParaRPr>
          </a:p>
        </p:txBody>
      </p:sp>
      <p:sp>
        <p:nvSpPr>
          <p:cNvPr id="271" name=""/>
          <p:cNvSpPr/>
          <p:nvPr/>
        </p:nvSpPr>
        <p:spPr>
          <a:xfrm>
            <a:off x="2197440" y="5867280"/>
            <a:ext cx="79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00</a:t>
            </a:r>
            <a:endParaRPr b="0" lang="en-US" sz="2400" spc="-1" strike="noStrike">
              <a:solidFill>
                <a:srgbClr val="000000"/>
              </a:solidFill>
              <a:latin typeface="Times New Roman"/>
            </a:endParaRPr>
          </a:p>
        </p:txBody>
      </p:sp>
      <p:sp>
        <p:nvSpPr>
          <p:cNvPr id="272" name=""/>
          <p:cNvSpPr/>
          <p:nvPr/>
        </p:nvSpPr>
        <p:spPr>
          <a:xfrm>
            <a:off x="1206720" y="5867280"/>
            <a:ext cx="79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600</a:t>
            </a:r>
            <a:endParaRPr b="0" lang="en-US" sz="2400" spc="-1" strike="noStrike">
              <a:solidFill>
                <a:srgbClr val="000000"/>
              </a:solidFill>
              <a:latin typeface="Times New Roman"/>
            </a:endParaRPr>
          </a:p>
        </p:txBody>
      </p:sp>
      <p:sp>
        <p:nvSpPr>
          <p:cNvPr id="273" name=""/>
          <p:cNvSpPr/>
          <p:nvPr/>
        </p:nvSpPr>
        <p:spPr>
          <a:xfrm>
            <a:off x="4495680" y="5029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4" name=""/>
          <p:cNvGrpSpPr/>
          <p:nvPr/>
        </p:nvGrpSpPr>
        <p:grpSpPr>
          <a:xfrm>
            <a:off x="1667520" y="2895480"/>
            <a:ext cx="6413760" cy="840600"/>
            <a:chOff x="1667520" y="2895480"/>
            <a:chExt cx="6413760" cy="840600"/>
          </a:xfrm>
        </p:grpSpPr>
        <p:sp>
          <p:nvSpPr>
            <p:cNvPr id="275" name=""/>
            <p:cNvSpPr/>
            <p:nvPr/>
          </p:nvSpPr>
          <p:spPr>
            <a:xfrm>
              <a:off x="1667520" y="2895480"/>
              <a:ext cx="1460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456</a:t>
              </a:r>
              <a:endParaRPr b="0" lang="en-US" sz="4400" spc="-1" strike="noStrike">
                <a:solidFill>
                  <a:srgbClr val="000000"/>
                </a:solidFill>
                <a:latin typeface="Times New Roman"/>
              </a:endParaRPr>
            </a:p>
          </p:txBody>
        </p:sp>
        <p:sp>
          <p:nvSpPr>
            <p:cNvPr id="276" name=""/>
            <p:cNvSpPr/>
            <p:nvPr/>
          </p:nvSpPr>
          <p:spPr>
            <a:xfrm>
              <a:off x="3783960" y="2895480"/>
              <a:ext cx="1976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Comic Sans MS"/>
                </a:rPr>
                <a:t>(-$234)</a:t>
              </a:r>
              <a:endParaRPr b="0" lang="en-US" sz="4400" spc="-1" strike="noStrike">
                <a:solidFill>
                  <a:srgbClr val="000000"/>
                </a:solidFill>
                <a:latin typeface="Times New Roman"/>
              </a:endParaRPr>
            </a:p>
          </p:txBody>
        </p:sp>
        <p:sp>
          <p:nvSpPr>
            <p:cNvPr id="277" name=""/>
            <p:cNvSpPr/>
            <p:nvPr/>
          </p:nvSpPr>
          <p:spPr>
            <a:xfrm>
              <a:off x="3176280" y="297180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endParaRPr b="0" lang="en-US" sz="4400" spc="-1" strike="noStrike">
                <a:solidFill>
                  <a:srgbClr val="000000"/>
                </a:solidFill>
                <a:latin typeface="Times New Roman"/>
              </a:endParaRPr>
            </a:p>
          </p:txBody>
        </p:sp>
        <p:sp>
          <p:nvSpPr>
            <p:cNvPr id="278" name=""/>
            <p:cNvSpPr/>
            <p:nvPr/>
          </p:nvSpPr>
          <p:spPr>
            <a:xfrm>
              <a:off x="5928120" y="297180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a:r>
              <a:endParaRPr b="0" lang="en-US" sz="4400" spc="-1" strike="noStrike">
                <a:solidFill>
                  <a:srgbClr val="000000"/>
                </a:solidFill>
                <a:latin typeface="Times New Roman"/>
              </a:endParaRPr>
            </a:p>
          </p:txBody>
        </p:sp>
        <p:sp>
          <p:nvSpPr>
            <p:cNvPr id="279" name=""/>
            <p:cNvSpPr/>
            <p:nvPr/>
          </p:nvSpPr>
          <p:spPr>
            <a:xfrm>
              <a:off x="6620400" y="2971800"/>
              <a:ext cx="1460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22</a:t>
              </a:r>
              <a:endParaRPr b="0" lang="en-US" sz="4400" spc="-1" strike="noStrike">
                <a:solidFill>
                  <a:srgbClr val="000000"/>
                </a:solidFill>
                <a:latin typeface="Times New Roman"/>
              </a:endParaRPr>
            </a:p>
          </p:txBody>
        </p:sp>
      </p:grpSp>
      <p:sp>
        <p:nvSpPr>
          <p:cNvPr id="280"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grpSp>
        <p:nvGrpSpPr>
          <p:cNvPr id="281" name=""/>
          <p:cNvGrpSpPr/>
          <p:nvPr/>
        </p:nvGrpSpPr>
        <p:grpSpPr>
          <a:xfrm>
            <a:off x="4572000" y="4724280"/>
            <a:ext cx="2386080" cy="459720"/>
            <a:chOff x="4572000" y="4724280"/>
            <a:chExt cx="2386080" cy="459720"/>
          </a:xfrm>
        </p:grpSpPr>
        <p:sp>
          <p:nvSpPr>
            <p:cNvPr id="282" name=""/>
            <p:cNvSpPr/>
            <p:nvPr/>
          </p:nvSpPr>
          <p:spPr>
            <a:xfrm>
              <a:off x="4572000" y="5105520"/>
              <a:ext cx="220968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638680" y="4724280"/>
              <a:ext cx="131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456</a:t>
              </a:r>
              <a:endParaRPr b="0" lang="en-US" sz="2400" spc="-1" strike="noStrike">
                <a:solidFill>
                  <a:srgbClr val="000000"/>
                </a:solidFill>
                <a:latin typeface="Times New Roman"/>
              </a:endParaRPr>
            </a:p>
          </p:txBody>
        </p:sp>
      </p:grpSp>
      <p:grpSp>
        <p:nvGrpSpPr>
          <p:cNvPr id="284" name=""/>
          <p:cNvGrpSpPr/>
          <p:nvPr/>
        </p:nvGrpSpPr>
        <p:grpSpPr>
          <a:xfrm>
            <a:off x="5638320" y="3962520"/>
            <a:ext cx="1624320" cy="459720"/>
            <a:chOff x="5638320" y="3962520"/>
            <a:chExt cx="1624320" cy="459720"/>
          </a:xfrm>
        </p:grpSpPr>
        <p:sp>
          <p:nvSpPr>
            <p:cNvPr id="285" name=""/>
            <p:cNvSpPr/>
            <p:nvPr/>
          </p:nvSpPr>
          <p:spPr>
            <a:xfrm flipH="1">
              <a:off x="5638320" y="4419720"/>
              <a:ext cx="1143000" cy="0"/>
            </a:xfrm>
            <a:prstGeom prst="line">
              <a:avLst/>
            </a:prstGeom>
            <a:ln w="57240">
              <a:solidFill>
                <a:srgbClr val="66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943600" y="3962520"/>
              <a:ext cx="131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Comic Sans MS"/>
                </a:rPr>
                <a:t>$234</a:t>
              </a:r>
              <a:endParaRPr b="0" lang="en-US" sz="2400" spc="-1" strike="noStrike">
                <a:solidFill>
                  <a:srgbClr val="000000"/>
                </a:solidFill>
                <a:latin typeface="Times New Roman"/>
              </a:endParaRPr>
            </a:p>
          </p:txBody>
        </p:sp>
      </p:grpSp>
      <p:grpSp>
        <p:nvGrpSpPr>
          <p:cNvPr id="287" name=""/>
          <p:cNvGrpSpPr/>
          <p:nvPr/>
        </p:nvGrpSpPr>
        <p:grpSpPr>
          <a:xfrm>
            <a:off x="4127400" y="3962520"/>
            <a:ext cx="1511280" cy="459720"/>
            <a:chOff x="4127400" y="3962520"/>
            <a:chExt cx="1511280" cy="459720"/>
          </a:xfrm>
        </p:grpSpPr>
        <p:sp>
          <p:nvSpPr>
            <p:cNvPr id="288" name=""/>
            <p:cNvSpPr/>
            <p:nvPr/>
          </p:nvSpPr>
          <p:spPr>
            <a:xfrm>
              <a:off x="4572000" y="441972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127400" y="3962520"/>
              <a:ext cx="131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2</a:t>
              </a:r>
              <a:endParaRPr b="0" lang="en-US" sz="2400" spc="-1" strike="noStrike">
                <a:solidFill>
                  <a:srgbClr val="000000"/>
                </a:solidFill>
                <a:latin typeface="Times New Roman"/>
              </a:endParaRPr>
            </a:p>
          </p:txBody>
        </p:sp>
      </p:grpSp>
    </p:spTree>
  </p:cSld>
  <p:transition>
    <p:pull dir="l"/>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81"/>
                                        </p:tgtEl>
                                        <p:attrNameLst>
                                          <p:attrName>style.visibility</p:attrName>
                                        </p:attrNameLst>
                                      </p:cBhvr>
                                      <p:to>
                                        <p:strVal val="visible"/>
                                      </p:to>
                                    </p:set>
                                    <p:animEffect filter="wipe(left)" transition="in">
                                      <p:cBhvr additive="repl">
                                        <p:cTn id="68" dur="500"/>
                                        <p:tgtEl>
                                          <p:spTgt spid="28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2">
                                  <p:stCondLst>
                                    <p:cond delay="0"/>
                                  </p:stCondLst>
                                  <p:childTnLst>
                                    <p:set>
                                      <p:cBhvr>
                                        <p:cTn id="72" dur="1" fill="hold">
                                          <p:stCondLst>
                                            <p:cond delay="0"/>
                                          </p:stCondLst>
                                        </p:cTn>
                                        <p:tgtEl>
                                          <p:spTgt spid="284"/>
                                        </p:tgtEl>
                                        <p:attrNameLst>
                                          <p:attrName>style.visibility</p:attrName>
                                        </p:attrNameLst>
                                      </p:cBhvr>
                                      <p:to>
                                        <p:strVal val="visible"/>
                                      </p:to>
                                    </p:set>
                                    <p:animEffect filter="wipe(right)" transition="in">
                                      <p:cBhvr additive="repl">
                                        <p:cTn id="73" dur="500"/>
                                        <p:tgtEl>
                                          <p:spTgt spid="28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87"/>
                                        </p:tgtEl>
                                        <p:attrNameLst>
                                          <p:attrName>style.visibility</p:attrName>
                                        </p:attrNameLst>
                                      </p:cBhvr>
                                      <p:to>
                                        <p:strVal val="visible"/>
                                      </p:to>
                                    </p:set>
                                    <p:animEffect filter="wipe(left)" transition="in">
                                      <p:cBhvr additive="repl">
                                        <p:cTn id="78" dur="500"/>
                                        <p:tgtEl>
                                          <p:spTgt spid="28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74"/>
                                        </p:tgtEl>
                                        <p:attrNameLst>
                                          <p:attrName>style.visibility</p:attrName>
                                        </p:attrNameLst>
                                      </p:cBhvr>
                                      <p:to>
                                        <p:strVal val="visible"/>
                                      </p:to>
                                    </p:set>
                                    <p:animEffect filter="wipe(left)" transition="in">
                                      <p:cBhvr additive="repl">
                                        <p:cTn id="83"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150"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
        <p:nvSpPr>
          <p:cNvPr id="2151" name=""/>
          <p:cNvSpPr/>
          <p:nvPr/>
        </p:nvSpPr>
        <p:spPr>
          <a:xfrm>
            <a:off x="685800" y="1371600"/>
            <a:ext cx="771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Comic Sans MS"/>
              </a:rPr>
              <a:t>Given:  original balance = -$489</a:t>
            </a:r>
            <a:endParaRPr b="0" lang="en-US" sz="3600" spc="-1" strike="noStrike">
              <a:solidFill>
                <a:srgbClr val="000000"/>
              </a:solidFill>
              <a:latin typeface="Times New Roman"/>
            </a:endParaRPr>
          </a:p>
        </p:txBody>
      </p:sp>
      <p:sp>
        <p:nvSpPr>
          <p:cNvPr id="2152" name=""/>
          <p:cNvSpPr/>
          <p:nvPr/>
        </p:nvSpPr>
        <p:spPr>
          <a:xfrm>
            <a:off x="1752480" y="5378400"/>
            <a:ext cx="65534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7010280" y="50594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6019920" y="50594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4433760" y="50594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4952880" y="50594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5486400" y="50594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4741920" y="5759280"/>
            <a:ext cx="56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0  </a:t>
            </a:r>
            <a:endParaRPr b="0" lang="en-US" sz="2800" spc="-1" strike="noStrike">
              <a:solidFill>
                <a:srgbClr val="000000"/>
              </a:solidFill>
              <a:latin typeface="Times New Roman"/>
            </a:endParaRPr>
          </a:p>
        </p:txBody>
      </p:sp>
      <p:sp>
        <p:nvSpPr>
          <p:cNvPr id="2159" name=""/>
          <p:cNvSpPr/>
          <p:nvPr/>
        </p:nvSpPr>
        <p:spPr>
          <a:xfrm>
            <a:off x="3962520" y="50594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2286000" y="2013120"/>
            <a:ext cx="603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Comic Sans MS"/>
              </a:rPr>
              <a:t>return = +$115  </a:t>
            </a:r>
            <a:endParaRPr b="0" lang="en-US" sz="3600" spc="-1" strike="noStrike">
              <a:solidFill>
                <a:srgbClr val="000000"/>
              </a:solidFill>
              <a:latin typeface="Times New Roman"/>
            </a:endParaRPr>
          </a:p>
        </p:txBody>
      </p:sp>
      <p:sp>
        <p:nvSpPr>
          <p:cNvPr id="2161" name=""/>
          <p:cNvSpPr/>
          <p:nvPr/>
        </p:nvSpPr>
        <p:spPr>
          <a:xfrm>
            <a:off x="457200" y="3306600"/>
            <a:ext cx="8618400" cy="1068840"/>
          </a:xfrm>
          <a:prstGeom prst="rect">
            <a:avLst/>
          </a:prstGeom>
          <a:noFill/>
          <a:ln w="0">
            <a:noFill/>
          </a:ln>
        </p:spPr>
        <p:style>
          <a:lnRef idx="0"/>
          <a:fillRef idx="0"/>
          <a:effectRef idx="0"/>
          <a:fontRef idx="minor"/>
        </p:style>
        <p:txBody>
          <a:bodyPr lIns="90000" rIns="90000" tIns="46800" bIns="46800" anchor="t">
            <a:spAutoFit/>
          </a:bodyPr>
          <a:p>
            <a:pPr marL="2063880" indent="-2063880">
              <a:lnSpc>
                <a:spcPct val="100000"/>
              </a:lnSpc>
              <a:spcBef>
                <a:spcPts val="2001"/>
              </a:spcBef>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Question:  how much owed or  new balance?</a:t>
            </a:r>
            <a:endParaRPr b="0" lang="en-US" sz="3200" spc="-1" strike="noStrike">
              <a:solidFill>
                <a:srgbClr val="000000"/>
              </a:solidFill>
              <a:latin typeface="Times New Roman"/>
            </a:endParaRPr>
          </a:p>
        </p:txBody>
      </p:sp>
      <p:sp>
        <p:nvSpPr>
          <p:cNvPr id="2162" name=""/>
          <p:cNvSpPr/>
          <p:nvPr/>
        </p:nvSpPr>
        <p:spPr>
          <a:xfrm>
            <a:off x="2286000" y="2590920"/>
            <a:ext cx="581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99"/>
                </a:solidFill>
                <a:latin typeface="Comic Sans MS"/>
              </a:rPr>
              <a:t>skirt = -$50</a:t>
            </a:r>
            <a:endParaRPr b="0" lang="en-US" sz="3600" spc="-1" strike="noStrike">
              <a:solidFill>
                <a:srgbClr val="000000"/>
              </a:solidFill>
              <a:latin typeface="Times New Roman"/>
            </a:endParaRPr>
          </a:p>
        </p:txBody>
      </p:sp>
      <p:sp>
        <p:nvSpPr>
          <p:cNvPr id="2163" name=""/>
          <p:cNvSpPr/>
          <p:nvPr/>
        </p:nvSpPr>
        <p:spPr>
          <a:xfrm>
            <a:off x="5630760" y="575928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200</a:t>
            </a:r>
            <a:endParaRPr b="0" lang="en-US" sz="2800" spc="-1" strike="noStrike">
              <a:solidFill>
                <a:srgbClr val="000000"/>
              </a:solidFill>
              <a:latin typeface="Times New Roman"/>
            </a:endParaRPr>
          </a:p>
        </p:txBody>
      </p:sp>
      <p:sp>
        <p:nvSpPr>
          <p:cNvPr id="2164" name=""/>
          <p:cNvSpPr/>
          <p:nvPr/>
        </p:nvSpPr>
        <p:spPr>
          <a:xfrm>
            <a:off x="1951560" y="5759280"/>
            <a:ext cx="90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500</a:t>
            </a:r>
            <a:endParaRPr b="0" lang="en-US" sz="2800" spc="-1" strike="noStrike">
              <a:solidFill>
                <a:srgbClr val="000000"/>
              </a:solidFill>
              <a:latin typeface="Times New Roman"/>
            </a:endParaRPr>
          </a:p>
        </p:txBody>
      </p:sp>
      <p:sp>
        <p:nvSpPr>
          <p:cNvPr id="2165" name=""/>
          <p:cNvSpPr/>
          <p:nvPr/>
        </p:nvSpPr>
        <p:spPr>
          <a:xfrm>
            <a:off x="3452040" y="5759280"/>
            <a:ext cx="90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200</a:t>
            </a:r>
            <a:endParaRPr b="0" lang="en-US" sz="2800" spc="-1" strike="noStrike">
              <a:solidFill>
                <a:srgbClr val="000000"/>
              </a:solidFill>
              <a:latin typeface="Times New Roman"/>
            </a:endParaRPr>
          </a:p>
        </p:txBody>
      </p:sp>
      <p:sp>
        <p:nvSpPr>
          <p:cNvPr id="2166" name=""/>
          <p:cNvSpPr/>
          <p:nvPr/>
        </p:nvSpPr>
        <p:spPr>
          <a:xfrm>
            <a:off x="3411360" y="50594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2895480" y="50594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2438280" y="50594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6477120" y="50594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7467480" y="50594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1" name=""/>
          <p:cNvGrpSpPr/>
          <p:nvPr/>
        </p:nvGrpSpPr>
        <p:grpSpPr>
          <a:xfrm>
            <a:off x="1066680" y="4449600"/>
            <a:ext cx="1608120" cy="459720"/>
            <a:chOff x="1066680" y="4449600"/>
            <a:chExt cx="1608120" cy="459720"/>
          </a:xfrm>
        </p:grpSpPr>
        <p:sp>
          <p:nvSpPr>
            <p:cNvPr id="2172" name=""/>
            <p:cNvSpPr/>
            <p:nvPr/>
          </p:nvSpPr>
          <p:spPr>
            <a:xfrm>
              <a:off x="1066680" y="444960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Comic Sans MS"/>
                </a:rPr>
                <a:t>   </a:t>
              </a:r>
              <a:r>
                <a:rPr b="0" lang="en-US" sz="2400" spc="-1" strike="noStrike">
                  <a:solidFill>
                    <a:srgbClr val="cc3399"/>
                  </a:solidFill>
                  <a:latin typeface="Comic Sans MS"/>
                </a:rPr>
                <a:t>skirt</a:t>
              </a:r>
              <a:endParaRPr b="0" lang="en-US" sz="2400" spc="-1" strike="noStrike">
                <a:solidFill>
                  <a:srgbClr val="000000"/>
                </a:solidFill>
                <a:latin typeface="Times New Roman"/>
              </a:endParaRPr>
            </a:p>
          </p:txBody>
        </p:sp>
        <p:sp>
          <p:nvSpPr>
            <p:cNvPr id="2173" name=""/>
            <p:cNvSpPr/>
            <p:nvPr/>
          </p:nvSpPr>
          <p:spPr>
            <a:xfrm flipH="1">
              <a:off x="2090880" y="4830840"/>
              <a:ext cx="457200" cy="0"/>
            </a:xfrm>
            <a:prstGeom prst="line">
              <a:avLst/>
            </a:prstGeom>
            <a:ln w="57240">
              <a:solidFill>
                <a:srgbClr val="cc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74" name=""/>
          <p:cNvGrpSpPr/>
          <p:nvPr/>
        </p:nvGrpSpPr>
        <p:grpSpPr>
          <a:xfrm>
            <a:off x="2465280" y="4297320"/>
            <a:ext cx="2868480" cy="533520"/>
            <a:chOff x="2465280" y="4297320"/>
            <a:chExt cx="2868480" cy="533520"/>
          </a:xfrm>
        </p:grpSpPr>
        <p:sp>
          <p:nvSpPr>
            <p:cNvPr id="2175" name=""/>
            <p:cNvSpPr/>
            <p:nvPr/>
          </p:nvSpPr>
          <p:spPr>
            <a:xfrm flipH="1">
              <a:off x="2465280" y="4830840"/>
              <a:ext cx="248760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2590560" y="42973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original balance </a:t>
              </a:r>
              <a:endParaRPr b="0" lang="en-US" sz="2400" spc="-1" strike="noStrike">
                <a:solidFill>
                  <a:srgbClr val="000000"/>
                </a:solidFill>
                <a:latin typeface="Times New Roman"/>
              </a:endParaRPr>
            </a:p>
          </p:txBody>
        </p:sp>
      </p:grpSp>
      <p:grpSp>
        <p:nvGrpSpPr>
          <p:cNvPr id="2177" name=""/>
          <p:cNvGrpSpPr/>
          <p:nvPr/>
        </p:nvGrpSpPr>
        <p:grpSpPr>
          <a:xfrm>
            <a:off x="2971440" y="3886200"/>
            <a:ext cx="4758840" cy="459720"/>
            <a:chOff x="2971440" y="3886200"/>
            <a:chExt cx="4758840" cy="459720"/>
          </a:xfrm>
        </p:grpSpPr>
        <p:sp>
          <p:nvSpPr>
            <p:cNvPr id="2178" name=""/>
            <p:cNvSpPr/>
            <p:nvPr/>
          </p:nvSpPr>
          <p:spPr>
            <a:xfrm flipH="1">
              <a:off x="5028120" y="3886200"/>
              <a:ext cx="27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ow much owed</a:t>
              </a:r>
              <a:endParaRPr b="0" lang="en-US" sz="2400" spc="-1" strike="noStrike">
                <a:solidFill>
                  <a:srgbClr val="000000"/>
                </a:solidFill>
                <a:latin typeface="Times New Roman"/>
              </a:endParaRPr>
            </a:p>
          </p:txBody>
        </p:sp>
        <p:sp>
          <p:nvSpPr>
            <p:cNvPr id="2179" name=""/>
            <p:cNvSpPr/>
            <p:nvPr/>
          </p:nvSpPr>
          <p:spPr>
            <a:xfrm flipH="1">
              <a:off x="2971440" y="4145040"/>
              <a:ext cx="198108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0" name=""/>
          <p:cNvGrpSpPr/>
          <p:nvPr/>
        </p:nvGrpSpPr>
        <p:grpSpPr>
          <a:xfrm>
            <a:off x="1066680" y="3886200"/>
            <a:ext cx="1905120" cy="459720"/>
            <a:chOff x="1066680" y="3886200"/>
            <a:chExt cx="1905120" cy="459720"/>
          </a:xfrm>
        </p:grpSpPr>
        <p:sp>
          <p:nvSpPr>
            <p:cNvPr id="2181" name=""/>
            <p:cNvSpPr/>
            <p:nvPr/>
          </p:nvSpPr>
          <p:spPr>
            <a:xfrm>
              <a:off x="2151000" y="4145040"/>
              <a:ext cx="820800" cy="0"/>
            </a:xfrm>
            <a:prstGeom prst="line">
              <a:avLst/>
            </a:prstGeom>
            <a:ln w="57240">
              <a:solidFill>
                <a:srgbClr val="cc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1066680" y="3886200"/>
              <a:ext cx="13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rPr>
                <a:t>return</a:t>
              </a:r>
              <a:endParaRPr b="0" lang="en-US" sz="2400" spc="-1" strike="noStrike">
                <a:solidFill>
                  <a:srgbClr val="000000"/>
                </a:solidFill>
                <a:latin typeface="Times New Roman"/>
              </a:endParaRPr>
            </a:p>
          </p:txBody>
        </p:sp>
      </p:grpSp>
      <p:sp>
        <p:nvSpPr>
          <p:cNvPr id="2183" name=""/>
          <p:cNvSpPr/>
          <p:nvPr/>
        </p:nvSpPr>
        <p:spPr>
          <a:xfrm>
            <a:off x="4925880" y="4678200"/>
            <a:ext cx="1033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151"/>
                                        </p:tgtEl>
                                        <p:attrNameLst>
                                          <p:attrName>style.visibility</p:attrName>
                                        </p:attrNameLst>
                                      </p:cBhvr>
                                      <p:to>
                                        <p:strVal val="visible"/>
                                      </p:to>
                                    </p:set>
                                    <p:animEffect filter="wipe(left)" transition="in">
                                      <p:cBhvr additive="repl">
                                        <p:cTn id="790" dur="500"/>
                                        <p:tgtEl>
                                          <p:spTgt spid="2151"/>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2">
                                  <p:stCondLst>
                                    <p:cond delay="0"/>
                                  </p:stCondLst>
                                  <p:childTnLst>
                                    <p:set>
                                      <p:cBhvr>
                                        <p:cTn id="794" dur="1" fill="hold">
                                          <p:stCondLst>
                                            <p:cond delay="0"/>
                                          </p:stCondLst>
                                        </p:cTn>
                                        <p:tgtEl>
                                          <p:spTgt spid="2174"/>
                                        </p:tgtEl>
                                        <p:attrNameLst>
                                          <p:attrName>style.visibility</p:attrName>
                                        </p:attrNameLst>
                                      </p:cBhvr>
                                      <p:to>
                                        <p:strVal val="visible"/>
                                      </p:to>
                                    </p:set>
                                    <p:animEffect filter="wipe(right)" transition="in">
                                      <p:cBhvr additive="repl">
                                        <p:cTn id="795" dur="500"/>
                                        <p:tgtEl>
                                          <p:spTgt spid="2174"/>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2" presetSubtype="8">
                                  <p:stCondLst>
                                    <p:cond delay="0"/>
                                  </p:stCondLst>
                                  <p:childTnLst>
                                    <p:set>
                                      <p:cBhvr>
                                        <p:cTn id="799" dur="1" fill="hold">
                                          <p:stCondLst>
                                            <p:cond delay="0"/>
                                          </p:stCondLst>
                                        </p:cTn>
                                        <p:tgtEl>
                                          <p:spTgt spid="2162"/>
                                        </p:tgtEl>
                                        <p:attrNameLst>
                                          <p:attrName>style.visibility</p:attrName>
                                        </p:attrNameLst>
                                      </p:cBhvr>
                                      <p:to>
                                        <p:strVal val="visible"/>
                                      </p:to>
                                    </p:set>
                                    <p:animEffect filter="wipe(left)" transition="in">
                                      <p:cBhvr additive="repl">
                                        <p:cTn id="800" dur="500"/>
                                        <p:tgtEl>
                                          <p:spTgt spid="2162"/>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2" presetSubtype="2">
                                  <p:stCondLst>
                                    <p:cond delay="0"/>
                                  </p:stCondLst>
                                  <p:childTnLst>
                                    <p:set>
                                      <p:cBhvr>
                                        <p:cTn id="804" dur="1" fill="hold">
                                          <p:stCondLst>
                                            <p:cond delay="0"/>
                                          </p:stCondLst>
                                        </p:cTn>
                                        <p:tgtEl>
                                          <p:spTgt spid="2171"/>
                                        </p:tgtEl>
                                        <p:attrNameLst>
                                          <p:attrName>style.visibility</p:attrName>
                                        </p:attrNameLst>
                                      </p:cBhvr>
                                      <p:to>
                                        <p:strVal val="visible"/>
                                      </p:to>
                                    </p:set>
                                    <p:animEffect filter="wipe(right)" transition="in">
                                      <p:cBhvr additive="repl">
                                        <p:cTn id="805" dur="500"/>
                                        <p:tgtEl>
                                          <p:spTgt spid="2171"/>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2160"/>
                                        </p:tgtEl>
                                        <p:attrNameLst>
                                          <p:attrName>style.visibility</p:attrName>
                                        </p:attrNameLst>
                                      </p:cBhvr>
                                      <p:to>
                                        <p:strVal val="visible"/>
                                      </p:to>
                                    </p:set>
                                    <p:animEffect filter="wipe(left)" transition="in">
                                      <p:cBhvr additive="repl">
                                        <p:cTn id="810" dur="500"/>
                                        <p:tgtEl>
                                          <p:spTgt spid="2160"/>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2180"/>
                                        </p:tgtEl>
                                        <p:attrNameLst>
                                          <p:attrName>style.visibility</p:attrName>
                                        </p:attrNameLst>
                                      </p:cBhvr>
                                      <p:to>
                                        <p:strVal val="visible"/>
                                      </p:to>
                                    </p:set>
                                    <p:animEffect filter="wipe(left)" transition="in">
                                      <p:cBhvr additive="repl">
                                        <p:cTn id="815" dur="500"/>
                                        <p:tgtEl>
                                          <p:spTgt spid="2180"/>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2161"/>
                                        </p:tgtEl>
                                        <p:attrNameLst>
                                          <p:attrName>style.visibility</p:attrName>
                                        </p:attrNameLst>
                                      </p:cBhvr>
                                      <p:to>
                                        <p:strVal val="visible"/>
                                      </p:to>
                                    </p:set>
                                    <p:animEffect filter="wipe(left)" transition="in">
                                      <p:cBhvr additive="repl">
                                        <p:cTn id="820" dur="500"/>
                                        <p:tgtEl>
                                          <p:spTgt spid="2161"/>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2" presetSubtype="2">
                                  <p:stCondLst>
                                    <p:cond delay="0"/>
                                  </p:stCondLst>
                                  <p:childTnLst>
                                    <p:set>
                                      <p:cBhvr>
                                        <p:cTn id="824" dur="1" fill="hold">
                                          <p:stCondLst>
                                            <p:cond delay="0"/>
                                          </p:stCondLst>
                                        </p:cTn>
                                        <p:tgtEl>
                                          <p:spTgt spid="2177"/>
                                        </p:tgtEl>
                                        <p:attrNameLst>
                                          <p:attrName>style.visibility</p:attrName>
                                        </p:attrNameLst>
                                      </p:cBhvr>
                                      <p:to>
                                        <p:strVal val="visible"/>
                                      </p:to>
                                    </p:set>
                                    <p:animEffect filter="wipe(right)" transition="in">
                                      <p:cBhvr additive="repl">
                                        <p:cTn id="825" dur="500"/>
                                        <p:tgtEl>
                                          <p:spTgt spid="2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184" name=""/>
          <p:cNvSpPr/>
          <p:nvPr/>
        </p:nvSpPr>
        <p:spPr>
          <a:xfrm>
            <a:off x="596880" y="3809880"/>
            <a:ext cx="508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489</a:t>
            </a:r>
            <a:r>
              <a:rPr b="0" lang="en-US" sz="3600" spc="-1" strike="noStrike">
                <a:solidFill>
                  <a:srgbClr val="000000"/>
                </a:solidFill>
                <a:latin typeface="Comic Sans MS"/>
                <a:ea typeface="Tahoma"/>
              </a:rPr>
              <a:t> +</a:t>
            </a:r>
            <a:r>
              <a:rPr b="0" lang="en-US" sz="3600" spc="-1" strike="noStrike">
                <a:solidFill>
                  <a:srgbClr val="cc3399"/>
                </a:solidFill>
                <a:latin typeface="Comic Sans MS"/>
                <a:ea typeface="Tahoma"/>
              </a:rPr>
              <a:t>(-$50)</a:t>
            </a:r>
            <a:r>
              <a:rPr b="0" lang="en-US" sz="3600" spc="-1" strike="noStrike">
                <a:solidFill>
                  <a:srgbClr val="000000"/>
                </a:solidFill>
                <a:latin typeface="Comic Sans MS"/>
                <a:ea typeface="Tahoma"/>
              </a:rPr>
              <a:t> -</a:t>
            </a:r>
            <a:r>
              <a:rPr b="0" lang="en-US" sz="3600" spc="-1" strike="noStrike">
                <a:solidFill>
                  <a:srgbClr val="cc9900"/>
                </a:solidFill>
                <a:latin typeface="Comic Sans MS"/>
                <a:ea typeface="Tahoma"/>
              </a:rPr>
              <a:t>(-$115)</a:t>
            </a:r>
            <a:r>
              <a:rPr b="0" lang="en-US" sz="3600" spc="-1" strike="noStrike">
                <a:solidFill>
                  <a:srgbClr val="000000"/>
                </a:solidFill>
                <a:latin typeface="Comic Sans MS"/>
                <a:ea typeface="Tahoma"/>
              </a:rPr>
              <a:t> =</a:t>
            </a:r>
            <a:endParaRPr b="0" lang="en-US" sz="3600" spc="-1" strike="noStrike">
              <a:solidFill>
                <a:srgbClr val="000000"/>
              </a:solidFill>
              <a:latin typeface="Times New Roman"/>
            </a:endParaRPr>
          </a:p>
        </p:txBody>
      </p:sp>
      <p:sp>
        <p:nvSpPr>
          <p:cNvPr id="2185" name=""/>
          <p:cNvSpPr/>
          <p:nvPr/>
        </p:nvSpPr>
        <p:spPr>
          <a:xfrm>
            <a:off x="5867280" y="3809880"/>
            <a:ext cx="312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539 +$115 </a:t>
            </a:r>
            <a:endParaRPr b="0" lang="en-US" sz="3600" spc="-1" strike="noStrike">
              <a:solidFill>
                <a:srgbClr val="000000"/>
              </a:solidFill>
              <a:latin typeface="Times New Roman"/>
            </a:endParaRPr>
          </a:p>
        </p:txBody>
      </p:sp>
      <p:sp>
        <p:nvSpPr>
          <p:cNvPr id="2186" name=""/>
          <p:cNvSpPr/>
          <p:nvPr/>
        </p:nvSpPr>
        <p:spPr>
          <a:xfrm>
            <a:off x="1143000" y="4903920"/>
            <a:ext cx="6705720" cy="764280"/>
          </a:xfrm>
          <a:prstGeom prst="rect">
            <a:avLst/>
          </a:prstGeom>
          <a:gradFill rotWithShape="0">
            <a:gsLst>
              <a:gs pos="0">
                <a:srgbClr val="00cc99"/>
              </a:gs>
              <a:gs pos="100000">
                <a:srgbClr val="ffffff"/>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424 or $424 is owed </a:t>
            </a:r>
            <a:endParaRPr b="0" lang="en-US" sz="4400" spc="-1" strike="noStrike">
              <a:solidFill>
                <a:srgbClr val="000000"/>
              </a:solidFill>
              <a:latin typeface="Times New Roman"/>
            </a:endParaRPr>
          </a:p>
        </p:txBody>
      </p:sp>
      <p:sp>
        <p:nvSpPr>
          <p:cNvPr id="2187"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sp>
        <p:nvSpPr>
          <p:cNvPr id="2188" name=""/>
          <p:cNvSpPr/>
          <p:nvPr/>
        </p:nvSpPr>
        <p:spPr>
          <a:xfrm>
            <a:off x="1828800" y="2863800"/>
            <a:ext cx="6553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7086600" y="25448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6095880" y="25448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4510080" y="25448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5029200" y="25448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5562720" y="25448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4818240" y="3244680"/>
            <a:ext cx="56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0  </a:t>
            </a:r>
            <a:endParaRPr b="0" lang="en-US" sz="2800" spc="-1" strike="noStrike">
              <a:solidFill>
                <a:srgbClr val="000000"/>
              </a:solidFill>
              <a:latin typeface="Times New Roman"/>
            </a:endParaRPr>
          </a:p>
        </p:txBody>
      </p:sp>
      <p:sp>
        <p:nvSpPr>
          <p:cNvPr id="2195" name=""/>
          <p:cNvSpPr/>
          <p:nvPr/>
        </p:nvSpPr>
        <p:spPr>
          <a:xfrm>
            <a:off x="4038480" y="25448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5707080" y="324468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200</a:t>
            </a:r>
            <a:endParaRPr b="0" lang="en-US" sz="2800" spc="-1" strike="noStrike">
              <a:solidFill>
                <a:srgbClr val="000000"/>
              </a:solidFill>
              <a:latin typeface="Times New Roman"/>
            </a:endParaRPr>
          </a:p>
        </p:txBody>
      </p:sp>
      <p:sp>
        <p:nvSpPr>
          <p:cNvPr id="2197" name=""/>
          <p:cNvSpPr/>
          <p:nvPr/>
        </p:nvSpPr>
        <p:spPr>
          <a:xfrm>
            <a:off x="2027880" y="3244680"/>
            <a:ext cx="90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500</a:t>
            </a:r>
            <a:endParaRPr b="0" lang="en-US" sz="2800" spc="-1" strike="noStrike">
              <a:solidFill>
                <a:srgbClr val="000000"/>
              </a:solidFill>
              <a:latin typeface="Times New Roman"/>
            </a:endParaRPr>
          </a:p>
        </p:txBody>
      </p:sp>
      <p:sp>
        <p:nvSpPr>
          <p:cNvPr id="2198" name=""/>
          <p:cNvSpPr/>
          <p:nvPr/>
        </p:nvSpPr>
        <p:spPr>
          <a:xfrm>
            <a:off x="3528000" y="3244680"/>
            <a:ext cx="90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200</a:t>
            </a:r>
            <a:endParaRPr b="0" lang="en-US" sz="2800" spc="-1" strike="noStrike">
              <a:solidFill>
                <a:srgbClr val="000000"/>
              </a:solidFill>
              <a:latin typeface="Times New Roman"/>
            </a:endParaRPr>
          </a:p>
        </p:txBody>
      </p:sp>
      <p:sp>
        <p:nvSpPr>
          <p:cNvPr id="2199" name=""/>
          <p:cNvSpPr/>
          <p:nvPr/>
        </p:nvSpPr>
        <p:spPr>
          <a:xfrm>
            <a:off x="3487680" y="25448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2971800" y="25448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2514600" y="25448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6553080" y="25448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7543800" y="254484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4" name=""/>
          <p:cNvGrpSpPr/>
          <p:nvPr/>
        </p:nvGrpSpPr>
        <p:grpSpPr>
          <a:xfrm>
            <a:off x="1143000" y="1935000"/>
            <a:ext cx="1608120" cy="459720"/>
            <a:chOff x="1143000" y="1935000"/>
            <a:chExt cx="1608120" cy="459720"/>
          </a:xfrm>
        </p:grpSpPr>
        <p:sp>
          <p:nvSpPr>
            <p:cNvPr id="2205" name=""/>
            <p:cNvSpPr/>
            <p:nvPr/>
          </p:nvSpPr>
          <p:spPr>
            <a:xfrm>
              <a:off x="1143000" y="193500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Comic Sans MS"/>
                </a:rPr>
                <a:t>dress </a:t>
              </a:r>
              <a:endParaRPr b="0" lang="en-US" sz="2400" spc="-1" strike="noStrike">
                <a:solidFill>
                  <a:srgbClr val="000000"/>
                </a:solidFill>
                <a:latin typeface="Times New Roman"/>
              </a:endParaRPr>
            </a:p>
          </p:txBody>
        </p:sp>
        <p:sp>
          <p:nvSpPr>
            <p:cNvPr id="2206" name=""/>
            <p:cNvSpPr/>
            <p:nvPr/>
          </p:nvSpPr>
          <p:spPr>
            <a:xfrm flipH="1">
              <a:off x="2167200" y="2316240"/>
              <a:ext cx="457200" cy="0"/>
            </a:xfrm>
            <a:prstGeom prst="line">
              <a:avLst/>
            </a:prstGeom>
            <a:ln w="57240">
              <a:solidFill>
                <a:srgbClr val="cc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7" name=""/>
          <p:cNvGrpSpPr/>
          <p:nvPr/>
        </p:nvGrpSpPr>
        <p:grpSpPr>
          <a:xfrm>
            <a:off x="2541600" y="1782720"/>
            <a:ext cx="2868480" cy="533520"/>
            <a:chOff x="2541600" y="1782720"/>
            <a:chExt cx="2868480" cy="533520"/>
          </a:xfrm>
        </p:grpSpPr>
        <p:sp>
          <p:nvSpPr>
            <p:cNvPr id="2208" name=""/>
            <p:cNvSpPr/>
            <p:nvPr/>
          </p:nvSpPr>
          <p:spPr>
            <a:xfrm flipH="1">
              <a:off x="2541600" y="2316240"/>
              <a:ext cx="248760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2666880" y="17827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original balance </a:t>
              </a:r>
              <a:endParaRPr b="0" lang="en-US" sz="2400" spc="-1" strike="noStrike">
                <a:solidFill>
                  <a:srgbClr val="000000"/>
                </a:solidFill>
                <a:latin typeface="Times New Roman"/>
              </a:endParaRPr>
            </a:p>
          </p:txBody>
        </p:sp>
      </p:grpSp>
      <p:grpSp>
        <p:nvGrpSpPr>
          <p:cNvPr id="2210" name=""/>
          <p:cNvGrpSpPr/>
          <p:nvPr/>
        </p:nvGrpSpPr>
        <p:grpSpPr>
          <a:xfrm>
            <a:off x="2751120" y="1371600"/>
            <a:ext cx="5055840" cy="459720"/>
            <a:chOff x="2751120" y="1371600"/>
            <a:chExt cx="5055840" cy="459720"/>
          </a:xfrm>
        </p:grpSpPr>
        <p:sp>
          <p:nvSpPr>
            <p:cNvPr id="2211" name=""/>
            <p:cNvSpPr/>
            <p:nvPr/>
          </p:nvSpPr>
          <p:spPr>
            <a:xfrm flipH="1">
              <a:off x="5104800" y="1371600"/>
              <a:ext cx="27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ow much owed</a:t>
              </a:r>
              <a:endParaRPr b="0" lang="en-US" sz="2400" spc="-1" strike="noStrike">
                <a:solidFill>
                  <a:srgbClr val="000000"/>
                </a:solidFill>
                <a:latin typeface="Times New Roman"/>
              </a:endParaRPr>
            </a:p>
          </p:txBody>
        </p:sp>
        <p:sp>
          <p:nvSpPr>
            <p:cNvPr id="2212" name=""/>
            <p:cNvSpPr/>
            <p:nvPr/>
          </p:nvSpPr>
          <p:spPr>
            <a:xfrm flipH="1">
              <a:off x="2751120" y="1630440"/>
              <a:ext cx="227808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13" name=""/>
          <p:cNvGrpSpPr/>
          <p:nvPr/>
        </p:nvGrpSpPr>
        <p:grpSpPr>
          <a:xfrm>
            <a:off x="1143000" y="1371600"/>
            <a:ext cx="1608120" cy="459720"/>
            <a:chOff x="1143000" y="1371600"/>
            <a:chExt cx="1608120" cy="459720"/>
          </a:xfrm>
        </p:grpSpPr>
        <p:sp>
          <p:nvSpPr>
            <p:cNvPr id="2214" name=""/>
            <p:cNvSpPr/>
            <p:nvPr/>
          </p:nvSpPr>
          <p:spPr>
            <a:xfrm>
              <a:off x="2166840" y="1630440"/>
              <a:ext cx="584280" cy="0"/>
            </a:xfrm>
            <a:prstGeom prst="line">
              <a:avLst/>
            </a:prstGeom>
            <a:ln w="57240">
              <a:solidFill>
                <a:srgbClr val="cc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1143000" y="137160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rPr>
                <a:t>return</a:t>
              </a:r>
              <a:endParaRPr b="0" lang="en-US" sz="2400" spc="-1" strike="noStrike">
                <a:solidFill>
                  <a:srgbClr val="000000"/>
                </a:solidFill>
                <a:latin typeface="Times New Roman"/>
              </a:endParaRPr>
            </a:p>
          </p:txBody>
        </p:sp>
      </p:grpSp>
      <p:sp>
        <p:nvSpPr>
          <p:cNvPr id="2216" name=""/>
          <p:cNvSpPr/>
          <p:nvPr/>
        </p:nvSpPr>
        <p:spPr>
          <a:xfrm>
            <a:off x="5002200" y="2163600"/>
            <a:ext cx="1033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2184"/>
                                        </p:tgtEl>
                                        <p:attrNameLst>
                                          <p:attrName>style.visibility</p:attrName>
                                        </p:attrNameLst>
                                      </p:cBhvr>
                                      <p:to>
                                        <p:strVal val="visible"/>
                                      </p:to>
                                    </p:set>
                                    <p:animEffect filter="wipe(left)" transition="in">
                                      <p:cBhvr additive="repl">
                                        <p:cTn id="832" dur="500"/>
                                        <p:tgtEl>
                                          <p:spTgt spid="2184"/>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2185"/>
                                        </p:tgtEl>
                                        <p:attrNameLst>
                                          <p:attrName>style.visibility</p:attrName>
                                        </p:attrNameLst>
                                      </p:cBhvr>
                                      <p:to>
                                        <p:strVal val="visible"/>
                                      </p:to>
                                    </p:set>
                                    <p:animEffect filter="wipe(left)" transition="in">
                                      <p:cBhvr additive="repl">
                                        <p:cTn id="837" dur="500"/>
                                        <p:tgtEl>
                                          <p:spTgt spid="2185"/>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7" presetSubtype="4">
                                  <p:stCondLst>
                                    <p:cond delay="0"/>
                                  </p:stCondLst>
                                  <p:childTnLst>
                                    <p:set>
                                      <p:cBhvr>
                                        <p:cTn id="841" dur="1" fill="hold">
                                          <p:stCondLst>
                                            <p:cond delay="0"/>
                                          </p:stCondLst>
                                        </p:cTn>
                                        <p:tgtEl>
                                          <p:spTgt spid="2186"/>
                                        </p:tgtEl>
                                        <p:attrNameLst>
                                          <p:attrName>style.visibility</p:attrName>
                                        </p:attrNameLst>
                                      </p:cBhvr>
                                      <p:to>
                                        <p:strVal val="visible"/>
                                      </p:to>
                                    </p:set>
                                    <p:anim calcmode="lin" valueType="num">
                                      <p:cBhvr additive="repl">
                                        <p:cTn id="842" dur="500" fill="hold"/>
                                        <p:tgtEl>
                                          <p:spTgt spid="2186"/>
                                        </p:tgtEl>
                                        <p:attrNameLst>
                                          <p:attrName>ppt_x</p:attrName>
                                        </p:attrNameLst>
                                      </p:cBhvr>
                                      <p:tavLst>
                                        <p:tav tm="0">
                                          <p:val>
                                            <p:strVal val="#ppt_x"/>
                                          </p:val>
                                        </p:tav>
                                        <p:tav tm="100000">
                                          <p:val>
                                            <p:strVal val="#ppt_x"/>
                                          </p:val>
                                        </p:tav>
                                      </p:tavLst>
                                    </p:anim>
                                    <p:anim calcmode="lin" valueType="num">
                                      <p:cBhvr additive="repl">
                                        <p:cTn id="843" dur="500" fill="hold"/>
                                        <p:tgtEl>
                                          <p:spTgt spid="2186"/>
                                        </p:tgtEl>
                                        <p:attrNameLst>
                                          <p:attrName>ppt_y</p:attrName>
                                        </p:attrNameLst>
                                      </p:cBhvr>
                                      <p:tavLst>
                                        <p:tav tm="0">
                                          <p:val>
                                            <p:strVal val="#ppt_y+#ppt_h/2"/>
                                          </p:val>
                                        </p:tav>
                                        <p:tav tm="100000">
                                          <p:val>
                                            <p:strVal val="#ppt_y"/>
                                          </p:val>
                                        </p:tav>
                                      </p:tavLst>
                                    </p:anim>
                                    <p:anim calcmode="lin" valueType="num">
                                      <p:cBhvr additive="repl">
                                        <p:cTn id="844" dur="500" fill="hold"/>
                                        <p:tgtEl>
                                          <p:spTgt spid="2186"/>
                                        </p:tgtEl>
                                        <p:attrNameLst>
                                          <p:attrName>ppt_w</p:attrName>
                                        </p:attrNameLst>
                                      </p:cBhvr>
                                      <p:tavLst>
                                        <p:tav tm="0">
                                          <p:val>
                                            <p:strVal val="#ppt_w"/>
                                          </p:val>
                                        </p:tav>
                                        <p:tav tm="100000">
                                          <p:val>
                                            <p:strVal val="#ppt_w"/>
                                          </p:val>
                                        </p:tav>
                                      </p:tavLst>
                                    </p:anim>
                                    <p:anim calcmode="lin" valueType="num">
                                      <p:cBhvr additive="repl">
                                        <p:cTn id="845" dur="500" fill="hold"/>
                                        <p:tgtEl>
                                          <p:spTgt spid="21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217" name=""/>
          <p:cNvSpPr/>
          <p:nvPr/>
        </p:nvSpPr>
        <p:spPr>
          <a:xfrm>
            <a:off x="4020480" y="685800"/>
            <a:ext cx="1351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a:t>
            </a:r>
            <a:endParaRPr b="0" lang="en-US" sz="2800" spc="-1" strike="noStrike">
              <a:solidFill>
                <a:srgbClr val="000000"/>
              </a:solidFill>
              <a:latin typeface="Times New Roman"/>
            </a:endParaRPr>
          </a:p>
        </p:txBody>
      </p:sp>
      <p:sp>
        <p:nvSpPr>
          <p:cNvPr id="2218" name=""/>
          <p:cNvSpPr/>
          <p:nvPr/>
        </p:nvSpPr>
        <p:spPr>
          <a:xfrm>
            <a:off x="685800" y="144792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We have seen how to:</a:t>
            </a:r>
            <a:endParaRPr b="0" lang="en-US" sz="3200" spc="-1" strike="noStrike">
              <a:solidFill>
                <a:srgbClr val="000000"/>
              </a:solidFill>
              <a:latin typeface="Times New Roman"/>
            </a:endParaRPr>
          </a:p>
        </p:txBody>
      </p:sp>
      <p:sp>
        <p:nvSpPr>
          <p:cNvPr id="2219" name=""/>
          <p:cNvSpPr/>
          <p:nvPr/>
        </p:nvSpPr>
        <p:spPr>
          <a:xfrm>
            <a:off x="1143000" y="2057400"/>
            <a:ext cx="6629400" cy="106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the number line to solve problems involving subtraction</a:t>
            </a:r>
            <a:endParaRPr b="0" lang="en-US" sz="3200" spc="-1" strike="noStrike">
              <a:solidFill>
                <a:srgbClr val="000000"/>
              </a:solidFill>
              <a:latin typeface="Times New Roman"/>
            </a:endParaRPr>
          </a:p>
        </p:txBody>
      </p:sp>
      <p:pic>
        <p:nvPicPr>
          <p:cNvPr id="2220" name="" descr=""/>
          <p:cNvPicPr/>
          <p:nvPr/>
        </p:nvPicPr>
        <p:blipFill>
          <a:blip r:embed="rId1"/>
          <a:stretch/>
        </p:blipFill>
        <p:spPr>
          <a:xfrm>
            <a:off x="3733920" y="3200400"/>
            <a:ext cx="4114800" cy="3100320"/>
          </a:xfrm>
          <a:prstGeom prst="rect">
            <a:avLst/>
          </a:prstGeom>
          <a:ln w="0">
            <a:noFill/>
          </a:ln>
        </p:spPr>
      </p:pic>
      <p:grpSp>
        <p:nvGrpSpPr>
          <p:cNvPr id="2221" name=""/>
          <p:cNvGrpSpPr/>
          <p:nvPr/>
        </p:nvGrpSpPr>
        <p:grpSpPr>
          <a:xfrm>
            <a:off x="990720" y="3352680"/>
            <a:ext cx="2209680" cy="2971800"/>
            <a:chOff x="990720" y="3352680"/>
            <a:chExt cx="2209680" cy="2971800"/>
          </a:xfrm>
        </p:grpSpPr>
        <p:sp>
          <p:nvSpPr>
            <p:cNvPr id="2222" name=""/>
            <p:cNvSpPr/>
            <p:nvPr/>
          </p:nvSpPr>
          <p:spPr>
            <a:xfrm>
              <a:off x="990720" y="3352680"/>
              <a:ext cx="2209680" cy="29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998640" y="3364920"/>
              <a:ext cx="2193480" cy="2946960"/>
            </a:xfrm>
            <a:custGeom>
              <a:avLst/>
              <a:gdLst/>
              <a:ahLst/>
              <a:rect l="l" t="t" r="r" b="b"/>
              <a:pathLst>
                <a:path w="61339" h="54893">
                  <a:moveTo>
                    <a:pt x="20369" y="694"/>
                  </a:moveTo>
                  <a:lnTo>
                    <a:pt x="20485" y="579"/>
                  </a:lnTo>
                  <a:lnTo>
                    <a:pt x="20485" y="463"/>
                  </a:lnTo>
                  <a:lnTo>
                    <a:pt x="20601" y="463"/>
                  </a:lnTo>
                  <a:lnTo>
                    <a:pt x="20717" y="347"/>
                  </a:lnTo>
                  <a:lnTo>
                    <a:pt x="20832" y="347"/>
                  </a:lnTo>
                  <a:lnTo>
                    <a:pt x="20948" y="347"/>
                  </a:lnTo>
                  <a:lnTo>
                    <a:pt x="21064" y="231"/>
                  </a:lnTo>
                  <a:lnTo>
                    <a:pt x="21179" y="231"/>
                  </a:lnTo>
                  <a:lnTo>
                    <a:pt x="21179" y="231"/>
                  </a:lnTo>
                  <a:lnTo>
                    <a:pt x="21411" y="231"/>
                  </a:lnTo>
                  <a:lnTo>
                    <a:pt x="21527" y="347"/>
                  </a:lnTo>
                  <a:lnTo>
                    <a:pt x="21758" y="463"/>
                  </a:lnTo>
                  <a:lnTo>
                    <a:pt x="21990" y="579"/>
                  </a:lnTo>
                  <a:lnTo>
                    <a:pt x="22105" y="694"/>
                  </a:lnTo>
                  <a:lnTo>
                    <a:pt x="22221" y="810"/>
                  </a:lnTo>
                  <a:lnTo>
                    <a:pt x="22453" y="1042"/>
                  </a:lnTo>
                  <a:lnTo>
                    <a:pt x="22568" y="1274"/>
                  </a:lnTo>
                  <a:lnTo>
                    <a:pt x="22568" y="1274"/>
                  </a:lnTo>
                  <a:lnTo>
                    <a:pt x="22684" y="1158"/>
                  </a:lnTo>
                  <a:lnTo>
                    <a:pt x="22915" y="1042"/>
                  </a:lnTo>
                  <a:lnTo>
                    <a:pt x="23031" y="1042"/>
                  </a:lnTo>
                  <a:lnTo>
                    <a:pt x="23147" y="1042"/>
                  </a:lnTo>
                  <a:lnTo>
                    <a:pt x="23378" y="1042"/>
                  </a:lnTo>
                  <a:lnTo>
                    <a:pt x="23494" y="1042"/>
                  </a:lnTo>
                  <a:lnTo>
                    <a:pt x="23726" y="1042"/>
                  </a:lnTo>
                  <a:lnTo>
                    <a:pt x="23841" y="1158"/>
                  </a:lnTo>
                  <a:lnTo>
                    <a:pt x="23841" y="1158"/>
                  </a:lnTo>
                  <a:lnTo>
                    <a:pt x="23957" y="1158"/>
                  </a:lnTo>
                  <a:lnTo>
                    <a:pt x="24188" y="1274"/>
                  </a:lnTo>
                  <a:lnTo>
                    <a:pt x="24304" y="1389"/>
                  </a:lnTo>
                  <a:lnTo>
                    <a:pt x="24420" y="1505"/>
                  </a:lnTo>
                  <a:lnTo>
                    <a:pt x="24536" y="1621"/>
                  </a:lnTo>
                  <a:lnTo>
                    <a:pt x="24651" y="1621"/>
                  </a:lnTo>
                  <a:lnTo>
                    <a:pt x="24767" y="1621"/>
                  </a:lnTo>
                  <a:lnTo>
                    <a:pt x="24999" y="1389"/>
                  </a:lnTo>
                  <a:lnTo>
                    <a:pt x="24999" y="1389"/>
                  </a:lnTo>
                  <a:lnTo>
                    <a:pt x="25114" y="1389"/>
                  </a:lnTo>
                  <a:lnTo>
                    <a:pt x="25346" y="1505"/>
                  </a:lnTo>
                  <a:lnTo>
                    <a:pt x="25462" y="1505"/>
                  </a:lnTo>
                  <a:lnTo>
                    <a:pt x="25577" y="1621"/>
                  </a:lnTo>
                  <a:lnTo>
                    <a:pt x="25693" y="1737"/>
                  </a:lnTo>
                  <a:lnTo>
                    <a:pt x="25809" y="1853"/>
                  </a:lnTo>
                  <a:lnTo>
                    <a:pt x="25924" y="1968"/>
                  </a:lnTo>
                  <a:lnTo>
                    <a:pt x="26040" y="1968"/>
                  </a:lnTo>
                  <a:lnTo>
                    <a:pt x="26040" y="1968"/>
                  </a:lnTo>
                  <a:lnTo>
                    <a:pt x="26272" y="1968"/>
                  </a:lnTo>
                  <a:lnTo>
                    <a:pt x="26503" y="1853"/>
                  </a:lnTo>
                  <a:lnTo>
                    <a:pt x="26735" y="1853"/>
                  </a:lnTo>
                  <a:lnTo>
                    <a:pt x="26966" y="1737"/>
                  </a:lnTo>
                  <a:lnTo>
                    <a:pt x="27082" y="1737"/>
                  </a:lnTo>
                  <a:lnTo>
                    <a:pt x="27313" y="1737"/>
                  </a:lnTo>
                  <a:lnTo>
                    <a:pt x="27545" y="1853"/>
                  </a:lnTo>
                  <a:lnTo>
                    <a:pt x="27660" y="1968"/>
                  </a:lnTo>
                  <a:lnTo>
                    <a:pt x="27660" y="1968"/>
                  </a:lnTo>
                  <a:lnTo>
                    <a:pt x="28123" y="2316"/>
                  </a:lnTo>
                  <a:lnTo>
                    <a:pt x="28123" y="2316"/>
                  </a:lnTo>
                  <a:lnTo>
                    <a:pt x="28239" y="2084"/>
                  </a:lnTo>
                  <a:lnTo>
                    <a:pt x="28471" y="1968"/>
                  </a:lnTo>
                  <a:lnTo>
                    <a:pt x="28586" y="1968"/>
                  </a:lnTo>
                  <a:lnTo>
                    <a:pt x="28818" y="1968"/>
                  </a:lnTo>
                  <a:lnTo>
                    <a:pt x="29049" y="1968"/>
                  </a:lnTo>
                  <a:lnTo>
                    <a:pt x="29281" y="1968"/>
                  </a:lnTo>
                  <a:lnTo>
                    <a:pt x="29512" y="1968"/>
                  </a:lnTo>
                  <a:lnTo>
                    <a:pt x="29744" y="1968"/>
                  </a:lnTo>
                  <a:lnTo>
                    <a:pt x="29744" y="1968"/>
                  </a:lnTo>
                  <a:lnTo>
                    <a:pt x="29859" y="2084"/>
                  </a:lnTo>
                  <a:lnTo>
                    <a:pt x="29975" y="2200"/>
                  </a:lnTo>
                  <a:lnTo>
                    <a:pt x="29975" y="2316"/>
                  </a:lnTo>
                  <a:lnTo>
                    <a:pt x="30091" y="2432"/>
                  </a:lnTo>
                  <a:lnTo>
                    <a:pt x="30207" y="2547"/>
                  </a:lnTo>
                  <a:lnTo>
                    <a:pt x="30322" y="2663"/>
                  </a:lnTo>
                  <a:lnTo>
                    <a:pt x="30438" y="2779"/>
                  </a:lnTo>
                  <a:lnTo>
                    <a:pt x="30554" y="2779"/>
                  </a:lnTo>
                  <a:lnTo>
                    <a:pt x="30554" y="2779"/>
                  </a:lnTo>
                  <a:lnTo>
                    <a:pt x="30670" y="2779"/>
                  </a:lnTo>
                  <a:lnTo>
                    <a:pt x="30785" y="2663"/>
                  </a:lnTo>
                  <a:lnTo>
                    <a:pt x="30901" y="2663"/>
                  </a:lnTo>
                  <a:lnTo>
                    <a:pt x="31132" y="2663"/>
                  </a:lnTo>
                  <a:lnTo>
                    <a:pt x="31248" y="2663"/>
                  </a:lnTo>
                  <a:lnTo>
                    <a:pt x="31364" y="2663"/>
                  </a:lnTo>
                  <a:lnTo>
                    <a:pt x="31595" y="2663"/>
                  </a:lnTo>
                  <a:lnTo>
                    <a:pt x="31711" y="2663"/>
                  </a:lnTo>
                  <a:lnTo>
                    <a:pt x="31711" y="2663"/>
                  </a:lnTo>
                  <a:lnTo>
                    <a:pt x="31943" y="2895"/>
                  </a:lnTo>
                  <a:lnTo>
                    <a:pt x="32058" y="3011"/>
                  </a:lnTo>
                  <a:lnTo>
                    <a:pt x="32174" y="3126"/>
                  </a:lnTo>
                  <a:lnTo>
                    <a:pt x="32290" y="3358"/>
                  </a:lnTo>
                  <a:lnTo>
                    <a:pt x="32521" y="3474"/>
                  </a:lnTo>
                  <a:lnTo>
                    <a:pt x="32637" y="3474"/>
                  </a:lnTo>
                  <a:lnTo>
                    <a:pt x="-32668" y="3474"/>
                  </a:lnTo>
                  <a:lnTo>
                    <a:pt x="-32436" y="3242"/>
                  </a:lnTo>
                  <a:lnTo>
                    <a:pt x="-32436" y="3242"/>
                  </a:lnTo>
                  <a:lnTo>
                    <a:pt x="-32205" y="3242"/>
                  </a:lnTo>
                  <a:lnTo>
                    <a:pt x="-31973" y="3242"/>
                  </a:lnTo>
                  <a:lnTo>
                    <a:pt x="-31626" y="3358"/>
                  </a:lnTo>
                  <a:lnTo>
                    <a:pt x="-31395" y="3474"/>
                  </a:lnTo>
                  <a:lnTo>
                    <a:pt x="-31163" y="3706"/>
                  </a:lnTo>
                  <a:lnTo>
                    <a:pt x="-30932" y="3706"/>
                  </a:lnTo>
                  <a:lnTo>
                    <a:pt x="-30584" y="3821"/>
                  </a:lnTo>
                  <a:lnTo>
                    <a:pt x="-30237" y="3706"/>
                  </a:lnTo>
                  <a:lnTo>
                    <a:pt x="-30237" y="3706"/>
                  </a:lnTo>
                  <a:lnTo>
                    <a:pt x="-30006" y="3821"/>
                  </a:lnTo>
                  <a:lnTo>
                    <a:pt x="-29774" y="3937"/>
                  </a:lnTo>
                  <a:lnTo>
                    <a:pt x="-29543" y="3937"/>
                  </a:lnTo>
                  <a:lnTo>
                    <a:pt x="-29311" y="3937"/>
                  </a:lnTo>
                  <a:lnTo>
                    <a:pt x="-29080" y="3821"/>
                  </a:lnTo>
                  <a:lnTo>
                    <a:pt x="-28733" y="3937"/>
                  </a:lnTo>
                  <a:lnTo>
                    <a:pt x="-28501" y="4053"/>
                  </a:lnTo>
                  <a:lnTo>
                    <a:pt x="-28385" y="4169"/>
                  </a:lnTo>
                  <a:lnTo>
                    <a:pt x="-28385" y="4169"/>
                  </a:lnTo>
                  <a:lnTo>
                    <a:pt x="-28038" y="4169"/>
                  </a:lnTo>
                  <a:lnTo>
                    <a:pt x="-27807" y="4169"/>
                  </a:lnTo>
                  <a:lnTo>
                    <a:pt x="-27575" y="4169"/>
                  </a:lnTo>
                  <a:lnTo>
                    <a:pt x="-27344" y="4285"/>
                  </a:lnTo>
                  <a:lnTo>
                    <a:pt x="-27112" y="4400"/>
                  </a:lnTo>
                  <a:lnTo>
                    <a:pt x="-26881" y="4516"/>
                  </a:lnTo>
                  <a:lnTo>
                    <a:pt x="-26650" y="4516"/>
                  </a:lnTo>
                  <a:lnTo>
                    <a:pt x="-26418" y="4285"/>
                  </a:lnTo>
                  <a:lnTo>
                    <a:pt x="-26418" y="4285"/>
                  </a:lnTo>
                  <a:lnTo>
                    <a:pt x="-26187" y="4400"/>
                  </a:lnTo>
                  <a:lnTo>
                    <a:pt x="-25955" y="4516"/>
                  </a:lnTo>
                  <a:lnTo>
                    <a:pt x="-25724" y="4632"/>
                  </a:lnTo>
                  <a:lnTo>
                    <a:pt x="-25608" y="4748"/>
                  </a:lnTo>
                  <a:lnTo>
                    <a:pt x="-25492" y="4979"/>
                  </a:lnTo>
                  <a:lnTo>
                    <a:pt x="-25376" y="5095"/>
                  </a:lnTo>
                  <a:lnTo>
                    <a:pt x="-25261" y="5327"/>
                  </a:lnTo>
                  <a:lnTo>
                    <a:pt x="-25145" y="5558"/>
                  </a:lnTo>
                  <a:lnTo>
                    <a:pt x="-25145" y="5558"/>
                  </a:lnTo>
                  <a:lnTo>
                    <a:pt x="-25145" y="6022"/>
                  </a:lnTo>
                  <a:lnTo>
                    <a:pt x="-25145" y="6369"/>
                  </a:lnTo>
                  <a:lnTo>
                    <a:pt x="-25376" y="6717"/>
                  </a:lnTo>
                  <a:lnTo>
                    <a:pt x="-25492" y="7064"/>
                  </a:lnTo>
                  <a:lnTo>
                    <a:pt x="-25724" y="7296"/>
                  </a:lnTo>
                  <a:lnTo>
                    <a:pt x="-25839" y="7643"/>
                  </a:lnTo>
                  <a:lnTo>
                    <a:pt x="-25955" y="7990"/>
                  </a:lnTo>
                  <a:lnTo>
                    <a:pt x="-26071" y="8454"/>
                  </a:lnTo>
                  <a:lnTo>
                    <a:pt x="-26071" y="8454"/>
                  </a:lnTo>
                  <a:lnTo>
                    <a:pt x="-26534" y="9959"/>
                  </a:lnTo>
                  <a:lnTo>
                    <a:pt x="-26997" y="11465"/>
                  </a:lnTo>
                  <a:lnTo>
                    <a:pt x="-27344" y="13086"/>
                  </a:lnTo>
                  <a:lnTo>
                    <a:pt x="-27691" y="14707"/>
                  </a:lnTo>
                  <a:lnTo>
                    <a:pt x="-28038" y="16329"/>
                  </a:lnTo>
                  <a:lnTo>
                    <a:pt x="-28270" y="17950"/>
                  </a:lnTo>
                  <a:lnTo>
                    <a:pt x="-28501" y="19571"/>
                  </a:lnTo>
                  <a:lnTo>
                    <a:pt x="-28617" y="21193"/>
                  </a:lnTo>
                  <a:lnTo>
                    <a:pt x="-28617" y="21193"/>
                  </a:lnTo>
                  <a:lnTo>
                    <a:pt x="-28501" y="21309"/>
                  </a:lnTo>
                  <a:lnTo>
                    <a:pt x="-28501" y="21309"/>
                  </a:lnTo>
                  <a:lnTo>
                    <a:pt x="-26650" y="20845"/>
                  </a:lnTo>
                  <a:lnTo>
                    <a:pt x="-24914" y="20498"/>
                  </a:lnTo>
                  <a:lnTo>
                    <a:pt x="-23178" y="20150"/>
                  </a:lnTo>
                  <a:lnTo>
                    <a:pt x="-21326" y="19919"/>
                  </a:lnTo>
                  <a:lnTo>
                    <a:pt x="-19590" y="19571"/>
                  </a:lnTo>
                  <a:lnTo>
                    <a:pt x="-17738" y="19224"/>
                  </a:lnTo>
                  <a:lnTo>
                    <a:pt x="-16002" y="18992"/>
                  </a:lnTo>
                  <a:lnTo>
                    <a:pt x="-14266" y="18645"/>
                  </a:lnTo>
                  <a:lnTo>
                    <a:pt x="-14266" y="18645"/>
                  </a:lnTo>
                  <a:lnTo>
                    <a:pt x="-12993" y="18761"/>
                  </a:lnTo>
                  <a:lnTo>
                    <a:pt x="-11720" y="18877"/>
                  </a:lnTo>
                  <a:lnTo>
                    <a:pt x="-10563" y="18992"/>
                  </a:lnTo>
                  <a:lnTo>
                    <a:pt x="-9290" y="18992"/>
                  </a:lnTo>
                  <a:lnTo>
                    <a:pt x="-8017" y="19108"/>
                  </a:lnTo>
                  <a:lnTo>
                    <a:pt x="-6859" y="19224"/>
                  </a:lnTo>
                  <a:lnTo>
                    <a:pt x="-5586" y="19340"/>
                  </a:lnTo>
                  <a:lnTo>
                    <a:pt x="-4313" y="19571"/>
                  </a:lnTo>
                  <a:lnTo>
                    <a:pt x="-4313" y="19571"/>
                  </a:lnTo>
                  <a:lnTo>
                    <a:pt x="-4313" y="19571"/>
                  </a:lnTo>
                  <a:lnTo>
                    <a:pt x="-4313" y="19571"/>
                  </a:lnTo>
                  <a:lnTo>
                    <a:pt x="-4197" y="19687"/>
                  </a:lnTo>
                  <a:lnTo>
                    <a:pt x="-4197" y="19687"/>
                  </a:lnTo>
                  <a:lnTo>
                    <a:pt x="-4197" y="19687"/>
                  </a:lnTo>
                  <a:lnTo>
                    <a:pt x="-4197" y="19803"/>
                  </a:lnTo>
                  <a:lnTo>
                    <a:pt x="-4197" y="19803"/>
                  </a:lnTo>
                  <a:lnTo>
                    <a:pt x="-4313" y="19803"/>
                  </a:lnTo>
                  <a:lnTo>
                    <a:pt x="-4313" y="19803"/>
                  </a:lnTo>
                  <a:lnTo>
                    <a:pt x="-17044" y="25246"/>
                  </a:lnTo>
                  <a:lnTo>
                    <a:pt x="-17044" y="25246"/>
                  </a:lnTo>
                  <a:lnTo>
                    <a:pt x="-17159" y="25246"/>
                  </a:lnTo>
                  <a:lnTo>
                    <a:pt x="-17391" y="25246"/>
                  </a:lnTo>
                  <a:lnTo>
                    <a:pt x="-17622" y="25362"/>
                  </a:lnTo>
                  <a:lnTo>
                    <a:pt x="-17854" y="25362"/>
                  </a:lnTo>
                  <a:lnTo>
                    <a:pt x="-17970" y="25478"/>
                  </a:lnTo>
                  <a:lnTo>
                    <a:pt x="-18201" y="25478"/>
                  </a:lnTo>
                  <a:lnTo>
                    <a:pt x="-18317" y="25478"/>
                  </a:lnTo>
                  <a:lnTo>
                    <a:pt x="-18548" y="25594"/>
                  </a:lnTo>
                  <a:lnTo>
                    <a:pt x="-18548" y="25594"/>
                  </a:lnTo>
                  <a:lnTo>
                    <a:pt x="-18548" y="25941"/>
                  </a:lnTo>
                  <a:lnTo>
                    <a:pt x="-18664" y="26288"/>
                  </a:lnTo>
                  <a:lnTo>
                    <a:pt x="-18895" y="26636"/>
                  </a:lnTo>
                  <a:lnTo>
                    <a:pt x="-19127" y="26983"/>
                  </a:lnTo>
                  <a:lnTo>
                    <a:pt x="-19358" y="27215"/>
                  </a:lnTo>
                  <a:lnTo>
                    <a:pt x="-19706" y="27562"/>
                  </a:lnTo>
                  <a:lnTo>
                    <a:pt x="-19937" y="27794"/>
                  </a:lnTo>
                  <a:lnTo>
                    <a:pt x="-20284" y="28026"/>
                  </a:lnTo>
                  <a:lnTo>
                    <a:pt x="-20284" y="28026"/>
                  </a:lnTo>
                  <a:lnTo>
                    <a:pt x="-20631" y="28141"/>
                  </a:lnTo>
                  <a:lnTo>
                    <a:pt x="-20863" y="28257"/>
                  </a:lnTo>
                  <a:lnTo>
                    <a:pt x="-21094" y="28373"/>
                  </a:lnTo>
                  <a:lnTo>
                    <a:pt x="-21442" y="28373"/>
                  </a:lnTo>
                  <a:lnTo>
                    <a:pt x="-21673" y="28489"/>
                  </a:lnTo>
                  <a:lnTo>
                    <a:pt x="-22020" y="28489"/>
                  </a:lnTo>
                  <a:lnTo>
                    <a:pt x="-22252" y="28373"/>
                  </a:lnTo>
                  <a:lnTo>
                    <a:pt x="-22483" y="28141"/>
                  </a:lnTo>
                  <a:lnTo>
                    <a:pt x="-22483" y="28141"/>
                  </a:lnTo>
                  <a:lnTo>
                    <a:pt x="-22715" y="28257"/>
                  </a:lnTo>
                  <a:lnTo>
                    <a:pt x="-22830" y="28373"/>
                  </a:lnTo>
                  <a:lnTo>
                    <a:pt x="-23062" y="28489"/>
                  </a:lnTo>
                  <a:lnTo>
                    <a:pt x="-23293" y="28605"/>
                  </a:lnTo>
                  <a:lnTo>
                    <a:pt x="-23409" y="28605"/>
                  </a:lnTo>
                  <a:lnTo>
                    <a:pt x="-23640" y="28720"/>
                  </a:lnTo>
                  <a:lnTo>
                    <a:pt x="-23872" y="28720"/>
                  </a:lnTo>
                  <a:lnTo>
                    <a:pt x="-24103" y="28605"/>
                  </a:lnTo>
                  <a:lnTo>
                    <a:pt x="-24103" y="28605"/>
                  </a:lnTo>
                  <a:lnTo>
                    <a:pt x="-24335" y="28952"/>
                  </a:lnTo>
                  <a:lnTo>
                    <a:pt x="-24566" y="29184"/>
                  </a:lnTo>
                  <a:lnTo>
                    <a:pt x="-24798" y="29299"/>
                  </a:lnTo>
                  <a:lnTo>
                    <a:pt x="-25145" y="29415"/>
                  </a:lnTo>
                  <a:lnTo>
                    <a:pt x="-25376" y="29531"/>
                  </a:lnTo>
                  <a:lnTo>
                    <a:pt x="-25724" y="29531"/>
                  </a:lnTo>
                  <a:lnTo>
                    <a:pt x="-26071" y="29647"/>
                  </a:lnTo>
                  <a:lnTo>
                    <a:pt x="-26418" y="29531"/>
                  </a:lnTo>
                  <a:lnTo>
                    <a:pt x="-26418" y="29531"/>
                  </a:lnTo>
                  <a:lnTo>
                    <a:pt x="-26534" y="29531"/>
                  </a:lnTo>
                  <a:lnTo>
                    <a:pt x="-26650" y="29415"/>
                  </a:lnTo>
                  <a:lnTo>
                    <a:pt x="-26765" y="29299"/>
                  </a:lnTo>
                  <a:lnTo>
                    <a:pt x="-26881" y="29184"/>
                  </a:lnTo>
                  <a:lnTo>
                    <a:pt x="-26997" y="29068"/>
                  </a:lnTo>
                  <a:lnTo>
                    <a:pt x="-27112" y="28952"/>
                  </a:lnTo>
                  <a:lnTo>
                    <a:pt x="-27228" y="28952"/>
                  </a:lnTo>
                  <a:lnTo>
                    <a:pt x="-27460" y="29068"/>
                  </a:lnTo>
                  <a:lnTo>
                    <a:pt x="-27460" y="29068"/>
                  </a:lnTo>
                  <a:lnTo>
                    <a:pt x="-27575" y="29184"/>
                  </a:lnTo>
                  <a:lnTo>
                    <a:pt x="-27691" y="29299"/>
                  </a:lnTo>
                  <a:lnTo>
                    <a:pt x="-27923" y="29415"/>
                  </a:lnTo>
                  <a:lnTo>
                    <a:pt x="-28038" y="29531"/>
                  </a:lnTo>
                  <a:lnTo>
                    <a:pt x="-28270" y="29647"/>
                  </a:lnTo>
                  <a:lnTo>
                    <a:pt x="-28385" y="29763"/>
                  </a:lnTo>
                  <a:lnTo>
                    <a:pt x="-28617" y="29879"/>
                  </a:lnTo>
                  <a:lnTo>
                    <a:pt x="-28733" y="29994"/>
                  </a:lnTo>
                  <a:lnTo>
                    <a:pt x="-28733" y="29994"/>
                  </a:lnTo>
                  <a:lnTo>
                    <a:pt x="-28733" y="30689"/>
                  </a:lnTo>
                  <a:lnTo>
                    <a:pt x="-28733" y="31268"/>
                  </a:lnTo>
                  <a:lnTo>
                    <a:pt x="-28617" y="31963"/>
                  </a:lnTo>
                  <a:lnTo>
                    <a:pt x="-28501" y="32542"/>
                  </a:lnTo>
                  <a:lnTo>
                    <a:pt x="-28385" y="-32299"/>
                  </a:lnTo>
                  <a:lnTo>
                    <a:pt x="-28385" y="-31720"/>
                  </a:lnTo>
                  <a:lnTo>
                    <a:pt x="-28270" y="-31025"/>
                  </a:lnTo>
                  <a:lnTo>
                    <a:pt x="-28154" y="-30446"/>
                  </a:lnTo>
                  <a:lnTo>
                    <a:pt x="-28154" y="-30446"/>
                  </a:lnTo>
                  <a:lnTo>
                    <a:pt x="-28501" y="-30214"/>
                  </a:lnTo>
                  <a:lnTo>
                    <a:pt x="-28733" y="-29983"/>
                  </a:lnTo>
                  <a:lnTo>
                    <a:pt x="-29196" y="-29867"/>
                  </a:lnTo>
                  <a:lnTo>
                    <a:pt x="-29543" y="-29867"/>
                  </a:lnTo>
                  <a:lnTo>
                    <a:pt x="-29890" y="-29751"/>
                  </a:lnTo>
                  <a:lnTo>
                    <a:pt x="-30237" y="-29751"/>
                  </a:lnTo>
                  <a:lnTo>
                    <a:pt x="-30700" y="-29635"/>
                  </a:lnTo>
                  <a:lnTo>
                    <a:pt x="-31047" y="-29635"/>
                  </a:lnTo>
                  <a:lnTo>
                    <a:pt x="-31047" y="-29635"/>
                  </a:lnTo>
                  <a:lnTo>
                    <a:pt x="-31047" y="-29288"/>
                  </a:lnTo>
                  <a:lnTo>
                    <a:pt x="-31047" y="-29288"/>
                  </a:lnTo>
                  <a:lnTo>
                    <a:pt x="-30700" y="-28825"/>
                  </a:lnTo>
                  <a:lnTo>
                    <a:pt x="-30353" y="-28246"/>
                  </a:lnTo>
                  <a:lnTo>
                    <a:pt x="-30006" y="-27782"/>
                  </a:lnTo>
                  <a:lnTo>
                    <a:pt x="-29774" y="-27319"/>
                  </a:lnTo>
                  <a:lnTo>
                    <a:pt x="-29427" y="-26856"/>
                  </a:lnTo>
                  <a:lnTo>
                    <a:pt x="-29080" y="-26277"/>
                  </a:lnTo>
                  <a:lnTo>
                    <a:pt x="-28848" y="-25814"/>
                  </a:lnTo>
                  <a:lnTo>
                    <a:pt x="-28617" y="-25235"/>
                  </a:lnTo>
                  <a:lnTo>
                    <a:pt x="-28617" y="-25235"/>
                  </a:lnTo>
                  <a:lnTo>
                    <a:pt x="-28733" y="-24540"/>
                  </a:lnTo>
                  <a:lnTo>
                    <a:pt x="-28848" y="-23729"/>
                  </a:lnTo>
                  <a:lnTo>
                    <a:pt x="-28964" y="-23034"/>
                  </a:lnTo>
                  <a:lnTo>
                    <a:pt x="-29196" y="-22224"/>
                  </a:lnTo>
                  <a:lnTo>
                    <a:pt x="-29311" y="-21529"/>
                  </a:lnTo>
                  <a:lnTo>
                    <a:pt x="-29543" y="-20718"/>
                  </a:lnTo>
                  <a:lnTo>
                    <a:pt x="-29659" y="-20023"/>
                  </a:lnTo>
                  <a:lnTo>
                    <a:pt x="-29890" y="-19213"/>
                  </a:lnTo>
                  <a:lnTo>
                    <a:pt x="-29890" y="-19213"/>
                  </a:lnTo>
                  <a:lnTo>
                    <a:pt x="-29774" y="-18865"/>
                  </a:lnTo>
                  <a:lnTo>
                    <a:pt x="-29543" y="-18518"/>
                  </a:lnTo>
                  <a:lnTo>
                    <a:pt x="-29427" y="-18286"/>
                  </a:lnTo>
                  <a:lnTo>
                    <a:pt x="-29196" y="-18054"/>
                  </a:lnTo>
                  <a:lnTo>
                    <a:pt x="-28964" y="-17707"/>
                  </a:lnTo>
                  <a:lnTo>
                    <a:pt x="-28733" y="-17475"/>
                  </a:lnTo>
                  <a:lnTo>
                    <a:pt x="-28501" y="-17244"/>
                  </a:lnTo>
                  <a:lnTo>
                    <a:pt x="-28501" y="-16896"/>
                  </a:lnTo>
                  <a:lnTo>
                    <a:pt x="-28501" y="-16896"/>
                  </a:lnTo>
                  <a:lnTo>
                    <a:pt x="-28385" y="-16665"/>
                  </a:lnTo>
                  <a:lnTo>
                    <a:pt x="-28154" y="-16317"/>
                  </a:lnTo>
                  <a:lnTo>
                    <a:pt x="-28038" y="-16086"/>
                  </a:lnTo>
                  <a:lnTo>
                    <a:pt x="-27807" y="-15854"/>
                  </a:lnTo>
                  <a:lnTo>
                    <a:pt x="-27691" y="-15622"/>
                  </a:lnTo>
                  <a:lnTo>
                    <a:pt x="-27575" y="-15391"/>
                  </a:lnTo>
                  <a:lnTo>
                    <a:pt x="-27344" y="-15159"/>
                  </a:lnTo>
                  <a:lnTo>
                    <a:pt x="-27344" y="-14928"/>
                  </a:lnTo>
                  <a:lnTo>
                    <a:pt x="-27344" y="-14928"/>
                  </a:lnTo>
                  <a:lnTo>
                    <a:pt x="-27228" y="-14464"/>
                  </a:lnTo>
                  <a:lnTo>
                    <a:pt x="-26997" y="-14117"/>
                  </a:lnTo>
                  <a:lnTo>
                    <a:pt x="-26881" y="-13654"/>
                  </a:lnTo>
                  <a:lnTo>
                    <a:pt x="-26881" y="-13190"/>
                  </a:lnTo>
                  <a:lnTo>
                    <a:pt x="-26765" y="-12727"/>
                  </a:lnTo>
                  <a:lnTo>
                    <a:pt x="-26765" y="-12380"/>
                  </a:lnTo>
                  <a:lnTo>
                    <a:pt x="-26881" y="-11917"/>
                  </a:lnTo>
                  <a:lnTo>
                    <a:pt x="-27228" y="-11569"/>
                  </a:lnTo>
                  <a:lnTo>
                    <a:pt x="-27228" y="-11569"/>
                  </a:lnTo>
                  <a:lnTo>
                    <a:pt x="-27228" y="-11453"/>
                  </a:lnTo>
                  <a:lnTo>
                    <a:pt x="-27344" y="-11453"/>
                  </a:lnTo>
                  <a:lnTo>
                    <a:pt x="-27344" y="-11453"/>
                  </a:lnTo>
                  <a:lnTo>
                    <a:pt x="-27460" y="-11453"/>
                  </a:lnTo>
                  <a:lnTo>
                    <a:pt x="-27460" y="-11453"/>
                  </a:lnTo>
                  <a:lnTo>
                    <a:pt x="-27575" y="-11453"/>
                  </a:lnTo>
                  <a:lnTo>
                    <a:pt x="-27691" y="-11453"/>
                  </a:lnTo>
                  <a:lnTo>
                    <a:pt x="-27691" y="-11453"/>
                  </a:lnTo>
                  <a:lnTo>
                    <a:pt x="-27691" y="-11453"/>
                  </a:lnTo>
                  <a:lnTo>
                    <a:pt x="-28154" y="-11222"/>
                  </a:lnTo>
                  <a:lnTo>
                    <a:pt x="-28733" y="-11106"/>
                  </a:lnTo>
                  <a:lnTo>
                    <a:pt x="-29311" y="-11106"/>
                  </a:lnTo>
                  <a:lnTo>
                    <a:pt x="-29890" y="-11222"/>
                  </a:lnTo>
                  <a:lnTo>
                    <a:pt x="-30353" y="-11337"/>
                  </a:lnTo>
                  <a:lnTo>
                    <a:pt x="-30932" y="-11453"/>
                  </a:lnTo>
                  <a:lnTo>
                    <a:pt x="-31395" y="-11685"/>
                  </a:lnTo>
                  <a:lnTo>
                    <a:pt x="-31857" y="-12032"/>
                  </a:lnTo>
                  <a:lnTo>
                    <a:pt x="-31857" y="-12032"/>
                  </a:lnTo>
                  <a:lnTo>
                    <a:pt x="-32320" y="-12496"/>
                  </a:lnTo>
                  <a:lnTo>
                    <a:pt x="-32552" y="-13075"/>
                  </a:lnTo>
                  <a:lnTo>
                    <a:pt x="32753" y="-13769"/>
                  </a:lnTo>
                  <a:lnTo>
                    <a:pt x="32637" y="-14464"/>
                  </a:lnTo>
                  <a:lnTo>
                    <a:pt x="32405" y="-15159"/>
                  </a:lnTo>
                  <a:lnTo>
                    <a:pt x="32058" y="-15622"/>
                  </a:lnTo>
                  <a:lnTo>
                    <a:pt x="31595" y="-16086"/>
                  </a:lnTo>
                  <a:lnTo>
                    <a:pt x="30785" y="-16201"/>
                  </a:lnTo>
                  <a:lnTo>
                    <a:pt x="30785" y="-16201"/>
                  </a:lnTo>
                  <a:lnTo>
                    <a:pt x="30670" y="-16317"/>
                  </a:lnTo>
                  <a:lnTo>
                    <a:pt x="30554" y="-16549"/>
                  </a:lnTo>
                  <a:lnTo>
                    <a:pt x="30438" y="-16781"/>
                  </a:lnTo>
                  <a:lnTo>
                    <a:pt x="30322" y="-16896"/>
                  </a:lnTo>
                  <a:lnTo>
                    <a:pt x="30322" y="-17128"/>
                  </a:lnTo>
                  <a:lnTo>
                    <a:pt x="30322" y="-17360"/>
                  </a:lnTo>
                  <a:lnTo>
                    <a:pt x="30322" y="-17591"/>
                  </a:lnTo>
                  <a:lnTo>
                    <a:pt x="30322" y="-17823"/>
                  </a:lnTo>
                  <a:lnTo>
                    <a:pt x="30322" y="-17823"/>
                  </a:lnTo>
                  <a:lnTo>
                    <a:pt x="30554" y="-18170"/>
                  </a:lnTo>
                  <a:lnTo>
                    <a:pt x="30785" y="-18518"/>
                  </a:lnTo>
                  <a:lnTo>
                    <a:pt x="31132" y="-18749"/>
                  </a:lnTo>
                  <a:lnTo>
                    <a:pt x="31480" y="-18981"/>
                  </a:lnTo>
                  <a:lnTo>
                    <a:pt x="31827" y="-19213"/>
                  </a:lnTo>
                  <a:lnTo>
                    <a:pt x="32174" y="-19444"/>
                  </a:lnTo>
                  <a:lnTo>
                    <a:pt x="32405" y="-19676"/>
                  </a:lnTo>
                  <a:lnTo>
                    <a:pt x="32637" y="-20139"/>
                  </a:lnTo>
                  <a:lnTo>
                    <a:pt x="32637" y="-20139"/>
                  </a:lnTo>
                  <a:lnTo>
                    <a:pt x="-32668" y="-20950"/>
                  </a:lnTo>
                  <a:lnTo>
                    <a:pt x="-32436" y="-21876"/>
                  </a:lnTo>
                  <a:lnTo>
                    <a:pt x="-32205" y="-22803"/>
                  </a:lnTo>
                  <a:lnTo>
                    <a:pt x="-32089" y="-23729"/>
                  </a:lnTo>
                  <a:lnTo>
                    <a:pt x="-32089" y="-24656"/>
                  </a:lnTo>
                  <a:lnTo>
                    <a:pt x="-32205" y="-25466"/>
                  </a:lnTo>
                  <a:lnTo>
                    <a:pt x="-32552" y="-26277"/>
                  </a:lnTo>
                  <a:lnTo>
                    <a:pt x="32290" y="-27088"/>
                  </a:lnTo>
                  <a:lnTo>
                    <a:pt x="32290" y="-27088"/>
                  </a:lnTo>
                  <a:lnTo>
                    <a:pt x="30901" y="-28593"/>
                  </a:lnTo>
                  <a:lnTo>
                    <a:pt x="30901" y="-28593"/>
                  </a:lnTo>
                  <a:lnTo>
                    <a:pt x="29744" y="-28130"/>
                  </a:lnTo>
                  <a:lnTo>
                    <a:pt x="28586" y="-27667"/>
                  </a:lnTo>
                  <a:lnTo>
                    <a:pt x="27545" y="-27203"/>
                  </a:lnTo>
                  <a:lnTo>
                    <a:pt x="26387" y="-26740"/>
                  </a:lnTo>
                  <a:lnTo>
                    <a:pt x="25230" y="-26161"/>
                  </a:lnTo>
                  <a:lnTo>
                    <a:pt x="24073" y="-25698"/>
                  </a:lnTo>
                  <a:lnTo>
                    <a:pt x="23031" y="-25119"/>
                  </a:lnTo>
                  <a:lnTo>
                    <a:pt x="21874" y="-24656"/>
                  </a:lnTo>
                  <a:lnTo>
                    <a:pt x="21874" y="-24656"/>
                  </a:lnTo>
                  <a:lnTo>
                    <a:pt x="21990" y="-24192"/>
                  </a:lnTo>
                  <a:lnTo>
                    <a:pt x="22221" y="-23845"/>
                  </a:lnTo>
                  <a:lnTo>
                    <a:pt x="22337" y="-23382"/>
                  </a:lnTo>
                  <a:lnTo>
                    <a:pt x="22568" y="-23034"/>
                  </a:lnTo>
                  <a:lnTo>
                    <a:pt x="22684" y="-22687"/>
                  </a:lnTo>
                  <a:lnTo>
                    <a:pt x="22915" y="-22224"/>
                  </a:lnTo>
                  <a:lnTo>
                    <a:pt x="23147" y="-21876"/>
                  </a:lnTo>
                  <a:lnTo>
                    <a:pt x="23263" y="-21529"/>
                  </a:lnTo>
                  <a:lnTo>
                    <a:pt x="23263" y="-21529"/>
                  </a:lnTo>
                  <a:lnTo>
                    <a:pt x="23263" y="-21181"/>
                  </a:lnTo>
                  <a:lnTo>
                    <a:pt x="23147" y="-20950"/>
                  </a:lnTo>
                  <a:lnTo>
                    <a:pt x="23031" y="-20718"/>
                  </a:lnTo>
                  <a:lnTo>
                    <a:pt x="22915" y="-20486"/>
                  </a:lnTo>
                  <a:lnTo>
                    <a:pt x="22684" y="-20371"/>
                  </a:lnTo>
                  <a:lnTo>
                    <a:pt x="22453" y="-20139"/>
                  </a:lnTo>
                  <a:lnTo>
                    <a:pt x="22221" y="-19907"/>
                  </a:lnTo>
                  <a:lnTo>
                    <a:pt x="22105" y="-19792"/>
                  </a:lnTo>
                  <a:lnTo>
                    <a:pt x="22105" y="-19792"/>
                  </a:lnTo>
                  <a:lnTo>
                    <a:pt x="20601" y="-17939"/>
                  </a:lnTo>
                  <a:lnTo>
                    <a:pt x="20601" y="-17939"/>
                  </a:lnTo>
                  <a:lnTo>
                    <a:pt x="20485" y="-17475"/>
                  </a:lnTo>
                  <a:lnTo>
                    <a:pt x="20485" y="-17012"/>
                  </a:lnTo>
                  <a:lnTo>
                    <a:pt x="20369" y="-16433"/>
                  </a:lnTo>
                  <a:lnTo>
                    <a:pt x="20254" y="-15970"/>
                  </a:lnTo>
                  <a:lnTo>
                    <a:pt x="20254" y="-15507"/>
                  </a:lnTo>
                  <a:lnTo>
                    <a:pt x="20254" y="-15043"/>
                  </a:lnTo>
                  <a:lnTo>
                    <a:pt x="20254" y="-14580"/>
                  </a:lnTo>
                  <a:lnTo>
                    <a:pt x="20369" y="-14117"/>
                  </a:lnTo>
                  <a:lnTo>
                    <a:pt x="20369" y="-14117"/>
                  </a:lnTo>
                  <a:lnTo>
                    <a:pt x="20485" y="-14117"/>
                  </a:lnTo>
                  <a:lnTo>
                    <a:pt x="20601" y="-14117"/>
                  </a:lnTo>
                  <a:lnTo>
                    <a:pt x="20832" y="-14001"/>
                  </a:lnTo>
                  <a:lnTo>
                    <a:pt x="20832" y="-13885"/>
                  </a:lnTo>
                  <a:lnTo>
                    <a:pt x="20948" y="-13769"/>
                  </a:lnTo>
                  <a:lnTo>
                    <a:pt x="21064" y="-13654"/>
                  </a:lnTo>
                  <a:lnTo>
                    <a:pt x="21179" y="-13538"/>
                  </a:lnTo>
                  <a:lnTo>
                    <a:pt x="21411" y="-13538"/>
                  </a:lnTo>
                  <a:lnTo>
                    <a:pt x="21411" y="-13538"/>
                  </a:lnTo>
                  <a:lnTo>
                    <a:pt x="23031" y="-13422"/>
                  </a:lnTo>
                  <a:lnTo>
                    <a:pt x="23031" y="-13422"/>
                  </a:lnTo>
                  <a:lnTo>
                    <a:pt x="23031" y="-13306"/>
                  </a:lnTo>
                  <a:lnTo>
                    <a:pt x="23147" y="-13190"/>
                  </a:lnTo>
                  <a:lnTo>
                    <a:pt x="23263" y="-13075"/>
                  </a:lnTo>
                  <a:lnTo>
                    <a:pt x="23378" y="-12959"/>
                  </a:lnTo>
                  <a:lnTo>
                    <a:pt x="23494" y="-12843"/>
                  </a:lnTo>
                  <a:lnTo>
                    <a:pt x="23610" y="-12611"/>
                  </a:lnTo>
                  <a:lnTo>
                    <a:pt x="23610" y="-12496"/>
                  </a:lnTo>
                  <a:lnTo>
                    <a:pt x="23726" y="-12264"/>
                  </a:lnTo>
                  <a:lnTo>
                    <a:pt x="23726" y="-12264"/>
                  </a:lnTo>
                  <a:lnTo>
                    <a:pt x="23726" y="-12032"/>
                  </a:lnTo>
                  <a:lnTo>
                    <a:pt x="23610" y="-11801"/>
                  </a:lnTo>
                  <a:lnTo>
                    <a:pt x="23494" y="-11569"/>
                  </a:lnTo>
                  <a:lnTo>
                    <a:pt x="23378" y="-11453"/>
                  </a:lnTo>
                  <a:lnTo>
                    <a:pt x="23147" y="-11222"/>
                  </a:lnTo>
                  <a:lnTo>
                    <a:pt x="22915" y="-11106"/>
                  </a:lnTo>
                  <a:lnTo>
                    <a:pt x="22684" y="-10990"/>
                  </a:lnTo>
                  <a:lnTo>
                    <a:pt x="22453" y="-10874"/>
                  </a:lnTo>
                  <a:lnTo>
                    <a:pt x="22453" y="-10874"/>
                  </a:lnTo>
                  <a:lnTo>
                    <a:pt x="21758" y="-10643"/>
                  </a:lnTo>
                  <a:lnTo>
                    <a:pt x="21179" y="-10643"/>
                  </a:lnTo>
                  <a:lnTo>
                    <a:pt x="20485" y="-10643"/>
                  </a:lnTo>
                  <a:lnTo>
                    <a:pt x="19791" y="-10758"/>
                  </a:lnTo>
                  <a:lnTo>
                    <a:pt x="19096" y="-10990"/>
                  </a:lnTo>
                  <a:lnTo>
                    <a:pt x="18518" y="-11222"/>
                  </a:lnTo>
                  <a:lnTo>
                    <a:pt x="17939" y="-11569"/>
                  </a:lnTo>
                  <a:lnTo>
                    <a:pt x="17360" y="-11917"/>
                  </a:lnTo>
                  <a:lnTo>
                    <a:pt x="17360" y="-11917"/>
                  </a:lnTo>
                  <a:lnTo>
                    <a:pt x="17013" y="-12496"/>
                  </a:lnTo>
                  <a:lnTo>
                    <a:pt x="16782" y="-13190"/>
                  </a:lnTo>
                  <a:lnTo>
                    <a:pt x="16550" y="-13769"/>
                  </a:lnTo>
                  <a:lnTo>
                    <a:pt x="16319" y="-14464"/>
                  </a:lnTo>
                  <a:lnTo>
                    <a:pt x="15972" y="-15043"/>
                  </a:lnTo>
                  <a:lnTo>
                    <a:pt x="15509" y="-15622"/>
                  </a:lnTo>
                  <a:lnTo>
                    <a:pt x="15046" y="-16086"/>
                  </a:lnTo>
                  <a:lnTo>
                    <a:pt x="14351" y="-16317"/>
                  </a:lnTo>
                  <a:lnTo>
                    <a:pt x="14351" y="-16317"/>
                  </a:lnTo>
                  <a:lnTo>
                    <a:pt x="14236" y="-16433"/>
                  </a:lnTo>
                  <a:lnTo>
                    <a:pt x="14120" y="-16549"/>
                  </a:lnTo>
                  <a:lnTo>
                    <a:pt x="14120" y="-16781"/>
                  </a:lnTo>
                  <a:lnTo>
                    <a:pt x="14004" y="-16896"/>
                  </a:lnTo>
                  <a:lnTo>
                    <a:pt x="14004" y="-17128"/>
                  </a:lnTo>
                  <a:lnTo>
                    <a:pt x="14004" y="-17244"/>
                  </a:lnTo>
                  <a:lnTo>
                    <a:pt x="14120" y="-17360"/>
                  </a:lnTo>
                  <a:lnTo>
                    <a:pt x="14120" y="-17591"/>
                  </a:lnTo>
                  <a:lnTo>
                    <a:pt x="14120" y="-17591"/>
                  </a:lnTo>
                  <a:lnTo>
                    <a:pt x="14467" y="-17939"/>
                  </a:lnTo>
                  <a:lnTo>
                    <a:pt x="14930" y="-18286"/>
                  </a:lnTo>
                  <a:lnTo>
                    <a:pt x="15393" y="-18402"/>
                  </a:lnTo>
                  <a:lnTo>
                    <a:pt x="15972" y="-18633"/>
                  </a:lnTo>
                  <a:lnTo>
                    <a:pt x="16434" y="-18749"/>
                  </a:lnTo>
                  <a:lnTo>
                    <a:pt x="17013" y="-18865"/>
                  </a:lnTo>
                  <a:lnTo>
                    <a:pt x="17476" y="-19097"/>
                  </a:lnTo>
                  <a:lnTo>
                    <a:pt x="17939" y="-19444"/>
                  </a:lnTo>
                  <a:lnTo>
                    <a:pt x="17939" y="-19444"/>
                  </a:lnTo>
                  <a:lnTo>
                    <a:pt x="18286" y="-19792"/>
                  </a:lnTo>
                  <a:lnTo>
                    <a:pt x="18633" y="-20023"/>
                  </a:lnTo>
                  <a:lnTo>
                    <a:pt x="18981" y="-20255"/>
                  </a:lnTo>
                  <a:lnTo>
                    <a:pt x="19328" y="-20602"/>
                  </a:lnTo>
                  <a:lnTo>
                    <a:pt x="19559" y="-20950"/>
                  </a:lnTo>
                  <a:lnTo>
                    <a:pt x="19791" y="-21297"/>
                  </a:lnTo>
                  <a:lnTo>
                    <a:pt x="20022" y="-21645"/>
                  </a:lnTo>
                  <a:lnTo>
                    <a:pt x="20369" y="-21992"/>
                  </a:lnTo>
                  <a:lnTo>
                    <a:pt x="20369" y="-21992"/>
                  </a:lnTo>
                  <a:lnTo>
                    <a:pt x="20138" y="-22108"/>
                  </a:lnTo>
                  <a:lnTo>
                    <a:pt x="20022" y="-22339"/>
                  </a:lnTo>
                  <a:lnTo>
                    <a:pt x="19906" y="-22571"/>
                  </a:lnTo>
                  <a:lnTo>
                    <a:pt x="19906" y="-22803"/>
                  </a:lnTo>
                  <a:lnTo>
                    <a:pt x="19791" y="-23034"/>
                  </a:lnTo>
                  <a:lnTo>
                    <a:pt x="19675" y="-23266"/>
                  </a:lnTo>
                  <a:lnTo>
                    <a:pt x="19559" y="-23382"/>
                  </a:lnTo>
                  <a:lnTo>
                    <a:pt x="19443" y="-23613"/>
                  </a:lnTo>
                  <a:lnTo>
                    <a:pt x="19443" y="-23613"/>
                  </a:lnTo>
                  <a:lnTo>
                    <a:pt x="18633" y="-23266"/>
                  </a:lnTo>
                  <a:lnTo>
                    <a:pt x="17823" y="-22918"/>
                  </a:lnTo>
                  <a:lnTo>
                    <a:pt x="17129" y="-22571"/>
                  </a:lnTo>
                  <a:lnTo>
                    <a:pt x="16319" y="-22224"/>
                  </a:lnTo>
                  <a:lnTo>
                    <a:pt x="15624" y="-21876"/>
                  </a:lnTo>
                  <a:lnTo>
                    <a:pt x="14814" y="-21529"/>
                  </a:lnTo>
                  <a:lnTo>
                    <a:pt x="14120" y="-21297"/>
                  </a:lnTo>
                  <a:lnTo>
                    <a:pt x="13194" y="-21181"/>
                  </a:lnTo>
                  <a:lnTo>
                    <a:pt x="13194" y="-21181"/>
                  </a:lnTo>
                  <a:lnTo>
                    <a:pt x="13194" y="-21297"/>
                  </a:lnTo>
                  <a:lnTo>
                    <a:pt x="13194" y="-21413"/>
                  </a:lnTo>
                  <a:lnTo>
                    <a:pt x="13078" y="-21645"/>
                  </a:lnTo>
                  <a:lnTo>
                    <a:pt x="13078" y="-21760"/>
                  </a:lnTo>
                  <a:lnTo>
                    <a:pt x="13078" y="-21876"/>
                  </a:lnTo>
                  <a:lnTo>
                    <a:pt x="13078" y="-22108"/>
                  </a:lnTo>
                  <a:lnTo>
                    <a:pt x="13078" y="-22224"/>
                  </a:lnTo>
                  <a:lnTo>
                    <a:pt x="12962" y="-22339"/>
                  </a:lnTo>
                  <a:lnTo>
                    <a:pt x="12962" y="-22339"/>
                  </a:lnTo>
                  <a:lnTo>
                    <a:pt x="12847" y="-22224"/>
                  </a:lnTo>
                  <a:lnTo>
                    <a:pt x="12731" y="-22224"/>
                  </a:lnTo>
                  <a:lnTo>
                    <a:pt x="12615" y="-22108"/>
                  </a:lnTo>
                  <a:lnTo>
                    <a:pt x="12500" y="-22108"/>
                  </a:lnTo>
                  <a:lnTo>
                    <a:pt x="12384" y="-22108"/>
                  </a:lnTo>
                  <a:lnTo>
                    <a:pt x="12268" y="-21992"/>
                  </a:lnTo>
                  <a:lnTo>
                    <a:pt x="12152" y="-22108"/>
                  </a:lnTo>
                  <a:lnTo>
                    <a:pt x="12037" y="-22108"/>
                  </a:lnTo>
                  <a:lnTo>
                    <a:pt x="12037" y="-22108"/>
                  </a:lnTo>
                  <a:lnTo>
                    <a:pt x="12037" y="-22339"/>
                  </a:lnTo>
                  <a:lnTo>
                    <a:pt x="12037" y="-22339"/>
                  </a:lnTo>
                  <a:lnTo>
                    <a:pt x="12037" y="-22455"/>
                  </a:lnTo>
                  <a:lnTo>
                    <a:pt x="11921" y="-22455"/>
                  </a:lnTo>
                  <a:lnTo>
                    <a:pt x="11805" y="-22455"/>
                  </a:lnTo>
                  <a:lnTo>
                    <a:pt x="11689" y="-22455"/>
                  </a:lnTo>
                  <a:lnTo>
                    <a:pt x="11574" y="-22339"/>
                  </a:lnTo>
                  <a:lnTo>
                    <a:pt x="11574" y="-22339"/>
                  </a:lnTo>
                  <a:lnTo>
                    <a:pt x="11458" y="-22339"/>
                  </a:lnTo>
                  <a:lnTo>
                    <a:pt x="11342" y="-22339"/>
                  </a:lnTo>
                  <a:lnTo>
                    <a:pt x="11342" y="-22339"/>
                  </a:lnTo>
                  <a:lnTo>
                    <a:pt x="11342" y="-22455"/>
                  </a:lnTo>
                  <a:lnTo>
                    <a:pt x="11342" y="-22571"/>
                  </a:lnTo>
                  <a:lnTo>
                    <a:pt x="11342" y="-22687"/>
                  </a:lnTo>
                  <a:lnTo>
                    <a:pt x="11342" y="-22803"/>
                  </a:lnTo>
                  <a:lnTo>
                    <a:pt x="11342" y="-22918"/>
                  </a:lnTo>
                  <a:lnTo>
                    <a:pt x="11342" y="-23034"/>
                  </a:lnTo>
                  <a:lnTo>
                    <a:pt x="11342" y="-23150"/>
                  </a:lnTo>
                  <a:lnTo>
                    <a:pt x="11342" y="-23150"/>
                  </a:lnTo>
                  <a:lnTo>
                    <a:pt x="11342" y="-23150"/>
                  </a:lnTo>
                  <a:lnTo>
                    <a:pt x="11226" y="-23150"/>
                  </a:lnTo>
                  <a:lnTo>
                    <a:pt x="11111" y="-23034"/>
                  </a:lnTo>
                  <a:lnTo>
                    <a:pt x="10995" y="-23034"/>
                  </a:lnTo>
                  <a:lnTo>
                    <a:pt x="10879" y="-22918"/>
                  </a:lnTo>
                  <a:lnTo>
                    <a:pt x="10648" y="-22918"/>
                  </a:lnTo>
                  <a:lnTo>
                    <a:pt x="10532" y="-22918"/>
                  </a:lnTo>
                  <a:lnTo>
                    <a:pt x="10416" y="-22918"/>
                  </a:lnTo>
                  <a:lnTo>
                    <a:pt x="10301" y="-22918"/>
                  </a:lnTo>
                  <a:lnTo>
                    <a:pt x="10301" y="-22918"/>
                  </a:lnTo>
                  <a:lnTo>
                    <a:pt x="10416" y="-24192"/>
                  </a:lnTo>
                  <a:lnTo>
                    <a:pt x="10648" y="-25350"/>
                  </a:lnTo>
                  <a:lnTo>
                    <a:pt x="10764" y="-26509"/>
                  </a:lnTo>
                  <a:lnTo>
                    <a:pt x="10879" y="-27782"/>
                  </a:lnTo>
                  <a:lnTo>
                    <a:pt x="10995" y="-28941"/>
                  </a:lnTo>
                  <a:lnTo>
                    <a:pt x="11226" y="-30099"/>
                  </a:lnTo>
                  <a:lnTo>
                    <a:pt x="11342" y="-31257"/>
                  </a:lnTo>
                  <a:lnTo>
                    <a:pt x="11574" y="-32415"/>
                  </a:lnTo>
                  <a:lnTo>
                    <a:pt x="11574" y="-32415"/>
                  </a:lnTo>
                  <a:lnTo>
                    <a:pt x="11458" y="-32531"/>
                  </a:lnTo>
                  <a:lnTo>
                    <a:pt x="11342" y="-32646"/>
                  </a:lnTo>
                  <a:lnTo>
                    <a:pt x="11111" y="-32762"/>
                  </a:lnTo>
                  <a:lnTo>
                    <a:pt x="10995" y="32658"/>
                  </a:lnTo>
                  <a:lnTo>
                    <a:pt x="10879" y="32542"/>
                  </a:lnTo>
                  <a:lnTo>
                    <a:pt x="10648" y="32426"/>
                  </a:lnTo>
                  <a:lnTo>
                    <a:pt x="10532" y="32311"/>
                  </a:lnTo>
                  <a:lnTo>
                    <a:pt x="10532" y="32195"/>
                  </a:lnTo>
                  <a:lnTo>
                    <a:pt x="10532" y="32195"/>
                  </a:lnTo>
                  <a:lnTo>
                    <a:pt x="10532" y="32542"/>
                  </a:lnTo>
                  <a:lnTo>
                    <a:pt x="10532" y="-32762"/>
                  </a:lnTo>
                  <a:lnTo>
                    <a:pt x="10648" y="-32415"/>
                  </a:lnTo>
                  <a:lnTo>
                    <a:pt x="10764" y="-32067"/>
                  </a:lnTo>
                  <a:lnTo>
                    <a:pt x="10879" y="-31720"/>
                  </a:lnTo>
                  <a:lnTo>
                    <a:pt x="10879" y="-31488"/>
                  </a:lnTo>
                  <a:lnTo>
                    <a:pt x="10879" y="-31141"/>
                  </a:lnTo>
                  <a:lnTo>
                    <a:pt x="10879" y="-30793"/>
                  </a:lnTo>
                  <a:lnTo>
                    <a:pt x="10879" y="-30793"/>
                  </a:lnTo>
                  <a:lnTo>
                    <a:pt x="10764" y="-30678"/>
                  </a:lnTo>
                  <a:lnTo>
                    <a:pt x="10648" y="-30562"/>
                  </a:lnTo>
                  <a:lnTo>
                    <a:pt x="10532" y="-30562"/>
                  </a:lnTo>
                  <a:lnTo>
                    <a:pt x="10301" y="-30446"/>
                  </a:lnTo>
                  <a:lnTo>
                    <a:pt x="10185" y="-30446"/>
                  </a:lnTo>
                  <a:lnTo>
                    <a:pt x="9953" y="-30562"/>
                  </a:lnTo>
                  <a:lnTo>
                    <a:pt x="9838" y="-30562"/>
                  </a:lnTo>
                  <a:lnTo>
                    <a:pt x="9722" y="-30678"/>
                  </a:lnTo>
                  <a:lnTo>
                    <a:pt x="9722" y="-30678"/>
                  </a:lnTo>
                  <a:lnTo>
                    <a:pt x="9491" y="-30678"/>
                  </a:lnTo>
                  <a:lnTo>
                    <a:pt x="9259" y="-30909"/>
                  </a:lnTo>
                  <a:lnTo>
                    <a:pt x="9143" y="-31025"/>
                  </a:lnTo>
                  <a:lnTo>
                    <a:pt x="9028" y="-31257"/>
                  </a:lnTo>
                  <a:lnTo>
                    <a:pt x="8912" y="-31488"/>
                  </a:lnTo>
                  <a:lnTo>
                    <a:pt x="8796" y="-31604"/>
                  </a:lnTo>
                  <a:lnTo>
                    <a:pt x="8680" y="-31836"/>
                  </a:lnTo>
                  <a:lnTo>
                    <a:pt x="8565" y="-32067"/>
                  </a:lnTo>
                  <a:lnTo>
                    <a:pt x="8565" y="-32067"/>
                  </a:lnTo>
                  <a:lnTo>
                    <a:pt x="7870" y="-31836"/>
                  </a:lnTo>
                  <a:lnTo>
                    <a:pt x="7292" y="-31604"/>
                  </a:lnTo>
                  <a:lnTo>
                    <a:pt x="6597" y="-31373"/>
                  </a:lnTo>
                  <a:lnTo>
                    <a:pt x="6019" y="-31025"/>
                  </a:lnTo>
                  <a:lnTo>
                    <a:pt x="5440" y="-30793"/>
                  </a:lnTo>
                  <a:lnTo>
                    <a:pt x="4861" y="-30562"/>
                  </a:lnTo>
                  <a:lnTo>
                    <a:pt x="4167" y="-30330"/>
                  </a:lnTo>
                  <a:lnTo>
                    <a:pt x="3588" y="-30099"/>
                  </a:lnTo>
                  <a:lnTo>
                    <a:pt x="3588" y="-30099"/>
                  </a:lnTo>
                  <a:lnTo>
                    <a:pt x="3241" y="-30099"/>
                  </a:lnTo>
                  <a:lnTo>
                    <a:pt x="2894" y="-30099"/>
                  </a:lnTo>
                  <a:lnTo>
                    <a:pt x="2547" y="-30099"/>
                  </a:lnTo>
                  <a:lnTo>
                    <a:pt x="2199" y="-30330"/>
                  </a:lnTo>
                  <a:lnTo>
                    <a:pt x="1852" y="-30446"/>
                  </a:lnTo>
                  <a:lnTo>
                    <a:pt x="1505" y="-30678"/>
                  </a:lnTo>
                  <a:lnTo>
                    <a:pt x="1274" y="-30909"/>
                  </a:lnTo>
                  <a:lnTo>
                    <a:pt x="926" y="-31141"/>
                  </a:lnTo>
                  <a:lnTo>
                    <a:pt x="926" y="-31141"/>
                  </a:lnTo>
                  <a:lnTo>
                    <a:pt x="579" y="-31720"/>
                  </a:lnTo>
                  <a:lnTo>
                    <a:pt x="232" y="-32415"/>
                  </a:lnTo>
                  <a:lnTo>
                    <a:pt x="116" y="32426"/>
                  </a:lnTo>
                  <a:lnTo>
                    <a:pt x="0" y="31731"/>
                  </a:lnTo>
                  <a:lnTo>
                    <a:pt x="0" y="31037"/>
                  </a:lnTo>
                  <a:lnTo>
                    <a:pt x="116" y="30342"/>
                  </a:lnTo>
                  <a:lnTo>
                    <a:pt x="348" y="29647"/>
                  </a:lnTo>
                  <a:lnTo>
                    <a:pt x="579" y="29068"/>
                  </a:lnTo>
                  <a:lnTo>
                    <a:pt x="579" y="29068"/>
                  </a:lnTo>
                  <a:lnTo>
                    <a:pt x="1158" y="28257"/>
                  </a:lnTo>
                  <a:lnTo>
                    <a:pt x="1968" y="27910"/>
                  </a:lnTo>
                  <a:lnTo>
                    <a:pt x="2894" y="27678"/>
                  </a:lnTo>
                  <a:lnTo>
                    <a:pt x="3820" y="27562"/>
                  </a:lnTo>
                  <a:lnTo>
                    <a:pt x="4745" y="27562"/>
                  </a:lnTo>
                  <a:lnTo>
                    <a:pt x="5671" y="27331"/>
                  </a:lnTo>
                  <a:lnTo>
                    <a:pt x="6597" y="27099"/>
                  </a:lnTo>
                  <a:lnTo>
                    <a:pt x="7407" y="26520"/>
                  </a:lnTo>
                  <a:lnTo>
                    <a:pt x="7407" y="26520"/>
                  </a:lnTo>
                  <a:lnTo>
                    <a:pt x="7407" y="26520"/>
                  </a:lnTo>
                  <a:lnTo>
                    <a:pt x="7523" y="26520"/>
                  </a:lnTo>
                  <a:lnTo>
                    <a:pt x="7523" y="26520"/>
                  </a:lnTo>
                  <a:lnTo>
                    <a:pt x="7639" y="26520"/>
                  </a:lnTo>
                  <a:lnTo>
                    <a:pt x="7639" y="26520"/>
                  </a:lnTo>
                  <a:lnTo>
                    <a:pt x="7755" y="26520"/>
                  </a:lnTo>
                  <a:lnTo>
                    <a:pt x="7755" y="26520"/>
                  </a:lnTo>
                  <a:lnTo>
                    <a:pt x="7870" y="26520"/>
                  </a:lnTo>
                  <a:lnTo>
                    <a:pt x="7870" y="26520"/>
                  </a:lnTo>
                  <a:lnTo>
                    <a:pt x="7292" y="25709"/>
                  </a:lnTo>
                  <a:lnTo>
                    <a:pt x="6713" y="25014"/>
                  </a:lnTo>
                  <a:lnTo>
                    <a:pt x="6250" y="24204"/>
                  </a:lnTo>
                  <a:lnTo>
                    <a:pt x="5787" y="23393"/>
                  </a:lnTo>
                  <a:lnTo>
                    <a:pt x="5440" y="22582"/>
                  </a:lnTo>
                  <a:lnTo>
                    <a:pt x="5208" y="21772"/>
                  </a:lnTo>
                  <a:lnTo>
                    <a:pt x="5208" y="20845"/>
                  </a:lnTo>
                  <a:lnTo>
                    <a:pt x="5324" y="19919"/>
                  </a:lnTo>
                  <a:lnTo>
                    <a:pt x="5324" y="19919"/>
                  </a:lnTo>
                  <a:lnTo>
                    <a:pt x="5440" y="19571"/>
                  </a:lnTo>
                  <a:lnTo>
                    <a:pt x="5671" y="19224"/>
                  </a:lnTo>
                  <a:lnTo>
                    <a:pt x="6019" y="19108"/>
                  </a:lnTo>
                  <a:lnTo>
                    <a:pt x="6366" y="18992"/>
                  </a:lnTo>
                  <a:lnTo>
                    <a:pt x="6713" y="18877"/>
                  </a:lnTo>
                  <a:lnTo>
                    <a:pt x="7060" y="18761"/>
                  </a:lnTo>
                  <a:lnTo>
                    <a:pt x="7523" y="18761"/>
                  </a:lnTo>
                  <a:lnTo>
                    <a:pt x="7870" y="18645"/>
                  </a:lnTo>
                  <a:lnTo>
                    <a:pt x="7870" y="18645"/>
                  </a:lnTo>
                  <a:lnTo>
                    <a:pt x="8565" y="18529"/>
                  </a:lnTo>
                  <a:lnTo>
                    <a:pt x="9259" y="18529"/>
                  </a:lnTo>
                  <a:lnTo>
                    <a:pt x="9953" y="18529"/>
                  </a:lnTo>
                  <a:lnTo>
                    <a:pt x="10648" y="18645"/>
                  </a:lnTo>
                  <a:lnTo>
                    <a:pt x="11342" y="18645"/>
                  </a:lnTo>
                  <a:lnTo>
                    <a:pt x="11921" y="18877"/>
                  </a:lnTo>
                  <a:lnTo>
                    <a:pt x="12615" y="18992"/>
                  </a:lnTo>
                  <a:lnTo>
                    <a:pt x="13310" y="19108"/>
                  </a:lnTo>
                  <a:lnTo>
                    <a:pt x="13310" y="19108"/>
                  </a:lnTo>
                  <a:lnTo>
                    <a:pt x="13425" y="18992"/>
                  </a:lnTo>
                  <a:lnTo>
                    <a:pt x="13425" y="18992"/>
                  </a:lnTo>
                  <a:lnTo>
                    <a:pt x="13773" y="17139"/>
                  </a:lnTo>
                  <a:lnTo>
                    <a:pt x="14004" y="15286"/>
                  </a:lnTo>
                  <a:lnTo>
                    <a:pt x="14351" y="13434"/>
                  </a:lnTo>
                  <a:lnTo>
                    <a:pt x="14814" y="11581"/>
                  </a:lnTo>
                  <a:lnTo>
                    <a:pt x="15161" y="9728"/>
                  </a:lnTo>
                  <a:lnTo>
                    <a:pt x="15509" y="7875"/>
                  </a:lnTo>
                  <a:lnTo>
                    <a:pt x="15856" y="6138"/>
                  </a:lnTo>
                  <a:lnTo>
                    <a:pt x="16203" y="4285"/>
                  </a:lnTo>
                  <a:lnTo>
                    <a:pt x="16203" y="4285"/>
                  </a:lnTo>
                  <a:lnTo>
                    <a:pt x="16319" y="4053"/>
                  </a:lnTo>
                  <a:lnTo>
                    <a:pt x="16319" y="3821"/>
                  </a:lnTo>
                  <a:lnTo>
                    <a:pt x="16203" y="3590"/>
                  </a:lnTo>
                  <a:lnTo>
                    <a:pt x="16203" y="3358"/>
                  </a:lnTo>
                  <a:lnTo>
                    <a:pt x="16319" y="3126"/>
                  </a:lnTo>
                  <a:lnTo>
                    <a:pt x="16434" y="3011"/>
                  </a:lnTo>
                  <a:lnTo>
                    <a:pt x="16550" y="2895"/>
                  </a:lnTo>
                  <a:lnTo>
                    <a:pt x="16897" y="2895"/>
                  </a:lnTo>
                  <a:lnTo>
                    <a:pt x="16897" y="2895"/>
                  </a:lnTo>
                  <a:lnTo>
                    <a:pt x="16782" y="2663"/>
                  </a:lnTo>
                  <a:lnTo>
                    <a:pt x="16782" y="2316"/>
                  </a:lnTo>
                  <a:lnTo>
                    <a:pt x="16782" y="1968"/>
                  </a:lnTo>
                  <a:lnTo>
                    <a:pt x="16782" y="1621"/>
                  </a:lnTo>
                  <a:lnTo>
                    <a:pt x="16897" y="1389"/>
                  </a:lnTo>
                  <a:lnTo>
                    <a:pt x="17013" y="1042"/>
                  </a:lnTo>
                  <a:lnTo>
                    <a:pt x="17129" y="810"/>
                  </a:lnTo>
                  <a:lnTo>
                    <a:pt x="17360" y="579"/>
                  </a:lnTo>
                  <a:lnTo>
                    <a:pt x="17360" y="579"/>
                  </a:lnTo>
                  <a:lnTo>
                    <a:pt x="17707" y="347"/>
                  </a:lnTo>
                  <a:lnTo>
                    <a:pt x="18055" y="115"/>
                  </a:lnTo>
                  <a:lnTo>
                    <a:pt x="18518" y="0"/>
                  </a:lnTo>
                  <a:lnTo>
                    <a:pt x="18981" y="0"/>
                  </a:lnTo>
                  <a:lnTo>
                    <a:pt x="19328" y="0"/>
                  </a:lnTo>
                  <a:lnTo>
                    <a:pt x="19791" y="115"/>
                  </a:lnTo>
                  <a:lnTo>
                    <a:pt x="20138" y="347"/>
                  </a:lnTo>
                  <a:lnTo>
                    <a:pt x="20369" y="694"/>
                  </a:lnTo>
                  <a:lnTo>
                    <a:pt x="20369" y="694"/>
                  </a:lnTo>
                  <a:lnTo>
                    <a:pt x="20369" y="694"/>
                  </a:lnTo>
                  <a:lnTo>
                    <a:pt x="20369" y="694"/>
                  </a:lnTo>
                  <a:lnTo>
                    <a:pt x="20369"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1615320" y="3389760"/>
              <a:ext cx="115560" cy="192600"/>
            </a:xfrm>
            <a:custGeom>
              <a:avLst/>
              <a:gdLst/>
              <a:ahLst/>
              <a:rect l="l" t="t" r="r" b="b"/>
              <a:pathLst>
                <a:path w="3240" h="3590">
                  <a:moveTo>
                    <a:pt x="3124" y="926"/>
                  </a:moveTo>
                  <a:lnTo>
                    <a:pt x="3124" y="1274"/>
                  </a:lnTo>
                  <a:lnTo>
                    <a:pt x="3240" y="1621"/>
                  </a:lnTo>
                  <a:lnTo>
                    <a:pt x="3240" y="1969"/>
                  </a:lnTo>
                  <a:lnTo>
                    <a:pt x="3240" y="2316"/>
                  </a:lnTo>
                  <a:lnTo>
                    <a:pt x="3240" y="2663"/>
                  </a:lnTo>
                  <a:lnTo>
                    <a:pt x="3124" y="2895"/>
                  </a:lnTo>
                  <a:lnTo>
                    <a:pt x="3009" y="3243"/>
                  </a:lnTo>
                  <a:lnTo>
                    <a:pt x="2893" y="3590"/>
                  </a:lnTo>
                  <a:lnTo>
                    <a:pt x="2893" y="3590"/>
                  </a:lnTo>
                  <a:lnTo>
                    <a:pt x="2546" y="3590"/>
                  </a:lnTo>
                  <a:lnTo>
                    <a:pt x="2546" y="3243"/>
                  </a:lnTo>
                  <a:lnTo>
                    <a:pt x="2661" y="3243"/>
                  </a:lnTo>
                  <a:lnTo>
                    <a:pt x="2661" y="3243"/>
                  </a:lnTo>
                  <a:lnTo>
                    <a:pt x="2661" y="3011"/>
                  </a:lnTo>
                  <a:lnTo>
                    <a:pt x="2777" y="2663"/>
                  </a:lnTo>
                  <a:lnTo>
                    <a:pt x="2893" y="2432"/>
                  </a:lnTo>
                  <a:lnTo>
                    <a:pt x="2893" y="2084"/>
                  </a:lnTo>
                  <a:lnTo>
                    <a:pt x="3009" y="1737"/>
                  </a:lnTo>
                  <a:lnTo>
                    <a:pt x="2893" y="1505"/>
                  </a:lnTo>
                  <a:lnTo>
                    <a:pt x="2893" y="1158"/>
                  </a:lnTo>
                  <a:lnTo>
                    <a:pt x="2777" y="926"/>
                  </a:lnTo>
                  <a:lnTo>
                    <a:pt x="2777" y="926"/>
                  </a:lnTo>
                  <a:lnTo>
                    <a:pt x="2661" y="811"/>
                  </a:lnTo>
                  <a:lnTo>
                    <a:pt x="2546" y="695"/>
                  </a:lnTo>
                  <a:lnTo>
                    <a:pt x="2430" y="579"/>
                  </a:lnTo>
                  <a:lnTo>
                    <a:pt x="2198" y="463"/>
                  </a:lnTo>
                  <a:lnTo>
                    <a:pt x="2083" y="347"/>
                  </a:lnTo>
                  <a:lnTo>
                    <a:pt x="1967" y="231"/>
                  </a:lnTo>
                  <a:lnTo>
                    <a:pt x="1851" y="231"/>
                  </a:lnTo>
                  <a:lnTo>
                    <a:pt x="1736" y="231"/>
                  </a:lnTo>
                  <a:lnTo>
                    <a:pt x="1736" y="231"/>
                  </a:lnTo>
                  <a:lnTo>
                    <a:pt x="1504" y="231"/>
                  </a:lnTo>
                  <a:lnTo>
                    <a:pt x="1273" y="347"/>
                  </a:lnTo>
                  <a:lnTo>
                    <a:pt x="1041" y="347"/>
                  </a:lnTo>
                  <a:lnTo>
                    <a:pt x="925" y="463"/>
                  </a:lnTo>
                  <a:lnTo>
                    <a:pt x="694" y="695"/>
                  </a:lnTo>
                  <a:lnTo>
                    <a:pt x="578" y="811"/>
                  </a:lnTo>
                  <a:lnTo>
                    <a:pt x="462" y="926"/>
                  </a:lnTo>
                  <a:lnTo>
                    <a:pt x="347" y="1158"/>
                  </a:lnTo>
                  <a:lnTo>
                    <a:pt x="347" y="1158"/>
                  </a:lnTo>
                  <a:lnTo>
                    <a:pt x="347" y="2432"/>
                  </a:lnTo>
                  <a:lnTo>
                    <a:pt x="347" y="2432"/>
                  </a:lnTo>
                  <a:lnTo>
                    <a:pt x="115" y="2316"/>
                  </a:lnTo>
                  <a:lnTo>
                    <a:pt x="115" y="2200"/>
                  </a:lnTo>
                  <a:lnTo>
                    <a:pt x="0" y="1969"/>
                  </a:lnTo>
                  <a:lnTo>
                    <a:pt x="0" y="1737"/>
                  </a:lnTo>
                  <a:lnTo>
                    <a:pt x="0" y="1505"/>
                  </a:lnTo>
                  <a:lnTo>
                    <a:pt x="0" y="1390"/>
                  </a:lnTo>
                  <a:lnTo>
                    <a:pt x="0" y="1158"/>
                  </a:lnTo>
                  <a:lnTo>
                    <a:pt x="115" y="926"/>
                  </a:lnTo>
                  <a:lnTo>
                    <a:pt x="115" y="926"/>
                  </a:lnTo>
                  <a:lnTo>
                    <a:pt x="347" y="579"/>
                  </a:lnTo>
                  <a:lnTo>
                    <a:pt x="694" y="231"/>
                  </a:lnTo>
                  <a:lnTo>
                    <a:pt x="1041" y="116"/>
                  </a:lnTo>
                  <a:lnTo>
                    <a:pt x="1504" y="0"/>
                  </a:lnTo>
                  <a:lnTo>
                    <a:pt x="2083" y="0"/>
                  </a:lnTo>
                  <a:lnTo>
                    <a:pt x="2430" y="231"/>
                  </a:lnTo>
                  <a:lnTo>
                    <a:pt x="2777" y="463"/>
                  </a:lnTo>
                  <a:lnTo>
                    <a:pt x="3124" y="926"/>
                  </a:lnTo>
                  <a:lnTo>
                    <a:pt x="3124" y="926"/>
                  </a:lnTo>
                  <a:lnTo>
                    <a:pt x="3124" y="926"/>
                  </a:lnTo>
                  <a:lnTo>
                    <a:pt x="3124" y="926"/>
                  </a:lnTo>
                  <a:lnTo>
                    <a:pt x="3124"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1739520" y="3402360"/>
              <a:ext cx="65880" cy="211320"/>
            </a:xfrm>
            <a:custGeom>
              <a:avLst/>
              <a:gdLst/>
              <a:ahLst/>
              <a:rect l="l" t="t" r="r" b="b"/>
              <a:pathLst>
                <a:path w="1851" h="3938">
                  <a:moveTo>
                    <a:pt x="1851" y="1853"/>
                  </a:moveTo>
                  <a:lnTo>
                    <a:pt x="1851" y="1969"/>
                  </a:lnTo>
                  <a:lnTo>
                    <a:pt x="1851" y="2201"/>
                  </a:lnTo>
                  <a:lnTo>
                    <a:pt x="1851" y="2317"/>
                  </a:lnTo>
                  <a:lnTo>
                    <a:pt x="1736" y="2432"/>
                  </a:lnTo>
                  <a:lnTo>
                    <a:pt x="1736" y="2548"/>
                  </a:lnTo>
                  <a:lnTo>
                    <a:pt x="1736" y="2664"/>
                  </a:lnTo>
                  <a:lnTo>
                    <a:pt x="1736" y="2896"/>
                  </a:lnTo>
                  <a:lnTo>
                    <a:pt x="1736" y="3012"/>
                  </a:lnTo>
                  <a:lnTo>
                    <a:pt x="1736" y="3012"/>
                  </a:lnTo>
                  <a:lnTo>
                    <a:pt x="1620" y="3127"/>
                  </a:lnTo>
                  <a:lnTo>
                    <a:pt x="1620" y="3243"/>
                  </a:lnTo>
                  <a:lnTo>
                    <a:pt x="1504" y="3359"/>
                  </a:lnTo>
                  <a:lnTo>
                    <a:pt x="1388" y="3475"/>
                  </a:lnTo>
                  <a:lnTo>
                    <a:pt x="1273" y="3591"/>
                  </a:lnTo>
                  <a:lnTo>
                    <a:pt x="1157" y="3706"/>
                  </a:lnTo>
                  <a:lnTo>
                    <a:pt x="1041" y="3822"/>
                  </a:lnTo>
                  <a:lnTo>
                    <a:pt x="925" y="3938"/>
                  </a:lnTo>
                  <a:lnTo>
                    <a:pt x="925" y="3938"/>
                  </a:lnTo>
                  <a:lnTo>
                    <a:pt x="810" y="3938"/>
                  </a:lnTo>
                  <a:lnTo>
                    <a:pt x="810" y="3938"/>
                  </a:lnTo>
                  <a:lnTo>
                    <a:pt x="694" y="3938"/>
                  </a:lnTo>
                  <a:lnTo>
                    <a:pt x="694" y="3822"/>
                  </a:lnTo>
                  <a:lnTo>
                    <a:pt x="694" y="3822"/>
                  </a:lnTo>
                  <a:lnTo>
                    <a:pt x="694" y="3706"/>
                  </a:lnTo>
                  <a:lnTo>
                    <a:pt x="694" y="3706"/>
                  </a:lnTo>
                  <a:lnTo>
                    <a:pt x="694" y="3591"/>
                  </a:lnTo>
                  <a:lnTo>
                    <a:pt x="694" y="3591"/>
                  </a:lnTo>
                  <a:lnTo>
                    <a:pt x="925" y="3243"/>
                  </a:lnTo>
                  <a:lnTo>
                    <a:pt x="1157" y="3012"/>
                  </a:lnTo>
                  <a:lnTo>
                    <a:pt x="1273" y="2664"/>
                  </a:lnTo>
                  <a:lnTo>
                    <a:pt x="1273" y="2317"/>
                  </a:lnTo>
                  <a:lnTo>
                    <a:pt x="1273" y="1969"/>
                  </a:lnTo>
                  <a:lnTo>
                    <a:pt x="1157" y="1622"/>
                  </a:lnTo>
                  <a:lnTo>
                    <a:pt x="1041" y="1274"/>
                  </a:lnTo>
                  <a:lnTo>
                    <a:pt x="1041" y="811"/>
                  </a:lnTo>
                  <a:lnTo>
                    <a:pt x="1041" y="811"/>
                  </a:lnTo>
                  <a:lnTo>
                    <a:pt x="925" y="811"/>
                  </a:lnTo>
                  <a:lnTo>
                    <a:pt x="810" y="695"/>
                  </a:lnTo>
                  <a:lnTo>
                    <a:pt x="694" y="580"/>
                  </a:lnTo>
                  <a:lnTo>
                    <a:pt x="578" y="464"/>
                  </a:lnTo>
                  <a:lnTo>
                    <a:pt x="462" y="464"/>
                  </a:lnTo>
                  <a:lnTo>
                    <a:pt x="347" y="464"/>
                  </a:lnTo>
                  <a:lnTo>
                    <a:pt x="231" y="464"/>
                  </a:lnTo>
                  <a:lnTo>
                    <a:pt x="115" y="464"/>
                  </a:lnTo>
                  <a:lnTo>
                    <a:pt x="115" y="464"/>
                  </a:lnTo>
                  <a:lnTo>
                    <a:pt x="0" y="116"/>
                  </a:lnTo>
                  <a:lnTo>
                    <a:pt x="0" y="116"/>
                  </a:lnTo>
                  <a:lnTo>
                    <a:pt x="115" y="116"/>
                  </a:lnTo>
                  <a:lnTo>
                    <a:pt x="231" y="0"/>
                  </a:lnTo>
                  <a:lnTo>
                    <a:pt x="347" y="0"/>
                  </a:lnTo>
                  <a:lnTo>
                    <a:pt x="462" y="0"/>
                  </a:lnTo>
                  <a:lnTo>
                    <a:pt x="694" y="116"/>
                  </a:lnTo>
                  <a:lnTo>
                    <a:pt x="810" y="116"/>
                  </a:lnTo>
                  <a:lnTo>
                    <a:pt x="925" y="232"/>
                  </a:lnTo>
                  <a:lnTo>
                    <a:pt x="1041" y="232"/>
                  </a:lnTo>
                  <a:lnTo>
                    <a:pt x="1041" y="232"/>
                  </a:lnTo>
                  <a:lnTo>
                    <a:pt x="1273" y="464"/>
                  </a:lnTo>
                  <a:lnTo>
                    <a:pt x="1388" y="580"/>
                  </a:lnTo>
                  <a:lnTo>
                    <a:pt x="1504" y="811"/>
                  </a:lnTo>
                  <a:lnTo>
                    <a:pt x="1620" y="1043"/>
                  </a:lnTo>
                  <a:lnTo>
                    <a:pt x="1620" y="1159"/>
                  </a:lnTo>
                  <a:lnTo>
                    <a:pt x="1736" y="1390"/>
                  </a:lnTo>
                  <a:lnTo>
                    <a:pt x="1736" y="1622"/>
                  </a:lnTo>
                  <a:lnTo>
                    <a:pt x="1851" y="1853"/>
                  </a:lnTo>
                  <a:lnTo>
                    <a:pt x="1851" y="1853"/>
                  </a:lnTo>
                  <a:lnTo>
                    <a:pt x="1851" y="1853"/>
                  </a:lnTo>
                  <a:lnTo>
                    <a:pt x="1851" y="1853"/>
                  </a:lnTo>
                  <a:lnTo>
                    <a:pt x="1851" y="18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1640160" y="3427200"/>
              <a:ext cx="49320" cy="99360"/>
            </a:xfrm>
            <a:custGeom>
              <a:avLst/>
              <a:gdLst/>
              <a:ahLst/>
              <a:rect l="l" t="t" r="r" b="b"/>
              <a:pathLst>
                <a:path w="1389" h="1853">
                  <a:moveTo>
                    <a:pt x="1389" y="347"/>
                  </a:moveTo>
                  <a:lnTo>
                    <a:pt x="1157" y="579"/>
                  </a:lnTo>
                  <a:lnTo>
                    <a:pt x="1042" y="810"/>
                  </a:lnTo>
                  <a:lnTo>
                    <a:pt x="926" y="1042"/>
                  </a:lnTo>
                  <a:lnTo>
                    <a:pt x="810" y="1389"/>
                  </a:lnTo>
                  <a:lnTo>
                    <a:pt x="810" y="1621"/>
                  </a:lnTo>
                  <a:lnTo>
                    <a:pt x="694" y="1853"/>
                  </a:lnTo>
                  <a:lnTo>
                    <a:pt x="463" y="1853"/>
                  </a:lnTo>
                  <a:lnTo>
                    <a:pt x="116" y="1737"/>
                  </a:lnTo>
                  <a:lnTo>
                    <a:pt x="116" y="1737"/>
                  </a:lnTo>
                  <a:lnTo>
                    <a:pt x="0" y="1505"/>
                  </a:lnTo>
                  <a:lnTo>
                    <a:pt x="0" y="1274"/>
                  </a:lnTo>
                  <a:lnTo>
                    <a:pt x="0" y="1042"/>
                  </a:lnTo>
                  <a:lnTo>
                    <a:pt x="116" y="810"/>
                  </a:lnTo>
                  <a:lnTo>
                    <a:pt x="116" y="579"/>
                  </a:lnTo>
                  <a:lnTo>
                    <a:pt x="231" y="347"/>
                  </a:lnTo>
                  <a:lnTo>
                    <a:pt x="463" y="231"/>
                  </a:lnTo>
                  <a:lnTo>
                    <a:pt x="694" y="116"/>
                  </a:lnTo>
                  <a:lnTo>
                    <a:pt x="694" y="116"/>
                  </a:lnTo>
                  <a:lnTo>
                    <a:pt x="810" y="0"/>
                  </a:lnTo>
                  <a:lnTo>
                    <a:pt x="926" y="0"/>
                  </a:lnTo>
                  <a:lnTo>
                    <a:pt x="1042" y="0"/>
                  </a:lnTo>
                  <a:lnTo>
                    <a:pt x="1157" y="116"/>
                  </a:lnTo>
                  <a:lnTo>
                    <a:pt x="1157" y="116"/>
                  </a:lnTo>
                  <a:lnTo>
                    <a:pt x="1273" y="116"/>
                  </a:lnTo>
                  <a:lnTo>
                    <a:pt x="1389" y="231"/>
                  </a:lnTo>
                  <a:lnTo>
                    <a:pt x="1389" y="347"/>
                  </a:lnTo>
                  <a:lnTo>
                    <a:pt x="1389" y="347"/>
                  </a:lnTo>
                  <a:lnTo>
                    <a:pt x="1389" y="347"/>
                  </a:lnTo>
                  <a:lnTo>
                    <a:pt x="1389" y="347"/>
                  </a:lnTo>
                  <a:lnTo>
                    <a:pt x="1389"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814040" y="3445920"/>
              <a:ext cx="65880" cy="192600"/>
            </a:xfrm>
            <a:custGeom>
              <a:avLst/>
              <a:gdLst/>
              <a:ahLst/>
              <a:rect l="l" t="t" r="r" b="b"/>
              <a:pathLst>
                <a:path w="1851" h="3590">
                  <a:moveTo>
                    <a:pt x="1620" y="695"/>
                  </a:moveTo>
                  <a:lnTo>
                    <a:pt x="1736" y="927"/>
                  </a:lnTo>
                  <a:lnTo>
                    <a:pt x="1736" y="1158"/>
                  </a:lnTo>
                  <a:lnTo>
                    <a:pt x="1851" y="1390"/>
                  </a:lnTo>
                  <a:lnTo>
                    <a:pt x="1851" y="1621"/>
                  </a:lnTo>
                  <a:lnTo>
                    <a:pt x="1851" y="1853"/>
                  </a:lnTo>
                  <a:lnTo>
                    <a:pt x="1851" y="2085"/>
                  </a:lnTo>
                  <a:lnTo>
                    <a:pt x="1851" y="2316"/>
                  </a:lnTo>
                  <a:lnTo>
                    <a:pt x="1736" y="2432"/>
                  </a:lnTo>
                  <a:lnTo>
                    <a:pt x="1736" y="2432"/>
                  </a:lnTo>
                  <a:lnTo>
                    <a:pt x="1736" y="2664"/>
                  </a:lnTo>
                  <a:lnTo>
                    <a:pt x="1620" y="2780"/>
                  </a:lnTo>
                  <a:lnTo>
                    <a:pt x="1504" y="2895"/>
                  </a:lnTo>
                  <a:lnTo>
                    <a:pt x="1388" y="3127"/>
                  </a:lnTo>
                  <a:lnTo>
                    <a:pt x="1273" y="3243"/>
                  </a:lnTo>
                  <a:lnTo>
                    <a:pt x="1157" y="3359"/>
                  </a:lnTo>
                  <a:lnTo>
                    <a:pt x="1041" y="3474"/>
                  </a:lnTo>
                  <a:lnTo>
                    <a:pt x="926" y="3590"/>
                  </a:lnTo>
                  <a:lnTo>
                    <a:pt x="926" y="3590"/>
                  </a:lnTo>
                  <a:lnTo>
                    <a:pt x="810" y="3590"/>
                  </a:lnTo>
                  <a:lnTo>
                    <a:pt x="694" y="3590"/>
                  </a:lnTo>
                  <a:lnTo>
                    <a:pt x="694" y="3474"/>
                  </a:lnTo>
                  <a:lnTo>
                    <a:pt x="578" y="3474"/>
                  </a:lnTo>
                  <a:lnTo>
                    <a:pt x="578" y="3359"/>
                  </a:lnTo>
                  <a:lnTo>
                    <a:pt x="578" y="3359"/>
                  </a:lnTo>
                  <a:lnTo>
                    <a:pt x="578" y="3243"/>
                  </a:lnTo>
                  <a:lnTo>
                    <a:pt x="578" y="3127"/>
                  </a:lnTo>
                  <a:lnTo>
                    <a:pt x="578" y="3127"/>
                  </a:lnTo>
                  <a:lnTo>
                    <a:pt x="694" y="3127"/>
                  </a:lnTo>
                  <a:lnTo>
                    <a:pt x="810" y="3011"/>
                  </a:lnTo>
                  <a:lnTo>
                    <a:pt x="926" y="2895"/>
                  </a:lnTo>
                  <a:lnTo>
                    <a:pt x="1041" y="2780"/>
                  </a:lnTo>
                  <a:lnTo>
                    <a:pt x="1041" y="2664"/>
                  </a:lnTo>
                  <a:lnTo>
                    <a:pt x="1157" y="2432"/>
                  </a:lnTo>
                  <a:lnTo>
                    <a:pt x="1157" y="2316"/>
                  </a:lnTo>
                  <a:lnTo>
                    <a:pt x="1157" y="2201"/>
                  </a:lnTo>
                  <a:lnTo>
                    <a:pt x="1157" y="2201"/>
                  </a:lnTo>
                  <a:lnTo>
                    <a:pt x="1157" y="1969"/>
                  </a:lnTo>
                  <a:lnTo>
                    <a:pt x="1157" y="1621"/>
                  </a:lnTo>
                  <a:lnTo>
                    <a:pt x="1157" y="1390"/>
                  </a:lnTo>
                  <a:lnTo>
                    <a:pt x="1041" y="1042"/>
                  </a:lnTo>
                  <a:lnTo>
                    <a:pt x="926" y="811"/>
                  </a:lnTo>
                  <a:lnTo>
                    <a:pt x="810" y="579"/>
                  </a:lnTo>
                  <a:lnTo>
                    <a:pt x="578" y="348"/>
                  </a:lnTo>
                  <a:lnTo>
                    <a:pt x="347" y="232"/>
                  </a:lnTo>
                  <a:lnTo>
                    <a:pt x="347" y="232"/>
                  </a:lnTo>
                  <a:lnTo>
                    <a:pt x="347" y="232"/>
                  </a:lnTo>
                  <a:lnTo>
                    <a:pt x="231" y="232"/>
                  </a:lnTo>
                  <a:lnTo>
                    <a:pt x="231" y="232"/>
                  </a:lnTo>
                  <a:lnTo>
                    <a:pt x="115" y="232"/>
                  </a:lnTo>
                  <a:lnTo>
                    <a:pt x="115" y="232"/>
                  </a:lnTo>
                  <a:lnTo>
                    <a:pt x="115" y="232"/>
                  </a:lnTo>
                  <a:lnTo>
                    <a:pt x="0" y="232"/>
                  </a:lnTo>
                  <a:lnTo>
                    <a:pt x="0" y="116"/>
                  </a:lnTo>
                  <a:lnTo>
                    <a:pt x="0" y="116"/>
                  </a:lnTo>
                  <a:lnTo>
                    <a:pt x="231" y="0"/>
                  </a:lnTo>
                  <a:lnTo>
                    <a:pt x="347" y="0"/>
                  </a:lnTo>
                  <a:lnTo>
                    <a:pt x="578" y="0"/>
                  </a:lnTo>
                  <a:lnTo>
                    <a:pt x="810" y="0"/>
                  </a:lnTo>
                  <a:lnTo>
                    <a:pt x="1041" y="116"/>
                  </a:lnTo>
                  <a:lnTo>
                    <a:pt x="1273" y="232"/>
                  </a:lnTo>
                  <a:lnTo>
                    <a:pt x="1504" y="463"/>
                  </a:lnTo>
                  <a:lnTo>
                    <a:pt x="1620" y="695"/>
                  </a:lnTo>
                  <a:lnTo>
                    <a:pt x="1620" y="695"/>
                  </a:lnTo>
                  <a:lnTo>
                    <a:pt x="1620" y="695"/>
                  </a:lnTo>
                  <a:lnTo>
                    <a:pt x="1620" y="695"/>
                  </a:lnTo>
                  <a:lnTo>
                    <a:pt x="1620"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888560" y="3470760"/>
              <a:ext cx="57600" cy="186480"/>
            </a:xfrm>
            <a:custGeom>
              <a:avLst/>
              <a:gdLst/>
              <a:ahLst/>
              <a:rect l="l" t="t" r="r" b="b"/>
              <a:pathLst>
                <a:path w="1620" h="3475">
                  <a:moveTo>
                    <a:pt x="1620" y="1390"/>
                  </a:moveTo>
                  <a:lnTo>
                    <a:pt x="1620" y="1622"/>
                  </a:lnTo>
                  <a:lnTo>
                    <a:pt x="1620" y="1853"/>
                  </a:lnTo>
                  <a:lnTo>
                    <a:pt x="1620" y="2085"/>
                  </a:lnTo>
                  <a:lnTo>
                    <a:pt x="1620" y="2317"/>
                  </a:lnTo>
                  <a:lnTo>
                    <a:pt x="1620" y="2432"/>
                  </a:lnTo>
                  <a:lnTo>
                    <a:pt x="1620" y="2664"/>
                  </a:lnTo>
                  <a:lnTo>
                    <a:pt x="1504" y="2896"/>
                  </a:lnTo>
                  <a:lnTo>
                    <a:pt x="1389" y="3011"/>
                  </a:lnTo>
                  <a:lnTo>
                    <a:pt x="1389" y="3011"/>
                  </a:lnTo>
                  <a:lnTo>
                    <a:pt x="1273" y="3127"/>
                  </a:lnTo>
                  <a:lnTo>
                    <a:pt x="1157" y="3127"/>
                  </a:lnTo>
                  <a:lnTo>
                    <a:pt x="1041" y="3243"/>
                  </a:lnTo>
                  <a:lnTo>
                    <a:pt x="1041" y="3359"/>
                  </a:lnTo>
                  <a:lnTo>
                    <a:pt x="926" y="3475"/>
                  </a:lnTo>
                  <a:lnTo>
                    <a:pt x="926" y="3475"/>
                  </a:lnTo>
                  <a:lnTo>
                    <a:pt x="810" y="3475"/>
                  </a:lnTo>
                  <a:lnTo>
                    <a:pt x="694" y="3359"/>
                  </a:lnTo>
                  <a:lnTo>
                    <a:pt x="694" y="3359"/>
                  </a:lnTo>
                  <a:lnTo>
                    <a:pt x="694" y="3243"/>
                  </a:lnTo>
                  <a:lnTo>
                    <a:pt x="810" y="3127"/>
                  </a:lnTo>
                  <a:lnTo>
                    <a:pt x="810" y="3011"/>
                  </a:lnTo>
                  <a:lnTo>
                    <a:pt x="926" y="2896"/>
                  </a:lnTo>
                  <a:lnTo>
                    <a:pt x="1041" y="2780"/>
                  </a:lnTo>
                  <a:lnTo>
                    <a:pt x="1157" y="2664"/>
                  </a:lnTo>
                  <a:lnTo>
                    <a:pt x="1273" y="2548"/>
                  </a:lnTo>
                  <a:lnTo>
                    <a:pt x="1273" y="2432"/>
                  </a:lnTo>
                  <a:lnTo>
                    <a:pt x="1273" y="2432"/>
                  </a:lnTo>
                  <a:lnTo>
                    <a:pt x="1389" y="2085"/>
                  </a:lnTo>
                  <a:lnTo>
                    <a:pt x="1389" y="1853"/>
                  </a:lnTo>
                  <a:lnTo>
                    <a:pt x="1273" y="1506"/>
                  </a:lnTo>
                  <a:lnTo>
                    <a:pt x="1157" y="1274"/>
                  </a:lnTo>
                  <a:lnTo>
                    <a:pt x="1041" y="1043"/>
                  </a:lnTo>
                  <a:lnTo>
                    <a:pt x="810" y="811"/>
                  </a:lnTo>
                  <a:lnTo>
                    <a:pt x="579" y="579"/>
                  </a:lnTo>
                  <a:lnTo>
                    <a:pt x="347" y="348"/>
                  </a:lnTo>
                  <a:lnTo>
                    <a:pt x="347" y="348"/>
                  </a:lnTo>
                  <a:lnTo>
                    <a:pt x="347" y="464"/>
                  </a:lnTo>
                  <a:lnTo>
                    <a:pt x="231" y="464"/>
                  </a:lnTo>
                  <a:lnTo>
                    <a:pt x="116" y="348"/>
                  </a:lnTo>
                  <a:lnTo>
                    <a:pt x="116" y="348"/>
                  </a:lnTo>
                  <a:lnTo>
                    <a:pt x="0" y="348"/>
                  </a:lnTo>
                  <a:lnTo>
                    <a:pt x="0" y="232"/>
                  </a:lnTo>
                  <a:lnTo>
                    <a:pt x="0" y="232"/>
                  </a:lnTo>
                  <a:lnTo>
                    <a:pt x="0" y="116"/>
                  </a:lnTo>
                  <a:lnTo>
                    <a:pt x="0" y="116"/>
                  </a:lnTo>
                  <a:lnTo>
                    <a:pt x="0" y="0"/>
                  </a:lnTo>
                  <a:lnTo>
                    <a:pt x="0" y="0"/>
                  </a:lnTo>
                  <a:lnTo>
                    <a:pt x="0" y="0"/>
                  </a:lnTo>
                  <a:lnTo>
                    <a:pt x="0" y="0"/>
                  </a:lnTo>
                  <a:lnTo>
                    <a:pt x="116" y="0"/>
                  </a:lnTo>
                  <a:lnTo>
                    <a:pt x="116" y="0"/>
                  </a:lnTo>
                  <a:lnTo>
                    <a:pt x="116" y="0"/>
                  </a:lnTo>
                  <a:lnTo>
                    <a:pt x="116" y="0"/>
                  </a:lnTo>
                  <a:lnTo>
                    <a:pt x="116" y="0"/>
                  </a:lnTo>
                  <a:lnTo>
                    <a:pt x="463" y="0"/>
                  </a:lnTo>
                  <a:lnTo>
                    <a:pt x="694" y="116"/>
                  </a:lnTo>
                  <a:lnTo>
                    <a:pt x="926" y="348"/>
                  </a:lnTo>
                  <a:lnTo>
                    <a:pt x="1041" y="464"/>
                  </a:lnTo>
                  <a:lnTo>
                    <a:pt x="1273" y="695"/>
                  </a:lnTo>
                  <a:lnTo>
                    <a:pt x="1389" y="927"/>
                  </a:lnTo>
                  <a:lnTo>
                    <a:pt x="1504" y="1158"/>
                  </a:lnTo>
                  <a:lnTo>
                    <a:pt x="1620" y="1390"/>
                  </a:lnTo>
                  <a:lnTo>
                    <a:pt x="1620" y="1390"/>
                  </a:lnTo>
                  <a:lnTo>
                    <a:pt x="1620" y="1390"/>
                  </a:lnTo>
                  <a:lnTo>
                    <a:pt x="1620" y="1390"/>
                  </a:lnTo>
                  <a:lnTo>
                    <a:pt x="1620"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950840" y="3483000"/>
              <a:ext cx="74160" cy="192600"/>
            </a:xfrm>
            <a:custGeom>
              <a:avLst/>
              <a:gdLst/>
              <a:ahLst/>
              <a:rect l="l" t="t" r="r" b="b"/>
              <a:pathLst>
                <a:path w="2083" h="3590">
                  <a:moveTo>
                    <a:pt x="2083" y="1390"/>
                  </a:moveTo>
                  <a:lnTo>
                    <a:pt x="2083" y="1737"/>
                  </a:lnTo>
                  <a:lnTo>
                    <a:pt x="2083" y="1969"/>
                  </a:lnTo>
                  <a:lnTo>
                    <a:pt x="2083" y="2200"/>
                  </a:lnTo>
                  <a:lnTo>
                    <a:pt x="2083" y="2548"/>
                  </a:lnTo>
                  <a:lnTo>
                    <a:pt x="1967" y="2779"/>
                  </a:lnTo>
                  <a:lnTo>
                    <a:pt x="1967" y="3011"/>
                  </a:lnTo>
                  <a:lnTo>
                    <a:pt x="1852" y="3243"/>
                  </a:lnTo>
                  <a:lnTo>
                    <a:pt x="1620" y="3474"/>
                  </a:lnTo>
                  <a:lnTo>
                    <a:pt x="1620" y="3474"/>
                  </a:lnTo>
                  <a:lnTo>
                    <a:pt x="1620" y="3474"/>
                  </a:lnTo>
                  <a:lnTo>
                    <a:pt x="1504" y="3474"/>
                  </a:lnTo>
                  <a:lnTo>
                    <a:pt x="1389" y="3474"/>
                  </a:lnTo>
                  <a:lnTo>
                    <a:pt x="1273" y="3590"/>
                  </a:lnTo>
                  <a:lnTo>
                    <a:pt x="1273" y="3590"/>
                  </a:lnTo>
                  <a:lnTo>
                    <a:pt x="1157" y="3590"/>
                  </a:lnTo>
                  <a:lnTo>
                    <a:pt x="1041" y="3590"/>
                  </a:lnTo>
                  <a:lnTo>
                    <a:pt x="1041" y="3474"/>
                  </a:lnTo>
                  <a:lnTo>
                    <a:pt x="1041" y="3474"/>
                  </a:lnTo>
                  <a:lnTo>
                    <a:pt x="1157" y="3358"/>
                  </a:lnTo>
                  <a:lnTo>
                    <a:pt x="1273" y="3243"/>
                  </a:lnTo>
                  <a:lnTo>
                    <a:pt x="1389" y="3011"/>
                  </a:lnTo>
                  <a:lnTo>
                    <a:pt x="1504" y="2895"/>
                  </a:lnTo>
                  <a:lnTo>
                    <a:pt x="1504" y="2664"/>
                  </a:lnTo>
                  <a:lnTo>
                    <a:pt x="1620" y="2432"/>
                  </a:lnTo>
                  <a:lnTo>
                    <a:pt x="1620" y="2200"/>
                  </a:lnTo>
                  <a:lnTo>
                    <a:pt x="1620" y="1969"/>
                  </a:lnTo>
                  <a:lnTo>
                    <a:pt x="1620" y="1969"/>
                  </a:lnTo>
                  <a:lnTo>
                    <a:pt x="1620" y="1853"/>
                  </a:lnTo>
                  <a:lnTo>
                    <a:pt x="1620" y="1621"/>
                  </a:lnTo>
                  <a:lnTo>
                    <a:pt x="1504" y="1390"/>
                  </a:lnTo>
                  <a:lnTo>
                    <a:pt x="1389" y="1274"/>
                  </a:lnTo>
                  <a:lnTo>
                    <a:pt x="1273" y="1042"/>
                  </a:lnTo>
                  <a:lnTo>
                    <a:pt x="1157" y="811"/>
                  </a:lnTo>
                  <a:lnTo>
                    <a:pt x="1041" y="695"/>
                  </a:lnTo>
                  <a:lnTo>
                    <a:pt x="810" y="463"/>
                  </a:lnTo>
                  <a:lnTo>
                    <a:pt x="810" y="463"/>
                  </a:lnTo>
                  <a:lnTo>
                    <a:pt x="694" y="463"/>
                  </a:lnTo>
                  <a:lnTo>
                    <a:pt x="579" y="347"/>
                  </a:lnTo>
                  <a:lnTo>
                    <a:pt x="463" y="347"/>
                  </a:lnTo>
                  <a:lnTo>
                    <a:pt x="347" y="463"/>
                  </a:lnTo>
                  <a:lnTo>
                    <a:pt x="231" y="463"/>
                  </a:lnTo>
                  <a:lnTo>
                    <a:pt x="116" y="347"/>
                  </a:lnTo>
                  <a:lnTo>
                    <a:pt x="0" y="347"/>
                  </a:lnTo>
                  <a:lnTo>
                    <a:pt x="0" y="116"/>
                  </a:lnTo>
                  <a:lnTo>
                    <a:pt x="0" y="116"/>
                  </a:lnTo>
                  <a:lnTo>
                    <a:pt x="347" y="0"/>
                  </a:lnTo>
                  <a:lnTo>
                    <a:pt x="579" y="0"/>
                  </a:lnTo>
                  <a:lnTo>
                    <a:pt x="926" y="116"/>
                  </a:lnTo>
                  <a:lnTo>
                    <a:pt x="1157" y="347"/>
                  </a:lnTo>
                  <a:lnTo>
                    <a:pt x="1389" y="579"/>
                  </a:lnTo>
                  <a:lnTo>
                    <a:pt x="1620" y="811"/>
                  </a:lnTo>
                  <a:lnTo>
                    <a:pt x="1852" y="1158"/>
                  </a:lnTo>
                  <a:lnTo>
                    <a:pt x="2083" y="1390"/>
                  </a:lnTo>
                  <a:lnTo>
                    <a:pt x="2083" y="1390"/>
                  </a:lnTo>
                  <a:lnTo>
                    <a:pt x="2083" y="1390"/>
                  </a:lnTo>
                  <a:lnTo>
                    <a:pt x="2083" y="1390"/>
                  </a:lnTo>
                  <a:lnTo>
                    <a:pt x="2083"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017080" y="3489480"/>
              <a:ext cx="70200" cy="173880"/>
            </a:xfrm>
            <a:custGeom>
              <a:avLst/>
              <a:gdLst/>
              <a:ahLst/>
              <a:rect l="l" t="t" r="r" b="b"/>
              <a:pathLst>
                <a:path w="1967" h="3242">
                  <a:moveTo>
                    <a:pt x="1388" y="463"/>
                  </a:moveTo>
                  <a:lnTo>
                    <a:pt x="1620" y="695"/>
                  </a:lnTo>
                  <a:lnTo>
                    <a:pt x="1736" y="810"/>
                  </a:lnTo>
                  <a:lnTo>
                    <a:pt x="1851" y="1042"/>
                  </a:lnTo>
                  <a:lnTo>
                    <a:pt x="1967" y="1274"/>
                  </a:lnTo>
                  <a:lnTo>
                    <a:pt x="1967" y="1621"/>
                  </a:lnTo>
                  <a:lnTo>
                    <a:pt x="1967" y="1853"/>
                  </a:lnTo>
                  <a:lnTo>
                    <a:pt x="1967" y="2084"/>
                  </a:lnTo>
                  <a:lnTo>
                    <a:pt x="1967" y="2316"/>
                  </a:lnTo>
                  <a:lnTo>
                    <a:pt x="1967" y="2316"/>
                  </a:lnTo>
                  <a:lnTo>
                    <a:pt x="1851" y="2548"/>
                  </a:lnTo>
                  <a:lnTo>
                    <a:pt x="1851" y="2663"/>
                  </a:lnTo>
                  <a:lnTo>
                    <a:pt x="1736" y="2779"/>
                  </a:lnTo>
                  <a:lnTo>
                    <a:pt x="1620" y="2895"/>
                  </a:lnTo>
                  <a:lnTo>
                    <a:pt x="1620" y="3011"/>
                  </a:lnTo>
                  <a:lnTo>
                    <a:pt x="1504" y="3127"/>
                  </a:lnTo>
                  <a:lnTo>
                    <a:pt x="1388" y="3242"/>
                  </a:lnTo>
                  <a:lnTo>
                    <a:pt x="1273" y="3242"/>
                  </a:lnTo>
                  <a:lnTo>
                    <a:pt x="1273" y="3242"/>
                  </a:lnTo>
                  <a:lnTo>
                    <a:pt x="1273" y="3011"/>
                  </a:lnTo>
                  <a:lnTo>
                    <a:pt x="1388" y="2663"/>
                  </a:lnTo>
                  <a:lnTo>
                    <a:pt x="1504" y="2316"/>
                  </a:lnTo>
                  <a:lnTo>
                    <a:pt x="1620" y="1969"/>
                  </a:lnTo>
                  <a:lnTo>
                    <a:pt x="1620" y="1621"/>
                  </a:lnTo>
                  <a:lnTo>
                    <a:pt x="1620" y="1274"/>
                  </a:lnTo>
                  <a:lnTo>
                    <a:pt x="1504" y="926"/>
                  </a:lnTo>
                  <a:lnTo>
                    <a:pt x="1273" y="695"/>
                  </a:lnTo>
                  <a:lnTo>
                    <a:pt x="1273" y="695"/>
                  </a:lnTo>
                  <a:lnTo>
                    <a:pt x="1157" y="579"/>
                  </a:lnTo>
                  <a:lnTo>
                    <a:pt x="925" y="579"/>
                  </a:lnTo>
                  <a:lnTo>
                    <a:pt x="810" y="463"/>
                  </a:lnTo>
                  <a:lnTo>
                    <a:pt x="578" y="463"/>
                  </a:lnTo>
                  <a:lnTo>
                    <a:pt x="463" y="463"/>
                  </a:lnTo>
                  <a:lnTo>
                    <a:pt x="231" y="463"/>
                  </a:lnTo>
                  <a:lnTo>
                    <a:pt x="115" y="347"/>
                  </a:lnTo>
                  <a:lnTo>
                    <a:pt x="0" y="231"/>
                  </a:lnTo>
                  <a:lnTo>
                    <a:pt x="0" y="231"/>
                  </a:lnTo>
                  <a:lnTo>
                    <a:pt x="231" y="116"/>
                  </a:lnTo>
                  <a:lnTo>
                    <a:pt x="347" y="0"/>
                  </a:lnTo>
                  <a:lnTo>
                    <a:pt x="578" y="0"/>
                  </a:lnTo>
                  <a:lnTo>
                    <a:pt x="810" y="0"/>
                  </a:lnTo>
                  <a:lnTo>
                    <a:pt x="925" y="116"/>
                  </a:lnTo>
                  <a:lnTo>
                    <a:pt x="1157" y="231"/>
                  </a:lnTo>
                  <a:lnTo>
                    <a:pt x="1273" y="347"/>
                  </a:lnTo>
                  <a:lnTo>
                    <a:pt x="1388" y="463"/>
                  </a:lnTo>
                  <a:lnTo>
                    <a:pt x="1388" y="463"/>
                  </a:lnTo>
                  <a:lnTo>
                    <a:pt x="1388" y="463"/>
                  </a:lnTo>
                  <a:lnTo>
                    <a:pt x="1388" y="463"/>
                  </a:lnTo>
                  <a:lnTo>
                    <a:pt x="138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099520" y="3526560"/>
              <a:ext cx="53640" cy="167760"/>
            </a:xfrm>
            <a:custGeom>
              <a:avLst/>
              <a:gdLst/>
              <a:ahLst/>
              <a:rect l="l" t="t" r="r" b="b"/>
              <a:pathLst>
                <a:path w="1505" h="3127">
                  <a:moveTo>
                    <a:pt x="1505" y="1158"/>
                  </a:moveTo>
                  <a:lnTo>
                    <a:pt x="1505" y="1389"/>
                  </a:lnTo>
                  <a:lnTo>
                    <a:pt x="1505" y="1737"/>
                  </a:lnTo>
                  <a:lnTo>
                    <a:pt x="1505" y="1968"/>
                  </a:lnTo>
                  <a:lnTo>
                    <a:pt x="1389" y="2316"/>
                  </a:lnTo>
                  <a:lnTo>
                    <a:pt x="1273" y="2547"/>
                  </a:lnTo>
                  <a:lnTo>
                    <a:pt x="1158" y="2779"/>
                  </a:lnTo>
                  <a:lnTo>
                    <a:pt x="926" y="2895"/>
                  </a:lnTo>
                  <a:lnTo>
                    <a:pt x="695" y="3127"/>
                  </a:lnTo>
                  <a:lnTo>
                    <a:pt x="695" y="3127"/>
                  </a:lnTo>
                  <a:lnTo>
                    <a:pt x="695" y="3127"/>
                  </a:lnTo>
                  <a:lnTo>
                    <a:pt x="695" y="3127"/>
                  </a:lnTo>
                  <a:lnTo>
                    <a:pt x="695" y="2895"/>
                  </a:lnTo>
                  <a:lnTo>
                    <a:pt x="695" y="2779"/>
                  </a:lnTo>
                  <a:lnTo>
                    <a:pt x="810" y="2663"/>
                  </a:lnTo>
                  <a:lnTo>
                    <a:pt x="810" y="2432"/>
                  </a:lnTo>
                  <a:lnTo>
                    <a:pt x="926" y="2316"/>
                  </a:lnTo>
                  <a:lnTo>
                    <a:pt x="926" y="2200"/>
                  </a:lnTo>
                  <a:lnTo>
                    <a:pt x="1042" y="1968"/>
                  </a:lnTo>
                  <a:lnTo>
                    <a:pt x="1042" y="1737"/>
                  </a:lnTo>
                  <a:lnTo>
                    <a:pt x="1042" y="1737"/>
                  </a:lnTo>
                  <a:lnTo>
                    <a:pt x="1042" y="1621"/>
                  </a:lnTo>
                  <a:lnTo>
                    <a:pt x="1042" y="1389"/>
                  </a:lnTo>
                  <a:lnTo>
                    <a:pt x="926" y="1158"/>
                  </a:lnTo>
                  <a:lnTo>
                    <a:pt x="926" y="926"/>
                  </a:lnTo>
                  <a:lnTo>
                    <a:pt x="926" y="810"/>
                  </a:lnTo>
                  <a:lnTo>
                    <a:pt x="810" y="695"/>
                  </a:lnTo>
                  <a:lnTo>
                    <a:pt x="579" y="463"/>
                  </a:lnTo>
                  <a:lnTo>
                    <a:pt x="463" y="347"/>
                  </a:lnTo>
                  <a:lnTo>
                    <a:pt x="463" y="347"/>
                  </a:lnTo>
                  <a:lnTo>
                    <a:pt x="347" y="347"/>
                  </a:lnTo>
                  <a:lnTo>
                    <a:pt x="232" y="347"/>
                  </a:lnTo>
                  <a:lnTo>
                    <a:pt x="232" y="347"/>
                  </a:lnTo>
                  <a:lnTo>
                    <a:pt x="116" y="347"/>
                  </a:lnTo>
                  <a:lnTo>
                    <a:pt x="116" y="347"/>
                  </a:lnTo>
                  <a:lnTo>
                    <a:pt x="0" y="347"/>
                  </a:lnTo>
                  <a:lnTo>
                    <a:pt x="0" y="347"/>
                  </a:lnTo>
                  <a:lnTo>
                    <a:pt x="0" y="231"/>
                  </a:lnTo>
                  <a:lnTo>
                    <a:pt x="0" y="231"/>
                  </a:lnTo>
                  <a:lnTo>
                    <a:pt x="0" y="115"/>
                  </a:lnTo>
                  <a:lnTo>
                    <a:pt x="0" y="115"/>
                  </a:lnTo>
                  <a:lnTo>
                    <a:pt x="0" y="115"/>
                  </a:lnTo>
                  <a:lnTo>
                    <a:pt x="0" y="115"/>
                  </a:lnTo>
                  <a:lnTo>
                    <a:pt x="116" y="115"/>
                  </a:lnTo>
                  <a:lnTo>
                    <a:pt x="116" y="115"/>
                  </a:lnTo>
                  <a:lnTo>
                    <a:pt x="116" y="115"/>
                  </a:lnTo>
                  <a:lnTo>
                    <a:pt x="232" y="0"/>
                  </a:lnTo>
                  <a:lnTo>
                    <a:pt x="232" y="0"/>
                  </a:lnTo>
                  <a:lnTo>
                    <a:pt x="463" y="0"/>
                  </a:lnTo>
                  <a:lnTo>
                    <a:pt x="695" y="115"/>
                  </a:lnTo>
                  <a:lnTo>
                    <a:pt x="926" y="231"/>
                  </a:lnTo>
                  <a:lnTo>
                    <a:pt x="1042" y="347"/>
                  </a:lnTo>
                  <a:lnTo>
                    <a:pt x="1158" y="579"/>
                  </a:lnTo>
                  <a:lnTo>
                    <a:pt x="1273" y="695"/>
                  </a:lnTo>
                  <a:lnTo>
                    <a:pt x="1389" y="926"/>
                  </a:lnTo>
                  <a:lnTo>
                    <a:pt x="1505" y="1158"/>
                  </a:lnTo>
                  <a:lnTo>
                    <a:pt x="1505" y="1158"/>
                  </a:lnTo>
                  <a:lnTo>
                    <a:pt x="1505" y="1158"/>
                  </a:lnTo>
                  <a:lnTo>
                    <a:pt x="1505" y="1158"/>
                  </a:lnTo>
                  <a:lnTo>
                    <a:pt x="1505"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1549080" y="3545280"/>
              <a:ext cx="852480" cy="1181160"/>
            </a:xfrm>
            <a:custGeom>
              <a:avLst/>
              <a:gdLst/>
              <a:ahLst/>
              <a:rect l="l" t="t" r="r" b="b"/>
              <a:pathLst>
                <a:path w="23841" h="22004">
                  <a:moveTo>
                    <a:pt x="4050" y="116"/>
                  </a:moveTo>
                  <a:lnTo>
                    <a:pt x="4050" y="232"/>
                  </a:lnTo>
                  <a:lnTo>
                    <a:pt x="3935" y="348"/>
                  </a:lnTo>
                  <a:lnTo>
                    <a:pt x="3935" y="463"/>
                  </a:lnTo>
                  <a:lnTo>
                    <a:pt x="3935" y="579"/>
                  </a:lnTo>
                  <a:lnTo>
                    <a:pt x="3935" y="695"/>
                  </a:lnTo>
                  <a:lnTo>
                    <a:pt x="3935" y="811"/>
                  </a:lnTo>
                  <a:lnTo>
                    <a:pt x="4050" y="927"/>
                  </a:lnTo>
                  <a:lnTo>
                    <a:pt x="4050" y="1042"/>
                  </a:lnTo>
                  <a:lnTo>
                    <a:pt x="4050" y="1042"/>
                  </a:lnTo>
                  <a:lnTo>
                    <a:pt x="4166" y="1158"/>
                  </a:lnTo>
                  <a:lnTo>
                    <a:pt x="4166" y="1274"/>
                  </a:lnTo>
                  <a:lnTo>
                    <a:pt x="4282" y="1274"/>
                  </a:lnTo>
                  <a:lnTo>
                    <a:pt x="4398" y="1274"/>
                  </a:lnTo>
                  <a:lnTo>
                    <a:pt x="4398" y="1274"/>
                  </a:lnTo>
                  <a:lnTo>
                    <a:pt x="4513" y="1274"/>
                  </a:lnTo>
                  <a:lnTo>
                    <a:pt x="4629" y="1274"/>
                  </a:lnTo>
                  <a:lnTo>
                    <a:pt x="4745" y="1274"/>
                  </a:lnTo>
                  <a:lnTo>
                    <a:pt x="4745" y="1274"/>
                  </a:lnTo>
                  <a:lnTo>
                    <a:pt x="4861" y="1158"/>
                  </a:lnTo>
                  <a:lnTo>
                    <a:pt x="4976" y="1042"/>
                  </a:lnTo>
                  <a:lnTo>
                    <a:pt x="5092" y="927"/>
                  </a:lnTo>
                  <a:lnTo>
                    <a:pt x="5208" y="695"/>
                  </a:lnTo>
                  <a:lnTo>
                    <a:pt x="5324" y="579"/>
                  </a:lnTo>
                  <a:lnTo>
                    <a:pt x="5439" y="463"/>
                  </a:lnTo>
                  <a:lnTo>
                    <a:pt x="5439" y="348"/>
                  </a:lnTo>
                  <a:lnTo>
                    <a:pt x="5439" y="116"/>
                  </a:lnTo>
                  <a:lnTo>
                    <a:pt x="5439" y="116"/>
                  </a:lnTo>
                  <a:lnTo>
                    <a:pt x="5786" y="232"/>
                  </a:lnTo>
                  <a:lnTo>
                    <a:pt x="5786" y="232"/>
                  </a:lnTo>
                  <a:lnTo>
                    <a:pt x="5671" y="348"/>
                  </a:lnTo>
                  <a:lnTo>
                    <a:pt x="5439" y="463"/>
                  </a:lnTo>
                  <a:lnTo>
                    <a:pt x="5439" y="579"/>
                  </a:lnTo>
                  <a:lnTo>
                    <a:pt x="5324" y="811"/>
                  </a:lnTo>
                  <a:lnTo>
                    <a:pt x="5324" y="927"/>
                  </a:lnTo>
                  <a:lnTo>
                    <a:pt x="5324" y="1158"/>
                  </a:lnTo>
                  <a:lnTo>
                    <a:pt x="5439" y="1390"/>
                  </a:lnTo>
                  <a:lnTo>
                    <a:pt x="5439" y="1506"/>
                  </a:lnTo>
                  <a:lnTo>
                    <a:pt x="5439" y="1506"/>
                  </a:lnTo>
                  <a:lnTo>
                    <a:pt x="5555" y="1737"/>
                  </a:lnTo>
                  <a:lnTo>
                    <a:pt x="5671" y="1737"/>
                  </a:lnTo>
                  <a:lnTo>
                    <a:pt x="5786" y="1853"/>
                  </a:lnTo>
                  <a:lnTo>
                    <a:pt x="5902" y="1853"/>
                  </a:lnTo>
                  <a:lnTo>
                    <a:pt x="6018" y="1853"/>
                  </a:lnTo>
                  <a:lnTo>
                    <a:pt x="6249" y="1853"/>
                  </a:lnTo>
                  <a:lnTo>
                    <a:pt x="6365" y="1853"/>
                  </a:lnTo>
                  <a:lnTo>
                    <a:pt x="6481" y="1737"/>
                  </a:lnTo>
                  <a:lnTo>
                    <a:pt x="6481" y="1737"/>
                  </a:lnTo>
                  <a:lnTo>
                    <a:pt x="6712" y="1737"/>
                  </a:lnTo>
                  <a:lnTo>
                    <a:pt x="6828" y="1621"/>
                  </a:lnTo>
                  <a:lnTo>
                    <a:pt x="6944" y="1390"/>
                  </a:lnTo>
                  <a:lnTo>
                    <a:pt x="7060" y="1274"/>
                  </a:lnTo>
                  <a:lnTo>
                    <a:pt x="7175" y="1042"/>
                  </a:lnTo>
                  <a:lnTo>
                    <a:pt x="7291" y="927"/>
                  </a:lnTo>
                  <a:lnTo>
                    <a:pt x="7291" y="695"/>
                  </a:lnTo>
                  <a:lnTo>
                    <a:pt x="7522" y="579"/>
                  </a:lnTo>
                  <a:lnTo>
                    <a:pt x="7522" y="579"/>
                  </a:lnTo>
                  <a:lnTo>
                    <a:pt x="7522" y="579"/>
                  </a:lnTo>
                  <a:lnTo>
                    <a:pt x="7522" y="579"/>
                  </a:lnTo>
                  <a:lnTo>
                    <a:pt x="7522" y="579"/>
                  </a:lnTo>
                  <a:lnTo>
                    <a:pt x="7638" y="695"/>
                  </a:lnTo>
                  <a:lnTo>
                    <a:pt x="7638" y="695"/>
                  </a:lnTo>
                  <a:lnTo>
                    <a:pt x="7638" y="695"/>
                  </a:lnTo>
                  <a:lnTo>
                    <a:pt x="7754" y="695"/>
                  </a:lnTo>
                  <a:lnTo>
                    <a:pt x="7754" y="695"/>
                  </a:lnTo>
                  <a:lnTo>
                    <a:pt x="7754" y="695"/>
                  </a:lnTo>
                  <a:lnTo>
                    <a:pt x="7638" y="695"/>
                  </a:lnTo>
                  <a:lnTo>
                    <a:pt x="7522" y="811"/>
                  </a:lnTo>
                  <a:lnTo>
                    <a:pt x="7407" y="1042"/>
                  </a:lnTo>
                  <a:lnTo>
                    <a:pt x="7407" y="1158"/>
                  </a:lnTo>
                  <a:lnTo>
                    <a:pt x="7291" y="1274"/>
                  </a:lnTo>
                  <a:lnTo>
                    <a:pt x="7291" y="1390"/>
                  </a:lnTo>
                  <a:lnTo>
                    <a:pt x="7291" y="1506"/>
                  </a:lnTo>
                  <a:lnTo>
                    <a:pt x="7291" y="1621"/>
                  </a:lnTo>
                  <a:lnTo>
                    <a:pt x="7291" y="1621"/>
                  </a:lnTo>
                  <a:lnTo>
                    <a:pt x="7407" y="1737"/>
                  </a:lnTo>
                  <a:lnTo>
                    <a:pt x="7407" y="1969"/>
                  </a:lnTo>
                  <a:lnTo>
                    <a:pt x="7407" y="2085"/>
                  </a:lnTo>
                  <a:lnTo>
                    <a:pt x="7522" y="2200"/>
                  </a:lnTo>
                  <a:lnTo>
                    <a:pt x="7522" y="2316"/>
                  </a:lnTo>
                  <a:lnTo>
                    <a:pt x="7638" y="2316"/>
                  </a:lnTo>
                  <a:lnTo>
                    <a:pt x="7754" y="2432"/>
                  </a:lnTo>
                  <a:lnTo>
                    <a:pt x="7870" y="2432"/>
                  </a:lnTo>
                  <a:lnTo>
                    <a:pt x="7870" y="2432"/>
                  </a:lnTo>
                  <a:lnTo>
                    <a:pt x="8101" y="2432"/>
                  </a:lnTo>
                  <a:lnTo>
                    <a:pt x="8217" y="2432"/>
                  </a:lnTo>
                  <a:lnTo>
                    <a:pt x="8333" y="2316"/>
                  </a:lnTo>
                  <a:lnTo>
                    <a:pt x="8448" y="2200"/>
                  </a:lnTo>
                  <a:lnTo>
                    <a:pt x="8564" y="2200"/>
                  </a:lnTo>
                  <a:lnTo>
                    <a:pt x="8564" y="2085"/>
                  </a:lnTo>
                  <a:lnTo>
                    <a:pt x="8680" y="1969"/>
                  </a:lnTo>
                  <a:lnTo>
                    <a:pt x="8911" y="1969"/>
                  </a:lnTo>
                  <a:lnTo>
                    <a:pt x="8911" y="1969"/>
                  </a:lnTo>
                  <a:lnTo>
                    <a:pt x="8911" y="1853"/>
                  </a:lnTo>
                  <a:lnTo>
                    <a:pt x="8911" y="1737"/>
                  </a:lnTo>
                  <a:lnTo>
                    <a:pt x="9027" y="1737"/>
                  </a:lnTo>
                  <a:lnTo>
                    <a:pt x="9143" y="1621"/>
                  </a:lnTo>
                  <a:lnTo>
                    <a:pt x="9258" y="1506"/>
                  </a:lnTo>
                  <a:lnTo>
                    <a:pt x="9374" y="1390"/>
                  </a:lnTo>
                  <a:lnTo>
                    <a:pt x="9374" y="1274"/>
                  </a:lnTo>
                  <a:lnTo>
                    <a:pt x="9490" y="1158"/>
                  </a:lnTo>
                  <a:lnTo>
                    <a:pt x="9490" y="1158"/>
                  </a:lnTo>
                  <a:lnTo>
                    <a:pt x="9837" y="1274"/>
                  </a:lnTo>
                  <a:lnTo>
                    <a:pt x="9837" y="1274"/>
                  </a:lnTo>
                  <a:lnTo>
                    <a:pt x="9837" y="1390"/>
                  </a:lnTo>
                  <a:lnTo>
                    <a:pt x="9721" y="1621"/>
                  </a:lnTo>
                  <a:lnTo>
                    <a:pt x="9721" y="1853"/>
                  </a:lnTo>
                  <a:lnTo>
                    <a:pt x="9606" y="2085"/>
                  </a:lnTo>
                  <a:lnTo>
                    <a:pt x="9606" y="2200"/>
                  </a:lnTo>
                  <a:lnTo>
                    <a:pt x="9721" y="2432"/>
                  </a:lnTo>
                  <a:lnTo>
                    <a:pt x="9721" y="2664"/>
                  </a:lnTo>
                  <a:lnTo>
                    <a:pt x="9953" y="2780"/>
                  </a:lnTo>
                  <a:lnTo>
                    <a:pt x="9953" y="2780"/>
                  </a:lnTo>
                  <a:lnTo>
                    <a:pt x="10069" y="2780"/>
                  </a:lnTo>
                  <a:lnTo>
                    <a:pt x="10184" y="2780"/>
                  </a:lnTo>
                  <a:lnTo>
                    <a:pt x="10300" y="2780"/>
                  </a:lnTo>
                  <a:lnTo>
                    <a:pt x="10531" y="2780"/>
                  </a:lnTo>
                  <a:lnTo>
                    <a:pt x="10647" y="2780"/>
                  </a:lnTo>
                  <a:lnTo>
                    <a:pt x="10763" y="2664"/>
                  </a:lnTo>
                  <a:lnTo>
                    <a:pt x="10763" y="2548"/>
                  </a:lnTo>
                  <a:lnTo>
                    <a:pt x="10879" y="2432"/>
                  </a:lnTo>
                  <a:lnTo>
                    <a:pt x="10879" y="2432"/>
                  </a:lnTo>
                  <a:lnTo>
                    <a:pt x="10763" y="2432"/>
                  </a:lnTo>
                  <a:lnTo>
                    <a:pt x="10763" y="2432"/>
                  </a:lnTo>
                  <a:lnTo>
                    <a:pt x="10994" y="2316"/>
                  </a:lnTo>
                  <a:lnTo>
                    <a:pt x="11110" y="2200"/>
                  </a:lnTo>
                  <a:lnTo>
                    <a:pt x="11226" y="1969"/>
                  </a:lnTo>
                  <a:lnTo>
                    <a:pt x="11342" y="1737"/>
                  </a:lnTo>
                  <a:lnTo>
                    <a:pt x="11457" y="1506"/>
                  </a:lnTo>
                  <a:lnTo>
                    <a:pt x="11689" y="1506"/>
                  </a:lnTo>
                  <a:lnTo>
                    <a:pt x="11805" y="1506"/>
                  </a:lnTo>
                  <a:lnTo>
                    <a:pt x="12036" y="1621"/>
                  </a:lnTo>
                  <a:lnTo>
                    <a:pt x="12036" y="1621"/>
                  </a:lnTo>
                  <a:lnTo>
                    <a:pt x="12036" y="1737"/>
                  </a:lnTo>
                  <a:lnTo>
                    <a:pt x="11920" y="1969"/>
                  </a:lnTo>
                  <a:lnTo>
                    <a:pt x="11920" y="2085"/>
                  </a:lnTo>
                  <a:lnTo>
                    <a:pt x="11805" y="2200"/>
                  </a:lnTo>
                  <a:lnTo>
                    <a:pt x="11805" y="2432"/>
                  </a:lnTo>
                  <a:lnTo>
                    <a:pt x="11805" y="2548"/>
                  </a:lnTo>
                  <a:lnTo>
                    <a:pt x="11920" y="2780"/>
                  </a:lnTo>
                  <a:lnTo>
                    <a:pt x="12036" y="2895"/>
                  </a:lnTo>
                  <a:lnTo>
                    <a:pt x="12036" y="2895"/>
                  </a:lnTo>
                  <a:lnTo>
                    <a:pt x="12152" y="3011"/>
                  </a:lnTo>
                  <a:lnTo>
                    <a:pt x="12267" y="3127"/>
                  </a:lnTo>
                  <a:lnTo>
                    <a:pt x="12383" y="3127"/>
                  </a:lnTo>
                  <a:lnTo>
                    <a:pt x="12499" y="3127"/>
                  </a:lnTo>
                  <a:lnTo>
                    <a:pt x="12615" y="3127"/>
                  </a:lnTo>
                  <a:lnTo>
                    <a:pt x="12730" y="3127"/>
                  </a:lnTo>
                  <a:lnTo>
                    <a:pt x="12846" y="3011"/>
                  </a:lnTo>
                  <a:lnTo>
                    <a:pt x="12962" y="3011"/>
                  </a:lnTo>
                  <a:lnTo>
                    <a:pt x="12962" y="3011"/>
                  </a:lnTo>
                  <a:lnTo>
                    <a:pt x="12846" y="2780"/>
                  </a:lnTo>
                  <a:lnTo>
                    <a:pt x="12962" y="2664"/>
                  </a:lnTo>
                  <a:lnTo>
                    <a:pt x="13078" y="2548"/>
                  </a:lnTo>
                  <a:lnTo>
                    <a:pt x="13193" y="2432"/>
                  </a:lnTo>
                  <a:lnTo>
                    <a:pt x="13309" y="2316"/>
                  </a:lnTo>
                  <a:lnTo>
                    <a:pt x="13425" y="2200"/>
                  </a:lnTo>
                  <a:lnTo>
                    <a:pt x="13541" y="2085"/>
                  </a:lnTo>
                  <a:lnTo>
                    <a:pt x="13656" y="1969"/>
                  </a:lnTo>
                  <a:lnTo>
                    <a:pt x="13656" y="1969"/>
                  </a:lnTo>
                  <a:lnTo>
                    <a:pt x="13772" y="1969"/>
                  </a:lnTo>
                  <a:lnTo>
                    <a:pt x="13772" y="1969"/>
                  </a:lnTo>
                  <a:lnTo>
                    <a:pt x="13772" y="2085"/>
                  </a:lnTo>
                  <a:lnTo>
                    <a:pt x="13772" y="2316"/>
                  </a:lnTo>
                  <a:lnTo>
                    <a:pt x="13772" y="2432"/>
                  </a:lnTo>
                  <a:lnTo>
                    <a:pt x="13656" y="2664"/>
                  </a:lnTo>
                  <a:lnTo>
                    <a:pt x="13772" y="2780"/>
                  </a:lnTo>
                  <a:lnTo>
                    <a:pt x="13772" y="2895"/>
                  </a:lnTo>
                  <a:lnTo>
                    <a:pt x="13888" y="3127"/>
                  </a:lnTo>
                  <a:lnTo>
                    <a:pt x="14003" y="3127"/>
                  </a:lnTo>
                  <a:lnTo>
                    <a:pt x="14003" y="3127"/>
                  </a:lnTo>
                  <a:lnTo>
                    <a:pt x="14119" y="3127"/>
                  </a:lnTo>
                  <a:lnTo>
                    <a:pt x="14235" y="3127"/>
                  </a:lnTo>
                  <a:lnTo>
                    <a:pt x="14351" y="3127"/>
                  </a:lnTo>
                  <a:lnTo>
                    <a:pt x="14466" y="3127"/>
                  </a:lnTo>
                  <a:lnTo>
                    <a:pt x="14582" y="3011"/>
                  </a:lnTo>
                  <a:lnTo>
                    <a:pt x="14582" y="3011"/>
                  </a:lnTo>
                  <a:lnTo>
                    <a:pt x="14698" y="2895"/>
                  </a:lnTo>
                  <a:lnTo>
                    <a:pt x="14814" y="2780"/>
                  </a:lnTo>
                  <a:lnTo>
                    <a:pt x="14814" y="2780"/>
                  </a:lnTo>
                  <a:lnTo>
                    <a:pt x="14814" y="2664"/>
                  </a:lnTo>
                  <a:lnTo>
                    <a:pt x="14814" y="2664"/>
                  </a:lnTo>
                  <a:lnTo>
                    <a:pt x="14814" y="2548"/>
                  </a:lnTo>
                  <a:lnTo>
                    <a:pt x="14929" y="2432"/>
                  </a:lnTo>
                  <a:lnTo>
                    <a:pt x="14929" y="2316"/>
                  </a:lnTo>
                  <a:lnTo>
                    <a:pt x="15045" y="2316"/>
                  </a:lnTo>
                  <a:lnTo>
                    <a:pt x="15045" y="2200"/>
                  </a:lnTo>
                  <a:lnTo>
                    <a:pt x="15161" y="2085"/>
                  </a:lnTo>
                  <a:lnTo>
                    <a:pt x="15161" y="2085"/>
                  </a:lnTo>
                  <a:lnTo>
                    <a:pt x="15624" y="2085"/>
                  </a:lnTo>
                  <a:lnTo>
                    <a:pt x="15624" y="2085"/>
                  </a:lnTo>
                  <a:lnTo>
                    <a:pt x="15624" y="2200"/>
                  </a:lnTo>
                  <a:lnTo>
                    <a:pt x="15508" y="2432"/>
                  </a:lnTo>
                  <a:lnTo>
                    <a:pt x="15508" y="2548"/>
                  </a:lnTo>
                  <a:lnTo>
                    <a:pt x="15508" y="2664"/>
                  </a:lnTo>
                  <a:lnTo>
                    <a:pt x="15508" y="2780"/>
                  </a:lnTo>
                  <a:lnTo>
                    <a:pt x="15508" y="2895"/>
                  </a:lnTo>
                  <a:lnTo>
                    <a:pt x="15624" y="3011"/>
                  </a:lnTo>
                  <a:lnTo>
                    <a:pt x="15739" y="3127"/>
                  </a:lnTo>
                  <a:lnTo>
                    <a:pt x="15739" y="3127"/>
                  </a:lnTo>
                  <a:lnTo>
                    <a:pt x="15739" y="3243"/>
                  </a:lnTo>
                  <a:lnTo>
                    <a:pt x="15855" y="3243"/>
                  </a:lnTo>
                  <a:lnTo>
                    <a:pt x="15855" y="3243"/>
                  </a:lnTo>
                  <a:lnTo>
                    <a:pt x="15971" y="3359"/>
                  </a:lnTo>
                  <a:lnTo>
                    <a:pt x="16087" y="3359"/>
                  </a:lnTo>
                  <a:lnTo>
                    <a:pt x="16202" y="3359"/>
                  </a:lnTo>
                  <a:lnTo>
                    <a:pt x="16202" y="3359"/>
                  </a:lnTo>
                  <a:lnTo>
                    <a:pt x="16318" y="3359"/>
                  </a:lnTo>
                  <a:lnTo>
                    <a:pt x="16318" y="3359"/>
                  </a:lnTo>
                  <a:lnTo>
                    <a:pt x="16550" y="3243"/>
                  </a:lnTo>
                  <a:lnTo>
                    <a:pt x="16665" y="3011"/>
                  </a:lnTo>
                  <a:lnTo>
                    <a:pt x="16781" y="2895"/>
                  </a:lnTo>
                  <a:lnTo>
                    <a:pt x="17012" y="2664"/>
                  </a:lnTo>
                  <a:lnTo>
                    <a:pt x="17128" y="2432"/>
                  </a:lnTo>
                  <a:lnTo>
                    <a:pt x="17244" y="2316"/>
                  </a:lnTo>
                  <a:lnTo>
                    <a:pt x="17475" y="2316"/>
                  </a:lnTo>
                  <a:lnTo>
                    <a:pt x="17823" y="2432"/>
                  </a:lnTo>
                  <a:lnTo>
                    <a:pt x="17823" y="2432"/>
                  </a:lnTo>
                  <a:lnTo>
                    <a:pt x="17823" y="2548"/>
                  </a:lnTo>
                  <a:lnTo>
                    <a:pt x="17707" y="2664"/>
                  </a:lnTo>
                  <a:lnTo>
                    <a:pt x="17707" y="2780"/>
                  </a:lnTo>
                  <a:lnTo>
                    <a:pt x="17591" y="2895"/>
                  </a:lnTo>
                  <a:lnTo>
                    <a:pt x="17591" y="3011"/>
                  </a:lnTo>
                  <a:lnTo>
                    <a:pt x="17475" y="3127"/>
                  </a:lnTo>
                  <a:lnTo>
                    <a:pt x="17475" y="3243"/>
                  </a:lnTo>
                  <a:lnTo>
                    <a:pt x="17591" y="3474"/>
                  </a:lnTo>
                  <a:lnTo>
                    <a:pt x="17591" y="3474"/>
                  </a:lnTo>
                  <a:lnTo>
                    <a:pt x="17591" y="3474"/>
                  </a:lnTo>
                  <a:lnTo>
                    <a:pt x="17707" y="3590"/>
                  </a:lnTo>
                  <a:lnTo>
                    <a:pt x="17707" y="3590"/>
                  </a:lnTo>
                  <a:lnTo>
                    <a:pt x="17823" y="3706"/>
                  </a:lnTo>
                  <a:lnTo>
                    <a:pt x="17938" y="3706"/>
                  </a:lnTo>
                  <a:lnTo>
                    <a:pt x="18054" y="3706"/>
                  </a:lnTo>
                  <a:lnTo>
                    <a:pt x="18170" y="3706"/>
                  </a:lnTo>
                  <a:lnTo>
                    <a:pt x="18286" y="3706"/>
                  </a:lnTo>
                  <a:lnTo>
                    <a:pt x="18286" y="3706"/>
                  </a:lnTo>
                  <a:lnTo>
                    <a:pt x="18401" y="3590"/>
                  </a:lnTo>
                  <a:lnTo>
                    <a:pt x="18517" y="3474"/>
                  </a:lnTo>
                  <a:lnTo>
                    <a:pt x="18748" y="3359"/>
                  </a:lnTo>
                  <a:lnTo>
                    <a:pt x="18864" y="3243"/>
                  </a:lnTo>
                  <a:lnTo>
                    <a:pt x="18980" y="3127"/>
                  </a:lnTo>
                  <a:lnTo>
                    <a:pt x="19096" y="3011"/>
                  </a:lnTo>
                  <a:lnTo>
                    <a:pt x="19211" y="2780"/>
                  </a:lnTo>
                  <a:lnTo>
                    <a:pt x="19327" y="2664"/>
                  </a:lnTo>
                  <a:lnTo>
                    <a:pt x="19327" y="2664"/>
                  </a:lnTo>
                  <a:lnTo>
                    <a:pt x="19559" y="2664"/>
                  </a:lnTo>
                  <a:lnTo>
                    <a:pt x="19559" y="2664"/>
                  </a:lnTo>
                  <a:lnTo>
                    <a:pt x="19559" y="2780"/>
                  </a:lnTo>
                  <a:lnTo>
                    <a:pt x="19559" y="3011"/>
                  </a:lnTo>
                  <a:lnTo>
                    <a:pt x="19559" y="3127"/>
                  </a:lnTo>
                  <a:lnTo>
                    <a:pt x="19443" y="3359"/>
                  </a:lnTo>
                  <a:lnTo>
                    <a:pt x="19443" y="3474"/>
                  </a:lnTo>
                  <a:lnTo>
                    <a:pt x="19559" y="3590"/>
                  </a:lnTo>
                  <a:lnTo>
                    <a:pt x="19674" y="3706"/>
                  </a:lnTo>
                  <a:lnTo>
                    <a:pt x="19790" y="3822"/>
                  </a:lnTo>
                  <a:lnTo>
                    <a:pt x="19790" y="3822"/>
                  </a:lnTo>
                  <a:lnTo>
                    <a:pt x="19906" y="3822"/>
                  </a:lnTo>
                  <a:lnTo>
                    <a:pt x="20022" y="3822"/>
                  </a:lnTo>
                  <a:lnTo>
                    <a:pt x="20137" y="3822"/>
                  </a:lnTo>
                  <a:lnTo>
                    <a:pt x="20253" y="3822"/>
                  </a:lnTo>
                  <a:lnTo>
                    <a:pt x="20369" y="3706"/>
                  </a:lnTo>
                  <a:lnTo>
                    <a:pt x="20484" y="3706"/>
                  </a:lnTo>
                  <a:lnTo>
                    <a:pt x="20600" y="3590"/>
                  </a:lnTo>
                  <a:lnTo>
                    <a:pt x="20716" y="3590"/>
                  </a:lnTo>
                  <a:lnTo>
                    <a:pt x="20716" y="3590"/>
                  </a:lnTo>
                  <a:lnTo>
                    <a:pt x="20600" y="3474"/>
                  </a:lnTo>
                  <a:lnTo>
                    <a:pt x="20600" y="3359"/>
                  </a:lnTo>
                  <a:lnTo>
                    <a:pt x="20716" y="3243"/>
                  </a:lnTo>
                  <a:lnTo>
                    <a:pt x="20716" y="3127"/>
                  </a:lnTo>
                  <a:lnTo>
                    <a:pt x="20832" y="3127"/>
                  </a:lnTo>
                  <a:lnTo>
                    <a:pt x="20832" y="3011"/>
                  </a:lnTo>
                  <a:lnTo>
                    <a:pt x="20947" y="2895"/>
                  </a:lnTo>
                  <a:lnTo>
                    <a:pt x="20947" y="2780"/>
                  </a:lnTo>
                  <a:lnTo>
                    <a:pt x="20947" y="2780"/>
                  </a:lnTo>
                  <a:lnTo>
                    <a:pt x="20947" y="2895"/>
                  </a:lnTo>
                  <a:lnTo>
                    <a:pt x="20947" y="3011"/>
                  </a:lnTo>
                  <a:lnTo>
                    <a:pt x="20947" y="3127"/>
                  </a:lnTo>
                  <a:lnTo>
                    <a:pt x="20947" y="3359"/>
                  </a:lnTo>
                  <a:lnTo>
                    <a:pt x="20832" y="3474"/>
                  </a:lnTo>
                  <a:lnTo>
                    <a:pt x="20832" y="3590"/>
                  </a:lnTo>
                  <a:lnTo>
                    <a:pt x="20832" y="3706"/>
                  </a:lnTo>
                  <a:lnTo>
                    <a:pt x="20832" y="3822"/>
                  </a:lnTo>
                  <a:lnTo>
                    <a:pt x="20832" y="3822"/>
                  </a:lnTo>
                  <a:lnTo>
                    <a:pt x="20947" y="3938"/>
                  </a:lnTo>
                  <a:lnTo>
                    <a:pt x="20947" y="3938"/>
                  </a:lnTo>
                  <a:lnTo>
                    <a:pt x="21063" y="4053"/>
                  </a:lnTo>
                  <a:lnTo>
                    <a:pt x="21179" y="4053"/>
                  </a:lnTo>
                  <a:lnTo>
                    <a:pt x="21295" y="4053"/>
                  </a:lnTo>
                  <a:lnTo>
                    <a:pt x="21295" y="4053"/>
                  </a:lnTo>
                  <a:lnTo>
                    <a:pt x="21410" y="4053"/>
                  </a:lnTo>
                  <a:lnTo>
                    <a:pt x="21526" y="4053"/>
                  </a:lnTo>
                  <a:lnTo>
                    <a:pt x="21526" y="4053"/>
                  </a:lnTo>
                  <a:lnTo>
                    <a:pt x="21642" y="3938"/>
                  </a:lnTo>
                  <a:lnTo>
                    <a:pt x="21642" y="3822"/>
                  </a:lnTo>
                  <a:lnTo>
                    <a:pt x="21758" y="3706"/>
                  </a:lnTo>
                  <a:lnTo>
                    <a:pt x="21873" y="3590"/>
                  </a:lnTo>
                  <a:lnTo>
                    <a:pt x="21989" y="3474"/>
                  </a:lnTo>
                  <a:lnTo>
                    <a:pt x="22105" y="3359"/>
                  </a:lnTo>
                  <a:lnTo>
                    <a:pt x="22105" y="3243"/>
                  </a:lnTo>
                  <a:lnTo>
                    <a:pt x="22220" y="3011"/>
                  </a:lnTo>
                  <a:lnTo>
                    <a:pt x="22220" y="3011"/>
                  </a:lnTo>
                  <a:lnTo>
                    <a:pt x="22105" y="3127"/>
                  </a:lnTo>
                  <a:lnTo>
                    <a:pt x="22105" y="3243"/>
                  </a:lnTo>
                  <a:lnTo>
                    <a:pt x="22105" y="3359"/>
                  </a:lnTo>
                  <a:lnTo>
                    <a:pt x="22105" y="3474"/>
                  </a:lnTo>
                  <a:lnTo>
                    <a:pt x="22105" y="3590"/>
                  </a:lnTo>
                  <a:lnTo>
                    <a:pt x="22105" y="3706"/>
                  </a:lnTo>
                  <a:lnTo>
                    <a:pt x="22105" y="3822"/>
                  </a:lnTo>
                  <a:lnTo>
                    <a:pt x="22220" y="3938"/>
                  </a:lnTo>
                  <a:lnTo>
                    <a:pt x="22220" y="3938"/>
                  </a:lnTo>
                  <a:lnTo>
                    <a:pt x="22336" y="4053"/>
                  </a:lnTo>
                  <a:lnTo>
                    <a:pt x="22452" y="4169"/>
                  </a:lnTo>
                  <a:lnTo>
                    <a:pt x="22568" y="4169"/>
                  </a:lnTo>
                  <a:lnTo>
                    <a:pt x="22683" y="4053"/>
                  </a:lnTo>
                  <a:lnTo>
                    <a:pt x="22799" y="3938"/>
                  </a:lnTo>
                  <a:lnTo>
                    <a:pt x="22915" y="3822"/>
                  </a:lnTo>
                  <a:lnTo>
                    <a:pt x="23031" y="3822"/>
                  </a:lnTo>
                  <a:lnTo>
                    <a:pt x="23146" y="3822"/>
                  </a:lnTo>
                  <a:lnTo>
                    <a:pt x="23146" y="3822"/>
                  </a:lnTo>
                  <a:lnTo>
                    <a:pt x="23146" y="3938"/>
                  </a:lnTo>
                  <a:lnTo>
                    <a:pt x="23146" y="3938"/>
                  </a:lnTo>
                  <a:lnTo>
                    <a:pt x="23146" y="4053"/>
                  </a:lnTo>
                  <a:lnTo>
                    <a:pt x="23146" y="4169"/>
                  </a:lnTo>
                  <a:lnTo>
                    <a:pt x="23146" y="4285"/>
                  </a:lnTo>
                  <a:lnTo>
                    <a:pt x="23262" y="4285"/>
                  </a:lnTo>
                  <a:lnTo>
                    <a:pt x="23378" y="4401"/>
                  </a:lnTo>
                  <a:lnTo>
                    <a:pt x="23378" y="4401"/>
                  </a:lnTo>
                  <a:lnTo>
                    <a:pt x="23378" y="4401"/>
                  </a:lnTo>
                  <a:lnTo>
                    <a:pt x="23841" y="4285"/>
                  </a:lnTo>
                  <a:lnTo>
                    <a:pt x="23841" y="4285"/>
                  </a:lnTo>
                  <a:lnTo>
                    <a:pt x="23378" y="5906"/>
                  </a:lnTo>
                  <a:lnTo>
                    <a:pt x="22799" y="7528"/>
                  </a:lnTo>
                  <a:lnTo>
                    <a:pt x="22452" y="9265"/>
                  </a:lnTo>
                  <a:lnTo>
                    <a:pt x="21989" y="11002"/>
                  </a:lnTo>
                  <a:lnTo>
                    <a:pt x="21642" y="12739"/>
                  </a:lnTo>
                  <a:lnTo>
                    <a:pt x="21410" y="14476"/>
                  </a:lnTo>
                  <a:lnTo>
                    <a:pt x="21179" y="16213"/>
                  </a:lnTo>
                  <a:lnTo>
                    <a:pt x="21063" y="17951"/>
                  </a:lnTo>
                  <a:lnTo>
                    <a:pt x="21063" y="17951"/>
                  </a:lnTo>
                  <a:lnTo>
                    <a:pt x="18517" y="18414"/>
                  </a:lnTo>
                  <a:lnTo>
                    <a:pt x="15971" y="18877"/>
                  </a:lnTo>
                  <a:lnTo>
                    <a:pt x="13541" y="19456"/>
                  </a:lnTo>
                  <a:lnTo>
                    <a:pt x="11110" y="20035"/>
                  </a:lnTo>
                  <a:lnTo>
                    <a:pt x="8564" y="20614"/>
                  </a:lnTo>
                  <a:lnTo>
                    <a:pt x="6134" y="21077"/>
                  </a:lnTo>
                  <a:lnTo>
                    <a:pt x="3588" y="21656"/>
                  </a:lnTo>
                  <a:lnTo>
                    <a:pt x="926" y="22004"/>
                  </a:lnTo>
                  <a:lnTo>
                    <a:pt x="926" y="22004"/>
                  </a:lnTo>
                  <a:lnTo>
                    <a:pt x="1041" y="21888"/>
                  </a:lnTo>
                  <a:lnTo>
                    <a:pt x="1041" y="21656"/>
                  </a:lnTo>
                  <a:lnTo>
                    <a:pt x="1041" y="21541"/>
                  </a:lnTo>
                  <a:lnTo>
                    <a:pt x="1041" y="21309"/>
                  </a:lnTo>
                  <a:lnTo>
                    <a:pt x="1041" y="21193"/>
                  </a:lnTo>
                  <a:lnTo>
                    <a:pt x="926" y="20962"/>
                  </a:lnTo>
                  <a:lnTo>
                    <a:pt x="926" y="20730"/>
                  </a:lnTo>
                  <a:lnTo>
                    <a:pt x="926" y="20614"/>
                  </a:lnTo>
                  <a:lnTo>
                    <a:pt x="926" y="20614"/>
                  </a:lnTo>
                  <a:lnTo>
                    <a:pt x="810" y="20498"/>
                  </a:lnTo>
                  <a:lnTo>
                    <a:pt x="694" y="20383"/>
                  </a:lnTo>
                  <a:lnTo>
                    <a:pt x="579" y="20267"/>
                  </a:lnTo>
                  <a:lnTo>
                    <a:pt x="463" y="20267"/>
                  </a:lnTo>
                  <a:lnTo>
                    <a:pt x="347" y="20151"/>
                  </a:lnTo>
                  <a:lnTo>
                    <a:pt x="231" y="20151"/>
                  </a:lnTo>
                  <a:lnTo>
                    <a:pt x="116" y="20035"/>
                  </a:lnTo>
                  <a:lnTo>
                    <a:pt x="0" y="20035"/>
                  </a:lnTo>
                  <a:lnTo>
                    <a:pt x="0" y="20035"/>
                  </a:lnTo>
                  <a:lnTo>
                    <a:pt x="347" y="17603"/>
                  </a:lnTo>
                  <a:lnTo>
                    <a:pt x="694" y="15055"/>
                  </a:lnTo>
                  <a:lnTo>
                    <a:pt x="1273" y="12623"/>
                  </a:lnTo>
                  <a:lnTo>
                    <a:pt x="1852" y="10076"/>
                  </a:lnTo>
                  <a:lnTo>
                    <a:pt x="2430" y="7644"/>
                  </a:lnTo>
                  <a:lnTo>
                    <a:pt x="2893" y="5096"/>
                  </a:lnTo>
                  <a:lnTo>
                    <a:pt x="3472" y="2548"/>
                  </a:lnTo>
                  <a:lnTo>
                    <a:pt x="3935" y="0"/>
                  </a:lnTo>
                  <a:lnTo>
                    <a:pt x="3935" y="0"/>
                  </a:lnTo>
                  <a:lnTo>
                    <a:pt x="4050" y="116"/>
                  </a:lnTo>
                  <a:lnTo>
                    <a:pt x="4050" y="116"/>
                  </a:lnTo>
                  <a:lnTo>
                    <a:pt x="4050" y="116"/>
                  </a:lnTo>
                  <a:lnTo>
                    <a:pt x="4050" y="116"/>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1495440" y="3551400"/>
              <a:ext cx="111600" cy="845280"/>
            </a:xfrm>
            <a:custGeom>
              <a:avLst/>
              <a:gdLst/>
              <a:ahLst/>
              <a:rect l="l" t="t" r="r" b="b"/>
              <a:pathLst>
                <a:path w="3125" h="15750">
                  <a:moveTo>
                    <a:pt x="3125" y="0"/>
                  </a:moveTo>
                  <a:lnTo>
                    <a:pt x="3125" y="347"/>
                  </a:lnTo>
                  <a:lnTo>
                    <a:pt x="3125" y="811"/>
                  </a:lnTo>
                  <a:lnTo>
                    <a:pt x="3009" y="1274"/>
                  </a:lnTo>
                  <a:lnTo>
                    <a:pt x="2894" y="1737"/>
                  </a:lnTo>
                  <a:lnTo>
                    <a:pt x="2894" y="2084"/>
                  </a:lnTo>
                  <a:lnTo>
                    <a:pt x="2778" y="2548"/>
                  </a:lnTo>
                  <a:lnTo>
                    <a:pt x="2662" y="2895"/>
                  </a:lnTo>
                  <a:lnTo>
                    <a:pt x="2546" y="3358"/>
                  </a:lnTo>
                  <a:lnTo>
                    <a:pt x="2546" y="3358"/>
                  </a:lnTo>
                  <a:lnTo>
                    <a:pt x="2199" y="4748"/>
                  </a:lnTo>
                  <a:lnTo>
                    <a:pt x="1968" y="6138"/>
                  </a:lnTo>
                  <a:lnTo>
                    <a:pt x="1736" y="7528"/>
                  </a:lnTo>
                  <a:lnTo>
                    <a:pt x="1389" y="8917"/>
                  </a:lnTo>
                  <a:lnTo>
                    <a:pt x="1158" y="10307"/>
                  </a:lnTo>
                  <a:lnTo>
                    <a:pt x="926" y="11812"/>
                  </a:lnTo>
                  <a:lnTo>
                    <a:pt x="695" y="13086"/>
                  </a:lnTo>
                  <a:lnTo>
                    <a:pt x="463" y="14476"/>
                  </a:lnTo>
                  <a:lnTo>
                    <a:pt x="463" y="14476"/>
                  </a:lnTo>
                  <a:lnTo>
                    <a:pt x="348" y="14592"/>
                  </a:lnTo>
                  <a:lnTo>
                    <a:pt x="348" y="14824"/>
                  </a:lnTo>
                  <a:lnTo>
                    <a:pt x="348" y="14939"/>
                  </a:lnTo>
                  <a:lnTo>
                    <a:pt x="348" y="15055"/>
                  </a:lnTo>
                  <a:lnTo>
                    <a:pt x="232" y="15287"/>
                  </a:lnTo>
                  <a:lnTo>
                    <a:pt x="232" y="15403"/>
                  </a:lnTo>
                  <a:lnTo>
                    <a:pt x="232" y="15518"/>
                  </a:lnTo>
                  <a:lnTo>
                    <a:pt x="232" y="15750"/>
                  </a:lnTo>
                  <a:lnTo>
                    <a:pt x="232" y="15750"/>
                  </a:lnTo>
                  <a:lnTo>
                    <a:pt x="0" y="15750"/>
                  </a:lnTo>
                  <a:lnTo>
                    <a:pt x="0" y="15750"/>
                  </a:lnTo>
                  <a:lnTo>
                    <a:pt x="116" y="14824"/>
                  </a:lnTo>
                  <a:lnTo>
                    <a:pt x="348" y="14013"/>
                  </a:lnTo>
                  <a:lnTo>
                    <a:pt x="463" y="13086"/>
                  </a:lnTo>
                  <a:lnTo>
                    <a:pt x="579" y="12276"/>
                  </a:lnTo>
                  <a:lnTo>
                    <a:pt x="695" y="11349"/>
                  </a:lnTo>
                  <a:lnTo>
                    <a:pt x="810" y="10423"/>
                  </a:lnTo>
                  <a:lnTo>
                    <a:pt x="926" y="9612"/>
                  </a:lnTo>
                  <a:lnTo>
                    <a:pt x="1042" y="8686"/>
                  </a:lnTo>
                  <a:lnTo>
                    <a:pt x="1042" y="8686"/>
                  </a:lnTo>
                  <a:lnTo>
                    <a:pt x="1273" y="7643"/>
                  </a:lnTo>
                  <a:lnTo>
                    <a:pt x="1505" y="6601"/>
                  </a:lnTo>
                  <a:lnTo>
                    <a:pt x="1736" y="5559"/>
                  </a:lnTo>
                  <a:lnTo>
                    <a:pt x="1968" y="4516"/>
                  </a:lnTo>
                  <a:lnTo>
                    <a:pt x="2199" y="3358"/>
                  </a:lnTo>
                  <a:lnTo>
                    <a:pt x="2431" y="2316"/>
                  </a:lnTo>
                  <a:lnTo>
                    <a:pt x="2662" y="1274"/>
                  </a:lnTo>
                  <a:lnTo>
                    <a:pt x="2778" y="116"/>
                  </a:lnTo>
                  <a:lnTo>
                    <a:pt x="2778" y="116"/>
                  </a:lnTo>
                  <a:lnTo>
                    <a:pt x="2778" y="116"/>
                  </a:lnTo>
                  <a:lnTo>
                    <a:pt x="2894" y="0"/>
                  </a:lnTo>
                  <a:lnTo>
                    <a:pt x="2894" y="0"/>
                  </a:lnTo>
                  <a:lnTo>
                    <a:pt x="2894" y="0"/>
                  </a:lnTo>
                  <a:lnTo>
                    <a:pt x="3009" y="0"/>
                  </a:lnTo>
                  <a:lnTo>
                    <a:pt x="3009" y="0"/>
                  </a:lnTo>
                  <a:lnTo>
                    <a:pt x="3009" y="0"/>
                  </a:lnTo>
                  <a:lnTo>
                    <a:pt x="3125" y="0"/>
                  </a:lnTo>
                  <a:lnTo>
                    <a:pt x="3125" y="0"/>
                  </a:lnTo>
                  <a:lnTo>
                    <a:pt x="3125" y="0"/>
                  </a:lnTo>
                  <a:lnTo>
                    <a:pt x="3125" y="0"/>
                  </a:lnTo>
                  <a:lnTo>
                    <a:pt x="31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1516320" y="3551400"/>
              <a:ext cx="119880" cy="864000"/>
            </a:xfrm>
            <a:custGeom>
              <a:avLst/>
              <a:gdLst/>
              <a:ahLst/>
              <a:rect l="l" t="t" r="r" b="b"/>
              <a:pathLst>
                <a:path w="3356" h="16097">
                  <a:moveTo>
                    <a:pt x="3356" y="0"/>
                  </a:moveTo>
                  <a:lnTo>
                    <a:pt x="3125" y="1390"/>
                  </a:lnTo>
                  <a:lnTo>
                    <a:pt x="2893" y="2779"/>
                  </a:lnTo>
                  <a:lnTo>
                    <a:pt x="2662" y="4053"/>
                  </a:lnTo>
                  <a:lnTo>
                    <a:pt x="2315" y="5443"/>
                  </a:lnTo>
                  <a:lnTo>
                    <a:pt x="2083" y="6833"/>
                  </a:lnTo>
                  <a:lnTo>
                    <a:pt x="1736" y="8107"/>
                  </a:lnTo>
                  <a:lnTo>
                    <a:pt x="1505" y="9496"/>
                  </a:lnTo>
                  <a:lnTo>
                    <a:pt x="1273" y="10770"/>
                  </a:lnTo>
                  <a:lnTo>
                    <a:pt x="1273" y="10770"/>
                  </a:lnTo>
                  <a:lnTo>
                    <a:pt x="1157" y="11002"/>
                  </a:lnTo>
                  <a:lnTo>
                    <a:pt x="1157" y="11233"/>
                  </a:lnTo>
                  <a:lnTo>
                    <a:pt x="1042" y="11465"/>
                  </a:lnTo>
                  <a:lnTo>
                    <a:pt x="1042" y="11697"/>
                  </a:lnTo>
                  <a:lnTo>
                    <a:pt x="926" y="11928"/>
                  </a:lnTo>
                  <a:lnTo>
                    <a:pt x="926" y="12276"/>
                  </a:lnTo>
                  <a:lnTo>
                    <a:pt x="926" y="12507"/>
                  </a:lnTo>
                  <a:lnTo>
                    <a:pt x="810" y="12739"/>
                  </a:lnTo>
                  <a:lnTo>
                    <a:pt x="810" y="12739"/>
                  </a:lnTo>
                  <a:lnTo>
                    <a:pt x="926" y="13086"/>
                  </a:lnTo>
                  <a:lnTo>
                    <a:pt x="810" y="13550"/>
                  </a:lnTo>
                  <a:lnTo>
                    <a:pt x="810" y="13897"/>
                  </a:lnTo>
                  <a:lnTo>
                    <a:pt x="694" y="14360"/>
                  </a:lnTo>
                  <a:lnTo>
                    <a:pt x="579" y="14824"/>
                  </a:lnTo>
                  <a:lnTo>
                    <a:pt x="463" y="15171"/>
                  </a:lnTo>
                  <a:lnTo>
                    <a:pt x="463" y="15634"/>
                  </a:lnTo>
                  <a:lnTo>
                    <a:pt x="463" y="16097"/>
                  </a:lnTo>
                  <a:lnTo>
                    <a:pt x="463" y="16097"/>
                  </a:lnTo>
                  <a:lnTo>
                    <a:pt x="0" y="15982"/>
                  </a:lnTo>
                  <a:lnTo>
                    <a:pt x="0" y="15982"/>
                  </a:lnTo>
                  <a:lnTo>
                    <a:pt x="347" y="13897"/>
                  </a:lnTo>
                  <a:lnTo>
                    <a:pt x="694" y="11928"/>
                  </a:lnTo>
                  <a:lnTo>
                    <a:pt x="1042" y="9960"/>
                  </a:lnTo>
                  <a:lnTo>
                    <a:pt x="1389" y="7875"/>
                  </a:lnTo>
                  <a:lnTo>
                    <a:pt x="1852" y="5906"/>
                  </a:lnTo>
                  <a:lnTo>
                    <a:pt x="2199" y="3937"/>
                  </a:lnTo>
                  <a:lnTo>
                    <a:pt x="2546" y="1969"/>
                  </a:lnTo>
                  <a:lnTo>
                    <a:pt x="2893" y="0"/>
                  </a:lnTo>
                  <a:lnTo>
                    <a:pt x="2893" y="0"/>
                  </a:lnTo>
                  <a:lnTo>
                    <a:pt x="3009" y="0"/>
                  </a:lnTo>
                  <a:lnTo>
                    <a:pt x="3009" y="0"/>
                  </a:lnTo>
                  <a:lnTo>
                    <a:pt x="3125" y="0"/>
                  </a:lnTo>
                  <a:lnTo>
                    <a:pt x="3125" y="0"/>
                  </a:lnTo>
                  <a:lnTo>
                    <a:pt x="3240" y="0"/>
                  </a:lnTo>
                  <a:lnTo>
                    <a:pt x="3240" y="0"/>
                  </a:lnTo>
                  <a:lnTo>
                    <a:pt x="3356" y="0"/>
                  </a:lnTo>
                  <a:lnTo>
                    <a:pt x="3356" y="0"/>
                  </a:lnTo>
                  <a:lnTo>
                    <a:pt x="3356" y="0"/>
                  </a:lnTo>
                  <a:lnTo>
                    <a:pt x="3356" y="0"/>
                  </a:lnTo>
                  <a:lnTo>
                    <a:pt x="3356" y="0"/>
                  </a:lnTo>
                  <a:lnTo>
                    <a:pt x="3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1524240" y="3551400"/>
              <a:ext cx="144720" cy="1087920"/>
            </a:xfrm>
            <a:custGeom>
              <a:avLst/>
              <a:gdLst/>
              <a:ahLst/>
              <a:rect l="l" t="t" r="r" b="b"/>
              <a:pathLst>
                <a:path w="4051" h="20267">
                  <a:moveTo>
                    <a:pt x="3704" y="116"/>
                  </a:moveTo>
                  <a:lnTo>
                    <a:pt x="3935" y="0"/>
                  </a:lnTo>
                  <a:lnTo>
                    <a:pt x="4051" y="232"/>
                  </a:lnTo>
                  <a:lnTo>
                    <a:pt x="4051" y="232"/>
                  </a:lnTo>
                  <a:lnTo>
                    <a:pt x="3588" y="2779"/>
                  </a:lnTo>
                  <a:lnTo>
                    <a:pt x="3009" y="5211"/>
                  </a:lnTo>
                  <a:lnTo>
                    <a:pt x="2547" y="7643"/>
                  </a:lnTo>
                  <a:lnTo>
                    <a:pt x="1968" y="10075"/>
                  </a:lnTo>
                  <a:lnTo>
                    <a:pt x="1389" y="12623"/>
                  </a:lnTo>
                  <a:lnTo>
                    <a:pt x="926" y="15055"/>
                  </a:lnTo>
                  <a:lnTo>
                    <a:pt x="579" y="17603"/>
                  </a:lnTo>
                  <a:lnTo>
                    <a:pt x="348" y="20035"/>
                  </a:lnTo>
                  <a:lnTo>
                    <a:pt x="348" y="20035"/>
                  </a:lnTo>
                  <a:lnTo>
                    <a:pt x="348" y="20151"/>
                  </a:lnTo>
                  <a:lnTo>
                    <a:pt x="232" y="20151"/>
                  </a:lnTo>
                  <a:lnTo>
                    <a:pt x="232" y="20151"/>
                  </a:lnTo>
                  <a:lnTo>
                    <a:pt x="116" y="20151"/>
                  </a:lnTo>
                  <a:lnTo>
                    <a:pt x="116" y="20151"/>
                  </a:lnTo>
                  <a:lnTo>
                    <a:pt x="116" y="20267"/>
                  </a:lnTo>
                  <a:lnTo>
                    <a:pt x="0" y="20267"/>
                  </a:lnTo>
                  <a:lnTo>
                    <a:pt x="0" y="20267"/>
                  </a:lnTo>
                  <a:lnTo>
                    <a:pt x="0" y="20267"/>
                  </a:lnTo>
                  <a:lnTo>
                    <a:pt x="348" y="18761"/>
                  </a:lnTo>
                  <a:lnTo>
                    <a:pt x="579" y="17140"/>
                  </a:lnTo>
                  <a:lnTo>
                    <a:pt x="695" y="15634"/>
                  </a:lnTo>
                  <a:lnTo>
                    <a:pt x="926" y="14129"/>
                  </a:lnTo>
                  <a:lnTo>
                    <a:pt x="1042" y="12507"/>
                  </a:lnTo>
                  <a:lnTo>
                    <a:pt x="1158" y="11002"/>
                  </a:lnTo>
                  <a:lnTo>
                    <a:pt x="1505" y="9496"/>
                  </a:lnTo>
                  <a:lnTo>
                    <a:pt x="1852" y="7991"/>
                  </a:lnTo>
                  <a:lnTo>
                    <a:pt x="1852" y="7991"/>
                  </a:lnTo>
                  <a:lnTo>
                    <a:pt x="1968" y="6948"/>
                  </a:lnTo>
                  <a:lnTo>
                    <a:pt x="2199" y="5906"/>
                  </a:lnTo>
                  <a:lnTo>
                    <a:pt x="2431" y="4980"/>
                  </a:lnTo>
                  <a:lnTo>
                    <a:pt x="2778" y="4053"/>
                  </a:lnTo>
                  <a:lnTo>
                    <a:pt x="3009" y="3011"/>
                  </a:lnTo>
                  <a:lnTo>
                    <a:pt x="3241" y="2084"/>
                  </a:lnTo>
                  <a:lnTo>
                    <a:pt x="3472" y="1042"/>
                  </a:lnTo>
                  <a:lnTo>
                    <a:pt x="3588" y="0"/>
                  </a:lnTo>
                  <a:lnTo>
                    <a:pt x="3588" y="0"/>
                  </a:lnTo>
                  <a:lnTo>
                    <a:pt x="3704" y="0"/>
                  </a:lnTo>
                  <a:lnTo>
                    <a:pt x="3704" y="116"/>
                  </a:lnTo>
                  <a:lnTo>
                    <a:pt x="3704" y="116"/>
                  </a:lnTo>
                  <a:lnTo>
                    <a:pt x="3704" y="116"/>
                  </a:lnTo>
                  <a:lnTo>
                    <a:pt x="370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2170080" y="3564000"/>
              <a:ext cx="57600" cy="142920"/>
            </a:xfrm>
            <a:custGeom>
              <a:avLst/>
              <a:gdLst/>
              <a:ahLst/>
              <a:rect l="l" t="t" r="r" b="b"/>
              <a:pathLst>
                <a:path w="1620" h="2663">
                  <a:moveTo>
                    <a:pt x="1620" y="810"/>
                  </a:moveTo>
                  <a:lnTo>
                    <a:pt x="1620" y="1042"/>
                  </a:lnTo>
                  <a:lnTo>
                    <a:pt x="1620" y="1158"/>
                  </a:lnTo>
                  <a:lnTo>
                    <a:pt x="1620" y="1389"/>
                  </a:lnTo>
                  <a:lnTo>
                    <a:pt x="1620" y="1621"/>
                  </a:lnTo>
                  <a:lnTo>
                    <a:pt x="1620" y="1852"/>
                  </a:lnTo>
                  <a:lnTo>
                    <a:pt x="1504" y="1968"/>
                  </a:lnTo>
                  <a:lnTo>
                    <a:pt x="1388" y="2200"/>
                  </a:lnTo>
                  <a:lnTo>
                    <a:pt x="1388" y="2316"/>
                  </a:lnTo>
                  <a:lnTo>
                    <a:pt x="1388" y="2316"/>
                  </a:lnTo>
                  <a:lnTo>
                    <a:pt x="1273" y="2432"/>
                  </a:lnTo>
                  <a:lnTo>
                    <a:pt x="1157" y="2432"/>
                  </a:lnTo>
                  <a:lnTo>
                    <a:pt x="1157" y="2547"/>
                  </a:lnTo>
                  <a:lnTo>
                    <a:pt x="1041" y="2547"/>
                  </a:lnTo>
                  <a:lnTo>
                    <a:pt x="1041" y="2663"/>
                  </a:lnTo>
                  <a:lnTo>
                    <a:pt x="926" y="2663"/>
                  </a:lnTo>
                  <a:lnTo>
                    <a:pt x="810" y="2663"/>
                  </a:lnTo>
                  <a:lnTo>
                    <a:pt x="810" y="2663"/>
                  </a:lnTo>
                  <a:lnTo>
                    <a:pt x="810" y="2663"/>
                  </a:lnTo>
                  <a:lnTo>
                    <a:pt x="926" y="2432"/>
                  </a:lnTo>
                  <a:lnTo>
                    <a:pt x="926" y="2200"/>
                  </a:lnTo>
                  <a:lnTo>
                    <a:pt x="1041" y="1968"/>
                  </a:lnTo>
                  <a:lnTo>
                    <a:pt x="1157" y="1737"/>
                  </a:lnTo>
                  <a:lnTo>
                    <a:pt x="1157" y="1505"/>
                  </a:lnTo>
                  <a:lnTo>
                    <a:pt x="1157" y="1158"/>
                  </a:lnTo>
                  <a:lnTo>
                    <a:pt x="1041" y="926"/>
                  </a:lnTo>
                  <a:lnTo>
                    <a:pt x="1041" y="694"/>
                  </a:lnTo>
                  <a:lnTo>
                    <a:pt x="1041" y="694"/>
                  </a:lnTo>
                  <a:lnTo>
                    <a:pt x="926" y="579"/>
                  </a:lnTo>
                  <a:lnTo>
                    <a:pt x="810" y="463"/>
                  </a:lnTo>
                  <a:lnTo>
                    <a:pt x="694" y="347"/>
                  </a:lnTo>
                  <a:lnTo>
                    <a:pt x="578" y="347"/>
                  </a:lnTo>
                  <a:lnTo>
                    <a:pt x="463" y="231"/>
                  </a:lnTo>
                  <a:lnTo>
                    <a:pt x="231" y="231"/>
                  </a:lnTo>
                  <a:lnTo>
                    <a:pt x="115" y="231"/>
                  </a:lnTo>
                  <a:lnTo>
                    <a:pt x="0" y="347"/>
                  </a:lnTo>
                  <a:lnTo>
                    <a:pt x="0" y="347"/>
                  </a:lnTo>
                  <a:lnTo>
                    <a:pt x="0" y="115"/>
                  </a:lnTo>
                  <a:lnTo>
                    <a:pt x="0" y="115"/>
                  </a:lnTo>
                  <a:lnTo>
                    <a:pt x="115" y="0"/>
                  </a:lnTo>
                  <a:lnTo>
                    <a:pt x="347" y="0"/>
                  </a:lnTo>
                  <a:lnTo>
                    <a:pt x="578" y="0"/>
                  </a:lnTo>
                  <a:lnTo>
                    <a:pt x="810" y="0"/>
                  </a:lnTo>
                  <a:lnTo>
                    <a:pt x="1041" y="115"/>
                  </a:lnTo>
                  <a:lnTo>
                    <a:pt x="1273" y="347"/>
                  </a:lnTo>
                  <a:lnTo>
                    <a:pt x="1504" y="579"/>
                  </a:lnTo>
                  <a:lnTo>
                    <a:pt x="1620" y="810"/>
                  </a:lnTo>
                  <a:lnTo>
                    <a:pt x="1620" y="810"/>
                  </a:lnTo>
                  <a:lnTo>
                    <a:pt x="1620" y="810"/>
                  </a:lnTo>
                  <a:lnTo>
                    <a:pt x="1620" y="810"/>
                  </a:lnTo>
                  <a:lnTo>
                    <a:pt x="1620" y="8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2240280" y="3582720"/>
              <a:ext cx="41040" cy="136800"/>
            </a:xfrm>
            <a:custGeom>
              <a:avLst/>
              <a:gdLst/>
              <a:ahLst/>
              <a:rect l="l" t="t" r="r" b="b"/>
              <a:pathLst>
                <a:path w="1157" h="2548">
                  <a:moveTo>
                    <a:pt x="1042" y="811"/>
                  </a:moveTo>
                  <a:lnTo>
                    <a:pt x="1042" y="926"/>
                  </a:lnTo>
                  <a:lnTo>
                    <a:pt x="1157" y="1158"/>
                  </a:lnTo>
                  <a:lnTo>
                    <a:pt x="1157" y="1274"/>
                  </a:lnTo>
                  <a:lnTo>
                    <a:pt x="1157" y="1505"/>
                  </a:lnTo>
                  <a:lnTo>
                    <a:pt x="1157" y="1621"/>
                  </a:lnTo>
                  <a:lnTo>
                    <a:pt x="1157" y="1853"/>
                  </a:lnTo>
                  <a:lnTo>
                    <a:pt x="1157" y="1969"/>
                  </a:lnTo>
                  <a:lnTo>
                    <a:pt x="1042" y="2200"/>
                  </a:lnTo>
                  <a:lnTo>
                    <a:pt x="1042" y="2200"/>
                  </a:lnTo>
                  <a:lnTo>
                    <a:pt x="695" y="2548"/>
                  </a:lnTo>
                  <a:lnTo>
                    <a:pt x="695" y="2548"/>
                  </a:lnTo>
                  <a:lnTo>
                    <a:pt x="695" y="2200"/>
                  </a:lnTo>
                  <a:lnTo>
                    <a:pt x="695" y="1969"/>
                  </a:lnTo>
                  <a:lnTo>
                    <a:pt x="810" y="1621"/>
                  </a:lnTo>
                  <a:lnTo>
                    <a:pt x="810" y="1274"/>
                  </a:lnTo>
                  <a:lnTo>
                    <a:pt x="810" y="1042"/>
                  </a:lnTo>
                  <a:lnTo>
                    <a:pt x="695" y="811"/>
                  </a:lnTo>
                  <a:lnTo>
                    <a:pt x="463" y="579"/>
                  </a:lnTo>
                  <a:lnTo>
                    <a:pt x="116" y="347"/>
                  </a:lnTo>
                  <a:lnTo>
                    <a:pt x="116" y="347"/>
                  </a:lnTo>
                  <a:lnTo>
                    <a:pt x="0" y="0"/>
                  </a:lnTo>
                  <a:lnTo>
                    <a:pt x="0" y="0"/>
                  </a:lnTo>
                  <a:lnTo>
                    <a:pt x="116" y="116"/>
                  </a:lnTo>
                  <a:lnTo>
                    <a:pt x="347" y="116"/>
                  </a:lnTo>
                  <a:lnTo>
                    <a:pt x="463" y="116"/>
                  </a:lnTo>
                  <a:lnTo>
                    <a:pt x="579" y="232"/>
                  </a:lnTo>
                  <a:lnTo>
                    <a:pt x="810" y="347"/>
                  </a:lnTo>
                  <a:lnTo>
                    <a:pt x="926" y="463"/>
                  </a:lnTo>
                  <a:lnTo>
                    <a:pt x="926" y="579"/>
                  </a:lnTo>
                  <a:lnTo>
                    <a:pt x="1042" y="811"/>
                  </a:lnTo>
                  <a:lnTo>
                    <a:pt x="1042" y="811"/>
                  </a:lnTo>
                  <a:lnTo>
                    <a:pt x="1042" y="811"/>
                  </a:lnTo>
                  <a:lnTo>
                    <a:pt x="1042" y="811"/>
                  </a:lnTo>
                  <a:lnTo>
                    <a:pt x="1042" y="8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2289960" y="3594960"/>
              <a:ext cx="41040" cy="130320"/>
            </a:xfrm>
            <a:custGeom>
              <a:avLst/>
              <a:gdLst/>
              <a:ahLst/>
              <a:rect l="l" t="t" r="r" b="b"/>
              <a:pathLst>
                <a:path w="1157" h="2432">
                  <a:moveTo>
                    <a:pt x="1157" y="926"/>
                  </a:moveTo>
                  <a:lnTo>
                    <a:pt x="1157" y="1158"/>
                  </a:lnTo>
                  <a:lnTo>
                    <a:pt x="1157" y="1389"/>
                  </a:lnTo>
                  <a:lnTo>
                    <a:pt x="1157" y="1505"/>
                  </a:lnTo>
                  <a:lnTo>
                    <a:pt x="1157" y="1737"/>
                  </a:lnTo>
                  <a:lnTo>
                    <a:pt x="1042" y="1968"/>
                  </a:lnTo>
                  <a:lnTo>
                    <a:pt x="926" y="2200"/>
                  </a:lnTo>
                  <a:lnTo>
                    <a:pt x="810" y="2316"/>
                  </a:lnTo>
                  <a:lnTo>
                    <a:pt x="579" y="2432"/>
                  </a:lnTo>
                  <a:lnTo>
                    <a:pt x="579" y="2432"/>
                  </a:lnTo>
                  <a:lnTo>
                    <a:pt x="694" y="2316"/>
                  </a:lnTo>
                  <a:lnTo>
                    <a:pt x="694" y="2200"/>
                  </a:lnTo>
                  <a:lnTo>
                    <a:pt x="694" y="1968"/>
                  </a:lnTo>
                  <a:lnTo>
                    <a:pt x="810" y="1853"/>
                  </a:lnTo>
                  <a:lnTo>
                    <a:pt x="810" y="1621"/>
                  </a:lnTo>
                  <a:lnTo>
                    <a:pt x="926" y="1389"/>
                  </a:lnTo>
                  <a:lnTo>
                    <a:pt x="926" y="1273"/>
                  </a:lnTo>
                  <a:lnTo>
                    <a:pt x="810" y="1042"/>
                  </a:lnTo>
                  <a:lnTo>
                    <a:pt x="810" y="1042"/>
                  </a:lnTo>
                  <a:lnTo>
                    <a:pt x="810" y="926"/>
                  </a:lnTo>
                  <a:lnTo>
                    <a:pt x="694" y="810"/>
                  </a:lnTo>
                  <a:lnTo>
                    <a:pt x="463" y="694"/>
                  </a:lnTo>
                  <a:lnTo>
                    <a:pt x="347" y="579"/>
                  </a:lnTo>
                  <a:lnTo>
                    <a:pt x="231" y="463"/>
                  </a:lnTo>
                  <a:lnTo>
                    <a:pt x="116" y="347"/>
                  </a:lnTo>
                  <a:lnTo>
                    <a:pt x="0" y="231"/>
                  </a:lnTo>
                  <a:lnTo>
                    <a:pt x="0" y="0"/>
                  </a:lnTo>
                  <a:lnTo>
                    <a:pt x="0" y="0"/>
                  </a:lnTo>
                  <a:lnTo>
                    <a:pt x="116" y="0"/>
                  </a:lnTo>
                  <a:lnTo>
                    <a:pt x="347" y="0"/>
                  </a:lnTo>
                  <a:lnTo>
                    <a:pt x="579" y="115"/>
                  </a:lnTo>
                  <a:lnTo>
                    <a:pt x="694" y="231"/>
                  </a:lnTo>
                  <a:lnTo>
                    <a:pt x="810" y="347"/>
                  </a:lnTo>
                  <a:lnTo>
                    <a:pt x="926" y="579"/>
                  </a:lnTo>
                  <a:lnTo>
                    <a:pt x="1042" y="810"/>
                  </a:lnTo>
                  <a:lnTo>
                    <a:pt x="1157" y="926"/>
                  </a:lnTo>
                  <a:lnTo>
                    <a:pt x="1157" y="926"/>
                  </a:lnTo>
                  <a:lnTo>
                    <a:pt x="1157" y="926"/>
                  </a:lnTo>
                  <a:lnTo>
                    <a:pt x="1157" y="926"/>
                  </a:lnTo>
                  <a:lnTo>
                    <a:pt x="1157"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2347920" y="3613680"/>
              <a:ext cx="28800" cy="111600"/>
            </a:xfrm>
            <a:custGeom>
              <a:avLst/>
              <a:gdLst/>
              <a:ahLst/>
              <a:rect l="l" t="t" r="r" b="b"/>
              <a:pathLst>
                <a:path w="810" h="2085">
                  <a:moveTo>
                    <a:pt x="810" y="579"/>
                  </a:moveTo>
                  <a:lnTo>
                    <a:pt x="810" y="811"/>
                  </a:lnTo>
                  <a:lnTo>
                    <a:pt x="810" y="1042"/>
                  </a:lnTo>
                  <a:lnTo>
                    <a:pt x="810" y="1158"/>
                  </a:lnTo>
                  <a:lnTo>
                    <a:pt x="810" y="1390"/>
                  </a:lnTo>
                  <a:lnTo>
                    <a:pt x="695" y="1621"/>
                  </a:lnTo>
                  <a:lnTo>
                    <a:pt x="695" y="1737"/>
                  </a:lnTo>
                  <a:lnTo>
                    <a:pt x="579" y="1969"/>
                  </a:lnTo>
                  <a:lnTo>
                    <a:pt x="347" y="2085"/>
                  </a:lnTo>
                  <a:lnTo>
                    <a:pt x="347" y="2085"/>
                  </a:lnTo>
                  <a:lnTo>
                    <a:pt x="463" y="1969"/>
                  </a:lnTo>
                  <a:lnTo>
                    <a:pt x="463" y="1737"/>
                  </a:lnTo>
                  <a:lnTo>
                    <a:pt x="579" y="1506"/>
                  </a:lnTo>
                  <a:lnTo>
                    <a:pt x="579" y="1274"/>
                  </a:lnTo>
                  <a:lnTo>
                    <a:pt x="579" y="1042"/>
                  </a:lnTo>
                  <a:lnTo>
                    <a:pt x="579" y="811"/>
                  </a:lnTo>
                  <a:lnTo>
                    <a:pt x="579" y="579"/>
                  </a:lnTo>
                  <a:lnTo>
                    <a:pt x="347" y="347"/>
                  </a:lnTo>
                  <a:lnTo>
                    <a:pt x="347" y="347"/>
                  </a:lnTo>
                  <a:lnTo>
                    <a:pt x="0" y="0"/>
                  </a:lnTo>
                  <a:lnTo>
                    <a:pt x="0" y="0"/>
                  </a:lnTo>
                  <a:lnTo>
                    <a:pt x="232" y="0"/>
                  </a:lnTo>
                  <a:lnTo>
                    <a:pt x="347" y="0"/>
                  </a:lnTo>
                  <a:lnTo>
                    <a:pt x="463" y="116"/>
                  </a:lnTo>
                  <a:lnTo>
                    <a:pt x="463" y="116"/>
                  </a:lnTo>
                  <a:lnTo>
                    <a:pt x="579" y="232"/>
                  </a:lnTo>
                  <a:lnTo>
                    <a:pt x="695" y="347"/>
                  </a:lnTo>
                  <a:lnTo>
                    <a:pt x="695" y="463"/>
                  </a:lnTo>
                  <a:lnTo>
                    <a:pt x="810" y="579"/>
                  </a:lnTo>
                  <a:lnTo>
                    <a:pt x="810" y="579"/>
                  </a:lnTo>
                  <a:lnTo>
                    <a:pt x="810" y="579"/>
                  </a:lnTo>
                  <a:lnTo>
                    <a:pt x="810" y="579"/>
                  </a:lnTo>
                  <a:lnTo>
                    <a:pt x="810"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2389320" y="3626280"/>
              <a:ext cx="37080" cy="118080"/>
            </a:xfrm>
            <a:custGeom>
              <a:avLst/>
              <a:gdLst/>
              <a:ahLst/>
              <a:rect l="l" t="t" r="r" b="b"/>
              <a:pathLst>
                <a:path w="1042" h="2200">
                  <a:moveTo>
                    <a:pt x="1042" y="694"/>
                  </a:moveTo>
                  <a:lnTo>
                    <a:pt x="1042" y="926"/>
                  </a:lnTo>
                  <a:lnTo>
                    <a:pt x="1042" y="1042"/>
                  </a:lnTo>
                  <a:lnTo>
                    <a:pt x="1042" y="1274"/>
                  </a:lnTo>
                  <a:lnTo>
                    <a:pt x="926" y="1505"/>
                  </a:lnTo>
                  <a:lnTo>
                    <a:pt x="926" y="1737"/>
                  </a:lnTo>
                  <a:lnTo>
                    <a:pt x="811" y="1853"/>
                  </a:lnTo>
                  <a:lnTo>
                    <a:pt x="579" y="2084"/>
                  </a:lnTo>
                  <a:lnTo>
                    <a:pt x="463" y="2200"/>
                  </a:lnTo>
                  <a:lnTo>
                    <a:pt x="463" y="2200"/>
                  </a:lnTo>
                  <a:lnTo>
                    <a:pt x="116" y="2200"/>
                  </a:lnTo>
                  <a:lnTo>
                    <a:pt x="116" y="2200"/>
                  </a:lnTo>
                  <a:lnTo>
                    <a:pt x="232" y="1968"/>
                  </a:lnTo>
                  <a:lnTo>
                    <a:pt x="348" y="1737"/>
                  </a:lnTo>
                  <a:lnTo>
                    <a:pt x="463" y="1621"/>
                  </a:lnTo>
                  <a:lnTo>
                    <a:pt x="463" y="1389"/>
                  </a:lnTo>
                  <a:lnTo>
                    <a:pt x="579" y="1274"/>
                  </a:lnTo>
                  <a:lnTo>
                    <a:pt x="579" y="1042"/>
                  </a:lnTo>
                  <a:lnTo>
                    <a:pt x="579" y="810"/>
                  </a:lnTo>
                  <a:lnTo>
                    <a:pt x="463" y="579"/>
                  </a:lnTo>
                  <a:lnTo>
                    <a:pt x="463" y="579"/>
                  </a:lnTo>
                  <a:lnTo>
                    <a:pt x="0" y="0"/>
                  </a:lnTo>
                  <a:lnTo>
                    <a:pt x="0" y="0"/>
                  </a:lnTo>
                  <a:lnTo>
                    <a:pt x="116" y="0"/>
                  </a:lnTo>
                  <a:lnTo>
                    <a:pt x="348" y="0"/>
                  </a:lnTo>
                  <a:lnTo>
                    <a:pt x="463" y="0"/>
                  </a:lnTo>
                  <a:lnTo>
                    <a:pt x="579" y="115"/>
                  </a:lnTo>
                  <a:lnTo>
                    <a:pt x="811" y="231"/>
                  </a:lnTo>
                  <a:lnTo>
                    <a:pt x="926" y="347"/>
                  </a:lnTo>
                  <a:lnTo>
                    <a:pt x="1042" y="579"/>
                  </a:lnTo>
                  <a:lnTo>
                    <a:pt x="1042" y="694"/>
                  </a:lnTo>
                  <a:lnTo>
                    <a:pt x="1042" y="694"/>
                  </a:lnTo>
                  <a:lnTo>
                    <a:pt x="1042" y="694"/>
                  </a:lnTo>
                  <a:lnTo>
                    <a:pt x="1042" y="694"/>
                  </a:lnTo>
                  <a:lnTo>
                    <a:pt x="1042" y="6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1797480" y="3769200"/>
              <a:ext cx="223200" cy="397800"/>
            </a:xfrm>
            <a:custGeom>
              <a:avLst/>
              <a:gdLst/>
              <a:ahLst/>
              <a:rect l="l" t="t" r="r" b="b"/>
              <a:pathLst>
                <a:path w="6249" h="7412">
                  <a:moveTo>
                    <a:pt x="5439" y="1969"/>
                  </a:moveTo>
                  <a:lnTo>
                    <a:pt x="5439" y="2085"/>
                  </a:lnTo>
                  <a:lnTo>
                    <a:pt x="5555" y="2085"/>
                  </a:lnTo>
                  <a:lnTo>
                    <a:pt x="5555" y="2085"/>
                  </a:lnTo>
                  <a:lnTo>
                    <a:pt x="5671" y="2085"/>
                  </a:lnTo>
                  <a:lnTo>
                    <a:pt x="5671" y="2085"/>
                  </a:lnTo>
                  <a:lnTo>
                    <a:pt x="5786" y="2085"/>
                  </a:lnTo>
                  <a:lnTo>
                    <a:pt x="5902" y="2085"/>
                  </a:lnTo>
                  <a:lnTo>
                    <a:pt x="5902" y="2085"/>
                  </a:lnTo>
                  <a:lnTo>
                    <a:pt x="5902" y="2085"/>
                  </a:lnTo>
                  <a:lnTo>
                    <a:pt x="6018" y="1969"/>
                  </a:lnTo>
                  <a:lnTo>
                    <a:pt x="6018" y="1969"/>
                  </a:lnTo>
                  <a:lnTo>
                    <a:pt x="6018" y="1969"/>
                  </a:lnTo>
                  <a:lnTo>
                    <a:pt x="6018" y="1969"/>
                  </a:lnTo>
                  <a:lnTo>
                    <a:pt x="6018" y="1853"/>
                  </a:lnTo>
                  <a:lnTo>
                    <a:pt x="6018" y="1853"/>
                  </a:lnTo>
                  <a:lnTo>
                    <a:pt x="6134" y="1737"/>
                  </a:lnTo>
                  <a:lnTo>
                    <a:pt x="6134" y="1737"/>
                  </a:lnTo>
                  <a:lnTo>
                    <a:pt x="6134" y="1737"/>
                  </a:lnTo>
                  <a:lnTo>
                    <a:pt x="6249" y="1737"/>
                  </a:lnTo>
                  <a:lnTo>
                    <a:pt x="6249" y="1737"/>
                  </a:lnTo>
                  <a:lnTo>
                    <a:pt x="6249" y="1853"/>
                  </a:lnTo>
                  <a:lnTo>
                    <a:pt x="6249" y="1969"/>
                  </a:lnTo>
                  <a:lnTo>
                    <a:pt x="6249" y="2085"/>
                  </a:lnTo>
                  <a:lnTo>
                    <a:pt x="6134" y="2201"/>
                  </a:lnTo>
                  <a:lnTo>
                    <a:pt x="6018" y="2316"/>
                  </a:lnTo>
                  <a:lnTo>
                    <a:pt x="5902" y="2432"/>
                  </a:lnTo>
                  <a:lnTo>
                    <a:pt x="5786" y="2548"/>
                  </a:lnTo>
                  <a:lnTo>
                    <a:pt x="5671" y="2548"/>
                  </a:lnTo>
                  <a:lnTo>
                    <a:pt x="5671" y="2548"/>
                  </a:lnTo>
                  <a:lnTo>
                    <a:pt x="5671" y="2548"/>
                  </a:lnTo>
                  <a:lnTo>
                    <a:pt x="5671" y="2548"/>
                  </a:lnTo>
                  <a:lnTo>
                    <a:pt x="5671" y="2548"/>
                  </a:lnTo>
                  <a:lnTo>
                    <a:pt x="5555" y="2548"/>
                  </a:lnTo>
                  <a:lnTo>
                    <a:pt x="5555" y="2548"/>
                  </a:lnTo>
                  <a:lnTo>
                    <a:pt x="5555" y="2548"/>
                  </a:lnTo>
                  <a:lnTo>
                    <a:pt x="5555" y="2548"/>
                  </a:lnTo>
                  <a:lnTo>
                    <a:pt x="5555" y="2548"/>
                  </a:lnTo>
                  <a:lnTo>
                    <a:pt x="5555" y="2548"/>
                  </a:lnTo>
                  <a:lnTo>
                    <a:pt x="5555" y="3127"/>
                  </a:lnTo>
                  <a:lnTo>
                    <a:pt x="5555" y="3822"/>
                  </a:lnTo>
                  <a:lnTo>
                    <a:pt x="5555" y="4401"/>
                  </a:lnTo>
                  <a:lnTo>
                    <a:pt x="5323" y="4980"/>
                  </a:lnTo>
                  <a:lnTo>
                    <a:pt x="5208" y="5675"/>
                  </a:lnTo>
                  <a:lnTo>
                    <a:pt x="4861" y="6138"/>
                  </a:lnTo>
                  <a:lnTo>
                    <a:pt x="4398" y="6601"/>
                  </a:lnTo>
                  <a:lnTo>
                    <a:pt x="3935" y="7065"/>
                  </a:lnTo>
                  <a:lnTo>
                    <a:pt x="3935" y="7065"/>
                  </a:lnTo>
                  <a:lnTo>
                    <a:pt x="3703" y="7180"/>
                  </a:lnTo>
                  <a:lnTo>
                    <a:pt x="3356" y="7296"/>
                  </a:lnTo>
                  <a:lnTo>
                    <a:pt x="3125" y="7412"/>
                  </a:lnTo>
                  <a:lnTo>
                    <a:pt x="2893" y="7412"/>
                  </a:lnTo>
                  <a:lnTo>
                    <a:pt x="2546" y="7412"/>
                  </a:lnTo>
                  <a:lnTo>
                    <a:pt x="2199" y="7412"/>
                  </a:lnTo>
                  <a:lnTo>
                    <a:pt x="1967" y="7296"/>
                  </a:lnTo>
                  <a:lnTo>
                    <a:pt x="1620" y="7296"/>
                  </a:lnTo>
                  <a:lnTo>
                    <a:pt x="1620" y="7296"/>
                  </a:lnTo>
                  <a:lnTo>
                    <a:pt x="1389" y="7180"/>
                  </a:lnTo>
                  <a:lnTo>
                    <a:pt x="1157" y="7065"/>
                  </a:lnTo>
                  <a:lnTo>
                    <a:pt x="926" y="6949"/>
                  </a:lnTo>
                  <a:lnTo>
                    <a:pt x="694" y="6717"/>
                  </a:lnTo>
                  <a:lnTo>
                    <a:pt x="578" y="6601"/>
                  </a:lnTo>
                  <a:lnTo>
                    <a:pt x="347" y="6370"/>
                  </a:lnTo>
                  <a:lnTo>
                    <a:pt x="231" y="6138"/>
                  </a:lnTo>
                  <a:lnTo>
                    <a:pt x="116" y="5907"/>
                  </a:lnTo>
                  <a:lnTo>
                    <a:pt x="116" y="5907"/>
                  </a:lnTo>
                  <a:lnTo>
                    <a:pt x="0" y="5559"/>
                  </a:lnTo>
                  <a:lnTo>
                    <a:pt x="0" y="5096"/>
                  </a:lnTo>
                  <a:lnTo>
                    <a:pt x="0" y="4748"/>
                  </a:lnTo>
                  <a:lnTo>
                    <a:pt x="0" y="4285"/>
                  </a:lnTo>
                  <a:lnTo>
                    <a:pt x="0" y="3938"/>
                  </a:lnTo>
                  <a:lnTo>
                    <a:pt x="116" y="3590"/>
                  </a:lnTo>
                  <a:lnTo>
                    <a:pt x="347" y="3243"/>
                  </a:lnTo>
                  <a:lnTo>
                    <a:pt x="578" y="2895"/>
                  </a:lnTo>
                  <a:lnTo>
                    <a:pt x="578" y="2895"/>
                  </a:lnTo>
                  <a:lnTo>
                    <a:pt x="926" y="2432"/>
                  </a:lnTo>
                  <a:lnTo>
                    <a:pt x="1273" y="2085"/>
                  </a:lnTo>
                  <a:lnTo>
                    <a:pt x="1736" y="1853"/>
                  </a:lnTo>
                  <a:lnTo>
                    <a:pt x="2083" y="1622"/>
                  </a:lnTo>
                  <a:lnTo>
                    <a:pt x="2546" y="1390"/>
                  </a:lnTo>
                  <a:lnTo>
                    <a:pt x="3009" y="1274"/>
                  </a:lnTo>
                  <a:lnTo>
                    <a:pt x="3587" y="1158"/>
                  </a:lnTo>
                  <a:lnTo>
                    <a:pt x="4050" y="1158"/>
                  </a:lnTo>
                  <a:lnTo>
                    <a:pt x="4050" y="1158"/>
                  </a:lnTo>
                  <a:lnTo>
                    <a:pt x="3587" y="927"/>
                  </a:lnTo>
                  <a:lnTo>
                    <a:pt x="3240" y="811"/>
                  </a:lnTo>
                  <a:lnTo>
                    <a:pt x="2777" y="579"/>
                  </a:lnTo>
                  <a:lnTo>
                    <a:pt x="2314" y="463"/>
                  </a:lnTo>
                  <a:lnTo>
                    <a:pt x="1851" y="463"/>
                  </a:lnTo>
                  <a:lnTo>
                    <a:pt x="1389" y="463"/>
                  </a:lnTo>
                  <a:lnTo>
                    <a:pt x="926" y="579"/>
                  </a:lnTo>
                  <a:lnTo>
                    <a:pt x="578" y="695"/>
                  </a:lnTo>
                  <a:lnTo>
                    <a:pt x="578" y="695"/>
                  </a:lnTo>
                  <a:lnTo>
                    <a:pt x="578" y="463"/>
                  </a:lnTo>
                  <a:lnTo>
                    <a:pt x="694" y="348"/>
                  </a:lnTo>
                  <a:lnTo>
                    <a:pt x="926" y="232"/>
                  </a:lnTo>
                  <a:lnTo>
                    <a:pt x="1041" y="116"/>
                  </a:lnTo>
                  <a:lnTo>
                    <a:pt x="1273" y="116"/>
                  </a:lnTo>
                  <a:lnTo>
                    <a:pt x="1504" y="0"/>
                  </a:lnTo>
                  <a:lnTo>
                    <a:pt x="1620" y="0"/>
                  </a:lnTo>
                  <a:lnTo>
                    <a:pt x="1851" y="0"/>
                  </a:lnTo>
                  <a:lnTo>
                    <a:pt x="1851" y="0"/>
                  </a:lnTo>
                  <a:lnTo>
                    <a:pt x="2314" y="116"/>
                  </a:lnTo>
                  <a:lnTo>
                    <a:pt x="2777" y="232"/>
                  </a:lnTo>
                  <a:lnTo>
                    <a:pt x="3356" y="463"/>
                  </a:lnTo>
                  <a:lnTo>
                    <a:pt x="3819" y="579"/>
                  </a:lnTo>
                  <a:lnTo>
                    <a:pt x="4282" y="811"/>
                  </a:lnTo>
                  <a:lnTo>
                    <a:pt x="4745" y="1043"/>
                  </a:lnTo>
                  <a:lnTo>
                    <a:pt x="5092" y="1506"/>
                  </a:lnTo>
                  <a:lnTo>
                    <a:pt x="5439" y="1969"/>
                  </a:lnTo>
                  <a:lnTo>
                    <a:pt x="5439" y="1969"/>
                  </a:lnTo>
                  <a:lnTo>
                    <a:pt x="5439" y="1969"/>
                  </a:lnTo>
                  <a:lnTo>
                    <a:pt x="5439" y="1969"/>
                  </a:lnTo>
                  <a:lnTo>
                    <a:pt x="5439" y="1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2029320" y="3825000"/>
              <a:ext cx="186120" cy="410040"/>
            </a:xfrm>
            <a:custGeom>
              <a:avLst/>
              <a:gdLst/>
              <a:ahLst/>
              <a:rect l="l" t="t" r="r" b="b"/>
              <a:pathLst>
                <a:path w="5208" h="7643">
                  <a:moveTo>
                    <a:pt x="4976" y="347"/>
                  </a:moveTo>
                  <a:lnTo>
                    <a:pt x="4976" y="347"/>
                  </a:lnTo>
                  <a:lnTo>
                    <a:pt x="4861" y="347"/>
                  </a:lnTo>
                  <a:lnTo>
                    <a:pt x="4745" y="347"/>
                  </a:lnTo>
                  <a:lnTo>
                    <a:pt x="4629" y="347"/>
                  </a:lnTo>
                  <a:lnTo>
                    <a:pt x="4513" y="347"/>
                  </a:lnTo>
                  <a:lnTo>
                    <a:pt x="4398" y="347"/>
                  </a:lnTo>
                  <a:lnTo>
                    <a:pt x="4282" y="231"/>
                  </a:lnTo>
                  <a:lnTo>
                    <a:pt x="4166" y="347"/>
                  </a:lnTo>
                  <a:lnTo>
                    <a:pt x="4166" y="347"/>
                  </a:lnTo>
                  <a:lnTo>
                    <a:pt x="4050" y="347"/>
                  </a:lnTo>
                  <a:lnTo>
                    <a:pt x="3819" y="463"/>
                  </a:lnTo>
                  <a:lnTo>
                    <a:pt x="3703" y="463"/>
                  </a:lnTo>
                  <a:lnTo>
                    <a:pt x="3472" y="579"/>
                  </a:lnTo>
                  <a:lnTo>
                    <a:pt x="3356" y="579"/>
                  </a:lnTo>
                  <a:lnTo>
                    <a:pt x="3240" y="694"/>
                  </a:lnTo>
                  <a:lnTo>
                    <a:pt x="3009" y="810"/>
                  </a:lnTo>
                  <a:lnTo>
                    <a:pt x="2893" y="926"/>
                  </a:lnTo>
                  <a:lnTo>
                    <a:pt x="2893" y="926"/>
                  </a:lnTo>
                  <a:lnTo>
                    <a:pt x="3240" y="926"/>
                  </a:lnTo>
                  <a:lnTo>
                    <a:pt x="3472" y="1042"/>
                  </a:lnTo>
                  <a:lnTo>
                    <a:pt x="3819" y="1158"/>
                  </a:lnTo>
                  <a:lnTo>
                    <a:pt x="4050" y="1273"/>
                  </a:lnTo>
                  <a:lnTo>
                    <a:pt x="4282" y="1389"/>
                  </a:lnTo>
                  <a:lnTo>
                    <a:pt x="4513" y="1621"/>
                  </a:lnTo>
                  <a:lnTo>
                    <a:pt x="4745" y="1852"/>
                  </a:lnTo>
                  <a:lnTo>
                    <a:pt x="4976" y="2084"/>
                  </a:lnTo>
                  <a:lnTo>
                    <a:pt x="4976" y="2084"/>
                  </a:lnTo>
                  <a:lnTo>
                    <a:pt x="5092" y="2663"/>
                  </a:lnTo>
                  <a:lnTo>
                    <a:pt x="5208" y="3242"/>
                  </a:lnTo>
                  <a:lnTo>
                    <a:pt x="5208" y="3821"/>
                  </a:lnTo>
                  <a:lnTo>
                    <a:pt x="5092" y="4400"/>
                  </a:lnTo>
                  <a:lnTo>
                    <a:pt x="4976" y="4979"/>
                  </a:lnTo>
                  <a:lnTo>
                    <a:pt x="4745" y="5558"/>
                  </a:lnTo>
                  <a:lnTo>
                    <a:pt x="4513" y="6137"/>
                  </a:lnTo>
                  <a:lnTo>
                    <a:pt x="4166" y="6601"/>
                  </a:lnTo>
                  <a:lnTo>
                    <a:pt x="4166" y="6601"/>
                  </a:lnTo>
                  <a:lnTo>
                    <a:pt x="3819" y="6948"/>
                  </a:lnTo>
                  <a:lnTo>
                    <a:pt x="3472" y="7180"/>
                  </a:lnTo>
                  <a:lnTo>
                    <a:pt x="3125" y="7411"/>
                  </a:lnTo>
                  <a:lnTo>
                    <a:pt x="2662" y="7527"/>
                  </a:lnTo>
                  <a:lnTo>
                    <a:pt x="2199" y="7643"/>
                  </a:lnTo>
                  <a:lnTo>
                    <a:pt x="1736" y="7643"/>
                  </a:lnTo>
                  <a:lnTo>
                    <a:pt x="1273" y="7643"/>
                  </a:lnTo>
                  <a:lnTo>
                    <a:pt x="810" y="7527"/>
                  </a:lnTo>
                  <a:lnTo>
                    <a:pt x="810" y="7527"/>
                  </a:lnTo>
                  <a:lnTo>
                    <a:pt x="463" y="7064"/>
                  </a:lnTo>
                  <a:lnTo>
                    <a:pt x="231" y="6485"/>
                  </a:lnTo>
                  <a:lnTo>
                    <a:pt x="0" y="5906"/>
                  </a:lnTo>
                  <a:lnTo>
                    <a:pt x="0" y="5211"/>
                  </a:lnTo>
                  <a:lnTo>
                    <a:pt x="116" y="4632"/>
                  </a:lnTo>
                  <a:lnTo>
                    <a:pt x="231" y="3937"/>
                  </a:lnTo>
                  <a:lnTo>
                    <a:pt x="347" y="3358"/>
                  </a:lnTo>
                  <a:lnTo>
                    <a:pt x="578" y="2779"/>
                  </a:lnTo>
                  <a:lnTo>
                    <a:pt x="578" y="2779"/>
                  </a:lnTo>
                  <a:lnTo>
                    <a:pt x="578" y="2547"/>
                  </a:lnTo>
                  <a:lnTo>
                    <a:pt x="694" y="2432"/>
                  </a:lnTo>
                  <a:lnTo>
                    <a:pt x="810" y="2316"/>
                  </a:lnTo>
                  <a:lnTo>
                    <a:pt x="810" y="2200"/>
                  </a:lnTo>
                  <a:lnTo>
                    <a:pt x="926" y="1968"/>
                  </a:lnTo>
                  <a:lnTo>
                    <a:pt x="1041" y="1852"/>
                  </a:lnTo>
                  <a:lnTo>
                    <a:pt x="1041" y="1737"/>
                  </a:lnTo>
                  <a:lnTo>
                    <a:pt x="1157" y="1621"/>
                  </a:lnTo>
                  <a:lnTo>
                    <a:pt x="1157" y="1621"/>
                  </a:lnTo>
                  <a:lnTo>
                    <a:pt x="1041" y="1505"/>
                  </a:lnTo>
                  <a:lnTo>
                    <a:pt x="926" y="1505"/>
                  </a:lnTo>
                  <a:lnTo>
                    <a:pt x="926" y="1389"/>
                  </a:lnTo>
                  <a:lnTo>
                    <a:pt x="810" y="1389"/>
                  </a:lnTo>
                  <a:lnTo>
                    <a:pt x="694" y="1389"/>
                  </a:lnTo>
                  <a:lnTo>
                    <a:pt x="694" y="1389"/>
                  </a:lnTo>
                  <a:lnTo>
                    <a:pt x="578" y="1273"/>
                  </a:lnTo>
                  <a:lnTo>
                    <a:pt x="578" y="1273"/>
                  </a:lnTo>
                  <a:lnTo>
                    <a:pt x="578" y="1273"/>
                  </a:lnTo>
                  <a:lnTo>
                    <a:pt x="694" y="1158"/>
                  </a:lnTo>
                  <a:lnTo>
                    <a:pt x="810" y="1158"/>
                  </a:lnTo>
                  <a:lnTo>
                    <a:pt x="926" y="1158"/>
                  </a:lnTo>
                  <a:lnTo>
                    <a:pt x="1041" y="1158"/>
                  </a:lnTo>
                  <a:lnTo>
                    <a:pt x="1157" y="1158"/>
                  </a:lnTo>
                  <a:lnTo>
                    <a:pt x="1389" y="1158"/>
                  </a:lnTo>
                  <a:lnTo>
                    <a:pt x="1504" y="1158"/>
                  </a:lnTo>
                  <a:lnTo>
                    <a:pt x="1620" y="1158"/>
                  </a:lnTo>
                  <a:lnTo>
                    <a:pt x="1620" y="1158"/>
                  </a:lnTo>
                  <a:lnTo>
                    <a:pt x="1967" y="926"/>
                  </a:lnTo>
                  <a:lnTo>
                    <a:pt x="2430" y="694"/>
                  </a:lnTo>
                  <a:lnTo>
                    <a:pt x="2777" y="347"/>
                  </a:lnTo>
                  <a:lnTo>
                    <a:pt x="3240" y="115"/>
                  </a:lnTo>
                  <a:lnTo>
                    <a:pt x="3703" y="0"/>
                  </a:lnTo>
                  <a:lnTo>
                    <a:pt x="4166" y="0"/>
                  </a:lnTo>
                  <a:lnTo>
                    <a:pt x="4629" y="0"/>
                  </a:lnTo>
                  <a:lnTo>
                    <a:pt x="4976" y="347"/>
                  </a:lnTo>
                  <a:lnTo>
                    <a:pt x="4976" y="347"/>
                  </a:lnTo>
                  <a:lnTo>
                    <a:pt x="4976" y="347"/>
                  </a:lnTo>
                  <a:lnTo>
                    <a:pt x="4976" y="347"/>
                  </a:lnTo>
                  <a:lnTo>
                    <a:pt x="4976"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1810080" y="3856320"/>
              <a:ext cx="173520" cy="285840"/>
            </a:xfrm>
            <a:custGeom>
              <a:avLst/>
              <a:gdLst/>
              <a:ahLst/>
              <a:rect l="l" t="t" r="r" b="b"/>
              <a:pathLst>
                <a:path w="4861" h="5327">
                  <a:moveTo>
                    <a:pt x="4398" y="463"/>
                  </a:moveTo>
                  <a:lnTo>
                    <a:pt x="4629" y="926"/>
                  </a:lnTo>
                  <a:lnTo>
                    <a:pt x="4745" y="1389"/>
                  </a:lnTo>
                  <a:lnTo>
                    <a:pt x="4745" y="1968"/>
                  </a:lnTo>
                  <a:lnTo>
                    <a:pt x="4861" y="2432"/>
                  </a:lnTo>
                  <a:lnTo>
                    <a:pt x="4745" y="2895"/>
                  </a:lnTo>
                  <a:lnTo>
                    <a:pt x="4629" y="3474"/>
                  </a:lnTo>
                  <a:lnTo>
                    <a:pt x="4398" y="3937"/>
                  </a:lnTo>
                  <a:lnTo>
                    <a:pt x="4051" y="4285"/>
                  </a:lnTo>
                  <a:lnTo>
                    <a:pt x="4051" y="4285"/>
                  </a:lnTo>
                  <a:lnTo>
                    <a:pt x="3935" y="4516"/>
                  </a:lnTo>
                  <a:lnTo>
                    <a:pt x="3819" y="4632"/>
                  </a:lnTo>
                  <a:lnTo>
                    <a:pt x="3588" y="4864"/>
                  </a:lnTo>
                  <a:lnTo>
                    <a:pt x="3356" y="4979"/>
                  </a:lnTo>
                  <a:lnTo>
                    <a:pt x="3125" y="5095"/>
                  </a:lnTo>
                  <a:lnTo>
                    <a:pt x="3009" y="5211"/>
                  </a:lnTo>
                  <a:lnTo>
                    <a:pt x="2778" y="5327"/>
                  </a:lnTo>
                  <a:lnTo>
                    <a:pt x="2430" y="5327"/>
                  </a:lnTo>
                  <a:lnTo>
                    <a:pt x="2430" y="5327"/>
                  </a:lnTo>
                  <a:lnTo>
                    <a:pt x="2083" y="5327"/>
                  </a:lnTo>
                  <a:lnTo>
                    <a:pt x="1736" y="5211"/>
                  </a:lnTo>
                  <a:lnTo>
                    <a:pt x="1389" y="5211"/>
                  </a:lnTo>
                  <a:lnTo>
                    <a:pt x="1157" y="5095"/>
                  </a:lnTo>
                  <a:lnTo>
                    <a:pt x="810" y="4864"/>
                  </a:lnTo>
                  <a:lnTo>
                    <a:pt x="579" y="4748"/>
                  </a:lnTo>
                  <a:lnTo>
                    <a:pt x="347" y="4400"/>
                  </a:lnTo>
                  <a:lnTo>
                    <a:pt x="231" y="4053"/>
                  </a:lnTo>
                  <a:lnTo>
                    <a:pt x="231" y="4053"/>
                  </a:lnTo>
                  <a:lnTo>
                    <a:pt x="116" y="3590"/>
                  </a:lnTo>
                  <a:lnTo>
                    <a:pt x="0" y="3242"/>
                  </a:lnTo>
                  <a:lnTo>
                    <a:pt x="116" y="2779"/>
                  </a:lnTo>
                  <a:lnTo>
                    <a:pt x="231" y="2316"/>
                  </a:lnTo>
                  <a:lnTo>
                    <a:pt x="347" y="1853"/>
                  </a:lnTo>
                  <a:lnTo>
                    <a:pt x="579" y="1505"/>
                  </a:lnTo>
                  <a:lnTo>
                    <a:pt x="810" y="1158"/>
                  </a:lnTo>
                  <a:lnTo>
                    <a:pt x="1157" y="926"/>
                  </a:lnTo>
                  <a:lnTo>
                    <a:pt x="1157" y="926"/>
                  </a:lnTo>
                  <a:lnTo>
                    <a:pt x="1504" y="579"/>
                  </a:lnTo>
                  <a:lnTo>
                    <a:pt x="1852" y="463"/>
                  </a:lnTo>
                  <a:lnTo>
                    <a:pt x="2199" y="347"/>
                  </a:lnTo>
                  <a:lnTo>
                    <a:pt x="2546" y="231"/>
                  </a:lnTo>
                  <a:lnTo>
                    <a:pt x="2893" y="115"/>
                  </a:lnTo>
                  <a:lnTo>
                    <a:pt x="3240" y="115"/>
                  </a:lnTo>
                  <a:lnTo>
                    <a:pt x="3703" y="115"/>
                  </a:lnTo>
                  <a:lnTo>
                    <a:pt x="4051" y="0"/>
                  </a:lnTo>
                  <a:lnTo>
                    <a:pt x="4051" y="0"/>
                  </a:lnTo>
                  <a:lnTo>
                    <a:pt x="4398" y="463"/>
                  </a:lnTo>
                  <a:lnTo>
                    <a:pt x="4398" y="463"/>
                  </a:lnTo>
                  <a:lnTo>
                    <a:pt x="4398" y="463"/>
                  </a:lnTo>
                  <a:lnTo>
                    <a:pt x="439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1876320" y="3868560"/>
              <a:ext cx="86760" cy="124200"/>
            </a:xfrm>
            <a:custGeom>
              <a:avLst/>
              <a:gdLst/>
              <a:ahLst/>
              <a:rect l="l" t="t" r="r" b="b"/>
              <a:pathLst>
                <a:path w="2430" h="2316">
                  <a:moveTo>
                    <a:pt x="2314" y="579"/>
                  </a:moveTo>
                  <a:lnTo>
                    <a:pt x="2430" y="811"/>
                  </a:lnTo>
                  <a:lnTo>
                    <a:pt x="2430" y="1042"/>
                  </a:lnTo>
                  <a:lnTo>
                    <a:pt x="2430" y="1274"/>
                  </a:lnTo>
                  <a:lnTo>
                    <a:pt x="2314" y="1506"/>
                  </a:lnTo>
                  <a:lnTo>
                    <a:pt x="2199" y="1737"/>
                  </a:lnTo>
                  <a:lnTo>
                    <a:pt x="2083" y="1969"/>
                  </a:lnTo>
                  <a:lnTo>
                    <a:pt x="1851" y="2085"/>
                  </a:lnTo>
                  <a:lnTo>
                    <a:pt x="1620" y="2201"/>
                  </a:lnTo>
                  <a:lnTo>
                    <a:pt x="1620" y="2201"/>
                  </a:lnTo>
                  <a:lnTo>
                    <a:pt x="1504" y="2201"/>
                  </a:lnTo>
                  <a:lnTo>
                    <a:pt x="1388" y="2316"/>
                  </a:lnTo>
                  <a:lnTo>
                    <a:pt x="1157" y="2316"/>
                  </a:lnTo>
                  <a:lnTo>
                    <a:pt x="1041" y="2201"/>
                  </a:lnTo>
                  <a:lnTo>
                    <a:pt x="926" y="2201"/>
                  </a:lnTo>
                  <a:lnTo>
                    <a:pt x="810" y="2201"/>
                  </a:lnTo>
                  <a:lnTo>
                    <a:pt x="578" y="2085"/>
                  </a:lnTo>
                  <a:lnTo>
                    <a:pt x="463" y="2085"/>
                  </a:lnTo>
                  <a:lnTo>
                    <a:pt x="463" y="2085"/>
                  </a:lnTo>
                  <a:lnTo>
                    <a:pt x="347" y="1969"/>
                  </a:lnTo>
                  <a:lnTo>
                    <a:pt x="231" y="1737"/>
                  </a:lnTo>
                  <a:lnTo>
                    <a:pt x="115" y="1622"/>
                  </a:lnTo>
                  <a:lnTo>
                    <a:pt x="115" y="1390"/>
                  </a:lnTo>
                  <a:lnTo>
                    <a:pt x="0" y="1274"/>
                  </a:lnTo>
                  <a:lnTo>
                    <a:pt x="0" y="1042"/>
                  </a:lnTo>
                  <a:lnTo>
                    <a:pt x="115" y="927"/>
                  </a:lnTo>
                  <a:lnTo>
                    <a:pt x="115" y="695"/>
                  </a:lnTo>
                  <a:lnTo>
                    <a:pt x="115" y="695"/>
                  </a:lnTo>
                  <a:lnTo>
                    <a:pt x="231" y="463"/>
                  </a:lnTo>
                  <a:lnTo>
                    <a:pt x="578" y="232"/>
                  </a:lnTo>
                  <a:lnTo>
                    <a:pt x="810" y="116"/>
                  </a:lnTo>
                  <a:lnTo>
                    <a:pt x="1273" y="0"/>
                  </a:lnTo>
                  <a:lnTo>
                    <a:pt x="1620" y="0"/>
                  </a:lnTo>
                  <a:lnTo>
                    <a:pt x="1851" y="116"/>
                  </a:lnTo>
                  <a:lnTo>
                    <a:pt x="2199" y="232"/>
                  </a:lnTo>
                  <a:lnTo>
                    <a:pt x="2314" y="579"/>
                  </a:lnTo>
                  <a:lnTo>
                    <a:pt x="2314" y="579"/>
                  </a:lnTo>
                  <a:lnTo>
                    <a:pt x="2314" y="579"/>
                  </a:lnTo>
                  <a:lnTo>
                    <a:pt x="2314" y="579"/>
                  </a:lnTo>
                  <a:lnTo>
                    <a:pt x="23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2045880" y="3899520"/>
              <a:ext cx="153000" cy="310680"/>
            </a:xfrm>
            <a:custGeom>
              <a:avLst/>
              <a:gdLst/>
              <a:ahLst/>
              <a:rect l="l" t="t" r="r" b="b"/>
              <a:pathLst>
                <a:path w="4282" h="5791">
                  <a:moveTo>
                    <a:pt x="4166" y="927"/>
                  </a:moveTo>
                  <a:lnTo>
                    <a:pt x="4282" y="1506"/>
                  </a:lnTo>
                  <a:lnTo>
                    <a:pt x="4282" y="1969"/>
                  </a:lnTo>
                  <a:lnTo>
                    <a:pt x="4282" y="2432"/>
                  </a:lnTo>
                  <a:lnTo>
                    <a:pt x="4166" y="2895"/>
                  </a:lnTo>
                  <a:lnTo>
                    <a:pt x="4050" y="3359"/>
                  </a:lnTo>
                  <a:lnTo>
                    <a:pt x="3935" y="3822"/>
                  </a:lnTo>
                  <a:lnTo>
                    <a:pt x="3703" y="4285"/>
                  </a:lnTo>
                  <a:lnTo>
                    <a:pt x="3587" y="4633"/>
                  </a:lnTo>
                  <a:lnTo>
                    <a:pt x="3587" y="4633"/>
                  </a:lnTo>
                  <a:lnTo>
                    <a:pt x="3240" y="4980"/>
                  </a:lnTo>
                  <a:lnTo>
                    <a:pt x="3009" y="5327"/>
                  </a:lnTo>
                  <a:lnTo>
                    <a:pt x="2662" y="5443"/>
                  </a:lnTo>
                  <a:lnTo>
                    <a:pt x="2199" y="5675"/>
                  </a:lnTo>
                  <a:lnTo>
                    <a:pt x="1851" y="5791"/>
                  </a:lnTo>
                  <a:lnTo>
                    <a:pt x="1504" y="5791"/>
                  </a:lnTo>
                  <a:lnTo>
                    <a:pt x="1041" y="5791"/>
                  </a:lnTo>
                  <a:lnTo>
                    <a:pt x="578" y="5791"/>
                  </a:lnTo>
                  <a:lnTo>
                    <a:pt x="578" y="5791"/>
                  </a:lnTo>
                  <a:lnTo>
                    <a:pt x="231" y="5096"/>
                  </a:lnTo>
                  <a:lnTo>
                    <a:pt x="0" y="4401"/>
                  </a:lnTo>
                  <a:lnTo>
                    <a:pt x="0" y="3706"/>
                  </a:lnTo>
                  <a:lnTo>
                    <a:pt x="0" y="3011"/>
                  </a:lnTo>
                  <a:lnTo>
                    <a:pt x="231" y="2316"/>
                  </a:lnTo>
                  <a:lnTo>
                    <a:pt x="463" y="1622"/>
                  </a:lnTo>
                  <a:lnTo>
                    <a:pt x="810" y="927"/>
                  </a:lnTo>
                  <a:lnTo>
                    <a:pt x="1157" y="348"/>
                  </a:lnTo>
                  <a:lnTo>
                    <a:pt x="1157" y="348"/>
                  </a:lnTo>
                  <a:lnTo>
                    <a:pt x="1389" y="232"/>
                  </a:lnTo>
                  <a:lnTo>
                    <a:pt x="1620" y="116"/>
                  </a:lnTo>
                  <a:lnTo>
                    <a:pt x="1851" y="0"/>
                  </a:lnTo>
                  <a:lnTo>
                    <a:pt x="2083" y="0"/>
                  </a:lnTo>
                  <a:lnTo>
                    <a:pt x="2314" y="0"/>
                  </a:lnTo>
                  <a:lnTo>
                    <a:pt x="2662" y="0"/>
                  </a:lnTo>
                  <a:lnTo>
                    <a:pt x="2893" y="116"/>
                  </a:lnTo>
                  <a:lnTo>
                    <a:pt x="3124" y="116"/>
                  </a:lnTo>
                  <a:lnTo>
                    <a:pt x="3124" y="116"/>
                  </a:lnTo>
                  <a:lnTo>
                    <a:pt x="3240" y="232"/>
                  </a:lnTo>
                  <a:lnTo>
                    <a:pt x="3472" y="232"/>
                  </a:lnTo>
                  <a:lnTo>
                    <a:pt x="3587" y="348"/>
                  </a:lnTo>
                  <a:lnTo>
                    <a:pt x="3703" y="463"/>
                  </a:lnTo>
                  <a:lnTo>
                    <a:pt x="3819" y="579"/>
                  </a:lnTo>
                  <a:lnTo>
                    <a:pt x="3935" y="695"/>
                  </a:lnTo>
                  <a:lnTo>
                    <a:pt x="4050" y="811"/>
                  </a:lnTo>
                  <a:lnTo>
                    <a:pt x="4166" y="927"/>
                  </a:lnTo>
                  <a:lnTo>
                    <a:pt x="4166" y="927"/>
                  </a:lnTo>
                  <a:lnTo>
                    <a:pt x="4166" y="927"/>
                  </a:lnTo>
                  <a:lnTo>
                    <a:pt x="4166" y="927"/>
                  </a:lnTo>
                  <a:lnTo>
                    <a:pt x="4166"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1917720" y="3912120"/>
              <a:ext cx="20520" cy="30960"/>
            </a:xfrm>
            <a:custGeom>
              <a:avLst/>
              <a:gdLst/>
              <a:ahLst/>
              <a:rect l="l" t="t" r="r" b="b"/>
              <a:pathLst>
                <a:path w="579" h="579">
                  <a:moveTo>
                    <a:pt x="463" y="579"/>
                  </a:moveTo>
                  <a:lnTo>
                    <a:pt x="463" y="579"/>
                  </a:lnTo>
                  <a:lnTo>
                    <a:pt x="347" y="579"/>
                  </a:lnTo>
                  <a:lnTo>
                    <a:pt x="231" y="579"/>
                  </a:lnTo>
                  <a:lnTo>
                    <a:pt x="231" y="579"/>
                  </a:lnTo>
                  <a:lnTo>
                    <a:pt x="116" y="579"/>
                  </a:lnTo>
                  <a:lnTo>
                    <a:pt x="116" y="579"/>
                  </a:lnTo>
                  <a:lnTo>
                    <a:pt x="0" y="463"/>
                  </a:lnTo>
                  <a:lnTo>
                    <a:pt x="0" y="347"/>
                  </a:lnTo>
                  <a:lnTo>
                    <a:pt x="0" y="347"/>
                  </a:lnTo>
                  <a:lnTo>
                    <a:pt x="0" y="347"/>
                  </a:lnTo>
                  <a:lnTo>
                    <a:pt x="116" y="347"/>
                  </a:lnTo>
                  <a:lnTo>
                    <a:pt x="116" y="231"/>
                  </a:lnTo>
                  <a:lnTo>
                    <a:pt x="116" y="231"/>
                  </a:lnTo>
                  <a:lnTo>
                    <a:pt x="116" y="231"/>
                  </a:lnTo>
                  <a:lnTo>
                    <a:pt x="116" y="116"/>
                  </a:lnTo>
                  <a:lnTo>
                    <a:pt x="116" y="116"/>
                  </a:lnTo>
                  <a:lnTo>
                    <a:pt x="116" y="116"/>
                  </a:lnTo>
                  <a:lnTo>
                    <a:pt x="116" y="116"/>
                  </a:lnTo>
                  <a:lnTo>
                    <a:pt x="579" y="0"/>
                  </a:lnTo>
                  <a:lnTo>
                    <a:pt x="579" y="0"/>
                  </a:lnTo>
                  <a:lnTo>
                    <a:pt x="579" y="0"/>
                  </a:lnTo>
                  <a:lnTo>
                    <a:pt x="579" y="116"/>
                  </a:lnTo>
                  <a:lnTo>
                    <a:pt x="579" y="116"/>
                  </a:lnTo>
                  <a:lnTo>
                    <a:pt x="579" y="231"/>
                  </a:lnTo>
                  <a:lnTo>
                    <a:pt x="579" y="347"/>
                  </a:lnTo>
                  <a:lnTo>
                    <a:pt x="579" y="463"/>
                  </a:lnTo>
                  <a:lnTo>
                    <a:pt x="579" y="463"/>
                  </a:lnTo>
                  <a:lnTo>
                    <a:pt x="463" y="579"/>
                  </a:lnTo>
                  <a:lnTo>
                    <a:pt x="463" y="579"/>
                  </a:lnTo>
                  <a:lnTo>
                    <a:pt x="463" y="579"/>
                  </a:lnTo>
                  <a:lnTo>
                    <a:pt x="463" y="579"/>
                  </a:lnTo>
                  <a:lnTo>
                    <a:pt x="463" y="57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247" name=""/>
            <p:cNvSpPr/>
            <p:nvPr/>
          </p:nvSpPr>
          <p:spPr>
            <a:xfrm>
              <a:off x="2075040" y="3936960"/>
              <a:ext cx="65880" cy="99360"/>
            </a:xfrm>
            <a:custGeom>
              <a:avLst/>
              <a:gdLst/>
              <a:ahLst/>
              <a:rect l="l" t="t" r="r" b="b"/>
              <a:pathLst>
                <a:path w="1852" h="1853">
                  <a:moveTo>
                    <a:pt x="1852" y="579"/>
                  </a:moveTo>
                  <a:lnTo>
                    <a:pt x="1852" y="811"/>
                  </a:lnTo>
                  <a:lnTo>
                    <a:pt x="1852" y="927"/>
                  </a:lnTo>
                  <a:lnTo>
                    <a:pt x="1736" y="1158"/>
                  </a:lnTo>
                  <a:lnTo>
                    <a:pt x="1736" y="1390"/>
                  </a:lnTo>
                  <a:lnTo>
                    <a:pt x="1620" y="1506"/>
                  </a:lnTo>
                  <a:lnTo>
                    <a:pt x="1389" y="1621"/>
                  </a:lnTo>
                  <a:lnTo>
                    <a:pt x="1273" y="1737"/>
                  </a:lnTo>
                  <a:lnTo>
                    <a:pt x="1041" y="1853"/>
                  </a:lnTo>
                  <a:lnTo>
                    <a:pt x="1041" y="1853"/>
                  </a:lnTo>
                  <a:lnTo>
                    <a:pt x="926" y="1853"/>
                  </a:lnTo>
                  <a:lnTo>
                    <a:pt x="694" y="1853"/>
                  </a:lnTo>
                  <a:lnTo>
                    <a:pt x="579" y="1737"/>
                  </a:lnTo>
                  <a:lnTo>
                    <a:pt x="463" y="1737"/>
                  </a:lnTo>
                  <a:lnTo>
                    <a:pt x="347" y="1621"/>
                  </a:lnTo>
                  <a:lnTo>
                    <a:pt x="231" y="1506"/>
                  </a:lnTo>
                  <a:lnTo>
                    <a:pt x="116" y="1390"/>
                  </a:lnTo>
                  <a:lnTo>
                    <a:pt x="0" y="1274"/>
                  </a:lnTo>
                  <a:lnTo>
                    <a:pt x="0" y="1274"/>
                  </a:lnTo>
                  <a:lnTo>
                    <a:pt x="0" y="1158"/>
                  </a:lnTo>
                  <a:lnTo>
                    <a:pt x="0" y="927"/>
                  </a:lnTo>
                  <a:lnTo>
                    <a:pt x="0" y="811"/>
                  </a:lnTo>
                  <a:lnTo>
                    <a:pt x="0" y="695"/>
                  </a:lnTo>
                  <a:lnTo>
                    <a:pt x="0" y="463"/>
                  </a:lnTo>
                  <a:lnTo>
                    <a:pt x="116" y="348"/>
                  </a:lnTo>
                  <a:lnTo>
                    <a:pt x="116" y="232"/>
                  </a:lnTo>
                  <a:lnTo>
                    <a:pt x="231" y="116"/>
                  </a:lnTo>
                  <a:lnTo>
                    <a:pt x="231" y="116"/>
                  </a:lnTo>
                  <a:lnTo>
                    <a:pt x="463" y="0"/>
                  </a:lnTo>
                  <a:lnTo>
                    <a:pt x="694" y="0"/>
                  </a:lnTo>
                  <a:lnTo>
                    <a:pt x="926" y="0"/>
                  </a:lnTo>
                  <a:lnTo>
                    <a:pt x="1157" y="0"/>
                  </a:lnTo>
                  <a:lnTo>
                    <a:pt x="1389" y="0"/>
                  </a:lnTo>
                  <a:lnTo>
                    <a:pt x="1620" y="116"/>
                  </a:lnTo>
                  <a:lnTo>
                    <a:pt x="1736" y="348"/>
                  </a:lnTo>
                  <a:lnTo>
                    <a:pt x="1852" y="579"/>
                  </a:lnTo>
                  <a:lnTo>
                    <a:pt x="1852" y="579"/>
                  </a:lnTo>
                  <a:lnTo>
                    <a:pt x="1852" y="579"/>
                  </a:lnTo>
                  <a:lnTo>
                    <a:pt x="1852" y="579"/>
                  </a:lnTo>
                  <a:lnTo>
                    <a:pt x="1852"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2103840" y="3967920"/>
              <a:ext cx="20520" cy="37080"/>
            </a:xfrm>
            <a:custGeom>
              <a:avLst/>
              <a:gdLst/>
              <a:ahLst/>
              <a:rect l="l" t="t" r="r" b="b"/>
              <a:pathLst>
                <a:path w="579" h="695">
                  <a:moveTo>
                    <a:pt x="463" y="116"/>
                  </a:moveTo>
                  <a:lnTo>
                    <a:pt x="463" y="116"/>
                  </a:lnTo>
                  <a:lnTo>
                    <a:pt x="579" y="232"/>
                  </a:lnTo>
                  <a:lnTo>
                    <a:pt x="463" y="348"/>
                  </a:lnTo>
                  <a:lnTo>
                    <a:pt x="463" y="463"/>
                  </a:lnTo>
                  <a:lnTo>
                    <a:pt x="463" y="463"/>
                  </a:lnTo>
                  <a:lnTo>
                    <a:pt x="347" y="579"/>
                  </a:lnTo>
                  <a:lnTo>
                    <a:pt x="231" y="579"/>
                  </a:lnTo>
                  <a:lnTo>
                    <a:pt x="231" y="695"/>
                  </a:lnTo>
                  <a:lnTo>
                    <a:pt x="231" y="695"/>
                  </a:lnTo>
                  <a:lnTo>
                    <a:pt x="116" y="695"/>
                  </a:lnTo>
                  <a:lnTo>
                    <a:pt x="116" y="695"/>
                  </a:lnTo>
                  <a:lnTo>
                    <a:pt x="0" y="579"/>
                  </a:lnTo>
                  <a:lnTo>
                    <a:pt x="0" y="579"/>
                  </a:lnTo>
                  <a:lnTo>
                    <a:pt x="0" y="579"/>
                  </a:lnTo>
                  <a:lnTo>
                    <a:pt x="0" y="463"/>
                  </a:lnTo>
                  <a:lnTo>
                    <a:pt x="0" y="463"/>
                  </a:lnTo>
                  <a:lnTo>
                    <a:pt x="0" y="348"/>
                  </a:lnTo>
                  <a:lnTo>
                    <a:pt x="0" y="348"/>
                  </a:lnTo>
                  <a:lnTo>
                    <a:pt x="0" y="232"/>
                  </a:lnTo>
                  <a:lnTo>
                    <a:pt x="0" y="232"/>
                  </a:lnTo>
                  <a:lnTo>
                    <a:pt x="0" y="116"/>
                  </a:lnTo>
                  <a:lnTo>
                    <a:pt x="116" y="116"/>
                  </a:lnTo>
                  <a:lnTo>
                    <a:pt x="116" y="116"/>
                  </a:lnTo>
                  <a:lnTo>
                    <a:pt x="231" y="116"/>
                  </a:lnTo>
                  <a:lnTo>
                    <a:pt x="231" y="0"/>
                  </a:lnTo>
                  <a:lnTo>
                    <a:pt x="231" y="0"/>
                  </a:lnTo>
                  <a:lnTo>
                    <a:pt x="231" y="0"/>
                  </a:lnTo>
                  <a:lnTo>
                    <a:pt x="231" y="0"/>
                  </a:lnTo>
                  <a:lnTo>
                    <a:pt x="347" y="0"/>
                  </a:lnTo>
                  <a:lnTo>
                    <a:pt x="347" y="0"/>
                  </a:lnTo>
                  <a:lnTo>
                    <a:pt x="347" y="0"/>
                  </a:lnTo>
                  <a:lnTo>
                    <a:pt x="347" y="116"/>
                  </a:lnTo>
                  <a:lnTo>
                    <a:pt x="463" y="116"/>
                  </a:lnTo>
                  <a:lnTo>
                    <a:pt x="463" y="116"/>
                  </a:lnTo>
                  <a:lnTo>
                    <a:pt x="463" y="116"/>
                  </a:lnTo>
                  <a:lnTo>
                    <a:pt x="463" y="116"/>
                  </a:lnTo>
                  <a:lnTo>
                    <a:pt x="463" y="116"/>
                  </a:lnTo>
                  <a:lnTo>
                    <a:pt x="463" y="116"/>
                  </a:lnTo>
                  <a:lnTo>
                    <a:pt x="463" y="116"/>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249" name=""/>
            <p:cNvSpPr/>
            <p:nvPr/>
          </p:nvSpPr>
          <p:spPr>
            <a:xfrm>
              <a:off x="1677600" y="4241520"/>
              <a:ext cx="57600" cy="37080"/>
            </a:xfrm>
            <a:custGeom>
              <a:avLst/>
              <a:gdLst/>
              <a:ahLst/>
              <a:rect l="l" t="t" r="r" b="b"/>
              <a:pathLst>
                <a:path w="1620" h="695">
                  <a:moveTo>
                    <a:pt x="1620" y="116"/>
                  </a:moveTo>
                  <a:lnTo>
                    <a:pt x="1388" y="116"/>
                  </a:lnTo>
                  <a:lnTo>
                    <a:pt x="1157" y="116"/>
                  </a:lnTo>
                  <a:lnTo>
                    <a:pt x="1041" y="231"/>
                  </a:lnTo>
                  <a:lnTo>
                    <a:pt x="810" y="347"/>
                  </a:lnTo>
                  <a:lnTo>
                    <a:pt x="578" y="347"/>
                  </a:lnTo>
                  <a:lnTo>
                    <a:pt x="462" y="463"/>
                  </a:lnTo>
                  <a:lnTo>
                    <a:pt x="347" y="579"/>
                  </a:lnTo>
                  <a:lnTo>
                    <a:pt x="115" y="695"/>
                  </a:lnTo>
                  <a:lnTo>
                    <a:pt x="115" y="695"/>
                  </a:lnTo>
                  <a:lnTo>
                    <a:pt x="115" y="695"/>
                  </a:lnTo>
                  <a:lnTo>
                    <a:pt x="0" y="695"/>
                  </a:lnTo>
                  <a:lnTo>
                    <a:pt x="0" y="579"/>
                  </a:lnTo>
                  <a:lnTo>
                    <a:pt x="0" y="579"/>
                  </a:lnTo>
                  <a:lnTo>
                    <a:pt x="0" y="463"/>
                  </a:lnTo>
                  <a:lnTo>
                    <a:pt x="0" y="463"/>
                  </a:lnTo>
                  <a:lnTo>
                    <a:pt x="0" y="347"/>
                  </a:lnTo>
                  <a:lnTo>
                    <a:pt x="115" y="347"/>
                  </a:lnTo>
                  <a:lnTo>
                    <a:pt x="115" y="347"/>
                  </a:lnTo>
                  <a:lnTo>
                    <a:pt x="231" y="231"/>
                  </a:lnTo>
                  <a:lnTo>
                    <a:pt x="462" y="116"/>
                  </a:lnTo>
                  <a:lnTo>
                    <a:pt x="578" y="0"/>
                  </a:lnTo>
                  <a:lnTo>
                    <a:pt x="810" y="0"/>
                  </a:lnTo>
                  <a:lnTo>
                    <a:pt x="1041" y="0"/>
                  </a:lnTo>
                  <a:lnTo>
                    <a:pt x="1157" y="0"/>
                  </a:lnTo>
                  <a:lnTo>
                    <a:pt x="1388" y="0"/>
                  </a:lnTo>
                  <a:lnTo>
                    <a:pt x="1620" y="116"/>
                  </a:lnTo>
                  <a:lnTo>
                    <a:pt x="1620" y="116"/>
                  </a:lnTo>
                  <a:lnTo>
                    <a:pt x="1620" y="116"/>
                  </a:lnTo>
                  <a:lnTo>
                    <a:pt x="1620" y="116"/>
                  </a:lnTo>
                  <a:lnTo>
                    <a:pt x="1620" y="11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250" name=""/>
            <p:cNvSpPr/>
            <p:nvPr/>
          </p:nvSpPr>
          <p:spPr>
            <a:xfrm>
              <a:off x="1665000" y="4285080"/>
              <a:ext cx="517320" cy="173880"/>
            </a:xfrm>
            <a:custGeom>
              <a:avLst/>
              <a:gdLst/>
              <a:ahLst/>
              <a:rect l="l" t="t" r="r" b="b"/>
              <a:pathLst>
                <a:path w="14467" h="3243">
                  <a:moveTo>
                    <a:pt x="3820" y="232"/>
                  </a:moveTo>
                  <a:lnTo>
                    <a:pt x="3704" y="232"/>
                  </a:lnTo>
                  <a:lnTo>
                    <a:pt x="3472" y="232"/>
                  </a:lnTo>
                  <a:lnTo>
                    <a:pt x="3357" y="232"/>
                  </a:lnTo>
                  <a:lnTo>
                    <a:pt x="3125" y="232"/>
                  </a:lnTo>
                  <a:lnTo>
                    <a:pt x="3009" y="348"/>
                  </a:lnTo>
                  <a:lnTo>
                    <a:pt x="2778" y="348"/>
                  </a:lnTo>
                  <a:lnTo>
                    <a:pt x="2662" y="348"/>
                  </a:lnTo>
                  <a:lnTo>
                    <a:pt x="2431" y="464"/>
                  </a:lnTo>
                  <a:lnTo>
                    <a:pt x="2431" y="464"/>
                  </a:lnTo>
                  <a:lnTo>
                    <a:pt x="2431" y="695"/>
                  </a:lnTo>
                  <a:lnTo>
                    <a:pt x="2431" y="695"/>
                  </a:lnTo>
                  <a:lnTo>
                    <a:pt x="2894" y="1159"/>
                  </a:lnTo>
                  <a:lnTo>
                    <a:pt x="3472" y="1622"/>
                  </a:lnTo>
                  <a:lnTo>
                    <a:pt x="4051" y="1853"/>
                  </a:lnTo>
                  <a:lnTo>
                    <a:pt x="4745" y="2085"/>
                  </a:lnTo>
                  <a:lnTo>
                    <a:pt x="5440" y="2201"/>
                  </a:lnTo>
                  <a:lnTo>
                    <a:pt x="6018" y="2432"/>
                  </a:lnTo>
                  <a:lnTo>
                    <a:pt x="6713" y="2548"/>
                  </a:lnTo>
                  <a:lnTo>
                    <a:pt x="7291" y="2780"/>
                  </a:lnTo>
                  <a:lnTo>
                    <a:pt x="7291" y="2780"/>
                  </a:lnTo>
                  <a:lnTo>
                    <a:pt x="7639" y="2780"/>
                  </a:lnTo>
                  <a:lnTo>
                    <a:pt x="7986" y="2780"/>
                  </a:lnTo>
                  <a:lnTo>
                    <a:pt x="8333" y="2780"/>
                  </a:lnTo>
                  <a:lnTo>
                    <a:pt x="8680" y="2664"/>
                  </a:lnTo>
                  <a:lnTo>
                    <a:pt x="9027" y="2664"/>
                  </a:lnTo>
                  <a:lnTo>
                    <a:pt x="9375" y="2548"/>
                  </a:lnTo>
                  <a:lnTo>
                    <a:pt x="9722" y="2432"/>
                  </a:lnTo>
                  <a:lnTo>
                    <a:pt x="10069" y="2317"/>
                  </a:lnTo>
                  <a:lnTo>
                    <a:pt x="10069" y="2317"/>
                  </a:lnTo>
                  <a:lnTo>
                    <a:pt x="10185" y="2317"/>
                  </a:lnTo>
                  <a:lnTo>
                    <a:pt x="10185" y="2317"/>
                  </a:lnTo>
                  <a:lnTo>
                    <a:pt x="10301" y="2317"/>
                  </a:lnTo>
                  <a:lnTo>
                    <a:pt x="10416" y="2317"/>
                  </a:lnTo>
                  <a:lnTo>
                    <a:pt x="10532" y="2317"/>
                  </a:lnTo>
                  <a:lnTo>
                    <a:pt x="10648" y="2201"/>
                  </a:lnTo>
                  <a:lnTo>
                    <a:pt x="10763" y="2201"/>
                  </a:lnTo>
                  <a:lnTo>
                    <a:pt x="10763" y="2085"/>
                  </a:lnTo>
                  <a:lnTo>
                    <a:pt x="10763" y="2085"/>
                  </a:lnTo>
                  <a:lnTo>
                    <a:pt x="10879" y="2201"/>
                  </a:lnTo>
                  <a:lnTo>
                    <a:pt x="10879" y="2201"/>
                  </a:lnTo>
                  <a:lnTo>
                    <a:pt x="11226" y="1969"/>
                  </a:lnTo>
                  <a:lnTo>
                    <a:pt x="11574" y="1853"/>
                  </a:lnTo>
                  <a:lnTo>
                    <a:pt x="11921" y="1738"/>
                  </a:lnTo>
                  <a:lnTo>
                    <a:pt x="12268" y="1622"/>
                  </a:lnTo>
                  <a:lnTo>
                    <a:pt x="12615" y="1506"/>
                  </a:lnTo>
                  <a:lnTo>
                    <a:pt x="12962" y="1506"/>
                  </a:lnTo>
                  <a:lnTo>
                    <a:pt x="13310" y="1506"/>
                  </a:lnTo>
                  <a:lnTo>
                    <a:pt x="13772" y="1506"/>
                  </a:lnTo>
                  <a:lnTo>
                    <a:pt x="13772" y="1506"/>
                  </a:lnTo>
                  <a:lnTo>
                    <a:pt x="13772" y="1506"/>
                  </a:lnTo>
                  <a:lnTo>
                    <a:pt x="13888" y="1390"/>
                  </a:lnTo>
                  <a:lnTo>
                    <a:pt x="14004" y="1390"/>
                  </a:lnTo>
                  <a:lnTo>
                    <a:pt x="14120" y="1274"/>
                  </a:lnTo>
                  <a:lnTo>
                    <a:pt x="14120" y="1159"/>
                  </a:lnTo>
                  <a:lnTo>
                    <a:pt x="14235" y="1159"/>
                  </a:lnTo>
                  <a:lnTo>
                    <a:pt x="14351" y="1159"/>
                  </a:lnTo>
                  <a:lnTo>
                    <a:pt x="14467" y="1159"/>
                  </a:lnTo>
                  <a:lnTo>
                    <a:pt x="14467" y="1159"/>
                  </a:lnTo>
                  <a:lnTo>
                    <a:pt x="14467" y="1274"/>
                  </a:lnTo>
                  <a:lnTo>
                    <a:pt x="14351" y="1390"/>
                  </a:lnTo>
                  <a:lnTo>
                    <a:pt x="14351" y="1506"/>
                  </a:lnTo>
                  <a:lnTo>
                    <a:pt x="14235" y="1622"/>
                  </a:lnTo>
                  <a:lnTo>
                    <a:pt x="14120" y="1738"/>
                  </a:lnTo>
                  <a:lnTo>
                    <a:pt x="14004" y="1853"/>
                  </a:lnTo>
                  <a:lnTo>
                    <a:pt x="13888" y="1853"/>
                  </a:lnTo>
                  <a:lnTo>
                    <a:pt x="13772" y="1969"/>
                  </a:lnTo>
                  <a:lnTo>
                    <a:pt x="13772" y="1969"/>
                  </a:lnTo>
                  <a:lnTo>
                    <a:pt x="12962" y="1969"/>
                  </a:lnTo>
                  <a:lnTo>
                    <a:pt x="12152" y="2085"/>
                  </a:lnTo>
                  <a:lnTo>
                    <a:pt x="11458" y="2317"/>
                  </a:lnTo>
                  <a:lnTo>
                    <a:pt x="10648" y="2548"/>
                  </a:lnTo>
                  <a:lnTo>
                    <a:pt x="9953" y="2780"/>
                  </a:lnTo>
                  <a:lnTo>
                    <a:pt x="9143" y="3011"/>
                  </a:lnTo>
                  <a:lnTo>
                    <a:pt x="8333" y="3127"/>
                  </a:lnTo>
                  <a:lnTo>
                    <a:pt x="7523" y="3243"/>
                  </a:lnTo>
                  <a:lnTo>
                    <a:pt x="7523" y="3243"/>
                  </a:lnTo>
                  <a:lnTo>
                    <a:pt x="6713" y="3011"/>
                  </a:lnTo>
                  <a:lnTo>
                    <a:pt x="6018" y="2896"/>
                  </a:lnTo>
                  <a:lnTo>
                    <a:pt x="5208" y="2664"/>
                  </a:lnTo>
                  <a:lnTo>
                    <a:pt x="4514" y="2432"/>
                  </a:lnTo>
                  <a:lnTo>
                    <a:pt x="3704" y="2201"/>
                  </a:lnTo>
                  <a:lnTo>
                    <a:pt x="3125" y="1738"/>
                  </a:lnTo>
                  <a:lnTo>
                    <a:pt x="2431" y="1274"/>
                  </a:lnTo>
                  <a:lnTo>
                    <a:pt x="1968" y="695"/>
                  </a:lnTo>
                  <a:lnTo>
                    <a:pt x="1968" y="695"/>
                  </a:lnTo>
                  <a:lnTo>
                    <a:pt x="1736" y="811"/>
                  </a:lnTo>
                  <a:lnTo>
                    <a:pt x="1505" y="927"/>
                  </a:lnTo>
                  <a:lnTo>
                    <a:pt x="1273" y="1043"/>
                  </a:lnTo>
                  <a:lnTo>
                    <a:pt x="1042" y="1159"/>
                  </a:lnTo>
                  <a:lnTo>
                    <a:pt x="810" y="1274"/>
                  </a:lnTo>
                  <a:lnTo>
                    <a:pt x="579" y="1506"/>
                  </a:lnTo>
                  <a:lnTo>
                    <a:pt x="463" y="1622"/>
                  </a:lnTo>
                  <a:lnTo>
                    <a:pt x="348" y="1853"/>
                  </a:lnTo>
                  <a:lnTo>
                    <a:pt x="348" y="1853"/>
                  </a:lnTo>
                  <a:lnTo>
                    <a:pt x="232" y="1853"/>
                  </a:lnTo>
                  <a:lnTo>
                    <a:pt x="232" y="1853"/>
                  </a:lnTo>
                  <a:lnTo>
                    <a:pt x="116" y="1853"/>
                  </a:lnTo>
                  <a:lnTo>
                    <a:pt x="116" y="1853"/>
                  </a:lnTo>
                  <a:lnTo>
                    <a:pt x="116" y="1853"/>
                  </a:lnTo>
                  <a:lnTo>
                    <a:pt x="116" y="1738"/>
                  </a:lnTo>
                  <a:lnTo>
                    <a:pt x="0" y="1738"/>
                  </a:lnTo>
                  <a:lnTo>
                    <a:pt x="0" y="1738"/>
                  </a:lnTo>
                  <a:lnTo>
                    <a:pt x="0" y="1738"/>
                  </a:lnTo>
                  <a:lnTo>
                    <a:pt x="116" y="1390"/>
                  </a:lnTo>
                  <a:lnTo>
                    <a:pt x="348" y="1159"/>
                  </a:lnTo>
                  <a:lnTo>
                    <a:pt x="463" y="927"/>
                  </a:lnTo>
                  <a:lnTo>
                    <a:pt x="810" y="811"/>
                  </a:lnTo>
                  <a:lnTo>
                    <a:pt x="1042" y="695"/>
                  </a:lnTo>
                  <a:lnTo>
                    <a:pt x="1273" y="579"/>
                  </a:lnTo>
                  <a:lnTo>
                    <a:pt x="1621" y="348"/>
                  </a:lnTo>
                  <a:lnTo>
                    <a:pt x="1852" y="232"/>
                  </a:lnTo>
                  <a:lnTo>
                    <a:pt x="1852" y="232"/>
                  </a:lnTo>
                  <a:lnTo>
                    <a:pt x="2084" y="116"/>
                  </a:lnTo>
                  <a:lnTo>
                    <a:pt x="2315" y="116"/>
                  </a:lnTo>
                  <a:lnTo>
                    <a:pt x="2546" y="0"/>
                  </a:lnTo>
                  <a:lnTo>
                    <a:pt x="2778" y="0"/>
                  </a:lnTo>
                  <a:lnTo>
                    <a:pt x="3125" y="0"/>
                  </a:lnTo>
                  <a:lnTo>
                    <a:pt x="3357" y="116"/>
                  </a:lnTo>
                  <a:lnTo>
                    <a:pt x="3588" y="116"/>
                  </a:lnTo>
                  <a:lnTo>
                    <a:pt x="3820" y="232"/>
                  </a:lnTo>
                  <a:lnTo>
                    <a:pt x="3820" y="232"/>
                  </a:lnTo>
                  <a:lnTo>
                    <a:pt x="3820" y="232"/>
                  </a:lnTo>
                  <a:lnTo>
                    <a:pt x="3820" y="232"/>
                  </a:lnTo>
                  <a:lnTo>
                    <a:pt x="382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2670840" y="4384800"/>
              <a:ext cx="343440" cy="298440"/>
            </a:xfrm>
            <a:custGeom>
              <a:avLst/>
              <a:gdLst/>
              <a:ahLst/>
              <a:rect l="l" t="t" r="r" b="b"/>
              <a:pathLst>
                <a:path w="9606" h="5559">
                  <a:moveTo>
                    <a:pt x="9606" y="695"/>
                  </a:moveTo>
                  <a:lnTo>
                    <a:pt x="9606" y="811"/>
                  </a:lnTo>
                  <a:lnTo>
                    <a:pt x="9606" y="811"/>
                  </a:lnTo>
                  <a:lnTo>
                    <a:pt x="9490" y="811"/>
                  </a:lnTo>
                  <a:lnTo>
                    <a:pt x="9375" y="811"/>
                  </a:lnTo>
                  <a:lnTo>
                    <a:pt x="9259" y="811"/>
                  </a:lnTo>
                  <a:lnTo>
                    <a:pt x="9143" y="811"/>
                  </a:lnTo>
                  <a:lnTo>
                    <a:pt x="9027" y="811"/>
                  </a:lnTo>
                  <a:lnTo>
                    <a:pt x="8912" y="927"/>
                  </a:lnTo>
                  <a:lnTo>
                    <a:pt x="8796" y="927"/>
                  </a:lnTo>
                  <a:lnTo>
                    <a:pt x="8680" y="1043"/>
                  </a:lnTo>
                  <a:lnTo>
                    <a:pt x="8680" y="1043"/>
                  </a:lnTo>
                  <a:lnTo>
                    <a:pt x="8912" y="1158"/>
                  </a:lnTo>
                  <a:lnTo>
                    <a:pt x="8912" y="1158"/>
                  </a:lnTo>
                  <a:lnTo>
                    <a:pt x="8680" y="1158"/>
                  </a:lnTo>
                  <a:lnTo>
                    <a:pt x="8564" y="1274"/>
                  </a:lnTo>
                  <a:lnTo>
                    <a:pt x="8333" y="1274"/>
                  </a:lnTo>
                  <a:lnTo>
                    <a:pt x="8102" y="1274"/>
                  </a:lnTo>
                  <a:lnTo>
                    <a:pt x="7986" y="1390"/>
                  </a:lnTo>
                  <a:lnTo>
                    <a:pt x="7754" y="1390"/>
                  </a:lnTo>
                  <a:lnTo>
                    <a:pt x="7639" y="1506"/>
                  </a:lnTo>
                  <a:lnTo>
                    <a:pt x="7407" y="1622"/>
                  </a:lnTo>
                  <a:lnTo>
                    <a:pt x="7407" y="1622"/>
                  </a:lnTo>
                  <a:lnTo>
                    <a:pt x="7639" y="1622"/>
                  </a:lnTo>
                  <a:lnTo>
                    <a:pt x="7754" y="1622"/>
                  </a:lnTo>
                  <a:lnTo>
                    <a:pt x="7870" y="1738"/>
                  </a:lnTo>
                  <a:lnTo>
                    <a:pt x="7986" y="1738"/>
                  </a:lnTo>
                  <a:lnTo>
                    <a:pt x="8102" y="1738"/>
                  </a:lnTo>
                  <a:lnTo>
                    <a:pt x="8217" y="1853"/>
                  </a:lnTo>
                  <a:lnTo>
                    <a:pt x="8333" y="1853"/>
                  </a:lnTo>
                  <a:lnTo>
                    <a:pt x="8564" y="1853"/>
                  </a:lnTo>
                  <a:lnTo>
                    <a:pt x="8564" y="1853"/>
                  </a:lnTo>
                  <a:lnTo>
                    <a:pt x="8564" y="1969"/>
                  </a:lnTo>
                  <a:lnTo>
                    <a:pt x="8564" y="1969"/>
                  </a:lnTo>
                  <a:lnTo>
                    <a:pt x="8564" y="1969"/>
                  </a:lnTo>
                  <a:lnTo>
                    <a:pt x="8680" y="2085"/>
                  </a:lnTo>
                  <a:lnTo>
                    <a:pt x="8680" y="2085"/>
                  </a:lnTo>
                  <a:lnTo>
                    <a:pt x="8796" y="1969"/>
                  </a:lnTo>
                  <a:lnTo>
                    <a:pt x="8796" y="1969"/>
                  </a:lnTo>
                  <a:lnTo>
                    <a:pt x="8912" y="1969"/>
                  </a:lnTo>
                  <a:lnTo>
                    <a:pt x="8912" y="1969"/>
                  </a:lnTo>
                  <a:lnTo>
                    <a:pt x="9027" y="1969"/>
                  </a:lnTo>
                  <a:lnTo>
                    <a:pt x="9027" y="1969"/>
                  </a:lnTo>
                  <a:lnTo>
                    <a:pt x="8796" y="2085"/>
                  </a:lnTo>
                  <a:lnTo>
                    <a:pt x="8680" y="2085"/>
                  </a:lnTo>
                  <a:lnTo>
                    <a:pt x="8449" y="2201"/>
                  </a:lnTo>
                  <a:lnTo>
                    <a:pt x="8333" y="2317"/>
                  </a:lnTo>
                  <a:lnTo>
                    <a:pt x="8102" y="2317"/>
                  </a:lnTo>
                  <a:lnTo>
                    <a:pt x="7986" y="2432"/>
                  </a:lnTo>
                  <a:lnTo>
                    <a:pt x="7754" y="2664"/>
                  </a:lnTo>
                  <a:lnTo>
                    <a:pt x="7639" y="2780"/>
                  </a:lnTo>
                  <a:lnTo>
                    <a:pt x="7639" y="2780"/>
                  </a:lnTo>
                  <a:lnTo>
                    <a:pt x="7870" y="2780"/>
                  </a:lnTo>
                  <a:lnTo>
                    <a:pt x="8102" y="2780"/>
                  </a:lnTo>
                  <a:lnTo>
                    <a:pt x="8333" y="2780"/>
                  </a:lnTo>
                  <a:lnTo>
                    <a:pt x="8564" y="2664"/>
                  </a:lnTo>
                  <a:lnTo>
                    <a:pt x="8796" y="2548"/>
                  </a:lnTo>
                  <a:lnTo>
                    <a:pt x="9027" y="2548"/>
                  </a:lnTo>
                  <a:lnTo>
                    <a:pt x="9259" y="2432"/>
                  </a:lnTo>
                  <a:lnTo>
                    <a:pt x="9490" y="2432"/>
                  </a:lnTo>
                  <a:lnTo>
                    <a:pt x="9490" y="2432"/>
                  </a:lnTo>
                  <a:lnTo>
                    <a:pt x="8564" y="2896"/>
                  </a:lnTo>
                  <a:lnTo>
                    <a:pt x="7754" y="3243"/>
                  </a:lnTo>
                  <a:lnTo>
                    <a:pt x="6828" y="3590"/>
                  </a:lnTo>
                  <a:lnTo>
                    <a:pt x="6018" y="3938"/>
                  </a:lnTo>
                  <a:lnTo>
                    <a:pt x="5092" y="4401"/>
                  </a:lnTo>
                  <a:lnTo>
                    <a:pt x="4282" y="4749"/>
                  </a:lnTo>
                  <a:lnTo>
                    <a:pt x="3357" y="5096"/>
                  </a:lnTo>
                  <a:lnTo>
                    <a:pt x="2546" y="5559"/>
                  </a:lnTo>
                  <a:lnTo>
                    <a:pt x="2546" y="5559"/>
                  </a:lnTo>
                  <a:lnTo>
                    <a:pt x="2431" y="5443"/>
                  </a:lnTo>
                  <a:lnTo>
                    <a:pt x="2199" y="5328"/>
                  </a:lnTo>
                  <a:lnTo>
                    <a:pt x="1968" y="5212"/>
                  </a:lnTo>
                  <a:lnTo>
                    <a:pt x="1736" y="5212"/>
                  </a:lnTo>
                  <a:lnTo>
                    <a:pt x="1505" y="5096"/>
                  </a:lnTo>
                  <a:lnTo>
                    <a:pt x="1389" y="4980"/>
                  </a:lnTo>
                  <a:lnTo>
                    <a:pt x="1273" y="4864"/>
                  </a:lnTo>
                  <a:lnTo>
                    <a:pt x="1273" y="4517"/>
                  </a:lnTo>
                  <a:lnTo>
                    <a:pt x="1273" y="4517"/>
                  </a:lnTo>
                  <a:lnTo>
                    <a:pt x="1389" y="4401"/>
                  </a:lnTo>
                  <a:lnTo>
                    <a:pt x="1505" y="4170"/>
                  </a:lnTo>
                  <a:lnTo>
                    <a:pt x="1621" y="4054"/>
                  </a:lnTo>
                  <a:lnTo>
                    <a:pt x="1852" y="3822"/>
                  </a:lnTo>
                  <a:lnTo>
                    <a:pt x="1968" y="3706"/>
                  </a:lnTo>
                  <a:lnTo>
                    <a:pt x="2083" y="3590"/>
                  </a:lnTo>
                  <a:lnTo>
                    <a:pt x="2199" y="3359"/>
                  </a:lnTo>
                  <a:lnTo>
                    <a:pt x="2315" y="3243"/>
                  </a:lnTo>
                  <a:lnTo>
                    <a:pt x="2315" y="3243"/>
                  </a:lnTo>
                  <a:lnTo>
                    <a:pt x="2083" y="3011"/>
                  </a:lnTo>
                  <a:lnTo>
                    <a:pt x="1621" y="2896"/>
                  </a:lnTo>
                  <a:lnTo>
                    <a:pt x="1273" y="2896"/>
                  </a:lnTo>
                  <a:lnTo>
                    <a:pt x="810" y="2896"/>
                  </a:lnTo>
                  <a:lnTo>
                    <a:pt x="347" y="2780"/>
                  </a:lnTo>
                  <a:lnTo>
                    <a:pt x="116" y="2664"/>
                  </a:lnTo>
                  <a:lnTo>
                    <a:pt x="0" y="2317"/>
                  </a:lnTo>
                  <a:lnTo>
                    <a:pt x="0" y="1853"/>
                  </a:lnTo>
                  <a:lnTo>
                    <a:pt x="0" y="1853"/>
                  </a:lnTo>
                  <a:lnTo>
                    <a:pt x="810" y="1274"/>
                  </a:lnTo>
                  <a:lnTo>
                    <a:pt x="1736" y="811"/>
                  </a:lnTo>
                  <a:lnTo>
                    <a:pt x="2662" y="464"/>
                  </a:lnTo>
                  <a:lnTo>
                    <a:pt x="3588" y="232"/>
                  </a:lnTo>
                  <a:lnTo>
                    <a:pt x="4630" y="0"/>
                  </a:lnTo>
                  <a:lnTo>
                    <a:pt x="5555" y="0"/>
                  </a:lnTo>
                  <a:lnTo>
                    <a:pt x="6597" y="116"/>
                  </a:lnTo>
                  <a:lnTo>
                    <a:pt x="7639" y="348"/>
                  </a:lnTo>
                  <a:lnTo>
                    <a:pt x="7639" y="348"/>
                  </a:lnTo>
                  <a:lnTo>
                    <a:pt x="7870" y="464"/>
                  </a:lnTo>
                  <a:lnTo>
                    <a:pt x="8102" y="464"/>
                  </a:lnTo>
                  <a:lnTo>
                    <a:pt x="8333" y="464"/>
                  </a:lnTo>
                  <a:lnTo>
                    <a:pt x="8564" y="464"/>
                  </a:lnTo>
                  <a:lnTo>
                    <a:pt x="8796" y="579"/>
                  </a:lnTo>
                  <a:lnTo>
                    <a:pt x="9143" y="579"/>
                  </a:lnTo>
                  <a:lnTo>
                    <a:pt x="9375" y="579"/>
                  </a:lnTo>
                  <a:lnTo>
                    <a:pt x="9606" y="695"/>
                  </a:lnTo>
                  <a:lnTo>
                    <a:pt x="9606" y="695"/>
                  </a:lnTo>
                  <a:lnTo>
                    <a:pt x="9606" y="695"/>
                  </a:lnTo>
                  <a:lnTo>
                    <a:pt x="9606" y="695"/>
                  </a:lnTo>
                  <a:lnTo>
                    <a:pt x="9606"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1499760" y="4421880"/>
              <a:ext cx="1208160" cy="466200"/>
            </a:xfrm>
            <a:custGeom>
              <a:avLst/>
              <a:gdLst/>
              <a:ahLst/>
              <a:rect l="l" t="t" r="r" b="b"/>
              <a:pathLst>
                <a:path w="33794" h="8686">
                  <a:moveTo>
                    <a:pt x="-31742" y="0"/>
                  </a:moveTo>
                  <a:lnTo>
                    <a:pt x="-31974" y="116"/>
                  </a:lnTo>
                  <a:lnTo>
                    <a:pt x="-32205" y="348"/>
                  </a:lnTo>
                  <a:lnTo>
                    <a:pt x="-32437" y="463"/>
                  </a:lnTo>
                  <a:lnTo>
                    <a:pt x="-32668" y="579"/>
                  </a:lnTo>
                  <a:lnTo>
                    <a:pt x="32637" y="811"/>
                  </a:lnTo>
                  <a:lnTo>
                    <a:pt x="32521" y="927"/>
                  </a:lnTo>
                  <a:lnTo>
                    <a:pt x="32289" y="1158"/>
                  </a:lnTo>
                  <a:lnTo>
                    <a:pt x="32174" y="1390"/>
                  </a:lnTo>
                  <a:lnTo>
                    <a:pt x="32174" y="1390"/>
                  </a:lnTo>
                  <a:lnTo>
                    <a:pt x="32289" y="1506"/>
                  </a:lnTo>
                  <a:lnTo>
                    <a:pt x="32289" y="1737"/>
                  </a:lnTo>
                  <a:lnTo>
                    <a:pt x="32405" y="1853"/>
                  </a:lnTo>
                  <a:lnTo>
                    <a:pt x="32405" y="1969"/>
                  </a:lnTo>
                  <a:lnTo>
                    <a:pt x="32521" y="2085"/>
                  </a:lnTo>
                  <a:lnTo>
                    <a:pt x="32637" y="2201"/>
                  </a:lnTo>
                  <a:lnTo>
                    <a:pt x="32752" y="2316"/>
                  </a:lnTo>
                  <a:lnTo>
                    <a:pt x="-32668" y="2432"/>
                  </a:lnTo>
                  <a:lnTo>
                    <a:pt x="-32668" y="2432"/>
                  </a:lnTo>
                  <a:lnTo>
                    <a:pt x="29628" y="3011"/>
                  </a:lnTo>
                  <a:lnTo>
                    <a:pt x="26271" y="3590"/>
                  </a:lnTo>
                  <a:lnTo>
                    <a:pt x="23031" y="4169"/>
                  </a:lnTo>
                  <a:lnTo>
                    <a:pt x="19790" y="4864"/>
                  </a:lnTo>
                  <a:lnTo>
                    <a:pt x="16550" y="5443"/>
                  </a:lnTo>
                  <a:lnTo>
                    <a:pt x="13309" y="6138"/>
                  </a:lnTo>
                  <a:lnTo>
                    <a:pt x="10069" y="6833"/>
                  </a:lnTo>
                  <a:lnTo>
                    <a:pt x="6713" y="7644"/>
                  </a:lnTo>
                  <a:lnTo>
                    <a:pt x="6713" y="7644"/>
                  </a:lnTo>
                  <a:lnTo>
                    <a:pt x="0" y="8686"/>
                  </a:lnTo>
                  <a:lnTo>
                    <a:pt x="0" y="8686"/>
                  </a:lnTo>
                  <a:lnTo>
                    <a:pt x="0" y="8454"/>
                  </a:lnTo>
                  <a:lnTo>
                    <a:pt x="0" y="8223"/>
                  </a:lnTo>
                  <a:lnTo>
                    <a:pt x="0" y="7991"/>
                  </a:lnTo>
                  <a:lnTo>
                    <a:pt x="0" y="7760"/>
                  </a:lnTo>
                  <a:lnTo>
                    <a:pt x="116" y="7528"/>
                  </a:lnTo>
                  <a:lnTo>
                    <a:pt x="116" y="7296"/>
                  </a:lnTo>
                  <a:lnTo>
                    <a:pt x="232" y="7065"/>
                  </a:lnTo>
                  <a:lnTo>
                    <a:pt x="232" y="6833"/>
                  </a:lnTo>
                  <a:lnTo>
                    <a:pt x="232" y="6833"/>
                  </a:lnTo>
                  <a:lnTo>
                    <a:pt x="694" y="6486"/>
                  </a:lnTo>
                  <a:lnTo>
                    <a:pt x="694" y="6486"/>
                  </a:lnTo>
                  <a:lnTo>
                    <a:pt x="2662" y="6138"/>
                  </a:lnTo>
                  <a:lnTo>
                    <a:pt x="4745" y="5791"/>
                  </a:lnTo>
                  <a:lnTo>
                    <a:pt x="6713" y="5327"/>
                  </a:lnTo>
                  <a:lnTo>
                    <a:pt x="8796" y="4980"/>
                  </a:lnTo>
                  <a:lnTo>
                    <a:pt x="10879" y="4633"/>
                  </a:lnTo>
                  <a:lnTo>
                    <a:pt x="12962" y="4169"/>
                  </a:lnTo>
                  <a:lnTo>
                    <a:pt x="14930" y="3706"/>
                  </a:lnTo>
                  <a:lnTo>
                    <a:pt x="17013" y="3243"/>
                  </a:lnTo>
                  <a:lnTo>
                    <a:pt x="17013" y="3243"/>
                  </a:lnTo>
                  <a:lnTo>
                    <a:pt x="30553" y="579"/>
                  </a:lnTo>
                  <a:lnTo>
                    <a:pt x="30553" y="579"/>
                  </a:lnTo>
                  <a:lnTo>
                    <a:pt x="31016" y="463"/>
                  </a:lnTo>
                  <a:lnTo>
                    <a:pt x="31363" y="463"/>
                  </a:lnTo>
                  <a:lnTo>
                    <a:pt x="31826" y="348"/>
                  </a:lnTo>
                  <a:lnTo>
                    <a:pt x="32174" y="232"/>
                  </a:lnTo>
                  <a:lnTo>
                    <a:pt x="32521" y="232"/>
                  </a:lnTo>
                  <a:lnTo>
                    <a:pt x="-32552" y="116"/>
                  </a:lnTo>
                  <a:lnTo>
                    <a:pt x="-32205" y="116"/>
                  </a:lnTo>
                  <a:lnTo>
                    <a:pt x="-31742" y="0"/>
                  </a:lnTo>
                  <a:lnTo>
                    <a:pt x="-31742" y="0"/>
                  </a:lnTo>
                  <a:lnTo>
                    <a:pt x="-31742" y="0"/>
                  </a:lnTo>
                  <a:lnTo>
                    <a:pt x="-31742" y="0"/>
                  </a:lnTo>
                  <a:lnTo>
                    <a:pt x="-31742"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1284480" y="4502880"/>
              <a:ext cx="169560" cy="204840"/>
            </a:xfrm>
            <a:custGeom>
              <a:avLst/>
              <a:gdLst/>
              <a:ahLst/>
              <a:rect l="l" t="t" r="r" b="b"/>
              <a:pathLst>
                <a:path w="4745" h="3821">
                  <a:moveTo>
                    <a:pt x="4745" y="695"/>
                  </a:moveTo>
                  <a:lnTo>
                    <a:pt x="4514" y="2895"/>
                  </a:lnTo>
                  <a:lnTo>
                    <a:pt x="4514" y="2895"/>
                  </a:lnTo>
                  <a:lnTo>
                    <a:pt x="4282" y="3011"/>
                  </a:lnTo>
                  <a:lnTo>
                    <a:pt x="4051" y="3242"/>
                  </a:lnTo>
                  <a:lnTo>
                    <a:pt x="3819" y="3474"/>
                  </a:lnTo>
                  <a:lnTo>
                    <a:pt x="3588" y="3590"/>
                  </a:lnTo>
                  <a:lnTo>
                    <a:pt x="3356" y="3706"/>
                  </a:lnTo>
                  <a:lnTo>
                    <a:pt x="3125" y="3821"/>
                  </a:lnTo>
                  <a:lnTo>
                    <a:pt x="2893" y="3706"/>
                  </a:lnTo>
                  <a:lnTo>
                    <a:pt x="2662" y="3358"/>
                  </a:lnTo>
                  <a:lnTo>
                    <a:pt x="2662" y="3358"/>
                  </a:lnTo>
                  <a:lnTo>
                    <a:pt x="2430" y="3358"/>
                  </a:lnTo>
                  <a:lnTo>
                    <a:pt x="2315" y="3358"/>
                  </a:lnTo>
                  <a:lnTo>
                    <a:pt x="2199" y="3474"/>
                  </a:lnTo>
                  <a:lnTo>
                    <a:pt x="1967" y="3474"/>
                  </a:lnTo>
                  <a:lnTo>
                    <a:pt x="1852" y="3590"/>
                  </a:lnTo>
                  <a:lnTo>
                    <a:pt x="1736" y="3706"/>
                  </a:lnTo>
                  <a:lnTo>
                    <a:pt x="1505" y="3706"/>
                  </a:lnTo>
                  <a:lnTo>
                    <a:pt x="1389" y="3821"/>
                  </a:lnTo>
                  <a:lnTo>
                    <a:pt x="1389" y="3821"/>
                  </a:lnTo>
                  <a:lnTo>
                    <a:pt x="1042" y="3474"/>
                  </a:lnTo>
                  <a:lnTo>
                    <a:pt x="810" y="3127"/>
                  </a:lnTo>
                  <a:lnTo>
                    <a:pt x="579" y="2663"/>
                  </a:lnTo>
                  <a:lnTo>
                    <a:pt x="463" y="2200"/>
                  </a:lnTo>
                  <a:lnTo>
                    <a:pt x="231" y="1853"/>
                  </a:lnTo>
                  <a:lnTo>
                    <a:pt x="116" y="1389"/>
                  </a:lnTo>
                  <a:lnTo>
                    <a:pt x="0" y="926"/>
                  </a:lnTo>
                  <a:lnTo>
                    <a:pt x="0" y="347"/>
                  </a:lnTo>
                  <a:lnTo>
                    <a:pt x="0" y="347"/>
                  </a:lnTo>
                  <a:lnTo>
                    <a:pt x="463" y="231"/>
                  </a:lnTo>
                  <a:lnTo>
                    <a:pt x="1157" y="0"/>
                  </a:lnTo>
                  <a:lnTo>
                    <a:pt x="1736" y="0"/>
                  </a:lnTo>
                  <a:lnTo>
                    <a:pt x="2430" y="0"/>
                  </a:lnTo>
                  <a:lnTo>
                    <a:pt x="3009" y="116"/>
                  </a:lnTo>
                  <a:lnTo>
                    <a:pt x="3703" y="231"/>
                  </a:lnTo>
                  <a:lnTo>
                    <a:pt x="4282" y="463"/>
                  </a:lnTo>
                  <a:lnTo>
                    <a:pt x="4745" y="695"/>
                  </a:lnTo>
                  <a:lnTo>
                    <a:pt x="4745" y="695"/>
                  </a:lnTo>
                  <a:lnTo>
                    <a:pt x="4745" y="695"/>
                  </a:lnTo>
                  <a:lnTo>
                    <a:pt x="4745" y="695"/>
                  </a:lnTo>
                  <a:lnTo>
                    <a:pt x="4745"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1458360" y="4546440"/>
              <a:ext cx="24480" cy="105480"/>
            </a:xfrm>
            <a:custGeom>
              <a:avLst/>
              <a:gdLst/>
              <a:ahLst/>
              <a:rect l="l" t="t" r="r" b="b"/>
              <a:pathLst>
                <a:path w="694" h="1969">
                  <a:moveTo>
                    <a:pt x="578" y="1969"/>
                  </a:moveTo>
                  <a:lnTo>
                    <a:pt x="463" y="1969"/>
                  </a:lnTo>
                  <a:lnTo>
                    <a:pt x="347" y="1969"/>
                  </a:lnTo>
                  <a:lnTo>
                    <a:pt x="231" y="1969"/>
                  </a:lnTo>
                  <a:lnTo>
                    <a:pt x="231" y="1969"/>
                  </a:lnTo>
                  <a:lnTo>
                    <a:pt x="115" y="1969"/>
                  </a:lnTo>
                  <a:lnTo>
                    <a:pt x="0" y="1969"/>
                  </a:lnTo>
                  <a:lnTo>
                    <a:pt x="0" y="1853"/>
                  </a:lnTo>
                  <a:lnTo>
                    <a:pt x="0" y="1738"/>
                  </a:lnTo>
                  <a:lnTo>
                    <a:pt x="0" y="1738"/>
                  </a:lnTo>
                  <a:lnTo>
                    <a:pt x="347" y="0"/>
                  </a:lnTo>
                  <a:lnTo>
                    <a:pt x="694" y="116"/>
                  </a:lnTo>
                  <a:lnTo>
                    <a:pt x="578" y="1969"/>
                  </a:lnTo>
                  <a:lnTo>
                    <a:pt x="578" y="1969"/>
                  </a:lnTo>
                  <a:lnTo>
                    <a:pt x="578" y="1969"/>
                  </a:lnTo>
                  <a:lnTo>
                    <a:pt x="578" y="19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1491480" y="4558680"/>
              <a:ext cx="28800" cy="105480"/>
            </a:xfrm>
            <a:custGeom>
              <a:avLst/>
              <a:gdLst/>
              <a:ahLst/>
              <a:rect l="l" t="t" r="r" b="b"/>
              <a:pathLst>
                <a:path w="810" h="1969">
                  <a:moveTo>
                    <a:pt x="694" y="232"/>
                  </a:moveTo>
                  <a:lnTo>
                    <a:pt x="810" y="463"/>
                  </a:lnTo>
                  <a:lnTo>
                    <a:pt x="694" y="579"/>
                  </a:lnTo>
                  <a:lnTo>
                    <a:pt x="694" y="695"/>
                  </a:lnTo>
                  <a:lnTo>
                    <a:pt x="694" y="927"/>
                  </a:lnTo>
                  <a:lnTo>
                    <a:pt x="694" y="1042"/>
                  </a:lnTo>
                  <a:lnTo>
                    <a:pt x="694" y="1274"/>
                  </a:lnTo>
                  <a:lnTo>
                    <a:pt x="694" y="1390"/>
                  </a:lnTo>
                  <a:lnTo>
                    <a:pt x="694" y="1621"/>
                  </a:lnTo>
                  <a:lnTo>
                    <a:pt x="694" y="1621"/>
                  </a:lnTo>
                  <a:lnTo>
                    <a:pt x="694" y="1621"/>
                  </a:lnTo>
                  <a:lnTo>
                    <a:pt x="694" y="1621"/>
                  </a:lnTo>
                  <a:lnTo>
                    <a:pt x="694" y="1737"/>
                  </a:lnTo>
                  <a:lnTo>
                    <a:pt x="578" y="1737"/>
                  </a:lnTo>
                  <a:lnTo>
                    <a:pt x="463" y="1853"/>
                  </a:lnTo>
                  <a:lnTo>
                    <a:pt x="463" y="1853"/>
                  </a:lnTo>
                  <a:lnTo>
                    <a:pt x="347" y="1969"/>
                  </a:lnTo>
                  <a:lnTo>
                    <a:pt x="231" y="1969"/>
                  </a:lnTo>
                  <a:lnTo>
                    <a:pt x="231" y="1969"/>
                  </a:lnTo>
                  <a:lnTo>
                    <a:pt x="231" y="1969"/>
                  </a:lnTo>
                  <a:lnTo>
                    <a:pt x="231" y="1969"/>
                  </a:lnTo>
                  <a:lnTo>
                    <a:pt x="115" y="1853"/>
                  </a:lnTo>
                  <a:lnTo>
                    <a:pt x="115" y="1853"/>
                  </a:lnTo>
                  <a:lnTo>
                    <a:pt x="0" y="1853"/>
                  </a:lnTo>
                  <a:lnTo>
                    <a:pt x="0" y="1853"/>
                  </a:lnTo>
                  <a:lnTo>
                    <a:pt x="0" y="1737"/>
                  </a:lnTo>
                  <a:lnTo>
                    <a:pt x="0" y="1737"/>
                  </a:lnTo>
                  <a:lnTo>
                    <a:pt x="0" y="1737"/>
                  </a:lnTo>
                  <a:lnTo>
                    <a:pt x="0" y="1506"/>
                  </a:lnTo>
                  <a:lnTo>
                    <a:pt x="0" y="1274"/>
                  </a:lnTo>
                  <a:lnTo>
                    <a:pt x="0" y="1042"/>
                  </a:lnTo>
                  <a:lnTo>
                    <a:pt x="115" y="927"/>
                  </a:lnTo>
                  <a:lnTo>
                    <a:pt x="115" y="695"/>
                  </a:lnTo>
                  <a:lnTo>
                    <a:pt x="231" y="463"/>
                  </a:lnTo>
                  <a:lnTo>
                    <a:pt x="231" y="232"/>
                  </a:lnTo>
                  <a:lnTo>
                    <a:pt x="115" y="0"/>
                  </a:lnTo>
                  <a:lnTo>
                    <a:pt x="115" y="0"/>
                  </a:lnTo>
                  <a:lnTo>
                    <a:pt x="231" y="0"/>
                  </a:lnTo>
                  <a:lnTo>
                    <a:pt x="347" y="116"/>
                  </a:lnTo>
                  <a:lnTo>
                    <a:pt x="347" y="116"/>
                  </a:lnTo>
                  <a:lnTo>
                    <a:pt x="463" y="232"/>
                  </a:lnTo>
                  <a:lnTo>
                    <a:pt x="463" y="232"/>
                  </a:lnTo>
                  <a:lnTo>
                    <a:pt x="578" y="347"/>
                  </a:lnTo>
                  <a:lnTo>
                    <a:pt x="578" y="347"/>
                  </a:lnTo>
                  <a:lnTo>
                    <a:pt x="694" y="232"/>
                  </a:lnTo>
                  <a:lnTo>
                    <a:pt x="694" y="232"/>
                  </a:lnTo>
                  <a:lnTo>
                    <a:pt x="694" y="232"/>
                  </a:lnTo>
                  <a:lnTo>
                    <a:pt x="694" y="232"/>
                  </a:lnTo>
                  <a:lnTo>
                    <a:pt x="69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1503720" y="4558680"/>
              <a:ext cx="1241280" cy="441360"/>
            </a:xfrm>
            <a:custGeom>
              <a:avLst/>
              <a:gdLst/>
              <a:ahLst/>
              <a:rect l="l" t="t" r="r" b="b"/>
              <a:pathLst>
                <a:path w="34719" h="8223">
                  <a:moveTo>
                    <a:pt x="-31048" y="0"/>
                  </a:moveTo>
                  <a:lnTo>
                    <a:pt x="-31279" y="232"/>
                  </a:lnTo>
                  <a:lnTo>
                    <a:pt x="-31395" y="347"/>
                  </a:lnTo>
                  <a:lnTo>
                    <a:pt x="-31627" y="579"/>
                  </a:lnTo>
                  <a:lnTo>
                    <a:pt x="-31742" y="811"/>
                  </a:lnTo>
                  <a:lnTo>
                    <a:pt x="-31858" y="1042"/>
                  </a:lnTo>
                  <a:lnTo>
                    <a:pt x="-31858" y="1390"/>
                  </a:lnTo>
                  <a:lnTo>
                    <a:pt x="-31858" y="1621"/>
                  </a:lnTo>
                  <a:lnTo>
                    <a:pt x="-31742" y="1853"/>
                  </a:lnTo>
                  <a:lnTo>
                    <a:pt x="-31742" y="1853"/>
                  </a:lnTo>
                  <a:lnTo>
                    <a:pt x="-31742" y="2085"/>
                  </a:lnTo>
                  <a:lnTo>
                    <a:pt x="-31627" y="2200"/>
                  </a:lnTo>
                  <a:lnTo>
                    <a:pt x="-31511" y="2200"/>
                  </a:lnTo>
                  <a:lnTo>
                    <a:pt x="-31395" y="2316"/>
                  </a:lnTo>
                  <a:lnTo>
                    <a:pt x="-31279" y="2432"/>
                  </a:lnTo>
                  <a:lnTo>
                    <a:pt x="-31164" y="2432"/>
                  </a:lnTo>
                  <a:lnTo>
                    <a:pt x="-30932" y="2548"/>
                  </a:lnTo>
                  <a:lnTo>
                    <a:pt x="-30817" y="2548"/>
                  </a:lnTo>
                  <a:lnTo>
                    <a:pt x="-30817" y="2548"/>
                  </a:lnTo>
                  <a:lnTo>
                    <a:pt x="-31048" y="2664"/>
                  </a:lnTo>
                  <a:lnTo>
                    <a:pt x="-31395" y="2664"/>
                  </a:lnTo>
                  <a:lnTo>
                    <a:pt x="-31627" y="2779"/>
                  </a:lnTo>
                  <a:lnTo>
                    <a:pt x="-31858" y="2779"/>
                  </a:lnTo>
                  <a:lnTo>
                    <a:pt x="-32090" y="2779"/>
                  </a:lnTo>
                  <a:lnTo>
                    <a:pt x="-32437" y="2895"/>
                  </a:lnTo>
                  <a:lnTo>
                    <a:pt x="-32668" y="2895"/>
                  </a:lnTo>
                  <a:lnTo>
                    <a:pt x="32636" y="3011"/>
                  </a:lnTo>
                  <a:lnTo>
                    <a:pt x="32636" y="3011"/>
                  </a:lnTo>
                  <a:lnTo>
                    <a:pt x="32405" y="2895"/>
                  </a:lnTo>
                  <a:lnTo>
                    <a:pt x="32173" y="2779"/>
                  </a:lnTo>
                  <a:lnTo>
                    <a:pt x="31942" y="2779"/>
                  </a:lnTo>
                  <a:lnTo>
                    <a:pt x="31710" y="2779"/>
                  </a:lnTo>
                  <a:lnTo>
                    <a:pt x="31479" y="2779"/>
                  </a:lnTo>
                  <a:lnTo>
                    <a:pt x="31247" y="2779"/>
                  </a:lnTo>
                  <a:lnTo>
                    <a:pt x="31016" y="2895"/>
                  </a:lnTo>
                  <a:lnTo>
                    <a:pt x="30785" y="2895"/>
                  </a:lnTo>
                  <a:lnTo>
                    <a:pt x="30785" y="2895"/>
                  </a:lnTo>
                  <a:lnTo>
                    <a:pt x="29974" y="3474"/>
                  </a:lnTo>
                  <a:lnTo>
                    <a:pt x="29974" y="3474"/>
                  </a:lnTo>
                  <a:lnTo>
                    <a:pt x="29974" y="3359"/>
                  </a:lnTo>
                  <a:lnTo>
                    <a:pt x="29974" y="3359"/>
                  </a:lnTo>
                  <a:lnTo>
                    <a:pt x="29859" y="3243"/>
                  </a:lnTo>
                  <a:lnTo>
                    <a:pt x="29859" y="3127"/>
                  </a:lnTo>
                  <a:lnTo>
                    <a:pt x="29859" y="3127"/>
                  </a:lnTo>
                  <a:lnTo>
                    <a:pt x="29859" y="3011"/>
                  </a:lnTo>
                  <a:lnTo>
                    <a:pt x="29859" y="3011"/>
                  </a:lnTo>
                  <a:lnTo>
                    <a:pt x="29974" y="2895"/>
                  </a:lnTo>
                  <a:lnTo>
                    <a:pt x="29974" y="2895"/>
                  </a:lnTo>
                  <a:lnTo>
                    <a:pt x="-32321" y="2316"/>
                  </a:lnTo>
                  <a:lnTo>
                    <a:pt x="-32321" y="2316"/>
                  </a:lnTo>
                  <a:lnTo>
                    <a:pt x="-32205" y="2316"/>
                  </a:lnTo>
                  <a:lnTo>
                    <a:pt x="-32205" y="2200"/>
                  </a:lnTo>
                  <a:lnTo>
                    <a:pt x="-32205" y="2200"/>
                  </a:lnTo>
                  <a:lnTo>
                    <a:pt x="-32205" y="2200"/>
                  </a:lnTo>
                  <a:lnTo>
                    <a:pt x="-32205" y="2200"/>
                  </a:lnTo>
                  <a:lnTo>
                    <a:pt x="-32205" y="2085"/>
                  </a:lnTo>
                  <a:lnTo>
                    <a:pt x="-32090" y="2085"/>
                  </a:lnTo>
                  <a:lnTo>
                    <a:pt x="-32090" y="2085"/>
                  </a:lnTo>
                  <a:lnTo>
                    <a:pt x="-32090" y="2085"/>
                  </a:lnTo>
                  <a:lnTo>
                    <a:pt x="-32553" y="2085"/>
                  </a:lnTo>
                  <a:lnTo>
                    <a:pt x="32521" y="2200"/>
                  </a:lnTo>
                  <a:lnTo>
                    <a:pt x="31942" y="2200"/>
                  </a:lnTo>
                  <a:lnTo>
                    <a:pt x="31479" y="2316"/>
                  </a:lnTo>
                  <a:lnTo>
                    <a:pt x="31016" y="2432"/>
                  </a:lnTo>
                  <a:lnTo>
                    <a:pt x="30437" y="2548"/>
                  </a:lnTo>
                  <a:lnTo>
                    <a:pt x="29974" y="2664"/>
                  </a:lnTo>
                  <a:lnTo>
                    <a:pt x="29512" y="2779"/>
                  </a:lnTo>
                  <a:lnTo>
                    <a:pt x="29512" y="2779"/>
                  </a:lnTo>
                  <a:lnTo>
                    <a:pt x="29396" y="2664"/>
                  </a:lnTo>
                  <a:lnTo>
                    <a:pt x="29164" y="2664"/>
                  </a:lnTo>
                  <a:lnTo>
                    <a:pt x="28933" y="2548"/>
                  </a:lnTo>
                  <a:lnTo>
                    <a:pt x="28701" y="2548"/>
                  </a:lnTo>
                  <a:lnTo>
                    <a:pt x="28470" y="2432"/>
                  </a:lnTo>
                  <a:lnTo>
                    <a:pt x="28238" y="2548"/>
                  </a:lnTo>
                  <a:lnTo>
                    <a:pt x="28123" y="2548"/>
                  </a:lnTo>
                  <a:lnTo>
                    <a:pt x="27891" y="2664"/>
                  </a:lnTo>
                  <a:lnTo>
                    <a:pt x="27891" y="2664"/>
                  </a:lnTo>
                  <a:lnTo>
                    <a:pt x="27660" y="2895"/>
                  </a:lnTo>
                  <a:lnTo>
                    <a:pt x="27544" y="3011"/>
                  </a:lnTo>
                  <a:lnTo>
                    <a:pt x="27428" y="3011"/>
                  </a:lnTo>
                  <a:lnTo>
                    <a:pt x="27197" y="3011"/>
                  </a:lnTo>
                  <a:lnTo>
                    <a:pt x="27081" y="2895"/>
                  </a:lnTo>
                  <a:lnTo>
                    <a:pt x="26850" y="2895"/>
                  </a:lnTo>
                  <a:lnTo>
                    <a:pt x="26618" y="2895"/>
                  </a:lnTo>
                  <a:lnTo>
                    <a:pt x="26502" y="3127"/>
                  </a:lnTo>
                  <a:lnTo>
                    <a:pt x="26502" y="3127"/>
                  </a:lnTo>
                  <a:lnTo>
                    <a:pt x="26387" y="3474"/>
                  </a:lnTo>
                  <a:lnTo>
                    <a:pt x="26155" y="3706"/>
                  </a:lnTo>
                  <a:lnTo>
                    <a:pt x="25924" y="3822"/>
                  </a:lnTo>
                  <a:lnTo>
                    <a:pt x="25577" y="3822"/>
                  </a:lnTo>
                  <a:lnTo>
                    <a:pt x="25229" y="3822"/>
                  </a:lnTo>
                  <a:lnTo>
                    <a:pt x="24882" y="3822"/>
                  </a:lnTo>
                  <a:lnTo>
                    <a:pt x="24651" y="3822"/>
                  </a:lnTo>
                  <a:lnTo>
                    <a:pt x="24304" y="3938"/>
                  </a:lnTo>
                  <a:lnTo>
                    <a:pt x="24304" y="3938"/>
                  </a:lnTo>
                  <a:lnTo>
                    <a:pt x="21526" y="4517"/>
                  </a:lnTo>
                  <a:lnTo>
                    <a:pt x="18633" y="5096"/>
                  </a:lnTo>
                  <a:lnTo>
                    <a:pt x="15855" y="5559"/>
                  </a:lnTo>
                  <a:lnTo>
                    <a:pt x="13078" y="6138"/>
                  </a:lnTo>
                  <a:lnTo>
                    <a:pt x="10184" y="6717"/>
                  </a:lnTo>
                  <a:lnTo>
                    <a:pt x="7407" y="7296"/>
                  </a:lnTo>
                  <a:lnTo>
                    <a:pt x="4513" y="7759"/>
                  </a:lnTo>
                  <a:lnTo>
                    <a:pt x="1620" y="8223"/>
                  </a:lnTo>
                  <a:lnTo>
                    <a:pt x="1620" y="8223"/>
                  </a:lnTo>
                  <a:lnTo>
                    <a:pt x="1389" y="8107"/>
                  </a:lnTo>
                  <a:lnTo>
                    <a:pt x="1157" y="7875"/>
                  </a:lnTo>
                  <a:lnTo>
                    <a:pt x="926" y="7759"/>
                  </a:lnTo>
                  <a:lnTo>
                    <a:pt x="694" y="7528"/>
                  </a:lnTo>
                  <a:lnTo>
                    <a:pt x="463" y="7296"/>
                  </a:lnTo>
                  <a:lnTo>
                    <a:pt x="231" y="7064"/>
                  </a:lnTo>
                  <a:lnTo>
                    <a:pt x="116" y="6717"/>
                  </a:lnTo>
                  <a:lnTo>
                    <a:pt x="0" y="6485"/>
                  </a:lnTo>
                  <a:lnTo>
                    <a:pt x="0" y="6485"/>
                  </a:lnTo>
                  <a:lnTo>
                    <a:pt x="4398" y="5675"/>
                  </a:lnTo>
                  <a:lnTo>
                    <a:pt x="8680" y="4864"/>
                  </a:lnTo>
                  <a:lnTo>
                    <a:pt x="12846" y="3938"/>
                  </a:lnTo>
                  <a:lnTo>
                    <a:pt x="17128" y="3127"/>
                  </a:lnTo>
                  <a:lnTo>
                    <a:pt x="21295" y="2316"/>
                  </a:lnTo>
                  <a:lnTo>
                    <a:pt x="25577" y="1506"/>
                  </a:lnTo>
                  <a:lnTo>
                    <a:pt x="29859" y="695"/>
                  </a:lnTo>
                  <a:lnTo>
                    <a:pt x="-31279" y="116"/>
                  </a:lnTo>
                  <a:lnTo>
                    <a:pt x="-31279" y="116"/>
                  </a:lnTo>
                  <a:lnTo>
                    <a:pt x="-31279" y="0"/>
                  </a:lnTo>
                  <a:lnTo>
                    <a:pt x="-31279" y="0"/>
                  </a:lnTo>
                  <a:lnTo>
                    <a:pt x="-31164" y="0"/>
                  </a:lnTo>
                  <a:lnTo>
                    <a:pt x="-31164" y="0"/>
                  </a:lnTo>
                  <a:lnTo>
                    <a:pt x="-31164" y="0"/>
                  </a:lnTo>
                  <a:lnTo>
                    <a:pt x="-31164" y="0"/>
                  </a:lnTo>
                  <a:lnTo>
                    <a:pt x="-31048" y="0"/>
                  </a:lnTo>
                  <a:lnTo>
                    <a:pt x="-31048" y="0"/>
                  </a:lnTo>
                  <a:lnTo>
                    <a:pt x="-31048" y="0"/>
                  </a:lnTo>
                  <a:lnTo>
                    <a:pt x="-31048" y="0"/>
                  </a:lnTo>
                  <a:lnTo>
                    <a:pt x="-31048" y="0"/>
                  </a:lnTo>
                  <a:lnTo>
                    <a:pt x="-31048"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1313280" y="4651920"/>
              <a:ext cx="322560" cy="565560"/>
            </a:xfrm>
            <a:custGeom>
              <a:avLst/>
              <a:gdLst/>
              <a:ahLst/>
              <a:rect l="l" t="t" r="r" b="b"/>
              <a:pathLst>
                <a:path w="9027" h="10539">
                  <a:moveTo>
                    <a:pt x="7176" y="579"/>
                  </a:moveTo>
                  <a:lnTo>
                    <a:pt x="7176" y="695"/>
                  </a:lnTo>
                  <a:lnTo>
                    <a:pt x="7176" y="811"/>
                  </a:lnTo>
                  <a:lnTo>
                    <a:pt x="7176" y="927"/>
                  </a:lnTo>
                  <a:lnTo>
                    <a:pt x="7060" y="1042"/>
                  </a:lnTo>
                  <a:lnTo>
                    <a:pt x="7060" y="1158"/>
                  </a:lnTo>
                  <a:lnTo>
                    <a:pt x="6944" y="1274"/>
                  </a:lnTo>
                  <a:lnTo>
                    <a:pt x="6828" y="1274"/>
                  </a:lnTo>
                  <a:lnTo>
                    <a:pt x="6713" y="1274"/>
                  </a:lnTo>
                  <a:lnTo>
                    <a:pt x="6713" y="1274"/>
                  </a:lnTo>
                  <a:lnTo>
                    <a:pt x="6597" y="1274"/>
                  </a:lnTo>
                  <a:lnTo>
                    <a:pt x="6365" y="1274"/>
                  </a:lnTo>
                  <a:lnTo>
                    <a:pt x="6134" y="1274"/>
                  </a:lnTo>
                  <a:lnTo>
                    <a:pt x="6018" y="1274"/>
                  </a:lnTo>
                  <a:lnTo>
                    <a:pt x="5787" y="1390"/>
                  </a:lnTo>
                  <a:lnTo>
                    <a:pt x="5671" y="1506"/>
                  </a:lnTo>
                  <a:lnTo>
                    <a:pt x="5555" y="1622"/>
                  </a:lnTo>
                  <a:lnTo>
                    <a:pt x="5440" y="1737"/>
                  </a:lnTo>
                  <a:lnTo>
                    <a:pt x="5440" y="1737"/>
                  </a:lnTo>
                  <a:lnTo>
                    <a:pt x="5324" y="1969"/>
                  </a:lnTo>
                  <a:lnTo>
                    <a:pt x="5092" y="2201"/>
                  </a:lnTo>
                  <a:lnTo>
                    <a:pt x="4977" y="2432"/>
                  </a:lnTo>
                  <a:lnTo>
                    <a:pt x="4861" y="2664"/>
                  </a:lnTo>
                  <a:lnTo>
                    <a:pt x="4745" y="2895"/>
                  </a:lnTo>
                  <a:lnTo>
                    <a:pt x="4745" y="3127"/>
                  </a:lnTo>
                  <a:lnTo>
                    <a:pt x="4629" y="3359"/>
                  </a:lnTo>
                  <a:lnTo>
                    <a:pt x="4745" y="3590"/>
                  </a:lnTo>
                  <a:lnTo>
                    <a:pt x="4745" y="3590"/>
                  </a:lnTo>
                  <a:lnTo>
                    <a:pt x="4629" y="3822"/>
                  </a:lnTo>
                  <a:lnTo>
                    <a:pt x="4629" y="4054"/>
                  </a:lnTo>
                  <a:lnTo>
                    <a:pt x="4629" y="4401"/>
                  </a:lnTo>
                  <a:lnTo>
                    <a:pt x="4745" y="4633"/>
                  </a:lnTo>
                  <a:lnTo>
                    <a:pt x="4861" y="4864"/>
                  </a:lnTo>
                  <a:lnTo>
                    <a:pt x="4861" y="5212"/>
                  </a:lnTo>
                  <a:lnTo>
                    <a:pt x="4977" y="5443"/>
                  </a:lnTo>
                  <a:lnTo>
                    <a:pt x="5092" y="5675"/>
                  </a:lnTo>
                  <a:lnTo>
                    <a:pt x="5092" y="5675"/>
                  </a:lnTo>
                  <a:lnTo>
                    <a:pt x="5555" y="6138"/>
                  </a:lnTo>
                  <a:lnTo>
                    <a:pt x="5902" y="6486"/>
                  </a:lnTo>
                  <a:lnTo>
                    <a:pt x="6481" y="6717"/>
                  </a:lnTo>
                  <a:lnTo>
                    <a:pt x="6944" y="6949"/>
                  </a:lnTo>
                  <a:lnTo>
                    <a:pt x="7523" y="7180"/>
                  </a:lnTo>
                  <a:lnTo>
                    <a:pt x="7986" y="7296"/>
                  </a:lnTo>
                  <a:lnTo>
                    <a:pt x="8564" y="7528"/>
                  </a:lnTo>
                  <a:lnTo>
                    <a:pt x="9027" y="7875"/>
                  </a:lnTo>
                  <a:lnTo>
                    <a:pt x="9027" y="7875"/>
                  </a:lnTo>
                  <a:lnTo>
                    <a:pt x="9027" y="7991"/>
                  </a:lnTo>
                  <a:lnTo>
                    <a:pt x="9027" y="8107"/>
                  </a:lnTo>
                  <a:lnTo>
                    <a:pt x="9027" y="8223"/>
                  </a:lnTo>
                  <a:lnTo>
                    <a:pt x="8911" y="8339"/>
                  </a:lnTo>
                  <a:lnTo>
                    <a:pt x="8911" y="8454"/>
                  </a:lnTo>
                  <a:lnTo>
                    <a:pt x="8911" y="8570"/>
                  </a:lnTo>
                  <a:lnTo>
                    <a:pt x="8796" y="8686"/>
                  </a:lnTo>
                  <a:lnTo>
                    <a:pt x="8796" y="8802"/>
                  </a:lnTo>
                  <a:lnTo>
                    <a:pt x="8796" y="8802"/>
                  </a:lnTo>
                  <a:lnTo>
                    <a:pt x="8449" y="8918"/>
                  </a:lnTo>
                  <a:lnTo>
                    <a:pt x="8217" y="9033"/>
                  </a:lnTo>
                  <a:lnTo>
                    <a:pt x="7870" y="8918"/>
                  </a:lnTo>
                  <a:lnTo>
                    <a:pt x="7638" y="8918"/>
                  </a:lnTo>
                  <a:lnTo>
                    <a:pt x="7291" y="8686"/>
                  </a:lnTo>
                  <a:lnTo>
                    <a:pt x="7060" y="8570"/>
                  </a:lnTo>
                  <a:lnTo>
                    <a:pt x="6828" y="8454"/>
                  </a:lnTo>
                  <a:lnTo>
                    <a:pt x="6597" y="8223"/>
                  </a:lnTo>
                  <a:lnTo>
                    <a:pt x="6597" y="8223"/>
                  </a:lnTo>
                  <a:lnTo>
                    <a:pt x="6134" y="8223"/>
                  </a:lnTo>
                  <a:lnTo>
                    <a:pt x="5787" y="8107"/>
                  </a:lnTo>
                  <a:lnTo>
                    <a:pt x="5440" y="7991"/>
                  </a:lnTo>
                  <a:lnTo>
                    <a:pt x="5092" y="7759"/>
                  </a:lnTo>
                  <a:lnTo>
                    <a:pt x="4745" y="7528"/>
                  </a:lnTo>
                  <a:lnTo>
                    <a:pt x="4398" y="7296"/>
                  </a:lnTo>
                  <a:lnTo>
                    <a:pt x="4051" y="7065"/>
                  </a:lnTo>
                  <a:lnTo>
                    <a:pt x="3704" y="6949"/>
                  </a:lnTo>
                  <a:lnTo>
                    <a:pt x="3704" y="6949"/>
                  </a:lnTo>
                  <a:lnTo>
                    <a:pt x="3588" y="6833"/>
                  </a:lnTo>
                  <a:lnTo>
                    <a:pt x="3472" y="6949"/>
                  </a:lnTo>
                  <a:lnTo>
                    <a:pt x="4861" y="8223"/>
                  </a:lnTo>
                  <a:lnTo>
                    <a:pt x="4861" y="8223"/>
                  </a:lnTo>
                  <a:lnTo>
                    <a:pt x="4514" y="8223"/>
                  </a:lnTo>
                  <a:lnTo>
                    <a:pt x="4166" y="8107"/>
                  </a:lnTo>
                  <a:lnTo>
                    <a:pt x="3819" y="7875"/>
                  </a:lnTo>
                  <a:lnTo>
                    <a:pt x="3588" y="7644"/>
                  </a:lnTo>
                  <a:lnTo>
                    <a:pt x="3241" y="7412"/>
                  </a:lnTo>
                  <a:lnTo>
                    <a:pt x="3009" y="7180"/>
                  </a:lnTo>
                  <a:lnTo>
                    <a:pt x="2662" y="7065"/>
                  </a:lnTo>
                  <a:lnTo>
                    <a:pt x="2430" y="6949"/>
                  </a:lnTo>
                  <a:lnTo>
                    <a:pt x="2430" y="6949"/>
                  </a:lnTo>
                  <a:lnTo>
                    <a:pt x="2546" y="7180"/>
                  </a:lnTo>
                  <a:lnTo>
                    <a:pt x="2662" y="7412"/>
                  </a:lnTo>
                  <a:lnTo>
                    <a:pt x="2893" y="7644"/>
                  </a:lnTo>
                  <a:lnTo>
                    <a:pt x="3125" y="7875"/>
                  </a:lnTo>
                  <a:lnTo>
                    <a:pt x="3241" y="7991"/>
                  </a:lnTo>
                  <a:lnTo>
                    <a:pt x="3472" y="8223"/>
                  </a:lnTo>
                  <a:lnTo>
                    <a:pt x="3704" y="8454"/>
                  </a:lnTo>
                  <a:lnTo>
                    <a:pt x="3935" y="8570"/>
                  </a:lnTo>
                  <a:lnTo>
                    <a:pt x="3935" y="8570"/>
                  </a:lnTo>
                  <a:lnTo>
                    <a:pt x="3935" y="8686"/>
                  </a:lnTo>
                  <a:lnTo>
                    <a:pt x="3819" y="8686"/>
                  </a:lnTo>
                  <a:lnTo>
                    <a:pt x="3588" y="8802"/>
                  </a:lnTo>
                  <a:lnTo>
                    <a:pt x="3472" y="8802"/>
                  </a:lnTo>
                  <a:lnTo>
                    <a:pt x="3356" y="8802"/>
                  </a:lnTo>
                  <a:lnTo>
                    <a:pt x="3241" y="8802"/>
                  </a:lnTo>
                  <a:lnTo>
                    <a:pt x="3009" y="8802"/>
                  </a:lnTo>
                  <a:lnTo>
                    <a:pt x="3009" y="8686"/>
                  </a:lnTo>
                  <a:lnTo>
                    <a:pt x="3009" y="8686"/>
                  </a:lnTo>
                  <a:lnTo>
                    <a:pt x="2662" y="8570"/>
                  </a:lnTo>
                  <a:lnTo>
                    <a:pt x="2546" y="8339"/>
                  </a:lnTo>
                  <a:lnTo>
                    <a:pt x="2315" y="8107"/>
                  </a:lnTo>
                  <a:lnTo>
                    <a:pt x="2083" y="7875"/>
                  </a:lnTo>
                  <a:lnTo>
                    <a:pt x="1852" y="7644"/>
                  </a:lnTo>
                  <a:lnTo>
                    <a:pt x="1620" y="7412"/>
                  </a:lnTo>
                  <a:lnTo>
                    <a:pt x="1505" y="7296"/>
                  </a:lnTo>
                  <a:lnTo>
                    <a:pt x="1273" y="7065"/>
                  </a:lnTo>
                  <a:lnTo>
                    <a:pt x="1273" y="7065"/>
                  </a:lnTo>
                  <a:lnTo>
                    <a:pt x="1157" y="7412"/>
                  </a:lnTo>
                  <a:lnTo>
                    <a:pt x="1157" y="7759"/>
                  </a:lnTo>
                  <a:lnTo>
                    <a:pt x="1157" y="8107"/>
                  </a:lnTo>
                  <a:lnTo>
                    <a:pt x="1157" y="8454"/>
                  </a:lnTo>
                  <a:lnTo>
                    <a:pt x="1273" y="8802"/>
                  </a:lnTo>
                  <a:lnTo>
                    <a:pt x="1389" y="9149"/>
                  </a:lnTo>
                  <a:lnTo>
                    <a:pt x="1505" y="9612"/>
                  </a:lnTo>
                  <a:lnTo>
                    <a:pt x="1620" y="9960"/>
                  </a:lnTo>
                  <a:lnTo>
                    <a:pt x="1620" y="9960"/>
                  </a:lnTo>
                  <a:lnTo>
                    <a:pt x="1620" y="10539"/>
                  </a:lnTo>
                  <a:lnTo>
                    <a:pt x="1620" y="10539"/>
                  </a:lnTo>
                  <a:lnTo>
                    <a:pt x="1389" y="10539"/>
                  </a:lnTo>
                  <a:lnTo>
                    <a:pt x="1273" y="10539"/>
                  </a:lnTo>
                  <a:lnTo>
                    <a:pt x="1042" y="10423"/>
                  </a:lnTo>
                  <a:lnTo>
                    <a:pt x="926" y="10423"/>
                  </a:lnTo>
                  <a:lnTo>
                    <a:pt x="810" y="10191"/>
                  </a:lnTo>
                  <a:lnTo>
                    <a:pt x="695" y="10076"/>
                  </a:lnTo>
                  <a:lnTo>
                    <a:pt x="579" y="9960"/>
                  </a:lnTo>
                  <a:lnTo>
                    <a:pt x="463" y="9844"/>
                  </a:lnTo>
                  <a:lnTo>
                    <a:pt x="463" y="9844"/>
                  </a:lnTo>
                  <a:lnTo>
                    <a:pt x="116" y="9149"/>
                  </a:lnTo>
                  <a:lnTo>
                    <a:pt x="0" y="8570"/>
                  </a:lnTo>
                  <a:lnTo>
                    <a:pt x="116" y="7991"/>
                  </a:lnTo>
                  <a:lnTo>
                    <a:pt x="347" y="7412"/>
                  </a:lnTo>
                  <a:lnTo>
                    <a:pt x="579" y="6833"/>
                  </a:lnTo>
                  <a:lnTo>
                    <a:pt x="810" y="6138"/>
                  </a:lnTo>
                  <a:lnTo>
                    <a:pt x="926" y="5559"/>
                  </a:lnTo>
                  <a:lnTo>
                    <a:pt x="926" y="4864"/>
                  </a:lnTo>
                  <a:lnTo>
                    <a:pt x="926" y="4864"/>
                  </a:lnTo>
                  <a:lnTo>
                    <a:pt x="1157" y="4864"/>
                  </a:lnTo>
                  <a:lnTo>
                    <a:pt x="1389" y="4864"/>
                  </a:lnTo>
                  <a:lnTo>
                    <a:pt x="1620" y="4864"/>
                  </a:lnTo>
                  <a:lnTo>
                    <a:pt x="1852" y="4748"/>
                  </a:lnTo>
                  <a:lnTo>
                    <a:pt x="2083" y="4633"/>
                  </a:lnTo>
                  <a:lnTo>
                    <a:pt x="2315" y="4517"/>
                  </a:lnTo>
                  <a:lnTo>
                    <a:pt x="2546" y="4401"/>
                  </a:lnTo>
                  <a:lnTo>
                    <a:pt x="2662" y="4169"/>
                  </a:lnTo>
                  <a:lnTo>
                    <a:pt x="2662" y="4169"/>
                  </a:lnTo>
                  <a:lnTo>
                    <a:pt x="2778" y="3822"/>
                  </a:lnTo>
                  <a:lnTo>
                    <a:pt x="3009" y="3475"/>
                  </a:lnTo>
                  <a:lnTo>
                    <a:pt x="3125" y="3127"/>
                  </a:lnTo>
                  <a:lnTo>
                    <a:pt x="3241" y="2780"/>
                  </a:lnTo>
                  <a:lnTo>
                    <a:pt x="3241" y="2432"/>
                  </a:lnTo>
                  <a:lnTo>
                    <a:pt x="3241" y="2085"/>
                  </a:lnTo>
                  <a:lnTo>
                    <a:pt x="3125" y="1737"/>
                  </a:lnTo>
                  <a:lnTo>
                    <a:pt x="3009" y="1390"/>
                  </a:lnTo>
                  <a:lnTo>
                    <a:pt x="3009" y="1390"/>
                  </a:lnTo>
                  <a:lnTo>
                    <a:pt x="3125" y="1274"/>
                  </a:lnTo>
                  <a:lnTo>
                    <a:pt x="3241" y="1042"/>
                  </a:lnTo>
                  <a:lnTo>
                    <a:pt x="3472" y="811"/>
                  </a:lnTo>
                  <a:lnTo>
                    <a:pt x="3704" y="695"/>
                  </a:lnTo>
                  <a:lnTo>
                    <a:pt x="3819" y="579"/>
                  </a:lnTo>
                  <a:lnTo>
                    <a:pt x="4051" y="463"/>
                  </a:lnTo>
                  <a:lnTo>
                    <a:pt x="4282" y="463"/>
                  </a:lnTo>
                  <a:lnTo>
                    <a:pt x="4629" y="463"/>
                  </a:lnTo>
                  <a:lnTo>
                    <a:pt x="4629" y="463"/>
                  </a:lnTo>
                  <a:lnTo>
                    <a:pt x="4745" y="579"/>
                  </a:lnTo>
                  <a:lnTo>
                    <a:pt x="4977" y="579"/>
                  </a:lnTo>
                  <a:lnTo>
                    <a:pt x="5092" y="695"/>
                  </a:lnTo>
                  <a:lnTo>
                    <a:pt x="5324" y="811"/>
                  </a:lnTo>
                  <a:lnTo>
                    <a:pt x="5440" y="927"/>
                  </a:lnTo>
                  <a:lnTo>
                    <a:pt x="5555" y="927"/>
                  </a:lnTo>
                  <a:lnTo>
                    <a:pt x="5787" y="927"/>
                  </a:lnTo>
                  <a:lnTo>
                    <a:pt x="6018" y="811"/>
                  </a:lnTo>
                  <a:lnTo>
                    <a:pt x="6018" y="811"/>
                  </a:lnTo>
                  <a:lnTo>
                    <a:pt x="5671" y="463"/>
                  </a:lnTo>
                  <a:lnTo>
                    <a:pt x="5671" y="463"/>
                  </a:lnTo>
                  <a:lnTo>
                    <a:pt x="5902" y="348"/>
                  </a:lnTo>
                  <a:lnTo>
                    <a:pt x="6134" y="232"/>
                  </a:lnTo>
                  <a:lnTo>
                    <a:pt x="6365" y="116"/>
                  </a:lnTo>
                  <a:lnTo>
                    <a:pt x="6597" y="0"/>
                  </a:lnTo>
                  <a:lnTo>
                    <a:pt x="6828" y="0"/>
                  </a:lnTo>
                  <a:lnTo>
                    <a:pt x="6944" y="116"/>
                  </a:lnTo>
                  <a:lnTo>
                    <a:pt x="7060" y="232"/>
                  </a:lnTo>
                  <a:lnTo>
                    <a:pt x="7176" y="579"/>
                  </a:lnTo>
                  <a:lnTo>
                    <a:pt x="7176" y="579"/>
                  </a:lnTo>
                  <a:lnTo>
                    <a:pt x="7176" y="579"/>
                  </a:lnTo>
                  <a:lnTo>
                    <a:pt x="7176" y="579"/>
                  </a:lnTo>
                  <a:lnTo>
                    <a:pt x="717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1305000" y="4708080"/>
              <a:ext cx="103320" cy="173880"/>
            </a:xfrm>
            <a:custGeom>
              <a:avLst/>
              <a:gdLst/>
              <a:ahLst/>
              <a:rect l="l" t="t" r="r" b="b"/>
              <a:pathLst>
                <a:path w="2893" h="3243">
                  <a:moveTo>
                    <a:pt x="2893" y="927"/>
                  </a:moveTo>
                  <a:lnTo>
                    <a:pt x="2893" y="1159"/>
                  </a:lnTo>
                  <a:lnTo>
                    <a:pt x="2893" y="1390"/>
                  </a:lnTo>
                  <a:lnTo>
                    <a:pt x="2893" y="1622"/>
                  </a:lnTo>
                  <a:lnTo>
                    <a:pt x="2893" y="1853"/>
                  </a:lnTo>
                  <a:lnTo>
                    <a:pt x="2777" y="2085"/>
                  </a:lnTo>
                  <a:lnTo>
                    <a:pt x="2661" y="2317"/>
                  </a:lnTo>
                  <a:lnTo>
                    <a:pt x="2546" y="2548"/>
                  </a:lnTo>
                  <a:lnTo>
                    <a:pt x="2430" y="2780"/>
                  </a:lnTo>
                  <a:lnTo>
                    <a:pt x="2430" y="2780"/>
                  </a:lnTo>
                  <a:lnTo>
                    <a:pt x="2314" y="2896"/>
                  </a:lnTo>
                  <a:lnTo>
                    <a:pt x="2199" y="3012"/>
                  </a:lnTo>
                  <a:lnTo>
                    <a:pt x="1967" y="3127"/>
                  </a:lnTo>
                  <a:lnTo>
                    <a:pt x="1851" y="3243"/>
                  </a:lnTo>
                  <a:lnTo>
                    <a:pt x="1620" y="3243"/>
                  </a:lnTo>
                  <a:lnTo>
                    <a:pt x="1388" y="3243"/>
                  </a:lnTo>
                  <a:lnTo>
                    <a:pt x="1157" y="3243"/>
                  </a:lnTo>
                  <a:lnTo>
                    <a:pt x="1041" y="3243"/>
                  </a:lnTo>
                  <a:lnTo>
                    <a:pt x="1041" y="3243"/>
                  </a:lnTo>
                  <a:lnTo>
                    <a:pt x="810" y="3127"/>
                  </a:lnTo>
                  <a:lnTo>
                    <a:pt x="694" y="3127"/>
                  </a:lnTo>
                  <a:lnTo>
                    <a:pt x="463" y="3012"/>
                  </a:lnTo>
                  <a:lnTo>
                    <a:pt x="347" y="2896"/>
                  </a:lnTo>
                  <a:lnTo>
                    <a:pt x="231" y="2664"/>
                  </a:lnTo>
                  <a:lnTo>
                    <a:pt x="231" y="2548"/>
                  </a:lnTo>
                  <a:lnTo>
                    <a:pt x="115" y="2433"/>
                  </a:lnTo>
                  <a:lnTo>
                    <a:pt x="0" y="2201"/>
                  </a:lnTo>
                  <a:lnTo>
                    <a:pt x="0" y="2201"/>
                  </a:lnTo>
                  <a:lnTo>
                    <a:pt x="231" y="2317"/>
                  </a:lnTo>
                  <a:lnTo>
                    <a:pt x="347" y="2317"/>
                  </a:lnTo>
                  <a:lnTo>
                    <a:pt x="578" y="2317"/>
                  </a:lnTo>
                  <a:lnTo>
                    <a:pt x="810" y="2317"/>
                  </a:lnTo>
                  <a:lnTo>
                    <a:pt x="926" y="2317"/>
                  </a:lnTo>
                  <a:lnTo>
                    <a:pt x="1157" y="2201"/>
                  </a:lnTo>
                  <a:lnTo>
                    <a:pt x="1388" y="2201"/>
                  </a:lnTo>
                  <a:lnTo>
                    <a:pt x="1620" y="1969"/>
                  </a:lnTo>
                  <a:lnTo>
                    <a:pt x="1620" y="1969"/>
                  </a:lnTo>
                  <a:lnTo>
                    <a:pt x="1620" y="1853"/>
                  </a:lnTo>
                  <a:lnTo>
                    <a:pt x="1736" y="1738"/>
                  </a:lnTo>
                  <a:lnTo>
                    <a:pt x="1851" y="1506"/>
                  </a:lnTo>
                  <a:lnTo>
                    <a:pt x="1851" y="1390"/>
                  </a:lnTo>
                  <a:lnTo>
                    <a:pt x="1967" y="1159"/>
                  </a:lnTo>
                  <a:lnTo>
                    <a:pt x="1967" y="1043"/>
                  </a:lnTo>
                  <a:lnTo>
                    <a:pt x="1851" y="811"/>
                  </a:lnTo>
                  <a:lnTo>
                    <a:pt x="1736" y="695"/>
                  </a:lnTo>
                  <a:lnTo>
                    <a:pt x="1736" y="695"/>
                  </a:lnTo>
                  <a:lnTo>
                    <a:pt x="1504" y="232"/>
                  </a:lnTo>
                  <a:lnTo>
                    <a:pt x="1504" y="232"/>
                  </a:lnTo>
                  <a:lnTo>
                    <a:pt x="1620" y="116"/>
                  </a:lnTo>
                  <a:lnTo>
                    <a:pt x="1851" y="0"/>
                  </a:lnTo>
                  <a:lnTo>
                    <a:pt x="2083" y="116"/>
                  </a:lnTo>
                  <a:lnTo>
                    <a:pt x="2314" y="232"/>
                  </a:lnTo>
                  <a:lnTo>
                    <a:pt x="2546" y="348"/>
                  </a:lnTo>
                  <a:lnTo>
                    <a:pt x="2661" y="580"/>
                  </a:lnTo>
                  <a:lnTo>
                    <a:pt x="2777" y="811"/>
                  </a:lnTo>
                  <a:lnTo>
                    <a:pt x="2893" y="927"/>
                  </a:lnTo>
                  <a:lnTo>
                    <a:pt x="2893" y="927"/>
                  </a:lnTo>
                  <a:lnTo>
                    <a:pt x="2893" y="927"/>
                  </a:lnTo>
                  <a:lnTo>
                    <a:pt x="2893" y="927"/>
                  </a:lnTo>
                  <a:lnTo>
                    <a:pt x="2893"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2484720" y="4714200"/>
              <a:ext cx="74520" cy="173880"/>
            </a:xfrm>
            <a:custGeom>
              <a:avLst/>
              <a:gdLst/>
              <a:ahLst/>
              <a:rect l="l" t="t" r="r" b="b"/>
              <a:pathLst>
                <a:path w="2084" h="3243">
                  <a:moveTo>
                    <a:pt x="2084" y="464"/>
                  </a:moveTo>
                  <a:lnTo>
                    <a:pt x="2084" y="811"/>
                  </a:lnTo>
                  <a:lnTo>
                    <a:pt x="2084" y="1043"/>
                  </a:lnTo>
                  <a:lnTo>
                    <a:pt x="1968" y="1274"/>
                  </a:lnTo>
                  <a:lnTo>
                    <a:pt x="1852" y="1622"/>
                  </a:lnTo>
                  <a:lnTo>
                    <a:pt x="1736" y="1853"/>
                  </a:lnTo>
                  <a:lnTo>
                    <a:pt x="1621" y="2085"/>
                  </a:lnTo>
                  <a:lnTo>
                    <a:pt x="1505" y="2317"/>
                  </a:lnTo>
                  <a:lnTo>
                    <a:pt x="1389" y="2548"/>
                  </a:lnTo>
                  <a:lnTo>
                    <a:pt x="1389" y="2548"/>
                  </a:lnTo>
                  <a:lnTo>
                    <a:pt x="1158" y="2664"/>
                  </a:lnTo>
                  <a:lnTo>
                    <a:pt x="1042" y="2780"/>
                  </a:lnTo>
                  <a:lnTo>
                    <a:pt x="926" y="2896"/>
                  </a:lnTo>
                  <a:lnTo>
                    <a:pt x="695" y="3011"/>
                  </a:lnTo>
                  <a:lnTo>
                    <a:pt x="579" y="3127"/>
                  </a:lnTo>
                  <a:lnTo>
                    <a:pt x="463" y="3243"/>
                  </a:lnTo>
                  <a:lnTo>
                    <a:pt x="232" y="3243"/>
                  </a:lnTo>
                  <a:lnTo>
                    <a:pt x="0" y="3243"/>
                  </a:lnTo>
                  <a:lnTo>
                    <a:pt x="0" y="3243"/>
                  </a:lnTo>
                  <a:lnTo>
                    <a:pt x="116" y="2896"/>
                  </a:lnTo>
                  <a:lnTo>
                    <a:pt x="116" y="2548"/>
                  </a:lnTo>
                  <a:lnTo>
                    <a:pt x="232" y="2317"/>
                  </a:lnTo>
                  <a:lnTo>
                    <a:pt x="348" y="1969"/>
                  </a:lnTo>
                  <a:lnTo>
                    <a:pt x="348" y="1622"/>
                  </a:lnTo>
                  <a:lnTo>
                    <a:pt x="348" y="1274"/>
                  </a:lnTo>
                  <a:lnTo>
                    <a:pt x="348" y="927"/>
                  </a:lnTo>
                  <a:lnTo>
                    <a:pt x="232" y="579"/>
                  </a:lnTo>
                  <a:lnTo>
                    <a:pt x="232" y="579"/>
                  </a:lnTo>
                  <a:lnTo>
                    <a:pt x="348" y="232"/>
                  </a:lnTo>
                  <a:lnTo>
                    <a:pt x="463" y="116"/>
                  </a:lnTo>
                  <a:lnTo>
                    <a:pt x="695" y="0"/>
                  </a:lnTo>
                  <a:lnTo>
                    <a:pt x="1042" y="0"/>
                  </a:lnTo>
                  <a:lnTo>
                    <a:pt x="1273" y="116"/>
                  </a:lnTo>
                  <a:lnTo>
                    <a:pt x="1621" y="232"/>
                  </a:lnTo>
                  <a:lnTo>
                    <a:pt x="1852" y="348"/>
                  </a:lnTo>
                  <a:lnTo>
                    <a:pt x="2084" y="464"/>
                  </a:lnTo>
                  <a:lnTo>
                    <a:pt x="2084" y="464"/>
                  </a:lnTo>
                  <a:lnTo>
                    <a:pt x="2084" y="464"/>
                  </a:lnTo>
                  <a:lnTo>
                    <a:pt x="2084" y="464"/>
                  </a:lnTo>
                  <a:lnTo>
                    <a:pt x="2084"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2546640" y="4726800"/>
              <a:ext cx="119880" cy="142920"/>
            </a:xfrm>
            <a:custGeom>
              <a:avLst/>
              <a:gdLst/>
              <a:ahLst/>
              <a:rect l="l" t="t" r="r" b="b"/>
              <a:pathLst>
                <a:path w="3357" h="2664">
                  <a:moveTo>
                    <a:pt x="3357" y="347"/>
                  </a:moveTo>
                  <a:lnTo>
                    <a:pt x="3125" y="811"/>
                  </a:lnTo>
                  <a:lnTo>
                    <a:pt x="2894" y="1158"/>
                  </a:lnTo>
                  <a:lnTo>
                    <a:pt x="2546" y="1505"/>
                  </a:lnTo>
                  <a:lnTo>
                    <a:pt x="2199" y="1853"/>
                  </a:lnTo>
                  <a:lnTo>
                    <a:pt x="1852" y="2200"/>
                  </a:lnTo>
                  <a:lnTo>
                    <a:pt x="1505" y="2432"/>
                  </a:lnTo>
                  <a:lnTo>
                    <a:pt x="1042" y="2548"/>
                  </a:lnTo>
                  <a:lnTo>
                    <a:pt x="695" y="2664"/>
                  </a:lnTo>
                  <a:lnTo>
                    <a:pt x="695" y="2664"/>
                  </a:lnTo>
                  <a:lnTo>
                    <a:pt x="0" y="2548"/>
                  </a:lnTo>
                  <a:lnTo>
                    <a:pt x="0" y="2548"/>
                  </a:lnTo>
                  <a:lnTo>
                    <a:pt x="348" y="2200"/>
                  </a:lnTo>
                  <a:lnTo>
                    <a:pt x="463" y="1853"/>
                  </a:lnTo>
                  <a:lnTo>
                    <a:pt x="695" y="1505"/>
                  </a:lnTo>
                  <a:lnTo>
                    <a:pt x="810" y="1158"/>
                  </a:lnTo>
                  <a:lnTo>
                    <a:pt x="926" y="811"/>
                  </a:lnTo>
                  <a:lnTo>
                    <a:pt x="1158" y="579"/>
                  </a:lnTo>
                  <a:lnTo>
                    <a:pt x="1505" y="232"/>
                  </a:lnTo>
                  <a:lnTo>
                    <a:pt x="1852" y="116"/>
                  </a:lnTo>
                  <a:lnTo>
                    <a:pt x="1852" y="116"/>
                  </a:lnTo>
                  <a:lnTo>
                    <a:pt x="2083" y="0"/>
                  </a:lnTo>
                  <a:lnTo>
                    <a:pt x="2315" y="0"/>
                  </a:lnTo>
                  <a:lnTo>
                    <a:pt x="2431" y="0"/>
                  </a:lnTo>
                  <a:lnTo>
                    <a:pt x="2662" y="0"/>
                  </a:lnTo>
                  <a:lnTo>
                    <a:pt x="2778" y="116"/>
                  </a:lnTo>
                  <a:lnTo>
                    <a:pt x="3009" y="116"/>
                  </a:lnTo>
                  <a:lnTo>
                    <a:pt x="3125" y="232"/>
                  </a:lnTo>
                  <a:lnTo>
                    <a:pt x="3357" y="347"/>
                  </a:lnTo>
                  <a:lnTo>
                    <a:pt x="3357" y="347"/>
                  </a:lnTo>
                  <a:lnTo>
                    <a:pt x="3357" y="347"/>
                  </a:lnTo>
                  <a:lnTo>
                    <a:pt x="3357" y="347"/>
                  </a:lnTo>
                  <a:lnTo>
                    <a:pt x="3357"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2381040" y="4745160"/>
              <a:ext cx="99000" cy="186480"/>
            </a:xfrm>
            <a:custGeom>
              <a:avLst/>
              <a:gdLst/>
              <a:ahLst/>
              <a:rect l="l" t="t" r="r" b="b"/>
              <a:pathLst>
                <a:path w="2778" h="3475">
                  <a:moveTo>
                    <a:pt x="2778" y="1158"/>
                  </a:moveTo>
                  <a:lnTo>
                    <a:pt x="2662" y="1506"/>
                  </a:lnTo>
                  <a:lnTo>
                    <a:pt x="2662" y="1738"/>
                  </a:lnTo>
                  <a:lnTo>
                    <a:pt x="2546" y="2085"/>
                  </a:lnTo>
                  <a:lnTo>
                    <a:pt x="2430" y="2317"/>
                  </a:lnTo>
                  <a:lnTo>
                    <a:pt x="2430" y="2664"/>
                  </a:lnTo>
                  <a:lnTo>
                    <a:pt x="2199" y="2896"/>
                  </a:lnTo>
                  <a:lnTo>
                    <a:pt x="2083" y="3127"/>
                  </a:lnTo>
                  <a:lnTo>
                    <a:pt x="1736" y="3243"/>
                  </a:lnTo>
                  <a:lnTo>
                    <a:pt x="1736" y="3243"/>
                  </a:lnTo>
                  <a:lnTo>
                    <a:pt x="1620" y="3359"/>
                  </a:lnTo>
                  <a:lnTo>
                    <a:pt x="1505" y="3359"/>
                  </a:lnTo>
                  <a:lnTo>
                    <a:pt x="1273" y="3359"/>
                  </a:lnTo>
                  <a:lnTo>
                    <a:pt x="1157" y="3475"/>
                  </a:lnTo>
                  <a:lnTo>
                    <a:pt x="1042" y="3475"/>
                  </a:lnTo>
                  <a:lnTo>
                    <a:pt x="810" y="3475"/>
                  </a:lnTo>
                  <a:lnTo>
                    <a:pt x="694" y="3359"/>
                  </a:lnTo>
                  <a:lnTo>
                    <a:pt x="579" y="3359"/>
                  </a:lnTo>
                  <a:lnTo>
                    <a:pt x="579" y="3359"/>
                  </a:lnTo>
                  <a:lnTo>
                    <a:pt x="347" y="3127"/>
                  </a:lnTo>
                  <a:lnTo>
                    <a:pt x="231" y="2896"/>
                  </a:lnTo>
                  <a:lnTo>
                    <a:pt x="231" y="2664"/>
                  </a:lnTo>
                  <a:lnTo>
                    <a:pt x="116" y="2432"/>
                  </a:lnTo>
                  <a:lnTo>
                    <a:pt x="116" y="2201"/>
                  </a:lnTo>
                  <a:lnTo>
                    <a:pt x="116" y="1969"/>
                  </a:lnTo>
                  <a:lnTo>
                    <a:pt x="0" y="1738"/>
                  </a:lnTo>
                  <a:lnTo>
                    <a:pt x="0" y="1506"/>
                  </a:lnTo>
                  <a:lnTo>
                    <a:pt x="0" y="1506"/>
                  </a:lnTo>
                  <a:lnTo>
                    <a:pt x="926" y="1274"/>
                  </a:lnTo>
                  <a:lnTo>
                    <a:pt x="926" y="1274"/>
                  </a:lnTo>
                  <a:lnTo>
                    <a:pt x="926" y="1390"/>
                  </a:lnTo>
                  <a:lnTo>
                    <a:pt x="926" y="1506"/>
                  </a:lnTo>
                  <a:lnTo>
                    <a:pt x="926" y="1622"/>
                  </a:lnTo>
                  <a:lnTo>
                    <a:pt x="926" y="1738"/>
                  </a:lnTo>
                  <a:lnTo>
                    <a:pt x="926" y="1853"/>
                  </a:lnTo>
                  <a:lnTo>
                    <a:pt x="926" y="1853"/>
                  </a:lnTo>
                  <a:lnTo>
                    <a:pt x="926" y="1969"/>
                  </a:lnTo>
                  <a:lnTo>
                    <a:pt x="1042" y="2085"/>
                  </a:lnTo>
                  <a:lnTo>
                    <a:pt x="1042" y="2085"/>
                  </a:lnTo>
                  <a:lnTo>
                    <a:pt x="1157" y="1738"/>
                  </a:lnTo>
                  <a:lnTo>
                    <a:pt x="1273" y="1390"/>
                  </a:lnTo>
                  <a:lnTo>
                    <a:pt x="1389" y="1158"/>
                  </a:lnTo>
                  <a:lnTo>
                    <a:pt x="1620" y="927"/>
                  </a:lnTo>
                  <a:lnTo>
                    <a:pt x="1852" y="579"/>
                  </a:lnTo>
                  <a:lnTo>
                    <a:pt x="2083" y="348"/>
                  </a:lnTo>
                  <a:lnTo>
                    <a:pt x="2315" y="232"/>
                  </a:lnTo>
                  <a:lnTo>
                    <a:pt x="2546" y="0"/>
                  </a:lnTo>
                  <a:lnTo>
                    <a:pt x="2546" y="0"/>
                  </a:lnTo>
                  <a:lnTo>
                    <a:pt x="2662" y="116"/>
                  </a:lnTo>
                  <a:lnTo>
                    <a:pt x="2778" y="232"/>
                  </a:lnTo>
                  <a:lnTo>
                    <a:pt x="2778" y="348"/>
                  </a:lnTo>
                  <a:lnTo>
                    <a:pt x="2778" y="579"/>
                  </a:lnTo>
                  <a:lnTo>
                    <a:pt x="2778" y="695"/>
                  </a:lnTo>
                  <a:lnTo>
                    <a:pt x="2778" y="927"/>
                  </a:lnTo>
                  <a:lnTo>
                    <a:pt x="2778" y="1043"/>
                  </a:lnTo>
                  <a:lnTo>
                    <a:pt x="2778" y="1158"/>
                  </a:lnTo>
                  <a:lnTo>
                    <a:pt x="2778" y="1158"/>
                  </a:lnTo>
                  <a:lnTo>
                    <a:pt x="2778" y="1158"/>
                  </a:lnTo>
                  <a:lnTo>
                    <a:pt x="2778" y="1158"/>
                  </a:lnTo>
                  <a:lnTo>
                    <a:pt x="2778"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1598760" y="4776480"/>
              <a:ext cx="827640" cy="254880"/>
            </a:xfrm>
            <a:custGeom>
              <a:avLst/>
              <a:gdLst/>
              <a:ahLst/>
              <a:rect l="l" t="t" r="r" b="b"/>
              <a:pathLst>
                <a:path w="23146" h="4749">
                  <a:moveTo>
                    <a:pt x="23146" y="0"/>
                  </a:moveTo>
                  <a:lnTo>
                    <a:pt x="22336" y="232"/>
                  </a:lnTo>
                  <a:lnTo>
                    <a:pt x="21526" y="464"/>
                  </a:lnTo>
                  <a:lnTo>
                    <a:pt x="20600" y="695"/>
                  </a:lnTo>
                  <a:lnTo>
                    <a:pt x="19790" y="1043"/>
                  </a:lnTo>
                  <a:lnTo>
                    <a:pt x="18980" y="1274"/>
                  </a:lnTo>
                  <a:lnTo>
                    <a:pt x="18054" y="1390"/>
                  </a:lnTo>
                  <a:lnTo>
                    <a:pt x="17128" y="1622"/>
                  </a:lnTo>
                  <a:lnTo>
                    <a:pt x="16318" y="1738"/>
                  </a:lnTo>
                  <a:lnTo>
                    <a:pt x="16318" y="1738"/>
                  </a:lnTo>
                  <a:lnTo>
                    <a:pt x="4397" y="4054"/>
                  </a:lnTo>
                  <a:lnTo>
                    <a:pt x="810" y="4749"/>
                  </a:lnTo>
                  <a:lnTo>
                    <a:pt x="0" y="4401"/>
                  </a:lnTo>
                  <a:lnTo>
                    <a:pt x="0" y="4401"/>
                  </a:lnTo>
                  <a:lnTo>
                    <a:pt x="2314" y="3938"/>
                  </a:lnTo>
                  <a:lnTo>
                    <a:pt x="4629" y="3591"/>
                  </a:lnTo>
                  <a:lnTo>
                    <a:pt x="6944" y="3127"/>
                  </a:lnTo>
                  <a:lnTo>
                    <a:pt x="9258" y="2664"/>
                  </a:lnTo>
                  <a:lnTo>
                    <a:pt x="11573" y="2201"/>
                  </a:lnTo>
                  <a:lnTo>
                    <a:pt x="13888" y="1738"/>
                  </a:lnTo>
                  <a:lnTo>
                    <a:pt x="16202" y="1274"/>
                  </a:lnTo>
                  <a:lnTo>
                    <a:pt x="18633" y="927"/>
                  </a:lnTo>
                  <a:lnTo>
                    <a:pt x="18633" y="927"/>
                  </a:lnTo>
                  <a:lnTo>
                    <a:pt x="19211" y="811"/>
                  </a:lnTo>
                  <a:lnTo>
                    <a:pt x="19674" y="695"/>
                  </a:lnTo>
                  <a:lnTo>
                    <a:pt x="20253" y="695"/>
                  </a:lnTo>
                  <a:lnTo>
                    <a:pt x="20831" y="579"/>
                  </a:lnTo>
                  <a:lnTo>
                    <a:pt x="21410" y="464"/>
                  </a:lnTo>
                  <a:lnTo>
                    <a:pt x="21989" y="348"/>
                  </a:lnTo>
                  <a:lnTo>
                    <a:pt x="22567" y="116"/>
                  </a:lnTo>
                  <a:lnTo>
                    <a:pt x="23146" y="0"/>
                  </a:lnTo>
                  <a:lnTo>
                    <a:pt x="23146" y="0"/>
                  </a:lnTo>
                  <a:lnTo>
                    <a:pt x="23146" y="0"/>
                  </a:lnTo>
                  <a:lnTo>
                    <a:pt x="23146" y="0"/>
                  </a:lnTo>
                  <a:lnTo>
                    <a:pt x="23146"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1213920" y="4813560"/>
              <a:ext cx="74160" cy="335520"/>
            </a:xfrm>
            <a:custGeom>
              <a:avLst/>
              <a:gdLst/>
              <a:ahLst/>
              <a:rect l="l" t="t" r="r" b="b"/>
              <a:pathLst>
                <a:path w="2083" h="6254">
                  <a:moveTo>
                    <a:pt x="1620" y="0"/>
                  </a:moveTo>
                  <a:lnTo>
                    <a:pt x="1273" y="695"/>
                  </a:lnTo>
                  <a:lnTo>
                    <a:pt x="1041" y="1506"/>
                  </a:lnTo>
                  <a:lnTo>
                    <a:pt x="925" y="2316"/>
                  </a:lnTo>
                  <a:lnTo>
                    <a:pt x="925" y="3127"/>
                  </a:lnTo>
                  <a:lnTo>
                    <a:pt x="1041" y="3822"/>
                  </a:lnTo>
                  <a:lnTo>
                    <a:pt x="1273" y="4633"/>
                  </a:lnTo>
                  <a:lnTo>
                    <a:pt x="1620" y="5328"/>
                  </a:lnTo>
                  <a:lnTo>
                    <a:pt x="2083" y="5907"/>
                  </a:lnTo>
                  <a:lnTo>
                    <a:pt x="2083" y="5907"/>
                  </a:lnTo>
                  <a:lnTo>
                    <a:pt x="2083" y="6254"/>
                  </a:lnTo>
                  <a:lnTo>
                    <a:pt x="2083" y="6254"/>
                  </a:lnTo>
                  <a:lnTo>
                    <a:pt x="1851" y="6254"/>
                  </a:lnTo>
                  <a:lnTo>
                    <a:pt x="1736" y="6254"/>
                  </a:lnTo>
                  <a:lnTo>
                    <a:pt x="1504" y="6254"/>
                  </a:lnTo>
                  <a:lnTo>
                    <a:pt x="1388" y="6138"/>
                  </a:lnTo>
                  <a:lnTo>
                    <a:pt x="1273" y="6022"/>
                  </a:lnTo>
                  <a:lnTo>
                    <a:pt x="1041" y="5907"/>
                  </a:lnTo>
                  <a:lnTo>
                    <a:pt x="925" y="5907"/>
                  </a:lnTo>
                  <a:lnTo>
                    <a:pt x="810" y="5791"/>
                  </a:lnTo>
                  <a:lnTo>
                    <a:pt x="810" y="5791"/>
                  </a:lnTo>
                  <a:lnTo>
                    <a:pt x="462" y="5212"/>
                  </a:lnTo>
                  <a:lnTo>
                    <a:pt x="231" y="4748"/>
                  </a:lnTo>
                  <a:lnTo>
                    <a:pt x="0" y="4169"/>
                  </a:lnTo>
                  <a:lnTo>
                    <a:pt x="0" y="3475"/>
                  </a:lnTo>
                  <a:lnTo>
                    <a:pt x="0" y="2896"/>
                  </a:lnTo>
                  <a:lnTo>
                    <a:pt x="0" y="2201"/>
                  </a:lnTo>
                  <a:lnTo>
                    <a:pt x="115" y="1622"/>
                  </a:lnTo>
                  <a:lnTo>
                    <a:pt x="231" y="1043"/>
                  </a:lnTo>
                  <a:lnTo>
                    <a:pt x="231" y="1043"/>
                  </a:lnTo>
                  <a:lnTo>
                    <a:pt x="347" y="927"/>
                  </a:lnTo>
                  <a:lnTo>
                    <a:pt x="462" y="695"/>
                  </a:lnTo>
                  <a:lnTo>
                    <a:pt x="694" y="579"/>
                  </a:lnTo>
                  <a:lnTo>
                    <a:pt x="810" y="348"/>
                  </a:lnTo>
                  <a:lnTo>
                    <a:pt x="925" y="232"/>
                  </a:lnTo>
                  <a:lnTo>
                    <a:pt x="1157" y="116"/>
                  </a:lnTo>
                  <a:lnTo>
                    <a:pt x="1388" y="0"/>
                  </a:lnTo>
                  <a:lnTo>
                    <a:pt x="1620" y="0"/>
                  </a:lnTo>
                  <a:lnTo>
                    <a:pt x="1620" y="0"/>
                  </a:lnTo>
                  <a:lnTo>
                    <a:pt x="1620" y="0"/>
                  </a:lnTo>
                  <a:lnTo>
                    <a:pt x="1620" y="0"/>
                  </a:lnTo>
                  <a:lnTo>
                    <a:pt x="16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1267920" y="4832280"/>
              <a:ext cx="37080" cy="279720"/>
            </a:xfrm>
            <a:custGeom>
              <a:avLst/>
              <a:gdLst/>
              <a:ahLst/>
              <a:rect l="l" t="t" r="r" b="b"/>
              <a:pathLst>
                <a:path w="1042" h="5211">
                  <a:moveTo>
                    <a:pt x="694" y="1968"/>
                  </a:moveTo>
                  <a:lnTo>
                    <a:pt x="1042" y="3706"/>
                  </a:lnTo>
                  <a:lnTo>
                    <a:pt x="810" y="5211"/>
                  </a:lnTo>
                  <a:lnTo>
                    <a:pt x="810" y="5211"/>
                  </a:lnTo>
                  <a:lnTo>
                    <a:pt x="463" y="4632"/>
                  </a:lnTo>
                  <a:lnTo>
                    <a:pt x="232" y="3937"/>
                  </a:lnTo>
                  <a:lnTo>
                    <a:pt x="0" y="3358"/>
                  </a:lnTo>
                  <a:lnTo>
                    <a:pt x="0" y="2663"/>
                  </a:lnTo>
                  <a:lnTo>
                    <a:pt x="0" y="1968"/>
                  </a:lnTo>
                  <a:lnTo>
                    <a:pt x="0" y="1274"/>
                  </a:lnTo>
                  <a:lnTo>
                    <a:pt x="232" y="579"/>
                  </a:lnTo>
                  <a:lnTo>
                    <a:pt x="463" y="0"/>
                  </a:lnTo>
                  <a:lnTo>
                    <a:pt x="463" y="0"/>
                  </a:lnTo>
                  <a:lnTo>
                    <a:pt x="694" y="231"/>
                  </a:lnTo>
                  <a:lnTo>
                    <a:pt x="810" y="463"/>
                  </a:lnTo>
                  <a:lnTo>
                    <a:pt x="810" y="695"/>
                  </a:lnTo>
                  <a:lnTo>
                    <a:pt x="810" y="926"/>
                  </a:lnTo>
                  <a:lnTo>
                    <a:pt x="694" y="1158"/>
                  </a:lnTo>
                  <a:lnTo>
                    <a:pt x="694" y="1505"/>
                  </a:lnTo>
                  <a:lnTo>
                    <a:pt x="579" y="1737"/>
                  </a:lnTo>
                  <a:lnTo>
                    <a:pt x="694" y="1968"/>
                  </a:lnTo>
                  <a:lnTo>
                    <a:pt x="694" y="1968"/>
                  </a:lnTo>
                  <a:lnTo>
                    <a:pt x="694" y="1968"/>
                  </a:lnTo>
                  <a:lnTo>
                    <a:pt x="694" y="1968"/>
                  </a:lnTo>
                  <a:lnTo>
                    <a:pt x="694" y="19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2335680" y="4838760"/>
              <a:ext cx="32760" cy="55800"/>
            </a:xfrm>
            <a:custGeom>
              <a:avLst/>
              <a:gdLst/>
              <a:ahLst/>
              <a:rect l="l" t="t" r="r" b="b"/>
              <a:pathLst>
                <a:path w="926" h="1042">
                  <a:moveTo>
                    <a:pt x="926" y="926"/>
                  </a:moveTo>
                  <a:lnTo>
                    <a:pt x="926" y="1042"/>
                  </a:lnTo>
                  <a:lnTo>
                    <a:pt x="926" y="1042"/>
                  </a:lnTo>
                  <a:lnTo>
                    <a:pt x="810" y="1042"/>
                  </a:lnTo>
                  <a:lnTo>
                    <a:pt x="694" y="1042"/>
                  </a:lnTo>
                  <a:lnTo>
                    <a:pt x="579" y="1042"/>
                  </a:lnTo>
                  <a:lnTo>
                    <a:pt x="463" y="926"/>
                  </a:lnTo>
                  <a:lnTo>
                    <a:pt x="347" y="926"/>
                  </a:lnTo>
                  <a:lnTo>
                    <a:pt x="231" y="810"/>
                  </a:lnTo>
                  <a:lnTo>
                    <a:pt x="116" y="694"/>
                  </a:lnTo>
                  <a:lnTo>
                    <a:pt x="0" y="579"/>
                  </a:lnTo>
                  <a:lnTo>
                    <a:pt x="0" y="579"/>
                  </a:lnTo>
                  <a:lnTo>
                    <a:pt x="0" y="463"/>
                  </a:lnTo>
                  <a:lnTo>
                    <a:pt x="0" y="347"/>
                  </a:lnTo>
                  <a:lnTo>
                    <a:pt x="0" y="231"/>
                  </a:lnTo>
                  <a:lnTo>
                    <a:pt x="116" y="115"/>
                  </a:lnTo>
                  <a:lnTo>
                    <a:pt x="116" y="115"/>
                  </a:lnTo>
                  <a:lnTo>
                    <a:pt x="231" y="0"/>
                  </a:lnTo>
                  <a:lnTo>
                    <a:pt x="347" y="0"/>
                  </a:lnTo>
                  <a:lnTo>
                    <a:pt x="463" y="0"/>
                  </a:lnTo>
                  <a:lnTo>
                    <a:pt x="463" y="0"/>
                  </a:lnTo>
                  <a:lnTo>
                    <a:pt x="579" y="0"/>
                  </a:lnTo>
                  <a:lnTo>
                    <a:pt x="694" y="115"/>
                  </a:lnTo>
                  <a:lnTo>
                    <a:pt x="810" y="115"/>
                  </a:lnTo>
                  <a:lnTo>
                    <a:pt x="810" y="347"/>
                  </a:lnTo>
                  <a:lnTo>
                    <a:pt x="810" y="463"/>
                  </a:lnTo>
                  <a:lnTo>
                    <a:pt x="926" y="579"/>
                  </a:lnTo>
                  <a:lnTo>
                    <a:pt x="926" y="810"/>
                  </a:lnTo>
                  <a:lnTo>
                    <a:pt x="926" y="926"/>
                  </a:lnTo>
                  <a:lnTo>
                    <a:pt x="926" y="926"/>
                  </a:lnTo>
                  <a:lnTo>
                    <a:pt x="926" y="926"/>
                  </a:lnTo>
                  <a:lnTo>
                    <a:pt x="926" y="926"/>
                  </a:lnTo>
                  <a:lnTo>
                    <a:pt x="926" y="92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266" name=""/>
            <p:cNvSpPr/>
            <p:nvPr/>
          </p:nvSpPr>
          <p:spPr>
            <a:xfrm>
              <a:off x="1019520" y="4851000"/>
              <a:ext cx="227520" cy="391680"/>
            </a:xfrm>
            <a:custGeom>
              <a:avLst/>
              <a:gdLst/>
              <a:ahLst/>
              <a:rect l="l" t="t" r="r" b="b"/>
              <a:pathLst>
                <a:path w="6365" h="7296">
                  <a:moveTo>
                    <a:pt x="6365" y="5791"/>
                  </a:moveTo>
                  <a:lnTo>
                    <a:pt x="5671" y="6022"/>
                  </a:lnTo>
                  <a:lnTo>
                    <a:pt x="4977" y="6370"/>
                  </a:lnTo>
                  <a:lnTo>
                    <a:pt x="4282" y="6717"/>
                  </a:lnTo>
                  <a:lnTo>
                    <a:pt x="3588" y="7065"/>
                  </a:lnTo>
                  <a:lnTo>
                    <a:pt x="2778" y="7296"/>
                  </a:lnTo>
                  <a:lnTo>
                    <a:pt x="2083" y="7296"/>
                  </a:lnTo>
                  <a:lnTo>
                    <a:pt x="1389" y="6949"/>
                  </a:lnTo>
                  <a:lnTo>
                    <a:pt x="810" y="6370"/>
                  </a:lnTo>
                  <a:lnTo>
                    <a:pt x="810" y="6370"/>
                  </a:lnTo>
                  <a:lnTo>
                    <a:pt x="463" y="5906"/>
                  </a:lnTo>
                  <a:lnTo>
                    <a:pt x="116" y="5327"/>
                  </a:lnTo>
                  <a:lnTo>
                    <a:pt x="0" y="4748"/>
                  </a:lnTo>
                  <a:lnTo>
                    <a:pt x="0" y="4169"/>
                  </a:lnTo>
                  <a:lnTo>
                    <a:pt x="0" y="3590"/>
                  </a:lnTo>
                  <a:lnTo>
                    <a:pt x="0" y="3011"/>
                  </a:lnTo>
                  <a:lnTo>
                    <a:pt x="116" y="2432"/>
                  </a:lnTo>
                  <a:lnTo>
                    <a:pt x="232" y="1853"/>
                  </a:lnTo>
                  <a:lnTo>
                    <a:pt x="232" y="1853"/>
                  </a:lnTo>
                  <a:lnTo>
                    <a:pt x="695" y="1274"/>
                  </a:lnTo>
                  <a:lnTo>
                    <a:pt x="1157" y="811"/>
                  </a:lnTo>
                  <a:lnTo>
                    <a:pt x="1736" y="579"/>
                  </a:lnTo>
                  <a:lnTo>
                    <a:pt x="2431" y="463"/>
                  </a:lnTo>
                  <a:lnTo>
                    <a:pt x="3125" y="348"/>
                  </a:lnTo>
                  <a:lnTo>
                    <a:pt x="3935" y="232"/>
                  </a:lnTo>
                  <a:lnTo>
                    <a:pt x="4629" y="232"/>
                  </a:lnTo>
                  <a:lnTo>
                    <a:pt x="5208" y="0"/>
                  </a:lnTo>
                  <a:lnTo>
                    <a:pt x="5208" y="0"/>
                  </a:lnTo>
                  <a:lnTo>
                    <a:pt x="5092" y="811"/>
                  </a:lnTo>
                  <a:lnTo>
                    <a:pt x="4977" y="1506"/>
                  </a:lnTo>
                  <a:lnTo>
                    <a:pt x="4977" y="2316"/>
                  </a:lnTo>
                  <a:lnTo>
                    <a:pt x="4977" y="3127"/>
                  </a:lnTo>
                  <a:lnTo>
                    <a:pt x="5092" y="3938"/>
                  </a:lnTo>
                  <a:lnTo>
                    <a:pt x="5324" y="4633"/>
                  </a:lnTo>
                  <a:lnTo>
                    <a:pt x="5787" y="5327"/>
                  </a:lnTo>
                  <a:lnTo>
                    <a:pt x="6365" y="5791"/>
                  </a:lnTo>
                  <a:lnTo>
                    <a:pt x="6365" y="5791"/>
                  </a:lnTo>
                  <a:lnTo>
                    <a:pt x="6365" y="5791"/>
                  </a:lnTo>
                  <a:lnTo>
                    <a:pt x="6365" y="5791"/>
                  </a:lnTo>
                  <a:lnTo>
                    <a:pt x="6365" y="5791"/>
                  </a:lnTo>
                  <a:close/>
                </a:path>
              </a:pathLst>
            </a:custGeom>
            <a:solidFill>
              <a:srgbClr val="ff3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1483200" y="4857120"/>
              <a:ext cx="835920" cy="857880"/>
            </a:xfrm>
            <a:custGeom>
              <a:avLst/>
              <a:gdLst/>
              <a:ahLst/>
              <a:rect l="l" t="t" r="r" b="b"/>
              <a:pathLst>
                <a:path w="23378" h="15982">
                  <a:moveTo>
                    <a:pt x="23378" y="6949"/>
                  </a:moveTo>
                  <a:lnTo>
                    <a:pt x="23031" y="7180"/>
                  </a:lnTo>
                  <a:lnTo>
                    <a:pt x="22568" y="7412"/>
                  </a:lnTo>
                  <a:lnTo>
                    <a:pt x="22221" y="7528"/>
                  </a:lnTo>
                  <a:lnTo>
                    <a:pt x="21758" y="7528"/>
                  </a:lnTo>
                  <a:lnTo>
                    <a:pt x="21295" y="7643"/>
                  </a:lnTo>
                  <a:lnTo>
                    <a:pt x="20832" y="7643"/>
                  </a:lnTo>
                  <a:lnTo>
                    <a:pt x="20369" y="7759"/>
                  </a:lnTo>
                  <a:lnTo>
                    <a:pt x="19906" y="7875"/>
                  </a:lnTo>
                  <a:lnTo>
                    <a:pt x="19906" y="7875"/>
                  </a:lnTo>
                  <a:lnTo>
                    <a:pt x="16203" y="9033"/>
                  </a:lnTo>
                  <a:lnTo>
                    <a:pt x="2778" y="15055"/>
                  </a:lnTo>
                  <a:lnTo>
                    <a:pt x="2778" y="15055"/>
                  </a:lnTo>
                  <a:lnTo>
                    <a:pt x="2546" y="15171"/>
                  </a:lnTo>
                  <a:lnTo>
                    <a:pt x="2199" y="15403"/>
                  </a:lnTo>
                  <a:lnTo>
                    <a:pt x="1852" y="15518"/>
                  </a:lnTo>
                  <a:lnTo>
                    <a:pt x="1505" y="15750"/>
                  </a:lnTo>
                  <a:lnTo>
                    <a:pt x="1157" y="15866"/>
                  </a:lnTo>
                  <a:lnTo>
                    <a:pt x="810" y="15982"/>
                  </a:lnTo>
                  <a:lnTo>
                    <a:pt x="463" y="15982"/>
                  </a:lnTo>
                  <a:lnTo>
                    <a:pt x="0" y="15982"/>
                  </a:lnTo>
                  <a:lnTo>
                    <a:pt x="0" y="15982"/>
                  </a:lnTo>
                  <a:lnTo>
                    <a:pt x="0" y="14592"/>
                  </a:lnTo>
                  <a:lnTo>
                    <a:pt x="116" y="13202"/>
                  </a:lnTo>
                  <a:lnTo>
                    <a:pt x="116" y="11813"/>
                  </a:lnTo>
                  <a:lnTo>
                    <a:pt x="232" y="10423"/>
                  </a:lnTo>
                  <a:lnTo>
                    <a:pt x="347" y="8917"/>
                  </a:lnTo>
                  <a:lnTo>
                    <a:pt x="347" y="7528"/>
                  </a:lnTo>
                  <a:lnTo>
                    <a:pt x="463" y="6138"/>
                  </a:lnTo>
                  <a:lnTo>
                    <a:pt x="579" y="4748"/>
                  </a:lnTo>
                  <a:lnTo>
                    <a:pt x="579" y="4748"/>
                  </a:lnTo>
                  <a:lnTo>
                    <a:pt x="1157" y="4748"/>
                  </a:lnTo>
                  <a:lnTo>
                    <a:pt x="1620" y="4980"/>
                  </a:lnTo>
                  <a:lnTo>
                    <a:pt x="2083" y="5211"/>
                  </a:lnTo>
                  <a:lnTo>
                    <a:pt x="2546" y="5559"/>
                  </a:lnTo>
                  <a:lnTo>
                    <a:pt x="3009" y="5790"/>
                  </a:lnTo>
                  <a:lnTo>
                    <a:pt x="3472" y="5790"/>
                  </a:lnTo>
                  <a:lnTo>
                    <a:pt x="3935" y="5675"/>
                  </a:lnTo>
                  <a:lnTo>
                    <a:pt x="4514" y="5327"/>
                  </a:lnTo>
                  <a:lnTo>
                    <a:pt x="4514" y="5327"/>
                  </a:lnTo>
                  <a:lnTo>
                    <a:pt x="4514" y="5211"/>
                  </a:lnTo>
                  <a:lnTo>
                    <a:pt x="4629" y="5096"/>
                  </a:lnTo>
                  <a:lnTo>
                    <a:pt x="4629" y="4980"/>
                  </a:lnTo>
                  <a:lnTo>
                    <a:pt x="4745" y="4980"/>
                  </a:lnTo>
                  <a:lnTo>
                    <a:pt x="4745" y="4864"/>
                  </a:lnTo>
                  <a:lnTo>
                    <a:pt x="4745" y="4748"/>
                  </a:lnTo>
                  <a:lnTo>
                    <a:pt x="4861" y="4632"/>
                  </a:lnTo>
                  <a:lnTo>
                    <a:pt x="4861" y="4517"/>
                  </a:lnTo>
                  <a:lnTo>
                    <a:pt x="4861" y="4517"/>
                  </a:lnTo>
                  <a:lnTo>
                    <a:pt x="4861" y="4401"/>
                  </a:lnTo>
                  <a:lnTo>
                    <a:pt x="4745" y="4285"/>
                  </a:lnTo>
                  <a:lnTo>
                    <a:pt x="4745" y="4169"/>
                  </a:lnTo>
                  <a:lnTo>
                    <a:pt x="4745" y="4053"/>
                  </a:lnTo>
                  <a:lnTo>
                    <a:pt x="4745" y="3937"/>
                  </a:lnTo>
                  <a:lnTo>
                    <a:pt x="4629" y="3822"/>
                  </a:lnTo>
                  <a:lnTo>
                    <a:pt x="4629" y="3706"/>
                  </a:lnTo>
                  <a:lnTo>
                    <a:pt x="4514" y="3706"/>
                  </a:lnTo>
                  <a:lnTo>
                    <a:pt x="4514" y="3706"/>
                  </a:lnTo>
                  <a:lnTo>
                    <a:pt x="6828" y="3127"/>
                  </a:lnTo>
                  <a:lnTo>
                    <a:pt x="9143" y="2664"/>
                  </a:lnTo>
                  <a:lnTo>
                    <a:pt x="11458" y="2316"/>
                  </a:lnTo>
                  <a:lnTo>
                    <a:pt x="13772" y="1853"/>
                  </a:lnTo>
                  <a:lnTo>
                    <a:pt x="15971" y="1390"/>
                  </a:lnTo>
                  <a:lnTo>
                    <a:pt x="18286" y="1042"/>
                  </a:lnTo>
                  <a:lnTo>
                    <a:pt x="20600" y="579"/>
                  </a:lnTo>
                  <a:lnTo>
                    <a:pt x="22799" y="0"/>
                  </a:lnTo>
                  <a:lnTo>
                    <a:pt x="22799" y="0"/>
                  </a:lnTo>
                  <a:lnTo>
                    <a:pt x="22799" y="926"/>
                  </a:lnTo>
                  <a:lnTo>
                    <a:pt x="22799" y="1737"/>
                  </a:lnTo>
                  <a:lnTo>
                    <a:pt x="22799" y="2664"/>
                  </a:lnTo>
                  <a:lnTo>
                    <a:pt x="22799" y="3590"/>
                  </a:lnTo>
                  <a:lnTo>
                    <a:pt x="22915" y="4401"/>
                  </a:lnTo>
                  <a:lnTo>
                    <a:pt x="23031" y="5327"/>
                  </a:lnTo>
                  <a:lnTo>
                    <a:pt x="23147" y="6138"/>
                  </a:lnTo>
                  <a:lnTo>
                    <a:pt x="23378" y="6949"/>
                  </a:lnTo>
                  <a:lnTo>
                    <a:pt x="23378" y="6949"/>
                  </a:lnTo>
                  <a:lnTo>
                    <a:pt x="23378" y="6949"/>
                  </a:lnTo>
                  <a:lnTo>
                    <a:pt x="23378" y="6949"/>
                  </a:lnTo>
                  <a:lnTo>
                    <a:pt x="23378" y="6949"/>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1309320" y="4894560"/>
              <a:ext cx="20520" cy="111600"/>
            </a:xfrm>
            <a:custGeom>
              <a:avLst/>
              <a:gdLst/>
              <a:ahLst/>
              <a:rect l="l" t="t" r="r" b="b"/>
              <a:pathLst>
                <a:path w="579" h="2084">
                  <a:moveTo>
                    <a:pt x="579" y="695"/>
                  </a:moveTo>
                  <a:lnTo>
                    <a:pt x="116" y="2084"/>
                  </a:lnTo>
                  <a:lnTo>
                    <a:pt x="116" y="2084"/>
                  </a:lnTo>
                  <a:lnTo>
                    <a:pt x="0" y="1853"/>
                  </a:lnTo>
                  <a:lnTo>
                    <a:pt x="0" y="1621"/>
                  </a:lnTo>
                  <a:lnTo>
                    <a:pt x="0" y="1274"/>
                  </a:lnTo>
                  <a:lnTo>
                    <a:pt x="0" y="1042"/>
                  </a:lnTo>
                  <a:lnTo>
                    <a:pt x="0" y="810"/>
                  </a:lnTo>
                  <a:lnTo>
                    <a:pt x="0" y="579"/>
                  </a:lnTo>
                  <a:lnTo>
                    <a:pt x="0" y="231"/>
                  </a:lnTo>
                  <a:lnTo>
                    <a:pt x="116" y="0"/>
                  </a:lnTo>
                  <a:lnTo>
                    <a:pt x="116" y="0"/>
                  </a:lnTo>
                  <a:lnTo>
                    <a:pt x="232" y="0"/>
                  </a:lnTo>
                  <a:lnTo>
                    <a:pt x="348" y="116"/>
                  </a:lnTo>
                  <a:lnTo>
                    <a:pt x="348" y="116"/>
                  </a:lnTo>
                  <a:lnTo>
                    <a:pt x="463" y="231"/>
                  </a:lnTo>
                  <a:lnTo>
                    <a:pt x="463" y="347"/>
                  </a:lnTo>
                  <a:lnTo>
                    <a:pt x="463" y="463"/>
                  </a:lnTo>
                  <a:lnTo>
                    <a:pt x="463" y="579"/>
                  </a:lnTo>
                  <a:lnTo>
                    <a:pt x="579" y="695"/>
                  </a:lnTo>
                  <a:lnTo>
                    <a:pt x="579" y="695"/>
                  </a:lnTo>
                  <a:lnTo>
                    <a:pt x="579" y="695"/>
                  </a:lnTo>
                  <a:lnTo>
                    <a:pt x="579" y="695"/>
                  </a:lnTo>
                  <a:lnTo>
                    <a:pt x="579"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1044360" y="5112000"/>
              <a:ext cx="144720" cy="105480"/>
            </a:xfrm>
            <a:custGeom>
              <a:avLst/>
              <a:gdLst/>
              <a:ahLst/>
              <a:rect l="l" t="t" r="r" b="b"/>
              <a:pathLst>
                <a:path w="4050" h="1969">
                  <a:moveTo>
                    <a:pt x="1157" y="1274"/>
                  </a:moveTo>
                  <a:lnTo>
                    <a:pt x="1157" y="1158"/>
                  </a:lnTo>
                  <a:lnTo>
                    <a:pt x="1157" y="1042"/>
                  </a:lnTo>
                  <a:lnTo>
                    <a:pt x="1041" y="1042"/>
                  </a:lnTo>
                  <a:lnTo>
                    <a:pt x="1041" y="927"/>
                  </a:lnTo>
                  <a:lnTo>
                    <a:pt x="1041" y="811"/>
                  </a:lnTo>
                  <a:lnTo>
                    <a:pt x="925" y="695"/>
                  </a:lnTo>
                  <a:lnTo>
                    <a:pt x="925" y="579"/>
                  </a:lnTo>
                  <a:lnTo>
                    <a:pt x="925" y="463"/>
                  </a:lnTo>
                  <a:lnTo>
                    <a:pt x="925" y="463"/>
                  </a:lnTo>
                  <a:lnTo>
                    <a:pt x="1157" y="463"/>
                  </a:lnTo>
                  <a:lnTo>
                    <a:pt x="1273" y="579"/>
                  </a:lnTo>
                  <a:lnTo>
                    <a:pt x="1388" y="695"/>
                  </a:lnTo>
                  <a:lnTo>
                    <a:pt x="1504" y="927"/>
                  </a:lnTo>
                  <a:lnTo>
                    <a:pt x="1620" y="1042"/>
                  </a:lnTo>
                  <a:lnTo>
                    <a:pt x="1620" y="1158"/>
                  </a:lnTo>
                  <a:lnTo>
                    <a:pt x="1851" y="1274"/>
                  </a:lnTo>
                  <a:lnTo>
                    <a:pt x="1967" y="1390"/>
                  </a:lnTo>
                  <a:lnTo>
                    <a:pt x="1967" y="1390"/>
                  </a:lnTo>
                  <a:lnTo>
                    <a:pt x="1851" y="1274"/>
                  </a:lnTo>
                  <a:lnTo>
                    <a:pt x="1851" y="1158"/>
                  </a:lnTo>
                  <a:lnTo>
                    <a:pt x="1851" y="1042"/>
                  </a:lnTo>
                  <a:lnTo>
                    <a:pt x="1736" y="927"/>
                  </a:lnTo>
                  <a:lnTo>
                    <a:pt x="1736" y="811"/>
                  </a:lnTo>
                  <a:lnTo>
                    <a:pt x="1736" y="695"/>
                  </a:lnTo>
                  <a:lnTo>
                    <a:pt x="1620" y="579"/>
                  </a:lnTo>
                  <a:lnTo>
                    <a:pt x="1620" y="463"/>
                  </a:lnTo>
                  <a:lnTo>
                    <a:pt x="1620" y="463"/>
                  </a:lnTo>
                  <a:lnTo>
                    <a:pt x="1851" y="463"/>
                  </a:lnTo>
                  <a:lnTo>
                    <a:pt x="1967" y="579"/>
                  </a:lnTo>
                  <a:lnTo>
                    <a:pt x="2083" y="811"/>
                  </a:lnTo>
                  <a:lnTo>
                    <a:pt x="2083" y="927"/>
                  </a:lnTo>
                  <a:lnTo>
                    <a:pt x="2198" y="1158"/>
                  </a:lnTo>
                  <a:lnTo>
                    <a:pt x="2314" y="1274"/>
                  </a:lnTo>
                  <a:lnTo>
                    <a:pt x="2546" y="1274"/>
                  </a:lnTo>
                  <a:lnTo>
                    <a:pt x="2777" y="1274"/>
                  </a:lnTo>
                  <a:lnTo>
                    <a:pt x="2777" y="1274"/>
                  </a:lnTo>
                  <a:lnTo>
                    <a:pt x="2661" y="1158"/>
                  </a:lnTo>
                  <a:lnTo>
                    <a:pt x="2661" y="1042"/>
                  </a:lnTo>
                  <a:lnTo>
                    <a:pt x="2661" y="1042"/>
                  </a:lnTo>
                  <a:lnTo>
                    <a:pt x="2546" y="927"/>
                  </a:lnTo>
                  <a:lnTo>
                    <a:pt x="2546" y="811"/>
                  </a:lnTo>
                  <a:lnTo>
                    <a:pt x="2430" y="695"/>
                  </a:lnTo>
                  <a:lnTo>
                    <a:pt x="2430" y="695"/>
                  </a:lnTo>
                  <a:lnTo>
                    <a:pt x="2430" y="579"/>
                  </a:lnTo>
                  <a:lnTo>
                    <a:pt x="2430" y="579"/>
                  </a:lnTo>
                  <a:lnTo>
                    <a:pt x="2546" y="579"/>
                  </a:lnTo>
                  <a:lnTo>
                    <a:pt x="2777" y="695"/>
                  </a:lnTo>
                  <a:lnTo>
                    <a:pt x="2777" y="811"/>
                  </a:lnTo>
                  <a:lnTo>
                    <a:pt x="2893" y="927"/>
                  </a:lnTo>
                  <a:lnTo>
                    <a:pt x="3009" y="1042"/>
                  </a:lnTo>
                  <a:lnTo>
                    <a:pt x="3124" y="1158"/>
                  </a:lnTo>
                  <a:lnTo>
                    <a:pt x="3356" y="1158"/>
                  </a:lnTo>
                  <a:lnTo>
                    <a:pt x="3471" y="1042"/>
                  </a:lnTo>
                  <a:lnTo>
                    <a:pt x="3471" y="1042"/>
                  </a:lnTo>
                  <a:lnTo>
                    <a:pt x="3471" y="1042"/>
                  </a:lnTo>
                  <a:lnTo>
                    <a:pt x="3356" y="927"/>
                  </a:lnTo>
                  <a:lnTo>
                    <a:pt x="3240" y="811"/>
                  </a:lnTo>
                  <a:lnTo>
                    <a:pt x="3124" y="695"/>
                  </a:lnTo>
                  <a:lnTo>
                    <a:pt x="3009" y="579"/>
                  </a:lnTo>
                  <a:lnTo>
                    <a:pt x="3009" y="463"/>
                  </a:lnTo>
                  <a:lnTo>
                    <a:pt x="3009" y="348"/>
                  </a:lnTo>
                  <a:lnTo>
                    <a:pt x="3009" y="232"/>
                  </a:lnTo>
                  <a:lnTo>
                    <a:pt x="3009" y="232"/>
                  </a:lnTo>
                  <a:lnTo>
                    <a:pt x="3124" y="348"/>
                  </a:lnTo>
                  <a:lnTo>
                    <a:pt x="3240" y="348"/>
                  </a:lnTo>
                  <a:lnTo>
                    <a:pt x="3356" y="463"/>
                  </a:lnTo>
                  <a:lnTo>
                    <a:pt x="3471" y="579"/>
                  </a:lnTo>
                  <a:lnTo>
                    <a:pt x="3587" y="695"/>
                  </a:lnTo>
                  <a:lnTo>
                    <a:pt x="3819" y="811"/>
                  </a:lnTo>
                  <a:lnTo>
                    <a:pt x="3934" y="811"/>
                  </a:lnTo>
                  <a:lnTo>
                    <a:pt x="4050" y="927"/>
                  </a:lnTo>
                  <a:lnTo>
                    <a:pt x="4050" y="927"/>
                  </a:lnTo>
                  <a:lnTo>
                    <a:pt x="3934" y="1042"/>
                  </a:lnTo>
                  <a:lnTo>
                    <a:pt x="3819" y="1042"/>
                  </a:lnTo>
                  <a:lnTo>
                    <a:pt x="3703" y="1158"/>
                  </a:lnTo>
                  <a:lnTo>
                    <a:pt x="3587" y="1158"/>
                  </a:lnTo>
                  <a:lnTo>
                    <a:pt x="3471" y="1158"/>
                  </a:lnTo>
                  <a:lnTo>
                    <a:pt x="3356" y="1158"/>
                  </a:lnTo>
                  <a:lnTo>
                    <a:pt x="3356" y="1274"/>
                  </a:lnTo>
                  <a:lnTo>
                    <a:pt x="3471" y="1390"/>
                  </a:lnTo>
                  <a:lnTo>
                    <a:pt x="3471" y="1390"/>
                  </a:lnTo>
                  <a:lnTo>
                    <a:pt x="3009" y="1506"/>
                  </a:lnTo>
                  <a:lnTo>
                    <a:pt x="3009" y="1506"/>
                  </a:lnTo>
                  <a:lnTo>
                    <a:pt x="2893" y="1621"/>
                  </a:lnTo>
                  <a:lnTo>
                    <a:pt x="2777" y="1737"/>
                  </a:lnTo>
                  <a:lnTo>
                    <a:pt x="2661" y="1737"/>
                  </a:lnTo>
                  <a:lnTo>
                    <a:pt x="2546" y="1853"/>
                  </a:lnTo>
                  <a:lnTo>
                    <a:pt x="2314" y="1853"/>
                  </a:lnTo>
                  <a:lnTo>
                    <a:pt x="2198" y="1853"/>
                  </a:lnTo>
                  <a:lnTo>
                    <a:pt x="1967" y="1969"/>
                  </a:lnTo>
                  <a:lnTo>
                    <a:pt x="1851" y="1969"/>
                  </a:lnTo>
                  <a:lnTo>
                    <a:pt x="1851" y="1969"/>
                  </a:lnTo>
                  <a:lnTo>
                    <a:pt x="1736" y="1969"/>
                  </a:lnTo>
                  <a:lnTo>
                    <a:pt x="1504" y="1969"/>
                  </a:lnTo>
                  <a:lnTo>
                    <a:pt x="1273" y="1853"/>
                  </a:lnTo>
                  <a:lnTo>
                    <a:pt x="1157" y="1737"/>
                  </a:lnTo>
                  <a:lnTo>
                    <a:pt x="925" y="1621"/>
                  </a:lnTo>
                  <a:lnTo>
                    <a:pt x="810" y="1506"/>
                  </a:lnTo>
                  <a:lnTo>
                    <a:pt x="694" y="1390"/>
                  </a:lnTo>
                  <a:lnTo>
                    <a:pt x="462" y="1274"/>
                  </a:lnTo>
                  <a:lnTo>
                    <a:pt x="462" y="1274"/>
                  </a:lnTo>
                  <a:lnTo>
                    <a:pt x="347" y="1158"/>
                  </a:lnTo>
                  <a:lnTo>
                    <a:pt x="231" y="927"/>
                  </a:lnTo>
                  <a:lnTo>
                    <a:pt x="231" y="811"/>
                  </a:lnTo>
                  <a:lnTo>
                    <a:pt x="115" y="579"/>
                  </a:lnTo>
                  <a:lnTo>
                    <a:pt x="0" y="463"/>
                  </a:lnTo>
                  <a:lnTo>
                    <a:pt x="0" y="232"/>
                  </a:lnTo>
                  <a:lnTo>
                    <a:pt x="0" y="116"/>
                  </a:lnTo>
                  <a:lnTo>
                    <a:pt x="0" y="0"/>
                  </a:lnTo>
                  <a:lnTo>
                    <a:pt x="0" y="0"/>
                  </a:lnTo>
                  <a:lnTo>
                    <a:pt x="115" y="116"/>
                  </a:lnTo>
                  <a:lnTo>
                    <a:pt x="231" y="348"/>
                  </a:lnTo>
                  <a:lnTo>
                    <a:pt x="347" y="463"/>
                  </a:lnTo>
                  <a:lnTo>
                    <a:pt x="462" y="695"/>
                  </a:lnTo>
                  <a:lnTo>
                    <a:pt x="578" y="811"/>
                  </a:lnTo>
                  <a:lnTo>
                    <a:pt x="810" y="1042"/>
                  </a:lnTo>
                  <a:lnTo>
                    <a:pt x="925" y="1158"/>
                  </a:lnTo>
                  <a:lnTo>
                    <a:pt x="1157" y="1274"/>
                  </a:lnTo>
                  <a:lnTo>
                    <a:pt x="1157" y="1274"/>
                  </a:lnTo>
                  <a:lnTo>
                    <a:pt x="1157" y="1274"/>
                  </a:lnTo>
                  <a:lnTo>
                    <a:pt x="1157" y="1274"/>
                  </a:lnTo>
                  <a:lnTo>
                    <a:pt x="1157"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1176840" y="5112000"/>
              <a:ext cx="37080" cy="43200"/>
            </a:xfrm>
            <a:custGeom>
              <a:avLst/>
              <a:gdLst/>
              <a:ahLst/>
              <a:rect l="l" t="t" r="r" b="b"/>
              <a:pathLst>
                <a:path w="1042" h="811">
                  <a:moveTo>
                    <a:pt x="1042" y="811"/>
                  </a:moveTo>
                  <a:lnTo>
                    <a:pt x="926" y="811"/>
                  </a:lnTo>
                  <a:lnTo>
                    <a:pt x="810" y="811"/>
                  </a:lnTo>
                  <a:lnTo>
                    <a:pt x="694" y="811"/>
                  </a:lnTo>
                  <a:lnTo>
                    <a:pt x="579" y="811"/>
                  </a:lnTo>
                  <a:lnTo>
                    <a:pt x="463" y="695"/>
                  </a:lnTo>
                  <a:lnTo>
                    <a:pt x="347" y="695"/>
                  </a:lnTo>
                  <a:lnTo>
                    <a:pt x="231" y="579"/>
                  </a:lnTo>
                  <a:lnTo>
                    <a:pt x="116" y="579"/>
                  </a:lnTo>
                  <a:lnTo>
                    <a:pt x="116" y="579"/>
                  </a:lnTo>
                  <a:lnTo>
                    <a:pt x="0" y="0"/>
                  </a:lnTo>
                  <a:lnTo>
                    <a:pt x="0" y="0"/>
                  </a:lnTo>
                  <a:lnTo>
                    <a:pt x="116" y="116"/>
                  </a:lnTo>
                  <a:lnTo>
                    <a:pt x="231" y="232"/>
                  </a:lnTo>
                  <a:lnTo>
                    <a:pt x="463" y="348"/>
                  </a:lnTo>
                  <a:lnTo>
                    <a:pt x="694" y="348"/>
                  </a:lnTo>
                  <a:lnTo>
                    <a:pt x="810" y="348"/>
                  </a:lnTo>
                  <a:lnTo>
                    <a:pt x="926" y="463"/>
                  </a:lnTo>
                  <a:lnTo>
                    <a:pt x="1042" y="579"/>
                  </a:lnTo>
                  <a:lnTo>
                    <a:pt x="1042" y="811"/>
                  </a:lnTo>
                  <a:lnTo>
                    <a:pt x="1042" y="811"/>
                  </a:lnTo>
                  <a:lnTo>
                    <a:pt x="1042" y="811"/>
                  </a:lnTo>
                  <a:lnTo>
                    <a:pt x="1042" y="811"/>
                  </a:lnTo>
                  <a:lnTo>
                    <a:pt x="1042" y="8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271" name=""/>
            <p:cNvSpPr/>
            <p:nvPr/>
          </p:nvSpPr>
          <p:spPr>
            <a:xfrm>
              <a:off x="1441800" y="5118480"/>
              <a:ext cx="45360" cy="553320"/>
            </a:xfrm>
            <a:custGeom>
              <a:avLst/>
              <a:gdLst/>
              <a:ahLst/>
              <a:rect l="l" t="t" r="r" b="b"/>
              <a:pathLst>
                <a:path w="1273" h="10307">
                  <a:moveTo>
                    <a:pt x="1273" y="116"/>
                  </a:moveTo>
                  <a:lnTo>
                    <a:pt x="1273" y="1274"/>
                  </a:lnTo>
                  <a:lnTo>
                    <a:pt x="1157" y="2548"/>
                  </a:lnTo>
                  <a:lnTo>
                    <a:pt x="1157" y="3706"/>
                  </a:lnTo>
                  <a:lnTo>
                    <a:pt x="1041" y="4980"/>
                  </a:lnTo>
                  <a:lnTo>
                    <a:pt x="926" y="6254"/>
                  </a:lnTo>
                  <a:lnTo>
                    <a:pt x="810" y="7528"/>
                  </a:lnTo>
                  <a:lnTo>
                    <a:pt x="694" y="8917"/>
                  </a:lnTo>
                  <a:lnTo>
                    <a:pt x="694" y="10191"/>
                  </a:lnTo>
                  <a:lnTo>
                    <a:pt x="694" y="10191"/>
                  </a:lnTo>
                  <a:lnTo>
                    <a:pt x="578" y="10191"/>
                  </a:lnTo>
                  <a:lnTo>
                    <a:pt x="463" y="10191"/>
                  </a:lnTo>
                  <a:lnTo>
                    <a:pt x="347" y="10191"/>
                  </a:lnTo>
                  <a:lnTo>
                    <a:pt x="347" y="10307"/>
                  </a:lnTo>
                  <a:lnTo>
                    <a:pt x="231" y="10307"/>
                  </a:lnTo>
                  <a:lnTo>
                    <a:pt x="116" y="10307"/>
                  </a:lnTo>
                  <a:lnTo>
                    <a:pt x="116" y="10307"/>
                  </a:lnTo>
                  <a:lnTo>
                    <a:pt x="0" y="10307"/>
                  </a:lnTo>
                  <a:lnTo>
                    <a:pt x="0" y="10307"/>
                  </a:lnTo>
                  <a:lnTo>
                    <a:pt x="0" y="9033"/>
                  </a:lnTo>
                  <a:lnTo>
                    <a:pt x="116" y="7759"/>
                  </a:lnTo>
                  <a:lnTo>
                    <a:pt x="231" y="6485"/>
                  </a:lnTo>
                  <a:lnTo>
                    <a:pt x="347" y="5211"/>
                  </a:lnTo>
                  <a:lnTo>
                    <a:pt x="463" y="4053"/>
                  </a:lnTo>
                  <a:lnTo>
                    <a:pt x="578" y="2779"/>
                  </a:lnTo>
                  <a:lnTo>
                    <a:pt x="694" y="1505"/>
                  </a:lnTo>
                  <a:lnTo>
                    <a:pt x="926" y="232"/>
                  </a:lnTo>
                  <a:lnTo>
                    <a:pt x="926" y="232"/>
                  </a:lnTo>
                  <a:lnTo>
                    <a:pt x="926" y="232"/>
                  </a:lnTo>
                  <a:lnTo>
                    <a:pt x="926" y="232"/>
                  </a:lnTo>
                  <a:lnTo>
                    <a:pt x="810" y="232"/>
                  </a:lnTo>
                  <a:lnTo>
                    <a:pt x="810" y="232"/>
                  </a:lnTo>
                  <a:lnTo>
                    <a:pt x="810" y="232"/>
                  </a:lnTo>
                  <a:lnTo>
                    <a:pt x="694" y="232"/>
                  </a:lnTo>
                  <a:lnTo>
                    <a:pt x="694" y="232"/>
                  </a:lnTo>
                  <a:lnTo>
                    <a:pt x="694" y="116"/>
                  </a:lnTo>
                  <a:lnTo>
                    <a:pt x="694" y="116"/>
                  </a:lnTo>
                  <a:lnTo>
                    <a:pt x="694" y="116"/>
                  </a:lnTo>
                  <a:lnTo>
                    <a:pt x="810" y="116"/>
                  </a:lnTo>
                  <a:lnTo>
                    <a:pt x="810" y="0"/>
                  </a:lnTo>
                  <a:lnTo>
                    <a:pt x="926" y="0"/>
                  </a:lnTo>
                  <a:lnTo>
                    <a:pt x="1041" y="116"/>
                  </a:lnTo>
                  <a:lnTo>
                    <a:pt x="1157" y="116"/>
                  </a:lnTo>
                  <a:lnTo>
                    <a:pt x="1273" y="116"/>
                  </a:lnTo>
                  <a:lnTo>
                    <a:pt x="1273" y="116"/>
                  </a:lnTo>
                  <a:lnTo>
                    <a:pt x="1273" y="116"/>
                  </a:lnTo>
                  <a:lnTo>
                    <a:pt x="1273" y="116"/>
                  </a:lnTo>
                  <a:lnTo>
                    <a:pt x="1273" y="116"/>
                  </a:lnTo>
                  <a:lnTo>
                    <a:pt x="1273"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1416960" y="5136840"/>
              <a:ext cx="45360" cy="528480"/>
            </a:xfrm>
            <a:custGeom>
              <a:avLst/>
              <a:gdLst/>
              <a:ahLst/>
              <a:rect l="l" t="t" r="r" b="b"/>
              <a:pathLst>
                <a:path w="1273" h="9844">
                  <a:moveTo>
                    <a:pt x="1273" y="0"/>
                  </a:moveTo>
                  <a:lnTo>
                    <a:pt x="1042" y="1158"/>
                  </a:lnTo>
                  <a:lnTo>
                    <a:pt x="926" y="2432"/>
                  </a:lnTo>
                  <a:lnTo>
                    <a:pt x="811" y="3590"/>
                  </a:lnTo>
                  <a:lnTo>
                    <a:pt x="695" y="4864"/>
                  </a:lnTo>
                  <a:lnTo>
                    <a:pt x="579" y="6138"/>
                  </a:lnTo>
                  <a:lnTo>
                    <a:pt x="463" y="7412"/>
                  </a:lnTo>
                  <a:lnTo>
                    <a:pt x="463" y="8570"/>
                  </a:lnTo>
                  <a:lnTo>
                    <a:pt x="348" y="9844"/>
                  </a:lnTo>
                  <a:lnTo>
                    <a:pt x="348" y="9844"/>
                  </a:lnTo>
                  <a:lnTo>
                    <a:pt x="463" y="9844"/>
                  </a:lnTo>
                  <a:lnTo>
                    <a:pt x="463" y="9844"/>
                  </a:lnTo>
                  <a:lnTo>
                    <a:pt x="348" y="9844"/>
                  </a:lnTo>
                  <a:lnTo>
                    <a:pt x="348" y="9728"/>
                  </a:lnTo>
                  <a:lnTo>
                    <a:pt x="232" y="9728"/>
                  </a:lnTo>
                  <a:lnTo>
                    <a:pt x="116" y="9728"/>
                  </a:lnTo>
                  <a:lnTo>
                    <a:pt x="0" y="9844"/>
                  </a:lnTo>
                  <a:lnTo>
                    <a:pt x="0" y="9844"/>
                  </a:lnTo>
                  <a:lnTo>
                    <a:pt x="0" y="9844"/>
                  </a:lnTo>
                  <a:lnTo>
                    <a:pt x="0" y="8570"/>
                  </a:lnTo>
                  <a:lnTo>
                    <a:pt x="116" y="7412"/>
                  </a:lnTo>
                  <a:lnTo>
                    <a:pt x="116" y="6254"/>
                  </a:lnTo>
                  <a:lnTo>
                    <a:pt x="232" y="4980"/>
                  </a:lnTo>
                  <a:lnTo>
                    <a:pt x="348" y="3822"/>
                  </a:lnTo>
                  <a:lnTo>
                    <a:pt x="463" y="2548"/>
                  </a:lnTo>
                  <a:lnTo>
                    <a:pt x="579" y="1390"/>
                  </a:lnTo>
                  <a:lnTo>
                    <a:pt x="811" y="232"/>
                  </a:lnTo>
                  <a:lnTo>
                    <a:pt x="811" y="232"/>
                  </a:lnTo>
                  <a:lnTo>
                    <a:pt x="926" y="232"/>
                  </a:lnTo>
                  <a:lnTo>
                    <a:pt x="926" y="116"/>
                  </a:lnTo>
                  <a:lnTo>
                    <a:pt x="1042" y="116"/>
                  </a:lnTo>
                  <a:lnTo>
                    <a:pt x="1042" y="116"/>
                  </a:lnTo>
                  <a:lnTo>
                    <a:pt x="1042" y="0"/>
                  </a:lnTo>
                  <a:lnTo>
                    <a:pt x="1158" y="0"/>
                  </a:lnTo>
                  <a:lnTo>
                    <a:pt x="1158" y="0"/>
                  </a:lnTo>
                  <a:lnTo>
                    <a:pt x="1273" y="0"/>
                  </a:lnTo>
                  <a:lnTo>
                    <a:pt x="1273" y="0"/>
                  </a:lnTo>
                  <a:lnTo>
                    <a:pt x="1273" y="0"/>
                  </a:lnTo>
                  <a:lnTo>
                    <a:pt x="1273" y="0"/>
                  </a:lnTo>
                  <a:lnTo>
                    <a:pt x="1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1383840" y="5155560"/>
              <a:ext cx="45360" cy="472320"/>
            </a:xfrm>
            <a:custGeom>
              <a:avLst/>
              <a:gdLst/>
              <a:ahLst/>
              <a:rect l="l" t="t" r="r" b="b"/>
              <a:pathLst>
                <a:path w="1273" h="8801">
                  <a:moveTo>
                    <a:pt x="578" y="8801"/>
                  </a:moveTo>
                  <a:lnTo>
                    <a:pt x="462" y="8801"/>
                  </a:lnTo>
                  <a:lnTo>
                    <a:pt x="462" y="8801"/>
                  </a:lnTo>
                  <a:lnTo>
                    <a:pt x="347" y="8801"/>
                  </a:lnTo>
                  <a:lnTo>
                    <a:pt x="231" y="8801"/>
                  </a:lnTo>
                  <a:lnTo>
                    <a:pt x="231" y="8801"/>
                  </a:lnTo>
                  <a:lnTo>
                    <a:pt x="115" y="8801"/>
                  </a:lnTo>
                  <a:lnTo>
                    <a:pt x="0" y="8801"/>
                  </a:lnTo>
                  <a:lnTo>
                    <a:pt x="0" y="8801"/>
                  </a:lnTo>
                  <a:lnTo>
                    <a:pt x="0" y="8801"/>
                  </a:lnTo>
                  <a:lnTo>
                    <a:pt x="115" y="7643"/>
                  </a:lnTo>
                  <a:lnTo>
                    <a:pt x="231" y="6485"/>
                  </a:lnTo>
                  <a:lnTo>
                    <a:pt x="347" y="5443"/>
                  </a:lnTo>
                  <a:lnTo>
                    <a:pt x="462" y="4285"/>
                  </a:lnTo>
                  <a:lnTo>
                    <a:pt x="694" y="3127"/>
                  </a:lnTo>
                  <a:lnTo>
                    <a:pt x="925" y="2084"/>
                  </a:lnTo>
                  <a:lnTo>
                    <a:pt x="1041" y="1042"/>
                  </a:lnTo>
                  <a:lnTo>
                    <a:pt x="1273" y="0"/>
                  </a:lnTo>
                  <a:lnTo>
                    <a:pt x="1273" y="0"/>
                  </a:lnTo>
                  <a:lnTo>
                    <a:pt x="1157" y="1042"/>
                  </a:lnTo>
                  <a:lnTo>
                    <a:pt x="1041" y="2200"/>
                  </a:lnTo>
                  <a:lnTo>
                    <a:pt x="925" y="3242"/>
                  </a:lnTo>
                  <a:lnTo>
                    <a:pt x="810" y="4401"/>
                  </a:lnTo>
                  <a:lnTo>
                    <a:pt x="810" y="5443"/>
                  </a:lnTo>
                  <a:lnTo>
                    <a:pt x="694" y="6485"/>
                  </a:lnTo>
                  <a:lnTo>
                    <a:pt x="694" y="7643"/>
                  </a:lnTo>
                  <a:lnTo>
                    <a:pt x="578" y="8801"/>
                  </a:lnTo>
                  <a:lnTo>
                    <a:pt x="578" y="8801"/>
                  </a:lnTo>
                  <a:lnTo>
                    <a:pt x="578" y="8801"/>
                  </a:lnTo>
                  <a:lnTo>
                    <a:pt x="578" y="8801"/>
                  </a:lnTo>
                  <a:lnTo>
                    <a:pt x="578" y="88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2099520" y="5317200"/>
              <a:ext cx="264600" cy="945000"/>
            </a:xfrm>
            <a:custGeom>
              <a:avLst/>
              <a:gdLst/>
              <a:ahLst/>
              <a:rect l="l" t="t" r="r" b="b"/>
              <a:pathLst>
                <a:path w="7407" h="17603">
                  <a:moveTo>
                    <a:pt x="3356" y="0"/>
                  </a:moveTo>
                  <a:lnTo>
                    <a:pt x="3588" y="463"/>
                  </a:lnTo>
                  <a:lnTo>
                    <a:pt x="3935" y="1042"/>
                  </a:lnTo>
                  <a:lnTo>
                    <a:pt x="4282" y="1505"/>
                  </a:lnTo>
                  <a:lnTo>
                    <a:pt x="4630" y="1969"/>
                  </a:lnTo>
                  <a:lnTo>
                    <a:pt x="4861" y="2432"/>
                  </a:lnTo>
                  <a:lnTo>
                    <a:pt x="5208" y="2895"/>
                  </a:lnTo>
                  <a:lnTo>
                    <a:pt x="5440" y="3358"/>
                  </a:lnTo>
                  <a:lnTo>
                    <a:pt x="5555" y="3937"/>
                  </a:lnTo>
                  <a:lnTo>
                    <a:pt x="5555" y="3937"/>
                  </a:lnTo>
                  <a:lnTo>
                    <a:pt x="5555" y="4632"/>
                  </a:lnTo>
                  <a:lnTo>
                    <a:pt x="5324" y="5443"/>
                  </a:lnTo>
                  <a:lnTo>
                    <a:pt x="5208" y="6254"/>
                  </a:lnTo>
                  <a:lnTo>
                    <a:pt x="4977" y="7064"/>
                  </a:lnTo>
                  <a:lnTo>
                    <a:pt x="4861" y="7875"/>
                  </a:lnTo>
                  <a:lnTo>
                    <a:pt x="4745" y="8686"/>
                  </a:lnTo>
                  <a:lnTo>
                    <a:pt x="4630" y="9496"/>
                  </a:lnTo>
                  <a:lnTo>
                    <a:pt x="4514" y="10307"/>
                  </a:lnTo>
                  <a:lnTo>
                    <a:pt x="4514" y="10307"/>
                  </a:lnTo>
                  <a:lnTo>
                    <a:pt x="4630" y="10654"/>
                  </a:lnTo>
                  <a:lnTo>
                    <a:pt x="4861" y="10886"/>
                  </a:lnTo>
                  <a:lnTo>
                    <a:pt x="5092" y="11118"/>
                  </a:lnTo>
                  <a:lnTo>
                    <a:pt x="5208" y="11349"/>
                  </a:lnTo>
                  <a:lnTo>
                    <a:pt x="5440" y="11697"/>
                  </a:lnTo>
                  <a:lnTo>
                    <a:pt x="5555" y="11928"/>
                  </a:lnTo>
                  <a:lnTo>
                    <a:pt x="5787" y="12160"/>
                  </a:lnTo>
                  <a:lnTo>
                    <a:pt x="5903" y="12507"/>
                  </a:lnTo>
                  <a:lnTo>
                    <a:pt x="5903" y="12507"/>
                  </a:lnTo>
                  <a:lnTo>
                    <a:pt x="5440" y="12507"/>
                  </a:lnTo>
                  <a:lnTo>
                    <a:pt x="5208" y="12623"/>
                  </a:lnTo>
                  <a:lnTo>
                    <a:pt x="4861" y="12739"/>
                  </a:lnTo>
                  <a:lnTo>
                    <a:pt x="4514" y="12739"/>
                  </a:lnTo>
                  <a:lnTo>
                    <a:pt x="4167" y="12855"/>
                  </a:lnTo>
                  <a:lnTo>
                    <a:pt x="3935" y="13086"/>
                  </a:lnTo>
                  <a:lnTo>
                    <a:pt x="3588" y="13202"/>
                  </a:lnTo>
                  <a:lnTo>
                    <a:pt x="3356" y="13434"/>
                  </a:lnTo>
                  <a:lnTo>
                    <a:pt x="3356" y="13434"/>
                  </a:lnTo>
                  <a:lnTo>
                    <a:pt x="3704" y="13318"/>
                  </a:lnTo>
                  <a:lnTo>
                    <a:pt x="4051" y="13318"/>
                  </a:lnTo>
                  <a:lnTo>
                    <a:pt x="4398" y="13202"/>
                  </a:lnTo>
                  <a:lnTo>
                    <a:pt x="4745" y="13086"/>
                  </a:lnTo>
                  <a:lnTo>
                    <a:pt x="5092" y="13086"/>
                  </a:lnTo>
                  <a:lnTo>
                    <a:pt x="5440" y="12971"/>
                  </a:lnTo>
                  <a:lnTo>
                    <a:pt x="5787" y="12971"/>
                  </a:lnTo>
                  <a:lnTo>
                    <a:pt x="6134" y="12971"/>
                  </a:lnTo>
                  <a:lnTo>
                    <a:pt x="6134" y="12971"/>
                  </a:lnTo>
                  <a:lnTo>
                    <a:pt x="6134" y="13086"/>
                  </a:lnTo>
                  <a:lnTo>
                    <a:pt x="6134" y="13086"/>
                  </a:lnTo>
                  <a:lnTo>
                    <a:pt x="6134" y="13086"/>
                  </a:lnTo>
                  <a:lnTo>
                    <a:pt x="6250" y="13086"/>
                  </a:lnTo>
                  <a:lnTo>
                    <a:pt x="6250" y="13202"/>
                  </a:lnTo>
                  <a:lnTo>
                    <a:pt x="6250" y="13202"/>
                  </a:lnTo>
                  <a:lnTo>
                    <a:pt x="6250" y="13202"/>
                  </a:lnTo>
                  <a:lnTo>
                    <a:pt x="6250" y="13318"/>
                  </a:lnTo>
                  <a:lnTo>
                    <a:pt x="6250" y="13318"/>
                  </a:lnTo>
                  <a:lnTo>
                    <a:pt x="5903" y="13318"/>
                  </a:lnTo>
                  <a:lnTo>
                    <a:pt x="5555" y="13318"/>
                  </a:lnTo>
                  <a:lnTo>
                    <a:pt x="5324" y="13434"/>
                  </a:lnTo>
                  <a:lnTo>
                    <a:pt x="5092" y="13550"/>
                  </a:lnTo>
                  <a:lnTo>
                    <a:pt x="4745" y="13781"/>
                  </a:lnTo>
                  <a:lnTo>
                    <a:pt x="4514" y="13897"/>
                  </a:lnTo>
                  <a:lnTo>
                    <a:pt x="4282" y="14129"/>
                  </a:lnTo>
                  <a:lnTo>
                    <a:pt x="4051" y="14244"/>
                  </a:lnTo>
                  <a:lnTo>
                    <a:pt x="4051" y="14244"/>
                  </a:lnTo>
                  <a:lnTo>
                    <a:pt x="4167" y="14244"/>
                  </a:lnTo>
                  <a:lnTo>
                    <a:pt x="4282" y="14244"/>
                  </a:lnTo>
                  <a:lnTo>
                    <a:pt x="4514" y="14244"/>
                  </a:lnTo>
                  <a:lnTo>
                    <a:pt x="4630" y="14129"/>
                  </a:lnTo>
                  <a:lnTo>
                    <a:pt x="4745" y="14013"/>
                  </a:lnTo>
                  <a:lnTo>
                    <a:pt x="4861" y="14013"/>
                  </a:lnTo>
                  <a:lnTo>
                    <a:pt x="5092" y="14013"/>
                  </a:lnTo>
                  <a:lnTo>
                    <a:pt x="5208" y="13897"/>
                  </a:lnTo>
                  <a:lnTo>
                    <a:pt x="5208" y="13897"/>
                  </a:lnTo>
                  <a:lnTo>
                    <a:pt x="5440" y="13897"/>
                  </a:lnTo>
                  <a:lnTo>
                    <a:pt x="5555" y="13897"/>
                  </a:lnTo>
                  <a:lnTo>
                    <a:pt x="5787" y="13897"/>
                  </a:lnTo>
                  <a:lnTo>
                    <a:pt x="6018" y="13781"/>
                  </a:lnTo>
                  <a:lnTo>
                    <a:pt x="6134" y="13781"/>
                  </a:lnTo>
                  <a:lnTo>
                    <a:pt x="6366" y="13781"/>
                  </a:lnTo>
                  <a:lnTo>
                    <a:pt x="6481" y="13781"/>
                  </a:lnTo>
                  <a:lnTo>
                    <a:pt x="6713" y="13781"/>
                  </a:lnTo>
                  <a:lnTo>
                    <a:pt x="6713" y="13781"/>
                  </a:lnTo>
                  <a:lnTo>
                    <a:pt x="6828" y="14244"/>
                  </a:lnTo>
                  <a:lnTo>
                    <a:pt x="7060" y="14592"/>
                  </a:lnTo>
                  <a:lnTo>
                    <a:pt x="7176" y="15055"/>
                  </a:lnTo>
                  <a:lnTo>
                    <a:pt x="7291" y="15518"/>
                  </a:lnTo>
                  <a:lnTo>
                    <a:pt x="7407" y="15982"/>
                  </a:lnTo>
                  <a:lnTo>
                    <a:pt x="7407" y="16329"/>
                  </a:lnTo>
                  <a:lnTo>
                    <a:pt x="7407" y="16792"/>
                  </a:lnTo>
                  <a:lnTo>
                    <a:pt x="7176" y="17255"/>
                  </a:lnTo>
                  <a:lnTo>
                    <a:pt x="7176" y="17255"/>
                  </a:lnTo>
                  <a:lnTo>
                    <a:pt x="6713" y="17371"/>
                  </a:lnTo>
                  <a:lnTo>
                    <a:pt x="6250" y="17487"/>
                  </a:lnTo>
                  <a:lnTo>
                    <a:pt x="5671" y="17603"/>
                  </a:lnTo>
                  <a:lnTo>
                    <a:pt x="5208" y="17487"/>
                  </a:lnTo>
                  <a:lnTo>
                    <a:pt x="4745" y="17371"/>
                  </a:lnTo>
                  <a:lnTo>
                    <a:pt x="4167" y="17255"/>
                  </a:lnTo>
                  <a:lnTo>
                    <a:pt x="3704" y="17024"/>
                  </a:lnTo>
                  <a:lnTo>
                    <a:pt x="3356" y="16792"/>
                  </a:lnTo>
                  <a:lnTo>
                    <a:pt x="3356" y="16792"/>
                  </a:lnTo>
                  <a:lnTo>
                    <a:pt x="2894" y="16329"/>
                  </a:lnTo>
                  <a:lnTo>
                    <a:pt x="2662" y="15634"/>
                  </a:lnTo>
                  <a:lnTo>
                    <a:pt x="2431" y="15055"/>
                  </a:lnTo>
                  <a:lnTo>
                    <a:pt x="2199" y="14360"/>
                  </a:lnTo>
                  <a:lnTo>
                    <a:pt x="1968" y="13665"/>
                  </a:lnTo>
                  <a:lnTo>
                    <a:pt x="1620" y="13202"/>
                  </a:lnTo>
                  <a:lnTo>
                    <a:pt x="1158" y="12855"/>
                  </a:lnTo>
                  <a:lnTo>
                    <a:pt x="463" y="12623"/>
                  </a:lnTo>
                  <a:lnTo>
                    <a:pt x="463" y="12623"/>
                  </a:lnTo>
                  <a:lnTo>
                    <a:pt x="232" y="12507"/>
                  </a:lnTo>
                  <a:lnTo>
                    <a:pt x="232" y="12391"/>
                  </a:lnTo>
                  <a:lnTo>
                    <a:pt x="116" y="12276"/>
                  </a:lnTo>
                  <a:lnTo>
                    <a:pt x="0" y="12044"/>
                  </a:lnTo>
                  <a:lnTo>
                    <a:pt x="0" y="11928"/>
                  </a:lnTo>
                  <a:lnTo>
                    <a:pt x="0" y="11812"/>
                  </a:lnTo>
                  <a:lnTo>
                    <a:pt x="0" y="11581"/>
                  </a:lnTo>
                  <a:lnTo>
                    <a:pt x="116" y="11465"/>
                  </a:lnTo>
                  <a:lnTo>
                    <a:pt x="116" y="11465"/>
                  </a:lnTo>
                  <a:lnTo>
                    <a:pt x="347" y="11118"/>
                  </a:lnTo>
                  <a:lnTo>
                    <a:pt x="579" y="10770"/>
                  </a:lnTo>
                  <a:lnTo>
                    <a:pt x="926" y="10539"/>
                  </a:lnTo>
                  <a:lnTo>
                    <a:pt x="1273" y="10307"/>
                  </a:lnTo>
                  <a:lnTo>
                    <a:pt x="1620" y="10075"/>
                  </a:lnTo>
                  <a:lnTo>
                    <a:pt x="1968" y="9844"/>
                  </a:lnTo>
                  <a:lnTo>
                    <a:pt x="2199" y="9612"/>
                  </a:lnTo>
                  <a:lnTo>
                    <a:pt x="2431" y="9265"/>
                  </a:lnTo>
                  <a:lnTo>
                    <a:pt x="2431" y="9265"/>
                  </a:lnTo>
                  <a:lnTo>
                    <a:pt x="2546" y="8570"/>
                  </a:lnTo>
                  <a:lnTo>
                    <a:pt x="2662" y="7991"/>
                  </a:lnTo>
                  <a:lnTo>
                    <a:pt x="2778" y="7412"/>
                  </a:lnTo>
                  <a:lnTo>
                    <a:pt x="2894" y="6833"/>
                  </a:lnTo>
                  <a:lnTo>
                    <a:pt x="3009" y="6254"/>
                  </a:lnTo>
                  <a:lnTo>
                    <a:pt x="3125" y="5675"/>
                  </a:lnTo>
                  <a:lnTo>
                    <a:pt x="3241" y="5095"/>
                  </a:lnTo>
                  <a:lnTo>
                    <a:pt x="3241" y="4516"/>
                  </a:lnTo>
                  <a:lnTo>
                    <a:pt x="3241" y="4516"/>
                  </a:lnTo>
                  <a:lnTo>
                    <a:pt x="3125" y="4053"/>
                  </a:lnTo>
                  <a:lnTo>
                    <a:pt x="3009" y="3706"/>
                  </a:lnTo>
                  <a:lnTo>
                    <a:pt x="2778" y="3243"/>
                  </a:lnTo>
                  <a:lnTo>
                    <a:pt x="2546" y="2895"/>
                  </a:lnTo>
                  <a:lnTo>
                    <a:pt x="2315" y="2548"/>
                  </a:lnTo>
                  <a:lnTo>
                    <a:pt x="2083" y="2200"/>
                  </a:lnTo>
                  <a:lnTo>
                    <a:pt x="1736" y="1853"/>
                  </a:lnTo>
                  <a:lnTo>
                    <a:pt x="1505" y="1505"/>
                  </a:lnTo>
                  <a:lnTo>
                    <a:pt x="1505" y="1505"/>
                  </a:lnTo>
                  <a:lnTo>
                    <a:pt x="1389" y="1390"/>
                  </a:lnTo>
                  <a:lnTo>
                    <a:pt x="1273" y="1274"/>
                  </a:lnTo>
                  <a:lnTo>
                    <a:pt x="1273" y="1158"/>
                  </a:lnTo>
                  <a:lnTo>
                    <a:pt x="1273" y="1042"/>
                  </a:lnTo>
                  <a:lnTo>
                    <a:pt x="1389" y="926"/>
                  </a:lnTo>
                  <a:lnTo>
                    <a:pt x="1389" y="811"/>
                  </a:lnTo>
                  <a:lnTo>
                    <a:pt x="1505" y="811"/>
                  </a:lnTo>
                  <a:lnTo>
                    <a:pt x="1620" y="695"/>
                  </a:lnTo>
                  <a:lnTo>
                    <a:pt x="1620" y="695"/>
                  </a:lnTo>
                  <a:lnTo>
                    <a:pt x="1852" y="463"/>
                  </a:lnTo>
                  <a:lnTo>
                    <a:pt x="1852" y="463"/>
                  </a:lnTo>
                  <a:lnTo>
                    <a:pt x="1852" y="579"/>
                  </a:lnTo>
                  <a:lnTo>
                    <a:pt x="1736" y="695"/>
                  </a:lnTo>
                  <a:lnTo>
                    <a:pt x="1620" y="811"/>
                  </a:lnTo>
                  <a:lnTo>
                    <a:pt x="1505" y="926"/>
                  </a:lnTo>
                  <a:lnTo>
                    <a:pt x="1505" y="1042"/>
                  </a:lnTo>
                  <a:lnTo>
                    <a:pt x="1505" y="1158"/>
                  </a:lnTo>
                  <a:lnTo>
                    <a:pt x="1505" y="1274"/>
                  </a:lnTo>
                  <a:lnTo>
                    <a:pt x="1852" y="1274"/>
                  </a:lnTo>
                  <a:lnTo>
                    <a:pt x="1852" y="1274"/>
                  </a:lnTo>
                  <a:lnTo>
                    <a:pt x="1968" y="1158"/>
                  </a:lnTo>
                  <a:lnTo>
                    <a:pt x="2083" y="926"/>
                  </a:lnTo>
                  <a:lnTo>
                    <a:pt x="2315" y="695"/>
                  </a:lnTo>
                  <a:lnTo>
                    <a:pt x="2431" y="579"/>
                  </a:lnTo>
                  <a:lnTo>
                    <a:pt x="2662" y="463"/>
                  </a:lnTo>
                  <a:lnTo>
                    <a:pt x="2894" y="347"/>
                  </a:lnTo>
                  <a:lnTo>
                    <a:pt x="3125" y="116"/>
                  </a:lnTo>
                  <a:lnTo>
                    <a:pt x="3356" y="0"/>
                  </a:lnTo>
                  <a:lnTo>
                    <a:pt x="3356" y="0"/>
                  </a:lnTo>
                  <a:lnTo>
                    <a:pt x="3356" y="0"/>
                  </a:lnTo>
                  <a:lnTo>
                    <a:pt x="3356" y="0"/>
                  </a:lnTo>
                  <a:lnTo>
                    <a:pt x="3356"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2174040" y="5342040"/>
              <a:ext cx="41400" cy="80640"/>
            </a:xfrm>
            <a:custGeom>
              <a:avLst/>
              <a:gdLst/>
              <a:ahLst/>
              <a:rect l="l" t="t" r="r" b="b"/>
              <a:pathLst>
                <a:path w="1158" h="1506">
                  <a:moveTo>
                    <a:pt x="1158" y="0"/>
                  </a:moveTo>
                  <a:lnTo>
                    <a:pt x="1158" y="116"/>
                  </a:lnTo>
                  <a:lnTo>
                    <a:pt x="1042" y="232"/>
                  </a:lnTo>
                  <a:lnTo>
                    <a:pt x="1042" y="348"/>
                  </a:lnTo>
                  <a:lnTo>
                    <a:pt x="926" y="463"/>
                  </a:lnTo>
                  <a:lnTo>
                    <a:pt x="811" y="463"/>
                  </a:lnTo>
                  <a:lnTo>
                    <a:pt x="695" y="579"/>
                  </a:lnTo>
                  <a:lnTo>
                    <a:pt x="579" y="695"/>
                  </a:lnTo>
                  <a:lnTo>
                    <a:pt x="579" y="695"/>
                  </a:lnTo>
                  <a:lnTo>
                    <a:pt x="579" y="695"/>
                  </a:lnTo>
                  <a:lnTo>
                    <a:pt x="463" y="811"/>
                  </a:lnTo>
                  <a:lnTo>
                    <a:pt x="463" y="927"/>
                  </a:lnTo>
                  <a:lnTo>
                    <a:pt x="348" y="1042"/>
                  </a:lnTo>
                  <a:lnTo>
                    <a:pt x="348" y="1158"/>
                  </a:lnTo>
                  <a:lnTo>
                    <a:pt x="232" y="1274"/>
                  </a:lnTo>
                  <a:lnTo>
                    <a:pt x="232" y="1274"/>
                  </a:lnTo>
                  <a:lnTo>
                    <a:pt x="116" y="1390"/>
                  </a:lnTo>
                  <a:lnTo>
                    <a:pt x="116" y="1506"/>
                  </a:lnTo>
                  <a:lnTo>
                    <a:pt x="116" y="1506"/>
                  </a:lnTo>
                  <a:lnTo>
                    <a:pt x="0" y="1274"/>
                  </a:lnTo>
                  <a:lnTo>
                    <a:pt x="0" y="1158"/>
                  </a:lnTo>
                  <a:lnTo>
                    <a:pt x="0" y="1042"/>
                  </a:lnTo>
                  <a:lnTo>
                    <a:pt x="0" y="811"/>
                  </a:lnTo>
                  <a:lnTo>
                    <a:pt x="116" y="695"/>
                  </a:lnTo>
                  <a:lnTo>
                    <a:pt x="232" y="579"/>
                  </a:lnTo>
                  <a:lnTo>
                    <a:pt x="348" y="463"/>
                  </a:lnTo>
                  <a:lnTo>
                    <a:pt x="348" y="348"/>
                  </a:lnTo>
                  <a:lnTo>
                    <a:pt x="348" y="348"/>
                  </a:lnTo>
                  <a:lnTo>
                    <a:pt x="463" y="232"/>
                  </a:lnTo>
                  <a:lnTo>
                    <a:pt x="579" y="232"/>
                  </a:lnTo>
                  <a:lnTo>
                    <a:pt x="695" y="116"/>
                  </a:lnTo>
                  <a:lnTo>
                    <a:pt x="811" y="116"/>
                  </a:lnTo>
                  <a:lnTo>
                    <a:pt x="811" y="0"/>
                  </a:lnTo>
                  <a:lnTo>
                    <a:pt x="926" y="0"/>
                  </a:lnTo>
                  <a:lnTo>
                    <a:pt x="1042" y="0"/>
                  </a:lnTo>
                  <a:lnTo>
                    <a:pt x="1158" y="0"/>
                  </a:lnTo>
                  <a:lnTo>
                    <a:pt x="1158" y="0"/>
                  </a:lnTo>
                  <a:lnTo>
                    <a:pt x="1158" y="0"/>
                  </a:lnTo>
                  <a:lnTo>
                    <a:pt x="1158" y="0"/>
                  </a:lnTo>
                  <a:lnTo>
                    <a:pt x="115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76" name=""/>
            <p:cNvSpPr/>
            <p:nvPr/>
          </p:nvSpPr>
          <p:spPr>
            <a:xfrm>
              <a:off x="2186640" y="5379480"/>
              <a:ext cx="28800" cy="49680"/>
            </a:xfrm>
            <a:custGeom>
              <a:avLst/>
              <a:gdLst/>
              <a:ahLst/>
              <a:rect l="l" t="t" r="r" b="b"/>
              <a:pathLst>
                <a:path w="810" h="926">
                  <a:moveTo>
                    <a:pt x="810" y="0"/>
                  </a:moveTo>
                  <a:lnTo>
                    <a:pt x="694" y="116"/>
                  </a:lnTo>
                  <a:lnTo>
                    <a:pt x="694" y="232"/>
                  </a:lnTo>
                  <a:lnTo>
                    <a:pt x="694" y="347"/>
                  </a:lnTo>
                  <a:lnTo>
                    <a:pt x="578" y="463"/>
                  </a:lnTo>
                  <a:lnTo>
                    <a:pt x="463" y="579"/>
                  </a:lnTo>
                  <a:lnTo>
                    <a:pt x="463" y="695"/>
                  </a:lnTo>
                  <a:lnTo>
                    <a:pt x="347" y="811"/>
                  </a:lnTo>
                  <a:lnTo>
                    <a:pt x="347" y="926"/>
                  </a:lnTo>
                  <a:lnTo>
                    <a:pt x="347" y="926"/>
                  </a:lnTo>
                  <a:lnTo>
                    <a:pt x="0" y="926"/>
                  </a:lnTo>
                  <a:lnTo>
                    <a:pt x="0" y="926"/>
                  </a:lnTo>
                  <a:lnTo>
                    <a:pt x="0" y="811"/>
                  </a:lnTo>
                  <a:lnTo>
                    <a:pt x="115" y="579"/>
                  </a:lnTo>
                  <a:lnTo>
                    <a:pt x="115" y="463"/>
                  </a:lnTo>
                  <a:lnTo>
                    <a:pt x="231" y="347"/>
                  </a:lnTo>
                  <a:lnTo>
                    <a:pt x="347" y="232"/>
                  </a:lnTo>
                  <a:lnTo>
                    <a:pt x="463" y="116"/>
                  </a:lnTo>
                  <a:lnTo>
                    <a:pt x="578" y="0"/>
                  </a:lnTo>
                  <a:lnTo>
                    <a:pt x="810" y="0"/>
                  </a:lnTo>
                  <a:lnTo>
                    <a:pt x="810" y="0"/>
                  </a:lnTo>
                  <a:lnTo>
                    <a:pt x="810" y="0"/>
                  </a:lnTo>
                  <a:lnTo>
                    <a:pt x="810" y="0"/>
                  </a:lnTo>
                  <a:lnTo>
                    <a:pt x="8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77" name=""/>
            <p:cNvSpPr/>
            <p:nvPr/>
          </p:nvSpPr>
          <p:spPr>
            <a:xfrm>
              <a:off x="2215440" y="5423040"/>
              <a:ext cx="12240" cy="18360"/>
            </a:xfrm>
            <a:custGeom>
              <a:avLst/>
              <a:gdLst/>
              <a:ahLst/>
              <a:rect l="l" t="t" r="r" b="b"/>
              <a:pathLst>
                <a:path w="347" h="347">
                  <a:moveTo>
                    <a:pt x="231" y="347"/>
                  </a:moveTo>
                  <a:lnTo>
                    <a:pt x="0" y="231"/>
                  </a:lnTo>
                  <a:lnTo>
                    <a:pt x="0" y="231"/>
                  </a:lnTo>
                  <a:lnTo>
                    <a:pt x="0" y="231"/>
                  </a:lnTo>
                  <a:lnTo>
                    <a:pt x="0" y="115"/>
                  </a:lnTo>
                  <a:lnTo>
                    <a:pt x="0" y="115"/>
                  </a:lnTo>
                  <a:lnTo>
                    <a:pt x="0" y="0"/>
                  </a:lnTo>
                  <a:lnTo>
                    <a:pt x="115" y="0"/>
                  </a:lnTo>
                  <a:lnTo>
                    <a:pt x="115" y="0"/>
                  </a:lnTo>
                  <a:lnTo>
                    <a:pt x="231" y="0"/>
                  </a:lnTo>
                  <a:lnTo>
                    <a:pt x="347" y="0"/>
                  </a:lnTo>
                  <a:lnTo>
                    <a:pt x="347" y="0"/>
                  </a:lnTo>
                  <a:lnTo>
                    <a:pt x="231" y="347"/>
                  </a:lnTo>
                  <a:lnTo>
                    <a:pt x="231" y="347"/>
                  </a:lnTo>
                  <a:lnTo>
                    <a:pt x="231" y="347"/>
                  </a:lnTo>
                  <a:lnTo>
                    <a:pt x="231" y="34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78" name=""/>
            <p:cNvSpPr/>
            <p:nvPr/>
          </p:nvSpPr>
          <p:spPr>
            <a:xfrm>
              <a:off x="1520280" y="5597280"/>
              <a:ext cx="310320" cy="690120"/>
            </a:xfrm>
            <a:custGeom>
              <a:avLst/>
              <a:gdLst/>
              <a:ahLst/>
              <a:rect l="l" t="t" r="r" b="b"/>
              <a:pathLst>
                <a:path w="8680" h="12855">
                  <a:moveTo>
                    <a:pt x="7059" y="0"/>
                  </a:moveTo>
                  <a:lnTo>
                    <a:pt x="6944" y="116"/>
                  </a:lnTo>
                  <a:lnTo>
                    <a:pt x="6712" y="232"/>
                  </a:lnTo>
                  <a:lnTo>
                    <a:pt x="6596" y="348"/>
                  </a:lnTo>
                  <a:lnTo>
                    <a:pt x="6481" y="464"/>
                  </a:lnTo>
                  <a:lnTo>
                    <a:pt x="6365" y="579"/>
                  </a:lnTo>
                  <a:lnTo>
                    <a:pt x="6134" y="695"/>
                  </a:lnTo>
                  <a:lnTo>
                    <a:pt x="6018" y="811"/>
                  </a:lnTo>
                  <a:lnTo>
                    <a:pt x="5902" y="927"/>
                  </a:lnTo>
                  <a:lnTo>
                    <a:pt x="5902" y="927"/>
                  </a:lnTo>
                  <a:lnTo>
                    <a:pt x="5902" y="927"/>
                  </a:lnTo>
                  <a:lnTo>
                    <a:pt x="5902" y="1043"/>
                  </a:lnTo>
                  <a:lnTo>
                    <a:pt x="6018" y="1043"/>
                  </a:lnTo>
                  <a:lnTo>
                    <a:pt x="6018" y="1158"/>
                  </a:lnTo>
                  <a:lnTo>
                    <a:pt x="6134" y="1158"/>
                  </a:lnTo>
                  <a:lnTo>
                    <a:pt x="6249" y="1274"/>
                  </a:lnTo>
                  <a:lnTo>
                    <a:pt x="6249" y="1158"/>
                  </a:lnTo>
                  <a:lnTo>
                    <a:pt x="6365" y="1158"/>
                  </a:lnTo>
                  <a:lnTo>
                    <a:pt x="6365" y="1158"/>
                  </a:lnTo>
                  <a:lnTo>
                    <a:pt x="7291" y="348"/>
                  </a:lnTo>
                  <a:lnTo>
                    <a:pt x="7291" y="348"/>
                  </a:lnTo>
                  <a:lnTo>
                    <a:pt x="7291" y="464"/>
                  </a:lnTo>
                  <a:lnTo>
                    <a:pt x="7291" y="579"/>
                  </a:lnTo>
                  <a:lnTo>
                    <a:pt x="7291" y="695"/>
                  </a:lnTo>
                  <a:lnTo>
                    <a:pt x="7175" y="695"/>
                  </a:lnTo>
                  <a:lnTo>
                    <a:pt x="7059" y="811"/>
                  </a:lnTo>
                  <a:lnTo>
                    <a:pt x="6944" y="927"/>
                  </a:lnTo>
                  <a:lnTo>
                    <a:pt x="6828" y="1043"/>
                  </a:lnTo>
                  <a:lnTo>
                    <a:pt x="6828" y="1158"/>
                  </a:lnTo>
                  <a:lnTo>
                    <a:pt x="6828" y="1158"/>
                  </a:lnTo>
                  <a:lnTo>
                    <a:pt x="6712" y="1158"/>
                  </a:lnTo>
                  <a:lnTo>
                    <a:pt x="6712" y="1158"/>
                  </a:lnTo>
                  <a:lnTo>
                    <a:pt x="6712" y="1274"/>
                  </a:lnTo>
                  <a:lnTo>
                    <a:pt x="6712" y="1274"/>
                  </a:lnTo>
                  <a:lnTo>
                    <a:pt x="6712" y="1274"/>
                  </a:lnTo>
                  <a:lnTo>
                    <a:pt x="6712" y="1390"/>
                  </a:lnTo>
                  <a:lnTo>
                    <a:pt x="6712" y="1390"/>
                  </a:lnTo>
                  <a:lnTo>
                    <a:pt x="6712" y="1390"/>
                  </a:lnTo>
                  <a:lnTo>
                    <a:pt x="6712" y="1390"/>
                  </a:lnTo>
                  <a:lnTo>
                    <a:pt x="6828" y="1506"/>
                  </a:lnTo>
                  <a:lnTo>
                    <a:pt x="6944" y="1506"/>
                  </a:lnTo>
                  <a:lnTo>
                    <a:pt x="7059" y="1506"/>
                  </a:lnTo>
                  <a:lnTo>
                    <a:pt x="7175" y="1390"/>
                  </a:lnTo>
                  <a:lnTo>
                    <a:pt x="7175" y="1274"/>
                  </a:lnTo>
                  <a:lnTo>
                    <a:pt x="7291" y="1158"/>
                  </a:lnTo>
                  <a:lnTo>
                    <a:pt x="7407" y="1158"/>
                  </a:lnTo>
                  <a:lnTo>
                    <a:pt x="7522" y="1043"/>
                  </a:lnTo>
                  <a:lnTo>
                    <a:pt x="7522" y="1043"/>
                  </a:lnTo>
                  <a:lnTo>
                    <a:pt x="7638" y="1274"/>
                  </a:lnTo>
                  <a:lnTo>
                    <a:pt x="7754" y="1506"/>
                  </a:lnTo>
                  <a:lnTo>
                    <a:pt x="7870" y="1737"/>
                  </a:lnTo>
                  <a:lnTo>
                    <a:pt x="8101" y="2085"/>
                  </a:lnTo>
                  <a:lnTo>
                    <a:pt x="8101" y="2316"/>
                  </a:lnTo>
                  <a:lnTo>
                    <a:pt x="8217" y="2548"/>
                  </a:lnTo>
                  <a:lnTo>
                    <a:pt x="8101" y="2780"/>
                  </a:lnTo>
                  <a:lnTo>
                    <a:pt x="7985" y="3011"/>
                  </a:lnTo>
                  <a:lnTo>
                    <a:pt x="7985" y="3011"/>
                  </a:lnTo>
                  <a:lnTo>
                    <a:pt x="7522" y="3359"/>
                  </a:lnTo>
                  <a:lnTo>
                    <a:pt x="7291" y="3706"/>
                  </a:lnTo>
                  <a:lnTo>
                    <a:pt x="6944" y="4054"/>
                  </a:lnTo>
                  <a:lnTo>
                    <a:pt x="6712" y="4517"/>
                  </a:lnTo>
                  <a:lnTo>
                    <a:pt x="6481" y="4864"/>
                  </a:lnTo>
                  <a:lnTo>
                    <a:pt x="6249" y="5212"/>
                  </a:lnTo>
                  <a:lnTo>
                    <a:pt x="5902" y="5559"/>
                  </a:lnTo>
                  <a:lnTo>
                    <a:pt x="5555" y="5791"/>
                  </a:lnTo>
                  <a:lnTo>
                    <a:pt x="5555" y="5791"/>
                  </a:lnTo>
                  <a:lnTo>
                    <a:pt x="5439" y="6486"/>
                  </a:lnTo>
                  <a:lnTo>
                    <a:pt x="5323" y="7180"/>
                  </a:lnTo>
                  <a:lnTo>
                    <a:pt x="5208" y="7760"/>
                  </a:lnTo>
                  <a:lnTo>
                    <a:pt x="5208" y="8454"/>
                  </a:lnTo>
                  <a:lnTo>
                    <a:pt x="5208" y="9149"/>
                  </a:lnTo>
                  <a:lnTo>
                    <a:pt x="5323" y="9844"/>
                  </a:lnTo>
                  <a:lnTo>
                    <a:pt x="5555" y="10423"/>
                  </a:lnTo>
                  <a:lnTo>
                    <a:pt x="5902" y="11002"/>
                  </a:lnTo>
                  <a:lnTo>
                    <a:pt x="5902" y="11002"/>
                  </a:lnTo>
                  <a:lnTo>
                    <a:pt x="5902" y="11002"/>
                  </a:lnTo>
                  <a:lnTo>
                    <a:pt x="6018" y="10886"/>
                  </a:lnTo>
                  <a:lnTo>
                    <a:pt x="6018" y="10771"/>
                  </a:lnTo>
                  <a:lnTo>
                    <a:pt x="6018" y="10771"/>
                  </a:lnTo>
                  <a:lnTo>
                    <a:pt x="6018" y="10655"/>
                  </a:lnTo>
                  <a:lnTo>
                    <a:pt x="6018" y="10539"/>
                  </a:lnTo>
                  <a:lnTo>
                    <a:pt x="5902" y="10423"/>
                  </a:lnTo>
                  <a:lnTo>
                    <a:pt x="5902" y="10423"/>
                  </a:lnTo>
                  <a:lnTo>
                    <a:pt x="5902" y="10423"/>
                  </a:lnTo>
                  <a:lnTo>
                    <a:pt x="6018" y="10423"/>
                  </a:lnTo>
                  <a:lnTo>
                    <a:pt x="6134" y="10423"/>
                  </a:lnTo>
                  <a:lnTo>
                    <a:pt x="6134" y="10539"/>
                  </a:lnTo>
                  <a:lnTo>
                    <a:pt x="6249" y="10539"/>
                  </a:lnTo>
                  <a:lnTo>
                    <a:pt x="6249" y="10655"/>
                  </a:lnTo>
                  <a:lnTo>
                    <a:pt x="6365" y="10655"/>
                  </a:lnTo>
                  <a:lnTo>
                    <a:pt x="6365" y="10771"/>
                  </a:lnTo>
                  <a:lnTo>
                    <a:pt x="6481" y="10886"/>
                  </a:lnTo>
                  <a:lnTo>
                    <a:pt x="6481" y="10886"/>
                  </a:lnTo>
                  <a:lnTo>
                    <a:pt x="6365" y="11465"/>
                  </a:lnTo>
                  <a:lnTo>
                    <a:pt x="6365" y="11465"/>
                  </a:lnTo>
                  <a:lnTo>
                    <a:pt x="6481" y="11465"/>
                  </a:lnTo>
                  <a:lnTo>
                    <a:pt x="6596" y="11465"/>
                  </a:lnTo>
                  <a:lnTo>
                    <a:pt x="6712" y="11465"/>
                  </a:lnTo>
                  <a:lnTo>
                    <a:pt x="6712" y="11350"/>
                  </a:lnTo>
                  <a:lnTo>
                    <a:pt x="6712" y="11234"/>
                  </a:lnTo>
                  <a:lnTo>
                    <a:pt x="6828" y="11118"/>
                  </a:lnTo>
                  <a:lnTo>
                    <a:pt x="6828" y="11002"/>
                  </a:lnTo>
                  <a:lnTo>
                    <a:pt x="6944" y="10886"/>
                  </a:lnTo>
                  <a:lnTo>
                    <a:pt x="6944" y="10886"/>
                  </a:lnTo>
                  <a:lnTo>
                    <a:pt x="7175" y="10886"/>
                  </a:lnTo>
                  <a:lnTo>
                    <a:pt x="7407" y="10886"/>
                  </a:lnTo>
                  <a:lnTo>
                    <a:pt x="7638" y="10886"/>
                  </a:lnTo>
                  <a:lnTo>
                    <a:pt x="7870" y="10886"/>
                  </a:lnTo>
                  <a:lnTo>
                    <a:pt x="8101" y="11002"/>
                  </a:lnTo>
                  <a:lnTo>
                    <a:pt x="8332" y="11002"/>
                  </a:lnTo>
                  <a:lnTo>
                    <a:pt x="8564" y="11234"/>
                  </a:lnTo>
                  <a:lnTo>
                    <a:pt x="8564" y="11581"/>
                  </a:lnTo>
                  <a:lnTo>
                    <a:pt x="8564" y="11581"/>
                  </a:lnTo>
                  <a:lnTo>
                    <a:pt x="8680" y="11929"/>
                  </a:lnTo>
                  <a:lnTo>
                    <a:pt x="8564" y="12160"/>
                  </a:lnTo>
                  <a:lnTo>
                    <a:pt x="8448" y="12392"/>
                  </a:lnTo>
                  <a:lnTo>
                    <a:pt x="8217" y="12508"/>
                  </a:lnTo>
                  <a:lnTo>
                    <a:pt x="7985" y="12624"/>
                  </a:lnTo>
                  <a:lnTo>
                    <a:pt x="7638" y="12624"/>
                  </a:lnTo>
                  <a:lnTo>
                    <a:pt x="7291" y="12739"/>
                  </a:lnTo>
                  <a:lnTo>
                    <a:pt x="7059" y="12855"/>
                  </a:lnTo>
                  <a:lnTo>
                    <a:pt x="7059" y="12855"/>
                  </a:lnTo>
                  <a:lnTo>
                    <a:pt x="6596" y="12855"/>
                  </a:lnTo>
                  <a:lnTo>
                    <a:pt x="6018" y="12739"/>
                  </a:lnTo>
                  <a:lnTo>
                    <a:pt x="5555" y="12739"/>
                  </a:lnTo>
                  <a:lnTo>
                    <a:pt x="5092" y="12624"/>
                  </a:lnTo>
                  <a:lnTo>
                    <a:pt x="4513" y="12508"/>
                  </a:lnTo>
                  <a:lnTo>
                    <a:pt x="4166" y="12276"/>
                  </a:lnTo>
                  <a:lnTo>
                    <a:pt x="3703" y="12044"/>
                  </a:lnTo>
                  <a:lnTo>
                    <a:pt x="3240" y="11813"/>
                  </a:lnTo>
                  <a:lnTo>
                    <a:pt x="3240" y="11813"/>
                  </a:lnTo>
                  <a:lnTo>
                    <a:pt x="2893" y="11234"/>
                  </a:lnTo>
                  <a:lnTo>
                    <a:pt x="2662" y="10539"/>
                  </a:lnTo>
                  <a:lnTo>
                    <a:pt x="2430" y="9960"/>
                  </a:lnTo>
                  <a:lnTo>
                    <a:pt x="2199" y="9265"/>
                  </a:lnTo>
                  <a:lnTo>
                    <a:pt x="1851" y="8686"/>
                  </a:lnTo>
                  <a:lnTo>
                    <a:pt x="1504" y="8107"/>
                  </a:lnTo>
                  <a:lnTo>
                    <a:pt x="926" y="7644"/>
                  </a:lnTo>
                  <a:lnTo>
                    <a:pt x="231" y="7412"/>
                  </a:lnTo>
                  <a:lnTo>
                    <a:pt x="231" y="7412"/>
                  </a:lnTo>
                  <a:lnTo>
                    <a:pt x="115" y="7296"/>
                  </a:lnTo>
                  <a:lnTo>
                    <a:pt x="115" y="7296"/>
                  </a:lnTo>
                  <a:lnTo>
                    <a:pt x="0" y="7180"/>
                  </a:lnTo>
                  <a:lnTo>
                    <a:pt x="0" y="7065"/>
                  </a:lnTo>
                  <a:lnTo>
                    <a:pt x="0" y="6949"/>
                  </a:lnTo>
                  <a:lnTo>
                    <a:pt x="0" y="6833"/>
                  </a:lnTo>
                  <a:lnTo>
                    <a:pt x="0" y="6717"/>
                  </a:lnTo>
                  <a:lnTo>
                    <a:pt x="0" y="6601"/>
                  </a:lnTo>
                  <a:lnTo>
                    <a:pt x="0" y="6601"/>
                  </a:lnTo>
                  <a:lnTo>
                    <a:pt x="231" y="6370"/>
                  </a:lnTo>
                  <a:lnTo>
                    <a:pt x="463" y="6138"/>
                  </a:lnTo>
                  <a:lnTo>
                    <a:pt x="810" y="6022"/>
                  </a:lnTo>
                  <a:lnTo>
                    <a:pt x="1157" y="5907"/>
                  </a:lnTo>
                  <a:lnTo>
                    <a:pt x="1504" y="5907"/>
                  </a:lnTo>
                  <a:lnTo>
                    <a:pt x="1851" y="5791"/>
                  </a:lnTo>
                  <a:lnTo>
                    <a:pt x="2199" y="5675"/>
                  </a:lnTo>
                  <a:lnTo>
                    <a:pt x="2430" y="5559"/>
                  </a:lnTo>
                  <a:lnTo>
                    <a:pt x="2430" y="5559"/>
                  </a:lnTo>
                  <a:lnTo>
                    <a:pt x="3009" y="5328"/>
                  </a:lnTo>
                  <a:lnTo>
                    <a:pt x="3472" y="4980"/>
                  </a:lnTo>
                  <a:lnTo>
                    <a:pt x="3935" y="4633"/>
                  </a:lnTo>
                  <a:lnTo>
                    <a:pt x="4398" y="4285"/>
                  </a:lnTo>
                  <a:lnTo>
                    <a:pt x="4860" y="3822"/>
                  </a:lnTo>
                  <a:lnTo>
                    <a:pt x="5323" y="3475"/>
                  </a:lnTo>
                  <a:lnTo>
                    <a:pt x="5671" y="3011"/>
                  </a:lnTo>
                  <a:lnTo>
                    <a:pt x="6018" y="2432"/>
                  </a:lnTo>
                  <a:lnTo>
                    <a:pt x="6018" y="2432"/>
                  </a:lnTo>
                  <a:lnTo>
                    <a:pt x="6018" y="2548"/>
                  </a:lnTo>
                  <a:lnTo>
                    <a:pt x="6134" y="2548"/>
                  </a:lnTo>
                  <a:lnTo>
                    <a:pt x="6134" y="2548"/>
                  </a:lnTo>
                  <a:lnTo>
                    <a:pt x="6134" y="2548"/>
                  </a:lnTo>
                  <a:lnTo>
                    <a:pt x="6249" y="2548"/>
                  </a:lnTo>
                  <a:lnTo>
                    <a:pt x="6249" y="2548"/>
                  </a:lnTo>
                  <a:lnTo>
                    <a:pt x="6249" y="2432"/>
                  </a:lnTo>
                  <a:lnTo>
                    <a:pt x="6249" y="2432"/>
                  </a:lnTo>
                  <a:lnTo>
                    <a:pt x="6249" y="2432"/>
                  </a:lnTo>
                  <a:lnTo>
                    <a:pt x="6249" y="2201"/>
                  </a:lnTo>
                  <a:lnTo>
                    <a:pt x="6134" y="1969"/>
                  </a:lnTo>
                  <a:lnTo>
                    <a:pt x="6018" y="1737"/>
                  </a:lnTo>
                  <a:lnTo>
                    <a:pt x="5902" y="1506"/>
                  </a:lnTo>
                  <a:lnTo>
                    <a:pt x="5786" y="1274"/>
                  </a:lnTo>
                  <a:lnTo>
                    <a:pt x="5671" y="1043"/>
                  </a:lnTo>
                  <a:lnTo>
                    <a:pt x="5555" y="811"/>
                  </a:lnTo>
                  <a:lnTo>
                    <a:pt x="5439" y="579"/>
                  </a:lnTo>
                  <a:lnTo>
                    <a:pt x="5439" y="579"/>
                  </a:lnTo>
                  <a:lnTo>
                    <a:pt x="5555" y="579"/>
                  </a:lnTo>
                  <a:lnTo>
                    <a:pt x="5555" y="579"/>
                  </a:lnTo>
                  <a:lnTo>
                    <a:pt x="5555" y="579"/>
                  </a:lnTo>
                  <a:lnTo>
                    <a:pt x="5555" y="579"/>
                  </a:lnTo>
                  <a:lnTo>
                    <a:pt x="5671" y="695"/>
                  </a:lnTo>
                  <a:lnTo>
                    <a:pt x="5671" y="695"/>
                  </a:lnTo>
                  <a:lnTo>
                    <a:pt x="5671" y="695"/>
                  </a:lnTo>
                  <a:lnTo>
                    <a:pt x="5671" y="811"/>
                  </a:lnTo>
                  <a:lnTo>
                    <a:pt x="5671" y="811"/>
                  </a:lnTo>
                  <a:lnTo>
                    <a:pt x="5786" y="811"/>
                  </a:lnTo>
                  <a:lnTo>
                    <a:pt x="5786" y="811"/>
                  </a:lnTo>
                  <a:lnTo>
                    <a:pt x="5902" y="695"/>
                  </a:lnTo>
                  <a:lnTo>
                    <a:pt x="6018" y="579"/>
                  </a:lnTo>
                  <a:lnTo>
                    <a:pt x="6249" y="464"/>
                  </a:lnTo>
                  <a:lnTo>
                    <a:pt x="6365" y="348"/>
                  </a:lnTo>
                  <a:lnTo>
                    <a:pt x="6481" y="232"/>
                  </a:lnTo>
                  <a:lnTo>
                    <a:pt x="6712" y="116"/>
                  </a:lnTo>
                  <a:lnTo>
                    <a:pt x="6828" y="0"/>
                  </a:lnTo>
                  <a:lnTo>
                    <a:pt x="7059" y="0"/>
                  </a:lnTo>
                  <a:lnTo>
                    <a:pt x="7059" y="0"/>
                  </a:lnTo>
                  <a:lnTo>
                    <a:pt x="7059" y="0"/>
                  </a:lnTo>
                  <a:lnTo>
                    <a:pt x="7059" y="0"/>
                  </a:lnTo>
                  <a:lnTo>
                    <a:pt x="7059"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279" name=""/>
          <p:cNvSpPr/>
          <p:nvPr/>
        </p:nvSpPr>
        <p:spPr>
          <a:xfrm>
            <a:off x="4020480" y="685800"/>
            <a:ext cx="1351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a:t>
            </a:r>
            <a:endParaRPr b="0" lang="en-US" sz="2800" spc="-1" strike="noStrike">
              <a:solidFill>
                <a:srgbClr val="000000"/>
              </a:solidFill>
              <a:latin typeface="Times New Roman"/>
            </a:endParaRPr>
          </a:p>
        </p:txBody>
      </p:sp>
      <p:sp>
        <p:nvSpPr>
          <p:cNvPr id="2280" name=""/>
          <p:cNvSpPr/>
          <p:nvPr/>
        </p:nvSpPr>
        <p:spPr>
          <a:xfrm>
            <a:off x="685800" y="144792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We have seen how to:</a:t>
            </a:r>
            <a:endParaRPr b="0" lang="en-US" sz="3200" spc="-1" strike="noStrike">
              <a:solidFill>
                <a:srgbClr val="000000"/>
              </a:solidFill>
              <a:latin typeface="Times New Roman"/>
            </a:endParaRPr>
          </a:p>
        </p:txBody>
      </p:sp>
      <p:sp>
        <p:nvSpPr>
          <p:cNvPr id="2281" name=""/>
          <p:cNvSpPr/>
          <p:nvPr/>
        </p:nvSpPr>
        <p:spPr>
          <a:xfrm>
            <a:off x="1143000" y="1905120"/>
            <a:ext cx="7391520" cy="155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 the solution to arithmetic expressions that include two successive minus signs</a:t>
            </a:r>
            <a:endParaRPr b="0" lang="en-US" sz="3200" spc="-1" strike="noStrike">
              <a:solidFill>
                <a:srgbClr val="000000"/>
              </a:solidFill>
              <a:latin typeface="Times New Roman"/>
            </a:endParaRPr>
          </a:p>
        </p:txBody>
      </p:sp>
      <p:pic>
        <p:nvPicPr>
          <p:cNvPr id="2282" name="" descr=""/>
          <p:cNvPicPr/>
          <p:nvPr/>
        </p:nvPicPr>
        <p:blipFill>
          <a:blip r:embed="rId1"/>
          <a:stretch/>
        </p:blipFill>
        <p:spPr>
          <a:xfrm>
            <a:off x="4038480" y="3505320"/>
            <a:ext cx="3886200" cy="2922480"/>
          </a:xfrm>
          <a:prstGeom prst="rect">
            <a:avLst/>
          </a:prstGeom>
          <a:ln w="0">
            <a:noFill/>
          </a:ln>
        </p:spPr>
      </p:pic>
      <p:grpSp>
        <p:nvGrpSpPr>
          <p:cNvPr id="2283" name=""/>
          <p:cNvGrpSpPr/>
          <p:nvPr/>
        </p:nvGrpSpPr>
        <p:grpSpPr>
          <a:xfrm>
            <a:off x="838080" y="3429000"/>
            <a:ext cx="2210040" cy="2971800"/>
            <a:chOff x="838080" y="3429000"/>
            <a:chExt cx="2210040" cy="2971800"/>
          </a:xfrm>
        </p:grpSpPr>
        <p:sp>
          <p:nvSpPr>
            <p:cNvPr id="2284" name=""/>
            <p:cNvSpPr/>
            <p:nvPr/>
          </p:nvSpPr>
          <p:spPr>
            <a:xfrm>
              <a:off x="838080" y="3429000"/>
              <a:ext cx="2210040" cy="29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846000" y="3441240"/>
              <a:ext cx="2193840" cy="2946960"/>
            </a:xfrm>
            <a:custGeom>
              <a:avLst/>
              <a:gdLst/>
              <a:ahLst/>
              <a:rect l="l" t="t" r="r" b="b"/>
              <a:pathLst>
                <a:path w="61339" h="54893">
                  <a:moveTo>
                    <a:pt x="20369" y="694"/>
                  </a:moveTo>
                  <a:lnTo>
                    <a:pt x="20485" y="579"/>
                  </a:lnTo>
                  <a:lnTo>
                    <a:pt x="20485" y="463"/>
                  </a:lnTo>
                  <a:lnTo>
                    <a:pt x="20601" y="463"/>
                  </a:lnTo>
                  <a:lnTo>
                    <a:pt x="20717" y="347"/>
                  </a:lnTo>
                  <a:lnTo>
                    <a:pt x="20832" y="347"/>
                  </a:lnTo>
                  <a:lnTo>
                    <a:pt x="20948" y="347"/>
                  </a:lnTo>
                  <a:lnTo>
                    <a:pt x="21064" y="231"/>
                  </a:lnTo>
                  <a:lnTo>
                    <a:pt x="21179" y="231"/>
                  </a:lnTo>
                  <a:lnTo>
                    <a:pt x="21179" y="231"/>
                  </a:lnTo>
                  <a:lnTo>
                    <a:pt x="21411" y="231"/>
                  </a:lnTo>
                  <a:lnTo>
                    <a:pt x="21527" y="347"/>
                  </a:lnTo>
                  <a:lnTo>
                    <a:pt x="21758" y="463"/>
                  </a:lnTo>
                  <a:lnTo>
                    <a:pt x="21990" y="579"/>
                  </a:lnTo>
                  <a:lnTo>
                    <a:pt x="22105" y="694"/>
                  </a:lnTo>
                  <a:lnTo>
                    <a:pt x="22221" y="810"/>
                  </a:lnTo>
                  <a:lnTo>
                    <a:pt x="22453" y="1042"/>
                  </a:lnTo>
                  <a:lnTo>
                    <a:pt x="22568" y="1274"/>
                  </a:lnTo>
                  <a:lnTo>
                    <a:pt x="22568" y="1274"/>
                  </a:lnTo>
                  <a:lnTo>
                    <a:pt x="22684" y="1158"/>
                  </a:lnTo>
                  <a:lnTo>
                    <a:pt x="22915" y="1042"/>
                  </a:lnTo>
                  <a:lnTo>
                    <a:pt x="23031" y="1042"/>
                  </a:lnTo>
                  <a:lnTo>
                    <a:pt x="23147" y="1042"/>
                  </a:lnTo>
                  <a:lnTo>
                    <a:pt x="23378" y="1042"/>
                  </a:lnTo>
                  <a:lnTo>
                    <a:pt x="23494" y="1042"/>
                  </a:lnTo>
                  <a:lnTo>
                    <a:pt x="23726" y="1042"/>
                  </a:lnTo>
                  <a:lnTo>
                    <a:pt x="23841" y="1158"/>
                  </a:lnTo>
                  <a:lnTo>
                    <a:pt x="23841" y="1158"/>
                  </a:lnTo>
                  <a:lnTo>
                    <a:pt x="23957" y="1158"/>
                  </a:lnTo>
                  <a:lnTo>
                    <a:pt x="24188" y="1274"/>
                  </a:lnTo>
                  <a:lnTo>
                    <a:pt x="24304" y="1389"/>
                  </a:lnTo>
                  <a:lnTo>
                    <a:pt x="24420" y="1505"/>
                  </a:lnTo>
                  <a:lnTo>
                    <a:pt x="24536" y="1621"/>
                  </a:lnTo>
                  <a:lnTo>
                    <a:pt x="24651" y="1621"/>
                  </a:lnTo>
                  <a:lnTo>
                    <a:pt x="24767" y="1621"/>
                  </a:lnTo>
                  <a:lnTo>
                    <a:pt x="24999" y="1389"/>
                  </a:lnTo>
                  <a:lnTo>
                    <a:pt x="24999" y="1389"/>
                  </a:lnTo>
                  <a:lnTo>
                    <a:pt x="25114" y="1389"/>
                  </a:lnTo>
                  <a:lnTo>
                    <a:pt x="25346" y="1505"/>
                  </a:lnTo>
                  <a:lnTo>
                    <a:pt x="25462" y="1505"/>
                  </a:lnTo>
                  <a:lnTo>
                    <a:pt x="25577" y="1621"/>
                  </a:lnTo>
                  <a:lnTo>
                    <a:pt x="25693" y="1737"/>
                  </a:lnTo>
                  <a:lnTo>
                    <a:pt x="25809" y="1853"/>
                  </a:lnTo>
                  <a:lnTo>
                    <a:pt x="25924" y="1968"/>
                  </a:lnTo>
                  <a:lnTo>
                    <a:pt x="26040" y="1968"/>
                  </a:lnTo>
                  <a:lnTo>
                    <a:pt x="26040" y="1968"/>
                  </a:lnTo>
                  <a:lnTo>
                    <a:pt x="26272" y="1968"/>
                  </a:lnTo>
                  <a:lnTo>
                    <a:pt x="26503" y="1853"/>
                  </a:lnTo>
                  <a:lnTo>
                    <a:pt x="26735" y="1853"/>
                  </a:lnTo>
                  <a:lnTo>
                    <a:pt x="26966" y="1737"/>
                  </a:lnTo>
                  <a:lnTo>
                    <a:pt x="27082" y="1737"/>
                  </a:lnTo>
                  <a:lnTo>
                    <a:pt x="27313" y="1737"/>
                  </a:lnTo>
                  <a:lnTo>
                    <a:pt x="27545" y="1853"/>
                  </a:lnTo>
                  <a:lnTo>
                    <a:pt x="27660" y="1968"/>
                  </a:lnTo>
                  <a:lnTo>
                    <a:pt x="27660" y="1968"/>
                  </a:lnTo>
                  <a:lnTo>
                    <a:pt x="28123" y="2316"/>
                  </a:lnTo>
                  <a:lnTo>
                    <a:pt x="28123" y="2316"/>
                  </a:lnTo>
                  <a:lnTo>
                    <a:pt x="28239" y="2084"/>
                  </a:lnTo>
                  <a:lnTo>
                    <a:pt x="28471" y="1968"/>
                  </a:lnTo>
                  <a:lnTo>
                    <a:pt x="28586" y="1968"/>
                  </a:lnTo>
                  <a:lnTo>
                    <a:pt x="28818" y="1968"/>
                  </a:lnTo>
                  <a:lnTo>
                    <a:pt x="29049" y="1968"/>
                  </a:lnTo>
                  <a:lnTo>
                    <a:pt x="29281" y="1968"/>
                  </a:lnTo>
                  <a:lnTo>
                    <a:pt x="29512" y="1968"/>
                  </a:lnTo>
                  <a:lnTo>
                    <a:pt x="29744" y="1968"/>
                  </a:lnTo>
                  <a:lnTo>
                    <a:pt x="29744" y="1968"/>
                  </a:lnTo>
                  <a:lnTo>
                    <a:pt x="29859" y="2084"/>
                  </a:lnTo>
                  <a:lnTo>
                    <a:pt x="29975" y="2200"/>
                  </a:lnTo>
                  <a:lnTo>
                    <a:pt x="29975" y="2316"/>
                  </a:lnTo>
                  <a:lnTo>
                    <a:pt x="30091" y="2432"/>
                  </a:lnTo>
                  <a:lnTo>
                    <a:pt x="30207" y="2547"/>
                  </a:lnTo>
                  <a:lnTo>
                    <a:pt x="30322" y="2663"/>
                  </a:lnTo>
                  <a:lnTo>
                    <a:pt x="30438" y="2779"/>
                  </a:lnTo>
                  <a:lnTo>
                    <a:pt x="30554" y="2779"/>
                  </a:lnTo>
                  <a:lnTo>
                    <a:pt x="30554" y="2779"/>
                  </a:lnTo>
                  <a:lnTo>
                    <a:pt x="30670" y="2779"/>
                  </a:lnTo>
                  <a:lnTo>
                    <a:pt x="30785" y="2663"/>
                  </a:lnTo>
                  <a:lnTo>
                    <a:pt x="30901" y="2663"/>
                  </a:lnTo>
                  <a:lnTo>
                    <a:pt x="31132" y="2663"/>
                  </a:lnTo>
                  <a:lnTo>
                    <a:pt x="31248" y="2663"/>
                  </a:lnTo>
                  <a:lnTo>
                    <a:pt x="31364" y="2663"/>
                  </a:lnTo>
                  <a:lnTo>
                    <a:pt x="31595" y="2663"/>
                  </a:lnTo>
                  <a:lnTo>
                    <a:pt x="31711" y="2663"/>
                  </a:lnTo>
                  <a:lnTo>
                    <a:pt x="31711" y="2663"/>
                  </a:lnTo>
                  <a:lnTo>
                    <a:pt x="31943" y="2895"/>
                  </a:lnTo>
                  <a:lnTo>
                    <a:pt x="32058" y="3011"/>
                  </a:lnTo>
                  <a:lnTo>
                    <a:pt x="32174" y="3126"/>
                  </a:lnTo>
                  <a:lnTo>
                    <a:pt x="32290" y="3358"/>
                  </a:lnTo>
                  <a:lnTo>
                    <a:pt x="32521" y="3474"/>
                  </a:lnTo>
                  <a:lnTo>
                    <a:pt x="32637" y="3474"/>
                  </a:lnTo>
                  <a:lnTo>
                    <a:pt x="-32668" y="3474"/>
                  </a:lnTo>
                  <a:lnTo>
                    <a:pt x="-32436" y="3242"/>
                  </a:lnTo>
                  <a:lnTo>
                    <a:pt x="-32436" y="3242"/>
                  </a:lnTo>
                  <a:lnTo>
                    <a:pt x="-32205" y="3242"/>
                  </a:lnTo>
                  <a:lnTo>
                    <a:pt x="-31973" y="3242"/>
                  </a:lnTo>
                  <a:lnTo>
                    <a:pt x="-31626" y="3358"/>
                  </a:lnTo>
                  <a:lnTo>
                    <a:pt x="-31395" y="3474"/>
                  </a:lnTo>
                  <a:lnTo>
                    <a:pt x="-31163" y="3706"/>
                  </a:lnTo>
                  <a:lnTo>
                    <a:pt x="-30932" y="3706"/>
                  </a:lnTo>
                  <a:lnTo>
                    <a:pt x="-30584" y="3821"/>
                  </a:lnTo>
                  <a:lnTo>
                    <a:pt x="-30237" y="3706"/>
                  </a:lnTo>
                  <a:lnTo>
                    <a:pt x="-30237" y="3706"/>
                  </a:lnTo>
                  <a:lnTo>
                    <a:pt x="-30006" y="3821"/>
                  </a:lnTo>
                  <a:lnTo>
                    <a:pt x="-29774" y="3937"/>
                  </a:lnTo>
                  <a:lnTo>
                    <a:pt x="-29543" y="3937"/>
                  </a:lnTo>
                  <a:lnTo>
                    <a:pt x="-29311" y="3937"/>
                  </a:lnTo>
                  <a:lnTo>
                    <a:pt x="-29080" y="3821"/>
                  </a:lnTo>
                  <a:lnTo>
                    <a:pt x="-28733" y="3937"/>
                  </a:lnTo>
                  <a:lnTo>
                    <a:pt x="-28501" y="4053"/>
                  </a:lnTo>
                  <a:lnTo>
                    <a:pt x="-28385" y="4169"/>
                  </a:lnTo>
                  <a:lnTo>
                    <a:pt x="-28385" y="4169"/>
                  </a:lnTo>
                  <a:lnTo>
                    <a:pt x="-28038" y="4169"/>
                  </a:lnTo>
                  <a:lnTo>
                    <a:pt x="-27807" y="4169"/>
                  </a:lnTo>
                  <a:lnTo>
                    <a:pt x="-27575" y="4169"/>
                  </a:lnTo>
                  <a:lnTo>
                    <a:pt x="-27344" y="4285"/>
                  </a:lnTo>
                  <a:lnTo>
                    <a:pt x="-27112" y="4400"/>
                  </a:lnTo>
                  <a:lnTo>
                    <a:pt x="-26881" y="4516"/>
                  </a:lnTo>
                  <a:lnTo>
                    <a:pt x="-26650" y="4516"/>
                  </a:lnTo>
                  <a:lnTo>
                    <a:pt x="-26418" y="4285"/>
                  </a:lnTo>
                  <a:lnTo>
                    <a:pt x="-26418" y="4285"/>
                  </a:lnTo>
                  <a:lnTo>
                    <a:pt x="-26187" y="4400"/>
                  </a:lnTo>
                  <a:lnTo>
                    <a:pt x="-25955" y="4516"/>
                  </a:lnTo>
                  <a:lnTo>
                    <a:pt x="-25724" y="4632"/>
                  </a:lnTo>
                  <a:lnTo>
                    <a:pt x="-25608" y="4748"/>
                  </a:lnTo>
                  <a:lnTo>
                    <a:pt x="-25492" y="4979"/>
                  </a:lnTo>
                  <a:lnTo>
                    <a:pt x="-25376" y="5095"/>
                  </a:lnTo>
                  <a:lnTo>
                    <a:pt x="-25261" y="5327"/>
                  </a:lnTo>
                  <a:lnTo>
                    <a:pt x="-25145" y="5558"/>
                  </a:lnTo>
                  <a:lnTo>
                    <a:pt x="-25145" y="5558"/>
                  </a:lnTo>
                  <a:lnTo>
                    <a:pt x="-25145" y="6022"/>
                  </a:lnTo>
                  <a:lnTo>
                    <a:pt x="-25145" y="6369"/>
                  </a:lnTo>
                  <a:lnTo>
                    <a:pt x="-25376" y="6717"/>
                  </a:lnTo>
                  <a:lnTo>
                    <a:pt x="-25492" y="7064"/>
                  </a:lnTo>
                  <a:lnTo>
                    <a:pt x="-25724" y="7296"/>
                  </a:lnTo>
                  <a:lnTo>
                    <a:pt x="-25839" y="7643"/>
                  </a:lnTo>
                  <a:lnTo>
                    <a:pt x="-25955" y="7990"/>
                  </a:lnTo>
                  <a:lnTo>
                    <a:pt x="-26071" y="8454"/>
                  </a:lnTo>
                  <a:lnTo>
                    <a:pt x="-26071" y="8454"/>
                  </a:lnTo>
                  <a:lnTo>
                    <a:pt x="-26534" y="9959"/>
                  </a:lnTo>
                  <a:lnTo>
                    <a:pt x="-26997" y="11465"/>
                  </a:lnTo>
                  <a:lnTo>
                    <a:pt x="-27344" y="13086"/>
                  </a:lnTo>
                  <a:lnTo>
                    <a:pt x="-27691" y="14707"/>
                  </a:lnTo>
                  <a:lnTo>
                    <a:pt x="-28038" y="16329"/>
                  </a:lnTo>
                  <a:lnTo>
                    <a:pt x="-28270" y="17950"/>
                  </a:lnTo>
                  <a:lnTo>
                    <a:pt x="-28501" y="19571"/>
                  </a:lnTo>
                  <a:lnTo>
                    <a:pt x="-28617" y="21193"/>
                  </a:lnTo>
                  <a:lnTo>
                    <a:pt x="-28617" y="21193"/>
                  </a:lnTo>
                  <a:lnTo>
                    <a:pt x="-28501" y="21309"/>
                  </a:lnTo>
                  <a:lnTo>
                    <a:pt x="-28501" y="21309"/>
                  </a:lnTo>
                  <a:lnTo>
                    <a:pt x="-26650" y="20845"/>
                  </a:lnTo>
                  <a:lnTo>
                    <a:pt x="-24914" y="20498"/>
                  </a:lnTo>
                  <a:lnTo>
                    <a:pt x="-23178" y="20150"/>
                  </a:lnTo>
                  <a:lnTo>
                    <a:pt x="-21326" y="19919"/>
                  </a:lnTo>
                  <a:lnTo>
                    <a:pt x="-19590" y="19571"/>
                  </a:lnTo>
                  <a:lnTo>
                    <a:pt x="-17738" y="19224"/>
                  </a:lnTo>
                  <a:lnTo>
                    <a:pt x="-16002" y="18992"/>
                  </a:lnTo>
                  <a:lnTo>
                    <a:pt x="-14266" y="18645"/>
                  </a:lnTo>
                  <a:lnTo>
                    <a:pt x="-14266" y="18645"/>
                  </a:lnTo>
                  <a:lnTo>
                    <a:pt x="-12993" y="18761"/>
                  </a:lnTo>
                  <a:lnTo>
                    <a:pt x="-11720" y="18877"/>
                  </a:lnTo>
                  <a:lnTo>
                    <a:pt x="-10563" y="18992"/>
                  </a:lnTo>
                  <a:lnTo>
                    <a:pt x="-9290" y="18992"/>
                  </a:lnTo>
                  <a:lnTo>
                    <a:pt x="-8017" y="19108"/>
                  </a:lnTo>
                  <a:lnTo>
                    <a:pt x="-6859" y="19224"/>
                  </a:lnTo>
                  <a:lnTo>
                    <a:pt x="-5586" y="19340"/>
                  </a:lnTo>
                  <a:lnTo>
                    <a:pt x="-4313" y="19571"/>
                  </a:lnTo>
                  <a:lnTo>
                    <a:pt x="-4313" y="19571"/>
                  </a:lnTo>
                  <a:lnTo>
                    <a:pt x="-4313" y="19571"/>
                  </a:lnTo>
                  <a:lnTo>
                    <a:pt x="-4313" y="19571"/>
                  </a:lnTo>
                  <a:lnTo>
                    <a:pt x="-4197" y="19687"/>
                  </a:lnTo>
                  <a:lnTo>
                    <a:pt x="-4197" y="19687"/>
                  </a:lnTo>
                  <a:lnTo>
                    <a:pt x="-4197" y="19687"/>
                  </a:lnTo>
                  <a:lnTo>
                    <a:pt x="-4197" y="19803"/>
                  </a:lnTo>
                  <a:lnTo>
                    <a:pt x="-4197" y="19803"/>
                  </a:lnTo>
                  <a:lnTo>
                    <a:pt x="-4313" y="19803"/>
                  </a:lnTo>
                  <a:lnTo>
                    <a:pt x="-4313" y="19803"/>
                  </a:lnTo>
                  <a:lnTo>
                    <a:pt x="-17044" y="25246"/>
                  </a:lnTo>
                  <a:lnTo>
                    <a:pt x="-17044" y="25246"/>
                  </a:lnTo>
                  <a:lnTo>
                    <a:pt x="-17159" y="25246"/>
                  </a:lnTo>
                  <a:lnTo>
                    <a:pt x="-17391" y="25246"/>
                  </a:lnTo>
                  <a:lnTo>
                    <a:pt x="-17622" y="25362"/>
                  </a:lnTo>
                  <a:lnTo>
                    <a:pt x="-17854" y="25362"/>
                  </a:lnTo>
                  <a:lnTo>
                    <a:pt x="-17970" y="25478"/>
                  </a:lnTo>
                  <a:lnTo>
                    <a:pt x="-18201" y="25478"/>
                  </a:lnTo>
                  <a:lnTo>
                    <a:pt x="-18317" y="25478"/>
                  </a:lnTo>
                  <a:lnTo>
                    <a:pt x="-18548" y="25594"/>
                  </a:lnTo>
                  <a:lnTo>
                    <a:pt x="-18548" y="25594"/>
                  </a:lnTo>
                  <a:lnTo>
                    <a:pt x="-18548" y="25941"/>
                  </a:lnTo>
                  <a:lnTo>
                    <a:pt x="-18664" y="26288"/>
                  </a:lnTo>
                  <a:lnTo>
                    <a:pt x="-18895" y="26636"/>
                  </a:lnTo>
                  <a:lnTo>
                    <a:pt x="-19127" y="26983"/>
                  </a:lnTo>
                  <a:lnTo>
                    <a:pt x="-19358" y="27215"/>
                  </a:lnTo>
                  <a:lnTo>
                    <a:pt x="-19706" y="27562"/>
                  </a:lnTo>
                  <a:lnTo>
                    <a:pt x="-19937" y="27794"/>
                  </a:lnTo>
                  <a:lnTo>
                    <a:pt x="-20284" y="28026"/>
                  </a:lnTo>
                  <a:lnTo>
                    <a:pt x="-20284" y="28026"/>
                  </a:lnTo>
                  <a:lnTo>
                    <a:pt x="-20631" y="28141"/>
                  </a:lnTo>
                  <a:lnTo>
                    <a:pt x="-20863" y="28257"/>
                  </a:lnTo>
                  <a:lnTo>
                    <a:pt x="-21094" y="28373"/>
                  </a:lnTo>
                  <a:lnTo>
                    <a:pt x="-21442" y="28373"/>
                  </a:lnTo>
                  <a:lnTo>
                    <a:pt x="-21673" y="28489"/>
                  </a:lnTo>
                  <a:lnTo>
                    <a:pt x="-22020" y="28489"/>
                  </a:lnTo>
                  <a:lnTo>
                    <a:pt x="-22252" y="28373"/>
                  </a:lnTo>
                  <a:lnTo>
                    <a:pt x="-22483" y="28141"/>
                  </a:lnTo>
                  <a:lnTo>
                    <a:pt x="-22483" y="28141"/>
                  </a:lnTo>
                  <a:lnTo>
                    <a:pt x="-22715" y="28257"/>
                  </a:lnTo>
                  <a:lnTo>
                    <a:pt x="-22830" y="28373"/>
                  </a:lnTo>
                  <a:lnTo>
                    <a:pt x="-23062" y="28489"/>
                  </a:lnTo>
                  <a:lnTo>
                    <a:pt x="-23293" y="28605"/>
                  </a:lnTo>
                  <a:lnTo>
                    <a:pt x="-23409" y="28605"/>
                  </a:lnTo>
                  <a:lnTo>
                    <a:pt x="-23640" y="28720"/>
                  </a:lnTo>
                  <a:lnTo>
                    <a:pt x="-23872" y="28720"/>
                  </a:lnTo>
                  <a:lnTo>
                    <a:pt x="-24103" y="28605"/>
                  </a:lnTo>
                  <a:lnTo>
                    <a:pt x="-24103" y="28605"/>
                  </a:lnTo>
                  <a:lnTo>
                    <a:pt x="-24335" y="28952"/>
                  </a:lnTo>
                  <a:lnTo>
                    <a:pt x="-24566" y="29184"/>
                  </a:lnTo>
                  <a:lnTo>
                    <a:pt x="-24798" y="29299"/>
                  </a:lnTo>
                  <a:lnTo>
                    <a:pt x="-25145" y="29415"/>
                  </a:lnTo>
                  <a:lnTo>
                    <a:pt x="-25376" y="29531"/>
                  </a:lnTo>
                  <a:lnTo>
                    <a:pt x="-25724" y="29531"/>
                  </a:lnTo>
                  <a:lnTo>
                    <a:pt x="-26071" y="29647"/>
                  </a:lnTo>
                  <a:lnTo>
                    <a:pt x="-26418" y="29531"/>
                  </a:lnTo>
                  <a:lnTo>
                    <a:pt x="-26418" y="29531"/>
                  </a:lnTo>
                  <a:lnTo>
                    <a:pt x="-26534" y="29531"/>
                  </a:lnTo>
                  <a:lnTo>
                    <a:pt x="-26650" y="29415"/>
                  </a:lnTo>
                  <a:lnTo>
                    <a:pt x="-26765" y="29299"/>
                  </a:lnTo>
                  <a:lnTo>
                    <a:pt x="-26881" y="29184"/>
                  </a:lnTo>
                  <a:lnTo>
                    <a:pt x="-26997" y="29068"/>
                  </a:lnTo>
                  <a:lnTo>
                    <a:pt x="-27112" y="28952"/>
                  </a:lnTo>
                  <a:lnTo>
                    <a:pt x="-27228" y="28952"/>
                  </a:lnTo>
                  <a:lnTo>
                    <a:pt x="-27460" y="29068"/>
                  </a:lnTo>
                  <a:lnTo>
                    <a:pt x="-27460" y="29068"/>
                  </a:lnTo>
                  <a:lnTo>
                    <a:pt x="-27575" y="29184"/>
                  </a:lnTo>
                  <a:lnTo>
                    <a:pt x="-27691" y="29299"/>
                  </a:lnTo>
                  <a:lnTo>
                    <a:pt x="-27923" y="29415"/>
                  </a:lnTo>
                  <a:lnTo>
                    <a:pt x="-28038" y="29531"/>
                  </a:lnTo>
                  <a:lnTo>
                    <a:pt x="-28270" y="29647"/>
                  </a:lnTo>
                  <a:lnTo>
                    <a:pt x="-28385" y="29763"/>
                  </a:lnTo>
                  <a:lnTo>
                    <a:pt x="-28617" y="29879"/>
                  </a:lnTo>
                  <a:lnTo>
                    <a:pt x="-28733" y="29994"/>
                  </a:lnTo>
                  <a:lnTo>
                    <a:pt x="-28733" y="29994"/>
                  </a:lnTo>
                  <a:lnTo>
                    <a:pt x="-28733" y="30689"/>
                  </a:lnTo>
                  <a:lnTo>
                    <a:pt x="-28733" y="31268"/>
                  </a:lnTo>
                  <a:lnTo>
                    <a:pt x="-28617" y="31963"/>
                  </a:lnTo>
                  <a:lnTo>
                    <a:pt x="-28501" y="32542"/>
                  </a:lnTo>
                  <a:lnTo>
                    <a:pt x="-28385" y="-32299"/>
                  </a:lnTo>
                  <a:lnTo>
                    <a:pt x="-28385" y="-31720"/>
                  </a:lnTo>
                  <a:lnTo>
                    <a:pt x="-28270" y="-31025"/>
                  </a:lnTo>
                  <a:lnTo>
                    <a:pt x="-28154" y="-30446"/>
                  </a:lnTo>
                  <a:lnTo>
                    <a:pt x="-28154" y="-30446"/>
                  </a:lnTo>
                  <a:lnTo>
                    <a:pt x="-28501" y="-30214"/>
                  </a:lnTo>
                  <a:lnTo>
                    <a:pt x="-28733" y="-29983"/>
                  </a:lnTo>
                  <a:lnTo>
                    <a:pt x="-29196" y="-29867"/>
                  </a:lnTo>
                  <a:lnTo>
                    <a:pt x="-29543" y="-29867"/>
                  </a:lnTo>
                  <a:lnTo>
                    <a:pt x="-29890" y="-29751"/>
                  </a:lnTo>
                  <a:lnTo>
                    <a:pt x="-30237" y="-29751"/>
                  </a:lnTo>
                  <a:lnTo>
                    <a:pt x="-30700" y="-29635"/>
                  </a:lnTo>
                  <a:lnTo>
                    <a:pt x="-31047" y="-29635"/>
                  </a:lnTo>
                  <a:lnTo>
                    <a:pt x="-31047" y="-29635"/>
                  </a:lnTo>
                  <a:lnTo>
                    <a:pt x="-31047" y="-29288"/>
                  </a:lnTo>
                  <a:lnTo>
                    <a:pt x="-31047" y="-29288"/>
                  </a:lnTo>
                  <a:lnTo>
                    <a:pt x="-30700" y="-28825"/>
                  </a:lnTo>
                  <a:lnTo>
                    <a:pt x="-30353" y="-28246"/>
                  </a:lnTo>
                  <a:lnTo>
                    <a:pt x="-30006" y="-27782"/>
                  </a:lnTo>
                  <a:lnTo>
                    <a:pt x="-29774" y="-27319"/>
                  </a:lnTo>
                  <a:lnTo>
                    <a:pt x="-29427" y="-26856"/>
                  </a:lnTo>
                  <a:lnTo>
                    <a:pt x="-29080" y="-26277"/>
                  </a:lnTo>
                  <a:lnTo>
                    <a:pt x="-28848" y="-25814"/>
                  </a:lnTo>
                  <a:lnTo>
                    <a:pt x="-28617" y="-25235"/>
                  </a:lnTo>
                  <a:lnTo>
                    <a:pt x="-28617" y="-25235"/>
                  </a:lnTo>
                  <a:lnTo>
                    <a:pt x="-28733" y="-24540"/>
                  </a:lnTo>
                  <a:lnTo>
                    <a:pt x="-28848" y="-23729"/>
                  </a:lnTo>
                  <a:lnTo>
                    <a:pt x="-28964" y="-23034"/>
                  </a:lnTo>
                  <a:lnTo>
                    <a:pt x="-29196" y="-22224"/>
                  </a:lnTo>
                  <a:lnTo>
                    <a:pt x="-29311" y="-21529"/>
                  </a:lnTo>
                  <a:lnTo>
                    <a:pt x="-29543" y="-20718"/>
                  </a:lnTo>
                  <a:lnTo>
                    <a:pt x="-29659" y="-20023"/>
                  </a:lnTo>
                  <a:lnTo>
                    <a:pt x="-29890" y="-19213"/>
                  </a:lnTo>
                  <a:lnTo>
                    <a:pt x="-29890" y="-19213"/>
                  </a:lnTo>
                  <a:lnTo>
                    <a:pt x="-29774" y="-18865"/>
                  </a:lnTo>
                  <a:lnTo>
                    <a:pt x="-29543" y="-18518"/>
                  </a:lnTo>
                  <a:lnTo>
                    <a:pt x="-29427" y="-18286"/>
                  </a:lnTo>
                  <a:lnTo>
                    <a:pt x="-29196" y="-18054"/>
                  </a:lnTo>
                  <a:lnTo>
                    <a:pt x="-28964" y="-17707"/>
                  </a:lnTo>
                  <a:lnTo>
                    <a:pt x="-28733" y="-17475"/>
                  </a:lnTo>
                  <a:lnTo>
                    <a:pt x="-28501" y="-17244"/>
                  </a:lnTo>
                  <a:lnTo>
                    <a:pt x="-28501" y="-16896"/>
                  </a:lnTo>
                  <a:lnTo>
                    <a:pt x="-28501" y="-16896"/>
                  </a:lnTo>
                  <a:lnTo>
                    <a:pt x="-28385" y="-16665"/>
                  </a:lnTo>
                  <a:lnTo>
                    <a:pt x="-28154" y="-16317"/>
                  </a:lnTo>
                  <a:lnTo>
                    <a:pt x="-28038" y="-16086"/>
                  </a:lnTo>
                  <a:lnTo>
                    <a:pt x="-27807" y="-15854"/>
                  </a:lnTo>
                  <a:lnTo>
                    <a:pt x="-27691" y="-15622"/>
                  </a:lnTo>
                  <a:lnTo>
                    <a:pt x="-27575" y="-15391"/>
                  </a:lnTo>
                  <a:lnTo>
                    <a:pt x="-27344" y="-15159"/>
                  </a:lnTo>
                  <a:lnTo>
                    <a:pt x="-27344" y="-14928"/>
                  </a:lnTo>
                  <a:lnTo>
                    <a:pt x="-27344" y="-14928"/>
                  </a:lnTo>
                  <a:lnTo>
                    <a:pt x="-27228" y="-14464"/>
                  </a:lnTo>
                  <a:lnTo>
                    <a:pt x="-26997" y="-14117"/>
                  </a:lnTo>
                  <a:lnTo>
                    <a:pt x="-26881" y="-13654"/>
                  </a:lnTo>
                  <a:lnTo>
                    <a:pt x="-26881" y="-13190"/>
                  </a:lnTo>
                  <a:lnTo>
                    <a:pt x="-26765" y="-12727"/>
                  </a:lnTo>
                  <a:lnTo>
                    <a:pt x="-26765" y="-12380"/>
                  </a:lnTo>
                  <a:lnTo>
                    <a:pt x="-26881" y="-11917"/>
                  </a:lnTo>
                  <a:lnTo>
                    <a:pt x="-27228" y="-11569"/>
                  </a:lnTo>
                  <a:lnTo>
                    <a:pt x="-27228" y="-11569"/>
                  </a:lnTo>
                  <a:lnTo>
                    <a:pt x="-27228" y="-11453"/>
                  </a:lnTo>
                  <a:lnTo>
                    <a:pt x="-27344" y="-11453"/>
                  </a:lnTo>
                  <a:lnTo>
                    <a:pt x="-27344" y="-11453"/>
                  </a:lnTo>
                  <a:lnTo>
                    <a:pt x="-27460" y="-11453"/>
                  </a:lnTo>
                  <a:lnTo>
                    <a:pt x="-27460" y="-11453"/>
                  </a:lnTo>
                  <a:lnTo>
                    <a:pt x="-27575" y="-11453"/>
                  </a:lnTo>
                  <a:lnTo>
                    <a:pt x="-27691" y="-11453"/>
                  </a:lnTo>
                  <a:lnTo>
                    <a:pt x="-27691" y="-11453"/>
                  </a:lnTo>
                  <a:lnTo>
                    <a:pt x="-27691" y="-11453"/>
                  </a:lnTo>
                  <a:lnTo>
                    <a:pt x="-28154" y="-11222"/>
                  </a:lnTo>
                  <a:lnTo>
                    <a:pt x="-28733" y="-11106"/>
                  </a:lnTo>
                  <a:lnTo>
                    <a:pt x="-29311" y="-11106"/>
                  </a:lnTo>
                  <a:lnTo>
                    <a:pt x="-29890" y="-11222"/>
                  </a:lnTo>
                  <a:lnTo>
                    <a:pt x="-30353" y="-11337"/>
                  </a:lnTo>
                  <a:lnTo>
                    <a:pt x="-30932" y="-11453"/>
                  </a:lnTo>
                  <a:lnTo>
                    <a:pt x="-31395" y="-11685"/>
                  </a:lnTo>
                  <a:lnTo>
                    <a:pt x="-31857" y="-12032"/>
                  </a:lnTo>
                  <a:lnTo>
                    <a:pt x="-31857" y="-12032"/>
                  </a:lnTo>
                  <a:lnTo>
                    <a:pt x="-32320" y="-12496"/>
                  </a:lnTo>
                  <a:lnTo>
                    <a:pt x="-32552" y="-13075"/>
                  </a:lnTo>
                  <a:lnTo>
                    <a:pt x="32753" y="-13769"/>
                  </a:lnTo>
                  <a:lnTo>
                    <a:pt x="32637" y="-14464"/>
                  </a:lnTo>
                  <a:lnTo>
                    <a:pt x="32405" y="-15159"/>
                  </a:lnTo>
                  <a:lnTo>
                    <a:pt x="32058" y="-15622"/>
                  </a:lnTo>
                  <a:lnTo>
                    <a:pt x="31595" y="-16086"/>
                  </a:lnTo>
                  <a:lnTo>
                    <a:pt x="30785" y="-16201"/>
                  </a:lnTo>
                  <a:lnTo>
                    <a:pt x="30785" y="-16201"/>
                  </a:lnTo>
                  <a:lnTo>
                    <a:pt x="30670" y="-16317"/>
                  </a:lnTo>
                  <a:lnTo>
                    <a:pt x="30554" y="-16549"/>
                  </a:lnTo>
                  <a:lnTo>
                    <a:pt x="30438" y="-16781"/>
                  </a:lnTo>
                  <a:lnTo>
                    <a:pt x="30322" y="-16896"/>
                  </a:lnTo>
                  <a:lnTo>
                    <a:pt x="30322" y="-17128"/>
                  </a:lnTo>
                  <a:lnTo>
                    <a:pt x="30322" y="-17360"/>
                  </a:lnTo>
                  <a:lnTo>
                    <a:pt x="30322" y="-17591"/>
                  </a:lnTo>
                  <a:lnTo>
                    <a:pt x="30322" y="-17823"/>
                  </a:lnTo>
                  <a:lnTo>
                    <a:pt x="30322" y="-17823"/>
                  </a:lnTo>
                  <a:lnTo>
                    <a:pt x="30554" y="-18170"/>
                  </a:lnTo>
                  <a:lnTo>
                    <a:pt x="30785" y="-18518"/>
                  </a:lnTo>
                  <a:lnTo>
                    <a:pt x="31132" y="-18749"/>
                  </a:lnTo>
                  <a:lnTo>
                    <a:pt x="31480" y="-18981"/>
                  </a:lnTo>
                  <a:lnTo>
                    <a:pt x="31827" y="-19213"/>
                  </a:lnTo>
                  <a:lnTo>
                    <a:pt x="32174" y="-19444"/>
                  </a:lnTo>
                  <a:lnTo>
                    <a:pt x="32405" y="-19676"/>
                  </a:lnTo>
                  <a:lnTo>
                    <a:pt x="32637" y="-20139"/>
                  </a:lnTo>
                  <a:lnTo>
                    <a:pt x="32637" y="-20139"/>
                  </a:lnTo>
                  <a:lnTo>
                    <a:pt x="-32668" y="-20950"/>
                  </a:lnTo>
                  <a:lnTo>
                    <a:pt x="-32436" y="-21876"/>
                  </a:lnTo>
                  <a:lnTo>
                    <a:pt x="-32205" y="-22803"/>
                  </a:lnTo>
                  <a:lnTo>
                    <a:pt x="-32089" y="-23729"/>
                  </a:lnTo>
                  <a:lnTo>
                    <a:pt x="-32089" y="-24656"/>
                  </a:lnTo>
                  <a:lnTo>
                    <a:pt x="-32205" y="-25466"/>
                  </a:lnTo>
                  <a:lnTo>
                    <a:pt x="-32552" y="-26277"/>
                  </a:lnTo>
                  <a:lnTo>
                    <a:pt x="32290" y="-27088"/>
                  </a:lnTo>
                  <a:lnTo>
                    <a:pt x="32290" y="-27088"/>
                  </a:lnTo>
                  <a:lnTo>
                    <a:pt x="30901" y="-28593"/>
                  </a:lnTo>
                  <a:lnTo>
                    <a:pt x="30901" y="-28593"/>
                  </a:lnTo>
                  <a:lnTo>
                    <a:pt x="29744" y="-28130"/>
                  </a:lnTo>
                  <a:lnTo>
                    <a:pt x="28586" y="-27667"/>
                  </a:lnTo>
                  <a:lnTo>
                    <a:pt x="27545" y="-27203"/>
                  </a:lnTo>
                  <a:lnTo>
                    <a:pt x="26387" y="-26740"/>
                  </a:lnTo>
                  <a:lnTo>
                    <a:pt x="25230" y="-26161"/>
                  </a:lnTo>
                  <a:lnTo>
                    <a:pt x="24073" y="-25698"/>
                  </a:lnTo>
                  <a:lnTo>
                    <a:pt x="23031" y="-25119"/>
                  </a:lnTo>
                  <a:lnTo>
                    <a:pt x="21874" y="-24656"/>
                  </a:lnTo>
                  <a:lnTo>
                    <a:pt x="21874" y="-24656"/>
                  </a:lnTo>
                  <a:lnTo>
                    <a:pt x="21990" y="-24192"/>
                  </a:lnTo>
                  <a:lnTo>
                    <a:pt x="22221" y="-23845"/>
                  </a:lnTo>
                  <a:lnTo>
                    <a:pt x="22337" y="-23382"/>
                  </a:lnTo>
                  <a:lnTo>
                    <a:pt x="22568" y="-23034"/>
                  </a:lnTo>
                  <a:lnTo>
                    <a:pt x="22684" y="-22687"/>
                  </a:lnTo>
                  <a:lnTo>
                    <a:pt x="22915" y="-22224"/>
                  </a:lnTo>
                  <a:lnTo>
                    <a:pt x="23147" y="-21876"/>
                  </a:lnTo>
                  <a:lnTo>
                    <a:pt x="23263" y="-21529"/>
                  </a:lnTo>
                  <a:lnTo>
                    <a:pt x="23263" y="-21529"/>
                  </a:lnTo>
                  <a:lnTo>
                    <a:pt x="23263" y="-21181"/>
                  </a:lnTo>
                  <a:lnTo>
                    <a:pt x="23147" y="-20950"/>
                  </a:lnTo>
                  <a:lnTo>
                    <a:pt x="23031" y="-20718"/>
                  </a:lnTo>
                  <a:lnTo>
                    <a:pt x="22915" y="-20486"/>
                  </a:lnTo>
                  <a:lnTo>
                    <a:pt x="22684" y="-20371"/>
                  </a:lnTo>
                  <a:lnTo>
                    <a:pt x="22453" y="-20139"/>
                  </a:lnTo>
                  <a:lnTo>
                    <a:pt x="22221" y="-19907"/>
                  </a:lnTo>
                  <a:lnTo>
                    <a:pt x="22105" y="-19792"/>
                  </a:lnTo>
                  <a:lnTo>
                    <a:pt x="22105" y="-19792"/>
                  </a:lnTo>
                  <a:lnTo>
                    <a:pt x="20601" y="-17939"/>
                  </a:lnTo>
                  <a:lnTo>
                    <a:pt x="20601" y="-17939"/>
                  </a:lnTo>
                  <a:lnTo>
                    <a:pt x="20485" y="-17475"/>
                  </a:lnTo>
                  <a:lnTo>
                    <a:pt x="20485" y="-17012"/>
                  </a:lnTo>
                  <a:lnTo>
                    <a:pt x="20369" y="-16433"/>
                  </a:lnTo>
                  <a:lnTo>
                    <a:pt x="20254" y="-15970"/>
                  </a:lnTo>
                  <a:lnTo>
                    <a:pt x="20254" y="-15507"/>
                  </a:lnTo>
                  <a:lnTo>
                    <a:pt x="20254" y="-15043"/>
                  </a:lnTo>
                  <a:lnTo>
                    <a:pt x="20254" y="-14580"/>
                  </a:lnTo>
                  <a:lnTo>
                    <a:pt x="20369" y="-14117"/>
                  </a:lnTo>
                  <a:lnTo>
                    <a:pt x="20369" y="-14117"/>
                  </a:lnTo>
                  <a:lnTo>
                    <a:pt x="20485" y="-14117"/>
                  </a:lnTo>
                  <a:lnTo>
                    <a:pt x="20601" y="-14117"/>
                  </a:lnTo>
                  <a:lnTo>
                    <a:pt x="20832" y="-14001"/>
                  </a:lnTo>
                  <a:lnTo>
                    <a:pt x="20832" y="-13885"/>
                  </a:lnTo>
                  <a:lnTo>
                    <a:pt x="20948" y="-13769"/>
                  </a:lnTo>
                  <a:lnTo>
                    <a:pt x="21064" y="-13654"/>
                  </a:lnTo>
                  <a:lnTo>
                    <a:pt x="21179" y="-13538"/>
                  </a:lnTo>
                  <a:lnTo>
                    <a:pt x="21411" y="-13538"/>
                  </a:lnTo>
                  <a:lnTo>
                    <a:pt x="21411" y="-13538"/>
                  </a:lnTo>
                  <a:lnTo>
                    <a:pt x="23031" y="-13422"/>
                  </a:lnTo>
                  <a:lnTo>
                    <a:pt x="23031" y="-13422"/>
                  </a:lnTo>
                  <a:lnTo>
                    <a:pt x="23031" y="-13306"/>
                  </a:lnTo>
                  <a:lnTo>
                    <a:pt x="23147" y="-13190"/>
                  </a:lnTo>
                  <a:lnTo>
                    <a:pt x="23263" y="-13075"/>
                  </a:lnTo>
                  <a:lnTo>
                    <a:pt x="23378" y="-12959"/>
                  </a:lnTo>
                  <a:lnTo>
                    <a:pt x="23494" y="-12843"/>
                  </a:lnTo>
                  <a:lnTo>
                    <a:pt x="23610" y="-12611"/>
                  </a:lnTo>
                  <a:lnTo>
                    <a:pt x="23610" y="-12496"/>
                  </a:lnTo>
                  <a:lnTo>
                    <a:pt x="23726" y="-12264"/>
                  </a:lnTo>
                  <a:lnTo>
                    <a:pt x="23726" y="-12264"/>
                  </a:lnTo>
                  <a:lnTo>
                    <a:pt x="23726" y="-12032"/>
                  </a:lnTo>
                  <a:lnTo>
                    <a:pt x="23610" y="-11801"/>
                  </a:lnTo>
                  <a:lnTo>
                    <a:pt x="23494" y="-11569"/>
                  </a:lnTo>
                  <a:lnTo>
                    <a:pt x="23378" y="-11453"/>
                  </a:lnTo>
                  <a:lnTo>
                    <a:pt x="23147" y="-11222"/>
                  </a:lnTo>
                  <a:lnTo>
                    <a:pt x="22915" y="-11106"/>
                  </a:lnTo>
                  <a:lnTo>
                    <a:pt x="22684" y="-10990"/>
                  </a:lnTo>
                  <a:lnTo>
                    <a:pt x="22453" y="-10874"/>
                  </a:lnTo>
                  <a:lnTo>
                    <a:pt x="22453" y="-10874"/>
                  </a:lnTo>
                  <a:lnTo>
                    <a:pt x="21758" y="-10643"/>
                  </a:lnTo>
                  <a:lnTo>
                    <a:pt x="21179" y="-10643"/>
                  </a:lnTo>
                  <a:lnTo>
                    <a:pt x="20485" y="-10643"/>
                  </a:lnTo>
                  <a:lnTo>
                    <a:pt x="19791" y="-10758"/>
                  </a:lnTo>
                  <a:lnTo>
                    <a:pt x="19096" y="-10990"/>
                  </a:lnTo>
                  <a:lnTo>
                    <a:pt x="18518" y="-11222"/>
                  </a:lnTo>
                  <a:lnTo>
                    <a:pt x="17939" y="-11569"/>
                  </a:lnTo>
                  <a:lnTo>
                    <a:pt x="17360" y="-11917"/>
                  </a:lnTo>
                  <a:lnTo>
                    <a:pt x="17360" y="-11917"/>
                  </a:lnTo>
                  <a:lnTo>
                    <a:pt x="17013" y="-12496"/>
                  </a:lnTo>
                  <a:lnTo>
                    <a:pt x="16782" y="-13190"/>
                  </a:lnTo>
                  <a:lnTo>
                    <a:pt x="16550" y="-13769"/>
                  </a:lnTo>
                  <a:lnTo>
                    <a:pt x="16319" y="-14464"/>
                  </a:lnTo>
                  <a:lnTo>
                    <a:pt x="15972" y="-15043"/>
                  </a:lnTo>
                  <a:lnTo>
                    <a:pt x="15509" y="-15622"/>
                  </a:lnTo>
                  <a:lnTo>
                    <a:pt x="15046" y="-16086"/>
                  </a:lnTo>
                  <a:lnTo>
                    <a:pt x="14351" y="-16317"/>
                  </a:lnTo>
                  <a:lnTo>
                    <a:pt x="14351" y="-16317"/>
                  </a:lnTo>
                  <a:lnTo>
                    <a:pt x="14236" y="-16433"/>
                  </a:lnTo>
                  <a:lnTo>
                    <a:pt x="14120" y="-16549"/>
                  </a:lnTo>
                  <a:lnTo>
                    <a:pt x="14120" y="-16781"/>
                  </a:lnTo>
                  <a:lnTo>
                    <a:pt x="14004" y="-16896"/>
                  </a:lnTo>
                  <a:lnTo>
                    <a:pt x="14004" y="-17128"/>
                  </a:lnTo>
                  <a:lnTo>
                    <a:pt x="14004" y="-17244"/>
                  </a:lnTo>
                  <a:lnTo>
                    <a:pt x="14120" y="-17360"/>
                  </a:lnTo>
                  <a:lnTo>
                    <a:pt x="14120" y="-17591"/>
                  </a:lnTo>
                  <a:lnTo>
                    <a:pt x="14120" y="-17591"/>
                  </a:lnTo>
                  <a:lnTo>
                    <a:pt x="14467" y="-17939"/>
                  </a:lnTo>
                  <a:lnTo>
                    <a:pt x="14930" y="-18286"/>
                  </a:lnTo>
                  <a:lnTo>
                    <a:pt x="15393" y="-18402"/>
                  </a:lnTo>
                  <a:lnTo>
                    <a:pt x="15972" y="-18633"/>
                  </a:lnTo>
                  <a:lnTo>
                    <a:pt x="16434" y="-18749"/>
                  </a:lnTo>
                  <a:lnTo>
                    <a:pt x="17013" y="-18865"/>
                  </a:lnTo>
                  <a:lnTo>
                    <a:pt x="17476" y="-19097"/>
                  </a:lnTo>
                  <a:lnTo>
                    <a:pt x="17939" y="-19444"/>
                  </a:lnTo>
                  <a:lnTo>
                    <a:pt x="17939" y="-19444"/>
                  </a:lnTo>
                  <a:lnTo>
                    <a:pt x="18286" y="-19792"/>
                  </a:lnTo>
                  <a:lnTo>
                    <a:pt x="18633" y="-20023"/>
                  </a:lnTo>
                  <a:lnTo>
                    <a:pt x="18981" y="-20255"/>
                  </a:lnTo>
                  <a:lnTo>
                    <a:pt x="19328" y="-20602"/>
                  </a:lnTo>
                  <a:lnTo>
                    <a:pt x="19559" y="-20950"/>
                  </a:lnTo>
                  <a:lnTo>
                    <a:pt x="19791" y="-21297"/>
                  </a:lnTo>
                  <a:lnTo>
                    <a:pt x="20022" y="-21645"/>
                  </a:lnTo>
                  <a:lnTo>
                    <a:pt x="20369" y="-21992"/>
                  </a:lnTo>
                  <a:lnTo>
                    <a:pt x="20369" y="-21992"/>
                  </a:lnTo>
                  <a:lnTo>
                    <a:pt x="20138" y="-22108"/>
                  </a:lnTo>
                  <a:lnTo>
                    <a:pt x="20022" y="-22339"/>
                  </a:lnTo>
                  <a:lnTo>
                    <a:pt x="19906" y="-22571"/>
                  </a:lnTo>
                  <a:lnTo>
                    <a:pt x="19906" y="-22803"/>
                  </a:lnTo>
                  <a:lnTo>
                    <a:pt x="19791" y="-23034"/>
                  </a:lnTo>
                  <a:lnTo>
                    <a:pt x="19675" y="-23266"/>
                  </a:lnTo>
                  <a:lnTo>
                    <a:pt x="19559" y="-23382"/>
                  </a:lnTo>
                  <a:lnTo>
                    <a:pt x="19443" y="-23613"/>
                  </a:lnTo>
                  <a:lnTo>
                    <a:pt x="19443" y="-23613"/>
                  </a:lnTo>
                  <a:lnTo>
                    <a:pt x="18633" y="-23266"/>
                  </a:lnTo>
                  <a:lnTo>
                    <a:pt x="17823" y="-22918"/>
                  </a:lnTo>
                  <a:lnTo>
                    <a:pt x="17129" y="-22571"/>
                  </a:lnTo>
                  <a:lnTo>
                    <a:pt x="16319" y="-22224"/>
                  </a:lnTo>
                  <a:lnTo>
                    <a:pt x="15624" y="-21876"/>
                  </a:lnTo>
                  <a:lnTo>
                    <a:pt x="14814" y="-21529"/>
                  </a:lnTo>
                  <a:lnTo>
                    <a:pt x="14120" y="-21297"/>
                  </a:lnTo>
                  <a:lnTo>
                    <a:pt x="13194" y="-21181"/>
                  </a:lnTo>
                  <a:lnTo>
                    <a:pt x="13194" y="-21181"/>
                  </a:lnTo>
                  <a:lnTo>
                    <a:pt x="13194" y="-21297"/>
                  </a:lnTo>
                  <a:lnTo>
                    <a:pt x="13194" y="-21413"/>
                  </a:lnTo>
                  <a:lnTo>
                    <a:pt x="13078" y="-21645"/>
                  </a:lnTo>
                  <a:lnTo>
                    <a:pt x="13078" y="-21760"/>
                  </a:lnTo>
                  <a:lnTo>
                    <a:pt x="13078" y="-21876"/>
                  </a:lnTo>
                  <a:lnTo>
                    <a:pt x="13078" y="-22108"/>
                  </a:lnTo>
                  <a:lnTo>
                    <a:pt x="13078" y="-22224"/>
                  </a:lnTo>
                  <a:lnTo>
                    <a:pt x="12962" y="-22339"/>
                  </a:lnTo>
                  <a:lnTo>
                    <a:pt x="12962" y="-22339"/>
                  </a:lnTo>
                  <a:lnTo>
                    <a:pt x="12847" y="-22224"/>
                  </a:lnTo>
                  <a:lnTo>
                    <a:pt x="12731" y="-22224"/>
                  </a:lnTo>
                  <a:lnTo>
                    <a:pt x="12615" y="-22108"/>
                  </a:lnTo>
                  <a:lnTo>
                    <a:pt x="12500" y="-22108"/>
                  </a:lnTo>
                  <a:lnTo>
                    <a:pt x="12384" y="-22108"/>
                  </a:lnTo>
                  <a:lnTo>
                    <a:pt x="12268" y="-21992"/>
                  </a:lnTo>
                  <a:lnTo>
                    <a:pt x="12152" y="-22108"/>
                  </a:lnTo>
                  <a:lnTo>
                    <a:pt x="12037" y="-22108"/>
                  </a:lnTo>
                  <a:lnTo>
                    <a:pt x="12037" y="-22108"/>
                  </a:lnTo>
                  <a:lnTo>
                    <a:pt x="12037" y="-22339"/>
                  </a:lnTo>
                  <a:lnTo>
                    <a:pt x="12037" y="-22339"/>
                  </a:lnTo>
                  <a:lnTo>
                    <a:pt x="12037" y="-22455"/>
                  </a:lnTo>
                  <a:lnTo>
                    <a:pt x="11921" y="-22455"/>
                  </a:lnTo>
                  <a:lnTo>
                    <a:pt x="11805" y="-22455"/>
                  </a:lnTo>
                  <a:lnTo>
                    <a:pt x="11689" y="-22455"/>
                  </a:lnTo>
                  <a:lnTo>
                    <a:pt x="11574" y="-22339"/>
                  </a:lnTo>
                  <a:lnTo>
                    <a:pt x="11574" y="-22339"/>
                  </a:lnTo>
                  <a:lnTo>
                    <a:pt x="11458" y="-22339"/>
                  </a:lnTo>
                  <a:lnTo>
                    <a:pt x="11342" y="-22339"/>
                  </a:lnTo>
                  <a:lnTo>
                    <a:pt x="11342" y="-22339"/>
                  </a:lnTo>
                  <a:lnTo>
                    <a:pt x="11342" y="-22455"/>
                  </a:lnTo>
                  <a:lnTo>
                    <a:pt x="11342" y="-22571"/>
                  </a:lnTo>
                  <a:lnTo>
                    <a:pt x="11342" y="-22687"/>
                  </a:lnTo>
                  <a:lnTo>
                    <a:pt x="11342" y="-22803"/>
                  </a:lnTo>
                  <a:lnTo>
                    <a:pt x="11342" y="-22918"/>
                  </a:lnTo>
                  <a:lnTo>
                    <a:pt x="11342" y="-23034"/>
                  </a:lnTo>
                  <a:lnTo>
                    <a:pt x="11342" y="-23150"/>
                  </a:lnTo>
                  <a:lnTo>
                    <a:pt x="11342" y="-23150"/>
                  </a:lnTo>
                  <a:lnTo>
                    <a:pt x="11342" y="-23150"/>
                  </a:lnTo>
                  <a:lnTo>
                    <a:pt x="11226" y="-23150"/>
                  </a:lnTo>
                  <a:lnTo>
                    <a:pt x="11111" y="-23034"/>
                  </a:lnTo>
                  <a:lnTo>
                    <a:pt x="10995" y="-23034"/>
                  </a:lnTo>
                  <a:lnTo>
                    <a:pt x="10879" y="-22918"/>
                  </a:lnTo>
                  <a:lnTo>
                    <a:pt x="10648" y="-22918"/>
                  </a:lnTo>
                  <a:lnTo>
                    <a:pt x="10532" y="-22918"/>
                  </a:lnTo>
                  <a:lnTo>
                    <a:pt x="10416" y="-22918"/>
                  </a:lnTo>
                  <a:lnTo>
                    <a:pt x="10301" y="-22918"/>
                  </a:lnTo>
                  <a:lnTo>
                    <a:pt x="10301" y="-22918"/>
                  </a:lnTo>
                  <a:lnTo>
                    <a:pt x="10416" y="-24192"/>
                  </a:lnTo>
                  <a:lnTo>
                    <a:pt x="10648" y="-25350"/>
                  </a:lnTo>
                  <a:lnTo>
                    <a:pt x="10764" y="-26509"/>
                  </a:lnTo>
                  <a:lnTo>
                    <a:pt x="10879" y="-27782"/>
                  </a:lnTo>
                  <a:lnTo>
                    <a:pt x="10995" y="-28941"/>
                  </a:lnTo>
                  <a:lnTo>
                    <a:pt x="11226" y="-30099"/>
                  </a:lnTo>
                  <a:lnTo>
                    <a:pt x="11342" y="-31257"/>
                  </a:lnTo>
                  <a:lnTo>
                    <a:pt x="11574" y="-32415"/>
                  </a:lnTo>
                  <a:lnTo>
                    <a:pt x="11574" y="-32415"/>
                  </a:lnTo>
                  <a:lnTo>
                    <a:pt x="11458" y="-32531"/>
                  </a:lnTo>
                  <a:lnTo>
                    <a:pt x="11342" y="-32646"/>
                  </a:lnTo>
                  <a:lnTo>
                    <a:pt x="11111" y="-32762"/>
                  </a:lnTo>
                  <a:lnTo>
                    <a:pt x="10995" y="32658"/>
                  </a:lnTo>
                  <a:lnTo>
                    <a:pt x="10879" y="32542"/>
                  </a:lnTo>
                  <a:lnTo>
                    <a:pt x="10648" y="32426"/>
                  </a:lnTo>
                  <a:lnTo>
                    <a:pt x="10532" y="32311"/>
                  </a:lnTo>
                  <a:lnTo>
                    <a:pt x="10532" y="32195"/>
                  </a:lnTo>
                  <a:lnTo>
                    <a:pt x="10532" y="32195"/>
                  </a:lnTo>
                  <a:lnTo>
                    <a:pt x="10532" y="32542"/>
                  </a:lnTo>
                  <a:lnTo>
                    <a:pt x="10532" y="-32762"/>
                  </a:lnTo>
                  <a:lnTo>
                    <a:pt x="10648" y="-32415"/>
                  </a:lnTo>
                  <a:lnTo>
                    <a:pt x="10764" y="-32067"/>
                  </a:lnTo>
                  <a:lnTo>
                    <a:pt x="10879" y="-31720"/>
                  </a:lnTo>
                  <a:lnTo>
                    <a:pt x="10879" y="-31488"/>
                  </a:lnTo>
                  <a:lnTo>
                    <a:pt x="10879" y="-31141"/>
                  </a:lnTo>
                  <a:lnTo>
                    <a:pt x="10879" y="-30793"/>
                  </a:lnTo>
                  <a:lnTo>
                    <a:pt x="10879" y="-30793"/>
                  </a:lnTo>
                  <a:lnTo>
                    <a:pt x="10764" y="-30678"/>
                  </a:lnTo>
                  <a:lnTo>
                    <a:pt x="10648" y="-30562"/>
                  </a:lnTo>
                  <a:lnTo>
                    <a:pt x="10532" y="-30562"/>
                  </a:lnTo>
                  <a:lnTo>
                    <a:pt x="10301" y="-30446"/>
                  </a:lnTo>
                  <a:lnTo>
                    <a:pt x="10185" y="-30446"/>
                  </a:lnTo>
                  <a:lnTo>
                    <a:pt x="9953" y="-30562"/>
                  </a:lnTo>
                  <a:lnTo>
                    <a:pt x="9838" y="-30562"/>
                  </a:lnTo>
                  <a:lnTo>
                    <a:pt x="9722" y="-30678"/>
                  </a:lnTo>
                  <a:lnTo>
                    <a:pt x="9722" y="-30678"/>
                  </a:lnTo>
                  <a:lnTo>
                    <a:pt x="9491" y="-30678"/>
                  </a:lnTo>
                  <a:lnTo>
                    <a:pt x="9259" y="-30909"/>
                  </a:lnTo>
                  <a:lnTo>
                    <a:pt x="9143" y="-31025"/>
                  </a:lnTo>
                  <a:lnTo>
                    <a:pt x="9028" y="-31257"/>
                  </a:lnTo>
                  <a:lnTo>
                    <a:pt x="8912" y="-31488"/>
                  </a:lnTo>
                  <a:lnTo>
                    <a:pt x="8796" y="-31604"/>
                  </a:lnTo>
                  <a:lnTo>
                    <a:pt x="8680" y="-31836"/>
                  </a:lnTo>
                  <a:lnTo>
                    <a:pt x="8565" y="-32067"/>
                  </a:lnTo>
                  <a:lnTo>
                    <a:pt x="8565" y="-32067"/>
                  </a:lnTo>
                  <a:lnTo>
                    <a:pt x="7870" y="-31836"/>
                  </a:lnTo>
                  <a:lnTo>
                    <a:pt x="7292" y="-31604"/>
                  </a:lnTo>
                  <a:lnTo>
                    <a:pt x="6597" y="-31373"/>
                  </a:lnTo>
                  <a:lnTo>
                    <a:pt x="6019" y="-31025"/>
                  </a:lnTo>
                  <a:lnTo>
                    <a:pt x="5440" y="-30793"/>
                  </a:lnTo>
                  <a:lnTo>
                    <a:pt x="4861" y="-30562"/>
                  </a:lnTo>
                  <a:lnTo>
                    <a:pt x="4167" y="-30330"/>
                  </a:lnTo>
                  <a:lnTo>
                    <a:pt x="3588" y="-30099"/>
                  </a:lnTo>
                  <a:lnTo>
                    <a:pt x="3588" y="-30099"/>
                  </a:lnTo>
                  <a:lnTo>
                    <a:pt x="3241" y="-30099"/>
                  </a:lnTo>
                  <a:lnTo>
                    <a:pt x="2894" y="-30099"/>
                  </a:lnTo>
                  <a:lnTo>
                    <a:pt x="2547" y="-30099"/>
                  </a:lnTo>
                  <a:lnTo>
                    <a:pt x="2199" y="-30330"/>
                  </a:lnTo>
                  <a:lnTo>
                    <a:pt x="1852" y="-30446"/>
                  </a:lnTo>
                  <a:lnTo>
                    <a:pt x="1505" y="-30678"/>
                  </a:lnTo>
                  <a:lnTo>
                    <a:pt x="1274" y="-30909"/>
                  </a:lnTo>
                  <a:lnTo>
                    <a:pt x="926" y="-31141"/>
                  </a:lnTo>
                  <a:lnTo>
                    <a:pt x="926" y="-31141"/>
                  </a:lnTo>
                  <a:lnTo>
                    <a:pt x="579" y="-31720"/>
                  </a:lnTo>
                  <a:lnTo>
                    <a:pt x="232" y="-32415"/>
                  </a:lnTo>
                  <a:lnTo>
                    <a:pt x="116" y="32426"/>
                  </a:lnTo>
                  <a:lnTo>
                    <a:pt x="0" y="31731"/>
                  </a:lnTo>
                  <a:lnTo>
                    <a:pt x="0" y="31037"/>
                  </a:lnTo>
                  <a:lnTo>
                    <a:pt x="116" y="30342"/>
                  </a:lnTo>
                  <a:lnTo>
                    <a:pt x="348" y="29647"/>
                  </a:lnTo>
                  <a:lnTo>
                    <a:pt x="579" y="29068"/>
                  </a:lnTo>
                  <a:lnTo>
                    <a:pt x="579" y="29068"/>
                  </a:lnTo>
                  <a:lnTo>
                    <a:pt x="1158" y="28257"/>
                  </a:lnTo>
                  <a:lnTo>
                    <a:pt x="1968" y="27910"/>
                  </a:lnTo>
                  <a:lnTo>
                    <a:pt x="2894" y="27678"/>
                  </a:lnTo>
                  <a:lnTo>
                    <a:pt x="3820" y="27562"/>
                  </a:lnTo>
                  <a:lnTo>
                    <a:pt x="4745" y="27562"/>
                  </a:lnTo>
                  <a:lnTo>
                    <a:pt x="5671" y="27331"/>
                  </a:lnTo>
                  <a:lnTo>
                    <a:pt x="6597" y="27099"/>
                  </a:lnTo>
                  <a:lnTo>
                    <a:pt x="7407" y="26520"/>
                  </a:lnTo>
                  <a:lnTo>
                    <a:pt x="7407" y="26520"/>
                  </a:lnTo>
                  <a:lnTo>
                    <a:pt x="7407" y="26520"/>
                  </a:lnTo>
                  <a:lnTo>
                    <a:pt x="7523" y="26520"/>
                  </a:lnTo>
                  <a:lnTo>
                    <a:pt x="7523" y="26520"/>
                  </a:lnTo>
                  <a:lnTo>
                    <a:pt x="7639" y="26520"/>
                  </a:lnTo>
                  <a:lnTo>
                    <a:pt x="7639" y="26520"/>
                  </a:lnTo>
                  <a:lnTo>
                    <a:pt x="7755" y="26520"/>
                  </a:lnTo>
                  <a:lnTo>
                    <a:pt x="7755" y="26520"/>
                  </a:lnTo>
                  <a:lnTo>
                    <a:pt x="7870" y="26520"/>
                  </a:lnTo>
                  <a:lnTo>
                    <a:pt x="7870" y="26520"/>
                  </a:lnTo>
                  <a:lnTo>
                    <a:pt x="7292" y="25709"/>
                  </a:lnTo>
                  <a:lnTo>
                    <a:pt x="6713" y="25014"/>
                  </a:lnTo>
                  <a:lnTo>
                    <a:pt x="6250" y="24204"/>
                  </a:lnTo>
                  <a:lnTo>
                    <a:pt x="5787" y="23393"/>
                  </a:lnTo>
                  <a:lnTo>
                    <a:pt x="5440" y="22582"/>
                  </a:lnTo>
                  <a:lnTo>
                    <a:pt x="5208" y="21772"/>
                  </a:lnTo>
                  <a:lnTo>
                    <a:pt x="5208" y="20845"/>
                  </a:lnTo>
                  <a:lnTo>
                    <a:pt x="5324" y="19919"/>
                  </a:lnTo>
                  <a:lnTo>
                    <a:pt x="5324" y="19919"/>
                  </a:lnTo>
                  <a:lnTo>
                    <a:pt x="5440" y="19571"/>
                  </a:lnTo>
                  <a:lnTo>
                    <a:pt x="5671" y="19224"/>
                  </a:lnTo>
                  <a:lnTo>
                    <a:pt x="6019" y="19108"/>
                  </a:lnTo>
                  <a:lnTo>
                    <a:pt x="6366" y="18992"/>
                  </a:lnTo>
                  <a:lnTo>
                    <a:pt x="6713" y="18877"/>
                  </a:lnTo>
                  <a:lnTo>
                    <a:pt x="7060" y="18761"/>
                  </a:lnTo>
                  <a:lnTo>
                    <a:pt x="7523" y="18761"/>
                  </a:lnTo>
                  <a:lnTo>
                    <a:pt x="7870" y="18645"/>
                  </a:lnTo>
                  <a:lnTo>
                    <a:pt x="7870" y="18645"/>
                  </a:lnTo>
                  <a:lnTo>
                    <a:pt x="8565" y="18529"/>
                  </a:lnTo>
                  <a:lnTo>
                    <a:pt x="9259" y="18529"/>
                  </a:lnTo>
                  <a:lnTo>
                    <a:pt x="9953" y="18529"/>
                  </a:lnTo>
                  <a:lnTo>
                    <a:pt x="10648" y="18645"/>
                  </a:lnTo>
                  <a:lnTo>
                    <a:pt x="11342" y="18645"/>
                  </a:lnTo>
                  <a:lnTo>
                    <a:pt x="11921" y="18877"/>
                  </a:lnTo>
                  <a:lnTo>
                    <a:pt x="12615" y="18992"/>
                  </a:lnTo>
                  <a:lnTo>
                    <a:pt x="13310" y="19108"/>
                  </a:lnTo>
                  <a:lnTo>
                    <a:pt x="13310" y="19108"/>
                  </a:lnTo>
                  <a:lnTo>
                    <a:pt x="13425" y="18992"/>
                  </a:lnTo>
                  <a:lnTo>
                    <a:pt x="13425" y="18992"/>
                  </a:lnTo>
                  <a:lnTo>
                    <a:pt x="13773" y="17139"/>
                  </a:lnTo>
                  <a:lnTo>
                    <a:pt x="14004" y="15286"/>
                  </a:lnTo>
                  <a:lnTo>
                    <a:pt x="14351" y="13434"/>
                  </a:lnTo>
                  <a:lnTo>
                    <a:pt x="14814" y="11581"/>
                  </a:lnTo>
                  <a:lnTo>
                    <a:pt x="15161" y="9728"/>
                  </a:lnTo>
                  <a:lnTo>
                    <a:pt x="15509" y="7875"/>
                  </a:lnTo>
                  <a:lnTo>
                    <a:pt x="15856" y="6138"/>
                  </a:lnTo>
                  <a:lnTo>
                    <a:pt x="16203" y="4285"/>
                  </a:lnTo>
                  <a:lnTo>
                    <a:pt x="16203" y="4285"/>
                  </a:lnTo>
                  <a:lnTo>
                    <a:pt x="16319" y="4053"/>
                  </a:lnTo>
                  <a:lnTo>
                    <a:pt x="16319" y="3821"/>
                  </a:lnTo>
                  <a:lnTo>
                    <a:pt x="16203" y="3590"/>
                  </a:lnTo>
                  <a:lnTo>
                    <a:pt x="16203" y="3358"/>
                  </a:lnTo>
                  <a:lnTo>
                    <a:pt x="16319" y="3126"/>
                  </a:lnTo>
                  <a:lnTo>
                    <a:pt x="16434" y="3011"/>
                  </a:lnTo>
                  <a:lnTo>
                    <a:pt x="16550" y="2895"/>
                  </a:lnTo>
                  <a:lnTo>
                    <a:pt x="16897" y="2895"/>
                  </a:lnTo>
                  <a:lnTo>
                    <a:pt x="16897" y="2895"/>
                  </a:lnTo>
                  <a:lnTo>
                    <a:pt x="16782" y="2663"/>
                  </a:lnTo>
                  <a:lnTo>
                    <a:pt x="16782" y="2316"/>
                  </a:lnTo>
                  <a:lnTo>
                    <a:pt x="16782" y="1968"/>
                  </a:lnTo>
                  <a:lnTo>
                    <a:pt x="16782" y="1621"/>
                  </a:lnTo>
                  <a:lnTo>
                    <a:pt x="16897" y="1389"/>
                  </a:lnTo>
                  <a:lnTo>
                    <a:pt x="17013" y="1042"/>
                  </a:lnTo>
                  <a:lnTo>
                    <a:pt x="17129" y="810"/>
                  </a:lnTo>
                  <a:lnTo>
                    <a:pt x="17360" y="579"/>
                  </a:lnTo>
                  <a:lnTo>
                    <a:pt x="17360" y="579"/>
                  </a:lnTo>
                  <a:lnTo>
                    <a:pt x="17707" y="347"/>
                  </a:lnTo>
                  <a:lnTo>
                    <a:pt x="18055" y="115"/>
                  </a:lnTo>
                  <a:lnTo>
                    <a:pt x="18518" y="0"/>
                  </a:lnTo>
                  <a:lnTo>
                    <a:pt x="18981" y="0"/>
                  </a:lnTo>
                  <a:lnTo>
                    <a:pt x="19328" y="0"/>
                  </a:lnTo>
                  <a:lnTo>
                    <a:pt x="19791" y="115"/>
                  </a:lnTo>
                  <a:lnTo>
                    <a:pt x="20138" y="347"/>
                  </a:lnTo>
                  <a:lnTo>
                    <a:pt x="20369" y="694"/>
                  </a:lnTo>
                  <a:lnTo>
                    <a:pt x="20369" y="694"/>
                  </a:lnTo>
                  <a:lnTo>
                    <a:pt x="20369" y="694"/>
                  </a:lnTo>
                  <a:lnTo>
                    <a:pt x="20369" y="694"/>
                  </a:lnTo>
                  <a:lnTo>
                    <a:pt x="20369"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1463040" y="3466080"/>
              <a:ext cx="115560" cy="192600"/>
            </a:xfrm>
            <a:custGeom>
              <a:avLst/>
              <a:gdLst/>
              <a:ahLst/>
              <a:rect l="l" t="t" r="r" b="b"/>
              <a:pathLst>
                <a:path w="3240" h="3590">
                  <a:moveTo>
                    <a:pt x="3124" y="926"/>
                  </a:moveTo>
                  <a:lnTo>
                    <a:pt x="3124" y="1274"/>
                  </a:lnTo>
                  <a:lnTo>
                    <a:pt x="3240" y="1621"/>
                  </a:lnTo>
                  <a:lnTo>
                    <a:pt x="3240" y="1969"/>
                  </a:lnTo>
                  <a:lnTo>
                    <a:pt x="3240" y="2316"/>
                  </a:lnTo>
                  <a:lnTo>
                    <a:pt x="3240" y="2663"/>
                  </a:lnTo>
                  <a:lnTo>
                    <a:pt x="3124" y="2895"/>
                  </a:lnTo>
                  <a:lnTo>
                    <a:pt x="3009" y="3243"/>
                  </a:lnTo>
                  <a:lnTo>
                    <a:pt x="2893" y="3590"/>
                  </a:lnTo>
                  <a:lnTo>
                    <a:pt x="2893" y="3590"/>
                  </a:lnTo>
                  <a:lnTo>
                    <a:pt x="2546" y="3590"/>
                  </a:lnTo>
                  <a:lnTo>
                    <a:pt x="2546" y="3243"/>
                  </a:lnTo>
                  <a:lnTo>
                    <a:pt x="2661" y="3243"/>
                  </a:lnTo>
                  <a:lnTo>
                    <a:pt x="2661" y="3243"/>
                  </a:lnTo>
                  <a:lnTo>
                    <a:pt x="2661" y="3011"/>
                  </a:lnTo>
                  <a:lnTo>
                    <a:pt x="2777" y="2663"/>
                  </a:lnTo>
                  <a:lnTo>
                    <a:pt x="2893" y="2432"/>
                  </a:lnTo>
                  <a:lnTo>
                    <a:pt x="2893" y="2084"/>
                  </a:lnTo>
                  <a:lnTo>
                    <a:pt x="3009" y="1737"/>
                  </a:lnTo>
                  <a:lnTo>
                    <a:pt x="2893" y="1505"/>
                  </a:lnTo>
                  <a:lnTo>
                    <a:pt x="2893" y="1158"/>
                  </a:lnTo>
                  <a:lnTo>
                    <a:pt x="2777" y="926"/>
                  </a:lnTo>
                  <a:lnTo>
                    <a:pt x="2777" y="926"/>
                  </a:lnTo>
                  <a:lnTo>
                    <a:pt x="2661" y="811"/>
                  </a:lnTo>
                  <a:lnTo>
                    <a:pt x="2546" y="695"/>
                  </a:lnTo>
                  <a:lnTo>
                    <a:pt x="2430" y="579"/>
                  </a:lnTo>
                  <a:lnTo>
                    <a:pt x="2198" y="463"/>
                  </a:lnTo>
                  <a:lnTo>
                    <a:pt x="2083" y="347"/>
                  </a:lnTo>
                  <a:lnTo>
                    <a:pt x="1967" y="231"/>
                  </a:lnTo>
                  <a:lnTo>
                    <a:pt x="1851" y="231"/>
                  </a:lnTo>
                  <a:lnTo>
                    <a:pt x="1736" y="231"/>
                  </a:lnTo>
                  <a:lnTo>
                    <a:pt x="1736" y="231"/>
                  </a:lnTo>
                  <a:lnTo>
                    <a:pt x="1504" y="231"/>
                  </a:lnTo>
                  <a:lnTo>
                    <a:pt x="1273" y="347"/>
                  </a:lnTo>
                  <a:lnTo>
                    <a:pt x="1041" y="347"/>
                  </a:lnTo>
                  <a:lnTo>
                    <a:pt x="925" y="463"/>
                  </a:lnTo>
                  <a:lnTo>
                    <a:pt x="694" y="695"/>
                  </a:lnTo>
                  <a:lnTo>
                    <a:pt x="578" y="811"/>
                  </a:lnTo>
                  <a:lnTo>
                    <a:pt x="462" y="926"/>
                  </a:lnTo>
                  <a:lnTo>
                    <a:pt x="347" y="1158"/>
                  </a:lnTo>
                  <a:lnTo>
                    <a:pt x="347" y="1158"/>
                  </a:lnTo>
                  <a:lnTo>
                    <a:pt x="347" y="2432"/>
                  </a:lnTo>
                  <a:lnTo>
                    <a:pt x="347" y="2432"/>
                  </a:lnTo>
                  <a:lnTo>
                    <a:pt x="115" y="2316"/>
                  </a:lnTo>
                  <a:lnTo>
                    <a:pt x="115" y="2200"/>
                  </a:lnTo>
                  <a:lnTo>
                    <a:pt x="0" y="1969"/>
                  </a:lnTo>
                  <a:lnTo>
                    <a:pt x="0" y="1737"/>
                  </a:lnTo>
                  <a:lnTo>
                    <a:pt x="0" y="1505"/>
                  </a:lnTo>
                  <a:lnTo>
                    <a:pt x="0" y="1390"/>
                  </a:lnTo>
                  <a:lnTo>
                    <a:pt x="0" y="1158"/>
                  </a:lnTo>
                  <a:lnTo>
                    <a:pt x="115" y="926"/>
                  </a:lnTo>
                  <a:lnTo>
                    <a:pt x="115" y="926"/>
                  </a:lnTo>
                  <a:lnTo>
                    <a:pt x="347" y="579"/>
                  </a:lnTo>
                  <a:lnTo>
                    <a:pt x="694" y="231"/>
                  </a:lnTo>
                  <a:lnTo>
                    <a:pt x="1041" y="116"/>
                  </a:lnTo>
                  <a:lnTo>
                    <a:pt x="1504" y="0"/>
                  </a:lnTo>
                  <a:lnTo>
                    <a:pt x="2083" y="0"/>
                  </a:lnTo>
                  <a:lnTo>
                    <a:pt x="2430" y="231"/>
                  </a:lnTo>
                  <a:lnTo>
                    <a:pt x="2777" y="463"/>
                  </a:lnTo>
                  <a:lnTo>
                    <a:pt x="3124" y="926"/>
                  </a:lnTo>
                  <a:lnTo>
                    <a:pt x="3124" y="926"/>
                  </a:lnTo>
                  <a:lnTo>
                    <a:pt x="3124" y="926"/>
                  </a:lnTo>
                  <a:lnTo>
                    <a:pt x="3124" y="926"/>
                  </a:lnTo>
                  <a:lnTo>
                    <a:pt x="3124"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1587240" y="3478680"/>
              <a:ext cx="65880" cy="211320"/>
            </a:xfrm>
            <a:custGeom>
              <a:avLst/>
              <a:gdLst/>
              <a:ahLst/>
              <a:rect l="l" t="t" r="r" b="b"/>
              <a:pathLst>
                <a:path w="1851" h="3938">
                  <a:moveTo>
                    <a:pt x="1851" y="1853"/>
                  </a:moveTo>
                  <a:lnTo>
                    <a:pt x="1851" y="1969"/>
                  </a:lnTo>
                  <a:lnTo>
                    <a:pt x="1851" y="2201"/>
                  </a:lnTo>
                  <a:lnTo>
                    <a:pt x="1851" y="2317"/>
                  </a:lnTo>
                  <a:lnTo>
                    <a:pt x="1736" y="2432"/>
                  </a:lnTo>
                  <a:lnTo>
                    <a:pt x="1736" y="2548"/>
                  </a:lnTo>
                  <a:lnTo>
                    <a:pt x="1736" y="2664"/>
                  </a:lnTo>
                  <a:lnTo>
                    <a:pt x="1736" y="2896"/>
                  </a:lnTo>
                  <a:lnTo>
                    <a:pt x="1736" y="3012"/>
                  </a:lnTo>
                  <a:lnTo>
                    <a:pt x="1736" y="3012"/>
                  </a:lnTo>
                  <a:lnTo>
                    <a:pt x="1620" y="3127"/>
                  </a:lnTo>
                  <a:lnTo>
                    <a:pt x="1620" y="3243"/>
                  </a:lnTo>
                  <a:lnTo>
                    <a:pt x="1504" y="3359"/>
                  </a:lnTo>
                  <a:lnTo>
                    <a:pt x="1388" y="3475"/>
                  </a:lnTo>
                  <a:lnTo>
                    <a:pt x="1273" y="3591"/>
                  </a:lnTo>
                  <a:lnTo>
                    <a:pt x="1157" y="3706"/>
                  </a:lnTo>
                  <a:lnTo>
                    <a:pt x="1041" y="3822"/>
                  </a:lnTo>
                  <a:lnTo>
                    <a:pt x="925" y="3938"/>
                  </a:lnTo>
                  <a:lnTo>
                    <a:pt x="925" y="3938"/>
                  </a:lnTo>
                  <a:lnTo>
                    <a:pt x="810" y="3938"/>
                  </a:lnTo>
                  <a:lnTo>
                    <a:pt x="810" y="3938"/>
                  </a:lnTo>
                  <a:lnTo>
                    <a:pt x="694" y="3938"/>
                  </a:lnTo>
                  <a:lnTo>
                    <a:pt x="694" y="3822"/>
                  </a:lnTo>
                  <a:lnTo>
                    <a:pt x="694" y="3822"/>
                  </a:lnTo>
                  <a:lnTo>
                    <a:pt x="694" y="3706"/>
                  </a:lnTo>
                  <a:lnTo>
                    <a:pt x="694" y="3706"/>
                  </a:lnTo>
                  <a:lnTo>
                    <a:pt x="694" y="3591"/>
                  </a:lnTo>
                  <a:lnTo>
                    <a:pt x="694" y="3591"/>
                  </a:lnTo>
                  <a:lnTo>
                    <a:pt x="925" y="3243"/>
                  </a:lnTo>
                  <a:lnTo>
                    <a:pt x="1157" y="3012"/>
                  </a:lnTo>
                  <a:lnTo>
                    <a:pt x="1273" y="2664"/>
                  </a:lnTo>
                  <a:lnTo>
                    <a:pt x="1273" y="2317"/>
                  </a:lnTo>
                  <a:lnTo>
                    <a:pt x="1273" y="1969"/>
                  </a:lnTo>
                  <a:lnTo>
                    <a:pt x="1157" y="1622"/>
                  </a:lnTo>
                  <a:lnTo>
                    <a:pt x="1041" y="1274"/>
                  </a:lnTo>
                  <a:lnTo>
                    <a:pt x="1041" y="811"/>
                  </a:lnTo>
                  <a:lnTo>
                    <a:pt x="1041" y="811"/>
                  </a:lnTo>
                  <a:lnTo>
                    <a:pt x="925" y="811"/>
                  </a:lnTo>
                  <a:lnTo>
                    <a:pt x="810" y="695"/>
                  </a:lnTo>
                  <a:lnTo>
                    <a:pt x="694" y="580"/>
                  </a:lnTo>
                  <a:lnTo>
                    <a:pt x="578" y="464"/>
                  </a:lnTo>
                  <a:lnTo>
                    <a:pt x="462" y="464"/>
                  </a:lnTo>
                  <a:lnTo>
                    <a:pt x="347" y="464"/>
                  </a:lnTo>
                  <a:lnTo>
                    <a:pt x="231" y="464"/>
                  </a:lnTo>
                  <a:lnTo>
                    <a:pt x="115" y="464"/>
                  </a:lnTo>
                  <a:lnTo>
                    <a:pt x="115" y="464"/>
                  </a:lnTo>
                  <a:lnTo>
                    <a:pt x="0" y="116"/>
                  </a:lnTo>
                  <a:lnTo>
                    <a:pt x="0" y="116"/>
                  </a:lnTo>
                  <a:lnTo>
                    <a:pt x="115" y="116"/>
                  </a:lnTo>
                  <a:lnTo>
                    <a:pt x="231" y="0"/>
                  </a:lnTo>
                  <a:lnTo>
                    <a:pt x="347" y="0"/>
                  </a:lnTo>
                  <a:lnTo>
                    <a:pt x="462" y="0"/>
                  </a:lnTo>
                  <a:lnTo>
                    <a:pt x="694" y="116"/>
                  </a:lnTo>
                  <a:lnTo>
                    <a:pt x="810" y="116"/>
                  </a:lnTo>
                  <a:lnTo>
                    <a:pt x="925" y="232"/>
                  </a:lnTo>
                  <a:lnTo>
                    <a:pt x="1041" y="232"/>
                  </a:lnTo>
                  <a:lnTo>
                    <a:pt x="1041" y="232"/>
                  </a:lnTo>
                  <a:lnTo>
                    <a:pt x="1273" y="464"/>
                  </a:lnTo>
                  <a:lnTo>
                    <a:pt x="1388" y="580"/>
                  </a:lnTo>
                  <a:lnTo>
                    <a:pt x="1504" y="811"/>
                  </a:lnTo>
                  <a:lnTo>
                    <a:pt x="1620" y="1043"/>
                  </a:lnTo>
                  <a:lnTo>
                    <a:pt x="1620" y="1159"/>
                  </a:lnTo>
                  <a:lnTo>
                    <a:pt x="1736" y="1390"/>
                  </a:lnTo>
                  <a:lnTo>
                    <a:pt x="1736" y="1622"/>
                  </a:lnTo>
                  <a:lnTo>
                    <a:pt x="1851" y="1853"/>
                  </a:lnTo>
                  <a:lnTo>
                    <a:pt x="1851" y="1853"/>
                  </a:lnTo>
                  <a:lnTo>
                    <a:pt x="1851" y="1853"/>
                  </a:lnTo>
                  <a:lnTo>
                    <a:pt x="1851" y="1853"/>
                  </a:lnTo>
                  <a:lnTo>
                    <a:pt x="1851" y="18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1487880" y="3503520"/>
              <a:ext cx="49320" cy="99360"/>
            </a:xfrm>
            <a:custGeom>
              <a:avLst/>
              <a:gdLst/>
              <a:ahLst/>
              <a:rect l="l" t="t" r="r" b="b"/>
              <a:pathLst>
                <a:path w="1389" h="1853">
                  <a:moveTo>
                    <a:pt x="1389" y="347"/>
                  </a:moveTo>
                  <a:lnTo>
                    <a:pt x="1157" y="579"/>
                  </a:lnTo>
                  <a:lnTo>
                    <a:pt x="1042" y="810"/>
                  </a:lnTo>
                  <a:lnTo>
                    <a:pt x="926" y="1042"/>
                  </a:lnTo>
                  <a:lnTo>
                    <a:pt x="810" y="1389"/>
                  </a:lnTo>
                  <a:lnTo>
                    <a:pt x="810" y="1621"/>
                  </a:lnTo>
                  <a:lnTo>
                    <a:pt x="694" y="1853"/>
                  </a:lnTo>
                  <a:lnTo>
                    <a:pt x="463" y="1853"/>
                  </a:lnTo>
                  <a:lnTo>
                    <a:pt x="116" y="1737"/>
                  </a:lnTo>
                  <a:lnTo>
                    <a:pt x="116" y="1737"/>
                  </a:lnTo>
                  <a:lnTo>
                    <a:pt x="0" y="1505"/>
                  </a:lnTo>
                  <a:lnTo>
                    <a:pt x="0" y="1274"/>
                  </a:lnTo>
                  <a:lnTo>
                    <a:pt x="0" y="1042"/>
                  </a:lnTo>
                  <a:lnTo>
                    <a:pt x="116" y="810"/>
                  </a:lnTo>
                  <a:lnTo>
                    <a:pt x="116" y="579"/>
                  </a:lnTo>
                  <a:lnTo>
                    <a:pt x="231" y="347"/>
                  </a:lnTo>
                  <a:lnTo>
                    <a:pt x="463" y="231"/>
                  </a:lnTo>
                  <a:lnTo>
                    <a:pt x="694" y="116"/>
                  </a:lnTo>
                  <a:lnTo>
                    <a:pt x="694" y="116"/>
                  </a:lnTo>
                  <a:lnTo>
                    <a:pt x="810" y="0"/>
                  </a:lnTo>
                  <a:lnTo>
                    <a:pt x="926" y="0"/>
                  </a:lnTo>
                  <a:lnTo>
                    <a:pt x="1042" y="0"/>
                  </a:lnTo>
                  <a:lnTo>
                    <a:pt x="1157" y="116"/>
                  </a:lnTo>
                  <a:lnTo>
                    <a:pt x="1157" y="116"/>
                  </a:lnTo>
                  <a:lnTo>
                    <a:pt x="1273" y="116"/>
                  </a:lnTo>
                  <a:lnTo>
                    <a:pt x="1389" y="231"/>
                  </a:lnTo>
                  <a:lnTo>
                    <a:pt x="1389" y="347"/>
                  </a:lnTo>
                  <a:lnTo>
                    <a:pt x="1389" y="347"/>
                  </a:lnTo>
                  <a:lnTo>
                    <a:pt x="1389" y="347"/>
                  </a:lnTo>
                  <a:lnTo>
                    <a:pt x="1389" y="347"/>
                  </a:lnTo>
                  <a:lnTo>
                    <a:pt x="1389"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661760" y="3522240"/>
              <a:ext cx="65880" cy="192600"/>
            </a:xfrm>
            <a:custGeom>
              <a:avLst/>
              <a:gdLst/>
              <a:ahLst/>
              <a:rect l="l" t="t" r="r" b="b"/>
              <a:pathLst>
                <a:path w="1851" h="3590">
                  <a:moveTo>
                    <a:pt x="1620" y="695"/>
                  </a:moveTo>
                  <a:lnTo>
                    <a:pt x="1736" y="927"/>
                  </a:lnTo>
                  <a:lnTo>
                    <a:pt x="1736" y="1158"/>
                  </a:lnTo>
                  <a:lnTo>
                    <a:pt x="1851" y="1390"/>
                  </a:lnTo>
                  <a:lnTo>
                    <a:pt x="1851" y="1621"/>
                  </a:lnTo>
                  <a:lnTo>
                    <a:pt x="1851" y="1853"/>
                  </a:lnTo>
                  <a:lnTo>
                    <a:pt x="1851" y="2085"/>
                  </a:lnTo>
                  <a:lnTo>
                    <a:pt x="1851" y="2316"/>
                  </a:lnTo>
                  <a:lnTo>
                    <a:pt x="1736" y="2432"/>
                  </a:lnTo>
                  <a:lnTo>
                    <a:pt x="1736" y="2432"/>
                  </a:lnTo>
                  <a:lnTo>
                    <a:pt x="1736" y="2664"/>
                  </a:lnTo>
                  <a:lnTo>
                    <a:pt x="1620" y="2780"/>
                  </a:lnTo>
                  <a:lnTo>
                    <a:pt x="1504" y="2895"/>
                  </a:lnTo>
                  <a:lnTo>
                    <a:pt x="1388" y="3127"/>
                  </a:lnTo>
                  <a:lnTo>
                    <a:pt x="1273" y="3243"/>
                  </a:lnTo>
                  <a:lnTo>
                    <a:pt x="1157" y="3359"/>
                  </a:lnTo>
                  <a:lnTo>
                    <a:pt x="1041" y="3474"/>
                  </a:lnTo>
                  <a:lnTo>
                    <a:pt x="926" y="3590"/>
                  </a:lnTo>
                  <a:lnTo>
                    <a:pt x="926" y="3590"/>
                  </a:lnTo>
                  <a:lnTo>
                    <a:pt x="810" y="3590"/>
                  </a:lnTo>
                  <a:lnTo>
                    <a:pt x="694" y="3590"/>
                  </a:lnTo>
                  <a:lnTo>
                    <a:pt x="694" y="3474"/>
                  </a:lnTo>
                  <a:lnTo>
                    <a:pt x="578" y="3474"/>
                  </a:lnTo>
                  <a:lnTo>
                    <a:pt x="578" y="3359"/>
                  </a:lnTo>
                  <a:lnTo>
                    <a:pt x="578" y="3359"/>
                  </a:lnTo>
                  <a:lnTo>
                    <a:pt x="578" y="3243"/>
                  </a:lnTo>
                  <a:lnTo>
                    <a:pt x="578" y="3127"/>
                  </a:lnTo>
                  <a:lnTo>
                    <a:pt x="578" y="3127"/>
                  </a:lnTo>
                  <a:lnTo>
                    <a:pt x="694" y="3127"/>
                  </a:lnTo>
                  <a:lnTo>
                    <a:pt x="810" y="3011"/>
                  </a:lnTo>
                  <a:lnTo>
                    <a:pt x="926" y="2895"/>
                  </a:lnTo>
                  <a:lnTo>
                    <a:pt x="1041" y="2780"/>
                  </a:lnTo>
                  <a:lnTo>
                    <a:pt x="1041" y="2664"/>
                  </a:lnTo>
                  <a:lnTo>
                    <a:pt x="1157" y="2432"/>
                  </a:lnTo>
                  <a:lnTo>
                    <a:pt x="1157" y="2316"/>
                  </a:lnTo>
                  <a:lnTo>
                    <a:pt x="1157" y="2201"/>
                  </a:lnTo>
                  <a:lnTo>
                    <a:pt x="1157" y="2201"/>
                  </a:lnTo>
                  <a:lnTo>
                    <a:pt x="1157" y="1969"/>
                  </a:lnTo>
                  <a:lnTo>
                    <a:pt x="1157" y="1621"/>
                  </a:lnTo>
                  <a:lnTo>
                    <a:pt x="1157" y="1390"/>
                  </a:lnTo>
                  <a:lnTo>
                    <a:pt x="1041" y="1042"/>
                  </a:lnTo>
                  <a:lnTo>
                    <a:pt x="926" y="811"/>
                  </a:lnTo>
                  <a:lnTo>
                    <a:pt x="810" y="579"/>
                  </a:lnTo>
                  <a:lnTo>
                    <a:pt x="578" y="348"/>
                  </a:lnTo>
                  <a:lnTo>
                    <a:pt x="347" y="232"/>
                  </a:lnTo>
                  <a:lnTo>
                    <a:pt x="347" y="232"/>
                  </a:lnTo>
                  <a:lnTo>
                    <a:pt x="347" y="232"/>
                  </a:lnTo>
                  <a:lnTo>
                    <a:pt x="231" y="232"/>
                  </a:lnTo>
                  <a:lnTo>
                    <a:pt x="231" y="232"/>
                  </a:lnTo>
                  <a:lnTo>
                    <a:pt x="115" y="232"/>
                  </a:lnTo>
                  <a:lnTo>
                    <a:pt x="115" y="232"/>
                  </a:lnTo>
                  <a:lnTo>
                    <a:pt x="115" y="232"/>
                  </a:lnTo>
                  <a:lnTo>
                    <a:pt x="0" y="232"/>
                  </a:lnTo>
                  <a:lnTo>
                    <a:pt x="0" y="116"/>
                  </a:lnTo>
                  <a:lnTo>
                    <a:pt x="0" y="116"/>
                  </a:lnTo>
                  <a:lnTo>
                    <a:pt x="231" y="0"/>
                  </a:lnTo>
                  <a:lnTo>
                    <a:pt x="347" y="0"/>
                  </a:lnTo>
                  <a:lnTo>
                    <a:pt x="578" y="0"/>
                  </a:lnTo>
                  <a:lnTo>
                    <a:pt x="810" y="0"/>
                  </a:lnTo>
                  <a:lnTo>
                    <a:pt x="1041" y="116"/>
                  </a:lnTo>
                  <a:lnTo>
                    <a:pt x="1273" y="232"/>
                  </a:lnTo>
                  <a:lnTo>
                    <a:pt x="1504" y="463"/>
                  </a:lnTo>
                  <a:lnTo>
                    <a:pt x="1620" y="695"/>
                  </a:lnTo>
                  <a:lnTo>
                    <a:pt x="1620" y="695"/>
                  </a:lnTo>
                  <a:lnTo>
                    <a:pt x="1620" y="695"/>
                  </a:lnTo>
                  <a:lnTo>
                    <a:pt x="1620" y="695"/>
                  </a:lnTo>
                  <a:lnTo>
                    <a:pt x="1620"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1736280" y="3547080"/>
              <a:ext cx="57600" cy="186480"/>
            </a:xfrm>
            <a:custGeom>
              <a:avLst/>
              <a:gdLst/>
              <a:ahLst/>
              <a:rect l="l" t="t" r="r" b="b"/>
              <a:pathLst>
                <a:path w="1620" h="3475">
                  <a:moveTo>
                    <a:pt x="1620" y="1390"/>
                  </a:moveTo>
                  <a:lnTo>
                    <a:pt x="1620" y="1622"/>
                  </a:lnTo>
                  <a:lnTo>
                    <a:pt x="1620" y="1853"/>
                  </a:lnTo>
                  <a:lnTo>
                    <a:pt x="1620" y="2085"/>
                  </a:lnTo>
                  <a:lnTo>
                    <a:pt x="1620" y="2317"/>
                  </a:lnTo>
                  <a:lnTo>
                    <a:pt x="1620" y="2432"/>
                  </a:lnTo>
                  <a:lnTo>
                    <a:pt x="1620" y="2664"/>
                  </a:lnTo>
                  <a:lnTo>
                    <a:pt x="1504" y="2896"/>
                  </a:lnTo>
                  <a:lnTo>
                    <a:pt x="1389" y="3011"/>
                  </a:lnTo>
                  <a:lnTo>
                    <a:pt x="1389" y="3011"/>
                  </a:lnTo>
                  <a:lnTo>
                    <a:pt x="1273" y="3127"/>
                  </a:lnTo>
                  <a:lnTo>
                    <a:pt x="1157" y="3127"/>
                  </a:lnTo>
                  <a:lnTo>
                    <a:pt x="1041" y="3243"/>
                  </a:lnTo>
                  <a:lnTo>
                    <a:pt x="1041" y="3359"/>
                  </a:lnTo>
                  <a:lnTo>
                    <a:pt x="926" y="3475"/>
                  </a:lnTo>
                  <a:lnTo>
                    <a:pt x="926" y="3475"/>
                  </a:lnTo>
                  <a:lnTo>
                    <a:pt x="810" y="3475"/>
                  </a:lnTo>
                  <a:lnTo>
                    <a:pt x="694" y="3359"/>
                  </a:lnTo>
                  <a:lnTo>
                    <a:pt x="694" y="3359"/>
                  </a:lnTo>
                  <a:lnTo>
                    <a:pt x="694" y="3243"/>
                  </a:lnTo>
                  <a:lnTo>
                    <a:pt x="810" y="3127"/>
                  </a:lnTo>
                  <a:lnTo>
                    <a:pt x="810" y="3011"/>
                  </a:lnTo>
                  <a:lnTo>
                    <a:pt x="926" y="2896"/>
                  </a:lnTo>
                  <a:lnTo>
                    <a:pt x="1041" y="2780"/>
                  </a:lnTo>
                  <a:lnTo>
                    <a:pt x="1157" y="2664"/>
                  </a:lnTo>
                  <a:lnTo>
                    <a:pt x="1273" y="2548"/>
                  </a:lnTo>
                  <a:lnTo>
                    <a:pt x="1273" y="2432"/>
                  </a:lnTo>
                  <a:lnTo>
                    <a:pt x="1273" y="2432"/>
                  </a:lnTo>
                  <a:lnTo>
                    <a:pt x="1389" y="2085"/>
                  </a:lnTo>
                  <a:lnTo>
                    <a:pt x="1389" y="1853"/>
                  </a:lnTo>
                  <a:lnTo>
                    <a:pt x="1273" y="1506"/>
                  </a:lnTo>
                  <a:lnTo>
                    <a:pt x="1157" y="1274"/>
                  </a:lnTo>
                  <a:lnTo>
                    <a:pt x="1041" y="1043"/>
                  </a:lnTo>
                  <a:lnTo>
                    <a:pt x="810" y="811"/>
                  </a:lnTo>
                  <a:lnTo>
                    <a:pt x="579" y="579"/>
                  </a:lnTo>
                  <a:lnTo>
                    <a:pt x="347" y="348"/>
                  </a:lnTo>
                  <a:lnTo>
                    <a:pt x="347" y="348"/>
                  </a:lnTo>
                  <a:lnTo>
                    <a:pt x="347" y="464"/>
                  </a:lnTo>
                  <a:lnTo>
                    <a:pt x="231" y="464"/>
                  </a:lnTo>
                  <a:lnTo>
                    <a:pt x="116" y="348"/>
                  </a:lnTo>
                  <a:lnTo>
                    <a:pt x="116" y="348"/>
                  </a:lnTo>
                  <a:lnTo>
                    <a:pt x="0" y="348"/>
                  </a:lnTo>
                  <a:lnTo>
                    <a:pt x="0" y="232"/>
                  </a:lnTo>
                  <a:lnTo>
                    <a:pt x="0" y="232"/>
                  </a:lnTo>
                  <a:lnTo>
                    <a:pt x="0" y="116"/>
                  </a:lnTo>
                  <a:lnTo>
                    <a:pt x="0" y="116"/>
                  </a:lnTo>
                  <a:lnTo>
                    <a:pt x="0" y="0"/>
                  </a:lnTo>
                  <a:lnTo>
                    <a:pt x="0" y="0"/>
                  </a:lnTo>
                  <a:lnTo>
                    <a:pt x="0" y="0"/>
                  </a:lnTo>
                  <a:lnTo>
                    <a:pt x="0" y="0"/>
                  </a:lnTo>
                  <a:lnTo>
                    <a:pt x="116" y="0"/>
                  </a:lnTo>
                  <a:lnTo>
                    <a:pt x="116" y="0"/>
                  </a:lnTo>
                  <a:lnTo>
                    <a:pt x="116" y="0"/>
                  </a:lnTo>
                  <a:lnTo>
                    <a:pt x="116" y="0"/>
                  </a:lnTo>
                  <a:lnTo>
                    <a:pt x="116" y="0"/>
                  </a:lnTo>
                  <a:lnTo>
                    <a:pt x="463" y="0"/>
                  </a:lnTo>
                  <a:lnTo>
                    <a:pt x="694" y="116"/>
                  </a:lnTo>
                  <a:lnTo>
                    <a:pt x="926" y="348"/>
                  </a:lnTo>
                  <a:lnTo>
                    <a:pt x="1041" y="464"/>
                  </a:lnTo>
                  <a:lnTo>
                    <a:pt x="1273" y="695"/>
                  </a:lnTo>
                  <a:lnTo>
                    <a:pt x="1389" y="927"/>
                  </a:lnTo>
                  <a:lnTo>
                    <a:pt x="1504" y="1158"/>
                  </a:lnTo>
                  <a:lnTo>
                    <a:pt x="1620" y="1390"/>
                  </a:lnTo>
                  <a:lnTo>
                    <a:pt x="1620" y="1390"/>
                  </a:lnTo>
                  <a:lnTo>
                    <a:pt x="1620" y="1390"/>
                  </a:lnTo>
                  <a:lnTo>
                    <a:pt x="1620" y="1390"/>
                  </a:lnTo>
                  <a:lnTo>
                    <a:pt x="1620"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1798200" y="3559320"/>
              <a:ext cx="74160" cy="192600"/>
            </a:xfrm>
            <a:custGeom>
              <a:avLst/>
              <a:gdLst/>
              <a:ahLst/>
              <a:rect l="l" t="t" r="r" b="b"/>
              <a:pathLst>
                <a:path w="2083" h="3590">
                  <a:moveTo>
                    <a:pt x="2083" y="1390"/>
                  </a:moveTo>
                  <a:lnTo>
                    <a:pt x="2083" y="1737"/>
                  </a:lnTo>
                  <a:lnTo>
                    <a:pt x="2083" y="1969"/>
                  </a:lnTo>
                  <a:lnTo>
                    <a:pt x="2083" y="2200"/>
                  </a:lnTo>
                  <a:lnTo>
                    <a:pt x="2083" y="2548"/>
                  </a:lnTo>
                  <a:lnTo>
                    <a:pt x="1967" y="2779"/>
                  </a:lnTo>
                  <a:lnTo>
                    <a:pt x="1967" y="3011"/>
                  </a:lnTo>
                  <a:lnTo>
                    <a:pt x="1852" y="3243"/>
                  </a:lnTo>
                  <a:lnTo>
                    <a:pt x="1620" y="3474"/>
                  </a:lnTo>
                  <a:lnTo>
                    <a:pt x="1620" y="3474"/>
                  </a:lnTo>
                  <a:lnTo>
                    <a:pt x="1620" y="3474"/>
                  </a:lnTo>
                  <a:lnTo>
                    <a:pt x="1504" y="3474"/>
                  </a:lnTo>
                  <a:lnTo>
                    <a:pt x="1389" y="3474"/>
                  </a:lnTo>
                  <a:lnTo>
                    <a:pt x="1273" y="3590"/>
                  </a:lnTo>
                  <a:lnTo>
                    <a:pt x="1273" y="3590"/>
                  </a:lnTo>
                  <a:lnTo>
                    <a:pt x="1157" y="3590"/>
                  </a:lnTo>
                  <a:lnTo>
                    <a:pt x="1041" y="3590"/>
                  </a:lnTo>
                  <a:lnTo>
                    <a:pt x="1041" y="3474"/>
                  </a:lnTo>
                  <a:lnTo>
                    <a:pt x="1041" y="3474"/>
                  </a:lnTo>
                  <a:lnTo>
                    <a:pt x="1157" y="3358"/>
                  </a:lnTo>
                  <a:lnTo>
                    <a:pt x="1273" y="3243"/>
                  </a:lnTo>
                  <a:lnTo>
                    <a:pt x="1389" y="3011"/>
                  </a:lnTo>
                  <a:lnTo>
                    <a:pt x="1504" y="2895"/>
                  </a:lnTo>
                  <a:lnTo>
                    <a:pt x="1504" y="2664"/>
                  </a:lnTo>
                  <a:lnTo>
                    <a:pt x="1620" y="2432"/>
                  </a:lnTo>
                  <a:lnTo>
                    <a:pt x="1620" y="2200"/>
                  </a:lnTo>
                  <a:lnTo>
                    <a:pt x="1620" y="1969"/>
                  </a:lnTo>
                  <a:lnTo>
                    <a:pt x="1620" y="1969"/>
                  </a:lnTo>
                  <a:lnTo>
                    <a:pt x="1620" y="1853"/>
                  </a:lnTo>
                  <a:lnTo>
                    <a:pt x="1620" y="1621"/>
                  </a:lnTo>
                  <a:lnTo>
                    <a:pt x="1504" y="1390"/>
                  </a:lnTo>
                  <a:lnTo>
                    <a:pt x="1389" y="1274"/>
                  </a:lnTo>
                  <a:lnTo>
                    <a:pt x="1273" y="1042"/>
                  </a:lnTo>
                  <a:lnTo>
                    <a:pt x="1157" y="811"/>
                  </a:lnTo>
                  <a:lnTo>
                    <a:pt x="1041" y="695"/>
                  </a:lnTo>
                  <a:lnTo>
                    <a:pt x="810" y="463"/>
                  </a:lnTo>
                  <a:lnTo>
                    <a:pt x="810" y="463"/>
                  </a:lnTo>
                  <a:lnTo>
                    <a:pt x="694" y="463"/>
                  </a:lnTo>
                  <a:lnTo>
                    <a:pt x="579" y="347"/>
                  </a:lnTo>
                  <a:lnTo>
                    <a:pt x="463" y="347"/>
                  </a:lnTo>
                  <a:lnTo>
                    <a:pt x="347" y="463"/>
                  </a:lnTo>
                  <a:lnTo>
                    <a:pt x="231" y="463"/>
                  </a:lnTo>
                  <a:lnTo>
                    <a:pt x="116" y="347"/>
                  </a:lnTo>
                  <a:lnTo>
                    <a:pt x="0" y="347"/>
                  </a:lnTo>
                  <a:lnTo>
                    <a:pt x="0" y="116"/>
                  </a:lnTo>
                  <a:lnTo>
                    <a:pt x="0" y="116"/>
                  </a:lnTo>
                  <a:lnTo>
                    <a:pt x="347" y="0"/>
                  </a:lnTo>
                  <a:lnTo>
                    <a:pt x="579" y="0"/>
                  </a:lnTo>
                  <a:lnTo>
                    <a:pt x="926" y="116"/>
                  </a:lnTo>
                  <a:lnTo>
                    <a:pt x="1157" y="347"/>
                  </a:lnTo>
                  <a:lnTo>
                    <a:pt x="1389" y="579"/>
                  </a:lnTo>
                  <a:lnTo>
                    <a:pt x="1620" y="811"/>
                  </a:lnTo>
                  <a:lnTo>
                    <a:pt x="1852" y="1158"/>
                  </a:lnTo>
                  <a:lnTo>
                    <a:pt x="2083" y="1390"/>
                  </a:lnTo>
                  <a:lnTo>
                    <a:pt x="2083" y="1390"/>
                  </a:lnTo>
                  <a:lnTo>
                    <a:pt x="2083" y="1390"/>
                  </a:lnTo>
                  <a:lnTo>
                    <a:pt x="2083" y="1390"/>
                  </a:lnTo>
                  <a:lnTo>
                    <a:pt x="2083"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1864440" y="3565800"/>
              <a:ext cx="70200" cy="173880"/>
            </a:xfrm>
            <a:custGeom>
              <a:avLst/>
              <a:gdLst/>
              <a:ahLst/>
              <a:rect l="l" t="t" r="r" b="b"/>
              <a:pathLst>
                <a:path w="1967" h="3242">
                  <a:moveTo>
                    <a:pt x="1388" y="463"/>
                  </a:moveTo>
                  <a:lnTo>
                    <a:pt x="1620" y="695"/>
                  </a:lnTo>
                  <a:lnTo>
                    <a:pt x="1736" y="810"/>
                  </a:lnTo>
                  <a:lnTo>
                    <a:pt x="1851" y="1042"/>
                  </a:lnTo>
                  <a:lnTo>
                    <a:pt x="1967" y="1274"/>
                  </a:lnTo>
                  <a:lnTo>
                    <a:pt x="1967" y="1621"/>
                  </a:lnTo>
                  <a:lnTo>
                    <a:pt x="1967" y="1853"/>
                  </a:lnTo>
                  <a:lnTo>
                    <a:pt x="1967" y="2084"/>
                  </a:lnTo>
                  <a:lnTo>
                    <a:pt x="1967" y="2316"/>
                  </a:lnTo>
                  <a:lnTo>
                    <a:pt x="1967" y="2316"/>
                  </a:lnTo>
                  <a:lnTo>
                    <a:pt x="1851" y="2548"/>
                  </a:lnTo>
                  <a:lnTo>
                    <a:pt x="1851" y="2663"/>
                  </a:lnTo>
                  <a:lnTo>
                    <a:pt x="1736" y="2779"/>
                  </a:lnTo>
                  <a:lnTo>
                    <a:pt x="1620" y="2895"/>
                  </a:lnTo>
                  <a:lnTo>
                    <a:pt x="1620" y="3011"/>
                  </a:lnTo>
                  <a:lnTo>
                    <a:pt x="1504" y="3127"/>
                  </a:lnTo>
                  <a:lnTo>
                    <a:pt x="1388" y="3242"/>
                  </a:lnTo>
                  <a:lnTo>
                    <a:pt x="1273" y="3242"/>
                  </a:lnTo>
                  <a:lnTo>
                    <a:pt x="1273" y="3242"/>
                  </a:lnTo>
                  <a:lnTo>
                    <a:pt x="1273" y="3011"/>
                  </a:lnTo>
                  <a:lnTo>
                    <a:pt x="1388" y="2663"/>
                  </a:lnTo>
                  <a:lnTo>
                    <a:pt x="1504" y="2316"/>
                  </a:lnTo>
                  <a:lnTo>
                    <a:pt x="1620" y="1969"/>
                  </a:lnTo>
                  <a:lnTo>
                    <a:pt x="1620" y="1621"/>
                  </a:lnTo>
                  <a:lnTo>
                    <a:pt x="1620" y="1274"/>
                  </a:lnTo>
                  <a:lnTo>
                    <a:pt x="1504" y="926"/>
                  </a:lnTo>
                  <a:lnTo>
                    <a:pt x="1273" y="695"/>
                  </a:lnTo>
                  <a:lnTo>
                    <a:pt x="1273" y="695"/>
                  </a:lnTo>
                  <a:lnTo>
                    <a:pt x="1157" y="579"/>
                  </a:lnTo>
                  <a:lnTo>
                    <a:pt x="925" y="579"/>
                  </a:lnTo>
                  <a:lnTo>
                    <a:pt x="810" y="463"/>
                  </a:lnTo>
                  <a:lnTo>
                    <a:pt x="578" y="463"/>
                  </a:lnTo>
                  <a:lnTo>
                    <a:pt x="463" y="463"/>
                  </a:lnTo>
                  <a:lnTo>
                    <a:pt x="231" y="463"/>
                  </a:lnTo>
                  <a:lnTo>
                    <a:pt x="115" y="347"/>
                  </a:lnTo>
                  <a:lnTo>
                    <a:pt x="0" y="231"/>
                  </a:lnTo>
                  <a:lnTo>
                    <a:pt x="0" y="231"/>
                  </a:lnTo>
                  <a:lnTo>
                    <a:pt x="231" y="116"/>
                  </a:lnTo>
                  <a:lnTo>
                    <a:pt x="347" y="0"/>
                  </a:lnTo>
                  <a:lnTo>
                    <a:pt x="578" y="0"/>
                  </a:lnTo>
                  <a:lnTo>
                    <a:pt x="810" y="0"/>
                  </a:lnTo>
                  <a:lnTo>
                    <a:pt x="925" y="116"/>
                  </a:lnTo>
                  <a:lnTo>
                    <a:pt x="1157" y="231"/>
                  </a:lnTo>
                  <a:lnTo>
                    <a:pt x="1273" y="347"/>
                  </a:lnTo>
                  <a:lnTo>
                    <a:pt x="1388" y="463"/>
                  </a:lnTo>
                  <a:lnTo>
                    <a:pt x="1388" y="463"/>
                  </a:lnTo>
                  <a:lnTo>
                    <a:pt x="1388" y="463"/>
                  </a:lnTo>
                  <a:lnTo>
                    <a:pt x="1388" y="463"/>
                  </a:lnTo>
                  <a:lnTo>
                    <a:pt x="138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1947240" y="3602880"/>
              <a:ext cx="53640" cy="167760"/>
            </a:xfrm>
            <a:custGeom>
              <a:avLst/>
              <a:gdLst/>
              <a:ahLst/>
              <a:rect l="l" t="t" r="r" b="b"/>
              <a:pathLst>
                <a:path w="1505" h="3127">
                  <a:moveTo>
                    <a:pt x="1505" y="1158"/>
                  </a:moveTo>
                  <a:lnTo>
                    <a:pt x="1505" y="1389"/>
                  </a:lnTo>
                  <a:lnTo>
                    <a:pt x="1505" y="1737"/>
                  </a:lnTo>
                  <a:lnTo>
                    <a:pt x="1505" y="1968"/>
                  </a:lnTo>
                  <a:lnTo>
                    <a:pt x="1389" y="2316"/>
                  </a:lnTo>
                  <a:lnTo>
                    <a:pt x="1273" y="2547"/>
                  </a:lnTo>
                  <a:lnTo>
                    <a:pt x="1158" y="2779"/>
                  </a:lnTo>
                  <a:lnTo>
                    <a:pt x="926" y="2895"/>
                  </a:lnTo>
                  <a:lnTo>
                    <a:pt x="695" y="3127"/>
                  </a:lnTo>
                  <a:lnTo>
                    <a:pt x="695" y="3127"/>
                  </a:lnTo>
                  <a:lnTo>
                    <a:pt x="695" y="3127"/>
                  </a:lnTo>
                  <a:lnTo>
                    <a:pt x="695" y="3127"/>
                  </a:lnTo>
                  <a:lnTo>
                    <a:pt x="695" y="2895"/>
                  </a:lnTo>
                  <a:lnTo>
                    <a:pt x="695" y="2779"/>
                  </a:lnTo>
                  <a:lnTo>
                    <a:pt x="810" y="2663"/>
                  </a:lnTo>
                  <a:lnTo>
                    <a:pt x="810" y="2432"/>
                  </a:lnTo>
                  <a:lnTo>
                    <a:pt x="926" y="2316"/>
                  </a:lnTo>
                  <a:lnTo>
                    <a:pt x="926" y="2200"/>
                  </a:lnTo>
                  <a:lnTo>
                    <a:pt x="1042" y="1968"/>
                  </a:lnTo>
                  <a:lnTo>
                    <a:pt x="1042" y="1737"/>
                  </a:lnTo>
                  <a:lnTo>
                    <a:pt x="1042" y="1737"/>
                  </a:lnTo>
                  <a:lnTo>
                    <a:pt x="1042" y="1621"/>
                  </a:lnTo>
                  <a:lnTo>
                    <a:pt x="1042" y="1389"/>
                  </a:lnTo>
                  <a:lnTo>
                    <a:pt x="926" y="1158"/>
                  </a:lnTo>
                  <a:lnTo>
                    <a:pt x="926" y="926"/>
                  </a:lnTo>
                  <a:lnTo>
                    <a:pt x="926" y="810"/>
                  </a:lnTo>
                  <a:lnTo>
                    <a:pt x="810" y="695"/>
                  </a:lnTo>
                  <a:lnTo>
                    <a:pt x="579" y="463"/>
                  </a:lnTo>
                  <a:lnTo>
                    <a:pt x="463" y="347"/>
                  </a:lnTo>
                  <a:lnTo>
                    <a:pt x="463" y="347"/>
                  </a:lnTo>
                  <a:lnTo>
                    <a:pt x="347" y="347"/>
                  </a:lnTo>
                  <a:lnTo>
                    <a:pt x="232" y="347"/>
                  </a:lnTo>
                  <a:lnTo>
                    <a:pt x="232" y="347"/>
                  </a:lnTo>
                  <a:lnTo>
                    <a:pt x="116" y="347"/>
                  </a:lnTo>
                  <a:lnTo>
                    <a:pt x="116" y="347"/>
                  </a:lnTo>
                  <a:lnTo>
                    <a:pt x="0" y="347"/>
                  </a:lnTo>
                  <a:lnTo>
                    <a:pt x="0" y="347"/>
                  </a:lnTo>
                  <a:lnTo>
                    <a:pt x="0" y="231"/>
                  </a:lnTo>
                  <a:lnTo>
                    <a:pt x="0" y="231"/>
                  </a:lnTo>
                  <a:lnTo>
                    <a:pt x="0" y="115"/>
                  </a:lnTo>
                  <a:lnTo>
                    <a:pt x="0" y="115"/>
                  </a:lnTo>
                  <a:lnTo>
                    <a:pt x="0" y="115"/>
                  </a:lnTo>
                  <a:lnTo>
                    <a:pt x="0" y="115"/>
                  </a:lnTo>
                  <a:lnTo>
                    <a:pt x="116" y="115"/>
                  </a:lnTo>
                  <a:lnTo>
                    <a:pt x="116" y="115"/>
                  </a:lnTo>
                  <a:lnTo>
                    <a:pt x="116" y="115"/>
                  </a:lnTo>
                  <a:lnTo>
                    <a:pt x="232" y="0"/>
                  </a:lnTo>
                  <a:lnTo>
                    <a:pt x="232" y="0"/>
                  </a:lnTo>
                  <a:lnTo>
                    <a:pt x="463" y="0"/>
                  </a:lnTo>
                  <a:lnTo>
                    <a:pt x="695" y="115"/>
                  </a:lnTo>
                  <a:lnTo>
                    <a:pt x="926" y="231"/>
                  </a:lnTo>
                  <a:lnTo>
                    <a:pt x="1042" y="347"/>
                  </a:lnTo>
                  <a:lnTo>
                    <a:pt x="1158" y="579"/>
                  </a:lnTo>
                  <a:lnTo>
                    <a:pt x="1273" y="695"/>
                  </a:lnTo>
                  <a:lnTo>
                    <a:pt x="1389" y="926"/>
                  </a:lnTo>
                  <a:lnTo>
                    <a:pt x="1505" y="1158"/>
                  </a:lnTo>
                  <a:lnTo>
                    <a:pt x="1505" y="1158"/>
                  </a:lnTo>
                  <a:lnTo>
                    <a:pt x="1505" y="1158"/>
                  </a:lnTo>
                  <a:lnTo>
                    <a:pt x="1505" y="1158"/>
                  </a:lnTo>
                  <a:lnTo>
                    <a:pt x="1505"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1396800" y="3621600"/>
              <a:ext cx="852480" cy="1181160"/>
            </a:xfrm>
            <a:custGeom>
              <a:avLst/>
              <a:gdLst/>
              <a:ahLst/>
              <a:rect l="l" t="t" r="r" b="b"/>
              <a:pathLst>
                <a:path w="23841" h="22004">
                  <a:moveTo>
                    <a:pt x="4050" y="116"/>
                  </a:moveTo>
                  <a:lnTo>
                    <a:pt x="4050" y="232"/>
                  </a:lnTo>
                  <a:lnTo>
                    <a:pt x="3935" y="348"/>
                  </a:lnTo>
                  <a:lnTo>
                    <a:pt x="3935" y="463"/>
                  </a:lnTo>
                  <a:lnTo>
                    <a:pt x="3935" y="579"/>
                  </a:lnTo>
                  <a:lnTo>
                    <a:pt x="3935" y="695"/>
                  </a:lnTo>
                  <a:lnTo>
                    <a:pt x="3935" y="811"/>
                  </a:lnTo>
                  <a:lnTo>
                    <a:pt x="4050" y="927"/>
                  </a:lnTo>
                  <a:lnTo>
                    <a:pt x="4050" y="1042"/>
                  </a:lnTo>
                  <a:lnTo>
                    <a:pt x="4050" y="1042"/>
                  </a:lnTo>
                  <a:lnTo>
                    <a:pt x="4166" y="1158"/>
                  </a:lnTo>
                  <a:lnTo>
                    <a:pt x="4166" y="1274"/>
                  </a:lnTo>
                  <a:lnTo>
                    <a:pt x="4282" y="1274"/>
                  </a:lnTo>
                  <a:lnTo>
                    <a:pt x="4398" y="1274"/>
                  </a:lnTo>
                  <a:lnTo>
                    <a:pt x="4398" y="1274"/>
                  </a:lnTo>
                  <a:lnTo>
                    <a:pt x="4513" y="1274"/>
                  </a:lnTo>
                  <a:lnTo>
                    <a:pt x="4629" y="1274"/>
                  </a:lnTo>
                  <a:lnTo>
                    <a:pt x="4745" y="1274"/>
                  </a:lnTo>
                  <a:lnTo>
                    <a:pt x="4745" y="1274"/>
                  </a:lnTo>
                  <a:lnTo>
                    <a:pt x="4861" y="1158"/>
                  </a:lnTo>
                  <a:lnTo>
                    <a:pt x="4976" y="1042"/>
                  </a:lnTo>
                  <a:lnTo>
                    <a:pt x="5092" y="927"/>
                  </a:lnTo>
                  <a:lnTo>
                    <a:pt x="5208" y="695"/>
                  </a:lnTo>
                  <a:lnTo>
                    <a:pt x="5324" y="579"/>
                  </a:lnTo>
                  <a:lnTo>
                    <a:pt x="5439" y="463"/>
                  </a:lnTo>
                  <a:lnTo>
                    <a:pt x="5439" y="348"/>
                  </a:lnTo>
                  <a:lnTo>
                    <a:pt x="5439" y="116"/>
                  </a:lnTo>
                  <a:lnTo>
                    <a:pt x="5439" y="116"/>
                  </a:lnTo>
                  <a:lnTo>
                    <a:pt x="5786" y="232"/>
                  </a:lnTo>
                  <a:lnTo>
                    <a:pt x="5786" y="232"/>
                  </a:lnTo>
                  <a:lnTo>
                    <a:pt x="5671" y="348"/>
                  </a:lnTo>
                  <a:lnTo>
                    <a:pt x="5439" y="463"/>
                  </a:lnTo>
                  <a:lnTo>
                    <a:pt x="5439" y="579"/>
                  </a:lnTo>
                  <a:lnTo>
                    <a:pt x="5324" y="811"/>
                  </a:lnTo>
                  <a:lnTo>
                    <a:pt x="5324" y="927"/>
                  </a:lnTo>
                  <a:lnTo>
                    <a:pt x="5324" y="1158"/>
                  </a:lnTo>
                  <a:lnTo>
                    <a:pt x="5439" y="1390"/>
                  </a:lnTo>
                  <a:lnTo>
                    <a:pt x="5439" y="1506"/>
                  </a:lnTo>
                  <a:lnTo>
                    <a:pt x="5439" y="1506"/>
                  </a:lnTo>
                  <a:lnTo>
                    <a:pt x="5555" y="1737"/>
                  </a:lnTo>
                  <a:lnTo>
                    <a:pt x="5671" y="1737"/>
                  </a:lnTo>
                  <a:lnTo>
                    <a:pt x="5786" y="1853"/>
                  </a:lnTo>
                  <a:lnTo>
                    <a:pt x="5902" y="1853"/>
                  </a:lnTo>
                  <a:lnTo>
                    <a:pt x="6018" y="1853"/>
                  </a:lnTo>
                  <a:lnTo>
                    <a:pt x="6249" y="1853"/>
                  </a:lnTo>
                  <a:lnTo>
                    <a:pt x="6365" y="1853"/>
                  </a:lnTo>
                  <a:lnTo>
                    <a:pt x="6481" y="1737"/>
                  </a:lnTo>
                  <a:lnTo>
                    <a:pt x="6481" y="1737"/>
                  </a:lnTo>
                  <a:lnTo>
                    <a:pt x="6712" y="1737"/>
                  </a:lnTo>
                  <a:lnTo>
                    <a:pt x="6828" y="1621"/>
                  </a:lnTo>
                  <a:lnTo>
                    <a:pt x="6944" y="1390"/>
                  </a:lnTo>
                  <a:lnTo>
                    <a:pt x="7060" y="1274"/>
                  </a:lnTo>
                  <a:lnTo>
                    <a:pt x="7175" y="1042"/>
                  </a:lnTo>
                  <a:lnTo>
                    <a:pt x="7291" y="927"/>
                  </a:lnTo>
                  <a:lnTo>
                    <a:pt x="7291" y="695"/>
                  </a:lnTo>
                  <a:lnTo>
                    <a:pt x="7522" y="579"/>
                  </a:lnTo>
                  <a:lnTo>
                    <a:pt x="7522" y="579"/>
                  </a:lnTo>
                  <a:lnTo>
                    <a:pt x="7522" y="579"/>
                  </a:lnTo>
                  <a:lnTo>
                    <a:pt x="7522" y="579"/>
                  </a:lnTo>
                  <a:lnTo>
                    <a:pt x="7522" y="579"/>
                  </a:lnTo>
                  <a:lnTo>
                    <a:pt x="7638" y="695"/>
                  </a:lnTo>
                  <a:lnTo>
                    <a:pt x="7638" y="695"/>
                  </a:lnTo>
                  <a:lnTo>
                    <a:pt x="7638" y="695"/>
                  </a:lnTo>
                  <a:lnTo>
                    <a:pt x="7754" y="695"/>
                  </a:lnTo>
                  <a:lnTo>
                    <a:pt x="7754" y="695"/>
                  </a:lnTo>
                  <a:lnTo>
                    <a:pt x="7754" y="695"/>
                  </a:lnTo>
                  <a:lnTo>
                    <a:pt x="7638" y="695"/>
                  </a:lnTo>
                  <a:lnTo>
                    <a:pt x="7522" y="811"/>
                  </a:lnTo>
                  <a:lnTo>
                    <a:pt x="7407" y="1042"/>
                  </a:lnTo>
                  <a:lnTo>
                    <a:pt x="7407" y="1158"/>
                  </a:lnTo>
                  <a:lnTo>
                    <a:pt x="7291" y="1274"/>
                  </a:lnTo>
                  <a:lnTo>
                    <a:pt x="7291" y="1390"/>
                  </a:lnTo>
                  <a:lnTo>
                    <a:pt x="7291" y="1506"/>
                  </a:lnTo>
                  <a:lnTo>
                    <a:pt x="7291" y="1621"/>
                  </a:lnTo>
                  <a:lnTo>
                    <a:pt x="7291" y="1621"/>
                  </a:lnTo>
                  <a:lnTo>
                    <a:pt x="7407" y="1737"/>
                  </a:lnTo>
                  <a:lnTo>
                    <a:pt x="7407" y="1969"/>
                  </a:lnTo>
                  <a:lnTo>
                    <a:pt x="7407" y="2085"/>
                  </a:lnTo>
                  <a:lnTo>
                    <a:pt x="7522" y="2200"/>
                  </a:lnTo>
                  <a:lnTo>
                    <a:pt x="7522" y="2316"/>
                  </a:lnTo>
                  <a:lnTo>
                    <a:pt x="7638" y="2316"/>
                  </a:lnTo>
                  <a:lnTo>
                    <a:pt x="7754" y="2432"/>
                  </a:lnTo>
                  <a:lnTo>
                    <a:pt x="7870" y="2432"/>
                  </a:lnTo>
                  <a:lnTo>
                    <a:pt x="7870" y="2432"/>
                  </a:lnTo>
                  <a:lnTo>
                    <a:pt x="8101" y="2432"/>
                  </a:lnTo>
                  <a:lnTo>
                    <a:pt x="8217" y="2432"/>
                  </a:lnTo>
                  <a:lnTo>
                    <a:pt x="8333" y="2316"/>
                  </a:lnTo>
                  <a:lnTo>
                    <a:pt x="8448" y="2200"/>
                  </a:lnTo>
                  <a:lnTo>
                    <a:pt x="8564" y="2200"/>
                  </a:lnTo>
                  <a:lnTo>
                    <a:pt x="8564" y="2085"/>
                  </a:lnTo>
                  <a:lnTo>
                    <a:pt x="8680" y="1969"/>
                  </a:lnTo>
                  <a:lnTo>
                    <a:pt x="8911" y="1969"/>
                  </a:lnTo>
                  <a:lnTo>
                    <a:pt x="8911" y="1969"/>
                  </a:lnTo>
                  <a:lnTo>
                    <a:pt x="8911" y="1853"/>
                  </a:lnTo>
                  <a:lnTo>
                    <a:pt x="8911" y="1737"/>
                  </a:lnTo>
                  <a:lnTo>
                    <a:pt x="9027" y="1737"/>
                  </a:lnTo>
                  <a:lnTo>
                    <a:pt x="9143" y="1621"/>
                  </a:lnTo>
                  <a:lnTo>
                    <a:pt x="9258" y="1506"/>
                  </a:lnTo>
                  <a:lnTo>
                    <a:pt x="9374" y="1390"/>
                  </a:lnTo>
                  <a:lnTo>
                    <a:pt x="9374" y="1274"/>
                  </a:lnTo>
                  <a:lnTo>
                    <a:pt x="9490" y="1158"/>
                  </a:lnTo>
                  <a:lnTo>
                    <a:pt x="9490" y="1158"/>
                  </a:lnTo>
                  <a:lnTo>
                    <a:pt x="9837" y="1274"/>
                  </a:lnTo>
                  <a:lnTo>
                    <a:pt x="9837" y="1274"/>
                  </a:lnTo>
                  <a:lnTo>
                    <a:pt x="9837" y="1390"/>
                  </a:lnTo>
                  <a:lnTo>
                    <a:pt x="9721" y="1621"/>
                  </a:lnTo>
                  <a:lnTo>
                    <a:pt x="9721" y="1853"/>
                  </a:lnTo>
                  <a:lnTo>
                    <a:pt x="9606" y="2085"/>
                  </a:lnTo>
                  <a:lnTo>
                    <a:pt x="9606" y="2200"/>
                  </a:lnTo>
                  <a:lnTo>
                    <a:pt x="9721" y="2432"/>
                  </a:lnTo>
                  <a:lnTo>
                    <a:pt x="9721" y="2664"/>
                  </a:lnTo>
                  <a:lnTo>
                    <a:pt x="9953" y="2780"/>
                  </a:lnTo>
                  <a:lnTo>
                    <a:pt x="9953" y="2780"/>
                  </a:lnTo>
                  <a:lnTo>
                    <a:pt x="10069" y="2780"/>
                  </a:lnTo>
                  <a:lnTo>
                    <a:pt x="10184" y="2780"/>
                  </a:lnTo>
                  <a:lnTo>
                    <a:pt x="10300" y="2780"/>
                  </a:lnTo>
                  <a:lnTo>
                    <a:pt x="10531" y="2780"/>
                  </a:lnTo>
                  <a:lnTo>
                    <a:pt x="10647" y="2780"/>
                  </a:lnTo>
                  <a:lnTo>
                    <a:pt x="10763" y="2664"/>
                  </a:lnTo>
                  <a:lnTo>
                    <a:pt x="10763" y="2548"/>
                  </a:lnTo>
                  <a:lnTo>
                    <a:pt x="10879" y="2432"/>
                  </a:lnTo>
                  <a:lnTo>
                    <a:pt x="10879" y="2432"/>
                  </a:lnTo>
                  <a:lnTo>
                    <a:pt x="10763" y="2432"/>
                  </a:lnTo>
                  <a:lnTo>
                    <a:pt x="10763" y="2432"/>
                  </a:lnTo>
                  <a:lnTo>
                    <a:pt x="10994" y="2316"/>
                  </a:lnTo>
                  <a:lnTo>
                    <a:pt x="11110" y="2200"/>
                  </a:lnTo>
                  <a:lnTo>
                    <a:pt x="11226" y="1969"/>
                  </a:lnTo>
                  <a:lnTo>
                    <a:pt x="11342" y="1737"/>
                  </a:lnTo>
                  <a:lnTo>
                    <a:pt x="11457" y="1506"/>
                  </a:lnTo>
                  <a:lnTo>
                    <a:pt x="11689" y="1506"/>
                  </a:lnTo>
                  <a:lnTo>
                    <a:pt x="11805" y="1506"/>
                  </a:lnTo>
                  <a:lnTo>
                    <a:pt x="12036" y="1621"/>
                  </a:lnTo>
                  <a:lnTo>
                    <a:pt x="12036" y="1621"/>
                  </a:lnTo>
                  <a:lnTo>
                    <a:pt x="12036" y="1737"/>
                  </a:lnTo>
                  <a:lnTo>
                    <a:pt x="11920" y="1969"/>
                  </a:lnTo>
                  <a:lnTo>
                    <a:pt x="11920" y="2085"/>
                  </a:lnTo>
                  <a:lnTo>
                    <a:pt x="11805" y="2200"/>
                  </a:lnTo>
                  <a:lnTo>
                    <a:pt x="11805" y="2432"/>
                  </a:lnTo>
                  <a:lnTo>
                    <a:pt x="11805" y="2548"/>
                  </a:lnTo>
                  <a:lnTo>
                    <a:pt x="11920" y="2780"/>
                  </a:lnTo>
                  <a:lnTo>
                    <a:pt x="12036" y="2895"/>
                  </a:lnTo>
                  <a:lnTo>
                    <a:pt x="12036" y="2895"/>
                  </a:lnTo>
                  <a:lnTo>
                    <a:pt x="12152" y="3011"/>
                  </a:lnTo>
                  <a:lnTo>
                    <a:pt x="12267" y="3127"/>
                  </a:lnTo>
                  <a:lnTo>
                    <a:pt x="12383" y="3127"/>
                  </a:lnTo>
                  <a:lnTo>
                    <a:pt x="12499" y="3127"/>
                  </a:lnTo>
                  <a:lnTo>
                    <a:pt x="12615" y="3127"/>
                  </a:lnTo>
                  <a:lnTo>
                    <a:pt x="12730" y="3127"/>
                  </a:lnTo>
                  <a:lnTo>
                    <a:pt x="12846" y="3011"/>
                  </a:lnTo>
                  <a:lnTo>
                    <a:pt x="12962" y="3011"/>
                  </a:lnTo>
                  <a:lnTo>
                    <a:pt x="12962" y="3011"/>
                  </a:lnTo>
                  <a:lnTo>
                    <a:pt x="12846" y="2780"/>
                  </a:lnTo>
                  <a:lnTo>
                    <a:pt x="12962" y="2664"/>
                  </a:lnTo>
                  <a:lnTo>
                    <a:pt x="13078" y="2548"/>
                  </a:lnTo>
                  <a:lnTo>
                    <a:pt x="13193" y="2432"/>
                  </a:lnTo>
                  <a:lnTo>
                    <a:pt x="13309" y="2316"/>
                  </a:lnTo>
                  <a:lnTo>
                    <a:pt x="13425" y="2200"/>
                  </a:lnTo>
                  <a:lnTo>
                    <a:pt x="13541" y="2085"/>
                  </a:lnTo>
                  <a:lnTo>
                    <a:pt x="13656" y="1969"/>
                  </a:lnTo>
                  <a:lnTo>
                    <a:pt x="13656" y="1969"/>
                  </a:lnTo>
                  <a:lnTo>
                    <a:pt x="13772" y="1969"/>
                  </a:lnTo>
                  <a:lnTo>
                    <a:pt x="13772" y="1969"/>
                  </a:lnTo>
                  <a:lnTo>
                    <a:pt x="13772" y="2085"/>
                  </a:lnTo>
                  <a:lnTo>
                    <a:pt x="13772" y="2316"/>
                  </a:lnTo>
                  <a:lnTo>
                    <a:pt x="13772" y="2432"/>
                  </a:lnTo>
                  <a:lnTo>
                    <a:pt x="13656" y="2664"/>
                  </a:lnTo>
                  <a:lnTo>
                    <a:pt x="13772" y="2780"/>
                  </a:lnTo>
                  <a:lnTo>
                    <a:pt x="13772" y="2895"/>
                  </a:lnTo>
                  <a:lnTo>
                    <a:pt x="13888" y="3127"/>
                  </a:lnTo>
                  <a:lnTo>
                    <a:pt x="14003" y="3127"/>
                  </a:lnTo>
                  <a:lnTo>
                    <a:pt x="14003" y="3127"/>
                  </a:lnTo>
                  <a:lnTo>
                    <a:pt x="14119" y="3127"/>
                  </a:lnTo>
                  <a:lnTo>
                    <a:pt x="14235" y="3127"/>
                  </a:lnTo>
                  <a:lnTo>
                    <a:pt x="14351" y="3127"/>
                  </a:lnTo>
                  <a:lnTo>
                    <a:pt x="14466" y="3127"/>
                  </a:lnTo>
                  <a:lnTo>
                    <a:pt x="14582" y="3011"/>
                  </a:lnTo>
                  <a:lnTo>
                    <a:pt x="14582" y="3011"/>
                  </a:lnTo>
                  <a:lnTo>
                    <a:pt x="14698" y="2895"/>
                  </a:lnTo>
                  <a:lnTo>
                    <a:pt x="14814" y="2780"/>
                  </a:lnTo>
                  <a:lnTo>
                    <a:pt x="14814" y="2780"/>
                  </a:lnTo>
                  <a:lnTo>
                    <a:pt x="14814" y="2664"/>
                  </a:lnTo>
                  <a:lnTo>
                    <a:pt x="14814" y="2664"/>
                  </a:lnTo>
                  <a:lnTo>
                    <a:pt x="14814" y="2548"/>
                  </a:lnTo>
                  <a:lnTo>
                    <a:pt x="14929" y="2432"/>
                  </a:lnTo>
                  <a:lnTo>
                    <a:pt x="14929" y="2316"/>
                  </a:lnTo>
                  <a:lnTo>
                    <a:pt x="15045" y="2316"/>
                  </a:lnTo>
                  <a:lnTo>
                    <a:pt x="15045" y="2200"/>
                  </a:lnTo>
                  <a:lnTo>
                    <a:pt x="15161" y="2085"/>
                  </a:lnTo>
                  <a:lnTo>
                    <a:pt x="15161" y="2085"/>
                  </a:lnTo>
                  <a:lnTo>
                    <a:pt x="15624" y="2085"/>
                  </a:lnTo>
                  <a:lnTo>
                    <a:pt x="15624" y="2085"/>
                  </a:lnTo>
                  <a:lnTo>
                    <a:pt x="15624" y="2200"/>
                  </a:lnTo>
                  <a:lnTo>
                    <a:pt x="15508" y="2432"/>
                  </a:lnTo>
                  <a:lnTo>
                    <a:pt x="15508" y="2548"/>
                  </a:lnTo>
                  <a:lnTo>
                    <a:pt x="15508" y="2664"/>
                  </a:lnTo>
                  <a:lnTo>
                    <a:pt x="15508" y="2780"/>
                  </a:lnTo>
                  <a:lnTo>
                    <a:pt x="15508" y="2895"/>
                  </a:lnTo>
                  <a:lnTo>
                    <a:pt x="15624" y="3011"/>
                  </a:lnTo>
                  <a:lnTo>
                    <a:pt x="15739" y="3127"/>
                  </a:lnTo>
                  <a:lnTo>
                    <a:pt x="15739" y="3127"/>
                  </a:lnTo>
                  <a:lnTo>
                    <a:pt x="15739" y="3243"/>
                  </a:lnTo>
                  <a:lnTo>
                    <a:pt x="15855" y="3243"/>
                  </a:lnTo>
                  <a:lnTo>
                    <a:pt x="15855" y="3243"/>
                  </a:lnTo>
                  <a:lnTo>
                    <a:pt x="15971" y="3359"/>
                  </a:lnTo>
                  <a:lnTo>
                    <a:pt x="16087" y="3359"/>
                  </a:lnTo>
                  <a:lnTo>
                    <a:pt x="16202" y="3359"/>
                  </a:lnTo>
                  <a:lnTo>
                    <a:pt x="16202" y="3359"/>
                  </a:lnTo>
                  <a:lnTo>
                    <a:pt x="16318" y="3359"/>
                  </a:lnTo>
                  <a:lnTo>
                    <a:pt x="16318" y="3359"/>
                  </a:lnTo>
                  <a:lnTo>
                    <a:pt x="16550" y="3243"/>
                  </a:lnTo>
                  <a:lnTo>
                    <a:pt x="16665" y="3011"/>
                  </a:lnTo>
                  <a:lnTo>
                    <a:pt x="16781" y="2895"/>
                  </a:lnTo>
                  <a:lnTo>
                    <a:pt x="17012" y="2664"/>
                  </a:lnTo>
                  <a:lnTo>
                    <a:pt x="17128" y="2432"/>
                  </a:lnTo>
                  <a:lnTo>
                    <a:pt x="17244" y="2316"/>
                  </a:lnTo>
                  <a:lnTo>
                    <a:pt x="17475" y="2316"/>
                  </a:lnTo>
                  <a:lnTo>
                    <a:pt x="17823" y="2432"/>
                  </a:lnTo>
                  <a:lnTo>
                    <a:pt x="17823" y="2432"/>
                  </a:lnTo>
                  <a:lnTo>
                    <a:pt x="17823" y="2548"/>
                  </a:lnTo>
                  <a:lnTo>
                    <a:pt x="17707" y="2664"/>
                  </a:lnTo>
                  <a:lnTo>
                    <a:pt x="17707" y="2780"/>
                  </a:lnTo>
                  <a:lnTo>
                    <a:pt x="17591" y="2895"/>
                  </a:lnTo>
                  <a:lnTo>
                    <a:pt x="17591" y="3011"/>
                  </a:lnTo>
                  <a:lnTo>
                    <a:pt x="17475" y="3127"/>
                  </a:lnTo>
                  <a:lnTo>
                    <a:pt x="17475" y="3243"/>
                  </a:lnTo>
                  <a:lnTo>
                    <a:pt x="17591" y="3474"/>
                  </a:lnTo>
                  <a:lnTo>
                    <a:pt x="17591" y="3474"/>
                  </a:lnTo>
                  <a:lnTo>
                    <a:pt x="17591" y="3474"/>
                  </a:lnTo>
                  <a:lnTo>
                    <a:pt x="17707" y="3590"/>
                  </a:lnTo>
                  <a:lnTo>
                    <a:pt x="17707" y="3590"/>
                  </a:lnTo>
                  <a:lnTo>
                    <a:pt x="17823" y="3706"/>
                  </a:lnTo>
                  <a:lnTo>
                    <a:pt x="17938" y="3706"/>
                  </a:lnTo>
                  <a:lnTo>
                    <a:pt x="18054" y="3706"/>
                  </a:lnTo>
                  <a:lnTo>
                    <a:pt x="18170" y="3706"/>
                  </a:lnTo>
                  <a:lnTo>
                    <a:pt x="18286" y="3706"/>
                  </a:lnTo>
                  <a:lnTo>
                    <a:pt x="18286" y="3706"/>
                  </a:lnTo>
                  <a:lnTo>
                    <a:pt x="18401" y="3590"/>
                  </a:lnTo>
                  <a:lnTo>
                    <a:pt x="18517" y="3474"/>
                  </a:lnTo>
                  <a:lnTo>
                    <a:pt x="18748" y="3359"/>
                  </a:lnTo>
                  <a:lnTo>
                    <a:pt x="18864" y="3243"/>
                  </a:lnTo>
                  <a:lnTo>
                    <a:pt x="18980" y="3127"/>
                  </a:lnTo>
                  <a:lnTo>
                    <a:pt x="19096" y="3011"/>
                  </a:lnTo>
                  <a:lnTo>
                    <a:pt x="19211" y="2780"/>
                  </a:lnTo>
                  <a:lnTo>
                    <a:pt x="19327" y="2664"/>
                  </a:lnTo>
                  <a:lnTo>
                    <a:pt x="19327" y="2664"/>
                  </a:lnTo>
                  <a:lnTo>
                    <a:pt x="19559" y="2664"/>
                  </a:lnTo>
                  <a:lnTo>
                    <a:pt x="19559" y="2664"/>
                  </a:lnTo>
                  <a:lnTo>
                    <a:pt x="19559" y="2780"/>
                  </a:lnTo>
                  <a:lnTo>
                    <a:pt x="19559" y="3011"/>
                  </a:lnTo>
                  <a:lnTo>
                    <a:pt x="19559" y="3127"/>
                  </a:lnTo>
                  <a:lnTo>
                    <a:pt x="19443" y="3359"/>
                  </a:lnTo>
                  <a:lnTo>
                    <a:pt x="19443" y="3474"/>
                  </a:lnTo>
                  <a:lnTo>
                    <a:pt x="19559" y="3590"/>
                  </a:lnTo>
                  <a:lnTo>
                    <a:pt x="19674" y="3706"/>
                  </a:lnTo>
                  <a:lnTo>
                    <a:pt x="19790" y="3822"/>
                  </a:lnTo>
                  <a:lnTo>
                    <a:pt x="19790" y="3822"/>
                  </a:lnTo>
                  <a:lnTo>
                    <a:pt x="19906" y="3822"/>
                  </a:lnTo>
                  <a:lnTo>
                    <a:pt x="20022" y="3822"/>
                  </a:lnTo>
                  <a:lnTo>
                    <a:pt x="20137" y="3822"/>
                  </a:lnTo>
                  <a:lnTo>
                    <a:pt x="20253" y="3822"/>
                  </a:lnTo>
                  <a:lnTo>
                    <a:pt x="20369" y="3706"/>
                  </a:lnTo>
                  <a:lnTo>
                    <a:pt x="20484" y="3706"/>
                  </a:lnTo>
                  <a:lnTo>
                    <a:pt x="20600" y="3590"/>
                  </a:lnTo>
                  <a:lnTo>
                    <a:pt x="20716" y="3590"/>
                  </a:lnTo>
                  <a:lnTo>
                    <a:pt x="20716" y="3590"/>
                  </a:lnTo>
                  <a:lnTo>
                    <a:pt x="20600" y="3474"/>
                  </a:lnTo>
                  <a:lnTo>
                    <a:pt x="20600" y="3359"/>
                  </a:lnTo>
                  <a:lnTo>
                    <a:pt x="20716" y="3243"/>
                  </a:lnTo>
                  <a:lnTo>
                    <a:pt x="20716" y="3127"/>
                  </a:lnTo>
                  <a:lnTo>
                    <a:pt x="20832" y="3127"/>
                  </a:lnTo>
                  <a:lnTo>
                    <a:pt x="20832" y="3011"/>
                  </a:lnTo>
                  <a:lnTo>
                    <a:pt x="20947" y="2895"/>
                  </a:lnTo>
                  <a:lnTo>
                    <a:pt x="20947" y="2780"/>
                  </a:lnTo>
                  <a:lnTo>
                    <a:pt x="20947" y="2780"/>
                  </a:lnTo>
                  <a:lnTo>
                    <a:pt x="20947" y="2895"/>
                  </a:lnTo>
                  <a:lnTo>
                    <a:pt x="20947" y="3011"/>
                  </a:lnTo>
                  <a:lnTo>
                    <a:pt x="20947" y="3127"/>
                  </a:lnTo>
                  <a:lnTo>
                    <a:pt x="20947" y="3359"/>
                  </a:lnTo>
                  <a:lnTo>
                    <a:pt x="20832" y="3474"/>
                  </a:lnTo>
                  <a:lnTo>
                    <a:pt x="20832" y="3590"/>
                  </a:lnTo>
                  <a:lnTo>
                    <a:pt x="20832" y="3706"/>
                  </a:lnTo>
                  <a:lnTo>
                    <a:pt x="20832" y="3822"/>
                  </a:lnTo>
                  <a:lnTo>
                    <a:pt x="20832" y="3822"/>
                  </a:lnTo>
                  <a:lnTo>
                    <a:pt x="20947" y="3938"/>
                  </a:lnTo>
                  <a:lnTo>
                    <a:pt x="20947" y="3938"/>
                  </a:lnTo>
                  <a:lnTo>
                    <a:pt x="21063" y="4053"/>
                  </a:lnTo>
                  <a:lnTo>
                    <a:pt x="21179" y="4053"/>
                  </a:lnTo>
                  <a:lnTo>
                    <a:pt x="21295" y="4053"/>
                  </a:lnTo>
                  <a:lnTo>
                    <a:pt x="21295" y="4053"/>
                  </a:lnTo>
                  <a:lnTo>
                    <a:pt x="21410" y="4053"/>
                  </a:lnTo>
                  <a:lnTo>
                    <a:pt x="21526" y="4053"/>
                  </a:lnTo>
                  <a:lnTo>
                    <a:pt x="21526" y="4053"/>
                  </a:lnTo>
                  <a:lnTo>
                    <a:pt x="21642" y="3938"/>
                  </a:lnTo>
                  <a:lnTo>
                    <a:pt x="21642" y="3822"/>
                  </a:lnTo>
                  <a:lnTo>
                    <a:pt x="21758" y="3706"/>
                  </a:lnTo>
                  <a:lnTo>
                    <a:pt x="21873" y="3590"/>
                  </a:lnTo>
                  <a:lnTo>
                    <a:pt x="21989" y="3474"/>
                  </a:lnTo>
                  <a:lnTo>
                    <a:pt x="22105" y="3359"/>
                  </a:lnTo>
                  <a:lnTo>
                    <a:pt x="22105" y="3243"/>
                  </a:lnTo>
                  <a:lnTo>
                    <a:pt x="22220" y="3011"/>
                  </a:lnTo>
                  <a:lnTo>
                    <a:pt x="22220" y="3011"/>
                  </a:lnTo>
                  <a:lnTo>
                    <a:pt x="22105" y="3127"/>
                  </a:lnTo>
                  <a:lnTo>
                    <a:pt x="22105" y="3243"/>
                  </a:lnTo>
                  <a:lnTo>
                    <a:pt x="22105" y="3359"/>
                  </a:lnTo>
                  <a:lnTo>
                    <a:pt x="22105" y="3474"/>
                  </a:lnTo>
                  <a:lnTo>
                    <a:pt x="22105" y="3590"/>
                  </a:lnTo>
                  <a:lnTo>
                    <a:pt x="22105" y="3706"/>
                  </a:lnTo>
                  <a:lnTo>
                    <a:pt x="22105" y="3822"/>
                  </a:lnTo>
                  <a:lnTo>
                    <a:pt x="22220" y="3938"/>
                  </a:lnTo>
                  <a:lnTo>
                    <a:pt x="22220" y="3938"/>
                  </a:lnTo>
                  <a:lnTo>
                    <a:pt x="22336" y="4053"/>
                  </a:lnTo>
                  <a:lnTo>
                    <a:pt x="22452" y="4169"/>
                  </a:lnTo>
                  <a:lnTo>
                    <a:pt x="22568" y="4169"/>
                  </a:lnTo>
                  <a:lnTo>
                    <a:pt x="22683" y="4053"/>
                  </a:lnTo>
                  <a:lnTo>
                    <a:pt x="22799" y="3938"/>
                  </a:lnTo>
                  <a:lnTo>
                    <a:pt x="22915" y="3822"/>
                  </a:lnTo>
                  <a:lnTo>
                    <a:pt x="23031" y="3822"/>
                  </a:lnTo>
                  <a:lnTo>
                    <a:pt x="23146" y="3822"/>
                  </a:lnTo>
                  <a:lnTo>
                    <a:pt x="23146" y="3822"/>
                  </a:lnTo>
                  <a:lnTo>
                    <a:pt x="23146" y="3938"/>
                  </a:lnTo>
                  <a:lnTo>
                    <a:pt x="23146" y="3938"/>
                  </a:lnTo>
                  <a:lnTo>
                    <a:pt x="23146" y="4053"/>
                  </a:lnTo>
                  <a:lnTo>
                    <a:pt x="23146" y="4169"/>
                  </a:lnTo>
                  <a:lnTo>
                    <a:pt x="23146" y="4285"/>
                  </a:lnTo>
                  <a:lnTo>
                    <a:pt x="23262" y="4285"/>
                  </a:lnTo>
                  <a:lnTo>
                    <a:pt x="23378" y="4401"/>
                  </a:lnTo>
                  <a:lnTo>
                    <a:pt x="23378" y="4401"/>
                  </a:lnTo>
                  <a:lnTo>
                    <a:pt x="23378" y="4401"/>
                  </a:lnTo>
                  <a:lnTo>
                    <a:pt x="23841" y="4285"/>
                  </a:lnTo>
                  <a:lnTo>
                    <a:pt x="23841" y="4285"/>
                  </a:lnTo>
                  <a:lnTo>
                    <a:pt x="23378" y="5906"/>
                  </a:lnTo>
                  <a:lnTo>
                    <a:pt x="22799" y="7528"/>
                  </a:lnTo>
                  <a:lnTo>
                    <a:pt x="22452" y="9265"/>
                  </a:lnTo>
                  <a:lnTo>
                    <a:pt x="21989" y="11002"/>
                  </a:lnTo>
                  <a:lnTo>
                    <a:pt x="21642" y="12739"/>
                  </a:lnTo>
                  <a:lnTo>
                    <a:pt x="21410" y="14476"/>
                  </a:lnTo>
                  <a:lnTo>
                    <a:pt x="21179" y="16213"/>
                  </a:lnTo>
                  <a:lnTo>
                    <a:pt x="21063" y="17951"/>
                  </a:lnTo>
                  <a:lnTo>
                    <a:pt x="21063" y="17951"/>
                  </a:lnTo>
                  <a:lnTo>
                    <a:pt x="18517" y="18414"/>
                  </a:lnTo>
                  <a:lnTo>
                    <a:pt x="15971" y="18877"/>
                  </a:lnTo>
                  <a:lnTo>
                    <a:pt x="13541" y="19456"/>
                  </a:lnTo>
                  <a:lnTo>
                    <a:pt x="11110" y="20035"/>
                  </a:lnTo>
                  <a:lnTo>
                    <a:pt x="8564" y="20614"/>
                  </a:lnTo>
                  <a:lnTo>
                    <a:pt x="6134" y="21077"/>
                  </a:lnTo>
                  <a:lnTo>
                    <a:pt x="3588" y="21656"/>
                  </a:lnTo>
                  <a:lnTo>
                    <a:pt x="926" y="22004"/>
                  </a:lnTo>
                  <a:lnTo>
                    <a:pt x="926" y="22004"/>
                  </a:lnTo>
                  <a:lnTo>
                    <a:pt x="1041" y="21888"/>
                  </a:lnTo>
                  <a:lnTo>
                    <a:pt x="1041" y="21656"/>
                  </a:lnTo>
                  <a:lnTo>
                    <a:pt x="1041" y="21541"/>
                  </a:lnTo>
                  <a:lnTo>
                    <a:pt x="1041" y="21309"/>
                  </a:lnTo>
                  <a:lnTo>
                    <a:pt x="1041" y="21193"/>
                  </a:lnTo>
                  <a:lnTo>
                    <a:pt x="926" y="20962"/>
                  </a:lnTo>
                  <a:lnTo>
                    <a:pt x="926" y="20730"/>
                  </a:lnTo>
                  <a:lnTo>
                    <a:pt x="926" y="20614"/>
                  </a:lnTo>
                  <a:lnTo>
                    <a:pt x="926" y="20614"/>
                  </a:lnTo>
                  <a:lnTo>
                    <a:pt x="810" y="20498"/>
                  </a:lnTo>
                  <a:lnTo>
                    <a:pt x="694" y="20383"/>
                  </a:lnTo>
                  <a:lnTo>
                    <a:pt x="579" y="20267"/>
                  </a:lnTo>
                  <a:lnTo>
                    <a:pt x="463" y="20267"/>
                  </a:lnTo>
                  <a:lnTo>
                    <a:pt x="347" y="20151"/>
                  </a:lnTo>
                  <a:lnTo>
                    <a:pt x="231" y="20151"/>
                  </a:lnTo>
                  <a:lnTo>
                    <a:pt x="116" y="20035"/>
                  </a:lnTo>
                  <a:lnTo>
                    <a:pt x="0" y="20035"/>
                  </a:lnTo>
                  <a:lnTo>
                    <a:pt x="0" y="20035"/>
                  </a:lnTo>
                  <a:lnTo>
                    <a:pt x="347" y="17603"/>
                  </a:lnTo>
                  <a:lnTo>
                    <a:pt x="694" y="15055"/>
                  </a:lnTo>
                  <a:lnTo>
                    <a:pt x="1273" y="12623"/>
                  </a:lnTo>
                  <a:lnTo>
                    <a:pt x="1852" y="10076"/>
                  </a:lnTo>
                  <a:lnTo>
                    <a:pt x="2430" y="7644"/>
                  </a:lnTo>
                  <a:lnTo>
                    <a:pt x="2893" y="5096"/>
                  </a:lnTo>
                  <a:lnTo>
                    <a:pt x="3472" y="2548"/>
                  </a:lnTo>
                  <a:lnTo>
                    <a:pt x="3935" y="0"/>
                  </a:lnTo>
                  <a:lnTo>
                    <a:pt x="3935" y="0"/>
                  </a:lnTo>
                  <a:lnTo>
                    <a:pt x="4050" y="116"/>
                  </a:lnTo>
                  <a:lnTo>
                    <a:pt x="4050" y="116"/>
                  </a:lnTo>
                  <a:lnTo>
                    <a:pt x="4050" y="116"/>
                  </a:lnTo>
                  <a:lnTo>
                    <a:pt x="4050" y="116"/>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1342800" y="3627720"/>
              <a:ext cx="111600" cy="845280"/>
            </a:xfrm>
            <a:custGeom>
              <a:avLst/>
              <a:gdLst/>
              <a:ahLst/>
              <a:rect l="l" t="t" r="r" b="b"/>
              <a:pathLst>
                <a:path w="3125" h="15750">
                  <a:moveTo>
                    <a:pt x="3125" y="0"/>
                  </a:moveTo>
                  <a:lnTo>
                    <a:pt x="3125" y="347"/>
                  </a:lnTo>
                  <a:lnTo>
                    <a:pt x="3125" y="811"/>
                  </a:lnTo>
                  <a:lnTo>
                    <a:pt x="3009" y="1274"/>
                  </a:lnTo>
                  <a:lnTo>
                    <a:pt x="2894" y="1737"/>
                  </a:lnTo>
                  <a:lnTo>
                    <a:pt x="2894" y="2084"/>
                  </a:lnTo>
                  <a:lnTo>
                    <a:pt x="2778" y="2548"/>
                  </a:lnTo>
                  <a:lnTo>
                    <a:pt x="2662" y="2895"/>
                  </a:lnTo>
                  <a:lnTo>
                    <a:pt x="2546" y="3358"/>
                  </a:lnTo>
                  <a:lnTo>
                    <a:pt x="2546" y="3358"/>
                  </a:lnTo>
                  <a:lnTo>
                    <a:pt x="2199" y="4748"/>
                  </a:lnTo>
                  <a:lnTo>
                    <a:pt x="1968" y="6138"/>
                  </a:lnTo>
                  <a:lnTo>
                    <a:pt x="1736" y="7528"/>
                  </a:lnTo>
                  <a:lnTo>
                    <a:pt x="1389" y="8917"/>
                  </a:lnTo>
                  <a:lnTo>
                    <a:pt x="1158" y="10307"/>
                  </a:lnTo>
                  <a:lnTo>
                    <a:pt x="926" y="11812"/>
                  </a:lnTo>
                  <a:lnTo>
                    <a:pt x="695" y="13086"/>
                  </a:lnTo>
                  <a:lnTo>
                    <a:pt x="463" y="14476"/>
                  </a:lnTo>
                  <a:lnTo>
                    <a:pt x="463" y="14476"/>
                  </a:lnTo>
                  <a:lnTo>
                    <a:pt x="348" y="14592"/>
                  </a:lnTo>
                  <a:lnTo>
                    <a:pt x="348" y="14824"/>
                  </a:lnTo>
                  <a:lnTo>
                    <a:pt x="348" y="14939"/>
                  </a:lnTo>
                  <a:lnTo>
                    <a:pt x="348" y="15055"/>
                  </a:lnTo>
                  <a:lnTo>
                    <a:pt x="232" y="15287"/>
                  </a:lnTo>
                  <a:lnTo>
                    <a:pt x="232" y="15403"/>
                  </a:lnTo>
                  <a:lnTo>
                    <a:pt x="232" y="15518"/>
                  </a:lnTo>
                  <a:lnTo>
                    <a:pt x="232" y="15750"/>
                  </a:lnTo>
                  <a:lnTo>
                    <a:pt x="232" y="15750"/>
                  </a:lnTo>
                  <a:lnTo>
                    <a:pt x="0" y="15750"/>
                  </a:lnTo>
                  <a:lnTo>
                    <a:pt x="0" y="15750"/>
                  </a:lnTo>
                  <a:lnTo>
                    <a:pt x="116" y="14824"/>
                  </a:lnTo>
                  <a:lnTo>
                    <a:pt x="348" y="14013"/>
                  </a:lnTo>
                  <a:lnTo>
                    <a:pt x="463" y="13086"/>
                  </a:lnTo>
                  <a:lnTo>
                    <a:pt x="579" y="12276"/>
                  </a:lnTo>
                  <a:lnTo>
                    <a:pt x="695" y="11349"/>
                  </a:lnTo>
                  <a:lnTo>
                    <a:pt x="810" y="10423"/>
                  </a:lnTo>
                  <a:lnTo>
                    <a:pt x="926" y="9612"/>
                  </a:lnTo>
                  <a:lnTo>
                    <a:pt x="1042" y="8686"/>
                  </a:lnTo>
                  <a:lnTo>
                    <a:pt x="1042" y="8686"/>
                  </a:lnTo>
                  <a:lnTo>
                    <a:pt x="1273" y="7643"/>
                  </a:lnTo>
                  <a:lnTo>
                    <a:pt x="1505" y="6601"/>
                  </a:lnTo>
                  <a:lnTo>
                    <a:pt x="1736" y="5559"/>
                  </a:lnTo>
                  <a:lnTo>
                    <a:pt x="1968" y="4516"/>
                  </a:lnTo>
                  <a:lnTo>
                    <a:pt x="2199" y="3358"/>
                  </a:lnTo>
                  <a:lnTo>
                    <a:pt x="2431" y="2316"/>
                  </a:lnTo>
                  <a:lnTo>
                    <a:pt x="2662" y="1274"/>
                  </a:lnTo>
                  <a:lnTo>
                    <a:pt x="2778" y="116"/>
                  </a:lnTo>
                  <a:lnTo>
                    <a:pt x="2778" y="116"/>
                  </a:lnTo>
                  <a:lnTo>
                    <a:pt x="2778" y="116"/>
                  </a:lnTo>
                  <a:lnTo>
                    <a:pt x="2894" y="0"/>
                  </a:lnTo>
                  <a:lnTo>
                    <a:pt x="2894" y="0"/>
                  </a:lnTo>
                  <a:lnTo>
                    <a:pt x="2894" y="0"/>
                  </a:lnTo>
                  <a:lnTo>
                    <a:pt x="3009" y="0"/>
                  </a:lnTo>
                  <a:lnTo>
                    <a:pt x="3009" y="0"/>
                  </a:lnTo>
                  <a:lnTo>
                    <a:pt x="3009" y="0"/>
                  </a:lnTo>
                  <a:lnTo>
                    <a:pt x="3125" y="0"/>
                  </a:lnTo>
                  <a:lnTo>
                    <a:pt x="3125" y="0"/>
                  </a:lnTo>
                  <a:lnTo>
                    <a:pt x="3125" y="0"/>
                  </a:lnTo>
                  <a:lnTo>
                    <a:pt x="3125" y="0"/>
                  </a:lnTo>
                  <a:lnTo>
                    <a:pt x="31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1363680" y="3627720"/>
              <a:ext cx="119880" cy="864000"/>
            </a:xfrm>
            <a:custGeom>
              <a:avLst/>
              <a:gdLst/>
              <a:ahLst/>
              <a:rect l="l" t="t" r="r" b="b"/>
              <a:pathLst>
                <a:path w="3356" h="16097">
                  <a:moveTo>
                    <a:pt x="3356" y="0"/>
                  </a:moveTo>
                  <a:lnTo>
                    <a:pt x="3125" y="1390"/>
                  </a:lnTo>
                  <a:lnTo>
                    <a:pt x="2893" y="2779"/>
                  </a:lnTo>
                  <a:lnTo>
                    <a:pt x="2662" y="4053"/>
                  </a:lnTo>
                  <a:lnTo>
                    <a:pt x="2315" y="5443"/>
                  </a:lnTo>
                  <a:lnTo>
                    <a:pt x="2083" y="6833"/>
                  </a:lnTo>
                  <a:lnTo>
                    <a:pt x="1736" y="8107"/>
                  </a:lnTo>
                  <a:lnTo>
                    <a:pt x="1505" y="9496"/>
                  </a:lnTo>
                  <a:lnTo>
                    <a:pt x="1273" y="10770"/>
                  </a:lnTo>
                  <a:lnTo>
                    <a:pt x="1273" y="10770"/>
                  </a:lnTo>
                  <a:lnTo>
                    <a:pt x="1157" y="11002"/>
                  </a:lnTo>
                  <a:lnTo>
                    <a:pt x="1157" y="11233"/>
                  </a:lnTo>
                  <a:lnTo>
                    <a:pt x="1042" y="11465"/>
                  </a:lnTo>
                  <a:lnTo>
                    <a:pt x="1042" y="11697"/>
                  </a:lnTo>
                  <a:lnTo>
                    <a:pt x="926" y="11928"/>
                  </a:lnTo>
                  <a:lnTo>
                    <a:pt x="926" y="12276"/>
                  </a:lnTo>
                  <a:lnTo>
                    <a:pt x="926" y="12507"/>
                  </a:lnTo>
                  <a:lnTo>
                    <a:pt x="810" y="12739"/>
                  </a:lnTo>
                  <a:lnTo>
                    <a:pt x="810" y="12739"/>
                  </a:lnTo>
                  <a:lnTo>
                    <a:pt x="926" y="13086"/>
                  </a:lnTo>
                  <a:lnTo>
                    <a:pt x="810" y="13550"/>
                  </a:lnTo>
                  <a:lnTo>
                    <a:pt x="810" y="13897"/>
                  </a:lnTo>
                  <a:lnTo>
                    <a:pt x="694" y="14360"/>
                  </a:lnTo>
                  <a:lnTo>
                    <a:pt x="579" y="14824"/>
                  </a:lnTo>
                  <a:lnTo>
                    <a:pt x="463" y="15171"/>
                  </a:lnTo>
                  <a:lnTo>
                    <a:pt x="463" y="15634"/>
                  </a:lnTo>
                  <a:lnTo>
                    <a:pt x="463" y="16097"/>
                  </a:lnTo>
                  <a:lnTo>
                    <a:pt x="463" y="16097"/>
                  </a:lnTo>
                  <a:lnTo>
                    <a:pt x="0" y="15982"/>
                  </a:lnTo>
                  <a:lnTo>
                    <a:pt x="0" y="15982"/>
                  </a:lnTo>
                  <a:lnTo>
                    <a:pt x="347" y="13897"/>
                  </a:lnTo>
                  <a:lnTo>
                    <a:pt x="694" y="11928"/>
                  </a:lnTo>
                  <a:lnTo>
                    <a:pt x="1042" y="9960"/>
                  </a:lnTo>
                  <a:lnTo>
                    <a:pt x="1389" y="7875"/>
                  </a:lnTo>
                  <a:lnTo>
                    <a:pt x="1852" y="5906"/>
                  </a:lnTo>
                  <a:lnTo>
                    <a:pt x="2199" y="3937"/>
                  </a:lnTo>
                  <a:lnTo>
                    <a:pt x="2546" y="1969"/>
                  </a:lnTo>
                  <a:lnTo>
                    <a:pt x="2893" y="0"/>
                  </a:lnTo>
                  <a:lnTo>
                    <a:pt x="2893" y="0"/>
                  </a:lnTo>
                  <a:lnTo>
                    <a:pt x="3009" y="0"/>
                  </a:lnTo>
                  <a:lnTo>
                    <a:pt x="3009" y="0"/>
                  </a:lnTo>
                  <a:lnTo>
                    <a:pt x="3125" y="0"/>
                  </a:lnTo>
                  <a:lnTo>
                    <a:pt x="3125" y="0"/>
                  </a:lnTo>
                  <a:lnTo>
                    <a:pt x="3240" y="0"/>
                  </a:lnTo>
                  <a:lnTo>
                    <a:pt x="3240" y="0"/>
                  </a:lnTo>
                  <a:lnTo>
                    <a:pt x="3356" y="0"/>
                  </a:lnTo>
                  <a:lnTo>
                    <a:pt x="3356" y="0"/>
                  </a:lnTo>
                  <a:lnTo>
                    <a:pt x="3356" y="0"/>
                  </a:lnTo>
                  <a:lnTo>
                    <a:pt x="3356" y="0"/>
                  </a:lnTo>
                  <a:lnTo>
                    <a:pt x="3356" y="0"/>
                  </a:lnTo>
                  <a:lnTo>
                    <a:pt x="3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1371960" y="3627720"/>
              <a:ext cx="144720" cy="1087920"/>
            </a:xfrm>
            <a:custGeom>
              <a:avLst/>
              <a:gdLst/>
              <a:ahLst/>
              <a:rect l="l" t="t" r="r" b="b"/>
              <a:pathLst>
                <a:path w="4051" h="20267">
                  <a:moveTo>
                    <a:pt x="3704" y="116"/>
                  </a:moveTo>
                  <a:lnTo>
                    <a:pt x="3935" y="0"/>
                  </a:lnTo>
                  <a:lnTo>
                    <a:pt x="4051" y="232"/>
                  </a:lnTo>
                  <a:lnTo>
                    <a:pt x="4051" y="232"/>
                  </a:lnTo>
                  <a:lnTo>
                    <a:pt x="3588" y="2779"/>
                  </a:lnTo>
                  <a:lnTo>
                    <a:pt x="3009" y="5211"/>
                  </a:lnTo>
                  <a:lnTo>
                    <a:pt x="2547" y="7643"/>
                  </a:lnTo>
                  <a:lnTo>
                    <a:pt x="1968" y="10075"/>
                  </a:lnTo>
                  <a:lnTo>
                    <a:pt x="1389" y="12623"/>
                  </a:lnTo>
                  <a:lnTo>
                    <a:pt x="926" y="15055"/>
                  </a:lnTo>
                  <a:lnTo>
                    <a:pt x="579" y="17603"/>
                  </a:lnTo>
                  <a:lnTo>
                    <a:pt x="348" y="20035"/>
                  </a:lnTo>
                  <a:lnTo>
                    <a:pt x="348" y="20035"/>
                  </a:lnTo>
                  <a:lnTo>
                    <a:pt x="348" y="20151"/>
                  </a:lnTo>
                  <a:lnTo>
                    <a:pt x="232" y="20151"/>
                  </a:lnTo>
                  <a:lnTo>
                    <a:pt x="232" y="20151"/>
                  </a:lnTo>
                  <a:lnTo>
                    <a:pt x="116" y="20151"/>
                  </a:lnTo>
                  <a:lnTo>
                    <a:pt x="116" y="20151"/>
                  </a:lnTo>
                  <a:lnTo>
                    <a:pt x="116" y="20267"/>
                  </a:lnTo>
                  <a:lnTo>
                    <a:pt x="0" y="20267"/>
                  </a:lnTo>
                  <a:lnTo>
                    <a:pt x="0" y="20267"/>
                  </a:lnTo>
                  <a:lnTo>
                    <a:pt x="0" y="20267"/>
                  </a:lnTo>
                  <a:lnTo>
                    <a:pt x="348" y="18761"/>
                  </a:lnTo>
                  <a:lnTo>
                    <a:pt x="579" y="17140"/>
                  </a:lnTo>
                  <a:lnTo>
                    <a:pt x="695" y="15634"/>
                  </a:lnTo>
                  <a:lnTo>
                    <a:pt x="926" y="14129"/>
                  </a:lnTo>
                  <a:lnTo>
                    <a:pt x="1042" y="12507"/>
                  </a:lnTo>
                  <a:lnTo>
                    <a:pt x="1158" y="11002"/>
                  </a:lnTo>
                  <a:lnTo>
                    <a:pt x="1505" y="9496"/>
                  </a:lnTo>
                  <a:lnTo>
                    <a:pt x="1852" y="7991"/>
                  </a:lnTo>
                  <a:lnTo>
                    <a:pt x="1852" y="7991"/>
                  </a:lnTo>
                  <a:lnTo>
                    <a:pt x="1968" y="6948"/>
                  </a:lnTo>
                  <a:lnTo>
                    <a:pt x="2199" y="5906"/>
                  </a:lnTo>
                  <a:lnTo>
                    <a:pt x="2431" y="4980"/>
                  </a:lnTo>
                  <a:lnTo>
                    <a:pt x="2778" y="4053"/>
                  </a:lnTo>
                  <a:lnTo>
                    <a:pt x="3009" y="3011"/>
                  </a:lnTo>
                  <a:lnTo>
                    <a:pt x="3241" y="2084"/>
                  </a:lnTo>
                  <a:lnTo>
                    <a:pt x="3472" y="1042"/>
                  </a:lnTo>
                  <a:lnTo>
                    <a:pt x="3588" y="0"/>
                  </a:lnTo>
                  <a:lnTo>
                    <a:pt x="3588" y="0"/>
                  </a:lnTo>
                  <a:lnTo>
                    <a:pt x="3704" y="0"/>
                  </a:lnTo>
                  <a:lnTo>
                    <a:pt x="3704" y="116"/>
                  </a:lnTo>
                  <a:lnTo>
                    <a:pt x="3704" y="116"/>
                  </a:lnTo>
                  <a:lnTo>
                    <a:pt x="3704" y="116"/>
                  </a:lnTo>
                  <a:lnTo>
                    <a:pt x="370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2017440" y="3640320"/>
              <a:ext cx="57600" cy="142920"/>
            </a:xfrm>
            <a:custGeom>
              <a:avLst/>
              <a:gdLst/>
              <a:ahLst/>
              <a:rect l="l" t="t" r="r" b="b"/>
              <a:pathLst>
                <a:path w="1620" h="2663">
                  <a:moveTo>
                    <a:pt x="1620" y="810"/>
                  </a:moveTo>
                  <a:lnTo>
                    <a:pt x="1620" y="1042"/>
                  </a:lnTo>
                  <a:lnTo>
                    <a:pt x="1620" y="1158"/>
                  </a:lnTo>
                  <a:lnTo>
                    <a:pt x="1620" y="1389"/>
                  </a:lnTo>
                  <a:lnTo>
                    <a:pt x="1620" y="1621"/>
                  </a:lnTo>
                  <a:lnTo>
                    <a:pt x="1620" y="1852"/>
                  </a:lnTo>
                  <a:lnTo>
                    <a:pt x="1504" y="1968"/>
                  </a:lnTo>
                  <a:lnTo>
                    <a:pt x="1388" y="2200"/>
                  </a:lnTo>
                  <a:lnTo>
                    <a:pt x="1388" y="2316"/>
                  </a:lnTo>
                  <a:lnTo>
                    <a:pt x="1388" y="2316"/>
                  </a:lnTo>
                  <a:lnTo>
                    <a:pt x="1273" y="2432"/>
                  </a:lnTo>
                  <a:lnTo>
                    <a:pt x="1157" y="2432"/>
                  </a:lnTo>
                  <a:lnTo>
                    <a:pt x="1157" y="2547"/>
                  </a:lnTo>
                  <a:lnTo>
                    <a:pt x="1041" y="2547"/>
                  </a:lnTo>
                  <a:lnTo>
                    <a:pt x="1041" y="2663"/>
                  </a:lnTo>
                  <a:lnTo>
                    <a:pt x="926" y="2663"/>
                  </a:lnTo>
                  <a:lnTo>
                    <a:pt x="810" y="2663"/>
                  </a:lnTo>
                  <a:lnTo>
                    <a:pt x="810" y="2663"/>
                  </a:lnTo>
                  <a:lnTo>
                    <a:pt x="810" y="2663"/>
                  </a:lnTo>
                  <a:lnTo>
                    <a:pt x="926" y="2432"/>
                  </a:lnTo>
                  <a:lnTo>
                    <a:pt x="926" y="2200"/>
                  </a:lnTo>
                  <a:lnTo>
                    <a:pt x="1041" y="1968"/>
                  </a:lnTo>
                  <a:lnTo>
                    <a:pt x="1157" y="1737"/>
                  </a:lnTo>
                  <a:lnTo>
                    <a:pt x="1157" y="1505"/>
                  </a:lnTo>
                  <a:lnTo>
                    <a:pt x="1157" y="1158"/>
                  </a:lnTo>
                  <a:lnTo>
                    <a:pt x="1041" y="926"/>
                  </a:lnTo>
                  <a:lnTo>
                    <a:pt x="1041" y="694"/>
                  </a:lnTo>
                  <a:lnTo>
                    <a:pt x="1041" y="694"/>
                  </a:lnTo>
                  <a:lnTo>
                    <a:pt x="926" y="579"/>
                  </a:lnTo>
                  <a:lnTo>
                    <a:pt x="810" y="463"/>
                  </a:lnTo>
                  <a:lnTo>
                    <a:pt x="694" y="347"/>
                  </a:lnTo>
                  <a:lnTo>
                    <a:pt x="578" y="347"/>
                  </a:lnTo>
                  <a:lnTo>
                    <a:pt x="463" y="231"/>
                  </a:lnTo>
                  <a:lnTo>
                    <a:pt x="231" y="231"/>
                  </a:lnTo>
                  <a:lnTo>
                    <a:pt x="115" y="231"/>
                  </a:lnTo>
                  <a:lnTo>
                    <a:pt x="0" y="347"/>
                  </a:lnTo>
                  <a:lnTo>
                    <a:pt x="0" y="347"/>
                  </a:lnTo>
                  <a:lnTo>
                    <a:pt x="0" y="115"/>
                  </a:lnTo>
                  <a:lnTo>
                    <a:pt x="0" y="115"/>
                  </a:lnTo>
                  <a:lnTo>
                    <a:pt x="115" y="0"/>
                  </a:lnTo>
                  <a:lnTo>
                    <a:pt x="347" y="0"/>
                  </a:lnTo>
                  <a:lnTo>
                    <a:pt x="578" y="0"/>
                  </a:lnTo>
                  <a:lnTo>
                    <a:pt x="810" y="0"/>
                  </a:lnTo>
                  <a:lnTo>
                    <a:pt x="1041" y="115"/>
                  </a:lnTo>
                  <a:lnTo>
                    <a:pt x="1273" y="347"/>
                  </a:lnTo>
                  <a:lnTo>
                    <a:pt x="1504" y="579"/>
                  </a:lnTo>
                  <a:lnTo>
                    <a:pt x="1620" y="810"/>
                  </a:lnTo>
                  <a:lnTo>
                    <a:pt x="1620" y="810"/>
                  </a:lnTo>
                  <a:lnTo>
                    <a:pt x="1620" y="810"/>
                  </a:lnTo>
                  <a:lnTo>
                    <a:pt x="1620" y="810"/>
                  </a:lnTo>
                  <a:lnTo>
                    <a:pt x="1620" y="8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2088000" y="3659040"/>
              <a:ext cx="41040" cy="136800"/>
            </a:xfrm>
            <a:custGeom>
              <a:avLst/>
              <a:gdLst/>
              <a:ahLst/>
              <a:rect l="l" t="t" r="r" b="b"/>
              <a:pathLst>
                <a:path w="1157" h="2548">
                  <a:moveTo>
                    <a:pt x="1042" y="811"/>
                  </a:moveTo>
                  <a:lnTo>
                    <a:pt x="1042" y="926"/>
                  </a:lnTo>
                  <a:lnTo>
                    <a:pt x="1157" y="1158"/>
                  </a:lnTo>
                  <a:lnTo>
                    <a:pt x="1157" y="1274"/>
                  </a:lnTo>
                  <a:lnTo>
                    <a:pt x="1157" y="1505"/>
                  </a:lnTo>
                  <a:lnTo>
                    <a:pt x="1157" y="1621"/>
                  </a:lnTo>
                  <a:lnTo>
                    <a:pt x="1157" y="1853"/>
                  </a:lnTo>
                  <a:lnTo>
                    <a:pt x="1157" y="1969"/>
                  </a:lnTo>
                  <a:lnTo>
                    <a:pt x="1042" y="2200"/>
                  </a:lnTo>
                  <a:lnTo>
                    <a:pt x="1042" y="2200"/>
                  </a:lnTo>
                  <a:lnTo>
                    <a:pt x="695" y="2548"/>
                  </a:lnTo>
                  <a:lnTo>
                    <a:pt x="695" y="2548"/>
                  </a:lnTo>
                  <a:lnTo>
                    <a:pt x="695" y="2200"/>
                  </a:lnTo>
                  <a:lnTo>
                    <a:pt x="695" y="1969"/>
                  </a:lnTo>
                  <a:lnTo>
                    <a:pt x="810" y="1621"/>
                  </a:lnTo>
                  <a:lnTo>
                    <a:pt x="810" y="1274"/>
                  </a:lnTo>
                  <a:lnTo>
                    <a:pt x="810" y="1042"/>
                  </a:lnTo>
                  <a:lnTo>
                    <a:pt x="695" y="811"/>
                  </a:lnTo>
                  <a:lnTo>
                    <a:pt x="463" y="579"/>
                  </a:lnTo>
                  <a:lnTo>
                    <a:pt x="116" y="347"/>
                  </a:lnTo>
                  <a:lnTo>
                    <a:pt x="116" y="347"/>
                  </a:lnTo>
                  <a:lnTo>
                    <a:pt x="0" y="0"/>
                  </a:lnTo>
                  <a:lnTo>
                    <a:pt x="0" y="0"/>
                  </a:lnTo>
                  <a:lnTo>
                    <a:pt x="116" y="116"/>
                  </a:lnTo>
                  <a:lnTo>
                    <a:pt x="347" y="116"/>
                  </a:lnTo>
                  <a:lnTo>
                    <a:pt x="463" y="116"/>
                  </a:lnTo>
                  <a:lnTo>
                    <a:pt x="579" y="232"/>
                  </a:lnTo>
                  <a:lnTo>
                    <a:pt x="810" y="347"/>
                  </a:lnTo>
                  <a:lnTo>
                    <a:pt x="926" y="463"/>
                  </a:lnTo>
                  <a:lnTo>
                    <a:pt x="926" y="579"/>
                  </a:lnTo>
                  <a:lnTo>
                    <a:pt x="1042" y="811"/>
                  </a:lnTo>
                  <a:lnTo>
                    <a:pt x="1042" y="811"/>
                  </a:lnTo>
                  <a:lnTo>
                    <a:pt x="1042" y="811"/>
                  </a:lnTo>
                  <a:lnTo>
                    <a:pt x="1042" y="811"/>
                  </a:lnTo>
                  <a:lnTo>
                    <a:pt x="1042" y="8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2137680" y="3671280"/>
              <a:ext cx="41040" cy="130320"/>
            </a:xfrm>
            <a:custGeom>
              <a:avLst/>
              <a:gdLst/>
              <a:ahLst/>
              <a:rect l="l" t="t" r="r" b="b"/>
              <a:pathLst>
                <a:path w="1157" h="2432">
                  <a:moveTo>
                    <a:pt x="1157" y="926"/>
                  </a:moveTo>
                  <a:lnTo>
                    <a:pt x="1157" y="1158"/>
                  </a:lnTo>
                  <a:lnTo>
                    <a:pt x="1157" y="1389"/>
                  </a:lnTo>
                  <a:lnTo>
                    <a:pt x="1157" y="1505"/>
                  </a:lnTo>
                  <a:lnTo>
                    <a:pt x="1157" y="1737"/>
                  </a:lnTo>
                  <a:lnTo>
                    <a:pt x="1042" y="1968"/>
                  </a:lnTo>
                  <a:lnTo>
                    <a:pt x="926" y="2200"/>
                  </a:lnTo>
                  <a:lnTo>
                    <a:pt x="810" y="2316"/>
                  </a:lnTo>
                  <a:lnTo>
                    <a:pt x="579" y="2432"/>
                  </a:lnTo>
                  <a:lnTo>
                    <a:pt x="579" y="2432"/>
                  </a:lnTo>
                  <a:lnTo>
                    <a:pt x="694" y="2316"/>
                  </a:lnTo>
                  <a:lnTo>
                    <a:pt x="694" y="2200"/>
                  </a:lnTo>
                  <a:lnTo>
                    <a:pt x="694" y="1968"/>
                  </a:lnTo>
                  <a:lnTo>
                    <a:pt x="810" y="1853"/>
                  </a:lnTo>
                  <a:lnTo>
                    <a:pt x="810" y="1621"/>
                  </a:lnTo>
                  <a:lnTo>
                    <a:pt x="926" y="1389"/>
                  </a:lnTo>
                  <a:lnTo>
                    <a:pt x="926" y="1273"/>
                  </a:lnTo>
                  <a:lnTo>
                    <a:pt x="810" y="1042"/>
                  </a:lnTo>
                  <a:lnTo>
                    <a:pt x="810" y="1042"/>
                  </a:lnTo>
                  <a:lnTo>
                    <a:pt x="810" y="926"/>
                  </a:lnTo>
                  <a:lnTo>
                    <a:pt x="694" y="810"/>
                  </a:lnTo>
                  <a:lnTo>
                    <a:pt x="463" y="694"/>
                  </a:lnTo>
                  <a:lnTo>
                    <a:pt x="347" y="579"/>
                  </a:lnTo>
                  <a:lnTo>
                    <a:pt x="231" y="463"/>
                  </a:lnTo>
                  <a:lnTo>
                    <a:pt x="116" y="347"/>
                  </a:lnTo>
                  <a:lnTo>
                    <a:pt x="0" y="231"/>
                  </a:lnTo>
                  <a:lnTo>
                    <a:pt x="0" y="0"/>
                  </a:lnTo>
                  <a:lnTo>
                    <a:pt x="0" y="0"/>
                  </a:lnTo>
                  <a:lnTo>
                    <a:pt x="116" y="0"/>
                  </a:lnTo>
                  <a:lnTo>
                    <a:pt x="347" y="0"/>
                  </a:lnTo>
                  <a:lnTo>
                    <a:pt x="579" y="115"/>
                  </a:lnTo>
                  <a:lnTo>
                    <a:pt x="694" y="231"/>
                  </a:lnTo>
                  <a:lnTo>
                    <a:pt x="810" y="347"/>
                  </a:lnTo>
                  <a:lnTo>
                    <a:pt x="926" y="579"/>
                  </a:lnTo>
                  <a:lnTo>
                    <a:pt x="1042" y="810"/>
                  </a:lnTo>
                  <a:lnTo>
                    <a:pt x="1157" y="926"/>
                  </a:lnTo>
                  <a:lnTo>
                    <a:pt x="1157" y="926"/>
                  </a:lnTo>
                  <a:lnTo>
                    <a:pt x="1157" y="926"/>
                  </a:lnTo>
                  <a:lnTo>
                    <a:pt x="1157" y="926"/>
                  </a:lnTo>
                  <a:lnTo>
                    <a:pt x="1157"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2195640" y="3690000"/>
              <a:ext cx="28800" cy="111600"/>
            </a:xfrm>
            <a:custGeom>
              <a:avLst/>
              <a:gdLst/>
              <a:ahLst/>
              <a:rect l="l" t="t" r="r" b="b"/>
              <a:pathLst>
                <a:path w="810" h="2085">
                  <a:moveTo>
                    <a:pt x="810" y="579"/>
                  </a:moveTo>
                  <a:lnTo>
                    <a:pt x="810" y="811"/>
                  </a:lnTo>
                  <a:lnTo>
                    <a:pt x="810" y="1042"/>
                  </a:lnTo>
                  <a:lnTo>
                    <a:pt x="810" y="1158"/>
                  </a:lnTo>
                  <a:lnTo>
                    <a:pt x="810" y="1390"/>
                  </a:lnTo>
                  <a:lnTo>
                    <a:pt x="695" y="1621"/>
                  </a:lnTo>
                  <a:lnTo>
                    <a:pt x="695" y="1737"/>
                  </a:lnTo>
                  <a:lnTo>
                    <a:pt x="579" y="1969"/>
                  </a:lnTo>
                  <a:lnTo>
                    <a:pt x="347" y="2085"/>
                  </a:lnTo>
                  <a:lnTo>
                    <a:pt x="347" y="2085"/>
                  </a:lnTo>
                  <a:lnTo>
                    <a:pt x="463" y="1969"/>
                  </a:lnTo>
                  <a:lnTo>
                    <a:pt x="463" y="1737"/>
                  </a:lnTo>
                  <a:lnTo>
                    <a:pt x="579" y="1506"/>
                  </a:lnTo>
                  <a:lnTo>
                    <a:pt x="579" y="1274"/>
                  </a:lnTo>
                  <a:lnTo>
                    <a:pt x="579" y="1042"/>
                  </a:lnTo>
                  <a:lnTo>
                    <a:pt x="579" y="811"/>
                  </a:lnTo>
                  <a:lnTo>
                    <a:pt x="579" y="579"/>
                  </a:lnTo>
                  <a:lnTo>
                    <a:pt x="347" y="347"/>
                  </a:lnTo>
                  <a:lnTo>
                    <a:pt x="347" y="347"/>
                  </a:lnTo>
                  <a:lnTo>
                    <a:pt x="0" y="0"/>
                  </a:lnTo>
                  <a:lnTo>
                    <a:pt x="0" y="0"/>
                  </a:lnTo>
                  <a:lnTo>
                    <a:pt x="232" y="0"/>
                  </a:lnTo>
                  <a:lnTo>
                    <a:pt x="347" y="0"/>
                  </a:lnTo>
                  <a:lnTo>
                    <a:pt x="463" y="116"/>
                  </a:lnTo>
                  <a:lnTo>
                    <a:pt x="463" y="116"/>
                  </a:lnTo>
                  <a:lnTo>
                    <a:pt x="579" y="232"/>
                  </a:lnTo>
                  <a:lnTo>
                    <a:pt x="695" y="347"/>
                  </a:lnTo>
                  <a:lnTo>
                    <a:pt x="695" y="463"/>
                  </a:lnTo>
                  <a:lnTo>
                    <a:pt x="810" y="579"/>
                  </a:lnTo>
                  <a:lnTo>
                    <a:pt x="810" y="579"/>
                  </a:lnTo>
                  <a:lnTo>
                    <a:pt x="810" y="579"/>
                  </a:lnTo>
                  <a:lnTo>
                    <a:pt x="810" y="579"/>
                  </a:lnTo>
                  <a:lnTo>
                    <a:pt x="810"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2237040" y="3702600"/>
              <a:ext cx="37080" cy="118080"/>
            </a:xfrm>
            <a:custGeom>
              <a:avLst/>
              <a:gdLst/>
              <a:ahLst/>
              <a:rect l="l" t="t" r="r" b="b"/>
              <a:pathLst>
                <a:path w="1042" h="2200">
                  <a:moveTo>
                    <a:pt x="1042" y="694"/>
                  </a:moveTo>
                  <a:lnTo>
                    <a:pt x="1042" y="926"/>
                  </a:lnTo>
                  <a:lnTo>
                    <a:pt x="1042" y="1042"/>
                  </a:lnTo>
                  <a:lnTo>
                    <a:pt x="1042" y="1274"/>
                  </a:lnTo>
                  <a:lnTo>
                    <a:pt x="926" y="1505"/>
                  </a:lnTo>
                  <a:lnTo>
                    <a:pt x="926" y="1737"/>
                  </a:lnTo>
                  <a:lnTo>
                    <a:pt x="811" y="1853"/>
                  </a:lnTo>
                  <a:lnTo>
                    <a:pt x="579" y="2084"/>
                  </a:lnTo>
                  <a:lnTo>
                    <a:pt x="463" y="2200"/>
                  </a:lnTo>
                  <a:lnTo>
                    <a:pt x="463" y="2200"/>
                  </a:lnTo>
                  <a:lnTo>
                    <a:pt x="116" y="2200"/>
                  </a:lnTo>
                  <a:lnTo>
                    <a:pt x="116" y="2200"/>
                  </a:lnTo>
                  <a:lnTo>
                    <a:pt x="232" y="1968"/>
                  </a:lnTo>
                  <a:lnTo>
                    <a:pt x="348" y="1737"/>
                  </a:lnTo>
                  <a:lnTo>
                    <a:pt x="463" y="1621"/>
                  </a:lnTo>
                  <a:lnTo>
                    <a:pt x="463" y="1389"/>
                  </a:lnTo>
                  <a:lnTo>
                    <a:pt x="579" y="1274"/>
                  </a:lnTo>
                  <a:lnTo>
                    <a:pt x="579" y="1042"/>
                  </a:lnTo>
                  <a:lnTo>
                    <a:pt x="579" y="810"/>
                  </a:lnTo>
                  <a:lnTo>
                    <a:pt x="463" y="579"/>
                  </a:lnTo>
                  <a:lnTo>
                    <a:pt x="463" y="579"/>
                  </a:lnTo>
                  <a:lnTo>
                    <a:pt x="0" y="0"/>
                  </a:lnTo>
                  <a:lnTo>
                    <a:pt x="0" y="0"/>
                  </a:lnTo>
                  <a:lnTo>
                    <a:pt x="116" y="0"/>
                  </a:lnTo>
                  <a:lnTo>
                    <a:pt x="348" y="0"/>
                  </a:lnTo>
                  <a:lnTo>
                    <a:pt x="463" y="0"/>
                  </a:lnTo>
                  <a:lnTo>
                    <a:pt x="579" y="115"/>
                  </a:lnTo>
                  <a:lnTo>
                    <a:pt x="811" y="231"/>
                  </a:lnTo>
                  <a:lnTo>
                    <a:pt x="926" y="347"/>
                  </a:lnTo>
                  <a:lnTo>
                    <a:pt x="1042" y="579"/>
                  </a:lnTo>
                  <a:lnTo>
                    <a:pt x="1042" y="694"/>
                  </a:lnTo>
                  <a:lnTo>
                    <a:pt x="1042" y="694"/>
                  </a:lnTo>
                  <a:lnTo>
                    <a:pt x="1042" y="694"/>
                  </a:lnTo>
                  <a:lnTo>
                    <a:pt x="1042" y="694"/>
                  </a:lnTo>
                  <a:lnTo>
                    <a:pt x="1042" y="6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1645200" y="3845520"/>
              <a:ext cx="223200" cy="397800"/>
            </a:xfrm>
            <a:custGeom>
              <a:avLst/>
              <a:gdLst/>
              <a:ahLst/>
              <a:rect l="l" t="t" r="r" b="b"/>
              <a:pathLst>
                <a:path w="6249" h="7412">
                  <a:moveTo>
                    <a:pt x="5439" y="1969"/>
                  </a:moveTo>
                  <a:lnTo>
                    <a:pt x="5439" y="2085"/>
                  </a:lnTo>
                  <a:lnTo>
                    <a:pt x="5555" y="2085"/>
                  </a:lnTo>
                  <a:lnTo>
                    <a:pt x="5555" y="2085"/>
                  </a:lnTo>
                  <a:lnTo>
                    <a:pt x="5671" y="2085"/>
                  </a:lnTo>
                  <a:lnTo>
                    <a:pt x="5671" y="2085"/>
                  </a:lnTo>
                  <a:lnTo>
                    <a:pt x="5786" y="2085"/>
                  </a:lnTo>
                  <a:lnTo>
                    <a:pt x="5902" y="2085"/>
                  </a:lnTo>
                  <a:lnTo>
                    <a:pt x="5902" y="2085"/>
                  </a:lnTo>
                  <a:lnTo>
                    <a:pt x="5902" y="2085"/>
                  </a:lnTo>
                  <a:lnTo>
                    <a:pt x="6018" y="1969"/>
                  </a:lnTo>
                  <a:lnTo>
                    <a:pt x="6018" y="1969"/>
                  </a:lnTo>
                  <a:lnTo>
                    <a:pt x="6018" y="1969"/>
                  </a:lnTo>
                  <a:lnTo>
                    <a:pt x="6018" y="1969"/>
                  </a:lnTo>
                  <a:lnTo>
                    <a:pt x="6018" y="1853"/>
                  </a:lnTo>
                  <a:lnTo>
                    <a:pt x="6018" y="1853"/>
                  </a:lnTo>
                  <a:lnTo>
                    <a:pt x="6134" y="1737"/>
                  </a:lnTo>
                  <a:lnTo>
                    <a:pt x="6134" y="1737"/>
                  </a:lnTo>
                  <a:lnTo>
                    <a:pt x="6134" y="1737"/>
                  </a:lnTo>
                  <a:lnTo>
                    <a:pt x="6249" y="1737"/>
                  </a:lnTo>
                  <a:lnTo>
                    <a:pt x="6249" y="1737"/>
                  </a:lnTo>
                  <a:lnTo>
                    <a:pt x="6249" y="1853"/>
                  </a:lnTo>
                  <a:lnTo>
                    <a:pt x="6249" y="1969"/>
                  </a:lnTo>
                  <a:lnTo>
                    <a:pt x="6249" y="2085"/>
                  </a:lnTo>
                  <a:lnTo>
                    <a:pt x="6134" y="2201"/>
                  </a:lnTo>
                  <a:lnTo>
                    <a:pt x="6018" y="2316"/>
                  </a:lnTo>
                  <a:lnTo>
                    <a:pt x="5902" y="2432"/>
                  </a:lnTo>
                  <a:lnTo>
                    <a:pt x="5786" y="2548"/>
                  </a:lnTo>
                  <a:lnTo>
                    <a:pt x="5671" y="2548"/>
                  </a:lnTo>
                  <a:lnTo>
                    <a:pt x="5671" y="2548"/>
                  </a:lnTo>
                  <a:lnTo>
                    <a:pt x="5671" y="2548"/>
                  </a:lnTo>
                  <a:lnTo>
                    <a:pt x="5671" y="2548"/>
                  </a:lnTo>
                  <a:lnTo>
                    <a:pt x="5671" y="2548"/>
                  </a:lnTo>
                  <a:lnTo>
                    <a:pt x="5555" y="2548"/>
                  </a:lnTo>
                  <a:lnTo>
                    <a:pt x="5555" y="2548"/>
                  </a:lnTo>
                  <a:lnTo>
                    <a:pt x="5555" y="2548"/>
                  </a:lnTo>
                  <a:lnTo>
                    <a:pt x="5555" y="2548"/>
                  </a:lnTo>
                  <a:lnTo>
                    <a:pt x="5555" y="2548"/>
                  </a:lnTo>
                  <a:lnTo>
                    <a:pt x="5555" y="2548"/>
                  </a:lnTo>
                  <a:lnTo>
                    <a:pt x="5555" y="3127"/>
                  </a:lnTo>
                  <a:lnTo>
                    <a:pt x="5555" y="3822"/>
                  </a:lnTo>
                  <a:lnTo>
                    <a:pt x="5555" y="4401"/>
                  </a:lnTo>
                  <a:lnTo>
                    <a:pt x="5323" y="4980"/>
                  </a:lnTo>
                  <a:lnTo>
                    <a:pt x="5208" y="5675"/>
                  </a:lnTo>
                  <a:lnTo>
                    <a:pt x="4861" y="6138"/>
                  </a:lnTo>
                  <a:lnTo>
                    <a:pt x="4398" y="6601"/>
                  </a:lnTo>
                  <a:lnTo>
                    <a:pt x="3935" y="7065"/>
                  </a:lnTo>
                  <a:lnTo>
                    <a:pt x="3935" y="7065"/>
                  </a:lnTo>
                  <a:lnTo>
                    <a:pt x="3703" y="7180"/>
                  </a:lnTo>
                  <a:lnTo>
                    <a:pt x="3356" y="7296"/>
                  </a:lnTo>
                  <a:lnTo>
                    <a:pt x="3125" y="7412"/>
                  </a:lnTo>
                  <a:lnTo>
                    <a:pt x="2893" y="7412"/>
                  </a:lnTo>
                  <a:lnTo>
                    <a:pt x="2546" y="7412"/>
                  </a:lnTo>
                  <a:lnTo>
                    <a:pt x="2199" y="7412"/>
                  </a:lnTo>
                  <a:lnTo>
                    <a:pt x="1967" y="7296"/>
                  </a:lnTo>
                  <a:lnTo>
                    <a:pt x="1620" y="7296"/>
                  </a:lnTo>
                  <a:lnTo>
                    <a:pt x="1620" y="7296"/>
                  </a:lnTo>
                  <a:lnTo>
                    <a:pt x="1389" y="7180"/>
                  </a:lnTo>
                  <a:lnTo>
                    <a:pt x="1157" y="7065"/>
                  </a:lnTo>
                  <a:lnTo>
                    <a:pt x="926" y="6949"/>
                  </a:lnTo>
                  <a:lnTo>
                    <a:pt x="694" y="6717"/>
                  </a:lnTo>
                  <a:lnTo>
                    <a:pt x="578" y="6601"/>
                  </a:lnTo>
                  <a:lnTo>
                    <a:pt x="347" y="6370"/>
                  </a:lnTo>
                  <a:lnTo>
                    <a:pt x="231" y="6138"/>
                  </a:lnTo>
                  <a:lnTo>
                    <a:pt x="116" y="5907"/>
                  </a:lnTo>
                  <a:lnTo>
                    <a:pt x="116" y="5907"/>
                  </a:lnTo>
                  <a:lnTo>
                    <a:pt x="0" y="5559"/>
                  </a:lnTo>
                  <a:lnTo>
                    <a:pt x="0" y="5096"/>
                  </a:lnTo>
                  <a:lnTo>
                    <a:pt x="0" y="4748"/>
                  </a:lnTo>
                  <a:lnTo>
                    <a:pt x="0" y="4285"/>
                  </a:lnTo>
                  <a:lnTo>
                    <a:pt x="0" y="3938"/>
                  </a:lnTo>
                  <a:lnTo>
                    <a:pt x="116" y="3590"/>
                  </a:lnTo>
                  <a:lnTo>
                    <a:pt x="347" y="3243"/>
                  </a:lnTo>
                  <a:lnTo>
                    <a:pt x="578" y="2895"/>
                  </a:lnTo>
                  <a:lnTo>
                    <a:pt x="578" y="2895"/>
                  </a:lnTo>
                  <a:lnTo>
                    <a:pt x="926" y="2432"/>
                  </a:lnTo>
                  <a:lnTo>
                    <a:pt x="1273" y="2085"/>
                  </a:lnTo>
                  <a:lnTo>
                    <a:pt x="1736" y="1853"/>
                  </a:lnTo>
                  <a:lnTo>
                    <a:pt x="2083" y="1622"/>
                  </a:lnTo>
                  <a:lnTo>
                    <a:pt x="2546" y="1390"/>
                  </a:lnTo>
                  <a:lnTo>
                    <a:pt x="3009" y="1274"/>
                  </a:lnTo>
                  <a:lnTo>
                    <a:pt x="3587" y="1158"/>
                  </a:lnTo>
                  <a:lnTo>
                    <a:pt x="4050" y="1158"/>
                  </a:lnTo>
                  <a:lnTo>
                    <a:pt x="4050" y="1158"/>
                  </a:lnTo>
                  <a:lnTo>
                    <a:pt x="3587" y="927"/>
                  </a:lnTo>
                  <a:lnTo>
                    <a:pt x="3240" y="811"/>
                  </a:lnTo>
                  <a:lnTo>
                    <a:pt x="2777" y="579"/>
                  </a:lnTo>
                  <a:lnTo>
                    <a:pt x="2314" y="463"/>
                  </a:lnTo>
                  <a:lnTo>
                    <a:pt x="1851" y="463"/>
                  </a:lnTo>
                  <a:lnTo>
                    <a:pt x="1389" y="463"/>
                  </a:lnTo>
                  <a:lnTo>
                    <a:pt x="926" y="579"/>
                  </a:lnTo>
                  <a:lnTo>
                    <a:pt x="578" y="695"/>
                  </a:lnTo>
                  <a:lnTo>
                    <a:pt x="578" y="695"/>
                  </a:lnTo>
                  <a:lnTo>
                    <a:pt x="578" y="463"/>
                  </a:lnTo>
                  <a:lnTo>
                    <a:pt x="694" y="348"/>
                  </a:lnTo>
                  <a:lnTo>
                    <a:pt x="926" y="232"/>
                  </a:lnTo>
                  <a:lnTo>
                    <a:pt x="1041" y="116"/>
                  </a:lnTo>
                  <a:lnTo>
                    <a:pt x="1273" y="116"/>
                  </a:lnTo>
                  <a:lnTo>
                    <a:pt x="1504" y="0"/>
                  </a:lnTo>
                  <a:lnTo>
                    <a:pt x="1620" y="0"/>
                  </a:lnTo>
                  <a:lnTo>
                    <a:pt x="1851" y="0"/>
                  </a:lnTo>
                  <a:lnTo>
                    <a:pt x="1851" y="0"/>
                  </a:lnTo>
                  <a:lnTo>
                    <a:pt x="2314" y="116"/>
                  </a:lnTo>
                  <a:lnTo>
                    <a:pt x="2777" y="232"/>
                  </a:lnTo>
                  <a:lnTo>
                    <a:pt x="3356" y="463"/>
                  </a:lnTo>
                  <a:lnTo>
                    <a:pt x="3819" y="579"/>
                  </a:lnTo>
                  <a:lnTo>
                    <a:pt x="4282" y="811"/>
                  </a:lnTo>
                  <a:lnTo>
                    <a:pt x="4745" y="1043"/>
                  </a:lnTo>
                  <a:lnTo>
                    <a:pt x="5092" y="1506"/>
                  </a:lnTo>
                  <a:lnTo>
                    <a:pt x="5439" y="1969"/>
                  </a:lnTo>
                  <a:lnTo>
                    <a:pt x="5439" y="1969"/>
                  </a:lnTo>
                  <a:lnTo>
                    <a:pt x="5439" y="1969"/>
                  </a:lnTo>
                  <a:lnTo>
                    <a:pt x="5439" y="1969"/>
                  </a:lnTo>
                  <a:lnTo>
                    <a:pt x="5439" y="1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1877040" y="3901320"/>
              <a:ext cx="186120" cy="410040"/>
            </a:xfrm>
            <a:custGeom>
              <a:avLst/>
              <a:gdLst/>
              <a:ahLst/>
              <a:rect l="l" t="t" r="r" b="b"/>
              <a:pathLst>
                <a:path w="5208" h="7643">
                  <a:moveTo>
                    <a:pt x="4976" y="347"/>
                  </a:moveTo>
                  <a:lnTo>
                    <a:pt x="4976" y="347"/>
                  </a:lnTo>
                  <a:lnTo>
                    <a:pt x="4861" y="347"/>
                  </a:lnTo>
                  <a:lnTo>
                    <a:pt x="4745" y="347"/>
                  </a:lnTo>
                  <a:lnTo>
                    <a:pt x="4629" y="347"/>
                  </a:lnTo>
                  <a:lnTo>
                    <a:pt x="4513" y="347"/>
                  </a:lnTo>
                  <a:lnTo>
                    <a:pt x="4398" y="347"/>
                  </a:lnTo>
                  <a:lnTo>
                    <a:pt x="4282" y="231"/>
                  </a:lnTo>
                  <a:lnTo>
                    <a:pt x="4166" y="347"/>
                  </a:lnTo>
                  <a:lnTo>
                    <a:pt x="4166" y="347"/>
                  </a:lnTo>
                  <a:lnTo>
                    <a:pt x="4050" y="347"/>
                  </a:lnTo>
                  <a:lnTo>
                    <a:pt x="3819" y="463"/>
                  </a:lnTo>
                  <a:lnTo>
                    <a:pt x="3703" y="463"/>
                  </a:lnTo>
                  <a:lnTo>
                    <a:pt x="3472" y="579"/>
                  </a:lnTo>
                  <a:lnTo>
                    <a:pt x="3356" y="579"/>
                  </a:lnTo>
                  <a:lnTo>
                    <a:pt x="3240" y="694"/>
                  </a:lnTo>
                  <a:lnTo>
                    <a:pt x="3009" y="810"/>
                  </a:lnTo>
                  <a:lnTo>
                    <a:pt x="2893" y="926"/>
                  </a:lnTo>
                  <a:lnTo>
                    <a:pt x="2893" y="926"/>
                  </a:lnTo>
                  <a:lnTo>
                    <a:pt x="3240" y="926"/>
                  </a:lnTo>
                  <a:lnTo>
                    <a:pt x="3472" y="1042"/>
                  </a:lnTo>
                  <a:lnTo>
                    <a:pt x="3819" y="1158"/>
                  </a:lnTo>
                  <a:lnTo>
                    <a:pt x="4050" y="1273"/>
                  </a:lnTo>
                  <a:lnTo>
                    <a:pt x="4282" y="1389"/>
                  </a:lnTo>
                  <a:lnTo>
                    <a:pt x="4513" y="1621"/>
                  </a:lnTo>
                  <a:lnTo>
                    <a:pt x="4745" y="1852"/>
                  </a:lnTo>
                  <a:lnTo>
                    <a:pt x="4976" y="2084"/>
                  </a:lnTo>
                  <a:lnTo>
                    <a:pt x="4976" y="2084"/>
                  </a:lnTo>
                  <a:lnTo>
                    <a:pt x="5092" y="2663"/>
                  </a:lnTo>
                  <a:lnTo>
                    <a:pt x="5208" y="3242"/>
                  </a:lnTo>
                  <a:lnTo>
                    <a:pt x="5208" y="3821"/>
                  </a:lnTo>
                  <a:lnTo>
                    <a:pt x="5092" y="4400"/>
                  </a:lnTo>
                  <a:lnTo>
                    <a:pt x="4976" y="4979"/>
                  </a:lnTo>
                  <a:lnTo>
                    <a:pt x="4745" y="5558"/>
                  </a:lnTo>
                  <a:lnTo>
                    <a:pt x="4513" y="6137"/>
                  </a:lnTo>
                  <a:lnTo>
                    <a:pt x="4166" y="6601"/>
                  </a:lnTo>
                  <a:lnTo>
                    <a:pt x="4166" y="6601"/>
                  </a:lnTo>
                  <a:lnTo>
                    <a:pt x="3819" y="6948"/>
                  </a:lnTo>
                  <a:lnTo>
                    <a:pt x="3472" y="7180"/>
                  </a:lnTo>
                  <a:lnTo>
                    <a:pt x="3125" y="7411"/>
                  </a:lnTo>
                  <a:lnTo>
                    <a:pt x="2662" y="7527"/>
                  </a:lnTo>
                  <a:lnTo>
                    <a:pt x="2199" y="7643"/>
                  </a:lnTo>
                  <a:lnTo>
                    <a:pt x="1736" y="7643"/>
                  </a:lnTo>
                  <a:lnTo>
                    <a:pt x="1273" y="7643"/>
                  </a:lnTo>
                  <a:lnTo>
                    <a:pt x="810" y="7527"/>
                  </a:lnTo>
                  <a:lnTo>
                    <a:pt x="810" y="7527"/>
                  </a:lnTo>
                  <a:lnTo>
                    <a:pt x="463" y="7064"/>
                  </a:lnTo>
                  <a:lnTo>
                    <a:pt x="231" y="6485"/>
                  </a:lnTo>
                  <a:lnTo>
                    <a:pt x="0" y="5906"/>
                  </a:lnTo>
                  <a:lnTo>
                    <a:pt x="0" y="5211"/>
                  </a:lnTo>
                  <a:lnTo>
                    <a:pt x="116" y="4632"/>
                  </a:lnTo>
                  <a:lnTo>
                    <a:pt x="231" y="3937"/>
                  </a:lnTo>
                  <a:lnTo>
                    <a:pt x="347" y="3358"/>
                  </a:lnTo>
                  <a:lnTo>
                    <a:pt x="578" y="2779"/>
                  </a:lnTo>
                  <a:lnTo>
                    <a:pt x="578" y="2779"/>
                  </a:lnTo>
                  <a:lnTo>
                    <a:pt x="578" y="2547"/>
                  </a:lnTo>
                  <a:lnTo>
                    <a:pt x="694" y="2432"/>
                  </a:lnTo>
                  <a:lnTo>
                    <a:pt x="810" y="2316"/>
                  </a:lnTo>
                  <a:lnTo>
                    <a:pt x="810" y="2200"/>
                  </a:lnTo>
                  <a:lnTo>
                    <a:pt x="926" y="1968"/>
                  </a:lnTo>
                  <a:lnTo>
                    <a:pt x="1041" y="1852"/>
                  </a:lnTo>
                  <a:lnTo>
                    <a:pt x="1041" y="1737"/>
                  </a:lnTo>
                  <a:lnTo>
                    <a:pt x="1157" y="1621"/>
                  </a:lnTo>
                  <a:lnTo>
                    <a:pt x="1157" y="1621"/>
                  </a:lnTo>
                  <a:lnTo>
                    <a:pt x="1041" y="1505"/>
                  </a:lnTo>
                  <a:lnTo>
                    <a:pt x="926" y="1505"/>
                  </a:lnTo>
                  <a:lnTo>
                    <a:pt x="926" y="1389"/>
                  </a:lnTo>
                  <a:lnTo>
                    <a:pt x="810" y="1389"/>
                  </a:lnTo>
                  <a:lnTo>
                    <a:pt x="694" y="1389"/>
                  </a:lnTo>
                  <a:lnTo>
                    <a:pt x="694" y="1389"/>
                  </a:lnTo>
                  <a:lnTo>
                    <a:pt x="578" y="1273"/>
                  </a:lnTo>
                  <a:lnTo>
                    <a:pt x="578" y="1273"/>
                  </a:lnTo>
                  <a:lnTo>
                    <a:pt x="578" y="1273"/>
                  </a:lnTo>
                  <a:lnTo>
                    <a:pt x="694" y="1158"/>
                  </a:lnTo>
                  <a:lnTo>
                    <a:pt x="810" y="1158"/>
                  </a:lnTo>
                  <a:lnTo>
                    <a:pt x="926" y="1158"/>
                  </a:lnTo>
                  <a:lnTo>
                    <a:pt x="1041" y="1158"/>
                  </a:lnTo>
                  <a:lnTo>
                    <a:pt x="1157" y="1158"/>
                  </a:lnTo>
                  <a:lnTo>
                    <a:pt x="1389" y="1158"/>
                  </a:lnTo>
                  <a:lnTo>
                    <a:pt x="1504" y="1158"/>
                  </a:lnTo>
                  <a:lnTo>
                    <a:pt x="1620" y="1158"/>
                  </a:lnTo>
                  <a:lnTo>
                    <a:pt x="1620" y="1158"/>
                  </a:lnTo>
                  <a:lnTo>
                    <a:pt x="1967" y="926"/>
                  </a:lnTo>
                  <a:lnTo>
                    <a:pt x="2430" y="694"/>
                  </a:lnTo>
                  <a:lnTo>
                    <a:pt x="2777" y="347"/>
                  </a:lnTo>
                  <a:lnTo>
                    <a:pt x="3240" y="115"/>
                  </a:lnTo>
                  <a:lnTo>
                    <a:pt x="3703" y="0"/>
                  </a:lnTo>
                  <a:lnTo>
                    <a:pt x="4166" y="0"/>
                  </a:lnTo>
                  <a:lnTo>
                    <a:pt x="4629" y="0"/>
                  </a:lnTo>
                  <a:lnTo>
                    <a:pt x="4976" y="347"/>
                  </a:lnTo>
                  <a:lnTo>
                    <a:pt x="4976" y="347"/>
                  </a:lnTo>
                  <a:lnTo>
                    <a:pt x="4976" y="347"/>
                  </a:lnTo>
                  <a:lnTo>
                    <a:pt x="4976" y="347"/>
                  </a:lnTo>
                  <a:lnTo>
                    <a:pt x="4976"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1657440" y="3932640"/>
              <a:ext cx="173520" cy="285840"/>
            </a:xfrm>
            <a:custGeom>
              <a:avLst/>
              <a:gdLst/>
              <a:ahLst/>
              <a:rect l="l" t="t" r="r" b="b"/>
              <a:pathLst>
                <a:path w="4861" h="5327">
                  <a:moveTo>
                    <a:pt x="4398" y="463"/>
                  </a:moveTo>
                  <a:lnTo>
                    <a:pt x="4629" y="926"/>
                  </a:lnTo>
                  <a:lnTo>
                    <a:pt x="4745" y="1389"/>
                  </a:lnTo>
                  <a:lnTo>
                    <a:pt x="4745" y="1968"/>
                  </a:lnTo>
                  <a:lnTo>
                    <a:pt x="4861" y="2432"/>
                  </a:lnTo>
                  <a:lnTo>
                    <a:pt x="4745" y="2895"/>
                  </a:lnTo>
                  <a:lnTo>
                    <a:pt x="4629" y="3474"/>
                  </a:lnTo>
                  <a:lnTo>
                    <a:pt x="4398" y="3937"/>
                  </a:lnTo>
                  <a:lnTo>
                    <a:pt x="4051" y="4285"/>
                  </a:lnTo>
                  <a:lnTo>
                    <a:pt x="4051" y="4285"/>
                  </a:lnTo>
                  <a:lnTo>
                    <a:pt x="3935" y="4516"/>
                  </a:lnTo>
                  <a:lnTo>
                    <a:pt x="3819" y="4632"/>
                  </a:lnTo>
                  <a:lnTo>
                    <a:pt x="3588" y="4864"/>
                  </a:lnTo>
                  <a:lnTo>
                    <a:pt x="3356" y="4979"/>
                  </a:lnTo>
                  <a:lnTo>
                    <a:pt x="3125" y="5095"/>
                  </a:lnTo>
                  <a:lnTo>
                    <a:pt x="3009" y="5211"/>
                  </a:lnTo>
                  <a:lnTo>
                    <a:pt x="2778" y="5327"/>
                  </a:lnTo>
                  <a:lnTo>
                    <a:pt x="2430" y="5327"/>
                  </a:lnTo>
                  <a:lnTo>
                    <a:pt x="2430" y="5327"/>
                  </a:lnTo>
                  <a:lnTo>
                    <a:pt x="2083" y="5327"/>
                  </a:lnTo>
                  <a:lnTo>
                    <a:pt x="1736" y="5211"/>
                  </a:lnTo>
                  <a:lnTo>
                    <a:pt x="1389" y="5211"/>
                  </a:lnTo>
                  <a:lnTo>
                    <a:pt x="1157" y="5095"/>
                  </a:lnTo>
                  <a:lnTo>
                    <a:pt x="810" y="4864"/>
                  </a:lnTo>
                  <a:lnTo>
                    <a:pt x="579" y="4748"/>
                  </a:lnTo>
                  <a:lnTo>
                    <a:pt x="347" y="4400"/>
                  </a:lnTo>
                  <a:lnTo>
                    <a:pt x="231" y="4053"/>
                  </a:lnTo>
                  <a:lnTo>
                    <a:pt x="231" y="4053"/>
                  </a:lnTo>
                  <a:lnTo>
                    <a:pt x="116" y="3590"/>
                  </a:lnTo>
                  <a:lnTo>
                    <a:pt x="0" y="3242"/>
                  </a:lnTo>
                  <a:lnTo>
                    <a:pt x="116" y="2779"/>
                  </a:lnTo>
                  <a:lnTo>
                    <a:pt x="231" y="2316"/>
                  </a:lnTo>
                  <a:lnTo>
                    <a:pt x="347" y="1853"/>
                  </a:lnTo>
                  <a:lnTo>
                    <a:pt x="579" y="1505"/>
                  </a:lnTo>
                  <a:lnTo>
                    <a:pt x="810" y="1158"/>
                  </a:lnTo>
                  <a:lnTo>
                    <a:pt x="1157" y="926"/>
                  </a:lnTo>
                  <a:lnTo>
                    <a:pt x="1157" y="926"/>
                  </a:lnTo>
                  <a:lnTo>
                    <a:pt x="1504" y="579"/>
                  </a:lnTo>
                  <a:lnTo>
                    <a:pt x="1852" y="463"/>
                  </a:lnTo>
                  <a:lnTo>
                    <a:pt x="2199" y="347"/>
                  </a:lnTo>
                  <a:lnTo>
                    <a:pt x="2546" y="231"/>
                  </a:lnTo>
                  <a:lnTo>
                    <a:pt x="2893" y="115"/>
                  </a:lnTo>
                  <a:lnTo>
                    <a:pt x="3240" y="115"/>
                  </a:lnTo>
                  <a:lnTo>
                    <a:pt x="3703" y="115"/>
                  </a:lnTo>
                  <a:lnTo>
                    <a:pt x="4051" y="0"/>
                  </a:lnTo>
                  <a:lnTo>
                    <a:pt x="4051" y="0"/>
                  </a:lnTo>
                  <a:lnTo>
                    <a:pt x="4398" y="463"/>
                  </a:lnTo>
                  <a:lnTo>
                    <a:pt x="4398" y="463"/>
                  </a:lnTo>
                  <a:lnTo>
                    <a:pt x="4398" y="463"/>
                  </a:lnTo>
                  <a:lnTo>
                    <a:pt x="439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1723680" y="3944880"/>
              <a:ext cx="86760" cy="124200"/>
            </a:xfrm>
            <a:custGeom>
              <a:avLst/>
              <a:gdLst/>
              <a:ahLst/>
              <a:rect l="l" t="t" r="r" b="b"/>
              <a:pathLst>
                <a:path w="2430" h="2316">
                  <a:moveTo>
                    <a:pt x="2314" y="579"/>
                  </a:moveTo>
                  <a:lnTo>
                    <a:pt x="2430" y="811"/>
                  </a:lnTo>
                  <a:lnTo>
                    <a:pt x="2430" y="1042"/>
                  </a:lnTo>
                  <a:lnTo>
                    <a:pt x="2430" y="1274"/>
                  </a:lnTo>
                  <a:lnTo>
                    <a:pt x="2314" y="1506"/>
                  </a:lnTo>
                  <a:lnTo>
                    <a:pt x="2199" y="1737"/>
                  </a:lnTo>
                  <a:lnTo>
                    <a:pt x="2083" y="1969"/>
                  </a:lnTo>
                  <a:lnTo>
                    <a:pt x="1851" y="2085"/>
                  </a:lnTo>
                  <a:lnTo>
                    <a:pt x="1620" y="2201"/>
                  </a:lnTo>
                  <a:lnTo>
                    <a:pt x="1620" y="2201"/>
                  </a:lnTo>
                  <a:lnTo>
                    <a:pt x="1504" y="2201"/>
                  </a:lnTo>
                  <a:lnTo>
                    <a:pt x="1388" y="2316"/>
                  </a:lnTo>
                  <a:lnTo>
                    <a:pt x="1157" y="2316"/>
                  </a:lnTo>
                  <a:lnTo>
                    <a:pt x="1041" y="2201"/>
                  </a:lnTo>
                  <a:lnTo>
                    <a:pt x="926" y="2201"/>
                  </a:lnTo>
                  <a:lnTo>
                    <a:pt x="810" y="2201"/>
                  </a:lnTo>
                  <a:lnTo>
                    <a:pt x="578" y="2085"/>
                  </a:lnTo>
                  <a:lnTo>
                    <a:pt x="463" y="2085"/>
                  </a:lnTo>
                  <a:lnTo>
                    <a:pt x="463" y="2085"/>
                  </a:lnTo>
                  <a:lnTo>
                    <a:pt x="347" y="1969"/>
                  </a:lnTo>
                  <a:lnTo>
                    <a:pt x="231" y="1737"/>
                  </a:lnTo>
                  <a:lnTo>
                    <a:pt x="115" y="1622"/>
                  </a:lnTo>
                  <a:lnTo>
                    <a:pt x="115" y="1390"/>
                  </a:lnTo>
                  <a:lnTo>
                    <a:pt x="0" y="1274"/>
                  </a:lnTo>
                  <a:lnTo>
                    <a:pt x="0" y="1042"/>
                  </a:lnTo>
                  <a:lnTo>
                    <a:pt x="115" y="927"/>
                  </a:lnTo>
                  <a:lnTo>
                    <a:pt x="115" y="695"/>
                  </a:lnTo>
                  <a:lnTo>
                    <a:pt x="115" y="695"/>
                  </a:lnTo>
                  <a:lnTo>
                    <a:pt x="231" y="463"/>
                  </a:lnTo>
                  <a:lnTo>
                    <a:pt x="578" y="232"/>
                  </a:lnTo>
                  <a:lnTo>
                    <a:pt x="810" y="116"/>
                  </a:lnTo>
                  <a:lnTo>
                    <a:pt x="1273" y="0"/>
                  </a:lnTo>
                  <a:lnTo>
                    <a:pt x="1620" y="0"/>
                  </a:lnTo>
                  <a:lnTo>
                    <a:pt x="1851" y="116"/>
                  </a:lnTo>
                  <a:lnTo>
                    <a:pt x="2199" y="232"/>
                  </a:lnTo>
                  <a:lnTo>
                    <a:pt x="2314" y="579"/>
                  </a:lnTo>
                  <a:lnTo>
                    <a:pt x="2314" y="579"/>
                  </a:lnTo>
                  <a:lnTo>
                    <a:pt x="2314" y="579"/>
                  </a:lnTo>
                  <a:lnTo>
                    <a:pt x="2314" y="579"/>
                  </a:lnTo>
                  <a:lnTo>
                    <a:pt x="23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1893600" y="3975840"/>
              <a:ext cx="153000" cy="310680"/>
            </a:xfrm>
            <a:custGeom>
              <a:avLst/>
              <a:gdLst/>
              <a:ahLst/>
              <a:rect l="l" t="t" r="r" b="b"/>
              <a:pathLst>
                <a:path w="4282" h="5791">
                  <a:moveTo>
                    <a:pt x="4166" y="927"/>
                  </a:moveTo>
                  <a:lnTo>
                    <a:pt x="4282" y="1506"/>
                  </a:lnTo>
                  <a:lnTo>
                    <a:pt x="4282" y="1969"/>
                  </a:lnTo>
                  <a:lnTo>
                    <a:pt x="4282" y="2432"/>
                  </a:lnTo>
                  <a:lnTo>
                    <a:pt x="4166" y="2895"/>
                  </a:lnTo>
                  <a:lnTo>
                    <a:pt x="4050" y="3359"/>
                  </a:lnTo>
                  <a:lnTo>
                    <a:pt x="3935" y="3822"/>
                  </a:lnTo>
                  <a:lnTo>
                    <a:pt x="3703" y="4285"/>
                  </a:lnTo>
                  <a:lnTo>
                    <a:pt x="3587" y="4633"/>
                  </a:lnTo>
                  <a:lnTo>
                    <a:pt x="3587" y="4633"/>
                  </a:lnTo>
                  <a:lnTo>
                    <a:pt x="3240" y="4980"/>
                  </a:lnTo>
                  <a:lnTo>
                    <a:pt x="3009" y="5327"/>
                  </a:lnTo>
                  <a:lnTo>
                    <a:pt x="2662" y="5443"/>
                  </a:lnTo>
                  <a:lnTo>
                    <a:pt x="2199" y="5675"/>
                  </a:lnTo>
                  <a:lnTo>
                    <a:pt x="1851" y="5791"/>
                  </a:lnTo>
                  <a:lnTo>
                    <a:pt x="1504" y="5791"/>
                  </a:lnTo>
                  <a:lnTo>
                    <a:pt x="1041" y="5791"/>
                  </a:lnTo>
                  <a:lnTo>
                    <a:pt x="578" y="5791"/>
                  </a:lnTo>
                  <a:lnTo>
                    <a:pt x="578" y="5791"/>
                  </a:lnTo>
                  <a:lnTo>
                    <a:pt x="231" y="5096"/>
                  </a:lnTo>
                  <a:lnTo>
                    <a:pt x="0" y="4401"/>
                  </a:lnTo>
                  <a:lnTo>
                    <a:pt x="0" y="3706"/>
                  </a:lnTo>
                  <a:lnTo>
                    <a:pt x="0" y="3011"/>
                  </a:lnTo>
                  <a:lnTo>
                    <a:pt x="231" y="2316"/>
                  </a:lnTo>
                  <a:lnTo>
                    <a:pt x="463" y="1622"/>
                  </a:lnTo>
                  <a:lnTo>
                    <a:pt x="810" y="927"/>
                  </a:lnTo>
                  <a:lnTo>
                    <a:pt x="1157" y="348"/>
                  </a:lnTo>
                  <a:lnTo>
                    <a:pt x="1157" y="348"/>
                  </a:lnTo>
                  <a:lnTo>
                    <a:pt x="1389" y="232"/>
                  </a:lnTo>
                  <a:lnTo>
                    <a:pt x="1620" y="116"/>
                  </a:lnTo>
                  <a:lnTo>
                    <a:pt x="1851" y="0"/>
                  </a:lnTo>
                  <a:lnTo>
                    <a:pt x="2083" y="0"/>
                  </a:lnTo>
                  <a:lnTo>
                    <a:pt x="2314" y="0"/>
                  </a:lnTo>
                  <a:lnTo>
                    <a:pt x="2662" y="0"/>
                  </a:lnTo>
                  <a:lnTo>
                    <a:pt x="2893" y="116"/>
                  </a:lnTo>
                  <a:lnTo>
                    <a:pt x="3124" y="116"/>
                  </a:lnTo>
                  <a:lnTo>
                    <a:pt x="3124" y="116"/>
                  </a:lnTo>
                  <a:lnTo>
                    <a:pt x="3240" y="232"/>
                  </a:lnTo>
                  <a:lnTo>
                    <a:pt x="3472" y="232"/>
                  </a:lnTo>
                  <a:lnTo>
                    <a:pt x="3587" y="348"/>
                  </a:lnTo>
                  <a:lnTo>
                    <a:pt x="3703" y="463"/>
                  </a:lnTo>
                  <a:lnTo>
                    <a:pt x="3819" y="579"/>
                  </a:lnTo>
                  <a:lnTo>
                    <a:pt x="3935" y="695"/>
                  </a:lnTo>
                  <a:lnTo>
                    <a:pt x="4050" y="811"/>
                  </a:lnTo>
                  <a:lnTo>
                    <a:pt x="4166" y="927"/>
                  </a:lnTo>
                  <a:lnTo>
                    <a:pt x="4166" y="927"/>
                  </a:lnTo>
                  <a:lnTo>
                    <a:pt x="4166" y="927"/>
                  </a:lnTo>
                  <a:lnTo>
                    <a:pt x="4166" y="927"/>
                  </a:lnTo>
                  <a:lnTo>
                    <a:pt x="4166"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1765080" y="3988440"/>
              <a:ext cx="20520" cy="30960"/>
            </a:xfrm>
            <a:custGeom>
              <a:avLst/>
              <a:gdLst/>
              <a:ahLst/>
              <a:rect l="l" t="t" r="r" b="b"/>
              <a:pathLst>
                <a:path w="579" h="579">
                  <a:moveTo>
                    <a:pt x="463" y="579"/>
                  </a:moveTo>
                  <a:lnTo>
                    <a:pt x="463" y="579"/>
                  </a:lnTo>
                  <a:lnTo>
                    <a:pt x="347" y="579"/>
                  </a:lnTo>
                  <a:lnTo>
                    <a:pt x="231" y="579"/>
                  </a:lnTo>
                  <a:lnTo>
                    <a:pt x="231" y="579"/>
                  </a:lnTo>
                  <a:lnTo>
                    <a:pt x="116" y="579"/>
                  </a:lnTo>
                  <a:lnTo>
                    <a:pt x="116" y="579"/>
                  </a:lnTo>
                  <a:lnTo>
                    <a:pt x="0" y="463"/>
                  </a:lnTo>
                  <a:lnTo>
                    <a:pt x="0" y="347"/>
                  </a:lnTo>
                  <a:lnTo>
                    <a:pt x="0" y="347"/>
                  </a:lnTo>
                  <a:lnTo>
                    <a:pt x="0" y="347"/>
                  </a:lnTo>
                  <a:lnTo>
                    <a:pt x="116" y="347"/>
                  </a:lnTo>
                  <a:lnTo>
                    <a:pt x="116" y="231"/>
                  </a:lnTo>
                  <a:lnTo>
                    <a:pt x="116" y="231"/>
                  </a:lnTo>
                  <a:lnTo>
                    <a:pt x="116" y="231"/>
                  </a:lnTo>
                  <a:lnTo>
                    <a:pt x="116" y="116"/>
                  </a:lnTo>
                  <a:lnTo>
                    <a:pt x="116" y="116"/>
                  </a:lnTo>
                  <a:lnTo>
                    <a:pt x="116" y="116"/>
                  </a:lnTo>
                  <a:lnTo>
                    <a:pt x="116" y="116"/>
                  </a:lnTo>
                  <a:lnTo>
                    <a:pt x="579" y="0"/>
                  </a:lnTo>
                  <a:lnTo>
                    <a:pt x="579" y="0"/>
                  </a:lnTo>
                  <a:lnTo>
                    <a:pt x="579" y="0"/>
                  </a:lnTo>
                  <a:lnTo>
                    <a:pt x="579" y="116"/>
                  </a:lnTo>
                  <a:lnTo>
                    <a:pt x="579" y="116"/>
                  </a:lnTo>
                  <a:lnTo>
                    <a:pt x="579" y="231"/>
                  </a:lnTo>
                  <a:lnTo>
                    <a:pt x="579" y="347"/>
                  </a:lnTo>
                  <a:lnTo>
                    <a:pt x="579" y="463"/>
                  </a:lnTo>
                  <a:lnTo>
                    <a:pt x="579" y="463"/>
                  </a:lnTo>
                  <a:lnTo>
                    <a:pt x="463" y="579"/>
                  </a:lnTo>
                  <a:lnTo>
                    <a:pt x="463" y="579"/>
                  </a:lnTo>
                  <a:lnTo>
                    <a:pt x="463" y="579"/>
                  </a:lnTo>
                  <a:lnTo>
                    <a:pt x="463" y="579"/>
                  </a:lnTo>
                  <a:lnTo>
                    <a:pt x="463" y="57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09" name=""/>
            <p:cNvSpPr/>
            <p:nvPr/>
          </p:nvSpPr>
          <p:spPr>
            <a:xfrm>
              <a:off x="1922400" y="4013280"/>
              <a:ext cx="66240" cy="99360"/>
            </a:xfrm>
            <a:custGeom>
              <a:avLst/>
              <a:gdLst/>
              <a:ahLst/>
              <a:rect l="l" t="t" r="r" b="b"/>
              <a:pathLst>
                <a:path w="1852" h="1853">
                  <a:moveTo>
                    <a:pt x="1852" y="579"/>
                  </a:moveTo>
                  <a:lnTo>
                    <a:pt x="1852" y="811"/>
                  </a:lnTo>
                  <a:lnTo>
                    <a:pt x="1852" y="927"/>
                  </a:lnTo>
                  <a:lnTo>
                    <a:pt x="1736" y="1158"/>
                  </a:lnTo>
                  <a:lnTo>
                    <a:pt x="1736" y="1390"/>
                  </a:lnTo>
                  <a:lnTo>
                    <a:pt x="1620" y="1506"/>
                  </a:lnTo>
                  <a:lnTo>
                    <a:pt x="1389" y="1621"/>
                  </a:lnTo>
                  <a:lnTo>
                    <a:pt x="1273" y="1737"/>
                  </a:lnTo>
                  <a:lnTo>
                    <a:pt x="1041" y="1853"/>
                  </a:lnTo>
                  <a:lnTo>
                    <a:pt x="1041" y="1853"/>
                  </a:lnTo>
                  <a:lnTo>
                    <a:pt x="926" y="1853"/>
                  </a:lnTo>
                  <a:lnTo>
                    <a:pt x="694" y="1853"/>
                  </a:lnTo>
                  <a:lnTo>
                    <a:pt x="579" y="1737"/>
                  </a:lnTo>
                  <a:lnTo>
                    <a:pt x="463" y="1737"/>
                  </a:lnTo>
                  <a:lnTo>
                    <a:pt x="347" y="1621"/>
                  </a:lnTo>
                  <a:lnTo>
                    <a:pt x="231" y="1506"/>
                  </a:lnTo>
                  <a:lnTo>
                    <a:pt x="116" y="1390"/>
                  </a:lnTo>
                  <a:lnTo>
                    <a:pt x="0" y="1274"/>
                  </a:lnTo>
                  <a:lnTo>
                    <a:pt x="0" y="1274"/>
                  </a:lnTo>
                  <a:lnTo>
                    <a:pt x="0" y="1158"/>
                  </a:lnTo>
                  <a:lnTo>
                    <a:pt x="0" y="927"/>
                  </a:lnTo>
                  <a:lnTo>
                    <a:pt x="0" y="811"/>
                  </a:lnTo>
                  <a:lnTo>
                    <a:pt x="0" y="695"/>
                  </a:lnTo>
                  <a:lnTo>
                    <a:pt x="0" y="463"/>
                  </a:lnTo>
                  <a:lnTo>
                    <a:pt x="116" y="348"/>
                  </a:lnTo>
                  <a:lnTo>
                    <a:pt x="116" y="232"/>
                  </a:lnTo>
                  <a:lnTo>
                    <a:pt x="231" y="116"/>
                  </a:lnTo>
                  <a:lnTo>
                    <a:pt x="231" y="116"/>
                  </a:lnTo>
                  <a:lnTo>
                    <a:pt x="463" y="0"/>
                  </a:lnTo>
                  <a:lnTo>
                    <a:pt x="694" y="0"/>
                  </a:lnTo>
                  <a:lnTo>
                    <a:pt x="926" y="0"/>
                  </a:lnTo>
                  <a:lnTo>
                    <a:pt x="1157" y="0"/>
                  </a:lnTo>
                  <a:lnTo>
                    <a:pt x="1389" y="0"/>
                  </a:lnTo>
                  <a:lnTo>
                    <a:pt x="1620" y="116"/>
                  </a:lnTo>
                  <a:lnTo>
                    <a:pt x="1736" y="348"/>
                  </a:lnTo>
                  <a:lnTo>
                    <a:pt x="1852" y="579"/>
                  </a:lnTo>
                  <a:lnTo>
                    <a:pt x="1852" y="579"/>
                  </a:lnTo>
                  <a:lnTo>
                    <a:pt x="1852" y="579"/>
                  </a:lnTo>
                  <a:lnTo>
                    <a:pt x="1852" y="579"/>
                  </a:lnTo>
                  <a:lnTo>
                    <a:pt x="1852"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1951200" y="4044240"/>
              <a:ext cx="20520" cy="37080"/>
            </a:xfrm>
            <a:custGeom>
              <a:avLst/>
              <a:gdLst/>
              <a:ahLst/>
              <a:rect l="l" t="t" r="r" b="b"/>
              <a:pathLst>
                <a:path w="579" h="695">
                  <a:moveTo>
                    <a:pt x="463" y="116"/>
                  </a:moveTo>
                  <a:lnTo>
                    <a:pt x="463" y="116"/>
                  </a:lnTo>
                  <a:lnTo>
                    <a:pt x="579" y="232"/>
                  </a:lnTo>
                  <a:lnTo>
                    <a:pt x="463" y="348"/>
                  </a:lnTo>
                  <a:lnTo>
                    <a:pt x="463" y="463"/>
                  </a:lnTo>
                  <a:lnTo>
                    <a:pt x="463" y="463"/>
                  </a:lnTo>
                  <a:lnTo>
                    <a:pt x="347" y="579"/>
                  </a:lnTo>
                  <a:lnTo>
                    <a:pt x="231" y="579"/>
                  </a:lnTo>
                  <a:lnTo>
                    <a:pt x="231" y="695"/>
                  </a:lnTo>
                  <a:lnTo>
                    <a:pt x="231" y="695"/>
                  </a:lnTo>
                  <a:lnTo>
                    <a:pt x="116" y="695"/>
                  </a:lnTo>
                  <a:lnTo>
                    <a:pt x="116" y="695"/>
                  </a:lnTo>
                  <a:lnTo>
                    <a:pt x="0" y="579"/>
                  </a:lnTo>
                  <a:lnTo>
                    <a:pt x="0" y="579"/>
                  </a:lnTo>
                  <a:lnTo>
                    <a:pt x="0" y="579"/>
                  </a:lnTo>
                  <a:lnTo>
                    <a:pt x="0" y="463"/>
                  </a:lnTo>
                  <a:lnTo>
                    <a:pt x="0" y="463"/>
                  </a:lnTo>
                  <a:lnTo>
                    <a:pt x="0" y="348"/>
                  </a:lnTo>
                  <a:lnTo>
                    <a:pt x="0" y="348"/>
                  </a:lnTo>
                  <a:lnTo>
                    <a:pt x="0" y="232"/>
                  </a:lnTo>
                  <a:lnTo>
                    <a:pt x="0" y="232"/>
                  </a:lnTo>
                  <a:lnTo>
                    <a:pt x="0" y="116"/>
                  </a:lnTo>
                  <a:lnTo>
                    <a:pt x="116" y="116"/>
                  </a:lnTo>
                  <a:lnTo>
                    <a:pt x="116" y="116"/>
                  </a:lnTo>
                  <a:lnTo>
                    <a:pt x="231" y="116"/>
                  </a:lnTo>
                  <a:lnTo>
                    <a:pt x="231" y="0"/>
                  </a:lnTo>
                  <a:lnTo>
                    <a:pt x="231" y="0"/>
                  </a:lnTo>
                  <a:lnTo>
                    <a:pt x="231" y="0"/>
                  </a:lnTo>
                  <a:lnTo>
                    <a:pt x="231" y="0"/>
                  </a:lnTo>
                  <a:lnTo>
                    <a:pt x="347" y="0"/>
                  </a:lnTo>
                  <a:lnTo>
                    <a:pt x="347" y="0"/>
                  </a:lnTo>
                  <a:lnTo>
                    <a:pt x="347" y="0"/>
                  </a:lnTo>
                  <a:lnTo>
                    <a:pt x="347" y="116"/>
                  </a:lnTo>
                  <a:lnTo>
                    <a:pt x="463" y="116"/>
                  </a:lnTo>
                  <a:lnTo>
                    <a:pt x="463" y="116"/>
                  </a:lnTo>
                  <a:lnTo>
                    <a:pt x="463" y="116"/>
                  </a:lnTo>
                  <a:lnTo>
                    <a:pt x="463" y="116"/>
                  </a:lnTo>
                  <a:lnTo>
                    <a:pt x="463" y="116"/>
                  </a:lnTo>
                  <a:lnTo>
                    <a:pt x="463" y="116"/>
                  </a:lnTo>
                  <a:lnTo>
                    <a:pt x="463" y="116"/>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311" name=""/>
            <p:cNvSpPr/>
            <p:nvPr/>
          </p:nvSpPr>
          <p:spPr>
            <a:xfrm>
              <a:off x="1524960" y="4317840"/>
              <a:ext cx="57600" cy="37080"/>
            </a:xfrm>
            <a:custGeom>
              <a:avLst/>
              <a:gdLst/>
              <a:ahLst/>
              <a:rect l="l" t="t" r="r" b="b"/>
              <a:pathLst>
                <a:path w="1620" h="695">
                  <a:moveTo>
                    <a:pt x="1620" y="116"/>
                  </a:moveTo>
                  <a:lnTo>
                    <a:pt x="1388" y="116"/>
                  </a:lnTo>
                  <a:lnTo>
                    <a:pt x="1157" y="116"/>
                  </a:lnTo>
                  <a:lnTo>
                    <a:pt x="1041" y="231"/>
                  </a:lnTo>
                  <a:lnTo>
                    <a:pt x="810" y="347"/>
                  </a:lnTo>
                  <a:lnTo>
                    <a:pt x="578" y="347"/>
                  </a:lnTo>
                  <a:lnTo>
                    <a:pt x="462" y="463"/>
                  </a:lnTo>
                  <a:lnTo>
                    <a:pt x="347" y="579"/>
                  </a:lnTo>
                  <a:lnTo>
                    <a:pt x="115" y="695"/>
                  </a:lnTo>
                  <a:lnTo>
                    <a:pt x="115" y="695"/>
                  </a:lnTo>
                  <a:lnTo>
                    <a:pt x="115" y="695"/>
                  </a:lnTo>
                  <a:lnTo>
                    <a:pt x="0" y="695"/>
                  </a:lnTo>
                  <a:lnTo>
                    <a:pt x="0" y="579"/>
                  </a:lnTo>
                  <a:lnTo>
                    <a:pt x="0" y="579"/>
                  </a:lnTo>
                  <a:lnTo>
                    <a:pt x="0" y="463"/>
                  </a:lnTo>
                  <a:lnTo>
                    <a:pt x="0" y="463"/>
                  </a:lnTo>
                  <a:lnTo>
                    <a:pt x="0" y="347"/>
                  </a:lnTo>
                  <a:lnTo>
                    <a:pt x="115" y="347"/>
                  </a:lnTo>
                  <a:lnTo>
                    <a:pt x="115" y="347"/>
                  </a:lnTo>
                  <a:lnTo>
                    <a:pt x="231" y="231"/>
                  </a:lnTo>
                  <a:lnTo>
                    <a:pt x="462" y="116"/>
                  </a:lnTo>
                  <a:lnTo>
                    <a:pt x="578" y="0"/>
                  </a:lnTo>
                  <a:lnTo>
                    <a:pt x="810" y="0"/>
                  </a:lnTo>
                  <a:lnTo>
                    <a:pt x="1041" y="0"/>
                  </a:lnTo>
                  <a:lnTo>
                    <a:pt x="1157" y="0"/>
                  </a:lnTo>
                  <a:lnTo>
                    <a:pt x="1388" y="0"/>
                  </a:lnTo>
                  <a:lnTo>
                    <a:pt x="1620" y="116"/>
                  </a:lnTo>
                  <a:lnTo>
                    <a:pt x="1620" y="116"/>
                  </a:lnTo>
                  <a:lnTo>
                    <a:pt x="1620" y="116"/>
                  </a:lnTo>
                  <a:lnTo>
                    <a:pt x="1620" y="116"/>
                  </a:lnTo>
                  <a:lnTo>
                    <a:pt x="1620" y="11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312" name=""/>
            <p:cNvSpPr/>
            <p:nvPr/>
          </p:nvSpPr>
          <p:spPr>
            <a:xfrm>
              <a:off x="1512720" y="4361400"/>
              <a:ext cx="517320" cy="173880"/>
            </a:xfrm>
            <a:custGeom>
              <a:avLst/>
              <a:gdLst/>
              <a:ahLst/>
              <a:rect l="l" t="t" r="r" b="b"/>
              <a:pathLst>
                <a:path w="14467" h="3243">
                  <a:moveTo>
                    <a:pt x="3820" y="232"/>
                  </a:moveTo>
                  <a:lnTo>
                    <a:pt x="3704" y="232"/>
                  </a:lnTo>
                  <a:lnTo>
                    <a:pt x="3472" y="232"/>
                  </a:lnTo>
                  <a:lnTo>
                    <a:pt x="3357" y="232"/>
                  </a:lnTo>
                  <a:lnTo>
                    <a:pt x="3125" y="232"/>
                  </a:lnTo>
                  <a:lnTo>
                    <a:pt x="3009" y="348"/>
                  </a:lnTo>
                  <a:lnTo>
                    <a:pt x="2778" y="348"/>
                  </a:lnTo>
                  <a:lnTo>
                    <a:pt x="2662" y="348"/>
                  </a:lnTo>
                  <a:lnTo>
                    <a:pt x="2431" y="464"/>
                  </a:lnTo>
                  <a:lnTo>
                    <a:pt x="2431" y="464"/>
                  </a:lnTo>
                  <a:lnTo>
                    <a:pt x="2431" y="695"/>
                  </a:lnTo>
                  <a:lnTo>
                    <a:pt x="2431" y="695"/>
                  </a:lnTo>
                  <a:lnTo>
                    <a:pt x="2894" y="1159"/>
                  </a:lnTo>
                  <a:lnTo>
                    <a:pt x="3472" y="1622"/>
                  </a:lnTo>
                  <a:lnTo>
                    <a:pt x="4051" y="1853"/>
                  </a:lnTo>
                  <a:lnTo>
                    <a:pt x="4745" y="2085"/>
                  </a:lnTo>
                  <a:lnTo>
                    <a:pt x="5440" y="2201"/>
                  </a:lnTo>
                  <a:lnTo>
                    <a:pt x="6018" y="2432"/>
                  </a:lnTo>
                  <a:lnTo>
                    <a:pt x="6713" y="2548"/>
                  </a:lnTo>
                  <a:lnTo>
                    <a:pt x="7291" y="2780"/>
                  </a:lnTo>
                  <a:lnTo>
                    <a:pt x="7291" y="2780"/>
                  </a:lnTo>
                  <a:lnTo>
                    <a:pt x="7639" y="2780"/>
                  </a:lnTo>
                  <a:lnTo>
                    <a:pt x="7986" y="2780"/>
                  </a:lnTo>
                  <a:lnTo>
                    <a:pt x="8333" y="2780"/>
                  </a:lnTo>
                  <a:lnTo>
                    <a:pt x="8680" y="2664"/>
                  </a:lnTo>
                  <a:lnTo>
                    <a:pt x="9027" y="2664"/>
                  </a:lnTo>
                  <a:lnTo>
                    <a:pt x="9375" y="2548"/>
                  </a:lnTo>
                  <a:lnTo>
                    <a:pt x="9722" y="2432"/>
                  </a:lnTo>
                  <a:lnTo>
                    <a:pt x="10069" y="2317"/>
                  </a:lnTo>
                  <a:lnTo>
                    <a:pt x="10069" y="2317"/>
                  </a:lnTo>
                  <a:lnTo>
                    <a:pt x="10185" y="2317"/>
                  </a:lnTo>
                  <a:lnTo>
                    <a:pt x="10185" y="2317"/>
                  </a:lnTo>
                  <a:lnTo>
                    <a:pt x="10301" y="2317"/>
                  </a:lnTo>
                  <a:lnTo>
                    <a:pt x="10416" y="2317"/>
                  </a:lnTo>
                  <a:lnTo>
                    <a:pt x="10532" y="2317"/>
                  </a:lnTo>
                  <a:lnTo>
                    <a:pt x="10648" y="2201"/>
                  </a:lnTo>
                  <a:lnTo>
                    <a:pt x="10763" y="2201"/>
                  </a:lnTo>
                  <a:lnTo>
                    <a:pt x="10763" y="2085"/>
                  </a:lnTo>
                  <a:lnTo>
                    <a:pt x="10763" y="2085"/>
                  </a:lnTo>
                  <a:lnTo>
                    <a:pt x="10879" y="2201"/>
                  </a:lnTo>
                  <a:lnTo>
                    <a:pt x="10879" y="2201"/>
                  </a:lnTo>
                  <a:lnTo>
                    <a:pt x="11226" y="1969"/>
                  </a:lnTo>
                  <a:lnTo>
                    <a:pt x="11574" y="1853"/>
                  </a:lnTo>
                  <a:lnTo>
                    <a:pt x="11921" y="1738"/>
                  </a:lnTo>
                  <a:lnTo>
                    <a:pt x="12268" y="1622"/>
                  </a:lnTo>
                  <a:lnTo>
                    <a:pt x="12615" y="1506"/>
                  </a:lnTo>
                  <a:lnTo>
                    <a:pt x="12962" y="1506"/>
                  </a:lnTo>
                  <a:lnTo>
                    <a:pt x="13310" y="1506"/>
                  </a:lnTo>
                  <a:lnTo>
                    <a:pt x="13772" y="1506"/>
                  </a:lnTo>
                  <a:lnTo>
                    <a:pt x="13772" y="1506"/>
                  </a:lnTo>
                  <a:lnTo>
                    <a:pt x="13772" y="1506"/>
                  </a:lnTo>
                  <a:lnTo>
                    <a:pt x="13888" y="1390"/>
                  </a:lnTo>
                  <a:lnTo>
                    <a:pt x="14004" y="1390"/>
                  </a:lnTo>
                  <a:lnTo>
                    <a:pt x="14120" y="1274"/>
                  </a:lnTo>
                  <a:lnTo>
                    <a:pt x="14120" y="1159"/>
                  </a:lnTo>
                  <a:lnTo>
                    <a:pt x="14235" y="1159"/>
                  </a:lnTo>
                  <a:lnTo>
                    <a:pt x="14351" y="1159"/>
                  </a:lnTo>
                  <a:lnTo>
                    <a:pt x="14467" y="1159"/>
                  </a:lnTo>
                  <a:lnTo>
                    <a:pt x="14467" y="1159"/>
                  </a:lnTo>
                  <a:lnTo>
                    <a:pt x="14467" y="1274"/>
                  </a:lnTo>
                  <a:lnTo>
                    <a:pt x="14351" y="1390"/>
                  </a:lnTo>
                  <a:lnTo>
                    <a:pt x="14351" y="1506"/>
                  </a:lnTo>
                  <a:lnTo>
                    <a:pt x="14235" y="1622"/>
                  </a:lnTo>
                  <a:lnTo>
                    <a:pt x="14120" y="1738"/>
                  </a:lnTo>
                  <a:lnTo>
                    <a:pt x="14004" y="1853"/>
                  </a:lnTo>
                  <a:lnTo>
                    <a:pt x="13888" y="1853"/>
                  </a:lnTo>
                  <a:lnTo>
                    <a:pt x="13772" y="1969"/>
                  </a:lnTo>
                  <a:lnTo>
                    <a:pt x="13772" y="1969"/>
                  </a:lnTo>
                  <a:lnTo>
                    <a:pt x="12962" y="1969"/>
                  </a:lnTo>
                  <a:lnTo>
                    <a:pt x="12152" y="2085"/>
                  </a:lnTo>
                  <a:lnTo>
                    <a:pt x="11458" y="2317"/>
                  </a:lnTo>
                  <a:lnTo>
                    <a:pt x="10648" y="2548"/>
                  </a:lnTo>
                  <a:lnTo>
                    <a:pt x="9953" y="2780"/>
                  </a:lnTo>
                  <a:lnTo>
                    <a:pt x="9143" y="3011"/>
                  </a:lnTo>
                  <a:lnTo>
                    <a:pt x="8333" y="3127"/>
                  </a:lnTo>
                  <a:lnTo>
                    <a:pt x="7523" y="3243"/>
                  </a:lnTo>
                  <a:lnTo>
                    <a:pt x="7523" y="3243"/>
                  </a:lnTo>
                  <a:lnTo>
                    <a:pt x="6713" y="3011"/>
                  </a:lnTo>
                  <a:lnTo>
                    <a:pt x="6018" y="2896"/>
                  </a:lnTo>
                  <a:lnTo>
                    <a:pt x="5208" y="2664"/>
                  </a:lnTo>
                  <a:lnTo>
                    <a:pt x="4514" y="2432"/>
                  </a:lnTo>
                  <a:lnTo>
                    <a:pt x="3704" y="2201"/>
                  </a:lnTo>
                  <a:lnTo>
                    <a:pt x="3125" y="1738"/>
                  </a:lnTo>
                  <a:lnTo>
                    <a:pt x="2431" y="1274"/>
                  </a:lnTo>
                  <a:lnTo>
                    <a:pt x="1968" y="695"/>
                  </a:lnTo>
                  <a:lnTo>
                    <a:pt x="1968" y="695"/>
                  </a:lnTo>
                  <a:lnTo>
                    <a:pt x="1736" y="811"/>
                  </a:lnTo>
                  <a:lnTo>
                    <a:pt x="1505" y="927"/>
                  </a:lnTo>
                  <a:lnTo>
                    <a:pt x="1273" y="1043"/>
                  </a:lnTo>
                  <a:lnTo>
                    <a:pt x="1042" y="1159"/>
                  </a:lnTo>
                  <a:lnTo>
                    <a:pt x="810" y="1274"/>
                  </a:lnTo>
                  <a:lnTo>
                    <a:pt x="579" y="1506"/>
                  </a:lnTo>
                  <a:lnTo>
                    <a:pt x="463" y="1622"/>
                  </a:lnTo>
                  <a:lnTo>
                    <a:pt x="348" y="1853"/>
                  </a:lnTo>
                  <a:lnTo>
                    <a:pt x="348" y="1853"/>
                  </a:lnTo>
                  <a:lnTo>
                    <a:pt x="232" y="1853"/>
                  </a:lnTo>
                  <a:lnTo>
                    <a:pt x="232" y="1853"/>
                  </a:lnTo>
                  <a:lnTo>
                    <a:pt x="116" y="1853"/>
                  </a:lnTo>
                  <a:lnTo>
                    <a:pt x="116" y="1853"/>
                  </a:lnTo>
                  <a:lnTo>
                    <a:pt x="116" y="1853"/>
                  </a:lnTo>
                  <a:lnTo>
                    <a:pt x="116" y="1738"/>
                  </a:lnTo>
                  <a:lnTo>
                    <a:pt x="0" y="1738"/>
                  </a:lnTo>
                  <a:lnTo>
                    <a:pt x="0" y="1738"/>
                  </a:lnTo>
                  <a:lnTo>
                    <a:pt x="0" y="1738"/>
                  </a:lnTo>
                  <a:lnTo>
                    <a:pt x="116" y="1390"/>
                  </a:lnTo>
                  <a:lnTo>
                    <a:pt x="348" y="1159"/>
                  </a:lnTo>
                  <a:lnTo>
                    <a:pt x="463" y="927"/>
                  </a:lnTo>
                  <a:lnTo>
                    <a:pt x="810" y="811"/>
                  </a:lnTo>
                  <a:lnTo>
                    <a:pt x="1042" y="695"/>
                  </a:lnTo>
                  <a:lnTo>
                    <a:pt x="1273" y="579"/>
                  </a:lnTo>
                  <a:lnTo>
                    <a:pt x="1621" y="348"/>
                  </a:lnTo>
                  <a:lnTo>
                    <a:pt x="1852" y="232"/>
                  </a:lnTo>
                  <a:lnTo>
                    <a:pt x="1852" y="232"/>
                  </a:lnTo>
                  <a:lnTo>
                    <a:pt x="2084" y="116"/>
                  </a:lnTo>
                  <a:lnTo>
                    <a:pt x="2315" y="116"/>
                  </a:lnTo>
                  <a:lnTo>
                    <a:pt x="2546" y="0"/>
                  </a:lnTo>
                  <a:lnTo>
                    <a:pt x="2778" y="0"/>
                  </a:lnTo>
                  <a:lnTo>
                    <a:pt x="3125" y="0"/>
                  </a:lnTo>
                  <a:lnTo>
                    <a:pt x="3357" y="116"/>
                  </a:lnTo>
                  <a:lnTo>
                    <a:pt x="3588" y="116"/>
                  </a:lnTo>
                  <a:lnTo>
                    <a:pt x="3820" y="232"/>
                  </a:lnTo>
                  <a:lnTo>
                    <a:pt x="3820" y="232"/>
                  </a:lnTo>
                  <a:lnTo>
                    <a:pt x="3820" y="232"/>
                  </a:lnTo>
                  <a:lnTo>
                    <a:pt x="3820" y="232"/>
                  </a:lnTo>
                  <a:lnTo>
                    <a:pt x="382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2518560" y="4461120"/>
              <a:ext cx="343440" cy="298440"/>
            </a:xfrm>
            <a:custGeom>
              <a:avLst/>
              <a:gdLst/>
              <a:ahLst/>
              <a:rect l="l" t="t" r="r" b="b"/>
              <a:pathLst>
                <a:path w="9606" h="5559">
                  <a:moveTo>
                    <a:pt x="9606" y="695"/>
                  </a:moveTo>
                  <a:lnTo>
                    <a:pt x="9606" y="811"/>
                  </a:lnTo>
                  <a:lnTo>
                    <a:pt x="9606" y="811"/>
                  </a:lnTo>
                  <a:lnTo>
                    <a:pt x="9490" y="811"/>
                  </a:lnTo>
                  <a:lnTo>
                    <a:pt x="9375" y="811"/>
                  </a:lnTo>
                  <a:lnTo>
                    <a:pt x="9259" y="811"/>
                  </a:lnTo>
                  <a:lnTo>
                    <a:pt x="9143" y="811"/>
                  </a:lnTo>
                  <a:lnTo>
                    <a:pt x="9027" y="811"/>
                  </a:lnTo>
                  <a:lnTo>
                    <a:pt x="8912" y="927"/>
                  </a:lnTo>
                  <a:lnTo>
                    <a:pt x="8796" y="927"/>
                  </a:lnTo>
                  <a:lnTo>
                    <a:pt x="8680" y="1043"/>
                  </a:lnTo>
                  <a:lnTo>
                    <a:pt x="8680" y="1043"/>
                  </a:lnTo>
                  <a:lnTo>
                    <a:pt x="8912" y="1158"/>
                  </a:lnTo>
                  <a:lnTo>
                    <a:pt x="8912" y="1158"/>
                  </a:lnTo>
                  <a:lnTo>
                    <a:pt x="8680" y="1158"/>
                  </a:lnTo>
                  <a:lnTo>
                    <a:pt x="8564" y="1274"/>
                  </a:lnTo>
                  <a:lnTo>
                    <a:pt x="8333" y="1274"/>
                  </a:lnTo>
                  <a:lnTo>
                    <a:pt x="8102" y="1274"/>
                  </a:lnTo>
                  <a:lnTo>
                    <a:pt x="7986" y="1390"/>
                  </a:lnTo>
                  <a:lnTo>
                    <a:pt x="7754" y="1390"/>
                  </a:lnTo>
                  <a:lnTo>
                    <a:pt x="7639" y="1506"/>
                  </a:lnTo>
                  <a:lnTo>
                    <a:pt x="7407" y="1622"/>
                  </a:lnTo>
                  <a:lnTo>
                    <a:pt x="7407" y="1622"/>
                  </a:lnTo>
                  <a:lnTo>
                    <a:pt x="7639" y="1622"/>
                  </a:lnTo>
                  <a:lnTo>
                    <a:pt x="7754" y="1622"/>
                  </a:lnTo>
                  <a:lnTo>
                    <a:pt x="7870" y="1738"/>
                  </a:lnTo>
                  <a:lnTo>
                    <a:pt x="7986" y="1738"/>
                  </a:lnTo>
                  <a:lnTo>
                    <a:pt x="8102" y="1738"/>
                  </a:lnTo>
                  <a:lnTo>
                    <a:pt x="8217" y="1853"/>
                  </a:lnTo>
                  <a:lnTo>
                    <a:pt x="8333" y="1853"/>
                  </a:lnTo>
                  <a:lnTo>
                    <a:pt x="8564" y="1853"/>
                  </a:lnTo>
                  <a:lnTo>
                    <a:pt x="8564" y="1853"/>
                  </a:lnTo>
                  <a:lnTo>
                    <a:pt x="8564" y="1969"/>
                  </a:lnTo>
                  <a:lnTo>
                    <a:pt x="8564" y="1969"/>
                  </a:lnTo>
                  <a:lnTo>
                    <a:pt x="8564" y="1969"/>
                  </a:lnTo>
                  <a:lnTo>
                    <a:pt x="8680" y="2085"/>
                  </a:lnTo>
                  <a:lnTo>
                    <a:pt x="8680" y="2085"/>
                  </a:lnTo>
                  <a:lnTo>
                    <a:pt x="8796" y="1969"/>
                  </a:lnTo>
                  <a:lnTo>
                    <a:pt x="8796" y="1969"/>
                  </a:lnTo>
                  <a:lnTo>
                    <a:pt x="8912" y="1969"/>
                  </a:lnTo>
                  <a:lnTo>
                    <a:pt x="8912" y="1969"/>
                  </a:lnTo>
                  <a:lnTo>
                    <a:pt x="9027" y="1969"/>
                  </a:lnTo>
                  <a:lnTo>
                    <a:pt x="9027" y="1969"/>
                  </a:lnTo>
                  <a:lnTo>
                    <a:pt x="8796" y="2085"/>
                  </a:lnTo>
                  <a:lnTo>
                    <a:pt x="8680" y="2085"/>
                  </a:lnTo>
                  <a:lnTo>
                    <a:pt x="8449" y="2201"/>
                  </a:lnTo>
                  <a:lnTo>
                    <a:pt x="8333" y="2317"/>
                  </a:lnTo>
                  <a:lnTo>
                    <a:pt x="8102" y="2317"/>
                  </a:lnTo>
                  <a:lnTo>
                    <a:pt x="7986" y="2432"/>
                  </a:lnTo>
                  <a:lnTo>
                    <a:pt x="7754" y="2664"/>
                  </a:lnTo>
                  <a:lnTo>
                    <a:pt x="7639" y="2780"/>
                  </a:lnTo>
                  <a:lnTo>
                    <a:pt x="7639" y="2780"/>
                  </a:lnTo>
                  <a:lnTo>
                    <a:pt x="7870" y="2780"/>
                  </a:lnTo>
                  <a:lnTo>
                    <a:pt x="8102" y="2780"/>
                  </a:lnTo>
                  <a:lnTo>
                    <a:pt x="8333" y="2780"/>
                  </a:lnTo>
                  <a:lnTo>
                    <a:pt x="8564" y="2664"/>
                  </a:lnTo>
                  <a:lnTo>
                    <a:pt x="8796" y="2548"/>
                  </a:lnTo>
                  <a:lnTo>
                    <a:pt x="9027" y="2548"/>
                  </a:lnTo>
                  <a:lnTo>
                    <a:pt x="9259" y="2432"/>
                  </a:lnTo>
                  <a:lnTo>
                    <a:pt x="9490" y="2432"/>
                  </a:lnTo>
                  <a:lnTo>
                    <a:pt x="9490" y="2432"/>
                  </a:lnTo>
                  <a:lnTo>
                    <a:pt x="8564" y="2896"/>
                  </a:lnTo>
                  <a:lnTo>
                    <a:pt x="7754" y="3243"/>
                  </a:lnTo>
                  <a:lnTo>
                    <a:pt x="6828" y="3590"/>
                  </a:lnTo>
                  <a:lnTo>
                    <a:pt x="6018" y="3938"/>
                  </a:lnTo>
                  <a:lnTo>
                    <a:pt x="5092" y="4401"/>
                  </a:lnTo>
                  <a:lnTo>
                    <a:pt x="4282" y="4749"/>
                  </a:lnTo>
                  <a:lnTo>
                    <a:pt x="3357" y="5096"/>
                  </a:lnTo>
                  <a:lnTo>
                    <a:pt x="2546" y="5559"/>
                  </a:lnTo>
                  <a:lnTo>
                    <a:pt x="2546" y="5559"/>
                  </a:lnTo>
                  <a:lnTo>
                    <a:pt x="2431" y="5443"/>
                  </a:lnTo>
                  <a:lnTo>
                    <a:pt x="2199" y="5328"/>
                  </a:lnTo>
                  <a:lnTo>
                    <a:pt x="1968" y="5212"/>
                  </a:lnTo>
                  <a:lnTo>
                    <a:pt x="1736" y="5212"/>
                  </a:lnTo>
                  <a:lnTo>
                    <a:pt x="1505" y="5096"/>
                  </a:lnTo>
                  <a:lnTo>
                    <a:pt x="1389" y="4980"/>
                  </a:lnTo>
                  <a:lnTo>
                    <a:pt x="1273" y="4864"/>
                  </a:lnTo>
                  <a:lnTo>
                    <a:pt x="1273" y="4517"/>
                  </a:lnTo>
                  <a:lnTo>
                    <a:pt x="1273" y="4517"/>
                  </a:lnTo>
                  <a:lnTo>
                    <a:pt x="1389" y="4401"/>
                  </a:lnTo>
                  <a:lnTo>
                    <a:pt x="1505" y="4170"/>
                  </a:lnTo>
                  <a:lnTo>
                    <a:pt x="1621" y="4054"/>
                  </a:lnTo>
                  <a:lnTo>
                    <a:pt x="1852" y="3822"/>
                  </a:lnTo>
                  <a:lnTo>
                    <a:pt x="1968" y="3706"/>
                  </a:lnTo>
                  <a:lnTo>
                    <a:pt x="2083" y="3590"/>
                  </a:lnTo>
                  <a:lnTo>
                    <a:pt x="2199" y="3359"/>
                  </a:lnTo>
                  <a:lnTo>
                    <a:pt x="2315" y="3243"/>
                  </a:lnTo>
                  <a:lnTo>
                    <a:pt x="2315" y="3243"/>
                  </a:lnTo>
                  <a:lnTo>
                    <a:pt x="2083" y="3011"/>
                  </a:lnTo>
                  <a:lnTo>
                    <a:pt x="1621" y="2896"/>
                  </a:lnTo>
                  <a:lnTo>
                    <a:pt x="1273" y="2896"/>
                  </a:lnTo>
                  <a:lnTo>
                    <a:pt x="810" y="2896"/>
                  </a:lnTo>
                  <a:lnTo>
                    <a:pt x="347" y="2780"/>
                  </a:lnTo>
                  <a:lnTo>
                    <a:pt x="116" y="2664"/>
                  </a:lnTo>
                  <a:lnTo>
                    <a:pt x="0" y="2317"/>
                  </a:lnTo>
                  <a:lnTo>
                    <a:pt x="0" y="1853"/>
                  </a:lnTo>
                  <a:lnTo>
                    <a:pt x="0" y="1853"/>
                  </a:lnTo>
                  <a:lnTo>
                    <a:pt x="810" y="1274"/>
                  </a:lnTo>
                  <a:lnTo>
                    <a:pt x="1736" y="811"/>
                  </a:lnTo>
                  <a:lnTo>
                    <a:pt x="2662" y="464"/>
                  </a:lnTo>
                  <a:lnTo>
                    <a:pt x="3588" y="232"/>
                  </a:lnTo>
                  <a:lnTo>
                    <a:pt x="4630" y="0"/>
                  </a:lnTo>
                  <a:lnTo>
                    <a:pt x="5555" y="0"/>
                  </a:lnTo>
                  <a:lnTo>
                    <a:pt x="6597" y="116"/>
                  </a:lnTo>
                  <a:lnTo>
                    <a:pt x="7639" y="348"/>
                  </a:lnTo>
                  <a:lnTo>
                    <a:pt x="7639" y="348"/>
                  </a:lnTo>
                  <a:lnTo>
                    <a:pt x="7870" y="464"/>
                  </a:lnTo>
                  <a:lnTo>
                    <a:pt x="8102" y="464"/>
                  </a:lnTo>
                  <a:lnTo>
                    <a:pt x="8333" y="464"/>
                  </a:lnTo>
                  <a:lnTo>
                    <a:pt x="8564" y="464"/>
                  </a:lnTo>
                  <a:lnTo>
                    <a:pt x="8796" y="579"/>
                  </a:lnTo>
                  <a:lnTo>
                    <a:pt x="9143" y="579"/>
                  </a:lnTo>
                  <a:lnTo>
                    <a:pt x="9375" y="579"/>
                  </a:lnTo>
                  <a:lnTo>
                    <a:pt x="9606" y="695"/>
                  </a:lnTo>
                  <a:lnTo>
                    <a:pt x="9606" y="695"/>
                  </a:lnTo>
                  <a:lnTo>
                    <a:pt x="9606" y="695"/>
                  </a:lnTo>
                  <a:lnTo>
                    <a:pt x="9606" y="695"/>
                  </a:lnTo>
                  <a:lnTo>
                    <a:pt x="9606"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1347120" y="4498200"/>
              <a:ext cx="1208520" cy="466200"/>
            </a:xfrm>
            <a:custGeom>
              <a:avLst/>
              <a:gdLst/>
              <a:ahLst/>
              <a:rect l="l" t="t" r="r" b="b"/>
              <a:pathLst>
                <a:path w="33794" h="8686">
                  <a:moveTo>
                    <a:pt x="-31742" y="0"/>
                  </a:moveTo>
                  <a:lnTo>
                    <a:pt x="-31974" y="116"/>
                  </a:lnTo>
                  <a:lnTo>
                    <a:pt x="-32205" y="348"/>
                  </a:lnTo>
                  <a:lnTo>
                    <a:pt x="-32437" y="463"/>
                  </a:lnTo>
                  <a:lnTo>
                    <a:pt x="-32668" y="579"/>
                  </a:lnTo>
                  <a:lnTo>
                    <a:pt x="32637" y="811"/>
                  </a:lnTo>
                  <a:lnTo>
                    <a:pt x="32521" y="927"/>
                  </a:lnTo>
                  <a:lnTo>
                    <a:pt x="32289" y="1158"/>
                  </a:lnTo>
                  <a:lnTo>
                    <a:pt x="32174" y="1390"/>
                  </a:lnTo>
                  <a:lnTo>
                    <a:pt x="32174" y="1390"/>
                  </a:lnTo>
                  <a:lnTo>
                    <a:pt x="32289" y="1506"/>
                  </a:lnTo>
                  <a:lnTo>
                    <a:pt x="32289" y="1737"/>
                  </a:lnTo>
                  <a:lnTo>
                    <a:pt x="32405" y="1853"/>
                  </a:lnTo>
                  <a:lnTo>
                    <a:pt x="32405" y="1969"/>
                  </a:lnTo>
                  <a:lnTo>
                    <a:pt x="32521" y="2085"/>
                  </a:lnTo>
                  <a:lnTo>
                    <a:pt x="32637" y="2201"/>
                  </a:lnTo>
                  <a:lnTo>
                    <a:pt x="32752" y="2316"/>
                  </a:lnTo>
                  <a:lnTo>
                    <a:pt x="-32668" y="2432"/>
                  </a:lnTo>
                  <a:lnTo>
                    <a:pt x="-32668" y="2432"/>
                  </a:lnTo>
                  <a:lnTo>
                    <a:pt x="29628" y="3011"/>
                  </a:lnTo>
                  <a:lnTo>
                    <a:pt x="26271" y="3590"/>
                  </a:lnTo>
                  <a:lnTo>
                    <a:pt x="23031" y="4169"/>
                  </a:lnTo>
                  <a:lnTo>
                    <a:pt x="19790" y="4864"/>
                  </a:lnTo>
                  <a:lnTo>
                    <a:pt x="16550" y="5443"/>
                  </a:lnTo>
                  <a:lnTo>
                    <a:pt x="13309" y="6138"/>
                  </a:lnTo>
                  <a:lnTo>
                    <a:pt x="10069" y="6833"/>
                  </a:lnTo>
                  <a:lnTo>
                    <a:pt x="6713" y="7644"/>
                  </a:lnTo>
                  <a:lnTo>
                    <a:pt x="6713" y="7644"/>
                  </a:lnTo>
                  <a:lnTo>
                    <a:pt x="0" y="8686"/>
                  </a:lnTo>
                  <a:lnTo>
                    <a:pt x="0" y="8686"/>
                  </a:lnTo>
                  <a:lnTo>
                    <a:pt x="0" y="8454"/>
                  </a:lnTo>
                  <a:lnTo>
                    <a:pt x="0" y="8223"/>
                  </a:lnTo>
                  <a:lnTo>
                    <a:pt x="0" y="7991"/>
                  </a:lnTo>
                  <a:lnTo>
                    <a:pt x="0" y="7760"/>
                  </a:lnTo>
                  <a:lnTo>
                    <a:pt x="116" y="7528"/>
                  </a:lnTo>
                  <a:lnTo>
                    <a:pt x="116" y="7296"/>
                  </a:lnTo>
                  <a:lnTo>
                    <a:pt x="232" y="7065"/>
                  </a:lnTo>
                  <a:lnTo>
                    <a:pt x="232" y="6833"/>
                  </a:lnTo>
                  <a:lnTo>
                    <a:pt x="232" y="6833"/>
                  </a:lnTo>
                  <a:lnTo>
                    <a:pt x="694" y="6486"/>
                  </a:lnTo>
                  <a:lnTo>
                    <a:pt x="694" y="6486"/>
                  </a:lnTo>
                  <a:lnTo>
                    <a:pt x="2662" y="6138"/>
                  </a:lnTo>
                  <a:lnTo>
                    <a:pt x="4745" y="5791"/>
                  </a:lnTo>
                  <a:lnTo>
                    <a:pt x="6713" y="5327"/>
                  </a:lnTo>
                  <a:lnTo>
                    <a:pt x="8796" y="4980"/>
                  </a:lnTo>
                  <a:lnTo>
                    <a:pt x="10879" y="4633"/>
                  </a:lnTo>
                  <a:lnTo>
                    <a:pt x="12962" y="4169"/>
                  </a:lnTo>
                  <a:lnTo>
                    <a:pt x="14930" y="3706"/>
                  </a:lnTo>
                  <a:lnTo>
                    <a:pt x="17013" y="3243"/>
                  </a:lnTo>
                  <a:lnTo>
                    <a:pt x="17013" y="3243"/>
                  </a:lnTo>
                  <a:lnTo>
                    <a:pt x="30553" y="579"/>
                  </a:lnTo>
                  <a:lnTo>
                    <a:pt x="30553" y="579"/>
                  </a:lnTo>
                  <a:lnTo>
                    <a:pt x="31016" y="463"/>
                  </a:lnTo>
                  <a:lnTo>
                    <a:pt x="31363" y="463"/>
                  </a:lnTo>
                  <a:lnTo>
                    <a:pt x="31826" y="348"/>
                  </a:lnTo>
                  <a:lnTo>
                    <a:pt x="32174" y="232"/>
                  </a:lnTo>
                  <a:lnTo>
                    <a:pt x="32521" y="232"/>
                  </a:lnTo>
                  <a:lnTo>
                    <a:pt x="-32552" y="116"/>
                  </a:lnTo>
                  <a:lnTo>
                    <a:pt x="-32205" y="116"/>
                  </a:lnTo>
                  <a:lnTo>
                    <a:pt x="-31742" y="0"/>
                  </a:lnTo>
                  <a:lnTo>
                    <a:pt x="-31742" y="0"/>
                  </a:lnTo>
                  <a:lnTo>
                    <a:pt x="-31742" y="0"/>
                  </a:lnTo>
                  <a:lnTo>
                    <a:pt x="-31742" y="0"/>
                  </a:lnTo>
                  <a:lnTo>
                    <a:pt x="-31742"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1131840" y="4579200"/>
              <a:ext cx="169560" cy="204840"/>
            </a:xfrm>
            <a:custGeom>
              <a:avLst/>
              <a:gdLst/>
              <a:ahLst/>
              <a:rect l="l" t="t" r="r" b="b"/>
              <a:pathLst>
                <a:path w="4745" h="3821">
                  <a:moveTo>
                    <a:pt x="4745" y="695"/>
                  </a:moveTo>
                  <a:lnTo>
                    <a:pt x="4514" y="2895"/>
                  </a:lnTo>
                  <a:lnTo>
                    <a:pt x="4514" y="2895"/>
                  </a:lnTo>
                  <a:lnTo>
                    <a:pt x="4282" y="3011"/>
                  </a:lnTo>
                  <a:lnTo>
                    <a:pt x="4051" y="3242"/>
                  </a:lnTo>
                  <a:lnTo>
                    <a:pt x="3819" y="3474"/>
                  </a:lnTo>
                  <a:lnTo>
                    <a:pt x="3588" y="3590"/>
                  </a:lnTo>
                  <a:lnTo>
                    <a:pt x="3356" y="3706"/>
                  </a:lnTo>
                  <a:lnTo>
                    <a:pt x="3125" y="3821"/>
                  </a:lnTo>
                  <a:lnTo>
                    <a:pt x="2893" y="3706"/>
                  </a:lnTo>
                  <a:lnTo>
                    <a:pt x="2662" y="3358"/>
                  </a:lnTo>
                  <a:lnTo>
                    <a:pt x="2662" y="3358"/>
                  </a:lnTo>
                  <a:lnTo>
                    <a:pt x="2430" y="3358"/>
                  </a:lnTo>
                  <a:lnTo>
                    <a:pt x="2315" y="3358"/>
                  </a:lnTo>
                  <a:lnTo>
                    <a:pt x="2199" y="3474"/>
                  </a:lnTo>
                  <a:lnTo>
                    <a:pt x="1967" y="3474"/>
                  </a:lnTo>
                  <a:lnTo>
                    <a:pt x="1852" y="3590"/>
                  </a:lnTo>
                  <a:lnTo>
                    <a:pt x="1736" y="3706"/>
                  </a:lnTo>
                  <a:lnTo>
                    <a:pt x="1505" y="3706"/>
                  </a:lnTo>
                  <a:lnTo>
                    <a:pt x="1389" y="3821"/>
                  </a:lnTo>
                  <a:lnTo>
                    <a:pt x="1389" y="3821"/>
                  </a:lnTo>
                  <a:lnTo>
                    <a:pt x="1042" y="3474"/>
                  </a:lnTo>
                  <a:lnTo>
                    <a:pt x="810" y="3127"/>
                  </a:lnTo>
                  <a:lnTo>
                    <a:pt x="579" y="2663"/>
                  </a:lnTo>
                  <a:lnTo>
                    <a:pt x="463" y="2200"/>
                  </a:lnTo>
                  <a:lnTo>
                    <a:pt x="231" y="1853"/>
                  </a:lnTo>
                  <a:lnTo>
                    <a:pt x="116" y="1389"/>
                  </a:lnTo>
                  <a:lnTo>
                    <a:pt x="0" y="926"/>
                  </a:lnTo>
                  <a:lnTo>
                    <a:pt x="0" y="347"/>
                  </a:lnTo>
                  <a:lnTo>
                    <a:pt x="0" y="347"/>
                  </a:lnTo>
                  <a:lnTo>
                    <a:pt x="463" y="231"/>
                  </a:lnTo>
                  <a:lnTo>
                    <a:pt x="1157" y="0"/>
                  </a:lnTo>
                  <a:lnTo>
                    <a:pt x="1736" y="0"/>
                  </a:lnTo>
                  <a:lnTo>
                    <a:pt x="2430" y="0"/>
                  </a:lnTo>
                  <a:lnTo>
                    <a:pt x="3009" y="116"/>
                  </a:lnTo>
                  <a:lnTo>
                    <a:pt x="3703" y="231"/>
                  </a:lnTo>
                  <a:lnTo>
                    <a:pt x="4282" y="463"/>
                  </a:lnTo>
                  <a:lnTo>
                    <a:pt x="4745" y="695"/>
                  </a:lnTo>
                  <a:lnTo>
                    <a:pt x="4745" y="695"/>
                  </a:lnTo>
                  <a:lnTo>
                    <a:pt x="4745" y="695"/>
                  </a:lnTo>
                  <a:lnTo>
                    <a:pt x="4745" y="695"/>
                  </a:lnTo>
                  <a:lnTo>
                    <a:pt x="4745"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1305720" y="4622760"/>
              <a:ext cx="24480" cy="105480"/>
            </a:xfrm>
            <a:custGeom>
              <a:avLst/>
              <a:gdLst/>
              <a:ahLst/>
              <a:rect l="l" t="t" r="r" b="b"/>
              <a:pathLst>
                <a:path w="694" h="1969">
                  <a:moveTo>
                    <a:pt x="578" y="1969"/>
                  </a:moveTo>
                  <a:lnTo>
                    <a:pt x="463" y="1969"/>
                  </a:lnTo>
                  <a:lnTo>
                    <a:pt x="347" y="1969"/>
                  </a:lnTo>
                  <a:lnTo>
                    <a:pt x="231" y="1969"/>
                  </a:lnTo>
                  <a:lnTo>
                    <a:pt x="231" y="1969"/>
                  </a:lnTo>
                  <a:lnTo>
                    <a:pt x="115" y="1969"/>
                  </a:lnTo>
                  <a:lnTo>
                    <a:pt x="0" y="1969"/>
                  </a:lnTo>
                  <a:lnTo>
                    <a:pt x="0" y="1853"/>
                  </a:lnTo>
                  <a:lnTo>
                    <a:pt x="0" y="1738"/>
                  </a:lnTo>
                  <a:lnTo>
                    <a:pt x="0" y="1738"/>
                  </a:lnTo>
                  <a:lnTo>
                    <a:pt x="347" y="0"/>
                  </a:lnTo>
                  <a:lnTo>
                    <a:pt x="694" y="116"/>
                  </a:lnTo>
                  <a:lnTo>
                    <a:pt x="578" y="1969"/>
                  </a:lnTo>
                  <a:lnTo>
                    <a:pt x="578" y="1969"/>
                  </a:lnTo>
                  <a:lnTo>
                    <a:pt x="578" y="1969"/>
                  </a:lnTo>
                  <a:lnTo>
                    <a:pt x="578" y="19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1338840" y="4635000"/>
              <a:ext cx="28800" cy="105480"/>
            </a:xfrm>
            <a:custGeom>
              <a:avLst/>
              <a:gdLst/>
              <a:ahLst/>
              <a:rect l="l" t="t" r="r" b="b"/>
              <a:pathLst>
                <a:path w="810" h="1969">
                  <a:moveTo>
                    <a:pt x="694" y="232"/>
                  </a:moveTo>
                  <a:lnTo>
                    <a:pt x="810" y="463"/>
                  </a:lnTo>
                  <a:lnTo>
                    <a:pt x="694" y="579"/>
                  </a:lnTo>
                  <a:lnTo>
                    <a:pt x="694" y="695"/>
                  </a:lnTo>
                  <a:lnTo>
                    <a:pt x="694" y="927"/>
                  </a:lnTo>
                  <a:lnTo>
                    <a:pt x="694" y="1042"/>
                  </a:lnTo>
                  <a:lnTo>
                    <a:pt x="694" y="1274"/>
                  </a:lnTo>
                  <a:lnTo>
                    <a:pt x="694" y="1390"/>
                  </a:lnTo>
                  <a:lnTo>
                    <a:pt x="694" y="1621"/>
                  </a:lnTo>
                  <a:lnTo>
                    <a:pt x="694" y="1621"/>
                  </a:lnTo>
                  <a:lnTo>
                    <a:pt x="694" y="1621"/>
                  </a:lnTo>
                  <a:lnTo>
                    <a:pt x="694" y="1621"/>
                  </a:lnTo>
                  <a:lnTo>
                    <a:pt x="694" y="1737"/>
                  </a:lnTo>
                  <a:lnTo>
                    <a:pt x="578" y="1737"/>
                  </a:lnTo>
                  <a:lnTo>
                    <a:pt x="463" y="1853"/>
                  </a:lnTo>
                  <a:lnTo>
                    <a:pt x="463" y="1853"/>
                  </a:lnTo>
                  <a:lnTo>
                    <a:pt x="347" y="1969"/>
                  </a:lnTo>
                  <a:lnTo>
                    <a:pt x="231" y="1969"/>
                  </a:lnTo>
                  <a:lnTo>
                    <a:pt x="231" y="1969"/>
                  </a:lnTo>
                  <a:lnTo>
                    <a:pt x="231" y="1969"/>
                  </a:lnTo>
                  <a:lnTo>
                    <a:pt x="231" y="1969"/>
                  </a:lnTo>
                  <a:lnTo>
                    <a:pt x="115" y="1853"/>
                  </a:lnTo>
                  <a:lnTo>
                    <a:pt x="115" y="1853"/>
                  </a:lnTo>
                  <a:lnTo>
                    <a:pt x="0" y="1853"/>
                  </a:lnTo>
                  <a:lnTo>
                    <a:pt x="0" y="1853"/>
                  </a:lnTo>
                  <a:lnTo>
                    <a:pt x="0" y="1737"/>
                  </a:lnTo>
                  <a:lnTo>
                    <a:pt x="0" y="1737"/>
                  </a:lnTo>
                  <a:lnTo>
                    <a:pt x="0" y="1737"/>
                  </a:lnTo>
                  <a:lnTo>
                    <a:pt x="0" y="1506"/>
                  </a:lnTo>
                  <a:lnTo>
                    <a:pt x="0" y="1274"/>
                  </a:lnTo>
                  <a:lnTo>
                    <a:pt x="0" y="1042"/>
                  </a:lnTo>
                  <a:lnTo>
                    <a:pt x="115" y="927"/>
                  </a:lnTo>
                  <a:lnTo>
                    <a:pt x="115" y="695"/>
                  </a:lnTo>
                  <a:lnTo>
                    <a:pt x="231" y="463"/>
                  </a:lnTo>
                  <a:lnTo>
                    <a:pt x="231" y="232"/>
                  </a:lnTo>
                  <a:lnTo>
                    <a:pt x="115" y="0"/>
                  </a:lnTo>
                  <a:lnTo>
                    <a:pt x="115" y="0"/>
                  </a:lnTo>
                  <a:lnTo>
                    <a:pt x="231" y="0"/>
                  </a:lnTo>
                  <a:lnTo>
                    <a:pt x="347" y="116"/>
                  </a:lnTo>
                  <a:lnTo>
                    <a:pt x="347" y="116"/>
                  </a:lnTo>
                  <a:lnTo>
                    <a:pt x="463" y="232"/>
                  </a:lnTo>
                  <a:lnTo>
                    <a:pt x="463" y="232"/>
                  </a:lnTo>
                  <a:lnTo>
                    <a:pt x="578" y="347"/>
                  </a:lnTo>
                  <a:lnTo>
                    <a:pt x="578" y="347"/>
                  </a:lnTo>
                  <a:lnTo>
                    <a:pt x="694" y="232"/>
                  </a:lnTo>
                  <a:lnTo>
                    <a:pt x="694" y="232"/>
                  </a:lnTo>
                  <a:lnTo>
                    <a:pt x="694" y="232"/>
                  </a:lnTo>
                  <a:lnTo>
                    <a:pt x="694" y="232"/>
                  </a:lnTo>
                  <a:lnTo>
                    <a:pt x="69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
            <p:cNvSpPr/>
            <p:nvPr/>
          </p:nvSpPr>
          <p:spPr>
            <a:xfrm>
              <a:off x="1351080" y="4635000"/>
              <a:ext cx="1241640" cy="441360"/>
            </a:xfrm>
            <a:custGeom>
              <a:avLst/>
              <a:gdLst/>
              <a:ahLst/>
              <a:rect l="l" t="t" r="r" b="b"/>
              <a:pathLst>
                <a:path w="34719" h="8223">
                  <a:moveTo>
                    <a:pt x="-31048" y="0"/>
                  </a:moveTo>
                  <a:lnTo>
                    <a:pt x="-31279" y="232"/>
                  </a:lnTo>
                  <a:lnTo>
                    <a:pt x="-31395" y="347"/>
                  </a:lnTo>
                  <a:lnTo>
                    <a:pt x="-31627" y="579"/>
                  </a:lnTo>
                  <a:lnTo>
                    <a:pt x="-31742" y="811"/>
                  </a:lnTo>
                  <a:lnTo>
                    <a:pt x="-31858" y="1042"/>
                  </a:lnTo>
                  <a:lnTo>
                    <a:pt x="-31858" y="1390"/>
                  </a:lnTo>
                  <a:lnTo>
                    <a:pt x="-31858" y="1621"/>
                  </a:lnTo>
                  <a:lnTo>
                    <a:pt x="-31742" y="1853"/>
                  </a:lnTo>
                  <a:lnTo>
                    <a:pt x="-31742" y="1853"/>
                  </a:lnTo>
                  <a:lnTo>
                    <a:pt x="-31742" y="2085"/>
                  </a:lnTo>
                  <a:lnTo>
                    <a:pt x="-31627" y="2200"/>
                  </a:lnTo>
                  <a:lnTo>
                    <a:pt x="-31511" y="2200"/>
                  </a:lnTo>
                  <a:lnTo>
                    <a:pt x="-31395" y="2316"/>
                  </a:lnTo>
                  <a:lnTo>
                    <a:pt x="-31279" y="2432"/>
                  </a:lnTo>
                  <a:lnTo>
                    <a:pt x="-31164" y="2432"/>
                  </a:lnTo>
                  <a:lnTo>
                    <a:pt x="-30932" y="2548"/>
                  </a:lnTo>
                  <a:lnTo>
                    <a:pt x="-30817" y="2548"/>
                  </a:lnTo>
                  <a:lnTo>
                    <a:pt x="-30817" y="2548"/>
                  </a:lnTo>
                  <a:lnTo>
                    <a:pt x="-31048" y="2664"/>
                  </a:lnTo>
                  <a:lnTo>
                    <a:pt x="-31395" y="2664"/>
                  </a:lnTo>
                  <a:lnTo>
                    <a:pt x="-31627" y="2779"/>
                  </a:lnTo>
                  <a:lnTo>
                    <a:pt x="-31858" y="2779"/>
                  </a:lnTo>
                  <a:lnTo>
                    <a:pt x="-32090" y="2779"/>
                  </a:lnTo>
                  <a:lnTo>
                    <a:pt x="-32437" y="2895"/>
                  </a:lnTo>
                  <a:lnTo>
                    <a:pt x="-32668" y="2895"/>
                  </a:lnTo>
                  <a:lnTo>
                    <a:pt x="32636" y="3011"/>
                  </a:lnTo>
                  <a:lnTo>
                    <a:pt x="32636" y="3011"/>
                  </a:lnTo>
                  <a:lnTo>
                    <a:pt x="32405" y="2895"/>
                  </a:lnTo>
                  <a:lnTo>
                    <a:pt x="32173" y="2779"/>
                  </a:lnTo>
                  <a:lnTo>
                    <a:pt x="31942" y="2779"/>
                  </a:lnTo>
                  <a:lnTo>
                    <a:pt x="31710" y="2779"/>
                  </a:lnTo>
                  <a:lnTo>
                    <a:pt x="31479" y="2779"/>
                  </a:lnTo>
                  <a:lnTo>
                    <a:pt x="31247" y="2779"/>
                  </a:lnTo>
                  <a:lnTo>
                    <a:pt x="31016" y="2895"/>
                  </a:lnTo>
                  <a:lnTo>
                    <a:pt x="30785" y="2895"/>
                  </a:lnTo>
                  <a:lnTo>
                    <a:pt x="30785" y="2895"/>
                  </a:lnTo>
                  <a:lnTo>
                    <a:pt x="29974" y="3474"/>
                  </a:lnTo>
                  <a:lnTo>
                    <a:pt x="29974" y="3474"/>
                  </a:lnTo>
                  <a:lnTo>
                    <a:pt x="29974" y="3359"/>
                  </a:lnTo>
                  <a:lnTo>
                    <a:pt x="29974" y="3359"/>
                  </a:lnTo>
                  <a:lnTo>
                    <a:pt x="29859" y="3243"/>
                  </a:lnTo>
                  <a:lnTo>
                    <a:pt x="29859" y="3127"/>
                  </a:lnTo>
                  <a:lnTo>
                    <a:pt x="29859" y="3127"/>
                  </a:lnTo>
                  <a:lnTo>
                    <a:pt x="29859" y="3011"/>
                  </a:lnTo>
                  <a:lnTo>
                    <a:pt x="29859" y="3011"/>
                  </a:lnTo>
                  <a:lnTo>
                    <a:pt x="29974" y="2895"/>
                  </a:lnTo>
                  <a:lnTo>
                    <a:pt x="29974" y="2895"/>
                  </a:lnTo>
                  <a:lnTo>
                    <a:pt x="-32321" y="2316"/>
                  </a:lnTo>
                  <a:lnTo>
                    <a:pt x="-32321" y="2316"/>
                  </a:lnTo>
                  <a:lnTo>
                    <a:pt x="-32205" y="2316"/>
                  </a:lnTo>
                  <a:lnTo>
                    <a:pt x="-32205" y="2200"/>
                  </a:lnTo>
                  <a:lnTo>
                    <a:pt x="-32205" y="2200"/>
                  </a:lnTo>
                  <a:lnTo>
                    <a:pt x="-32205" y="2200"/>
                  </a:lnTo>
                  <a:lnTo>
                    <a:pt x="-32205" y="2200"/>
                  </a:lnTo>
                  <a:lnTo>
                    <a:pt x="-32205" y="2085"/>
                  </a:lnTo>
                  <a:lnTo>
                    <a:pt x="-32090" y="2085"/>
                  </a:lnTo>
                  <a:lnTo>
                    <a:pt x="-32090" y="2085"/>
                  </a:lnTo>
                  <a:lnTo>
                    <a:pt x="-32090" y="2085"/>
                  </a:lnTo>
                  <a:lnTo>
                    <a:pt x="-32553" y="2085"/>
                  </a:lnTo>
                  <a:lnTo>
                    <a:pt x="32521" y="2200"/>
                  </a:lnTo>
                  <a:lnTo>
                    <a:pt x="31942" y="2200"/>
                  </a:lnTo>
                  <a:lnTo>
                    <a:pt x="31479" y="2316"/>
                  </a:lnTo>
                  <a:lnTo>
                    <a:pt x="31016" y="2432"/>
                  </a:lnTo>
                  <a:lnTo>
                    <a:pt x="30437" y="2548"/>
                  </a:lnTo>
                  <a:lnTo>
                    <a:pt x="29974" y="2664"/>
                  </a:lnTo>
                  <a:lnTo>
                    <a:pt x="29512" y="2779"/>
                  </a:lnTo>
                  <a:lnTo>
                    <a:pt x="29512" y="2779"/>
                  </a:lnTo>
                  <a:lnTo>
                    <a:pt x="29396" y="2664"/>
                  </a:lnTo>
                  <a:lnTo>
                    <a:pt x="29164" y="2664"/>
                  </a:lnTo>
                  <a:lnTo>
                    <a:pt x="28933" y="2548"/>
                  </a:lnTo>
                  <a:lnTo>
                    <a:pt x="28701" y="2548"/>
                  </a:lnTo>
                  <a:lnTo>
                    <a:pt x="28470" y="2432"/>
                  </a:lnTo>
                  <a:lnTo>
                    <a:pt x="28238" y="2548"/>
                  </a:lnTo>
                  <a:lnTo>
                    <a:pt x="28123" y="2548"/>
                  </a:lnTo>
                  <a:lnTo>
                    <a:pt x="27891" y="2664"/>
                  </a:lnTo>
                  <a:lnTo>
                    <a:pt x="27891" y="2664"/>
                  </a:lnTo>
                  <a:lnTo>
                    <a:pt x="27660" y="2895"/>
                  </a:lnTo>
                  <a:lnTo>
                    <a:pt x="27544" y="3011"/>
                  </a:lnTo>
                  <a:lnTo>
                    <a:pt x="27428" y="3011"/>
                  </a:lnTo>
                  <a:lnTo>
                    <a:pt x="27197" y="3011"/>
                  </a:lnTo>
                  <a:lnTo>
                    <a:pt x="27081" y="2895"/>
                  </a:lnTo>
                  <a:lnTo>
                    <a:pt x="26850" y="2895"/>
                  </a:lnTo>
                  <a:lnTo>
                    <a:pt x="26618" y="2895"/>
                  </a:lnTo>
                  <a:lnTo>
                    <a:pt x="26502" y="3127"/>
                  </a:lnTo>
                  <a:lnTo>
                    <a:pt x="26502" y="3127"/>
                  </a:lnTo>
                  <a:lnTo>
                    <a:pt x="26387" y="3474"/>
                  </a:lnTo>
                  <a:lnTo>
                    <a:pt x="26155" y="3706"/>
                  </a:lnTo>
                  <a:lnTo>
                    <a:pt x="25924" y="3822"/>
                  </a:lnTo>
                  <a:lnTo>
                    <a:pt x="25577" y="3822"/>
                  </a:lnTo>
                  <a:lnTo>
                    <a:pt x="25229" y="3822"/>
                  </a:lnTo>
                  <a:lnTo>
                    <a:pt x="24882" y="3822"/>
                  </a:lnTo>
                  <a:lnTo>
                    <a:pt x="24651" y="3822"/>
                  </a:lnTo>
                  <a:lnTo>
                    <a:pt x="24304" y="3938"/>
                  </a:lnTo>
                  <a:lnTo>
                    <a:pt x="24304" y="3938"/>
                  </a:lnTo>
                  <a:lnTo>
                    <a:pt x="21526" y="4517"/>
                  </a:lnTo>
                  <a:lnTo>
                    <a:pt x="18633" y="5096"/>
                  </a:lnTo>
                  <a:lnTo>
                    <a:pt x="15855" y="5559"/>
                  </a:lnTo>
                  <a:lnTo>
                    <a:pt x="13078" y="6138"/>
                  </a:lnTo>
                  <a:lnTo>
                    <a:pt x="10184" y="6717"/>
                  </a:lnTo>
                  <a:lnTo>
                    <a:pt x="7407" y="7296"/>
                  </a:lnTo>
                  <a:lnTo>
                    <a:pt x="4513" y="7759"/>
                  </a:lnTo>
                  <a:lnTo>
                    <a:pt x="1620" y="8223"/>
                  </a:lnTo>
                  <a:lnTo>
                    <a:pt x="1620" y="8223"/>
                  </a:lnTo>
                  <a:lnTo>
                    <a:pt x="1389" y="8107"/>
                  </a:lnTo>
                  <a:lnTo>
                    <a:pt x="1157" y="7875"/>
                  </a:lnTo>
                  <a:lnTo>
                    <a:pt x="926" y="7759"/>
                  </a:lnTo>
                  <a:lnTo>
                    <a:pt x="694" y="7528"/>
                  </a:lnTo>
                  <a:lnTo>
                    <a:pt x="463" y="7296"/>
                  </a:lnTo>
                  <a:lnTo>
                    <a:pt x="231" y="7064"/>
                  </a:lnTo>
                  <a:lnTo>
                    <a:pt x="116" y="6717"/>
                  </a:lnTo>
                  <a:lnTo>
                    <a:pt x="0" y="6485"/>
                  </a:lnTo>
                  <a:lnTo>
                    <a:pt x="0" y="6485"/>
                  </a:lnTo>
                  <a:lnTo>
                    <a:pt x="4398" y="5675"/>
                  </a:lnTo>
                  <a:lnTo>
                    <a:pt x="8680" y="4864"/>
                  </a:lnTo>
                  <a:lnTo>
                    <a:pt x="12846" y="3938"/>
                  </a:lnTo>
                  <a:lnTo>
                    <a:pt x="17128" y="3127"/>
                  </a:lnTo>
                  <a:lnTo>
                    <a:pt x="21295" y="2316"/>
                  </a:lnTo>
                  <a:lnTo>
                    <a:pt x="25577" y="1506"/>
                  </a:lnTo>
                  <a:lnTo>
                    <a:pt x="29859" y="695"/>
                  </a:lnTo>
                  <a:lnTo>
                    <a:pt x="-31279" y="116"/>
                  </a:lnTo>
                  <a:lnTo>
                    <a:pt x="-31279" y="116"/>
                  </a:lnTo>
                  <a:lnTo>
                    <a:pt x="-31279" y="0"/>
                  </a:lnTo>
                  <a:lnTo>
                    <a:pt x="-31279" y="0"/>
                  </a:lnTo>
                  <a:lnTo>
                    <a:pt x="-31164" y="0"/>
                  </a:lnTo>
                  <a:lnTo>
                    <a:pt x="-31164" y="0"/>
                  </a:lnTo>
                  <a:lnTo>
                    <a:pt x="-31164" y="0"/>
                  </a:lnTo>
                  <a:lnTo>
                    <a:pt x="-31164" y="0"/>
                  </a:lnTo>
                  <a:lnTo>
                    <a:pt x="-31048" y="0"/>
                  </a:lnTo>
                  <a:lnTo>
                    <a:pt x="-31048" y="0"/>
                  </a:lnTo>
                  <a:lnTo>
                    <a:pt x="-31048" y="0"/>
                  </a:lnTo>
                  <a:lnTo>
                    <a:pt x="-31048" y="0"/>
                  </a:lnTo>
                  <a:lnTo>
                    <a:pt x="-31048" y="0"/>
                  </a:lnTo>
                  <a:lnTo>
                    <a:pt x="-31048"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1160640" y="4728240"/>
              <a:ext cx="322560" cy="565560"/>
            </a:xfrm>
            <a:custGeom>
              <a:avLst/>
              <a:gdLst/>
              <a:ahLst/>
              <a:rect l="l" t="t" r="r" b="b"/>
              <a:pathLst>
                <a:path w="9027" h="10539">
                  <a:moveTo>
                    <a:pt x="7176" y="579"/>
                  </a:moveTo>
                  <a:lnTo>
                    <a:pt x="7176" y="695"/>
                  </a:lnTo>
                  <a:lnTo>
                    <a:pt x="7176" y="811"/>
                  </a:lnTo>
                  <a:lnTo>
                    <a:pt x="7176" y="927"/>
                  </a:lnTo>
                  <a:lnTo>
                    <a:pt x="7060" y="1042"/>
                  </a:lnTo>
                  <a:lnTo>
                    <a:pt x="7060" y="1158"/>
                  </a:lnTo>
                  <a:lnTo>
                    <a:pt x="6944" y="1274"/>
                  </a:lnTo>
                  <a:lnTo>
                    <a:pt x="6828" y="1274"/>
                  </a:lnTo>
                  <a:lnTo>
                    <a:pt x="6713" y="1274"/>
                  </a:lnTo>
                  <a:lnTo>
                    <a:pt x="6713" y="1274"/>
                  </a:lnTo>
                  <a:lnTo>
                    <a:pt x="6597" y="1274"/>
                  </a:lnTo>
                  <a:lnTo>
                    <a:pt x="6365" y="1274"/>
                  </a:lnTo>
                  <a:lnTo>
                    <a:pt x="6134" y="1274"/>
                  </a:lnTo>
                  <a:lnTo>
                    <a:pt x="6018" y="1274"/>
                  </a:lnTo>
                  <a:lnTo>
                    <a:pt x="5787" y="1390"/>
                  </a:lnTo>
                  <a:lnTo>
                    <a:pt x="5671" y="1506"/>
                  </a:lnTo>
                  <a:lnTo>
                    <a:pt x="5555" y="1622"/>
                  </a:lnTo>
                  <a:lnTo>
                    <a:pt x="5440" y="1737"/>
                  </a:lnTo>
                  <a:lnTo>
                    <a:pt x="5440" y="1737"/>
                  </a:lnTo>
                  <a:lnTo>
                    <a:pt x="5324" y="1969"/>
                  </a:lnTo>
                  <a:lnTo>
                    <a:pt x="5092" y="2201"/>
                  </a:lnTo>
                  <a:lnTo>
                    <a:pt x="4977" y="2432"/>
                  </a:lnTo>
                  <a:lnTo>
                    <a:pt x="4861" y="2664"/>
                  </a:lnTo>
                  <a:lnTo>
                    <a:pt x="4745" y="2895"/>
                  </a:lnTo>
                  <a:lnTo>
                    <a:pt x="4745" y="3127"/>
                  </a:lnTo>
                  <a:lnTo>
                    <a:pt x="4629" y="3359"/>
                  </a:lnTo>
                  <a:lnTo>
                    <a:pt x="4745" y="3590"/>
                  </a:lnTo>
                  <a:lnTo>
                    <a:pt x="4745" y="3590"/>
                  </a:lnTo>
                  <a:lnTo>
                    <a:pt x="4629" y="3822"/>
                  </a:lnTo>
                  <a:lnTo>
                    <a:pt x="4629" y="4054"/>
                  </a:lnTo>
                  <a:lnTo>
                    <a:pt x="4629" y="4401"/>
                  </a:lnTo>
                  <a:lnTo>
                    <a:pt x="4745" y="4633"/>
                  </a:lnTo>
                  <a:lnTo>
                    <a:pt x="4861" y="4864"/>
                  </a:lnTo>
                  <a:lnTo>
                    <a:pt x="4861" y="5212"/>
                  </a:lnTo>
                  <a:lnTo>
                    <a:pt x="4977" y="5443"/>
                  </a:lnTo>
                  <a:lnTo>
                    <a:pt x="5092" y="5675"/>
                  </a:lnTo>
                  <a:lnTo>
                    <a:pt x="5092" y="5675"/>
                  </a:lnTo>
                  <a:lnTo>
                    <a:pt x="5555" y="6138"/>
                  </a:lnTo>
                  <a:lnTo>
                    <a:pt x="5902" y="6486"/>
                  </a:lnTo>
                  <a:lnTo>
                    <a:pt x="6481" y="6717"/>
                  </a:lnTo>
                  <a:lnTo>
                    <a:pt x="6944" y="6949"/>
                  </a:lnTo>
                  <a:lnTo>
                    <a:pt x="7523" y="7180"/>
                  </a:lnTo>
                  <a:lnTo>
                    <a:pt x="7986" y="7296"/>
                  </a:lnTo>
                  <a:lnTo>
                    <a:pt x="8564" y="7528"/>
                  </a:lnTo>
                  <a:lnTo>
                    <a:pt x="9027" y="7875"/>
                  </a:lnTo>
                  <a:lnTo>
                    <a:pt x="9027" y="7875"/>
                  </a:lnTo>
                  <a:lnTo>
                    <a:pt x="9027" y="7991"/>
                  </a:lnTo>
                  <a:lnTo>
                    <a:pt x="9027" y="8107"/>
                  </a:lnTo>
                  <a:lnTo>
                    <a:pt x="9027" y="8223"/>
                  </a:lnTo>
                  <a:lnTo>
                    <a:pt x="8911" y="8339"/>
                  </a:lnTo>
                  <a:lnTo>
                    <a:pt x="8911" y="8454"/>
                  </a:lnTo>
                  <a:lnTo>
                    <a:pt x="8911" y="8570"/>
                  </a:lnTo>
                  <a:lnTo>
                    <a:pt x="8796" y="8686"/>
                  </a:lnTo>
                  <a:lnTo>
                    <a:pt x="8796" y="8802"/>
                  </a:lnTo>
                  <a:lnTo>
                    <a:pt x="8796" y="8802"/>
                  </a:lnTo>
                  <a:lnTo>
                    <a:pt x="8449" y="8918"/>
                  </a:lnTo>
                  <a:lnTo>
                    <a:pt x="8217" y="9033"/>
                  </a:lnTo>
                  <a:lnTo>
                    <a:pt x="7870" y="8918"/>
                  </a:lnTo>
                  <a:lnTo>
                    <a:pt x="7638" y="8918"/>
                  </a:lnTo>
                  <a:lnTo>
                    <a:pt x="7291" y="8686"/>
                  </a:lnTo>
                  <a:lnTo>
                    <a:pt x="7060" y="8570"/>
                  </a:lnTo>
                  <a:lnTo>
                    <a:pt x="6828" y="8454"/>
                  </a:lnTo>
                  <a:lnTo>
                    <a:pt x="6597" y="8223"/>
                  </a:lnTo>
                  <a:lnTo>
                    <a:pt x="6597" y="8223"/>
                  </a:lnTo>
                  <a:lnTo>
                    <a:pt x="6134" y="8223"/>
                  </a:lnTo>
                  <a:lnTo>
                    <a:pt x="5787" y="8107"/>
                  </a:lnTo>
                  <a:lnTo>
                    <a:pt x="5440" y="7991"/>
                  </a:lnTo>
                  <a:lnTo>
                    <a:pt x="5092" y="7759"/>
                  </a:lnTo>
                  <a:lnTo>
                    <a:pt x="4745" y="7528"/>
                  </a:lnTo>
                  <a:lnTo>
                    <a:pt x="4398" y="7296"/>
                  </a:lnTo>
                  <a:lnTo>
                    <a:pt x="4051" y="7065"/>
                  </a:lnTo>
                  <a:lnTo>
                    <a:pt x="3704" y="6949"/>
                  </a:lnTo>
                  <a:lnTo>
                    <a:pt x="3704" y="6949"/>
                  </a:lnTo>
                  <a:lnTo>
                    <a:pt x="3588" y="6833"/>
                  </a:lnTo>
                  <a:lnTo>
                    <a:pt x="3472" y="6949"/>
                  </a:lnTo>
                  <a:lnTo>
                    <a:pt x="4861" y="8223"/>
                  </a:lnTo>
                  <a:lnTo>
                    <a:pt x="4861" y="8223"/>
                  </a:lnTo>
                  <a:lnTo>
                    <a:pt x="4514" y="8223"/>
                  </a:lnTo>
                  <a:lnTo>
                    <a:pt x="4166" y="8107"/>
                  </a:lnTo>
                  <a:lnTo>
                    <a:pt x="3819" y="7875"/>
                  </a:lnTo>
                  <a:lnTo>
                    <a:pt x="3588" y="7644"/>
                  </a:lnTo>
                  <a:lnTo>
                    <a:pt x="3241" y="7412"/>
                  </a:lnTo>
                  <a:lnTo>
                    <a:pt x="3009" y="7180"/>
                  </a:lnTo>
                  <a:lnTo>
                    <a:pt x="2662" y="7065"/>
                  </a:lnTo>
                  <a:lnTo>
                    <a:pt x="2430" y="6949"/>
                  </a:lnTo>
                  <a:lnTo>
                    <a:pt x="2430" y="6949"/>
                  </a:lnTo>
                  <a:lnTo>
                    <a:pt x="2546" y="7180"/>
                  </a:lnTo>
                  <a:lnTo>
                    <a:pt x="2662" y="7412"/>
                  </a:lnTo>
                  <a:lnTo>
                    <a:pt x="2893" y="7644"/>
                  </a:lnTo>
                  <a:lnTo>
                    <a:pt x="3125" y="7875"/>
                  </a:lnTo>
                  <a:lnTo>
                    <a:pt x="3241" y="7991"/>
                  </a:lnTo>
                  <a:lnTo>
                    <a:pt x="3472" y="8223"/>
                  </a:lnTo>
                  <a:lnTo>
                    <a:pt x="3704" y="8454"/>
                  </a:lnTo>
                  <a:lnTo>
                    <a:pt x="3935" y="8570"/>
                  </a:lnTo>
                  <a:lnTo>
                    <a:pt x="3935" y="8570"/>
                  </a:lnTo>
                  <a:lnTo>
                    <a:pt x="3935" y="8686"/>
                  </a:lnTo>
                  <a:lnTo>
                    <a:pt x="3819" y="8686"/>
                  </a:lnTo>
                  <a:lnTo>
                    <a:pt x="3588" y="8802"/>
                  </a:lnTo>
                  <a:lnTo>
                    <a:pt x="3472" y="8802"/>
                  </a:lnTo>
                  <a:lnTo>
                    <a:pt x="3356" y="8802"/>
                  </a:lnTo>
                  <a:lnTo>
                    <a:pt x="3241" y="8802"/>
                  </a:lnTo>
                  <a:lnTo>
                    <a:pt x="3009" y="8802"/>
                  </a:lnTo>
                  <a:lnTo>
                    <a:pt x="3009" y="8686"/>
                  </a:lnTo>
                  <a:lnTo>
                    <a:pt x="3009" y="8686"/>
                  </a:lnTo>
                  <a:lnTo>
                    <a:pt x="2662" y="8570"/>
                  </a:lnTo>
                  <a:lnTo>
                    <a:pt x="2546" y="8339"/>
                  </a:lnTo>
                  <a:lnTo>
                    <a:pt x="2315" y="8107"/>
                  </a:lnTo>
                  <a:lnTo>
                    <a:pt x="2083" y="7875"/>
                  </a:lnTo>
                  <a:lnTo>
                    <a:pt x="1852" y="7644"/>
                  </a:lnTo>
                  <a:lnTo>
                    <a:pt x="1620" y="7412"/>
                  </a:lnTo>
                  <a:lnTo>
                    <a:pt x="1505" y="7296"/>
                  </a:lnTo>
                  <a:lnTo>
                    <a:pt x="1273" y="7065"/>
                  </a:lnTo>
                  <a:lnTo>
                    <a:pt x="1273" y="7065"/>
                  </a:lnTo>
                  <a:lnTo>
                    <a:pt x="1157" y="7412"/>
                  </a:lnTo>
                  <a:lnTo>
                    <a:pt x="1157" y="7759"/>
                  </a:lnTo>
                  <a:lnTo>
                    <a:pt x="1157" y="8107"/>
                  </a:lnTo>
                  <a:lnTo>
                    <a:pt x="1157" y="8454"/>
                  </a:lnTo>
                  <a:lnTo>
                    <a:pt x="1273" y="8802"/>
                  </a:lnTo>
                  <a:lnTo>
                    <a:pt x="1389" y="9149"/>
                  </a:lnTo>
                  <a:lnTo>
                    <a:pt x="1505" y="9612"/>
                  </a:lnTo>
                  <a:lnTo>
                    <a:pt x="1620" y="9960"/>
                  </a:lnTo>
                  <a:lnTo>
                    <a:pt x="1620" y="9960"/>
                  </a:lnTo>
                  <a:lnTo>
                    <a:pt x="1620" y="10539"/>
                  </a:lnTo>
                  <a:lnTo>
                    <a:pt x="1620" y="10539"/>
                  </a:lnTo>
                  <a:lnTo>
                    <a:pt x="1389" y="10539"/>
                  </a:lnTo>
                  <a:lnTo>
                    <a:pt x="1273" y="10539"/>
                  </a:lnTo>
                  <a:lnTo>
                    <a:pt x="1042" y="10423"/>
                  </a:lnTo>
                  <a:lnTo>
                    <a:pt x="926" y="10423"/>
                  </a:lnTo>
                  <a:lnTo>
                    <a:pt x="810" y="10191"/>
                  </a:lnTo>
                  <a:lnTo>
                    <a:pt x="695" y="10076"/>
                  </a:lnTo>
                  <a:lnTo>
                    <a:pt x="579" y="9960"/>
                  </a:lnTo>
                  <a:lnTo>
                    <a:pt x="463" y="9844"/>
                  </a:lnTo>
                  <a:lnTo>
                    <a:pt x="463" y="9844"/>
                  </a:lnTo>
                  <a:lnTo>
                    <a:pt x="116" y="9149"/>
                  </a:lnTo>
                  <a:lnTo>
                    <a:pt x="0" y="8570"/>
                  </a:lnTo>
                  <a:lnTo>
                    <a:pt x="116" y="7991"/>
                  </a:lnTo>
                  <a:lnTo>
                    <a:pt x="347" y="7412"/>
                  </a:lnTo>
                  <a:lnTo>
                    <a:pt x="579" y="6833"/>
                  </a:lnTo>
                  <a:lnTo>
                    <a:pt x="810" y="6138"/>
                  </a:lnTo>
                  <a:lnTo>
                    <a:pt x="926" y="5559"/>
                  </a:lnTo>
                  <a:lnTo>
                    <a:pt x="926" y="4864"/>
                  </a:lnTo>
                  <a:lnTo>
                    <a:pt x="926" y="4864"/>
                  </a:lnTo>
                  <a:lnTo>
                    <a:pt x="1157" y="4864"/>
                  </a:lnTo>
                  <a:lnTo>
                    <a:pt x="1389" y="4864"/>
                  </a:lnTo>
                  <a:lnTo>
                    <a:pt x="1620" y="4864"/>
                  </a:lnTo>
                  <a:lnTo>
                    <a:pt x="1852" y="4748"/>
                  </a:lnTo>
                  <a:lnTo>
                    <a:pt x="2083" y="4633"/>
                  </a:lnTo>
                  <a:lnTo>
                    <a:pt x="2315" y="4517"/>
                  </a:lnTo>
                  <a:lnTo>
                    <a:pt x="2546" y="4401"/>
                  </a:lnTo>
                  <a:lnTo>
                    <a:pt x="2662" y="4169"/>
                  </a:lnTo>
                  <a:lnTo>
                    <a:pt x="2662" y="4169"/>
                  </a:lnTo>
                  <a:lnTo>
                    <a:pt x="2778" y="3822"/>
                  </a:lnTo>
                  <a:lnTo>
                    <a:pt x="3009" y="3475"/>
                  </a:lnTo>
                  <a:lnTo>
                    <a:pt x="3125" y="3127"/>
                  </a:lnTo>
                  <a:lnTo>
                    <a:pt x="3241" y="2780"/>
                  </a:lnTo>
                  <a:lnTo>
                    <a:pt x="3241" y="2432"/>
                  </a:lnTo>
                  <a:lnTo>
                    <a:pt x="3241" y="2085"/>
                  </a:lnTo>
                  <a:lnTo>
                    <a:pt x="3125" y="1737"/>
                  </a:lnTo>
                  <a:lnTo>
                    <a:pt x="3009" y="1390"/>
                  </a:lnTo>
                  <a:lnTo>
                    <a:pt x="3009" y="1390"/>
                  </a:lnTo>
                  <a:lnTo>
                    <a:pt x="3125" y="1274"/>
                  </a:lnTo>
                  <a:lnTo>
                    <a:pt x="3241" y="1042"/>
                  </a:lnTo>
                  <a:lnTo>
                    <a:pt x="3472" y="811"/>
                  </a:lnTo>
                  <a:lnTo>
                    <a:pt x="3704" y="695"/>
                  </a:lnTo>
                  <a:lnTo>
                    <a:pt x="3819" y="579"/>
                  </a:lnTo>
                  <a:lnTo>
                    <a:pt x="4051" y="463"/>
                  </a:lnTo>
                  <a:lnTo>
                    <a:pt x="4282" y="463"/>
                  </a:lnTo>
                  <a:lnTo>
                    <a:pt x="4629" y="463"/>
                  </a:lnTo>
                  <a:lnTo>
                    <a:pt x="4629" y="463"/>
                  </a:lnTo>
                  <a:lnTo>
                    <a:pt x="4745" y="579"/>
                  </a:lnTo>
                  <a:lnTo>
                    <a:pt x="4977" y="579"/>
                  </a:lnTo>
                  <a:lnTo>
                    <a:pt x="5092" y="695"/>
                  </a:lnTo>
                  <a:lnTo>
                    <a:pt x="5324" y="811"/>
                  </a:lnTo>
                  <a:lnTo>
                    <a:pt x="5440" y="927"/>
                  </a:lnTo>
                  <a:lnTo>
                    <a:pt x="5555" y="927"/>
                  </a:lnTo>
                  <a:lnTo>
                    <a:pt x="5787" y="927"/>
                  </a:lnTo>
                  <a:lnTo>
                    <a:pt x="6018" y="811"/>
                  </a:lnTo>
                  <a:lnTo>
                    <a:pt x="6018" y="811"/>
                  </a:lnTo>
                  <a:lnTo>
                    <a:pt x="5671" y="463"/>
                  </a:lnTo>
                  <a:lnTo>
                    <a:pt x="5671" y="463"/>
                  </a:lnTo>
                  <a:lnTo>
                    <a:pt x="5902" y="348"/>
                  </a:lnTo>
                  <a:lnTo>
                    <a:pt x="6134" y="232"/>
                  </a:lnTo>
                  <a:lnTo>
                    <a:pt x="6365" y="116"/>
                  </a:lnTo>
                  <a:lnTo>
                    <a:pt x="6597" y="0"/>
                  </a:lnTo>
                  <a:lnTo>
                    <a:pt x="6828" y="0"/>
                  </a:lnTo>
                  <a:lnTo>
                    <a:pt x="6944" y="116"/>
                  </a:lnTo>
                  <a:lnTo>
                    <a:pt x="7060" y="232"/>
                  </a:lnTo>
                  <a:lnTo>
                    <a:pt x="7176" y="579"/>
                  </a:lnTo>
                  <a:lnTo>
                    <a:pt x="7176" y="579"/>
                  </a:lnTo>
                  <a:lnTo>
                    <a:pt x="7176" y="579"/>
                  </a:lnTo>
                  <a:lnTo>
                    <a:pt x="7176" y="579"/>
                  </a:lnTo>
                  <a:lnTo>
                    <a:pt x="717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1152360" y="4784400"/>
              <a:ext cx="103320" cy="173880"/>
            </a:xfrm>
            <a:custGeom>
              <a:avLst/>
              <a:gdLst/>
              <a:ahLst/>
              <a:rect l="l" t="t" r="r" b="b"/>
              <a:pathLst>
                <a:path w="2893" h="3243">
                  <a:moveTo>
                    <a:pt x="2893" y="927"/>
                  </a:moveTo>
                  <a:lnTo>
                    <a:pt x="2893" y="1159"/>
                  </a:lnTo>
                  <a:lnTo>
                    <a:pt x="2893" y="1390"/>
                  </a:lnTo>
                  <a:lnTo>
                    <a:pt x="2893" y="1622"/>
                  </a:lnTo>
                  <a:lnTo>
                    <a:pt x="2893" y="1853"/>
                  </a:lnTo>
                  <a:lnTo>
                    <a:pt x="2777" y="2085"/>
                  </a:lnTo>
                  <a:lnTo>
                    <a:pt x="2661" y="2317"/>
                  </a:lnTo>
                  <a:lnTo>
                    <a:pt x="2546" y="2548"/>
                  </a:lnTo>
                  <a:lnTo>
                    <a:pt x="2430" y="2780"/>
                  </a:lnTo>
                  <a:lnTo>
                    <a:pt x="2430" y="2780"/>
                  </a:lnTo>
                  <a:lnTo>
                    <a:pt x="2314" y="2896"/>
                  </a:lnTo>
                  <a:lnTo>
                    <a:pt x="2199" y="3012"/>
                  </a:lnTo>
                  <a:lnTo>
                    <a:pt x="1967" y="3127"/>
                  </a:lnTo>
                  <a:lnTo>
                    <a:pt x="1851" y="3243"/>
                  </a:lnTo>
                  <a:lnTo>
                    <a:pt x="1620" y="3243"/>
                  </a:lnTo>
                  <a:lnTo>
                    <a:pt x="1388" y="3243"/>
                  </a:lnTo>
                  <a:lnTo>
                    <a:pt x="1157" y="3243"/>
                  </a:lnTo>
                  <a:lnTo>
                    <a:pt x="1041" y="3243"/>
                  </a:lnTo>
                  <a:lnTo>
                    <a:pt x="1041" y="3243"/>
                  </a:lnTo>
                  <a:lnTo>
                    <a:pt x="810" y="3127"/>
                  </a:lnTo>
                  <a:lnTo>
                    <a:pt x="694" y="3127"/>
                  </a:lnTo>
                  <a:lnTo>
                    <a:pt x="463" y="3012"/>
                  </a:lnTo>
                  <a:lnTo>
                    <a:pt x="347" y="2896"/>
                  </a:lnTo>
                  <a:lnTo>
                    <a:pt x="231" y="2664"/>
                  </a:lnTo>
                  <a:lnTo>
                    <a:pt x="231" y="2548"/>
                  </a:lnTo>
                  <a:lnTo>
                    <a:pt x="115" y="2433"/>
                  </a:lnTo>
                  <a:lnTo>
                    <a:pt x="0" y="2201"/>
                  </a:lnTo>
                  <a:lnTo>
                    <a:pt x="0" y="2201"/>
                  </a:lnTo>
                  <a:lnTo>
                    <a:pt x="231" y="2317"/>
                  </a:lnTo>
                  <a:lnTo>
                    <a:pt x="347" y="2317"/>
                  </a:lnTo>
                  <a:lnTo>
                    <a:pt x="578" y="2317"/>
                  </a:lnTo>
                  <a:lnTo>
                    <a:pt x="810" y="2317"/>
                  </a:lnTo>
                  <a:lnTo>
                    <a:pt x="926" y="2317"/>
                  </a:lnTo>
                  <a:lnTo>
                    <a:pt x="1157" y="2201"/>
                  </a:lnTo>
                  <a:lnTo>
                    <a:pt x="1388" y="2201"/>
                  </a:lnTo>
                  <a:lnTo>
                    <a:pt x="1620" y="1969"/>
                  </a:lnTo>
                  <a:lnTo>
                    <a:pt x="1620" y="1969"/>
                  </a:lnTo>
                  <a:lnTo>
                    <a:pt x="1620" y="1853"/>
                  </a:lnTo>
                  <a:lnTo>
                    <a:pt x="1736" y="1738"/>
                  </a:lnTo>
                  <a:lnTo>
                    <a:pt x="1851" y="1506"/>
                  </a:lnTo>
                  <a:lnTo>
                    <a:pt x="1851" y="1390"/>
                  </a:lnTo>
                  <a:lnTo>
                    <a:pt x="1967" y="1159"/>
                  </a:lnTo>
                  <a:lnTo>
                    <a:pt x="1967" y="1043"/>
                  </a:lnTo>
                  <a:lnTo>
                    <a:pt x="1851" y="811"/>
                  </a:lnTo>
                  <a:lnTo>
                    <a:pt x="1736" y="695"/>
                  </a:lnTo>
                  <a:lnTo>
                    <a:pt x="1736" y="695"/>
                  </a:lnTo>
                  <a:lnTo>
                    <a:pt x="1504" y="232"/>
                  </a:lnTo>
                  <a:lnTo>
                    <a:pt x="1504" y="232"/>
                  </a:lnTo>
                  <a:lnTo>
                    <a:pt x="1620" y="116"/>
                  </a:lnTo>
                  <a:lnTo>
                    <a:pt x="1851" y="0"/>
                  </a:lnTo>
                  <a:lnTo>
                    <a:pt x="2083" y="116"/>
                  </a:lnTo>
                  <a:lnTo>
                    <a:pt x="2314" y="232"/>
                  </a:lnTo>
                  <a:lnTo>
                    <a:pt x="2546" y="348"/>
                  </a:lnTo>
                  <a:lnTo>
                    <a:pt x="2661" y="580"/>
                  </a:lnTo>
                  <a:lnTo>
                    <a:pt x="2777" y="811"/>
                  </a:lnTo>
                  <a:lnTo>
                    <a:pt x="2893" y="927"/>
                  </a:lnTo>
                  <a:lnTo>
                    <a:pt x="2893" y="927"/>
                  </a:lnTo>
                  <a:lnTo>
                    <a:pt x="2893" y="927"/>
                  </a:lnTo>
                  <a:lnTo>
                    <a:pt x="2893" y="927"/>
                  </a:lnTo>
                  <a:lnTo>
                    <a:pt x="2893"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2332080" y="4790520"/>
              <a:ext cx="74520" cy="173880"/>
            </a:xfrm>
            <a:custGeom>
              <a:avLst/>
              <a:gdLst/>
              <a:ahLst/>
              <a:rect l="l" t="t" r="r" b="b"/>
              <a:pathLst>
                <a:path w="2084" h="3243">
                  <a:moveTo>
                    <a:pt x="2084" y="464"/>
                  </a:moveTo>
                  <a:lnTo>
                    <a:pt x="2084" y="811"/>
                  </a:lnTo>
                  <a:lnTo>
                    <a:pt x="2084" y="1043"/>
                  </a:lnTo>
                  <a:lnTo>
                    <a:pt x="1968" y="1274"/>
                  </a:lnTo>
                  <a:lnTo>
                    <a:pt x="1852" y="1622"/>
                  </a:lnTo>
                  <a:lnTo>
                    <a:pt x="1736" y="1853"/>
                  </a:lnTo>
                  <a:lnTo>
                    <a:pt x="1621" y="2085"/>
                  </a:lnTo>
                  <a:lnTo>
                    <a:pt x="1505" y="2317"/>
                  </a:lnTo>
                  <a:lnTo>
                    <a:pt x="1389" y="2548"/>
                  </a:lnTo>
                  <a:lnTo>
                    <a:pt x="1389" y="2548"/>
                  </a:lnTo>
                  <a:lnTo>
                    <a:pt x="1158" y="2664"/>
                  </a:lnTo>
                  <a:lnTo>
                    <a:pt x="1042" y="2780"/>
                  </a:lnTo>
                  <a:lnTo>
                    <a:pt x="926" y="2896"/>
                  </a:lnTo>
                  <a:lnTo>
                    <a:pt x="695" y="3011"/>
                  </a:lnTo>
                  <a:lnTo>
                    <a:pt x="579" y="3127"/>
                  </a:lnTo>
                  <a:lnTo>
                    <a:pt x="463" y="3243"/>
                  </a:lnTo>
                  <a:lnTo>
                    <a:pt x="232" y="3243"/>
                  </a:lnTo>
                  <a:lnTo>
                    <a:pt x="0" y="3243"/>
                  </a:lnTo>
                  <a:lnTo>
                    <a:pt x="0" y="3243"/>
                  </a:lnTo>
                  <a:lnTo>
                    <a:pt x="116" y="2896"/>
                  </a:lnTo>
                  <a:lnTo>
                    <a:pt x="116" y="2548"/>
                  </a:lnTo>
                  <a:lnTo>
                    <a:pt x="232" y="2317"/>
                  </a:lnTo>
                  <a:lnTo>
                    <a:pt x="348" y="1969"/>
                  </a:lnTo>
                  <a:lnTo>
                    <a:pt x="348" y="1622"/>
                  </a:lnTo>
                  <a:lnTo>
                    <a:pt x="348" y="1274"/>
                  </a:lnTo>
                  <a:lnTo>
                    <a:pt x="348" y="927"/>
                  </a:lnTo>
                  <a:lnTo>
                    <a:pt x="232" y="579"/>
                  </a:lnTo>
                  <a:lnTo>
                    <a:pt x="232" y="579"/>
                  </a:lnTo>
                  <a:lnTo>
                    <a:pt x="348" y="232"/>
                  </a:lnTo>
                  <a:lnTo>
                    <a:pt x="463" y="116"/>
                  </a:lnTo>
                  <a:lnTo>
                    <a:pt x="695" y="0"/>
                  </a:lnTo>
                  <a:lnTo>
                    <a:pt x="1042" y="0"/>
                  </a:lnTo>
                  <a:lnTo>
                    <a:pt x="1273" y="116"/>
                  </a:lnTo>
                  <a:lnTo>
                    <a:pt x="1621" y="232"/>
                  </a:lnTo>
                  <a:lnTo>
                    <a:pt x="1852" y="348"/>
                  </a:lnTo>
                  <a:lnTo>
                    <a:pt x="2084" y="464"/>
                  </a:lnTo>
                  <a:lnTo>
                    <a:pt x="2084" y="464"/>
                  </a:lnTo>
                  <a:lnTo>
                    <a:pt x="2084" y="464"/>
                  </a:lnTo>
                  <a:lnTo>
                    <a:pt x="2084" y="464"/>
                  </a:lnTo>
                  <a:lnTo>
                    <a:pt x="2084"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2394360" y="4803120"/>
              <a:ext cx="119880" cy="142920"/>
            </a:xfrm>
            <a:custGeom>
              <a:avLst/>
              <a:gdLst/>
              <a:ahLst/>
              <a:rect l="l" t="t" r="r" b="b"/>
              <a:pathLst>
                <a:path w="3357" h="2664">
                  <a:moveTo>
                    <a:pt x="3357" y="347"/>
                  </a:moveTo>
                  <a:lnTo>
                    <a:pt x="3125" y="811"/>
                  </a:lnTo>
                  <a:lnTo>
                    <a:pt x="2894" y="1158"/>
                  </a:lnTo>
                  <a:lnTo>
                    <a:pt x="2546" y="1505"/>
                  </a:lnTo>
                  <a:lnTo>
                    <a:pt x="2199" y="1853"/>
                  </a:lnTo>
                  <a:lnTo>
                    <a:pt x="1852" y="2200"/>
                  </a:lnTo>
                  <a:lnTo>
                    <a:pt x="1505" y="2432"/>
                  </a:lnTo>
                  <a:lnTo>
                    <a:pt x="1042" y="2548"/>
                  </a:lnTo>
                  <a:lnTo>
                    <a:pt x="695" y="2664"/>
                  </a:lnTo>
                  <a:lnTo>
                    <a:pt x="695" y="2664"/>
                  </a:lnTo>
                  <a:lnTo>
                    <a:pt x="0" y="2548"/>
                  </a:lnTo>
                  <a:lnTo>
                    <a:pt x="0" y="2548"/>
                  </a:lnTo>
                  <a:lnTo>
                    <a:pt x="348" y="2200"/>
                  </a:lnTo>
                  <a:lnTo>
                    <a:pt x="463" y="1853"/>
                  </a:lnTo>
                  <a:lnTo>
                    <a:pt x="695" y="1505"/>
                  </a:lnTo>
                  <a:lnTo>
                    <a:pt x="810" y="1158"/>
                  </a:lnTo>
                  <a:lnTo>
                    <a:pt x="926" y="811"/>
                  </a:lnTo>
                  <a:lnTo>
                    <a:pt x="1158" y="579"/>
                  </a:lnTo>
                  <a:lnTo>
                    <a:pt x="1505" y="232"/>
                  </a:lnTo>
                  <a:lnTo>
                    <a:pt x="1852" y="116"/>
                  </a:lnTo>
                  <a:lnTo>
                    <a:pt x="1852" y="116"/>
                  </a:lnTo>
                  <a:lnTo>
                    <a:pt x="2083" y="0"/>
                  </a:lnTo>
                  <a:lnTo>
                    <a:pt x="2315" y="0"/>
                  </a:lnTo>
                  <a:lnTo>
                    <a:pt x="2431" y="0"/>
                  </a:lnTo>
                  <a:lnTo>
                    <a:pt x="2662" y="0"/>
                  </a:lnTo>
                  <a:lnTo>
                    <a:pt x="2778" y="116"/>
                  </a:lnTo>
                  <a:lnTo>
                    <a:pt x="3009" y="116"/>
                  </a:lnTo>
                  <a:lnTo>
                    <a:pt x="3125" y="232"/>
                  </a:lnTo>
                  <a:lnTo>
                    <a:pt x="3357" y="347"/>
                  </a:lnTo>
                  <a:lnTo>
                    <a:pt x="3357" y="347"/>
                  </a:lnTo>
                  <a:lnTo>
                    <a:pt x="3357" y="347"/>
                  </a:lnTo>
                  <a:lnTo>
                    <a:pt x="3357" y="347"/>
                  </a:lnTo>
                  <a:lnTo>
                    <a:pt x="3357"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2228760" y="4821480"/>
              <a:ext cx="99000" cy="186480"/>
            </a:xfrm>
            <a:custGeom>
              <a:avLst/>
              <a:gdLst/>
              <a:ahLst/>
              <a:rect l="l" t="t" r="r" b="b"/>
              <a:pathLst>
                <a:path w="2778" h="3475">
                  <a:moveTo>
                    <a:pt x="2778" y="1158"/>
                  </a:moveTo>
                  <a:lnTo>
                    <a:pt x="2662" y="1506"/>
                  </a:lnTo>
                  <a:lnTo>
                    <a:pt x="2662" y="1738"/>
                  </a:lnTo>
                  <a:lnTo>
                    <a:pt x="2546" y="2085"/>
                  </a:lnTo>
                  <a:lnTo>
                    <a:pt x="2430" y="2317"/>
                  </a:lnTo>
                  <a:lnTo>
                    <a:pt x="2430" y="2664"/>
                  </a:lnTo>
                  <a:lnTo>
                    <a:pt x="2199" y="2896"/>
                  </a:lnTo>
                  <a:lnTo>
                    <a:pt x="2083" y="3127"/>
                  </a:lnTo>
                  <a:lnTo>
                    <a:pt x="1736" y="3243"/>
                  </a:lnTo>
                  <a:lnTo>
                    <a:pt x="1736" y="3243"/>
                  </a:lnTo>
                  <a:lnTo>
                    <a:pt x="1620" y="3359"/>
                  </a:lnTo>
                  <a:lnTo>
                    <a:pt x="1505" y="3359"/>
                  </a:lnTo>
                  <a:lnTo>
                    <a:pt x="1273" y="3359"/>
                  </a:lnTo>
                  <a:lnTo>
                    <a:pt x="1157" y="3475"/>
                  </a:lnTo>
                  <a:lnTo>
                    <a:pt x="1042" y="3475"/>
                  </a:lnTo>
                  <a:lnTo>
                    <a:pt x="810" y="3475"/>
                  </a:lnTo>
                  <a:lnTo>
                    <a:pt x="694" y="3359"/>
                  </a:lnTo>
                  <a:lnTo>
                    <a:pt x="579" y="3359"/>
                  </a:lnTo>
                  <a:lnTo>
                    <a:pt x="579" y="3359"/>
                  </a:lnTo>
                  <a:lnTo>
                    <a:pt x="347" y="3127"/>
                  </a:lnTo>
                  <a:lnTo>
                    <a:pt x="231" y="2896"/>
                  </a:lnTo>
                  <a:lnTo>
                    <a:pt x="231" y="2664"/>
                  </a:lnTo>
                  <a:lnTo>
                    <a:pt x="116" y="2432"/>
                  </a:lnTo>
                  <a:lnTo>
                    <a:pt x="116" y="2201"/>
                  </a:lnTo>
                  <a:lnTo>
                    <a:pt x="116" y="1969"/>
                  </a:lnTo>
                  <a:lnTo>
                    <a:pt x="0" y="1738"/>
                  </a:lnTo>
                  <a:lnTo>
                    <a:pt x="0" y="1506"/>
                  </a:lnTo>
                  <a:lnTo>
                    <a:pt x="0" y="1506"/>
                  </a:lnTo>
                  <a:lnTo>
                    <a:pt x="926" y="1274"/>
                  </a:lnTo>
                  <a:lnTo>
                    <a:pt x="926" y="1274"/>
                  </a:lnTo>
                  <a:lnTo>
                    <a:pt x="926" y="1390"/>
                  </a:lnTo>
                  <a:lnTo>
                    <a:pt x="926" y="1506"/>
                  </a:lnTo>
                  <a:lnTo>
                    <a:pt x="926" y="1622"/>
                  </a:lnTo>
                  <a:lnTo>
                    <a:pt x="926" y="1738"/>
                  </a:lnTo>
                  <a:lnTo>
                    <a:pt x="926" y="1853"/>
                  </a:lnTo>
                  <a:lnTo>
                    <a:pt x="926" y="1853"/>
                  </a:lnTo>
                  <a:lnTo>
                    <a:pt x="926" y="1969"/>
                  </a:lnTo>
                  <a:lnTo>
                    <a:pt x="1042" y="2085"/>
                  </a:lnTo>
                  <a:lnTo>
                    <a:pt x="1042" y="2085"/>
                  </a:lnTo>
                  <a:lnTo>
                    <a:pt x="1157" y="1738"/>
                  </a:lnTo>
                  <a:lnTo>
                    <a:pt x="1273" y="1390"/>
                  </a:lnTo>
                  <a:lnTo>
                    <a:pt x="1389" y="1158"/>
                  </a:lnTo>
                  <a:lnTo>
                    <a:pt x="1620" y="927"/>
                  </a:lnTo>
                  <a:lnTo>
                    <a:pt x="1852" y="579"/>
                  </a:lnTo>
                  <a:lnTo>
                    <a:pt x="2083" y="348"/>
                  </a:lnTo>
                  <a:lnTo>
                    <a:pt x="2315" y="232"/>
                  </a:lnTo>
                  <a:lnTo>
                    <a:pt x="2546" y="0"/>
                  </a:lnTo>
                  <a:lnTo>
                    <a:pt x="2546" y="0"/>
                  </a:lnTo>
                  <a:lnTo>
                    <a:pt x="2662" y="116"/>
                  </a:lnTo>
                  <a:lnTo>
                    <a:pt x="2778" y="232"/>
                  </a:lnTo>
                  <a:lnTo>
                    <a:pt x="2778" y="348"/>
                  </a:lnTo>
                  <a:lnTo>
                    <a:pt x="2778" y="579"/>
                  </a:lnTo>
                  <a:lnTo>
                    <a:pt x="2778" y="695"/>
                  </a:lnTo>
                  <a:lnTo>
                    <a:pt x="2778" y="927"/>
                  </a:lnTo>
                  <a:lnTo>
                    <a:pt x="2778" y="1043"/>
                  </a:lnTo>
                  <a:lnTo>
                    <a:pt x="2778" y="1158"/>
                  </a:lnTo>
                  <a:lnTo>
                    <a:pt x="2778" y="1158"/>
                  </a:lnTo>
                  <a:lnTo>
                    <a:pt x="2778" y="1158"/>
                  </a:lnTo>
                  <a:lnTo>
                    <a:pt x="2778" y="1158"/>
                  </a:lnTo>
                  <a:lnTo>
                    <a:pt x="2778"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1446480" y="4852800"/>
              <a:ext cx="827640" cy="254880"/>
            </a:xfrm>
            <a:custGeom>
              <a:avLst/>
              <a:gdLst/>
              <a:ahLst/>
              <a:rect l="l" t="t" r="r" b="b"/>
              <a:pathLst>
                <a:path w="23146" h="4749">
                  <a:moveTo>
                    <a:pt x="23146" y="0"/>
                  </a:moveTo>
                  <a:lnTo>
                    <a:pt x="22336" y="232"/>
                  </a:lnTo>
                  <a:lnTo>
                    <a:pt x="21526" y="464"/>
                  </a:lnTo>
                  <a:lnTo>
                    <a:pt x="20600" y="695"/>
                  </a:lnTo>
                  <a:lnTo>
                    <a:pt x="19790" y="1043"/>
                  </a:lnTo>
                  <a:lnTo>
                    <a:pt x="18980" y="1274"/>
                  </a:lnTo>
                  <a:lnTo>
                    <a:pt x="18054" y="1390"/>
                  </a:lnTo>
                  <a:lnTo>
                    <a:pt x="17128" y="1622"/>
                  </a:lnTo>
                  <a:lnTo>
                    <a:pt x="16318" y="1738"/>
                  </a:lnTo>
                  <a:lnTo>
                    <a:pt x="16318" y="1738"/>
                  </a:lnTo>
                  <a:lnTo>
                    <a:pt x="4397" y="4054"/>
                  </a:lnTo>
                  <a:lnTo>
                    <a:pt x="810" y="4749"/>
                  </a:lnTo>
                  <a:lnTo>
                    <a:pt x="0" y="4401"/>
                  </a:lnTo>
                  <a:lnTo>
                    <a:pt x="0" y="4401"/>
                  </a:lnTo>
                  <a:lnTo>
                    <a:pt x="2314" y="3938"/>
                  </a:lnTo>
                  <a:lnTo>
                    <a:pt x="4629" y="3591"/>
                  </a:lnTo>
                  <a:lnTo>
                    <a:pt x="6944" y="3127"/>
                  </a:lnTo>
                  <a:lnTo>
                    <a:pt x="9258" y="2664"/>
                  </a:lnTo>
                  <a:lnTo>
                    <a:pt x="11573" y="2201"/>
                  </a:lnTo>
                  <a:lnTo>
                    <a:pt x="13888" y="1738"/>
                  </a:lnTo>
                  <a:lnTo>
                    <a:pt x="16202" y="1274"/>
                  </a:lnTo>
                  <a:lnTo>
                    <a:pt x="18633" y="927"/>
                  </a:lnTo>
                  <a:lnTo>
                    <a:pt x="18633" y="927"/>
                  </a:lnTo>
                  <a:lnTo>
                    <a:pt x="19211" y="811"/>
                  </a:lnTo>
                  <a:lnTo>
                    <a:pt x="19674" y="695"/>
                  </a:lnTo>
                  <a:lnTo>
                    <a:pt x="20253" y="695"/>
                  </a:lnTo>
                  <a:lnTo>
                    <a:pt x="20831" y="579"/>
                  </a:lnTo>
                  <a:lnTo>
                    <a:pt x="21410" y="464"/>
                  </a:lnTo>
                  <a:lnTo>
                    <a:pt x="21989" y="348"/>
                  </a:lnTo>
                  <a:lnTo>
                    <a:pt x="22567" y="116"/>
                  </a:lnTo>
                  <a:lnTo>
                    <a:pt x="23146" y="0"/>
                  </a:lnTo>
                  <a:lnTo>
                    <a:pt x="23146" y="0"/>
                  </a:lnTo>
                  <a:lnTo>
                    <a:pt x="23146" y="0"/>
                  </a:lnTo>
                  <a:lnTo>
                    <a:pt x="23146" y="0"/>
                  </a:lnTo>
                  <a:lnTo>
                    <a:pt x="23146"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1061280" y="4889880"/>
              <a:ext cx="74160" cy="335520"/>
            </a:xfrm>
            <a:custGeom>
              <a:avLst/>
              <a:gdLst/>
              <a:ahLst/>
              <a:rect l="l" t="t" r="r" b="b"/>
              <a:pathLst>
                <a:path w="2083" h="6254">
                  <a:moveTo>
                    <a:pt x="1620" y="0"/>
                  </a:moveTo>
                  <a:lnTo>
                    <a:pt x="1273" y="695"/>
                  </a:lnTo>
                  <a:lnTo>
                    <a:pt x="1041" y="1506"/>
                  </a:lnTo>
                  <a:lnTo>
                    <a:pt x="925" y="2316"/>
                  </a:lnTo>
                  <a:lnTo>
                    <a:pt x="925" y="3127"/>
                  </a:lnTo>
                  <a:lnTo>
                    <a:pt x="1041" y="3822"/>
                  </a:lnTo>
                  <a:lnTo>
                    <a:pt x="1273" y="4633"/>
                  </a:lnTo>
                  <a:lnTo>
                    <a:pt x="1620" y="5328"/>
                  </a:lnTo>
                  <a:lnTo>
                    <a:pt x="2083" y="5907"/>
                  </a:lnTo>
                  <a:lnTo>
                    <a:pt x="2083" y="5907"/>
                  </a:lnTo>
                  <a:lnTo>
                    <a:pt x="2083" y="6254"/>
                  </a:lnTo>
                  <a:lnTo>
                    <a:pt x="2083" y="6254"/>
                  </a:lnTo>
                  <a:lnTo>
                    <a:pt x="1851" y="6254"/>
                  </a:lnTo>
                  <a:lnTo>
                    <a:pt x="1736" y="6254"/>
                  </a:lnTo>
                  <a:lnTo>
                    <a:pt x="1504" y="6254"/>
                  </a:lnTo>
                  <a:lnTo>
                    <a:pt x="1388" y="6138"/>
                  </a:lnTo>
                  <a:lnTo>
                    <a:pt x="1273" y="6022"/>
                  </a:lnTo>
                  <a:lnTo>
                    <a:pt x="1041" y="5907"/>
                  </a:lnTo>
                  <a:lnTo>
                    <a:pt x="925" y="5907"/>
                  </a:lnTo>
                  <a:lnTo>
                    <a:pt x="810" y="5791"/>
                  </a:lnTo>
                  <a:lnTo>
                    <a:pt x="810" y="5791"/>
                  </a:lnTo>
                  <a:lnTo>
                    <a:pt x="462" y="5212"/>
                  </a:lnTo>
                  <a:lnTo>
                    <a:pt x="231" y="4748"/>
                  </a:lnTo>
                  <a:lnTo>
                    <a:pt x="0" y="4169"/>
                  </a:lnTo>
                  <a:lnTo>
                    <a:pt x="0" y="3475"/>
                  </a:lnTo>
                  <a:lnTo>
                    <a:pt x="0" y="2896"/>
                  </a:lnTo>
                  <a:lnTo>
                    <a:pt x="0" y="2201"/>
                  </a:lnTo>
                  <a:lnTo>
                    <a:pt x="115" y="1622"/>
                  </a:lnTo>
                  <a:lnTo>
                    <a:pt x="231" y="1043"/>
                  </a:lnTo>
                  <a:lnTo>
                    <a:pt x="231" y="1043"/>
                  </a:lnTo>
                  <a:lnTo>
                    <a:pt x="347" y="927"/>
                  </a:lnTo>
                  <a:lnTo>
                    <a:pt x="462" y="695"/>
                  </a:lnTo>
                  <a:lnTo>
                    <a:pt x="694" y="579"/>
                  </a:lnTo>
                  <a:lnTo>
                    <a:pt x="810" y="348"/>
                  </a:lnTo>
                  <a:lnTo>
                    <a:pt x="925" y="232"/>
                  </a:lnTo>
                  <a:lnTo>
                    <a:pt x="1157" y="116"/>
                  </a:lnTo>
                  <a:lnTo>
                    <a:pt x="1388" y="0"/>
                  </a:lnTo>
                  <a:lnTo>
                    <a:pt x="1620" y="0"/>
                  </a:lnTo>
                  <a:lnTo>
                    <a:pt x="1620" y="0"/>
                  </a:lnTo>
                  <a:lnTo>
                    <a:pt x="1620" y="0"/>
                  </a:lnTo>
                  <a:lnTo>
                    <a:pt x="1620" y="0"/>
                  </a:lnTo>
                  <a:lnTo>
                    <a:pt x="16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6" name=""/>
            <p:cNvSpPr/>
            <p:nvPr/>
          </p:nvSpPr>
          <p:spPr>
            <a:xfrm>
              <a:off x="1115280" y="4908600"/>
              <a:ext cx="37080" cy="279720"/>
            </a:xfrm>
            <a:custGeom>
              <a:avLst/>
              <a:gdLst/>
              <a:ahLst/>
              <a:rect l="l" t="t" r="r" b="b"/>
              <a:pathLst>
                <a:path w="1042" h="5211">
                  <a:moveTo>
                    <a:pt x="694" y="1968"/>
                  </a:moveTo>
                  <a:lnTo>
                    <a:pt x="1042" y="3706"/>
                  </a:lnTo>
                  <a:lnTo>
                    <a:pt x="810" y="5211"/>
                  </a:lnTo>
                  <a:lnTo>
                    <a:pt x="810" y="5211"/>
                  </a:lnTo>
                  <a:lnTo>
                    <a:pt x="463" y="4632"/>
                  </a:lnTo>
                  <a:lnTo>
                    <a:pt x="232" y="3937"/>
                  </a:lnTo>
                  <a:lnTo>
                    <a:pt x="0" y="3358"/>
                  </a:lnTo>
                  <a:lnTo>
                    <a:pt x="0" y="2663"/>
                  </a:lnTo>
                  <a:lnTo>
                    <a:pt x="0" y="1968"/>
                  </a:lnTo>
                  <a:lnTo>
                    <a:pt x="0" y="1274"/>
                  </a:lnTo>
                  <a:lnTo>
                    <a:pt x="232" y="579"/>
                  </a:lnTo>
                  <a:lnTo>
                    <a:pt x="463" y="0"/>
                  </a:lnTo>
                  <a:lnTo>
                    <a:pt x="463" y="0"/>
                  </a:lnTo>
                  <a:lnTo>
                    <a:pt x="694" y="231"/>
                  </a:lnTo>
                  <a:lnTo>
                    <a:pt x="810" y="463"/>
                  </a:lnTo>
                  <a:lnTo>
                    <a:pt x="810" y="695"/>
                  </a:lnTo>
                  <a:lnTo>
                    <a:pt x="810" y="926"/>
                  </a:lnTo>
                  <a:lnTo>
                    <a:pt x="694" y="1158"/>
                  </a:lnTo>
                  <a:lnTo>
                    <a:pt x="694" y="1505"/>
                  </a:lnTo>
                  <a:lnTo>
                    <a:pt x="579" y="1737"/>
                  </a:lnTo>
                  <a:lnTo>
                    <a:pt x="694" y="1968"/>
                  </a:lnTo>
                  <a:lnTo>
                    <a:pt x="694" y="1968"/>
                  </a:lnTo>
                  <a:lnTo>
                    <a:pt x="694" y="1968"/>
                  </a:lnTo>
                  <a:lnTo>
                    <a:pt x="694" y="1968"/>
                  </a:lnTo>
                  <a:lnTo>
                    <a:pt x="694" y="19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a:off x="2183040" y="4915080"/>
              <a:ext cx="33120" cy="55800"/>
            </a:xfrm>
            <a:custGeom>
              <a:avLst/>
              <a:gdLst/>
              <a:ahLst/>
              <a:rect l="l" t="t" r="r" b="b"/>
              <a:pathLst>
                <a:path w="926" h="1042">
                  <a:moveTo>
                    <a:pt x="926" y="926"/>
                  </a:moveTo>
                  <a:lnTo>
                    <a:pt x="926" y="1042"/>
                  </a:lnTo>
                  <a:lnTo>
                    <a:pt x="926" y="1042"/>
                  </a:lnTo>
                  <a:lnTo>
                    <a:pt x="810" y="1042"/>
                  </a:lnTo>
                  <a:lnTo>
                    <a:pt x="694" y="1042"/>
                  </a:lnTo>
                  <a:lnTo>
                    <a:pt x="579" y="1042"/>
                  </a:lnTo>
                  <a:lnTo>
                    <a:pt x="463" y="926"/>
                  </a:lnTo>
                  <a:lnTo>
                    <a:pt x="347" y="926"/>
                  </a:lnTo>
                  <a:lnTo>
                    <a:pt x="231" y="810"/>
                  </a:lnTo>
                  <a:lnTo>
                    <a:pt x="116" y="694"/>
                  </a:lnTo>
                  <a:lnTo>
                    <a:pt x="0" y="579"/>
                  </a:lnTo>
                  <a:lnTo>
                    <a:pt x="0" y="579"/>
                  </a:lnTo>
                  <a:lnTo>
                    <a:pt x="0" y="463"/>
                  </a:lnTo>
                  <a:lnTo>
                    <a:pt x="0" y="347"/>
                  </a:lnTo>
                  <a:lnTo>
                    <a:pt x="0" y="231"/>
                  </a:lnTo>
                  <a:lnTo>
                    <a:pt x="116" y="115"/>
                  </a:lnTo>
                  <a:lnTo>
                    <a:pt x="116" y="115"/>
                  </a:lnTo>
                  <a:lnTo>
                    <a:pt x="231" y="0"/>
                  </a:lnTo>
                  <a:lnTo>
                    <a:pt x="347" y="0"/>
                  </a:lnTo>
                  <a:lnTo>
                    <a:pt x="463" y="0"/>
                  </a:lnTo>
                  <a:lnTo>
                    <a:pt x="463" y="0"/>
                  </a:lnTo>
                  <a:lnTo>
                    <a:pt x="579" y="0"/>
                  </a:lnTo>
                  <a:lnTo>
                    <a:pt x="694" y="115"/>
                  </a:lnTo>
                  <a:lnTo>
                    <a:pt x="810" y="115"/>
                  </a:lnTo>
                  <a:lnTo>
                    <a:pt x="810" y="347"/>
                  </a:lnTo>
                  <a:lnTo>
                    <a:pt x="810" y="463"/>
                  </a:lnTo>
                  <a:lnTo>
                    <a:pt x="926" y="579"/>
                  </a:lnTo>
                  <a:lnTo>
                    <a:pt x="926" y="810"/>
                  </a:lnTo>
                  <a:lnTo>
                    <a:pt x="926" y="926"/>
                  </a:lnTo>
                  <a:lnTo>
                    <a:pt x="926" y="926"/>
                  </a:lnTo>
                  <a:lnTo>
                    <a:pt x="926" y="926"/>
                  </a:lnTo>
                  <a:lnTo>
                    <a:pt x="926" y="926"/>
                  </a:lnTo>
                  <a:lnTo>
                    <a:pt x="926" y="92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28" name=""/>
            <p:cNvSpPr/>
            <p:nvPr/>
          </p:nvSpPr>
          <p:spPr>
            <a:xfrm>
              <a:off x="866880" y="4927320"/>
              <a:ext cx="227520" cy="391680"/>
            </a:xfrm>
            <a:custGeom>
              <a:avLst/>
              <a:gdLst/>
              <a:ahLst/>
              <a:rect l="l" t="t" r="r" b="b"/>
              <a:pathLst>
                <a:path w="6365" h="7296">
                  <a:moveTo>
                    <a:pt x="6365" y="5791"/>
                  </a:moveTo>
                  <a:lnTo>
                    <a:pt x="5671" y="6022"/>
                  </a:lnTo>
                  <a:lnTo>
                    <a:pt x="4977" y="6370"/>
                  </a:lnTo>
                  <a:lnTo>
                    <a:pt x="4282" y="6717"/>
                  </a:lnTo>
                  <a:lnTo>
                    <a:pt x="3588" y="7065"/>
                  </a:lnTo>
                  <a:lnTo>
                    <a:pt x="2778" y="7296"/>
                  </a:lnTo>
                  <a:lnTo>
                    <a:pt x="2083" y="7296"/>
                  </a:lnTo>
                  <a:lnTo>
                    <a:pt x="1389" y="6949"/>
                  </a:lnTo>
                  <a:lnTo>
                    <a:pt x="810" y="6370"/>
                  </a:lnTo>
                  <a:lnTo>
                    <a:pt x="810" y="6370"/>
                  </a:lnTo>
                  <a:lnTo>
                    <a:pt x="463" y="5906"/>
                  </a:lnTo>
                  <a:lnTo>
                    <a:pt x="116" y="5327"/>
                  </a:lnTo>
                  <a:lnTo>
                    <a:pt x="0" y="4748"/>
                  </a:lnTo>
                  <a:lnTo>
                    <a:pt x="0" y="4169"/>
                  </a:lnTo>
                  <a:lnTo>
                    <a:pt x="0" y="3590"/>
                  </a:lnTo>
                  <a:lnTo>
                    <a:pt x="0" y="3011"/>
                  </a:lnTo>
                  <a:lnTo>
                    <a:pt x="116" y="2432"/>
                  </a:lnTo>
                  <a:lnTo>
                    <a:pt x="232" y="1853"/>
                  </a:lnTo>
                  <a:lnTo>
                    <a:pt x="232" y="1853"/>
                  </a:lnTo>
                  <a:lnTo>
                    <a:pt x="695" y="1274"/>
                  </a:lnTo>
                  <a:lnTo>
                    <a:pt x="1157" y="811"/>
                  </a:lnTo>
                  <a:lnTo>
                    <a:pt x="1736" y="579"/>
                  </a:lnTo>
                  <a:lnTo>
                    <a:pt x="2431" y="463"/>
                  </a:lnTo>
                  <a:lnTo>
                    <a:pt x="3125" y="348"/>
                  </a:lnTo>
                  <a:lnTo>
                    <a:pt x="3935" y="232"/>
                  </a:lnTo>
                  <a:lnTo>
                    <a:pt x="4629" y="232"/>
                  </a:lnTo>
                  <a:lnTo>
                    <a:pt x="5208" y="0"/>
                  </a:lnTo>
                  <a:lnTo>
                    <a:pt x="5208" y="0"/>
                  </a:lnTo>
                  <a:lnTo>
                    <a:pt x="5092" y="811"/>
                  </a:lnTo>
                  <a:lnTo>
                    <a:pt x="4977" y="1506"/>
                  </a:lnTo>
                  <a:lnTo>
                    <a:pt x="4977" y="2316"/>
                  </a:lnTo>
                  <a:lnTo>
                    <a:pt x="4977" y="3127"/>
                  </a:lnTo>
                  <a:lnTo>
                    <a:pt x="5092" y="3938"/>
                  </a:lnTo>
                  <a:lnTo>
                    <a:pt x="5324" y="4633"/>
                  </a:lnTo>
                  <a:lnTo>
                    <a:pt x="5787" y="5327"/>
                  </a:lnTo>
                  <a:lnTo>
                    <a:pt x="6365" y="5791"/>
                  </a:lnTo>
                  <a:lnTo>
                    <a:pt x="6365" y="5791"/>
                  </a:lnTo>
                  <a:lnTo>
                    <a:pt x="6365" y="5791"/>
                  </a:lnTo>
                  <a:lnTo>
                    <a:pt x="6365" y="5791"/>
                  </a:lnTo>
                  <a:lnTo>
                    <a:pt x="6365" y="5791"/>
                  </a:lnTo>
                  <a:close/>
                </a:path>
              </a:pathLst>
            </a:custGeom>
            <a:solidFill>
              <a:srgbClr val="ff3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1330560" y="4933440"/>
              <a:ext cx="835920" cy="857880"/>
            </a:xfrm>
            <a:custGeom>
              <a:avLst/>
              <a:gdLst/>
              <a:ahLst/>
              <a:rect l="l" t="t" r="r" b="b"/>
              <a:pathLst>
                <a:path w="23378" h="15982">
                  <a:moveTo>
                    <a:pt x="23378" y="6949"/>
                  </a:moveTo>
                  <a:lnTo>
                    <a:pt x="23031" y="7180"/>
                  </a:lnTo>
                  <a:lnTo>
                    <a:pt x="22568" y="7412"/>
                  </a:lnTo>
                  <a:lnTo>
                    <a:pt x="22221" y="7528"/>
                  </a:lnTo>
                  <a:lnTo>
                    <a:pt x="21758" y="7528"/>
                  </a:lnTo>
                  <a:lnTo>
                    <a:pt x="21295" y="7643"/>
                  </a:lnTo>
                  <a:lnTo>
                    <a:pt x="20832" y="7643"/>
                  </a:lnTo>
                  <a:lnTo>
                    <a:pt x="20369" y="7759"/>
                  </a:lnTo>
                  <a:lnTo>
                    <a:pt x="19906" y="7875"/>
                  </a:lnTo>
                  <a:lnTo>
                    <a:pt x="19906" y="7875"/>
                  </a:lnTo>
                  <a:lnTo>
                    <a:pt x="16203" y="9033"/>
                  </a:lnTo>
                  <a:lnTo>
                    <a:pt x="2778" y="15055"/>
                  </a:lnTo>
                  <a:lnTo>
                    <a:pt x="2778" y="15055"/>
                  </a:lnTo>
                  <a:lnTo>
                    <a:pt x="2546" y="15171"/>
                  </a:lnTo>
                  <a:lnTo>
                    <a:pt x="2199" y="15403"/>
                  </a:lnTo>
                  <a:lnTo>
                    <a:pt x="1852" y="15518"/>
                  </a:lnTo>
                  <a:lnTo>
                    <a:pt x="1505" y="15750"/>
                  </a:lnTo>
                  <a:lnTo>
                    <a:pt x="1157" y="15866"/>
                  </a:lnTo>
                  <a:lnTo>
                    <a:pt x="810" y="15982"/>
                  </a:lnTo>
                  <a:lnTo>
                    <a:pt x="463" y="15982"/>
                  </a:lnTo>
                  <a:lnTo>
                    <a:pt x="0" y="15982"/>
                  </a:lnTo>
                  <a:lnTo>
                    <a:pt x="0" y="15982"/>
                  </a:lnTo>
                  <a:lnTo>
                    <a:pt x="0" y="14592"/>
                  </a:lnTo>
                  <a:lnTo>
                    <a:pt x="116" y="13202"/>
                  </a:lnTo>
                  <a:lnTo>
                    <a:pt x="116" y="11813"/>
                  </a:lnTo>
                  <a:lnTo>
                    <a:pt x="232" y="10423"/>
                  </a:lnTo>
                  <a:lnTo>
                    <a:pt x="347" y="8917"/>
                  </a:lnTo>
                  <a:lnTo>
                    <a:pt x="347" y="7528"/>
                  </a:lnTo>
                  <a:lnTo>
                    <a:pt x="463" y="6138"/>
                  </a:lnTo>
                  <a:lnTo>
                    <a:pt x="579" y="4748"/>
                  </a:lnTo>
                  <a:lnTo>
                    <a:pt x="579" y="4748"/>
                  </a:lnTo>
                  <a:lnTo>
                    <a:pt x="1157" y="4748"/>
                  </a:lnTo>
                  <a:lnTo>
                    <a:pt x="1620" y="4980"/>
                  </a:lnTo>
                  <a:lnTo>
                    <a:pt x="2083" y="5211"/>
                  </a:lnTo>
                  <a:lnTo>
                    <a:pt x="2546" y="5559"/>
                  </a:lnTo>
                  <a:lnTo>
                    <a:pt x="3009" y="5790"/>
                  </a:lnTo>
                  <a:lnTo>
                    <a:pt x="3472" y="5790"/>
                  </a:lnTo>
                  <a:lnTo>
                    <a:pt x="3935" y="5675"/>
                  </a:lnTo>
                  <a:lnTo>
                    <a:pt x="4514" y="5327"/>
                  </a:lnTo>
                  <a:lnTo>
                    <a:pt x="4514" y="5327"/>
                  </a:lnTo>
                  <a:lnTo>
                    <a:pt x="4514" y="5211"/>
                  </a:lnTo>
                  <a:lnTo>
                    <a:pt x="4629" y="5096"/>
                  </a:lnTo>
                  <a:lnTo>
                    <a:pt x="4629" y="4980"/>
                  </a:lnTo>
                  <a:lnTo>
                    <a:pt x="4745" y="4980"/>
                  </a:lnTo>
                  <a:lnTo>
                    <a:pt x="4745" y="4864"/>
                  </a:lnTo>
                  <a:lnTo>
                    <a:pt x="4745" y="4748"/>
                  </a:lnTo>
                  <a:lnTo>
                    <a:pt x="4861" y="4632"/>
                  </a:lnTo>
                  <a:lnTo>
                    <a:pt x="4861" y="4517"/>
                  </a:lnTo>
                  <a:lnTo>
                    <a:pt x="4861" y="4517"/>
                  </a:lnTo>
                  <a:lnTo>
                    <a:pt x="4861" y="4401"/>
                  </a:lnTo>
                  <a:lnTo>
                    <a:pt x="4745" y="4285"/>
                  </a:lnTo>
                  <a:lnTo>
                    <a:pt x="4745" y="4169"/>
                  </a:lnTo>
                  <a:lnTo>
                    <a:pt x="4745" y="4053"/>
                  </a:lnTo>
                  <a:lnTo>
                    <a:pt x="4745" y="3937"/>
                  </a:lnTo>
                  <a:lnTo>
                    <a:pt x="4629" y="3822"/>
                  </a:lnTo>
                  <a:lnTo>
                    <a:pt x="4629" y="3706"/>
                  </a:lnTo>
                  <a:lnTo>
                    <a:pt x="4514" y="3706"/>
                  </a:lnTo>
                  <a:lnTo>
                    <a:pt x="4514" y="3706"/>
                  </a:lnTo>
                  <a:lnTo>
                    <a:pt x="6828" y="3127"/>
                  </a:lnTo>
                  <a:lnTo>
                    <a:pt x="9143" y="2664"/>
                  </a:lnTo>
                  <a:lnTo>
                    <a:pt x="11458" y="2316"/>
                  </a:lnTo>
                  <a:lnTo>
                    <a:pt x="13772" y="1853"/>
                  </a:lnTo>
                  <a:lnTo>
                    <a:pt x="15971" y="1390"/>
                  </a:lnTo>
                  <a:lnTo>
                    <a:pt x="18286" y="1042"/>
                  </a:lnTo>
                  <a:lnTo>
                    <a:pt x="20600" y="579"/>
                  </a:lnTo>
                  <a:lnTo>
                    <a:pt x="22799" y="0"/>
                  </a:lnTo>
                  <a:lnTo>
                    <a:pt x="22799" y="0"/>
                  </a:lnTo>
                  <a:lnTo>
                    <a:pt x="22799" y="926"/>
                  </a:lnTo>
                  <a:lnTo>
                    <a:pt x="22799" y="1737"/>
                  </a:lnTo>
                  <a:lnTo>
                    <a:pt x="22799" y="2664"/>
                  </a:lnTo>
                  <a:lnTo>
                    <a:pt x="22799" y="3590"/>
                  </a:lnTo>
                  <a:lnTo>
                    <a:pt x="22915" y="4401"/>
                  </a:lnTo>
                  <a:lnTo>
                    <a:pt x="23031" y="5327"/>
                  </a:lnTo>
                  <a:lnTo>
                    <a:pt x="23147" y="6138"/>
                  </a:lnTo>
                  <a:lnTo>
                    <a:pt x="23378" y="6949"/>
                  </a:lnTo>
                  <a:lnTo>
                    <a:pt x="23378" y="6949"/>
                  </a:lnTo>
                  <a:lnTo>
                    <a:pt x="23378" y="6949"/>
                  </a:lnTo>
                  <a:lnTo>
                    <a:pt x="23378" y="6949"/>
                  </a:lnTo>
                  <a:lnTo>
                    <a:pt x="23378" y="6949"/>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156680" y="4970880"/>
              <a:ext cx="20520" cy="111600"/>
            </a:xfrm>
            <a:custGeom>
              <a:avLst/>
              <a:gdLst/>
              <a:ahLst/>
              <a:rect l="l" t="t" r="r" b="b"/>
              <a:pathLst>
                <a:path w="579" h="2084">
                  <a:moveTo>
                    <a:pt x="579" y="695"/>
                  </a:moveTo>
                  <a:lnTo>
                    <a:pt x="116" y="2084"/>
                  </a:lnTo>
                  <a:lnTo>
                    <a:pt x="116" y="2084"/>
                  </a:lnTo>
                  <a:lnTo>
                    <a:pt x="0" y="1853"/>
                  </a:lnTo>
                  <a:lnTo>
                    <a:pt x="0" y="1621"/>
                  </a:lnTo>
                  <a:lnTo>
                    <a:pt x="0" y="1274"/>
                  </a:lnTo>
                  <a:lnTo>
                    <a:pt x="0" y="1042"/>
                  </a:lnTo>
                  <a:lnTo>
                    <a:pt x="0" y="810"/>
                  </a:lnTo>
                  <a:lnTo>
                    <a:pt x="0" y="579"/>
                  </a:lnTo>
                  <a:lnTo>
                    <a:pt x="0" y="231"/>
                  </a:lnTo>
                  <a:lnTo>
                    <a:pt x="116" y="0"/>
                  </a:lnTo>
                  <a:lnTo>
                    <a:pt x="116" y="0"/>
                  </a:lnTo>
                  <a:lnTo>
                    <a:pt x="232" y="0"/>
                  </a:lnTo>
                  <a:lnTo>
                    <a:pt x="348" y="116"/>
                  </a:lnTo>
                  <a:lnTo>
                    <a:pt x="348" y="116"/>
                  </a:lnTo>
                  <a:lnTo>
                    <a:pt x="463" y="231"/>
                  </a:lnTo>
                  <a:lnTo>
                    <a:pt x="463" y="347"/>
                  </a:lnTo>
                  <a:lnTo>
                    <a:pt x="463" y="463"/>
                  </a:lnTo>
                  <a:lnTo>
                    <a:pt x="463" y="579"/>
                  </a:lnTo>
                  <a:lnTo>
                    <a:pt x="579" y="695"/>
                  </a:lnTo>
                  <a:lnTo>
                    <a:pt x="579" y="695"/>
                  </a:lnTo>
                  <a:lnTo>
                    <a:pt x="579" y="695"/>
                  </a:lnTo>
                  <a:lnTo>
                    <a:pt x="579" y="695"/>
                  </a:lnTo>
                  <a:lnTo>
                    <a:pt x="579"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891720" y="5188320"/>
              <a:ext cx="144720" cy="105480"/>
            </a:xfrm>
            <a:custGeom>
              <a:avLst/>
              <a:gdLst/>
              <a:ahLst/>
              <a:rect l="l" t="t" r="r" b="b"/>
              <a:pathLst>
                <a:path w="4050" h="1969">
                  <a:moveTo>
                    <a:pt x="1157" y="1274"/>
                  </a:moveTo>
                  <a:lnTo>
                    <a:pt x="1157" y="1158"/>
                  </a:lnTo>
                  <a:lnTo>
                    <a:pt x="1157" y="1042"/>
                  </a:lnTo>
                  <a:lnTo>
                    <a:pt x="1041" y="1042"/>
                  </a:lnTo>
                  <a:lnTo>
                    <a:pt x="1041" y="927"/>
                  </a:lnTo>
                  <a:lnTo>
                    <a:pt x="1041" y="811"/>
                  </a:lnTo>
                  <a:lnTo>
                    <a:pt x="925" y="695"/>
                  </a:lnTo>
                  <a:lnTo>
                    <a:pt x="925" y="579"/>
                  </a:lnTo>
                  <a:lnTo>
                    <a:pt x="925" y="463"/>
                  </a:lnTo>
                  <a:lnTo>
                    <a:pt x="925" y="463"/>
                  </a:lnTo>
                  <a:lnTo>
                    <a:pt x="1157" y="463"/>
                  </a:lnTo>
                  <a:lnTo>
                    <a:pt x="1273" y="579"/>
                  </a:lnTo>
                  <a:lnTo>
                    <a:pt x="1388" y="695"/>
                  </a:lnTo>
                  <a:lnTo>
                    <a:pt x="1504" y="927"/>
                  </a:lnTo>
                  <a:lnTo>
                    <a:pt x="1620" y="1042"/>
                  </a:lnTo>
                  <a:lnTo>
                    <a:pt x="1620" y="1158"/>
                  </a:lnTo>
                  <a:lnTo>
                    <a:pt x="1851" y="1274"/>
                  </a:lnTo>
                  <a:lnTo>
                    <a:pt x="1967" y="1390"/>
                  </a:lnTo>
                  <a:lnTo>
                    <a:pt x="1967" y="1390"/>
                  </a:lnTo>
                  <a:lnTo>
                    <a:pt x="1851" y="1274"/>
                  </a:lnTo>
                  <a:lnTo>
                    <a:pt x="1851" y="1158"/>
                  </a:lnTo>
                  <a:lnTo>
                    <a:pt x="1851" y="1042"/>
                  </a:lnTo>
                  <a:lnTo>
                    <a:pt x="1736" y="927"/>
                  </a:lnTo>
                  <a:lnTo>
                    <a:pt x="1736" y="811"/>
                  </a:lnTo>
                  <a:lnTo>
                    <a:pt x="1736" y="695"/>
                  </a:lnTo>
                  <a:lnTo>
                    <a:pt x="1620" y="579"/>
                  </a:lnTo>
                  <a:lnTo>
                    <a:pt x="1620" y="463"/>
                  </a:lnTo>
                  <a:lnTo>
                    <a:pt x="1620" y="463"/>
                  </a:lnTo>
                  <a:lnTo>
                    <a:pt x="1851" y="463"/>
                  </a:lnTo>
                  <a:lnTo>
                    <a:pt x="1967" y="579"/>
                  </a:lnTo>
                  <a:lnTo>
                    <a:pt x="2083" y="811"/>
                  </a:lnTo>
                  <a:lnTo>
                    <a:pt x="2083" y="927"/>
                  </a:lnTo>
                  <a:lnTo>
                    <a:pt x="2198" y="1158"/>
                  </a:lnTo>
                  <a:lnTo>
                    <a:pt x="2314" y="1274"/>
                  </a:lnTo>
                  <a:lnTo>
                    <a:pt x="2546" y="1274"/>
                  </a:lnTo>
                  <a:lnTo>
                    <a:pt x="2777" y="1274"/>
                  </a:lnTo>
                  <a:lnTo>
                    <a:pt x="2777" y="1274"/>
                  </a:lnTo>
                  <a:lnTo>
                    <a:pt x="2661" y="1158"/>
                  </a:lnTo>
                  <a:lnTo>
                    <a:pt x="2661" y="1042"/>
                  </a:lnTo>
                  <a:lnTo>
                    <a:pt x="2661" y="1042"/>
                  </a:lnTo>
                  <a:lnTo>
                    <a:pt x="2546" y="927"/>
                  </a:lnTo>
                  <a:lnTo>
                    <a:pt x="2546" y="811"/>
                  </a:lnTo>
                  <a:lnTo>
                    <a:pt x="2430" y="695"/>
                  </a:lnTo>
                  <a:lnTo>
                    <a:pt x="2430" y="695"/>
                  </a:lnTo>
                  <a:lnTo>
                    <a:pt x="2430" y="579"/>
                  </a:lnTo>
                  <a:lnTo>
                    <a:pt x="2430" y="579"/>
                  </a:lnTo>
                  <a:lnTo>
                    <a:pt x="2546" y="579"/>
                  </a:lnTo>
                  <a:lnTo>
                    <a:pt x="2777" y="695"/>
                  </a:lnTo>
                  <a:lnTo>
                    <a:pt x="2777" y="811"/>
                  </a:lnTo>
                  <a:lnTo>
                    <a:pt x="2893" y="927"/>
                  </a:lnTo>
                  <a:lnTo>
                    <a:pt x="3009" y="1042"/>
                  </a:lnTo>
                  <a:lnTo>
                    <a:pt x="3124" y="1158"/>
                  </a:lnTo>
                  <a:lnTo>
                    <a:pt x="3356" y="1158"/>
                  </a:lnTo>
                  <a:lnTo>
                    <a:pt x="3471" y="1042"/>
                  </a:lnTo>
                  <a:lnTo>
                    <a:pt x="3471" y="1042"/>
                  </a:lnTo>
                  <a:lnTo>
                    <a:pt x="3471" y="1042"/>
                  </a:lnTo>
                  <a:lnTo>
                    <a:pt x="3356" y="927"/>
                  </a:lnTo>
                  <a:lnTo>
                    <a:pt x="3240" y="811"/>
                  </a:lnTo>
                  <a:lnTo>
                    <a:pt x="3124" y="695"/>
                  </a:lnTo>
                  <a:lnTo>
                    <a:pt x="3009" y="579"/>
                  </a:lnTo>
                  <a:lnTo>
                    <a:pt x="3009" y="463"/>
                  </a:lnTo>
                  <a:lnTo>
                    <a:pt x="3009" y="348"/>
                  </a:lnTo>
                  <a:lnTo>
                    <a:pt x="3009" y="232"/>
                  </a:lnTo>
                  <a:lnTo>
                    <a:pt x="3009" y="232"/>
                  </a:lnTo>
                  <a:lnTo>
                    <a:pt x="3124" y="348"/>
                  </a:lnTo>
                  <a:lnTo>
                    <a:pt x="3240" y="348"/>
                  </a:lnTo>
                  <a:lnTo>
                    <a:pt x="3356" y="463"/>
                  </a:lnTo>
                  <a:lnTo>
                    <a:pt x="3471" y="579"/>
                  </a:lnTo>
                  <a:lnTo>
                    <a:pt x="3587" y="695"/>
                  </a:lnTo>
                  <a:lnTo>
                    <a:pt x="3819" y="811"/>
                  </a:lnTo>
                  <a:lnTo>
                    <a:pt x="3934" y="811"/>
                  </a:lnTo>
                  <a:lnTo>
                    <a:pt x="4050" y="927"/>
                  </a:lnTo>
                  <a:lnTo>
                    <a:pt x="4050" y="927"/>
                  </a:lnTo>
                  <a:lnTo>
                    <a:pt x="3934" y="1042"/>
                  </a:lnTo>
                  <a:lnTo>
                    <a:pt x="3819" y="1042"/>
                  </a:lnTo>
                  <a:lnTo>
                    <a:pt x="3703" y="1158"/>
                  </a:lnTo>
                  <a:lnTo>
                    <a:pt x="3587" y="1158"/>
                  </a:lnTo>
                  <a:lnTo>
                    <a:pt x="3471" y="1158"/>
                  </a:lnTo>
                  <a:lnTo>
                    <a:pt x="3356" y="1158"/>
                  </a:lnTo>
                  <a:lnTo>
                    <a:pt x="3356" y="1274"/>
                  </a:lnTo>
                  <a:lnTo>
                    <a:pt x="3471" y="1390"/>
                  </a:lnTo>
                  <a:lnTo>
                    <a:pt x="3471" y="1390"/>
                  </a:lnTo>
                  <a:lnTo>
                    <a:pt x="3009" y="1506"/>
                  </a:lnTo>
                  <a:lnTo>
                    <a:pt x="3009" y="1506"/>
                  </a:lnTo>
                  <a:lnTo>
                    <a:pt x="2893" y="1621"/>
                  </a:lnTo>
                  <a:lnTo>
                    <a:pt x="2777" y="1737"/>
                  </a:lnTo>
                  <a:lnTo>
                    <a:pt x="2661" y="1737"/>
                  </a:lnTo>
                  <a:lnTo>
                    <a:pt x="2546" y="1853"/>
                  </a:lnTo>
                  <a:lnTo>
                    <a:pt x="2314" y="1853"/>
                  </a:lnTo>
                  <a:lnTo>
                    <a:pt x="2198" y="1853"/>
                  </a:lnTo>
                  <a:lnTo>
                    <a:pt x="1967" y="1969"/>
                  </a:lnTo>
                  <a:lnTo>
                    <a:pt x="1851" y="1969"/>
                  </a:lnTo>
                  <a:lnTo>
                    <a:pt x="1851" y="1969"/>
                  </a:lnTo>
                  <a:lnTo>
                    <a:pt x="1736" y="1969"/>
                  </a:lnTo>
                  <a:lnTo>
                    <a:pt x="1504" y="1969"/>
                  </a:lnTo>
                  <a:lnTo>
                    <a:pt x="1273" y="1853"/>
                  </a:lnTo>
                  <a:lnTo>
                    <a:pt x="1157" y="1737"/>
                  </a:lnTo>
                  <a:lnTo>
                    <a:pt x="925" y="1621"/>
                  </a:lnTo>
                  <a:lnTo>
                    <a:pt x="810" y="1506"/>
                  </a:lnTo>
                  <a:lnTo>
                    <a:pt x="694" y="1390"/>
                  </a:lnTo>
                  <a:lnTo>
                    <a:pt x="462" y="1274"/>
                  </a:lnTo>
                  <a:lnTo>
                    <a:pt x="462" y="1274"/>
                  </a:lnTo>
                  <a:lnTo>
                    <a:pt x="347" y="1158"/>
                  </a:lnTo>
                  <a:lnTo>
                    <a:pt x="231" y="927"/>
                  </a:lnTo>
                  <a:lnTo>
                    <a:pt x="231" y="811"/>
                  </a:lnTo>
                  <a:lnTo>
                    <a:pt x="115" y="579"/>
                  </a:lnTo>
                  <a:lnTo>
                    <a:pt x="0" y="463"/>
                  </a:lnTo>
                  <a:lnTo>
                    <a:pt x="0" y="232"/>
                  </a:lnTo>
                  <a:lnTo>
                    <a:pt x="0" y="116"/>
                  </a:lnTo>
                  <a:lnTo>
                    <a:pt x="0" y="0"/>
                  </a:lnTo>
                  <a:lnTo>
                    <a:pt x="0" y="0"/>
                  </a:lnTo>
                  <a:lnTo>
                    <a:pt x="115" y="116"/>
                  </a:lnTo>
                  <a:lnTo>
                    <a:pt x="231" y="348"/>
                  </a:lnTo>
                  <a:lnTo>
                    <a:pt x="347" y="463"/>
                  </a:lnTo>
                  <a:lnTo>
                    <a:pt x="462" y="695"/>
                  </a:lnTo>
                  <a:lnTo>
                    <a:pt x="578" y="811"/>
                  </a:lnTo>
                  <a:lnTo>
                    <a:pt x="810" y="1042"/>
                  </a:lnTo>
                  <a:lnTo>
                    <a:pt x="925" y="1158"/>
                  </a:lnTo>
                  <a:lnTo>
                    <a:pt x="1157" y="1274"/>
                  </a:lnTo>
                  <a:lnTo>
                    <a:pt x="1157" y="1274"/>
                  </a:lnTo>
                  <a:lnTo>
                    <a:pt x="1157" y="1274"/>
                  </a:lnTo>
                  <a:lnTo>
                    <a:pt x="1157" y="1274"/>
                  </a:lnTo>
                  <a:lnTo>
                    <a:pt x="1157"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024200" y="5188320"/>
              <a:ext cx="37080" cy="43200"/>
            </a:xfrm>
            <a:custGeom>
              <a:avLst/>
              <a:gdLst/>
              <a:ahLst/>
              <a:rect l="l" t="t" r="r" b="b"/>
              <a:pathLst>
                <a:path w="1042" h="811">
                  <a:moveTo>
                    <a:pt x="1042" y="811"/>
                  </a:moveTo>
                  <a:lnTo>
                    <a:pt x="926" y="811"/>
                  </a:lnTo>
                  <a:lnTo>
                    <a:pt x="810" y="811"/>
                  </a:lnTo>
                  <a:lnTo>
                    <a:pt x="694" y="811"/>
                  </a:lnTo>
                  <a:lnTo>
                    <a:pt x="579" y="811"/>
                  </a:lnTo>
                  <a:lnTo>
                    <a:pt x="463" y="695"/>
                  </a:lnTo>
                  <a:lnTo>
                    <a:pt x="347" y="695"/>
                  </a:lnTo>
                  <a:lnTo>
                    <a:pt x="231" y="579"/>
                  </a:lnTo>
                  <a:lnTo>
                    <a:pt x="116" y="579"/>
                  </a:lnTo>
                  <a:lnTo>
                    <a:pt x="116" y="579"/>
                  </a:lnTo>
                  <a:lnTo>
                    <a:pt x="0" y="0"/>
                  </a:lnTo>
                  <a:lnTo>
                    <a:pt x="0" y="0"/>
                  </a:lnTo>
                  <a:lnTo>
                    <a:pt x="116" y="116"/>
                  </a:lnTo>
                  <a:lnTo>
                    <a:pt x="231" y="232"/>
                  </a:lnTo>
                  <a:lnTo>
                    <a:pt x="463" y="348"/>
                  </a:lnTo>
                  <a:lnTo>
                    <a:pt x="694" y="348"/>
                  </a:lnTo>
                  <a:lnTo>
                    <a:pt x="810" y="348"/>
                  </a:lnTo>
                  <a:lnTo>
                    <a:pt x="926" y="463"/>
                  </a:lnTo>
                  <a:lnTo>
                    <a:pt x="1042" y="579"/>
                  </a:lnTo>
                  <a:lnTo>
                    <a:pt x="1042" y="811"/>
                  </a:lnTo>
                  <a:lnTo>
                    <a:pt x="1042" y="811"/>
                  </a:lnTo>
                  <a:lnTo>
                    <a:pt x="1042" y="811"/>
                  </a:lnTo>
                  <a:lnTo>
                    <a:pt x="1042" y="811"/>
                  </a:lnTo>
                  <a:lnTo>
                    <a:pt x="1042" y="8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333" name=""/>
            <p:cNvSpPr/>
            <p:nvPr/>
          </p:nvSpPr>
          <p:spPr>
            <a:xfrm>
              <a:off x="1289160" y="5194800"/>
              <a:ext cx="45360" cy="553320"/>
            </a:xfrm>
            <a:custGeom>
              <a:avLst/>
              <a:gdLst/>
              <a:ahLst/>
              <a:rect l="l" t="t" r="r" b="b"/>
              <a:pathLst>
                <a:path w="1273" h="10307">
                  <a:moveTo>
                    <a:pt x="1273" y="116"/>
                  </a:moveTo>
                  <a:lnTo>
                    <a:pt x="1273" y="1274"/>
                  </a:lnTo>
                  <a:lnTo>
                    <a:pt x="1157" y="2548"/>
                  </a:lnTo>
                  <a:lnTo>
                    <a:pt x="1157" y="3706"/>
                  </a:lnTo>
                  <a:lnTo>
                    <a:pt x="1041" y="4980"/>
                  </a:lnTo>
                  <a:lnTo>
                    <a:pt x="926" y="6254"/>
                  </a:lnTo>
                  <a:lnTo>
                    <a:pt x="810" y="7528"/>
                  </a:lnTo>
                  <a:lnTo>
                    <a:pt x="694" y="8917"/>
                  </a:lnTo>
                  <a:lnTo>
                    <a:pt x="694" y="10191"/>
                  </a:lnTo>
                  <a:lnTo>
                    <a:pt x="694" y="10191"/>
                  </a:lnTo>
                  <a:lnTo>
                    <a:pt x="578" y="10191"/>
                  </a:lnTo>
                  <a:lnTo>
                    <a:pt x="463" y="10191"/>
                  </a:lnTo>
                  <a:lnTo>
                    <a:pt x="347" y="10191"/>
                  </a:lnTo>
                  <a:lnTo>
                    <a:pt x="347" y="10307"/>
                  </a:lnTo>
                  <a:lnTo>
                    <a:pt x="231" y="10307"/>
                  </a:lnTo>
                  <a:lnTo>
                    <a:pt x="116" y="10307"/>
                  </a:lnTo>
                  <a:lnTo>
                    <a:pt x="116" y="10307"/>
                  </a:lnTo>
                  <a:lnTo>
                    <a:pt x="0" y="10307"/>
                  </a:lnTo>
                  <a:lnTo>
                    <a:pt x="0" y="10307"/>
                  </a:lnTo>
                  <a:lnTo>
                    <a:pt x="0" y="9033"/>
                  </a:lnTo>
                  <a:lnTo>
                    <a:pt x="116" y="7759"/>
                  </a:lnTo>
                  <a:lnTo>
                    <a:pt x="231" y="6485"/>
                  </a:lnTo>
                  <a:lnTo>
                    <a:pt x="347" y="5211"/>
                  </a:lnTo>
                  <a:lnTo>
                    <a:pt x="463" y="4053"/>
                  </a:lnTo>
                  <a:lnTo>
                    <a:pt x="578" y="2779"/>
                  </a:lnTo>
                  <a:lnTo>
                    <a:pt x="694" y="1505"/>
                  </a:lnTo>
                  <a:lnTo>
                    <a:pt x="926" y="232"/>
                  </a:lnTo>
                  <a:lnTo>
                    <a:pt x="926" y="232"/>
                  </a:lnTo>
                  <a:lnTo>
                    <a:pt x="926" y="232"/>
                  </a:lnTo>
                  <a:lnTo>
                    <a:pt x="926" y="232"/>
                  </a:lnTo>
                  <a:lnTo>
                    <a:pt x="810" y="232"/>
                  </a:lnTo>
                  <a:lnTo>
                    <a:pt x="810" y="232"/>
                  </a:lnTo>
                  <a:lnTo>
                    <a:pt x="810" y="232"/>
                  </a:lnTo>
                  <a:lnTo>
                    <a:pt x="694" y="232"/>
                  </a:lnTo>
                  <a:lnTo>
                    <a:pt x="694" y="232"/>
                  </a:lnTo>
                  <a:lnTo>
                    <a:pt x="694" y="116"/>
                  </a:lnTo>
                  <a:lnTo>
                    <a:pt x="694" y="116"/>
                  </a:lnTo>
                  <a:lnTo>
                    <a:pt x="694" y="116"/>
                  </a:lnTo>
                  <a:lnTo>
                    <a:pt x="810" y="116"/>
                  </a:lnTo>
                  <a:lnTo>
                    <a:pt x="810" y="0"/>
                  </a:lnTo>
                  <a:lnTo>
                    <a:pt x="926" y="0"/>
                  </a:lnTo>
                  <a:lnTo>
                    <a:pt x="1041" y="116"/>
                  </a:lnTo>
                  <a:lnTo>
                    <a:pt x="1157" y="116"/>
                  </a:lnTo>
                  <a:lnTo>
                    <a:pt x="1273" y="116"/>
                  </a:lnTo>
                  <a:lnTo>
                    <a:pt x="1273" y="116"/>
                  </a:lnTo>
                  <a:lnTo>
                    <a:pt x="1273" y="116"/>
                  </a:lnTo>
                  <a:lnTo>
                    <a:pt x="1273" y="116"/>
                  </a:lnTo>
                  <a:lnTo>
                    <a:pt x="1273" y="116"/>
                  </a:lnTo>
                  <a:lnTo>
                    <a:pt x="1273"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1264320" y="5213160"/>
              <a:ext cx="45360" cy="528480"/>
            </a:xfrm>
            <a:custGeom>
              <a:avLst/>
              <a:gdLst/>
              <a:ahLst/>
              <a:rect l="l" t="t" r="r" b="b"/>
              <a:pathLst>
                <a:path w="1273" h="9844">
                  <a:moveTo>
                    <a:pt x="1273" y="0"/>
                  </a:moveTo>
                  <a:lnTo>
                    <a:pt x="1042" y="1158"/>
                  </a:lnTo>
                  <a:lnTo>
                    <a:pt x="926" y="2432"/>
                  </a:lnTo>
                  <a:lnTo>
                    <a:pt x="811" y="3590"/>
                  </a:lnTo>
                  <a:lnTo>
                    <a:pt x="695" y="4864"/>
                  </a:lnTo>
                  <a:lnTo>
                    <a:pt x="579" y="6138"/>
                  </a:lnTo>
                  <a:lnTo>
                    <a:pt x="463" y="7412"/>
                  </a:lnTo>
                  <a:lnTo>
                    <a:pt x="463" y="8570"/>
                  </a:lnTo>
                  <a:lnTo>
                    <a:pt x="348" y="9844"/>
                  </a:lnTo>
                  <a:lnTo>
                    <a:pt x="348" y="9844"/>
                  </a:lnTo>
                  <a:lnTo>
                    <a:pt x="463" y="9844"/>
                  </a:lnTo>
                  <a:lnTo>
                    <a:pt x="463" y="9844"/>
                  </a:lnTo>
                  <a:lnTo>
                    <a:pt x="348" y="9844"/>
                  </a:lnTo>
                  <a:lnTo>
                    <a:pt x="348" y="9728"/>
                  </a:lnTo>
                  <a:lnTo>
                    <a:pt x="232" y="9728"/>
                  </a:lnTo>
                  <a:lnTo>
                    <a:pt x="116" y="9728"/>
                  </a:lnTo>
                  <a:lnTo>
                    <a:pt x="0" y="9844"/>
                  </a:lnTo>
                  <a:lnTo>
                    <a:pt x="0" y="9844"/>
                  </a:lnTo>
                  <a:lnTo>
                    <a:pt x="0" y="9844"/>
                  </a:lnTo>
                  <a:lnTo>
                    <a:pt x="0" y="8570"/>
                  </a:lnTo>
                  <a:lnTo>
                    <a:pt x="116" y="7412"/>
                  </a:lnTo>
                  <a:lnTo>
                    <a:pt x="116" y="6254"/>
                  </a:lnTo>
                  <a:lnTo>
                    <a:pt x="232" y="4980"/>
                  </a:lnTo>
                  <a:lnTo>
                    <a:pt x="348" y="3822"/>
                  </a:lnTo>
                  <a:lnTo>
                    <a:pt x="463" y="2548"/>
                  </a:lnTo>
                  <a:lnTo>
                    <a:pt x="579" y="1390"/>
                  </a:lnTo>
                  <a:lnTo>
                    <a:pt x="811" y="232"/>
                  </a:lnTo>
                  <a:lnTo>
                    <a:pt x="811" y="232"/>
                  </a:lnTo>
                  <a:lnTo>
                    <a:pt x="926" y="232"/>
                  </a:lnTo>
                  <a:lnTo>
                    <a:pt x="926" y="116"/>
                  </a:lnTo>
                  <a:lnTo>
                    <a:pt x="1042" y="116"/>
                  </a:lnTo>
                  <a:lnTo>
                    <a:pt x="1042" y="116"/>
                  </a:lnTo>
                  <a:lnTo>
                    <a:pt x="1042" y="0"/>
                  </a:lnTo>
                  <a:lnTo>
                    <a:pt x="1158" y="0"/>
                  </a:lnTo>
                  <a:lnTo>
                    <a:pt x="1158" y="0"/>
                  </a:lnTo>
                  <a:lnTo>
                    <a:pt x="1273" y="0"/>
                  </a:lnTo>
                  <a:lnTo>
                    <a:pt x="1273" y="0"/>
                  </a:lnTo>
                  <a:lnTo>
                    <a:pt x="1273" y="0"/>
                  </a:lnTo>
                  <a:lnTo>
                    <a:pt x="1273" y="0"/>
                  </a:lnTo>
                  <a:lnTo>
                    <a:pt x="1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1231200" y="5231880"/>
              <a:ext cx="45360" cy="472320"/>
            </a:xfrm>
            <a:custGeom>
              <a:avLst/>
              <a:gdLst/>
              <a:ahLst/>
              <a:rect l="l" t="t" r="r" b="b"/>
              <a:pathLst>
                <a:path w="1273" h="8801">
                  <a:moveTo>
                    <a:pt x="578" y="8801"/>
                  </a:moveTo>
                  <a:lnTo>
                    <a:pt x="462" y="8801"/>
                  </a:lnTo>
                  <a:lnTo>
                    <a:pt x="462" y="8801"/>
                  </a:lnTo>
                  <a:lnTo>
                    <a:pt x="347" y="8801"/>
                  </a:lnTo>
                  <a:lnTo>
                    <a:pt x="231" y="8801"/>
                  </a:lnTo>
                  <a:lnTo>
                    <a:pt x="231" y="8801"/>
                  </a:lnTo>
                  <a:lnTo>
                    <a:pt x="115" y="8801"/>
                  </a:lnTo>
                  <a:lnTo>
                    <a:pt x="0" y="8801"/>
                  </a:lnTo>
                  <a:lnTo>
                    <a:pt x="0" y="8801"/>
                  </a:lnTo>
                  <a:lnTo>
                    <a:pt x="0" y="8801"/>
                  </a:lnTo>
                  <a:lnTo>
                    <a:pt x="115" y="7643"/>
                  </a:lnTo>
                  <a:lnTo>
                    <a:pt x="231" y="6485"/>
                  </a:lnTo>
                  <a:lnTo>
                    <a:pt x="347" y="5443"/>
                  </a:lnTo>
                  <a:lnTo>
                    <a:pt x="462" y="4285"/>
                  </a:lnTo>
                  <a:lnTo>
                    <a:pt x="694" y="3127"/>
                  </a:lnTo>
                  <a:lnTo>
                    <a:pt x="925" y="2084"/>
                  </a:lnTo>
                  <a:lnTo>
                    <a:pt x="1041" y="1042"/>
                  </a:lnTo>
                  <a:lnTo>
                    <a:pt x="1273" y="0"/>
                  </a:lnTo>
                  <a:lnTo>
                    <a:pt x="1273" y="0"/>
                  </a:lnTo>
                  <a:lnTo>
                    <a:pt x="1157" y="1042"/>
                  </a:lnTo>
                  <a:lnTo>
                    <a:pt x="1041" y="2200"/>
                  </a:lnTo>
                  <a:lnTo>
                    <a:pt x="925" y="3242"/>
                  </a:lnTo>
                  <a:lnTo>
                    <a:pt x="810" y="4401"/>
                  </a:lnTo>
                  <a:lnTo>
                    <a:pt x="810" y="5443"/>
                  </a:lnTo>
                  <a:lnTo>
                    <a:pt x="694" y="6485"/>
                  </a:lnTo>
                  <a:lnTo>
                    <a:pt x="694" y="7643"/>
                  </a:lnTo>
                  <a:lnTo>
                    <a:pt x="578" y="8801"/>
                  </a:lnTo>
                  <a:lnTo>
                    <a:pt x="578" y="8801"/>
                  </a:lnTo>
                  <a:lnTo>
                    <a:pt x="578" y="8801"/>
                  </a:lnTo>
                  <a:lnTo>
                    <a:pt x="578" y="8801"/>
                  </a:lnTo>
                  <a:lnTo>
                    <a:pt x="578" y="88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1947240" y="5393520"/>
              <a:ext cx="264600" cy="945000"/>
            </a:xfrm>
            <a:custGeom>
              <a:avLst/>
              <a:gdLst/>
              <a:ahLst/>
              <a:rect l="l" t="t" r="r" b="b"/>
              <a:pathLst>
                <a:path w="7407" h="17603">
                  <a:moveTo>
                    <a:pt x="3356" y="0"/>
                  </a:moveTo>
                  <a:lnTo>
                    <a:pt x="3588" y="463"/>
                  </a:lnTo>
                  <a:lnTo>
                    <a:pt x="3935" y="1042"/>
                  </a:lnTo>
                  <a:lnTo>
                    <a:pt x="4282" y="1505"/>
                  </a:lnTo>
                  <a:lnTo>
                    <a:pt x="4630" y="1969"/>
                  </a:lnTo>
                  <a:lnTo>
                    <a:pt x="4861" y="2432"/>
                  </a:lnTo>
                  <a:lnTo>
                    <a:pt x="5208" y="2895"/>
                  </a:lnTo>
                  <a:lnTo>
                    <a:pt x="5440" y="3358"/>
                  </a:lnTo>
                  <a:lnTo>
                    <a:pt x="5555" y="3937"/>
                  </a:lnTo>
                  <a:lnTo>
                    <a:pt x="5555" y="3937"/>
                  </a:lnTo>
                  <a:lnTo>
                    <a:pt x="5555" y="4632"/>
                  </a:lnTo>
                  <a:lnTo>
                    <a:pt x="5324" y="5443"/>
                  </a:lnTo>
                  <a:lnTo>
                    <a:pt x="5208" y="6254"/>
                  </a:lnTo>
                  <a:lnTo>
                    <a:pt x="4977" y="7064"/>
                  </a:lnTo>
                  <a:lnTo>
                    <a:pt x="4861" y="7875"/>
                  </a:lnTo>
                  <a:lnTo>
                    <a:pt x="4745" y="8686"/>
                  </a:lnTo>
                  <a:lnTo>
                    <a:pt x="4630" y="9496"/>
                  </a:lnTo>
                  <a:lnTo>
                    <a:pt x="4514" y="10307"/>
                  </a:lnTo>
                  <a:lnTo>
                    <a:pt x="4514" y="10307"/>
                  </a:lnTo>
                  <a:lnTo>
                    <a:pt x="4630" y="10654"/>
                  </a:lnTo>
                  <a:lnTo>
                    <a:pt x="4861" y="10886"/>
                  </a:lnTo>
                  <a:lnTo>
                    <a:pt x="5092" y="11118"/>
                  </a:lnTo>
                  <a:lnTo>
                    <a:pt x="5208" y="11349"/>
                  </a:lnTo>
                  <a:lnTo>
                    <a:pt x="5440" y="11697"/>
                  </a:lnTo>
                  <a:lnTo>
                    <a:pt x="5555" y="11928"/>
                  </a:lnTo>
                  <a:lnTo>
                    <a:pt x="5787" y="12160"/>
                  </a:lnTo>
                  <a:lnTo>
                    <a:pt x="5903" y="12507"/>
                  </a:lnTo>
                  <a:lnTo>
                    <a:pt x="5903" y="12507"/>
                  </a:lnTo>
                  <a:lnTo>
                    <a:pt x="5440" y="12507"/>
                  </a:lnTo>
                  <a:lnTo>
                    <a:pt x="5208" y="12623"/>
                  </a:lnTo>
                  <a:lnTo>
                    <a:pt x="4861" y="12739"/>
                  </a:lnTo>
                  <a:lnTo>
                    <a:pt x="4514" y="12739"/>
                  </a:lnTo>
                  <a:lnTo>
                    <a:pt x="4167" y="12855"/>
                  </a:lnTo>
                  <a:lnTo>
                    <a:pt x="3935" y="13086"/>
                  </a:lnTo>
                  <a:lnTo>
                    <a:pt x="3588" y="13202"/>
                  </a:lnTo>
                  <a:lnTo>
                    <a:pt x="3356" y="13434"/>
                  </a:lnTo>
                  <a:lnTo>
                    <a:pt x="3356" y="13434"/>
                  </a:lnTo>
                  <a:lnTo>
                    <a:pt x="3704" y="13318"/>
                  </a:lnTo>
                  <a:lnTo>
                    <a:pt x="4051" y="13318"/>
                  </a:lnTo>
                  <a:lnTo>
                    <a:pt x="4398" y="13202"/>
                  </a:lnTo>
                  <a:lnTo>
                    <a:pt x="4745" y="13086"/>
                  </a:lnTo>
                  <a:lnTo>
                    <a:pt x="5092" y="13086"/>
                  </a:lnTo>
                  <a:lnTo>
                    <a:pt x="5440" y="12971"/>
                  </a:lnTo>
                  <a:lnTo>
                    <a:pt x="5787" y="12971"/>
                  </a:lnTo>
                  <a:lnTo>
                    <a:pt x="6134" y="12971"/>
                  </a:lnTo>
                  <a:lnTo>
                    <a:pt x="6134" y="12971"/>
                  </a:lnTo>
                  <a:lnTo>
                    <a:pt x="6134" y="13086"/>
                  </a:lnTo>
                  <a:lnTo>
                    <a:pt x="6134" y="13086"/>
                  </a:lnTo>
                  <a:lnTo>
                    <a:pt x="6134" y="13086"/>
                  </a:lnTo>
                  <a:lnTo>
                    <a:pt x="6250" y="13086"/>
                  </a:lnTo>
                  <a:lnTo>
                    <a:pt x="6250" y="13202"/>
                  </a:lnTo>
                  <a:lnTo>
                    <a:pt x="6250" y="13202"/>
                  </a:lnTo>
                  <a:lnTo>
                    <a:pt x="6250" y="13202"/>
                  </a:lnTo>
                  <a:lnTo>
                    <a:pt x="6250" y="13318"/>
                  </a:lnTo>
                  <a:lnTo>
                    <a:pt x="6250" y="13318"/>
                  </a:lnTo>
                  <a:lnTo>
                    <a:pt x="5903" y="13318"/>
                  </a:lnTo>
                  <a:lnTo>
                    <a:pt x="5555" y="13318"/>
                  </a:lnTo>
                  <a:lnTo>
                    <a:pt x="5324" y="13434"/>
                  </a:lnTo>
                  <a:lnTo>
                    <a:pt x="5092" y="13550"/>
                  </a:lnTo>
                  <a:lnTo>
                    <a:pt x="4745" y="13781"/>
                  </a:lnTo>
                  <a:lnTo>
                    <a:pt x="4514" y="13897"/>
                  </a:lnTo>
                  <a:lnTo>
                    <a:pt x="4282" y="14129"/>
                  </a:lnTo>
                  <a:lnTo>
                    <a:pt x="4051" y="14244"/>
                  </a:lnTo>
                  <a:lnTo>
                    <a:pt x="4051" y="14244"/>
                  </a:lnTo>
                  <a:lnTo>
                    <a:pt x="4167" y="14244"/>
                  </a:lnTo>
                  <a:lnTo>
                    <a:pt x="4282" y="14244"/>
                  </a:lnTo>
                  <a:lnTo>
                    <a:pt x="4514" y="14244"/>
                  </a:lnTo>
                  <a:lnTo>
                    <a:pt x="4630" y="14129"/>
                  </a:lnTo>
                  <a:lnTo>
                    <a:pt x="4745" y="14013"/>
                  </a:lnTo>
                  <a:lnTo>
                    <a:pt x="4861" y="14013"/>
                  </a:lnTo>
                  <a:lnTo>
                    <a:pt x="5092" y="14013"/>
                  </a:lnTo>
                  <a:lnTo>
                    <a:pt x="5208" y="13897"/>
                  </a:lnTo>
                  <a:lnTo>
                    <a:pt x="5208" y="13897"/>
                  </a:lnTo>
                  <a:lnTo>
                    <a:pt x="5440" y="13897"/>
                  </a:lnTo>
                  <a:lnTo>
                    <a:pt x="5555" y="13897"/>
                  </a:lnTo>
                  <a:lnTo>
                    <a:pt x="5787" y="13897"/>
                  </a:lnTo>
                  <a:lnTo>
                    <a:pt x="6018" y="13781"/>
                  </a:lnTo>
                  <a:lnTo>
                    <a:pt x="6134" y="13781"/>
                  </a:lnTo>
                  <a:lnTo>
                    <a:pt x="6366" y="13781"/>
                  </a:lnTo>
                  <a:lnTo>
                    <a:pt x="6481" y="13781"/>
                  </a:lnTo>
                  <a:lnTo>
                    <a:pt x="6713" y="13781"/>
                  </a:lnTo>
                  <a:lnTo>
                    <a:pt x="6713" y="13781"/>
                  </a:lnTo>
                  <a:lnTo>
                    <a:pt x="6828" y="14244"/>
                  </a:lnTo>
                  <a:lnTo>
                    <a:pt x="7060" y="14592"/>
                  </a:lnTo>
                  <a:lnTo>
                    <a:pt x="7176" y="15055"/>
                  </a:lnTo>
                  <a:lnTo>
                    <a:pt x="7291" y="15518"/>
                  </a:lnTo>
                  <a:lnTo>
                    <a:pt x="7407" y="15982"/>
                  </a:lnTo>
                  <a:lnTo>
                    <a:pt x="7407" y="16329"/>
                  </a:lnTo>
                  <a:lnTo>
                    <a:pt x="7407" y="16792"/>
                  </a:lnTo>
                  <a:lnTo>
                    <a:pt x="7176" y="17255"/>
                  </a:lnTo>
                  <a:lnTo>
                    <a:pt x="7176" y="17255"/>
                  </a:lnTo>
                  <a:lnTo>
                    <a:pt x="6713" y="17371"/>
                  </a:lnTo>
                  <a:lnTo>
                    <a:pt x="6250" y="17487"/>
                  </a:lnTo>
                  <a:lnTo>
                    <a:pt x="5671" y="17603"/>
                  </a:lnTo>
                  <a:lnTo>
                    <a:pt x="5208" y="17487"/>
                  </a:lnTo>
                  <a:lnTo>
                    <a:pt x="4745" y="17371"/>
                  </a:lnTo>
                  <a:lnTo>
                    <a:pt x="4167" y="17255"/>
                  </a:lnTo>
                  <a:lnTo>
                    <a:pt x="3704" y="17024"/>
                  </a:lnTo>
                  <a:lnTo>
                    <a:pt x="3356" y="16792"/>
                  </a:lnTo>
                  <a:lnTo>
                    <a:pt x="3356" y="16792"/>
                  </a:lnTo>
                  <a:lnTo>
                    <a:pt x="2894" y="16329"/>
                  </a:lnTo>
                  <a:lnTo>
                    <a:pt x="2662" y="15634"/>
                  </a:lnTo>
                  <a:lnTo>
                    <a:pt x="2431" y="15055"/>
                  </a:lnTo>
                  <a:lnTo>
                    <a:pt x="2199" y="14360"/>
                  </a:lnTo>
                  <a:lnTo>
                    <a:pt x="1968" y="13665"/>
                  </a:lnTo>
                  <a:lnTo>
                    <a:pt x="1620" y="13202"/>
                  </a:lnTo>
                  <a:lnTo>
                    <a:pt x="1158" y="12855"/>
                  </a:lnTo>
                  <a:lnTo>
                    <a:pt x="463" y="12623"/>
                  </a:lnTo>
                  <a:lnTo>
                    <a:pt x="463" y="12623"/>
                  </a:lnTo>
                  <a:lnTo>
                    <a:pt x="232" y="12507"/>
                  </a:lnTo>
                  <a:lnTo>
                    <a:pt x="232" y="12391"/>
                  </a:lnTo>
                  <a:lnTo>
                    <a:pt x="116" y="12276"/>
                  </a:lnTo>
                  <a:lnTo>
                    <a:pt x="0" y="12044"/>
                  </a:lnTo>
                  <a:lnTo>
                    <a:pt x="0" y="11928"/>
                  </a:lnTo>
                  <a:lnTo>
                    <a:pt x="0" y="11812"/>
                  </a:lnTo>
                  <a:lnTo>
                    <a:pt x="0" y="11581"/>
                  </a:lnTo>
                  <a:lnTo>
                    <a:pt x="116" y="11465"/>
                  </a:lnTo>
                  <a:lnTo>
                    <a:pt x="116" y="11465"/>
                  </a:lnTo>
                  <a:lnTo>
                    <a:pt x="347" y="11118"/>
                  </a:lnTo>
                  <a:lnTo>
                    <a:pt x="579" y="10770"/>
                  </a:lnTo>
                  <a:lnTo>
                    <a:pt x="926" y="10539"/>
                  </a:lnTo>
                  <a:lnTo>
                    <a:pt x="1273" y="10307"/>
                  </a:lnTo>
                  <a:lnTo>
                    <a:pt x="1620" y="10075"/>
                  </a:lnTo>
                  <a:lnTo>
                    <a:pt x="1968" y="9844"/>
                  </a:lnTo>
                  <a:lnTo>
                    <a:pt x="2199" y="9612"/>
                  </a:lnTo>
                  <a:lnTo>
                    <a:pt x="2431" y="9265"/>
                  </a:lnTo>
                  <a:lnTo>
                    <a:pt x="2431" y="9265"/>
                  </a:lnTo>
                  <a:lnTo>
                    <a:pt x="2546" y="8570"/>
                  </a:lnTo>
                  <a:lnTo>
                    <a:pt x="2662" y="7991"/>
                  </a:lnTo>
                  <a:lnTo>
                    <a:pt x="2778" y="7412"/>
                  </a:lnTo>
                  <a:lnTo>
                    <a:pt x="2894" y="6833"/>
                  </a:lnTo>
                  <a:lnTo>
                    <a:pt x="3009" y="6254"/>
                  </a:lnTo>
                  <a:lnTo>
                    <a:pt x="3125" y="5675"/>
                  </a:lnTo>
                  <a:lnTo>
                    <a:pt x="3241" y="5095"/>
                  </a:lnTo>
                  <a:lnTo>
                    <a:pt x="3241" y="4516"/>
                  </a:lnTo>
                  <a:lnTo>
                    <a:pt x="3241" y="4516"/>
                  </a:lnTo>
                  <a:lnTo>
                    <a:pt x="3125" y="4053"/>
                  </a:lnTo>
                  <a:lnTo>
                    <a:pt x="3009" y="3706"/>
                  </a:lnTo>
                  <a:lnTo>
                    <a:pt x="2778" y="3243"/>
                  </a:lnTo>
                  <a:lnTo>
                    <a:pt x="2546" y="2895"/>
                  </a:lnTo>
                  <a:lnTo>
                    <a:pt x="2315" y="2548"/>
                  </a:lnTo>
                  <a:lnTo>
                    <a:pt x="2083" y="2200"/>
                  </a:lnTo>
                  <a:lnTo>
                    <a:pt x="1736" y="1853"/>
                  </a:lnTo>
                  <a:lnTo>
                    <a:pt x="1505" y="1505"/>
                  </a:lnTo>
                  <a:lnTo>
                    <a:pt x="1505" y="1505"/>
                  </a:lnTo>
                  <a:lnTo>
                    <a:pt x="1389" y="1390"/>
                  </a:lnTo>
                  <a:lnTo>
                    <a:pt x="1273" y="1274"/>
                  </a:lnTo>
                  <a:lnTo>
                    <a:pt x="1273" y="1158"/>
                  </a:lnTo>
                  <a:lnTo>
                    <a:pt x="1273" y="1042"/>
                  </a:lnTo>
                  <a:lnTo>
                    <a:pt x="1389" y="926"/>
                  </a:lnTo>
                  <a:lnTo>
                    <a:pt x="1389" y="811"/>
                  </a:lnTo>
                  <a:lnTo>
                    <a:pt x="1505" y="811"/>
                  </a:lnTo>
                  <a:lnTo>
                    <a:pt x="1620" y="695"/>
                  </a:lnTo>
                  <a:lnTo>
                    <a:pt x="1620" y="695"/>
                  </a:lnTo>
                  <a:lnTo>
                    <a:pt x="1852" y="463"/>
                  </a:lnTo>
                  <a:lnTo>
                    <a:pt x="1852" y="463"/>
                  </a:lnTo>
                  <a:lnTo>
                    <a:pt x="1852" y="579"/>
                  </a:lnTo>
                  <a:lnTo>
                    <a:pt x="1736" y="695"/>
                  </a:lnTo>
                  <a:lnTo>
                    <a:pt x="1620" y="811"/>
                  </a:lnTo>
                  <a:lnTo>
                    <a:pt x="1505" y="926"/>
                  </a:lnTo>
                  <a:lnTo>
                    <a:pt x="1505" y="1042"/>
                  </a:lnTo>
                  <a:lnTo>
                    <a:pt x="1505" y="1158"/>
                  </a:lnTo>
                  <a:lnTo>
                    <a:pt x="1505" y="1274"/>
                  </a:lnTo>
                  <a:lnTo>
                    <a:pt x="1852" y="1274"/>
                  </a:lnTo>
                  <a:lnTo>
                    <a:pt x="1852" y="1274"/>
                  </a:lnTo>
                  <a:lnTo>
                    <a:pt x="1968" y="1158"/>
                  </a:lnTo>
                  <a:lnTo>
                    <a:pt x="2083" y="926"/>
                  </a:lnTo>
                  <a:lnTo>
                    <a:pt x="2315" y="695"/>
                  </a:lnTo>
                  <a:lnTo>
                    <a:pt x="2431" y="579"/>
                  </a:lnTo>
                  <a:lnTo>
                    <a:pt x="2662" y="463"/>
                  </a:lnTo>
                  <a:lnTo>
                    <a:pt x="2894" y="347"/>
                  </a:lnTo>
                  <a:lnTo>
                    <a:pt x="3125" y="116"/>
                  </a:lnTo>
                  <a:lnTo>
                    <a:pt x="3356" y="0"/>
                  </a:lnTo>
                  <a:lnTo>
                    <a:pt x="3356" y="0"/>
                  </a:lnTo>
                  <a:lnTo>
                    <a:pt x="3356" y="0"/>
                  </a:lnTo>
                  <a:lnTo>
                    <a:pt x="3356" y="0"/>
                  </a:lnTo>
                  <a:lnTo>
                    <a:pt x="3356"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2021760" y="5418360"/>
              <a:ext cx="41400" cy="80640"/>
            </a:xfrm>
            <a:custGeom>
              <a:avLst/>
              <a:gdLst/>
              <a:ahLst/>
              <a:rect l="l" t="t" r="r" b="b"/>
              <a:pathLst>
                <a:path w="1158" h="1506">
                  <a:moveTo>
                    <a:pt x="1158" y="0"/>
                  </a:moveTo>
                  <a:lnTo>
                    <a:pt x="1158" y="116"/>
                  </a:lnTo>
                  <a:lnTo>
                    <a:pt x="1042" y="232"/>
                  </a:lnTo>
                  <a:lnTo>
                    <a:pt x="1042" y="348"/>
                  </a:lnTo>
                  <a:lnTo>
                    <a:pt x="926" y="463"/>
                  </a:lnTo>
                  <a:lnTo>
                    <a:pt x="811" y="463"/>
                  </a:lnTo>
                  <a:lnTo>
                    <a:pt x="695" y="579"/>
                  </a:lnTo>
                  <a:lnTo>
                    <a:pt x="579" y="695"/>
                  </a:lnTo>
                  <a:lnTo>
                    <a:pt x="579" y="695"/>
                  </a:lnTo>
                  <a:lnTo>
                    <a:pt x="579" y="695"/>
                  </a:lnTo>
                  <a:lnTo>
                    <a:pt x="463" y="811"/>
                  </a:lnTo>
                  <a:lnTo>
                    <a:pt x="463" y="927"/>
                  </a:lnTo>
                  <a:lnTo>
                    <a:pt x="348" y="1042"/>
                  </a:lnTo>
                  <a:lnTo>
                    <a:pt x="348" y="1158"/>
                  </a:lnTo>
                  <a:lnTo>
                    <a:pt x="232" y="1274"/>
                  </a:lnTo>
                  <a:lnTo>
                    <a:pt x="232" y="1274"/>
                  </a:lnTo>
                  <a:lnTo>
                    <a:pt x="116" y="1390"/>
                  </a:lnTo>
                  <a:lnTo>
                    <a:pt x="116" y="1506"/>
                  </a:lnTo>
                  <a:lnTo>
                    <a:pt x="116" y="1506"/>
                  </a:lnTo>
                  <a:lnTo>
                    <a:pt x="0" y="1274"/>
                  </a:lnTo>
                  <a:lnTo>
                    <a:pt x="0" y="1158"/>
                  </a:lnTo>
                  <a:lnTo>
                    <a:pt x="0" y="1042"/>
                  </a:lnTo>
                  <a:lnTo>
                    <a:pt x="0" y="811"/>
                  </a:lnTo>
                  <a:lnTo>
                    <a:pt x="116" y="695"/>
                  </a:lnTo>
                  <a:lnTo>
                    <a:pt x="232" y="579"/>
                  </a:lnTo>
                  <a:lnTo>
                    <a:pt x="348" y="463"/>
                  </a:lnTo>
                  <a:lnTo>
                    <a:pt x="348" y="348"/>
                  </a:lnTo>
                  <a:lnTo>
                    <a:pt x="348" y="348"/>
                  </a:lnTo>
                  <a:lnTo>
                    <a:pt x="463" y="232"/>
                  </a:lnTo>
                  <a:lnTo>
                    <a:pt x="579" y="232"/>
                  </a:lnTo>
                  <a:lnTo>
                    <a:pt x="695" y="116"/>
                  </a:lnTo>
                  <a:lnTo>
                    <a:pt x="811" y="116"/>
                  </a:lnTo>
                  <a:lnTo>
                    <a:pt x="811" y="0"/>
                  </a:lnTo>
                  <a:lnTo>
                    <a:pt x="926" y="0"/>
                  </a:lnTo>
                  <a:lnTo>
                    <a:pt x="1042" y="0"/>
                  </a:lnTo>
                  <a:lnTo>
                    <a:pt x="1158" y="0"/>
                  </a:lnTo>
                  <a:lnTo>
                    <a:pt x="1158" y="0"/>
                  </a:lnTo>
                  <a:lnTo>
                    <a:pt x="1158" y="0"/>
                  </a:lnTo>
                  <a:lnTo>
                    <a:pt x="1158" y="0"/>
                  </a:lnTo>
                  <a:lnTo>
                    <a:pt x="115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38" name=""/>
            <p:cNvSpPr/>
            <p:nvPr/>
          </p:nvSpPr>
          <p:spPr>
            <a:xfrm>
              <a:off x="2034000" y="5455800"/>
              <a:ext cx="28800" cy="49680"/>
            </a:xfrm>
            <a:custGeom>
              <a:avLst/>
              <a:gdLst/>
              <a:ahLst/>
              <a:rect l="l" t="t" r="r" b="b"/>
              <a:pathLst>
                <a:path w="810" h="926">
                  <a:moveTo>
                    <a:pt x="810" y="0"/>
                  </a:moveTo>
                  <a:lnTo>
                    <a:pt x="694" y="116"/>
                  </a:lnTo>
                  <a:lnTo>
                    <a:pt x="694" y="232"/>
                  </a:lnTo>
                  <a:lnTo>
                    <a:pt x="694" y="347"/>
                  </a:lnTo>
                  <a:lnTo>
                    <a:pt x="578" y="463"/>
                  </a:lnTo>
                  <a:lnTo>
                    <a:pt x="463" y="579"/>
                  </a:lnTo>
                  <a:lnTo>
                    <a:pt x="463" y="695"/>
                  </a:lnTo>
                  <a:lnTo>
                    <a:pt x="347" y="811"/>
                  </a:lnTo>
                  <a:lnTo>
                    <a:pt x="347" y="926"/>
                  </a:lnTo>
                  <a:lnTo>
                    <a:pt x="347" y="926"/>
                  </a:lnTo>
                  <a:lnTo>
                    <a:pt x="0" y="926"/>
                  </a:lnTo>
                  <a:lnTo>
                    <a:pt x="0" y="926"/>
                  </a:lnTo>
                  <a:lnTo>
                    <a:pt x="0" y="811"/>
                  </a:lnTo>
                  <a:lnTo>
                    <a:pt x="115" y="579"/>
                  </a:lnTo>
                  <a:lnTo>
                    <a:pt x="115" y="463"/>
                  </a:lnTo>
                  <a:lnTo>
                    <a:pt x="231" y="347"/>
                  </a:lnTo>
                  <a:lnTo>
                    <a:pt x="347" y="232"/>
                  </a:lnTo>
                  <a:lnTo>
                    <a:pt x="463" y="116"/>
                  </a:lnTo>
                  <a:lnTo>
                    <a:pt x="578" y="0"/>
                  </a:lnTo>
                  <a:lnTo>
                    <a:pt x="810" y="0"/>
                  </a:lnTo>
                  <a:lnTo>
                    <a:pt x="810" y="0"/>
                  </a:lnTo>
                  <a:lnTo>
                    <a:pt x="810" y="0"/>
                  </a:lnTo>
                  <a:lnTo>
                    <a:pt x="810" y="0"/>
                  </a:lnTo>
                  <a:lnTo>
                    <a:pt x="8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339" name=""/>
            <p:cNvSpPr/>
            <p:nvPr/>
          </p:nvSpPr>
          <p:spPr>
            <a:xfrm>
              <a:off x="2063160" y="5499360"/>
              <a:ext cx="12240" cy="18360"/>
            </a:xfrm>
            <a:custGeom>
              <a:avLst/>
              <a:gdLst/>
              <a:ahLst/>
              <a:rect l="l" t="t" r="r" b="b"/>
              <a:pathLst>
                <a:path w="347" h="347">
                  <a:moveTo>
                    <a:pt x="231" y="347"/>
                  </a:moveTo>
                  <a:lnTo>
                    <a:pt x="0" y="231"/>
                  </a:lnTo>
                  <a:lnTo>
                    <a:pt x="0" y="231"/>
                  </a:lnTo>
                  <a:lnTo>
                    <a:pt x="0" y="231"/>
                  </a:lnTo>
                  <a:lnTo>
                    <a:pt x="0" y="115"/>
                  </a:lnTo>
                  <a:lnTo>
                    <a:pt x="0" y="115"/>
                  </a:lnTo>
                  <a:lnTo>
                    <a:pt x="0" y="0"/>
                  </a:lnTo>
                  <a:lnTo>
                    <a:pt x="115" y="0"/>
                  </a:lnTo>
                  <a:lnTo>
                    <a:pt x="115" y="0"/>
                  </a:lnTo>
                  <a:lnTo>
                    <a:pt x="231" y="0"/>
                  </a:lnTo>
                  <a:lnTo>
                    <a:pt x="347" y="0"/>
                  </a:lnTo>
                  <a:lnTo>
                    <a:pt x="347" y="0"/>
                  </a:lnTo>
                  <a:lnTo>
                    <a:pt x="231" y="347"/>
                  </a:lnTo>
                  <a:lnTo>
                    <a:pt x="231" y="347"/>
                  </a:lnTo>
                  <a:lnTo>
                    <a:pt x="231" y="347"/>
                  </a:lnTo>
                  <a:lnTo>
                    <a:pt x="231" y="34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40" name=""/>
            <p:cNvSpPr/>
            <p:nvPr/>
          </p:nvSpPr>
          <p:spPr>
            <a:xfrm>
              <a:off x="1367640" y="5673600"/>
              <a:ext cx="310320" cy="690120"/>
            </a:xfrm>
            <a:custGeom>
              <a:avLst/>
              <a:gdLst/>
              <a:ahLst/>
              <a:rect l="l" t="t" r="r" b="b"/>
              <a:pathLst>
                <a:path w="8680" h="12855">
                  <a:moveTo>
                    <a:pt x="7059" y="0"/>
                  </a:moveTo>
                  <a:lnTo>
                    <a:pt x="6944" y="116"/>
                  </a:lnTo>
                  <a:lnTo>
                    <a:pt x="6712" y="232"/>
                  </a:lnTo>
                  <a:lnTo>
                    <a:pt x="6596" y="348"/>
                  </a:lnTo>
                  <a:lnTo>
                    <a:pt x="6481" y="464"/>
                  </a:lnTo>
                  <a:lnTo>
                    <a:pt x="6365" y="579"/>
                  </a:lnTo>
                  <a:lnTo>
                    <a:pt x="6134" y="695"/>
                  </a:lnTo>
                  <a:lnTo>
                    <a:pt x="6018" y="811"/>
                  </a:lnTo>
                  <a:lnTo>
                    <a:pt x="5902" y="927"/>
                  </a:lnTo>
                  <a:lnTo>
                    <a:pt x="5902" y="927"/>
                  </a:lnTo>
                  <a:lnTo>
                    <a:pt x="5902" y="927"/>
                  </a:lnTo>
                  <a:lnTo>
                    <a:pt x="5902" y="1043"/>
                  </a:lnTo>
                  <a:lnTo>
                    <a:pt x="6018" y="1043"/>
                  </a:lnTo>
                  <a:lnTo>
                    <a:pt x="6018" y="1158"/>
                  </a:lnTo>
                  <a:lnTo>
                    <a:pt x="6134" y="1158"/>
                  </a:lnTo>
                  <a:lnTo>
                    <a:pt x="6249" y="1274"/>
                  </a:lnTo>
                  <a:lnTo>
                    <a:pt x="6249" y="1158"/>
                  </a:lnTo>
                  <a:lnTo>
                    <a:pt x="6365" y="1158"/>
                  </a:lnTo>
                  <a:lnTo>
                    <a:pt x="6365" y="1158"/>
                  </a:lnTo>
                  <a:lnTo>
                    <a:pt x="7291" y="348"/>
                  </a:lnTo>
                  <a:lnTo>
                    <a:pt x="7291" y="348"/>
                  </a:lnTo>
                  <a:lnTo>
                    <a:pt x="7291" y="464"/>
                  </a:lnTo>
                  <a:lnTo>
                    <a:pt x="7291" y="579"/>
                  </a:lnTo>
                  <a:lnTo>
                    <a:pt x="7291" y="695"/>
                  </a:lnTo>
                  <a:lnTo>
                    <a:pt x="7175" y="695"/>
                  </a:lnTo>
                  <a:lnTo>
                    <a:pt x="7059" y="811"/>
                  </a:lnTo>
                  <a:lnTo>
                    <a:pt x="6944" y="927"/>
                  </a:lnTo>
                  <a:lnTo>
                    <a:pt x="6828" y="1043"/>
                  </a:lnTo>
                  <a:lnTo>
                    <a:pt x="6828" y="1158"/>
                  </a:lnTo>
                  <a:lnTo>
                    <a:pt x="6828" y="1158"/>
                  </a:lnTo>
                  <a:lnTo>
                    <a:pt x="6712" y="1158"/>
                  </a:lnTo>
                  <a:lnTo>
                    <a:pt x="6712" y="1158"/>
                  </a:lnTo>
                  <a:lnTo>
                    <a:pt x="6712" y="1274"/>
                  </a:lnTo>
                  <a:lnTo>
                    <a:pt x="6712" y="1274"/>
                  </a:lnTo>
                  <a:lnTo>
                    <a:pt x="6712" y="1274"/>
                  </a:lnTo>
                  <a:lnTo>
                    <a:pt x="6712" y="1390"/>
                  </a:lnTo>
                  <a:lnTo>
                    <a:pt x="6712" y="1390"/>
                  </a:lnTo>
                  <a:lnTo>
                    <a:pt x="6712" y="1390"/>
                  </a:lnTo>
                  <a:lnTo>
                    <a:pt x="6712" y="1390"/>
                  </a:lnTo>
                  <a:lnTo>
                    <a:pt x="6828" y="1506"/>
                  </a:lnTo>
                  <a:lnTo>
                    <a:pt x="6944" y="1506"/>
                  </a:lnTo>
                  <a:lnTo>
                    <a:pt x="7059" y="1506"/>
                  </a:lnTo>
                  <a:lnTo>
                    <a:pt x="7175" y="1390"/>
                  </a:lnTo>
                  <a:lnTo>
                    <a:pt x="7175" y="1274"/>
                  </a:lnTo>
                  <a:lnTo>
                    <a:pt x="7291" y="1158"/>
                  </a:lnTo>
                  <a:lnTo>
                    <a:pt x="7407" y="1158"/>
                  </a:lnTo>
                  <a:lnTo>
                    <a:pt x="7522" y="1043"/>
                  </a:lnTo>
                  <a:lnTo>
                    <a:pt x="7522" y="1043"/>
                  </a:lnTo>
                  <a:lnTo>
                    <a:pt x="7638" y="1274"/>
                  </a:lnTo>
                  <a:lnTo>
                    <a:pt x="7754" y="1506"/>
                  </a:lnTo>
                  <a:lnTo>
                    <a:pt x="7870" y="1737"/>
                  </a:lnTo>
                  <a:lnTo>
                    <a:pt x="8101" y="2085"/>
                  </a:lnTo>
                  <a:lnTo>
                    <a:pt x="8101" y="2316"/>
                  </a:lnTo>
                  <a:lnTo>
                    <a:pt x="8217" y="2548"/>
                  </a:lnTo>
                  <a:lnTo>
                    <a:pt x="8101" y="2780"/>
                  </a:lnTo>
                  <a:lnTo>
                    <a:pt x="7985" y="3011"/>
                  </a:lnTo>
                  <a:lnTo>
                    <a:pt x="7985" y="3011"/>
                  </a:lnTo>
                  <a:lnTo>
                    <a:pt x="7522" y="3359"/>
                  </a:lnTo>
                  <a:lnTo>
                    <a:pt x="7291" y="3706"/>
                  </a:lnTo>
                  <a:lnTo>
                    <a:pt x="6944" y="4054"/>
                  </a:lnTo>
                  <a:lnTo>
                    <a:pt x="6712" y="4517"/>
                  </a:lnTo>
                  <a:lnTo>
                    <a:pt x="6481" y="4864"/>
                  </a:lnTo>
                  <a:lnTo>
                    <a:pt x="6249" y="5212"/>
                  </a:lnTo>
                  <a:lnTo>
                    <a:pt x="5902" y="5559"/>
                  </a:lnTo>
                  <a:lnTo>
                    <a:pt x="5555" y="5791"/>
                  </a:lnTo>
                  <a:lnTo>
                    <a:pt x="5555" y="5791"/>
                  </a:lnTo>
                  <a:lnTo>
                    <a:pt x="5439" y="6486"/>
                  </a:lnTo>
                  <a:lnTo>
                    <a:pt x="5323" y="7180"/>
                  </a:lnTo>
                  <a:lnTo>
                    <a:pt x="5208" y="7760"/>
                  </a:lnTo>
                  <a:lnTo>
                    <a:pt x="5208" y="8454"/>
                  </a:lnTo>
                  <a:lnTo>
                    <a:pt x="5208" y="9149"/>
                  </a:lnTo>
                  <a:lnTo>
                    <a:pt x="5323" y="9844"/>
                  </a:lnTo>
                  <a:lnTo>
                    <a:pt x="5555" y="10423"/>
                  </a:lnTo>
                  <a:lnTo>
                    <a:pt x="5902" y="11002"/>
                  </a:lnTo>
                  <a:lnTo>
                    <a:pt x="5902" y="11002"/>
                  </a:lnTo>
                  <a:lnTo>
                    <a:pt x="5902" y="11002"/>
                  </a:lnTo>
                  <a:lnTo>
                    <a:pt x="6018" y="10886"/>
                  </a:lnTo>
                  <a:lnTo>
                    <a:pt x="6018" y="10771"/>
                  </a:lnTo>
                  <a:lnTo>
                    <a:pt x="6018" y="10771"/>
                  </a:lnTo>
                  <a:lnTo>
                    <a:pt x="6018" y="10655"/>
                  </a:lnTo>
                  <a:lnTo>
                    <a:pt x="6018" y="10539"/>
                  </a:lnTo>
                  <a:lnTo>
                    <a:pt x="5902" y="10423"/>
                  </a:lnTo>
                  <a:lnTo>
                    <a:pt x="5902" y="10423"/>
                  </a:lnTo>
                  <a:lnTo>
                    <a:pt x="5902" y="10423"/>
                  </a:lnTo>
                  <a:lnTo>
                    <a:pt x="6018" y="10423"/>
                  </a:lnTo>
                  <a:lnTo>
                    <a:pt x="6134" y="10423"/>
                  </a:lnTo>
                  <a:lnTo>
                    <a:pt x="6134" y="10539"/>
                  </a:lnTo>
                  <a:lnTo>
                    <a:pt x="6249" y="10539"/>
                  </a:lnTo>
                  <a:lnTo>
                    <a:pt x="6249" y="10655"/>
                  </a:lnTo>
                  <a:lnTo>
                    <a:pt x="6365" y="10655"/>
                  </a:lnTo>
                  <a:lnTo>
                    <a:pt x="6365" y="10771"/>
                  </a:lnTo>
                  <a:lnTo>
                    <a:pt x="6481" y="10886"/>
                  </a:lnTo>
                  <a:lnTo>
                    <a:pt x="6481" y="10886"/>
                  </a:lnTo>
                  <a:lnTo>
                    <a:pt x="6365" y="11465"/>
                  </a:lnTo>
                  <a:lnTo>
                    <a:pt x="6365" y="11465"/>
                  </a:lnTo>
                  <a:lnTo>
                    <a:pt x="6481" y="11465"/>
                  </a:lnTo>
                  <a:lnTo>
                    <a:pt x="6596" y="11465"/>
                  </a:lnTo>
                  <a:lnTo>
                    <a:pt x="6712" y="11465"/>
                  </a:lnTo>
                  <a:lnTo>
                    <a:pt x="6712" y="11350"/>
                  </a:lnTo>
                  <a:lnTo>
                    <a:pt x="6712" y="11234"/>
                  </a:lnTo>
                  <a:lnTo>
                    <a:pt x="6828" y="11118"/>
                  </a:lnTo>
                  <a:lnTo>
                    <a:pt x="6828" y="11002"/>
                  </a:lnTo>
                  <a:lnTo>
                    <a:pt x="6944" y="10886"/>
                  </a:lnTo>
                  <a:lnTo>
                    <a:pt x="6944" y="10886"/>
                  </a:lnTo>
                  <a:lnTo>
                    <a:pt x="7175" y="10886"/>
                  </a:lnTo>
                  <a:lnTo>
                    <a:pt x="7407" y="10886"/>
                  </a:lnTo>
                  <a:lnTo>
                    <a:pt x="7638" y="10886"/>
                  </a:lnTo>
                  <a:lnTo>
                    <a:pt x="7870" y="10886"/>
                  </a:lnTo>
                  <a:lnTo>
                    <a:pt x="8101" y="11002"/>
                  </a:lnTo>
                  <a:lnTo>
                    <a:pt x="8332" y="11002"/>
                  </a:lnTo>
                  <a:lnTo>
                    <a:pt x="8564" y="11234"/>
                  </a:lnTo>
                  <a:lnTo>
                    <a:pt x="8564" y="11581"/>
                  </a:lnTo>
                  <a:lnTo>
                    <a:pt x="8564" y="11581"/>
                  </a:lnTo>
                  <a:lnTo>
                    <a:pt x="8680" y="11929"/>
                  </a:lnTo>
                  <a:lnTo>
                    <a:pt x="8564" y="12160"/>
                  </a:lnTo>
                  <a:lnTo>
                    <a:pt x="8448" y="12392"/>
                  </a:lnTo>
                  <a:lnTo>
                    <a:pt x="8217" y="12508"/>
                  </a:lnTo>
                  <a:lnTo>
                    <a:pt x="7985" y="12624"/>
                  </a:lnTo>
                  <a:lnTo>
                    <a:pt x="7638" y="12624"/>
                  </a:lnTo>
                  <a:lnTo>
                    <a:pt x="7291" y="12739"/>
                  </a:lnTo>
                  <a:lnTo>
                    <a:pt x="7059" y="12855"/>
                  </a:lnTo>
                  <a:lnTo>
                    <a:pt x="7059" y="12855"/>
                  </a:lnTo>
                  <a:lnTo>
                    <a:pt x="6596" y="12855"/>
                  </a:lnTo>
                  <a:lnTo>
                    <a:pt x="6018" y="12739"/>
                  </a:lnTo>
                  <a:lnTo>
                    <a:pt x="5555" y="12739"/>
                  </a:lnTo>
                  <a:lnTo>
                    <a:pt x="5092" y="12624"/>
                  </a:lnTo>
                  <a:lnTo>
                    <a:pt x="4513" y="12508"/>
                  </a:lnTo>
                  <a:lnTo>
                    <a:pt x="4166" y="12276"/>
                  </a:lnTo>
                  <a:lnTo>
                    <a:pt x="3703" y="12044"/>
                  </a:lnTo>
                  <a:lnTo>
                    <a:pt x="3240" y="11813"/>
                  </a:lnTo>
                  <a:lnTo>
                    <a:pt x="3240" y="11813"/>
                  </a:lnTo>
                  <a:lnTo>
                    <a:pt x="2893" y="11234"/>
                  </a:lnTo>
                  <a:lnTo>
                    <a:pt x="2662" y="10539"/>
                  </a:lnTo>
                  <a:lnTo>
                    <a:pt x="2430" y="9960"/>
                  </a:lnTo>
                  <a:lnTo>
                    <a:pt x="2199" y="9265"/>
                  </a:lnTo>
                  <a:lnTo>
                    <a:pt x="1851" y="8686"/>
                  </a:lnTo>
                  <a:lnTo>
                    <a:pt x="1504" y="8107"/>
                  </a:lnTo>
                  <a:lnTo>
                    <a:pt x="926" y="7644"/>
                  </a:lnTo>
                  <a:lnTo>
                    <a:pt x="231" y="7412"/>
                  </a:lnTo>
                  <a:lnTo>
                    <a:pt x="231" y="7412"/>
                  </a:lnTo>
                  <a:lnTo>
                    <a:pt x="115" y="7296"/>
                  </a:lnTo>
                  <a:lnTo>
                    <a:pt x="115" y="7296"/>
                  </a:lnTo>
                  <a:lnTo>
                    <a:pt x="0" y="7180"/>
                  </a:lnTo>
                  <a:lnTo>
                    <a:pt x="0" y="7065"/>
                  </a:lnTo>
                  <a:lnTo>
                    <a:pt x="0" y="6949"/>
                  </a:lnTo>
                  <a:lnTo>
                    <a:pt x="0" y="6833"/>
                  </a:lnTo>
                  <a:lnTo>
                    <a:pt x="0" y="6717"/>
                  </a:lnTo>
                  <a:lnTo>
                    <a:pt x="0" y="6601"/>
                  </a:lnTo>
                  <a:lnTo>
                    <a:pt x="0" y="6601"/>
                  </a:lnTo>
                  <a:lnTo>
                    <a:pt x="231" y="6370"/>
                  </a:lnTo>
                  <a:lnTo>
                    <a:pt x="463" y="6138"/>
                  </a:lnTo>
                  <a:lnTo>
                    <a:pt x="810" y="6022"/>
                  </a:lnTo>
                  <a:lnTo>
                    <a:pt x="1157" y="5907"/>
                  </a:lnTo>
                  <a:lnTo>
                    <a:pt x="1504" y="5907"/>
                  </a:lnTo>
                  <a:lnTo>
                    <a:pt x="1851" y="5791"/>
                  </a:lnTo>
                  <a:lnTo>
                    <a:pt x="2199" y="5675"/>
                  </a:lnTo>
                  <a:lnTo>
                    <a:pt x="2430" y="5559"/>
                  </a:lnTo>
                  <a:lnTo>
                    <a:pt x="2430" y="5559"/>
                  </a:lnTo>
                  <a:lnTo>
                    <a:pt x="3009" y="5328"/>
                  </a:lnTo>
                  <a:lnTo>
                    <a:pt x="3472" y="4980"/>
                  </a:lnTo>
                  <a:lnTo>
                    <a:pt x="3935" y="4633"/>
                  </a:lnTo>
                  <a:lnTo>
                    <a:pt x="4398" y="4285"/>
                  </a:lnTo>
                  <a:lnTo>
                    <a:pt x="4860" y="3822"/>
                  </a:lnTo>
                  <a:lnTo>
                    <a:pt x="5323" y="3475"/>
                  </a:lnTo>
                  <a:lnTo>
                    <a:pt x="5671" y="3011"/>
                  </a:lnTo>
                  <a:lnTo>
                    <a:pt x="6018" y="2432"/>
                  </a:lnTo>
                  <a:lnTo>
                    <a:pt x="6018" y="2432"/>
                  </a:lnTo>
                  <a:lnTo>
                    <a:pt x="6018" y="2548"/>
                  </a:lnTo>
                  <a:lnTo>
                    <a:pt x="6134" y="2548"/>
                  </a:lnTo>
                  <a:lnTo>
                    <a:pt x="6134" y="2548"/>
                  </a:lnTo>
                  <a:lnTo>
                    <a:pt x="6134" y="2548"/>
                  </a:lnTo>
                  <a:lnTo>
                    <a:pt x="6249" y="2548"/>
                  </a:lnTo>
                  <a:lnTo>
                    <a:pt x="6249" y="2548"/>
                  </a:lnTo>
                  <a:lnTo>
                    <a:pt x="6249" y="2432"/>
                  </a:lnTo>
                  <a:lnTo>
                    <a:pt x="6249" y="2432"/>
                  </a:lnTo>
                  <a:lnTo>
                    <a:pt x="6249" y="2432"/>
                  </a:lnTo>
                  <a:lnTo>
                    <a:pt x="6249" y="2201"/>
                  </a:lnTo>
                  <a:lnTo>
                    <a:pt x="6134" y="1969"/>
                  </a:lnTo>
                  <a:lnTo>
                    <a:pt x="6018" y="1737"/>
                  </a:lnTo>
                  <a:lnTo>
                    <a:pt x="5902" y="1506"/>
                  </a:lnTo>
                  <a:lnTo>
                    <a:pt x="5786" y="1274"/>
                  </a:lnTo>
                  <a:lnTo>
                    <a:pt x="5671" y="1043"/>
                  </a:lnTo>
                  <a:lnTo>
                    <a:pt x="5555" y="811"/>
                  </a:lnTo>
                  <a:lnTo>
                    <a:pt x="5439" y="579"/>
                  </a:lnTo>
                  <a:lnTo>
                    <a:pt x="5439" y="579"/>
                  </a:lnTo>
                  <a:lnTo>
                    <a:pt x="5555" y="579"/>
                  </a:lnTo>
                  <a:lnTo>
                    <a:pt x="5555" y="579"/>
                  </a:lnTo>
                  <a:lnTo>
                    <a:pt x="5555" y="579"/>
                  </a:lnTo>
                  <a:lnTo>
                    <a:pt x="5555" y="579"/>
                  </a:lnTo>
                  <a:lnTo>
                    <a:pt x="5671" y="695"/>
                  </a:lnTo>
                  <a:lnTo>
                    <a:pt x="5671" y="695"/>
                  </a:lnTo>
                  <a:lnTo>
                    <a:pt x="5671" y="695"/>
                  </a:lnTo>
                  <a:lnTo>
                    <a:pt x="5671" y="811"/>
                  </a:lnTo>
                  <a:lnTo>
                    <a:pt x="5671" y="811"/>
                  </a:lnTo>
                  <a:lnTo>
                    <a:pt x="5786" y="811"/>
                  </a:lnTo>
                  <a:lnTo>
                    <a:pt x="5786" y="811"/>
                  </a:lnTo>
                  <a:lnTo>
                    <a:pt x="5902" y="695"/>
                  </a:lnTo>
                  <a:lnTo>
                    <a:pt x="6018" y="579"/>
                  </a:lnTo>
                  <a:lnTo>
                    <a:pt x="6249" y="464"/>
                  </a:lnTo>
                  <a:lnTo>
                    <a:pt x="6365" y="348"/>
                  </a:lnTo>
                  <a:lnTo>
                    <a:pt x="6481" y="232"/>
                  </a:lnTo>
                  <a:lnTo>
                    <a:pt x="6712" y="116"/>
                  </a:lnTo>
                  <a:lnTo>
                    <a:pt x="6828" y="0"/>
                  </a:lnTo>
                  <a:lnTo>
                    <a:pt x="7059" y="0"/>
                  </a:lnTo>
                  <a:lnTo>
                    <a:pt x="7059" y="0"/>
                  </a:lnTo>
                  <a:lnTo>
                    <a:pt x="7059" y="0"/>
                  </a:lnTo>
                  <a:lnTo>
                    <a:pt x="7059" y="0"/>
                  </a:lnTo>
                  <a:lnTo>
                    <a:pt x="7059"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dissolv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341" name=""/>
          <p:cNvSpPr/>
          <p:nvPr/>
        </p:nvSpPr>
        <p:spPr>
          <a:xfrm>
            <a:off x="4020480" y="685800"/>
            <a:ext cx="1351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a:t>
            </a:r>
            <a:endParaRPr b="0" lang="en-US" sz="2800" spc="-1" strike="noStrike">
              <a:solidFill>
                <a:srgbClr val="000000"/>
              </a:solidFill>
              <a:latin typeface="Times New Roman"/>
            </a:endParaRPr>
          </a:p>
        </p:txBody>
      </p:sp>
      <p:sp>
        <p:nvSpPr>
          <p:cNvPr id="2342" name=""/>
          <p:cNvSpPr/>
          <p:nvPr/>
        </p:nvSpPr>
        <p:spPr>
          <a:xfrm>
            <a:off x="685800" y="1447920"/>
            <a:ext cx="758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We have seen how to:</a:t>
            </a:r>
            <a:endParaRPr b="0" lang="en-US" sz="3200" spc="-1" strike="noStrike">
              <a:solidFill>
                <a:srgbClr val="000000"/>
              </a:solidFill>
              <a:latin typeface="Times New Roman"/>
            </a:endParaRPr>
          </a:p>
        </p:txBody>
      </p:sp>
      <p:sp>
        <p:nvSpPr>
          <p:cNvPr id="2343" name=""/>
          <p:cNvSpPr/>
          <p:nvPr/>
        </p:nvSpPr>
        <p:spPr>
          <a:xfrm>
            <a:off x="1219320" y="1981080"/>
            <a:ext cx="5562360" cy="106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lve problems requiring subtraction of integers</a:t>
            </a:r>
            <a:endParaRPr b="0" lang="en-US" sz="3200" spc="-1" strike="noStrike">
              <a:solidFill>
                <a:srgbClr val="000000"/>
              </a:solidFill>
              <a:latin typeface="Times New Roman"/>
            </a:endParaRPr>
          </a:p>
        </p:txBody>
      </p:sp>
      <p:pic>
        <p:nvPicPr>
          <p:cNvPr id="2344" name="" descr=""/>
          <p:cNvPicPr/>
          <p:nvPr/>
        </p:nvPicPr>
        <p:blipFill>
          <a:blip r:embed="rId1"/>
          <a:stretch/>
        </p:blipFill>
        <p:spPr>
          <a:xfrm>
            <a:off x="3809880" y="3124080"/>
            <a:ext cx="4496040" cy="3372120"/>
          </a:xfrm>
          <a:prstGeom prst="rect">
            <a:avLst/>
          </a:prstGeom>
          <a:ln w="0">
            <a:noFill/>
          </a:ln>
        </p:spPr>
      </p:pic>
      <p:grpSp>
        <p:nvGrpSpPr>
          <p:cNvPr id="2345" name=""/>
          <p:cNvGrpSpPr/>
          <p:nvPr/>
        </p:nvGrpSpPr>
        <p:grpSpPr>
          <a:xfrm>
            <a:off x="914400" y="3124080"/>
            <a:ext cx="2209680" cy="2971800"/>
            <a:chOff x="914400" y="3124080"/>
            <a:chExt cx="2209680" cy="2971800"/>
          </a:xfrm>
        </p:grpSpPr>
        <p:sp>
          <p:nvSpPr>
            <p:cNvPr id="2346" name=""/>
            <p:cNvSpPr/>
            <p:nvPr/>
          </p:nvSpPr>
          <p:spPr>
            <a:xfrm>
              <a:off x="914400" y="3124080"/>
              <a:ext cx="2209680" cy="29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922320" y="3136320"/>
              <a:ext cx="2193480" cy="2946960"/>
            </a:xfrm>
            <a:custGeom>
              <a:avLst/>
              <a:gdLst/>
              <a:ahLst/>
              <a:rect l="l" t="t" r="r" b="b"/>
              <a:pathLst>
                <a:path w="61339" h="54893">
                  <a:moveTo>
                    <a:pt x="20369" y="694"/>
                  </a:moveTo>
                  <a:lnTo>
                    <a:pt x="20485" y="579"/>
                  </a:lnTo>
                  <a:lnTo>
                    <a:pt x="20485" y="463"/>
                  </a:lnTo>
                  <a:lnTo>
                    <a:pt x="20601" y="463"/>
                  </a:lnTo>
                  <a:lnTo>
                    <a:pt x="20717" y="347"/>
                  </a:lnTo>
                  <a:lnTo>
                    <a:pt x="20832" y="347"/>
                  </a:lnTo>
                  <a:lnTo>
                    <a:pt x="20948" y="347"/>
                  </a:lnTo>
                  <a:lnTo>
                    <a:pt x="21064" y="231"/>
                  </a:lnTo>
                  <a:lnTo>
                    <a:pt x="21179" y="231"/>
                  </a:lnTo>
                  <a:lnTo>
                    <a:pt x="21179" y="231"/>
                  </a:lnTo>
                  <a:lnTo>
                    <a:pt x="21411" y="231"/>
                  </a:lnTo>
                  <a:lnTo>
                    <a:pt x="21527" y="347"/>
                  </a:lnTo>
                  <a:lnTo>
                    <a:pt x="21758" y="463"/>
                  </a:lnTo>
                  <a:lnTo>
                    <a:pt x="21990" y="579"/>
                  </a:lnTo>
                  <a:lnTo>
                    <a:pt x="22105" y="694"/>
                  </a:lnTo>
                  <a:lnTo>
                    <a:pt x="22221" y="810"/>
                  </a:lnTo>
                  <a:lnTo>
                    <a:pt x="22453" y="1042"/>
                  </a:lnTo>
                  <a:lnTo>
                    <a:pt x="22568" y="1274"/>
                  </a:lnTo>
                  <a:lnTo>
                    <a:pt x="22568" y="1274"/>
                  </a:lnTo>
                  <a:lnTo>
                    <a:pt x="22684" y="1158"/>
                  </a:lnTo>
                  <a:lnTo>
                    <a:pt x="22915" y="1042"/>
                  </a:lnTo>
                  <a:lnTo>
                    <a:pt x="23031" y="1042"/>
                  </a:lnTo>
                  <a:lnTo>
                    <a:pt x="23147" y="1042"/>
                  </a:lnTo>
                  <a:lnTo>
                    <a:pt x="23378" y="1042"/>
                  </a:lnTo>
                  <a:lnTo>
                    <a:pt x="23494" y="1042"/>
                  </a:lnTo>
                  <a:lnTo>
                    <a:pt x="23726" y="1042"/>
                  </a:lnTo>
                  <a:lnTo>
                    <a:pt x="23841" y="1158"/>
                  </a:lnTo>
                  <a:lnTo>
                    <a:pt x="23841" y="1158"/>
                  </a:lnTo>
                  <a:lnTo>
                    <a:pt x="23957" y="1158"/>
                  </a:lnTo>
                  <a:lnTo>
                    <a:pt x="24188" y="1274"/>
                  </a:lnTo>
                  <a:lnTo>
                    <a:pt x="24304" y="1389"/>
                  </a:lnTo>
                  <a:lnTo>
                    <a:pt x="24420" y="1505"/>
                  </a:lnTo>
                  <a:lnTo>
                    <a:pt x="24536" y="1621"/>
                  </a:lnTo>
                  <a:lnTo>
                    <a:pt x="24651" y="1621"/>
                  </a:lnTo>
                  <a:lnTo>
                    <a:pt x="24767" y="1621"/>
                  </a:lnTo>
                  <a:lnTo>
                    <a:pt x="24999" y="1389"/>
                  </a:lnTo>
                  <a:lnTo>
                    <a:pt x="24999" y="1389"/>
                  </a:lnTo>
                  <a:lnTo>
                    <a:pt x="25114" y="1389"/>
                  </a:lnTo>
                  <a:lnTo>
                    <a:pt x="25346" y="1505"/>
                  </a:lnTo>
                  <a:lnTo>
                    <a:pt x="25462" y="1505"/>
                  </a:lnTo>
                  <a:lnTo>
                    <a:pt x="25577" y="1621"/>
                  </a:lnTo>
                  <a:lnTo>
                    <a:pt x="25693" y="1737"/>
                  </a:lnTo>
                  <a:lnTo>
                    <a:pt x="25809" y="1853"/>
                  </a:lnTo>
                  <a:lnTo>
                    <a:pt x="25924" y="1968"/>
                  </a:lnTo>
                  <a:lnTo>
                    <a:pt x="26040" y="1968"/>
                  </a:lnTo>
                  <a:lnTo>
                    <a:pt x="26040" y="1968"/>
                  </a:lnTo>
                  <a:lnTo>
                    <a:pt x="26272" y="1968"/>
                  </a:lnTo>
                  <a:lnTo>
                    <a:pt x="26503" y="1853"/>
                  </a:lnTo>
                  <a:lnTo>
                    <a:pt x="26735" y="1853"/>
                  </a:lnTo>
                  <a:lnTo>
                    <a:pt x="26966" y="1737"/>
                  </a:lnTo>
                  <a:lnTo>
                    <a:pt x="27082" y="1737"/>
                  </a:lnTo>
                  <a:lnTo>
                    <a:pt x="27313" y="1737"/>
                  </a:lnTo>
                  <a:lnTo>
                    <a:pt x="27545" y="1853"/>
                  </a:lnTo>
                  <a:lnTo>
                    <a:pt x="27660" y="1968"/>
                  </a:lnTo>
                  <a:lnTo>
                    <a:pt x="27660" y="1968"/>
                  </a:lnTo>
                  <a:lnTo>
                    <a:pt x="28123" y="2316"/>
                  </a:lnTo>
                  <a:lnTo>
                    <a:pt x="28123" y="2316"/>
                  </a:lnTo>
                  <a:lnTo>
                    <a:pt x="28239" y="2084"/>
                  </a:lnTo>
                  <a:lnTo>
                    <a:pt x="28471" y="1968"/>
                  </a:lnTo>
                  <a:lnTo>
                    <a:pt x="28586" y="1968"/>
                  </a:lnTo>
                  <a:lnTo>
                    <a:pt x="28818" y="1968"/>
                  </a:lnTo>
                  <a:lnTo>
                    <a:pt x="29049" y="1968"/>
                  </a:lnTo>
                  <a:lnTo>
                    <a:pt x="29281" y="1968"/>
                  </a:lnTo>
                  <a:lnTo>
                    <a:pt x="29512" y="1968"/>
                  </a:lnTo>
                  <a:lnTo>
                    <a:pt x="29744" y="1968"/>
                  </a:lnTo>
                  <a:lnTo>
                    <a:pt x="29744" y="1968"/>
                  </a:lnTo>
                  <a:lnTo>
                    <a:pt x="29859" y="2084"/>
                  </a:lnTo>
                  <a:lnTo>
                    <a:pt x="29975" y="2200"/>
                  </a:lnTo>
                  <a:lnTo>
                    <a:pt x="29975" y="2316"/>
                  </a:lnTo>
                  <a:lnTo>
                    <a:pt x="30091" y="2432"/>
                  </a:lnTo>
                  <a:lnTo>
                    <a:pt x="30207" y="2547"/>
                  </a:lnTo>
                  <a:lnTo>
                    <a:pt x="30322" y="2663"/>
                  </a:lnTo>
                  <a:lnTo>
                    <a:pt x="30438" y="2779"/>
                  </a:lnTo>
                  <a:lnTo>
                    <a:pt x="30554" y="2779"/>
                  </a:lnTo>
                  <a:lnTo>
                    <a:pt x="30554" y="2779"/>
                  </a:lnTo>
                  <a:lnTo>
                    <a:pt x="30670" y="2779"/>
                  </a:lnTo>
                  <a:lnTo>
                    <a:pt x="30785" y="2663"/>
                  </a:lnTo>
                  <a:lnTo>
                    <a:pt x="30901" y="2663"/>
                  </a:lnTo>
                  <a:lnTo>
                    <a:pt x="31132" y="2663"/>
                  </a:lnTo>
                  <a:lnTo>
                    <a:pt x="31248" y="2663"/>
                  </a:lnTo>
                  <a:lnTo>
                    <a:pt x="31364" y="2663"/>
                  </a:lnTo>
                  <a:lnTo>
                    <a:pt x="31595" y="2663"/>
                  </a:lnTo>
                  <a:lnTo>
                    <a:pt x="31711" y="2663"/>
                  </a:lnTo>
                  <a:lnTo>
                    <a:pt x="31711" y="2663"/>
                  </a:lnTo>
                  <a:lnTo>
                    <a:pt x="31943" y="2895"/>
                  </a:lnTo>
                  <a:lnTo>
                    <a:pt x="32058" y="3011"/>
                  </a:lnTo>
                  <a:lnTo>
                    <a:pt x="32174" y="3126"/>
                  </a:lnTo>
                  <a:lnTo>
                    <a:pt x="32290" y="3358"/>
                  </a:lnTo>
                  <a:lnTo>
                    <a:pt x="32521" y="3474"/>
                  </a:lnTo>
                  <a:lnTo>
                    <a:pt x="32637" y="3474"/>
                  </a:lnTo>
                  <a:lnTo>
                    <a:pt x="-32668" y="3474"/>
                  </a:lnTo>
                  <a:lnTo>
                    <a:pt x="-32436" y="3242"/>
                  </a:lnTo>
                  <a:lnTo>
                    <a:pt x="-32436" y="3242"/>
                  </a:lnTo>
                  <a:lnTo>
                    <a:pt x="-32205" y="3242"/>
                  </a:lnTo>
                  <a:lnTo>
                    <a:pt x="-31973" y="3242"/>
                  </a:lnTo>
                  <a:lnTo>
                    <a:pt x="-31626" y="3358"/>
                  </a:lnTo>
                  <a:lnTo>
                    <a:pt x="-31395" y="3474"/>
                  </a:lnTo>
                  <a:lnTo>
                    <a:pt x="-31163" y="3706"/>
                  </a:lnTo>
                  <a:lnTo>
                    <a:pt x="-30932" y="3706"/>
                  </a:lnTo>
                  <a:lnTo>
                    <a:pt x="-30584" y="3821"/>
                  </a:lnTo>
                  <a:lnTo>
                    <a:pt x="-30237" y="3706"/>
                  </a:lnTo>
                  <a:lnTo>
                    <a:pt x="-30237" y="3706"/>
                  </a:lnTo>
                  <a:lnTo>
                    <a:pt x="-30006" y="3821"/>
                  </a:lnTo>
                  <a:lnTo>
                    <a:pt x="-29774" y="3937"/>
                  </a:lnTo>
                  <a:lnTo>
                    <a:pt x="-29543" y="3937"/>
                  </a:lnTo>
                  <a:lnTo>
                    <a:pt x="-29311" y="3937"/>
                  </a:lnTo>
                  <a:lnTo>
                    <a:pt x="-29080" y="3821"/>
                  </a:lnTo>
                  <a:lnTo>
                    <a:pt x="-28733" y="3937"/>
                  </a:lnTo>
                  <a:lnTo>
                    <a:pt x="-28501" y="4053"/>
                  </a:lnTo>
                  <a:lnTo>
                    <a:pt x="-28385" y="4169"/>
                  </a:lnTo>
                  <a:lnTo>
                    <a:pt x="-28385" y="4169"/>
                  </a:lnTo>
                  <a:lnTo>
                    <a:pt x="-28038" y="4169"/>
                  </a:lnTo>
                  <a:lnTo>
                    <a:pt x="-27807" y="4169"/>
                  </a:lnTo>
                  <a:lnTo>
                    <a:pt x="-27575" y="4169"/>
                  </a:lnTo>
                  <a:lnTo>
                    <a:pt x="-27344" y="4285"/>
                  </a:lnTo>
                  <a:lnTo>
                    <a:pt x="-27112" y="4400"/>
                  </a:lnTo>
                  <a:lnTo>
                    <a:pt x="-26881" y="4516"/>
                  </a:lnTo>
                  <a:lnTo>
                    <a:pt x="-26650" y="4516"/>
                  </a:lnTo>
                  <a:lnTo>
                    <a:pt x="-26418" y="4285"/>
                  </a:lnTo>
                  <a:lnTo>
                    <a:pt x="-26418" y="4285"/>
                  </a:lnTo>
                  <a:lnTo>
                    <a:pt x="-26187" y="4400"/>
                  </a:lnTo>
                  <a:lnTo>
                    <a:pt x="-25955" y="4516"/>
                  </a:lnTo>
                  <a:lnTo>
                    <a:pt x="-25724" y="4632"/>
                  </a:lnTo>
                  <a:lnTo>
                    <a:pt x="-25608" y="4748"/>
                  </a:lnTo>
                  <a:lnTo>
                    <a:pt x="-25492" y="4979"/>
                  </a:lnTo>
                  <a:lnTo>
                    <a:pt x="-25376" y="5095"/>
                  </a:lnTo>
                  <a:lnTo>
                    <a:pt x="-25261" y="5327"/>
                  </a:lnTo>
                  <a:lnTo>
                    <a:pt x="-25145" y="5558"/>
                  </a:lnTo>
                  <a:lnTo>
                    <a:pt x="-25145" y="5558"/>
                  </a:lnTo>
                  <a:lnTo>
                    <a:pt x="-25145" y="6022"/>
                  </a:lnTo>
                  <a:lnTo>
                    <a:pt x="-25145" y="6369"/>
                  </a:lnTo>
                  <a:lnTo>
                    <a:pt x="-25376" y="6717"/>
                  </a:lnTo>
                  <a:lnTo>
                    <a:pt x="-25492" y="7064"/>
                  </a:lnTo>
                  <a:lnTo>
                    <a:pt x="-25724" y="7296"/>
                  </a:lnTo>
                  <a:lnTo>
                    <a:pt x="-25839" y="7643"/>
                  </a:lnTo>
                  <a:lnTo>
                    <a:pt x="-25955" y="7990"/>
                  </a:lnTo>
                  <a:lnTo>
                    <a:pt x="-26071" y="8454"/>
                  </a:lnTo>
                  <a:lnTo>
                    <a:pt x="-26071" y="8454"/>
                  </a:lnTo>
                  <a:lnTo>
                    <a:pt x="-26534" y="9959"/>
                  </a:lnTo>
                  <a:lnTo>
                    <a:pt x="-26997" y="11465"/>
                  </a:lnTo>
                  <a:lnTo>
                    <a:pt x="-27344" y="13086"/>
                  </a:lnTo>
                  <a:lnTo>
                    <a:pt x="-27691" y="14707"/>
                  </a:lnTo>
                  <a:lnTo>
                    <a:pt x="-28038" y="16329"/>
                  </a:lnTo>
                  <a:lnTo>
                    <a:pt x="-28270" y="17950"/>
                  </a:lnTo>
                  <a:lnTo>
                    <a:pt x="-28501" y="19571"/>
                  </a:lnTo>
                  <a:lnTo>
                    <a:pt x="-28617" y="21193"/>
                  </a:lnTo>
                  <a:lnTo>
                    <a:pt x="-28617" y="21193"/>
                  </a:lnTo>
                  <a:lnTo>
                    <a:pt x="-28501" y="21309"/>
                  </a:lnTo>
                  <a:lnTo>
                    <a:pt x="-28501" y="21309"/>
                  </a:lnTo>
                  <a:lnTo>
                    <a:pt x="-26650" y="20845"/>
                  </a:lnTo>
                  <a:lnTo>
                    <a:pt x="-24914" y="20498"/>
                  </a:lnTo>
                  <a:lnTo>
                    <a:pt x="-23178" y="20150"/>
                  </a:lnTo>
                  <a:lnTo>
                    <a:pt x="-21326" y="19919"/>
                  </a:lnTo>
                  <a:lnTo>
                    <a:pt x="-19590" y="19571"/>
                  </a:lnTo>
                  <a:lnTo>
                    <a:pt x="-17738" y="19224"/>
                  </a:lnTo>
                  <a:lnTo>
                    <a:pt x="-16002" y="18992"/>
                  </a:lnTo>
                  <a:lnTo>
                    <a:pt x="-14266" y="18645"/>
                  </a:lnTo>
                  <a:lnTo>
                    <a:pt x="-14266" y="18645"/>
                  </a:lnTo>
                  <a:lnTo>
                    <a:pt x="-12993" y="18761"/>
                  </a:lnTo>
                  <a:lnTo>
                    <a:pt x="-11720" y="18877"/>
                  </a:lnTo>
                  <a:lnTo>
                    <a:pt x="-10563" y="18992"/>
                  </a:lnTo>
                  <a:lnTo>
                    <a:pt x="-9290" y="18992"/>
                  </a:lnTo>
                  <a:lnTo>
                    <a:pt x="-8017" y="19108"/>
                  </a:lnTo>
                  <a:lnTo>
                    <a:pt x="-6859" y="19224"/>
                  </a:lnTo>
                  <a:lnTo>
                    <a:pt x="-5586" y="19340"/>
                  </a:lnTo>
                  <a:lnTo>
                    <a:pt x="-4313" y="19571"/>
                  </a:lnTo>
                  <a:lnTo>
                    <a:pt x="-4313" y="19571"/>
                  </a:lnTo>
                  <a:lnTo>
                    <a:pt x="-4313" y="19571"/>
                  </a:lnTo>
                  <a:lnTo>
                    <a:pt x="-4313" y="19571"/>
                  </a:lnTo>
                  <a:lnTo>
                    <a:pt x="-4197" y="19687"/>
                  </a:lnTo>
                  <a:lnTo>
                    <a:pt x="-4197" y="19687"/>
                  </a:lnTo>
                  <a:lnTo>
                    <a:pt x="-4197" y="19687"/>
                  </a:lnTo>
                  <a:lnTo>
                    <a:pt x="-4197" y="19803"/>
                  </a:lnTo>
                  <a:lnTo>
                    <a:pt x="-4197" y="19803"/>
                  </a:lnTo>
                  <a:lnTo>
                    <a:pt x="-4313" y="19803"/>
                  </a:lnTo>
                  <a:lnTo>
                    <a:pt x="-4313" y="19803"/>
                  </a:lnTo>
                  <a:lnTo>
                    <a:pt x="-17044" y="25246"/>
                  </a:lnTo>
                  <a:lnTo>
                    <a:pt x="-17044" y="25246"/>
                  </a:lnTo>
                  <a:lnTo>
                    <a:pt x="-17159" y="25246"/>
                  </a:lnTo>
                  <a:lnTo>
                    <a:pt x="-17391" y="25246"/>
                  </a:lnTo>
                  <a:lnTo>
                    <a:pt x="-17622" y="25362"/>
                  </a:lnTo>
                  <a:lnTo>
                    <a:pt x="-17854" y="25362"/>
                  </a:lnTo>
                  <a:lnTo>
                    <a:pt x="-17970" y="25478"/>
                  </a:lnTo>
                  <a:lnTo>
                    <a:pt x="-18201" y="25478"/>
                  </a:lnTo>
                  <a:lnTo>
                    <a:pt x="-18317" y="25478"/>
                  </a:lnTo>
                  <a:lnTo>
                    <a:pt x="-18548" y="25594"/>
                  </a:lnTo>
                  <a:lnTo>
                    <a:pt x="-18548" y="25594"/>
                  </a:lnTo>
                  <a:lnTo>
                    <a:pt x="-18548" y="25941"/>
                  </a:lnTo>
                  <a:lnTo>
                    <a:pt x="-18664" y="26288"/>
                  </a:lnTo>
                  <a:lnTo>
                    <a:pt x="-18895" y="26636"/>
                  </a:lnTo>
                  <a:lnTo>
                    <a:pt x="-19127" y="26983"/>
                  </a:lnTo>
                  <a:lnTo>
                    <a:pt x="-19358" y="27215"/>
                  </a:lnTo>
                  <a:lnTo>
                    <a:pt x="-19706" y="27562"/>
                  </a:lnTo>
                  <a:lnTo>
                    <a:pt x="-19937" y="27794"/>
                  </a:lnTo>
                  <a:lnTo>
                    <a:pt x="-20284" y="28026"/>
                  </a:lnTo>
                  <a:lnTo>
                    <a:pt x="-20284" y="28026"/>
                  </a:lnTo>
                  <a:lnTo>
                    <a:pt x="-20631" y="28141"/>
                  </a:lnTo>
                  <a:lnTo>
                    <a:pt x="-20863" y="28257"/>
                  </a:lnTo>
                  <a:lnTo>
                    <a:pt x="-21094" y="28373"/>
                  </a:lnTo>
                  <a:lnTo>
                    <a:pt x="-21442" y="28373"/>
                  </a:lnTo>
                  <a:lnTo>
                    <a:pt x="-21673" y="28489"/>
                  </a:lnTo>
                  <a:lnTo>
                    <a:pt x="-22020" y="28489"/>
                  </a:lnTo>
                  <a:lnTo>
                    <a:pt x="-22252" y="28373"/>
                  </a:lnTo>
                  <a:lnTo>
                    <a:pt x="-22483" y="28141"/>
                  </a:lnTo>
                  <a:lnTo>
                    <a:pt x="-22483" y="28141"/>
                  </a:lnTo>
                  <a:lnTo>
                    <a:pt x="-22715" y="28257"/>
                  </a:lnTo>
                  <a:lnTo>
                    <a:pt x="-22830" y="28373"/>
                  </a:lnTo>
                  <a:lnTo>
                    <a:pt x="-23062" y="28489"/>
                  </a:lnTo>
                  <a:lnTo>
                    <a:pt x="-23293" y="28605"/>
                  </a:lnTo>
                  <a:lnTo>
                    <a:pt x="-23409" y="28605"/>
                  </a:lnTo>
                  <a:lnTo>
                    <a:pt x="-23640" y="28720"/>
                  </a:lnTo>
                  <a:lnTo>
                    <a:pt x="-23872" y="28720"/>
                  </a:lnTo>
                  <a:lnTo>
                    <a:pt x="-24103" y="28605"/>
                  </a:lnTo>
                  <a:lnTo>
                    <a:pt x="-24103" y="28605"/>
                  </a:lnTo>
                  <a:lnTo>
                    <a:pt x="-24335" y="28952"/>
                  </a:lnTo>
                  <a:lnTo>
                    <a:pt x="-24566" y="29184"/>
                  </a:lnTo>
                  <a:lnTo>
                    <a:pt x="-24798" y="29299"/>
                  </a:lnTo>
                  <a:lnTo>
                    <a:pt x="-25145" y="29415"/>
                  </a:lnTo>
                  <a:lnTo>
                    <a:pt x="-25376" y="29531"/>
                  </a:lnTo>
                  <a:lnTo>
                    <a:pt x="-25724" y="29531"/>
                  </a:lnTo>
                  <a:lnTo>
                    <a:pt x="-26071" y="29647"/>
                  </a:lnTo>
                  <a:lnTo>
                    <a:pt x="-26418" y="29531"/>
                  </a:lnTo>
                  <a:lnTo>
                    <a:pt x="-26418" y="29531"/>
                  </a:lnTo>
                  <a:lnTo>
                    <a:pt x="-26534" y="29531"/>
                  </a:lnTo>
                  <a:lnTo>
                    <a:pt x="-26650" y="29415"/>
                  </a:lnTo>
                  <a:lnTo>
                    <a:pt x="-26765" y="29299"/>
                  </a:lnTo>
                  <a:lnTo>
                    <a:pt x="-26881" y="29184"/>
                  </a:lnTo>
                  <a:lnTo>
                    <a:pt x="-26997" y="29068"/>
                  </a:lnTo>
                  <a:lnTo>
                    <a:pt x="-27112" y="28952"/>
                  </a:lnTo>
                  <a:lnTo>
                    <a:pt x="-27228" y="28952"/>
                  </a:lnTo>
                  <a:lnTo>
                    <a:pt x="-27460" y="29068"/>
                  </a:lnTo>
                  <a:lnTo>
                    <a:pt x="-27460" y="29068"/>
                  </a:lnTo>
                  <a:lnTo>
                    <a:pt x="-27575" y="29184"/>
                  </a:lnTo>
                  <a:lnTo>
                    <a:pt x="-27691" y="29299"/>
                  </a:lnTo>
                  <a:lnTo>
                    <a:pt x="-27923" y="29415"/>
                  </a:lnTo>
                  <a:lnTo>
                    <a:pt x="-28038" y="29531"/>
                  </a:lnTo>
                  <a:lnTo>
                    <a:pt x="-28270" y="29647"/>
                  </a:lnTo>
                  <a:lnTo>
                    <a:pt x="-28385" y="29763"/>
                  </a:lnTo>
                  <a:lnTo>
                    <a:pt x="-28617" y="29879"/>
                  </a:lnTo>
                  <a:lnTo>
                    <a:pt x="-28733" y="29994"/>
                  </a:lnTo>
                  <a:lnTo>
                    <a:pt x="-28733" y="29994"/>
                  </a:lnTo>
                  <a:lnTo>
                    <a:pt x="-28733" y="30689"/>
                  </a:lnTo>
                  <a:lnTo>
                    <a:pt x="-28733" y="31268"/>
                  </a:lnTo>
                  <a:lnTo>
                    <a:pt x="-28617" y="31963"/>
                  </a:lnTo>
                  <a:lnTo>
                    <a:pt x="-28501" y="32542"/>
                  </a:lnTo>
                  <a:lnTo>
                    <a:pt x="-28385" y="-32299"/>
                  </a:lnTo>
                  <a:lnTo>
                    <a:pt x="-28385" y="-31720"/>
                  </a:lnTo>
                  <a:lnTo>
                    <a:pt x="-28270" y="-31025"/>
                  </a:lnTo>
                  <a:lnTo>
                    <a:pt x="-28154" y="-30446"/>
                  </a:lnTo>
                  <a:lnTo>
                    <a:pt x="-28154" y="-30446"/>
                  </a:lnTo>
                  <a:lnTo>
                    <a:pt x="-28501" y="-30214"/>
                  </a:lnTo>
                  <a:lnTo>
                    <a:pt x="-28733" y="-29983"/>
                  </a:lnTo>
                  <a:lnTo>
                    <a:pt x="-29196" y="-29867"/>
                  </a:lnTo>
                  <a:lnTo>
                    <a:pt x="-29543" y="-29867"/>
                  </a:lnTo>
                  <a:lnTo>
                    <a:pt x="-29890" y="-29751"/>
                  </a:lnTo>
                  <a:lnTo>
                    <a:pt x="-30237" y="-29751"/>
                  </a:lnTo>
                  <a:lnTo>
                    <a:pt x="-30700" y="-29635"/>
                  </a:lnTo>
                  <a:lnTo>
                    <a:pt x="-31047" y="-29635"/>
                  </a:lnTo>
                  <a:lnTo>
                    <a:pt x="-31047" y="-29635"/>
                  </a:lnTo>
                  <a:lnTo>
                    <a:pt x="-31047" y="-29288"/>
                  </a:lnTo>
                  <a:lnTo>
                    <a:pt x="-31047" y="-29288"/>
                  </a:lnTo>
                  <a:lnTo>
                    <a:pt x="-30700" y="-28825"/>
                  </a:lnTo>
                  <a:lnTo>
                    <a:pt x="-30353" y="-28246"/>
                  </a:lnTo>
                  <a:lnTo>
                    <a:pt x="-30006" y="-27782"/>
                  </a:lnTo>
                  <a:lnTo>
                    <a:pt x="-29774" y="-27319"/>
                  </a:lnTo>
                  <a:lnTo>
                    <a:pt x="-29427" y="-26856"/>
                  </a:lnTo>
                  <a:lnTo>
                    <a:pt x="-29080" y="-26277"/>
                  </a:lnTo>
                  <a:lnTo>
                    <a:pt x="-28848" y="-25814"/>
                  </a:lnTo>
                  <a:lnTo>
                    <a:pt x="-28617" y="-25235"/>
                  </a:lnTo>
                  <a:lnTo>
                    <a:pt x="-28617" y="-25235"/>
                  </a:lnTo>
                  <a:lnTo>
                    <a:pt x="-28733" y="-24540"/>
                  </a:lnTo>
                  <a:lnTo>
                    <a:pt x="-28848" y="-23729"/>
                  </a:lnTo>
                  <a:lnTo>
                    <a:pt x="-28964" y="-23034"/>
                  </a:lnTo>
                  <a:lnTo>
                    <a:pt x="-29196" y="-22224"/>
                  </a:lnTo>
                  <a:lnTo>
                    <a:pt x="-29311" y="-21529"/>
                  </a:lnTo>
                  <a:lnTo>
                    <a:pt x="-29543" y="-20718"/>
                  </a:lnTo>
                  <a:lnTo>
                    <a:pt x="-29659" y="-20023"/>
                  </a:lnTo>
                  <a:lnTo>
                    <a:pt x="-29890" y="-19213"/>
                  </a:lnTo>
                  <a:lnTo>
                    <a:pt x="-29890" y="-19213"/>
                  </a:lnTo>
                  <a:lnTo>
                    <a:pt x="-29774" y="-18865"/>
                  </a:lnTo>
                  <a:lnTo>
                    <a:pt x="-29543" y="-18518"/>
                  </a:lnTo>
                  <a:lnTo>
                    <a:pt x="-29427" y="-18286"/>
                  </a:lnTo>
                  <a:lnTo>
                    <a:pt x="-29196" y="-18054"/>
                  </a:lnTo>
                  <a:lnTo>
                    <a:pt x="-28964" y="-17707"/>
                  </a:lnTo>
                  <a:lnTo>
                    <a:pt x="-28733" y="-17475"/>
                  </a:lnTo>
                  <a:lnTo>
                    <a:pt x="-28501" y="-17244"/>
                  </a:lnTo>
                  <a:lnTo>
                    <a:pt x="-28501" y="-16896"/>
                  </a:lnTo>
                  <a:lnTo>
                    <a:pt x="-28501" y="-16896"/>
                  </a:lnTo>
                  <a:lnTo>
                    <a:pt x="-28385" y="-16665"/>
                  </a:lnTo>
                  <a:lnTo>
                    <a:pt x="-28154" y="-16317"/>
                  </a:lnTo>
                  <a:lnTo>
                    <a:pt x="-28038" y="-16086"/>
                  </a:lnTo>
                  <a:lnTo>
                    <a:pt x="-27807" y="-15854"/>
                  </a:lnTo>
                  <a:lnTo>
                    <a:pt x="-27691" y="-15622"/>
                  </a:lnTo>
                  <a:lnTo>
                    <a:pt x="-27575" y="-15391"/>
                  </a:lnTo>
                  <a:lnTo>
                    <a:pt x="-27344" y="-15159"/>
                  </a:lnTo>
                  <a:lnTo>
                    <a:pt x="-27344" y="-14928"/>
                  </a:lnTo>
                  <a:lnTo>
                    <a:pt x="-27344" y="-14928"/>
                  </a:lnTo>
                  <a:lnTo>
                    <a:pt x="-27228" y="-14464"/>
                  </a:lnTo>
                  <a:lnTo>
                    <a:pt x="-26997" y="-14117"/>
                  </a:lnTo>
                  <a:lnTo>
                    <a:pt x="-26881" y="-13654"/>
                  </a:lnTo>
                  <a:lnTo>
                    <a:pt x="-26881" y="-13190"/>
                  </a:lnTo>
                  <a:lnTo>
                    <a:pt x="-26765" y="-12727"/>
                  </a:lnTo>
                  <a:lnTo>
                    <a:pt x="-26765" y="-12380"/>
                  </a:lnTo>
                  <a:lnTo>
                    <a:pt x="-26881" y="-11917"/>
                  </a:lnTo>
                  <a:lnTo>
                    <a:pt x="-27228" y="-11569"/>
                  </a:lnTo>
                  <a:lnTo>
                    <a:pt x="-27228" y="-11569"/>
                  </a:lnTo>
                  <a:lnTo>
                    <a:pt x="-27228" y="-11453"/>
                  </a:lnTo>
                  <a:lnTo>
                    <a:pt x="-27344" y="-11453"/>
                  </a:lnTo>
                  <a:lnTo>
                    <a:pt x="-27344" y="-11453"/>
                  </a:lnTo>
                  <a:lnTo>
                    <a:pt x="-27460" y="-11453"/>
                  </a:lnTo>
                  <a:lnTo>
                    <a:pt x="-27460" y="-11453"/>
                  </a:lnTo>
                  <a:lnTo>
                    <a:pt x="-27575" y="-11453"/>
                  </a:lnTo>
                  <a:lnTo>
                    <a:pt x="-27691" y="-11453"/>
                  </a:lnTo>
                  <a:lnTo>
                    <a:pt x="-27691" y="-11453"/>
                  </a:lnTo>
                  <a:lnTo>
                    <a:pt x="-27691" y="-11453"/>
                  </a:lnTo>
                  <a:lnTo>
                    <a:pt x="-28154" y="-11222"/>
                  </a:lnTo>
                  <a:lnTo>
                    <a:pt x="-28733" y="-11106"/>
                  </a:lnTo>
                  <a:lnTo>
                    <a:pt x="-29311" y="-11106"/>
                  </a:lnTo>
                  <a:lnTo>
                    <a:pt x="-29890" y="-11222"/>
                  </a:lnTo>
                  <a:lnTo>
                    <a:pt x="-30353" y="-11337"/>
                  </a:lnTo>
                  <a:lnTo>
                    <a:pt x="-30932" y="-11453"/>
                  </a:lnTo>
                  <a:lnTo>
                    <a:pt x="-31395" y="-11685"/>
                  </a:lnTo>
                  <a:lnTo>
                    <a:pt x="-31857" y="-12032"/>
                  </a:lnTo>
                  <a:lnTo>
                    <a:pt x="-31857" y="-12032"/>
                  </a:lnTo>
                  <a:lnTo>
                    <a:pt x="-32320" y="-12496"/>
                  </a:lnTo>
                  <a:lnTo>
                    <a:pt x="-32552" y="-13075"/>
                  </a:lnTo>
                  <a:lnTo>
                    <a:pt x="32753" y="-13769"/>
                  </a:lnTo>
                  <a:lnTo>
                    <a:pt x="32637" y="-14464"/>
                  </a:lnTo>
                  <a:lnTo>
                    <a:pt x="32405" y="-15159"/>
                  </a:lnTo>
                  <a:lnTo>
                    <a:pt x="32058" y="-15622"/>
                  </a:lnTo>
                  <a:lnTo>
                    <a:pt x="31595" y="-16086"/>
                  </a:lnTo>
                  <a:lnTo>
                    <a:pt x="30785" y="-16201"/>
                  </a:lnTo>
                  <a:lnTo>
                    <a:pt x="30785" y="-16201"/>
                  </a:lnTo>
                  <a:lnTo>
                    <a:pt x="30670" y="-16317"/>
                  </a:lnTo>
                  <a:lnTo>
                    <a:pt x="30554" y="-16549"/>
                  </a:lnTo>
                  <a:lnTo>
                    <a:pt x="30438" y="-16781"/>
                  </a:lnTo>
                  <a:lnTo>
                    <a:pt x="30322" y="-16896"/>
                  </a:lnTo>
                  <a:lnTo>
                    <a:pt x="30322" y="-17128"/>
                  </a:lnTo>
                  <a:lnTo>
                    <a:pt x="30322" y="-17360"/>
                  </a:lnTo>
                  <a:lnTo>
                    <a:pt x="30322" y="-17591"/>
                  </a:lnTo>
                  <a:lnTo>
                    <a:pt x="30322" y="-17823"/>
                  </a:lnTo>
                  <a:lnTo>
                    <a:pt x="30322" y="-17823"/>
                  </a:lnTo>
                  <a:lnTo>
                    <a:pt x="30554" y="-18170"/>
                  </a:lnTo>
                  <a:lnTo>
                    <a:pt x="30785" y="-18518"/>
                  </a:lnTo>
                  <a:lnTo>
                    <a:pt x="31132" y="-18749"/>
                  </a:lnTo>
                  <a:lnTo>
                    <a:pt x="31480" y="-18981"/>
                  </a:lnTo>
                  <a:lnTo>
                    <a:pt x="31827" y="-19213"/>
                  </a:lnTo>
                  <a:lnTo>
                    <a:pt x="32174" y="-19444"/>
                  </a:lnTo>
                  <a:lnTo>
                    <a:pt x="32405" y="-19676"/>
                  </a:lnTo>
                  <a:lnTo>
                    <a:pt x="32637" y="-20139"/>
                  </a:lnTo>
                  <a:lnTo>
                    <a:pt x="32637" y="-20139"/>
                  </a:lnTo>
                  <a:lnTo>
                    <a:pt x="-32668" y="-20950"/>
                  </a:lnTo>
                  <a:lnTo>
                    <a:pt x="-32436" y="-21876"/>
                  </a:lnTo>
                  <a:lnTo>
                    <a:pt x="-32205" y="-22803"/>
                  </a:lnTo>
                  <a:lnTo>
                    <a:pt x="-32089" y="-23729"/>
                  </a:lnTo>
                  <a:lnTo>
                    <a:pt x="-32089" y="-24656"/>
                  </a:lnTo>
                  <a:lnTo>
                    <a:pt x="-32205" y="-25466"/>
                  </a:lnTo>
                  <a:lnTo>
                    <a:pt x="-32552" y="-26277"/>
                  </a:lnTo>
                  <a:lnTo>
                    <a:pt x="32290" y="-27088"/>
                  </a:lnTo>
                  <a:lnTo>
                    <a:pt x="32290" y="-27088"/>
                  </a:lnTo>
                  <a:lnTo>
                    <a:pt x="30901" y="-28593"/>
                  </a:lnTo>
                  <a:lnTo>
                    <a:pt x="30901" y="-28593"/>
                  </a:lnTo>
                  <a:lnTo>
                    <a:pt x="29744" y="-28130"/>
                  </a:lnTo>
                  <a:lnTo>
                    <a:pt x="28586" y="-27667"/>
                  </a:lnTo>
                  <a:lnTo>
                    <a:pt x="27545" y="-27203"/>
                  </a:lnTo>
                  <a:lnTo>
                    <a:pt x="26387" y="-26740"/>
                  </a:lnTo>
                  <a:lnTo>
                    <a:pt x="25230" y="-26161"/>
                  </a:lnTo>
                  <a:lnTo>
                    <a:pt x="24073" y="-25698"/>
                  </a:lnTo>
                  <a:lnTo>
                    <a:pt x="23031" y="-25119"/>
                  </a:lnTo>
                  <a:lnTo>
                    <a:pt x="21874" y="-24656"/>
                  </a:lnTo>
                  <a:lnTo>
                    <a:pt x="21874" y="-24656"/>
                  </a:lnTo>
                  <a:lnTo>
                    <a:pt x="21990" y="-24192"/>
                  </a:lnTo>
                  <a:lnTo>
                    <a:pt x="22221" y="-23845"/>
                  </a:lnTo>
                  <a:lnTo>
                    <a:pt x="22337" y="-23382"/>
                  </a:lnTo>
                  <a:lnTo>
                    <a:pt x="22568" y="-23034"/>
                  </a:lnTo>
                  <a:lnTo>
                    <a:pt x="22684" y="-22687"/>
                  </a:lnTo>
                  <a:lnTo>
                    <a:pt x="22915" y="-22224"/>
                  </a:lnTo>
                  <a:lnTo>
                    <a:pt x="23147" y="-21876"/>
                  </a:lnTo>
                  <a:lnTo>
                    <a:pt x="23263" y="-21529"/>
                  </a:lnTo>
                  <a:lnTo>
                    <a:pt x="23263" y="-21529"/>
                  </a:lnTo>
                  <a:lnTo>
                    <a:pt x="23263" y="-21181"/>
                  </a:lnTo>
                  <a:lnTo>
                    <a:pt x="23147" y="-20950"/>
                  </a:lnTo>
                  <a:lnTo>
                    <a:pt x="23031" y="-20718"/>
                  </a:lnTo>
                  <a:lnTo>
                    <a:pt x="22915" y="-20486"/>
                  </a:lnTo>
                  <a:lnTo>
                    <a:pt x="22684" y="-20371"/>
                  </a:lnTo>
                  <a:lnTo>
                    <a:pt x="22453" y="-20139"/>
                  </a:lnTo>
                  <a:lnTo>
                    <a:pt x="22221" y="-19907"/>
                  </a:lnTo>
                  <a:lnTo>
                    <a:pt x="22105" y="-19792"/>
                  </a:lnTo>
                  <a:lnTo>
                    <a:pt x="22105" y="-19792"/>
                  </a:lnTo>
                  <a:lnTo>
                    <a:pt x="20601" y="-17939"/>
                  </a:lnTo>
                  <a:lnTo>
                    <a:pt x="20601" y="-17939"/>
                  </a:lnTo>
                  <a:lnTo>
                    <a:pt x="20485" y="-17475"/>
                  </a:lnTo>
                  <a:lnTo>
                    <a:pt x="20485" y="-17012"/>
                  </a:lnTo>
                  <a:lnTo>
                    <a:pt x="20369" y="-16433"/>
                  </a:lnTo>
                  <a:lnTo>
                    <a:pt x="20254" y="-15970"/>
                  </a:lnTo>
                  <a:lnTo>
                    <a:pt x="20254" y="-15507"/>
                  </a:lnTo>
                  <a:lnTo>
                    <a:pt x="20254" y="-15043"/>
                  </a:lnTo>
                  <a:lnTo>
                    <a:pt x="20254" y="-14580"/>
                  </a:lnTo>
                  <a:lnTo>
                    <a:pt x="20369" y="-14117"/>
                  </a:lnTo>
                  <a:lnTo>
                    <a:pt x="20369" y="-14117"/>
                  </a:lnTo>
                  <a:lnTo>
                    <a:pt x="20485" y="-14117"/>
                  </a:lnTo>
                  <a:lnTo>
                    <a:pt x="20601" y="-14117"/>
                  </a:lnTo>
                  <a:lnTo>
                    <a:pt x="20832" y="-14001"/>
                  </a:lnTo>
                  <a:lnTo>
                    <a:pt x="20832" y="-13885"/>
                  </a:lnTo>
                  <a:lnTo>
                    <a:pt x="20948" y="-13769"/>
                  </a:lnTo>
                  <a:lnTo>
                    <a:pt x="21064" y="-13654"/>
                  </a:lnTo>
                  <a:lnTo>
                    <a:pt x="21179" y="-13538"/>
                  </a:lnTo>
                  <a:lnTo>
                    <a:pt x="21411" y="-13538"/>
                  </a:lnTo>
                  <a:lnTo>
                    <a:pt x="21411" y="-13538"/>
                  </a:lnTo>
                  <a:lnTo>
                    <a:pt x="23031" y="-13422"/>
                  </a:lnTo>
                  <a:lnTo>
                    <a:pt x="23031" y="-13422"/>
                  </a:lnTo>
                  <a:lnTo>
                    <a:pt x="23031" y="-13306"/>
                  </a:lnTo>
                  <a:lnTo>
                    <a:pt x="23147" y="-13190"/>
                  </a:lnTo>
                  <a:lnTo>
                    <a:pt x="23263" y="-13075"/>
                  </a:lnTo>
                  <a:lnTo>
                    <a:pt x="23378" y="-12959"/>
                  </a:lnTo>
                  <a:lnTo>
                    <a:pt x="23494" y="-12843"/>
                  </a:lnTo>
                  <a:lnTo>
                    <a:pt x="23610" y="-12611"/>
                  </a:lnTo>
                  <a:lnTo>
                    <a:pt x="23610" y="-12496"/>
                  </a:lnTo>
                  <a:lnTo>
                    <a:pt x="23726" y="-12264"/>
                  </a:lnTo>
                  <a:lnTo>
                    <a:pt x="23726" y="-12264"/>
                  </a:lnTo>
                  <a:lnTo>
                    <a:pt x="23726" y="-12032"/>
                  </a:lnTo>
                  <a:lnTo>
                    <a:pt x="23610" y="-11801"/>
                  </a:lnTo>
                  <a:lnTo>
                    <a:pt x="23494" y="-11569"/>
                  </a:lnTo>
                  <a:lnTo>
                    <a:pt x="23378" y="-11453"/>
                  </a:lnTo>
                  <a:lnTo>
                    <a:pt x="23147" y="-11222"/>
                  </a:lnTo>
                  <a:lnTo>
                    <a:pt x="22915" y="-11106"/>
                  </a:lnTo>
                  <a:lnTo>
                    <a:pt x="22684" y="-10990"/>
                  </a:lnTo>
                  <a:lnTo>
                    <a:pt x="22453" y="-10874"/>
                  </a:lnTo>
                  <a:lnTo>
                    <a:pt x="22453" y="-10874"/>
                  </a:lnTo>
                  <a:lnTo>
                    <a:pt x="21758" y="-10643"/>
                  </a:lnTo>
                  <a:lnTo>
                    <a:pt x="21179" y="-10643"/>
                  </a:lnTo>
                  <a:lnTo>
                    <a:pt x="20485" y="-10643"/>
                  </a:lnTo>
                  <a:lnTo>
                    <a:pt x="19791" y="-10758"/>
                  </a:lnTo>
                  <a:lnTo>
                    <a:pt x="19096" y="-10990"/>
                  </a:lnTo>
                  <a:lnTo>
                    <a:pt x="18518" y="-11222"/>
                  </a:lnTo>
                  <a:lnTo>
                    <a:pt x="17939" y="-11569"/>
                  </a:lnTo>
                  <a:lnTo>
                    <a:pt x="17360" y="-11917"/>
                  </a:lnTo>
                  <a:lnTo>
                    <a:pt x="17360" y="-11917"/>
                  </a:lnTo>
                  <a:lnTo>
                    <a:pt x="17013" y="-12496"/>
                  </a:lnTo>
                  <a:lnTo>
                    <a:pt x="16782" y="-13190"/>
                  </a:lnTo>
                  <a:lnTo>
                    <a:pt x="16550" y="-13769"/>
                  </a:lnTo>
                  <a:lnTo>
                    <a:pt x="16319" y="-14464"/>
                  </a:lnTo>
                  <a:lnTo>
                    <a:pt x="15972" y="-15043"/>
                  </a:lnTo>
                  <a:lnTo>
                    <a:pt x="15509" y="-15622"/>
                  </a:lnTo>
                  <a:lnTo>
                    <a:pt x="15046" y="-16086"/>
                  </a:lnTo>
                  <a:lnTo>
                    <a:pt x="14351" y="-16317"/>
                  </a:lnTo>
                  <a:lnTo>
                    <a:pt x="14351" y="-16317"/>
                  </a:lnTo>
                  <a:lnTo>
                    <a:pt x="14236" y="-16433"/>
                  </a:lnTo>
                  <a:lnTo>
                    <a:pt x="14120" y="-16549"/>
                  </a:lnTo>
                  <a:lnTo>
                    <a:pt x="14120" y="-16781"/>
                  </a:lnTo>
                  <a:lnTo>
                    <a:pt x="14004" y="-16896"/>
                  </a:lnTo>
                  <a:lnTo>
                    <a:pt x="14004" y="-17128"/>
                  </a:lnTo>
                  <a:lnTo>
                    <a:pt x="14004" y="-17244"/>
                  </a:lnTo>
                  <a:lnTo>
                    <a:pt x="14120" y="-17360"/>
                  </a:lnTo>
                  <a:lnTo>
                    <a:pt x="14120" y="-17591"/>
                  </a:lnTo>
                  <a:lnTo>
                    <a:pt x="14120" y="-17591"/>
                  </a:lnTo>
                  <a:lnTo>
                    <a:pt x="14467" y="-17939"/>
                  </a:lnTo>
                  <a:lnTo>
                    <a:pt x="14930" y="-18286"/>
                  </a:lnTo>
                  <a:lnTo>
                    <a:pt x="15393" y="-18402"/>
                  </a:lnTo>
                  <a:lnTo>
                    <a:pt x="15972" y="-18633"/>
                  </a:lnTo>
                  <a:lnTo>
                    <a:pt x="16434" y="-18749"/>
                  </a:lnTo>
                  <a:lnTo>
                    <a:pt x="17013" y="-18865"/>
                  </a:lnTo>
                  <a:lnTo>
                    <a:pt x="17476" y="-19097"/>
                  </a:lnTo>
                  <a:lnTo>
                    <a:pt x="17939" y="-19444"/>
                  </a:lnTo>
                  <a:lnTo>
                    <a:pt x="17939" y="-19444"/>
                  </a:lnTo>
                  <a:lnTo>
                    <a:pt x="18286" y="-19792"/>
                  </a:lnTo>
                  <a:lnTo>
                    <a:pt x="18633" y="-20023"/>
                  </a:lnTo>
                  <a:lnTo>
                    <a:pt x="18981" y="-20255"/>
                  </a:lnTo>
                  <a:lnTo>
                    <a:pt x="19328" y="-20602"/>
                  </a:lnTo>
                  <a:lnTo>
                    <a:pt x="19559" y="-20950"/>
                  </a:lnTo>
                  <a:lnTo>
                    <a:pt x="19791" y="-21297"/>
                  </a:lnTo>
                  <a:lnTo>
                    <a:pt x="20022" y="-21645"/>
                  </a:lnTo>
                  <a:lnTo>
                    <a:pt x="20369" y="-21992"/>
                  </a:lnTo>
                  <a:lnTo>
                    <a:pt x="20369" y="-21992"/>
                  </a:lnTo>
                  <a:lnTo>
                    <a:pt x="20138" y="-22108"/>
                  </a:lnTo>
                  <a:lnTo>
                    <a:pt x="20022" y="-22339"/>
                  </a:lnTo>
                  <a:lnTo>
                    <a:pt x="19906" y="-22571"/>
                  </a:lnTo>
                  <a:lnTo>
                    <a:pt x="19906" y="-22803"/>
                  </a:lnTo>
                  <a:lnTo>
                    <a:pt x="19791" y="-23034"/>
                  </a:lnTo>
                  <a:lnTo>
                    <a:pt x="19675" y="-23266"/>
                  </a:lnTo>
                  <a:lnTo>
                    <a:pt x="19559" y="-23382"/>
                  </a:lnTo>
                  <a:lnTo>
                    <a:pt x="19443" y="-23613"/>
                  </a:lnTo>
                  <a:lnTo>
                    <a:pt x="19443" y="-23613"/>
                  </a:lnTo>
                  <a:lnTo>
                    <a:pt x="18633" y="-23266"/>
                  </a:lnTo>
                  <a:lnTo>
                    <a:pt x="17823" y="-22918"/>
                  </a:lnTo>
                  <a:lnTo>
                    <a:pt x="17129" y="-22571"/>
                  </a:lnTo>
                  <a:lnTo>
                    <a:pt x="16319" y="-22224"/>
                  </a:lnTo>
                  <a:lnTo>
                    <a:pt x="15624" y="-21876"/>
                  </a:lnTo>
                  <a:lnTo>
                    <a:pt x="14814" y="-21529"/>
                  </a:lnTo>
                  <a:lnTo>
                    <a:pt x="14120" y="-21297"/>
                  </a:lnTo>
                  <a:lnTo>
                    <a:pt x="13194" y="-21181"/>
                  </a:lnTo>
                  <a:lnTo>
                    <a:pt x="13194" y="-21181"/>
                  </a:lnTo>
                  <a:lnTo>
                    <a:pt x="13194" y="-21297"/>
                  </a:lnTo>
                  <a:lnTo>
                    <a:pt x="13194" y="-21413"/>
                  </a:lnTo>
                  <a:lnTo>
                    <a:pt x="13078" y="-21645"/>
                  </a:lnTo>
                  <a:lnTo>
                    <a:pt x="13078" y="-21760"/>
                  </a:lnTo>
                  <a:lnTo>
                    <a:pt x="13078" y="-21876"/>
                  </a:lnTo>
                  <a:lnTo>
                    <a:pt x="13078" y="-22108"/>
                  </a:lnTo>
                  <a:lnTo>
                    <a:pt x="13078" y="-22224"/>
                  </a:lnTo>
                  <a:lnTo>
                    <a:pt x="12962" y="-22339"/>
                  </a:lnTo>
                  <a:lnTo>
                    <a:pt x="12962" y="-22339"/>
                  </a:lnTo>
                  <a:lnTo>
                    <a:pt x="12847" y="-22224"/>
                  </a:lnTo>
                  <a:lnTo>
                    <a:pt x="12731" y="-22224"/>
                  </a:lnTo>
                  <a:lnTo>
                    <a:pt x="12615" y="-22108"/>
                  </a:lnTo>
                  <a:lnTo>
                    <a:pt x="12500" y="-22108"/>
                  </a:lnTo>
                  <a:lnTo>
                    <a:pt x="12384" y="-22108"/>
                  </a:lnTo>
                  <a:lnTo>
                    <a:pt x="12268" y="-21992"/>
                  </a:lnTo>
                  <a:lnTo>
                    <a:pt x="12152" y="-22108"/>
                  </a:lnTo>
                  <a:lnTo>
                    <a:pt x="12037" y="-22108"/>
                  </a:lnTo>
                  <a:lnTo>
                    <a:pt x="12037" y="-22108"/>
                  </a:lnTo>
                  <a:lnTo>
                    <a:pt x="12037" y="-22339"/>
                  </a:lnTo>
                  <a:lnTo>
                    <a:pt x="12037" y="-22339"/>
                  </a:lnTo>
                  <a:lnTo>
                    <a:pt x="12037" y="-22455"/>
                  </a:lnTo>
                  <a:lnTo>
                    <a:pt x="11921" y="-22455"/>
                  </a:lnTo>
                  <a:lnTo>
                    <a:pt x="11805" y="-22455"/>
                  </a:lnTo>
                  <a:lnTo>
                    <a:pt x="11689" y="-22455"/>
                  </a:lnTo>
                  <a:lnTo>
                    <a:pt x="11574" y="-22339"/>
                  </a:lnTo>
                  <a:lnTo>
                    <a:pt x="11574" y="-22339"/>
                  </a:lnTo>
                  <a:lnTo>
                    <a:pt x="11458" y="-22339"/>
                  </a:lnTo>
                  <a:lnTo>
                    <a:pt x="11342" y="-22339"/>
                  </a:lnTo>
                  <a:lnTo>
                    <a:pt x="11342" y="-22339"/>
                  </a:lnTo>
                  <a:lnTo>
                    <a:pt x="11342" y="-22455"/>
                  </a:lnTo>
                  <a:lnTo>
                    <a:pt x="11342" y="-22571"/>
                  </a:lnTo>
                  <a:lnTo>
                    <a:pt x="11342" y="-22687"/>
                  </a:lnTo>
                  <a:lnTo>
                    <a:pt x="11342" y="-22803"/>
                  </a:lnTo>
                  <a:lnTo>
                    <a:pt x="11342" y="-22918"/>
                  </a:lnTo>
                  <a:lnTo>
                    <a:pt x="11342" y="-23034"/>
                  </a:lnTo>
                  <a:lnTo>
                    <a:pt x="11342" y="-23150"/>
                  </a:lnTo>
                  <a:lnTo>
                    <a:pt x="11342" y="-23150"/>
                  </a:lnTo>
                  <a:lnTo>
                    <a:pt x="11342" y="-23150"/>
                  </a:lnTo>
                  <a:lnTo>
                    <a:pt x="11226" y="-23150"/>
                  </a:lnTo>
                  <a:lnTo>
                    <a:pt x="11111" y="-23034"/>
                  </a:lnTo>
                  <a:lnTo>
                    <a:pt x="10995" y="-23034"/>
                  </a:lnTo>
                  <a:lnTo>
                    <a:pt x="10879" y="-22918"/>
                  </a:lnTo>
                  <a:lnTo>
                    <a:pt x="10648" y="-22918"/>
                  </a:lnTo>
                  <a:lnTo>
                    <a:pt x="10532" y="-22918"/>
                  </a:lnTo>
                  <a:lnTo>
                    <a:pt x="10416" y="-22918"/>
                  </a:lnTo>
                  <a:lnTo>
                    <a:pt x="10301" y="-22918"/>
                  </a:lnTo>
                  <a:lnTo>
                    <a:pt x="10301" y="-22918"/>
                  </a:lnTo>
                  <a:lnTo>
                    <a:pt x="10416" y="-24192"/>
                  </a:lnTo>
                  <a:lnTo>
                    <a:pt x="10648" y="-25350"/>
                  </a:lnTo>
                  <a:lnTo>
                    <a:pt x="10764" y="-26509"/>
                  </a:lnTo>
                  <a:lnTo>
                    <a:pt x="10879" y="-27782"/>
                  </a:lnTo>
                  <a:lnTo>
                    <a:pt x="10995" y="-28941"/>
                  </a:lnTo>
                  <a:lnTo>
                    <a:pt x="11226" y="-30099"/>
                  </a:lnTo>
                  <a:lnTo>
                    <a:pt x="11342" y="-31257"/>
                  </a:lnTo>
                  <a:lnTo>
                    <a:pt x="11574" y="-32415"/>
                  </a:lnTo>
                  <a:lnTo>
                    <a:pt x="11574" y="-32415"/>
                  </a:lnTo>
                  <a:lnTo>
                    <a:pt x="11458" y="-32531"/>
                  </a:lnTo>
                  <a:lnTo>
                    <a:pt x="11342" y="-32646"/>
                  </a:lnTo>
                  <a:lnTo>
                    <a:pt x="11111" y="-32762"/>
                  </a:lnTo>
                  <a:lnTo>
                    <a:pt x="10995" y="32658"/>
                  </a:lnTo>
                  <a:lnTo>
                    <a:pt x="10879" y="32542"/>
                  </a:lnTo>
                  <a:lnTo>
                    <a:pt x="10648" y="32426"/>
                  </a:lnTo>
                  <a:lnTo>
                    <a:pt x="10532" y="32311"/>
                  </a:lnTo>
                  <a:lnTo>
                    <a:pt x="10532" y="32195"/>
                  </a:lnTo>
                  <a:lnTo>
                    <a:pt x="10532" y="32195"/>
                  </a:lnTo>
                  <a:lnTo>
                    <a:pt x="10532" y="32542"/>
                  </a:lnTo>
                  <a:lnTo>
                    <a:pt x="10532" y="-32762"/>
                  </a:lnTo>
                  <a:lnTo>
                    <a:pt x="10648" y="-32415"/>
                  </a:lnTo>
                  <a:lnTo>
                    <a:pt x="10764" y="-32067"/>
                  </a:lnTo>
                  <a:lnTo>
                    <a:pt x="10879" y="-31720"/>
                  </a:lnTo>
                  <a:lnTo>
                    <a:pt x="10879" y="-31488"/>
                  </a:lnTo>
                  <a:lnTo>
                    <a:pt x="10879" y="-31141"/>
                  </a:lnTo>
                  <a:lnTo>
                    <a:pt x="10879" y="-30793"/>
                  </a:lnTo>
                  <a:lnTo>
                    <a:pt x="10879" y="-30793"/>
                  </a:lnTo>
                  <a:lnTo>
                    <a:pt x="10764" y="-30678"/>
                  </a:lnTo>
                  <a:lnTo>
                    <a:pt x="10648" y="-30562"/>
                  </a:lnTo>
                  <a:lnTo>
                    <a:pt x="10532" y="-30562"/>
                  </a:lnTo>
                  <a:lnTo>
                    <a:pt x="10301" y="-30446"/>
                  </a:lnTo>
                  <a:lnTo>
                    <a:pt x="10185" y="-30446"/>
                  </a:lnTo>
                  <a:lnTo>
                    <a:pt x="9953" y="-30562"/>
                  </a:lnTo>
                  <a:lnTo>
                    <a:pt x="9838" y="-30562"/>
                  </a:lnTo>
                  <a:lnTo>
                    <a:pt x="9722" y="-30678"/>
                  </a:lnTo>
                  <a:lnTo>
                    <a:pt x="9722" y="-30678"/>
                  </a:lnTo>
                  <a:lnTo>
                    <a:pt x="9491" y="-30678"/>
                  </a:lnTo>
                  <a:lnTo>
                    <a:pt x="9259" y="-30909"/>
                  </a:lnTo>
                  <a:lnTo>
                    <a:pt x="9143" y="-31025"/>
                  </a:lnTo>
                  <a:lnTo>
                    <a:pt x="9028" y="-31257"/>
                  </a:lnTo>
                  <a:lnTo>
                    <a:pt x="8912" y="-31488"/>
                  </a:lnTo>
                  <a:lnTo>
                    <a:pt x="8796" y="-31604"/>
                  </a:lnTo>
                  <a:lnTo>
                    <a:pt x="8680" y="-31836"/>
                  </a:lnTo>
                  <a:lnTo>
                    <a:pt x="8565" y="-32067"/>
                  </a:lnTo>
                  <a:lnTo>
                    <a:pt x="8565" y="-32067"/>
                  </a:lnTo>
                  <a:lnTo>
                    <a:pt x="7870" y="-31836"/>
                  </a:lnTo>
                  <a:lnTo>
                    <a:pt x="7292" y="-31604"/>
                  </a:lnTo>
                  <a:lnTo>
                    <a:pt x="6597" y="-31373"/>
                  </a:lnTo>
                  <a:lnTo>
                    <a:pt x="6019" y="-31025"/>
                  </a:lnTo>
                  <a:lnTo>
                    <a:pt x="5440" y="-30793"/>
                  </a:lnTo>
                  <a:lnTo>
                    <a:pt x="4861" y="-30562"/>
                  </a:lnTo>
                  <a:lnTo>
                    <a:pt x="4167" y="-30330"/>
                  </a:lnTo>
                  <a:lnTo>
                    <a:pt x="3588" y="-30099"/>
                  </a:lnTo>
                  <a:lnTo>
                    <a:pt x="3588" y="-30099"/>
                  </a:lnTo>
                  <a:lnTo>
                    <a:pt x="3241" y="-30099"/>
                  </a:lnTo>
                  <a:lnTo>
                    <a:pt x="2894" y="-30099"/>
                  </a:lnTo>
                  <a:lnTo>
                    <a:pt x="2547" y="-30099"/>
                  </a:lnTo>
                  <a:lnTo>
                    <a:pt x="2199" y="-30330"/>
                  </a:lnTo>
                  <a:lnTo>
                    <a:pt x="1852" y="-30446"/>
                  </a:lnTo>
                  <a:lnTo>
                    <a:pt x="1505" y="-30678"/>
                  </a:lnTo>
                  <a:lnTo>
                    <a:pt x="1274" y="-30909"/>
                  </a:lnTo>
                  <a:lnTo>
                    <a:pt x="926" y="-31141"/>
                  </a:lnTo>
                  <a:lnTo>
                    <a:pt x="926" y="-31141"/>
                  </a:lnTo>
                  <a:lnTo>
                    <a:pt x="579" y="-31720"/>
                  </a:lnTo>
                  <a:lnTo>
                    <a:pt x="232" y="-32415"/>
                  </a:lnTo>
                  <a:lnTo>
                    <a:pt x="116" y="32426"/>
                  </a:lnTo>
                  <a:lnTo>
                    <a:pt x="0" y="31731"/>
                  </a:lnTo>
                  <a:lnTo>
                    <a:pt x="0" y="31037"/>
                  </a:lnTo>
                  <a:lnTo>
                    <a:pt x="116" y="30342"/>
                  </a:lnTo>
                  <a:lnTo>
                    <a:pt x="348" y="29647"/>
                  </a:lnTo>
                  <a:lnTo>
                    <a:pt x="579" y="29068"/>
                  </a:lnTo>
                  <a:lnTo>
                    <a:pt x="579" y="29068"/>
                  </a:lnTo>
                  <a:lnTo>
                    <a:pt x="1158" y="28257"/>
                  </a:lnTo>
                  <a:lnTo>
                    <a:pt x="1968" y="27910"/>
                  </a:lnTo>
                  <a:lnTo>
                    <a:pt x="2894" y="27678"/>
                  </a:lnTo>
                  <a:lnTo>
                    <a:pt x="3820" y="27562"/>
                  </a:lnTo>
                  <a:lnTo>
                    <a:pt x="4745" y="27562"/>
                  </a:lnTo>
                  <a:lnTo>
                    <a:pt x="5671" y="27331"/>
                  </a:lnTo>
                  <a:lnTo>
                    <a:pt x="6597" y="27099"/>
                  </a:lnTo>
                  <a:lnTo>
                    <a:pt x="7407" y="26520"/>
                  </a:lnTo>
                  <a:lnTo>
                    <a:pt x="7407" y="26520"/>
                  </a:lnTo>
                  <a:lnTo>
                    <a:pt x="7407" y="26520"/>
                  </a:lnTo>
                  <a:lnTo>
                    <a:pt x="7523" y="26520"/>
                  </a:lnTo>
                  <a:lnTo>
                    <a:pt x="7523" y="26520"/>
                  </a:lnTo>
                  <a:lnTo>
                    <a:pt x="7639" y="26520"/>
                  </a:lnTo>
                  <a:lnTo>
                    <a:pt x="7639" y="26520"/>
                  </a:lnTo>
                  <a:lnTo>
                    <a:pt x="7755" y="26520"/>
                  </a:lnTo>
                  <a:lnTo>
                    <a:pt x="7755" y="26520"/>
                  </a:lnTo>
                  <a:lnTo>
                    <a:pt x="7870" y="26520"/>
                  </a:lnTo>
                  <a:lnTo>
                    <a:pt x="7870" y="26520"/>
                  </a:lnTo>
                  <a:lnTo>
                    <a:pt x="7292" y="25709"/>
                  </a:lnTo>
                  <a:lnTo>
                    <a:pt x="6713" y="25014"/>
                  </a:lnTo>
                  <a:lnTo>
                    <a:pt x="6250" y="24204"/>
                  </a:lnTo>
                  <a:lnTo>
                    <a:pt x="5787" y="23393"/>
                  </a:lnTo>
                  <a:lnTo>
                    <a:pt x="5440" y="22582"/>
                  </a:lnTo>
                  <a:lnTo>
                    <a:pt x="5208" y="21772"/>
                  </a:lnTo>
                  <a:lnTo>
                    <a:pt x="5208" y="20845"/>
                  </a:lnTo>
                  <a:lnTo>
                    <a:pt x="5324" y="19919"/>
                  </a:lnTo>
                  <a:lnTo>
                    <a:pt x="5324" y="19919"/>
                  </a:lnTo>
                  <a:lnTo>
                    <a:pt x="5440" y="19571"/>
                  </a:lnTo>
                  <a:lnTo>
                    <a:pt x="5671" y="19224"/>
                  </a:lnTo>
                  <a:lnTo>
                    <a:pt x="6019" y="19108"/>
                  </a:lnTo>
                  <a:lnTo>
                    <a:pt x="6366" y="18992"/>
                  </a:lnTo>
                  <a:lnTo>
                    <a:pt x="6713" y="18877"/>
                  </a:lnTo>
                  <a:lnTo>
                    <a:pt x="7060" y="18761"/>
                  </a:lnTo>
                  <a:lnTo>
                    <a:pt x="7523" y="18761"/>
                  </a:lnTo>
                  <a:lnTo>
                    <a:pt x="7870" y="18645"/>
                  </a:lnTo>
                  <a:lnTo>
                    <a:pt x="7870" y="18645"/>
                  </a:lnTo>
                  <a:lnTo>
                    <a:pt x="8565" y="18529"/>
                  </a:lnTo>
                  <a:lnTo>
                    <a:pt x="9259" y="18529"/>
                  </a:lnTo>
                  <a:lnTo>
                    <a:pt x="9953" y="18529"/>
                  </a:lnTo>
                  <a:lnTo>
                    <a:pt x="10648" y="18645"/>
                  </a:lnTo>
                  <a:lnTo>
                    <a:pt x="11342" y="18645"/>
                  </a:lnTo>
                  <a:lnTo>
                    <a:pt x="11921" y="18877"/>
                  </a:lnTo>
                  <a:lnTo>
                    <a:pt x="12615" y="18992"/>
                  </a:lnTo>
                  <a:lnTo>
                    <a:pt x="13310" y="19108"/>
                  </a:lnTo>
                  <a:lnTo>
                    <a:pt x="13310" y="19108"/>
                  </a:lnTo>
                  <a:lnTo>
                    <a:pt x="13425" y="18992"/>
                  </a:lnTo>
                  <a:lnTo>
                    <a:pt x="13425" y="18992"/>
                  </a:lnTo>
                  <a:lnTo>
                    <a:pt x="13773" y="17139"/>
                  </a:lnTo>
                  <a:lnTo>
                    <a:pt x="14004" y="15286"/>
                  </a:lnTo>
                  <a:lnTo>
                    <a:pt x="14351" y="13434"/>
                  </a:lnTo>
                  <a:lnTo>
                    <a:pt x="14814" y="11581"/>
                  </a:lnTo>
                  <a:lnTo>
                    <a:pt x="15161" y="9728"/>
                  </a:lnTo>
                  <a:lnTo>
                    <a:pt x="15509" y="7875"/>
                  </a:lnTo>
                  <a:lnTo>
                    <a:pt x="15856" y="6138"/>
                  </a:lnTo>
                  <a:lnTo>
                    <a:pt x="16203" y="4285"/>
                  </a:lnTo>
                  <a:lnTo>
                    <a:pt x="16203" y="4285"/>
                  </a:lnTo>
                  <a:lnTo>
                    <a:pt x="16319" y="4053"/>
                  </a:lnTo>
                  <a:lnTo>
                    <a:pt x="16319" y="3821"/>
                  </a:lnTo>
                  <a:lnTo>
                    <a:pt x="16203" y="3590"/>
                  </a:lnTo>
                  <a:lnTo>
                    <a:pt x="16203" y="3358"/>
                  </a:lnTo>
                  <a:lnTo>
                    <a:pt x="16319" y="3126"/>
                  </a:lnTo>
                  <a:lnTo>
                    <a:pt x="16434" y="3011"/>
                  </a:lnTo>
                  <a:lnTo>
                    <a:pt x="16550" y="2895"/>
                  </a:lnTo>
                  <a:lnTo>
                    <a:pt x="16897" y="2895"/>
                  </a:lnTo>
                  <a:lnTo>
                    <a:pt x="16897" y="2895"/>
                  </a:lnTo>
                  <a:lnTo>
                    <a:pt x="16782" y="2663"/>
                  </a:lnTo>
                  <a:lnTo>
                    <a:pt x="16782" y="2316"/>
                  </a:lnTo>
                  <a:lnTo>
                    <a:pt x="16782" y="1968"/>
                  </a:lnTo>
                  <a:lnTo>
                    <a:pt x="16782" y="1621"/>
                  </a:lnTo>
                  <a:lnTo>
                    <a:pt x="16897" y="1389"/>
                  </a:lnTo>
                  <a:lnTo>
                    <a:pt x="17013" y="1042"/>
                  </a:lnTo>
                  <a:lnTo>
                    <a:pt x="17129" y="810"/>
                  </a:lnTo>
                  <a:lnTo>
                    <a:pt x="17360" y="579"/>
                  </a:lnTo>
                  <a:lnTo>
                    <a:pt x="17360" y="579"/>
                  </a:lnTo>
                  <a:lnTo>
                    <a:pt x="17707" y="347"/>
                  </a:lnTo>
                  <a:lnTo>
                    <a:pt x="18055" y="115"/>
                  </a:lnTo>
                  <a:lnTo>
                    <a:pt x="18518" y="0"/>
                  </a:lnTo>
                  <a:lnTo>
                    <a:pt x="18981" y="0"/>
                  </a:lnTo>
                  <a:lnTo>
                    <a:pt x="19328" y="0"/>
                  </a:lnTo>
                  <a:lnTo>
                    <a:pt x="19791" y="115"/>
                  </a:lnTo>
                  <a:lnTo>
                    <a:pt x="20138" y="347"/>
                  </a:lnTo>
                  <a:lnTo>
                    <a:pt x="20369" y="694"/>
                  </a:lnTo>
                  <a:lnTo>
                    <a:pt x="20369" y="694"/>
                  </a:lnTo>
                  <a:lnTo>
                    <a:pt x="20369" y="694"/>
                  </a:lnTo>
                  <a:lnTo>
                    <a:pt x="20369" y="694"/>
                  </a:lnTo>
                  <a:lnTo>
                    <a:pt x="20369"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1539000" y="3161160"/>
              <a:ext cx="115560" cy="192600"/>
            </a:xfrm>
            <a:custGeom>
              <a:avLst/>
              <a:gdLst/>
              <a:ahLst/>
              <a:rect l="l" t="t" r="r" b="b"/>
              <a:pathLst>
                <a:path w="3240" h="3590">
                  <a:moveTo>
                    <a:pt x="3124" y="926"/>
                  </a:moveTo>
                  <a:lnTo>
                    <a:pt x="3124" y="1274"/>
                  </a:lnTo>
                  <a:lnTo>
                    <a:pt x="3240" y="1621"/>
                  </a:lnTo>
                  <a:lnTo>
                    <a:pt x="3240" y="1969"/>
                  </a:lnTo>
                  <a:lnTo>
                    <a:pt x="3240" y="2316"/>
                  </a:lnTo>
                  <a:lnTo>
                    <a:pt x="3240" y="2663"/>
                  </a:lnTo>
                  <a:lnTo>
                    <a:pt x="3124" y="2895"/>
                  </a:lnTo>
                  <a:lnTo>
                    <a:pt x="3009" y="3243"/>
                  </a:lnTo>
                  <a:lnTo>
                    <a:pt x="2893" y="3590"/>
                  </a:lnTo>
                  <a:lnTo>
                    <a:pt x="2893" y="3590"/>
                  </a:lnTo>
                  <a:lnTo>
                    <a:pt x="2546" y="3590"/>
                  </a:lnTo>
                  <a:lnTo>
                    <a:pt x="2546" y="3243"/>
                  </a:lnTo>
                  <a:lnTo>
                    <a:pt x="2661" y="3243"/>
                  </a:lnTo>
                  <a:lnTo>
                    <a:pt x="2661" y="3243"/>
                  </a:lnTo>
                  <a:lnTo>
                    <a:pt x="2661" y="3011"/>
                  </a:lnTo>
                  <a:lnTo>
                    <a:pt x="2777" y="2663"/>
                  </a:lnTo>
                  <a:lnTo>
                    <a:pt x="2893" y="2432"/>
                  </a:lnTo>
                  <a:lnTo>
                    <a:pt x="2893" y="2084"/>
                  </a:lnTo>
                  <a:lnTo>
                    <a:pt x="3009" y="1737"/>
                  </a:lnTo>
                  <a:lnTo>
                    <a:pt x="2893" y="1505"/>
                  </a:lnTo>
                  <a:lnTo>
                    <a:pt x="2893" y="1158"/>
                  </a:lnTo>
                  <a:lnTo>
                    <a:pt x="2777" y="926"/>
                  </a:lnTo>
                  <a:lnTo>
                    <a:pt x="2777" y="926"/>
                  </a:lnTo>
                  <a:lnTo>
                    <a:pt x="2661" y="811"/>
                  </a:lnTo>
                  <a:lnTo>
                    <a:pt x="2546" y="695"/>
                  </a:lnTo>
                  <a:lnTo>
                    <a:pt x="2430" y="579"/>
                  </a:lnTo>
                  <a:lnTo>
                    <a:pt x="2198" y="463"/>
                  </a:lnTo>
                  <a:lnTo>
                    <a:pt x="2083" y="347"/>
                  </a:lnTo>
                  <a:lnTo>
                    <a:pt x="1967" y="231"/>
                  </a:lnTo>
                  <a:lnTo>
                    <a:pt x="1851" y="231"/>
                  </a:lnTo>
                  <a:lnTo>
                    <a:pt x="1736" y="231"/>
                  </a:lnTo>
                  <a:lnTo>
                    <a:pt x="1736" y="231"/>
                  </a:lnTo>
                  <a:lnTo>
                    <a:pt x="1504" y="231"/>
                  </a:lnTo>
                  <a:lnTo>
                    <a:pt x="1273" y="347"/>
                  </a:lnTo>
                  <a:lnTo>
                    <a:pt x="1041" y="347"/>
                  </a:lnTo>
                  <a:lnTo>
                    <a:pt x="925" y="463"/>
                  </a:lnTo>
                  <a:lnTo>
                    <a:pt x="694" y="695"/>
                  </a:lnTo>
                  <a:lnTo>
                    <a:pt x="578" y="811"/>
                  </a:lnTo>
                  <a:lnTo>
                    <a:pt x="462" y="926"/>
                  </a:lnTo>
                  <a:lnTo>
                    <a:pt x="347" y="1158"/>
                  </a:lnTo>
                  <a:lnTo>
                    <a:pt x="347" y="1158"/>
                  </a:lnTo>
                  <a:lnTo>
                    <a:pt x="347" y="2432"/>
                  </a:lnTo>
                  <a:lnTo>
                    <a:pt x="347" y="2432"/>
                  </a:lnTo>
                  <a:lnTo>
                    <a:pt x="115" y="2316"/>
                  </a:lnTo>
                  <a:lnTo>
                    <a:pt x="115" y="2200"/>
                  </a:lnTo>
                  <a:lnTo>
                    <a:pt x="0" y="1969"/>
                  </a:lnTo>
                  <a:lnTo>
                    <a:pt x="0" y="1737"/>
                  </a:lnTo>
                  <a:lnTo>
                    <a:pt x="0" y="1505"/>
                  </a:lnTo>
                  <a:lnTo>
                    <a:pt x="0" y="1390"/>
                  </a:lnTo>
                  <a:lnTo>
                    <a:pt x="0" y="1158"/>
                  </a:lnTo>
                  <a:lnTo>
                    <a:pt x="115" y="926"/>
                  </a:lnTo>
                  <a:lnTo>
                    <a:pt x="115" y="926"/>
                  </a:lnTo>
                  <a:lnTo>
                    <a:pt x="347" y="579"/>
                  </a:lnTo>
                  <a:lnTo>
                    <a:pt x="694" y="231"/>
                  </a:lnTo>
                  <a:lnTo>
                    <a:pt x="1041" y="116"/>
                  </a:lnTo>
                  <a:lnTo>
                    <a:pt x="1504" y="0"/>
                  </a:lnTo>
                  <a:lnTo>
                    <a:pt x="2083" y="0"/>
                  </a:lnTo>
                  <a:lnTo>
                    <a:pt x="2430" y="231"/>
                  </a:lnTo>
                  <a:lnTo>
                    <a:pt x="2777" y="463"/>
                  </a:lnTo>
                  <a:lnTo>
                    <a:pt x="3124" y="926"/>
                  </a:lnTo>
                  <a:lnTo>
                    <a:pt x="3124" y="926"/>
                  </a:lnTo>
                  <a:lnTo>
                    <a:pt x="3124" y="926"/>
                  </a:lnTo>
                  <a:lnTo>
                    <a:pt x="3124" y="926"/>
                  </a:lnTo>
                  <a:lnTo>
                    <a:pt x="3124"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1663200" y="3173760"/>
              <a:ext cx="65880" cy="211320"/>
            </a:xfrm>
            <a:custGeom>
              <a:avLst/>
              <a:gdLst/>
              <a:ahLst/>
              <a:rect l="l" t="t" r="r" b="b"/>
              <a:pathLst>
                <a:path w="1851" h="3938">
                  <a:moveTo>
                    <a:pt x="1851" y="1853"/>
                  </a:moveTo>
                  <a:lnTo>
                    <a:pt x="1851" y="1969"/>
                  </a:lnTo>
                  <a:lnTo>
                    <a:pt x="1851" y="2201"/>
                  </a:lnTo>
                  <a:lnTo>
                    <a:pt x="1851" y="2317"/>
                  </a:lnTo>
                  <a:lnTo>
                    <a:pt x="1736" y="2432"/>
                  </a:lnTo>
                  <a:lnTo>
                    <a:pt x="1736" y="2548"/>
                  </a:lnTo>
                  <a:lnTo>
                    <a:pt x="1736" y="2664"/>
                  </a:lnTo>
                  <a:lnTo>
                    <a:pt x="1736" y="2896"/>
                  </a:lnTo>
                  <a:lnTo>
                    <a:pt x="1736" y="3012"/>
                  </a:lnTo>
                  <a:lnTo>
                    <a:pt x="1736" y="3012"/>
                  </a:lnTo>
                  <a:lnTo>
                    <a:pt x="1620" y="3127"/>
                  </a:lnTo>
                  <a:lnTo>
                    <a:pt x="1620" y="3243"/>
                  </a:lnTo>
                  <a:lnTo>
                    <a:pt x="1504" y="3359"/>
                  </a:lnTo>
                  <a:lnTo>
                    <a:pt x="1388" y="3475"/>
                  </a:lnTo>
                  <a:lnTo>
                    <a:pt x="1273" y="3591"/>
                  </a:lnTo>
                  <a:lnTo>
                    <a:pt x="1157" y="3706"/>
                  </a:lnTo>
                  <a:lnTo>
                    <a:pt x="1041" y="3822"/>
                  </a:lnTo>
                  <a:lnTo>
                    <a:pt x="925" y="3938"/>
                  </a:lnTo>
                  <a:lnTo>
                    <a:pt x="925" y="3938"/>
                  </a:lnTo>
                  <a:lnTo>
                    <a:pt x="810" y="3938"/>
                  </a:lnTo>
                  <a:lnTo>
                    <a:pt x="810" y="3938"/>
                  </a:lnTo>
                  <a:lnTo>
                    <a:pt x="694" y="3938"/>
                  </a:lnTo>
                  <a:lnTo>
                    <a:pt x="694" y="3822"/>
                  </a:lnTo>
                  <a:lnTo>
                    <a:pt x="694" y="3822"/>
                  </a:lnTo>
                  <a:lnTo>
                    <a:pt x="694" y="3706"/>
                  </a:lnTo>
                  <a:lnTo>
                    <a:pt x="694" y="3706"/>
                  </a:lnTo>
                  <a:lnTo>
                    <a:pt x="694" y="3591"/>
                  </a:lnTo>
                  <a:lnTo>
                    <a:pt x="694" y="3591"/>
                  </a:lnTo>
                  <a:lnTo>
                    <a:pt x="925" y="3243"/>
                  </a:lnTo>
                  <a:lnTo>
                    <a:pt x="1157" y="3012"/>
                  </a:lnTo>
                  <a:lnTo>
                    <a:pt x="1273" y="2664"/>
                  </a:lnTo>
                  <a:lnTo>
                    <a:pt x="1273" y="2317"/>
                  </a:lnTo>
                  <a:lnTo>
                    <a:pt x="1273" y="1969"/>
                  </a:lnTo>
                  <a:lnTo>
                    <a:pt x="1157" y="1622"/>
                  </a:lnTo>
                  <a:lnTo>
                    <a:pt x="1041" y="1274"/>
                  </a:lnTo>
                  <a:lnTo>
                    <a:pt x="1041" y="811"/>
                  </a:lnTo>
                  <a:lnTo>
                    <a:pt x="1041" y="811"/>
                  </a:lnTo>
                  <a:lnTo>
                    <a:pt x="925" y="811"/>
                  </a:lnTo>
                  <a:lnTo>
                    <a:pt x="810" y="695"/>
                  </a:lnTo>
                  <a:lnTo>
                    <a:pt x="694" y="580"/>
                  </a:lnTo>
                  <a:lnTo>
                    <a:pt x="578" y="464"/>
                  </a:lnTo>
                  <a:lnTo>
                    <a:pt x="462" y="464"/>
                  </a:lnTo>
                  <a:lnTo>
                    <a:pt x="347" y="464"/>
                  </a:lnTo>
                  <a:lnTo>
                    <a:pt x="231" y="464"/>
                  </a:lnTo>
                  <a:lnTo>
                    <a:pt x="115" y="464"/>
                  </a:lnTo>
                  <a:lnTo>
                    <a:pt x="115" y="464"/>
                  </a:lnTo>
                  <a:lnTo>
                    <a:pt x="0" y="116"/>
                  </a:lnTo>
                  <a:lnTo>
                    <a:pt x="0" y="116"/>
                  </a:lnTo>
                  <a:lnTo>
                    <a:pt x="115" y="116"/>
                  </a:lnTo>
                  <a:lnTo>
                    <a:pt x="231" y="0"/>
                  </a:lnTo>
                  <a:lnTo>
                    <a:pt x="347" y="0"/>
                  </a:lnTo>
                  <a:lnTo>
                    <a:pt x="462" y="0"/>
                  </a:lnTo>
                  <a:lnTo>
                    <a:pt x="694" y="116"/>
                  </a:lnTo>
                  <a:lnTo>
                    <a:pt x="810" y="116"/>
                  </a:lnTo>
                  <a:lnTo>
                    <a:pt x="925" y="232"/>
                  </a:lnTo>
                  <a:lnTo>
                    <a:pt x="1041" y="232"/>
                  </a:lnTo>
                  <a:lnTo>
                    <a:pt x="1041" y="232"/>
                  </a:lnTo>
                  <a:lnTo>
                    <a:pt x="1273" y="464"/>
                  </a:lnTo>
                  <a:lnTo>
                    <a:pt x="1388" y="580"/>
                  </a:lnTo>
                  <a:lnTo>
                    <a:pt x="1504" y="811"/>
                  </a:lnTo>
                  <a:lnTo>
                    <a:pt x="1620" y="1043"/>
                  </a:lnTo>
                  <a:lnTo>
                    <a:pt x="1620" y="1159"/>
                  </a:lnTo>
                  <a:lnTo>
                    <a:pt x="1736" y="1390"/>
                  </a:lnTo>
                  <a:lnTo>
                    <a:pt x="1736" y="1622"/>
                  </a:lnTo>
                  <a:lnTo>
                    <a:pt x="1851" y="1853"/>
                  </a:lnTo>
                  <a:lnTo>
                    <a:pt x="1851" y="1853"/>
                  </a:lnTo>
                  <a:lnTo>
                    <a:pt x="1851" y="1853"/>
                  </a:lnTo>
                  <a:lnTo>
                    <a:pt x="1851" y="1853"/>
                  </a:lnTo>
                  <a:lnTo>
                    <a:pt x="1851" y="18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1563840" y="3198600"/>
              <a:ext cx="49320" cy="99360"/>
            </a:xfrm>
            <a:custGeom>
              <a:avLst/>
              <a:gdLst/>
              <a:ahLst/>
              <a:rect l="l" t="t" r="r" b="b"/>
              <a:pathLst>
                <a:path w="1389" h="1853">
                  <a:moveTo>
                    <a:pt x="1389" y="347"/>
                  </a:moveTo>
                  <a:lnTo>
                    <a:pt x="1157" y="579"/>
                  </a:lnTo>
                  <a:lnTo>
                    <a:pt x="1042" y="810"/>
                  </a:lnTo>
                  <a:lnTo>
                    <a:pt x="926" y="1042"/>
                  </a:lnTo>
                  <a:lnTo>
                    <a:pt x="810" y="1389"/>
                  </a:lnTo>
                  <a:lnTo>
                    <a:pt x="810" y="1621"/>
                  </a:lnTo>
                  <a:lnTo>
                    <a:pt x="694" y="1853"/>
                  </a:lnTo>
                  <a:lnTo>
                    <a:pt x="463" y="1853"/>
                  </a:lnTo>
                  <a:lnTo>
                    <a:pt x="116" y="1737"/>
                  </a:lnTo>
                  <a:lnTo>
                    <a:pt x="116" y="1737"/>
                  </a:lnTo>
                  <a:lnTo>
                    <a:pt x="0" y="1505"/>
                  </a:lnTo>
                  <a:lnTo>
                    <a:pt x="0" y="1274"/>
                  </a:lnTo>
                  <a:lnTo>
                    <a:pt x="0" y="1042"/>
                  </a:lnTo>
                  <a:lnTo>
                    <a:pt x="116" y="810"/>
                  </a:lnTo>
                  <a:lnTo>
                    <a:pt x="116" y="579"/>
                  </a:lnTo>
                  <a:lnTo>
                    <a:pt x="231" y="347"/>
                  </a:lnTo>
                  <a:lnTo>
                    <a:pt x="463" y="231"/>
                  </a:lnTo>
                  <a:lnTo>
                    <a:pt x="694" y="116"/>
                  </a:lnTo>
                  <a:lnTo>
                    <a:pt x="694" y="116"/>
                  </a:lnTo>
                  <a:lnTo>
                    <a:pt x="810" y="0"/>
                  </a:lnTo>
                  <a:lnTo>
                    <a:pt x="926" y="0"/>
                  </a:lnTo>
                  <a:lnTo>
                    <a:pt x="1042" y="0"/>
                  </a:lnTo>
                  <a:lnTo>
                    <a:pt x="1157" y="116"/>
                  </a:lnTo>
                  <a:lnTo>
                    <a:pt x="1157" y="116"/>
                  </a:lnTo>
                  <a:lnTo>
                    <a:pt x="1273" y="116"/>
                  </a:lnTo>
                  <a:lnTo>
                    <a:pt x="1389" y="231"/>
                  </a:lnTo>
                  <a:lnTo>
                    <a:pt x="1389" y="347"/>
                  </a:lnTo>
                  <a:lnTo>
                    <a:pt x="1389" y="347"/>
                  </a:lnTo>
                  <a:lnTo>
                    <a:pt x="1389" y="347"/>
                  </a:lnTo>
                  <a:lnTo>
                    <a:pt x="1389" y="347"/>
                  </a:lnTo>
                  <a:lnTo>
                    <a:pt x="1389"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737720" y="3217320"/>
              <a:ext cx="65880" cy="192600"/>
            </a:xfrm>
            <a:custGeom>
              <a:avLst/>
              <a:gdLst/>
              <a:ahLst/>
              <a:rect l="l" t="t" r="r" b="b"/>
              <a:pathLst>
                <a:path w="1851" h="3590">
                  <a:moveTo>
                    <a:pt x="1620" y="695"/>
                  </a:moveTo>
                  <a:lnTo>
                    <a:pt x="1736" y="927"/>
                  </a:lnTo>
                  <a:lnTo>
                    <a:pt x="1736" y="1158"/>
                  </a:lnTo>
                  <a:lnTo>
                    <a:pt x="1851" y="1390"/>
                  </a:lnTo>
                  <a:lnTo>
                    <a:pt x="1851" y="1621"/>
                  </a:lnTo>
                  <a:lnTo>
                    <a:pt x="1851" y="1853"/>
                  </a:lnTo>
                  <a:lnTo>
                    <a:pt x="1851" y="2085"/>
                  </a:lnTo>
                  <a:lnTo>
                    <a:pt x="1851" y="2316"/>
                  </a:lnTo>
                  <a:lnTo>
                    <a:pt x="1736" y="2432"/>
                  </a:lnTo>
                  <a:lnTo>
                    <a:pt x="1736" y="2432"/>
                  </a:lnTo>
                  <a:lnTo>
                    <a:pt x="1736" y="2664"/>
                  </a:lnTo>
                  <a:lnTo>
                    <a:pt x="1620" y="2780"/>
                  </a:lnTo>
                  <a:lnTo>
                    <a:pt x="1504" y="2895"/>
                  </a:lnTo>
                  <a:lnTo>
                    <a:pt x="1388" y="3127"/>
                  </a:lnTo>
                  <a:lnTo>
                    <a:pt x="1273" y="3243"/>
                  </a:lnTo>
                  <a:lnTo>
                    <a:pt x="1157" y="3359"/>
                  </a:lnTo>
                  <a:lnTo>
                    <a:pt x="1041" y="3474"/>
                  </a:lnTo>
                  <a:lnTo>
                    <a:pt x="926" y="3590"/>
                  </a:lnTo>
                  <a:lnTo>
                    <a:pt x="926" y="3590"/>
                  </a:lnTo>
                  <a:lnTo>
                    <a:pt x="810" y="3590"/>
                  </a:lnTo>
                  <a:lnTo>
                    <a:pt x="694" y="3590"/>
                  </a:lnTo>
                  <a:lnTo>
                    <a:pt x="694" y="3474"/>
                  </a:lnTo>
                  <a:lnTo>
                    <a:pt x="578" y="3474"/>
                  </a:lnTo>
                  <a:lnTo>
                    <a:pt x="578" y="3359"/>
                  </a:lnTo>
                  <a:lnTo>
                    <a:pt x="578" y="3359"/>
                  </a:lnTo>
                  <a:lnTo>
                    <a:pt x="578" y="3243"/>
                  </a:lnTo>
                  <a:lnTo>
                    <a:pt x="578" y="3127"/>
                  </a:lnTo>
                  <a:lnTo>
                    <a:pt x="578" y="3127"/>
                  </a:lnTo>
                  <a:lnTo>
                    <a:pt x="694" y="3127"/>
                  </a:lnTo>
                  <a:lnTo>
                    <a:pt x="810" y="3011"/>
                  </a:lnTo>
                  <a:lnTo>
                    <a:pt x="926" y="2895"/>
                  </a:lnTo>
                  <a:lnTo>
                    <a:pt x="1041" y="2780"/>
                  </a:lnTo>
                  <a:lnTo>
                    <a:pt x="1041" y="2664"/>
                  </a:lnTo>
                  <a:lnTo>
                    <a:pt x="1157" y="2432"/>
                  </a:lnTo>
                  <a:lnTo>
                    <a:pt x="1157" y="2316"/>
                  </a:lnTo>
                  <a:lnTo>
                    <a:pt x="1157" y="2201"/>
                  </a:lnTo>
                  <a:lnTo>
                    <a:pt x="1157" y="2201"/>
                  </a:lnTo>
                  <a:lnTo>
                    <a:pt x="1157" y="1969"/>
                  </a:lnTo>
                  <a:lnTo>
                    <a:pt x="1157" y="1621"/>
                  </a:lnTo>
                  <a:lnTo>
                    <a:pt x="1157" y="1390"/>
                  </a:lnTo>
                  <a:lnTo>
                    <a:pt x="1041" y="1042"/>
                  </a:lnTo>
                  <a:lnTo>
                    <a:pt x="926" y="811"/>
                  </a:lnTo>
                  <a:lnTo>
                    <a:pt x="810" y="579"/>
                  </a:lnTo>
                  <a:lnTo>
                    <a:pt x="578" y="348"/>
                  </a:lnTo>
                  <a:lnTo>
                    <a:pt x="347" y="232"/>
                  </a:lnTo>
                  <a:lnTo>
                    <a:pt x="347" y="232"/>
                  </a:lnTo>
                  <a:lnTo>
                    <a:pt x="347" y="232"/>
                  </a:lnTo>
                  <a:lnTo>
                    <a:pt x="231" y="232"/>
                  </a:lnTo>
                  <a:lnTo>
                    <a:pt x="231" y="232"/>
                  </a:lnTo>
                  <a:lnTo>
                    <a:pt x="115" y="232"/>
                  </a:lnTo>
                  <a:lnTo>
                    <a:pt x="115" y="232"/>
                  </a:lnTo>
                  <a:lnTo>
                    <a:pt x="115" y="232"/>
                  </a:lnTo>
                  <a:lnTo>
                    <a:pt x="0" y="232"/>
                  </a:lnTo>
                  <a:lnTo>
                    <a:pt x="0" y="116"/>
                  </a:lnTo>
                  <a:lnTo>
                    <a:pt x="0" y="116"/>
                  </a:lnTo>
                  <a:lnTo>
                    <a:pt x="231" y="0"/>
                  </a:lnTo>
                  <a:lnTo>
                    <a:pt x="347" y="0"/>
                  </a:lnTo>
                  <a:lnTo>
                    <a:pt x="578" y="0"/>
                  </a:lnTo>
                  <a:lnTo>
                    <a:pt x="810" y="0"/>
                  </a:lnTo>
                  <a:lnTo>
                    <a:pt x="1041" y="116"/>
                  </a:lnTo>
                  <a:lnTo>
                    <a:pt x="1273" y="232"/>
                  </a:lnTo>
                  <a:lnTo>
                    <a:pt x="1504" y="463"/>
                  </a:lnTo>
                  <a:lnTo>
                    <a:pt x="1620" y="695"/>
                  </a:lnTo>
                  <a:lnTo>
                    <a:pt x="1620" y="695"/>
                  </a:lnTo>
                  <a:lnTo>
                    <a:pt x="1620" y="695"/>
                  </a:lnTo>
                  <a:lnTo>
                    <a:pt x="1620" y="695"/>
                  </a:lnTo>
                  <a:lnTo>
                    <a:pt x="1620"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1812240" y="3242160"/>
              <a:ext cx="57600" cy="186480"/>
            </a:xfrm>
            <a:custGeom>
              <a:avLst/>
              <a:gdLst/>
              <a:ahLst/>
              <a:rect l="l" t="t" r="r" b="b"/>
              <a:pathLst>
                <a:path w="1620" h="3475">
                  <a:moveTo>
                    <a:pt x="1620" y="1390"/>
                  </a:moveTo>
                  <a:lnTo>
                    <a:pt x="1620" y="1622"/>
                  </a:lnTo>
                  <a:lnTo>
                    <a:pt x="1620" y="1853"/>
                  </a:lnTo>
                  <a:lnTo>
                    <a:pt x="1620" y="2085"/>
                  </a:lnTo>
                  <a:lnTo>
                    <a:pt x="1620" y="2317"/>
                  </a:lnTo>
                  <a:lnTo>
                    <a:pt x="1620" y="2432"/>
                  </a:lnTo>
                  <a:lnTo>
                    <a:pt x="1620" y="2664"/>
                  </a:lnTo>
                  <a:lnTo>
                    <a:pt x="1504" y="2896"/>
                  </a:lnTo>
                  <a:lnTo>
                    <a:pt x="1389" y="3011"/>
                  </a:lnTo>
                  <a:lnTo>
                    <a:pt x="1389" y="3011"/>
                  </a:lnTo>
                  <a:lnTo>
                    <a:pt x="1273" y="3127"/>
                  </a:lnTo>
                  <a:lnTo>
                    <a:pt x="1157" y="3127"/>
                  </a:lnTo>
                  <a:lnTo>
                    <a:pt x="1041" y="3243"/>
                  </a:lnTo>
                  <a:lnTo>
                    <a:pt x="1041" y="3359"/>
                  </a:lnTo>
                  <a:lnTo>
                    <a:pt x="926" y="3475"/>
                  </a:lnTo>
                  <a:lnTo>
                    <a:pt x="926" y="3475"/>
                  </a:lnTo>
                  <a:lnTo>
                    <a:pt x="810" y="3475"/>
                  </a:lnTo>
                  <a:lnTo>
                    <a:pt x="694" y="3359"/>
                  </a:lnTo>
                  <a:lnTo>
                    <a:pt x="694" y="3359"/>
                  </a:lnTo>
                  <a:lnTo>
                    <a:pt x="694" y="3243"/>
                  </a:lnTo>
                  <a:lnTo>
                    <a:pt x="810" y="3127"/>
                  </a:lnTo>
                  <a:lnTo>
                    <a:pt x="810" y="3011"/>
                  </a:lnTo>
                  <a:lnTo>
                    <a:pt x="926" y="2896"/>
                  </a:lnTo>
                  <a:lnTo>
                    <a:pt x="1041" y="2780"/>
                  </a:lnTo>
                  <a:lnTo>
                    <a:pt x="1157" y="2664"/>
                  </a:lnTo>
                  <a:lnTo>
                    <a:pt x="1273" y="2548"/>
                  </a:lnTo>
                  <a:lnTo>
                    <a:pt x="1273" y="2432"/>
                  </a:lnTo>
                  <a:lnTo>
                    <a:pt x="1273" y="2432"/>
                  </a:lnTo>
                  <a:lnTo>
                    <a:pt x="1389" y="2085"/>
                  </a:lnTo>
                  <a:lnTo>
                    <a:pt x="1389" y="1853"/>
                  </a:lnTo>
                  <a:lnTo>
                    <a:pt x="1273" y="1506"/>
                  </a:lnTo>
                  <a:lnTo>
                    <a:pt x="1157" y="1274"/>
                  </a:lnTo>
                  <a:lnTo>
                    <a:pt x="1041" y="1043"/>
                  </a:lnTo>
                  <a:lnTo>
                    <a:pt x="810" y="811"/>
                  </a:lnTo>
                  <a:lnTo>
                    <a:pt x="579" y="579"/>
                  </a:lnTo>
                  <a:lnTo>
                    <a:pt x="347" y="348"/>
                  </a:lnTo>
                  <a:lnTo>
                    <a:pt x="347" y="348"/>
                  </a:lnTo>
                  <a:lnTo>
                    <a:pt x="347" y="464"/>
                  </a:lnTo>
                  <a:lnTo>
                    <a:pt x="231" y="464"/>
                  </a:lnTo>
                  <a:lnTo>
                    <a:pt x="116" y="348"/>
                  </a:lnTo>
                  <a:lnTo>
                    <a:pt x="116" y="348"/>
                  </a:lnTo>
                  <a:lnTo>
                    <a:pt x="0" y="348"/>
                  </a:lnTo>
                  <a:lnTo>
                    <a:pt x="0" y="232"/>
                  </a:lnTo>
                  <a:lnTo>
                    <a:pt x="0" y="232"/>
                  </a:lnTo>
                  <a:lnTo>
                    <a:pt x="0" y="116"/>
                  </a:lnTo>
                  <a:lnTo>
                    <a:pt x="0" y="116"/>
                  </a:lnTo>
                  <a:lnTo>
                    <a:pt x="0" y="0"/>
                  </a:lnTo>
                  <a:lnTo>
                    <a:pt x="0" y="0"/>
                  </a:lnTo>
                  <a:lnTo>
                    <a:pt x="0" y="0"/>
                  </a:lnTo>
                  <a:lnTo>
                    <a:pt x="0" y="0"/>
                  </a:lnTo>
                  <a:lnTo>
                    <a:pt x="116" y="0"/>
                  </a:lnTo>
                  <a:lnTo>
                    <a:pt x="116" y="0"/>
                  </a:lnTo>
                  <a:lnTo>
                    <a:pt x="116" y="0"/>
                  </a:lnTo>
                  <a:lnTo>
                    <a:pt x="116" y="0"/>
                  </a:lnTo>
                  <a:lnTo>
                    <a:pt x="116" y="0"/>
                  </a:lnTo>
                  <a:lnTo>
                    <a:pt x="463" y="0"/>
                  </a:lnTo>
                  <a:lnTo>
                    <a:pt x="694" y="116"/>
                  </a:lnTo>
                  <a:lnTo>
                    <a:pt x="926" y="348"/>
                  </a:lnTo>
                  <a:lnTo>
                    <a:pt x="1041" y="464"/>
                  </a:lnTo>
                  <a:lnTo>
                    <a:pt x="1273" y="695"/>
                  </a:lnTo>
                  <a:lnTo>
                    <a:pt x="1389" y="927"/>
                  </a:lnTo>
                  <a:lnTo>
                    <a:pt x="1504" y="1158"/>
                  </a:lnTo>
                  <a:lnTo>
                    <a:pt x="1620" y="1390"/>
                  </a:lnTo>
                  <a:lnTo>
                    <a:pt x="1620" y="1390"/>
                  </a:lnTo>
                  <a:lnTo>
                    <a:pt x="1620" y="1390"/>
                  </a:lnTo>
                  <a:lnTo>
                    <a:pt x="1620" y="1390"/>
                  </a:lnTo>
                  <a:lnTo>
                    <a:pt x="1620"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1874520" y="3254400"/>
              <a:ext cx="74160" cy="192600"/>
            </a:xfrm>
            <a:custGeom>
              <a:avLst/>
              <a:gdLst/>
              <a:ahLst/>
              <a:rect l="l" t="t" r="r" b="b"/>
              <a:pathLst>
                <a:path w="2083" h="3590">
                  <a:moveTo>
                    <a:pt x="2083" y="1390"/>
                  </a:moveTo>
                  <a:lnTo>
                    <a:pt x="2083" y="1737"/>
                  </a:lnTo>
                  <a:lnTo>
                    <a:pt x="2083" y="1969"/>
                  </a:lnTo>
                  <a:lnTo>
                    <a:pt x="2083" y="2200"/>
                  </a:lnTo>
                  <a:lnTo>
                    <a:pt x="2083" y="2548"/>
                  </a:lnTo>
                  <a:lnTo>
                    <a:pt x="1967" y="2779"/>
                  </a:lnTo>
                  <a:lnTo>
                    <a:pt x="1967" y="3011"/>
                  </a:lnTo>
                  <a:lnTo>
                    <a:pt x="1852" y="3243"/>
                  </a:lnTo>
                  <a:lnTo>
                    <a:pt x="1620" y="3474"/>
                  </a:lnTo>
                  <a:lnTo>
                    <a:pt x="1620" y="3474"/>
                  </a:lnTo>
                  <a:lnTo>
                    <a:pt x="1620" y="3474"/>
                  </a:lnTo>
                  <a:lnTo>
                    <a:pt x="1504" y="3474"/>
                  </a:lnTo>
                  <a:lnTo>
                    <a:pt x="1389" y="3474"/>
                  </a:lnTo>
                  <a:lnTo>
                    <a:pt x="1273" y="3590"/>
                  </a:lnTo>
                  <a:lnTo>
                    <a:pt x="1273" y="3590"/>
                  </a:lnTo>
                  <a:lnTo>
                    <a:pt x="1157" y="3590"/>
                  </a:lnTo>
                  <a:lnTo>
                    <a:pt x="1041" y="3590"/>
                  </a:lnTo>
                  <a:lnTo>
                    <a:pt x="1041" y="3474"/>
                  </a:lnTo>
                  <a:lnTo>
                    <a:pt x="1041" y="3474"/>
                  </a:lnTo>
                  <a:lnTo>
                    <a:pt x="1157" y="3358"/>
                  </a:lnTo>
                  <a:lnTo>
                    <a:pt x="1273" y="3243"/>
                  </a:lnTo>
                  <a:lnTo>
                    <a:pt x="1389" y="3011"/>
                  </a:lnTo>
                  <a:lnTo>
                    <a:pt x="1504" y="2895"/>
                  </a:lnTo>
                  <a:lnTo>
                    <a:pt x="1504" y="2664"/>
                  </a:lnTo>
                  <a:lnTo>
                    <a:pt x="1620" y="2432"/>
                  </a:lnTo>
                  <a:lnTo>
                    <a:pt x="1620" y="2200"/>
                  </a:lnTo>
                  <a:lnTo>
                    <a:pt x="1620" y="1969"/>
                  </a:lnTo>
                  <a:lnTo>
                    <a:pt x="1620" y="1969"/>
                  </a:lnTo>
                  <a:lnTo>
                    <a:pt x="1620" y="1853"/>
                  </a:lnTo>
                  <a:lnTo>
                    <a:pt x="1620" y="1621"/>
                  </a:lnTo>
                  <a:lnTo>
                    <a:pt x="1504" y="1390"/>
                  </a:lnTo>
                  <a:lnTo>
                    <a:pt x="1389" y="1274"/>
                  </a:lnTo>
                  <a:lnTo>
                    <a:pt x="1273" y="1042"/>
                  </a:lnTo>
                  <a:lnTo>
                    <a:pt x="1157" y="811"/>
                  </a:lnTo>
                  <a:lnTo>
                    <a:pt x="1041" y="695"/>
                  </a:lnTo>
                  <a:lnTo>
                    <a:pt x="810" y="463"/>
                  </a:lnTo>
                  <a:lnTo>
                    <a:pt x="810" y="463"/>
                  </a:lnTo>
                  <a:lnTo>
                    <a:pt x="694" y="463"/>
                  </a:lnTo>
                  <a:lnTo>
                    <a:pt x="579" y="347"/>
                  </a:lnTo>
                  <a:lnTo>
                    <a:pt x="463" y="347"/>
                  </a:lnTo>
                  <a:lnTo>
                    <a:pt x="347" y="463"/>
                  </a:lnTo>
                  <a:lnTo>
                    <a:pt x="231" y="463"/>
                  </a:lnTo>
                  <a:lnTo>
                    <a:pt x="116" y="347"/>
                  </a:lnTo>
                  <a:lnTo>
                    <a:pt x="0" y="347"/>
                  </a:lnTo>
                  <a:lnTo>
                    <a:pt x="0" y="116"/>
                  </a:lnTo>
                  <a:lnTo>
                    <a:pt x="0" y="116"/>
                  </a:lnTo>
                  <a:lnTo>
                    <a:pt x="347" y="0"/>
                  </a:lnTo>
                  <a:lnTo>
                    <a:pt x="579" y="0"/>
                  </a:lnTo>
                  <a:lnTo>
                    <a:pt x="926" y="116"/>
                  </a:lnTo>
                  <a:lnTo>
                    <a:pt x="1157" y="347"/>
                  </a:lnTo>
                  <a:lnTo>
                    <a:pt x="1389" y="579"/>
                  </a:lnTo>
                  <a:lnTo>
                    <a:pt x="1620" y="811"/>
                  </a:lnTo>
                  <a:lnTo>
                    <a:pt x="1852" y="1158"/>
                  </a:lnTo>
                  <a:lnTo>
                    <a:pt x="2083" y="1390"/>
                  </a:lnTo>
                  <a:lnTo>
                    <a:pt x="2083" y="1390"/>
                  </a:lnTo>
                  <a:lnTo>
                    <a:pt x="2083" y="1390"/>
                  </a:lnTo>
                  <a:lnTo>
                    <a:pt x="2083" y="1390"/>
                  </a:lnTo>
                  <a:lnTo>
                    <a:pt x="2083"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1940760" y="3260880"/>
              <a:ext cx="70200" cy="173880"/>
            </a:xfrm>
            <a:custGeom>
              <a:avLst/>
              <a:gdLst/>
              <a:ahLst/>
              <a:rect l="l" t="t" r="r" b="b"/>
              <a:pathLst>
                <a:path w="1967" h="3242">
                  <a:moveTo>
                    <a:pt x="1388" y="463"/>
                  </a:moveTo>
                  <a:lnTo>
                    <a:pt x="1620" y="695"/>
                  </a:lnTo>
                  <a:lnTo>
                    <a:pt x="1736" y="810"/>
                  </a:lnTo>
                  <a:lnTo>
                    <a:pt x="1851" y="1042"/>
                  </a:lnTo>
                  <a:lnTo>
                    <a:pt x="1967" y="1274"/>
                  </a:lnTo>
                  <a:lnTo>
                    <a:pt x="1967" y="1621"/>
                  </a:lnTo>
                  <a:lnTo>
                    <a:pt x="1967" y="1853"/>
                  </a:lnTo>
                  <a:lnTo>
                    <a:pt x="1967" y="2084"/>
                  </a:lnTo>
                  <a:lnTo>
                    <a:pt x="1967" y="2316"/>
                  </a:lnTo>
                  <a:lnTo>
                    <a:pt x="1967" y="2316"/>
                  </a:lnTo>
                  <a:lnTo>
                    <a:pt x="1851" y="2548"/>
                  </a:lnTo>
                  <a:lnTo>
                    <a:pt x="1851" y="2663"/>
                  </a:lnTo>
                  <a:lnTo>
                    <a:pt x="1736" y="2779"/>
                  </a:lnTo>
                  <a:lnTo>
                    <a:pt x="1620" y="2895"/>
                  </a:lnTo>
                  <a:lnTo>
                    <a:pt x="1620" y="3011"/>
                  </a:lnTo>
                  <a:lnTo>
                    <a:pt x="1504" y="3127"/>
                  </a:lnTo>
                  <a:lnTo>
                    <a:pt x="1388" y="3242"/>
                  </a:lnTo>
                  <a:lnTo>
                    <a:pt x="1273" y="3242"/>
                  </a:lnTo>
                  <a:lnTo>
                    <a:pt x="1273" y="3242"/>
                  </a:lnTo>
                  <a:lnTo>
                    <a:pt x="1273" y="3011"/>
                  </a:lnTo>
                  <a:lnTo>
                    <a:pt x="1388" y="2663"/>
                  </a:lnTo>
                  <a:lnTo>
                    <a:pt x="1504" y="2316"/>
                  </a:lnTo>
                  <a:lnTo>
                    <a:pt x="1620" y="1969"/>
                  </a:lnTo>
                  <a:lnTo>
                    <a:pt x="1620" y="1621"/>
                  </a:lnTo>
                  <a:lnTo>
                    <a:pt x="1620" y="1274"/>
                  </a:lnTo>
                  <a:lnTo>
                    <a:pt x="1504" y="926"/>
                  </a:lnTo>
                  <a:lnTo>
                    <a:pt x="1273" y="695"/>
                  </a:lnTo>
                  <a:lnTo>
                    <a:pt x="1273" y="695"/>
                  </a:lnTo>
                  <a:lnTo>
                    <a:pt x="1157" y="579"/>
                  </a:lnTo>
                  <a:lnTo>
                    <a:pt x="925" y="579"/>
                  </a:lnTo>
                  <a:lnTo>
                    <a:pt x="810" y="463"/>
                  </a:lnTo>
                  <a:lnTo>
                    <a:pt x="578" y="463"/>
                  </a:lnTo>
                  <a:lnTo>
                    <a:pt x="463" y="463"/>
                  </a:lnTo>
                  <a:lnTo>
                    <a:pt x="231" y="463"/>
                  </a:lnTo>
                  <a:lnTo>
                    <a:pt x="115" y="347"/>
                  </a:lnTo>
                  <a:lnTo>
                    <a:pt x="0" y="231"/>
                  </a:lnTo>
                  <a:lnTo>
                    <a:pt x="0" y="231"/>
                  </a:lnTo>
                  <a:lnTo>
                    <a:pt x="231" y="116"/>
                  </a:lnTo>
                  <a:lnTo>
                    <a:pt x="347" y="0"/>
                  </a:lnTo>
                  <a:lnTo>
                    <a:pt x="578" y="0"/>
                  </a:lnTo>
                  <a:lnTo>
                    <a:pt x="810" y="0"/>
                  </a:lnTo>
                  <a:lnTo>
                    <a:pt x="925" y="116"/>
                  </a:lnTo>
                  <a:lnTo>
                    <a:pt x="1157" y="231"/>
                  </a:lnTo>
                  <a:lnTo>
                    <a:pt x="1273" y="347"/>
                  </a:lnTo>
                  <a:lnTo>
                    <a:pt x="1388" y="463"/>
                  </a:lnTo>
                  <a:lnTo>
                    <a:pt x="1388" y="463"/>
                  </a:lnTo>
                  <a:lnTo>
                    <a:pt x="1388" y="463"/>
                  </a:lnTo>
                  <a:lnTo>
                    <a:pt x="1388" y="463"/>
                  </a:lnTo>
                  <a:lnTo>
                    <a:pt x="138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2023200" y="3297960"/>
              <a:ext cx="53640" cy="167760"/>
            </a:xfrm>
            <a:custGeom>
              <a:avLst/>
              <a:gdLst/>
              <a:ahLst/>
              <a:rect l="l" t="t" r="r" b="b"/>
              <a:pathLst>
                <a:path w="1505" h="3127">
                  <a:moveTo>
                    <a:pt x="1505" y="1158"/>
                  </a:moveTo>
                  <a:lnTo>
                    <a:pt x="1505" y="1389"/>
                  </a:lnTo>
                  <a:lnTo>
                    <a:pt x="1505" y="1737"/>
                  </a:lnTo>
                  <a:lnTo>
                    <a:pt x="1505" y="1968"/>
                  </a:lnTo>
                  <a:lnTo>
                    <a:pt x="1389" y="2316"/>
                  </a:lnTo>
                  <a:lnTo>
                    <a:pt x="1273" y="2547"/>
                  </a:lnTo>
                  <a:lnTo>
                    <a:pt x="1158" y="2779"/>
                  </a:lnTo>
                  <a:lnTo>
                    <a:pt x="926" y="2895"/>
                  </a:lnTo>
                  <a:lnTo>
                    <a:pt x="695" y="3127"/>
                  </a:lnTo>
                  <a:lnTo>
                    <a:pt x="695" y="3127"/>
                  </a:lnTo>
                  <a:lnTo>
                    <a:pt x="695" y="3127"/>
                  </a:lnTo>
                  <a:lnTo>
                    <a:pt x="695" y="3127"/>
                  </a:lnTo>
                  <a:lnTo>
                    <a:pt x="695" y="2895"/>
                  </a:lnTo>
                  <a:lnTo>
                    <a:pt x="695" y="2779"/>
                  </a:lnTo>
                  <a:lnTo>
                    <a:pt x="810" y="2663"/>
                  </a:lnTo>
                  <a:lnTo>
                    <a:pt x="810" y="2432"/>
                  </a:lnTo>
                  <a:lnTo>
                    <a:pt x="926" y="2316"/>
                  </a:lnTo>
                  <a:lnTo>
                    <a:pt x="926" y="2200"/>
                  </a:lnTo>
                  <a:lnTo>
                    <a:pt x="1042" y="1968"/>
                  </a:lnTo>
                  <a:lnTo>
                    <a:pt x="1042" y="1737"/>
                  </a:lnTo>
                  <a:lnTo>
                    <a:pt x="1042" y="1737"/>
                  </a:lnTo>
                  <a:lnTo>
                    <a:pt x="1042" y="1621"/>
                  </a:lnTo>
                  <a:lnTo>
                    <a:pt x="1042" y="1389"/>
                  </a:lnTo>
                  <a:lnTo>
                    <a:pt x="926" y="1158"/>
                  </a:lnTo>
                  <a:lnTo>
                    <a:pt x="926" y="926"/>
                  </a:lnTo>
                  <a:lnTo>
                    <a:pt x="926" y="810"/>
                  </a:lnTo>
                  <a:lnTo>
                    <a:pt x="810" y="695"/>
                  </a:lnTo>
                  <a:lnTo>
                    <a:pt x="579" y="463"/>
                  </a:lnTo>
                  <a:lnTo>
                    <a:pt x="463" y="347"/>
                  </a:lnTo>
                  <a:lnTo>
                    <a:pt x="463" y="347"/>
                  </a:lnTo>
                  <a:lnTo>
                    <a:pt x="347" y="347"/>
                  </a:lnTo>
                  <a:lnTo>
                    <a:pt x="232" y="347"/>
                  </a:lnTo>
                  <a:lnTo>
                    <a:pt x="232" y="347"/>
                  </a:lnTo>
                  <a:lnTo>
                    <a:pt x="116" y="347"/>
                  </a:lnTo>
                  <a:lnTo>
                    <a:pt x="116" y="347"/>
                  </a:lnTo>
                  <a:lnTo>
                    <a:pt x="0" y="347"/>
                  </a:lnTo>
                  <a:lnTo>
                    <a:pt x="0" y="347"/>
                  </a:lnTo>
                  <a:lnTo>
                    <a:pt x="0" y="231"/>
                  </a:lnTo>
                  <a:lnTo>
                    <a:pt x="0" y="231"/>
                  </a:lnTo>
                  <a:lnTo>
                    <a:pt x="0" y="115"/>
                  </a:lnTo>
                  <a:lnTo>
                    <a:pt x="0" y="115"/>
                  </a:lnTo>
                  <a:lnTo>
                    <a:pt x="0" y="115"/>
                  </a:lnTo>
                  <a:lnTo>
                    <a:pt x="0" y="115"/>
                  </a:lnTo>
                  <a:lnTo>
                    <a:pt x="116" y="115"/>
                  </a:lnTo>
                  <a:lnTo>
                    <a:pt x="116" y="115"/>
                  </a:lnTo>
                  <a:lnTo>
                    <a:pt x="116" y="115"/>
                  </a:lnTo>
                  <a:lnTo>
                    <a:pt x="232" y="0"/>
                  </a:lnTo>
                  <a:lnTo>
                    <a:pt x="232" y="0"/>
                  </a:lnTo>
                  <a:lnTo>
                    <a:pt x="463" y="0"/>
                  </a:lnTo>
                  <a:lnTo>
                    <a:pt x="695" y="115"/>
                  </a:lnTo>
                  <a:lnTo>
                    <a:pt x="926" y="231"/>
                  </a:lnTo>
                  <a:lnTo>
                    <a:pt x="1042" y="347"/>
                  </a:lnTo>
                  <a:lnTo>
                    <a:pt x="1158" y="579"/>
                  </a:lnTo>
                  <a:lnTo>
                    <a:pt x="1273" y="695"/>
                  </a:lnTo>
                  <a:lnTo>
                    <a:pt x="1389" y="926"/>
                  </a:lnTo>
                  <a:lnTo>
                    <a:pt x="1505" y="1158"/>
                  </a:lnTo>
                  <a:lnTo>
                    <a:pt x="1505" y="1158"/>
                  </a:lnTo>
                  <a:lnTo>
                    <a:pt x="1505" y="1158"/>
                  </a:lnTo>
                  <a:lnTo>
                    <a:pt x="1505" y="1158"/>
                  </a:lnTo>
                  <a:lnTo>
                    <a:pt x="1505"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1472760" y="3316680"/>
              <a:ext cx="852480" cy="1181160"/>
            </a:xfrm>
            <a:custGeom>
              <a:avLst/>
              <a:gdLst/>
              <a:ahLst/>
              <a:rect l="l" t="t" r="r" b="b"/>
              <a:pathLst>
                <a:path w="23841" h="22004">
                  <a:moveTo>
                    <a:pt x="4050" y="116"/>
                  </a:moveTo>
                  <a:lnTo>
                    <a:pt x="4050" y="232"/>
                  </a:lnTo>
                  <a:lnTo>
                    <a:pt x="3935" y="348"/>
                  </a:lnTo>
                  <a:lnTo>
                    <a:pt x="3935" y="463"/>
                  </a:lnTo>
                  <a:lnTo>
                    <a:pt x="3935" y="579"/>
                  </a:lnTo>
                  <a:lnTo>
                    <a:pt x="3935" y="695"/>
                  </a:lnTo>
                  <a:lnTo>
                    <a:pt x="3935" y="811"/>
                  </a:lnTo>
                  <a:lnTo>
                    <a:pt x="4050" y="927"/>
                  </a:lnTo>
                  <a:lnTo>
                    <a:pt x="4050" y="1042"/>
                  </a:lnTo>
                  <a:lnTo>
                    <a:pt x="4050" y="1042"/>
                  </a:lnTo>
                  <a:lnTo>
                    <a:pt x="4166" y="1158"/>
                  </a:lnTo>
                  <a:lnTo>
                    <a:pt x="4166" y="1274"/>
                  </a:lnTo>
                  <a:lnTo>
                    <a:pt x="4282" y="1274"/>
                  </a:lnTo>
                  <a:lnTo>
                    <a:pt x="4398" y="1274"/>
                  </a:lnTo>
                  <a:lnTo>
                    <a:pt x="4398" y="1274"/>
                  </a:lnTo>
                  <a:lnTo>
                    <a:pt x="4513" y="1274"/>
                  </a:lnTo>
                  <a:lnTo>
                    <a:pt x="4629" y="1274"/>
                  </a:lnTo>
                  <a:lnTo>
                    <a:pt x="4745" y="1274"/>
                  </a:lnTo>
                  <a:lnTo>
                    <a:pt x="4745" y="1274"/>
                  </a:lnTo>
                  <a:lnTo>
                    <a:pt x="4861" y="1158"/>
                  </a:lnTo>
                  <a:lnTo>
                    <a:pt x="4976" y="1042"/>
                  </a:lnTo>
                  <a:lnTo>
                    <a:pt x="5092" y="927"/>
                  </a:lnTo>
                  <a:lnTo>
                    <a:pt x="5208" y="695"/>
                  </a:lnTo>
                  <a:lnTo>
                    <a:pt x="5324" y="579"/>
                  </a:lnTo>
                  <a:lnTo>
                    <a:pt x="5439" y="463"/>
                  </a:lnTo>
                  <a:lnTo>
                    <a:pt x="5439" y="348"/>
                  </a:lnTo>
                  <a:lnTo>
                    <a:pt x="5439" y="116"/>
                  </a:lnTo>
                  <a:lnTo>
                    <a:pt x="5439" y="116"/>
                  </a:lnTo>
                  <a:lnTo>
                    <a:pt x="5786" y="232"/>
                  </a:lnTo>
                  <a:lnTo>
                    <a:pt x="5786" y="232"/>
                  </a:lnTo>
                  <a:lnTo>
                    <a:pt x="5671" y="348"/>
                  </a:lnTo>
                  <a:lnTo>
                    <a:pt x="5439" y="463"/>
                  </a:lnTo>
                  <a:lnTo>
                    <a:pt x="5439" y="579"/>
                  </a:lnTo>
                  <a:lnTo>
                    <a:pt x="5324" y="811"/>
                  </a:lnTo>
                  <a:lnTo>
                    <a:pt x="5324" y="927"/>
                  </a:lnTo>
                  <a:lnTo>
                    <a:pt x="5324" y="1158"/>
                  </a:lnTo>
                  <a:lnTo>
                    <a:pt x="5439" y="1390"/>
                  </a:lnTo>
                  <a:lnTo>
                    <a:pt x="5439" y="1506"/>
                  </a:lnTo>
                  <a:lnTo>
                    <a:pt x="5439" y="1506"/>
                  </a:lnTo>
                  <a:lnTo>
                    <a:pt x="5555" y="1737"/>
                  </a:lnTo>
                  <a:lnTo>
                    <a:pt x="5671" y="1737"/>
                  </a:lnTo>
                  <a:lnTo>
                    <a:pt x="5786" y="1853"/>
                  </a:lnTo>
                  <a:lnTo>
                    <a:pt x="5902" y="1853"/>
                  </a:lnTo>
                  <a:lnTo>
                    <a:pt x="6018" y="1853"/>
                  </a:lnTo>
                  <a:lnTo>
                    <a:pt x="6249" y="1853"/>
                  </a:lnTo>
                  <a:lnTo>
                    <a:pt x="6365" y="1853"/>
                  </a:lnTo>
                  <a:lnTo>
                    <a:pt x="6481" y="1737"/>
                  </a:lnTo>
                  <a:lnTo>
                    <a:pt x="6481" y="1737"/>
                  </a:lnTo>
                  <a:lnTo>
                    <a:pt x="6712" y="1737"/>
                  </a:lnTo>
                  <a:lnTo>
                    <a:pt x="6828" y="1621"/>
                  </a:lnTo>
                  <a:lnTo>
                    <a:pt x="6944" y="1390"/>
                  </a:lnTo>
                  <a:lnTo>
                    <a:pt x="7060" y="1274"/>
                  </a:lnTo>
                  <a:lnTo>
                    <a:pt x="7175" y="1042"/>
                  </a:lnTo>
                  <a:lnTo>
                    <a:pt x="7291" y="927"/>
                  </a:lnTo>
                  <a:lnTo>
                    <a:pt x="7291" y="695"/>
                  </a:lnTo>
                  <a:lnTo>
                    <a:pt x="7522" y="579"/>
                  </a:lnTo>
                  <a:lnTo>
                    <a:pt x="7522" y="579"/>
                  </a:lnTo>
                  <a:lnTo>
                    <a:pt x="7522" y="579"/>
                  </a:lnTo>
                  <a:lnTo>
                    <a:pt x="7522" y="579"/>
                  </a:lnTo>
                  <a:lnTo>
                    <a:pt x="7522" y="579"/>
                  </a:lnTo>
                  <a:lnTo>
                    <a:pt x="7638" y="695"/>
                  </a:lnTo>
                  <a:lnTo>
                    <a:pt x="7638" y="695"/>
                  </a:lnTo>
                  <a:lnTo>
                    <a:pt x="7638" y="695"/>
                  </a:lnTo>
                  <a:lnTo>
                    <a:pt x="7754" y="695"/>
                  </a:lnTo>
                  <a:lnTo>
                    <a:pt x="7754" y="695"/>
                  </a:lnTo>
                  <a:lnTo>
                    <a:pt x="7754" y="695"/>
                  </a:lnTo>
                  <a:lnTo>
                    <a:pt x="7638" y="695"/>
                  </a:lnTo>
                  <a:lnTo>
                    <a:pt x="7522" y="811"/>
                  </a:lnTo>
                  <a:lnTo>
                    <a:pt x="7407" y="1042"/>
                  </a:lnTo>
                  <a:lnTo>
                    <a:pt x="7407" y="1158"/>
                  </a:lnTo>
                  <a:lnTo>
                    <a:pt x="7291" y="1274"/>
                  </a:lnTo>
                  <a:lnTo>
                    <a:pt x="7291" y="1390"/>
                  </a:lnTo>
                  <a:lnTo>
                    <a:pt x="7291" y="1506"/>
                  </a:lnTo>
                  <a:lnTo>
                    <a:pt x="7291" y="1621"/>
                  </a:lnTo>
                  <a:lnTo>
                    <a:pt x="7291" y="1621"/>
                  </a:lnTo>
                  <a:lnTo>
                    <a:pt x="7407" y="1737"/>
                  </a:lnTo>
                  <a:lnTo>
                    <a:pt x="7407" y="1969"/>
                  </a:lnTo>
                  <a:lnTo>
                    <a:pt x="7407" y="2085"/>
                  </a:lnTo>
                  <a:lnTo>
                    <a:pt x="7522" y="2200"/>
                  </a:lnTo>
                  <a:lnTo>
                    <a:pt x="7522" y="2316"/>
                  </a:lnTo>
                  <a:lnTo>
                    <a:pt x="7638" y="2316"/>
                  </a:lnTo>
                  <a:lnTo>
                    <a:pt x="7754" y="2432"/>
                  </a:lnTo>
                  <a:lnTo>
                    <a:pt x="7870" y="2432"/>
                  </a:lnTo>
                  <a:lnTo>
                    <a:pt x="7870" y="2432"/>
                  </a:lnTo>
                  <a:lnTo>
                    <a:pt x="8101" y="2432"/>
                  </a:lnTo>
                  <a:lnTo>
                    <a:pt x="8217" y="2432"/>
                  </a:lnTo>
                  <a:lnTo>
                    <a:pt x="8333" y="2316"/>
                  </a:lnTo>
                  <a:lnTo>
                    <a:pt x="8448" y="2200"/>
                  </a:lnTo>
                  <a:lnTo>
                    <a:pt x="8564" y="2200"/>
                  </a:lnTo>
                  <a:lnTo>
                    <a:pt x="8564" y="2085"/>
                  </a:lnTo>
                  <a:lnTo>
                    <a:pt x="8680" y="1969"/>
                  </a:lnTo>
                  <a:lnTo>
                    <a:pt x="8911" y="1969"/>
                  </a:lnTo>
                  <a:lnTo>
                    <a:pt x="8911" y="1969"/>
                  </a:lnTo>
                  <a:lnTo>
                    <a:pt x="8911" y="1853"/>
                  </a:lnTo>
                  <a:lnTo>
                    <a:pt x="8911" y="1737"/>
                  </a:lnTo>
                  <a:lnTo>
                    <a:pt x="9027" y="1737"/>
                  </a:lnTo>
                  <a:lnTo>
                    <a:pt x="9143" y="1621"/>
                  </a:lnTo>
                  <a:lnTo>
                    <a:pt x="9258" y="1506"/>
                  </a:lnTo>
                  <a:lnTo>
                    <a:pt x="9374" y="1390"/>
                  </a:lnTo>
                  <a:lnTo>
                    <a:pt x="9374" y="1274"/>
                  </a:lnTo>
                  <a:lnTo>
                    <a:pt x="9490" y="1158"/>
                  </a:lnTo>
                  <a:lnTo>
                    <a:pt x="9490" y="1158"/>
                  </a:lnTo>
                  <a:lnTo>
                    <a:pt x="9837" y="1274"/>
                  </a:lnTo>
                  <a:lnTo>
                    <a:pt x="9837" y="1274"/>
                  </a:lnTo>
                  <a:lnTo>
                    <a:pt x="9837" y="1390"/>
                  </a:lnTo>
                  <a:lnTo>
                    <a:pt x="9721" y="1621"/>
                  </a:lnTo>
                  <a:lnTo>
                    <a:pt x="9721" y="1853"/>
                  </a:lnTo>
                  <a:lnTo>
                    <a:pt x="9606" y="2085"/>
                  </a:lnTo>
                  <a:lnTo>
                    <a:pt x="9606" y="2200"/>
                  </a:lnTo>
                  <a:lnTo>
                    <a:pt x="9721" y="2432"/>
                  </a:lnTo>
                  <a:lnTo>
                    <a:pt x="9721" y="2664"/>
                  </a:lnTo>
                  <a:lnTo>
                    <a:pt x="9953" y="2780"/>
                  </a:lnTo>
                  <a:lnTo>
                    <a:pt x="9953" y="2780"/>
                  </a:lnTo>
                  <a:lnTo>
                    <a:pt x="10069" y="2780"/>
                  </a:lnTo>
                  <a:lnTo>
                    <a:pt x="10184" y="2780"/>
                  </a:lnTo>
                  <a:lnTo>
                    <a:pt x="10300" y="2780"/>
                  </a:lnTo>
                  <a:lnTo>
                    <a:pt x="10531" y="2780"/>
                  </a:lnTo>
                  <a:lnTo>
                    <a:pt x="10647" y="2780"/>
                  </a:lnTo>
                  <a:lnTo>
                    <a:pt x="10763" y="2664"/>
                  </a:lnTo>
                  <a:lnTo>
                    <a:pt x="10763" y="2548"/>
                  </a:lnTo>
                  <a:lnTo>
                    <a:pt x="10879" y="2432"/>
                  </a:lnTo>
                  <a:lnTo>
                    <a:pt x="10879" y="2432"/>
                  </a:lnTo>
                  <a:lnTo>
                    <a:pt x="10763" y="2432"/>
                  </a:lnTo>
                  <a:lnTo>
                    <a:pt x="10763" y="2432"/>
                  </a:lnTo>
                  <a:lnTo>
                    <a:pt x="10994" y="2316"/>
                  </a:lnTo>
                  <a:lnTo>
                    <a:pt x="11110" y="2200"/>
                  </a:lnTo>
                  <a:lnTo>
                    <a:pt x="11226" y="1969"/>
                  </a:lnTo>
                  <a:lnTo>
                    <a:pt x="11342" y="1737"/>
                  </a:lnTo>
                  <a:lnTo>
                    <a:pt x="11457" y="1506"/>
                  </a:lnTo>
                  <a:lnTo>
                    <a:pt x="11689" y="1506"/>
                  </a:lnTo>
                  <a:lnTo>
                    <a:pt x="11805" y="1506"/>
                  </a:lnTo>
                  <a:lnTo>
                    <a:pt x="12036" y="1621"/>
                  </a:lnTo>
                  <a:lnTo>
                    <a:pt x="12036" y="1621"/>
                  </a:lnTo>
                  <a:lnTo>
                    <a:pt x="12036" y="1737"/>
                  </a:lnTo>
                  <a:lnTo>
                    <a:pt x="11920" y="1969"/>
                  </a:lnTo>
                  <a:lnTo>
                    <a:pt x="11920" y="2085"/>
                  </a:lnTo>
                  <a:lnTo>
                    <a:pt x="11805" y="2200"/>
                  </a:lnTo>
                  <a:lnTo>
                    <a:pt x="11805" y="2432"/>
                  </a:lnTo>
                  <a:lnTo>
                    <a:pt x="11805" y="2548"/>
                  </a:lnTo>
                  <a:lnTo>
                    <a:pt x="11920" y="2780"/>
                  </a:lnTo>
                  <a:lnTo>
                    <a:pt x="12036" y="2895"/>
                  </a:lnTo>
                  <a:lnTo>
                    <a:pt x="12036" y="2895"/>
                  </a:lnTo>
                  <a:lnTo>
                    <a:pt x="12152" y="3011"/>
                  </a:lnTo>
                  <a:lnTo>
                    <a:pt x="12267" y="3127"/>
                  </a:lnTo>
                  <a:lnTo>
                    <a:pt x="12383" y="3127"/>
                  </a:lnTo>
                  <a:lnTo>
                    <a:pt x="12499" y="3127"/>
                  </a:lnTo>
                  <a:lnTo>
                    <a:pt x="12615" y="3127"/>
                  </a:lnTo>
                  <a:lnTo>
                    <a:pt x="12730" y="3127"/>
                  </a:lnTo>
                  <a:lnTo>
                    <a:pt x="12846" y="3011"/>
                  </a:lnTo>
                  <a:lnTo>
                    <a:pt x="12962" y="3011"/>
                  </a:lnTo>
                  <a:lnTo>
                    <a:pt x="12962" y="3011"/>
                  </a:lnTo>
                  <a:lnTo>
                    <a:pt x="12846" y="2780"/>
                  </a:lnTo>
                  <a:lnTo>
                    <a:pt x="12962" y="2664"/>
                  </a:lnTo>
                  <a:lnTo>
                    <a:pt x="13078" y="2548"/>
                  </a:lnTo>
                  <a:lnTo>
                    <a:pt x="13193" y="2432"/>
                  </a:lnTo>
                  <a:lnTo>
                    <a:pt x="13309" y="2316"/>
                  </a:lnTo>
                  <a:lnTo>
                    <a:pt x="13425" y="2200"/>
                  </a:lnTo>
                  <a:lnTo>
                    <a:pt x="13541" y="2085"/>
                  </a:lnTo>
                  <a:lnTo>
                    <a:pt x="13656" y="1969"/>
                  </a:lnTo>
                  <a:lnTo>
                    <a:pt x="13656" y="1969"/>
                  </a:lnTo>
                  <a:lnTo>
                    <a:pt x="13772" y="1969"/>
                  </a:lnTo>
                  <a:lnTo>
                    <a:pt x="13772" y="1969"/>
                  </a:lnTo>
                  <a:lnTo>
                    <a:pt x="13772" y="2085"/>
                  </a:lnTo>
                  <a:lnTo>
                    <a:pt x="13772" y="2316"/>
                  </a:lnTo>
                  <a:lnTo>
                    <a:pt x="13772" y="2432"/>
                  </a:lnTo>
                  <a:lnTo>
                    <a:pt x="13656" y="2664"/>
                  </a:lnTo>
                  <a:lnTo>
                    <a:pt x="13772" y="2780"/>
                  </a:lnTo>
                  <a:lnTo>
                    <a:pt x="13772" y="2895"/>
                  </a:lnTo>
                  <a:lnTo>
                    <a:pt x="13888" y="3127"/>
                  </a:lnTo>
                  <a:lnTo>
                    <a:pt x="14003" y="3127"/>
                  </a:lnTo>
                  <a:lnTo>
                    <a:pt x="14003" y="3127"/>
                  </a:lnTo>
                  <a:lnTo>
                    <a:pt x="14119" y="3127"/>
                  </a:lnTo>
                  <a:lnTo>
                    <a:pt x="14235" y="3127"/>
                  </a:lnTo>
                  <a:lnTo>
                    <a:pt x="14351" y="3127"/>
                  </a:lnTo>
                  <a:lnTo>
                    <a:pt x="14466" y="3127"/>
                  </a:lnTo>
                  <a:lnTo>
                    <a:pt x="14582" y="3011"/>
                  </a:lnTo>
                  <a:lnTo>
                    <a:pt x="14582" y="3011"/>
                  </a:lnTo>
                  <a:lnTo>
                    <a:pt x="14698" y="2895"/>
                  </a:lnTo>
                  <a:lnTo>
                    <a:pt x="14814" y="2780"/>
                  </a:lnTo>
                  <a:lnTo>
                    <a:pt x="14814" y="2780"/>
                  </a:lnTo>
                  <a:lnTo>
                    <a:pt x="14814" y="2664"/>
                  </a:lnTo>
                  <a:lnTo>
                    <a:pt x="14814" y="2664"/>
                  </a:lnTo>
                  <a:lnTo>
                    <a:pt x="14814" y="2548"/>
                  </a:lnTo>
                  <a:lnTo>
                    <a:pt x="14929" y="2432"/>
                  </a:lnTo>
                  <a:lnTo>
                    <a:pt x="14929" y="2316"/>
                  </a:lnTo>
                  <a:lnTo>
                    <a:pt x="15045" y="2316"/>
                  </a:lnTo>
                  <a:lnTo>
                    <a:pt x="15045" y="2200"/>
                  </a:lnTo>
                  <a:lnTo>
                    <a:pt x="15161" y="2085"/>
                  </a:lnTo>
                  <a:lnTo>
                    <a:pt x="15161" y="2085"/>
                  </a:lnTo>
                  <a:lnTo>
                    <a:pt x="15624" y="2085"/>
                  </a:lnTo>
                  <a:lnTo>
                    <a:pt x="15624" y="2085"/>
                  </a:lnTo>
                  <a:lnTo>
                    <a:pt x="15624" y="2200"/>
                  </a:lnTo>
                  <a:lnTo>
                    <a:pt x="15508" y="2432"/>
                  </a:lnTo>
                  <a:lnTo>
                    <a:pt x="15508" y="2548"/>
                  </a:lnTo>
                  <a:lnTo>
                    <a:pt x="15508" y="2664"/>
                  </a:lnTo>
                  <a:lnTo>
                    <a:pt x="15508" y="2780"/>
                  </a:lnTo>
                  <a:lnTo>
                    <a:pt x="15508" y="2895"/>
                  </a:lnTo>
                  <a:lnTo>
                    <a:pt x="15624" y="3011"/>
                  </a:lnTo>
                  <a:lnTo>
                    <a:pt x="15739" y="3127"/>
                  </a:lnTo>
                  <a:lnTo>
                    <a:pt x="15739" y="3127"/>
                  </a:lnTo>
                  <a:lnTo>
                    <a:pt x="15739" y="3243"/>
                  </a:lnTo>
                  <a:lnTo>
                    <a:pt x="15855" y="3243"/>
                  </a:lnTo>
                  <a:lnTo>
                    <a:pt x="15855" y="3243"/>
                  </a:lnTo>
                  <a:lnTo>
                    <a:pt x="15971" y="3359"/>
                  </a:lnTo>
                  <a:lnTo>
                    <a:pt x="16087" y="3359"/>
                  </a:lnTo>
                  <a:lnTo>
                    <a:pt x="16202" y="3359"/>
                  </a:lnTo>
                  <a:lnTo>
                    <a:pt x="16202" y="3359"/>
                  </a:lnTo>
                  <a:lnTo>
                    <a:pt x="16318" y="3359"/>
                  </a:lnTo>
                  <a:lnTo>
                    <a:pt x="16318" y="3359"/>
                  </a:lnTo>
                  <a:lnTo>
                    <a:pt x="16550" y="3243"/>
                  </a:lnTo>
                  <a:lnTo>
                    <a:pt x="16665" y="3011"/>
                  </a:lnTo>
                  <a:lnTo>
                    <a:pt x="16781" y="2895"/>
                  </a:lnTo>
                  <a:lnTo>
                    <a:pt x="17012" y="2664"/>
                  </a:lnTo>
                  <a:lnTo>
                    <a:pt x="17128" y="2432"/>
                  </a:lnTo>
                  <a:lnTo>
                    <a:pt x="17244" y="2316"/>
                  </a:lnTo>
                  <a:lnTo>
                    <a:pt x="17475" y="2316"/>
                  </a:lnTo>
                  <a:lnTo>
                    <a:pt x="17823" y="2432"/>
                  </a:lnTo>
                  <a:lnTo>
                    <a:pt x="17823" y="2432"/>
                  </a:lnTo>
                  <a:lnTo>
                    <a:pt x="17823" y="2548"/>
                  </a:lnTo>
                  <a:lnTo>
                    <a:pt x="17707" y="2664"/>
                  </a:lnTo>
                  <a:lnTo>
                    <a:pt x="17707" y="2780"/>
                  </a:lnTo>
                  <a:lnTo>
                    <a:pt x="17591" y="2895"/>
                  </a:lnTo>
                  <a:lnTo>
                    <a:pt x="17591" y="3011"/>
                  </a:lnTo>
                  <a:lnTo>
                    <a:pt x="17475" y="3127"/>
                  </a:lnTo>
                  <a:lnTo>
                    <a:pt x="17475" y="3243"/>
                  </a:lnTo>
                  <a:lnTo>
                    <a:pt x="17591" y="3474"/>
                  </a:lnTo>
                  <a:lnTo>
                    <a:pt x="17591" y="3474"/>
                  </a:lnTo>
                  <a:lnTo>
                    <a:pt x="17591" y="3474"/>
                  </a:lnTo>
                  <a:lnTo>
                    <a:pt x="17707" y="3590"/>
                  </a:lnTo>
                  <a:lnTo>
                    <a:pt x="17707" y="3590"/>
                  </a:lnTo>
                  <a:lnTo>
                    <a:pt x="17823" y="3706"/>
                  </a:lnTo>
                  <a:lnTo>
                    <a:pt x="17938" y="3706"/>
                  </a:lnTo>
                  <a:lnTo>
                    <a:pt x="18054" y="3706"/>
                  </a:lnTo>
                  <a:lnTo>
                    <a:pt x="18170" y="3706"/>
                  </a:lnTo>
                  <a:lnTo>
                    <a:pt x="18286" y="3706"/>
                  </a:lnTo>
                  <a:lnTo>
                    <a:pt x="18286" y="3706"/>
                  </a:lnTo>
                  <a:lnTo>
                    <a:pt x="18401" y="3590"/>
                  </a:lnTo>
                  <a:lnTo>
                    <a:pt x="18517" y="3474"/>
                  </a:lnTo>
                  <a:lnTo>
                    <a:pt x="18748" y="3359"/>
                  </a:lnTo>
                  <a:lnTo>
                    <a:pt x="18864" y="3243"/>
                  </a:lnTo>
                  <a:lnTo>
                    <a:pt x="18980" y="3127"/>
                  </a:lnTo>
                  <a:lnTo>
                    <a:pt x="19096" y="3011"/>
                  </a:lnTo>
                  <a:lnTo>
                    <a:pt x="19211" y="2780"/>
                  </a:lnTo>
                  <a:lnTo>
                    <a:pt x="19327" y="2664"/>
                  </a:lnTo>
                  <a:lnTo>
                    <a:pt x="19327" y="2664"/>
                  </a:lnTo>
                  <a:lnTo>
                    <a:pt x="19559" y="2664"/>
                  </a:lnTo>
                  <a:lnTo>
                    <a:pt x="19559" y="2664"/>
                  </a:lnTo>
                  <a:lnTo>
                    <a:pt x="19559" y="2780"/>
                  </a:lnTo>
                  <a:lnTo>
                    <a:pt x="19559" y="3011"/>
                  </a:lnTo>
                  <a:lnTo>
                    <a:pt x="19559" y="3127"/>
                  </a:lnTo>
                  <a:lnTo>
                    <a:pt x="19443" y="3359"/>
                  </a:lnTo>
                  <a:lnTo>
                    <a:pt x="19443" y="3474"/>
                  </a:lnTo>
                  <a:lnTo>
                    <a:pt x="19559" y="3590"/>
                  </a:lnTo>
                  <a:lnTo>
                    <a:pt x="19674" y="3706"/>
                  </a:lnTo>
                  <a:lnTo>
                    <a:pt x="19790" y="3822"/>
                  </a:lnTo>
                  <a:lnTo>
                    <a:pt x="19790" y="3822"/>
                  </a:lnTo>
                  <a:lnTo>
                    <a:pt x="19906" y="3822"/>
                  </a:lnTo>
                  <a:lnTo>
                    <a:pt x="20022" y="3822"/>
                  </a:lnTo>
                  <a:lnTo>
                    <a:pt x="20137" y="3822"/>
                  </a:lnTo>
                  <a:lnTo>
                    <a:pt x="20253" y="3822"/>
                  </a:lnTo>
                  <a:lnTo>
                    <a:pt x="20369" y="3706"/>
                  </a:lnTo>
                  <a:lnTo>
                    <a:pt x="20484" y="3706"/>
                  </a:lnTo>
                  <a:lnTo>
                    <a:pt x="20600" y="3590"/>
                  </a:lnTo>
                  <a:lnTo>
                    <a:pt x="20716" y="3590"/>
                  </a:lnTo>
                  <a:lnTo>
                    <a:pt x="20716" y="3590"/>
                  </a:lnTo>
                  <a:lnTo>
                    <a:pt x="20600" y="3474"/>
                  </a:lnTo>
                  <a:lnTo>
                    <a:pt x="20600" y="3359"/>
                  </a:lnTo>
                  <a:lnTo>
                    <a:pt x="20716" y="3243"/>
                  </a:lnTo>
                  <a:lnTo>
                    <a:pt x="20716" y="3127"/>
                  </a:lnTo>
                  <a:lnTo>
                    <a:pt x="20832" y="3127"/>
                  </a:lnTo>
                  <a:lnTo>
                    <a:pt x="20832" y="3011"/>
                  </a:lnTo>
                  <a:lnTo>
                    <a:pt x="20947" y="2895"/>
                  </a:lnTo>
                  <a:lnTo>
                    <a:pt x="20947" y="2780"/>
                  </a:lnTo>
                  <a:lnTo>
                    <a:pt x="20947" y="2780"/>
                  </a:lnTo>
                  <a:lnTo>
                    <a:pt x="20947" y="2895"/>
                  </a:lnTo>
                  <a:lnTo>
                    <a:pt x="20947" y="3011"/>
                  </a:lnTo>
                  <a:lnTo>
                    <a:pt x="20947" y="3127"/>
                  </a:lnTo>
                  <a:lnTo>
                    <a:pt x="20947" y="3359"/>
                  </a:lnTo>
                  <a:lnTo>
                    <a:pt x="20832" y="3474"/>
                  </a:lnTo>
                  <a:lnTo>
                    <a:pt x="20832" y="3590"/>
                  </a:lnTo>
                  <a:lnTo>
                    <a:pt x="20832" y="3706"/>
                  </a:lnTo>
                  <a:lnTo>
                    <a:pt x="20832" y="3822"/>
                  </a:lnTo>
                  <a:lnTo>
                    <a:pt x="20832" y="3822"/>
                  </a:lnTo>
                  <a:lnTo>
                    <a:pt x="20947" y="3938"/>
                  </a:lnTo>
                  <a:lnTo>
                    <a:pt x="20947" y="3938"/>
                  </a:lnTo>
                  <a:lnTo>
                    <a:pt x="21063" y="4053"/>
                  </a:lnTo>
                  <a:lnTo>
                    <a:pt x="21179" y="4053"/>
                  </a:lnTo>
                  <a:lnTo>
                    <a:pt x="21295" y="4053"/>
                  </a:lnTo>
                  <a:lnTo>
                    <a:pt x="21295" y="4053"/>
                  </a:lnTo>
                  <a:lnTo>
                    <a:pt x="21410" y="4053"/>
                  </a:lnTo>
                  <a:lnTo>
                    <a:pt x="21526" y="4053"/>
                  </a:lnTo>
                  <a:lnTo>
                    <a:pt x="21526" y="4053"/>
                  </a:lnTo>
                  <a:lnTo>
                    <a:pt x="21642" y="3938"/>
                  </a:lnTo>
                  <a:lnTo>
                    <a:pt x="21642" y="3822"/>
                  </a:lnTo>
                  <a:lnTo>
                    <a:pt x="21758" y="3706"/>
                  </a:lnTo>
                  <a:lnTo>
                    <a:pt x="21873" y="3590"/>
                  </a:lnTo>
                  <a:lnTo>
                    <a:pt x="21989" y="3474"/>
                  </a:lnTo>
                  <a:lnTo>
                    <a:pt x="22105" y="3359"/>
                  </a:lnTo>
                  <a:lnTo>
                    <a:pt x="22105" y="3243"/>
                  </a:lnTo>
                  <a:lnTo>
                    <a:pt x="22220" y="3011"/>
                  </a:lnTo>
                  <a:lnTo>
                    <a:pt x="22220" y="3011"/>
                  </a:lnTo>
                  <a:lnTo>
                    <a:pt x="22105" y="3127"/>
                  </a:lnTo>
                  <a:lnTo>
                    <a:pt x="22105" y="3243"/>
                  </a:lnTo>
                  <a:lnTo>
                    <a:pt x="22105" y="3359"/>
                  </a:lnTo>
                  <a:lnTo>
                    <a:pt x="22105" y="3474"/>
                  </a:lnTo>
                  <a:lnTo>
                    <a:pt x="22105" y="3590"/>
                  </a:lnTo>
                  <a:lnTo>
                    <a:pt x="22105" y="3706"/>
                  </a:lnTo>
                  <a:lnTo>
                    <a:pt x="22105" y="3822"/>
                  </a:lnTo>
                  <a:lnTo>
                    <a:pt x="22220" y="3938"/>
                  </a:lnTo>
                  <a:lnTo>
                    <a:pt x="22220" y="3938"/>
                  </a:lnTo>
                  <a:lnTo>
                    <a:pt x="22336" y="4053"/>
                  </a:lnTo>
                  <a:lnTo>
                    <a:pt x="22452" y="4169"/>
                  </a:lnTo>
                  <a:lnTo>
                    <a:pt x="22568" y="4169"/>
                  </a:lnTo>
                  <a:lnTo>
                    <a:pt x="22683" y="4053"/>
                  </a:lnTo>
                  <a:lnTo>
                    <a:pt x="22799" y="3938"/>
                  </a:lnTo>
                  <a:lnTo>
                    <a:pt x="22915" y="3822"/>
                  </a:lnTo>
                  <a:lnTo>
                    <a:pt x="23031" y="3822"/>
                  </a:lnTo>
                  <a:lnTo>
                    <a:pt x="23146" y="3822"/>
                  </a:lnTo>
                  <a:lnTo>
                    <a:pt x="23146" y="3822"/>
                  </a:lnTo>
                  <a:lnTo>
                    <a:pt x="23146" y="3938"/>
                  </a:lnTo>
                  <a:lnTo>
                    <a:pt x="23146" y="3938"/>
                  </a:lnTo>
                  <a:lnTo>
                    <a:pt x="23146" y="4053"/>
                  </a:lnTo>
                  <a:lnTo>
                    <a:pt x="23146" y="4169"/>
                  </a:lnTo>
                  <a:lnTo>
                    <a:pt x="23146" y="4285"/>
                  </a:lnTo>
                  <a:lnTo>
                    <a:pt x="23262" y="4285"/>
                  </a:lnTo>
                  <a:lnTo>
                    <a:pt x="23378" y="4401"/>
                  </a:lnTo>
                  <a:lnTo>
                    <a:pt x="23378" y="4401"/>
                  </a:lnTo>
                  <a:lnTo>
                    <a:pt x="23378" y="4401"/>
                  </a:lnTo>
                  <a:lnTo>
                    <a:pt x="23841" y="4285"/>
                  </a:lnTo>
                  <a:lnTo>
                    <a:pt x="23841" y="4285"/>
                  </a:lnTo>
                  <a:lnTo>
                    <a:pt x="23378" y="5906"/>
                  </a:lnTo>
                  <a:lnTo>
                    <a:pt x="22799" y="7528"/>
                  </a:lnTo>
                  <a:lnTo>
                    <a:pt x="22452" y="9265"/>
                  </a:lnTo>
                  <a:lnTo>
                    <a:pt x="21989" y="11002"/>
                  </a:lnTo>
                  <a:lnTo>
                    <a:pt x="21642" y="12739"/>
                  </a:lnTo>
                  <a:lnTo>
                    <a:pt x="21410" y="14476"/>
                  </a:lnTo>
                  <a:lnTo>
                    <a:pt x="21179" y="16213"/>
                  </a:lnTo>
                  <a:lnTo>
                    <a:pt x="21063" y="17951"/>
                  </a:lnTo>
                  <a:lnTo>
                    <a:pt x="21063" y="17951"/>
                  </a:lnTo>
                  <a:lnTo>
                    <a:pt x="18517" y="18414"/>
                  </a:lnTo>
                  <a:lnTo>
                    <a:pt x="15971" y="18877"/>
                  </a:lnTo>
                  <a:lnTo>
                    <a:pt x="13541" y="19456"/>
                  </a:lnTo>
                  <a:lnTo>
                    <a:pt x="11110" y="20035"/>
                  </a:lnTo>
                  <a:lnTo>
                    <a:pt x="8564" y="20614"/>
                  </a:lnTo>
                  <a:lnTo>
                    <a:pt x="6134" y="21077"/>
                  </a:lnTo>
                  <a:lnTo>
                    <a:pt x="3588" y="21656"/>
                  </a:lnTo>
                  <a:lnTo>
                    <a:pt x="926" y="22004"/>
                  </a:lnTo>
                  <a:lnTo>
                    <a:pt x="926" y="22004"/>
                  </a:lnTo>
                  <a:lnTo>
                    <a:pt x="1041" y="21888"/>
                  </a:lnTo>
                  <a:lnTo>
                    <a:pt x="1041" y="21656"/>
                  </a:lnTo>
                  <a:lnTo>
                    <a:pt x="1041" y="21541"/>
                  </a:lnTo>
                  <a:lnTo>
                    <a:pt x="1041" y="21309"/>
                  </a:lnTo>
                  <a:lnTo>
                    <a:pt x="1041" y="21193"/>
                  </a:lnTo>
                  <a:lnTo>
                    <a:pt x="926" y="20962"/>
                  </a:lnTo>
                  <a:lnTo>
                    <a:pt x="926" y="20730"/>
                  </a:lnTo>
                  <a:lnTo>
                    <a:pt x="926" y="20614"/>
                  </a:lnTo>
                  <a:lnTo>
                    <a:pt x="926" y="20614"/>
                  </a:lnTo>
                  <a:lnTo>
                    <a:pt x="810" y="20498"/>
                  </a:lnTo>
                  <a:lnTo>
                    <a:pt x="694" y="20383"/>
                  </a:lnTo>
                  <a:lnTo>
                    <a:pt x="579" y="20267"/>
                  </a:lnTo>
                  <a:lnTo>
                    <a:pt x="463" y="20267"/>
                  </a:lnTo>
                  <a:lnTo>
                    <a:pt x="347" y="20151"/>
                  </a:lnTo>
                  <a:lnTo>
                    <a:pt x="231" y="20151"/>
                  </a:lnTo>
                  <a:lnTo>
                    <a:pt x="116" y="20035"/>
                  </a:lnTo>
                  <a:lnTo>
                    <a:pt x="0" y="20035"/>
                  </a:lnTo>
                  <a:lnTo>
                    <a:pt x="0" y="20035"/>
                  </a:lnTo>
                  <a:lnTo>
                    <a:pt x="347" y="17603"/>
                  </a:lnTo>
                  <a:lnTo>
                    <a:pt x="694" y="15055"/>
                  </a:lnTo>
                  <a:lnTo>
                    <a:pt x="1273" y="12623"/>
                  </a:lnTo>
                  <a:lnTo>
                    <a:pt x="1852" y="10076"/>
                  </a:lnTo>
                  <a:lnTo>
                    <a:pt x="2430" y="7644"/>
                  </a:lnTo>
                  <a:lnTo>
                    <a:pt x="2893" y="5096"/>
                  </a:lnTo>
                  <a:lnTo>
                    <a:pt x="3472" y="2548"/>
                  </a:lnTo>
                  <a:lnTo>
                    <a:pt x="3935" y="0"/>
                  </a:lnTo>
                  <a:lnTo>
                    <a:pt x="3935" y="0"/>
                  </a:lnTo>
                  <a:lnTo>
                    <a:pt x="4050" y="116"/>
                  </a:lnTo>
                  <a:lnTo>
                    <a:pt x="4050" y="116"/>
                  </a:lnTo>
                  <a:lnTo>
                    <a:pt x="4050" y="116"/>
                  </a:lnTo>
                  <a:lnTo>
                    <a:pt x="4050" y="116"/>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1419120" y="3322800"/>
              <a:ext cx="111600" cy="845280"/>
            </a:xfrm>
            <a:custGeom>
              <a:avLst/>
              <a:gdLst/>
              <a:ahLst/>
              <a:rect l="l" t="t" r="r" b="b"/>
              <a:pathLst>
                <a:path w="3125" h="15750">
                  <a:moveTo>
                    <a:pt x="3125" y="0"/>
                  </a:moveTo>
                  <a:lnTo>
                    <a:pt x="3125" y="347"/>
                  </a:lnTo>
                  <a:lnTo>
                    <a:pt x="3125" y="811"/>
                  </a:lnTo>
                  <a:lnTo>
                    <a:pt x="3009" y="1274"/>
                  </a:lnTo>
                  <a:lnTo>
                    <a:pt x="2894" y="1737"/>
                  </a:lnTo>
                  <a:lnTo>
                    <a:pt x="2894" y="2084"/>
                  </a:lnTo>
                  <a:lnTo>
                    <a:pt x="2778" y="2548"/>
                  </a:lnTo>
                  <a:lnTo>
                    <a:pt x="2662" y="2895"/>
                  </a:lnTo>
                  <a:lnTo>
                    <a:pt x="2546" y="3358"/>
                  </a:lnTo>
                  <a:lnTo>
                    <a:pt x="2546" y="3358"/>
                  </a:lnTo>
                  <a:lnTo>
                    <a:pt x="2199" y="4748"/>
                  </a:lnTo>
                  <a:lnTo>
                    <a:pt x="1968" y="6138"/>
                  </a:lnTo>
                  <a:lnTo>
                    <a:pt x="1736" y="7528"/>
                  </a:lnTo>
                  <a:lnTo>
                    <a:pt x="1389" y="8917"/>
                  </a:lnTo>
                  <a:lnTo>
                    <a:pt x="1158" y="10307"/>
                  </a:lnTo>
                  <a:lnTo>
                    <a:pt x="926" y="11812"/>
                  </a:lnTo>
                  <a:lnTo>
                    <a:pt x="695" y="13086"/>
                  </a:lnTo>
                  <a:lnTo>
                    <a:pt x="463" y="14476"/>
                  </a:lnTo>
                  <a:lnTo>
                    <a:pt x="463" y="14476"/>
                  </a:lnTo>
                  <a:lnTo>
                    <a:pt x="348" y="14592"/>
                  </a:lnTo>
                  <a:lnTo>
                    <a:pt x="348" y="14824"/>
                  </a:lnTo>
                  <a:lnTo>
                    <a:pt x="348" y="14939"/>
                  </a:lnTo>
                  <a:lnTo>
                    <a:pt x="348" y="15055"/>
                  </a:lnTo>
                  <a:lnTo>
                    <a:pt x="232" y="15287"/>
                  </a:lnTo>
                  <a:lnTo>
                    <a:pt x="232" y="15403"/>
                  </a:lnTo>
                  <a:lnTo>
                    <a:pt x="232" y="15518"/>
                  </a:lnTo>
                  <a:lnTo>
                    <a:pt x="232" y="15750"/>
                  </a:lnTo>
                  <a:lnTo>
                    <a:pt x="232" y="15750"/>
                  </a:lnTo>
                  <a:lnTo>
                    <a:pt x="0" y="15750"/>
                  </a:lnTo>
                  <a:lnTo>
                    <a:pt x="0" y="15750"/>
                  </a:lnTo>
                  <a:lnTo>
                    <a:pt x="116" y="14824"/>
                  </a:lnTo>
                  <a:lnTo>
                    <a:pt x="348" y="14013"/>
                  </a:lnTo>
                  <a:lnTo>
                    <a:pt x="463" y="13086"/>
                  </a:lnTo>
                  <a:lnTo>
                    <a:pt x="579" y="12276"/>
                  </a:lnTo>
                  <a:lnTo>
                    <a:pt x="695" y="11349"/>
                  </a:lnTo>
                  <a:lnTo>
                    <a:pt x="810" y="10423"/>
                  </a:lnTo>
                  <a:lnTo>
                    <a:pt x="926" y="9612"/>
                  </a:lnTo>
                  <a:lnTo>
                    <a:pt x="1042" y="8686"/>
                  </a:lnTo>
                  <a:lnTo>
                    <a:pt x="1042" y="8686"/>
                  </a:lnTo>
                  <a:lnTo>
                    <a:pt x="1273" y="7643"/>
                  </a:lnTo>
                  <a:lnTo>
                    <a:pt x="1505" y="6601"/>
                  </a:lnTo>
                  <a:lnTo>
                    <a:pt x="1736" y="5559"/>
                  </a:lnTo>
                  <a:lnTo>
                    <a:pt x="1968" y="4516"/>
                  </a:lnTo>
                  <a:lnTo>
                    <a:pt x="2199" y="3358"/>
                  </a:lnTo>
                  <a:lnTo>
                    <a:pt x="2431" y="2316"/>
                  </a:lnTo>
                  <a:lnTo>
                    <a:pt x="2662" y="1274"/>
                  </a:lnTo>
                  <a:lnTo>
                    <a:pt x="2778" y="116"/>
                  </a:lnTo>
                  <a:lnTo>
                    <a:pt x="2778" y="116"/>
                  </a:lnTo>
                  <a:lnTo>
                    <a:pt x="2778" y="116"/>
                  </a:lnTo>
                  <a:lnTo>
                    <a:pt x="2894" y="0"/>
                  </a:lnTo>
                  <a:lnTo>
                    <a:pt x="2894" y="0"/>
                  </a:lnTo>
                  <a:lnTo>
                    <a:pt x="2894" y="0"/>
                  </a:lnTo>
                  <a:lnTo>
                    <a:pt x="3009" y="0"/>
                  </a:lnTo>
                  <a:lnTo>
                    <a:pt x="3009" y="0"/>
                  </a:lnTo>
                  <a:lnTo>
                    <a:pt x="3009" y="0"/>
                  </a:lnTo>
                  <a:lnTo>
                    <a:pt x="3125" y="0"/>
                  </a:lnTo>
                  <a:lnTo>
                    <a:pt x="3125" y="0"/>
                  </a:lnTo>
                  <a:lnTo>
                    <a:pt x="3125" y="0"/>
                  </a:lnTo>
                  <a:lnTo>
                    <a:pt x="3125" y="0"/>
                  </a:lnTo>
                  <a:lnTo>
                    <a:pt x="31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1440000" y="3322800"/>
              <a:ext cx="119880" cy="864000"/>
            </a:xfrm>
            <a:custGeom>
              <a:avLst/>
              <a:gdLst/>
              <a:ahLst/>
              <a:rect l="l" t="t" r="r" b="b"/>
              <a:pathLst>
                <a:path w="3356" h="16097">
                  <a:moveTo>
                    <a:pt x="3356" y="0"/>
                  </a:moveTo>
                  <a:lnTo>
                    <a:pt x="3125" y="1390"/>
                  </a:lnTo>
                  <a:lnTo>
                    <a:pt x="2893" y="2779"/>
                  </a:lnTo>
                  <a:lnTo>
                    <a:pt x="2662" y="4053"/>
                  </a:lnTo>
                  <a:lnTo>
                    <a:pt x="2315" y="5443"/>
                  </a:lnTo>
                  <a:lnTo>
                    <a:pt x="2083" y="6833"/>
                  </a:lnTo>
                  <a:lnTo>
                    <a:pt x="1736" y="8107"/>
                  </a:lnTo>
                  <a:lnTo>
                    <a:pt x="1505" y="9496"/>
                  </a:lnTo>
                  <a:lnTo>
                    <a:pt x="1273" y="10770"/>
                  </a:lnTo>
                  <a:lnTo>
                    <a:pt x="1273" y="10770"/>
                  </a:lnTo>
                  <a:lnTo>
                    <a:pt x="1157" y="11002"/>
                  </a:lnTo>
                  <a:lnTo>
                    <a:pt x="1157" y="11233"/>
                  </a:lnTo>
                  <a:lnTo>
                    <a:pt x="1042" y="11465"/>
                  </a:lnTo>
                  <a:lnTo>
                    <a:pt x="1042" y="11697"/>
                  </a:lnTo>
                  <a:lnTo>
                    <a:pt x="926" y="11928"/>
                  </a:lnTo>
                  <a:lnTo>
                    <a:pt x="926" y="12276"/>
                  </a:lnTo>
                  <a:lnTo>
                    <a:pt x="926" y="12507"/>
                  </a:lnTo>
                  <a:lnTo>
                    <a:pt x="810" y="12739"/>
                  </a:lnTo>
                  <a:lnTo>
                    <a:pt x="810" y="12739"/>
                  </a:lnTo>
                  <a:lnTo>
                    <a:pt x="926" y="13086"/>
                  </a:lnTo>
                  <a:lnTo>
                    <a:pt x="810" y="13550"/>
                  </a:lnTo>
                  <a:lnTo>
                    <a:pt x="810" y="13897"/>
                  </a:lnTo>
                  <a:lnTo>
                    <a:pt x="694" y="14360"/>
                  </a:lnTo>
                  <a:lnTo>
                    <a:pt x="579" y="14824"/>
                  </a:lnTo>
                  <a:lnTo>
                    <a:pt x="463" y="15171"/>
                  </a:lnTo>
                  <a:lnTo>
                    <a:pt x="463" y="15634"/>
                  </a:lnTo>
                  <a:lnTo>
                    <a:pt x="463" y="16097"/>
                  </a:lnTo>
                  <a:lnTo>
                    <a:pt x="463" y="16097"/>
                  </a:lnTo>
                  <a:lnTo>
                    <a:pt x="0" y="15982"/>
                  </a:lnTo>
                  <a:lnTo>
                    <a:pt x="0" y="15982"/>
                  </a:lnTo>
                  <a:lnTo>
                    <a:pt x="347" y="13897"/>
                  </a:lnTo>
                  <a:lnTo>
                    <a:pt x="694" y="11928"/>
                  </a:lnTo>
                  <a:lnTo>
                    <a:pt x="1042" y="9960"/>
                  </a:lnTo>
                  <a:lnTo>
                    <a:pt x="1389" y="7875"/>
                  </a:lnTo>
                  <a:lnTo>
                    <a:pt x="1852" y="5906"/>
                  </a:lnTo>
                  <a:lnTo>
                    <a:pt x="2199" y="3937"/>
                  </a:lnTo>
                  <a:lnTo>
                    <a:pt x="2546" y="1969"/>
                  </a:lnTo>
                  <a:lnTo>
                    <a:pt x="2893" y="0"/>
                  </a:lnTo>
                  <a:lnTo>
                    <a:pt x="2893" y="0"/>
                  </a:lnTo>
                  <a:lnTo>
                    <a:pt x="3009" y="0"/>
                  </a:lnTo>
                  <a:lnTo>
                    <a:pt x="3009" y="0"/>
                  </a:lnTo>
                  <a:lnTo>
                    <a:pt x="3125" y="0"/>
                  </a:lnTo>
                  <a:lnTo>
                    <a:pt x="3125" y="0"/>
                  </a:lnTo>
                  <a:lnTo>
                    <a:pt x="3240" y="0"/>
                  </a:lnTo>
                  <a:lnTo>
                    <a:pt x="3240" y="0"/>
                  </a:lnTo>
                  <a:lnTo>
                    <a:pt x="3356" y="0"/>
                  </a:lnTo>
                  <a:lnTo>
                    <a:pt x="3356" y="0"/>
                  </a:lnTo>
                  <a:lnTo>
                    <a:pt x="3356" y="0"/>
                  </a:lnTo>
                  <a:lnTo>
                    <a:pt x="3356" y="0"/>
                  </a:lnTo>
                  <a:lnTo>
                    <a:pt x="3356" y="0"/>
                  </a:lnTo>
                  <a:lnTo>
                    <a:pt x="3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1447920" y="3322800"/>
              <a:ext cx="144720" cy="1087920"/>
            </a:xfrm>
            <a:custGeom>
              <a:avLst/>
              <a:gdLst/>
              <a:ahLst/>
              <a:rect l="l" t="t" r="r" b="b"/>
              <a:pathLst>
                <a:path w="4051" h="20267">
                  <a:moveTo>
                    <a:pt x="3704" y="116"/>
                  </a:moveTo>
                  <a:lnTo>
                    <a:pt x="3935" y="0"/>
                  </a:lnTo>
                  <a:lnTo>
                    <a:pt x="4051" y="232"/>
                  </a:lnTo>
                  <a:lnTo>
                    <a:pt x="4051" y="232"/>
                  </a:lnTo>
                  <a:lnTo>
                    <a:pt x="3588" y="2779"/>
                  </a:lnTo>
                  <a:lnTo>
                    <a:pt x="3009" y="5211"/>
                  </a:lnTo>
                  <a:lnTo>
                    <a:pt x="2547" y="7643"/>
                  </a:lnTo>
                  <a:lnTo>
                    <a:pt x="1968" y="10075"/>
                  </a:lnTo>
                  <a:lnTo>
                    <a:pt x="1389" y="12623"/>
                  </a:lnTo>
                  <a:lnTo>
                    <a:pt x="926" y="15055"/>
                  </a:lnTo>
                  <a:lnTo>
                    <a:pt x="579" y="17603"/>
                  </a:lnTo>
                  <a:lnTo>
                    <a:pt x="348" y="20035"/>
                  </a:lnTo>
                  <a:lnTo>
                    <a:pt x="348" y="20035"/>
                  </a:lnTo>
                  <a:lnTo>
                    <a:pt x="348" y="20151"/>
                  </a:lnTo>
                  <a:lnTo>
                    <a:pt x="232" y="20151"/>
                  </a:lnTo>
                  <a:lnTo>
                    <a:pt x="232" y="20151"/>
                  </a:lnTo>
                  <a:lnTo>
                    <a:pt x="116" y="20151"/>
                  </a:lnTo>
                  <a:lnTo>
                    <a:pt x="116" y="20151"/>
                  </a:lnTo>
                  <a:lnTo>
                    <a:pt x="116" y="20267"/>
                  </a:lnTo>
                  <a:lnTo>
                    <a:pt x="0" y="20267"/>
                  </a:lnTo>
                  <a:lnTo>
                    <a:pt x="0" y="20267"/>
                  </a:lnTo>
                  <a:lnTo>
                    <a:pt x="0" y="20267"/>
                  </a:lnTo>
                  <a:lnTo>
                    <a:pt x="348" y="18761"/>
                  </a:lnTo>
                  <a:lnTo>
                    <a:pt x="579" y="17140"/>
                  </a:lnTo>
                  <a:lnTo>
                    <a:pt x="695" y="15634"/>
                  </a:lnTo>
                  <a:lnTo>
                    <a:pt x="926" y="14129"/>
                  </a:lnTo>
                  <a:lnTo>
                    <a:pt x="1042" y="12507"/>
                  </a:lnTo>
                  <a:lnTo>
                    <a:pt x="1158" y="11002"/>
                  </a:lnTo>
                  <a:lnTo>
                    <a:pt x="1505" y="9496"/>
                  </a:lnTo>
                  <a:lnTo>
                    <a:pt x="1852" y="7991"/>
                  </a:lnTo>
                  <a:lnTo>
                    <a:pt x="1852" y="7991"/>
                  </a:lnTo>
                  <a:lnTo>
                    <a:pt x="1968" y="6948"/>
                  </a:lnTo>
                  <a:lnTo>
                    <a:pt x="2199" y="5906"/>
                  </a:lnTo>
                  <a:lnTo>
                    <a:pt x="2431" y="4980"/>
                  </a:lnTo>
                  <a:lnTo>
                    <a:pt x="2778" y="4053"/>
                  </a:lnTo>
                  <a:lnTo>
                    <a:pt x="3009" y="3011"/>
                  </a:lnTo>
                  <a:lnTo>
                    <a:pt x="3241" y="2084"/>
                  </a:lnTo>
                  <a:lnTo>
                    <a:pt x="3472" y="1042"/>
                  </a:lnTo>
                  <a:lnTo>
                    <a:pt x="3588" y="0"/>
                  </a:lnTo>
                  <a:lnTo>
                    <a:pt x="3588" y="0"/>
                  </a:lnTo>
                  <a:lnTo>
                    <a:pt x="3704" y="0"/>
                  </a:lnTo>
                  <a:lnTo>
                    <a:pt x="3704" y="116"/>
                  </a:lnTo>
                  <a:lnTo>
                    <a:pt x="3704" y="116"/>
                  </a:lnTo>
                  <a:lnTo>
                    <a:pt x="3704" y="116"/>
                  </a:lnTo>
                  <a:lnTo>
                    <a:pt x="370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2093760" y="3335400"/>
              <a:ext cx="57600" cy="142920"/>
            </a:xfrm>
            <a:custGeom>
              <a:avLst/>
              <a:gdLst/>
              <a:ahLst/>
              <a:rect l="l" t="t" r="r" b="b"/>
              <a:pathLst>
                <a:path w="1620" h="2663">
                  <a:moveTo>
                    <a:pt x="1620" y="810"/>
                  </a:moveTo>
                  <a:lnTo>
                    <a:pt x="1620" y="1042"/>
                  </a:lnTo>
                  <a:lnTo>
                    <a:pt x="1620" y="1158"/>
                  </a:lnTo>
                  <a:lnTo>
                    <a:pt x="1620" y="1389"/>
                  </a:lnTo>
                  <a:lnTo>
                    <a:pt x="1620" y="1621"/>
                  </a:lnTo>
                  <a:lnTo>
                    <a:pt x="1620" y="1852"/>
                  </a:lnTo>
                  <a:lnTo>
                    <a:pt x="1504" y="1968"/>
                  </a:lnTo>
                  <a:lnTo>
                    <a:pt x="1388" y="2200"/>
                  </a:lnTo>
                  <a:lnTo>
                    <a:pt x="1388" y="2316"/>
                  </a:lnTo>
                  <a:lnTo>
                    <a:pt x="1388" y="2316"/>
                  </a:lnTo>
                  <a:lnTo>
                    <a:pt x="1273" y="2432"/>
                  </a:lnTo>
                  <a:lnTo>
                    <a:pt x="1157" y="2432"/>
                  </a:lnTo>
                  <a:lnTo>
                    <a:pt x="1157" y="2547"/>
                  </a:lnTo>
                  <a:lnTo>
                    <a:pt x="1041" y="2547"/>
                  </a:lnTo>
                  <a:lnTo>
                    <a:pt x="1041" y="2663"/>
                  </a:lnTo>
                  <a:lnTo>
                    <a:pt x="926" y="2663"/>
                  </a:lnTo>
                  <a:lnTo>
                    <a:pt x="810" y="2663"/>
                  </a:lnTo>
                  <a:lnTo>
                    <a:pt x="810" y="2663"/>
                  </a:lnTo>
                  <a:lnTo>
                    <a:pt x="810" y="2663"/>
                  </a:lnTo>
                  <a:lnTo>
                    <a:pt x="926" y="2432"/>
                  </a:lnTo>
                  <a:lnTo>
                    <a:pt x="926" y="2200"/>
                  </a:lnTo>
                  <a:lnTo>
                    <a:pt x="1041" y="1968"/>
                  </a:lnTo>
                  <a:lnTo>
                    <a:pt x="1157" y="1737"/>
                  </a:lnTo>
                  <a:lnTo>
                    <a:pt x="1157" y="1505"/>
                  </a:lnTo>
                  <a:lnTo>
                    <a:pt x="1157" y="1158"/>
                  </a:lnTo>
                  <a:lnTo>
                    <a:pt x="1041" y="926"/>
                  </a:lnTo>
                  <a:lnTo>
                    <a:pt x="1041" y="694"/>
                  </a:lnTo>
                  <a:lnTo>
                    <a:pt x="1041" y="694"/>
                  </a:lnTo>
                  <a:lnTo>
                    <a:pt x="926" y="579"/>
                  </a:lnTo>
                  <a:lnTo>
                    <a:pt x="810" y="463"/>
                  </a:lnTo>
                  <a:lnTo>
                    <a:pt x="694" y="347"/>
                  </a:lnTo>
                  <a:lnTo>
                    <a:pt x="578" y="347"/>
                  </a:lnTo>
                  <a:lnTo>
                    <a:pt x="463" y="231"/>
                  </a:lnTo>
                  <a:lnTo>
                    <a:pt x="231" y="231"/>
                  </a:lnTo>
                  <a:lnTo>
                    <a:pt x="115" y="231"/>
                  </a:lnTo>
                  <a:lnTo>
                    <a:pt x="0" y="347"/>
                  </a:lnTo>
                  <a:lnTo>
                    <a:pt x="0" y="347"/>
                  </a:lnTo>
                  <a:lnTo>
                    <a:pt x="0" y="115"/>
                  </a:lnTo>
                  <a:lnTo>
                    <a:pt x="0" y="115"/>
                  </a:lnTo>
                  <a:lnTo>
                    <a:pt x="115" y="0"/>
                  </a:lnTo>
                  <a:lnTo>
                    <a:pt x="347" y="0"/>
                  </a:lnTo>
                  <a:lnTo>
                    <a:pt x="578" y="0"/>
                  </a:lnTo>
                  <a:lnTo>
                    <a:pt x="810" y="0"/>
                  </a:lnTo>
                  <a:lnTo>
                    <a:pt x="1041" y="115"/>
                  </a:lnTo>
                  <a:lnTo>
                    <a:pt x="1273" y="347"/>
                  </a:lnTo>
                  <a:lnTo>
                    <a:pt x="1504" y="579"/>
                  </a:lnTo>
                  <a:lnTo>
                    <a:pt x="1620" y="810"/>
                  </a:lnTo>
                  <a:lnTo>
                    <a:pt x="1620" y="810"/>
                  </a:lnTo>
                  <a:lnTo>
                    <a:pt x="1620" y="810"/>
                  </a:lnTo>
                  <a:lnTo>
                    <a:pt x="1620" y="810"/>
                  </a:lnTo>
                  <a:lnTo>
                    <a:pt x="1620" y="8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2163960" y="3354120"/>
              <a:ext cx="41040" cy="136800"/>
            </a:xfrm>
            <a:custGeom>
              <a:avLst/>
              <a:gdLst/>
              <a:ahLst/>
              <a:rect l="l" t="t" r="r" b="b"/>
              <a:pathLst>
                <a:path w="1157" h="2548">
                  <a:moveTo>
                    <a:pt x="1042" y="811"/>
                  </a:moveTo>
                  <a:lnTo>
                    <a:pt x="1042" y="926"/>
                  </a:lnTo>
                  <a:lnTo>
                    <a:pt x="1157" y="1158"/>
                  </a:lnTo>
                  <a:lnTo>
                    <a:pt x="1157" y="1274"/>
                  </a:lnTo>
                  <a:lnTo>
                    <a:pt x="1157" y="1505"/>
                  </a:lnTo>
                  <a:lnTo>
                    <a:pt x="1157" y="1621"/>
                  </a:lnTo>
                  <a:lnTo>
                    <a:pt x="1157" y="1853"/>
                  </a:lnTo>
                  <a:lnTo>
                    <a:pt x="1157" y="1969"/>
                  </a:lnTo>
                  <a:lnTo>
                    <a:pt x="1042" y="2200"/>
                  </a:lnTo>
                  <a:lnTo>
                    <a:pt x="1042" y="2200"/>
                  </a:lnTo>
                  <a:lnTo>
                    <a:pt x="695" y="2548"/>
                  </a:lnTo>
                  <a:lnTo>
                    <a:pt x="695" y="2548"/>
                  </a:lnTo>
                  <a:lnTo>
                    <a:pt x="695" y="2200"/>
                  </a:lnTo>
                  <a:lnTo>
                    <a:pt x="695" y="1969"/>
                  </a:lnTo>
                  <a:lnTo>
                    <a:pt x="810" y="1621"/>
                  </a:lnTo>
                  <a:lnTo>
                    <a:pt x="810" y="1274"/>
                  </a:lnTo>
                  <a:lnTo>
                    <a:pt x="810" y="1042"/>
                  </a:lnTo>
                  <a:lnTo>
                    <a:pt x="695" y="811"/>
                  </a:lnTo>
                  <a:lnTo>
                    <a:pt x="463" y="579"/>
                  </a:lnTo>
                  <a:lnTo>
                    <a:pt x="116" y="347"/>
                  </a:lnTo>
                  <a:lnTo>
                    <a:pt x="116" y="347"/>
                  </a:lnTo>
                  <a:lnTo>
                    <a:pt x="0" y="0"/>
                  </a:lnTo>
                  <a:lnTo>
                    <a:pt x="0" y="0"/>
                  </a:lnTo>
                  <a:lnTo>
                    <a:pt x="116" y="116"/>
                  </a:lnTo>
                  <a:lnTo>
                    <a:pt x="347" y="116"/>
                  </a:lnTo>
                  <a:lnTo>
                    <a:pt x="463" y="116"/>
                  </a:lnTo>
                  <a:lnTo>
                    <a:pt x="579" y="232"/>
                  </a:lnTo>
                  <a:lnTo>
                    <a:pt x="810" y="347"/>
                  </a:lnTo>
                  <a:lnTo>
                    <a:pt x="926" y="463"/>
                  </a:lnTo>
                  <a:lnTo>
                    <a:pt x="926" y="579"/>
                  </a:lnTo>
                  <a:lnTo>
                    <a:pt x="1042" y="811"/>
                  </a:lnTo>
                  <a:lnTo>
                    <a:pt x="1042" y="811"/>
                  </a:lnTo>
                  <a:lnTo>
                    <a:pt x="1042" y="811"/>
                  </a:lnTo>
                  <a:lnTo>
                    <a:pt x="1042" y="811"/>
                  </a:lnTo>
                  <a:lnTo>
                    <a:pt x="1042" y="8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2213640" y="3366360"/>
              <a:ext cx="41040" cy="130320"/>
            </a:xfrm>
            <a:custGeom>
              <a:avLst/>
              <a:gdLst/>
              <a:ahLst/>
              <a:rect l="l" t="t" r="r" b="b"/>
              <a:pathLst>
                <a:path w="1157" h="2432">
                  <a:moveTo>
                    <a:pt x="1157" y="926"/>
                  </a:moveTo>
                  <a:lnTo>
                    <a:pt x="1157" y="1158"/>
                  </a:lnTo>
                  <a:lnTo>
                    <a:pt x="1157" y="1389"/>
                  </a:lnTo>
                  <a:lnTo>
                    <a:pt x="1157" y="1505"/>
                  </a:lnTo>
                  <a:lnTo>
                    <a:pt x="1157" y="1737"/>
                  </a:lnTo>
                  <a:lnTo>
                    <a:pt x="1042" y="1968"/>
                  </a:lnTo>
                  <a:lnTo>
                    <a:pt x="926" y="2200"/>
                  </a:lnTo>
                  <a:lnTo>
                    <a:pt x="810" y="2316"/>
                  </a:lnTo>
                  <a:lnTo>
                    <a:pt x="579" y="2432"/>
                  </a:lnTo>
                  <a:lnTo>
                    <a:pt x="579" y="2432"/>
                  </a:lnTo>
                  <a:lnTo>
                    <a:pt x="694" y="2316"/>
                  </a:lnTo>
                  <a:lnTo>
                    <a:pt x="694" y="2200"/>
                  </a:lnTo>
                  <a:lnTo>
                    <a:pt x="694" y="1968"/>
                  </a:lnTo>
                  <a:lnTo>
                    <a:pt x="810" y="1853"/>
                  </a:lnTo>
                  <a:lnTo>
                    <a:pt x="810" y="1621"/>
                  </a:lnTo>
                  <a:lnTo>
                    <a:pt x="926" y="1389"/>
                  </a:lnTo>
                  <a:lnTo>
                    <a:pt x="926" y="1273"/>
                  </a:lnTo>
                  <a:lnTo>
                    <a:pt x="810" y="1042"/>
                  </a:lnTo>
                  <a:lnTo>
                    <a:pt x="810" y="1042"/>
                  </a:lnTo>
                  <a:lnTo>
                    <a:pt x="810" y="926"/>
                  </a:lnTo>
                  <a:lnTo>
                    <a:pt x="694" y="810"/>
                  </a:lnTo>
                  <a:lnTo>
                    <a:pt x="463" y="694"/>
                  </a:lnTo>
                  <a:lnTo>
                    <a:pt x="347" y="579"/>
                  </a:lnTo>
                  <a:lnTo>
                    <a:pt x="231" y="463"/>
                  </a:lnTo>
                  <a:lnTo>
                    <a:pt x="116" y="347"/>
                  </a:lnTo>
                  <a:lnTo>
                    <a:pt x="0" y="231"/>
                  </a:lnTo>
                  <a:lnTo>
                    <a:pt x="0" y="0"/>
                  </a:lnTo>
                  <a:lnTo>
                    <a:pt x="0" y="0"/>
                  </a:lnTo>
                  <a:lnTo>
                    <a:pt x="116" y="0"/>
                  </a:lnTo>
                  <a:lnTo>
                    <a:pt x="347" y="0"/>
                  </a:lnTo>
                  <a:lnTo>
                    <a:pt x="579" y="115"/>
                  </a:lnTo>
                  <a:lnTo>
                    <a:pt x="694" y="231"/>
                  </a:lnTo>
                  <a:lnTo>
                    <a:pt x="810" y="347"/>
                  </a:lnTo>
                  <a:lnTo>
                    <a:pt x="926" y="579"/>
                  </a:lnTo>
                  <a:lnTo>
                    <a:pt x="1042" y="810"/>
                  </a:lnTo>
                  <a:lnTo>
                    <a:pt x="1157" y="926"/>
                  </a:lnTo>
                  <a:lnTo>
                    <a:pt x="1157" y="926"/>
                  </a:lnTo>
                  <a:lnTo>
                    <a:pt x="1157" y="926"/>
                  </a:lnTo>
                  <a:lnTo>
                    <a:pt x="1157" y="926"/>
                  </a:lnTo>
                  <a:lnTo>
                    <a:pt x="1157"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2271600" y="3385080"/>
              <a:ext cx="28800" cy="111600"/>
            </a:xfrm>
            <a:custGeom>
              <a:avLst/>
              <a:gdLst/>
              <a:ahLst/>
              <a:rect l="l" t="t" r="r" b="b"/>
              <a:pathLst>
                <a:path w="810" h="2085">
                  <a:moveTo>
                    <a:pt x="810" y="579"/>
                  </a:moveTo>
                  <a:lnTo>
                    <a:pt x="810" y="811"/>
                  </a:lnTo>
                  <a:lnTo>
                    <a:pt x="810" y="1042"/>
                  </a:lnTo>
                  <a:lnTo>
                    <a:pt x="810" y="1158"/>
                  </a:lnTo>
                  <a:lnTo>
                    <a:pt x="810" y="1390"/>
                  </a:lnTo>
                  <a:lnTo>
                    <a:pt x="695" y="1621"/>
                  </a:lnTo>
                  <a:lnTo>
                    <a:pt x="695" y="1737"/>
                  </a:lnTo>
                  <a:lnTo>
                    <a:pt x="579" y="1969"/>
                  </a:lnTo>
                  <a:lnTo>
                    <a:pt x="347" y="2085"/>
                  </a:lnTo>
                  <a:lnTo>
                    <a:pt x="347" y="2085"/>
                  </a:lnTo>
                  <a:lnTo>
                    <a:pt x="463" y="1969"/>
                  </a:lnTo>
                  <a:lnTo>
                    <a:pt x="463" y="1737"/>
                  </a:lnTo>
                  <a:lnTo>
                    <a:pt x="579" y="1506"/>
                  </a:lnTo>
                  <a:lnTo>
                    <a:pt x="579" y="1274"/>
                  </a:lnTo>
                  <a:lnTo>
                    <a:pt x="579" y="1042"/>
                  </a:lnTo>
                  <a:lnTo>
                    <a:pt x="579" y="811"/>
                  </a:lnTo>
                  <a:lnTo>
                    <a:pt x="579" y="579"/>
                  </a:lnTo>
                  <a:lnTo>
                    <a:pt x="347" y="347"/>
                  </a:lnTo>
                  <a:lnTo>
                    <a:pt x="347" y="347"/>
                  </a:lnTo>
                  <a:lnTo>
                    <a:pt x="0" y="0"/>
                  </a:lnTo>
                  <a:lnTo>
                    <a:pt x="0" y="0"/>
                  </a:lnTo>
                  <a:lnTo>
                    <a:pt x="232" y="0"/>
                  </a:lnTo>
                  <a:lnTo>
                    <a:pt x="347" y="0"/>
                  </a:lnTo>
                  <a:lnTo>
                    <a:pt x="463" y="116"/>
                  </a:lnTo>
                  <a:lnTo>
                    <a:pt x="463" y="116"/>
                  </a:lnTo>
                  <a:lnTo>
                    <a:pt x="579" y="232"/>
                  </a:lnTo>
                  <a:lnTo>
                    <a:pt x="695" y="347"/>
                  </a:lnTo>
                  <a:lnTo>
                    <a:pt x="695" y="463"/>
                  </a:lnTo>
                  <a:lnTo>
                    <a:pt x="810" y="579"/>
                  </a:lnTo>
                  <a:lnTo>
                    <a:pt x="810" y="579"/>
                  </a:lnTo>
                  <a:lnTo>
                    <a:pt x="810" y="579"/>
                  </a:lnTo>
                  <a:lnTo>
                    <a:pt x="810" y="579"/>
                  </a:lnTo>
                  <a:lnTo>
                    <a:pt x="810"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2313000" y="3397680"/>
              <a:ext cx="37080" cy="118080"/>
            </a:xfrm>
            <a:custGeom>
              <a:avLst/>
              <a:gdLst/>
              <a:ahLst/>
              <a:rect l="l" t="t" r="r" b="b"/>
              <a:pathLst>
                <a:path w="1042" h="2200">
                  <a:moveTo>
                    <a:pt x="1042" y="694"/>
                  </a:moveTo>
                  <a:lnTo>
                    <a:pt x="1042" y="926"/>
                  </a:lnTo>
                  <a:lnTo>
                    <a:pt x="1042" y="1042"/>
                  </a:lnTo>
                  <a:lnTo>
                    <a:pt x="1042" y="1274"/>
                  </a:lnTo>
                  <a:lnTo>
                    <a:pt x="926" y="1505"/>
                  </a:lnTo>
                  <a:lnTo>
                    <a:pt x="926" y="1737"/>
                  </a:lnTo>
                  <a:lnTo>
                    <a:pt x="811" y="1853"/>
                  </a:lnTo>
                  <a:lnTo>
                    <a:pt x="579" y="2084"/>
                  </a:lnTo>
                  <a:lnTo>
                    <a:pt x="463" y="2200"/>
                  </a:lnTo>
                  <a:lnTo>
                    <a:pt x="463" y="2200"/>
                  </a:lnTo>
                  <a:lnTo>
                    <a:pt x="116" y="2200"/>
                  </a:lnTo>
                  <a:lnTo>
                    <a:pt x="116" y="2200"/>
                  </a:lnTo>
                  <a:lnTo>
                    <a:pt x="232" y="1968"/>
                  </a:lnTo>
                  <a:lnTo>
                    <a:pt x="348" y="1737"/>
                  </a:lnTo>
                  <a:lnTo>
                    <a:pt x="463" y="1621"/>
                  </a:lnTo>
                  <a:lnTo>
                    <a:pt x="463" y="1389"/>
                  </a:lnTo>
                  <a:lnTo>
                    <a:pt x="579" y="1274"/>
                  </a:lnTo>
                  <a:lnTo>
                    <a:pt x="579" y="1042"/>
                  </a:lnTo>
                  <a:lnTo>
                    <a:pt x="579" y="810"/>
                  </a:lnTo>
                  <a:lnTo>
                    <a:pt x="463" y="579"/>
                  </a:lnTo>
                  <a:lnTo>
                    <a:pt x="463" y="579"/>
                  </a:lnTo>
                  <a:lnTo>
                    <a:pt x="0" y="0"/>
                  </a:lnTo>
                  <a:lnTo>
                    <a:pt x="0" y="0"/>
                  </a:lnTo>
                  <a:lnTo>
                    <a:pt x="116" y="0"/>
                  </a:lnTo>
                  <a:lnTo>
                    <a:pt x="348" y="0"/>
                  </a:lnTo>
                  <a:lnTo>
                    <a:pt x="463" y="0"/>
                  </a:lnTo>
                  <a:lnTo>
                    <a:pt x="579" y="115"/>
                  </a:lnTo>
                  <a:lnTo>
                    <a:pt x="811" y="231"/>
                  </a:lnTo>
                  <a:lnTo>
                    <a:pt x="926" y="347"/>
                  </a:lnTo>
                  <a:lnTo>
                    <a:pt x="1042" y="579"/>
                  </a:lnTo>
                  <a:lnTo>
                    <a:pt x="1042" y="694"/>
                  </a:lnTo>
                  <a:lnTo>
                    <a:pt x="1042" y="694"/>
                  </a:lnTo>
                  <a:lnTo>
                    <a:pt x="1042" y="694"/>
                  </a:lnTo>
                  <a:lnTo>
                    <a:pt x="1042" y="694"/>
                  </a:lnTo>
                  <a:lnTo>
                    <a:pt x="1042" y="6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1721160" y="3540600"/>
              <a:ext cx="223200" cy="397800"/>
            </a:xfrm>
            <a:custGeom>
              <a:avLst/>
              <a:gdLst/>
              <a:ahLst/>
              <a:rect l="l" t="t" r="r" b="b"/>
              <a:pathLst>
                <a:path w="6249" h="7412">
                  <a:moveTo>
                    <a:pt x="5439" y="1969"/>
                  </a:moveTo>
                  <a:lnTo>
                    <a:pt x="5439" y="2085"/>
                  </a:lnTo>
                  <a:lnTo>
                    <a:pt x="5555" y="2085"/>
                  </a:lnTo>
                  <a:lnTo>
                    <a:pt x="5555" y="2085"/>
                  </a:lnTo>
                  <a:lnTo>
                    <a:pt x="5671" y="2085"/>
                  </a:lnTo>
                  <a:lnTo>
                    <a:pt x="5671" y="2085"/>
                  </a:lnTo>
                  <a:lnTo>
                    <a:pt x="5786" y="2085"/>
                  </a:lnTo>
                  <a:lnTo>
                    <a:pt x="5902" y="2085"/>
                  </a:lnTo>
                  <a:lnTo>
                    <a:pt x="5902" y="2085"/>
                  </a:lnTo>
                  <a:lnTo>
                    <a:pt x="5902" y="2085"/>
                  </a:lnTo>
                  <a:lnTo>
                    <a:pt x="6018" y="1969"/>
                  </a:lnTo>
                  <a:lnTo>
                    <a:pt x="6018" y="1969"/>
                  </a:lnTo>
                  <a:lnTo>
                    <a:pt x="6018" y="1969"/>
                  </a:lnTo>
                  <a:lnTo>
                    <a:pt x="6018" y="1969"/>
                  </a:lnTo>
                  <a:lnTo>
                    <a:pt x="6018" y="1853"/>
                  </a:lnTo>
                  <a:lnTo>
                    <a:pt x="6018" y="1853"/>
                  </a:lnTo>
                  <a:lnTo>
                    <a:pt x="6134" y="1737"/>
                  </a:lnTo>
                  <a:lnTo>
                    <a:pt x="6134" y="1737"/>
                  </a:lnTo>
                  <a:lnTo>
                    <a:pt x="6134" y="1737"/>
                  </a:lnTo>
                  <a:lnTo>
                    <a:pt x="6249" y="1737"/>
                  </a:lnTo>
                  <a:lnTo>
                    <a:pt x="6249" y="1737"/>
                  </a:lnTo>
                  <a:lnTo>
                    <a:pt x="6249" y="1853"/>
                  </a:lnTo>
                  <a:lnTo>
                    <a:pt x="6249" y="1969"/>
                  </a:lnTo>
                  <a:lnTo>
                    <a:pt x="6249" y="2085"/>
                  </a:lnTo>
                  <a:lnTo>
                    <a:pt x="6134" y="2201"/>
                  </a:lnTo>
                  <a:lnTo>
                    <a:pt x="6018" y="2316"/>
                  </a:lnTo>
                  <a:lnTo>
                    <a:pt x="5902" y="2432"/>
                  </a:lnTo>
                  <a:lnTo>
                    <a:pt x="5786" y="2548"/>
                  </a:lnTo>
                  <a:lnTo>
                    <a:pt x="5671" y="2548"/>
                  </a:lnTo>
                  <a:lnTo>
                    <a:pt x="5671" y="2548"/>
                  </a:lnTo>
                  <a:lnTo>
                    <a:pt x="5671" y="2548"/>
                  </a:lnTo>
                  <a:lnTo>
                    <a:pt x="5671" y="2548"/>
                  </a:lnTo>
                  <a:lnTo>
                    <a:pt x="5671" y="2548"/>
                  </a:lnTo>
                  <a:lnTo>
                    <a:pt x="5555" y="2548"/>
                  </a:lnTo>
                  <a:lnTo>
                    <a:pt x="5555" y="2548"/>
                  </a:lnTo>
                  <a:lnTo>
                    <a:pt x="5555" y="2548"/>
                  </a:lnTo>
                  <a:lnTo>
                    <a:pt x="5555" y="2548"/>
                  </a:lnTo>
                  <a:lnTo>
                    <a:pt x="5555" y="2548"/>
                  </a:lnTo>
                  <a:lnTo>
                    <a:pt x="5555" y="2548"/>
                  </a:lnTo>
                  <a:lnTo>
                    <a:pt x="5555" y="3127"/>
                  </a:lnTo>
                  <a:lnTo>
                    <a:pt x="5555" y="3822"/>
                  </a:lnTo>
                  <a:lnTo>
                    <a:pt x="5555" y="4401"/>
                  </a:lnTo>
                  <a:lnTo>
                    <a:pt x="5323" y="4980"/>
                  </a:lnTo>
                  <a:lnTo>
                    <a:pt x="5208" y="5675"/>
                  </a:lnTo>
                  <a:lnTo>
                    <a:pt x="4861" y="6138"/>
                  </a:lnTo>
                  <a:lnTo>
                    <a:pt x="4398" y="6601"/>
                  </a:lnTo>
                  <a:lnTo>
                    <a:pt x="3935" y="7065"/>
                  </a:lnTo>
                  <a:lnTo>
                    <a:pt x="3935" y="7065"/>
                  </a:lnTo>
                  <a:lnTo>
                    <a:pt x="3703" y="7180"/>
                  </a:lnTo>
                  <a:lnTo>
                    <a:pt x="3356" y="7296"/>
                  </a:lnTo>
                  <a:lnTo>
                    <a:pt x="3125" y="7412"/>
                  </a:lnTo>
                  <a:lnTo>
                    <a:pt x="2893" y="7412"/>
                  </a:lnTo>
                  <a:lnTo>
                    <a:pt x="2546" y="7412"/>
                  </a:lnTo>
                  <a:lnTo>
                    <a:pt x="2199" y="7412"/>
                  </a:lnTo>
                  <a:lnTo>
                    <a:pt x="1967" y="7296"/>
                  </a:lnTo>
                  <a:lnTo>
                    <a:pt x="1620" y="7296"/>
                  </a:lnTo>
                  <a:lnTo>
                    <a:pt x="1620" y="7296"/>
                  </a:lnTo>
                  <a:lnTo>
                    <a:pt x="1389" y="7180"/>
                  </a:lnTo>
                  <a:lnTo>
                    <a:pt x="1157" y="7065"/>
                  </a:lnTo>
                  <a:lnTo>
                    <a:pt x="926" y="6949"/>
                  </a:lnTo>
                  <a:lnTo>
                    <a:pt x="694" y="6717"/>
                  </a:lnTo>
                  <a:lnTo>
                    <a:pt x="578" y="6601"/>
                  </a:lnTo>
                  <a:lnTo>
                    <a:pt x="347" y="6370"/>
                  </a:lnTo>
                  <a:lnTo>
                    <a:pt x="231" y="6138"/>
                  </a:lnTo>
                  <a:lnTo>
                    <a:pt x="116" y="5907"/>
                  </a:lnTo>
                  <a:lnTo>
                    <a:pt x="116" y="5907"/>
                  </a:lnTo>
                  <a:lnTo>
                    <a:pt x="0" y="5559"/>
                  </a:lnTo>
                  <a:lnTo>
                    <a:pt x="0" y="5096"/>
                  </a:lnTo>
                  <a:lnTo>
                    <a:pt x="0" y="4748"/>
                  </a:lnTo>
                  <a:lnTo>
                    <a:pt x="0" y="4285"/>
                  </a:lnTo>
                  <a:lnTo>
                    <a:pt x="0" y="3938"/>
                  </a:lnTo>
                  <a:lnTo>
                    <a:pt x="116" y="3590"/>
                  </a:lnTo>
                  <a:lnTo>
                    <a:pt x="347" y="3243"/>
                  </a:lnTo>
                  <a:lnTo>
                    <a:pt x="578" y="2895"/>
                  </a:lnTo>
                  <a:lnTo>
                    <a:pt x="578" y="2895"/>
                  </a:lnTo>
                  <a:lnTo>
                    <a:pt x="926" y="2432"/>
                  </a:lnTo>
                  <a:lnTo>
                    <a:pt x="1273" y="2085"/>
                  </a:lnTo>
                  <a:lnTo>
                    <a:pt x="1736" y="1853"/>
                  </a:lnTo>
                  <a:lnTo>
                    <a:pt x="2083" y="1622"/>
                  </a:lnTo>
                  <a:lnTo>
                    <a:pt x="2546" y="1390"/>
                  </a:lnTo>
                  <a:lnTo>
                    <a:pt x="3009" y="1274"/>
                  </a:lnTo>
                  <a:lnTo>
                    <a:pt x="3587" y="1158"/>
                  </a:lnTo>
                  <a:lnTo>
                    <a:pt x="4050" y="1158"/>
                  </a:lnTo>
                  <a:lnTo>
                    <a:pt x="4050" y="1158"/>
                  </a:lnTo>
                  <a:lnTo>
                    <a:pt x="3587" y="927"/>
                  </a:lnTo>
                  <a:lnTo>
                    <a:pt x="3240" y="811"/>
                  </a:lnTo>
                  <a:lnTo>
                    <a:pt x="2777" y="579"/>
                  </a:lnTo>
                  <a:lnTo>
                    <a:pt x="2314" y="463"/>
                  </a:lnTo>
                  <a:lnTo>
                    <a:pt x="1851" y="463"/>
                  </a:lnTo>
                  <a:lnTo>
                    <a:pt x="1389" y="463"/>
                  </a:lnTo>
                  <a:lnTo>
                    <a:pt x="926" y="579"/>
                  </a:lnTo>
                  <a:lnTo>
                    <a:pt x="578" y="695"/>
                  </a:lnTo>
                  <a:lnTo>
                    <a:pt x="578" y="695"/>
                  </a:lnTo>
                  <a:lnTo>
                    <a:pt x="578" y="463"/>
                  </a:lnTo>
                  <a:lnTo>
                    <a:pt x="694" y="348"/>
                  </a:lnTo>
                  <a:lnTo>
                    <a:pt x="926" y="232"/>
                  </a:lnTo>
                  <a:lnTo>
                    <a:pt x="1041" y="116"/>
                  </a:lnTo>
                  <a:lnTo>
                    <a:pt x="1273" y="116"/>
                  </a:lnTo>
                  <a:lnTo>
                    <a:pt x="1504" y="0"/>
                  </a:lnTo>
                  <a:lnTo>
                    <a:pt x="1620" y="0"/>
                  </a:lnTo>
                  <a:lnTo>
                    <a:pt x="1851" y="0"/>
                  </a:lnTo>
                  <a:lnTo>
                    <a:pt x="1851" y="0"/>
                  </a:lnTo>
                  <a:lnTo>
                    <a:pt x="2314" y="116"/>
                  </a:lnTo>
                  <a:lnTo>
                    <a:pt x="2777" y="232"/>
                  </a:lnTo>
                  <a:lnTo>
                    <a:pt x="3356" y="463"/>
                  </a:lnTo>
                  <a:lnTo>
                    <a:pt x="3819" y="579"/>
                  </a:lnTo>
                  <a:lnTo>
                    <a:pt x="4282" y="811"/>
                  </a:lnTo>
                  <a:lnTo>
                    <a:pt x="4745" y="1043"/>
                  </a:lnTo>
                  <a:lnTo>
                    <a:pt x="5092" y="1506"/>
                  </a:lnTo>
                  <a:lnTo>
                    <a:pt x="5439" y="1969"/>
                  </a:lnTo>
                  <a:lnTo>
                    <a:pt x="5439" y="1969"/>
                  </a:lnTo>
                  <a:lnTo>
                    <a:pt x="5439" y="1969"/>
                  </a:lnTo>
                  <a:lnTo>
                    <a:pt x="5439" y="1969"/>
                  </a:lnTo>
                  <a:lnTo>
                    <a:pt x="5439" y="1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1953000" y="3596400"/>
              <a:ext cx="186120" cy="410040"/>
            </a:xfrm>
            <a:custGeom>
              <a:avLst/>
              <a:gdLst/>
              <a:ahLst/>
              <a:rect l="l" t="t" r="r" b="b"/>
              <a:pathLst>
                <a:path w="5208" h="7643">
                  <a:moveTo>
                    <a:pt x="4976" y="347"/>
                  </a:moveTo>
                  <a:lnTo>
                    <a:pt x="4976" y="347"/>
                  </a:lnTo>
                  <a:lnTo>
                    <a:pt x="4861" y="347"/>
                  </a:lnTo>
                  <a:lnTo>
                    <a:pt x="4745" y="347"/>
                  </a:lnTo>
                  <a:lnTo>
                    <a:pt x="4629" y="347"/>
                  </a:lnTo>
                  <a:lnTo>
                    <a:pt x="4513" y="347"/>
                  </a:lnTo>
                  <a:lnTo>
                    <a:pt x="4398" y="347"/>
                  </a:lnTo>
                  <a:lnTo>
                    <a:pt x="4282" y="231"/>
                  </a:lnTo>
                  <a:lnTo>
                    <a:pt x="4166" y="347"/>
                  </a:lnTo>
                  <a:lnTo>
                    <a:pt x="4166" y="347"/>
                  </a:lnTo>
                  <a:lnTo>
                    <a:pt x="4050" y="347"/>
                  </a:lnTo>
                  <a:lnTo>
                    <a:pt x="3819" y="463"/>
                  </a:lnTo>
                  <a:lnTo>
                    <a:pt x="3703" y="463"/>
                  </a:lnTo>
                  <a:lnTo>
                    <a:pt x="3472" y="579"/>
                  </a:lnTo>
                  <a:lnTo>
                    <a:pt x="3356" y="579"/>
                  </a:lnTo>
                  <a:lnTo>
                    <a:pt x="3240" y="694"/>
                  </a:lnTo>
                  <a:lnTo>
                    <a:pt x="3009" y="810"/>
                  </a:lnTo>
                  <a:lnTo>
                    <a:pt x="2893" y="926"/>
                  </a:lnTo>
                  <a:lnTo>
                    <a:pt x="2893" y="926"/>
                  </a:lnTo>
                  <a:lnTo>
                    <a:pt x="3240" y="926"/>
                  </a:lnTo>
                  <a:lnTo>
                    <a:pt x="3472" y="1042"/>
                  </a:lnTo>
                  <a:lnTo>
                    <a:pt x="3819" y="1158"/>
                  </a:lnTo>
                  <a:lnTo>
                    <a:pt x="4050" y="1273"/>
                  </a:lnTo>
                  <a:lnTo>
                    <a:pt x="4282" y="1389"/>
                  </a:lnTo>
                  <a:lnTo>
                    <a:pt x="4513" y="1621"/>
                  </a:lnTo>
                  <a:lnTo>
                    <a:pt x="4745" y="1852"/>
                  </a:lnTo>
                  <a:lnTo>
                    <a:pt x="4976" y="2084"/>
                  </a:lnTo>
                  <a:lnTo>
                    <a:pt x="4976" y="2084"/>
                  </a:lnTo>
                  <a:lnTo>
                    <a:pt x="5092" y="2663"/>
                  </a:lnTo>
                  <a:lnTo>
                    <a:pt x="5208" y="3242"/>
                  </a:lnTo>
                  <a:lnTo>
                    <a:pt x="5208" y="3821"/>
                  </a:lnTo>
                  <a:lnTo>
                    <a:pt x="5092" y="4400"/>
                  </a:lnTo>
                  <a:lnTo>
                    <a:pt x="4976" y="4979"/>
                  </a:lnTo>
                  <a:lnTo>
                    <a:pt x="4745" y="5558"/>
                  </a:lnTo>
                  <a:lnTo>
                    <a:pt x="4513" y="6137"/>
                  </a:lnTo>
                  <a:lnTo>
                    <a:pt x="4166" y="6601"/>
                  </a:lnTo>
                  <a:lnTo>
                    <a:pt x="4166" y="6601"/>
                  </a:lnTo>
                  <a:lnTo>
                    <a:pt x="3819" y="6948"/>
                  </a:lnTo>
                  <a:lnTo>
                    <a:pt x="3472" y="7180"/>
                  </a:lnTo>
                  <a:lnTo>
                    <a:pt x="3125" y="7411"/>
                  </a:lnTo>
                  <a:lnTo>
                    <a:pt x="2662" y="7527"/>
                  </a:lnTo>
                  <a:lnTo>
                    <a:pt x="2199" y="7643"/>
                  </a:lnTo>
                  <a:lnTo>
                    <a:pt x="1736" y="7643"/>
                  </a:lnTo>
                  <a:lnTo>
                    <a:pt x="1273" y="7643"/>
                  </a:lnTo>
                  <a:lnTo>
                    <a:pt x="810" y="7527"/>
                  </a:lnTo>
                  <a:lnTo>
                    <a:pt x="810" y="7527"/>
                  </a:lnTo>
                  <a:lnTo>
                    <a:pt x="463" y="7064"/>
                  </a:lnTo>
                  <a:lnTo>
                    <a:pt x="231" y="6485"/>
                  </a:lnTo>
                  <a:lnTo>
                    <a:pt x="0" y="5906"/>
                  </a:lnTo>
                  <a:lnTo>
                    <a:pt x="0" y="5211"/>
                  </a:lnTo>
                  <a:lnTo>
                    <a:pt x="116" y="4632"/>
                  </a:lnTo>
                  <a:lnTo>
                    <a:pt x="231" y="3937"/>
                  </a:lnTo>
                  <a:lnTo>
                    <a:pt x="347" y="3358"/>
                  </a:lnTo>
                  <a:lnTo>
                    <a:pt x="578" y="2779"/>
                  </a:lnTo>
                  <a:lnTo>
                    <a:pt x="578" y="2779"/>
                  </a:lnTo>
                  <a:lnTo>
                    <a:pt x="578" y="2547"/>
                  </a:lnTo>
                  <a:lnTo>
                    <a:pt x="694" y="2432"/>
                  </a:lnTo>
                  <a:lnTo>
                    <a:pt x="810" y="2316"/>
                  </a:lnTo>
                  <a:lnTo>
                    <a:pt x="810" y="2200"/>
                  </a:lnTo>
                  <a:lnTo>
                    <a:pt x="926" y="1968"/>
                  </a:lnTo>
                  <a:lnTo>
                    <a:pt x="1041" y="1852"/>
                  </a:lnTo>
                  <a:lnTo>
                    <a:pt x="1041" y="1737"/>
                  </a:lnTo>
                  <a:lnTo>
                    <a:pt x="1157" y="1621"/>
                  </a:lnTo>
                  <a:lnTo>
                    <a:pt x="1157" y="1621"/>
                  </a:lnTo>
                  <a:lnTo>
                    <a:pt x="1041" y="1505"/>
                  </a:lnTo>
                  <a:lnTo>
                    <a:pt x="926" y="1505"/>
                  </a:lnTo>
                  <a:lnTo>
                    <a:pt x="926" y="1389"/>
                  </a:lnTo>
                  <a:lnTo>
                    <a:pt x="810" y="1389"/>
                  </a:lnTo>
                  <a:lnTo>
                    <a:pt x="694" y="1389"/>
                  </a:lnTo>
                  <a:lnTo>
                    <a:pt x="694" y="1389"/>
                  </a:lnTo>
                  <a:lnTo>
                    <a:pt x="578" y="1273"/>
                  </a:lnTo>
                  <a:lnTo>
                    <a:pt x="578" y="1273"/>
                  </a:lnTo>
                  <a:lnTo>
                    <a:pt x="578" y="1273"/>
                  </a:lnTo>
                  <a:lnTo>
                    <a:pt x="694" y="1158"/>
                  </a:lnTo>
                  <a:lnTo>
                    <a:pt x="810" y="1158"/>
                  </a:lnTo>
                  <a:lnTo>
                    <a:pt x="926" y="1158"/>
                  </a:lnTo>
                  <a:lnTo>
                    <a:pt x="1041" y="1158"/>
                  </a:lnTo>
                  <a:lnTo>
                    <a:pt x="1157" y="1158"/>
                  </a:lnTo>
                  <a:lnTo>
                    <a:pt x="1389" y="1158"/>
                  </a:lnTo>
                  <a:lnTo>
                    <a:pt x="1504" y="1158"/>
                  </a:lnTo>
                  <a:lnTo>
                    <a:pt x="1620" y="1158"/>
                  </a:lnTo>
                  <a:lnTo>
                    <a:pt x="1620" y="1158"/>
                  </a:lnTo>
                  <a:lnTo>
                    <a:pt x="1967" y="926"/>
                  </a:lnTo>
                  <a:lnTo>
                    <a:pt x="2430" y="694"/>
                  </a:lnTo>
                  <a:lnTo>
                    <a:pt x="2777" y="347"/>
                  </a:lnTo>
                  <a:lnTo>
                    <a:pt x="3240" y="115"/>
                  </a:lnTo>
                  <a:lnTo>
                    <a:pt x="3703" y="0"/>
                  </a:lnTo>
                  <a:lnTo>
                    <a:pt x="4166" y="0"/>
                  </a:lnTo>
                  <a:lnTo>
                    <a:pt x="4629" y="0"/>
                  </a:lnTo>
                  <a:lnTo>
                    <a:pt x="4976" y="347"/>
                  </a:lnTo>
                  <a:lnTo>
                    <a:pt x="4976" y="347"/>
                  </a:lnTo>
                  <a:lnTo>
                    <a:pt x="4976" y="347"/>
                  </a:lnTo>
                  <a:lnTo>
                    <a:pt x="4976" y="347"/>
                  </a:lnTo>
                  <a:lnTo>
                    <a:pt x="4976"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1733760" y="3627720"/>
              <a:ext cx="173520" cy="285840"/>
            </a:xfrm>
            <a:custGeom>
              <a:avLst/>
              <a:gdLst/>
              <a:ahLst/>
              <a:rect l="l" t="t" r="r" b="b"/>
              <a:pathLst>
                <a:path w="4861" h="5327">
                  <a:moveTo>
                    <a:pt x="4398" y="463"/>
                  </a:moveTo>
                  <a:lnTo>
                    <a:pt x="4629" y="926"/>
                  </a:lnTo>
                  <a:lnTo>
                    <a:pt x="4745" y="1389"/>
                  </a:lnTo>
                  <a:lnTo>
                    <a:pt x="4745" y="1968"/>
                  </a:lnTo>
                  <a:lnTo>
                    <a:pt x="4861" y="2432"/>
                  </a:lnTo>
                  <a:lnTo>
                    <a:pt x="4745" y="2895"/>
                  </a:lnTo>
                  <a:lnTo>
                    <a:pt x="4629" y="3474"/>
                  </a:lnTo>
                  <a:lnTo>
                    <a:pt x="4398" y="3937"/>
                  </a:lnTo>
                  <a:lnTo>
                    <a:pt x="4051" y="4285"/>
                  </a:lnTo>
                  <a:lnTo>
                    <a:pt x="4051" y="4285"/>
                  </a:lnTo>
                  <a:lnTo>
                    <a:pt x="3935" y="4516"/>
                  </a:lnTo>
                  <a:lnTo>
                    <a:pt x="3819" y="4632"/>
                  </a:lnTo>
                  <a:lnTo>
                    <a:pt x="3588" y="4864"/>
                  </a:lnTo>
                  <a:lnTo>
                    <a:pt x="3356" y="4979"/>
                  </a:lnTo>
                  <a:lnTo>
                    <a:pt x="3125" y="5095"/>
                  </a:lnTo>
                  <a:lnTo>
                    <a:pt x="3009" y="5211"/>
                  </a:lnTo>
                  <a:lnTo>
                    <a:pt x="2778" y="5327"/>
                  </a:lnTo>
                  <a:lnTo>
                    <a:pt x="2430" y="5327"/>
                  </a:lnTo>
                  <a:lnTo>
                    <a:pt x="2430" y="5327"/>
                  </a:lnTo>
                  <a:lnTo>
                    <a:pt x="2083" y="5327"/>
                  </a:lnTo>
                  <a:lnTo>
                    <a:pt x="1736" y="5211"/>
                  </a:lnTo>
                  <a:lnTo>
                    <a:pt x="1389" y="5211"/>
                  </a:lnTo>
                  <a:lnTo>
                    <a:pt x="1157" y="5095"/>
                  </a:lnTo>
                  <a:lnTo>
                    <a:pt x="810" y="4864"/>
                  </a:lnTo>
                  <a:lnTo>
                    <a:pt x="579" y="4748"/>
                  </a:lnTo>
                  <a:lnTo>
                    <a:pt x="347" y="4400"/>
                  </a:lnTo>
                  <a:lnTo>
                    <a:pt x="231" y="4053"/>
                  </a:lnTo>
                  <a:lnTo>
                    <a:pt x="231" y="4053"/>
                  </a:lnTo>
                  <a:lnTo>
                    <a:pt x="116" y="3590"/>
                  </a:lnTo>
                  <a:lnTo>
                    <a:pt x="0" y="3242"/>
                  </a:lnTo>
                  <a:lnTo>
                    <a:pt x="116" y="2779"/>
                  </a:lnTo>
                  <a:lnTo>
                    <a:pt x="231" y="2316"/>
                  </a:lnTo>
                  <a:lnTo>
                    <a:pt x="347" y="1853"/>
                  </a:lnTo>
                  <a:lnTo>
                    <a:pt x="579" y="1505"/>
                  </a:lnTo>
                  <a:lnTo>
                    <a:pt x="810" y="1158"/>
                  </a:lnTo>
                  <a:lnTo>
                    <a:pt x="1157" y="926"/>
                  </a:lnTo>
                  <a:lnTo>
                    <a:pt x="1157" y="926"/>
                  </a:lnTo>
                  <a:lnTo>
                    <a:pt x="1504" y="579"/>
                  </a:lnTo>
                  <a:lnTo>
                    <a:pt x="1852" y="463"/>
                  </a:lnTo>
                  <a:lnTo>
                    <a:pt x="2199" y="347"/>
                  </a:lnTo>
                  <a:lnTo>
                    <a:pt x="2546" y="231"/>
                  </a:lnTo>
                  <a:lnTo>
                    <a:pt x="2893" y="115"/>
                  </a:lnTo>
                  <a:lnTo>
                    <a:pt x="3240" y="115"/>
                  </a:lnTo>
                  <a:lnTo>
                    <a:pt x="3703" y="115"/>
                  </a:lnTo>
                  <a:lnTo>
                    <a:pt x="4051" y="0"/>
                  </a:lnTo>
                  <a:lnTo>
                    <a:pt x="4051" y="0"/>
                  </a:lnTo>
                  <a:lnTo>
                    <a:pt x="4398" y="463"/>
                  </a:lnTo>
                  <a:lnTo>
                    <a:pt x="4398" y="463"/>
                  </a:lnTo>
                  <a:lnTo>
                    <a:pt x="4398" y="463"/>
                  </a:lnTo>
                  <a:lnTo>
                    <a:pt x="439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1800000" y="3639960"/>
              <a:ext cx="86760" cy="124200"/>
            </a:xfrm>
            <a:custGeom>
              <a:avLst/>
              <a:gdLst/>
              <a:ahLst/>
              <a:rect l="l" t="t" r="r" b="b"/>
              <a:pathLst>
                <a:path w="2430" h="2316">
                  <a:moveTo>
                    <a:pt x="2314" y="579"/>
                  </a:moveTo>
                  <a:lnTo>
                    <a:pt x="2430" y="811"/>
                  </a:lnTo>
                  <a:lnTo>
                    <a:pt x="2430" y="1042"/>
                  </a:lnTo>
                  <a:lnTo>
                    <a:pt x="2430" y="1274"/>
                  </a:lnTo>
                  <a:lnTo>
                    <a:pt x="2314" y="1506"/>
                  </a:lnTo>
                  <a:lnTo>
                    <a:pt x="2199" y="1737"/>
                  </a:lnTo>
                  <a:lnTo>
                    <a:pt x="2083" y="1969"/>
                  </a:lnTo>
                  <a:lnTo>
                    <a:pt x="1851" y="2085"/>
                  </a:lnTo>
                  <a:lnTo>
                    <a:pt x="1620" y="2201"/>
                  </a:lnTo>
                  <a:lnTo>
                    <a:pt x="1620" y="2201"/>
                  </a:lnTo>
                  <a:lnTo>
                    <a:pt x="1504" y="2201"/>
                  </a:lnTo>
                  <a:lnTo>
                    <a:pt x="1388" y="2316"/>
                  </a:lnTo>
                  <a:lnTo>
                    <a:pt x="1157" y="2316"/>
                  </a:lnTo>
                  <a:lnTo>
                    <a:pt x="1041" y="2201"/>
                  </a:lnTo>
                  <a:lnTo>
                    <a:pt x="926" y="2201"/>
                  </a:lnTo>
                  <a:lnTo>
                    <a:pt x="810" y="2201"/>
                  </a:lnTo>
                  <a:lnTo>
                    <a:pt x="578" y="2085"/>
                  </a:lnTo>
                  <a:lnTo>
                    <a:pt x="463" y="2085"/>
                  </a:lnTo>
                  <a:lnTo>
                    <a:pt x="463" y="2085"/>
                  </a:lnTo>
                  <a:lnTo>
                    <a:pt x="347" y="1969"/>
                  </a:lnTo>
                  <a:lnTo>
                    <a:pt x="231" y="1737"/>
                  </a:lnTo>
                  <a:lnTo>
                    <a:pt x="115" y="1622"/>
                  </a:lnTo>
                  <a:lnTo>
                    <a:pt x="115" y="1390"/>
                  </a:lnTo>
                  <a:lnTo>
                    <a:pt x="0" y="1274"/>
                  </a:lnTo>
                  <a:lnTo>
                    <a:pt x="0" y="1042"/>
                  </a:lnTo>
                  <a:lnTo>
                    <a:pt x="115" y="927"/>
                  </a:lnTo>
                  <a:lnTo>
                    <a:pt x="115" y="695"/>
                  </a:lnTo>
                  <a:lnTo>
                    <a:pt x="115" y="695"/>
                  </a:lnTo>
                  <a:lnTo>
                    <a:pt x="231" y="463"/>
                  </a:lnTo>
                  <a:lnTo>
                    <a:pt x="578" y="232"/>
                  </a:lnTo>
                  <a:lnTo>
                    <a:pt x="810" y="116"/>
                  </a:lnTo>
                  <a:lnTo>
                    <a:pt x="1273" y="0"/>
                  </a:lnTo>
                  <a:lnTo>
                    <a:pt x="1620" y="0"/>
                  </a:lnTo>
                  <a:lnTo>
                    <a:pt x="1851" y="116"/>
                  </a:lnTo>
                  <a:lnTo>
                    <a:pt x="2199" y="232"/>
                  </a:lnTo>
                  <a:lnTo>
                    <a:pt x="2314" y="579"/>
                  </a:lnTo>
                  <a:lnTo>
                    <a:pt x="2314" y="579"/>
                  </a:lnTo>
                  <a:lnTo>
                    <a:pt x="2314" y="579"/>
                  </a:lnTo>
                  <a:lnTo>
                    <a:pt x="2314" y="579"/>
                  </a:lnTo>
                  <a:lnTo>
                    <a:pt x="23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1969560" y="3670920"/>
              <a:ext cx="153000" cy="310680"/>
            </a:xfrm>
            <a:custGeom>
              <a:avLst/>
              <a:gdLst/>
              <a:ahLst/>
              <a:rect l="l" t="t" r="r" b="b"/>
              <a:pathLst>
                <a:path w="4282" h="5791">
                  <a:moveTo>
                    <a:pt x="4166" y="927"/>
                  </a:moveTo>
                  <a:lnTo>
                    <a:pt x="4282" y="1506"/>
                  </a:lnTo>
                  <a:lnTo>
                    <a:pt x="4282" y="1969"/>
                  </a:lnTo>
                  <a:lnTo>
                    <a:pt x="4282" y="2432"/>
                  </a:lnTo>
                  <a:lnTo>
                    <a:pt x="4166" y="2895"/>
                  </a:lnTo>
                  <a:lnTo>
                    <a:pt x="4050" y="3359"/>
                  </a:lnTo>
                  <a:lnTo>
                    <a:pt x="3935" y="3822"/>
                  </a:lnTo>
                  <a:lnTo>
                    <a:pt x="3703" y="4285"/>
                  </a:lnTo>
                  <a:lnTo>
                    <a:pt x="3587" y="4633"/>
                  </a:lnTo>
                  <a:lnTo>
                    <a:pt x="3587" y="4633"/>
                  </a:lnTo>
                  <a:lnTo>
                    <a:pt x="3240" y="4980"/>
                  </a:lnTo>
                  <a:lnTo>
                    <a:pt x="3009" y="5327"/>
                  </a:lnTo>
                  <a:lnTo>
                    <a:pt x="2662" y="5443"/>
                  </a:lnTo>
                  <a:lnTo>
                    <a:pt x="2199" y="5675"/>
                  </a:lnTo>
                  <a:lnTo>
                    <a:pt x="1851" y="5791"/>
                  </a:lnTo>
                  <a:lnTo>
                    <a:pt x="1504" y="5791"/>
                  </a:lnTo>
                  <a:lnTo>
                    <a:pt x="1041" y="5791"/>
                  </a:lnTo>
                  <a:lnTo>
                    <a:pt x="578" y="5791"/>
                  </a:lnTo>
                  <a:lnTo>
                    <a:pt x="578" y="5791"/>
                  </a:lnTo>
                  <a:lnTo>
                    <a:pt x="231" y="5096"/>
                  </a:lnTo>
                  <a:lnTo>
                    <a:pt x="0" y="4401"/>
                  </a:lnTo>
                  <a:lnTo>
                    <a:pt x="0" y="3706"/>
                  </a:lnTo>
                  <a:lnTo>
                    <a:pt x="0" y="3011"/>
                  </a:lnTo>
                  <a:lnTo>
                    <a:pt x="231" y="2316"/>
                  </a:lnTo>
                  <a:lnTo>
                    <a:pt x="463" y="1622"/>
                  </a:lnTo>
                  <a:lnTo>
                    <a:pt x="810" y="927"/>
                  </a:lnTo>
                  <a:lnTo>
                    <a:pt x="1157" y="348"/>
                  </a:lnTo>
                  <a:lnTo>
                    <a:pt x="1157" y="348"/>
                  </a:lnTo>
                  <a:lnTo>
                    <a:pt x="1389" y="232"/>
                  </a:lnTo>
                  <a:lnTo>
                    <a:pt x="1620" y="116"/>
                  </a:lnTo>
                  <a:lnTo>
                    <a:pt x="1851" y="0"/>
                  </a:lnTo>
                  <a:lnTo>
                    <a:pt x="2083" y="0"/>
                  </a:lnTo>
                  <a:lnTo>
                    <a:pt x="2314" y="0"/>
                  </a:lnTo>
                  <a:lnTo>
                    <a:pt x="2662" y="0"/>
                  </a:lnTo>
                  <a:lnTo>
                    <a:pt x="2893" y="116"/>
                  </a:lnTo>
                  <a:lnTo>
                    <a:pt x="3124" y="116"/>
                  </a:lnTo>
                  <a:lnTo>
                    <a:pt x="3124" y="116"/>
                  </a:lnTo>
                  <a:lnTo>
                    <a:pt x="3240" y="232"/>
                  </a:lnTo>
                  <a:lnTo>
                    <a:pt x="3472" y="232"/>
                  </a:lnTo>
                  <a:lnTo>
                    <a:pt x="3587" y="348"/>
                  </a:lnTo>
                  <a:lnTo>
                    <a:pt x="3703" y="463"/>
                  </a:lnTo>
                  <a:lnTo>
                    <a:pt x="3819" y="579"/>
                  </a:lnTo>
                  <a:lnTo>
                    <a:pt x="3935" y="695"/>
                  </a:lnTo>
                  <a:lnTo>
                    <a:pt x="4050" y="811"/>
                  </a:lnTo>
                  <a:lnTo>
                    <a:pt x="4166" y="927"/>
                  </a:lnTo>
                  <a:lnTo>
                    <a:pt x="4166" y="927"/>
                  </a:lnTo>
                  <a:lnTo>
                    <a:pt x="4166" y="927"/>
                  </a:lnTo>
                  <a:lnTo>
                    <a:pt x="4166" y="927"/>
                  </a:lnTo>
                  <a:lnTo>
                    <a:pt x="4166"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1841400" y="3683520"/>
              <a:ext cx="20520" cy="30960"/>
            </a:xfrm>
            <a:custGeom>
              <a:avLst/>
              <a:gdLst/>
              <a:ahLst/>
              <a:rect l="l" t="t" r="r" b="b"/>
              <a:pathLst>
                <a:path w="579" h="579">
                  <a:moveTo>
                    <a:pt x="463" y="579"/>
                  </a:moveTo>
                  <a:lnTo>
                    <a:pt x="463" y="579"/>
                  </a:lnTo>
                  <a:lnTo>
                    <a:pt x="347" y="579"/>
                  </a:lnTo>
                  <a:lnTo>
                    <a:pt x="231" y="579"/>
                  </a:lnTo>
                  <a:lnTo>
                    <a:pt x="231" y="579"/>
                  </a:lnTo>
                  <a:lnTo>
                    <a:pt x="116" y="579"/>
                  </a:lnTo>
                  <a:lnTo>
                    <a:pt x="116" y="579"/>
                  </a:lnTo>
                  <a:lnTo>
                    <a:pt x="0" y="463"/>
                  </a:lnTo>
                  <a:lnTo>
                    <a:pt x="0" y="347"/>
                  </a:lnTo>
                  <a:lnTo>
                    <a:pt x="0" y="347"/>
                  </a:lnTo>
                  <a:lnTo>
                    <a:pt x="0" y="347"/>
                  </a:lnTo>
                  <a:lnTo>
                    <a:pt x="116" y="347"/>
                  </a:lnTo>
                  <a:lnTo>
                    <a:pt x="116" y="231"/>
                  </a:lnTo>
                  <a:lnTo>
                    <a:pt x="116" y="231"/>
                  </a:lnTo>
                  <a:lnTo>
                    <a:pt x="116" y="231"/>
                  </a:lnTo>
                  <a:lnTo>
                    <a:pt x="116" y="116"/>
                  </a:lnTo>
                  <a:lnTo>
                    <a:pt x="116" y="116"/>
                  </a:lnTo>
                  <a:lnTo>
                    <a:pt x="116" y="116"/>
                  </a:lnTo>
                  <a:lnTo>
                    <a:pt x="116" y="116"/>
                  </a:lnTo>
                  <a:lnTo>
                    <a:pt x="579" y="0"/>
                  </a:lnTo>
                  <a:lnTo>
                    <a:pt x="579" y="0"/>
                  </a:lnTo>
                  <a:lnTo>
                    <a:pt x="579" y="0"/>
                  </a:lnTo>
                  <a:lnTo>
                    <a:pt x="579" y="116"/>
                  </a:lnTo>
                  <a:lnTo>
                    <a:pt x="579" y="116"/>
                  </a:lnTo>
                  <a:lnTo>
                    <a:pt x="579" y="231"/>
                  </a:lnTo>
                  <a:lnTo>
                    <a:pt x="579" y="347"/>
                  </a:lnTo>
                  <a:lnTo>
                    <a:pt x="579" y="463"/>
                  </a:lnTo>
                  <a:lnTo>
                    <a:pt x="579" y="463"/>
                  </a:lnTo>
                  <a:lnTo>
                    <a:pt x="463" y="579"/>
                  </a:lnTo>
                  <a:lnTo>
                    <a:pt x="463" y="579"/>
                  </a:lnTo>
                  <a:lnTo>
                    <a:pt x="463" y="579"/>
                  </a:lnTo>
                  <a:lnTo>
                    <a:pt x="463" y="579"/>
                  </a:lnTo>
                  <a:lnTo>
                    <a:pt x="463" y="57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71" name=""/>
            <p:cNvSpPr/>
            <p:nvPr/>
          </p:nvSpPr>
          <p:spPr>
            <a:xfrm>
              <a:off x="1998720" y="3708360"/>
              <a:ext cx="65880" cy="99360"/>
            </a:xfrm>
            <a:custGeom>
              <a:avLst/>
              <a:gdLst/>
              <a:ahLst/>
              <a:rect l="l" t="t" r="r" b="b"/>
              <a:pathLst>
                <a:path w="1852" h="1853">
                  <a:moveTo>
                    <a:pt x="1852" y="579"/>
                  </a:moveTo>
                  <a:lnTo>
                    <a:pt x="1852" y="811"/>
                  </a:lnTo>
                  <a:lnTo>
                    <a:pt x="1852" y="927"/>
                  </a:lnTo>
                  <a:lnTo>
                    <a:pt x="1736" y="1158"/>
                  </a:lnTo>
                  <a:lnTo>
                    <a:pt x="1736" y="1390"/>
                  </a:lnTo>
                  <a:lnTo>
                    <a:pt x="1620" y="1506"/>
                  </a:lnTo>
                  <a:lnTo>
                    <a:pt x="1389" y="1621"/>
                  </a:lnTo>
                  <a:lnTo>
                    <a:pt x="1273" y="1737"/>
                  </a:lnTo>
                  <a:lnTo>
                    <a:pt x="1041" y="1853"/>
                  </a:lnTo>
                  <a:lnTo>
                    <a:pt x="1041" y="1853"/>
                  </a:lnTo>
                  <a:lnTo>
                    <a:pt x="926" y="1853"/>
                  </a:lnTo>
                  <a:lnTo>
                    <a:pt x="694" y="1853"/>
                  </a:lnTo>
                  <a:lnTo>
                    <a:pt x="579" y="1737"/>
                  </a:lnTo>
                  <a:lnTo>
                    <a:pt x="463" y="1737"/>
                  </a:lnTo>
                  <a:lnTo>
                    <a:pt x="347" y="1621"/>
                  </a:lnTo>
                  <a:lnTo>
                    <a:pt x="231" y="1506"/>
                  </a:lnTo>
                  <a:lnTo>
                    <a:pt x="116" y="1390"/>
                  </a:lnTo>
                  <a:lnTo>
                    <a:pt x="0" y="1274"/>
                  </a:lnTo>
                  <a:lnTo>
                    <a:pt x="0" y="1274"/>
                  </a:lnTo>
                  <a:lnTo>
                    <a:pt x="0" y="1158"/>
                  </a:lnTo>
                  <a:lnTo>
                    <a:pt x="0" y="927"/>
                  </a:lnTo>
                  <a:lnTo>
                    <a:pt x="0" y="811"/>
                  </a:lnTo>
                  <a:lnTo>
                    <a:pt x="0" y="695"/>
                  </a:lnTo>
                  <a:lnTo>
                    <a:pt x="0" y="463"/>
                  </a:lnTo>
                  <a:lnTo>
                    <a:pt x="116" y="348"/>
                  </a:lnTo>
                  <a:lnTo>
                    <a:pt x="116" y="232"/>
                  </a:lnTo>
                  <a:lnTo>
                    <a:pt x="231" y="116"/>
                  </a:lnTo>
                  <a:lnTo>
                    <a:pt x="231" y="116"/>
                  </a:lnTo>
                  <a:lnTo>
                    <a:pt x="463" y="0"/>
                  </a:lnTo>
                  <a:lnTo>
                    <a:pt x="694" y="0"/>
                  </a:lnTo>
                  <a:lnTo>
                    <a:pt x="926" y="0"/>
                  </a:lnTo>
                  <a:lnTo>
                    <a:pt x="1157" y="0"/>
                  </a:lnTo>
                  <a:lnTo>
                    <a:pt x="1389" y="0"/>
                  </a:lnTo>
                  <a:lnTo>
                    <a:pt x="1620" y="116"/>
                  </a:lnTo>
                  <a:lnTo>
                    <a:pt x="1736" y="348"/>
                  </a:lnTo>
                  <a:lnTo>
                    <a:pt x="1852" y="579"/>
                  </a:lnTo>
                  <a:lnTo>
                    <a:pt x="1852" y="579"/>
                  </a:lnTo>
                  <a:lnTo>
                    <a:pt x="1852" y="579"/>
                  </a:lnTo>
                  <a:lnTo>
                    <a:pt x="1852" y="579"/>
                  </a:lnTo>
                  <a:lnTo>
                    <a:pt x="1852"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2027520" y="3739320"/>
              <a:ext cx="20520" cy="37080"/>
            </a:xfrm>
            <a:custGeom>
              <a:avLst/>
              <a:gdLst/>
              <a:ahLst/>
              <a:rect l="l" t="t" r="r" b="b"/>
              <a:pathLst>
                <a:path w="579" h="695">
                  <a:moveTo>
                    <a:pt x="463" y="116"/>
                  </a:moveTo>
                  <a:lnTo>
                    <a:pt x="463" y="116"/>
                  </a:lnTo>
                  <a:lnTo>
                    <a:pt x="579" y="232"/>
                  </a:lnTo>
                  <a:lnTo>
                    <a:pt x="463" y="348"/>
                  </a:lnTo>
                  <a:lnTo>
                    <a:pt x="463" y="463"/>
                  </a:lnTo>
                  <a:lnTo>
                    <a:pt x="463" y="463"/>
                  </a:lnTo>
                  <a:lnTo>
                    <a:pt x="347" y="579"/>
                  </a:lnTo>
                  <a:lnTo>
                    <a:pt x="231" y="579"/>
                  </a:lnTo>
                  <a:lnTo>
                    <a:pt x="231" y="695"/>
                  </a:lnTo>
                  <a:lnTo>
                    <a:pt x="231" y="695"/>
                  </a:lnTo>
                  <a:lnTo>
                    <a:pt x="116" y="695"/>
                  </a:lnTo>
                  <a:lnTo>
                    <a:pt x="116" y="695"/>
                  </a:lnTo>
                  <a:lnTo>
                    <a:pt x="0" y="579"/>
                  </a:lnTo>
                  <a:lnTo>
                    <a:pt x="0" y="579"/>
                  </a:lnTo>
                  <a:lnTo>
                    <a:pt x="0" y="579"/>
                  </a:lnTo>
                  <a:lnTo>
                    <a:pt x="0" y="463"/>
                  </a:lnTo>
                  <a:lnTo>
                    <a:pt x="0" y="463"/>
                  </a:lnTo>
                  <a:lnTo>
                    <a:pt x="0" y="348"/>
                  </a:lnTo>
                  <a:lnTo>
                    <a:pt x="0" y="348"/>
                  </a:lnTo>
                  <a:lnTo>
                    <a:pt x="0" y="232"/>
                  </a:lnTo>
                  <a:lnTo>
                    <a:pt x="0" y="232"/>
                  </a:lnTo>
                  <a:lnTo>
                    <a:pt x="0" y="116"/>
                  </a:lnTo>
                  <a:lnTo>
                    <a:pt x="116" y="116"/>
                  </a:lnTo>
                  <a:lnTo>
                    <a:pt x="116" y="116"/>
                  </a:lnTo>
                  <a:lnTo>
                    <a:pt x="231" y="116"/>
                  </a:lnTo>
                  <a:lnTo>
                    <a:pt x="231" y="0"/>
                  </a:lnTo>
                  <a:lnTo>
                    <a:pt x="231" y="0"/>
                  </a:lnTo>
                  <a:lnTo>
                    <a:pt x="231" y="0"/>
                  </a:lnTo>
                  <a:lnTo>
                    <a:pt x="231" y="0"/>
                  </a:lnTo>
                  <a:lnTo>
                    <a:pt x="347" y="0"/>
                  </a:lnTo>
                  <a:lnTo>
                    <a:pt x="347" y="0"/>
                  </a:lnTo>
                  <a:lnTo>
                    <a:pt x="347" y="0"/>
                  </a:lnTo>
                  <a:lnTo>
                    <a:pt x="347" y="116"/>
                  </a:lnTo>
                  <a:lnTo>
                    <a:pt x="463" y="116"/>
                  </a:lnTo>
                  <a:lnTo>
                    <a:pt x="463" y="116"/>
                  </a:lnTo>
                  <a:lnTo>
                    <a:pt x="463" y="116"/>
                  </a:lnTo>
                  <a:lnTo>
                    <a:pt x="463" y="116"/>
                  </a:lnTo>
                  <a:lnTo>
                    <a:pt x="463" y="116"/>
                  </a:lnTo>
                  <a:lnTo>
                    <a:pt x="463" y="116"/>
                  </a:lnTo>
                  <a:lnTo>
                    <a:pt x="463" y="116"/>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373" name=""/>
            <p:cNvSpPr/>
            <p:nvPr/>
          </p:nvSpPr>
          <p:spPr>
            <a:xfrm>
              <a:off x="1601280" y="4012920"/>
              <a:ext cx="57600" cy="37080"/>
            </a:xfrm>
            <a:custGeom>
              <a:avLst/>
              <a:gdLst/>
              <a:ahLst/>
              <a:rect l="l" t="t" r="r" b="b"/>
              <a:pathLst>
                <a:path w="1620" h="695">
                  <a:moveTo>
                    <a:pt x="1620" y="116"/>
                  </a:moveTo>
                  <a:lnTo>
                    <a:pt x="1388" y="116"/>
                  </a:lnTo>
                  <a:lnTo>
                    <a:pt x="1157" y="116"/>
                  </a:lnTo>
                  <a:lnTo>
                    <a:pt x="1041" y="231"/>
                  </a:lnTo>
                  <a:lnTo>
                    <a:pt x="810" y="347"/>
                  </a:lnTo>
                  <a:lnTo>
                    <a:pt x="578" y="347"/>
                  </a:lnTo>
                  <a:lnTo>
                    <a:pt x="462" y="463"/>
                  </a:lnTo>
                  <a:lnTo>
                    <a:pt x="347" y="579"/>
                  </a:lnTo>
                  <a:lnTo>
                    <a:pt x="115" y="695"/>
                  </a:lnTo>
                  <a:lnTo>
                    <a:pt x="115" y="695"/>
                  </a:lnTo>
                  <a:lnTo>
                    <a:pt x="115" y="695"/>
                  </a:lnTo>
                  <a:lnTo>
                    <a:pt x="0" y="695"/>
                  </a:lnTo>
                  <a:lnTo>
                    <a:pt x="0" y="579"/>
                  </a:lnTo>
                  <a:lnTo>
                    <a:pt x="0" y="579"/>
                  </a:lnTo>
                  <a:lnTo>
                    <a:pt x="0" y="463"/>
                  </a:lnTo>
                  <a:lnTo>
                    <a:pt x="0" y="463"/>
                  </a:lnTo>
                  <a:lnTo>
                    <a:pt x="0" y="347"/>
                  </a:lnTo>
                  <a:lnTo>
                    <a:pt x="115" y="347"/>
                  </a:lnTo>
                  <a:lnTo>
                    <a:pt x="115" y="347"/>
                  </a:lnTo>
                  <a:lnTo>
                    <a:pt x="231" y="231"/>
                  </a:lnTo>
                  <a:lnTo>
                    <a:pt x="462" y="116"/>
                  </a:lnTo>
                  <a:lnTo>
                    <a:pt x="578" y="0"/>
                  </a:lnTo>
                  <a:lnTo>
                    <a:pt x="810" y="0"/>
                  </a:lnTo>
                  <a:lnTo>
                    <a:pt x="1041" y="0"/>
                  </a:lnTo>
                  <a:lnTo>
                    <a:pt x="1157" y="0"/>
                  </a:lnTo>
                  <a:lnTo>
                    <a:pt x="1388" y="0"/>
                  </a:lnTo>
                  <a:lnTo>
                    <a:pt x="1620" y="116"/>
                  </a:lnTo>
                  <a:lnTo>
                    <a:pt x="1620" y="116"/>
                  </a:lnTo>
                  <a:lnTo>
                    <a:pt x="1620" y="116"/>
                  </a:lnTo>
                  <a:lnTo>
                    <a:pt x="1620" y="116"/>
                  </a:lnTo>
                  <a:lnTo>
                    <a:pt x="1620" y="11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374" name=""/>
            <p:cNvSpPr/>
            <p:nvPr/>
          </p:nvSpPr>
          <p:spPr>
            <a:xfrm>
              <a:off x="1588680" y="4056480"/>
              <a:ext cx="517320" cy="173880"/>
            </a:xfrm>
            <a:custGeom>
              <a:avLst/>
              <a:gdLst/>
              <a:ahLst/>
              <a:rect l="l" t="t" r="r" b="b"/>
              <a:pathLst>
                <a:path w="14467" h="3243">
                  <a:moveTo>
                    <a:pt x="3820" y="232"/>
                  </a:moveTo>
                  <a:lnTo>
                    <a:pt x="3704" y="232"/>
                  </a:lnTo>
                  <a:lnTo>
                    <a:pt x="3472" y="232"/>
                  </a:lnTo>
                  <a:lnTo>
                    <a:pt x="3357" y="232"/>
                  </a:lnTo>
                  <a:lnTo>
                    <a:pt x="3125" y="232"/>
                  </a:lnTo>
                  <a:lnTo>
                    <a:pt x="3009" y="348"/>
                  </a:lnTo>
                  <a:lnTo>
                    <a:pt x="2778" y="348"/>
                  </a:lnTo>
                  <a:lnTo>
                    <a:pt x="2662" y="348"/>
                  </a:lnTo>
                  <a:lnTo>
                    <a:pt x="2431" y="464"/>
                  </a:lnTo>
                  <a:lnTo>
                    <a:pt x="2431" y="464"/>
                  </a:lnTo>
                  <a:lnTo>
                    <a:pt x="2431" y="695"/>
                  </a:lnTo>
                  <a:lnTo>
                    <a:pt x="2431" y="695"/>
                  </a:lnTo>
                  <a:lnTo>
                    <a:pt x="2894" y="1159"/>
                  </a:lnTo>
                  <a:lnTo>
                    <a:pt x="3472" y="1622"/>
                  </a:lnTo>
                  <a:lnTo>
                    <a:pt x="4051" y="1853"/>
                  </a:lnTo>
                  <a:lnTo>
                    <a:pt x="4745" y="2085"/>
                  </a:lnTo>
                  <a:lnTo>
                    <a:pt x="5440" y="2201"/>
                  </a:lnTo>
                  <a:lnTo>
                    <a:pt x="6018" y="2432"/>
                  </a:lnTo>
                  <a:lnTo>
                    <a:pt x="6713" y="2548"/>
                  </a:lnTo>
                  <a:lnTo>
                    <a:pt x="7291" y="2780"/>
                  </a:lnTo>
                  <a:lnTo>
                    <a:pt x="7291" y="2780"/>
                  </a:lnTo>
                  <a:lnTo>
                    <a:pt x="7639" y="2780"/>
                  </a:lnTo>
                  <a:lnTo>
                    <a:pt x="7986" y="2780"/>
                  </a:lnTo>
                  <a:lnTo>
                    <a:pt x="8333" y="2780"/>
                  </a:lnTo>
                  <a:lnTo>
                    <a:pt x="8680" y="2664"/>
                  </a:lnTo>
                  <a:lnTo>
                    <a:pt x="9027" y="2664"/>
                  </a:lnTo>
                  <a:lnTo>
                    <a:pt x="9375" y="2548"/>
                  </a:lnTo>
                  <a:lnTo>
                    <a:pt x="9722" y="2432"/>
                  </a:lnTo>
                  <a:lnTo>
                    <a:pt x="10069" y="2317"/>
                  </a:lnTo>
                  <a:lnTo>
                    <a:pt x="10069" y="2317"/>
                  </a:lnTo>
                  <a:lnTo>
                    <a:pt x="10185" y="2317"/>
                  </a:lnTo>
                  <a:lnTo>
                    <a:pt x="10185" y="2317"/>
                  </a:lnTo>
                  <a:lnTo>
                    <a:pt x="10301" y="2317"/>
                  </a:lnTo>
                  <a:lnTo>
                    <a:pt x="10416" y="2317"/>
                  </a:lnTo>
                  <a:lnTo>
                    <a:pt x="10532" y="2317"/>
                  </a:lnTo>
                  <a:lnTo>
                    <a:pt x="10648" y="2201"/>
                  </a:lnTo>
                  <a:lnTo>
                    <a:pt x="10763" y="2201"/>
                  </a:lnTo>
                  <a:lnTo>
                    <a:pt x="10763" y="2085"/>
                  </a:lnTo>
                  <a:lnTo>
                    <a:pt x="10763" y="2085"/>
                  </a:lnTo>
                  <a:lnTo>
                    <a:pt x="10879" y="2201"/>
                  </a:lnTo>
                  <a:lnTo>
                    <a:pt x="10879" y="2201"/>
                  </a:lnTo>
                  <a:lnTo>
                    <a:pt x="11226" y="1969"/>
                  </a:lnTo>
                  <a:lnTo>
                    <a:pt x="11574" y="1853"/>
                  </a:lnTo>
                  <a:lnTo>
                    <a:pt x="11921" y="1738"/>
                  </a:lnTo>
                  <a:lnTo>
                    <a:pt x="12268" y="1622"/>
                  </a:lnTo>
                  <a:lnTo>
                    <a:pt x="12615" y="1506"/>
                  </a:lnTo>
                  <a:lnTo>
                    <a:pt x="12962" y="1506"/>
                  </a:lnTo>
                  <a:lnTo>
                    <a:pt x="13310" y="1506"/>
                  </a:lnTo>
                  <a:lnTo>
                    <a:pt x="13772" y="1506"/>
                  </a:lnTo>
                  <a:lnTo>
                    <a:pt x="13772" y="1506"/>
                  </a:lnTo>
                  <a:lnTo>
                    <a:pt x="13772" y="1506"/>
                  </a:lnTo>
                  <a:lnTo>
                    <a:pt x="13888" y="1390"/>
                  </a:lnTo>
                  <a:lnTo>
                    <a:pt x="14004" y="1390"/>
                  </a:lnTo>
                  <a:lnTo>
                    <a:pt x="14120" y="1274"/>
                  </a:lnTo>
                  <a:lnTo>
                    <a:pt x="14120" y="1159"/>
                  </a:lnTo>
                  <a:lnTo>
                    <a:pt x="14235" y="1159"/>
                  </a:lnTo>
                  <a:lnTo>
                    <a:pt x="14351" y="1159"/>
                  </a:lnTo>
                  <a:lnTo>
                    <a:pt x="14467" y="1159"/>
                  </a:lnTo>
                  <a:lnTo>
                    <a:pt x="14467" y="1159"/>
                  </a:lnTo>
                  <a:lnTo>
                    <a:pt x="14467" y="1274"/>
                  </a:lnTo>
                  <a:lnTo>
                    <a:pt x="14351" y="1390"/>
                  </a:lnTo>
                  <a:lnTo>
                    <a:pt x="14351" y="1506"/>
                  </a:lnTo>
                  <a:lnTo>
                    <a:pt x="14235" y="1622"/>
                  </a:lnTo>
                  <a:lnTo>
                    <a:pt x="14120" y="1738"/>
                  </a:lnTo>
                  <a:lnTo>
                    <a:pt x="14004" y="1853"/>
                  </a:lnTo>
                  <a:lnTo>
                    <a:pt x="13888" y="1853"/>
                  </a:lnTo>
                  <a:lnTo>
                    <a:pt x="13772" y="1969"/>
                  </a:lnTo>
                  <a:lnTo>
                    <a:pt x="13772" y="1969"/>
                  </a:lnTo>
                  <a:lnTo>
                    <a:pt x="12962" y="1969"/>
                  </a:lnTo>
                  <a:lnTo>
                    <a:pt x="12152" y="2085"/>
                  </a:lnTo>
                  <a:lnTo>
                    <a:pt x="11458" y="2317"/>
                  </a:lnTo>
                  <a:lnTo>
                    <a:pt x="10648" y="2548"/>
                  </a:lnTo>
                  <a:lnTo>
                    <a:pt x="9953" y="2780"/>
                  </a:lnTo>
                  <a:lnTo>
                    <a:pt x="9143" y="3011"/>
                  </a:lnTo>
                  <a:lnTo>
                    <a:pt x="8333" y="3127"/>
                  </a:lnTo>
                  <a:lnTo>
                    <a:pt x="7523" y="3243"/>
                  </a:lnTo>
                  <a:lnTo>
                    <a:pt x="7523" y="3243"/>
                  </a:lnTo>
                  <a:lnTo>
                    <a:pt x="6713" y="3011"/>
                  </a:lnTo>
                  <a:lnTo>
                    <a:pt x="6018" y="2896"/>
                  </a:lnTo>
                  <a:lnTo>
                    <a:pt x="5208" y="2664"/>
                  </a:lnTo>
                  <a:lnTo>
                    <a:pt x="4514" y="2432"/>
                  </a:lnTo>
                  <a:lnTo>
                    <a:pt x="3704" y="2201"/>
                  </a:lnTo>
                  <a:lnTo>
                    <a:pt x="3125" y="1738"/>
                  </a:lnTo>
                  <a:lnTo>
                    <a:pt x="2431" y="1274"/>
                  </a:lnTo>
                  <a:lnTo>
                    <a:pt x="1968" y="695"/>
                  </a:lnTo>
                  <a:lnTo>
                    <a:pt x="1968" y="695"/>
                  </a:lnTo>
                  <a:lnTo>
                    <a:pt x="1736" y="811"/>
                  </a:lnTo>
                  <a:lnTo>
                    <a:pt x="1505" y="927"/>
                  </a:lnTo>
                  <a:lnTo>
                    <a:pt x="1273" y="1043"/>
                  </a:lnTo>
                  <a:lnTo>
                    <a:pt x="1042" y="1159"/>
                  </a:lnTo>
                  <a:lnTo>
                    <a:pt x="810" y="1274"/>
                  </a:lnTo>
                  <a:lnTo>
                    <a:pt x="579" y="1506"/>
                  </a:lnTo>
                  <a:lnTo>
                    <a:pt x="463" y="1622"/>
                  </a:lnTo>
                  <a:lnTo>
                    <a:pt x="348" y="1853"/>
                  </a:lnTo>
                  <a:lnTo>
                    <a:pt x="348" y="1853"/>
                  </a:lnTo>
                  <a:lnTo>
                    <a:pt x="232" y="1853"/>
                  </a:lnTo>
                  <a:lnTo>
                    <a:pt x="232" y="1853"/>
                  </a:lnTo>
                  <a:lnTo>
                    <a:pt x="116" y="1853"/>
                  </a:lnTo>
                  <a:lnTo>
                    <a:pt x="116" y="1853"/>
                  </a:lnTo>
                  <a:lnTo>
                    <a:pt x="116" y="1853"/>
                  </a:lnTo>
                  <a:lnTo>
                    <a:pt x="116" y="1738"/>
                  </a:lnTo>
                  <a:lnTo>
                    <a:pt x="0" y="1738"/>
                  </a:lnTo>
                  <a:lnTo>
                    <a:pt x="0" y="1738"/>
                  </a:lnTo>
                  <a:lnTo>
                    <a:pt x="0" y="1738"/>
                  </a:lnTo>
                  <a:lnTo>
                    <a:pt x="116" y="1390"/>
                  </a:lnTo>
                  <a:lnTo>
                    <a:pt x="348" y="1159"/>
                  </a:lnTo>
                  <a:lnTo>
                    <a:pt x="463" y="927"/>
                  </a:lnTo>
                  <a:lnTo>
                    <a:pt x="810" y="811"/>
                  </a:lnTo>
                  <a:lnTo>
                    <a:pt x="1042" y="695"/>
                  </a:lnTo>
                  <a:lnTo>
                    <a:pt x="1273" y="579"/>
                  </a:lnTo>
                  <a:lnTo>
                    <a:pt x="1621" y="348"/>
                  </a:lnTo>
                  <a:lnTo>
                    <a:pt x="1852" y="232"/>
                  </a:lnTo>
                  <a:lnTo>
                    <a:pt x="1852" y="232"/>
                  </a:lnTo>
                  <a:lnTo>
                    <a:pt x="2084" y="116"/>
                  </a:lnTo>
                  <a:lnTo>
                    <a:pt x="2315" y="116"/>
                  </a:lnTo>
                  <a:lnTo>
                    <a:pt x="2546" y="0"/>
                  </a:lnTo>
                  <a:lnTo>
                    <a:pt x="2778" y="0"/>
                  </a:lnTo>
                  <a:lnTo>
                    <a:pt x="3125" y="0"/>
                  </a:lnTo>
                  <a:lnTo>
                    <a:pt x="3357" y="116"/>
                  </a:lnTo>
                  <a:lnTo>
                    <a:pt x="3588" y="116"/>
                  </a:lnTo>
                  <a:lnTo>
                    <a:pt x="3820" y="232"/>
                  </a:lnTo>
                  <a:lnTo>
                    <a:pt x="3820" y="232"/>
                  </a:lnTo>
                  <a:lnTo>
                    <a:pt x="3820" y="232"/>
                  </a:lnTo>
                  <a:lnTo>
                    <a:pt x="3820" y="232"/>
                  </a:lnTo>
                  <a:lnTo>
                    <a:pt x="382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2594520" y="4156200"/>
              <a:ext cx="343440" cy="298440"/>
            </a:xfrm>
            <a:custGeom>
              <a:avLst/>
              <a:gdLst/>
              <a:ahLst/>
              <a:rect l="l" t="t" r="r" b="b"/>
              <a:pathLst>
                <a:path w="9606" h="5559">
                  <a:moveTo>
                    <a:pt x="9606" y="695"/>
                  </a:moveTo>
                  <a:lnTo>
                    <a:pt x="9606" y="811"/>
                  </a:lnTo>
                  <a:lnTo>
                    <a:pt x="9606" y="811"/>
                  </a:lnTo>
                  <a:lnTo>
                    <a:pt x="9490" y="811"/>
                  </a:lnTo>
                  <a:lnTo>
                    <a:pt x="9375" y="811"/>
                  </a:lnTo>
                  <a:lnTo>
                    <a:pt x="9259" y="811"/>
                  </a:lnTo>
                  <a:lnTo>
                    <a:pt x="9143" y="811"/>
                  </a:lnTo>
                  <a:lnTo>
                    <a:pt x="9027" y="811"/>
                  </a:lnTo>
                  <a:lnTo>
                    <a:pt x="8912" y="927"/>
                  </a:lnTo>
                  <a:lnTo>
                    <a:pt x="8796" y="927"/>
                  </a:lnTo>
                  <a:lnTo>
                    <a:pt x="8680" y="1043"/>
                  </a:lnTo>
                  <a:lnTo>
                    <a:pt x="8680" y="1043"/>
                  </a:lnTo>
                  <a:lnTo>
                    <a:pt x="8912" y="1158"/>
                  </a:lnTo>
                  <a:lnTo>
                    <a:pt x="8912" y="1158"/>
                  </a:lnTo>
                  <a:lnTo>
                    <a:pt x="8680" y="1158"/>
                  </a:lnTo>
                  <a:lnTo>
                    <a:pt x="8564" y="1274"/>
                  </a:lnTo>
                  <a:lnTo>
                    <a:pt x="8333" y="1274"/>
                  </a:lnTo>
                  <a:lnTo>
                    <a:pt x="8102" y="1274"/>
                  </a:lnTo>
                  <a:lnTo>
                    <a:pt x="7986" y="1390"/>
                  </a:lnTo>
                  <a:lnTo>
                    <a:pt x="7754" y="1390"/>
                  </a:lnTo>
                  <a:lnTo>
                    <a:pt x="7639" y="1506"/>
                  </a:lnTo>
                  <a:lnTo>
                    <a:pt x="7407" y="1622"/>
                  </a:lnTo>
                  <a:lnTo>
                    <a:pt x="7407" y="1622"/>
                  </a:lnTo>
                  <a:lnTo>
                    <a:pt x="7639" y="1622"/>
                  </a:lnTo>
                  <a:lnTo>
                    <a:pt x="7754" y="1622"/>
                  </a:lnTo>
                  <a:lnTo>
                    <a:pt x="7870" y="1738"/>
                  </a:lnTo>
                  <a:lnTo>
                    <a:pt x="7986" y="1738"/>
                  </a:lnTo>
                  <a:lnTo>
                    <a:pt x="8102" y="1738"/>
                  </a:lnTo>
                  <a:lnTo>
                    <a:pt x="8217" y="1853"/>
                  </a:lnTo>
                  <a:lnTo>
                    <a:pt x="8333" y="1853"/>
                  </a:lnTo>
                  <a:lnTo>
                    <a:pt x="8564" y="1853"/>
                  </a:lnTo>
                  <a:lnTo>
                    <a:pt x="8564" y="1853"/>
                  </a:lnTo>
                  <a:lnTo>
                    <a:pt x="8564" y="1969"/>
                  </a:lnTo>
                  <a:lnTo>
                    <a:pt x="8564" y="1969"/>
                  </a:lnTo>
                  <a:lnTo>
                    <a:pt x="8564" y="1969"/>
                  </a:lnTo>
                  <a:lnTo>
                    <a:pt x="8680" y="2085"/>
                  </a:lnTo>
                  <a:lnTo>
                    <a:pt x="8680" y="2085"/>
                  </a:lnTo>
                  <a:lnTo>
                    <a:pt x="8796" y="1969"/>
                  </a:lnTo>
                  <a:lnTo>
                    <a:pt x="8796" y="1969"/>
                  </a:lnTo>
                  <a:lnTo>
                    <a:pt x="8912" y="1969"/>
                  </a:lnTo>
                  <a:lnTo>
                    <a:pt x="8912" y="1969"/>
                  </a:lnTo>
                  <a:lnTo>
                    <a:pt x="9027" y="1969"/>
                  </a:lnTo>
                  <a:lnTo>
                    <a:pt x="9027" y="1969"/>
                  </a:lnTo>
                  <a:lnTo>
                    <a:pt x="8796" y="2085"/>
                  </a:lnTo>
                  <a:lnTo>
                    <a:pt x="8680" y="2085"/>
                  </a:lnTo>
                  <a:lnTo>
                    <a:pt x="8449" y="2201"/>
                  </a:lnTo>
                  <a:lnTo>
                    <a:pt x="8333" y="2317"/>
                  </a:lnTo>
                  <a:lnTo>
                    <a:pt x="8102" y="2317"/>
                  </a:lnTo>
                  <a:lnTo>
                    <a:pt x="7986" y="2432"/>
                  </a:lnTo>
                  <a:lnTo>
                    <a:pt x="7754" y="2664"/>
                  </a:lnTo>
                  <a:lnTo>
                    <a:pt x="7639" y="2780"/>
                  </a:lnTo>
                  <a:lnTo>
                    <a:pt x="7639" y="2780"/>
                  </a:lnTo>
                  <a:lnTo>
                    <a:pt x="7870" y="2780"/>
                  </a:lnTo>
                  <a:lnTo>
                    <a:pt x="8102" y="2780"/>
                  </a:lnTo>
                  <a:lnTo>
                    <a:pt x="8333" y="2780"/>
                  </a:lnTo>
                  <a:lnTo>
                    <a:pt x="8564" y="2664"/>
                  </a:lnTo>
                  <a:lnTo>
                    <a:pt x="8796" y="2548"/>
                  </a:lnTo>
                  <a:lnTo>
                    <a:pt x="9027" y="2548"/>
                  </a:lnTo>
                  <a:lnTo>
                    <a:pt x="9259" y="2432"/>
                  </a:lnTo>
                  <a:lnTo>
                    <a:pt x="9490" y="2432"/>
                  </a:lnTo>
                  <a:lnTo>
                    <a:pt x="9490" y="2432"/>
                  </a:lnTo>
                  <a:lnTo>
                    <a:pt x="8564" y="2896"/>
                  </a:lnTo>
                  <a:lnTo>
                    <a:pt x="7754" y="3243"/>
                  </a:lnTo>
                  <a:lnTo>
                    <a:pt x="6828" y="3590"/>
                  </a:lnTo>
                  <a:lnTo>
                    <a:pt x="6018" y="3938"/>
                  </a:lnTo>
                  <a:lnTo>
                    <a:pt x="5092" y="4401"/>
                  </a:lnTo>
                  <a:lnTo>
                    <a:pt x="4282" y="4749"/>
                  </a:lnTo>
                  <a:lnTo>
                    <a:pt x="3357" y="5096"/>
                  </a:lnTo>
                  <a:lnTo>
                    <a:pt x="2546" y="5559"/>
                  </a:lnTo>
                  <a:lnTo>
                    <a:pt x="2546" y="5559"/>
                  </a:lnTo>
                  <a:lnTo>
                    <a:pt x="2431" y="5443"/>
                  </a:lnTo>
                  <a:lnTo>
                    <a:pt x="2199" y="5328"/>
                  </a:lnTo>
                  <a:lnTo>
                    <a:pt x="1968" y="5212"/>
                  </a:lnTo>
                  <a:lnTo>
                    <a:pt x="1736" y="5212"/>
                  </a:lnTo>
                  <a:lnTo>
                    <a:pt x="1505" y="5096"/>
                  </a:lnTo>
                  <a:lnTo>
                    <a:pt x="1389" y="4980"/>
                  </a:lnTo>
                  <a:lnTo>
                    <a:pt x="1273" y="4864"/>
                  </a:lnTo>
                  <a:lnTo>
                    <a:pt x="1273" y="4517"/>
                  </a:lnTo>
                  <a:lnTo>
                    <a:pt x="1273" y="4517"/>
                  </a:lnTo>
                  <a:lnTo>
                    <a:pt x="1389" y="4401"/>
                  </a:lnTo>
                  <a:lnTo>
                    <a:pt x="1505" y="4170"/>
                  </a:lnTo>
                  <a:lnTo>
                    <a:pt x="1621" y="4054"/>
                  </a:lnTo>
                  <a:lnTo>
                    <a:pt x="1852" y="3822"/>
                  </a:lnTo>
                  <a:lnTo>
                    <a:pt x="1968" y="3706"/>
                  </a:lnTo>
                  <a:lnTo>
                    <a:pt x="2083" y="3590"/>
                  </a:lnTo>
                  <a:lnTo>
                    <a:pt x="2199" y="3359"/>
                  </a:lnTo>
                  <a:lnTo>
                    <a:pt x="2315" y="3243"/>
                  </a:lnTo>
                  <a:lnTo>
                    <a:pt x="2315" y="3243"/>
                  </a:lnTo>
                  <a:lnTo>
                    <a:pt x="2083" y="3011"/>
                  </a:lnTo>
                  <a:lnTo>
                    <a:pt x="1621" y="2896"/>
                  </a:lnTo>
                  <a:lnTo>
                    <a:pt x="1273" y="2896"/>
                  </a:lnTo>
                  <a:lnTo>
                    <a:pt x="810" y="2896"/>
                  </a:lnTo>
                  <a:lnTo>
                    <a:pt x="347" y="2780"/>
                  </a:lnTo>
                  <a:lnTo>
                    <a:pt x="116" y="2664"/>
                  </a:lnTo>
                  <a:lnTo>
                    <a:pt x="0" y="2317"/>
                  </a:lnTo>
                  <a:lnTo>
                    <a:pt x="0" y="1853"/>
                  </a:lnTo>
                  <a:lnTo>
                    <a:pt x="0" y="1853"/>
                  </a:lnTo>
                  <a:lnTo>
                    <a:pt x="810" y="1274"/>
                  </a:lnTo>
                  <a:lnTo>
                    <a:pt x="1736" y="811"/>
                  </a:lnTo>
                  <a:lnTo>
                    <a:pt x="2662" y="464"/>
                  </a:lnTo>
                  <a:lnTo>
                    <a:pt x="3588" y="232"/>
                  </a:lnTo>
                  <a:lnTo>
                    <a:pt x="4630" y="0"/>
                  </a:lnTo>
                  <a:lnTo>
                    <a:pt x="5555" y="0"/>
                  </a:lnTo>
                  <a:lnTo>
                    <a:pt x="6597" y="116"/>
                  </a:lnTo>
                  <a:lnTo>
                    <a:pt x="7639" y="348"/>
                  </a:lnTo>
                  <a:lnTo>
                    <a:pt x="7639" y="348"/>
                  </a:lnTo>
                  <a:lnTo>
                    <a:pt x="7870" y="464"/>
                  </a:lnTo>
                  <a:lnTo>
                    <a:pt x="8102" y="464"/>
                  </a:lnTo>
                  <a:lnTo>
                    <a:pt x="8333" y="464"/>
                  </a:lnTo>
                  <a:lnTo>
                    <a:pt x="8564" y="464"/>
                  </a:lnTo>
                  <a:lnTo>
                    <a:pt x="8796" y="579"/>
                  </a:lnTo>
                  <a:lnTo>
                    <a:pt x="9143" y="579"/>
                  </a:lnTo>
                  <a:lnTo>
                    <a:pt x="9375" y="579"/>
                  </a:lnTo>
                  <a:lnTo>
                    <a:pt x="9606" y="695"/>
                  </a:lnTo>
                  <a:lnTo>
                    <a:pt x="9606" y="695"/>
                  </a:lnTo>
                  <a:lnTo>
                    <a:pt x="9606" y="695"/>
                  </a:lnTo>
                  <a:lnTo>
                    <a:pt x="9606" y="695"/>
                  </a:lnTo>
                  <a:lnTo>
                    <a:pt x="9606"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1423440" y="4193280"/>
              <a:ext cx="1208160" cy="466200"/>
            </a:xfrm>
            <a:custGeom>
              <a:avLst/>
              <a:gdLst/>
              <a:ahLst/>
              <a:rect l="l" t="t" r="r" b="b"/>
              <a:pathLst>
                <a:path w="33794" h="8686">
                  <a:moveTo>
                    <a:pt x="-31742" y="0"/>
                  </a:moveTo>
                  <a:lnTo>
                    <a:pt x="-31974" y="116"/>
                  </a:lnTo>
                  <a:lnTo>
                    <a:pt x="-32205" y="348"/>
                  </a:lnTo>
                  <a:lnTo>
                    <a:pt x="-32437" y="463"/>
                  </a:lnTo>
                  <a:lnTo>
                    <a:pt x="-32668" y="579"/>
                  </a:lnTo>
                  <a:lnTo>
                    <a:pt x="32637" y="811"/>
                  </a:lnTo>
                  <a:lnTo>
                    <a:pt x="32521" y="927"/>
                  </a:lnTo>
                  <a:lnTo>
                    <a:pt x="32289" y="1158"/>
                  </a:lnTo>
                  <a:lnTo>
                    <a:pt x="32174" y="1390"/>
                  </a:lnTo>
                  <a:lnTo>
                    <a:pt x="32174" y="1390"/>
                  </a:lnTo>
                  <a:lnTo>
                    <a:pt x="32289" y="1506"/>
                  </a:lnTo>
                  <a:lnTo>
                    <a:pt x="32289" y="1737"/>
                  </a:lnTo>
                  <a:lnTo>
                    <a:pt x="32405" y="1853"/>
                  </a:lnTo>
                  <a:lnTo>
                    <a:pt x="32405" y="1969"/>
                  </a:lnTo>
                  <a:lnTo>
                    <a:pt x="32521" y="2085"/>
                  </a:lnTo>
                  <a:lnTo>
                    <a:pt x="32637" y="2201"/>
                  </a:lnTo>
                  <a:lnTo>
                    <a:pt x="32752" y="2316"/>
                  </a:lnTo>
                  <a:lnTo>
                    <a:pt x="-32668" y="2432"/>
                  </a:lnTo>
                  <a:lnTo>
                    <a:pt x="-32668" y="2432"/>
                  </a:lnTo>
                  <a:lnTo>
                    <a:pt x="29628" y="3011"/>
                  </a:lnTo>
                  <a:lnTo>
                    <a:pt x="26271" y="3590"/>
                  </a:lnTo>
                  <a:lnTo>
                    <a:pt x="23031" y="4169"/>
                  </a:lnTo>
                  <a:lnTo>
                    <a:pt x="19790" y="4864"/>
                  </a:lnTo>
                  <a:lnTo>
                    <a:pt x="16550" y="5443"/>
                  </a:lnTo>
                  <a:lnTo>
                    <a:pt x="13309" y="6138"/>
                  </a:lnTo>
                  <a:lnTo>
                    <a:pt x="10069" y="6833"/>
                  </a:lnTo>
                  <a:lnTo>
                    <a:pt x="6713" y="7644"/>
                  </a:lnTo>
                  <a:lnTo>
                    <a:pt x="6713" y="7644"/>
                  </a:lnTo>
                  <a:lnTo>
                    <a:pt x="0" y="8686"/>
                  </a:lnTo>
                  <a:lnTo>
                    <a:pt x="0" y="8686"/>
                  </a:lnTo>
                  <a:lnTo>
                    <a:pt x="0" y="8454"/>
                  </a:lnTo>
                  <a:lnTo>
                    <a:pt x="0" y="8223"/>
                  </a:lnTo>
                  <a:lnTo>
                    <a:pt x="0" y="7991"/>
                  </a:lnTo>
                  <a:lnTo>
                    <a:pt x="0" y="7760"/>
                  </a:lnTo>
                  <a:lnTo>
                    <a:pt x="116" y="7528"/>
                  </a:lnTo>
                  <a:lnTo>
                    <a:pt x="116" y="7296"/>
                  </a:lnTo>
                  <a:lnTo>
                    <a:pt x="232" y="7065"/>
                  </a:lnTo>
                  <a:lnTo>
                    <a:pt x="232" y="6833"/>
                  </a:lnTo>
                  <a:lnTo>
                    <a:pt x="232" y="6833"/>
                  </a:lnTo>
                  <a:lnTo>
                    <a:pt x="694" y="6486"/>
                  </a:lnTo>
                  <a:lnTo>
                    <a:pt x="694" y="6486"/>
                  </a:lnTo>
                  <a:lnTo>
                    <a:pt x="2662" y="6138"/>
                  </a:lnTo>
                  <a:lnTo>
                    <a:pt x="4745" y="5791"/>
                  </a:lnTo>
                  <a:lnTo>
                    <a:pt x="6713" y="5327"/>
                  </a:lnTo>
                  <a:lnTo>
                    <a:pt x="8796" y="4980"/>
                  </a:lnTo>
                  <a:lnTo>
                    <a:pt x="10879" y="4633"/>
                  </a:lnTo>
                  <a:lnTo>
                    <a:pt x="12962" y="4169"/>
                  </a:lnTo>
                  <a:lnTo>
                    <a:pt x="14930" y="3706"/>
                  </a:lnTo>
                  <a:lnTo>
                    <a:pt x="17013" y="3243"/>
                  </a:lnTo>
                  <a:lnTo>
                    <a:pt x="17013" y="3243"/>
                  </a:lnTo>
                  <a:lnTo>
                    <a:pt x="30553" y="579"/>
                  </a:lnTo>
                  <a:lnTo>
                    <a:pt x="30553" y="579"/>
                  </a:lnTo>
                  <a:lnTo>
                    <a:pt x="31016" y="463"/>
                  </a:lnTo>
                  <a:lnTo>
                    <a:pt x="31363" y="463"/>
                  </a:lnTo>
                  <a:lnTo>
                    <a:pt x="31826" y="348"/>
                  </a:lnTo>
                  <a:lnTo>
                    <a:pt x="32174" y="232"/>
                  </a:lnTo>
                  <a:lnTo>
                    <a:pt x="32521" y="232"/>
                  </a:lnTo>
                  <a:lnTo>
                    <a:pt x="-32552" y="116"/>
                  </a:lnTo>
                  <a:lnTo>
                    <a:pt x="-32205" y="116"/>
                  </a:lnTo>
                  <a:lnTo>
                    <a:pt x="-31742" y="0"/>
                  </a:lnTo>
                  <a:lnTo>
                    <a:pt x="-31742" y="0"/>
                  </a:lnTo>
                  <a:lnTo>
                    <a:pt x="-31742" y="0"/>
                  </a:lnTo>
                  <a:lnTo>
                    <a:pt x="-31742" y="0"/>
                  </a:lnTo>
                  <a:lnTo>
                    <a:pt x="-31742"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1208160" y="4274280"/>
              <a:ext cx="169560" cy="204840"/>
            </a:xfrm>
            <a:custGeom>
              <a:avLst/>
              <a:gdLst/>
              <a:ahLst/>
              <a:rect l="l" t="t" r="r" b="b"/>
              <a:pathLst>
                <a:path w="4745" h="3821">
                  <a:moveTo>
                    <a:pt x="4745" y="695"/>
                  </a:moveTo>
                  <a:lnTo>
                    <a:pt x="4514" y="2895"/>
                  </a:lnTo>
                  <a:lnTo>
                    <a:pt x="4514" y="2895"/>
                  </a:lnTo>
                  <a:lnTo>
                    <a:pt x="4282" y="3011"/>
                  </a:lnTo>
                  <a:lnTo>
                    <a:pt x="4051" y="3242"/>
                  </a:lnTo>
                  <a:lnTo>
                    <a:pt x="3819" y="3474"/>
                  </a:lnTo>
                  <a:lnTo>
                    <a:pt x="3588" y="3590"/>
                  </a:lnTo>
                  <a:lnTo>
                    <a:pt x="3356" y="3706"/>
                  </a:lnTo>
                  <a:lnTo>
                    <a:pt x="3125" y="3821"/>
                  </a:lnTo>
                  <a:lnTo>
                    <a:pt x="2893" y="3706"/>
                  </a:lnTo>
                  <a:lnTo>
                    <a:pt x="2662" y="3358"/>
                  </a:lnTo>
                  <a:lnTo>
                    <a:pt x="2662" y="3358"/>
                  </a:lnTo>
                  <a:lnTo>
                    <a:pt x="2430" y="3358"/>
                  </a:lnTo>
                  <a:lnTo>
                    <a:pt x="2315" y="3358"/>
                  </a:lnTo>
                  <a:lnTo>
                    <a:pt x="2199" y="3474"/>
                  </a:lnTo>
                  <a:lnTo>
                    <a:pt x="1967" y="3474"/>
                  </a:lnTo>
                  <a:lnTo>
                    <a:pt x="1852" y="3590"/>
                  </a:lnTo>
                  <a:lnTo>
                    <a:pt x="1736" y="3706"/>
                  </a:lnTo>
                  <a:lnTo>
                    <a:pt x="1505" y="3706"/>
                  </a:lnTo>
                  <a:lnTo>
                    <a:pt x="1389" y="3821"/>
                  </a:lnTo>
                  <a:lnTo>
                    <a:pt x="1389" y="3821"/>
                  </a:lnTo>
                  <a:lnTo>
                    <a:pt x="1042" y="3474"/>
                  </a:lnTo>
                  <a:lnTo>
                    <a:pt x="810" y="3127"/>
                  </a:lnTo>
                  <a:lnTo>
                    <a:pt x="579" y="2663"/>
                  </a:lnTo>
                  <a:lnTo>
                    <a:pt x="463" y="2200"/>
                  </a:lnTo>
                  <a:lnTo>
                    <a:pt x="231" y="1853"/>
                  </a:lnTo>
                  <a:lnTo>
                    <a:pt x="116" y="1389"/>
                  </a:lnTo>
                  <a:lnTo>
                    <a:pt x="0" y="926"/>
                  </a:lnTo>
                  <a:lnTo>
                    <a:pt x="0" y="347"/>
                  </a:lnTo>
                  <a:lnTo>
                    <a:pt x="0" y="347"/>
                  </a:lnTo>
                  <a:lnTo>
                    <a:pt x="463" y="231"/>
                  </a:lnTo>
                  <a:lnTo>
                    <a:pt x="1157" y="0"/>
                  </a:lnTo>
                  <a:lnTo>
                    <a:pt x="1736" y="0"/>
                  </a:lnTo>
                  <a:lnTo>
                    <a:pt x="2430" y="0"/>
                  </a:lnTo>
                  <a:lnTo>
                    <a:pt x="3009" y="116"/>
                  </a:lnTo>
                  <a:lnTo>
                    <a:pt x="3703" y="231"/>
                  </a:lnTo>
                  <a:lnTo>
                    <a:pt x="4282" y="463"/>
                  </a:lnTo>
                  <a:lnTo>
                    <a:pt x="4745" y="695"/>
                  </a:lnTo>
                  <a:lnTo>
                    <a:pt x="4745" y="695"/>
                  </a:lnTo>
                  <a:lnTo>
                    <a:pt x="4745" y="695"/>
                  </a:lnTo>
                  <a:lnTo>
                    <a:pt x="4745" y="695"/>
                  </a:lnTo>
                  <a:lnTo>
                    <a:pt x="4745"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1382040" y="4317840"/>
              <a:ext cx="24480" cy="105480"/>
            </a:xfrm>
            <a:custGeom>
              <a:avLst/>
              <a:gdLst/>
              <a:ahLst/>
              <a:rect l="l" t="t" r="r" b="b"/>
              <a:pathLst>
                <a:path w="694" h="1969">
                  <a:moveTo>
                    <a:pt x="578" y="1969"/>
                  </a:moveTo>
                  <a:lnTo>
                    <a:pt x="463" y="1969"/>
                  </a:lnTo>
                  <a:lnTo>
                    <a:pt x="347" y="1969"/>
                  </a:lnTo>
                  <a:lnTo>
                    <a:pt x="231" y="1969"/>
                  </a:lnTo>
                  <a:lnTo>
                    <a:pt x="231" y="1969"/>
                  </a:lnTo>
                  <a:lnTo>
                    <a:pt x="115" y="1969"/>
                  </a:lnTo>
                  <a:lnTo>
                    <a:pt x="0" y="1969"/>
                  </a:lnTo>
                  <a:lnTo>
                    <a:pt x="0" y="1853"/>
                  </a:lnTo>
                  <a:lnTo>
                    <a:pt x="0" y="1738"/>
                  </a:lnTo>
                  <a:lnTo>
                    <a:pt x="0" y="1738"/>
                  </a:lnTo>
                  <a:lnTo>
                    <a:pt x="347" y="0"/>
                  </a:lnTo>
                  <a:lnTo>
                    <a:pt x="694" y="116"/>
                  </a:lnTo>
                  <a:lnTo>
                    <a:pt x="578" y="1969"/>
                  </a:lnTo>
                  <a:lnTo>
                    <a:pt x="578" y="1969"/>
                  </a:lnTo>
                  <a:lnTo>
                    <a:pt x="578" y="1969"/>
                  </a:lnTo>
                  <a:lnTo>
                    <a:pt x="578" y="19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1415160" y="4330080"/>
              <a:ext cx="28800" cy="105480"/>
            </a:xfrm>
            <a:custGeom>
              <a:avLst/>
              <a:gdLst/>
              <a:ahLst/>
              <a:rect l="l" t="t" r="r" b="b"/>
              <a:pathLst>
                <a:path w="810" h="1969">
                  <a:moveTo>
                    <a:pt x="694" y="232"/>
                  </a:moveTo>
                  <a:lnTo>
                    <a:pt x="810" y="463"/>
                  </a:lnTo>
                  <a:lnTo>
                    <a:pt x="694" y="579"/>
                  </a:lnTo>
                  <a:lnTo>
                    <a:pt x="694" y="695"/>
                  </a:lnTo>
                  <a:lnTo>
                    <a:pt x="694" y="927"/>
                  </a:lnTo>
                  <a:lnTo>
                    <a:pt x="694" y="1042"/>
                  </a:lnTo>
                  <a:lnTo>
                    <a:pt x="694" y="1274"/>
                  </a:lnTo>
                  <a:lnTo>
                    <a:pt x="694" y="1390"/>
                  </a:lnTo>
                  <a:lnTo>
                    <a:pt x="694" y="1621"/>
                  </a:lnTo>
                  <a:lnTo>
                    <a:pt x="694" y="1621"/>
                  </a:lnTo>
                  <a:lnTo>
                    <a:pt x="694" y="1621"/>
                  </a:lnTo>
                  <a:lnTo>
                    <a:pt x="694" y="1621"/>
                  </a:lnTo>
                  <a:lnTo>
                    <a:pt x="694" y="1737"/>
                  </a:lnTo>
                  <a:lnTo>
                    <a:pt x="578" y="1737"/>
                  </a:lnTo>
                  <a:lnTo>
                    <a:pt x="463" y="1853"/>
                  </a:lnTo>
                  <a:lnTo>
                    <a:pt x="463" y="1853"/>
                  </a:lnTo>
                  <a:lnTo>
                    <a:pt x="347" y="1969"/>
                  </a:lnTo>
                  <a:lnTo>
                    <a:pt x="231" y="1969"/>
                  </a:lnTo>
                  <a:lnTo>
                    <a:pt x="231" y="1969"/>
                  </a:lnTo>
                  <a:lnTo>
                    <a:pt x="231" y="1969"/>
                  </a:lnTo>
                  <a:lnTo>
                    <a:pt x="231" y="1969"/>
                  </a:lnTo>
                  <a:lnTo>
                    <a:pt x="115" y="1853"/>
                  </a:lnTo>
                  <a:lnTo>
                    <a:pt x="115" y="1853"/>
                  </a:lnTo>
                  <a:lnTo>
                    <a:pt x="0" y="1853"/>
                  </a:lnTo>
                  <a:lnTo>
                    <a:pt x="0" y="1853"/>
                  </a:lnTo>
                  <a:lnTo>
                    <a:pt x="0" y="1737"/>
                  </a:lnTo>
                  <a:lnTo>
                    <a:pt x="0" y="1737"/>
                  </a:lnTo>
                  <a:lnTo>
                    <a:pt x="0" y="1737"/>
                  </a:lnTo>
                  <a:lnTo>
                    <a:pt x="0" y="1506"/>
                  </a:lnTo>
                  <a:lnTo>
                    <a:pt x="0" y="1274"/>
                  </a:lnTo>
                  <a:lnTo>
                    <a:pt x="0" y="1042"/>
                  </a:lnTo>
                  <a:lnTo>
                    <a:pt x="115" y="927"/>
                  </a:lnTo>
                  <a:lnTo>
                    <a:pt x="115" y="695"/>
                  </a:lnTo>
                  <a:lnTo>
                    <a:pt x="231" y="463"/>
                  </a:lnTo>
                  <a:lnTo>
                    <a:pt x="231" y="232"/>
                  </a:lnTo>
                  <a:lnTo>
                    <a:pt x="115" y="0"/>
                  </a:lnTo>
                  <a:lnTo>
                    <a:pt x="115" y="0"/>
                  </a:lnTo>
                  <a:lnTo>
                    <a:pt x="231" y="0"/>
                  </a:lnTo>
                  <a:lnTo>
                    <a:pt x="347" y="116"/>
                  </a:lnTo>
                  <a:lnTo>
                    <a:pt x="347" y="116"/>
                  </a:lnTo>
                  <a:lnTo>
                    <a:pt x="463" y="232"/>
                  </a:lnTo>
                  <a:lnTo>
                    <a:pt x="463" y="232"/>
                  </a:lnTo>
                  <a:lnTo>
                    <a:pt x="578" y="347"/>
                  </a:lnTo>
                  <a:lnTo>
                    <a:pt x="578" y="347"/>
                  </a:lnTo>
                  <a:lnTo>
                    <a:pt x="694" y="232"/>
                  </a:lnTo>
                  <a:lnTo>
                    <a:pt x="694" y="232"/>
                  </a:lnTo>
                  <a:lnTo>
                    <a:pt x="694" y="232"/>
                  </a:lnTo>
                  <a:lnTo>
                    <a:pt x="694" y="232"/>
                  </a:lnTo>
                  <a:lnTo>
                    <a:pt x="69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a:off x="1427400" y="4330080"/>
              <a:ext cx="1241280" cy="441360"/>
            </a:xfrm>
            <a:custGeom>
              <a:avLst/>
              <a:gdLst/>
              <a:ahLst/>
              <a:rect l="l" t="t" r="r" b="b"/>
              <a:pathLst>
                <a:path w="34719" h="8223">
                  <a:moveTo>
                    <a:pt x="-31048" y="0"/>
                  </a:moveTo>
                  <a:lnTo>
                    <a:pt x="-31279" y="232"/>
                  </a:lnTo>
                  <a:lnTo>
                    <a:pt x="-31395" y="347"/>
                  </a:lnTo>
                  <a:lnTo>
                    <a:pt x="-31627" y="579"/>
                  </a:lnTo>
                  <a:lnTo>
                    <a:pt x="-31742" y="811"/>
                  </a:lnTo>
                  <a:lnTo>
                    <a:pt x="-31858" y="1042"/>
                  </a:lnTo>
                  <a:lnTo>
                    <a:pt x="-31858" y="1390"/>
                  </a:lnTo>
                  <a:lnTo>
                    <a:pt x="-31858" y="1621"/>
                  </a:lnTo>
                  <a:lnTo>
                    <a:pt x="-31742" y="1853"/>
                  </a:lnTo>
                  <a:lnTo>
                    <a:pt x="-31742" y="1853"/>
                  </a:lnTo>
                  <a:lnTo>
                    <a:pt x="-31742" y="2085"/>
                  </a:lnTo>
                  <a:lnTo>
                    <a:pt x="-31627" y="2200"/>
                  </a:lnTo>
                  <a:lnTo>
                    <a:pt x="-31511" y="2200"/>
                  </a:lnTo>
                  <a:lnTo>
                    <a:pt x="-31395" y="2316"/>
                  </a:lnTo>
                  <a:lnTo>
                    <a:pt x="-31279" y="2432"/>
                  </a:lnTo>
                  <a:lnTo>
                    <a:pt x="-31164" y="2432"/>
                  </a:lnTo>
                  <a:lnTo>
                    <a:pt x="-30932" y="2548"/>
                  </a:lnTo>
                  <a:lnTo>
                    <a:pt x="-30817" y="2548"/>
                  </a:lnTo>
                  <a:lnTo>
                    <a:pt x="-30817" y="2548"/>
                  </a:lnTo>
                  <a:lnTo>
                    <a:pt x="-31048" y="2664"/>
                  </a:lnTo>
                  <a:lnTo>
                    <a:pt x="-31395" y="2664"/>
                  </a:lnTo>
                  <a:lnTo>
                    <a:pt x="-31627" y="2779"/>
                  </a:lnTo>
                  <a:lnTo>
                    <a:pt x="-31858" y="2779"/>
                  </a:lnTo>
                  <a:lnTo>
                    <a:pt x="-32090" y="2779"/>
                  </a:lnTo>
                  <a:lnTo>
                    <a:pt x="-32437" y="2895"/>
                  </a:lnTo>
                  <a:lnTo>
                    <a:pt x="-32668" y="2895"/>
                  </a:lnTo>
                  <a:lnTo>
                    <a:pt x="32636" y="3011"/>
                  </a:lnTo>
                  <a:lnTo>
                    <a:pt x="32636" y="3011"/>
                  </a:lnTo>
                  <a:lnTo>
                    <a:pt x="32405" y="2895"/>
                  </a:lnTo>
                  <a:lnTo>
                    <a:pt x="32173" y="2779"/>
                  </a:lnTo>
                  <a:lnTo>
                    <a:pt x="31942" y="2779"/>
                  </a:lnTo>
                  <a:lnTo>
                    <a:pt x="31710" y="2779"/>
                  </a:lnTo>
                  <a:lnTo>
                    <a:pt x="31479" y="2779"/>
                  </a:lnTo>
                  <a:lnTo>
                    <a:pt x="31247" y="2779"/>
                  </a:lnTo>
                  <a:lnTo>
                    <a:pt x="31016" y="2895"/>
                  </a:lnTo>
                  <a:lnTo>
                    <a:pt x="30785" y="2895"/>
                  </a:lnTo>
                  <a:lnTo>
                    <a:pt x="30785" y="2895"/>
                  </a:lnTo>
                  <a:lnTo>
                    <a:pt x="29974" y="3474"/>
                  </a:lnTo>
                  <a:lnTo>
                    <a:pt x="29974" y="3474"/>
                  </a:lnTo>
                  <a:lnTo>
                    <a:pt x="29974" y="3359"/>
                  </a:lnTo>
                  <a:lnTo>
                    <a:pt x="29974" y="3359"/>
                  </a:lnTo>
                  <a:lnTo>
                    <a:pt x="29859" y="3243"/>
                  </a:lnTo>
                  <a:lnTo>
                    <a:pt x="29859" y="3127"/>
                  </a:lnTo>
                  <a:lnTo>
                    <a:pt x="29859" y="3127"/>
                  </a:lnTo>
                  <a:lnTo>
                    <a:pt x="29859" y="3011"/>
                  </a:lnTo>
                  <a:lnTo>
                    <a:pt x="29859" y="3011"/>
                  </a:lnTo>
                  <a:lnTo>
                    <a:pt x="29974" y="2895"/>
                  </a:lnTo>
                  <a:lnTo>
                    <a:pt x="29974" y="2895"/>
                  </a:lnTo>
                  <a:lnTo>
                    <a:pt x="-32321" y="2316"/>
                  </a:lnTo>
                  <a:lnTo>
                    <a:pt x="-32321" y="2316"/>
                  </a:lnTo>
                  <a:lnTo>
                    <a:pt x="-32205" y="2316"/>
                  </a:lnTo>
                  <a:lnTo>
                    <a:pt x="-32205" y="2200"/>
                  </a:lnTo>
                  <a:lnTo>
                    <a:pt x="-32205" y="2200"/>
                  </a:lnTo>
                  <a:lnTo>
                    <a:pt x="-32205" y="2200"/>
                  </a:lnTo>
                  <a:lnTo>
                    <a:pt x="-32205" y="2200"/>
                  </a:lnTo>
                  <a:lnTo>
                    <a:pt x="-32205" y="2085"/>
                  </a:lnTo>
                  <a:lnTo>
                    <a:pt x="-32090" y="2085"/>
                  </a:lnTo>
                  <a:lnTo>
                    <a:pt x="-32090" y="2085"/>
                  </a:lnTo>
                  <a:lnTo>
                    <a:pt x="-32090" y="2085"/>
                  </a:lnTo>
                  <a:lnTo>
                    <a:pt x="-32553" y="2085"/>
                  </a:lnTo>
                  <a:lnTo>
                    <a:pt x="32521" y="2200"/>
                  </a:lnTo>
                  <a:lnTo>
                    <a:pt x="31942" y="2200"/>
                  </a:lnTo>
                  <a:lnTo>
                    <a:pt x="31479" y="2316"/>
                  </a:lnTo>
                  <a:lnTo>
                    <a:pt x="31016" y="2432"/>
                  </a:lnTo>
                  <a:lnTo>
                    <a:pt x="30437" y="2548"/>
                  </a:lnTo>
                  <a:lnTo>
                    <a:pt x="29974" y="2664"/>
                  </a:lnTo>
                  <a:lnTo>
                    <a:pt x="29512" y="2779"/>
                  </a:lnTo>
                  <a:lnTo>
                    <a:pt x="29512" y="2779"/>
                  </a:lnTo>
                  <a:lnTo>
                    <a:pt x="29396" y="2664"/>
                  </a:lnTo>
                  <a:lnTo>
                    <a:pt x="29164" y="2664"/>
                  </a:lnTo>
                  <a:lnTo>
                    <a:pt x="28933" y="2548"/>
                  </a:lnTo>
                  <a:lnTo>
                    <a:pt x="28701" y="2548"/>
                  </a:lnTo>
                  <a:lnTo>
                    <a:pt x="28470" y="2432"/>
                  </a:lnTo>
                  <a:lnTo>
                    <a:pt x="28238" y="2548"/>
                  </a:lnTo>
                  <a:lnTo>
                    <a:pt x="28123" y="2548"/>
                  </a:lnTo>
                  <a:lnTo>
                    <a:pt x="27891" y="2664"/>
                  </a:lnTo>
                  <a:lnTo>
                    <a:pt x="27891" y="2664"/>
                  </a:lnTo>
                  <a:lnTo>
                    <a:pt x="27660" y="2895"/>
                  </a:lnTo>
                  <a:lnTo>
                    <a:pt x="27544" y="3011"/>
                  </a:lnTo>
                  <a:lnTo>
                    <a:pt x="27428" y="3011"/>
                  </a:lnTo>
                  <a:lnTo>
                    <a:pt x="27197" y="3011"/>
                  </a:lnTo>
                  <a:lnTo>
                    <a:pt x="27081" y="2895"/>
                  </a:lnTo>
                  <a:lnTo>
                    <a:pt x="26850" y="2895"/>
                  </a:lnTo>
                  <a:lnTo>
                    <a:pt x="26618" y="2895"/>
                  </a:lnTo>
                  <a:lnTo>
                    <a:pt x="26502" y="3127"/>
                  </a:lnTo>
                  <a:lnTo>
                    <a:pt x="26502" y="3127"/>
                  </a:lnTo>
                  <a:lnTo>
                    <a:pt x="26387" y="3474"/>
                  </a:lnTo>
                  <a:lnTo>
                    <a:pt x="26155" y="3706"/>
                  </a:lnTo>
                  <a:lnTo>
                    <a:pt x="25924" y="3822"/>
                  </a:lnTo>
                  <a:lnTo>
                    <a:pt x="25577" y="3822"/>
                  </a:lnTo>
                  <a:lnTo>
                    <a:pt x="25229" y="3822"/>
                  </a:lnTo>
                  <a:lnTo>
                    <a:pt x="24882" y="3822"/>
                  </a:lnTo>
                  <a:lnTo>
                    <a:pt x="24651" y="3822"/>
                  </a:lnTo>
                  <a:lnTo>
                    <a:pt x="24304" y="3938"/>
                  </a:lnTo>
                  <a:lnTo>
                    <a:pt x="24304" y="3938"/>
                  </a:lnTo>
                  <a:lnTo>
                    <a:pt x="21526" y="4517"/>
                  </a:lnTo>
                  <a:lnTo>
                    <a:pt x="18633" y="5096"/>
                  </a:lnTo>
                  <a:lnTo>
                    <a:pt x="15855" y="5559"/>
                  </a:lnTo>
                  <a:lnTo>
                    <a:pt x="13078" y="6138"/>
                  </a:lnTo>
                  <a:lnTo>
                    <a:pt x="10184" y="6717"/>
                  </a:lnTo>
                  <a:lnTo>
                    <a:pt x="7407" y="7296"/>
                  </a:lnTo>
                  <a:lnTo>
                    <a:pt x="4513" y="7759"/>
                  </a:lnTo>
                  <a:lnTo>
                    <a:pt x="1620" y="8223"/>
                  </a:lnTo>
                  <a:lnTo>
                    <a:pt x="1620" y="8223"/>
                  </a:lnTo>
                  <a:lnTo>
                    <a:pt x="1389" y="8107"/>
                  </a:lnTo>
                  <a:lnTo>
                    <a:pt x="1157" y="7875"/>
                  </a:lnTo>
                  <a:lnTo>
                    <a:pt x="926" y="7759"/>
                  </a:lnTo>
                  <a:lnTo>
                    <a:pt x="694" y="7528"/>
                  </a:lnTo>
                  <a:lnTo>
                    <a:pt x="463" y="7296"/>
                  </a:lnTo>
                  <a:lnTo>
                    <a:pt x="231" y="7064"/>
                  </a:lnTo>
                  <a:lnTo>
                    <a:pt x="116" y="6717"/>
                  </a:lnTo>
                  <a:lnTo>
                    <a:pt x="0" y="6485"/>
                  </a:lnTo>
                  <a:lnTo>
                    <a:pt x="0" y="6485"/>
                  </a:lnTo>
                  <a:lnTo>
                    <a:pt x="4398" y="5675"/>
                  </a:lnTo>
                  <a:lnTo>
                    <a:pt x="8680" y="4864"/>
                  </a:lnTo>
                  <a:lnTo>
                    <a:pt x="12846" y="3938"/>
                  </a:lnTo>
                  <a:lnTo>
                    <a:pt x="17128" y="3127"/>
                  </a:lnTo>
                  <a:lnTo>
                    <a:pt x="21295" y="2316"/>
                  </a:lnTo>
                  <a:lnTo>
                    <a:pt x="25577" y="1506"/>
                  </a:lnTo>
                  <a:lnTo>
                    <a:pt x="29859" y="695"/>
                  </a:lnTo>
                  <a:lnTo>
                    <a:pt x="-31279" y="116"/>
                  </a:lnTo>
                  <a:lnTo>
                    <a:pt x="-31279" y="116"/>
                  </a:lnTo>
                  <a:lnTo>
                    <a:pt x="-31279" y="0"/>
                  </a:lnTo>
                  <a:lnTo>
                    <a:pt x="-31279" y="0"/>
                  </a:lnTo>
                  <a:lnTo>
                    <a:pt x="-31164" y="0"/>
                  </a:lnTo>
                  <a:lnTo>
                    <a:pt x="-31164" y="0"/>
                  </a:lnTo>
                  <a:lnTo>
                    <a:pt x="-31164" y="0"/>
                  </a:lnTo>
                  <a:lnTo>
                    <a:pt x="-31164" y="0"/>
                  </a:lnTo>
                  <a:lnTo>
                    <a:pt x="-31048" y="0"/>
                  </a:lnTo>
                  <a:lnTo>
                    <a:pt x="-31048" y="0"/>
                  </a:lnTo>
                  <a:lnTo>
                    <a:pt x="-31048" y="0"/>
                  </a:lnTo>
                  <a:lnTo>
                    <a:pt x="-31048" y="0"/>
                  </a:lnTo>
                  <a:lnTo>
                    <a:pt x="-31048" y="0"/>
                  </a:lnTo>
                  <a:lnTo>
                    <a:pt x="-31048"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1236960" y="4423320"/>
              <a:ext cx="322560" cy="565560"/>
            </a:xfrm>
            <a:custGeom>
              <a:avLst/>
              <a:gdLst/>
              <a:ahLst/>
              <a:rect l="l" t="t" r="r" b="b"/>
              <a:pathLst>
                <a:path w="9027" h="10539">
                  <a:moveTo>
                    <a:pt x="7176" y="579"/>
                  </a:moveTo>
                  <a:lnTo>
                    <a:pt x="7176" y="695"/>
                  </a:lnTo>
                  <a:lnTo>
                    <a:pt x="7176" y="811"/>
                  </a:lnTo>
                  <a:lnTo>
                    <a:pt x="7176" y="927"/>
                  </a:lnTo>
                  <a:lnTo>
                    <a:pt x="7060" y="1042"/>
                  </a:lnTo>
                  <a:lnTo>
                    <a:pt x="7060" y="1158"/>
                  </a:lnTo>
                  <a:lnTo>
                    <a:pt x="6944" y="1274"/>
                  </a:lnTo>
                  <a:lnTo>
                    <a:pt x="6828" y="1274"/>
                  </a:lnTo>
                  <a:lnTo>
                    <a:pt x="6713" y="1274"/>
                  </a:lnTo>
                  <a:lnTo>
                    <a:pt x="6713" y="1274"/>
                  </a:lnTo>
                  <a:lnTo>
                    <a:pt x="6597" y="1274"/>
                  </a:lnTo>
                  <a:lnTo>
                    <a:pt x="6365" y="1274"/>
                  </a:lnTo>
                  <a:lnTo>
                    <a:pt x="6134" y="1274"/>
                  </a:lnTo>
                  <a:lnTo>
                    <a:pt x="6018" y="1274"/>
                  </a:lnTo>
                  <a:lnTo>
                    <a:pt x="5787" y="1390"/>
                  </a:lnTo>
                  <a:lnTo>
                    <a:pt x="5671" y="1506"/>
                  </a:lnTo>
                  <a:lnTo>
                    <a:pt x="5555" y="1622"/>
                  </a:lnTo>
                  <a:lnTo>
                    <a:pt x="5440" y="1737"/>
                  </a:lnTo>
                  <a:lnTo>
                    <a:pt x="5440" y="1737"/>
                  </a:lnTo>
                  <a:lnTo>
                    <a:pt x="5324" y="1969"/>
                  </a:lnTo>
                  <a:lnTo>
                    <a:pt x="5092" y="2201"/>
                  </a:lnTo>
                  <a:lnTo>
                    <a:pt x="4977" y="2432"/>
                  </a:lnTo>
                  <a:lnTo>
                    <a:pt x="4861" y="2664"/>
                  </a:lnTo>
                  <a:lnTo>
                    <a:pt x="4745" y="2895"/>
                  </a:lnTo>
                  <a:lnTo>
                    <a:pt x="4745" y="3127"/>
                  </a:lnTo>
                  <a:lnTo>
                    <a:pt x="4629" y="3359"/>
                  </a:lnTo>
                  <a:lnTo>
                    <a:pt x="4745" y="3590"/>
                  </a:lnTo>
                  <a:lnTo>
                    <a:pt x="4745" y="3590"/>
                  </a:lnTo>
                  <a:lnTo>
                    <a:pt x="4629" y="3822"/>
                  </a:lnTo>
                  <a:lnTo>
                    <a:pt x="4629" y="4054"/>
                  </a:lnTo>
                  <a:lnTo>
                    <a:pt x="4629" y="4401"/>
                  </a:lnTo>
                  <a:lnTo>
                    <a:pt x="4745" y="4633"/>
                  </a:lnTo>
                  <a:lnTo>
                    <a:pt x="4861" y="4864"/>
                  </a:lnTo>
                  <a:lnTo>
                    <a:pt x="4861" y="5212"/>
                  </a:lnTo>
                  <a:lnTo>
                    <a:pt x="4977" y="5443"/>
                  </a:lnTo>
                  <a:lnTo>
                    <a:pt x="5092" y="5675"/>
                  </a:lnTo>
                  <a:lnTo>
                    <a:pt x="5092" y="5675"/>
                  </a:lnTo>
                  <a:lnTo>
                    <a:pt x="5555" y="6138"/>
                  </a:lnTo>
                  <a:lnTo>
                    <a:pt x="5902" y="6486"/>
                  </a:lnTo>
                  <a:lnTo>
                    <a:pt x="6481" y="6717"/>
                  </a:lnTo>
                  <a:lnTo>
                    <a:pt x="6944" y="6949"/>
                  </a:lnTo>
                  <a:lnTo>
                    <a:pt x="7523" y="7180"/>
                  </a:lnTo>
                  <a:lnTo>
                    <a:pt x="7986" y="7296"/>
                  </a:lnTo>
                  <a:lnTo>
                    <a:pt x="8564" y="7528"/>
                  </a:lnTo>
                  <a:lnTo>
                    <a:pt x="9027" y="7875"/>
                  </a:lnTo>
                  <a:lnTo>
                    <a:pt x="9027" y="7875"/>
                  </a:lnTo>
                  <a:lnTo>
                    <a:pt x="9027" y="7991"/>
                  </a:lnTo>
                  <a:lnTo>
                    <a:pt x="9027" y="8107"/>
                  </a:lnTo>
                  <a:lnTo>
                    <a:pt x="9027" y="8223"/>
                  </a:lnTo>
                  <a:lnTo>
                    <a:pt x="8911" y="8339"/>
                  </a:lnTo>
                  <a:lnTo>
                    <a:pt x="8911" y="8454"/>
                  </a:lnTo>
                  <a:lnTo>
                    <a:pt x="8911" y="8570"/>
                  </a:lnTo>
                  <a:lnTo>
                    <a:pt x="8796" y="8686"/>
                  </a:lnTo>
                  <a:lnTo>
                    <a:pt x="8796" y="8802"/>
                  </a:lnTo>
                  <a:lnTo>
                    <a:pt x="8796" y="8802"/>
                  </a:lnTo>
                  <a:lnTo>
                    <a:pt x="8449" y="8918"/>
                  </a:lnTo>
                  <a:lnTo>
                    <a:pt x="8217" y="9033"/>
                  </a:lnTo>
                  <a:lnTo>
                    <a:pt x="7870" y="8918"/>
                  </a:lnTo>
                  <a:lnTo>
                    <a:pt x="7638" y="8918"/>
                  </a:lnTo>
                  <a:lnTo>
                    <a:pt x="7291" y="8686"/>
                  </a:lnTo>
                  <a:lnTo>
                    <a:pt x="7060" y="8570"/>
                  </a:lnTo>
                  <a:lnTo>
                    <a:pt x="6828" y="8454"/>
                  </a:lnTo>
                  <a:lnTo>
                    <a:pt x="6597" y="8223"/>
                  </a:lnTo>
                  <a:lnTo>
                    <a:pt x="6597" y="8223"/>
                  </a:lnTo>
                  <a:lnTo>
                    <a:pt x="6134" y="8223"/>
                  </a:lnTo>
                  <a:lnTo>
                    <a:pt x="5787" y="8107"/>
                  </a:lnTo>
                  <a:lnTo>
                    <a:pt x="5440" y="7991"/>
                  </a:lnTo>
                  <a:lnTo>
                    <a:pt x="5092" y="7759"/>
                  </a:lnTo>
                  <a:lnTo>
                    <a:pt x="4745" y="7528"/>
                  </a:lnTo>
                  <a:lnTo>
                    <a:pt x="4398" y="7296"/>
                  </a:lnTo>
                  <a:lnTo>
                    <a:pt x="4051" y="7065"/>
                  </a:lnTo>
                  <a:lnTo>
                    <a:pt x="3704" y="6949"/>
                  </a:lnTo>
                  <a:lnTo>
                    <a:pt x="3704" y="6949"/>
                  </a:lnTo>
                  <a:lnTo>
                    <a:pt x="3588" y="6833"/>
                  </a:lnTo>
                  <a:lnTo>
                    <a:pt x="3472" y="6949"/>
                  </a:lnTo>
                  <a:lnTo>
                    <a:pt x="4861" y="8223"/>
                  </a:lnTo>
                  <a:lnTo>
                    <a:pt x="4861" y="8223"/>
                  </a:lnTo>
                  <a:lnTo>
                    <a:pt x="4514" y="8223"/>
                  </a:lnTo>
                  <a:lnTo>
                    <a:pt x="4166" y="8107"/>
                  </a:lnTo>
                  <a:lnTo>
                    <a:pt x="3819" y="7875"/>
                  </a:lnTo>
                  <a:lnTo>
                    <a:pt x="3588" y="7644"/>
                  </a:lnTo>
                  <a:lnTo>
                    <a:pt x="3241" y="7412"/>
                  </a:lnTo>
                  <a:lnTo>
                    <a:pt x="3009" y="7180"/>
                  </a:lnTo>
                  <a:lnTo>
                    <a:pt x="2662" y="7065"/>
                  </a:lnTo>
                  <a:lnTo>
                    <a:pt x="2430" y="6949"/>
                  </a:lnTo>
                  <a:lnTo>
                    <a:pt x="2430" y="6949"/>
                  </a:lnTo>
                  <a:lnTo>
                    <a:pt x="2546" y="7180"/>
                  </a:lnTo>
                  <a:lnTo>
                    <a:pt x="2662" y="7412"/>
                  </a:lnTo>
                  <a:lnTo>
                    <a:pt x="2893" y="7644"/>
                  </a:lnTo>
                  <a:lnTo>
                    <a:pt x="3125" y="7875"/>
                  </a:lnTo>
                  <a:lnTo>
                    <a:pt x="3241" y="7991"/>
                  </a:lnTo>
                  <a:lnTo>
                    <a:pt x="3472" y="8223"/>
                  </a:lnTo>
                  <a:lnTo>
                    <a:pt x="3704" y="8454"/>
                  </a:lnTo>
                  <a:lnTo>
                    <a:pt x="3935" y="8570"/>
                  </a:lnTo>
                  <a:lnTo>
                    <a:pt x="3935" y="8570"/>
                  </a:lnTo>
                  <a:lnTo>
                    <a:pt x="3935" y="8686"/>
                  </a:lnTo>
                  <a:lnTo>
                    <a:pt x="3819" y="8686"/>
                  </a:lnTo>
                  <a:lnTo>
                    <a:pt x="3588" y="8802"/>
                  </a:lnTo>
                  <a:lnTo>
                    <a:pt x="3472" y="8802"/>
                  </a:lnTo>
                  <a:lnTo>
                    <a:pt x="3356" y="8802"/>
                  </a:lnTo>
                  <a:lnTo>
                    <a:pt x="3241" y="8802"/>
                  </a:lnTo>
                  <a:lnTo>
                    <a:pt x="3009" y="8802"/>
                  </a:lnTo>
                  <a:lnTo>
                    <a:pt x="3009" y="8686"/>
                  </a:lnTo>
                  <a:lnTo>
                    <a:pt x="3009" y="8686"/>
                  </a:lnTo>
                  <a:lnTo>
                    <a:pt x="2662" y="8570"/>
                  </a:lnTo>
                  <a:lnTo>
                    <a:pt x="2546" y="8339"/>
                  </a:lnTo>
                  <a:lnTo>
                    <a:pt x="2315" y="8107"/>
                  </a:lnTo>
                  <a:lnTo>
                    <a:pt x="2083" y="7875"/>
                  </a:lnTo>
                  <a:lnTo>
                    <a:pt x="1852" y="7644"/>
                  </a:lnTo>
                  <a:lnTo>
                    <a:pt x="1620" y="7412"/>
                  </a:lnTo>
                  <a:lnTo>
                    <a:pt x="1505" y="7296"/>
                  </a:lnTo>
                  <a:lnTo>
                    <a:pt x="1273" y="7065"/>
                  </a:lnTo>
                  <a:lnTo>
                    <a:pt x="1273" y="7065"/>
                  </a:lnTo>
                  <a:lnTo>
                    <a:pt x="1157" y="7412"/>
                  </a:lnTo>
                  <a:lnTo>
                    <a:pt x="1157" y="7759"/>
                  </a:lnTo>
                  <a:lnTo>
                    <a:pt x="1157" y="8107"/>
                  </a:lnTo>
                  <a:lnTo>
                    <a:pt x="1157" y="8454"/>
                  </a:lnTo>
                  <a:lnTo>
                    <a:pt x="1273" y="8802"/>
                  </a:lnTo>
                  <a:lnTo>
                    <a:pt x="1389" y="9149"/>
                  </a:lnTo>
                  <a:lnTo>
                    <a:pt x="1505" y="9612"/>
                  </a:lnTo>
                  <a:lnTo>
                    <a:pt x="1620" y="9960"/>
                  </a:lnTo>
                  <a:lnTo>
                    <a:pt x="1620" y="9960"/>
                  </a:lnTo>
                  <a:lnTo>
                    <a:pt x="1620" y="10539"/>
                  </a:lnTo>
                  <a:lnTo>
                    <a:pt x="1620" y="10539"/>
                  </a:lnTo>
                  <a:lnTo>
                    <a:pt x="1389" y="10539"/>
                  </a:lnTo>
                  <a:lnTo>
                    <a:pt x="1273" y="10539"/>
                  </a:lnTo>
                  <a:lnTo>
                    <a:pt x="1042" y="10423"/>
                  </a:lnTo>
                  <a:lnTo>
                    <a:pt x="926" y="10423"/>
                  </a:lnTo>
                  <a:lnTo>
                    <a:pt x="810" y="10191"/>
                  </a:lnTo>
                  <a:lnTo>
                    <a:pt x="695" y="10076"/>
                  </a:lnTo>
                  <a:lnTo>
                    <a:pt x="579" y="9960"/>
                  </a:lnTo>
                  <a:lnTo>
                    <a:pt x="463" y="9844"/>
                  </a:lnTo>
                  <a:lnTo>
                    <a:pt x="463" y="9844"/>
                  </a:lnTo>
                  <a:lnTo>
                    <a:pt x="116" y="9149"/>
                  </a:lnTo>
                  <a:lnTo>
                    <a:pt x="0" y="8570"/>
                  </a:lnTo>
                  <a:lnTo>
                    <a:pt x="116" y="7991"/>
                  </a:lnTo>
                  <a:lnTo>
                    <a:pt x="347" y="7412"/>
                  </a:lnTo>
                  <a:lnTo>
                    <a:pt x="579" y="6833"/>
                  </a:lnTo>
                  <a:lnTo>
                    <a:pt x="810" y="6138"/>
                  </a:lnTo>
                  <a:lnTo>
                    <a:pt x="926" y="5559"/>
                  </a:lnTo>
                  <a:lnTo>
                    <a:pt x="926" y="4864"/>
                  </a:lnTo>
                  <a:lnTo>
                    <a:pt x="926" y="4864"/>
                  </a:lnTo>
                  <a:lnTo>
                    <a:pt x="1157" y="4864"/>
                  </a:lnTo>
                  <a:lnTo>
                    <a:pt x="1389" y="4864"/>
                  </a:lnTo>
                  <a:lnTo>
                    <a:pt x="1620" y="4864"/>
                  </a:lnTo>
                  <a:lnTo>
                    <a:pt x="1852" y="4748"/>
                  </a:lnTo>
                  <a:lnTo>
                    <a:pt x="2083" y="4633"/>
                  </a:lnTo>
                  <a:lnTo>
                    <a:pt x="2315" y="4517"/>
                  </a:lnTo>
                  <a:lnTo>
                    <a:pt x="2546" y="4401"/>
                  </a:lnTo>
                  <a:lnTo>
                    <a:pt x="2662" y="4169"/>
                  </a:lnTo>
                  <a:lnTo>
                    <a:pt x="2662" y="4169"/>
                  </a:lnTo>
                  <a:lnTo>
                    <a:pt x="2778" y="3822"/>
                  </a:lnTo>
                  <a:lnTo>
                    <a:pt x="3009" y="3475"/>
                  </a:lnTo>
                  <a:lnTo>
                    <a:pt x="3125" y="3127"/>
                  </a:lnTo>
                  <a:lnTo>
                    <a:pt x="3241" y="2780"/>
                  </a:lnTo>
                  <a:lnTo>
                    <a:pt x="3241" y="2432"/>
                  </a:lnTo>
                  <a:lnTo>
                    <a:pt x="3241" y="2085"/>
                  </a:lnTo>
                  <a:lnTo>
                    <a:pt x="3125" y="1737"/>
                  </a:lnTo>
                  <a:lnTo>
                    <a:pt x="3009" y="1390"/>
                  </a:lnTo>
                  <a:lnTo>
                    <a:pt x="3009" y="1390"/>
                  </a:lnTo>
                  <a:lnTo>
                    <a:pt x="3125" y="1274"/>
                  </a:lnTo>
                  <a:lnTo>
                    <a:pt x="3241" y="1042"/>
                  </a:lnTo>
                  <a:lnTo>
                    <a:pt x="3472" y="811"/>
                  </a:lnTo>
                  <a:lnTo>
                    <a:pt x="3704" y="695"/>
                  </a:lnTo>
                  <a:lnTo>
                    <a:pt x="3819" y="579"/>
                  </a:lnTo>
                  <a:lnTo>
                    <a:pt x="4051" y="463"/>
                  </a:lnTo>
                  <a:lnTo>
                    <a:pt x="4282" y="463"/>
                  </a:lnTo>
                  <a:lnTo>
                    <a:pt x="4629" y="463"/>
                  </a:lnTo>
                  <a:lnTo>
                    <a:pt x="4629" y="463"/>
                  </a:lnTo>
                  <a:lnTo>
                    <a:pt x="4745" y="579"/>
                  </a:lnTo>
                  <a:lnTo>
                    <a:pt x="4977" y="579"/>
                  </a:lnTo>
                  <a:lnTo>
                    <a:pt x="5092" y="695"/>
                  </a:lnTo>
                  <a:lnTo>
                    <a:pt x="5324" y="811"/>
                  </a:lnTo>
                  <a:lnTo>
                    <a:pt x="5440" y="927"/>
                  </a:lnTo>
                  <a:lnTo>
                    <a:pt x="5555" y="927"/>
                  </a:lnTo>
                  <a:lnTo>
                    <a:pt x="5787" y="927"/>
                  </a:lnTo>
                  <a:lnTo>
                    <a:pt x="6018" y="811"/>
                  </a:lnTo>
                  <a:lnTo>
                    <a:pt x="6018" y="811"/>
                  </a:lnTo>
                  <a:lnTo>
                    <a:pt x="5671" y="463"/>
                  </a:lnTo>
                  <a:lnTo>
                    <a:pt x="5671" y="463"/>
                  </a:lnTo>
                  <a:lnTo>
                    <a:pt x="5902" y="348"/>
                  </a:lnTo>
                  <a:lnTo>
                    <a:pt x="6134" y="232"/>
                  </a:lnTo>
                  <a:lnTo>
                    <a:pt x="6365" y="116"/>
                  </a:lnTo>
                  <a:lnTo>
                    <a:pt x="6597" y="0"/>
                  </a:lnTo>
                  <a:lnTo>
                    <a:pt x="6828" y="0"/>
                  </a:lnTo>
                  <a:lnTo>
                    <a:pt x="6944" y="116"/>
                  </a:lnTo>
                  <a:lnTo>
                    <a:pt x="7060" y="232"/>
                  </a:lnTo>
                  <a:lnTo>
                    <a:pt x="7176" y="579"/>
                  </a:lnTo>
                  <a:lnTo>
                    <a:pt x="7176" y="579"/>
                  </a:lnTo>
                  <a:lnTo>
                    <a:pt x="7176" y="579"/>
                  </a:lnTo>
                  <a:lnTo>
                    <a:pt x="7176" y="579"/>
                  </a:lnTo>
                  <a:lnTo>
                    <a:pt x="717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1228680" y="4479480"/>
              <a:ext cx="103320" cy="173880"/>
            </a:xfrm>
            <a:custGeom>
              <a:avLst/>
              <a:gdLst/>
              <a:ahLst/>
              <a:rect l="l" t="t" r="r" b="b"/>
              <a:pathLst>
                <a:path w="2893" h="3243">
                  <a:moveTo>
                    <a:pt x="2893" y="927"/>
                  </a:moveTo>
                  <a:lnTo>
                    <a:pt x="2893" y="1159"/>
                  </a:lnTo>
                  <a:lnTo>
                    <a:pt x="2893" y="1390"/>
                  </a:lnTo>
                  <a:lnTo>
                    <a:pt x="2893" y="1622"/>
                  </a:lnTo>
                  <a:lnTo>
                    <a:pt x="2893" y="1853"/>
                  </a:lnTo>
                  <a:lnTo>
                    <a:pt x="2777" y="2085"/>
                  </a:lnTo>
                  <a:lnTo>
                    <a:pt x="2661" y="2317"/>
                  </a:lnTo>
                  <a:lnTo>
                    <a:pt x="2546" y="2548"/>
                  </a:lnTo>
                  <a:lnTo>
                    <a:pt x="2430" y="2780"/>
                  </a:lnTo>
                  <a:lnTo>
                    <a:pt x="2430" y="2780"/>
                  </a:lnTo>
                  <a:lnTo>
                    <a:pt x="2314" y="2896"/>
                  </a:lnTo>
                  <a:lnTo>
                    <a:pt x="2199" y="3012"/>
                  </a:lnTo>
                  <a:lnTo>
                    <a:pt x="1967" y="3127"/>
                  </a:lnTo>
                  <a:lnTo>
                    <a:pt x="1851" y="3243"/>
                  </a:lnTo>
                  <a:lnTo>
                    <a:pt x="1620" y="3243"/>
                  </a:lnTo>
                  <a:lnTo>
                    <a:pt x="1388" y="3243"/>
                  </a:lnTo>
                  <a:lnTo>
                    <a:pt x="1157" y="3243"/>
                  </a:lnTo>
                  <a:lnTo>
                    <a:pt x="1041" y="3243"/>
                  </a:lnTo>
                  <a:lnTo>
                    <a:pt x="1041" y="3243"/>
                  </a:lnTo>
                  <a:lnTo>
                    <a:pt x="810" y="3127"/>
                  </a:lnTo>
                  <a:lnTo>
                    <a:pt x="694" y="3127"/>
                  </a:lnTo>
                  <a:lnTo>
                    <a:pt x="463" y="3012"/>
                  </a:lnTo>
                  <a:lnTo>
                    <a:pt x="347" y="2896"/>
                  </a:lnTo>
                  <a:lnTo>
                    <a:pt x="231" y="2664"/>
                  </a:lnTo>
                  <a:lnTo>
                    <a:pt x="231" y="2548"/>
                  </a:lnTo>
                  <a:lnTo>
                    <a:pt x="115" y="2433"/>
                  </a:lnTo>
                  <a:lnTo>
                    <a:pt x="0" y="2201"/>
                  </a:lnTo>
                  <a:lnTo>
                    <a:pt x="0" y="2201"/>
                  </a:lnTo>
                  <a:lnTo>
                    <a:pt x="231" y="2317"/>
                  </a:lnTo>
                  <a:lnTo>
                    <a:pt x="347" y="2317"/>
                  </a:lnTo>
                  <a:lnTo>
                    <a:pt x="578" y="2317"/>
                  </a:lnTo>
                  <a:lnTo>
                    <a:pt x="810" y="2317"/>
                  </a:lnTo>
                  <a:lnTo>
                    <a:pt x="926" y="2317"/>
                  </a:lnTo>
                  <a:lnTo>
                    <a:pt x="1157" y="2201"/>
                  </a:lnTo>
                  <a:lnTo>
                    <a:pt x="1388" y="2201"/>
                  </a:lnTo>
                  <a:lnTo>
                    <a:pt x="1620" y="1969"/>
                  </a:lnTo>
                  <a:lnTo>
                    <a:pt x="1620" y="1969"/>
                  </a:lnTo>
                  <a:lnTo>
                    <a:pt x="1620" y="1853"/>
                  </a:lnTo>
                  <a:lnTo>
                    <a:pt x="1736" y="1738"/>
                  </a:lnTo>
                  <a:lnTo>
                    <a:pt x="1851" y="1506"/>
                  </a:lnTo>
                  <a:lnTo>
                    <a:pt x="1851" y="1390"/>
                  </a:lnTo>
                  <a:lnTo>
                    <a:pt x="1967" y="1159"/>
                  </a:lnTo>
                  <a:lnTo>
                    <a:pt x="1967" y="1043"/>
                  </a:lnTo>
                  <a:lnTo>
                    <a:pt x="1851" y="811"/>
                  </a:lnTo>
                  <a:lnTo>
                    <a:pt x="1736" y="695"/>
                  </a:lnTo>
                  <a:lnTo>
                    <a:pt x="1736" y="695"/>
                  </a:lnTo>
                  <a:lnTo>
                    <a:pt x="1504" y="232"/>
                  </a:lnTo>
                  <a:lnTo>
                    <a:pt x="1504" y="232"/>
                  </a:lnTo>
                  <a:lnTo>
                    <a:pt x="1620" y="116"/>
                  </a:lnTo>
                  <a:lnTo>
                    <a:pt x="1851" y="0"/>
                  </a:lnTo>
                  <a:lnTo>
                    <a:pt x="2083" y="116"/>
                  </a:lnTo>
                  <a:lnTo>
                    <a:pt x="2314" y="232"/>
                  </a:lnTo>
                  <a:lnTo>
                    <a:pt x="2546" y="348"/>
                  </a:lnTo>
                  <a:lnTo>
                    <a:pt x="2661" y="580"/>
                  </a:lnTo>
                  <a:lnTo>
                    <a:pt x="2777" y="811"/>
                  </a:lnTo>
                  <a:lnTo>
                    <a:pt x="2893" y="927"/>
                  </a:lnTo>
                  <a:lnTo>
                    <a:pt x="2893" y="927"/>
                  </a:lnTo>
                  <a:lnTo>
                    <a:pt x="2893" y="927"/>
                  </a:lnTo>
                  <a:lnTo>
                    <a:pt x="2893" y="927"/>
                  </a:lnTo>
                  <a:lnTo>
                    <a:pt x="2893"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2408400" y="4485600"/>
              <a:ext cx="74520" cy="173880"/>
            </a:xfrm>
            <a:custGeom>
              <a:avLst/>
              <a:gdLst/>
              <a:ahLst/>
              <a:rect l="l" t="t" r="r" b="b"/>
              <a:pathLst>
                <a:path w="2084" h="3243">
                  <a:moveTo>
                    <a:pt x="2084" y="464"/>
                  </a:moveTo>
                  <a:lnTo>
                    <a:pt x="2084" y="811"/>
                  </a:lnTo>
                  <a:lnTo>
                    <a:pt x="2084" y="1043"/>
                  </a:lnTo>
                  <a:lnTo>
                    <a:pt x="1968" y="1274"/>
                  </a:lnTo>
                  <a:lnTo>
                    <a:pt x="1852" y="1622"/>
                  </a:lnTo>
                  <a:lnTo>
                    <a:pt x="1736" y="1853"/>
                  </a:lnTo>
                  <a:lnTo>
                    <a:pt x="1621" y="2085"/>
                  </a:lnTo>
                  <a:lnTo>
                    <a:pt x="1505" y="2317"/>
                  </a:lnTo>
                  <a:lnTo>
                    <a:pt x="1389" y="2548"/>
                  </a:lnTo>
                  <a:lnTo>
                    <a:pt x="1389" y="2548"/>
                  </a:lnTo>
                  <a:lnTo>
                    <a:pt x="1158" y="2664"/>
                  </a:lnTo>
                  <a:lnTo>
                    <a:pt x="1042" y="2780"/>
                  </a:lnTo>
                  <a:lnTo>
                    <a:pt x="926" y="2896"/>
                  </a:lnTo>
                  <a:lnTo>
                    <a:pt x="695" y="3011"/>
                  </a:lnTo>
                  <a:lnTo>
                    <a:pt x="579" y="3127"/>
                  </a:lnTo>
                  <a:lnTo>
                    <a:pt x="463" y="3243"/>
                  </a:lnTo>
                  <a:lnTo>
                    <a:pt x="232" y="3243"/>
                  </a:lnTo>
                  <a:lnTo>
                    <a:pt x="0" y="3243"/>
                  </a:lnTo>
                  <a:lnTo>
                    <a:pt x="0" y="3243"/>
                  </a:lnTo>
                  <a:lnTo>
                    <a:pt x="116" y="2896"/>
                  </a:lnTo>
                  <a:lnTo>
                    <a:pt x="116" y="2548"/>
                  </a:lnTo>
                  <a:lnTo>
                    <a:pt x="232" y="2317"/>
                  </a:lnTo>
                  <a:lnTo>
                    <a:pt x="348" y="1969"/>
                  </a:lnTo>
                  <a:lnTo>
                    <a:pt x="348" y="1622"/>
                  </a:lnTo>
                  <a:lnTo>
                    <a:pt x="348" y="1274"/>
                  </a:lnTo>
                  <a:lnTo>
                    <a:pt x="348" y="927"/>
                  </a:lnTo>
                  <a:lnTo>
                    <a:pt x="232" y="579"/>
                  </a:lnTo>
                  <a:lnTo>
                    <a:pt x="232" y="579"/>
                  </a:lnTo>
                  <a:lnTo>
                    <a:pt x="348" y="232"/>
                  </a:lnTo>
                  <a:lnTo>
                    <a:pt x="463" y="116"/>
                  </a:lnTo>
                  <a:lnTo>
                    <a:pt x="695" y="0"/>
                  </a:lnTo>
                  <a:lnTo>
                    <a:pt x="1042" y="0"/>
                  </a:lnTo>
                  <a:lnTo>
                    <a:pt x="1273" y="116"/>
                  </a:lnTo>
                  <a:lnTo>
                    <a:pt x="1621" y="232"/>
                  </a:lnTo>
                  <a:lnTo>
                    <a:pt x="1852" y="348"/>
                  </a:lnTo>
                  <a:lnTo>
                    <a:pt x="2084" y="464"/>
                  </a:lnTo>
                  <a:lnTo>
                    <a:pt x="2084" y="464"/>
                  </a:lnTo>
                  <a:lnTo>
                    <a:pt x="2084" y="464"/>
                  </a:lnTo>
                  <a:lnTo>
                    <a:pt x="2084" y="464"/>
                  </a:lnTo>
                  <a:lnTo>
                    <a:pt x="2084"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2470320" y="4498200"/>
              <a:ext cx="119880" cy="142920"/>
            </a:xfrm>
            <a:custGeom>
              <a:avLst/>
              <a:gdLst/>
              <a:ahLst/>
              <a:rect l="l" t="t" r="r" b="b"/>
              <a:pathLst>
                <a:path w="3357" h="2664">
                  <a:moveTo>
                    <a:pt x="3357" y="347"/>
                  </a:moveTo>
                  <a:lnTo>
                    <a:pt x="3125" y="811"/>
                  </a:lnTo>
                  <a:lnTo>
                    <a:pt x="2894" y="1158"/>
                  </a:lnTo>
                  <a:lnTo>
                    <a:pt x="2546" y="1505"/>
                  </a:lnTo>
                  <a:lnTo>
                    <a:pt x="2199" y="1853"/>
                  </a:lnTo>
                  <a:lnTo>
                    <a:pt x="1852" y="2200"/>
                  </a:lnTo>
                  <a:lnTo>
                    <a:pt x="1505" y="2432"/>
                  </a:lnTo>
                  <a:lnTo>
                    <a:pt x="1042" y="2548"/>
                  </a:lnTo>
                  <a:lnTo>
                    <a:pt x="695" y="2664"/>
                  </a:lnTo>
                  <a:lnTo>
                    <a:pt x="695" y="2664"/>
                  </a:lnTo>
                  <a:lnTo>
                    <a:pt x="0" y="2548"/>
                  </a:lnTo>
                  <a:lnTo>
                    <a:pt x="0" y="2548"/>
                  </a:lnTo>
                  <a:lnTo>
                    <a:pt x="348" y="2200"/>
                  </a:lnTo>
                  <a:lnTo>
                    <a:pt x="463" y="1853"/>
                  </a:lnTo>
                  <a:lnTo>
                    <a:pt x="695" y="1505"/>
                  </a:lnTo>
                  <a:lnTo>
                    <a:pt x="810" y="1158"/>
                  </a:lnTo>
                  <a:lnTo>
                    <a:pt x="926" y="811"/>
                  </a:lnTo>
                  <a:lnTo>
                    <a:pt x="1158" y="579"/>
                  </a:lnTo>
                  <a:lnTo>
                    <a:pt x="1505" y="232"/>
                  </a:lnTo>
                  <a:lnTo>
                    <a:pt x="1852" y="116"/>
                  </a:lnTo>
                  <a:lnTo>
                    <a:pt x="1852" y="116"/>
                  </a:lnTo>
                  <a:lnTo>
                    <a:pt x="2083" y="0"/>
                  </a:lnTo>
                  <a:lnTo>
                    <a:pt x="2315" y="0"/>
                  </a:lnTo>
                  <a:lnTo>
                    <a:pt x="2431" y="0"/>
                  </a:lnTo>
                  <a:lnTo>
                    <a:pt x="2662" y="0"/>
                  </a:lnTo>
                  <a:lnTo>
                    <a:pt x="2778" y="116"/>
                  </a:lnTo>
                  <a:lnTo>
                    <a:pt x="3009" y="116"/>
                  </a:lnTo>
                  <a:lnTo>
                    <a:pt x="3125" y="232"/>
                  </a:lnTo>
                  <a:lnTo>
                    <a:pt x="3357" y="347"/>
                  </a:lnTo>
                  <a:lnTo>
                    <a:pt x="3357" y="347"/>
                  </a:lnTo>
                  <a:lnTo>
                    <a:pt x="3357" y="347"/>
                  </a:lnTo>
                  <a:lnTo>
                    <a:pt x="3357" y="347"/>
                  </a:lnTo>
                  <a:lnTo>
                    <a:pt x="3357"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2304720" y="4516560"/>
              <a:ext cx="99000" cy="186480"/>
            </a:xfrm>
            <a:custGeom>
              <a:avLst/>
              <a:gdLst/>
              <a:ahLst/>
              <a:rect l="l" t="t" r="r" b="b"/>
              <a:pathLst>
                <a:path w="2778" h="3475">
                  <a:moveTo>
                    <a:pt x="2778" y="1158"/>
                  </a:moveTo>
                  <a:lnTo>
                    <a:pt x="2662" y="1506"/>
                  </a:lnTo>
                  <a:lnTo>
                    <a:pt x="2662" y="1738"/>
                  </a:lnTo>
                  <a:lnTo>
                    <a:pt x="2546" y="2085"/>
                  </a:lnTo>
                  <a:lnTo>
                    <a:pt x="2430" y="2317"/>
                  </a:lnTo>
                  <a:lnTo>
                    <a:pt x="2430" y="2664"/>
                  </a:lnTo>
                  <a:lnTo>
                    <a:pt x="2199" y="2896"/>
                  </a:lnTo>
                  <a:lnTo>
                    <a:pt x="2083" y="3127"/>
                  </a:lnTo>
                  <a:lnTo>
                    <a:pt x="1736" y="3243"/>
                  </a:lnTo>
                  <a:lnTo>
                    <a:pt x="1736" y="3243"/>
                  </a:lnTo>
                  <a:lnTo>
                    <a:pt x="1620" y="3359"/>
                  </a:lnTo>
                  <a:lnTo>
                    <a:pt x="1505" y="3359"/>
                  </a:lnTo>
                  <a:lnTo>
                    <a:pt x="1273" y="3359"/>
                  </a:lnTo>
                  <a:lnTo>
                    <a:pt x="1157" y="3475"/>
                  </a:lnTo>
                  <a:lnTo>
                    <a:pt x="1042" y="3475"/>
                  </a:lnTo>
                  <a:lnTo>
                    <a:pt x="810" y="3475"/>
                  </a:lnTo>
                  <a:lnTo>
                    <a:pt x="694" y="3359"/>
                  </a:lnTo>
                  <a:lnTo>
                    <a:pt x="579" y="3359"/>
                  </a:lnTo>
                  <a:lnTo>
                    <a:pt x="579" y="3359"/>
                  </a:lnTo>
                  <a:lnTo>
                    <a:pt x="347" y="3127"/>
                  </a:lnTo>
                  <a:lnTo>
                    <a:pt x="231" y="2896"/>
                  </a:lnTo>
                  <a:lnTo>
                    <a:pt x="231" y="2664"/>
                  </a:lnTo>
                  <a:lnTo>
                    <a:pt x="116" y="2432"/>
                  </a:lnTo>
                  <a:lnTo>
                    <a:pt x="116" y="2201"/>
                  </a:lnTo>
                  <a:lnTo>
                    <a:pt x="116" y="1969"/>
                  </a:lnTo>
                  <a:lnTo>
                    <a:pt x="0" y="1738"/>
                  </a:lnTo>
                  <a:lnTo>
                    <a:pt x="0" y="1506"/>
                  </a:lnTo>
                  <a:lnTo>
                    <a:pt x="0" y="1506"/>
                  </a:lnTo>
                  <a:lnTo>
                    <a:pt x="926" y="1274"/>
                  </a:lnTo>
                  <a:lnTo>
                    <a:pt x="926" y="1274"/>
                  </a:lnTo>
                  <a:lnTo>
                    <a:pt x="926" y="1390"/>
                  </a:lnTo>
                  <a:lnTo>
                    <a:pt x="926" y="1506"/>
                  </a:lnTo>
                  <a:lnTo>
                    <a:pt x="926" y="1622"/>
                  </a:lnTo>
                  <a:lnTo>
                    <a:pt x="926" y="1738"/>
                  </a:lnTo>
                  <a:lnTo>
                    <a:pt x="926" y="1853"/>
                  </a:lnTo>
                  <a:lnTo>
                    <a:pt x="926" y="1853"/>
                  </a:lnTo>
                  <a:lnTo>
                    <a:pt x="926" y="1969"/>
                  </a:lnTo>
                  <a:lnTo>
                    <a:pt x="1042" y="2085"/>
                  </a:lnTo>
                  <a:lnTo>
                    <a:pt x="1042" y="2085"/>
                  </a:lnTo>
                  <a:lnTo>
                    <a:pt x="1157" y="1738"/>
                  </a:lnTo>
                  <a:lnTo>
                    <a:pt x="1273" y="1390"/>
                  </a:lnTo>
                  <a:lnTo>
                    <a:pt x="1389" y="1158"/>
                  </a:lnTo>
                  <a:lnTo>
                    <a:pt x="1620" y="927"/>
                  </a:lnTo>
                  <a:lnTo>
                    <a:pt x="1852" y="579"/>
                  </a:lnTo>
                  <a:lnTo>
                    <a:pt x="2083" y="348"/>
                  </a:lnTo>
                  <a:lnTo>
                    <a:pt x="2315" y="232"/>
                  </a:lnTo>
                  <a:lnTo>
                    <a:pt x="2546" y="0"/>
                  </a:lnTo>
                  <a:lnTo>
                    <a:pt x="2546" y="0"/>
                  </a:lnTo>
                  <a:lnTo>
                    <a:pt x="2662" y="116"/>
                  </a:lnTo>
                  <a:lnTo>
                    <a:pt x="2778" y="232"/>
                  </a:lnTo>
                  <a:lnTo>
                    <a:pt x="2778" y="348"/>
                  </a:lnTo>
                  <a:lnTo>
                    <a:pt x="2778" y="579"/>
                  </a:lnTo>
                  <a:lnTo>
                    <a:pt x="2778" y="695"/>
                  </a:lnTo>
                  <a:lnTo>
                    <a:pt x="2778" y="927"/>
                  </a:lnTo>
                  <a:lnTo>
                    <a:pt x="2778" y="1043"/>
                  </a:lnTo>
                  <a:lnTo>
                    <a:pt x="2778" y="1158"/>
                  </a:lnTo>
                  <a:lnTo>
                    <a:pt x="2778" y="1158"/>
                  </a:lnTo>
                  <a:lnTo>
                    <a:pt x="2778" y="1158"/>
                  </a:lnTo>
                  <a:lnTo>
                    <a:pt x="2778" y="1158"/>
                  </a:lnTo>
                  <a:lnTo>
                    <a:pt x="2778"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1522440" y="4547880"/>
              <a:ext cx="827640" cy="254880"/>
            </a:xfrm>
            <a:custGeom>
              <a:avLst/>
              <a:gdLst/>
              <a:ahLst/>
              <a:rect l="l" t="t" r="r" b="b"/>
              <a:pathLst>
                <a:path w="23146" h="4749">
                  <a:moveTo>
                    <a:pt x="23146" y="0"/>
                  </a:moveTo>
                  <a:lnTo>
                    <a:pt x="22336" y="232"/>
                  </a:lnTo>
                  <a:lnTo>
                    <a:pt x="21526" y="464"/>
                  </a:lnTo>
                  <a:lnTo>
                    <a:pt x="20600" y="695"/>
                  </a:lnTo>
                  <a:lnTo>
                    <a:pt x="19790" y="1043"/>
                  </a:lnTo>
                  <a:lnTo>
                    <a:pt x="18980" y="1274"/>
                  </a:lnTo>
                  <a:lnTo>
                    <a:pt x="18054" y="1390"/>
                  </a:lnTo>
                  <a:lnTo>
                    <a:pt x="17128" y="1622"/>
                  </a:lnTo>
                  <a:lnTo>
                    <a:pt x="16318" y="1738"/>
                  </a:lnTo>
                  <a:lnTo>
                    <a:pt x="16318" y="1738"/>
                  </a:lnTo>
                  <a:lnTo>
                    <a:pt x="4397" y="4054"/>
                  </a:lnTo>
                  <a:lnTo>
                    <a:pt x="810" y="4749"/>
                  </a:lnTo>
                  <a:lnTo>
                    <a:pt x="0" y="4401"/>
                  </a:lnTo>
                  <a:lnTo>
                    <a:pt x="0" y="4401"/>
                  </a:lnTo>
                  <a:lnTo>
                    <a:pt x="2314" y="3938"/>
                  </a:lnTo>
                  <a:lnTo>
                    <a:pt x="4629" y="3591"/>
                  </a:lnTo>
                  <a:lnTo>
                    <a:pt x="6944" y="3127"/>
                  </a:lnTo>
                  <a:lnTo>
                    <a:pt x="9258" y="2664"/>
                  </a:lnTo>
                  <a:lnTo>
                    <a:pt x="11573" y="2201"/>
                  </a:lnTo>
                  <a:lnTo>
                    <a:pt x="13888" y="1738"/>
                  </a:lnTo>
                  <a:lnTo>
                    <a:pt x="16202" y="1274"/>
                  </a:lnTo>
                  <a:lnTo>
                    <a:pt x="18633" y="927"/>
                  </a:lnTo>
                  <a:lnTo>
                    <a:pt x="18633" y="927"/>
                  </a:lnTo>
                  <a:lnTo>
                    <a:pt x="19211" y="811"/>
                  </a:lnTo>
                  <a:lnTo>
                    <a:pt x="19674" y="695"/>
                  </a:lnTo>
                  <a:lnTo>
                    <a:pt x="20253" y="695"/>
                  </a:lnTo>
                  <a:lnTo>
                    <a:pt x="20831" y="579"/>
                  </a:lnTo>
                  <a:lnTo>
                    <a:pt x="21410" y="464"/>
                  </a:lnTo>
                  <a:lnTo>
                    <a:pt x="21989" y="348"/>
                  </a:lnTo>
                  <a:lnTo>
                    <a:pt x="22567" y="116"/>
                  </a:lnTo>
                  <a:lnTo>
                    <a:pt x="23146" y="0"/>
                  </a:lnTo>
                  <a:lnTo>
                    <a:pt x="23146" y="0"/>
                  </a:lnTo>
                  <a:lnTo>
                    <a:pt x="23146" y="0"/>
                  </a:lnTo>
                  <a:lnTo>
                    <a:pt x="23146" y="0"/>
                  </a:lnTo>
                  <a:lnTo>
                    <a:pt x="23146"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1137600" y="4584960"/>
              <a:ext cx="74160" cy="335520"/>
            </a:xfrm>
            <a:custGeom>
              <a:avLst/>
              <a:gdLst/>
              <a:ahLst/>
              <a:rect l="l" t="t" r="r" b="b"/>
              <a:pathLst>
                <a:path w="2083" h="6254">
                  <a:moveTo>
                    <a:pt x="1620" y="0"/>
                  </a:moveTo>
                  <a:lnTo>
                    <a:pt x="1273" y="695"/>
                  </a:lnTo>
                  <a:lnTo>
                    <a:pt x="1041" y="1506"/>
                  </a:lnTo>
                  <a:lnTo>
                    <a:pt x="925" y="2316"/>
                  </a:lnTo>
                  <a:lnTo>
                    <a:pt x="925" y="3127"/>
                  </a:lnTo>
                  <a:lnTo>
                    <a:pt x="1041" y="3822"/>
                  </a:lnTo>
                  <a:lnTo>
                    <a:pt x="1273" y="4633"/>
                  </a:lnTo>
                  <a:lnTo>
                    <a:pt x="1620" y="5328"/>
                  </a:lnTo>
                  <a:lnTo>
                    <a:pt x="2083" y="5907"/>
                  </a:lnTo>
                  <a:lnTo>
                    <a:pt x="2083" y="5907"/>
                  </a:lnTo>
                  <a:lnTo>
                    <a:pt x="2083" y="6254"/>
                  </a:lnTo>
                  <a:lnTo>
                    <a:pt x="2083" y="6254"/>
                  </a:lnTo>
                  <a:lnTo>
                    <a:pt x="1851" y="6254"/>
                  </a:lnTo>
                  <a:lnTo>
                    <a:pt x="1736" y="6254"/>
                  </a:lnTo>
                  <a:lnTo>
                    <a:pt x="1504" y="6254"/>
                  </a:lnTo>
                  <a:lnTo>
                    <a:pt x="1388" y="6138"/>
                  </a:lnTo>
                  <a:lnTo>
                    <a:pt x="1273" y="6022"/>
                  </a:lnTo>
                  <a:lnTo>
                    <a:pt x="1041" y="5907"/>
                  </a:lnTo>
                  <a:lnTo>
                    <a:pt x="925" y="5907"/>
                  </a:lnTo>
                  <a:lnTo>
                    <a:pt x="810" y="5791"/>
                  </a:lnTo>
                  <a:lnTo>
                    <a:pt x="810" y="5791"/>
                  </a:lnTo>
                  <a:lnTo>
                    <a:pt x="462" y="5212"/>
                  </a:lnTo>
                  <a:lnTo>
                    <a:pt x="231" y="4748"/>
                  </a:lnTo>
                  <a:lnTo>
                    <a:pt x="0" y="4169"/>
                  </a:lnTo>
                  <a:lnTo>
                    <a:pt x="0" y="3475"/>
                  </a:lnTo>
                  <a:lnTo>
                    <a:pt x="0" y="2896"/>
                  </a:lnTo>
                  <a:lnTo>
                    <a:pt x="0" y="2201"/>
                  </a:lnTo>
                  <a:lnTo>
                    <a:pt x="115" y="1622"/>
                  </a:lnTo>
                  <a:lnTo>
                    <a:pt x="231" y="1043"/>
                  </a:lnTo>
                  <a:lnTo>
                    <a:pt x="231" y="1043"/>
                  </a:lnTo>
                  <a:lnTo>
                    <a:pt x="347" y="927"/>
                  </a:lnTo>
                  <a:lnTo>
                    <a:pt x="462" y="695"/>
                  </a:lnTo>
                  <a:lnTo>
                    <a:pt x="694" y="579"/>
                  </a:lnTo>
                  <a:lnTo>
                    <a:pt x="810" y="348"/>
                  </a:lnTo>
                  <a:lnTo>
                    <a:pt x="925" y="232"/>
                  </a:lnTo>
                  <a:lnTo>
                    <a:pt x="1157" y="116"/>
                  </a:lnTo>
                  <a:lnTo>
                    <a:pt x="1388" y="0"/>
                  </a:lnTo>
                  <a:lnTo>
                    <a:pt x="1620" y="0"/>
                  </a:lnTo>
                  <a:lnTo>
                    <a:pt x="1620" y="0"/>
                  </a:lnTo>
                  <a:lnTo>
                    <a:pt x="1620" y="0"/>
                  </a:lnTo>
                  <a:lnTo>
                    <a:pt x="1620" y="0"/>
                  </a:lnTo>
                  <a:lnTo>
                    <a:pt x="16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1191600" y="4603680"/>
              <a:ext cx="37080" cy="279720"/>
            </a:xfrm>
            <a:custGeom>
              <a:avLst/>
              <a:gdLst/>
              <a:ahLst/>
              <a:rect l="l" t="t" r="r" b="b"/>
              <a:pathLst>
                <a:path w="1042" h="5211">
                  <a:moveTo>
                    <a:pt x="694" y="1968"/>
                  </a:moveTo>
                  <a:lnTo>
                    <a:pt x="1042" y="3706"/>
                  </a:lnTo>
                  <a:lnTo>
                    <a:pt x="810" y="5211"/>
                  </a:lnTo>
                  <a:lnTo>
                    <a:pt x="810" y="5211"/>
                  </a:lnTo>
                  <a:lnTo>
                    <a:pt x="463" y="4632"/>
                  </a:lnTo>
                  <a:lnTo>
                    <a:pt x="232" y="3937"/>
                  </a:lnTo>
                  <a:lnTo>
                    <a:pt x="0" y="3358"/>
                  </a:lnTo>
                  <a:lnTo>
                    <a:pt x="0" y="2663"/>
                  </a:lnTo>
                  <a:lnTo>
                    <a:pt x="0" y="1968"/>
                  </a:lnTo>
                  <a:lnTo>
                    <a:pt x="0" y="1274"/>
                  </a:lnTo>
                  <a:lnTo>
                    <a:pt x="232" y="579"/>
                  </a:lnTo>
                  <a:lnTo>
                    <a:pt x="463" y="0"/>
                  </a:lnTo>
                  <a:lnTo>
                    <a:pt x="463" y="0"/>
                  </a:lnTo>
                  <a:lnTo>
                    <a:pt x="694" y="231"/>
                  </a:lnTo>
                  <a:lnTo>
                    <a:pt x="810" y="463"/>
                  </a:lnTo>
                  <a:lnTo>
                    <a:pt x="810" y="695"/>
                  </a:lnTo>
                  <a:lnTo>
                    <a:pt x="810" y="926"/>
                  </a:lnTo>
                  <a:lnTo>
                    <a:pt x="694" y="1158"/>
                  </a:lnTo>
                  <a:lnTo>
                    <a:pt x="694" y="1505"/>
                  </a:lnTo>
                  <a:lnTo>
                    <a:pt x="579" y="1737"/>
                  </a:lnTo>
                  <a:lnTo>
                    <a:pt x="694" y="1968"/>
                  </a:lnTo>
                  <a:lnTo>
                    <a:pt x="694" y="1968"/>
                  </a:lnTo>
                  <a:lnTo>
                    <a:pt x="694" y="1968"/>
                  </a:lnTo>
                  <a:lnTo>
                    <a:pt x="694" y="1968"/>
                  </a:lnTo>
                  <a:lnTo>
                    <a:pt x="694" y="19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2259360" y="4610160"/>
              <a:ext cx="32760" cy="55800"/>
            </a:xfrm>
            <a:custGeom>
              <a:avLst/>
              <a:gdLst/>
              <a:ahLst/>
              <a:rect l="l" t="t" r="r" b="b"/>
              <a:pathLst>
                <a:path w="926" h="1042">
                  <a:moveTo>
                    <a:pt x="926" y="926"/>
                  </a:moveTo>
                  <a:lnTo>
                    <a:pt x="926" y="1042"/>
                  </a:lnTo>
                  <a:lnTo>
                    <a:pt x="926" y="1042"/>
                  </a:lnTo>
                  <a:lnTo>
                    <a:pt x="810" y="1042"/>
                  </a:lnTo>
                  <a:lnTo>
                    <a:pt x="694" y="1042"/>
                  </a:lnTo>
                  <a:lnTo>
                    <a:pt x="579" y="1042"/>
                  </a:lnTo>
                  <a:lnTo>
                    <a:pt x="463" y="926"/>
                  </a:lnTo>
                  <a:lnTo>
                    <a:pt x="347" y="926"/>
                  </a:lnTo>
                  <a:lnTo>
                    <a:pt x="231" y="810"/>
                  </a:lnTo>
                  <a:lnTo>
                    <a:pt x="116" y="694"/>
                  </a:lnTo>
                  <a:lnTo>
                    <a:pt x="0" y="579"/>
                  </a:lnTo>
                  <a:lnTo>
                    <a:pt x="0" y="579"/>
                  </a:lnTo>
                  <a:lnTo>
                    <a:pt x="0" y="463"/>
                  </a:lnTo>
                  <a:lnTo>
                    <a:pt x="0" y="347"/>
                  </a:lnTo>
                  <a:lnTo>
                    <a:pt x="0" y="231"/>
                  </a:lnTo>
                  <a:lnTo>
                    <a:pt x="116" y="115"/>
                  </a:lnTo>
                  <a:lnTo>
                    <a:pt x="116" y="115"/>
                  </a:lnTo>
                  <a:lnTo>
                    <a:pt x="231" y="0"/>
                  </a:lnTo>
                  <a:lnTo>
                    <a:pt x="347" y="0"/>
                  </a:lnTo>
                  <a:lnTo>
                    <a:pt x="463" y="0"/>
                  </a:lnTo>
                  <a:lnTo>
                    <a:pt x="463" y="0"/>
                  </a:lnTo>
                  <a:lnTo>
                    <a:pt x="579" y="0"/>
                  </a:lnTo>
                  <a:lnTo>
                    <a:pt x="694" y="115"/>
                  </a:lnTo>
                  <a:lnTo>
                    <a:pt x="810" y="115"/>
                  </a:lnTo>
                  <a:lnTo>
                    <a:pt x="810" y="347"/>
                  </a:lnTo>
                  <a:lnTo>
                    <a:pt x="810" y="463"/>
                  </a:lnTo>
                  <a:lnTo>
                    <a:pt x="926" y="579"/>
                  </a:lnTo>
                  <a:lnTo>
                    <a:pt x="926" y="810"/>
                  </a:lnTo>
                  <a:lnTo>
                    <a:pt x="926" y="926"/>
                  </a:lnTo>
                  <a:lnTo>
                    <a:pt x="926" y="926"/>
                  </a:lnTo>
                  <a:lnTo>
                    <a:pt x="926" y="926"/>
                  </a:lnTo>
                  <a:lnTo>
                    <a:pt x="926" y="926"/>
                  </a:lnTo>
                  <a:lnTo>
                    <a:pt x="926" y="92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90" name=""/>
            <p:cNvSpPr/>
            <p:nvPr/>
          </p:nvSpPr>
          <p:spPr>
            <a:xfrm>
              <a:off x="943200" y="4622400"/>
              <a:ext cx="227520" cy="391680"/>
            </a:xfrm>
            <a:custGeom>
              <a:avLst/>
              <a:gdLst/>
              <a:ahLst/>
              <a:rect l="l" t="t" r="r" b="b"/>
              <a:pathLst>
                <a:path w="6365" h="7296">
                  <a:moveTo>
                    <a:pt x="6365" y="5791"/>
                  </a:moveTo>
                  <a:lnTo>
                    <a:pt x="5671" y="6022"/>
                  </a:lnTo>
                  <a:lnTo>
                    <a:pt x="4977" y="6370"/>
                  </a:lnTo>
                  <a:lnTo>
                    <a:pt x="4282" y="6717"/>
                  </a:lnTo>
                  <a:lnTo>
                    <a:pt x="3588" y="7065"/>
                  </a:lnTo>
                  <a:lnTo>
                    <a:pt x="2778" y="7296"/>
                  </a:lnTo>
                  <a:lnTo>
                    <a:pt x="2083" y="7296"/>
                  </a:lnTo>
                  <a:lnTo>
                    <a:pt x="1389" y="6949"/>
                  </a:lnTo>
                  <a:lnTo>
                    <a:pt x="810" y="6370"/>
                  </a:lnTo>
                  <a:lnTo>
                    <a:pt x="810" y="6370"/>
                  </a:lnTo>
                  <a:lnTo>
                    <a:pt x="463" y="5906"/>
                  </a:lnTo>
                  <a:lnTo>
                    <a:pt x="116" y="5327"/>
                  </a:lnTo>
                  <a:lnTo>
                    <a:pt x="0" y="4748"/>
                  </a:lnTo>
                  <a:lnTo>
                    <a:pt x="0" y="4169"/>
                  </a:lnTo>
                  <a:lnTo>
                    <a:pt x="0" y="3590"/>
                  </a:lnTo>
                  <a:lnTo>
                    <a:pt x="0" y="3011"/>
                  </a:lnTo>
                  <a:lnTo>
                    <a:pt x="116" y="2432"/>
                  </a:lnTo>
                  <a:lnTo>
                    <a:pt x="232" y="1853"/>
                  </a:lnTo>
                  <a:lnTo>
                    <a:pt x="232" y="1853"/>
                  </a:lnTo>
                  <a:lnTo>
                    <a:pt x="695" y="1274"/>
                  </a:lnTo>
                  <a:lnTo>
                    <a:pt x="1157" y="811"/>
                  </a:lnTo>
                  <a:lnTo>
                    <a:pt x="1736" y="579"/>
                  </a:lnTo>
                  <a:lnTo>
                    <a:pt x="2431" y="463"/>
                  </a:lnTo>
                  <a:lnTo>
                    <a:pt x="3125" y="348"/>
                  </a:lnTo>
                  <a:lnTo>
                    <a:pt x="3935" y="232"/>
                  </a:lnTo>
                  <a:lnTo>
                    <a:pt x="4629" y="232"/>
                  </a:lnTo>
                  <a:lnTo>
                    <a:pt x="5208" y="0"/>
                  </a:lnTo>
                  <a:lnTo>
                    <a:pt x="5208" y="0"/>
                  </a:lnTo>
                  <a:lnTo>
                    <a:pt x="5092" y="811"/>
                  </a:lnTo>
                  <a:lnTo>
                    <a:pt x="4977" y="1506"/>
                  </a:lnTo>
                  <a:lnTo>
                    <a:pt x="4977" y="2316"/>
                  </a:lnTo>
                  <a:lnTo>
                    <a:pt x="4977" y="3127"/>
                  </a:lnTo>
                  <a:lnTo>
                    <a:pt x="5092" y="3938"/>
                  </a:lnTo>
                  <a:lnTo>
                    <a:pt x="5324" y="4633"/>
                  </a:lnTo>
                  <a:lnTo>
                    <a:pt x="5787" y="5327"/>
                  </a:lnTo>
                  <a:lnTo>
                    <a:pt x="6365" y="5791"/>
                  </a:lnTo>
                  <a:lnTo>
                    <a:pt x="6365" y="5791"/>
                  </a:lnTo>
                  <a:lnTo>
                    <a:pt x="6365" y="5791"/>
                  </a:lnTo>
                  <a:lnTo>
                    <a:pt x="6365" y="5791"/>
                  </a:lnTo>
                  <a:lnTo>
                    <a:pt x="6365" y="5791"/>
                  </a:lnTo>
                  <a:close/>
                </a:path>
              </a:pathLst>
            </a:custGeom>
            <a:solidFill>
              <a:srgbClr val="ff3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1406880" y="4628520"/>
              <a:ext cx="835920" cy="857880"/>
            </a:xfrm>
            <a:custGeom>
              <a:avLst/>
              <a:gdLst/>
              <a:ahLst/>
              <a:rect l="l" t="t" r="r" b="b"/>
              <a:pathLst>
                <a:path w="23378" h="15982">
                  <a:moveTo>
                    <a:pt x="23378" y="6949"/>
                  </a:moveTo>
                  <a:lnTo>
                    <a:pt x="23031" y="7180"/>
                  </a:lnTo>
                  <a:lnTo>
                    <a:pt x="22568" y="7412"/>
                  </a:lnTo>
                  <a:lnTo>
                    <a:pt x="22221" y="7528"/>
                  </a:lnTo>
                  <a:lnTo>
                    <a:pt x="21758" y="7528"/>
                  </a:lnTo>
                  <a:lnTo>
                    <a:pt x="21295" y="7643"/>
                  </a:lnTo>
                  <a:lnTo>
                    <a:pt x="20832" y="7643"/>
                  </a:lnTo>
                  <a:lnTo>
                    <a:pt x="20369" y="7759"/>
                  </a:lnTo>
                  <a:lnTo>
                    <a:pt x="19906" y="7875"/>
                  </a:lnTo>
                  <a:lnTo>
                    <a:pt x="19906" y="7875"/>
                  </a:lnTo>
                  <a:lnTo>
                    <a:pt x="16203" y="9033"/>
                  </a:lnTo>
                  <a:lnTo>
                    <a:pt x="2778" y="15055"/>
                  </a:lnTo>
                  <a:lnTo>
                    <a:pt x="2778" y="15055"/>
                  </a:lnTo>
                  <a:lnTo>
                    <a:pt x="2546" y="15171"/>
                  </a:lnTo>
                  <a:lnTo>
                    <a:pt x="2199" y="15403"/>
                  </a:lnTo>
                  <a:lnTo>
                    <a:pt x="1852" y="15518"/>
                  </a:lnTo>
                  <a:lnTo>
                    <a:pt x="1505" y="15750"/>
                  </a:lnTo>
                  <a:lnTo>
                    <a:pt x="1157" y="15866"/>
                  </a:lnTo>
                  <a:lnTo>
                    <a:pt x="810" y="15982"/>
                  </a:lnTo>
                  <a:lnTo>
                    <a:pt x="463" y="15982"/>
                  </a:lnTo>
                  <a:lnTo>
                    <a:pt x="0" y="15982"/>
                  </a:lnTo>
                  <a:lnTo>
                    <a:pt x="0" y="15982"/>
                  </a:lnTo>
                  <a:lnTo>
                    <a:pt x="0" y="14592"/>
                  </a:lnTo>
                  <a:lnTo>
                    <a:pt x="116" y="13202"/>
                  </a:lnTo>
                  <a:lnTo>
                    <a:pt x="116" y="11813"/>
                  </a:lnTo>
                  <a:lnTo>
                    <a:pt x="232" y="10423"/>
                  </a:lnTo>
                  <a:lnTo>
                    <a:pt x="347" y="8917"/>
                  </a:lnTo>
                  <a:lnTo>
                    <a:pt x="347" y="7528"/>
                  </a:lnTo>
                  <a:lnTo>
                    <a:pt x="463" y="6138"/>
                  </a:lnTo>
                  <a:lnTo>
                    <a:pt x="579" y="4748"/>
                  </a:lnTo>
                  <a:lnTo>
                    <a:pt x="579" y="4748"/>
                  </a:lnTo>
                  <a:lnTo>
                    <a:pt x="1157" y="4748"/>
                  </a:lnTo>
                  <a:lnTo>
                    <a:pt x="1620" y="4980"/>
                  </a:lnTo>
                  <a:lnTo>
                    <a:pt x="2083" y="5211"/>
                  </a:lnTo>
                  <a:lnTo>
                    <a:pt x="2546" y="5559"/>
                  </a:lnTo>
                  <a:lnTo>
                    <a:pt x="3009" y="5790"/>
                  </a:lnTo>
                  <a:lnTo>
                    <a:pt x="3472" y="5790"/>
                  </a:lnTo>
                  <a:lnTo>
                    <a:pt x="3935" y="5675"/>
                  </a:lnTo>
                  <a:lnTo>
                    <a:pt x="4514" y="5327"/>
                  </a:lnTo>
                  <a:lnTo>
                    <a:pt x="4514" y="5327"/>
                  </a:lnTo>
                  <a:lnTo>
                    <a:pt x="4514" y="5211"/>
                  </a:lnTo>
                  <a:lnTo>
                    <a:pt x="4629" y="5096"/>
                  </a:lnTo>
                  <a:lnTo>
                    <a:pt x="4629" y="4980"/>
                  </a:lnTo>
                  <a:lnTo>
                    <a:pt x="4745" y="4980"/>
                  </a:lnTo>
                  <a:lnTo>
                    <a:pt x="4745" y="4864"/>
                  </a:lnTo>
                  <a:lnTo>
                    <a:pt x="4745" y="4748"/>
                  </a:lnTo>
                  <a:lnTo>
                    <a:pt x="4861" y="4632"/>
                  </a:lnTo>
                  <a:lnTo>
                    <a:pt x="4861" y="4517"/>
                  </a:lnTo>
                  <a:lnTo>
                    <a:pt x="4861" y="4517"/>
                  </a:lnTo>
                  <a:lnTo>
                    <a:pt x="4861" y="4401"/>
                  </a:lnTo>
                  <a:lnTo>
                    <a:pt x="4745" y="4285"/>
                  </a:lnTo>
                  <a:lnTo>
                    <a:pt x="4745" y="4169"/>
                  </a:lnTo>
                  <a:lnTo>
                    <a:pt x="4745" y="4053"/>
                  </a:lnTo>
                  <a:lnTo>
                    <a:pt x="4745" y="3937"/>
                  </a:lnTo>
                  <a:lnTo>
                    <a:pt x="4629" y="3822"/>
                  </a:lnTo>
                  <a:lnTo>
                    <a:pt x="4629" y="3706"/>
                  </a:lnTo>
                  <a:lnTo>
                    <a:pt x="4514" y="3706"/>
                  </a:lnTo>
                  <a:lnTo>
                    <a:pt x="4514" y="3706"/>
                  </a:lnTo>
                  <a:lnTo>
                    <a:pt x="6828" y="3127"/>
                  </a:lnTo>
                  <a:lnTo>
                    <a:pt x="9143" y="2664"/>
                  </a:lnTo>
                  <a:lnTo>
                    <a:pt x="11458" y="2316"/>
                  </a:lnTo>
                  <a:lnTo>
                    <a:pt x="13772" y="1853"/>
                  </a:lnTo>
                  <a:lnTo>
                    <a:pt x="15971" y="1390"/>
                  </a:lnTo>
                  <a:lnTo>
                    <a:pt x="18286" y="1042"/>
                  </a:lnTo>
                  <a:lnTo>
                    <a:pt x="20600" y="579"/>
                  </a:lnTo>
                  <a:lnTo>
                    <a:pt x="22799" y="0"/>
                  </a:lnTo>
                  <a:lnTo>
                    <a:pt x="22799" y="0"/>
                  </a:lnTo>
                  <a:lnTo>
                    <a:pt x="22799" y="926"/>
                  </a:lnTo>
                  <a:lnTo>
                    <a:pt x="22799" y="1737"/>
                  </a:lnTo>
                  <a:lnTo>
                    <a:pt x="22799" y="2664"/>
                  </a:lnTo>
                  <a:lnTo>
                    <a:pt x="22799" y="3590"/>
                  </a:lnTo>
                  <a:lnTo>
                    <a:pt x="22915" y="4401"/>
                  </a:lnTo>
                  <a:lnTo>
                    <a:pt x="23031" y="5327"/>
                  </a:lnTo>
                  <a:lnTo>
                    <a:pt x="23147" y="6138"/>
                  </a:lnTo>
                  <a:lnTo>
                    <a:pt x="23378" y="6949"/>
                  </a:lnTo>
                  <a:lnTo>
                    <a:pt x="23378" y="6949"/>
                  </a:lnTo>
                  <a:lnTo>
                    <a:pt x="23378" y="6949"/>
                  </a:lnTo>
                  <a:lnTo>
                    <a:pt x="23378" y="6949"/>
                  </a:lnTo>
                  <a:lnTo>
                    <a:pt x="23378" y="6949"/>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1233000" y="4665960"/>
              <a:ext cx="20520" cy="111600"/>
            </a:xfrm>
            <a:custGeom>
              <a:avLst/>
              <a:gdLst/>
              <a:ahLst/>
              <a:rect l="l" t="t" r="r" b="b"/>
              <a:pathLst>
                <a:path w="579" h="2084">
                  <a:moveTo>
                    <a:pt x="579" y="695"/>
                  </a:moveTo>
                  <a:lnTo>
                    <a:pt x="116" y="2084"/>
                  </a:lnTo>
                  <a:lnTo>
                    <a:pt x="116" y="2084"/>
                  </a:lnTo>
                  <a:lnTo>
                    <a:pt x="0" y="1853"/>
                  </a:lnTo>
                  <a:lnTo>
                    <a:pt x="0" y="1621"/>
                  </a:lnTo>
                  <a:lnTo>
                    <a:pt x="0" y="1274"/>
                  </a:lnTo>
                  <a:lnTo>
                    <a:pt x="0" y="1042"/>
                  </a:lnTo>
                  <a:lnTo>
                    <a:pt x="0" y="810"/>
                  </a:lnTo>
                  <a:lnTo>
                    <a:pt x="0" y="579"/>
                  </a:lnTo>
                  <a:lnTo>
                    <a:pt x="0" y="231"/>
                  </a:lnTo>
                  <a:lnTo>
                    <a:pt x="116" y="0"/>
                  </a:lnTo>
                  <a:lnTo>
                    <a:pt x="116" y="0"/>
                  </a:lnTo>
                  <a:lnTo>
                    <a:pt x="232" y="0"/>
                  </a:lnTo>
                  <a:lnTo>
                    <a:pt x="348" y="116"/>
                  </a:lnTo>
                  <a:lnTo>
                    <a:pt x="348" y="116"/>
                  </a:lnTo>
                  <a:lnTo>
                    <a:pt x="463" y="231"/>
                  </a:lnTo>
                  <a:lnTo>
                    <a:pt x="463" y="347"/>
                  </a:lnTo>
                  <a:lnTo>
                    <a:pt x="463" y="463"/>
                  </a:lnTo>
                  <a:lnTo>
                    <a:pt x="463" y="579"/>
                  </a:lnTo>
                  <a:lnTo>
                    <a:pt x="579" y="695"/>
                  </a:lnTo>
                  <a:lnTo>
                    <a:pt x="579" y="695"/>
                  </a:lnTo>
                  <a:lnTo>
                    <a:pt x="579" y="695"/>
                  </a:lnTo>
                  <a:lnTo>
                    <a:pt x="579" y="695"/>
                  </a:lnTo>
                  <a:lnTo>
                    <a:pt x="579"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968040" y="4883400"/>
              <a:ext cx="144720" cy="105480"/>
            </a:xfrm>
            <a:custGeom>
              <a:avLst/>
              <a:gdLst/>
              <a:ahLst/>
              <a:rect l="l" t="t" r="r" b="b"/>
              <a:pathLst>
                <a:path w="4050" h="1969">
                  <a:moveTo>
                    <a:pt x="1157" y="1274"/>
                  </a:moveTo>
                  <a:lnTo>
                    <a:pt x="1157" y="1158"/>
                  </a:lnTo>
                  <a:lnTo>
                    <a:pt x="1157" y="1042"/>
                  </a:lnTo>
                  <a:lnTo>
                    <a:pt x="1041" y="1042"/>
                  </a:lnTo>
                  <a:lnTo>
                    <a:pt x="1041" y="927"/>
                  </a:lnTo>
                  <a:lnTo>
                    <a:pt x="1041" y="811"/>
                  </a:lnTo>
                  <a:lnTo>
                    <a:pt x="925" y="695"/>
                  </a:lnTo>
                  <a:lnTo>
                    <a:pt x="925" y="579"/>
                  </a:lnTo>
                  <a:lnTo>
                    <a:pt x="925" y="463"/>
                  </a:lnTo>
                  <a:lnTo>
                    <a:pt x="925" y="463"/>
                  </a:lnTo>
                  <a:lnTo>
                    <a:pt x="1157" y="463"/>
                  </a:lnTo>
                  <a:lnTo>
                    <a:pt x="1273" y="579"/>
                  </a:lnTo>
                  <a:lnTo>
                    <a:pt x="1388" y="695"/>
                  </a:lnTo>
                  <a:lnTo>
                    <a:pt x="1504" y="927"/>
                  </a:lnTo>
                  <a:lnTo>
                    <a:pt x="1620" y="1042"/>
                  </a:lnTo>
                  <a:lnTo>
                    <a:pt x="1620" y="1158"/>
                  </a:lnTo>
                  <a:lnTo>
                    <a:pt x="1851" y="1274"/>
                  </a:lnTo>
                  <a:lnTo>
                    <a:pt x="1967" y="1390"/>
                  </a:lnTo>
                  <a:lnTo>
                    <a:pt x="1967" y="1390"/>
                  </a:lnTo>
                  <a:lnTo>
                    <a:pt x="1851" y="1274"/>
                  </a:lnTo>
                  <a:lnTo>
                    <a:pt x="1851" y="1158"/>
                  </a:lnTo>
                  <a:lnTo>
                    <a:pt x="1851" y="1042"/>
                  </a:lnTo>
                  <a:lnTo>
                    <a:pt x="1736" y="927"/>
                  </a:lnTo>
                  <a:lnTo>
                    <a:pt x="1736" y="811"/>
                  </a:lnTo>
                  <a:lnTo>
                    <a:pt x="1736" y="695"/>
                  </a:lnTo>
                  <a:lnTo>
                    <a:pt x="1620" y="579"/>
                  </a:lnTo>
                  <a:lnTo>
                    <a:pt x="1620" y="463"/>
                  </a:lnTo>
                  <a:lnTo>
                    <a:pt x="1620" y="463"/>
                  </a:lnTo>
                  <a:lnTo>
                    <a:pt x="1851" y="463"/>
                  </a:lnTo>
                  <a:lnTo>
                    <a:pt x="1967" y="579"/>
                  </a:lnTo>
                  <a:lnTo>
                    <a:pt x="2083" y="811"/>
                  </a:lnTo>
                  <a:lnTo>
                    <a:pt x="2083" y="927"/>
                  </a:lnTo>
                  <a:lnTo>
                    <a:pt x="2198" y="1158"/>
                  </a:lnTo>
                  <a:lnTo>
                    <a:pt x="2314" y="1274"/>
                  </a:lnTo>
                  <a:lnTo>
                    <a:pt x="2546" y="1274"/>
                  </a:lnTo>
                  <a:lnTo>
                    <a:pt x="2777" y="1274"/>
                  </a:lnTo>
                  <a:lnTo>
                    <a:pt x="2777" y="1274"/>
                  </a:lnTo>
                  <a:lnTo>
                    <a:pt x="2661" y="1158"/>
                  </a:lnTo>
                  <a:lnTo>
                    <a:pt x="2661" y="1042"/>
                  </a:lnTo>
                  <a:lnTo>
                    <a:pt x="2661" y="1042"/>
                  </a:lnTo>
                  <a:lnTo>
                    <a:pt x="2546" y="927"/>
                  </a:lnTo>
                  <a:lnTo>
                    <a:pt x="2546" y="811"/>
                  </a:lnTo>
                  <a:lnTo>
                    <a:pt x="2430" y="695"/>
                  </a:lnTo>
                  <a:lnTo>
                    <a:pt x="2430" y="695"/>
                  </a:lnTo>
                  <a:lnTo>
                    <a:pt x="2430" y="579"/>
                  </a:lnTo>
                  <a:lnTo>
                    <a:pt x="2430" y="579"/>
                  </a:lnTo>
                  <a:lnTo>
                    <a:pt x="2546" y="579"/>
                  </a:lnTo>
                  <a:lnTo>
                    <a:pt x="2777" y="695"/>
                  </a:lnTo>
                  <a:lnTo>
                    <a:pt x="2777" y="811"/>
                  </a:lnTo>
                  <a:lnTo>
                    <a:pt x="2893" y="927"/>
                  </a:lnTo>
                  <a:lnTo>
                    <a:pt x="3009" y="1042"/>
                  </a:lnTo>
                  <a:lnTo>
                    <a:pt x="3124" y="1158"/>
                  </a:lnTo>
                  <a:lnTo>
                    <a:pt x="3356" y="1158"/>
                  </a:lnTo>
                  <a:lnTo>
                    <a:pt x="3471" y="1042"/>
                  </a:lnTo>
                  <a:lnTo>
                    <a:pt x="3471" y="1042"/>
                  </a:lnTo>
                  <a:lnTo>
                    <a:pt x="3471" y="1042"/>
                  </a:lnTo>
                  <a:lnTo>
                    <a:pt x="3356" y="927"/>
                  </a:lnTo>
                  <a:lnTo>
                    <a:pt x="3240" y="811"/>
                  </a:lnTo>
                  <a:lnTo>
                    <a:pt x="3124" y="695"/>
                  </a:lnTo>
                  <a:lnTo>
                    <a:pt x="3009" y="579"/>
                  </a:lnTo>
                  <a:lnTo>
                    <a:pt x="3009" y="463"/>
                  </a:lnTo>
                  <a:lnTo>
                    <a:pt x="3009" y="348"/>
                  </a:lnTo>
                  <a:lnTo>
                    <a:pt x="3009" y="232"/>
                  </a:lnTo>
                  <a:lnTo>
                    <a:pt x="3009" y="232"/>
                  </a:lnTo>
                  <a:lnTo>
                    <a:pt x="3124" y="348"/>
                  </a:lnTo>
                  <a:lnTo>
                    <a:pt x="3240" y="348"/>
                  </a:lnTo>
                  <a:lnTo>
                    <a:pt x="3356" y="463"/>
                  </a:lnTo>
                  <a:lnTo>
                    <a:pt x="3471" y="579"/>
                  </a:lnTo>
                  <a:lnTo>
                    <a:pt x="3587" y="695"/>
                  </a:lnTo>
                  <a:lnTo>
                    <a:pt x="3819" y="811"/>
                  </a:lnTo>
                  <a:lnTo>
                    <a:pt x="3934" y="811"/>
                  </a:lnTo>
                  <a:lnTo>
                    <a:pt x="4050" y="927"/>
                  </a:lnTo>
                  <a:lnTo>
                    <a:pt x="4050" y="927"/>
                  </a:lnTo>
                  <a:lnTo>
                    <a:pt x="3934" y="1042"/>
                  </a:lnTo>
                  <a:lnTo>
                    <a:pt x="3819" y="1042"/>
                  </a:lnTo>
                  <a:lnTo>
                    <a:pt x="3703" y="1158"/>
                  </a:lnTo>
                  <a:lnTo>
                    <a:pt x="3587" y="1158"/>
                  </a:lnTo>
                  <a:lnTo>
                    <a:pt x="3471" y="1158"/>
                  </a:lnTo>
                  <a:lnTo>
                    <a:pt x="3356" y="1158"/>
                  </a:lnTo>
                  <a:lnTo>
                    <a:pt x="3356" y="1274"/>
                  </a:lnTo>
                  <a:lnTo>
                    <a:pt x="3471" y="1390"/>
                  </a:lnTo>
                  <a:lnTo>
                    <a:pt x="3471" y="1390"/>
                  </a:lnTo>
                  <a:lnTo>
                    <a:pt x="3009" y="1506"/>
                  </a:lnTo>
                  <a:lnTo>
                    <a:pt x="3009" y="1506"/>
                  </a:lnTo>
                  <a:lnTo>
                    <a:pt x="2893" y="1621"/>
                  </a:lnTo>
                  <a:lnTo>
                    <a:pt x="2777" y="1737"/>
                  </a:lnTo>
                  <a:lnTo>
                    <a:pt x="2661" y="1737"/>
                  </a:lnTo>
                  <a:lnTo>
                    <a:pt x="2546" y="1853"/>
                  </a:lnTo>
                  <a:lnTo>
                    <a:pt x="2314" y="1853"/>
                  </a:lnTo>
                  <a:lnTo>
                    <a:pt x="2198" y="1853"/>
                  </a:lnTo>
                  <a:lnTo>
                    <a:pt x="1967" y="1969"/>
                  </a:lnTo>
                  <a:lnTo>
                    <a:pt x="1851" y="1969"/>
                  </a:lnTo>
                  <a:lnTo>
                    <a:pt x="1851" y="1969"/>
                  </a:lnTo>
                  <a:lnTo>
                    <a:pt x="1736" y="1969"/>
                  </a:lnTo>
                  <a:lnTo>
                    <a:pt x="1504" y="1969"/>
                  </a:lnTo>
                  <a:lnTo>
                    <a:pt x="1273" y="1853"/>
                  </a:lnTo>
                  <a:lnTo>
                    <a:pt x="1157" y="1737"/>
                  </a:lnTo>
                  <a:lnTo>
                    <a:pt x="925" y="1621"/>
                  </a:lnTo>
                  <a:lnTo>
                    <a:pt x="810" y="1506"/>
                  </a:lnTo>
                  <a:lnTo>
                    <a:pt x="694" y="1390"/>
                  </a:lnTo>
                  <a:lnTo>
                    <a:pt x="462" y="1274"/>
                  </a:lnTo>
                  <a:lnTo>
                    <a:pt x="462" y="1274"/>
                  </a:lnTo>
                  <a:lnTo>
                    <a:pt x="347" y="1158"/>
                  </a:lnTo>
                  <a:lnTo>
                    <a:pt x="231" y="927"/>
                  </a:lnTo>
                  <a:lnTo>
                    <a:pt x="231" y="811"/>
                  </a:lnTo>
                  <a:lnTo>
                    <a:pt x="115" y="579"/>
                  </a:lnTo>
                  <a:lnTo>
                    <a:pt x="0" y="463"/>
                  </a:lnTo>
                  <a:lnTo>
                    <a:pt x="0" y="232"/>
                  </a:lnTo>
                  <a:lnTo>
                    <a:pt x="0" y="116"/>
                  </a:lnTo>
                  <a:lnTo>
                    <a:pt x="0" y="0"/>
                  </a:lnTo>
                  <a:lnTo>
                    <a:pt x="0" y="0"/>
                  </a:lnTo>
                  <a:lnTo>
                    <a:pt x="115" y="116"/>
                  </a:lnTo>
                  <a:lnTo>
                    <a:pt x="231" y="348"/>
                  </a:lnTo>
                  <a:lnTo>
                    <a:pt x="347" y="463"/>
                  </a:lnTo>
                  <a:lnTo>
                    <a:pt x="462" y="695"/>
                  </a:lnTo>
                  <a:lnTo>
                    <a:pt x="578" y="811"/>
                  </a:lnTo>
                  <a:lnTo>
                    <a:pt x="810" y="1042"/>
                  </a:lnTo>
                  <a:lnTo>
                    <a:pt x="925" y="1158"/>
                  </a:lnTo>
                  <a:lnTo>
                    <a:pt x="1157" y="1274"/>
                  </a:lnTo>
                  <a:lnTo>
                    <a:pt x="1157" y="1274"/>
                  </a:lnTo>
                  <a:lnTo>
                    <a:pt x="1157" y="1274"/>
                  </a:lnTo>
                  <a:lnTo>
                    <a:pt x="1157" y="1274"/>
                  </a:lnTo>
                  <a:lnTo>
                    <a:pt x="1157"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1100520" y="4883400"/>
              <a:ext cx="37080" cy="43200"/>
            </a:xfrm>
            <a:custGeom>
              <a:avLst/>
              <a:gdLst/>
              <a:ahLst/>
              <a:rect l="l" t="t" r="r" b="b"/>
              <a:pathLst>
                <a:path w="1042" h="811">
                  <a:moveTo>
                    <a:pt x="1042" y="811"/>
                  </a:moveTo>
                  <a:lnTo>
                    <a:pt x="926" y="811"/>
                  </a:lnTo>
                  <a:lnTo>
                    <a:pt x="810" y="811"/>
                  </a:lnTo>
                  <a:lnTo>
                    <a:pt x="694" y="811"/>
                  </a:lnTo>
                  <a:lnTo>
                    <a:pt x="579" y="811"/>
                  </a:lnTo>
                  <a:lnTo>
                    <a:pt x="463" y="695"/>
                  </a:lnTo>
                  <a:lnTo>
                    <a:pt x="347" y="695"/>
                  </a:lnTo>
                  <a:lnTo>
                    <a:pt x="231" y="579"/>
                  </a:lnTo>
                  <a:lnTo>
                    <a:pt x="116" y="579"/>
                  </a:lnTo>
                  <a:lnTo>
                    <a:pt x="116" y="579"/>
                  </a:lnTo>
                  <a:lnTo>
                    <a:pt x="0" y="0"/>
                  </a:lnTo>
                  <a:lnTo>
                    <a:pt x="0" y="0"/>
                  </a:lnTo>
                  <a:lnTo>
                    <a:pt x="116" y="116"/>
                  </a:lnTo>
                  <a:lnTo>
                    <a:pt x="231" y="232"/>
                  </a:lnTo>
                  <a:lnTo>
                    <a:pt x="463" y="348"/>
                  </a:lnTo>
                  <a:lnTo>
                    <a:pt x="694" y="348"/>
                  </a:lnTo>
                  <a:lnTo>
                    <a:pt x="810" y="348"/>
                  </a:lnTo>
                  <a:lnTo>
                    <a:pt x="926" y="463"/>
                  </a:lnTo>
                  <a:lnTo>
                    <a:pt x="1042" y="579"/>
                  </a:lnTo>
                  <a:lnTo>
                    <a:pt x="1042" y="811"/>
                  </a:lnTo>
                  <a:lnTo>
                    <a:pt x="1042" y="811"/>
                  </a:lnTo>
                  <a:lnTo>
                    <a:pt x="1042" y="811"/>
                  </a:lnTo>
                  <a:lnTo>
                    <a:pt x="1042" y="811"/>
                  </a:lnTo>
                  <a:lnTo>
                    <a:pt x="1042" y="8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395" name=""/>
            <p:cNvSpPr/>
            <p:nvPr/>
          </p:nvSpPr>
          <p:spPr>
            <a:xfrm>
              <a:off x="1365480" y="4889880"/>
              <a:ext cx="45360" cy="553320"/>
            </a:xfrm>
            <a:custGeom>
              <a:avLst/>
              <a:gdLst/>
              <a:ahLst/>
              <a:rect l="l" t="t" r="r" b="b"/>
              <a:pathLst>
                <a:path w="1273" h="10307">
                  <a:moveTo>
                    <a:pt x="1273" y="116"/>
                  </a:moveTo>
                  <a:lnTo>
                    <a:pt x="1273" y="1274"/>
                  </a:lnTo>
                  <a:lnTo>
                    <a:pt x="1157" y="2548"/>
                  </a:lnTo>
                  <a:lnTo>
                    <a:pt x="1157" y="3706"/>
                  </a:lnTo>
                  <a:lnTo>
                    <a:pt x="1041" y="4980"/>
                  </a:lnTo>
                  <a:lnTo>
                    <a:pt x="926" y="6254"/>
                  </a:lnTo>
                  <a:lnTo>
                    <a:pt x="810" y="7528"/>
                  </a:lnTo>
                  <a:lnTo>
                    <a:pt x="694" y="8917"/>
                  </a:lnTo>
                  <a:lnTo>
                    <a:pt x="694" y="10191"/>
                  </a:lnTo>
                  <a:lnTo>
                    <a:pt x="694" y="10191"/>
                  </a:lnTo>
                  <a:lnTo>
                    <a:pt x="578" y="10191"/>
                  </a:lnTo>
                  <a:lnTo>
                    <a:pt x="463" y="10191"/>
                  </a:lnTo>
                  <a:lnTo>
                    <a:pt x="347" y="10191"/>
                  </a:lnTo>
                  <a:lnTo>
                    <a:pt x="347" y="10307"/>
                  </a:lnTo>
                  <a:lnTo>
                    <a:pt x="231" y="10307"/>
                  </a:lnTo>
                  <a:lnTo>
                    <a:pt x="116" y="10307"/>
                  </a:lnTo>
                  <a:lnTo>
                    <a:pt x="116" y="10307"/>
                  </a:lnTo>
                  <a:lnTo>
                    <a:pt x="0" y="10307"/>
                  </a:lnTo>
                  <a:lnTo>
                    <a:pt x="0" y="10307"/>
                  </a:lnTo>
                  <a:lnTo>
                    <a:pt x="0" y="9033"/>
                  </a:lnTo>
                  <a:lnTo>
                    <a:pt x="116" y="7759"/>
                  </a:lnTo>
                  <a:lnTo>
                    <a:pt x="231" y="6485"/>
                  </a:lnTo>
                  <a:lnTo>
                    <a:pt x="347" y="5211"/>
                  </a:lnTo>
                  <a:lnTo>
                    <a:pt x="463" y="4053"/>
                  </a:lnTo>
                  <a:lnTo>
                    <a:pt x="578" y="2779"/>
                  </a:lnTo>
                  <a:lnTo>
                    <a:pt x="694" y="1505"/>
                  </a:lnTo>
                  <a:lnTo>
                    <a:pt x="926" y="232"/>
                  </a:lnTo>
                  <a:lnTo>
                    <a:pt x="926" y="232"/>
                  </a:lnTo>
                  <a:lnTo>
                    <a:pt x="926" y="232"/>
                  </a:lnTo>
                  <a:lnTo>
                    <a:pt x="926" y="232"/>
                  </a:lnTo>
                  <a:lnTo>
                    <a:pt x="810" y="232"/>
                  </a:lnTo>
                  <a:lnTo>
                    <a:pt x="810" y="232"/>
                  </a:lnTo>
                  <a:lnTo>
                    <a:pt x="810" y="232"/>
                  </a:lnTo>
                  <a:lnTo>
                    <a:pt x="694" y="232"/>
                  </a:lnTo>
                  <a:lnTo>
                    <a:pt x="694" y="232"/>
                  </a:lnTo>
                  <a:lnTo>
                    <a:pt x="694" y="116"/>
                  </a:lnTo>
                  <a:lnTo>
                    <a:pt x="694" y="116"/>
                  </a:lnTo>
                  <a:lnTo>
                    <a:pt x="694" y="116"/>
                  </a:lnTo>
                  <a:lnTo>
                    <a:pt x="810" y="116"/>
                  </a:lnTo>
                  <a:lnTo>
                    <a:pt x="810" y="0"/>
                  </a:lnTo>
                  <a:lnTo>
                    <a:pt x="926" y="0"/>
                  </a:lnTo>
                  <a:lnTo>
                    <a:pt x="1041" y="116"/>
                  </a:lnTo>
                  <a:lnTo>
                    <a:pt x="1157" y="116"/>
                  </a:lnTo>
                  <a:lnTo>
                    <a:pt x="1273" y="116"/>
                  </a:lnTo>
                  <a:lnTo>
                    <a:pt x="1273" y="116"/>
                  </a:lnTo>
                  <a:lnTo>
                    <a:pt x="1273" y="116"/>
                  </a:lnTo>
                  <a:lnTo>
                    <a:pt x="1273" y="116"/>
                  </a:lnTo>
                  <a:lnTo>
                    <a:pt x="1273" y="116"/>
                  </a:lnTo>
                  <a:lnTo>
                    <a:pt x="1273"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1340640" y="4908240"/>
              <a:ext cx="45360" cy="528480"/>
            </a:xfrm>
            <a:custGeom>
              <a:avLst/>
              <a:gdLst/>
              <a:ahLst/>
              <a:rect l="l" t="t" r="r" b="b"/>
              <a:pathLst>
                <a:path w="1273" h="9844">
                  <a:moveTo>
                    <a:pt x="1273" y="0"/>
                  </a:moveTo>
                  <a:lnTo>
                    <a:pt x="1042" y="1158"/>
                  </a:lnTo>
                  <a:lnTo>
                    <a:pt x="926" y="2432"/>
                  </a:lnTo>
                  <a:lnTo>
                    <a:pt x="811" y="3590"/>
                  </a:lnTo>
                  <a:lnTo>
                    <a:pt x="695" y="4864"/>
                  </a:lnTo>
                  <a:lnTo>
                    <a:pt x="579" y="6138"/>
                  </a:lnTo>
                  <a:lnTo>
                    <a:pt x="463" y="7412"/>
                  </a:lnTo>
                  <a:lnTo>
                    <a:pt x="463" y="8570"/>
                  </a:lnTo>
                  <a:lnTo>
                    <a:pt x="348" y="9844"/>
                  </a:lnTo>
                  <a:lnTo>
                    <a:pt x="348" y="9844"/>
                  </a:lnTo>
                  <a:lnTo>
                    <a:pt x="463" y="9844"/>
                  </a:lnTo>
                  <a:lnTo>
                    <a:pt x="463" y="9844"/>
                  </a:lnTo>
                  <a:lnTo>
                    <a:pt x="348" y="9844"/>
                  </a:lnTo>
                  <a:lnTo>
                    <a:pt x="348" y="9728"/>
                  </a:lnTo>
                  <a:lnTo>
                    <a:pt x="232" y="9728"/>
                  </a:lnTo>
                  <a:lnTo>
                    <a:pt x="116" y="9728"/>
                  </a:lnTo>
                  <a:lnTo>
                    <a:pt x="0" y="9844"/>
                  </a:lnTo>
                  <a:lnTo>
                    <a:pt x="0" y="9844"/>
                  </a:lnTo>
                  <a:lnTo>
                    <a:pt x="0" y="9844"/>
                  </a:lnTo>
                  <a:lnTo>
                    <a:pt x="0" y="8570"/>
                  </a:lnTo>
                  <a:lnTo>
                    <a:pt x="116" y="7412"/>
                  </a:lnTo>
                  <a:lnTo>
                    <a:pt x="116" y="6254"/>
                  </a:lnTo>
                  <a:lnTo>
                    <a:pt x="232" y="4980"/>
                  </a:lnTo>
                  <a:lnTo>
                    <a:pt x="348" y="3822"/>
                  </a:lnTo>
                  <a:lnTo>
                    <a:pt x="463" y="2548"/>
                  </a:lnTo>
                  <a:lnTo>
                    <a:pt x="579" y="1390"/>
                  </a:lnTo>
                  <a:lnTo>
                    <a:pt x="811" y="232"/>
                  </a:lnTo>
                  <a:lnTo>
                    <a:pt x="811" y="232"/>
                  </a:lnTo>
                  <a:lnTo>
                    <a:pt x="926" y="232"/>
                  </a:lnTo>
                  <a:lnTo>
                    <a:pt x="926" y="116"/>
                  </a:lnTo>
                  <a:lnTo>
                    <a:pt x="1042" y="116"/>
                  </a:lnTo>
                  <a:lnTo>
                    <a:pt x="1042" y="116"/>
                  </a:lnTo>
                  <a:lnTo>
                    <a:pt x="1042" y="0"/>
                  </a:lnTo>
                  <a:lnTo>
                    <a:pt x="1158" y="0"/>
                  </a:lnTo>
                  <a:lnTo>
                    <a:pt x="1158" y="0"/>
                  </a:lnTo>
                  <a:lnTo>
                    <a:pt x="1273" y="0"/>
                  </a:lnTo>
                  <a:lnTo>
                    <a:pt x="1273" y="0"/>
                  </a:lnTo>
                  <a:lnTo>
                    <a:pt x="1273" y="0"/>
                  </a:lnTo>
                  <a:lnTo>
                    <a:pt x="1273" y="0"/>
                  </a:lnTo>
                  <a:lnTo>
                    <a:pt x="1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1307520" y="4926960"/>
              <a:ext cx="45360" cy="472320"/>
            </a:xfrm>
            <a:custGeom>
              <a:avLst/>
              <a:gdLst/>
              <a:ahLst/>
              <a:rect l="l" t="t" r="r" b="b"/>
              <a:pathLst>
                <a:path w="1273" h="8801">
                  <a:moveTo>
                    <a:pt x="578" y="8801"/>
                  </a:moveTo>
                  <a:lnTo>
                    <a:pt x="462" y="8801"/>
                  </a:lnTo>
                  <a:lnTo>
                    <a:pt x="462" y="8801"/>
                  </a:lnTo>
                  <a:lnTo>
                    <a:pt x="347" y="8801"/>
                  </a:lnTo>
                  <a:lnTo>
                    <a:pt x="231" y="8801"/>
                  </a:lnTo>
                  <a:lnTo>
                    <a:pt x="231" y="8801"/>
                  </a:lnTo>
                  <a:lnTo>
                    <a:pt x="115" y="8801"/>
                  </a:lnTo>
                  <a:lnTo>
                    <a:pt x="0" y="8801"/>
                  </a:lnTo>
                  <a:lnTo>
                    <a:pt x="0" y="8801"/>
                  </a:lnTo>
                  <a:lnTo>
                    <a:pt x="0" y="8801"/>
                  </a:lnTo>
                  <a:lnTo>
                    <a:pt x="115" y="7643"/>
                  </a:lnTo>
                  <a:lnTo>
                    <a:pt x="231" y="6485"/>
                  </a:lnTo>
                  <a:lnTo>
                    <a:pt x="347" y="5443"/>
                  </a:lnTo>
                  <a:lnTo>
                    <a:pt x="462" y="4285"/>
                  </a:lnTo>
                  <a:lnTo>
                    <a:pt x="694" y="3127"/>
                  </a:lnTo>
                  <a:lnTo>
                    <a:pt x="925" y="2084"/>
                  </a:lnTo>
                  <a:lnTo>
                    <a:pt x="1041" y="1042"/>
                  </a:lnTo>
                  <a:lnTo>
                    <a:pt x="1273" y="0"/>
                  </a:lnTo>
                  <a:lnTo>
                    <a:pt x="1273" y="0"/>
                  </a:lnTo>
                  <a:lnTo>
                    <a:pt x="1157" y="1042"/>
                  </a:lnTo>
                  <a:lnTo>
                    <a:pt x="1041" y="2200"/>
                  </a:lnTo>
                  <a:lnTo>
                    <a:pt x="925" y="3242"/>
                  </a:lnTo>
                  <a:lnTo>
                    <a:pt x="810" y="4401"/>
                  </a:lnTo>
                  <a:lnTo>
                    <a:pt x="810" y="5443"/>
                  </a:lnTo>
                  <a:lnTo>
                    <a:pt x="694" y="6485"/>
                  </a:lnTo>
                  <a:lnTo>
                    <a:pt x="694" y="7643"/>
                  </a:lnTo>
                  <a:lnTo>
                    <a:pt x="578" y="8801"/>
                  </a:lnTo>
                  <a:lnTo>
                    <a:pt x="578" y="8801"/>
                  </a:lnTo>
                  <a:lnTo>
                    <a:pt x="578" y="8801"/>
                  </a:lnTo>
                  <a:lnTo>
                    <a:pt x="578" y="8801"/>
                  </a:lnTo>
                  <a:lnTo>
                    <a:pt x="578" y="88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2023200" y="5088600"/>
              <a:ext cx="264600" cy="945000"/>
            </a:xfrm>
            <a:custGeom>
              <a:avLst/>
              <a:gdLst/>
              <a:ahLst/>
              <a:rect l="l" t="t" r="r" b="b"/>
              <a:pathLst>
                <a:path w="7407" h="17603">
                  <a:moveTo>
                    <a:pt x="3356" y="0"/>
                  </a:moveTo>
                  <a:lnTo>
                    <a:pt x="3588" y="463"/>
                  </a:lnTo>
                  <a:lnTo>
                    <a:pt x="3935" y="1042"/>
                  </a:lnTo>
                  <a:lnTo>
                    <a:pt x="4282" y="1505"/>
                  </a:lnTo>
                  <a:lnTo>
                    <a:pt x="4630" y="1969"/>
                  </a:lnTo>
                  <a:lnTo>
                    <a:pt x="4861" y="2432"/>
                  </a:lnTo>
                  <a:lnTo>
                    <a:pt x="5208" y="2895"/>
                  </a:lnTo>
                  <a:lnTo>
                    <a:pt x="5440" y="3358"/>
                  </a:lnTo>
                  <a:lnTo>
                    <a:pt x="5555" y="3937"/>
                  </a:lnTo>
                  <a:lnTo>
                    <a:pt x="5555" y="3937"/>
                  </a:lnTo>
                  <a:lnTo>
                    <a:pt x="5555" y="4632"/>
                  </a:lnTo>
                  <a:lnTo>
                    <a:pt x="5324" y="5443"/>
                  </a:lnTo>
                  <a:lnTo>
                    <a:pt x="5208" y="6254"/>
                  </a:lnTo>
                  <a:lnTo>
                    <a:pt x="4977" y="7064"/>
                  </a:lnTo>
                  <a:lnTo>
                    <a:pt x="4861" y="7875"/>
                  </a:lnTo>
                  <a:lnTo>
                    <a:pt x="4745" y="8686"/>
                  </a:lnTo>
                  <a:lnTo>
                    <a:pt x="4630" y="9496"/>
                  </a:lnTo>
                  <a:lnTo>
                    <a:pt x="4514" y="10307"/>
                  </a:lnTo>
                  <a:lnTo>
                    <a:pt x="4514" y="10307"/>
                  </a:lnTo>
                  <a:lnTo>
                    <a:pt x="4630" y="10654"/>
                  </a:lnTo>
                  <a:lnTo>
                    <a:pt x="4861" y="10886"/>
                  </a:lnTo>
                  <a:lnTo>
                    <a:pt x="5092" y="11118"/>
                  </a:lnTo>
                  <a:lnTo>
                    <a:pt x="5208" y="11349"/>
                  </a:lnTo>
                  <a:lnTo>
                    <a:pt x="5440" y="11697"/>
                  </a:lnTo>
                  <a:lnTo>
                    <a:pt x="5555" y="11928"/>
                  </a:lnTo>
                  <a:lnTo>
                    <a:pt x="5787" y="12160"/>
                  </a:lnTo>
                  <a:lnTo>
                    <a:pt x="5903" y="12507"/>
                  </a:lnTo>
                  <a:lnTo>
                    <a:pt x="5903" y="12507"/>
                  </a:lnTo>
                  <a:lnTo>
                    <a:pt x="5440" y="12507"/>
                  </a:lnTo>
                  <a:lnTo>
                    <a:pt x="5208" y="12623"/>
                  </a:lnTo>
                  <a:lnTo>
                    <a:pt x="4861" y="12739"/>
                  </a:lnTo>
                  <a:lnTo>
                    <a:pt x="4514" y="12739"/>
                  </a:lnTo>
                  <a:lnTo>
                    <a:pt x="4167" y="12855"/>
                  </a:lnTo>
                  <a:lnTo>
                    <a:pt x="3935" y="13086"/>
                  </a:lnTo>
                  <a:lnTo>
                    <a:pt x="3588" y="13202"/>
                  </a:lnTo>
                  <a:lnTo>
                    <a:pt x="3356" y="13434"/>
                  </a:lnTo>
                  <a:lnTo>
                    <a:pt x="3356" y="13434"/>
                  </a:lnTo>
                  <a:lnTo>
                    <a:pt x="3704" y="13318"/>
                  </a:lnTo>
                  <a:lnTo>
                    <a:pt x="4051" y="13318"/>
                  </a:lnTo>
                  <a:lnTo>
                    <a:pt x="4398" y="13202"/>
                  </a:lnTo>
                  <a:lnTo>
                    <a:pt x="4745" y="13086"/>
                  </a:lnTo>
                  <a:lnTo>
                    <a:pt x="5092" y="13086"/>
                  </a:lnTo>
                  <a:lnTo>
                    <a:pt x="5440" y="12971"/>
                  </a:lnTo>
                  <a:lnTo>
                    <a:pt x="5787" y="12971"/>
                  </a:lnTo>
                  <a:lnTo>
                    <a:pt x="6134" y="12971"/>
                  </a:lnTo>
                  <a:lnTo>
                    <a:pt x="6134" y="12971"/>
                  </a:lnTo>
                  <a:lnTo>
                    <a:pt x="6134" y="13086"/>
                  </a:lnTo>
                  <a:lnTo>
                    <a:pt x="6134" y="13086"/>
                  </a:lnTo>
                  <a:lnTo>
                    <a:pt x="6134" y="13086"/>
                  </a:lnTo>
                  <a:lnTo>
                    <a:pt x="6250" y="13086"/>
                  </a:lnTo>
                  <a:lnTo>
                    <a:pt x="6250" y="13202"/>
                  </a:lnTo>
                  <a:lnTo>
                    <a:pt x="6250" y="13202"/>
                  </a:lnTo>
                  <a:lnTo>
                    <a:pt x="6250" y="13202"/>
                  </a:lnTo>
                  <a:lnTo>
                    <a:pt x="6250" y="13318"/>
                  </a:lnTo>
                  <a:lnTo>
                    <a:pt x="6250" y="13318"/>
                  </a:lnTo>
                  <a:lnTo>
                    <a:pt x="5903" y="13318"/>
                  </a:lnTo>
                  <a:lnTo>
                    <a:pt x="5555" y="13318"/>
                  </a:lnTo>
                  <a:lnTo>
                    <a:pt x="5324" y="13434"/>
                  </a:lnTo>
                  <a:lnTo>
                    <a:pt x="5092" y="13550"/>
                  </a:lnTo>
                  <a:lnTo>
                    <a:pt x="4745" y="13781"/>
                  </a:lnTo>
                  <a:lnTo>
                    <a:pt x="4514" y="13897"/>
                  </a:lnTo>
                  <a:lnTo>
                    <a:pt x="4282" y="14129"/>
                  </a:lnTo>
                  <a:lnTo>
                    <a:pt x="4051" y="14244"/>
                  </a:lnTo>
                  <a:lnTo>
                    <a:pt x="4051" y="14244"/>
                  </a:lnTo>
                  <a:lnTo>
                    <a:pt x="4167" y="14244"/>
                  </a:lnTo>
                  <a:lnTo>
                    <a:pt x="4282" y="14244"/>
                  </a:lnTo>
                  <a:lnTo>
                    <a:pt x="4514" y="14244"/>
                  </a:lnTo>
                  <a:lnTo>
                    <a:pt x="4630" y="14129"/>
                  </a:lnTo>
                  <a:lnTo>
                    <a:pt x="4745" y="14013"/>
                  </a:lnTo>
                  <a:lnTo>
                    <a:pt x="4861" y="14013"/>
                  </a:lnTo>
                  <a:lnTo>
                    <a:pt x="5092" y="14013"/>
                  </a:lnTo>
                  <a:lnTo>
                    <a:pt x="5208" y="13897"/>
                  </a:lnTo>
                  <a:lnTo>
                    <a:pt x="5208" y="13897"/>
                  </a:lnTo>
                  <a:lnTo>
                    <a:pt x="5440" y="13897"/>
                  </a:lnTo>
                  <a:lnTo>
                    <a:pt x="5555" y="13897"/>
                  </a:lnTo>
                  <a:lnTo>
                    <a:pt x="5787" y="13897"/>
                  </a:lnTo>
                  <a:lnTo>
                    <a:pt x="6018" y="13781"/>
                  </a:lnTo>
                  <a:lnTo>
                    <a:pt x="6134" y="13781"/>
                  </a:lnTo>
                  <a:lnTo>
                    <a:pt x="6366" y="13781"/>
                  </a:lnTo>
                  <a:lnTo>
                    <a:pt x="6481" y="13781"/>
                  </a:lnTo>
                  <a:lnTo>
                    <a:pt x="6713" y="13781"/>
                  </a:lnTo>
                  <a:lnTo>
                    <a:pt x="6713" y="13781"/>
                  </a:lnTo>
                  <a:lnTo>
                    <a:pt x="6828" y="14244"/>
                  </a:lnTo>
                  <a:lnTo>
                    <a:pt x="7060" y="14592"/>
                  </a:lnTo>
                  <a:lnTo>
                    <a:pt x="7176" y="15055"/>
                  </a:lnTo>
                  <a:lnTo>
                    <a:pt x="7291" y="15518"/>
                  </a:lnTo>
                  <a:lnTo>
                    <a:pt x="7407" y="15982"/>
                  </a:lnTo>
                  <a:lnTo>
                    <a:pt x="7407" y="16329"/>
                  </a:lnTo>
                  <a:lnTo>
                    <a:pt x="7407" y="16792"/>
                  </a:lnTo>
                  <a:lnTo>
                    <a:pt x="7176" y="17255"/>
                  </a:lnTo>
                  <a:lnTo>
                    <a:pt x="7176" y="17255"/>
                  </a:lnTo>
                  <a:lnTo>
                    <a:pt x="6713" y="17371"/>
                  </a:lnTo>
                  <a:lnTo>
                    <a:pt x="6250" y="17487"/>
                  </a:lnTo>
                  <a:lnTo>
                    <a:pt x="5671" y="17603"/>
                  </a:lnTo>
                  <a:lnTo>
                    <a:pt x="5208" y="17487"/>
                  </a:lnTo>
                  <a:lnTo>
                    <a:pt x="4745" y="17371"/>
                  </a:lnTo>
                  <a:lnTo>
                    <a:pt x="4167" y="17255"/>
                  </a:lnTo>
                  <a:lnTo>
                    <a:pt x="3704" y="17024"/>
                  </a:lnTo>
                  <a:lnTo>
                    <a:pt x="3356" y="16792"/>
                  </a:lnTo>
                  <a:lnTo>
                    <a:pt x="3356" y="16792"/>
                  </a:lnTo>
                  <a:lnTo>
                    <a:pt x="2894" y="16329"/>
                  </a:lnTo>
                  <a:lnTo>
                    <a:pt x="2662" y="15634"/>
                  </a:lnTo>
                  <a:lnTo>
                    <a:pt x="2431" y="15055"/>
                  </a:lnTo>
                  <a:lnTo>
                    <a:pt x="2199" y="14360"/>
                  </a:lnTo>
                  <a:lnTo>
                    <a:pt x="1968" y="13665"/>
                  </a:lnTo>
                  <a:lnTo>
                    <a:pt x="1620" y="13202"/>
                  </a:lnTo>
                  <a:lnTo>
                    <a:pt x="1158" y="12855"/>
                  </a:lnTo>
                  <a:lnTo>
                    <a:pt x="463" y="12623"/>
                  </a:lnTo>
                  <a:lnTo>
                    <a:pt x="463" y="12623"/>
                  </a:lnTo>
                  <a:lnTo>
                    <a:pt x="232" y="12507"/>
                  </a:lnTo>
                  <a:lnTo>
                    <a:pt x="232" y="12391"/>
                  </a:lnTo>
                  <a:lnTo>
                    <a:pt x="116" y="12276"/>
                  </a:lnTo>
                  <a:lnTo>
                    <a:pt x="0" y="12044"/>
                  </a:lnTo>
                  <a:lnTo>
                    <a:pt x="0" y="11928"/>
                  </a:lnTo>
                  <a:lnTo>
                    <a:pt x="0" y="11812"/>
                  </a:lnTo>
                  <a:lnTo>
                    <a:pt x="0" y="11581"/>
                  </a:lnTo>
                  <a:lnTo>
                    <a:pt x="116" y="11465"/>
                  </a:lnTo>
                  <a:lnTo>
                    <a:pt x="116" y="11465"/>
                  </a:lnTo>
                  <a:lnTo>
                    <a:pt x="347" y="11118"/>
                  </a:lnTo>
                  <a:lnTo>
                    <a:pt x="579" y="10770"/>
                  </a:lnTo>
                  <a:lnTo>
                    <a:pt x="926" y="10539"/>
                  </a:lnTo>
                  <a:lnTo>
                    <a:pt x="1273" y="10307"/>
                  </a:lnTo>
                  <a:lnTo>
                    <a:pt x="1620" y="10075"/>
                  </a:lnTo>
                  <a:lnTo>
                    <a:pt x="1968" y="9844"/>
                  </a:lnTo>
                  <a:lnTo>
                    <a:pt x="2199" y="9612"/>
                  </a:lnTo>
                  <a:lnTo>
                    <a:pt x="2431" y="9265"/>
                  </a:lnTo>
                  <a:lnTo>
                    <a:pt x="2431" y="9265"/>
                  </a:lnTo>
                  <a:lnTo>
                    <a:pt x="2546" y="8570"/>
                  </a:lnTo>
                  <a:lnTo>
                    <a:pt x="2662" y="7991"/>
                  </a:lnTo>
                  <a:lnTo>
                    <a:pt x="2778" y="7412"/>
                  </a:lnTo>
                  <a:lnTo>
                    <a:pt x="2894" y="6833"/>
                  </a:lnTo>
                  <a:lnTo>
                    <a:pt x="3009" y="6254"/>
                  </a:lnTo>
                  <a:lnTo>
                    <a:pt x="3125" y="5675"/>
                  </a:lnTo>
                  <a:lnTo>
                    <a:pt x="3241" y="5095"/>
                  </a:lnTo>
                  <a:lnTo>
                    <a:pt x="3241" y="4516"/>
                  </a:lnTo>
                  <a:lnTo>
                    <a:pt x="3241" y="4516"/>
                  </a:lnTo>
                  <a:lnTo>
                    <a:pt x="3125" y="4053"/>
                  </a:lnTo>
                  <a:lnTo>
                    <a:pt x="3009" y="3706"/>
                  </a:lnTo>
                  <a:lnTo>
                    <a:pt x="2778" y="3243"/>
                  </a:lnTo>
                  <a:lnTo>
                    <a:pt x="2546" y="2895"/>
                  </a:lnTo>
                  <a:lnTo>
                    <a:pt x="2315" y="2548"/>
                  </a:lnTo>
                  <a:lnTo>
                    <a:pt x="2083" y="2200"/>
                  </a:lnTo>
                  <a:lnTo>
                    <a:pt x="1736" y="1853"/>
                  </a:lnTo>
                  <a:lnTo>
                    <a:pt x="1505" y="1505"/>
                  </a:lnTo>
                  <a:lnTo>
                    <a:pt x="1505" y="1505"/>
                  </a:lnTo>
                  <a:lnTo>
                    <a:pt x="1389" y="1390"/>
                  </a:lnTo>
                  <a:lnTo>
                    <a:pt x="1273" y="1274"/>
                  </a:lnTo>
                  <a:lnTo>
                    <a:pt x="1273" y="1158"/>
                  </a:lnTo>
                  <a:lnTo>
                    <a:pt x="1273" y="1042"/>
                  </a:lnTo>
                  <a:lnTo>
                    <a:pt x="1389" y="926"/>
                  </a:lnTo>
                  <a:lnTo>
                    <a:pt x="1389" y="811"/>
                  </a:lnTo>
                  <a:lnTo>
                    <a:pt x="1505" y="811"/>
                  </a:lnTo>
                  <a:lnTo>
                    <a:pt x="1620" y="695"/>
                  </a:lnTo>
                  <a:lnTo>
                    <a:pt x="1620" y="695"/>
                  </a:lnTo>
                  <a:lnTo>
                    <a:pt x="1852" y="463"/>
                  </a:lnTo>
                  <a:lnTo>
                    <a:pt x="1852" y="463"/>
                  </a:lnTo>
                  <a:lnTo>
                    <a:pt x="1852" y="579"/>
                  </a:lnTo>
                  <a:lnTo>
                    <a:pt x="1736" y="695"/>
                  </a:lnTo>
                  <a:lnTo>
                    <a:pt x="1620" y="811"/>
                  </a:lnTo>
                  <a:lnTo>
                    <a:pt x="1505" y="926"/>
                  </a:lnTo>
                  <a:lnTo>
                    <a:pt x="1505" y="1042"/>
                  </a:lnTo>
                  <a:lnTo>
                    <a:pt x="1505" y="1158"/>
                  </a:lnTo>
                  <a:lnTo>
                    <a:pt x="1505" y="1274"/>
                  </a:lnTo>
                  <a:lnTo>
                    <a:pt x="1852" y="1274"/>
                  </a:lnTo>
                  <a:lnTo>
                    <a:pt x="1852" y="1274"/>
                  </a:lnTo>
                  <a:lnTo>
                    <a:pt x="1968" y="1158"/>
                  </a:lnTo>
                  <a:lnTo>
                    <a:pt x="2083" y="926"/>
                  </a:lnTo>
                  <a:lnTo>
                    <a:pt x="2315" y="695"/>
                  </a:lnTo>
                  <a:lnTo>
                    <a:pt x="2431" y="579"/>
                  </a:lnTo>
                  <a:lnTo>
                    <a:pt x="2662" y="463"/>
                  </a:lnTo>
                  <a:lnTo>
                    <a:pt x="2894" y="347"/>
                  </a:lnTo>
                  <a:lnTo>
                    <a:pt x="3125" y="116"/>
                  </a:lnTo>
                  <a:lnTo>
                    <a:pt x="3356" y="0"/>
                  </a:lnTo>
                  <a:lnTo>
                    <a:pt x="3356" y="0"/>
                  </a:lnTo>
                  <a:lnTo>
                    <a:pt x="3356" y="0"/>
                  </a:lnTo>
                  <a:lnTo>
                    <a:pt x="3356" y="0"/>
                  </a:lnTo>
                  <a:lnTo>
                    <a:pt x="3356"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2097720" y="5113440"/>
              <a:ext cx="41400" cy="80640"/>
            </a:xfrm>
            <a:custGeom>
              <a:avLst/>
              <a:gdLst/>
              <a:ahLst/>
              <a:rect l="l" t="t" r="r" b="b"/>
              <a:pathLst>
                <a:path w="1158" h="1506">
                  <a:moveTo>
                    <a:pt x="1158" y="0"/>
                  </a:moveTo>
                  <a:lnTo>
                    <a:pt x="1158" y="116"/>
                  </a:lnTo>
                  <a:lnTo>
                    <a:pt x="1042" y="232"/>
                  </a:lnTo>
                  <a:lnTo>
                    <a:pt x="1042" y="348"/>
                  </a:lnTo>
                  <a:lnTo>
                    <a:pt x="926" y="463"/>
                  </a:lnTo>
                  <a:lnTo>
                    <a:pt x="811" y="463"/>
                  </a:lnTo>
                  <a:lnTo>
                    <a:pt x="695" y="579"/>
                  </a:lnTo>
                  <a:lnTo>
                    <a:pt x="579" y="695"/>
                  </a:lnTo>
                  <a:lnTo>
                    <a:pt x="579" y="695"/>
                  </a:lnTo>
                  <a:lnTo>
                    <a:pt x="579" y="695"/>
                  </a:lnTo>
                  <a:lnTo>
                    <a:pt x="463" y="811"/>
                  </a:lnTo>
                  <a:lnTo>
                    <a:pt x="463" y="927"/>
                  </a:lnTo>
                  <a:lnTo>
                    <a:pt x="348" y="1042"/>
                  </a:lnTo>
                  <a:lnTo>
                    <a:pt x="348" y="1158"/>
                  </a:lnTo>
                  <a:lnTo>
                    <a:pt x="232" y="1274"/>
                  </a:lnTo>
                  <a:lnTo>
                    <a:pt x="232" y="1274"/>
                  </a:lnTo>
                  <a:lnTo>
                    <a:pt x="116" y="1390"/>
                  </a:lnTo>
                  <a:lnTo>
                    <a:pt x="116" y="1506"/>
                  </a:lnTo>
                  <a:lnTo>
                    <a:pt x="116" y="1506"/>
                  </a:lnTo>
                  <a:lnTo>
                    <a:pt x="0" y="1274"/>
                  </a:lnTo>
                  <a:lnTo>
                    <a:pt x="0" y="1158"/>
                  </a:lnTo>
                  <a:lnTo>
                    <a:pt x="0" y="1042"/>
                  </a:lnTo>
                  <a:lnTo>
                    <a:pt x="0" y="811"/>
                  </a:lnTo>
                  <a:lnTo>
                    <a:pt x="116" y="695"/>
                  </a:lnTo>
                  <a:lnTo>
                    <a:pt x="232" y="579"/>
                  </a:lnTo>
                  <a:lnTo>
                    <a:pt x="348" y="463"/>
                  </a:lnTo>
                  <a:lnTo>
                    <a:pt x="348" y="348"/>
                  </a:lnTo>
                  <a:lnTo>
                    <a:pt x="348" y="348"/>
                  </a:lnTo>
                  <a:lnTo>
                    <a:pt x="463" y="232"/>
                  </a:lnTo>
                  <a:lnTo>
                    <a:pt x="579" y="232"/>
                  </a:lnTo>
                  <a:lnTo>
                    <a:pt x="695" y="116"/>
                  </a:lnTo>
                  <a:lnTo>
                    <a:pt x="811" y="116"/>
                  </a:lnTo>
                  <a:lnTo>
                    <a:pt x="811" y="0"/>
                  </a:lnTo>
                  <a:lnTo>
                    <a:pt x="926" y="0"/>
                  </a:lnTo>
                  <a:lnTo>
                    <a:pt x="1042" y="0"/>
                  </a:lnTo>
                  <a:lnTo>
                    <a:pt x="1158" y="0"/>
                  </a:lnTo>
                  <a:lnTo>
                    <a:pt x="1158" y="0"/>
                  </a:lnTo>
                  <a:lnTo>
                    <a:pt x="1158" y="0"/>
                  </a:lnTo>
                  <a:lnTo>
                    <a:pt x="1158" y="0"/>
                  </a:lnTo>
                  <a:lnTo>
                    <a:pt x="115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00" name=""/>
            <p:cNvSpPr/>
            <p:nvPr/>
          </p:nvSpPr>
          <p:spPr>
            <a:xfrm>
              <a:off x="2110320" y="5150880"/>
              <a:ext cx="28800" cy="49680"/>
            </a:xfrm>
            <a:custGeom>
              <a:avLst/>
              <a:gdLst/>
              <a:ahLst/>
              <a:rect l="l" t="t" r="r" b="b"/>
              <a:pathLst>
                <a:path w="810" h="926">
                  <a:moveTo>
                    <a:pt x="810" y="0"/>
                  </a:moveTo>
                  <a:lnTo>
                    <a:pt x="694" y="116"/>
                  </a:lnTo>
                  <a:lnTo>
                    <a:pt x="694" y="232"/>
                  </a:lnTo>
                  <a:lnTo>
                    <a:pt x="694" y="347"/>
                  </a:lnTo>
                  <a:lnTo>
                    <a:pt x="578" y="463"/>
                  </a:lnTo>
                  <a:lnTo>
                    <a:pt x="463" y="579"/>
                  </a:lnTo>
                  <a:lnTo>
                    <a:pt x="463" y="695"/>
                  </a:lnTo>
                  <a:lnTo>
                    <a:pt x="347" y="811"/>
                  </a:lnTo>
                  <a:lnTo>
                    <a:pt x="347" y="926"/>
                  </a:lnTo>
                  <a:lnTo>
                    <a:pt x="347" y="926"/>
                  </a:lnTo>
                  <a:lnTo>
                    <a:pt x="0" y="926"/>
                  </a:lnTo>
                  <a:lnTo>
                    <a:pt x="0" y="926"/>
                  </a:lnTo>
                  <a:lnTo>
                    <a:pt x="0" y="811"/>
                  </a:lnTo>
                  <a:lnTo>
                    <a:pt x="115" y="579"/>
                  </a:lnTo>
                  <a:lnTo>
                    <a:pt x="115" y="463"/>
                  </a:lnTo>
                  <a:lnTo>
                    <a:pt x="231" y="347"/>
                  </a:lnTo>
                  <a:lnTo>
                    <a:pt x="347" y="232"/>
                  </a:lnTo>
                  <a:lnTo>
                    <a:pt x="463" y="116"/>
                  </a:lnTo>
                  <a:lnTo>
                    <a:pt x="578" y="0"/>
                  </a:lnTo>
                  <a:lnTo>
                    <a:pt x="810" y="0"/>
                  </a:lnTo>
                  <a:lnTo>
                    <a:pt x="810" y="0"/>
                  </a:lnTo>
                  <a:lnTo>
                    <a:pt x="810" y="0"/>
                  </a:lnTo>
                  <a:lnTo>
                    <a:pt x="810" y="0"/>
                  </a:lnTo>
                  <a:lnTo>
                    <a:pt x="8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401" name=""/>
            <p:cNvSpPr/>
            <p:nvPr/>
          </p:nvSpPr>
          <p:spPr>
            <a:xfrm>
              <a:off x="2139120" y="5194440"/>
              <a:ext cx="12240" cy="18360"/>
            </a:xfrm>
            <a:custGeom>
              <a:avLst/>
              <a:gdLst/>
              <a:ahLst/>
              <a:rect l="l" t="t" r="r" b="b"/>
              <a:pathLst>
                <a:path w="347" h="347">
                  <a:moveTo>
                    <a:pt x="231" y="347"/>
                  </a:moveTo>
                  <a:lnTo>
                    <a:pt x="0" y="231"/>
                  </a:lnTo>
                  <a:lnTo>
                    <a:pt x="0" y="231"/>
                  </a:lnTo>
                  <a:lnTo>
                    <a:pt x="0" y="231"/>
                  </a:lnTo>
                  <a:lnTo>
                    <a:pt x="0" y="115"/>
                  </a:lnTo>
                  <a:lnTo>
                    <a:pt x="0" y="115"/>
                  </a:lnTo>
                  <a:lnTo>
                    <a:pt x="0" y="0"/>
                  </a:lnTo>
                  <a:lnTo>
                    <a:pt x="115" y="0"/>
                  </a:lnTo>
                  <a:lnTo>
                    <a:pt x="115" y="0"/>
                  </a:lnTo>
                  <a:lnTo>
                    <a:pt x="231" y="0"/>
                  </a:lnTo>
                  <a:lnTo>
                    <a:pt x="347" y="0"/>
                  </a:lnTo>
                  <a:lnTo>
                    <a:pt x="347" y="0"/>
                  </a:lnTo>
                  <a:lnTo>
                    <a:pt x="231" y="347"/>
                  </a:lnTo>
                  <a:lnTo>
                    <a:pt x="231" y="347"/>
                  </a:lnTo>
                  <a:lnTo>
                    <a:pt x="231" y="347"/>
                  </a:lnTo>
                  <a:lnTo>
                    <a:pt x="231" y="34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02" name=""/>
            <p:cNvSpPr/>
            <p:nvPr/>
          </p:nvSpPr>
          <p:spPr>
            <a:xfrm>
              <a:off x="1443960" y="5368680"/>
              <a:ext cx="310320" cy="690120"/>
            </a:xfrm>
            <a:custGeom>
              <a:avLst/>
              <a:gdLst/>
              <a:ahLst/>
              <a:rect l="l" t="t" r="r" b="b"/>
              <a:pathLst>
                <a:path w="8680" h="12855">
                  <a:moveTo>
                    <a:pt x="7059" y="0"/>
                  </a:moveTo>
                  <a:lnTo>
                    <a:pt x="6944" y="116"/>
                  </a:lnTo>
                  <a:lnTo>
                    <a:pt x="6712" y="232"/>
                  </a:lnTo>
                  <a:lnTo>
                    <a:pt x="6596" y="348"/>
                  </a:lnTo>
                  <a:lnTo>
                    <a:pt x="6481" y="464"/>
                  </a:lnTo>
                  <a:lnTo>
                    <a:pt x="6365" y="579"/>
                  </a:lnTo>
                  <a:lnTo>
                    <a:pt x="6134" y="695"/>
                  </a:lnTo>
                  <a:lnTo>
                    <a:pt x="6018" y="811"/>
                  </a:lnTo>
                  <a:lnTo>
                    <a:pt x="5902" y="927"/>
                  </a:lnTo>
                  <a:lnTo>
                    <a:pt x="5902" y="927"/>
                  </a:lnTo>
                  <a:lnTo>
                    <a:pt x="5902" y="927"/>
                  </a:lnTo>
                  <a:lnTo>
                    <a:pt x="5902" y="1043"/>
                  </a:lnTo>
                  <a:lnTo>
                    <a:pt x="6018" y="1043"/>
                  </a:lnTo>
                  <a:lnTo>
                    <a:pt x="6018" y="1158"/>
                  </a:lnTo>
                  <a:lnTo>
                    <a:pt x="6134" y="1158"/>
                  </a:lnTo>
                  <a:lnTo>
                    <a:pt x="6249" y="1274"/>
                  </a:lnTo>
                  <a:lnTo>
                    <a:pt x="6249" y="1158"/>
                  </a:lnTo>
                  <a:lnTo>
                    <a:pt x="6365" y="1158"/>
                  </a:lnTo>
                  <a:lnTo>
                    <a:pt x="6365" y="1158"/>
                  </a:lnTo>
                  <a:lnTo>
                    <a:pt x="7291" y="348"/>
                  </a:lnTo>
                  <a:lnTo>
                    <a:pt x="7291" y="348"/>
                  </a:lnTo>
                  <a:lnTo>
                    <a:pt x="7291" y="464"/>
                  </a:lnTo>
                  <a:lnTo>
                    <a:pt x="7291" y="579"/>
                  </a:lnTo>
                  <a:lnTo>
                    <a:pt x="7291" y="695"/>
                  </a:lnTo>
                  <a:lnTo>
                    <a:pt x="7175" y="695"/>
                  </a:lnTo>
                  <a:lnTo>
                    <a:pt x="7059" y="811"/>
                  </a:lnTo>
                  <a:lnTo>
                    <a:pt x="6944" y="927"/>
                  </a:lnTo>
                  <a:lnTo>
                    <a:pt x="6828" y="1043"/>
                  </a:lnTo>
                  <a:lnTo>
                    <a:pt x="6828" y="1158"/>
                  </a:lnTo>
                  <a:lnTo>
                    <a:pt x="6828" y="1158"/>
                  </a:lnTo>
                  <a:lnTo>
                    <a:pt x="6712" y="1158"/>
                  </a:lnTo>
                  <a:lnTo>
                    <a:pt x="6712" y="1158"/>
                  </a:lnTo>
                  <a:lnTo>
                    <a:pt x="6712" y="1274"/>
                  </a:lnTo>
                  <a:lnTo>
                    <a:pt x="6712" y="1274"/>
                  </a:lnTo>
                  <a:lnTo>
                    <a:pt x="6712" y="1274"/>
                  </a:lnTo>
                  <a:lnTo>
                    <a:pt x="6712" y="1390"/>
                  </a:lnTo>
                  <a:lnTo>
                    <a:pt x="6712" y="1390"/>
                  </a:lnTo>
                  <a:lnTo>
                    <a:pt x="6712" y="1390"/>
                  </a:lnTo>
                  <a:lnTo>
                    <a:pt x="6712" y="1390"/>
                  </a:lnTo>
                  <a:lnTo>
                    <a:pt x="6828" y="1506"/>
                  </a:lnTo>
                  <a:lnTo>
                    <a:pt x="6944" y="1506"/>
                  </a:lnTo>
                  <a:lnTo>
                    <a:pt x="7059" y="1506"/>
                  </a:lnTo>
                  <a:lnTo>
                    <a:pt x="7175" y="1390"/>
                  </a:lnTo>
                  <a:lnTo>
                    <a:pt x="7175" y="1274"/>
                  </a:lnTo>
                  <a:lnTo>
                    <a:pt x="7291" y="1158"/>
                  </a:lnTo>
                  <a:lnTo>
                    <a:pt x="7407" y="1158"/>
                  </a:lnTo>
                  <a:lnTo>
                    <a:pt x="7522" y="1043"/>
                  </a:lnTo>
                  <a:lnTo>
                    <a:pt x="7522" y="1043"/>
                  </a:lnTo>
                  <a:lnTo>
                    <a:pt x="7638" y="1274"/>
                  </a:lnTo>
                  <a:lnTo>
                    <a:pt x="7754" y="1506"/>
                  </a:lnTo>
                  <a:lnTo>
                    <a:pt x="7870" y="1737"/>
                  </a:lnTo>
                  <a:lnTo>
                    <a:pt x="8101" y="2085"/>
                  </a:lnTo>
                  <a:lnTo>
                    <a:pt x="8101" y="2316"/>
                  </a:lnTo>
                  <a:lnTo>
                    <a:pt x="8217" y="2548"/>
                  </a:lnTo>
                  <a:lnTo>
                    <a:pt x="8101" y="2780"/>
                  </a:lnTo>
                  <a:lnTo>
                    <a:pt x="7985" y="3011"/>
                  </a:lnTo>
                  <a:lnTo>
                    <a:pt x="7985" y="3011"/>
                  </a:lnTo>
                  <a:lnTo>
                    <a:pt x="7522" y="3359"/>
                  </a:lnTo>
                  <a:lnTo>
                    <a:pt x="7291" y="3706"/>
                  </a:lnTo>
                  <a:lnTo>
                    <a:pt x="6944" y="4054"/>
                  </a:lnTo>
                  <a:lnTo>
                    <a:pt x="6712" y="4517"/>
                  </a:lnTo>
                  <a:lnTo>
                    <a:pt x="6481" y="4864"/>
                  </a:lnTo>
                  <a:lnTo>
                    <a:pt x="6249" y="5212"/>
                  </a:lnTo>
                  <a:lnTo>
                    <a:pt x="5902" y="5559"/>
                  </a:lnTo>
                  <a:lnTo>
                    <a:pt x="5555" y="5791"/>
                  </a:lnTo>
                  <a:lnTo>
                    <a:pt x="5555" y="5791"/>
                  </a:lnTo>
                  <a:lnTo>
                    <a:pt x="5439" y="6486"/>
                  </a:lnTo>
                  <a:lnTo>
                    <a:pt x="5323" y="7180"/>
                  </a:lnTo>
                  <a:lnTo>
                    <a:pt x="5208" y="7760"/>
                  </a:lnTo>
                  <a:lnTo>
                    <a:pt x="5208" y="8454"/>
                  </a:lnTo>
                  <a:lnTo>
                    <a:pt x="5208" y="9149"/>
                  </a:lnTo>
                  <a:lnTo>
                    <a:pt x="5323" y="9844"/>
                  </a:lnTo>
                  <a:lnTo>
                    <a:pt x="5555" y="10423"/>
                  </a:lnTo>
                  <a:lnTo>
                    <a:pt x="5902" y="11002"/>
                  </a:lnTo>
                  <a:lnTo>
                    <a:pt x="5902" y="11002"/>
                  </a:lnTo>
                  <a:lnTo>
                    <a:pt x="5902" y="11002"/>
                  </a:lnTo>
                  <a:lnTo>
                    <a:pt x="6018" y="10886"/>
                  </a:lnTo>
                  <a:lnTo>
                    <a:pt x="6018" y="10771"/>
                  </a:lnTo>
                  <a:lnTo>
                    <a:pt x="6018" y="10771"/>
                  </a:lnTo>
                  <a:lnTo>
                    <a:pt x="6018" y="10655"/>
                  </a:lnTo>
                  <a:lnTo>
                    <a:pt x="6018" y="10539"/>
                  </a:lnTo>
                  <a:lnTo>
                    <a:pt x="5902" y="10423"/>
                  </a:lnTo>
                  <a:lnTo>
                    <a:pt x="5902" y="10423"/>
                  </a:lnTo>
                  <a:lnTo>
                    <a:pt x="5902" y="10423"/>
                  </a:lnTo>
                  <a:lnTo>
                    <a:pt x="6018" y="10423"/>
                  </a:lnTo>
                  <a:lnTo>
                    <a:pt x="6134" y="10423"/>
                  </a:lnTo>
                  <a:lnTo>
                    <a:pt x="6134" y="10539"/>
                  </a:lnTo>
                  <a:lnTo>
                    <a:pt x="6249" y="10539"/>
                  </a:lnTo>
                  <a:lnTo>
                    <a:pt x="6249" y="10655"/>
                  </a:lnTo>
                  <a:lnTo>
                    <a:pt x="6365" y="10655"/>
                  </a:lnTo>
                  <a:lnTo>
                    <a:pt x="6365" y="10771"/>
                  </a:lnTo>
                  <a:lnTo>
                    <a:pt x="6481" y="10886"/>
                  </a:lnTo>
                  <a:lnTo>
                    <a:pt x="6481" y="10886"/>
                  </a:lnTo>
                  <a:lnTo>
                    <a:pt x="6365" y="11465"/>
                  </a:lnTo>
                  <a:lnTo>
                    <a:pt x="6365" y="11465"/>
                  </a:lnTo>
                  <a:lnTo>
                    <a:pt x="6481" y="11465"/>
                  </a:lnTo>
                  <a:lnTo>
                    <a:pt x="6596" y="11465"/>
                  </a:lnTo>
                  <a:lnTo>
                    <a:pt x="6712" y="11465"/>
                  </a:lnTo>
                  <a:lnTo>
                    <a:pt x="6712" y="11350"/>
                  </a:lnTo>
                  <a:lnTo>
                    <a:pt x="6712" y="11234"/>
                  </a:lnTo>
                  <a:lnTo>
                    <a:pt x="6828" y="11118"/>
                  </a:lnTo>
                  <a:lnTo>
                    <a:pt x="6828" y="11002"/>
                  </a:lnTo>
                  <a:lnTo>
                    <a:pt x="6944" y="10886"/>
                  </a:lnTo>
                  <a:lnTo>
                    <a:pt x="6944" y="10886"/>
                  </a:lnTo>
                  <a:lnTo>
                    <a:pt x="7175" y="10886"/>
                  </a:lnTo>
                  <a:lnTo>
                    <a:pt x="7407" y="10886"/>
                  </a:lnTo>
                  <a:lnTo>
                    <a:pt x="7638" y="10886"/>
                  </a:lnTo>
                  <a:lnTo>
                    <a:pt x="7870" y="10886"/>
                  </a:lnTo>
                  <a:lnTo>
                    <a:pt x="8101" y="11002"/>
                  </a:lnTo>
                  <a:lnTo>
                    <a:pt x="8332" y="11002"/>
                  </a:lnTo>
                  <a:lnTo>
                    <a:pt x="8564" y="11234"/>
                  </a:lnTo>
                  <a:lnTo>
                    <a:pt x="8564" y="11581"/>
                  </a:lnTo>
                  <a:lnTo>
                    <a:pt x="8564" y="11581"/>
                  </a:lnTo>
                  <a:lnTo>
                    <a:pt x="8680" y="11929"/>
                  </a:lnTo>
                  <a:lnTo>
                    <a:pt x="8564" y="12160"/>
                  </a:lnTo>
                  <a:lnTo>
                    <a:pt x="8448" y="12392"/>
                  </a:lnTo>
                  <a:lnTo>
                    <a:pt x="8217" y="12508"/>
                  </a:lnTo>
                  <a:lnTo>
                    <a:pt x="7985" y="12624"/>
                  </a:lnTo>
                  <a:lnTo>
                    <a:pt x="7638" y="12624"/>
                  </a:lnTo>
                  <a:lnTo>
                    <a:pt x="7291" y="12739"/>
                  </a:lnTo>
                  <a:lnTo>
                    <a:pt x="7059" y="12855"/>
                  </a:lnTo>
                  <a:lnTo>
                    <a:pt x="7059" y="12855"/>
                  </a:lnTo>
                  <a:lnTo>
                    <a:pt x="6596" y="12855"/>
                  </a:lnTo>
                  <a:lnTo>
                    <a:pt x="6018" y="12739"/>
                  </a:lnTo>
                  <a:lnTo>
                    <a:pt x="5555" y="12739"/>
                  </a:lnTo>
                  <a:lnTo>
                    <a:pt x="5092" y="12624"/>
                  </a:lnTo>
                  <a:lnTo>
                    <a:pt x="4513" y="12508"/>
                  </a:lnTo>
                  <a:lnTo>
                    <a:pt x="4166" y="12276"/>
                  </a:lnTo>
                  <a:lnTo>
                    <a:pt x="3703" y="12044"/>
                  </a:lnTo>
                  <a:lnTo>
                    <a:pt x="3240" y="11813"/>
                  </a:lnTo>
                  <a:lnTo>
                    <a:pt x="3240" y="11813"/>
                  </a:lnTo>
                  <a:lnTo>
                    <a:pt x="2893" y="11234"/>
                  </a:lnTo>
                  <a:lnTo>
                    <a:pt x="2662" y="10539"/>
                  </a:lnTo>
                  <a:lnTo>
                    <a:pt x="2430" y="9960"/>
                  </a:lnTo>
                  <a:lnTo>
                    <a:pt x="2199" y="9265"/>
                  </a:lnTo>
                  <a:lnTo>
                    <a:pt x="1851" y="8686"/>
                  </a:lnTo>
                  <a:lnTo>
                    <a:pt x="1504" y="8107"/>
                  </a:lnTo>
                  <a:lnTo>
                    <a:pt x="926" y="7644"/>
                  </a:lnTo>
                  <a:lnTo>
                    <a:pt x="231" y="7412"/>
                  </a:lnTo>
                  <a:lnTo>
                    <a:pt x="231" y="7412"/>
                  </a:lnTo>
                  <a:lnTo>
                    <a:pt x="115" y="7296"/>
                  </a:lnTo>
                  <a:lnTo>
                    <a:pt x="115" y="7296"/>
                  </a:lnTo>
                  <a:lnTo>
                    <a:pt x="0" y="7180"/>
                  </a:lnTo>
                  <a:lnTo>
                    <a:pt x="0" y="7065"/>
                  </a:lnTo>
                  <a:lnTo>
                    <a:pt x="0" y="6949"/>
                  </a:lnTo>
                  <a:lnTo>
                    <a:pt x="0" y="6833"/>
                  </a:lnTo>
                  <a:lnTo>
                    <a:pt x="0" y="6717"/>
                  </a:lnTo>
                  <a:lnTo>
                    <a:pt x="0" y="6601"/>
                  </a:lnTo>
                  <a:lnTo>
                    <a:pt x="0" y="6601"/>
                  </a:lnTo>
                  <a:lnTo>
                    <a:pt x="231" y="6370"/>
                  </a:lnTo>
                  <a:lnTo>
                    <a:pt x="463" y="6138"/>
                  </a:lnTo>
                  <a:lnTo>
                    <a:pt x="810" y="6022"/>
                  </a:lnTo>
                  <a:lnTo>
                    <a:pt x="1157" y="5907"/>
                  </a:lnTo>
                  <a:lnTo>
                    <a:pt x="1504" y="5907"/>
                  </a:lnTo>
                  <a:lnTo>
                    <a:pt x="1851" y="5791"/>
                  </a:lnTo>
                  <a:lnTo>
                    <a:pt x="2199" y="5675"/>
                  </a:lnTo>
                  <a:lnTo>
                    <a:pt x="2430" y="5559"/>
                  </a:lnTo>
                  <a:lnTo>
                    <a:pt x="2430" y="5559"/>
                  </a:lnTo>
                  <a:lnTo>
                    <a:pt x="3009" y="5328"/>
                  </a:lnTo>
                  <a:lnTo>
                    <a:pt x="3472" y="4980"/>
                  </a:lnTo>
                  <a:lnTo>
                    <a:pt x="3935" y="4633"/>
                  </a:lnTo>
                  <a:lnTo>
                    <a:pt x="4398" y="4285"/>
                  </a:lnTo>
                  <a:lnTo>
                    <a:pt x="4860" y="3822"/>
                  </a:lnTo>
                  <a:lnTo>
                    <a:pt x="5323" y="3475"/>
                  </a:lnTo>
                  <a:lnTo>
                    <a:pt x="5671" y="3011"/>
                  </a:lnTo>
                  <a:lnTo>
                    <a:pt x="6018" y="2432"/>
                  </a:lnTo>
                  <a:lnTo>
                    <a:pt x="6018" y="2432"/>
                  </a:lnTo>
                  <a:lnTo>
                    <a:pt x="6018" y="2548"/>
                  </a:lnTo>
                  <a:lnTo>
                    <a:pt x="6134" y="2548"/>
                  </a:lnTo>
                  <a:lnTo>
                    <a:pt x="6134" y="2548"/>
                  </a:lnTo>
                  <a:lnTo>
                    <a:pt x="6134" y="2548"/>
                  </a:lnTo>
                  <a:lnTo>
                    <a:pt x="6249" y="2548"/>
                  </a:lnTo>
                  <a:lnTo>
                    <a:pt x="6249" y="2548"/>
                  </a:lnTo>
                  <a:lnTo>
                    <a:pt x="6249" y="2432"/>
                  </a:lnTo>
                  <a:lnTo>
                    <a:pt x="6249" y="2432"/>
                  </a:lnTo>
                  <a:lnTo>
                    <a:pt x="6249" y="2432"/>
                  </a:lnTo>
                  <a:lnTo>
                    <a:pt x="6249" y="2201"/>
                  </a:lnTo>
                  <a:lnTo>
                    <a:pt x="6134" y="1969"/>
                  </a:lnTo>
                  <a:lnTo>
                    <a:pt x="6018" y="1737"/>
                  </a:lnTo>
                  <a:lnTo>
                    <a:pt x="5902" y="1506"/>
                  </a:lnTo>
                  <a:lnTo>
                    <a:pt x="5786" y="1274"/>
                  </a:lnTo>
                  <a:lnTo>
                    <a:pt x="5671" y="1043"/>
                  </a:lnTo>
                  <a:lnTo>
                    <a:pt x="5555" y="811"/>
                  </a:lnTo>
                  <a:lnTo>
                    <a:pt x="5439" y="579"/>
                  </a:lnTo>
                  <a:lnTo>
                    <a:pt x="5439" y="579"/>
                  </a:lnTo>
                  <a:lnTo>
                    <a:pt x="5555" y="579"/>
                  </a:lnTo>
                  <a:lnTo>
                    <a:pt x="5555" y="579"/>
                  </a:lnTo>
                  <a:lnTo>
                    <a:pt x="5555" y="579"/>
                  </a:lnTo>
                  <a:lnTo>
                    <a:pt x="5555" y="579"/>
                  </a:lnTo>
                  <a:lnTo>
                    <a:pt x="5671" y="695"/>
                  </a:lnTo>
                  <a:lnTo>
                    <a:pt x="5671" y="695"/>
                  </a:lnTo>
                  <a:lnTo>
                    <a:pt x="5671" y="695"/>
                  </a:lnTo>
                  <a:lnTo>
                    <a:pt x="5671" y="811"/>
                  </a:lnTo>
                  <a:lnTo>
                    <a:pt x="5671" y="811"/>
                  </a:lnTo>
                  <a:lnTo>
                    <a:pt x="5786" y="811"/>
                  </a:lnTo>
                  <a:lnTo>
                    <a:pt x="5786" y="811"/>
                  </a:lnTo>
                  <a:lnTo>
                    <a:pt x="5902" y="695"/>
                  </a:lnTo>
                  <a:lnTo>
                    <a:pt x="6018" y="579"/>
                  </a:lnTo>
                  <a:lnTo>
                    <a:pt x="6249" y="464"/>
                  </a:lnTo>
                  <a:lnTo>
                    <a:pt x="6365" y="348"/>
                  </a:lnTo>
                  <a:lnTo>
                    <a:pt x="6481" y="232"/>
                  </a:lnTo>
                  <a:lnTo>
                    <a:pt x="6712" y="116"/>
                  </a:lnTo>
                  <a:lnTo>
                    <a:pt x="6828" y="0"/>
                  </a:lnTo>
                  <a:lnTo>
                    <a:pt x="7059" y="0"/>
                  </a:lnTo>
                  <a:lnTo>
                    <a:pt x="7059" y="0"/>
                  </a:lnTo>
                  <a:lnTo>
                    <a:pt x="7059" y="0"/>
                  </a:lnTo>
                  <a:lnTo>
                    <a:pt x="7059" y="0"/>
                  </a:lnTo>
                  <a:lnTo>
                    <a:pt x="7059"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dissolv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pic>
        <p:nvPicPr>
          <p:cNvPr id="2403" name="" descr=""/>
          <p:cNvPicPr/>
          <p:nvPr/>
        </p:nvPicPr>
        <p:blipFill>
          <a:blip r:embed="rId1"/>
          <a:stretch/>
        </p:blipFill>
        <p:spPr>
          <a:xfrm>
            <a:off x="762120" y="1447920"/>
            <a:ext cx="3429000" cy="2568600"/>
          </a:xfrm>
          <a:prstGeom prst="rect">
            <a:avLst/>
          </a:prstGeom>
          <a:ln w="0">
            <a:noFill/>
          </a:ln>
        </p:spPr>
      </p:pic>
      <p:grpSp>
        <p:nvGrpSpPr>
          <p:cNvPr id="2404" name=""/>
          <p:cNvGrpSpPr/>
          <p:nvPr/>
        </p:nvGrpSpPr>
        <p:grpSpPr>
          <a:xfrm>
            <a:off x="1522800" y="1736640"/>
            <a:ext cx="5106600" cy="3057840"/>
            <a:chOff x="1522800" y="1736640"/>
            <a:chExt cx="5106600" cy="3057840"/>
          </a:xfrm>
        </p:grpSpPr>
        <p:sp>
          <p:nvSpPr>
            <p:cNvPr id="2405" name=""/>
            <p:cNvSpPr/>
            <p:nvPr/>
          </p:nvSpPr>
          <p:spPr>
            <a:xfrm>
              <a:off x="4572000" y="1736640"/>
              <a:ext cx="205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ext…</a:t>
              </a:r>
              <a:endParaRPr b="0" lang="en-US" sz="4000" spc="-1" strike="noStrike">
                <a:solidFill>
                  <a:srgbClr val="000000"/>
                </a:solidFill>
                <a:latin typeface="Times New Roman"/>
              </a:endParaRPr>
            </a:p>
          </p:txBody>
        </p:sp>
        <p:grpSp>
          <p:nvGrpSpPr>
            <p:cNvPr id="2406" name=""/>
            <p:cNvGrpSpPr/>
            <p:nvPr/>
          </p:nvGrpSpPr>
          <p:grpSpPr>
            <a:xfrm>
              <a:off x="1522800" y="4016520"/>
              <a:ext cx="1601280" cy="777960"/>
              <a:chOff x="1522800" y="4016520"/>
              <a:chExt cx="1601280" cy="777960"/>
            </a:xfrm>
          </p:grpSpPr>
          <p:cxnSp>
            <p:nvCxnSpPr>
              <p:cNvPr id="2407" name=""/>
              <p:cNvCxnSpPr/>
              <p:nvPr/>
            </p:nvCxnSpPr>
            <p:spPr>
              <a:xfrm flipH="1" rot="16200000">
                <a:off x="1934280" y="3605040"/>
                <a:ext cx="778320" cy="1600920"/>
              </a:xfrm>
              <a:prstGeom prst="curvedConnector2">
                <a:avLst/>
              </a:prstGeom>
              <a:ln w="38160">
                <a:solidFill>
                  <a:srgbClr val="000000"/>
                </a:solidFill>
                <a:miter/>
              </a:ln>
            </p:spPr>
          </p:cxnSp>
          <p:sp>
            <p:nvSpPr>
              <p:cNvPr id="2408" name=""/>
              <p:cNvSpPr/>
              <p:nvPr/>
            </p:nvSpPr>
            <p:spPr>
              <a:xfrm>
                <a:off x="2774160" y="4789440"/>
                <a:ext cx="349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2409" name="" descr=""/>
          <p:cNvPicPr/>
          <p:nvPr/>
        </p:nvPicPr>
        <p:blipFill>
          <a:blip r:embed="rId2"/>
          <a:stretch/>
        </p:blipFill>
        <p:spPr>
          <a:xfrm>
            <a:off x="3124080" y="2438280"/>
            <a:ext cx="5257800" cy="4097520"/>
          </a:xfrm>
          <a:prstGeom prst="rect">
            <a:avLst/>
          </a:prstGeom>
          <a:ln w="0">
            <a:noFill/>
          </a:ln>
        </p:spPr>
      </p:pic>
    </p:spTree>
  </p:cSld>
  <p:transition>
    <p:cover dir="r"/>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22" presetSubtype="1">
                                  <p:stCondLst>
                                    <p:cond delay="0"/>
                                  </p:stCondLst>
                                  <p:childTnLst>
                                    <p:set>
                                      <p:cBhvr>
                                        <p:cTn id="851" dur="1" fill="hold">
                                          <p:stCondLst>
                                            <p:cond delay="0"/>
                                          </p:stCondLst>
                                        </p:cTn>
                                        <p:tgtEl>
                                          <p:spTgt spid="2404"/>
                                        </p:tgtEl>
                                        <p:attrNameLst>
                                          <p:attrName>style.visibility</p:attrName>
                                        </p:attrNameLst>
                                      </p:cBhvr>
                                      <p:to>
                                        <p:strVal val="visible"/>
                                      </p:to>
                                    </p:set>
                                    <p:animEffect filter="wipe(up)" transition="in">
                                      <p:cBhvr additive="repl">
                                        <p:cTn id="852" dur="500"/>
                                        <p:tgtEl>
                                          <p:spTgt spid="2404"/>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9">
                                  <p:stCondLst>
                                    <p:cond delay="0"/>
                                  </p:stCondLst>
                                  <p:childTnLst>
                                    <p:set>
                                      <p:cBhvr>
                                        <p:cTn id="856" dur="1" fill="hold">
                                          <p:stCondLst>
                                            <p:cond delay="0"/>
                                          </p:stCondLst>
                                        </p:cTn>
                                        <p:tgtEl>
                                          <p:spTgt spid="2409"/>
                                        </p:tgtEl>
                                        <p:attrNameLst>
                                          <p:attrName>style.visibility</p:attrName>
                                        </p:attrNameLst>
                                      </p:cBhvr>
                                      <p:to>
                                        <p:strVal val="visible"/>
                                      </p:to>
                                    </p:set>
                                    <p:animEffect filter="dissolve" transition="in">
                                      <p:cBhvr additive="repl">
                                        <p:cTn id="857" dur="500"/>
                                        <p:tgtEl>
                                          <p:spTgt spid="2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90" name=""/>
          <p:cNvSpPr/>
          <p:nvPr/>
        </p:nvSpPr>
        <p:spPr>
          <a:xfrm>
            <a:off x="1527120" y="1828800"/>
            <a:ext cx="7388280" cy="2038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re are </a:t>
            </a:r>
            <a:r>
              <a:rPr b="1" lang="en-US" sz="3200" spc="-1" strike="noStrike">
                <a:solidFill>
                  <a:srgbClr val="6600cc"/>
                </a:solidFill>
                <a:latin typeface="Comic Sans MS"/>
              </a:rPr>
              <a:t>4 gallons</a:t>
            </a:r>
            <a:r>
              <a:rPr b="1" lang="en-US" sz="3200" spc="-1" strike="noStrike">
                <a:solidFill>
                  <a:srgbClr val="000000"/>
                </a:solidFill>
                <a:latin typeface="Comic Sans MS"/>
              </a:rPr>
              <a:t> of gas in my tank.  The tank </a:t>
            </a:r>
            <a:r>
              <a:rPr b="1" lang="en-US" sz="3200" spc="-1" strike="noStrike">
                <a:solidFill>
                  <a:srgbClr val="6600cc"/>
                </a:solidFill>
                <a:latin typeface="Comic Sans MS"/>
              </a:rPr>
              <a:t>holds 12 gallons</a:t>
            </a:r>
            <a:r>
              <a:rPr b="1" lang="en-US" sz="3200" spc="-1" strike="noStrike">
                <a:solidFill>
                  <a:srgbClr val="000000"/>
                </a:solidFill>
                <a:latin typeface="Comic Sans MS"/>
              </a:rPr>
              <a:t>.  </a:t>
            </a:r>
            <a:r>
              <a:rPr b="1" i="1" lang="en-US" sz="3200" spc="-1" strike="noStrike">
                <a:solidFill>
                  <a:srgbClr val="3333cc"/>
                </a:solidFill>
                <a:latin typeface="Comic Sans MS"/>
              </a:rPr>
              <a:t>How much more gas must I buy to fill the tank?</a:t>
            </a:r>
            <a:endParaRPr b="0" lang="en-US" sz="3200" spc="-1" strike="noStrike">
              <a:solidFill>
                <a:srgbClr val="000000"/>
              </a:solidFill>
              <a:latin typeface="Times New Roman"/>
            </a:endParaRPr>
          </a:p>
        </p:txBody>
      </p:sp>
      <p:pic>
        <p:nvPicPr>
          <p:cNvPr id="291" name="" descr=""/>
          <p:cNvPicPr/>
          <p:nvPr/>
        </p:nvPicPr>
        <p:blipFill>
          <a:blip r:embed="rId1"/>
          <a:stretch/>
        </p:blipFill>
        <p:spPr>
          <a:xfrm>
            <a:off x="289080" y="5181480"/>
            <a:ext cx="2774880" cy="1382760"/>
          </a:xfrm>
          <a:prstGeom prst="rect">
            <a:avLst/>
          </a:prstGeom>
          <a:ln w="0">
            <a:noFill/>
          </a:ln>
        </p:spPr>
      </p:pic>
      <p:sp>
        <p:nvSpPr>
          <p:cNvPr id="292" name=""/>
          <p:cNvSpPr/>
          <p:nvPr/>
        </p:nvSpPr>
        <p:spPr>
          <a:xfrm>
            <a:off x="2591640" y="3809880"/>
            <a:ext cx="5583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4 gal. + </a:t>
            </a:r>
            <a:r>
              <a:rPr b="1" lang="en-US" sz="4000" spc="-1" strike="noStrike">
                <a:solidFill>
                  <a:srgbClr val="3333cc"/>
                </a:solidFill>
                <a:latin typeface="Comic Sans MS"/>
              </a:rPr>
              <a:t>?</a:t>
            </a:r>
            <a:r>
              <a:rPr b="1" lang="en-US" sz="4000" spc="-1" strike="noStrike">
                <a:solidFill>
                  <a:srgbClr val="000000"/>
                </a:solidFill>
                <a:latin typeface="Comic Sans MS"/>
              </a:rPr>
              <a:t> gal. = 12 gal.</a:t>
            </a:r>
            <a:endParaRPr b="0" lang="en-US" sz="4000" spc="-1" strike="noStrike">
              <a:solidFill>
                <a:srgbClr val="000000"/>
              </a:solidFill>
              <a:latin typeface="Times New Roman"/>
            </a:endParaRPr>
          </a:p>
        </p:txBody>
      </p:sp>
      <p:sp>
        <p:nvSpPr>
          <p:cNvPr id="293" name=""/>
          <p:cNvSpPr/>
          <p:nvPr/>
        </p:nvSpPr>
        <p:spPr>
          <a:xfrm>
            <a:off x="2467440" y="4648320"/>
            <a:ext cx="5504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Comic Sans MS"/>
              </a:rPr>
              <a:t>12 gal. - 4 gal. = </a:t>
            </a:r>
            <a:r>
              <a:rPr b="1" lang="en-US" sz="4000" spc="-1" strike="noStrike" u="sng">
                <a:solidFill>
                  <a:srgbClr val="008000"/>
                </a:solidFill>
                <a:uFillTx/>
                <a:latin typeface="Comic Sans MS"/>
              </a:rPr>
              <a:t>8 gal.</a:t>
            </a:r>
            <a:endParaRPr b="0" lang="en-US" sz="4000" spc="-1" strike="noStrike">
              <a:solidFill>
                <a:srgbClr val="000000"/>
              </a:solidFill>
              <a:latin typeface="Times New Roman"/>
            </a:endParaRPr>
          </a:p>
        </p:txBody>
      </p:sp>
      <p:sp>
        <p:nvSpPr>
          <p:cNvPr id="294"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grpSp>
        <p:nvGrpSpPr>
          <p:cNvPr id="295" name=""/>
          <p:cNvGrpSpPr/>
          <p:nvPr/>
        </p:nvGrpSpPr>
        <p:grpSpPr>
          <a:xfrm>
            <a:off x="55440" y="1082160"/>
            <a:ext cx="3176640" cy="1545840"/>
            <a:chOff x="55440" y="1082160"/>
            <a:chExt cx="3176640" cy="1545840"/>
          </a:xfrm>
        </p:grpSpPr>
        <p:sp>
          <p:nvSpPr>
            <p:cNvPr id="296" name=""/>
            <p:cNvSpPr/>
            <p:nvPr/>
          </p:nvSpPr>
          <p:spPr>
            <a:xfrm rot="20897400">
              <a:off x="142920" y="1434960"/>
              <a:ext cx="2971800" cy="46980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rot="20897400">
              <a:off x="119520" y="1381320"/>
              <a:ext cx="3047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other example</a:t>
              </a:r>
              <a:endParaRPr b="0" lang="en-US" sz="2800" spc="-1" strike="noStrike">
                <a:solidFill>
                  <a:srgbClr val="000000"/>
                </a:solidFill>
                <a:latin typeface="Times New Roman"/>
              </a:endParaRPr>
            </a:p>
          </p:txBody>
        </p:sp>
      </p:grpSp>
    </p:spTree>
  </p:cSld>
  <p:transition>
    <p:pull dir="l"/>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292"/>
                                        </p:tgtEl>
                                        <p:attrNameLst>
                                          <p:attrName>style.visibility</p:attrName>
                                        </p:attrNameLst>
                                      </p:cBhvr>
                                      <p:to>
                                        <p:strVal val="visible"/>
                                      </p:to>
                                    </p:set>
                                    <p:animEffect filter="wipe(left)" transition="in">
                                      <p:cBhvr additive="repl">
                                        <p:cTn id="90" dur="500"/>
                                        <p:tgtEl>
                                          <p:spTgt spid="29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293"/>
                                        </p:tgtEl>
                                        <p:attrNameLst>
                                          <p:attrName>style.visibility</p:attrName>
                                        </p:attrNameLst>
                                      </p:cBhvr>
                                      <p:to>
                                        <p:strVal val="visible"/>
                                      </p:to>
                                    </p:set>
                                    <p:animEffect filter="wipe(left)" transition="in">
                                      <p:cBhvr additive="repl">
                                        <p:cTn id="95"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grpSp>
        <p:nvGrpSpPr>
          <p:cNvPr id="298" name=""/>
          <p:cNvGrpSpPr/>
          <p:nvPr/>
        </p:nvGrpSpPr>
        <p:grpSpPr>
          <a:xfrm>
            <a:off x="762120" y="5253120"/>
            <a:ext cx="7467120" cy="609480"/>
            <a:chOff x="762120" y="5253120"/>
            <a:chExt cx="7467120" cy="609480"/>
          </a:xfrm>
        </p:grpSpPr>
        <p:sp>
          <p:nvSpPr>
            <p:cNvPr id="299" name=""/>
            <p:cNvSpPr/>
            <p:nvPr/>
          </p:nvSpPr>
          <p:spPr>
            <a:xfrm>
              <a:off x="762120" y="5558040"/>
              <a:ext cx="7467120" cy="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562360" y="525312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522480" y="525312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482240" y="525312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615680" y="525312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75800" y="525312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642120" y="5253120"/>
              <a:ext cx="0" cy="6094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602240" y="5405400"/>
              <a:ext cx="0" cy="381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
          <p:cNvSpPr/>
          <p:nvPr/>
        </p:nvSpPr>
        <p:spPr>
          <a:xfrm>
            <a:off x="4427280" y="5867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0</a:t>
            </a:r>
            <a:endParaRPr b="0" lang="en-US" sz="2400" spc="-1" strike="noStrike">
              <a:solidFill>
                <a:srgbClr val="000000"/>
              </a:solidFill>
              <a:latin typeface="Times New Roman"/>
            </a:endParaRPr>
          </a:p>
        </p:txBody>
      </p:sp>
      <p:sp>
        <p:nvSpPr>
          <p:cNvPr id="308" name=""/>
          <p:cNvSpPr/>
          <p:nvPr/>
        </p:nvSpPr>
        <p:spPr>
          <a:xfrm>
            <a:off x="5309640" y="5867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a:t>
            </a:r>
            <a:endParaRPr b="0" lang="en-US" sz="2400" spc="-1" strike="noStrike">
              <a:solidFill>
                <a:srgbClr val="000000"/>
              </a:solidFill>
              <a:latin typeface="Times New Roman"/>
            </a:endParaRPr>
          </a:p>
        </p:txBody>
      </p:sp>
      <p:sp>
        <p:nvSpPr>
          <p:cNvPr id="309" name=""/>
          <p:cNvSpPr/>
          <p:nvPr/>
        </p:nvSpPr>
        <p:spPr>
          <a:xfrm>
            <a:off x="6230160" y="586728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a:t>
            </a:r>
            <a:endParaRPr b="0" lang="en-US" sz="2400" spc="-1" strike="noStrike">
              <a:solidFill>
                <a:srgbClr val="000000"/>
              </a:solidFill>
              <a:latin typeface="Times New Roman"/>
            </a:endParaRPr>
          </a:p>
        </p:txBody>
      </p:sp>
      <p:sp>
        <p:nvSpPr>
          <p:cNvPr id="310" name=""/>
          <p:cNvSpPr/>
          <p:nvPr/>
        </p:nvSpPr>
        <p:spPr>
          <a:xfrm>
            <a:off x="7220880" y="586728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5</a:t>
            </a:r>
            <a:endParaRPr b="0" lang="en-US" sz="2400" spc="-1" strike="noStrike">
              <a:solidFill>
                <a:srgbClr val="000000"/>
              </a:solidFill>
              <a:latin typeface="Times New Roman"/>
            </a:endParaRPr>
          </a:p>
        </p:txBody>
      </p:sp>
      <p:sp>
        <p:nvSpPr>
          <p:cNvPr id="311" name=""/>
          <p:cNvSpPr/>
          <p:nvPr/>
        </p:nvSpPr>
        <p:spPr>
          <a:xfrm>
            <a:off x="3251880" y="58672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a:t>
            </a:r>
            <a:endParaRPr b="0" lang="en-US" sz="2400" spc="-1" strike="noStrike">
              <a:solidFill>
                <a:srgbClr val="000000"/>
              </a:solidFill>
              <a:latin typeface="Times New Roman"/>
            </a:endParaRPr>
          </a:p>
        </p:txBody>
      </p:sp>
      <p:sp>
        <p:nvSpPr>
          <p:cNvPr id="312" name=""/>
          <p:cNvSpPr/>
          <p:nvPr/>
        </p:nvSpPr>
        <p:spPr>
          <a:xfrm>
            <a:off x="2191320" y="5867280"/>
            <a:ext cx="6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a:t>
            </a:r>
            <a:endParaRPr b="0" lang="en-US" sz="2400" spc="-1" strike="noStrike">
              <a:solidFill>
                <a:srgbClr val="000000"/>
              </a:solidFill>
              <a:latin typeface="Times New Roman"/>
            </a:endParaRPr>
          </a:p>
        </p:txBody>
      </p:sp>
      <p:sp>
        <p:nvSpPr>
          <p:cNvPr id="313" name=""/>
          <p:cNvSpPr/>
          <p:nvPr/>
        </p:nvSpPr>
        <p:spPr>
          <a:xfrm>
            <a:off x="1200600" y="5867280"/>
            <a:ext cx="6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5</a:t>
            </a:r>
            <a:endParaRPr b="0" lang="en-US" sz="2400" spc="-1" strike="noStrike">
              <a:solidFill>
                <a:srgbClr val="000000"/>
              </a:solidFill>
              <a:latin typeface="Times New Roman"/>
            </a:endParaRPr>
          </a:p>
        </p:txBody>
      </p:sp>
      <p:pic>
        <p:nvPicPr>
          <p:cNvPr id="314" name="" descr=""/>
          <p:cNvPicPr/>
          <p:nvPr/>
        </p:nvPicPr>
        <p:blipFill>
          <a:blip r:embed="rId1"/>
          <a:stretch/>
        </p:blipFill>
        <p:spPr>
          <a:xfrm>
            <a:off x="533520" y="4648320"/>
            <a:ext cx="2546280" cy="1536480"/>
          </a:xfrm>
          <a:prstGeom prst="rect">
            <a:avLst/>
          </a:prstGeom>
          <a:ln w="0">
            <a:noFill/>
          </a:ln>
        </p:spPr>
      </p:pic>
      <p:sp>
        <p:nvSpPr>
          <p:cNvPr id="315" name=""/>
          <p:cNvSpPr/>
          <p:nvPr/>
        </p:nvSpPr>
        <p:spPr>
          <a:xfrm>
            <a:off x="533520" y="1417680"/>
            <a:ext cx="8001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re are </a:t>
            </a:r>
            <a:r>
              <a:rPr b="1" lang="en-US" sz="3200" spc="-1" strike="noStrike">
                <a:solidFill>
                  <a:srgbClr val="6600cc"/>
                </a:solidFill>
                <a:latin typeface="Comic Sans MS"/>
              </a:rPr>
              <a:t>4 gallons</a:t>
            </a:r>
            <a:r>
              <a:rPr b="1" lang="en-US" sz="3200" spc="-1" strike="noStrike">
                <a:solidFill>
                  <a:srgbClr val="000000"/>
                </a:solidFill>
                <a:latin typeface="Comic Sans MS"/>
              </a:rPr>
              <a:t> of gas in my tank.  The tank holds </a:t>
            </a:r>
            <a:r>
              <a:rPr b="1" lang="en-US" sz="3200" spc="-1" strike="noStrike">
                <a:solidFill>
                  <a:srgbClr val="3333cc"/>
                </a:solidFill>
                <a:latin typeface="Comic Sans MS"/>
              </a:rPr>
              <a:t>12 gallons</a:t>
            </a:r>
            <a:r>
              <a:rPr b="1" lang="en-US" sz="3200" spc="-1" strike="noStrike">
                <a:solidFill>
                  <a:srgbClr val="000000"/>
                </a:solidFill>
                <a:latin typeface="Comic Sans MS"/>
              </a:rPr>
              <a:t>.  </a:t>
            </a:r>
            <a:r>
              <a:rPr b="0" i="1" lang="en-US" sz="3200" spc="-1" strike="noStrike">
                <a:solidFill>
                  <a:srgbClr val="006600"/>
                </a:solidFill>
                <a:latin typeface="Comic Sans MS"/>
              </a:rPr>
              <a:t>How much more gas</a:t>
            </a:r>
            <a:r>
              <a:rPr b="1" i="1" lang="en-US" sz="3200" spc="-1" strike="noStrike">
                <a:solidFill>
                  <a:srgbClr val="008000"/>
                </a:solidFill>
                <a:latin typeface="Comic Sans MS"/>
              </a:rPr>
              <a:t> </a:t>
            </a:r>
            <a:r>
              <a:rPr b="1" i="1" lang="en-US" sz="3200" spc="-1" strike="noStrike">
                <a:solidFill>
                  <a:srgbClr val="000000"/>
                </a:solidFill>
                <a:latin typeface="Comic Sans MS"/>
              </a:rPr>
              <a:t>must I buy to fill the tank?</a:t>
            </a:r>
            <a:endParaRPr b="0" lang="en-US" sz="3200" spc="-1" strike="noStrike">
              <a:solidFill>
                <a:srgbClr val="000000"/>
              </a:solidFill>
              <a:latin typeface="Times New Roman"/>
            </a:endParaRPr>
          </a:p>
        </p:txBody>
      </p:sp>
      <p:sp>
        <p:nvSpPr>
          <p:cNvPr id="316"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grpSp>
        <p:nvGrpSpPr>
          <p:cNvPr id="317" name=""/>
          <p:cNvGrpSpPr/>
          <p:nvPr/>
        </p:nvGrpSpPr>
        <p:grpSpPr>
          <a:xfrm>
            <a:off x="2042640" y="3108240"/>
            <a:ext cx="5567400" cy="813240"/>
            <a:chOff x="2042640" y="3108240"/>
            <a:chExt cx="5567400" cy="813240"/>
          </a:xfrm>
        </p:grpSpPr>
        <p:sp>
          <p:nvSpPr>
            <p:cNvPr id="318" name=""/>
            <p:cNvSpPr/>
            <p:nvPr/>
          </p:nvSpPr>
          <p:spPr>
            <a:xfrm>
              <a:off x="2042640" y="3108240"/>
              <a:ext cx="1675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12 gal</a:t>
              </a:r>
              <a:endParaRPr b="0" lang="en-US" sz="4000" spc="-1" strike="noStrike">
                <a:solidFill>
                  <a:srgbClr val="000000"/>
                </a:solidFill>
                <a:latin typeface="Times New Roman"/>
              </a:endParaRPr>
            </a:p>
          </p:txBody>
        </p:sp>
        <p:sp>
          <p:nvSpPr>
            <p:cNvPr id="319" name=""/>
            <p:cNvSpPr/>
            <p:nvPr/>
          </p:nvSpPr>
          <p:spPr>
            <a:xfrm>
              <a:off x="3881880" y="3124080"/>
              <a:ext cx="1681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Comic Sans MS"/>
                </a:rPr>
                <a:t>- 4 gal</a:t>
              </a:r>
              <a:endParaRPr b="0" lang="en-US" sz="4000" spc="-1" strike="noStrike">
                <a:solidFill>
                  <a:srgbClr val="000000"/>
                </a:solidFill>
                <a:latin typeface="Times New Roman"/>
              </a:endParaRPr>
            </a:p>
          </p:txBody>
        </p:sp>
        <p:sp>
          <p:nvSpPr>
            <p:cNvPr id="320" name=""/>
            <p:cNvSpPr/>
            <p:nvPr/>
          </p:nvSpPr>
          <p:spPr>
            <a:xfrm>
              <a:off x="5655240" y="3200400"/>
              <a:ext cx="47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t>
              </a:r>
              <a:endParaRPr b="0" lang="en-US" sz="4000" spc="-1" strike="noStrike">
                <a:solidFill>
                  <a:srgbClr val="000000"/>
                </a:solidFill>
                <a:latin typeface="Times New Roman"/>
              </a:endParaRPr>
            </a:p>
          </p:txBody>
        </p:sp>
        <p:sp>
          <p:nvSpPr>
            <p:cNvPr id="321" name=""/>
            <p:cNvSpPr/>
            <p:nvPr/>
          </p:nvSpPr>
          <p:spPr>
            <a:xfrm>
              <a:off x="6223680" y="3218040"/>
              <a:ext cx="138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Comic Sans MS"/>
                </a:rPr>
                <a:t>8 gal</a:t>
              </a:r>
              <a:endParaRPr b="0" lang="en-US" sz="4000" spc="-1" strike="noStrike">
                <a:solidFill>
                  <a:srgbClr val="000000"/>
                </a:solidFill>
                <a:latin typeface="Times New Roman"/>
              </a:endParaRPr>
            </a:p>
          </p:txBody>
        </p:sp>
      </p:grpSp>
      <p:grpSp>
        <p:nvGrpSpPr>
          <p:cNvPr id="322" name=""/>
          <p:cNvGrpSpPr/>
          <p:nvPr/>
        </p:nvGrpSpPr>
        <p:grpSpPr>
          <a:xfrm>
            <a:off x="4495680" y="4724280"/>
            <a:ext cx="2210040" cy="459720"/>
            <a:chOff x="4495680" y="4724280"/>
            <a:chExt cx="2210040" cy="459720"/>
          </a:xfrm>
        </p:grpSpPr>
        <p:sp>
          <p:nvSpPr>
            <p:cNvPr id="323" name=""/>
            <p:cNvSpPr/>
            <p:nvPr/>
          </p:nvSpPr>
          <p:spPr>
            <a:xfrm>
              <a:off x="4495680" y="5138640"/>
              <a:ext cx="221004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051600" y="4724280"/>
              <a:ext cx="57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2</a:t>
              </a:r>
              <a:endParaRPr b="0" lang="en-US" sz="2400" spc="-1" strike="noStrike">
                <a:solidFill>
                  <a:srgbClr val="000000"/>
                </a:solidFill>
                <a:latin typeface="Times New Roman"/>
              </a:endParaRPr>
            </a:p>
          </p:txBody>
        </p:sp>
      </p:grpSp>
      <p:grpSp>
        <p:nvGrpSpPr>
          <p:cNvPr id="325" name=""/>
          <p:cNvGrpSpPr/>
          <p:nvPr/>
        </p:nvGrpSpPr>
        <p:grpSpPr>
          <a:xfrm>
            <a:off x="5943240" y="4191120"/>
            <a:ext cx="851400" cy="459720"/>
            <a:chOff x="5943240" y="4191120"/>
            <a:chExt cx="851400" cy="459720"/>
          </a:xfrm>
        </p:grpSpPr>
        <p:sp>
          <p:nvSpPr>
            <p:cNvPr id="326" name=""/>
            <p:cNvSpPr/>
            <p:nvPr/>
          </p:nvSpPr>
          <p:spPr>
            <a:xfrm flipH="1">
              <a:off x="5943240" y="4648320"/>
              <a:ext cx="762120" cy="0"/>
            </a:xfrm>
            <a:prstGeom prst="line">
              <a:avLst/>
            </a:prstGeom>
            <a:ln w="57240">
              <a:solidFill>
                <a:srgbClr val="66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16480" y="4191120"/>
              <a:ext cx="57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Comic Sans MS"/>
                </a:rPr>
                <a:t>4</a:t>
              </a:r>
              <a:endParaRPr b="0" lang="en-US" sz="2400" spc="-1" strike="noStrike">
                <a:solidFill>
                  <a:srgbClr val="000000"/>
                </a:solidFill>
                <a:latin typeface="Times New Roman"/>
              </a:endParaRPr>
            </a:p>
          </p:txBody>
        </p:sp>
      </p:grpSp>
      <p:grpSp>
        <p:nvGrpSpPr>
          <p:cNvPr id="328" name=""/>
          <p:cNvGrpSpPr/>
          <p:nvPr/>
        </p:nvGrpSpPr>
        <p:grpSpPr>
          <a:xfrm>
            <a:off x="4495680" y="4191120"/>
            <a:ext cx="1600200" cy="459720"/>
            <a:chOff x="4495680" y="4191120"/>
            <a:chExt cx="1600200" cy="459720"/>
          </a:xfrm>
        </p:grpSpPr>
        <p:sp>
          <p:nvSpPr>
            <p:cNvPr id="329" name=""/>
            <p:cNvSpPr/>
            <p:nvPr/>
          </p:nvSpPr>
          <p:spPr>
            <a:xfrm>
              <a:off x="4495680" y="4648320"/>
              <a:ext cx="160020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591080" y="4191120"/>
              <a:ext cx="57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8</a:t>
              </a:r>
              <a:endParaRPr b="0" lang="en-US" sz="2400" spc="-1" strike="noStrike">
                <a:solidFill>
                  <a:srgbClr val="000000"/>
                </a:solidFill>
                <a:latin typeface="Times New Roman"/>
              </a:endParaRPr>
            </a:p>
          </p:txBody>
        </p:sp>
      </p:gr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317"/>
                                        </p:tgtEl>
                                        <p:attrNameLst>
                                          <p:attrName>style.visibility</p:attrName>
                                        </p:attrNameLst>
                                      </p:cBhvr>
                                      <p:to>
                                        <p:strVal val="visible"/>
                                      </p:to>
                                    </p:set>
                                    <p:animEffect filter="wipe(left)" transition="in">
                                      <p:cBhvr additive="repl">
                                        <p:cTn id="102" dur="500"/>
                                        <p:tgtEl>
                                          <p:spTgt spid="31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322"/>
                                        </p:tgtEl>
                                        <p:attrNameLst>
                                          <p:attrName>style.visibility</p:attrName>
                                        </p:attrNameLst>
                                      </p:cBhvr>
                                      <p:to>
                                        <p:strVal val="visible"/>
                                      </p:to>
                                    </p:set>
                                    <p:animEffect filter="wipe(left)" transition="in">
                                      <p:cBhvr additive="repl">
                                        <p:cTn id="107" dur="500"/>
                                        <p:tgtEl>
                                          <p:spTgt spid="322"/>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2">
                                  <p:stCondLst>
                                    <p:cond delay="0"/>
                                  </p:stCondLst>
                                  <p:childTnLst>
                                    <p:set>
                                      <p:cBhvr>
                                        <p:cTn id="111" dur="1" fill="hold">
                                          <p:stCondLst>
                                            <p:cond delay="0"/>
                                          </p:stCondLst>
                                        </p:cTn>
                                        <p:tgtEl>
                                          <p:spTgt spid="325"/>
                                        </p:tgtEl>
                                        <p:attrNameLst>
                                          <p:attrName>style.visibility</p:attrName>
                                        </p:attrNameLst>
                                      </p:cBhvr>
                                      <p:to>
                                        <p:strVal val="visible"/>
                                      </p:to>
                                    </p:set>
                                    <p:animEffect filter="wipe(right)" transition="in">
                                      <p:cBhvr additive="repl">
                                        <p:cTn id="112" dur="500"/>
                                        <p:tgtEl>
                                          <p:spTgt spid="32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328"/>
                                        </p:tgtEl>
                                        <p:attrNameLst>
                                          <p:attrName>style.visibility</p:attrName>
                                        </p:attrNameLst>
                                      </p:cBhvr>
                                      <p:to>
                                        <p:strVal val="visible"/>
                                      </p:to>
                                    </p:set>
                                    <p:animEffect filter="wipe(left)" transition="in">
                                      <p:cBhvr additive="repl">
                                        <p:cTn id="117" dur="500"/>
                                        <p:tgtEl>
                                          <p:spTgt spid="32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314"/>
                                        </p:tgtEl>
                                        <p:attrNameLst>
                                          <p:attrName>style.visibility</p:attrName>
                                        </p:attrNameLst>
                                      </p:cBhvr>
                                      <p:to>
                                        <p:strVal val="visible"/>
                                      </p:to>
                                    </p:set>
                                    <p:anim calcmode="lin" valueType="num">
                                      <p:cBhvr additive="base">
                                        <p:cTn id="122" dur="500" fill="hold"/>
                                        <p:tgtEl>
                                          <p:spTgt spid="314"/>
                                        </p:tgtEl>
                                        <p:attrNameLst>
                                          <p:attrName>ppt_x</p:attrName>
                                        </p:attrNameLst>
                                      </p:cBhvr>
                                      <p:tavLst>
                                        <p:tav tm="0">
                                          <p:val>
                                            <p:strVal val="1+#ppt_w/2"/>
                                          </p:val>
                                        </p:tav>
                                        <p:tav tm="100000">
                                          <p:val>
                                            <p:strVal val="#ppt_x"/>
                                          </p:val>
                                        </p:tav>
                                      </p:tavLst>
                                    </p:anim>
                                    <p:anim calcmode="lin" valueType="num">
                                      <p:cBhvr additive="base">
                                        <p:cTn id="123" dur="500" fill="hold"/>
                                        <p:tgtEl>
                                          <p:spTgt spid="3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331" name=""/>
          <p:cNvSpPr/>
          <p:nvPr/>
        </p:nvSpPr>
        <p:spPr>
          <a:xfrm>
            <a:off x="609480" y="1981080"/>
            <a:ext cx="7388280" cy="3117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You want to go out tonight.  You figure it will cost $25.  You only have $13.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Comic Sans MS"/>
              </a:rPr>
              <a:t>How much more will you need for a night on the town?</a:t>
            </a:r>
            <a:endParaRPr b="0" lang="en-US" sz="3600" spc="-1" strike="noStrike">
              <a:solidFill>
                <a:srgbClr val="000000"/>
              </a:solidFill>
              <a:latin typeface="Times New Roman"/>
            </a:endParaRPr>
          </a:p>
        </p:txBody>
      </p:sp>
      <p:pic>
        <p:nvPicPr>
          <p:cNvPr id="332" name="" descr=""/>
          <p:cNvPicPr/>
          <p:nvPr/>
        </p:nvPicPr>
        <p:blipFill>
          <a:blip r:embed="rId1"/>
          <a:stretch/>
        </p:blipFill>
        <p:spPr>
          <a:xfrm>
            <a:off x="6400800" y="4419720"/>
            <a:ext cx="1968480" cy="2004840"/>
          </a:xfrm>
          <a:prstGeom prst="rect">
            <a:avLst/>
          </a:prstGeom>
          <a:ln w="0">
            <a:noFill/>
          </a:ln>
        </p:spPr>
      </p:pic>
      <p:sp>
        <p:nvSpPr>
          <p:cNvPr id="333" name=""/>
          <p:cNvSpPr/>
          <p:nvPr/>
        </p:nvSpPr>
        <p:spPr>
          <a:xfrm>
            <a:off x="2720160" y="68580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tracting Integers</a:t>
            </a:r>
            <a:endParaRPr b="0" lang="en-US" sz="2800" spc="-1" strike="noStrike">
              <a:solidFill>
                <a:srgbClr val="000000"/>
              </a:solidFill>
              <a:latin typeface="Times New Roman"/>
            </a:endParaRPr>
          </a:p>
        </p:txBody>
      </p:sp>
      <p:grpSp>
        <p:nvGrpSpPr>
          <p:cNvPr id="334" name=""/>
          <p:cNvGrpSpPr/>
          <p:nvPr/>
        </p:nvGrpSpPr>
        <p:grpSpPr>
          <a:xfrm>
            <a:off x="277200" y="909720"/>
            <a:ext cx="3172320" cy="1199880"/>
            <a:chOff x="277200" y="909720"/>
            <a:chExt cx="3172320" cy="1199880"/>
          </a:xfrm>
        </p:grpSpPr>
        <p:sp>
          <p:nvSpPr>
            <p:cNvPr id="335" name=""/>
            <p:cNvSpPr/>
            <p:nvPr/>
          </p:nvSpPr>
          <p:spPr>
            <a:xfrm rot="20897400">
              <a:off x="307800" y="1204560"/>
              <a:ext cx="2971800" cy="60948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rot="20897400">
              <a:off x="304920" y="124272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other example</a:t>
              </a:r>
              <a:endParaRPr b="0" lang="en-US" sz="2800" spc="-1" strike="noStrike">
                <a:solidFill>
                  <a:srgbClr val="000000"/>
                </a:solidFill>
                <a:latin typeface="Times New Roman"/>
              </a:endParaRPr>
            </a:p>
          </p:txBody>
        </p:sp>
      </p:grpSp>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0T15:59:23Z</dcterms:created>
  <dc:creator>Community Campus</dc:creator>
  <dc:description/>
  <dc:language>en-US</dc:language>
  <cp:lastModifiedBy>iddcws</cp:lastModifiedBy>
  <dcterms:modified xsi:type="dcterms:W3CDTF">2003-01-28T18:50:31Z</dcterms:modified>
  <cp:revision>94</cp:revision>
  <dc:subject/>
  <dc:title>PowerPoint Presentation</dc:title>
</cp:coreProperties>
</file>