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0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58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55680" y="22683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324560" cy="437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819520" y="2133720"/>
            <a:ext cx="46479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Problems</a:t>
            </a:r>
            <a:endParaRPr b="0" lang="en-US" sz="4400" spc="1" strike="noStrike">
              <a:ln w="0">
                <a:noFill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14400" y="4572000"/>
            <a:ext cx="1670040" cy="1862280"/>
            <a:chOff x="914400" y="4572000"/>
            <a:chExt cx="1670040" cy="1862280"/>
          </a:xfrm>
        </p:grpSpPr>
        <p:sp>
          <p:nvSpPr>
            <p:cNvPr id="46" name=""/>
            <p:cNvSpPr/>
            <p:nvPr/>
          </p:nvSpPr>
          <p:spPr>
            <a:xfrm>
              <a:off x="914400" y="4572000"/>
              <a:ext cx="1670040" cy="1862280"/>
            </a:xfrm>
            <a:custGeom>
              <a:avLst/>
              <a:gdLst/>
              <a:ahLst/>
              <a:rect l="l" t="t" r="r" b="b"/>
              <a:pathLst>
                <a:path w="1980" h="2827">
                  <a:moveTo>
                    <a:pt x="1257" y="180"/>
                  </a:moveTo>
                  <a:lnTo>
                    <a:pt x="1250" y="184"/>
                  </a:lnTo>
                  <a:lnTo>
                    <a:pt x="1243" y="188"/>
                  </a:lnTo>
                  <a:lnTo>
                    <a:pt x="1236" y="194"/>
                  </a:lnTo>
                  <a:lnTo>
                    <a:pt x="1231" y="199"/>
                  </a:lnTo>
                  <a:lnTo>
                    <a:pt x="1224" y="205"/>
                  </a:lnTo>
                  <a:lnTo>
                    <a:pt x="1218" y="210"/>
                  </a:lnTo>
                  <a:lnTo>
                    <a:pt x="1214" y="216"/>
                  </a:lnTo>
                  <a:lnTo>
                    <a:pt x="1208" y="223"/>
                  </a:lnTo>
                  <a:lnTo>
                    <a:pt x="1226" y="232"/>
                  </a:lnTo>
                  <a:lnTo>
                    <a:pt x="1243" y="240"/>
                  </a:lnTo>
                  <a:lnTo>
                    <a:pt x="1260" y="248"/>
                  </a:lnTo>
                  <a:lnTo>
                    <a:pt x="1277" y="257"/>
                  </a:lnTo>
                  <a:lnTo>
                    <a:pt x="1293" y="264"/>
                  </a:lnTo>
                  <a:lnTo>
                    <a:pt x="1309" y="271"/>
                  </a:lnTo>
                  <a:lnTo>
                    <a:pt x="1324" y="278"/>
                  </a:lnTo>
                  <a:lnTo>
                    <a:pt x="1339" y="284"/>
                  </a:lnTo>
                  <a:lnTo>
                    <a:pt x="1402" y="309"/>
                  </a:lnTo>
                  <a:lnTo>
                    <a:pt x="1460" y="337"/>
                  </a:lnTo>
                  <a:lnTo>
                    <a:pt x="1510" y="366"/>
                  </a:lnTo>
                  <a:lnTo>
                    <a:pt x="1557" y="397"/>
                  </a:lnTo>
                  <a:lnTo>
                    <a:pt x="1596" y="431"/>
                  </a:lnTo>
                  <a:lnTo>
                    <a:pt x="1631" y="466"/>
                  </a:lnTo>
                  <a:lnTo>
                    <a:pt x="1661" y="503"/>
                  </a:lnTo>
                  <a:lnTo>
                    <a:pt x="1687" y="541"/>
                  </a:lnTo>
                  <a:lnTo>
                    <a:pt x="1710" y="582"/>
                  </a:lnTo>
                  <a:lnTo>
                    <a:pt x="1728" y="622"/>
                  </a:lnTo>
                  <a:lnTo>
                    <a:pt x="1744" y="664"/>
                  </a:lnTo>
                  <a:lnTo>
                    <a:pt x="1755" y="708"/>
                  </a:lnTo>
                  <a:lnTo>
                    <a:pt x="1765" y="753"/>
                  </a:lnTo>
                  <a:lnTo>
                    <a:pt x="1772" y="798"/>
                  </a:lnTo>
                  <a:lnTo>
                    <a:pt x="1778" y="844"/>
                  </a:lnTo>
                  <a:lnTo>
                    <a:pt x="1781" y="892"/>
                  </a:lnTo>
                  <a:lnTo>
                    <a:pt x="1781" y="895"/>
                  </a:lnTo>
                  <a:lnTo>
                    <a:pt x="1781" y="898"/>
                  </a:lnTo>
                  <a:lnTo>
                    <a:pt x="1781" y="902"/>
                  </a:lnTo>
                  <a:lnTo>
                    <a:pt x="1781" y="905"/>
                  </a:lnTo>
                  <a:lnTo>
                    <a:pt x="1783" y="905"/>
                  </a:lnTo>
                  <a:lnTo>
                    <a:pt x="1787" y="905"/>
                  </a:lnTo>
                  <a:lnTo>
                    <a:pt x="1789" y="905"/>
                  </a:lnTo>
                  <a:lnTo>
                    <a:pt x="1791" y="906"/>
                  </a:lnTo>
                  <a:lnTo>
                    <a:pt x="1802" y="908"/>
                  </a:lnTo>
                  <a:lnTo>
                    <a:pt x="1812" y="910"/>
                  </a:lnTo>
                  <a:lnTo>
                    <a:pt x="1820" y="913"/>
                  </a:lnTo>
                  <a:lnTo>
                    <a:pt x="1828" y="916"/>
                  </a:lnTo>
                  <a:lnTo>
                    <a:pt x="1834" y="920"/>
                  </a:lnTo>
                  <a:lnTo>
                    <a:pt x="1838" y="925"/>
                  </a:lnTo>
                  <a:lnTo>
                    <a:pt x="1842" y="927"/>
                  </a:lnTo>
                  <a:lnTo>
                    <a:pt x="1844" y="932"/>
                  </a:lnTo>
                  <a:lnTo>
                    <a:pt x="1849" y="916"/>
                  </a:lnTo>
                  <a:lnTo>
                    <a:pt x="1854" y="902"/>
                  </a:lnTo>
                  <a:lnTo>
                    <a:pt x="1860" y="889"/>
                  </a:lnTo>
                  <a:lnTo>
                    <a:pt x="1867" y="878"/>
                  </a:lnTo>
                  <a:lnTo>
                    <a:pt x="1874" y="868"/>
                  </a:lnTo>
                  <a:lnTo>
                    <a:pt x="1881" y="861"/>
                  </a:lnTo>
                  <a:lnTo>
                    <a:pt x="1890" y="856"/>
                  </a:lnTo>
                  <a:lnTo>
                    <a:pt x="1898" y="853"/>
                  </a:lnTo>
                  <a:lnTo>
                    <a:pt x="1898" y="903"/>
                  </a:lnTo>
                  <a:lnTo>
                    <a:pt x="1888" y="909"/>
                  </a:lnTo>
                  <a:lnTo>
                    <a:pt x="1879" y="918"/>
                  </a:lnTo>
                  <a:lnTo>
                    <a:pt x="1871" y="929"/>
                  </a:lnTo>
                  <a:lnTo>
                    <a:pt x="1863" y="944"/>
                  </a:lnTo>
                  <a:lnTo>
                    <a:pt x="1858" y="961"/>
                  </a:lnTo>
                  <a:lnTo>
                    <a:pt x="1853" y="979"/>
                  </a:lnTo>
                  <a:lnTo>
                    <a:pt x="1850" y="1000"/>
                  </a:lnTo>
                  <a:lnTo>
                    <a:pt x="1849" y="1023"/>
                  </a:lnTo>
                  <a:lnTo>
                    <a:pt x="1849" y="1024"/>
                  </a:lnTo>
                  <a:lnTo>
                    <a:pt x="1850" y="1024"/>
                  </a:lnTo>
                  <a:lnTo>
                    <a:pt x="1850" y="1026"/>
                  </a:lnTo>
                  <a:lnTo>
                    <a:pt x="1850" y="1027"/>
                  </a:lnTo>
                  <a:lnTo>
                    <a:pt x="1859" y="1052"/>
                  </a:lnTo>
                  <a:lnTo>
                    <a:pt x="1865" y="1076"/>
                  </a:lnTo>
                  <a:lnTo>
                    <a:pt x="1870" y="1099"/>
                  </a:lnTo>
                  <a:lnTo>
                    <a:pt x="1873" y="1120"/>
                  </a:lnTo>
                  <a:lnTo>
                    <a:pt x="1877" y="1126"/>
                  </a:lnTo>
                  <a:lnTo>
                    <a:pt x="1880" y="1130"/>
                  </a:lnTo>
                  <a:lnTo>
                    <a:pt x="1885" y="1133"/>
                  </a:lnTo>
                  <a:lnTo>
                    <a:pt x="1889" y="1137"/>
                  </a:lnTo>
                  <a:lnTo>
                    <a:pt x="1893" y="1140"/>
                  </a:lnTo>
                  <a:lnTo>
                    <a:pt x="1897" y="1141"/>
                  </a:lnTo>
                  <a:lnTo>
                    <a:pt x="1903" y="1142"/>
                  </a:lnTo>
                  <a:lnTo>
                    <a:pt x="1907" y="1142"/>
                  </a:lnTo>
                  <a:lnTo>
                    <a:pt x="1918" y="1140"/>
                  </a:lnTo>
                  <a:lnTo>
                    <a:pt x="1930" y="1133"/>
                  </a:lnTo>
                  <a:lnTo>
                    <a:pt x="1939" y="1121"/>
                  </a:lnTo>
                  <a:lnTo>
                    <a:pt x="1948" y="1107"/>
                  </a:lnTo>
                  <a:lnTo>
                    <a:pt x="1955" y="1090"/>
                  </a:lnTo>
                  <a:lnTo>
                    <a:pt x="1960" y="1069"/>
                  </a:lnTo>
                  <a:lnTo>
                    <a:pt x="1964" y="1047"/>
                  </a:lnTo>
                  <a:lnTo>
                    <a:pt x="1965" y="1023"/>
                  </a:lnTo>
                  <a:lnTo>
                    <a:pt x="1964" y="999"/>
                  </a:lnTo>
                  <a:lnTo>
                    <a:pt x="1960" y="977"/>
                  </a:lnTo>
                  <a:lnTo>
                    <a:pt x="1955" y="955"/>
                  </a:lnTo>
                  <a:lnTo>
                    <a:pt x="1948" y="937"/>
                  </a:lnTo>
                  <a:lnTo>
                    <a:pt x="1939" y="923"/>
                  </a:lnTo>
                  <a:lnTo>
                    <a:pt x="1930" y="912"/>
                  </a:lnTo>
                  <a:lnTo>
                    <a:pt x="1918" y="905"/>
                  </a:lnTo>
                  <a:lnTo>
                    <a:pt x="1907" y="902"/>
                  </a:lnTo>
                  <a:lnTo>
                    <a:pt x="1905" y="902"/>
                  </a:lnTo>
                  <a:lnTo>
                    <a:pt x="1903" y="902"/>
                  </a:lnTo>
                  <a:lnTo>
                    <a:pt x="1900" y="903"/>
                  </a:lnTo>
                  <a:lnTo>
                    <a:pt x="1898" y="903"/>
                  </a:lnTo>
                  <a:lnTo>
                    <a:pt x="1898" y="853"/>
                  </a:lnTo>
                  <a:lnTo>
                    <a:pt x="1900" y="853"/>
                  </a:lnTo>
                  <a:lnTo>
                    <a:pt x="1903" y="851"/>
                  </a:lnTo>
                  <a:lnTo>
                    <a:pt x="1905" y="851"/>
                  </a:lnTo>
                  <a:lnTo>
                    <a:pt x="1907" y="851"/>
                  </a:lnTo>
                  <a:lnTo>
                    <a:pt x="1922" y="854"/>
                  </a:lnTo>
                  <a:lnTo>
                    <a:pt x="1935" y="864"/>
                  </a:lnTo>
                  <a:lnTo>
                    <a:pt x="1948" y="881"/>
                  </a:lnTo>
                  <a:lnTo>
                    <a:pt x="1959" y="901"/>
                  </a:lnTo>
                  <a:lnTo>
                    <a:pt x="1968" y="927"/>
                  </a:lnTo>
                  <a:lnTo>
                    <a:pt x="1975" y="955"/>
                  </a:lnTo>
                  <a:lnTo>
                    <a:pt x="1979" y="988"/>
                  </a:lnTo>
                  <a:lnTo>
                    <a:pt x="1980" y="1023"/>
                  </a:lnTo>
                  <a:lnTo>
                    <a:pt x="1979" y="1057"/>
                  </a:lnTo>
                  <a:lnTo>
                    <a:pt x="1975" y="1089"/>
                  </a:lnTo>
                  <a:lnTo>
                    <a:pt x="1968" y="1119"/>
                  </a:lnTo>
                  <a:lnTo>
                    <a:pt x="1959" y="1144"/>
                  </a:lnTo>
                  <a:lnTo>
                    <a:pt x="1948" y="1165"/>
                  </a:lnTo>
                  <a:lnTo>
                    <a:pt x="1935" y="1180"/>
                  </a:lnTo>
                  <a:lnTo>
                    <a:pt x="1922" y="1192"/>
                  </a:lnTo>
                  <a:lnTo>
                    <a:pt x="1907" y="1194"/>
                  </a:lnTo>
                  <a:lnTo>
                    <a:pt x="1899" y="1193"/>
                  </a:lnTo>
                  <a:lnTo>
                    <a:pt x="1891" y="1190"/>
                  </a:lnTo>
                  <a:lnTo>
                    <a:pt x="1884" y="1186"/>
                  </a:lnTo>
                  <a:lnTo>
                    <a:pt x="1877" y="1179"/>
                  </a:lnTo>
                  <a:lnTo>
                    <a:pt x="1876" y="1189"/>
                  </a:lnTo>
                  <a:lnTo>
                    <a:pt x="1876" y="1194"/>
                  </a:lnTo>
                  <a:lnTo>
                    <a:pt x="1876" y="1199"/>
                  </a:lnTo>
                  <a:lnTo>
                    <a:pt x="1876" y="1200"/>
                  </a:lnTo>
                  <a:lnTo>
                    <a:pt x="1878" y="1203"/>
                  </a:lnTo>
                  <a:lnTo>
                    <a:pt x="1884" y="1213"/>
                  </a:lnTo>
                  <a:lnTo>
                    <a:pt x="1891" y="1225"/>
                  </a:lnTo>
                  <a:lnTo>
                    <a:pt x="1899" y="1242"/>
                  </a:lnTo>
                  <a:lnTo>
                    <a:pt x="1906" y="1259"/>
                  </a:lnTo>
                  <a:lnTo>
                    <a:pt x="1909" y="1276"/>
                  </a:lnTo>
                  <a:lnTo>
                    <a:pt x="1908" y="1293"/>
                  </a:lnTo>
                  <a:lnTo>
                    <a:pt x="1902" y="1306"/>
                  </a:lnTo>
                  <a:lnTo>
                    <a:pt x="1895" y="1310"/>
                  </a:lnTo>
                  <a:lnTo>
                    <a:pt x="1884" y="1313"/>
                  </a:lnTo>
                  <a:lnTo>
                    <a:pt x="1869" y="1315"/>
                  </a:lnTo>
                  <a:lnTo>
                    <a:pt x="1851" y="1315"/>
                  </a:lnTo>
                  <a:lnTo>
                    <a:pt x="1832" y="1315"/>
                  </a:lnTo>
                  <a:lnTo>
                    <a:pt x="1810" y="1314"/>
                  </a:lnTo>
                  <a:lnTo>
                    <a:pt x="1789" y="1313"/>
                  </a:lnTo>
                  <a:lnTo>
                    <a:pt x="1766" y="1310"/>
                  </a:lnTo>
                  <a:lnTo>
                    <a:pt x="1764" y="1320"/>
                  </a:lnTo>
                  <a:lnTo>
                    <a:pt x="1763" y="1329"/>
                  </a:lnTo>
                  <a:lnTo>
                    <a:pt x="1761" y="1341"/>
                  </a:lnTo>
                  <a:lnTo>
                    <a:pt x="1758" y="1351"/>
                  </a:lnTo>
                  <a:lnTo>
                    <a:pt x="1740" y="1436"/>
                  </a:lnTo>
                  <a:lnTo>
                    <a:pt x="1729" y="1516"/>
                  </a:lnTo>
                  <a:lnTo>
                    <a:pt x="1723" y="1594"/>
                  </a:lnTo>
                  <a:lnTo>
                    <a:pt x="1721" y="1668"/>
                  </a:lnTo>
                  <a:lnTo>
                    <a:pt x="1723" y="1737"/>
                  </a:lnTo>
                  <a:lnTo>
                    <a:pt x="1727" y="1802"/>
                  </a:lnTo>
                  <a:lnTo>
                    <a:pt x="1732" y="1862"/>
                  </a:lnTo>
                  <a:lnTo>
                    <a:pt x="1738" y="1918"/>
                  </a:lnTo>
                  <a:lnTo>
                    <a:pt x="1740" y="1935"/>
                  </a:lnTo>
                  <a:lnTo>
                    <a:pt x="1743" y="1952"/>
                  </a:lnTo>
                  <a:lnTo>
                    <a:pt x="1745" y="1968"/>
                  </a:lnTo>
                  <a:lnTo>
                    <a:pt x="1748" y="1982"/>
                  </a:lnTo>
                  <a:lnTo>
                    <a:pt x="1750" y="1993"/>
                  </a:lnTo>
                  <a:lnTo>
                    <a:pt x="1754" y="2004"/>
                  </a:lnTo>
                  <a:lnTo>
                    <a:pt x="1756" y="2015"/>
                  </a:lnTo>
                  <a:lnTo>
                    <a:pt x="1758" y="2027"/>
                  </a:lnTo>
                  <a:lnTo>
                    <a:pt x="1767" y="2029"/>
                  </a:lnTo>
                  <a:lnTo>
                    <a:pt x="1776" y="2032"/>
                  </a:lnTo>
                  <a:lnTo>
                    <a:pt x="1784" y="2037"/>
                  </a:lnTo>
                  <a:lnTo>
                    <a:pt x="1792" y="2041"/>
                  </a:lnTo>
                  <a:lnTo>
                    <a:pt x="1798" y="2048"/>
                  </a:lnTo>
                  <a:lnTo>
                    <a:pt x="1802" y="2055"/>
                  </a:lnTo>
                  <a:lnTo>
                    <a:pt x="1806" y="2063"/>
                  </a:lnTo>
                  <a:lnTo>
                    <a:pt x="1808" y="2073"/>
                  </a:lnTo>
                  <a:lnTo>
                    <a:pt x="1809" y="2096"/>
                  </a:lnTo>
                  <a:lnTo>
                    <a:pt x="1808" y="2117"/>
                  </a:lnTo>
                  <a:lnTo>
                    <a:pt x="1803" y="2138"/>
                  </a:lnTo>
                  <a:lnTo>
                    <a:pt x="1798" y="2156"/>
                  </a:lnTo>
                  <a:lnTo>
                    <a:pt x="1811" y="2197"/>
                  </a:lnTo>
                  <a:lnTo>
                    <a:pt x="1823" y="2238"/>
                  </a:lnTo>
                  <a:lnTo>
                    <a:pt x="1829" y="2275"/>
                  </a:lnTo>
                  <a:lnTo>
                    <a:pt x="1832" y="2312"/>
                  </a:lnTo>
                  <a:lnTo>
                    <a:pt x="1826" y="2347"/>
                  </a:lnTo>
                  <a:lnTo>
                    <a:pt x="1812" y="2381"/>
                  </a:lnTo>
                  <a:lnTo>
                    <a:pt x="1788" y="2412"/>
                  </a:lnTo>
                  <a:lnTo>
                    <a:pt x="1752" y="2441"/>
                  </a:lnTo>
                  <a:lnTo>
                    <a:pt x="1734" y="2454"/>
                  </a:lnTo>
                  <a:lnTo>
                    <a:pt x="1717" y="2464"/>
                  </a:lnTo>
                  <a:lnTo>
                    <a:pt x="1701" y="2474"/>
                  </a:lnTo>
                  <a:lnTo>
                    <a:pt x="1685" y="2481"/>
                  </a:lnTo>
                  <a:lnTo>
                    <a:pt x="1669" y="2488"/>
                  </a:lnTo>
                  <a:lnTo>
                    <a:pt x="1652" y="2493"/>
                  </a:lnTo>
                  <a:lnTo>
                    <a:pt x="1634" y="2498"/>
                  </a:lnTo>
                  <a:lnTo>
                    <a:pt x="1615" y="2500"/>
                  </a:lnTo>
                  <a:lnTo>
                    <a:pt x="1588" y="2744"/>
                  </a:lnTo>
                  <a:lnTo>
                    <a:pt x="1599" y="2794"/>
                  </a:lnTo>
                  <a:lnTo>
                    <a:pt x="1564" y="2801"/>
                  </a:lnTo>
                  <a:lnTo>
                    <a:pt x="1562" y="2803"/>
                  </a:lnTo>
                  <a:lnTo>
                    <a:pt x="1559" y="2805"/>
                  </a:lnTo>
                  <a:lnTo>
                    <a:pt x="1553" y="2808"/>
                  </a:lnTo>
                  <a:lnTo>
                    <a:pt x="1545" y="2812"/>
                  </a:lnTo>
                  <a:lnTo>
                    <a:pt x="1535" y="2817"/>
                  </a:lnTo>
                  <a:lnTo>
                    <a:pt x="1523" y="2821"/>
                  </a:lnTo>
                  <a:lnTo>
                    <a:pt x="1507" y="2824"/>
                  </a:lnTo>
                  <a:lnTo>
                    <a:pt x="1489" y="2827"/>
                  </a:lnTo>
                  <a:lnTo>
                    <a:pt x="1467" y="2827"/>
                  </a:lnTo>
                  <a:lnTo>
                    <a:pt x="1443" y="2824"/>
                  </a:lnTo>
                  <a:lnTo>
                    <a:pt x="1413" y="2820"/>
                  </a:lnTo>
                  <a:lnTo>
                    <a:pt x="1382" y="2811"/>
                  </a:lnTo>
                  <a:lnTo>
                    <a:pt x="1346" y="2800"/>
                  </a:lnTo>
                  <a:lnTo>
                    <a:pt x="1305" y="2784"/>
                  </a:lnTo>
                  <a:lnTo>
                    <a:pt x="1261" y="2765"/>
                  </a:lnTo>
                  <a:lnTo>
                    <a:pt x="1212" y="2739"/>
                  </a:lnTo>
                  <a:lnTo>
                    <a:pt x="1157" y="2710"/>
                  </a:lnTo>
                  <a:lnTo>
                    <a:pt x="1108" y="2683"/>
                  </a:lnTo>
                  <a:lnTo>
                    <a:pt x="1063" y="2658"/>
                  </a:lnTo>
                  <a:lnTo>
                    <a:pt x="1022" y="2634"/>
                  </a:lnTo>
                  <a:lnTo>
                    <a:pt x="985" y="2611"/>
                  </a:lnTo>
                  <a:lnTo>
                    <a:pt x="952" y="2592"/>
                  </a:lnTo>
                  <a:lnTo>
                    <a:pt x="923" y="2574"/>
                  </a:lnTo>
                  <a:lnTo>
                    <a:pt x="897" y="2558"/>
                  </a:lnTo>
                  <a:lnTo>
                    <a:pt x="874" y="2543"/>
                  </a:lnTo>
                  <a:lnTo>
                    <a:pt x="855" y="2530"/>
                  </a:lnTo>
                  <a:lnTo>
                    <a:pt x="840" y="2519"/>
                  </a:lnTo>
                  <a:lnTo>
                    <a:pt x="827" y="2510"/>
                  </a:lnTo>
                  <a:lnTo>
                    <a:pt x="817" y="2502"/>
                  </a:lnTo>
                  <a:lnTo>
                    <a:pt x="809" y="2496"/>
                  </a:lnTo>
                  <a:lnTo>
                    <a:pt x="805" y="2493"/>
                  </a:lnTo>
                  <a:lnTo>
                    <a:pt x="802" y="2491"/>
                  </a:lnTo>
                  <a:lnTo>
                    <a:pt x="697" y="2126"/>
                  </a:lnTo>
                  <a:lnTo>
                    <a:pt x="695" y="2134"/>
                  </a:lnTo>
                  <a:lnTo>
                    <a:pt x="692" y="2142"/>
                  </a:lnTo>
                  <a:lnTo>
                    <a:pt x="688" y="2150"/>
                  </a:lnTo>
                  <a:lnTo>
                    <a:pt x="684" y="2160"/>
                  </a:lnTo>
                  <a:lnTo>
                    <a:pt x="679" y="2169"/>
                  </a:lnTo>
                  <a:lnTo>
                    <a:pt x="675" y="2177"/>
                  </a:lnTo>
                  <a:lnTo>
                    <a:pt x="669" y="2186"/>
                  </a:lnTo>
                  <a:lnTo>
                    <a:pt x="663" y="2194"/>
                  </a:lnTo>
                  <a:lnTo>
                    <a:pt x="650" y="2209"/>
                  </a:lnTo>
                  <a:lnTo>
                    <a:pt x="635" y="2228"/>
                  </a:lnTo>
                  <a:lnTo>
                    <a:pt x="620" y="2247"/>
                  </a:lnTo>
                  <a:lnTo>
                    <a:pt x="604" y="2264"/>
                  </a:lnTo>
                  <a:lnTo>
                    <a:pt x="589" y="2281"/>
                  </a:lnTo>
                  <a:lnTo>
                    <a:pt x="577" y="2294"/>
                  </a:lnTo>
                  <a:lnTo>
                    <a:pt x="566" y="2304"/>
                  </a:lnTo>
                  <a:lnTo>
                    <a:pt x="558" y="2306"/>
                  </a:lnTo>
                  <a:lnTo>
                    <a:pt x="550" y="2306"/>
                  </a:lnTo>
                  <a:lnTo>
                    <a:pt x="540" y="2306"/>
                  </a:lnTo>
                  <a:lnTo>
                    <a:pt x="527" y="2306"/>
                  </a:lnTo>
                  <a:lnTo>
                    <a:pt x="515" y="2306"/>
                  </a:lnTo>
                  <a:lnTo>
                    <a:pt x="504" y="2306"/>
                  </a:lnTo>
                  <a:lnTo>
                    <a:pt x="493" y="2306"/>
                  </a:lnTo>
                  <a:lnTo>
                    <a:pt x="487" y="2306"/>
                  </a:lnTo>
                  <a:lnTo>
                    <a:pt x="484" y="2306"/>
                  </a:lnTo>
                  <a:lnTo>
                    <a:pt x="479" y="2228"/>
                  </a:lnTo>
                  <a:lnTo>
                    <a:pt x="458" y="2280"/>
                  </a:lnTo>
                  <a:lnTo>
                    <a:pt x="431" y="2273"/>
                  </a:lnTo>
                  <a:lnTo>
                    <a:pt x="431" y="2228"/>
                  </a:lnTo>
                  <a:lnTo>
                    <a:pt x="427" y="2228"/>
                  </a:lnTo>
                  <a:lnTo>
                    <a:pt x="413" y="2229"/>
                  </a:lnTo>
                  <a:lnTo>
                    <a:pt x="394" y="2228"/>
                  </a:lnTo>
                  <a:lnTo>
                    <a:pt x="372" y="2225"/>
                  </a:lnTo>
                  <a:lnTo>
                    <a:pt x="348" y="2219"/>
                  </a:lnTo>
                  <a:lnTo>
                    <a:pt x="325" y="2208"/>
                  </a:lnTo>
                  <a:lnTo>
                    <a:pt x="307" y="2191"/>
                  </a:lnTo>
                  <a:lnTo>
                    <a:pt x="295" y="2169"/>
                  </a:lnTo>
                  <a:lnTo>
                    <a:pt x="286" y="2136"/>
                  </a:lnTo>
                  <a:lnTo>
                    <a:pt x="277" y="2097"/>
                  </a:lnTo>
                  <a:lnTo>
                    <a:pt x="268" y="2051"/>
                  </a:lnTo>
                  <a:lnTo>
                    <a:pt x="263" y="2001"/>
                  </a:lnTo>
                  <a:lnTo>
                    <a:pt x="262" y="1952"/>
                  </a:lnTo>
                  <a:lnTo>
                    <a:pt x="269" y="1903"/>
                  </a:lnTo>
                  <a:lnTo>
                    <a:pt x="285" y="1859"/>
                  </a:lnTo>
                  <a:lnTo>
                    <a:pt x="311" y="1821"/>
                  </a:lnTo>
                  <a:lnTo>
                    <a:pt x="322" y="1810"/>
                  </a:lnTo>
                  <a:lnTo>
                    <a:pt x="334" y="1802"/>
                  </a:lnTo>
                  <a:lnTo>
                    <a:pt x="347" y="1793"/>
                  </a:lnTo>
                  <a:lnTo>
                    <a:pt x="359" y="1786"/>
                  </a:lnTo>
                  <a:lnTo>
                    <a:pt x="372" y="1779"/>
                  </a:lnTo>
                  <a:lnTo>
                    <a:pt x="385" y="1774"/>
                  </a:lnTo>
                  <a:lnTo>
                    <a:pt x="399" y="1769"/>
                  </a:lnTo>
                  <a:lnTo>
                    <a:pt x="412" y="1767"/>
                  </a:lnTo>
                  <a:lnTo>
                    <a:pt x="425" y="1764"/>
                  </a:lnTo>
                  <a:lnTo>
                    <a:pt x="438" y="1761"/>
                  </a:lnTo>
                  <a:lnTo>
                    <a:pt x="451" y="1760"/>
                  </a:lnTo>
                  <a:lnTo>
                    <a:pt x="463" y="1758"/>
                  </a:lnTo>
                  <a:lnTo>
                    <a:pt x="475" y="1758"/>
                  </a:lnTo>
                  <a:lnTo>
                    <a:pt x="487" y="1758"/>
                  </a:lnTo>
                  <a:lnTo>
                    <a:pt x="497" y="1758"/>
                  </a:lnTo>
                  <a:lnTo>
                    <a:pt x="507" y="1758"/>
                  </a:lnTo>
                  <a:lnTo>
                    <a:pt x="500" y="1755"/>
                  </a:lnTo>
                  <a:lnTo>
                    <a:pt x="491" y="1753"/>
                  </a:lnTo>
                  <a:lnTo>
                    <a:pt x="483" y="1750"/>
                  </a:lnTo>
                  <a:lnTo>
                    <a:pt x="473" y="1746"/>
                  </a:lnTo>
                  <a:lnTo>
                    <a:pt x="464" y="1741"/>
                  </a:lnTo>
                  <a:lnTo>
                    <a:pt x="453" y="1737"/>
                  </a:lnTo>
                  <a:lnTo>
                    <a:pt x="442" y="1731"/>
                  </a:lnTo>
                  <a:lnTo>
                    <a:pt x="429" y="1724"/>
                  </a:lnTo>
                  <a:lnTo>
                    <a:pt x="417" y="1717"/>
                  </a:lnTo>
                  <a:lnTo>
                    <a:pt x="402" y="1709"/>
                  </a:lnTo>
                  <a:lnTo>
                    <a:pt x="389" y="1701"/>
                  </a:lnTo>
                  <a:lnTo>
                    <a:pt x="373" y="1691"/>
                  </a:lnTo>
                  <a:lnTo>
                    <a:pt x="357" y="1679"/>
                  </a:lnTo>
                  <a:lnTo>
                    <a:pt x="340" y="1667"/>
                  </a:lnTo>
                  <a:lnTo>
                    <a:pt x="322" y="1654"/>
                  </a:lnTo>
                  <a:lnTo>
                    <a:pt x="304" y="1640"/>
                  </a:lnTo>
                  <a:lnTo>
                    <a:pt x="294" y="1632"/>
                  </a:lnTo>
                  <a:lnTo>
                    <a:pt x="285" y="1625"/>
                  </a:lnTo>
                  <a:lnTo>
                    <a:pt x="276" y="1616"/>
                  </a:lnTo>
                  <a:lnTo>
                    <a:pt x="268" y="1609"/>
                  </a:lnTo>
                  <a:lnTo>
                    <a:pt x="261" y="1601"/>
                  </a:lnTo>
                  <a:lnTo>
                    <a:pt x="253" y="1594"/>
                  </a:lnTo>
                  <a:lnTo>
                    <a:pt x="247" y="1587"/>
                  </a:lnTo>
                  <a:lnTo>
                    <a:pt x="241" y="1580"/>
                  </a:lnTo>
                  <a:lnTo>
                    <a:pt x="231" y="1580"/>
                  </a:lnTo>
                  <a:lnTo>
                    <a:pt x="227" y="1571"/>
                  </a:lnTo>
                  <a:lnTo>
                    <a:pt x="224" y="1563"/>
                  </a:lnTo>
                  <a:lnTo>
                    <a:pt x="219" y="1554"/>
                  </a:lnTo>
                  <a:lnTo>
                    <a:pt x="216" y="1544"/>
                  </a:lnTo>
                  <a:lnTo>
                    <a:pt x="212" y="1536"/>
                  </a:lnTo>
                  <a:lnTo>
                    <a:pt x="208" y="1528"/>
                  </a:lnTo>
                  <a:lnTo>
                    <a:pt x="205" y="1519"/>
                  </a:lnTo>
                  <a:lnTo>
                    <a:pt x="204" y="1512"/>
                  </a:lnTo>
                  <a:lnTo>
                    <a:pt x="157" y="1452"/>
                  </a:lnTo>
                  <a:lnTo>
                    <a:pt x="118" y="1384"/>
                  </a:lnTo>
                  <a:lnTo>
                    <a:pt x="84" y="1314"/>
                  </a:lnTo>
                  <a:lnTo>
                    <a:pt x="57" y="1238"/>
                  </a:lnTo>
                  <a:lnTo>
                    <a:pt x="35" y="1159"/>
                  </a:lnTo>
                  <a:lnTo>
                    <a:pt x="19" y="1078"/>
                  </a:lnTo>
                  <a:lnTo>
                    <a:pt x="8" y="993"/>
                  </a:lnTo>
                  <a:lnTo>
                    <a:pt x="2" y="909"/>
                  </a:lnTo>
                  <a:lnTo>
                    <a:pt x="0" y="825"/>
                  </a:lnTo>
                  <a:lnTo>
                    <a:pt x="3" y="740"/>
                  </a:lnTo>
                  <a:lnTo>
                    <a:pt x="11" y="657"/>
                  </a:lnTo>
                  <a:lnTo>
                    <a:pt x="22" y="577"/>
                  </a:lnTo>
                  <a:lnTo>
                    <a:pt x="38" y="499"/>
                  </a:lnTo>
                  <a:lnTo>
                    <a:pt x="58" y="426"/>
                  </a:lnTo>
                  <a:lnTo>
                    <a:pt x="81" y="355"/>
                  </a:lnTo>
                  <a:lnTo>
                    <a:pt x="107" y="291"/>
                  </a:lnTo>
                  <a:lnTo>
                    <a:pt x="123" y="261"/>
                  </a:lnTo>
                  <a:lnTo>
                    <a:pt x="143" y="229"/>
                  </a:lnTo>
                  <a:lnTo>
                    <a:pt x="169" y="198"/>
                  </a:lnTo>
                  <a:lnTo>
                    <a:pt x="199" y="167"/>
                  </a:lnTo>
                  <a:lnTo>
                    <a:pt x="233" y="136"/>
                  </a:lnTo>
                  <a:lnTo>
                    <a:pt x="271" y="108"/>
                  </a:lnTo>
                  <a:lnTo>
                    <a:pt x="314" y="81"/>
                  </a:lnTo>
                  <a:lnTo>
                    <a:pt x="359" y="57"/>
                  </a:lnTo>
                  <a:lnTo>
                    <a:pt x="409" y="36"/>
                  </a:lnTo>
                  <a:lnTo>
                    <a:pt x="461" y="21"/>
                  </a:lnTo>
                  <a:lnTo>
                    <a:pt x="515" y="8"/>
                  </a:lnTo>
                  <a:lnTo>
                    <a:pt x="571" y="1"/>
                  </a:lnTo>
                  <a:lnTo>
                    <a:pt x="631" y="0"/>
                  </a:lnTo>
                  <a:lnTo>
                    <a:pt x="692" y="5"/>
                  </a:lnTo>
                  <a:lnTo>
                    <a:pt x="754" y="16"/>
                  </a:lnTo>
                  <a:lnTo>
                    <a:pt x="818" y="36"/>
                  </a:lnTo>
                  <a:lnTo>
                    <a:pt x="837" y="43"/>
                  </a:lnTo>
                  <a:lnTo>
                    <a:pt x="855" y="50"/>
                  </a:lnTo>
                  <a:lnTo>
                    <a:pt x="873" y="57"/>
                  </a:lnTo>
                  <a:lnTo>
                    <a:pt x="893" y="64"/>
                  </a:lnTo>
                  <a:lnTo>
                    <a:pt x="909" y="73"/>
                  </a:lnTo>
                  <a:lnTo>
                    <a:pt x="927" y="80"/>
                  </a:lnTo>
                  <a:lnTo>
                    <a:pt x="944" y="88"/>
                  </a:lnTo>
                  <a:lnTo>
                    <a:pt x="961" y="95"/>
                  </a:lnTo>
                  <a:lnTo>
                    <a:pt x="978" y="104"/>
                  </a:lnTo>
                  <a:lnTo>
                    <a:pt x="995" y="112"/>
                  </a:lnTo>
                  <a:lnTo>
                    <a:pt x="1011" y="120"/>
                  </a:lnTo>
                  <a:lnTo>
                    <a:pt x="1028" y="127"/>
                  </a:lnTo>
                  <a:lnTo>
                    <a:pt x="1044" y="136"/>
                  </a:lnTo>
                  <a:lnTo>
                    <a:pt x="1059" y="144"/>
                  </a:lnTo>
                  <a:lnTo>
                    <a:pt x="1074" y="151"/>
                  </a:lnTo>
                  <a:lnTo>
                    <a:pt x="1090" y="160"/>
                  </a:lnTo>
                  <a:lnTo>
                    <a:pt x="1102" y="147"/>
                  </a:lnTo>
                  <a:lnTo>
                    <a:pt x="1116" y="136"/>
                  </a:lnTo>
                  <a:lnTo>
                    <a:pt x="1129" y="126"/>
                  </a:lnTo>
                  <a:lnTo>
                    <a:pt x="1144" y="116"/>
                  </a:lnTo>
                  <a:lnTo>
                    <a:pt x="1160" y="109"/>
                  </a:lnTo>
                  <a:lnTo>
                    <a:pt x="1177" y="102"/>
                  </a:lnTo>
                  <a:lnTo>
                    <a:pt x="1194" y="97"/>
                  </a:lnTo>
                  <a:lnTo>
                    <a:pt x="1212" y="94"/>
                  </a:lnTo>
                  <a:lnTo>
                    <a:pt x="1244" y="91"/>
                  </a:lnTo>
                  <a:lnTo>
                    <a:pt x="1267" y="95"/>
                  </a:lnTo>
                  <a:lnTo>
                    <a:pt x="1283" y="101"/>
                  </a:lnTo>
                  <a:lnTo>
                    <a:pt x="1292" y="111"/>
                  </a:lnTo>
                  <a:lnTo>
                    <a:pt x="1297" y="120"/>
                  </a:lnTo>
                  <a:lnTo>
                    <a:pt x="1298" y="130"/>
                  </a:lnTo>
                  <a:lnTo>
                    <a:pt x="1300" y="137"/>
                  </a:lnTo>
                  <a:lnTo>
                    <a:pt x="1300" y="142"/>
                  </a:lnTo>
                  <a:lnTo>
                    <a:pt x="1297" y="143"/>
                  </a:lnTo>
                  <a:lnTo>
                    <a:pt x="1302" y="142"/>
                  </a:lnTo>
                  <a:lnTo>
                    <a:pt x="1306" y="140"/>
                  </a:lnTo>
                  <a:lnTo>
                    <a:pt x="1312" y="139"/>
                  </a:lnTo>
                  <a:lnTo>
                    <a:pt x="1316" y="137"/>
                  </a:lnTo>
                  <a:lnTo>
                    <a:pt x="1322" y="136"/>
                  </a:lnTo>
                  <a:lnTo>
                    <a:pt x="1327" y="135"/>
                  </a:lnTo>
                  <a:lnTo>
                    <a:pt x="1332" y="133"/>
                  </a:lnTo>
                  <a:lnTo>
                    <a:pt x="1338" y="133"/>
                  </a:lnTo>
                  <a:lnTo>
                    <a:pt x="1373" y="133"/>
                  </a:lnTo>
                  <a:lnTo>
                    <a:pt x="1404" y="144"/>
                  </a:lnTo>
                  <a:lnTo>
                    <a:pt x="1430" y="161"/>
                  </a:lnTo>
                  <a:lnTo>
                    <a:pt x="1453" y="184"/>
                  </a:lnTo>
                  <a:lnTo>
                    <a:pt x="1470" y="206"/>
                  </a:lnTo>
                  <a:lnTo>
                    <a:pt x="1483" y="226"/>
                  </a:lnTo>
                  <a:lnTo>
                    <a:pt x="1491" y="241"/>
                  </a:lnTo>
                  <a:lnTo>
                    <a:pt x="1495" y="248"/>
                  </a:lnTo>
                  <a:lnTo>
                    <a:pt x="1467" y="267"/>
                  </a:lnTo>
                  <a:lnTo>
                    <a:pt x="1464" y="261"/>
                  </a:lnTo>
                  <a:lnTo>
                    <a:pt x="1454" y="248"/>
                  </a:lnTo>
                  <a:lnTo>
                    <a:pt x="1439" y="229"/>
                  </a:lnTo>
                  <a:lnTo>
                    <a:pt x="1419" y="209"/>
                  </a:lnTo>
                  <a:lnTo>
                    <a:pt x="1396" y="188"/>
                  </a:lnTo>
                  <a:lnTo>
                    <a:pt x="1371" y="171"/>
                  </a:lnTo>
                  <a:lnTo>
                    <a:pt x="1342" y="161"/>
                  </a:lnTo>
                  <a:lnTo>
                    <a:pt x="1313" y="160"/>
                  </a:lnTo>
                  <a:lnTo>
                    <a:pt x="1306" y="161"/>
                  </a:lnTo>
                  <a:lnTo>
                    <a:pt x="1298" y="163"/>
                  </a:lnTo>
                  <a:lnTo>
                    <a:pt x="1292" y="164"/>
                  </a:lnTo>
                  <a:lnTo>
                    <a:pt x="1284" y="167"/>
                  </a:lnTo>
                  <a:lnTo>
                    <a:pt x="1276" y="170"/>
                  </a:lnTo>
                  <a:lnTo>
                    <a:pt x="1269" y="172"/>
                  </a:lnTo>
                  <a:lnTo>
                    <a:pt x="1262" y="177"/>
                  </a:lnTo>
                  <a:lnTo>
                    <a:pt x="1257" y="180"/>
                  </a:lnTo>
                  <a:lnTo>
                    <a:pt x="1257" y="168"/>
                  </a:lnTo>
                  <a:lnTo>
                    <a:pt x="1280" y="150"/>
                  </a:lnTo>
                  <a:lnTo>
                    <a:pt x="1279" y="147"/>
                  </a:lnTo>
                  <a:lnTo>
                    <a:pt x="1277" y="143"/>
                  </a:lnTo>
                  <a:lnTo>
                    <a:pt x="1272" y="135"/>
                  </a:lnTo>
                  <a:lnTo>
                    <a:pt x="1266" y="126"/>
                  </a:lnTo>
                  <a:lnTo>
                    <a:pt x="1256" y="119"/>
                  </a:lnTo>
                  <a:lnTo>
                    <a:pt x="1242" y="113"/>
                  </a:lnTo>
                  <a:lnTo>
                    <a:pt x="1225" y="112"/>
                  </a:lnTo>
                  <a:lnTo>
                    <a:pt x="1204" y="115"/>
                  </a:lnTo>
                  <a:lnTo>
                    <a:pt x="1182" y="122"/>
                  </a:lnTo>
                  <a:lnTo>
                    <a:pt x="1163" y="132"/>
                  </a:lnTo>
                  <a:lnTo>
                    <a:pt x="1148" y="142"/>
                  </a:lnTo>
                  <a:lnTo>
                    <a:pt x="1135" y="150"/>
                  </a:lnTo>
                  <a:lnTo>
                    <a:pt x="1126" y="160"/>
                  </a:lnTo>
                  <a:lnTo>
                    <a:pt x="1119" y="167"/>
                  </a:lnTo>
                  <a:lnTo>
                    <a:pt x="1115" y="172"/>
                  </a:lnTo>
                  <a:lnTo>
                    <a:pt x="1113" y="174"/>
                  </a:lnTo>
                  <a:lnTo>
                    <a:pt x="1191" y="215"/>
                  </a:lnTo>
                  <a:lnTo>
                    <a:pt x="1192" y="213"/>
                  </a:lnTo>
                  <a:lnTo>
                    <a:pt x="1196" y="209"/>
                  </a:lnTo>
                  <a:lnTo>
                    <a:pt x="1201" y="205"/>
                  </a:lnTo>
                  <a:lnTo>
                    <a:pt x="1207" y="198"/>
                  </a:lnTo>
                  <a:lnTo>
                    <a:pt x="1214" y="192"/>
                  </a:lnTo>
                  <a:lnTo>
                    <a:pt x="1221" y="187"/>
                  </a:lnTo>
                  <a:lnTo>
                    <a:pt x="1227" y="181"/>
                  </a:lnTo>
                  <a:lnTo>
                    <a:pt x="1232" y="178"/>
                  </a:lnTo>
                  <a:lnTo>
                    <a:pt x="1241" y="174"/>
                  </a:lnTo>
                  <a:lnTo>
                    <a:pt x="1249" y="171"/>
                  </a:lnTo>
                  <a:lnTo>
                    <a:pt x="1254" y="168"/>
                  </a:lnTo>
                  <a:lnTo>
                    <a:pt x="1257" y="168"/>
                  </a:lnTo>
                  <a:lnTo>
                    <a:pt x="1257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57360" y="5211720"/>
              <a:ext cx="4680" cy="144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5" y="22"/>
                  </a:moveTo>
                  <a:lnTo>
                    <a:pt x="4" y="20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7" y="0"/>
                  </a:lnTo>
                  <a:lnTo>
                    <a:pt x="6" y="6"/>
                  </a:lnTo>
                  <a:lnTo>
                    <a:pt x="6" y="11"/>
                  </a:lnTo>
                  <a:lnTo>
                    <a:pt x="5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27120" y="5186520"/>
              <a:ext cx="14400" cy="158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4" y="19"/>
                  </a:lnTo>
                  <a:lnTo>
                    <a:pt x="9" y="12"/>
                  </a:lnTo>
                  <a:lnTo>
                    <a:pt x="5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11" y="12"/>
                  </a:lnTo>
                  <a:lnTo>
                    <a:pt x="14" y="17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2040" y="4741920"/>
              <a:ext cx="1173240" cy="1614600"/>
            </a:xfrm>
            <a:custGeom>
              <a:avLst/>
              <a:gdLst/>
              <a:ahLst/>
              <a:rect l="l" t="t" r="r" b="b"/>
              <a:pathLst>
                <a:path w="1390" h="2451">
                  <a:moveTo>
                    <a:pt x="1260" y="1034"/>
                  </a:moveTo>
                  <a:lnTo>
                    <a:pt x="1237" y="1033"/>
                  </a:lnTo>
                  <a:lnTo>
                    <a:pt x="1236" y="1034"/>
                  </a:lnTo>
                  <a:lnTo>
                    <a:pt x="1236" y="1034"/>
                  </a:lnTo>
                  <a:lnTo>
                    <a:pt x="1236" y="1034"/>
                  </a:lnTo>
                  <a:lnTo>
                    <a:pt x="1236" y="1036"/>
                  </a:lnTo>
                  <a:lnTo>
                    <a:pt x="1228" y="1036"/>
                  </a:lnTo>
                  <a:lnTo>
                    <a:pt x="1220" y="1036"/>
                  </a:lnTo>
                  <a:lnTo>
                    <a:pt x="1213" y="1036"/>
                  </a:lnTo>
                  <a:lnTo>
                    <a:pt x="1208" y="1036"/>
                  </a:lnTo>
                  <a:lnTo>
                    <a:pt x="1203" y="1036"/>
                  </a:lnTo>
                  <a:lnTo>
                    <a:pt x="1200" y="1036"/>
                  </a:lnTo>
                  <a:lnTo>
                    <a:pt x="1198" y="1036"/>
                  </a:lnTo>
                  <a:lnTo>
                    <a:pt x="1196" y="1036"/>
                  </a:lnTo>
                  <a:lnTo>
                    <a:pt x="1198" y="1036"/>
                  </a:lnTo>
                  <a:lnTo>
                    <a:pt x="1200" y="1036"/>
                  </a:lnTo>
                  <a:lnTo>
                    <a:pt x="1203" y="1037"/>
                  </a:lnTo>
                  <a:lnTo>
                    <a:pt x="1208" y="1037"/>
                  </a:lnTo>
                  <a:lnTo>
                    <a:pt x="1213" y="1039"/>
                  </a:lnTo>
                  <a:lnTo>
                    <a:pt x="1220" y="1040"/>
                  </a:lnTo>
                  <a:lnTo>
                    <a:pt x="1227" y="1040"/>
                  </a:lnTo>
                  <a:lnTo>
                    <a:pt x="1236" y="1041"/>
                  </a:lnTo>
                  <a:lnTo>
                    <a:pt x="1235" y="1051"/>
                  </a:lnTo>
                  <a:lnTo>
                    <a:pt x="1235" y="1063"/>
                  </a:lnTo>
                  <a:lnTo>
                    <a:pt x="1234" y="1072"/>
                  </a:lnTo>
                  <a:lnTo>
                    <a:pt x="1233" y="1084"/>
                  </a:lnTo>
                  <a:lnTo>
                    <a:pt x="1225" y="1178"/>
                  </a:lnTo>
                  <a:lnTo>
                    <a:pt x="1218" y="1272"/>
                  </a:lnTo>
                  <a:lnTo>
                    <a:pt x="1211" y="1365"/>
                  </a:lnTo>
                  <a:lnTo>
                    <a:pt x="1208" y="1455"/>
                  </a:lnTo>
                  <a:lnTo>
                    <a:pt x="1206" y="1539"/>
                  </a:lnTo>
                  <a:lnTo>
                    <a:pt x="1208" y="1618"/>
                  </a:lnTo>
                  <a:lnTo>
                    <a:pt x="1213" y="1690"/>
                  </a:lnTo>
                  <a:lnTo>
                    <a:pt x="1224" y="1751"/>
                  </a:lnTo>
                  <a:lnTo>
                    <a:pt x="1225" y="1753"/>
                  </a:lnTo>
                  <a:lnTo>
                    <a:pt x="1225" y="1756"/>
                  </a:lnTo>
                  <a:lnTo>
                    <a:pt x="1226" y="1757"/>
                  </a:lnTo>
                  <a:lnTo>
                    <a:pt x="1226" y="1760"/>
                  </a:lnTo>
                  <a:lnTo>
                    <a:pt x="1210" y="1757"/>
                  </a:lnTo>
                  <a:lnTo>
                    <a:pt x="1193" y="1756"/>
                  </a:lnTo>
                  <a:lnTo>
                    <a:pt x="1177" y="1753"/>
                  </a:lnTo>
                  <a:lnTo>
                    <a:pt x="1163" y="1751"/>
                  </a:lnTo>
                  <a:lnTo>
                    <a:pt x="1148" y="1751"/>
                  </a:lnTo>
                  <a:lnTo>
                    <a:pt x="1136" y="1750"/>
                  </a:lnTo>
                  <a:lnTo>
                    <a:pt x="1124" y="1751"/>
                  </a:lnTo>
                  <a:lnTo>
                    <a:pt x="1116" y="1753"/>
                  </a:lnTo>
                  <a:lnTo>
                    <a:pt x="1104" y="1756"/>
                  </a:lnTo>
                  <a:lnTo>
                    <a:pt x="1096" y="1757"/>
                  </a:lnTo>
                  <a:lnTo>
                    <a:pt x="1089" y="1758"/>
                  </a:lnTo>
                  <a:lnTo>
                    <a:pt x="1085" y="1758"/>
                  </a:lnTo>
                  <a:lnTo>
                    <a:pt x="1083" y="1758"/>
                  </a:lnTo>
                  <a:lnTo>
                    <a:pt x="1082" y="1758"/>
                  </a:lnTo>
                  <a:lnTo>
                    <a:pt x="1080" y="1757"/>
                  </a:lnTo>
                  <a:lnTo>
                    <a:pt x="1080" y="1757"/>
                  </a:lnTo>
                  <a:lnTo>
                    <a:pt x="1086" y="1742"/>
                  </a:lnTo>
                  <a:lnTo>
                    <a:pt x="1098" y="1701"/>
                  </a:lnTo>
                  <a:lnTo>
                    <a:pt x="1115" y="1643"/>
                  </a:lnTo>
                  <a:lnTo>
                    <a:pt x="1133" y="1577"/>
                  </a:lnTo>
                  <a:lnTo>
                    <a:pt x="1147" y="1512"/>
                  </a:lnTo>
                  <a:lnTo>
                    <a:pt x="1155" y="1458"/>
                  </a:lnTo>
                  <a:lnTo>
                    <a:pt x="1153" y="1420"/>
                  </a:lnTo>
                  <a:lnTo>
                    <a:pt x="1136" y="1408"/>
                  </a:lnTo>
                  <a:lnTo>
                    <a:pt x="1131" y="1415"/>
                  </a:lnTo>
                  <a:lnTo>
                    <a:pt x="1120" y="1432"/>
                  </a:lnTo>
                  <a:lnTo>
                    <a:pt x="1102" y="1460"/>
                  </a:lnTo>
                  <a:lnTo>
                    <a:pt x="1078" y="1497"/>
                  </a:lnTo>
                  <a:lnTo>
                    <a:pt x="1051" y="1541"/>
                  </a:lnTo>
                  <a:lnTo>
                    <a:pt x="1022" y="1590"/>
                  </a:lnTo>
                  <a:lnTo>
                    <a:pt x="990" y="1640"/>
                  </a:lnTo>
                  <a:lnTo>
                    <a:pt x="960" y="1694"/>
                  </a:lnTo>
                  <a:lnTo>
                    <a:pt x="929" y="1747"/>
                  </a:lnTo>
                  <a:lnTo>
                    <a:pt x="901" y="1799"/>
                  </a:lnTo>
                  <a:lnTo>
                    <a:pt x="876" y="1848"/>
                  </a:lnTo>
                  <a:lnTo>
                    <a:pt x="856" y="1892"/>
                  </a:lnTo>
                  <a:lnTo>
                    <a:pt x="842" y="1929"/>
                  </a:lnTo>
                  <a:lnTo>
                    <a:pt x="836" y="1958"/>
                  </a:lnTo>
                  <a:lnTo>
                    <a:pt x="837" y="1976"/>
                  </a:lnTo>
                  <a:lnTo>
                    <a:pt x="848" y="1983"/>
                  </a:lnTo>
                  <a:lnTo>
                    <a:pt x="865" y="1982"/>
                  </a:lnTo>
                  <a:lnTo>
                    <a:pt x="883" y="1978"/>
                  </a:lnTo>
                  <a:lnTo>
                    <a:pt x="902" y="1969"/>
                  </a:lnTo>
                  <a:lnTo>
                    <a:pt x="923" y="1959"/>
                  </a:lnTo>
                  <a:lnTo>
                    <a:pt x="944" y="1947"/>
                  </a:lnTo>
                  <a:lnTo>
                    <a:pt x="967" y="1931"/>
                  </a:lnTo>
                  <a:lnTo>
                    <a:pt x="988" y="1916"/>
                  </a:lnTo>
                  <a:lnTo>
                    <a:pt x="1012" y="1899"/>
                  </a:lnTo>
                  <a:lnTo>
                    <a:pt x="1034" y="1882"/>
                  </a:lnTo>
                  <a:lnTo>
                    <a:pt x="1057" y="1865"/>
                  </a:lnTo>
                  <a:lnTo>
                    <a:pt x="1080" y="1848"/>
                  </a:lnTo>
                  <a:lnTo>
                    <a:pt x="1103" y="1833"/>
                  </a:lnTo>
                  <a:lnTo>
                    <a:pt x="1125" y="1820"/>
                  </a:lnTo>
                  <a:lnTo>
                    <a:pt x="1147" y="1809"/>
                  </a:lnTo>
                  <a:lnTo>
                    <a:pt x="1168" y="1801"/>
                  </a:lnTo>
                  <a:lnTo>
                    <a:pt x="1189" y="1795"/>
                  </a:lnTo>
                  <a:lnTo>
                    <a:pt x="1200" y="1794"/>
                  </a:lnTo>
                  <a:lnTo>
                    <a:pt x="1210" y="1791"/>
                  </a:lnTo>
                  <a:lnTo>
                    <a:pt x="1220" y="1789"/>
                  </a:lnTo>
                  <a:lnTo>
                    <a:pt x="1229" y="1788"/>
                  </a:lnTo>
                  <a:lnTo>
                    <a:pt x="1237" y="1785"/>
                  </a:lnTo>
                  <a:lnTo>
                    <a:pt x="1245" y="1784"/>
                  </a:lnTo>
                  <a:lnTo>
                    <a:pt x="1252" y="1782"/>
                  </a:lnTo>
                  <a:lnTo>
                    <a:pt x="1257" y="1781"/>
                  </a:lnTo>
                  <a:lnTo>
                    <a:pt x="1265" y="1782"/>
                  </a:lnTo>
                  <a:lnTo>
                    <a:pt x="1274" y="1785"/>
                  </a:lnTo>
                  <a:lnTo>
                    <a:pt x="1282" y="1787"/>
                  </a:lnTo>
                  <a:lnTo>
                    <a:pt x="1290" y="1789"/>
                  </a:lnTo>
                  <a:lnTo>
                    <a:pt x="1297" y="1799"/>
                  </a:lnTo>
                  <a:lnTo>
                    <a:pt x="1302" y="1810"/>
                  </a:lnTo>
                  <a:lnTo>
                    <a:pt x="1306" y="1824"/>
                  </a:lnTo>
                  <a:lnTo>
                    <a:pt x="1305" y="1841"/>
                  </a:lnTo>
                  <a:lnTo>
                    <a:pt x="1302" y="1862"/>
                  </a:lnTo>
                  <a:lnTo>
                    <a:pt x="1299" y="1878"/>
                  </a:lnTo>
                  <a:lnTo>
                    <a:pt x="1296" y="1889"/>
                  </a:lnTo>
                  <a:lnTo>
                    <a:pt x="1290" y="1895"/>
                  </a:lnTo>
                  <a:lnTo>
                    <a:pt x="1282" y="1896"/>
                  </a:lnTo>
                  <a:lnTo>
                    <a:pt x="1270" y="1893"/>
                  </a:lnTo>
                  <a:lnTo>
                    <a:pt x="1254" y="1889"/>
                  </a:lnTo>
                  <a:lnTo>
                    <a:pt x="1234" y="1881"/>
                  </a:lnTo>
                  <a:lnTo>
                    <a:pt x="1210" y="1875"/>
                  </a:lnTo>
                  <a:lnTo>
                    <a:pt x="1186" y="1877"/>
                  </a:lnTo>
                  <a:lnTo>
                    <a:pt x="1163" y="1882"/>
                  </a:lnTo>
                  <a:lnTo>
                    <a:pt x="1141" y="1891"/>
                  </a:lnTo>
                  <a:lnTo>
                    <a:pt x="1123" y="1900"/>
                  </a:lnTo>
                  <a:lnTo>
                    <a:pt x="1109" y="1910"/>
                  </a:lnTo>
                  <a:lnTo>
                    <a:pt x="1100" y="1917"/>
                  </a:lnTo>
                  <a:lnTo>
                    <a:pt x="1096" y="1920"/>
                  </a:lnTo>
                  <a:lnTo>
                    <a:pt x="1101" y="1920"/>
                  </a:lnTo>
                  <a:lnTo>
                    <a:pt x="1113" y="1920"/>
                  </a:lnTo>
                  <a:lnTo>
                    <a:pt x="1132" y="1921"/>
                  </a:lnTo>
                  <a:lnTo>
                    <a:pt x="1157" y="1924"/>
                  </a:lnTo>
                  <a:lnTo>
                    <a:pt x="1184" y="1929"/>
                  </a:lnTo>
                  <a:lnTo>
                    <a:pt x="1215" y="1934"/>
                  </a:lnTo>
                  <a:lnTo>
                    <a:pt x="1244" y="1943"/>
                  </a:lnTo>
                  <a:lnTo>
                    <a:pt x="1273" y="1954"/>
                  </a:lnTo>
                  <a:lnTo>
                    <a:pt x="1275" y="1955"/>
                  </a:lnTo>
                  <a:lnTo>
                    <a:pt x="1279" y="1955"/>
                  </a:lnTo>
                  <a:lnTo>
                    <a:pt x="1281" y="1955"/>
                  </a:lnTo>
                  <a:lnTo>
                    <a:pt x="1283" y="1957"/>
                  </a:lnTo>
                  <a:lnTo>
                    <a:pt x="1293" y="1990"/>
                  </a:lnTo>
                  <a:lnTo>
                    <a:pt x="1301" y="2016"/>
                  </a:lnTo>
                  <a:lnTo>
                    <a:pt x="1305" y="2037"/>
                  </a:lnTo>
                  <a:lnTo>
                    <a:pt x="1305" y="2052"/>
                  </a:lnTo>
                  <a:lnTo>
                    <a:pt x="1300" y="2065"/>
                  </a:lnTo>
                  <a:lnTo>
                    <a:pt x="1293" y="2076"/>
                  </a:lnTo>
                  <a:lnTo>
                    <a:pt x="1282" y="2086"/>
                  </a:lnTo>
                  <a:lnTo>
                    <a:pt x="1266" y="2097"/>
                  </a:lnTo>
                  <a:lnTo>
                    <a:pt x="1247" y="2110"/>
                  </a:lnTo>
                  <a:lnTo>
                    <a:pt x="1231" y="2121"/>
                  </a:lnTo>
                  <a:lnTo>
                    <a:pt x="1216" y="2130"/>
                  </a:lnTo>
                  <a:lnTo>
                    <a:pt x="1203" y="2138"/>
                  </a:lnTo>
                  <a:lnTo>
                    <a:pt x="1192" y="2146"/>
                  </a:lnTo>
                  <a:lnTo>
                    <a:pt x="1182" y="2152"/>
                  </a:lnTo>
                  <a:lnTo>
                    <a:pt x="1174" y="2158"/>
                  </a:lnTo>
                  <a:lnTo>
                    <a:pt x="1167" y="2162"/>
                  </a:lnTo>
                  <a:lnTo>
                    <a:pt x="1158" y="2165"/>
                  </a:lnTo>
                  <a:lnTo>
                    <a:pt x="1148" y="2166"/>
                  </a:lnTo>
                  <a:lnTo>
                    <a:pt x="1137" y="2169"/>
                  </a:lnTo>
                  <a:lnTo>
                    <a:pt x="1123" y="2169"/>
                  </a:lnTo>
                  <a:lnTo>
                    <a:pt x="1109" y="2169"/>
                  </a:lnTo>
                  <a:lnTo>
                    <a:pt x="1093" y="2168"/>
                  </a:lnTo>
                  <a:lnTo>
                    <a:pt x="1076" y="2165"/>
                  </a:lnTo>
                  <a:lnTo>
                    <a:pt x="1057" y="2160"/>
                  </a:lnTo>
                  <a:lnTo>
                    <a:pt x="1031" y="2153"/>
                  </a:lnTo>
                  <a:lnTo>
                    <a:pt x="1010" y="2146"/>
                  </a:lnTo>
                  <a:lnTo>
                    <a:pt x="995" y="2142"/>
                  </a:lnTo>
                  <a:lnTo>
                    <a:pt x="985" y="2138"/>
                  </a:lnTo>
                  <a:lnTo>
                    <a:pt x="977" y="2135"/>
                  </a:lnTo>
                  <a:lnTo>
                    <a:pt x="973" y="2132"/>
                  </a:lnTo>
                  <a:lnTo>
                    <a:pt x="971" y="2132"/>
                  </a:lnTo>
                  <a:lnTo>
                    <a:pt x="970" y="2131"/>
                  </a:lnTo>
                  <a:lnTo>
                    <a:pt x="971" y="2132"/>
                  </a:lnTo>
                  <a:lnTo>
                    <a:pt x="974" y="2137"/>
                  </a:lnTo>
                  <a:lnTo>
                    <a:pt x="980" y="2144"/>
                  </a:lnTo>
                  <a:lnTo>
                    <a:pt x="989" y="2152"/>
                  </a:lnTo>
                  <a:lnTo>
                    <a:pt x="1001" y="2162"/>
                  </a:lnTo>
                  <a:lnTo>
                    <a:pt x="1019" y="2173"/>
                  </a:lnTo>
                  <a:lnTo>
                    <a:pt x="1041" y="2183"/>
                  </a:lnTo>
                  <a:lnTo>
                    <a:pt x="1069" y="2194"/>
                  </a:lnTo>
                  <a:lnTo>
                    <a:pt x="1077" y="2197"/>
                  </a:lnTo>
                  <a:lnTo>
                    <a:pt x="1084" y="2200"/>
                  </a:lnTo>
                  <a:lnTo>
                    <a:pt x="1091" y="2203"/>
                  </a:lnTo>
                  <a:lnTo>
                    <a:pt x="1097" y="2205"/>
                  </a:lnTo>
                  <a:lnTo>
                    <a:pt x="1103" y="2207"/>
                  </a:lnTo>
                  <a:lnTo>
                    <a:pt x="1109" y="2210"/>
                  </a:lnTo>
                  <a:lnTo>
                    <a:pt x="1114" y="2211"/>
                  </a:lnTo>
                  <a:lnTo>
                    <a:pt x="1119" y="2212"/>
                  </a:lnTo>
                  <a:lnTo>
                    <a:pt x="1120" y="2225"/>
                  </a:lnTo>
                  <a:lnTo>
                    <a:pt x="1122" y="2252"/>
                  </a:lnTo>
                  <a:lnTo>
                    <a:pt x="1066" y="2451"/>
                  </a:lnTo>
                  <a:lnTo>
                    <a:pt x="1056" y="2451"/>
                  </a:lnTo>
                  <a:lnTo>
                    <a:pt x="1045" y="2451"/>
                  </a:lnTo>
                  <a:lnTo>
                    <a:pt x="1035" y="2451"/>
                  </a:lnTo>
                  <a:lnTo>
                    <a:pt x="1025" y="2451"/>
                  </a:lnTo>
                  <a:lnTo>
                    <a:pt x="1014" y="2450"/>
                  </a:lnTo>
                  <a:lnTo>
                    <a:pt x="1001" y="2447"/>
                  </a:lnTo>
                  <a:lnTo>
                    <a:pt x="988" y="2446"/>
                  </a:lnTo>
                  <a:lnTo>
                    <a:pt x="973" y="2443"/>
                  </a:lnTo>
                  <a:lnTo>
                    <a:pt x="957" y="2439"/>
                  </a:lnTo>
                  <a:lnTo>
                    <a:pt x="939" y="2435"/>
                  </a:lnTo>
                  <a:lnTo>
                    <a:pt x="920" y="2429"/>
                  </a:lnTo>
                  <a:lnTo>
                    <a:pt x="898" y="2423"/>
                  </a:lnTo>
                  <a:lnTo>
                    <a:pt x="873" y="2416"/>
                  </a:lnTo>
                  <a:lnTo>
                    <a:pt x="846" y="2408"/>
                  </a:lnTo>
                  <a:lnTo>
                    <a:pt x="815" y="2398"/>
                  </a:lnTo>
                  <a:lnTo>
                    <a:pt x="783" y="2388"/>
                  </a:lnTo>
                  <a:lnTo>
                    <a:pt x="741" y="2374"/>
                  </a:lnTo>
                  <a:lnTo>
                    <a:pt x="700" y="2359"/>
                  </a:lnTo>
                  <a:lnTo>
                    <a:pt x="663" y="2343"/>
                  </a:lnTo>
                  <a:lnTo>
                    <a:pt x="628" y="2326"/>
                  </a:lnTo>
                  <a:lnTo>
                    <a:pt x="596" y="2309"/>
                  </a:lnTo>
                  <a:lnTo>
                    <a:pt x="565" y="2294"/>
                  </a:lnTo>
                  <a:lnTo>
                    <a:pt x="536" y="2277"/>
                  </a:lnTo>
                  <a:lnTo>
                    <a:pt x="510" y="2260"/>
                  </a:lnTo>
                  <a:lnTo>
                    <a:pt x="486" y="2245"/>
                  </a:lnTo>
                  <a:lnTo>
                    <a:pt x="465" y="2229"/>
                  </a:lnTo>
                  <a:lnTo>
                    <a:pt x="446" y="2215"/>
                  </a:lnTo>
                  <a:lnTo>
                    <a:pt x="429" y="2201"/>
                  </a:lnTo>
                  <a:lnTo>
                    <a:pt x="414" y="2189"/>
                  </a:lnTo>
                  <a:lnTo>
                    <a:pt x="402" y="2179"/>
                  </a:lnTo>
                  <a:lnTo>
                    <a:pt x="393" y="2169"/>
                  </a:lnTo>
                  <a:lnTo>
                    <a:pt x="385" y="2162"/>
                  </a:lnTo>
                  <a:lnTo>
                    <a:pt x="246" y="1415"/>
                  </a:lnTo>
                  <a:lnTo>
                    <a:pt x="227" y="1417"/>
                  </a:lnTo>
                  <a:lnTo>
                    <a:pt x="207" y="1417"/>
                  </a:lnTo>
                  <a:lnTo>
                    <a:pt x="187" y="1413"/>
                  </a:lnTo>
                  <a:lnTo>
                    <a:pt x="167" y="1406"/>
                  </a:lnTo>
                  <a:lnTo>
                    <a:pt x="147" y="1397"/>
                  </a:lnTo>
                  <a:lnTo>
                    <a:pt x="128" y="1384"/>
                  </a:lnTo>
                  <a:lnTo>
                    <a:pt x="107" y="1370"/>
                  </a:lnTo>
                  <a:lnTo>
                    <a:pt x="89" y="1352"/>
                  </a:lnTo>
                  <a:lnTo>
                    <a:pt x="65" y="1323"/>
                  </a:lnTo>
                  <a:lnTo>
                    <a:pt x="44" y="1289"/>
                  </a:lnTo>
                  <a:lnTo>
                    <a:pt x="29" y="1255"/>
                  </a:lnTo>
                  <a:lnTo>
                    <a:pt x="18" y="1219"/>
                  </a:lnTo>
                  <a:lnTo>
                    <a:pt x="12" y="1183"/>
                  </a:lnTo>
                  <a:lnTo>
                    <a:pt x="12" y="1147"/>
                  </a:lnTo>
                  <a:lnTo>
                    <a:pt x="15" y="1113"/>
                  </a:lnTo>
                  <a:lnTo>
                    <a:pt x="25" y="1082"/>
                  </a:lnTo>
                  <a:lnTo>
                    <a:pt x="33" y="1075"/>
                  </a:lnTo>
                  <a:lnTo>
                    <a:pt x="43" y="1070"/>
                  </a:lnTo>
                  <a:lnTo>
                    <a:pt x="53" y="1063"/>
                  </a:lnTo>
                  <a:lnTo>
                    <a:pt x="66" y="1056"/>
                  </a:lnTo>
                  <a:lnTo>
                    <a:pt x="79" y="1049"/>
                  </a:lnTo>
                  <a:lnTo>
                    <a:pt x="94" y="1043"/>
                  </a:lnTo>
                  <a:lnTo>
                    <a:pt x="111" y="1037"/>
                  </a:lnTo>
                  <a:lnTo>
                    <a:pt x="129" y="1032"/>
                  </a:lnTo>
                  <a:lnTo>
                    <a:pt x="147" y="1029"/>
                  </a:lnTo>
                  <a:lnTo>
                    <a:pt x="166" y="1029"/>
                  </a:lnTo>
                  <a:lnTo>
                    <a:pt x="184" y="1032"/>
                  </a:lnTo>
                  <a:lnTo>
                    <a:pt x="203" y="1037"/>
                  </a:lnTo>
                  <a:lnTo>
                    <a:pt x="220" y="1044"/>
                  </a:lnTo>
                  <a:lnTo>
                    <a:pt x="238" y="1054"/>
                  </a:lnTo>
                  <a:lnTo>
                    <a:pt x="254" y="1064"/>
                  </a:lnTo>
                  <a:lnTo>
                    <a:pt x="270" y="1074"/>
                  </a:lnTo>
                  <a:lnTo>
                    <a:pt x="284" y="1085"/>
                  </a:lnTo>
                  <a:lnTo>
                    <a:pt x="297" y="1095"/>
                  </a:lnTo>
                  <a:lnTo>
                    <a:pt x="309" y="1106"/>
                  </a:lnTo>
                  <a:lnTo>
                    <a:pt x="318" y="1115"/>
                  </a:lnTo>
                  <a:lnTo>
                    <a:pt x="326" y="1123"/>
                  </a:lnTo>
                  <a:lnTo>
                    <a:pt x="333" y="1129"/>
                  </a:lnTo>
                  <a:lnTo>
                    <a:pt x="336" y="1133"/>
                  </a:lnTo>
                  <a:lnTo>
                    <a:pt x="337" y="1134"/>
                  </a:lnTo>
                  <a:lnTo>
                    <a:pt x="335" y="1129"/>
                  </a:lnTo>
                  <a:lnTo>
                    <a:pt x="330" y="1113"/>
                  </a:lnTo>
                  <a:lnTo>
                    <a:pt x="319" y="1091"/>
                  </a:lnTo>
                  <a:lnTo>
                    <a:pt x="306" y="1064"/>
                  </a:lnTo>
                  <a:lnTo>
                    <a:pt x="321" y="1016"/>
                  </a:lnTo>
                  <a:lnTo>
                    <a:pt x="319" y="1015"/>
                  </a:lnTo>
                  <a:lnTo>
                    <a:pt x="317" y="1012"/>
                  </a:lnTo>
                  <a:lnTo>
                    <a:pt x="313" y="1008"/>
                  </a:lnTo>
                  <a:lnTo>
                    <a:pt x="306" y="1001"/>
                  </a:lnTo>
                  <a:lnTo>
                    <a:pt x="298" y="992"/>
                  </a:lnTo>
                  <a:lnTo>
                    <a:pt x="288" y="981"/>
                  </a:lnTo>
                  <a:lnTo>
                    <a:pt x="277" y="970"/>
                  </a:lnTo>
                  <a:lnTo>
                    <a:pt x="262" y="956"/>
                  </a:lnTo>
                  <a:lnTo>
                    <a:pt x="246" y="940"/>
                  </a:lnTo>
                  <a:lnTo>
                    <a:pt x="229" y="922"/>
                  </a:lnTo>
                  <a:lnTo>
                    <a:pt x="209" y="904"/>
                  </a:lnTo>
                  <a:lnTo>
                    <a:pt x="186" y="883"/>
                  </a:lnTo>
                  <a:lnTo>
                    <a:pt x="163" y="862"/>
                  </a:lnTo>
                  <a:lnTo>
                    <a:pt x="137" y="838"/>
                  </a:lnTo>
                  <a:lnTo>
                    <a:pt x="109" y="814"/>
                  </a:lnTo>
                  <a:lnTo>
                    <a:pt x="78" y="787"/>
                  </a:lnTo>
                  <a:lnTo>
                    <a:pt x="68" y="777"/>
                  </a:lnTo>
                  <a:lnTo>
                    <a:pt x="59" y="767"/>
                  </a:lnTo>
                  <a:lnTo>
                    <a:pt x="51" y="758"/>
                  </a:lnTo>
                  <a:lnTo>
                    <a:pt x="43" y="746"/>
                  </a:lnTo>
                  <a:lnTo>
                    <a:pt x="36" y="735"/>
                  </a:lnTo>
                  <a:lnTo>
                    <a:pt x="30" y="722"/>
                  </a:lnTo>
                  <a:lnTo>
                    <a:pt x="24" y="710"/>
                  </a:lnTo>
                  <a:lnTo>
                    <a:pt x="19" y="697"/>
                  </a:lnTo>
                  <a:lnTo>
                    <a:pt x="10" y="642"/>
                  </a:lnTo>
                  <a:lnTo>
                    <a:pt x="4" y="589"/>
                  </a:lnTo>
                  <a:lnTo>
                    <a:pt x="0" y="537"/>
                  </a:lnTo>
                  <a:lnTo>
                    <a:pt x="1" y="485"/>
                  </a:lnTo>
                  <a:lnTo>
                    <a:pt x="6" y="434"/>
                  </a:lnTo>
                  <a:lnTo>
                    <a:pt x="15" y="384"/>
                  </a:lnTo>
                  <a:lnTo>
                    <a:pt x="29" y="336"/>
                  </a:lnTo>
                  <a:lnTo>
                    <a:pt x="47" y="288"/>
                  </a:lnTo>
                  <a:lnTo>
                    <a:pt x="58" y="264"/>
                  </a:lnTo>
                  <a:lnTo>
                    <a:pt x="69" y="240"/>
                  </a:lnTo>
                  <a:lnTo>
                    <a:pt x="82" y="215"/>
                  </a:lnTo>
                  <a:lnTo>
                    <a:pt x="95" y="191"/>
                  </a:lnTo>
                  <a:lnTo>
                    <a:pt x="110" y="166"/>
                  </a:lnTo>
                  <a:lnTo>
                    <a:pt x="127" y="142"/>
                  </a:lnTo>
                  <a:lnTo>
                    <a:pt x="144" y="119"/>
                  </a:lnTo>
                  <a:lnTo>
                    <a:pt x="163" y="97"/>
                  </a:lnTo>
                  <a:lnTo>
                    <a:pt x="182" y="77"/>
                  </a:lnTo>
                  <a:lnTo>
                    <a:pt x="204" y="57"/>
                  </a:lnTo>
                  <a:lnTo>
                    <a:pt x="227" y="41"/>
                  </a:lnTo>
                  <a:lnTo>
                    <a:pt x="253" y="27"/>
                  </a:lnTo>
                  <a:lnTo>
                    <a:pt x="280" y="15"/>
                  </a:lnTo>
                  <a:lnTo>
                    <a:pt x="308" y="7"/>
                  </a:lnTo>
                  <a:lnTo>
                    <a:pt x="340" y="1"/>
                  </a:lnTo>
                  <a:lnTo>
                    <a:pt x="372" y="0"/>
                  </a:lnTo>
                  <a:lnTo>
                    <a:pt x="386" y="0"/>
                  </a:lnTo>
                  <a:lnTo>
                    <a:pt x="399" y="0"/>
                  </a:lnTo>
                  <a:lnTo>
                    <a:pt x="413" y="1"/>
                  </a:lnTo>
                  <a:lnTo>
                    <a:pt x="426" y="1"/>
                  </a:lnTo>
                  <a:lnTo>
                    <a:pt x="439" y="1"/>
                  </a:lnTo>
                  <a:lnTo>
                    <a:pt x="452" y="3"/>
                  </a:lnTo>
                  <a:lnTo>
                    <a:pt x="465" y="3"/>
                  </a:lnTo>
                  <a:lnTo>
                    <a:pt x="477" y="4"/>
                  </a:lnTo>
                  <a:lnTo>
                    <a:pt x="490" y="4"/>
                  </a:lnTo>
                  <a:lnTo>
                    <a:pt x="502" y="5"/>
                  </a:lnTo>
                  <a:lnTo>
                    <a:pt x="514" y="7"/>
                  </a:lnTo>
                  <a:lnTo>
                    <a:pt x="527" y="7"/>
                  </a:lnTo>
                  <a:lnTo>
                    <a:pt x="539" y="8"/>
                  </a:lnTo>
                  <a:lnTo>
                    <a:pt x="550" y="10"/>
                  </a:lnTo>
                  <a:lnTo>
                    <a:pt x="563" y="10"/>
                  </a:lnTo>
                  <a:lnTo>
                    <a:pt x="574" y="11"/>
                  </a:lnTo>
                  <a:lnTo>
                    <a:pt x="563" y="41"/>
                  </a:lnTo>
                  <a:lnTo>
                    <a:pt x="554" y="69"/>
                  </a:lnTo>
                  <a:lnTo>
                    <a:pt x="546" y="94"/>
                  </a:lnTo>
                  <a:lnTo>
                    <a:pt x="540" y="118"/>
                  </a:lnTo>
                  <a:lnTo>
                    <a:pt x="537" y="138"/>
                  </a:lnTo>
                  <a:lnTo>
                    <a:pt x="534" y="153"/>
                  </a:lnTo>
                  <a:lnTo>
                    <a:pt x="532" y="163"/>
                  </a:lnTo>
                  <a:lnTo>
                    <a:pt x="531" y="167"/>
                  </a:lnTo>
                  <a:lnTo>
                    <a:pt x="563" y="171"/>
                  </a:lnTo>
                  <a:lnTo>
                    <a:pt x="564" y="157"/>
                  </a:lnTo>
                  <a:lnTo>
                    <a:pt x="567" y="121"/>
                  </a:lnTo>
                  <a:lnTo>
                    <a:pt x="575" y="70"/>
                  </a:lnTo>
                  <a:lnTo>
                    <a:pt x="591" y="12"/>
                  </a:lnTo>
                  <a:lnTo>
                    <a:pt x="607" y="14"/>
                  </a:lnTo>
                  <a:lnTo>
                    <a:pt x="622" y="17"/>
                  </a:lnTo>
                  <a:lnTo>
                    <a:pt x="637" y="18"/>
                  </a:lnTo>
                  <a:lnTo>
                    <a:pt x="652" y="21"/>
                  </a:lnTo>
                  <a:lnTo>
                    <a:pt x="667" y="22"/>
                  </a:lnTo>
                  <a:lnTo>
                    <a:pt x="681" y="25"/>
                  </a:lnTo>
                  <a:lnTo>
                    <a:pt x="696" y="27"/>
                  </a:lnTo>
                  <a:lnTo>
                    <a:pt x="709" y="29"/>
                  </a:lnTo>
                  <a:lnTo>
                    <a:pt x="696" y="62"/>
                  </a:lnTo>
                  <a:lnTo>
                    <a:pt x="685" y="93"/>
                  </a:lnTo>
                  <a:lnTo>
                    <a:pt x="676" y="122"/>
                  </a:lnTo>
                  <a:lnTo>
                    <a:pt x="669" y="149"/>
                  </a:lnTo>
                  <a:lnTo>
                    <a:pt x="663" y="171"/>
                  </a:lnTo>
                  <a:lnTo>
                    <a:pt x="660" y="190"/>
                  </a:lnTo>
                  <a:lnTo>
                    <a:pt x="659" y="202"/>
                  </a:lnTo>
                  <a:lnTo>
                    <a:pt x="658" y="206"/>
                  </a:lnTo>
                  <a:lnTo>
                    <a:pt x="689" y="211"/>
                  </a:lnTo>
                  <a:lnTo>
                    <a:pt x="689" y="206"/>
                  </a:lnTo>
                  <a:lnTo>
                    <a:pt x="690" y="194"/>
                  </a:lnTo>
                  <a:lnTo>
                    <a:pt x="691" y="176"/>
                  </a:lnTo>
                  <a:lnTo>
                    <a:pt x="694" y="153"/>
                  </a:lnTo>
                  <a:lnTo>
                    <a:pt x="698" y="126"/>
                  </a:lnTo>
                  <a:lnTo>
                    <a:pt x="704" y="95"/>
                  </a:lnTo>
                  <a:lnTo>
                    <a:pt x="712" y="64"/>
                  </a:lnTo>
                  <a:lnTo>
                    <a:pt x="723" y="34"/>
                  </a:lnTo>
                  <a:lnTo>
                    <a:pt x="805" y="52"/>
                  </a:lnTo>
                  <a:lnTo>
                    <a:pt x="877" y="74"/>
                  </a:lnTo>
                  <a:lnTo>
                    <a:pt x="942" y="101"/>
                  </a:lnTo>
                  <a:lnTo>
                    <a:pt x="998" y="129"/>
                  </a:lnTo>
                  <a:lnTo>
                    <a:pt x="1047" y="161"/>
                  </a:lnTo>
                  <a:lnTo>
                    <a:pt x="1088" y="195"/>
                  </a:lnTo>
                  <a:lnTo>
                    <a:pt x="1124" y="232"/>
                  </a:lnTo>
                  <a:lnTo>
                    <a:pt x="1155" y="268"/>
                  </a:lnTo>
                  <a:lnTo>
                    <a:pt x="1178" y="308"/>
                  </a:lnTo>
                  <a:lnTo>
                    <a:pt x="1199" y="348"/>
                  </a:lnTo>
                  <a:lnTo>
                    <a:pt x="1215" y="389"/>
                  </a:lnTo>
                  <a:lnTo>
                    <a:pt x="1227" y="430"/>
                  </a:lnTo>
                  <a:lnTo>
                    <a:pt x="1236" y="471"/>
                  </a:lnTo>
                  <a:lnTo>
                    <a:pt x="1243" y="512"/>
                  </a:lnTo>
                  <a:lnTo>
                    <a:pt x="1247" y="552"/>
                  </a:lnTo>
                  <a:lnTo>
                    <a:pt x="1251" y="592"/>
                  </a:lnTo>
                  <a:lnTo>
                    <a:pt x="1211" y="554"/>
                  </a:lnTo>
                  <a:lnTo>
                    <a:pt x="1180" y="517"/>
                  </a:lnTo>
                  <a:lnTo>
                    <a:pt x="1156" y="486"/>
                  </a:lnTo>
                  <a:lnTo>
                    <a:pt x="1138" y="458"/>
                  </a:lnTo>
                  <a:lnTo>
                    <a:pt x="1125" y="436"/>
                  </a:lnTo>
                  <a:lnTo>
                    <a:pt x="1118" y="417"/>
                  </a:lnTo>
                  <a:lnTo>
                    <a:pt x="1113" y="407"/>
                  </a:lnTo>
                  <a:lnTo>
                    <a:pt x="1112" y="403"/>
                  </a:lnTo>
                  <a:lnTo>
                    <a:pt x="1113" y="410"/>
                  </a:lnTo>
                  <a:lnTo>
                    <a:pt x="1118" y="427"/>
                  </a:lnTo>
                  <a:lnTo>
                    <a:pt x="1125" y="454"/>
                  </a:lnTo>
                  <a:lnTo>
                    <a:pt x="1137" y="488"/>
                  </a:lnTo>
                  <a:lnTo>
                    <a:pt x="1154" y="524"/>
                  </a:lnTo>
                  <a:lnTo>
                    <a:pt x="1175" y="561"/>
                  </a:lnTo>
                  <a:lnTo>
                    <a:pt x="1202" y="597"/>
                  </a:lnTo>
                  <a:lnTo>
                    <a:pt x="1236" y="628"/>
                  </a:lnTo>
                  <a:lnTo>
                    <a:pt x="1242" y="632"/>
                  </a:lnTo>
                  <a:lnTo>
                    <a:pt x="1247" y="638"/>
                  </a:lnTo>
                  <a:lnTo>
                    <a:pt x="1253" y="642"/>
                  </a:lnTo>
                  <a:lnTo>
                    <a:pt x="1259" y="648"/>
                  </a:lnTo>
                  <a:lnTo>
                    <a:pt x="1251" y="648"/>
                  </a:lnTo>
                  <a:lnTo>
                    <a:pt x="1244" y="648"/>
                  </a:lnTo>
                  <a:lnTo>
                    <a:pt x="1238" y="649"/>
                  </a:lnTo>
                  <a:lnTo>
                    <a:pt x="1233" y="649"/>
                  </a:lnTo>
                  <a:lnTo>
                    <a:pt x="1227" y="637"/>
                  </a:lnTo>
                  <a:lnTo>
                    <a:pt x="1221" y="627"/>
                  </a:lnTo>
                  <a:lnTo>
                    <a:pt x="1215" y="617"/>
                  </a:lnTo>
                  <a:lnTo>
                    <a:pt x="1208" y="609"/>
                  </a:lnTo>
                  <a:lnTo>
                    <a:pt x="1200" y="603"/>
                  </a:lnTo>
                  <a:lnTo>
                    <a:pt x="1193" y="599"/>
                  </a:lnTo>
                  <a:lnTo>
                    <a:pt x="1185" y="596"/>
                  </a:lnTo>
                  <a:lnTo>
                    <a:pt x="1177" y="594"/>
                  </a:lnTo>
                  <a:lnTo>
                    <a:pt x="1163" y="597"/>
                  </a:lnTo>
                  <a:lnTo>
                    <a:pt x="1149" y="607"/>
                  </a:lnTo>
                  <a:lnTo>
                    <a:pt x="1136" y="624"/>
                  </a:lnTo>
                  <a:lnTo>
                    <a:pt x="1125" y="644"/>
                  </a:lnTo>
                  <a:lnTo>
                    <a:pt x="1115" y="670"/>
                  </a:lnTo>
                  <a:lnTo>
                    <a:pt x="1109" y="698"/>
                  </a:lnTo>
                  <a:lnTo>
                    <a:pt x="1104" y="731"/>
                  </a:lnTo>
                  <a:lnTo>
                    <a:pt x="1103" y="766"/>
                  </a:lnTo>
                  <a:lnTo>
                    <a:pt x="1104" y="800"/>
                  </a:lnTo>
                  <a:lnTo>
                    <a:pt x="1109" y="832"/>
                  </a:lnTo>
                  <a:lnTo>
                    <a:pt x="1115" y="862"/>
                  </a:lnTo>
                  <a:lnTo>
                    <a:pt x="1125" y="887"/>
                  </a:lnTo>
                  <a:lnTo>
                    <a:pt x="1136" y="908"/>
                  </a:lnTo>
                  <a:lnTo>
                    <a:pt x="1149" y="923"/>
                  </a:lnTo>
                  <a:lnTo>
                    <a:pt x="1163" y="935"/>
                  </a:lnTo>
                  <a:lnTo>
                    <a:pt x="1177" y="937"/>
                  </a:lnTo>
                  <a:lnTo>
                    <a:pt x="1192" y="935"/>
                  </a:lnTo>
                  <a:lnTo>
                    <a:pt x="1207" y="923"/>
                  </a:lnTo>
                  <a:lnTo>
                    <a:pt x="1219" y="908"/>
                  </a:lnTo>
                  <a:lnTo>
                    <a:pt x="1230" y="887"/>
                  </a:lnTo>
                  <a:lnTo>
                    <a:pt x="1239" y="862"/>
                  </a:lnTo>
                  <a:lnTo>
                    <a:pt x="1246" y="832"/>
                  </a:lnTo>
                  <a:lnTo>
                    <a:pt x="1251" y="800"/>
                  </a:lnTo>
                  <a:lnTo>
                    <a:pt x="1252" y="766"/>
                  </a:lnTo>
                  <a:lnTo>
                    <a:pt x="1251" y="743"/>
                  </a:lnTo>
                  <a:lnTo>
                    <a:pt x="1249" y="722"/>
                  </a:lnTo>
                  <a:lnTo>
                    <a:pt x="1246" y="703"/>
                  </a:lnTo>
                  <a:lnTo>
                    <a:pt x="1243" y="684"/>
                  </a:lnTo>
                  <a:lnTo>
                    <a:pt x="1246" y="683"/>
                  </a:lnTo>
                  <a:lnTo>
                    <a:pt x="1249" y="682"/>
                  </a:lnTo>
                  <a:lnTo>
                    <a:pt x="1254" y="679"/>
                  </a:lnTo>
                  <a:lnTo>
                    <a:pt x="1259" y="677"/>
                  </a:lnTo>
                  <a:lnTo>
                    <a:pt x="1263" y="676"/>
                  </a:lnTo>
                  <a:lnTo>
                    <a:pt x="1269" y="675"/>
                  </a:lnTo>
                  <a:lnTo>
                    <a:pt x="1274" y="673"/>
                  </a:lnTo>
                  <a:lnTo>
                    <a:pt x="1280" y="672"/>
                  </a:lnTo>
                  <a:lnTo>
                    <a:pt x="1302" y="707"/>
                  </a:lnTo>
                  <a:lnTo>
                    <a:pt x="1322" y="743"/>
                  </a:lnTo>
                  <a:lnTo>
                    <a:pt x="1337" y="781"/>
                  </a:lnTo>
                  <a:lnTo>
                    <a:pt x="1351" y="819"/>
                  </a:lnTo>
                  <a:lnTo>
                    <a:pt x="1360" y="855"/>
                  </a:lnTo>
                  <a:lnTo>
                    <a:pt x="1367" y="887"/>
                  </a:lnTo>
                  <a:lnTo>
                    <a:pt x="1372" y="912"/>
                  </a:lnTo>
                  <a:lnTo>
                    <a:pt x="1375" y="930"/>
                  </a:lnTo>
                  <a:lnTo>
                    <a:pt x="1379" y="954"/>
                  </a:lnTo>
                  <a:lnTo>
                    <a:pt x="1385" y="963"/>
                  </a:lnTo>
                  <a:lnTo>
                    <a:pt x="1389" y="973"/>
                  </a:lnTo>
                  <a:lnTo>
                    <a:pt x="1390" y="997"/>
                  </a:lnTo>
                  <a:lnTo>
                    <a:pt x="1387" y="1006"/>
                  </a:lnTo>
                  <a:lnTo>
                    <a:pt x="1378" y="1015"/>
                  </a:lnTo>
                  <a:lnTo>
                    <a:pt x="1363" y="1020"/>
                  </a:lnTo>
                  <a:lnTo>
                    <a:pt x="1346" y="1026"/>
                  </a:lnTo>
                  <a:lnTo>
                    <a:pt x="1326" y="1029"/>
                  </a:lnTo>
                  <a:lnTo>
                    <a:pt x="1304" y="1032"/>
                  </a:lnTo>
                  <a:lnTo>
                    <a:pt x="1281" y="1033"/>
                  </a:lnTo>
                  <a:lnTo>
                    <a:pt x="1260" y="1034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36680" y="5166000"/>
              <a:ext cx="98280" cy="158760"/>
            </a:xfrm>
            <a:custGeom>
              <a:avLst/>
              <a:gdLst/>
              <a:ahLst/>
              <a:rect l="l" t="t" r="r" b="b"/>
              <a:pathLst>
                <a:path w="116" h="240">
                  <a:moveTo>
                    <a:pt x="116" y="121"/>
                  </a:moveTo>
                  <a:lnTo>
                    <a:pt x="115" y="145"/>
                  </a:lnTo>
                  <a:lnTo>
                    <a:pt x="111" y="167"/>
                  </a:lnTo>
                  <a:lnTo>
                    <a:pt x="106" y="188"/>
                  </a:lnTo>
                  <a:lnTo>
                    <a:pt x="99" y="205"/>
                  </a:lnTo>
                  <a:lnTo>
                    <a:pt x="90" y="219"/>
                  </a:lnTo>
                  <a:lnTo>
                    <a:pt x="80" y="231"/>
                  </a:lnTo>
                  <a:lnTo>
                    <a:pt x="70" y="238"/>
                  </a:lnTo>
                  <a:lnTo>
                    <a:pt x="57" y="240"/>
                  </a:lnTo>
                  <a:lnTo>
                    <a:pt x="46" y="238"/>
                  </a:lnTo>
                  <a:lnTo>
                    <a:pt x="35" y="231"/>
                  </a:lnTo>
                  <a:lnTo>
                    <a:pt x="26" y="219"/>
                  </a:lnTo>
                  <a:lnTo>
                    <a:pt x="17" y="205"/>
                  </a:lnTo>
                  <a:lnTo>
                    <a:pt x="10" y="188"/>
                  </a:lnTo>
                  <a:lnTo>
                    <a:pt x="4" y="167"/>
                  </a:lnTo>
                  <a:lnTo>
                    <a:pt x="1" y="145"/>
                  </a:lnTo>
                  <a:lnTo>
                    <a:pt x="0" y="121"/>
                  </a:lnTo>
                  <a:lnTo>
                    <a:pt x="1" y="97"/>
                  </a:lnTo>
                  <a:lnTo>
                    <a:pt x="4" y="75"/>
                  </a:lnTo>
                  <a:lnTo>
                    <a:pt x="10" y="53"/>
                  </a:lnTo>
                  <a:lnTo>
                    <a:pt x="17" y="35"/>
                  </a:lnTo>
                  <a:lnTo>
                    <a:pt x="26" y="21"/>
                  </a:lnTo>
                  <a:lnTo>
                    <a:pt x="35" y="10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70" y="3"/>
                  </a:lnTo>
                  <a:lnTo>
                    <a:pt x="80" y="10"/>
                  </a:lnTo>
                  <a:lnTo>
                    <a:pt x="90" y="21"/>
                  </a:lnTo>
                  <a:lnTo>
                    <a:pt x="99" y="35"/>
                  </a:lnTo>
                  <a:lnTo>
                    <a:pt x="106" y="53"/>
                  </a:lnTo>
                  <a:lnTo>
                    <a:pt x="111" y="75"/>
                  </a:lnTo>
                  <a:lnTo>
                    <a:pt x="115" y="97"/>
                  </a:lnTo>
                  <a:lnTo>
                    <a:pt x="116" y="12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20600" y="4910400"/>
              <a:ext cx="211320" cy="331560"/>
            </a:xfrm>
            <a:custGeom>
              <a:avLst/>
              <a:gdLst/>
              <a:ahLst/>
              <a:rect l="l" t="t" r="r" b="b"/>
              <a:pathLst>
                <a:path w="250" h="503">
                  <a:moveTo>
                    <a:pt x="15" y="380"/>
                  </a:moveTo>
                  <a:lnTo>
                    <a:pt x="18" y="316"/>
                  </a:lnTo>
                  <a:lnTo>
                    <a:pt x="25" y="257"/>
                  </a:lnTo>
                  <a:lnTo>
                    <a:pt x="38" y="204"/>
                  </a:lnTo>
                  <a:lnTo>
                    <a:pt x="54" y="158"/>
                  </a:lnTo>
                  <a:lnTo>
                    <a:pt x="73" y="118"/>
                  </a:lnTo>
                  <a:lnTo>
                    <a:pt x="94" y="90"/>
                  </a:lnTo>
                  <a:lnTo>
                    <a:pt x="119" y="72"/>
                  </a:lnTo>
                  <a:lnTo>
                    <a:pt x="145" y="65"/>
                  </a:lnTo>
                  <a:lnTo>
                    <a:pt x="161" y="68"/>
                  </a:lnTo>
                  <a:lnTo>
                    <a:pt x="177" y="73"/>
                  </a:lnTo>
                  <a:lnTo>
                    <a:pt x="191" y="84"/>
                  </a:lnTo>
                  <a:lnTo>
                    <a:pt x="205" y="100"/>
                  </a:lnTo>
                  <a:lnTo>
                    <a:pt x="217" y="118"/>
                  </a:lnTo>
                  <a:lnTo>
                    <a:pt x="230" y="139"/>
                  </a:lnTo>
                  <a:lnTo>
                    <a:pt x="241" y="165"/>
                  </a:lnTo>
                  <a:lnTo>
                    <a:pt x="250" y="191"/>
                  </a:lnTo>
                  <a:lnTo>
                    <a:pt x="241" y="150"/>
                  </a:lnTo>
                  <a:lnTo>
                    <a:pt x="230" y="114"/>
                  </a:lnTo>
                  <a:lnTo>
                    <a:pt x="217" y="82"/>
                  </a:lnTo>
                  <a:lnTo>
                    <a:pt x="202" y="53"/>
                  </a:lnTo>
                  <a:lnTo>
                    <a:pt x="186" y="31"/>
                  </a:lnTo>
                  <a:lnTo>
                    <a:pt x="168" y="14"/>
                  </a:lnTo>
                  <a:lnTo>
                    <a:pt x="149" y="4"/>
                  </a:lnTo>
                  <a:lnTo>
                    <a:pt x="129" y="0"/>
                  </a:lnTo>
                  <a:lnTo>
                    <a:pt x="103" y="7"/>
                  </a:lnTo>
                  <a:lnTo>
                    <a:pt x="78" y="25"/>
                  </a:lnTo>
                  <a:lnTo>
                    <a:pt x="57" y="53"/>
                  </a:lnTo>
                  <a:lnTo>
                    <a:pt x="38" y="91"/>
                  </a:lnTo>
                  <a:lnTo>
                    <a:pt x="22" y="139"/>
                  </a:lnTo>
                  <a:lnTo>
                    <a:pt x="10" y="193"/>
                  </a:lnTo>
                  <a:lnTo>
                    <a:pt x="2" y="252"/>
                  </a:lnTo>
                  <a:lnTo>
                    <a:pt x="0" y="315"/>
                  </a:lnTo>
                  <a:lnTo>
                    <a:pt x="2" y="367"/>
                  </a:lnTo>
                  <a:lnTo>
                    <a:pt x="6" y="416"/>
                  </a:lnTo>
                  <a:lnTo>
                    <a:pt x="15" y="461"/>
                  </a:lnTo>
                  <a:lnTo>
                    <a:pt x="25" y="503"/>
                  </a:lnTo>
                  <a:lnTo>
                    <a:pt x="21" y="474"/>
                  </a:lnTo>
                  <a:lnTo>
                    <a:pt x="18" y="444"/>
                  </a:lnTo>
                  <a:lnTo>
                    <a:pt x="16" y="412"/>
                  </a:lnTo>
                  <a:lnTo>
                    <a:pt x="15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63440" y="5202360"/>
              <a:ext cx="204840" cy="127080"/>
            </a:xfrm>
            <a:custGeom>
              <a:avLst/>
              <a:gdLst/>
              <a:ahLst/>
              <a:rect l="l" t="t" r="r" b="b"/>
              <a:pathLst>
                <a:path w="242" h="192">
                  <a:moveTo>
                    <a:pt x="201" y="0"/>
                  </a:moveTo>
                  <a:lnTo>
                    <a:pt x="203" y="87"/>
                  </a:lnTo>
                  <a:lnTo>
                    <a:pt x="212" y="143"/>
                  </a:lnTo>
                  <a:lnTo>
                    <a:pt x="212" y="143"/>
                  </a:lnTo>
                  <a:lnTo>
                    <a:pt x="211" y="145"/>
                  </a:lnTo>
                  <a:lnTo>
                    <a:pt x="209" y="147"/>
                  </a:lnTo>
                  <a:lnTo>
                    <a:pt x="203" y="149"/>
                  </a:lnTo>
                  <a:lnTo>
                    <a:pt x="194" y="152"/>
                  </a:lnTo>
                  <a:lnTo>
                    <a:pt x="180" y="156"/>
                  </a:lnTo>
                  <a:lnTo>
                    <a:pt x="159" y="159"/>
                  </a:lnTo>
                  <a:lnTo>
                    <a:pt x="132" y="163"/>
                  </a:lnTo>
                  <a:lnTo>
                    <a:pt x="103" y="164"/>
                  </a:lnTo>
                  <a:lnTo>
                    <a:pt x="77" y="164"/>
                  </a:lnTo>
                  <a:lnTo>
                    <a:pt x="53" y="162"/>
                  </a:lnTo>
                  <a:lnTo>
                    <a:pt x="35" y="157"/>
                  </a:lnTo>
                  <a:lnTo>
                    <a:pt x="21" y="153"/>
                  </a:lnTo>
                  <a:lnTo>
                    <a:pt x="9" y="149"/>
                  </a:lnTo>
                  <a:lnTo>
                    <a:pt x="3" y="146"/>
                  </a:lnTo>
                  <a:lnTo>
                    <a:pt x="0" y="145"/>
                  </a:lnTo>
                  <a:lnTo>
                    <a:pt x="4" y="147"/>
                  </a:lnTo>
                  <a:lnTo>
                    <a:pt x="13" y="153"/>
                  </a:lnTo>
                  <a:lnTo>
                    <a:pt x="27" y="160"/>
                  </a:lnTo>
                  <a:lnTo>
                    <a:pt x="45" y="170"/>
                  </a:lnTo>
                  <a:lnTo>
                    <a:pt x="67" y="178"/>
                  </a:lnTo>
                  <a:lnTo>
                    <a:pt x="89" y="187"/>
                  </a:lnTo>
                  <a:lnTo>
                    <a:pt x="114" y="191"/>
                  </a:lnTo>
                  <a:lnTo>
                    <a:pt x="138" y="192"/>
                  </a:lnTo>
                  <a:lnTo>
                    <a:pt x="160" y="190"/>
                  </a:lnTo>
                  <a:lnTo>
                    <a:pt x="181" y="185"/>
                  </a:lnTo>
                  <a:lnTo>
                    <a:pt x="199" y="181"/>
                  </a:lnTo>
                  <a:lnTo>
                    <a:pt x="213" y="176"/>
                  </a:lnTo>
                  <a:lnTo>
                    <a:pt x="226" y="171"/>
                  </a:lnTo>
                  <a:lnTo>
                    <a:pt x="235" y="167"/>
                  </a:lnTo>
                  <a:lnTo>
                    <a:pt x="239" y="164"/>
                  </a:lnTo>
                  <a:lnTo>
                    <a:pt x="242" y="163"/>
                  </a:lnTo>
                  <a:lnTo>
                    <a:pt x="220" y="10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25640" y="5418360"/>
              <a:ext cx="242640" cy="623880"/>
            </a:xfrm>
            <a:custGeom>
              <a:avLst/>
              <a:gdLst/>
              <a:ahLst/>
              <a:rect l="l" t="t" r="r" b="b"/>
              <a:pathLst>
                <a:path w="289" h="945">
                  <a:moveTo>
                    <a:pt x="73" y="410"/>
                  </a:moveTo>
                  <a:lnTo>
                    <a:pt x="49" y="535"/>
                  </a:lnTo>
                  <a:lnTo>
                    <a:pt x="30" y="645"/>
                  </a:lnTo>
                  <a:lnTo>
                    <a:pt x="17" y="736"/>
                  </a:lnTo>
                  <a:lnTo>
                    <a:pt x="9" y="811"/>
                  </a:lnTo>
                  <a:lnTo>
                    <a:pt x="3" y="870"/>
                  </a:lnTo>
                  <a:lnTo>
                    <a:pt x="1" y="911"/>
                  </a:lnTo>
                  <a:lnTo>
                    <a:pt x="0" y="936"/>
                  </a:lnTo>
                  <a:lnTo>
                    <a:pt x="0" y="945"/>
                  </a:lnTo>
                  <a:lnTo>
                    <a:pt x="1" y="937"/>
                  </a:lnTo>
                  <a:lnTo>
                    <a:pt x="6" y="916"/>
                  </a:lnTo>
                  <a:lnTo>
                    <a:pt x="11" y="883"/>
                  </a:lnTo>
                  <a:lnTo>
                    <a:pt x="19" y="840"/>
                  </a:lnTo>
                  <a:lnTo>
                    <a:pt x="29" y="788"/>
                  </a:lnTo>
                  <a:lnTo>
                    <a:pt x="40" y="731"/>
                  </a:lnTo>
                  <a:lnTo>
                    <a:pt x="53" y="668"/>
                  </a:lnTo>
                  <a:lnTo>
                    <a:pt x="67" y="603"/>
                  </a:lnTo>
                  <a:lnTo>
                    <a:pt x="80" y="535"/>
                  </a:lnTo>
                  <a:lnTo>
                    <a:pt x="96" y="469"/>
                  </a:lnTo>
                  <a:lnTo>
                    <a:pt x="111" y="405"/>
                  </a:lnTo>
                  <a:lnTo>
                    <a:pt x="126" y="344"/>
                  </a:lnTo>
                  <a:lnTo>
                    <a:pt x="141" y="291"/>
                  </a:lnTo>
                  <a:lnTo>
                    <a:pt x="156" y="244"/>
                  </a:lnTo>
                  <a:lnTo>
                    <a:pt x="170" y="206"/>
                  </a:lnTo>
                  <a:lnTo>
                    <a:pt x="184" y="181"/>
                  </a:lnTo>
                  <a:lnTo>
                    <a:pt x="207" y="143"/>
                  </a:lnTo>
                  <a:lnTo>
                    <a:pt x="229" y="109"/>
                  </a:lnTo>
                  <a:lnTo>
                    <a:pt x="247" y="79"/>
                  </a:lnTo>
                  <a:lnTo>
                    <a:pt x="262" y="52"/>
                  </a:lnTo>
                  <a:lnTo>
                    <a:pt x="273" y="31"/>
                  </a:lnTo>
                  <a:lnTo>
                    <a:pt x="282" y="14"/>
                  </a:lnTo>
                  <a:lnTo>
                    <a:pt x="286" y="4"/>
                  </a:lnTo>
                  <a:lnTo>
                    <a:pt x="289" y="0"/>
                  </a:lnTo>
                  <a:lnTo>
                    <a:pt x="288" y="1"/>
                  </a:lnTo>
                  <a:lnTo>
                    <a:pt x="282" y="3"/>
                  </a:lnTo>
                  <a:lnTo>
                    <a:pt x="275" y="7"/>
                  </a:lnTo>
                  <a:lnTo>
                    <a:pt x="265" y="14"/>
                  </a:lnTo>
                  <a:lnTo>
                    <a:pt x="254" y="24"/>
                  </a:lnTo>
                  <a:lnTo>
                    <a:pt x="240" y="36"/>
                  </a:lnTo>
                  <a:lnTo>
                    <a:pt x="224" y="52"/>
                  </a:lnTo>
                  <a:lnTo>
                    <a:pt x="209" y="72"/>
                  </a:lnTo>
                  <a:lnTo>
                    <a:pt x="192" y="97"/>
                  </a:lnTo>
                  <a:lnTo>
                    <a:pt x="174" y="125"/>
                  </a:lnTo>
                  <a:lnTo>
                    <a:pt x="156" y="159"/>
                  </a:lnTo>
                  <a:lnTo>
                    <a:pt x="138" y="197"/>
                  </a:lnTo>
                  <a:lnTo>
                    <a:pt x="121" y="240"/>
                  </a:lnTo>
                  <a:lnTo>
                    <a:pt x="104" y="291"/>
                  </a:lnTo>
                  <a:lnTo>
                    <a:pt x="88" y="347"/>
                  </a:lnTo>
                  <a:lnTo>
                    <a:pt x="73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8760" y="6051600"/>
              <a:ext cx="160200" cy="130320"/>
            </a:xfrm>
            <a:custGeom>
              <a:avLst/>
              <a:gdLst/>
              <a:ahLst/>
              <a:rect l="l" t="t" r="r" b="b"/>
              <a:pathLst>
                <a:path w="191" h="197">
                  <a:moveTo>
                    <a:pt x="2" y="0"/>
                  </a:moveTo>
                  <a:lnTo>
                    <a:pt x="1" y="1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1" y="106"/>
                  </a:lnTo>
                  <a:lnTo>
                    <a:pt x="6" y="142"/>
                  </a:lnTo>
                  <a:lnTo>
                    <a:pt x="18" y="175"/>
                  </a:lnTo>
                  <a:lnTo>
                    <a:pt x="34" y="194"/>
                  </a:lnTo>
                  <a:lnTo>
                    <a:pt x="59" y="197"/>
                  </a:lnTo>
                  <a:lnTo>
                    <a:pt x="87" y="185"/>
                  </a:lnTo>
                  <a:lnTo>
                    <a:pt x="113" y="162"/>
                  </a:lnTo>
                  <a:lnTo>
                    <a:pt x="136" y="135"/>
                  </a:lnTo>
                  <a:lnTo>
                    <a:pt x="155" y="106"/>
                  </a:lnTo>
                  <a:lnTo>
                    <a:pt x="170" y="78"/>
                  </a:lnTo>
                  <a:lnTo>
                    <a:pt x="182" y="54"/>
                  </a:lnTo>
                  <a:lnTo>
                    <a:pt x="189" y="37"/>
                  </a:lnTo>
                  <a:lnTo>
                    <a:pt x="191" y="30"/>
                  </a:lnTo>
                  <a:lnTo>
                    <a:pt x="188" y="34"/>
                  </a:lnTo>
                  <a:lnTo>
                    <a:pt x="179" y="45"/>
                  </a:lnTo>
                  <a:lnTo>
                    <a:pt x="165" y="61"/>
                  </a:lnTo>
                  <a:lnTo>
                    <a:pt x="148" y="78"/>
                  </a:lnTo>
                  <a:lnTo>
                    <a:pt x="129" y="96"/>
                  </a:lnTo>
                  <a:lnTo>
                    <a:pt x="109" y="113"/>
                  </a:lnTo>
                  <a:lnTo>
                    <a:pt x="89" y="125"/>
                  </a:lnTo>
                  <a:lnTo>
                    <a:pt x="69" y="131"/>
                  </a:lnTo>
                  <a:lnTo>
                    <a:pt x="50" y="127"/>
                  </a:lnTo>
                  <a:lnTo>
                    <a:pt x="36" y="113"/>
                  </a:lnTo>
                  <a:lnTo>
                    <a:pt x="23" y="92"/>
                  </a:lnTo>
                  <a:lnTo>
                    <a:pt x="14" y="68"/>
                  </a:lnTo>
                  <a:lnTo>
                    <a:pt x="9" y="43"/>
                  </a:lnTo>
                  <a:lnTo>
                    <a:pt x="4" y="21"/>
                  </a:lnTo>
                  <a:lnTo>
                    <a:pt x="3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09600" y="6145200"/>
              <a:ext cx="144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87440" y="5475240"/>
              <a:ext cx="171360" cy="51120"/>
            </a:xfrm>
            <a:custGeom>
              <a:avLst/>
              <a:gdLst/>
              <a:ahLst/>
              <a:rect l="l" t="t" r="r" b="b"/>
              <a:pathLst>
                <a:path w="204" h="80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5" y="14"/>
                  </a:lnTo>
                  <a:lnTo>
                    <a:pt x="10" y="18"/>
                  </a:lnTo>
                  <a:lnTo>
                    <a:pt x="19" y="24"/>
                  </a:lnTo>
                  <a:lnTo>
                    <a:pt x="33" y="27"/>
                  </a:lnTo>
                  <a:lnTo>
                    <a:pt x="51" y="30"/>
                  </a:lnTo>
                  <a:lnTo>
                    <a:pt x="74" y="31"/>
                  </a:lnTo>
                  <a:lnTo>
                    <a:pt x="100" y="34"/>
                  </a:lnTo>
                  <a:lnTo>
                    <a:pt x="125" y="38"/>
                  </a:lnTo>
                  <a:lnTo>
                    <a:pt x="147" y="47"/>
                  </a:lnTo>
                  <a:lnTo>
                    <a:pt x="166" y="55"/>
                  </a:lnTo>
                  <a:lnTo>
                    <a:pt x="182" y="65"/>
                  </a:lnTo>
                  <a:lnTo>
                    <a:pt x="194" y="73"/>
                  </a:lnTo>
                  <a:lnTo>
                    <a:pt x="202" y="77"/>
                  </a:lnTo>
                  <a:lnTo>
                    <a:pt x="204" y="80"/>
                  </a:lnTo>
                  <a:lnTo>
                    <a:pt x="203" y="79"/>
                  </a:lnTo>
                  <a:lnTo>
                    <a:pt x="197" y="73"/>
                  </a:lnTo>
                  <a:lnTo>
                    <a:pt x="189" y="65"/>
                  </a:lnTo>
                  <a:lnTo>
                    <a:pt x="178" y="55"/>
                  </a:lnTo>
                  <a:lnTo>
                    <a:pt x="164" y="44"/>
                  </a:lnTo>
                  <a:lnTo>
                    <a:pt x="147" y="33"/>
                  </a:lnTo>
                  <a:lnTo>
                    <a:pt x="125" y="23"/>
                  </a:lnTo>
                  <a:lnTo>
                    <a:pt x="102" y="13"/>
                  </a:lnTo>
                  <a:lnTo>
                    <a:pt x="78" y="6"/>
                  </a:lnTo>
                  <a:lnTo>
                    <a:pt x="58" y="2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3960" y="5453280"/>
              <a:ext cx="27000" cy="15084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21" y="10"/>
                  </a:moveTo>
                  <a:lnTo>
                    <a:pt x="17" y="18"/>
                  </a:lnTo>
                  <a:lnTo>
                    <a:pt x="12" y="41"/>
                  </a:lnTo>
                  <a:lnTo>
                    <a:pt x="5" y="73"/>
                  </a:lnTo>
                  <a:lnTo>
                    <a:pt x="0" y="112"/>
                  </a:lnTo>
                  <a:lnTo>
                    <a:pt x="1" y="153"/>
                  </a:lnTo>
                  <a:lnTo>
                    <a:pt x="5" y="191"/>
                  </a:lnTo>
                  <a:lnTo>
                    <a:pt x="8" y="218"/>
                  </a:lnTo>
                  <a:lnTo>
                    <a:pt x="10" y="229"/>
                  </a:lnTo>
                  <a:lnTo>
                    <a:pt x="23" y="228"/>
                  </a:lnTo>
                  <a:lnTo>
                    <a:pt x="23" y="226"/>
                  </a:lnTo>
                  <a:lnTo>
                    <a:pt x="22" y="223"/>
                  </a:lnTo>
                  <a:lnTo>
                    <a:pt x="19" y="215"/>
                  </a:lnTo>
                  <a:lnTo>
                    <a:pt x="16" y="199"/>
                  </a:lnTo>
                  <a:lnTo>
                    <a:pt x="16" y="159"/>
                  </a:lnTo>
                  <a:lnTo>
                    <a:pt x="22" y="91"/>
                  </a:lnTo>
                  <a:lnTo>
                    <a:pt x="27" y="28"/>
                  </a:lnTo>
                  <a:lnTo>
                    <a:pt x="31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8880" y="5721480"/>
              <a:ext cx="112680" cy="208080"/>
            </a:xfrm>
            <a:custGeom>
              <a:avLst/>
              <a:gdLst/>
              <a:ahLst/>
              <a:rect l="l" t="t" r="r" b="b"/>
              <a:pathLst>
                <a:path w="133" h="318">
                  <a:moveTo>
                    <a:pt x="94" y="159"/>
                  </a:moveTo>
                  <a:lnTo>
                    <a:pt x="103" y="153"/>
                  </a:lnTo>
                  <a:lnTo>
                    <a:pt x="110" y="146"/>
                  </a:lnTo>
                  <a:lnTo>
                    <a:pt x="116" y="138"/>
                  </a:lnTo>
                  <a:lnTo>
                    <a:pt x="122" y="129"/>
                  </a:lnTo>
                  <a:lnTo>
                    <a:pt x="127" y="118"/>
                  </a:lnTo>
                  <a:lnTo>
                    <a:pt x="130" y="107"/>
                  </a:lnTo>
                  <a:lnTo>
                    <a:pt x="132" y="96"/>
                  </a:lnTo>
                  <a:lnTo>
                    <a:pt x="133" y="83"/>
                  </a:lnTo>
                  <a:lnTo>
                    <a:pt x="132" y="66"/>
                  </a:lnTo>
                  <a:lnTo>
                    <a:pt x="128" y="51"/>
                  </a:lnTo>
                  <a:lnTo>
                    <a:pt x="122" y="37"/>
                  </a:lnTo>
                  <a:lnTo>
                    <a:pt x="114" y="24"/>
                  </a:lnTo>
                  <a:lnTo>
                    <a:pt x="104" y="14"/>
                  </a:lnTo>
                  <a:lnTo>
                    <a:pt x="93" y="7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30" y="14"/>
                  </a:lnTo>
                  <a:lnTo>
                    <a:pt x="21" y="24"/>
                  </a:lnTo>
                  <a:lnTo>
                    <a:pt x="12" y="37"/>
                  </a:lnTo>
                  <a:lnTo>
                    <a:pt x="6" y="51"/>
                  </a:lnTo>
                  <a:lnTo>
                    <a:pt x="1" y="66"/>
                  </a:lnTo>
                  <a:lnTo>
                    <a:pt x="0" y="83"/>
                  </a:lnTo>
                  <a:lnTo>
                    <a:pt x="1" y="96"/>
                  </a:lnTo>
                  <a:lnTo>
                    <a:pt x="4" y="107"/>
                  </a:lnTo>
                  <a:lnTo>
                    <a:pt x="7" y="118"/>
                  </a:lnTo>
                  <a:lnTo>
                    <a:pt x="12" y="129"/>
                  </a:lnTo>
                  <a:lnTo>
                    <a:pt x="17" y="138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1" y="159"/>
                  </a:lnTo>
                  <a:lnTo>
                    <a:pt x="32" y="165"/>
                  </a:lnTo>
                  <a:lnTo>
                    <a:pt x="25" y="172"/>
                  </a:lnTo>
                  <a:lnTo>
                    <a:pt x="17" y="180"/>
                  </a:lnTo>
                  <a:lnTo>
                    <a:pt x="12" y="188"/>
                  </a:lnTo>
                  <a:lnTo>
                    <a:pt x="7" y="200"/>
                  </a:lnTo>
                  <a:lnTo>
                    <a:pt x="4" y="211"/>
                  </a:lnTo>
                  <a:lnTo>
                    <a:pt x="1" y="222"/>
                  </a:lnTo>
                  <a:lnTo>
                    <a:pt x="0" y="235"/>
                  </a:lnTo>
                  <a:lnTo>
                    <a:pt x="1" y="252"/>
                  </a:lnTo>
                  <a:lnTo>
                    <a:pt x="6" y="267"/>
                  </a:lnTo>
                  <a:lnTo>
                    <a:pt x="12" y="281"/>
                  </a:lnTo>
                  <a:lnTo>
                    <a:pt x="21" y="293"/>
                  </a:lnTo>
                  <a:lnTo>
                    <a:pt x="30" y="304"/>
                  </a:lnTo>
                  <a:lnTo>
                    <a:pt x="41" y="311"/>
                  </a:lnTo>
                  <a:lnTo>
                    <a:pt x="53" y="316"/>
                  </a:lnTo>
                  <a:lnTo>
                    <a:pt x="67" y="318"/>
                  </a:lnTo>
                  <a:lnTo>
                    <a:pt x="80" y="316"/>
                  </a:lnTo>
                  <a:lnTo>
                    <a:pt x="93" y="311"/>
                  </a:lnTo>
                  <a:lnTo>
                    <a:pt x="104" y="304"/>
                  </a:lnTo>
                  <a:lnTo>
                    <a:pt x="114" y="293"/>
                  </a:lnTo>
                  <a:lnTo>
                    <a:pt x="122" y="281"/>
                  </a:lnTo>
                  <a:lnTo>
                    <a:pt x="128" y="267"/>
                  </a:lnTo>
                  <a:lnTo>
                    <a:pt x="132" y="252"/>
                  </a:lnTo>
                  <a:lnTo>
                    <a:pt x="133" y="235"/>
                  </a:lnTo>
                  <a:lnTo>
                    <a:pt x="132" y="222"/>
                  </a:lnTo>
                  <a:lnTo>
                    <a:pt x="130" y="211"/>
                  </a:lnTo>
                  <a:lnTo>
                    <a:pt x="127" y="200"/>
                  </a:lnTo>
                  <a:lnTo>
                    <a:pt x="122" y="188"/>
                  </a:lnTo>
                  <a:lnTo>
                    <a:pt x="116" y="180"/>
                  </a:lnTo>
                  <a:lnTo>
                    <a:pt x="110" y="172"/>
                  </a:lnTo>
                  <a:lnTo>
                    <a:pt x="103" y="165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31760" y="5048280"/>
              <a:ext cx="204840" cy="69840"/>
            </a:xfrm>
            <a:custGeom>
              <a:avLst/>
              <a:gdLst/>
              <a:ahLst/>
              <a:rect l="l" t="t" r="r" b="b"/>
              <a:pathLst>
                <a:path w="242" h="105">
                  <a:moveTo>
                    <a:pt x="238" y="19"/>
                  </a:moveTo>
                  <a:lnTo>
                    <a:pt x="239" y="14"/>
                  </a:lnTo>
                  <a:lnTo>
                    <a:pt x="241" y="9"/>
                  </a:lnTo>
                  <a:lnTo>
                    <a:pt x="241" y="5"/>
                  </a:lnTo>
                  <a:lnTo>
                    <a:pt x="242" y="0"/>
                  </a:lnTo>
                  <a:lnTo>
                    <a:pt x="221" y="1"/>
                  </a:lnTo>
                  <a:lnTo>
                    <a:pt x="201" y="4"/>
                  </a:lnTo>
                  <a:lnTo>
                    <a:pt x="182" y="8"/>
                  </a:lnTo>
                  <a:lnTo>
                    <a:pt x="164" y="12"/>
                  </a:lnTo>
                  <a:lnTo>
                    <a:pt x="146" y="16"/>
                  </a:lnTo>
                  <a:lnTo>
                    <a:pt x="128" y="22"/>
                  </a:lnTo>
                  <a:lnTo>
                    <a:pt x="112" y="28"/>
                  </a:lnTo>
                  <a:lnTo>
                    <a:pt x="96" y="35"/>
                  </a:lnTo>
                  <a:lnTo>
                    <a:pt x="80" y="42"/>
                  </a:lnTo>
                  <a:lnTo>
                    <a:pt x="66" y="49"/>
                  </a:lnTo>
                  <a:lnTo>
                    <a:pt x="52" y="57"/>
                  </a:lnTo>
                  <a:lnTo>
                    <a:pt x="40" y="66"/>
                  </a:lnTo>
                  <a:lnTo>
                    <a:pt x="29" y="75"/>
                  </a:lnTo>
                  <a:lnTo>
                    <a:pt x="18" y="85"/>
                  </a:lnTo>
                  <a:lnTo>
                    <a:pt x="8" y="95"/>
                  </a:lnTo>
                  <a:lnTo>
                    <a:pt x="0" y="105"/>
                  </a:lnTo>
                  <a:lnTo>
                    <a:pt x="11" y="97"/>
                  </a:lnTo>
                  <a:lnTo>
                    <a:pt x="21" y="88"/>
                  </a:lnTo>
                  <a:lnTo>
                    <a:pt x="32" y="81"/>
                  </a:lnTo>
                  <a:lnTo>
                    <a:pt x="44" y="73"/>
                  </a:lnTo>
                  <a:lnTo>
                    <a:pt x="57" y="66"/>
                  </a:lnTo>
                  <a:lnTo>
                    <a:pt x="70" y="60"/>
                  </a:lnTo>
                  <a:lnTo>
                    <a:pt x="85" y="53"/>
                  </a:lnTo>
                  <a:lnTo>
                    <a:pt x="100" y="47"/>
                  </a:lnTo>
                  <a:lnTo>
                    <a:pt x="115" y="42"/>
                  </a:lnTo>
                  <a:lnTo>
                    <a:pt x="131" y="37"/>
                  </a:lnTo>
                  <a:lnTo>
                    <a:pt x="148" y="33"/>
                  </a:lnTo>
                  <a:lnTo>
                    <a:pt x="165" y="29"/>
                  </a:lnTo>
                  <a:lnTo>
                    <a:pt x="183" y="26"/>
                  </a:lnTo>
                  <a:lnTo>
                    <a:pt x="201" y="23"/>
                  </a:lnTo>
                  <a:lnTo>
                    <a:pt x="219" y="21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36440" y="5105520"/>
              <a:ext cx="190440" cy="68400"/>
            </a:xfrm>
            <a:custGeom>
              <a:avLst/>
              <a:gdLst/>
              <a:ahLst/>
              <a:rect l="l" t="t" r="r" b="b"/>
              <a:pathLst>
                <a:path w="227" h="104">
                  <a:moveTo>
                    <a:pt x="225" y="20"/>
                  </a:moveTo>
                  <a:lnTo>
                    <a:pt x="225" y="14"/>
                  </a:lnTo>
                  <a:lnTo>
                    <a:pt x="227" y="10"/>
                  </a:lnTo>
                  <a:lnTo>
                    <a:pt x="227" y="6"/>
                  </a:lnTo>
                  <a:lnTo>
                    <a:pt x="227" y="0"/>
                  </a:lnTo>
                  <a:lnTo>
                    <a:pt x="207" y="3"/>
                  </a:lnTo>
                  <a:lnTo>
                    <a:pt x="189" y="6"/>
                  </a:lnTo>
                  <a:lnTo>
                    <a:pt x="171" y="9"/>
                  </a:lnTo>
                  <a:lnTo>
                    <a:pt x="153" y="13"/>
                  </a:lnTo>
                  <a:lnTo>
                    <a:pt x="136" y="19"/>
                  </a:lnTo>
                  <a:lnTo>
                    <a:pt x="121" y="23"/>
                  </a:lnTo>
                  <a:lnTo>
                    <a:pt x="105" y="30"/>
                  </a:lnTo>
                  <a:lnTo>
                    <a:pt x="90" y="35"/>
                  </a:lnTo>
                  <a:lnTo>
                    <a:pt x="75" y="42"/>
                  </a:lnTo>
                  <a:lnTo>
                    <a:pt x="62" y="51"/>
                  </a:lnTo>
                  <a:lnTo>
                    <a:pt x="50" y="58"/>
                  </a:lnTo>
                  <a:lnTo>
                    <a:pt x="37" y="66"/>
                  </a:lnTo>
                  <a:lnTo>
                    <a:pt x="27" y="76"/>
                  </a:lnTo>
                  <a:lnTo>
                    <a:pt x="17" y="85"/>
                  </a:lnTo>
                  <a:lnTo>
                    <a:pt x="8" y="94"/>
                  </a:lnTo>
                  <a:lnTo>
                    <a:pt x="0" y="104"/>
                  </a:lnTo>
                  <a:lnTo>
                    <a:pt x="9" y="96"/>
                  </a:lnTo>
                  <a:lnTo>
                    <a:pt x="19" y="89"/>
                  </a:lnTo>
                  <a:lnTo>
                    <a:pt x="30" y="80"/>
                  </a:lnTo>
                  <a:lnTo>
                    <a:pt x="42" y="73"/>
                  </a:lnTo>
                  <a:lnTo>
                    <a:pt x="54" y="68"/>
                  </a:lnTo>
                  <a:lnTo>
                    <a:pt x="66" y="61"/>
                  </a:lnTo>
                  <a:lnTo>
                    <a:pt x="80" y="55"/>
                  </a:lnTo>
                  <a:lnTo>
                    <a:pt x="95" y="49"/>
                  </a:lnTo>
                  <a:lnTo>
                    <a:pt x="109" y="44"/>
                  </a:lnTo>
                  <a:lnTo>
                    <a:pt x="124" y="38"/>
                  </a:lnTo>
                  <a:lnTo>
                    <a:pt x="140" y="34"/>
                  </a:lnTo>
                  <a:lnTo>
                    <a:pt x="157" y="31"/>
                  </a:lnTo>
                  <a:lnTo>
                    <a:pt x="174" y="27"/>
                  </a:lnTo>
                  <a:lnTo>
                    <a:pt x="190" y="24"/>
                  </a:lnTo>
                  <a:lnTo>
                    <a:pt x="207" y="21"/>
                  </a:lnTo>
                  <a:lnTo>
                    <a:pt x="225" y="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62000" y="5153040"/>
              <a:ext cx="166680" cy="6516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19"/>
                  </a:moveTo>
                  <a:lnTo>
                    <a:pt x="197" y="13"/>
                  </a:lnTo>
                  <a:lnTo>
                    <a:pt x="197" y="9"/>
                  </a:lnTo>
                  <a:lnTo>
                    <a:pt x="197" y="5"/>
                  </a:lnTo>
                  <a:lnTo>
                    <a:pt x="196" y="0"/>
                  </a:lnTo>
                  <a:lnTo>
                    <a:pt x="180" y="3"/>
                  </a:lnTo>
                  <a:lnTo>
                    <a:pt x="163" y="6"/>
                  </a:lnTo>
                  <a:lnTo>
                    <a:pt x="148" y="10"/>
                  </a:lnTo>
                  <a:lnTo>
                    <a:pt x="134" y="14"/>
                  </a:lnTo>
                  <a:lnTo>
                    <a:pt x="119" y="20"/>
                  </a:lnTo>
                  <a:lnTo>
                    <a:pt x="104" y="26"/>
                  </a:lnTo>
                  <a:lnTo>
                    <a:pt x="92" y="31"/>
                  </a:lnTo>
                  <a:lnTo>
                    <a:pt x="78" y="37"/>
                  </a:lnTo>
                  <a:lnTo>
                    <a:pt x="66" y="44"/>
                  </a:lnTo>
                  <a:lnTo>
                    <a:pt x="55" y="51"/>
                  </a:lnTo>
                  <a:lnTo>
                    <a:pt x="44" y="58"/>
                  </a:lnTo>
                  <a:lnTo>
                    <a:pt x="34" y="66"/>
                  </a:lnTo>
                  <a:lnTo>
                    <a:pt x="24" y="73"/>
                  </a:lnTo>
                  <a:lnTo>
                    <a:pt x="15" y="82"/>
                  </a:lnTo>
                  <a:lnTo>
                    <a:pt x="7" y="92"/>
                  </a:lnTo>
                  <a:lnTo>
                    <a:pt x="0" y="100"/>
                  </a:lnTo>
                  <a:lnTo>
                    <a:pt x="8" y="93"/>
                  </a:lnTo>
                  <a:lnTo>
                    <a:pt x="17" y="86"/>
                  </a:lnTo>
                  <a:lnTo>
                    <a:pt x="28" y="79"/>
                  </a:lnTo>
                  <a:lnTo>
                    <a:pt x="38" y="72"/>
                  </a:lnTo>
                  <a:lnTo>
                    <a:pt x="49" y="65"/>
                  </a:lnTo>
                  <a:lnTo>
                    <a:pt x="60" y="59"/>
                  </a:lnTo>
                  <a:lnTo>
                    <a:pt x="72" y="54"/>
                  </a:lnTo>
                  <a:lnTo>
                    <a:pt x="84" y="48"/>
                  </a:lnTo>
                  <a:lnTo>
                    <a:pt x="96" y="44"/>
                  </a:lnTo>
                  <a:lnTo>
                    <a:pt x="110" y="38"/>
                  </a:lnTo>
                  <a:lnTo>
                    <a:pt x="123" y="34"/>
                  </a:lnTo>
                  <a:lnTo>
                    <a:pt x="138" y="30"/>
                  </a:lnTo>
                  <a:lnTo>
                    <a:pt x="153" y="27"/>
                  </a:lnTo>
                  <a:lnTo>
                    <a:pt x="167" y="24"/>
                  </a:lnTo>
                  <a:lnTo>
                    <a:pt x="182" y="21"/>
                  </a:lnTo>
                  <a:lnTo>
                    <a:pt x="19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85760" y="5207040"/>
              <a:ext cx="158760" cy="63720"/>
            </a:xfrm>
            <a:custGeom>
              <a:avLst/>
              <a:gdLst/>
              <a:ahLst/>
              <a:rect l="l" t="t" r="r" b="b"/>
              <a:pathLst>
                <a:path w="188" h="97">
                  <a:moveTo>
                    <a:pt x="188" y="16"/>
                  </a:moveTo>
                  <a:lnTo>
                    <a:pt x="187" y="12"/>
                  </a:lnTo>
                  <a:lnTo>
                    <a:pt x="186" y="8"/>
                  </a:lnTo>
                  <a:lnTo>
                    <a:pt x="183" y="4"/>
                  </a:lnTo>
                  <a:lnTo>
                    <a:pt x="182" y="0"/>
                  </a:lnTo>
                  <a:lnTo>
                    <a:pt x="166" y="2"/>
                  </a:lnTo>
                  <a:lnTo>
                    <a:pt x="152" y="7"/>
                  </a:lnTo>
                  <a:lnTo>
                    <a:pt x="138" y="11"/>
                  </a:lnTo>
                  <a:lnTo>
                    <a:pt x="124" y="15"/>
                  </a:lnTo>
                  <a:lnTo>
                    <a:pt x="110" y="19"/>
                  </a:lnTo>
                  <a:lnTo>
                    <a:pt x="98" y="25"/>
                  </a:lnTo>
                  <a:lnTo>
                    <a:pt x="84" y="30"/>
                  </a:lnTo>
                  <a:lnTo>
                    <a:pt x="73" y="37"/>
                  </a:lnTo>
                  <a:lnTo>
                    <a:pt x="62" y="43"/>
                  </a:lnTo>
                  <a:lnTo>
                    <a:pt x="50" y="50"/>
                  </a:lnTo>
                  <a:lnTo>
                    <a:pt x="40" y="57"/>
                  </a:lnTo>
                  <a:lnTo>
                    <a:pt x="31" y="64"/>
                  </a:lnTo>
                  <a:lnTo>
                    <a:pt x="22" y="73"/>
                  </a:lnTo>
                  <a:lnTo>
                    <a:pt x="14" y="80"/>
                  </a:lnTo>
                  <a:lnTo>
                    <a:pt x="6" y="88"/>
                  </a:lnTo>
                  <a:lnTo>
                    <a:pt x="0" y="97"/>
                  </a:lnTo>
                  <a:lnTo>
                    <a:pt x="7" y="89"/>
                  </a:lnTo>
                  <a:lnTo>
                    <a:pt x="16" y="82"/>
                  </a:lnTo>
                  <a:lnTo>
                    <a:pt x="25" y="75"/>
                  </a:lnTo>
                  <a:lnTo>
                    <a:pt x="36" y="70"/>
                  </a:lnTo>
                  <a:lnTo>
                    <a:pt x="46" y="64"/>
                  </a:lnTo>
                  <a:lnTo>
                    <a:pt x="57" y="57"/>
                  </a:lnTo>
                  <a:lnTo>
                    <a:pt x="68" y="53"/>
                  </a:lnTo>
                  <a:lnTo>
                    <a:pt x="80" y="47"/>
                  </a:lnTo>
                  <a:lnTo>
                    <a:pt x="92" y="42"/>
                  </a:lnTo>
                  <a:lnTo>
                    <a:pt x="104" y="37"/>
                  </a:lnTo>
                  <a:lnTo>
                    <a:pt x="118" y="33"/>
                  </a:lnTo>
                  <a:lnTo>
                    <a:pt x="131" y="29"/>
                  </a:lnTo>
                  <a:lnTo>
                    <a:pt x="145" y="25"/>
                  </a:lnTo>
                  <a:lnTo>
                    <a:pt x="159" y="22"/>
                  </a:lnTo>
                  <a:lnTo>
                    <a:pt x="173" y="19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28600" y="5253120"/>
              <a:ext cx="150840" cy="61920"/>
            </a:xfrm>
            <a:custGeom>
              <a:avLst/>
              <a:gdLst/>
              <a:ahLst/>
              <a:rect l="l" t="t" r="r" b="b"/>
              <a:pathLst>
                <a:path w="179" h="94">
                  <a:moveTo>
                    <a:pt x="179" y="16"/>
                  </a:moveTo>
                  <a:lnTo>
                    <a:pt x="175" y="11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0"/>
                  </a:lnTo>
                  <a:lnTo>
                    <a:pt x="139" y="7"/>
                  </a:lnTo>
                  <a:lnTo>
                    <a:pt x="113" y="16"/>
                  </a:lnTo>
                  <a:lnTo>
                    <a:pt x="89" y="26"/>
                  </a:lnTo>
                  <a:lnTo>
                    <a:pt x="67" y="37"/>
                  </a:lnTo>
                  <a:lnTo>
                    <a:pt x="47" y="49"/>
                  </a:lnTo>
                  <a:lnTo>
                    <a:pt x="30" y="63"/>
                  </a:lnTo>
                  <a:lnTo>
                    <a:pt x="14" y="79"/>
                  </a:lnTo>
                  <a:lnTo>
                    <a:pt x="0" y="94"/>
                  </a:lnTo>
                  <a:lnTo>
                    <a:pt x="16" y="80"/>
                  </a:lnTo>
                  <a:lnTo>
                    <a:pt x="34" y="69"/>
                  </a:lnTo>
                  <a:lnTo>
                    <a:pt x="55" y="56"/>
                  </a:lnTo>
                  <a:lnTo>
                    <a:pt x="76" y="47"/>
                  </a:lnTo>
                  <a:lnTo>
                    <a:pt x="100" y="37"/>
                  </a:lnTo>
                  <a:lnTo>
                    <a:pt x="124" y="28"/>
                  </a:lnTo>
                  <a:lnTo>
                    <a:pt x="150" y="21"/>
                  </a:lnTo>
                  <a:lnTo>
                    <a:pt x="179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74680" y="5294520"/>
              <a:ext cx="158760" cy="619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88" y="16"/>
                  </a:moveTo>
                  <a:lnTo>
                    <a:pt x="183" y="11"/>
                  </a:lnTo>
                  <a:lnTo>
                    <a:pt x="180" y="7"/>
                  </a:lnTo>
                  <a:lnTo>
                    <a:pt x="175" y="4"/>
                  </a:lnTo>
                  <a:lnTo>
                    <a:pt x="171" y="0"/>
                  </a:lnTo>
                  <a:lnTo>
                    <a:pt x="143" y="7"/>
                  </a:lnTo>
                  <a:lnTo>
                    <a:pt x="117" y="16"/>
                  </a:lnTo>
                  <a:lnTo>
                    <a:pt x="92" y="27"/>
                  </a:lnTo>
                  <a:lnTo>
                    <a:pt x="68" y="38"/>
                  </a:lnTo>
                  <a:lnTo>
                    <a:pt x="48" y="51"/>
                  </a:lnTo>
                  <a:lnTo>
                    <a:pt x="29" y="65"/>
                  </a:lnTo>
                  <a:lnTo>
                    <a:pt x="13" y="80"/>
                  </a:lnTo>
                  <a:lnTo>
                    <a:pt x="0" y="96"/>
                  </a:lnTo>
                  <a:lnTo>
                    <a:pt x="7" y="89"/>
                  </a:lnTo>
                  <a:lnTo>
                    <a:pt x="16" y="82"/>
                  </a:lnTo>
                  <a:lnTo>
                    <a:pt x="25" y="75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6" y="56"/>
                  </a:lnTo>
                  <a:lnTo>
                    <a:pt x="67" y="52"/>
                  </a:lnTo>
                  <a:lnTo>
                    <a:pt x="80" y="46"/>
                  </a:lnTo>
                  <a:lnTo>
                    <a:pt x="92" y="41"/>
                  </a:lnTo>
                  <a:lnTo>
                    <a:pt x="104" y="37"/>
                  </a:lnTo>
                  <a:lnTo>
                    <a:pt x="117" y="32"/>
                  </a:lnTo>
                  <a:lnTo>
                    <a:pt x="130" y="28"/>
                  </a:lnTo>
                  <a:lnTo>
                    <a:pt x="144" y="24"/>
                  </a:lnTo>
                  <a:lnTo>
                    <a:pt x="158" y="21"/>
                  </a:lnTo>
                  <a:lnTo>
                    <a:pt x="173" y="18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120" y="5327640"/>
              <a:ext cx="154080" cy="61920"/>
            </a:xfrm>
            <a:custGeom>
              <a:avLst/>
              <a:gdLst/>
              <a:ahLst/>
              <a:rect l="l" t="t" r="r" b="b"/>
              <a:pathLst>
                <a:path w="182" h="94">
                  <a:moveTo>
                    <a:pt x="182" y="14"/>
                  </a:moveTo>
                  <a:lnTo>
                    <a:pt x="177" y="11"/>
                  </a:lnTo>
                  <a:lnTo>
                    <a:pt x="173" y="7"/>
                  </a:lnTo>
                  <a:lnTo>
                    <a:pt x="168" y="4"/>
                  </a:lnTo>
                  <a:lnTo>
                    <a:pt x="164" y="0"/>
                  </a:lnTo>
                  <a:lnTo>
                    <a:pt x="136" y="7"/>
                  </a:lnTo>
                  <a:lnTo>
                    <a:pt x="112" y="17"/>
                  </a:lnTo>
                  <a:lnTo>
                    <a:pt x="88" y="26"/>
                  </a:lnTo>
                  <a:lnTo>
                    <a:pt x="67" y="38"/>
                  </a:lnTo>
                  <a:lnTo>
                    <a:pt x="46" y="50"/>
                  </a:lnTo>
                  <a:lnTo>
                    <a:pt x="28" y="64"/>
                  </a:lnTo>
                  <a:lnTo>
                    <a:pt x="14" y="78"/>
                  </a:lnTo>
                  <a:lnTo>
                    <a:pt x="0" y="94"/>
                  </a:lnTo>
                  <a:lnTo>
                    <a:pt x="8" y="87"/>
                  </a:lnTo>
                  <a:lnTo>
                    <a:pt x="16" y="80"/>
                  </a:lnTo>
                  <a:lnTo>
                    <a:pt x="25" y="74"/>
                  </a:lnTo>
                  <a:lnTo>
                    <a:pt x="35" y="67"/>
                  </a:lnTo>
                  <a:lnTo>
                    <a:pt x="45" y="62"/>
                  </a:lnTo>
                  <a:lnTo>
                    <a:pt x="55" y="56"/>
                  </a:lnTo>
                  <a:lnTo>
                    <a:pt x="65" y="50"/>
                  </a:lnTo>
                  <a:lnTo>
                    <a:pt x="78" y="45"/>
                  </a:lnTo>
                  <a:lnTo>
                    <a:pt x="89" y="40"/>
                  </a:lnTo>
                  <a:lnTo>
                    <a:pt x="102" y="35"/>
                  </a:lnTo>
                  <a:lnTo>
                    <a:pt x="114" y="31"/>
                  </a:lnTo>
                  <a:lnTo>
                    <a:pt x="126" y="26"/>
                  </a:lnTo>
                  <a:lnTo>
                    <a:pt x="140" y="24"/>
                  </a:lnTo>
                  <a:lnTo>
                    <a:pt x="153" y="19"/>
                  </a:lnTo>
                  <a:lnTo>
                    <a:pt x="167" y="17"/>
                  </a:lnTo>
                  <a:lnTo>
                    <a:pt x="182" y="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84120" y="5361120"/>
              <a:ext cx="160200" cy="6336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15"/>
                  </a:moveTo>
                  <a:lnTo>
                    <a:pt x="185" y="11"/>
                  </a:lnTo>
                  <a:lnTo>
                    <a:pt x="181" y="7"/>
                  </a:lnTo>
                  <a:lnTo>
                    <a:pt x="175" y="4"/>
                  </a:lnTo>
                  <a:lnTo>
                    <a:pt x="169" y="0"/>
                  </a:lnTo>
                  <a:lnTo>
                    <a:pt x="141" y="7"/>
                  </a:lnTo>
                  <a:lnTo>
                    <a:pt x="115" y="15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8" y="50"/>
                  </a:lnTo>
                  <a:lnTo>
                    <a:pt x="29" y="64"/>
                  </a:lnTo>
                  <a:lnTo>
                    <a:pt x="14" y="80"/>
                  </a:lnTo>
                  <a:lnTo>
                    <a:pt x="0" y="95"/>
                  </a:lnTo>
                  <a:lnTo>
                    <a:pt x="8" y="88"/>
                  </a:lnTo>
                  <a:lnTo>
                    <a:pt x="17" y="81"/>
                  </a:lnTo>
                  <a:lnTo>
                    <a:pt x="26" y="74"/>
                  </a:lnTo>
                  <a:lnTo>
                    <a:pt x="36" y="67"/>
                  </a:lnTo>
                  <a:lnTo>
                    <a:pt x="46" y="62"/>
                  </a:lnTo>
                  <a:lnTo>
                    <a:pt x="58" y="56"/>
                  </a:lnTo>
                  <a:lnTo>
                    <a:pt x="69" y="50"/>
                  </a:lnTo>
                  <a:lnTo>
                    <a:pt x="80" y="45"/>
                  </a:lnTo>
                  <a:lnTo>
                    <a:pt x="93" y="39"/>
                  </a:lnTo>
                  <a:lnTo>
                    <a:pt x="106" y="35"/>
                  </a:lnTo>
                  <a:lnTo>
                    <a:pt x="119" y="31"/>
                  </a:lnTo>
                  <a:lnTo>
                    <a:pt x="132" y="26"/>
                  </a:lnTo>
                  <a:lnTo>
                    <a:pt x="147" y="24"/>
                  </a:lnTo>
                  <a:lnTo>
                    <a:pt x="161" y="21"/>
                  </a:lnTo>
                  <a:lnTo>
                    <a:pt x="176" y="18"/>
                  </a:lnTo>
                  <a:lnTo>
                    <a:pt x="191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1960" y="5402520"/>
              <a:ext cx="304560" cy="236520"/>
            </a:xfrm>
            <a:custGeom>
              <a:avLst/>
              <a:gdLst/>
              <a:ahLst/>
              <a:rect l="l" t="t" r="r" b="b"/>
              <a:pathLst>
                <a:path w="362" h="357">
                  <a:moveTo>
                    <a:pt x="182" y="0"/>
                  </a:moveTo>
                  <a:lnTo>
                    <a:pt x="164" y="1"/>
                  </a:lnTo>
                  <a:lnTo>
                    <a:pt x="146" y="4"/>
                  </a:lnTo>
                  <a:lnTo>
                    <a:pt x="128" y="8"/>
                  </a:lnTo>
                  <a:lnTo>
                    <a:pt x="111" y="14"/>
                  </a:lnTo>
                  <a:lnTo>
                    <a:pt x="95" y="21"/>
                  </a:lnTo>
                  <a:lnTo>
                    <a:pt x="80" y="31"/>
                  </a:lnTo>
                  <a:lnTo>
                    <a:pt x="67" y="41"/>
                  </a:lnTo>
                  <a:lnTo>
                    <a:pt x="53" y="52"/>
                  </a:lnTo>
                  <a:lnTo>
                    <a:pt x="42" y="65"/>
                  </a:lnTo>
                  <a:lnTo>
                    <a:pt x="31" y="79"/>
                  </a:lnTo>
                  <a:lnTo>
                    <a:pt x="22" y="93"/>
                  </a:lnTo>
                  <a:lnTo>
                    <a:pt x="15" y="108"/>
                  </a:lnTo>
                  <a:lnTo>
                    <a:pt x="8" y="125"/>
                  </a:lnTo>
                  <a:lnTo>
                    <a:pt x="4" y="142"/>
                  </a:lnTo>
                  <a:lnTo>
                    <a:pt x="1" y="159"/>
                  </a:lnTo>
                  <a:lnTo>
                    <a:pt x="0" y="177"/>
                  </a:lnTo>
                  <a:lnTo>
                    <a:pt x="1" y="195"/>
                  </a:lnTo>
                  <a:lnTo>
                    <a:pt x="4" y="214"/>
                  </a:lnTo>
                  <a:lnTo>
                    <a:pt x="8" y="230"/>
                  </a:lnTo>
                  <a:lnTo>
                    <a:pt x="15" y="247"/>
                  </a:lnTo>
                  <a:lnTo>
                    <a:pt x="22" y="263"/>
                  </a:lnTo>
                  <a:lnTo>
                    <a:pt x="31" y="278"/>
                  </a:lnTo>
                  <a:lnTo>
                    <a:pt x="42" y="292"/>
                  </a:lnTo>
                  <a:lnTo>
                    <a:pt x="53" y="305"/>
                  </a:lnTo>
                  <a:lnTo>
                    <a:pt x="67" y="316"/>
                  </a:lnTo>
                  <a:lnTo>
                    <a:pt x="80" y="326"/>
                  </a:lnTo>
                  <a:lnTo>
                    <a:pt x="95" y="336"/>
                  </a:lnTo>
                  <a:lnTo>
                    <a:pt x="111" y="343"/>
                  </a:lnTo>
                  <a:lnTo>
                    <a:pt x="128" y="349"/>
                  </a:lnTo>
                  <a:lnTo>
                    <a:pt x="146" y="353"/>
                  </a:lnTo>
                  <a:lnTo>
                    <a:pt x="164" y="356"/>
                  </a:lnTo>
                  <a:lnTo>
                    <a:pt x="182" y="357"/>
                  </a:lnTo>
                  <a:lnTo>
                    <a:pt x="200" y="356"/>
                  </a:lnTo>
                  <a:lnTo>
                    <a:pt x="218" y="353"/>
                  </a:lnTo>
                  <a:lnTo>
                    <a:pt x="235" y="349"/>
                  </a:lnTo>
                  <a:lnTo>
                    <a:pt x="252" y="343"/>
                  </a:lnTo>
                  <a:lnTo>
                    <a:pt x="267" y="336"/>
                  </a:lnTo>
                  <a:lnTo>
                    <a:pt x="282" y="326"/>
                  </a:lnTo>
                  <a:lnTo>
                    <a:pt x="297" y="316"/>
                  </a:lnTo>
                  <a:lnTo>
                    <a:pt x="309" y="305"/>
                  </a:lnTo>
                  <a:lnTo>
                    <a:pt x="320" y="292"/>
                  </a:lnTo>
                  <a:lnTo>
                    <a:pt x="332" y="278"/>
                  </a:lnTo>
                  <a:lnTo>
                    <a:pt x="341" y="263"/>
                  </a:lnTo>
                  <a:lnTo>
                    <a:pt x="347" y="247"/>
                  </a:lnTo>
                  <a:lnTo>
                    <a:pt x="354" y="230"/>
                  </a:lnTo>
                  <a:lnTo>
                    <a:pt x="359" y="214"/>
                  </a:lnTo>
                  <a:lnTo>
                    <a:pt x="361" y="195"/>
                  </a:lnTo>
                  <a:lnTo>
                    <a:pt x="362" y="177"/>
                  </a:lnTo>
                  <a:lnTo>
                    <a:pt x="361" y="159"/>
                  </a:lnTo>
                  <a:lnTo>
                    <a:pt x="359" y="142"/>
                  </a:lnTo>
                  <a:lnTo>
                    <a:pt x="354" y="125"/>
                  </a:lnTo>
                  <a:lnTo>
                    <a:pt x="347" y="108"/>
                  </a:lnTo>
                  <a:lnTo>
                    <a:pt x="341" y="93"/>
                  </a:lnTo>
                  <a:lnTo>
                    <a:pt x="332" y="79"/>
                  </a:lnTo>
                  <a:lnTo>
                    <a:pt x="320" y="65"/>
                  </a:lnTo>
                  <a:lnTo>
                    <a:pt x="309" y="52"/>
                  </a:lnTo>
                  <a:lnTo>
                    <a:pt x="297" y="41"/>
                  </a:lnTo>
                  <a:lnTo>
                    <a:pt x="282" y="31"/>
                  </a:lnTo>
                  <a:lnTo>
                    <a:pt x="267" y="21"/>
                  </a:lnTo>
                  <a:lnTo>
                    <a:pt x="252" y="14"/>
                  </a:lnTo>
                  <a:lnTo>
                    <a:pt x="235" y="8"/>
                  </a:lnTo>
                  <a:lnTo>
                    <a:pt x="218" y="4"/>
                  </a:lnTo>
                  <a:lnTo>
                    <a:pt x="200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0680" y="5421600"/>
              <a:ext cx="268560" cy="198360"/>
            </a:xfrm>
            <a:custGeom>
              <a:avLst/>
              <a:gdLst/>
              <a:ahLst/>
              <a:rect l="l" t="t" r="r" b="b"/>
              <a:pathLst>
                <a:path w="317" h="301">
                  <a:moveTo>
                    <a:pt x="159" y="0"/>
                  </a:moveTo>
                  <a:lnTo>
                    <a:pt x="127" y="3"/>
                  </a:lnTo>
                  <a:lnTo>
                    <a:pt x="97" y="11"/>
                  </a:lnTo>
                  <a:lnTo>
                    <a:pt x="70" y="25"/>
                  </a:lnTo>
                  <a:lnTo>
                    <a:pt x="46" y="44"/>
                  </a:lnTo>
                  <a:lnTo>
                    <a:pt x="27" y="66"/>
                  </a:lnTo>
                  <a:lnTo>
                    <a:pt x="12" y="91"/>
                  </a:lnTo>
                  <a:lnTo>
                    <a:pt x="3" y="120"/>
                  </a:lnTo>
                  <a:lnTo>
                    <a:pt x="0" y="149"/>
                  </a:lnTo>
                  <a:lnTo>
                    <a:pt x="3" y="180"/>
                  </a:lnTo>
                  <a:lnTo>
                    <a:pt x="12" y="208"/>
                  </a:lnTo>
                  <a:lnTo>
                    <a:pt x="27" y="235"/>
                  </a:lnTo>
                  <a:lnTo>
                    <a:pt x="46" y="256"/>
                  </a:lnTo>
                  <a:lnTo>
                    <a:pt x="70" y="276"/>
                  </a:lnTo>
                  <a:lnTo>
                    <a:pt x="97" y="290"/>
                  </a:lnTo>
                  <a:lnTo>
                    <a:pt x="127" y="298"/>
                  </a:lnTo>
                  <a:lnTo>
                    <a:pt x="159" y="301"/>
                  </a:lnTo>
                  <a:lnTo>
                    <a:pt x="190" y="298"/>
                  </a:lnTo>
                  <a:lnTo>
                    <a:pt x="220" y="290"/>
                  </a:lnTo>
                  <a:lnTo>
                    <a:pt x="247" y="276"/>
                  </a:lnTo>
                  <a:lnTo>
                    <a:pt x="270" y="256"/>
                  </a:lnTo>
                  <a:lnTo>
                    <a:pt x="289" y="235"/>
                  </a:lnTo>
                  <a:lnTo>
                    <a:pt x="304" y="208"/>
                  </a:lnTo>
                  <a:lnTo>
                    <a:pt x="313" y="180"/>
                  </a:lnTo>
                  <a:lnTo>
                    <a:pt x="317" y="149"/>
                  </a:lnTo>
                  <a:lnTo>
                    <a:pt x="313" y="120"/>
                  </a:lnTo>
                  <a:lnTo>
                    <a:pt x="304" y="91"/>
                  </a:lnTo>
                  <a:lnTo>
                    <a:pt x="289" y="66"/>
                  </a:lnTo>
                  <a:lnTo>
                    <a:pt x="270" y="44"/>
                  </a:lnTo>
                  <a:lnTo>
                    <a:pt x="247" y="25"/>
                  </a:lnTo>
                  <a:lnTo>
                    <a:pt x="220" y="11"/>
                  </a:lnTo>
                  <a:lnTo>
                    <a:pt x="190" y="3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69760" y="5440320"/>
              <a:ext cx="228600" cy="162000"/>
            </a:xfrm>
            <a:custGeom>
              <a:avLst/>
              <a:gdLst/>
              <a:ahLst/>
              <a:rect l="l" t="t" r="r" b="b"/>
              <a:pathLst>
                <a:path w="272" h="245">
                  <a:moveTo>
                    <a:pt x="137" y="0"/>
                  </a:moveTo>
                  <a:lnTo>
                    <a:pt x="110" y="3"/>
                  </a:lnTo>
                  <a:lnTo>
                    <a:pt x="84" y="10"/>
                  </a:lnTo>
                  <a:lnTo>
                    <a:pt x="60" y="21"/>
                  </a:lnTo>
                  <a:lnTo>
                    <a:pt x="40" y="35"/>
                  </a:lnTo>
                  <a:lnTo>
                    <a:pt x="24" y="54"/>
                  </a:lnTo>
                  <a:lnTo>
                    <a:pt x="10" y="75"/>
                  </a:lnTo>
                  <a:lnTo>
                    <a:pt x="3" y="97"/>
                  </a:lnTo>
                  <a:lnTo>
                    <a:pt x="0" y="121"/>
                  </a:lnTo>
                  <a:lnTo>
                    <a:pt x="3" y="146"/>
                  </a:lnTo>
                  <a:lnTo>
                    <a:pt x="10" y="169"/>
                  </a:lnTo>
                  <a:lnTo>
                    <a:pt x="24" y="190"/>
                  </a:lnTo>
                  <a:lnTo>
                    <a:pt x="40" y="208"/>
                  </a:lnTo>
                  <a:lnTo>
                    <a:pt x="60" y="224"/>
                  </a:lnTo>
                  <a:lnTo>
                    <a:pt x="84" y="235"/>
                  </a:lnTo>
                  <a:lnTo>
                    <a:pt x="110" y="242"/>
                  </a:lnTo>
                  <a:lnTo>
                    <a:pt x="137" y="245"/>
                  </a:lnTo>
                  <a:lnTo>
                    <a:pt x="164" y="242"/>
                  </a:lnTo>
                  <a:lnTo>
                    <a:pt x="190" y="235"/>
                  </a:lnTo>
                  <a:lnTo>
                    <a:pt x="212" y="224"/>
                  </a:lnTo>
                  <a:lnTo>
                    <a:pt x="233" y="208"/>
                  </a:lnTo>
                  <a:lnTo>
                    <a:pt x="248" y="190"/>
                  </a:lnTo>
                  <a:lnTo>
                    <a:pt x="262" y="169"/>
                  </a:lnTo>
                  <a:lnTo>
                    <a:pt x="270" y="146"/>
                  </a:lnTo>
                  <a:lnTo>
                    <a:pt x="272" y="121"/>
                  </a:lnTo>
                  <a:lnTo>
                    <a:pt x="270" y="97"/>
                  </a:lnTo>
                  <a:lnTo>
                    <a:pt x="262" y="75"/>
                  </a:lnTo>
                  <a:lnTo>
                    <a:pt x="248" y="54"/>
                  </a:lnTo>
                  <a:lnTo>
                    <a:pt x="233" y="35"/>
                  </a:lnTo>
                  <a:lnTo>
                    <a:pt x="212" y="21"/>
                  </a:lnTo>
                  <a:lnTo>
                    <a:pt x="190" y="10"/>
                  </a:lnTo>
                  <a:lnTo>
                    <a:pt x="164" y="3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2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88840" y="5459400"/>
              <a:ext cx="190440" cy="12240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114" y="0"/>
                  </a:moveTo>
                  <a:lnTo>
                    <a:pt x="91" y="2"/>
                  </a:lnTo>
                  <a:lnTo>
                    <a:pt x="70" y="7"/>
                  </a:lnTo>
                  <a:lnTo>
                    <a:pt x="49" y="16"/>
                  </a:lnTo>
                  <a:lnTo>
                    <a:pt x="34" y="27"/>
                  </a:lnTo>
                  <a:lnTo>
                    <a:pt x="19" y="41"/>
                  </a:lnTo>
                  <a:lnTo>
                    <a:pt x="9" y="57"/>
                  </a:lnTo>
                  <a:lnTo>
                    <a:pt x="2" y="75"/>
                  </a:lnTo>
                  <a:lnTo>
                    <a:pt x="0" y="93"/>
                  </a:lnTo>
                  <a:lnTo>
                    <a:pt x="2" y="113"/>
                  </a:lnTo>
                  <a:lnTo>
                    <a:pt x="9" y="130"/>
                  </a:lnTo>
                  <a:lnTo>
                    <a:pt x="19" y="145"/>
                  </a:lnTo>
                  <a:lnTo>
                    <a:pt x="34" y="159"/>
                  </a:lnTo>
                  <a:lnTo>
                    <a:pt x="49" y="172"/>
                  </a:lnTo>
                  <a:lnTo>
                    <a:pt x="70" y="180"/>
                  </a:lnTo>
                  <a:lnTo>
                    <a:pt x="91" y="186"/>
                  </a:lnTo>
                  <a:lnTo>
                    <a:pt x="114" y="187"/>
                  </a:lnTo>
                  <a:lnTo>
                    <a:pt x="136" y="186"/>
                  </a:lnTo>
                  <a:lnTo>
                    <a:pt x="158" y="180"/>
                  </a:lnTo>
                  <a:lnTo>
                    <a:pt x="177" y="172"/>
                  </a:lnTo>
                  <a:lnTo>
                    <a:pt x="194" y="159"/>
                  </a:lnTo>
                  <a:lnTo>
                    <a:pt x="207" y="145"/>
                  </a:lnTo>
                  <a:lnTo>
                    <a:pt x="217" y="130"/>
                  </a:lnTo>
                  <a:lnTo>
                    <a:pt x="224" y="113"/>
                  </a:lnTo>
                  <a:lnTo>
                    <a:pt x="226" y="93"/>
                  </a:lnTo>
                  <a:lnTo>
                    <a:pt x="224" y="75"/>
                  </a:lnTo>
                  <a:lnTo>
                    <a:pt x="217" y="57"/>
                  </a:lnTo>
                  <a:lnTo>
                    <a:pt x="207" y="41"/>
                  </a:lnTo>
                  <a:lnTo>
                    <a:pt x="194" y="27"/>
                  </a:lnTo>
                  <a:lnTo>
                    <a:pt x="177" y="16"/>
                  </a:lnTo>
                  <a:lnTo>
                    <a:pt x="158" y="7"/>
                  </a:lnTo>
                  <a:lnTo>
                    <a:pt x="136" y="2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2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07920" y="5477040"/>
              <a:ext cx="152640" cy="85680"/>
            </a:xfrm>
            <a:custGeom>
              <a:avLst/>
              <a:gdLst/>
              <a:ahLst/>
              <a:rect l="l" t="t" r="r" b="b"/>
              <a:pathLst>
                <a:path w="182" h="131">
                  <a:moveTo>
                    <a:pt x="92" y="0"/>
                  </a:moveTo>
                  <a:lnTo>
                    <a:pt x="74" y="2"/>
                  </a:lnTo>
                  <a:lnTo>
                    <a:pt x="56" y="6"/>
                  </a:lnTo>
                  <a:lnTo>
                    <a:pt x="41" y="12"/>
                  </a:lnTo>
                  <a:lnTo>
                    <a:pt x="27" y="19"/>
                  </a:lnTo>
                  <a:lnTo>
                    <a:pt x="16" y="29"/>
                  </a:lnTo>
                  <a:lnTo>
                    <a:pt x="7" y="40"/>
                  </a:lnTo>
                  <a:lnTo>
                    <a:pt x="3" y="52"/>
                  </a:lnTo>
                  <a:lnTo>
                    <a:pt x="0" y="65"/>
                  </a:lnTo>
                  <a:lnTo>
                    <a:pt x="3" y="78"/>
                  </a:lnTo>
                  <a:lnTo>
                    <a:pt x="7" y="90"/>
                  </a:lnTo>
                  <a:lnTo>
                    <a:pt x="16" y="102"/>
                  </a:lnTo>
                  <a:lnTo>
                    <a:pt x="27" y="111"/>
                  </a:lnTo>
                  <a:lnTo>
                    <a:pt x="41" y="120"/>
                  </a:lnTo>
                  <a:lnTo>
                    <a:pt x="56" y="126"/>
                  </a:lnTo>
                  <a:lnTo>
                    <a:pt x="74" y="130"/>
                  </a:lnTo>
                  <a:lnTo>
                    <a:pt x="92" y="131"/>
                  </a:lnTo>
                  <a:lnTo>
                    <a:pt x="110" y="130"/>
                  </a:lnTo>
                  <a:lnTo>
                    <a:pt x="127" y="126"/>
                  </a:lnTo>
                  <a:lnTo>
                    <a:pt x="141" y="120"/>
                  </a:lnTo>
                  <a:lnTo>
                    <a:pt x="155" y="111"/>
                  </a:lnTo>
                  <a:lnTo>
                    <a:pt x="166" y="102"/>
                  </a:lnTo>
                  <a:lnTo>
                    <a:pt x="175" y="90"/>
                  </a:lnTo>
                  <a:lnTo>
                    <a:pt x="180" y="78"/>
                  </a:lnTo>
                  <a:lnTo>
                    <a:pt x="182" y="65"/>
                  </a:lnTo>
                  <a:lnTo>
                    <a:pt x="180" y="52"/>
                  </a:lnTo>
                  <a:lnTo>
                    <a:pt x="175" y="40"/>
                  </a:lnTo>
                  <a:lnTo>
                    <a:pt x="166" y="29"/>
                  </a:lnTo>
                  <a:lnTo>
                    <a:pt x="155" y="19"/>
                  </a:lnTo>
                  <a:lnTo>
                    <a:pt x="141" y="12"/>
                  </a:lnTo>
                  <a:lnTo>
                    <a:pt x="127" y="6"/>
                  </a:lnTo>
                  <a:lnTo>
                    <a:pt x="110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29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0800" y="5499360"/>
              <a:ext cx="231480" cy="129960"/>
            </a:xfrm>
            <a:custGeom>
              <a:avLst/>
              <a:gdLst/>
              <a:ahLst/>
              <a:rect l="l" t="t" r="r" b="b"/>
              <a:pathLst>
                <a:path w="273" h="197">
                  <a:moveTo>
                    <a:pt x="136" y="158"/>
                  </a:moveTo>
                  <a:lnTo>
                    <a:pt x="104" y="145"/>
                  </a:lnTo>
                  <a:lnTo>
                    <a:pt x="75" y="125"/>
                  </a:lnTo>
                  <a:lnTo>
                    <a:pt x="52" y="99"/>
                  </a:lnTo>
                  <a:lnTo>
                    <a:pt x="32" y="72"/>
                  </a:lnTo>
                  <a:lnTo>
                    <a:pt x="18" y="45"/>
                  </a:lnTo>
                  <a:lnTo>
                    <a:pt x="8" y="23"/>
                  </a:lnTo>
                  <a:lnTo>
                    <a:pt x="2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8" y="62"/>
                  </a:lnTo>
                  <a:lnTo>
                    <a:pt x="17" y="99"/>
                  </a:lnTo>
                  <a:lnTo>
                    <a:pt x="29" y="135"/>
                  </a:lnTo>
                  <a:lnTo>
                    <a:pt x="47" y="166"/>
                  </a:lnTo>
                  <a:lnTo>
                    <a:pt x="70" y="189"/>
                  </a:lnTo>
                  <a:lnTo>
                    <a:pt x="100" y="197"/>
                  </a:lnTo>
                  <a:lnTo>
                    <a:pt x="133" y="196"/>
                  </a:lnTo>
                  <a:lnTo>
                    <a:pt x="164" y="191"/>
                  </a:lnTo>
                  <a:lnTo>
                    <a:pt x="194" y="187"/>
                  </a:lnTo>
                  <a:lnTo>
                    <a:pt x="220" y="180"/>
                  </a:lnTo>
                  <a:lnTo>
                    <a:pt x="241" y="174"/>
                  </a:lnTo>
                  <a:lnTo>
                    <a:pt x="258" y="170"/>
                  </a:lnTo>
                  <a:lnTo>
                    <a:pt x="269" y="166"/>
                  </a:lnTo>
                  <a:lnTo>
                    <a:pt x="273" y="165"/>
                  </a:lnTo>
                  <a:lnTo>
                    <a:pt x="270" y="165"/>
                  </a:lnTo>
                  <a:lnTo>
                    <a:pt x="265" y="166"/>
                  </a:lnTo>
                  <a:lnTo>
                    <a:pt x="255" y="167"/>
                  </a:lnTo>
                  <a:lnTo>
                    <a:pt x="240" y="169"/>
                  </a:lnTo>
                  <a:lnTo>
                    <a:pt x="221" y="169"/>
                  </a:lnTo>
                  <a:lnTo>
                    <a:pt x="197" y="167"/>
                  </a:lnTo>
                  <a:lnTo>
                    <a:pt x="169" y="163"/>
                  </a:lnTo>
                  <a:lnTo>
                    <a:pt x="13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43200" y="4876920"/>
            <a:ext cx="571500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175e17"/>
                    </a:gs>
                    <a:gs pos="5000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with decimals and geometry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175e17"/>
                  </a:gs>
                  <a:gs pos="50000">
                    <a:srgbClr val="33cc33"/>
                  </a:gs>
                  <a:gs pos="100000">
                    <a:srgbClr val="175e17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1447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271296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:                Distance across diag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520" y="1981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Square, sides 90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44956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288760" y="3079440"/>
            <a:ext cx="2909520" cy="2909520"/>
            <a:chOff x="5288760" y="3079440"/>
            <a:chExt cx="2909520" cy="2909520"/>
          </a:xfrm>
        </p:grpSpPr>
        <p:sp>
          <p:nvSpPr>
            <p:cNvPr id="504" name=""/>
            <p:cNvSpPr/>
            <p:nvPr/>
          </p:nvSpPr>
          <p:spPr>
            <a:xfrm rot="2695800">
              <a:off x="5714640" y="3505320"/>
              <a:ext cx="205740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02600" y="3306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13840" y="3306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13840" y="51354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26280" y="51354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743880" y="3124080"/>
              <a:ext cx="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28440" y="41911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714360" y="3687840"/>
            <a:ext cx="1501920" cy="1648080"/>
            <a:chOff x="6714360" y="3687840"/>
            <a:chExt cx="1501920" cy="1648080"/>
          </a:xfrm>
        </p:grpSpPr>
        <p:sp>
          <p:nvSpPr>
            <p:cNvPr id="512" name=""/>
            <p:cNvSpPr/>
            <p:nvPr/>
          </p:nvSpPr>
          <p:spPr>
            <a:xfrm rot="2695800">
              <a:off x="7848360" y="4419720"/>
              <a:ext cx="304560" cy="304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14360" y="419112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147440" y="475452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79040" y="36878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64120" y="3536640"/>
            <a:ext cx="2909160" cy="2909520"/>
            <a:chOff x="564120" y="3536640"/>
            <a:chExt cx="2909160" cy="2909520"/>
          </a:xfrm>
        </p:grpSpPr>
        <p:sp>
          <p:nvSpPr>
            <p:cNvPr id="518" name=""/>
            <p:cNvSpPr/>
            <p:nvPr/>
          </p:nvSpPr>
          <p:spPr>
            <a:xfrm rot="2695800">
              <a:off x="990000" y="3962520"/>
              <a:ext cx="205704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7600" y="37638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89200" y="37638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89200" y="5592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2000" y="5592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019240" y="3581280"/>
              <a:ext cx="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3440" y="464832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20040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22860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90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(90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43200" y="3124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100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8100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39466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 16,200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76720" y="38862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√     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9880" y="478476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= 127.26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48320" y="56228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27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0720" y="16765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ontractor needs to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build a roof for a house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50ft across that i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10ft high in the center. How long must each of the roof beams be in order to accomplish this? Find the answer to the nearest inch. (12in = 1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838080" y="1447920"/>
            <a:ext cx="2133360" cy="2361960"/>
            <a:chOff x="838080" y="1447920"/>
            <a:chExt cx="2133360" cy="2361960"/>
          </a:xfrm>
        </p:grpSpPr>
        <p:sp>
          <p:nvSpPr>
            <p:cNvPr id="535" name=""/>
            <p:cNvSpPr/>
            <p:nvPr/>
          </p:nvSpPr>
          <p:spPr>
            <a:xfrm>
              <a:off x="838080" y="2514600"/>
              <a:ext cx="2133360" cy="129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38080" y="1447920"/>
              <a:ext cx="2133360" cy="1066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86800" y="2901960"/>
              <a:ext cx="83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0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838080" y="3162240"/>
              <a:ext cx="58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88960" y="3162240"/>
              <a:ext cx="58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86800" y="1752480"/>
              <a:ext cx="83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904760" y="1447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04760" y="2133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990720" y="16765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ontractor needs to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build a roof for a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us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          50ft acros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i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10ft h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 the center. How long must each of the roof beams be in order to accomplish this? Find the answer to the nearest inch. (12in = 1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90720" y="16765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ontractor needs to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build a roof for a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us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          50ft acros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at i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10ft hig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 the center.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ow long must eac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f the roof beam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 in order to accomplish this? Find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nswer to the nearest inc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(12in = 1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1447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289548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:                length of roof beam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(in feet &amp; inc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1981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50ft across, attic 10ft high at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981080" y="4601880"/>
            <a:ext cx="3200400" cy="1830600"/>
            <a:chOff x="1981080" y="4601880"/>
            <a:chExt cx="3200400" cy="1830600"/>
          </a:xfrm>
        </p:grpSpPr>
        <p:sp>
          <p:nvSpPr>
            <p:cNvPr id="550" name=""/>
            <p:cNvSpPr/>
            <p:nvPr/>
          </p:nvSpPr>
          <p:spPr>
            <a:xfrm>
              <a:off x="3163320" y="5911920"/>
              <a:ext cx="83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0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981080" y="4601880"/>
              <a:ext cx="3200400" cy="1570320"/>
              <a:chOff x="1981080" y="4601880"/>
              <a:chExt cx="3200400" cy="1570320"/>
            </a:xfrm>
          </p:grpSpPr>
          <p:sp>
            <p:nvSpPr>
              <p:cNvPr id="552" name=""/>
              <p:cNvSpPr/>
              <p:nvPr/>
            </p:nvSpPr>
            <p:spPr>
              <a:xfrm>
                <a:off x="1981080" y="4602240"/>
                <a:ext cx="3200400" cy="13413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1981080" y="6172200"/>
                <a:ext cx="11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65480" y="6172200"/>
                <a:ext cx="11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63320" y="5119560"/>
                <a:ext cx="83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0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3581280" y="4601880"/>
                <a:ext cx="0" cy="57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81280" y="5562720"/>
                <a:ext cx="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5298480" y="2728800"/>
            <a:ext cx="2778840" cy="2454120"/>
            <a:chOff x="5298480" y="2728800"/>
            <a:chExt cx="2778840" cy="2454120"/>
          </a:xfrm>
        </p:grpSpPr>
        <p:sp>
          <p:nvSpPr>
            <p:cNvPr id="559" name=""/>
            <p:cNvSpPr/>
            <p:nvPr/>
          </p:nvSpPr>
          <p:spPr>
            <a:xfrm>
              <a:off x="6172200" y="4267080"/>
              <a:ext cx="380880" cy="381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298480" y="2728800"/>
              <a:ext cx="2778840" cy="2454120"/>
              <a:chOff x="5298480" y="2728800"/>
              <a:chExt cx="2778840" cy="2454120"/>
            </a:xfrm>
          </p:grpSpPr>
          <p:sp>
            <p:nvSpPr>
              <p:cNvPr id="561" name=""/>
              <p:cNvSpPr/>
              <p:nvPr/>
            </p:nvSpPr>
            <p:spPr>
              <a:xfrm>
                <a:off x="6172200" y="2728800"/>
                <a:ext cx="1905120" cy="1919520"/>
              </a:xfrm>
              <a:prstGeom prst="rtTriangl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98480" y="3429000"/>
                <a:ext cx="83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0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706800" y="4662360"/>
                <a:ext cx="835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25f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103880" y="3200400"/>
                <a:ext cx="33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5" name=""/>
          <p:cNvSpPr/>
          <p:nvPr/>
        </p:nvSpPr>
        <p:spPr>
          <a:xfrm>
            <a:off x="5257800" y="5257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0040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28800" y="22860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10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(25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38280" y="31240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00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625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14880" y="39466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 725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29080" y="478476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25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09960" y="56991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6.93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57200" y="3962520"/>
            <a:ext cx="2435400" cy="2454120"/>
            <a:chOff x="457200" y="3962520"/>
            <a:chExt cx="2435400" cy="2454120"/>
          </a:xfrm>
        </p:grpSpPr>
        <p:sp>
          <p:nvSpPr>
            <p:cNvPr id="574" name=""/>
            <p:cNvSpPr/>
            <p:nvPr/>
          </p:nvSpPr>
          <p:spPr>
            <a:xfrm>
              <a:off x="987480" y="5500800"/>
              <a:ext cx="3808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7480" y="3962520"/>
              <a:ext cx="1905120" cy="191916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7200" y="4572000"/>
              <a:ext cx="68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2080" y="5896080"/>
              <a:ext cx="83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5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919160" y="4433760"/>
              <a:ext cx="33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87480" y="466236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600200" y="473868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96960" y="5410080"/>
              <a:ext cx="37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33520" y="14320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vert 26.93ft to feet &amp;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227016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6.93ft = 26ft + .93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4600" y="31082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93ft = ?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352680" y="39466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ft = 12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86000" y="4784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93ft = (.93)(12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666880" y="5638680"/>
            <a:ext cx="228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1.16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24280" y="56386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533520" y="14320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vert 26.93ft to feet &amp;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227016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6.93ft = 26ft + .93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14600" y="310824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93ft = ?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352680" y="39466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ft = 12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0" y="47847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93ft = (.93)(12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90720" y="56386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ength of beam = 26ft 11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838080" y="1828800"/>
            <a:ext cx="47246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rea of </a:t>
            </a:r>
            <a:endParaRPr b="1" lang="en-US" sz="6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riangles</a:t>
            </a:r>
            <a:endParaRPr b="1" lang="en-US" sz="6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3962520" cy="25909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2438280" y="1371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Tri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90720" y="21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rt with area of a parallel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19480" y="3276720"/>
            <a:ext cx="3581280" cy="1295280"/>
          </a:xfrm>
          <a:prstGeom prst="parallelogram">
            <a:avLst>
              <a:gd name="adj" fmla="val 6912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295280" y="3276720"/>
            <a:ext cx="2838600" cy="1295280"/>
            <a:chOff x="1295280" y="3276720"/>
            <a:chExt cx="2838600" cy="1295280"/>
          </a:xfrm>
        </p:grpSpPr>
        <p:sp>
          <p:nvSpPr>
            <p:cNvPr id="604" name=""/>
            <p:cNvSpPr/>
            <p:nvPr/>
          </p:nvSpPr>
          <p:spPr>
            <a:xfrm flipH="1">
              <a:off x="3981240" y="44197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295280" y="3276720"/>
              <a:ext cx="2838600" cy="1295280"/>
              <a:chOff x="1295280" y="3276720"/>
              <a:chExt cx="2838600" cy="1295280"/>
            </a:xfrm>
          </p:grpSpPr>
          <p:sp>
            <p:nvSpPr>
              <p:cNvPr id="606" name=""/>
              <p:cNvSpPr/>
              <p:nvPr/>
            </p:nvSpPr>
            <p:spPr>
              <a:xfrm>
                <a:off x="4133880" y="3276720"/>
                <a:ext cx="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48080" y="37339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95280" y="3397320"/>
                <a:ext cx="228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Height (h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81600" y="441972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" name=""/>
          <p:cNvSpPr/>
          <p:nvPr/>
        </p:nvSpPr>
        <p:spPr>
          <a:xfrm>
            <a:off x="1676520" y="5410080"/>
            <a:ext cx="58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Base x Height = 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124080" y="4540320"/>
            <a:ext cx="2819520" cy="581400"/>
            <a:chOff x="3124080" y="4540320"/>
            <a:chExt cx="2819520" cy="581400"/>
          </a:xfrm>
        </p:grpSpPr>
        <p:sp>
          <p:nvSpPr>
            <p:cNvPr id="612" name=""/>
            <p:cNvSpPr/>
            <p:nvPr/>
          </p:nvSpPr>
          <p:spPr>
            <a:xfrm>
              <a:off x="3733920" y="45403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ase (b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124080" y="48308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86400" y="4830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219480" y="3276720"/>
            <a:ext cx="3581280" cy="1295280"/>
          </a:xfrm>
          <a:prstGeom prst="parallelogram">
            <a:avLst>
              <a:gd name="adj" fmla="val 6912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1447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parallelogram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5562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triangle = ½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114800" y="3124080"/>
            <a:ext cx="3962520" cy="1556280"/>
            <a:chOff x="4114800" y="3124080"/>
            <a:chExt cx="3962520" cy="1556280"/>
          </a:xfrm>
        </p:grpSpPr>
        <p:sp>
          <p:nvSpPr>
            <p:cNvPr id="620" name=""/>
            <p:cNvSpPr/>
            <p:nvPr/>
          </p:nvSpPr>
          <p:spPr>
            <a:xfrm>
              <a:off x="4114800" y="3276720"/>
              <a:ext cx="18288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333760" y="3124080"/>
              <a:ext cx="2743560" cy="1556280"/>
              <a:chOff x="5333760" y="3124080"/>
              <a:chExt cx="2743560" cy="1556280"/>
            </a:xfrm>
          </p:grpSpPr>
          <p:sp>
            <p:nvSpPr>
              <p:cNvPr id="622" name=""/>
              <p:cNvSpPr/>
              <p:nvPr/>
            </p:nvSpPr>
            <p:spPr>
              <a:xfrm>
                <a:off x="6781680" y="3124080"/>
                <a:ext cx="129564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ut in hal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333760" y="3657600"/>
                <a:ext cx="1523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2435400" y="2209680"/>
            <a:ext cx="41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e x Height = 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3276720"/>
            <a:ext cx="2743200" cy="1295280"/>
          </a:xfrm>
          <a:custGeom>
            <a:avLst/>
            <a:gdLst/>
            <a:ahLst/>
            <a:rect l="l" t="t" r="r" b="b"/>
            <a:pathLst>
              <a:path w="1728" h="816">
                <a:moveTo>
                  <a:pt x="576" y="0"/>
                </a:moveTo>
                <a:lnTo>
                  <a:pt x="0" y="816"/>
                </a:lnTo>
                <a:lnTo>
                  <a:pt x="1728" y="816"/>
                </a:lnTo>
                <a:lnTo>
                  <a:pt x="576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3124080" y="4540320"/>
            <a:ext cx="2819520" cy="581400"/>
            <a:chOff x="3124080" y="4540320"/>
            <a:chExt cx="2819520" cy="581400"/>
          </a:xfrm>
        </p:grpSpPr>
        <p:sp>
          <p:nvSpPr>
            <p:cNvPr id="627" name=""/>
            <p:cNvSpPr/>
            <p:nvPr/>
          </p:nvSpPr>
          <p:spPr>
            <a:xfrm>
              <a:off x="3733920" y="45403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ase (b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124080" y="48308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486400" y="4830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295280" y="3276720"/>
            <a:ext cx="2838600" cy="1295280"/>
            <a:chOff x="1295280" y="3276720"/>
            <a:chExt cx="2838600" cy="1295280"/>
          </a:xfrm>
        </p:grpSpPr>
        <p:sp>
          <p:nvSpPr>
            <p:cNvPr id="631" name=""/>
            <p:cNvSpPr/>
            <p:nvPr/>
          </p:nvSpPr>
          <p:spPr>
            <a:xfrm flipH="1">
              <a:off x="3981240" y="44197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1295280" y="3276720"/>
              <a:ext cx="2838600" cy="1295280"/>
              <a:chOff x="1295280" y="3276720"/>
              <a:chExt cx="2838600" cy="1295280"/>
            </a:xfrm>
          </p:grpSpPr>
          <p:sp>
            <p:nvSpPr>
              <p:cNvPr id="633" name=""/>
              <p:cNvSpPr/>
              <p:nvPr/>
            </p:nvSpPr>
            <p:spPr>
              <a:xfrm>
                <a:off x="4133880" y="3276720"/>
                <a:ext cx="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48080" y="37339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295280" y="3397320"/>
                <a:ext cx="228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Height (h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81600" y="441972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6720" y="7002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7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95480" y="228600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Pythagorean theorem to solve problems involving right tri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838080" y="1447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ndling fractions times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778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 1: Do as a 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81280" y="2324160"/>
            <a:ext cx="876600" cy="1295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33840" y="2476440"/>
            <a:ext cx="1524240" cy="990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2560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.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34040" y="25588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714840" y="2286000"/>
            <a:ext cx="609480" cy="1373760"/>
            <a:chOff x="3714840" y="2286000"/>
            <a:chExt cx="609480" cy="1373760"/>
          </a:xfrm>
        </p:grpSpPr>
        <p:sp>
          <p:nvSpPr>
            <p:cNvPr id="645" name=""/>
            <p:cNvSpPr/>
            <p:nvPr/>
          </p:nvSpPr>
          <p:spPr>
            <a:xfrm>
              <a:off x="3753000" y="228600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69920" y="28954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14840" y="2971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523880" y="4610160"/>
            <a:ext cx="2362320" cy="1373760"/>
            <a:chOff x="1523880" y="4610160"/>
            <a:chExt cx="2362320" cy="1373760"/>
          </a:xfrm>
        </p:grpSpPr>
        <p:sp>
          <p:nvSpPr>
            <p:cNvPr id="649" name=""/>
            <p:cNvSpPr/>
            <p:nvPr/>
          </p:nvSpPr>
          <p:spPr>
            <a:xfrm>
              <a:off x="1523880" y="4648320"/>
              <a:ext cx="876600" cy="129528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1657440" y="4610160"/>
              <a:ext cx="609480" cy="1373760"/>
              <a:chOff x="1657440" y="4610160"/>
              <a:chExt cx="609480" cy="1373760"/>
            </a:xfrm>
          </p:grpSpPr>
          <p:sp>
            <p:nvSpPr>
              <p:cNvPr id="651" name=""/>
              <p:cNvSpPr/>
              <p:nvPr/>
            </p:nvSpPr>
            <p:spPr>
              <a:xfrm>
                <a:off x="1695600" y="4610160"/>
                <a:ext cx="533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3 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712520" y="521964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57440" y="52959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514600" y="4610160"/>
              <a:ext cx="1371600" cy="1373760"/>
              <a:chOff x="2514600" y="4610160"/>
              <a:chExt cx="1371600" cy="1373760"/>
            </a:xfrm>
          </p:grpSpPr>
          <p:sp>
            <p:nvSpPr>
              <p:cNvPr id="655" name=""/>
              <p:cNvSpPr/>
              <p:nvPr/>
            </p:nvSpPr>
            <p:spPr>
              <a:xfrm>
                <a:off x="2514600" y="4610160"/>
                <a:ext cx="1371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6.28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71800" y="5219640"/>
                <a:ext cx="45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29080" y="5295960"/>
                <a:ext cx="114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2514600" y="4648320"/>
              <a:ext cx="1371600" cy="129528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3962520" y="4572000"/>
            <a:ext cx="3581280" cy="1450080"/>
            <a:chOff x="3962520" y="4572000"/>
            <a:chExt cx="3581280" cy="1450080"/>
          </a:xfrm>
        </p:grpSpPr>
        <p:sp>
          <p:nvSpPr>
            <p:cNvPr id="660" name=""/>
            <p:cNvSpPr/>
            <p:nvPr/>
          </p:nvSpPr>
          <p:spPr>
            <a:xfrm>
              <a:off x="3962520" y="4884840"/>
              <a:ext cx="533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10280" y="488304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343400" y="4572000"/>
              <a:ext cx="2819520" cy="1450080"/>
              <a:chOff x="4343400" y="4572000"/>
              <a:chExt cx="2819520" cy="1450080"/>
            </a:xfrm>
          </p:grpSpPr>
          <p:sp>
            <p:nvSpPr>
              <p:cNvPr id="663" name=""/>
              <p:cNvSpPr/>
              <p:nvPr/>
            </p:nvSpPr>
            <p:spPr>
              <a:xfrm>
                <a:off x="4343400" y="4572000"/>
                <a:ext cx="2819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(3)(6.28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4560" y="5257800"/>
                <a:ext cx="45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33412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6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286000" y="43578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3 x 6.28)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57600" y="534816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.76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1752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 1: Do as a 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523880" y="2743200"/>
            <a:ext cx="6019920" cy="1449720"/>
            <a:chOff x="1523880" y="2743200"/>
            <a:chExt cx="6019920" cy="1449720"/>
          </a:xfrm>
        </p:grpSpPr>
        <p:grpSp>
          <p:nvGrpSpPr>
            <p:cNvPr id="671" name=""/>
            <p:cNvGrpSpPr/>
            <p:nvPr/>
          </p:nvGrpSpPr>
          <p:grpSpPr>
            <a:xfrm>
              <a:off x="1523880" y="2781360"/>
              <a:ext cx="2362320" cy="1373760"/>
              <a:chOff x="1523880" y="2781360"/>
              <a:chExt cx="2362320" cy="1373760"/>
            </a:xfrm>
          </p:grpSpPr>
          <p:sp>
            <p:nvSpPr>
              <p:cNvPr id="672" name=""/>
              <p:cNvSpPr/>
              <p:nvPr/>
            </p:nvSpPr>
            <p:spPr>
              <a:xfrm>
                <a:off x="1523880" y="2819520"/>
                <a:ext cx="876600" cy="12952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1657440" y="2781360"/>
                <a:ext cx="609480" cy="1373760"/>
                <a:chOff x="1657440" y="2781360"/>
                <a:chExt cx="609480" cy="137376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1695600" y="2781360"/>
                  <a:ext cx="5331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Comic Sans MS"/>
                    </a:rPr>
                    <a:t>3 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712520" y="3390840"/>
                  <a:ext cx="5007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657440" y="34671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2514600" y="2781360"/>
                <a:ext cx="1371600" cy="1373760"/>
                <a:chOff x="2514600" y="2781360"/>
                <a:chExt cx="1371600" cy="137376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2514600" y="2781360"/>
                  <a:ext cx="13716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Comic Sans MS"/>
                    </a:rPr>
                    <a:t>6.28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971800" y="3390840"/>
                  <a:ext cx="4572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2629080" y="3467160"/>
                  <a:ext cx="1143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2514600" y="2819520"/>
                <a:ext cx="1371600" cy="12952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3962520" y="2743200"/>
              <a:ext cx="3581280" cy="1449720"/>
              <a:chOff x="3962520" y="2743200"/>
              <a:chExt cx="3581280" cy="1449720"/>
            </a:xfrm>
          </p:grpSpPr>
          <p:sp>
            <p:nvSpPr>
              <p:cNvPr id="683" name=""/>
              <p:cNvSpPr/>
              <p:nvPr/>
            </p:nvSpPr>
            <p:spPr>
              <a:xfrm>
                <a:off x="3962520" y="3055680"/>
                <a:ext cx="533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10280" y="3053880"/>
                <a:ext cx="533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4343400" y="2743200"/>
                <a:ext cx="2819520" cy="1449720"/>
                <a:chOff x="4343400" y="2743200"/>
                <a:chExt cx="2819520" cy="14497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343400" y="2743200"/>
                  <a:ext cx="28195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Comic Sans MS"/>
                    </a:rPr>
                    <a:t>(3)(6.28)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524560" y="3428640"/>
                  <a:ext cx="4572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572000" y="3504960"/>
                  <a:ext cx="236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9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838080" y="1447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ndling fractions times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95680" y="2332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.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714840" y="2057400"/>
            <a:ext cx="609480" cy="1373760"/>
            <a:chOff x="3714840" y="2057400"/>
            <a:chExt cx="609480" cy="1373760"/>
          </a:xfrm>
        </p:grpSpPr>
        <p:sp>
          <p:nvSpPr>
            <p:cNvPr id="694" name=""/>
            <p:cNvSpPr/>
            <p:nvPr/>
          </p:nvSpPr>
          <p:spPr>
            <a:xfrm>
              <a:off x="3753000" y="205740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69920" y="26668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714840" y="2743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6553080" y="41911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0.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447920" y="3962520"/>
            <a:ext cx="5257800" cy="1175760"/>
            <a:chOff x="1447920" y="3962520"/>
            <a:chExt cx="5257800" cy="1175760"/>
          </a:xfrm>
        </p:grpSpPr>
        <p:sp>
          <p:nvSpPr>
            <p:cNvPr id="699" name=""/>
            <p:cNvSpPr/>
            <p:nvPr/>
          </p:nvSpPr>
          <p:spPr>
            <a:xfrm>
              <a:off x="1447920" y="4199040"/>
              <a:ext cx="525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hange     to decimal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32240" y="3962520"/>
              <a:ext cx="457200" cy="1175760"/>
              <a:chOff x="3432240" y="3962520"/>
              <a:chExt cx="457200" cy="1175760"/>
            </a:xfrm>
          </p:grpSpPr>
          <p:sp>
            <p:nvSpPr>
              <p:cNvPr id="701" name=""/>
              <p:cNvSpPr/>
              <p:nvPr/>
            </p:nvSpPr>
            <p:spPr>
              <a:xfrm>
                <a:off x="3432240" y="39625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39440" y="4495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432240" y="4527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5165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6)(6.28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608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.76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581280" y="2057400"/>
            <a:ext cx="876600" cy="1295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33840" y="2209680"/>
            <a:ext cx="1524240" cy="990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134040" y="22924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743200" y="1447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ar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43400" y="45561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½(3.6ft)(10.5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85440" y="2452680"/>
            <a:ext cx="2667240" cy="2044440"/>
            <a:chOff x="685440" y="2452680"/>
            <a:chExt cx="2667240" cy="2044440"/>
          </a:xfrm>
        </p:grpSpPr>
        <p:sp>
          <p:nvSpPr>
            <p:cNvPr id="713" name=""/>
            <p:cNvSpPr/>
            <p:nvPr/>
          </p:nvSpPr>
          <p:spPr>
            <a:xfrm>
              <a:off x="685800" y="2452680"/>
              <a:ext cx="2666880" cy="1523880"/>
            </a:xfrm>
            <a:custGeom>
              <a:avLst/>
              <a:gdLst/>
              <a:ahLst/>
              <a:rect l="l" t="t" r="r" b="b"/>
              <a:pathLst>
                <a:path w="1680" h="960">
                  <a:moveTo>
                    <a:pt x="1152" y="0"/>
                  </a:moveTo>
                  <a:lnTo>
                    <a:pt x="0" y="960"/>
                  </a:lnTo>
                  <a:lnTo>
                    <a:pt x="1680" y="960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14600" y="24526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47920" y="3228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.6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9760" y="39765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.5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85440" y="4235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90920" y="4235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4038480" y="3200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½b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676520" y="1415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½bh = ½(3.6)(10.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295280" y="3657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14400" y="4800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7.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914400" y="2514600"/>
            <a:ext cx="1447560" cy="1191240"/>
            <a:chOff x="914400" y="2514600"/>
            <a:chExt cx="1447560" cy="1191240"/>
          </a:xfrm>
        </p:grpSpPr>
        <p:sp>
          <p:nvSpPr>
            <p:cNvPr id="725" name=""/>
            <p:cNvSpPr/>
            <p:nvPr/>
          </p:nvSpPr>
          <p:spPr>
            <a:xfrm>
              <a:off x="1274760" y="2514600"/>
              <a:ext cx="108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04776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 3.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52560" y="365724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90720" y="4191120"/>
            <a:ext cx="1371600" cy="642600"/>
            <a:chOff x="990720" y="4191120"/>
            <a:chExt cx="1371600" cy="642600"/>
          </a:xfrm>
        </p:grpSpPr>
        <p:sp>
          <p:nvSpPr>
            <p:cNvPr id="729" name=""/>
            <p:cNvSpPr/>
            <p:nvPr/>
          </p:nvSpPr>
          <p:spPr>
            <a:xfrm>
              <a:off x="990720" y="4191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0720" y="480024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743200" y="2590920"/>
            <a:ext cx="2744640" cy="3733560"/>
            <a:chOff x="2743200" y="2590920"/>
            <a:chExt cx="2744640" cy="3733560"/>
          </a:xfrm>
        </p:grpSpPr>
        <p:sp>
          <p:nvSpPr>
            <p:cNvPr id="732" name=""/>
            <p:cNvSpPr/>
            <p:nvPr/>
          </p:nvSpPr>
          <p:spPr>
            <a:xfrm>
              <a:off x="3316680" y="2590920"/>
              <a:ext cx="21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½(37.80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43200" y="259092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2819520" y="3429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.5)(37.8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72200" y="2590920"/>
            <a:ext cx="2362320" cy="3733560"/>
            <a:chOff x="6172200" y="2590920"/>
            <a:chExt cx="2362320" cy="3733560"/>
          </a:xfrm>
        </p:grpSpPr>
        <p:sp>
          <p:nvSpPr>
            <p:cNvPr id="736" name=""/>
            <p:cNvSpPr/>
            <p:nvPr/>
          </p:nvSpPr>
          <p:spPr>
            <a:xfrm>
              <a:off x="6172200" y="259092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6248520" y="3076560"/>
              <a:ext cx="2286000" cy="642600"/>
              <a:chOff x="6248520" y="3076560"/>
              <a:chExt cx="2286000" cy="642600"/>
            </a:xfrm>
          </p:grpSpPr>
          <p:sp>
            <p:nvSpPr>
              <p:cNvPr id="738" name=""/>
              <p:cNvSpPr/>
              <p:nvPr/>
            </p:nvSpPr>
            <p:spPr>
              <a:xfrm>
                <a:off x="6248520" y="3076560"/>
                <a:ext cx="228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2)37.80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86600" y="3200400"/>
                <a:ext cx="12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0" name=""/>
          <p:cNvGrpSpPr/>
          <p:nvPr/>
        </p:nvGrpSpPr>
        <p:grpSpPr>
          <a:xfrm>
            <a:off x="7086600" y="2635200"/>
            <a:ext cx="1447920" cy="4086720"/>
            <a:chOff x="7086600" y="2635200"/>
            <a:chExt cx="1447920" cy="4086720"/>
          </a:xfrm>
        </p:grpSpPr>
        <p:grpSp>
          <p:nvGrpSpPr>
            <p:cNvPr id="741" name=""/>
            <p:cNvGrpSpPr/>
            <p:nvPr/>
          </p:nvGrpSpPr>
          <p:grpSpPr>
            <a:xfrm>
              <a:off x="7086600" y="2635200"/>
              <a:ext cx="1447920" cy="4086720"/>
              <a:chOff x="7086600" y="2635200"/>
              <a:chExt cx="1447920" cy="4086720"/>
            </a:xfrm>
          </p:grpSpPr>
          <p:sp>
            <p:nvSpPr>
              <p:cNvPr id="742" name=""/>
              <p:cNvSpPr/>
              <p:nvPr/>
            </p:nvSpPr>
            <p:spPr>
              <a:xfrm>
                <a:off x="7086600" y="26352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8.9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086600" y="35496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086600" y="40831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086600" y="45403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315200" y="507348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315200" y="553068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7086600" y="41148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6600" y="51055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15200" y="6095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3886200" y="4648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8.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743200" y="1447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ar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30481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½b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191120" y="41911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½(3.6)(10.5) 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191120" y="52578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8.9ft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85440" y="2452680"/>
            <a:ext cx="2667240" cy="2044440"/>
            <a:chOff x="685440" y="2452680"/>
            <a:chExt cx="2667240" cy="2044440"/>
          </a:xfrm>
        </p:grpSpPr>
        <p:sp>
          <p:nvSpPr>
            <p:cNvPr id="758" name=""/>
            <p:cNvSpPr/>
            <p:nvPr/>
          </p:nvSpPr>
          <p:spPr>
            <a:xfrm>
              <a:off x="685800" y="2452680"/>
              <a:ext cx="2666880" cy="1523880"/>
            </a:xfrm>
            <a:custGeom>
              <a:avLst/>
              <a:gdLst/>
              <a:ahLst/>
              <a:rect l="l" t="t" r="r" b="b"/>
              <a:pathLst>
                <a:path w="1680" h="960">
                  <a:moveTo>
                    <a:pt x="1152" y="0"/>
                  </a:moveTo>
                  <a:lnTo>
                    <a:pt x="0" y="960"/>
                  </a:lnTo>
                  <a:lnTo>
                    <a:pt x="1680" y="960"/>
                  </a:lnTo>
                  <a:lnTo>
                    <a:pt x="1152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514600" y="24526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47920" y="3228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.6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09760" y="397656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.5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85440" y="4235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90920" y="4235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447920" y="371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½b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29000" y="3718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½(6.3ft)(2.6f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95480" y="44197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½(16.38)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5105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8.19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05320" y="57754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8.2ft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3200" y="1447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ar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648320" y="1981080"/>
            <a:ext cx="2286000" cy="990720"/>
            <a:chOff x="4648320" y="1981080"/>
            <a:chExt cx="2286000" cy="990720"/>
          </a:xfrm>
        </p:grpSpPr>
        <p:sp>
          <p:nvSpPr>
            <p:cNvPr id="772" name=""/>
            <p:cNvSpPr/>
            <p:nvPr/>
          </p:nvSpPr>
          <p:spPr>
            <a:xfrm flipV="1">
              <a:off x="4648320" y="198108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48320" y="29718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400800" y="1981080"/>
              <a:ext cx="53352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400800" y="2971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934320" y="1981080"/>
            <a:ext cx="1066680" cy="990720"/>
            <a:chOff x="6934320" y="1981080"/>
            <a:chExt cx="1066680" cy="990720"/>
          </a:xfrm>
        </p:grpSpPr>
        <p:sp>
          <p:nvSpPr>
            <p:cNvPr id="777" name=""/>
            <p:cNvSpPr/>
            <p:nvPr/>
          </p:nvSpPr>
          <p:spPr>
            <a:xfrm>
              <a:off x="6934320" y="22161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.6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934320" y="1981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648320" y="2986200"/>
            <a:ext cx="1676160" cy="520560"/>
            <a:chOff x="4648320" y="2986200"/>
            <a:chExt cx="1676160" cy="520560"/>
          </a:xfrm>
        </p:grpSpPr>
        <p:sp>
          <p:nvSpPr>
            <p:cNvPr id="780" name=""/>
            <p:cNvSpPr/>
            <p:nvPr/>
          </p:nvSpPr>
          <p:spPr>
            <a:xfrm>
              <a:off x="4991040" y="29862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.3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4648320" y="3244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43600" y="32446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1028880" y="2117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e = 6.3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2711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ight = 2.6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"/>
          <p:cNvGrpSpPr/>
          <p:nvPr/>
        </p:nvGrpSpPr>
        <p:grpSpPr>
          <a:xfrm>
            <a:off x="3886200" y="3429000"/>
            <a:ext cx="4495320" cy="2895480"/>
            <a:chOff x="3886200" y="3429000"/>
            <a:chExt cx="4495320" cy="2895480"/>
          </a:xfrm>
        </p:grpSpPr>
        <p:sp>
          <p:nvSpPr>
            <p:cNvPr id="787" name=""/>
            <p:cNvSpPr/>
            <p:nvPr/>
          </p:nvSpPr>
          <p:spPr>
            <a:xfrm>
              <a:off x="3886200" y="4267080"/>
              <a:ext cx="3287520" cy="2057400"/>
            </a:xfrm>
            <a:custGeom>
              <a:avLst/>
              <a:gdLst/>
              <a:ahLst/>
              <a:rect l="l" t="t" r="r" b="b"/>
              <a:pathLst>
                <a:path w="4141" h="2593">
                  <a:moveTo>
                    <a:pt x="4141" y="2593"/>
                  </a:moveTo>
                  <a:lnTo>
                    <a:pt x="0" y="2593"/>
                  </a:lnTo>
                  <a:lnTo>
                    <a:pt x="745" y="0"/>
                  </a:lnTo>
                  <a:lnTo>
                    <a:pt x="3130" y="0"/>
                  </a:lnTo>
                  <a:lnTo>
                    <a:pt x="4141" y="2593"/>
                  </a:lnTo>
                  <a:close/>
                </a:path>
              </a:pathLst>
            </a:custGeom>
            <a:solidFill>
              <a:srgbClr val="000000"/>
            </a:solidFill>
            <a:ln w="1800">
              <a:solidFill>
                <a:srgbClr val="0101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4052520" y="3429000"/>
              <a:ext cx="4329000" cy="2859120"/>
              <a:chOff x="4052520" y="3429000"/>
              <a:chExt cx="4329000" cy="2859120"/>
            </a:xfrm>
          </p:grpSpPr>
          <p:sp>
            <p:nvSpPr>
              <p:cNvPr id="789" name=""/>
              <p:cNvSpPr/>
              <p:nvPr/>
            </p:nvSpPr>
            <p:spPr>
              <a:xfrm>
                <a:off x="6514560" y="3490920"/>
                <a:ext cx="1866960" cy="2797200"/>
              </a:xfrm>
              <a:custGeom>
                <a:avLst/>
                <a:gdLst/>
                <a:ahLst/>
                <a:rect l="l" t="t" r="r" b="b"/>
                <a:pathLst>
                  <a:path w="2351" h="3525">
                    <a:moveTo>
                      <a:pt x="985" y="3525"/>
                    </a:moveTo>
                    <a:lnTo>
                      <a:pt x="0" y="976"/>
                    </a:lnTo>
                    <a:lnTo>
                      <a:pt x="1463" y="0"/>
                    </a:lnTo>
                    <a:lnTo>
                      <a:pt x="250" y="1147"/>
                    </a:lnTo>
                    <a:lnTo>
                      <a:pt x="1573" y="255"/>
                    </a:lnTo>
                    <a:lnTo>
                      <a:pt x="364" y="1437"/>
                    </a:lnTo>
                    <a:lnTo>
                      <a:pt x="1685" y="512"/>
                    </a:lnTo>
                    <a:lnTo>
                      <a:pt x="476" y="1726"/>
                    </a:lnTo>
                    <a:lnTo>
                      <a:pt x="1793" y="768"/>
                    </a:lnTo>
                    <a:lnTo>
                      <a:pt x="589" y="2013"/>
                    </a:lnTo>
                    <a:lnTo>
                      <a:pt x="1909" y="1025"/>
                    </a:lnTo>
                    <a:lnTo>
                      <a:pt x="685" y="2303"/>
                    </a:lnTo>
                    <a:lnTo>
                      <a:pt x="2017" y="1280"/>
                    </a:lnTo>
                    <a:lnTo>
                      <a:pt x="776" y="2575"/>
                    </a:lnTo>
                    <a:lnTo>
                      <a:pt x="2129" y="1536"/>
                    </a:lnTo>
                    <a:lnTo>
                      <a:pt x="892" y="2846"/>
                    </a:lnTo>
                    <a:lnTo>
                      <a:pt x="2239" y="1791"/>
                    </a:lnTo>
                    <a:lnTo>
                      <a:pt x="1004" y="3153"/>
                    </a:lnTo>
                    <a:lnTo>
                      <a:pt x="2351" y="2046"/>
                    </a:lnTo>
                    <a:lnTo>
                      <a:pt x="985" y="3525"/>
                    </a:lnTo>
                    <a:close/>
                  </a:path>
                </a:pathLst>
              </a:custGeom>
              <a:solidFill>
                <a:srgbClr val="339966"/>
              </a:solidFill>
              <a:ln w="1800">
                <a:solidFill>
                  <a:srgbClr val="0101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592160" y="3429000"/>
                <a:ext cx="2949480" cy="757080"/>
              </a:xfrm>
              <a:custGeom>
                <a:avLst/>
                <a:gdLst/>
                <a:ahLst/>
                <a:rect l="l" t="t" r="r" b="b"/>
                <a:pathLst>
                  <a:path w="3716" h="954">
                    <a:moveTo>
                      <a:pt x="3716" y="12"/>
                    </a:moveTo>
                    <a:lnTo>
                      <a:pt x="2275" y="954"/>
                    </a:lnTo>
                    <a:lnTo>
                      <a:pt x="0" y="954"/>
                    </a:lnTo>
                    <a:lnTo>
                      <a:pt x="1937" y="12"/>
                    </a:lnTo>
                    <a:lnTo>
                      <a:pt x="527" y="867"/>
                    </a:lnTo>
                    <a:lnTo>
                      <a:pt x="2389" y="12"/>
                    </a:lnTo>
                    <a:lnTo>
                      <a:pt x="978" y="867"/>
                    </a:lnTo>
                    <a:lnTo>
                      <a:pt x="2861" y="12"/>
                    </a:lnTo>
                    <a:lnTo>
                      <a:pt x="1450" y="852"/>
                    </a:lnTo>
                    <a:lnTo>
                      <a:pt x="3276" y="0"/>
                    </a:lnTo>
                    <a:lnTo>
                      <a:pt x="1919" y="852"/>
                    </a:lnTo>
                    <a:lnTo>
                      <a:pt x="3716" y="12"/>
                    </a:lnTo>
                    <a:close/>
                  </a:path>
                </a:pathLst>
              </a:custGeom>
              <a:solidFill>
                <a:srgbClr val="ff99cc"/>
              </a:solidFill>
              <a:ln w="1800">
                <a:solidFill>
                  <a:srgbClr val="0101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052520" y="4402080"/>
                <a:ext cx="2954160" cy="1851120"/>
              </a:xfrm>
              <a:custGeom>
                <a:avLst/>
                <a:gdLst/>
                <a:ahLst/>
                <a:rect l="l" t="t" r="r" b="b"/>
                <a:pathLst>
                  <a:path w="3723" h="2331">
                    <a:moveTo>
                      <a:pt x="3723" y="2331"/>
                    </a:moveTo>
                    <a:lnTo>
                      <a:pt x="0" y="2331"/>
                    </a:lnTo>
                    <a:lnTo>
                      <a:pt x="670" y="0"/>
                    </a:lnTo>
                    <a:lnTo>
                      <a:pt x="2813" y="0"/>
                    </a:lnTo>
                    <a:lnTo>
                      <a:pt x="3723" y="2331"/>
                    </a:lnTo>
                    <a:close/>
                  </a:path>
                </a:pathLst>
              </a:cu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2" name=""/>
          <p:cNvSpPr txBox="1"/>
          <p:nvPr/>
        </p:nvSpPr>
        <p:spPr>
          <a:xfrm>
            <a:off x="990720" y="1752480"/>
            <a:ext cx="48006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005e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rea of 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005e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005e00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rapezoid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005e00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700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048120" y="16146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Trapezo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2819520" y="2895480"/>
            <a:ext cx="3504960" cy="1981440"/>
          </a:xfrm>
          <a:custGeom>
            <a:avLst/>
            <a:gdLst>
              <a:gd name="textAreaLeft" fmla="*/ 770760 w 3504960"/>
              <a:gd name="textAreaRight" fmla="*/ 2734200 w 3504960"/>
              <a:gd name="textAreaTop" fmla="*/ 435600 h 1981440"/>
              <a:gd name="textAreaBottom" fmla="*/ 154584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324480" y="1638360"/>
            <a:ext cx="2210040" cy="1371600"/>
          </a:xfrm>
          <a:custGeom>
            <a:avLst/>
            <a:gdLst/>
            <a:ahLst/>
            <a:rect l="l" t="t" r="r" b="b"/>
            <a:pathLst>
              <a:path w="1392" h="864">
                <a:moveTo>
                  <a:pt x="0" y="0"/>
                </a:moveTo>
                <a:lnTo>
                  <a:pt x="0" y="864"/>
                </a:lnTo>
                <a:lnTo>
                  <a:pt x="1392" y="864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99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685440" y="1751760"/>
            <a:ext cx="2362320" cy="1143000"/>
          </a:xfrm>
          <a:custGeom>
            <a:avLst/>
            <a:gdLst>
              <a:gd name="textAreaLeft" fmla="*/ 717480 w 2362320"/>
              <a:gd name="textAreaRight" fmla="*/ 1644840 w 2362320"/>
              <a:gd name="textAreaTop" fmla="*/ 347040 h 1143000"/>
              <a:gd name="textAreaBottom" fmla="*/ 795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942" y="21600"/>
                </a:lnTo>
                <a:lnTo>
                  <a:pt x="8658" y="21600"/>
                </a:lnTo>
                <a:close/>
              </a:path>
            </a:pathLst>
          </a:cu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47920" y="51814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-sided figure with one pair of paralle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95480" y="700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4572000" y="23623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= ½h(a + 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14400" y="47242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one-half the height times the sum of the lengths of the paralle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Trapez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33160" y="2133720"/>
            <a:ext cx="3505320" cy="2638800"/>
            <a:chOff x="533160" y="2133720"/>
            <a:chExt cx="3505320" cy="2638800"/>
          </a:xfrm>
        </p:grpSpPr>
        <p:sp>
          <p:nvSpPr>
            <p:cNvPr id="804" name=""/>
            <p:cNvSpPr/>
            <p:nvPr/>
          </p:nvSpPr>
          <p:spPr>
            <a:xfrm flipH="1" flipV="1">
              <a:off x="533160" y="2666880"/>
              <a:ext cx="3504960" cy="1524240"/>
            </a:xfrm>
            <a:custGeom>
              <a:avLst/>
              <a:gdLst>
                <a:gd name="textAreaLeft" fmla="*/ 770760 w 3504960"/>
                <a:gd name="textAreaRight" fmla="*/ 2734200 w 3504960"/>
                <a:gd name="textAreaTop" fmla="*/ 335160 h 1524240"/>
                <a:gd name="textAreaBottom" fmla="*/ 11890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019240" y="2133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19240" y="4191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18960" y="3139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33160" y="447984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38280" y="4479840"/>
              <a:ext cx="152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1447560" y="242424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38280" y="2424240"/>
              <a:ext cx="68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148572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85720" y="3581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895480" y="700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3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895480" y="22860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the area of triang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40086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involving the area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trapez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Trapez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0" y="23623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= ½h(a + 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114800" y="32608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½(6ft)     (10.3ft + 20.4f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90920" y="470844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½(6ft)(30.7f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5120" y="5546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3(30.7)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76920" y="55468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92.1ft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533160" y="2209680"/>
            <a:ext cx="3505320" cy="2502000"/>
            <a:chOff x="533160" y="2209680"/>
            <a:chExt cx="3505320" cy="2502000"/>
          </a:xfrm>
        </p:grpSpPr>
        <p:sp>
          <p:nvSpPr>
            <p:cNvPr id="822" name=""/>
            <p:cNvSpPr/>
            <p:nvPr/>
          </p:nvSpPr>
          <p:spPr>
            <a:xfrm flipH="1" flipV="1">
              <a:off x="533160" y="2666880"/>
              <a:ext cx="3504960" cy="1524240"/>
            </a:xfrm>
            <a:custGeom>
              <a:avLst/>
              <a:gdLst>
                <a:gd name="textAreaLeft" fmla="*/ 770760 w 3504960"/>
                <a:gd name="textAreaRight" fmla="*/ 2734200 w 3504960"/>
                <a:gd name="textAreaTop" fmla="*/ 335160 h 1524240"/>
                <a:gd name="textAreaBottom" fmla="*/ 118908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676520" y="220968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.3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8360" y="41911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.4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143000" y="3139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33160" y="44798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19520" y="447984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19520" y="2468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14860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86080" y="3581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1371600" y="2468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2895480" y="700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"/>
          <p:cNvGrpSpPr/>
          <p:nvPr/>
        </p:nvGrpSpPr>
        <p:grpSpPr>
          <a:xfrm>
            <a:off x="5029200" y="4191120"/>
            <a:ext cx="3122640" cy="2228760"/>
            <a:chOff x="5029200" y="4191120"/>
            <a:chExt cx="3122640" cy="2228760"/>
          </a:xfrm>
        </p:grpSpPr>
        <p:sp>
          <p:nvSpPr>
            <p:cNvPr id="834" name=""/>
            <p:cNvSpPr/>
            <p:nvPr/>
          </p:nvSpPr>
          <p:spPr>
            <a:xfrm>
              <a:off x="5029200" y="4191120"/>
              <a:ext cx="3122640" cy="2228760"/>
            </a:xfrm>
            <a:custGeom>
              <a:avLst/>
              <a:gdLst/>
              <a:ahLst/>
              <a:rect l="l" t="t" r="r" b="b"/>
              <a:pathLst>
                <a:path w="3934" h="2808">
                  <a:moveTo>
                    <a:pt x="2066" y="215"/>
                  </a:moveTo>
                  <a:lnTo>
                    <a:pt x="2563" y="35"/>
                  </a:lnTo>
                  <a:lnTo>
                    <a:pt x="2592" y="315"/>
                  </a:lnTo>
                  <a:lnTo>
                    <a:pt x="3178" y="219"/>
                  </a:lnTo>
                  <a:lnTo>
                    <a:pt x="3146" y="579"/>
                  </a:lnTo>
                  <a:lnTo>
                    <a:pt x="3644" y="642"/>
                  </a:lnTo>
                  <a:lnTo>
                    <a:pt x="3558" y="847"/>
                  </a:lnTo>
                  <a:lnTo>
                    <a:pt x="3910" y="963"/>
                  </a:lnTo>
                  <a:lnTo>
                    <a:pt x="3721" y="1473"/>
                  </a:lnTo>
                  <a:lnTo>
                    <a:pt x="3721" y="1473"/>
                  </a:lnTo>
                  <a:lnTo>
                    <a:pt x="3934" y="1778"/>
                  </a:lnTo>
                  <a:lnTo>
                    <a:pt x="3552" y="1869"/>
                  </a:lnTo>
                  <a:lnTo>
                    <a:pt x="3678" y="2456"/>
                  </a:lnTo>
                  <a:lnTo>
                    <a:pt x="3233" y="2394"/>
                  </a:lnTo>
                  <a:lnTo>
                    <a:pt x="3233" y="2394"/>
                  </a:lnTo>
                  <a:lnTo>
                    <a:pt x="3113" y="2745"/>
                  </a:lnTo>
                  <a:lnTo>
                    <a:pt x="2638" y="2528"/>
                  </a:lnTo>
                  <a:lnTo>
                    <a:pt x="2455" y="2782"/>
                  </a:lnTo>
                  <a:lnTo>
                    <a:pt x="2455" y="2782"/>
                  </a:lnTo>
                  <a:lnTo>
                    <a:pt x="2035" y="2558"/>
                  </a:lnTo>
                  <a:lnTo>
                    <a:pt x="1765" y="2808"/>
                  </a:lnTo>
                  <a:lnTo>
                    <a:pt x="1361" y="2532"/>
                  </a:lnTo>
                  <a:lnTo>
                    <a:pt x="1007" y="2763"/>
                  </a:lnTo>
                  <a:lnTo>
                    <a:pt x="768" y="2438"/>
                  </a:lnTo>
                  <a:lnTo>
                    <a:pt x="355" y="2609"/>
                  </a:lnTo>
                  <a:lnTo>
                    <a:pt x="374" y="2363"/>
                  </a:lnTo>
                  <a:lnTo>
                    <a:pt x="0" y="2166"/>
                  </a:lnTo>
                  <a:lnTo>
                    <a:pt x="355" y="1920"/>
                  </a:lnTo>
                  <a:lnTo>
                    <a:pt x="500" y="1495"/>
                  </a:lnTo>
                  <a:lnTo>
                    <a:pt x="500" y="1495"/>
                  </a:lnTo>
                  <a:lnTo>
                    <a:pt x="751" y="1473"/>
                  </a:lnTo>
                  <a:lnTo>
                    <a:pt x="644" y="912"/>
                  </a:lnTo>
                  <a:lnTo>
                    <a:pt x="885" y="902"/>
                  </a:lnTo>
                  <a:lnTo>
                    <a:pt x="1097" y="297"/>
                  </a:lnTo>
                  <a:lnTo>
                    <a:pt x="1409" y="423"/>
                  </a:lnTo>
                  <a:lnTo>
                    <a:pt x="1913" y="0"/>
                  </a:lnTo>
                  <a:lnTo>
                    <a:pt x="1913" y="0"/>
                  </a:lnTo>
                  <a:lnTo>
                    <a:pt x="2066" y="2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086440" y="4232520"/>
              <a:ext cx="3019320" cy="2149200"/>
            </a:xfrm>
            <a:custGeom>
              <a:avLst/>
              <a:gdLst/>
              <a:ahLst/>
              <a:rect l="l" t="t" r="r" b="b"/>
              <a:pathLst>
                <a:path w="3804" h="2710">
                  <a:moveTo>
                    <a:pt x="1978" y="199"/>
                  </a:moveTo>
                  <a:lnTo>
                    <a:pt x="2464" y="26"/>
                  </a:lnTo>
                  <a:lnTo>
                    <a:pt x="2464" y="26"/>
                  </a:lnTo>
                  <a:lnTo>
                    <a:pt x="2498" y="307"/>
                  </a:lnTo>
                  <a:lnTo>
                    <a:pt x="3057" y="231"/>
                  </a:lnTo>
                  <a:lnTo>
                    <a:pt x="3026" y="565"/>
                  </a:lnTo>
                  <a:lnTo>
                    <a:pt x="3522" y="622"/>
                  </a:lnTo>
                  <a:lnTo>
                    <a:pt x="3522" y="622"/>
                  </a:lnTo>
                  <a:lnTo>
                    <a:pt x="3424" y="817"/>
                  </a:lnTo>
                  <a:lnTo>
                    <a:pt x="3424" y="817"/>
                  </a:lnTo>
                  <a:lnTo>
                    <a:pt x="3800" y="938"/>
                  </a:lnTo>
                  <a:lnTo>
                    <a:pt x="3597" y="1426"/>
                  </a:lnTo>
                  <a:lnTo>
                    <a:pt x="3597" y="1426"/>
                  </a:lnTo>
                  <a:lnTo>
                    <a:pt x="3804" y="1709"/>
                  </a:lnTo>
                  <a:lnTo>
                    <a:pt x="3428" y="1782"/>
                  </a:lnTo>
                  <a:lnTo>
                    <a:pt x="3428" y="1782"/>
                  </a:lnTo>
                  <a:lnTo>
                    <a:pt x="3558" y="2373"/>
                  </a:lnTo>
                  <a:lnTo>
                    <a:pt x="3144" y="2296"/>
                  </a:lnTo>
                  <a:lnTo>
                    <a:pt x="3018" y="2637"/>
                  </a:lnTo>
                  <a:lnTo>
                    <a:pt x="3018" y="2637"/>
                  </a:lnTo>
                  <a:lnTo>
                    <a:pt x="2541" y="2430"/>
                  </a:lnTo>
                  <a:lnTo>
                    <a:pt x="2541" y="2430"/>
                  </a:lnTo>
                  <a:lnTo>
                    <a:pt x="2360" y="2676"/>
                  </a:lnTo>
                  <a:lnTo>
                    <a:pt x="2360" y="2676"/>
                  </a:lnTo>
                  <a:lnTo>
                    <a:pt x="1940" y="2460"/>
                  </a:lnTo>
                  <a:lnTo>
                    <a:pt x="1690" y="2710"/>
                  </a:lnTo>
                  <a:lnTo>
                    <a:pt x="1269" y="2426"/>
                  </a:lnTo>
                  <a:lnTo>
                    <a:pt x="1269" y="2426"/>
                  </a:lnTo>
                  <a:lnTo>
                    <a:pt x="938" y="2645"/>
                  </a:lnTo>
                  <a:lnTo>
                    <a:pt x="938" y="2645"/>
                  </a:lnTo>
                  <a:lnTo>
                    <a:pt x="713" y="2340"/>
                  </a:lnTo>
                  <a:lnTo>
                    <a:pt x="329" y="2495"/>
                  </a:lnTo>
                  <a:lnTo>
                    <a:pt x="349" y="2290"/>
                  </a:lnTo>
                  <a:lnTo>
                    <a:pt x="0" y="2111"/>
                  </a:lnTo>
                  <a:lnTo>
                    <a:pt x="311" y="1912"/>
                  </a:lnTo>
                  <a:lnTo>
                    <a:pt x="467" y="1481"/>
                  </a:lnTo>
                  <a:lnTo>
                    <a:pt x="467" y="1481"/>
                  </a:lnTo>
                  <a:lnTo>
                    <a:pt x="717" y="1455"/>
                  </a:lnTo>
                  <a:lnTo>
                    <a:pt x="618" y="894"/>
                  </a:lnTo>
                  <a:lnTo>
                    <a:pt x="847" y="882"/>
                  </a:lnTo>
                  <a:lnTo>
                    <a:pt x="1062" y="286"/>
                  </a:lnTo>
                  <a:lnTo>
                    <a:pt x="1062" y="286"/>
                  </a:lnTo>
                  <a:lnTo>
                    <a:pt x="1326" y="424"/>
                  </a:lnTo>
                  <a:lnTo>
                    <a:pt x="1840" y="0"/>
                  </a:lnTo>
                  <a:lnTo>
                    <a:pt x="1840" y="0"/>
                  </a:lnTo>
                  <a:lnTo>
                    <a:pt x="1978" y="199"/>
                  </a:lnTo>
                  <a:lnTo>
                    <a:pt x="1978" y="199"/>
                  </a:lnTo>
                  <a:lnTo>
                    <a:pt x="1978" y="199"/>
                  </a:lnTo>
                  <a:close/>
                </a:path>
              </a:pathLst>
            </a:custGeom>
            <a:solidFill>
              <a:srgbClr val="3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13600" y="4392720"/>
              <a:ext cx="2566800" cy="1828800"/>
            </a:xfrm>
            <a:custGeom>
              <a:avLst/>
              <a:gdLst/>
              <a:ahLst/>
              <a:rect l="l" t="t" r="r" b="b"/>
              <a:pathLst>
                <a:path w="3232" h="2304">
                  <a:moveTo>
                    <a:pt x="1680" y="169"/>
                  </a:moveTo>
                  <a:lnTo>
                    <a:pt x="2096" y="22"/>
                  </a:lnTo>
                  <a:lnTo>
                    <a:pt x="2096" y="22"/>
                  </a:lnTo>
                  <a:lnTo>
                    <a:pt x="2121" y="260"/>
                  </a:lnTo>
                  <a:lnTo>
                    <a:pt x="2598" y="195"/>
                  </a:lnTo>
                  <a:lnTo>
                    <a:pt x="2572" y="480"/>
                  </a:lnTo>
                  <a:lnTo>
                    <a:pt x="2994" y="532"/>
                  </a:lnTo>
                  <a:lnTo>
                    <a:pt x="2994" y="532"/>
                  </a:lnTo>
                  <a:lnTo>
                    <a:pt x="2909" y="695"/>
                  </a:lnTo>
                  <a:lnTo>
                    <a:pt x="2909" y="695"/>
                  </a:lnTo>
                  <a:lnTo>
                    <a:pt x="3228" y="796"/>
                  </a:lnTo>
                  <a:lnTo>
                    <a:pt x="3057" y="1213"/>
                  </a:lnTo>
                  <a:lnTo>
                    <a:pt x="3057" y="1213"/>
                  </a:lnTo>
                  <a:lnTo>
                    <a:pt x="3232" y="1455"/>
                  </a:lnTo>
                  <a:lnTo>
                    <a:pt x="2913" y="1514"/>
                  </a:lnTo>
                  <a:lnTo>
                    <a:pt x="2913" y="1514"/>
                  </a:lnTo>
                  <a:lnTo>
                    <a:pt x="3021" y="2016"/>
                  </a:lnTo>
                  <a:lnTo>
                    <a:pt x="2671" y="1949"/>
                  </a:lnTo>
                  <a:lnTo>
                    <a:pt x="2566" y="2241"/>
                  </a:lnTo>
                  <a:lnTo>
                    <a:pt x="2566" y="2241"/>
                  </a:lnTo>
                  <a:lnTo>
                    <a:pt x="2161" y="2064"/>
                  </a:lnTo>
                  <a:lnTo>
                    <a:pt x="2161" y="2064"/>
                  </a:lnTo>
                  <a:lnTo>
                    <a:pt x="2007" y="2274"/>
                  </a:lnTo>
                  <a:lnTo>
                    <a:pt x="2007" y="2274"/>
                  </a:lnTo>
                  <a:lnTo>
                    <a:pt x="1650" y="2093"/>
                  </a:lnTo>
                  <a:lnTo>
                    <a:pt x="1438" y="2304"/>
                  </a:lnTo>
                  <a:lnTo>
                    <a:pt x="1079" y="2064"/>
                  </a:lnTo>
                  <a:lnTo>
                    <a:pt x="1079" y="2064"/>
                  </a:lnTo>
                  <a:lnTo>
                    <a:pt x="797" y="2249"/>
                  </a:lnTo>
                  <a:lnTo>
                    <a:pt x="797" y="2249"/>
                  </a:lnTo>
                  <a:lnTo>
                    <a:pt x="604" y="1989"/>
                  </a:lnTo>
                  <a:lnTo>
                    <a:pt x="279" y="2123"/>
                  </a:lnTo>
                  <a:lnTo>
                    <a:pt x="293" y="1948"/>
                  </a:lnTo>
                  <a:lnTo>
                    <a:pt x="0" y="1792"/>
                  </a:lnTo>
                  <a:lnTo>
                    <a:pt x="262" y="1627"/>
                  </a:lnTo>
                  <a:lnTo>
                    <a:pt x="397" y="1258"/>
                  </a:lnTo>
                  <a:lnTo>
                    <a:pt x="397" y="1258"/>
                  </a:lnTo>
                  <a:lnTo>
                    <a:pt x="608" y="1237"/>
                  </a:lnTo>
                  <a:lnTo>
                    <a:pt x="526" y="760"/>
                  </a:lnTo>
                  <a:lnTo>
                    <a:pt x="721" y="752"/>
                  </a:lnTo>
                  <a:lnTo>
                    <a:pt x="902" y="242"/>
                  </a:lnTo>
                  <a:lnTo>
                    <a:pt x="902" y="242"/>
                  </a:lnTo>
                  <a:lnTo>
                    <a:pt x="1126" y="358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680" y="169"/>
                  </a:lnTo>
                  <a:lnTo>
                    <a:pt x="1680" y="169"/>
                  </a:lnTo>
                  <a:lnTo>
                    <a:pt x="1680" y="169"/>
                  </a:lnTo>
                  <a:close/>
                </a:path>
              </a:pathLst>
            </a:custGeom>
            <a:solidFill>
              <a:srgbClr val="7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37280" y="4507200"/>
              <a:ext cx="2722680" cy="1527120"/>
            </a:xfrm>
            <a:custGeom>
              <a:avLst/>
              <a:gdLst/>
              <a:ahLst/>
              <a:rect l="l" t="t" r="r" b="b"/>
              <a:pathLst>
                <a:path w="3430" h="1924">
                  <a:moveTo>
                    <a:pt x="2876" y="807"/>
                  </a:moveTo>
                  <a:lnTo>
                    <a:pt x="2876" y="807"/>
                  </a:lnTo>
                  <a:lnTo>
                    <a:pt x="3430" y="815"/>
                  </a:lnTo>
                  <a:lnTo>
                    <a:pt x="2797" y="1689"/>
                  </a:lnTo>
                  <a:lnTo>
                    <a:pt x="2474" y="1689"/>
                  </a:lnTo>
                  <a:lnTo>
                    <a:pt x="2474" y="1689"/>
                  </a:lnTo>
                  <a:lnTo>
                    <a:pt x="2435" y="1717"/>
                  </a:lnTo>
                  <a:lnTo>
                    <a:pt x="2395" y="1740"/>
                  </a:lnTo>
                  <a:lnTo>
                    <a:pt x="2354" y="1764"/>
                  </a:lnTo>
                  <a:lnTo>
                    <a:pt x="2315" y="1786"/>
                  </a:lnTo>
                  <a:lnTo>
                    <a:pt x="2273" y="1807"/>
                  </a:lnTo>
                  <a:lnTo>
                    <a:pt x="2232" y="1825"/>
                  </a:lnTo>
                  <a:lnTo>
                    <a:pt x="2189" y="1843"/>
                  </a:lnTo>
                  <a:lnTo>
                    <a:pt x="2147" y="1859"/>
                  </a:lnTo>
                  <a:lnTo>
                    <a:pt x="2104" y="1872"/>
                  </a:lnTo>
                  <a:lnTo>
                    <a:pt x="2061" y="1884"/>
                  </a:lnTo>
                  <a:lnTo>
                    <a:pt x="2017" y="1896"/>
                  </a:lnTo>
                  <a:lnTo>
                    <a:pt x="1974" y="1904"/>
                  </a:lnTo>
                  <a:lnTo>
                    <a:pt x="1931" y="1912"/>
                  </a:lnTo>
                  <a:lnTo>
                    <a:pt x="1887" y="1918"/>
                  </a:lnTo>
                  <a:lnTo>
                    <a:pt x="1844" y="1922"/>
                  </a:lnTo>
                  <a:lnTo>
                    <a:pt x="1801" y="1924"/>
                  </a:lnTo>
                  <a:lnTo>
                    <a:pt x="1755" y="1924"/>
                  </a:lnTo>
                  <a:lnTo>
                    <a:pt x="1712" y="1922"/>
                  </a:lnTo>
                  <a:lnTo>
                    <a:pt x="1669" y="1920"/>
                  </a:lnTo>
                  <a:lnTo>
                    <a:pt x="1625" y="1916"/>
                  </a:lnTo>
                  <a:lnTo>
                    <a:pt x="1582" y="1908"/>
                  </a:lnTo>
                  <a:lnTo>
                    <a:pt x="1539" y="1900"/>
                  </a:lnTo>
                  <a:lnTo>
                    <a:pt x="1495" y="1890"/>
                  </a:lnTo>
                  <a:lnTo>
                    <a:pt x="1452" y="1878"/>
                  </a:lnTo>
                  <a:lnTo>
                    <a:pt x="1409" y="1865"/>
                  </a:lnTo>
                  <a:lnTo>
                    <a:pt x="1367" y="1849"/>
                  </a:lnTo>
                  <a:lnTo>
                    <a:pt x="1324" y="1833"/>
                  </a:lnTo>
                  <a:lnTo>
                    <a:pt x="1282" y="1813"/>
                  </a:lnTo>
                  <a:lnTo>
                    <a:pt x="1241" y="1792"/>
                  </a:lnTo>
                  <a:lnTo>
                    <a:pt x="1202" y="1770"/>
                  </a:lnTo>
                  <a:lnTo>
                    <a:pt x="1160" y="1744"/>
                  </a:lnTo>
                  <a:lnTo>
                    <a:pt x="1121" y="1719"/>
                  </a:lnTo>
                  <a:lnTo>
                    <a:pt x="1121" y="1719"/>
                  </a:lnTo>
                  <a:lnTo>
                    <a:pt x="0" y="1762"/>
                  </a:lnTo>
                  <a:lnTo>
                    <a:pt x="717" y="1014"/>
                  </a:lnTo>
                  <a:lnTo>
                    <a:pt x="717" y="1014"/>
                  </a:lnTo>
                  <a:lnTo>
                    <a:pt x="782" y="1010"/>
                  </a:lnTo>
                  <a:lnTo>
                    <a:pt x="780" y="915"/>
                  </a:lnTo>
                  <a:lnTo>
                    <a:pt x="788" y="827"/>
                  </a:lnTo>
                  <a:lnTo>
                    <a:pt x="802" y="740"/>
                  </a:lnTo>
                  <a:lnTo>
                    <a:pt x="825" y="659"/>
                  </a:lnTo>
                  <a:lnTo>
                    <a:pt x="855" y="581"/>
                  </a:lnTo>
                  <a:lnTo>
                    <a:pt x="892" y="508"/>
                  </a:lnTo>
                  <a:lnTo>
                    <a:pt x="938" y="437"/>
                  </a:lnTo>
                  <a:lnTo>
                    <a:pt x="989" y="372"/>
                  </a:lnTo>
                  <a:lnTo>
                    <a:pt x="1044" y="313"/>
                  </a:lnTo>
                  <a:lnTo>
                    <a:pt x="1107" y="256"/>
                  </a:lnTo>
                  <a:lnTo>
                    <a:pt x="1174" y="205"/>
                  </a:lnTo>
                  <a:lnTo>
                    <a:pt x="1247" y="157"/>
                  </a:lnTo>
                  <a:lnTo>
                    <a:pt x="1322" y="116"/>
                  </a:lnTo>
                  <a:lnTo>
                    <a:pt x="1403" y="79"/>
                  </a:lnTo>
                  <a:lnTo>
                    <a:pt x="1487" y="47"/>
                  </a:lnTo>
                  <a:lnTo>
                    <a:pt x="1574" y="19"/>
                  </a:lnTo>
                  <a:lnTo>
                    <a:pt x="1621" y="10"/>
                  </a:lnTo>
                  <a:lnTo>
                    <a:pt x="1671" y="4"/>
                  </a:lnTo>
                  <a:lnTo>
                    <a:pt x="1722" y="2"/>
                  </a:lnTo>
                  <a:lnTo>
                    <a:pt x="1773" y="0"/>
                  </a:lnTo>
                  <a:lnTo>
                    <a:pt x="1824" y="2"/>
                  </a:lnTo>
                  <a:lnTo>
                    <a:pt x="1875" y="8"/>
                  </a:lnTo>
                  <a:lnTo>
                    <a:pt x="1929" y="14"/>
                  </a:lnTo>
                  <a:lnTo>
                    <a:pt x="1982" y="23"/>
                  </a:lnTo>
                  <a:lnTo>
                    <a:pt x="2033" y="35"/>
                  </a:lnTo>
                  <a:lnTo>
                    <a:pt x="2086" y="49"/>
                  </a:lnTo>
                  <a:lnTo>
                    <a:pt x="2139" y="67"/>
                  </a:lnTo>
                  <a:lnTo>
                    <a:pt x="2191" y="84"/>
                  </a:lnTo>
                  <a:lnTo>
                    <a:pt x="2242" y="106"/>
                  </a:lnTo>
                  <a:lnTo>
                    <a:pt x="2291" y="128"/>
                  </a:lnTo>
                  <a:lnTo>
                    <a:pt x="2340" y="153"/>
                  </a:lnTo>
                  <a:lnTo>
                    <a:pt x="2390" y="179"/>
                  </a:lnTo>
                  <a:lnTo>
                    <a:pt x="2437" y="208"/>
                  </a:lnTo>
                  <a:lnTo>
                    <a:pt x="2482" y="238"/>
                  </a:lnTo>
                  <a:lnTo>
                    <a:pt x="2525" y="272"/>
                  </a:lnTo>
                  <a:lnTo>
                    <a:pt x="2567" y="305"/>
                  </a:lnTo>
                  <a:lnTo>
                    <a:pt x="2608" y="338"/>
                  </a:lnTo>
                  <a:lnTo>
                    <a:pt x="2646" y="376"/>
                  </a:lnTo>
                  <a:lnTo>
                    <a:pt x="2681" y="413"/>
                  </a:lnTo>
                  <a:lnTo>
                    <a:pt x="2715" y="453"/>
                  </a:lnTo>
                  <a:lnTo>
                    <a:pt x="2746" y="494"/>
                  </a:lnTo>
                  <a:lnTo>
                    <a:pt x="2774" y="535"/>
                  </a:lnTo>
                  <a:lnTo>
                    <a:pt x="2799" y="579"/>
                  </a:lnTo>
                  <a:lnTo>
                    <a:pt x="2821" y="622"/>
                  </a:lnTo>
                  <a:lnTo>
                    <a:pt x="2841" y="667"/>
                  </a:lnTo>
                  <a:lnTo>
                    <a:pt x="2856" y="713"/>
                  </a:lnTo>
                  <a:lnTo>
                    <a:pt x="2868" y="760"/>
                  </a:lnTo>
                  <a:lnTo>
                    <a:pt x="2876" y="80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650280" y="4534200"/>
              <a:ext cx="841320" cy="668160"/>
            </a:xfrm>
            <a:custGeom>
              <a:avLst/>
              <a:gdLst/>
              <a:ahLst/>
              <a:rect l="l" t="t" r="r" b="b"/>
              <a:pathLst>
                <a:path w="1060" h="843">
                  <a:moveTo>
                    <a:pt x="658" y="233"/>
                  </a:moveTo>
                  <a:lnTo>
                    <a:pt x="678" y="288"/>
                  </a:lnTo>
                  <a:lnTo>
                    <a:pt x="681" y="392"/>
                  </a:lnTo>
                  <a:lnTo>
                    <a:pt x="668" y="520"/>
                  </a:lnTo>
                  <a:lnTo>
                    <a:pt x="642" y="640"/>
                  </a:lnTo>
                  <a:lnTo>
                    <a:pt x="650" y="646"/>
                  </a:lnTo>
                  <a:lnTo>
                    <a:pt x="658" y="650"/>
                  </a:lnTo>
                  <a:lnTo>
                    <a:pt x="666" y="652"/>
                  </a:lnTo>
                  <a:lnTo>
                    <a:pt x="676" y="652"/>
                  </a:lnTo>
                  <a:lnTo>
                    <a:pt x="693" y="628"/>
                  </a:lnTo>
                  <a:lnTo>
                    <a:pt x="709" y="589"/>
                  </a:lnTo>
                  <a:lnTo>
                    <a:pt x="723" y="538"/>
                  </a:lnTo>
                  <a:lnTo>
                    <a:pt x="735" y="481"/>
                  </a:lnTo>
                  <a:lnTo>
                    <a:pt x="744" y="424"/>
                  </a:lnTo>
                  <a:lnTo>
                    <a:pt x="750" y="370"/>
                  </a:lnTo>
                  <a:lnTo>
                    <a:pt x="754" y="327"/>
                  </a:lnTo>
                  <a:lnTo>
                    <a:pt x="754" y="298"/>
                  </a:lnTo>
                  <a:lnTo>
                    <a:pt x="762" y="305"/>
                  </a:lnTo>
                  <a:lnTo>
                    <a:pt x="772" y="311"/>
                  </a:lnTo>
                  <a:lnTo>
                    <a:pt x="782" y="321"/>
                  </a:lnTo>
                  <a:lnTo>
                    <a:pt x="794" y="329"/>
                  </a:lnTo>
                  <a:lnTo>
                    <a:pt x="804" y="337"/>
                  </a:lnTo>
                  <a:lnTo>
                    <a:pt x="815" y="347"/>
                  </a:lnTo>
                  <a:lnTo>
                    <a:pt x="825" y="355"/>
                  </a:lnTo>
                  <a:lnTo>
                    <a:pt x="835" y="365"/>
                  </a:lnTo>
                  <a:lnTo>
                    <a:pt x="833" y="398"/>
                  </a:lnTo>
                  <a:lnTo>
                    <a:pt x="825" y="437"/>
                  </a:lnTo>
                  <a:lnTo>
                    <a:pt x="815" y="485"/>
                  </a:lnTo>
                  <a:lnTo>
                    <a:pt x="802" y="534"/>
                  </a:lnTo>
                  <a:lnTo>
                    <a:pt x="786" y="585"/>
                  </a:lnTo>
                  <a:lnTo>
                    <a:pt x="766" y="636"/>
                  </a:lnTo>
                  <a:lnTo>
                    <a:pt x="744" y="686"/>
                  </a:lnTo>
                  <a:lnTo>
                    <a:pt x="723" y="731"/>
                  </a:lnTo>
                  <a:lnTo>
                    <a:pt x="721" y="739"/>
                  </a:lnTo>
                  <a:lnTo>
                    <a:pt x="725" y="745"/>
                  </a:lnTo>
                  <a:lnTo>
                    <a:pt x="731" y="750"/>
                  </a:lnTo>
                  <a:lnTo>
                    <a:pt x="737" y="756"/>
                  </a:lnTo>
                  <a:lnTo>
                    <a:pt x="760" y="749"/>
                  </a:lnTo>
                  <a:lnTo>
                    <a:pt x="788" y="719"/>
                  </a:lnTo>
                  <a:lnTo>
                    <a:pt x="815" y="678"/>
                  </a:lnTo>
                  <a:lnTo>
                    <a:pt x="841" y="626"/>
                  </a:lnTo>
                  <a:lnTo>
                    <a:pt x="867" y="573"/>
                  </a:lnTo>
                  <a:lnTo>
                    <a:pt x="886" y="524"/>
                  </a:lnTo>
                  <a:lnTo>
                    <a:pt x="902" y="483"/>
                  </a:lnTo>
                  <a:lnTo>
                    <a:pt x="910" y="455"/>
                  </a:lnTo>
                  <a:lnTo>
                    <a:pt x="940" y="493"/>
                  </a:lnTo>
                  <a:lnTo>
                    <a:pt x="967" y="530"/>
                  </a:lnTo>
                  <a:lnTo>
                    <a:pt x="991" y="571"/>
                  </a:lnTo>
                  <a:lnTo>
                    <a:pt x="1010" y="613"/>
                  </a:lnTo>
                  <a:lnTo>
                    <a:pt x="1026" y="658"/>
                  </a:lnTo>
                  <a:lnTo>
                    <a:pt x="1040" y="703"/>
                  </a:lnTo>
                  <a:lnTo>
                    <a:pt x="1052" y="749"/>
                  </a:lnTo>
                  <a:lnTo>
                    <a:pt x="1060" y="796"/>
                  </a:lnTo>
                  <a:lnTo>
                    <a:pt x="486" y="843"/>
                  </a:lnTo>
                  <a:lnTo>
                    <a:pt x="0" y="0"/>
                  </a:lnTo>
                  <a:lnTo>
                    <a:pt x="43" y="2"/>
                  </a:lnTo>
                  <a:lnTo>
                    <a:pt x="87" y="6"/>
                  </a:lnTo>
                  <a:lnTo>
                    <a:pt x="134" y="14"/>
                  </a:lnTo>
                  <a:lnTo>
                    <a:pt x="181" y="24"/>
                  </a:lnTo>
                  <a:lnTo>
                    <a:pt x="228" y="36"/>
                  </a:lnTo>
                  <a:lnTo>
                    <a:pt x="276" y="51"/>
                  </a:lnTo>
                  <a:lnTo>
                    <a:pt x="323" y="67"/>
                  </a:lnTo>
                  <a:lnTo>
                    <a:pt x="368" y="85"/>
                  </a:lnTo>
                  <a:lnTo>
                    <a:pt x="414" y="103"/>
                  </a:lnTo>
                  <a:lnTo>
                    <a:pt x="457" y="122"/>
                  </a:lnTo>
                  <a:lnTo>
                    <a:pt x="498" y="142"/>
                  </a:lnTo>
                  <a:lnTo>
                    <a:pt x="538" y="162"/>
                  </a:lnTo>
                  <a:lnTo>
                    <a:pt x="573" y="181"/>
                  </a:lnTo>
                  <a:lnTo>
                    <a:pt x="605" y="199"/>
                  </a:lnTo>
                  <a:lnTo>
                    <a:pt x="634" y="217"/>
                  </a:lnTo>
                  <a:lnTo>
                    <a:pt x="658" y="233"/>
                  </a:lnTo>
                  <a:close/>
                </a:path>
              </a:pathLst>
            </a:custGeom>
            <a:solidFill>
              <a:srgbClr val="ff7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92840" y="4542120"/>
              <a:ext cx="731880" cy="772920"/>
            </a:xfrm>
            <a:custGeom>
              <a:avLst/>
              <a:gdLst/>
              <a:ahLst/>
              <a:rect l="l" t="t" r="r" b="b"/>
              <a:pathLst>
                <a:path w="922" h="975">
                  <a:moveTo>
                    <a:pt x="922" y="0"/>
                  </a:moveTo>
                  <a:lnTo>
                    <a:pt x="471" y="906"/>
                  </a:lnTo>
                  <a:lnTo>
                    <a:pt x="0" y="975"/>
                  </a:lnTo>
                  <a:lnTo>
                    <a:pt x="0" y="894"/>
                  </a:lnTo>
                  <a:lnTo>
                    <a:pt x="4" y="811"/>
                  </a:lnTo>
                  <a:lnTo>
                    <a:pt x="16" y="733"/>
                  </a:lnTo>
                  <a:lnTo>
                    <a:pt x="36" y="656"/>
                  </a:lnTo>
                  <a:lnTo>
                    <a:pt x="40" y="709"/>
                  </a:lnTo>
                  <a:lnTo>
                    <a:pt x="50" y="766"/>
                  </a:lnTo>
                  <a:lnTo>
                    <a:pt x="63" y="821"/>
                  </a:lnTo>
                  <a:lnTo>
                    <a:pt x="83" y="872"/>
                  </a:lnTo>
                  <a:lnTo>
                    <a:pt x="109" y="886"/>
                  </a:lnTo>
                  <a:lnTo>
                    <a:pt x="121" y="876"/>
                  </a:lnTo>
                  <a:lnTo>
                    <a:pt x="123" y="857"/>
                  </a:lnTo>
                  <a:lnTo>
                    <a:pt x="123" y="841"/>
                  </a:lnTo>
                  <a:lnTo>
                    <a:pt x="103" y="752"/>
                  </a:lnTo>
                  <a:lnTo>
                    <a:pt x="95" y="636"/>
                  </a:lnTo>
                  <a:lnTo>
                    <a:pt x="95" y="536"/>
                  </a:lnTo>
                  <a:lnTo>
                    <a:pt x="101" y="492"/>
                  </a:lnTo>
                  <a:lnTo>
                    <a:pt x="117" y="469"/>
                  </a:lnTo>
                  <a:lnTo>
                    <a:pt x="132" y="443"/>
                  </a:lnTo>
                  <a:lnTo>
                    <a:pt x="148" y="418"/>
                  </a:lnTo>
                  <a:lnTo>
                    <a:pt x="166" y="394"/>
                  </a:lnTo>
                  <a:lnTo>
                    <a:pt x="184" y="368"/>
                  </a:lnTo>
                  <a:lnTo>
                    <a:pt x="205" y="345"/>
                  </a:lnTo>
                  <a:lnTo>
                    <a:pt x="227" y="323"/>
                  </a:lnTo>
                  <a:lnTo>
                    <a:pt x="251" y="301"/>
                  </a:lnTo>
                  <a:lnTo>
                    <a:pt x="233" y="372"/>
                  </a:lnTo>
                  <a:lnTo>
                    <a:pt x="221" y="439"/>
                  </a:lnTo>
                  <a:lnTo>
                    <a:pt x="217" y="504"/>
                  </a:lnTo>
                  <a:lnTo>
                    <a:pt x="217" y="563"/>
                  </a:lnTo>
                  <a:lnTo>
                    <a:pt x="221" y="618"/>
                  </a:lnTo>
                  <a:lnTo>
                    <a:pt x="229" y="668"/>
                  </a:lnTo>
                  <a:lnTo>
                    <a:pt x="235" y="707"/>
                  </a:lnTo>
                  <a:lnTo>
                    <a:pt x="243" y="739"/>
                  </a:lnTo>
                  <a:lnTo>
                    <a:pt x="258" y="748"/>
                  </a:lnTo>
                  <a:lnTo>
                    <a:pt x="274" y="750"/>
                  </a:lnTo>
                  <a:lnTo>
                    <a:pt x="288" y="744"/>
                  </a:lnTo>
                  <a:lnTo>
                    <a:pt x="298" y="733"/>
                  </a:lnTo>
                  <a:lnTo>
                    <a:pt x="298" y="733"/>
                  </a:lnTo>
                  <a:lnTo>
                    <a:pt x="300" y="585"/>
                  </a:lnTo>
                  <a:lnTo>
                    <a:pt x="312" y="453"/>
                  </a:lnTo>
                  <a:lnTo>
                    <a:pt x="329" y="329"/>
                  </a:lnTo>
                  <a:lnTo>
                    <a:pt x="351" y="211"/>
                  </a:lnTo>
                  <a:lnTo>
                    <a:pt x="463" y="142"/>
                  </a:lnTo>
                  <a:lnTo>
                    <a:pt x="463" y="142"/>
                  </a:lnTo>
                  <a:lnTo>
                    <a:pt x="446" y="223"/>
                  </a:lnTo>
                  <a:lnTo>
                    <a:pt x="436" y="307"/>
                  </a:lnTo>
                  <a:lnTo>
                    <a:pt x="436" y="394"/>
                  </a:lnTo>
                  <a:lnTo>
                    <a:pt x="442" y="479"/>
                  </a:lnTo>
                  <a:lnTo>
                    <a:pt x="454" y="492"/>
                  </a:lnTo>
                  <a:lnTo>
                    <a:pt x="465" y="494"/>
                  </a:lnTo>
                  <a:lnTo>
                    <a:pt x="475" y="486"/>
                  </a:lnTo>
                  <a:lnTo>
                    <a:pt x="485" y="475"/>
                  </a:lnTo>
                  <a:lnTo>
                    <a:pt x="485" y="475"/>
                  </a:lnTo>
                  <a:lnTo>
                    <a:pt x="485" y="425"/>
                  </a:lnTo>
                  <a:lnTo>
                    <a:pt x="491" y="370"/>
                  </a:lnTo>
                  <a:lnTo>
                    <a:pt x="503" y="309"/>
                  </a:lnTo>
                  <a:lnTo>
                    <a:pt x="519" y="250"/>
                  </a:lnTo>
                  <a:lnTo>
                    <a:pt x="536" y="195"/>
                  </a:lnTo>
                  <a:lnTo>
                    <a:pt x="552" y="148"/>
                  </a:lnTo>
                  <a:lnTo>
                    <a:pt x="566" y="110"/>
                  </a:lnTo>
                  <a:lnTo>
                    <a:pt x="576" y="89"/>
                  </a:lnTo>
                  <a:lnTo>
                    <a:pt x="576" y="89"/>
                  </a:lnTo>
                  <a:lnTo>
                    <a:pt x="595" y="81"/>
                  </a:lnTo>
                  <a:lnTo>
                    <a:pt x="617" y="73"/>
                  </a:lnTo>
                  <a:lnTo>
                    <a:pt x="637" y="65"/>
                  </a:lnTo>
                  <a:lnTo>
                    <a:pt x="658" y="57"/>
                  </a:lnTo>
                  <a:lnTo>
                    <a:pt x="678" y="49"/>
                  </a:lnTo>
                  <a:lnTo>
                    <a:pt x="700" y="43"/>
                  </a:lnTo>
                  <a:lnTo>
                    <a:pt x="721" y="36"/>
                  </a:lnTo>
                  <a:lnTo>
                    <a:pt x="743" y="30"/>
                  </a:lnTo>
                  <a:lnTo>
                    <a:pt x="765" y="24"/>
                  </a:lnTo>
                  <a:lnTo>
                    <a:pt x="786" y="18"/>
                  </a:lnTo>
                  <a:lnTo>
                    <a:pt x="808" y="12"/>
                  </a:lnTo>
                  <a:lnTo>
                    <a:pt x="830" y="8"/>
                  </a:lnTo>
                  <a:lnTo>
                    <a:pt x="853" y="4"/>
                  </a:lnTo>
                  <a:lnTo>
                    <a:pt x="875" y="2"/>
                  </a:lnTo>
                  <a:lnTo>
                    <a:pt x="899" y="0"/>
                  </a:lnTo>
                  <a:lnTo>
                    <a:pt x="922" y="0"/>
                  </a:lnTo>
                  <a:lnTo>
                    <a:pt x="922" y="0"/>
                  </a:lnTo>
                  <a:lnTo>
                    <a:pt x="922" y="0"/>
                  </a:lnTo>
                  <a:close/>
                </a:path>
              </a:pathLst>
            </a:custGeom>
            <a:solidFill>
              <a:srgbClr val="ff7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578640" y="4552920"/>
              <a:ext cx="434880" cy="684360"/>
            </a:xfrm>
            <a:custGeom>
              <a:avLst/>
              <a:gdLst/>
              <a:ahLst/>
              <a:rect l="l" t="t" r="r" b="b"/>
              <a:pathLst>
                <a:path w="548" h="860">
                  <a:moveTo>
                    <a:pt x="162" y="138"/>
                  </a:moveTo>
                  <a:lnTo>
                    <a:pt x="99" y="488"/>
                  </a:lnTo>
                  <a:lnTo>
                    <a:pt x="136" y="502"/>
                  </a:lnTo>
                  <a:lnTo>
                    <a:pt x="227" y="234"/>
                  </a:lnTo>
                  <a:lnTo>
                    <a:pt x="227" y="234"/>
                  </a:lnTo>
                  <a:lnTo>
                    <a:pt x="292" y="341"/>
                  </a:lnTo>
                  <a:lnTo>
                    <a:pt x="292" y="341"/>
                  </a:lnTo>
                  <a:lnTo>
                    <a:pt x="223" y="636"/>
                  </a:lnTo>
                  <a:lnTo>
                    <a:pt x="223" y="636"/>
                  </a:lnTo>
                  <a:lnTo>
                    <a:pt x="262" y="644"/>
                  </a:lnTo>
                  <a:lnTo>
                    <a:pt x="361" y="474"/>
                  </a:lnTo>
                  <a:lnTo>
                    <a:pt x="418" y="585"/>
                  </a:lnTo>
                  <a:lnTo>
                    <a:pt x="418" y="585"/>
                  </a:lnTo>
                  <a:lnTo>
                    <a:pt x="313" y="791"/>
                  </a:lnTo>
                  <a:lnTo>
                    <a:pt x="331" y="817"/>
                  </a:lnTo>
                  <a:lnTo>
                    <a:pt x="461" y="669"/>
                  </a:lnTo>
                  <a:lnTo>
                    <a:pt x="461" y="669"/>
                  </a:lnTo>
                  <a:lnTo>
                    <a:pt x="548" y="817"/>
                  </a:lnTo>
                  <a:lnTo>
                    <a:pt x="0" y="860"/>
                  </a:lnTo>
                  <a:lnTo>
                    <a:pt x="0" y="860"/>
                  </a:lnTo>
                  <a:lnTo>
                    <a:pt x="79" y="0"/>
                  </a:lnTo>
                  <a:lnTo>
                    <a:pt x="162" y="138"/>
                  </a:lnTo>
                  <a:lnTo>
                    <a:pt x="162" y="138"/>
                  </a:lnTo>
                  <a:lnTo>
                    <a:pt x="162" y="138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86680" y="4581720"/>
              <a:ext cx="333360" cy="677880"/>
            </a:xfrm>
            <a:custGeom>
              <a:avLst/>
              <a:gdLst/>
              <a:ahLst/>
              <a:rect l="l" t="t" r="r" b="b"/>
              <a:pathLst>
                <a:path w="419" h="855">
                  <a:moveTo>
                    <a:pt x="347" y="829"/>
                  </a:moveTo>
                  <a:lnTo>
                    <a:pt x="0" y="855"/>
                  </a:lnTo>
                  <a:lnTo>
                    <a:pt x="264" y="648"/>
                  </a:lnTo>
                  <a:lnTo>
                    <a:pt x="242" y="617"/>
                  </a:lnTo>
                  <a:lnTo>
                    <a:pt x="71" y="717"/>
                  </a:lnTo>
                  <a:lnTo>
                    <a:pt x="122" y="605"/>
                  </a:lnTo>
                  <a:lnTo>
                    <a:pt x="325" y="463"/>
                  </a:lnTo>
                  <a:lnTo>
                    <a:pt x="325" y="439"/>
                  </a:lnTo>
                  <a:lnTo>
                    <a:pt x="179" y="483"/>
                  </a:lnTo>
                  <a:lnTo>
                    <a:pt x="419" y="0"/>
                  </a:lnTo>
                  <a:lnTo>
                    <a:pt x="347" y="829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043760" y="5176800"/>
              <a:ext cx="453960" cy="293760"/>
            </a:xfrm>
            <a:custGeom>
              <a:avLst/>
              <a:gdLst/>
              <a:ahLst/>
              <a:rect l="l" t="t" r="r" b="b"/>
              <a:pathLst>
                <a:path w="574" h="370">
                  <a:moveTo>
                    <a:pt x="489" y="370"/>
                  </a:moveTo>
                  <a:lnTo>
                    <a:pt x="489" y="370"/>
                  </a:lnTo>
                  <a:lnTo>
                    <a:pt x="479" y="346"/>
                  </a:lnTo>
                  <a:lnTo>
                    <a:pt x="465" y="324"/>
                  </a:lnTo>
                  <a:lnTo>
                    <a:pt x="447" y="305"/>
                  </a:lnTo>
                  <a:lnTo>
                    <a:pt x="426" y="287"/>
                  </a:lnTo>
                  <a:lnTo>
                    <a:pt x="402" y="273"/>
                  </a:lnTo>
                  <a:lnTo>
                    <a:pt x="377" y="259"/>
                  </a:lnTo>
                  <a:lnTo>
                    <a:pt x="349" y="248"/>
                  </a:lnTo>
                  <a:lnTo>
                    <a:pt x="319" y="240"/>
                  </a:lnTo>
                  <a:lnTo>
                    <a:pt x="288" y="232"/>
                  </a:lnTo>
                  <a:lnTo>
                    <a:pt x="258" y="224"/>
                  </a:lnTo>
                  <a:lnTo>
                    <a:pt x="227" y="218"/>
                  </a:lnTo>
                  <a:lnTo>
                    <a:pt x="195" y="214"/>
                  </a:lnTo>
                  <a:lnTo>
                    <a:pt x="166" y="210"/>
                  </a:lnTo>
                  <a:lnTo>
                    <a:pt x="138" y="208"/>
                  </a:lnTo>
                  <a:lnTo>
                    <a:pt x="111" y="206"/>
                  </a:lnTo>
                  <a:lnTo>
                    <a:pt x="87" y="204"/>
                  </a:lnTo>
                  <a:lnTo>
                    <a:pt x="87" y="204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66" y="0"/>
                  </a:lnTo>
                  <a:lnTo>
                    <a:pt x="566" y="0"/>
                  </a:lnTo>
                  <a:lnTo>
                    <a:pt x="572" y="29"/>
                  </a:lnTo>
                  <a:lnTo>
                    <a:pt x="574" y="74"/>
                  </a:lnTo>
                  <a:lnTo>
                    <a:pt x="572" y="128"/>
                  </a:lnTo>
                  <a:lnTo>
                    <a:pt x="564" y="187"/>
                  </a:lnTo>
                  <a:lnTo>
                    <a:pt x="552" y="244"/>
                  </a:lnTo>
                  <a:lnTo>
                    <a:pt x="536" y="297"/>
                  </a:lnTo>
                  <a:lnTo>
                    <a:pt x="514" y="340"/>
                  </a:lnTo>
                  <a:lnTo>
                    <a:pt x="489" y="370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53280" y="5185080"/>
              <a:ext cx="646200" cy="628560"/>
            </a:xfrm>
            <a:custGeom>
              <a:avLst/>
              <a:gdLst/>
              <a:ahLst/>
              <a:rect l="l" t="t" r="r" b="b"/>
              <a:pathLst>
                <a:path w="816" h="792">
                  <a:moveTo>
                    <a:pt x="233" y="788"/>
                  </a:moveTo>
                  <a:lnTo>
                    <a:pt x="233" y="788"/>
                  </a:lnTo>
                  <a:lnTo>
                    <a:pt x="0" y="792"/>
                  </a:lnTo>
                  <a:lnTo>
                    <a:pt x="44" y="749"/>
                  </a:lnTo>
                  <a:lnTo>
                    <a:pt x="85" y="705"/>
                  </a:lnTo>
                  <a:lnTo>
                    <a:pt x="122" y="662"/>
                  </a:lnTo>
                  <a:lnTo>
                    <a:pt x="158" y="619"/>
                  </a:lnTo>
                  <a:lnTo>
                    <a:pt x="189" y="573"/>
                  </a:lnTo>
                  <a:lnTo>
                    <a:pt x="219" y="528"/>
                  </a:lnTo>
                  <a:lnTo>
                    <a:pt x="247" y="481"/>
                  </a:lnTo>
                  <a:lnTo>
                    <a:pt x="270" y="434"/>
                  </a:lnTo>
                  <a:lnTo>
                    <a:pt x="290" y="384"/>
                  </a:lnTo>
                  <a:lnTo>
                    <a:pt x="308" y="335"/>
                  </a:lnTo>
                  <a:lnTo>
                    <a:pt x="323" y="282"/>
                  </a:lnTo>
                  <a:lnTo>
                    <a:pt x="333" y="231"/>
                  </a:lnTo>
                  <a:lnTo>
                    <a:pt x="341" y="176"/>
                  </a:lnTo>
                  <a:lnTo>
                    <a:pt x="347" y="119"/>
                  </a:lnTo>
                  <a:lnTo>
                    <a:pt x="347" y="61"/>
                  </a:lnTo>
                  <a:lnTo>
                    <a:pt x="345" y="0"/>
                  </a:lnTo>
                  <a:lnTo>
                    <a:pt x="816" y="0"/>
                  </a:lnTo>
                  <a:lnTo>
                    <a:pt x="233" y="788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72520" y="5216760"/>
              <a:ext cx="515880" cy="118800"/>
            </a:xfrm>
            <a:custGeom>
              <a:avLst/>
              <a:gdLst/>
              <a:ahLst/>
              <a:rect l="l" t="t" r="r" b="b"/>
              <a:pathLst>
                <a:path w="650" h="149">
                  <a:moveTo>
                    <a:pt x="650" y="149"/>
                  </a:moveTo>
                  <a:lnTo>
                    <a:pt x="631" y="147"/>
                  </a:lnTo>
                  <a:lnTo>
                    <a:pt x="605" y="144"/>
                  </a:lnTo>
                  <a:lnTo>
                    <a:pt x="576" y="142"/>
                  </a:lnTo>
                  <a:lnTo>
                    <a:pt x="538" y="140"/>
                  </a:lnTo>
                  <a:lnTo>
                    <a:pt x="499" y="138"/>
                  </a:lnTo>
                  <a:lnTo>
                    <a:pt x="455" y="138"/>
                  </a:lnTo>
                  <a:lnTo>
                    <a:pt x="408" y="136"/>
                  </a:lnTo>
                  <a:lnTo>
                    <a:pt x="361" y="136"/>
                  </a:lnTo>
                  <a:lnTo>
                    <a:pt x="312" y="136"/>
                  </a:lnTo>
                  <a:lnTo>
                    <a:pt x="262" y="136"/>
                  </a:lnTo>
                  <a:lnTo>
                    <a:pt x="213" y="138"/>
                  </a:lnTo>
                  <a:lnTo>
                    <a:pt x="166" y="138"/>
                  </a:lnTo>
                  <a:lnTo>
                    <a:pt x="119" y="140"/>
                  </a:lnTo>
                  <a:lnTo>
                    <a:pt x="75" y="144"/>
                  </a:lnTo>
                  <a:lnTo>
                    <a:pt x="36" y="145"/>
                  </a:lnTo>
                  <a:lnTo>
                    <a:pt x="0" y="149"/>
                  </a:lnTo>
                  <a:lnTo>
                    <a:pt x="8" y="43"/>
                  </a:lnTo>
                  <a:lnTo>
                    <a:pt x="568" y="0"/>
                  </a:lnTo>
                  <a:lnTo>
                    <a:pt x="568" y="0"/>
                  </a:lnTo>
                  <a:lnTo>
                    <a:pt x="650" y="149"/>
                  </a:lnTo>
                  <a:lnTo>
                    <a:pt x="650" y="149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02440" y="5254920"/>
              <a:ext cx="358920" cy="152280"/>
            </a:xfrm>
            <a:custGeom>
              <a:avLst/>
              <a:gdLst/>
              <a:ahLst/>
              <a:rect l="l" t="t" r="r" b="b"/>
              <a:pathLst>
                <a:path w="454" h="193">
                  <a:moveTo>
                    <a:pt x="446" y="108"/>
                  </a:moveTo>
                  <a:lnTo>
                    <a:pt x="418" y="112"/>
                  </a:lnTo>
                  <a:lnTo>
                    <a:pt x="391" y="116"/>
                  </a:lnTo>
                  <a:lnTo>
                    <a:pt x="363" y="120"/>
                  </a:lnTo>
                  <a:lnTo>
                    <a:pt x="335" y="124"/>
                  </a:lnTo>
                  <a:lnTo>
                    <a:pt x="308" y="128"/>
                  </a:lnTo>
                  <a:lnTo>
                    <a:pt x="278" y="132"/>
                  </a:lnTo>
                  <a:lnTo>
                    <a:pt x="251" y="138"/>
                  </a:lnTo>
                  <a:lnTo>
                    <a:pt x="223" y="142"/>
                  </a:lnTo>
                  <a:lnTo>
                    <a:pt x="194" y="148"/>
                  </a:lnTo>
                  <a:lnTo>
                    <a:pt x="166" y="152"/>
                  </a:lnTo>
                  <a:lnTo>
                    <a:pt x="138" y="158"/>
                  </a:lnTo>
                  <a:lnTo>
                    <a:pt x="109" y="163"/>
                  </a:lnTo>
                  <a:lnTo>
                    <a:pt x="81" y="171"/>
                  </a:lnTo>
                  <a:lnTo>
                    <a:pt x="54" y="177"/>
                  </a:lnTo>
                  <a:lnTo>
                    <a:pt x="28" y="185"/>
                  </a:lnTo>
                  <a:lnTo>
                    <a:pt x="0" y="193"/>
                  </a:lnTo>
                  <a:lnTo>
                    <a:pt x="91" y="26"/>
                  </a:lnTo>
                  <a:lnTo>
                    <a:pt x="454" y="0"/>
                  </a:lnTo>
                  <a:lnTo>
                    <a:pt x="454" y="0"/>
                  </a:lnTo>
                  <a:lnTo>
                    <a:pt x="446" y="108"/>
                  </a:lnTo>
                  <a:lnTo>
                    <a:pt x="446" y="108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2840" y="5273640"/>
              <a:ext cx="366840" cy="303480"/>
            </a:xfrm>
            <a:custGeom>
              <a:avLst/>
              <a:gdLst/>
              <a:ahLst/>
              <a:rect l="l" t="t" r="r" b="b"/>
              <a:pathLst>
                <a:path w="463" h="382">
                  <a:moveTo>
                    <a:pt x="365" y="171"/>
                  </a:moveTo>
                  <a:lnTo>
                    <a:pt x="322" y="189"/>
                  </a:lnTo>
                  <a:lnTo>
                    <a:pt x="282" y="206"/>
                  </a:lnTo>
                  <a:lnTo>
                    <a:pt x="245" y="224"/>
                  </a:lnTo>
                  <a:lnTo>
                    <a:pt x="209" y="246"/>
                  </a:lnTo>
                  <a:lnTo>
                    <a:pt x="174" y="269"/>
                  </a:lnTo>
                  <a:lnTo>
                    <a:pt x="138" y="299"/>
                  </a:lnTo>
                  <a:lnTo>
                    <a:pt x="101" y="336"/>
                  </a:lnTo>
                  <a:lnTo>
                    <a:pt x="61" y="382"/>
                  </a:lnTo>
                  <a:lnTo>
                    <a:pt x="44" y="342"/>
                  </a:lnTo>
                  <a:lnTo>
                    <a:pt x="32" y="301"/>
                  </a:lnTo>
                  <a:lnTo>
                    <a:pt x="22" y="260"/>
                  </a:lnTo>
                  <a:lnTo>
                    <a:pt x="14" y="218"/>
                  </a:lnTo>
                  <a:lnTo>
                    <a:pt x="10" y="179"/>
                  </a:lnTo>
                  <a:lnTo>
                    <a:pt x="6" y="139"/>
                  </a:lnTo>
                  <a:lnTo>
                    <a:pt x="2" y="102"/>
                  </a:lnTo>
                  <a:lnTo>
                    <a:pt x="0" y="6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365" y="171"/>
                  </a:lnTo>
                  <a:lnTo>
                    <a:pt x="365" y="171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299200" y="5340600"/>
              <a:ext cx="785880" cy="530280"/>
            </a:xfrm>
            <a:custGeom>
              <a:avLst/>
              <a:gdLst/>
              <a:ahLst/>
              <a:rect l="l" t="t" r="r" b="b"/>
              <a:pathLst>
                <a:path w="989" h="670">
                  <a:moveTo>
                    <a:pt x="699" y="0"/>
                  </a:moveTo>
                  <a:lnTo>
                    <a:pt x="707" y="99"/>
                  </a:lnTo>
                  <a:lnTo>
                    <a:pt x="723" y="189"/>
                  </a:lnTo>
                  <a:lnTo>
                    <a:pt x="746" y="272"/>
                  </a:lnTo>
                  <a:lnTo>
                    <a:pt x="778" y="349"/>
                  </a:lnTo>
                  <a:lnTo>
                    <a:pt x="817" y="422"/>
                  </a:lnTo>
                  <a:lnTo>
                    <a:pt x="867" y="493"/>
                  </a:lnTo>
                  <a:lnTo>
                    <a:pt x="924" y="560"/>
                  </a:lnTo>
                  <a:lnTo>
                    <a:pt x="989" y="628"/>
                  </a:lnTo>
                  <a:lnTo>
                    <a:pt x="989" y="628"/>
                  </a:lnTo>
                  <a:lnTo>
                    <a:pt x="0" y="670"/>
                  </a:lnTo>
                  <a:lnTo>
                    <a:pt x="0" y="670"/>
                  </a:lnTo>
                  <a:lnTo>
                    <a:pt x="532" y="520"/>
                  </a:lnTo>
                  <a:lnTo>
                    <a:pt x="526" y="477"/>
                  </a:lnTo>
                  <a:lnTo>
                    <a:pt x="526" y="477"/>
                  </a:lnTo>
                  <a:lnTo>
                    <a:pt x="134" y="532"/>
                  </a:lnTo>
                  <a:lnTo>
                    <a:pt x="234" y="445"/>
                  </a:lnTo>
                  <a:lnTo>
                    <a:pt x="234" y="445"/>
                  </a:lnTo>
                  <a:lnTo>
                    <a:pt x="597" y="357"/>
                  </a:lnTo>
                  <a:lnTo>
                    <a:pt x="579" y="331"/>
                  </a:lnTo>
                  <a:lnTo>
                    <a:pt x="311" y="357"/>
                  </a:lnTo>
                  <a:lnTo>
                    <a:pt x="660" y="4"/>
                  </a:lnTo>
                  <a:lnTo>
                    <a:pt x="699" y="0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05640" y="5340600"/>
              <a:ext cx="604800" cy="209520"/>
            </a:xfrm>
            <a:custGeom>
              <a:avLst/>
              <a:gdLst/>
              <a:ahLst/>
              <a:rect l="l" t="t" r="r" b="b"/>
              <a:pathLst>
                <a:path w="762" h="264">
                  <a:moveTo>
                    <a:pt x="616" y="12"/>
                  </a:moveTo>
                  <a:lnTo>
                    <a:pt x="762" y="264"/>
                  </a:lnTo>
                  <a:lnTo>
                    <a:pt x="0" y="18"/>
                  </a:lnTo>
                  <a:lnTo>
                    <a:pt x="35" y="14"/>
                  </a:lnTo>
                  <a:lnTo>
                    <a:pt x="73" y="12"/>
                  </a:lnTo>
                  <a:lnTo>
                    <a:pt x="110" y="8"/>
                  </a:lnTo>
                  <a:lnTo>
                    <a:pt x="147" y="6"/>
                  </a:lnTo>
                  <a:lnTo>
                    <a:pt x="185" y="4"/>
                  </a:lnTo>
                  <a:lnTo>
                    <a:pt x="224" y="2"/>
                  </a:lnTo>
                  <a:lnTo>
                    <a:pt x="262" y="2"/>
                  </a:lnTo>
                  <a:lnTo>
                    <a:pt x="301" y="0"/>
                  </a:lnTo>
                  <a:lnTo>
                    <a:pt x="341" y="0"/>
                  </a:lnTo>
                  <a:lnTo>
                    <a:pt x="380" y="0"/>
                  </a:lnTo>
                  <a:lnTo>
                    <a:pt x="419" y="2"/>
                  </a:lnTo>
                  <a:lnTo>
                    <a:pt x="459" y="2"/>
                  </a:lnTo>
                  <a:lnTo>
                    <a:pt x="498" y="4"/>
                  </a:lnTo>
                  <a:lnTo>
                    <a:pt x="538" y="6"/>
                  </a:lnTo>
                  <a:lnTo>
                    <a:pt x="577" y="8"/>
                  </a:lnTo>
                  <a:lnTo>
                    <a:pt x="616" y="12"/>
                  </a:lnTo>
                  <a:lnTo>
                    <a:pt x="616" y="12"/>
                  </a:lnTo>
                  <a:lnTo>
                    <a:pt x="616" y="12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118640" y="5354640"/>
              <a:ext cx="295200" cy="203400"/>
            </a:xfrm>
            <a:custGeom>
              <a:avLst/>
              <a:gdLst/>
              <a:ahLst/>
              <a:rect l="l" t="t" r="r" b="b"/>
              <a:pathLst>
                <a:path w="372" h="256">
                  <a:moveTo>
                    <a:pt x="372" y="165"/>
                  </a:moveTo>
                  <a:lnTo>
                    <a:pt x="351" y="179"/>
                  </a:lnTo>
                  <a:lnTo>
                    <a:pt x="327" y="193"/>
                  </a:lnTo>
                  <a:lnTo>
                    <a:pt x="299" y="207"/>
                  </a:lnTo>
                  <a:lnTo>
                    <a:pt x="272" y="219"/>
                  </a:lnTo>
                  <a:lnTo>
                    <a:pt x="240" y="230"/>
                  </a:lnTo>
                  <a:lnTo>
                    <a:pt x="211" y="240"/>
                  </a:lnTo>
                  <a:lnTo>
                    <a:pt x="181" y="248"/>
                  </a:lnTo>
                  <a:lnTo>
                    <a:pt x="152" y="256"/>
                  </a:lnTo>
                  <a:lnTo>
                    <a:pt x="134" y="223"/>
                  </a:lnTo>
                  <a:lnTo>
                    <a:pt x="116" y="189"/>
                  </a:lnTo>
                  <a:lnTo>
                    <a:pt x="96" y="158"/>
                  </a:lnTo>
                  <a:lnTo>
                    <a:pt x="79" y="126"/>
                  </a:lnTo>
                  <a:lnTo>
                    <a:pt x="59" y="95"/>
                  </a:lnTo>
                  <a:lnTo>
                    <a:pt x="39" y="63"/>
                  </a:lnTo>
                  <a:lnTo>
                    <a:pt x="20" y="3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53" y="0"/>
                  </a:lnTo>
                  <a:lnTo>
                    <a:pt x="79" y="2"/>
                  </a:lnTo>
                  <a:lnTo>
                    <a:pt x="108" y="6"/>
                  </a:lnTo>
                  <a:lnTo>
                    <a:pt x="140" y="10"/>
                  </a:lnTo>
                  <a:lnTo>
                    <a:pt x="171" y="16"/>
                  </a:lnTo>
                  <a:lnTo>
                    <a:pt x="205" y="24"/>
                  </a:lnTo>
                  <a:lnTo>
                    <a:pt x="236" y="34"/>
                  </a:lnTo>
                  <a:lnTo>
                    <a:pt x="268" y="45"/>
                  </a:lnTo>
                  <a:lnTo>
                    <a:pt x="295" y="59"/>
                  </a:lnTo>
                  <a:lnTo>
                    <a:pt x="321" y="75"/>
                  </a:lnTo>
                  <a:lnTo>
                    <a:pt x="343" y="95"/>
                  </a:lnTo>
                  <a:lnTo>
                    <a:pt x="358" y="114"/>
                  </a:lnTo>
                  <a:lnTo>
                    <a:pt x="368" y="138"/>
                  </a:lnTo>
                  <a:lnTo>
                    <a:pt x="372" y="165"/>
                  </a:lnTo>
                  <a:close/>
                </a:path>
              </a:pathLst>
            </a:custGeom>
            <a:solidFill>
              <a:srgbClr val="ff3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75360" y="5356440"/>
              <a:ext cx="468360" cy="293760"/>
            </a:xfrm>
            <a:custGeom>
              <a:avLst/>
              <a:gdLst/>
              <a:ahLst/>
              <a:rect l="l" t="t" r="r" b="b"/>
              <a:pathLst>
                <a:path w="591" h="370">
                  <a:moveTo>
                    <a:pt x="591" y="0"/>
                  </a:moveTo>
                  <a:lnTo>
                    <a:pt x="0" y="370"/>
                  </a:lnTo>
                  <a:lnTo>
                    <a:pt x="16" y="335"/>
                  </a:lnTo>
                  <a:lnTo>
                    <a:pt x="31" y="297"/>
                  </a:lnTo>
                  <a:lnTo>
                    <a:pt x="49" y="262"/>
                  </a:lnTo>
                  <a:lnTo>
                    <a:pt x="67" y="224"/>
                  </a:lnTo>
                  <a:lnTo>
                    <a:pt x="85" y="187"/>
                  </a:lnTo>
                  <a:lnTo>
                    <a:pt x="102" y="152"/>
                  </a:lnTo>
                  <a:lnTo>
                    <a:pt x="124" y="116"/>
                  </a:lnTo>
                  <a:lnTo>
                    <a:pt x="146" y="83"/>
                  </a:lnTo>
                  <a:lnTo>
                    <a:pt x="173" y="75"/>
                  </a:lnTo>
                  <a:lnTo>
                    <a:pt x="201" y="67"/>
                  </a:lnTo>
                  <a:lnTo>
                    <a:pt x="226" y="61"/>
                  </a:lnTo>
                  <a:lnTo>
                    <a:pt x="254" y="53"/>
                  </a:lnTo>
                  <a:lnTo>
                    <a:pt x="282" y="47"/>
                  </a:lnTo>
                  <a:lnTo>
                    <a:pt x="309" y="41"/>
                  </a:lnTo>
                  <a:lnTo>
                    <a:pt x="337" y="37"/>
                  </a:lnTo>
                  <a:lnTo>
                    <a:pt x="366" y="32"/>
                  </a:lnTo>
                  <a:lnTo>
                    <a:pt x="394" y="28"/>
                  </a:lnTo>
                  <a:lnTo>
                    <a:pt x="421" y="22"/>
                  </a:lnTo>
                  <a:lnTo>
                    <a:pt x="449" y="18"/>
                  </a:lnTo>
                  <a:lnTo>
                    <a:pt x="477" y="14"/>
                  </a:lnTo>
                  <a:lnTo>
                    <a:pt x="506" y="10"/>
                  </a:lnTo>
                  <a:lnTo>
                    <a:pt x="534" y="6"/>
                  </a:lnTo>
                  <a:lnTo>
                    <a:pt x="563" y="4"/>
                  </a:lnTo>
                  <a:lnTo>
                    <a:pt x="591" y="0"/>
                  </a:lnTo>
                  <a:lnTo>
                    <a:pt x="591" y="0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75360" y="5369040"/>
              <a:ext cx="1125720" cy="293760"/>
            </a:xfrm>
            <a:custGeom>
              <a:avLst/>
              <a:gdLst/>
              <a:ahLst/>
              <a:rect l="l" t="t" r="r" b="b"/>
              <a:pathLst>
                <a:path w="1418" h="370">
                  <a:moveTo>
                    <a:pt x="1418" y="250"/>
                  </a:moveTo>
                  <a:lnTo>
                    <a:pt x="741" y="313"/>
                  </a:lnTo>
                  <a:lnTo>
                    <a:pt x="741" y="313"/>
                  </a:lnTo>
                  <a:lnTo>
                    <a:pt x="867" y="161"/>
                  </a:lnTo>
                  <a:lnTo>
                    <a:pt x="835" y="132"/>
                  </a:lnTo>
                  <a:lnTo>
                    <a:pt x="835" y="132"/>
                  </a:lnTo>
                  <a:lnTo>
                    <a:pt x="583" y="327"/>
                  </a:lnTo>
                  <a:lnTo>
                    <a:pt x="396" y="344"/>
                  </a:lnTo>
                  <a:lnTo>
                    <a:pt x="396" y="344"/>
                  </a:lnTo>
                  <a:lnTo>
                    <a:pt x="591" y="183"/>
                  </a:lnTo>
                  <a:lnTo>
                    <a:pt x="569" y="149"/>
                  </a:lnTo>
                  <a:lnTo>
                    <a:pt x="246" y="356"/>
                  </a:lnTo>
                  <a:lnTo>
                    <a:pt x="0" y="370"/>
                  </a:lnTo>
                  <a:lnTo>
                    <a:pt x="613" y="0"/>
                  </a:lnTo>
                  <a:lnTo>
                    <a:pt x="1418" y="25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948640" y="5429520"/>
              <a:ext cx="222120" cy="236520"/>
            </a:xfrm>
            <a:custGeom>
              <a:avLst/>
              <a:gdLst/>
              <a:ahLst/>
              <a:rect l="l" t="t" r="r" b="b"/>
              <a:pathLst>
                <a:path w="280" h="299">
                  <a:moveTo>
                    <a:pt x="280" y="0"/>
                  </a:moveTo>
                  <a:lnTo>
                    <a:pt x="258" y="35"/>
                  </a:lnTo>
                  <a:lnTo>
                    <a:pt x="237" y="70"/>
                  </a:lnTo>
                  <a:lnTo>
                    <a:pt x="217" y="108"/>
                  </a:lnTo>
                  <a:lnTo>
                    <a:pt x="199" y="145"/>
                  </a:lnTo>
                  <a:lnTo>
                    <a:pt x="180" y="185"/>
                  </a:lnTo>
                  <a:lnTo>
                    <a:pt x="162" y="222"/>
                  </a:lnTo>
                  <a:lnTo>
                    <a:pt x="144" y="261"/>
                  </a:lnTo>
                  <a:lnTo>
                    <a:pt x="124" y="299"/>
                  </a:lnTo>
                  <a:lnTo>
                    <a:pt x="115" y="297"/>
                  </a:lnTo>
                  <a:lnTo>
                    <a:pt x="97" y="291"/>
                  </a:lnTo>
                  <a:lnTo>
                    <a:pt x="73" y="283"/>
                  </a:lnTo>
                  <a:lnTo>
                    <a:pt x="48" y="271"/>
                  </a:lnTo>
                  <a:lnTo>
                    <a:pt x="26" y="256"/>
                  </a:lnTo>
                  <a:lnTo>
                    <a:pt x="8" y="238"/>
                  </a:lnTo>
                  <a:lnTo>
                    <a:pt x="0" y="218"/>
                  </a:lnTo>
                  <a:lnTo>
                    <a:pt x="4" y="195"/>
                  </a:lnTo>
                  <a:lnTo>
                    <a:pt x="32" y="161"/>
                  </a:lnTo>
                  <a:lnTo>
                    <a:pt x="61" y="130"/>
                  </a:lnTo>
                  <a:lnTo>
                    <a:pt x="95" y="100"/>
                  </a:lnTo>
                  <a:lnTo>
                    <a:pt x="128" y="74"/>
                  </a:lnTo>
                  <a:lnTo>
                    <a:pt x="166" y="53"/>
                  </a:lnTo>
                  <a:lnTo>
                    <a:pt x="203" y="31"/>
                  </a:lnTo>
                  <a:lnTo>
                    <a:pt x="241" y="13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f3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99400" y="5516640"/>
              <a:ext cx="1431720" cy="319320"/>
            </a:xfrm>
            <a:custGeom>
              <a:avLst/>
              <a:gdLst/>
              <a:ahLst/>
              <a:rect l="l" t="t" r="r" b="b"/>
              <a:pathLst>
                <a:path w="1805" h="402">
                  <a:moveTo>
                    <a:pt x="1503" y="370"/>
                  </a:moveTo>
                  <a:lnTo>
                    <a:pt x="164" y="402"/>
                  </a:lnTo>
                  <a:lnTo>
                    <a:pt x="138" y="384"/>
                  </a:lnTo>
                  <a:lnTo>
                    <a:pt x="115" y="364"/>
                  </a:lnTo>
                  <a:lnTo>
                    <a:pt x="93" y="342"/>
                  </a:lnTo>
                  <a:lnTo>
                    <a:pt x="73" y="319"/>
                  </a:lnTo>
                  <a:lnTo>
                    <a:pt x="54" y="295"/>
                  </a:lnTo>
                  <a:lnTo>
                    <a:pt x="36" y="272"/>
                  </a:lnTo>
                  <a:lnTo>
                    <a:pt x="18" y="246"/>
                  </a:lnTo>
                  <a:lnTo>
                    <a:pt x="0" y="222"/>
                  </a:lnTo>
                  <a:lnTo>
                    <a:pt x="58" y="234"/>
                  </a:lnTo>
                  <a:lnTo>
                    <a:pt x="117" y="246"/>
                  </a:lnTo>
                  <a:lnTo>
                    <a:pt x="178" y="254"/>
                  </a:lnTo>
                  <a:lnTo>
                    <a:pt x="239" y="260"/>
                  </a:lnTo>
                  <a:lnTo>
                    <a:pt x="300" y="266"/>
                  </a:lnTo>
                  <a:lnTo>
                    <a:pt x="363" y="268"/>
                  </a:lnTo>
                  <a:lnTo>
                    <a:pt x="426" y="270"/>
                  </a:lnTo>
                  <a:lnTo>
                    <a:pt x="491" y="270"/>
                  </a:lnTo>
                  <a:lnTo>
                    <a:pt x="556" y="270"/>
                  </a:lnTo>
                  <a:lnTo>
                    <a:pt x="619" y="266"/>
                  </a:lnTo>
                  <a:lnTo>
                    <a:pt x="684" y="262"/>
                  </a:lnTo>
                  <a:lnTo>
                    <a:pt x="749" y="256"/>
                  </a:lnTo>
                  <a:lnTo>
                    <a:pt x="814" y="250"/>
                  </a:lnTo>
                  <a:lnTo>
                    <a:pt x="877" y="242"/>
                  </a:lnTo>
                  <a:lnTo>
                    <a:pt x="942" y="232"/>
                  </a:lnTo>
                  <a:lnTo>
                    <a:pt x="1005" y="222"/>
                  </a:lnTo>
                  <a:lnTo>
                    <a:pt x="1066" y="213"/>
                  </a:lnTo>
                  <a:lnTo>
                    <a:pt x="1127" y="201"/>
                  </a:lnTo>
                  <a:lnTo>
                    <a:pt x="1188" y="189"/>
                  </a:lnTo>
                  <a:lnTo>
                    <a:pt x="1247" y="177"/>
                  </a:lnTo>
                  <a:lnTo>
                    <a:pt x="1304" y="163"/>
                  </a:lnTo>
                  <a:lnTo>
                    <a:pt x="1360" y="149"/>
                  </a:lnTo>
                  <a:lnTo>
                    <a:pt x="1415" y="136"/>
                  </a:lnTo>
                  <a:lnTo>
                    <a:pt x="1468" y="120"/>
                  </a:lnTo>
                  <a:lnTo>
                    <a:pt x="1517" y="106"/>
                  </a:lnTo>
                  <a:lnTo>
                    <a:pt x="1566" y="90"/>
                  </a:lnTo>
                  <a:lnTo>
                    <a:pt x="1612" y="75"/>
                  </a:lnTo>
                  <a:lnTo>
                    <a:pt x="1657" y="61"/>
                  </a:lnTo>
                  <a:lnTo>
                    <a:pt x="1698" y="45"/>
                  </a:lnTo>
                  <a:lnTo>
                    <a:pt x="1736" y="29"/>
                  </a:lnTo>
                  <a:lnTo>
                    <a:pt x="1771" y="14"/>
                  </a:lnTo>
                  <a:lnTo>
                    <a:pt x="1805" y="0"/>
                  </a:lnTo>
                  <a:lnTo>
                    <a:pt x="1781" y="53"/>
                  </a:lnTo>
                  <a:lnTo>
                    <a:pt x="1754" y="104"/>
                  </a:lnTo>
                  <a:lnTo>
                    <a:pt x="1720" y="153"/>
                  </a:lnTo>
                  <a:lnTo>
                    <a:pt x="1683" y="201"/>
                  </a:lnTo>
                  <a:lnTo>
                    <a:pt x="1641" y="248"/>
                  </a:lnTo>
                  <a:lnTo>
                    <a:pt x="1598" y="291"/>
                  </a:lnTo>
                  <a:lnTo>
                    <a:pt x="1551" y="333"/>
                  </a:lnTo>
                  <a:lnTo>
                    <a:pt x="1503" y="370"/>
                  </a:lnTo>
                  <a:lnTo>
                    <a:pt x="1503" y="370"/>
                  </a:lnTo>
                  <a:lnTo>
                    <a:pt x="1503" y="370"/>
                  </a:lnTo>
                  <a:close/>
                </a:path>
              </a:pathLst>
            </a:custGeom>
            <a:solidFill>
              <a:srgbClr val="ffdd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6760" y="5594400"/>
              <a:ext cx="1023840" cy="112680"/>
            </a:xfrm>
            <a:custGeom>
              <a:avLst/>
              <a:gdLst/>
              <a:ahLst/>
              <a:rect l="l" t="t" r="r" b="b"/>
              <a:pathLst>
                <a:path w="1290" h="142">
                  <a:moveTo>
                    <a:pt x="0" y="105"/>
                  </a:moveTo>
                  <a:lnTo>
                    <a:pt x="1290" y="0"/>
                  </a:lnTo>
                  <a:lnTo>
                    <a:pt x="1255" y="10"/>
                  </a:lnTo>
                  <a:lnTo>
                    <a:pt x="1218" y="20"/>
                  </a:lnTo>
                  <a:lnTo>
                    <a:pt x="1180" y="28"/>
                  </a:lnTo>
                  <a:lnTo>
                    <a:pt x="1143" y="38"/>
                  </a:lnTo>
                  <a:lnTo>
                    <a:pt x="1105" y="48"/>
                  </a:lnTo>
                  <a:lnTo>
                    <a:pt x="1066" y="55"/>
                  </a:lnTo>
                  <a:lnTo>
                    <a:pt x="1028" y="63"/>
                  </a:lnTo>
                  <a:lnTo>
                    <a:pt x="989" y="73"/>
                  </a:lnTo>
                  <a:lnTo>
                    <a:pt x="950" y="81"/>
                  </a:lnTo>
                  <a:lnTo>
                    <a:pt x="910" y="89"/>
                  </a:lnTo>
                  <a:lnTo>
                    <a:pt x="871" y="95"/>
                  </a:lnTo>
                  <a:lnTo>
                    <a:pt x="829" y="103"/>
                  </a:lnTo>
                  <a:lnTo>
                    <a:pt x="790" y="109"/>
                  </a:lnTo>
                  <a:lnTo>
                    <a:pt x="749" y="115"/>
                  </a:lnTo>
                  <a:lnTo>
                    <a:pt x="709" y="120"/>
                  </a:lnTo>
                  <a:lnTo>
                    <a:pt x="668" y="124"/>
                  </a:lnTo>
                  <a:lnTo>
                    <a:pt x="627" y="128"/>
                  </a:lnTo>
                  <a:lnTo>
                    <a:pt x="585" y="132"/>
                  </a:lnTo>
                  <a:lnTo>
                    <a:pt x="544" y="136"/>
                  </a:lnTo>
                  <a:lnTo>
                    <a:pt x="502" y="138"/>
                  </a:lnTo>
                  <a:lnTo>
                    <a:pt x="461" y="140"/>
                  </a:lnTo>
                  <a:lnTo>
                    <a:pt x="420" y="142"/>
                  </a:lnTo>
                  <a:lnTo>
                    <a:pt x="376" y="142"/>
                  </a:lnTo>
                  <a:lnTo>
                    <a:pt x="335" y="140"/>
                  </a:lnTo>
                  <a:lnTo>
                    <a:pt x="294" y="140"/>
                  </a:lnTo>
                  <a:lnTo>
                    <a:pt x="252" y="138"/>
                  </a:lnTo>
                  <a:lnTo>
                    <a:pt x="209" y="134"/>
                  </a:lnTo>
                  <a:lnTo>
                    <a:pt x="168" y="130"/>
                  </a:lnTo>
                  <a:lnTo>
                    <a:pt x="126" y="126"/>
                  </a:lnTo>
                  <a:lnTo>
                    <a:pt x="83" y="120"/>
                  </a:lnTo>
                  <a:lnTo>
                    <a:pt x="41" y="11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3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81920" y="5848560"/>
              <a:ext cx="958680" cy="150840"/>
            </a:xfrm>
            <a:custGeom>
              <a:avLst/>
              <a:gdLst/>
              <a:ahLst/>
              <a:rect l="l" t="t" r="r" b="b"/>
              <a:pathLst>
                <a:path w="1207" h="191">
                  <a:moveTo>
                    <a:pt x="0" y="30"/>
                  </a:moveTo>
                  <a:lnTo>
                    <a:pt x="1207" y="0"/>
                  </a:lnTo>
                  <a:lnTo>
                    <a:pt x="1207" y="0"/>
                  </a:lnTo>
                  <a:lnTo>
                    <a:pt x="1140" y="44"/>
                  </a:lnTo>
                  <a:lnTo>
                    <a:pt x="1072" y="81"/>
                  </a:lnTo>
                  <a:lnTo>
                    <a:pt x="999" y="113"/>
                  </a:lnTo>
                  <a:lnTo>
                    <a:pt x="924" y="140"/>
                  </a:lnTo>
                  <a:lnTo>
                    <a:pt x="847" y="162"/>
                  </a:lnTo>
                  <a:lnTo>
                    <a:pt x="768" y="178"/>
                  </a:lnTo>
                  <a:lnTo>
                    <a:pt x="689" y="187"/>
                  </a:lnTo>
                  <a:lnTo>
                    <a:pt x="611" y="191"/>
                  </a:lnTo>
                  <a:lnTo>
                    <a:pt x="530" y="191"/>
                  </a:lnTo>
                  <a:lnTo>
                    <a:pt x="449" y="185"/>
                  </a:lnTo>
                  <a:lnTo>
                    <a:pt x="370" y="174"/>
                  </a:lnTo>
                  <a:lnTo>
                    <a:pt x="293" y="156"/>
                  </a:lnTo>
                  <a:lnTo>
                    <a:pt x="217" y="134"/>
                  </a:lnTo>
                  <a:lnTo>
                    <a:pt x="142" y="105"/>
                  </a:lnTo>
                  <a:lnTo>
                    <a:pt x="69" y="6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7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33520" y="1752480"/>
            <a:ext cx="1807920" cy="2210040"/>
          </a:xfrm>
          <a:custGeom>
            <a:avLst/>
            <a:gdLst/>
            <a:ahLst/>
            <a:rect l="l" t="t" r="r" b="b"/>
            <a:pathLst>
              <a:path w="2278" h="2784">
                <a:moveTo>
                  <a:pt x="1225" y="199"/>
                </a:moveTo>
                <a:lnTo>
                  <a:pt x="1629" y="46"/>
                </a:lnTo>
                <a:lnTo>
                  <a:pt x="1721" y="248"/>
                </a:lnTo>
                <a:lnTo>
                  <a:pt x="2098" y="291"/>
                </a:lnTo>
                <a:lnTo>
                  <a:pt x="1993" y="622"/>
                </a:lnTo>
                <a:lnTo>
                  <a:pt x="2278" y="884"/>
                </a:lnTo>
                <a:lnTo>
                  <a:pt x="2048" y="1158"/>
                </a:lnTo>
                <a:lnTo>
                  <a:pt x="2265" y="1475"/>
                </a:lnTo>
                <a:lnTo>
                  <a:pt x="2094" y="1626"/>
                </a:lnTo>
                <a:lnTo>
                  <a:pt x="2094" y="1626"/>
                </a:lnTo>
                <a:lnTo>
                  <a:pt x="2222" y="1982"/>
                </a:lnTo>
                <a:lnTo>
                  <a:pt x="2222" y="1982"/>
                </a:lnTo>
                <a:lnTo>
                  <a:pt x="2085" y="2140"/>
                </a:lnTo>
                <a:lnTo>
                  <a:pt x="2242" y="2543"/>
                </a:lnTo>
                <a:lnTo>
                  <a:pt x="1755" y="2381"/>
                </a:lnTo>
                <a:lnTo>
                  <a:pt x="1578" y="2784"/>
                </a:lnTo>
                <a:lnTo>
                  <a:pt x="1578" y="2784"/>
                </a:lnTo>
                <a:lnTo>
                  <a:pt x="1180" y="2522"/>
                </a:lnTo>
                <a:lnTo>
                  <a:pt x="1180" y="2522"/>
                </a:lnTo>
                <a:lnTo>
                  <a:pt x="951" y="2784"/>
                </a:lnTo>
                <a:lnTo>
                  <a:pt x="951" y="2784"/>
                </a:lnTo>
                <a:lnTo>
                  <a:pt x="695" y="2564"/>
                </a:lnTo>
                <a:lnTo>
                  <a:pt x="326" y="2649"/>
                </a:lnTo>
                <a:lnTo>
                  <a:pt x="339" y="2268"/>
                </a:lnTo>
                <a:lnTo>
                  <a:pt x="80" y="2210"/>
                </a:lnTo>
                <a:lnTo>
                  <a:pt x="282" y="1876"/>
                </a:lnTo>
                <a:lnTo>
                  <a:pt x="28" y="1782"/>
                </a:lnTo>
                <a:lnTo>
                  <a:pt x="233" y="1412"/>
                </a:lnTo>
                <a:lnTo>
                  <a:pt x="0" y="1309"/>
                </a:lnTo>
                <a:lnTo>
                  <a:pt x="285" y="948"/>
                </a:lnTo>
                <a:lnTo>
                  <a:pt x="285" y="948"/>
                </a:lnTo>
                <a:lnTo>
                  <a:pt x="18" y="627"/>
                </a:lnTo>
                <a:lnTo>
                  <a:pt x="310" y="574"/>
                </a:lnTo>
                <a:lnTo>
                  <a:pt x="466" y="148"/>
                </a:lnTo>
                <a:lnTo>
                  <a:pt x="679" y="254"/>
                </a:lnTo>
                <a:lnTo>
                  <a:pt x="992" y="0"/>
                </a:lnTo>
                <a:lnTo>
                  <a:pt x="1225" y="199"/>
                </a:lnTo>
                <a:lnTo>
                  <a:pt x="1225" y="199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120" y="1752480"/>
            <a:ext cx="1579320" cy="1954440"/>
          </a:xfrm>
          <a:custGeom>
            <a:avLst/>
            <a:gdLst/>
            <a:ahLst/>
            <a:rect l="l" t="t" r="r" b="b"/>
            <a:pathLst>
              <a:path w="1989" h="2464">
                <a:moveTo>
                  <a:pt x="1060" y="184"/>
                </a:moveTo>
                <a:lnTo>
                  <a:pt x="1435" y="46"/>
                </a:lnTo>
                <a:lnTo>
                  <a:pt x="1491" y="215"/>
                </a:lnTo>
                <a:lnTo>
                  <a:pt x="1837" y="254"/>
                </a:lnTo>
                <a:lnTo>
                  <a:pt x="1725" y="533"/>
                </a:lnTo>
                <a:lnTo>
                  <a:pt x="1725" y="533"/>
                </a:lnTo>
                <a:lnTo>
                  <a:pt x="1989" y="777"/>
                </a:lnTo>
                <a:lnTo>
                  <a:pt x="1773" y="1015"/>
                </a:lnTo>
                <a:lnTo>
                  <a:pt x="1773" y="1015"/>
                </a:lnTo>
                <a:lnTo>
                  <a:pt x="1974" y="1311"/>
                </a:lnTo>
                <a:lnTo>
                  <a:pt x="1974" y="1311"/>
                </a:lnTo>
                <a:lnTo>
                  <a:pt x="1817" y="1439"/>
                </a:lnTo>
                <a:lnTo>
                  <a:pt x="1940" y="1772"/>
                </a:lnTo>
                <a:lnTo>
                  <a:pt x="1940" y="1772"/>
                </a:lnTo>
                <a:lnTo>
                  <a:pt x="1809" y="1909"/>
                </a:lnTo>
                <a:lnTo>
                  <a:pt x="1943" y="2239"/>
                </a:lnTo>
                <a:lnTo>
                  <a:pt x="1943" y="2239"/>
                </a:lnTo>
                <a:lnTo>
                  <a:pt x="1530" y="2112"/>
                </a:lnTo>
                <a:lnTo>
                  <a:pt x="1371" y="2461"/>
                </a:lnTo>
                <a:lnTo>
                  <a:pt x="1032" y="2231"/>
                </a:lnTo>
                <a:lnTo>
                  <a:pt x="806" y="2464"/>
                </a:lnTo>
                <a:lnTo>
                  <a:pt x="587" y="2277"/>
                </a:lnTo>
                <a:lnTo>
                  <a:pt x="283" y="2331"/>
                </a:lnTo>
                <a:lnTo>
                  <a:pt x="286" y="2020"/>
                </a:lnTo>
                <a:lnTo>
                  <a:pt x="82" y="1965"/>
                </a:lnTo>
                <a:lnTo>
                  <a:pt x="251" y="1672"/>
                </a:lnTo>
                <a:lnTo>
                  <a:pt x="36" y="1585"/>
                </a:lnTo>
                <a:lnTo>
                  <a:pt x="205" y="1245"/>
                </a:lnTo>
                <a:lnTo>
                  <a:pt x="0" y="1159"/>
                </a:lnTo>
                <a:lnTo>
                  <a:pt x="0" y="1159"/>
                </a:lnTo>
                <a:lnTo>
                  <a:pt x="251" y="835"/>
                </a:lnTo>
                <a:lnTo>
                  <a:pt x="251" y="835"/>
                </a:lnTo>
                <a:lnTo>
                  <a:pt x="18" y="557"/>
                </a:lnTo>
                <a:lnTo>
                  <a:pt x="18" y="557"/>
                </a:lnTo>
                <a:lnTo>
                  <a:pt x="241" y="529"/>
                </a:lnTo>
                <a:lnTo>
                  <a:pt x="394" y="138"/>
                </a:lnTo>
                <a:lnTo>
                  <a:pt x="394" y="138"/>
                </a:lnTo>
                <a:lnTo>
                  <a:pt x="569" y="244"/>
                </a:lnTo>
                <a:lnTo>
                  <a:pt x="862" y="0"/>
                </a:lnTo>
                <a:lnTo>
                  <a:pt x="862" y="0"/>
                </a:lnTo>
                <a:lnTo>
                  <a:pt x="1060" y="184"/>
                </a:lnTo>
                <a:lnTo>
                  <a:pt x="1060" y="184"/>
                </a:lnTo>
                <a:close/>
              </a:path>
            </a:pathLst>
          </a:custGeom>
          <a:solidFill>
            <a:srgbClr val="aff2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7720" y="1992240"/>
            <a:ext cx="1388880" cy="1719360"/>
          </a:xfrm>
          <a:custGeom>
            <a:avLst/>
            <a:gdLst/>
            <a:ahLst/>
            <a:rect l="l" t="t" r="r" b="b"/>
            <a:pathLst>
              <a:path w="1751" h="2166">
                <a:moveTo>
                  <a:pt x="935" y="163"/>
                </a:moveTo>
                <a:lnTo>
                  <a:pt x="1263" y="40"/>
                </a:lnTo>
                <a:lnTo>
                  <a:pt x="1312" y="189"/>
                </a:lnTo>
                <a:lnTo>
                  <a:pt x="1617" y="221"/>
                </a:lnTo>
                <a:lnTo>
                  <a:pt x="1519" y="468"/>
                </a:lnTo>
                <a:lnTo>
                  <a:pt x="1519" y="468"/>
                </a:lnTo>
                <a:lnTo>
                  <a:pt x="1751" y="681"/>
                </a:lnTo>
                <a:lnTo>
                  <a:pt x="1563" y="890"/>
                </a:lnTo>
                <a:lnTo>
                  <a:pt x="1563" y="890"/>
                </a:lnTo>
                <a:lnTo>
                  <a:pt x="1740" y="1151"/>
                </a:lnTo>
                <a:lnTo>
                  <a:pt x="1740" y="1151"/>
                </a:lnTo>
                <a:lnTo>
                  <a:pt x="1599" y="1264"/>
                </a:lnTo>
                <a:lnTo>
                  <a:pt x="1709" y="1558"/>
                </a:lnTo>
                <a:lnTo>
                  <a:pt x="1709" y="1558"/>
                </a:lnTo>
                <a:lnTo>
                  <a:pt x="1592" y="1678"/>
                </a:lnTo>
                <a:lnTo>
                  <a:pt x="1712" y="1968"/>
                </a:lnTo>
                <a:lnTo>
                  <a:pt x="1712" y="1968"/>
                </a:lnTo>
                <a:lnTo>
                  <a:pt x="1348" y="1858"/>
                </a:lnTo>
                <a:lnTo>
                  <a:pt x="1210" y="2163"/>
                </a:lnTo>
                <a:lnTo>
                  <a:pt x="910" y="1961"/>
                </a:lnTo>
                <a:lnTo>
                  <a:pt x="710" y="2166"/>
                </a:lnTo>
                <a:lnTo>
                  <a:pt x="518" y="2001"/>
                </a:lnTo>
                <a:lnTo>
                  <a:pt x="251" y="2050"/>
                </a:lnTo>
                <a:lnTo>
                  <a:pt x="251" y="1776"/>
                </a:lnTo>
                <a:lnTo>
                  <a:pt x="74" y="1727"/>
                </a:lnTo>
                <a:lnTo>
                  <a:pt x="223" y="1469"/>
                </a:lnTo>
                <a:lnTo>
                  <a:pt x="34" y="1392"/>
                </a:lnTo>
                <a:lnTo>
                  <a:pt x="183" y="1095"/>
                </a:lnTo>
                <a:lnTo>
                  <a:pt x="0" y="1019"/>
                </a:lnTo>
                <a:lnTo>
                  <a:pt x="0" y="1019"/>
                </a:lnTo>
                <a:lnTo>
                  <a:pt x="223" y="734"/>
                </a:lnTo>
                <a:lnTo>
                  <a:pt x="223" y="734"/>
                </a:lnTo>
                <a:lnTo>
                  <a:pt x="18" y="489"/>
                </a:lnTo>
                <a:lnTo>
                  <a:pt x="18" y="489"/>
                </a:lnTo>
                <a:lnTo>
                  <a:pt x="215" y="462"/>
                </a:lnTo>
                <a:lnTo>
                  <a:pt x="349" y="122"/>
                </a:lnTo>
                <a:lnTo>
                  <a:pt x="349" y="122"/>
                </a:lnTo>
                <a:lnTo>
                  <a:pt x="502" y="211"/>
                </a:lnTo>
                <a:lnTo>
                  <a:pt x="759" y="0"/>
                </a:lnTo>
                <a:lnTo>
                  <a:pt x="759" y="0"/>
                </a:lnTo>
                <a:lnTo>
                  <a:pt x="935" y="163"/>
                </a:lnTo>
                <a:lnTo>
                  <a:pt x="935" y="163"/>
                </a:lnTo>
                <a:close/>
              </a:path>
            </a:pathLst>
          </a:custGeom>
          <a:solidFill>
            <a:srgbClr val="ceff7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579600" y="1784520"/>
            <a:ext cx="1725480" cy="2135160"/>
            <a:chOff x="579600" y="1784520"/>
            <a:chExt cx="1725480" cy="2135160"/>
          </a:xfrm>
        </p:grpSpPr>
        <p:sp>
          <p:nvSpPr>
            <p:cNvPr id="860" name=""/>
            <p:cNvSpPr/>
            <p:nvPr/>
          </p:nvSpPr>
          <p:spPr>
            <a:xfrm>
              <a:off x="579600" y="1784520"/>
              <a:ext cx="1725480" cy="2135160"/>
            </a:xfrm>
            <a:custGeom>
              <a:avLst/>
              <a:gdLst/>
              <a:ahLst/>
              <a:rect l="l" t="t" r="r" b="b"/>
              <a:pathLst>
                <a:path w="2173" h="2690">
                  <a:moveTo>
                    <a:pt x="1160" y="201"/>
                  </a:moveTo>
                  <a:lnTo>
                    <a:pt x="1568" y="52"/>
                  </a:lnTo>
                  <a:lnTo>
                    <a:pt x="1628" y="236"/>
                  </a:lnTo>
                  <a:lnTo>
                    <a:pt x="2004" y="279"/>
                  </a:lnTo>
                  <a:lnTo>
                    <a:pt x="1883" y="583"/>
                  </a:lnTo>
                  <a:lnTo>
                    <a:pt x="1883" y="583"/>
                  </a:lnTo>
                  <a:lnTo>
                    <a:pt x="2173" y="849"/>
                  </a:lnTo>
                  <a:lnTo>
                    <a:pt x="1937" y="1107"/>
                  </a:lnTo>
                  <a:lnTo>
                    <a:pt x="1937" y="1107"/>
                  </a:lnTo>
                  <a:lnTo>
                    <a:pt x="2158" y="1432"/>
                  </a:lnTo>
                  <a:lnTo>
                    <a:pt x="2158" y="1432"/>
                  </a:lnTo>
                  <a:lnTo>
                    <a:pt x="1983" y="1570"/>
                  </a:lnTo>
                  <a:lnTo>
                    <a:pt x="2120" y="1934"/>
                  </a:lnTo>
                  <a:lnTo>
                    <a:pt x="2120" y="1934"/>
                  </a:lnTo>
                  <a:lnTo>
                    <a:pt x="1976" y="2083"/>
                  </a:lnTo>
                  <a:lnTo>
                    <a:pt x="2121" y="2444"/>
                  </a:lnTo>
                  <a:lnTo>
                    <a:pt x="2121" y="2444"/>
                  </a:lnTo>
                  <a:lnTo>
                    <a:pt x="1672" y="2308"/>
                  </a:lnTo>
                  <a:lnTo>
                    <a:pt x="1499" y="2685"/>
                  </a:lnTo>
                  <a:lnTo>
                    <a:pt x="1127" y="2435"/>
                  </a:lnTo>
                  <a:lnTo>
                    <a:pt x="880" y="2690"/>
                  </a:lnTo>
                  <a:lnTo>
                    <a:pt x="644" y="2485"/>
                  </a:lnTo>
                  <a:lnTo>
                    <a:pt x="311" y="2545"/>
                  </a:lnTo>
                  <a:lnTo>
                    <a:pt x="312" y="2206"/>
                  </a:lnTo>
                  <a:lnTo>
                    <a:pt x="90" y="2147"/>
                  </a:lnTo>
                  <a:lnTo>
                    <a:pt x="274" y="1824"/>
                  </a:lnTo>
                  <a:lnTo>
                    <a:pt x="41" y="1732"/>
                  </a:lnTo>
                  <a:lnTo>
                    <a:pt x="226" y="1361"/>
                  </a:lnTo>
                  <a:lnTo>
                    <a:pt x="0" y="1266"/>
                  </a:lnTo>
                  <a:lnTo>
                    <a:pt x="0" y="1266"/>
                  </a:lnTo>
                  <a:lnTo>
                    <a:pt x="274" y="911"/>
                  </a:lnTo>
                  <a:lnTo>
                    <a:pt x="274" y="911"/>
                  </a:lnTo>
                  <a:lnTo>
                    <a:pt x="21" y="608"/>
                  </a:lnTo>
                  <a:lnTo>
                    <a:pt x="21" y="608"/>
                  </a:lnTo>
                  <a:lnTo>
                    <a:pt x="266" y="578"/>
                  </a:lnTo>
                  <a:lnTo>
                    <a:pt x="431" y="152"/>
                  </a:lnTo>
                  <a:lnTo>
                    <a:pt x="431" y="152"/>
                  </a:lnTo>
                  <a:lnTo>
                    <a:pt x="623" y="267"/>
                  </a:lnTo>
                  <a:lnTo>
                    <a:pt x="941" y="0"/>
                  </a:lnTo>
                  <a:lnTo>
                    <a:pt x="941" y="0"/>
                  </a:lnTo>
                  <a:lnTo>
                    <a:pt x="1160" y="201"/>
                  </a:lnTo>
                  <a:lnTo>
                    <a:pt x="1160" y="201"/>
                  </a:lnTo>
                  <a:close/>
                </a:path>
              </a:pathLst>
            </a:custGeom>
            <a:solidFill>
              <a:srgbClr val="51f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14400" y="2057400"/>
              <a:ext cx="1103400" cy="1461960"/>
            </a:xfrm>
            <a:custGeom>
              <a:avLst/>
              <a:gdLst/>
              <a:ahLst/>
              <a:rect l="l" t="t" r="r" b="b"/>
              <a:pathLst>
                <a:path w="1389" h="1843">
                  <a:moveTo>
                    <a:pt x="1356" y="168"/>
                  </a:moveTo>
                  <a:lnTo>
                    <a:pt x="1389" y="1624"/>
                  </a:lnTo>
                  <a:lnTo>
                    <a:pt x="1381" y="1645"/>
                  </a:lnTo>
                  <a:lnTo>
                    <a:pt x="1367" y="1666"/>
                  </a:lnTo>
                  <a:lnTo>
                    <a:pt x="1349" y="1685"/>
                  </a:lnTo>
                  <a:lnTo>
                    <a:pt x="1325" y="1705"/>
                  </a:lnTo>
                  <a:lnTo>
                    <a:pt x="1296" y="1724"/>
                  </a:lnTo>
                  <a:lnTo>
                    <a:pt x="1264" y="1741"/>
                  </a:lnTo>
                  <a:lnTo>
                    <a:pt x="1229" y="1758"/>
                  </a:lnTo>
                  <a:lnTo>
                    <a:pt x="1191" y="1773"/>
                  </a:lnTo>
                  <a:lnTo>
                    <a:pt x="1150" y="1787"/>
                  </a:lnTo>
                  <a:lnTo>
                    <a:pt x="1108" y="1800"/>
                  </a:lnTo>
                  <a:lnTo>
                    <a:pt x="1063" y="1809"/>
                  </a:lnTo>
                  <a:lnTo>
                    <a:pt x="1017" y="1819"/>
                  </a:lnTo>
                  <a:lnTo>
                    <a:pt x="970" y="1826"/>
                  </a:lnTo>
                  <a:lnTo>
                    <a:pt x="924" y="1832"/>
                  </a:lnTo>
                  <a:lnTo>
                    <a:pt x="876" y="1834"/>
                  </a:lnTo>
                  <a:lnTo>
                    <a:pt x="830" y="1836"/>
                  </a:lnTo>
                  <a:lnTo>
                    <a:pt x="763" y="1840"/>
                  </a:lnTo>
                  <a:lnTo>
                    <a:pt x="696" y="1843"/>
                  </a:lnTo>
                  <a:lnTo>
                    <a:pt x="631" y="1843"/>
                  </a:lnTo>
                  <a:lnTo>
                    <a:pt x="565" y="1840"/>
                  </a:lnTo>
                  <a:lnTo>
                    <a:pt x="501" y="1836"/>
                  </a:lnTo>
                  <a:lnTo>
                    <a:pt x="438" y="1829"/>
                  </a:lnTo>
                  <a:lnTo>
                    <a:pt x="378" y="1819"/>
                  </a:lnTo>
                  <a:lnTo>
                    <a:pt x="322" y="1806"/>
                  </a:lnTo>
                  <a:lnTo>
                    <a:pt x="269" y="1793"/>
                  </a:lnTo>
                  <a:lnTo>
                    <a:pt x="222" y="1774"/>
                  </a:lnTo>
                  <a:lnTo>
                    <a:pt x="179" y="1755"/>
                  </a:lnTo>
                  <a:lnTo>
                    <a:pt x="142" y="1731"/>
                  </a:lnTo>
                  <a:lnTo>
                    <a:pt x="110" y="1706"/>
                  </a:lnTo>
                  <a:lnTo>
                    <a:pt x="87" y="1678"/>
                  </a:lnTo>
                  <a:lnTo>
                    <a:pt x="70" y="1646"/>
                  </a:lnTo>
                  <a:lnTo>
                    <a:pt x="61" y="1613"/>
                  </a:lnTo>
                  <a:lnTo>
                    <a:pt x="0" y="223"/>
                  </a:lnTo>
                  <a:lnTo>
                    <a:pt x="17" y="199"/>
                  </a:lnTo>
                  <a:lnTo>
                    <a:pt x="39" y="177"/>
                  </a:lnTo>
                  <a:lnTo>
                    <a:pt x="68" y="156"/>
                  </a:lnTo>
                  <a:lnTo>
                    <a:pt x="103" y="136"/>
                  </a:lnTo>
                  <a:lnTo>
                    <a:pt x="142" y="117"/>
                  </a:lnTo>
                  <a:lnTo>
                    <a:pt x="187" y="99"/>
                  </a:lnTo>
                  <a:lnTo>
                    <a:pt x="236" y="82"/>
                  </a:lnTo>
                  <a:lnTo>
                    <a:pt x="289" y="67"/>
                  </a:lnTo>
                  <a:lnTo>
                    <a:pt x="346" y="53"/>
                  </a:lnTo>
                  <a:lnTo>
                    <a:pt x="406" y="40"/>
                  </a:lnTo>
                  <a:lnTo>
                    <a:pt x="469" y="29"/>
                  </a:lnTo>
                  <a:lnTo>
                    <a:pt x="534" y="19"/>
                  </a:lnTo>
                  <a:lnTo>
                    <a:pt x="601" y="12"/>
                  </a:lnTo>
                  <a:lnTo>
                    <a:pt x="671" y="5"/>
                  </a:lnTo>
                  <a:lnTo>
                    <a:pt x="741" y="1"/>
                  </a:lnTo>
                  <a:lnTo>
                    <a:pt x="812" y="0"/>
                  </a:lnTo>
                  <a:lnTo>
                    <a:pt x="859" y="0"/>
                  </a:lnTo>
                  <a:lnTo>
                    <a:pt x="907" y="0"/>
                  </a:lnTo>
                  <a:lnTo>
                    <a:pt x="954" y="3"/>
                  </a:lnTo>
                  <a:lnTo>
                    <a:pt x="1002" y="5"/>
                  </a:lnTo>
                  <a:lnTo>
                    <a:pt x="1046" y="8"/>
                  </a:lnTo>
                  <a:lnTo>
                    <a:pt x="1091" y="14"/>
                  </a:lnTo>
                  <a:lnTo>
                    <a:pt x="1133" y="21"/>
                  </a:lnTo>
                  <a:lnTo>
                    <a:pt x="1173" y="29"/>
                  </a:lnTo>
                  <a:lnTo>
                    <a:pt x="1211" y="39"/>
                  </a:lnTo>
                  <a:lnTo>
                    <a:pt x="1244" y="51"/>
                  </a:lnTo>
                  <a:lnTo>
                    <a:pt x="1275" y="65"/>
                  </a:lnTo>
                  <a:lnTo>
                    <a:pt x="1302" y="81"/>
                  </a:lnTo>
                  <a:lnTo>
                    <a:pt x="1322" y="99"/>
                  </a:lnTo>
                  <a:lnTo>
                    <a:pt x="1339" y="120"/>
                  </a:lnTo>
                  <a:lnTo>
                    <a:pt x="1350" y="143"/>
                  </a:lnTo>
                  <a:lnTo>
                    <a:pt x="1356" y="1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1376280" y="2100240"/>
            <a:ext cx="473040" cy="19080"/>
          </a:xfrm>
          <a:custGeom>
            <a:avLst/>
            <a:gdLst/>
            <a:ahLst/>
            <a:rect l="l" t="t" r="r" b="b"/>
            <a:pathLst>
              <a:path w="595" h="25">
                <a:moveTo>
                  <a:pt x="595" y="25"/>
                </a:moveTo>
                <a:lnTo>
                  <a:pt x="0" y="18"/>
                </a:lnTo>
                <a:lnTo>
                  <a:pt x="36" y="14"/>
                </a:lnTo>
                <a:lnTo>
                  <a:pt x="72" y="10"/>
                </a:lnTo>
                <a:lnTo>
                  <a:pt x="110" y="7"/>
                </a:lnTo>
                <a:lnTo>
                  <a:pt x="147" y="4"/>
                </a:lnTo>
                <a:lnTo>
                  <a:pt x="185" y="3"/>
                </a:lnTo>
                <a:lnTo>
                  <a:pt x="223" y="1"/>
                </a:lnTo>
                <a:lnTo>
                  <a:pt x="260" y="1"/>
                </a:lnTo>
                <a:lnTo>
                  <a:pt x="299" y="0"/>
                </a:lnTo>
                <a:lnTo>
                  <a:pt x="337" y="1"/>
                </a:lnTo>
                <a:lnTo>
                  <a:pt x="375" y="3"/>
                </a:lnTo>
                <a:lnTo>
                  <a:pt x="412" y="4"/>
                </a:lnTo>
                <a:lnTo>
                  <a:pt x="450" y="7"/>
                </a:lnTo>
                <a:lnTo>
                  <a:pt x="488" y="11"/>
                </a:lnTo>
                <a:lnTo>
                  <a:pt x="524" y="14"/>
                </a:lnTo>
                <a:lnTo>
                  <a:pt x="560" y="19"/>
                </a:lnTo>
                <a:lnTo>
                  <a:pt x="595" y="25"/>
                </a:lnTo>
                <a:lnTo>
                  <a:pt x="595" y="25"/>
                </a:lnTo>
                <a:lnTo>
                  <a:pt x="595" y="25"/>
                </a:lnTo>
                <a:close/>
              </a:path>
            </a:pathLst>
          </a:custGeom>
          <a:solidFill>
            <a:srgbClr val="ff1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63720" y="2130480"/>
            <a:ext cx="271440" cy="149040"/>
          </a:xfrm>
          <a:custGeom>
            <a:avLst/>
            <a:gdLst/>
            <a:ahLst/>
            <a:rect l="l" t="t" r="r" b="b"/>
            <a:pathLst>
              <a:path w="343" h="187">
                <a:moveTo>
                  <a:pt x="343" y="0"/>
                </a:moveTo>
                <a:lnTo>
                  <a:pt x="43" y="187"/>
                </a:lnTo>
                <a:lnTo>
                  <a:pt x="43" y="187"/>
                </a:lnTo>
                <a:lnTo>
                  <a:pt x="37" y="185"/>
                </a:lnTo>
                <a:lnTo>
                  <a:pt x="30" y="184"/>
                </a:lnTo>
                <a:lnTo>
                  <a:pt x="23" y="181"/>
                </a:lnTo>
                <a:lnTo>
                  <a:pt x="16" y="178"/>
                </a:lnTo>
                <a:lnTo>
                  <a:pt x="10" y="174"/>
                </a:lnTo>
                <a:lnTo>
                  <a:pt x="6" y="168"/>
                </a:lnTo>
                <a:lnTo>
                  <a:pt x="2" y="161"/>
                </a:lnTo>
                <a:lnTo>
                  <a:pt x="0" y="153"/>
                </a:lnTo>
                <a:lnTo>
                  <a:pt x="7" y="136"/>
                </a:lnTo>
                <a:lnTo>
                  <a:pt x="20" y="120"/>
                </a:lnTo>
                <a:lnTo>
                  <a:pt x="35" y="106"/>
                </a:lnTo>
                <a:lnTo>
                  <a:pt x="55" y="92"/>
                </a:lnTo>
                <a:lnTo>
                  <a:pt x="76" y="79"/>
                </a:lnTo>
                <a:lnTo>
                  <a:pt x="101" y="67"/>
                </a:lnTo>
                <a:lnTo>
                  <a:pt x="126" y="57"/>
                </a:lnTo>
                <a:lnTo>
                  <a:pt x="154" y="47"/>
                </a:lnTo>
                <a:lnTo>
                  <a:pt x="182" y="39"/>
                </a:lnTo>
                <a:lnTo>
                  <a:pt x="209" y="30"/>
                </a:lnTo>
                <a:lnTo>
                  <a:pt x="236" y="23"/>
                </a:lnTo>
                <a:lnTo>
                  <a:pt x="263" y="18"/>
                </a:lnTo>
                <a:lnTo>
                  <a:pt x="286" y="12"/>
                </a:lnTo>
                <a:lnTo>
                  <a:pt x="309" y="7"/>
                </a:lnTo>
                <a:lnTo>
                  <a:pt x="328" y="3"/>
                </a:lnTo>
                <a:lnTo>
                  <a:pt x="343" y="0"/>
                </a:lnTo>
                <a:lnTo>
                  <a:pt x="343" y="0"/>
                </a:lnTo>
                <a:lnTo>
                  <a:pt x="343" y="0"/>
                </a:lnTo>
                <a:close/>
              </a:path>
            </a:pathLst>
          </a:custGeom>
          <a:solidFill>
            <a:srgbClr val="ff1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03320" y="2130480"/>
            <a:ext cx="57240" cy="109440"/>
          </a:xfrm>
          <a:custGeom>
            <a:avLst/>
            <a:gdLst/>
            <a:ahLst/>
            <a:rect l="l" t="t" r="r" b="b"/>
            <a:pathLst>
              <a:path w="71" h="138">
                <a:moveTo>
                  <a:pt x="71" y="76"/>
                </a:moveTo>
                <a:lnTo>
                  <a:pt x="68" y="89"/>
                </a:lnTo>
                <a:lnTo>
                  <a:pt x="63" y="100"/>
                </a:lnTo>
                <a:lnTo>
                  <a:pt x="54" y="110"/>
                </a:lnTo>
                <a:lnTo>
                  <a:pt x="43" y="118"/>
                </a:lnTo>
                <a:lnTo>
                  <a:pt x="32" y="125"/>
                </a:lnTo>
                <a:lnTo>
                  <a:pt x="22" y="131"/>
                </a:lnTo>
                <a:lnTo>
                  <a:pt x="13" y="135"/>
                </a:lnTo>
                <a:lnTo>
                  <a:pt x="7" y="138"/>
                </a:lnTo>
                <a:lnTo>
                  <a:pt x="0" y="19"/>
                </a:lnTo>
                <a:lnTo>
                  <a:pt x="0" y="19"/>
                </a:lnTo>
                <a:lnTo>
                  <a:pt x="18" y="0"/>
                </a:lnTo>
                <a:lnTo>
                  <a:pt x="28" y="4"/>
                </a:lnTo>
                <a:lnTo>
                  <a:pt x="38" y="11"/>
                </a:lnTo>
                <a:lnTo>
                  <a:pt x="46" y="21"/>
                </a:lnTo>
                <a:lnTo>
                  <a:pt x="56" y="32"/>
                </a:lnTo>
                <a:lnTo>
                  <a:pt x="63" y="43"/>
                </a:lnTo>
                <a:lnTo>
                  <a:pt x="67" y="56"/>
                </a:lnTo>
                <a:lnTo>
                  <a:pt x="71" y="67"/>
                </a:lnTo>
                <a:lnTo>
                  <a:pt x="71" y="76"/>
                </a:lnTo>
                <a:lnTo>
                  <a:pt x="71" y="76"/>
                </a:lnTo>
                <a:lnTo>
                  <a:pt x="71" y="76"/>
                </a:lnTo>
                <a:close/>
              </a:path>
            </a:pathLst>
          </a:custGeom>
          <a:solidFill>
            <a:srgbClr val="ff1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74760" y="2151000"/>
            <a:ext cx="560520" cy="114480"/>
          </a:xfrm>
          <a:custGeom>
            <a:avLst/>
            <a:gdLst/>
            <a:ahLst/>
            <a:rect l="l" t="t" r="r" b="b"/>
            <a:pathLst>
              <a:path w="706" h="143">
                <a:moveTo>
                  <a:pt x="371" y="107"/>
                </a:moveTo>
                <a:lnTo>
                  <a:pt x="394" y="79"/>
                </a:lnTo>
                <a:lnTo>
                  <a:pt x="394" y="79"/>
                </a:lnTo>
                <a:lnTo>
                  <a:pt x="289" y="8"/>
                </a:lnTo>
                <a:lnTo>
                  <a:pt x="289" y="8"/>
                </a:lnTo>
                <a:lnTo>
                  <a:pt x="356" y="10"/>
                </a:lnTo>
                <a:lnTo>
                  <a:pt x="356" y="10"/>
                </a:lnTo>
                <a:lnTo>
                  <a:pt x="494" y="86"/>
                </a:lnTo>
                <a:lnTo>
                  <a:pt x="504" y="64"/>
                </a:lnTo>
                <a:lnTo>
                  <a:pt x="451" y="10"/>
                </a:lnTo>
                <a:lnTo>
                  <a:pt x="706" y="5"/>
                </a:lnTo>
                <a:lnTo>
                  <a:pt x="507" y="143"/>
                </a:lnTo>
                <a:lnTo>
                  <a:pt x="0" y="121"/>
                </a:lnTo>
                <a:lnTo>
                  <a:pt x="0" y="3"/>
                </a:lnTo>
                <a:lnTo>
                  <a:pt x="151" y="70"/>
                </a:lnTo>
                <a:lnTo>
                  <a:pt x="186" y="51"/>
                </a:lnTo>
                <a:lnTo>
                  <a:pt x="123" y="0"/>
                </a:lnTo>
                <a:lnTo>
                  <a:pt x="180" y="7"/>
                </a:lnTo>
                <a:lnTo>
                  <a:pt x="371" y="107"/>
                </a:lnTo>
                <a:close/>
              </a:path>
            </a:pathLst>
          </a:custGeom>
          <a:solidFill>
            <a:srgbClr val="3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11320" y="2155680"/>
            <a:ext cx="146160" cy="101880"/>
          </a:xfrm>
          <a:custGeom>
            <a:avLst/>
            <a:gdLst/>
            <a:ahLst/>
            <a:rect l="l" t="t" r="r" b="b"/>
            <a:pathLst>
              <a:path w="184" h="127">
                <a:moveTo>
                  <a:pt x="0" y="127"/>
                </a:moveTo>
                <a:lnTo>
                  <a:pt x="183" y="0"/>
                </a:lnTo>
                <a:lnTo>
                  <a:pt x="183" y="0"/>
                </a:lnTo>
                <a:lnTo>
                  <a:pt x="184" y="116"/>
                </a:lnTo>
                <a:lnTo>
                  <a:pt x="0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3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704960" y="2155680"/>
            <a:ext cx="192240" cy="133560"/>
          </a:xfrm>
          <a:custGeom>
            <a:avLst/>
            <a:gdLst/>
            <a:ahLst/>
            <a:rect l="l" t="t" r="r" b="b"/>
            <a:pathLst>
              <a:path w="243" h="167">
                <a:moveTo>
                  <a:pt x="243" y="109"/>
                </a:moveTo>
                <a:lnTo>
                  <a:pt x="229" y="116"/>
                </a:lnTo>
                <a:lnTo>
                  <a:pt x="215" y="121"/>
                </a:lnTo>
                <a:lnTo>
                  <a:pt x="201" y="127"/>
                </a:lnTo>
                <a:lnTo>
                  <a:pt x="187" y="132"/>
                </a:lnTo>
                <a:lnTo>
                  <a:pt x="171" y="136"/>
                </a:lnTo>
                <a:lnTo>
                  <a:pt x="156" y="142"/>
                </a:lnTo>
                <a:lnTo>
                  <a:pt x="141" y="145"/>
                </a:lnTo>
                <a:lnTo>
                  <a:pt x="125" y="149"/>
                </a:lnTo>
                <a:lnTo>
                  <a:pt x="110" y="152"/>
                </a:lnTo>
                <a:lnTo>
                  <a:pt x="95" y="155"/>
                </a:lnTo>
                <a:lnTo>
                  <a:pt x="79" y="157"/>
                </a:lnTo>
                <a:lnTo>
                  <a:pt x="63" y="160"/>
                </a:lnTo>
                <a:lnTo>
                  <a:pt x="47" y="162"/>
                </a:lnTo>
                <a:lnTo>
                  <a:pt x="32" y="164"/>
                </a:lnTo>
                <a:lnTo>
                  <a:pt x="15" y="166"/>
                </a:lnTo>
                <a:lnTo>
                  <a:pt x="0" y="167"/>
                </a:lnTo>
                <a:lnTo>
                  <a:pt x="0" y="167"/>
                </a:lnTo>
                <a:lnTo>
                  <a:pt x="233" y="0"/>
                </a:lnTo>
                <a:lnTo>
                  <a:pt x="233" y="0"/>
                </a:lnTo>
                <a:lnTo>
                  <a:pt x="243" y="109"/>
                </a:lnTo>
                <a:lnTo>
                  <a:pt x="243" y="109"/>
                </a:lnTo>
                <a:close/>
              </a:path>
            </a:pathLst>
          </a:custGeom>
          <a:solidFill>
            <a:srgbClr val="3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09800" y="2243160"/>
            <a:ext cx="85680" cy="1035000"/>
          </a:xfrm>
          <a:custGeom>
            <a:avLst/>
            <a:gdLst/>
            <a:ahLst/>
            <a:rect l="l" t="t" r="r" b="b"/>
            <a:pathLst>
              <a:path w="109" h="1304">
                <a:moveTo>
                  <a:pt x="109" y="1304"/>
                </a:moveTo>
                <a:lnTo>
                  <a:pt x="109" y="1304"/>
                </a:lnTo>
                <a:lnTo>
                  <a:pt x="98" y="1295"/>
                </a:lnTo>
                <a:lnTo>
                  <a:pt x="86" y="1286"/>
                </a:lnTo>
                <a:lnTo>
                  <a:pt x="74" y="1278"/>
                </a:lnTo>
                <a:lnTo>
                  <a:pt x="63" y="1271"/>
                </a:lnTo>
                <a:lnTo>
                  <a:pt x="50" y="1265"/>
                </a:lnTo>
                <a:lnTo>
                  <a:pt x="38" y="1258"/>
                </a:lnTo>
                <a:lnTo>
                  <a:pt x="24" y="1253"/>
                </a:lnTo>
                <a:lnTo>
                  <a:pt x="11" y="1246"/>
                </a:lnTo>
                <a:lnTo>
                  <a:pt x="0" y="43"/>
                </a:lnTo>
                <a:lnTo>
                  <a:pt x="0" y="43"/>
                </a:lnTo>
                <a:lnTo>
                  <a:pt x="8" y="37"/>
                </a:lnTo>
                <a:lnTo>
                  <a:pt x="18" y="32"/>
                </a:lnTo>
                <a:lnTo>
                  <a:pt x="26" y="27"/>
                </a:lnTo>
                <a:lnTo>
                  <a:pt x="36" y="22"/>
                </a:lnTo>
                <a:lnTo>
                  <a:pt x="45" y="18"/>
                </a:lnTo>
                <a:lnTo>
                  <a:pt x="53" y="12"/>
                </a:lnTo>
                <a:lnTo>
                  <a:pt x="61" y="7"/>
                </a:lnTo>
                <a:lnTo>
                  <a:pt x="70" y="0"/>
                </a:lnTo>
                <a:lnTo>
                  <a:pt x="70" y="0"/>
                </a:lnTo>
                <a:lnTo>
                  <a:pt x="109" y="1304"/>
                </a:lnTo>
                <a:close/>
              </a:path>
            </a:pathLst>
          </a:custGeom>
          <a:solidFill>
            <a:srgbClr val="ff5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274760" y="2282760"/>
            <a:ext cx="355680" cy="28800"/>
          </a:xfrm>
          <a:custGeom>
            <a:avLst/>
            <a:gdLst/>
            <a:ahLst/>
            <a:rect l="l" t="t" r="r" b="b"/>
            <a:pathLst>
              <a:path w="449" h="36">
                <a:moveTo>
                  <a:pt x="449" y="15"/>
                </a:moveTo>
                <a:lnTo>
                  <a:pt x="422" y="16"/>
                </a:lnTo>
                <a:lnTo>
                  <a:pt x="394" y="18"/>
                </a:lnTo>
                <a:lnTo>
                  <a:pt x="366" y="19"/>
                </a:lnTo>
                <a:lnTo>
                  <a:pt x="336" y="21"/>
                </a:lnTo>
                <a:lnTo>
                  <a:pt x="309" y="22"/>
                </a:lnTo>
                <a:lnTo>
                  <a:pt x="279" y="25"/>
                </a:lnTo>
                <a:lnTo>
                  <a:pt x="251" y="26"/>
                </a:lnTo>
                <a:lnTo>
                  <a:pt x="222" y="28"/>
                </a:lnTo>
                <a:lnTo>
                  <a:pt x="194" y="29"/>
                </a:lnTo>
                <a:lnTo>
                  <a:pt x="165" y="30"/>
                </a:lnTo>
                <a:lnTo>
                  <a:pt x="137" y="32"/>
                </a:lnTo>
                <a:lnTo>
                  <a:pt x="109" y="33"/>
                </a:lnTo>
                <a:lnTo>
                  <a:pt x="81" y="35"/>
                </a:lnTo>
                <a:lnTo>
                  <a:pt x="53" y="36"/>
                </a:lnTo>
                <a:lnTo>
                  <a:pt x="27" y="36"/>
                </a:lnTo>
                <a:lnTo>
                  <a:pt x="0" y="36"/>
                </a:lnTo>
                <a:lnTo>
                  <a:pt x="0" y="36"/>
                </a:lnTo>
                <a:lnTo>
                  <a:pt x="0" y="0"/>
                </a:lnTo>
                <a:lnTo>
                  <a:pt x="0" y="0"/>
                </a:lnTo>
                <a:lnTo>
                  <a:pt x="449" y="15"/>
                </a:lnTo>
                <a:close/>
              </a:path>
            </a:pathLst>
          </a:custGeom>
          <a:solidFill>
            <a:srgbClr val="3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50760" y="2282760"/>
            <a:ext cx="68400" cy="238320"/>
          </a:xfrm>
          <a:custGeom>
            <a:avLst/>
            <a:gdLst/>
            <a:ahLst/>
            <a:rect l="l" t="t" r="r" b="b"/>
            <a:pathLst>
              <a:path w="85" h="301">
                <a:moveTo>
                  <a:pt x="68" y="39"/>
                </a:moveTo>
                <a:lnTo>
                  <a:pt x="85" y="301"/>
                </a:lnTo>
                <a:lnTo>
                  <a:pt x="21" y="253"/>
                </a:lnTo>
                <a:lnTo>
                  <a:pt x="0" y="0"/>
                </a:lnTo>
                <a:lnTo>
                  <a:pt x="68" y="39"/>
                </a:lnTo>
                <a:lnTo>
                  <a:pt x="68" y="39"/>
                </a:lnTo>
                <a:lnTo>
                  <a:pt x="68" y="39"/>
                </a:lnTo>
                <a:close/>
              </a:path>
            </a:pathLst>
          </a:custGeom>
          <a:solidFill>
            <a:srgbClr val="ff5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62000" y="2282760"/>
            <a:ext cx="193680" cy="31680"/>
          </a:xfrm>
          <a:custGeom>
            <a:avLst/>
            <a:gdLst/>
            <a:ahLst/>
            <a:rect l="l" t="t" r="r" b="b"/>
            <a:pathLst>
              <a:path w="244" h="40">
                <a:moveTo>
                  <a:pt x="244" y="39"/>
                </a:moveTo>
                <a:lnTo>
                  <a:pt x="229" y="39"/>
                </a:lnTo>
                <a:lnTo>
                  <a:pt x="212" y="40"/>
                </a:lnTo>
                <a:lnTo>
                  <a:pt x="195" y="40"/>
                </a:lnTo>
                <a:lnTo>
                  <a:pt x="178" y="40"/>
                </a:lnTo>
                <a:lnTo>
                  <a:pt x="162" y="39"/>
                </a:lnTo>
                <a:lnTo>
                  <a:pt x="143" y="39"/>
                </a:lnTo>
                <a:lnTo>
                  <a:pt x="127" y="37"/>
                </a:lnTo>
                <a:lnTo>
                  <a:pt x="110" y="36"/>
                </a:lnTo>
                <a:lnTo>
                  <a:pt x="93" y="35"/>
                </a:lnTo>
                <a:lnTo>
                  <a:pt x="78" y="33"/>
                </a:lnTo>
                <a:lnTo>
                  <a:pt x="63" y="30"/>
                </a:lnTo>
                <a:lnTo>
                  <a:pt x="49" y="28"/>
                </a:lnTo>
                <a:lnTo>
                  <a:pt x="35" y="23"/>
                </a:lnTo>
                <a:lnTo>
                  <a:pt x="22" y="21"/>
                </a:lnTo>
                <a:lnTo>
                  <a:pt x="10" y="16"/>
                </a:lnTo>
                <a:lnTo>
                  <a:pt x="0" y="11"/>
                </a:lnTo>
                <a:lnTo>
                  <a:pt x="244" y="0"/>
                </a:lnTo>
                <a:lnTo>
                  <a:pt x="244" y="39"/>
                </a:lnTo>
                <a:lnTo>
                  <a:pt x="244" y="39"/>
                </a:lnTo>
                <a:lnTo>
                  <a:pt x="244" y="39"/>
                </a:lnTo>
                <a:close/>
              </a:path>
            </a:pathLst>
          </a:custGeom>
          <a:solidFill>
            <a:srgbClr val="3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709640" y="2282760"/>
            <a:ext cx="200160" cy="935280"/>
          </a:xfrm>
          <a:custGeom>
            <a:avLst/>
            <a:gdLst/>
            <a:ahLst/>
            <a:rect l="l" t="t" r="r" b="b"/>
            <a:pathLst>
              <a:path w="251" h="1178">
                <a:moveTo>
                  <a:pt x="236" y="29"/>
                </a:moveTo>
                <a:lnTo>
                  <a:pt x="82" y="221"/>
                </a:lnTo>
                <a:lnTo>
                  <a:pt x="116" y="265"/>
                </a:lnTo>
                <a:lnTo>
                  <a:pt x="237" y="128"/>
                </a:lnTo>
                <a:lnTo>
                  <a:pt x="238" y="216"/>
                </a:lnTo>
                <a:lnTo>
                  <a:pt x="238" y="216"/>
                </a:lnTo>
                <a:lnTo>
                  <a:pt x="79" y="461"/>
                </a:lnTo>
                <a:lnTo>
                  <a:pt x="110" y="485"/>
                </a:lnTo>
                <a:lnTo>
                  <a:pt x="110" y="485"/>
                </a:lnTo>
                <a:lnTo>
                  <a:pt x="238" y="318"/>
                </a:lnTo>
                <a:lnTo>
                  <a:pt x="238" y="318"/>
                </a:lnTo>
                <a:lnTo>
                  <a:pt x="237" y="449"/>
                </a:lnTo>
                <a:lnTo>
                  <a:pt x="237" y="449"/>
                </a:lnTo>
                <a:lnTo>
                  <a:pt x="107" y="711"/>
                </a:lnTo>
                <a:lnTo>
                  <a:pt x="125" y="736"/>
                </a:lnTo>
                <a:lnTo>
                  <a:pt x="237" y="577"/>
                </a:lnTo>
                <a:lnTo>
                  <a:pt x="237" y="577"/>
                </a:lnTo>
                <a:lnTo>
                  <a:pt x="241" y="708"/>
                </a:lnTo>
                <a:lnTo>
                  <a:pt x="241" y="708"/>
                </a:lnTo>
                <a:lnTo>
                  <a:pt x="100" y="988"/>
                </a:lnTo>
                <a:lnTo>
                  <a:pt x="131" y="1010"/>
                </a:lnTo>
                <a:lnTo>
                  <a:pt x="131" y="1010"/>
                </a:lnTo>
                <a:lnTo>
                  <a:pt x="248" y="853"/>
                </a:lnTo>
                <a:lnTo>
                  <a:pt x="250" y="918"/>
                </a:lnTo>
                <a:lnTo>
                  <a:pt x="250" y="918"/>
                </a:lnTo>
                <a:lnTo>
                  <a:pt x="124" y="1093"/>
                </a:lnTo>
                <a:lnTo>
                  <a:pt x="124" y="1093"/>
                </a:lnTo>
                <a:lnTo>
                  <a:pt x="146" y="1116"/>
                </a:lnTo>
                <a:lnTo>
                  <a:pt x="251" y="994"/>
                </a:lnTo>
                <a:lnTo>
                  <a:pt x="238" y="1178"/>
                </a:lnTo>
                <a:lnTo>
                  <a:pt x="217" y="1174"/>
                </a:lnTo>
                <a:lnTo>
                  <a:pt x="194" y="1171"/>
                </a:lnTo>
                <a:lnTo>
                  <a:pt x="171" y="1168"/>
                </a:lnTo>
                <a:lnTo>
                  <a:pt x="146" y="1167"/>
                </a:lnTo>
                <a:lnTo>
                  <a:pt x="123" y="1165"/>
                </a:lnTo>
                <a:lnTo>
                  <a:pt x="98" y="1164"/>
                </a:lnTo>
                <a:lnTo>
                  <a:pt x="72" y="1164"/>
                </a:lnTo>
                <a:lnTo>
                  <a:pt x="49" y="1162"/>
                </a:lnTo>
                <a:lnTo>
                  <a:pt x="0" y="49"/>
                </a:lnTo>
                <a:lnTo>
                  <a:pt x="0" y="49"/>
                </a:lnTo>
                <a:lnTo>
                  <a:pt x="15" y="47"/>
                </a:lnTo>
                <a:lnTo>
                  <a:pt x="31" y="44"/>
                </a:lnTo>
                <a:lnTo>
                  <a:pt x="46" y="43"/>
                </a:lnTo>
                <a:lnTo>
                  <a:pt x="61" y="42"/>
                </a:lnTo>
                <a:lnTo>
                  <a:pt x="77" y="39"/>
                </a:lnTo>
                <a:lnTo>
                  <a:pt x="91" y="36"/>
                </a:lnTo>
                <a:lnTo>
                  <a:pt x="106" y="35"/>
                </a:lnTo>
                <a:lnTo>
                  <a:pt x="121" y="32"/>
                </a:lnTo>
                <a:lnTo>
                  <a:pt x="135" y="29"/>
                </a:lnTo>
                <a:lnTo>
                  <a:pt x="151" y="25"/>
                </a:lnTo>
                <a:lnTo>
                  <a:pt x="164" y="22"/>
                </a:lnTo>
                <a:lnTo>
                  <a:pt x="180" y="18"/>
                </a:lnTo>
                <a:lnTo>
                  <a:pt x="194" y="14"/>
                </a:lnTo>
                <a:lnTo>
                  <a:pt x="208" y="10"/>
                </a:lnTo>
                <a:lnTo>
                  <a:pt x="222" y="5"/>
                </a:lnTo>
                <a:lnTo>
                  <a:pt x="236" y="0"/>
                </a:lnTo>
                <a:lnTo>
                  <a:pt x="236" y="0"/>
                </a:lnTo>
                <a:lnTo>
                  <a:pt x="236" y="29"/>
                </a:lnTo>
                <a:lnTo>
                  <a:pt x="236" y="29"/>
                </a:lnTo>
                <a:close/>
              </a:path>
            </a:pathLst>
          </a:custGeom>
          <a:solidFill>
            <a:srgbClr val="3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41480" y="2324160"/>
            <a:ext cx="230040" cy="377640"/>
          </a:xfrm>
          <a:custGeom>
            <a:avLst/>
            <a:gdLst/>
            <a:ahLst/>
            <a:rect l="l" t="t" r="r" b="b"/>
            <a:pathLst>
              <a:path w="290" h="477">
                <a:moveTo>
                  <a:pt x="271" y="27"/>
                </a:moveTo>
                <a:lnTo>
                  <a:pt x="290" y="477"/>
                </a:lnTo>
                <a:lnTo>
                  <a:pt x="290" y="477"/>
                </a:lnTo>
                <a:lnTo>
                  <a:pt x="278" y="470"/>
                </a:lnTo>
                <a:lnTo>
                  <a:pt x="264" y="462"/>
                </a:lnTo>
                <a:lnTo>
                  <a:pt x="247" y="452"/>
                </a:lnTo>
                <a:lnTo>
                  <a:pt x="229" y="441"/>
                </a:lnTo>
                <a:lnTo>
                  <a:pt x="210" y="428"/>
                </a:lnTo>
                <a:lnTo>
                  <a:pt x="189" y="416"/>
                </a:lnTo>
                <a:lnTo>
                  <a:pt x="168" y="402"/>
                </a:lnTo>
                <a:lnTo>
                  <a:pt x="147" y="388"/>
                </a:lnTo>
                <a:lnTo>
                  <a:pt x="126" y="373"/>
                </a:lnTo>
                <a:lnTo>
                  <a:pt x="105" y="359"/>
                </a:lnTo>
                <a:lnTo>
                  <a:pt x="85" y="343"/>
                </a:lnTo>
                <a:lnTo>
                  <a:pt x="67" y="329"/>
                </a:lnTo>
                <a:lnTo>
                  <a:pt x="51" y="317"/>
                </a:lnTo>
                <a:lnTo>
                  <a:pt x="37" y="304"/>
                </a:lnTo>
                <a:lnTo>
                  <a:pt x="24" y="292"/>
                </a:lnTo>
                <a:lnTo>
                  <a:pt x="14" y="282"/>
                </a:lnTo>
                <a:lnTo>
                  <a:pt x="14" y="282"/>
                </a:lnTo>
                <a:lnTo>
                  <a:pt x="0" y="0"/>
                </a:lnTo>
                <a:lnTo>
                  <a:pt x="17" y="5"/>
                </a:lnTo>
                <a:lnTo>
                  <a:pt x="32" y="7"/>
                </a:lnTo>
                <a:lnTo>
                  <a:pt x="49" y="12"/>
                </a:lnTo>
                <a:lnTo>
                  <a:pt x="66" y="14"/>
                </a:lnTo>
                <a:lnTo>
                  <a:pt x="83" y="17"/>
                </a:lnTo>
                <a:lnTo>
                  <a:pt x="101" y="18"/>
                </a:lnTo>
                <a:lnTo>
                  <a:pt x="117" y="21"/>
                </a:lnTo>
                <a:lnTo>
                  <a:pt x="134" y="23"/>
                </a:lnTo>
                <a:lnTo>
                  <a:pt x="152" y="24"/>
                </a:lnTo>
                <a:lnTo>
                  <a:pt x="169" y="25"/>
                </a:lnTo>
                <a:lnTo>
                  <a:pt x="186" y="27"/>
                </a:lnTo>
                <a:lnTo>
                  <a:pt x="204" y="27"/>
                </a:lnTo>
                <a:lnTo>
                  <a:pt x="221" y="28"/>
                </a:lnTo>
                <a:lnTo>
                  <a:pt x="237" y="28"/>
                </a:lnTo>
                <a:lnTo>
                  <a:pt x="254" y="27"/>
                </a:lnTo>
                <a:lnTo>
                  <a:pt x="271" y="27"/>
                </a:lnTo>
                <a:lnTo>
                  <a:pt x="271" y="27"/>
                </a:lnTo>
                <a:lnTo>
                  <a:pt x="271" y="27"/>
                </a:lnTo>
                <a:close/>
              </a:path>
            </a:pathLst>
          </a:custGeom>
          <a:solidFill>
            <a:srgbClr val="9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295280" y="2325600"/>
            <a:ext cx="439920" cy="900360"/>
          </a:xfrm>
          <a:custGeom>
            <a:avLst/>
            <a:gdLst/>
            <a:ahLst/>
            <a:rect l="l" t="t" r="r" b="b"/>
            <a:pathLst>
              <a:path w="555" h="1134">
                <a:moveTo>
                  <a:pt x="509" y="0"/>
                </a:moveTo>
                <a:lnTo>
                  <a:pt x="512" y="153"/>
                </a:lnTo>
                <a:lnTo>
                  <a:pt x="350" y="247"/>
                </a:lnTo>
                <a:lnTo>
                  <a:pt x="360" y="300"/>
                </a:lnTo>
                <a:lnTo>
                  <a:pt x="516" y="229"/>
                </a:lnTo>
                <a:lnTo>
                  <a:pt x="516" y="229"/>
                </a:lnTo>
                <a:lnTo>
                  <a:pt x="522" y="310"/>
                </a:lnTo>
                <a:lnTo>
                  <a:pt x="286" y="508"/>
                </a:lnTo>
                <a:lnTo>
                  <a:pt x="317" y="534"/>
                </a:lnTo>
                <a:lnTo>
                  <a:pt x="317" y="534"/>
                </a:lnTo>
                <a:lnTo>
                  <a:pt x="528" y="390"/>
                </a:lnTo>
                <a:lnTo>
                  <a:pt x="528" y="390"/>
                </a:lnTo>
                <a:lnTo>
                  <a:pt x="535" y="489"/>
                </a:lnTo>
                <a:lnTo>
                  <a:pt x="535" y="489"/>
                </a:lnTo>
                <a:lnTo>
                  <a:pt x="253" y="714"/>
                </a:lnTo>
                <a:lnTo>
                  <a:pt x="268" y="747"/>
                </a:lnTo>
                <a:lnTo>
                  <a:pt x="537" y="602"/>
                </a:lnTo>
                <a:lnTo>
                  <a:pt x="537" y="602"/>
                </a:lnTo>
                <a:lnTo>
                  <a:pt x="540" y="696"/>
                </a:lnTo>
                <a:lnTo>
                  <a:pt x="324" y="888"/>
                </a:lnTo>
                <a:lnTo>
                  <a:pt x="350" y="924"/>
                </a:lnTo>
                <a:lnTo>
                  <a:pt x="350" y="924"/>
                </a:lnTo>
                <a:lnTo>
                  <a:pt x="548" y="827"/>
                </a:lnTo>
                <a:lnTo>
                  <a:pt x="548" y="827"/>
                </a:lnTo>
                <a:lnTo>
                  <a:pt x="555" y="1103"/>
                </a:lnTo>
                <a:lnTo>
                  <a:pt x="555" y="1103"/>
                </a:lnTo>
                <a:lnTo>
                  <a:pt x="541" y="1101"/>
                </a:lnTo>
                <a:lnTo>
                  <a:pt x="523" y="1100"/>
                </a:lnTo>
                <a:lnTo>
                  <a:pt x="501" y="1099"/>
                </a:lnTo>
                <a:lnTo>
                  <a:pt x="475" y="1097"/>
                </a:lnTo>
                <a:lnTo>
                  <a:pt x="444" y="1097"/>
                </a:lnTo>
                <a:lnTo>
                  <a:pt x="412" y="1097"/>
                </a:lnTo>
                <a:lnTo>
                  <a:pt x="377" y="1099"/>
                </a:lnTo>
                <a:lnTo>
                  <a:pt x="341" y="1099"/>
                </a:lnTo>
                <a:lnTo>
                  <a:pt x="302" y="1101"/>
                </a:lnTo>
                <a:lnTo>
                  <a:pt x="264" y="1103"/>
                </a:lnTo>
                <a:lnTo>
                  <a:pt x="225" y="1107"/>
                </a:lnTo>
                <a:lnTo>
                  <a:pt x="187" y="1110"/>
                </a:lnTo>
                <a:lnTo>
                  <a:pt x="150" y="1115"/>
                </a:lnTo>
                <a:lnTo>
                  <a:pt x="113" y="1120"/>
                </a:lnTo>
                <a:lnTo>
                  <a:pt x="80" y="1127"/>
                </a:lnTo>
                <a:lnTo>
                  <a:pt x="49" y="1134"/>
                </a:lnTo>
                <a:lnTo>
                  <a:pt x="18" y="544"/>
                </a:lnTo>
                <a:lnTo>
                  <a:pt x="80" y="569"/>
                </a:lnTo>
                <a:lnTo>
                  <a:pt x="103" y="556"/>
                </a:lnTo>
                <a:lnTo>
                  <a:pt x="16" y="489"/>
                </a:lnTo>
                <a:lnTo>
                  <a:pt x="16" y="489"/>
                </a:lnTo>
                <a:lnTo>
                  <a:pt x="0" y="24"/>
                </a:lnTo>
                <a:lnTo>
                  <a:pt x="0" y="24"/>
                </a:lnTo>
                <a:lnTo>
                  <a:pt x="509" y="0"/>
                </a:lnTo>
                <a:lnTo>
                  <a:pt x="509" y="0"/>
                </a:lnTo>
                <a:lnTo>
                  <a:pt x="509" y="0"/>
                </a:lnTo>
                <a:close/>
              </a:path>
            </a:pathLst>
          </a:custGeom>
          <a:solidFill>
            <a:srgbClr val="0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73080" y="2570040"/>
            <a:ext cx="66600" cy="233640"/>
          </a:xfrm>
          <a:custGeom>
            <a:avLst/>
            <a:gdLst/>
            <a:ahLst/>
            <a:rect l="l" t="t" r="r" b="b"/>
            <a:pathLst>
              <a:path w="85" h="294">
                <a:moveTo>
                  <a:pt x="67" y="53"/>
                </a:moveTo>
                <a:lnTo>
                  <a:pt x="85" y="294"/>
                </a:lnTo>
                <a:lnTo>
                  <a:pt x="85" y="294"/>
                </a:lnTo>
                <a:lnTo>
                  <a:pt x="7" y="226"/>
                </a:lnTo>
                <a:lnTo>
                  <a:pt x="7" y="226"/>
                </a:lnTo>
                <a:lnTo>
                  <a:pt x="0" y="0"/>
                </a:lnTo>
                <a:lnTo>
                  <a:pt x="0" y="0"/>
                </a:lnTo>
                <a:lnTo>
                  <a:pt x="67" y="53"/>
                </a:lnTo>
                <a:lnTo>
                  <a:pt x="67" y="53"/>
                </a:lnTo>
                <a:close/>
              </a:path>
            </a:pathLst>
          </a:custGeom>
          <a:solidFill>
            <a:srgbClr val="ff5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62000" y="2638440"/>
            <a:ext cx="230400" cy="666720"/>
          </a:xfrm>
          <a:custGeom>
            <a:avLst/>
            <a:gdLst/>
            <a:ahLst/>
            <a:rect l="l" t="t" r="r" b="b"/>
            <a:pathLst>
              <a:path w="290" h="839">
                <a:moveTo>
                  <a:pt x="266" y="133"/>
                </a:moveTo>
                <a:lnTo>
                  <a:pt x="290" y="747"/>
                </a:lnTo>
                <a:lnTo>
                  <a:pt x="290" y="747"/>
                </a:lnTo>
                <a:lnTo>
                  <a:pt x="275" y="751"/>
                </a:lnTo>
                <a:lnTo>
                  <a:pt x="258" y="755"/>
                </a:lnTo>
                <a:lnTo>
                  <a:pt x="243" y="761"/>
                </a:lnTo>
                <a:lnTo>
                  <a:pt x="226" y="765"/>
                </a:lnTo>
                <a:lnTo>
                  <a:pt x="210" y="771"/>
                </a:lnTo>
                <a:lnTo>
                  <a:pt x="195" y="775"/>
                </a:lnTo>
                <a:lnTo>
                  <a:pt x="178" y="780"/>
                </a:lnTo>
                <a:lnTo>
                  <a:pt x="163" y="786"/>
                </a:lnTo>
                <a:lnTo>
                  <a:pt x="148" y="792"/>
                </a:lnTo>
                <a:lnTo>
                  <a:pt x="132" y="798"/>
                </a:lnTo>
                <a:lnTo>
                  <a:pt x="117" y="804"/>
                </a:lnTo>
                <a:lnTo>
                  <a:pt x="102" y="811"/>
                </a:lnTo>
                <a:lnTo>
                  <a:pt x="88" y="818"/>
                </a:lnTo>
                <a:lnTo>
                  <a:pt x="72" y="824"/>
                </a:lnTo>
                <a:lnTo>
                  <a:pt x="57" y="832"/>
                </a:lnTo>
                <a:lnTo>
                  <a:pt x="43" y="839"/>
                </a:lnTo>
                <a:lnTo>
                  <a:pt x="30" y="575"/>
                </a:lnTo>
                <a:lnTo>
                  <a:pt x="30" y="575"/>
                </a:lnTo>
                <a:lnTo>
                  <a:pt x="210" y="596"/>
                </a:lnTo>
                <a:lnTo>
                  <a:pt x="223" y="570"/>
                </a:lnTo>
                <a:lnTo>
                  <a:pt x="30" y="490"/>
                </a:lnTo>
                <a:lnTo>
                  <a:pt x="30" y="490"/>
                </a:lnTo>
                <a:lnTo>
                  <a:pt x="21" y="327"/>
                </a:lnTo>
                <a:lnTo>
                  <a:pt x="21" y="327"/>
                </a:lnTo>
                <a:lnTo>
                  <a:pt x="256" y="370"/>
                </a:lnTo>
                <a:lnTo>
                  <a:pt x="243" y="352"/>
                </a:lnTo>
                <a:lnTo>
                  <a:pt x="15" y="244"/>
                </a:lnTo>
                <a:lnTo>
                  <a:pt x="15" y="244"/>
                </a:lnTo>
                <a:lnTo>
                  <a:pt x="0" y="0"/>
                </a:lnTo>
                <a:lnTo>
                  <a:pt x="0" y="0"/>
                </a:lnTo>
                <a:lnTo>
                  <a:pt x="15" y="9"/>
                </a:lnTo>
                <a:lnTo>
                  <a:pt x="32" y="19"/>
                </a:lnTo>
                <a:lnTo>
                  <a:pt x="47" y="28"/>
                </a:lnTo>
                <a:lnTo>
                  <a:pt x="64" y="36"/>
                </a:lnTo>
                <a:lnTo>
                  <a:pt x="81" y="46"/>
                </a:lnTo>
                <a:lnTo>
                  <a:pt x="97" y="54"/>
                </a:lnTo>
                <a:lnTo>
                  <a:pt x="114" y="62"/>
                </a:lnTo>
                <a:lnTo>
                  <a:pt x="132" y="71"/>
                </a:lnTo>
                <a:lnTo>
                  <a:pt x="149" y="78"/>
                </a:lnTo>
                <a:lnTo>
                  <a:pt x="166" y="86"/>
                </a:lnTo>
                <a:lnTo>
                  <a:pt x="184" y="94"/>
                </a:lnTo>
                <a:lnTo>
                  <a:pt x="201" y="103"/>
                </a:lnTo>
                <a:lnTo>
                  <a:pt x="217" y="110"/>
                </a:lnTo>
                <a:lnTo>
                  <a:pt x="234" y="118"/>
                </a:lnTo>
                <a:lnTo>
                  <a:pt x="250" y="125"/>
                </a:lnTo>
                <a:lnTo>
                  <a:pt x="266" y="133"/>
                </a:lnTo>
                <a:close/>
              </a:path>
            </a:pathLst>
          </a:custGeom>
          <a:solidFill>
            <a:srgbClr val="9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977760" y="2849400"/>
            <a:ext cx="73080" cy="146160"/>
          </a:xfrm>
          <a:custGeom>
            <a:avLst/>
            <a:gdLst/>
            <a:ahLst/>
            <a:rect l="l" t="t" r="r" b="b"/>
            <a:pathLst>
              <a:path w="90" h="185">
                <a:moveTo>
                  <a:pt x="82" y="39"/>
                </a:moveTo>
                <a:lnTo>
                  <a:pt x="90" y="185"/>
                </a:lnTo>
                <a:lnTo>
                  <a:pt x="90" y="185"/>
                </a:lnTo>
                <a:lnTo>
                  <a:pt x="1" y="118"/>
                </a:lnTo>
                <a:lnTo>
                  <a:pt x="0" y="0"/>
                </a:lnTo>
                <a:lnTo>
                  <a:pt x="0" y="0"/>
                </a:lnTo>
                <a:lnTo>
                  <a:pt x="82" y="39"/>
                </a:lnTo>
                <a:lnTo>
                  <a:pt x="82" y="39"/>
                </a:lnTo>
                <a:lnTo>
                  <a:pt x="82" y="39"/>
                </a:lnTo>
                <a:close/>
              </a:path>
            </a:pathLst>
          </a:custGeom>
          <a:solidFill>
            <a:srgbClr val="ff5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87480" y="3054240"/>
            <a:ext cx="71280" cy="314280"/>
          </a:xfrm>
          <a:custGeom>
            <a:avLst/>
            <a:gdLst/>
            <a:ahLst/>
            <a:rect l="l" t="t" r="r" b="b"/>
            <a:pathLst>
              <a:path w="89" h="394">
                <a:moveTo>
                  <a:pt x="79" y="36"/>
                </a:moveTo>
                <a:lnTo>
                  <a:pt x="89" y="336"/>
                </a:lnTo>
                <a:lnTo>
                  <a:pt x="89" y="336"/>
                </a:lnTo>
                <a:lnTo>
                  <a:pt x="79" y="343"/>
                </a:lnTo>
                <a:lnTo>
                  <a:pt x="70" y="350"/>
                </a:lnTo>
                <a:lnTo>
                  <a:pt x="60" y="357"/>
                </a:lnTo>
                <a:lnTo>
                  <a:pt x="49" y="364"/>
                </a:lnTo>
                <a:lnTo>
                  <a:pt x="39" y="372"/>
                </a:lnTo>
                <a:lnTo>
                  <a:pt x="29" y="379"/>
                </a:lnTo>
                <a:lnTo>
                  <a:pt x="21" y="386"/>
                </a:lnTo>
                <a:lnTo>
                  <a:pt x="12" y="394"/>
                </a:lnTo>
                <a:lnTo>
                  <a:pt x="0" y="0"/>
                </a:lnTo>
                <a:lnTo>
                  <a:pt x="10" y="4"/>
                </a:lnTo>
                <a:lnTo>
                  <a:pt x="19" y="10"/>
                </a:lnTo>
                <a:lnTo>
                  <a:pt x="29" y="14"/>
                </a:lnTo>
                <a:lnTo>
                  <a:pt x="39" y="18"/>
                </a:lnTo>
                <a:lnTo>
                  <a:pt x="49" y="24"/>
                </a:lnTo>
                <a:lnTo>
                  <a:pt x="60" y="28"/>
                </a:lnTo>
                <a:lnTo>
                  <a:pt x="70" y="32"/>
                </a:lnTo>
                <a:lnTo>
                  <a:pt x="79" y="36"/>
                </a:lnTo>
                <a:lnTo>
                  <a:pt x="79" y="36"/>
                </a:lnTo>
                <a:lnTo>
                  <a:pt x="79" y="36"/>
                </a:lnTo>
                <a:close/>
              </a:path>
            </a:pathLst>
          </a:custGeom>
          <a:solidFill>
            <a:srgbClr val="ff5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336680" y="3208320"/>
            <a:ext cx="380880" cy="28440"/>
          </a:xfrm>
          <a:custGeom>
            <a:avLst/>
            <a:gdLst/>
            <a:ahLst/>
            <a:rect l="l" t="t" r="r" b="b"/>
            <a:pathLst>
              <a:path w="478" h="36">
                <a:moveTo>
                  <a:pt x="478" y="23"/>
                </a:moveTo>
                <a:lnTo>
                  <a:pt x="0" y="36"/>
                </a:lnTo>
                <a:lnTo>
                  <a:pt x="28" y="30"/>
                </a:lnTo>
                <a:lnTo>
                  <a:pt x="56" y="24"/>
                </a:lnTo>
                <a:lnTo>
                  <a:pt x="85" y="20"/>
                </a:lnTo>
                <a:lnTo>
                  <a:pt x="114" y="14"/>
                </a:lnTo>
                <a:lnTo>
                  <a:pt x="145" y="11"/>
                </a:lnTo>
                <a:lnTo>
                  <a:pt x="174" y="9"/>
                </a:lnTo>
                <a:lnTo>
                  <a:pt x="205" y="6"/>
                </a:lnTo>
                <a:lnTo>
                  <a:pt x="237" y="3"/>
                </a:lnTo>
                <a:lnTo>
                  <a:pt x="268" y="2"/>
                </a:lnTo>
                <a:lnTo>
                  <a:pt x="298" y="2"/>
                </a:lnTo>
                <a:lnTo>
                  <a:pt x="329" y="0"/>
                </a:lnTo>
                <a:lnTo>
                  <a:pt x="360" y="0"/>
                </a:lnTo>
                <a:lnTo>
                  <a:pt x="390" y="2"/>
                </a:lnTo>
                <a:lnTo>
                  <a:pt x="420" y="3"/>
                </a:lnTo>
                <a:lnTo>
                  <a:pt x="449" y="4"/>
                </a:lnTo>
                <a:lnTo>
                  <a:pt x="478" y="6"/>
                </a:lnTo>
                <a:lnTo>
                  <a:pt x="478" y="23"/>
                </a:lnTo>
                <a:close/>
              </a:path>
            </a:pathLst>
          </a:custGeom>
          <a:solidFill>
            <a:srgbClr val="0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49600" y="3230640"/>
            <a:ext cx="133200" cy="185760"/>
          </a:xfrm>
          <a:custGeom>
            <a:avLst/>
            <a:gdLst/>
            <a:ahLst/>
            <a:rect l="l" t="t" r="r" b="b"/>
            <a:pathLst>
              <a:path w="167" h="236">
                <a:moveTo>
                  <a:pt x="167" y="10"/>
                </a:moveTo>
                <a:lnTo>
                  <a:pt x="0" y="236"/>
                </a:lnTo>
                <a:lnTo>
                  <a:pt x="0" y="236"/>
                </a:lnTo>
                <a:lnTo>
                  <a:pt x="0" y="3"/>
                </a:lnTo>
                <a:lnTo>
                  <a:pt x="0" y="3"/>
                </a:lnTo>
                <a:lnTo>
                  <a:pt x="22" y="2"/>
                </a:lnTo>
                <a:lnTo>
                  <a:pt x="43" y="2"/>
                </a:lnTo>
                <a:lnTo>
                  <a:pt x="65" y="0"/>
                </a:lnTo>
                <a:lnTo>
                  <a:pt x="86" y="0"/>
                </a:lnTo>
                <a:lnTo>
                  <a:pt x="107" y="2"/>
                </a:lnTo>
                <a:lnTo>
                  <a:pt x="128" y="3"/>
                </a:lnTo>
                <a:lnTo>
                  <a:pt x="148" y="6"/>
                </a:lnTo>
                <a:lnTo>
                  <a:pt x="167" y="10"/>
                </a:lnTo>
                <a:lnTo>
                  <a:pt x="167" y="10"/>
                </a:lnTo>
                <a:lnTo>
                  <a:pt x="167" y="10"/>
                </a:lnTo>
                <a:close/>
              </a:path>
            </a:pathLst>
          </a:custGeom>
          <a:solidFill>
            <a:srgbClr val="7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16000" y="3232080"/>
            <a:ext cx="601560" cy="220680"/>
          </a:xfrm>
          <a:custGeom>
            <a:avLst/>
            <a:gdLst/>
            <a:ahLst/>
            <a:rect l="l" t="t" r="r" b="b"/>
            <a:pathLst>
              <a:path w="757" h="279">
                <a:moveTo>
                  <a:pt x="757" y="0"/>
                </a:moveTo>
                <a:lnTo>
                  <a:pt x="754" y="279"/>
                </a:lnTo>
                <a:lnTo>
                  <a:pt x="754" y="279"/>
                </a:lnTo>
                <a:lnTo>
                  <a:pt x="0" y="277"/>
                </a:lnTo>
                <a:lnTo>
                  <a:pt x="258" y="223"/>
                </a:lnTo>
                <a:lnTo>
                  <a:pt x="233" y="184"/>
                </a:lnTo>
                <a:lnTo>
                  <a:pt x="40" y="208"/>
                </a:lnTo>
                <a:lnTo>
                  <a:pt x="79" y="164"/>
                </a:lnTo>
                <a:lnTo>
                  <a:pt x="414" y="131"/>
                </a:lnTo>
                <a:lnTo>
                  <a:pt x="400" y="97"/>
                </a:lnTo>
                <a:lnTo>
                  <a:pt x="132" y="110"/>
                </a:lnTo>
                <a:lnTo>
                  <a:pt x="227" y="18"/>
                </a:lnTo>
                <a:lnTo>
                  <a:pt x="757" y="0"/>
                </a:lnTo>
                <a:lnTo>
                  <a:pt x="757" y="0"/>
                </a:lnTo>
                <a:lnTo>
                  <a:pt x="757" y="0"/>
                </a:lnTo>
                <a:close/>
              </a:path>
            </a:pathLst>
          </a:custGeom>
          <a:solidFill>
            <a:srgbClr val="7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749600" y="3244680"/>
            <a:ext cx="245880" cy="227160"/>
          </a:xfrm>
          <a:custGeom>
            <a:avLst/>
            <a:gdLst/>
            <a:ahLst/>
            <a:rect l="l" t="t" r="r" b="b"/>
            <a:pathLst>
              <a:path w="311" h="287">
                <a:moveTo>
                  <a:pt x="311" y="95"/>
                </a:moveTo>
                <a:lnTo>
                  <a:pt x="307" y="116"/>
                </a:lnTo>
                <a:lnTo>
                  <a:pt x="297" y="137"/>
                </a:lnTo>
                <a:lnTo>
                  <a:pt x="286" y="156"/>
                </a:lnTo>
                <a:lnTo>
                  <a:pt x="270" y="174"/>
                </a:lnTo>
                <a:lnTo>
                  <a:pt x="254" y="191"/>
                </a:lnTo>
                <a:lnTo>
                  <a:pt x="234" y="208"/>
                </a:lnTo>
                <a:lnTo>
                  <a:pt x="213" y="222"/>
                </a:lnTo>
                <a:lnTo>
                  <a:pt x="189" y="234"/>
                </a:lnTo>
                <a:lnTo>
                  <a:pt x="166" y="247"/>
                </a:lnTo>
                <a:lnTo>
                  <a:pt x="141" y="257"/>
                </a:lnTo>
                <a:lnTo>
                  <a:pt x="117" y="267"/>
                </a:lnTo>
                <a:lnTo>
                  <a:pt x="92" y="273"/>
                </a:lnTo>
                <a:lnTo>
                  <a:pt x="67" y="279"/>
                </a:lnTo>
                <a:lnTo>
                  <a:pt x="43" y="285"/>
                </a:lnTo>
                <a:lnTo>
                  <a:pt x="21" y="286"/>
                </a:lnTo>
                <a:lnTo>
                  <a:pt x="0" y="287"/>
                </a:lnTo>
                <a:lnTo>
                  <a:pt x="0" y="244"/>
                </a:lnTo>
                <a:lnTo>
                  <a:pt x="188" y="0"/>
                </a:lnTo>
                <a:lnTo>
                  <a:pt x="206" y="2"/>
                </a:lnTo>
                <a:lnTo>
                  <a:pt x="226" y="9"/>
                </a:lnTo>
                <a:lnTo>
                  <a:pt x="245" y="17"/>
                </a:lnTo>
                <a:lnTo>
                  <a:pt x="265" y="30"/>
                </a:lnTo>
                <a:lnTo>
                  <a:pt x="281" y="43"/>
                </a:lnTo>
                <a:lnTo>
                  <a:pt x="295" y="60"/>
                </a:lnTo>
                <a:lnTo>
                  <a:pt x="305" y="77"/>
                </a:lnTo>
                <a:lnTo>
                  <a:pt x="311" y="95"/>
                </a:lnTo>
                <a:lnTo>
                  <a:pt x="311" y="95"/>
                </a:lnTo>
                <a:lnTo>
                  <a:pt x="311" y="95"/>
                </a:lnTo>
                <a:close/>
              </a:path>
            </a:pathLst>
          </a:custGeom>
          <a:solidFill>
            <a:srgbClr val="ff1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092240" y="3251160"/>
            <a:ext cx="174600" cy="165240"/>
          </a:xfrm>
          <a:custGeom>
            <a:avLst/>
            <a:gdLst/>
            <a:ahLst/>
            <a:rect l="l" t="t" r="r" b="b"/>
            <a:pathLst>
              <a:path w="221" h="208">
                <a:moveTo>
                  <a:pt x="9" y="208"/>
                </a:moveTo>
                <a:lnTo>
                  <a:pt x="0" y="88"/>
                </a:lnTo>
                <a:lnTo>
                  <a:pt x="27" y="74"/>
                </a:lnTo>
                <a:lnTo>
                  <a:pt x="53" y="61"/>
                </a:lnTo>
                <a:lnTo>
                  <a:pt x="80" y="49"/>
                </a:lnTo>
                <a:lnTo>
                  <a:pt x="108" y="38"/>
                </a:lnTo>
                <a:lnTo>
                  <a:pt x="136" y="26"/>
                </a:lnTo>
                <a:lnTo>
                  <a:pt x="164" y="17"/>
                </a:lnTo>
                <a:lnTo>
                  <a:pt x="192" y="7"/>
                </a:lnTo>
                <a:lnTo>
                  <a:pt x="221" y="0"/>
                </a:lnTo>
                <a:lnTo>
                  <a:pt x="221" y="0"/>
                </a:lnTo>
                <a:lnTo>
                  <a:pt x="9" y="208"/>
                </a:lnTo>
                <a:close/>
              </a:path>
            </a:pathLst>
          </a:custGeom>
          <a:solidFill>
            <a:srgbClr val="9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004760" y="3335400"/>
            <a:ext cx="57240" cy="100080"/>
          </a:xfrm>
          <a:custGeom>
            <a:avLst/>
            <a:gdLst/>
            <a:ahLst/>
            <a:rect l="l" t="t" r="r" b="b"/>
            <a:pathLst>
              <a:path w="73" h="125">
                <a:moveTo>
                  <a:pt x="70" y="0"/>
                </a:moveTo>
                <a:lnTo>
                  <a:pt x="73" y="125"/>
                </a:lnTo>
                <a:lnTo>
                  <a:pt x="62" y="121"/>
                </a:lnTo>
                <a:lnTo>
                  <a:pt x="50" y="114"/>
                </a:lnTo>
                <a:lnTo>
                  <a:pt x="39" y="109"/>
                </a:lnTo>
                <a:lnTo>
                  <a:pt x="30" y="100"/>
                </a:lnTo>
                <a:lnTo>
                  <a:pt x="20" y="92"/>
                </a:lnTo>
                <a:lnTo>
                  <a:pt x="11" y="81"/>
                </a:lnTo>
                <a:lnTo>
                  <a:pt x="4" y="71"/>
                </a:lnTo>
                <a:lnTo>
                  <a:pt x="0" y="58"/>
                </a:lnTo>
                <a:lnTo>
                  <a:pt x="4" y="49"/>
                </a:lnTo>
                <a:lnTo>
                  <a:pt x="10" y="40"/>
                </a:lnTo>
                <a:lnTo>
                  <a:pt x="18" y="32"/>
                </a:lnTo>
                <a:lnTo>
                  <a:pt x="30" y="25"/>
                </a:lnTo>
                <a:lnTo>
                  <a:pt x="39" y="17"/>
                </a:lnTo>
                <a:lnTo>
                  <a:pt x="50" y="11"/>
                </a:lnTo>
                <a:lnTo>
                  <a:pt x="60" y="6"/>
                </a:lnTo>
                <a:lnTo>
                  <a:pt x="70" y="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ff1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154160" y="3465360"/>
            <a:ext cx="558720" cy="32040"/>
          </a:xfrm>
          <a:custGeom>
            <a:avLst/>
            <a:gdLst/>
            <a:ahLst/>
            <a:rect l="l" t="t" r="r" b="b"/>
            <a:pathLst>
              <a:path w="703" h="40">
                <a:moveTo>
                  <a:pt x="703" y="0"/>
                </a:moveTo>
                <a:lnTo>
                  <a:pt x="703" y="15"/>
                </a:lnTo>
                <a:lnTo>
                  <a:pt x="703" y="15"/>
                </a:lnTo>
                <a:lnTo>
                  <a:pt x="659" y="20"/>
                </a:lnTo>
                <a:lnTo>
                  <a:pt x="615" y="25"/>
                </a:lnTo>
                <a:lnTo>
                  <a:pt x="572" y="29"/>
                </a:lnTo>
                <a:lnTo>
                  <a:pt x="527" y="34"/>
                </a:lnTo>
                <a:lnTo>
                  <a:pt x="482" y="36"/>
                </a:lnTo>
                <a:lnTo>
                  <a:pt x="439" y="39"/>
                </a:lnTo>
                <a:lnTo>
                  <a:pt x="394" y="40"/>
                </a:lnTo>
                <a:lnTo>
                  <a:pt x="350" y="40"/>
                </a:lnTo>
                <a:lnTo>
                  <a:pt x="306" y="40"/>
                </a:lnTo>
                <a:lnTo>
                  <a:pt x="262" y="39"/>
                </a:lnTo>
                <a:lnTo>
                  <a:pt x="217" y="38"/>
                </a:lnTo>
                <a:lnTo>
                  <a:pt x="174" y="34"/>
                </a:lnTo>
                <a:lnTo>
                  <a:pt x="129" y="28"/>
                </a:lnTo>
                <a:lnTo>
                  <a:pt x="86" y="21"/>
                </a:lnTo>
                <a:lnTo>
                  <a:pt x="43" y="13"/>
                </a:lnTo>
                <a:lnTo>
                  <a:pt x="0" y="3"/>
                </a:lnTo>
                <a:lnTo>
                  <a:pt x="703" y="0"/>
                </a:lnTo>
                <a:lnTo>
                  <a:pt x="703" y="0"/>
                </a:lnTo>
                <a:lnTo>
                  <a:pt x="703" y="0"/>
                </a:lnTo>
                <a:close/>
              </a:path>
            </a:pathLst>
          </a:custGeom>
          <a:solidFill>
            <a:srgbClr val="ff1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1447920" y="2133720"/>
            <a:ext cx="6400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33cc33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ord Problems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50000">
                    <a:srgbClr val="33cc33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33cc33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50000">
                    <a:srgbClr val="33cc33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33cc33"/>
                    </a:gs>
                    <a:gs pos="100000">
                      <a:srgbClr val="0066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ircular Objects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50000">
                    <a:srgbClr val="33cc33"/>
                  </a:gs>
                  <a:gs pos="100000">
                    <a:srgbClr val="0066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3276720" y="2178000"/>
            <a:ext cx="4724280" cy="4605840"/>
            <a:chOff x="3276720" y="2178000"/>
            <a:chExt cx="4724280" cy="4605840"/>
          </a:xfrm>
        </p:grpSpPr>
        <p:sp>
          <p:nvSpPr>
            <p:cNvPr id="889" name=""/>
            <p:cNvSpPr/>
            <p:nvPr/>
          </p:nvSpPr>
          <p:spPr>
            <a:xfrm>
              <a:off x="4419720" y="2178000"/>
              <a:ext cx="3581280" cy="358128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76720" y="5715000"/>
              <a:ext cx="29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ircumfer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343400" y="5149800"/>
              <a:ext cx="533520" cy="64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057400" y="13716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ircles - Vocabul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4572000" y="3397320"/>
            <a:ext cx="3276720" cy="581400"/>
            <a:chOff x="4572000" y="3397320"/>
            <a:chExt cx="3276720" cy="581400"/>
          </a:xfrm>
        </p:grpSpPr>
        <p:sp>
          <p:nvSpPr>
            <p:cNvPr id="894" name=""/>
            <p:cNvSpPr/>
            <p:nvPr/>
          </p:nvSpPr>
          <p:spPr>
            <a:xfrm>
              <a:off x="4572000" y="396252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81480" y="33973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533520" y="2330280"/>
            <a:ext cx="7315200" cy="3276720"/>
            <a:chOff x="533520" y="2330280"/>
            <a:chExt cx="7315200" cy="3276720"/>
          </a:xfrm>
        </p:grpSpPr>
        <p:grpSp>
          <p:nvGrpSpPr>
            <p:cNvPr id="897" name=""/>
            <p:cNvGrpSpPr/>
            <p:nvPr/>
          </p:nvGrpSpPr>
          <p:grpSpPr>
            <a:xfrm>
              <a:off x="533520" y="2330280"/>
              <a:ext cx="7315200" cy="3276720"/>
              <a:chOff x="533520" y="2330280"/>
              <a:chExt cx="7315200" cy="3276720"/>
            </a:xfrm>
          </p:grpSpPr>
          <p:sp>
            <p:nvSpPr>
              <p:cNvPr id="898" name=""/>
              <p:cNvSpPr/>
              <p:nvPr/>
            </p:nvSpPr>
            <p:spPr>
              <a:xfrm>
                <a:off x="4572000" y="2330280"/>
                <a:ext cx="3276720" cy="3276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3520" y="2362320"/>
                <a:ext cx="373356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00"/>
                    </a:solidFill>
                    <a:latin typeface="Comic Sans MS"/>
                  </a:rPr>
                  <a:t>All points on a circle are an equal distance from a given point (center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4648320" y="3930480"/>
              <a:ext cx="1600200" cy="842040"/>
              <a:chOff x="4648320" y="3930480"/>
              <a:chExt cx="1600200" cy="842040"/>
            </a:xfrm>
          </p:grpSpPr>
          <p:sp>
            <p:nvSpPr>
              <p:cNvPr id="901" name=""/>
              <p:cNvSpPr/>
              <p:nvPr/>
            </p:nvSpPr>
            <p:spPr>
              <a:xfrm>
                <a:off x="6095880" y="39304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4648320" y="4082760"/>
                <a:ext cx="1523880" cy="689760"/>
                <a:chOff x="4648320" y="4082760"/>
                <a:chExt cx="1523880" cy="689760"/>
              </a:xfrm>
            </p:grpSpPr>
            <p:sp>
              <p:nvSpPr>
                <p:cNvPr id="903" name=""/>
                <p:cNvSpPr/>
                <p:nvPr/>
              </p:nvSpPr>
              <p:spPr>
                <a:xfrm flipV="1">
                  <a:off x="5638680" y="4082760"/>
                  <a:ext cx="457200" cy="260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4648320" y="4191120"/>
                  <a:ext cx="1523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Center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5" name=""/>
          <p:cNvGrpSpPr/>
          <p:nvPr/>
        </p:nvGrpSpPr>
        <p:grpSpPr>
          <a:xfrm>
            <a:off x="5791320" y="4006800"/>
            <a:ext cx="2057400" cy="1862640"/>
            <a:chOff x="5791320" y="4006800"/>
            <a:chExt cx="2057400" cy="1862640"/>
          </a:xfrm>
        </p:grpSpPr>
        <p:sp>
          <p:nvSpPr>
            <p:cNvPr id="906" name=""/>
            <p:cNvSpPr/>
            <p:nvPr/>
          </p:nvSpPr>
          <p:spPr>
            <a:xfrm rot="16200000">
              <a:off x="6858000" y="3396960"/>
              <a:ext cx="380880" cy="16002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91320" y="4800600"/>
              <a:ext cx="1447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adi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781680" y="4387320"/>
              <a:ext cx="228600" cy="48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"/>
          <p:cNvGrpSpPr/>
          <p:nvPr/>
        </p:nvGrpSpPr>
        <p:grpSpPr>
          <a:xfrm>
            <a:off x="762120" y="1905120"/>
            <a:ext cx="3276360" cy="3276360"/>
            <a:chOff x="762120" y="1905120"/>
            <a:chExt cx="3276360" cy="3276360"/>
          </a:xfrm>
        </p:grpSpPr>
        <p:sp>
          <p:nvSpPr>
            <p:cNvPr id="911" name=""/>
            <p:cNvSpPr/>
            <p:nvPr/>
          </p:nvSpPr>
          <p:spPr>
            <a:xfrm>
              <a:off x="762120" y="1905120"/>
              <a:ext cx="3276360" cy="327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286000" y="3505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2120" y="358128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9480" y="1752480"/>
            <a:ext cx="3581640" cy="4605120"/>
            <a:chOff x="609480" y="1752480"/>
            <a:chExt cx="3581640" cy="4605120"/>
          </a:xfrm>
        </p:grpSpPr>
        <p:sp>
          <p:nvSpPr>
            <p:cNvPr id="915" name=""/>
            <p:cNvSpPr/>
            <p:nvPr/>
          </p:nvSpPr>
          <p:spPr>
            <a:xfrm>
              <a:off x="609480" y="1752480"/>
              <a:ext cx="3581640" cy="35816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23960" y="57150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ircumfere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4004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3733920" y="112716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 -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448240" y="525780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762120" y="2971800"/>
            <a:ext cx="3276360" cy="685800"/>
            <a:chOff x="762120" y="2971800"/>
            <a:chExt cx="3276360" cy="685800"/>
          </a:xfrm>
        </p:grpSpPr>
        <p:sp>
          <p:nvSpPr>
            <p:cNvPr id="921" name=""/>
            <p:cNvSpPr/>
            <p:nvPr/>
          </p:nvSpPr>
          <p:spPr>
            <a:xfrm>
              <a:off x="2285640" y="3504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62120" y="358128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71240" y="29718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838080" y="3657240"/>
            <a:ext cx="1523880" cy="689760"/>
            <a:chOff x="838080" y="3657240"/>
            <a:chExt cx="1523880" cy="689760"/>
          </a:xfrm>
        </p:grpSpPr>
        <p:sp>
          <p:nvSpPr>
            <p:cNvPr id="925" name=""/>
            <p:cNvSpPr/>
            <p:nvPr/>
          </p:nvSpPr>
          <p:spPr>
            <a:xfrm flipV="1">
              <a:off x="1828440" y="3657240"/>
              <a:ext cx="45720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8080" y="37656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en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191120" y="2324160"/>
            <a:ext cx="4419360" cy="1220400"/>
            <a:chOff x="4191120" y="2324160"/>
            <a:chExt cx="4419360" cy="1220400"/>
          </a:xfrm>
        </p:grpSpPr>
        <p:sp>
          <p:nvSpPr>
            <p:cNvPr id="928" name=""/>
            <p:cNvSpPr/>
            <p:nvPr/>
          </p:nvSpPr>
          <p:spPr>
            <a:xfrm>
              <a:off x="4191120" y="234648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5257800" y="2324160"/>
              <a:ext cx="3352680" cy="1220400"/>
              <a:chOff x="5257800" y="2324160"/>
              <a:chExt cx="3352680" cy="1220400"/>
            </a:xfrm>
          </p:grpSpPr>
          <p:sp>
            <p:nvSpPr>
              <p:cNvPr id="930" name=""/>
              <p:cNvSpPr/>
              <p:nvPr/>
            </p:nvSpPr>
            <p:spPr>
              <a:xfrm>
                <a:off x="5257800" y="2324160"/>
                <a:ext cx="335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ircumferenc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29480" y="2901960"/>
                <a:ext cx="220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295960" y="293364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3" name=""/>
          <p:cNvGrpSpPr/>
          <p:nvPr/>
        </p:nvGrpSpPr>
        <p:grpSpPr>
          <a:xfrm>
            <a:off x="5676840" y="3886200"/>
            <a:ext cx="1447920" cy="1373760"/>
            <a:chOff x="5676840" y="3886200"/>
            <a:chExt cx="1447920" cy="1373760"/>
          </a:xfrm>
        </p:grpSpPr>
        <p:sp>
          <p:nvSpPr>
            <p:cNvPr id="934" name=""/>
            <p:cNvSpPr/>
            <p:nvPr/>
          </p:nvSpPr>
          <p:spPr>
            <a:xfrm>
              <a:off x="5676840" y="4022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6210360" y="3886200"/>
              <a:ext cx="914400" cy="1373760"/>
              <a:chOff x="6210360" y="3886200"/>
              <a:chExt cx="914400" cy="1373760"/>
            </a:xfrm>
          </p:grpSpPr>
          <p:sp>
            <p:nvSpPr>
              <p:cNvPr id="936" name=""/>
              <p:cNvSpPr/>
              <p:nvPr/>
            </p:nvSpPr>
            <p:spPr>
              <a:xfrm>
                <a:off x="6210360" y="38862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00800" y="4495680"/>
                <a:ext cx="533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286320" y="45720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9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447920" y="182880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an irrational number –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 infinite decimal sequ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733920" y="112716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 -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916200" y="3429000"/>
            <a:ext cx="7308720" cy="3142080"/>
            <a:chOff x="916200" y="3429000"/>
            <a:chExt cx="7308720" cy="3142080"/>
          </a:xfrm>
        </p:grpSpPr>
        <p:sp>
          <p:nvSpPr>
            <p:cNvPr id="943" name=""/>
            <p:cNvSpPr/>
            <p:nvPr/>
          </p:nvSpPr>
          <p:spPr>
            <a:xfrm>
              <a:off x="1976400" y="3733920"/>
              <a:ext cx="62485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.1415926535897932384626433827950284197169399375105820974944592307816406286208998628034825 . 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16200" y="3429000"/>
              <a:ext cx="1058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533520" y="1522440"/>
            <a:ext cx="80769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fellow from Gree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forgot Pi’s last decimal pie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used electro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ollect mnemonic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he’s hooked and there is no releas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chael P. Masterson–Gibb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1523880" y="29401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3.1 4 1 5 9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38360" y="449568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ow I wish I could calculate Pi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49920" y="762120"/>
            <a:ext cx="116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3949920" y="762120"/>
            <a:ext cx="116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143000" y="2666880"/>
            <a:ext cx="6858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r, I bear a rhyme excelling              In mystic force, and magic spelling Celestial sprites elucidate                  All my own striving can’t relate          Or locate they who can cogitate          And so finally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Fi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685800" y="14000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circumference &amp; area of a circle having a radius of 8.4 f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2711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800600" y="3473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2)(3.14)(8.4)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76920" y="4235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6.28)(8.4)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76920" y="4997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52.752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876920" y="5759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2.8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80880" y="2666880"/>
            <a:ext cx="4114800" cy="3581640"/>
            <a:chOff x="380880" y="2666880"/>
            <a:chExt cx="4114800" cy="3581640"/>
          </a:xfrm>
        </p:grpSpPr>
        <p:sp>
          <p:nvSpPr>
            <p:cNvPr id="962" name=""/>
            <p:cNvSpPr/>
            <p:nvPr/>
          </p:nvSpPr>
          <p:spPr>
            <a:xfrm>
              <a:off x="1066680" y="2819520"/>
              <a:ext cx="3276720" cy="327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914400" y="2666880"/>
              <a:ext cx="3581280" cy="35816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16200000">
              <a:off x="2590920" y="3200040"/>
              <a:ext cx="228600" cy="2971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38280" y="4800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74320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38280" y="2895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0880" y="4167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6668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05040" y="403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 = 8.4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505320" y="21337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962520" y="2895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.14)(8.4ft)(8.4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48320" y="3657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.14)(70.56)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648320" y="4419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221.55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5181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21.6f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80880" y="2666880"/>
            <a:ext cx="4114800" cy="3581640"/>
            <a:chOff x="380880" y="2666880"/>
            <a:chExt cx="4114800" cy="3581640"/>
          </a:xfrm>
        </p:grpSpPr>
        <p:sp>
          <p:nvSpPr>
            <p:cNvPr id="979" name=""/>
            <p:cNvSpPr/>
            <p:nvPr/>
          </p:nvSpPr>
          <p:spPr>
            <a:xfrm>
              <a:off x="1066680" y="2819520"/>
              <a:ext cx="3276720" cy="327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2666880"/>
              <a:ext cx="3581280" cy="35816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6200000">
              <a:off x="2590920" y="3200040"/>
              <a:ext cx="228600" cy="2971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4800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4320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38280" y="2895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880" y="4167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06668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05040" y="40384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 = 8.4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3809880" y="13716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95480" y="2195640"/>
            <a:ext cx="57913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diameter, radius and circumference of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wo decimal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circumference and area of cir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60948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02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685800" y="152388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awn sprinkler sprays water 5ft in every direction. What is the area of the sprinkled law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5800" y="152388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awn sprinkler sprays water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5ft in every direc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What is the area of the sprinkled law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800" y="152388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awn sprinkler sprays water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5ft in every directio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What is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he area of the sprinkled law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3504960" cy="207972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4648320" y="402264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3.14)(5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48320" y="4861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3.14)(25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48320" y="569916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78.5ft</a:t>
            </a:r>
            <a:r>
              <a:rPr b="0" lang="en-US" sz="4000" spc="-1" strike="noStrike" baseline="30000">
                <a:solidFill>
                  <a:srgbClr val="00cc99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137160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85800" y="19051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5ft in every direction (circle – radius 5f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5800" y="31240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:      Area of l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31240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1905120" y="4267080"/>
            <a:ext cx="1981080" cy="1981440"/>
            <a:chOff x="1905120" y="4267080"/>
            <a:chExt cx="1981080" cy="1981440"/>
          </a:xfrm>
        </p:grpSpPr>
        <p:sp>
          <p:nvSpPr>
            <p:cNvPr id="1004" name=""/>
            <p:cNvSpPr/>
            <p:nvPr/>
          </p:nvSpPr>
          <p:spPr>
            <a:xfrm>
              <a:off x="2743200" y="48006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905120" y="4267080"/>
              <a:ext cx="198108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743200" y="5257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95480" y="5334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027880" y="4937040"/>
              <a:ext cx="67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19810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lar/Spheric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3267000" y="3486240"/>
            <a:ext cx="5081760" cy="2793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1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1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Pythagorean theorem to solve problems involving right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73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2743200" y="205740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area of a triangle given the base and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700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3" name=""/>
          <p:cNvGraphicFramePr/>
          <p:nvPr/>
        </p:nvGraphicFramePr>
        <p:xfrm>
          <a:off x="4191120" y="3402000"/>
          <a:ext cx="4114800" cy="306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402000"/>
                    <a:ext cx="41148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3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2743200" y="20574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area of a trapezoid given the height and the lengths of the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86200" y="700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4724280" y="3629160"/>
          <a:ext cx="3810240" cy="2842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629160"/>
                    <a:ext cx="3810240" cy="28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5780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9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diameter, radius, and circumference of a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203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57800" cy="3257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62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valu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wo decim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26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5257800" cy="27493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2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circumference and area of a circle given the radius or di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32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4191120" y="3352680"/>
            <a:ext cx="4531680" cy="2901960"/>
            <a:chOff x="4191120" y="3352680"/>
            <a:chExt cx="4531680" cy="2901960"/>
          </a:xfrm>
        </p:grpSpPr>
        <p:sp>
          <p:nvSpPr>
            <p:cNvPr id="260" name=""/>
            <p:cNvSpPr/>
            <p:nvPr/>
          </p:nvSpPr>
          <p:spPr>
            <a:xfrm>
              <a:off x="4506840" y="5745240"/>
              <a:ext cx="4125600" cy="407880"/>
            </a:xfrm>
            <a:custGeom>
              <a:avLst/>
              <a:gdLst/>
              <a:ahLst/>
              <a:rect l="l" t="t" r="r" b="b"/>
              <a:pathLst>
                <a:path w="5199" h="516">
                  <a:moveTo>
                    <a:pt x="0" y="0"/>
                  </a:moveTo>
                  <a:lnTo>
                    <a:pt x="0" y="516"/>
                  </a:lnTo>
                  <a:lnTo>
                    <a:pt x="5199" y="516"/>
                  </a:lnTo>
                  <a:lnTo>
                    <a:pt x="519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91120" y="3352680"/>
              <a:ext cx="3070080" cy="1246320"/>
            </a:xfrm>
            <a:custGeom>
              <a:avLst/>
              <a:gdLst/>
              <a:ahLst/>
              <a:rect l="l" t="t" r="r" b="b"/>
              <a:pathLst>
                <a:path w="3868" h="1570">
                  <a:moveTo>
                    <a:pt x="162" y="1570"/>
                  </a:moveTo>
                  <a:lnTo>
                    <a:pt x="1941" y="312"/>
                  </a:lnTo>
                  <a:lnTo>
                    <a:pt x="3716" y="1570"/>
                  </a:lnTo>
                  <a:lnTo>
                    <a:pt x="3868" y="1357"/>
                  </a:lnTo>
                  <a:lnTo>
                    <a:pt x="1941" y="0"/>
                  </a:lnTo>
                  <a:lnTo>
                    <a:pt x="0" y="1357"/>
                  </a:lnTo>
                  <a:lnTo>
                    <a:pt x="162" y="1570"/>
                  </a:lnTo>
                  <a:lnTo>
                    <a:pt x="162" y="15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99000" y="4192560"/>
              <a:ext cx="2279160" cy="1552680"/>
            </a:xfrm>
            <a:custGeom>
              <a:avLst/>
              <a:gdLst/>
              <a:ahLst/>
              <a:rect l="l" t="t" r="r" b="b"/>
              <a:pathLst>
                <a:path w="2872" h="1954">
                  <a:moveTo>
                    <a:pt x="2872" y="1937"/>
                  </a:moveTo>
                  <a:lnTo>
                    <a:pt x="2872" y="99"/>
                  </a:lnTo>
                  <a:lnTo>
                    <a:pt x="2756" y="0"/>
                  </a:lnTo>
                  <a:lnTo>
                    <a:pt x="99" y="0"/>
                  </a:lnTo>
                  <a:lnTo>
                    <a:pt x="0" y="99"/>
                  </a:lnTo>
                  <a:lnTo>
                    <a:pt x="0" y="1937"/>
                  </a:lnTo>
                  <a:lnTo>
                    <a:pt x="266" y="1937"/>
                  </a:lnTo>
                  <a:lnTo>
                    <a:pt x="266" y="247"/>
                  </a:lnTo>
                  <a:lnTo>
                    <a:pt x="2608" y="247"/>
                  </a:lnTo>
                  <a:lnTo>
                    <a:pt x="2608" y="1954"/>
                  </a:lnTo>
                  <a:lnTo>
                    <a:pt x="2872" y="1937"/>
                  </a:lnTo>
                  <a:lnTo>
                    <a:pt x="2872" y="19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19480" y="3851280"/>
              <a:ext cx="210960" cy="1879560"/>
            </a:xfrm>
            <a:custGeom>
              <a:avLst/>
              <a:gdLst/>
              <a:ahLst/>
              <a:rect l="l" t="t" r="r" b="b"/>
              <a:pathLst>
                <a:path w="266" h="2369">
                  <a:moveTo>
                    <a:pt x="0" y="168"/>
                  </a:moveTo>
                  <a:lnTo>
                    <a:pt x="0" y="2369"/>
                  </a:lnTo>
                  <a:lnTo>
                    <a:pt x="266" y="2369"/>
                  </a:lnTo>
                  <a:lnTo>
                    <a:pt x="266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3480" y="3851280"/>
              <a:ext cx="212400" cy="1879560"/>
            </a:xfrm>
            <a:custGeom>
              <a:avLst/>
              <a:gdLst/>
              <a:ahLst/>
              <a:rect l="l" t="t" r="r" b="b"/>
              <a:pathLst>
                <a:path w="268" h="2369">
                  <a:moveTo>
                    <a:pt x="0" y="0"/>
                  </a:moveTo>
                  <a:lnTo>
                    <a:pt x="0" y="2369"/>
                  </a:lnTo>
                  <a:lnTo>
                    <a:pt x="268" y="2369"/>
                  </a:lnTo>
                  <a:lnTo>
                    <a:pt x="268" y="1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24240" y="4599000"/>
              <a:ext cx="1226880" cy="212760"/>
            </a:xfrm>
            <a:custGeom>
              <a:avLst/>
              <a:gdLst/>
              <a:ahLst/>
              <a:rect l="l" t="t" r="r" b="b"/>
              <a:pathLst>
                <a:path w="1545" h="268">
                  <a:moveTo>
                    <a:pt x="0" y="268"/>
                  </a:moveTo>
                  <a:lnTo>
                    <a:pt x="0" y="0"/>
                  </a:lnTo>
                  <a:lnTo>
                    <a:pt x="1545" y="0"/>
                  </a:lnTo>
                  <a:lnTo>
                    <a:pt x="1545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24240" y="5214960"/>
              <a:ext cx="1226880" cy="212760"/>
            </a:xfrm>
            <a:custGeom>
              <a:avLst/>
              <a:gdLst/>
              <a:ahLst/>
              <a:rect l="l" t="t" r="r" b="b"/>
              <a:pathLst>
                <a:path w="1545" h="268">
                  <a:moveTo>
                    <a:pt x="0" y="268"/>
                  </a:moveTo>
                  <a:lnTo>
                    <a:pt x="0" y="0"/>
                  </a:lnTo>
                  <a:lnTo>
                    <a:pt x="1545" y="0"/>
                  </a:lnTo>
                  <a:lnTo>
                    <a:pt x="1545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7720" y="3560760"/>
              <a:ext cx="210600" cy="1146240"/>
            </a:xfrm>
            <a:custGeom>
              <a:avLst/>
              <a:gdLst/>
              <a:ahLst/>
              <a:rect l="l" t="t" r="r" b="b"/>
              <a:pathLst>
                <a:path w="266" h="1443">
                  <a:moveTo>
                    <a:pt x="0" y="1443"/>
                  </a:moveTo>
                  <a:lnTo>
                    <a:pt x="0" y="166"/>
                  </a:lnTo>
                  <a:lnTo>
                    <a:pt x="266" y="0"/>
                  </a:lnTo>
                  <a:lnTo>
                    <a:pt x="266" y="1443"/>
                  </a:lnTo>
                  <a:lnTo>
                    <a:pt x="0" y="1443"/>
                  </a:lnTo>
                  <a:lnTo>
                    <a:pt x="0" y="14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37040" y="3560760"/>
              <a:ext cx="210960" cy="1146240"/>
            </a:xfrm>
            <a:custGeom>
              <a:avLst/>
              <a:gdLst/>
              <a:ahLst/>
              <a:rect l="l" t="t" r="r" b="b"/>
              <a:pathLst>
                <a:path w="266" h="1443">
                  <a:moveTo>
                    <a:pt x="0" y="1443"/>
                  </a:moveTo>
                  <a:lnTo>
                    <a:pt x="0" y="0"/>
                  </a:lnTo>
                  <a:lnTo>
                    <a:pt x="266" y="166"/>
                  </a:lnTo>
                  <a:lnTo>
                    <a:pt x="266" y="1443"/>
                  </a:lnTo>
                  <a:lnTo>
                    <a:pt x="0" y="1443"/>
                  </a:lnTo>
                  <a:lnTo>
                    <a:pt x="0" y="14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7720" y="5307120"/>
              <a:ext cx="210600" cy="420480"/>
            </a:xfrm>
            <a:custGeom>
              <a:avLst/>
              <a:gdLst/>
              <a:ahLst/>
              <a:rect l="l" t="t" r="r" b="b"/>
              <a:pathLst>
                <a:path w="266" h="530">
                  <a:moveTo>
                    <a:pt x="0" y="53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530"/>
                  </a:lnTo>
                  <a:lnTo>
                    <a:pt x="0" y="53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37040" y="5307120"/>
              <a:ext cx="210960" cy="420480"/>
            </a:xfrm>
            <a:custGeom>
              <a:avLst/>
              <a:gdLst/>
              <a:ahLst/>
              <a:rect l="l" t="t" r="r" b="b"/>
              <a:pathLst>
                <a:path w="266" h="530">
                  <a:moveTo>
                    <a:pt x="0" y="530"/>
                  </a:moveTo>
                  <a:lnTo>
                    <a:pt x="0" y="0"/>
                  </a:lnTo>
                  <a:lnTo>
                    <a:pt x="266" y="0"/>
                  </a:lnTo>
                  <a:lnTo>
                    <a:pt x="266" y="530"/>
                  </a:lnTo>
                  <a:lnTo>
                    <a:pt x="0" y="53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98840" y="5627520"/>
              <a:ext cx="4323960" cy="627120"/>
            </a:xfrm>
            <a:custGeom>
              <a:avLst/>
              <a:gdLst/>
              <a:ahLst/>
              <a:rect l="l" t="t" r="r" b="b"/>
              <a:pathLst>
                <a:path w="5448" h="791">
                  <a:moveTo>
                    <a:pt x="0" y="0"/>
                  </a:moveTo>
                  <a:lnTo>
                    <a:pt x="0" y="791"/>
                  </a:lnTo>
                  <a:lnTo>
                    <a:pt x="251" y="664"/>
                  </a:lnTo>
                  <a:lnTo>
                    <a:pt x="251" y="264"/>
                  </a:lnTo>
                  <a:lnTo>
                    <a:pt x="5317" y="264"/>
                  </a:lnTo>
                  <a:lnTo>
                    <a:pt x="544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98840" y="5627520"/>
              <a:ext cx="4323960" cy="627120"/>
            </a:xfrm>
            <a:custGeom>
              <a:avLst/>
              <a:gdLst/>
              <a:ahLst/>
              <a:rect l="l" t="t" r="r" b="b"/>
              <a:pathLst>
                <a:path w="5448" h="791">
                  <a:moveTo>
                    <a:pt x="5448" y="791"/>
                  </a:moveTo>
                  <a:lnTo>
                    <a:pt x="5448" y="0"/>
                  </a:lnTo>
                  <a:lnTo>
                    <a:pt x="5199" y="131"/>
                  </a:lnTo>
                  <a:lnTo>
                    <a:pt x="5199" y="531"/>
                  </a:lnTo>
                  <a:lnTo>
                    <a:pt x="131" y="531"/>
                  </a:lnTo>
                  <a:lnTo>
                    <a:pt x="0" y="791"/>
                  </a:lnTo>
                  <a:lnTo>
                    <a:pt x="5448" y="791"/>
                  </a:lnTo>
                  <a:lnTo>
                    <a:pt x="5448" y="7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73760" y="4599000"/>
              <a:ext cx="1752120" cy="1131840"/>
            </a:xfrm>
            <a:custGeom>
              <a:avLst/>
              <a:gdLst/>
              <a:ahLst/>
              <a:rect l="l" t="t" r="r" b="b"/>
              <a:pathLst>
                <a:path w="2209" h="1426">
                  <a:moveTo>
                    <a:pt x="0" y="0"/>
                  </a:moveTo>
                  <a:lnTo>
                    <a:pt x="2209" y="0"/>
                  </a:lnTo>
                  <a:lnTo>
                    <a:pt x="2209" y="1426"/>
                  </a:lnTo>
                  <a:lnTo>
                    <a:pt x="1943" y="1426"/>
                  </a:lnTo>
                  <a:lnTo>
                    <a:pt x="1943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76880" y="4707000"/>
              <a:ext cx="209160" cy="1023840"/>
            </a:xfrm>
            <a:custGeom>
              <a:avLst/>
              <a:gdLst/>
              <a:ahLst/>
              <a:rect l="l" t="t" r="r" b="b"/>
              <a:pathLst>
                <a:path w="264" h="1291">
                  <a:moveTo>
                    <a:pt x="0" y="0"/>
                  </a:moveTo>
                  <a:lnTo>
                    <a:pt x="0" y="1291"/>
                  </a:lnTo>
                  <a:lnTo>
                    <a:pt x="264" y="1291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86560" y="4707000"/>
              <a:ext cx="207720" cy="1023840"/>
            </a:xfrm>
            <a:custGeom>
              <a:avLst/>
              <a:gdLst/>
              <a:ahLst/>
              <a:rect l="l" t="t" r="r" b="b"/>
              <a:pathLst>
                <a:path w="263" h="1291">
                  <a:moveTo>
                    <a:pt x="0" y="0"/>
                  </a:moveTo>
                  <a:lnTo>
                    <a:pt x="0" y="1291"/>
                  </a:lnTo>
                  <a:lnTo>
                    <a:pt x="263" y="1291"/>
                  </a:lnTo>
                  <a:lnTo>
                    <a:pt x="26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94440" y="4707000"/>
              <a:ext cx="207720" cy="1023840"/>
            </a:xfrm>
            <a:custGeom>
              <a:avLst/>
              <a:gdLst/>
              <a:ahLst/>
              <a:rect l="l" t="t" r="r" b="b"/>
              <a:pathLst>
                <a:path w="263" h="1291">
                  <a:moveTo>
                    <a:pt x="0" y="0"/>
                  </a:moveTo>
                  <a:lnTo>
                    <a:pt x="0" y="1291"/>
                  </a:lnTo>
                  <a:lnTo>
                    <a:pt x="263" y="1291"/>
                  </a:lnTo>
                  <a:lnTo>
                    <a:pt x="26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 txBox="1"/>
          <p:nvPr/>
        </p:nvSpPr>
        <p:spPr>
          <a:xfrm>
            <a:off x="762120" y="1752480"/>
            <a:ext cx="6400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339933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he Pythagorean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50000">
                    <a:srgbClr val="339933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339933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heorem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33cc33"/>
                  </a:gs>
                  <a:gs pos="50000">
                    <a:srgbClr val="339933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4400" y="4038480"/>
            <a:ext cx="2057040" cy="2093760"/>
            <a:chOff x="914400" y="4038480"/>
            <a:chExt cx="2057040" cy="2093760"/>
          </a:xfrm>
        </p:grpSpPr>
        <p:sp>
          <p:nvSpPr>
            <p:cNvPr id="279" name=""/>
            <p:cNvSpPr/>
            <p:nvPr/>
          </p:nvSpPr>
          <p:spPr>
            <a:xfrm>
              <a:off x="970560" y="5212080"/>
              <a:ext cx="700200" cy="849960"/>
            </a:xfrm>
            <a:custGeom>
              <a:avLst/>
              <a:gdLst/>
              <a:ahLst/>
              <a:rect l="l" t="t" r="r" b="b"/>
              <a:pathLst>
                <a:path w="598" h="924">
                  <a:moveTo>
                    <a:pt x="50" y="0"/>
                  </a:moveTo>
                  <a:lnTo>
                    <a:pt x="43" y="35"/>
                  </a:lnTo>
                  <a:lnTo>
                    <a:pt x="35" y="61"/>
                  </a:lnTo>
                  <a:lnTo>
                    <a:pt x="26" y="88"/>
                  </a:lnTo>
                  <a:lnTo>
                    <a:pt x="16" y="122"/>
                  </a:lnTo>
                  <a:lnTo>
                    <a:pt x="16" y="426"/>
                  </a:lnTo>
                  <a:lnTo>
                    <a:pt x="11" y="459"/>
                  </a:lnTo>
                  <a:lnTo>
                    <a:pt x="6" y="487"/>
                  </a:lnTo>
                  <a:lnTo>
                    <a:pt x="1" y="515"/>
                  </a:lnTo>
                  <a:lnTo>
                    <a:pt x="0" y="547"/>
                  </a:lnTo>
                  <a:lnTo>
                    <a:pt x="4" y="592"/>
                  </a:lnTo>
                  <a:lnTo>
                    <a:pt x="11" y="630"/>
                  </a:lnTo>
                  <a:lnTo>
                    <a:pt x="16" y="669"/>
                  </a:lnTo>
                  <a:lnTo>
                    <a:pt x="16" y="713"/>
                  </a:lnTo>
                  <a:lnTo>
                    <a:pt x="581" y="924"/>
                  </a:lnTo>
                  <a:lnTo>
                    <a:pt x="582" y="918"/>
                  </a:lnTo>
                  <a:lnTo>
                    <a:pt x="584" y="913"/>
                  </a:lnTo>
                  <a:lnTo>
                    <a:pt x="585" y="908"/>
                  </a:lnTo>
                  <a:lnTo>
                    <a:pt x="587" y="902"/>
                  </a:lnTo>
                  <a:lnTo>
                    <a:pt x="585" y="888"/>
                  </a:lnTo>
                  <a:lnTo>
                    <a:pt x="582" y="877"/>
                  </a:lnTo>
                  <a:lnTo>
                    <a:pt x="579" y="865"/>
                  </a:lnTo>
                  <a:lnTo>
                    <a:pt x="577" y="851"/>
                  </a:lnTo>
                  <a:lnTo>
                    <a:pt x="577" y="769"/>
                  </a:lnTo>
                  <a:lnTo>
                    <a:pt x="577" y="695"/>
                  </a:lnTo>
                  <a:lnTo>
                    <a:pt x="577" y="621"/>
                  </a:lnTo>
                  <a:lnTo>
                    <a:pt x="577" y="537"/>
                  </a:lnTo>
                  <a:lnTo>
                    <a:pt x="590" y="478"/>
                  </a:lnTo>
                  <a:lnTo>
                    <a:pt x="597" y="425"/>
                  </a:lnTo>
                  <a:lnTo>
                    <a:pt x="598" y="371"/>
                  </a:lnTo>
                  <a:lnTo>
                    <a:pt x="595" y="310"/>
                  </a:lnTo>
                  <a:lnTo>
                    <a:pt x="595" y="103"/>
                  </a:lnTo>
                  <a:lnTo>
                    <a:pt x="395" y="103"/>
                  </a:lnTo>
                  <a:lnTo>
                    <a:pt x="370" y="104"/>
                  </a:lnTo>
                  <a:lnTo>
                    <a:pt x="346" y="104"/>
                  </a:lnTo>
                  <a:lnTo>
                    <a:pt x="323" y="102"/>
                  </a:lnTo>
                  <a:lnTo>
                    <a:pt x="301" y="99"/>
                  </a:lnTo>
                  <a:lnTo>
                    <a:pt x="279" y="95"/>
                  </a:lnTo>
                  <a:lnTo>
                    <a:pt x="258" y="90"/>
                  </a:lnTo>
                  <a:lnTo>
                    <a:pt x="238" y="84"/>
                  </a:lnTo>
                  <a:lnTo>
                    <a:pt x="218" y="77"/>
                  </a:lnTo>
                  <a:lnTo>
                    <a:pt x="198" y="69"/>
                  </a:lnTo>
                  <a:lnTo>
                    <a:pt x="178" y="61"/>
                  </a:lnTo>
                  <a:lnTo>
                    <a:pt x="158" y="52"/>
                  </a:lnTo>
                  <a:lnTo>
                    <a:pt x="137" y="43"/>
                  </a:lnTo>
                  <a:lnTo>
                    <a:pt x="117" y="32"/>
                  </a:lnTo>
                  <a:lnTo>
                    <a:pt x="96" y="22"/>
                  </a:lnTo>
                  <a:lnTo>
                    <a:pt x="73" y="1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9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30240" y="4122720"/>
              <a:ext cx="217800" cy="198720"/>
            </a:xfrm>
            <a:custGeom>
              <a:avLst/>
              <a:gdLst/>
              <a:ahLst/>
              <a:rect l="l" t="t" r="r" b="b"/>
              <a:pathLst>
                <a:path w="186" h="218">
                  <a:moveTo>
                    <a:pt x="186" y="74"/>
                  </a:moveTo>
                  <a:lnTo>
                    <a:pt x="178" y="61"/>
                  </a:lnTo>
                  <a:lnTo>
                    <a:pt x="171" y="47"/>
                  </a:lnTo>
                  <a:lnTo>
                    <a:pt x="164" y="36"/>
                  </a:lnTo>
                  <a:lnTo>
                    <a:pt x="156" y="24"/>
                  </a:lnTo>
                  <a:lnTo>
                    <a:pt x="147" y="14"/>
                  </a:lnTo>
                  <a:lnTo>
                    <a:pt x="136" y="7"/>
                  </a:lnTo>
                  <a:lnTo>
                    <a:pt x="125" y="2"/>
                  </a:lnTo>
                  <a:lnTo>
                    <a:pt x="111" y="0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7" y="1"/>
                  </a:lnTo>
                  <a:lnTo>
                    <a:pt x="71" y="3"/>
                  </a:lnTo>
                  <a:lnTo>
                    <a:pt x="62" y="6"/>
                  </a:lnTo>
                  <a:lnTo>
                    <a:pt x="56" y="9"/>
                  </a:lnTo>
                  <a:lnTo>
                    <a:pt x="47" y="14"/>
                  </a:lnTo>
                  <a:lnTo>
                    <a:pt x="35" y="24"/>
                  </a:lnTo>
                  <a:lnTo>
                    <a:pt x="24" y="37"/>
                  </a:lnTo>
                  <a:lnTo>
                    <a:pt x="18" y="50"/>
                  </a:lnTo>
                  <a:lnTo>
                    <a:pt x="13" y="63"/>
                  </a:lnTo>
                  <a:lnTo>
                    <a:pt x="9" y="78"/>
                  </a:lnTo>
                  <a:lnTo>
                    <a:pt x="7" y="94"/>
                  </a:lnTo>
                  <a:lnTo>
                    <a:pt x="4" y="112"/>
                  </a:lnTo>
                  <a:lnTo>
                    <a:pt x="0" y="129"/>
                  </a:lnTo>
                  <a:lnTo>
                    <a:pt x="0" y="182"/>
                  </a:lnTo>
                  <a:lnTo>
                    <a:pt x="4" y="191"/>
                  </a:lnTo>
                  <a:lnTo>
                    <a:pt x="7" y="200"/>
                  </a:lnTo>
                  <a:lnTo>
                    <a:pt x="12" y="209"/>
                  </a:lnTo>
                  <a:lnTo>
                    <a:pt x="16" y="218"/>
                  </a:lnTo>
                  <a:lnTo>
                    <a:pt x="41" y="198"/>
                  </a:lnTo>
                  <a:lnTo>
                    <a:pt x="60" y="179"/>
                  </a:lnTo>
                  <a:lnTo>
                    <a:pt x="79" y="158"/>
                  </a:lnTo>
                  <a:lnTo>
                    <a:pt x="96" y="138"/>
                  </a:lnTo>
                  <a:lnTo>
                    <a:pt x="114" y="120"/>
                  </a:lnTo>
                  <a:lnTo>
                    <a:pt x="134" y="103"/>
                  </a:lnTo>
                  <a:lnTo>
                    <a:pt x="157" y="88"/>
                  </a:lnTo>
                  <a:lnTo>
                    <a:pt x="186" y="7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12680" y="4200120"/>
              <a:ext cx="201240" cy="6588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135" y="47"/>
                  </a:moveTo>
                  <a:lnTo>
                    <a:pt x="142" y="46"/>
                  </a:lnTo>
                  <a:lnTo>
                    <a:pt x="148" y="45"/>
                  </a:lnTo>
                  <a:lnTo>
                    <a:pt x="152" y="43"/>
                  </a:lnTo>
                  <a:lnTo>
                    <a:pt x="157" y="38"/>
                  </a:lnTo>
                  <a:lnTo>
                    <a:pt x="162" y="35"/>
                  </a:lnTo>
                  <a:lnTo>
                    <a:pt x="165" y="30"/>
                  </a:lnTo>
                  <a:lnTo>
                    <a:pt x="170" y="24"/>
                  </a:lnTo>
                  <a:lnTo>
                    <a:pt x="173" y="20"/>
                  </a:lnTo>
                  <a:lnTo>
                    <a:pt x="165" y="13"/>
                  </a:lnTo>
                  <a:lnTo>
                    <a:pt x="158" y="8"/>
                  </a:lnTo>
                  <a:lnTo>
                    <a:pt x="149" y="4"/>
                  </a:lnTo>
                  <a:lnTo>
                    <a:pt x="140" y="0"/>
                  </a:lnTo>
                  <a:lnTo>
                    <a:pt x="69" y="0"/>
                  </a:lnTo>
                  <a:lnTo>
                    <a:pt x="57" y="6"/>
                  </a:lnTo>
                  <a:lnTo>
                    <a:pt x="45" y="13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19" y="37"/>
                  </a:lnTo>
                  <a:lnTo>
                    <a:pt x="12" y="47"/>
                  </a:lnTo>
                  <a:lnTo>
                    <a:pt x="6" y="59"/>
                  </a:lnTo>
                  <a:lnTo>
                    <a:pt x="0" y="72"/>
                  </a:lnTo>
                  <a:lnTo>
                    <a:pt x="12" y="65"/>
                  </a:lnTo>
                  <a:lnTo>
                    <a:pt x="23" y="59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8" y="50"/>
                  </a:lnTo>
                  <a:lnTo>
                    <a:pt x="69" y="49"/>
                  </a:lnTo>
                  <a:lnTo>
                    <a:pt x="82" y="47"/>
                  </a:lnTo>
                  <a:lnTo>
                    <a:pt x="96" y="47"/>
                  </a:lnTo>
                  <a:lnTo>
                    <a:pt x="102" y="47"/>
                  </a:lnTo>
                  <a:lnTo>
                    <a:pt x="106" y="47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20" y="47"/>
                  </a:lnTo>
                  <a:lnTo>
                    <a:pt x="125" y="47"/>
                  </a:lnTo>
                  <a:lnTo>
                    <a:pt x="129" y="47"/>
                  </a:lnTo>
                  <a:lnTo>
                    <a:pt x="135" y="4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88560" y="4424760"/>
              <a:ext cx="218160" cy="619920"/>
            </a:xfrm>
            <a:custGeom>
              <a:avLst/>
              <a:gdLst/>
              <a:ahLst/>
              <a:rect l="l" t="t" r="r" b="b"/>
              <a:pathLst>
                <a:path w="185" h="675">
                  <a:moveTo>
                    <a:pt x="11" y="0"/>
                  </a:moveTo>
                  <a:lnTo>
                    <a:pt x="0" y="45"/>
                  </a:lnTo>
                  <a:lnTo>
                    <a:pt x="17" y="111"/>
                  </a:lnTo>
                  <a:lnTo>
                    <a:pt x="33" y="172"/>
                  </a:lnTo>
                  <a:lnTo>
                    <a:pt x="47" y="228"/>
                  </a:lnTo>
                  <a:lnTo>
                    <a:pt x="59" y="284"/>
                  </a:lnTo>
                  <a:lnTo>
                    <a:pt x="68" y="339"/>
                  </a:lnTo>
                  <a:lnTo>
                    <a:pt x="73" y="397"/>
                  </a:lnTo>
                  <a:lnTo>
                    <a:pt x="76" y="459"/>
                  </a:lnTo>
                  <a:lnTo>
                    <a:pt x="72" y="526"/>
                  </a:lnTo>
                  <a:lnTo>
                    <a:pt x="72" y="675"/>
                  </a:lnTo>
                  <a:lnTo>
                    <a:pt x="85" y="675"/>
                  </a:lnTo>
                  <a:lnTo>
                    <a:pt x="98" y="675"/>
                  </a:lnTo>
                  <a:lnTo>
                    <a:pt x="108" y="674"/>
                  </a:lnTo>
                  <a:lnTo>
                    <a:pt x="118" y="674"/>
                  </a:lnTo>
                  <a:lnTo>
                    <a:pt x="130" y="674"/>
                  </a:lnTo>
                  <a:lnTo>
                    <a:pt x="140" y="674"/>
                  </a:lnTo>
                  <a:lnTo>
                    <a:pt x="152" y="674"/>
                  </a:lnTo>
                  <a:lnTo>
                    <a:pt x="165" y="675"/>
                  </a:lnTo>
                  <a:lnTo>
                    <a:pt x="168" y="635"/>
                  </a:lnTo>
                  <a:lnTo>
                    <a:pt x="174" y="600"/>
                  </a:lnTo>
                  <a:lnTo>
                    <a:pt x="181" y="566"/>
                  </a:lnTo>
                  <a:lnTo>
                    <a:pt x="185" y="526"/>
                  </a:lnTo>
                  <a:lnTo>
                    <a:pt x="185" y="34"/>
                  </a:lnTo>
                  <a:lnTo>
                    <a:pt x="173" y="39"/>
                  </a:lnTo>
                  <a:lnTo>
                    <a:pt x="161" y="46"/>
                  </a:lnTo>
                  <a:lnTo>
                    <a:pt x="151" y="53"/>
                  </a:lnTo>
                  <a:lnTo>
                    <a:pt x="141" y="60"/>
                  </a:lnTo>
                  <a:lnTo>
                    <a:pt x="131" y="67"/>
                  </a:lnTo>
                  <a:lnTo>
                    <a:pt x="121" y="73"/>
                  </a:lnTo>
                  <a:lnTo>
                    <a:pt x="108" y="76"/>
                  </a:lnTo>
                  <a:lnTo>
                    <a:pt x="94" y="77"/>
                  </a:lnTo>
                  <a:lnTo>
                    <a:pt x="80" y="75"/>
                  </a:lnTo>
                  <a:lnTo>
                    <a:pt x="69" y="68"/>
                  </a:lnTo>
                  <a:lnTo>
                    <a:pt x="59" y="59"/>
                  </a:lnTo>
                  <a:lnTo>
                    <a:pt x="49" y="48"/>
                  </a:lnTo>
                  <a:lnTo>
                    <a:pt x="40" y="35"/>
                  </a:lnTo>
                  <a:lnTo>
                    <a:pt x="32" y="21"/>
                  </a:lnTo>
                  <a:lnTo>
                    <a:pt x="22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68480" y="4168800"/>
              <a:ext cx="775440" cy="1760760"/>
            </a:xfrm>
            <a:custGeom>
              <a:avLst/>
              <a:gdLst/>
              <a:ahLst/>
              <a:rect l="l" t="t" r="r" b="b"/>
              <a:pathLst>
                <a:path w="661" h="1912">
                  <a:moveTo>
                    <a:pt x="616" y="0"/>
                  </a:moveTo>
                  <a:lnTo>
                    <a:pt x="620" y="22"/>
                  </a:lnTo>
                  <a:lnTo>
                    <a:pt x="623" y="44"/>
                  </a:lnTo>
                  <a:lnTo>
                    <a:pt x="626" y="63"/>
                  </a:lnTo>
                  <a:lnTo>
                    <a:pt x="630" y="82"/>
                  </a:lnTo>
                  <a:lnTo>
                    <a:pt x="635" y="100"/>
                  </a:lnTo>
                  <a:lnTo>
                    <a:pt x="641" y="118"/>
                  </a:lnTo>
                  <a:lnTo>
                    <a:pt x="649" y="136"/>
                  </a:lnTo>
                  <a:lnTo>
                    <a:pt x="661" y="155"/>
                  </a:lnTo>
                  <a:lnTo>
                    <a:pt x="641" y="176"/>
                  </a:lnTo>
                  <a:lnTo>
                    <a:pt x="623" y="196"/>
                  </a:lnTo>
                  <a:lnTo>
                    <a:pt x="603" y="214"/>
                  </a:lnTo>
                  <a:lnTo>
                    <a:pt x="585" y="231"/>
                  </a:lnTo>
                  <a:lnTo>
                    <a:pt x="567" y="249"/>
                  </a:lnTo>
                  <a:lnTo>
                    <a:pt x="548" y="265"/>
                  </a:lnTo>
                  <a:lnTo>
                    <a:pt x="530" y="281"/>
                  </a:lnTo>
                  <a:lnTo>
                    <a:pt x="512" y="297"/>
                  </a:lnTo>
                  <a:lnTo>
                    <a:pt x="494" y="312"/>
                  </a:lnTo>
                  <a:lnTo>
                    <a:pt x="476" y="328"/>
                  </a:lnTo>
                  <a:lnTo>
                    <a:pt x="457" y="344"/>
                  </a:lnTo>
                  <a:lnTo>
                    <a:pt x="439" y="362"/>
                  </a:lnTo>
                  <a:lnTo>
                    <a:pt x="420" y="379"/>
                  </a:lnTo>
                  <a:lnTo>
                    <a:pt x="401" y="397"/>
                  </a:lnTo>
                  <a:lnTo>
                    <a:pt x="382" y="416"/>
                  </a:lnTo>
                  <a:lnTo>
                    <a:pt x="363" y="436"/>
                  </a:lnTo>
                  <a:lnTo>
                    <a:pt x="334" y="470"/>
                  </a:lnTo>
                  <a:lnTo>
                    <a:pt x="311" y="502"/>
                  </a:lnTo>
                  <a:lnTo>
                    <a:pt x="294" y="533"/>
                  </a:lnTo>
                  <a:lnTo>
                    <a:pt x="280" y="565"/>
                  </a:lnTo>
                  <a:lnTo>
                    <a:pt x="272" y="598"/>
                  </a:lnTo>
                  <a:lnTo>
                    <a:pt x="266" y="635"/>
                  </a:lnTo>
                  <a:lnTo>
                    <a:pt x="264" y="674"/>
                  </a:lnTo>
                  <a:lnTo>
                    <a:pt x="262" y="719"/>
                  </a:lnTo>
                  <a:lnTo>
                    <a:pt x="265" y="769"/>
                  </a:lnTo>
                  <a:lnTo>
                    <a:pt x="269" y="815"/>
                  </a:lnTo>
                  <a:lnTo>
                    <a:pt x="276" y="857"/>
                  </a:lnTo>
                  <a:lnTo>
                    <a:pt x="285" y="897"/>
                  </a:lnTo>
                  <a:lnTo>
                    <a:pt x="294" y="938"/>
                  </a:lnTo>
                  <a:lnTo>
                    <a:pt x="300" y="979"/>
                  </a:lnTo>
                  <a:lnTo>
                    <a:pt x="305" y="1024"/>
                  </a:lnTo>
                  <a:lnTo>
                    <a:pt x="307" y="1075"/>
                  </a:lnTo>
                  <a:lnTo>
                    <a:pt x="306" y="1090"/>
                  </a:lnTo>
                  <a:lnTo>
                    <a:pt x="302" y="1103"/>
                  </a:lnTo>
                  <a:lnTo>
                    <a:pt x="295" y="1116"/>
                  </a:lnTo>
                  <a:lnTo>
                    <a:pt x="287" y="1126"/>
                  </a:lnTo>
                  <a:lnTo>
                    <a:pt x="277" y="1138"/>
                  </a:lnTo>
                  <a:lnTo>
                    <a:pt x="267" y="1148"/>
                  </a:lnTo>
                  <a:lnTo>
                    <a:pt x="257" y="1160"/>
                  </a:lnTo>
                  <a:lnTo>
                    <a:pt x="246" y="1171"/>
                  </a:lnTo>
                  <a:lnTo>
                    <a:pt x="238" y="1185"/>
                  </a:lnTo>
                  <a:lnTo>
                    <a:pt x="237" y="1199"/>
                  </a:lnTo>
                  <a:lnTo>
                    <a:pt x="238" y="1213"/>
                  </a:lnTo>
                  <a:lnTo>
                    <a:pt x="244" y="1228"/>
                  </a:lnTo>
                  <a:lnTo>
                    <a:pt x="250" y="1243"/>
                  </a:lnTo>
                  <a:lnTo>
                    <a:pt x="255" y="1258"/>
                  </a:lnTo>
                  <a:lnTo>
                    <a:pt x="260" y="1275"/>
                  </a:lnTo>
                  <a:lnTo>
                    <a:pt x="262" y="1292"/>
                  </a:lnTo>
                  <a:lnTo>
                    <a:pt x="264" y="1360"/>
                  </a:lnTo>
                  <a:lnTo>
                    <a:pt x="267" y="1421"/>
                  </a:lnTo>
                  <a:lnTo>
                    <a:pt x="272" y="1479"/>
                  </a:lnTo>
                  <a:lnTo>
                    <a:pt x="279" y="1533"/>
                  </a:lnTo>
                  <a:lnTo>
                    <a:pt x="285" y="1588"/>
                  </a:lnTo>
                  <a:lnTo>
                    <a:pt x="294" y="1646"/>
                  </a:lnTo>
                  <a:lnTo>
                    <a:pt x="300" y="1709"/>
                  </a:lnTo>
                  <a:lnTo>
                    <a:pt x="307" y="1780"/>
                  </a:lnTo>
                  <a:lnTo>
                    <a:pt x="307" y="1912"/>
                  </a:lnTo>
                  <a:lnTo>
                    <a:pt x="283" y="1865"/>
                  </a:lnTo>
                  <a:lnTo>
                    <a:pt x="262" y="1822"/>
                  </a:lnTo>
                  <a:lnTo>
                    <a:pt x="245" y="1783"/>
                  </a:lnTo>
                  <a:lnTo>
                    <a:pt x="230" y="1742"/>
                  </a:lnTo>
                  <a:lnTo>
                    <a:pt x="214" y="1697"/>
                  </a:lnTo>
                  <a:lnTo>
                    <a:pt x="197" y="1643"/>
                  </a:lnTo>
                  <a:lnTo>
                    <a:pt x="176" y="1578"/>
                  </a:lnTo>
                  <a:lnTo>
                    <a:pt x="152" y="1497"/>
                  </a:lnTo>
                  <a:lnTo>
                    <a:pt x="145" y="1477"/>
                  </a:lnTo>
                  <a:lnTo>
                    <a:pt x="136" y="1458"/>
                  </a:lnTo>
                  <a:lnTo>
                    <a:pt x="125" y="1442"/>
                  </a:lnTo>
                  <a:lnTo>
                    <a:pt x="116" y="1426"/>
                  </a:lnTo>
                  <a:lnTo>
                    <a:pt x="106" y="1410"/>
                  </a:lnTo>
                  <a:lnTo>
                    <a:pt x="95" y="1393"/>
                  </a:lnTo>
                  <a:lnTo>
                    <a:pt x="87" y="1374"/>
                  </a:lnTo>
                  <a:lnTo>
                    <a:pt x="80" y="1353"/>
                  </a:lnTo>
                  <a:lnTo>
                    <a:pt x="72" y="1300"/>
                  </a:lnTo>
                  <a:lnTo>
                    <a:pt x="72" y="1252"/>
                  </a:lnTo>
                  <a:lnTo>
                    <a:pt x="73" y="1204"/>
                  </a:lnTo>
                  <a:lnTo>
                    <a:pt x="70" y="1149"/>
                  </a:lnTo>
                  <a:lnTo>
                    <a:pt x="67" y="1137"/>
                  </a:lnTo>
                  <a:lnTo>
                    <a:pt x="61" y="1126"/>
                  </a:lnTo>
                  <a:lnTo>
                    <a:pt x="54" y="1117"/>
                  </a:lnTo>
                  <a:lnTo>
                    <a:pt x="45" y="1108"/>
                  </a:lnTo>
                  <a:lnTo>
                    <a:pt x="35" y="1101"/>
                  </a:lnTo>
                  <a:lnTo>
                    <a:pt x="26" y="1092"/>
                  </a:lnTo>
                  <a:lnTo>
                    <a:pt x="17" y="1083"/>
                  </a:lnTo>
                  <a:lnTo>
                    <a:pt x="9" y="1071"/>
                  </a:lnTo>
                  <a:lnTo>
                    <a:pt x="1" y="1049"/>
                  </a:lnTo>
                  <a:lnTo>
                    <a:pt x="0" y="1027"/>
                  </a:lnTo>
                  <a:lnTo>
                    <a:pt x="3" y="1004"/>
                  </a:lnTo>
                  <a:lnTo>
                    <a:pt x="4" y="979"/>
                  </a:lnTo>
                  <a:lnTo>
                    <a:pt x="7" y="966"/>
                  </a:lnTo>
                  <a:lnTo>
                    <a:pt x="14" y="958"/>
                  </a:lnTo>
                  <a:lnTo>
                    <a:pt x="25" y="952"/>
                  </a:lnTo>
                  <a:lnTo>
                    <a:pt x="38" y="949"/>
                  </a:lnTo>
                  <a:lnTo>
                    <a:pt x="53" y="947"/>
                  </a:lnTo>
                  <a:lnTo>
                    <a:pt x="68" y="943"/>
                  </a:lnTo>
                  <a:lnTo>
                    <a:pt x="83" y="940"/>
                  </a:lnTo>
                  <a:lnTo>
                    <a:pt x="97" y="934"/>
                  </a:lnTo>
                  <a:lnTo>
                    <a:pt x="113" y="918"/>
                  </a:lnTo>
                  <a:lnTo>
                    <a:pt x="116" y="895"/>
                  </a:lnTo>
                  <a:lnTo>
                    <a:pt x="114" y="868"/>
                  </a:lnTo>
                  <a:lnTo>
                    <a:pt x="114" y="841"/>
                  </a:lnTo>
                  <a:lnTo>
                    <a:pt x="116" y="782"/>
                  </a:lnTo>
                  <a:lnTo>
                    <a:pt x="118" y="731"/>
                  </a:lnTo>
                  <a:lnTo>
                    <a:pt x="118" y="681"/>
                  </a:lnTo>
                  <a:lnTo>
                    <a:pt x="118" y="622"/>
                  </a:lnTo>
                  <a:lnTo>
                    <a:pt x="116" y="549"/>
                  </a:lnTo>
                  <a:lnTo>
                    <a:pt x="110" y="485"/>
                  </a:lnTo>
                  <a:lnTo>
                    <a:pt x="105" y="421"/>
                  </a:lnTo>
                  <a:lnTo>
                    <a:pt x="102" y="349"/>
                  </a:lnTo>
                  <a:lnTo>
                    <a:pt x="106" y="332"/>
                  </a:lnTo>
                  <a:lnTo>
                    <a:pt x="114" y="319"/>
                  </a:lnTo>
                  <a:lnTo>
                    <a:pt x="124" y="306"/>
                  </a:lnTo>
                  <a:lnTo>
                    <a:pt x="136" y="294"/>
                  </a:lnTo>
                  <a:lnTo>
                    <a:pt x="143" y="282"/>
                  </a:lnTo>
                  <a:lnTo>
                    <a:pt x="150" y="271"/>
                  </a:lnTo>
                  <a:lnTo>
                    <a:pt x="156" y="259"/>
                  </a:lnTo>
                  <a:lnTo>
                    <a:pt x="163" y="249"/>
                  </a:lnTo>
                  <a:lnTo>
                    <a:pt x="170" y="239"/>
                  </a:lnTo>
                  <a:lnTo>
                    <a:pt x="179" y="233"/>
                  </a:lnTo>
                  <a:lnTo>
                    <a:pt x="189" y="228"/>
                  </a:lnTo>
                  <a:lnTo>
                    <a:pt x="201" y="227"/>
                  </a:lnTo>
                  <a:lnTo>
                    <a:pt x="209" y="230"/>
                  </a:lnTo>
                  <a:lnTo>
                    <a:pt x="215" y="238"/>
                  </a:lnTo>
                  <a:lnTo>
                    <a:pt x="221" y="246"/>
                  </a:lnTo>
                  <a:lnTo>
                    <a:pt x="229" y="249"/>
                  </a:lnTo>
                  <a:lnTo>
                    <a:pt x="247" y="244"/>
                  </a:lnTo>
                  <a:lnTo>
                    <a:pt x="267" y="236"/>
                  </a:lnTo>
                  <a:lnTo>
                    <a:pt x="288" y="224"/>
                  </a:lnTo>
                  <a:lnTo>
                    <a:pt x="307" y="212"/>
                  </a:lnTo>
                  <a:lnTo>
                    <a:pt x="329" y="196"/>
                  </a:lnTo>
                  <a:lnTo>
                    <a:pt x="351" y="178"/>
                  </a:lnTo>
                  <a:lnTo>
                    <a:pt x="373" y="160"/>
                  </a:lnTo>
                  <a:lnTo>
                    <a:pt x="396" y="142"/>
                  </a:lnTo>
                  <a:lnTo>
                    <a:pt x="420" y="121"/>
                  </a:lnTo>
                  <a:lnTo>
                    <a:pt x="446" y="101"/>
                  </a:lnTo>
                  <a:lnTo>
                    <a:pt x="471" y="82"/>
                  </a:lnTo>
                  <a:lnTo>
                    <a:pt x="497" y="62"/>
                  </a:lnTo>
                  <a:lnTo>
                    <a:pt x="525" y="44"/>
                  </a:lnTo>
                  <a:lnTo>
                    <a:pt x="555" y="27"/>
                  </a:lnTo>
                  <a:lnTo>
                    <a:pt x="585" y="13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97120" y="4067640"/>
              <a:ext cx="219960" cy="195120"/>
            </a:xfrm>
            <a:custGeom>
              <a:avLst/>
              <a:gdLst/>
              <a:ahLst/>
              <a:rect l="l" t="t" r="r" b="b"/>
              <a:pathLst>
                <a:path w="188" h="211">
                  <a:moveTo>
                    <a:pt x="0" y="117"/>
                  </a:moveTo>
                  <a:lnTo>
                    <a:pt x="15" y="107"/>
                  </a:lnTo>
                  <a:lnTo>
                    <a:pt x="27" y="97"/>
                  </a:lnTo>
                  <a:lnTo>
                    <a:pt x="38" y="85"/>
                  </a:lnTo>
                  <a:lnTo>
                    <a:pt x="46" y="73"/>
                  </a:lnTo>
                  <a:lnTo>
                    <a:pt x="55" y="60"/>
                  </a:lnTo>
                  <a:lnTo>
                    <a:pt x="64" y="47"/>
                  </a:lnTo>
                  <a:lnTo>
                    <a:pt x="76" y="35"/>
                  </a:lnTo>
                  <a:lnTo>
                    <a:pt x="89" y="23"/>
                  </a:lnTo>
                  <a:lnTo>
                    <a:pt x="100" y="16"/>
                  </a:lnTo>
                  <a:lnTo>
                    <a:pt x="110" y="11"/>
                  </a:lnTo>
                  <a:lnTo>
                    <a:pt x="122" y="7"/>
                  </a:lnTo>
                  <a:lnTo>
                    <a:pt x="135" y="5"/>
                  </a:lnTo>
                  <a:lnTo>
                    <a:pt x="147" y="4"/>
                  </a:lnTo>
                  <a:lnTo>
                    <a:pt x="160" y="3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182" y="21"/>
                  </a:lnTo>
                  <a:lnTo>
                    <a:pt x="174" y="39"/>
                  </a:lnTo>
                  <a:lnTo>
                    <a:pt x="168" y="57"/>
                  </a:lnTo>
                  <a:lnTo>
                    <a:pt x="166" y="79"/>
                  </a:lnTo>
                  <a:lnTo>
                    <a:pt x="167" y="88"/>
                  </a:lnTo>
                  <a:lnTo>
                    <a:pt x="170" y="96"/>
                  </a:lnTo>
                  <a:lnTo>
                    <a:pt x="174" y="103"/>
                  </a:lnTo>
                  <a:lnTo>
                    <a:pt x="177" y="111"/>
                  </a:lnTo>
                  <a:lnTo>
                    <a:pt x="155" y="122"/>
                  </a:lnTo>
                  <a:lnTo>
                    <a:pt x="136" y="133"/>
                  </a:lnTo>
                  <a:lnTo>
                    <a:pt x="117" y="144"/>
                  </a:lnTo>
                  <a:lnTo>
                    <a:pt x="101" y="156"/>
                  </a:lnTo>
                  <a:lnTo>
                    <a:pt x="84" y="167"/>
                  </a:lnTo>
                  <a:lnTo>
                    <a:pt x="68" y="181"/>
                  </a:lnTo>
                  <a:lnTo>
                    <a:pt x="52" y="195"/>
                  </a:lnTo>
                  <a:lnTo>
                    <a:pt x="33" y="211"/>
                  </a:lnTo>
                  <a:lnTo>
                    <a:pt x="21" y="187"/>
                  </a:lnTo>
                  <a:lnTo>
                    <a:pt x="11" y="165"/>
                  </a:lnTo>
                  <a:lnTo>
                    <a:pt x="6" y="14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70200" y="4236840"/>
              <a:ext cx="203760" cy="268560"/>
            </a:xfrm>
            <a:custGeom>
              <a:avLst/>
              <a:gdLst/>
              <a:ahLst/>
              <a:rect l="l" t="t" r="r" b="b"/>
              <a:pathLst>
                <a:path w="175" h="293">
                  <a:moveTo>
                    <a:pt x="138" y="293"/>
                  </a:moveTo>
                  <a:lnTo>
                    <a:pt x="147" y="270"/>
                  </a:lnTo>
                  <a:lnTo>
                    <a:pt x="154" y="248"/>
                  </a:lnTo>
                  <a:lnTo>
                    <a:pt x="159" y="227"/>
                  </a:lnTo>
                  <a:lnTo>
                    <a:pt x="162" y="207"/>
                  </a:lnTo>
                  <a:lnTo>
                    <a:pt x="164" y="186"/>
                  </a:lnTo>
                  <a:lnTo>
                    <a:pt x="168" y="164"/>
                  </a:lnTo>
                  <a:lnTo>
                    <a:pt x="170" y="141"/>
                  </a:lnTo>
                  <a:lnTo>
                    <a:pt x="175" y="116"/>
                  </a:lnTo>
                  <a:lnTo>
                    <a:pt x="175" y="5"/>
                  </a:lnTo>
                  <a:lnTo>
                    <a:pt x="167" y="4"/>
                  </a:lnTo>
                  <a:lnTo>
                    <a:pt x="160" y="4"/>
                  </a:lnTo>
                  <a:lnTo>
                    <a:pt x="153" y="3"/>
                  </a:lnTo>
                  <a:lnTo>
                    <a:pt x="146" y="2"/>
                  </a:lnTo>
                  <a:lnTo>
                    <a:pt x="139" y="2"/>
                  </a:lnTo>
                  <a:lnTo>
                    <a:pt x="132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94" y="3"/>
                  </a:lnTo>
                  <a:lnTo>
                    <a:pt x="72" y="8"/>
                  </a:lnTo>
                  <a:lnTo>
                    <a:pt x="53" y="18"/>
                  </a:lnTo>
                  <a:lnTo>
                    <a:pt x="35" y="30"/>
                  </a:lnTo>
                  <a:lnTo>
                    <a:pt x="22" y="45"/>
                  </a:lnTo>
                  <a:lnTo>
                    <a:pt x="10" y="63"/>
                  </a:lnTo>
                  <a:lnTo>
                    <a:pt x="3" y="83"/>
                  </a:lnTo>
                  <a:lnTo>
                    <a:pt x="0" y="105"/>
                  </a:lnTo>
                  <a:lnTo>
                    <a:pt x="1" y="139"/>
                  </a:lnTo>
                  <a:lnTo>
                    <a:pt x="7" y="169"/>
                  </a:lnTo>
                  <a:lnTo>
                    <a:pt x="18" y="197"/>
                  </a:lnTo>
                  <a:lnTo>
                    <a:pt x="34" y="223"/>
                  </a:lnTo>
                  <a:lnTo>
                    <a:pt x="55" y="245"/>
                  </a:lnTo>
                  <a:lnTo>
                    <a:pt x="79" y="264"/>
                  </a:lnTo>
                  <a:lnTo>
                    <a:pt x="107" y="280"/>
                  </a:lnTo>
                  <a:lnTo>
                    <a:pt x="138" y="2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14960" y="5180760"/>
              <a:ext cx="465840" cy="881280"/>
            </a:xfrm>
            <a:custGeom>
              <a:avLst/>
              <a:gdLst/>
              <a:ahLst/>
              <a:rect l="l" t="t" r="r" b="b"/>
              <a:pathLst>
                <a:path w="399" h="957">
                  <a:moveTo>
                    <a:pt x="2" y="426"/>
                  </a:moveTo>
                  <a:lnTo>
                    <a:pt x="1" y="516"/>
                  </a:lnTo>
                  <a:lnTo>
                    <a:pt x="0" y="594"/>
                  </a:lnTo>
                  <a:lnTo>
                    <a:pt x="1" y="674"/>
                  </a:lnTo>
                  <a:lnTo>
                    <a:pt x="8" y="764"/>
                  </a:lnTo>
                  <a:lnTo>
                    <a:pt x="11" y="813"/>
                  </a:lnTo>
                  <a:lnTo>
                    <a:pt x="10" y="860"/>
                  </a:lnTo>
                  <a:lnTo>
                    <a:pt x="9" y="908"/>
                  </a:lnTo>
                  <a:lnTo>
                    <a:pt x="8" y="957"/>
                  </a:lnTo>
                  <a:lnTo>
                    <a:pt x="11" y="957"/>
                  </a:lnTo>
                  <a:lnTo>
                    <a:pt x="17" y="957"/>
                  </a:lnTo>
                  <a:lnTo>
                    <a:pt x="24" y="956"/>
                  </a:lnTo>
                  <a:lnTo>
                    <a:pt x="32" y="955"/>
                  </a:lnTo>
                  <a:lnTo>
                    <a:pt x="39" y="954"/>
                  </a:lnTo>
                  <a:lnTo>
                    <a:pt x="46" y="952"/>
                  </a:lnTo>
                  <a:lnTo>
                    <a:pt x="53" y="951"/>
                  </a:lnTo>
                  <a:lnTo>
                    <a:pt x="58" y="951"/>
                  </a:lnTo>
                  <a:lnTo>
                    <a:pt x="82" y="950"/>
                  </a:lnTo>
                  <a:lnTo>
                    <a:pt x="104" y="949"/>
                  </a:lnTo>
                  <a:lnTo>
                    <a:pt x="125" y="947"/>
                  </a:lnTo>
                  <a:lnTo>
                    <a:pt x="146" y="942"/>
                  </a:lnTo>
                  <a:lnTo>
                    <a:pt x="166" y="939"/>
                  </a:lnTo>
                  <a:lnTo>
                    <a:pt x="184" y="933"/>
                  </a:lnTo>
                  <a:lnTo>
                    <a:pt x="204" y="927"/>
                  </a:lnTo>
                  <a:lnTo>
                    <a:pt x="222" y="920"/>
                  </a:lnTo>
                  <a:lnTo>
                    <a:pt x="240" y="912"/>
                  </a:lnTo>
                  <a:lnTo>
                    <a:pt x="258" y="905"/>
                  </a:lnTo>
                  <a:lnTo>
                    <a:pt x="276" y="897"/>
                  </a:lnTo>
                  <a:lnTo>
                    <a:pt x="296" y="888"/>
                  </a:lnTo>
                  <a:lnTo>
                    <a:pt x="314" y="880"/>
                  </a:lnTo>
                  <a:lnTo>
                    <a:pt x="334" y="871"/>
                  </a:lnTo>
                  <a:lnTo>
                    <a:pt x="355" y="861"/>
                  </a:lnTo>
                  <a:lnTo>
                    <a:pt x="377" y="852"/>
                  </a:lnTo>
                  <a:lnTo>
                    <a:pt x="371" y="820"/>
                  </a:lnTo>
                  <a:lnTo>
                    <a:pt x="366" y="791"/>
                  </a:lnTo>
                  <a:lnTo>
                    <a:pt x="362" y="762"/>
                  </a:lnTo>
                  <a:lnTo>
                    <a:pt x="356" y="730"/>
                  </a:lnTo>
                  <a:lnTo>
                    <a:pt x="356" y="603"/>
                  </a:lnTo>
                  <a:lnTo>
                    <a:pt x="399" y="515"/>
                  </a:lnTo>
                  <a:lnTo>
                    <a:pt x="369" y="0"/>
                  </a:lnTo>
                  <a:lnTo>
                    <a:pt x="346" y="8"/>
                  </a:lnTo>
                  <a:lnTo>
                    <a:pt x="322" y="15"/>
                  </a:lnTo>
                  <a:lnTo>
                    <a:pt x="302" y="23"/>
                  </a:lnTo>
                  <a:lnTo>
                    <a:pt x="282" y="31"/>
                  </a:lnTo>
                  <a:lnTo>
                    <a:pt x="263" y="39"/>
                  </a:lnTo>
                  <a:lnTo>
                    <a:pt x="244" y="48"/>
                  </a:lnTo>
                  <a:lnTo>
                    <a:pt x="226" y="56"/>
                  </a:lnTo>
                  <a:lnTo>
                    <a:pt x="208" y="64"/>
                  </a:lnTo>
                  <a:lnTo>
                    <a:pt x="190" y="72"/>
                  </a:lnTo>
                  <a:lnTo>
                    <a:pt x="172" y="79"/>
                  </a:lnTo>
                  <a:lnTo>
                    <a:pt x="153" y="87"/>
                  </a:lnTo>
                  <a:lnTo>
                    <a:pt x="134" y="95"/>
                  </a:lnTo>
                  <a:lnTo>
                    <a:pt x="114" y="102"/>
                  </a:lnTo>
                  <a:lnTo>
                    <a:pt x="92" y="109"/>
                  </a:lnTo>
                  <a:lnTo>
                    <a:pt x="70" y="116"/>
                  </a:lnTo>
                  <a:lnTo>
                    <a:pt x="46" y="122"/>
                  </a:lnTo>
                  <a:lnTo>
                    <a:pt x="32" y="128"/>
                  </a:lnTo>
                  <a:lnTo>
                    <a:pt x="22" y="136"/>
                  </a:lnTo>
                  <a:lnTo>
                    <a:pt x="14" y="147"/>
                  </a:lnTo>
                  <a:lnTo>
                    <a:pt x="9" y="161"/>
                  </a:lnTo>
                  <a:lnTo>
                    <a:pt x="6" y="177"/>
                  </a:lnTo>
                  <a:lnTo>
                    <a:pt x="3" y="193"/>
                  </a:lnTo>
                  <a:lnTo>
                    <a:pt x="2" y="211"/>
                  </a:lnTo>
                  <a:lnTo>
                    <a:pt x="2" y="227"/>
                  </a:lnTo>
                  <a:lnTo>
                    <a:pt x="1" y="280"/>
                  </a:lnTo>
                  <a:lnTo>
                    <a:pt x="1" y="326"/>
                  </a:lnTo>
                  <a:lnTo>
                    <a:pt x="2" y="373"/>
                  </a:lnTo>
                  <a:lnTo>
                    <a:pt x="2" y="426"/>
                  </a:lnTo>
                  <a:close/>
                </a:path>
              </a:pathLst>
            </a:custGeom>
            <a:solidFill>
              <a:srgbClr val="ad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4640" y="4974840"/>
              <a:ext cx="1046880" cy="369720"/>
            </a:xfrm>
            <a:custGeom>
              <a:avLst/>
              <a:gdLst/>
              <a:ahLst/>
              <a:rect l="l" t="t" r="r" b="b"/>
              <a:pathLst>
                <a:path w="895" h="402">
                  <a:moveTo>
                    <a:pt x="0" y="176"/>
                  </a:moveTo>
                  <a:lnTo>
                    <a:pt x="16" y="172"/>
                  </a:lnTo>
                  <a:lnTo>
                    <a:pt x="33" y="168"/>
                  </a:lnTo>
                  <a:lnTo>
                    <a:pt x="48" y="164"/>
                  </a:lnTo>
                  <a:lnTo>
                    <a:pt x="63" y="159"/>
                  </a:lnTo>
                  <a:lnTo>
                    <a:pt x="76" y="155"/>
                  </a:lnTo>
                  <a:lnTo>
                    <a:pt x="91" y="150"/>
                  </a:lnTo>
                  <a:lnTo>
                    <a:pt x="105" y="145"/>
                  </a:lnTo>
                  <a:lnTo>
                    <a:pt x="118" y="140"/>
                  </a:lnTo>
                  <a:lnTo>
                    <a:pt x="132" y="135"/>
                  </a:lnTo>
                  <a:lnTo>
                    <a:pt x="146" y="129"/>
                  </a:lnTo>
                  <a:lnTo>
                    <a:pt x="159" y="123"/>
                  </a:lnTo>
                  <a:lnTo>
                    <a:pt x="173" y="118"/>
                  </a:lnTo>
                  <a:lnTo>
                    <a:pt x="187" y="112"/>
                  </a:lnTo>
                  <a:lnTo>
                    <a:pt x="202" y="106"/>
                  </a:lnTo>
                  <a:lnTo>
                    <a:pt x="217" y="100"/>
                  </a:lnTo>
                  <a:lnTo>
                    <a:pt x="232" y="93"/>
                  </a:lnTo>
                  <a:lnTo>
                    <a:pt x="251" y="87"/>
                  </a:lnTo>
                  <a:lnTo>
                    <a:pt x="269" y="82"/>
                  </a:lnTo>
                  <a:lnTo>
                    <a:pt x="285" y="77"/>
                  </a:lnTo>
                  <a:lnTo>
                    <a:pt x="301" y="74"/>
                  </a:lnTo>
                  <a:lnTo>
                    <a:pt x="316" y="69"/>
                  </a:lnTo>
                  <a:lnTo>
                    <a:pt x="332" y="64"/>
                  </a:lnTo>
                  <a:lnTo>
                    <a:pt x="348" y="55"/>
                  </a:lnTo>
                  <a:lnTo>
                    <a:pt x="364" y="44"/>
                  </a:lnTo>
                  <a:lnTo>
                    <a:pt x="372" y="37"/>
                  </a:lnTo>
                  <a:lnTo>
                    <a:pt x="379" y="30"/>
                  </a:lnTo>
                  <a:lnTo>
                    <a:pt x="386" y="23"/>
                  </a:lnTo>
                  <a:lnTo>
                    <a:pt x="393" y="16"/>
                  </a:lnTo>
                  <a:lnTo>
                    <a:pt x="400" y="9"/>
                  </a:lnTo>
                  <a:lnTo>
                    <a:pt x="407" y="5"/>
                  </a:lnTo>
                  <a:lnTo>
                    <a:pt x="415" y="1"/>
                  </a:lnTo>
                  <a:lnTo>
                    <a:pt x="425" y="0"/>
                  </a:lnTo>
                  <a:lnTo>
                    <a:pt x="443" y="2"/>
                  </a:lnTo>
                  <a:lnTo>
                    <a:pt x="459" y="8"/>
                  </a:lnTo>
                  <a:lnTo>
                    <a:pt x="472" y="17"/>
                  </a:lnTo>
                  <a:lnTo>
                    <a:pt x="483" y="28"/>
                  </a:lnTo>
                  <a:lnTo>
                    <a:pt x="495" y="39"/>
                  </a:lnTo>
                  <a:lnTo>
                    <a:pt x="507" y="52"/>
                  </a:lnTo>
                  <a:lnTo>
                    <a:pt x="521" y="62"/>
                  </a:lnTo>
                  <a:lnTo>
                    <a:pt x="536" y="72"/>
                  </a:lnTo>
                  <a:lnTo>
                    <a:pt x="560" y="83"/>
                  </a:lnTo>
                  <a:lnTo>
                    <a:pt x="583" y="95"/>
                  </a:lnTo>
                  <a:lnTo>
                    <a:pt x="606" y="105"/>
                  </a:lnTo>
                  <a:lnTo>
                    <a:pt x="627" y="115"/>
                  </a:lnTo>
                  <a:lnTo>
                    <a:pt x="649" y="126"/>
                  </a:lnTo>
                  <a:lnTo>
                    <a:pt x="670" y="135"/>
                  </a:lnTo>
                  <a:lnTo>
                    <a:pt x="690" y="144"/>
                  </a:lnTo>
                  <a:lnTo>
                    <a:pt x="711" y="152"/>
                  </a:lnTo>
                  <a:lnTo>
                    <a:pt x="732" y="160"/>
                  </a:lnTo>
                  <a:lnTo>
                    <a:pt x="753" y="167"/>
                  </a:lnTo>
                  <a:lnTo>
                    <a:pt x="775" y="173"/>
                  </a:lnTo>
                  <a:lnTo>
                    <a:pt x="796" y="179"/>
                  </a:lnTo>
                  <a:lnTo>
                    <a:pt x="819" y="182"/>
                  </a:lnTo>
                  <a:lnTo>
                    <a:pt x="844" y="186"/>
                  </a:lnTo>
                  <a:lnTo>
                    <a:pt x="869" y="187"/>
                  </a:lnTo>
                  <a:lnTo>
                    <a:pt x="895" y="188"/>
                  </a:lnTo>
                  <a:lnTo>
                    <a:pt x="879" y="202"/>
                  </a:lnTo>
                  <a:lnTo>
                    <a:pt x="862" y="213"/>
                  </a:lnTo>
                  <a:lnTo>
                    <a:pt x="845" y="221"/>
                  </a:lnTo>
                  <a:lnTo>
                    <a:pt x="828" y="228"/>
                  </a:lnTo>
                  <a:lnTo>
                    <a:pt x="810" y="235"/>
                  </a:lnTo>
                  <a:lnTo>
                    <a:pt x="791" y="242"/>
                  </a:lnTo>
                  <a:lnTo>
                    <a:pt x="772" y="249"/>
                  </a:lnTo>
                  <a:lnTo>
                    <a:pt x="751" y="258"/>
                  </a:lnTo>
                  <a:lnTo>
                    <a:pt x="730" y="270"/>
                  </a:lnTo>
                  <a:lnTo>
                    <a:pt x="709" y="282"/>
                  </a:lnTo>
                  <a:lnTo>
                    <a:pt x="689" y="294"/>
                  </a:lnTo>
                  <a:lnTo>
                    <a:pt x="670" y="307"/>
                  </a:lnTo>
                  <a:lnTo>
                    <a:pt x="651" y="318"/>
                  </a:lnTo>
                  <a:lnTo>
                    <a:pt x="634" y="331"/>
                  </a:lnTo>
                  <a:lnTo>
                    <a:pt x="616" y="342"/>
                  </a:lnTo>
                  <a:lnTo>
                    <a:pt x="598" y="353"/>
                  </a:lnTo>
                  <a:lnTo>
                    <a:pt x="580" y="363"/>
                  </a:lnTo>
                  <a:lnTo>
                    <a:pt x="561" y="372"/>
                  </a:lnTo>
                  <a:lnTo>
                    <a:pt x="543" y="381"/>
                  </a:lnTo>
                  <a:lnTo>
                    <a:pt x="523" y="388"/>
                  </a:lnTo>
                  <a:lnTo>
                    <a:pt x="503" y="394"/>
                  </a:lnTo>
                  <a:lnTo>
                    <a:pt x="481" y="399"/>
                  </a:lnTo>
                  <a:lnTo>
                    <a:pt x="458" y="401"/>
                  </a:lnTo>
                  <a:lnTo>
                    <a:pt x="434" y="402"/>
                  </a:lnTo>
                  <a:lnTo>
                    <a:pt x="410" y="401"/>
                  </a:lnTo>
                  <a:lnTo>
                    <a:pt x="391" y="398"/>
                  </a:lnTo>
                  <a:lnTo>
                    <a:pt x="371" y="393"/>
                  </a:lnTo>
                  <a:lnTo>
                    <a:pt x="353" y="386"/>
                  </a:lnTo>
                  <a:lnTo>
                    <a:pt x="336" y="378"/>
                  </a:lnTo>
                  <a:lnTo>
                    <a:pt x="317" y="370"/>
                  </a:lnTo>
                  <a:lnTo>
                    <a:pt x="298" y="362"/>
                  </a:lnTo>
                  <a:lnTo>
                    <a:pt x="277" y="353"/>
                  </a:lnTo>
                  <a:lnTo>
                    <a:pt x="256" y="345"/>
                  </a:lnTo>
                  <a:lnTo>
                    <a:pt x="237" y="335"/>
                  </a:lnTo>
                  <a:lnTo>
                    <a:pt x="217" y="327"/>
                  </a:lnTo>
                  <a:lnTo>
                    <a:pt x="198" y="318"/>
                  </a:lnTo>
                  <a:lnTo>
                    <a:pt x="180" y="310"/>
                  </a:lnTo>
                  <a:lnTo>
                    <a:pt x="163" y="300"/>
                  </a:lnTo>
                  <a:lnTo>
                    <a:pt x="144" y="290"/>
                  </a:lnTo>
                  <a:lnTo>
                    <a:pt x="127" y="280"/>
                  </a:lnTo>
                  <a:lnTo>
                    <a:pt x="111" y="270"/>
                  </a:lnTo>
                  <a:lnTo>
                    <a:pt x="94" y="259"/>
                  </a:lnTo>
                  <a:lnTo>
                    <a:pt x="78" y="247"/>
                  </a:lnTo>
                  <a:lnTo>
                    <a:pt x="61" y="234"/>
                  </a:lnTo>
                  <a:lnTo>
                    <a:pt x="46" y="221"/>
                  </a:lnTo>
                  <a:lnTo>
                    <a:pt x="30" y="208"/>
                  </a:lnTo>
                  <a:lnTo>
                    <a:pt x="15" y="193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78080" y="4465080"/>
              <a:ext cx="606600" cy="691560"/>
            </a:xfrm>
            <a:custGeom>
              <a:avLst/>
              <a:gdLst/>
              <a:ahLst/>
              <a:rect l="l" t="t" r="r" b="b"/>
              <a:pathLst>
                <a:path w="520" h="752">
                  <a:moveTo>
                    <a:pt x="514" y="735"/>
                  </a:moveTo>
                  <a:lnTo>
                    <a:pt x="516" y="724"/>
                  </a:lnTo>
                  <a:lnTo>
                    <a:pt x="519" y="713"/>
                  </a:lnTo>
                  <a:lnTo>
                    <a:pt x="520" y="703"/>
                  </a:lnTo>
                  <a:lnTo>
                    <a:pt x="520" y="691"/>
                  </a:lnTo>
                  <a:lnTo>
                    <a:pt x="519" y="625"/>
                  </a:lnTo>
                  <a:lnTo>
                    <a:pt x="516" y="562"/>
                  </a:lnTo>
                  <a:lnTo>
                    <a:pt x="513" y="506"/>
                  </a:lnTo>
                  <a:lnTo>
                    <a:pt x="508" y="451"/>
                  </a:lnTo>
                  <a:lnTo>
                    <a:pt x="502" y="395"/>
                  </a:lnTo>
                  <a:lnTo>
                    <a:pt x="497" y="338"/>
                  </a:lnTo>
                  <a:lnTo>
                    <a:pt x="490" y="277"/>
                  </a:lnTo>
                  <a:lnTo>
                    <a:pt x="482" y="210"/>
                  </a:lnTo>
                  <a:lnTo>
                    <a:pt x="477" y="180"/>
                  </a:lnTo>
                  <a:lnTo>
                    <a:pt x="469" y="153"/>
                  </a:lnTo>
                  <a:lnTo>
                    <a:pt x="461" y="129"/>
                  </a:lnTo>
                  <a:lnTo>
                    <a:pt x="453" y="105"/>
                  </a:lnTo>
                  <a:lnTo>
                    <a:pt x="445" y="81"/>
                  </a:lnTo>
                  <a:lnTo>
                    <a:pt x="438" y="57"/>
                  </a:lnTo>
                  <a:lnTo>
                    <a:pt x="433" y="30"/>
                  </a:lnTo>
                  <a:lnTo>
                    <a:pt x="431" y="0"/>
                  </a:lnTo>
                  <a:lnTo>
                    <a:pt x="424" y="9"/>
                  </a:lnTo>
                  <a:lnTo>
                    <a:pt x="418" y="19"/>
                  </a:lnTo>
                  <a:lnTo>
                    <a:pt x="413" y="28"/>
                  </a:lnTo>
                  <a:lnTo>
                    <a:pt x="407" y="36"/>
                  </a:lnTo>
                  <a:lnTo>
                    <a:pt x="401" y="45"/>
                  </a:lnTo>
                  <a:lnTo>
                    <a:pt x="394" y="52"/>
                  </a:lnTo>
                  <a:lnTo>
                    <a:pt x="386" y="59"/>
                  </a:lnTo>
                  <a:lnTo>
                    <a:pt x="377" y="66"/>
                  </a:lnTo>
                  <a:lnTo>
                    <a:pt x="362" y="74"/>
                  </a:lnTo>
                  <a:lnTo>
                    <a:pt x="346" y="80"/>
                  </a:lnTo>
                  <a:lnTo>
                    <a:pt x="330" y="85"/>
                  </a:lnTo>
                  <a:lnTo>
                    <a:pt x="315" y="90"/>
                  </a:lnTo>
                  <a:lnTo>
                    <a:pt x="300" y="96"/>
                  </a:lnTo>
                  <a:lnTo>
                    <a:pt x="287" y="103"/>
                  </a:lnTo>
                  <a:lnTo>
                    <a:pt x="275" y="113"/>
                  </a:lnTo>
                  <a:lnTo>
                    <a:pt x="266" y="127"/>
                  </a:lnTo>
                  <a:lnTo>
                    <a:pt x="248" y="164"/>
                  </a:lnTo>
                  <a:lnTo>
                    <a:pt x="231" y="197"/>
                  </a:lnTo>
                  <a:lnTo>
                    <a:pt x="214" y="228"/>
                  </a:lnTo>
                  <a:lnTo>
                    <a:pt x="198" y="259"/>
                  </a:lnTo>
                  <a:lnTo>
                    <a:pt x="181" y="289"/>
                  </a:lnTo>
                  <a:lnTo>
                    <a:pt x="164" y="320"/>
                  </a:lnTo>
                  <a:lnTo>
                    <a:pt x="144" y="353"/>
                  </a:lnTo>
                  <a:lnTo>
                    <a:pt x="122" y="387"/>
                  </a:lnTo>
                  <a:lnTo>
                    <a:pt x="102" y="417"/>
                  </a:lnTo>
                  <a:lnTo>
                    <a:pt x="80" y="445"/>
                  </a:lnTo>
                  <a:lnTo>
                    <a:pt x="59" y="471"/>
                  </a:lnTo>
                  <a:lnTo>
                    <a:pt x="40" y="497"/>
                  </a:lnTo>
                  <a:lnTo>
                    <a:pt x="24" y="523"/>
                  </a:lnTo>
                  <a:lnTo>
                    <a:pt x="12" y="551"/>
                  </a:lnTo>
                  <a:lnTo>
                    <a:pt x="4" y="583"/>
                  </a:lnTo>
                  <a:lnTo>
                    <a:pt x="0" y="619"/>
                  </a:lnTo>
                  <a:lnTo>
                    <a:pt x="2" y="633"/>
                  </a:lnTo>
                  <a:lnTo>
                    <a:pt x="7" y="645"/>
                  </a:lnTo>
                  <a:lnTo>
                    <a:pt x="14" y="656"/>
                  </a:lnTo>
                  <a:lnTo>
                    <a:pt x="24" y="664"/>
                  </a:lnTo>
                  <a:lnTo>
                    <a:pt x="36" y="671"/>
                  </a:lnTo>
                  <a:lnTo>
                    <a:pt x="50" y="675"/>
                  </a:lnTo>
                  <a:lnTo>
                    <a:pt x="64" y="679"/>
                  </a:lnTo>
                  <a:lnTo>
                    <a:pt x="77" y="680"/>
                  </a:lnTo>
                  <a:lnTo>
                    <a:pt x="99" y="676"/>
                  </a:lnTo>
                  <a:lnTo>
                    <a:pt x="115" y="665"/>
                  </a:lnTo>
                  <a:lnTo>
                    <a:pt x="128" y="650"/>
                  </a:lnTo>
                  <a:lnTo>
                    <a:pt x="137" y="629"/>
                  </a:lnTo>
                  <a:lnTo>
                    <a:pt x="145" y="607"/>
                  </a:lnTo>
                  <a:lnTo>
                    <a:pt x="155" y="584"/>
                  </a:lnTo>
                  <a:lnTo>
                    <a:pt x="165" y="562"/>
                  </a:lnTo>
                  <a:lnTo>
                    <a:pt x="178" y="542"/>
                  </a:lnTo>
                  <a:lnTo>
                    <a:pt x="195" y="521"/>
                  </a:lnTo>
                  <a:lnTo>
                    <a:pt x="210" y="501"/>
                  </a:lnTo>
                  <a:lnTo>
                    <a:pt x="225" y="483"/>
                  </a:lnTo>
                  <a:lnTo>
                    <a:pt x="241" y="467"/>
                  </a:lnTo>
                  <a:lnTo>
                    <a:pt x="256" y="451"/>
                  </a:lnTo>
                  <a:lnTo>
                    <a:pt x="272" y="433"/>
                  </a:lnTo>
                  <a:lnTo>
                    <a:pt x="290" y="416"/>
                  </a:lnTo>
                  <a:lnTo>
                    <a:pt x="310" y="398"/>
                  </a:lnTo>
                  <a:lnTo>
                    <a:pt x="320" y="410"/>
                  </a:lnTo>
                  <a:lnTo>
                    <a:pt x="328" y="423"/>
                  </a:lnTo>
                  <a:lnTo>
                    <a:pt x="335" y="436"/>
                  </a:lnTo>
                  <a:lnTo>
                    <a:pt x="339" y="449"/>
                  </a:lnTo>
                  <a:lnTo>
                    <a:pt x="342" y="463"/>
                  </a:lnTo>
                  <a:lnTo>
                    <a:pt x="346" y="477"/>
                  </a:lnTo>
                  <a:lnTo>
                    <a:pt x="349" y="492"/>
                  </a:lnTo>
                  <a:lnTo>
                    <a:pt x="354" y="508"/>
                  </a:lnTo>
                  <a:lnTo>
                    <a:pt x="349" y="696"/>
                  </a:lnTo>
                  <a:lnTo>
                    <a:pt x="356" y="720"/>
                  </a:lnTo>
                  <a:lnTo>
                    <a:pt x="370" y="736"/>
                  </a:lnTo>
                  <a:lnTo>
                    <a:pt x="387" y="747"/>
                  </a:lnTo>
                  <a:lnTo>
                    <a:pt x="409" y="751"/>
                  </a:lnTo>
                  <a:lnTo>
                    <a:pt x="433" y="752"/>
                  </a:lnTo>
                  <a:lnTo>
                    <a:pt x="460" y="749"/>
                  </a:lnTo>
                  <a:lnTo>
                    <a:pt x="486" y="743"/>
                  </a:lnTo>
                  <a:lnTo>
                    <a:pt x="514" y="7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91200" y="5177160"/>
              <a:ext cx="419400" cy="147240"/>
            </a:xfrm>
            <a:custGeom>
              <a:avLst/>
              <a:gdLst/>
              <a:ahLst/>
              <a:rect l="l" t="t" r="r" b="b"/>
              <a:pathLst>
                <a:path w="359" h="160">
                  <a:moveTo>
                    <a:pt x="16" y="66"/>
                  </a:moveTo>
                  <a:lnTo>
                    <a:pt x="26" y="77"/>
                  </a:lnTo>
                  <a:lnTo>
                    <a:pt x="31" y="89"/>
                  </a:lnTo>
                  <a:lnTo>
                    <a:pt x="34" y="103"/>
                  </a:lnTo>
                  <a:lnTo>
                    <a:pt x="33" y="117"/>
                  </a:lnTo>
                  <a:lnTo>
                    <a:pt x="29" y="132"/>
                  </a:lnTo>
                  <a:lnTo>
                    <a:pt x="22" y="143"/>
                  </a:lnTo>
                  <a:lnTo>
                    <a:pt x="13" y="152"/>
                  </a:lnTo>
                  <a:lnTo>
                    <a:pt x="0" y="160"/>
                  </a:lnTo>
                  <a:lnTo>
                    <a:pt x="83" y="146"/>
                  </a:lnTo>
                  <a:lnTo>
                    <a:pt x="359" y="0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72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68040" y="5319000"/>
              <a:ext cx="355680" cy="767160"/>
            </a:xfrm>
            <a:custGeom>
              <a:avLst/>
              <a:gdLst/>
              <a:ahLst/>
              <a:rect l="l" t="t" r="r" b="b"/>
              <a:pathLst>
                <a:path w="306" h="834">
                  <a:moveTo>
                    <a:pt x="0" y="65"/>
                  </a:moveTo>
                  <a:lnTo>
                    <a:pt x="4" y="56"/>
                  </a:lnTo>
                  <a:lnTo>
                    <a:pt x="7" y="48"/>
                  </a:lnTo>
                  <a:lnTo>
                    <a:pt x="12" y="40"/>
                  </a:lnTo>
                  <a:lnTo>
                    <a:pt x="16" y="33"/>
                  </a:lnTo>
                  <a:lnTo>
                    <a:pt x="22" y="27"/>
                  </a:lnTo>
                  <a:lnTo>
                    <a:pt x="29" y="23"/>
                  </a:lnTo>
                  <a:lnTo>
                    <a:pt x="36" y="17"/>
                  </a:lnTo>
                  <a:lnTo>
                    <a:pt x="44" y="12"/>
                  </a:lnTo>
                  <a:lnTo>
                    <a:pt x="53" y="8"/>
                  </a:lnTo>
                  <a:lnTo>
                    <a:pt x="63" y="4"/>
                  </a:lnTo>
                  <a:lnTo>
                    <a:pt x="71" y="2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2"/>
                  </a:lnTo>
                  <a:lnTo>
                    <a:pt x="117" y="4"/>
                  </a:lnTo>
                  <a:lnTo>
                    <a:pt x="306" y="816"/>
                  </a:lnTo>
                  <a:lnTo>
                    <a:pt x="300" y="820"/>
                  </a:lnTo>
                  <a:lnTo>
                    <a:pt x="293" y="823"/>
                  </a:lnTo>
                  <a:lnTo>
                    <a:pt x="287" y="827"/>
                  </a:lnTo>
                  <a:lnTo>
                    <a:pt x="281" y="828"/>
                  </a:lnTo>
                  <a:lnTo>
                    <a:pt x="276" y="830"/>
                  </a:lnTo>
                  <a:lnTo>
                    <a:pt x="270" y="831"/>
                  </a:lnTo>
                  <a:lnTo>
                    <a:pt x="263" y="833"/>
                  </a:lnTo>
                  <a:lnTo>
                    <a:pt x="256" y="834"/>
                  </a:lnTo>
                  <a:lnTo>
                    <a:pt x="249" y="834"/>
                  </a:lnTo>
                  <a:lnTo>
                    <a:pt x="242" y="834"/>
                  </a:lnTo>
                  <a:lnTo>
                    <a:pt x="237" y="834"/>
                  </a:lnTo>
                  <a:lnTo>
                    <a:pt x="231" y="834"/>
                  </a:lnTo>
                  <a:lnTo>
                    <a:pt x="224" y="833"/>
                  </a:lnTo>
                  <a:lnTo>
                    <a:pt x="218" y="831"/>
                  </a:lnTo>
                  <a:lnTo>
                    <a:pt x="212" y="829"/>
                  </a:lnTo>
                  <a:lnTo>
                    <a:pt x="205" y="82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728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48520" y="5453280"/>
              <a:ext cx="587880" cy="678960"/>
            </a:xfrm>
            <a:custGeom>
              <a:avLst/>
              <a:gdLst/>
              <a:ahLst/>
              <a:rect l="l" t="t" r="r" b="b"/>
              <a:pathLst>
                <a:path w="501" h="738">
                  <a:moveTo>
                    <a:pt x="77" y="0"/>
                  </a:moveTo>
                  <a:lnTo>
                    <a:pt x="138" y="39"/>
                  </a:lnTo>
                  <a:lnTo>
                    <a:pt x="500" y="652"/>
                  </a:lnTo>
                  <a:lnTo>
                    <a:pt x="501" y="665"/>
                  </a:lnTo>
                  <a:lnTo>
                    <a:pt x="501" y="676"/>
                  </a:lnTo>
                  <a:lnTo>
                    <a:pt x="499" y="688"/>
                  </a:lnTo>
                  <a:lnTo>
                    <a:pt x="495" y="697"/>
                  </a:lnTo>
                  <a:lnTo>
                    <a:pt x="490" y="707"/>
                  </a:lnTo>
                  <a:lnTo>
                    <a:pt x="483" y="715"/>
                  </a:lnTo>
                  <a:lnTo>
                    <a:pt x="473" y="723"/>
                  </a:lnTo>
                  <a:lnTo>
                    <a:pt x="463" y="729"/>
                  </a:lnTo>
                  <a:lnTo>
                    <a:pt x="453" y="734"/>
                  </a:lnTo>
                  <a:lnTo>
                    <a:pt x="442" y="737"/>
                  </a:lnTo>
                  <a:lnTo>
                    <a:pt x="432" y="738"/>
                  </a:lnTo>
                  <a:lnTo>
                    <a:pt x="422" y="738"/>
                  </a:lnTo>
                  <a:lnTo>
                    <a:pt x="412" y="737"/>
                  </a:lnTo>
                  <a:lnTo>
                    <a:pt x="402" y="734"/>
                  </a:lnTo>
                  <a:lnTo>
                    <a:pt x="393" y="729"/>
                  </a:lnTo>
                  <a:lnTo>
                    <a:pt x="384" y="722"/>
                  </a:lnTo>
                  <a:lnTo>
                    <a:pt x="0" y="74"/>
                  </a:lnTo>
                  <a:lnTo>
                    <a:pt x="5" y="57"/>
                  </a:lnTo>
                  <a:lnTo>
                    <a:pt x="10" y="44"/>
                  </a:lnTo>
                  <a:lnTo>
                    <a:pt x="20" y="31"/>
                  </a:lnTo>
                  <a:lnTo>
                    <a:pt x="32" y="19"/>
                  </a:lnTo>
                  <a:lnTo>
                    <a:pt x="37" y="15"/>
                  </a:lnTo>
                  <a:lnTo>
                    <a:pt x="43" y="11"/>
                  </a:lnTo>
                  <a:lnTo>
                    <a:pt x="47" y="8"/>
                  </a:lnTo>
                  <a:lnTo>
                    <a:pt x="53" y="6"/>
                  </a:lnTo>
                  <a:lnTo>
                    <a:pt x="58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35160" y="4038480"/>
              <a:ext cx="1736280" cy="1994400"/>
            </a:xfrm>
            <a:custGeom>
              <a:avLst/>
              <a:gdLst/>
              <a:ahLst/>
              <a:rect l="l" t="t" r="r" b="b"/>
              <a:pathLst>
                <a:path w="1484" h="2168">
                  <a:moveTo>
                    <a:pt x="1484" y="28"/>
                  </a:moveTo>
                  <a:lnTo>
                    <a:pt x="1472" y="39"/>
                  </a:lnTo>
                  <a:lnTo>
                    <a:pt x="1461" y="51"/>
                  </a:lnTo>
                  <a:lnTo>
                    <a:pt x="1450" y="65"/>
                  </a:lnTo>
                  <a:lnTo>
                    <a:pt x="1441" y="77"/>
                  </a:lnTo>
                  <a:lnTo>
                    <a:pt x="1435" y="92"/>
                  </a:lnTo>
                  <a:lnTo>
                    <a:pt x="1431" y="108"/>
                  </a:lnTo>
                  <a:lnTo>
                    <a:pt x="1430" y="126"/>
                  </a:lnTo>
                  <a:lnTo>
                    <a:pt x="1433" y="145"/>
                  </a:lnTo>
                  <a:lnTo>
                    <a:pt x="1419" y="156"/>
                  </a:lnTo>
                  <a:lnTo>
                    <a:pt x="1404" y="164"/>
                  </a:lnTo>
                  <a:lnTo>
                    <a:pt x="1389" y="172"/>
                  </a:lnTo>
                  <a:lnTo>
                    <a:pt x="1373" y="180"/>
                  </a:lnTo>
                  <a:lnTo>
                    <a:pt x="1358" y="188"/>
                  </a:lnTo>
                  <a:lnTo>
                    <a:pt x="1343" y="198"/>
                  </a:lnTo>
                  <a:lnTo>
                    <a:pt x="1331" y="210"/>
                  </a:lnTo>
                  <a:lnTo>
                    <a:pt x="1319" y="225"/>
                  </a:lnTo>
                  <a:lnTo>
                    <a:pt x="1313" y="227"/>
                  </a:lnTo>
                  <a:lnTo>
                    <a:pt x="1308" y="227"/>
                  </a:lnTo>
                  <a:lnTo>
                    <a:pt x="1301" y="228"/>
                  </a:lnTo>
                  <a:lnTo>
                    <a:pt x="1296" y="230"/>
                  </a:lnTo>
                  <a:lnTo>
                    <a:pt x="1296" y="226"/>
                  </a:lnTo>
                  <a:lnTo>
                    <a:pt x="1295" y="222"/>
                  </a:lnTo>
                  <a:lnTo>
                    <a:pt x="1293" y="220"/>
                  </a:lnTo>
                  <a:lnTo>
                    <a:pt x="1290" y="218"/>
                  </a:lnTo>
                  <a:lnTo>
                    <a:pt x="1302" y="203"/>
                  </a:lnTo>
                  <a:lnTo>
                    <a:pt x="1313" y="189"/>
                  </a:lnTo>
                  <a:lnTo>
                    <a:pt x="1326" y="175"/>
                  </a:lnTo>
                  <a:lnTo>
                    <a:pt x="1340" y="164"/>
                  </a:lnTo>
                  <a:lnTo>
                    <a:pt x="1355" y="153"/>
                  </a:lnTo>
                  <a:lnTo>
                    <a:pt x="1370" y="145"/>
                  </a:lnTo>
                  <a:lnTo>
                    <a:pt x="1387" y="141"/>
                  </a:lnTo>
                  <a:lnTo>
                    <a:pt x="1404" y="138"/>
                  </a:lnTo>
                  <a:lnTo>
                    <a:pt x="1411" y="114"/>
                  </a:lnTo>
                  <a:lnTo>
                    <a:pt x="1412" y="88"/>
                  </a:lnTo>
                  <a:lnTo>
                    <a:pt x="1417" y="62"/>
                  </a:lnTo>
                  <a:lnTo>
                    <a:pt x="1433" y="41"/>
                  </a:lnTo>
                  <a:lnTo>
                    <a:pt x="1418" y="43"/>
                  </a:lnTo>
                  <a:lnTo>
                    <a:pt x="1403" y="45"/>
                  </a:lnTo>
                  <a:lnTo>
                    <a:pt x="1387" y="50"/>
                  </a:lnTo>
                  <a:lnTo>
                    <a:pt x="1373" y="54"/>
                  </a:lnTo>
                  <a:lnTo>
                    <a:pt x="1359" y="62"/>
                  </a:lnTo>
                  <a:lnTo>
                    <a:pt x="1347" y="70"/>
                  </a:lnTo>
                  <a:lnTo>
                    <a:pt x="1335" y="82"/>
                  </a:lnTo>
                  <a:lnTo>
                    <a:pt x="1325" y="94"/>
                  </a:lnTo>
                  <a:lnTo>
                    <a:pt x="1323" y="106"/>
                  </a:lnTo>
                  <a:lnTo>
                    <a:pt x="1318" y="115"/>
                  </a:lnTo>
                  <a:lnTo>
                    <a:pt x="1312" y="124"/>
                  </a:lnTo>
                  <a:lnTo>
                    <a:pt x="1304" y="131"/>
                  </a:lnTo>
                  <a:lnTo>
                    <a:pt x="1295" y="137"/>
                  </a:lnTo>
                  <a:lnTo>
                    <a:pt x="1286" y="143"/>
                  </a:lnTo>
                  <a:lnTo>
                    <a:pt x="1275" y="149"/>
                  </a:lnTo>
                  <a:lnTo>
                    <a:pt x="1266" y="153"/>
                  </a:lnTo>
                  <a:lnTo>
                    <a:pt x="1273" y="192"/>
                  </a:lnTo>
                  <a:lnTo>
                    <a:pt x="1283" y="230"/>
                  </a:lnTo>
                  <a:lnTo>
                    <a:pt x="1291" y="271"/>
                  </a:lnTo>
                  <a:lnTo>
                    <a:pt x="1293" y="312"/>
                  </a:lnTo>
                  <a:lnTo>
                    <a:pt x="1274" y="324"/>
                  </a:lnTo>
                  <a:lnTo>
                    <a:pt x="1257" y="338"/>
                  </a:lnTo>
                  <a:lnTo>
                    <a:pt x="1240" y="350"/>
                  </a:lnTo>
                  <a:lnTo>
                    <a:pt x="1225" y="365"/>
                  </a:lnTo>
                  <a:lnTo>
                    <a:pt x="1210" y="380"/>
                  </a:lnTo>
                  <a:lnTo>
                    <a:pt x="1195" y="395"/>
                  </a:lnTo>
                  <a:lnTo>
                    <a:pt x="1181" y="410"/>
                  </a:lnTo>
                  <a:lnTo>
                    <a:pt x="1166" y="425"/>
                  </a:lnTo>
                  <a:lnTo>
                    <a:pt x="1152" y="441"/>
                  </a:lnTo>
                  <a:lnTo>
                    <a:pt x="1137" y="456"/>
                  </a:lnTo>
                  <a:lnTo>
                    <a:pt x="1123" y="471"/>
                  </a:lnTo>
                  <a:lnTo>
                    <a:pt x="1107" y="485"/>
                  </a:lnTo>
                  <a:lnTo>
                    <a:pt x="1092" y="499"/>
                  </a:lnTo>
                  <a:lnTo>
                    <a:pt x="1075" y="513"/>
                  </a:lnTo>
                  <a:lnTo>
                    <a:pt x="1058" y="524"/>
                  </a:lnTo>
                  <a:lnTo>
                    <a:pt x="1038" y="536"/>
                  </a:lnTo>
                  <a:lnTo>
                    <a:pt x="1015" y="560"/>
                  </a:lnTo>
                  <a:lnTo>
                    <a:pt x="990" y="585"/>
                  </a:lnTo>
                  <a:lnTo>
                    <a:pt x="964" y="609"/>
                  </a:lnTo>
                  <a:lnTo>
                    <a:pt x="940" y="635"/>
                  </a:lnTo>
                  <a:lnTo>
                    <a:pt x="919" y="661"/>
                  </a:lnTo>
                  <a:lnTo>
                    <a:pt x="903" y="691"/>
                  </a:lnTo>
                  <a:lnTo>
                    <a:pt x="893" y="722"/>
                  </a:lnTo>
                  <a:lnTo>
                    <a:pt x="892" y="758"/>
                  </a:lnTo>
                  <a:lnTo>
                    <a:pt x="897" y="827"/>
                  </a:lnTo>
                  <a:lnTo>
                    <a:pt x="908" y="895"/>
                  </a:lnTo>
                  <a:lnTo>
                    <a:pt x="919" y="963"/>
                  </a:lnTo>
                  <a:lnTo>
                    <a:pt x="932" y="1031"/>
                  </a:lnTo>
                  <a:lnTo>
                    <a:pt x="944" y="1098"/>
                  </a:lnTo>
                  <a:lnTo>
                    <a:pt x="952" y="1165"/>
                  </a:lnTo>
                  <a:lnTo>
                    <a:pt x="954" y="1230"/>
                  </a:lnTo>
                  <a:lnTo>
                    <a:pt x="950" y="1295"/>
                  </a:lnTo>
                  <a:lnTo>
                    <a:pt x="942" y="1296"/>
                  </a:lnTo>
                  <a:lnTo>
                    <a:pt x="933" y="1298"/>
                  </a:lnTo>
                  <a:lnTo>
                    <a:pt x="925" y="1302"/>
                  </a:lnTo>
                  <a:lnTo>
                    <a:pt x="918" y="1305"/>
                  </a:lnTo>
                  <a:lnTo>
                    <a:pt x="910" y="1310"/>
                  </a:lnTo>
                  <a:lnTo>
                    <a:pt x="903" y="1314"/>
                  </a:lnTo>
                  <a:lnTo>
                    <a:pt x="897" y="1320"/>
                  </a:lnTo>
                  <a:lnTo>
                    <a:pt x="892" y="1325"/>
                  </a:lnTo>
                  <a:lnTo>
                    <a:pt x="886" y="1330"/>
                  </a:lnTo>
                  <a:lnTo>
                    <a:pt x="892" y="1418"/>
                  </a:lnTo>
                  <a:lnTo>
                    <a:pt x="897" y="1504"/>
                  </a:lnTo>
                  <a:lnTo>
                    <a:pt x="904" y="1591"/>
                  </a:lnTo>
                  <a:lnTo>
                    <a:pt x="912" y="1676"/>
                  </a:lnTo>
                  <a:lnTo>
                    <a:pt x="921" y="1761"/>
                  </a:lnTo>
                  <a:lnTo>
                    <a:pt x="930" y="1845"/>
                  </a:lnTo>
                  <a:lnTo>
                    <a:pt x="940" y="1931"/>
                  </a:lnTo>
                  <a:lnTo>
                    <a:pt x="953" y="2017"/>
                  </a:lnTo>
                  <a:lnTo>
                    <a:pt x="953" y="2055"/>
                  </a:lnTo>
                  <a:lnTo>
                    <a:pt x="957" y="2088"/>
                  </a:lnTo>
                  <a:lnTo>
                    <a:pt x="963" y="2122"/>
                  </a:lnTo>
                  <a:lnTo>
                    <a:pt x="964" y="2161"/>
                  </a:lnTo>
                  <a:lnTo>
                    <a:pt x="959" y="2166"/>
                  </a:lnTo>
                  <a:lnTo>
                    <a:pt x="954" y="2168"/>
                  </a:lnTo>
                  <a:lnTo>
                    <a:pt x="950" y="2167"/>
                  </a:lnTo>
                  <a:lnTo>
                    <a:pt x="947" y="2165"/>
                  </a:lnTo>
                  <a:lnTo>
                    <a:pt x="942" y="2161"/>
                  </a:lnTo>
                  <a:lnTo>
                    <a:pt x="939" y="2159"/>
                  </a:lnTo>
                  <a:lnTo>
                    <a:pt x="934" y="2156"/>
                  </a:lnTo>
                  <a:lnTo>
                    <a:pt x="929" y="2155"/>
                  </a:lnTo>
                  <a:lnTo>
                    <a:pt x="902" y="2092"/>
                  </a:lnTo>
                  <a:lnTo>
                    <a:pt x="877" y="2027"/>
                  </a:lnTo>
                  <a:lnTo>
                    <a:pt x="851" y="1962"/>
                  </a:lnTo>
                  <a:lnTo>
                    <a:pt x="828" y="1896"/>
                  </a:lnTo>
                  <a:lnTo>
                    <a:pt x="806" y="1829"/>
                  </a:lnTo>
                  <a:lnTo>
                    <a:pt x="785" y="1762"/>
                  </a:lnTo>
                  <a:lnTo>
                    <a:pt x="765" y="1695"/>
                  </a:lnTo>
                  <a:lnTo>
                    <a:pt x="745" y="1627"/>
                  </a:lnTo>
                  <a:lnTo>
                    <a:pt x="743" y="1545"/>
                  </a:lnTo>
                  <a:lnTo>
                    <a:pt x="751" y="1545"/>
                  </a:lnTo>
                  <a:lnTo>
                    <a:pt x="758" y="1547"/>
                  </a:lnTo>
                  <a:lnTo>
                    <a:pt x="764" y="1553"/>
                  </a:lnTo>
                  <a:lnTo>
                    <a:pt x="768" y="1559"/>
                  </a:lnTo>
                  <a:lnTo>
                    <a:pt x="772" y="1567"/>
                  </a:lnTo>
                  <a:lnTo>
                    <a:pt x="774" y="1574"/>
                  </a:lnTo>
                  <a:lnTo>
                    <a:pt x="778" y="1582"/>
                  </a:lnTo>
                  <a:lnTo>
                    <a:pt x="780" y="1587"/>
                  </a:lnTo>
                  <a:lnTo>
                    <a:pt x="790" y="1621"/>
                  </a:lnTo>
                  <a:lnTo>
                    <a:pt x="802" y="1654"/>
                  </a:lnTo>
                  <a:lnTo>
                    <a:pt x="813" y="1686"/>
                  </a:lnTo>
                  <a:lnTo>
                    <a:pt x="825" y="1720"/>
                  </a:lnTo>
                  <a:lnTo>
                    <a:pt x="836" y="1753"/>
                  </a:lnTo>
                  <a:lnTo>
                    <a:pt x="848" y="1788"/>
                  </a:lnTo>
                  <a:lnTo>
                    <a:pt x="858" y="1821"/>
                  </a:lnTo>
                  <a:lnTo>
                    <a:pt x="868" y="1856"/>
                  </a:lnTo>
                  <a:lnTo>
                    <a:pt x="876" y="1875"/>
                  </a:lnTo>
                  <a:lnTo>
                    <a:pt x="882" y="1895"/>
                  </a:lnTo>
                  <a:lnTo>
                    <a:pt x="888" y="1915"/>
                  </a:lnTo>
                  <a:lnTo>
                    <a:pt x="894" y="1935"/>
                  </a:lnTo>
                  <a:lnTo>
                    <a:pt x="900" y="1955"/>
                  </a:lnTo>
                  <a:lnTo>
                    <a:pt x="907" y="1974"/>
                  </a:lnTo>
                  <a:lnTo>
                    <a:pt x="916" y="1994"/>
                  </a:lnTo>
                  <a:lnTo>
                    <a:pt x="926" y="2012"/>
                  </a:lnTo>
                  <a:lnTo>
                    <a:pt x="921" y="1927"/>
                  </a:lnTo>
                  <a:lnTo>
                    <a:pt x="914" y="1844"/>
                  </a:lnTo>
                  <a:lnTo>
                    <a:pt x="907" y="1760"/>
                  </a:lnTo>
                  <a:lnTo>
                    <a:pt x="899" y="1676"/>
                  </a:lnTo>
                  <a:lnTo>
                    <a:pt x="892" y="1592"/>
                  </a:lnTo>
                  <a:lnTo>
                    <a:pt x="884" y="1508"/>
                  </a:lnTo>
                  <a:lnTo>
                    <a:pt x="876" y="1421"/>
                  </a:lnTo>
                  <a:lnTo>
                    <a:pt x="868" y="1335"/>
                  </a:lnTo>
                  <a:lnTo>
                    <a:pt x="861" y="1332"/>
                  </a:lnTo>
                  <a:lnTo>
                    <a:pt x="854" y="1330"/>
                  </a:lnTo>
                  <a:lnTo>
                    <a:pt x="847" y="1329"/>
                  </a:lnTo>
                  <a:lnTo>
                    <a:pt x="840" y="1329"/>
                  </a:lnTo>
                  <a:lnTo>
                    <a:pt x="833" y="1332"/>
                  </a:lnTo>
                  <a:lnTo>
                    <a:pt x="827" y="1333"/>
                  </a:lnTo>
                  <a:lnTo>
                    <a:pt x="820" y="1335"/>
                  </a:lnTo>
                  <a:lnTo>
                    <a:pt x="815" y="1339"/>
                  </a:lnTo>
                  <a:lnTo>
                    <a:pt x="802" y="1334"/>
                  </a:lnTo>
                  <a:lnTo>
                    <a:pt x="787" y="1334"/>
                  </a:lnTo>
                  <a:lnTo>
                    <a:pt x="772" y="1336"/>
                  </a:lnTo>
                  <a:lnTo>
                    <a:pt x="757" y="1339"/>
                  </a:lnTo>
                  <a:lnTo>
                    <a:pt x="744" y="1340"/>
                  </a:lnTo>
                  <a:lnTo>
                    <a:pt x="735" y="1336"/>
                  </a:lnTo>
                  <a:lnTo>
                    <a:pt x="728" y="1326"/>
                  </a:lnTo>
                  <a:lnTo>
                    <a:pt x="727" y="1309"/>
                  </a:lnTo>
                  <a:lnTo>
                    <a:pt x="733" y="1301"/>
                  </a:lnTo>
                  <a:lnTo>
                    <a:pt x="737" y="1299"/>
                  </a:lnTo>
                  <a:lnTo>
                    <a:pt x="742" y="1298"/>
                  </a:lnTo>
                  <a:lnTo>
                    <a:pt x="745" y="1297"/>
                  </a:lnTo>
                  <a:lnTo>
                    <a:pt x="750" y="1296"/>
                  </a:lnTo>
                  <a:lnTo>
                    <a:pt x="755" y="1296"/>
                  </a:lnTo>
                  <a:lnTo>
                    <a:pt x="759" y="1296"/>
                  </a:lnTo>
                  <a:lnTo>
                    <a:pt x="765" y="1298"/>
                  </a:lnTo>
                  <a:lnTo>
                    <a:pt x="770" y="1301"/>
                  </a:lnTo>
                  <a:lnTo>
                    <a:pt x="789" y="1297"/>
                  </a:lnTo>
                  <a:lnTo>
                    <a:pt x="808" y="1294"/>
                  </a:lnTo>
                  <a:lnTo>
                    <a:pt x="826" y="1289"/>
                  </a:lnTo>
                  <a:lnTo>
                    <a:pt x="844" y="1286"/>
                  </a:lnTo>
                  <a:lnTo>
                    <a:pt x="862" y="1280"/>
                  </a:lnTo>
                  <a:lnTo>
                    <a:pt x="879" y="1273"/>
                  </a:lnTo>
                  <a:lnTo>
                    <a:pt x="895" y="1264"/>
                  </a:lnTo>
                  <a:lnTo>
                    <a:pt x="911" y="1251"/>
                  </a:lnTo>
                  <a:lnTo>
                    <a:pt x="911" y="1228"/>
                  </a:lnTo>
                  <a:lnTo>
                    <a:pt x="910" y="1205"/>
                  </a:lnTo>
                  <a:lnTo>
                    <a:pt x="907" y="1182"/>
                  </a:lnTo>
                  <a:lnTo>
                    <a:pt x="900" y="1161"/>
                  </a:lnTo>
                  <a:lnTo>
                    <a:pt x="893" y="1162"/>
                  </a:lnTo>
                  <a:lnTo>
                    <a:pt x="887" y="1165"/>
                  </a:lnTo>
                  <a:lnTo>
                    <a:pt x="881" y="1163"/>
                  </a:lnTo>
                  <a:lnTo>
                    <a:pt x="876" y="1159"/>
                  </a:lnTo>
                  <a:lnTo>
                    <a:pt x="882" y="1155"/>
                  </a:lnTo>
                  <a:lnTo>
                    <a:pt x="889" y="1150"/>
                  </a:lnTo>
                  <a:lnTo>
                    <a:pt x="895" y="1144"/>
                  </a:lnTo>
                  <a:lnTo>
                    <a:pt x="900" y="1137"/>
                  </a:lnTo>
                  <a:lnTo>
                    <a:pt x="903" y="1130"/>
                  </a:lnTo>
                  <a:lnTo>
                    <a:pt x="907" y="1122"/>
                  </a:lnTo>
                  <a:lnTo>
                    <a:pt x="910" y="1114"/>
                  </a:lnTo>
                  <a:lnTo>
                    <a:pt x="912" y="1106"/>
                  </a:lnTo>
                  <a:lnTo>
                    <a:pt x="907" y="1068"/>
                  </a:lnTo>
                  <a:lnTo>
                    <a:pt x="900" y="1031"/>
                  </a:lnTo>
                  <a:lnTo>
                    <a:pt x="892" y="994"/>
                  </a:lnTo>
                  <a:lnTo>
                    <a:pt x="885" y="957"/>
                  </a:lnTo>
                  <a:lnTo>
                    <a:pt x="878" y="919"/>
                  </a:lnTo>
                  <a:lnTo>
                    <a:pt x="872" y="881"/>
                  </a:lnTo>
                  <a:lnTo>
                    <a:pt x="868" y="843"/>
                  </a:lnTo>
                  <a:lnTo>
                    <a:pt x="865" y="803"/>
                  </a:lnTo>
                  <a:lnTo>
                    <a:pt x="863" y="768"/>
                  </a:lnTo>
                  <a:lnTo>
                    <a:pt x="864" y="736"/>
                  </a:lnTo>
                  <a:lnTo>
                    <a:pt x="871" y="705"/>
                  </a:lnTo>
                  <a:lnTo>
                    <a:pt x="881" y="677"/>
                  </a:lnTo>
                  <a:lnTo>
                    <a:pt x="895" y="651"/>
                  </a:lnTo>
                  <a:lnTo>
                    <a:pt x="912" y="627"/>
                  </a:lnTo>
                  <a:lnTo>
                    <a:pt x="932" y="604"/>
                  </a:lnTo>
                  <a:lnTo>
                    <a:pt x="954" y="581"/>
                  </a:lnTo>
                  <a:lnTo>
                    <a:pt x="977" y="560"/>
                  </a:lnTo>
                  <a:lnTo>
                    <a:pt x="1001" y="539"/>
                  </a:lnTo>
                  <a:lnTo>
                    <a:pt x="1026" y="518"/>
                  </a:lnTo>
                  <a:lnTo>
                    <a:pt x="1052" y="499"/>
                  </a:lnTo>
                  <a:lnTo>
                    <a:pt x="1077" y="478"/>
                  </a:lnTo>
                  <a:lnTo>
                    <a:pt x="1101" y="458"/>
                  </a:lnTo>
                  <a:lnTo>
                    <a:pt x="1124" y="438"/>
                  </a:lnTo>
                  <a:lnTo>
                    <a:pt x="1146" y="416"/>
                  </a:lnTo>
                  <a:lnTo>
                    <a:pt x="1270" y="297"/>
                  </a:lnTo>
                  <a:lnTo>
                    <a:pt x="1258" y="263"/>
                  </a:lnTo>
                  <a:lnTo>
                    <a:pt x="1251" y="227"/>
                  </a:lnTo>
                  <a:lnTo>
                    <a:pt x="1245" y="192"/>
                  </a:lnTo>
                  <a:lnTo>
                    <a:pt x="1240" y="159"/>
                  </a:lnTo>
                  <a:lnTo>
                    <a:pt x="1230" y="160"/>
                  </a:lnTo>
                  <a:lnTo>
                    <a:pt x="1221" y="164"/>
                  </a:lnTo>
                  <a:lnTo>
                    <a:pt x="1212" y="168"/>
                  </a:lnTo>
                  <a:lnTo>
                    <a:pt x="1203" y="174"/>
                  </a:lnTo>
                  <a:lnTo>
                    <a:pt x="1195" y="180"/>
                  </a:lnTo>
                  <a:lnTo>
                    <a:pt x="1187" y="185"/>
                  </a:lnTo>
                  <a:lnTo>
                    <a:pt x="1180" y="190"/>
                  </a:lnTo>
                  <a:lnTo>
                    <a:pt x="1173" y="195"/>
                  </a:lnTo>
                  <a:lnTo>
                    <a:pt x="1153" y="209"/>
                  </a:lnTo>
                  <a:lnTo>
                    <a:pt x="1135" y="222"/>
                  </a:lnTo>
                  <a:lnTo>
                    <a:pt x="1115" y="236"/>
                  </a:lnTo>
                  <a:lnTo>
                    <a:pt x="1096" y="249"/>
                  </a:lnTo>
                  <a:lnTo>
                    <a:pt x="1076" y="263"/>
                  </a:lnTo>
                  <a:lnTo>
                    <a:pt x="1056" y="276"/>
                  </a:lnTo>
                  <a:lnTo>
                    <a:pt x="1037" y="289"/>
                  </a:lnTo>
                  <a:lnTo>
                    <a:pt x="1016" y="303"/>
                  </a:lnTo>
                  <a:lnTo>
                    <a:pt x="997" y="317"/>
                  </a:lnTo>
                  <a:lnTo>
                    <a:pt x="977" y="329"/>
                  </a:lnTo>
                  <a:lnTo>
                    <a:pt x="957" y="343"/>
                  </a:lnTo>
                  <a:lnTo>
                    <a:pt x="938" y="357"/>
                  </a:lnTo>
                  <a:lnTo>
                    <a:pt x="918" y="370"/>
                  </a:lnTo>
                  <a:lnTo>
                    <a:pt x="899" y="384"/>
                  </a:lnTo>
                  <a:lnTo>
                    <a:pt x="879" y="397"/>
                  </a:lnTo>
                  <a:lnTo>
                    <a:pt x="859" y="411"/>
                  </a:lnTo>
                  <a:lnTo>
                    <a:pt x="850" y="408"/>
                  </a:lnTo>
                  <a:lnTo>
                    <a:pt x="844" y="401"/>
                  </a:lnTo>
                  <a:lnTo>
                    <a:pt x="840" y="392"/>
                  </a:lnTo>
                  <a:lnTo>
                    <a:pt x="833" y="385"/>
                  </a:lnTo>
                  <a:lnTo>
                    <a:pt x="823" y="393"/>
                  </a:lnTo>
                  <a:lnTo>
                    <a:pt x="813" y="402"/>
                  </a:lnTo>
                  <a:lnTo>
                    <a:pt x="804" y="411"/>
                  </a:lnTo>
                  <a:lnTo>
                    <a:pt x="796" y="420"/>
                  </a:lnTo>
                  <a:lnTo>
                    <a:pt x="788" y="430"/>
                  </a:lnTo>
                  <a:lnTo>
                    <a:pt x="779" y="438"/>
                  </a:lnTo>
                  <a:lnTo>
                    <a:pt x="768" y="445"/>
                  </a:lnTo>
                  <a:lnTo>
                    <a:pt x="756" y="450"/>
                  </a:lnTo>
                  <a:lnTo>
                    <a:pt x="762" y="467"/>
                  </a:lnTo>
                  <a:lnTo>
                    <a:pt x="770" y="482"/>
                  </a:lnTo>
                  <a:lnTo>
                    <a:pt x="778" y="495"/>
                  </a:lnTo>
                  <a:lnTo>
                    <a:pt x="788" y="509"/>
                  </a:lnTo>
                  <a:lnTo>
                    <a:pt x="798" y="523"/>
                  </a:lnTo>
                  <a:lnTo>
                    <a:pt x="809" y="537"/>
                  </a:lnTo>
                  <a:lnTo>
                    <a:pt x="819" y="551"/>
                  </a:lnTo>
                  <a:lnTo>
                    <a:pt x="828" y="564"/>
                  </a:lnTo>
                  <a:lnTo>
                    <a:pt x="826" y="575"/>
                  </a:lnTo>
                  <a:lnTo>
                    <a:pt x="821" y="585"/>
                  </a:lnTo>
                  <a:lnTo>
                    <a:pt x="816" y="596"/>
                  </a:lnTo>
                  <a:lnTo>
                    <a:pt x="809" y="605"/>
                  </a:lnTo>
                  <a:lnTo>
                    <a:pt x="823" y="612"/>
                  </a:lnTo>
                  <a:lnTo>
                    <a:pt x="829" y="622"/>
                  </a:lnTo>
                  <a:lnTo>
                    <a:pt x="829" y="635"/>
                  </a:lnTo>
                  <a:lnTo>
                    <a:pt x="827" y="647"/>
                  </a:lnTo>
                  <a:lnTo>
                    <a:pt x="821" y="662"/>
                  </a:lnTo>
                  <a:lnTo>
                    <a:pt x="817" y="676"/>
                  </a:lnTo>
                  <a:lnTo>
                    <a:pt x="812" y="691"/>
                  </a:lnTo>
                  <a:lnTo>
                    <a:pt x="812" y="705"/>
                  </a:lnTo>
                  <a:lnTo>
                    <a:pt x="809" y="715"/>
                  </a:lnTo>
                  <a:lnTo>
                    <a:pt x="806" y="727"/>
                  </a:lnTo>
                  <a:lnTo>
                    <a:pt x="804" y="737"/>
                  </a:lnTo>
                  <a:lnTo>
                    <a:pt x="803" y="748"/>
                  </a:lnTo>
                  <a:lnTo>
                    <a:pt x="800" y="757"/>
                  </a:lnTo>
                  <a:lnTo>
                    <a:pt x="795" y="765"/>
                  </a:lnTo>
                  <a:lnTo>
                    <a:pt x="788" y="771"/>
                  </a:lnTo>
                  <a:lnTo>
                    <a:pt x="778" y="774"/>
                  </a:lnTo>
                  <a:lnTo>
                    <a:pt x="773" y="769"/>
                  </a:lnTo>
                  <a:lnTo>
                    <a:pt x="781" y="735"/>
                  </a:lnTo>
                  <a:lnTo>
                    <a:pt x="788" y="699"/>
                  </a:lnTo>
                  <a:lnTo>
                    <a:pt x="796" y="665"/>
                  </a:lnTo>
                  <a:lnTo>
                    <a:pt x="806" y="631"/>
                  </a:lnTo>
                  <a:lnTo>
                    <a:pt x="801" y="628"/>
                  </a:lnTo>
                  <a:lnTo>
                    <a:pt x="795" y="626"/>
                  </a:lnTo>
                  <a:lnTo>
                    <a:pt x="788" y="621"/>
                  </a:lnTo>
                  <a:lnTo>
                    <a:pt x="782" y="617"/>
                  </a:lnTo>
                  <a:lnTo>
                    <a:pt x="779" y="613"/>
                  </a:lnTo>
                  <a:lnTo>
                    <a:pt x="777" y="607"/>
                  </a:lnTo>
                  <a:lnTo>
                    <a:pt x="778" y="601"/>
                  </a:lnTo>
                  <a:lnTo>
                    <a:pt x="782" y="593"/>
                  </a:lnTo>
                  <a:lnTo>
                    <a:pt x="796" y="579"/>
                  </a:lnTo>
                  <a:lnTo>
                    <a:pt x="801" y="566"/>
                  </a:lnTo>
                  <a:lnTo>
                    <a:pt x="797" y="552"/>
                  </a:lnTo>
                  <a:lnTo>
                    <a:pt x="788" y="538"/>
                  </a:lnTo>
                  <a:lnTo>
                    <a:pt x="777" y="524"/>
                  </a:lnTo>
                  <a:lnTo>
                    <a:pt x="765" y="511"/>
                  </a:lnTo>
                  <a:lnTo>
                    <a:pt x="755" y="498"/>
                  </a:lnTo>
                  <a:lnTo>
                    <a:pt x="748" y="485"/>
                  </a:lnTo>
                  <a:lnTo>
                    <a:pt x="745" y="515"/>
                  </a:lnTo>
                  <a:lnTo>
                    <a:pt x="748" y="546"/>
                  </a:lnTo>
                  <a:lnTo>
                    <a:pt x="752" y="578"/>
                  </a:lnTo>
                  <a:lnTo>
                    <a:pt x="751" y="612"/>
                  </a:lnTo>
                  <a:lnTo>
                    <a:pt x="756" y="735"/>
                  </a:lnTo>
                  <a:lnTo>
                    <a:pt x="757" y="858"/>
                  </a:lnTo>
                  <a:lnTo>
                    <a:pt x="751" y="983"/>
                  </a:lnTo>
                  <a:lnTo>
                    <a:pt x="735" y="1106"/>
                  </a:lnTo>
                  <a:lnTo>
                    <a:pt x="729" y="1107"/>
                  </a:lnTo>
                  <a:lnTo>
                    <a:pt x="724" y="1109"/>
                  </a:lnTo>
                  <a:lnTo>
                    <a:pt x="719" y="1109"/>
                  </a:lnTo>
                  <a:lnTo>
                    <a:pt x="714" y="1106"/>
                  </a:lnTo>
                  <a:lnTo>
                    <a:pt x="724" y="1082"/>
                  </a:lnTo>
                  <a:lnTo>
                    <a:pt x="726" y="1054"/>
                  </a:lnTo>
                  <a:lnTo>
                    <a:pt x="728" y="1028"/>
                  </a:lnTo>
                  <a:lnTo>
                    <a:pt x="735" y="1002"/>
                  </a:lnTo>
                  <a:lnTo>
                    <a:pt x="725" y="978"/>
                  </a:lnTo>
                  <a:lnTo>
                    <a:pt x="715" y="985"/>
                  </a:lnTo>
                  <a:lnTo>
                    <a:pt x="710" y="994"/>
                  </a:lnTo>
                  <a:lnTo>
                    <a:pt x="704" y="1003"/>
                  </a:lnTo>
                  <a:lnTo>
                    <a:pt x="700" y="1014"/>
                  </a:lnTo>
                  <a:lnTo>
                    <a:pt x="695" y="1024"/>
                  </a:lnTo>
                  <a:lnTo>
                    <a:pt x="689" y="1031"/>
                  </a:lnTo>
                  <a:lnTo>
                    <a:pt x="681" y="1036"/>
                  </a:lnTo>
                  <a:lnTo>
                    <a:pt x="669" y="1037"/>
                  </a:lnTo>
                  <a:lnTo>
                    <a:pt x="665" y="1030"/>
                  </a:lnTo>
                  <a:lnTo>
                    <a:pt x="660" y="1023"/>
                  </a:lnTo>
                  <a:lnTo>
                    <a:pt x="656" y="1017"/>
                  </a:lnTo>
                  <a:lnTo>
                    <a:pt x="646" y="1014"/>
                  </a:lnTo>
                  <a:lnTo>
                    <a:pt x="642" y="1052"/>
                  </a:lnTo>
                  <a:lnTo>
                    <a:pt x="642" y="1092"/>
                  </a:lnTo>
                  <a:lnTo>
                    <a:pt x="645" y="1131"/>
                  </a:lnTo>
                  <a:lnTo>
                    <a:pt x="646" y="1169"/>
                  </a:lnTo>
                  <a:lnTo>
                    <a:pt x="641" y="1172"/>
                  </a:lnTo>
                  <a:lnTo>
                    <a:pt x="636" y="1173"/>
                  </a:lnTo>
                  <a:lnTo>
                    <a:pt x="630" y="1174"/>
                  </a:lnTo>
                  <a:lnTo>
                    <a:pt x="624" y="1175"/>
                  </a:lnTo>
                  <a:lnTo>
                    <a:pt x="620" y="1053"/>
                  </a:lnTo>
                  <a:lnTo>
                    <a:pt x="624" y="1045"/>
                  </a:lnTo>
                  <a:lnTo>
                    <a:pt x="624" y="1036"/>
                  </a:lnTo>
                  <a:lnTo>
                    <a:pt x="622" y="1025"/>
                  </a:lnTo>
                  <a:lnTo>
                    <a:pt x="620" y="1016"/>
                  </a:lnTo>
                  <a:lnTo>
                    <a:pt x="621" y="962"/>
                  </a:lnTo>
                  <a:lnTo>
                    <a:pt x="616" y="908"/>
                  </a:lnTo>
                  <a:lnTo>
                    <a:pt x="609" y="855"/>
                  </a:lnTo>
                  <a:lnTo>
                    <a:pt x="608" y="801"/>
                  </a:lnTo>
                  <a:lnTo>
                    <a:pt x="606" y="768"/>
                  </a:lnTo>
                  <a:lnTo>
                    <a:pt x="599" y="738"/>
                  </a:lnTo>
                  <a:lnTo>
                    <a:pt x="594" y="710"/>
                  </a:lnTo>
                  <a:lnTo>
                    <a:pt x="593" y="678"/>
                  </a:lnTo>
                  <a:lnTo>
                    <a:pt x="589" y="655"/>
                  </a:lnTo>
                  <a:lnTo>
                    <a:pt x="583" y="632"/>
                  </a:lnTo>
                  <a:lnTo>
                    <a:pt x="578" y="609"/>
                  </a:lnTo>
                  <a:lnTo>
                    <a:pt x="574" y="585"/>
                  </a:lnTo>
                  <a:lnTo>
                    <a:pt x="568" y="561"/>
                  </a:lnTo>
                  <a:lnTo>
                    <a:pt x="562" y="538"/>
                  </a:lnTo>
                  <a:lnTo>
                    <a:pt x="556" y="515"/>
                  </a:lnTo>
                  <a:lnTo>
                    <a:pt x="551" y="493"/>
                  </a:lnTo>
                  <a:lnTo>
                    <a:pt x="543" y="505"/>
                  </a:lnTo>
                  <a:lnTo>
                    <a:pt x="536" y="517"/>
                  </a:lnTo>
                  <a:lnTo>
                    <a:pt x="530" y="530"/>
                  </a:lnTo>
                  <a:lnTo>
                    <a:pt x="524" y="544"/>
                  </a:lnTo>
                  <a:lnTo>
                    <a:pt x="520" y="558"/>
                  </a:lnTo>
                  <a:lnTo>
                    <a:pt x="516" y="571"/>
                  </a:lnTo>
                  <a:lnTo>
                    <a:pt x="515" y="585"/>
                  </a:lnTo>
                  <a:lnTo>
                    <a:pt x="514" y="599"/>
                  </a:lnTo>
                  <a:lnTo>
                    <a:pt x="510" y="600"/>
                  </a:lnTo>
                  <a:lnTo>
                    <a:pt x="508" y="601"/>
                  </a:lnTo>
                  <a:lnTo>
                    <a:pt x="508" y="605"/>
                  </a:lnTo>
                  <a:lnTo>
                    <a:pt x="508" y="607"/>
                  </a:lnTo>
                  <a:lnTo>
                    <a:pt x="510" y="616"/>
                  </a:lnTo>
                  <a:lnTo>
                    <a:pt x="516" y="621"/>
                  </a:lnTo>
                  <a:lnTo>
                    <a:pt x="524" y="623"/>
                  </a:lnTo>
                  <a:lnTo>
                    <a:pt x="532" y="624"/>
                  </a:lnTo>
                  <a:lnTo>
                    <a:pt x="541" y="626"/>
                  </a:lnTo>
                  <a:lnTo>
                    <a:pt x="548" y="629"/>
                  </a:lnTo>
                  <a:lnTo>
                    <a:pt x="554" y="635"/>
                  </a:lnTo>
                  <a:lnTo>
                    <a:pt x="555" y="646"/>
                  </a:lnTo>
                  <a:lnTo>
                    <a:pt x="547" y="676"/>
                  </a:lnTo>
                  <a:lnTo>
                    <a:pt x="546" y="705"/>
                  </a:lnTo>
                  <a:lnTo>
                    <a:pt x="548" y="735"/>
                  </a:lnTo>
                  <a:lnTo>
                    <a:pt x="551" y="766"/>
                  </a:lnTo>
                  <a:lnTo>
                    <a:pt x="556" y="767"/>
                  </a:lnTo>
                  <a:lnTo>
                    <a:pt x="562" y="773"/>
                  </a:lnTo>
                  <a:lnTo>
                    <a:pt x="568" y="780"/>
                  </a:lnTo>
                  <a:lnTo>
                    <a:pt x="575" y="784"/>
                  </a:lnTo>
                  <a:lnTo>
                    <a:pt x="567" y="788"/>
                  </a:lnTo>
                  <a:lnTo>
                    <a:pt x="561" y="791"/>
                  </a:lnTo>
                  <a:lnTo>
                    <a:pt x="555" y="791"/>
                  </a:lnTo>
                  <a:lnTo>
                    <a:pt x="548" y="784"/>
                  </a:lnTo>
                  <a:lnTo>
                    <a:pt x="546" y="780"/>
                  </a:lnTo>
                  <a:lnTo>
                    <a:pt x="545" y="773"/>
                  </a:lnTo>
                  <a:lnTo>
                    <a:pt x="541" y="768"/>
                  </a:lnTo>
                  <a:lnTo>
                    <a:pt x="535" y="766"/>
                  </a:lnTo>
                  <a:lnTo>
                    <a:pt x="530" y="741"/>
                  </a:lnTo>
                  <a:lnTo>
                    <a:pt x="523" y="710"/>
                  </a:lnTo>
                  <a:lnTo>
                    <a:pt x="521" y="677"/>
                  </a:lnTo>
                  <a:lnTo>
                    <a:pt x="529" y="646"/>
                  </a:lnTo>
                  <a:lnTo>
                    <a:pt x="524" y="643"/>
                  </a:lnTo>
                  <a:lnTo>
                    <a:pt x="518" y="639"/>
                  </a:lnTo>
                  <a:lnTo>
                    <a:pt x="513" y="637"/>
                  </a:lnTo>
                  <a:lnTo>
                    <a:pt x="507" y="636"/>
                  </a:lnTo>
                  <a:lnTo>
                    <a:pt x="500" y="636"/>
                  </a:lnTo>
                  <a:lnTo>
                    <a:pt x="493" y="636"/>
                  </a:lnTo>
                  <a:lnTo>
                    <a:pt x="487" y="636"/>
                  </a:lnTo>
                  <a:lnTo>
                    <a:pt x="482" y="636"/>
                  </a:lnTo>
                  <a:lnTo>
                    <a:pt x="495" y="564"/>
                  </a:lnTo>
                  <a:lnTo>
                    <a:pt x="480" y="569"/>
                  </a:lnTo>
                  <a:lnTo>
                    <a:pt x="464" y="575"/>
                  </a:lnTo>
                  <a:lnTo>
                    <a:pt x="447" y="579"/>
                  </a:lnTo>
                  <a:lnTo>
                    <a:pt x="431" y="586"/>
                  </a:lnTo>
                  <a:lnTo>
                    <a:pt x="415" y="596"/>
                  </a:lnTo>
                  <a:lnTo>
                    <a:pt x="401" y="606"/>
                  </a:lnTo>
                  <a:lnTo>
                    <a:pt x="391" y="621"/>
                  </a:lnTo>
                  <a:lnTo>
                    <a:pt x="384" y="638"/>
                  </a:lnTo>
                  <a:lnTo>
                    <a:pt x="368" y="666"/>
                  </a:lnTo>
                  <a:lnTo>
                    <a:pt x="351" y="695"/>
                  </a:lnTo>
                  <a:lnTo>
                    <a:pt x="336" y="722"/>
                  </a:lnTo>
                  <a:lnTo>
                    <a:pt x="320" y="751"/>
                  </a:lnTo>
                  <a:lnTo>
                    <a:pt x="305" y="780"/>
                  </a:lnTo>
                  <a:lnTo>
                    <a:pt x="289" y="808"/>
                  </a:lnTo>
                  <a:lnTo>
                    <a:pt x="273" y="836"/>
                  </a:lnTo>
                  <a:lnTo>
                    <a:pt x="256" y="864"/>
                  </a:lnTo>
                  <a:lnTo>
                    <a:pt x="239" y="887"/>
                  </a:lnTo>
                  <a:lnTo>
                    <a:pt x="224" y="911"/>
                  </a:lnTo>
                  <a:lnTo>
                    <a:pt x="210" y="937"/>
                  </a:lnTo>
                  <a:lnTo>
                    <a:pt x="196" y="962"/>
                  </a:lnTo>
                  <a:lnTo>
                    <a:pt x="183" y="987"/>
                  </a:lnTo>
                  <a:lnTo>
                    <a:pt x="169" y="1013"/>
                  </a:lnTo>
                  <a:lnTo>
                    <a:pt x="154" y="1037"/>
                  </a:lnTo>
                  <a:lnTo>
                    <a:pt x="137" y="1061"/>
                  </a:lnTo>
                  <a:lnTo>
                    <a:pt x="134" y="1078"/>
                  </a:lnTo>
                  <a:lnTo>
                    <a:pt x="137" y="1094"/>
                  </a:lnTo>
                  <a:lnTo>
                    <a:pt x="144" y="1109"/>
                  </a:lnTo>
                  <a:lnTo>
                    <a:pt x="150" y="1124"/>
                  </a:lnTo>
                  <a:lnTo>
                    <a:pt x="159" y="1128"/>
                  </a:lnTo>
                  <a:lnTo>
                    <a:pt x="169" y="1132"/>
                  </a:lnTo>
                  <a:lnTo>
                    <a:pt x="180" y="1136"/>
                  </a:lnTo>
                  <a:lnTo>
                    <a:pt x="191" y="1139"/>
                  </a:lnTo>
                  <a:lnTo>
                    <a:pt x="200" y="1139"/>
                  </a:lnTo>
                  <a:lnTo>
                    <a:pt x="209" y="1137"/>
                  </a:lnTo>
                  <a:lnTo>
                    <a:pt x="215" y="1129"/>
                  </a:lnTo>
                  <a:lnTo>
                    <a:pt x="219" y="1116"/>
                  </a:lnTo>
                  <a:lnTo>
                    <a:pt x="240" y="1083"/>
                  </a:lnTo>
                  <a:lnTo>
                    <a:pt x="260" y="1049"/>
                  </a:lnTo>
                  <a:lnTo>
                    <a:pt x="282" y="1017"/>
                  </a:lnTo>
                  <a:lnTo>
                    <a:pt x="304" y="985"/>
                  </a:lnTo>
                  <a:lnTo>
                    <a:pt x="327" y="954"/>
                  </a:lnTo>
                  <a:lnTo>
                    <a:pt x="350" y="924"/>
                  </a:lnTo>
                  <a:lnTo>
                    <a:pt x="374" y="893"/>
                  </a:lnTo>
                  <a:lnTo>
                    <a:pt x="399" y="864"/>
                  </a:lnTo>
                  <a:lnTo>
                    <a:pt x="471" y="776"/>
                  </a:lnTo>
                  <a:lnTo>
                    <a:pt x="475" y="779"/>
                  </a:lnTo>
                  <a:lnTo>
                    <a:pt x="480" y="780"/>
                  </a:lnTo>
                  <a:lnTo>
                    <a:pt x="485" y="782"/>
                  </a:lnTo>
                  <a:lnTo>
                    <a:pt x="487" y="788"/>
                  </a:lnTo>
                  <a:lnTo>
                    <a:pt x="477" y="808"/>
                  </a:lnTo>
                  <a:lnTo>
                    <a:pt x="470" y="825"/>
                  </a:lnTo>
                  <a:lnTo>
                    <a:pt x="469" y="843"/>
                  </a:lnTo>
                  <a:lnTo>
                    <a:pt x="476" y="864"/>
                  </a:lnTo>
                  <a:lnTo>
                    <a:pt x="477" y="917"/>
                  </a:lnTo>
                  <a:lnTo>
                    <a:pt x="485" y="969"/>
                  </a:lnTo>
                  <a:lnTo>
                    <a:pt x="495" y="1021"/>
                  </a:lnTo>
                  <a:lnTo>
                    <a:pt x="505" y="1071"/>
                  </a:lnTo>
                  <a:lnTo>
                    <a:pt x="503" y="1079"/>
                  </a:lnTo>
                  <a:lnTo>
                    <a:pt x="497" y="1082"/>
                  </a:lnTo>
                  <a:lnTo>
                    <a:pt x="488" y="1082"/>
                  </a:lnTo>
                  <a:lnTo>
                    <a:pt x="482" y="1079"/>
                  </a:lnTo>
                  <a:lnTo>
                    <a:pt x="474" y="1055"/>
                  </a:lnTo>
                  <a:lnTo>
                    <a:pt x="469" y="1031"/>
                  </a:lnTo>
                  <a:lnTo>
                    <a:pt x="464" y="1004"/>
                  </a:lnTo>
                  <a:lnTo>
                    <a:pt x="461" y="979"/>
                  </a:lnTo>
                  <a:lnTo>
                    <a:pt x="456" y="954"/>
                  </a:lnTo>
                  <a:lnTo>
                    <a:pt x="452" y="928"/>
                  </a:lnTo>
                  <a:lnTo>
                    <a:pt x="445" y="904"/>
                  </a:lnTo>
                  <a:lnTo>
                    <a:pt x="434" y="881"/>
                  </a:lnTo>
                  <a:lnTo>
                    <a:pt x="421" y="896"/>
                  </a:lnTo>
                  <a:lnTo>
                    <a:pt x="407" y="912"/>
                  </a:lnTo>
                  <a:lnTo>
                    <a:pt x="393" y="927"/>
                  </a:lnTo>
                  <a:lnTo>
                    <a:pt x="380" y="942"/>
                  </a:lnTo>
                  <a:lnTo>
                    <a:pt x="366" y="958"/>
                  </a:lnTo>
                  <a:lnTo>
                    <a:pt x="353" y="975"/>
                  </a:lnTo>
                  <a:lnTo>
                    <a:pt x="339" y="990"/>
                  </a:lnTo>
                  <a:lnTo>
                    <a:pt x="326" y="1006"/>
                  </a:lnTo>
                  <a:lnTo>
                    <a:pt x="313" y="1022"/>
                  </a:lnTo>
                  <a:lnTo>
                    <a:pt x="302" y="1039"/>
                  </a:lnTo>
                  <a:lnTo>
                    <a:pt x="290" y="1055"/>
                  </a:lnTo>
                  <a:lnTo>
                    <a:pt x="279" y="1072"/>
                  </a:lnTo>
                  <a:lnTo>
                    <a:pt x="268" y="1090"/>
                  </a:lnTo>
                  <a:lnTo>
                    <a:pt x="259" y="1107"/>
                  </a:lnTo>
                  <a:lnTo>
                    <a:pt x="251" y="1124"/>
                  </a:lnTo>
                  <a:lnTo>
                    <a:pt x="243" y="1143"/>
                  </a:lnTo>
                  <a:lnTo>
                    <a:pt x="232" y="1144"/>
                  </a:lnTo>
                  <a:lnTo>
                    <a:pt x="225" y="1151"/>
                  </a:lnTo>
                  <a:lnTo>
                    <a:pt x="219" y="1160"/>
                  </a:lnTo>
                  <a:lnTo>
                    <a:pt x="213" y="1167"/>
                  </a:lnTo>
                  <a:lnTo>
                    <a:pt x="210" y="1178"/>
                  </a:lnTo>
                  <a:lnTo>
                    <a:pt x="211" y="1191"/>
                  </a:lnTo>
                  <a:lnTo>
                    <a:pt x="214" y="1204"/>
                  </a:lnTo>
                  <a:lnTo>
                    <a:pt x="219" y="1216"/>
                  </a:lnTo>
                  <a:lnTo>
                    <a:pt x="221" y="1229"/>
                  </a:lnTo>
                  <a:lnTo>
                    <a:pt x="221" y="1241"/>
                  </a:lnTo>
                  <a:lnTo>
                    <a:pt x="215" y="1251"/>
                  </a:lnTo>
                  <a:lnTo>
                    <a:pt x="203" y="1259"/>
                  </a:lnTo>
                  <a:lnTo>
                    <a:pt x="197" y="1259"/>
                  </a:lnTo>
                  <a:lnTo>
                    <a:pt x="190" y="1258"/>
                  </a:lnTo>
                  <a:lnTo>
                    <a:pt x="184" y="1256"/>
                  </a:lnTo>
                  <a:lnTo>
                    <a:pt x="177" y="1252"/>
                  </a:lnTo>
                  <a:lnTo>
                    <a:pt x="172" y="1249"/>
                  </a:lnTo>
                  <a:lnTo>
                    <a:pt x="166" y="1244"/>
                  </a:lnTo>
                  <a:lnTo>
                    <a:pt x="160" y="1239"/>
                  </a:lnTo>
                  <a:lnTo>
                    <a:pt x="156" y="1235"/>
                  </a:lnTo>
                  <a:lnTo>
                    <a:pt x="141" y="1245"/>
                  </a:lnTo>
                  <a:lnTo>
                    <a:pt x="126" y="1256"/>
                  </a:lnTo>
                  <a:lnTo>
                    <a:pt x="111" y="1267"/>
                  </a:lnTo>
                  <a:lnTo>
                    <a:pt x="94" y="1278"/>
                  </a:lnTo>
                  <a:lnTo>
                    <a:pt x="78" y="1286"/>
                  </a:lnTo>
                  <a:lnTo>
                    <a:pt x="61" y="1289"/>
                  </a:lnTo>
                  <a:lnTo>
                    <a:pt x="44" y="1289"/>
                  </a:lnTo>
                  <a:lnTo>
                    <a:pt x="25" y="1282"/>
                  </a:lnTo>
                  <a:lnTo>
                    <a:pt x="21" y="1279"/>
                  </a:lnTo>
                  <a:lnTo>
                    <a:pt x="16" y="1276"/>
                  </a:lnTo>
                  <a:lnTo>
                    <a:pt x="10" y="1273"/>
                  </a:lnTo>
                  <a:lnTo>
                    <a:pt x="6" y="1269"/>
                  </a:lnTo>
                  <a:lnTo>
                    <a:pt x="2" y="1266"/>
                  </a:lnTo>
                  <a:lnTo>
                    <a:pt x="0" y="1261"/>
                  </a:lnTo>
                  <a:lnTo>
                    <a:pt x="1" y="1257"/>
                  </a:lnTo>
                  <a:lnTo>
                    <a:pt x="6" y="1251"/>
                  </a:lnTo>
                  <a:lnTo>
                    <a:pt x="22" y="1243"/>
                  </a:lnTo>
                  <a:lnTo>
                    <a:pt x="37" y="1233"/>
                  </a:lnTo>
                  <a:lnTo>
                    <a:pt x="50" y="1221"/>
                  </a:lnTo>
                  <a:lnTo>
                    <a:pt x="62" y="1207"/>
                  </a:lnTo>
                  <a:lnTo>
                    <a:pt x="73" y="1193"/>
                  </a:lnTo>
                  <a:lnTo>
                    <a:pt x="82" y="1178"/>
                  </a:lnTo>
                  <a:lnTo>
                    <a:pt x="90" y="1162"/>
                  </a:lnTo>
                  <a:lnTo>
                    <a:pt x="97" y="1146"/>
                  </a:lnTo>
                  <a:lnTo>
                    <a:pt x="99" y="1148"/>
                  </a:lnTo>
                  <a:lnTo>
                    <a:pt x="111" y="1127"/>
                  </a:lnTo>
                  <a:lnTo>
                    <a:pt x="113" y="1101"/>
                  </a:lnTo>
                  <a:lnTo>
                    <a:pt x="113" y="1076"/>
                  </a:lnTo>
                  <a:lnTo>
                    <a:pt x="115" y="1049"/>
                  </a:lnTo>
                  <a:lnTo>
                    <a:pt x="134" y="1024"/>
                  </a:lnTo>
                  <a:lnTo>
                    <a:pt x="150" y="996"/>
                  </a:lnTo>
                  <a:lnTo>
                    <a:pt x="166" y="969"/>
                  </a:lnTo>
                  <a:lnTo>
                    <a:pt x="182" y="940"/>
                  </a:lnTo>
                  <a:lnTo>
                    <a:pt x="199" y="911"/>
                  </a:lnTo>
                  <a:lnTo>
                    <a:pt x="217" y="884"/>
                  </a:lnTo>
                  <a:lnTo>
                    <a:pt x="235" y="857"/>
                  </a:lnTo>
                  <a:lnTo>
                    <a:pt x="256" y="832"/>
                  </a:lnTo>
                  <a:lnTo>
                    <a:pt x="271" y="802"/>
                  </a:lnTo>
                  <a:lnTo>
                    <a:pt x="287" y="773"/>
                  </a:lnTo>
                  <a:lnTo>
                    <a:pt x="303" y="744"/>
                  </a:lnTo>
                  <a:lnTo>
                    <a:pt x="319" y="714"/>
                  </a:lnTo>
                  <a:lnTo>
                    <a:pt x="335" y="685"/>
                  </a:lnTo>
                  <a:lnTo>
                    <a:pt x="350" y="657"/>
                  </a:lnTo>
                  <a:lnTo>
                    <a:pt x="365" y="627"/>
                  </a:lnTo>
                  <a:lnTo>
                    <a:pt x="378" y="597"/>
                  </a:lnTo>
                  <a:lnTo>
                    <a:pt x="388" y="585"/>
                  </a:lnTo>
                  <a:lnTo>
                    <a:pt x="372" y="578"/>
                  </a:lnTo>
                  <a:lnTo>
                    <a:pt x="392" y="560"/>
                  </a:lnTo>
                  <a:lnTo>
                    <a:pt x="414" y="546"/>
                  </a:lnTo>
                  <a:lnTo>
                    <a:pt x="439" y="535"/>
                  </a:lnTo>
                  <a:lnTo>
                    <a:pt x="464" y="524"/>
                  </a:lnTo>
                  <a:lnTo>
                    <a:pt x="488" y="511"/>
                  </a:lnTo>
                  <a:lnTo>
                    <a:pt x="510" y="498"/>
                  </a:lnTo>
                  <a:lnTo>
                    <a:pt x="529" y="478"/>
                  </a:lnTo>
                  <a:lnTo>
                    <a:pt x="543" y="453"/>
                  </a:lnTo>
                  <a:lnTo>
                    <a:pt x="563" y="453"/>
                  </a:lnTo>
                  <a:lnTo>
                    <a:pt x="571" y="479"/>
                  </a:lnTo>
                  <a:lnTo>
                    <a:pt x="578" y="506"/>
                  </a:lnTo>
                  <a:lnTo>
                    <a:pt x="583" y="532"/>
                  </a:lnTo>
                  <a:lnTo>
                    <a:pt x="588" y="559"/>
                  </a:lnTo>
                  <a:lnTo>
                    <a:pt x="593" y="562"/>
                  </a:lnTo>
                  <a:lnTo>
                    <a:pt x="598" y="567"/>
                  </a:lnTo>
                  <a:lnTo>
                    <a:pt x="603" y="571"/>
                  </a:lnTo>
                  <a:lnTo>
                    <a:pt x="608" y="573"/>
                  </a:lnTo>
                  <a:lnTo>
                    <a:pt x="636" y="509"/>
                  </a:lnTo>
                  <a:lnTo>
                    <a:pt x="629" y="501"/>
                  </a:lnTo>
                  <a:lnTo>
                    <a:pt x="621" y="493"/>
                  </a:lnTo>
                  <a:lnTo>
                    <a:pt x="615" y="485"/>
                  </a:lnTo>
                  <a:lnTo>
                    <a:pt x="608" y="477"/>
                  </a:lnTo>
                  <a:lnTo>
                    <a:pt x="603" y="469"/>
                  </a:lnTo>
                  <a:lnTo>
                    <a:pt x="596" y="461"/>
                  </a:lnTo>
                  <a:lnTo>
                    <a:pt x="589" y="453"/>
                  </a:lnTo>
                  <a:lnTo>
                    <a:pt x="582" y="445"/>
                  </a:lnTo>
                  <a:lnTo>
                    <a:pt x="577" y="450"/>
                  </a:lnTo>
                  <a:lnTo>
                    <a:pt x="570" y="446"/>
                  </a:lnTo>
                  <a:lnTo>
                    <a:pt x="566" y="438"/>
                  </a:lnTo>
                  <a:lnTo>
                    <a:pt x="562" y="430"/>
                  </a:lnTo>
                  <a:lnTo>
                    <a:pt x="560" y="422"/>
                  </a:lnTo>
                  <a:lnTo>
                    <a:pt x="558" y="414"/>
                  </a:lnTo>
                  <a:lnTo>
                    <a:pt x="554" y="407"/>
                  </a:lnTo>
                  <a:lnTo>
                    <a:pt x="548" y="402"/>
                  </a:lnTo>
                  <a:lnTo>
                    <a:pt x="540" y="400"/>
                  </a:lnTo>
                  <a:lnTo>
                    <a:pt x="538" y="384"/>
                  </a:lnTo>
                  <a:lnTo>
                    <a:pt x="536" y="367"/>
                  </a:lnTo>
                  <a:lnTo>
                    <a:pt x="535" y="351"/>
                  </a:lnTo>
                  <a:lnTo>
                    <a:pt x="540" y="336"/>
                  </a:lnTo>
                  <a:lnTo>
                    <a:pt x="524" y="325"/>
                  </a:lnTo>
                  <a:lnTo>
                    <a:pt x="513" y="311"/>
                  </a:lnTo>
                  <a:lnTo>
                    <a:pt x="507" y="294"/>
                  </a:lnTo>
                  <a:lnTo>
                    <a:pt x="503" y="274"/>
                  </a:lnTo>
                  <a:lnTo>
                    <a:pt x="502" y="255"/>
                  </a:lnTo>
                  <a:lnTo>
                    <a:pt x="502" y="234"/>
                  </a:lnTo>
                  <a:lnTo>
                    <a:pt x="501" y="214"/>
                  </a:lnTo>
                  <a:lnTo>
                    <a:pt x="498" y="195"/>
                  </a:lnTo>
                  <a:lnTo>
                    <a:pt x="500" y="180"/>
                  </a:lnTo>
                  <a:lnTo>
                    <a:pt x="503" y="166"/>
                  </a:lnTo>
                  <a:lnTo>
                    <a:pt x="509" y="152"/>
                  </a:lnTo>
                  <a:lnTo>
                    <a:pt x="517" y="138"/>
                  </a:lnTo>
                  <a:lnTo>
                    <a:pt x="525" y="126"/>
                  </a:lnTo>
                  <a:lnTo>
                    <a:pt x="535" y="114"/>
                  </a:lnTo>
                  <a:lnTo>
                    <a:pt x="546" y="103"/>
                  </a:lnTo>
                  <a:lnTo>
                    <a:pt x="558" y="92"/>
                  </a:lnTo>
                  <a:lnTo>
                    <a:pt x="569" y="89"/>
                  </a:lnTo>
                  <a:lnTo>
                    <a:pt x="582" y="85"/>
                  </a:lnTo>
                  <a:lnTo>
                    <a:pt x="593" y="83"/>
                  </a:lnTo>
                  <a:lnTo>
                    <a:pt x="606" y="79"/>
                  </a:lnTo>
                  <a:lnTo>
                    <a:pt x="618" y="78"/>
                  </a:lnTo>
                  <a:lnTo>
                    <a:pt x="630" y="79"/>
                  </a:lnTo>
                  <a:lnTo>
                    <a:pt x="642" y="83"/>
                  </a:lnTo>
                  <a:lnTo>
                    <a:pt x="654" y="89"/>
                  </a:lnTo>
                  <a:lnTo>
                    <a:pt x="662" y="100"/>
                  </a:lnTo>
                  <a:lnTo>
                    <a:pt x="671" y="112"/>
                  </a:lnTo>
                  <a:lnTo>
                    <a:pt x="677" y="124"/>
                  </a:lnTo>
                  <a:lnTo>
                    <a:pt x="677" y="138"/>
                  </a:lnTo>
                  <a:lnTo>
                    <a:pt x="668" y="134"/>
                  </a:lnTo>
                  <a:lnTo>
                    <a:pt x="660" y="127"/>
                  </a:lnTo>
                  <a:lnTo>
                    <a:pt x="653" y="117"/>
                  </a:lnTo>
                  <a:lnTo>
                    <a:pt x="646" y="108"/>
                  </a:lnTo>
                  <a:lnTo>
                    <a:pt x="638" y="100"/>
                  </a:lnTo>
                  <a:lnTo>
                    <a:pt x="630" y="97"/>
                  </a:lnTo>
                  <a:lnTo>
                    <a:pt x="620" y="98"/>
                  </a:lnTo>
                  <a:lnTo>
                    <a:pt x="608" y="106"/>
                  </a:lnTo>
                  <a:lnTo>
                    <a:pt x="596" y="104"/>
                  </a:lnTo>
                  <a:lnTo>
                    <a:pt x="585" y="106"/>
                  </a:lnTo>
                  <a:lnTo>
                    <a:pt x="576" y="112"/>
                  </a:lnTo>
                  <a:lnTo>
                    <a:pt x="567" y="120"/>
                  </a:lnTo>
                  <a:lnTo>
                    <a:pt x="559" y="129"/>
                  </a:lnTo>
                  <a:lnTo>
                    <a:pt x="551" y="138"/>
                  </a:lnTo>
                  <a:lnTo>
                    <a:pt x="543" y="147"/>
                  </a:lnTo>
                  <a:lnTo>
                    <a:pt x="535" y="156"/>
                  </a:lnTo>
                  <a:lnTo>
                    <a:pt x="525" y="188"/>
                  </a:lnTo>
                  <a:lnTo>
                    <a:pt x="523" y="222"/>
                  </a:lnTo>
                  <a:lnTo>
                    <a:pt x="525" y="258"/>
                  </a:lnTo>
                  <a:lnTo>
                    <a:pt x="531" y="291"/>
                  </a:lnTo>
                  <a:lnTo>
                    <a:pt x="546" y="271"/>
                  </a:lnTo>
                  <a:lnTo>
                    <a:pt x="561" y="249"/>
                  </a:lnTo>
                  <a:lnTo>
                    <a:pt x="576" y="227"/>
                  </a:lnTo>
                  <a:lnTo>
                    <a:pt x="591" y="206"/>
                  </a:lnTo>
                  <a:lnTo>
                    <a:pt x="608" y="187"/>
                  </a:lnTo>
                  <a:lnTo>
                    <a:pt x="628" y="172"/>
                  </a:lnTo>
                  <a:lnTo>
                    <a:pt x="651" y="161"/>
                  </a:lnTo>
                  <a:lnTo>
                    <a:pt x="677" y="156"/>
                  </a:lnTo>
                  <a:lnTo>
                    <a:pt x="689" y="157"/>
                  </a:lnTo>
                  <a:lnTo>
                    <a:pt x="700" y="158"/>
                  </a:lnTo>
                  <a:lnTo>
                    <a:pt x="712" y="159"/>
                  </a:lnTo>
                  <a:lnTo>
                    <a:pt x="725" y="161"/>
                  </a:lnTo>
                  <a:lnTo>
                    <a:pt x="736" y="165"/>
                  </a:lnTo>
                  <a:lnTo>
                    <a:pt x="747" y="170"/>
                  </a:lnTo>
                  <a:lnTo>
                    <a:pt x="757" y="176"/>
                  </a:lnTo>
                  <a:lnTo>
                    <a:pt x="765" y="185"/>
                  </a:lnTo>
                  <a:lnTo>
                    <a:pt x="762" y="197"/>
                  </a:lnTo>
                  <a:lnTo>
                    <a:pt x="755" y="207"/>
                  </a:lnTo>
                  <a:lnTo>
                    <a:pt x="745" y="217"/>
                  </a:lnTo>
                  <a:lnTo>
                    <a:pt x="735" y="225"/>
                  </a:lnTo>
                  <a:lnTo>
                    <a:pt x="712" y="221"/>
                  </a:lnTo>
                  <a:lnTo>
                    <a:pt x="715" y="211"/>
                  </a:lnTo>
                  <a:lnTo>
                    <a:pt x="725" y="204"/>
                  </a:lnTo>
                  <a:lnTo>
                    <a:pt x="733" y="198"/>
                  </a:lnTo>
                  <a:lnTo>
                    <a:pt x="735" y="188"/>
                  </a:lnTo>
                  <a:lnTo>
                    <a:pt x="721" y="181"/>
                  </a:lnTo>
                  <a:lnTo>
                    <a:pt x="706" y="177"/>
                  </a:lnTo>
                  <a:lnTo>
                    <a:pt x="690" y="177"/>
                  </a:lnTo>
                  <a:lnTo>
                    <a:pt x="675" y="180"/>
                  </a:lnTo>
                  <a:lnTo>
                    <a:pt x="660" y="184"/>
                  </a:lnTo>
                  <a:lnTo>
                    <a:pt x="646" y="191"/>
                  </a:lnTo>
                  <a:lnTo>
                    <a:pt x="632" y="198"/>
                  </a:lnTo>
                  <a:lnTo>
                    <a:pt x="620" y="206"/>
                  </a:lnTo>
                  <a:lnTo>
                    <a:pt x="608" y="220"/>
                  </a:lnTo>
                  <a:lnTo>
                    <a:pt x="597" y="235"/>
                  </a:lnTo>
                  <a:lnTo>
                    <a:pt x="586" y="249"/>
                  </a:lnTo>
                  <a:lnTo>
                    <a:pt x="575" y="264"/>
                  </a:lnTo>
                  <a:lnTo>
                    <a:pt x="566" y="280"/>
                  </a:lnTo>
                  <a:lnTo>
                    <a:pt x="556" y="295"/>
                  </a:lnTo>
                  <a:lnTo>
                    <a:pt x="548" y="312"/>
                  </a:lnTo>
                  <a:lnTo>
                    <a:pt x="543" y="328"/>
                  </a:lnTo>
                  <a:lnTo>
                    <a:pt x="553" y="334"/>
                  </a:lnTo>
                  <a:lnTo>
                    <a:pt x="558" y="342"/>
                  </a:lnTo>
                  <a:lnTo>
                    <a:pt x="559" y="351"/>
                  </a:lnTo>
                  <a:lnTo>
                    <a:pt x="558" y="362"/>
                  </a:lnTo>
                  <a:lnTo>
                    <a:pt x="556" y="371"/>
                  </a:lnTo>
                  <a:lnTo>
                    <a:pt x="556" y="380"/>
                  </a:lnTo>
                  <a:lnTo>
                    <a:pt x="560" y="388"/>
                  </a:lnTo>
                  <a:lnTo>
                    <a:pt x="569" y="394"/>
                  </a:lnTo>
                  <a:lnTo>
                    <a:pt x="581" y="379"/>
                  </a:lnTo>
                  <a:lnTo>
                    <a:pt x="592" y="388"/>
                  </a:lnTo>
                  <a:lnTo>
                    <a:pt x="606" y="397"/>
                  </a:lnTo>
                  <a:lnTo>
                    <a:pt x="620" y="407"/>
                  </a:lnTo>
                  <a:lnTo>
                    <a:pt x="635" y="416"/>
                  </a:lnTo>
                  <a:lnTo>
                    <a:pt x="651" y="423"/>
                  </a:lnTo>
                  <a:lnTo>
                    <a:pt x="667" y="425"/>
                  </a:lnTo>
                  <a:lnTo>
                    <a:pt x="683" y="425"/>
                  </a:lnTo>
                  <a:lnTo>
                    <a:pt x="700" y="418"/>
                  </a:lnTo>
                  <a:lnTo>
                    <a:pt x="711" y="384"/>
                  </a:lnTo>
                  <a:lnTo>
                    <a:pt x="711" y="348"/>
                  </a:lnTo>
                  <a:lnTo>
                    <a:pt x="707" y="311"/>
                  </a:lnTo>
                  <a:lnTo>
                    <a:pt x="706" y="275"/>
                  </a:lnTo>
                  <a:lnTo>
                    <a:pt x="710" y="265"/>
                  </a:lnTo>
                  <a:lnTo>
                    <a:pt x="707" y="256"/>
                  </a:lnTo>
                  <a:lnTo>
                    <a:pt x="706" y="247"/>
                  </a:lnTo>
                  <a:lnTo>
                    <a:pt x="712" y="238"/>
                  </a:lnTo>
                  <a:lnTo>
                    <a:pt x="725" y="253"/>
                  </a:lnTo>
                  <a:lnTo>
                    <a:pt x="729" y="296"/>
                  </a:lnTo>
                  <a:lnTo>
                    <a:pt x="732" y="341"/>
                  </a:lnTo>
                  <a:lnTo>
                    <a:pt x="733" y="385"/>
                  </a:lnTo>
                  <a:lnTo>
                    <a:pt x="735" y="426"/>
                  </a:lnTo>
                  <a:lnTo>
                    <a:pt x="743" y="432"/>
                  </a:lnTo>
                  <a:lnTo>
                    <a:pt x="749" y="419"/>
                  </a:lnTo>
                  <a:lnTo>
                    <a:pt x="756" y="408"/>
                  </a:lnTo>
                  <a:lnTo>
                    <a:pt x="763" y="397"/>
                  </a:lnTo>
                  <a:lnTo>
                    <a:pt x="771" y="387"/>
                  </a:lnTo>
                  <a:lnTo>
                    <a:pt x="780" y="377"/>
                  </a:lnTo>
                  <a:lnTo>
                    <a:pt x="789" y="366"/>
                  </a:lnTo>
                  <a:lnTo>
                    <a:pt x="798" y="357"/>
                  </a:lnTo>
                  <a:lnTo>
                    <a:pt x="809" y="347"/>
                  </a:lnTo>
                  <a:lnTo>
                    <a:pt x="821" y="344"/>
                  </a:lnTo>
                  <a:lnTo>
                    <a:pt x="831" y="348"/>
                  </a:lnTo>
                  <a:lnTo>
                    <a:pt x="840" y="356"/>
                  </a:lnTo>
                  <a:lnTo>
                    <a:pt x="847" y="364"/>
                  </a:lnTo>
                  <a:lnTo>
                    <a:pt x="855" y="371"/>
                  </a:lnTo>
                  <a:lnTo>
                    <a:pt x="863" y="376"/>
                  </a:lnTo>
                  <a:lnTo>
                    <a:pt x="872" y="374"/>
                  </a:lnTo>
                  <a:lnTo>
                    <a:pt x="884" y="365"/>
                  </a:lnTo>
                  <a:lnTo>
                    <a:pt x="908" y="352"/>
                  </a:lnTo>
                  <a:lnTo>
                    <a:pt x="931" y="340"/>
                  </a:lnTo>
                  <a:lnTo>
                    <a:pt x="954" y="326"/>
                  </a:lnTo>
                  <a:lnTo>
                    <a:pt x="976" y="311"/>
                  </a:lnTo>
                  <a:lnTo>
                    <a:pt x="998" y="296"/>
                  </a:lnTo>
                  <a:lnTo>
                    <a:pt x="1021" y="281"/>
                  </a:lnTo>
                  <a:lnTo>
                    <a:pt x="1043" y="265"/>
                  </a:lnTo>
                  <a:lnTo>
                    <a:pt x="1065" y="249"/>
                  </a:lnTo>
                  <a:lnTo>
                    <a:pt x="1085" y="233"/>
                  </a:lnTo>
                  <a:lnTo>
                    <a:pt x="1107" y="217"/>
                  </a:lnTo>
                  <a:lnTo>
                    <a:pt x="1130" y="200"/>
                  </a:lnTo>
                  <a:lnTo>
                    <a:pt x="1152" y="185"/>
                  </a:lnTo>
                  <a:lnTo>
                    <a:pt x="1174" y="169"/>
                  </a:lnTo>
                  <a:lnTo>
                    <a:pt x="1197" y="154"/>
                  </a:lnTo>
                  <a:lnTo>
                    <a:pt x="1220" y="141"/>
                  </a:lnTo>
                  <a:lnTo>
                    <a:pt x="1244" y="127"/>
                  </a:lnTo>
                  <a:lnTo>
                    <a:pt x="1251" y="134"/>
                  </a:lnTo>
                  <a:lnTo>
                    <a:pt x="1257" y="136"/>
                  </a:lnTo>
                  <a:lnTo>
                    <a:pt x="1263" y="134"/>
                  </a:lnTo>
                  <a:lnTo>
                    <a:pt x="1268" y="129"/>
                  </a:lnTo>
                  <a:lnTo>
                    <a:pt x="1273" y="124"/>
                  </a:lnTo>
                  <a:lnTo>
                    <a:pt x="1280" y="119"/>
                  </a:lnTo>
                  <a:lnTo>
                    <a:pt x="1286" y="113"/>
                  </a:lnTo>
                  <a:lnTo>
                    <a:pt x="1293" y="111"/>
                  </a:lnTo>
                  <a:lnTo>
                    <a:pt x="1304" y="83"/>
                  </a:lnTo>
                  <a:lnTo>
                    <a:pt x="1320" y="62"/>
                  </a:lnTo>
                  <a:lnTo>
                    <a:pt x="1341" y="46"/>
                  </a:lnTo>
                  <a:lnTo>
                    <a:pt x="1366" y="35"/>
                  </a:lnTo>
                  <a:lnTo>
                    <a:pt x="1392" y="26"/>
                  </a:lnTo>
                  <a:lnTo>
                    <a:pt x="1419" y="18"/>
                  </a:lnTo>
                  <a:lnTo>
                    <a:pt x="1446" y="10"/>
                  </a:lnTo>
                  <a:lnTo>
                    <a:pt x="1470" y="0"/>
                  </a:lnTo>
                  <a:lnTo>
                    <a:pt x="1478" y="5"/>
                  </a:lnTo>
                  <a:lnTo>
                    <a:pt x="1483" y="12"/>
                  </a:lnTo>
                  <a:lnTo>
                    <a:pt x="1484" y="20"/>
                  </a:lnTo>
                  <a:lnTo>
                    <a:pt x="148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09800" y="4411800"/>
              <a:ext cx="165960" cy="152640"/>
            </a:xfrm>
            <a:custGeom>
              <a:avLst/>
              <a:gdLst/>
              <a:ahLst/>
              <a:rect l="l" t="t" r="r" b="b"/>
              <a:pathLst>
                <a:path w="142" h="168">
                  <a:moveTo>
                    <a:pt x="122" y="42"/>
                  </a:moveTo>
                  <a:lnTo>
                    <a:pt x="135" y="35"/>
                  </a:lnTo>
                  <a:lnTo>
                    <a:pt x="142" y="42"/>
                  </a:lnTo>
                  <a:lnTo>
                    <a:pt x="142" y="50"/>
                  </a:lnTo>
                  <a:lnTo>
                    <a:pt x="138" y="59"/>
                  </a:lnTo>
                  <a:lnTo>
                    <a:pt x="132" y="66"/>
                  </a:lnTo>
                  <a:lnTo>
                    <a:pt x="129" y="81"/>
                  </a:lnTo>
                  <a:lnTo>
                    <a:pt x="128" y="98"/>
                  </a:lnTo>
                  <a:lnTo>
                    <a:pt x="125" y="115"/>
                  </a:lnTo>
                  <a:lnTo>
                    <a:pt x="117" y="121"/>
                  </a:lnTo>
                  <a:lnTo>
                    <a:pt x="111" y="133"/>
                  </a:lnTo>
                  <a:lnTo>
                    <a:pt x="106" y="147"/>
                  </a:lnTo>
                  <a:lnTo>
                    <a:pt x="102" y="159"/>
                  </a:lnTo>
                  <a:lnTo>
                    <a:pt x="92" y="168"/>
                  </a:lnTo>
                  <a:lnTo>
                    <a:pt x="92" y="161"/>
                  </a:lnTo>
                  <a:lnTo>
                    <a:pt x="89" y="155"/>
                  </a:lnTo>
                  <a:lnTo>
                    <a:pt x="83" y="151"/>
                  </a:lnTo>
                  <a:lnTo>
                    <a:pt x="77" y="148"/>
                  </a:lnTo>
                  <a:lnTo>
                    <a:pt x="73" y="144"/>
                  </a:lnTo>
                  <a:lnTo>
                    <a:pt x="69" y="140"/>
                  </a:lnTo>
                  <a:lnTo>
                    <a:pt x="69" y="134"/>
                  </a:lnTo>
                  <a:lnTo>
                    <a:pt x="74" y="127"/>
                  </a:lnTo>
                  <a:lnTo>
                    <a:pt x="87" y="101"/>
                  </a:lnTo>
                  <a:lnTo>
                    <a:pt x="76" y="91"/>
                  </a:lnTo>
                  <a:lnTo>
                    <a:pt x="67" y="81"/>
                  </a:lnTo>
                  <a:lnTo>
                    <a:pt x="58" y="71"/>
                  </a:lnTo>
                  <a:lnTo>
                    <a:pt x="49" y="59"/>
                  </a:lnTo>
                  <a:lnTo>
                    <a:pt x="41" y="49"/>
                  </a:lnTo>
                  <a:lnTo>
                    <a:pt x="31" y="40"/>
                  </a:lnTo>
                  <a:lnTo>
                    <a:pt x="21" y="32"/>
                  </a:lnTo>
                  <a:lnTo>
                    <a:pt x="11" y="25"/>
                  </a:lnTo>
                  <a:lnTo>
                    <a:pt x="0" y="0"/>
                  </a:lnTo>
                  <a:lnTo>
                    <a:pt x="14" y="10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36"/>
                  </a:lnTo>
                  <a:lnTo>
                    <a:pt x="73" y="42"/>
                  </a:lnTo>
                  <a:lnTo>
                    <a:pt x="89" y="45"/>
                  </a:lnTo>
                  <a:lnTo>
                    <a:pt x="105" y="47"/>
                  </a:lnTo>
                  <a:lnTo>
                    <a:pt x="122" y="4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5680" y="4529520"/>
              <a:ext cx="116640" cy="435960"/>
            </a:xfrm>
            <a:custGeom>
              <a:avLst/>
              <a:gdLst/>
              <a:ahLst/>
              <a:rect l="l" t="t" r="r" b="b"/>
              <a:pathLst>
                <a:path w="99" h="473">
                  <a:moveTo>
                    <a:pt x="93" y="18"/>
                  </a:moveTo>
                  <a:lnTo>
                    <a:pt x="95" y="117"/>
                  </a:lnTo>
                  <a:lnTo>
                    <a:pt x="98" y="218"/>
                  </a:lnTo>
                  <a:lnTo>
                    <a:pt x="99" y="319"/>
                  </a:lnTo>
                  <a:lnTo>
                    <a:pt x="93" y="414"/>
                  </a:lnTo>
                  <a:lnTo>
                    <a:pt x="88" y="404"/>
                  </a:lnTo>
                  <a:lnTo>
                    <a:pt x="83" y="395"/>
                  </a:lnTo>
                  <a:lnTo>
                    <a:pt x="76" y="385"/>
                  </a:lnTo>
                  <a:lnTo>
                    <a:pt x="69" y="376"/>
                  </a:lnTo>
                  <a:lnTo>
                    <a:pt x="69" y="402"/>
                  </a:lnTo>
                  <a:lnTo>
                    <a:pt x="65" y="427"/>
                  </a:lnTo>
                  <a:lnTo>
                    <a:pt x="56" y="451"/>
                  </a:lnTo>
                  <a:lnTo>
                    <a:pt x="41" y="473"/>
                  </a:lnTo>
                  <a:lnTo>
                    <a:pt x="23" y="455"/>
                  </a:lnTo>
                  <a:lnTo>
                    <a:pt x="11" y="434"/>
                  </a:lnTo>
                  <a:lnTo>
                    <a:pt x="5" y="410"/>
                  </a:lnTo>
                  <a:lnTo>
                    <a:pt x="3" y="384"/>
                  </a:lnTo>
                  <a:lnTo>
                    <a:pt x="4" y="359"/>
                  </a:lnTo>
                  <a:lnTo>
                    <a:pt x="4" y="332"/>
                  </a:lnTo>
                  <a:lnTo>
                    <a:pt x="4" y="307"/>
                  </a:lnTo>
                  <a:lnTo>
                    <a:pt x="0" y="284"/>
                  </a:lnTo>
                  <a:lnTo>
                    <a:pt x="10" y="266"/>
                  </a:lnTo>
                  <a:lnTo>
                    <a:pt x="16" y="247"/>
                  </a:lnTo>
                  <a:lnTo>
                    <a:pt x="19" y="229"/>
                  </a:lnTo>
                  <a:lnTo>
                    <a:pt x="26" y="208"/>
                  </a:lnTo>
                  <a:lnTo>
                    <a:pt x="28" y="171"/>
                  </a:lnTo>
                  <a:lnTo>
                    <a:pt x="37" y="134"/>
                  </a:lnTo>
                  <a:lnTo>
                    <a:pt x="39" y="100"/>
                  </a:lnTo>
                  <a:lnTo>
                    <a:pt x="28" y="67"/>
                  </a:lnTo>
                  <a:lnTo>
                    <a:pt x="35" y="67"/>
                  </a:lnTo>
                  <a:lnTo>
                    <a:pt x="42" y="65"/>
                  </a:lnTo>
                  <a:lnTo>
                    <a:pt x="49" y="64"/>
                  </a:lnTo>
                  <a:lnTo>
                    <a:pt x="56" y="61"/>
                  </a:lnTo>
                  <a:lnTo>
                    <a:pt x="62" y="56"/>
                  </a:lnTo>
                  <a:lnTo>
                    <a:pt x="66" y="51"/>
                  </a:lnTo>
                  <a:lnTo>
                    <a:pt x="70" y="44"/>
                  </a:lnTo>
                  <a:lnTo>
                    <a:pt x="72" y="38"/>
                  </a:lnTo>
                  <a:lnTo>
                    <a:pt x="76" y="24"/>
                  </a:lnTo>
                  <a:lnTo>
                    <a:pt x="81" y="6"/>
                  </a:lnTo>
                  <a:lnTo>
                    <a:pt x="87" y="0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45080" y="4562280"/>
              <a:ext cx="54000" cy="178560"/>
            </a:xfrm>
            <a:custGeom>
              <a:avLst/>
              <a:gdLst/>
              <a:ahLst/>
              <a:rect l="l" t="t" r="r" b="b"/>
              <a:pathLst>
                <a:path w="46" h="194">
                  <a:moveTo>
                    <a:pt x="42" y="82"/>
                  </a:moveTo>
                  <a:lnTo>
                    <a:pt x="35" y="110"/>
                  </a:lnTo>
                  <a:lnTo>
                    <a:pt x="31" y="138"/>
                  </a:lnTo>
                  <a:lnTo>
                    <a:pt x="27" y="167"/>
                  </a:lnTo>
                  <a:lnTo>
                    <a:pt x="17" y="194"/>
                  </a:lnTo>
                  <a:lnTo>
                    <a:pt x="11" y="158"/>
                  </a:lnTo>
                  <a:lnTo>
                    <a:pt x="7" y="121"/>
                  </a:lnTo>
                  <a:lnTo>
                    <a:pt x="4" y="84"/>
                  </a:lnTo>
                  <a:lnTo>
                    <a:pt x="0" y="50"/>
                  </a:lnTo>
                  <a:lnTo>
                    <a:pt x="16" y="45"/>
                  </a:lnTo>
                  <a:lnTo>
                    <a:pt x="21" y="31"/>
                  </a:lnTo>
                  <a:lnTo>
                    <a:pt x="22" y="14"/>
                  </a:lnTo>
                  <a:lnTo>
                    <a:pt x="30" y="0"/>
                  </a:lnTo>
                  <a:lnTo>
                    <a:pt x="40" y="9"/>
                  </a:lnTo>
                  <a:lnTo>
                    <a:pt x="45" y="20"/>
                  </a:lnTo>
                  <a:lnTo>
                    <a:pt x="46" y="29"/>
                  </a:lnTo>
                  <a:lnTo>
                    <a:pt x="45" y="38"/>
                  </a:lnTo>
                  <a:lnTo>
                    <a:pt x="42" y="49"/>
                  </a:lnTo>
                  <a:lnTo>
                    <a:pt x="39" y="59"/>
                  </a:lnTo>
                  <a:lnTo>
                    <a:pt x="39" y="70"/>
                  </a:lnTo>
                  <a:lnTo>
                    <a:pt x="42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7160" y="5026320"/>
              <a:ext cx="386640" cy="126720"/>
            </a:xfrm>
            <a:custGeom>
              <a:avLst/>
              <a:gdLst/>
              <a:ahLst/>
              <a:rect l="l" t="t" r="r" b="b"/>
              <a:pathLst>
                <a:path w="329" h="138">
                  <a:moveTo>
                    <a:pt x="58" y="35"/>
                  </a:moveTo>
                  <a:lnTo>
                    <a:pt x="72" y="45"/>
                  </a:lnTo>
                  <a:lnTo>
                    <a:pt x="87" y="54"/>
                  </a:lnTo>
                  <a:lnTo>
                    <a:pt x="101" y="61"/>
                  </a:lnTo>
                  <a:lnTo>
                    <a:pt x="116" y="68"/>
                  </a:lnTo>
                  <a:lnTo>
                    <a:pt x="131" y="75"/>
                  </a:lnTo>
                  <a:lnTo>
                    <a:pt x="146" y="80"/>
                  </a:lnTo>
                  <a:lnTo>
                    <a:pt x="161" y="85"/>
                  </a:lnTo>
                  <a:lnTo>
                    <a:pt x="176" y="90"/>
                  </a:lnTo>
                  <a:lnTo>
                    <a:pt x="192" y="94"/>
                  </a:lnTo>
                  <a:lnTo>
                    <a:pt x="207" y="98"/>
                  </a:lnTo>
                  <a:lnTo>
                    <a:pt x="223" y="101"/>
                  </a:lnTo>
                  <a:lnTo>
                    <a:pt x="239" y="105"/>
                  </a:lnTo>
                  <a:lnTo>
                    <a:pt x="255" y="108"/>
                  </a:lnTo>
                  <a:lnTo>
                    <a:pt x="272" y="112"/>
                  </a:lnTo>
                  <a:lnTo>
                    <a:pt x="288" y="115"/>
                  </a:lnTo>
                  <a:lnTo>
                    <a:pt x="305" y="118"/>
                  </a:lnTo>
                  <a:lnTo>
                    <a:pt x="311" y="117"/>
                  </a:lnTo>
                  <a:lnTo>
                    <a:pt x="316" y="114"/>
                  </a:lnTo>
                  <a:lnTo>
                    <a:pt x="321" y="113"/>
                  </a:lnTo>
                  <a:lnTo>
                    <a:pt x="327" y="118"/>
                  </a:lnTo>
                  <a:lnTo>
                    <a:pt x="329" y="120"/>
                  </a:lnTo>
                  <a:lnTo>
                    <a:pt x="329" y="123"/>
                  </a:lnTo>
                  <a:lnTo>
                    <a:pt x="329" y="128"/>
                  </a:lnTo>
                  <a:lnTo>
                    <a:pt x="329" y="132"/>
                  </a:lnTo>
                  <a:lnTo>
                    <a:pt x="326" y="135"/>
                  </a:lnTo>
                  <a:lnTo>
                    <a:pt x="321" y="136"/>
                  </a:lnTo>
                  <a:lnTo>
                    <a:pt x="318" y="137"/>
                  </a:lnTo>
                  <a:lnTo>
                    <a:pt x="313" y="137"/>
                  </a:lnTo>
                  <a:lnTo>
                    <a:pt x="308" y="137"/>
                  </a:lnTo>
                  <a:lnTo>
                    <a:pt x="304" y="137"/>
                  </a:lnTo>
                  <a:lnTo>
                    <a:pt x="299" y="137"/>
                  </a:lnTo>
                  <a:lnTo>
                    <a:pt x="295" y="138"/>
                  </a:lnTo>
                  <a:lnTo>
                    <a:pt x="282" y="133"/>
                  </a:lnTo>
                  <a:lnTo>
                    <a:pt x="269" y="129"/>
                  </a:lnTo>
                  <a:lnTo>
                    <a:pt x="255" y="125"/>
                  </a:lnTo>
                  <a:lnTo>
                    <a:pt x="242" y="121"/>
                  </a:lnTo>
                  <a:lnTo>
                    <a:pt x="228" y="117"/>
                  </a:lnTo>
                  <a:lnTo>
                    <a:pt x="213" y="114"/>
                  </a:lnTo>
                  <a:lnTo>
                    <a:pt x="198" y="109"/>
                  </a:lnTo>
                  <a:lnTo>
                    <a:pt x="184" y="106"/>
                  </a:lnTo>
                  <a:lnTo>
                    <a:pt x="169" y="101"/>
                  </a:lnTo>
                  <a:lnTo>
                    <a:pt x="154" y="98"/>
                  </a:lnTo>
                  <a:lnTo>
                    <a:pt x="139" y="93"/>
                  </a:lnTo>
                  <a:lnTo>
                    <a:pt x="124" y="88"/>
                  </a:lnTo>
                  <a:lnTo>
                    <a:pt x="110" y="83"/>
                  </a:lnTo>
                  <a:lnTo>
                    <a:pt x="96" y="78"/>
                  </a:lnTo>
                  <a:lnTo>
                    <a:pt x="83" y="72"/>
                  </a:lnTo>
                  <a:lnTo>
                    <a:pt x="69" y="65"/>
                  </a:lnTo>
                  <a:lnTo>
                    <a:pt x="60" y="61"/>
                  </a:lnTo>
                  <a:lnTo>
                    <a:pt x="50" y="56"/>
                  </a:lnTo>
                  <a:lnTo>
                    <a:pt x="40" y="50"/>
                  </a:lnTo>
                  <a:lnTo>
                    <a:pt x="31" y="45"/>
                  </a:lnTo>
                  <a:lnTo>
                    <a:pt x="22" y="39"/>
                  </a:lnTo>
                  <a:lnTo>
                    <a:pt x="13" y="33"/>
                  </a:lnTo>
                  <a:lnTo>
                    <a:pt x="5" y="26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2" y="0"/>
                  </a:lnTo>
                  <a:lnTo>
                    <a:pt x="19" y="2"/>
                  </a:lnTo>
                  <a:lnTo>
                    <a:pt x="26" y="8"/>
                  </a:lnTo>
                  <a:lnTo>
                    <a:pt x="34" y="16"/>
                  </a:lnTo>
                  <a:lnTo>
                    <a:pt x="41" y="25"/>
                  </a:lnTo>
                  <a:lnTo>
                    <a:pt x="50" y="32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4400" y="5033520"/>
              <a:ext cx="1213200" cy="307440"/>
            </a:xfrm>
            <a:custGeom>
              <a:avLst/>
              <a:gdLst/>
              <a:ahLst/>
              <a:rect l="l" t="t" r="r" b="b"/>
              <a:pathLst>
                <a:path w="1037" h="335">
                  <a:moveTo>
                    <a:pt x="317" y="19"/>
                  </a:moveTo>
                  <a:lnTo>
                    <a:pt x="296" y="32"/>
                  </a:lnTo>
                  <a:lnTo>
                    <a:pt x="275" y="42"/>
                  </a:lnTo>
                  <a:lnTo>
                    <a:pt x="253" y="52"/>
                  </a:lnTo>
                  <a:lnTo>
                    <a:pt x="230" y="60"/>
                  </a:lnTo>
                  <a:lnTo>
                    <a:pt x="209" y="68"/>
                  </a:lnTo>
                  <a:lnTo>
                    <a:pt x="185" y="73"/>
                  </a:lnTo>
                  <a:lnTo>
                    <a:pt x="162" y="79"/>
                  </a:lnTo>
                  <a:lnTo>
                    <a:pt x="141" y="85"/>
                  </a:lnTo>
                  <a:lnTo>
                    <a:pt x="129" y="91"/>
                  </a:lnTo>
                  <a:lnTo>
                    <a:pt x="116" y="98"/>
                  </a:lnTo>
                  <a:lnTo>
                    <a:pt x="104" y="102"/>
                  </a:lnTo>
                  <a:lnTo>
                    <a:pt x="91" y="108"/>
                  </a:lnTo>
                  <a:lnTo>
                    <a:pt x="77" y="113"/>
                  </a:lnTo>
                  <a:lnTo>
                    <a:pt x="63" y="116"/>
                  </a:lnTo>
                  <a:lnTo>
                    <a:pt x="51" y="119"/>
                  </a:lnTo>
                  <a:lnTo>
                    <a:pt x="38" y="122"/>
                  </a:lnTo>
                  <a:lnTo>
                    <a:pt x="50" y="133"/>
                  </a:lnTo>
                  <a:lnTo>
                    <a:pt x="61" y="144"/>
                  </a:lnTo>
                  <a:lnTo>
                    <a:pt x="73" y="155"/>
                  </a:lnTo>
                  <a:lnTo>
                    <a:pt x="84" y="166"/>
                  </a:lnTo>
                  <a:lnTo>
                    <a:pt x="97" y="175"/>
                  </a:lnTo>
                  <a:lnTo>
                    <a:pt x="109" y="185"/>
                  </a:lnTo>
                  <a:lnTo>
                    <a:pt x="122" y="194"/>
                  </a:lnTo>
                  <a:lnTo>
                    <a:pt x="135" y="204"/>
                  </a:lnTo>
                  <a:lnTo>
                    <a:pt x="147" y="212"/>
                  </a:lnTo>
                  <a:lnTo>
                    <a:pt x="161" y="220"/>
                  </a:lnTo>
                  <a:lnTo>
                    <a:pt x="175" y="227"/>
                  </a:lnTo>
                  <a:lnTo>
                    <a:pt x="189" y="234"/>
                  </a:lnTo>
                  <a:lnTo>
                    <a:pt x="204" y="239"/>
                  </a:lnTo>
                  <a:lnTo>
                    <a:pt x="218" y="245"/>
                  </a:lnTo>
                  <a:lnTo>
                    <a:pt x="233" y="250"/>
                  </a:lnTo>
                  <a:lnTo>
                    <a:pt x="248" y="253"/>
                  </a:lnTo>
                  <a:lnTo>
                    <a:pt x="252" y="265"/>
                  </a:lnTo>
                  <a:lnTo>
                    <a:pt x="255" y="263"/>
                  </a:lnTo>
                  <a:lnTo>
                    <a:pt x="256" y="261"/>
                  </a:lnTo>
                  <a:lnTo>
                    <a:pt x="256" y="259"/>
                  </a:lnTo>
                  <a:lnTo>
                    <a:pt x="256" y="257"/>
                  </a:lnTo>
                  <a:lnTo>
                    <a:pt x="260" y="259"/>
                  </a:lnTo>
                  <a:lnTo>
                    <a:pt x="265" y="261"/>
                  </a:lnTo>
                  <a:lnTo>
                    <a:pt x="267" y="265"/>
                  </a:lnTo>
                  <a:lnTo>
                    <a:pt x="270" y="269"/>
                  </a:lnTo>
                  <a:lnTo>
                    <a:pt x="272" y="268"/>
                  </a:lnTo>
                  <a:lnTo>
                    <a:pt x="272" y="266"/>
                  </a:lnTo>
                  <a:lnTo>
                    <a:pt x="272" y="265"/>
                  </a:lnTo>
                  <a:lnTo>
                    <a:pt x="272" y="262"/>
                  </a:lnTo>
                  <a:lnTo>
                    <a:pt x="276" y="266"/>
                  </a:lnTo>
                  <a:lnTo>
                    <a:pt x="282" y="268"/>
                  </a:lnTo>
                  <a:lnTo>
                    <a:pt x="289" y="269"/>
                  </a:lnTo>
                  <a:lnTo>
                    <a:pt x="295" y="272"/>
                  </a:lnTo>
                  <a:lnTo>
                    <a:pt x="301" y="274"/>
                  </a:lnTo>
                  <a:lnTo>
                    <a:pt x="305" y="276"/>
                  </a:lnTo>
                  <a:lnTo>
                    <a:pt x="310" y="280"/>
                  </a:lnTo>
                  <a:lnTo>
                    <a:pt x="313" y="285"/>
                  </a:lnTo>
                  <a:lnTo>
                    <a:pt x="319" y="280"/>
                  </a:lnTo>
                  <a:lnTo>
                    <a:pt x="318" y="281"/>
                  </a:lnTo>
                  <a:lnTo>
                    <a:pt x="317" y="282"/>
                  </a:lnTo>
                  <a:lnTo>
                    <a:pt x="317" y="284"/>
                  </a:lnTo>
                  <a:lnTo>
                    <a:pt x="317" y="285"/>
                  </a:lnTo>
                  <a:lnTo>
                    <a:pt x="327" y="288"/>
                  </a:lnTo>
                  <a:lnTo>
                    <a:pt x="339" y="291"/>
                  </a:lnTo>
                  <a:lnTo>
                    <a:pt x="353" y="295"/>
                  </a:lnTo>
                  <a:lnTo>
                    <a:pt x="367" y="298"/>
                  </a:lnTo>
                  <a:lnTo>
                    <a:pt x="382" y="303"/>
                  </a:lnTo>
                  <a:lnTo>
                    <a:pt x="396" y="306"/>
                  </a:lnTo>
                  <a:lnTo>
                    <a:pt x="410" y="310"/>
                  </a:lnTo>
                  <a:lnTo>
                    <a:pt x="423" y="312"/>
                  </a:lnTo>
                  <a:lnTo>
                    <a:pt x="429" y="315"/>
                  </a:lnTo>
                  <a:lnTo>
                    <a:pt x="435" y="318"/>
                  </a:lnTo>
                  <a:lnTo>
                    <a:pt x="442" y="320"/>
                  </a:lnTo>
                  <a:lnTo>
                    <a:pt x="450" y="320"/>
                  </a:lnTo>
                  <a:lnTo>
                    <a:pt x="457" y="321"/>
                  </a:lnTo>
                  <a:lnTo>
                    <a:pt x="464" y="320"/>
                  </a:lnTo>
                  <a:lnTo>
                    <a:pt x="471" y="319"/>
                  </a:lnTo>
                  <a:lnTo>
                    <a:pt x="478" y="318"/>
                  </a:lnTo>
                  <a:lnTo>
                    <a:pt x="478" y="320"/>
                  </a:lnTo>
                  <a:lnTo>
                    <a:pt x="497" y="319"/>
                  </a:lnTo>
                  <a:lnTo>
                    <a:pt x="515" y="318"/>
                  </a:lnTo>
                  <a:lnTo>
                    <a:pt x="535" y="316"/>
                  </a:lnTo>
                  <a:lnTo>
                    <a:pt x="553" y="314"/>
                  </a:lnTo>
                  <a:lnTo>
                    <a:pt x="571" y="308"/>
                  </a:lnTo>
                  <a:lnTo>
                    <a:pt x="588" y="300"/>
                  </a:lnTo>
                  <a:lnTo>
                    <a:pt x="600" y="289"/>
                  </a:lnTo>
                  <a:lnTo>
                    <a:pt x="611" y="272"/>
                  </a:lnTo>
                  <a:lnTo>
                    <a:pt x="612" y="261"/>
                  </a:lnTo>
                  <a:lnTo>
                    <a:pt x="608" y="252"/>
                  </a:lnTo>
                  <a:lnTo>
                    <a:pt x="604" y="244"/>
                  </a:lnTo>
                  <a:lnTo>
                    <a:pt x="597" y="237"/>
                  </a:lnTo>
                  <a:lnTo>
                    <a:pt x="589" y="231"/>
                  </a:lnTo>
                  <a:lnTo>
                    <a:pt x="581" y="224"/>
                  </a:lnTo>
                  <a:lnTo>
                    <a:pt x="573" y="219"/>
                  </a:lnTo>
                  <a:lnTo>
                    <a:pt x="566" y="212"/>
                  </a:lnTo>
                  <a:lnTo>
                    <a:pt x="577" y="204"/>
                  </a:lnTo>
                  <a:lnTo>
                    <a:pt x="591" y="198"/>
                  </a:lnTo>
                  <a:lnTo>
                    <a:pt x="605" y="194"/>
                  </a:lnTo>
                  <a:lnTo>
                    <a:pt x="621" y="193"/>
                  </a:lnTo>
                  <a:lnTo>
                    <a:pt x="636" y="193"/>
                  </a:lnTo>
                  <a:lnTo>
                    <a:pt x="652" y="192"/>
                  </a:lnTo>
                  <a:lnTo>
                    <a:pt x="668" y="192"/>
                  </a:lnTo>
                  <a:lnTo>
                    <a:pt x="683" y="190"/>
                  </a:lnTo>
                  <a:lnTo>
                    <a:pt x="706" y="187"/>
                  </a:lnTo>
                  <a:lnTo>
                    <a:pt x="729" y="184"/>
                  </a:lnTo>
                  <a:lnTo>
                    <a:pt x="752" y="179"/>
                  </a:lnTo>
                  <a:lnTo>
                    <a:pt x="774" y="175"/>
                  </a:lnTo>
                  <a:lnTo>
                    <a:pt x="796" y="169"/>
                  </a:lnTo>
                  <a:lnTo>
                    <a:pt x="818" y="162"/>
                  </a:lnTo>
                  <a:lnTo>
                    <a:pt x="840" y="155"/>
                  </a:lnTo>
                  <a:lnTo>
                    <a:pt x="861" y="148"/>
                  </a:lnTo>
                  <a:lnTo>
                    <a:pt x="882" y="141"/>
                  </a:lnTo>
                  <a:lnTo>
                    <a:pt x="903" y="133"/>
                  </a:lnTo>
                  <a:lnTo>
                    <a:pt x="924" y="126"/>
                  </a:lnTo>
                  <a:lnTo>
                    <a:pt x="946" y="118"/>
                  </a:lnTo>
                  <a:lnTo>
                    <a:pt x="968" y="111"/>
                  </a:lnTo>
                  <a:lnTo>
                    <a:pt x="988" y="105"/>
                  </a:lnTo>
                  <a:lnTo>
                    <a:pt x="1010" y="99"/>
                  </a:lnTo>
                  <a:lnTo>
                    <a:pt x="1032" y="93"/>
                  </a:lnTo>
                  <a:lnTo>
                    <a:pt x="1037" y="99"/>
                  </a:lnTo>
                  <a:lnTo>
                    <a:pt x="1036" y="105"/>
                  </a:lnTo>
                  <a:lnTo>
                    <a:pt x="1031" y="110"/>
                  </a:lnTo>
                  <a:lnTo>
                    <a:pt x="1029" y="117"/>
                  </a:lnTo>
                  <a:lnTo>
                    <a:pt x="1008" y="129"/>
                  </a:lnTo>
                  <a:lnTo>
                    <a:pt x="988" y="141"/>
                  </a:lnTo>
                  <a:lnTo>
                    <a:pt x="968" y="153"/>
                  </a:lnTo>
                  <a:lnTo>
                    <a:pt x="948" y="166"/>
                  </a:lnTo>
                  <a:lnTo>
                    <a:pt x="929" y="178"/>
                  </a:lnTo>
                  <a:lnTo>
                    <a:pt x="908" y="191"/>
                  </a:lnTo>
                  <a:lnTo>
                    <a:pt x="888" y="202"/>
                  </a:lnTo>
                  <a:lnTo>
                    <a:pt x="869" y="215"/>
                  </a:lnTo>
                  <a:lnTo>
                    <a:pt x="848" y="227"/>
                  </a:lnTo>
                  <a:lnTo>
                    <a:pt x="828" y="238"/>
                  </a:lnTo>
                  <a:lnTo>
                    <a:pt x="808" y="250"/>
                  </a:lnTo>
                  <a:lnTo>
                    <a:pt x="787" y="260"/>
                  </a:lnTo>
                  <a:lnTo>
                    <a:pt x="766" y="270"/>
                  </a:lnTo>
                  <a:lnTo>
                    <a:pt x="745" y="280"/>
                  </a:lnTo>
                  <a:lnTo>
                    <a:pt x="723" y="288"/>
                  </a:lnTo>
                  <a:lnTo>
                    <a:pt x="702" y="296"/>
                  </a:lnTo>
                  <a:lnTo>
                    <a:pt x="698" y="299"/>
                  </a:lnTo>
                  <a:lnTo>
                    <a:pt x="694" y="303"/>
                  </a:lnTo>
                  <a:lnTo>
                    <a:pt x="688" y="306"/>
                  </a:lnTo>
                  <a:lnTo>
                    <a:pt x="682" y="308"/>
                  </a:lnTo>
                  <a:lnTo>
                    <a:pt x="676" y="310"/>
                  </a:lnTo>
                  <a:lnTo>
                    <a:pt x="670" y="310"/>
                  </a:lnTo>
                  <a:lnTo>
                    <a:pt x="666" y="306"/>
                  </a:lnTo>
                  <a:lnTo>
                    <a:pt x="661" y="301"/>
                  </a:lnTo>
                  <a:lnTo>
                    <a:pt x="661" y="296"/>
                  </a:lnTo>
                  <a:lnTo>
                    <a:pt x="676" y="287"/>
                  </a:lnTo>
                  <a:lnTo>
                    <a:pt x="692" y="278"/>
                  </a:lnTo>
                  <a:lnTo>
                    <a:pt x="707" y="270"/>
                  </a:lnTo>
                  <a:lnTo>
                    <a:pt x="723" y="263"/>
                  </a:lnTo>
                  <a:lnTo>
                    <a:pt x="738" y="255"/>
                  </a:lnTo>
                  <a:lnTo>
                    <a:pt x="755" y="248"/>
                  </a:lnTo>
                  <a:lnTo>
                    <a:pt x="771" y="242"/>
                  </a:lnTo>
                  <a:lnTo>
                    <a:pt x="786" y="235"/>
                  </a:lnTo>
                  <a:lnTo>
                    <a:pt x="802" y="227"/>
                  </a:lnTo>
                  <a:lnTo>
                    <a:pt x="817" y="219"/>
                  </a:lnTo>
                  <a:lnTo>
                    <a:pt x="832" y="210"/>
                  </a:lnTo>
                  <a:lnTo>
                    <a:pt x="846" y="201"/>
                  </a:lnTo>
                  <a:lnTo>
                    <a:pt x="861" y="192"/>
                  </a:lnTo>
                  <a:lnTo>
                    <a:pt x="874" y="182"/>
                  </a:lnTo>
                  <a:lnTo>
                    <a:pt x="888" y="170"/>
                  </a:lnTo>
                  <a:lnTo>
                    <a:pt x="901" y="157"/>
                  </a:lnTo>
                  <a:lnTo>
                    <a:pt x="889" y="162"/>
                  </a:lnTo>
                  <a:lnTo>
                    <a:pt x="877" y="166"/>
                  </a:lnTo>
                  <a:lnTo>
                    <a:pt x="865" y="169"/>
                  </a:lnTo>
                  <a:lnTo>
                    <a:pt x="853" y="174"/>
                  </a:lnTo>
                  <a:lnTo>
                    <a:pt x="840" y="177"/>
                  </a:lnTo>
                  <a:lnTo>
                    <a:pt x="827" y="181"/>
                  </a:lnTo>
                  <a:lnTo>
                    <a:pt x="813" y="184"/>
                  </a:lnTo>
                  <a:lnTo>
                    <a:pt x="801" y="186"/>
                  </a:lnTo>
                  <a:lnTo>
                    <a:pt x="788" y="190"/>
                  </a:lnTo>
                  <a:lnTo>
                    <a:pt x="774" y="193"/>
                  </a:lnTo>
                  <a:lnTo>
                    <a:pt x="761" y="196"/>
                  </a:lnTo>
                  <a:lnTo>
                    <a:pt x="749" y="199"/>
                  </a:lnTo>
                  <a:lnTo>
                    <a:pt x="736" y="202"/>
                  </a:lnTo>
                  <a:lnTo>
                    <a:pt x="723" y="205"/>
                  </a:lnTo>
                  <a:lnTo>
                    <a:pt x="711" y="208"/>
                  </a:lnTo>
                  <a:lnTo>
                    <a:pt x="698" y="212"/>
                  </a:lnTo>
                  <a:lnTo>
                    <a:pt x="688" y="213"/>
                  </a:lnTo>
                  <a:lnTo>
                    <a:pt x="679" y="215"/>
                  </a:lnTo>
                  <a:lnTo>
                    <a:pt x="669" y="217"/>
                  </a:lnTo>
                  <a:lnTo>
                    <a:pt x="660" y="220"/>
                  </a:lnTo>
                  <a:lnTo>
                    <a:pt x="651" y="223"/>
                  </a:lnTo>
                  <a:lnTo>
                    <a:pt x="642" y="227"/>
                  </a:lnTo>
                  <a:lnTo>
                    <a:pt x="634" y="231"/>
                  </a:lnTo>
                  <a:lnTo>
                    <a:pt x="624" y="236"/>
                  </a:lnTo>
                  <a:lnTo>
                    <a:pt x="631" y="250"/>
                  </a:lnTo>
                  <a:lnTo>
                    <a:pt x="631" y="262"/>
                  </a:lnTo>
                  <a:lnTo>
                    <a:pt x="629" y="277"/>
                  </a:lnTo>
                  <a:lnTo>
                    <a:pt x="628" y="293"/>
                  </a:lnTo>
                  <a:lnTo>
                    <a:pt x="616" y="304"/>
                  </a:lnTo>
                  <a:lnTo>
                    <a:pt x="603" y="312"/>
                  </a:lnTo>
                  <a:lnTo>
                    <a:pt x="588" y="319"/>
                  </a:lnTo>
                  <a:lnTo>
                    <a:pt x="573" y="325"/>
                  </a:lnTo>
                  <a:lnTo>
                    <a:pt x="555" y="329"/>
                  </a:lnTo>
                  <a:lnTo>
                    <a:pt x="538" y="333"/>
                  </a:lnTo>
                  <a:lnTo>
                    <a:pt x="521" y="335"/>
                  </a:lnTo>
                  <a:lnTo>
                    <a:pt x="502" y="335"/>
                  </a:lnTo>
                  <a:lnTo>
                    <a:pt x="484" y="335"/>
                  </a:lnTo>
                  <a:lnTo>
                    <a:pt x="465" y="335"/>
                  </a:lnTo>
                  <a:lnTo>
                    <a:pt x="448" y="333"/>
                  </a:lnTo>
                  <a:lnTo>
                    <a:pt x="430" y="330"/>
                  </a:lnTo>
                  <a:lnTo>
                    <a:pt x="412" y="327"/>
                  </a:lnTo>
                  <a:lnTo>
                    <a:pt x="396" y="323"/>
                  </a:lnTo>
                  <a:lnTo>
                    <a:pt x="381" y="320"/>
                  </a:lnTo>
                  <a:lnTo>
                    <a:pt x="366" y="315"/>
                  </a:lnTo>
                  <a:lnTo>
                    <a:pt x="346" y="306"/>
                  </a:lnTo>
                  <a:lnTo>
                    <a:pt x="324" y="298"/>
                  </a:lnTo>
                  <a:lnTo>
                    <a:pt x="303" y="290"/>
                  </a:lnTo>
                  <a:lnTo>
                    <a:pt x="281" y="282"/>
                  </a:lnTo>
                  <a:lnTo>
                    <a:pt x="259" y="275"/>
                  </a:lnTo>
                  <a:lnTo>
                    <a:pt x="237" y="267"/>
                  </a:lnTo>
                  <a:lnTo>
                    <a:pt x="215" y="260"/>
                  </a:lnTo>
                  <a:lnTo>
                    <a:pt x="195" y="252"/>
                  </a:lnTo>
                  <a:lnTo>
                    <a:pt x="173" y="244"/>
                  </a:lnTo>
                  <a:lnTo>
                    <a:pt x="152" y="234"/>
                  </a:lnTo>
                  <a:lnTo>
                    <a:pt x="131" y="224"/>
                  </a:lnTo>
                  <a:lnTo>
                    <a:pt x="112" y="213"/>
                  </a:lnTo>
                  <a:lnTo>
                    <a:pt x="92" y="199"/>
                  </a:lnTo>
                  <a:lnTo>
                    <a:pt x="74" y="185"/>
                  </a:lnTo>
                  <a:lnTo>
                    <a:pt x="55" y="169"/>
                  </a:lnTo>
                  <a:lnTo>
                    <a:pt x="38" y="151"/>
                  </a:lnTo>
                  <a:lnTo>
                    <a:pt x="0" y="111"/>
                  </a:lnTo>
                  <a:lnTo>
                    <a:pt x="21" y="106"/>
                  </a:lnTo>
                  <a:lnTo>
                    <a:pt x="41" y="101"/>
                  </a:lnTo>
                  <a:lnTo>
                    <a:pt x="61" y="95"/>
                  </a:lnTo>
                  <a:lnTo>
                    <a:pt x="82" y="90"/>
                  </a:lnTo>
                  <a:lnTo>
                    <a:pt x="101" y="84"/>
                  </a:lnTo>
                  <a:lnTo>
                    <a:pt x="122" y="78"/>
                  </a:lnTo>
                  <a:lnTo>
                    <a:pt x="142" y="72"/>
                  </a:lnTo>
                  <a:lnTo>
                    <a:pt x="162" y="65"/>
                  </a:lnTo>
                  <a:lnTo>
                    <a:pt x="182" y="58"/>
                  </a:lnTo>
                  <a:lnTo>
                    <a:pt x="202" y="52"/>
                  </a:lnTo>
                  <a:lnTo>
                    <a:pt x="220" y="45"/>
                  </a:lnTo>
                  <a:lnTo>
                    <a:pt x="240" y="37"/>
                  </a:lnTo>
                  <a:lnTo>
                    <a:pt x="258" y="28"/>
                  </a:lnTo>
                  <a:lnTo>
                    <a:pt x="276" y="19"/>
                  </a:lnTo>
                  <a:lnTo>
                    <a:pt x="295" y="10"/>
                  </a:lnTo>
                  <a:lnTo>
                    <a:pt x="313" y="0"/>
                  </a:lnTo>
                  <a:lnTo>
                    <a:pt x="321" y="3"/>
                  </a:lnTo>
                  <a:lnTo>
                    <a:pt x="323" y="8"/>
                  </a:lnTo>
                  <a:lnTo>
                    <a:pt x="319" y="12"/>
                  </a:lnTo>
                  <a:lnTo>
                    <a:pt x="31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79800" y="5081400"/>
              <a:ext cx="180000" cy="122760"/>
            </a:xfrm>
            <a:custGeom>
              <a:avLst/>
              <a:gdLst/>
              <a:ahLst/>
              <a:rect l="l" t="t" r="r" b="b"/>
              <a:pathLst>
                <a:path w="154" h="133">
                  <a:moveTo>
                    <a:pt x="146" y="24"/>
                  </a:moveTo>
                  <a:lnTo>
                    <a:pt x="148" y="42"/>
                  </a:lnTo>
                  <a:lnTo>
                    <a:pt x="152" y="62"/>
                  </a:lnTo>
                  <a:lnTo>
                    <a:pt x="154" y="80"/>
                  </a:lnTo>
                  <a:lnTo>
                    <a:pt x="152" y="100"/>
                  </a:lnTo>
                  <a:lnTo>
                    <a:pt x="143" y="90"/>
                  </a:lnTo>
                  <a:lnTo>
                    <a:pt x="138" y="76"/>
                  </a:lnTo>
                  <a:lnTo>
                    <a:pt x="134" y="63"/>
                  </a:lnTo>
                  <a:lnTo>
                    <a:pt x="120" y="55"/>
                  </a:lnTo>
                  <a:lnTo>
                    <a:pt x="108" y="70"/>
                  </a:lnTo>
                  <a:lnTo>
                    <a:pt x="97" y="84"/>
                  </a:lnTo>
                  <a:lnTo>
                    <a:pt x="83" y="96"/>
                  </a:lnTo>
                  <a:lnTo>
                    <a:pt x="68" y="108"/>
                  </a:lnTo>
                  <a:lnTo>
                    <a:pt x="53" y="118"/>
                  </a:lnTo>
                  <a:lnTo>
                    <a:pt x="38" y="125"/>
                  </a:lnTo>
                  <a:lnTo>
                    <a:pt x="22" y="131"/>
                  </a:lnTo>
                  <a:lnTo>
                    <a:pt x="6" y="133"/>
                  </a:lnTo>
                  <a:lnTo>
                    <a:pt x="0" y="130"/>
                  </a:lnTo>
                  <a:lnTo>
                    <a:pt x="16" y="115"/>
                  </a:lnTo>
                  <a:lnTo>
                    <a:pt x="29" y="100"/>
                  </a:lnTo>
                  <a:lnTo>
                    <a:pt x="40" y="85"/>
                  </a:lnTo>
                  <a:lnTo>
                    <a:pt x="51" y="69"/>
                  </a:lnTo>
                  <a:lnTo>
                    <a:pt x="61" y="53"/>
                  </a:lnTo>
                  <a:lnTo>
                    <a:pt x="69" y="35"/>
                  </a:lnTo>
                  <a:lnTo>
                    <a:pt x="78" y="18"/>
                  </a:lnTo>
                  <a:lnTo>
                    <a:pt x="88" y="0"/>
                  </a:lnTo>
                  <a:lnTo>
                    <a:pt x="146" y="2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07400" y="5204520"/>
              <a:ext cx="728640" cy="921960"/>
            </a:xfrm>
            <a:custGeom>
              <a:avLst/>
              <a:gdLst/>
              <a:ahLst/>
              <a:rect l="l" t="t" r="r" b="b"/>
              <a:pathLst>
                <a:path w="622" h="1001">
                  <a:moveTo>
                    <a:pt x="387" y="99"/>
                  </a:moveTo>
                  <a:lnTo>
                    <a:pt x="392" y="127"/>
                  </a:lnTo>
                  <a:lnTo>
                    <a:pt x="393" y="158"/>
                  </a:lnTo>
                  <a:lnTo>
                    <a:pt x="393" y="190"/>
                  </a:lnTo>
                  <a:lnTo>
                    <a:pt x="395" y="219"/>
                  </a:lnTo>
                  <a:lnTo>
                    <a:pt x="400" y="256"/>
                  </a:lnTo>
                  <a:lnTo>
                    <a:pt x="401" y="294"/>
                  </a:lnTo>
                  <a:lnTo>
                    <a:pt x="400" y="332"/>
                  </a:lnTo>
                  <a:lnTo>
                    <a:pt x="400" y="370"/>
                  </a:lnTo>
                  <a:lnTo>
                    <a:pt x="401" y="407"/>
                  </a:lnTo>
                  <a:lnTo>
                    <a:pt x="406" y="444"/>
                  </a:lnTo>
                  <a:lnTo>
                    <a:pt x="417" y="479"/>
                  </a:lnTo>
                  <a:lnTo>
                    <a:pt x="434" y="514"/>
                  </a:lnTo>
                  <a:lnTo>
                    <a:pt x="440" y="529"/>
                  </a:lnTo>
                  <a:lnTo>
                    <a:pt x="444" y="545"/>
                  </a:lnTo>
                  <a:lnTo>
                    <a:pt x="443" y="562"/>
                  </a:lnTo>
                  <a:lnTo>
                    <a:pt x="437" y="577"/>
                  </a:lnTo>
                  <a:lnTo>
                    <a:pt x="432" y="572"/>
                  </a:lnTo>
                  <a:lnTo>
                    <a:pt x="431" y="562"/>
                  </a:lnTo>
                  <a:lnTo>
                    <a:pt x="429" y="554"/>
                  </a:lnTo>
                  <a:lnTo>
                    <a:pt x="422" y="553"/>
                  </a:lnTo>
                  <a:lnTo>
                    <a:pt x="416" y="543"/>
                  </a:lnTo>
                  <a:lnTo>
                    <a:pt x="413" y="530"/>
                  </a:lnTo>
                  <a:lnTo>
                    <a:pt x="410" y="518"/>
                  </a:lnTo>
                  <a:lnTo>
                    <a:pt x="407" y="504"/>
                  </a:lnTo>
                  <a:lnTo>
                    <a:pt x="403" y="491"/>
                  </a:lnTo>
                  <a:lnTo>
                    <a:pt x="399" y="479"/>
                  </a:lnTo>
                  <a:lnTo>
                    <a:pt x="392" y="469"/>
                  </a:lnTo>
                  <a:lnTo>
                    <a:pt x="381" y="461"/>
                  </a:lnTo>
                  <a:lnTo>
                    <a:pt x="376" y="444"/>
                  </a:lnTo>
                  <a:lnTo>
                    <a:pt x="373" y="425"/>
                  </a:lnTo>
                  <a:lnTo>
                    <a:pt x="372" y="407"/>
                  </a:lnTo>
                  <a:lnTo>
                    <a:pt x="372" y="388"/>
                  </a:lnTo>
                  <a:lnTo>
                    <a:pt x="362" y="356"/>
                  </a:lnTo>
                  <a:lnTo>
                    <a:pt x="353" y="323"/>
                  </a:lnTo>
                  <a:lnTo>
                    <a:pt x="347" y="291"/>
                  </a:lnTo>
                  <a:lnTo>
                    <a:pt x="340" y="258"/>
                  </a:lnTo>
                  <a:lnTo>
                    <a:pt x="334" y="226"/>
                  </a:lnTo>
                  <a:lnTo>
                    <a:pt x="328" y="193"/>
                  </a:lnTo>
                  <a:lnTo>
                    <a:pt x="320" y="159"/>
                  </a:lnTo>
                  <a:lnTo>
                    <a:pt x="311" y="126"/>
                  </a:lnTo>
                  <a:lnTo>
                    <a:pt x="305" y="125"/>
                  </a:lnTo>
                  <a:lnTo>
                    <a:pt x="300" y="125"/>
                  </a:lnTo>
                  <a:lnTo>
                    <a:pt x="294" y="127"/>
                  </a:lnTo>
                  <a:lnTo>
                    <a:pt x="288" y="128"/>
                  </a:lnTo>
                  <a:lnTo>
                    <a:pt x="282" y="130"/>
                  </a:lnTo>
                  <a:lnTo>
                    <a:pt x="277" y="134"/>
                  </a:lnTo>
                  <a:lnTo>
                    <a:pt x="271" y="136"/>
                  </a:lnTo>
                  <a:lnTo>
                    <a:pt x="265" y="137"/>
                  </a:lnTo>
                  <a:lnTo>
                    <a:pt x="252" y="151"/>
                  </a:lnTo>
                  <a:lnTo>
                    <a:pt x="247" y="167"/>
                  </a:lnTo>
                  <a:lnTo>
                    <a:pt x="247" y="185"/>
                  </a:lnTo>
                  <a:lnTo>
                    <a:pt x="250" y="203"/>
                  </a:lnTo>
                  <a:lnTo>
                    <a:pt x="259" y="228"/>
                  </a:lnTo>
                  <a:lnTo>
                    <a:pt x="269" y="254"/>
                  </a:lnTo>
                  <a:lnTo>
                    <a:pt x="277" y="278"/>
                  </a:lnTo>
                  <a:lnTo>
                    <a:pt x="285" y="303"/>
                  </a:lnTo>
                  <a:lnTo>
                    <a:pt x="293" y="330"/>
                  </a:lnTo>
                  <a:lnTo>
                    <a:pt x="299" y="355"/>
                  </a:lnTo>
                  <a:lnTo>
                    <a:pt x="303" y="382"/>
                  </a:lnTo>
                  <a:lnTo>
                    <a:pt x="305" y="408"/>
                  </a:lnTo>
                  <a:lnTo>
                    <a:pt x="324" y="440"/>
                  </a:lnTo>
                  <a:lnTo>
                    <a:pt x="342" y="473"/>
                  </a:lnTo>
                  <a:lnTo>
                    <a:pt x="362" y="505"/>
                  </a:lnTo>
                  <a:lnTo>
                    <a:pt x="380" y="537"/>
                  </a:lnTo>
                  <a:lnTo>
                    <a:pt x="400" y="569"/>
                  </a:lnTo>
                  <a:lnTo>
                    <a:pt x="418" y="602"/>
                  </a:lnTo>
                  <a:lnTo>
                    <a:pt x="438" y="634"/>
                  </a:lnTo>
                  <a:lnTo>
                    <a:pt x="458" y="666"/>
                  </a:lnTo>
                  <a:lnTo>
                    <a:pt x="478" y="698"/>
                  </a:lnTo>
                  <a:lnTo>
                    <a:pt x="498" y="731"/>
                  </a:lnTo>
                  <a:lnTo>
                    <a:pt x="517" y="763"/>
                  </a:lnTo>
                  <a:lnTo>
                    <a:pt x="538" y="794"/>
                  </a:lnTo>
                  <a:lnTo>
                    <a:pt x="558" y="826"/>
                  </a:lnTo>
                  <a:lnTo>
                    <a:pt x="578" y="858"/>
                  </a:lnTo>
                  <a:lnTo>
                    <a:pt x="599" y="890"/>
                  </a:lnTo>
                  <a:lnTo>
                    <a:pt x="620" y="922"/>
                  </a:lnTo>
                  <a:lnTo>
                    <a:pt x="622" y="936"/>
                  </a:lnTo>
                  <a:lnTo>
                    <a:pt x="620" y="938"/>
                  </a:lnTo>
                  <a:lnTo>
                    <a:pt x="616" y="938"/>
                  </a:lnTo>
                  <a:lnTo>
                    <a:pt x="612" y="938"/>
                  </a:lnTo>
                  <a:lnTo>
                    <a:pt x="607" y="938"/>
                  </a:lnTo>
                  <a:lnTo>
                    <a:pt x="595" y="920"/>
                  </a:lnTo>
                  <a:lnTo>
                    <a:pt x="583" y="902"/>
                  </a:lnTo>
                  <a:lnTo>
                    <a:pt x="572" y="885"/>
                  </a:lnTo>
                  <a:lnTo>
                    <a:pt x="561" y="868"/>
                  </a:lnTo>
                  <a:lnTo>
                    <a:pt x="550" y="852"/>
                  </a:lnTo>
                  <a:lnTo>
                    <a:pt x="539" y="834"/>
                  </a:lnTo>
                  <a:lnTo>
                    <a:pt x="528" y="816"/>
                  </a:lnTo>
                  <a:lnTo>
                    <a:pt x="516" y="797"/>
                  </a:lnTo>
                  <a:lnTo>
                    <a:pt x="520" y="795"/>
                  </a:lnTo>
                  <a:lnTo>
                    <a:pt x="514" y="789"/>
                  </a:lnTo>
                  <a:lnTo>
                    <a:pt x="509" y="784"/>
                  </a:lnTo>
                  <a:lnTo>
                    <a:pt x="505" y="778"/>
                  </a:lnTo>
                  <a:lnTo>
                    <a:pt x="501" y="771"/>
                  </a:lnTo>
                  <a:lnTo>
                    <a:pt x="497" y="765"/>
                  </a:lnTo>
                  <a:lnTo>
                    <a:pt x="493" y="758"/>
                  </a:lnTo>
                  <a:lnTo>
                    <a:pt x="487" y="751"/>
                  </a:lnTo>
                  <a:lnTo>
                    <a:pt x="482" y="744"/>
                  </a:lnTo>
                  <a:lnTo>
                    <a:pt x="470" y="719"/>
                  </a:lnTo>
                  <a:lnTo>
                    <a:pt x="456" y="696"/>
                  </a:lnTo>
                  <a:lnTo>
                    <a:pt x="443" y="673"/>
                  </a:lnTo>
                  <a:lnTo>
                    <a:pt x="429" y="650"/>
                  </a:lnTo>
                  <a:lnTo>
                    <a:pt x="414" y="628"/>
                  </a:lnTo>
                  <a:lnTo>
                    <a:pt x="400" y="606"/>
                  </a:lnTo>
                  <a:lnTo>
                    <a:pt x="387" y="584"/>
                  </a:lnTo>
                  <a:lnTo>
                    <a:pt x="377" y="561"/>
                  </a:lnTo>
                  <a:lnTo>
                    <a:pt x="358" y="527"/>
                  </a:lnTo>
                  <a:lnTo>
                    <a:pt x="339" y="493"/>
                  </a:lnTo>
                  <a:lnTo>
                    <a:pt x="317" y="460"/>
                  </a:lnTo>
                  <a:lnTo>
                    <a:pt x="295" y="428"/>
                  </a:lnTo>
                  <a:lnTo>
                    <a:pt x="273" y="394"/>
                  </a:lnTo>
                  <a:lnTo>
                    <a:pt x="254" y="361"/>
                  </a:lnTo>
                  <a:lnTo>
                    <a:pt x="236" y="326"/>
                  </a:lnTo>
                  <a:lnTo>
                    <a:pt x="221" y="291"/>
                  </a:lnTo>
                  <a:lnTo>
                    <a:pt x="197" y="270"/>
                  </a:lnTo>
                  <a:lnTo>
                    <a:pt x="187" y="273"/>
                  </a:lnTo>
                  <a:lnTo>
                    <a:pt x="179" y="279"/>
                  </a:lnTo>
                  <a:lnTo>
                    <a:pt x="171" y="286"/>
                  </a:lnTo>
                  <a:lnTo>
                    <a:pt x="164" y="294"/>
                  </a:lnTo>
                  <a:lnTo>
                    <a:pt x="158" y="303"/>
                  </a:lnTo>
                  <a:lnTo>
                    <a:pt x="153" y="312"/>
                  </a:lnTo>
                  <a:lnTo>
                    <a:pt x="150" y="321"/>
                  </a:lnTo>
                  <a:lnTo>
                    <a:pt x="146" y="329"/>
                  </a:lnTo>
                  <a:lnTo>
                    <a:pt x="146" y="349"/>
                  </a:lnTo>
                  <a:lnTo>
                    <a:pt x="165" y="388"/>
                  </a:lnTo>
                  <a:lnTo>
                    <a:pt x="183" y="427"/>
                  </a:lnTo>
                  <a:lnTo>
                    <a:pt x="203" y="465"/>
                  </a:lnTo>
                  <a:lnTo>
                    <a:pt x="224" y="501"/>
                  </a:lnTo>
                  <a:lnTo>
                    <a:pt x="244" y="539"/>
                  </a:lnTo>
                  <a:lnTo>
                    <a:pt x="265" y="576"/>
                  </a:lnTo>
                  <a:lnTo>
                    <a:pt x="287" y="612"/>
                  </a:lnTo>
                  <a:lnTo>
                    <a:pt x="309" y="649"/>
                  </a:lnTo>
                  <a:lnTo>
                    <a:pt x="331" y="686"/>
                  </a:lnTo>
                  <a:lnTo>
                    <a:pt x="354" y="721"/>
                  </a:lnTo>
                  <a:lnTo>
                    <a:pt x="376" y="758"/>
                  </a:lnTo>
                  <a:lnTo>
                    <a:pt x="399" y="794"/>
                  </a:lnTo>
                  <a:lnTo>
                    <a:pt x="422" y="831"/>
                  </a:lnTo>
                  <a:lnTo>
                    <a:pt x="445" y="868"/>
                  </a:lnTo>
                  <a:lnTo>
                    <a:pt x="467" y="903"/>
                  </a:lnTo>
                  <a:lnTo>
                    <a:pt x="490" y="940"/>
                  </a:lnTo>
                  <a:lnTo>
                    <a:pt x="497" y="947"/>
                  </a:lnTo>
                  <a:lnTo>
                    <a:pt x="504" y="956"/>
                  </a:lnTo>
                  <a:lnTo>
                    <a:pt x="510" y="964"/>
                  </a:lnTo>
                  <a:lnTo>
                    <a:pt x="517" y="973"/>
                  </a:lnTo>
                  <a:lnTo>
                    <a:pt x="525" y="979"/>
                  </a:lnTo>
                  <a:lnTo>
                    <a:pt x="535" y="984"/>
                  </a:lnTo>
                  <a:lnTo>
                    <a:pt x="545" y="985"/>
                  </a:lnTo>
                  <a:lnTo>
                    <a:pt x="557" y="983"/>
                  </a:lnTo>
                  <a:lnTo>
                    <a:pt x="565" y="985"/>
                  </a:lnTo>
                  <a:lnTo>
                    <a:pt x="572" y="985"/>
                  </a:lnTo>
                  <a:lnTo>
                    <a:pt x="577" y="982"/>
                  </a:lnTo>
                  <a:lnTo>
                    <a:pt x="582" y="977"/>
                  </a:lnTo>
                  <a:lnTo>
                    <a:pt x="587" y="973"/>
                  </a:lnTo>
                  <a:lnTo>
                    <a:pt x="591" y="967"/>
                  </a:lnTo>
                  <a:lnTo>
                    <a:pt x="596" y="962"/>
                  </a:lnTo>
                  <a:lnTo>
                    <a:pt x="602" y="960"/>
                  </a:lnTo>
                  <a:lnTo>
                    <a:pt x="606" y="964"/>
                  </a:lnTo>
                  <a:lnTo>
                    <a:pt x="608" y="970"/>
                  </a:lnTo>
                  <a:lnTo>
                    <a:pt x="607" y="976"/>
                  </a:lnTo>
                  <a:lnTo>
                    <a:pt x="605" y="982"/>
                  </a:lnTo>
                  <a:lnTo>
                    <a:pt x="600" y="988"/>
                  </a:lnTo>
                  <a:lnTo>
                    <a:pt x="595" y="992"/>
                  </a:lnTo>
                  <a:lnTo>
                    <a:pt x="589" y="996"/>
                  </a:lnTo>
                  <a:lnTo>
                    <a:pt x="583" y="999"/>
                  </a:lnTo>
                  <a:lnTo>
                    <a:pt x="573" y="1001"/>
                  </a:lnTo>
                  <a:lnTo>
                    <a:pt x="562" y="1001"/>
                  </a:lnTo>
                  <a:lnTo>
                    <a:pt x="552" y="1001"/>
                  </a:lnTo>
                  <a:lnTo>
                    <a:pt x="542" y="1001"/>
                  </a:lnTo>
                  <a:lnTo>
                    <a:pt x="532" y="1000"/>
                  </a:lnTo>
                  <a:lnTo>
                    <a:pt x="522" y="998"/>
                  </a:lnTo>
                  <a:lnTo>
                    <a:pt x="513" y="996"/>
                  </a:lnTo>
                  <a:lnTo>
                    <a:pt x="504" y="992"/>
                  </a:lnTo>
                  <a:lnTo>
                    <a:pt x="499" y="982"/>
                  </a:lnTo>
                  <a:lnTo>
                    <a:pt x="492" y="973"/>
                  </a:lnTo>
                  <a:lnTo>
                    <a:pt x="485" y="962"/>
                  </a:lnTo>
                  <a:lnTo>
                    <a:pt x="478" y="953"/>
                  </a:lnTo>
                  <a:lnTo>
                    <a:pt x="470" y="944"/>
                  </a:lnTo>
                  <a:lnTo>
                    <a:pt x="464" y="933"/>
                  </a:lnTo>
                  <a:lnTo>
                    <a:pt x="461" y="924"/>
                  </a:lnTo>
                  <a:lnTo>
                    <a:pt x="459" y="914"/>
                  </a:lnTo>
                  <a:lnTo>
                    <a:pt x="448" y="906"/>
                  </a:lnTo>
                  <a:lnTo>
                    <a:pt x="439" y="895"/>
                  </a:lnTo>
                  <a:lnTo>
                    <a:pt x="431" y="883"/>
                  </a:lnTo>
                  <a:lnTo>
                    <a:pt x="424" y="868"/>
                  </a:lnTo>
                  <a:lnTo>
                    <a:pt x="416" y="853"/>
                  </a:lnTo>
                  <a:lnTo>
                    <a:pt x="408" y="838"/>
                  </a:lnTo>
                  <a:lnTo>
                    <a:pt x="399" y="825"/>
                  </a:lnTo>
                  <a:lnTo>
                    <a:pt x="387" y="814"/>
                  </a:lnTo>
                  <a:lnTo>
                    <a:pt x="388" y="831"/>
                  </a:lnTo>
                  <a:lnTo>
                    <a:pt x="392" y="847"/>
                  </a:lnTo>
                  <a:lnTo>
                    <a:pt x="396" y="864"/>
                  </a:lnTo>
                  <a:lnTo>
                    <a:pt x="401" y="882"/>
                  </a:lnTo>
                  <a:lnTo>
                    <a:pt x="407" y="899"/>
                  </a:lnTo>
                  <a:lnTo>
                    <a:pt x="414" y="916"/>
                  </a:lnTo>
                  <a:lnTo>
                    <a:pt x="421" y="935"/>
                  </a:lnTo>
                  <a:lnTo>
                    <a:pt x="426" y="952"/>
                  </a:lnTo>
                  <a:lnTo>
                    <a:pt x="436" y="956"/>
                  </a:lnTo>
                  <a:lnTo>
                    <a:pt x="447" y="955"/>
                  </a:lnTo>
                  <a:lnTo>
                    <a:pt x="455" y="958"/>
                  </a:lnTo>
                  <a:lnTo>
                    <a:pt x="459" y="969"/>
                  </a:lnTo>
                  <a:lnTo>
                    <a:pt x="453" y="971"/>
                  </a:lnTo>
                  <a:lnTo>
                    <a:pt x="446" y="971"/>
                  </a:lnTo>
                  <a:lnTo>
                    <a:pt x="438" y="973"/>
                  </a:lnTo>
                  <a:lnTo>
                    <a:pt x="431" y="971"/>
                  </a:lnTo>
                  <a:lnTo>
                    <a:pt x="423" y="970"/>
                  </a:lnTo>
                  <a:lnTo>
                    <a:pt x="416" y="968"/>
                  </a:lnTo>
                  <a:lnTo>
                    <a:pt x="409" y="966"/>
                  </a:lnTo>
                  <a:lnTo>
                    <a:pt x="402" y="962"/>
                  </a:lnTo>
                  <a:lnTo>
                    <a:pt x="399" y="944"/>
                  </a:lnTo>
                  <a:lnTo>
                    <a:pt x="393" y="925"/>
                  </a:lnTo>
                  <a:lnTo>
                    <a:pt x="388" y="907"/>
                  </a:lnTo>
                  <a:lnTo>
                    <a:pt x="383" y="890"/>
                  </a:lnTo>
                  <a:lnTo>
                    <a:pt x="376" y="872"/>
                  </a:lnTo>
                  <a:lnTo>
                    <a:pt x="370" y="854"/>
                  </a:lnTo>
                  <a:lnTo>
                    <a:pt x="364" y="837"/>
                  </a:lnTo>
                  <a:lnTo>
                    <a:pt x="358" y="819"/>
                  </a:lnTo>
                  <a:lnTo>
                    <a:pt x="340" y="830"/>
                  </a:lnTo>
                  <a:lnTo>
                    <a:pt x="320" y="840"/>
                  </a:lnTo>
                  <a:lnTo>
                    <a:pt x="302" y="852"/>
                  </a:lnTo>
                  <a:lnTo>
                    <a:pt x="282" y="862"/>
                  </a:lnTo>
                  <a:lnTo>
                    <a:pt x="263" y="871"/>
                  </a:lnTo>
                  <a:lnTo>
                    <a:pt x="243" y="882"/>
                  </a:lnTo>
                  <a:lnTo>
                    <a:pt x="224" y="891"/>
                  </a:lnTo>
                  <a:lnTo>
                    <a:pt x="203" y="900"/>
                  </a:lnTo>
                  <a:lnTo>
                    <a:pt x="182" y="909"/>
                  </a:lnTo>
                  <a:lnTo>
                    <a:pt x="161" y="917"/>
                  </a:lnTo>
                  <a:lnTo>
                    <a:pt x="141" y="924"/>
                  </a:lnTo>
                  <a:lnTo>
                    <a:pt x="119" y="931"/>
                  </a:lnTo>
                  <a:lnTo>
                    <a:pt x="97" y="937"/>
                  </a:lnTo>
                  <a:lnTo>
                    <a:pt x="75" y="941"/>
                  </a:lnTo>
                  <a:lnTo>
                    <a:pt x="53" y="945"/>
                  </a:lnTo>
                  <a:lnTo>
                    <a:pt x="30" y="948"/>
                  </a:lnTo>
                  <a:lnTo>
                    <a:pt x="15" y="921"/>
                  </a:lnTo>
                  <a:lnTo>
                    <a:pt x="11" y="888"/>
                  </a:lnTo>
                  <a:lnTo>
                    <a:pt x="12" y="855"/>
                  </a:lnTo>
                  <a:lnTo>
                    <a:pt x="12" y="819"/>
                  </a:lnTo>
                  <a:lnTo>
                    <a:pt x="0" y="659"/>
                  </a:lnTo>
                  <a:lnTo>
                    <a:pt x="4" y="500"/>
                  </a:lnTo>
                  <a:lnTo>
                    <a:pt x="11" y="340"/>
                  </a:lnTo>
                  <a:lnTo>
                    <a:pt x="14" y="179"/>
                  </a:lnTo>
                  <a:lnTo>
                    <a:pt x="16" y="174"/>
                  </a:lnTo>
                  <a:lnTo>
                    <a:pt x="20" y="175"/>
                  </a:lnTo>
                  <a:lnTo>
                    <a:pt x="24" y="179"/>
                  </a:lnTo>
                  <a:lnTo>
                    <a:pt x="27" y="182"/>
                  </a:lnTo>
                  <a:lnTo>
                    <a:pt x="27" y="280"/>
                  </a:lnTo>
                  <a:lnTo>
                    <a:pt x="27" y="382"/>
                  </a:lnTo>
                  <a:lnTo>
                    <a:pt x="23" y="485"/>
                  </a:lnTo>
                  <a:lnTo>
                    <a:pt x="14" y="584"/>
                  </a:lnTo>
                  <a:lnTo>
                    <a:pt x="20" y="666"/>
                  </a:lnTo>
                  <a:lnTo>
                    <a:pt x="27" y="747"/>
                  </a:lnTo>
                  <a:lnTo>
                    <a:pt x="32" y="826"/>
                  </a:lnTo>
                  <a:lnTo>
                    <a:pt x="36" y="909"/>
                  </a:lnTo>
                  <a:lnTo>
                    <a:pt x="49" y="920"/>
                  </a:lnTo>
                  <a:lnTo>
                    <a:pt x="67" y="914"/>
                  </a:lnTo>
                  <a:lnTo>
                    <a:pt x="85" y="908"/>
                  </a:lnTo>
                  <a:lnTo>
                    <a:pt x="104" y="902"/>
                  </a:lnTo>
                  <a:lnTo>
                    <a:pt x="122" y="895"/>
                  </a:lnTo>
                  <a:lnTo>
                    <a:pt x="142" y="890"/>
                  </a:lnTo>
                  <a:lnTo>
                    <a:pt x="160" y="883"/>
                  </a:lnTo>
                  <a:lnTo>
                    <a:pt x="179" y="876"/>
                  </a:lnTo>
                  <a:lnTo>
                    <a:pt x="198" y="868"/>
                  </a:lnTo>
                  <a:lnTo>
                    <a:pt x="217" y="861"/>
                  </a:lnTo>
                  <a:lnTo>
                    <a:pt x="235" y="853"/>
                  </a:lnTo>
                  <a:lnTo>
                    <a:pt x="255" y="846"/>
                  </a:lnTo>
                  <a:lnTo>
                    <a:pt x="273" y="838"/>
                  </a:lnTo>
                  <a:lnTo>
                    <a:pt x="292" y="831"/>
                  </a:lnTo>
                  <a:lnTo>
                    <a:pt x="311" y="823"/>
                  </a:lnTo>
                  <a:lnTo>
                    <a:pt x="330" y="815"/>
                  </a:lnTo>
                  <a:lnTo>
                    <a:pt x="348" y="808"/>
                  </a:lnTo>
                  <a:lnTo>
                    <a:pt x="356" y="816"/>
                  </a:lnTo>
                  <a:lnTo>
                    <a:pt x="362" y="809"/>
                  </a:lnTo>
                  <a:lnTo>
                    <a:pt x="369" y="805"/>
                  </a:lnTo>
                  <a:lnTo>
                    <a:pt x="376" y="805"/>
                  </a:lnTo>
                  <a:lnTo>
                    <a:pt x="381" y="805"/>
                  </a:lnTo>
                  <a:lnTo>
                    <a:pt x="372" y="788"/>
                  </a:lnTo>
                  <a:lnTo>
                    <a:pt x="363" y="772"/>
                  </a:lnTo>
                  <a:lnTo>
                    <a:pt x="353" y="755"/>
                  </a:lnTo>
                  <a:lnTo>
                    <a:pt x="343" y="739"/>
                  </a:lnTo>
                  <a:lnTo>
                    <a:pt x="333" y="721"/>
                  </a:lnTo>
                  <a:lnTo>
                    <a:pt x="324" y="704"/>
                  </a:lnTo>
                  <a:lnTo>
                    <a:pt x="315" y="687"/>
                  </a:lnTo>
                  <a:lnTo>
                    <a:pt x="305" y="670"/>
                  </a:lnTo>
                  <a:lnTo>
                    <a:pt x="300" y="660"/>
                  </a:lnTo>
                  <a:lnTo>
                    <a:pt x="293" y="649"/>
                  </a:lnTo>
                  <a:lnTo>
                    <a:pt x="285" y="637"/>
                  </a:lnTo>
                  <a:lnTo>
                    <a:pt x="279" y="628"/>
                  </a:lnTo>
                  <a:lnTo>
                    <a:pt x="273" y="620"/>
                  </a:lnTo>
                  <a:lnTo>
                    <a:pt x="266" y="611"/>
                  </a:lnTo>
                  <a:lnTo>
                    <a:pt x="262" y="603"/>
                  </a:lnTo>
                  <a:lnTo>
                    <a:pt x="256" y="594"/>
                  </a:lnTo>
                  <a:lnTo>
                    <a:pt x="251" y="585"/>
                  </a:lnTo>
                  <a:lnTo>
                    <a:pt x="247" y="577"/>
                  </a:lnTo>
                  <a:lnTo>
                    <a:pt x="242" y="569"/>
                  </a:lnTo>
                  <a:lnTo>
                    <a:pt x="239" y="564"/>
                  </a:lnTo>
                  <a:lnTo>
                    <a:pt x="224" y="535"/>
                  </a:lnTo>
                  <a:lnTo>
                    <a:pt x="210" y="507"/>
                  </a:lnTo>
                  <a:lnTo>
                    <a:pt x="195" y="479"/>
                  </a:lnTo>
                  <a:lnTo>
                    <a:pt x="180" y="453"/>
                  </a:lnTo>
                  <a:lnTo>
                    <a:pt x="165" y="427"/>
                  </a:lnTo>
                  <a:lnTo>
                    <a:pt x="151" y="400"/>
                  </a:lnTo>
                  <a:lnTo>
                    <a:pt x="135" y="372"/>
                  </a:lnTo>
                  <a:lnTo>
                    <a:pt x="120" y="344"/>
                  </a:lnTo>
                  <a:lnTo>
                    <a:pt x="122" y="329"/>
                  </a:lnTo>
                  <a:lnTo>
                    <a:pt x="127" y="314"/>
                  </a:lnTo>
                  <a:lnTo>
                    <a:pt x="133" y="300"/>
                  </a:lnTo>
                  <a:lnTo>
                    <a:pt x="142" y="287"/>
                  </a:lnTo>
                  <a:lnTo>
                    <a:pt x="151" y="276"/>
                  </a:lnTo>
                  <a:lnTo>
                    <a:pt x="163" y="265"/>
                  </a:lnTo>
                  <a:lnTo>
                    <a:pt x="175" y="257"/>
                  </a:lnTo>
                  <a:lnTo>
                    <a:pt x="189" y="250"/>
                  </a:lnTo>
                  <a:lnTo>
                    <a:pt x="204" y="249"/>
                  </a:lnTo>
                  <a:lnTo>
                    <a:pt x="216" y="253"/>
                  </a:lnTo>
                  <a:lnTo>
                    <a:pt x="225" y="259"/>
                  </a:lnTo>
                  <a:lnTo>
                    <a:pt x="232" y="269"/>
                  </a:lnTo>
                  <a:lnTo>
                    <a:pt x="239" y="280"/>
                  </a:lnTo>
                  <a:lnTo>
                    <a:pt x="244" y="291"/>
                  </a:lnTo>
                  <a:lnTo>
                    <a:pt x="251" y="301"/>
                  </a:lnTo>
                  <a:lnTo>
                    <a:pt x="258" y="309"/>
                  </a:lnTo>
                  <a:lnTo>
                    <a:pt x="254" y="294"/>
                  </a:lnTo>
                  <a:lnTo>
                    <a:pt x="250" y="279"/>
                  </a:lnTo>
                  <a:lnTo>
                    <a:pt x="247" y="264"/>
                  </a:lnTo>
                  <a:lnTo>
                    <a:pt x="242" y="249"/>
                  </a:lnTo>
                  <a:lnTo>
                    <a:pt x="239" y="235"/>
                  </a:lnTo>
                  <a:lnTo>
                    <a:pt x="234" y="220"/>
                  </a:lnTo>
                  <a:lnTo>
                    <a:pt x="228" y="205"/>
                  </a:lnTo>
                  <a:lnTo>
                    <a:pt x="221" y="190"/>
                  </a:lnTo>
                  <a:lnTo>
                    <a:pt x="222" y="173"/>
                  </a:lnTo>
                  <a:lnTo>
                    <a:pt x="227" y="158"/>
                  </a:lnTo>
                  <a:lnTo>
                    <a:pt x="233" y="144"/>
                  </a:lnTo>
                  <a:lnTo>
                    <a:pt x="242" y="132"/>
                  </a:lnTo>
                  <a:lnTo>
                    <a:pt x="249" y="126"/>
                  </a:lnTo>
                  <a:lnTo>
                    <a:pt x="257" y="122"/>
                  </a:lnTo>
                  <a:lnTo>
                    <a:pt x="266" y="120"/>
                  </a:lnTo>
                  <a:lnTo>
                    <a:pt x="274" y="118"/>
                  </a:lnTo>
                  <a:lnTo>
                    <a:pt x="284" y="115"/>
                  </a:lnTo>
                  <a:lnTo>
                    <a:pt x="292" y="113"/>
                  </a:lnTo>
                  <a:lnTo>
                    <a:pt x="299" y="110"/>
                  </a:lnTo>
                  <a:lnTo>
                    <a:pt x="305" y="105"/>
                  </a:lnTo>
                  <a:lnTo>
                    <a:pt x="318" y="104"/>
                  </a:lnTo>
                  <a:lnTo>
                    <a:pt x="327" y="109"/>
                  </a:lnTo>
                  <a:lnTo>
                    <a:pt x="334" y="119"/>
                  </a:lnTo>
                  <a:lnTo>
                    <a:pt x="338" y="129"/>
                  </a:lnTo>
                  <a:lnTo>
                    <a:pt x="347" y="170"/>
                  </a:lnTo>
                  <a:lnTo>
                    <a:pt x="356" y="211"/>
                  </a:lnTo>
                  <a:lnTo>
                    <a:pt x="364" y="251"/>
                  </a:lnTo>
                  <a:lnTo>
                    <a:pt x="370" y="291"/>
                  </a:lnTo>
                  <a:lnTo>
                    <a:pt x="370" y="295"/>
                  </a:lnTo>
                  <a:lnTo>
                    <a:pt x="370" y="302"/>
                  </a:lnTo>
                  <a:lnTo>
                    <a:pt x="370" y="309"/>
                  </a:lnTo>
                  <a:lnTo>
                    <a:pt x="375" y="315"/>
                  </a:lnTo>
                  <a:lnTo>
                    <a:pt x="379" y="240"/>
                  </a:lnTo>
                  <a:lnTo>
                    <a:pt x="378" y="160"/>
                  </a:lnTo>
                  <a:lnTo>
                    <a:pt x="373" y="80"/>
                  </a:lnTo>
                  <a:lnTo>
                    <a:pt x="370" y="0"/>
                  </a:lnTo>
                  <a:lnTo>
                    <a:pt x="373" y="1"/>
                  </a:lnTo>
                  <a:lnTo>
                    <a:pt x="379" y="4"/>
                  </a:lnTo>
                  <a:lnTo>
                    <a:pt x="385" y="7"/>
                  </a:lnTo>
                  <a:lnTo>
                    <a:pt x="387" y="14"/>
                  </a:lnTo>
                  <a:lnTo>
                    <a:pt x="386" y="36"/>
                  </a:lnTo>
                  <a:lnTo>
                    <a:pt x="391" y="57"/>
                  </a:lnTo>
                  <a:lnTo>
                    <a:pt x="393" y="77"/>
                  </a:lnTo>
                  <a:lnTo>
                    <a:pt x="387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65880" y="5229000"/>
              <a:ext cx="583200" cy="811080"/>
            </a:xfrm>
            <a:custGeom>
              <a:avLst/>
              <a:gdLst/>
              <a:ahLst/>
              <a:rect l="l" t="t" r="r" b="b"/>
              <a:pathLst>
                <a:path w="498" h="882">
                  <a:moveTo>
                    <a:pt x="40" y="4"/>
                  </a:moveTo>
                  <a:lnTo>
                    <a:pt x="32" y="174"/>
                  </a:lnTo>
                  <a:lnTo>
                    <a:pt x="26" y="337"/>
                  </a:lnTo>
                  <a:lnTo>
                    <a:pt x="25" y="500"/>
                  </a:lnTo>
                  <a:lnTo>
                    <a:pt x="36" y="664"/>
                  </a:lnTo>
                  <a:lnTo>
                    <a:pt x="48" y="676"/>
                  </a:lnTo>
                  <a:lnTo>
                    <a:pt x="61" y="685"/>
                  </a:lnTo>
                  <a:lnTo>
                    <a:pt x="75" y="694"/>
                  </a:lnTo>
                  <a:lnTo>
                    <a:pt x="89" y="702"/>
                  </a:lnTo>
                  <a:lnTo>
                    <a:pt x="102" y="708"/>
                  </a:lnTo>
                  <a:lnTo>
                    <a:pt x="117" y="715"/>
                  </a:lnTo>
                  <a:lnTo>
                    <a:pt x="131" y="720"/>
                  </a:lnTo>
                  <a:lnTo>
                    <a:pt x="146" y="725"/>
                  </a:lnTo>
                  <a:lnTo>
                    <a:pt x="161" y="730"/>
                  </a:lnTo>
                  <a:lnTo>
                    <a:pt x="175" y="735"/>
                  </a:lnTo>
                  <a:lnTo>
                    <a:pt x="190" y="740"/>
                  </a:lnTo>
                  <a:lnTo>
                    <a:pt x="204" y="745"/>
                  </a:lnTo>
                  <a:lnTo>
                    <a:pt x="219" y="751"/>
                  </a:lnTo>
                  <a:lnTo>
                    <a:pt x="231" y="758"/>
                  </a:lnTo>
                  <a:lnTo>
                    <a:pt x="245" y="766"/>
                  </a:lnTo>
                  <a:lnTo>
                    <a:pt x="258" y="774"/>
                  </a:lnTo>
                  <a:lnTo>
                    <a:pt x="273" y="777"/>
                  </a:lnTo>
                  <a:lnTo>
                    <a:pt x="287" y="781"/>
                  </a:lnTo>
                  <a:lnTo>
                    <a:pt x="299" y="786"/>
                  </a:lnTo>
                  <a:lnTo>
                    <a:pt x="312" y="792"/>
                  </a:lnTo>
                  <a:lnTo>
                    <a:pt x="325" y="798"/>
                  </a:lnTo>
                  <a:lnTo>
                    <a:pt x="336" y="804"/>
                  </a:lnTo>
                  <a:lnTo>
                    <a:pt x="350" y="809"/>
                  </a:lnTo>
                  <a:lnTo>
                    <a:pt x="365" y="814"/>
                  </a:lnTo>
                  <a:lnTo>
                    <a:pt x="381" y="822"/>
                  </a:lnTo>
                  <a:lnTo>
                    <a:pt x="397" y="828"/>
                  </a:lnTo>
                  <a:lnTo>
                    <a:pt x="415" y="835"/>
                  </a:lnTo>
                  <a:lnTo>
                    <a:pt x="432" y="841"/>
                  </a:lnTo>
                  <a:lnTo>
                    <a:pt x="449" y="846"/>
                  </a:lnTo>
                  <a:lnTo>
                    <a:pt x="465" y="852"/>
                  </a:lnTo>
                  <a:lnTo>
                    <a:pt x="481" y="859"/>
                  </a:lnTo>
                  <a:lnTo>
                    <a:pt x="498" y="867"/>
                  </a:lnTo>
                  <a:lnTo>
                    <a:pt x="494" y="877"/>
                  </a:lnTo>
                  <a:lnTo>
                    <a:pt x="487" y="882"/>
                  </a:lnTo>
                  <a:lnTo>
                    <a:pt x="478" y="882"/>
                  </a:lnTo>
                  <a:lnTo>
                    <a:pt x="468" y="881"/>
                  </a:lnTo>
                  <a:lnTo>
                    <a:pt x="448" y="875"/>
                  </a:lnTo>
                  <a:lnTo>
                    <a:pt x="428" y="871"/>
                  </a:lnTo>
                  <a:lnTo>
                    <a:pt x="410" y="864"/>
                  </a:lnTo>
                  <a:lnTo>
                    <a:pt x="390" y="858"/>
                  </a:lnTo>
                  <a:lnTo>
                    <a:pt x="372" y="851"/>
                  </a:lnTo>
                  <a:lnTo>
                    <a:pt x="352" y="844"/>
                  </a:lnTo>
                  <a:lnTo>
                    <a:pt x="334" y="837"/>
                  </a:lnTo>
                  <a:lnTo>
                    <a:pt x="314" y="830"/>
                  </a:lnTo>
                  <a:lnTo>
                    <a:pt x="296" y="823"/>
                  </a:lnTo>
                  <a:lnTo>
                    <a:pt x="276" y="815"/>
                  </a:lnTo>
                  <a:lnTo>
                    <a:pt x="258" y="809"/>
                  </a:lnTo>
                  <a:lnTo>
                    <a:pt x="238" y="803"/>
                  </a:lnTo>
                  <a:lnTo>
                    <a:pt x="220" y="796"/>
                  </a:lnTo>
                  <a:lnTo>
                    <a:pt x="200" y="790"/>
                  </a:lnTo>
                  <a:lnTo>
                    <a:pt x="182" y="784"/>
                  </a:lnTo>
                  <a:lnTo>
                    <a:pt x="162" y="779"/>
                  </a:lnTo>
                  <a:lnTo>
                    <a:pt x="158" y="774"/>
                  </a:lnTo>
                  <a:lnTo>
                    <a:pt x="152" y="774"/>
                  </a:lnTo>
                  <a:lnTo>
                    <a:pt x="146" y="774"/>
                  </a:lnTo>
                  <a:lnTo>
                    <a:pt x="139" y="771"/>
                  </a:lnTo>
                  <a:lnTo>
                    <a:pt x="126" y="766"/>
                  </a:lnTo>
                  <a:lnTo>
                    <a:pt x="113" y="759"/>
                  </a:lnTo>
                  <a:lnTo>
                    <a:pt x="99" y="753"/>
                  </a:lnTo>
                  <a:lnTo>
                    <a:pt x="86" y="747"/>
                  </a:lnTo>
                  <a:lnTo>
                    <a:pt x="73" y="743"/>
                  </a:lnTo>
                  <a:lnTo>
                    <a:pt x="59" y="738"/>
                  </a:lnTo>
                  <a:lnTo>
                    <a:pt x="45" y="733"/>
                  </a:lnTo>
                  <a:lnTo>
                    <a:pt x="30" y="731"/>
                  </a:lnTo>
                  <a:lnTo>
                    <a:pt x="21" y="723"/>
                  </a:lnTo>
                  <a:lnTo>
                    <a:pt x="10" y="715"/>
                  </a:lnTo>
                  <a:lnTo>
                    <a:pt x="2" y="705"/>
                  </a:lnTo>
                  <a:lnTo>
                    <a:pt x="1" y="691"/>
                  </a:lnTo>
                  <a:lnTo>
                    <a:pt x="0" y="687"/>
                  </a:lnTo>
                  <a:lnTo>
                    <a:pt x="3" y="684"/>
                  </a:lnTo>
                  <a:lnTo>
                    <a:pt x="8" y="680"/>
                  </a:lnTo>
                  <a:lnTo>
                    <a:pt x="11" y="682"/>
                  </a:lnTo>
                  <a:lnTo>
                    <a:pt x="10" y="515"/>
                  </a:lnTo>
                  <a:lnTo>
                    <a:pt x="7" y="345"/>
                  </a:lnTo>
                  <a:lnTo>
                    <a:pt x="8" y="177"/>
                  </a:lnTo>
                  <a:lnTo>
                    <a:pt x="22" y="7"/>
                  </a:lnTo>
                  <a:lnTo>
                    <a:pt x="25" y="3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4160" y="5303880"/>
              <a:ext cx="431280" cy="618120"/>
            </a:xfrm>
            <a:custGeom>
              <a:avLst/>
              <a:gdLst/>
              <a:ahLst/>
              <a:rect l="l" t="t" r="r" b="b"/>
              <a:pathLst>
                <a:path w="367" h="673">
                  <a:moveTo>
                    <a:pt x="51" y="8"/>
                  </a:moveTo>
                  <a:lnTo>
                    <a:pt x="45" y="109"/>
                  </a:lnTo>
                  <a:lnTo>
                    <a:pt x="39" y="204"/>
                  </a:lnTo>
                  <a:lnTo>
                    <a:pt x="32" y="300"/>
                  </a:lnTo>
                  <a:lnTo>
                    <a:pt x="24" y="401"/>
                  </a:lnTo>
                  <a:lnTo>
                    <a:pt x="22" y="431"/>
                  </a:lnTo>
                  <a:lnTo>
                    <a:pt x="21" y="465"/>
                  </a:lnTo>
                  <a:lnTo>
                    <a:pt x="19" y="499"/>
                  </a:lnTo>
                  <a:lnTo>
                    <a:pt x="18" y="530"/>
                  </a:lnTo>
                  <a:lnTo>
                    <a:pt x="25" y="541"/>
                  </a:lnTo>
                  <a:lnTo>
                    <a:pt x="33" y="549"/>
                  </a:lnTo>
                  <a:lnTo>
                    <a:pt x="43" y="556"/>
                  </a:lnTo>
                  <a:lnTo>
                    <a:pt x="52" y="561"/>
                  </a:lnTo>
                  <a:lnTo>
                    <a:pt x="63" y="567"/>
                  </a:lnTo>
                  <a:lnTo>
                    <a:pt x="74" y="572"/>
                  </a:lnTo>
                  <a:lnTo>
                    <a:pt x="85" y="575"/>
                  </a:lnTo>
                  <a:lnTo>
                    <a:pt x="95" y="580"/>
                  </a:lnTo>
                  <a:lnTo>
                    <a:pt x="119" y="584"/>
                  </a:lnTo>
                  <a:lnTo>
                    <a:pt x="140" y="593"/>
                  </a:lnTo>
                  <a:lnTo>
                    <a:pt x="161" y="601"/>
                  </a:lnTo>
                  <a:lnTo>
                    <a:pt x="182" y="610"/>
                  </a:lnTo>
                  <a:lnTo>
                    <a:pt x="204" y="618"/>
                  </a:lnTo>
                  <a:lnTo>
                    <a:pt x="226" y="625"/>
                  </a:lnTo>
                  <a:lnTo>
                    <a:pt x="249" y="628"/>
                  </a:lnTo>
                  <a:lnTo>
                    <a:pt x="274" y="629"/>
                  </a:lnTo>
                  <a:lnTo>
                    <a:pt x="276" y="633"/>
                  </a:lnTo>
                  <a:lnTo>
                    <a:pt x="280" y="635"/>
                  </a:lnTo>
                  <a:lnTo>
                    <a:pt x="284" y="636"/>
                  </a:lnTo>
                  <a:lnTo>
                    <a:pt x="290" y="635"/>
                  </a:lnTo>
                  <a:lnTo>
                    <a:pt x="296" y="635"/>
                  </a:lnTo>
                  <a:lnTo>
                    <a:pt x="301" y="635"/>
                  </a:lnTo>
                  <a:lnTo>
                    <a:pt x="306" y="635"/>
                  </a:lnTo>
                  <a:lnTo>
                    <a:pt x="311" y="637"/>
                  </a:lnTo>
                  <a:lnTo>
                    <a:pt x="319" y="640"/>
                  </a:lnTo>
                  <a:lnTo>
                    <a:pt x="328" y="642"/>
                  </a:lnTo>
                  <a:lnTo>
                    <a:pt x="336" y="644"/>
                  </a:lnTo>
                  <a:lnTo>
                    <a:pt x="344" y="648"/>
                  </a:lnTo>
                  <a:lnTo>
                    <a:pt x="351" y="651"/>
                  </a:lnTo>
                  <a:lnTo>
                    <a:pt x="357" y="656"/>
                  </a:lnTo>
                  <a:lnTo>
                    <a:pt x="363" y="662"/>
                  </a:lnTo>
                  <a:lnTo>
                    <a:pt x="367" y="669"/>
                  </a:lnTo>
                  <a:lnTo>
                    <a:pt x="357" y="673"/>
                  </a:lnTo>
                  <a:lnTo>
                    <a:pt x="347" y="673"/>
                  </a:lnTo>
                  <a:lnTo>
                    <a:pt x="336" y="671"/>
                  </a:lnTo>
                  <a:lnTo>
                    <a:pt x="327" y="666"/>
                  </a:lnTo>
                  <a:lnTo>
                    <a:pt x="317" y="660"/>
                  </a:lnTo>
                  <a:lnTo>
                    <a:pt x="307" y="656"/>
                  </a:lnTo>
                  <a:lnTo>
                    <a:pt x="297" y="651"/>
                  </a:lnTo>
                  <a:lnTo>
                    <a:pt x="287" y="650"/>
                  </a:lnTo>
                  <a:lnTo>
                    <a:pt x="268" y="647"/>
                  </a:lnTo>
                  <a:lnTo>
                    <a:pt x="250" y="642"/>
                  </a:lnTo>
                  <a:lnTo>
                    <a:pt x="230" y="637"/>
                  </a:lnTo>
                  <a:lnTo>
                    <a:pt x="212" y="633"/>
                  </a:lnTo>
                  <a:lnTo>
                    <a:pt x="193" y="628"/>
                  </a:lnTo>
                  <a:lnTo>
                    <a:pt x="176" y="622"/>
                  </a:lnTo>
                  <a:lnTo>
                    <a:pt x="158" y="617"/>
                  </a:lnTo>
                  <a:lnTo>
                    <a:pt x="139" y="611"/>
                  </a:lnTo>
                  <a:lnTo>
                    <a:pt x="122" y="605"/>
                  </a:lnTo>
                  <a:lnTo>
                    <a:pt x="104" y="598"/>
                  </a:lnTo>
                  <a:lnTo>
                    <a:pt x="86" y="593"/>
                  </a:lnTo>
                  <a:lnTo>
                    <a:pt x="69" y="584"/>
                  </a:lnTo>
                  <a:lnTo>
                    <a:pt x="51" y="578"/>
                  </a:lnTo>
                  <a:lnTo>
                    <a:pt x="34" y="569"/>
                  </a:lnTo>
                  <a:lnTo>
                    <a:pt x="17" y="561"/>
                  </a:lnTo>
                  <a:lnTo>
                    <a:pt x="0" y="553"/>
                  </a:lnTo>
                  <a:lnTo>
                    <a:pt x="0" y="483"/>
                  </a:lnTo>
                  <a:lnTo>
                    <a:pt x="2" y="414"/>
                  </a:lnTo>
                  <a:lnTo>
                    <a:pt x="7" y="346"/>
                  </a:lnTo>
                  <a:lnTo>
                    <a:pt x="13" y="278"/>
                  </a:lnTo>
                  <a:lnTo>
                    <a:pt x="18" y="210"/>
                  </a:lnTo>
                  <a:lnTo>
                    <a:pt x="25" y="141"/>
                  </a:lnTo>
                  <a:lnTo>
                    <a:pt x="31" y="72"/>
                  </a:lnTo>
                  <a:lnTo>
                    <a:pt x="36" y="0"/>
                  </a:lnTo>
                  <a:lnTo>
                    <a:pt x="39" y="3"/>
                  </a:lnTo>
                  <a:lnTo>
                    <a:pt x="44" y="3"/>
                  </a:lnTo>
                  <a:lnTo>
                    <a:pt x="47" y="5"/>
                  </a:lnTo>
                  <a:lnTo>
                    <a:pt x="5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73960" y="5331960"/>
              <a:ext cx="145440" cy="20376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52" y="74"/>
                  </a:moveTo>
                  <a:lnTo>
                    <a:pt x="56" y="83"/>
                  </a:lnTo>
                  <a:lnTo>
                    <a:pt x="59" y="93"/>
                  </a:lnTo>
                  <a:lnTo>
                    <a:pt x="64" y="103"/>
                  </a:lnTo>
                  <a:lnTo>
                    <a:pt x="69" y="112"/>
                  </a:lnTo>
                  <a:lnTo>
                    <a:pt x="74" y="121"/>
                  </a:lnTo>
                  <a:lnTo>
                    <a:pt x="80" y="131"/>
                  </a:lnTo>
                  <a:lnTo>
                    <a:pt x="86" y="140"/>
                  </a:lnTo>
                  <a:lnTo>
                    <a:pt x="91" y="148"/>
                  </a:lnTo>
                  <a:lnTo>
                    <a:pt x="105" y="164"/>
                  </a:lnTo>
                  <a:lnTo>
                    <a:pt x="112" y="182"/>
                  </a:lnTo>
                  <a:lnTo>
                    <a:pt x="118" y="203"/>
                  </a:lnTo>
                  <a:lnTo>
                    <a:pt x="124" y="222"/>
                  </a:lnTo>
                  <a:lnTo>
                    <a:pt x="114" y="223"/>
                  </a:lnTo>
                  <a:lnTo>
                    <a:pt x="106" y="219"/>
                  </a:lnTo>
                  <a:lnTo>
                    <a:pt x="99" y="213"/>
                  </a:lnTo>
                  <a:lnTo>
                    <a:pt x="95" y="204"/>
                  </a:lnTo>
                  <a:lnTo>
                    <a:pt x="95" y="192"/>
                  </a:lnTo>
                  <a:lnTo>
                    <a:pt x="93" y="181"/>
                  </a:lnTo>
                  <a:lnTo>
                    <a:pt x="88" y="172"/>
                  </a:lnTo>
                  <a:lnTo>
                    <a:pt x="81" y="164"/>
                  </a:lnTo>
                  <a:lnTo>
                    <a:pt x="74" y="155"/>
                  </a:lnTo>
                  <a:lnTo>
                    <a:pt x="67" y="147"/>
                  </a:lnTo>
                  <a:lnTo>
                    <a:pt x="61" y="137"/>
                  </a:lnTo>
                  <a:lnTo>
                    <a:pt x="57" y="127"/>
                  </a:lnTo>
                  <a:lnTo>
                    <a:pt x="53" y="111"/>
                  </a:lnTo>
                  <a:lnTo>
                    <a:pt x="45" y="95"/>
                  </a:lnTo>
                  <a:lnTo>
                    <a:pt x="35" y="80"/>
                  </a:lnTo>
                  <a:lnTo>
                    <a:pt x="23" y="65"/>
                  </a:lnTo>
                  <a:lnTo>
                    <a:pt x="13" y="50"/>
                  </a:lnTo>
                  <a:lnTo>
                    <a:pt x="4" y="35"/>
                  </a:lnTo>
                  <a:lnTo>
                    <a:pt x="0" y="18"/>
                  </a:lnTo>
                  <a:lnTo>
                    <a:pt x="1" y="0"/>
                  </a:lnTo>
                  <a:lnTo>
                    <a:pt x="11" y="6"/>
                  </a:lnTo>
                  <a:lnTo>
                    <a:pt x="16" y="13"/>
                  </a:lnTo>
                  <a:lnTo>
                    <a:pt x="22" y="22"/>
                  </a:lnTo>
                  <a:lnTo>
                    <a:pt x="27" y="34"/>
                  </a:lnTo>
                  <a:lnTo>
                    <a:pt x="31" y="44"/>
                  </a:lnTo>
                  <a:lnTo>
                    <a:pt x="37" y="56"/>
                  </a:lnTo>
                  <a:lnTo>
                    <a:pt x="44" y="65"/>
                  </a:lnTo>
                  <a:lnTo>
                    <a:pt x="5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06040" y="5394600"/>
              <a:ext cx="208800" cy="509400"/>
            </a:xfrm>
            <a:custGeom>
              <a:avLst/>
              <a:gdLst/>
              <a:ahLst/>
              <a:rect l="l" t="t" r="r" b="b"/>
              <a:pathLst>
                <a:path w="180" h="556">
                  <a:moveTo>
                    <a:pt x="27" y="127"/>
                  </a:moveTo>
                  <a:lnTo>
                    <a:pt x="23" y="232"/>
                  </a:lnTo>
                  <a:lnTo>
                    <a:pt x="24" y="333"/>
                  </a:lnTo>
                  <a:lnTo>
                    <a:pt x="27" y="432"/>
                  </a:lnTo>
                  <a:lnTo>
                    <a:pt x="29" y="531"/>
                  </a:lnTo>
                  <a:lnTo>
                    <a:pt x="37" y="535"/>
                  </a:lnTo>
                  <a:lnTo>
                    <a:pt x="43" y="534"/>
                  </a:lnTo>
                  <a:lnTo>
                    <a:pt x="47" y="530"/>
                  </a:lnTo>
                  <a:lnTo>
                    <a:pt x="55" y="526"/>
                  </a:lnTo>
                  <a:lnTo>
                    <a:pt x="69" y="522"/>
                  </a:lnTo>
                  <a:lnTo>
                    <a:pt x="83" y="518"/>
                  </a:lnTo>
                  <a:lnTo>
                    <a:pt x="98" y="514"/>
                  </a:lnTo>
                  <a:lnTo>
                    <a:pt x="113" y="511"/>
                  </a:lnTo>
                  <a:lnTo>
                    <a:pt x="128" y="508"/>
                  </a:lnTo>
                  <a:lnTo>
                    <a:pt x="143" y="507"/>
                  </a:lnTo>
                  <a:lnTo>
                    <a:pt x="158" y="507"/>
                  </a:lnTo>
                  <a:lnTo>
                    <a:pt x="173" y="508"/>
                  </a:lnTo>
                  <a:lnTo>
                    <a:pt x="169" y="513"/>
                  </a:lnTo>
                  <a:lnTo>
                    <a:pt x="173" y="513"/>
                  </a:lnTo>
                  <a:lnTo>
                    <a:pt x="178" y="513"/>
                  </a:lnTo>
                  <a:lnTo>
                    <a:pt x="180" y="515"/>
                  </a:lnTo>
                  <a:lnTo>
                    <a:pt x="158" y="519"/>
                  </a:lnTo>
                  <a:lnTo>
                    <a:pt x="137" y="523"/>
                  </a:lnTo>
                  <a:lnTo>
                    <a:pt x="116" y="528"/>
                  </a:lnTo>
                  <a:lnTo>
                    <a:pt x="96" y="533"/>
                  </a:lnTo>
                  <a:lnTo>
                    <a:pt x="75" y="537"/>
                  </a:lnTo>
                  <a:lnTo>
                    <a:pt x="53" y="543"/>
                  </a:lnTo>
                  <a:lnTo>
                    <a:pt x="32" y="550"/>
                  </a:lnTo>
                  <a:lnTo>
                    <a:pt x="10" y="556"/>
                  </a:lnTo>
                  <a:lnTo>
                    <a:pt x="8" y="507"/>
                  </a:lnTo>
                  <a:lnTo>
                    <a:pt x="8" y="459"/>
                  </a:lnTo>
                  <a:lnTo>
                    <a:pt x="8" y="410"/>
                  </a:lnTo>
                  <a:lnTo>
                    <a:pt x="6" y="362"/>
                  </a:lnTo>
                  <a:lnTo>
                    <a:pt x="7" y="273"/>
                  </a:lnTo>
                  <a:lnTo>
                    <a:pt x="8" y="185"/>
                  </a:lnTo>
                  <a:lnTo>
                    <a:pt x="7" y="96"/>
                  </a:lnTo>
                  <a:lnTo>
                    <a:pt x="0" y="6"/>
                  </a:lnTo>
                  <a:lnTo>
                    <a:pt x="6" y="0"/>
                  </a:lnTo>
                  <a:lnTo>
                    <a:pt x="20" y="28"/>
                  </a:lnTo>
                  <a:lnTo>
                    <a:pt x="23" y="61"/>
                  </a:lnTo>
                  <a:lnTo>
                    <a:pt x="23" y="96"/>
                  </a:lnTo>
                  <a:lnTo>
                    <a:pt x="27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6200" y="5421960"/>
              <a:ext cx="381240" cy="531360"/>
            </a:xfrm>
            <a:custGeom>
              <a:avLst/>
              <a:gdLst/>
              <a:ahLst/>
              <a:rect l="l" t="t" r="r" b="b"/>
              <a:pathLst>
                <a:path w="327" h="579">
                  <a:moveTo>
                    <a:pt x="326" y="21"/>
                  </a:moveTo>
                  <a:lnTo>
                    <a:pt x="320" y="43"/>
                  </a:lnTo>
                  <a:lnTo>
                    <a:pt x="324" y="64"/>
                  </a:lnTo>
                  <a:lnTo>
                    <a:pt x="327" y="84"/>
                  </a:lnTo>
                  <a:lnTo>
                    <a:pt x="319" y="106"/>
                  </a:lnTo>
                  <a:lnTo>
                    <a:pt x="313" y="227"/>
                  </a:lnTo>
                  <a:lnTo>
                    <a:pt x="314" y="344"/>
                  </a:lnTo>
                  <a:lnTo>
                    <a:pt x="315" y="458"/>
                  </a:lnTo>
                  <a:lnTo>
                    <a:pt x="305" y="575"/>
                  </a:lnTo>
                  <a:lnTo>
                    <a:pt x="291" y="579"/>
                  </a:lnTo>
                  <a:lnTo>
                    <a:pt x="289" y="519"/>
                  </a:lnTo>
                  <a:lnTo>
                    <a:pt x="291" y="456"/>
                  </a:lnTo>
                  <a:lnTo>
                    <a:pt x="296" y="393"/>
                  </a:lnTo>
                  <a:lnTo>
                    <a:pt x="297" y="332"/>
                  </a:lnTo>
                  <a:lnTo>
                    <a:pt x="292" y="281"/>
                  </a:lnTo>
                  <a:lnTo>
                    <a:pt x="291" y="232"/>
                  </a:lnTo>
                  <a:lnTo>
                    <a:pt x="292" y="181"/>
                  </a:lnTo>
                  <a:lnTo>
                    <a:pt x="291" y="129"/>
                  </a:lnTo>
                  <a:lnTo>
                    <a:pt x="284" y="133"/>
                  </a:lnTo>
                  <a:lnTo>
                    <a:pt x="207" y="233"/>
                  </a:lnTo>
                  <a:lnTo>
                    <a:pt x="209" y="246"/>
                  </a:lnTo>
                  <a:lnTo>
                    <a:pt x="216" y="257"/>
                  </a:lnTo>
                  <a:lnTo>
                    <a:pt x="223" y="268"/>
                  </a:lnTo>
                  <a:lnTo>
                    <a:pt x="225" y="279"/>
                  </a:lnTo>
                  <a:lnTo>
                    <a:pt x="231" y="279"/>
                  </a:lnTo>
                  <a:lnTo>
                    <a:pt x="238" y="292"/>
                  </a:lnTo>
                  <a:lnTo>
                    <a:pt x="245" y="306"/>
                  </a:lnTo>
                  <a:lnTo>
                    <a:pt x="251" y="319"/>
                  </a:lnTo>
                  <a:lnTo>
                    <a:pt x="256" y="333"/>
                  </a:lnTo>
                  <a:lnTo>
                    <a:pt x="263" y="347"/>
                  </a:lnTo>
                  <a:lnTo>
                    <a:pt x="270" y="361"/>
                  </a:lnTo>
                  <a:lnTo>
                    <a:pt x="277" y="375"/>
                  </a:lnTo>
                  <a:lnTo>
                    <a:pt x="286" y="387"/>
                  </a:lnTo>
                  <a:lnTo>
                    <a:pt x="284" y="390"/>
                  </a:lnTo>
                  <a:lnTo>
                    <a:pt x="282" y="390"/>
                  </a:lnTo>
                  <a:lnTo>
                    <a:pt x="278" y="390"/>
                  </a:lnTo>
                  <a:lnTo>
                    <a:pt x="276" y="390"/>
                  </a:lnTo>
                  <a:lnTo>
                    <a:pt x="265" y="374"/>
                  </a:lnTo>
                  <a:lnTo>
                    <a:pt x="253" y="357"/>
                  </a:lnTo>
                  <a:lnTo>
                    <a:pt x="244" y="339"/>
                  </a:lnTo>
                  <a:lnTo>
                    <a:pt x="233" y="322"/>
                  </a:lnTo>
                  <a:lnTo>
                    <a:pt x="223" y="304"/>
                  </a:lnTo>
                  <a:lnTo>
                    <a:pt x="213" y="287"/>
                  </a:lnTo>
                  <a:lnTo>
                    <a:pt x="201" y="271"/>
                  </a:lnTo>
                  <a:lnTo>
                    <a:pt x="187" y="257"/>
                  </a:lnTo>
                  <a:lnTo>
                    <a:pt x="138" y="310"/>
                  </a:lnTo>
                  <a:lnTo>
                    <a:pt x="148" y="336"/>
                  </a:lnTo>
                  <a:lnTo>
                    <a:pt x="160" y="361"/>
                  </a:lnTo>
                  <a:lnTo>
                    <a:pt x="171" y="387"/>
                  </a:lnTo>
                  <a:lnTo>
                    <a:pt x="183" y="412"/>
                  </a:lnTo>
                  <a:lnTo>
                    <a:pt x="195" y="437"/>
                  </a:lnTo>
                  <a:lnTo>
                    <a:pt x="209" y="461"/>
                  </a:lnTo>
                  <a:lnTo>
                    <a:pt x="224" y="484"/>
                  </a:lnTo>
                  <a:lnTo>
                    <a:pt x="240" y="507"/>
                  </a:lnTo>
                  <a:lnTo>
                    <a:pt x="231" y="506"/>
                  </a:lnTo>
                  <a:lnTo>
                    <a:pt x="224" y="501"/>
                  </a:lnTo>
                  <a:lnTo>
                    <a:pt x="217" y="494"/>
                  </a:lnTo>
                  <a:lnTo>
                    <a:pt x="213" y="486"/>
                  </a:lnTo>
                  <a:lnTo>
                    <a:pt x="207" y="477"/>
                  </a:lnTo>
                  <a:lnTo>
                    <a:pt x="201" y="468"/>
                  </a:lnTo>
                  <a:lnTo>
                    <a:pt x="194" y="460"/>
                  </a:lnTo>
                  <a:lnTo>
                    <a:pt x="187" y="454"/>
                  </a:lnTo>
                  <a:lnTo>
                    <a:pt x="180" y="438"/>
                  </a:lnTo>
                  <a:lnTo>
                    <a:pt x="174" y="422"/>
                  </a:lnTo>
                  <a:lnTo>
                    <a:pt x="165" y="407"/>
                  </a:lnTo>
                  <a:lnTo>
                    <a:pt x="157" y="392"/>
                  </a:lnTo>
                  <a:lnTo>
                    <a:pt x="149" y="378"/>
                  </a:lnTo>
                  <a:lnTo>
                    <a:pt x="141" y="363"/>
                  </a:lnTo>
                  <a:lnTo>
                    <a:pt x="133" y="348"/>
                  </a:lnTo>
                  <a:lnTo>
                    <a:pt x="125" y="332"/>
                  </a:lnTo>
                  <a:lnTo>
                    <a:pt x="110" y="344"/>
                  </a:lnTo>
                  <a:lnTo>
                    <a:pt x="96" y="357"/>
                  </a:lnTo>
                  <a:lnTo>
                    <a:pt x="83" y="371"/>
                  </a:lnTo>
                  <a:lnTo>
                    <a:pt x="69" y="386"/>
                  </a:lnTo>
                  <a:lnTo>
                    <a:pt x="55" y="401"/>
                  </a:lnTo>
                  <a:lnTo>
                    <a:pt x="40" y="416"/>
                  </a:lnTo>
                  <a:lnTo>
                    <a:pt x="26" y="429"/>
                  </a:lnTo>
                  <a:lnTo>
                    <a:pt x="11" y="440"/>
                  </a:lnTo>
                  <a:lnTo>
                    <a:pt x="8" y="440"/>
                  </a:lnTo>
                  <a:lnTo>
                    <a:pt x="4" y="439"/>
                  </a:lnTo>
                  <a:lnTo>
                    <a:pt x="2" y="437"/>
                  </a:lnTo>
                  <a:lnTo>
                    <a:pt x="0" y="435"/>
                  </a:lnTo>
                  <a:lnTo>
                    <a:pt x="2" y="431"/>
                  </a:lnTo>
                  <a:lnTo>
                    <a:pt x="2" y="428"/>
                  </a:lnTo>
                  <a:lnTo>
                    <a:pt x="2" y="424"/>
                  </a:lnTo>
                  <a:lnTo>
                    <a:pt x="2" y="420"/>
                  </a:lnTo>
                  <a:lnTo>
                    <a:pt x="11" y="422"/>
                  </a:lnTo>
                  <a:lnTo>
                    <a:pt x="31" y="406"/>
                  </a:lnTo>
                  <a:lnTo>
                    <a:pt x="49" y="388"/>
                  </a:lnTo>
                  <a:lnTo>
                    <a:pt x="68" y="369"/>
                  </a:lnTo>
                  <a:lnTo>
                    <a:pt x="85" y="349"/>
                  </a:lnTo>
                  <a:lnTo>
                    <a:pt x="101" y="329"/>
                  </a:lnTo>
                  <a:lnTo>
                    <a:pt x="117" y="309"/>
                  </a:lnTo>
                  <a:lnTo>
                    <a:pt x="132" y="289"/>
                  </a:lnTo>
                  <a:lnTo>
                    <a:pt x="148" y="270"/>
                  </a:lnTo>
                  <a:lnTo>
                    <a:pt x="156" y="263"/>
                  </a:lnTo>
                  <a:lnTo>
                    <a:pt x="165" y="255"/>
                  </a:lnTo>
                  <a:lnTo>
                    <a:pt x="174" y="244"/>
                  </a:lnTo>
                  <a:lnTo>
                    <a:pt x="180" y="233"/>
                  </a:lnTo>
                  <a:lnTo>
                    <a:pt x="179" y="224"/>
                  </a:lnTo>
                  <a:lnTo>
                    <a:pt x="185" y="221"/>
                  </a:lnTo>
                  <a:lnTo>
                    <a:pt x="192" y="221"/>
                  </a:lnTo>
                  <a:lnTo>
                    <a:pt x="199" y="217"/>
                  </a:lnTo>
                  <a:lnTo>
                    <a:pt x="214" y="194"/>
                  </a:lnTo>
                  <a:lnTo>
                    <a:pt x="229" y="172"/>
                  </a:lnTo>
                  <a:lnTo>
                    <a:pt x="246" y="150"/>
                  </a:lnTo>
                  <a:lnTo>
                    <a:pt x="262" y="127"/>
                  </a:lnTo>
                  <a:lnTo>
                    <a:pt x="277" y="104"/>
                  </a:lnTo>
                  <a:lnTo>
                    <a:pt x="289" y="81"/>
                  </a:lnTo>
                  <a:lnTo>
                    <a:pt x="298" y="56"/>
                  </a:lnTo>
                  <a:lnTo>
                    <a:pt x="303" y="29"/>
                  </a:lnTo>
                  <a:lnTo>
                    <a:pt x="273" y="11"/>
                  </a:lnTo>
                  <a:lnTo>
                    <a:pt x="274" y="5"/>
                  </a:lnTo>
                  <a:lnTo>
                    <a:pt x="276" y="1"/>
                  </a:lnTo>
                  <a:lnTo>
                    <a:pt x="281" y="0"/>
                  </a:lnTo>
                  <a:lnTo>
                    <a:pt x="286" y="0"/>
                  </a:lnTo>
                  <a:lnTo>
                    <a:pt x="292" y="1"/>
                  </a:lnTo>
                  <a:lnTo>
                    <a:pt x="298" y="3"/>
                  </a:lnTo>
                  <a:lnTo>
                    <a:pt x="303" y="4"/>
                  </a:lnTo>
                  <a:lnTo>
                    <a:pt x="307" y="5"/>
                  </a:lnTo>
                  <a:lnTo>
                    <a:pt x="312" y="10"/>
                  </a:lnTo>
                  <a:lnTo>
                    <a:pt x="316" y="13"/>
                  </a:lnTo>
                  <a:lnTo>
                    <a:pt x="321" y="16"/>
                  </a:lnTo>
                  <a:lnTo>
                    <a:pt x="3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15640" y="5453280"/>
              <a:ext cx="342000" cy="297720"/>
            </a:xfrm>
            <a:custGeom>
              <a:avLst/>
              <a:gdLst/>
              <a:ahLst/>
              <a:rect l="l" t="t" r="r" b="b"/>
              <a:pathLst>
                <a:path w="291" h="324">
                  <a:moveTo>
                    <a:pt x="48" y="45"/>
                  </a:moveTo>
                  <a:lnTo>
                    <a:pt x="57" y="61"/>
                  </a:lnTo>
                  <a:lnTo>
                    <a:pt x="65" y="77"/>
                  </a:lnTo>
                  <a:lnTo>
                    <a:pt x="73" y="93"/>
                  </a:lnTo>
                  <a:lnTo>
                    <a:pt x="81" y="109"/>
                  </a:lnTo>
                  <a:lnTo>
                    <a:pt x="91" y="125"/>
                  </a:lnTo>
                  <a:lnTo>
                    <a:pt x="101" y="140"/>
                  </a:lnTo>
                  <a:lnTo>
                    <a:pt x="114" y="153"/>
                  </a:lnTo>
                  <a:lnTo>
                    <a:pt x="129" y="165"/>
                  </a:lnTo>
                  <a:lnTo>
                    <a:pt x="147" y="147"/>
                  </a:lnTo>
                  <a:lnTo>
                    <a:pt x="164" y="129"/>
                  </a:lnTo>
                  <a:lnTo>
                    <a:pt x="183" y="109"/>
                  </a:lnTo>
                  <a:lnTo>
                    <a:pt x="201" y="89"/>
                  </a:lnTo>
                  <a:lnTo>
                    <a:pt x="220" y="68"/>
                  </a:lnTo>
                  <a:lnTo>
                    <a:pt x="238" y="47"/>
                  </a:lnTo>
                  <a:lnTo>
                    <a:pt x="258" y="26"/>
                  </a:lnTo>
                  <a:lnTo>
                    <a:pt x="277" y="7"/>
                  </a:lnTo>
                  <a:lnTo>
                    <a:pt x="291" y="7"/>
                  </a:lnTo>
                  <a:lnTo>
                    <a:pt x="276" y="25"/>
                  </a:lnTo>
                  <a:lnTo>
                    <a:pt x="260" y="45"/>
                  </a:lnTo>
                  <a:lnTo>
                    <a:pt x="244" y="63"/>
                  </a:lnTo>
                  <a:lnTo>
                    <a:pt x="227" y="82"/>
                  </a:lnTo>
                  <a:lnTo>
                    <a:pt x="209" y="99"/>
                  </a:lnTo>
                  <a:lnTo>
                    <a:pt x="193" y="117"/>
                  </a:lnTo>
                  <a:lnTo>
                    <a:pt x="176" y="136"/>
                  </a:lnTo>
                  <a:lnTo>
                    <a:pt x="160" y="153"/>
                  </a:lnTo>
                  <a:lnTo>
                    <a:pt x="143" y="174"/>
                  </a:lnTo>
                  <a:lnTo>
                    <a:pt x="125" y="195"/>
                  </a:lnTo>
                  <a:lnTo>
                    <a:pt x="109" y="214"/>
                  </a:lnTo>
                  <a:lnTo>
                    <a:pt x="92" y="233"/>
                  </a:lnTo>
                  <a:lnTo>
                    <a:pt x="76" y="252"/>
                  </a:lnTo>
                  <a:lnTo>
                    <a:pt x="58" y="272"/>
                  </a:lnTo>
                  <a:lnTo>
                    <a:pt x="42" y="292"/>
                  </a:lnTo>
                  <a:lnTo>
                    <a:pt x="25" y="314"/>
                  </a:lnTo>
                  <a:lnTo>
                    <a:pt x="19" y="319"/>
                  </a:lnTo>
                  <a:lnTo>
                    <a:pt x="15" y="321"/>
                  </a:lnTo>
                  <a:lnTo>
                    <a:pt x="9" y="322"/>
                  </a:lnTo>
                  <a:lnTo>
                    <a:pt x="1" y="324"/>
                  </a:lnTo>
                  <a:lnTo>
                    <a:pt x="0" y="314"/>
                  </a:lnTo>
                  <a:lnTo>
                    <a:pt x="2" y="305"/>
                  </a:lnTo>
                  <a:lnTo>
                    <a:pt x="7" y="298"/>
                  </a:lnTo>
                  <a:lnTo>
                    <a:pt x="12" y="291"/>
                  </a:lnTo>
                  <a:lnTo>
                    <a:pt x="18" y="284"/>
                  </a:lnTo>
                  <a:lnTo>
                    <a:pt x="24" y="277"/>
                  </a:lnTo>
                  <a:lnTo>
                    <a:pt x="28" y="269"/>
                  </a:lnTo>
                  <a:lnTo>
                    <a:pt x="31" y="261"/>
                  </a:lnTo>
                  <a:lnTo>
                    <a:pt x="43" y="253"/>
                  </a:lnTo>
                  <a:lnTo>
                    <a:pt x="55" y="243"/>
                  </a:lnTo>
                  <a:lnTo>
                    <a:pt x="65" y="231"/>
                  </a:lnTo>
                  <a:lnTo>
                    <a:pt x="76" y="220"/>
                  </a:lnTo>
                  <a:lnTo>
                    <a:pt x="86" y="207"/>
                  </a:lnTo>
                  <a:lnTo>
                    <a:pt x="95" y="196"/>
                  </a:lnTo>
                  <a:lnTo>
                    <a:pt x="103" y="184"/>
                  </a:lnTo>
                  <a:lnTo>
                    <a:pt x="113" y="174"/>
                  </a:lnTo>
                  <a:lnTo>
                    <a:pt x="108" y="166"/>
                  </a:lnTo>
                  <a:lnTo>
                    <a:pt x="102" y="159"/>
                  </a:lnTo>
                  <a:lnTo>
                    <a:pt x="95" y="152"/>
                  </a:lnTo>
                  <a:lnTo>
                    <a:pt x="88" y="145"/>
                  </a:lnTo>
                  <a:lnTo>
                    <a:pt x="83" y="138"/>
                  </a:lnTo>
                  <a:lnTo>
                    <a:pt x="77" y="131"/>
                  </a:lnTo>
                  <a:lnTo>
                    <a:pt x="73" y="124"/>
                  </a:lnTo>
                  <a:lnTo>
                    <a:pt x="71" y="116"/>
                  </a:lnTo>
                  <a:lnTo>
                    <a:pt x="68" y="118"/>
                  </a:lnTo>
                  <a:lnTo>
                    <a:pt x="60" y="106"/>
                  </a:lnTo>
                  <a:lnTo>
                    <a:pt x="53" y="93"/>
                  </a:lnTo>
                  <a:lnTo>
                    <a:pt x="47" y="79"/>
                  </a:lnTo>
                  <a:lnTo>
                    <a:pt x="41" y="67"/>
                  </a:lnTo>
                  <a:lnTo>
                    <a:pt x="35" y="53"/>
                  </a:lnTo>
                  <a:lnTo>
                    <a:pt x="30" y="40"/>
                  </a:lnTo>
                  <a:lnTo>
                    <a:pt x="23" y="26"/>
                  </a:lnTo>
                  <a:lnTo>
                    <a:pt x="15" y="15"/>
                  </a:lnTo>
                  <a:lnTo>
                    <a:pt x="18" y="0"/>
                  </a:lnTo>
                  <a:lnTo>
                    <a:pt x="31" y="6"/>
                  </a:lnTo>
                  <a:lnTo>
                    <a:pt x="38" y="17"/>
                  </a:lnTo>
                  <a:lnTo>
                    <a:pt x="42" y="32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84680" y="4593600"/>
              <a:ext cx="67680" cy="342000"/>
            </a:xfrm>
            <a:custGeom>
              <a:avLst/>
              <a:gdLst/>
              <a:ahLst/>
              <a:rect l="l" t="t" r="r" b="b"/>
              <a:pathLst>
                <a:path w="57" h="372">
                  <a:moveTo>
                    <a:pt x="57" y="145"/>
                  </a:moveTo>
                  <a:lnTo>
                    <a:pt x="57" y="303"/>
                  </a:lnTo>
                  <a:lnTo>
                    <a:pt x="53" y="322"/>
                  </a:lnTo>
                  <a:lnTo>
                    <a:pt x="49" y="338"/>
                  </a:lnTo>
                  <a:lnTo>
                    <a:pt x="42" y="354"/>
                  </a:lnTo>
                  <a:lnTo>
                    <a:pt x="33" y="372"/>
                  </a:lnTo>
                  <a:lnTo>
                    <a:pt x="22" y="352"/>
                  </a:lnTo>
                  <a:lnTo>
                    <a:pt x="10" y="335"/>
                  </a:lnTo>
                  <a:lnTo>
                    <a:pt x="3" y="315"/>
                  </a:lnTo>
                  <a:lnTo>
                    <a:pt x="0" y="293"/>
                  </a:lnTo>
                  <a:lnTo>
                    <a:pt x="1" y="261"/>
                  </a:lnTo>
                  <a:lnTo>
                    <a:pt x="5" y="232"/>
                  </a:lnTo>
                  <a:lnTo>
                    <a:pt x="11" y="205"/>
                  </a:lnTo>
                  <a:lnTo>
                    <a:pt x="18" y="178"/>
                  </a:lnTo>
                  <a:lnTo>
                    <a:pt x="24" y="152"/>
                  </a:lnTo>
                  <a:lnTo>
                    <a:pt x="30" y="124"/>
                  </a:lnTo>
                  <a:lnTo>
                    <a:pt x="34" y="95"/>
                  </a:lnTo>
                  <a:lnTo>
                    <a:pt x="35" y="63"/>
                  </a:lnTo>
                  <a:lnTo>
                    <a:pt x="35" y="47"/>
                  </a:lnTo>
                  <a:lnTo>
                    <a:pt x="35" y="32"/>
                  </a:lnTo>
                  <a:lnTo>
                    <a:pt x="35" y="1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52" y="38"/>
                  </a:lnTo>
                  <a:lnTo>
                    <a:pt x="52" y="71"/>
                  </a:lnTo>
                  <a:lnTo>
                    <a:pt x="55" y="106"/>
                  </a:lnTo>
                  <a:lnTo>
                    <a:pt x="57" y="14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82520" y="4507200"/>
              <a:ext cx="69840" cy="550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20" y="0"/>
                  </a:moveTo>
                  <a:lnTo>
                    <a:pt x="14" y="10"/>
                  </a:lnTo>
                  <a:lnTo>
                    <a:pt x="10" y="16"/>
                  </a:lnTo>
                  <a:lnTo>
                    <a:pt x="5" y="25"/>
                  </a:lnTo>
                  <a:lnTo>
                    <a:pt x="0" y="34"/>
                  </a:lnTo>
                  <a:lnTo>
                    <a:pt x="5" y="37"/>
                  </a:lnTo>
                  <a:lnTo>
                    <a:pt x="10" y="41"/>
                  </a:lnTo>
                  <a:lnTo>
                    <a:pt x="14" y="44"/>
                  </a:lnTo>
                  <a:lnTo>
                    <a:pt x="19" y="48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3" y="57"/>
                  </a:lnTo>
                  <a:lnTo>
                    <a:pt x="38" y="59"/>
                  </a:lnTo>
                  <a:lnTo>
                    <a:pt x="45" y="50"/>
                  </a:lnTo>
                  <a:lnTo>
                    <a:pt x="52" y="43"/>
                  </a:lnTo>
                  <a:lnTo>
                    <a:pt x="58" y="35"/>
                  </a:lnTo>
                  <a:lnTo>
                    <a:pt x="60" y="26"/>
                  </a:lnTo>
                  <a:lnTo>
                    <a:pt x="59" y="20"/>
                  </a:lnTo>
                  <a:lnTo>
                    <a:pt x="57" y="15"/>
                  </a:lnTo>
                  <a:lnTo>
                    <a:pt x="52" y="11"/>
                  </a:lnTo>
                  <a:lnTo>
                    <a:pt x="46" y="8"/>
                  </a:lnTo>
                  <a:lnTo>
                    <a:pt x="40" y="6"/>
                  </a:lnTo>
                  <a:lnTo>
                    <a:pt x="33" y="4"/>
                  </a:lnTo>
                  <a:lnTo>
                    <a:pt x="27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15640" y="4439160"/>
              <a:ext cx="58320" cy="91800"/>
            </a:xfrm>
            <a:custGeom>
              <a:avLst/>
              <a:gdLst/>
              <a:ahLst/>
              <a:rect l="l" t="t" r="r" b="b"/>
              <a:pathLst>
                <a:path w="51" h="99">
                  <a:moveTo>
                    <a:pt x="0" y="65"/>
                  </a:moveTo>
                  <a:lnTo>
                    <a:pt x="24" y="99"/>
                  </a:lnTo>
                  <a:lnTo>
                    <a:pt x="32" y="77"/>
                  </a:lnTo>
                  <a:lnTo>
                    <a:pt x="40" y="57"/>
                  </a:lnTo>
                  <a:lnTo>
                    <a:pt x="47" y="38"/>
                  </a:lnTo>
                  <a:lnTo>
                    <a:pt x="51" y="16"/>
                  </a:lnTo>
                  <a:lnTo>
                    <a:pt x="51" y="11"/>
                  </a:lnTo>
                  <a:lnTo>
                    <a:pt x="48" y="8"/>
                  </a:lnTo>
                  <a:lnTo>
                    <a:pt x="47" y="3"/>
                  </a:lnTo>
                  <a:lnTo>
                    <a:pt x="46" y="0"/>
                  </a:lnTo>
                  <a:lnTo>
                    <a:pt x="38" y="6"/>
                  </a:lnTo>
                  <a:lnTo>
                    <a:pt x="31" y="13"/>
                  </a:lnTo>
                  <a:lnTo>
                    <a:pt x="25" y="21"/>
                  </a:lnTo>
                  <a:lnTo>
                    <a:pt x="20" y="28"/>
                  </a:lnTo>
                  <a:lnTo>
                    <a:pt x="15" y="38"/>
                  </a:lnTo>
                  <a:lnTo>
                    <a:pt x="10" y="46"/>
                  </a:lnTo>
                  <a:lnTo>
                    <a:pt x="6" y="5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15238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ght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3623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32767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Comic Sans MS"/>
              </a:rPr>
              <a:t>The square of the hypotenuse is equal to the sum of the squares of the other two si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3160" y="2819520"/>
            <a:ext cx="2332440" cy="2775960"/>
            <a:chOff x="533160" y="2819520"/>
            <a:chExt cx="2332440" cy="2775960"/>
          </a:xfrm>
        </p:grpSpPr>
        <p:sp>
          <p:nvSpPr>
            <p:cNvPr id="315" name=""/>
            <p:cNvSpPr/>
            <p:nvPr/>
          </p:nvSpPr>
          <p:spPr>
            <a:xfrm flipH="1">
              <a:off x="532800" y="2819520"/>
              <a:ext cx="1904760" cy="213336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38240" y="342900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28920" y="347652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92040" y="49528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905120" y="4343400"/>
            <a:ext cx="1828440" cy="685800"/>
            <a:chOff x="1905120" y="4343400"/>
            <a:chExt cx="1828440" cy="685800"/>
          </a:xfrm>
        </p:grpSpPr>
        <p:sp>
          <p:nvSpPr>
            <p:cNvPr id="320" name=""/>
            <p:cNvSpPr/>
            <p:nvPr/>
          </p:nvSpPr>
          <p:spPr>
            <a:xfrm>
              <a:off x="1905120" y="4419720"/>
              <a:ext cx="53316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81080" y="4343400"/>
              <a:ext cx="1752480" cy="685800"/>
              <a:chOff x="1981080" y="4343400"/>
              <a:chExt cx="1752480" cy="685800"/>
            </a:xfrm>
          </p:grpSpPr>
          <p:sp>
            <p:nvSpPr>
              <p:cNvPr id="322" name=""/>
              <p:cNvSpPr/>
              <p:nvPr/>
            </p:nvSpPr>
            <p:spPr>
              <a:xfrm>
                <a:off x="1981080" y="4800600"/>
                <a:ext cx="304920" cy="228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58320" y="4343400"/>
                <a:ext cx="9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0°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803320" y="4419720"/>
                <a:ext cx="930240" cy="533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5" name=""/>
              <p:cNvCxnSpPr>
                <a:stCxn id="324" idx="2"/>
                <a:endCxn id="326" idx="1"/>
              </p:cNvCxnSpPr>
              <p:nvPr/>
            </p:nvCxnSpPr>
            <p:spPr>
              <a:xfrm flipV="1" rot="10800000">
                <a:off x="2250360" y="4685400"/>
                <a:ext cx="552960" cy="1861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27" name=""/>
          <p:cNvGrpSpPr/>
          <p:nvPr/>
        </p:nvGrpSpPr>
        <p:grpSpPr>
          <a:xfrm>
            <a:off x="473760" y="2227320"/>
            <a:ext cx="2440800" cy="1353960"/>
            <a:chOff x="473760" y="2227320"/>
            <a:chExt cx="2440800" cy="1353960"/>
          </a:xfrm>
        </p:grpSpPr>
        <p:sp>
          <p:nvSpPr>
            <p:cNvPr id="328" name=""/>
            <p:cNvSpPr/>
            <p:nvPr/>
          </p:nvSpPr>
          <p:spPr>
            <a:xfrm>
              <a:off x="473760" y="22273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ypotenu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520" y="2227320"/>
              <a:ext cx="2320920" cy="57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9640" y="3124080"/>
              <a:ext cx="3826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29" idx="4"/>
              <a:endCxn id="330" idx="2"/>
            </p:cNvCxnSpPr>
            <p:nvPr/>
          </p:nvCxnSpPr>
          <p:spPr>
            <a:xfrm flipH="1" rot="16200000">
              <a:off x="1563840" y="2935800"/>
              <a:ext cx="546480" cy="286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32" name=""/>
          <p:cNvGrpSpPr/>
          <p:nvPr/>
        </p:nvGrpSpPr>
        <p:grpSpPr>
          <a:xfrm>
            <a:off x="1676520" y="4572000"/>
            <a:ext cx="1461960" cy="1569960"/>
            <a:chOff x="1676520" y="4572000"/>
            <a:chExt cx="1461960" cy="1569960"/>
          </a:xfrm>
        </p:grpSpPr>
        <p:sp>
          <p:nvSpPr>
            <p:cNvPr id="333" name=""/>
            <p:cNvSpPr/>
            <p:nvPr/>
          </p:nvSpPr>
          <p:spPr>
            <a:xfrm>
              <a:off x="2177640" y="537840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eg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82680" y="5562720"/>
              <a:ext cx="931320" cy="57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6520" y="4692600"/>
              <a:ext cx="398160" cy="273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22120" y="4572000"/>
              <a:ext cx="398160" cy="273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6" name=""/>
            <p:cNvCxnSpPr>
              <a:stCxn id="334" idx="0"/>
              <a:endCxn id="335" idx="4"/>
            </p:cNvCxnSpPr>
            <p:nvPr/>
          </p:nvCxnSpPr>
          <p:spPr>
            <a:xfrm flipV="1" rot="16200000">
              <a:off x="1963800" y="4877280"/>
              <a:ext cx="597600" cy="773280"/>
            </a:xfrm>
            <a:prstGeom prst="curvedConnector5">
              <a:avLst>
                <a:gd name="adj1" fmla="val 49969"/>
                <a:gd name="adj2" fmla="val 49976"/>
                <a:gd name="adj3" fmla="val 4996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"/>
            <p:cNvCxnSpPr>
              <a:stCxn id="334" idx="0"/>
              <a:endCxn id="326" idx="6"/>
            </p:cNvCxnSpPr>
            <p:nvPr/>
          </p:nvCxnSpPr>
          <p:spPr>
            <a:xfrm flipV="1" rot="16200000">
              <a:off x="2107080" y="5020560"/>
              <a:ext cx="855000" cy="2289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943600" y="3581280"/>
            <a:ext cx="1143000" cy="10670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58600" y="3733920"/>
            <a:ext cx="6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4648320"/>
            <a:ext cx="1676520" cy="16002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17520" y="541008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9618200">
            <a:off x="3581280" y="2286000"/>
            <a:ext cx="1981440" cy="19810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69440" y="281952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553000" y="3581280"/>
            <a:ext cx="436680" cy="1067040"/>
            <a:chOff x="5553000" y="3581280"/>
            <a:chExt cx="436680" cy="1067040"/>
          </a:xfrm>
        </p:grpSpPr>
        <p:sp>
          <p:nvSpPr>
            <p:cNvPr id="345" name=""/>
            <p:cNvSpPr/>
            <p:nvPr/>
          </p:nvSpPr>
          <p:spPr>
            <a:xfrm>
              <a:off x="5553000" y="365760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00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43600" y="3581280"/>
              <a:ext cx="0" cy="10670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267080" y="4114800"/>
            <a:ext cx="1676520" cy="642600"/>
            <a:chOff x="4267080" y="4114800"/>
            <a:chExt cx="1676520" cy="642600"/>
          </a:xfrm>
        </p:grpSpPr>
        <p:sp>
          <p:nvSpPr>
            <p:cNvPr id="348" name=""/>
            <p:cNvSpPr/>
            <p:nvPr/>
          </p:nvSpPr>
          <p:spPr>
            <a:xfrm>
              <a:off x="5025960" y="411480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00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080" y="4648320"/>
              <a:ext cx="16765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266720" y="3581280"/>
            <a:ext cx="1676520" cy="1067040"/>
            <a:chOff x="4266720" y="3581280"/>
            <a:chExt cx="1676520" cy="1067040"/>
          </a:xfrm>
        </p:grpSpPr>
        <p:sp>
          <p:nvSpPr>
            <p:cNvPr id="351" name=""/>
            <p:cNvSpPr/>
            <p:nvPr/>
          </p:nvSpPr>
          <p:spPr>
            <a:xfrm>
              <a:off x="4657680" y="37339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00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66720" y="3581280"/>
              <a:ext cx="1676520" cy="10670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715000" y="4419720"/>
            <a:ext cx="228600" cy="2286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19051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943600" y="3581280"/>
            <a:ext cx="1143000" cy="1067040"/>
            <a:chOff x="5943600" y="3581280"/>
            <a:chExt cx="1143000" cy="1067040"/>
          </a:xfrm>
        </p:grpSpPr>
        <p:sp>
          <p:nvSpPr>
            <p:cNvPr id="356" name=""/>
            <p:cNvSpPr/>
            <p:nvPr/>
          </p:nvSpPr>
          <p:spPr>
            <a:xfrm>
              <a:off x="6705720" y="35812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24480" y="358128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43600" y="42670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3600" y="38862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266720" y="4648320"/>
            <a:ext cx="1676520" cy="1600200"/>
            <a:chOff x="4266720" y="4648320"/>
            <a:chExt cx="1676520" cy="1600200"/>
          </a:xfrm>
        </p:grpSpPr>
        <p:sp>
          <p:nvSpPr>
            <p:cNvPr id="361" name=""/>
            <p:cNvSpPr/>
            <p:nvPr/>
          </p:nvSpPr>
          <p:spPr>
            <a:xfrm>
              <a:off x="5181480" y="46483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4280" y="46483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62720" y="46483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266720" y="54100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266720" y="57913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66720" y="50292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428640" y="2133720"/>
            <a:ext cx="2286000" cy="2286000"/>
            <a:chOff x="3428640" y="2133720"/>
            <a:chExt cx="2286000" cy="2286000"/>
          </a:xfrm>
        </p:grpSpPr>
        <p:sp>
          <p:nvSpPr>
            <p:cNvPr id="368" name=""/>
            <p:cNvSpPr/>
            <p:nvPr/>
          </p:nvSpPr>
          <p:spPr>
            <a:xfrm flipH="1">
              <a:off x="3428640" y="2209680"/>
              <a:ext cx="160020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91120" y="2362320"/>
              <a:ext cx="1143000" cy="1600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2590920"/>
              <a:ext cx="1143000" cy="1676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05320" y="2743200"/>
              <a:ext cx="1143000" cy="1676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5680" y="2133720"/>
              <a:ext cx="1143000" cy="1676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3657240" y="2590920"/>
              <a:ext cx="1600200" cy="1066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885840" y="2895480"/>
              <a:ext cx="1600200" cy="1067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4114440" y="3276720"/>
              <a:ext cx="1600200" cy="1066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57200" y="2968560"/>
            <a:ext cx="2816280" cy="2900160"/>
            <a:chOff x="457200" y="2968560"/>
            <a:chExt cx="2816280" cy="2900160"/>
          </a:xfrm>
        </p:grpSpPr>
        <p:sp>
          <p:nvSpPr>
            <p:cNvPr id="380" name=""/>
            <p:cNvSpPr/>
            <p:nvPr/>
          </p:nvSpPr>
          <p:spPr>
            <a:xfrm flipH="1">
              <a:off x="457200" y="2968560"/>
              <a:ext cx="2209680" cy="221004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368720" y="5226120"/>
              <a:ext cx="76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5120" y="3546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06800" y="4718160"/>
              <a:ext cx="460080" cy="460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14600" y="3581280"/>
              <a:ext cx="75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 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2895480" y="2286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(4ft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310824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6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39466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9000" y="47847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91120" y="5729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ft =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1447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aseball diamond is really a square with sides of 90ft. What is the distance from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ase to the home pl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447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aseball diamond is really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a square with sides of 90f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What is the distance from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ase to the home pl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447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aseball diamond is really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a square with sides of 90f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stanc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nd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base to the home plat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900520" y="4267080"/>
            <a:ext cx="3347640" cy="2133360"/>
            <a:chOff x="2900520" y="4267080"/>
            <a:chExt cx="3347640" cy="2133360"/>
          </a:xfrm>
        </p:grpSpPr>
        <p:sp>
          <p:nvSpPr>
            <p:cNvPr id="395" name=""/>
            <p:cNvSpPr/>
            <p:nvPr/>
          </p:nvSpPr>
          <p:spPr>
            <a:xfrm>
              <a:off x="2900520" y="4542840"/>
              <a:ext cx="3344040" cy="1857600"/>
            </a:xfrm>
            <a:custGeom>
              <a:avLst/>
              <a:gdLst/>
              <a:ahLst/>
              <a:rect l="l" t="t" r="r" b="b"/>
              <a:pathLst>
                <a:path w="13405" h="7217">
                  <a:moveTo>
                    <a:pt x="6609" y="7217"/>
                  </a:moveTo>
                  <a:lnTo>
                    <a:pt x="6275" y="6933"/>
                  </a:lnTo>
                  <a:lnTo>
                    <a:pt x="5954" y="6635"/>
                  </a:lnTo>
                  <a:lnTo>
                    <a:pt x="5638" y="6347"/>
                  </a:lnTo>
                  <a:lnTo>
                    <a:pt x="5334" y="6066"/>
                  </a:lnTo>
                  <a:lnTo>
                    <a:pt x="5037" y="5792"/>
                  </a:lnTo>
                  <a:lnTo>
                    <a:pt x="4751" y="5526"/>
                  </a:lnTo>
                  <a:lnTo>
                    <a:pt x="4470" y="5270"/>
                  </a:lnTo>
                  <a:lnTo>
                    <a:pt x="4199" y="5018"/>
                  </a:lnTo>
                  <a:lnTo>
                    <a:pt x="3934" y="4774"/>
                  </a:lnTo>
                  <a:lnTo>
                    <a:pt x="3681" y="4539"/>
                  </a:lnTo>
                  <a:lnTo>
                    <a:pt x="3432" y="4309"/>
                  </a:lnTo>
                  <a:lnTo>
                    <a:pt x="3193" y="4087"/>
                  </a:lnTo>
                  <a:lnTo>
                    <a:pt x="2961" y="3873"/>
                  </a:lnTo>
                  <a:lnTo>
                    <a:pt x="2735" y="3663"/>
                  </a:lnTo>
                  <a:lnTo>
                    <a:pt x="2515" y="3461"/>
                  </a:lnTo>
                  <a:lnTo>
                    <a:pt x="2303" y="3264"/>
                  </a:lnTo>
                  <a:lnTo>
                    <a:pt x="2136" y="3109"/>
                  </a:lnTo>
                  <a:lnTo>
                    <a:pt x="1971" y="2957"/>
                  </a:lnTo>
                  <a:lnTo>
                    <a:pt x="1808" y="2806"/>
                  </a:lnTo>
                  <a:lnTo>
                    <a:pt x="1651" y="2660"/>
                  </a:lnTo>
                  <a:lnTo>
                    <a:pt x="1495" y="2516"/>
                  </a:lnTo>
                  <a:lnTo>
                    <a:pt x="1345" y="2375"/>
                  </a:lnTo>
                  <a:lnTo>
                    <a:pt x="1195" y="2239"/>
                  </a:lnTo>
                  <a:lnTo>
                    <a:pt x="1052" y="2104"/>
                  </a:lnTo>
                  <a:lnTo>
                    <a:pt x="909" y="1973"/>
                  </a:lnTo>
                  <a:lnTo>
                    <a:pt x="771" y="1845"/>
                  </a:lnTo>
                  <a:lnTo>
                    <a:pt x="636" y="1719"/>
                  </a:lnTo>
                  <a:lnTo>
                    <a:pt x="502" y="1596"/>
                  </a:lnTo>
                  <a:lnTo>
                    <a:pt x="371" y="1475"/>
                  </a:lnTo>
                  <a:lnTo>
                    <a:pt x="246" y="1359"/>
                  </a:lnTo>
                  <a:lnTo>
                    <a:pt x="120" y="1244"/>
                  </a:lnTo>
                  <a:lnTo>
                    <a:pt x="0" y="1133"/>
                  </a:lnTo>
                  <a:lnTo>
                    <a:pt x="448" y="988"/>
                  </a:lnTo>
                  <a:lnTo>
                    <a:pt x="891" y="855"/>
                  </a:lnTo>
                  <a:lnTo>
                    <a:pt x="1335" y="732"/>
                  </a:lnTo>
                  <a:lnTo>
                    <a:pt x="1774" y="618"/>
                  </a:lnTo>
                  <a:lnTo>
                    <a:pt x="2208" y="520"/>
                  </a:lnTo>
                  <a:lnTo>
                    <a:pt x="2638" y="426"/>
                  </a:lnTo>
                  <a:lnTo>
                    <a:pt x="3065" y="342"/>
                  </a:lnTo>
                  <a:lnTo>
                    <a:pt x="3488" y="268"/>
                  </a:lnTo>
                  <a:lnTo>
                    <a:pt x="3908" y="204"/>
                  </a:lnTo>
                  <a:lnTo>
                    <a:pt x="4322" y="147"/>
                  </a:lnTo>
                  <a:lnTo>
                    <a:pt x="4731" y="103"/>
                  </a:lnTo>
                  <a:lnTo>
                    <a:pt x="5137" y="63"/>
                  </a:lnTo>
                  <a:lnTo>
                    <a:pt x="5536" y="37"/>
                  </a:lnTo>
                  <a:lnTo>
                    <a:pt x="5933" y="14"/>
                  </a:lnTo>
                  <a:lnTo>
                    <a:pt x="6323" y="5"/>
                  </a:lnTo>
                  <a:lnTo>
                    <a:pt x="6707" y="0"/>
                  </a:lnTo>
                  <a:lnTo>
                    <a:pt x="7085" y="5"/>
                  </a:lnTo>
                  <a:lnTo>
                    <a:pt x="7473" y="17"/>
                  </a:lnTo>
                  <a:lnTo>
                    <a:pt x="7870" y="37"/>
                  </a:lnTo>
                  <a:lnTo>
                    <a:pt x="8270" y="66"/>
                  </a:lnTo>
                  <a:lnTo>
                    <a:pt x="8676" y="103"/>
                  </a:lnTo>
                  <a:lnTo>
                    <a:pt x="9085" y="150"/>
                  </a:lnTo>
                  <a:lnTo>
                    <a:pt x="9499" y="204"/>
                  </a:lnTo>
                  <a:lnTo>
                    <a:pt x="9918" y="268"/>
                  </a:lnTo>
                  <a:lnTo>
                    <a:pt x="10342" y="342"/>
                  </a:lnTo>
                  <a:lnTo>
                    <a:pt x="10768" y="426"/>
                  </a:lnTo>
                  <a:lnTo>
                    <a:pt x="11199" y="520"/>
                  </a:lnTo>
                  <a:lnTo>
                    <a:pt x="11633" y="621"/>
                  </a:lnTo>
                  <a:lnTo>
                    <a:pt x="12072" y="734"/>
                  </a:lnTo>
                  <a:lnTo>
                    <a:pt x="12513" y="857"/>
                  </a:lnTo>
                  <a:lnTo>
                    <a:pt x="12956" y="990"/>
                  </a:lnTo>
                  <a:lnTo>
                    <a:pt x="13405" y="1136"/>
                  </a:lnTo>
                  <a:lnTo>
                    <a:pt x="13279" y="1248"/>
                  </a:lnTo>
                  <a:lnTo>
                    <a:pt x="13149" y="1362"/>
                  </a:lnTo>
                  <a:lnTo>
                    <a:pt x="13015" y="1480"/>
                  </a:lnTo>
                  <a:lnTo>
                    <a:pt x="12882" y="1601"/>
                  </a:lnTo>
                  <a:lnTo>
                    <a:pt x="12742" y="1724"/>
                  </a:lnTo>
                  <a:lnTo>
                    <a:pt x="12601" y="1850"/>
                  </a:lnTo>
                  <a:lnTo>
                    <a:pt x="12459" y="1980"/>
                  </a:lnTo>
                  <a:lnTo>
                    <a:pt x="12311" y="2111"/>
                  </a:lnTo>
                  <a:lnTo>
                    <a:pt x="12160" y="2247"/>
                  </a:lnTo>
                  <a:lnTo>
                    <a:pt x="12005" y="2384"/>
                  </a:lnTo>
                  <a:lnTo>
                    <a:pt x="11848" y="2525"/>
                  </a:lnTo>
                  <a:lnTo>
                    <a:pt x="11688" y="2668"/>
                  </a:lnTo>
                  <a:lnTo>
                    <a:pt x="11525" y="2816"/>
                  </a:lnTo>
                  <a:lnTo>
                    <a:pt x="11357" y="2964"/>
                  </a:lnTo>
                  <a:lnTo>
                    <a:pt x="11187" y="3119"/>
                  </a:lnTo>
                  <a:lnTo>
                    <a:pt x="11012" y="3274"/>
                  </a:lnTo>
                  <a:lnTo>
                    <a:pt x="10792" y="3469"/>
                  </a:lnTo>
                  <a:lnTo>
                    <a:pt x="10569" y="3671"/>
                  </a:lnTo>
                  <a:lnTo>
                    <a:pt x="10337" y="3880"/>
                  </a:lnTo>
                  <a:lnTo>
                    <a:pt x="10095" y="4095"/>
                  </a:lnTo>
                  <a:lnTo>
                    <a:pt x="9849" y="4316"/>
                  </a:lnTo>
                  <a:lnTo>
                    <a:pt x="9596" y="4546"/>
                  </a:lnTo>
                  <a:lnTo>
                    <a:pt x="9334" y="4779"/>
                  </a:lnTo>
                  <a:lnTo>
                    <a:pt x="9063" y="5023"/>
                  </a:lnTo>
                  <a:lnTo>
                    <a:pt x="8787" y="5275"/>
                  </a:lnTo>
                  <a:lnTo>
                    <a:pt x="8499" y="5531"/>
                  </a:lnTo>
                  <a:lnTo>
                    <a:pt x="8205" y="5798"/>
                  </a:lnTo>
                  <a:lnTo>
                    <a:pt x="7903" y="6068"/>
                  </a:lnTo>
                  <a:lnTo>
                    <a:pt x="7592" y="6349"/>
                  </a:lnTo>
                  <a:lnTo>
                    <a:pt x="7269" y="6637"/>
                  </a:lnTo>
                  <a:lnTo>
                    <a:pt x="6941" y="6933"/>
                  </a:lnTo>
                  <a:lnTo>
                    <a:pt x="6609" y="72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160" y="4414680"/>
              <a:ext cx="3339000" cy="1863000"/>
            </a:xfrm>
            <a:custGeom>
              <a:avLst/>
              <a:gdLst/>
              <a:ahLst/>
              <a:rect l="l" t="t" r="r" b="b"/>
              <a:pathLst>
                <a:path w="13385" h="7239">
                  <a:moveTo>
                    <a:pt x="6612" y="7239"/>
                  </a:moveTo>
                  <a:lnTo>
                    <a:pt x="6278" y="6933"/>
                  </a:lnTo>
                  <a:lnTo>
                    <a:pt x="5956" y="6636"/>
                  </a:lnTo>
                  <a:lnTo>
                    <a:pt x="5641" y="6348"/>
                  </a:lnTo>
                  <a:lnTo>
                    <a:pt x="5335" y="6067"/>
                  </a:lnTo>
                  <a:lnTo>
                    <a:pt x="5040" y="5793"/>
                  </a:lnTo>
                  <a:lnTo>
                    <a:pt x="4751" y="5527"/>
                  </a:lnTo>
                  <a:lnTo>
                    <a:pt x="4471" y="5268"/>
                  </a:lnTo>
                  <a:lnTo>
                    <a:pt x="4199" y="5019"/>
                  </a:lnTo>
                  <a:lnTo>
                    <a:pt x="3935" y="4775"/>
                  </a:lnTo>
                  <a:lnTo>
                    <a:pt x="3682" y="4539"/>
                  </a:lnTo>
                  <a:lnTo>
                    <a:pt x="3433" y="4310"/>
                  </a:lnTo>
                  <a:lnTo>
                    <a:pt x="3194" y="4088"/>
                  </a:lnTo>
                  <a:lnTo>
                    <a:pt x="2959" y="3874"/>
                  </a:lnTo>
                  <a:lnTo>
                    <a:pt x="2733" y="3664"/>
                  </a:lnTo>
                  <a:lnTo>
                    <a:pt x="2513" y="3462"/>
                  </a:lnTo>
                  <a:lnTo>
                    <a:pt x="2302" y="3265"/>
                  </a:lnTo>
                  <a:lnTo>
                    <a:pt x="2134" y="3110"/>
                  </a:lnTo>
                  <a:lnTo>
                    <a:pt x="1969" y="2957"/>
                  </a:lnTo>
                  <a:lnTo>
                    <a:pt x="1807" y="2807"/>
                  </a:lnTo>
                  <a:lnTo>
                    <a:pt x="1649" y="2661"/>
                  </a:lnTo>
                  <a:lnTo>
                    <a:pt x="1493" y="2516"/>
                  </a:lnTo>
                  <a:lnTo>
                    <a:pt x="1343" y="2376"/>
                  </a:lnTo>
                  <a:lnTo>
                    <a:pt x="1195" y="2240"/>
                  </a:lnTo>
                  <a:lnTo>
                    <a:pt x="1050" y="2104"/>
                  </a:lnTo>
                  <a:lnTo>
                    <a:pt x="909" y="1974"/>
                  </a:lnTo>
                  <a:lnTo>
                    <a:pt x="769" y="1846"/>
                  </a:lnTo>
                  <a:lnTo>
                    <a:pt x="636" y="1720"/>
                  </a:lnTo>
                  <a:lnTo>
                    <a:pt x="502" y="1597"/>
                  </a:lnTo>
                  <a:lnTo>
                    <a:pt x="372" y="1476"/>
                  </a:lnTo>
                  <a:lnTo>
                    <a:pt x="246" y="1363"/>
                  </a:lnTo>
                  <a:lnTo>
                    <a:pt x="121" y="1247"/>
                  </a:lnTo>
                  <a:lnTo>
                    <a:pt x="0" y="1136"/>
                  </a:lnTo>
                  <a:lnTo>
                    <a:pt x="449" y="996"/>
                  </a:lnTo>
                  <a:lnTo>
                    <a:pt x="895" y="861"/>
                  </a:lnTo>
                  <a:lnTo>
                    <a:pt x="1336" y="737"/>
                  </a:lnTo>
                  <a:lnTo>
                    <a:pt x="1774" y="624"/>
                  </a:lnTo>
                  <a:lnTo>
                    <a:pt x="2211" y="520"/>
                  </a:lnTo>
                  <a:lnTo>
                    <a:pt x="2639" y="427"/>
                  </a:lnTo>
                  <a:lnTo>
                    <a:pt x="3068" y="343"/>
                  </a:lnTo>
                  <a:lnTo>
                    <a:pt x="3491" y="269"/>
                  </a:lnTo>
                  <a:lnTo>
                    <a:pt x="3909" y="205"/>
                  </a:lnTo>
                  <a:lnTo>
                    <a:pt x="4325" y="148"/>
                  </a:lnTo>
                  <a:lnTo>
                    <a:pt x="4734" y="104"/>
                  </a:lnTo>
                  <a:lnTo>
                    <a:pt x="5138" y="64"/>
                  </a:lnTo>
                  <a:lnTo>
                    <a:pt x="5540" y="37"/>
                  </a:lnTo>
                  <a:lnTo>
                    <a:pt x="5934" y="15"/>
                  </a:lnTo>
                  <a:lnTo>
                    <a:pt x="6324" y="6"/>
                  </a:lnTo>
                  <a:lnTo>
                    <a:pt x="6700" y="0"/>
                  </a:lnTo>
                  <a:lnTo>
                    <a:pt x="7084" y="6"/>
                  </a:lnTo>
                  <a:lnTo>
                    <a:pt x="7476" y="18"/>
                  </a:lnTo>
                  <a:lnTo>
                    <a:pt x="7871" y="37"/>
                  </a:lnTo>
                  <a:lnTo>
                    <a:pt x="8273" y="67"/>
                  </a:lnTo>
                  <a:lnTo>
                    <a:pt x="8677" y="104"/>
                  </a:lnTo>
                  <a:lnTo>
                    <a:pt x="9088" y="150"/>
                  </a:lnTo>
                  <a:lnTo>
                    <a:pt x="9502" y="205"/>
                  </a:lnTo>
                  <a:lnTo>
                    <a:pt x="9921" y="269"/>
                  </a:lnTo>
                  <a:lnTo>
                    <a:pt x="10342" y="345"/>
                  </a:lnTo>
                  <a:lnTo>
                    <a:pt x="10771" y="429"/>
                  </a:lnTo>
                  <a:lnTo>
                    <a:pt x="11200" y="522"/>
                  </a:lnTo>
                  <a:lnTo>
                    <a:pt x="11636" y="626"/>
                  </a:lnTo>
                  <a:lnTo>
                    <a:pt x="12072" y="740"/>
                  </a:lnTo>
                  <a:lnTo>
                    <a:pt x="12514" y="865"/>
                  </a:lnTo>
                  <a:lnTo>
                    <a:pt x="12960" y="1001"/>
                  </a:lnTo>
                  <a:lnTo>
                    <a:pt x="13385" y="1142"/>
                  </a:lnTo>
                  <a:lnTo>
                    <a:pt x="13278" y="1254"/>
                  </a:lnTo>
                  <a:lnTo>
                    <a:pt x="13150" y="1368"/>
                  </a:lnTo>
                  <a:lnTo>
                    <a:pt x="13016" y="1484"/>
                  </a:lnTo>
                  <a:lnTo>
                    <a:pt x="12881" y="1602"/>
                  </a:lnTo>
                  <a:lnTo>
                    <a:pt x="12743" y="1725"/>
                  </a:lnTo>
                  <a:lnTo>
                    <a:pt x="12602" y="1851"/>
                  </a:lnTo>
                  <a:lnTo>
                    <a:pt x="12460" y="1981"/>
                  </a:lnTo>
                  <a:lnTo>
                    <a:pt x="12311" y="2112"/>
                  </a:lnTo>
                  <a:lnTo>
                    <a:pt x="12161" y="2245"/>
                  </a:lnTo>
                  <a:lnTo>
                    <a:pt x="12008" y="2383"/>
                  </a:lnTo>
                  <a:lnTo>
                    <a:pt x="11850" y="2524"/>
                  </a:lnTo>
                  <a:lnTo>
                    <a:pt x="11690" y="2669"/>
                  </a:lnTo>
                  <a:lnTo>
                    <a:pt x="11527" y="2814"/>
                  </a:lnTo>
                  <a:lnTo>
                    <a:pt x="11360" y="2965"/>
                  </a:lnTo>
                  <a:lnTo>
                    <a:pt x="11190" y="3117"/>
                  </a:lnTo>
                  <a:lnTo>
                    <a:pt x="11015" y="3275"/>
                  </a:lnTo>
                  <a:lnTo>
                    <a:pt x="10796" y="3470"/>
                  </a:lnTo>
                  <a:lnTo>
                    <a:pt x="10572" y="3672"/>
                  </a:lnTo>
                  <a:lnTo>
                    <a:pt x="10338" y="3881"/>
                  </a:lnTo>
                  <a:lnTo>
                    <a:pt x="10098" y="4095"/>
                  </a:lnTo>
                  <a:lnTo>
                    <a:pt x="9852" y="4317"/>
                  </a:lnTo>
                  <a:lnTo>
                    <a:pt x="9599" y="4546"/>
                  </a:lnTo>
                  <a:lnTo>
                    <a:pt x="9334" y="4780"/>
                  </a:lnTo>
                  <a:lnTo>
                    <a:pt x="9065" y="5024"/>
                  </a:lnTo>
                  <a:lnTo>
                    <a:pt x="8788" y="5275"/>
                  </a:lnTo>
                  <a:lnTo>
                    <a:pt x="8501" y="5532"/>
                  </a:lnTo>
                  <a:lnTo>
                    <a:pt x="8208" y="5798"/>
                  </a:lnTo>
                  <a:lnTo>
                    <a:pt x="7906" y="6069"/>
                  </a:lnTo>
                  <a:lnTo>
                    <a:pt x="7592" y="6350"/>
                  </a:lnTo>
                  <a:lnTo>
                    <a:pt x="7272" y="6638"/>
                  </a:lnTo>
                  <a:lnTo>
                    <a:pt x="6944" y="6933"/>
                  </a:lnTo>
                  <a:lnTo>
                    <a:pt x="6612" y="723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56800" y="4816440"/>
              <a:ext cx="2023920" cy="200160"/>
            </a:xfrm>
            <a:custGeom>
              <a:avLst/>
              <a:gdLst/>
              <a:ahLst/>
              <a:rect l="l" t="t" r="r" b="b"/>
              <a:pathLst>
                <a:path w="8119" h="781">
                  <a:moveTo>
                    <a:pt x="0" y="781"/>
                  </a:moveTo>
                  <a:lnTo>
                    <a:pt x="138" y="727"/>
                  </a:lnTo>
                  <a:lnTo>
                    <a:pt x="424" y="623"/>
                  </a:lnTo>
                  <a:lnTo>
                    <a:pt x="707" y="527"/>
                  </a:lnTo>
                  <a:lnTo>
                    <a:pt x="993" y="441"/>
                  </a:lnTo>
                  <a:lnTo>
                    <a:pt x="1279" y="362"/>
                  </a:lnTo>
                  <a:lnTo>
                    <a:pt x="1562" y="293"/>
                  </a:lnTo>
                  <a:lnTo>
                    <a:pt x="1848" y="228"/>
                  </a:lnTo>
                  <a:lnTo>
                    <a:pt x="2131" y="174"/>
                  </a:lnTo>
                  <a:lnTo>
                    <a:pt x="2415" y="128"/>
                  </a:lnTo>
                  <a:lnTo>
                    <a:pt x="2696" y="88"/>
                  </a:lnTo>
                  <a:lnTo>
                    <a:pt x="2977" y="56"/>
                  </a:lnTo>
                  <a:lnTo>
                    <a:pt x="3255" y="32"/>
                  </a:lnTo>
                  <a:lnTo>
                    <a:pt x="3531" y="14"/>
                  </a:lnTo>
                  <a:lnTo>
                    <a:pt x="3804" y="2"/>
                  </a:lnTo>
                  <a:lnTo>
                    <a:pt x="4076" y="0"/>
                  </a:lnTo>
                  <a:lnTo>
                    <a:pt x="4340" y="5"/>
                  </a:lnTo>
                  <a:lnTo>
                    <a:pt x="4615" y="14"/>
                  </a:lnTo>
                  <a:lnTo>
                    <a:pt x="4891" y="32"/>
                  </a:lnTo>
                  <a:lnTo>
                    <a:pt x="5170" y="58"/>
                  </a:lnTo>
                  <a:lnTo>
                    <a:pt x="5448" y="91"/>
                  </a:lnTo>
                  <a:lnTo>
                    <a:pt x="5729" y="130"/>
                  </a:lnTo>
                  <a:lnTo>
                    <a:pt x="6012" y="177"/>
                  </a:lnTo>
                  <a:lnTo>
                    <a:pt x="6296" y="234"/>
                  </a:lnTo>
                  <a:lnTo>
                    <a:pt x="6579" y="295"/>
                  </a:lnTo>
                  <a:lnTo>
                    <a:pt x="6863" y="367"/>
                  </a:lnTo>
                  <a:lnTo>
                    <a:pt x="7146" y="446"/>
                  </a:lnTo>
                  <a:lnTo>
                    <a:pt x="7429" y="534"/>
                  </a:lnTo>
                  <a:lnTo>
                    <a:pt x="7713" y="628"/>
                  </a:lnTo>
                  <a:lnTo>
                    <a:pt x="7996" y="731"/>
                  </a:lnTo>
                  <a:lnTo>
                    <a:pt x="8119" y="781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ff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50240" y="5016600"/>
              <a:ext cx="2240640" cy="482760"/>
            </a:xfrm>
            <a:custGeom>
              <a:avLst/>
              <a:gdLst/>
              <a:ahLst/>
              <a:rect l="l" t="t" r="r" b="b"/>
              <a:pathLst>
                <a:path w="8984" h="1874">
                  <a:moveTo>
                    <a:pt x="1961" y="1874"/>
                  </a:moveTo>
                  <a:lnTo>
                    <a:pt x="1875" y="1800"/>
                  </a:lnTo>
                  <a:lnTo>
                    <a:pt x="1747" y="1690"/>
                  </a:lnTo>
                  <a:lnTo>
                    <a:pt x="1621" y="1581"/>
                  </a:lnTo>
                  <a:lnTo>
                    <a:pt x="1510" y="1486"/>
                  </a:lnTo>
                  <a:lnTo>
                    <a:pt x="1401" y="1391"/>
                  </a:lnTo>
                  <a:lnTo>
                    <a:pt x="1294" y="1298"/>
                  </a:lnTo>
                  <a:lnTo>
                    <a:pt x="1185" y="1205"/>
                  </a:lnTo>
                  <a:lnTo>
                    <a:pt x="1079" y="1114"/>
                  </a:lnTo>
                  <a:lnTo>
                    <a:pt x="976" y="1022"/>
                  </a:lnTo>
                  <a:lnTo>
                    <a:pt x="872" y="933"/>
                  </a:lnTo>
                  <a:lnTo>
                    <a:pt x="771" y="845"/>
                  </a:lnTo>
                  <a:lnTo>
                    <a:pt x="670" y="759"/>
                  </a:lnTo>
                  <a:lnTo>
                    <a:pt x="571" y="673"/>
                  </a:lnTo>
                  <a:lnTo>
                    <a:pt x="472" y="586"/>
                  </a:lnTo>
                  <a:lnTo>
                    <a:pt x="374" y="502"/>
                  </a:lnTo>
                  <a:lnTo>
                    <a:pt x="281" y="418"/>
                  </a:lnTo>
                  <a:lnTo>
                    <a:pt x="184" y="337"/>
                  </a:lnTo>
                  <a:lnTo>
                    <a:pt x="91" y="255"/>
                  </a:lnTo>
                  <a:lnTo>
                    <a:pt x="0" y="177"/>
                  </a:lnTo>
                  <a:lnTo>
                    <a:pt x="281" y="56"/>
                  </a:lnTo>
                  <a:lnTo>
                    <a:pt x="426" y="0"/>
                  </a:lnTo>
                  <a:lnTo>
                    <a:pt x="8545" y="0"/>
                  </a:lnTo>
                  <a:lnTo>
                    <a:pt x="8703" y="64"/>
                  </a:lnTo>
                  <a:lnTo>
                    <a:pt x="8984" y="185"/>
                  </a:lnTo>
                  <a:lnTo>
                    <a:pt x="8888" y="264"/>
                  </a:lnTo>
                  <a:lnTo>
                    <a:pt x="8792" y="345"/>
                  </a:lnTo>
                  <a:lnTo>
                    <a:pt x="8693" y="426"/>
                  </a:lnTo>
                  <a:lnTo>
                    <a:pt x="8595" y="510"/>
                  </a:lnTo>
                  <a:lnTo>
                    <a:pt x="8494" y="594"/>
                  </a:lnTo>
                  <a:lnTo>
                    <a:pt x="8393" y="677"/>
                  </a:lnTo>
                  <a:lnTo>
                    <a:pt x="8289" y="764"/>
                  </a:lnTo>
                  <a:lnTo>
                    <a:pt x="8185" y="852"/>
                  </a:lnTo>
                  <a:lnTo>
                    <a:pt x="8080" y="941"/>
                  </a:lnTo>
                  <a:lnTo>
                    <a:pt x="7974" y="1029"/>
                  </a:lnTo>
                  <a:lnTo>
                    <a:pt x="7865" y="1121"/>
                  </a:lnTo>
                  <a:lnTo>
                    <a:pt x="7755" y="1212"/>
                  </a:lnTo>
                  <a:lnTo>
                    <a:pt x="7644" y="1303"/>
                  </a:lnTo>
                  <a:lnTo>
                    <a:pt x="7533" y="1400"/>
                  </a:lnTo>
                  <a:lnTo>
                    <a:pt x="7419" y="1493"/>
                  </a:lnTo>
                  <a:lnTo>
                    <a:pt x="7304" y="1589"/>
                  </a:lnTo>
                  <a:lnTo>
                    <a:pt x="7175" y="1697"/>
                  </a:lnTo>
                  <a:lnTo>
                    <a:pt x="7042" y="1806"/>
                  </a:lnTo>
                  <a:lnTo>
                    <a:pt x="6959" y="1874"/>
                  </a:lnTo>
                  <a:lnTo>
                    <a:pt x="6611" y="1874"/>
                  </a:lnTo>
                  <a:lnTo>
                    <a:pt x="6564" y="1830"/>
                  </a:lnTo>
                  <a:lnTo>
                    <a:pt x="6525" y="1779"/>
                  </a:lnTo>
                  <a:lnTo>
                    <a:pt x="6496" y="1725"/>
                  </a:lnTo>
                  <a:lnTo>
                    <a:pt x="6478" y="1665"/>
                  </a:lnTo>
                  <a:lnTo>
                    <a:pt x="6480" y="1556"/>
                  </a:lnTo>
                  <a:lnTo>
                    <a:pt x="6529" y="1461"/>
                  </a:lnTo>
                  <a:lnTo>
                    <a:pt x="6296" y="1325"/>
                  </a:lnTo>
                  <a:lnTo>
                    <a:pt x="5089" y="598"/>
                  </a:lnTo>
                  <a:lnTo>
                    <a:pt x="5002" y="547"/>
                  </a:lnTo>
                  <a:lnTo>
                    <a:pt x="4915" y="497"/>
                  </a:lnTo>
                  <a:lnTo>
                    <a:pt x="4827" y="450"/>
                  </a:lnTo>
                  <a:lnTo>
                    <a:pt x="4741" y="399"/>
                  </a:lnTo>
                  <a:lnTo>
                    <a:pt x="4682" y="418"/>
                  </a:lnTo>
                  <a:lnTo>
                    <a:pt x="4615" y="431"/>
                  </a:lnTo>
                  <a:lnTo>
                    <a:pt x="4543" y="438"/>
                  </a:lnTo>
                  <a:lnTo>
                    <a:pt x="4480" y="441"/>
                  </a:lnTo>
                  <a:lnTo>
                    <a:pt x="4408" y="438"/>
                  </a:lnTo>
                  <a:lnTo>
                    <a:pt x="4339" y="426"/>
                  </a:lnTo>
                  <a:lnTo>
                    <a:pt x="4274" y="411"/>
                  </a:lnTo>
                  <a:lnTo>
                    <a:pt x="4213" y="392"/>
                  </a:lnTo>
                  <a:lnTo>
                    <a:pt x="3979" y="534"/>
                  </a:lnTo>
                  <a:lnTo>
                    <a:pt x="2395" y="1461"/>
                  </a:lnTo>
                  <a:lnTo>
                    <a:pt x="2432" y="1523"/>
                  </a:lnTo>
                  <a:lnTo>
                    <a:pt x="2449" y="1591"/>
                  </a:lnTo>
                  <a:lnTo>
                    <a:pt x="2446" y="1660"/>
                  </a:lnTo>
                  <a:lnTo>
                    <a:pt x="2425" y="1727"/>
                  </a:lnTo>
                  <a:lnTo>
                    <a:pt x="2402" y="1764"/>
                  </a:lnTo>
                  <a:lnTo>
                    <a:pt x="2372" y="1804"/>
                  </a:lnTo>
                  <a:lnTo>
                    <a:pt x="2335" y="1840"/>
                  </a:lnTo>
                  <a:lnTo>
                    <a:pt x="2299" y="1872"/>
                  </a:lnTo>
                  <a:lnTo>
                    <a:pt x="2302" y="1874"/>
                  </a:lnTo>
                  <a:lnTo>
                    <a:pt x="1961" y="1874"/>
                  </a:lnTo>
                  <a:close/>
                </a:path>
              </a:pathLst>
            </a:custGeom>
            <a:solidFill>
              <a:srgbClr val="ff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39480" y="5499720"/>
              <a:ext cx="1247040" cy="624960"/>
            </a:xfrm>
            <a:custGeom>
              <a:avLst/>
              <a:gdLst/>
              <a:ahLst/>
              <a:rect l="l" t="t" r="r" b="b"/>
              <a:pathLst>
                <a:path w="4998" h="2432">
                  <a:moveTo>
                    <a:pt x="0" y="0"/>
                  </a:moveTo>
                  <a:lnTo>
                    <a:pt x="44" y="40"/>
                  </a:lnTo>
                  <a:lnTo>
                    <a:pt x="176" y="153"/>
                  </a:lnTo>
                  <a:lnTo>
                    <a:pt x="311" y="269"/>
                  </a:lnTo>
                  <a:lnTo>
                    <a:pt x="446" y="388"/>
                  </a:lnTo>
                  <a:lnTo>
                    <a:pt x="584" y="506"/>
                  </a:lnTo>
                  <a:lnTo>
                    <a:pt x="724" y="627"/>
                  </a:lnTo>
                  <a:lnTo>
                    <a:pt x="868" y="750"/>
                  </a:lnTo>
                  <a:lnTo>
                    <a:pt x="1010" y="873"/>
                  </a:lnTo>
                  <a:lnTo>
                    <a:pt x="1158" y="999"/>
                  </a:lnTo>
                  <a:lnTo>
                    <a:pt x="1309" y="1127"/>
                  </a:lnTo>
                  <a:lnTo>
                    <a:pt x="1459" y="1257"/>
                  </a:lnTo>
                  <a:lnTo>
                    <a:pt x="1612" y="1391"/>
                  </a:lnTo>
                  <a:lnTo>
                    <a:pt x="1769" y="1524"/>
                  </a:lnTo>
                  <a:lnTo>
                    <a:pt x="1927" y="1659"/>
                  </a:lnTo>
                  <a:lnTo>
                    <a:pt x="1897" y="1710"/>
                  </a:lnTo>
                  <a:lnTo>
                    <a:pt x="1873" y="1765"/>
                  </a:lnTo>
                  <a:lnTo>
                    <a:pt x="1853" y="1824"/>
                  </a:lnTo>
                  <a:lnTo>
                    <a:pt x="1846" y="1881"/>
                  </a:lnTo>
                  <a:lnTo>
                    <a:pt x="1851" y="1989"/>
                  </a:lnTo>
                  <a:lnTo>
                    <a:pt x="1883" y="2093"/>
                  </a:lnTo>
                  <a:lnTo>
                    <a:pt x="1937" y="2186"/>
                  </a:lnTo>
                  <a:lnTo>
                    <a:pt x="2011" y="2267"/>
                  </a:lnTo>
                  <a:lnTo>
                    <a:pt x="2104" y="2337"/>
                  </a:lnTo>
                  <a:lnTo>
                    <a:pt x="2211" y="2388"/>
                  </a:lnTo>
                  <a:lnTo>
                    <a:pt x="2331" y="2420"/>
                  </a:lnTo>
                  <a:lnTo>
                    <a:pt x="2462" y="2432"/>
                  </a:lnTo>
                  <a:lnTo>
                    <a:pt x="2585" y="2420"/>
                  </a:lnTo>
                  <a:lnTo>
                    <a:pt x="2706" y="2388"/>
                  </a:lnTo>
                  <a:lnTo>
                    <a:pt x="2817" y="2337"/>
                  </a:lnTo>
                  <a:lnTo>
                    <a:pt x="2910" y="2270"/>
                  </a:lnTo>
                  <a:lnTo>
                    <a:pt x="2989" y="2188"/>
                  </a:lnTo>
                  <a:lnTo>
                    <a:pt x="3049" y="2095"/>
                  </a:lnTo>
                  <a:lnTo>
                    <a:pt x="3083" y="1994"/>
                  </a:lnTo>
                  <a:lnTo>
                    <a:pt x="3093" y="1886"/>
                  </a:lnTo>
                  <a:lnTo>
                    <a:pt x="3086" y="1826"/>
                  </a:lnTo>
                  <a:lnTo>
                    <a:pt x="3070" y="1770"/>
                  </a:lnTo>
                  <a:lnTo>
                    <a:pt x="3049" y="1716"/>
                  </a:lnTo>
                  <a:lnTo>
                    <a:pt x="3019" y="1661"/>
                  </a:lnTo>
                  <a:lnTo>
                    <a:pt x="3181" y="1526"/>
                  </a:lnTo>
                  <a:lnTo>
                    <a:pt x="3342" y="1393"/>
                  </a:lnTo>
                  <a:lnTo>
                    <a:pt x="3499" y="1259"/>
                  </a:lnTo>
                  <a:lnTo>
                    <a:pt x="3655" y="1129"/>
                  </a:lnTo>
                  <a:lnTo>
                    <a:pt x="3808" y="1001"/>
                  </a:lnTo>
                  <a:lnTo>
                    <a:pt x="3957" y="875"/>
                  </a:lnTo>
                  <a:lnTo>
                    <a:pt x="4106" y="750"/>
                  </a:lnTo>
                  <a:lnTo>
                    <a:pt x="4250" y="629"/>
                  </a:lnTo>
                  <a:lnTo>
                    <a:pt x="4396" y="508"/>
                  </a:lnTo>
                  <a:lnTo>
                    <a:pt x="4537" y="388"/>
                  </a:lnTo>
                  <a:lnTo>
                    <a:pt x="4677" y="272"/>
                  </a:lnTo>
                  <a:lnTo>
                    <a:pt x="4815" y="156"/>
                  </a:lnTo>
                  <a:lnTo>
                    <a:pt x="4948" y="42"/>
                  </a:lnTo>
                  <a:lnTo>
                    <a:pt x="4998" y="0"/>
                  </a:lnTo>
                  <a:lnTo>
                    <a:pt x="4650" y="0"/>
                  </a:lnTo>
                  <a:lnTo>
                    <a:pt x="4652" y="3"/>
                  </a:lnTo>
                  <a:lnTo>
                    <a:pt x="4549" y="89"/>
                  </a:lnTo>
                  <a:lnTo>
                    <a:pt x="4443" y="176"/>
                  </a:lnTo>
                  <a:lnTo>
                    <a:pt x="4338" y="262"/>
                  </a:lnTo>
                  <a:lnTo>
                    <a:pt x="4229" y="351"/>
                  </a:lnTo>
                  <a:lnTo>
                    <a:pt x="4120" y="439"/>
                  </a:lnTo>
                  <a:lnTo>
                    <a:pt x="4010" y="530"/>
                  </a:lnTo>
                  <a:lnTo>
                    <a:pt x="3899" y="622"/>
                  </a:lnTo>
                  <a:lnTo>
                    <a:pt x="3788" y="713"/>
                  </a:lnTo>
                  <a:lnTo>
                    <a:pt x="3672" y="806"/>
                  </a:lnTo>
                  <a:lnTo>
                    <a:pt x="3558" y="900"/>
                  </a:lnTo>
                  <a:lnTo>
                    <a:pt x="3440" y="994"/>
                  </a:lnTo>
                  <a:lnTo>
                    <a:pt x="3325" y="1090"/>
                  </a:lnTo>
                  <a:lnTo>
                    <a:pt x="3204" y="1185"/>
                  </a:lnTo>
                  <a:lnTo>
                    <a:pt x="3083" y="1284"/>
                  </a:lnTo>
                  <a:lnTo>
                    <a:pt x="2963" y="1383"/>
                  </a:lnTo>
                  <a:lnTo>
                    <a:pt x="2838" y="1484"/>
                  </a:lnTo>
                  <a:lnTo>
                    <a:pt x="2757" y="1442"/>
                  </a:lnTo>
                  <a:lnTo>
                    <a:pt x="2669" y="1410"/>
                  </a:lnTo>
                  <a:lnTo>
                    <a:pt x="2573" y="1391"/>
                  </a:lnTo>
                  <a:lnTo>
                    <a:pt x="2480" y="1383"/>
                  </a:lnTo>
                  <a:lnTo>
                    <a:pt x="2378" y="1391"/>
                  </a:lnTo>
                  <a:lnTo>
                    <a:pt x="2280" y="1410"/>
                  </a:lnTo>
                  <a:lnTo>
                    <a:pt x="2188" y="1442"/>
                  </a:lnTo>
                  <a:lnTo>
                    <a:pt x="2104" y="1484"/>
                  </a:lnTo>
                  <a:lnTo>
                    <a:pt x="1983" y="1383"/>
                  </a:lnTo>
                  <a:lnTo>
                    <a:pt x="1865" y="1284"/>
                  </a:lnTo>
                  <a:lnTo>
                    <a:pt x="1750" y="1185"/>
                  </a:lnTo>
                  <a:lnTo>
                    <a:pt x="1634" y="1087"/>
                  </a:lnTo>
                  <a:lnTo>
                    <a:pt x="1518" y="991"/>
                  </a:lnTo>
                  <a:lnTo>
                    <a:pt x="1405" y="895"/>
                  </a:lnTo>
                  <a:lnTo>
                    <a:pt x="1291" y="801"/>
                  </a:lnTo>
                  <a:lnTo>
                    <a:pt x="1180" y="708"/>
                  </a:lnTo>
                  <a:lnTo>
                    <a:pt x="1072" y="616"/>
                  </a:lnTo>
                  <a:lnTo>
                    <a:pt x="964" y="523"/>
                  </a:lnTo>
                  <a:lnTo>
                    <a:pt x="855" y="434"/>
                  </a:lnTo>
                  <a:lnTo>
                    <a:pt x="749" y="346"/>
                  </a:lnTo>
                  <a:lnTo>
                    <a:pt x="646" y="257"/>
                  </a:lnTo>
                  <a:lnTo>
                    <a:pt x="543" y="168"/>
                  </a:lnTo>
                  <a:lnTo>
                    <a:pt x="439" y="84"/>
                  </a:lnTo>
                  <a:lnTo>
                    <a:pt x="3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15840" y="5964120"/>
              <a:ext cx="73440" cy="64800"/>
            </a:xfrm>
            <a:custGeom>
              <a:avLst/>
              <a:gdLst/>
              <a:ahLst/>
              <a:rect l="l" t="t" r="r" b="b"/>
              <a:pathLst>
                <a:path w="294" h="251">
                  <a:moveTo>
                    <a:pt x="294" y="3"/>
                  </a:moveTo>
                  <a:lnTo>
                    <a:pt x="294" y="77"/>
                  </a:lnTo>
                  <a:lnTo>
                    <a:pt x="294" y="151"/>
                  </a:lnTo>
                  <a:lnTo>
                    <a:pt x="257" y="175"/>
                  </a:lnTo>
                  <a:lnTo>
                    <a:pt x="225" y="200"/>
                  </a:lnTo>
                  <a:lnTo>
                    <a:pt x="188" y="224"/>
                  </a:lnTo>
                  <a:lnTo>
                    <a:pt x="149" y="251"/>
                  </a:lnTo>
                  <a:lnTo>
                    <a:pt x="112" y="224"/>
                  </a:lnTo>
                  <a:lnTo>
                    <a:pt x="75" y="200"/>
                  </a:lnTo>
                  <a:lnTo>
                    <a:pt x="38" y="175"/>
                  </a:lnTo>
                  <a:lnTo>
                    <a:pt x="0" y="151"/>
                  </a:lnTo>
                  <a:lnTo>
                    <a:pt x="4" y="77"/>
                  </a:lnTo>
                  <a:lnTo>
                    <a:pt x="4" y="3"/>
                  </a:lnTo>
                  <a:lnTo>
                    <a:pt x="79" y="0"/>
                  </a:lnTo>
                  <a:lnTo>
                    <a:pt x="153" y="0"/>
                  </a:lnTo>
                  <a:lnTo>
                    <a:pt x="228" y="0"/>
                  </a:lnTo>
                  <a:lnTo>
                    <a:pt x="294" y="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15840" y="5960880"/>
              <a:ext cx="73440" cy="64440"/>
            </a:xfrm>
            <a:custGeom>
              <a:avLst/>
              <a:gdLst/>
              <a:ahLst/>
              <a:rect l="l" t="t" r="r" b="b"/>
              <a:pathLst>
                <a:path w="294" h="255">
                  <a:moveTo>
                    <a:pt x="294" y="2"/>
                  </a:moveTo>
                  <a:lnTo>
                    <a:pt x="294" y="77"/>
                  </a:lnTo>
                  <a:lnTo>
                    <a:pt x="294" y="151"/>
                  </a:lnTo>
                  <a:lnTo>
                    <a:pt x="257" y="176"/>
                  </a:lnTo>
                  <a:lnTo>
                    <a:pt x="225" y="202"/>
                  </a:lnTo>
                  <a:lnTo>
                    <a:pt x="188" y="227"/>
                  </a:lnTo>
                  <a:lnTo>
                    <a:pt x="149" y="255"/>
                  </a:lnTo>
                  <a:lnTo>
                    <a:pt x="112" y="227"/>
                  </a:lnTo>
                  <a:lnTo>
                    <a:pt x="75" y="202"/>
                  </a:lnTo>
                  <a:lnTo>
                    <a:pt x="38" y="176"/>
                  </a:lnTo>
                  <a:lnTo>
                    <a:pt x="0" y="151"/>
                  </a:lnTo>
                  <a:lnTo>
                    <a:pt x="4" y="77"/>
                  </a:lnTo>
                  <a:lnTo>
                    <a:pt x="4" y="2"/>
                  </a:lnTo>
                  <a:lnTo>
                    <a:pt x="79" y="0"/>
                  </a:lnTo>
                  <a:lnTo>
                    <a:pt x="153" y="0"/>
                  </a:lnTo>
                  <a:lnTo>
                    <a:pt x="228" y="0"/>
                  </a:lnTo>
                  <a:lnTo>
                    <a:pt x="29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33000" y="4663800"/>
              <a:ext cx="410400" cy="352800"/>
            </a:xfrm>
            <a:custGeom>
              <a:avLst/>
              <a:gdLst/>
              <a:ahLst/>
              <a:rect l="l" t="t" r="r" b="b"/>
              <a:pathLst>
                <a:path w="1644" h="1375">
                  <a:moveTo>
                    <a:pt x="1600" y="1375"/>
                  </a:moveTo>
                  <a:lnTo>
                    <a:pt x="1523" y="1308"/>
                  </a:lnTo>
                  <a:lnTo>
                    <a:pt x="1382" y="1187"/>
                  </a:lnTo>
                  <a:lnTo>
                    <a:pt x="1245" y="1070"/>
                  </a:lnTo>
                  <a:lnTo>
                    <a:pt x="1109" y="954"/>
                  </a:lnTo>
                  <a:lnTo>
                    <a:pt x="976" y="840"/>
                  </a:lnTo>
                  <a:lnTo>
                    <a:pt x="845" y="729"/>
                  </a:lnTo>
                  <a:lnTo>
                    <a:pt x="717" y="618"/>
                  </a:lnTo>
                  <a:lnTo>
                    <a:pt x="592" y="512"/>
                  </a:lnTo>
                  <a:lnTo>
                    <a:pt x="469" y="408"/>
                  </a:lnTo>
                  <a:lnTo>
                    <a:pt x="348" y="306"/>
                  </a:lnTo>
                  <a:lnTo>
                    <a:pt x="229" y="204"/>
                  </a:lnTo>
                  <a:lnTo>
                    <a:pt x="114" y="106"/>
                  </a:lnTo>
                  <a:lnTo>
                    <a:pt x="0" y="13"/>
                  </a:lnTo>
                  <a:lnTo>
                    <a:pt x="18" y="4"/>
                  </a:lnTo>
                  <a:lnTo>
                    <a:pt x="37" y="0"/>
                  </a:lnTo>
                  <a:lnTo>
                    <a:pt x="151" y="94"/>
                  </a:lnTo>
                  <a:lnTo>
                    <a:pt x="267" y="192"/>
                  </a:lnTo>
                  <a:lnTo>
                    <a:pt x="385" y="293"/>
                  </a:lnTo>
                  <a:lnTo>
                    <a:pt x="503" y="396"/>
                  </a:lnTo>
                  <a:lnTo>
                    <a:pt x="626" y="500"/>
                  </a:lnTo>
                  <a:lnTo>
                    <a:pt x="752" y="608"/>
                  </a:lnTo>
                  <a:lnTo>
                    <a:pt x="880" y="719"/>
                  </a:lnTo>
                  <a:lnTo>
                    <a:pt x="1010" y="830"/>
                  </a:lnTo>
                  <a:lnTo>
                    <a:pt x="1144" y="946"/>
                  </a:lnTo>
                  <a:lnTo>
                    <a:pt x="1279" y="1061"/>
                  </a:lnTo>
                  <a:lnTo>
                    <a:pt x="1417" y="1180"/>
                  </a:lnTo>
                  <a:lnTo>
                    <a:pt x="1558" y="1300"/>
                  </a:lnTo>
                  <a:lnTo>
                    <a:pt x="1644" y="1375"/>
                  </a:lnTo>
                  <a:lnTo>
                    <a:pt x="1600" y="1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32960" y="5016600"/>
              <a:ext cx="1077480" cy="969120"/>
            </a:xfrm>
            <a:custGeom>
              <a:avLst/>
              <a:gdLst/>
              <a:ahLst/>
              <a:rect l="l" t="t" r="r" b="b"/>
              <a:pathLst>
                <a:path w="4317" h="3765">
                  <a:moveTo>
                    <a:pt x="4029" y="3765"/>
                  </a:moveTo>
                  <a:lnTo>
                    <a:pt x="4029" y="3760"/>
                  </a:lnTo>
                  <a:lnTo>
                    <a:pt x="4043" y="3530"/>
                  </a:lnTo>
                  <a:lnTo>
                    <a:pt x="4066" y="3530"/>
                  </a:lnTo>
                  <a:lnTo>
                    <a:pt x="4088" y="3530"/>
                  </a:lnTo>
                  <a:lnTo>
                    <a:pt x="4110" y="3530"/>
                  </a:lnTo>
                  <a:lnTo>
                    <a:pt x="4132" y="3530"/>
                  </a:lnTo>
                  <a:lnTo>
                    <a:pt x="3861" y="3298"/>
                  </a:lnTo>
                  <a:lnTo>
                    <a:pt x="3597" y="3072"/>
                  </a:lnTo>
                  <a:lnTo>
                    <a:pt x="3341" y="2852"/>
                  </a:lnTo>
                  <a:lnTo>
                    <a:pt x="3089" y="2638"/>
                  </a:lnTo>
                  <a:lnTo>
                    <a:pt x="2843" y="2429"/>
                  </a:lnTo>
                  <a:lnTo>
                    <a:pt x="2604" y="2222"/>
                  </a:lnTo>
                  <a:lnTo>
                    <a:pt x="2371" y="2023"/>
                  </a:lnTo>
                  <a:lnTo>
                    <a:pt x="2143" y="1828"/>
                  </a:lnTo>
                  <a:lnTo>
                    <a:pt x="1921" y="1638"/>
                  </a:lnTo>
                  <a:lnTo>
                    <a:pt x="1705" y="1453"/>
                  </a:lnTo>
                  <a:lnTo>
                    <a:pt x="1493" y="1273"/>
                  </a:lnTo>
                  <a:lnTo>
                    <a:pt x="1286" y="1098"/>
                  </a:lnTo>
                  <a:lnTo>
                    <a:pt x="1086" y="926"/>
                  </a:lnTo>
                  <a:lnTo>
                    <a:pt x="892" y="759"/>
                  </a:lnTo>
                  <a:lnTo>
                    <a:pt x="699" y="596"/>
                  </a:lnTo>
                  <a:lnTo>
                    <a:pt x="515" y="438"/>
                  </a:lnTo>
                  <a:lnTo>
                    <a:pt x="362" y="308"/>
                  </a:lnTo>
                  <a:lnTo>
                    <a:pt x="214" y="182"/>
                  </a:lnTo>
                  <a:lnTo>
                    <a:pt x="67" y="56"/>
                  </a:lnTo>
                  <a:lnTo>
                    <a:pt x="0" y="0"/>
                  </a:lnTo>
                  <a:lnTo>
                    <a:pt x="44" y="0"/>
                  </a:lnTo>
                  <a:lnTo>
                    <a:pt x="103" y="49"/>
                  </a:lnTo>
                  <a:lnTo>
                    <a:pt x="248" y="174"/>
                  </a:lnTo>
                  <a:lnTo>
                    <a:pt x="399" y="301"/>
                  </a:lnTo>
                  <a:lnTo>
                    <a:pt x="552" y="431"/>
                  </a:lnTo>
                  <a:lnTo>
                    <a:pt x="699" y="557"/>
                  </a:lnTo>
                  <a:lnTo>
                    <a:pt x="850" y="687"/>
                  </a:lnTo>
                  <a:lnTo>
                    <a:pt x="1005" y="820"/>
                  </a:lnTo>
                  <a:lnTo>
                    <a:pt x="1165" y="956"/>
                  </a:lnTo>
                  <a:lnTo>
                    <a:pt x="1328" y="1094"/>
                  </a:lnTo>
                  <a:lnTo>
                    <a:pt x="1493" y="1237"/>
                  </a:lnTo>
                  <a:lnTo>
                    <a:pt x="1660" y="1382"/>
                  </a:lnTo>
                  <a:lnTo>
                    <a:pt x="1833" y="1530"/>
                  </a:lnTo>
                  <a:lnTo>
                    <a:pt x="1983" y="1658"/>
                  </a:lnTo>
                  <a:lnTo>
                    <a:pt x="2106" y="1764"/>
                  </a:lnTo>
                  <a:lnTo>
                    <a:pt x="2230" y="1870"/>
                  </a:lnTo>
                  <a:lnTo>
                    <a:pt x="2355" y="1978"/>
                  </a:lnTo>
                  <a:lnTo>
                    <a:pt x="2483" y="2089"/>
                  </a:lnTo>
                  <a:lnTo>
                    <a:pt x="2614" y="2200"/>
                  </a:lnTo>
                  <a:lnTo>
                    <a:pt x="2747" y="2313"/>
                  </a:lnTo>
                  <a:lnTo>
                    <a:pt x="2882" y="2429"/>
                  </a:lnTo>
                  <a:lnTo>
                    <a:pt x="3019" y="2545"/>
                  </a:lnTo>
                  <a:lnTo>
                    <a:pt x="3156" y="2663"/>
                  </a:lnTo>
                  <a:lnTo>
                    <a:pt x="3297" y="2782"/>
                  </a:lnTo>
                  <a:lnTo>
                    <a:pt x="3440" y="2902"/>
                  </a:lnTo>
                  <a:lnTo>
                    <a:pt x="3583" y="3026"/>
                  </a:lnTo>
                  <a:lnTo>
                    <a:pt x="3730" y="3149"/>
                  </a:lnTo>
                  <a:lnTo>
                    <a:pt x="3876" y="3274"/>
                  </a:lnTo>
                  <a:lnTo>
                    <a:pt x="4026" y="3402"/>
                  </a:lnTo>
                  <a:lnTo>
                    <a:pt x="4176" y="3530"/>
                  </a:lnTo>
                  <a:lnTo>
                    <a:pt x="4208" y="3530"/>
                  </a:lnTo>
                  <a:lnTo>
                    <a:pt x="4243" y="3530"/>
                  </a:lnTo>
                  <a:lnTo>
                    <a:pt x="4280" y="3530"/>
                  </a:lnTo>
                  <a:lnTo>
                    <a:pt x="4317" y="3530"/>
                  </a:lnTo>
                  <a:lnTo>
                    <a:pt x="4312" y="3760"/>
                  </a:lnTo>
                  <a:lnTo>
                    <a:pt x="4312" y="3765"/>
                  </a:lnTo>
                  <a:lnTo>
                    <a:pt x="4285" y="3765"/>
                  </a:lnTo>
                  <a:lnTo>
                    <a:pt x="4285" y="3760"/>
                  </a:lnTo>
                  <a:lnTo>
                    <a:pt x="4290" y="3555"/>
                  </a:lnTo>
                  <a:lnTo>
                    <a:pt x="4233" y="3555"/>
                  </a:lnTo>
                  <a:lnTo>
                    <a:pt x="4176" y="3555"/>
                  </a:lnTo>
                  <a:lnTo>
                    <a:pt x="4120" y="3555"/>
                  </a:lnTo>
                  <a:lnTo>
                    <a:pt x="4066" y="3555"/>
                  </a:lnTo>
                  <a:lnTo>
                    <a:pt x="4055" y="3760"/>
                  </a:lnTo>
                  <a:lnTo>
                    <a:pt x="4055" y="3765"/>
                  </a:lnTo>
                  <a:lnTo>
                    <a:pt x="4029" y="37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35200" y="5985720"/>
              <a:ext cx="73440" cy="59400"/>
            </a:xfrm>
            <a:custGeom>
              <a:avLst/>
              <a:gdLst/>
              <a:ahLst/>
              <a:rect l="l" t="t" r="r" b="b"/>
              <a:pathLst>
                <a:path w="296" h="228">
                  <a:moveTo>
                    <a:pt x="13" y="0"/>
                  </a:moveTo>
                  <a:lnTo>
                    <a:pt x="0" y="228"/>
                  </a:lnTo>
                  <a:lnTo>
                    <a:pt x="69" y="228"/>
                  </a:lnTo>
                  <a:lnTo>
                    <a:pt x="143" y="228"/>
                  </a:lnTo>
                  <a:lnTo>
                    <a:pt x="217" y="228"/>
                  </a:lnTo>
                  <a:lnTo>
                    <a:pt x="291" y="228"/>
                  </a:lnTo>
                  <a:lnTo>
                    <a:pt x="296" y="0"/>
                  </a:lnTo>
                  <a:lnTo>
                    <a:pt x="269" y="0"/>
                  </a:lnTo>
                  <a:lnTo>
                    <a:pt x="262" y="209"/>
                  </a:lnTo>
                  <a:lnTo>
                    <a:pt x="202" y="209"/>
                  </a:lnTo>
                  <a:lnTo>
                    <a:pt x="146" y="209"/>
                  </a:lnTo>
                  <a:lnTo>
                    <a:pt x="87" y="209"/>
                  </a:lnTo>
                  <a:lnTo>
                    <a:pt x="30" y="209"/>
                  </a:lnTo>
                  <a:lnTo>
                    <a:pt x="3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98080" y="4663800"/>
              <a:ext cx="422280" cy="352800"/>
            </a:xfrm>
            <a:custGeom>
              <a:avLst/>
              <a:gdLst/>
              <a:ahLst/>
              <a:rect l="l" t="t" r="r" b="b"/>
              <a:pathLst>
                <a:path w="1696" h="1373">
                  <a:moveTo>
                    <a:pt x="0" y="1373"/>
                  </a:moveTo>
                  <a:lnTo>
                    <a:pt x="82" y="1306"/>
                  </a:lnTo>
                  <a:lnTo>
                    <a:pt x="227" y="1185"/>
                  </a:lnTo>
                  <a:lnTo>
                    <a:pt x="370" y="1065"/>
                  </a:lnTo>
                  <a:lnTo>
                    <a:pt x="510" y="949"/>
                  </a:lnTo>
                  <a:lnTo>
                    <a:pt x="648" y="836"/>
                  </a:lnTo>
                  <a:lnTo>
                    <a:pt x="784" y="722"/>
                  </a:lnTo>
                  <a:lnTo>
                    <a:pt x="915" y="611"/>
                  </a:lnTo>
                  <a:lnTo>
                    <a:pt x="1045" y="503"/>
                  </a:lnTo>
                  <a:lnTo>
                    <a:pt x="1173" y="399"/>
                  </a:lnTo>
                  <a:lnTo>
                    <a:pt x="1299" y="296"/>
                  </a:lnTo>
                  <a:lnTo>
                    <a:pt x="1422" y="192"/>
                  </a:lnTo>
                  <a:lnTo>
                    <a:pt x="1540" y="94"/>
                  </a:lnTo>
                  <a:lnTo>
                    <a:pt x="1659" y="0"/>
                  </a:lnTo>
                  <a:lnTo>
                    <a:pt x="1678" y="5"/>
                  </a:lnTo>
                  <a:lnTo>
                    <a:pt x="1696" y="13"/>
                  </a:lnTo>
                  <a:lnTo>
                    <a:pt x="1577" y="106"/>
                  </a:lnTo>
                  <a:lnTo>
                    <a:pt x="1459" y="204"/>
                  </a:lnTo>
                  <a:lnTo>
                    <a:pt x="1336" y="306"/>
                  </a:lnTo>
                  <a:lnTo>
                    <a:pt x="1210" y="409"/>
                  </a:lnTo>
                  <a:lnTo>
                    <a:pt x="1082" y="513"/>
                  </a:lnTo>
                  <a:lnTo>
                    <a:pt x="953" y="622"/>
                  </a:lnTo>
                  <a:lnTo>
                    <a:pt x="821" y="729"/>
                  </a:lnTo>
                  <a:lnTo>
                    <a:pt x="686" y="843"/>
                  </a:lnTo>
                  <a:lnTo>
                    <a:pt x="547" y="956"/>
                  </a:lnTo>
                  <a:lnTo>
                    <a:pt x="407" y="1072"/>
                  </a:lnTo>
                  <a:lnTo>
                    <a:pt x="264" y="1193"/>
                  </a:lnTo>
                  <a:lnTo>
                    <a:pt x="119" y="1314"/>
                  </a:lnTo>
                  <a:lnTo>
                    <a:pt x="47" y="1373"/>
                  </a:lnTo>
                  <a:lnTo>
                    <a:pt x="0" y="13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97920" y="5016600"/>
              <a:ext cx="1112400" cy="969120"/>
            </a:xfrm>
            <a:custGeom>
              <a:avLst/>
              <a:gdLst/>
              <a:ahLst/>
              <a:rect l="l" t="t" r="r" b="b"/>
              <a:pathLst>
                <a:path w="4457" h="3765">
                  <a:moveTo>
                    <a:pt x="2" y="3765"/>
                  </a:moveTo>
                  <a:lnTo>
                    <a:pt x="2" y="3760"/>
                  </a:lnTo>
                  <a:lnTo>
                    <a:pt x="0" y="3530"/>
                  </a:lnTo>
                  <a:lnTo>
                    <a:pt x="36" y="3530"/>
                  </a:lnTo>
                  <a:lnTo>
                    <a:pt x="73" y="3530"/>
                  </a:lnTo>
                  <a:lnTo>
                    <a:pt x="110" y="3530"/>
                  </a:lnTo>
                  <a:lnTo>
                    <a:pt x="147" y="3530"/>
                  </a:lnTo>
                  <a:lnTo>
                    <a:pt x="2407" y="1658"/>
                  </a:lnTo>
                  <a:lnTo>
                    <a:pt x="2555" y="1532"/>
                  </a:lnTo>
                  <a:lnTo>
                    <a:pt x="3881" y="438"/>
                  </a:lnTo>
                  <a:lnTo>
                    <a:pt x="4039" y="308"/>
                  </a:lnTo>
                  <a:lnTo>
                    <a:pt x="4191" y="182"/>
                  </a:lnTo>
                  <a:lnTo>
                    <a:pt x="4341" y="56"/>
                  </a:lnTo>
                  <a:lnTo>
                    <a:pt x="4410" y="0"/>
                  </a:lnTo>
                  <a:lnTo>
                    <a:pt x="4457" y="0"/>
                  </a:lnTo>
                  <a:lnTo>
                    <a:pt x="4381" y="64"/>
                  </a:lnTo>
                  <a:lnTo>
                    <a:pt x="4228" y="187"/>
                  </a:lnTo>
                  <a:lnTo>
                    <a:pt x="4076" y="315"/>
                  </a:lnTo>
                  <a:lnTo>
                    <a:pt x="3918" y="445"/>
                  </a:lnTo>
                  <a:lnTo>
                    <a:pt x="3725" y="603"/>
                  </a:lnTo>
                  <a:lnTo>
                    <a:pt x="3528" y="766"/>
                  </a:lnTo>
                  <a:lnTo>
                    <a:pt x="3326" y="933"/>
                  </a:lnTo>
                  <a:lnTo>
                    <a:pt x="3119" y="1106"/>
                  </a:lnTo>
                  <a:lnTo>
                    <a:pt x="2907" y="1281"/>
                  </a:lnTo>
                  <a:lnTo>
                    <a:pt x="2690" y="1461"/>
                  </a:lnTo>
                  <a:lnTo>
                    <a:pt x="2466" y="1646"/>
                  </a:lnTo>
                  <a:lnTo>
                    <a:pt x="2237" y="1835"/>
                  </a:lnTo>
                  <a:lnTo>
                    <a:pt x="2003" y="2030"/>
                  </a:lnTo>
                  <a:lnTo>
                    <a:pt x="1761" y="2229"/>
                  </a:lnTo>
                  <a:lnTo>
                    <a:pt x="1515" y="2434"/>
                  </a:lnTo>
                  <a:lnTo>
                    <a:pt x="1264" y="2641"/>
                  </a:lnTo>
                  <a:lnTo>
                    <a:pt x="1004" y="2855"/>
                  </a:lnTo>
                  <a:lnTo>
                    <a:pt x="739" y="3075"/>
                  </a:lnTo>
                  <a:lnTo>
                    <a:pt x="467" y="3301"/>
                  </a:lnTo>
                  <a:lnTo>
                    <a:pt x="189" y="3530"/>
                  </a:lnTo>
                  <a:lnTo>
                    <a:pt x="211" y="3530"/>
                  </a:lnTo>
                  <a:lnTo>
                    <a:pt x="233" y="3530"/>
                  </a:lnTo>
                  <a:lnTo>
                    <a:pt x="256" y="3533"/>
                  </a:lnTo>
                  <a:lnTo>
                    <a:pt x="281" y="3533"/>
                  </a:lnTo>
                  <a:lnTo>
                    <a:pt x="288" y="3762"/>
                  </a:lnTo>
                  <a:lnTo>
                    <a:pt x="288" y="3765"/>
                  </a:lnTo>
                  <a:lnTo>
                    <a:pt x="260" y="3765"/>
                  </a:lnTo>
                  <a:lnTo>
                    <a:pt x="256" y="3555"/>
                  </a:lnTo>
                  <a:lnTo>
                    <a:pt x="198" y="3555"/>
                  </a:lnTo>
                  <a:lnTo>
                    <a:pt x="142" y="3555"/>
                  </a:lnTo>
                  <a:lnTo>
                    <a:pt x="88" y="3555"/>
                  </a:lnTo>
                  <a:lnTo>
                    <a:pt x="31" y="3555"/>
                  </a:lnTo>
                  <a:lnTo>
                    <a:pt x="31" y="3765"/>
                  </a:lnTo>
                  <a:lnTo>
                    <a:pt x="2" y="37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97920" y="5985720"/>
              <a:ext cx="73080" cy="59400"/>
            </a:xfrm>
            <a:custGeom>
              <a:avLst/>
              <a:gdLst/>
              <a:ahLst/>
              <a:rect l="l" t="t" r="r" b="b"/>
              <a:pathLst>
                <a:path w="293" h="231">
                  <a:moveTo>
                    <a:pt x="0" y="0"/>
                  </a:moveTo>
                  <a:lnTo>
                    <a:pt x="0" y="231"/>
                  </a:lnTo>
                  <a:lnTo>
                    <a:pt x="71" y="231"/>
                  </a:lnTo>
                  <a:lnTo>
                    <a:pt x="145" y="231"/>
                  </a:lnTo>
                  <a:lnTo>
                    <a:pt x="219" y="231"/>
                  </a:lnTo>
                  <a:lnTo>
                    <a:pt x="293" y="231"/>
                  </a:lnTo>
                  <a:lnTo>
                    <a:pt x="286" y="0"/>
                  </a:lnTo>
                  <a:lnTo>
                    <a:pt x="258" y="0"/>
                  </a:lnTo>
                  <a:lnTo>
                    <a:pt x="261" y="209"/>
                  </a:lnTo>
                  <a:lnTo>
                    <a:pt x="205" y="211"/>
                  </a:lnTo>
                  <a:lnTo>
                    <a:pt x="145" y="211"/>
                  </a:lnTo>
                  <a:lnTo>
                    <a:pt x="86" y="211"/>
                  </a:lnTo>
                  <a:lnTo>
                    <a:pt x="29" y="211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33120" y="5002200"/>
              <a:ext cx="73440" cy="44640"/>
            </a:xfrm>
            <a:custGeom>
              <a:avLst/>
              <a:gdLst/>
              <a:ahLst/>
              <a:rect l="l" t="t" r="r" b="b"/>
              <a:pathLst>
                <a:path w="295" h="175">
                  <a:moveTo>
                    <a:pt x="0" y="84"/>
                  </a:moveTo>
                  <a:lnTo>
                    <a:pt x="37" y="64"/>
                  </a:lnTo>
                  <a:lnTo>
                    <a:pt x="76" y="44"/>
                  </a:lnTo>
                  <a:lnTo>
                    <a:pt x="116" y="22"/>
                  </a:lnTo>
                  <a:lnTo>
                    <a:pt x="153" y="0"/>
                  </a:lnTo>
                  <a:lnTo>
                    <a:pt x="183" y="22"/>
                  </a:lnTo>
                  <a:lnTo>
                    <a:pt x="220" y="44"/>
                  </a:lnTo>
                  <a:lnTo>
                    <a:pt x="256" y="64"/>
                  </a:lnTo>
                  <a:lnTo>
                    <a:pt x="295" y="84"/>
                  </a:lnTo>
                  <a:lnTo>
                    <a:pt x="256" y="108"/>
                  </a:lnTo>
                  <a:lnTo>
                    <a:pt x="220" y="131"/>
                  </a:lnTo>
                  <a:lnTo>
                    <a:pt x="180" y="152"/>
                  </a:lnTo>
                  <a:lnTo>
                    <a:pt x="151" y="175"/>
                  </a:lnTo>
                  <a:lnTo>
                    <a:pt x="111" y="152"/>
                  </a:lnTo>
                  <a:lnTo>
                    <a:pt x="74" y="131"/>
                  </a:lnTo>
                  <a:lnTo>
                    <a:pt x="37" y="10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46200" y="5402520"/>
              <a:ext cx="52560" cy="41040"/>
            </a:xfrm>
            <a:custGeom>
              <a:avLst/>
              <a:gdLst/>
              <a:ahLst/>
              <a:rect l="l" t="t" r="r" b="b"/>
              <a:pathLst>
                <a:path w="210" h="162">
                  <a:moveTo>
                    <a:pt x="210" y="123"/>
                  </a:moveTo>
                  <a:lnTo>
                    <a:pt x="210" y="162"/>
                  </a:lnTo>
                  <a:lnTo>
                    <a:pt x="0" y="44"/>
                  </a:lnTo>
                  <a:lnTo>
                    <a:pt x="0" y="0"/>
                  </a:lnTo>
                  <a:lnTo>
                    <a:pt x="210" y="12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8760" y="5402520"/>
              <a:ext cx="38160" cy="41040"/>
            </a:xfrm>
            <a:custGeom>
              <a:avLst/>
              <a:gdLst/>
              <a:ahLst/>
              <a:rect l="l" t="t" r="r" b="b"/>
              <a:pathLst>
                <a:path w="153" h="162">
                  <a:moveTo>
                    <a:pt x="153" y="0"/>
                  </a:moveTo>
                  <a:lnTo>
                    <a:pt x="148" y="39"/>
                  </a:lnTo>
                  <a:lnTo>
                    <a:pt x="0" y="162"/>
                  </a:lnTo>
                  <a:lnTo>
                    <a:pt x="0" y="12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6200" y="5371560"/>
              <a:ext cx="91080" cy="61200"/>
            </a:xfrm>
            <a:custGeom>
              <a:avLst/>
              <a:gdLst/>
              <a:ahLst/>
              <a:rect l="l" t="t" r="r" b="b"/>
              <a:pathLst>
                <a:path w="363" h="242">
                  <a:moveTo>
                    <a:pt x="0" y="119"/>
                  </a:moveTo>
                  <a:lnTo>
                    <a:pt x="149" y="0"/>
                  </a:lnTo>
                  <a:lnTo>
                    <a:pt x="363" y="119"/>
                  </a:lnTo>
                  <a:lnTo>
                    <a:pt x="210" y="242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27240" y="5402520"/>
              <a:ext cx="52560" cy="41040"/>
            </a:xfrm>
            <a:custGeom>
              <a:avLst/>
              <a:gdLst/>
              <a:ahLst/>
              <a:rect l="l" t="t" r="r" b="b"/>
              <a:pathLst>
                <a:path w="210" h="162">
                  <a:moveTo>
                    <a:pt x="0" y="123"/>
                  </a:moveTo>
                  <a:lnTo>
                    <a:pt x="0" y="162"/>
                  </a:lnTo>
                  <a:lnTo>
                    <a:pt x="210" y="44"/>
                  </a:lnTo>
                  <a:lnTo>
                    <a:pt x="210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88720" y="5402520"/>
              <a:ext cx="38160" cy="41040"/>
            </a:xfrm>
            <a:custGeom>
              <a:avLst/>
              <a:gdLst/>
              <a:ahLst/>
              <a:rect l="l" t="t" r="r" b="b"/>
              <a:pathLst>
                <a:path w="153" h="162">
                  <a:moveTo>
                    <a:pt x="0" y="0"/>
                  </a:moveTo>
                  <a:lnTo>
                    <a:pt x="3" y="34"/>
                  </a:lnTo>
                  <a:lnTo>
                    <a:pt x="153" y="162"/>
                  </a:lnTo>
                  <a:lnTo>
                    <a:pt x="153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88720" y="5371560"/>
              <a:ext cx="91080" cy="61200"/>
            </a:xfrm>
            <a:custGeom>
              <a:avLst/>
              <a:gdLst/>
              <a:ahLst/>
              <a:rect l="l" t="t" r="r" b="b"/>
              <a:pathLst>
                <a:path w="363" h="242">
                  <a:moveTo>
                    <a:pt x="363" y="119"/>
                  </a:moveTo>
                  <a:lnTo>
                    <a:pt x="215" y="0"/>
                  </a:lnTo>
                  <a:lnTo>
                    <a:pt x="0" y="119"/>
                  </a:lnTo>
                  <a:lnTo>
                    <a:pt x="153" y="242"/>
                  </a:lnTo>
                  <a:lnTo>
                    <a:pt x="363" y="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19960" y="5171400"/>
              <a:ext cx="302040" cy="187200"/>
            </a:xfrm>
            <a:custGeom>
              <a:avLst/>
              <a:gdLst/>
              <a:ahLst/>
              <a:rect l="l" t="t" r="r" b="b"/>
              <a:pathLst>
                <a:path w="1212" h="727">
                  <a:moveTo>
                    <a:pt x="1207" y="727"/>
                  </a:moveTo>
                  <a:lnTo>
                    <a:pt x="1210" y="698"/>
                  </a:lnTo>
                  <a:lnTo>
                    <a:pt x="1212" y="668"/>
                  </a:lnTo>
                  <a:lnTo>
                    <a:pt x="1189" y="560"/>
                  </a:lnTo>
                  <a:lnTo>
                    <a:pt x="1122" y="456"/>
                  </a:lnTo>
                  <a:lnTo>
                    <a:pt x="1017" y="358"/>
                  </a:lnTo>
                  <a:lnTo>
                    <a:pt x="874" y="266"/>
                  </a:lnTo>
                  <a:lnTo>
                    <a:pt x="699" y="185"/>
                  </a:lnTo>
                  <a:lnTo>
                    <a:pt x="492" y="112"/>
                  </a:lnTo>
                  <a:lnTo>
                    <a:pt x="258" y="50"/>
                  </a:lnTo>
                  <a:lnTo>
                    <a:pt x="0" y="0"/>
                  </a:lnTo>
                  <a:lnTo>
                    <a:pt x="1207" y="727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3960" y="5155200"/>
              <a:ext cx="478080" cy="306360"/>
            </a:xfrm>
            <a:custGeom>
              <a:avLst/>
              <a:gdLst/>
              <a:ahLst/>
              <a:rect l="l" t="t" r="r" b="b"/>
              <a:pathLst>
                <a:path w="1917" h="1193">
                  <a:moveTo>
                    <a:pt x="1917" y="0"/>
                  </a:moveTo>
                  <a:lnTo>
                    <a:pt x="1715" y="11"/>
                  </a:lnTo>
                  <a:lnTo>
                    <a:pt x="1518" y="27"/>
                  </a:lnTo>
                  <a:lnTo>
                    <a:pt x="1331" y="52"/>
                  </a:lnTo>
                  <a:lnTo>
                    <a:pt x="1153" y="81"/>
                  </a:lnTo>
                  <a:lnTo>
                    <a:pt x="983" y="116"/>
                  </a:lnTo>
                  <a:lnTo>
                    <a:pt x="825" y="155"/>
                  </a:lnTo>
                  <a:lnTo>
                    <a:pt x="681" y="200"/>
                  </a:lnTo>
                  <a:lnTo>
                    <a:pt x="545" y="246"/>
                  </a:lnTo>
                  <a:lnTo>
                    <a:pt x="424" y="301"/>
                  </a:lnTo>
                  <a:lnTo>
                    <a:pt x="315" y="357"/>
                  </a:lnTo>
                  <a:lnTo>
                    <a:pt x="222" y="420"/>
                  </a:lnTo>
                  <a:lnTo>
                    <a:pt x="145" y="481"/>
                  </a:lnTo>
                  <a:lnTo>
                    <a:pt x="82" y="548"/>
                  </a:lnTo>
                  <a:lnTo>
                    <a:pt x="37" y="616"/>
                  </a:lnTo>
                  <a:lnTo>
                    <a:pt x="10" y="687"/>
                  </a:lnTo>
                  <a:lnTo>
                    <a:pt x="0" y="762"/>
                  </a:lnTo>
                  <a:lnTo>
                    <a:pt x="22" y="880"/>
                  </a:lnTo>
                  <a:lnTo>
                    <a:pt x="87" y="991"/>
                  </a:lnTo>
                  <a:lnTo>
                    <a:pt x="200" y="1096"/>
                  </a:lnTo>
                  <a:lnTo>
                    <a:pt x="363" y="1193"/>
                  </a:lnTo>
                  <a:lnTo>
                    <a:pt x="384" y="1126"/>
                  </a:lnTo>
                  <a:lnTo>
                    <a:pt x="387" y="1057"/>
                  </a:lnTo>
                  <a:lnTo>
                    <a:pt x="370" y="989"/>
                  </a:lnTo>
                  <a:lnTo>
                    <a:pt x="333" y="927"/>
                  </a:lnTo>
                  <a:lnTo>
                    <a:pt x="1917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6760" y="5117760"/>
              <a:ext cx="549720" cy="145800"/>
            </a:xfrm>
            <a:custGeom>
              <a:avLst/>
              <a:gdLst/>
              <a:ahLst/>
              <a:rect l="l" t="t" r="r" b="b"/>
              <a:pathLst>
                <a:path w="2207" h="562">
                  <a:moveTo>
                    <a:pt x="2207" y="562"/>
                  </a:moveTo>
                  <a:lnTo>
                    <a:pt x="1617" y="206"/>
                  </a:lnTo>
                  <a:lnTo>
                    <a:pt x="1527" y="155"/>
                  </a:lnTo>
                  <a:lnTo>
                    <a:pt x="1441" y="103"/>
                  </a:lnTo>
                  <a:lnTo>
                    <a:pt x="1352" y="49"/>
                  </a:lnTo>
                  <a:lnTo>
                    <a:pt x="1269" y="0"/>
                  </a:lnTo>
                  <a:lnTo>
                    <a:pt x="1210" y="21"/>
                  </a:lnTo>
                  <a:lnTo>
                    <a:pt x="1143" y="37"/>
                  </a:lnTo>
                  <a:lnTo>
                    <a:pt x="1071" y="46"/>
                  </a:lnTo>
                  <a:lnTo>
                    <a:pt x="1008" y="49"/>
                  </a:lnTo>
                  <a:lnTo>
                    <a:pt x="936" y="46"/>
                  </a:lnTo>
                  <a:lnTo>
                    <a:pt x="867" y="34"/>
                  </a:lnTo>
                  <a:lnTo>
                    <a:pt x="802" y="19"/>
                  </a:lnTo>
                  <a:lnTo>
                    <a:pt x="741" y="0"/>
                  </a:lnTo>
                  <a:lnTo>
                    <a:pt x="683" y="34"/>
                  </a:lnTo>
                  <a:lnTo>
                    <a:pt x="623" y="68"/>
                  </a:lnTo>
                  <a:lnTo>
                    <a:pt x="564" y="105"/>
                  </a:lnTo>
                  <a:lnTo>
                    <a:pt x="505" y="140"/>
                  </a:lnTo>
                  <a:lnTo>
                    <a:pt x="0" y="435"/>
                  </a:lnTo>
                  <a:lnTo>
                    <a:pt x="2207" y="562"/>
                  </a:lnTo>
                  <a:close/>
                </a:path>
              </a:pathLst>
            </a:custGeom>
            <a:solidFill>
              <a:srgbClr val="045a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00920" y="5229000"/>
              <a:ext cx="583200" cy="43200"/>
            </a:xfrm>
            <a:custGeom>
              <a:avLst/>
              <a:gdLst/>
              <a:ahLst/>
              <a:rect l="l" t="t" r="r" b="b"/>
              <a:pathLst>
                <a:path w="2334" h="168">
                  <a:moveTo>
                    <a:pt x="2267" y="127"/>
                  </a:moveTo>
                  <a:lnTo>
                    <a:pt x="2334" y="168"/>
                  </a:lnTo>
                  <a:lnTo>
                    <a:pt x="0" y="35"/>
                  </a:lnTo>
                  <a:lnTo>
                    <a:pt x="60" y="0"/>
                  </a:lnTo>
                  <a:lnTo>
                    <a:pt x="2267" y="127"/>
                  </a:lnTo>
                  <a:close/>
                </a:path>
              </a:pathLst>
            </a:custGeom>
            <a:solidFill>
              <a:srgbClr val="065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87240" y="5238000"/>
              <a:ext cx="612360" cy="44640"/>
            </a:xfrm>
            <a:custGeom>
              <a:avLst/>
              <a:gdLst/>
              <a:ahLst/>
              <a:rect l="l" t="t" r="r" b="b"/>
              <a:pathLst>
                <a:path w="2457" h="173">
                  <a:moveTo>
                    <a:pt x="2390" y="133"/>
                  </a:moveTo>
                  <a:lnTo>
                    <a:pt x="2457" y="173"/>
                  </a:lnTo>
                  <a:lnTo>
                    <a:pt x="0" y="34"/>
                  </a:lnTo>
                  <a:lnTo>
                    <a:pt x="56" y="0"/>
                  </a:lnTo>
                  <a:lnTo>
                    <a:pt x="2390" y="133"/>
                  </a:lnTo>
                  <a:close/>
                </a:path>
              </a:pathLst>
            </a:custGeom>
            <a:solidFill>
              <a:srgbClr val="095a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72840" y="5247000"/>
              <a:ext cx="644400" cy="46800"/>
            </a:xfrm>
            <a:custGeom>
              <a:avLst/>
              <a:gdLst/>
              <a:ahLst/>
              <a:rect l="l" t="t" r="r" b="b"/>
              <a:pathLst>
                <a:path w="2582" h="181">
                  <a:moveTo>
                    <a:pt x="2514" y="139"/>
                  </a:moveTo>
                  <a:lnTo>
                    <a:pt x="2582" y="181"/>
                  </a:lnTo>
                  <a:lnTo>
                    <a:pt x="0" y="35"/>
                  </a:lnTo>
                  <a:lnTo>
                    <a:pt x="57" y="0"/>
                  </a:lnTo>
                  <a:lnTo>
                    <a:pt x="2514" y="139"/>
                  </a:lnTo>
                  <a:close/>
                </a:path>
              </a:pathLst>
            </a:custGeom>
            <a:solidFill>
              <a:srgbClr val="0b5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59160" y="5256000"/>
              <a:ext cx="673920" cy="48600"/>
            </a:xfrm>
            <a:custGeom>
              <a:avLst/>
              <a:gdLst/>
              <a:ahLst/>
              <a:rect l="l" t="t" r="r" b="b"/>
              <a:pathLst>
                <a:path w="2705" h="185">
                  <a:moveTo>
                    <a:pt x="2638" y="146"/>
                  </a:moveTo>
                  <a:lnTo>
                    <a:pt x="2705" y="185"/>
                  </a:lnTo>
                  <a:lnTo>
                    <a:pt x="0" y="32"/>
                  </a:lnTo>
                  <a:lnTo>
                    <a:pt x="56" y="0"/>
                  </a:lnTo>
                  <a:lnTo>
                    <a:pt x="2638" y="146"/>
                  </a:lnTo>
                  <a:close/>
                </a:path>
              </a:pathLst>
            </a:custGeom>
            <a:solidFill>
              <a:srgbClr val="126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243320" y="5265000"/>
              <a:ext cx="709200" cy="50400"/>
            </a:xfrm>
            <a:custGeom>
              <a:avLst/>
              <a:gdLst/>
              <a:ahLst/>
              <a:rect l="l" t="t" r="r" b="b"/>
              <a:pathLst>
                <a:path w="2840" h="197">
                  <a:moveTo>
                    <a:pt x="2768" y="153"/>
                  </a:moveTo>
                  <a:lnTo>
                    <a:pt x="2840" y="197"/>
                  </a:lnTo>
                  <a:lnTo>
                    <a:pt x="0" y="37"/>
                  </a:lnTo>
                  <a:lnTo>
                    <a:pt x="63" y="0"/>
                  </a:lnTo>
                  <a:lnTo>
                    <a:pt x="2768" y="153"/>
                  </a:lnTo>
                  <a:close/>
                </a:path>
              </a:pathLst>
            </a:custGeom>
            <a:solidFill>
              <a:srgbClr val="1561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9280" y="5274000"/>
              <a:ext cx="738360" cy="52200"/>
            </a:xfrm>
            <a:custGeom>
              <a:avLst/>
              <a:gdLst/>
              <a:ahLst/>
              <a:rect l="l" t="t" r="r" b="b"/>
              <a:pathLst>
                <a:path w="2966" h="200">
                  <a:moveTo>
                    <a:pt x="2898" y="160"/>
                  </a:moveTo>
                  <a:lnTo>
                    <a:pt x="2966" y="200"/>
                  </a:lnTo>
                  <a:lnTo>
                    <a:pt x="0" y="35"/>
                  </a:lnTo>
                  <a:lnTo>
                    <a:pt x="58" y="0"/>
                  </a:lnTo>
                  <a:lnTo>
                    <a:pt x="2898" y="160"/>
                  </a:lnTo>
                  <a:close/>
                </a:path>
              </a:pathLst>
            </a:custGeom>
            <a:solidFill>
              <a:srgbClr val="156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15600" y="5283000"/>
              <a:ext cx="770040" cy="54000"/>
            </a:xfrm>
            <a:custGeom>
              <a:avLst/>
              <a:gdLst/>
              <a:ahLst/>
              <a:rect l="l" t="t" r="r" b="b"/>
              <a:pathLst>
                <a:path w="3089" h="207">
                  <a:moveTo>
                    <a:pt x="3022" y="165"/>
                  </a:moveTo>
                  <a:lnTo>
                    <a:pt x="3089" y="207"/>
                  </a:lnTo>
                  <a:lnTo>
                    <a:pt x="0" y="31"/>
                  </a:lnTo>
                  <a:lnTo>
                    <a:pt x="56" y="0"/>
                  </a:lnTo>
                  <a:lnTo>
                    <a:pt x="3022" y="165"/>
                  </a:lnTo>
                  <a:close/>
                </a:path>
              </a:pathLst>
            </a:custGeom>
            <a:solidFill>
              <a:srgbClr val="1b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99760" y="5292360"/>
              <a:ext cx="803520" cy="53640"/>
            </a:xfrm>
            <a:custGeom>
              <a:avLst/>
              <a:gdLst/>
              <a:ahLst/>
              <a:rect l="l" t="t" r="r" b="b"/>
              <a:pathLst>
                <a:path w="3216" h="215">
                  <a:moveTo>
                    <a:pt x="3147" y="176"/>
                  </a:moveTo>
                  <a:lnTo>
                    <a:pt x="3216" y="215"/>
                  </a:lnTo>
                  <a:lnTo>
                    <a:pt x="0" y="35"/>
                  </a:lnTo>
                  <a:lnTo>
                    <a:pt x="58" y="0"/>
                  </a:lnTo>
                  <a:lnTo>
                    <a:pt x="3147" y="176"/>
                  </a:lnTo>
                  <a:close/>
                </a:path>
              </a:pathLst>
            </a:custGeom>
            <a:solidFill>
              <a:srgbClr val="1d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85720" y="5301360"/>
              <a:ext cx="834480" cy="57600"/>
            </a:xfrm>
            <a:custGeom>
              <a:avLst/>
              <a:gdLst/>
              <a:ahLst/>
              <a:rect l="l" t="t" r="r" b="b"/>
              <a:pathLst>
                <a:path w="3349" h="224">
                  <a:moveTo>
                    <a:pt x="3277" y="180"/>
                  </a:moveTo>
                  <a:lnTo>
                    <a:pt x="3349" y="224"/>
                  </a:lnTo>
                  <a:lnTo>
                    <a:pt x="0" y="37"/>
                  </a:lnTo>
                  <a:lnTo>
                    <a:pt x="61" y="0"/>
                  </a:lnTo>
                  <a:lnTo>
                    <a:pt x="3277" y="180"/>
                  </a:lnTo>
                  <a:close/>
                </a:path>
              </a:pathLst>
            </a:custGeom>
            <a:solidFill>
              <a:srgbClr val="1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72040" y="5310360"/>
              <a:ext cx="848520" cy="57600"/>
            </a:xfrm>
            <a:custGeom>
              <a:avLst/>
              <a:gdLst/>
              <a:ahLst/>
              <a:rect l="l" t="t" r="r" b="b"/>
              <a:pathLst>
                <a:path w="3406" h="224">
                  <a:moveTo>
                    <a:pt x="3406" y="187"/>
                  </a:moveTo>
                  <a:lnTo>
                    <a:pt x="3400" y="204"/>
                  </a:lnTo>
                  <a:lnTo>
                    <a:pt x="3395" y="224"/>
                  </a:lnTo>
                  <a:lnTo>
                    <a:pt x="0" y="32"/>
                  </a:lnTo>
                  <a:lnTo>
                    <a:pt x="57" y="0"/>
                  </a:lnTo>
                  <a:lnTo>
                    <a:pt x="3406" y="187"/>
                  </a:lnTo>
                  <a:close/>
                </a:path>
              </a:pathLst>
            </a:custGeom>
            <a:solidFill>
              <a:srgbClr val="22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56200" y="5317560"/>
              <a:ext cx="862200" cy="59400"/>
            </a:xfrm>
            <a:custGeom>
              <a:avLst/>
              <a:gdLst/>
              <a:ahLst/>
              <a:rect l="l" t="t" r="r" b="b"/>
              <a:pathLst>
                <a:path w="3454" h="230">
                  <a:moveTo>
                    <a:pt x="3454" y="192"/>
                  </a:moveTo>
                  <a:lnTo>
                    <a:pt x="3447" y="209"/>
                  </a:lnTo>
                  <a:lnTo>
                    <a:pt x="3440" y="230"/>
                  </a:lnTo>
                  <a:lnTo>
                    <a:pt x="0" y="35"/>
                  </a:lnTo>
                  <a:lnTo>
                    <a:pt x="59" y="0"/>
                  </a:lnTo>
                  <a:lnTo>
                    <a:pt x="3454" y="192"/>
                  </a:lnTo>
                  <a:close/>
                </a:path>
              </a:pathLst>
            </a:custGeom>
            <a:solidFill>
              <a:srgbClr val="2a6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2160" y="5326560"/>
              <a:ext cx="873000" cy="59400"/>
            </a:xfrm>
            <a:custGeom>
              <a:avLst/>
              <a:gdLst/>
              <a:ahLst/>
              <a:rect l="l" t="t" r="r" b="b"/>
              <a:pathLst>
                <a:path w="3497" h="231">
                  <a:moveTo>
                    <a:pt x="3497" y="195"/>
                  </a:moveTo>
                  <a:lnTo>
                    <a:pt x="3487" y="211"/>
                  </a:lnTo>
                  <a:lnTo>
                    <a:pt x="3477" y="231"/>
                  </a:lnTo>
                  <a:lnTo>
                    <a:pt x="0" y="34"/>
                  </a:lnTo>
                  <a:lnTo>
                    <a:pt x="57" y="0"/>
                  </a:lnTo>
                  <a:lnTo>
                    <a:pt x="3497" y="195"/>
                  </a:lnTo>
                  <a:close/>
                </a:path>
              </a:pathLst>
            </a:custGeom>
            <a:solidFill>
              <a:srgbClr val="2a6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8120" y="5335200"/>
              <a:ext cx="881640" cy="59400"/>
            </a:xfrm>
            <a:custGeom>
              <a:avLst/>
              <a:gdLst/>
              <a:ahLst/>
              <a:rect l="l" t="t" r="r" b="b"/>
              <a:pathLst>
                <a:path w="3533" h="231">
                  <a:moveTo>
                    <a:pt x="3533" y="197"/>
                  </a:moveTo>
                  <a:lnTo>
                    <a:pt x="3523" y="214"/>
                  </a:lnTo>
                  <a:lnTo>
                    <a:pt x="3511" y="231"/>
                  </a:lnTo>
                  <a:lnTo>
                    <a:pt x="0" y="32"/>
                  </a:lnTo>
                  <a:lnTo>
                    <a:pt x="56" y="0"/>
                  </a:lnTo>
                  <a:lnTo>
                    <a:pt x="3533" y="197"/>
                  </a:lnTo>
                  <a:close/>
                </a:path>
              </a:pathLst>
            </a:custGeom>
            <a:solidFill>
              <a:srgbClr val="2d6c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2640" y="5344200"/>
              <a:ext cx="892080" cy="61200"/>
            </a:xfrm>
            <a:custGeom>
              <a:avLst/>
              <a:gdLst/>
              <a:ahLst/>
              <a:rect l="l" t="t" r="r" b="b"/>
              <a:pathLst>
                <a:path w="3573" h="239">
                  <a:moveTo>
                    <a:pt x="3573" y="199"/>
                  </a:moveTo>
                  <a:lnTo>
                    <a:pt x="3559" y="219"/>
                  </a:lnTo>
                  <a:lnTo>
                    <a:pt x="3541" y="239"/>
                  </a:lnTo>
                  <a:lnTo>
                    <a:pt x="0" y="37"/>
                  </a:lnTo>
                  <a:lnTo>
                    <a:pt x="62" y="0"/>
                  </a:lnTo>
                  <a:lnTo>
                    <a:pt x="3573" y="199"/>
                  </a:lnTo>
                  <a:close/>
                </a:path>
              </a:pathLst>
            </a:custGeom>
            <a:solidFill>
              <a:srgbClr val="316e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98240" y="5353200"/>
              <a:ext cx="897480" cy="61200"/>
            </a:xfrm>
            <a:custGeom>
              <a:avLst/>
              <a:gdLst/>
              <a:ahLst/>
              <a:rect l="l" t="t" r="r" b="b"/>
              <a:pathLst>
                <a:path w="3600" h="236">
                  <a:moveTo>
                    <a:pt x="3600" y="202"/>
                  </a:moveTo>
                  <a:lnTo>
                    <a:pt x="3583" y="219"/>
                  </a:lnTo>
                  <a:lnTo>
                    <a:pt x="3565" y="236"/>
                  </a:lnTo>
                  <a:lnTo>
                    <a:pt x="0" y="34"/>
                  </a:lnTo>
                  <a:lnTo>
                    <a:pt x="59" y="0"/>
                  </a:lnTo>
                  <a:lnTo>
                    <a:pt x="3600" y="202"/>
                  </a:lnTo>
                  <a:close/>
                </a:path>
              </a:pathLst>
            </a:custGeom>
            <a:solidFill>
              <a:srgbClr val="367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84560" y="5362920"/>
              <a:ext cx="902880" cy="60840"/>
            </a:xfrm>
            <a:custGeom>
              <a:avLst/>
              <a:gdLst/>
              <a:ahLst/>
              <a:rect l="l" t="t" r="r" b="b"/>
              <a:pathLst>
                <a:path w="3621" h="237">
                  <a:moveTo>
                    <a:pt x="3621" y="202"/>
                  </a:moveTo>
                  <a:lnTo>
                    <a:pt x="3602" y="220"/>
                  </a:lnTo>
                  <a:lnTo>
                    <a:pt x="3582" y="237"/>
                  </a:lnTo>
                  <a:lnTo>
                    <a:pt x="0" y="32"/>
                  </a:lnTo>
                  <a:lnTo>
                    <a:pt x="56" y="0"/>
                  </a:lnTo>
                  <a:lnTo>
                    <a:pt x="3621" y="202"/>
                  </a:lnTo>
                  <a:close/>
                </a:path>
              </a:pathLst>
            </a:custGeom>
            <a:solidFill>
              <a:srgbClr val="397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68720" y="5371560"/>
              <a:ext cx="907920" cy="61200"/>
            </a:xfrm>
            <a:custGeom>
              <a:avLst/>
              <a:gdLst/>
              <a:ahLst/>
              <a:rect l="l" t="t" r="r" b="b"/>
              <a:pathLst>
                <a:path w="3640" h="240">
                  <a:moveTo>
                    <a:pt x="3640" y="205"/>
                  </a:moveTo>
                  <a:lnTo>
                    <a:pt x="3618" y="222"/>
                  </a:lnTo>
                  <a:lnTo>
                    <a:pt x="3596" y="240"/>
                  </a:lnTo>
                  <a:lnTo>
                    <a:pt x="0" y="35"/>
                  </a:lnTo>
                  <a:lnTo>
                    <a:pt x="58" y="0"/>
                  </a:lnTo>
                  <a:lnTo>
                    <a:pt x="3640" y="205"/>
                  </a:lnTo>
                  <a:close/>
                </a:path>
              </a:pathLst>
            </a:custGeom>
            <a:solidFill>
              <a:srgbClr val="3973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54680" y="5380560"/>
              <a:ext cx="911520" cy="61200"/>
            </a:xfrm>
            <a:custGeom>
              <a:avLst/>
              <a:gdLst/>
              <a:ahLst/>
              <a:rect l="l" t="t" r="r" b="b"/>
              <a:pathLst>
                <a:path w="3657" h="242">
                  <a:moveTo>
                    <a:pt x="3657" y="205"/>
                  </a:moveTo>
                  <a:lnTo>
                    <a:pt x="3630" y="221"/>
                  </a:lnTo>
                  <a:lnTo>
                    <a:pt x="3600" y="242"/>
                  </a:lnTo>
                  <a:lnTo>
                    <a:pt x="0" y="37"/>
                  </a:lnTo>
                  <a:lnTo>
                    <a:pt x="61" y="0"/>
                  </a:lnTo>
                  <a:lnTo>
                    <a:pt x="3657" y="205"/>
                  </a:lnTo>
                  <a:close/>
                </a:path>
              </a:pathLst>
            </a:custGeom>
            <a:solidFill>
              <a:srgbClr val="3e7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47840" y="5389560"/>
              <a:ext cx="904320" cy="152640"/>
            </a:xfrm>
            <a:custGeom>
              <a:avLst/>
              <a:gdLst/>
              <a:ahLst/>
              <a:rect l="l" t="t" r="r" b="b"/>
              <a:pathLst>
                <a:path w="3627" h="596">
                  <a:moveTo>
                    <a:pt x="3627" y="205"/>
                  </a:moveTo>
                  <a:lnTo>
                    <a:pt x="3553" y="247"/>
                  </a:lnTo>
                  <a:lnTo>
                    <a:pt x="3474" y="288"/>
                  </a:lnTo>
                  <a:lnTo>
                    <a:pt x="3386" y="328"/>
                  </a:lnTo>
                  <a:lnTo>
                    <a:pt x="3293" y="365"/>
                  </a:lnTo>
                  <a:lnTo>
                    <a:pt x="3191" y="400"/>
                  </a:lnTo>
                  <a:lnTo>
                    <a:pt x="3085" y="431"/>
                  </a:lnTo>
                  <a:lnTo>
                    <a:pt x="2972" y="461"/>
                  </a:lnTo>
                  <a:lnTo>
                    <a:pt x="2854" y="488"/>
                  </a:lnTo>
                  <a:lnTo>
                    <a:pt x="2731" y="512"/>
                  </a:lnTo>
                  <a:lnTo>
                    <a:pt x="2602" y="535"/>
                  </a:lnTo>
                  <a:lnTo>
                    <a:pt x="2471" y="552"/>
                  </a:lnTo>
                  <a:lnTo>
                    <a:pt x="2336" y="569"/>
                  </a:lnTo>
                  <a:lnTo>
                    <a:pt x="2195" y="579"/>
                  </a:lnTo>
                  <a:lnTo>
                    <a:pt x="2060" y="589"/>
                  </a:lnTo>
                  <a:lnTo>
                    <a:pt x="1912" y="593"/>
                  </a:lnTo>
                  <a:lnTo>
                    <a:pt x="1765" y="596"/>
                  </a:lnTo>
                  <a:lnTo>
                    <a:pt x="1631" y="593"/>
                  </a:lnTo>
                  <a:lnTo>
                    <a:pt x="1503" y="591"/>
                  </a:lnTo>
                  <a:lnTo>
                    <a:pt x="1375" y="584"/>
                  </a:lnTo>
                  <a:lnTo>
                    <a:pt x="1249" y="574"/>
                  </a:lnTo>
                  <a:lnTo>
                    <a:pt x="1126" y="562"/>
                  </a:lnTo>
                  <a:lnTo>
                    <a:pt x="1008" y="547"/>
                  </a:lnTo>
                  <a:lnTo>
                    <a:pt x="889" y="530"/>
                  </a:lnTo>
                  <a:lnTo>
                    <a:pt x="778" y="510"/>
                  </a:lnTo>
                  <a:lnTo>
                    <a:pt x="667" y="488"/>
                  </a:lnTo>
                  <a:lnTo>
                    <a:pt x="564" y="465"/>
                  </a:lnTo>
                  <a:lnTo>
                    <a:pt x="463" y="439"/>
                  </a:lnTo>
                  <a:lnTo>
                    <a:pt x="367" y="412"/>
                  </a:lnTo>
                  <a:lnTo>
                    <a:pt x="274" y="382"/>
                  </a:lnTo>
                  <a:lnTo>
                    <a:pt x="187" y="349"/>
                  </a:lnTo>
                  <a:lnTo>
                    <a:pt x="106" y="315"/>
                  </a:lnTo>
                  <a:lnTo>
                    <a:pt x="30" y="281"/>
                  </a:lnTo>
                  <a:lnTo>
                    <a:pt x="51" y="214"/>
                  </a:lnTo>
                  <a:lnTo>
                    <a:pt x="54" y="145"/>
                  </a:lnTo>
                  <a:lnTo>
                    <a:pt x="37" y="77"/>
                  </a:lnTo>
                  <a:lnTo>
                    <a:pt x="0" y="15"/>
                  </a:lnTo>
                  <a:lnTo>
                    <a:pt x="27" y="0"/>
                  </a:lnTo>
                  <a:lnTo>
                    <a:pt x="3627" y="205"/>
                  </a:lnTo>
                  <a:close/>
                </a:path>
              </a:pathLst>
            </a:custGeom>
            <a:solidFill>
              <a:srgbClr val="437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40960" y="5358960"/>
              <a:ext cx="245880" cy="177840"/>
            </a:xfrm>
            <a:custGeom>
              <a:avLst/>
              <a:gdLst/>
              <a:ahLst/>
              <a:rect l="l" t="t" r="r" b="b"/>
              <a:pathLst>
                <a:path w="988" h="690">
                  <a:moveTo>
                    <a:pt x="502" y="0"/>
                  </a:moveTo>
                  <a:lnTo>
                    <a:pt x="592" y="7"/>
                  </a:lnTo>
                  <a:lnTo>
                    <a:pt x="683" y="24"/>
                  </a:lnTo>
                  <a:lnTo>
                    <a:pt x="766" y="54"/>
                  </a:lnTo>
                  <a:lnTo>
                    <a:pt x="838" y="94"/>
                  </a:lnTo>
                  <a:lnTo>
                    <a:pt x="899" y="143"/>
                  </a:lnTo>
                  <a:lnTo>
                    <a:pt x="946" y="200"/>
                  </a:lnTo>
                  <a:lnTo>
                    <a:pt x="976" y="263"/>
                  </a:lnTo>
                  <a:lnTo>
                    <a:pt x="988" y="333"/>
                  </a:lnTo>
                  <a:lnTo>
                    <a:pt x="980" y="402"/>
                  </a:lnTo>
                  <a:lnTo>
                    <a:pt x="952" y="468"/>
                  </a:lnTo>
                  <a:lnTo>
                    <a:pt x="906" y="530"/>
                  </a:lnTo>
                  <a:lnTo>
                    <a:pt x="845" y="581"/>
                  </a:lnTo>
                  <a:lnTo>
                    <a:pt x="771" y="626"/>
                  </a:lnTo>
                  <a:lnTo>
                    <a:pt x="685" y="660"/>
                  </a:lnTo>
                  <a:lnTo>
                    <a:pt x="589" y="683"/>
                  </a:lnTo>
                  <a:lnTo>
                    <a:pt x="493" y="690"/>
                  </a:lnTo>
                  <a:lnTo>
                    <a:pt x="390" y="683"/>
                  </a:lnTo>
                  <a:lnTo>
                    <a:pt x="295" y="660"/>
                  </a:lnTo>
                  <a:lnTo>
                    <a:pt x="209" y="626"/>
                  </a:lnTo>
                  <a:lnTo>
                    <a:pt x="135" y="581"/>
                  </a:lnTo>
                  <a:lnTo>
                    <a:pt x="76" y="528"/>
                  </a:lnTo>
                  <a:lnTo>
                    <a:pt x="32" y="468"/>
                  </a:lnTo>
                  <a:lnTo>
                    <a:pt x="5" y="402"/>
                  </a:lnTo>
                  <a:lnTo>
                    <a:pt x="0" y="333"/>
                  </a:lnTo>
                  <a:lnTo>
                    <a:pt x="14" y="263"/>
                  </a:lnTo>
                  <a:lnTo>
                    <a:pt x="47" y="200"/>
                  </a:lnTo>
                  <a:lnTo>
                    <a:pt x="96" y="143"/>
                  </a:lnTo>
                  <a:lnTo>
                    <a:pt x="158" y="94"/>
                  </a:lnTo>
                  <a:lnTo>
                    <a:pt x="232" y="54"/>
                  </a:lnTo>
                  <a:lnTo>
                    <a:pt x="316" y="24"/>
                  </a:lnTo>
                  <a:lnTo>
                    <a:pt x="406" y="7"/>
                  </a:lnTo>
                  <a:lnTo>
                    <a:pt x="502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9720" y="4267080"/>
              <a:ext cx="991800" cy="1027080"/>
            </a:xfrm>
            <a:custGeom>
              <a:avLst/>
              <a:gdLst/>
              <a:ahLst/>
              <a:rect l="l" t="t" r="r" b="b"/>
              <a:pathLst>
                <a:path w="3973" h="3988">
                  <a:moveTo>
                    <a:pt x="3700" y="2982"/>
                  </a:moveTo>
                  <a:lnTo>
                    <a:pt x="3798" y="2839"/>
                  </a:lnTo>
                  <a:lnTo>
                    <a:pt x="3815" y="2810"/>
                  </a:lnTo>
                  <a:lnTo>
                    <a:pt x="3825" y="2778"/>
                  </a:lnTo>
                  <a:lnTo>
                    <a:pt x="3823" y="2743"/>
                  </a:lnTo>
                  <a:lnTo>
                    <a:pt x="3850" y="2723"/>
                  </a:lnTo>
                  <a:lnTo>
                    <a:pt x="3872" y="2699"/>
                  </a:lnTo>
                  <a:lnTo>
                    <a:pt x="3884" y="2667"/>
                  </a:lnTo>
                  <a:lnTo>
                    <a:pt x="3894" y="2634"/>
                  </a:lnTo>
                  <a:lnTo>
                    <a:pt x="3909" y="2474"/>
                  </a:lnTo>
                  <a:lnTo>
                    <a:pt x="3939" y="2341"/>
                  </a:lnTo>
                  <a:lnTo>
                    <a:pt x="3960" y="2209"/>
                  </a:lnTo>
                  <a:lnTo>
                    <a:pt x="3973" y="2072"/>
                  </a:lnTo>
                  <a:lnTo>
                    <a:pt x="3973" y="1982"/>
                  </a:lnTo>
                  <a:lnTo>
                    <a:pt x="3971" y="1844"/>
                  </a:lnTo>
                  <a:lnTo>
                    <a:pt x="3955" y="1708"/>
                  </a:lnTo>
                  <a:lnTo>
                    <a:pt x="3931" y="1575"/>
                  </a:lnTo>
                  <a:lnTo>
                    <a:pt x="3899" y="1442"/>
                  </a:lnTo>
                  <a:lnTo>
                    <a:pt x="3855" y="1312"/>
                  </a:lnTo>
                  <a:lnTo>
                    <a:pt x="3802" y="1184"/>
                  </a:lnTo>
                  <a:lnTo>
                    <a:pt x="3746" y="1061"/>
                  </a:lnTo>
                  <a:lnTo>
                    <a:pt x="3677" y="942"/>
                  </a:lnTo>
                  <a:lnTo>
                    <a:pt x="3600" y="824"/>
                  </a:lnTo>
                  <a:lnTo>
                    <a:pt x="3517" y="715"/>
                  </a:lnTo>
                  <a:lnTo>
                    <a:pt x="3423" y="611"/>
                  </a:lnTo>
                  <a:lnTo>
                    <a:pt x="3328" y="518"/>
                  </a:lnTo>
                  <a:lnTo>
                    <a:pt x="3221" y="427"/>
                  </a:lnTo>
                  <a:lnTo>
                    <a:pt x="3108" y="346"/>
                  </a:lnTo>
                  <a:lnTo>
                    <a:pt x="2992" y="272"/>
                  </a:lnTo>
                  <a:lnTo>
                    <a:pt x="2873" y="211"/>
                  </a:lnTo>
                  <a:lnTo>
                    <a:pt x="2859" y="198"/>
                  </a:lnTo>
                  <a:lnTo>
                    <a:pt x="2817" y="169"/>
                  </a:lnTo>
                  <a:lnTo>
                    <a:pt x="2778" y="134"/>
                  </a:lnTo>
                  <a:lnTo>
                    <a:pt x="2748" y="109"/>
                  </a:lnTo>
                  <a:lnTo>
                    <a:pt x="2716" y="92"/>
                  </a:lnTo>
                  <a:lnTo>
                    <a:pt x="2680" y="79"/>
                  </a:lnTo>
                  <a:lnTo>
                    <a:pt x="2640" y="82"/>
                  </a:lnTo>
                  <a:lnTo>
                    <a:pt x="2603" y="92"/>
                  </a:lnTo>
                  <a:lnTo>
                    <a:pt x="2592" y="95"/>
                  </a:lnTo>
                  <a:lnTo>
                    <a:pt x="2585" y="67"/>
                  </a:lnTo>
                  <a:lnTo>
                    <a:pt x="2571" y="48"/>
                  </a:lnTo>
                  <a:lnTo>
                    <a:pt x="2551" y="35"/>
                  </a:lnTo>
                  <a:lnTo>
                    <a:pt x="2524" y="28"/>
                  </a:lnTo>
                  <a:lnTo>
                    <a:pt x="2506" y="28"/>
                  </a:lnTo>
                  <a:lnTo>
                    <a:pt x="2448" y="30"/>
                  </a:lnTo>
                  <a:lnTo>
                    <a:pt x="2302" y="25"/>
                  </a:lnTo>
                  <a:lnTo>
                    <a:pt x="2213" y="13"/>
                  </a:lnTo>
                  <a:lnTo>
                    <a:pt x="2073" y="0"/>
                  </a:lnTo>
                  <a:lnTo>
                    <a:pt x="1947" y="0"/>
                  </a:lnTo>
                  <a:lnTo>
                    <a:pt x="1809" y="11"/>
                  </a:lnTo>
                  <a:lnTo>
                    <a:pt x="1672" y="25"/>
                  </a:lnTo>
                  <a:lnTo>
                    <a:pt x="1538" y="55"/>
                  </a:lnTo>
                  <a:lnTo>
                    <a:pt x="1405" y="92"/>
                  </a:lnTo>
                  <a:lnTo>
                    <a:pt x="1275" y="137"/>
                  </a:lnTo>
                  <a:lnTo>
                    <a:pt x="1149" y="190"/>
                  </a:lnTo>
                  <a:lnTo>
                    <a:pt x="1026" y="252"/>
                  </a:lnTo>
                  <a:lnTo>
                    <a:pt x="908" y="323"/>
                  </a:lnTo>
                  <a:lnTo>
                    <a:pt x="794" y="400"/>
                  </a:lnTo>
                  <a:lnTo>
                    <a:pt x="685" y="486"/>
                  </a:lnTo>
                  <a:lnTo>
                    <a:pt x="587" y="582"/>
                  </a:lnTo>
                  <a:lnTo>
                    <a:pt x="491" y="683"/>
                  </a:lnTo>
                  <a:lnTo>
                    <a:pt x="404" y="789"/>
                  </a:lnTo>
                  <a:lnTo>
                    <a:pt x="326" y="901"/>
                  </a:lnTo>
                  <a:lnTo>
                    <a:pt x="257" y="1021"/>
                  </a:lnTo>
                  <a:lnTo>
                    <a:pt x="190" y="1142"/>
                  </a:lnTo>
                  <a:lnTo>
                    <a:pt x="139" y="1270"/>
                  </a:lnTo>
                  <a:lnTo>
                    <a:pt x="91" y="1400"/>
                  </a:lnTo>
                  <a:lnTo>
                    <a:pt x="10" y="1614"/>
                  </a:lnTo>
                  <a:lnTo>
                    <a:pt x="5" y="1637"/>
                  </a:lnTo>
                  <a:lnTo>
                    <a:pt x="8" y="1663"/>
                  </a:lnTo>
                  <a:lnTo>
                    <a:pt x="21" y="1689"/>
                  </a:lnTo>
                  <a:lnTo>
                    <a:pt x="28" y="1696"/>
                  </a:lnTo>
                  <a:lnTo>
                    <a:pt x="10" y="1714"/>
                  </a:lnTo>
                  <a:lnTo>
                    <a:pt x="3" y="1735"/>
                  </a:lnTo>
                  <a:lnTo>
                    <a:pt x="0" y="1760"/>
                  </a:lnTo>
                  <a:lnTo>
                    <a:pt x="3" y="1846"/>
                  </a:lnTo>
                  <a:lnTo>
                    <a:pt x="5" y="1935"/>
                  </a:lnTo>
                  <a:lnTo>
                    <a:pt x="5" y="2058"/>
                  </a:lnTo>
                  <a:lnTo>
                    <a:pt x="16" y="2209"/>
                  </a:lnTo>
                  <a:lnTo>
                    <a:pt x="37" y="2344"/>
                  </a:lnTo>
                  <a:lnTo>
                    <a:pt x="67" y="2477"/>
                  </a:lnTo>
                  <a:lnTo>
                    <a:pt x="109" y="2610"/>
                  </a:lnTo>
                  <a:lnTo>
                    <a:pt x="156" y="2741"/>
                  </a:lnTo>
                  <a:lnTo>
                    <a:pt x="212" y="2864"/>
                  </a:lnTo>
                  <a:lnTo>
                    <a:pt x="276" y="2985"/>
                  </a:lnTo>
                  <a:lnTo>
                    <a:pt x="351" y="3101"/>
                  </a:lnTo>
                  <a:lnTo>
                    <a:pt x="434" y="3208"/>
                  </a:lnTo>
                  <a:lnTo>
                    <a:pt x="523" y="3317"/>
                  </a:lnTo>
                  <a:lnTo>
                    <a:pt x="622" y="3416"/>
                  </a:lnTo>
                  <a:lnTo>
                    <a:pt x="722" y="3507"/>
                  </a:lnTo>
                  <a:lnTo>
                    <a:pt x="834" y="3591"/>
                  </a:lnTo>
                  <a:lnTo>
                    <a:pt x="947" y="3667"/>
                  </a:lnTo>
                  <a:lnTo>
                    <a:pt x="1068" y="3733"/>
                  </a:lnTo>
                  <a:lnTo>
                    <a:pt x="1193" y="3795"/>
                  </a:lnTo>
                  <a:lnTo>
                    <a:pt x="1319" y="3847"/>
                  </a:lnTo>
                  <a:lnTo>
                    <a:pt x="1452" y="3886"/>
                  </a:lnTo>
                  <a:lnTo>
                    <a:pt x="1585" y="3921"/>
                  </a:lnTo>
                  <a:lnTo>
                    <a:pt x="1714" y="3951"/>
                  </a:lnTo>
                  <a:lnTo>
                    <a:pt x="1765" y="3963"/>
                  </a:lnTo>
                  <a:lnTo>
                    <a:pt x="1816" y="3963"/>
                  </a:lnTo>
                  <a:lnTo>
                    <a:pt x="1868" y="3955"/>
                  </a:lnTo>
                  <a:lnTo>
                    <a:pt x="1920" y="3938"/>
                  </a:lnTo>
                  <a:lnTo>
                    <a:pt x="1930" y="3933"/>
                  </a:lnTo>
                  <a:lnTo>
                    <a:pt x="1969" y="3963"/>
                  </a:lnTo>
                  <a:lnTo>
                    <a:pt x="2016" y="3979"/>
                  </a:lnTo>
                  <a:lnTo>
                    <a:pt x="2063" y="3988"/>
                  </a:lnTo>
                  <a:lnTo>
                    <a:pt x="2100" y="3988"/>
                  </a:lnTo>
                  <a:lnTo>
                    <a:pt x="2149" y="3979"/>
                  </a:lnTo>
                  <a:lnTo>
                    <a:pt x="2188" y="3963"/>
                  </a:lnTo>
                  <a:lnTo>
                    <a:pt x="2225" y="3951"/>
                  </a:lnTo>
                  <a:lnTo>
                    <a:pt x="2260" y="3946"/>
                  </a:lnTo>
                  <a:lnTo>
                    <a:pt x="2393" y="3921"/>
                  </a:lnTo>
                  <a:lnTo>
                    <a:pt x="2529" y="3886"/>
                  </a:lnTo>
                  <a:lnTo>
                    <a:pt x="2659" y="3844"/>
                  </a:lnTo>
                  <a:lnTo>
                    <a:pt x="2790" y="3793"/>
                  </a:lnTo>
                  <a:lnTo>
                    <a:pt x="2915" y="3733"/>
                  </a:lnTo>
                  <a:lnTo>
                    <a:pt x="3034" y="3665"/>
                  </a:lnTo>
                  <a:lnTo>
                    <a:pt x="3147" y="3591"/>
                  </a:lnTo>
                  <a:lnTo>
                    <a:pt x="3258" y="3505"/>
                  </a:lnTo>
                  <a:lnTo>
                    <a:pt x="3361" y="3413"/>
                  </a:lnTo>
                  <a:lnTo>
                    <a:pt x="3458" y="3315"/>
                  </a:lnTo>
                  <a:lnTo>
                    <a:pt x="3547" y="3208"/>
                  </a:lnTo>
                  <a:lnTo>
                    <a:pt x="3625" y="3101"/>
                  </a:lnTo>
                  <a:lnTo>
                    <a:pt x="3700" y="2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59720" y="4659840"/>
              <a:ext cx="988200" cy="633960"/>
            </a:xfrm>
            <a:custGeom>
              <a:avLst/>
              <a:gdLst/>
              <a:ahLst/>
              <a:rect l="l" t="t" r="r" b="b"/>
              <a:pathLst>
                <a:path w="3960" h="2464">
                  <a:moveTo>
                    <a:pt x="3700" y="1458"/>
                  </a:moveTo>
                  <a:lnTo>
                    <a:pt x="3798" y="1315"/>
                  </a:lnTo>
                  <a:lnTo>
                    <a:pt x="3815" y="1286"/>
                  </a:lnTo>
                  <a:lnTo>
                    <a:pt x="3825" y="1254"/>
                  </a:lnTo>
                  <a:lnTo>
                    <a:pt x="3823" y="1219"/>
                  </a:lnTo>
                  <a:lnTo>
                    <a:pt x="3850" y="1199"/>
                  </a:lnTo>
                  <a:lnTo>
                    <a:pt x="3872" y="1175"/>
                  </a:lnTo>
                  <a:lnTo>
                    <a:pt x="3884" y="1143"/>
                  </a:lnTo>
                  <a:lnTo>
                    <a:pt x="3894" y="1110"/>
                  </a:lnTo>
                  <a:lnTo>
                    <a:pt x="3909" y="950"/>
                  </a:lnTo>
                  <a:lnTo>
                    <a:pt x="3939" y="817"/>
                  </a:lnTo>
                  <a:lnTo>
                    <a:pt x="3960" y="685"/>
                  </a:lnTo>
                  <a:lnTo>
                    <a:pt x="3798" y="590"/>
                  </a:lnTo>
                  <a:lnTo>
                    <a:pt x="3556" y="497"/>
                  </a:lnTo>
                  <a:lnTo>
                    <a:pt x="3249" y="401"/>
                  </a:lnTo>
                  <a:lnTo>
                    <a:pt x="2820" y="295"/>
                  </a:lnTo>
                  <a:lnTo>
                    <a:pt x="2337" y="214"/>
                  </a:lnTo>
                  <a:lnTo>
                    <a:pt x="1844" y="132"/>
                  </a:lnTo>
                  <a:lnTo>
                    <a:pt x="1454" y="81"/>
                  </a:lnTo>
                  <a:lnTo>
                    <a:pt x="1026" y="14"/>
                  </a:lnTo>
                  <a:lnTo>
                    <a:pt x="624" y="0"/>
                  </a:lnTo>
                  <a:lnTo>
                    <a:pt x="247" y="27"/>
                  </a:lnTo>
                  <a:lnTo>
                    <a:pt x="10" y="90"/>
                  </a:lnTo>
                  <a:lnTo>
                    <a:pt x="5" y="113"/>
                  </a:lnTo>
                  <a:lnTo>
                    <a:pt x="8" y="139"/>
                  </a:lnTo>
                  <a:lnTo>
                    <a:pt x="21" y="165"/>
                  </a:lnTo>
                  <a:lnTo>
                    <a:pt x="28" y="172"/>
                  </a:lnTo>
                  <a:lnTo>
                    <a:pt x="10" y="190"/>
                  </a:lnTo>
                  <a:lnTo>
                    <a:pt x="3" y="211"/>
                  </a:lnTo>
                  <a:lnTo>
                    <a:pt x="0" y="236"/>
                  </a:lnTo>
                  <a:lnTo>
                    <a:pt x="3" y="322"/>
                  </a:lnTo>
                  <a:lnTo>
                    <a:pt x="5" y="411"/>
                  </a:lnTo>
                  <a:lnTo>
                    <a:pt x="5" y="534"/>
                  </a:lnTo>
                  <a:lnTo>
                    <a:pt x="16" y="685"/>
                  </a:lnTo>
                  <a:lnTo>
                    <a:pt x="37" y="820"/>
                  </a:lnTo>
                  <a:lnTo>
                    <a:pt x="67" y="953"/>
                  </a:lnTo>
                  <a:lnTo>
                    <a:pt x="109" y="1086"/>
                  </a:lnTo>
                  <a:lnTo>
                    <a:pt x="156" y="1217"/>
                  </a:lnTo>
                  <a:lnTo>
                    <a:pt x="212" y="1340"/>
                  </a:lnTo>
                  <a:lnTo>
                    <a:pt x="276" y="1461"/>
                  </a:lnTo>
                  <a:lnTo>
                    <a:pt x="351" y="1577"/>
                  </a:lnTo>
                  <a:lnTo>
                    <a:pt x="434" y="1684"/>
                  </a:lnTo>
                  <a:lnTo>
                    <a:pt x="523" y="1793"/>
                  </a:lnTo>
                  <a:lnTo>
                    <a:pt x="622" y="1892"/>
                  </a:lnTo>
                  <a:lnTo>
                    <a:pt x="722" y="1983"/>
                  </a:lnTo>
                  <a:lnTo>
                    <a:pt x="834" y="2067"/>
                  </a:lnTo>
                  <a:lnTo>
                    <a:pt x="947" y="2143"/>
                  </a:lnTo>
                  <a:lnTo>
                    <a:pt x="1068" y="2209"/>
                  </a:lnTo>
                  <a:lnTo>
                    <a:pt x="1193" y="2271"/>
                  </a:lnTo>
                  <a:lnTo>
                    <a:pt x="1319" y="2323"/>
                  </a:lnTo>
                  <a:lnTo>
                    <a:pt x="1452" y="2362"/>
                  </a:lnTo>
                  <a:lnTo>
                    <a:pt x="1585" y="2397"/>
                  </a:lnTo>
                  <a:lnTo>
                    <a:pt x="1714" y="2427"/>
                  </a:lnTo>
                  <a:lnTo>
                    <a:pt x="1765" y="2439"/>
                  </a:lnTo>
                  <a:lnTo>
                    <a:pt x="1816" y="2439"/>
                  </a:lnTo>
                  <a:lnTo>
                    <a:pt x="1868" y="2431"/>
                  </a:lnTo>
                  <a:lnTo>
                    <a:pt x="1920" y="2414"/>
                  </a:lnTo>
                  <a:lnTo>
                    <a:pt x="1930" y="2409"/>
                  </a:lnTo>
                  <a:lnTo>
                    <a:pt x="1969" y="2439"/>
                  </a:lnTo>
                  <a:lnTo>
                    <a:pt x="2016" y="2455"/>
                  </a:lnTo>
                  <a:lnTo>
                    <a:pt x="2063" y="2464"/>
                  </a:lnTo>
                  <a:lnTo>
                    <a:pt x="2100" y="2464"/>
                  </a:lnTo>
                  <a:lnTo>
                    <a:pt x="2149" y="2455"/>
                  </a:lnTo>
                  <a:lnTo>
                    <a:pt x="2188" y="2439"/>
                  </a:lnTo>
                  <a:lnTo>
                    <a:pt x="2225" y="2427"/>
                  </a:lnTo>
                  <a:lnTo>
                    <a:pt x="2260" y="2422"/>
                  </a:lnTo>
                  <a:lnTo>
                    <a:pt x="2393" y="2397"/>
                  </a:lnTo>
                  <a:lnTo>
                    <a:pt x="2529" y="2362"/>
                  </a:lnTo>
                  <a:lnTo>
                    <a:pt x="2659" y="2320"/>
                  </a:lnTo>
                  <a:lnTo>
                    <a:pt x="2790" y="2269"/>
                  </a:lnTo>
                  <a:lnTo>
                    <a:pt x="2915" y="2209"/>
                  </a:lnTo>
                  <a:lnTo>
                    <a:pt x="3034" y="2141"/>
                  </a:lnTo>
                  <a:lnTo>
                    <a:pt x="3147" y="2067"/>
                  </a:lnTo>
                  <a:lnTo>
                    <a:pt x="3258" y="1981"/>
                  </a:lnTo>
                  <a:lnTo>
                    <a:pt x="3361" y="1889"/>
                  </a:lnTo>
                  <a:lnTo>
                    <a:pt x="3458" y="1791"/>
                  </a:lnTo>
                  <a:lnTo>
                    <a:pt x="3547" y="1684"/>
                  </a:lnTo>
                  <a:lnTo>
                    <a:pt x="3625" y="1577"/>
                  </a:lnTo>
                  <a:lnTo>
                    <a:pt x="3700" y="1458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61880" y="4694400"/>
              <a:ext cx="34560" cy="320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139" y="62"/>
                  </a:moveTo>
                  <a:lnTo>
                    <a:pt x="30" y="0"/>
                  </a:lnTo>
                  <a:lnTo>
                    <a:pt x="0" y="59"/>
                  </a:lnTo>
                  <a:lnTo>
                    <a:pt x="109" y="120"/>
                  </a:lnTo>
                  <a:lnTo>
                    <a:pt x="139" y="6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88160" y="4710240"/>
              <a:ext cx="54000" cy="41400"/>
            </a:xfrm>
            <a:custGeom>
              <a:avLst/>
              <a:gdLst/>
              <a:ahLst/>
              <a:rect l="l" t="t" r="r" b="b"/>
              <a:pathLst>
                <a:path w="214" h="160">
                  <a:moveTo>
                    <a:pt x="214" y="103"/>
                  </a:moveTo>
                  <a:lnTo>
                    <a:pt x="212" y="100"/>
                  </a:lnTo>
                  <a:lnTo>
                    <a:pt x="30" y="0"/>
                  </a:lnTo>
                  <a:lnTo>
                    <a:pt x="0" y="58"/>
                  </a:lnTo>
                  <a:lnTo>
                    <a:pt x="183" y="160"/>
                  </a:lnTo>
                  <a:lnTo>
                    <a:pt x="179" y="158"/>
                  </a:lnTo>
                  <a:lnTo>
                    <a:pt x="214" y="103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3520" y="4737240"/>
              <a:ext cx="68040" cy="50400"/>
            </a:xfrm>
            <a:custGeom>
              <a:avLst/>
              <a:gdLst/>
              <a:ahLst/>
              <a:rect l="l" t="t" r="r" b="b"/>
              <a:pathLst>
                <a:path w="276" h="199">
                  <a:moveTo>
                    <a:pt x="276" y="150"/>
                  </a:moveTo>
                  <a:lnTo>
                    <a:pt x="272" y="148"/>
                  </a:lnTo>
                  <a:lnTo>
                    <a:pt x="35" y="0"/>
                  </a:lnTo>
                  <a:lnTo>
                    <a:pt x="0" y="55"/>
                  </a:lnTo>
                  <a:lnTo>
                    <a:pt x="237" y="199"/>
                  </a:lnTo>
                  <a:lnTo>
                    <a:pt x="232" y="197"/>
                  </a:lnTo>
                  <a:lnTo>
                    <a:pt x="276" y="15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91120" y="4775040"/>
              <a:ext cx="81720" cy="77400"/>
            </a:xfrm>
            <a:custGeom>
              <a:avLst/>
              <a:gdLst/>
              <a:ahLst/>
              <a:rect l="l" t="t" r="r" b="b"/>
              <a:pathLst>
                <a:path w="328" h="300">
                  <a:moveTo>
                    <a:pt x="328" y="251"/>
                  </a:moveTo>
                  <a:lnTo>
                    <a:pt x="44" y="0"/>
                  </a:lnTo>
                  <a:lnTo>
                    <a:pt x="0" y="47"/>
                  </a:lnTo>
                  <a:lnTo>
                    <a:pt x="284" y="300"/>
                  </a:lnTo>
                  <a:lnTo>
                    <a:pt x="328" y="251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2760" y="4840200"/>
              <a:ext cx="127440" cy="116640"/>
            </a:xfrm>
            <a:custGeom>
              <a:avLst/>
              <a:gdLst/>
              <a:ahLst/>
              <a:rect l="l" t="t" r="r" b="b"/>
              <a:pathLst>
                <a:path w="515" h="456">
                  <a:moveTo>
                    <a:pt x="515" y="409"/>
                  </a:moveTo>
                  <a:lnTo>
                    <a:pt x="512" y="407"/>
                  </a:lnTo>
                  <a:lnTo>
                    <a:pt x="44" y="0"/>
                  </a:lnTo>
                  <a:lnTo>
                    <a:pt x="0" y="49"/>
                  </a:lnTo>
                  <a:lnTo>
                    <a:pt x="468" y="456"/>
                  </a:lnTo>
                  <a:lnTo>
                    <a:pt x="466" y="454"/>
                  </a:lnTo>
                  <a:lnTo>
                    <a:pt x="515" y="409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77960" y="4946400"/>
              <a:ext cx="41760" cy="43200"/>
            </a:xfrm>
            <a:custGeom>
              <a:avLst/>
              <a:gdLst/>
              <a:ahLst/>
              <a:rect l="l" t="t" r="r" b="b"/>
              <a:pathLst>
                <a:path w="165" h="168">
                  <a:moveTo>
                    <a:pt x="165" y="124"/>
                  </a:moveTo>
                  <a:lnTo>
                    <a:pt x="49" y="0"/>
                  </a:lnTo>
                  <a:lnTo>
                    <a:pt x="0" y="45"/>
                  </a:lnTo>
                  <a:lnTo>
                    <a:pt x="116" y="168"/>
                  </a:lnTo>
                  <a:lnTo>
                    <a:pt x="165" y="12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07480" y="4977000"/>
              <a:ext cx="64440" cy="75240"/>
            </a:xfrm>
            <a:custGeom>
              <a:avLst/>
              <a:gdLst/>
              <a:ahLst/>
              <a:rect l="l" t="t" r="r" b="b"/>
              <a:pathLst>
                <a:path w="263" h="293">
                  <a:moveTo>
                    <a:pt x="263" y="254"/>
                  </a:moveTo>
                  <a:lnTo>
                    <a:pt x="260" y="248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211" y="293"/>
                  </a:lnTo>
                  <a:lnTo>
                    <a:pt x="209" y="288"/>
                  </a:lnTo>
                  <a:lnTo>
                    <a:pt x="263" y="25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60040" y="5043600"/>
              <a:ext cx="62640" cy="82800"/>
            </a:xfrm>
            <a:custGeom>
              <a:avLst/>
              <a:gdLst/>
              <a:ahLst/>
              <a:rect l="l" t="t" r="r" b="b"/>
              <a:pathLst>
                <a:path w="254" h="325">
                  <a:moveTo>
                    <a:pt x="254" y="295"/>
                  </a:moveTo>
                  <a:lnTo>
                    <a:pt x="251" y="291"/>
                  </a:lnTo>
                  <a:lnTo>
                    <a:pt x="54" y="0"/>
                  </a:lnTo>
                  <a:lnTo>
                    <a:pt x="0" y="34"/>
                  </a:lnTo>
                  <a:lnTo>
                    <a:pt x="197" y="325"/>
                  </a:lnTo>
                  <a:lnTo>
                    <a:pt x="195" y="319"/>
                  </a:lnTo>
                  <a:lnTo>
                    <a:pt x="254" y="295"/>
                  </a:lnTo>
                  <a:lnTo>
                    <a:pt x="254" y="293"/>
                  </a:lnTo>
                  <a:lnTo>
                    <a:pt x="251" y="291"/>
                  </a:lnTo>
                  <a:lnTo>
                    <a:pt x="254" y="295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09000" y="5119200"/>
              <a:ext cx="39960" cy="7200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67" y="264"/>
                  </a:moveTo>
                  <a:lnTo>
                    <a:pt x="165" y="256"/>
                  </a:lnTo>
                  <a:lnTo>
                    <a:pt x="59" y="0"/>
                  </a:lnTo>
                  <a:lnTo>
                    <a:pt x="0" y="24"/>
                  </a:lnTo>
                  <a:lnTo>
                    <a:pt x="105" y="281"/>
                  </a:lnTo>
                  <a:lnTo>
                    <a:pt x="103" y="274"/>
                  </a:lnTo>
                  <a:lnTo>
                    <a:pt x="167" y="264"/>
                  </a:lnTo>
                  <a:lnTo>
                    <a:pt x="167" y="259"/>
                  </a:lnTo>
                  <a:lnTo>
                    <a:pt x="165" y="256"/>
                  </a:lnTo>
                  <a:lnTo>
                    <a:pt x="167" y="26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33120" y="5187960"/>
              <a:ext cx="28080" cy="55440"/>
            </a:xfrm>
            <a:custGeom>
              <a:avLst/>
              <a:gdLst/>
              <a:ahLst/>
              <a:rect l="l" t="t" r="r" b="b"/>
              <a:pathLst>
                <a:path w="109" h="219">
                  <a:moveTo>
                    <a:pt x="106" y="217"/>
                  </a:moveTo>
                  <a:lnTo>
                    <a:pt x="106" y="210"/>
                  </a:lnTo>
                  <a:lnTo>
                    <a:pt x="64" y="0"/>
                  </a:lnTo>
                  <a:lnTo>
                    <a:pt x="0" y="10"/>
                  </a:lnTo>
                  <a:lnTo>
                    <a:pt x="42" y="219"/>
                  </a:lnTo>
                  <a:lnTo>
                    <a:pt x="42" y="212"/>
                  </a:lnTo>
                  <a:lnTo>
                    <a:pt x="106" y="217"/>
                  </a:lnTo>
                  <a:lnTo>
                    <a:pt x="109" y="215"/>
                  </a:lnTo>
                  <a:lnTo>
                    <a:pt x="106" y="210"/>
                  </a:lnTo>
                  <a:lnTo>
                    <a:pt x="106" y="217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41760" y="5241960"/>
              <a:ext cx="17640" cy="266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2" y="103"/>
                  </a:moveTo>
                  <a:lnTo>
                    <a:pt x="65" y="91"/>
                  </a:lnTo>
                  <a:lnTo>
                    <a:pt x="74" y="5"/>
                  </a:lnTo>
                  <a:lnTo>
                    <a:pt x="10" y="0"/>
                  </a:lnTo>
                  <a:lnTo>
                    <a:pt x="0" y="86"/>
                  </a:lnTo>
                  <a:lnTo>
                    <a:pt x="2" y="73"/>
                  </a:lnTo>
                  <a:lnTo>
                    <a:pt x="62" y="103"/>
                  </a:lnTo>
                  <a:lnTo>
                    <a:pt x="65" y="98"/>
                  </a:lnTo>
                  <a:lnTo>
                    <a:pt x="65" y="91"/>
                  </a:lnTo>
                  <a:lnTo>
                    <a:pt x="62" y="103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35280" y="5259960"/>
              <a:ext cx="22320" cy="2304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30" y="72"/>
                  </a:moveTo>
                  <a:lnTo>
                    <a:pt x="60" y="87"/>
                  </a:lnTo>
                  <a:lnTo>
                    <a:pt x="92" y="30"/>
                  </a:lnTo>
                  <a:lnTo>
                    <a:pt x="32" y="0"/>
                  </a:lnTo>
                  <a:lnTo>
                    <a:pt x="0" y="58"/>
                  </a:lnTo>
                  <a:lnTo>
                    <a:pt x="30" y="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78200" y="4366080"/>
              <a:ext cx="26280" cy="86400"/>
            </a:xfrm>
            <a:custGeom>
              <a:avLst/>
              <a:gdLst/>
              <a:ahLst/>
              <a:rect l="l" t="t" r="r" b="b"/>
              <a:pathLst>
                <a:path w="105" h="330">
                  <a:moveTo>
                    <a:pt x="105" y="321"/>
                  </a:moveTo>
                  <a:lnTo>
                    <a:pt x="105" y="323"/>
                  </a:lnTo>
                  <a:lnTo>
                    <a:pt x="63" y="0"/>
                  </a:lnTo>
                  <a:lnTo>
                    <a:pt x="0" y="5"/>
                  </a:lnTo>
                  <a:lnTo>
                    <a:pt x="41" y="328"/>
                  </a:lnTo>
                  <a:lnTo>
                    <a:pt x="41" y="330"/>
                  </a:lnTo>
                  <a:lnTo>
                    <a:pt x="105" y="3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88640" y="4449240"/>
              <a:ext cx="30960" cy="86040"/>
            </a:xfrm>
            <a:custGeom>
              <a:avLst/>
              <a:gdLst/>
              <a:ahLst/>
              <a:rect l="l" t="t" r="r" b="b"/>
              <a:pathLst>
                <a:path w="124" h="337">
                  <a:moveTo>
                    <a:pt x="124" y="322"/>
                  </a:moveTo>
                  <a:lnTo>
                    <a:pt x="124" y="325"/>
                  </a:lnTo>
                  <a:lnTo>
                    <a:pt x="64" y="0"/>
                  </a:lnTo>
                  <a:lnTo>
                    <a:pt x="0" y="9"/>
                  </a:lnTo>
                  <a:lnTo>
                    <a:pt x="59" y="334"/>
                  </a:lnTo>
                  <a:lnTo>
                    <a:pt x="59" y="337"/>
                  </a:lnTo>
                  <a:lnTo>
                    <a:pt x="124" y="32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02680" y="4532040"/>
              <a:ext cx="40320" cy="98640"/>
            </a:xfrm>
            <a:custGeom>
              <a:avLst/>
              <a:gdLst/>
              <a:ahLst/>
              <a:rect l="l" t="t" r="r" b="b"/>
              <a:pathLst>
                <a:path w="158" h="384">
                  <a:moveTo>
                    <a:pt x="158" y="365"/>
                  </a:moveTo>
                  <a:lnTo>
                    <a:pt x="158" y="368"/>
                  </a:lnTo>
                  <a:lnTo>
                    <a:pt x="65" y="0"/>
                  </a:lnTo>
                  <a:lnTo>
                    <a:pt x="0" y="15"/>
                  </a:lnTo>
                  <a:lnTo>
                    <a:pt x="93" y="382"/>
                  </a:lnTo>
                  <a:lnTo>
                    <a:pt x="93" y="384"/>
                  </a:lnTo>
                  <a:lnTo>
                    <a:pt x="158" y="36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27160" y="4625640"/>
              <a:ext cx="36720" cy="64800"/>
            </a:xfrm>
            <a:custGeom>
              <a:avLst/>
              <a:gdLst/>
              <a:ahLst/>
              <a:rect l="l" t="t" r="r" b="b"/>
              <a:pathLst>
                <a:path w="151" h="251">
                  <a:moveTo>
                    <a:pt x="149" y="226"/>
                  </a:moveTo>
                  <a:lnTo>
                    <a:pt x="151" y="231"/>
                  </a:lnTo>
                  <a:lnTo>
                    <a:pt x="65" y="0"/>
                  </a:lnTo>
                  <a:lnTo>
                    <a:pt x="0" y="19"/>
                  </a:lnTo>
                  <a:lnTo>
                    <a:pt x="87" y="246"/>
                  </a:lnTo>
                  <a:lnTo>
                    <a:pt x="90" y="251"/>
                  </a:lnTo>
                  <a:lnTo>
                    <a:pt x="149" y="22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49840" y="4685040"/>
              <a:ext cx="59400" cy="93960"/>
            </a:xfrm>
            <a:custGeom>
              <a:avLst/>
              <a:gdLst/>
              <a:ahLst/>
              <a:rect l="l" t="t" r="r" b="b"/>
              <a:pathLst>
                <a:path w="241" h="365">
                  <a:moveTo>
                    <a:pt x="239" y="330"/>
                  </a:moveTo>
                  <a:lnTo>
                    <a:pt x="241" y="333"/>
                  </a:lnTo>
                  <a:lnTo>
                    <a:pt x="59" y="0"/>
                  </a:lnTo>
                  <a:lnTo>
                    <a:pt x="0" y="25"/>
                  </a:lnTo>
                  <a:lnTo>
                    <a:pt x="182" y="363"/>
                  </a:lnTo>
                  <a:lnTo>
                    <a:pt x="184" y="365"/>
                  </a:lnTo>
                  <a:lnTo>
                    <a:pt x="239" y="33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95200" y="4770000"/>
              <a:ext cx="62640" cy="91800"/>
            </a:xfrm>
            <a:custGeom>
              <a:avLst/>
              <a:gdLst/>
              <a:ahLst/>
              <a:rect l="l" t="t" r="r" b="b"/>
              <a:pathLst>
                <a:path w="251" h="360">
                  <a:moveTo>
                    <a:pt x="249" y="316"/>
                  </a:moveTo>
                  <a:lnTo>
                    <a:pt x="251" y="321"/>
                  </a:lnTo>
                  <a:lnTo>
                    <a:pt x="55" y="0"/>
                  </a:lnTo>
                  <a:lnTo>
                    <a:pt x="0" y="35"/>
                  </a:lnTo>
                  <a:lnTo>
                    <a:pt x="197" y="355"/>
                  </a:lnTo>
                  <a:lnTo>
                    <a:pt x="200" y="360"/>
                  </a:lnTo>
                  <a:lnTo>
                    <a:pt x="197" y="355"/>
                  </a:lnTo>
                  <a:lnTo>
                    <a:pt x="197" y="358"/>
                  </a:lnTo>
                  <a:lnTo>
                    <a:pt x="200" y="360"/>
                  </a:lnTo>
                  <a:lnTo>
                    <a:pt x="249" y="31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44160" y="4850640"/>
              <a:ext cx="54000" cy="61200"/>
            </a:xfrm>
            <a:custGeom>
              <a:avLst/>
              <a:gdLst/>
              <a:ahLst/>
              <a:rect l="l" t="t" r="r" b="b"/>
              <a:pathLst>
                <a:path w="216" h="237">
                  <a:moveTo>
                    <a:pt x="211" y="183"/>
                  </a:moveTo>
                  <a:lnTo>
                    <a:pt x="216" y="188"/>
                  </a:lnTo>
                  <a:lnTo>
                    <a:pt x="49" y="0"/>
                  </a:lnTo>
                  <a:lnTo>
                    <a:pt x="0" y="44"/>
                  </a:lnTo>
                  <a:lnTo>
                    <a:pt x="167" y="232"/>
                  </a:lnTo>
                  <a:lnTo>
                    <a:pt x="172" y="237"/>
                  </a:lnTo>
                  <a:lnTo>
                    <a:pt x="167" y="232"/>
                  </a:lnTo>
                  <a:lnTo>
                    <a:pt x="170" y="234"/>
                  </a:lnTo>
                  <a:lnTo>
                    <a:pt x="172" y="237"/>
                  </a:lnTo>
                  <a:lnTo>
                    <a:pt x="211" y="18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8080" y="4897800"/>
              <a:ext cx="59400" cy="53640"/>
            </a:xfrm>
            <a:custGeom>
              <a:avLst/>
              <a:gdLst/>
              <a:ahLst/>
              <a:rect l="l" t="t" r="r" b="b"/>
              <a:pathLst>
                <a:path w="237" h="207">
                  <a:moveTo>
                    <a:pt x="230" y="147"/>
                  </a:moveTo>
                  <a:lnTo>
                    <a:pt x="237" y="149"/>
                  </a:lnTo>
                  <a:lnTo>
                    <a:pt x="39" y="0"/>
                  </a:lnTo>
                  <a:lnTo>
                    <a:pt x="0" y="54"/>
                  </a:lnTo>
                  <a:lnTo>
                    <a:pt x="197" y="204"/>
                  </a:lnTo>
                  <a:lnTo>
                    <a:pt x="204" y="207"/>
                  </a:lnTo>
                  <a:lnTo>
                    <a:pt x="197" y="204"/>
                  </a:lnTo>
                  <a:lnTo>
                    <a:pt x="200" y="207"/>
                  </a:lnTo>
                  <a:lnTo>
                    <a:pt x="204" y="207"/>
                  </a:lnTo>
                  <a:lnTo>
                    <a:pt x="230" y="14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120" y="4935240"/>
              <a:ext cx="52560" cy="37800"/>
            </a:xfrm>
            <a:custGeom>
              <a:avLst/>
              <a:gdLst/>
              <a:ahLst/>
              <a:rect l="l" t="t" r="r" b="b"/>
              <a:pathLst>
                <a:path w="208" h="143">
                  <a:moveTo>
                    <a:pt x="203" y="79"/>
                  </a:moveTo>
                  <a:lnTo>
                    <a:pt x="208" y="81"/>
                  </a:lnTo>
                  <a:lnTo>
                    <a:pt x="26" y="0"/>
                  </a:lnTo>
                  <a:lnTo>
                    <a:pt x="0" y="60"/>
                  </a:lnTo>
                  <a:lnTo>
                    <a:pt x="183" y="141"/>
                  </a:lnTo>
                  <a:lnTo>
                    <a:pt x="188" y="143"/>
                  </a:lnTo>
                  <a:lnTo>
                    <a:pt x="203" y="7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85640" y="4955400"/>
              <a:ext cx="29520" cy="25200"/>
            </a:xfrm>
            <a:custGeom>
              <a:avLst/>
              <a:gdLst/>
              <a:ahLst/>
              <a:rect l="l" t="t" r="r" b="b"/>
              <a:pathLst>
                <a:path w="118" h="94">
                  <a:moveTo>
                    <a:pt x="111" y="62"/>
                  </a:moveTo>
                  <a:lnTo>
                    <a:pt x="118" y="30"/>
                  </a:lnTo>
                  <a:lnTo>
                    <a:pt x="15" y="0"/>
                  </a:lnTo>
                  <a:lnTo>
                    <a:pt x="0" y="64"/>
                  </a:lnTo>
                  <a:lnTo>
                    <a:pt x="104" y="94"/>
                  </a:lnTo>
                  <a:lnTo>
                    <a:pt x="111" y="6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96760" y="5249160"/>
              <a:ext cx="102960" cy="21600"/>
            </a:xfrm>
            <a:custGeom>
              <a:avLst/>
              <a:gdLst/>
              <a:ahLst/>
              <a:rect l="l" t="t" r="r" b="b"/>
              <a:pathLst>
                <a:path w="413" h="84">
                  <a:moveTo>
                    <a:pt x="216" y="84"/>
                  </a:moveTo>
                  <a:lnTo>
                    <a:pt x="268" y="84"/>
                  </a:lnTo>
                  <a:lnTo>
                    <a:pt x="317" y="82"/>
                  </a:lnTo>
                  <a:lnTo>
                    <a:pt x="364" y="70"/>
                  </a:lnTo>
                  <a:lnTo>
                    <a:pt x="411" y="42"/>
                  </a:lnTo>
                  <a:lnTo>
                    <a:pt x="413" y="33"/>
                  </a:lnTo>
                  <a:lnTo>
                    <a:pt x="406" y="18"/>
                  </a:lnTo>
                  <a:lnTo>
                    <a:pt x="356" y="26"/>
                  </a:lnTo>
                  <a:lnTo>
                    <a:pt x="314" y="40"/>
                  </a:lnTo>
                  <a:lnTo>
                    <a:pt x="260" y="48"/>
                  </a:lnTo>
                  <a:lnTo>
                    <a:pt x="206" y="35"/>
                  </a:lnTo>
                  <a:lnTo>
                    <a:pt x="160" y="23"/>
                  </a:lnTo>
                  <a:lnTo>
                    <a:pt x="110" y="18"/>
                  </a:lnTo>
                  <a:lnTo>
                    <a:pt x="63" y="11"/>
                  </a:lnTo>
                  <a:lnTo>
                    <a:pt x="16" y="0"/>
                  </a:lnTo>
                  <a:lnTo>
                    <a:pt x="7" y="11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9" y="42"/>
                  </a:lnTo>
                  <a:lnTo>
                    <a:pt x="216" y="84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03600" y="5227560"/>
              <a:ext cx="108360" cy="21600"/>
            </a:xfrm>
            <a:custGeom>
              <a:avLst/>
              <a:gdLst/>
              <a:ahLst/>
              <a:rect l="l" t="t" r="r" b="b"/>
              <a:pathLst>
                <a:path w="434" h="86">
                  <a:moveTo>
                    <a:pt x="165" y="86"/>
                  </a:moveTo>
                  <a:lnTo>
                    <a:pt x="237" y="86"/>
                  </a:lnTo>
                  <a:lnTo>
                    <a:pt x="306" y="84"/>
                  </a:lnTo>
                  <a:lnTo>
                    <a:pt x="378" y="67"/>
                  </a:lnTo>
                  <a:lnTo>
                    <a:pt x="434" y="23"/>
                  </a:lnTo>
                  <a:lnTo>
                    <a:pt x="427" y="10"/>
                  </a:lnTo>
                  <a:lnTo>
                    <a:pt x="411" y="0"/>
                  </a:lnTo>
                  <a:lnTo>
                    <a:pt x="367" y="23"/>
                  </a:lnTo>
                  <a:lnTo>
                    <a:pt x="318" y="39"/>
                  </a:lnTo>
                  <a:lnTo>
                    <a:pt x="274" y="47"/>
                  </a:lnTo>
                  <a:lnTo>
                    <a:pt x="222" y="49"/>
                  </a:lnTo>
                  <a:lnTo>
                    <a:pt x="170" y="44"/>
                  </a:lnTo>
                  <a:lnTo>
                    <a:pt x="116" y="37"/>
                  </a:lnTo>
                  <a:lnTo>
                    <a:pt x="65" y="25"/>
                  </a:lnTo>
                  <a:lnTo>
                    <a:pt x="15" y="7"/>
                  </a:lnTo>
                  <a:lnTo>
                    <a:pt x="7" y="18"/>
                  </a:lnTo>
                  <a:lnTo>
                    <a:pt x="0" y="30"/>
                  </a:lnTo>
                  <a:lnTo>
                    <a:pt x="35" y="55"/>
                  </a:lnTo>
                  <a:lnTo>
                    <a:pt x="77" y="74"/>
                  </a:lnTo>
                  <a:lnTo>
                    <a:pt x="118" y="86"/>
                  </a:lnTo>
                  <a:lnTo>
                    <a:pt x="165" y="8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01800" y="5198400"/>
              <a:ext cx="109800" cy="25200"/>
            </a:xfrm>
            <a:custGeom>
              <a:avLst/>
              <a:gdLst/>
              <a:ahLst/>
              <a:rect l="l" t="t" r="r" b="b"/>
              <a:pathLst>
                <a:path w="441" h="101">
                  <a:moveTo>
                    <a:pt x="52" y="99"/>
                  </a:moveTo>
                  <a:lnTo>
                    <a:pt x="104" y="99"/>
                  </a:lnTo>
                  <a:lnTo>
                    <a:pt x="156" y="99"/>
                  </a:lnTo>
                  <a:lnTo>
                    <a:pt x="207" y="101"/>
                  </a:lnTo>
                  <a:lnTo>
                    <a:pt x="262" y="99"/>
                  </a:lnTo>
                  <a:lnTo>
                    <a:pt x="304" y="94"/>
                  </a:lnTo>
                  <a:lnTo>
                    <a:pt x="353" y="81"/>
                  </a:lnTo>
                  <a:lnTo>
                    <a:pt x="397" y="64"/>
                  </a:lnTo>
                  <a:lnTo>
                    <a:pt x="439" y="34"/>
                  </a:lnTo>
                  <a:lnTo>
                    <a:pt x="441" y="18"/>
                  </a:lnTo>
                  <a:lnTo>
                    <a:pt x="432" y="8"/>
                  </a:lnTo>
                  <a:lnTo>
                    <a:pt x="427" y="6"/>
                  </a:lnTo>
                  <a:lnTo>
                    <a:pt x="416" y="0"/>
                  </a:lnTo>
                  <a:lnTo>
                    <a:pt x="372" y="27"/>
                  </a:lnTo>
                  <a:lnTo>
                    <a:pt x="325" y="45"/>
                  </a:lnTo>
                  <a:lnTo>
                    <a:pt x="281" y="55"/>
                  </a:lnTo>
                  <a:lnTo>
                    <a:pt x="227" y="60"/>
                  </a:lnTo>
                  <a:lnTo>
                    <a:pt x="172" y="60"/>
                  </a:lnTo>
                  <a:lnTo>
                    <a:pt x="119" y="57"/>
                  </a:lnTo>
                  <a:lnTo>
                    <a:pt x="65" y="57"/>
                  </a:lnTo>
                  <a:lnTo>
                    <a:pt x="12" y="60"/>
                  </a:lnTo>
                  <a:lnTo>
                    <a:pt x="0" y="67"/>
                  </a:lnTo>
                  <a:lnTo>
                    <a:pt x="3" y="85"/>
                  </a:lnTo>
                  <a:lnTo>
                    <a:pt x="5" y="89"/>
                  </a:lnTo>
                  <a:lnTo>
                    <a:pt x="12" y="94"/>
                  </a:lnTo>
                  <a:lnTo>
                    <a:pt x="32" y="99"/>
                  </a:lnTo>
                  <a:lnTo>
                    <a:pt x="52" y="99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85960" y="5175360"/>
              <a:ext cx="117000" cy="26640"/>
            </a:xfrm>
            <a:custGeom>
              <a:avLst/>
              <a:gdLst/>
              <a:ahLst/>
              <a:rect l="l" t="t" r="r" b="b"/>
              <a:pathLst>
                <a:path w="474" h="109">
                  <a:moveTo>
                    <a:pt x="178" y="109"/>
                  </a:moveTo>
                  <a:lnTo>
                    <a:pt x="467" y="35"/>
                  </a:lnTo>
                  <a:lnTo>
                    <a:pt x="474" y="20"/>
                  </a:lnTo>
                  <a:lnTo>
                    <a:pt x="471" y="0"/>
                  </a:lnTo>
                  <a:lnTo>
                    <a:pt x="417" y="13"/>
                  </a:lnTo>
                  <a:lnTo>
                    <a:pt x="363" y="27"/>
                  </a:lnTo>
                  <a:lnTo>
                    <a:pt x="309" y="39"/>
                  </a:lnTo>
                  <a:lnTo>
                    <a:pt x="250" y="49"/>
                  </a:lnTo>
                  <a:lnTo>
                    <a:pt x="190" y="57"/>
                  </a:lnTo>
                  <a:lnTo>
                    <a:pt x="132" y="62"/>
                  </a:lnTo>
                  <a:lnTo>
                    <a:pt x="72" y="60"/>
                  </a:lnTo>
                  <a:lnTo>
                    <a:pt x="13" y="49"/>
                  </a:lnTo>
                  <a:lnTo>
                    <a:pt x="0" y="64"/>
                  </a:lnTo>
                  <a:lnTo>
                    <a:pt x="0" y="91"/>
                  </a:lnTo>
                  <a:lnTo>
                    <a:pt x="178" y="109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75880" y="5139360"/>
              <a:ext cx="118800" cy="41040"/>
            </a:xfrm>
            <a:custGeom>
              <a:avLst/>
              <a:gdLst/>
              <a:ahLst/>
              <a:rect l="l" t="t" r="r" b="b"/>
              <a:pathLst>
                <a:path w="481" h="165">
                  <a:moveTo>
                    <a:pt x="230" y="165"/>
                  </a:moveTo>
                  <a:lnTo>
                    <a:pt x="299" y="142"/>
                  </a:lnTo>
                  <a:lnTo>
                    <a:pt x="360" y="105"/>
                  </a:lnTo>
                  <a:lnTo>
                    <a:pt x="413" y="63"/>
                  </a:lnTo>
                  <a:lnTo>
                    <a:pt x="476" y="24"/>
                  </a:lnTo>
                  <a:lnTo>
                    <a:pt x="481" y="14"/>
                  </a:lnTo>
                  <a:lnTo>
                    <a:pt x="476" y="0"/>
                  </a:lnTo>
                  <a:lnTo>
                    <a:pt x="413" y="14"/>
                  </a:lnTo>
                  <a:lnTo>
                    <a:pt x="360" y="51"/>
                  </a:lnTo>
                  <a:lnTo>
                    <a:pt x="302" y="93"/>
                  </a:lnTo>
                  <a:lnTo>
                    <a:pt x="235" y="125"/>
                  </a:lnTo>
                  <a:lnTo>
                    <a:pt x="13" y="100"/>
                  </a:lnTo>
                  <a:lnTo>
                    <a:pt x="3" y="108"/>
                  </a:lnTo>
                  <a:lnTo>
                    <a:pt x="0" y="125"/>
                  </a:lnTo>
                  <a:lnTo>
                    <a:pt x="6" y="130"/>
                  </a:lnTo>
                  <a:lnTo>
                    <a:pt x="13" y="135"/>
                  </a:lnTo>
                  <a:lnTo>
                    <a:pt x="230" y="165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60040" y="5106600"/>
              <a:ext cx="123840" cy="45000"/>
            </a:xfrm>
            <a:custGeom>
              <a:avLst/>
              <a:gdLst/>
              <a:ahLst/>
              <a:rect l="l" t="t" r="r" b="b"/>
              <a:pathLst>
                <a:path w="495" h="172">
                  <a:moveTo>
                    <a:pt x="190" y="172"/>
                  </a:moveTo>
                  <a:lnTo>
                    <a:pt x="281" y="162"/>
                  </a:lnTo>
                  <a:lnTo>
                    <a:pt x="363" y="125"/>
                  </a:lnTo>
                  <a:lnTo>
                    <a:pt x="434" y="74"/>
                  </a:lnTo>
                  <a:lnTo>
                    <a:pt x="495" y="24"/>
                  </a:lnTo>
                  <a:lnTo>
                    <a:pt x="488" y="7"/>
                  </a:lnTo>
                  <a:lnTo>
                    <a:pt x="471" y="0"/>
                  </a:lnTo>
                  <a:lnTo>
                    <a:pt x="432" y="29"/>
                  </a:lnTo>
                  <a:lnTo>
                    <a:pt x="387" y="58"/>
                  </a:lnTo>
                  <a:lnTo>
                    <a:pt x="338" y="83"/>
                  </a:lnTo>
                  <a:lnTo>
                    <a:pt x="291" y="105"/>
                  </a:lnTo>
                  <a:lnTo>
                    <a:pt x="240" y="121"/>
                  </a:lnTo>
                  <a:lnTo>
                    <a:pt x="182" y="128"/>
                  </a:lnTo>
                  <a:lnTo>
                    <a:pt x="124" y="123"/>
                  </a:lnTo>
                  <a:lnTo>
                    <a:pt x="59" y="105"/>
                  </a:lnTo>
                  <a:lnTo>
                    <a:pt x="33" y="100"/>
                  </a:lnTo>
                  <a:lnTo>
                    <a:pt x="8" y="105"/>
                  </a:lnTo>
                  <a:lnTo>
                    <a:pt x="5" y="110"/>
                  </a:lnTo>
                  <a:lnTo>
                    <a:pt x="0" y="123"/>
                  </a:lnTo>
                  <a:lnTo>
                    <a:pt x="3" y="130"/>
                  </a:lnTo>
                  <a:lnTo>
                    <a:pt x="8" y="140"/>
                  </a:lnTo>
                  <a:lnTo>
                    <a:pt x="190" y="172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46000" y="5074200"/>
              <a:ext cx="111600" cy="50040"/>
            </a:xfrm>
            <a:custGeom>
              <a:avLst/>
              <a:gdLst/>
              <a:ahLst/>
              <a:rect l="l" t="t" r="r" b="b"/>
              <a:pathLst>
                <a:path w="452" h="192">
                  <a:moveTo>
                    <a:pt x="264" y="192"/>
                  </a:moveTo>
                  <a:lnTo>
                    <a:pt x="274" y="192"/>
                  </a:lnTo>
                  <a:lnTo>
                    <a:pt x="289" y="192"/>
                  </a:lnTo>
                  <a:lnTo>
                    <a:pt x="294" y="163"/>
                  </a:lnTo>
                  <a:lnTo>
                    <a:pt x="281" y="133"/>
                  </a:lnTo>
                  <a:lnTo>
                    <a:pt x="452" y="34"/>
                  </a:lnTo>
                  <a:lnTo>
                    <a:pt x="452" y="22"/>
                  </a:lnTo>
                  <a:lnTo>
                    <a:pt x="452" y="10"/>
                  </a:lnTo>
                  <a:lnTo>
                    <a:pt x="450" y="5"/>
                  </a:lnTo>
                  <a:lnTo>
                    <a:pt x="436" y="0"/>
                  </a:lnTo>
                  <a:lnTo>
                    <a:pt x="247" y="98"/>
                  </a:lnTo>
                  <a:lnTo>
                    <a:pt x="232" y="113"/>
                  </a:lnTo>
                  <a:lnTo>
                    <a:pt x="222" y="138"/>
                  </a:lnTo>
                  <a:lnTo>
                    <a:pt x="6" y="108"/>
                  </a:lnTo>
                  <a:lnTo>
                    <a:pt x="4" y="115"/>
                  </a:lnTo>
                  <a:lnTo>
                    <a:pt x="0" y="126"/>
                  </a:lnTo>
                  <a:lnTo>
                    <a:pt x="4" y="131"/>
                  </a:lnTo>
                  <a:lnTo>
                    <a:pt x="11" y="135"/>
                  </a:lnTo>
                  <a:lnTo>
                    <a:pt x="264" y="192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16480" y="5027400"/>
              <a:ext cx="111600" cy="55800"/>
            </a:xfrm>
            <a:custGeom>
              <a:avLst/>
              <a:gdLst/>
              <a:ahLst/>
              <a:rect l="l" t="t" r="r" b="b"/>
              <a:pathLst>
                <a:path w="444" h="216">
                  <a:moveTo>
                    <a:pt x="187" y="216"/>
                  </a:moveTo>
                  <a:lnTo>
                    <a:pt x="286" y="216"/>
                  </a:lnTo>
                  <a:lnTo>
                    <a:pt x="291" y="188"/>
                  </a:lnTo>
                  <a:lnTo>
                    <a:pt x="281" y="153"/>
                  </a:lnTo>
                  <a:lnTo>
                    <a:pt x="441" y="27"/>
                  </a:lnTo>
                  <a:lnTo>
                    <a:pt x="444" y="14"/>
                  </a:lnTo>
                  <a:lnTo>
                    <a:pt x="441" y="0"/>
                  </a:lnTo>
                  <a:lnTo>
                    <a:pt x="384" y="12"/>
                  </a:lnTo>
                  <a:lnTo>
                    <a:pt x="335" y="44"/>
                  </a:lnTo>
                  <a:lnTo>
                    <a:pt x="286" y="86"/>
                  </a:lnTo>
                  <a:lnTo>
                    <a:pt x="233" y="121"/>
                  </a:lnTo>
                  <a:lnTo>
                    <a:pt x="229" y="130"/>
                  </a:lnTo>
                  <a:lnTo>
                    <a:pt x="224" y="133"/>
                  </a:lnTo>
                  <a:lnTo>
                    <a:pt x="219" y="175"/>
                  </a:lnTo>
                  <a:lnTo>
                    <a:pt x="17" y="133"/>
                  </a:lnTo>
                  <a:lnTo>
                    <a:pt x="5" y="141"/>
                  </a:lnTo>
                  <a:lnTo>
                    <a:pt x="0" y="158"/>
                  </a:lnTo>
                  <a:lnTo>
                    <a:pt x="3" y="163"/>
                  </a:lnTo>
                  <a:lnTo>
                    <a:pt x="7" y="170"/>
                  </a:lnTo>
                  <a:lnTo>
                    <a:pt x="187" y="21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93800" y="4973400"/>
              <a:ext cx="102960" cy="75240"/>
            </a:xfrm>
            <a:custGeom>
              <a:avLst/>
              <a:gdLst/>
              <a:ahLst/>
              <a:rect l="l" t="t" r="r" b="b"/>
              <a:pathLst>
                <a:path w="414" h="291">
                  <a:moveTo>
                    <a:pt x="198" y="291"/>
                  </a:moveTo>
                  <a:lnTo>
                    <a:pt x="277" y="291"/>
                  </a:lnTo>
                  <a:lnTo>
                    <a:pt x="284" y="286"/>
                  </a:lnTo>
                  <a:lnTo>
                    <a:pt x="293" y="276"/>
                  </a:lnTo>
                  <a:lnTo>
                    <a:pt x="252" y="217"/>
                  </a:lnTo>
                  <a:lnTo>
                    <a:pt x="297" y="172"/>
                  </a:lnTo>
                  <a:lnTo>
                    <a:pt x="348" y="126"/>
                  </a:lnTo>
                  <a:lnTo>
                    <a:pt x="393" y="72"/>
                  </a:lnTo>
                  <a:lnTo>
                    <a:pt x="414" y="7"/>
                  </a:lnTo>
                  <a:lnTo>
                    <a:pt x="409" y="2"/>
                  </a:lnTo>
                  <a:lnTo>
                    <a:pt x="402" y="0"/>
                  </a:lnTo>
                  <a:lnTo>
                    <a:pt x="363" y="44"/>
                  </a:lnTo>
                  <a:lnTo>
                    <a:pt x="321" y="91"/>
                  </a:lnTo>
                  <a:lnTo>
                    <a:pt x="277" y="135"/>
                  </a:lnTo>
                  <a:lnTo>
                    <a:pt x="223" y="170"/>
                  </a:lnTo>
                  <a:lnTo>
                    <a:pt x="203" y="188"/>
                  </a:lnTo>
                  <a:lnTo>
                    <a:pt x="198" y="202"/>
                  </a:lnTo>
                  <a:lnTo>
                    <a:pt x="210" y="219"/>
                  </a:lnTo>
                  <a:lnTo>
                    <a:pt x="218" y="242"/>
                  </a:lnTo>
                  <a:lnTo>
                    <a:pt x="16" y="227"/>
                  </a:lnTo>
                  <a:lnTo>
                    <a:pt x="3" y="234"/>
                  </a:lnTo>
                  <a:lnTo>
                    <a:pt x="0" y="251"/>
                  </a:lnTo>
                  <a:lnTo>
                    <a:pt x="8" y="254"/>
                  </a:lnTo>
                  <a:lnTo>
                    <a:pt x="16" y="258"/>
                  </a:lnTo>
                  <a:lnTo>
                    <a:pt x="198" y="291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62960" y="4901400"/>
              <a:ext cx="43560" cy="111240"/>
            </a:xfrm>
            <a:custGeom>
              <a:avLst/>
              <a:gdLst/>
              <a:ahLst/>
              <a:rect l="l" t="t" r="r" b="b"/>
              <a:pathLst>
                <a:path w="172" h="434">
                  <a:moveTo>
                    <a:pt x="15" y="434"/>
                  </a:moveTo>
                  <a:lnTo>
                    <a:pt x="28" y="432"/>
                  </a:lnTo>
                  <a:lnTo>
                    <a:pt x="40" y="423"/>
                  </a:lnTo>
                  <a:lnTo>
                    <a:pt x="82" y="367"/>
                  </a:lnTo>
                  <a:lnTo>
                    <a:pt x="106" y="296"/>
                  </a:lnTo>
                  <a:lnTo>
                    <a:pt x="128" y="225"/>
                  </a:lnTo>
                  <a:lnTo>
                    <a:pt x="160" y="158"/>
                  </a:lnTo>
                  <a:lnTo>
                    <a:pt x="170" y="86"/>
                  </a:lnTo>
                  <a:lnTo>
                    <a:pt x="172" y="17"/>
                  </a:lnTo>
                  <a:lnTo>
                    <a:pt x="165" y="5"/>
                  </a:lnTo>
                  <a:lnTo>
                    <a:pt x="147" y="0"/>
                  </a:lnTo>
                  <a:lnTo>
                    <a:pt x="143" y="3"/>
                  </a:lnTo>
                  <a:lnTo>
                    <a:pt x="135" y="7"/>
                  </a:lnTo>
                  <a:lnTo>
                    <a:pt x="128" y="89"/>
                  </a:lnTo>
                  <a:lnTo>
                    <a:pt x="106" y="165"/>
                  </a:lnTo>
                  <a:lnTo>
                    <a:pt x="79" y="239"/>
                  </a:lnTo>
                  <a:lnTo>
                    <a:pt x="52" y="316"/>
                  </a:lnTo>
                  <a:lnTo>
                    <a:pt x="24" y="365"/>
                  </a:lnTo>
                  <a:lnTo>
                    <a:pt x="0" y="409"/>
                  </a:lnTo>
                  <a:lnTo>
                    <a:pt x="3" y="416"/>
                  </a:lnTo>
                  <a:lnTo>
                    <a:pt x="7" y="432"/>
                  </a:lnTo>
                  <a:lnTo>
                    <a:pt x="12" y="432"/>
                  </a:lnTo>
                  <a:lnTo>
                    <a:pt x="15" y="434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62120" y="4935240"/>
              <a:ext cx="93960" cy="75960"/>
            </a:xfrm>
            <a:custGeom>
              <a:avLst/>
              <a:gdLst/>
              <a:ahLst/>
              <a:rect l="l" t="t" r="r" b="b"/>
              <a:pathLst>
                <a:path w="375" h="290">
                  <a:moveTo>
                    <a:pt x="220" y="290"/>
                  </a:moveTo>
                  <a:lnTo>
                    <a:pt x="276" y="290"/>
                  </a:lnTo>
                  <a:lnTo>
                    <a:pt x="284" y="286"/>
                  </a:lnTo>
                  <a:lnTo>
                    <a:pt x="293" y="276"/>
                  </a:lnTo>
                  <a:lnTo>
                    <a:pt x="247" y="209"/>
                  </a:lnTo>
                  <a:lnTo>
                    <a:pt x="375" y="35"/>
                  </a:lnTo>
                  <a:lnTo>
                    <a:pt x="375" y="23"/>
                  </a:lnTo>
                  <a:lnTo>
                    <a:pt x="372" y="11"/>
                  </a:lnTo>
                  <a:lnTo>
                    <a:pt x="370" y="5"/>
                  </a:lnTo>
                  <a:lnTo>
                    <a:pt x="358" y="0"/>
                  </a:lnTo>
                  <a:lnTo>
                    <a:pt x="200" y="183"/>
                  </a:lnTo>
                  <a:lnTo>
                    <a:pt x="218" y="244"/>
                  </a:lnTo>
                  <a:lnTo>
                    <a:pt x="12" y="244"/>
                  </a:lnTo>
                  <a:lnTo>
                    <a:pt x="0" y="252"/>
                  </a:lnTo>
                  <a:lnTo>
                    <a:pt x="0" y="269"/>
                  </a:lnTo>
                  <a:lnTo>
                    <a:pt x="5" y="271"/>
                  </a:lnTo>
                  <a:lnTo>
                    <a:pt x="12" y="278"/>
                  </a:lnTo>
                  <a:lnTo>
                    <a:pt x="220" y="290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43880" y="4899240"/>
              <a:ext cx="45000" cy="106200"/>
            </a:xfrm>
            <a:custGeom>
              <a:avLst/>
              <a:gdLst/>
              <a:ahLst/>
              <a:rect l="l" t="t" r="r" b="b"/>
              <a:pathLst>
                <a:path w="182" h="414">
                  <a:moveTo>
                    <a:pt x="17" y="414"/>
                  </a:moveTo>
                  <a:lnTo>
                    <a:pt x="32" y="411"/>
                  </a:lnTo>
                  <a:lnTo>
                    <a:pt x="42" y="406"/>
                  </a:lnTo>
                  <a:lnTo>
                    <a:pt x="67" y="355"/>
                  </a:lnTo>
                  <a:lnTo>
                    <a:pt x="88" y="298"/>
                  </a:lnTo>
                  <a:lnTo>
                    <a:pt x="108" y="221"/>
                  </a:lnTo>
                  <a:lnTo>
                    <a:pt x="142" y="153"/>
                  </a:lnTo>
                  <a:lnTo>
                    <a:pt x="172" y="84"/>
                  </a:lnTo>
                  <a:lnTo>
                    <a:pt x="182" y="5"/>
                  </a:lnTo>
                  <a:lnTo>
                    <a:pt x="174" y="0"/>
                  </a:lnTo>
                  <a:lnTo>
                    <a:pt x="158" y="0"/>
                  </a:lnTo>
                  <a:lnTo>
                    <a:pt x="153" y="2"/>
                  </a:lnTo>
                  <a:lnTo>
                    <a:pt x="148" y="5"/>
                  </a:lnTo>
                  <a:lnTo>
                    <a:pt x="0" y="397"/>
                  </a:lnTo>
                  <a:lnTo>
                    <a:pt x="5" y="409"/>
                  </a:lnTo>
                  <a:lnTo>
                    <a:pt x="17" y="414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15800" y="4881600"/>
              <a:ext cx="60840" cy="120600"/>
            </a:xfrm>
            <a:custGeom>
              <a:avLst/>
              <a:gdLst/>
              <a:ahLst/>
              <a:rect l="l" t="t" r="r" b="b"/>
              <a:pathLst>
                <a:path w="243" h="466">
                  <a:moveTo>
                    <a:pt x="13" y="466"/>
                  </a:moveTo>
                  <a:lnTo>
                    <a:pt x="37" y="463"/>
                  </a:lnTo>
                  <a:lnTo>
                    <a:pt x="59" y="446"/>
                  </a:lnTo>
                  <a:lnTo>
                    <a:pt x="88" y="404"/>
                  </a:lnTo>
                  <a:lnTo>
                    <a:pt x="113" y="357"/>
                  </a:lnTo>
                  <a:lnTo>
                    <a:pt x="128" y="306"/>
                  </a:lnTo>
                  <a:lnTo>
                    <a:pt x="130" y="251"/>
                  </a:lnTo>
                  <a:lnTo>
                    <a:pt x="172" y="207"/>
                  </a:lnTo>
                  <a:lnTo>
                    <a:pt x="209" y="153"/>
                  </a:lnTo>
                  <a:lnTo>
                    <a:pt x="234" y="88"/>
                  </a:lnTo>
                  <a:lnTo>
                    <a:pt x="243" y="20"/>
                  </a:lnTo>
                  <a:lnTo>
                    <a:pt x="236" y="4"/>
                  </a:lnTo>
                  <a:lnTo>
                    <a:pt x="219" y="0"/>
                  </a:lnTo>
                  <a:lnTo>
                    <a:pt x="215" y="4"/>
                  </a:lnTo>
                  <a:lnTo>
                    <a:pt x="209" y="9"/>
                  </a:lnTo>
                  <a:lnTo>
                    <a:pt x="169" y="143"/>
                  </a:lnTo>
                  <a:lnTo>
                    <a:pt x="103" y="209"/>
                  </a:lnTo>
                  <a:lnTo>
                    <a:pt x="46" y="392"/>
                  </a:lnTo>
                  <a:lnTo>
                    <a:pt x="2" y="443"/>
                  </a:lnTo>
                  <a:lnTo>
                    <a:pt x="0" y="450"/>
                  </a:lnTo>
                  <a:lnTo>
                    <a:pt x="4" y="463"/>
                  </a:lnTo>
                  <a:lnTo>
                    <a:pt x="9" y="463"/>
                  </a:lnTo>
                  <a:lnTo>
                    <a:pt x="13" y="46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61440" y="4863600"/>
              <a:ext cx="91080" cy="127800"/>
            </a:xfrm>
            <a:custGeom>
              <a:avLst/>
              <a:gdLst/>
              <a:ahLst/>
              <a:rect l="l" t="t" r="r" b="b"/>
              <a:pathLst>
                <a:path w="364" h="500">
                  <a:moveTo>
                    <a:pt x="149" y="500"/>
                  </a:moveTo>
                  <a:lnTo>
                    <a:pt x="155" y="500"/>
                  </a:lnTo>
                  <a:lnTo>
                    <a:pt x="165" y="500"/>
                  </a:lnTo>
                  <a:lnTo>
                    <a:pt x="204" y="466"/>
                  </a:lnTo>
                  <a:lnTo>
                    <a:pt x="232" y="421"/>
                  </a:lnTo>
                  <a:lnTo>
                    <a:pt x="253" y="372"/>
                  </a:lnTo>
                  <a:lnTo>
                    <a:pt x="273" y="318"/>
                  </a:lnTo>
                  <a:lnTo>
                    <a:pt x="270" y="288"/>
                  </a:lnTo>
                  <a:lnTo>
                    <a:pt x="273" y="264"/>
                  </a:lnTo>
                  <a:lnTo>
                    <a:pt x="313" y="227"/>
                  </a:lnTo>
                  <a:lnTo>
                    <a:pt x="342" y="180"/>
                  </a:lnTo>
                  <a:lnTo>
                    <a:pt x="360" y="125"/>
                  </a:lnTo>
                  <a:lnTo>
                    <a:pt x="364" y="69"/>
                  </a:lnTo>
                  <a:lnTo>
                    <a:pt x="360" y="52"/>
                  </a:lnTo>
                  <a:lnTo>
                    <a:pt x="357" y="44"/>
                  </a:lnTo>
                  <a:lnTo>
                    <a:pt x="322" y="32"/>
                  </a:lnTo>
                  <a:lnTo>
                    <a:pt x="315" y="22"/>
                  </a:lnTo>
                  <a:lnTo>
                    <a:pt x="309" y="10"/>
                  </a:lnTo>
                  <a:lnTo>
                    <a:pt x="300" y="2"/>
                  </a:lnTo>
                  <a:lnTo>
                    <a:pt x="290" y="0"/>
                  </a:lnTo>
                  <a:lnTo>
                    <a:pt x="260" y="41"/>
                  </a:lnTo>
                  <a:lnTo>
                    <a:pt x="232" y="86"/>
                  </a:lnTo>
                  <a:lnTo>
                    <a:pt x="195" y="120"/>
                  </a:lnTo>
                  <a:lnTo>
                    <a:pt x="140" y="143"/>
                  </a:lnTo>
                  <a:lnTo>
                    <a:pt x="128" y="148"/>
                  </a:lnTo>
                  <a:lnTo>
                    <a:pt x="123" y="150"/>
                  </a:lnTo>
                  <a:lnTo>
                    <a:pt x="120" y="157"/>
                  </a:lnTo>
                  <a:lnTo>
                    <a:pt x="116" y="167"/>
                  </a:lnTo>
                  <a:lnTo>
                    <a:pt x="128" y="187"/>
                  </a:lnTo>
                  <a:lnTo>
                    <a:pt x="147" y="199"/>
                  </a:lnTo>
                  <a:lnTo>
                    <a:pt x="132" y="261"/>
                  </a:lnTo>
                  <a:lnTo>
                    <a:pt x="105" y="315"/>
                  </a:lnTo>
                  <a:lnTo>
                    <a:pt x="66" y="362"/>
                  </a:lnTo>
                  <a:lnTo>
                    <a:pt x="16" y="396"/>
                  </a:lnTo>
                  <a:lnTo>
                    <a:pt x="4" y="408"/>
                  </a:lnTo>
                  <a:lnTo>
                    <a:pt x="0" y="426"/>
                  </a:lnTo>
                  <a:lnTo>
                    <a:pt x="16" y="436"/>
                  </a:lnTo>
                  <a:lnTo>
                    <a:pt x="37" y="433"/>
                  </a:lnTo>
                  <a:lnTo>
                    <a:pt x="56" y="424"/>
                  </a:lnTo>
                  <a:lnTo>
                    <a:pt x="74" y="414"/>
                  </a:lnTo>
                  <a:lnTo>
                    <a:pt x="125" y="362"/>
                  </a:lnTo>
                  <a:lnTo>
                    <a:pt x="162" y="303"/>
                  </a:lnTo>
                  <a:lnTo>
                    <a:pt x="182" y="241"/>
                  </a:lnTo>
                  <a:lnTo>
                    <a:pt x="189" y="173"/>
                  </a:lnTo>
                  <a:lnTo>
                    <a:pt x="223" y="153"/>
                  </a:lnTo>
                  <a:lnTo>
                    <a:pt x="256" y="125"/>
                  </a:lnTo>
                  <a:lnTo>
                    <a:pt x="283" y="94"/>
                  </a:lnTo>
                  <a:lnTo>
                    <a:pt x="305" y="64"/>
                  </a:lnTo>
                  <a:lnTo>
                    <a:pt x="313" y="64"/>
                  </a:lnTo>
                  <a:lnTo>
                    <a:pt x="320" y="69"/>
                  </a:lnTo>
                  <a:lnTo>
                    <a:pt x="318" y="111"/>
                  </a:lnTo>
                  <a:lnTo>
                    <a:pt x="305" y="160"/>
                  </a:lnTo>
                  <a:lnTo>
                    <a:pt x="239" y="229"/>
                  </a:lnTo>
                  <a:lnTo>
                    <a:pt x="223" y="296"/>
                  </a:lnTo>
                  <a:lnTo>
                    <a:pt x="209" y="362"/>
                  </a:lnTo>
                  <a:lnTo>
                    <a:pt x="182" y="424"/>
                  </a:lnTo>
                  <a:lnTo>
                    <a:pt x="137" y="475"/>
                  </a:lnTo>
                  <a:lnTo>
                    <a:pt x="137" y="485"/>
                  </a:lnTo>
                  <a:lnTo>
                    <a:pt x="140" y="498"/>
                  </a:lnTo>
                  <a:lnTo>
                    <a:pt x="144" y="498"/>
                  </a:lnTo>
                  <a:lnTo>
                    <a:pt x="149" y="500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323600" y="4881600"/>
              <a:ext cx="87480" cy="90000"/>
            </a:xfrm>
            <a:custGeom>
              <a:avLst/>
              <a:gdLst/>
              <a:ahLst/>
              <a:rect l="l" t="t" r="r" b="b"/>
              <a:pathLst>
                <a:path w="351" h="350">
                  <a:moveTo>
                    <a:pt x="13" y="350"/>
                  </a:moveTo>
                  <a:lnTo>
                    <a:pt x="244" y="283"/>
                  </a:lnTo>
                  <a:lnTo>
                    <a:pt x="255" y="211"/>
                  </a:lnTo>
                  <a:lnTo>
                    <a:pt x="281" y="150"/>
                  </a:lnTo>
                  <a:lnTo>
                    <a:pt x="316" y="91"/>
                  </a:lnTo>
                  <a:lnTo>
                    <a:pt x="351" y="34"/>
                  </a:lnTo>
                  <a:lnTo>
                    <a:pt x="351" y="20"/>
                  </a:lnTo>
                  <a:lnTo>
                    <a:pt x="351" y="9"/>
                  </a:lnTo>
                  <a:lnTo>
                    <a:pt x="348" y="4"/>
                  </a:lnTo>
                  <a:lnTo>
                    <a:pt x="339" y="0"/>
                  </a:lnTo>
                  <a:lnTo>
                    <a:pt x="323" y="2"/>
                  </a:lnTo>
                  <a:lnTo>
                    <a:pt x="313" y="9"/>
                  </a:lnTo>
                  <a:lnTo>
                    <a:pt x="279" y="64"/>
                  </a:lnTo>
                  <a:lnTo>
                    <a:pt x="244" y="120"/>
                  </a:lnTo>
                  <a:lnTo>
                    <a:pt x="215" y="182"/>
                  </a:lnTo>
                  <a:lnTo>
                    <a:pt x="195" y="251"/>
                  </a:lnTo>
                  <a:lnTo>
                    <a:pt x="8" y="318"/>
                  </a:lnTo>
                  <a:lnTo>
                    <a:pt x="0" y="330"/>
                  </a:lnTo>
                  <a:lnTo>
                    <a:pt x="3" y="347"/>
                  </a:lnTo>
                  <a:lnTo>
                    <a:pt x="8" y="347"/>
                  </a:lnTo>
                  <a:lnTo>
                    <a:pt x="13" y="350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38760" y="4838040"/>
              <a:ext cx="78480" cy="109800"/>
            </a:xfrm>
            <a:custGeom>
              <a:avLst/>
              <a:gdLst/>
              <a:ahLst/>
              <a:rect l="l" t="t" r="r" b="b"/>
              <a:pathLst>
                <a:path w="314" h="424">
                  <a:moveTo>
                    <a:pt x="14" y="424"/>
                  </a:moveTo>
                  <a:lnTo>
                    <a:pt x="24" y="424"/>
                  </a:lnTo>
                  <a:lnTo>
                    <a:pt x="36" y="421"/>
                  </a:lnTo>
                  <a:lnTo>
                    <a:pt x="172" y="202"/>
                  </a:lnTo>
                  <a:lnTo>
                    <a:pt x="216" y="170"/>
                  </a:lnTo>
                  <a:lnTo>
                    <a:pt x="256" y="128"/>
                  </a:lnTo>
                  <a:lnTo>
                    <a:pt x="288" y="79"/>
                  </a:lnTo>
                  <a:lnTo>
                    <a:pt x="314" y="30"/>
                  </a:lnTo>
                  <a:lnTo>
                    <a:pt x="310" y="12"/>
                  </a:lnTo>
                  <a:lnTo>
                    <a:pt x="295" y="0"/>
                  </a:lnTo>
                  <a:lnTo>
                    <a:pt x="288" y="0"/>
                  </a:lnTo>
                  <a:lnTo>
                    <a:pt x="280" y="5"/>
                  </a:lnTo>
                  <a:lnTo>
                    <a:pt x="256" y="49"/>
                  </a:lnTo>
                  <a:lnTo>
                    <a:pt x="226" y="94"/>
                  </a:lnTo>
                  <a:lnTo>
                    <a:pt x="191" y="131"/>
                  </a:lnTo>
                  <a:lnTo>
                    <a:pt x="147" y="163"/>
                  </a:lnTo>
                  <a:lnTo>
                    <a:pt x="0" y="409"/>
                  </a:lnTo>
                  <a:lnTo>
                    <a:pt x="5" y="419"/>
                  </a:lnTo>
                  <a:lnTo>
                    <a:pt x="14" y="424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88680" y="4840200"/>
              <a:ext cx="85320" cy="93240"/>
            </a:xfrm>
            <a:custGeom>
              <a:avLst/>
              <a:gdLst/>
              <a:ahLst/>
              <a:rect l="l" t="t" r="r" b="b"/>
              <a:pathLst>
                <a:path w="347" h="362">
                  <a:moveTo>
                    <a:pt x="14" y="362"/>
                  </a:moveTo>
                  <a:lnTo>
                    <a:pt x="212" y="281"/>
                  </a:lnTo>
                  <a:lnTo>
                    <a:pt x="347" y="15"/>
                  </a:lnTo>
                  <a:lnTo>
                    <a:pt x="337" y="7"/>
                  </a:lnTo>
                  <a:lnTo>
                    <a:pt x="320" y="0"/>
                  </a:lnTo>
                  <a:lnTo>
                    <a:pt x="179" y="251"/>
                  </a:lnTo>
                  <a:lnTo>
                    <a:pt x="7" y="330"/>
                  </a:lnTo>
                  <a:lnTo>
                    <a:pt x="0" y="343"/>
                  </a:lnTo>
                  <a:lnTo>
                    <a:pt x="2" y="360"/>
                  </a:lnTo>
                  <a:lnTo>
                    <a:pt x="10" y="360"/>
                  </a:lnTo>
                  <a:lnTo>
                    <a:pt x="14" y="362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14280" y="4802040"/>
              <a:ext cx="76680" cy="108000"/>
            </a:xfrm>
            <a:custGeom>
              <a:avLst/>
              <a:gdLst/>
              <a:ahLst/>
              <a:rect l="l" t="t" r="r" b="b"/>
              <a:pathLst>
                <a:path w="304" h="418">
                  <a:moveTo>
                    <a:pt x="12" y="418"/>
                  </a:moveTo>
                  <a:lnTo>
                    <a:pt x="25" y="416"/>
                  </a:lnTo>
                  <a:lnTo>
                    <a:pt x="35" y="409"/>
                  </a:lnTo>
                  <a:lnTo>
                    <a:pt x="160" y="228"/>
                  </a:lnTo>
                  <a:lnTo>
                    <a:pt x="204" y="207"/>
                  </a:lnTo>
                  <a:lnTo>
                    <a:pt x="239" y="170"/>
                  </a:lnTo>
                  <a:lnTo>
                    <a:pt x="271" y="125"/>
                  </a:lnTo>
                  <a:lnTo>
                    <a:pt x="293" y="73"/>
                  </a:lnTo>
                  <a:lnTo>
                    <a:pt x="304" y="14"/>
                  </a:lnTo>
                  <a:lnTo>
                    <a:pt x="293" y="2"/>
                  </a:lnTo>
                  <a:lnTo>
                    <a:pt x="279" y="0"/>
                  </a:lnTo>
                  <a:lnTo>
                    <a:pt x="251" y="59"/>
                  </a:lnTo>
                  <a:lnTo>
                    <a:pt x="222" y="112"/>
                  </a:lnTo>
                  <a:lnTo>
                    <a:pt x="180" y="165"/>
                  </a:lnTo>
                  <a:lnTo>
                    <a:pt x="128" y="204"/>
                  </a:lnTo>
                  <a:lnTo>
                    <a:pt x="97" y="253"/>
                  </a:lnTo>
                  <a:lnTo>
                    <a:pt x="62" y="300"/>
                  </a:lnTo>
                  <a:lnTo>
                    <a:pt x="30" y="347"/>
                  </a:lnTo>
                  <a:lnTo>
                    <a:pt x="0" y="393"/>
                  </a:lnTo>
                  <a:lnTo>
                    <a:pt x="0" y="403"/>
                  </a:lnTo>
                  <a:lnTo>
                    <a:pt x="5" y="416"/>
                  </a:lnTo>
                  <a:lnTo>
                    <a:pt x="10" y="416"/>
                  </a:lnTo>
                  <a:lnTo>
                    <a:pt x="12" y="418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46920" y="4798440"/>
              <a:ext cx="81720" cy="108000"/>
            </a:xfrm>
            <a:custGeom>
              <a:avLst/>
              <a:gdLst/>
              <a:ahLst/>
              <a:rect l="l" t="t" r="r" b="b"/>
              <a:pathLst>
                <a:path w="325" h="420">
                  <a:moveTo>
                    <a:pt x="12" y="420"/>
                  </a:moveTo>
                  <a:lnTo>
                    <a:pt x="76" y="407"/>
                  </a:lnTo>
                  <a:lnTo>
                    <a:pt x="130" y="378"/>
                  </a:lnTo>
                  <a:lnTo>
                    <a:pt x="177" y="338"/>
                  </a:lnTo>
                  <a:lnTo>
                    <a:pt x="212" y="288"/>
                  </a:lnTo>
                  <a:lnTo>
                    <a:pt x="241" y="218"/>
                  </a:lnTo>
                  <a:lnTo>
                    <a:pt x="276" y="148"/>
                  </a:lnTo>
                  <a:lnTo>
                    <a:pt x="305" y="82"/>
                  </a:lnTo>
                  <a:lnTo>
                    <a:pt x="325" y="11"/>
                  </a:lnTo>
                  <a:lnTo>
                    <a:pt x="323" y="5"/>
                  </a:lnTo>
                  <a:lnTo>
                    <a:pt x="313" y="0"/>
                  </a:lnTo>
                  <a:lnTo>
                    <a:pt x="263" y="84"/>
                  </a:lnTo>
                  <a:lnTo>
                    <a:pt x="224" y="173"/>
                  </a:lnTo>
                  <a:lnTo>
                    <a:pt x="177" y="260"/>
                  </a:lnTo>
                  <a:lnTo>
                    <a:pt x="113" y="333"/>
                  </a:lnTo>
                  <a:lnTo>
                    <a:pt x="86" y="350"/>
                  </a:lnTo>
                  <a:lnTo>
                    <a:pt x="56" y="362"/>
                  </a:lnTo>
                  <a:lnTo>
                    <a:pt x="30" y="376"/>
                  </a:lnTo>
                  <a:lnTo>
                    <a:pt x="7" y="390"/>
                  </a:lnTo>
                  <a:lnTo>
                    <a:pt x="0" y="402"/>
                  </a:lnTo>
                  <a:lnTo>
                    <a:pt x="5" y="420"/>
                  </a:lnTo>
                  <a:lnTo>
                    <a:pt x="10" y="420"/>
                  </a:lnTo>
                  <a:lnTo>
                    <a:pt x="12" y="420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20640" y="4761000"/>
              <a:ext cx="71640" cy="125640"/>
            </a:xfrm>
            <a:custGeom>
              <a:avLst/>
              <a:gdLst/>
              <a:ahLst/>
              <a:rect l="l" t="t" r="r" b="b"/>
              <a:pathLst>
                <a:path w="283" h="487">
                  <a:moveTo>
                    <a:pt x="18" y="487"/>
                  </a:moveTo>
                  <a:lnTo>
                    <a:pt x="27" y="485"/>
                  </a:lnTo>
                  <a:lnTo>
                    <a:pt x="35" y="479"/>
                  </a:lnTo>
                  <a:lnTo>
                    <a:pt x="62" y="435"/>
                  </a:lnTo>
                  <a:lnTo>
                    <a:pt x="97" y="396"/>
                  </a:lnTo>
                  <a:lnTo>
                    <a:pt x="139" y="361"/>
                  </a:lnTo>
                  <a:lnTo>
                    <a:pt x="183" y="332"/>
                  </a:lnTo>
                  <a:lnTo>
                    <a:pt x="180" y="246"/>
                  </a:lnTo>
                  <a:lnTo>
                    <a:pt x="204" y="169"/>
                  </a:lnTo>
                  <a:lnTo>
                    <a:pt x="244" y="93"/>
                  </a:lnTo>
                  <a:lnTo>
                    <a:pt x="283" y="19"/>
                  </a:lnTo>
                  <a:lnTo>
                    <a:pt x="279" y="7"/>
                  </a:lnTo>
                  <a:lnTo>
                    <a:pt x="267" y="0"/>
                  </a:lnTo>
                  <a:lnTo>
                    <a:pt x="262" y="0"/>
                  </a:lnTo>
                  <a:lnTo>
                    <a:pt x="249" y="2"/>
                  </a:lnTo>
                  <a:lnTo>
                    <a:pt x="204" y="66"/>
                  </a:lnTo>
                  <a:lnTo>
                    <a:pt x="163" y="137"/>
                  </a:lnTo>
                  <a:lnTo>
                    <a:pt x="139" y="221"/>
                  </a:lnTo>
                  <a:lnTo>
                    <a:pt x="141" y="314"/>
                  </a:lnTo>
                  <a:lnTo>
                    <a:pt x="97" y="337"/>
                  </a:lnTo>
                  <a:lnTo>
                    <a:pt x="57" y="369"/>
                  </a:lnTo>
                  <a:lnTo>
                    <a:pt x="27" y="409"/>
                  </a:lnTo>
                  <a:lnTo>
                    <a:pt x="2" y="455"/>
                  </a:lnTo>
                  <a:lnTo>
                    <a:pt x="0" y="470"/>
                  </a:lnTo>
                  <a:lnTo>
                    <a:pt x="2" y="479"/>
                  </a:lnTo>
                  <a:lnTo>
                    <a:pt x="7" y="485"/>
                  </a:lnTo>
                  <a:lnTo>
                    <a:pt x="18" y="487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79360" y="4788000"/>
              <a:ext cx="97560" cy="82800"/>
            </a:xfrm>
            <a:custGeom>
              <a:avLst/>
              <a:gdLst/>
              <a:ahLst/>
              <a:rect l="l" t="t" r="r" b="b"/>
              <a:pathLst>
                <a:path w="396" h="325">
                  <a:moveTo>
                    <a:pt x="14" y="325"/>
                  </a:moveTo>
                  <a:lnTo>
                    <a:pt x="16" y="325"/>
                  </a:lnTo>
                  <a:lnTo>
                    <a:pt x="19" y="325"/>
                  </a:lnTo>
                  <a:lnTo>
                    <a:pt x="204" y="145"/>
                  </a:lnTo>
                  <a:lnTo>
                    <a:pt x="216" y="108"/>
                  </a:lnTo>
                  <a:lnTo>
                    <a:pt x="246" y="86"/>
                  </a:lnTo>
                  <a:lnTo>
                    <a:pt x="285" y="74"/>
                  </a:lnTo>
                  <a:lnTo>
                    <a:pt x="320" y="62"/>
                  </a:lnTo>
                  <a:lnTo>
                    <a:pt x="354" y="49"/>
                  </a:lnTo>
                  <a:lnTo>
                    <a:pt x="386" y="37"/>
                  </a:lnTo>
                  <a:lnTo>
                    <a:pt x="391" y="32"/>
                  </a:lnTo>
                  <a:lnTo>
                    <a:pt x="396" y="22"/>
                  </a:lnTo>
                  <a:lnTo>
                    <a:pt x="388" y="7"/>
                  </a:lnTo>
                  <a:lnTo>
                    <a:pt x="376" y="0"/>
                  </a:lnTo>
                  <a:lnTo>
                    <a:pt x="325" y="12"/>
                  </a:lnTo>
                  <a:lnTo>
                    <a:pt x="270" y="27"/>
                  </a:lnTo>
                  <a:lnTo>
                    <a:pt x="216" y="49"/>
                  </a:lnTo>
                  <a:lnTo>
                    <a:pt x="177" y="86"/>
                  </a:lnTo>
                  <a:lnTo>
                    <a:pt x="135" y="150"/>
                  </a:lnTo>
                  <a:lnTo>
                    <a:pt x="86" y="204"/>
                  </a:lnTo>
                  <a:lnTo>
                    <a:pt x="36" y="261"/>
                  </a:lnTo>
                  <a:lnTo>
                    <a:pt x="0" y="318"/>
                  </a:lnTo>
                  <a:lnTo>
                    <a:pt x="4" y="325"/>
                  </a:lnTo>
                  <a:lnTo>
                    <a:pt x="14" y="325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4722840"/>
              <a:ext cx="57600" cy="138600"/>
            </a:xfrm>
            <a:custGeom>
              <a:avLst/>
              <a:gdLst/>
              <a:ahLst/>
              <a:rect l="l" t="t" r="r" b="b"/>
              <a:pathLst>
                <a:path w="232" h="539">
                  <a:moveTo>
                    <a:pt x="7" y="539"/>
                  </a:moveTo>
                  <a:lnTo>
                    <a:pt x="15" y="539"/>
                  </a:lnTo>
                  <a:lnTo>
                    <a:pt x="25" y="537"/>
                  </a:lnTo>
                  <a:lnTo>
                    <a:pt x="44" y="478"/>
                  </a:lnTo>
                  <a:lnTo>
                    <a:pt x="69" y="421"/>
                  </a:lnTo>
                  <a:lnTo>
                    <a:pt x="101" y="374"/>
                  </a:lnTo>
                  <a:lnTo>
                    <a:pt x="148" y="342"/>
                  </a:lnTo>
                  <a:lnTo>
                    <a:pt x="146" y="261"/>
                  </a:lnTo>
                  <a:lnTo>
                    <a:pt x="165" y="182"/>
                  </a:lnTo>
                  <a:lnTo>
                    <a:pt x="197" y="105"/>
                  </a:lnTo>
                  <a:lnTo>
                    <a:pt x="232" y="30"/>
                  </a:lnTo>
                  <a:lnTo>
                    <a:pt x="214" y="0"/>
                  </a:lnTo>
                  <a:lnTo>
                    <a:pt x="209" y="0"/>
                  </a:lnTo>
                  <a:lnTo>
                    <a:pt x="199" y="2"/>
                  </a:lnTo>
                  <a:lnTo>
                    <a:pt x="167" y="74"/>
                  </a:lnTo>
                  <a:lnTo>
                    <a:pt x="130" y="148"/>
                  </a:lnTo>
                  <a:lnTo>
                    <a:pt x="106" y="226"/>
                  </a:lnTo>
                  <a:lnTo>
                    <a:pt x="106" y="300"/>
                  </a:lnTo>
                  <a:lnTo>
                    <a:pt x="67" y="353"/>
                  </a:lnTo>
                  <a:lnTo>
                    <a:pt x="27" y="407"/>
                  </a:lnTo>
                  <a:lnTo>
                    <a:pt x="0" y="468"/>
                  </a:lnTo>
                  <a:lnTo>
                    <a:pt x="0" y="537"/>
                  </a:lnTo>
                  <a:lnTo>
                    <a:pt x="2" y="537"/>
                  </a:lnTo>
                  <a:lnTo>
                    <a:pt x="7" y="539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54400" y="4695840"/>
              <a:ext cx="55800" cy="138240"/>
            </a:xfrm>
            <a:custGeom>
              <a:avLst/>
              <a:gdLst/>
              <a:ahLst/>
              <a:rect l="l" t="t" r="r" b="b"/>
              <a:pathLst>
                <a:path w="226" h="536">
                  <a:moveTo>
                    <a:pt x="12" y="536"/>
                  </a:moveTo>
                  <a:lnTo>
                    <a:pt x="24" y="534"/>
                  </a:lnTo>
                  <a:lnTo>
                    <a:pt x="36" y="525"/>
                  </a:lnTo>
                  <a:lnTo>
                    <a:pt x="59" y="472"/>
                  </a:lnTo>
                  <a:lnTo>
                    <a:pt x="89" y="420"/>
                  </a:lnTo>
                  <a:lnTo>
                    <a:pt x="126" y="373"/>
                  </a:lnTo>
                  <a:lnTo>
                    <a:pt x="167" y="336"/>
                  </a:lnTo>
                  <a:lnTo>
                    <a:pt x="135" y="286"/>
                  </a:lnTo>
                  <a:lnTo>
                    <a:pt x="145" y="211"/>
                  </a:lnTo>
                  <a:lnTo>
                    <a:pt x="170" y="141"/>
                  </a:lnTo>
                  <a:lnTo>
                    <a:pt x="202" y="72"/>
                  </a:lnTo>
                  <a:lnTo>
                    <a:pt x="226" y="5"/>
                  </a:lnTo>
                  <a:lnTo>
                    <a:pt x="221" y="0"/>
                  </a:lnTo>
                  <a:lnTo>
                    <a:pt x="209" y="0"/>
                  </a:lnTo>
                  <a:lnTo>
                    <a:pt x="170" y="40"/>
                  </a:lnTo>
                  <a:lnTo>
                    <a:pt x="142" y="92"/>
                  </a:lnTo>
                  <a:lnTo>
                    <a:pt x="121" y="151"/>
                  </a:lnTo>
                  <a:lnTo>
                    <a:pt x="103" y="213"/>
                  </a:lnTo>
                  <a:lnTo>
                    <a:pt x="96" y="274"/>
                  </a:lnTo>
                  <a:lnTo>
                    <a:pt x="101" y="332"/>
                  </a:lnTo>
                  <a:lnTo>
                    <a:pt x="44" y="402"/>
                  </a:lnTo>
                  <a:lnTo>
                    <a:pt x="0" y="511"/>
                  </a:lnTo>
                  <a:lnTo>
                    <a:pt x="0" y="521"/>
                  </a:lnTo>
                  <a:lnTo>
                    <a:pt x="5" y="534"/>
                  </a:lnTo>
                  <a:lnTo>
                    <a:pt x="10" y="534"/>
                  </a:lnTo>
                  <a:lnTo>
                    <a:pt x="12" y="53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51640" y="4744440"/>
              <a:ext cx="108000" cy="82800"/>
            </a:xfrm>
            <a:custGeom>
              <a:avLst/>
              <a:gdLst/>
              <a:ahLst/>
              <a:rect l="l" t="t" r="r" b="b"/>
              <a:pathLst>
                <a:path w="436" h="323">
                  <a:moveTo>
                    <a:pt x="14" y="323"/>
                  </a:moveTo>
                  <a:lnTo>
                    <a:pt x="19" y="323"/>
                  </a:lnTo>
                  <a:lnTo>
                    <a:pt x="21" y="323"/>
                  </a:lnTo>
                  <a:lnTo>
                    <a:pt x="229" y="133"/>
                  </a:lnTo>
                  <a:lnTo>
                    <a:pt x="290" y="118"/>
                  </a:lnTo>
                  <a:lnTo>
                    <a:pt x="344" y="93"/>
                  </a:lnTo>
                  <a:lnTo>
                    <a:pt x="394" y="62"/>
                  </a:lnTo>
                  <a:lnTo>
                    <a:pt x="436" y="25"/>
                  </a:lnTo>
                  <a:lnTo>
                    <a:pt x="433" y="10"/>
                  </a:lnTo>
                  <a:lnTo>
                    <a:pt x="420" y="0"/>
                  </a:lnTo>
                  <a:lnTo>
                    <a:pt x="197" y="96"/>
                  </a:lnTo>
                  <a:lnTo>
                    <a:pt x="0" y="298"/>
                  </a:lnTo>
                  <a:lnTo>
                    <a:pt x="0" y="309"/>
                  </a:lnTo>
                  <a:lnTo>
                    <a:pt x="7" y="321"/>
                  </a:lnTo>
                  <a:lnTo>
                    <a:pt x="12" y="321"/>
                  </a:lnTo>
                  <a:lnTo>
                    <a:pt x="14" y="323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3520" y="4665240"/>
              <a:ext cx="50040" cy="149400"/>
            </a:xfrm>
            <a:custGeom>
              <a:avLst/>
              <a:gdLst/>
              <a:ahLst/>
              <a:rect l="l" t="t" r="r" b="b"/>
              <a:pathLst>
                <a:path w="204" h="579">
                  <a:moveTo>
                    <a:pt x="8" y="579"/>
                  </a:moveTo>
                  <a:lnTo>
                    <a:pt x="13" y="579"/>
                  </a:lnTo>
                  <a:lnTo>
                    <a:pt x="25" y="579"/>
                  </a:lnTo>
                  <a:lnTo>
                    <a:pt x="48" y="498"/>
                  </a:lnTo>
                  <a:lnTo>
                    <a:pt x="89" y="431"/>
                  </a:lnTo>
                  <a:lnTo>
                    <a:pt x="116" y="360"/>
                  </a:lnTo>
                  <a:lnTo>
                    <a:pt x="106" y="276"/>
                  </a:lnTo>
                  <a:lnTo>
                    <a:pt x="121" y="197"/>
                  </a:lnTo>
                  <a:lnTo>
                    <a:pt x="148" y="131"/>
                  </a:lnTo>
                  <a:lnTo>
                    <a:pt x="183" y="71"/>
                  </a:lnTo>
                  <a:lnTo>
                    <a:pt x="204" y="8"/>
                  </a:lnTo>
                  <a:lnTo>
                    <a:pt x="200" y="2"/>
                  </a:lnTo>
                  <a:lnTo>
                    <a:pt x="190" y="0"/>
                  </a:lnTo>
                  <a:lnTo>
                    <a:pt x="180" y="2"/>
                  </a:lnTo>
                  <a:lnTo>
                    <a:pt x="173" y="8"/>
                  </a:lnTo>
                  <a:lnTo>
                    <a:pt x="126" y="83"/>
                  </a:lnTo>
                  <a:lnTo>
                    <a:pt x="87" y="171"/>
                  </a:lnTo>
                  <a:lnTo>
                    <a:pt x="64" y="266"/>
                  </a:lnTo>
                  <a:lnTo>
                    <a:pt x="79" y="367"/>
                  </a:lnTo>
                  <a:lnTo>
                    <a:pt x="8" y="473"/>
                  </a:lnTo>
                  <a:lnTo>
                    <a:pt x="0" y="579"/>
                  </a:lnTo>
                  <a:lnTo>
                    <a:pt x="6" y="579"/>
                  </a:lnTo>
                  <a:lnTo>
                    <a:pt x="8" y="579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10480" y="4652640"/>
              <a:ext cx="41760" cy="145800"/>
            </a:xfrm>
            <a:custGeom>
              <a:avLst/>
              <a:gdLst/>
              <a:ahLst/>
              <a:rect l="l" t="t" r="r" b="b"/>
              <a:pathLst>
                <a:path w="170" h="567">
                  <a:moveTo>
                    <a:pt x="7" y="567"/>
                  </a:moveTo>
                  <a:lnTo>
                    <a:pt x="18" y="567"/>
                  </a:lnTo>
                  <a:lnTo>
                    <a:pt x="32" y="565"/>
                  </a:lnTo>
                  <a:lnTo>
                    <a:pt x="81" y="388"/>
                  </a:lnTo>
                  <a:lnTo>
                    <a:pt x="88" y="383"/>
                  </a:lnTo>
                  <a:lnTo>
                    <a:pt x="97" y="376"/>
                  </a:lnTo>
                  <a:lnTo>
                    <a:pt x="106" y="365"/>
                  </a:lnTo>
                  <a:lnTo>
                    <a:pt x="116" y="346"/>
                  </a:lnTo>
                  <a:lnTo>
                    <a:pt x="91" y="321"/>
                  </a:lnTo>
                  <a:lnTo>
                    <a:pt x="88" y="235"/>
                  </a:lnTo>
                  <a:lnTo>
                    <a:pt x="111" y="153"/>
                  </a:lnTo>
                  <a:lnTo>
                    <a:pt x="143" y="82"/>
                  </a:lnTo>
                  <a:lnTo>
                    <a:pt x="170" y="11"/>
                  </a:lnTo>
                  <a:lnTo>
                    <a:pt x="167" y="5"/>
                  </a:lnTo>
                  <a:lnTo>
                    <a:pt x="155" y="0"/>
                  </a:lnTo>
                  <a:lnTo>
                    <a:pt x="102" y="67"/>
                  </a:lnTo>
                  <a:lnTo>
                    <a:pt x="67" y="149"/>
                  </a:lnTo>
                  <a:lnTo>
                    <a:pt x="49" y="249"/>
                  </a:lnTo>
                  <a:lnTo>
                    <a:pt x="49" y="346"/>
                  </a:lnTo>
                  <a:lnTo>
                    <a:pt x="10" y="449"/>
                  </a:lnTo>
                  <a:lnTo>
                    <a:pt x="0" y="565"/>
                  </a:lnTo>
                  <a:lnTo>
                    <a:pt x="5" y="565"/>
                  </a:lnTo>
                  <a:lnTo>
                    <a:pt x="7" y="567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89600" y="4645080"/>
              <a:ext cx="43920" cy="133560"/>
            </a:xfrm>
            <a:custGeom>
              <a:avLst/>
              <a:gdLst/>
              <a:ahLst/>
              <a:rect l="l" t="t" r="r" b="b"/>
              <a:pathLst>
                <a:path w="172" h="517">
                  <a:moveTo>
                    <a:pt x="22" y="517"/>
                  </a:moveTo>
                  <a:lnTo>
                    <a:pt x="32" y="517"/>
                  </a:lnTo>
                  <a:lnTo>
                    <a:pt x="44" y="517"/>
                  </a:lnTo>
                  <a:lnTo>
                    <a:pt x="57" y="416"/>
                  </a:lnTo>
                  <a:lnTo>
                    <a:pt x="106" y="328"/>
                  </a:lnTo>
                  <a:lnTo>
                    <a:pt x="91" y="241"/>
                  </a:lnTo>
                  <a:lnTo>
                    <a:pt x="99" y="163"/>
                  </a:lnTo>
                  <a:lnTo>
                    <a:pt x="125" y="86"/>
                  </a:lnTo>
                  <a:lnTo>
                    <a:pt x="172" y="19"/>
                  </a:lnTo>
                  <a:lnTo>
                    <a:pt x="169" y="10"/>
                  </a:lnTo>
                  <a:lnTo>
                    <a:pt x="162" y="3"/>
                  </a:lnTo>
                  <a:lnTo>
                    <a:pt x="141" y="0"/>
                  </a:lnTo>
                  <a:lnTo>
                    <a:pt x="123" y="10"/>
                  </a:lnTo>
                  <a:lnTo>
                    <a:pt x="79" y="76"/>
                  </a:lnTo>
                  <a:lnTo>
                    <a:pt x="54" y="157"/>
                  </a:lnTo>
                  <a:lnTo>
                    <a:pt x="46" y="238"/>
                  </a:lnTo>
                  <a:lnTo>
                    <a:pt x="54" y="328"/>
                  </a:lnTo>
                  <a:lnTo>
                    <a:pt x="12" y="394"/>
                  </a:lnTo>
                  <a:lnTo>
                    <a:pt x="0" y="477"/>
                  </a:lnTo>
                  <a:lnTo>
                    <a:pt x="7" y="500"/>
                  </a:lnTo>
                  <a:lnTo>
                    <a:pt x="14" y="517"/>
                  </a:lnTo>
                  <a:lnTo>
                    <a:pt x="20" y="517"/>
                  </a:lnTo>
                  <a:lnTo>
                    <a:pt x="22" y="517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22120" y="4694400"/>
              <a:ext cx="102960" cy="73440"/>
            </a:xfrm>
            <a:custGeom>
              <a:avLst/>
              <a:gdLst/>
              <a:ahLst/>
              <a:rect l="l" t="t" r="r" b="b"/>
              <a:pathLst>
                <a:path w="413" h="290">
                  <a:moveTo>
                    <a:pt x="14" y="290"/>
                  </a:moveTo>
                  <a:lnTo>
                    <a:pt x="83" y="278"/>
                  </a:lnTo>
                  <a:lnTo>
                    <a:pt x="140" y="246"/>
                  </a:lnTo>
                  <a:lnTo>
                    <a:pt x="190" y="202"/>
                  </a:lnTo>
                  <a:lnTo>
                    <a:pt x="229" y="148"/>
                  </a:lnTo>
                  <a:lnTo>
                    <a:pt x="243" y="141"/>
                  </a:lnTo>
                  <a:lnTo>
                    <a:pt x="263" y="141"/>
                  </a:lnTo>
                  <a:lnTo>
                    <a:pt x="379" y="67"/>
                  </a:lnTo>
                  <a:lnTo>
                    <a:pt x="413" y="14"/>
                  </a:lnTo>
                  <a:lnTo>
                    <a:pt x="411" y="7"/>
                  </a:lnTo>
                  <a:lnTo>
                    <a:pt x="404" y="2"/>
                  </a:lnTo>
                  <a:lnTo>
                    <a:pt x="394" y="0"/>
                  </a:lnTo>
                  <a:lnTo>
                    <a:pt x="379" y="0"/>
                  </a:lnTo>
                  <a:lnTo>
                    <a:pt x="334" y="35"/>
                  </a:lnTo>
                  <a:lnTo>
                    <a:pt x="293" y="67"/>
                  </a:lnTo>
                  <a:lnTo>
                    <a:pt x="246" y="93"/>
                  </a:lnTo>
                  <a:lnTo>
                    <a:pt x="197" y="116"/>
                  </a:lnTo>
                  <a:lnTo>
                    <a:pt x="172" y="153"/>
                  </a:lnTo>
                  <a:lnTo>
                    <a:pt x="137" y="190"/>
                  </a:lnTo>
                  <a:lnTo>
                    <a:pt x="100" y="220"/>
                  </a:lnTo>
                  <a:lnTo>
                    <a:pt x="56" y="241"/>
                  </a:lnTo>
                  <a:lnTo>
                    <a:pt x="27" y="244"/>
                  </a:lnTo>
                  <a:lnTo>
                    <a:pt x="7" y="256"/>
                  </a:lnTo>
                  <a:lnTo>
                    <a:pt x="0" y="271"/>
                  </a:lnTo>
                  <a:lnTo>
                    <a:pt x="4" y="288"/>
                  </a:lnTo>
                  <a:lnTo>
                    <a:pt x="9" y="288"/>
                  </a:lnTo>
                  <a:lnTo>
                    <a:pt x="14" y="290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75560" y="4640040"/>
              <a:ext cx="25920" cy="117000"/>
            </a:xfrm>
            <a:custGeom>
              <a:avLst/>
              <a:gdLst/>
              <a:ahLst/>
              <a:rect l="l" t="t" r="r" b="b"/>
              <a:pathLst>
                <a:path w="105" h="455">
                  <a:moveTo>
                    <a:pt x="17" y="455"/>
                  </a:moveTo>
                  <a:lnTo>
                    <a:pt x="26" y="455"/>
                  </a:lnTo>
                  <a:lnTo>
                    <a:pt x="37" y="450"/>
                  </a:lnTo>
                  <a:lnTo>
                    <a:pt x="74" y="300"/>
                  </a:lnTo>
                  <a:lnTo>
                    <a:pt x="56" y="232"/>
                  </a:lnTo>
                  <a:lnTo>
                    <a:pt x="66" y="165"/>
                  </a:lnTo>
                  <a:lnTo>
                    <a:pt x="88" y="93"/>
                  </a:lnTo>
                  <a:lnTo>
                    <a:pt x="105" y="22"/>
                  </a:lnTo>
                  <a:lnTo>
                    <a:pt x="98" y="9"/>
                  </a:lnTo>
                  <a:lnTo>
                    <a:pt x="81" y="0"/>
                  </a:lnTo>
                  <a:lnTo>
                    <a:pt x="37" y="118"/>
                  </a:lnTo>
                  <a:lnTo>
                    <a:pt x="12" y="244"/>
                  </a:lnTo>
                  <a:lnTo>
                    <a:pt x="17" y="273"/>
                  </a:lnTo>
                  <a:lnTo>
                    <a:pt x="24" y="300"/>
                  </a:lnTo>
                  <a:lnTo>
                    <a:pt x="0" y="374"/>
                  </a:lnTo>
                  <a:lnTo>
                    <a:pt x="9" y="455"/>
                  </a:lnTo>
                  <a:lnTo>
                    <a:pt x="14" y="455"/>
                  </a:lnTo>
                  <a:lnTo>
                    <a:pt x="17" y="455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97640" y="4659840"/>
              <a:ext cx="122040" cy="61200"/>
            </a:xfrm>
            <a:custGeom>
              <a:avLst/>
              <a:gdLst/>
              <a:ahLst/>
              <a:rect l="l" t="t" r="r" b="b"/>
              <a:pathLst>
                <a:path w="489" h="236">
                  <a:moveTo>
                    <a:pt x="6" y="236"/>
                  </a:moveTo>
                  <a:lnTo>
                    <a:pt x="257" y="120"/>
                  </a:lnTo>
                  <a:lnTo>
                    <a:pt x="274" y="90"/>
                  </a:lnTo>
                  <a:lnTo>
                    <a:pt x="306" y="66"/>
                  </a:lnTo>
                  <a:lnTo>
                    <a:pt x="471" y="44"/>
                  </a:lnTo>
                  <a:lnTo>
                    <a:pt x="483" y="34"/>
                  </a:lnTo>
                  <a:lnTo>
                    <a:pt x="489" y="16"/>
                  </a:lnTo>
                  <a:lnTo>
                    <a:pt x="483" y="7"/>
                  </a:lnTo>
                  <a:lnTo>
                    <a:pt x="471" y="0"/>
                  </a:lnTo>
                  <a:lnTo>
                    <a:pt x="410" y="9"/>
                  </a:lnTo>
                  <a:lnTo>
                    <a:pt x="348" y="14"/>
                  </a:lnTo>
                  <a:lnTo>
                    <a:pt x="289" y="27"/>
                  </a:lnTo>
                  <a:lnTo>
                    <a:pt x="242" y="58"/>
                  </a:lnTo>
                  <a:lnTo>
                    <a:pt x="234" y="78"/>
                  </a:lnTo>
                  <a:lnTo>
                    <a:pt x="222" y="93"/>
                  </a:lnTo>
                  <a:lnTo>
                    <a:pt x="23" y="192"/>
                  </a:lnTo>
                  <a:lnTo>
                    <a:pt x="11" y="204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6" y="23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80000" y="4622040"/>
              <a:ext cx="120240" cy="46800"/>
            </a:xfrm>
            <a:custGeom>
              <a:avLst/>
              <a:gdLst/>
              <a:ahLst/>
              <a:rect l="l" t="t" r="r" b="b"/>
              <a:pathLst>
                <a:path w="486" h="185">
                  <a:moveTo>
                    <a:pt x="12" y="185"/>
                  </a:moveTo>
                  <a:lnTo>
                    <a:pt x="20" y="185"/>
                  </a:lnTo>
                  <a:lnTo>
                    <a:pt x="27" y="183"/>
                  </a:lnTo>
                  <a:lnTo>
                    <a:pt x="74" y="139"/>
                  </a:lnTo>
                  <a:lnTo>
                    <a:pt x="126" y="104"/>
                  </a:lnTo>
                  <a:lnTo>
                    <a:pt x="187" y="74"/>
                  </a:lnTo>
                  <a:lnTo>
                    <a:pt x="254" y="55"/>
                  </a:lnTo>
                  <a:lnTo>
                    <a:pt x="313" y="49"/>
                  </a:lnTo>
                  <a:lnTo>
                    <a:pt x="370" y="49"/>
                  </a:lnTo>
                  <a:lnTo>
                    <a:pt x="424" y="49"/>
                  </a:lnTo>
                  <a:lnTo>
                    <a:pt x="479" y="51"/>
                  </a:lnTo>
                  <a:lnTo>
                    <a:pt x="486" y="37"/>
                  </a:lnTo>
                  <a:lnTo>
                    <a:pt x="479" y="18"/>
                  </a:lnTo>
                  <a:lnTo>
                    <a:pt x="428" y="5"/>
                  </a:lnTo>
                  <a:lnTo>
                    <a:pt x="377" y="0"/>
                  </a:lnTo>
                  <a:lnTo>
                    <a:pt x="326" y="2"/>
                  </a:lnTo>
                  <a:lnTo>
                    <a:pt x="273" y="7"/>
                  </a:lnTo>
                  <a:lnTo>
                    <a:pt x="222" y="20"/>
                  </a:lnTo>
                  <a:lnTo>
                    <a:pt x="170" y="35"/>
                  </a:lnTo>
                  <a:lnTo>
                    <a:pt x="123" y="57"/>
                  </a:lnTo>
                  <a:lnTo>
                    <a:pt x="77" y="79"/>
                  </a:lnTo>
                  <a:lnTo>
                    <a:pt x="45" y="113"/>
                  </a:lnTo>
                  <a:lnTo>
                    <a:pt x="12" y="139"/>
                  </a:lnTo>
                  <a:lnTo>
                    <a:pt x="8" y="146"/>
                  </a:lnTo>
                  <a:lnTo>
                    <a:pt x="0" y="160"/>
                  </a:lnTo>
                  <a:lnTo>
                    <a:pt x="0" y="170"/>
                  </a:lnTo>
                  <a:lnTo>
                    <a:pt x="5" y="183"/>
                  </a:lnTo>
                  <a:lnTo>
                    <a:pt x="10" y="183"/>
                  </a:lnTo>
                  <a:lnTo>
                    <a:pt x="12" y="185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7760" y="4582440"/>
              <a:ext cx="116640" cy="32040"/>
            </a:xfrm>
            <a:custGeom>
              <a:avLst/>
              <a:gdLst/>
              <a:ahLst/>
              <a:rect l="l" t="t" r="r" b="b"/>
              <a:pathLst>
                <a:path w="463" h="126">
                  <a:moveTo>
                    <a:pt x="7" y="126"/>
                  </a:moveTo>
                  <a:lnTo>
                    <a:pt x="56" y="103"/>
                  </a:lnTo>
                  <a:lnTo>
                    <a:pt x="108" y="86"/>
                  </a:lnTo>
                  <a:lnTo>
                    <a:pt x="163" y="69"/>
                  </a:lnTo>
                  <a:lnTo>
                    <a:pt x="219" y="54"/>
                  </a:lnTo>
                  <a:lnTo>
                    <a:pt x="275" y="47"/>
                  </a:lnTo>
                  <a:lnTo>
                    <a:pt x="333" y="42"/>
                  </a:lnTo>
                  <a:lnTo>
                    <a:pt x="389" y="47"/>
                  </a:lnTo>
                  <a:lnTo>
                    <a:pt x="446" y="59"/>
                  </a:lnTo>
                  <a:lnTo>
                    <a:pt x="456" y="54"/>
                  </a:lnTo>
                  <a:lnTo>
                    <a:pt x="463" y="42"/>
                  </a:lnTo>
                  <a:lnTo>
                    <a:pt x="402" y="10"/>
                  </a:lnTo>
                  <a:lnTo>
                    <a:pt x="330" y="0"/>
                  </a:lnTo>
                  <a:lnTo>
                    <a:pt x="254" y="5"/>
                  </a:lnTo>
                  <a:lnTo>
                    <a:pt x="184" y="15"/>
                  </a:lnTo>
                  <a:lnTo>
                    <a:pt x="135" y="29"/>
                  </a:lnTo>
                  <a:lnTo>
                    <a:pt x="91" y="45"/>
                  </a:lnTo>
                  <a:lnTo>
                    <a:pt x="52" y="64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5" y="94"/>
                  </a:lnTo>
                  <a:lnTo>
                    <a:pt x="0" y="108"/>
                  </a:lnTo>
                  <a:lnTo>
                    <a:pt x="2" y="126"/>
                  </a:lnTo>
                  <a:lnTo>
                    <a:pt x="5" y="126"/>
                  </a:lnTo>
                  <a:lnTo>
                    <a:pt x="7" y="12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48320" y="4519440"/>
              <a:ext cx="125640" cy="35640"/>
            </a:xfrm>
            <a:custGeom>
              <a:avLst/>
              <a:gdLst/>
              <a:ahLst/>
              <a:rect l="l" t="t" r="r" b="b"/>
              <a:pathLst>
                <a:path w="502" h="138">
                  <a:moveTo>
                    <a:pt x="12" y="138"/>
                  </a:moveTo>
                  <a:lnTo>
                    <a:pt x="79" y="124"/>
                  </a:lnTo>
                  <a:lnTo>
                    <a:pt x="145" y="106"/>
                  </a:lnTo>
                  <a:lnTo>
                    <a:pt x="216" y="91"/>
                  </a:lnTo>
                  <a:lnTo>
                    <a:pt x="286" y="89"/>
                  </a:lnTo>
                  <a:lnTo>
                    <a:pt x="295" y="78"/>
                  </a:lnTo>
                  <a:lnTo>
                    <a:pt x="298" y="64"/>
                  </a:lnTo>
                  <a:lnTo>
                    <a:pt x="492" y="131"/>
                  </a:lnTo>
                  <a:lnTo>
                    <a:pt x="502" y="115"/>
                  </a:lnTo>
                  <a:lnTo>
                    <a:pt x="492" y="101"/>
                  </a:lnTo>
                  <a:lnTo>
                    <a:pt x="244" y="0"/>
                  </a:lnTo>
                  <a:lnTo>
                    <a:pt x="235" y="20"/>
                  </a:lnTo>
                  <a:lnTo>
                    <a:pt x="235" y="42"/>
                  </a:lnTo>
                  <a:lnTo>
                    <a:pt x="5" y="106"/>
                  </a:lnTo>
                  <a:lnTo>
                    <a:pt x="0" y="118"/>
                  </a:lnTo>
                  <a:lnTo>
                    <a:pt x="2" y="136"/>
                  </a:lnTo>
                  <a:lnTo>
                    <a:pt x="7" y="136"/>
                  </a:lnTo>
                  <a:lnTo>
                    <a:pt x="12" y="138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41480" y="4479840"/>
              <a:ext cx="128880" cy="28440"/>
            </a:xfrm>
            <a:custGeom>
              <a:avLst/>
              <a:gdLst/>
              <a:ahLst/>
              <a:rect l="l" t="t" r="r" b="b"/>
              <a:pathLst>
                <a:path w="515" h="110">
                  <a:moveTo>
                    <a:pt x="5" y="110"/>
                  </a:moveTo>
                  <a:lnTo>
                    <a:pt x="64" y="95"/>
                  </a:lnTo>
                  <a:lnTo>
                    <a:pt x="125" y="88"/>
                  </a:lnTo>
                  <a:lnTo>
                    <a:pt x="190" y="91"/>
                  </a:lnTo>
                  <a:lnTo>
                    <a:pt x="253" y="103"/>
                  </a:lnTo>
                  <a:lnTo>
                    <a:pt x="266" y="100"/>
                  </a:lnTo>
                  <a:lnTo>
                    <a:pt x="271" y="100"/>
                  </a:lnTo>
                  <a:lnTo>
                    <a:pt x="298" y="63"/>
                  </a:lnTo>
                  <a:lnTo>
                    <a:pt x="332" y="46"/>
                  </a:lnTo>
                  <a:lnTo>
                    <a:pt x="374" y="51"/>
                  </a:lnTo>
                  <a:lnTo>
                    <a:pt x="416" y="65"/>
                  </a:lnTo>
                  <a:lnTo>
                    <a:pt x="453" y="83"/>
                  </a:lnTo>
                  <a:lnTo>
                    <a:pt x="483" y="95"/>
                  </a:lnTo>
                  <a:lnTo>
                    <a:pt x="513" y="95"/>
                  </a:lnTo>
                  <a:lnTo>
                    <a:pt x="515" y="76"/>
                  </a:lnTo>
                  <a:lnTo>
                    <a:pt x="495" y="56"/>
                  </a:lnTo>
                  <a:lnTo>
                    <a:pt x="446" y="33"/>
                  </a:lnTo>
                  <a:lnTo>
                    <a:pt x="397" y="12"/>
                  </a:lnTo>
                  <a:lnTo>
                    <a:pt x="345" y="0"/>
                  </a:lnTo>
                  <a:lnTo>
                    <a:pt x="295" y="12"/>
                  </a:lnTo>
                  <a:lnTo>
                    <a:pt x="269" y="31"/>
                  </a:lnTo>
                  <a:lnTo>
                    <a:pt x="251" y="53"/>
                  </a:lnTo>
                  <a:lnTo>
                    <a:pt x="192" y="49"/>
                  </a:lnTo>
                  <a:lnTo>
                    <a:pt x="133" y="46"/>
                  </a:lnTo>
                  <a:lnTo>
                    <a:pt x="71" y="53"/>
                  </a:lnTo>
                  <a:lnTo>
                    <a:pt x="12" y="70"/>
                  </a:lnTo>
                  <a:lnTo>
                    <a:pt x="9" y="73"/>
                  </a:lnTo>
                  <a:lnTo>
                    <a:pt x="5" y="79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5" y="110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39680" y="4440240"/>
              <a:ext cx="117000" cy="24840"/>
            </a:xfrm>
            <a:custGeom>
              <a:avLst/>
              <a:gdLst/>
              <a:ahLst/>
              <a:rect l="l" t="t" r="r" b="b"/>
              <a:pathLst>
                <a:path w="472" h="96">
                  <a:moveTo>
                    <a:pt x="448" y="96"/>
                  </a:moveTo>
                  <a:lnTo>
                    <a:pt x="460" y="96"/>
                  </a:lnTo>
                  <a:lnTo>
                    <a:pt x="472" y="91"/>
                  </a:lnTo>
                  <a:lnTo>
                    <a:pt x="463" y="61"/>
                  </a:lnTo>
                  <a:lnTo>
                    <a:pt x="441" y="39"/>
                  </a:lnTo>
                  <a:lnTo>
                    <a:pt x="413" y="22"/>
                  </a:lnTo>
                  <a:lnTo>
                    <a:pt x="384" y="10"/>
                  </a:lnTo>
                  <a:lnTo>
                    <a:pt x="344" y="0"/>
                  </a:lnTo>
                  <a:lnTo>
                    <a:pt x="310" y="0"/>
                  </a:lnTo>
                  <a:lnTo>
                    <a:pt x="275" y="10"/>
                  </a:lnTo>
                  <a:lnTo>
                    <a:pt x="241" y="22"/>
                  </a:lnTo>
                  <a:lnTo>
                    <a:pt x="186" y="10"/>
                  </a:lnTo>
                  <a:lnTo>
                    <a:pt x="130" y="7"/>
                  </a:lnTo>
                  <a:lnTo>
                    <a:pt x="73" y="17"/>
                  </a:lnTo>
                  <a:lnTo>
                    <a:pt x="17" y="37"/>
                  </a:lnTo>
                  <a:lnTo>
                    <a:pt x="7" y="44"/>
                  </a:lnTo>
                  <a:lnTo>
                    <a:pt x="2" y="49"/>
                  </a:lnTo>
                  <a:lnTo>
                    <a:pt x="2" y="56"/>
                  </a:lnTo>
                  <a:lnTo>
                    <a:pt x="0" y="67"/>
                  </a:lnTo>
                  <a:lnTo>
                    <a:pt x="2" y="72"/>
                  </a:lnTo>
                  <a:lnTo>
                    <a:pt x="7" y="79"/>
                  </a:lnTo>
                  <a:lnTo>
                    <a:pt x="66" y="63"/>
                  </a:lnTo>
                  <a:lnTo>
                    <a:pt x="125" y="56"/>
                  </a:lnTo>
                  <a:lnTo>
                    <a:pt x="186" y="56"/>
                  </a:lnTo>
                  <a:lnTo>
                    <a:pt x="251" y="67"/>
                  </a:lnTo>
                  <a:lnTo>
                    <a:pt x="298" y="49"/>
                  </a:lnTo>
                  <a:lnTo>
                    <a:pt x="342" y="44"/>
                  </a:lnTo>
                  <a:lnTo>
                    <a:pt x="384" y="54"/>
                  </a:lnTo>
                  <a:lnTo>
                    <a:pt x="418" y="77"/>
                  </a:lnTo>
                  <a:lnTo>
                    <a:pt x="433" y="91"/>
                  </a:lnTo>
                  <a:lnTo>
                    <a:pt x="446" y="96"/>
                  </a:lnTo>
                  <a:lnTo>
                    <a:pt x="448" y="96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24200" y="4396680"/>
              <a:ext cx="130680" cy="32040"/>
            </a:xfrm>
            <a:custGeom>
              <a:avLst/>
              <a:gdLst/>
              <a:ahLst/>
              <a:rect l="l" t="t" r="r" b="b"/>
              <a:pathLst>
                <a:path w="521" h="128">
                  <a:moveTo>
                    <a:pt x="491" y="128"/>
                  </a:moveTo>
                  <a:lnTo>
                    <a:pt x="501" y="128"/>
                  </a:lnTo>
                  <a:lnTo>
                    <a:pt x="516" y="128"/>
                  </a:lnTo>
                  <a:lnTo>
                    <a:pt x="518" y="123"/>
                  </a:lnTo>
                  <a:lnTo>
                    <a:pt x="521" y="110"/>
                  </a:lnTo>
                  <a:lnTo>
                    <a:pt x="504" y="93"/>
                  </a:lnTo>
                  <a:lnTo>
                    <a:pt x="481" y="81"/>
                  </a:lnTo>
                  <a:lnTo>
                    <a:pt x="457" y="66"/>
                  </a:lnTo>
                  <a:lnTo>
                    <a:pt x="434" y="49"/>
                  </a:lnTo>
                  <a:lnTo>
                    <a:pt x="383" y="26"/>
                  </a:lnTo>
                  <a:lnTo>
                    <a:pt x="330" y="12"/>
                  </a:lnTo>
                  <a:lnTo>
                    <a:pt x="279" y="5"/>
                  </a:lnTo>
                  <a:lnTo>
                    <a:pt x="228" y="0"/>
                  </a:lnTo>
                  <a:lnTo>
                    <a:pt x="174" y="0"/>
                  </a:lnTo>
                  <a:lnTo>
                    <a:pt x="121" y="2"/>
                  </a:lnTo>
                  <a:lnTo>
                    <a:pt x="70" y="7"/>
                  </a:lnTo>
                  <a:lnTo>
                    <a:pt x="18" y="12"/>
                  </a:lnTo>
                  <a:lnTo>
                    <a:pt x="3" y="29"/>
                  </a:lnTo>
                  <a:lnTo>
                    <a:pt x="0" y="54"/>
                  </a:lnTo>
                  <a:lnTo>
                    <a:pt x="60" y="49"/>
                  </a:lnTo>
                  <a:lnTo>
                    <a:pt x="121" y="44"/>
                  </a:lnTo>
                  <a:lnTo>
                    <a:pt x="181" y="44"/>
                  </a:lnTo>
                  <a:lnTo>
                    <a:pt x="242" y="46"/>
                  </a:lnTo>
                  <a:lnTo>
                    <a:pt x="302" y="54"/>
                  </a:lnTo>
                  <a:lnTo>
                    <a:pt x="360" y="68"/>
                  </a:lnTo>
                  <a:lnTo>
                    <a:pt x="415" y="91"/>
                  </a:lnTo>
                  <a:lnTo>
                    <a:pt x="467" y="121"/>
                  </a:lnTo>
                  <a:lnTo>
                    <a:pt x="479" y="125"/>
                  </a:lnTo>
                  <a:lnTo>
                    <a:pt x="491" y="128"/>
                  </a:lnTo>
                  <a:close/>
                </a:path>
              </a:pathLst>
            </a:custGeom>
            <a:solidFill>
              <a:srgbClr val="cc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5:41Z</dcterms:modified>
  <cp:revision>250</cp:revision>
  <dc:subject/>
  <dc:title>PowerPoint Presentation</dc:title>
</cp:coreProperties>
</file>