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45720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399360" y="380880"/>
            <a:ext cx="224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4     Unit 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343400" y="3733920"/>
            <a:ext cx="2649600" cy="2819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0" y="3886200"/>
            <a:ext cx="2031840" cy="25909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700200" y="3241800"/>
            <a:ext cx="1880280" cy="1670040"/>
            <a:chOff x="700200" y="3241800"/>
            <a:chExt cx="1880280" cy="1670040"/>
          </a:xfrm>
        </p:grpSpPr>
        <p:sp>
          <p:nvSpPr>
            <p:cNvPr id="44" name=""/>
            <p:cNvSpPr/>
            <p:nvPr/>
          </p:nvSpPr>
          <p:spPr>
            <a:xfrm flipH="1" rot="20682600">
              <a:off x="842400" y="3429000"/>
              <a:ext cx="1595160" cy="1295280"/>
            </a:xfrm>
            <a:prstGeom prst="wedgeEllipseCallout">
              <a:avLst>
                <a:gd name="adj1" fmla="val -55875"/>
                <a:gd name="adj2" fmla="val 27939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0682600">
              <a:off x="840240" y="3657600"/>
              <a:ext cx="159516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I bring mo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6629400" y="3257640"/>
            <a:ext cx="1828800" cy="1238040"/>
            <a:chOff x="6629400" y="3257640"/>
            <a:chExt cx="1828800" cy="1238040"/>
          </a:xfrm>
        </p:grpSpPr>
        <p:sp>
          <p:nvSpPr>
            <p:cNvPr id="47" name=""/>
            <p:cNvSpPr/>
            <p:nvPr/>
          </p:nvSpPr>
          <p:spPr>
            <a:xfrm>
              <a:off x="6629400" y="3257640"/>
              <a:ext cx="1828800" cy="1238040"/>
            </a:xfrm>
            <a:prstGeom prst="wedgeEllipseCallout">
              <a:avLst>
                <a:gd name="adj1" fmla="val -65018"/>
                <a:gd name="adj2" fmla="val 28847"/>
              </a:avLst>
            </a:prstGeom>
            <a:solidFill>
              <a:srgbClr val="ffcc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781680" y="3524040"/>
              <a:ext cx="15242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I take awa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 txBox="1"/>
          <p:nvPr/>
        </p:nvSpPr>
        <p:spPr>
          <a:xfrm>
            <a:off x="914400" y="2743200"/>
            <a:ext cx="7315200" cy="1905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484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</a:rPr>
              <a:t> </a:t>
            </a:r>
            <a:r>
              <a:rPr b="1" lang="en-US" sz="6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</a:rPr>
              <a:t>Adding &amp; Subtracting </a:t>
            </a:r>
            <a:endParaRPr b="1" lang="en-US" sz="6600" spc="1" strike="noStrike">
              <a:ln w="1260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</a:rPr>
              <a:t> </a:t>
            </a:r>
            <a:r>
              <a:rPr b="1" lang="en-US" sz="6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</a:rPr>
              <a:t>Polynomials</a:t>
            </a:r>
            <a:endParaRPr b="1" lang="en-US" sz="6600" spc="1" strike="noStrike">
              <a:ln w="1260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362320" y="53352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209556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 5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– 8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y – 3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2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8080" y="32767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 ( -2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– 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y – 2y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600200" y="1943280"/>
            <a:ext cx="1552680" cy="2438280"/>
            <a:chOff x="1600200" y="1943280"/>
            <a:chExt cx="1552680" cy="2438280"/>
          </a:xfrm>
        </p:grpSpPr>
        <p:sp>
          <p:nvSpPr>
            <p:cNvPr id="327" name=""/>
            <p:cNvSpPr/>
            <p:nvPr/>
          </p:nvSpPr>
          <p:spPr>
            <a:xfrm>
              <a:off x="1747800" y="1943280"/>
              <a:ext cx="1330560" cy="1219320"/>
            </a:xfrm>
            <a:prstGeom prst="ellipse">
              <a:avLst/>
            </a:prstGeom>
            <a:noFill/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00200" y="3238560"/>
              <a:ext cx="1552680" cy="1143000"/>
            </a:xfrm>
            <a:prstGeom prst="ellipse">
              <a:avLst/>
            </a:prstGeom>
            <a:noFill/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3276720" y="3276720"/>
            <a:ext cx="961920" cy="1028520"/>
          </a:xfrm>
          <a:prstGeom prst="ellipse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276720" y="1943280"/>
            <a:ext cx="2588760" cy="2399760"/>
            <a:chOff x="3276720" y="1943280"/>
            <a:chExt cx="2588760" cy="2399760"/>
          </a:xfrm>
        </p:grpSpPr>
        <p:sp>
          <p:nvSpPr>
            <p:cNvPr id="331" name=""/>
            <p:cNvSpPr/>
            <p:nvPr/>
          </p:nvSpPr>
          <p:spPr>
            <a:xfrm>
              <a:off x="3276720" y="1943280"/>
              <a:ext cx="1701360" cy="1294920"/>
            </a:xfrm>
            <a:prstGeom prst="ellipse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08000" y="3200400"/>
              <a:ext cx="1257480" cy="1142640"/>
            </a:xfrm>
            <a:prstGeom prst="ellipse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5334120" y="1943280"/>
            <a:ext cx="1295280" cy="114300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248520" y="3162240"/>
            <a:ext cx="1035000" cy="106704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0" y="2057400"/>
            <a:ext cx="762120" cy="914400"/>
          </a:xfrm>
          <a:prstGeom prst="ellipse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9480" y="48006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3x</a:t>
            </a:r>
            <a:r>
              <a:rPr b="0" lang="en-US" sz="5400" spc="-1" strike="noStrike" baseline="30000">
                <a:solidFill>
                  <a:srgbClr val="336600"/>
                </a:solidFill>
                <a:latin typeface="Comic Sans MS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76520" y="480060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- y</a:t>
            </a:r>
            <a:r>
              <a:rPr b="0" lang="en-US" sz="5400" spc="-1" strike="noStrike" baseline="30000">
                <a:solidFill>
                  <a:srgbClr val="336600"/>
                </a:solidFill>
                <a:latin typeface="Comic Sans MS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48006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-7x</a:t>
            </a:r>
            <a:r>
              <a:rPr b="0" lang="en-US" sz="54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95680" y="48006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-3y</a:t>
            </a:r>
            <a:r>
              <a:rPr b="0" lang="en-US" sz="54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19920" y="480060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- 2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4800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+ 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7160" y="1164960"/>
            <a:ext cx="2709000" cy="891360"/>
            <a:chOff x="587160" y="1164960"/>
            <a:chExt cx="2709000" cy="891360"/>
          </a:xfrm>
        </p:grpSpPr>
        <p:sp>
          <p:nvSpPr>
            <p:cNvPr id="344" name=""/>
            <p:cNvSpPr/>
            <p:nvPr/>
          </p:nvSpPr>
          <p:spPr>
            <a:xfrm rot="21064200">
              <a:off x="684000" y="1417680"/>
              <a:ext cx="2514600" cy="4460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21058800">
              <a:off x="606600" y="1371240"/>
              <a:ext cx="267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1143000" y="5821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descending order of de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05720" y="5867280"/>
            <a:ext cx="1143000" cy="55728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9320 h 557280"/>
              <a:gd name="textAreaBottom" fmla="*/ 417960 h 55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362320" y="6094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43000" y="190512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( 3a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+5ab –7b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+ 2 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14400" y="32004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+ (-2a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–5ba  + 3b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+b 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752480" y="1828800"/>
            <a:ext cx="1600200" cy="2362320"/>
            <a:chOff x="1752480" y="1828800"/>
            <a:chExt cx="1600200" cy="2362320"/>
          </a:xfrm>
        </p:grpSpPr>
        <p:sp>
          <p:nvSpPr>
            <p:cNvPr id="352" name=""/>
            <p:cNvSpPr/>
            <p:nvPr/>
          </p:nvSpPr>
          <p:spPr>
            <a:xfrm>
              <a:off x="1981080" y="1828800"/>
              <a:ext cx="1371600" cy="106668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752480" y="3048120"/>
              <a:ext cx="1524240" cy="114300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352680" y="1676520"/>
            <a:ext cx="1676160" cy="2666880"/>
            <a:chOff x="3352680" y="1676520"/>
            <a:chExt cx="1676160" cy="2666880"/>
          </a:xfrm>
        </p:grpSpPr>
        <p:sp>
          <p:nvSpPr>
            <p:cNvPr id="355" name=""/>
            <p:cNvSpPr/>
            <p:nvPr/>
          </p:nvSpPr>
          <p:spPr>
            <a:xfrm>
              <a:off x="3352680" y="3124440"/>
              <a:ext cx="1676160" cy="1218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352680" y="1676520"/>
              <a:ext cx="1676160" cy="1219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105520" y="1523880"/>
            <a:ext cx="1752120" cy="2666880"/>
            <a:chOff x="5105520" y="1523880"/>
            <a:chExt cx="1752120" cy="2666880"/>
          </a:xfrm>
        </p:grpSpPr>
        <p:sp>
          <p:nvSpPr>
            <p:cNvPr id="358" name=""/>
            <p:cNvSpPr/>
            <p:nvPr/>
          </p:nvSpPr>
          <p:spPr>
            <a:xfrm>
              <a:off x="5178600" y="3014280"/>
              <a:ext cx="1679040" cy="1176480"/>
            </a:xfrm>
            <a:prstGeom prst="ellipse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05520" y="1523880"/>
              <a:ext cx="1679400" cy="1176480"/>
            </a:xfrm>
            <a:prstGeom prst="ellipse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7010280" y="3200400"/>
            <a:ext cx="990720" cy="99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781680" y="1752480"/>
            <a:ext cx="1143000" cy="1067040"/>
          </a:xfrm>
          <a:prstGeom prst="ellipse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44956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14400" y="47242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6600"/>
                </a:solidFill>
                <a:latin typeface="Comic Sans MS"/>
              </a:rPr>
              <a:t>a</a:t>
            </a:r>
            <a:r>
              <a:rPr b="0" lang="en-US" sz="66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752480" y="4724280"/>
            <a:ext cx="24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6600"/>
                </a:solidFill>
                <a:latin typeface="Comic Sans MS"/>
              </a:rPr>
              <a:t>+ 0a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33920" y="4724280"/>
            <a:ext cx="27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6600"/>
                </a:solidFill>
                <a:latin typeface="Comic Sans MS"/>
              </a:rPr>
              <a:t>- 4b</a:t>
            </a:r>
            <a:r>
              <a:rPr b="0" lang="en-US" sz="66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62720" y="4683240"/>
            <a:ext cx="2361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6600"/>
                </a:solidFill>
                <a:latin typeface="Comic Sans MS"/>
              </a:rPr>
              <a:t>+ 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238880" y="4724280"/>
            <a:ext cx="1524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6600"/>
                </a:solidFill>
                <a:latin typeface="Comic Sans MS"/>
              </a:rPr>
              <a:t>+ 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0897400">
            <a:off x="456840" y="1371600"/>
            <a:ext cx="2666880" cy="4572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20897400">
            <a:off x="457200" y="137160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2743200" y="4800600"/>
            <a:ext cx="1371600" cy="1218960"/>
            <a:chOff x="2743200" y="4800600"/>
            <a:chExt cx="1371600" cy="1218960"/>
          </a:xfrm>
        </p:grpSpPr>
        <p:sp>
          <p:nvSpPr>
            <p:cNvPr id="371" name=""/>
            <p:cNvSpPr/>
            <p:nvPr/>
          </p:nvSpPr>
          <p:spPr>
            <a:xfrm>
              <a:off x="2743200" y="4800600"/>
              <a:ext cx="1143000" cy="1218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2743200" y="4800600"/>
              <a:ext cx="1371600" cy="1218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143000" y="5791320"/>
            <a:ext cx="7391520" cy="658440"/>
            <a:chOff x="1143000" y="5791320"/>
            <a:chExt cx="7391520" cy="658440"/>
          </a:xfrm>
        </p:grpSpPr>
        <p:sp>
          <p:nvSpPr>
            <p:cNvPr id="374" name=""/>
            <p:cNvSpPr/>
            <p:nvPr/>
          </p:nvSpPr>
          <p:spPr>
            <a:xfrm>
              <a:off x="1143000" y="5791320"/>
              <a:ext cx="552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cc"/>
                  </a:solidFill>
                  <a:latin typeface="Comic Sans MS"/>
                </a:rPr>
                <a:t>descending order of degr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91520" y="5791320"/>
              <a:ext cx="1143000" cy="658440"/>
            </a:xfrm>
            <a:custGeom>
              <a:avLst/>
              <a:gdLst>
                <a:gd name="textAreaLeft" fmla="*/ 178560 w 1143000"/>
                <a:gd name="textAreaRight" fmla="*/ 1000440 w 1143000"/>
                <a:gd name="textAreaTop" fmla="*/ 164520 h 658440"/>
                <a:gd name="textAreaBottom" fmla="*/ 493920 h 65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590920" y="6094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402444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to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5x</a:t>
            </a:r>
            <a:r>
              <a:rPr b="0" lang="en-US" sz="6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+ 2x – 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" y="2635200"/>
            <a:ext cx="66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add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  -x</a:t>
            </a:r>
            <a:r>
              <a:rPr b="0" lang="en-US" sz="6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+ 5x –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503640" y="1216440"/>
            <a:ext cx="3247560" cy="1224360"/>
            <a:chOff x="503640" y="1216440"/>
            <a:chExt cx="3247560" cy="1224360"/>
          </a:xfrm>
        </p:grpSpPr>
        <p:sp>
          <p:nvSpPr>
            <p:cNvPr id="380" name=""/>
            <p:cNvSpPr/>
            <p:nvPr/>
          </p:nvSpPr>
          <p:spPr>
            <a:xfrm rot="20897400">
              <a:off x="533160" y="1523520"/>
              <a:ext cx="3089160" cy="6098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20897400">
              <a:off x="609480" y="1538280"/>
              <a:ext cx="312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2286000" y="5181480"/>
            <a:ext cx="5529240" cy="1177920"/>
            <a:chOff x="2286000" y="5181480"/>
            <a:chExt cx="5529240" cy="1177920"/>
          </a:xfrm>
        </p:grpSpPr>
        <p:sp>
          <p:nvSpPr>
            <p:cNvPr id="383" name=""/>
            <p:cNvSpPr/>
            <p:nvPr/>
          </p:nvSpPr>
          <p:spPr>
            <a:xfrm>
              <a:off x="2286000" y="5181480"/>
              <a:ext cx="55292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3300"/>
                  </a:solidFill>
                  <a:latin typeface="Comic Sans MS"/>
                </a:rPr>
                <a:t>descending order of degre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657600" y="5802120"/>
              <a:ext cx="1143000" cy="557280"/>
            </a:xfrm>
            <a:custGeom>
              <a:avLst/>
              <a:gdLst>
                <a:gd name="textAreaLeft" fmla="*/ 178560 w 1143000"/>
                <a:gd name="textAreaRight" fmla="*/ 1000440 w 1143000"/>
                <a:gd name="textAreaTop" fmla="*/ 139320 h 557280"/>
                <a:gd name="textAreaBottom" fmla="*/ 417960 h 55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200400" y="53352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71600" y="19494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5x</a:t>
            </a:r>
            <a:r>
              <a:rPr b="0" lang="en-US" sz="6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+ 2x  –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66680" y="2895480"/>
            <a:ext cx="66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-x</a:t>
            </a:r>
            <a:r>
              <a:rPr b="0" lang="en-US" sz="6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+ 5x  –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95280" y="403848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838080" y="2863800"/>
            <a:ext cx="6286320" cy="1099440"/>
            <a:chOff x="838080" y="2863800"/>
            <a:chExt cx="6286320" cy="1099440"/>
          </a:xfrm>
        </p:grpSpPr>
        <p:sp>
          <p:nvSpPr>
            <p:cNvPr id="390" name=""/>
            <p:cNvSpPr/>
            <p:nvPr/>
          </p:nvSpPr>
          <p:spPr>
            <a:xfrm>
              <a:off x="1790280" y="2863800"/>
              <a:ext cx="5334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Comic Sans MS"/>
                </a:rPr>
                <a:t>                  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38080" y="2863800"/>
              <a:ext cx="16002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Comic Sans MS"/>
                </a:rPr>
                <a:t>(+)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1447920" y="396252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6600"/>
                </a:solidFill>
                <a:latin typeface="Comic Sans MS"/>
              </a:rPr>
              <a:t>4x</a:t>
            </a:r>
            <a:r>
              <a:rPr b="0" lang="en-US" sz="80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81280" y="3962520"/>
            <a:ext cx="221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6600"/>
                </a:solidFill>
                <a:latin typeface="Comic Sans MS"/>
              </a:rPr>
              <a:t>+ 7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396252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6600"/>
                </a:solidFill>
                <a:latin typeface="Comic Sans MS"/>
              </a:rPr>
              <a:t>-1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67280" y="1752480"/>
            <a:ext cx="1600200" cy="2286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33920" y="1600200"/>
            <a:ext cx="2133360" cy="24382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057400" y="1676520"/>
            <a:ext cx="1600200" cy="2286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371600" y="5486400"/>
            <a:ext cx="6095880" cy="591840"/>
            <a:chOff x="1371600" y="5486400"/>
            <a:chExt cx="6095880" cy="591840"/>
          </a:xfrm>
        </p:grpSpPr>
        <p:sp>
          <p:nvSpPr>
            <p:cNvPr id="399" name=""/>
            <p:cNvSpPr/>
            <p:nvPr/>
          </p:nvSpPr>
          <p:spPr>
            <a:xfrm>
              <a:off x="1371600" y="5486400"/>
              <a:ext cx="552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00cc"/>
                  </a:solidFill>
                  <a:latin typeface="Comic Sans MS"/>
                </a:rPr>
                <a:t>descending order of degre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24480" y="5521320"/>
              <a:ext cx="1143000" cy="556920"/>
            </a:xfrm>
            <a:custGeom>
              <a:avLst/>
              <a:gdLst>
                <a:gd name="textAreaLeft" fmla="*/ 178560 w 1143000"/>
                <a:gd name="textAreaRight" fmla="*/ 1000440 w 1143000"/>
                <a:gd name="textAreaTop" fmla="*/ 139320 h 556920"/>
                <a:gd name="textAreaBottom" fmla="*/ 41796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362320" y="6094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289872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(10z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+ 3z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– 2z + 8)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14400" y="411804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+ (-3z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+ 4z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– 5z – 2)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752480" y="2743200"/>
            <a:ext cx="1600200" cy="2438280"/>
            <a:chOff x="1752480" y="2743200"/>
            <a:chExt cx="1600200" cy="2438280"/>
          </a:xfrm>
        </p:grpSpPr>
        <p:sp>
          <p:nvSpPr>
            <p:cNvPr id="405" name=""/>
            <p:cNvSpPr/>
            <p:nvPr/>
          </p:nvSpPr>
          <p:spPr>
            <a:xfrm>
              <a:off x="1752480" y="2743200"/>
              <a:ext cx="1600200" cy="1219320"/>
            </a:xfrm>
            <a:prstGeom prst="ellipse">
              <a:avLst/>
            </a:prstGeom>
            <a:noFill/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52480" y="3962520"/>
              <a:ext cx="1600200" cy="1218960"/>
            </a:xfrm>
            <a:prstGeom prst="ellipse">
              <a:avLst/>
            </a:prstGeom>
            <a:noFill/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562720" y="2819520"/>
            <a:ext cx="1066680" cy="2286000"/>
            <a:chOff x="5562720" y="2819520"/>
            <a:chExt cx="1066680" cy="2286000"/>
          </a:xfrm>
        </p:grpSpPr>
        <p:sp>
          <p:nvSpPr>
            <p:cNvPr id="408" name=""/>
            <p:cNvSpPr/>
            <p:nvPr/>
          </p:nvSpPr>
          <p:spPr>
            <a:xfrm>
              <a:off x="5562720" y="2819520"/>
              <a:ext cx="1066680" cy="1066680"/>
            </a:xfrm>
            <a:prstGeom prst="ellipse">
              <a:avLst/>
            </a:prstGeom>
            <a:noFill/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562720" y="4038480"/>
              <a:ext cx="1066680" cy="1067040"/>
            </a:xfrm>
            <a:prstGeom prst="ellipse">
              <a:avLst/>
            </a:prstGeom>
            <a:noFill/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7010280" y="2819520"/>
            <a:ext cx="1066680" cy="2286000"/>
            <a:chOff x="7010280" y="2819520"/>
            <a:chExt cx="1066680" cy="2286000"/>
          </a:xfrm>
        </p:grpSpPr>
        <p:sp>
          <p:nvSpPr>
            <p:cNvPr id="411" name=""/>
            <p:cNvSpPr/>
            <p:nvPr/>
          </p:nvSpPr>
          <p:spPr>
            <a:xfrm>
              <a:off x="7010280" y="2819520"/>
              <a:ext cx="1066680" cy="1066680"/>
            </a:xfrm>
            <a:prstGeom prst="ellipse">
              <a:avLst/>
            </a:prstGeom>
            <a:noFill/>
            <a:ln w="572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010280" y="4038480"/>
              <a:ext cx="1066680" cy="1067040"/>
            </a:xfrm>
            <a:prstGeom prst="ellipse">
              <a:avLst/>
            </a:prstGeom>
            <a:noFill/>
            <a:ln w="572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3733920" y="3733920"/>
            <a:ext cx="12189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33920" y="50292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45120" y="1340280"/>
            <a:ext cx="3412440" cy="1285560"/>
            <a:chOff x="645120" y="1340280"/>
            <a:chExt cx="3412440" cy="1285560"/>
          </a:xfrm>
        </p:grpSpPr>
        <p:sp>
          <p:nvSpPr>
            <p:cNvPr id="416" name=""/>
            <p:cNvSpPr/>
            <p:nvPr/>
          </p:nvSpPr>
          <p:spPr>
            <a:xfrm rot="20897400">
              <a:off x="672480" y="1686960"/>
              <a:ext cx="3306240" cy="609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20897400">
              <a:off x="876600" y="1655280"/>
              <a:ext cx="316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362320" y="6094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0880" y="175248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0z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0z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3z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– 2z +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263988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3z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4z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0z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– 5z –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3520" y="403848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7z</a:t>
            </a:r>
            <a:r>
              <a:rPr b="0" lang="en-US" sz="5400" spc="-1" strike="noStrike" baseline="30000">
                <a:solidFill>
                  <a:srgbClr val="336600"/>
                </a:solidFill>
                <a:latin typeface="Comic Sans MS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76520" y="403848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+ 4z</a:t>
            </a:r>
            <a:r>
              <a:rPr b="0" lang="en-US" sz="5400" spc="-1" strike="noStrike" baseline="30000">
                <a:solidFill>
                  <a:srgbClr val="336600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00400" y="40384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+ 3z</a:t>
            </a:r>
            <a:r>
              <a:rPr b="0" lang="en-US" sz="5400" spc="-1" strike="noStrike" baseline="30000">
                <a:solidFill>
                  <a:srgbClr val="336600"/>
                </a:solidFill>
                <a:latin typeface="Comic Sans MS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105520" y="40384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- 7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629400" y="40384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+ 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172548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0z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        + 3z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– 2z +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14400" y="170496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0z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3z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– 2z +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14400" y="263988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3z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4z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– 5z –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14400" y="263988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3z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4z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4            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–  5z –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304920" y="2481120"/>
            <a:ext cx="8076600" cy="1203480"/>
            <a:chOff x="304920" y="2481120"/>
            <a:chExt cx="8076600" cy="1203480"/>
          </a:xfrm>
        </p:grpSpPr>
        <p:grpSp>
          <p:nvGrpSpPr>
            <p:cNvPr id="431" name=""/>
            <p:cNvGrpSpPr/>
            <p:nvPr/>
          </p:nvGrpSpPr>
          <p:grpSpPr>
            <a:xfrm>
              <a:off x="304920" y="2693880"/>
              <a:ext cx="8076600" cy="990720"/>
              <a:chOff x="304920" y="2693880"/>
              <a:chExt cx="8076600" cy="990720"/>
            </a:xfrm>
          </p:grpSpPr>
          <p:sp>
            <p:nvSpPr>
              <p:cNvPr id="432" name=""/>
              <p:cNvSpPr/>
              <p:nvPr/>
            </p:nvSpPr>
            <p:spPr>
              <a:xfrm>
                <a:off x="533160" y="3684600"/>
                <a:ext cx="784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04920" y="2693880"/>
                <a:ext cx="8380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457200" y="248112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557360" y="5715000"/>
            <a:ext cx="6062760" cy="557280"/>
            <a:chOff x="1557360" y="5715000"/>
            <a:chExt cx="6062760" cy="557280"/>
          </a:xfrm>
        </p:grpSpPr>
        <p:sp>
          <p:nvSpPr>
            <p:cNvPr id="436" name=""/>
            <p:cNvSpPr/>
            <p:nvPr/>
          </p:nvSpPr>
          <p:spPr>
            <a:xfrm>
              <a:off x="1557360" y="5729400"/>
              <a:ext cx="552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3300"/>
                  </a:solidFill>
                  <a:latin typeface="Comic Sans MS"/>
                </a:rPr>
                <a:t>descending order of degre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77120" y="5715000"/>
              <a:ext cx="1143000" cy="557280"/>
            </a:xfrm>
            <a:custGeom>
              <a:avLst/>
              <a:gdLst>
                <a:gd name="textAreaLeft" fmla="*/ 178560 w 1143000"/>
                <a:gd name="textAreaRight" fmla="*/ 1000440 w 1143000"/>
                <a:gd name="textAreaTop" fmla="*/ 139320 h 557280"/>
                <a:gd name="textAreaBottom" fmla="*/ 417960 h 55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6324480" y="3306600"/>
            <a:ext cx="2446560" cy="30178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609480" y="1447920"/>
            <a:ext cx="6172200" cy="4724280"/>
          </a:xfrm>
          <a:prstGeom prst="ellipse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152800" y="2324160"/>
            <a:ext cx="3943080" cy="28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</a:rPr>
              <a:t>Polynomials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</a:rPr>
              <a:t>And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</a:rPr>
              <a:t>Perimeter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971800" y="609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s/Peri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657600" y="1752480"/>
            <a:ext cx="4724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erimeter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otal of length of all of the sides of a geometrical fig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62320" y="5181480"/>
            <a:ext cx="44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 = a + b + 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066680" y="2986200"/>
            <a:ext cx="2362320" cy="2424960"/>
            <a:chOff x="1066680" y="2986200"/>
            <a:chExt cx="2362320" cy="2424960"/>
          </a:xfrm>
        </p:grpSpPr>
        <p:sp>
          <p:nvSpPr>
            <p:cNvPr id="445" name=""/>
            <p:cNvSpPr/>
            <p:nvPr/>
          </p:nvSpPr>
          <p:spPr>
            <a:xfrm>
              <a:off x="1066680" y="2986200"/>
              <a:ext cx="2362320" cy="17524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066680" y="306216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743200" y="306216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05120" y="458604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609480" y="1197000"/>
            <a:ext cx="3206880" cy="17571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838080" y="1387440"/>
            <a:ext cx="3962520" cy="2410200"/>
            <a:chOff x="838080" y="1387440"/>
            <a:chExt cx="3962520" cy="2410200"/>
          </a:xfrm>
        </p:grpSpPr>
        <p:sp>
          <p:nvSpPr>
            <p:cNvPr id="451" name=""/>
            <p:cNvSpPr/>
            <p:nvPr/>
          </p:nvSpPr>
          <p:spPr>
            <a:xfrm>
              <a:off x="1447920" y="1869840"/>
              <a:ext cx="2819160" cy="13716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38080" y="20653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14600" y="3216240"/>
              <a:ext cx="80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14600" y="13874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14800" y="2217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1028880" y="3673440"/>
            <a:ext cx="2971800" cy="2791080"/>
            <a:chOff x="1028880" y="3673440"/>
            <a:chExt cx="2971800" cy="2791080"/>
          </a:xfrm>
        </p:grpSpPr>
        <p:sp>
          <p:nvSpPr>
            <p:cNvPr id="457" name=""/>
            <p:cNvSpPr/>
            <p:nvPr/>
          </p:nvSpPr>
          <p:spPr>
            <a:xfrm>
              <a:off x="1447920" y="4359240"/>
              <a:ext cx="2209680" cy="1752480"/>
            </a:xfrm>
            <a:prstGeom prst="hexagon">
              <a:avLst>
                <a:gd name="adj" fmla="val 31522"/>
                <a:gd name="vf" fmla="val 115470"/>
              </a:avLst>
            </a:prstGeom>
            <a:solidFill>
              <a:srgbClr val="33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14880" y="53830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314880" y="43592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71880" y="36734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028880" y="53830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71880" y="5883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28880" y="43592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4191120" y="4267080"/>
            <a:ext cx="4647960" cy="2121480"/>
            <a:chOff x="4191120" y="4267080"/>
            <a:chExt cx="4647960" cy="2121480"/>
          </a:xfrm>
        </p:grpSpPr>
        <p:sp>
          <p:nvSpPr>
            <p:cNvPr id="465" name=""/>
            <p:cNvSpPr/>
            <p:nvPr/>
          </p:nvSpPr>
          <p:spPr>
            <a:xfrm>
              <a:off x="8153280" y="5078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00600" y="4952880"/>
              <a:ext cx="3543480" cy="981360"/>
            </a:xfrm>
            <a:prstGeom prst="octagon">
              <a:avLst>
                <a:gd name="adj" fmla="val 29287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943600" y="58071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34040" y="42670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57880" y="55785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457880" y="45878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001000" y="4419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115480" y="55688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91120" y="5181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5448240" y="1235160"/>
            <a:ext cx="2895840" cy="2791080"/>
            <a:chOff x="5448240" y="1235160"/>
            <a:chExt cx="2895840" cy="2791080"/>
          </a:xfrm>
        </p:grpSpPr>
        <p:sp>
          <p:nvSpPr>
            <p:cNvPr id="475" name=""/>
            <p:cNvSpPr/>
            <p:nvPr/>
          </p:nvSpPr>
          <p:spPr>
            <a:xfrm>
              <a:off x="5791320" y="1920960"/>
              <a:ext cx="2209680" cy="1676520"/>
            </a:xfrm>
            <a:custGeom>
              <a:avLst/>
              <a:gdLst>
                <a:gd name="textAreaLeft" fmla="*/ 486000 w 2209680"/>
                <a:gd name="textAreaRight" fmla="*/ 1723680 w 2209680"/>
                <a:gd name="textAreaTop" fmla="*/ 368640 h 1676520"/>
                <a:gd name="textAreaBottom" fmla="*/ 130788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658280" y="2479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629400" y="34448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48240" y="2563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77120" y="12351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3048120" y="60948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s/Peri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 rot="19989000">
            <a:off x="4097160" y="151236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2236800">
            <a:off x="5695200" y="17427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2m +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1176000">
            <a:off x="4890600" y="27363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3m +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66880" y="6094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s/Peri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44040" y="1306080"/>
            <a:ext cx="2744280" cy="1144440"/>
            <a:chOff x="644040" y="1306080"/>
            <a:chExt cx="2744280" cy="1144440"/>
          </a:xfrm>
        </p:grpSpPr>
        <p:sp>
          <p:nvSpPr>
            <p:cNvPr id="486" name=""/>
            <p:cNvSpPr/>
            <p:nvPr/>
          </p:nvSpPr>
          <p:spPr>
            <a:xfrm rot="20897400">
              <a:off x="678240" y="1580040"/>
              <a:ext cx="2626560" cy="6098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897400">
              <a:off x="843840" y="1554840"/>
              <a:ext cx="251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n examp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457200" y="4444920"/>
            <a:ext cx="441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 = (m+1) +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429000" y="444492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00"/>
                </a:solidFill>
                <a:latin typeface="Comic Sans MS"/>
              </a:rPr>
              <a:t>(2m+5)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43600" y="444492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(3m + 7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4876920" y="1733400"/>
            <a:ext cx="3384000" cy="1728720"/>
            <a:chOff x="4876920" y="1733400"/>
            <a:chExt cx="3384000" cy="1728720"/>
          </a:xfrm>
        </p:grpSpPr>
        <p:sp>
          <p:nvSpPr>
            <p:cNvPr id="492" name=""/>
            <p:cNvSpPr/>
            <p:nvPr/>
          </p:nvSpPr>
          <p:spPr>
            <a:xfrm flipH="1">
              <a:off x="4876920" y="1733400"/>
              <a:ext cx="81576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92680" y="1733400"/>
              <a:ext cx="2568240" cy="172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920" y="2166840"/>
              <a:ext cx="33840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76720" y="609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52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85800" y="14479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2971800"/>
            <a:ext cx="53341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d polynom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tract polynom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685800" y="166212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 = m + 1 + </a:t>
            </a:r>
            <a:r>
              <a:rPr b="0" lang="en-US" sz="4800" spc="-1" strike="noStrike">
                <a:solidFill>
                  <a:srgbClr val="336600"/>
                </a:solidFill>
                <a:latin typeface="Comic Sans MS"/>
              </a:rPr>
              <a:t>2m + 5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3m +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" y="322740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 m + </a:t>
            </a:r>
            <a:r>
              <a:rPr b="0" lang="en-US" sz="4800" spc="-1" strike="noStrike">
                <a:solidFill>
                  <a:srgbClr val="336600"/>
                </a:solidFill>
                <a:latin typeface="Comic Sans MS"/>
              </a:rPr>
              <a:t>2m</a:t>
            </a: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3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" y="4854600"/>
            <a:ext cx="3200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336600"/>
                </a:solidFill>
                <a:latin typeface="Comic Sans MS"/>
              </a:rPr>
              <a:t>P = 6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66880" y="5335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s/Peri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057400" y="2626920"/>
            <a:ext cx="4419360" cy="624240"/>
            <a:chOff x="2057400" y="2626920"/>
            <a:chExt cx="4419360" cy="624240"/>
          </a:xfrm>
        </p:grpSpPr>
        <p:cxnSp>
          <p:nvCxnSpPr>
            <p:cNvPr id="500" name=""/>
            <p:cNvCxnSpPr>
              <a:stCxn id="495" idx="2"/>
            </p:cNvCxnSpPr>
            <p:nvPr/>
          </p:nvCxnSpPr>
          <p:spPr>
            <a:xfrm rot="5400000">
              <a:off x="3821400" y="2386440"/>
              <a:ext cx="624600" cy="11059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1" name=""/>
            <p:cNvCxnSpPr/>
            <p:nvPr/>
          </p:nvCxnSpPr>
          <p:spPr>
            <a:xfrm flipV="1" rot="10800000">
              <a:off x="5371560" y="2780280"/>
              <a:ext cx="1105560" cy="4705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2" name=""/>
            <p:cNvSpPr/>
            <p:nvPr/>
          </p:nvSpPr>
          <p:spPr>
            <a:xfrm>
              <a:off x="2057400" y="2627280"/>
              <a:ext cx="76320" cy="6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5638320" y="4168800"/>
            <a:ext cx="2765880" cy="1316520"/>
            <a:chOff x="5638320" y="4168800"/>
            <a:chExt cx="2765880" cy="1316520"/>
          </a:xfrm>
        </p:grpSpPr>
        <p:sp>
          <p:nvSpPr>
            <p:cNvPr id="504" name=""/>
            <p:cNvSpPr/>
            <p:nvPr/>
          </p:nvSpPr>
          <p:spPr>
            <a:xfrm rot="5400000">
              <a:off x="6983280" y="3357360"/>
              <a:ext cx="609480" cy="223200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57960 h 2232000"/>
                <a:gd name="textAreaBottom" fmla="*/ 217404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5" name=""/>
            <p:cNvCxnSpPr>
              <a:stCxn id="504" idx="1"/>
              <a:endCxn id="497" idx="3"/>
            </p:cNvCxnSpPr>
            <p:nvPr/>
          </p:nvCxnSpPr>
          <p:spPr>
            <a:xfrm rot="5400000">
              <a:off x="6117480" y="4316400"/>
              <a:ext cx="689760" cy="164880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06" name=""/>
          <p:cNvGrpSpPr/>
          <p:nvPr/>
        </p:nvGrpSpPr>
        <p:grpSpPr>
          <a:xfrm>
            <a:off x="2057400" y="4168800"/>
            <a:ext cx="3314880" cy="1012680"/>
            <a:chOff x="2057400" y="4168800"/>
            <a:chExt cx="3314880" cy="1012680"/>
          </a:xfrm>
        </p:grpSpPr>
        <p:sp>
          <p:nvSpPr>
            <p:cNvPr id="507" name=""/>
            <p:cNvSpPr/>
            <p:nvPr/>
          </p:nvSpPr>
          <p:spPr>
            <a:xfrm rot="5400000">
              <a:off x="3409920" y="2815920"/>
              <a:ext cx="609480" cy="331488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86400 h 3314880"/>
                <a:gd name="textAreaBottom" fmla="*/ 3228480 h 331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3047760" y="4778280"/>
              <a:ext cx="533160" cy="40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5638680" y="3251160"/>
            <a:ext cx="35053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 1 </a:t>
            </a:r>
            <a:r>
              <a:rPr b="0" lang="en-US" sz="4800" spc="-1" strike="noStrike">
                <a:solidFill>
                  <a:srgbClr val="336600"/>
                </a:solidFill>
                <a:latin typeface="Comic Sans MS"/>
              </a:rPr>
              <a:t>+ 5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+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24080" y="4854600"/>
            <a:ext cx="27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6600"/>
                </a:solidFill>
                <a:latin typeface="Comic Sans MS"/>
              </a:rPr>
              <a:t>+ 1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143000" y="2270160"/>
            <a:ext cx="7467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s you go around a 4 sided figure, each succeeding side is one foot longer than the previous one. If the perimeter is 22 feet, find the length of each si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743200" y="6094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s/Peri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437760" y="1229400"/>
            <a:ext cx="2939760" cy="1154880"/>
            <a:chOff x="437760" y="1229400"/>
            <a:chExt cx="2939760" cy="1154880"/>
          </a:xfrm>
        </p:grpSpPr>
        <p:sp>
          <p:nvSpPr>
            <p:cNvPr id="514" name=""/>
            <p:cNvSpPr/>
            <p:nvPr/>
          </p:nvSpPr>
          <p:spPr>
            <a:xfrm rot="20897400">
              <a:off x="528480" y="1501920"/>
              <a:ext cx="2749680" cy="609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20897400">
              <a:off x="457200" y="1530360"/>
              <a:ext cx="2900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1143000" y="2270160"/>
            <a:ext cx="7467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s you go around a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4 sided figur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each succeeding side is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one foot longer than the previous on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If the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perimeter is 22 fee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find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he length of each sid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838080" y="2209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a 4 sided figu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90920" y="4786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352680" y="5700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s +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791320" y="4862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s +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09880" y="3948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s +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3124080" y="4284360"/>
            <a:ext cx="3657600" cy="1600560"/>
            <a:chOff x="3124080" y="4284360"/>
            <a:chExt cx="3657600" cy="1600560"/>
          </a:xfrm>
        </p:grpSpPr>
        <p:sp>
          <p:nvSpPr>
            <p:cNvPr id="523" name=""/>
            <p:cNvSpPr/>
            <p:nvPr/>
          </p:nvSpPr>
          <p:spPr>
            <a:xfrm>
              <a:off x="3124080" y="4633920"/>
              <a:ext cx="0" cy="90180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124080" y="5535720"/>
              <a:ext cx="1905120" cy="34920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5029200" y="4284360"/>
              <a:ext cx="1752480" cy="160020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3124080" y="4284720"/>
              <a:ext cx="3657600" cy="34920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2819520" y="6094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s/Peri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29401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each side 1 ft longer than the l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87680" y="164448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Giv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647640" y="2639880"/>
            <a:ext cx="73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Questions: ? length of each 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62120" y="17524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Given:</a:t>
            </a: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 perimeter = 22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666880" y="6094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s/Peri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2743200" y="3733920"/>
            <a:ext cx="4572000" cy="2515680"/>
            <a:chOff x="2743200" y="3733920"/>
            <a:chExt cx="4572000" cy="2515680"/>
          </a:xfrm>
        </p:grpSpPr>
        <p:sp>
          <p:nvSpPr>
            <p:cNvPr id="534" name=""/>
            <p:cNvSpPr/>
            <p:nvPr/>
          </p:nvSpPr>
          <p:spPr>
            <a:xfrm>
              <a:off x="2743200" y="46483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6600"/>
                  </a:solidFill>
                  <a:latin typeface="Comic Sans MS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886200" y="5607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6600"/>
                  </a:solidFill>
                  <a:latin typeface="Comic Sans MS"/>
                </a:rPr>
                <a:t>s + 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43600" y="46483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6600"/>
                  </a:solidFill>
                  <a:latin typeface="Comic Sans MS"/>
                </a:rPr>
                <a:t>s + 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05320" y="37339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6600"/>
                  </a:solidFill>
                  <a:latin typeface="Comic Sans MS"/>
                </a:rPr>
                <a:t>s + 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3429000" y="4038120"/>
              <a:ext cx="3657600" cy="1600560"/>
              <a:chOff x="3429000" y="4038120"/>
              <a:chExt cx="3657600" cy="1600560"/>
            </a:xfrm>
          </p:grpSpPr>
          <p:sp>
            <p:nvSpPr>
              <p:cNvPr id="539" name=""/>
              <p:cNvSpPr/>
              <p:nvPr/>
            </p:nvSpPr>
            <p:spPr>
              <a:xfrm>
                <a:off x="3429000" y="4387680"/>
                <a:ext cx="0" cy="90180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429000" y="5289480"/>
                <a:ext cx="1905120" cy="34920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5334120" y="4038120"/>
                <a:ext cx="1752480" cy="160020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3429000" y="4038480"/>
                <a:ext cx="3657600" cy="34920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4267080" y="2362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876920" y="3352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 +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391520" y="2558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 +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638680" y="1644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 +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38080" y="16765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Perimete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22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62120" y="414504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 + (s + 1) + (s + 2) + (s + 3) = 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723960" y="4191120"/>
            <a:ext cx="6134040" cy="761760"/>
            <a:chOff x="723960" y="4191120"/>
            <a:chExt cx="6134040" cy="761760"/>
          </a:xfrm>
        </p:grpSpPr>
        <p:sp>
          <p:nvSpPr>
            <p:cNvPr id="550" name=""/>
            <p:cNvSpPr/>
            <p:nvPr/>
          </p:nvSpPr>
          <p:spPr>
            <a:xfrm>
              <a:off x="723960" y="4191120"/>
              <a:ext cx="647640" cy="72864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05120" y="4233960"/>
              <a:ext cx="609480" cy="68580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000680" y="4233960"/>
              <a:ext cx="647640" cy="68580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48520" y="4191120"/>
              <a:ext cx="609480" cy="76176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2666880" y="4114800"/>
            <a:ext cx="4876920" cy="914400"/>
            <a:chOff x="2666880" y="4114800"/>
            <a:chExt cx="4876920" cy="914400"/>
          </a:xfrm>
        </p:grpSpPr>
        <p:sp>
          <p:nvSpPr>
            <p:cNvPr id="555" name=""/>
            <p:cNvSpPr/>
            <p:nvPr/>
          </p:nvSpPr>
          <p:spPr>
            <a:xfrm>
              <a:off x="2666880" y="4114800"/>
              <a:ext cx="762120" cy="914400"/>
            </a:xfrm>
            <a:prstGeom prst="ellipse">
              <a:avLst/>
            </a:prstGeom>
            <a:noFill/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38760" y="4124160"/>
              <a:ext cx="533520" cy="762120"/>
            </a:xfrm>
            <a:prstGeom prst="ellipse">
              <a:avLst/>
            </a:prstGeom>
            <a:noFill/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10280" y="4124160"/>
              <a:ext cx="533520" cy="762120"/>
            </a:xfrm>
            <a:prstGeom prst="ellipse">
              <a:avLst/>
            </a:prstGeom>
            <a:noFill/>
            <a:ln w="381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2057400" y="533412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4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095640" y="5334120"/>
            <a:ext cx="185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+ 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038480" y="5334120"/>
            <a:ext cx="266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= 2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666880" y="6094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s/Peri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724280" y="1980720"/>
            <a:ext cx="3657600" cy="1600560"/>
            <a:chOff x="4724280" y="1980720"/>
            <a:chExt cx="3657600" cy="1600560"/>
          </a:xfrm>
        </p:grpSpPr>
        <p:sp>
          <p:nvSpPr>
            <p:cNvPr id="563" name=""/>
            <p:cNvSpPr/>
            <p:nvPr/>
          </p:nvSpPr>
          <p:spPr>
            <a:xfrm>
              <a:off x="4724280" y="2330280"/>
              <a:ext cx="0" cy="90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724280" y="3232080"/>
              <a:ext cx="1905120" cy="34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6629400" y="1980720"/>
              <a:ext cx="17524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4724280" y="1981080"/>
              <a:ext cx="3657600" cy="34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4311720" cy="393048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2362320" y="31021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s + 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38680" y="30258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2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191120" y="302580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76720" y="378792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- 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86400" y="37116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- 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2590920" y="4549680"/>
            <a:ext cx="4876560" cy="0"/>
            <a:chOff x="2590920" y="4549680"/>
            <a:chExt cx="4876560" cy="0"/>
          </a:xfrm>
        </p:grpSpPr>
        <p:sp>
          <p:nvSpPr>
            <p:cNvPr id="574" name=""/>
            <p:cNvSpPr/>
            <p:nvPr/>
          </p:nvSpPr>
          <p:spPr>
            <a:xfrm>
              <a:off x="2590920" y="45496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486400" y="4549680"/>
              <a:ext cx="19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2895480" y="46260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191120" y="454968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486400" y="45496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66880" y="6094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s/Peri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609480" y="1197000"/>
            <a:ext cx="2667240" cy="14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4343400" cy="419076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4038480" y="28954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362320" y="365760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14600" y="28954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181480" y="36576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36576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257800" y="36576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3276720" y="4952880"/>
            <a:ext cx="2666880" cy="916920"/>
            <a:chOff x="3276720" y="4952880"/>
            <a:chExt cx="2666880" cy="916920"/>
          </a:xfrm>
        </p:grpSpPr>
        <p:sp>
          <p:nvSpPr>
            <p:cNvPr id="589" name=""/>
            <p:cNvSpPr/>
            <p:nvPr/>
          </p:nvSpPr>
          <p:spPr>
            <a:xfrm>
              <a:off x="3276720" y="4952880"/>
              <a:ext cx="1447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038480" y="4952880"/>
              <a:ext cx="121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95680" y="495288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2666880" y="5335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s/Peri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257800" y="28954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304920" y="256860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Comic Sans MS"/>
              </a:rPr>
              <a:t>4ft</a:t>
            </a: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  =</a:t>
            </a:r>
            <a:r>
              <a:rPr b="0" lang="en-US" sz="54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886200" y="35593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Comic Sans MS"/>
              </a:rPr>
              <a:t>= 5f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553080" y="264492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Comic Sans MS"/>
              </a:rPr>
              <a:t>= 6f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91120" y="15778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Comic Sans MS"/>
              </a:rPr>
              <a:t>= 7ft</a:t>
            </a: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85800" y="458784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e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85800" y="538812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4ft + 5ft + 6ft + 7ft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162920" y="522432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cc"/>
                </a:solidFill>
                <a:latin typeface="Comic Sans MS"/>
              </a:rPr>
              <a:t>22</a:t>
            </a: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f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6094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s/Peri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09680" y="2720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895480" y="3679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 +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410080" y="2720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 +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200400" y="1654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 +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819520" y="2111040"/>
            <a:ext cx="3657600" cy="1600560"/>
            <a:chOff x="2819520" y="2111040"/>
            <a:chExt cx="3657600" cy="1600560"/>
          </a:xfrm>
        </p:grpSpPr>
        <p:sp>
          <p:nvSpPr>
            <p:cNvPr id="607" name=""/>
            <p:cNvSpPr/>
            <p:nvPr/>
          </p:nvSpPr>
          <p:spPr>
            <a:xfrm>
              <a:off x="2819520" y="2460600"/>
              <a:ext cx="0" cy="90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819520" y="3362400"/>
              <a:ext cx="1905120" cy="34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4724640" y="2111040"/>
              <a:ext cx="17524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2819520" y="2111400"/>
              <a:ext cx="3657600" cy="34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362320" y="6094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838080" y="1447920"/>
            <a:ext cx="7315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</a:rPr>
              <a:t>Subtracting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</a:rPr>
              <a:t> </a:t>
            </a: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</a:rPr>
              <a:t>Polynomials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Comic Sans MS"/>
              <a:ea typeface="Comic Sans MS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3048120" cy="2536920"/>
          </a:xfrm>
          <a:prstGeom prst="rect">
            <a:avLst/>
          </a:prstGeom>
          <a:ln w="0">
            <a:noFill/>
          </a:ln>
        </p:spPr>
      </p:pic>
      <p:grpSp>
        <p:nvGrpSpPr>
          <p:cNvPr id="614" name=""/>
          <p:cNvGrpSpPr/>
          <p:nvPr/>
        </p:nvGrpSpPr>
        <p:grpSpPr>
          <a:xfrm>
            <a:off x="2895480" y="4419720"/>
            <a:ext cx="2819520" cy="1439640"/>
            <a:chOff x="2895480" y="4419720"/>
            <a:chExt cx="2819520" cy="1439640"/>
          </a:xfrm>
        </p:grpSpPr>
        <p:sp>
          <p:nvSpPr>
            <p:cNvPr id="615" name="Cloud"/>
            <p:cNvSpPr/>
            <p:nvPr/>
          </p:nvSpPr>
          <p:spPr>
            <a:xfrm>
              <a:off x="2895480" y="4419720"/>
              <a:ext cx="2743200" cy="143964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200400" y="480060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I take away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2362320" y="6094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85800" y="12240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pose you hav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4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+ 2x +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066680" y="3605040"/>
            <a:ext cx="4572000" cy="2240280"/>
            <a:chOff x="1066680" y="3605040"/>
            <a:chExt cx="4572000" cy="2240280"/>
          </a:xfrm>
        </p:grpSpPr>
        <p:sp>
          <p:nvSpPr>
            <p:cNvPr id="620" name="Cloud"/>
            <p:cNvSpPr/>
            <p:nvPr/>
          </p:nvSpPr>
          <p:spPr>
            <a:xfrm>
              <a:off x="1143000" y="3605040"/>
              <a:ext cx="4267080" cy="224028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066680" y="4157640"/>
              <a:ext cx="457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2x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+ 3x - 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5105160" y="2271600"/>
            <a:ext cx="3809880" cy="3708360"/>
            <a:chOff x="5105160" y="2271600"/>
            <a:chExt cx="3809880" cy="3708360"/>
          </a:xfrm>
        </p:grpSpPr>
        <p:sp>
          <p:nvSpPr>
            <p:cNvPr id="623" name=""/>
            <p:cNvSpPr/>
            <p:nvPr/>
          </p:nvSpPr>
          <p:spPr>
            <a:xfrm flipH="1">
              <a:off x="5104800" y="2271600"/>
              <a:ext cx="3809880" cy="838440"/>
            </a:xfrm>
            <a:prstGeom prst="wedgeEllipseCallout">
              <a:avLst>
                <a:gd name="adj1" fmla="val 1500"/>
                <a:gd name="adj2" fmla="val 92041"/>
              </a:avLst>
            </a:prstGeom>
            <a:solidFill>
              <a:srgbClr val="ffcc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Comic Sans MS"/>
                </a:rPr>
                <a:t>I take away!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4" name="" descr=""/>
            <p:cNvPicPr/>
            <p:nvPr/>
          </p:nvPicPr>
          <p:blipFill>
            <a:blip r:embed="rId1"/>
            <a:stretch/>
          </p:blipFill>
          <p:spPr>
            <a:xfrm>
              <a:off x="5486400" y="3443400"/>
              <a:ext cx="3048120" cy="2536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l"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76720" y="609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13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685800" y="14479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66880" y="2743200"/>
            <a:ext cx="586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se polynomials to solve problems involving the perimeter of geometrical obj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2362320" y="6094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152960" y="1989000"/>
            <a:ext cx="46101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 subtract 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add inver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371600" y="409248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nverse of 5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172200" y="41068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066680" y="502128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nverse of 5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19920" y="5021280"/>
            <a:ext cx="213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5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846000" y="1617840"/>
            <a:ext cx="3194280" cy="1717560"/>
            <a:chOff x="846000" y="1617840"/>
            <a:chExt cx="3194280" cy="1717560"/>
          </a:xfrm>
        </p:grpSpPr>
        <p:grpSp>
          <p:nvGrpSpPr>
            <p:cNvPr id="632" name=""/>
            <p:cNvGrpSpPr/>
            <p:nvPr/>
          </p:nvGrpSpPr>
          <p:grpSpPr>
            <a:xfrm>
              <a:off x="846000" y="1617840"/>
              <a:ext cx="2716200" cy="1717560"/>
              <a:chOff x="846000" y="1617840"/>
              <a:chExt cx="2716200" cy="1717560"/>
            </a:xfrm>
          </p:grpSpPr>
          <p:sp>
            <p:nvSpPr>
              <p:cNvPr id="633" name=""/>
              <p:cNvSpPr/>
              <p:nvPr/>
            </p:nvSpPr>
            <p:spPr>
              <a:xfrm>
                <a:off x="876240" y="1633680"/>
                <a:ext cx="2532240" cy="1679400"/>
              </a:xfrm>
              <a:custGeom>
                <a:avLst/>
                <a:gdLst/>
                <a:ahLst/>
                <a:rect l="l" t="t" r="r" b="b"/>
                <a:pathLst>
                  <a:path w="3190" h="3174">
                    <a:moveTo>
                      <a:pt x="2298" y="6"/>
                    </a:moveTo>
                    <a:lnTo>
                      <a:pt x="1977" y="224"/>
                    </a:lnTo>
                    <a:lnTo>
                      <a:pt x="1611" y="267"/>
                    </a:lnTo>
                    <a:lnTo>
                      <a:pt x="1273" y="360"/>
                    </a:lnTo>
                    <a:lnTo>
                      <a:pt x="816" y="469"/>
                    </a:lnTo>
                    <a:lnTo>
                      <a:pt x="362" y="720"/>
                    </a:lnTo>
                    <a:lnTo>
                      <a:pt x="112" y="1041"/>
                    </a:lnTo>
                    <a:lnTo>
                      <a:pt x="0" y="1481"/>
                    </a:lnTo>
                    <a:lnTo>
                      <a:pt x="77" y="2036"/>
                    </a:lnTo>
                    <a:lnTo>
                      <a:pt x="163" y="2406"/>
                    </a:lnTo>
                    <a:lnTo>
                      <a:pt x="194" y="2820"/>
                    </a:lnTo>
                    <a:lnTo>
                      <a:pt x="92" y="3125"/>
                    </a:lnTo>
                    <a:lnTo>
                      <a:pt x="484" y="3157"/>
                    </a:lnTo>
                    <a:lnTo>
                      <a:pt x="540" y="3098"/>
                    </a:lnTo>
                    <a:lnTo>
                      <a:pt x="611" y="3157"/>
                    </a:lnTo>
                    <a:lnTo>
                      <a:pt x="922" y="3163"/>
                    </a:lnTo>
                    <a:lnTo>
                      <a:pt x="978" y="3087"/>
                    </a:lnTo>
                    <a:lnTo>
                      <a:pt x="795" y="2836"/>
                    </a:lnTo>
                    <a:lnTo>
                      <a:pt x="850" y="2396"/>
                    </a:lnTo>
                    <a:lnTo>
                      <a:pt x="1106" y="2200"/>
                    </a:lnTo>
                    <a:lnTo>
                      <a:pt x="1218" y="2188"/>
                    </a:lnTo>
                    <a:lnTo>
                      <a:pt x="1284" y="2727"/>
                    </a:lnTo>
                    <a:lnTo>
                      <a:pt x="1259" y="3157"/>
                    </a:lnTo>
                    <a:lnTo>
                      <a:pt x="1691" y="3174"/>
                    </a:lnTo>
                    <a:lnTo>
                      <a:pt x="1713" y="3092"/>
                    </a:lnTo>
                    <a:lnTo>
                      <a:pt x="1611" y="2853"/>
                    </a:lnTo>
                    <a:lnTo>
                      <a:pt x="1662" y="2575"/>
                    </a:lnTo>
                    <a:lnTo>
                      <a:pt x="1707" y="2346"/>
                    </a:lnTo>
                    <a:lnTo>
                      <a:pt x="1819" y="2614"/>
                    </a:lnTo>
                    <a:lnTo>
                      <a:pt x="1835" y="2859"/>
                    </a:lnTo>
                    <a:lnTo>
                      <a:pt x="1906" y="3157"/>
                    </a:lnTo>
                    <a:lnTo>
                      <a:pt x="2313" y="3168"/>
                    </a:lnTo>
                    <a:lnTo>
                      <a:pt x="2344" y="3054"/>
                    </a:lnTo>
                    <a:lnTo>
                      <a:pt x="2191" y="2880"/>
                    </a:lnTo>
                    <a:lnTo>
                      <a:pt x="2187" y="2314"/>
                    </a:lnTo>
                    <a:lnTo>
                      <a:pt x="2161" y="1955"/>
                    </a:lnTo>
                    <a:lnTo>
                      <a:pt x="2303" y="1486"/>
                    </a:lnTo>
                    <a:lnTo>
                      <a:pt x="2406" y="1453"/>
                    </a:lnTo>
                    <a:lnTo>
                      <a:pt x="2563" y="1683"/>
                    </a:lnTo>
                    <a:lnTo>
                      <a:pt x="2665" y="1667"/>
                    </a:lnTo>
                    <a:lnTo>
                      <a:pt x="2904" y="1900"/>
                    </a:lnTo>
                    <a:lnTo>
                      <a:pt x="2951" y="2336"/>
                    </a:lnTo>
                    <a:lnTo>
                      <a:pt x="2878" y="2608"/>
                    </a:lnTo>
                    <a:lnTo>
                      <a:pt x="2778" y="2645"/>
                    </a:lnTo>
                    <a:lnTo>
                      <a:pt x="2716" y="2532"/>
                    </a:lnTo>
                    <a:lnTo>
                      <a:pt x="2614" y="2581"/>
                    </a:lnTo>
                    <a:lnTo>
                      <a:pt x="2512" y="2564"/>
                    </a:lnTo>
                    <a:lnTo>
                      <a:pt x="2608" y="2744"/>
                    </a:lnTo>
                    <a:lnTo>
                      <a:pt x="2756" y="2804"/>
                    </a:lnTo>
                    <a:lnTo>
                      <a:pt x="2925" y="2750"/>
                    </a:lnTo>
                    <a:lnTo>
                      <a:pt x="3078" y="2559"/>
                    </a:lnTo>
                    <a:lnTo>
                      <a:pt x="3190" y="2227"/>
                    </a:lnTo>
                    <a:lnTo>
                      <a:pt x="3190" y="1840"/>
                    </a:lnTo>
                    <a:lnTo>
                      <a:pt x="3098" y="1204"/>
                    </a:lnTo>
                    <a:lnTo>
                      <a:pt x="2980" y="823"/>
                    </a:lnTo>
                    <a:lnTo>
                      <a:pt x="3006" y="627"/>
                    </a:lnTo>
                    <a:lnTo>
                      <a:pt x="2833" y="278"/>
                    </a:lnTo>
                    <a:lnTo>
                      <a:pt x="2690" y="66"/>
                    </a:lnTo>
                    <a:lnTo>
                      <a:pt x="2543" y="88"/>
                    </a:lnTo>
                    <a:lnTo>
                      <a:pt x="2410" y="0"/>
                    </a:lnTo>
                    <a:lnTo>
                      <a:pt x="2298" y="6"/>
                    </a:lnTo>
                    <a:lnTo>
                      <a:pt x="2298" y="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371760" y="2432160"/>
                <a:ext cx="162000" cy="74520"/>
              </a:xfrm>
              <a:custGeom>
                <a:avLst/>
                <a:gdLst/>
                <a:ahLst/>
                <a:rect l="l" t="t" r="r" b="b"/>
                <a:pathLst>
                  <a:path w="204" h="141">
                    <a:moveTo>
                      <a:pt x="0" y="0"/>
                    </a:moveTo>
                    <a:lnTo>
                      <a:pt x="204" y="108"/>
                    </a:lnTo>
                    <a:lnTo>
                      <a:pt x="143" y="141"/>
                    </a:lnTo>
                    <a:lnTo>
                      <a:pt x="15" y="1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857680" y="2330280"/>
                <a:ext cx="433080" cy="289080"/>
              </a:xfrm>
              <a:custGeom>
                <a:avLst/>
                <a:gdLst/>
                <a:ahLst/>
                <a:rect l="l" t="t" r="r" b="b"/>
                <a:pathLst>
                  <a:path w="545" h="545">
                    <a:moveTo>
                      <a:pt x="25" y="0"/>
                    </a:moveTo>
                    <a:lnTo>
                      <a:pt x="148" y="6"/>
                    </a:lnTo>
                    <a:lnTo>
                      <a:pt x="244" y="229"/>
                    </a:lnTo>
                    <a:lnTo>
                      <a:pt x="372" y="371"/>
                    </a:lnTo>
                    <a:lnTo>
                      <a:pt x="545" y="513"/>
                    </a:lnTo>
                    <a:lnTo>
                      <a:pt x="494" y="545"/>
                    </a:lnTo>
                    <a:lnTo>
                      <a:pt x="326" y="480"/>
                    </a:lnTo>
                    <a:lnTo>
                      <a:pt x="107" y="295"/>
                    </a:lnTo>
                    <a:lnTo>
                      <a:pt x="0" y="66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049480" y="1865160"/>
                <a:ext cx="496800" cy="443160"/>
              </a:xfrm>
              <a:custGeom>
                <a:avLst/>
                <a:gdLst/>
                <a:ahLst/>
                <a:rect l="l" t="t" r="r" b="b"/>
                <a:pathLst>
                  <a:path w="627" h="838">
                    <a:moveTo>
                      <a:pt x="607" y="12"/>
                    </a:moveTo>
                    <a:lnTo>
                      <a:pt x="326" y="0"/>
                    </a:lnTo>
                    <a:lnTo>
                      <a:pt x="91" y="103"/>
                    </a:lnTo>
                    <a:lnTo>
                      <a:pt x="0" y="120"/>
                    </a:lnTo>
                    <a:lnTo>
                      <a:pt x="0" y="196"/>
                    </a:lnTo>
                    <a:lnTo>
                      <a:pt x="91" y="294"/>
                    </a:lnTo>
                    <a:lnTo>
                      <a:pt x="71" y="381"/>
                    </a:lnTo>
                    <a:lnTo>
                      <a:pt x="158" y="490"/>
                    </a:lnTo>
                    <a:lnTo>
                      <a:pt x="158" y="587"/>
                    </a:lnTo>
                    <a:lnTo>
                      <a:pt x="264" y="615"/>
                    </a:lnTo>
                    <a:lnTo>
                      <a:pt x="372" y="762"/>
                    </a:lnTo>
                    <a:lnTo>
                      <a:pt x="448" y="790"/>
                    </a:lnTo>
                    <a:lnTo>
                      <a:pt x="509" y="838"/>
                    </a:lnTo>
                    <a:lnTo>
                      <a:pt x="585" y="827"/>
                    </a:lnTo>
                    <a:lnTo>
                      <a:pt x="611" y="648"/>
                    </a:lnTo>
                    <a:lnTo>
                      <a:pt x="565" y="342"/>
                    </a:lnTo>
                    <a:lnTo>
                      <a:pt x="627" y="191"/>
                    </a:lnTo>
                    <a:lnTo>
                      <a:pt x="576" y="169"/>
                    </a:lnTo>
                    <a:lnTo>
                      <a:pt x="596" y="87"/>
                    </a:lnTo>
                    <a:lnTo>
                      <a:pt x="607" y="12"/>
                    </a:lnTo>
                    <a:lnTo>
                      <a:pt x="607" y="12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021040" y="1617840"/>
                <a:ext cx="1541160" cy="1511280"/>
              </a:xfrm>
              <a:custGeom>
                <a:avLst/>
                <a:gdLst/>
                <a:ahLst/>
                <a:rect l="l" t="t" r="r" b="b"/>
                <a:pathLst>
                  <a:path w="1944" h="2856">
                    <a:moveTo>
                      <a:pt x="1018" y="29"/>
                    </a:moveTo>
                    <a:lnTo>
                      <a:pt x="1104" y="86"/>
                    </a:lnTo>
                    <a:lnTo>
                      <a:pt x="1155" y="62"/>
                    </a:lnTo>
                    <a:lnTo>
                      <a:pt x="1191" y="55"/>
                    </a:lnTo>
                    <a:lnTo>
                      <a:pt x="1234" y="58"/>
                    </a:lnTo>
                    <a:lnTo>
                      <a:pt x="1275" y="76"/>
                    </a:lnTo>
                    <a:lnTo>
                      <a:pt x="1339" y="144"/>
                    </a:lnTo>
                    <a:lnTo>
                      <a:pt x="1378" y="215"/>
                    </a:lnTo>
                    <a:lnTo>
                      <a:pt x="1418" y="321"/>
                    </a:lnTo>
                    <a:lnTo>
                      <a:pt x="1495" y="460"/>
                    </a:lnTo>
                    <a:lnTo>
                      <a:pt x="1549" y="532"/>
                    </a:lnTo>
                    <a:lnTo>
                      <a:pt x="1598" y="628"/>
                    </a:lnTo>
                    <a:lnTo>
                      <a:pt x="1616" y="717"/>
                    </a:lnTo>
                    <a:lnTo>
                      <a:pt x="1602" y="813"/>
                    </a:lnTo>
                    <a:lnTo>
                      <a:pt x="1576" y="882"/>
                    </a:lnTo>
                    <a:lnTo>
                      <a:pt x="1636" y="1002"/>
                    </a:lnTo>
                    <a:lnTo>
                      <a:pt x="1641" y="1081"/>
                    </a:lnTo>
                    <a:lnTo>
                      <a:pt x="1675" y="1134"/>
                    </a:lnTo>
                    <a:lnTo>
                      <a:pt x="1688" y="1174"/>
                    </a:lnTo>
                    <a:lnTo>
                      <a:pt x="1682" y="1241"/>
                    </a:lnTo>
                    <a:lnTo>
                      <a:pt x="1719" y="1313"/>
                    </a:lnTo>
                    <a:lnTo>
                      <a:pt x="1719" y="1452"/>
                    </a:lnTo>
                    <a:lnTo>
                      <a:pt x="1729" y="1490"/>
                    </a:lnTo>
                    <a:lnTo>
                      <a:pt x="1729" y="1509"/>
                    </a:lnTo>
                    <a:lnTo>
                      <a:pt x="1753" y="1526"/>
                    </a:lnTo>
                    <a:lnTo>
                      <a:pt x="1886" y="1579"/>
                    </a:lnTo>
                    <a:lnTo>
                      <a:pt x="1922" y="1605"/>
                    </a:lnTo>
                    <a:lnTo>
                      <a:pt x="1944" y="1637"/>
                    </a:lnTo>
                    <a:lnTo>
                      <a:pt x="1944" y="1682"/>
                    </a:lnTo>
                    <a:lnTo>
                      <a:pt x="1922" y="1704"/>
                    </a:lnTo>
                    <a:lnTo>
                      <a:pt x="1879" y="1718"/>
                    </a:lnTo>
                    <a:lnTo>
                      <a:pt x="1816" y="1715"/>
                    </a:lnTo>
                    <a:lnTo>
                      <a:pt x="1805" y="1708"/>
                    </a:lnTo>
                    <a:lnTo>
                      <a:pt x="1762" y="1704"/>
                    </a:lnTo>
                    <a:lnTo>
                      <a:pt x="1753" y="1704"/>
                    </a:lnTo>
                    <a:lnTo>
                      <a:pt x="1745" y="1711"/>
                    </a:lnTo>
                    <a:lnTo>
                      <a:pt x="1760" y="1747"/>
                    </a:lnTo>
                    <a:lnTo>
                      <a:pt x="1760" y="1862"/>
                    </a:lnTo>
                    <a:lnTo>
                      <a:pt x="1765" y="1876"/>
                    </a:lnTo>
                    <a:lnTo>
                      <a:pt x="1789" y="2099"/>
                    </a:lnTo>
                    <a:lnTo>
                      <a:pt x="1782" y="2200"/>
                    </a:lnTo>
                    <a:lnTo>
                      <a:pt x="1742" y="2385"/>
                    </a:lnTo>
                    <a:lnTo>
                      <a:pt x="1702" y="2524"/>
                    </a:lnTo>
                    <a:lnTo>
                      <a:pt x="1645" y="2642"/>
                    </a:lnTo>
                    <a:lnTo>
                      <a:pt x="1576" y="2731"/>
                    </a:lnTo>
                    <a:lnTo>
                      <a:pt x="1515" y="2794"/>
                    </a:lnTo>
                    <a:lnTo>
                      <a:pt x="1459" y="2827"/>
                    </a:lnTo>
                    <a:lnTo>
                      <a:pt x="1405" y="2849"/>
                    </a:lnTo>
                    <a:lnTo>
                      <a:pt x="1333" y="2856"/>
                    </a:lnTo>
                    <a:lnTo>
                      <a:pt x="1275" y="2849"/>
                    </a:lnTo>
                    <a:lnTo>
                      <a:pt x="1208" y="2823"/>
                    </a:lnTo>
                    <a:lnTo>
                      <a:pt x="1182" y="2806"/>
                    </a:lnTo>
                    <a:lnTo>
                      <a:pt x="1115" y="2738"/>
                    </a:lnTo>
                    <a:lnTo>
                      <a:pt x="1075" y="2652"/>
                    </a:lnTo>
                    <a:lnTo>
                      <a:pt x="1061" y="2607"/>
                    </a:lnTo>
                    <a:lnTo>
                      <a:pt x="1072" y="2564"/>
                    </a:lnTo>
                    <a:lnTo>
                      <a:pt x="1091" y="2549"/>
                    </a:lnTo>
                    <a:lnTo>
                      <a:pt x="1132" y="2552"/>
                    </a:lnTo>
                    <a:lnTo>
                      <a:pt x="1158" y="2571"/>
                    </a:lnTo>
                    <a:lnTo>
                      <a:pt x="1205" y="2564"/>
                    </a:lnTo>
                    <a:lnTo>
                      <a:pt x="1225" y="2574"/>
                    </a:lnTo>
                    <a:lnTo>
                      <a:pt x="1225" y="2602"/>
                    </a:lnTo>
                    <a:lnTo>
                      <a:pt x="1212" y="2627"/>
                    </a:lnTo>
                    <a:lnTo>
                      <a:pt x="1189" y="2638"/>
                    </a:lnTo>
                    <a:lnTo>
                      <a:pt x="1144" y="2627"/>
                    </a:lnTo>
                    <a:lnTo>
                      <a:pt x="1142" y="2624"/>
                    </a:lnTo>
                    <a:lnTo>
                      <a:pt x="1135" y="2624"/>
                    </a:lnTo>
                    <a:lnTo>
                      <a:pt x="1128" y="2631"/>
                    </a:lnTo>
                    <a:lnTo>
                      <a:pt x="1138" y="2674"/>
                    </a:lnTo>
                    <a:lnTo>
                      <a:pt x="1171" y="2731"/>
                    </a:lnTo>
                    <a:lnTo>
                      <a:pt x="1222" y="2773"/>
                    </a:lnTo>
                    <a:lnTo>
                      <a:pt x="1265" y="2791"/>
                    </a:lnTo>
                    <a:lnTo>
                      <a:pt x="1339" y="2799"/>
                    </a:lnTo>
                    <a:lnTo>
                      <a:pt x="1385" y="2789"/>
                    </a:lnTo>
                    <a:lnTo>
                      <a:pt x="1441" y="2763"/>
                    </a:lnTo>
                    <a:lnTo>
                      <a:pt x="1488" y="2724"/>
                    </a:lnTo>
                    <a:lnTo>
                      <a:pt x="1576" y="2607"/>
                    </a:lnTo>
                    <a:lnTo>
                      <a:pt x="1619" y="2528"/>
                    </a:lnTo>
                    <a:lnTo>
                      <a:pt x="1659" y="2428"/>
                    </a:lnTo>
                    <a:lnTo>
                      <a:pt x="1666" y="2389"/>
                    </a:lnTo>
                    <a:lnTo>
                      <a:pt x="1679" y="2353"/>
                    </a:lnTo>
                    <a:lnTo>
                      <a:pt x="1686" y="2322"/>
                    </a:lnTo>
                    <a:lnTo>
                      <a:pt x="1699" y="2257"/>
                    </a:lnTo>
                    <a:lnTo>
                      <a:pt x="1722" y="2121"/>
                    </a:lnTo>
                    <a:lnTo>
                      <a:pt x="1715" y="1979"/>
                    </a:lnTo>
                    <a:lnTo>
                      <a:pt x="1699" y="1814"/>
                    </a:lnTo>
                    <a:lnTo>
                      <a:pt x="1702" y="1730"/>
                    </a:lnTo>
                    <a:lnTo>
                      <a:pt x="1726" y="1694"/>
                    </a:lnTo>
                    <a:lnTo>
                      <a:pt x="1719" y="1675"/>
                    </a:lnTo>
                    <a:lnTo>
                      <a:pt x="1719" y="1658"/>
                    </a:lnTo>
                    <a:lnTo>
                      <a:pt x="1729" y="1647"/>
                    </a:lnTo>
                    <a:lnTo>
                      <a:pt x="1776" y="1651"/>
                    </a:lnTo>
                    <a:lnTo>
                      <a:pt x="1812" y="1658"/>
                    </a:lnTo>
                    <a:lnTo>
                      <a:pt x="1852" y="1655"/>
                    </a:lnTo>
                    <a:lnTo>
                      <a:pt x="1859" y="1647"/>
                    </a:lnTo>
                    <a:lnTo>
                      <a:pt x="1843" y="1629"/>
                    </a:lnTo>
                    <a:lnTo>
                      <a:pt x="1722" y="1576"/>
                    </a:lnTo>
                    <a:lnTo>
                      <a:pt x="1709" y="1591"/>
                    </a:lnTo>
                    <a:lnTo>
                      <a:pt x="1706" y="1598"/>
                    </a:lnTo>
                    <a:lnTo>
                      <a:pt x="1695" y="1608"/>
                    </a:lnTo>
                    <a:lnTo>
                      <a:pt x="1668" y="1605"/>
                    </a:lnTo>
                    <a:lnTo>
                      <a:pt x="1662" y="1594"/>
                    </a:lnTo>
                    <a:lnTo>
                      <a:pt x="1652" y="1541"/>
                    </a:lnTo>
                    <a:lnTo>
                      <a:pt x="1652" y="1443"/>
                    </a:lnTo>
                    <a:lnTo>
                      <a:pt x="1639" y="1387"/>
                    </a:lnTo>
                    <a:lnTo>
                      <a:pt x="1639" y="1287"/>
                    </a:lnTo>
                    <a:lnTo>
                      <a:pt x="1605" y="1220"/>
                    </a:lnTo>
                    <a:lnTo>
                      <a:pt x="1602" y="1131"/>
                    </a:lnTo>
                    <a:lnTo>
                      <a:pt x="1572" y="1088"/>
                    </a:lnTo>
                    <a:lnTo>
                      <a:pt x="1558" y="1042"/>
                    </a:lnTo>
                    <a:lnTo>
                      <a:pt x="1555" y="973"/>
                    </a:lnTo>
                    <a:lnTo>
                      <a:pt x="1529" y="927"/>
                    </a:lnTo>
                    <a:lnTo>
                      <a:pt x="1515" y="884"/>
                    </a:lnTo>
                    <a:lnTo>
                      <a:pt x="1515" y="856"/>
                    </a:lnTo>
                    <a:lnTo>
                      <a:pt x="1502" y="827"/>
                    </a:lnTo>
                    <a:lnTo>
                      <a:pt x="1512" y="786"/>
                    </a:lnTo>
                    <a:lnTo>
                      <a:pt x="1529" y="738"/>
                    </a:lnTo>
                    <a:lnTo>
                      <a:pt x="1535" y="657"/>
                    </a:lnTo>
                    <a:lnTo>
                      <a:pt x="1512" y="589"/>
                    </a:lnTo>
                    <a:lnTo>
                      <a:pt x="1405" y="424"/>
                    </a:lnTo>
                    <a:lnTo>
                      <a:pt x="1339" y="278"/>
                    </a:lnTo>
                    <a:lnTo>
                      <a:pt x="1308" y="197"/>
                    </a:lnTo>
                    <a:lnTo>
                      <a:pt x="1255" y="139"/>
                    </a:lnTo>
                    <a:lnTo>
                      <a:pt x="1218" y="132"/>
                    </a:lnTo>
                    <a:lnTo>
                      <a:pt x="1185" y="137"/>
                    </a:lnTo>
                    <a:lnTo>
                      <a:pt x="1169" y="147"/>
                    </a:lnTo>
                    <a:lnTo>
                      <a:pt x="1158" y="158"/>
                    </a:lnTo>
                    <a:lnTo>
                      <a:pt x="1155" y="182"/>
                    </a:lnTo>
                    <a:lnTo>
                      <a:pt x="1144" y="190"/>
                    </a:lnTo>
                    <a:lnTo>
                      <a:pt x="1124" y="187"/>
                    </a:lnTo>
                    <a:lnTo>
                      <a:pt x="1034" y="115"/>
                    </a:lnTo>
                    <a:lnTo>
                      <a:pt x="987" y="96"/>
                    </a:lnTo>
                    <a:lnTo>
                      <a:pt x="978" y="91"/>
                    </a:lnTo>
                    <a:lnTo>
                      <a:pt x="958" y="86"/>
                    </a:lnTo>
                    <a:lnTo>
                      <a:pt x="852" y="86"/>
                    </a:lnTo>
                    <a:lnTo>
                      <a:pt x="787" y="112"/>
                    </a:lnTo>
                    <a:lnTo>
                      <a:pt x="715" y="158"/>
                    </a:lnTo>
                    <a:lnTo>
                      <a:pt x="611" y="264"/>
                    </a:lnTo>
                    <a:lnTo>
                      <a:pt x="562" y="300"/>
                    </a:lnTo>
                    <a:lnTo>
                      <a:pt x="461" y="336"/>
                    </a:lnTo>
                    <a:lnTo>
                      <a:pt x="290" y="400"/>
                    </a:lnTo>
                    <a:lnTo>
                      <a:pt x="238" y="429"/>
                    </a:lnTo>
                    <a:lnTo>
                      <a:pt x="133" y="508"/>
                    </a:lnTo>
                    <a:lnTo>
                      <a:pt x="117" y="515"/>
                    </a:lnTo>
                    <a:lnTo>
                      <a:pt x="84" y="542"/>
                    </a:lnTo>
                    <a:lnTo>
                      <a:pt x="58" y="561"/>
                    </a:lnTo>
                    <a:lnTo>
                      <a:pt x="45" y="575"/>
                    </a:lnTo>
                    <a:lnTo>
                      <a:pt x="45" y="585"/>
                    </a:lnTo>
                    <a:lnTo>
                      <a:pt x="54" y="599"/>
                    </a:lnTo>
                    <a:lnTo>
                      <a:pt x="58" y="645"/>
                    </a:lnTo>
                    <a:lnTo>
                      <a:pt x="124" y="714"/>
                    </a:lnTo>
                    <a:lnTo>
                      <a:pt x="137" y="735"/>
                    </a:lnTo>
                    <a:lnTo>
                      <a:pt x="148" y="781"/>
                    </a:lnTo>
                    <a:lnTo>
                      <a:pt x="137" y="860"/>
                    </a:lnTo>
                    <a:lnTo>
                      <a:pt x="160" y="884"/>
                    </a:lnTo>
                    <a:lnTo>
                      <a:pt x="187" y="903"/>
                    </a:lnTo>
                    <a:lnTo>
                      <a:pt x="218" y="942"/>
                    </a:lnTo>
                    <a:lnTo>
                      <a:pt x="234" y="1002"/>
                    </a:lnTo>
                    <a:lnTo>
                      <a:pt x="247" y="1016"/>
                    </a:lnTo>
                    <a:lnTo>
                      <a:pt x="290" y="1028"/>
                    </a:lnTo>
                    <a:lnTo>
                      <a:pt x="328" y="1056"/>
                    </a:lnTo>
                    <a:lnTo>
                      <a:pt x="358" y="1098"/>
                    </a:lnTo>
                    <a:lnTo>
                      <a:pt x="367" y="1127"/>
                    </a:lnTo>
                    <a:lnTo>
                      <a:pt x="401" y="1152"/>
                    </a:lnTo>
                    <a:lnTo>
                      <a:pt x="401" y="1160"/>
                    </a:lnTo>
                    <a:lnTo>
                      <a:pt x="384" y="1170"/>
                    </a:lnTo>
                    <a:lnTo>
                      <a:pt x="348" y="1167"/>
                    </a:lnTo>
                    <a:lnTo>
                      <a:pt x="311" y="1127"/>
                    </a:lnTo>
                    <a:lnTo>
                      <a:pt x="297" y="1098"/>
                    </a:lnTo>
                    <a:lnTo>
                      <a:pt x="284" y="1088"/>
                    </a:lnTo>
                    <a:lnTo>
                      <a:pt x="241" y="1084"/>
                    </a:lnTo>
                    <a:lnTo>
                      <a:pt x="218" y="1074"/>
                    </a:lnTo>
                    <a:lnTo>
                      <a:pt x="187" y="1038"/>
                    </a:lnTo>
                    <a:lnTo>
                      <a:pt x="167" y="992"/>
                    </a:lnTo>
                    <a:lnTo>
                      <a:pt x="160" y="949"/>
                    </a:lnTo>
                    <a:lnTo>
                      <a:pt x="110" y="910"/>
                    </a:lnTo>
                    <a:lnTo>
                      <a:pt x="81" y="856"/>
                    </a:lnTo>
                    <a:lnTo>
                      <a:pt x="81" y="796"/>
                    </a:lnTo>
                    <a:lnTo>
                      <a:pt x="88" y="764"/>
                    </a:lnTo>
                    <a:lnTo>
                      <a:pt x="81" y="731"/>
                    </a:lnTo>
                    <a:lnTo>
                      <a:pt x="31" y="681"/>
                    </a:lnTo>
                    <a:lnTo>
                      <a:pt x="4" y="642"/>
                    </a:lnTo>
                    <a:lnTo>
                      <a:pt x="0" y="596"/>
                    </a:lnTo>
                    <a:lnTo>
                      <a:pt x="0" y="571"/>
                    </a:lnTo>
                    <a:lnTo>
                      <a:pt x="18" y="535"/>
                    </a:lnTo>
                    <a:lnTo>
                      <a:pt x="71" y="482"/>
                    </a:lnTo>
                    <a:lnTo>
                      <a:pt x="198" y="383"/>
                    </a:lnTo>
                    <a:lnTo>
                      <a:pt x="247" y="357"/>
                    </a:lnTo>
                    <a:lnTo>
                      <a:pt x="265" y="353"/>
                    </a:lnTo>
                    <a:lnTo>
                      <a:pt x="274" y="343"/>
                    </a:lnTo>
                    <a:lnTo>
                      <a:pt x="304" y="333"/>
                    </a:lnTo>
                    <a:lnTo>
                      <a:pt x="348" y="300"/>
                    </a:lnTo>
                    <a:lnTo>
                      <a:pt x="364" y="297"/>
                    </a:lnTo>
                    <a:lnTo>
                      <a:pt x="375" y="286"/>
                    </a:lnTo>
                    <a:lnTo>
                      <a:pt x="398" y="278"/>
                    </a:lnTo>
                    <a:lnTo>
                      <a:pt x="411" y="264"/>
                    </a:lnTo>
                    <a:lnTo>
                      <a:pt x="474" y="247"/>
                    </a:lnTo>
                    <a:lnTo>
                      <a:pt x="544" y="211"/>
                    </a:lnTo>
                    <a:lnTo>
                      <a:pt x="614" y="147"/>
                    </a:lnTo>
                    <a:lnTo>
                      <a:pt x="668" y="91"/>
                    </a:lnTo>
                    <a:lnTo>
                      <a:pt x="758" y="33"/>
                    </a:lnTo>
                    <a:lnTo>
                      <a:pt x="825" y="12"/>
                    </a:lnTo>
                    <a:lnTo>
                      <a:pt x="888" y="0"/>
                    </a:lnTo>
                    <a:lnTo>
                      <a:pt x="944" y="5"/>
                    </a:lnTo>
                    <a:lnTo>
                      <a:pt x="1018" y="29"/>
                    </a:lnTo>
                    <a:lnTo>
                      <a:pt x="1018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46000" y="1757520"/>
                <a:ext cx="1425600" cy="1560240"/>
              </a:xfrm>
              <a:custGeom>
                <a:avLst/>
                <a:gdLst/>
                <a:ahLst/>
                <a:rect l="l" t="t" r="r" b="b"/>
                <a:pathLst>
                  <a:path w="1797" h="2947">
                    <a:moveTo>
                      <a:pt x="1797" y="7"/>
                    </a:moveTo>
                    <a:lnTo>
                      <a:pt x="1750" y="40"/>
                    </a:lnTo>
                    <a:lnTo>
                      <a:pt x="1570" y="79"/>
                    </a:lnTo>
                    <a:lnTo>
                      <a:pt x="1471" y="115"/>
                    </a:lnTo>
                    <a:lnTo>
                      <a:pt x="1318" y="155"/>
                    </a:lnTo>
                    <a:lnTo>
                      <a:pt x="1181" y="179"/>
                    </a:lnTo>
                    <a:lnTo>
                      <a:pt x="1143" y="189"/>
                    </a:lnTo>
                    <a:lnTo>
                      <a:pt x="1094" y="196"/>
                    </a:lnTo>
                    <a:lnTo>
                      <a:pt x="1053" y="211"/>
                    </a:lnTo>
                    <a:lnTo>
                      <a:pt x="1013" y="218"/>
                    </a:lnTo>
                    <a:lnTo>
                      <a:pt x="876" y="275"/>
                    </a:lnTo>
                    <a:lnTo>
                      <a:pt x="770" y="335"/>
                    </a:lnTo>
                    <a:lnTo>
                      <a:pt x="676" y="393"/>
                    </a:lnTo>
                    <a:lnTo>
                      <a:pt x="617" y="424"/>
                    </a:lnTo>
                    <a:lnTo>
                      <a:pt x="536" y="453"/>
                    </a:lnTo>
                    <a:lnTo>
                      <a:pt x="450" y="503"/>
                    </a:lnTo>
                    <a:lnTo>
                      <a:pt x="320" y="639"/>
                    </a:lnTo>
                    <a:lnTo>
                      <a:pt x="253" y="735"/>
                    </a:lnTo>
                    <a:lnTo>
                      <a:pt x="176" y="898"/>
                    </a:lnTo>
                    <a:lnTo>
                      <a:pt x="127" y="1042"/>
                    </a:lnTo>
                    <a:lnTo>
                      <a:pt x="119" y="1080"/>
                    </a:lnTo>
                    <a:lnTo>
                      <a:pt x="86" y="1195"/>
                    </a:lnTo>
                    <a:lnTo>
                      <a:pt x="86" y="1337"/>
                    </a:lnTo>
                    <a:lnTo>
                      <a:pt x="93" y="1401"/>
                    </a:lnTo>
                    <a:lnTo>
                      <a:pt x="113" y="1529"/>
                    </a:lnTo>
                    <a:lnTo>
                      <a:pt x="133" y="1586"/>
                    </a:lnTo>
                    <a:lnTo>
                      <a:pt x="147" y="1669"/>
                    </a:lnTo>
                    <a:lnTo>
                      <a:pt x="152" y="1684"/>
                    </a:lnTo>
                    <a:lnTo>
                      <a:pt x="152" y="1811"/>
                    </a:lnTo>
                    <a:lnTo>
                      <a:pt x="170" y="1911"/>
                    </a:lnTo>
                    <a:lnTo>
                      <a:pt x="210" y="2032"/>
                    </a:lnTo>
                    <a:lnTo>
                      <a:pt x="243" y="2121"/>
                    </a:lnTo>
                    <a:lnTo>
                      <a:pt x="243" y="2228"/>
                    </a:lnTo>
                    <a:lnTo>
                      <a:pt x="235" y="2252"/>
                    </a:lnTo>
                    <a:lnTo>
                      <a:pt x="239" y="2442"/>
                    </a:lnTo>
                    <a:lnTo>
                      <a:pt x="253" y="2530"/>
                    </a:lnTo>
                    <a:lnTo>
                      <a:pt x="262" y="2588"/>
                    </a:lnTo>
                    <a:lnTo>
                      <a:pt x="260" y="2641"/>
                    </a:lnTo>
                    <a:lnTo>
                      <a:pt x="219" y="2688"/>
                    </a:lnTo>
                    <a:lnTo>
                      <a:pt x="206" y="2738"/>
                    </a:lnTo>
                    <a:lnTo>
                      <a:pt x="176" y="2787"/>
                    </a:lnTo>
                    <a:lnTo>
                      <a:pt x="170" y="2877"/>
                    </a:lnTo>
                    <a:lnTo>
                      <a:pt x="170" y="2880"/>
                    </a:lnTo>
                    <a:lnTo>
                      <a:pt x="190" y="2894"/>
                    </a:lnTo>
                    <a:lnTo>
                      <a:pt x="235" y="2887"/>
                    </a:lnTo>
                    <a:lnTo>
                      <a:pt x="243" y="2880"/>
                    </a:lnTo>
                    <a:lnTo>
                      <a:pt x="243" y="2841"/>
                    </a:lnTo>
                    <a:lnTo>
                      <a:pt x="256" y="2820"/>
                    </a:lnTo>
                    <a:lnTo>
                      <a:pt x="286" y="2795"/>
                    </a:lnTo>
                    <a:lnTo>
                      <a:pt x="316" y="2798"/>
                    </a:lnTo>
                    <a:lnTo>
                      <a:pt x="327" y="2813"/>
                    </a:lnTo>
                    <a:lnTo>
                      <a:pt x="327" y="2820"/>
                    </a:lnTo>
                    <a:lnTo>
                      <a:pt x="320" y="2827"/>
                    </a:lnTo>
                    <a:lnTo>
                      <a:pt x="300" y="2830"/>
                    </a:lnTo>
                    <a:lnTo>
                      <a:pt x="276" y="2851"/>
                    </a:lnTo>
                    <a:lnTo>
                      <a:pt x="266" y="2863"/>
                    </a:lnTo>
                    <a:lnTo>
                      <a:pt x="266" y="2873"/>
                    </a:lnTo>
                    <a:lnTo>
                      <a:pt x="286" y="2887"/>
                    </a:lnTo>
                    <a:lnTo>
                      <a:pt x="423" y="2891"/>
                    </a:lnTo>
                    <a:lnTo>
                      <a:pt x="466" y="2901"/>
                    </a:lnTo>
                    <a:lnTo>
                      <a:pt x="513" y="2894"/>
                    </a:lnTo>
                    <a:lnTo>
                      <a:pt x="554" y="2891"/>
                    </a:lnTo>
                    <a:lnTo>
                      <a:pt x="554" y="2848"/>
                    </a:lnTo>
                    <a:lnTo>
                      <a:pt x="523" y="2727"/>
                    </a:lnTo>
                    <a:lnTo>
                      <a:pt x="487" y="2649"/>
                    </a:lnTo>
                    <a:lnTo>
                      <a:pt x="476" y="2606"/>
                    </a:lnTo>
                    <a:lnTo>
                      <a:pt x="473" y="2580"/>
                    </a:lnTo>
                    <a:lnTo>
                      <a:pt x="464" y="2506"/>
                    </a:lnTo>
                    <a:lnTo>
                      <a:pt x="456" y="2357"/>
                    </a:lnTo>
                    <a:lnTo>
                      <a:pt x="466" y="2295"/>
                    </a:lnTo>
                    <a:lnTo>
                      <a:pt x="470" y="2260"/>
                    </a:lnTo>
                    <a:lnTo>
                      <a:pt x="483" y="2221"/>
                    </a:lnTo>
                    <a:lnTo>
                      <a:pt x="483" y="2214"/>
                    </a:lnTo>
                    <a:lnTo>
                      <a:pt x="476" y="2207"/>
                    </a:lnTo>
                    <a:lnTo>
                      <a:pt x="433" y="2207"/>
                    </a:lnTo>
                    <a:lnTo>
                      <a:pt x="423" y="2192"/>
                    </a:lnTo>
                    <a:lnTo>
                      <a:pt x="426" y="2178"/>
                    </a:lnTo>
                    <a:lnTo>
                      <a:pt x="500" y="2089"/>
                    </a:lnTo>
                    <a:lnTo>
                      <a:pt x="520" y="2039"/>
                    </a:lnTo>
                    <a:lnTo>
                      <a:pt x="530" y="2003"/>
                    </a:lnTo>
                    <a:lnTo>
                      <a:pt x="536" y="1989"/>
                    </a:lnTo>
                    <a:lnTo>
                      <a:pt x="539" y="1954"/>
                    </a:lnTo>
                    <a:lnTo>
                      <a:pt x="554" y="1897"/>
                    </a:lnTo>
                    <a:lnTo>
                      <a:pt x="566" y="1830"/>
                    </a:lnTo>
                    <a:lnTo>
                      <a:pt x="577" y="1800"/>
                    </a:lnTo>
                    <a:lnTo>
                      <a:pt x="503" y="1696"/>
                    </a:lnTo>
                    <a:lnTo>
                      <a:pt x="480" y="1653"/>
                    </a:lnTo>
                    <a:lnTo>
                      <a:pt x="456" y="1619"/>
                    </a:lnTo>
                    <a:lnTo>
                      <a:pt x="450" y="1586"/>
                    </a:lnTo>
                    <a:lnTo>
                      <a:pt x="453" y="1565"/>
                    </a:lnTo>
                    <a:lnTo>
                      <a:pt x="460" y="1557"/>
                    </a:lnTo>
                    <a:lnTo>
                      <a:pt x="483" y="1562"/>
                    </a:lnTo>
                    <a:lnTo>
                      <a:pt x="590" y="1711"/>
                    </a:lnTo>
                    <a:lnTo>
                      <a:pt x="693" y="1794"/>
                    </a:lnTo>
                    <a:lnTo>
                      <a:pt x="810" y="1847"/>
                    </a:lnTo>
                    <a:lnTo>
                      <a:pt x="920" y="1868"/>
                    </a:lnTo>
                    <a:lnTo>
                      <a:pt x="977" y="1871"/>
                    </a:lnTo>
                    <a:lnTo>
                      <a:pt x="1120" y="1890"/>
                    </a:lnTo>
                    <a:lnTo>
                      <a:pt x="1217" y="1871"/>
                    </a:lnTo>
                    <a:lnTo>
                      <a:pt x="1231" y="1878"/>
                    </a:lnTo>
                    <a:lnTo>
                      <a:pt x="1240" y="1878"/>
                    </a:lnTo>
                    <a:lnTo>
                      <a:pt x="1247" y="1871"/>
                    </a:lnTo>
                    <a:lnTo>
                      <a:pt x="1253" y="1821"/>
                    </a:lnTo>
                    <a:lnTo>
                      <a:pt x="1260" y="1814"/>
                    </a:lnTo>
                    <a:lnTo>
                      <a:pt x="1284" y="1818"/>
                    </a:lnTo>
                    <a:lnTo>
                      <a:pt x="1298" y="1835"/>
                    </a:lnTo>
                    <a:lnTo>
                      <a:pt x="1307" y="1883"/>
                    </a:lnTo>
                    <a:lnTo>
                      <a:pt x="1307" y="2046"/>
                    </a:lnTo>
                    <a:lnTo>
                      <a:pt x="1318" y="2171"/>
                    </a:lnTo>
                    <a:lnTo>
                      <a:pt x="1323" y="2185"/>
                    </a:lnTo>
                    <a:lnTo>
                      <a:pt x="1330" y="2257"/>
                    </a:lnTo>
                    <a:lnTo>
                      <a:pt x="1347" y="2314"/>
                    </a:lnTo>
                    <a:lnTo>
                      <a:pt x="1361" y="2403"/>
                    </a:lnTo>
                    <a:lnTo>
                      <a:pt x="1361" y="2460"/>
                    </a:lnTo>
                    <a:lnTo>
                      <a:pt x="1350" y="2492"/>
                    </a:lnTo>
                    <a:lnTo>
                      <a:pt x="1350" y="2641"/>
                    </a:lnTo>
                    <a:lnTo>
                      <a:pt x="1341" y="2652"/>
                    </a:lnTo>
                    <a:lnTo>
                      <a:pt x="1300" y="2649"/>
                    </a:lnTo>
                    <a:lnTo>
                      <a:pt x="1291" y="2635"/>
                    </a:lnTo>
                    <a:lnTo>
                      <a:pt x="1284" y="2602"/>
                    </a:lnTo>
                    <a:lnTo>
                      <a:pt x="1271" y="2549"/>
                    </a:lnTo>
                    <a:lnTo>
                      <a:pt x="1276" y="2424"/>
                    </a:lnTo>
                    <a:lnTo>
                      <a:pt x="1287" y="2396"/>
                    </a:lnTo>
                    <a:lnTo>
                      <a:pt x="1284" y="2343"/>
                    </a:lnTo>
                    <a:lnTo>
                      <a:pt x="1274" y="2295"/>
                    </a:lnTo>
                    <a:lnTo>
                      <a:pt x="1251" y="2164"/>
                    </a:lnTo>
                    <a:lnTo>
                      <a:pt x="1240" y="2036"/>
                    </a:lnTo>
                    <a:lnTo>
                      <a:pt x="1244" y="2000"/>
                    </a:lnTo>
                    <a:lnTo>
                      <a:pt x="1244" y="1989"/>
                    </a:lnTo>
                    <a:lnTo>
                      <a:pt x="1233" y="1979"/>
                    </a:lnTo>
                    <a:lnTo>
                      <a:pt x="1208" y="1989"/>
                    </a:lnTo>
                    <a:lnTo>
                      <a:pt x="997" y="1979"/>
                    </a:lnTo>
                    <a:lnTo>
                      <a:pt x="900" y="1967"/>
                    </a:lnTo>
                    <a:lnTo>
                      <a:pt x="840" y="1954"/>
                    </a:lnTo>
                    <a:lnTo>
                      <a:pt x="716" y="1900"/>
                    </a:lnTo>
                    <a:lnTo>
                      <a:pt x="637" y="1847"/>
                    </a:lnTo>
                    <a:lnTo>
                      <a:pt x="633" y="1843"/>
                    </a:lnTo>
                    <a:lnTo>
                      <a:pt x="619" y="1864"/>
                    </a:lnTo>
                    <a:lnTo>
                      <a:pt x="613" y="1954"/>
                    </a:lnTo>
                    <a:lnTo>
                      <a:pt x="583" y="2075"/>
                    </a:lnTo>
                    <a:lnTo>
                      <a:pt x="560" y="2135"/>
                    </a:lnTo>
                    <a:lnTo>
                      <a:pt x="523" y="2178"/>
                    </a:lnTo>
                    <a:lnTo>
                      <a:pt x="550" y="2221"/>
                    </a:lnTo>
                    <a:lnTo>
                      <a:pt x="543" y="2257"/>
                    </a:lnTo>
                    <a:lnTo>
                      <a:pt x="536" y="2268"/>
                    </a:lnTo>
                    <a:lnTo>
                      <a:pt x="534" y="2317"/>
                    </a:lnTo>
                    <a:lnTo>
                      <a:pt x="523" y="2446"/>
                    </a:lnTo>
                    <a:lnTo>
                      <a:pt x="534" y="2570"/>
                    </a:lnTo>
                    <a:lnTo>
                      <a:pt x="543" y="2599"/>
                    </a:lnTo>
                    <a:lnTo>
                      <a:pt x="550" y="2649"/>
                    </a:lnTo>
                    <a:lnTo>
                      <a:pt x="583" y="2712"/>
                    </a:lnTo>
                    <a:lnTo>
                      <a:pt x="606" y="2791"/>
                    </a:lnTo>
                    <a:lnTo>
                      <a:pt x="613" y="2823"/>
                    </a:lnTo>
                    <a:lnTo>
                      <a:pt x="610" y="2887"/>
                    </a:lnTo>
                    <a:lnTo>
                      <a:pt x="597" y="2901"/>
                    </a:lnTo>
                    <a:lnTo>
                      <a:pt x="560" y="2906"/>
                    </a:lnTo>
                    <a:lnTo>
                      <a:pt x="554" y="2911"/>
                    </a:lnTo>
                    <a:lnTo>
                      <a:pt x="554" y="2923"/>
                    </a:lnTo>
                    <a:lnTo>
                      <a:pt x="520" y="2947"/>
                    </a:lnTo>
                    <a:lnTo>
                      <a:pt x="433" y="2944"/>
                    </a:lnTo>
                    <a:lnTo>
                      <a:pt x="397" y="2930"/>
                    </a:lnTo>
                    <a:lnTo>
                      <a:pt x="269" y="2926"/>
                    </a:lnTo>
                    <a:lnTo>
                      <a:pt x="190" y="2923"/>
                    </a:lnTo>
                    <a:lnTo>
                      <a:pt x="172" y="2911"/>
                    </a:lnTo>
                    <a:lnTo>
                      <a:pt x="133" y="2911"/>
                    </a:lnTo>
                    <a:lnTo>
                      <a:pt x="116" y="2901"/>
                    </a:lnTo>
                    <a:lnTo>
                      <a:pt x="100" y="2877"/>
                    </a:lnTo>
                    <a:lnTo>
                      <a:pt x="102" y="2805"/>
                    </a:lnTo>
                    <a:lnTo>
                      <a:pt x="113" y="2760"/>
                    </a:lnTo>
                    <a:lnTo>
                      <a:pt x="136" y="2712"/>
                    </a:lnTo>
                    <a:lnTo>
                      <a:pt x="156" y="2688"/>
                    </a:lnTo>
                    <a:lnTo>
                      <a:pt x="179" y="2616"/>
                    </a:lnTo>
                    <a:lnTo>
                      <a:pt x="172" y="2556"/>
                    </a:lnTo>
                    <a:lnTo>
                      <a:pt x="159" y="2499"/>
                    </a:lnTo>
                    <a:lnTo>
                      <a:pt x="147" y="2353"/>
                    </a:lnTo>
                    <a:lnTo>
                      <a:pt x="147" y="2207"/>
                    </a:lnTo>
                    <a:lnTo>
                      <a:pt x="143" y="2089"/>
                    </a:lnTo>
                    <a:lnTo>
                      <a:pt x="106" y="1996"/>
                    </a:lnTo>
                    <a:lnTo>
                      <a:pt x="86" y="1921"/>
                    </a:lnTo>
                    <a:lnTo>
                      <a:pt x="73" y="1871"/>
                    </a:lnTo>
                    <a:lnTo>
                      <a:pt x="59" y="1711"/>
                    </a:lnTo>
                    <a:lnTo>
                      <a:pt x="59" y="1629"/>
                    </a:lnTo>
                    <a:lnTo>
                      <a:pt x="49" y="1612"/>
                    </a:lnTo>
                    <a:lnTo>
                      <a:pt x="43" y="1562"/>
                    </a:lnTo>
                    <a:lnTo>
                      <a:pt x="19" y="1473"/>
                    </a:lnTo>
                    <a:lnTo>
                      <a:pt x="12" y="1426"/>
                    </a:lnTo>
                    <a:lnTo>
                      <a:pt x="0" y="1302"/>
                    </a:lnTo>
                    <a:lnTo>
                      <a:pt x="0" y="1173"/>
                    </a:lnTo>
                    <a:lnTo>
                      <a:pt x="33" y="1055"/>
                    </a:lnTo>
                    <a:lnTo>
                      <a:pt x="102" y="848"/>
                    </a:lnTo>
                    <a:lnTo>
                      <a:pt x="147" y="759"/>
                    </a:lnTo>
                    <a:lnTo>
                      <a:pt x="183" y="688"/>
                    </a:lnTo>
                    <a:lnTo>
                      <a:pt x="219" y="628"/>
                    </a:lnTo>
                    <a:lnTo>
                      <a:pt x="316" y="510"/>
                    </a:lnTo>
                    <a:lnTo>
                      <a:pt x="390" y="443"/>
                    </a:lnTo>
                    <a:lnTo>
                      <a:pt x="476" y="385"/>
                    </a:lnTo>
                    <a:lnTo>
                      <a:pt x="613" y="332"/>
                    </a:lnTo>
                    <a:lnTo>
                      <a:pt x="817" y="218"/>
                    </a:lnTo>
                    <a:lnTo>
                      <a:pt x="974" y="158"/>
                    </a:lnTo>
                    <a:lnTo>
                      <a:pt x="1123" y="129"/>
                    </a:lnTo>
                    <a:lnTo>
                      <a:pt x="1224" y="115"/>
                    </a:lnTo>
                    <a:lnTo>
                      <a:pt x="1370" y="89"/>
                    </a:lnTo>
                    <a:lnTo>
                      <a:pt x="1534" y="36"/>
                    </a:lnTo>
                    <a:lnTo>
                      <a:pt x="1601" y="14"/>
                    </a:lnTo>
                    <a:lnTo>
                      <a:pt x="1698" y="0"/>
                    </a:lnTo>
                    <a:lnTo>
                      <a:pt x="1795" y="4"/>
                    </a:lnTo>
                    <a:lnTo>
                      <a:pt x="1797" y="7"/>
                    </a:lnTo>
                    <a:lnTo>
                      <a:pt x="179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184480" y="1849320"/>
                <a:ext cx="363600" cy="52560"/>
              </a:xfrm>
              <a:custGeom>
                <a:avLst/>
                <a:gdLst/>
                <a:ahLst/>
                <a:rect l="l" t="t" r="r" b="b"/>
                <a:pathLst>
                  <a:path w="458" h="99">
                    <a:moveTo>
                      <a:pt x="335" y="10"/>
                    </a:moveTo>
                    <a:lnTo>
                      <a:pt x="364" y="7"/>
                    </a:lnTo>
                    <a:lnTo>
                      <a:pt x="441" y="7"/>
                    </a:lnTo>
                    <a:lnTo>
                      <a:pt x="458" y="29"/>
                    </a:lnTo>
                    <a:lnTo>
                      <a:pt x="454" y="57"/>
                    </a:lnTo>
                    <a:lnTo>
                      <a:pt x="431" y="72"/>
                    </a:lnTo>
                    <a:lnTo>
                      <a:pt x="368" y="63"/>
                    </a:lnTo>
                    <a:lnTo>
                      <a:pt x="330" y="46"/>
                    </a:lnTo>
                    <a:lnTo>
                      <a:pt x="277" y="31"/>
                    </a:lnTo>
                    <a:lnTo>
                      <a:pt x="187" y="36"/>
                    </a:lnTo>
                    <a:lnTo>
                      <a:pt x="117" y="53"/>
                    </a:lnTo>
                    <a:lnTo>
                      <a:pt x="27" y="99"/>
                    </a:lnTo>
                    <a:lnTo>
                      <a:pt x="7" y="99"/>
                    </a:lnTo>
                    <a:lnTo>
                      <a:pt x="0" y="92"/>
                    </a:lnTo>
                    <a:lnTo>
                      <a:pt x="20" y="72"/>
                    </a:lnTo>
                    <a:lnTo>
                      <a:pt x="128" y="14"/>
                    </a:lnTo>
                    <a:lnTo>
                      <a:pt x="198" y="0"/>
                    </a:lnTo>
                    <a:lnTo>
                      <a:pt x="321" y="3"/>
                    </a:lnTo>
                    <a:lnTo>
                      <a:pt x="335" y="10"/>
                    </a:lnTo>
                    <a:lnTo>
                      <a:pt x="3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849400" y="194940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87" y="10"/>
                    </a:moveTo>
                    <a:lnTo>
                      <a:pt x="63" y="24"/>
                    </a:lnTo>
                    <a:lnTo>
                      <a:pt x="36" y="29"/>
                    </a:lnTo>
                    <a:lnTo>
                      <a:pt x="27" y="36"/>
                    </a:lnTo>
                    <a:lnTo>
                      <a:pt x="7" y="36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16" y="3"/>
                    </a:lnTo>
                    <a:lnTo>
                      <a:pt x="30" y="0"/>
                    </a:lnTo>
                    <a:lnTo>
                      <a:pt x="79" y="3"/>
                    </a:lnTo>
                    <a:lnTo>
                      <a:pt x="87" y="10"/>
                    </a:lnTo>
                    <a:lnTo>
                      <a:pt x="8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478240" y="1962000"/>
                <a:ext cx="77760" cy="271440"/>
              </a:xfrm>
              <a:custGeom>
                <a:avLst/>
                <a:gdLst/>
                <a:ahLst/>
                <a:rect l="l" t="t" r="r" b="b"/>
                <a:pathLst>
                  <a:path w="96" h="513">
                    <a:moveTo>
                      <a:pt x="96" y="15"/>
                    </a:moveTo>
                    <a:lnTo>
                      <a:pt x="92" y="39"/>
                    </a:lnTo>
                    <a:lnTo>
                      <a:pt x="67" y="89"/>
                    </a:lnTo>
                    <a:lnTo>
                      <a:pt x="49" y="154"/>
                    </a:lnTo>
                    <a:lnTo>
                      <a:pt x="43" y="168"/>
                    </a:lnTo>
                    <a:lnTo>
                      <a:pt x="60" y="303"/>
                    </a:lnTo>
                    <a:lnTo>
                      <a:pt x="70" y="343"/>
                    </a:lnTo>
                    <a:lnTo>
                      <a:pt x="70" y="496"/>
                    </a:lnTo>
                    <a:lnTo>
                      <a:pt x="63" y="511"/>
                    </a:lnTo>
                    <a:lnTo>
                      <a:pt x="60" y="513"/>
                    </a:lnTo>
                    <a:lnTo>
                      <a:pt x="53" y="506"/>
                    </a:lnTo>
                    <a:lnTo>
                      <a:pt x="53" y="425"/>
                    </a:lnTo>
                    <a:lnTo>
                      <a:pt x="33" y="333"/>
                    </a:lnTo>
                    <a:lnTo>
                      <a:pt x="20" y="293"/>
                    </a:lnTo>
                    <a:lnTo>
                      <a:pt x="16" y="264"/>
                    </a:lnTo>
                    <a:lnTo>
                      <a:pt x="6" y="235"/>
                    </a:lnTo>
                    <a:lnTo>
                      <a:pt x="0" y="161"/>
                    </a:lnTo>
                    <a:lnTo>
                      <a:pt x="13" y="96"/>
                    </a:lnTo>
                    <a:lnTo>
                      <a:pt x="36" y="39"/>
                    </a:lnTo>
                    <a:lnTo>
                      <a:pt x="67" y="0"/>
                    </a:lnTo>
                    <a:lnTo>
                      <a:pt x="90" y="5"/>
                    </a:lnTo>
                    <a:lnTo>
                      <a:pt x="96" y="15"/>
                    </a:lnTo>
                    <a:lnTo>
                      <a:pt x="9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4720" y="2025720"/>
                <a:ext cx="92160" cy="39600"/>
              </a:xfrm>
              <a:custGeom>
                <a:avLst/>
                <a:gdLst/>
                <a:ahLst/>
                <a:rect l="l" t="t" r="r" b="b"/>
                <a:pathLst>
                  <a:path w="117" h="76">
                    <a:moveTo>
                      <a:pt x="117" y="33"/>
                    </a:moveTo>
                    <a:lnTo>
                      <a:pt x="117" y="64"/>
                    </a:lnTo>
                    <a:lnTo>
                      <a:pt x="104" y="76"/>
                    </a:lnTo>
                    <a:lnTo>
                      <a:pt x="23" y="69"/>
                    </a:lnTo>
                    <a:lnTo>
                      <a:pt x="0" y="43"/>
                    </a:lnTo>
                    <a:lnTo>
                      <a:pt x="3" y="8"/>
                    </a:lnTo>
                    <a:lnTo>
                      <a:pt x="23" y="0"/>
                    </a:lnTo>
                    <a:lnTo>
                      <a:pt x="97" y="8"/>
                    </a:lnTo>
                    <a:lnTo>
                      <a:pt x="117" y="33"/>
                    </a:lnTo>
                    <a:lnTo>
                      <a:pt x="1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960640" y="2052720"/>
                <a:ext cx="47520" cy="42840"/>
              </a:xfrm>
              <a:custGeom>
                <a:avLst/>
                <a:gdLst/>
                <a:ahLst/>
                <a:rect l="l" t="t" r="r" b="b"/>
                <a:pathLst>
                  <a:path w="60" h="82">
                    <a:moveTo>
                      <a:pt x="60" y="6"/>
                    </a:moveTo>
                    <a:lnTo>
                      <a:pt x="56" y="32"/>
                    </a:lnTo>
                    <a:lnTo>
                      <a:pt x="33" y="68"/>
                    </a:lnTo>
                    <a:lnTo>
                      <a:pt x="17" y="82"/>
                    </a:lnTo>
                    <a:lnTo>
                      <a:pt x="6" y="82"/>
                    </a:lnTo>
                    <a:lnTo>
                      <a:pt x="0" y="71"/>
                    </a:lnTo>
                    <a:lnTo>
                      <a:pt x="31" y="13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790720" y="2054160"/>
                <a:ext cx="117720" cy="81000"/>
              </a:xfrm>
              <a:custGeom>
                <a:avLst/>
                <a:gdLst/>
                <a:ahLst/>
                <a:rect l="l" t="t" r="r" b="b"/>
                <a:pathLst>
                  <a:path w="148" h="154">
                    <a:moveTo>
                      <a:pt x="50" y="36"/>
                    </a:moveTo>
                    <a:lnTo>
                      <a:pt x="61" y="60"/>
                    </a:lnTo>
                    <a:lnTo>
                      <a:pt x="104" y="103"/>
                    </a:lnTo>
                    <a:lnTo>
                      <a:pt x="137" y="113"/>
                    </a:lnTo>
                    <a:lnTo>
                      <a:pt x="148" y="125"/>
                    </a:lnTo>
                    <a:lnTo>
                      <a:pt x="148" y="135"/>
                    </a:lnTo>
                    <a:lnTo>
                      <a:pt x="128" y="154"/>
                    </a:lnTo>
                    <a:lnTo>
                      <a:pt x="77" y="154"/>
                    </a:lnTo>
                    <a:lnTo>
                      <a:pt x="54" y="139"/>
                    </a:lnTo>
                    <a:lnTo>
                      <a:pt x="24" y="96"/>
                    </a:lnTo>
                    <a:lnTo>
                      <a:pt x="0" y="39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27" y="3"/>
                    </a:lnTo>
                    <a:lnTo>
                      <a:pt x="50" y="36"/>
                    </a:lnTo>
                    <a:lnTo>
                      <a:pt x="5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024360" y="2122560"/>
                <a:ext cx="122040" cy="42840"/>
              </a:xfrm>
              <a:custGeom>
                <a:avLst/>
                <a:gdLst/>
                <a:ahLst/>
                <a:rect l="l" t="t" r="r" b="b"/>
                <a:pathLst>
                  <a:path w="153" h="83">
                    <a:moveTo>
                      <a:pt x="153" y="7"/>
                    </a:moveTo>
                    <a:lnTo>
                      <a:pt x="137" y="26"/>
                    </a:lnTo>
                    <a:lnTo>
                      <a:pt x="47" y="57"/>
                    </a:lnTo>
                    <a:lnTo>
                      <a:pt x="16" y="83"/>
                    </a:lnTo>
                    <a:lnTo>
                      <a:pt x="10" y="83"/>
                    </a:lnTo>
                    <a:lnTo>
                      <a:pt x="0" y="69"/>
                    </a:lnTo>
                    <a:lnTo>
                      <a:pt x="0" y="57"/>
                    </a:lnTo>
                    <a:lnTo>
                      <a:pt x="34" y="30"/>
                    </a:lnTo>
                    <a:lnTo>
                      <a:pt x="124" y="0"/>
                    </a:lnTo>
                    <a:lnTo>
                      <a:pt x="147" y="0"/>
                    </a:lnTo>
                    <a:lnTo>
                      <a:pt x="153" y="7"/>
                    </a:lnTo>
                    <a:lnTo>
                      <a:pt x="15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068640" y="2185920"/>
                <a:ext cx="82440" cy="28800"/>
              </a:xfrm>
              <a:custGeom>
                <a:avLst/>
                <a:gdLst/>
                <a:ahLst/>
                <a:rect l="l" t="t" r="r" b="b"/>
                <a:pathLst>
                  <a:path w="103" h="53">
                    <a:moveTo>
                      <a:pt x="103" y="14"/>
                    </a:moveTo>
                    <a:lnTo>
                      <a:pt x="17" y="53"/>
                    </a:lnTo>
                    <a:lnTo>
                      <a:pt x="6" y="50"/>
                    </a:lnTo>
                    <a:lnTo>
                      <a:pt x="0" y="38"/>
                    </a:lnTo>
                    <a:lnTo>
                      <a:pt x="0" y="28"/>
                    </a:lnTo>
                    <a:lnTo>
                      <a:pt x="29" y="10"/>
                    </a:lnTo>
                    <a:lnTo>
                      <a:pt x="70" y="0"/>
                    </a:lnTo>
                    <a:lnTo>
                      <a:pt x="103" y="4"/>
                    </a:lnTo>
                    <a:lnTo>
                      <a:pt x="103" y="14"/>
                    </a:lnTo>
                    <a:lnTo>
                      <a:pt x="10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774880" y="2203560"/>
                <a:ext cx="66600" cy="122040"/>
              </a:xfrm>
              <a:custGeom>
                <a:avLst/>
                <a:gdLst/>
                <a:ahLst/>
                <a:rect l="l" t="t" r="r" b="b"/>
                <a:pathLst>
                  <a:path w="83" h="232">
                    <a:moveTo>
                      <a:pt x="77" y="36"/>
                    </a:moveTo>
                    <a:lnTo>
                      <a:pt x="83" y="72"/>
                    </a:lnTo>
                    <a:lnTo>
                      <a:pt x="70" y="105"/>
                    </a:lnTo>
                    <a:lnTo>
                      <a:pt x="65" y="112"/>
                    </a:lnTo>
                    <a:lnTo>
                      <a:pt x="70" y="201"/>
                    </a:lnTo>
                    <a:lnTo>
                      <a:pt x="65" y="222"/>
                    </a:lnTo>
                    <a:lnTo>
                      <a:pt x="51" y="232"/>
                    </a:lnTo>
                    <a:lnTo>
                      <a:pt x="24" y="225"/>
                    </a:lnTo>
                    <a:lnTo>
                      <a:pt x="14" y="201"/>
                    </a:lnTo>
                    <a:lnTo>
                      <a:pt x="11" y="161"/>
                    </a:lnTo>
                    <a:lnTo>
                      <a:pt x="0" y="122"/>
                    </a:lnTo>
                    <a:lnTo>
                      <a:pt x="4" y="50"/>
                    </a:lnTo>
                    <a:lnTo>
                      <a:pt x="36" y="0"/>
                    </a:lnTo>
                    <a:lnTo>
                      <a:pt x="61" y="7"/>
                    </a:lnTo>
                    <a:lnTo>
                      <a:pt x="77" y="36"/>
                    </a:lnTo>
                    <a:lnTo>
                      <a:pt x="77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319480" y="2254320"/>
                <a:ext cx="207720" cy="74520"/>
              </a:xfrm>
              <a:custGeom>
                <a:avLst/>
                <a:gdLst/>
                <a:ahLst/>
                <a:rect l="l" t="t" r="r" b="b"/>
                <a:pathLst>
                  <a:path w="260" h="141">
                    <a:moveTo>
                      <a:pt x="47" y="17"/>
                    </a:moveTo>
                    <a:lnTo>
                      <a:pt x="110" y="21"/>
                    </a:lnTo>
                    <a:lnTo>
                      <a:pt x="137" y="38"/>
                    </a:lnTo>
                    <a:lnTo>
                      <a:pt x="173" y="77"/>
                    </a:lnTo>
                    <a:lnTo>
                      <a:pt x="204" y="63"/>
                    </a:lnTo>
                    <a:lnTo>
                      <a:pt x="229" y="27"/>
                    </a:lnTo>
                    <a:lnTo>
                      <a:pt x="233" y="17"/>
                    </a:lnTo>
                    <a:lnTo>
                      <a:pt x="253" y="21"/>
                    </a:lnTo>
                    <a:lnTo>
                      <a:pt x="260" y="31"/>
                    </a:lnTo>
                    <a:lnTo>
                      <a:pt x="256" y="91"/>
                    </a:lnTo>
                    <a:lnTo>
                      <a:pt x="236" y="124"/>
                    </a:lnTo>
                    <a:lnTo>
                      <a:pt x="213" y="141"/>
                    </a:lnTo>
                    <a:lnTo>
                      <a:pt x="166" y="141"/>
                    </a:lnTo>
                    <a:lnTo>
                      <a:pt x="126" y="106"/>
                    </a:lnTo>
                    <a:lnTo>
                      <a:pt x="92" y="70"/>
                    </a:lnTo>
                    <a:lnTo>
                      <a:pt x="43" y="70"/>
                    </a:lnTo>
                    <a:lnTo>
                      <a:pt x="16" y="48"/>
                    </a:lnTo>
                    <a:lnTo>
                      <a:pt x="0" y="27"/>
                    </a:lnTo>
                    <a:lnTo>
                      <a:pt x="4" y="10"/>
                    </a:lnTo>
                    <a:lnTo>
                      <a:pt x="16" y="0"/>
                    </a:lnTo>
                    <a:lnTo>
                      <a:pt x="29" y="2"/>
                    </a:lnTo>
                    <a:lnTo>
                      <a:pt x="47" y="17"/>
                    </a:lnTo>
                    <a:lnTo>
                      <a:pt x="4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565360" y="2254320"/>
                <a:ext cx="736560" cy="799920"/>
              </a:xfrm>
              <a:custGeom>
                <a:avLst/>
                <a:gdLst/>
                <a:ahLst/>
                <a:rect l="l" t="t" r="r" b="b"/>
                <a:pathLst>
                  <a:path w="928" h="1510">
                    <a:moveTo>
                      <a:pt x="29" y="10"/>
                    </a:moveTo>
                    <a:lnTo>
                      <a:pt x="33" y="31"/>
                    </a:lnTo>
                    <a:lnTo>
                      <a:pt x="63" y="74"/>
                    </a:lnTo>
                    <a:lnTo>
                      <a:pt x="130" y="138"/>
                    </a:lnTo>
                    <a:lnTo>
                      <a:pt x="243" y="202"/>
                    </a:lnTo>
                    <a:lnTo>
                      <a:pt x="281" y="240"/>
                    </a:lnTo>
                    <a:lnTo>
                      <a:pt x="303" y="266"/>
                    </a:lnTo>
                    <a:lnTo>
                      <a:pt x="330" y="285"/>
                    </a:lnTo>
                    <a:lnTo>
                      <a:pt x="380" y="348"/>
                    </a:lnTo>
                    <a:lnTo>
                      <a:pt x="420" y="441"/>
                    </a:lnTo>
                    <a:lnTo>
                      <a:pt x="436" y="455"/>
                    </a:lnTo>
                    <a:lnTo>
                      <a:pt x="450" y="452"/>
                    </a:lnTo>
                    <a:lnTo>
                      <a:pt x="463" y="434"/>
                    </a:lnTo>
                    <a:lnTo>
                      <a:pt x="450" y="405"/>
                    </a:lnTo>
                    <a:lnTo>
                      <a:pt x="450" y="388"/>
                    </a:lnTo>
                    <a:lnTo>
                      <a:pt x="461" y="376"/>
                    </a:lnTo>
                    <a:lnTo>
                      <a:pt x="477" y="381"/>
                    </a:lnTo>
                    <a:lnTo>
                      <a:pt x="553" y="458"/>
                    </a:lnTo>
                    <a:lnTo>
                      <a:pt x="571" y="484"/>
                    </a:lnTo>
                    <a:lnTo>
                      <a:pt x="651" y="554"/>
                    </a:lnTo>
                    <a:lnTo>
                      <a:pt x="771" y="633"/>
                    </a:lnTo>
                    <a:lnTo>
                      <a:pt x="814" y="654"/>
                    </a:lnTo>
                    <a:lnTo>
                      <a:pt x="854" y="666"/>
                    </a:lnTo>
                    <a:lnTo>
                      <a:pt x="863" y="666"/>
                    </a:lnTo>
                    <a:lnTo>
                      <a:pt x="874" y="654"/>
                    </a:lnTo>
                    <a:lnTo>
                      <a:pt x="854" y="633"/>
                    </a:lnTo>
                    <a:lnTo>
                      <a:pt x="837" y="626"/>
                    </a:lnTo>
                    <a:lnTo>
                      <a:pt x="824" y="611"/>
                    </a:lnTo>
                    <a:lnTo>
                      <a:pt x="827" y="590"/>
                    </a:lnTo>
                    <a:lnTo>
                      <a:pt x="861" y="590"/>
                    </a:lnTo>
                    <a:lnTo>
                      <a:pt x="908" y="623"/>
                    </a:lnTo>
                    <a:lnTo>
                      <a:pt x="921" y="640"/>
                    </a:lnTo>
                    <a:lnTo>
                      <a:pt x="928" y="666"/>
                    </a:lnTo>
                    <a:lnTo>
                      <a:pt x="924" y="690"/>
                    </a:lnTo>
                    <a:lnTo>
                      <a:pt x="914" y="709"/>
                    </a:lnTo>
                    <a:lnTo>
                      <a:pt x="870" y="723"/>
                    </a:lnTo>
                    <a:lnTo>
                      <a:pt x="834" y="719"/>
                    </a:lnTo>
                    <a:lnTo>
                      <a:pt x="818" y="709"/>
                    </a:lnTo>
                    <a:lnTo>
                      <a:pt x="804" y="709"/>
                    </a:lnTo>
                    <a:lnTo>
                      <a:pt x="798" y="714"/>
                    </a:lnTo>
                    <a:lnTo>
                      <a:pt x="811" y="772"/>
                    </a:lnTo>
                    <a:lnTo>
                      <a:pt x="814" y="800"/>
                    </a:lnTo>
                    <a:lnTo>
                      <a:pt x="827" y="896"/>
                    </a:lnTo>
                    <a:lnTo>
                      <a:pt x="837" y="951"/>
                    </a:lnTo>
                    <a:lnTo>
                      <a:pt x="847" y="1126"/>
                    </a:lnTo>
                    <a:lnTo>
                      <a:pt x="845" y="1186"/>
                    </a:lnTo>
                    <a:lnTo>
                      <a:pt x="834" y="1282"/>
                    </a:lnTo>
                    <a:lnTo>
                      <a:pt x="820" y="1332"/>
                    </a:lnTo>
                    <a:lnTo>
                      <a:pt x="811" y="1385"/>
                    </a:lnTo>
                    <a:lnTo>
                      <a:pt x="798" y="1409"/>
                    </a:lnTo>
                    <a:lnTo>
                      <a:pt x="777" y="1457"/>
                    </a:lnTo>
                    <a:lnTo>
                      <a:pt x="728" y="1503"/>
                    </a:lnTo>
                    <a:lnTo>
                      <a:pt x="704" y="1510"/>
                    </a:lnTo>
                    <a:lnTo>
                      <a:pt x="651" y="1510"/>
                    </a:lnTo>
                    <a:lnTo>
                      <a:pt x="604" y="1481"/>
                    </a:lnTo>
                    <a:lnTo>
                      <a:pt x="580" y="1449"/>
                    </a:lnTo>
                    <a:lnTo>
                      <a:pt x="573" y="1404"/>
                    </a:lnTo>
                    <a:lnTo>
                      <a:pt x="573" y="1385"/>
                    </a:lnTo>
                    <a:lnTo>
                      <a:pt x="540" y="1364"/>
                    </a:lnTo>
                    <a:lnTo>
                      <a:pt x="540" y="1335"/>
                    </a:lnTo>
                    <a:lnTo>
                      <a:pt x="564" y="1318"/>
                    </a:lnTo>
                    <a:lnTo>
                      <a:pt x="604" y="1321"/>
                    </a:lnTo>
                    <a:lnTo>
                      <a:pt x="620" y="1332"/>
                    </a:lnTo>
                    <a:lnTo>
                      <a:pt x="640" y="1361"/>
                    </a:lnTo>
                    <a:lnTo>
                      <a:pt x="640" y="1409"/>
                    </a:lnTo>
                    <a:lnTo>
                      <a:pt x="636" y="1418"/>
                    </a:lnTo>
                    <a:lnTo>
                      <a:pt x="636" y="1428"/>
                    </a:lnTo>
                    <a:lnTo>
                      <a:pt x="647" y="1439"/>
                    </a:lnTo>
                    <a:lnTo>
                      <a:pt x="681" y="1439"/>
                    </a:lnTo>
                    <a:lnTo>
                      <a:pt x="728" y="1389"/>
                    </a:lnTo>
                    <a:lnTo>
                      <a:pt x="753" y="1325"/>
                    </a:lnTo>
                    <a:lnTo>
                      <a:pt x="757" y="1303"/>
                    </a:lnTo>
                    <a:lnTo>
                      <a:pt x="771" y="1253"/>
                    </a:lnTo>
                    <a:lnTo>
                      <a:pt x="777" y="1164"/>
                    </a:lnTo>
                    <a:lnTo>
                      <a:pt x="771" y="997"/>
                    </a:lnTo>
                    <a:lnTo>
                      <a:pt x="764" y="965"/>
                    </a:lnTo>
                    <a:lnTo>
                      <a:pt x="751" y="855"/>
                    </a:lnTo>
                    <a:lnTo>
                      <a:pt x="740" y="779"/>
                    </a:lnTo>
                    <a:lnTo>
                      <a:pt x="728" y="723"/>
                    </a:lnTo>
                    <a:lnTo>
                      <a:pt x="720" y="704"/>
                    </a:lnTo>
                    <a:lnTo>
                      <a:pt x="683" y="683"/>
                    </a:lnTo>
                    <a:lnTo>
                      <a:pt x="636" y="661"/>
                    </a:lnTo>
                    <a:lnTo>
                      <a:pt x="553" y="590"/>
                    </a:lnTo>
                    <a:lnTo>
                      <a:pt x="503" y="534"/>
                    </a:lnTo>
                    <a:lnTo>
                      <a:pt x="494" y="534"/>
                    </a:lnTo>
                    <a:lnTo>
                      <a:pt x="474" y="551"/>
                    </a:lnTo>
                    <a:lnTo>
                      <a:pt x="434" y="548"/>
                    </a:lnTo>
                    <a:lnTo>
                      <a:pt x="411" y="534"/>
                    </a:lnTo>
                    <a:lnTo>
                      <a:pt x="371" y="479"/>
                    </a:lnTo>
                    <a:lnTo>
                      <a:pt x="344" y="409"/>
                    </a:lnTo>
                    <a:lnTo>
                      <a:pt x="283" y="333"/>
                    </a:lnTo>
                    <a:lnTo>
                      <a:pt x="227" y="287"/>
                    </a:lnTo>
                    <a:lnTo>
                      <a:pt x="216" y="285"/>
                    </a:lnTo>
                    <a:lnTo>
                      <a:pt x="187" y="252"/>
                    </a:lnTo>
                    <a:lnTo>
                      <a:pt x="166" y="240"/>
                    </a:lnTo>
                    <a:lnTo>
                      <a:pt x="107" y="199"/>
                    </a:lnTo>
                    <a:lnTo>
                      <a:pt x="27" y="106"/>
                    </a:lnTo>
                    <a:lnTo>
                      <a:pt x="0" y="48"/>
                    </a:lnTo>
                    <a:lnTo>
                      <a:pt x="0" y="14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9" y="10"/>
                    </a:lnTo>
                    <a:lnTo>
                      <a:pt x="2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127320" y="2268360"/>
                <a:ext cx="82440" cy="25560"/>
              </a:xfrm>
              <a:custGeom>
                <a:avLst/>
                <a:gdLst/>
                <a:ahLst/>
                <a:rect l="l" t="t" r="r" b="b"/>
                <a:pathLst>
                  <a:path w="103" h="47">
                    <a:moveTo>
                      <a:pt x="103" y="26"/>
                    </a:moveTo>
                    <a:lnTo>
                      <a:pt x="60" y="33"/>
                    </a:lnTo>
                    <a:lnTo>
                      <a:pt x="16" y="47"/>
                    </a:lnTo>
                    <a:lnTo>
                      <a:pt x="9" y="47"/>
                    </a:lnTo>
                    <a:lnTo>
                      <a:pt x="0" y="36"/>
                    </a:lnTo>
                    <a:lnTo>
                      <a:pt x="2" y="18"/>
                    </a:lnTo>
                    <a:lnTo>
                      <a:pt x="32" y="4"/>
                    </a:lnTo>
                    <a:lnTo>
                      <a:pt x="49" y="0"/>
                    </a:lnTo>
                    <a:lnTo>
                      <a:pt x="103" y="4"/>
                    </a:lnTo>
                    <a:lnTo>
                      <a:pt x="103" y="26"/>
                    </a:lnTo>
                    <a:lnTo>
                      <a:pt x="103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865600" y="2316240"/>
                <a:ext cx="98280" cy="28440"/>
              </a:xfrm>
              <a:custGeom>
                <a:avLst/>
                <a:gdLst/>
                <a:ahLst/>
                <a:rect l="l" t="t" r="r" b="b"/>
                <a:pathLst>
                  <a:path w="124" h="54">
                    <a:moveTo>
                      <a:pt x="124" y="25"/>
                    </a:moveTo>
                    <a:lnTo>
                      <a:pt x="120" y="44"/>
                    </a:lnTo>
                    <a:lnTo>
                      <a:pt x="110" y="54"/>
                    </a:lnTo>
                    <a:lnTo>
                      <a:pt x="10" y="54"/>
                    </a:lnTo>
                    <a:lnTo>
                      <a:pt x="0" y="40"/>
                    </a:lnTo>
                    <a:lnTo>
                      <a:pt x="3" y="30"/>
                    </a:lnTo>
                    <a:lnTo>
                      <a:pt x="23" y="15"/>
                    </a:lnTo>
                    <a:lnTo>
                      <a:pt x="73" y="0"/>
                    </a:lnTo>
                    <a:lnTo>
                      <a:pt x="104" y="4"/>
                    </a:lnTo>
                    <a:lnTo>
                      <a:pt x="124" y="25"/>
                    </a:lnTo>
                    <a:lnTo>
                      <a:pt x="124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975040" y="2341440"/>
                <a:ext cx="203040" cy="206640"/>
              </a:xfrm>
              <a:custGeom>
                <a:avLst/>
                <a:gdLst/>
                <a:ahLst/>
                <a:rect l="l" t="t" r="r" b="b"/>
                <a:pathLst>
                  <a:path w="257" h="391">
                    <a:moveTo>
                      <a:pt x="59" y="46"/>
                    </a:moveTo>
                    <a:lnTo>
                      <a:pt x="120" y="189"/>
                    </a:lnTo>
                    <a:lnTo>
                      <a:pt x="194" y="281"/>
                    </a:lnTo>
                    <a:lnTo>
                      <a:pt x="226" y="331"/>
                    </a:lnTo>
                    <a:lnTo>
                      <a:pt x="257" y="381"/>
                    </a:lnTo>
                    <a:lnTo>
                      <a:pt x="247" y="391"/>
                    </a:lnTo>
                    <a:lnTo>
                      <a:pt x="223" y="385"/>
                    </a:lnTo>
                    <a:lnTo>
                      <a:pt x="163" y="331"/>
                    </a:lnTo>
                    <a:lnTo>
                      <a:pt x="117" y="281"/>
                    </a:lnTo>
                    <a:lnTo>
                      <a:pt x="70" y="213"/>
                    </a:lnTo>
                    <a:lnTo>
                      <a:pt x="16" y="86"/>
                    </a:lnTo>
                    <a:lnTo>
                      <a:pt x="0" y="28"/>
                    </a:lnTo>
                    <a:lnTo>
                      <a:pt x="3" y="7"/>
                    </a:lnTo>
                    <a:lnTo>
                      <a:pt x="14" y="0"/>
                    </a:lnTo>
                    <a:lnTo>
                      <a:pt x="32" y="4"/>
                    </a:lnTo>
                    <a:lnTo>
                      <a:pt x="59" y="46"/>
                    </a:lnTo>
                    <a:lnTo>
                      <a:pt x="59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835360" y="2357280"/>
                <a:ext cx="93600" cy="76320"/>
              </a:xfrm>
              <a:custGeom>
                <a:avLst/>
                <a:gdLst/>
                <a:ahLst/>
                <a:rect l="l" t="t" r="r" b="b"/>
                <a:pathLst>
                  <a:path w="116" h="144">
                    <a:moveTo>
                      <a:pt x="63" y="40"/>
                    </a:moveTo>
                    <a:lnTo>
                      <a:pt x="76" y="68"/>
                    </a:lnTo>
                    <a:lnTo>
                      <a:pt x="116" y="118"/>
                    </a:lnTo>
                    <a:lnTo>
                      <a:pt x="116" y="144"/>
                    </a:lnTo>
                    <a:lnTo>
                      <a:pt x="84" y="144"/>
                    </a:lnTo>
                    <a:lnTo>
                      <a:pt x="53" y="125"/>
                    </a:lnTo>
                    <a:lnTo>
                      <a:pt x="6" y="55"/>
                    </a:lnTo>
                    <a:lnTo>
                      <a:pt x="0" y="33"/>
                    </a:lnTo>
                    <a:lnTo>
                      <a:pt x="6" y="8"/>
                    </a:lnTo>
                    <a:lnTo>
                      <a:pt x="17" y="0"/>
                    </a:lnTo>
                    <a:lnTo>
                      <a:pt x="37" y="5"/>
                    </a:lnTo>
                    <a:lnTo>
                      <a:pt x="63" y="40"/>
                    </a:lnTo>
                    <a:lnTo>
                      <a:pt x="6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755720" y="2374920"/>
                <a:ext cx="31680" cy="77760"/>
              </a:xfrm>
              <a:custGeom>
                <a:avLst/>
                <a:gdLst/>
                <a:ahLst/>
                <a:rect l="l" t="t" r="r" b="b"/>
                <a:pathLst>
                  <a:path w="41" h="146">
                    <a:moveTo>
                      <a:pt x="34" y="92"/>
                    </a:moveTo>
                    <a:lnTo>
                      <a:pt x="41" y="128"/>
                    </a:lnTo>
                    <a:lnTo>
                      <a:pt x="41" y="142"/>
                    </a:lnTo>
                    <a:lnTo>
                      <a:pt x="37" y="146"/>
                    </a:lnTo>
                    <a:lnTo>
                      <a:pt x="30" y="146"/>
                    </a:lnTo>
                    <a:lnTo>
                      <a:pt x="14" y="114"/>
                    </a:lnTo>
                    <a:lnTo>
                      <a:pt x="3" y="58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30" y="22"/>
                    </a:lnTo>
                    <a:lnTo>
                      <a:pt x="34" y="92"/>
                    </a:lnTo>
                    <a:lnTo>
                      <a:pt x="34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214720" y="2392200"/>
                <a:ext cx="126720" cy="290520"/>
              </a:xfrm>
              <a:custGeom>
                <a:avLst/>
                <a:gdLst/>
                <a:ahLst/>
                <a:rect l="l" t="t" r="r" b="b"/>
                <a:pathLst>
                  <a:path w="160" h="549">
                    <a:moveTo>
                      <a:pt x="160" y="18"/>
                    </a:moveTo>
                    <a:lnTo>
                      <a:pt x="137" y="153"/>
                    </a:lnTo>
                    <a:lnTo>
                      <a:pt x="109" y="261"/>
                    </a:lnTo>
                    <a:lnTo>
                      <a:pt x="103" y="275"/>
                    </a:lnTo>
                    <a:lnTo>
                      <a:pt x="96" y="321"/>
                    </a:lnTo>
                    <a:lnTo>
                      <a:pt x="79" y="392"/>
                    </a:lnTo>
                    <a:lnTo>
                      <a:pt x="29" y="541"/>
                    </a:lnTo>
                    <a:lnTo>
                      <a:pt x="23" y="549"/>
                    </a:lnTo>
                    <a:lnTo>
                      <a:pt x="5" y="546"/>
                    </a:lnTo>
                    <a:lnTo>
                      <a:pt x="0" y="539"/>
                    </a:lnTo>
                    <a:lnTo>
                      <a:pt x="9" y="486"/>
                    </a:lnTo>
                    <a:lnTo>
                      <a:pt x="52" y="338"/>
                    </a:lnTo>
                    <a:lnTo>
                      <a:pt x="59" y="295"/>
                    </a:lnTo>
                    <a:lnTo>
                      <a:pt x="79" y="206"/>
                    </a:lnTo>
                    <a:lnTo>
                      <a:pt x="92" y="157"/>
                    </a:lnTo>
                    <a:lnTo>
                      <a:pt x="99" y="110"/>
                    </a:lnTo>
                    <a:lnTo>
                      <a:pt x="117" y="33"/>
                    </a:lnTo>
                    <a:lnTo>
                      <a:pt x="137" y="0"/>
                    </a:lnTo>
                    <a:lnTo>
                      <a:pt x="146" y="0"/>
                    </a:lnTo>
                    <a:lnTo>
                      <a:pt x="160" y="18"/>
                    </a:lnTo>
                    <a:lnTo>
                      <a:pt x="16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255760" y="2403360"/>
                <a:ext cx="506520" cy="930240"/>
              </a:xfrm>
              <a:custGeom>
                <a:avLst/>
                <a:gdLst/>
                <a:ahLst/>
                <a:rect l="l" t="t" r="r" b="b"/>
                <a:pathLst>
                  <a:path w="638" h="1758">
                    <a:moveTo>
                      <a:pt x="591" y="48"/>
                    </a:moveTo>
                    <a:lnTo>
                      <a:pt x="574" y="101"/>
                    </a:lnTo>
                    <a:lnTo>
                      <a:pt x="557" y="151"/>
                    </a:lnTo>
                    <a:lnTo>
                      <a:pt x="544" y="225"/>
                    </a:lnTo>
                    <a:lnTo>
                      <a:pt x="524" y="331"/>
                    </a:lnTo>
                    <a:lnTo>
                      <a:pt x="485" y="434"/>
                    </a:lnTo>
                    <a:lnTo>
                      <a:pt x="434" y="506"/>
                    </a:lnTo>
                    <a:lnTo>
                      <a:pt x="457" y="556"/>
                    </a:lnTo>
                    <a:lnTo>
                      <a:pt x="465" y="659"/>
                    </a:lnTo>
                    <a:lnTo>
                      <a:pt x="481" y="853"/>
                    </a:lnTo>
                    <a:lnTo>
                      <a:pt x="478" y="995"/>
                    </a:lnTo>
                    <a:lnTo>
                      <a:pt x="471" y="1084"/>
                    </a:lnTo>
                    <a:lnTo>
                      <a:pt x="478" y="1220"/>
                    </a:lnTo>
                    <a:lnTo>
                      <a:pt x="467" y="1387"/>
                    </a:lnTo>
                    <a:lnTo>
                      <a:pt x="474" y="1430"/>
                    </a:lnTo>
                    <a:lnTo>
                      <a:pt x="485" y="1452"/>
                    </a:lnTo>
                    <a:lnTo>
                      <a:pt x="584" y="1536"/>
                    </a:lnTo>
                    <a:lnTo>
                      <a:pt x="625" y="1601"/>
                    </a:lnTo>
                    <a:lnTo>
                      <a:pt x="638" y="1654"/>
                    </a:lnTo>
                    <a:lnTo>
                      <a:pt x="634" y="1711"/>
                    </a:lnTo>
                    <a:lnTo>
                      <a:pt x="615" y="1743"/>
                    </a:lnTo>
                    <a:lnTo>
                      <a:pt x="598" y="1758"/>
                    </a:lnTo>
                    <a:lnTo>
                      <a:pt x="488" y="1750"/>
                    </a:lnTo>
                    <a:lnTo>
                      <a:pt x="388" y="1747"/>
                    </a:lnTo>
                    <a:lnTo>
                      <a:pt x="357" y="1735"/>
                    </a:lnTo>
                    <a:lnTo>
                      <a:pt x="310" y="1740"/>
                    </a:lnTo>
                    <a:lnTo>
                      <a:pt x="254" y="1740"/>
                    </a:lnTo>
                    <a:lnTo>
                      <a:pt x="211" y="1728"/>
                    </a:lnTo>
                    <a:lnTo>
                      <a:pt x="157" y="1725"/>
                    </a:lnTo>
                    <a:lnTo>
                      <a:pt x="134" y="1707"/>
                    </a:lnTo>
                    <a:lnTo>
                      <a:pt x="114" y="1680"/>
                    </a:lnTo>
                    <a:lnTo>
                      <a:pt x="104" y="1654"/>
                    </a:lnTo>
                    <a:lnTo>
                      <a:pt x="94" y="1505"/>
                    </a:lnTo>
                    <a:lnTo>
                      <a:pt x="51" y="1390"/>
                    </a:lnTo>
                    <a:lnTo>
                      <a:pt x="47" y="1141"/>
                    </a:lnTo>
                    <a:lnTo>
                      <a:pt x="38" y="1112"/>
                    </a:lnTo>
                    <a:lnTo>
                      <a:pt x="31" y="1069"/>
                    </a:lnTo>
                    <a:lnTo>
                      <a:pt x="0" y="977"/>
                    </a:lnTo>
                    <a:lnTo>
                      <a:pt x="24" y="892"/>
                    </a:lnTo>
                    <a:lnTo>
                      <a:pt x="31" y="884"/>
                    </a:lnTo>
                    <a:lnTo>
                      <a:pt x="38" y="834"/>
                    </a:lnTo>
                    <a:lnTo>
                      <a:pt x="38" y="827"/>
                    </a:lnTo>
                    <a:lnTo>
                      <a:pt x="57" y="923"/>
                    </a:lnTo>
                    <a:lnTo>
                      <a:pt x="81" y="1016"/>
                    </a:lnTo>
                    <a:lnTo>
                      <a:pt x="114" y="1129"/>
                    </a:lnTo>
                    <a:lnTo>
                      <a:pt x="128" y="1237"/>
                    </a:lnTo>
                    <a:lnTo>
                      <a:pt x="128" y="1422"/>
                    </a:lnTo>
                    <a:lnTo>
                      <a:pt x="171" y="1522"/>
                    </a:lnTo>
                    <a:lnTo>
                      <a:pt x="181" y="1608"/>
                    </a:lnTo>
                    <a:lnTo>
                      <a:pt x="181" y="1668"/>
                    </a:lnTo>
                    <a:lnTo>
                      <a:pt x="191" y="1690"/>
                    </a:lnTo>
                    <a:lnTo>
                      <a:pt x="198" y="1697"/>
                    </a:lnTo>
                    <a:lnTo>
                      <a:pt x="234" y="1701"/>
                    </a:lnTo>
                    <a:lnTo>
                      <a:pt x="271" y="1707"/>
                    </a:lnTo>
                    <a:lnTo>
                      <a:pt x="355" y="1701"/>
                    </a:lnTo>
                    <a:lnTo>
                      <a:pt x="461" y="1701"/>
                    </a:lnTo>
                    <a:lnTo>
                      <a:pt x="548" y="1697"/>
                    </a:lnTo>
                    <a:lnTo>
                      <a:pt x="557" y="1697"/>
                    </a:lnTo>
                    <a:lnTo>
                      <a:pt x="568" y="1687"/>
                    </a:lnTo>
                    <a:lnTo>
                      <a:pt x="557" y="1604"/>
                    </a:lnTo>
                    <a:lnTo>
                      <a:pt x="544" y="1582"/>
                    </a:lnTo>
                    <a:lnTo>
                      <a:pt x="445" y="1493"/>
                    </a:lnTo>
                    <a:lnTo>
                      <a:pt x="424" y="1469"/>
                    </a:lnTo>
                    <a:lnTo>
                      <a:pt x="402" y="1409"/>
                    </a:lnTo>
                    <a:lnTo>
                      <a:pt x="398" y="1387"/>
                    </a:lnTo>
                    <a:lnTo>
                      <a:pt x="398" y="1294"/>
                    </a:lnTo>
                    <a:lnTo>
                      <a:pt x="404" y="1129"/>
                    </a:lnTo>
                    <a:lnTo>
                      <a:pt x="398" y="980"/>
                    </a:lnTo>
                    <a:lnTo>
                      <a:pt x="407" y="867"/>
                    </a:lnTo>
                    <a:lnTo>
                      <a:pt x="407" y="817"/>
                    </a:lnTo>
                    <a:lnTo>
                      <a:pt x="402" y="738"/>
                    </a:lnTo>
                    <a:lnTo>
                      <a:pt x="402" y="649"/>
                    </a:lnTo>
                    <a:lnTo>
                      <a:pt x="394" y="616"/>
                    </a:lnTo>
                    <a:lnTo>
                      <a:pt x="391" y="539"/>
                    </a:lnTo>
                    <a:lnTo>
                      <a:pt x="357" y="539"/>
                    </a:lnTo>
                    <a:lnTo>
                      <a:pt x="355" y="542"/>
                    </a:lnTo>
                    <a:lnTo>
                      <a:pt x="348" y="542"/>
                    </a:lnTo>
                    <a:lnTo>
                      <a:pt x="341" y="535"/>
                    </a:lnTo>
                    <a:lnTo>
                      <a:pt x="344" y="518"/>
                    </a:lnTo>
                    <a:lnTo>
                      <a:pt x="407" y="403"/>
                    </a:lnTo>
                    <a:lnTo>
                      <a:pt x="451" y="300"/>
                    </a:lnTo>
                    <a:lnTo>
                      <a:pt x="474" y="214"/>
                    </a:lnTo>
                    <a:lnTo>
                      <a:pt x="478" y="185"/>
                    </a:lnTo>
                    <a:lnTo>
                      <a:pt x="510" y="75"/>
                    </a:lnTo>
                    <a:lnTo>
                      <a:pt x="544" y="0"/>
                    </a:lnTo>
                    <a:lnTo>
                      <a:pt x="578" y="26"/>
                    </a:lnTo>
                    <a:lnTo>
                      <a:pt x="591" y="48"/>
                    </a:lnTo>
                    <a:lnTo>
                      <a:pt x="591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066680" y="2416320"/>
                <a:ext cx="136800" cy="145800"/>
              </a:xfrm>
              <a:custGeom>
                <a:avLst/>
                <a:gdLst/>
                <a:ahLst/>
                <a:rect l="l" t="t" r="r" b="b"/>
                <a:pathLst>
                  <a:path w="170" h="274">
                    <a:moveTo>
                      <a:pt x="59" y="46"/>
                    </a:moveTo>
                    <a:lnTo>
                      <a:pt x="80" y="82"/>
                    </a:lnTo>
                    <a:lnTo>
                      <a:pt x="133" y="149"/>
                    </a:lnTo>
                    <a:lnTo>
                      <a:pt x="164" y="209"/>
                    </a:lnTo>
                    <a:lnTo>
                      <a:pt x="170" y="248"/>
                    </a:lnTo>
                    <a:lnTo>
                      <a:pt x="166" y="267"/>
                    </a:lnTo>
                    <a:lnTo>
                      <a:pt x="157" y="274"/>
                    </a:lnTo>
                    <a:lnTo>
                      <a:pt x="146" y="271"/>
                    </a:lnTo>
                    <a:lnTo>
                      <a:pt x="119" y="209"/>
                    </a:lnTo>
                    <a:lnTo>
                      <a:pt x="36" y="103"/>
                    </a:lnTo>
                    <a:lnTo>
                      <a:pt x="0" y="24"/>
                    </a:lnTo>
                    <a:lnTo>
                      <a:pt x="2" y="6"/>
                    </a:lnTo>
                    <a:lnTo>
                      <a:pt x="13" y="0"/>
                    </a:lnTo>
                    <a:lnTo>
                      <a:pt x="29" y="3"/>
                    </a:lnTo>
                    <a:lnTo>
                      <a:pt x="59" y="46"/>
                    </a:lnTo>
                    <a:lnTo>
                      <a:pt x="59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317680" y="2435400"/>
                <a:ext cx="92160" cy="177480"/>
              </a:xfrm>
              <a:custGeom>
                <a:avLst/>
                <a:gdLst/>
                <a:ahLst/>
                <a:rect l="l" t="t" r="r" b="b"/>
                <a:pathLst>
                  <a:path w="115" h="335">
                    <a:moveTo>
                      <a:pt x="115" y="22"/>
                    </a:moveTo>
                    <a:lnTo>
                      <a:pt x="115" y="75"/>
                    </a:lnTo>
                    <a:lnTo>
                      <a:pt x="106" y="117"/>
                    </a:lnTo>
                    <a:lnTo>
                      <a:pt x="73" y="213"/>
                    </a:lnTo>
                    <a:lnTo>
                      <a:pt x="9" y="325"/>
                    </a:lnTo>
                    <a:lnTo>
                      <a:pt x="0" y="335"/>
                    </a:lnTo>
                    <a:lnTo>
                      <a:pt x="0" y="318"/>
                    </a:lnTo>
                    <a:lnTo>
                      <a:pt x="16" y="267"/>
                    </a:lnTo>
                    <a:lnTo>
                      <a:pt x="52" y="146"/>
                    </a:lnTo>
                    <a:lnTo>
                      <a:pt x="63" y="107"/>
                    </a:lnTo>
                    <a:lnTo>
                      <a:pt x="70" y="75"/>
                    </a:lnTo>
                    <a:lnTo>
                      <a:pt x="73" y="47"/>
                    </a:lnTo>
                    <a:lnTo>
                      <a:pt x="79" y="18"/>
                    </a:lnTo>
                    <a:lnTo>
                      <a:pt x="93" y="0"/>
                    </a:lnTo>
                    <a:lnTo>
                      <a:pt x="103" y="4"/>
                    </a:lnTo>
                    <a:lnTo>
                      <a:pt x="115" y="22"/>
                    </a:lnTo>
                    <a:lnTo>
                      <a:pt x="11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851120" y="2465280"/>
                <a:ext cx="738000" cy="870120"/>
              </a:xfrm>
              <a:custGeom>
                <a:avLst/>
                <a:gdLst/>
                <a:ahLst/>
                <a:rect l="l" t="t" r="r" b="b"/>
                <a:pathLst>
                  <a:path w="930" h="1643">
                    <a:moveTo>
                      <a:pt x="930" y="7"/>
                    </a:moveTo>
                    <a:lnTo>
                      <a:pt x="921" y="40"/>
                    </a:lnTo>
                    <a:lnTo>
                      <a:pt x="887" y="143"/>
                    </a:lnTo>
                    <a:lnTo>
                      <a:pt x="834" y="263"/>
                    </a:lnTo>
                    <a:lnTo>
                      <a:pt x="807" y="332"/>
                    </a:lnTo>
                    <a:lnTo>
                      <a:pt x="804" y="357"/>
                    </a:lnTo>
                    <a:lnTo>
                      <a:pt x="781" y="410"/>
                    </a:lnTo>
                    <a:lnTo>
                      <a:pt x="717" y="496"/>
                    </a:lnTo>
                    <a:lnTo>
                      <a:pt x="620" y="567"/>
                    </a:lnTo>
                    <a:lnTo>
                      <a:pt x="595" y="577"/>
                    </a:lnTo>
                    <a:lnTo>
                      <a:pt x="567" y="582"/>
                    </a:lnTo>
                    <a:lnTo>
                      <a:pt x="537" y="599"/>
                    </a:lnTo>
                    <a:lnTo>
                      <a:pt x="524" y="623"/>
                    </a:lnTo>
                    <a:lnTo>
                      <a:pt x="501" y="755"/>
                    </a:lnTo>
                    <a:lnTo>
                      <a:pt x="467" y="870"/>
                    </a:lnTo>
                    <a:lnTo>
                      <a:pt x="454" y="991"/>
                    </a:lnTo>
                    <a:lnTo>
                      <a:pt x="460" y="1097"/>
                    </a:lnTo>
                    <a:lnTo>
                      <a:pt x="451" y="1152"/>
                    </a:lnTo>
                    <a:lnTo>
                      <a:pt x="444" y="1205"/>
                    </a:lnTo>
                    <a:lnTo>
                      <a:pt x="413" y="1298"/>
                    </a:lnTo>
                    <a:lnTo>
                      <a:pt x="413" y="1325"/>
                    </a:lnTo>
                    <a:lnTo>
                      <a:pt x="451" y="1408"/>
                    </a:lnTo>
                    <a:lnTo>
                      <a:pt x="460" y="1447"/>
                    </a:lnTo>
                    <a:lnTo>
                      <a:pt x="501" y="1511"/>
                    </a:lnTo>
                    <a:lnTo>
                      <a:pt x="510" y="1547"/>
                    </a:lnTo>
                    <a:lnTo>
                      <a:pt x="507" y="1579"/>
                    </a:lnTo>
                    <a:lnTo>
                      <a:pt x="481" y="1607"/>
                    </a:lnTo>
                    <a:lnTo>
                      <a:pt x="471" y="1625"/>
                    </a:lnTo>
                    <a:lnTo>
                      <a:pt x="451" y="1640"/>
                    </a:lnTo>
                    <a:lnTo>
                      <a:pt x="247" y="1643"/>
                    </a:lnTo>
                    <a:lnTo>
                      <a:pt x="204" y="1643"/>
                    </a:lnTo>
                    <a:lnTo>
                      <a:pt x="164" y="1636"/>
                    </a:lnTo>
                    <a:lnTo>
                      <a:pt x="80" y="1636"/>
                    </a:lnTo>
                    <a:lnTo>
                      <a:pt x="27" y="1617"/>
                    </a:lnTo>
                    <a:lnTo>
                      <a:pt x="13" y="1610"/>
                    </a:lnTo>
                    <a:lnTo>
                      <a:pt x="4" y="1593"/>
                    </a:lnTo>
                    <a:lnTo>
                      <a:pt x="7" y="1574"/>
                    </a:lnTo>
                    <a:lnTo>
                      <a:pt x="7" y="1562"/>
                    </a:lnTo>
                    <a:lnTo>
                      <a:pt x="0" y="1550"/>
                    </a:lnTo>
                    <a:lnTo>
                      <a:pt x="4" y="1461"/>
                    </a:lnTo>
                    <a:lnTo>
                      <a:pt x="13" y="1418"/>
                    </a:lnTo>
                    <a:lnTo>
                      <a:pt x="24" y="1347"/>
                    </a:lnTo>
                    <a:lnTo>
                      <a:pt x="33" y="1337"/>
                    </a:lnTo>
                    <a:lnTo>
                      <a:pt x="54" y="1339"/>
                    </a:lnTo>
                    <a:lnTo>
                      <a:pt x="67" y="1361"/>
                    </a:lnTo>
                    <a:lnTo>
                      <a:pt x="67" y="1401"/>
                    </a:lnTo>
                    <a:lnTo>
                      <a:pt x="60" y="1433"/>
                    </a:lnTo>
                    <a:lnTo>
                      <a:pt x="60" y="1554"/>
                    </a:lnTo>
                    <a:lnTo>
                      <a:pt x="67" y="1572"/>
                    </a:lnTo>
                    <a:lnTo>
                      <a:pt x="80" y="1583"/>
                    </a:lnTo>
                    <a:lnTo>
                      <a:pt x="154" y="1579"/>
                    </a:lnTo>
                    <a:lnTo>
                      <a:pt x="164" y="1569"/>
                    </a:lnTo>
                    <a:lnTo>
                      <a:pt x="168" y="1533"/>
                    </a:lnTo>
                    <a:lnTo>
                      <a:pt x="184" y="1500"/>
                    </a:lnTo>
                    <a:lnTo>
                      <a:pt x="211" y="1480"/>
                    </a:lnTo>
                    <a:lnTo>
                      <a:pt x="247" y="1480"/>
                    </a:lnTo>
                    <a:lnTo>
                      <a:pt x="263" y="1500"/>
                    </a:lnTo>
                    <a:lnTo>
                      <a:pt x="263" y="1507"/>
                    </a:lnTo>
                    <a:lnTo>
                      <a:pt x="258" y="1514"/>
                    </a:lnTo>
                    <a:lnTo>
                      <a:pt x="224" y="1514"/>
                    </a:lnTo>
                    <a:lnTo>
                      <a:pt x="193" y="1547"/>
                    </a:lnTo>
                    <a:lnTo>
                      <a:pt x="193" y="1569"/>
                    </a:lnTo>
                    <a:lnTo>
                      <a:pt x="211" y="1583"/>
                    </a:lnTo>
                    <a:lnTo>
                      <a:pt x="284" y="1574"/>
                    </a:lnTo>
                    <a:lnTo>
                      <a:pt x="297" y="1562"/>
                    </a:lnTo>
                    <a:lnTo>
                      <a:pt x="314" y="1514"/>
                    </a:lnTo>
                    <a:lnTo>
                      <a:pt x="344" y="1483"/>
                    </a:lnTo>
                    <a:lnTo>
                      <a:pt x="370" y="1471"/>
                    </a:lnTo>
                    <a:lnTo>
                      <a:pt x="380" y="1471"/>
                    </a:lnTo>
                    <a:lnTo>
                      <a:pt x="391" y="1483"/>
                    </a:lnTo>
                    <a:lnTo>
                      <a:pt x="373" y="1500"/>
                    </a:lnTo>
                    <a:lnTo>
                      <a:pt x="350" y="1514"/>
                    </a:lnTo>
                    <a:lnTo>
                      <a:pt x="327" y="1550"/>
                    </a:lnTo>
                    <a:lnTo>
                      <a:pt x="323" y="1564"/>
                    </a:lnTo>
                    <a:lnTo>
                      <a:pt x="334" y="1574"/>
                    </a:lnTo>
                    <a:lnTo>
                      <a:pt x="427" y="1572"/>
                    </a:lnTo>
                    <a:lnTo>
                      <a:pt x="438" y="1557"/>
                    </a:lnTo>
                    <a:lnTo>
                      <a:pt x="427" y="1511"/>
                    </a:lnTo>
                    <a:lnTo>
                      <a:pt x="384" y="1428"/>
                    </a:lnTo>
                    <a:lnTo>
                      <a:pt x="361" y="1358"/>
                    </a:lnTo>
                    <a:lnTo>
                      <a:pt x="344" y="1308"/>
                    </a:lnTo>
                    <a:lnTo>
                      <a:pt x="344" y="1258"/>
                    </a:lnTo>
                    <a:lnTo>
                      <a:pt x="373" y="1169"/>
                    </a:lnTo>
                    <a:lnTo>
                      <a:pt x="384" y="1112"/>
                    </a:lnTo>
                    <a:lnTo>
                      <a:pt x="387" y="1066"/>
                    </a:lnTo>
                    <a:lnTo>
                      <a:pt x="397" y="881"/>
                    </a:lnTo>
                    <a:lnTo>
                      <a:pt x="411" y="831"/>
                    </a:lnTo>
                    <a:lnTo>
                      <a:pt x="427" y="745"/>
                    </a:lnTo>
                    <a:lnTo>
                      <a:pt x="454" y="649"/>
                    </a:lnTo>
                    <a:lnTo>
                      <a:pt x="458" y="627"/>
                    </a:lnTo>
                    <a:lnTo>
                      <a:pt x="481" y="467"/>
                    </a:lnTo>
                    <a:lnTo>
                      <a:pt x="490" y="450"/>
                    </a:lnTo>
                    <a:lnTo>
                      <a:pt x="521" y="450"/>
                    </a:lnTo>
                    <a:lnTo>
                      <a:pt x="541" y="481"/>
                    </a:lnTo>
                    <a:lnTo>
                      <a:pt x="541" y="493"/>
                    </a:lnTo>
                    <a:lnTo>
                      <a:pt x="548" y="498"/>
                    </a:lnTo>
                    <a:lnTo>
                      <a:pt x="567" y="496"/>
                    </a:lnTo>
                    <a:lnTo>
                      <a:pt x="678" y="417"/>
                    </a:lnTo>
                    <a:lnTo>
                      <a:pt x="771" y="306"/>
                    </a:lnTo>
                    <a:lnTo>
                      <a:pt x="781" y="302"/>
                    </a:lnTo>
                    <a:lnTo>
                      <a:pt x="788" y="302"/>
                    </a:lnTo>
                    <a:lnTo>
                      <a:pt x="807" y="275"/>
                    </a:lnTo>
                    <a:lnTo>
                      <a:pt x="827" y="220"/>
                    </a:lnTo>
                    <a:lnTo>
                      <a:pt x="867" y="122"/>
                    </a:lnTo>
                    <a:lnTo>
                      <a:pt x="878" y="93"/>
                    </a:lnTo>
                    <a:lnTo>
                      <a:pt x="894" y="28"/>
                    </a:lnTo>
                    <a:lnTo>
                      <a:pt x="917" y="0"/>
                    </a:lnTo>
                    <a:lnTo>
                      <a:pt x="924" y="0"/>
                    </a:lnTo>
                    <a:lnTo>
                      <a:pt x="930" y="7"/>
                    </a:lnTo>
                    <a:lnTo>
                      <a:pt x="93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779480" y="2511360"/>
                <a:ext cx="90720" cy="195480"/>
              </a:xfrm>
              <a:custGeom>
                <a:avLst/>
                <a:gdLst/>
                <a:ahLst/>
                <a:rect l="l" t="t" r="r" b="b"/>
                <a:pathLst>
                  <a:path w="114" h="371">
                    <a:moveTo>
                      <a:pt x="40" y="17"/>
                    </a:moveTo>
                    <a:lnTo>
                      <a:pt x="47" y="106"/>
                    </a:lnTo>
                    <a:lnTo>
                      <a:pt x="47" y="163"/>
                    </a:lnTo>
                    <a:lnTo>
                      <a:pt x="60" y="203"/>
                    </a:lnTo>
                    <a:lnTo>
                      <a:pt x="63" y="228"/>
                    </a:lnTo>
                    <a:lnTo>
                      <a:pt x="107" y="316"/>
                    </a:lnTo>
                    <a:lnTo>
                      <a:pt x="114" y="349"/>
                    </a:lnTo>
                    <a:lnTo>
                      <a:pt x="114" y="359"/>
                    </a:lnTo>
                    <a:lnTo>
                      <a:pt x="103" y="371"/>
                    </a:lnTo>
                    <a:lnTo>
                      <a:pt x="83" y="367"/>
                    </a:lnTo>
                    <a:lnTo>
                      <a:pt x="20" y="242"/>
                    </a:lnTo>
                    <a:lnTo>
                      <a:pt x="0" y="117"/>
                    </a:lnTo>
                    <a:lnTo>
                      <a:pt x="7" y="70"/>
                    </a:lnTo>
                    <a:lnTo>
                      <a:pt x="7" y="14"/>
                    </a:lnTo>
                    <a:lnTo>
                      <a:pt x="16" y="0"/>
                    </a:lnTo>
                    <a:lnTo>
                      <a:pt x="31" y="3"/>
                    </a:lnTo>
                    <a:lnTo>
                      <a:pt x="40" y="17"/>
                    </a:lnTo>
                    <a:lnTo>
                      <a:pt x="4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346040" y="2825640"/>
                <a:ext cx="357480" cy="501840"/>
              </a:xfrm>
              <a:custGeom>
                <a:avLst/>
                <a:gdLst/>
                <a:ahLst/>
                <a:rect l="l" t="t" r="r" b="b"/>
                <a:pathLst>
                  <a:path w="450" h="949">
                    <a:moveTo>
                      <a:pt x="423" y="51"/>
                    </a:moveTo>
                    <a:lnTo>
                      <a:pt x="376" y="96"/>
                    </a:lnTo>
                    <a:lnTo>
                      <a:pt x="340" y="122"/>
                    </a:lnTo>
                    <a:lnTo>
                      <a:pt x="293" y="175"/>
                    </a:lnTo>
                    <a:lnTo>
                      <a:pt x="277" y="221"/>
                    </a:lnTo>
                    <a:lnTo>
                      <a:pt x="263" y="379"/>
                    </a:lnTo>
                    <a:lnTo>
                      <a:pt x="250" y="503"/>
                    </a:lnTo>
                    <a:lnTo>
                      <a:pt x="254" y="606"/>
                    </a:lnTo>
                    <a:lnTo>
                      <a:pt x="259" y="635"/>
                    </a:lnTo>
                    <a:lnTo>
                      <a:pt x="320" y="700"/>
                    </a:lnTo>
                    <a:lnTo>
                      <a:pt x="380" y="764"/>
                    </a:lnTo>
                    <a:lnTo>
                      <a:pt x="417" y="846"/>
                    </a:lnTo>
                    <a:lnTo>
                      <a:pt x="417" y="892"/>
                    </a:lnTo>
                    <a:lnTo>
                      <a:pt x="390" y="930"/>
                    </a:lnTo>
                    <a:lnTo>
                      <a:pt x="360" y="949"/>
                    </a:lnTo>
                    <a:lnTo>
                      <a:pt x="270" y="949"/>
                    </a:lnTo>
                    <a:lnTo>
                      <a:pt x="234" y="942"/>
                    </a:lnTo>
                    <a:lnTo>
                      <a:pt x="180" y="937"/>
                    </a:lnTo>
                    <a:lnTo>
                      <a:pt x="131" y="937"/>
                    </a:lnTo>
                    <a:lnTo>
                      <a:pt x="36" y="935"/>
                    </a:lnTo>
                    <a:lnTo>
                      <a:pt x="3" y="916"/>
                    </a:lnTo>
                    <a:lnTo>
                      <a:pt x="0" y="916"/>
                    </a:lnTo>
                    <a:lnTo>
                      <a:pt x="20" y="884"/>
                    </a:lnTo>
                    <a:lnTo>
                      <a:pt x="86" y="889"/>
                    </a:lnTo>
                    <a:lnTo>
                      <a:pt x="93" y="882"/>
                    </a:lnTo>
                    <a:lnTo>
                      <a:pt x="86" y="856"/>
                    </a:lnTo>
                    <a:lnTo>
                      <a:pt x="90" y="820"/>
                    </a:lnTo>
                    <a:lnTo>
                      <a:pt x="104" y="796"/>
                    </a:lnTo>
                    <a:lnTo>
                      <a:pt x="133" y="770"/>
                    </a:lnTo>
                    <a:lnTo>
                      <a:pt x="167" y="770"/>
                    </a:lnTo>
                    <a:lnTo>
                      <a:pt x="190" y="781"/>
                    </a:lnTo>
                    <a:lnTo>
                      <a:pt x="194" y="781"/>
                    </a:lnTo>
                    <a:lnTo>
                      <a:pt x="203" y="791"/>
                    </a:lnTo>
                    <a:lnTo>
                      <a:pt x="200" y="810"/>
                    </a:lnTo>
                    <a:lnTo>
                      <a:pt x="143" y="813"/>
                    </a:lnTo>
                    <a:lnTo>
                      <a:pt x="124" y="827"/>
                    </a:lnTo>
                    <a:lnTo>
                      <a:pt x="113" y="839"/>
                    </a:lnTo>
                    <a:lnTo>
                      <a:pt x="113" y="870"/>
                    </a:lnTo>
                    <a:lnTo>
                      <a:pt x="110" y="874"/>
                    </a:lnTo>
                    <a:lnTo>
                      <a:pt x="120" y="884"/>
                    </a:lnTo>
                    <a:lnTo>
                      <a:pt x="169" y="884"/>
                    </a:lnTo>
                    <a:lnTo>
                      <a:pt x="200" y="889"/>
                    </a:lnTo>
                    <a:lnTo>
                      <a:pt x="210" y="889"/>
                    </a:lnTo>
                    <a:lnTo>
                      <a:pt x="220" y="849"/>
                    </a:lnTo>
                    <a:lnTo>
                      <a:pt x="243" y="824"/>
                    </a:lnTo>
                    <a:lnTo>
                      <a:pt x="267" y="853"/>
                    </a:lnTo>
                    <a:lnTo>
                      <a:pt x="254" y="863"/>
                    </a:lnTo>
                    <a:lnTo>
                      <a:pt x="243" y="874"/>
                    </a:lnTo>
                    <a:lnTo>
                      <a:pt x="243" y="889"/>
                    </a:lnTo>
                    <a:lnTo>
                      <a:pt x="317" y="884"/>
                    </a:lnTo>
                    <a:lnTo>
                      <a:pt x="333" y="870"/>
                    </a:lnTo>
                    <a:lnTo>
                      <a:pt x="340" y="863"/>
                    </a:lnTo>
                    <a:lnTo>
                      <a:pt x="337" y="834"/>
                    </a:lnTo>
                    <a:lnTo>
                      <a:pt x="331" y="827"/>
                    </a:lnTo>
                    <a:lnTo>
                      <a:pt x="300" y="827"/>
                    </a:lnTo>
                    <a:lnTo>
                      <a:pt x="270" y="796"/>
                    </a:lnTo>
                    <a:lnTo>
                      <a:pt x="280" y="788"/>
                    </a:lnTo>
                    <a:lnTo>
                      <a:pt x="300" y="788"/>
                    </a:lnTo>
                    <a:lnTo>
                      <a:pt x="310" y="778"/>
                    </a:lnTo>
                    <a:lnTo>
                      <a:pt x="277" y="735"/>
                    </a:lnTo>
                    <a:lnTo>
                      <a:pt x="194" y="645"/>
                    </a:lnTo>
                    <a:lnTo>
                      <a:pt x="180" y="614"/>
                    </a:lnTo>
                    <a:lnTo>
                      <a:pt x="173" y="525"/>
                    </a:lnTo>
                    <a:lnTo>
                      <a:pt x="183" y="400"/>
                    </a:lnTo>
                    <a:lnTo>
                      <a:pt x="200" y="254"/>
                    </a:lnTo>
                    <a:lnTo>
                      <a:pt x="207" y="207"/>
                    </a:lnTo>
                    <a:lnTo>
                      <a:pt x="216" y="147"/>
                    </a:lnTo>
                    <a:lnTo>
                      <a:pt x="241" y="96"/>
                    </a:lnTo>
                    <a:lnTo>
                      <a:pt x="304" y="36"/>
                    </a:lnTo>
                    <a:lnTo>
                      <a:pt x="351" y="0"/>
                    </a:lnTo>
                    <a:lnTo>
                      <a:pt x="450" y="5"/>
                    </a:lnTo>
                    <a:lnTo>
                      <a:pt x="423" y="51"/>
                    </a:lnTo>
                    <a:lnTo>
                      <a:pt x="423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150920" y="3227400"/>
                <a:ext cx="87480" cy="52200"/>
              </a:xfrm>
              <a:custGeom>
                <a:avLst/>
                <a:gdLst/>
                <a:ahLst/>
                <a:rect l="l" t="t" r="r" b="b"/>
                <a:pathLst>
                  <a:path w="110" h="100">
                    <a:moveTo>
                      <a:pt x="107" y="14"/>
                    </a:moveTo>
                    <a:lnTo>
                      <a:pt x="110" y="21"/>
                    </a:lnTo>
                    <a:lnTo>
                      <a:pt x="110" y="31"/>
                    </a:lnTo>
                    <a:lnTo>
                      <a:pt x="101" y="43"/>
                    </a:lnTo>
                    <a:lnTo>
                      <a:pt x="67" y="46"/>
                    </a:lnTo>
                    <a:lnTo>
                      <a:pt x="47" y="57"/>
                    </a:lnTo>
                    <a:lnTo>
                      <a:pt x="31" y="79"/>
                    </a:lnTo>
                    <a:lnTo>
                      <a:pt x="31" y="93"/>
                    </a:lnTo>
                    <a:lnTo>
                      <a:pt x="24" y="100"/>
                    </a:lnTo>
                    <a:lnTo>
                      <a:pt x="11" y="96"/>
                    </a:lnTo>
                    <a:lnTo>
                      <a:pt x="0" y="81"/>
                    </a:lnTo>
                    <a:lnTo>
                      <a:pt x="4" y="43"/>
                    </a:lnTo>
                    <a:lnTo>
                      <a:pt x="17" y="18"/>
                    </a:lnTo>
                    <a:lnTo>
                      <a:pt x="40" y="4"/>
                    </a:lnTo>
                    <a:lnTo>
                      <a:pt x="51" y="0"/>
                    </a:lnTo>
                    <a:lnTo>
                      <a:pt x="90" y="4"/>
                    </a:lnTo>
                    <a:lnTo>
                      <a:pt x="107" y="14"/>
                    </a:lnTo>
                    <a:lnTo>
                      <a:pt x="10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583000" y="3240000"/>
                <a:ext cx="81000" cy="55800"/>
              </a:xfrm>
              <a:custGeom>
                <a:avLst/>
                <a:gdLst/>
                <a:ahLst/>
                <a:rect l="l" t="t" r="r" b="b"/>
                <a:pathLst>
                  <a:path w="103" h="105">
                    <a:moveTo>
                      <a:pt x="103" y="16"/>
                    </a:moveTo>
                    <a:lnTo>
                      <a:pt x="103" y="22"/>
                    </a:lnTo>
                    <a:lnTo>
                      <a:pt x="93" y="33"/>
                    </a:lnTo>
                    <a:lnTo>
                      <a:pt x="60" y="40"/>
                    </a:lnTo>
                    <a:lnTo>
                      <a:pt x="30" y="72"/>
                    </a:lnTo>
                    <a:lnTo>
                      <a:pt x="27" y="98"/>
                    </a:lnTo>
                    <a:lnTo>
                      <a:pt x="16" y="105"/>
                    </a:lnTo>
                    <a:lnTo>
                      <a:pt x="9" y="105"/>
                    </a:lnTo>
                    <a:lnTo>
                      <a:pt x="0" y="90"/>
                    </a:lnTo>
                    <a:lnTo>
                      <a:pt x="3" y="57"/>
                    </a:lnTo>
                    <a:lnTo>
                      <a:pt x="20" y="29"/>
                    </a:lnTo>
                    <a:lnTo>
                      <a:pt x="50" y="4"/>
                    </a:lnTo>
                    <a:lnTo>
                      <a:pt x="63" y="0"/>
                    </a:lnTo>
                    <a:lnTo>
                      <a:pt x="93" y="4"/>
                    </a:lnTo>
                    <a:lnTo>
                      <a:pt x="103" y="16"/>
                    </a:lnTo>
                    <a:lnTo>
                      <a:pt x="10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457360" y="324648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117" h="86">
                    <a:moveTo>
                      <a:pt x="110" y="10"/>
                    </a:moveTo>
                    <a:lnTo>
                      <a:pt x="117" y="17"/>
                    </a:lnTo>
                    <a:lnTo>
                      <a:pt x="117" y="28"/>
                    </a:lnTo>
                    <a:lnTo>
                      <a:pt x="110" y="35"/>
                    </a:lnTo>
                    <a:lnTo>
                      <a:pt x="47" y="38"/>
                    </a:lnTo>
                    <a:lnTo>
                      <a:pt x="27" y="60"/>
                    </a:lnTo>
                    <a:lnTo>
                      <a:pt x="27" y="78"/>
                    </a:lnTo>
                    <a:lnTo>
                      <a:pt x="20" y="86"/>
                    </a:lnTo>
                    <a:lnTo>
                      <a:pt x="7" y="86"/>
                    </a:lnTo>
                    <a:lnTo>
                      <a:pt x="0" y="74"/>
                    </a:lnTo>
                    <a:lnTo>
                      <a:pt x="3" y="43"/>
                    </a:lnTo>
                    <a:lnTo>
                      <a:pt x="13" y="24"/>
                    </a:lnTo>
                    <a:lnTo>
                      <a:pt x="47" y="0"/>
                    </a:lnTo>
                    <a:lnTo>
                      <a:pt x="101" y="4"/>
                    </a:lnTo>
                    <a:lnTo>
                      <a:pt x="110" y="10"/>
                    </a:lnTo>
                    <a:lnTo>
                      <a:pt x="11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858960" y="1971720"/>
              <a:ext cx="318132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92880" y="1952640"/>
              <a:ext cx="264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Comic Sans MS"/>
                </a:rPr>
                <a:t>Remember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2362320" y="61272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btract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584520" y="1290600"/>
            <a:ext cx="14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R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066680" y="3809880"/>
            <a:ext cx="7315200" cy="272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360" indent="-29052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rrange in descending order of de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8360" indent="-29052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 the inverse of each term in the second polynomial to the like term in the first polynom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8360" indent="-290520" algn="ctr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14400" y="229536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subtract one  polynomial        from anoth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2590920" y="6094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480" y="2125800"/>
            <a:ext cx="794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819520" y="254952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4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6x + 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590920" y="347832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 (3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- 2x - 4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644040" y="1559880"/>
            <a:ext cx="2744280" cy="1144440"/>
            <a:chOff x="644040" y="1559880"/>
            <a:chExt cx="2744280" cy="1144440"/>
          </a:xfrm>
        </p:grpSpPr>
        <p:sp>
          <p:nvSpPr>
            <p:cNvPr id="676" name=""/>
            <p:cNvSpPr/>
            <p:nvPr/>
          </p:nvSpPr>
          <p:spPr>
            <a:xfrm rot="20897400">
              <a:off x="678240" y="1833840"/>
              <a:ext cx="2626560" cy="6098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20897400">
              <a:off x="843840" y="1808640"/>
              <a:ext cx="251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n examp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362320" y="441972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838080" y="20574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Inverse of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(3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– 2x – 4)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752480" y="3886200"/>
            <a:ext cx="426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6600"/>
                </a:solidFill>
                <a:latin typeface="Comic Sans MS"/>
              </a:rPr>
              <a:t>-3x</a:t>
            </a:r>
            <a:r>
              <a:rPr b="0" lang="en-US" sz="66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886200" y="388620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6600"/>
                </a:solidFill>
                <a:latin typeface="Comic Sans MS"/>
              </a:rPr>
              <a:t>+ 2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19920" y="3886200"/>
            <a:ext cx="213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6600"/>
                </a:solidFill>
                <a:latin typeface="Comic Sans MS"/>
              </a:rPr>
              <a:t>+ 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/>
          <p:nvPr/>
        </p:nvCxnSpPr>
        <p:spPr>
          <a:xfrm rot="5400000">
            <a:off x="2914920" y="2570760"/>
            <a:ext cx="456120" cy="2782080"/>
          </a:xfrm>
          <a:prstGeom prst="curvedConnector5">
            <a:avLst>
              <a:gd name="adj1" fmla="val 462006"/>
              <a:gd name="adj2" fmla="val 62779"/>
              <a:gd name="adj3" fmla="val 46200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4" name=""/>
          <p:cNvCxnSpPr>
            <a:endCxn id="682" idx="0"/>
          </p:cNvCxnSpPr>
          <p:nvPr/>
        </p:nvCxnSpPr>
        <p:spPr>
          <a:xfrm rot="5400000">
            <a:off x="6886440" y="3304080"/>
            <a:ext cx="781920" cy="383400"/>
          </a:xfrm>
          <a:prstGeom prst="curvedConnector5">
            <a:avLst>
              <a:gd name="adj1" fmla="val 49976"/>
              <a:gd name="adj2" fmla="val 50000"/>
              <a:gd name="adj3" fmla="val 4997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5" name=""/>
          <p:cNvCxnSpPr/>
          <p:nvPr/>
        </p:nvCxnSpPr>
        <p:spPr>
          <a:xfrm rot="5400000">
            <a:off x="5247360" y="3114360"/>
            <a:ext cx="781920" cy="762840"/>
          </a:xfrm>
          <a:prstGeom prst="curvedConnector5">
            <a:avLst>
              <a:gd name="adj1" fmla="val 49976"/>
              <a:gd name="adj2" fmla="val 50000"/>
              <a:gd name="adj3" fmla="val 4997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6" name=""/>
          <p:cNvSpPr/>
          <p:nvPr/>
        </p:nvSpPr>
        <p:spPr>
          <a:xfrm>
            <a:off x="2362320" y="6094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2362320" y="6094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286000" y="24382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4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+ 6x + 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828800" y="326556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- 3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+ 2x +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209680" y="4419720"/>
            <a:ext cx="4953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638680" y="4281480"/>
            <a:ext cx="20574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00"/>
                </a:solidFill>
                <a:latin typeface="Comic Sans MS"/>
              </a:rPr>
              <a:t>+ 1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57600" y="428148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00"/>
                </a:solidFill>
                <a:latin typeface="Comic Sans MS"/>
              </a:rPr>
              <a:t>+ 8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286000" y="42814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cc"/>
                </a:solidFill>
                <a:latin typeface="Comic Sans MS"/>
              </a:rPr>
              <a:t>1</a:t>
            </a:r>
            <a:r>
              <a:rPr b="0" lang="en-US" sz="6000" spc="-1" strike="noStrike">
                <a:solidFill>
                  <a:srgbClr val="00cc99"/>
                </a:solidFill>
                <a:latin typeface="Comic Sans MS"/>
              </a:rPr>
              <a:t>x</a:t>
            </a:r>
            <a:r>
              <a:rPr b="0" lang="en-US" sz="6000" spc="-1" strike="noStrike" baseline="30000">
                <a:solidFill>
                  <a:srgbClr val="00cc99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438280" y="4281480"/>
            <a:ext cx="144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00"/>
                </a:solidFill>
                <a:latin typeface="Comic Sans MS"/>
              </a:rPr>
              <a:t>x</a:t>
            </a:r>
            <a:r>
              <a:rPr b="0" lang="en-US" sz="60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2666880" y="6094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886200" y="2362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gular Subtr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24080" y="3184560"/>
            <a:ext cx="32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469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819520" y="4083120"/>
            <a:ext cx="32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- 324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24080" y="508968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105520" y="516564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572000" y="516564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038480" y="516564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57600" y="516564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20866200">
            <a:off x="1343160" y="2133720"/>
            <a:ext cx="21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846000" y="1617840"/>
            <a:ext cx="3194280" cy="1717560"/>
            <a:chOff x="846000" y="1617840"/>
            <a:chExt cx="3194280" cy="1717560"/>
          </a:xfrm>
        </p:grpSpPr>
        <p:grpSp>
          <p:nvGrpSpPr>
            <p:cNvPr id="706" name=""/>
            <p:cNvGrpSpPr/>
            <p:nvPr/>
          </p:nvGrpSpPr>
          <p:grpSpPr>
            <a:xfrm>
              <a:off x="846000" y="1617840"/>
              <a:ext cx="2716200" cy="1717560"/>
              <a:chOff x="846000" y="1617840"/>
              <a:chExt cx="2716200" cy="1717560"/>
            </a:xfrm>
          </p:grpSpPr>
          <p:sp>
            <p:nvSpPr>
              <p:cNvPr id="707" name=""/>
              <p:cNvSpPr/>
              <p:nvPr/>
            </p:nvSpPr>
            <p:spPr>
              <a:xfrm>
                <a:off x="876240" y="1633680"/>
                <a:ext cx="2532240" cy="1679400"/>
              </a:xfrm>
              <a:custGeom>
                <a:avLst/>
                <a:gdLst/>
                <a:ahLst/>
                <a:rect l="l" t="t" r="r" b="b"/>
                <a:pathLst>
                  <a:path w="3190" h="3174">
                    <a:moveTo>
                      <a:pt x="2298" y="6"/>
                    </a:moveTo>
                    <a:lnTo>
                      <a:pt x="1977" y="224"/>
                    </a:lnTo>
                    <a:lnTo>
                      <a:pt x="1611" y="267"/>
                    </a:lnTo>
                    <a:lnTo>
                      <a:pt x="1273" y="360"/>
                    </a:lnTo>
                    <a:lnTo>
                      <a:pt x="816" y="469"/>
                    </a:lnTo>
                    <a:lnTo>
                      <a:pt x="362" y="720"/>
                    </a:lnTo>
                    <a:lnTo>
                      <a:pt x="112" y="1041"/>
                    </a:lnTo>
                    <a:lnTo>
                      <a:pt x="0" y="1481"/>
                    </a:lnTo>
                    <a:lnTo>
                      <a:pt x="77" y="2036"/>
                    </a:lnTo>
                    <a:lnTo>
                      <a:pt x="163" y="2406"/>
                    </a:lnTo>
                    <a:lnTo>
                      <a:pt x="194" y="2820"/>
                    </a:lnTo>
                    <a:lnTo>
                      <a:pt x="92" y="3125"/>
                    </a:lnTo>
                    <a:lnTo>
                      <a:pt x="484" y="3157"/>
                    </a:lnTo>
                    <a:lnTo>
                      <a:pt x="540" y="3098"/>
                    </a:lnTo>
                    <a:lnTo>
                      <a:pt x="611" y="3157"/>
                    </a:lnTo>
                    <a:lnTo>
                      <a:pt x="922" y="3163"/>
                    </a:lnTo>
                    <a:lnTo>
                      <a:pt x="978" y="3087"/>
                    </a:lnTo>
                    <a:lnTo>
                      <a:pt x="795" y="2836"/>
                    </a:lnTo>
                    <a:lnTo>
                      <a:pt x="850" y="2396"/>
                    </a:lnTo>
                    <a:lnTo>
                      <a:pt x="1106" y="2200"/>
                    </a:lnTo>
                    <a:lnTo>
                      <a:pt x="1218" y="2188"/>
                    </a:lnTo>
                    <a:lnTo>
                      <a:pt x="1284" y="2727"/>
                    </a:lnTo>
                    <a:lnTo>
                      <a:pt x="1259" y="3157"/>
                    </a:lnTo>
                    <a:lnTo>
                      <a:pt x="1691" y="3174"/>
                    </a:lnTo>
                    <a:lnTo>
                      <a:pt x="1713" y="3092"/>
                    </a:lnTo>
                    <a:lnTo>
                      <a:pt x="1611" y="2853"/>
                    </a:lnTo>
                    <a:lnTo>
                      <a:pt x="1662" y="2575"/>
                    </a:lnTo>
                    <a:lnTo>
                      <a:pt x="1707" y="2346"/>
                    </a:lnTo>
                    <a:lnTo>
                      <a:pt x="1819" y="2614"/>
                    </a:lnTo>
                    <a:lnTo>
                      <a:pt x="1835" y="2859"/>
                    </a:lnTo>
                    <a:lnTo>
                      <a:pt x="1906" y="3157"/>
                    </a:lnTo>
                    <a:lnTo>
                      <a:pt x="2313" y="3168"/>
                    </a:lnTo>
                    <a:lnTo>
                      <a:pt x="2344" y="3054"/>
                    </a:lnTo>
                    <a:lnTo>
                      <a:pt x="2191" y="2880"/>
                    </a:lnTo>
                    <a:lnTo>
                      <a:pt x="2187" y="2314"/>
                    </a:lnTo>
                    <a:lnTo>
                      <a:pt x="2161" y="1955"/>
                    </a:lnTo>
                    <a:lnTo>
                      <a:pt x="2303" y="1486"/>
                    </a:lnTo>
                    <a:lnTo>
                      <a:pt x="2406" y="1453"/>
                    </a:lnTo>
                    <a:lnTo>
                      <a:pt x="2563" y="1683"/>
                    </a:lnTo>
                    <a:lnTo>
                      <a:pt x="2665" y="1667"/>
                    </a:lnTo>
                    <a:lnTo>
                      <a:pt x="2904" y="1900"/>
                    </a:lnTo>
                    <a:lnTo>
                      <a:pt x="2951" y="2336"/>
                    </a:lnTo>
                    <a:lnTo>
                      <a:pt x="2878" y="2608"/>
                    </a:lnTo>
                    <a:lnTo>
                      <a:pt x="2778" y="2645"/>
                    </a:lnTo>
                    <a:lnTo>
                      <a:pt x="2716" y="2532"/>
                    </a:lnTo>
                    <a:lnTo>
                      <a:pt x="2614" y="2581"/>
                    </a:lnTo>
                    <a:lnTo>
                      <a:pt x="2512" y="2564"/>
                    </a:lnTo>
                    <a:lnTo>
                      <a:pt x="2608" y="2744"/>
                    </a:lnTo>
                    <a:lnTo>
                      <a:pt x="2756" y="2804"/>
                    </a:lnTo>
                    <a:lnTo>
                      <a:pt x="2925" y="2750"/>
                    </a:lnTo>
                    <a:lnTo>
                      <a:pt x="3078" y="2559"/>
                    </a:lnTo>
                    <a:lnTo>
                      <a:pt x="3190" y="2227"/>
                    </a:lnTo>
                    <a:lnTo>
                      <a:pt x="3190" y="1840"/>
                    </a:lnTo>
                    <a:lnTo>
                      <a:pt x="3098" y="1204"/>
                    </a:lnTo>
                    <a:lnTo>
                      <a:pt x="2980" y="823"/>
                    </a:lnTo>
                    <a:lnTo>
                      <a:pt x="3006" y="627"/>
                    </a:lnTo>
                    <a:lnTo>
                      <a:pt x="2833" y="278"/>
                    </a:lnTo>
                    <a:lnTo>
                      <a:pt x="2690" y="66"/>
                    </a:lnTo>
                    <a:lnTo>
                      <a:pt x="2543" y="88"/>
                    </a:lnTo>
                    <a:lnTo>
                      <a:pt x="2410" y="0"/>
                    </a:lnTo>
                    <a:lnTo>
                      <a:pt x="2298" y="6"/>
                    </a:lnTo>
                    <a:lnTo>
                      <a:pt x="2298" y="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371760" y="2432160"/>
                <a:ext cx="162000" cy="74520"/>
              </a:xfrm>
              <a:custGeom>
                <a:avLst/>
                <a:gdLst/>
                <a:ahLst/>
                <a:rect l="l" t="t" r="r" b="b"/>
                <a:pathLst>
                  <a:path w="204" h="141">
                    <a:moveTo>
                      <a:pt x="0" y="0"/>
                    </a:moveTo>
                    <a:lnTo>
                      <a:pt x="204" y="108"/>
                    </a:lnTo>
                    <a:lnTo>
                      <a:pt x="143" y="141"/>
                    </a:lnTo>
                    <a:lnTo>
                      <a:pt x="15" y="1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857680" y="2330280"/>
                <a:ext cx="433080" cy="289080"/>
              </a:xfrm>
              <a:custGeom>
                <a:avLst/>
                <a:gdLst/>
                <a:ahLst/>
                <a:rect l="l" t="t" r="r" b="b"/>
                <a:pathLst>
                  <a:path w="545" h="545">
                    <a:moveTo>
                      <a:pt x="25" y="0"/>
                    </a:moveTo>
                    <a:lnTo>
                      <a:pt x="148" y="6"/>
                    </a:lnTo>
                    <a:lnTo>
                      <a:pt x="244" y="229"/>
                    </a:lnTo>
                    <a:lnTo>
                      <a:pt x="372" y="371"/>
                    </a:lnTo>
                    <a:lnTo>
                      <a:pt x="545" y="513"/>
                    </a:lnTo>
                    <a:lnTo>
                      <a:pt x="494" y="545"/>
                    </a:lnTo>
                    <a:lnTo>
                      <a:pt x="326" y="480"/>
                    </a:lnTo>
                    <a:lnTo>
                      <a:pt x="107" y="295"/>
                    </a:lnTo>
                    <a:lnTo>
                      <a:pt x="0" y="66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049480" y="1865160"/>
                <a:ext cx="496800" cy="443160"/>
              </a:xfrm>
              <a:custGeom>
                <a:avLst/>
                <a:gdLst/>
                <a:ahLst/>
                <a:rect l="l" t="t" r="r" b="b"/>
                <a:pathLst>
                  <a:path w="627" h="838">
                    <a:moveTo>
                      <a:pt x="607" y="12"/>
                    </a:moveTo>
                    <a:lnTo>
                      <a:pt x="326" y="0"/>
                    </a:lnTo>
                    <a:lnTo>
                      <a:pt x="91" y="103"/>
                    </a:lnTo>
                    <a:lnTo>
                      <a:pt x="0" y="120"/>
                    </a:lnTo>
                    <a:lnTo>
                      <a:pt x="0" y="196"/>
                    </a:lnTo>
                    <a:lnTo>
                      <a:pt x="91" y="294"/>
                    </a:lnTo>
                    <a:lnTo>
                      <a:pt x="71" y="381"/>
                    </a:lnTo>
                    <a:lnTo>
                      <a:pt x="158" y="490"/>
                    </a:lnTo>
                    <a:lnTo>
                      <a:pt x="158" y="587"/>
                    </a:lnTo>
                    <a:lnTo>
                      <a:pt x="264" y="615"/>
                    </a:lnTo>
                    <a:lnTo>
                      <a:pt x="372" y="762"/>
                    </a:lnTo>
                    <a:lnTo>
                      <a:pt x="448" y="790"/>
                    </a:lnTo>
                    <a:lnTo>
                      <a:pt x="509" y="838"/>
                    </a:lnTo>
                    <a:lnTo>
                      <a:pt x="585" y="827"/>
                    </a:lnTo>
                    <a:lnTo>
                      <a:pt x="611" y="648"/>
                    </a:lnTo>
                    <a:lnTo>
                      <a:pt x="565" y="342"/>
                    </a:lnTo>
                    <a:lnTo>
                      <a:pt x="627" y="191"/>
                    </a:lnTo>
                    <a:lnTo>
                      <a:pt x="576" y="169"/>
                    </a:lnTo>
                    <a:lnTo>
                      <a:pt x="596" y="87"/>
                    </a:lnTo>
                    <a:lnTo>
                      <a:pt x="607" y="12"/>
                    </a:lnTo>
                    <a:lnTo>
                      <a:pt x="607" y="12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021040" y="1617840"/>
                <a:ext cx="1541160" cy="1511280"/>
              </a:xfrm>
              <a:custGeom>
                <a:avLst/>
                <a:gdLst/>
                <a:ahLst/>
                <a:rect l="l" t="t" r="r" b="b"/>
                <a:pathLst>
                  <a:path w="1944" h="2856">
                    <a:moveTo>
                      <a:pt x="1018" y="29"/>
                    </a:moveTo>
                    <a:lnTo>
                      <a:pt x="1104" y="86"/>
                    </a:lnTo>
                    <a:lnTo>
                      <a:pt x="1155" y="62"/>
                    </a:lnTo>
                    <a:lnTo>
                      <a:pt x="1191" y="55"/>
                    </a:lnTo>
                    <a:lnTo>
                      <a:pt x="1234" y="58"/>
                    </a:lnTo>
                    <a:lnTo>
                      <a:pt x="1275" y="76"/>
                    </a:lnTo>
                    <a:lnTo>
                      <a:pt x="1339" y="144"/>
                    </a:lnTo>
                    <a:lnTo>
                      <a:pt x="1378" y="215"/>
                    </a:lnTo>
                    <a:lnTo>
                      <a:pt x="1418" y="321"/>
                    </a:lnTo>
                    <a:lnTo>
                      <a:pt x="1495" y="460"/>
                    </a:lnTo>
                    <a:lnTo>
                      <a:pt x="1549" y="532"/>
                    </a:lnTo>
                    <a:lnTo>
                      <a:pt x="1598" y="628"/>
                    </a:lnTo>
                    <a:lnTo>
                      <a:pt x="1616" y="717"/>
                    </a:lnTo>
                    <a:lnTo>
                      <a:pt x="1602" y="813"/>
                    </a:lnTo>
                    <a:lnTo>
                      <a:pt x="1576" y="882"/>
                    </a:lnTo>
                    <a:lnTo>
                      <a:pt x="1636" y="1002"/>
                    </a:lnTo>
                    <a:lnTo>
                      <a:pt x="1641" y="1081"/>
                    </a:lnTo>
                    <a:lnTo>
                      <a:pt x="1675" y="1134"/>
                    </a:lnTo>
                    <a:lnTo>
                      <a:pt x="1688" y="1174"/>
                    </a:lnTo>
                    <a:lnTo>
                      <a:pt x="1682" y="1241"/>
                    </a:lnTo>
                    <a:lnTo>
                      <a:pt x="1719" y="1313"/>
                    </a:lnTo>
                    <a:lnTo>
                      <a:pt x="1719" y="1452"/>
                    </a:lnTo>
                    <a:lnTo>
                      <a:pt x="1729" y="1490"/>
                    </a:lnTo>
                    <a:lnTo>
                      <a:pt x="1729" y="1509"/>
                    </a:lnTo>
                    <a:lnTo>
                      <a:pt x="1753" y="1526"/>
                    </a:lnTo>
                    <a:lnTo>
                      <a:pt x="1886" y="1579"/>
                    </a:lnTo>
                    <a:lnTo>
                      <a:pt x="1922" y="1605"/>
                    </a:lnTo>
                    <a:lnTo>
                      <a:pt x="1944" y="1637"/>
                    </a:lnTo>
                    <a:lnTo>
                      <a:pt x="1944" y="1682"/>
                    </a:lnTo>
                    <a:lnTo>
                      <a:pt x="1922" y="1704"/>
                    </a:lnTo>
                    <a:lnTo>
                      <a:pt x="1879" y="1718"/>
                    </a:lnTo>
                    <a:lnTo>
                      <a:pt x="1816" y="1715"/>
                    </a:lnTo>
                    <a:lnTo>
                      <a:pt x="1805" y="1708"/>
                    </a:lnTo>
                    <a:lnTo>
                      <a:pt x="1762" y="1704"/>
                    </a:lnTo>
                    <a:lnTo>
                      <a:pt x="1753" y="1704"/>
                    </a:lnTo>
                    <a:lnTo>
                      <a:pt x="1745" y="1711"/>
                    </a:lnTo>
                    <a:lnTo>
                      <a:pt x="1760" y="1747"/>
                    </a:lnTo>
                    <a:lnTo>
                      <a:pt x="1760" y="1862"/>
                    </a:lnTo>
                    <a:lnTo>
                      <a:pt x="1765" y="1876"/>
                    </a:lnTo>
                    <a:lnTo>
                      <a:pt x="1789" y="2099"/>
                    </a:lnTo>
                    <a:lnTo>
                      <a:pt x="1782" y="2200"/>
                    </a:lnTo>
                    <a:lnTo>
                      <a:pt x="1742" y="2385"/>
                    </a:lnTo>
                    <a:lnTo>
                      <a:pt x="1702" y="2524"/>
                    </a:lnTo>
                    <a:lnTo>
                      <a:pt x="1645" y="2642"/>
                    </a:lnTo>
                    <a:lnTo>
                      <a:pt x="1576" y="2731"/>
                    </a:lnTo>
                    <a:lnTo>
                      <a:pt x="1515" y="2794"/>
                    </a:lnTo>
                    <a:lnTo>
                      <a:pt x="1459" y="2827"/>
                    </a:lnTo>
                    <a:lnTo>
                      <a:pt x="1405" y="2849"/>
                    </a:lnTo>
                    <a:lnTo>
                      <a:pt x="1333" y="2856"/>
                    </a:lnTo>
                    <a:lnTo>
                      <a:pt x="1275" y="2849"/>
                    </a:lnTo>
                    <a:lnTo>
                      <a:pt x="1208" y="2823"/>
                    </a:lnTo>
                    <a:lnTo>
                      <a:pt x="1182" y="2806"/>
                    </a:lnTo>
                    <a:lnTo>
                      <a:pt x="1115" y="2738"/>
                    </a:lnTo>
                    <a:lnTo>
                      <a:pt x="1075" y="2652"/>
                    </a:lnTo>
                    <a:lnTo>
                      <a:pt x="1061" y="2607"/>
                    </a:lnTo>
                    <a:lnTo>
                      <a:pt x="1072" y="2564"/>
                    </a:lnTo>
                    <a:lnTo>
                      <a:pt x="1091" y="2549"/>
                    </a:lnTo>
                    <a:lnTo>
                      <a:pt x="1132" y="2552"/>
                    </a:lnTo>
                    <a:lnTo>
                      <a:pt x="1158" y="2571"/>
                    </a:lnTo>
                    <a:lnTo>
                      <a:pt x="1205" y="2564"/>
                    </a:lnTo>
                    <a:lnTo>
                      <a:pt x="1225" y="2574"/>
                    </a:lnTo>
                    <a:lnTo>
                      <a:pt x="1225" y="2602"/>
                    </a:lnTo>
                    <a:lnTo>
                      <a:pt x="1212" y="2627"/>
                    </a:lnTo>
                    <a:lnTo>
                      <a:pt x="1189" y="2638"/>
                    </a:lnTo>
                    <a:lnTo>
                      <a:pt x="1144" y="2627"/>
                    </a:lnTo>
                    <a:lnTo>
                      <a:pt x="1142" y="2624"/>
                    </a:lnTo>
                    <a:lnTo>
                      <a:pt x="1135" y="2624"/>
                    </a:lnTo>
                    <a:lnTo>
                      <a:pt x="1128" y="2631"/>
                    </a:lnTo>
                    <a:lnTo>
                      <a:pt x="1138" y="2674"/>
                    </a:lnTo>
                    <a:lnTo>
                      <a:pt x="1171" y="2731"/>
                    </a:lnTo>
                    <a:lnTo>
                      <a:pt x="1222" y="2773"/>
                    </a:lnTo>
                    <a:lnTo>
                      <a:pt x="1265" y="2791"/>
                    </a:lnTo>
                    <a:lnTo>
                      <a:pt x="1339" y="2799"/>
                    </a:lnTo>
                    <a:lnTo>
                      <a:pt x="1385" y="2789"/>
                    </a:lnTo>
                    <a:lnTo>
                      <a:pt x="1441" y="2763"/>
                    </a:lnTo>
                    <a:lnTo>
                      <a:pt x="1488" y="2724"/>
                    </a:lnTo>
                    <a:lnTo>
                      <a:pt x="1576" y="2607"/>
                    </a:lnTo>
                    <a:lnTo>
                      <a:pt x="1619" y="2528"/>
                    </a:lnTo>
                    <a:lnTo>
                      <a:pt x="1659" y="2428"/>
                    </a:lnTo>
                    <a:lnTo>
                      <a:pt x="1666" y="2389"/>
                    </a:lnTo>
                    <a:lnTo>
                      <a:pt x="1679" y="2353"/>
                    </a:lnTo>
                    <a:lnTo>
                      <a:pt x="1686" y="2322"/>
                    </a:lnTo>
                    <a:lnTo>
                      <a:pt x="1699" y="2257"/>
                    </a:lnTo>
                    <a:lnTo>
                      <a:pt x="1722" y="2121"/>
                    </a:lnTo>
                    <a:lnTo>
                      <a:pt x="1715" y="1979"/>
                    </a:lnTo>
                    <a:lnTo>
                      <a:pt x="1699" y="1814"/>
                    </a:lnTo>
                    <a:lnTo>
                      <a:pt x="1702" y="1730"/>
                    </a:lnTo>
                    <a:lnTo>
                      <a:pt x="1726" y="1694"/>
                    </a:lnTo>
                    <a:lnTo>
                      <a:pt x="1719" y="1675"/>
                    </a:lnTo>
                    <a:lnTo>
                      <a:pt x="1719" y="1658"/>
                    </a:lnTo>
                    <a:lnTo>
                      <a:pt x="1729" y="1647"/>
                    </a:lnTo>
                    <a:lnTo>
                      <a:pt x="1776" y="1651"/>
                    </a:lnTo>
                    <a:lnTo>
                      <a:pt x="1812" y="1658"/>
                    </a:lnTo>
                    <a:lnTo>
                      <a:pt x="1852" y="1655"/>
                    </a:lnTo>
                    <a:lnTo>
                      <a:pt x="1859" y="1647"/>
                    </a:lnTo>
                    <a:lnTo>
                      <a:pt x="1843" y="1629"/>
                    </a:lnTo>
                    <a:lnTo>
                      <a:pt x="1722" y="1576"/>
                    </a:lnTo>
                    <a:lnTo>
                      <a:pt x="1709" y="1591"/>
                    </a:lnTo>
                    <a:lnTo>
                      <a:pt x="1706" y="1598"/>
                    </a:lnTo>
                    <a:lnTo>
                      <a:pt x="1695" y="1608"/>
                    </a:lnTo>
                    <a:lnTo>
                      <a:pt x="1668" y="1605"/>
                    </a:lnTo>
                    <a:lnTo>
                      <a:pt x="1662" y="1594"/>
                    </a:lnTo>
                    <a:lnTo>
                      <a:pt x="1652" y="1541"/>
                    </a:lnTo>
                    <a:lnTo>
                      <a:pt x="1652" y="1443"/>
                    </a:lnTo>
                    <a:lnTo>
                      <a:pt x="1639" y="1387"/>
                    </a:lnTo>
                    <a:lnTo>
                      <a:pt x="1639" y="1287"/>
                    </a:lnTo>
                    <a:lnTo>
                      <a:pt x="1605" y="1220"/>
                    </a:lnTo>
                    <a:lnTo>
                      <a:pt x="1602" y="1131"/>
                    </a:lnTo>
                    <a:lnTo>
                      <a:pt x="1572" y="1088"/>
                    </a:lnTo>
                    <a:lnTo>
                      <a:pt x="1558" y="1042"/>
                    </a:lnTo>
                    <a:lnTo>
                      <a:pt x="1555" y="973"/>
                    </a:lnTo>
                    <a:lnTo>
                      <a:pt x="1529" y="927"/>
                    </a:lnTo>
                    <a:lnTo>
                      <a:pt x="1515" y="884"/>
                    </a:lnTo>
                    <a:lnTo>
                      <a:pt x="1515" y="856"/>
                    </a:lnTo>
                    <a:lnTo>
                      <a:pt x="1502" y="827"/>
                    </a:lnTo>
                    <a:lnTo>
                      <a:pt x="1512" y="786"/>
                    </a:lnTo>
                    <a:lnTo>
                      <a:pt x="1529" y="738"/>
                    </a:lnTo>
                    <a:lnTo>
                      <a:pt x="1535" y="657"/>
                    </a:lnTo>
                    <a:lnTo>
                      <a:pt x="1512" y="589"/>
                    </a:lnTo>
                    <a:lnTo>
                      <a:pt x="1405" y="424"/>
                    </a:lnTo>
                    <a:lnTo>
                      <a:pt x="1339" y="278"/>
                    </a:lnTo>
                    <a:lnTo>
                      <a:pt x="1308" y="197"/>
                    </a:lnTo>
                    <a:lnTo>
                      <a:pt x="1255" y="139"/>
                    </a:lnTo>
                    <a:lnTo>
                      <a:pt x="1218" y="132"/>
                    </a:lnTo>
                    <a:lnTo>
                      <a:pt x="1185" y="137"/>
                    </a:lnTo>
                    <a:lnTo>
                      <a:pt x="1169" y="147"/>
                    </a:lnTo>
                    <a:lnTo>
                      <a:pt x="1158" y="158"/>
                    </a:lnTo>
                    <a:lnTo>
                      <a:pt x="1155" y="182"/>
                    </a:lnTo>
                    <a:lnTo>
                      <a:pt x="1144" y="190"/>
                    </a:lnTo>
                    <a:lnTo>
                      <a:pt x="1124" y="187"/>
                    </a:lnTo>
                    <a:lnTo>
                      <a:pt x="1034" y="115"/>
                    </a:lnTo>
                    <a:lnTo>
                      <a:pt x="987" y="96"/>
                    </a:lnTo>
                    <a:lnTo>
                      <a:pt x="978" y="91"/>
                    </a:lnTo>
                    <a:lnTo>
                      <a:pt x="958" y="86"/>
                    </a:lnTo>
                    <a:lnTo>
                      <a:pt x="852" y="86"/>
                    </a:lnTo>
                    <a:lnTo>
                      <a:pt x="787" y="112"/>
                    </a:lnTo>
                    <a:lnTo>
                      <a:pt x="715" y="158"/>
                    </a:lnTo>
                    <a:lnTo>
                      <a:pt x="611" y="264"/>
                    </a:lnTo>
                    <a:lnTo>
                      <a:pt x="562" y="300"/>
                    </a:lnTo>
                    <a:lnTo>
                      <a:pt x="461" y="336"/>
                    </a:lnTo>
                    <a:lnTo>
                      <a:pt x="290" y="400"/>
                    </a:lnTo>
                    <a:lnTo>
                      <a:pt x="238" y="429"/>
                    </a:lnTo>
                    <a:lnTo>
                      <a:pt x="133" y="508"/>
                    </a:lnTo>
                    <a:lnTo>
                      <a:pt x="117" y="515"/>
                    </a:lnTo>
                    <a:lnTo>
                      <a:pt x="84" y="542"/>
                    </a:lnTo>
                    <a:lnTo>
                      <a:pt x="58" y="561"/>
                    </a:lnTo>
                    <a:lnTo>
                      <a:pt x="45" y="575"/>
                    </a:lnTo>
                    <a:lnTo>
                      <a:pt x="45" y="585"/>
                    </a:lnTo>
                    <a:lnTo>
                      <a:pt x="54" y="599"/>
                    </a:lnTo>
                    <a:lnTo>
                      <a:pt x="58" y="645"/>
                    </a:lnTo>
                    <a:lnTo>
                      <a:pt x="124" y="714"/>
                    </a:lnTo>
                    <a:lnTo>
                      <a:pt x="137" y="735"/>
                    </a:lnTo>
                    <a:lnTo>
                      <a:pt x="148" y="781"/>
                    </a:lnTo>
                    <a:lnTo>
                      <a:pt x="137" y="860"/>
                    </a:lnTo>
                    <a:lnTo>
                      <a:pt x="160" y="884"/>
                    </a:lnTo>
                    <a:lnTo>
                      <a:pt x="187" y="903"/>
                    </a:lnTo>
                    <a:lnTo>
                      <a:pt x="218" y="942"/>
                    </a:lnTo>
                    <a:lnTo>
                      <a:pt x="234" y="1002"/>
                    </a:lnTo>
                    <a:lnTo>
                      <a:pt x="247" y="1016"/>
                    </a:lnTo>
                    <a:lnTo>
                      <a:pt x="290" y="1028"/>
                    </a:lnTo>
                    <a:lnTo>
                      <a:pt x="328" y="1056"/>
                    </a:lnTo>
                    <a:lnTo>
                      <a:pt x="358" y="1098"/>
                    </a:lnTo>
                    <a:lnTo>
                      <a:pt x="367" y="1127"/>
                    </a:lnTo>
                    <a:lnTo>
                      <a:pt x="401" y="1152"/>
                    </a:lnTo>
                    <a:lnTo>
                      <a:pt x="401" y="1160"/>
                    </a:lnTo>
                    <a:lnTo>
                      <a:pt x="384" y="1170"/>
                    </a:lnTo>
                    <a:lnTo>
                      <a:pt x="348" y="1167"/>
                    </a:lnTo>
                    <a:lnTo>
                      <a:pt x="311" y="1127"/>
                    </a:lnTo>
                    <a:lnTo>
                      <a:pt x="297" y="1098"/>
                    </a:lnTo>
                    <a:lnTo>
                      <a:pt x="284" y="1088"/>
                    </a:lnTo>
                    <a:lnTo>
                      <a:pt x="241" y="1084"/>
                    </a:lnTo>
                    <a:lnTo>
                      <a:pt x="218" y="1074"/>
                    </a:lnTo>
                    <a:lnTo>
                      <a:pt x="187" y="1038"/>
                    </a:lnTo>
                    <a:lnTo>
                      <a:pt x="167" y="992"/>
                    </a:lnTo>
                    <a:lnTo>
                      <a:pt x="160" y="949"/>
                    </a:lnTo>
                    <a:lnTo>
                      <a:pt x="110" y="910"/>
                    </a:lnTo>
                    <a:lnTo>
                      <a:pt x="81" y="856"/>
                    </a:lnTo>
                    <a:lnTo>
                      <a:pt x="81" y="796"/>
                    </a:lnTo>
                    <a:lnTo>
                      <a:pt x="88" y="764"/>
                    </a:lnTo>
                    <a:lnTo>
                      <a:pt x="81" y="731"/>
                    </a:lnTo>
                    <a:lnTo>
                      <a:pt x="31" y="681"/>
                    </a:lnTo>
                    <a:lnTo>
                      <a:pt x="4" y="642"/>
                    </a:lnTo>
                    <a:lnTo>
                      <a:pt x="0" y="596"/>
                    </a:lnTo>
                    <a:lnTo>
                      <a:pt x="0" y="571"/>
                    </a:lnTo>
                    <a:lnTo>
                      <a:pt x="18" y="535"/>
                    </a:lnTo>
                    <a:lnTo>
                      <a:pt x="71" y="482"/>
                    </a:lnTo>
                    <a:lnTo>
                      <a:pt x="198" y="383"/>
                    </a:lnTo>
                    <a:lnTo>
                      <a:pt x="247" y="357"/>
                    </a:lnTo>
                    <a:lnTo>
                      <a:pt x="265" y="353"/>
                    </a:lnTo>
                    <a:lnTo>
                      <a:pt x="274" y="343"/>
                    </a:lnTo>
                    <a:lnTo>
                      <a:pt x="304" y="333"/>
                    </a:lnTo>
                    <a:lnTo>
                      <a:pt x="348" y="300"/>
                    </a:lnTo>
                    <a:lnTo>
                      <a:pt x="364" y="297"/>
                    </a:lnTo>
                    <a:lnTo>
                      <a:pt x="375" y="286"/>
                    </a:lnTo>
                    <a:lnTo>
                      <a:pt x="398" y="278"/>
                    </a:lnTo>
                    <a:lnTo>
                      <a:pt x="411" y="264"/>
                    </a:lnTo>
                    <a:lnTo>
                      <a:pt x="474" y="247"/>
                    </a:lnTo>
                    <a:lnTo>
                      <a:pt x="544" y="211"/>
                    </a:lnTo>
                    <a:lnTo>
                      <a:pt x="614" y="147"/>
                    </a:lnTo>
                    <a:lnTo>
                      <a:pt x="668" y="91"/>
                    </a:lnTo>
                    <a:lnTo>
                      <a:pt x="758" y="33"/>
                    </a:lnTo>
                    <a:lnTo>
                      <a:pt x="825" y="12"/>
                    </a:lnTo>
                    <a:lnTo>
                      <a:pt x="888" y="0"/>
                    </a:lnTo>
                    <a:lnTo>
                      <a:pt x="944" y="5"/>
                    </a:lnTo>
                    <a:lnTo>
                      <a:pt x="1018" y="29"/>
                    </a:lnTo>
                    <a:lnTo>
                      <a:pt x="1018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46000" y="1757520"/>
                <a:ext cx="1425600" cy="1560240"/>
              </a:xfrm>
              <a:custGeom>
                <a:avLst/>
                <a:gdLst/>
                <a:ahLst/>
                <a:rect l="l" t="t" r="r" b="b"/>
                <a:pathLst>
                  <a:path w="1797" h="2947">
                    <a:moveTo>
                      <a:pt x="1797" y="7"/>
                    </a:moveTo>
                    <a:lnTo>
                      <a:pt x="1750" y="40"/>
                    </a:lnTo>
                    <a:lnTo>
                      <a:pt x="1570" y="79"/>
                    </a:lnTo>
                    <a:lnTo>
                      <a:pt x="1471" y="115"/>
                    </a:lnTo>
                    <a:lnTo>
                      <a:pt x="1318" y="155"/>
                    </a:lnTo>
                    <a:lnTo>
                      <a:pt x="1181" y="179"/>
                    </a:lnTo>
                    <a:lnTo>
                      <a:pt x="1143" y="189"/>
                    </a:lnTo>
                    <a:lnTo>
                      <a:pt x="1094" y="196"/>
                    </a:lnTo>
                    <a:lnTo>
                      <a:pt x="1053" y="211"/>
                    </a:lnTo>
                    <a:lnTo>
                      <a:pt x="1013" y="218"/>
                    </a:lnTo>
                    <a:lnTo>
                      <a:pt x="876" y="275"/>
                    </a:lnTo>
                    <a:lnTo>
                      <a:pt x="770" y="335"/>
                    </a:lnTo>
                    <a:lnTo>
                      <a:pt x="676" y="393"/>
                    </a:lnTo>
                    <a:lnTo>
                      <a:pt x="617" y="424"/>
                    </a:lnTo>
                    <a:lnTo>
                      <a:pt x="536" y="453"/>
                    </a:lnTo>
                    <a:lnTo>
                      <a:pt x="450" y="503"/>
                    </a:lnTo>
                    <a:lnTo>
                      <a:pt x="320" y="639"/>
                    </a:lnTo>
                    <a:lnTo>
                      <a:pt x="253" y="735"/>
                    </a:lnTo>
                    <a:lnTo>
                      <a:pt x="176" y="898"/>
                    </a:lnTo>
                    <a:lnTo>
                      <a:pt x="127" y="1042"/>
                    </a:lnTo>
                    <a:lnTo>
                      <a:pt x="119" y="1080"/>
                    </a:lnTo>
                    <a:lnTo>
                      <a:pt x="86" y="1195"/>
                    </a:lnTo>
                    <a:lnTo>
                      <a:pt x="86" y="1337"/>
                    </a:lnTo>
                    <a:lnTo>
                      <a:pt x="93" y="1401"/>
                    </a:lnTo>
                    <a:lnTo>
                      <a:pt x="113" y="1529"/>
                    </a:lnTo>
                    <a:lnTo>
                      <a:pt x="133" y="1586"/>
                    </a:lnTo>
                    <a:lnTo>
                      <a:pt x="147" y="1669"/>
                    </a:lnTo>
                    <a:lnTo>
                      <a:pt x="152" y="1684"/>
                    </a:lnTo>
                    <a:lnTo>
                      <a:pt x="152" y="1811"/>
                    </a:lnTo>
                    <a:lnTo>
                      <a:pt x="170" y="1911"/>
                    </a:lnTo>
                    <a:lnTo>
                      <a:pt x="210" y="2032"/>
                    </a:lnTo>
                    <a:lnTo>
                      <a:pt x="243" y="2121"/>
                    </a:lnTo>
                    <a:lnTo>
                      <a:pt x="243" y="2228"/>
                    </a:lnTo>
                    <a:lnTo>
                      <a:pt x="235" y="2252"/>
                    </a:lnTo>
                    <a:lnTo>
                      <a:pt x="239" y="2442"/>
                    </a:lnTo>
                    <a:lnTo>
                      <a:pt x="253" y="2530"/>
                    </a:lnTo>
                    <a:lnTo>
                      <a:pt x="262" y="2588"/>
                    </a:lnTo>
                    <a:lnTo>
                      <a:pt x="260" y="2641"/>
                    </a:lnTo>
                    <a:lnTo>
                      <a:pt x="219" y="2688"/>
                    </a:lnTo>
                    <a:lnTo>
                      <a:pt x="206" y="2738"/>
                    </a:lnTo>
                    <a:lnTo>
                      <a:pt x="176" y="2787"/>
                    </a:lnTo>
                    <a:lnTo>
                      <a:pt x="170" y="2877"/>
                    </a:lnTo>
                    <a:lnTo>
                      <a:pt x="170" y="2880"/>
                    </a:lnTo>
                    <a:lnTo>
                      <a:pt x="190" y="2894"/>
                    </a:lnTo>
                    <a:lnTo>
                      <a:pt x="235" y="2887"/>
                    </a:lnTo>
                    <a:lnTo>
                      <a:pt x="243" y="2880"/>
                    </a:lnTo>
                    <a:lnTo>
                      <a:pt x="243" y="2841"/>
                    </a:lnTo>
                    <a:lnTo>
                      <a:pt x="256" y="2820"/>
                    </a:lnTo>
                    <a:lnTo>
                      <a:pt x="286" y="2795"/>
                    </a:lnTo>
                    <a:lnTo>
                      <a:pt x="316" y="2798"/>
                    </a:lnTo>
                    <a:lnTo>
                      <a:pt x="327" y="2813"/>
                    </a:lnTo>
                    <a:lnTo>
                      <a:pt x="327" y="2820"/>
                    </a:lnTo>
                    <a:lnTo>
                      <a:pt x="320" y="2827"/>
                    </a:lnTo>
                    <a:lnTo>
                      <a:pt x="300" y="2830"/>
                    </a:lnTo>
                    <a:lnTo>
                      <a:pt x="276" y="2851"/>
                    </a:lnTo>
                    <a:lnTo>
                      <a:pt x="266" y="2863"/>
                    </a:lnTo>
                    <a:lnTo>
                      <a:pt x="266" y="2873"/>
                    </a:lnTo>
                    <a:lnTo>
                      <a:pt x="286" y="2887"/>
                    </a:lnTo>
                    <a:lnTo>
                      <a:pt x="423" y="2891"/>
                    </a:lnTo>
                    <a:lnTo>
                      <a:pt x="466" y="2901"/>
                    </a:lnTo>
                    <a:lnTo>
                      <a:pt x="513" y="2894"/>
                    </a:lnTo>
                    <a:lnTo>
                      <a:pt x="554" y="2891"/>
                    </a:lnTo>
                    <a:lnTo>
                      <a:pt x="554" y="2848"/>
                    </a:lnTo>
                    <a:lnTo>
                      <a:pt x="523" y="2727"/>
                    </a:lnTo>
                    <a:lnTo>
                      <a:pt x="487" y="2649"/>
                    </a:lnTo>
                    <a:lnTo>
                      <a:pt x="476" y="2606"/>
                    </a:lnTo>
                    <a:lnTo>
                      <a:pt x="473" y="2580"/>
                    </a:lnTo>
                    <a:lnTo>
                      <a:pt x="464" y="2506"/>
                    </a:lnTo>
                    <a:lnTo>
                      <a:pt x="456" y="2357"/>
                    </a:lnTo>
                    <a:lnTo>
                      <a:pt x="466" y="2295"/>
                    </a:lnTo>
                    <a:lnTo>
                      <a:pt x="470" y="2260"/>
                    </a:lnTo>
                    <a:lnTo>
                      <a:pt x="483" y="2221"/>
                    </a:lnTo>
                    <a:lnTo>
                      <a:pt x="483" y="2214"/>
                    </a:lnTo>
                    <a:lnTo>
                      <a:pt x="476" y="2207"/>
                    </a:lnTo>
                    <a:lnTo>
                      <a:pt x="433" y="2207"/>
                    </a:lnTo>
                    <a:lnTo>
                      <a:pt x="423" y="2192"/>
                    </a:lnTo>
                    <a:lnTo>
                      <a:pt x="426" y="2178"/>
                    </a:lnTo>
                    <a:lnTo>
                      <a:pt x="500" y="2089"/>
                    </a:lnTo>
                    <a:lnTo>
                      <a:pt x="520" y="2039"/>
                    </a:lnTo>
                    <a:lnTo>
                      <a:pt x="530" y="2003"/>
                    </a:lnTo>
                    <a:lnTo>
                      <a:pt x="536" y="1989"/>
                    </a:lnTo>
                    <a:lnTo>
                      <a:pt x="539" y="1954"/>
                    </a:lnTo>
                    <a:lnTo>
                      <a:pt x="554" y="1897"/>
                    </a:lnTo>
                    <a:lnTo>
                      <a:pt x="566" y="1830"/>
                    </a:lnTo>
                    <a:lnTo>
                      <a:pt x="577" y="1800"/>
                    </a:lnTo>
                    <a:lnTo>
                      <a:pt x="503" y="1696"/>
                    </a:lnTo>
                    <a:lnTo>
                      <a:pt x="480" y="1653"/>
                    </a:lnTo>
                    <a:lnTo>
                      <a:pt x="456" y="1619"/>
                    </a:lnTo>
                    <a:lnTo>
                      <a:pt x="450" y="1586"/>
                    </a:lnTo>
                    <a:lnTo>
                      <a:pt x="453" y="1565"/>
                    </a:lnTo>
                    <a:lnTo>
                      <a:pt x="460" y="1557"/>
                    </a:lnTo>
                    <a:lnTo>
                      <a:pt x="483" y="1562"/>
                    </a:lnTo>
                    <a:lnTo>
                      <a:pt x="590" y="1711"/>
                    </a:lnTo>
                    <a:lnTo>
                      <a:pt x="693" y="1794"/>
                    </a:lnTo>
                    <a:lnTo>
                      <a:pt x="810" y="1847"/>
                    </a:lnTo>
                    <a:lnTo>
                      <a:pt x="920" y="1868"/>
                    </a:lnTo>
                    <a:lnTo>
                      <a:pt x="977" y="1871"/>
                    </a:lnTo>
                    <a:lnTo>
                      <a:pt x="1120" y="1890"/>
                    </a:lnTo>
                    <a:lnTo>
                      <a:pt x="1217" y="1871"/>
                    </a:lnTo>
                    <a:lnTo>
                      <a:pt x="1231" y="1878"/>
                    </a:lnTo>
                    <a:lnTo>
                      <a:pt x="1240" y="1878"/>
                    </a:lnTo>
                    <a:lnTo>
                      <a:pt x="1247" y="1871"/>
                    </a:lnTo>
                    <a:lnTo>
                      <a:pt x="1253" y="1821"/>
                    </a:lnTo>
                    <a:lnTo>
                      <a:pt x="1260" y="1814"/>
                    </a:lnTo>
                    <a:lnTo>
                      <a:pt x="1284" y="1818"/>
                    </a:lnTo>
                    <a:lnTo>
                      <a:pt x="1298" y="1835"/>
                    </a:lnTo>
                    <a:lnTo>
                      <a:pt x="1307" y="1883"/>
                    </a:lnTo>
                    <a:lnTo>
                      <a:pt x="1307" y="2046"/>
                    </a:lnTo>
                    <a:lnTo>
                      <a:pt x="1318" y="2171"/>
                    </a:lnTo>
                    <a:lnTo>
                      <a:pt x="1323" y="2185"/>
                    </a:lnTo>
                    <a:lnTo>
                      <a:pt x="1330" y="2257"/>
                    </a:lnTo>
                    <a:lnTo>
                      <a:pt x="1347" y="2314"/>
                    </a:lnTo>
                    <a:lnTo>
                      <a:pt x="1361" y="2403"/>
                    </a:lnTo>
                    <a:lnTo>
                      <a:pt x="1361" y="2460"/>
                    </a:lnTo>
                    <a:lnTo>
                      <a:pt x="1350" y="2492"/>
                    </a:lnTo>
                    <a:lnTo>
                      <a:pt x="1350" y="2641"/>
                    </a:lnTo>
                    <a:lnTo>
                      <a:pt x="1341" y="2652"/>
                    </a:lnTo>
                    <a:lnTo>
                      <a:pt x="1300" y="2649"/>
                    </a:lnTo>
                    <a:lnTo>
                      <a:pt x="1291" y="2635"/>
                    </a:lnTo>
                    <a:lnTo>
                      <a:pt x="1284" y="2602"/>
                    </a:lnTo>
                    <a:lnTo>
                      <a:pt x="1271" y="2549"/>
                    </a:lnTo>
                    <a:lnTo>
                      <a:pt x="1276" y="2424"/>
                    </a:lnTo>
                    <a:lnTo>
                      <a:pt x="1287" y="2396"/>
                    </a:lnTo>
                    <a:lnTo>
                      <a:pt x="1284" y="2343"/>
                    </a:lnTo>
                    <a:lnTo>
                      <a:pt x="1274" y="2295"/>
                    </a:lnTo>
                    <a:lnTo>
                      <a:pt x="1251" y="2164"/>
                    </a:lnTo>
                    <a:lnTo>
                      <a:pt x="1240" y="2036"/>
                    </a:lnTo>
                    <a:lnTo>
                      <a:pt x="1244" y="2000"/>
                    </a:lnTo>
                    <a:lnTo>
                      <a:pt x="1244" y="1989"/>
                    </a:lnTo>
                    <a:lnTo>
                      <a:pt x="1233" y="1979"/>
                    </a:lnTo>
                    <a:lnTo>
                      <a:pt x="1208" y="1989"/>
                    </a:lnTo>
                    <a:lnTo>
                      <a:pt x="997" y="1979"/>
                    </a:lnTo>
                    <a:lnTo>
                      <a:pt x="900" y="1967"/>
                    </a:lnTo>
                    <a:lnTo>
                      <a:pt x="840" y="1954"/>
                    </a:lnTo>
                    <a:lnTo>
                      <a:pt x="716" y="1900"/>
                    </a:lnTo>
                    <a:lnTo>
                      <a:pt x="637" y="1847"/>
                    </a:lnTo>
                    <a:lnTo>
                      <a:pt x="633" y="1843"/>
                    </a:lnTo>
                    <a:lnTo>
                      <a:pt x="619" y="1864"/>
                    </a:lnTo>
                    <a:lnTo>
                      <a:pt x="613" y="1954"/>
                    </a:lnTo>
                    <a:lnTo>
                      <a:pt x="583" y="2075"/>
                    </a:lnTo>
                    <a:lnTo>
                      <a:pt x="560" y="2135"/>
                    </a:lnTo>
                    <a:lnTo>
                      <a:pt x="523" y="2178"/>
                    </a:lnTo>
                    <a:lnTo>
                      <a:pt x="550" y="2221"/>
                    </a:lnTo>
                    <a:lnTo>
                      <a:pt x="543" y="2257"/>
                    </a:lnTo>
                    <a:lnTo>
                      <a:pt x="536" y="2268"/>
                    </a:lnTo>
                    <a:lnTo>
                      <a:pt x="534" y="2317"/>
                    </a:lnTo>
                    <a:lnTo>
                      <a:pt x="523" y="2446"/>
                    </a:lnTo>
                    <a:lnTo>
                      <a:pt x="534" y="2570"/>
                    </a:lnTo>
                    <a:lnTo>
                      <a:pt x="543" y="2599"/>
                    </a:lnTo>
                    <a:lnTo>
                      <a:pt x="550" y="2649"/>
                    </a:lnTo>
                    <a:lnTo>
                      <a:pt x="583" y="2712"/>
                    </a:lnTo>
                    <a:lnTo>
                      <a:pt x="606" y="2791"/>
                    </a:lnTo>
                    <a:lnTo>
                      <a:pt x="613" y="2823"/>
                    </a:lnTo>
                    <a:lnTo>
                      <a:pt x="610" y="2887"/>
                    </a:lnTo>
                    <a:lnTo>
                      <a:pt x="597" y="2901"/>
                    </a:lnTo>
                    <a:lnTo>
                      <a:pt x="560" y="2906"/>
                    </a:lnTo>
                    <a:lnTo>
                      <a:pt x="554" y="2911"/>
                    </a:lnTo>
                    <a:lnTo>
                      <a:pt x="554" y="2923"/>
                    </a:lnTo>
                    <a:lnTo>
                      <a:pt x="520" y="2947"/>
                    </a:lnTo>
                    <a:lnTo>
                      <a:pt x="433" y="2944"/>
                    </a:lnTo>
                    <a:lnTo>
                      <a:pt x="397" y="2930"/>
                    </a:lnTo>
                    <a:lnTo>
                      <a:pt x="269" y="2926"/>
                    </a:lnTo>
                    <a:lnTo>
                      <a:pt x="190" y="2923"/>
                    </a:lnTo>
                    <a:lnTo>
                      <a:pt x="172" y="2911"/>
                    </a:lnTo>
                    <a:lnTo>
                      <a:pt x="133" y="2911"/>
                    </a:lnTo>
                    <a:lnTo>
                      <a:pt x="116" y="2901"/>
                    </a:lnTo>
                    <a:lnTo>
                      <a:pt x="100" y="2877"/>
                    </a:lnTo>
                    <a:lnTo>
                      <a:pt x="102" y="2805"/>
                    </a:lnTo>
                    <a:lnTo>
                      <a:pt x="113" y="2760"/>
                    </a:lnTo>
                    <a:lnTo>
                      <a:pt x="136" y="2712"/>
                    </a:lnTo>
                    <a:lnTo>
                      <a:pt x="156" y="2688"/>
                    </a:lnTo>
                    <a:lnTo>
                      <a:pt x="179" y="2616"/>
                    </a:lnTo>
                    <a:lnTo>
                      <a:pt x="172" y="2556"/>
                    </a:lnTo>
                    <a:lnTo>
                      <a:pt x="159" y="2499"/>
                    </a:lnTo>
                    <a:lnTo>
                      <a:pt x="147" y="2353"/>
                    </a:lnTo>
                    <a:lnTo>
                      <a:pt x="147" y="2207"/>
                    </a:lnTo>
                    <a:lnTo>
                      <a:pt x="143" y="2089"/>
                    </a:lnTo>
                    <a:lnTo>
                      <a:pt x="106" y="1996"/>
                    </a:lnTo>
                    <a:lnTo>
                      <a:pt x="86" y="1921"/>
                    </a:lnTo>
                    <a:lnTo>
                      <a:pt x="73" y="1871"/>
                    </a:lnTo>
                    <a:lnTo>
                      <a:pt x="59" y="1711"/>
                    </a:lnTo>
                    <a:lnTo>
                      <a:pt x="59" y="1629"/>
                    </a:lnTo>
                    <a:lnTo>
                      <a:pt x="49" y="1612"/>
                    </a:lnTo>
                    <a:lnTo>
                      <a:pt x="43" y="1562"/>
                    </a:lnTo>
                    <a:lnTo>
                      <a:pt x="19" y="1473"/>
                    </a:lnTo>
                    <a:lnTo>
                      <a:pt x="12" y="1426"/>
                    </a:lnTo>
                    <a:lnTo>
                      <a:pt x="0" y="1302"/>
                    </a:lnTo>
                    <a:lnTo>
                      <a:pt x="0" y="1173"/>
                    </a:lnTo>
                    <a:lnTo>
                      <a:pt x="33" y="1055"/>
                    </a:lnTo>
                    <a:lnTo>
                      <a:pt x="102" y="848"/>
                    </a:lnTo>
                    <a:lnTo>
                      <a:pt x="147" y="759"/>
                    </a:lnTo>
                    <a:lnTo>
                      <a:pt x="183" y="688"/>
                    </a:lnTo>
                    <a:lnTo>
                      <a:pt x="219" y="628"/>
                    </a:lnTo>
                    <a:lnTo>
                      <a:pt x="316" y="510"/>
                    </a:lnTo>
                    <a:lnTo>
                      <a:pt x="390" y="443"/>
                    </a:lnTo>
                    <a:lnTo>
                      <a:pt x="476" y="385"/>
                    </a:lnTo>
                    <a:lnTo>
                      <a:pt x="613" y="332"/>
                    </a:lnTo>
                    <a:lnTo>
                      <a:pt x="817" y="218"/>
                    </a:lnTo>
                    <a:lnTo>
                      <a:pt x="974" y="158"/>
                    </a:lnTo>
                    <a:lnTo>
                      <a:pt x="1123" y="129"/>
                    </a:lnTo>
                    <a:lnTo>
                      <a:pt x="1224" y="115"/>
                    </a:lnTo>
                    <a:lnTo>
                      <a:pt x="1370" y="89"/>
                    </a:lnTo>
                    <a:lnTo>
                      <a:pt x="1534" y="36"/>
                    </a:lnTo>
                    <a:lnTo>
                      <a:pt x="1601" y="14"/>
                    </a:lnTo>
                    <a:lnTo>
                      <a:pt x="1698" y="0"/>
                    </a:lnTo>
                    <a:lnTo>
                      <a:pt x="1795" y="4"/>
                    </a:lnTo>
                    <a:lnTo>
                      <a:pt x="1797" y="7"/>
                    </a:lnTo>
                    <a:lnTo>
                      <a:pt x="179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184480" y="1849320"/>
                <a:ext cx="363600" cy="52560"/>
              </a:xfrm>
              <a:custGeom>
                <a:avLst/>
                <a:gdLst/>
                <a:ahLst/>
                <a:rect l="l" t="t" r="r" b="b"/>
                <a:pathLst>
                  <a:path w="458" h="99">
                    <a:moveTo>
                      <a:pt x="335" y="10"/>
                    </a:moveTo>
                    <a:lnTo>
                      <a:pt x="364" y="7"/>
                    </a:lnTo>
                    <a:lnTo>
                      <a:pt x="441" y="7"/>
                    </a:lnTo>
                    <a:lnTo>
                      <a:pt x="458" y="29"/>
                    </a:lnTo>
                    <a:lnTo>
                      <a:pt x="454" y="57"/>
                    </a:lnTo>
                    <a:lnTo>
                      <a:pt x="431" y="72"/>
                    </a:lnTo>
                    <a:lnTo>
                      <a:pt x="368" y="63"/>
                    </a:lnTo>
                    <a:lnTo>
                      <a:pt x="330" y="46"/>
                    </a:lnTo>
                    <a:lnTo>
                      <a:pt x="277" y="31"/>
                    </a:lnTo>
                    <a:lnTo>
                      <a:pt x="187" y="36"/>
                    </a:lnTo>
                    <a:lnTo>
                      <a:pt x="117" y="53"/>
                    </a:lnTo>
                    <a:lnTo>
                      <a:pt x="27" y="99"/>
                    </a:lnTo>
                    <a:lnTo>
                      <a:pt x="7" y="99"/>
                    </a:lnTo>
                    <a:lnTo>
                      <a:pt x="0" y="92"/>
                    </a:lnTo>
                    <a:lnTo>
                      <a:pt x="20" y="72"/>
                    </a:lnTo>
                    <a:lnTo>
                      <a:pt x="128" y="14"/>
                    </a:lnTo>
                    <a:lnTo>
                      <a:pt x="198" y="0"/>
                    </a:lnTo>
                    <a:lnTo>
                      <a:pt x="321" y="3"/>
                    </a:lnTo>
                    <a:lnTo>
                      <a:pt x="335" y="10"/>
                    </a:lnTo>
                    <a:lnTo>
                      <a:pt x="33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849400" y="194940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87" y="10"/>
                    </a:moveTo>
                    <a:lnTo>
                      <a:pt x="63" y="24"/>
                    </a:lnTo>
                    <a:lnTo>
                      <a:pt x="36" y="29"/>
                    </a:lnTo>
                    <a:lnTo>
                      <a:pt x="27" y="36"/>
                    </a:lnTo>
                    <a:lnTo>
                      <a:pt x="7" y="36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16" y="3"/>
                    </a:lnTo>
                    <a:lnTo>
                      <a:pt x="30" y="0"/>
                    </a:lnTo>
                    <a:lnTo>
                      <a:pt x="79" y="3"/>
                    </a:lnTo>
                    <a:lnTo>
                      <a:pt x="87" y="10"/>
                    </a:lnTo>
                    <a:lnTo>
                      <a:pt x="8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478240" y="1962000"/>
                <a:ext cx="77760" cy="271440"/>
              </a:xfrm>
              <a:custGeom>
                <a:avLst/>
                <a:gdLst/>
                <a:ahLst/>
                <a:rect l="l" t="t" r="r" b="b"/>
                <a:pathLst>
                  <a:path w="96" h="513">
                    <a:moveTo>
                      <a:pt x="96" y="15"/>
                    </a:moveTo>
                    <a:lnTo>
                      <a:pt x="92" y="39"/>
                    </a:lnTo>
                    <a:lnTo>
                      <a:pt x="67" y="89"/>
                    </a:lnTo>
                    <a:lnTo>
                      <a:pt x="49" y="154"/>
                    </a:lnTo>
                    <a:lnTo>
                      <a:pt x="43" y="168"/>
                    </a:lnTo>
                    <a:lnTo>
                      <a:pt x="60" y="303"/>
                    </a:lnTo>
                    <a:lnTo>
                      <a:pt x="70" y="343"/>
                    </a:lnTo>
                    <a:lnTo>
                      <a:pt x="70" y="496"/>
                    </a:lnTo>
                    <a:lnTo>
                      <a:pt x="63" y="511"/>
                    </a:lnTo>
                    <a:lnTo>
                      <a:pt x="60" y="513"/>
                    </a:lnTo>
                    <a:lnTo>
                      <a:pt x="53" y="506"/>
                    </a:lnTo>
                    <a:lnTo>
                      <a:pt x="53" y="425"/>
                    </a:lnTo>
                    <a:lnTo>
                      <a:pt x="33" y="333"/>
                    </a:lnTo>
                    <a:lnTo>
                      <a:pt x="20" y="293"/>
                    </a:lnTo>
                    <a:lnTo>
                      <a:pt x="16" y="264"/>
                    </a:lnTo>
                    <a:lnTo>
                      <a:pt x="6" y="235"/>
                    </a:lnTo>
                    <a:lnTo>
                      <a:pt x="0" y="161"/>
                    </a:lnTo>
                    <a:lnTo>
                      <a:pt x="13" y="96"/>
                    </a:lnTo>
                    <a:lnTo>
                      <a:pt x="36" y="39"/>
                    </a:lnTo>
                    <a:lnTo>
                      <a:pt x="67" y="0"/>
                    </a:lnTo>
                    <a:lnTo>
                      <a:pt x="90" y="5"/>
                    </a:lnTo>
                    <a:lnTo>
                      <a:pt x="96" y="15"/>
                    </a:lnTo>
                    <a:lnTo>
                      <a:pt x="9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844720" y="2025720"/>
                <a:ext cx="92160" cy="39600"/>
              </a:xfrm>
              <a:custGeom>
                <a:avLst/>
                <a:gdLst/>
                <a:ahLst/>
                <a:rect l="l" t="t" r="r" b="b"/>
                <a:pathLst>
                  <a:path w="117" h="76">
                    <a:moveTo>
                      <a:pt x="117" y="33"/>
                    </a:moveTo>
                    <a:lnTo>
                      <a:pt x="117" y="64"/>
                    </a:lnTo>
                    <a:lnTo>
                      <a:pt x="104" y="76"/>
                    </a:lnTo>
                    <a:lnTo>
                      <a:pt x="23" y="69"/>
                    </a:lnTo>
                    <a:lnTo>
                      <a:pt x="0" y="43"/>
                    </a:lnTo>
                    <a:lnTo>
                      <a:pt x="3" y="8"/>
                    </a:lnTo>
                    <a:lnTo>
                      <a:pt x="23" y="0"/>
                    </a:lnTo>
                    <a:lnTo>
                      <a:pt x="97" y="8"/>
                    </a:lnTo>
                    <a:lnTo>
                      <a:pt x="117" y="33"/>
                    </a:lnTo>
                    <a:lnTo>
                      <a:pt x="117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960640" y="2052720"/>
                <a:ext cx="47520" cy="42840"/>
              </a:xfrm>
              <a:custGeom>
                <a:avLst/>
                <a:gdLst/>
                <a:ahLst/>
                <a:rect l="l" t="t" r="r" b="b"/>
                <a:pathLst>
                  <a:path w="60" h="82">
                    <a:moveTo>
                      <a:pt x="60" y="6"/>
                    </a:moveTo>
                    <a:lnTo>
                      <a:pt x="56" y="32"/>
                    </a:lnTo>
                    <a:lnTo>
                      <a:pt x="33" y="68"/>
                    </a:lnTo>
                    <a:lnTo>
                      <a:pt x="17" y="82"/>
                    </a:lnTo>
                    <a:lnTo>
                      <a:pt x="6" y="82"/>
                    </a:lnTo>
                    <a:lnTo>
                      <a:pt x="0" y="71"/>
                    </a:lnTo>
                    <a:lnTo>
                      <a:pt x="31" y="13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90720" y="2054160"/>
                <a:ext cx="117720" cy="81000"/>
              </a:xfrm>
              <a:custGeom>
                <a:avLst/>
                <a:gdLst/>
                <a:ahLst/>
                <a:rect l="l" t="t" r="r" b="b"/>
                <a:pathLst>
                  <a:path w="148" h="154">
                    <a:moveTo>
                      <a:pt x="50" y="36"/>
                    </a:moveTo>
                    <a:lnTo>
                      <a:pt x="61" y="60"/>
                    </a:lnTo>
                    <a:lnTo>
                      <a:pt x="104" y="103"/>
                    </a:lnTo>
                    <a:lnTo>
                      <a:pt x="137" y="113"/>
                    </a:lnTo>
                    <a:lnTo>
                      <a:pt x="148" y="125"/>
                    </a:lnTo>
                    <a:lnTo>
                      <a:pt x="148" y="135"/>
                    </a:lnTo>
                    <a:lnTo>
                      <a:pt x="128" y="154"/>
                    </a:lnTo>
                    <a:lnTo>
                      <a:pt x="77" y="154"/>
                    </a:lnTo>
                    <a:lnTo>
                      <a:pt x="54" y="139"/>
                    </a:lnTo>
                    <a:lnTo>
                      <a:pt x="24" y="96"/>
                    </a:lnTo>
                    <a:lnTo>
                      <a:pt x="0" y="39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27" y="3"/>
                    </a:lnTo>
                    <a:lnTo>
                      <a:pt x="50" y="36"/>
                    </a:lnTo>
                    <a:lnTo>
                      <a:pt x="5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024360" y="2122560"/>
                <a:ext cx="122040" cy="42840"/>
              </a:xfrm>
              <a:custGeom>
                <a:avLst/>
                <a:gdLst/>
                <a:ahLst/>
                <a:rect l="l" t="t" r="r" b="b"/>
                <a:pathLst>
                  <a:path w="153" h="83">
                    <a:moveTo>
                      <a:pt x="153" y="7"/>
                    </a:moveTo>
                    <a:lnTo>
                      <a:pt x="137" y="26"/>
                    </a:lnTo>
                    <a:lnTo>
                      <a:pt x="47" y="57"/>
                    </a:lnTo>
                    <a:lnTo>
                      <a:pt x="16" y="83"/>
                    </a:lnTo>
                    <a:lnTo>
                      <a:pt x="10" y="83"/>
                    </a:lnTo>
                    <a:lnTo>
                      <a:pt x="0" y="69"/>
                    </a:lnTo>
                    <a:lnTo>
                      <a:pt x="0" y="57"/>
                    </a:lnTo>
                    <a:lnTo>
                      <a:pt x="34" y="30"/>
                    </a:lnTo>
                    <a:lnTo>
                      <a:pt x="124" y="0"/>
                    </a:lnTo>
                    <a:lnTo>
                      <a:pt x="147" y="0"/>
                    </a:lnTo>
                    <a:lnTo>
                      <a:pt x="153" y="7"/>
                    </a:lnTo>
                    <a:lnTo>
                      <a:pt x="15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068640" y="2185920"/>
                <a:ext cx="82440" cy="28800"/>
              </a:xfrm>
              <a:custGeom>
                <a:avLst/>
                <a:gdLst/>
                <a:ahLst/>
                <a:rect l="l" t="t" r="r" b="b"/>
                <a:pathLst>
                  <a:path w="103" h="53">
                    <a:moveTo>
                      <a:pt x="103" y="14"/>
                    </a:moveTo>
                    <a:lnTo>
                      <a:pt x="17" y="53"/>
                    </a:lnTo>
                    <a:lnTo>
                      <a:pt x="6" y="50"/>
                    </a:lnTo>
                    <a:lnTo>
                      <a:pt x="0" y="38"/>
                    </a:lnTo>
                    <a:lnTo>
                      <a:pt x="0" y="28"/>
                    </a:lnTo>
                    <a:lnTo>
                      <a:pt x="29" y="10"/>
                    </a:lnTo>
                    <a:lnTo>
                      <a:pt x="70" y="0"/>
                    </a:lnTo>
                    <a:lnTo>
                      <a:pt x="103" y="4"/>
                    </a:lnTo>
                    <a:lnTo>
                      <a:pt x="103" y="14"/>
                    </a:lnTo>
                    <a:lnTo>
                      <a:pt x="10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774880" y="2203560"/>
                <a:ext cx="66600" cy="122040"/>
              </a:xfrm>
              <a:custGeom>
                <a:avLst/>
                <a:gdLst/>
                <a:ahLst/>
                <a:rect l="l" t="t" r="r" b="b"/>
                <a:pathLst>
                  <a:path w="83" h="232">
                    <a:moveTo>
                      <a:pt x="77" y="36"/>
                    </a:moveTo>
                    <a:lnTo>
                      <a:pt x="83" y="72"/>
                    </a:lnTo>
                    <a:lnTo>
                      <a:pt x="70" y="105"/>
                    </a:lnTo>
                    <a:lnTo>
                      <a:pt x="65" y="112"/>
                    </a:lnTo>
                    <a:lnTo>
                      <a:pt x="70" y="201"/>
                    </a:lnTo>
                    <a:lnTo>
                      <a:pt x="65" y="222"/>
                    </a:lnTo>
                    <a:lnTo>
                      <a:pt x="51" y="232"/>
                    </a:lnTo>
                    <a:lnTo>
                      <a:pt x="24" y="225"/>
                    </a:lnTo>
                    <a:lnTo>
                      <a:pt x="14" y="201"/>
                    </a:lnTo>
                    <a:lnTo>
                      <a:pt x="11" y="161"/>
                    </a:lnTo>
                    <a:lnTo>
                      <a:pt x="0" y="122"/>
                    </a:lnTo>
                    <a:lnTo>
                      <a:pt x="4" y="50"/>
                    </a:lnTo>
                    <a:lnTo>
                      <a:pt x="36" y="0"/>
                    </a:lnTo>
                    <a:lnTo>
                      <a:pt x="61" y="7"/>
                    </a:lnTo>
                    <a:lnTo>
                      <a:pt x="77" y="36"/>
                    </a:lnTo>
                    <a:lnTo>
                      <a:pt x="77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319480" y="2254320"/>
                <a:ext cx="207720" cy="74520"/>
              </a:xfrm>
              <a:custGeom>
                <a:avLst/>
                <a:gdLst/>
                <a:ahLst/>
                <a:rect l="l" t="t" r="r" b="b"/>
                <a:pathLst>
                  <a:path w="260" h="141">
                    <a:moveTo>
                      <a:pt x="47" y="17"/>
                    </a:moveTo>
                    <a:lnTo>
                      <a:pt x="110" y="21"/>
                    </a:lnTo>
                    <a:lnTo>
                      <a:pt x="137" y="38"/>
                    </a:lnTo>
                    <a:lnTo>
                      <a:pt x="173" y="77"/>
                    </a:lnTo>
                    <a:lnTo>
                      <a:pt x="204" y="63"/>
                    </a:lnTo>
                    <a:lnTo>
                      <a:pt x="229" y="27"/>
                    </a:lnTo>
                    <a:lnTo>
                      <a:pt x="233" y="17"/>
                    </a:lnTo>
                    <a:lnTo>
                      <a:pt x="253" y="21"/>
                    </a:lnTo>
                    <a:lnTo>
                      <a:pt x="260" y="31"/>
                    </a:lnTo>
                    <a:lnTo>
                      <a:pt x="256" y="91"/>
                    </a:lnTo>
                    <a:lnTo>
                      <a:pt x="236" y="124"/>
                    </a:lnTo>
                    <a:lnTo>
                      <a:pt x="213" y="141"/>
                    </a:lnTo>
                    <a:lnTo>
                      <a:pt x="166" y="141"/>
                    </a:lnTo>
                    <a:lnTo>
                      <a:pt x="126" y="106"/>
                    </a:lnTo>
                    <a:lnTo>
                      <a:pt x="92" y="70"/>
                    </a:lnTo>
                    <a:lnTo>
                      <a:pt x="43" y="70"/>
                    </a:lnTo>
                    <a:lnTo>
                      <a:pt x="16" y="48"/>
                    </a:lnTo>
                    <a:lnTo>
                      <a:pt x="0" y="27"/>
                    </a:lnTo>
                    <a:lnTo>
                      <a:pt x="4" y="10"/>
                    </a:lnTo>
                    <a:lnTo>
                      <a:pt x="16" y="0"/>
                    </a:lnTo>
                    <a:lnTo>
                      <a:pt x="29" y="2"/>
                    </a:lnTo>
                    <a:lnTo>
                      <a:pt x="47" y="17"/>
                    </a:lnTo>
                    <a:lnTo>
                      <a:pt x="4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565360" y="2254320"/>
                <a:ext cx="736560" cy="799920"/>
              </a:xfrm>
              <a:custGeom>
                <a:avLst/>
                <a:gdLst/>
                <a:ahLst/>
                <a:rect l="l" t="t" r="r" b="b"/>
                <a:pathLst>
                  <a:path w="928" h="1510">
                    <a:moveTo>
                      <a:pt x="29" y="10"/>
                    </a:moveTo>
                    <a:lnTo>
                      <a:pt x="33" y="31"/>
                    </a:lnTo>
                    <a:lnTo>
                      <a:pt x="63" y="74"/>
                    </a:lnTo>
                    <a:lnTo>
                      <a:pt x="130" y="138"/>
                    </a:lnTo>
                    <a:lnTo>
                      <a:pt x="243" y="202"/>
                    </a:lnTo>
                    <a:lnTo>
                      <a:pt x="281" y="240"/>
                    </a:lnTo>
                    <a:lnTo>
                      <a:pt x="303" y="266"/>
                    </a:lnTo>
                    <a:lnTo>
                      <a:pt x="330" y="285"/>
                    </a:lnTo>
                    <a:lnTo>
                      <a:pt x="380" y="348"/>
                    </a:lnTo>
                    <a:lnTo>
                      <a:pt x="420" y="441"/>
                    </a:lnTo>
                    <a:lnTo>
                      <a:pt x="436" y="455"/>
                    </a:lnTo>
                    <a:lnTo>
                      <a:pt x="450" y="452"/>
                    </a:lnTo>
                    <a:lnTo>
                      <a:pt x="463" y="434"/>
                    </a:lnTo>
                    <a:lnTo>
                      <a:pt x="450" y="405"/>
                    </a:lnTo>
                    <a:lnTo>
                      <a:pt x="450" y="388"/>
                    </a:lnTo>
                    <a:lnTo>
                      <a:pt x="461" y="376"/>
                    </a:lnTo>
                    <a:lnTo>
                      <a:pt x="477" y="381"/>
                    </a:lnTo>
                    <a:lnTo>
                      <a:pt x="553" y="458"/>
                    </a:lnTo>
                    <a:lnTo>
                      <a:pt x="571" y="484"/>
                    </a:lnTo>
                    <a:lnTo>
                      <a:pt x="651" y="554"/>
                    </a:lnTo>
                    <a:lnTo>
                      <a:pt x="771" y="633"/>
                    </a:lnTo>
                    <a:lnTo>
                      <a:pt x="814" y="654"/>
                    </a:lnTo>
                    <a:lnTo>
                      <a:pt x="854" y="666"/>
                    </a:lnTo>
                    <a:lnTo>
                      <a:pt x="863" y="666"/>
                    </a:lnTo>
                    <a:lnTo>
                      <a:pt x="874" y="654"/>
                    </a:lnTo>
                    <a:lnTo>
                      <a:pt x="854" y="633"/>
                    </a:lnTo>
                    <a:lnTo>
                      <a:pt x="837" y="626"/>
                    </a:lnTo>
                    <a:lnTo>
                      <a:pt x="824" y="611"/>
                    </a:lnTo>
                    <a:lnTo>
                      <a:pt x="827" y="590"/>
                    </a:lnTo>
                    <a:lnTo>
                      <a:pt x="861" y="590"/>
                    </a:lnTo>
                    <a:lnTo>
                      <a:pt x="908" y="623"/>
                    </a:lnTo>
                    <a:lnTo>
                      <a:pt x="921" y="640"/>
                    </a:lnTo>
                    <a:lnTo>
                      <a:pt x="928" y="666"/>
                    </a:lnTo>
                    <a:lnTo>
                      <a:pt x="924" y="690"/>
                    </a:lnTo>
                    <a:lnTo>
                      <a:pt x="914" y="709"/>
                    </a:lnTo>
                    <a:lnTo>
                      <a:pt x="870" y="723"/>
                    </a:lnTo>
                    <a:lnTo>
                      <a:pt x="834" y="719"/>
                    </a:lnTo>
                    <a:lnTo>
                      <a:pt x="818" y="709"/>
                    </a:lnTo>
                    <a:lnTo>
                      <a:pt x="804" y="709"/>
                    </a:lnTo>
                    <a:lnTo>
                      <a:pt x="798" y="714"/>
                    </a:lnTo>
                    <a:lnTo>
                      <a:pt x="811" y="772"/>
                    </a:lnTo>
                    <a:lnTo>
                      <a:pt x="814" y="800"/>
                    </a:lnTo>
                    <a:lnTo>
                      <a:pt x="827" y="896"/>
                    </a:lnTo>
                    <a:lnTo>
                      <a:pt x="837" y="951"/>
                    </a:lnTo>
                    <a:lnTo>
                      <a:pt x="847" y="1126"/>
                    </a:lnTo>
                    <a:lnTo>
                      <a:pt x="845" y="1186"/>
                    </a:lnTo>
                    <a:lnTo>
                      <a:pt x="834" y="1282"/>
                    </a:lnTo>
                    <a:lnTo>
                      <a:pt x="820" y="1332"/>
                    </a:lnTo>
                    <a:lnTo>
                      <a:pt x="811" y="1385"/>
                    </a:lnTo>
                    <a:lnTo>
                      <a:pt x="798" y="1409"/>
                    </a:lnTo>
                    <a:lnTo>
                      <a:pt x="777" y="1457"/>
                    </a:lnTo>
                    <a:lnTo>
                      <a:pt x="728" y="1503"/>
                    </a:lnTo>
                    <a:lnTo>
                      <a:pt x="704" y="1510"/>
                    </a:lnTo>
                    <a:lnTo>
                      <a:pt x="651" y="1510"/>
                    </a:lnTo>
                    <a:lnTo>
                      <a:pt x="604" y="1481"/>
                    </a:lnTo>
                    <a:lnTo>
                      <a:pt x="580" y="1449"/>
                    </a:lnTo>
                    <a:lnTo>
                      <a:pt x="573" y="1404"/>
                    </a:lnTo>
                    <a:lnTo>
                      <a:pt x="573" y="1385"/>
                    </a:lnTo>
                    <a:lnTo>
                      <a:pt x="540" y="1364"/>
                    </a:lnTo>
                    <a:lnTo>
                      <a:pt x="540" y="1335"/>
                    </a:lnTo>
                    <a:lnTo>
                      <a:pt x="564" y="1318"/>
                    </a:lnTo>
                    <a:lnTo>
                      <a:pt x="604" y="1321"/>
                    </a:lnTo>
                    <a:lnTo>
                      <a:pt x="620" y="1332"/>
                    </a:lnTo>
                    <a:lnTo>
                      <a:pt x="640" y="1361"/>
                    </a:lnTo>
                    <a:lnTo>
                      <a:pt x="640" y="1409"/>
                    </a:lnTo>
                    <a:lnTo>
                      <a:pt x="636" y="1418"/>
                    </a:lnTo>
                    <a:lnTo>
                      <a:pt x="636" y="1428"/>
                    </a:lnTo>
                    <a:lnTo>
                      <a:pt x="647" y="1439"/>
                    </a:lnTo>
                    <a:lnTo>
                      <a:pt x="681" y="1439"/>
                    </a:lnTo>
                    <a:lnTo>
                      <a:pt x="728" y="1389"/>
                    </a:lnTo>
                    <a:lnTo>
                      <a:pt x="753" y="1325"/>
                    </a:lnTo>
                    <a:lnTo>
                      <a:pt x="757" y="1303"/>
                    </a:lnTo>
                    <a:lnTo>
                      <a:pt x="771" y="1253"/>
                    </a:lnTo>
                    <a:lnTo>
                      <a:pt x="777" y="1164"/>
                    </a:lnTo>
                    <a:lnTo>
                      <a:pt x="771" y="997"/>
                    </a:lnTo>
                    <a:lnTo>
                      <a:pt x="764" y="965"/>
                    </a:lnTo>
                    <a:lnTo>
                      <a:pt x="751" y="855"/>
                    </a:lnTo>
                    <a:lnTo>
                      <a:pt x="740" y="779"/>
                    </a:lnTo>
                    <a:lnTo>
                      <a:pt x="728" y="723"/>
                    </a:lnTo>
                    <a:lnTo>
                      <a:pt x="720" y="704"/>
                    </a:lnTo>
                    <a:lnTo>
                      <a:pt x="683" y="683"/>
                    </a:lnTo>
                    <a:lnTo>
                      <a:pt x="636" y="661"/>
                    </a:lnTo>
                    <a:lnTo>
                      <a:pt x="553" y="590"/>
                    </a:lnTo>
                    <a:lnTo>
                      <a:pt x="503" y="534"/>
                    </a:lnTo>
                    <a:lnTo>
                      <a:pt x="494" y="534"/>
                    </a:lnTo>
                    <a:lnTo>
                      <a:pt x="474" y="551"/>
                    </a:lnTo>
                    <a:lnTo>
                      <a:pt x="434" y="548"/>
                    </a:lnTo>
                    <a:lnTo>
                      <a:pt x="411" y="534"/>
                    </a:lnTo>
                    <a:lnTo>
                      <a:pt x="371" y="479"/>
                    </a:lnTo>
                    <a:lnTo>
                      <a:pt x="344" y="409"/>
                    </a:lnTo>
                    <a:lnTo>
                      <a:pt x="283" y="333"/>
                    </a:lnTo>
                    <a:lnTo>
                      <a:pt x="227" y="287"/>
                    </a:lnTo>
                    <a:lnTo>
                      <a:pt x="216" y="285"/>
                    </a:lnTo>
                    <a:lnTo>
                      <a:pt x="187" y="252"/>
                    </a:lnTo>
                    <a:lnTo>
                      <a:pt x="166" y="240"/>
                    </a:lnTo>
                    <a:lnTo>
                      <a:pt x="107" y="199"/>
                    </a:lnTo>
                    <a:lnTo>
                      <a:pt x="27" y="106"/>
                    </a:lnTo>
                    <a:lnTo>
                      <a:pt x="0" y="48"/>
                    </a:lnTo>
                    <a:lnTo>
                      <a:pt x="0" y="14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9" y="10"/>
                    </a:lnTo>
                    <a:lnTo>
                      <a:pt x="2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127320" y="2268360"/>
                <a:ext cx="82440" cy="25560"/>
              </a:xfrm>
              <a:custGeom>
                <a:avLst/>
                <a:gdLst/>
                <a:ahLst/>
                <a:rect l="l" t="t" r="r" b="b"/>
                <a:pathLst>
                  <a:path w="103" h="47">
                    <a:moveTo>
                      <a:pt x="103" y="26"/>
                    </a:moveTo>
                    <a:lnTo>
                      <a:pt x="60" y="33"/>
                    </a:lnTo>
                    <a:lnTo>
                      <a:pt x="16" y="47"/>
                    </a:lnTo>
                    <a:lnTo>
                      <a:pt x="9" y="47"/>
                    </a:lnTo>
                    <a:lnTo>
                      <a:pt x="0" y="36"/>
                    </a:lnTo>
                    <a:lnTo>
                      <a:pt x="2" y="18"/>
                    </a:lnTo>
                    <a:lnTo>
                      <a:pt x="32" y="4"/>
                    </a:lnTo>
                    <a:lnTo>
                      <a:pt x="49" y="0"/>
                    </a:lnTo>
                    <a:lnTo>
                      <a:pt x="103" y="4"/>
                    </a:lnTo>
                    <a:lnTo>
                      <a:pt x="103" y="26"/>
                    </a:lnTo>
                    <a:lnTo>
                      <a:pt x="103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865600" y="2316240"/>
                <a:ext cx="98280" cy="28440"/>
              </a:xfrm>
              <a:custGeom>
                <a:avLst/>
                <a:gdLst/>
                <a:ahLst/>
                <a:rect l="l" t="t" r="r" b="b"/>
                <a:pathLst>
                  <a:path w="124" h="54">
                    <a:moveTo>
                      <a:pt x="124" y="25"/>
                    </a:moveTo>
                    <a:lnTo>
                      <a:pt x="120" y="44"/>
                    </a:lnTo>
                    <a:lnTo>
                      <a:pt x="110" y="54"/>
                    </a:lnTo>
                    <a:lnTo>
                      <a:pt x="10" y="54"/>
                    </a:lnTo>
                    <a:lnTo>
                      <a:pt x="0" y="40"/>
                    </a:lnTo>
                    <a:lnTo>
                      <a:pt x="3" y="30"/>
                    </a:lnTo>
                    <a:lnTo>
                      <a:pt x="23" y="15"/>
                    </a:lnTo>
                    <a:lnTo>
                      <a:pt x="73" y="0"/>
                    </a:lnTo>
                    <a:lnTo>
                      <a:pt x="104" y="4"/>
                    </a:lnTo>
                    <a:lnTo>
                      <a:pt x="124" y="25"/>
                    </a:lnTo>
                    <a:lnTo>
                      <a:pt x="124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975040" y="2341440"/>
                <a:ext cx="203040" cy="206640"/>
              </a:xfrm>
              <a:custGeom>
                <a:avLst/>
                <a:gdLst/>
                <a:ahLst/>
                <a:rect l="l" t="t" r="r" b="b"/>
                <a:pathLst>
                  <a:path w="257" h="391">
                    <a:moveTo>
                      <a:pt x="59" y="46"/>
                    </a:moveTo>
                    <a:lnTo>
                      <a:pt x="120" y="189"/>
                    </a:lnTo>
                    <a:lnTo>
                      <a:pt x="194" y="281"/>
                    </a:lnTo>
                    <a:lnTo>
                      <a:pt x="226" y="331"/>
                    </a:lnTo>
                    <a:lnTo>
                      <a:pt x="257" y="381"/>
                    </a:lnTo>
                    <a:lnTo>
                      <a:pt x="247" y="391"/>
                    </a:lnTo>
                    <a:lnTo>
                      <a:pt x="223" y="385"/>
                    </a:lnTo>
                    <a:lnTo>
                      <a:pt x="163" y="331"/>
                    </a:lnTo>
                    <a:lnTo>
                      <a:pt x="117" y="281"/>
                    </a:lnTo>
                    <a:lnTo>
                      <a:pt x="70" y="213"/>
                    </a:lnTo>
                    <a:lnTo>
                      <a:pt x="16" y="86"/>
                    </a:lnTo>
                    <a:lnTo>
                      <a:pt x="0" y="28"/>
                    </a:lnTo>
                    <a:lnTo>
                      <a:pt x="3" y="7"/>
                    </a:lnTo>
                    <a:lnTo>
                      <a:pt x="14" y="0"/>
                    </a:lnTo>
                    <a:lnTo>
                      <a:pt x="32" y="4"/>
                    </a:lnTo>
                    <a:lnTo>
                      <a:pt x="59" y="46"/>
                    </a:lnTo>
                    <a:lnTo>
                      <a:pt x="59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835360" y="2357280"/>
                <a:ext cx="93600" cy="76320"/>
              </a:xfrm>
              <a:custGeom>
                <a:avLst/>
                <a:gdLst/>
                <a:ahLst/>
                <a:rect l="l" t="t" r="r" b="b"/>
                <a:pathLst>
                  <a:path w="116" h="144">
                    <a:moveTo>
                      <a:pt x="63" y="40"/>
                    </a:moveTo>
                    <a:lnTo>
                      <a:pt x="76" y="68"/>
                    </a:lnTo>
                    <a:lnTo>
                      <a:pt x="116" y="118"/>
                    </a:lnTo>
                    <a:lnTo>
                      <a:pt x="116" y="144"/>
                    </a:lnTo>
                    <a:lnTo>
                      <a:pt x="84" y="144"/>
                    </a:lnTo>
                    <a:lnTo>
                      <a:pt x="53" y="125"/>
                    </a:lnTo>
                    <a:lnTo>
                      <a:pt x="6" y="55"/>
                    </a:lnTo>
                    <a:lnTo>
                      <a:pt x="0" y="33"/>
                    </a:lnTo>
                    <a:lnTo>
                      <a:pt x="6" y="8"/>
                    </a:lnTo>
                    <a:lnTo>
                      <a:pt x="17" y="0"/>
                    </a:lnTo>
                    <a:lnTo>
                      <a:pt x="37" y="5"/>
                    </a:lnTo>
                    <a:lnTo>
                      <a:pt x="63" y="40"/>
                    </a:lnTo>
                    <a:lnTo>
                      <a:pt x="6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755720" y="2374920"/>
                <a:ext cx="31680" cy="77760"/>
              </a:xfrm>
              <a:custGeom>
                <a:avLst/>
                <a:gdLst/>
                <a:ahLst/>
                <a:rect l="l" t="t" r="r" b="b"/>
                <a:pathLst>
                  <a:path w="41" h="146">
                    <a:moveTo>
                      <a:pt x="34" y="92"/>
                    </a:moveTo>
                    <a:lnTo>
                      <a:pt x="41" y="128"/>
                    </a:lnTo>
                    <a:lnTo>
                      <a:pt x="41" y="142"/>
                    </a:lnTo>
                    <a:lnTo>
                      <a:pt x="37" y="146"/>
                    </a:lnTo>
                    <a:lnTo>
                      <a:pt x="30" y="146"/>
                    </a:lnTo>
                    <a:lnTo>
                      <a:pt x="14" y="114"/>
                    </a:lnTo>
                    <a:lnTo>
                      <a:pt x="3" y="58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30" y="22"/>
                    </a:lnTo>
                    <a:lnTo>
                      <a:pt x="34" y="92"/>
                    </a:lnTo>
                    <a:lnTo>
                      <a:pt x="34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214720" y="2392200"/>
                <a:ext cx="126720" cy="290520"/>
              </a:xfrm>
              <a:custGeom>
                <a:avLst/>
                <a:gdLst/>
                <a:ahLst/>
                <a:rect l="l" t="t" r="r" b="b"/>
                <a:pathLst>
                  <a:path w="160" h="549">
                    <a:moveTo>
                      <a:pt x="160" y="18"/>
                    </a:moveTo>
                    <a:lnTo>
                      <a:pt x="137" y="153"/>
                    </a:lnTo>
                    <a:lnTo>
                      <a:pt x="109" y="261"/>
                    </a:lnTo>
                    <a:lnTo>
                      <a:pt x="103" y="275"/>
                    </a:lnTo>
                    <a:lnTo>
                      <a:pt x="96" y="321"/>
                    </a:lnTo>
                    <a:lnTo>
                      <a:pt x="79" y="392"/>
                    </a:lnTo>
                    <a:lnTo>
                      <a:pt x="29" y="541"/>
                    </a:lnTo>
                    <a:lnTo>
                      <a:pt x="23" y="549"/>
                    </a:lnTo>
                    <a:lnTo>
                      <a:pt x="5" y="546"/>
                    </a:lnTo>
                    <a:lnTo>
                      <a:pt x="0" y="539"/>
                    </a:lnTo>
                    <a:lnTo>
                      <a:pt x="9" y="486"/>
                    </a:lnTo>
                    <a:lnTo>
                      <a:pt x="52" y="338"/>
                    </a:lnTo>
                    <a:lnTo>
                      <a:pt x="59" y="295"/>
                    </a:lnTo>
                    <a:lnTo>
                      <a:pt x="79" y="206"/>
                    </a:lnTo>
                    <a:lnTo>
                      <a:pt x="92" y="157"/>
                    </a:lnTo>
                    <a:lnTo>
                      <a:pt x="99" y="110"/>
                    </a:lnTo>
                    <a:lnTo>
                      <a:pt x="117" y="33"/>
                    </a:lnTo>
                    <a:lnTo>
                      <a:pt x="137" y="0"/>
                    </a:lnTo>
                    <a:lnTo>
                      <a:pt x="146" y="0"/>
                    </a:lnTo>
                    <a:lnTo>
                      <a:pt x="160" y="18"/>
                    </a:lnTo>
                    <a:lnTo>
                      <a:pt x="16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255760" y="2403360"/>
                <a:ext cx="506520" cy="930240"/>
              </a:xfrm>
              <a:custGeom>
                <a:avLst/>
                <a:gdLst/>
                <a:ahLst/>
                <a:rect l="l" t="t" r="r" b="b"/>
                <a:pathLst>
                  <a:path w="638" h="1758">
                    <a:moveTo>
                      <a:pt x="591" y="48"/>
                    </a:moveTo>
                    <a:lnTo>
                      <a:pt x="574" y="101"/>
                    </a:lnTo>
                    <a:lnTo>
                      <a:pt x="557" y="151"/>
                    </a:lnTo>
                    <a:lnTo>
                      <a:pt x="544" y="225"/>
                    </a:lnTo>
                    <a:lnTo>
                      <a:pt x="524" y="331"/>
                    </a:lnTo>
                    <a:lnTo>
                      <a:pt x="485" y="434"/>
                    </a:lnTo>
                    <a:lnTo>
                      <a:pt x="434" y="506"/>
                    </a:lnTo>
                    <a:lnTo>
                      <a:pt x="457" y="556"/>
                    </a:lnTo>
                    <a:lnTo>
                      <a:pt x="465" y="659"/>
                    </a:lnTo>
                    <a:lnTo>
                      <a:pt x="481" y="853"/>
                    </a:lnTo>
                    <a:lnTo>
                      <a:pt x="478" y="995"/>
                    </a:lnTo>
                    <a:lnTo>
                      <a:pt x="471" y="1084"/>
                    </a:lnTo>
                    <a:lnTo>
                      <a:pt x="478" y="1220"/>
                    </a:lnTo>
                    <a:lnTo>
                      <a:pt x="467" y="1387"/>
                    </a:lnTo>
                    <a:lnTo>
                      <a:pt x="474" y="1430"/>
                    </a:lnTo>
                    <a:lnTo>
                      <a:pt x="485" y="1452"/>
                    </a:lnTo>
                    <a:lnTo>
                      <a:pt x="584" y="1536"/>
                    </a:lnTo>
                    <a:lnTo>
                      <a:pt x="625" y="1601"/>
                    </a:lnTo>
                    <a:lnTo>
                      <a:pt x="638" y="1654"/>
                    </a:lnTo>
                    <a:lnTo>
                      <a:pt x="634" y="1711"/>
                    </a:lnTo>
                    <a:lnTo>
                      <a:pt x="615" y="1743"/>
                    </a:lnTo>
                    <a:lnTo>
                      <a:pt x="598" y="1758"/>
                    </a:lnTo>
                    <a:lnTo>
                      <a:pt x="488" y="1750"/>
                    </a:lnTo>
                    <a:lnTo>
                      <a:pt x="388" y="1747"/>
                    </a:lnTo>
                    <a:lnTo>
                      <a:pt x="357" y="1735"/>
                    </a:lnTo>
                    <a:lnTo>
                      <a:pt x="310" y="1740"/>
                    </a:lnTo>
                    <a:lnTo>
                      <a:pt x="254" y="1740"/>
                    </a:lnTo>
                    <a:lnTo>
                      <a:pt x="211" y="1728"/>
                    </a:lnTo>
                    <a:lnTo>
                      <a:pt x="157" y="1725"/>
                    </a:lnTo>
                    <a:lnTo>
                      <a:pt x="134" y="1707"/>
                    </a:lnTo>
                    <a:lnTo>
                      <a:pt x="114" y="1680"/>
                    </a:lnTo>
                    <a:lnTo>
                      <a:pt x="104" y="1654"/>
                    </a:lnTo>
                    <a:lnTo>
                      <a:pt x="94" y="1505"/>
                    </a:lnTo>
                    <a:lnTo>
                      <a:pt x="51" y="1390"/>
                    </a:lnTo>
                    <a:lnTo>
                      <a:pt x="47" y="1141"/>
                    </a:lnTo>
                    <a:lnTo>
                      <a:pt x="38" y="1112"/>
                    </a:lnTo>
                    <a:lnTo>
                      <a:pt x="31" y="1069"/>
                    </a:lnTo>
                    <a:lnTo>
                      <a:pt x="0" y="977"/>
                    </a:lnTo>
                    <a:lnTo>
                      <a:pt x="24" y="892"/>
                    </a:lnTo>
                    <a:lnTo>
                      <a:pt x="31" y="884"/>
                    </a:lnTo>
                    <a:lnTo>
                      <a:pt x="38" y="834"/>
                    </a:lnTo>
                    <a:lnTo>
                      <a:pt x="38" y="827"/>
                    </a:lnTo>
                    <a:lnTo>
                      <a:pt x="57" y="923"/>
                    </a:lnTo>
                    <a:lnTo>
                      <a:pt x="81" y="1016"/>
                    </a:lnTo>
                    <a:lnTo>
                      <a:pt x="114" y="1129"/>
                    </a:lnTo>
                    <a:lnTo>
                      <a:pt x="128" y="1237"/>
                    </a:lnTo>
                    <a:lnTo>
                      <a:pt x="128" y="1422"/>
                    </a:lnTo>
                    <a:lnTo>
                      <a:pt x="171" y="1522"/>
                    </a:lnTo>
                    <a:lnTo>
                      <a:pt x="181" y="1608"/>
                    </a:lnTo>
                    <a:lnTo>
                      <a:pt x="181" y="1668"/>
                    </a:lnTo>
                    <a:lnTo>
                      <a:pt x="191" y="1690"/>
                    </a:lnTo>
                    <a:lnTo>
                      <a:pt x="198" y="1697"/>
                    </a:lnTo>
                    <a:lnTo>
                      <a:pt x="234" y="1701"/>
                    </a:lnTo>
                    <a:lnTo>
                      <a:pt x="271" y="1707"/>
                    </a:lnTo>
                    <a:lnTo>
                      <a:pt x="355" y="1701"/>
                    </a:lnTo>
                    <a:lnTo>
                      <a:pt x="461" y="1701"/>
                    </a:lnTo>
                    <a:lnTo>
                      <a:pt x="548" y="1697"/>
                    </a:lnTo>
                    <a:lnTo>
                      <a:pt x="557" y="1697"/>
                    </a:lnTo>
                    <a:lnTo>
                      <a:pt x="568" y="1687"/>
                    </a:lnTo>
                    <a:lnTo>
                      <a:pt x="557" y="1604"/>
                    </a:lnTo>
                    <a:lnTo>
                      <a:pt x="544" y="1582"/>
                    </a:lnTo>
                    <a:lnTo>
                      <a:pt x="445" y="1493"/>
                    </a:lnTo>
                    <a:lnTo>
                      <a:pt x="424" y="1469"/>
                    </a:lnTo>
                    <a:lnTo>
                      <a:pt x="402" y="1409"/>
                    </a:lnTo>
                    <a:lnTo>
                      <a:pt x="398" y="1387"/>
                    </a:lnTo>
                    <a:lnTo>
                      <a:pt x="398" y="1294"/>
                    </a:lnTo>
                    <a:lnTo>
                      <a:pt x="404" y="1129"/>
                    </a:lnTo>
                    <a:lnTo>
                      <a:pt x="398" y="980"/>
                    </a:lnTo>
                    <a:lnTo>
                      <a:pt x="407" y="867"/>
                    </a:lnTo>
                    <a:lnTo>
                      <a:pt x="407" y="817"/>
                    </a:lnTo>
                    <a:lnTo>
                      <a:pt x="402" y="738"/>
                    </a:lnTo>
                    <a:lnTo>
                      <a:pt x="402" y="649"/>
                    </a:lnTo>
                    <a:lnTo>
                      <a:pt x="394" y="616"/>
                    </a:lnTo>
                    <a:lnTo>
                      <a:pt x="391" y="539"/>
                    </a:lnTo>
                    <a:lnTo>
                      <a:pt x="357" y="539"/>
                    </a:lnTo>
                    <a:lnTo>
                      <a:pt x="355" y="542"/>
                    </a:lnTo>
                    <a:lnTo>
                      <a:pt x="348" y="542"/>
                    </a:lnTo>
                    <a:lnTo>
                      <a:pt x="341" y="535"/>
                    </a:lnTo>
                    <a:lnTo>
                      <a:pt x="344" y="518"/>
                    </a:lnTo>
                    <a:lnTo>
                      <a:pt x="407" y="403"/>
                    </a:lnTo>
                    <a:lnTo>
                      <a:pt x="451" y="300"/>
                    </a:lnTo>
                    <a:lnTo>
                      <a:pt x="474" y="214"/>
                    </a:lnTo>
                    <a:lnTo>
                      <a:pt x="478" y="185"/>
                    </a:lnTo>
                    <a:lnTo>
                      <a:pt x="510" y="75"/>
                    </a:lnTo>
                    <a:lnTo>
                      <a:pt x="544" y="0"/>
                    </a:lnTo>
                    <a:lnTo>
                      <a:pt x="578" y="26"/>
                    </a:lnTo>
                    <a:lnTo>
                      <a:pt x="591" y="48"/>
                    </a:lnTo>
                    <a:lnTo>
                      <a:pt x="591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066680" y="2416320"/>
                <a:ext cx="136800" cy="145800"/>
              </a:xfrm>
              <a:custGeom>
                <a:avLst/>
                <a:gdLst/>
                <a:ahLst/>
                <a:rect l="l" t="t" r="r" b="b"/>
                <a:pathLst>
                  <a:path w="170" h="274">
                    <a:moveTo>
                      <a:pt x="59" y="46"/>
                    </a:moveTo>
                    <a:lnTo>
                      <a:pt x="80" y="82"/>
                    </a:lnTo>
                    <a:lnTo>
                      <a:pt x="133" y="149"/>
                    </a:lnTo>
                    <a:lnTo>
                      <a:pt x="164" y="209"/>
                    </a:lnTo>
                    <a:lnTo>
                      <a:pt x="170" y="248"/>
                    </a:lnTo>
                    <a:lnTo>
                      <a:pt x="166" y="267"/>
                    </a:lnTo>
                    <a:lnTo>
                      <a:pt x="157" y="274"/>
                    </a:lnTo>
                    <a:lnTo>
                      <a:pt x="146" y="271"/>
                    </a:lnTo>
                    <a:lnTo>
                      <a:pt x="119" y="209"/>
                    </a:lnTo>
                    <a:lnTo>
                      <a:pt x="36" y="103"/>
                    </a:lnTo>
                    <a:lnTo>
                      <a:pt x="0" y="24"/>
                    </a:lnTo>
                    <a:lnTo>
                      <a:pt x="2" y="6"/>
                    </a:lnTo>
                    <a:lnTo>
                      <a:pt x="13" y="0"/>
                    </a:lnTo>
                    <a:lnTo>
                      <a:pt x="29" y="3"/>
                    </a:lnTo>
                    <a:lnTo>
                      <a:pt x="59" y="46"/>
                    </a:lnTo>
                    <a:lnTo>
                      <a:pt x="59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317680" y="2435400"/>
                <a:ext cx="92160" cy="177480"/>
              </a:xfrm>
              <a:custGeom>
                <a:avLst/>
                <a:gdLst/>
                <a:ahLst/>
                <a:rect l="l" t="t" r="r" b="b"/>
                <a:pathLst>
                  <a:path w="115" h="335">
                    <a:moveTo>
                      <a:pt x="115" y="22"/>
                    </a:moveTo>
                    <a:lnTo>
                      <a:pt x="115" y="75"/>
                    </a:lnTo>
                    <a:lnTo>
                      <a:pt x="106" y="117"/>
                    </a:lnTo>
                    <a:lnTo>
                      <a:pt x="73" y="213"/>
                    </a:lnTo>
                    <a:lnTo>
                      <a:pt x="9" y="325"/>
                    </a:lnTo>
                    <a:lnTo>
                      <a:pt x="0" y="335"/>
                    </a:lnTo>
                    <a:lnTo>
                      <a:pt x="0" y="318"/>
                    </a:lnTo>
                    <a:lnTo>
                      <a:pt x="16" y="267"/>
                    </a:lnTo>
                    <a:lnTo>
                      <a:pt x="52" y="146"/>
                    </a:lnTo>
                    <a:lnTo>
                      <a:pt x="63" y="107"/>
                    </a:lnTo>
                    <a:lnTo>
                      <a:pt x="70" y="75"/>
                    </a:lnTo>
                    <a:lnTo>
                      <a:pt x="73" y="47"/>
                    </a:lnTo>
                    <a:lnTo>
                      <a:pt x="79" y="18"/>
                    </a:lnTo>
                    <a:lnTo>
                      <a:pt x="93" y="0"/>
                    </a:lnTo>
                    <a:lnTo>
                      <a:pt x="103" y="4"/>
                    </a:lnTo>
                    <a:lnTo>
                      <a:pt x="115" y="22"/>
                    </a:lnTo>
                    <a:lnTo>
                      <a:pt x="11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851120" y="2465280"/>
                <a:ext cx="738000" cy="870120"/>
              </a:xfrm>
              <a:custGeom>
                <a:avLst/>
                <a:gdLst/>
                <a:ahLst/>
                <a:rect l="l" t="t" r="r" b="b"/>
                <a:pathLst>
                  <a:path w="930" h="1643">
                    <a:moveTo>
                      <a:pt x="930" y="7"/>
                    </a:moveTo>
                    <a:lnTo>
                      <a:pt x="921" y="40"/>
                    </a:lnTo>
                    <a:lnTo>
                      <a:pt x="887" y="143"/>
                    </a:lnTo>
                    <a:lnTo>
                      <a:pt x="834" y="263"/>
                    </a:lnTo>
                    <a:lnTo>
                      <a:pt x="807" y="332"/>
                    </a:lnTo>
                    <a:lnTo>
                      <a:pt x="804" y="357"/>
                    </a:lnTo>
                    <a:lnTo>
                      <a:pt x="781" y="410"/>
                    </a:lnTo>
                    <a:lnTo>
                      <a:pt x="717" y="496"/>
                    </a:lnTo>
                    <a:lnTo>
                      <a:pt x="620" y="567"/>
                    </a:lnTo>
                    <a:lnTo>
                      <a:pt x="595" y="577"/>
                    </a:lnTo>
                    <a:lnTo>
                      <a:pt x="567" y="582"/>
                    </a:lnTo>
                    <a:lnTo>
                      <a:pt x="537" y="599"/>
                    </a:lnTo>
                    <a:lnTo>
                      <a:pt x="524" y="623"/>
                    </a:lnTo>
                    <a:lnTo>
                      <a:pt x="501" y="755"/>
                    </a:lnTo>
                    <a:lnTo>
                      <a:pt x="467" y="870"/>
                    </a:lnTo>
                    <a:lnTo>
                      <a:pt x="454" y="991"/>
                    </a:lnTo>
                    <a:lnTo>
                      <a:pt x="460" y="1097"/>
                    </a:lnTo>
                    <a:lnTo>
                      <a:pt x="451" y="1152"/>
                    </a:lnTo>
                    <a:lnTo>
                      <a:pt x="444" y="1205"/>
                    </a:lnTo>
                    <a:lnTo>
                      <a:pt x="413" y="1298"/>
                    </a:lnTo>
                    <a:lnTo>
                      <a:pt x="413" y="1325"/>
                    </a:lnTo>
                    <a:lnTo>
                      <a:pt x="451" y="1408"/>
                    </a:lnTo>
                    <a:lnTo>
                      <a:pt x="460" y="1447"/>
                    </a:lnTo>
                    <a:lnTo>
                      <a:pt x="501" y="1511"/>
                    </a:lnTo>
                    <a:lnTo>
                      <a:pt x="510" y="1547"/>
                    </a:lnTo>
                    <a:lnTo>
                      <a:pt x="507" y="1579"/>
                    </a:lnTo>
                    <a:lnTo>
                      <a:pt x="481" y="1607"/>
                    </a:lnTo>
                    <a:lnTo>
                      <a:pt x="471" y="1625"/>
                    </a:lnTo>
                    <a:lnTo>
                      <a:pt x="451" y="1640"/>
                    </a:lnTo>
                    <a:lnTo>
                      <a:pt x="247" y="1643"/>
                    </a:lnTo>
                    <a:lnTo>
                      <a:pt x="204" y="1643"/>
                    </a:lnTo>
                    <a:lnTo>
                      <a:pt x="164" y="1636"/>
                    </a:lnTo>
                    <a:lnTo>
                      <a:pt x="80" y="1636"/>
                    </a:lnTo>
                    <a:lnTo>
                      <a:pt x="27" y="1617"/>
                    </a:lnTo>
                    <a:lnTo>
                      <a:pt x="13" y="1610"/>
                    </a:lnTo>
                    <a:lnTo>
                      <a:pt x="4" y="1593"/>
                    </a:lnTo>
                    <a:lnTo>
                      <a:pt x="7" y="1574"/>
                    </a:lnTo>
                    <a:lnTo>
                      <a:pt x="7" y="1562"/>
                    </a:lnTo>
                    <a:lnTo>
                      <a:pt x="0" y="1550"/>
                    </a:lnTo>
                    <a:lnTo>
                      <a:pt x="4" y="1461"/>
                    </a:lnTo>
                    <a:lnTo>
                      <a:pt x="13" y="1418"/>
                    </a:lnTo>
                    <a:lnTo>
                      <a:pt x="24" y="1347"/>
                    </a:lnTo>
                    <a:lnTo>
                      <a:pt x="33" y="1337"/>
                    </a:lnTo>
                    <a:lnTo>
                      <a:pt x="54" y="1339"/>
                    </a:lnTo>
                    <a:lnTo>
                      <a:pt x="67" y="1361"/>
                    </a:lnTo>
                    <a:lnTo>
                      <a:pt x="67" y="1401"/>
                    </a:lnTo>
                    <a:lnTo>
                      <a:pt x="60" y="1433"/>
                    </a:lnTo>
                    <a:lnTo>
                      <a:pt x="60" y="1554"/>
                    </a:lnTo>
                    <a:lnTo>
                      <a:pt x="67" y="1572"/>
                    </a:lnTo>
                    <a:lnTo>
                      <a:pt x="80" y="1583"/>
                    </a:lnTo>
                    <a:lnTo>
                      <a:pt x="154" y="1579"/>
                    </a:lnTo>
                    <a:lnTo>
                      <a:pt x="164" y="1569"/>
                    </a:lnTo>
                    <a:lnTo>
                      <a:pt x="168" y="1533"/>
                    </a:lnTo>
                    <a:lnTo>
                      <a:pt x="184" y="1500"/>
                    </a:lnTo>
                    <a:lnTo>
                      <a:pt x="211" y="1480"/>
                    </a:lnTo>
                    <a:lnTo>
                      <a:pt x="247" y="1480"/>
                    </a:lnTo>
                    <a:lnTo>
                      <a:pt x="263" y="1500"/>
                    </a:lnTo>
                    <a:lnTo>
                      <a:pt x="263" y="1507"/>
                    </a:lnTo>
                    <a:lnTo>
                      <a:pt x="258" y="1514"/>
                    </a:lnTo>
                    <a:lnTo>
                      <a:pt x="224" y="1514"/>
                    </a:lnTo>
                    <a:lnTo>
                      <a:pt x="193" y="1547"/>
                    </a:lnTo>
                    <a:lnTo>
                      <a:pt x="193" y="1569"/>
                    </a:lnTo>
                    <a:lnTo>
                      <a:pt x="211" y="1583"/>
                    </a:lnTo>
                    <a:lnTo>
                      <a:pt x="284" y="1574"/>
                    </a:lnTo>
                    <a:lnTo>
                      <a:pt x="297" y="1562"/>
                    </a:lnTo>
                    <a:lnTo>
                      <a:pt x="314" y="1514"/>
                    </a:lnTo>
                    <a:lnTo>
                      <a:pt x="344" y="1483"/>
                    </a:lnTo>
                    <a:lnTo>
                      <a:pt x="370" y="1471"/>
                    </a:lnTo>
                    <a:lnTo>
                      <a:pt x="380" y="1471"/>
                    </a:lnTo>
                    <a:lnTo>
                      <a:pt x="391" y="1483"/>
                    </a:lnTo>
                    <a:lnTo>
                      <a:pt x="373" y="1500"/>
                    </a:lnTo>
                    <a:lnTo>
                      <a:pt x="350" y="1514"/>
                    </a:lnTo>
                    <a:lnTo>
                      <a:pt x="327" y="1550"/>
                    </a:lnTo>
                    <a:lnTo>
                      <a:pt x="323" y="1564"/>
                    </a:lnTo>
                    <a:lnTo>
                      <a:pt x="334" y="1574"/>
                    </a:lnTo>
                    <a:lnTo>
                      <a:pt x="427" y="1572"/>
                    </a:lnTo>
                    <a:lnTo>
                      <a:pt x="438" y="1557"/>
                    </a:lnTo>
                    <a:lnTo>
                      <a:pt x="427" y="1511"/>
                    </a:lnTo>
                    <a:lnTo>
                      <a:pt x="384" y="1428"/>
                    </a:lnTo>
                    <a:lnTo>
                      <a:pt x="361" y="1358"/>
                    </a:lnTo>
                    <a:lnTo>
                      <a:pt x="344" y="1308"/>
                    </a:lnTo>
                    <a:lnTo>
                      <a:pt x="344" y="1258"/>
                    </a:lnTo>
                    <a:lnTo>
                      <a:pt x="373" y="1169"/>
                    </a:lnTo>
                    <a:lnTo>
                      <a:pt x="384" y="1112"/>
                    </a:lnTo>
                    <a:lnTo>
                      <a:pt x="387" y="1066"/>
                    </a:lnTo>
                    <a:lnTo>
                      <a:pt x="397" y="881"/>
                    </a:lnTo>
                    <a:lnTo>
                      <a:pt x="411" y="831"/>
                    </a:lnTo>
                    <a:lnTo>
                      <a:pt x="427" y="745"/>
                    </a:lnTo>
                    <a:lnTo>
                      <a:pt x="454" y="649"/>
                    </a:lnTo>
                    <a:lnTo>
                      <a:pt x="458" y="627"/>
                    </a:lnTo>
                    <a:lnTo>
                      <a:pt x="481" y="467"/>
                    </a:lnTo>
                    <a:lnTo>
                      <a:pt x="490" y="450"/>
                    </a:lnTo>
                    <a:lnTo>
                      <a:pt x="521" y="450"/>
                    </a:lnTo>
                    <a:lnTo>
                      <a:pt x="541" y="481"/>
                    </a:lnTo>
                    <a:lnTo>
                      <a:pt x="541" y="493"/>
                    </a:lnTo>
                    <a:lnTo>
                      <a:pt x="548" y="498"/>
                    </a:lnTo>
                    <a:lnTo>
                      <a:pt x="567" y="496"/>
                    </a:lnTo>
                    <a:lnTo>
                      <a:pt x="678" y="417"/>
                    </a:lnTo>
                    <a:lnTo>
                      <a:pt x="771" y="306"/>
                    </a:lnTo>
                    <a:lnTo>
                      <a:pt x="781" y="302"/>
                    </a:lnTo>
                    <a:lnTo>
                      <a:pt x="788" y="302"/>
                    </a:lnTo>
                    <a:lnTo>
                      <a:pt x="807" y="275"/>
                    </a:lnTo>
                    <a:lnTo>
                      <a:pt x="827" y="220"/>
                    </a:lnTo>
                    <a:lnTo>
                      <a:pt x="867" y="122"/>
                    </a:lnTo>
                    <a:lnTo>
                      <a:pt x="878" y="93"/>
                    </a:lnTo>
                    <a:lnTo>
                      <a:pt x="894" y="28"/>
                    </a:lnTo>
                    <a:lnTo>
                      <a:pt x="917" y="0"/>
                    </a:lnTo>
                    <a:lnTo>
                      <a:pt x="924" y="0"/>
                    </a:lnTo>
                    <a:lnTo>
                      <a:pt x="930" y="7"/>
                    </a:lnTo>
                    <a:lnTo>
                      <a:pt x="93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779480" y="2511360"/>
                <a:ext cx="90720" cy="195480"/>
              </a:xfrm>
              <a:custGeom>
                <a:avLst/>
                <a:gdLst/>
                <a:ahLst/>
                <a:rect l="l" t="t" r="r" b="b"/>
                <a:pathLst>
                  <a:path w="114" h="371">
                    <a:moveTo>
                      <a:pt x="40" y="17"/>
                    </a:moveTo>
                    <a:lnTo>
                      <a:pt x="47" y="106"/>
                    </a:lnTo>
                    <a:lnTo>
                      <a:pt x="47" y="163"/>
                    </a:lnTo>
                    <a:lnTo>
                      <a:pt x="60" y="203"/>
                    </a:lnTo>
                    <a:lnTo>
                      <a:pt x="63" y="228"/>
                    </a:lnTo>
                    <a:lnTo>
                      <a:pt x="107" y="316"/>
                    </a:lnTo>
                    <a:lnTo>
                      <a:pt x="114" y="349"/>
                    </a:lnTo>
                    <a:lnTo>
                      <a:pt x="114" y="359"/>
                    </a:lnTo>
                    <a:lnTo>
                      <a:pt x="103" y="371"/>
                    </a:lnTo>
                    <a:lnTo>
                      <a:pt x="83" y="367"/>
                    </a:lnTo>
                    <a:lnTo>
                      <a:pt x="20" y="242"/>
                    </a:lnTo>
                    <a:lnTo>
                      <a:pt x="0" y="117"/>
                    </a:lnTo>
                    <a:lnTo>
                      <a:pt x="7" y="70"/>
                    </a:lnTo>
                    <a:lnTo>
                      <a:pt x="7" y="14"/>
                    </a:lnTo>
                    <a:lnTo>
                      <a:pt x="16" y="0"/>
                    </a:lnTo>
                    <a:lnTo>
                      <a:pt x="31" y="3"/>
                    </a:lnTo>
                    <a:lnTo>
                      <a:pt x="40" y="17"/>
                    </a:lnTo>
                    <a:lnTo>
                      <a:pt x="4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346040" y="2825640"/>
                <a:ext cx="357480" cy="501840"/>
              </a:xfrm>
              <a:custGeom>
                <a:avLst/>
                <a:gdLst/>
                <a:ahLst/>
                <a:rect l="l" t="t" r="r" b="b"/>
                <a:pathLst>
                  <a:path w="450" h="949">
                    <a:moveTo>
                      <a:pt x="423" y="51"/>
                    </a:moveTo>
                    <a:lnTo>
                      <a:pt x="376" y="96"/>
                    </a:lnTo>
                    <a:lnTo>
                      <a:pt x="340" y="122"/>
                    </a:lnTo>
                    <a:lnTo>
                      <a:pt x="293" y="175"/>
                    </a:lnTo>
                    <a:lnTo>
                      <a:pt x="277" y="221"/>
                    </a:lnTo>
                    <a:lnTo>
                      <a:pt x="263" y="379"/>
                    </a:lnTo>
                    <a:lnTo>
                      <a:pt x="250" y="503"/>
                    </a:lnTo>
                    <a:lnTo>
                      <a:pt x="254" y="606"/>
                    </a:lnTo>
                    <a:lnTo>
                      <a:pt x="259" y="635"/>
                    </a:lnTo>
                    <a:lnTo>
                      <a:pt x="320" y="700"/>
                    </a:lnTo>
                    <a:lnTo>
                      <a:pt x="380" y="764"/>
                    </a:lnTo>
                    <a:lnTo>
                      <a:pt x="417" y="846"/>
                    </a:lnTo>
                    <a:lnTo>
                      <a:pt x="417" y="892"/>
                    </a:lnTo>
                    <a:lnTo>
                      <a:pt x="390" y="930"/>
                    </a:lnTo>
                    <a:lnTo>
                      <a:pt x="360" y="949"/>
                    </a:lnTo>
                    <a:lnTo>
                      <a:pt x="270" y="949"/>
                    </a:lnTo>
                    <a:lnTo>
                      <a:pt x="234" y="942"/>
                    </a:lnTo>
                    <a:lnTo>
                      <a:pt x="180" y="937"/>
                    </a:lnTo>
                    <a:lnTo>
                      <a:pt x="131" y="937"/>
                    </a:lnTo>
                    <a:lnTo>
                      <a:pt x="36" y="935"/>
                    </a:lnTo>
                    <a:lnTo>
                      <a:pt x="3" y="916"/>
                    </a:lnTo>
                    <a:lnTo>
                      <a:pt x="0" y="916"/>
                    </a:lnTo>
                    <a:lnTo>
                      <a:pt x="20" y="884"/>
                    </a:lnTo>
                    <a:lnTo>
                      <a:pt x="86" y="889"/>
                    </a:lnTo>
                    <a:lnTo>
                      <a:pt x="93" y="882"/>
                    </a:lnTo>
                    <a:lnTo>
                      <a:pt x="86" y="856"/>
                    </a:lnTo>
                    <a:lnTo>
                      <a:pt x="90" y="820"/>
                    </a:lnTo>
                    <a:lnTo>
                      <a:pt x="104" y="796"/>
                    </a:lnTo>
                    <a:lnTo>
                      <a:pt x="133" y="770"/>
                    </a:lnTo>
                    <a:lnTo>
                      <a:pt x="167" y="770"/>
                    </a:lnTo>
                    <a:lnTo>
                      <a:pt x="190" y="781"/>
                    </a:lnTo>
                    <a:lnTo>
                      <a:pt x="194" y="781"/>
                    </a:lnTo>
                    <a:lnTo>
                      <a:pt x="203" y="791"/>
                    </a:lnTo>
                    <a:lnTo>
                      <a:pt x="200" y="810"/>
                    </a:lnTo>
                    <a:lnTo>
                      <a:pt x="143" y="813"/>
                    </a:lnTo>
                    <a:lnTo>
                      <a:pt x="124" y="827"/>
                    </a:lnTo>
                    <a:lnTo>
                      <a:pt x="113" y="839"/>
                    </a:lnTo>
                    <a:lnTo>
                      <a:pt x="113" y="870"/>
                    </a:lnTo>
                    <a:lnTo>
                      <a:pt x="110" y="874"/>
                    </a:lnTo>
                    <a:lnTo>
                      <a:pt x="120" y="884"/>
                    </a:lnTo>
                    <a:lnTo>
                      <a:pt x="169" y="884"/>
                    </a:lnTo>
                    <a:lnTo>
                      <a:pt x="200" y="889"/>
                    </a:lnTo>
                    <a:lnTo>
                      <a:pt x="210" y="889"/>
                    </a:lnTo>
                    <a:lnTo>
                      <a:pt x="220" y="849"/>
                    </a:lnTo>
                    <a:lnTo>
                      <a:pt x="243" y="824"/>
                    </a:lnTo>
                    <a:lnTo>
                      <a:pt x="267" y="853"/>
                    </a:lnTo>
                    <a:lnTo>
                      <a:pt x="254" y="863"/>
                    </a:lnTo>
                    <a:lnTo>
                      <a:pt x="243" y="874"/>
                    </a:lnTo>
                    <a:lnTo>
                      <a:pt x="243" y="889"/>
                    </a:lnTo>
                    <a:lnTo>
                      <a:pt x="317" y="884"/>
                    </a:lnTo>
                    <a:lnTo>
                      <a:pt x="333" y="870"/>
                    </a:lnTo>
                    <a:lnTo>
                      <a:pt x="340" y="863"/>
                    </a:lnTo>
                    <a:lnTo>
                      <a:pt x="337" y="834"/>
                    </a:lnTo>
                    <a:lnTo>
                      <a:pt x="331" y="827"/>
                    </a:lnTo>
                    <a:lnTo>
                      <a:pt x="300" y="827"/>
                    </a:lnTo>
                    <a:lnTo>
                      <a:pt x="270" y="796"/>
                    </a:lnTo>
                    <a:lnTo>
                      <a:pt x="280" y="788"/>
                    </a:lnTo>
                    <a:lnTo>
                      <a:pt x="300" y="788"/>
                    </a:lnTo>
                    <a:lnTo>
                      <a:pt x="310" y="778"/>
                    </a:lnTo>
                    <a:lnTo>
                      <a:pt x="277" y="735"/>
                    </a:lnTo>
                    <a:lnTo>
                      <a:pt x="194" y="645"/>
                    </a:lnTo>
                    <a:lnTo>
                      <a:pt x="180" y="614"/>
                    </a:lnTo>
                    <a:lnTo>
                      <a:pt x="173" y="525"/>
                    </a:lnTo>
                    <a:lnTo>
                      <a:pt x="183" y="400"/>
                    </a:lnTo>
                    <a:lnTo>
                      <a:pt x="200" y="254"/>
                    </a:lnTo>
                    <a:lnTo>
                      <a:pt x="207" y="207"/>
                    </a:lnTo>
                    <a:lnTo>
                      <a:pt x="216" y="147"/>
                    </a:lnTo>
                    <a:lnTo>
                      <a:pt x="241" y="96"/>
                    </a:lnTo>
                    <a:lnTo>
                      <a:pt x="304" y="36"/>
                    </a:lnTo>
                    <a:lnTo>
                      <a:pt x="351" y="0"/>
                    </a:lnTo>
                    <a:lnTo>
                      <a:pt x="450" y="5"/>
                    </a:lnTo>
                    <a:lnTo>
                      <a:pt x="423" y="51"/>
                    </a:lnTo>
                    <a:lnTo>
                      <a:pt x="423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150920" y="3227400"/>
                <a:ext cx="87480" cy="52200"/>
              </a:xfrm>
              <a:custGeom>
                <a:avLst/>
                <a:gdLst/>
                <a:ahLst/>
                <a:rect l="l" t="t" r="r" b="b"/>
                <a:pathLst>
                  <a:path w="110" h="100">
                    <a:moveTo>
                      <a:pt x="107" y="14"/>
                    </a:moveTo>
                    <a:lnTo>
                      <a:pt x="110" y="21"/>
                    </a:lnTo>
                    <a:lnTo>
                      <a:pt x="110" y="31"/>
                    </a:lnTo>
                    <a:lnTo>
                      <a:pt x="101" y="43"/>
                    </a:lnTo>
                    <a:lnTo>
                      <a:pt x="67" y="46"/>
                    </a:lnTo>
                    <a:lnTo>
                      <a:pt x="47" y="57"/>
                    </a:lnTo>
                    <a:lnTo>
                      <a:pt x="31" y="79"/>
                    </a:lnTo>
                    <a:lnTo>
                      <a:pt x="31" y="93"/>
                    </a:lnTo>
                    <a:lnTo>
                      <a:pt x="24" y="100"/>
                    </a:lnTo>
                    <a:lnTo>
                      <a:pt x="11" y="96"/>
                    </a:lnTo>
                    <a:lnTo>
                      <a:pt x="0" y="81"/>
                    </a:lnTo>
                    <a:lnTo>
                      <a:pt x="4" y="43"/>
                    </a:lnTo>
                    <a:lnTo>
                      <a:pt x="17" y="18"/>
                    </a:lnTo>
                    <a:lnTo>
                      <a:pt x="40" y="4"/>
                    </a:lnTo>
                    <a:lnTo>
                      <a:pt x="51" y="0"/>
                    </a:lnTo>
                    <a:lnTo>
                      <a:pt x="90" y="4"/>
                    </a:lnTo>
                    <a:lnTo>
                      <a:pt x="107" y="14"/>
                    </a:lnTo>
                    <a:lnTo>
                      <a:pt x="10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583000" y="3240000"/>
                <a:ext cx="81000" cy="55800"/>
              </a:xfrm>
              <a:custGeom>
                <a:avLst/>
                <a:gdLst/>
                <a:ahLst/>
                <a:rect l="l" t="t" r="r" b="b"/>
                <a:pathLst>
                  <a:path w="103" h="105">
                    <a:moveTo>
                      <a:pt x="103" y="16"/>
                    </a:moveTo>
                    <a:lnTo>
                      <a:pt x="103" y="22"/>
                    </a:lnTo>
                    <a:lnTo>
                      <a:pt x="93" y="33"/>
                    </a:lnTo>
                    <a:lnTo>
                      <a:pt x="60" y="40"/>
                    </a:lnTo>
                    <a:lnTo>
                      <a:pt x="30" y="72"/>
                    </a:lnTo>
                    <a:lnTo>
                      <a:pt x="27" y="98"/>
                    </a:lnTo>
                    <a:lnTo>
                      <a:pt x="16" y="105"/>
                    </a:lnTo>
                    <a:lnTo>
                      <a:pt x="9" y="105"/>
                    </a:lnTo>
                    <a:lnTo>
                      <a:pt x="0" y="90"/>
                    </a:lnTo>
                    <a:lnTo>
                      <a:pt x="3" y="57"/>
                    </a:lnTo>
                    <a:lnTo>
                      <a:pt x="20" y="29"/>
                    </a:lnTo>
                    <a:lnTo>
                      <a:pt x="50" y="4"/>
                    </a:lnTo>
                    <a:lnTo>
                      <a:pt x="63" y="0"/>
                    </a:lnTo>
                    <a:lnTo>
                      <a:pt x="93" y="4"/>
                    </a:lnTo>
                    <a:lnTo>
                      <a:pt x="103" y="16"/>
                    </a:lnTo>
                    <a:lnTo>
                      <a:pt x="10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457360" y="324648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117" h="86">
                    <a:moveTo>
                      <a:pt x="110" y="10"/>
                    </a:moveTo>
                    <a:lnTo>
                      <a:pt x="117" y="17"/>
                    </a:lnTo>
                    <a:lnTo>
                      <a:pt x="117" y="28"/>
                    </a:lnTo>
                    <a:lnTo>
                      <a:pt x="110" y="35"/>
                    </a:lnTo>
                    <a:lnTo>
                      <a:pt x="47" y="38"/>
                    </a:lnTo>
                    <a:lnTo>
                      <a:pt x="27" y="60"/>
                    </a:lnTo>
                    <a:lnTo>
                      <a:pt x="27" y="78"/>
                    </a:lnTo>
                    <a:lnTo>
                      <a:pt x="20" y="86"/>
                    </a:lnTo>
                    <a:lnTo>
                      <a:pt x="7" y="86"/>
                    </a:lnTo>
                    <a:lnTo>
                      <a:pt x="0" y="74"/>
                    </a:lnTo>
                    <a:lnTo>
                      <a:pt x="3" y="43"/>
                    </a:lnTo>
                    <a:lnTo>
                      <a:pt x="13" y="24"/>
                    </a:lnTo>
                    <a:lnTo>
                      <a:pt x="47" y="0"/>
                    </a:lnTo>
                    <a:lnTo>
                      <a:pt x="101" y="4"/>
                    </a:lnTo>
                    <a:lnTo>
                      <a:pt x="110" y="10"/>
                    </a:lnTo>
                    <a:lnTo>
                      <a:pt x="11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858960" y="1971720"/>
              <a:ext cx="318132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992880" y="1952640"/>
              <a:ext cx="264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Comic Sans MS"/>
                </a:rPr>
                <a:t>Remember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2362320" y="6094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971800" y="236052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905120" y="333684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– 2x +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352680" y="4265640"/>
            <a:ext cx="24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r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905120" y="524196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2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5x -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513360" y="1355040"/>
            <a:ext cx="3152520" cy="1231200"/>
            <a:chOff x="513360" y="1355040"/>
            <a:chExt cx="3152520" cy="1231200"/>
          </a:xfrm>
        </p:grpSpPr>
        <p:sp>
          <p:nvSpPr>
            <p:cNvPr id="747" name=""/>
            <p:cNvSpPr/>
            <p:nvPr/>
          </p:nvSpPr>
          <p:spPr>
            <a:xfrm rot="20897400">
              <a:off x="560520" y="1676160"/>
              <a:ext cx="3022560" cy="609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20897400">
              <a:off x="533520" y="1665000"/>
              <a:ext cx="311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6400800" y="54547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248520" y="35370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tt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590920" y="6094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905120" y="134604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2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5x – 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676520" y="235116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 (3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– 2x + 4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905120" y="3327480"/>
            <a:ext cx="533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95320" y="3613320"/>
            <a:ext cx="7353360" cy="18406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rite additive inverse of each 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dd lik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6" name=""/>
          <p:cNvCxnSpPr>
            <a:stCxn id="755" idx="3"/>
            <a:endCxn id="753" idx="3"/>
          </p:cNvCxnSpPr>
          <p:nvPr/>
        </p:nvCxnSpPr>
        <p:spPr>
          <a:xfrm flipH="1" flipV="1">
            <a:off x="7009560" y="2763000"/>
            <a:ext cx="1258200" cy="1786680"/>
          </a:xfrm>
          <a:prstGeom prst="curvedConnector5">
            <a:avLst>
              <a:gd name="adj1" fmla="val -16657"/>
              <a:gd name="adj2" fmla="val 50000"/>
              <a:gd name="adj3" fmla="val -1665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500"/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2362320" y="6094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905120" y="182880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2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5x – 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676520" y="283356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 (3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– 2x + 4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05120" y="3809880"/>
            <a:ext cx="533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447920" y="2819520"/>
            <a:ext cx="25146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+) –3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809880" y="2819520"/>
            <a:ext cx="15242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 2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286000" y="390060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00"/>
                </a:solidFill>
                <a:latin typeface="Comic Sans MS"/>
              </a:rPr>
              <a:t>–</a:t>
            </a:r>
            <a:r>
              <a:rPr b="0" lang="en-US" sz="6000" spc="-1" strike="noStrike">
                <a:solidFill>
                  <a:srgbClr val="336600"/>
                </a:solidFill>
                <a:latin typeface="Comic Sans MS"/>
              </a:rPr>
              <a:t>1x</a:t>
            </a:r>
            <a:r>
              <a:rPr b="0" lang="en-US" sz="60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733920" y="390060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00"/>
                </a:solidFill>
                <a:latin typeface="Comic Sans MS"/>
              </a:rPr>
              <a:t>+ 7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562720" y="38098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6600"/>
                </a:solidFill>
                <a:latin typeface="Comic Sans MS"/>
              </a:rPr>
              <a:t>-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5181480" y="2819520"/>
            <a:ext cx="2133720" cy="825120"/>
            <a:chOff x="5181480" y="2819520"/>
            <a:chExt cx="2133720" cy="825120"/>
          </a:xfrm>
        </p:grpSpPr>
        <p:sp>
          <p:nvSpPr>
            <p:cNvPr id="767" name=""/>
            <p:cNvSpPr/>
            <p:nvPr/>
          </p:nvSpPr>
          <p:spPr>
            <a:xfrm>
              <a:off x="5181480" y="2819520"/>
              <a:ext cx="137160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- 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553080" y="2819520"/>
              <a:ext cx="76212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 Sans MS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2514600" y="1793880"/>
            <a:ext cx="1600200" cy="198108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962520" y="1828800"/>
            <a:ext cx="1600200" cy="1981080"/>
          </a:xfrm>
          <a:prstGeom prst="ellipse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334120" y="1843200"/>
            <a:ext cx="1600200" cy="1981080"/>
          </a:xfrm>
          <a:prstGeom prst="ellipse">
            <a:avLst/>
          </a:pr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2362320" y="6094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09480" y="222408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18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– 17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10r + 5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990720" y="3000240"/>
            <a:ext cx="670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 (-6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5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- 6r   + 7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914400" y="4052880"/>
            <a:ext cx="7391520" cy="18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rite additive inverse of each 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dd lik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6" name=""/>
          <p:cNvCxnSpPr>
            <a:stCxn id="775" idx="3"/>
            <a:endCxn id="774" idx="3"/>
          </p:cNvCxnSpPr>
          <p:nvPr/>
        </p:nvCxnSpPr>
        <p:spPr>
          <a:xfrm flipH="1" flipV="1">
            <a:off x="7695720" y="3412800"/>
            <a:ext cx="610560" cy="1558080"/>
          </a:xfrm>
          <a:prstGeom prst="curvedConnector5">
            <a:avLst>
              <a:gd name="adj1" fmla="val -37463"/>
              <a:gd name="adj2" fmla="val 49988"/>
              <a:gd name="adj3" fmla="val -3746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77" name=""/>
          <p:cNvGrpSpPr/>
          <p:nvPr/>
        </p:nvGrpSpPr>
        <p:grpSpPr>
          <a:xfrm>
            <a:off x="389520" y="1137600"/>
            <a:ext cx="3152520" cy="1141200"/>
            <a:chOff x="389520" y="1137600"/>
            <a:chExt cx="3152520" cy="1141200"/>
          </a:xfrm>
        </p:grpSpPr>
        <p:sp>
          <p:nvSpPr>
            <p:cNvPr id="778" name=""/>
            <p:cNvSpPr/>
            <p:nvPr/>
          </p:nvSpPr>
          <p:spPr>
            <a:xfrm rot="20897400">
              <a:off x="420840" y="1455840"/>
              <a:ext cx="3022560" cy="4489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20897400">
              <a:off x="409680" y="1447560"/>
              <a:ext cx="311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838080" y="4038480"/>
            <a:ext cx="7543800" cy="1981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5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500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2832120" y="1600200"/>
            <a:ext cx="1130040" cy="1066680"/>
            <a:chOff x="2832120" y="1600200"/>
            <a:chExt cx="1130040" cy="1066680"/>
          </a:xfrm>
        </p:grpSpPr>
        <p:sp>
          <p:nvSpPr>
            <p:cNvPr id="173" name=""/>
            <p:cNvSpPr/>
            <p:nvPr/>
          </p:nvSpPr>
          <p:spPr>
            <a:xfrm>
              <a:off x="2832120" y="1600200"/>
              <a:ext cx="1130040" cy="10666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74040" y="1905120"/>
              <a:ext cx="16128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60720" y="2260440"/>
              <a:ext cx="659160" cy="177840"/>
            </a:xfrm>
            <a:custGeom>
              <a:avLst/>
              <a:gdLst/>
              <a:ahLst/>
              <a:rect l="l" t="t" r="r" b="b"/>
              <a:pathLst>
                <a:path w="392" h="112">
                  <a:moveTo>
                    <a:pt x="24" y="16"/>
                  </a:moveTo>
                  <a:cubicBezTo>
                    <a:pt x="48" y="0"/>
                    <a:pt x="328" y="0"/>
                    <a:pt x="360" y="16"/>
                  </a:cubicBezTo>
                  <a:cubicBezTo>
                    <a:pt x="392" y="32"/>
                    <a:pt x="280" y="112"/>
                    <a:pt x="216" y="112"/>
                  </a:cubicBezTo>
                  <a:cubicBezTo>
                    <a:pt x="152" y="112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77960" y="1905120"/>
              <a:ext cx="16164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505320" y="4648320"/>
            <a:ext cx="1066680" cy="1066680"/>
            <a:chOff x="3505320" y="4648320"/>
            <a:chExt cx="1066680" cy="1066680"/>
          </a:xfrm>
        </p:grpSpPr>
        <p:sp>
          <p:nvSpPr>
            <p:cNvPr id="178" name=""/>
            <p:cNvSpPr/>
            <p:nvPr/>
          </p:nvSpPr>
          <p:spPr>
            <a:xfrm>
              <a:off x="3505320" y="4648320"/>
              <a:ext cx="1066680" cy="1066680"/>
            </a:xfrm>
            <a:prstGeom prst="ellipse">
              <a:avLst/>
            </a:prstGeom>
            <a:solidFill>
              <a:srgbClr val="00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33920" y="4953240"/>
              <a:ext cx="15228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14800" y="4953240"/>
              <a:ext cx="15264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57600" y="5257800"/>
              <a:ext cx="762120" cy="381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81640" y="4953240"/>
              <a:ext cx="914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019920" y="4567320"/>
            <a:ext cx="1066680" cy="1066680"/>
            <a:chOff x="6019920" y="4567320"/>
            <a:chExt cx="1066680" cy="1066680"/>
          </a:xfrm>
        </p:grpSpPr>
        <p:sp>
          <p:nvSpPr>
            <p:cNvPr id="184" name=""/>
            <p:cNvSpPr/>
            <p:nvPr/>
          </p:nvSpPr>
          <p:spPr>
            <a:xfrm>
              <a:off x="6019920" y="4567320"/>
              <a:ext cx="1066680" cy="106668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48160" y="4872240"/>
              <a:ext cx="15228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29400" y="4872240"/>
              <a:ext cx="15192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10360" y="5253120"/>
              <a:ext cx="609120" cy="177840"/>
            </a:xfrm>
            <a:custGeom>
              <a:avLst/>
              <a:gdLst/>
              <a:ahLst/>
              <a:rect l="l" t="t" r="r" b="b"/>
              <a:pathLst>
                <a:path w="384" h="112">
                  <a:moveTo>
                    <a:pt x="24" y="96"/>
                  </a:moveTo>
                  <a:cubicBezTo>
                    <a:pt x="0" y="80"/>
                    <a:pt x="160" y="0"/>
                    <a:pt x="216" y="0"/>
                  </a:cubicBezTo>
                  <a:cubicBezTo>
                    <a:pt x="272" y="0"/>
                    <a:pt x="384" y="80"/>
                    <a:pt x="360" y="96"/>
                  </a:cubicBezTo>
                  <a:cubicBezTo>
                    <a:pt x="336" y="112"/>
                    <a:pt x="48" y="112"/>
                    <a:pt x="24" y="96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495680" y="3733920"/>
            <a:ext cx="16765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663480"/>
            <a:ext cx="16765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3505320"/>
            <a:ext cx="7620120" cy="3581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662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Comic Sans MS"/>
              </a:rPr>
              <a:t>Adding Polynomials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2362320" y="6094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09480" y="182880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18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– 17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10r + 5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80880" y="275760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 (-6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5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- 6r + 7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914400" y="2743200"/>
            <a:ext cx="2438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+) +6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990720" y="3657600"/>
            <a:ext cx="7010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00400" y="2743200"/>
            <a:ext cx="16002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 5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876920" y="2743200"/>
            <a:ext cx="14475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 6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324480" y="2743200"/>
            <a:ext cx="18288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 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990720" y="373392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24r</a:t>
            </a:r>
            <a:r>
              <a:rPr b="0" lang="en-US" sz="5400" spc="-1" strike="noStrike" baseline="30000">
                <a:solidFill>
                  <a:srgbClr val="336600"/>
                </a:solidFill>
                <a:latin typeface="Comic Sans MS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743200" y="37339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- 22r</a:t>
            </a:r>
            <a:r>
              <a:rPr b="0" lang="en-US" sz="54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876920" y="37339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+ 16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705720" y="37339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- 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2590920" y="6094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38080" y="2438280"/>
            <a:ext cx="769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-8t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3t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4t – 5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09480" y="3367080"/>
            <a:ext cx="769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 (7t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3t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- 7t – 6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20897400">
            <a:off x="529920" y="1649160"/>
            <a:ext cx="2979720" cy="6094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rot="20897400">
            <a:off x="533520" y="1676160"/>
            <a:ext cx="306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2514600" y="6094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85800" y="198108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-8t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0t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3t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4t – 5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57200" y="290988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 (7t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+ 3t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        - 7t – 6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066680" y="373392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914400" y="4038480"/>
            <a:ext cx="7238880" cy="1840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rite additive inverse of each 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dd lik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3" name=""/>
          <p:cNvCxnSpPr>
            <a:endCxn id="800" idx="3"/>
          </p:cNvCxnSpPr>
          <p:nvPr/>
        </p:nvCxnSpPr>
        <p:spPr>
          <a:xfrm flipH="1" flipV="1" rot="5400000">
            <a:off x="7330680" y="4088880"/>
            <a:ext cx="1531080" cy="114840"/>
          </a:xfrm>
          <a:prstGeom prst="curvedConnector5">
            <a:avLst>
              <a:gd name="adj1" fmla="val 34642"/>
              <a:gd name="adj2" fmla="val 150000"/>
              <a:gd name="adj3" fmla="val 3464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2514600" y="6094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198108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-8t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0t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3t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4t – 5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57200" y="290988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 (7t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3t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0t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 7t – 6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85800" y="2971800"/>
            <a:ext cx="16765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7t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209680" y="2971800"/>
            <a:ext cx="16765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 3t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809880" y="2971800"/>
            <a:ext cx="16765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 0t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2971800"/>
            <a:ext cx="13716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 7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705720" y="2971800"/>
            <a:ext cx="16002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85800" y="388620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62120" y="396252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-15t</a:t>
            </a:r>
            <a:r>
              <a:rPr b="0" lang="en-US" sz="5400" spc="-1" strike="noStrike" baseline="30000">
                <a:solidFill>
                  <a:srgbClr val="336600"/>
                </a:solidFill>
                <a:latin typeface="Comic Sans MS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286000" y="396252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- 3t</a:t>
            </a:r>
            <a:r>
              <a:rPr b="0" lang="en-US" sz="5400" spc="-1" strike="noStrike" baseline="30000">
                <a:solidFill>
                  <a:srgbClr val="336600"/>
                </a:solidFill>
                <a:latin typeface="Comic Sans MS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809880" y="396252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+ 3t</a:t>
            </a:r>
            <a:r>
              <a:rPr b="0" lang="en-US" sz="5400" spc="-1" strike="noStrike" baseline="30000">
                <a:solidFill>
                  <a:srgbClr val="336600"/>
                </a:solidFill>
                <a:latin typeface="Comic Sans MS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334120" y="396252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+ 11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858000" y="39625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+ 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4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2666880" y="6094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85800" y="312408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3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8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7r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09480" y="4267080"/>
            <a:ext cx="769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 (2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4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6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066680" y="4267080"/>
            <a:ext cx="29718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+) –2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86200" y="4281480"/>
            <a:ext cx="22860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4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172200" y="4281480"/>
            <a:ext cx="21337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6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602280" y="1442160"/>
            <a:ext cx="3152520" cy="1231920"/>
            <a:chOff x="602280" y="1442160"/>
            <a:chExt cx="3152520" cy="1231920"/>
          </a:xfrm>
        </p:grpSpPr>
        <p:sp>
          <p:nvSpPr>
            <p:cNvPr id="825" name=""/>
            <p:cNvSpPr/>
            <p:nvPr/>
          </p:nvSpPr>
          <p:spPr>
            <a:xfrm rot="20897400">
              <a:off x="649080" y="1763640"/>
              <a:ext cx="3022560" cy="6098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20897400">
              <a:off x="622440" y="1752120"/>
              <a:ext cx="311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2514600" y="6094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85800" y="213372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3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8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7r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 0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33520" y="306216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 2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- 4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- 6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1905120" y="2957400"/>
            <a:ext cx="160020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2361960" y="2957400"/>
            <a:ext cx="114300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6324480" y="2957400"/>
            <a:ext cx="91440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2514600" y="6858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85800" y="213372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3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8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7r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 0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80880" y="306216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 2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- 4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0r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- 6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 flipV="1">
            <a:off x="1523160" y="3886200"/>
            <a:ext cx="2590920" cy="457200"/>
          </a:xfrm>
          <a:custGeom>
            <a:avLst/>
            <a:gdLst/>
            <a:ahLst/>
            <a:rect l="l" t="t" r="r" b="b"/>
            <a:pathLst>
              <a:path w="1728" h="280">
                <a:moveTo>
                  <a:pt x="0" y="280"/>
                </a:moveTo>
                <a:cubicBezTo>
                  <a:pt x="240" y="179"/>
                  <a:pt x="480" y="79"/>
                  <a:pt x="672" y="40"/>
                </a:cubicBezTo>
                <a:cubicBezTo>
                  <a:pt x="863" y="0"/>
                  <a:pt x="976" y="8"/>
                  <a:pt x="1152" y="40"/>
                </a:cubicBezTo>
                <a:cubicBezTo>
                  <a:pt x="1327" y="71"/>
                  <a:pt x="1631" y="199"/>
                  <a:pt x="1728" y="2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1219320" y="4191120"/>
            <a:ext cx="3200400" cy="761760"/>
          </a:xfrm>
          <a:custGeom>
            <a:avLst/>
            <a:gdLst/>
            <a:ahLst/>
            <a:rect l="l" t="t" r="r" b="b"/>
            <a:pathLst>
              <a:path w="1728" h="280">
                <a:moveTo>
                  <a:pt x="0" y="280"/>
                </a:moveTo>
                <a:cubicBezTo>
                  <a:pt x="240" y="179"/>
                  <a:pt x="480" y="79"/>
                  <a:pt x="672" y="40"/>
                </a:cubicBezTo>
                <a:cubicBezTo>
                  <a:pt x="863" y="0"/>
                  <a:pt x="976" y="8"/>
                  <a:pt x="1152" y="40"/>
                </a:cubicBezTo>
                <a:cubicBezTo>
                  <a:pt x="1327" y="71"/>
                  <a:pt x="1631" y="199"/>
                  <a:pt x="1728" y="2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9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2590920" y="6094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85800" y="213372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3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8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7r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 0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80880" y="306216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 4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- 2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0rs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- 6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85800" y="39625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80880" y="40528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-7r</a:t>
            </a:r>
            <a:r>
              <a:rPr b="0" lang="en-US" sz="54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s</a:t>
            </a:r>
            <a:r>
              <a:rPr b="0" lang="en-US" sz="5400" spc="-1" strike="noStrike" baseline="30000">
                <a:solidFill>
                  <a:srgbClr val="336600"/>
                </a:solidFill>
                <a:latin typeface="Comic Sans MS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362320" y="40384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+ 6r</a:t>
            </a:r>
            <a:r>
              <a:rPr b="0" lang="en-US" sz="5400" spc="-1" strike="noStrike" baseline="30000">
                <a:solidFill>
                  <a:srgbClr val="336600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s</a:t>
            </a:r>
            <a:r>
              <a:rPr b="0" lang="en-US" sz="54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648320" y="40384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+7rs</a:t>
            </a:r>
            <a:r>
              <a:rPr b="0" lang="en-US" sz="5400" spc="-1" strike="noStrike" baseline="30000">
                <a:solidFill>
                  <a:srgbClr val="336600"/>
                </a:solidFill>
                <a:latin typeface="Comic Sans MS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53080" y="40384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-6r</a:t>
            </a:r>
            <a:r>
              <a:rPr b="0" lang="en-US" sz="5400" spc="-1" strike="noStrike" baseline="30000">
                <a:solidFill>
                  <a:srgbClr val="336600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2514600" y="6094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848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914400" y="15685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209680" y="230364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360" indent="-46836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and subtract polynom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1"/>
          <a:stretch/>
        </p:blipFill>
        <p:spPr>
          <a:xfrm>
            <a:off x="3200400" y="3019320"/>
            <a:ext cx="4467240" cy="3381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2514600" y="6094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910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914400" y="15667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590920" y="2301840"/>
            <a:ext cx="579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360" indent="-46836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polynomials to solve problems involving the perimeter of geometric fig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9" name="" descr=""/>
          <p:cNvPicPr/>
          <p:nvPr/>
        </p:nvPicPr>
        <p:blipFill>
          <a:blip r:embed="rId1"/>
          <a:stretch/>
        </p:blipFill>
        <p:spPr>
          <a:xfrm>
            <a:off x="4724280" y="4038480"/>
            <a:ext cx="3581640" cy="228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362320" y="6094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914400" y="1523880"/>
            <a:ext cx="7238880" cy="1267560"/>
            <a:chOff x="914400" y="1523880"/>
            <a:chExt cx="7238880" cy="1267560"/>
          </a:xfrm>
        </p:grpSpPr>
        <p:grpSp>
          <p:nvGrpSpPr>
            <p:cNvPr id="193" name=""/>
            <p:cNvGrpSpPr/>
            <p:nvPr/>
          </p:nvGrpSpPr>
          <p:grpSpPr>
            <a:xfrm>
              <a:off x="914400" y="1600200"/>
              <a:ext cx="1828440" cy="1191240"/>
              <a:chOff x="914400" y="1600200"/>
              <a:chExt cx="1828440" cy="119124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1676160" y="1600200"/>
                <a:ext cx="1066680" cy="1066680"/>
                <a:chOff x="1676160" y="1600200"/>
                <a:chExt cx="1066680" cy="10666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676160" y="1600200"/>
                  <a:ext cx="1066680" cy="1066680"/>
                </a:xfrm>
                <a:prstGeom prst="ellipse">
                  <a:avLst/>
                </a:prstGeom>
                <a:solidFill>
                  <a:srgbClr val="00cc99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904760" y="1905120"/>
                  <a:ext cx="152280" cy="15228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892160" y="2260440"/>
                  <a:ext cx="622080" cy="177840"/>
                </a:xfrm>
                <a:custGeom>
                  <a:avLst/>
                  <a:gdLst/>
                  <a:ahLst/>
                  <a:rect l="l" t="t" r="r" b="b"/>
                  <a:pathLst>
                    <a:path w="392" h="112">
                      <a:moveTo>
                        <a:pt x="24" y="16"/>
                      </a:moveTo>
                      <a:cubicBezTo>
                        <a:pt x="48" y="0"/>
                        <a:pt x="328" y="0"/>
                        <a:pt x="360" y="16"/>
                      </a:cubicBezTo>
                      <a:cubicBezTo>
                        <a:pt x="392" y="32"/>
                        <a:pt x="280" y="112"/>
                        <a:pt x="216" y="112"/>
                      </a:cubicBezTo>
                      <a:cubicBezTo>
                        <a:pt x="152" y="112"/>
                        <a:pt x="0" y="32"/>
                        <a:pt x="24" y="1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285640" y="1905120"/>
                  <a:ext cx="152640" cy="15228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914400" y="1600200"/>
                <a:ext cx="83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2819160" y="1600200"/>
              <a:ext cx="2743200" cy="1191240"/>
              <a:chOff x="2819160" y="1600200"/>
              <a:chExt cx="2743200" cy="119124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4495680" y="1600200"/>
                <a:ext cx="1066680" cy="1066680"/>
                <a:chOff x="4495680" y="1600200"/>
                <a:chExt cx="1066680" cy="10666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4495680" y="1600200"/>
                  <a:ext cx="1066680" cy="1066680"/>
                </a:xfrm>
                <a:prstGeom prst="ellipse">
                  <a:avLst/>
                </a:prstGeom>
                <a:solidFill>
                  <a:srgbClr val="00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724280" y="1905120"/>
                  <a:ext cx="152280" cy="15228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105160" y="1905120"/>
                  <a:ext cx="152640" cy="15228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647960" y="2209680"/>
                  <a:ext cx="762120" cy="38124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572000" y="1905120"/>
                  <a:ext cx="91440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2819160" y="1600200"/>
                <a:ext cx="1676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000000"/>
                    </a:solidFill>
                    <a:latin typeface="Comic Sans MS"/>
                  </a:rPr>
                  <a:t>+ 2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5486400" y="1523880"/>
              <a:ext cx="2666880" cy="1267560"/>
              <a:chOff x="5486400" y="1523880"/>
              <a:chExt cx="2666880" cy="12675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7086600" y="1523880"/>
                <a:ext cx="1066680" cy="1066680"/>
                <a:chOff x="7086600" y="1523880"/>
                <a:chExt cx="1066680" cy="10666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7086600" y="1523880"/>
                  <a:ext cx="1066680" cy="1066680"/>
                </a:xfrm>
                <a:prstGeom prst="ellipse">
                  <a:avLst/>
                </a:prstGeom>
                <a:solidFill>
                  <a:srgbClr val="ffff66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314840" y="1828800"/>
                  <a:ext cx="152280" cy="15228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696080" y="1828800"/>
                  <a:ext cx="151920" cy="15228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277040" y="2209680"/>
                  <a:ext cx="609120" cy="177840"/>
                </a:xfrm>
                <a:custGeom>
                  <a:avLst/>
                  <a:gdLst/>
                  <a:ahLst/>
                  <a:rect l="l" t="t" r="r" b="b"/>
                  <a:pathLst>
                    <a:path w="384" h="112">
                      <a:moveTo>
                        <a:pt x="24" y="96"/>
                      </a:moveTo>
                      <a:cubicBezTo>
                        <a:pt x="0" y="80"/>
                        <a:pt x="160" y="0"/>
                        <a:pt x="216" y="0"/>
                      </a:cubicBezTo>
                      <a:cubicBezTo>
                        <a:pt x="272" y="0"/>
                        <a:pt x="384" y="80"/>
                        <a:pt x="360" y="96"/>
                      </a:cubicBezTo>
                      <a:cubicBezTo>
                        <a:pt x="336" y="112"/>
                        <a:pt x="48" y="112"/>
                        <a:pt x="24" y="9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486400" y="1600200"/>
                <a:ext cx="16761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000000"/>
                    </a:solidFill>
                    <a:latin typeface="Comic Sans MS"/>
                  </a:rPr>
                  <a:t>- 4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5" name=""/>
          <p:cNvGrpSpPr/>
          <p:nvPr/>
        </p:nvGrpSpPr>
        <p:grpSpPr>
          <a:xfrm>
            <a:off x="914400" y="3429000"/>
            <a:ext cx="7238880" cy="1267560"/>
            <a:chOff x="914400" y="3429000"/>
            <a:chExt cx="7238880" cy="1267560"/>
          </a:xfrm>
        </p:grpSpPr>
        <p:grpSp>
          <p:nvGrpSpPr>
            <p:cNvPr id="216" name=""/>
            <p:cNvGrpSpPr/>
            <p:nvPr/>
          </p:nvGrpSpPr>
          <p:grpSpPr>
            <a:xfrm>
              <a:off x="914400" y="3505320"/>
              <a:ext cx="1828440" cy="1191240"/>
              <a:chOff x="914400" y="3505320"/>
              <a:chExt cx="1828440" cy="119124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1676160" y="3505320"/>
                <a:ext cx="1066680" cy="1066680"/>
                <a:chOff x="1676160" y="3505320"/>
                <a:chExt cx="1066680" cy="10666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1676160" y="3505320"/>
                  <a:ext cx="1066680" cy="1066680"/>
                </a:xfrm>
                <a:prstGeom prst="ellipse">
                  <a:avLst/>
                </a:prstGeom>
                <a:solidFill>
                  <a:srgbClr val="00cc99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904760" y="3810240"/>
                  <a:ext cx="152280" cy="15228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892160" y="4165560"/>
                  <a:ext cx="622080" cy="177840"/>
                </a:xfrm>
                <a:custGeom>
                  <a:avLst/>
                  <a:gdLst/>
                  <a:ahLst/>
                  <a:rect l="l" t="t" r="r" b="b"/>
                  <a:pathLst>
                    <a:path w="392" h="112">
                      <a:moveTo>
                        <a:pt x="24" y="16"/>
                      </a:moveTo>
                      <a:cubicBezTo>
                        <a:pt x="48" y="0"/>
                        <a:pt x="328" y="0"/>
                        <a:pt x="360" y="16"/>
                      </a:cubicBezTo>
                      <a:cubicBezTo>
                        <a:pt x="392" y="32"/>
                        <a:pt x="280" y="112"/>
                        <a:pt x="216" y="112"/>
                      </a:cubicBezTo>
                      <a:cubicBezTo>
                        <a:pt x="152" y="112"/>
                        <a:pt x="0" y="32"/>
                        <a:pt x="24" y="1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285640" y="3810240"/>
                  <a:ext cx="152640" cy="15228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" name=""/>
              <p:cNvSpPr/>
              <p:nvPr/>
            </p:nvSpPr>
            <p:spPr>
              <a:xfrm>
                <a:off x="914400" y="3505320"/>
                <a:ext cx="83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2819160" y="3505320"/>
              <a:ext cx="2743200" cy="1191240"/>
              <a:chOff x="2819160" y="3505320"/>
              <a:chExt cx="2743200" cy="119124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4495680" y="3505320"/>
                <a:ext cx="1066680" cy="1066680"/>
                <a:chOff x="4495680" y="3505320"/>
                <a:chExt cx="1066680" cy="10666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4495680" y="3505320"/>
                  <a:ext cx="1066680" cy="1066680"/>
                </a:xfrm>
                <a:prstGeom prst="ellipse">
                  <a:avLst/>
                </a:prstGeom>
                <a:solidFill>
                  <a:srgbClr val="0066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724280" y="3810240"/>
                  <a:ext cx="152280" cy="15228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105160" y="3810240"/>
                  <a:ext cx="152640" cy="15228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647960" y="4114800"/>
                  <a:ext cx="762120" cy="38124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572000" y="3810240"/>
                  <a:ext cx="91440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2819160" y="3505320"/>
                <a:ext cx="1676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000000"/>
                    </a:solidFill>
                    <a:latin typeface="Comic Sans MS"/>
                  </a:rPr>
                  <a:t>+ 6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5486400" y="3429000"/>
              <a:ext cx="2666880" cy="1267560"/>
              <a:chOff x="5486400" y="3429000"/>
              <a:chExt cx="2666880" cy="1267560"/>
            </a:xfrm>
          </p:grpSpPr>
          <p:grpSp>
            <p:nvGrpSpPr>
              <p:cNvPr id="232" name=""/>
              <p:cNvGrpSpPr/>
              <p:nvPr/>
            </p:nvGrpSpPr>
            <p:grpSpPr>
              <a:xfrm>
                <a:off x="7086600" y="3429000"/>
                <a:ext cx="1066680" cy="1066680"/>
                <a:chOff x="7086600" y="3429000"/>
                <a:chExt cx="1066680" cy="10666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7086600" y="3429000"/>
                  <a:ext cx="1066680" cy="1066680"/>
                </a:xfrm>
                <a:prstGeom prst="ellipse">
                  <a:avLst/>
                </a:prstGeom>
                <a:solidFill>
                  <a:srgbClr val="ffff66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314840" y="3733920"/>
                  <a:ext cx="152280" cy="15228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696080" y="3733920"/>
                  <a:ext cx="151920" cy="152280"/>
                </a:xfrm>
                <a:prstGeom prst="flowChartConnec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277040" y="4114800"/>
                  <a:ext cx="609120" cy="177840"/>
                </a:xfrm>
                <a:custGeom>
                  <a:avLst/>
                  <a:gdLst/>
                  <a:ahLst/>
                  <a:rect l="l" t="t" r="r" b="b"/>
                  <a:pathLst>
                    <a:path w="384" h="112">
                      <a:moveTo>
                        <a:pt x="24" y="96"/>
                      </a:moveTo>
                      <a:cubicBezTo>
                        <a:pt x="0" y="80"/>
                        <a:pt x="160" y="0"/>
                        <a:pt x="216" y="0"/>
                      </a:cubicBezTo>
                      <a:cubicBezTo>
                        <a:pt x="272" y="0"/>
                        <a:pt x="384" y="80"/>
                        <a:pt x="360" y="96"/>
                      </a:cubicBezTo>
                      <a:cubicBezTo>
                        <a:pt x="336" y="112"/>
                        <a:pt x="48" y="112"/>
                        <a:pt x="24" y="9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5486400" y="3505320"/>
                <a:ext cx="16761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000000"/>
                    </a:solidFill>
                    <a:latin typeface="Comic Sans MS"/>
                  </a:rPr>
                  <a:t>+ 8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8" name=""/>
          <p:cNvGrpSpPr/>
          <p:nvPr/>
        </p:nvGrpSpPr>
        <p:grpSpPr>
          <a:xfrm>
            <a:off x="914400" y="5135400"/>
            <a:ext cx="1828440" cy="1191240"/>
            <a:chOff x="914400" y="5135400"/>
            <a:chExt cx="1828440" cy="1191240"/>
          </a:xfrm>
        </p:grpSpPr>
        <p:grpSp>
          <p:nvGrpSpPr>
            <p:cNvPr id="239" name=""/>
            <p:cNvGrpSpPr/>
            <p:nvPr/>
          </p:nvGrpSpPr>
          <p:grpSpPr>
            <a:xfrm>
              <a:off x="1676160" y="5135400"/>
              <a:ext cx="1066680" cy="1066680"/>
              <a:chOff x="1676160" y="5135400"/>
              <a:chExt cx="1066680" cy="1066680"/>
            </a:xfrm>
          </p:grpSpPr>
          <p:sp>
            <p:nvSpPr>
              <p:cNvPr id="240" name=""/>
              <p:cNvSpPr/>
              <p:nvPr/>
            </p:nvSpPr>
            <p:spPr>
              <a:xfrm>
                <a:off x="1676160" y="5135400"/>
                <a:ext cx="1066680" cy="1066680"/>
              </a:xfrm>
              <a:prstGeom prst="ellipse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904760" y="5440320"/>
                <a:ext cx="152280" cy="15228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892160" y="5795640"/>
                <a:ext cx="622080" cy="177840"/>
              </a:xfrm>
              <a:custGeom>
                <a:avLst/>
                <a:gdLst/>
                <a:ahLst/>
                <a:rect l="l" t="t" r="r" b="b"/>
                <a:pathLst>
                  <a:path w="392" h="112">
                    <a:moveTo>
                      <a:pt x="24" y="16"/>
                    </a:moveTo>
                    <a:cubicBezTo>
                      <a:pt x="48" y="0"/>
                      <a:pt x="328" y="0"/>
                      <a:pt x="360" y="16"/>
                    </a:cubicBezTo>
                    <a:cubicBezTo>
                      <a:pt x="392" y="32"/>
                      <a:pt x="280" y="112"/>
                      <a:pt x="216" y="112"/>
                    </a:cubicBezTo>
                    <a:cubicBezTo>
                      <a:pt x="152" y="112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285640" y="5440320"/>
                <a:ext cx="152640" cy="15228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914400" y="5135400"/>
              <a:ext cx="83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819520" y="5135400"/>
            <a:ext cx="2743200" cy="1191240"/>
            <a:chOff x="2819520" y="5135400"/>
            <a:chExt cx="2743200" cy="1191240"/>
          </a:xfrm>
        </p:grpSpPr>
        <p:grpSp>
          <p:nvGrpSpPr>
            <p:cNvPr id="246" name=""/>
            <p:cNvGrpSpPr/>
            <p:nvPr/>
          </p:nvGrpSpPr>
          <p:grpSpPr>
            <a:xfrm>
              <a:off x="4496040" y="5135400"/>
              <a:ext cx="1066680" cy="1066680"/>
              <a:chOff x="4496040" y="5135400"/>
              <a:chExt cx="1066680" cy="1066680"/>
            </a:xfrm>
          </p:grpSpPr>
          <p:sp>
            <p:nvSpPr>
              <p:cNvPr id="247" name=""/>
              <p:cNvSpPr/>
              <p:nvPr/>
            </p:nvSpPr>
            <p:spPr>
              <a:xfrm>
                <a:off x="4496040" y="5135400"/>
                <a:ext cx="1066680" cy="1066680"/>
              </a:xfrm>
              <a:prstGeom prst="ellipse">
                <a:avLst/>
              </a:prstGeom>
              <a:solidFill>
                <a:srgbClr val="0066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24640" y="5440320"/>
                <a:ext cx="152280" cy="15228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05520" y="5440320"/>
                <a:ext cx="152640" cy="15228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648320" y="5744880"/>
                <a:ext cx="762120" cy="381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572360" y="5440320"/>
                <a:ext cx="9144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2819520" y="513540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+ 8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486400" y="5059440"/>
            <a:ext cx="2666880" cy="1267200"/>
            <a:chOff x="5486400" y="5059440"/>
            <a:chExt cx="2666880" cy="1267200"/>
          </a:xfrm>
        </p:grpSpPr>
        <p:grpSp>
          <p:nvGrpSpPr>
            <p:cNvPr id="254" name=""/>
            <p:cNvGrpSpPr/>
            <p:nvPr/>
          </p:nvGrpSpPr>
          <p:grpSpPr>
            <a:xfrm>
              <a:off x="7086600" y="5059440"/>
              <a:ext cx="1066680" cy="1066680"/>
              <a:chOff x="7086600" y="5059440"/>
              <a:chExt cx="1066680" cy="1066680"/>
            </a:xfrm>
          </p:grpSpPr>
          <p:sp>
            <p:nvSpPr>
              <p:cNvPr id="255" name=""/>
              <p:cNvSpPr/>
              <p:nvPr/>
            </p:nvSpPr>
            <p:spPr>
              <a:xfrm>
                <a:off x="7086600" y="5059440"/>
                <a:ext cx="1066680" cy="1066680"/>
              </a:xfrm>
              <a:prstGeom prst="ellipse">
                <a:avLst/>
              </a:prstGeom>
              <a:solidFill>
                <a:srgbClr val="ff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314840" y="5364360"/>
                <a:ext cx="152280" cy="15228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696080" y="5364360"/>
                <a:ext cx="151920" cy="15228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277040" y="5745240"/>
                <a:ext cx="609120" cy="177840"/>
              </a:xfrm>
              <a:custGeom>
                <a:avLst/>
                <a:gdLst/>
                <a:ahLst/>
                <a:rect l="l" t="t" r="r" b="b"/>
                <a:pathLst>
                  <a:path w="384" h="112">
                    <a:moveTo>
                      <a:pt x="24" y="96"/>
                    </a:moveTo>
                    <a:cubicBezTo>
                      <a:pt x="0" y="80"/>
                      <a:pt x="160" y="0"/>
                      <a:pt x="216" y="0"/>
                    </a:cubicBezTo>
                    <a:cubicBezTo>
                      <a:pt x="272" y="0"/>
                      <a:pt x="384" y="80"/>
                      <a:pt x="360" y="96"/>
                    </a:cubicBezTo>
                    <a:cubicBezTo>
                      <a:pt x="336" y="112"/>
                      <a:pt x="48" y="112"/>
                      <a:pt x="24" y="96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5486400" y="513540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+ 4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09480" y="3608280"/>
            <a:ext cx="7772400" cy="1268640"/>
            <a:chOff x="609480" y="3608280"/>
            <a:chExt cx="7772400" cy="1268640"/>
          </a:xfrm>
        </p:grpSpPr>
        <p:sp>
          <p:nvSpPr>
            <p:cNvPr id="261" name=""/>
            <p:cNvSpPr/>
            <p:nvPr/>
          </p:nvSpPr>
          <p:spPr>
            <a:xfrm>
              <a:off x="609480" y="3608280"/>
              <a:ext cx="533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9480" y="487692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4038480" cy="3027240"/>
          </a:xfrm>
          <a:prstGeom prst="rect">
            <a:avLst/>
          </a:prstGeom>
          <a:ln w="0">
            <a:noFill/>
          </a:ln>
        </p:spPr>
      </p:pic>
      <p:grpSp>
        <p:nvGrpSpPr>
          <p:cNvPr id="971" name=""/>
          <p:cNvGrpSpPr/>
          <p:nvPr/>
        </p:nvGrpSpPr>
        <p:grpSpPr>
          <a:xfrm>
            <a:off x="1218240" y="1676520"/>
            <a:ext cx="5716080" cy="3809880"/>
            <a:chOff x="1218240" y="1676520"/>
            <a:chExt cx="5716080" cy="3809880"/>
          </a:xfrm>
        </p:grpSpPr>
        <p:sp>
          <p:nvSpPr>
            <p:cNvPr id="972" name=""/>
            <p:cNvSpPr/>
            <p:nvPr/>
          </p:nvSpPr>
          <p:spPr>
            <a:xfrm>
              <a:off x="4876920" y="1676520"/>
              <a:ext cx="20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Next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3" name=""/>
            <p:cNvGrpSpPr/>
            <p:nvPr/>
          </p:nvGrpSpPr>
          <p:grpSpPr>
            <a:xfrm>
              <a:off x="1218240" y="4419720"/>
              <a:ext cx="2058120" cy="1066680"/>
              <a:chOff x="1218240" y="4419720"/>
              <a:chExt cx="2058120" cy="1066680"/>
            </a:xfrm>
          </p:grpSpPr>
          <p:cxnSp>
            <p:nvCxnSpPr>
              <p:cNvPr id="974" name=""/>
              <p:cNvCxnSpPr/>
              <p:nvPr/>
            </p:nvCxnSpPr>
            <p:spPr>
              <a:xfrm flipH="1" rot="16200000">
                <a:off x="1713600" y="3924000"/>
                <a:ext cx="1067040" cy="2057760"/>
              </a:xfrm>
              <a:prstGeom prst="curved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975" name=""/>
              <p:cNvSpPr/>
              <p:nvPr/>
            </p:nvSpPr>
            <p:spPr>
              <a:xfrm>
                <a:off x="2826720" y="5479560"/>
                <a:ext cx="449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76" name="" descr=""/>
          <p:cNvPicPr/>
          <p:nvPr/>
        </p:nvPicPr>
        <p:blipFill>
          <a:blip r:embed="rId2"/>
          <a:stretch/>
        </p:blipFill>
        <p:spPr>
          <a:xfrm>
            <a:off x="3276720" y="2479680"/>
            <a:ext cx="5181480" cy="38782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0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590920" y="6094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22096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add one polynomial to anoth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84520" y="1386000"/>
            <a:ext cx="14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R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914400" y="3276720"/>
            <a:ext cx="7315200" cy="2799000"/>
            <a:chOff x="914400" y="3276720"/>
            <a:chExt cx="7315200" cy="2799000"/>
          </a:xfrm>
        </p:grpSpPr>
        <p:sp>
          <p:nvSpPr>
            <p:cNvPr id="267" name=""/>
            <p:cNvSpPr/>
            <p:nvPr/>
          </p:nvSpPr>
          <p:spPr>
            <a:xfrm>
              <a:off x="914400" y="3276720"/>
              <a:ext cx="7315200" cy="279900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68360" indent="-290520">
                <a:lnSpc>
                  <a:spcPct val="100000"/>
                </a:lnSpc>
                <a:spcBef>
                  <a:spcPts val="1049"/>
                </a:spcBef>
                <a:buClr>
                  <a:srgbClr val="3333cc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Comic Sans MS"/>
                </a:rPr>
                <a:t>put each polynomial in descending order of degre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68360" indent="-290520">
                <a:lnSpc>
                  <a:spcPct val="100000"/>
                </a:lnSpc>
                <a:spcBef>
                  <a:spcPts val="1049"/>
                </a:spcBef>
                <a:buClr>
                  <a:srgbClr val="3333cc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68360" indent="-290520" algn="ctr">
                <a:lnSpc>
                  <a:spcPct val="100000"/>
                </a:lnSpc>
                <a:spcBef>
                  <a:spcPts val="524"/>
                </a:spcBef>
                <a:buClr>
                  <a:srgbClr val="3333cc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68360" indent="-290520" algn="ctr">
                <a:lnSpc>
                  <a:spcPct val="100000"/>
                </a:lnSpc>
                <a:spcBef>
                  <a:spcPts val="524"/>
                </a:spcBef>
                <a:buClr>
                  <a:srgbClr val="3333cc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68360" indent="-290520" algn="ctr">
                <a:lnSpc>
                  <a:spcPct val="100000"/>
                </a:lnSpc>
                <a:spcBef>
                  <a:spcPts val="524"/>
                </a:spcBef>
                <a:buClr>
                  <a:srgbClr val="3333cc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68360" indent="-290520" algn="ctr">
                <a:lnSpc>
                  <a:spcPct val="100000"/>
                </a:lnSpc>
                <a:spcBef>
                  <a:spcPts val="524"/>
                </a:spcBef>
                <a:buClr>
                  <a:srgbClr val="3333cc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05320" y="3733920"/>
              <a:ext cx="1022400" cy="655560"/>
            </a:xfrm>
            <a:custGeom>
              <a:avLst/>
              <a:gdLst>
                <a:gd name="textAreaLeft" fmla="*/ 159480 w 1022400"/>
                <a:gd name="textAreaRight" fmla="*/ 894600 w 1022400"/>
                <a:gd name="textAreaTop" fmla="*/ 163800 h 655560"/>
                <a:gd name="textAreaBottom" fmla="*/ 491760 h 65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990720" y="434340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 coefficients of each term in the second polynomial to the like term in the first polynom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124080" y="5335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2120" y="185904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6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+ 5x</a:t>
            </a:r>
            <a:r>
              <a:rPr b="0" lang="en-US" sz="6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+ 2x + 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338292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7x</a:t>
            </a:r>
            <a:r>
              <a:rPr b="0" lang="en-US" sz="6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- 3x</a:t>
            </a:r>
            <a:r>
              <a:rPr b="0" lang="en-US" sz="6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+ 2x - 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76520" y="4832280"/>
            <a:ext cx="5333760" cy="1978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334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dentify like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334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 like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334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ending order of de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814400"/>
            <a:ext cx="1676520" cy="137160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3262320"/>
            <a:ext cx="1676520" cy="129528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1814400"/>
            <a:ext cx="1752840" cy="13716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3262320"/>
            <a:ext cx="1752840" cy="13716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1890720"/>
            <a:ext cx="1371600" cy="121932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3338640"/>
            <a:ext cx="1371600" cy="129528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15200" y="1967040"/>
            <a:ext cx="914400" cy="1066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315200" y="3490920"/>
            <a:ext cx="914400" cy="1066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62520" y="1008000"/>
            <a:ext cx="2726640" cy="995760"/>
            <a:chOff x="362520" y="1008000"/>
            <a:chExt cx="2726640" cy="995760"/>
          </a:xfrm>
        </p:grpSpPr>
        <p:sp>
          <p:nvSpPr>
            <p:cNvPr id="283" name=""/>
            <p:cNvSpPr/>
            <p:nvPr/>
          </p:nvSpPr>
          <p:spPr>
            <a:xfrm rot="20897400">
              <a:off x="434520" y="1352520"/>
              <a:ext cx="2535480" cy="3859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20897400">
              <a:off x="380880" y="127584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7162920" y="5776920"/>
            <a:ext cx="1143000" cy="55728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9320 h 557280"/>
              <a:gd name="textAreaBottom" fmla="*/ 417960 h 55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048120" y="6094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178272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6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+ 5x</a:t>
            </a:r>
            <a:r>
              <a:rPr b="0" lang="en-US" sz="6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+ 2x + 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330660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7x</a:t>
            </a:r>
            <a:r>
              <a:rPr b="0" lang="en-US" sz="6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- 3x</a:t>
            </a:r>
            <a:r>
              <a:rPr b="0" lang="en-US" sz="6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+ 2x - 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2544840"/>
            <a:ext cx="60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57600" y="2544840"/>
            <a:ext cx="60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2544840"/>
            <a:ext cx="60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67480" y="2544840"/>
            <a:ext cx="60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452592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6600"/>
                </a:solidFill>
                <a:latin typeface="Comic Sans MS"/>
              </a:rPr>
              <a:t>10x</a:t>
            </a:r>
            <a:r>
              <a:rPr b="0" lang="en-US" sz="6600" spc="-1" strike="noStrike" baseline="30000">
                <a:solidFill>
                  <a:srgbClr val="336600"/>
                </a:solidFill>
                <a:latin typeface="Comic Sans MS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43290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4525920"/>
            <a:ext cx="243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6600"/>
                </a:solidFill>
                <a:latin typeface="Comic Sans MS"/>
              </a:rPr>
              <a:t>+ 2x</a:t>
            </a:r>
            <a:r>
              <a:rPr b="0" lang="en-US" sz="66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4525920"/>
            <a:ext cx="243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6600"/>
                </a:solidFill>
                <a:latin typeface="Comic Sans MS"/>
              </a:rPr>
              <a:t>+ 4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452592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6600"/>
                </a:solidFill>
                <a:latin typeface="Comic Sans MS"/>
              </a:rPr>
              <a:t>- 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352680" y="5335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26161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3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– 2x + 1) + (-8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5x –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14400" y="1752480"/>
            <a:ext cx="68580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62320" y="1752480"/>
            <a:ext cx="68580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29000" y="1752480"/>
            <a:ext cx="68580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5520" y="1752480"/>
            <a:ext cx="68580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629400" y="1752480"/>
            <a:ext cx="68580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96080" y="1752480"/>
            <a:ext cx="68580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90560" y="406872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6600"/>
                </a:solidFill>
                <a:latin typeface="Comic Sans MS"/>
              </a:rPr>
              <a:t>-5x</a:t>
            </a:r>
            <a:r>
              <a:rPr b="0" lang="en-US" sz="72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657600" y="406404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6600"/>
                </a:solidFill>
                <a:latin typeface="Comic Sans MS"/>
              </a:rPr>
              <a:t>+ 3x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62720" y="4064040"/>
            <a:ext cx="189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6600"/>
                </a:solidFill>
                <a:latin typeface="Comic Sans MS"/>
              </a:rPr>
              <a:t>- 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299960" y="3266640"/>
            <a:ext cx="3957840" cy="568440"/>
            <a:chOff x="1299960" y="3266640"/>
            <a:chExt cx="3957840" cy="568440"/>
          </a:xfrm>
        </p:grpSpPr>
        <p:cxnSp>
          <p:nvCxnSpPr>
            <p:cNvPr id="310" name=""/>
            <p:cNvCxnSpPr>
              <a:endCxn id="300" idx="5"/>
            </p:cNvCxnSpPr>
            <p:nvPr/>
          </p:nvCxnSpPr>
          <p:spPr>
            <a:xfrm flipV="1" rot="16200000">
              <a:off x="2005200" y="2561040"/>
              <a:ext cx="568800" cy="1979280"/>
            </a:xfrm>
            <a:prstGeom prst="curvedConnector5">
              <a:avLst>
                <a:gd name="adj1" fmla="val 46421"/>
                <a:gd name="adj2" fmla="val 49990"/>
                <a:gd name="adj3" fmla="val 4642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" name=""/>
            <p:cNvCxnSpPr>
              <a:endCxn id="303" idx="3"/>
            </p:cNvCxnSpPr>
            <p:nvPr/>
          </p:nvCxnSpPr>
          <p:spPr>
            <a:xfrm flipH="1" flipV="1" rot="5400000">
              <a:off x="3983760" y="2561400"/>
              <a:ext cx="568800" cy="1979280"/>
            </a:xfrm>
            <a:prstGeom prst="curvedConnector5">
              <a:avLst>
                <a:gd name="adj1" fmla="val 46421"/>
                <a:gd name="adj2" fmla="val 49990"/>
                <a:gd name="adj3" fmla="val 4642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2" name=""/>
          <p:cNvGrpSpPr/>
          <p:nvPr/>
        </p:nvGrpSpPr>
        <p:grpSpPr>
          <a:xfrm>
            <a:off x="2909160" y="3177720"/>
            <a:ext cx="4025520" cy="657720"/>
            <a:chOff x="2909160" y="3177720"/>
            <a:chExt cx="4025520" cy="657720"/>
          </a:xfrm>
        </p:grpSpPr>
        <p:cxnSp>
          <p:nvCxnSpPr>
            <p:cNvPr id="313" name=""/>
            <p:cNvCxnSpPr>
              <a:endCxn id="301" idx="4"/>
            </p:cNvCxnSpPr>
            <p:nvPr/>
          </p:nvCxnSpPr>
          <p:spPr>
            <a:xfrm flipV="1" rot="16200000">
              <a:off x="3651840" y="2481840"/>
              <a:ext cx="611280" cy="209628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endCxn id="304" idx="3"/>
            </p:cNvCxnSpPr>
            <p:nvPr/>
          </p:nvCxnSpPr>
          <p:spPr>
            <a:xfrm flipH="1" flipV="1" rot="5400000">
              <a:off x="5640840" y="2541960"/>
              <a:ext cx="658080" cy="1929600"/>
            </a:xfrm>
            <a:prstGeom prst="curvedConnector5">
              <a:avLst>
                <a:gd name="adj1" fmla="val 46414"/>
                <a:gd name="adj2" fmla="val 49990"/>
                <a:gd name="adj3" fmla="val 46414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5" name=""/>
          <p:cNvGrpSpPr/>
          <p:nvPr/>
        </p:nvGrpSpPr>
        <p:grpSpPr>
          <a:xfrm>
            <a:off x="4128840" y="3377880"/>
            <a:ext cx="4246560" cy="457560"/>
            <a:chOff x="4128840" y="3377880"/>
            <a:chExt cx="4246560" cy="457560"/>
          </a:xfrm>
        </p:grpSpPr>
        <p:cxnSp>
          <p:nvCxnSpPr>
            <p:cNvPr id="316" name=""/>
            <p:cNvCxnSpPr>
              <a:endCxn id="302" idx="4"/>
            </p:cNvCxnSpPr>
            <p:nvPr/>
          </p:nvCxnSpPr>
          <p:spPr>
            <a:xfrm flipV="1" rot="16200000">
              <a:off x="4942800" y="2563560"/>
              <a:ext cx="457920" cy="2085840"/>
            </a:xfrm>
            <a:prstGeom prst="curvedConnector5">
              <a:avLst>
                <a:gd name="adj1" fmla="val 49960"/>
                <a:gd name="adj2" fmla="val 49991"/>
                <a:gd name="adj3" fmla="val 499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7" name=""/>
            <p:cNvCxnSpPr>
              <a:endCxn id="305" idx="4"/>
            </p:cNvCxnSpPr>
            <p:nvPr/>
          </p:nvCxnSpPr>
          <p:spPr>
            <a:xfrm flipH="1" flipV="1" rot="5400000">
              <a:off x="7065720" y="2525760"/>
              <a:ext cx="457920" cy="216180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8" name=""/>
          <p:cNvGrpSpPr/>
          <p:nvPr/>
        </p:nvGrpSpPr>
        <p:grpSpPr>
          <a:xfrm>
            <a:off x="583200" y="1263960"/>
            <a:ext cx="3412440" cy="1285560"/>
            <a:chOff x="583200" y="1263960"/>
            <a:chExt cx="3412440" cy="1285560"/>
          </a:xfrm>
        </p:grpSpPr>
        <p:sp>
          <p:nvSpPr>
            <p:cNvPr id="319" name=""/>
            <p:cNvSpPr/>
            <p:nvPr/>
          </p:nvSpPr>
          <p:spPr>
            <a:xfrm rot="20897400">
              <a:off x="610560" y="1610640"/>
              <a:ext cx="3306240" cy="609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20897400">
              <a:off x="814680" y="1578960"/>
              <a:ext cx="316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838080" y="56386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descending order of de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0" y="5638680"/>
            <a:ext cx="1523880" cy="60984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6:36:48Z</dcterms:created>
  <dc:creator>Community Campus</dc:creator>
  <dc:description/>
  <dc:language>en-US</dc:language>
  <cp:lastModifiedBy>iddcws</cp:lastModifiedBy>
  <dcterms:modified xsi:type="dcterms:W3CDTF">2003-01-28T18:50:57Z</dcterms:modified>
  <cp:revision>70</cp:revision>
  <dc:subject/>
  <dc:title>PowerPoint Presentation</dc:title>
</cp:coreProperties>
</file>