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4.wmf" ContentType="image/x-wmf"/>
  <Override PartName="/ppt/media/image7.jpeg" ContentType="image/jpeg"/>
  <Override PartName="/ppt/media/image10.wmf" ContentType="image/x-wmf"/>
  <Override PartName="/ppt/media/type.wav" ContentType="audio/x-wav"/>
  <Override PartName="/ppt/media/image5.wmf" ContentType="image/x-wmf"/>
  <Override PartName="/ppt/media/image6.jpeg" ContentType="image/jpeg"/>
  <Override PartName="/ppt/media/image12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7080" y="45720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7  Uni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alltheweb.com/go/1/IB/img/http/radsite.lbl.gov/radiance/book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solidFill>
            <a:srgbClr val="316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78040"/>
            <a:ext cx="9144000" cy="360"/>
          </a:xfrm>
          <a:prstGeom prst="rect">
            <a:avLst/>
          </a:prstGeom>
          <a:solidFill>
            <a:srgbClr val="316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23960" y="1344600"/>
            <a:ext cx="5418360" cy="5000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114560" y="2381400"/>
            <a:ext cx="6926040" cy="28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Dividing Fraction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200400" y="609480"/>
            <a:ext cx="32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93720" y="1387440"/>
            <a:ext cx="23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01000" y="2097000"/>
            <a:ext cx="57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is the reciprocal of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159560" y="2892600"/>
            <a:ext cx="414000" cy="1133640"/>
            <a:chOff x="1159560" y="2892600"/>
            <a:chExt cx="414000" cy="1133640"/>
          </a:xfrm>
        </p:grpSpPr>
        <p:sp>
          <p:nvSpPr>
            <p:cNvPr id="328" name=""/>
            <p:cNvSpPr/>
            <p:nvPr/>
          </p:nvSpPr>
          <p:spPr>
            <a:xfrm>
              <a:off x="1159560" y="28926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59560" y="3444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98440" y="3448080"/>
              <a:ext cx="33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901880" y="2892600"/>
            <a:ext cx="1570320" cy="1133640"/>
            <a:chOff x="1901880" y="2892600"/>
            <a:chExt cx="1570320" cy="1133640"/>
          </a:xfrm>
        </p:grpSpPr>
        <p:grpSp>
          <p:nvGrpSpPr>
            <p:cNvPr id="332" name=""/>
            <p:cNvGrpSpPr/>
            <p:nvPr/>
          </p:nvGrpSpPr>
          <p:grpSpPr>
            <a:xfrm>
              <a:off x="3058200" y="2892600"/>
              <a:ext cx="414000" cy="1133640"/>
              <a:chOff x="3058200" y="2892600"/>
              <a:chExt cx="414000" cy="1133640"/>
            </a:xfrm>
          </p:grpSpPr>
          <p:sp>
            <p:nvSpPr>
              <p:cNvPr id="333" name=""/>
              <p:cNvSpPr/>
              <p:nvPr/>
            </p:nvSpPr>
            <p:spPr>
              <a:xfrm>
                <a:off x="3058200" y="2892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058200" y="3444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97080" y="3448080"/>
                <a:ext cx="335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1901880" y="3289320"/>
              <a:ext cx="826920" cy="336600"/>
            </a:xfrm>
            <a:prstGeom prst="rightArrow">
              <a:avLst>
                <a:gd name="adj1" fmla="val 50000"/>
                <a:gd name="adj2" fmla="val 6141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145520" y="50626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893960" y="4818240"/>
            <a:ext cx="1576800" cy="1133640"/>
            <a:chOff x="1893960" y="4818240"/>
            <a:chExt cx="1576800" cy="1133640"/>
          </a:xfrm>
        </p:grpSpPr>
        <p:grpSp>
          <p:nvGrpSpPr>
            <p:cNvPr id="339" name=""/>
            <p:cNvGrpSpPr/>
            <p:nvPr/>
          </p:nvGrpSpPr>
          <p:grpSpPr>
            <a:xfrm>
              <a:off x="3056400" y="4818240"/>
              <a:ext cx="414360" cy="1133640"/>
              <a:chOff x="3056400" y="4818240"/>
              <a:chExt cx="414360" cy="1133640"/>
            </a:xfrm>
          </p:grpSpPr>
          <p:sp>
            <p:nvSpPr>
              <p:cNvPr id="340" name=""/>
              <p:cNvSpPr/>
              <p:nvPr/>
            </p:nvSpPr>
            <p:spPr>
              <a:xfrm>
                <a:off x="3056400" y="48182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056760" y="53704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095640" y="5373720"/>
                <a:ext cx="335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1893960" y="5216400"/>
              <a:ext cx="826920" cy="336600"/>
            </a:xfrm>
            <a:prstGeom prst="rightArrow">
              <a:avLst>
                <a:gd name="adj1" fmla="val 50000"/>
                <a:gd name="adj2" fmla="val 6141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292000" y="2892600"/>
            <a:ext cx="691920" cy="1134000"/>
            <a:chOff x="5292000" y="2892600"/>
            <a:chExt cx="691920" cy="1134000"/>
          </a:xfrm>
        </p:grpSpPr>
        <p:grpSp>
          <p:nvGrpSpPr>
            <p:cNvPr id="345" name=""/>
            <p:cNvGrpSpPr/>
            <p:nvPr/>
          </p:nvGrpSpPr>
          <p:grpSpPr>
            <a:xfrm>
              <a:off x="5569920" y="2892600"/>
              <a:ext cx="414000" cy="1134000"/>
              <a:chOff x="5569920" y="2892600"/>
              <a:chExt cx="414000" cy="1134000"/>
            </a:xfrm>
          </p:grpSpPr>
          <p:sp>
            <p:nvSpPr>
              <p:cNvPr id="346" name=""/>
              <p:cNvSpPr/>
              <p:nvPr/>
            </p:nvSpPr>
            <p:spPr>
              <a:xfrm>
                <a:off x="5569920" y="2892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569920" y="3445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08800" y="3448440"/>
                <a:ext cx="33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292000" y="3137040"/>
              <a:ext cx="32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208560" y="2894040"/>
            <a:ext cx="1757880" cy="1133640"/>
            <a:chOff x="6208560" y="2894040"/>
            <a:chExt cx="1757880" cy="1133640"/>
          </a:xfrm>
        </p:grpSpPr>
        <p:grpSp>
          <p:nvGrpSpPr>
            <p:cNvPr id="351" name=""/>
            <p:cNvGrpSpPr/>
            <p:nvPr/>
          </p:nvGrpSpPr>
          <p:grpSpPr>
            <a:xfrm>
              <a:off x="7257240" y="2894040"/>
              <a:ext cx="709200" cy="1133640"/>
              <a:chOff x="7257240" y="2894040"/>
              <a:chExt cx="709200" cy="113364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7552440" y="2894040"/>
                <a:ext cx="414000" cy="1133640"/>
                <a:chOff x="7552440" y="2894040"/>
                <a:chExt cx="414000" cy="113364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7552440" y="28940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552440" y="34462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591320" y="3449520"/>
                  <a:ext cx="33516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7257240" y="3138480"/>
                <a:ext cx="328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6208560" y="3290760"/>
              <a:ext cx="827280" cy="336600"/>
            </a:xfrm>
            <a:prstGeom prst="rightArrow">
              <a:avLst>
                <a:gd name="adj1" fmla="val 50000"/>
                <a:gd name="adj2" fmla="val 61444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218920" y="4816440"/>
            <a:ext cx="753480" cy="1134000"/>
            <a:chOff x="5218920" y="4816440"/>
            <a:chExt cx="753480" cy="1134000"/>
          </a:xfrm>
        </p:grpSpPr>
        <p:grpSp>
          <p:nvGrpSpPr>
            <p:cNvPr id="359" name=""/>
            <p:cNvGrpSpPr/>
            <p:nvPr/>
          </p:nvGrpSpPr>
          <p:grpSpPr>
            <a:xfrm>
              <a:off x="5557680" y="4816440"/>
              <a:ext cx="414720" cy="1134000"/>
              <a:chOff x="5557680" y="4816440"/>
              <a:chExt cx="414720" cy="1134000"/>
            </a:xfrm>
          </p:grpSpPr>
          <p:sp>
            <p:nvSpPr>
              <p:cNvPr id="360" name=""/>
              <p:cNvSpPr/>
              <p:nvPr/>
            </p:nvSpPr>
            <p:spPr>
              <a:xfrm>
                <a:off x="5557680" y="48164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558400" y="53690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597280" y="5371920"/>
                <a:ext cx="33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5218920" y="50608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6039000" y="4816440"/>
            <a:ext cx="974880" cy="1134000"/>
            <a:chOff x="6039000" y="4816440"/>
            <a:chExt cx="974880" cy="1134000"/>
          </a:xfrm>
        </p:grpSpPr>
        <p:grpSp>
          <p:nvGrpSpPr>
            <p:cNvPr id="365" name=""/>
            <p:cNvGrpSpPr/>
            <p:nvPr/>
          </p:nvGrpSpPr>
          <p:grpSpPr>
            <a:xfrm>
              <a:off x="6599880" y="4816440"/>
              <a:ext cx="414000" cy="1134000"/>
              <a:chOff x="6599880" y="4816440"/>
              <a:chExt cx="414000" cy="1134000"/>
            </a:xfrm>
          </p:grpSpPr>
          <p:sp>
            <p:nvSpPr>
              <p:cNvPr id="366" name=""/>
              <p:cNvSpPr/>
              <p:nvPr/>
            </p:nvSpPr>
            <p:spPr>
              <a:xfrm>
                <a:off x="6599880" y="48164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99880" y="53690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638760" y="5372280"/>
                <a:ext cx="33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039000" y="5226120"/>
              <a:ext cx="492120" cy="311040"/>
            </a:xfrm>
            <a:prstGeom prst="rightArrow">
              <a:avLst>
                <a:gd name="adj1" fmla="val 50000"/>
                <a:gd name="adj2" fmla="val 39554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048440" y="4816440"/>
            <a:ext cx="978480" cy="1133640"/>
            <a:chOff x="7048440" y="4816440"/>
            <a:chExt cx="978480" cy="1133640"/>
          </a:xfrm>
        </p:grpSpPr>
        <p:grpSp>
          <p:nvGrpSpPr>
            <p:cNvPr id="371" name=""/>
            <p:cNvGrpSpPr/>
            <p:nvPr/>
          </p:nvGrpSpPr>
          <p:grpSpPr>
            <a:xfrm>
              <a:off x="7612920" y="4816440"/>
              <a:ext cx="414000" cy="1133640"/>
              <a:chOff x="7612920" y="4816440"/>
              <a:chExt cx="414000" cy="1133640"/>
            </a:xfrm>
          </p:grpSpPr>
          <p:sp>
            <p:nvSpPr>
              <p:cNvPr id="372" name=""/>
              <p:cNvSpPr/>
              <p:nvPr/>
            </p:nvSpPr>
            <p:spPr>
              <a:xfrm>
                <a:off x="7612920" y="48164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12920" y="53686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51800" y="5371920"/>
                <a:ext cx="335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7048440" y="5226120"/>
              <a:ext cx="492120" cy="311040"/>
            </a:xfrm>
            <a:prstGeom prst="rightArrow">
              <a:avLst>
                <a:gd name="adj1" fmla="val 50000"/>
                <a:gd name="adj2" fmla="val 39554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200400" y="609480"/>
            <a:ext cx="32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66520" y="1449360"/>
            <a:ext cx="74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plied to a really easy problem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40040" y="2149560"/>
            <a:ext cx="168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8 ÷ 2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709440" y="2862360"/>
            <a:ext cx="1783080" cy="1135080"/>
            <a:chOff x="3709440" y="2862360"/>
            <a:chExt cx="1783080" cy="1135080"/>
          </a:xfrm>
        </p:grpSpPr>
        <p:sp>
          <p:nvSpPr>
            <p:cNvPr id="380" name=""/>
            <p:cNvSpPr/>
            <p:nvPr/>
          </p:nvSpPr>
          <p:spPr>
            <a:xfrm>
              <a:off x="3709440" y="3079440"/>
              <a:ext cx="73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8 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4561920" y="2862360"/>
              <a:ext cx="415080" cy="1135080"/>
              <a:chOff x="4561920" y="2862360"/>
              <a:chExt cx="415080" cy="1135080"/>
            </a:xfrm>
          </p:grpSpPr>
          <p:sp>
            <p:nvSpPr>
              <p:cNvPr id="382" name=""/>
              <p:cNvSpPr/>
              <p:nvPr/>
            </p:nvSpPr>
            <p:spPr>
              <a:xfrm>
                <a:off x="4561920" y="2862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63000" y="34160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585680" y="3430440"/>
                <a:ext cx="366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049720" y="3103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651480" y="4083120"/>
            <a:ext cx="1887120" cy="1136880"/>
            <a:chOff x="3651480" y="4083120"/>
            <a:chExt cx="1887120" cy="1136880"/>
          </a:xfrm>
        </p:grpSpPr>
        <p:grpSp>
          <p:nvGrpSpPr>
            <p:cNvPr id="387" name=""/>
            <p:cNvGrpSpPr/>
            <p:nvPr/>
          </p:nvGrpSpPr>
          <p:grpSpPr>
            <a:xfrm>
              <a:off x="4611960" y="4084560"/>
              <a:ext cx="414360" cy="1135440"/>
              <a:chOff x="4611960" y="4084560"/>
              <a:chExt cx="414360" cy="1135440"/>
            </a:xfrm>
          </p:grpSpPr>
          <p:sp>
            <p:nvSpPr>
              <p:cNvPr id="388" name=""/>
              <p:cNvSpPr/>
              <p:nvPr/>
            </p:nvSpPr>
            <p:spPr>
              <a:xfrm>
                <a:off x="4611960" y="40845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612320" y="4638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635360" y="4653000"/>
                <a:ext cx="3668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3651480" y="4083120"/>
              <a:ext cx="414720" cy="1135080"/>
              <a:chOff x="3651480" y="4083120"/>
              <a:chExt cx="414720" cy="1135080"/>
            </a:xfrm>
          </p:grpSpPr>
          <p:sp>
            <p:nvSpPr>
              <p:cNvPr id="392" name=""/>
              <p:cNvSpPr/>
              <p:nvPr/>
            </p:nvSpPr>
            <p:spPr>
              <a:xfrm>
                <a:off x="3652200" y="40831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651480" y="4636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674880" y="4651200"/>
                <a:ext cx="36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4146120" y="433080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95800" y="4330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4866480" y="55530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929760" y="5307120"/>
            <a:ext cx="947160" cy="1135080"/>
            <a:chOff x="3929760" y="5307120"/>
            <a:chExt cx="947160" cy="1135080"/>
          </a:xfrm>
        </p:grpSpPr>
        <p:grpSp>
          <p:nvGrpSpPr>
            <p:cNvPr id="399" name=""/>
            <p:cNvGrpSpPr/>
            <p:nvPr/>
          </p:nvGrpSpPr>
          <p:grpSpPr>
            <a:xfrm>
              <a:off x="3929760" y="5307120"/>
              <a:ext cx="414000" cy="1135080"/>
              <a:chOff x="3929760" y="5307120"/>
              <a:chExt cx="414000" cy="1135080"/>
            </a:xfrm>
          </p:grpSpPr>
          <p:sp>
            <p:nvSpPr>
              <p:cNvPr id="400" name=""/>
              <p:cNvSpPr/>
              <p:nvPr/>
            </p:nvSpPr>
            <p:spPr>
              <a:xfrm>
                <a:off x="3929760" y="53071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929760" y="5860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952800" y="5875200"/>
                <a:ext cx="36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4434120" y="5553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200400" y="609480"/>
            <a:ext cx="32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497040" y="1316160"/>
            <a:ext cx="2154240" cy="1147680"/>
            <a:chOff x="3497040" y="1316160"/>
            <a:chExt cx="2154240" cy="1147680"/>
          </a:xfrm>
        </p:grpSpPr>
        <p:sp>
          <p:nvSpPr>
            <p:cNvPr id="406" name=""/>
            <p:cNvSpPr/>
            <p:nvPr/>
          </p:nvSpPr>
          <p:spPr>
            <a:xfrm>
              <a:off x="3497040" y="156852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0 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4696920" y="1316160"/>
              <a:ext cx="426600" cy="1147680"/>
              <a:chOff x="4696920" y="1316160"/>
              <a:chExt cx="426600" cy="1147680"/>
            </a:xfrm>
          </p:grpSpPr>
          <p:sp>
            <p:nvSpPr>
              <p:cNvPr id="408" name=""/>
              <p:cNvSpPr/>
              <p:nvPr/>
            </p:nvSpPr>
            <p:spPr>
              <a:xfrm>
                <a:off x="4704120" y="13161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02680" y="18824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96920" y="1882440"/>
                <a:ext cx="426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5208480" y="1568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549960" y="2583000"/>
            <a:ext cx="2072880" cy="1148040"/>
            <a:chOff x="3549960" y="2583000"/>
            <a:chExt cx="2072880" cy="1148040"/>
          </a:xfrm>
        </p:grpSpPr>
        <p:sp>
          <p:nvSpPr>
            <p:cNvPr id="413" name=""/>
            <p:cNvSpPr/>
            <p:nvPr/>
          </p:nvSpPr>
          <p:spPr>
            <a:xfrm>
              <a:off x="3549960" y="2835360"/>
              <a:ext cx="99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0 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4668840" y="2583000"/>
              <a:ext cx="426960" cy="1148040"/>
              <a:chOff x="4668840" y="2583000"/>
              <a:chExt cx="426960" cy="1148040"/>
            </a:xfrm>
          </p:grpSpPr>
          <p:sp>
            <p:nvSpPr>
              <p:cNvPr id="415" name=""/>
              <p:cNvSpPr/>
              <p:nvPr/>
            </p:nvSpPr>
            <p:spPr>
              <a:xfrm>
                <a:off x="4676040" y="2583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674600" y="3149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668840" y="3149640"/>
                <a:ext cx="4269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5180040" y="28353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3187440" y="5234040"/>
            <a:ext cx="1685880" cy="1162080"/>
            <a:chOff x="3187440" y="5234040"/>
            <a:chExt cx="1685880" cy="1162080"/>
          </a:xfrm>
        </p:grpSpPr>
        <p:grpSp>
          <p:nvGrpSpPr>
            <p:cNvPr id="420" name=""/>
            <p:cNvGrpSpPr/>
            <p:nvPr/>
          </p:nvGrpSpPr>
          <p:grpSpPr>
            <a:xfrm>
              <a:off x="3187440" y="5234040"/>
              <a:ext cx="669960" cy="1162080"/>
              <a:chOff x="3187440" y="5234040"/>
              <a:chExt cx="669960" cy="1162080"/>
            </a:xfrm>
          </p:grpSpPr>
          <p:sp>
            <p:nvSpPr>
              <p:cNvPr id="421" name=""/>
              <p:cNvSpPr/>
              <p:nvPr/>
            </p:nvSpPr>
            <p:spPr>
              <a:xfrm>
                <a:off x="3198960" y="523404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314880" y="58147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187440" y="5814720"/>
                <a:ext cx="669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3976200" y="549396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4446360" y="5241600"/>
              <a:ext cx="426960" cy="1148040"/>
              <a:chOff x="4446360" y="5241600"/>
              <a:chExt cx="426960" cy="1148040"/>
            </a:xfrm>
          </p:grpSpPr>
          <p:sp>
            <p:nvSpPr>
              <p:cNvPr id="426" name=""/>
              <p:cNvSpPr/>
              <p:nvPr/>
            </p:nvSpPr>
            <p:spPr>
              <a:xfrm>
                <a:off x="4453560" y="5241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51760" y="58082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446360" y="5808240"/>
                <a:ext cx="426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4983840" y="549432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= 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055680" y="5016600"/>
            <a:ext cx="1954080" cy="1540800"/>
            <a:chOff x="3055680" y="5016600"/>
            <a:chExt cx="1954080" cy="1540800"/>
          </a:xfrm>
        </p:grpSpPr>
        <p:sp>
          <p:nvSpPr>
            <p:cNvPr id="431" name=""/>
            <p:cNvSpPr/>
            <p:nvPr/>
          </p:nvSpPr>
          <p:spPr>
            <a:xfrm flipV="1">
              <a:off x="3215520" y="5365080"/>
              <a:ext cx="609840" cy="28872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408920" y="5951520"/>
              <a:ext cx="490320" cy="2970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55680" y="5016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55160" y="6097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459240" y="3863880"/>
            <a:ext cx="2230560" cy="1162080"/>
            <a:chOff x="3459240" y="3863880"/>
            <a:chExt cx="2230560" cy="1162080"/>
          </a:xfrm>
        </p:grpSpPr>
        <p:sp>
          <p:nvSpPr>
            <p:cNvPr id="436" name=""/>
            <p:cNvSpPr/>
            <p:nvPr/>
          </p:nvSpPr>
          <p:spPr>
            <a:xfrm>
              <a:off x="4262400" y="412236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4735440" y="3870000"/>
              <a:ext cx="426600" cy="1148040"/>
              <a:chOff x="4735440" y="3870000"/>
              <a:chExt cx="426600" cy="1148040"/>
            </a:xfrm>
          </p:grpSpPr>
          <p:sp>
            <p:nvSpPr>
              <p:cNvPr id="438" name=""/>
              <p:cNvSpPr/>
              <p:nvPr/>
            </p:nvSpPr>
            <p:spPr>
              <a:xfrm>
                <a:off x="4742640" y="3870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41200" y="4436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35440" y="4436640"/>
                <a:ext cx="4266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5247000" y="41223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3459240" y="3863880"/>
              <a:ext cx="669960" cy="1162080"/>
              <a:chOff x="3459240" y="3863880"/>
              <a:chExt cx="669960" cy="1162080"/>
            </a:xfrm>
          </p:grpSpPr>
          <p:sp>
            <p:nvSpPr>
              <p:cNvPr id="443" name=""/>
              <p:cNvSpPr/>
              <p:nvPr/>
            </p:nvSpPr>
            <p:spPr>
              <a:xfrm>
                <a:off x="3470760" y="38638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86680" y="44445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59240" y="4444560"/>
                <a:ext cx="669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200400" y="609480"/>
            <a:ext cx="32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36640" y="1973160"/>
            <a:ext cx="742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tice! When you divide a number by a fraction less than one, the quotient is greater than the dividen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2932200" y="4219560"/>
            <a:ext cx="3238560" cy="21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200400" y="609480"/>
            <a:ext cx="32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91680" y="1300320"/>
            <a:ext cx="12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9280" y="209088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divide frac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92240" y="2873520"/>
            <a:ext cx="764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e operation symbol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division to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79640" y="4197240"/>
            <a:ext cx="69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e divisor to its reciprocal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60560" y="5129280"/>
            <a:ext cx="691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de out any numerator fact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with any like denominator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200400" y="609480"/>
            <a:ext cx="32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633680" y="3149640"/>
            <a:ext cx="54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numerator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33680" y="3816360"/>
            <a:ext cx="61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denominators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33680" y="4483080"/>
            <a:ext cx="61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result in simples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9280" y="209088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divide frac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91680" y="1300320"/>
            <a:ext cx="122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200400" y="609480"/>
            <a:ext cx="32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3658680" y="1339920"/>
            <a:ext cx="1870560" cy="1136880"/>
            <a:chOff x="3658680" y="1339920"/>
            <a:chExt cx="1870560" cy="1136880"/>
          </a:xfrm>
        </p:grpSpPr>
        <p:sp>
          <p:nvSpPr>
            <p:cNvPr id="463" name=""/>
            <p:cNvSpPr/>
            <p:nvPr/>
          </p:nvSpPr>
          <p:spPr>
            <a:xfrm>
              <a:off x="4619160" y="13413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19160" y="18954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41840" y="1909800"/>
              <a:ext cx="36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658680" y="13399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58680" y="18939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81720" y="1908000"/>
              <a:ext cx="366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69880" y="1587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  <a:ea typeface="Tahoma"/>
                </a:rPr>
                <a:t>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86440" y="1587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658320" y="2763720"/>
            <a:ext cx="1870920" cy="1136880"/>
            <a:chOff x="3658320" y="2763720"/>
            <a:chExt cx="1870920" cy="1136880"/>
          </a:xfrm>
        </p:grpSpPr>
        <p:grpSp>
          <p:nvGrpSpPr>
            <p:cNvPr id="472" name=""/>
            <p:cNvGrpSpPr/>
            <p:nvPr/>
          </p:nvGrpSpPr>
          <p:grpSpPr>
            <a:xfrm>
              <a:off x="4618800" y="2765160"/>
              <a:ext cx="414000" cy="1135440"/>
              <a:chOff x="4618800" y="2765160"/>
              <a:chExt cx="414000" cy="1135440"/>
            </a:xfrm>
          </p:grpSpPr>
          <p:sp>
            <p:nvSpPr>
              <p:cNvPr id="473" name=""/>
              <p:cNvSpPr/>
              <p:nvPr/>
            </p:nvSpPr>
            <p:spPr>
              <a:xfrm>
                <a:off x="4618800" y="27651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618800" y="3319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641840" y="3333600"/>
                <a:ext cx="366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3658320" y="2763720"/>
              <a:ext cx="414000" cy="1135440"/>
              <a:chOff x="3658320" y="2763720"/>
              <a:chExt cx="414000" cy="1135440"/>
            </a:xfrm>
          </p:grpSpPr>
          <p:sp>
            <p:nvSpPr>
              <p:cNvPr id="477" name=""/>
              <p:cNvSpPr/>
              <p:nvPr/>
            </p:nvSpPr>
            <p:spPr>
              <a:xfrm>
                <a:off x="3658320" y="27637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58320" y="33177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681360" y="3332160"/>
                <a:ext cx="366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4136760" y="301140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86440" y="30114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798520" y="4437000"/>
            <a:ext cx="739440" cy="1135440"/>
            <a:chOff x="5798520" y="4437000"/>
            <a:chExt cx="739440" cy="1135440"/>
          </a:xfrm>
        </p:grpSpPr>
        <p:grpSp>
          <p:nvGrpSpPr>
            <p:cNvPr id="483" name=""/>
            <p:cNvGrpSpPr/>
            <p:nvPr/>
          </p:nvGrpSpPr>
          <p:grpSpPr>
            <a:xfrm>
              <a:off x="6123240" y="4437000"/>
              <a:ext cx="414720" cy="1135440"/>
              <a:chOff x="6123240" y="4437000"/>
              <a:chExt cx="414720" cy="1135440"/>
            </a:xfrm>
          </p:grpSpPr>
          <p:sp>
            <p:nvSpPr>
              <p:cNvPr id="484" name=""/>
              <p:cNvSpPr/>
              <p:nvPr/>
            </p:nvSpPr>
            <p:spPr>
              <a:xfrm>
                <a:off x="6123240" y="4437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123960" y="49910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46640" y="5005440"/>
                <a:ext cx="3668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5798520" y="4683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2626920" y="4187880"/>
            <a:ext cx="3245400" cy="1521720"/>
            <a:chOff x="2626920" y="4187880"/>
            <a:chExt cx="3245400" cy="1521720"/>
          </a:xfrm>
        </p:grpSpPr>
        <p:grpSp>
          <p:nvGrpSpPr>
            <p:cNvPr id="489" name=""/>
            <p:cNvGrpSpPr/>
            <p:nvPr/>
          </p:nvGrpSpPr>
          <p:grpSpPr>
            <a:xfrm>
              <a:off x="2929680" y="4449600"/>
              <a:ext cx="414000" cy="1135440"/>
              <a:chOff x="2929680" y="4449600"/>
              <a:chExt cx="414000" cy="1135440"/>
            </a:xfrm>
          </p:grpSpPr>
          <p:sp>
            <p:nvSpPr>
              <p:cNvPr id="490" name=""/>
              <p:cNvSpPr/>
              <p:nvPr/>
            </p:nvSpPr>
            <p:spPr>
              <a:xfrm>
                <a:off x="2929680" y="4449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929680" y="5003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952360" y="5018040"/>
                <a:ext cx="366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3904560" y="4449600"/>
              <a:ext cx="414000" cy="1135440"/>
              <a:chOff x="3904560" y="4449600"/>
              <a:chExt cx="414000" cy="1135440"/>
            </a:xfrm>
          </p:grpSpPr>
          <p:sp>
            <p:nvSpPr>
              <p:cNvPr id="494" name=""/>
              <p:cNvSpPr/>
              <p:nvPr/>
            </p:nvSpPr>
            <p:spPr>
              <a:xfrm>
                <a:off x="3904560" y="4449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904560" y="5003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927240" y="5018040"/>
                <a:ext cx="36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4942800" y="4451400"/>
              <a:ext cx="414000" cy="1135080"/>
              <a:chOff x="4942800" y="4451400"/>
              <a:chExt cx="414000" cy="1135080"/>
            </a:xfrm>
          </p:grpSpPr>
          <p:sp>
            <p:nvSpPr>
              <p:cNvPr id="498" name=""/>
              <p:cNvSpPr/>
              <p:nvPr/>
            </p:nvSpPr>
            <p:spPr>
              <a:xfrm>
                <a:off x="4942800" y="4451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42800" y="50050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965840" y="5019480"/>
                <a:ext cx="366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3436560" y="46958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400640" y="469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29520" y="4707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2626920" y="4187880"/>
              <a:ext cx="1868400" cy="1521720"/>
              <a:chOff x="2626920" y="4187880"/>
              <a:chExt cx="1868400" cy="1521720"/>
            </a:xfrm>
          </p:grpSpPr>
          <p:sp>
            <p:nvSpPr>
              <p:cNvPr id="505" name=""/>
              <p:cNvSpPr/>
              <p:nvPr/>
            </p:nvSpPr>
            <p:spPr>
              <a:xfrm flipV="1">
                <a:off x="2921400" y="5163840"/>
                <a:ext cx="398880" cy="266040"/>
              </a:xfrm>
              <a:prstGeom prst="line">
                <a:avLst/>
              </a:prstGeom>
              <a:ln w="381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3902760" y="4615920"/>
                <a:ext cx="398520" cy="266040"/>
              </a:xfrm>
              <a:prstGeom prst="line">
                <a:avLst/>
              </a:prstGeom>
              <a:ln w="381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626920" y="5249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cc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140720" y="41878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cc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200400" y="609480"/>
            <a:ext cx="32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562920" y="1336680"/>
            <a:ext cx="2049840" cy="1134000"/>
            <a:chOff x="3562920" y="1336680"/>
            <a:chExt cx="2049840" cy="1134000"/>
          </a:xfrm>
        </p:grpSpPr>
        <p:sp>
          <p:nvSpPr>
            <p:cNvPr id="511" name=""/>
            <p:cNvSpPr/>
            <p:nvPr/>
          </p:nvSpPr>
          <p:spPr>
            <a:xfrm>
              <a:off x="4379040" y="1581120"/>
              <a:ext cx="12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÷ -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562920" y="1336680"/>
              <a:ext cx="728640" cy="1134000"/>
              <a:chOff x="3562920" y="1336680"/>
              <a:chExt cx="728640" cy="113400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3876120" y="1336680"/>
                <a:ext cx="415440" cy="1134000"/>
                <a:chOff x="3876120" y="1336680"/>
                <a:chExt cx="415440" cy="113400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3876120" y="13366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877560" y="18892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880080" y="1889280"/>
                  <a:ext cx="407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7" name=""/>
              <p:cNvSpPr/>
              <p:nvPr/>
            </p:nvSpPr>
            <p:spPr>
              <a:xfrm>
                <a:off x="3562920" y="161316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8" name=""/>
          <p:cNvGrpSpPr/>
          <p:nvPr/>
        </p:nvGrpSpPr>
        <p:grpSpPr>
          <a:xfrm>
            <a:off x="3532680" y="3043080"/>
            <a:ext cx="2117520" cy="1135440"/>
            <a:chOff x="3532680" y="3043080"/>
            <a:chExt cx="2117520" cy="1135440"/>
          </a:xfrm>
        </p:grpSpPr>
        <p:sp>
          <p:nvSpPr>
            <p:cNvPr id="519" name=""/>
            <p:cNvSpPr/>
            <p:nvPr/>
          </p:nvSpPr>
          <p:spPr>
            <a:xfrm>
              <a:off x="4362120" y="328896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3532680" y="3044520"/>
              <a:ext cx="728640" cy="1134000"/>
              <a:chOff x="3532680" y="3044520"/>
              <a:chExt cx="728640" cy="113400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3845880" y="3044520"/>
                <a:ext cx="415440" cy="1134000"/>
                <a:chOff x="3845880" y="3044520"/>
                <a:chExt cx="415440" cy="113400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3845880" y="30445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847320" y="35971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849840" y="3597120"/>
                  <a:ext cx="407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3532680" y="332100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4799160" y="3043080"/>
              <a:ext cx="851040" cy="1133640"/>
              <a:chOff x="4799160" y="3043080"/>
              <a:chExt cx="851040" cy="1133640"/>
            </a:xfrm>
          </p:grpSpPr>
          <p:sp>
            <p:nvSpPr>
              <p:cNvPr id="527" name=""/>
              <p:cNvSpPr/>
              <p:nvPr/>
            </p:nvSpPr>
            <p:spPr>
              <a:xfrm>
                <a:off x="5118120" y="30430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03280" y="35953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121000" y="3595320"/>
                <a:ext cx="4082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799160" y="331920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1" name=""/>
          <p:cNvGrpSpPr/>
          <p:nvPr/>
        </p:nvGrpSpPr>
        <p:grpSpPr>
          <a:xfrm>
            <a:off x="4895640" y="4991040"/>
            <a:ext cx="761040" cy="1133640"/>
            <a:chOff x="4895640" y="4991040"/>
            <a:chExt cx="761040" cy="1133640"/>
          </a:xfrm>
        </p:grpSpPr>
        <p:sp>
          <p:nvSpPr>
            <p:cNvPr id="532" name=""/>
            <p:cNvSpPr/>
            <p:nvPr/>
          </p:nvSpPr>
          <p:spPr>
            <a:xfrm>
              <a:off x="4895640" y="499104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09760" y="554328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48200" y="5543280"/>
              <a:ext cx="587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2272320" y="4827600"/>
            <a:ext cx="2577600" cy="1297800"/>
            <a:chOff x="2272320" y="4827600"/>
            <a:chExt cx="2577600" cy="1297800"/>
          </a:xfrm>
        </p:grpSpPr>
        <p:sp>
          <p:nvSpPr>
            <p:cNvPr id="536" name=""/>
            <p:cNvSpPr/>
            <p:nvPr/>
          </p:nvSpPr>
          <p:spPr>
            <a:xfrm>
              <a:off x="3106440" y="523548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2277000" y="4989600"/>
              <a:ext cx="728640" cy="1134000"/>
              <a:chOff x="2277000" y="4989600"/>
              <a:chExt cx="728640" cy="1134000"/>
            </a:xfrm>
          </p:grpSpPr>
          <p:grpSp>
            <p:nvGrpSpPr>
              <p:cNvPr id="538" name=""/>
              <p:cNvGrpSpPr/>
              <p:nvPr/>
            </p:nvGrpSpPr>
            <p:grpSpPr>
              <a:xfrm>
                <a:off x="2590200" y="4989600"/>
                <a:ext cx="415440" cy="1134000"/>
                <a:chOff x="2590200" y="4989600"/>
                <a:chExt cx="415440" cy="113400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2590200" y="49896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591640" y="55422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594160" y="5542200"/>
                  <a:ext cx="407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2" name=""/>
              <p:cNvSpPr/>
              <p:nvPr/>
            </p:nvSpPr>
            <p:spPr>
              <a:xfrm>
                <a:off x="2277000" y="526608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3543480" y="4989600"/>
              <a:ext cx="1006200" cy="1133640"/>
              <a:chOff x="3543480" y="4989600"/>
              <a:chExt cx="1006200" cy="113364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3790440" y="4989600"/>
                <a:ext cx="759240" cy="1133640"/>
                <a:chOff x="3790440" y="4989600"/>
                <a:chExt cx="759240" cy="113364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3790440" y="4989600"/>
                  <a:ext cx="624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02760" y="554184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98440" y="5541840"/>
                  <a:ext cx="407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8" name=""/>
              <p:cNvSpPr/>
              <p:nvPr/>
            </p:nvSpPr>
            <p:spPr>
              <a:xfrm>
                <a:off x="3543480" y="5265720"/>
                <a:ext cx="31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4407120" y="5235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4094640" y="5709960"/>
              <a:ext cx="324360" cy="2685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2570040" y="5091840"/>
              <a:ext cx="469080" cy="36684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72320" y="4827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741480" y="5665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3632040" y="1333440"/>
            <a:ext cx="1830960" cy="1148040"/>
            <a:chOff x="3632040" y="1333440"/>
            <a:chExt cx="1830960" cy="1148040"/>
          </a:xfrm>
        </p:grpSpPr>
        <p:sp>
          <p:nvSpPr>
            <p:cNvPr id="555" name=""/>
            <p:cNvSpPr/>
            <p:nvPr/>
          </p:nvSpPr>
          <p:spPr>
            <a:xfrm>
              <a:off x="3632040" y="15858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98400" y="158580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÷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5048280" y="1333440"/>
              <a:ext cx="414720" cy="1148040"/>
              <a:chOff x="5048280" y="1333440"/>
              <a:chExt cx="414720" cy="1148040"/>
            </a:xfrm>
          </p:grpSpPr>
          <p:sp>
            <p:nvSpPr>
              <p:cNvPr id="558" name=""/>
              <p:cNvSpPr/>
              <p:nvPr/>
            </p:nvSpPr>
            <p:spPr>
              <a:xfrm>
                <a:off x="5048280" y="13334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049000" y="19000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070240" y="1900080"/>
                <a:ext cx="37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3753000" y="2986200"/>
            <a:ext cx="1589400" cy="1148040"/>
            <a:chOff x="3753000" y="2986200"/>
            <a:chExt cx="1589400" cy="1148040"/>
          </a:xfrm>
        </p:grpSpPr>
        <p:sp>
          <p:nvSpPr>
            <p:cNvPr id="562" name=""/>
            <p:cNvSpPr/>
            <p:nvPr/>
          </p:nvSpPr>
          <p:spPr>
            <a:xfrm>
              <a:off x="3753000" y="32385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01360" y="32385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4928400" y="2986200"/>
              <a:ext cx="414000" cy="1148040"/>
              <a:chOff x="4928400" y="2986200"/>
              <a:chExt cx="414000" cy="1148040"/>
            </a:xfrm>
          </p:grpSpPr>
          <p:sp>
            <p:nvSpPr>
              <p:cNvPr id="565" name=""/>
              <p:cNvSpPr/>
              <p:nvPr/>
            </p:nvSpPr>
            <p:spPr>
              <a:xfrm>
                <a:off x="4928400" y="2986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928400" y="3552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950000" y="3552840"/>
                <a:ext cx="37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8" name=""/>
          <p:cNvGrpSpPr/>
          <p:nvPr/>
        </p:nvGrpSpPr>
        <p:grpSpPr>
          <a:xfrm>
            <a:off x="2297160" y="4832280"/>
            <a:ext cx="3599280" cy="1148040"/>
            <a:chOff x="2297160" y="4832280"/>
            <a:chExt cx="3599280" cy="1148040"/>
          </a:xfrm>
        </p:grpSpPr>
        <p:sp>
          <p:nvSpPr>
            <p:cNvPr id="569" name=""/>
            <p:cNvSpPr/>
            <p:nvPr/>
          </p:nvSpPr>
          <p:spPr>
            <a:xfrm>
              <a:off x="3921120" y="50846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97160" y="508464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84040" y="50846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3429720" y="4832280"/>
              <a:ext cx="414000" cy="1148040"/>
              <a:chOff x="3429720" y="4832280"/>
              <a:chExt cx="414000" cy="1148040"/>
            </a:xfrm>
          </p:grpSpPr>
          <p:sp>
            <p:nvSpPr>
              <p:cNvPr id="573" name=""/>
              <p:cNvSpPr/>
              <p:nvPr/>
            </p:nvSpPr>
            <p:spPr>
              <a:xfrm>
                <a:off x="3429720" y="48322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429720" y="53989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450960" y="5398920"/>
                <a:ext cx="371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4366800" y="4832280"/>
              <a:ext cx="646920" cy="1148040"/>
              <a:chOff x="4366800" y="4832280"/>
              <a:chExt cx="646920" cy="1148040"/>
            </a:xfrm>
          </p:grpSpPr>
          <p:sp>
            <p:nvSpPr>
              <p:cNvPr id="577" name=""/>
              <p:cNvSpPr/>
              <p:nvPr/>
            </p:nvSpPr>
            <p:spPr>
              <a:xfrm>
                <a:off x="4366800" y="48322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482000" y="53989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481640" y="5398920"/>
                <a:ext cx="41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5482440" y="4832280"/>
              <a:ext cx="414000" cy="1148040"/>
              <a:chOff x="5482440" y="4832280"/>
              <a:chExt cx="414000" cy="1148040"/>
            </a:xfrm>
          </p:grpSpPr>
          <p:sp>
            <p:nvSpPr>
              <p:cNvPr id="581" name=""/>
              <p:cNvSpPr/>
              <p:nvPr/>
            </p:nvSpPr>
            <p:spPr>
              <a:xfrm>
                <a:off x="5482440" y="48322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82440" y="53989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504040" y="5398920"/>
                <a:ext cx="371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5022720" y="50846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981760" y="5084640"/>
            <a:ext cx="8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=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4231800" y="4618080"/>
            <a:ext cx="1803240" cy="1513800"/>
            <a:chOff x="4231800" y="4618080"/>
            <a:chExt cx="1803240" cy="1513800"/>
          </a:xfrm>
        </p:grpSpPr>
        <p:sp>
          <p:nvSpPr>
            <p:cNvPr id="587" name=""/>
            <p:cNvSpPr/>
            <p:nvPr/>
          </p:nvSpPr>
          <p:spPr>
            <a:xfrm flipV="1">
              <a:off x="4474440" y="4959000"/>
              <a:ext cx="468360" cy="3103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455440" y="5511600"/>
              <a:ext cx="468720" cy="30996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80440" y="5672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31800" y="4618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00400" y="609480"/>
            <a:ext cx="32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3200400" y="609480"/>
            <a:ext cx="32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533040" y="1333440"/>
            <a:ext cx="2082240" cy="1154160"/>
            <a:chOff x="3533040" y="1333440"/>
            <a:chExt cx="2082240" cy="1154160"/>
          </a:xfrm>
        </p:grpSpPr>
        <p:grpSp>
          <p:nvGrpSpPr>
            <p:cNvPr id="594" name=""/>
            <p:cNvGrpSpPr/>
            <p:nvPr/>
          </p:nvGrpSpPr>
          <p:grpSpPr>
            <a:xfrm>
              <a:off x="3533040" y="1339560"/>
              <a:ext cx="794880" cy="1148040"/>
              <a:chOff x="3533040" y="1339560"/>
              <a:chExt cx="794880" cy="1148040"/>
            </a:xfrm>
          </p:grpSpPr>
          <p:sp>
            <p:nvSpPr>
              <p:cNvPr id="595" name=""/>
              <p:cNvSpPr/>
              <p:nvPr/>
            </p:nvSpPr>
            <p:spPr>
              <a:xfrm>
                <a:off x="3533040" y="15919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6" name=""/>
              <p:cNvGrpSpPr/>
              <p:nvPr/>
            </p:nvGrpSpPr>
            <p:grpSpPr>
              <a:xfrm>
                <a:off x="3913560" y="1339560"/>
                <a:ext cx="414360" cy="1148040"/>
                <a:chOff x="3913560" y="1339560"/>
                <a:chExt cx="414360" cy="114804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3913560" y="13395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913920" y="19062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935520" y="1906200"/>
                  <a:ext cx="371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0" name=""/>
            <p:cNvGrpSpPr/>
            <p:nvPr/>
          </p:nvGrpSpPr>
          <p:grpSpPr>
            <a:xfrm>
              <a:off x="4848840" y="1333440"/>
              <a:ext cx="766440" cy="1148400"/>
              <a:chOff x="4848840" y="1333440"/>
              <a:chExt cx="766440" cy="1148400"/>
            </a:xfrm>
          </p:grpSpPr>
          <p:sp>
            <p:nvSpPr>
              <p:cNvPr id="601" name=""/>
              <p:cNvSpPr/>
              <p:nvPr/>
            </p:nvSpPr>
            <p:spPr>
              <a:xfrm>
                <a:off x="4848840" y="15858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2" name=""/>
              <p:cNvGrpSpPr/>
              <p:nvPr/>
            </p:nvGrpSpPr>
            <p:grpSpPr>
              <a:xfrm>
                <a:off x="5200560" y="1333440"/>
                <a:ext cx="414720" cy="1148400"/>
                <a:chOff x="5200560" y="1333440"/>
                <a:chExt cx="414720" cy="114840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5200560" y="13334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201280" y="19004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222520" y="1900440"/>
                  <a:ext cx="371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6" name=""/>
            <p:cNvSpPr/>
            <p:nvPr/>
          </p:nvSpPr>
          <p:spPr>
            <a:xfrm>
              <a:off x="4429080" y="158580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3699360" y="2606760"/>
            <a:ext cx="1781280" cy="1148400"/>
            <a:chOff x="3699360" y="2606760"/>
            <a:chExt cx="1781280" cy="1148400"/>
          </a:xfrm>
        </p:grpSpPr>
        <p:sp>
          <p:nvSpPr>
            <p:cNvPr id="608" name=""/>
            <p:cNvSpPr/>
            <p:nvPr/>
          </p:nvSpPr>
          <p:spPr>
            <a:xfrm>
              <a:off x="4369680" y="2859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3699360" y="2606760"/>
              <a:ext cx="646920" cy="1148040"/>
              <a:chOff x="3699360" y="2606760"/>
              <a:chExt cx="646920" cy="1148040"/>
            </a:xfrm>
          </p:grpSpPr>
          <p:sp>
            <p:nvSpPr>
              <p:cNvPr id="610" name=""/>
              <p:cNvSpPr/>
              <p:nvPr/>
            </p:nvSpPr>
            <p:spPr>
              <a:xfrm>
                <a:off x="3699360" y="26067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815640" y="3173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781440" y="3186360"/>
                <a:ext cx="48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4833720" y="2606760"/>
              <a:ext cx="646920" cy="1148400"/>
              <a:chOff x="4833720" y="2606760"/>
              <a:chExt cx="646920" cy="1148400"/>
            </a:xfrm>
          </p:grpSpPr>
          <p:sp>
            <p:nvSpPr>
              <p:cNvPr id="614" name=""/>
              <p:cNvSpPr/>
              <p:nvPr/>
            </p:nvSpPr>
            <p:spPr>
              <a:xfrm>
                <a:off x="4833720" y="26067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950720" y="31737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915080" y="3186360"/>
                <a:ext cx="48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2648160" y="3865680"/>
            <a:ext cx="1700280" cy="1147680"/>
            <a:chOff x="2648160" y="3865680"/>
            <a:chExt cx="1700280" cy="1147680"/>
          </a:xfrm>
        </p:grpSpPr>
        <p:grpSp>
          <p:nvGrpSpPr>
            <p:cNvPr id="618" name=""/>
            <p:cNvGrpSpPr/>
            <p:nvPr/>
          </p:nvGrpSpPr>
          <p:grpSpPr>
            <a:xfrm>
              <a:off x="2648160" y="3865680"/>
              <a:ext cx="646920" cy="1147680"/>
              <a:chOff x="2648160" y="3865680"/>
              <a:chExt cx="646920" cy="1147680"/>
            </a:xfrm>
          </p:grpSpPr>
          <p:sp>
            <p:nvSpPr>
              <p:cNvPr id="619" name=""/>
              <p:cNvSpPr/>
              <p:nvPr/>
            </p:nvSpPr>
            <p:spPr>
              <a:xfrm>
                <a:off x="2648160" y="38656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764800" y="4431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30600" y="4444560"/>
                <a:ext cx="48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3701520" y="3865680"/>
              <a:ext cx="646920" cy="1147680"/>
              <a:chOff x="3701520" y="3865680"/>
              <a:chExt cx="646920" cy="1147680"/>
            </a:xfrm>
          </p:grpSpPr>
          <p:sp>
            <p:nvSpPr>
              <p:cNvPr id="623" name=""/>
              <p:cNvSpPr/>
              <p:nvPr/>
            </p:nvSpPr>
            <p:spPr>
              <a:xfrm>
                <a:off x="3816720" y="38656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701520" y="44319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782520" y="4444920"/>
                <a:ext cx="4842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>
              <a:off x="3334680" y="4149720"/>
              <a:ext cx="33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372200" y="3608280"/>
            <a:ext cx="2161440" cy="1626480"/>
            <a:chOff x="4372200" y="3608280"/>
            <a:chExt cx="2161440" cy="1626480"/>
          </a:xfrm>
        </p:grpSpPr>
        <p:grpSp>
          <p:nvGrpSpPr>
            <p:cNvPr id="628" name=""/>
            <p:cNvGrpSpPr/>
            <p:nvPr/>
          </p:nvGrpSpPr>
          <p:grpSpPr>
            <a:xfrm>
              <a:off x="5771880" y="3865680"/>
              <a:ext cx="646920" cy="1148040"/>
              <a:chOff x="5771880" y="3865680"/>
              <a:chExt cx="646920" cy="1148040"/>
            </a:xfrm>
          </p:grpSpPr>
          <p:sp>
            <p:nvSpPr>
              <p:cNvPr id="629" name=""/>
              <p:cNvSpPr/>
              <p:nvPr/>
            </p:nvSpPr>
            <p:spPr>
              <a:xfrm>
                <a:off x="5886720" y="38656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71880" y="44323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852880" y="4444920"/>
                <a:ext cx="483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4372200" y="41497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4729320" y="3865680"/>
              <a:ext cx="646920" cy="1147680"/>
              <a:chOff x="4729320" y="3865680"/>
              <a:chExt cx="646920" cy="1147680"/>
            </a:xfrm>
          </p:grpSpPr>
          <p:sp>
            <p:nvSpPr>
              <p:cNvPr id="634" name=""/>
              <p:cNvSpPr/>
              <p:nvPr/>
            </p:nvSpPr>
            <p:spPr>
              <a:xfrm>
                <a:off x="4729320" y="38656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845960" y="4431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811760" y="4444560"/>
                <a:ext cx="48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5401440" y="4149720"/>
              <a:ext cx="33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4628880" y="3608280"/>
              <a:ext cx="1904760" cy="1626480"/>
              <a:chOff x="4628880" y="3608280"/>
              <a:chExt cx="1904760" cy="1626480"/>
            </a:xfrm>
          </p:grpSpPr>
          <p:sp>
            <p:nvSpPr>
              <p:cNvPr id="639" name=""/>
              <p:cNvSpPr/>
              <p:nvPr/>
            </p:nvSpPr>
            <p:spPr>
              <a:xfrm flipV="1">
                <a:off x="4861440" y="4582440"/>
                <a:ext cx="389880" cy="2948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5913720" y="3976920"/>
                <a:ext cx="389880" cy="2955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628880" y="4775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cc33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179040" y="3608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cc33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5803200" y="227160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imate: 6 ÷ 3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484880" y="5291280"/>
            <a:ext cx="1267920" cy="1148040"/>
            <a:chOff x="4484880" y="5291280"/>
            <a:chExt cx="1267920" cy="1148040"/>
          </a:xfrm>
        </p:grpSpPr>
        <p:grpSp>
          <p:nvGrpSpPr>
            <p:cNvPr id="645" name=""/>
            <p:cNvGrpSpPr/>
            <p:nvPr/>
          </p:nvGrpSpPr>
          <p:grpSpPr>
            <a:xfrm>
              <a:off x="4849200" y="5291280"/>
              <a:ext cx="903600" cy="1148040"/>
              <a:chOff x="4849200" y="5291280"/>
              <a:chExt cx="903600" cy="1148040"/>
            </a:xfrm>
          </p:grpSpPr>
          <p:sp>
            <p:nvSpPr>
              <p:cNvPr id="646" name=""/>
              <p:cNvSpPr/>
              <p:nvPr/>
            </p:nvSpPr>
            <p:spPr>
              <a:xfrm>
                <a:off x="4849200" y="554364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"/>
              <p:cNvGrpSpPr/>
              <p:nvPr/>
            </p:nvGrpSpPr>
            <p:grpSpPr>
              <a:xfrm>
                <a:off x="5105160" y="5291280"/>
                <a:ext cx="647640" cy="1148040"/>
                <a:chOff x="5105160" y="5291280"/>
                <a:chExt cx="647640" cy="11480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105160" y="529128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1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105880" y="585792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2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186520" y="5870520"/>
                  <a:ext cx="484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1" name=""/>
            <p:cNvSpPr/>
            <p:nvPr/>
          </p:nvSpPr>
          <p:spPr>
            <a:xfrm>
              <a:off x="4484880" y="55753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367440" y="5291280"/>
            <a:ext cx="1098000" cy="1148040"/>
            <a:chOff x="3367440" y="5291280"/>
            <a:chExt cx="1098000" cy="1148040"/>
          </a:xfrm>
        </p:grpSpPr>
        <p:grpSp>
          <p:nvGrpSpPr>
            <p:cNvPr id="653" name=""/>
            <p:cNvGrpSpPr/>
            <p:nvPr/>
          </p:nvGrpSpPr>
          <p:grpSpPr>
            <a:xfrm>
              <a:off x="3818520" y="5291280"/>
              <a:ext cx="646920" cy="1148040"/>
              <a:chOff x="3818520" y="5291280"/>
              <a:chExt cx="646920" cy="1148040"/>
            </a:xfrm>
          </p:grpSpPr>
          <p:sp>
            <p:nvSpPr>
              <p:cNvPr id="654" name=""/>
              <p:cNvSpPr/>
              <p:nvPr/>
            </p:nvSpPr>
            <p:spPr>
              <a:xfrm>
                <a:off x="3818520" y="52912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818520" y="58579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99160" y="5870520"/>
                <a:ext cx="48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3367440" y="55738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7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814320" y="1447920"/>
            <a:ext cx="75265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When you finish this unit, you will be able to 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33600" y="2797200"/>
            <a:ext cx="50072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de fractions and mixed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de rationa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200400" y="609480"/>
            <a:ext cx="32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87520" y="2108160"/>
            <a:ext cx="798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viding mixed numbers requires you to change mixed numbers to improper fractions before you can proc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35320" y="1379520"/>
            <a:ext cx="26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membe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3371760" y="3986280"/>
            <a:ext cx="2414520" cy="2361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385920" y="1916280"/>
            <a:ext cx="8286480" cy="32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ividing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Rational Expressions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205080" y="68580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tional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2631960" y="1320840"/>
            <a:ext cx="3911760" cy="1280880"/>
            <a:chOff x="2631960" y="1320840"/>
            <a:chExt cx="3911760" cy="1280880"/>
          </a:xfrm>
        </p:grpSpPr>
        <p:grpSp>
          <p:nvGrpSpPr>
            <p:cNvPr id="665" name=""/>
            <p:cNvGrpSpPr/>
            <p:nvPr/>
          </p:nvGrpSpPr>
          <p:grpSpPr>
            <a:xfrm>
              <a:off x="2631960" y="1320840"/>
              <a:ext cx="1133640" cy="1280880"/>
              <a:chOff x="2631960" y="1320840"/>
              <a:chExt cx="1133640" cy="1280880"/>
            </a:xfrm>
          </p:grpSpPr>
          <p:sp>
            <p:nvSpPr>
              <p:cNvPr id="666" name=""/>
              <p:cNvSpPr/>
              <p:nvPr/>
            </p:nvSpPr>
            <p:spPr>
              <a:xfrm>
                <a:off x="2662560" y="1320840"/>
                <a:ext cx="1070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x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916000" y="1959120"/>
                <a:ext cx="595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631960" y="1962360"/>
                <a:ext cx="113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4437000" y="1322280"/>
              <a:ext cx="1549440" cy="1279440"/>
              <a:chOff x="4437000" y="1322280"/>
              <a:chExt cx="1549440" cy="1279440"/>
            </a:xfrm>
          </p:grpSpPr>
          <p:sp>
            <p:nvSpPr>
              <p:cNvPr id="670" name=""/>
              <p:cNvSpPr/>
              <p:nvPr/>
            </p:nvSpPr>
            <p:spPr>
              <a:xfrm>
                <a:off x="4930560" y="1959120"/>
                <a:ext cx="595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469040" y="1322280"/>
                <a:ext cx="1485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2x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437000" y="1963800"/>
                <a:ext cx="1549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3862440" y="16095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÷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115320" y="1609560"/>
              <a:ext cx="428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2676240" y="2868480"/>
            <a:ext cx="3822480" cy="1284120"/>
            <a:chOff x="2676240" y="2868480"/>
            <a:chExt cx="3822480" cy="1284120"/>
          </a:xfrm>
        </p:grpSpPr>
        <p:grpSp>
          <p:nvGrpSpPr>
            <p:cNvPr id="676" name=""/>
            <p:cNvGrpSpPr/>
            <p:nvPr/>
          </p:nvGrpSpPr>
          <p:grpSpPr>
            <a:xfrm>
              <a:off x="2676240" y="2869920"/>
              <a:ext cx="1133280" cy="1280880"/>
              <a:chOff x="2676240" y="2869920"/>
              <a:chExt cx="1133280" cy="1280880"/>
            </a:xfrm>
          </p:grpSpPr>
          <p:sp>
            <p:nvSpPr>
              <p:cNvPr id="677" name=""/>
              <p:cNvSpPr/>
              <p:nvPr/>
            </p:nvSpPr>
            <p:spPr>
              <a:xfrm>
                <a:off x="2706840" y="2869920"/>
                <a:ext cx="1070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x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960280" y="3508200"/>
                <a:ext cx="595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676240" y="3511440"/>
                <a:ext cx="113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4423680" y="2868480"/>
              <a:ext cx="1549080" cy="1284120"/>
              <a:chOff x="4423680" y="2868480"/>
              <a:chExt cx="1549080" cy="1284120"/>
            </a:xfrm>
          </p:grpSpPr>
          <p:sp>
            <p:nvSpPr>
              <p:cNvPr id="681" name=""/>
              <p:cNvSpPr/>
              <p:nvPr/>
            </p:nvSpPr>
            <p:spPr>
              <a:xfrm flipH="1">
                <a:off x="4917240" y="2868480"/>
                <a:ext cx="595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4455360" y="3510000"/>
                <a:ext cx="1485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2x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4423680" y="3514680"/>
                <a:ext cx="154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3922200" y="3159000"/>
              <a:ext cx="37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70320" y="3159000"/>
              <a:ext cx="428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650880" y="4483080"/>
            <a:ext cx="7872480" cy="1162440"/>
            <a:chOff x="650880" y="4483080"/>
            <a:chExt cx="7872480" cy="1162440"/>
          </a:xfrm>
        </p:grpSpPr>
        <p:grpSp>
          <p:nvGrpSpPr>
            <p:cNvPr id="687" name=""/>
            <p:cNvGrpSpPr/>
            <p:nvPr/>
          </p:nvGrpSpPr>
          <p:grpSpPr>
            <a:xfrm>
              <a:off x="650880" y="4483080"/>
              <a:ext cx="2292120" cy="1162440"/>
              <a:chOff x="650880" y="4483080"/>
              <a:chExt cx="2292120" cy="1162440"/>
            </a:xfrm>
          </p:grpSpPr>
          <p:sp>
            <p:nvSpPr>
              <p:cNvPr id="688" name=""/>
              <p:cNvSpPr/>
              <p:nvPr/>
            </p:nvSpPr>
            <p:spPr>
              <a:xfrm>
                <a:off x="727200" y="4483080"/>
                <a:ext cx="21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 • x • x • 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50880" y="5060880"/>
                <a:ext cx="229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993960" y="5064120"/>
                <a:ext cx="1605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 • 2 • 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3548160" y="4491000"/>
              <a:ext cx="4975200" cy="1148040"/>
              <a:chOff x="3548160" y="4491000"/>
              <a:chExt cx="4975200" cy="1148040"/>
            </a:xfrm>
          </p:grpSpPr>
          <p:sp>
            <p:nvSpPr>
              <p:cNvPr id="692" name=""/>
              <p:cNvSpPr/>
              <p:nvPr/>
            </p:nvSpPr>
            <p:spPr>
              <a:xfrm>
                <a:off x="5529960" y="4491000"/>
                <a:ext cx="1009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 • 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704760" y="5057640"/>
                <a:ext cx="465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 • x • x • x • y • y • y • 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3548160" y="5069880"/>
                <a:ext cx="497520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3049560" y="4711680"/>
              <a:ext cx="37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579600" y="1438200"/>
            <a:ext cx="7872480" cy="1162440"/>
            <a:chOff x="579600" y="1438200"/>
            <a:chExt cx="7872480" cy="1162440"/>
          </a:xfrm>
        </p:grpSpPr>
        <p:grpSp>
          <p:nvGrpSpPr>
            <p:cNvPr id="697" name=""/>
            <p:cNvGrpSpPr/>
            <p:nvPr/>
          </p:nvGrpSpPr>
          <p:grpSpPr>
            <a:xfrm>
              <a:off x="579600" y="1438200"/>
              <a:ext cx="2292120" cy="1162440"/>
              <a:chOff x="579600" y="1438200"/>
              <a:chExt cx="2292120" cy="1162440"/>
            </a:xfrm>
          </p:grpSpPr>
          <p:sp>
            <p:nvSpPr>
              <p:cNvPr id="698" name=""/>
              <p:cNvSpPr/>
              <p:nvPr/>
            </p:nvSpPr>
            <p:spPr>
              <a:xfrm>
                <a:off x="655920" y="1438200"/>
                <a:ext cx="21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 • x • x • 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79600" y="2016000"/>
                <a:ext cx="229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922680" y="2019240"/>
                <a:ext cx="1605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 • 2 • 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3476880" y="1446120"/>
              <a:ext cx="4975200" cy="1148040"/>
              <a:chOff x="3476880" y="1446120"/>
              <a:chExt cx="4975200" cy="1148040"/>
            </a:xfrm>
          </p:grpSpPr>
          <p:sp>
            <p:nvSpPr>
              <p:cNvPr id="702" name=""/>
              <p:cNvSpPr/>
              <p:nvPr/>
            </p:nvSpPr>
            <p:spPr>
              <a:xfrm>
                <a:off x="5458680" y="1446120"/>
                <a:ext cx="1009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 • 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633480" y="2012760"/>
                <a:ext cx="465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 • x • x • x • y • y • y • 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476880" y="2025000"/>
                <a:ext cx="497520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2978280" y="1666800"/>
              <a:ext cx="37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48000" y="3294000"/>
            <a:ext cx="7872480" cy="1162440"/>
            <a:chOff x="648000" y="3294000"/>
            <a:chExt cx="7872480" cy="1162440"/>
          </a:xfrm>
        </p:grpSpPr>
        <p:grpSp>
          <p:nvGrpSpPr>
            <p:cNvPr id="707" name=""/>
            <p:cNvGrpSpPr/>
            <p:nvPr/>
          </p:nvGrpSpPr>
          <p:grpSpPr>
            <a:xfrm>
              <a:off x="648000" y="3294000"/>
              <a:ext cx="2292120" cy="1162440"/>
              <a:chOff x="648000" y="3294000"/>
              <a:chExt cx="2292120" cy="1162440"/>
            </a:xfrm>
          </p:grpSpPr>
          <p:sp>
            <p:nvSpPr>
              <p:cNvPr id="708" name=""/>
              <p:cNvSpPr/>
              <p:nvPr/>
            </p:nvSpPr>
            <p:spPr>
              <a:xfrm>
                <a:off x="724320" y="3294000"/>
                <a:ext cx="21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 • x • x • 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8000" y="3871800"/>
                <a:ext cx="229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991080" y="3875040"/>
                <a:ext cx="1605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 • 2 • 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3545280" y="3301920"/>
              <a:ext cx="4975200" cy="1148040"/>
              <a:chOff x="3545280" y="3301920"/>
              <a:chExt cx="4975200" cy="1148040"/>
            </a:xfrm>
          </p:grpSpPr>
          <p:sp>
            <p:nvSpPr>
              <p:cNvPr id="712" name=""/>
              <p:cNvSpPr/>
              <p:nvPr/>
            </p:nvSpPr>
            <p:spPr>
              <a:xfrm>
                <a:off x="5527080" y="3301920"/>
                <a:ext cx="1009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 • 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01880" y="3868560"/>
                <a:ext cx="465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 • x • x • x • y • y • y • 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545280" y="3880800"/>
                <a:ext cx="497520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>
              <a:off x="3046680" y="3522600"/>
              <a:ext cx="37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993960" y="3412800"/>
            <a:ext cx="4863600" cy="889560"/>
            <a:chOff x="993960" y="3412800"/>
            <a:chExt cx="4863600" cy="889560"/>
          </a:xfrm>
        </p:grpSpPr>
        <p:sp>
          <p:nvSpPr>
            <p:cNvPr id="717" name=""/>
            <p:cNvSpPr/>
            <p:nvPr/>
          </p:nvSpPr>
          <p:spPr>
            <a:xfrm flipV="1">
              <a:off x="993960" y="3945600"/>
              <a:ext cx="325080" cy="35676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5532840" y="3412800"/>
              <a:ext cx="324720" cy="35640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1617840" y="3412800"/>
            <a:ext cx="4863600" cy="889560"/>
            <a:chOff x="1617840" y="3412800"/>
            <a:chExt cx="4863600" cy="889560"/>
          </a:xfrm>
        </p:grpSpPr>
        <p:sp>
          <p:nvSpPr>
            <p:cNvPr id="720" name=""/>
            <p:cNvSpPr/>
            <p:nvPr/>
          </p:nvSpPr>
          <p:spPr>
            <a:xfrm flipV="1">
              <a:off x="1617840" y="3945600"/>
              <a:ext cx="325080" cy="35676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156720" y="3412800"/>
              <a:ext cx="324720" cy="356400"/>
            </a:xfrm>
            <a:prstGeom prst="line">
              <a:avLst/>
            </a:prstGeom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308240" y="3407400"/>
            <a:ext cx="3449520" cy="948960"/>
            <a:chOff x="1308240" y="3407400"/>
            <a:chExt cx="3449520" cy="948960"/>
          </a:xfrm>
        </p:grpSpPr>
        <p:sp>
          <p:nvSpPr>
            <p:cNvPr id="723" name=""/>
            <p:cNvSpPr/>
            <p:nvPr/>
          </p:nvSpPr>
          <p:spPr>
            <a:xfrm flipV="1">
              <a:off x="1308240" y="3407400"/>
              <a:ext cx="325080" cy="35676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4432680" y="3999600"/>
              <a:ext cx="325080" cy="35676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918080" y="3407400"/>
            <a:ext cx="3449160" cy="948960"/>
            <a:chOff x="1918080" y="3407400"/>
            <a:chExt cx="3449160" cy="948960"/>
          </a:xfrm>
        </p:grpSpPr>
        <p:sp>
          <p:nvSpPr>
            <p:cNvPr id="726" name=""/>
            <p:cNvSpPr/>
            <p:nvPr/>
          </p:nvSpPr>
          <p:spPr>
            <a:xfrm flipV="1">
              <a:off x="1918080" y="3407400"/>
              <a:ext cx="325080" cy="35676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5042160" y="3999600"/>
              <a:ext cx="325080" cy="35676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2570400" y="3407400"/>
            <a:ext cx="4020480" cy="950760"/>
            <a:chOff x="2570400" y="3407400"/>
            <a:chExt cx="4020480" cy="950760"/>
          </a:xfrm>
        </p:grpSpPr>
        <p:sp>
          <p:nvSpPr>
            <p:cNvPr id="729" name=""/>
            <p:cNvSpPr/>
            <p:nvPr/>
          </p:nvSpPr>
          <p:spPr>
            <a:xfrm flipV="1">
              <a:off x="2570400" y="3407400"/>
              <a:ext cx="325080" cy="356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266160" y="4001760"/>
              <a:ext cx="324720" cy="356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473760" y="3065400"/>
            <a:ext cx="3731760" cy="1671120"/>
            <a:chOff x="473760" y="3065400"/>
            <a:chExt cx="3731760" cy="1671120"/>
          </a:xfrm>
        </p:grpSpPr>
        <p:sp>
          <p:nvSpPr>
            <p:cNvPr id="732" name=""/>
            <p:cNvSpPr/>
            <p:nvPr/>
          </p:nvSpPr>
          <p:spPr>
            <a:xfrm flipV="1">
              <a:off x="684360" y="3407400"/>
              <a:ext cx="325080" cy="356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3665880" y="3974760"/>
              <a:ext cx="324720" cy="356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50920" y="4276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73760" y="3065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4024080" y="5208480"/>
            <a:ext cx="970200" cy="1162440"/>
            <a:chOff x="4024080" y="5208480"/>
            <a:chExt cx="970200" cy="1162440"/>
          </a:xfrm>
        </p:grpSpPr>
        <p:sp>
          <p:nvSpPr>
            <p:cNvPr id="737" name=""/>
            <p:cNvSpPr/>
            <p:nvPr/>
          </p:nvSpPr>
          <p:spPr>
            <a:xfrm>
              <a:off x="4302360" y="52084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024080" y="5789520"/>
              <a:ext cx="97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8xy</a:t>
              </a:r>
              <a:r>
                <a:rPr b="0" lang="en-US" sz="3200" spc="-1" strike="noStrike" baseline="30000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33800" y="5789520"/>
              <a:ext cx="952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3205080" y="68580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tional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2658960" y="1335240"/>
            <a:ext cx="3860640" cy="1280880"/>
            <a:chOff x="2658960" y="1335240"/>
            <a:chExt cx="3860640" cy="1280880"/>
          </a:xfrm>
        </p:grpSpPr>
        <p:grpSp>
          <p:nvGrpSpPr>
            <p:cNvPr id="742" name=""/>
            <p:cNvGrpSpPr/>
            <p:nvPr/>
          </p:nvGrpSpPr>
          <p:grpSpPr>
            <a:xfrm>
              <a:off x="4865400" y="1336680"/>
              <a:ext cx="1133640" cy="1279440"/>
              <a:chOff x="4865400" y="1336680"/>
              <a:chExt cx="1133640" cy="1279440"/>
            </a:xfrm>
          </p:grpSpPr>
          <p:sp>
            <p:nvSpPr>
              <p:cNvPr id="743" name=""/>
              <p:cNvSpPr/>
              <p:nvPr/>
            </p:nvSpPr>
            <p:spPr>
              <a:xfrm>
                <a:off x="4865400" y="1976400"/>
                <a:ext cx="113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994280" y="1973520"/>
                <a:ext cx="87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q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899960" y="1336680"/>
                <a:ext cx="106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p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2658960" y="1335240"/>
              <a:ext cx="1549440" cy="1280880"/>
              <a:chOff x="2658960" y="1335240"/>
              <a:chExt cx="1549440" cy="1280880"/>
            </a:xfrm>
          </p:grpSpPr>
          <p:sp>
            <p:nvSpPr>
              <p:cNvPr id="747" name=""/>
              <p:cNvSpPr/>
              <p:nvPr/>
            </p:nvSpPr>
            <p:spPr>
              <a:xfrm>
                <a:off x="2694960" y="1335240"/>
                <a:ext cx="1480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5p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071520" y="1973520"/>
                <a:ext cx="724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q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658960" y="1978200"/>
                <a:ext cx="1549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4295520" y="16239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÷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091200" y="1623960"/>
              <a:ext cx="428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2673360" y="3154320"/>
            <a:ext cx="3832200" cy="1285560"/>
            <a:chOff x="2673360" y="3154320"/>
            <a:chExt cx="3832200" cy="1285560"/>
          </a:xfrm>
        </p:grpSpPr>
        <p:sp>
          <p:nvSpPr>
            <p:cNvPr id="753" name=""/>
            <p:cNvSpPr/>
            <p:nvPr/>
          </p:nvSpPr>
          <p:spPr>
            <a:xfrm>
              <a:off x="4885920" y="3789360"/>
              <a:ext cx="106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5p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Comic Sans MS"/>
                </a:rPr>
                <a:t>6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51360" y="3800520"/>
              <a:ext cx="113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980240" y="3154320"/>
              <a:ext cx="87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8q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2673360" y="3159000"/>
              <a:ext cx="1549440" cy="1280880"/>
              <a:chOff x="2673360" y="3159000"/>
              <a:chExt cx="1549440" cy="1280880"/>
            </a:xfrm>
          </p:grpSpPr>
          <p:sp>
            <p:nvSpPr>
              <p:cNvPr id="757" name=""/>
              <p:cNvSpPr/>
              <p:nvPr/>
            </p:nvSpPr>
            <p:spPr>
              <a:xfrm>
                <a:off x="2709360" y="3159000"/>
                <a:ext cx="1480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5p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085560" y="3797280"/>
                <a:ext cx="724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q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673360" y="3801960"/>
                <a:ext cx="1549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4335480" y="3448080"/>
              <a:ext cx="37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76800" y="3448080"/>
              <a:ext cx="428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316400" y="5211720"/>
            <a:ext cx="1251000" cy="995040"/>
            <a:chOff x="4316400" y="5211720"/>
            <a:chExt cx="1251000" cy="995040"/>
          </a:xfrm>
        </p:grpSpPr>
        <p:sp>
          <p:nvSpPr>
            <p:cNvPr id="763" name=""/>
            <p:cNvSpPr/>
            <p:nvPr/>
          </p:nvSpPr>
          <p:spPr>
            <a:xfrm>
              <a:off x="4316400" y="5211720"/>
              <a:ext cx="37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4819680" y="5564160"/>
              <a:ext cx="747720" cy="642600"/>
              <a:chOff x="4819680" y="5564160"/>
              <a:chExt cx="747720" cy="642600"/>
            </a:xfrm>
          </p:grpSpPr>
          <p:sp>
            <p:nvSpPr>
              <p:cNvPr id="765" name=""/>
              <p:cNvSpPr/>
              <p:nvPr/>
            </p:nvSpPr>
            <p:spPr>
              <a:xfrm>
                <a:off x="4886280" y="5564160"/>
                <a:ext cx="61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19680" y="5564160"/>
                <a:ext cx="747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7" name=""/>
          <p:cNvSpPr/>
          <p:nvPr/>
        </p:nvSpPr>
        <p:spPr>
          <a:xfrm>
            <a:off x="4755240" y="49179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32440" y="4916520"/>
            <a:ext cx="6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544920" y="5554800"/>
            <a:ext cx="658800" cy="642600"/>
            <a:chOff x="3544920" y="5554800"/>
            <a:chExt cx="658800" cy="642600"/>
          </a:xfrm>
        </p:grpSpPr>
        <p:sp>
          <p:nvSpPr>
            <p:cNvPr id="770" name=""/>
            <p:cNvSpPr/>
            <p:nvPr/>
          </p:nvSpPr>
          <p:spPr>
            <a:xfrm>
              <a:off x="3652200" y="5554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544920" y="5554800"/>
              <a:ext cx="65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3545640" y="4929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25000" y="4927680"/>
            <a:ext cx="36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05080" y="68580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tional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3544920" y="1530360"/>
            <a:ext cx="2102400" cy="1290240"/>
            <a:chOff x="3544920" y="1530360"/>
            <a:chExt cx="2102400" cy="1290240"/>
          </a:xfrm>
        </p:grpSpPr>
        <p:grpSp>
          <p:nvGrpSpPr>
            <p:cNvPr id="776" name=""/>
            <p:cNvGrpSpPr/>
            <p:nvPr/>
          </p:nvGrpSpPr>
          <p:grpSpPr>
            <a:xfrm>
              <a:off x="4316400" y="1825560"/>
              <a:ext cx="1251000" cy="995040"/>
              <a:chOff x="4316400" y="1825560"/>
              <a:chExt cx="1251000" cy="995040"/>
            </a:xfrm>
          </p:grpSpPr>
          <p:sp>
            <p:nvSpPr>
              <p:cNvPr id="777" name=""/>
              <p:cNvSpPr/>
              <p:nvPr/>
            </p:nvSpPr>
            <p:spPr>
              <a:xfrm>
                <a:off x="4316400" y="1825560"/>
                <a:ext cx="371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4819680" y="2178000"/>
                <a:ext cx="747720" cy="642600"/>
                <a:chOff x="4819680" y="2178000"/>
                <a:chExt cx="747720" cy="64260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4886280" y="2178000"/>
                  <a:ext cx="61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p</a:t>
                  </a:r>
                  <a:r>
                    <a:rPr b="0" lang="en-US" sz="3600" spc="-1" strike="noStrike" baseline="30000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819680" y="2178000"/>
                  <a:ext cx="74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1" name=""/>
            <p:cNvSpPr/>
            <p:nvPr/>
          </p:nvSpPr>
          <p:spPr>
            <a:xfrm>
              <a:off x="4755240" y="1531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032440" y="1530360"/>
              <a:ext cx="61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3544920" y="2168640"/>
              <a:ext cx="658800" cy="642600"/>
              <a:chOff x="3544920" y="2168640"/>
              <a:chExt cx="658800" cy="642600"/>
            </a:xfrm>
          </p:grpSpPr>
          <p:sp>
            <p:nvSpPr>
              <p:cNvPr id="784" name=""/>
              <p:cNvSpPr/>
              <p:nvPr/>
            </p:nvSpPr>
            <p:spPr>
              <a:xfrm>
                <a:off x="3652200" y="216864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544920" y="2168640"/>
                <a:ext cx="65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3545640" y="15429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25000" y="1541520"/>
              <a:ext cx="36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3924720" y="3524400"/>
            <a:ext cx="1328040" cy="1266480"/>
            <a:chOff x="3924720" y="3524400"/>
            <a:chExt cx="1328040" cy="1266480"/>
          </a:xfrm>
        </p:grpSpPr>
        <p:sp>
          <p:nvSpPr>
            <p:cNvPr id="789" name=""/>
            <p:cNvSpPr/>
            <p:nvPr/>
          </p:nvSpPr>
          <p:spPr>
            <a:xfrm>
              <a:off x="3924720" y="3524400"/>
              <a:ext cx="132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2q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32280" y="4165560"/>
              <a:ext cx="1314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282920" y="4148280"/>
              <a:ext cx="61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p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205080" y="68580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tional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1308240" y="2749680"/>
            <a:ext cx="7122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6600"/>
                </a:solidFill>
                <a:latin typeface="Comic Sans MS"/>
              </a:rPr>
              <a:t>Square Root </a:t>
            </a:r>
            <a:br>
              <a:rPr sz="8000"/>
            </a:br>
            <a:r>
              <a:rPr b="0" lang="en-US" sz="8000" spc="-1" strike="noStrike">
                <a:solidFill>
                  <a:srgbClr val="cc6600"/>
                </a:solidFill>
                <a:latin typeface="Comic Sans MS"/>
              </a:rPr>
              <a:t>of a Frac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835200"/>
            <a:ext cx="9144000" cy="360"/>
          </a:xfrm>
          <a:prstGeom prst="rect">
            <a:avLst/>
          </a:prstGeom>
          <a:solidFill>
            <a:srgbClr val="316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228600" y="2432160"/>
                <a:ext cx="2997360" cy="33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796" name=""/>
          <p:cNvSpPr/>
          <p:nvPr/>
        </p:nvSpPr>
        <p:spPr>
          <a:xfrm>
            <a:off x="2921040" y="2736720"/>
            <a:ext cx="5041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921040" y="2800440"/>
            <a:ext cx="5041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43280" y="4102200"/>
            <a:ext cx="601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75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3000240" y="66672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re Root of 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1612080" y="1646280"/>
            <a:ext cx="1560960" cy="1312920"/>
            <a:chOff x="1612080" y="1646280"/>
            <a:chExt cx="1560960" cy="1312920"/>
          </a:xfrm>
        </p:grpSpPr>
        <p:grpSp>
          <p:nvGrpSpPr>
            <p:cNvPr id="801" name=""/>
            <p:cNvGrpSpPr/>
            <p:nvPr/>
          </p:nvGrpSpPr>
          <p:grpSpPr>
            <a:xfrm>
              <a:off x="1612080" y="1646280"/>
              <a:ext cx="1560960" cy="1312920"/>
              <a:chOff x="1612080" y="1646280"/>
              <a:chExt cx="1560960" cy="1312920"/>
            </a:xfrm>
          </p:grpSpPr>
          <p:sp>
            <p:nvSpPr>
              <p:cNvPr id="802" name=""/>
              <p:cNvSpPr/>
              <p:nvPr/>
            </p:nvSpPr>
            <p:spPr>
              <a:xfrm>
                <a:off x="1612080" y="1646280"/>
                <a:ext cx="721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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222280" y="1712880"/>
                <a:ext cx="95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2330280" y="17013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331720" y="2285640"/>
              <a:ext cx="70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330280" y="22683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8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3685320" y="1528920"/>
            <a:ext cx="1700640" cy="1545120"/>
            <a:chOff x="3685320" y="1528920"/>
            <a:chExt cx="1700640" cy="1545120"/>
          </a:xfrm>
        </p:grpSpPr>
        <p:sp>
          <p:nvSpPr>
            <p:cNvPr id="808" name=""/>
            <p:cNvSpPr/>
            <p:nvPr/>
          </p:nvSpPr>
          <p:spPr>
            <a:xfrm>
              <a:off x="3685320" y="19494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4258800" y="1528920"/>
              <a:ext cx="1127160" cy="1545120"/>
              <a:chOff x="4258800" y="1528920"/>
              <a:chExt cx="1127160" cy="1545120"/>
            </a:xfrm>
          </p:grpSpPr>
          <p:grpSp>
            <p:nvGrpSpPr>
              <p:cNvPr id="810" name=""/>
              <p:cNvGrpSpPr/>
              <p:nvPr/>
            </p:nvGrpSpPr>
            <p:grpSpPr>
              <a:xfrm>
                <a:off x="4264200" y="1528920"/>
                <a:ext cx="1121760" cy="764280"/>
                <a:chOff x="4264200" y="1528920"/>
                <a:chExt cx="1121760" cy="76428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4647600" y="158904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4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2" name=""/>
                <p:cNvGrpSpPr/>
                <p:nvPr/>
              </p:nvGrpSpPr>
              <p:grpSpPr>
                <a:xfrm>
                  <a:off x="4264200" y="1528920"/>
                  <a:ext cx="1121760" cy="764280"/>
                  <a:chOff x="4264200" y="1528920"/>
                  <a:chExt cx="1121760" cy="76428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4264200" y="1528920"/>
                    <a:ext cx="47952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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4642920" y="1576440"/>
                    <a:ext cx="743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15" name=""/>
              <p:cNvGrpSpPr/>
              <p:nvPr/>
            </p:nvGrpSpPr>
            <p:grpSpPr>
              <a:xfrm>
                <a:off x="4262760" y="2309760"/>
                <a:ext cx="1121040" cy="764280"/>
                <a:chOff x="4262760" y="2309760"/>
                <a:chExt cx="1121040" cy="76428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4609800" y="236988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8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7" name=""/>
                <p:cNvGrpSpPr/>
                <p:nvPr/>
              </p:nvGrpSpPr>
              <p:grpSpPr>
                <a:xfrm>
                  <a:off x="4262760" y="2309760"/>
                  <a:ext cx="1121040" cy="764280"/>
                  <a:chOff x="4262760" y="2309760"/>
                  <a:chExt cx="1121040" cy="76428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>
                    <a:off x="4262760" y="2309760"/>
                    <a:ext cx="47952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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4641120" y="2357280"/>
                    <a:ext cx="742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0" name=""/>
              <p:cNvSpPr/>
              <p:nvPr/>
            </p:nvSpPr>
            <p:spPr>
              <a:xfrm>
                <a:off x="4258800" y="2230560"/>
                <a:ext cx="1127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1" name=""/>
          <p:cNvGrpSpPr/>
          <p:nvPr/>
        </p:nvGrpSpPr>
        <p:grpSpPr>
          <a:xfrm>
            <a:off x="6007680" y="1644480"/>
            <a:ext cx="1074600" cy="1223640"/>
            <a:chOff x="6007680" y="1644480"/>
            <a:chExt cx="1074600" cy="1223640"/>
          </a:xfrm>
        </p:grpSpPr>
        <p:sp>
          <p:nvSpPr>
            <p:cNvPr id="822" name=""/>
            <p:cNvSpPr/>
            <p:nvPr/>
          </p:nvSpPr>
          <p:spPr>
            <a:xfrm>
              <a:off x="6007680" y="19364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6639480" y="1644480"/>
              <a:ext cx="442800" cy="1223640"/>
              <a:chOff x="6639480" y="1644480"/>
              <a:chExt cx="442800" cy="1223640"/>
            </a:xfrm>
          </p:grpSpPr>
          <p:sp>
            <p:nvSpPr>
              <p:cNvPr id="824" name=""/>
              <p:cNvSpPr/>
              <p:nvPr/>
            </p:nvSpPr>
            <p:spPr>
              <a:xfrm>
                <a:off x="6639480" y="16444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639480" y="22255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653160" y="2239920"/>
                <a:ext cx="41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7" name=""/>
          <p:cNvGrpSpPr/>
          <p:nvPr/>
        </p:nvGrpSpPr>
        <p:grpSpPr>
          <a:xfrm>
            <a:off x="1715760" y="3879720"/>
            <a:ext cx="5186160" cy="1240920"/>
            <a:chOff x="1715760" y="3879720"/>
            <a:chExt cx="5186160" cy="1240920"/>
          </a:xfrm>
        </p:grpSpPr>
        <p:sp>
          <p:nvSpPr>
            <p:cNvPr id="828" name=""/>
            <p:cNvSpPr/>
            <p:nvPr/>
          </p:nvSpPr>
          <p:spPr>
            <a:xfrm>
              <a:off x="1715760" y="4147920"/>
              <a:ext cx="215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becaus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4061160" y="3887640"/>
              <a:ext cx="442800" cy="1223640"/>
              <a:chOff x="4061160" y="3887640"/>
              <a:chExt cx="442800" cy="1223640"/>
            </a:xfrm>
          </p:grpSpPr>
          <p:sp>
            <p:nvSpPr>
              <p:cNvPr id="830" name=""/>
              <p:cNvSpPr/>
              <p:nvPr/>
            </p:nvSpPr>
            <p:spPr>
              <a:xfrm>
                <a:off x="4074480" y="4483080"/>
                <a:ext cx="415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061160" y="388764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061160" y="44686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5104080" y="3887640"/>
              <a:ext cx="442800" cy="1223640"/>
              <a:chOff x="5104080" y="3887640"/>
              <a:chExt cx="442800" cy="1223640"/>
            </a:xfrm>
          </p:grpSpPr>
          <p:sp>
            <p:nvSpPr>
              <p:cNvPr id="834" name=""/>
              <p:cNvSpPr/>
              <p:nvPr/>
            </p:nvSpPr>
            <p:spPr>
              <a:xfrm>
                <a:off x="5117400" y="4483080"/>
                <a:ext cx="415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04080" y="388764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104080" y="44686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4605120" y="4147920"/>
              <a:ext cx="37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643720" y="41479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6195240" y="3879720"/>
              <a:ext cx="706680" cy="1240920"/>
              <a:chOff x="6195240" y="3879720"/>
              <a:chExt cx="706680" cy="1240920"/>
            </a:xfrm>
          </p:grpSpPr>
          <p:sp>
            <p:nvSpPr>
              <p:cNvPr id="840" name=""/>
              <p:cNvSpPr/>
              <p:nvPr/>
            </p:nvSpPr>
            <p:spPr>
              <a:xfrm>
                <a:off x="6197040" y="387972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49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195240" y="44780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8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197040" y="4495680"/>
                <a:ext cx="7012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"/>
          <p:cNvGrpSpPr/>
          <p:nvPr/>
        </p:nvGrpSpPr>
        <p:grpSpPr>
          <a:xfrm>
            <a:off x="1725120" y="2224080"/>
            <a:ext cx="1560960" cy="1312920"/>
            <a:chOff x="1725120" y="2224080"/>
            <a:chExt cx="1560960" cy="1312920"/>
          </a:xfrm>
        </p:grpSpPr>
        <p:grpSp>
          <p:nvGrpSpPr>
            <p:cNvPr id="844" name=""/>
            <p:cNvGrpSpPr/>
            <p:nvPr/>
          </p:nvGrpSpPr>
          <p:grpSpPr>
            <a:xfrm>
              <a:off x="1725120" y="2224080"/>
              <a:ext cx="1560960" cy="1312920"/>
              <a:chOff x="1725120" y="2224080"/>
              <a:chExt cx="1560960" cy="1312920"/>
            </a:xfrm>
          </p:grpSpPr>
          <p:sp>
            <p:nvSpPr>
              <p:cNvPr id="845" name=""/>
              <p:cNvSpPr/>
              <p:nvPr/>
            </p:nvSpPr>
            <p:spPr>
              <a:xfrm>
                <a:off x="1725120" y="2224080"/>
                <a:ext cx="721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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335320" y="2290680"/>
                <a:ext cx="95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2459880" y="2276280"/>
              <a:ext cx="706680" cy="1209240"/>
              <a:chOff x="2459880" y="2276280"/>
              <a:chExt cx="706680" cy="1209240"/>
            </a:xfrm>
          </p:grpSpPr>
          <p:sp>
            <p:nvSpPr>
              <p:cNvPr id="848" name=""/>
              <p:cNvSpPr/>
              <p:nvPr/>
            </p:nvSpPr>
            <p:spPr>
              <a:xfrm>
                <a:off x="2459880" y="22762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461680" y="2860560"/>
                <a:ext cx="70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461680" y="284292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"/>
          <p:cNvGrpSpPr/>
          <p:nvPr/>
        </p:nvGrpSpPr>
        <p:grpSpPr>
          <a:xfrm>
            <a:off x="3323160" y="2108160"/>
            <a:ext cx="1701360" cy="1545120"/>
            <a:chOff x="3323160" y="2108160"/>
            <a:chExt cx="1701360" cy="1545120"/>
          </a:xfrm>
        </p:grpSpPr>
        <p:sp>
          <p:nvSpPr>
            <p:cNvPr id="852" name=""/>
            <p:cNvSpPr/>
            <p:nvPr/>
          </p:nvSpPr>
          <p:spPr>
            <a:xfrm>
              <a:off x="3323160" y="25286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3897360" y="2108160"/>
              <a:ext cx="1127160" cy="1545120"/>
              <a:chOff x="3897360" y="2108160"/>
              <a:chExt cx="1127160" cy="1545120"/>
            </a:xfrm>
          </p:grpSpPr>
          <p:grpSp>
            <p:nvGrpSpPr>
              <p:cNvPr id="854" name=""/>
              <p:cNvGrpSpPr/>
              <p:nvPr/>
            </p:nvGrpSpPr>
            <p:grpSpPr>
              <a:xfrm>
                <a:off x="3902760" y="2108160"/>
                <a:ext cx="1121760" cy="764280"/>
                <a:chOff x="3902760" y="2108160"/>
                <a:chExt cx="1121760" cy="7642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4249800" y="216828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1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6" name=""/>
                <p:cNvGrpSpPr/>
                <p:nvPr/>
              </p:nvGrpSpPr>
              <p:grpSpPr>
                <a:xfrm>
                  <a:off x="3902760" y="2108160"/>
                  <a:ext cx="1121760" cy="764280"/>
                  <a:chOff x="3902760" y="2108160"/>
                  <a:chExt cx="1121760" cy="764280"/>
                </a:xfrm>
              </p:grpSpPr>
              <p:sp>
                <p:nvSpPr>
                  <p:cNvPr id="857" name=""/>
                  <p:cNvSpPr/>
                  <p:nvPr/>
                </p:nvSpPr>
                <p:spPr>
                  <a:xfrm>
                    <a:off x="3902760" y="2108160"/>
                    <a:ext cx="47952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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281480" y="2155680"/>
                    <a:ext cx="743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59" name=""/>
              <p:cNvGrpSpPr/>
              <p:nvPr/>
            </p:nvGrpSpPr>
            <p:grpSpPr>
              <a:xfrm>
                <a:off x="3900960" y="2889000"/>
                <a:ext cx="1121760" cy="764280"/>
                <a:chOff x="3900960" y="2889000"/>
                <a:chExt cx="1121760" cy="76428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4284360" y="294948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2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1" name=""/>
                <p:cNvGrpSpPr/>
                <p:nvPr/>
              </p:nvGrpSpPr>
              <p:grpSpPr>
                <a:xfrm>
                  <a:off x="3900960" y="2889000"/>
                  <a:ext cx="1121760" cy="764280"/>
                  <a:chOff x="3900960" y="2889000"/>
                  <a:chExt cx="1121760" cy="764280"/>
                </a:xfrm>
              </p:grpSpPr>
              <p:sp>
                <p:nvSpPr>
                  <p:cNvPr id="862" name=""/>
                  <p:cNvSpPr/>
                  <p:nvPr/>
                </p:nvSpPr>
                <p:spPr>
                  <a:xfrm>
                    <a:off x="3900960" y="2889000"/>
                    <a:ext cx="47952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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4279680" y="2936520"/>
                    <a:ext cx="743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64" name=""/>
              <p:cNvSpPr/>
              <p:nvPr/>
            </p:nvSpPr>
            <p:spPr>
              <a:xfrm>
                <a:off x="3897360" y="2809800"/>
                <a:ext cx="1127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" name=""/>
          <p:cNvGrpSpPr/>
          <p:nvPr/>
        </p:nvGrpSpPr>
        <p:grpSpPr>
          <a:xfrm>
            <a:off x="5328360" y="2276640"/>
            <a:ext cx="1244520" cy="1223280"/>
            <a:chOff x="5328360" y="2276640"/>
            <a:chExt cx="1244520" cy="1223280"/>
          </a:xfrm>
        </p:grpSpPr>
        <p:sp>
          <p:nvSpPr>
            <p:cNvPr id="866" name=""/>
            <p:cNvSpPr/>
            <p:nvPr/>
          </p:nvSpPr>
          <p:spPr>
            <a:xfrm>
              <a:off x="5328360" y="24922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6130080" y="2276640"/>
              <a:ext cx="442800" cy="1223280"/>
              <a:chOff x="6130080" y="2276640"/>
              <a:chExt cx="442800" cy="1223280"/>
            </a:xfrm>
          </p:grpSpPr>
          <p:sp>
            <p:nvSpPr>
              <p:cNvPr id="868" name=""/>
              <p:cNvSpPr/>
              <p:nvPr/>
            </p:nvSpPr>
            <p:spPr>
              <a:xfrm>
                <a:off x="6130080" y="227664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130080" y="28573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143400" y="2871720"/>
                <a:ext cx="41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1" name=""/>
          <p:cNvGrpSpPr/>
          <p:nvPr/>
        </p:nvGrpSpPr>
        <p:grpSpPr>
          <a:xfrm>
            <a:off x="1863720" y="4260960"/>
            <a:ext cx="5203800" cy="1240920"/>
            <a:chOff x="1863720" y="4260960"/>
            <a:chExt cx="5203800" cy="1240920"/>
          </a:xfrm>
        </p:grpSpPr>
        <p:sp>
          <p:nvSpPr>
            <p:cNvPr id="872" name=""/>
            <p:cNvSpPr/>
            <p:nvPr/>
          </p:nvSpPr>
          <p:spPr>
            <a:xfrm>
              <a:off x="1863720" y="4529160"/>
              <a:ext cx="215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becaus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4209120" y="4268880"/>
              <a:ext cx="442800" cy="1223640"/>
              <a:chOff x="4209120" y="4268880"/>
              <a:chExt cx="442800" cy="1223640"/>
            </a:xfrm>
          </p:grpSpPr>
          <p:sp>
            <p:nvSpPr>
              <p:cNvPr id="874" name=""/>
              <p:cNvSpPr/>
              <p:nvPr/>
            </p:nvSpPr>
            <p:spPr>
              <a:xfrm>
                <a:off x="4222440" y="4863960"/>
                <a:ext cx="416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209120" y="42688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209120" y="48499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5252040" y="4268880"/>
              <a:ext cx="442800" cy="1223640"/>
              <a:chOff x="5252040" y="4268880"/>
              <a:chExt cx="442800" cy="1223640"/>
            </a:xfrm>
          </p:grpSpPr>
          <p:sp>
            <p:nvSpPr>
              <p:cNvPr id="878" name=""/>
              <p:cNvSpPr/>
              <p:nvPr/>
            </p:nvSpPr>
            <p:spPr>
              <a:xfrm>
                <a:off x="5265720" y="4863960"/>
                <a:ext cx="4158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252040" y="42688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252040" y="48499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4767120" y="4529160"/>
              <a:ext cx="37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777640" y="45291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6362640" y="4260960"/>
              <a:ext cx="704880" cy="1240920"/>
              <a:chOff x="6362640" y="4260960"/>
              <a:chExt cx="704880" cy="1240920"/>
            </a:xfrm>
          </p:grpSpPr>
          <p:sp>
            <p:nvSpPr>
              <p:cNvPr id="884" name=""/>
              <p:cNvSpPr/>
              <p:nvPr/>
            </p:nvSpPr>
            <p:spPr>
              <a:xfrm>
                <a:off x="6362640" y="42609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362640" y="48592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2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364080" y="4876920"/>
                <a:ext cx="701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7" name=""/>
          <p:cNvSpPr/>
          <p:nvPr/>
        </p:nvSpPr>
        <p:spPr>
          <a:xfrm>
            <a:off x="3000240" y="66672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re Root of 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"/>
          <p:cNvGrpSpPr/>
          <p:nvPr/>
        </p:nvGrpSpPr>
        <p:grpSpPr>
          <a:xfrm>
            <a:off x="435960" y="1601640"/>
            <a:ext cx="1560960" cy="1312920"/>
            <a:chOff x="435960" y="1601640"/>
            <a:chExt cx="1560960" cy="1312920"/>
          </a:xfrm>
        </p:grpSpPr>
        <p:grpSp>
          <p:nvGrpSpPr>
            <p:cNvPr id="889" name=""/>
            <p:cNvGrpSpPr/>
            <p:nvPr/>
          </p:nvGrpSpPr>
          <p:grpSpPr>
            <a:xfrm>
              <a:off x="435960" y="1601640"/>
              <a:ext cx="1560960" cy="1312920"/>
              <a:chOff x="435960" y="1601640"/>
              <a:chExt cx="1560960" cy="1312920"/>
            </a:xfrm>
          </p:grpSpPr>
          <p:sp>
            <p:nvSpPr>
              <p:cNvPr id="890" name=""/>
              <p:cNvSpPr/>
              <p:nvPr/>
            </p:nvSpPr>
            <p:spPr>
              <a:xfrm>
                <a:off x="435960" y="1601640"/>
                <a:ext cx="721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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046160" y="1668600"/>
                <a:ext cx="95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1175760" y="1654200"/>
              <a:ext cx="704880" cy="1209240"/>
              <a:chOff x="1175760" y="1654200"/>
              <a:chExt cx="704880" cy="1209240"/>
            </a:xfrm>
          </p:grpSpPr>
          <p:sp>
            <p:nvSpPr>
              <p:cNvPr id="893" name=""/>
              <p:cNvSpPr/>
              <p:nvPr/>
            </p:nvSpPr>
            <p:spPr>
              <a:xfrm>
                <a:off x="1175760" y="16542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177200" y="2238480"/>
                <a:ext cx="70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306440" y="222084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6" name=""/>
          <p:cNvGrpSpPr/>
          <p:nvPr/>
        </p:nvGrpSpPr>
        <p:grpSpPr>
          <a:xfrm>
            <a:off x="2005560" y="1486080"/>
            <a:ext cx="6609960" cy="1545120"/>
            <a:chOff x="2005560" y="1486080"/>
            <a:chExt cx="6609960" cy="1545120"/>
          </a:xfrm>
        </p:grpSpPr>
        <p:grpSp>
          <p:nvGrpSpPr>
            <p:cNvPr id="897" name=""/>
            <p:cNvGrpSpPr/>
            <p:nvPr/>
          </p:nvGrpSpPr>
          <p:grpSpPr>
            <a:xfrm>
              <a:off x="2005560" y="1486080"/>
              <a:ext cx="1729800" cy="1545120"/>
              <a:chOff x="2005560" y="1486080"/>
              <a:chExt cx="1729800" cy="1545120"/>
            </a:xfrm>
          </p:grpSpPr>
          <p:sp>
            <p:nvSpPr>
              <p:cNvPr id="898" name=""/>
              <p:cNvSpPr/>
              <p:nvPr/>
            </p:nvSpPr>
            <p:spPr>
              <a:xfrm>
                <a:off x="2005560" y="190656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9" name=""/>
              <p:cNvGrpSpPr/>
              <p:nvPr/>
            </p:nvGrpSpPr>
            <p:grpSpPr>
              <a:xfrm>
                <a:off x="2608200" y="1486080"/>
                <a:ext cx="1127160" cy="1545120"/>
                <a:chOff x="2608200" y="1486080"/>
                <a:chExt cx="1127160" cy="1545120"/>
              </a:xfrm>
            </p:grpSpPr>
            <p:grpSp>
              <p:nvGrpSpPr>
                <p:cNvPr id="900" name=""/>
                <p:cNvGrpSpPr/>
                <p:nvPr/>
              </p:nvGrpSpPr>
              <p:grpSpPr>
                <a:xfrm>
                  <a:off x="2613600" y="1486080"/>
                  <a:ext cx="1121760" cy="764280"/>
                  <a:chOff x="2613600" y="1486080"/>
                  <a:chExt cx="1121760" cy="76428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>
                    <a:off x="2997000" y="1546200"/>
                    <a:ext cx="7048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75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02" name=""/>
                  <p:cNvGrpSpPr/>
                  <p:nvPr/>
                </p:nvGrpSpPr>
                <p:grpSpPr>
                  <a:xfrm>
                    <a:off x="2613600" y="1486080"/>
                    <a:ext cx="1121760" cy="764280"/>
                    <a:chOff x="2613600" y="1486080"/>
                    <a:chExt cx="1121760" cy="764280"/>
                  </a:xfrm>
                </p:grpSpPr>
                <p:sp>
                  <p:nvSpPr>
                    <p:cNvPr id="903" name=""/>
                    <p:cNvSpPr/>
                    <p:nvPr/>
                  </p:nvSpPr>
                  <p:spPr>
                    <a:xfrm>
                      <a:off x="2613600" y="1486080"/>
                      <a:ext cx="479520" cy="76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2992320" y="1533600"/>
                      <a:ext cx="74304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05" name=""/>
                <p:cNvGrpSpPr/>
                <p:nvPr/>
              </p:nvGrpSpPr>
              <p:grpSpPr>
                <a:xfrm>
                  <a:off x="2759760" y="2266920"/>
                  <a:ext cx="828000" cy="764280"/>
                  <a:chOff x="2759760" y="2266920"/>
                  <a:chExt cx="828000" cy="76428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>
                    <a:off x="3134520" y="232740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07" name=""/>
                  <p:cNvGrpSpPr/>
                  <p:nvPr/>
                </p:nvGrpSpPr>
                <p:grpSpPr>
                  <a:xfrm>
                    <a:off x="2759760" y="2266920"/>
                    <a:ext cx="828000" cy="764280"/>
                    <a:chOff x="2759760" y="2266920"/>
                    <a:chExt cx="828000" cy="764280"/>
                  </a:xfrm>
                </p:grpSpPr>
                <p:sp>
                  <p:nvSpPr>
                    <p:cNvPr id="908" name=""/>
                    <p:cNvSpPr/>
                    <p:nvPr/>
                  </p:nvSpPr>
                  <p:spPr>
                    <a:xfrm>
                      <a:off x="2759760" y="2266920"/>
                      <a:ext cx="479520" cy="76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>
                      <a:off x="3138480" y="2314440"/>
                      <a:ext cx="44928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10" name=""/>
                <p:cNvSpPr/>
                <p:nvPr/>
              </p:nvSpPr>
              <p:spPr>
                <a:xfrm>
                  <a:off x="2608200" y="2187720"/>
                  <a:ext cx="1127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1" name=""/>
            <p:cNvSpPr/>
            <p:nvPr/>
          </p:nvSpPr>
          <p:spPr>
            <a:xfrm>
              <a:off x="4117320" y="1955880"/>
              <a:ext cx="449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not perfect squares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6741000" y="3857760"/>
            <a:ext cx="1521360" cy="764280"/>
            <a:chOff x="6741000" y="3857760"/>
            <a:chExt cx="1521360" cy="764280"/>
          </a:xfrm>
        </p:grpSpPr>
        <p:sp>
          <p:nvSpPr>
            <p:cNvPr id="913" name=""/>
            <p:cNvSpPr/>
            <p:nvPr/>
          </p:nvSpPr>
          <p:spPr>
            <a:xfrm>
              <a:off x="7792200" y="38876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6741000" y="3857760"/>
              <a:ext cx="1064880" cy="764280"/>
              <a:chOff x="6741000" y="3857760"/>
              <a:chExt cx="1064880" cy="764280"/>
            </a:xfrm>
          </p:grpSpPr>
          <p:sp>
            <p:nvSpPr>
              <p:cNvPr id="915" name=""/>
              <p:cNvSpPr/>
              <p:nvPr/>
            </p:nvSpPr>
            <p:spPr>
              <a:xfrm>
                <a:off x="7081920" y="39178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741000" y="3857760"/>
                <a:ext cx="479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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120080" y="390528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8" name=""/>
          <p:cNvSpPr/>
          <p:nvPr/>
        </p:nvSpPr>
        <p:spPr>
          <a:xfrm>
            <a:off x="8227080" y="39178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374400" y="3583080"/>
            <a:ext cx="6384600" cy="1312920"/>
            <a:chOff x="374400" y="3583080"/>
            <a:chExt cx="6384600" cy="1312920"/>
          </a:xfrm>
        </p:grpSpPr>
        <p:grpSp>
          <p:nvGrpSpPr>
            <p:cNvPr id="920" name=""/>
            <p:cNvGrpSpPr/>
            <p:nvPr/>
          </p:nvGrpSpPr>
          <p:grpSpPr>
            <a:xfrm>
              <a:off x="4660200" y="3583080"/>
              <a:ext cx="1560960" cy="1312920"/>
              <a:chOff x="4660200" y="3583080"/>
              <a:chExt cx="1560960" cy="1312920"/>
            </a:xfrm>
          </p:grpSpPr>
          <p:grpSp>
            <p:nvGrpSpPr>
              <p:cNvPr id="921" name=""/>
              <p:cNvGrpSpPr/>
              <p:nvPr/>
            </p:nvGrpSpPr>
            <p:grpSpPr>
              <a:xfrm>
                <a:off x="4660200" y="3583080"/>
                <a:ext cx="1560960" cy="1312920"/>
                <a:chOff x="4660200" y="3583080"/>
                <a:chExt cx="1560960" cy="131292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4660200" y="3583080"/>
                  <a:ext cx="72180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</a:t>
                  </a:r>
                  <a:endParaRPr b="0" lang="en-US" sz="8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270400" y="3649680"/>
                  <a:ext cx="950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5400720" y="3635280"/>
                <a:ext cx="704880" cy="1208880"/>
                <a:chOff x="5400720" y="3635280"/>
                <a:chExt cx="704880" cy="120888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5400720" y="363528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7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5402160" y="4219200"/>
                  <a:ext cx="70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5531760" y="420156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8" name=""/>
            <p:cNvSpPr/>
            <p:nvPr/>
          </p:nvSpPr>
          <p:spPr>
            <a:xfrm>
              <a:off x="6288840" y="38876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74400" y="3917880"/>
              <a:ext cx="432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ry another option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3000240" y="66672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re Root of 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08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814320" y="1447920"/>
            <a:ext cx="75265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When you finish this unit, you will be able to 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33600" y="2797200"/>
            <a:ext cx="50072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square root of  a 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equations involving f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"/>
          <p:cNvGrpSpPr/>
          <p:nvPr/>
        </p:nvGrpSpPr>
        <p:grpSpPr>
          <a:xfrm>
            <a:off x="3236400" y="1530360"/>
            <a:ext cx="2057040" cy="1312920"/>
            <a:chOff x="3236400" y="1530360"/>
            <a:chExt cx="2057040" cy="1312920"/>
          </a:xfrm>
        </p:grpSpPr>
        <p:grpSp>
          <p:nvGrpSpPr>
            <p:cNvPr id="932" name=""/>
            <p:cNvGrpSpPr/>
            <p:nvPr/>
          </p:nvGrpSpPr>
          <p:grpSpPr>
            <a:xfrm>
              <a:off x="3236400" y="1530360"/>
              <a:ext cx="1560600" cy="1312920"/>
              <a:chOff x="3236400" y="1530360"/>
              <a:chExt cx="1560600" cy="1312920"/>
            </a:xfrm>
          </p:grpSpPr>
          <p:grpSp>
            <p:nvGrpSpPr>
              <p:cNvPr id="933" name=""/>
              <p:cNvGrpSpPr/>
              <p:nvPr/>
            </p:nvGrpSpPr>
            <p:grpSpPr>
              <a:xfrm>
                <a:off x="3236400" y="1530360"/>
                <a:ext cx="1560600" cy="1312920"/>
                <a:chOff x="3236400" y="1530360"/>
                <a:chExt cx="1560600" cy="131292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3236400" y="1530360"/>
                  <a:ext cx="72180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</a:t>
                  </a:r>
                  <a:endParaRPr b="0" lang="en-US" sz="8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3846600" y="1596960"/>
                  <a:ext cx="950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3819960" y="1582560"/>
                <a:ext cx="966960" cy="1208880"/>
                <a:chOff x="3819960" y="1582560"/>
                <a:chExt cx="966960" cy="120888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3950640" y="214884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3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3819960" y="1582560"/>
                  <a:ext cx="966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14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3890520" y="2166480"/>
                  <a:ext cx="825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0" name=""/>
            <p:cNvSpPr/>
            <p:nvPr/>
          </p:nvSpPr>
          <p:spPr>
            <a:xfrm>
              <a:off x="4823280" y="18349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3391560" y="3114720"/>
            <a:ext cx="1743480" cy="1530720"/>
            <a:chOff x="3391560" y="3114720"/>
            <a:chExt cx="1743480" cy="1530720"/>
          </a:xfrm>
        </p:grpSpPr>
        <p:sp>
          <p:nvSpPr>
            <p:cNvPr id="942" name=""/>
            <p:cNvSpPr/>
            <p:nvPr/>
          </p:nvSpPr>
          <p:spPr>
            <a:xfrm>
              <a:off x="4664880" y="35272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3391560" y="3114720"/>
              <a:ext cx="1222200" cy="1530720"/>
              <a:chOff x="3391560" y="3114720"/>
              <a:chExt cx="1222200" cy="1530720"/>
            </a:xfrm>
          </p:grpSpPr>
          <p:grpSp>
            <p:nvGrpSpPr>
              <p:cNvPr id="944" name=""/>
              <p:cNvGrpSpPr/>
              <p:nvPr/>
            </p:nvGrpSpPr>
            <p:grpSpPr>
              <a:xfrm>
                <a:off x="3391560" y="3114720"/>
                <a:ext cx="1222200" cy="764280"/>
                <a:chOff x="3391560" y="3114720"/>
                <a:chExt cx="1222200" cy="76428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3646800" y="3174840"/>
                  <a:ext cx="966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14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6" name=""/>
                <p:cNvGrpSpPr/>
                <p:nvPr/>
              </p:nvGrpSpPr>
              <p:grpSpPr>
                <a:xfrm>
                  <a:off x="3391560" y="3114720"/>
                  <a:ext cx="1121040" cy="764280"/>
                  <a:chOff x="3391560" y="3114720"/>
                  <a:chExt cx="1121040" cy="764280"/>
                </a:xfrm>
              </p:grpSpPr>
              <p:sp>
                <p:nvSpPr>
                  <p:cNvPr id="947" name=""/>
                  <p:cNvSpPr/>
                  <p:nvPr/>
                </p:nvSpPr>
                <p:spPr>
                  <a:xfrm>
                    <a:off x="3391560" y="3114720"/>
                    <a:ext cx="47952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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3769920" y="3162240"/>
                    <a:ext cx="742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9" name=""/>
              <p:cNvSpPr/>
              <p:nvPr/>
            </p:nvSpPr>
            <p:spPr>
              <a:xfrm>
                <a:off x="3432240" y="3816360"/>
                <a:ext cx="1127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0" name=""/>
              <p:cNvGrpSpPr/>
              <p:nvPr/>
            </p:nvGrpSpPr>
            <p:grpSpPr>
              <a:xfrm>
                <a:off x="3437640" y="3881160"/>
                <a:ext cx="1121760" cy="764280"/>
                <a:chOff x="3437640" y="3881160"/>
                <a:chExt cx="1121760" cy="76428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3814920" y="394164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3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2" name=""/>
                <p:cNvGrpSpPr/>
                <p:nvPr/>
              </p:nvGrpSpPr>
              <p:grpSpPr>
                <a:xfrm>
                  <a:off x="3437640" y="3881160"/>
                  <a:ext cx="1121760" cy="764280"/>
                  <a:chOff x="3437640" y="3881160"/>
                  <a:chExt cx="1121760" cy="76428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>
                    <a:off x="3437640" y="3881160"/>
                    <a:ext cx="47952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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3816360" y="3928680"/>
                    <a:ext cx="743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55" name=""/>
          <p:cNvGrpSpPr/>
          <p:nvPr/>
        </p:nvGrpSpPr>
        <p:grpSpPr>
          <a:xfrm>
            <a:off x="3392640" y="4950000"/>
            <a:ext cx="704880" cy="1252080"/>
            <a:chOff x="3392640" y="4950000"/>
            <a:chExt cx="704880" cy="1252080"/>
          </a:xfrm>
        </p:grpSpPr>
        <p:sp>
          <p:nvSpPr>
            <p:cNvPr id="956" name=""/>
            <p:cNvSpPr/>
            <p:nvPr/>
          </p:nvSpPr>
          <p:spPr>
            <a:xfrm>
              <a:off x="3392640" y="4950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95520" y="5576760"/>
              <a:ext cx="70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525120" y="5559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4211280" y="5224320"/>
            <a:ext cx="8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=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615640" y="192708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fect Squa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669720" y="361944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000240" y="66672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re Root of 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469800" y="13892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find the square root of a fraction we have two op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68360" y="289872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square root of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numerator and denominat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separate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68360" y="499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mplify the fraction, then get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square root of the quot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000240" y="66672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re Root of 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" descr="Original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0280" y="1490760"/>
            <a:ext cx="7335720" cy="495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68" name=""/>
          <p:cNvSpPr/>
          <p:nvPr/>
        </p:nvSpPr>
        <p:spPr>
          <a:xfrm>
            <a:off x="1941480" y="2127240"/>
            <a:ext cx="524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Equa</a:t>
            </a:r>
            <a:r>
              <a:rPr b="0" lang="en-US" sz="7200" spc="-1" strike="noStrike">
                <a:solidFill>
                  <a:srgbClr val="3333cc"/>
                </a:solidFill>
                <a:latin typeface="Comic Sans MS"/>
              </a:rPr>
              <a:t>tions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ffffcc"/>
                </a:solidFill>
                <a:latin typeface="Comic Sans MS"/>
              </a:rPr>
              <a:t>with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ccccff"/>
                </a:solidFill>
                <a:latin typeface="Comic Sans MS"/>
              </a:rPr>
              <a:t>Frac</a:t>
            </a: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1863720"/>
            <a:ext cx="9144000" cy="360"/>
          </a:xfrm>
          <a:prstGeom prst="rect">
            <a:avLst/>
          </a:prstGeom>
          <a:solidFill>
            <a:srgbClr val="316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2957400" y="66672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ations with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3546360" y="2023920"/>
            <a:ext cx="2041560" cy="1148040"/>
            <a:chOff x="3546360" y="2023920"/>
            <a:chExt cx="2041560" cy="1148040"/>
          </a:xfrm>
        </p:grpSpPr>
        <p:grpSp>
          <p:nvGrpSpPr>
            <p:cNvPr id="972" name=""/>
            <p:cNvGrpSpPr/>
            <p:nvPr/>
          </p:nvGrpSpPr>
          <p:grpSpPr>
            <a:xfrm>
              <a:off x="3546360" y="2023920"/>
              <a:ext cx="778320" cy="1148040"/>
              <a:chOff x="3546360" y="2023920"/>
              <a:chExt cx="778320" cy="1148040"/>
            </a:xfrm>
          </p:grpSpPr>
          <p:grpSp>
            <p:nvGrpSpPr>
              <p:cNvPr id="973" name=""/>
              <p:cNvGrpSpPr/>
              <p:nvPr/>
            </p:nvGrpSpPr>
            <p:grpSpPr>
              <a:xfrm>
                <a:off x="3546360" y="2023920"/>
                <a:ext cx="431640" cy="1148040"/>
                <a:chOff x="3546360" y="2023920"/>
                <a:chExt cx="431640" cy="114804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3553560" y="20239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3555000" y="25905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546360" y="260316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7" name=""/>
              <p:cNvSpPr/>
              <p:nvPr/>
            </p:nvSpPr>
            <p:spPr>
              <a:xfrm>
                <a:off x="3901680" y="227628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4341960" y="22762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4790160" y="2023920"/>
              <a:ext cx="797760" cy="1148040"/>
              <a:chOff x="4790160" y="2023920"/>
              <a:chExt cx="797760" cy="114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4790160" y="22762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1" name=""/>
              <p:cNvGrpSpPr/>
              <p:nvPr/>
            </p:nvGrpSpPr>
            <p:grpSpPr>
              <a:xfrm>
                <a:off x="5156280" y="2023920"/>
                <a:ext cx="431640" cy="1148040"/>
                <a:chOff x="5156280" y="2023920"/>
                <a:chExt cx="431640" cy="114804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5164200" y="20239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164920" y="25905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156280" y="260316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5" name=""/>
          <p:cNvGrpSpPr/>
          <p:nvPr/>
        </p:nvGrpSpPr>
        <p:grpSpPr>
          <a:xfrm>
            <a:off x="960480" y="3274920"/>
            <a:ext cx="2109600" cy="2967480"/>
            <a:chOff x="960480" y="3274920"/>
            <a:chExt cx="2109600" cy="2967480"/>
          </a:xfrm>
        </p:grpSpPr>
        <p:grpSp>
          <p:nvGrpSpPr>
            <p:cNvPr id="986" name=""/>
            <p:cNvGrpSpPr/>
            <p:nvPr/>
          </p:nvGrpSpPr>
          <p:grpSpPr>
            <a:xfrm>
              <a:off x="1041480" y="3274920"/>
              <a:ext cx="1949400" cy="579240"/>
              <a:chOff x="1041480" y="3274920"/>
              <a:chExt cx="1949400" cy="579240"/>
            </a:xfrm>
          </p:grpSpPr>
          <p:sp>
            <p:nvSpPr>
              <p:cNvPr id="987" name=""/>
              <p:cNvSpPr/>
              <p:nvPr/>
            </p:nvSpPr>
            <p:spPr>
              <a:xfrm>
                <a:off x="1041480" y="3274920"/>
                <a:ext cx="18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41480" y="3846240"/>
                <a:ext cx="1949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960480" y="3948120"/>
              <a:ext cx="2109600" cy="2294280"/>
              <a:chOff x="960480" y="3948120"/>
              <a:chExt cx="2109600" cy="2294280"/>
            </a:xfrm>
          </p:grpSpPr>
          <p:sp>
            <p:nvSpPr>
              <p:cNvPr id="990" name=""/>
              <p:cNvSpPr/>
              <p:nvPr/>
            </p:nvSpPr>
            <p:spPr>
              <a:xfrm>
                <a:off x="1792440" y="42148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1" name=""/>
              <p:cNvGrpSpPr/>
              <p:nvPr/>
            </p:nvGrpSpPr>
            <p:grpSpPr>
              <a:xfrm>
                <a:off x="960480" y="3948120"/>
                <a:ext cx="887400" cy="2281320"/>
                <a:chOff x="960480" y="3948120"/>
                <a:chExt cx="887400" cy="2281320"/>
              </a:xfrm>
            </p:grpSpPr>
            <p:grpSp>
              <p:nvGrpSpPr>
                <p:cNvPr id="992" name=""/>
                <p:cNvGrpSpPr/>
                <p:nvPr/>
              </p:nvGrpSpPr>
              <p:grpSpPr>
                <a:xfrm>
                  <a:off x="1008000" y="3948120"/>
                  <a:ext cx="778320" cy="1148040"/>
                  <a:chOff x="1008000" y="3948120"/>
                  <a:chExt cx="778320" cy="1148040"/>
                </a:xfrm>
              </p:grpSpPr>
              <p:grpSp>
                <p:nvGrpSpPr>
                  <p:cNvPr id="993" name=""/>
                  <p:cNvGrpSpPr/>
                  <p:nvPr/>
                </p:nvGrpSpPr>
                <p:grpSpPr>
                  <a:xfrm>
                    <a:off x="1008000" y="3948120"/>
                    <a:ext cx="431640" cy="1148040"/>
                    <a:chOff x="1008000" y="3948120"/>
                    <a:chExt cx="431640" cy="1148040"/>
                  </a:xfrm>
                </p:grpSpPr>
                <p:sp>
                  <p:nvSpPr>
                    <p:cNvPr id="994" name=""/>
                    <p:cNvSpPr/>
                    <p:nvPr/>
                  </p:nvSpPr>
                  <p:spPr>
                    <a:xfrm>
                      <a:off x="1015200" y="3948120"/>
                      <a:ext cx="4140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1016640" y="4514760"/>
                      <a:ext cx="4140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1008000" y="4527360"/>
                      <a:ext cx="4316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97" name=""/>
                  <p:cNvSpPr/>
                  <p:nvPr/>
                </p:nvSpPr>
                <p:spPr>
                  <a:xfrm>
                    <a:off x="1363320" y="4200480"/>
                    <a:ext cx="4230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x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8" name=""/>
                <p:cNvGrpSpPr/>
                <p:nvPr/>
              </p:nvGrpSpPr>
              <p:grpSpPr>
                <a:xfrm>
                  <a:off x="960480" y="5081760"/>
                  <a:ext cx="887400" cy="1147680"/>
                  <a:chOff x="960480" y="5081760"/>
                  <a:chExt cx="887400" cy="1147680"/>
                </a:xfrm>
              </p:grpSpPr>
              <p:grpSp>
                <p:nvGrpSpPr>
                  <p:cNvPr id="999" name=""/>
                  <p:cNvGrpSpPr/>
                  <p:nvPr/>
                </p:nvGrpSpPr>
                <p:grpSpPr>
                  <a:xfrm>
                    <a:off x="1189440" y="5081760"/>
                    <a:ext cx="431640" cy="1147680"/>
                    <a:chOff x="1189440" y="5081760"/>
                    <a:chExt cx="431640" cy="1147680"/>
                  </a:xfrm>
                </p:grpSpPr>
                <p:sp>
                  <p:nvSpPr>
                    <p:cNvPr id="1000" name=""/>
                    <p:cNvSpPr/>
                    <p:nvPr/>
                  </p:nvSpPr>
                  <p:spPr>
                    <a:xfrm>
                      <a:off x="1196640" y="5081760"/>
                      <a:ext cx="4140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>
                      <a:off x="1198080" y="5648040"/>
                      <a:ext cx="4140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>
                      <a:off x="1189440" y="5661000"/>
                      <a:ext cx="431640" cy="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03" name=""/>
                  <p:cNvSpPr/>
                  <p:nvPr/>
                </p:nvSpPr>
                <p:spPr>
                  <a:xfrm>
                    <a:off x="960480" y="5094360"/>
                    <a:ext cx="88740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4" name=""/>
              <p:cNvGrpSpPr/>
              <p:nvPr/>
            </p:nvGrpSpPr>
            <p:grpSpPr>
              <a:xfrm>
                <a:off x="2182680" y="3948120"/>
                <a:ext cx="887400" cy="2294280"/>
                <a:chOff x="2182680" y="3948120"/>
                <a:chExt cx="887400" cy="2294280"/>
              </a:xfrm>
            </p:grpSpPr>
            <p:grpSp>
              <p:nvGrpSpPr>
                <p:cNvPr id="1005" name=""/>
                <p:cNvGrpSpPr/>
                <p:nvPr/>
              </p:nvGrpSpPr>
              <p:grpSpPr>
                <a:xfrm>
                  <a:off x="2232720" y="3948120"/>
                  <a:ext cx="797760" cy="1148040"/>
                  <a:chOff x="2232720" y="3948120"/>
                  <a:chExt cx="797760" cy="1148040"/>
                </a:xfrm>
              </p:grpSpPr>
              <p:sp>
                <p:nvSpPr>
                  <p:cNvPr id="1006" name=""/>
                  <p:cNvSpPr/>
                  <p:nvPr/>
                </p:nvSpPr>
                <p:spPr>
                  <a:xfrm>
                    <a:off x="2232720" y="420048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07" name=""/>
                  <p:cNvGrpSpPr/>
                  <p:nvPr/>
                </p:nvGrpSpPr>
                <p:grpSpPr>
                  <a:xfrm>
                    <a:off x="2598840" y="3948120"/>
                    <a:ext cx="431640" cy="1148040"/>
                    <a:chOff x="2598840" y="3948120"/>
                    <a:chExt cx="431640" cy="1148040"/>
                  </a:xfrm>
                </p:grpSpPr>
                <p:sp>
                  <p:nvSpPr>
                    <p:cNvPr id="1008" name=""/>
                    <p:cNvSpPr/>
                    <p:nvPr/>
                  </p:nvSpPr>
                  <p:spPr>
                    <a:xfrm>
                      <a:off x="2606760" y="3948120"/>
                      <a:ext cx="4140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>
                      <a:off x="2607480" y="4514760"/>
                      <a:ext cx="4140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2598840" y="4527360"/>
                      <a:ext cx="4316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11" name=""/>
                <p:cNvGrpSpPr/>
                <p:nvPr/>
              </p:nvGrpSpPr>
              <p:grpSpPr>
                <a:xfrm>
                  <a:off x="2182680" y="5094360"/>
                  <a:ext cx="887400" cy="1148040"/>
                  <a:chOff x="2182680" y="5094360"/>
                  <a:chExt cx="887400" cy="1148040"/>
                </a:xfrm>
              </p:grpSpPr>
              <p:grpSp>
                <p:nvGrpSpPr>
                  <p:cNvPr id="1012" name=""/>
                  <p:cNvGrpSpPr/>
                  <p:nvPr/>
                </p:nvGrpSpPr>
                <p:grpSpPr>
                  <a:xfrm>
                    <a:off x="2411280" y="5094360"/>
                    <a:ext cx="431640" cy="1148040"/>
                    <a:chOff x="2411280" y="5094360"/>
                    <a:chExt cx="431640" cy="1148040"/>
                  </a:xfrm>
                </p:grpSpPr>
                <p:sp>
                  <p:nvSpPr>
                    <p:cNvPr id="1013" name=""/>
                    <p:cNvSpPr/>
                    <p:nvPr/>
                  </p:nvSpPr>
                  <p:spPr>
                    <a:xfrm>
                      <a:off x="2418480" y="5094360"/>
                      <a:ext cx="4140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>
                      <a:off x="2419920" y="5661000"/>
                      <a:ext cx="4140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2411280" y="5673960"/>
                      <a:ext cx="431640" cy="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16" name=""/>
                  <p:cNvSpPr/>
                  <p:nvPr/>
                </p:nvSpPr>
                <p:spPr>
                  <a:xfrm>
                    <a:off x="2182680" y="5094360"/>
                    <a:ext cx="88740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017" name=""/>
          <p:cNvGrpSpPr/>
          <p:nvPr/>
        </p:nvGrpSpPr>
        <p:grpSpPr>
          <a:xfrm>
            <a:off x="4213080" y="3301920"/>
            <a:ext cx="4103640" cy="2397240"/>
            <a:chOff x="4213080" y="3301920"/>
            <a:chExt cx="4103640" cy="2397240"/>
          </a:xfrm>
        </p:grpSpPr>
        <p:grpSp>
          <p:nvGrpSpPr>
            <p:cNvPr id="1018" name=""/>
            <p:cNvGrpSpPr/>
            <p:nvPr/>
          </p:nvGrpSpPr>
          <p:grpSpPr>
            <a:xfrm>
              <a:off x="5256000" y="3301920"/>
              <a:ext cx="1981080" cy="579240"/>
              <a:chOff x="5256000" y="3301920"/>
              <a:chExt cx="1981080" cy="579240"/>
            </a:xfrm>
          </p:grpSpPr>
          <p:sp>
            <p:nvSpPr>
              <p:cNvPr id="1019" name=""/>
              <p:cNvSpPr/>
              <p:nvPr/>
            </p:nvSpPr>
            <p:spPr>
              <a:xfrm>
                <a:off x="5256000" y="3301920"/>
                <a:ext cx="1839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287680" y="3874680"/>
                <a:ext cx="1949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4213080" y="4539960"/>
              <a:ext cx="4103640" cy="1159200"/>
              <a:chOff x="4213080" y="4539960"/>
              <a:chExt cx="4103640" cy="1159200"/>
            </a:xfrm>
          </p:grpSpPr>
          <p:sp>
            <p:nvSpPr>
              <p:cNvPr id="1022" name=""/>
              <p:cNvSpPr/>
              <p:nvPr/>
            </p:nvSpPr>
            <p:spPr>
              <a:xfrm>
                <a:off x="6041880" y="47970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3" name=""/>
              <p:cNvGrpSpPr/>
              <p:nvPr/>
            </p:nvGrpSpPr>
            <p:grpSpPr>
              <a:xfrm>
                <a:off x="6490080" y="4544640"/>
                <a:ext cx="797760" cy="1148040"/>
                <a:chOff x="6490080" y="4544640"/>
                <a:chExt cx="797760" cy="114804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6490080" y="479700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5" name=""/>
                <p:cNvGrpSpPr/>
                <p:nvPr/>
              </p:nvGrpSpPr>
              <p:grpSpPr>
                <a:xfrm>
                  <a:off x="6856200" y="4544640"/>
                  <a:ext cx="431640" cy="1148040"/>
                  <a:chOff x="6856200" y="4544640"/>
                  <a:chExt cx="431640" cy="114804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>
                    <a:off x="6864120" y="454464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6864840" y="511128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3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6856200" y="5123880"/>
                    <a:ext cx="431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9" name=""/>
              <p:cNvGrpSpPr/>
              <p:nvPr/>
            </p:nvGrpSpPr>
            <p:grpSpPr>
              <a:xfrm>
                <a:off x="5244840" y="4544640"/>
                <a:ext cx="778320" cy="1148040"/>
                <a:chOff x="5244840" y="4544640"/>
                <a:chExt cx="778320" cy="1148040"/>
              </a:xfrm>
            </p:grpSpPr>
            <p:grpSp>
              <p:nvGrpSpPr>
                <p:cNvPr id="1030" name=""/>
                <p:cNvGrpSpPr/>
                <p:nvPr/>
              </p:nvGrpSpPr>
              <p:grpSpPr>
                <a:xfrm>
                  <a:off x="5244840" y="4544640"/>
                  <a:ext cx="431640" cy="1148040"/>
                  <a:chOff x="5244840" y="4544640"/>
                  <a:chExt cx="431640" cy="114804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>
                    <a:off x="5252040" y="454464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5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5253480" y="511128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6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5244840" y="5123880"/>
                    <a:ext cx="431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4" name=""/>
                <p:cNvSpPr/>
                <p:nvPr/>
              </p:nvSpPr>
              <p:spPr>
                <a:xfrm>
                  <a:off x="5600160" y="4797000"/>
                  <a:ext cx="42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4213080" y="4539960"/>
                <a:ext cx="432000" cy="1157400"/>
                <a:chOff x="4213080" y="4539960"/>
                <a:chExt cx="432000" cy="11574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4220280" y="51159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222080" y="45399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213080" y="5109840"/>
                  <a:ext cx="4320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9" name=""/>
              <p:cNvGrpSpPr/>
              <p:nvPr/>
            </p:nvGrpSpPr>
            <p:grpSpPr>
              <a:xfrm>
                <a:off x="7884720" y="4541400"/>
                <a:ext cx="432000" cy="1157760"/>
                <a:chOff x="7884720" y="4541400"/>
                <a:chExt cx="432000" cy="115776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7891920" y="51177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7893720" y="45414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884720" y="5111640"/>
                  <a:ext cx="4320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3" name=""/>
              <p:cNvSpPr/>
              <p:nvPr/>
            </p:nvSpPr>
            <p:spPr>
              <a:xfrm>
                <a:off x="4770000" y="4797000"/>
                <a:ext cx="3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416360" y="4798800"/>
                <a:ext cx="3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2957400" y="66672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ations with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2519280" y="1343160"/>
            <a:ext cx="4103640" cy="1158480"/>
            <a:chOff x="2519280" y="1343160"/>
            <a:chExt cx="4103640" cy="1158480"/>
          </a:xfrm>
        </p:grpSpPr>
        <p:sp>
          <p:nvSpPr>
            <p:cNvPr id="1047" name=""/>
            <p:cNvSpPr/>
            <p:nvPr/>
          </p:nvSpPr>
          <p:spPr>
            <a:xfrm>
              <a:off x="4348080" y="1599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4796280" y="1347480"/>
              <a:ext cx="797760" cy="1147680"/>
              <a:chOff x="4796280" y="1347480"/>
              <a:chExt cx="797760" cy="1147680"/>
            </a:xfrm>
          </p:grpSpPr>
          <p:sp>
            <p:nvSpPr>
              <p:cNvPr id="1049" name=""/>
              <p:cNvSpPr/>
              <p:nvPr/>
            </p:nvSpPr>
            <p:spPr>
              <a:xfrm>
                <a:off x="4796280" y="15994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0" name=""/>
              <p:cNvGrpSpPr/>
              <p:nvPr/>
            </p:nvGrpSpPr>
            <p:grpSpPr>
              <a:xfrm>
                <a:off x="5162400" y="1347480"/>
                <a:ext cx="431640" cy="1147680"/>
                <a:chOff x="5162400" y="1347480"/>
                <a:chExt cx="431640" cy="114768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5170320" y="13474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171040" y="19137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5162400" y="192636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4" name=""/>
            <p:cNvGrpSpPr/>
            <p:nvPr/>
          </p:nvGrpSpPr>
          <p:grpSpPr>
            <a:xfrm>
              <a:off x="3551040" y="1347480"/>
              <a:ext cx="778320" cy="1147680"/>
              <a:chOff x="3551040" y="1347480"/>
              <a:chExt cx="778320" cy="1147680"/>
            </a:xfrm>
          </p:grpSpPr>
          <p:grpSp>
            <p:nvGrpSpPr>
              <p:cNvPr id="1055" name=""/>
              <p:cNvGrpSpPr/>
              <p:nvPr/>
            </p:nvGrpSpPr>
            <p:grpSpPr>
              <a:xfrm>
                <a:off x="3551040" y="1347480"/>
                <a:ext cx="431640" cy="1147680"/>
                <a:chOff x="3551040" y="1347480"/>
                <a:chExt cx="431640" cy="114768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3558240" y="13474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3559680" y="19137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551040" y="192636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>
                <a:off x="3906360" y="159948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2519280" y="1343160"/>
              <a:ext cx="432000" cy="1157400"/>
              <a:chOff x="2519280" y="1343160"/>
              <a:chExt cx="432000" cy="1157400"/>
            </a:xfrm>
          </p:grpSpPr>
          <p:sp>
            <p:nvSpPr>
              <p:cNvPr id="1061" name=""/>
              <p:cNvSpPr/>
              <p:nvPr/>
            </p:nvSpPr>
            <p:spPr>
              <a:xfrm>
                <a:off x="2526480" y="19191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528280" y="13431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519280" y="1913040"/>
                <a:ext cx="43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6190920" y="1344240"/>
              <a:ext cx="432000" cy="1157400"/>
              <a:chOff x="6190920" y="1344240"/>
              <a:chExt cx="432000" cy="1157400"/>
            </a:xfrm>
          </p:grpSpPr>
          <p:sp>
            <p:nvSpPr>
              <p:cNvPr id="1065" name=""/>
              <p:cNvSpPr/>
              <p:nvPr/>
            </p:nvSpPr>
            <p:spPr>
              <a:xfrm>
                <a:off x="6198120" y="19202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199920" y="13442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190920" y="1914120"/>
                <a:ext cx="432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"/>
            <p:cNvSpPr/>
            <p:nvPr/>
          </p:nvSpPr>
          <p:spPr>
            <a:xfrm>
              <a:off x="3076200" y="15998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22560" y="16016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2519280" y="2624040"/>
            <a:ext cx="4103640" cy="1159200"/>
            <a:chOff x="2519280" y="2624040"/>
            <a:chExt cx="4103640" cy="1159200"/>
          </a:xfrm>
        </p:grpSpPr>
        <p:sp>
          <p:nvSpPr>
            <p:cNvPr id="1071" name=""/>
            <p:cNvSpPr/>
            <p:nvPr/>
          </p:nvSpPr>
          <p:spPr>
            <a:xfrm>
              <a:off x="4348440" y="2881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4796280" y="2629080"/>
              <a:ext cx="797760" cy="1147680"/>
              <a:chOff x="4796280" y="2629080"/>
              <a:chExt cx="797760" cy="1147680"/>
            </a:xfrm>
          </p:grpSpPr>
          <p:sp>
            <p:nvSpPr>
              <p:cNvPr id="1073" name=""/>
              <p:cNvSpPr/>
              <p:nvPr/>
            </p:nvSpPr>
            <p:spPr>
              <a:xfrm>
                <a:off x="4796280" y="28810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4" name=""/>
              <p:cNvGrpSpPr/>
              <p:nvPr/>
            </p:nvGrpSpPr>
            <p:grpSpPr>
              <a:xfrm>
                <a:off x="5162400" y="2629080"/>
                <a:ext cx="431640" cy="1147680"/>
                <a:chOff x="5162400" y="2629080"/>
                <a:chExt cx="431640" cy="114768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5170320" y="26290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5171040" y="31953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162400" y="320796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8" name=""/>
            <p:cNvGrpSpPr/>
            <p:nvPr/>
          </p:nvGrpSpPr>
          <p:grpSpPr>
            <a:xfrm>
              <a:off x="3551040" y="2629080"/>
              <a:ext cx="778320" cy="1147680"/>
              <a:chOff x="3551040" y="2629080"/>
              <a:chExt cx="778320" cy="1147680"/>
            </a:xfrm>
          </p:grpSpPr>
          <p:grpSp>
            <p:nvGrpSpPr>
              <p:cNvPr id="1079" name=""/>
              <p:cNvGrpSpPr/>
              <p:nvPr/>
            </p:nvGrpSpPr>
            <p:grpSpPr>
              <a:xfrm>
                <a:off x="3551040" y="2629080"/>
                <a:ext cx="431640" cy="1147680"/>
                <a:chOff x="3551040" y="2629080"/>
                <a:chExt cx="431640" cy="114768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3558240" y="26290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559680" y="31953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551040" y="320796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3" name=""/>
              <p:cNvSpPr/>
              <p:nvPr/>
            </p:nvSpPr>
            <p:spPr>
              <a:xfrm>
                <a:off x="3906360" y="288108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4" name=""/>
            <p:cNvSpPr/>
            <p:nvPr/>
          </p:nvSpPr>
          <p:spPr>
            <a:xfrm>
              <a:off x="2526480" y="32004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528280" y="2624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519280" y="319392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198480" y="3201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199920" y="26258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191280" y="319572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076200" y="28814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22560" y="288288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2572200" y="2793240"/>
            <a:ext cx="1366920" cy="837720"/>
            <a:chOff x="2572200" y="2793240"/>
            <a:chExt cx="1366920" cy="837720"/>
          </a:xfrm>
        </p:grpSpPr>
        <p:sp>
          <p:nvSpPr>
            <p:cNvPr id="1093" name=""/>
            <p:cNvSpPr/>
            <p:nvPr/>
          </p:nvSpPr>
          <p:spPr>
            <a:xfrm flipV="1">
              <a:off x="2572200" y="2794320"/>
              <a:ext cx="341640" cy="2635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2572200" y="3367440"/>
              <a:ext cx="341640" cy="2635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3597480" y="3367440"/>
              <a:ext cx="341640" cy="2635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97480" y="2793240"/>
              <a:ext cx="341640" cy="2635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2184840" y="4183200"/>
            <a:ext cx="2457000" cy="1159200"/>
            <a:chOff x="2184840" y="4183200"/>
            <a:chExt cx="2457000" cy="1159200"/>
          </a:xfrm>
        </p:grpSpPr>
        <p:sp>
          <p:nvSpPr>
            <p:cNvPr id="1098" name=""/>
            <p:cNvSpPr/>
            <p:nvPr/>
          </p:nvSpPr>
          <p:spPr>
            <a:xfrm>
              <a:off x="2184840" y="4441680"/>
              <a:ext cx="80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9" name=""/>
            <p:cNvGrpSpPr/>
            <p:nvPr/>
          </p:nvGrpSpPr>
          <p:grpSpPr>
            <a:xfrm>
              <a:off x="3055680" y="4183200"/>
              <a:ext cx="646920" cy="1159200"/>
              <a:chOff x="3055680" y="4183200"/>
              <a:chExt cx="646920" cy="1159200"/>
            </a:xfrm>
          </p:grpSpPr>
          <p:sp>
            <p:nvSpPr>
              <p:cNvPr id="1100" name=""/>
              <p:cNvSpPr/>
              <p:nvPr/>
            </p:nvSpPr>
            <p:spPr>
              <a:xfrm>
                <a:off x="3055680" y="41832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117960" y="4762440"/>
                <a:ext cx="52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172680" y="4761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3741480" y="4184640"/>
              <a:ext cx="900360" cy="1157400"/>
              <a:chOff x="3741480" y="4184640"/>
              <a:chExt cx="900360" cy="1157400"/>
            </a:xfrm>
          </p:grpSpPr>
          <p:sp>
            <p:nvSpPr>
              <p:cNvPr id="1104" name=""/>
              <p:cNvSpPr/>
              <p:nvPr/>
            </p:nvSpPr>
            <p:spPr>
              <a:xfrm>
                <a:off x="4217040" y="4760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218840" y="4184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209840" y="475452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741480" y="4441680"/>
                <a:ext cx="3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8" name=""/>
          <p:cNvGrpSpPr/>
          <p:nvPr/>
        </p:nvGrpSpPr>
        <p:grpSpPr>
          <a:xfrm>
            <a:off x="4732560" y="4184640"/>
            <a:ext cx="2082600" cy="1159200"/>
            <a:chOff x="4732560" y="4184640"/>
            <a:chExt cx="2082600" cy="1159200"/>
          </a:xfrm>
        </p:grpSpPr>
        <p:grpSp>
          <p:nvGrpSpPr>
            <p:cNvPr id="1109" name=""/>
            <p:cNvGrpSpPr/>
            <p:nvPr/>
          </p:nvGrpSpPr>
          <p:grpSpPr>
            <a:xfrm>
              <a:off x="5222520" y="4184640"/>
              <a:ext cx="646920" cy="1159200"/>
              <a:chOff x="5222520" y="4184640"/>
              <a:chExt cx="646920" cy="1159200"/>
            </a:xfrm>
          </p:grpSpPr>
          <p:sp>
            <p:nvSpPr>
              <p:cNvPr id="1110" name=""/>
              <p:cNvSpPr/>
              <p:nvPr/>
            </p:nvSpPr>
            <p:spPr>
              <a:xfrm>
                <a:off x="5222520" y="418464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284800" y="4763880"/>
                <a:ext cx="52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39520" y="47624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5914800" y="4184640"/>
              <a:ext cx="900360" cy="1157400"/>
              <a:chOff x="5914800" y="4184640"/>
              <a:chExt cx="900360" cy="1157400"/>
            </a:xfrm>
          </p:grpSpPr>
          <p:sp>
            <p:nvSpPr>
              <p:cNvPr id="1114" name=""/>
              <p:cNvSpPr/>
              <p:nvPr/>
            </p:nvSpPr>
            <p:spPr>
              <a:xfrm>
                <a:off x="6390360" y="4760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392160" y="4184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83160" y="475452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914800" y="4441680"/>
                <a:ext cx="3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8" name=""/>
            <p:cNvSpPr/>
            <p:nvPr/>
          </p:nvSpPr>
          <p:spPr>
            <a:xfrm>
              <a:off x="4732560" y="4441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5118840" y="3906720"/>
            <a:ext cx="1841040" cy="1652040"/>
            <a:chOff x="5118840" y="3906720"/>
            <a:chExt cx="1841040" cy="1652040"/>
          </a:xfrm>
        </p:grpSpPr>
        <p:grpSp>
          <p:nvGrpSpPr>
            <p:cNvPr id="1120" name=""/>
            <p:cNvGrpSpPr/>
            <p:nvPr/>
          </p:nvGrpSpPr>
          <p:grpSpPr>
            <a:xfrm>
              <a:off x="5410800" y="4311000"/>
              <a:ext cx="1367280" cy="838080"/>
              <a:chOff x="5410800" y="4311000"/>
              <a:chExt cx="1367280" cy="838080"/>
            </a:xfrm>
          </p:grpSpPr>
          <p:sp>
            <p:nvSpPr>
              <p:cNvPr id="1121" name=""/>
              <p:cNvSpPr/>
              <p:nvPr/>
            </p:nvSpPr>
            <p:spPr>
              <a:xfrm flipV="1">
                <a:off x="5410800" y="4312440"/>
                <a:ext cx="341640" cy="26352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5410800" y="4885560"/>
                <a:ext cx="341640" cy="26352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6436080" y="4885560"/>
                <a:ext cx="341640" cy="26352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6436080" y="4311000"/>
                <a:ext cx="342000" cy="2631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5119200" y="390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605280" y="3906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604560" y="5097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118840" y="5099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3978720" y="5730840"/>
            <a:ext cx="11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x 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2957400" y="66672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ations with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2024280" y="3559320"/>
            <a:ext cx="5067720" cy="1253520"/>
            <a:chOff x="2024280" y="3559320"/>
            <a:chExt cx="5067720" cy="1253520"/>
          </a:xfrm>
        </p:grpSpPr>
        <p:grpSp>
          <p:nvGrpSpPr>
            <p:cNvPr id="1132" name=""/>
            <p:cNvGrpSpPr/>
            <p:nvPr/>
          </p:nvGrpSpPr>
          <p:grpSpPr>
            <a:xfrm>
              <a:off x="2024280" y="3559320"/>
              <a:ext cx="2502720" cy="1253520"/>
              <a:chOff x="2024280" y="3559320"/>
              <a:chExt cx="2502720" cy="1253520"/>
            </a:xfrm>
          </p:grpSpPr>
          <p:grpSp>
            <p:nvGrpSpPr>
              <p:cNvPr id="1133" name=""/>
              <p:cNvGrpSpPr/>
              <p:nvPr/>
            </p:nvGrpSpPr>
            <p:grpSpPr>
              <a:xfrm>
                <a:off x="2024280" y="3560760"/>
                <a:ext cx="802440" cy="1252080"/>
                <a:chOff x="2024280" y="3560760"/>
                <a:chExt cx="802440" cy="1252080"/>
              </a:xfrm>
            </p:grpSpPr>
            <p:grpSp>
              <p:nvGrpSpPr>
                <p:cNvPr id="1134" name=""/>
                <p:cNvGrpSpPr/>
                <p:nvPr/>
              </p:nvGrpSpPr>
              <p:grpSpPr>
                <a:xfrm>
                  <a:off x="2382120" y="3560760"/>
                  <a:ext cx="444600" cy="1252080"/>
                  <a:chOff x="2382120" y="3560760"/>
                  <a:chExt cx="444600" cy="1252080"/>
                </a:xfrm>
              </p:grpSpPr>
              <p:sp>
                <p:nvSpPr>
                  <p:cNvPr id="1135" name=""/>
                  <p:cNvSpPr/>
                  <p:nvPr/>
                </p:nvSpPr>
                <p:spPr>
                  <a:xfrm>
                    <a:off x="2382120" y="356076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ff"/>
                        </a:solidFill>
                        <a:latin typeface="Comic Sans MS"/>
                      </a:rPr>
                      <a:t>4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2383920" y="417024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ff"/>
                        </a:solidFill>
                        <a:latin typeface="Comic Sans MS"/>
                      </a:rPr>
                      <a:t>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2399040" y="4184280"/>
                    <a:ext cx="41112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38" name=""/>
                <p:cNvSpPr/>
                <p:nvPr/>
              </p:nvSpPr>
              <p:spPr>
                <a:xfrm>
                  <a:off x="2024280" y="3835080"/>
                  <a:ext cx="3438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ff"/>
                      </a:solidFill>
                      <a:latin typeface="Comic Sans MS"/>
                    </a:rPr>
                    <a:t>-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3348360" y="3559320"/>
                <a:ext cx="1178640" cy="1251720"/>
                <a:chOff x="3348360" y="3559320"/>
                <a:chExt cx="1178640" cy="125172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3655800" y="3559320"/>
                  <a:ext cx="8712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3m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3870000" y="416844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3732480" y="4182840"/>
                  <a:ext cx="717480" cy="4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3348360" y="3833640"/>
                  <a:ext cx="3438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-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4" name=""/>
              <p:cNvSpPr/>
              <p:nvPr/>
            </p:nvSpPr>
            <p:spPr>
              <a:xfrm>
                <a:off x="2924280" y="3835440"/>
                <a:ext cx="371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4556880" y="3560760"/>
              <a:ext cx="2535120" cy="1251720"/>
              <a:chOff x="4556880" y="3560760"/>
              <a:chExt cx="2535120" cy="1251720"/>
            </a:xfrm>
          </p:grpSpPr>
          <p:sp>
            <p:nvSpPr>
              <p:cNvPr id="1146" name=""/>
              <p:cNvSpPr/>
              <p:nvPr/>
            </p:nvSpPr>
            <p:spPr>
              <a:xfrm>
                <a:off x="4556880" y="383508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888160" y="3835080"/>
                <a:ext cx="371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8" name=""/>
              <p:cNvGrpSpPr/>
              <p:nvPr/>
            </p:nvGrpSpPr>
            <p:grpSpPr>
              <a:xfrm>
                <a:off x="4970520" y="3574800"/>
                <a:ext cx="802440" cy="1223280"/>
                <a:chOff x="4970520" y="3574800"/>
                <a:chExt cx="802440" cy="122328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4970520" y="3835080"/>
                  <a:ext cx="4701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0" name=""/>
                <p:cNvGrpSpPr/>
                <p:nvPr/>
              </p:nvGrpSpPr>
              <p:grpSpPr>
                <a:xfrm>
                  <a:off x="5330160" y="3574800"/>
                  <a:ext cx="442800" cy="1223280"/>
                  <a:chOff x="5330160" y="3574800"/>
                  <a:chExt cx="442800" cy="122328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5330160" y="357480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7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330160" y="415548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8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335920" y="4174560"/>
                    <a:ext cx="431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4" name=""/>
              <p:cNvGrpSpPr/>
              <p:nvPr/>
            </p:nvGrpSpPr>
            <p:grpSpPr>
              <a:xfrm>
                <a:off x="6289920" y="3560760"/>
                <a:ext cx="802080" cy="1251720"/>
                <a:chOff x="6289920" y="3560760"/>
                <a:chExt cx="802080" cy="1251720"/>
              </a:xfrm>
            </p:grpSpPr>
            <p:grpSp>
              <p:nvGrpSpPr>
                <p:cNvPr id="1155" name=""/>
                <p:cNvGrpSpPr/>
                <p:nvPr/>
              </p:nvGrpSpPr>
              <p:grpSpPr>
                <a:xfrm>
                  <a:off x="6647400" y="3560760"/>
                  <a:ext cx="444600" cy="1251720"/>
                  <a:chOff x="6647400" y="3560760"/>
                  <a:chExt cx="444600" cy="125172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6647400" y="356076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4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6649200" y="416988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6664320" y="4184280"/>
                    <a:ext cx="411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9" name=""/>
                <p:cNvSpPr/>
                <p:nvPr/>
              </p:nvSpPr>
              <p:spPr>
                <a:xfrm>
                  <a:off x="6289920" y="3835080"/>
                  <a:ext cx="3438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-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0" name=""/>
          <p:cNvGrpSpPr/>
          <p:nvPr/>
        </p:nvGrpSpPr>
        <p:grpSpPr>
          <a:xfrm>
            <a:off x="2024280" y="5187960"/>
            <a:ext cx="5065920" cy="1253520"/>
            <a:chOff x="2024280" y="5187960"/>
            <a:chExt cx="5065920" cy="1253520"/>
          </a:xfrm>
        </p:grpSpPr>
        <p:grpSp>
          <p:nvGrpSpPr>
            <p:cNvPr id="1161" name=""/>
            <p:cNvGrpSpPr/>
            <p:nvPr/>
          </p:nvGrpSpPr>
          <p:grpSpPr>
            <a:xfrm>
              <a:off x="2024280" y="5187960"/>
              <a:ext cx="2502360" cy="1253520"/>
              <a:chOff x="2024280" y="5187960"/>
              <a:chExt cx="2502360" cy="1253520"/>
            </a:xfrm>
          </p:grpSpPr>
          <p:grpSp>
            <p:nvGrpSpPr>
              <p:cNvPr id="1162" name=""/>
              <p:cNvGrpSpPr/>
              <p:nvPr/>
            </p:nvGrpSpPr>
            <p:grpSpPr>
              <a:xfrm>
                <a:off x="2024280" y="5189400"/>
                <a:ext cx="802080" cy="1252080"/>
                <a:chOff x="2024280" y="5189400"/>
                <a:chExt cx="802080" cy="125208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2381760" y="5189400"/>
                  <a:ext cx="444600" cy="1252080"/>
                  <a:chOff x="2381760" y="5189400"/>
                  <a:chExt cx="444600" cy="125208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2381760" y="518940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4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2383560" y="579888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2398680" y="5813280"/>
                    <a:ext cx="411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7" name=""/>
                <p:cNvSpPr/>
                <p:nvPr/>
              </p:nvSpPr>
              <p:spPr>
                <a:xfrm>
                  <a:off x="2024280" y="5464080"/>
                  <a:ext cx="3438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-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8" name=""/>
              <p:cNvGrpSpPr/>
              <p:nvPr/>
            </p:nvGrpSpPr>
            <p:grpSpPr>
              <a:xfrm>
                <a:off x="3348000" y="5187960"/>
                <a:ext cx="1178640" cy="1251720"/>
                <a:chOff x="3348000" y="5187960"/>
                <a:chExt cx="1178640" cy="125172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3655440" y="5187960"/>
                  <a:ext cx="8712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3m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3869640" y="579708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732120" y="5811480"/>
                  <a:ext cx="717480" cy="4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3348000" y="5462280"/>
                  <a:ext cx="3438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-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3" name=""/>
              <p:cNvSpPr/>
              <p:nvPr/>
            </p:nvSpPr>
            <p:spPr>
              <a:xfrm>
                <a:off x="2924280" y="5464080"/>
                <a:ext cx="371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4555080" y="5189760"/>
              <a:ext cx="2535120" cy="1251720"/>
              <a:chOff x="4555080" y="5189760"/>
              <a:chExt cx="2535120" cy="1251720"/>
            </a:xfrm>
          </p:grpSpPr>
          <p:sp>
            <p:nvSpPr>
              <p:cNvPr id="1175" name=""/>
              <p:cNvSpPr/>
              <p:nvPr/>
            </p:nvSpPr>
            <p:spPr>
              <a:xfrm>
                <a:off x="4555080" y="546408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886360" y="5464080"/>
                <a:ext cx="371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7" name=""/>
              <p:cNvGrpSpPr/>
              <p:nvPr/>
            </p:nvGrpSpPr>
            <p:grpSpPr>
              <a:xfrm>
                <a:off x="4968720" y="5203800"/>
                <a:ext cx="802440" cy="1223280"/>
                <a:chOff x="4968720" y="5203800"/>
                <a:chExt cx="802440" cy="1223280"/>
              </a:xfrm>
            </p:grpSpPr>
            <p:sp>
              <p:nvSpPr>
                <p:cNvPr id="1178" name=""/>
                <p:cNvSpPr/>
                <p:nvPr/>
              </p:nvSpPr>
              <p:spPr>
                <a:xfrm>
                  <a:off x="4968720" y="5464080"/>
                  <a:ext cx="4701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9" name=""/>
                <p:cNvGrpSpPr/>
                <p:nvPr/>
              </p:nvGrpSpPr>
              <p:grpSpPr>
                <a:xfrm>
                  <a:off x="5328360" y="5203800"/>
                  <a:ext cx="442800" cy="1223280"/>
                  <a:chOff x="5328360" y="5203800"/>
                  <a:chExt cx="442800" cy="1223280"/>
                </a:xfrm>
              </p:grpSpPr>
              <p:sp>
                <p:nvSpPr>
                  <p:cNvPr id="1180" name=""/>
                  <p:cNvSpPr/>
                  <p:nvPr/>
                </p:nvSpPr>
                <p:spPr>
                  <a:xfrm>
                    <a:off x="5328360" y="520380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7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5328360" y="578448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8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5334120" y="5803560"/>
                    <a:ext cx="431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3" name=""/>
              <p:cNvGrpSpPr/>
              <p:nvPr/>
            </p:nvGrpSpPr>
            <p:grpSpPr>
              <a:xfrm>
                <a:off x="6288120" y="5189760"/>
                <a:ext cx="802080" cy="1251720"/>
                <a:chOff x="6288120" y="5189760"/>
                <a:chExt cx="802080" cy="1251720"/>
              </a:xfrm>
            </p:grpSpPr>
            <p:grpSp>
              <p:nvGrpSpPr>
                <p:cNvPr id="1184" name=""/>
                <p:cNvGrpSpPr/>
                <p:nvPr/>
              </p:nvGrpSpPr>
              <p:grpSpPr>
                <a:xfrm>
                  <a:off x="6645600" y="5189760"/>
                  <a:ext cx="444600" cy="1251720"/>
                  <a:chOff x="6645600" y="5189760"/>
                  <a:chExt cx="444600" cy="125172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6645600" y="518976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4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6647400" y="579888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6662520" y="5813280"/>
                    <a:ext cx="411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8" name=""/>
                <p:cNvSpPr/>
                <p:nvPr/>
              </p:nvSpPr>
              <p:spPr>
                <a:xfrm>
                  <a:off x="6288120" y="5464080"/>
                  <a:ext cx="3438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-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89" name=""/>
          <p:cNvGrpSpPr/>
          <p:nvPr/>
        </p:nvGrpSpPr>
        <p:grpSpPr>
          <a:xfrm>
            <a:off x="2369520" y="5286960"/>
            <a:ext cx="1952280" cy="1026000"/>
            <a:chOff x="2369520" y="5286960"/>
            <a:chExt cx="1952280" cy="1026000"/>
          </a:xfrm>
        </p:grpSpPr>
        <p:sp>
          <p:nvSpPr>
            <p:cNvPr id="1190" name=""/>
            <p:cNvSpPr/>
            <p:nvPr/>
          </p:nvSpPr>
          <p:spPr>
            <a:xfrm flipV="1">
              <a:off x="2370960" y="5286960"/>
              <a:ext cx="457560" cy="35604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3864960" y="5955120"/>
              <a:ext cx="456840" cy="35604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2369520" y="5956920"/>
              <a:ext cx="457560" cy="35604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3744360" y="5288400"/>
              <a:ext cx="456840" cy="35604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3345120" y="1811160"/>
            <a:ext cx="2424240" cy="1252080"/>
            <a:chOff x="3345120" y="1811160"/>
            <a:chExt cx="2424240" cy="1252080"/>
          </a:xfrm>
        </p:grpSpPr>
        <p:grpSp>
          <p:nvGrpSpPr>
            <p:cNvPr id="1195" name=""/>
            <p:cNvGrpSpPr/>
            <p:nvPr/>
          </p:nvGrpSpPr>
          <p:grpSpPr>
            <a:xfrm>
              <a:off x="3345120" y="1811160"/>
              <a:ext cx="1177920" cy="1252080"/>
              <a:chOff x="3345120" y="1811160"/>
              <a:chExt cx="1177920" cy="1252080"/>
            </a:xfrm>
          </p:grpSpPr>
          <p:sp>
            <p:nvSpPr>
              <p:cNvPr id="1196" name=""/>
              <p:cNvSpPr/>
              <p:nvPr/>
            </p:nvSpPr>
            <p:spPr>
              <a:xfrm>
                <a:off x="3651840" y="1811160"/>
                <a:ext cx="87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m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866040" y="242064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728880" y="2435040"/>
                <a:ext cx="71712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345120" y="2085840"/>
                <a:ext cx="343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4553640" y="20872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1" name=""/>
            <p:cNvGrpSpPr/>
            <p:nvPr/>
          </p:nvGrpSpPr>
          <p:grpSpPr>
            <a:xfrm>
              <a:off x="4966920" y="1827000"/>
              <a:ext cx="802440" cy="1223280"/>
              <a:chOff x="4966920" y="1827000"/>
              <a:chExt cx="802440" cy="1223280"/>
            </a:xfrm>
          </p:grpSpPr>
          <p:sp>
            <p:nvSpPr>
              <p:cNvPr id="1202" name=""/>
              <p:cNvSpPr/>
              <p:nvPr/>
            </p:nvSpPr>
            <p:spPr>
              <a:xfrm>
                <a:off x="4966920" y="208728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3" name=""/>
              <p:cNvGrpSpPr/>
              <p:nvPr/>
            </p:nvGrpSpPr>
            <p:grpSpPr>
              <a:xfrm>
                <a:off x="5326560" y="1827000"/>
                <a:ext cx="442800" cy="1223280"/>
                <a:chOff x="5326560" y="1827000"/>
                <a:chExt cx="442800" cy="122328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5326560" y="182700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5326560" y="240768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5332320" y="242676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5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2957400" y="666720"/>
            <a:ext cx="38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ations with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2800080" y="3424320"/>
            <a:ext cx="1872720" cy="1252080"/>
            <a:chOff x="2800080" y="3424320"/>
            <a:chExt cx="1872720" cy="1252080"/>
          </a:xfrm>
        </p:grpSpPr>
        <p:sp>
          <p:nvSpPr>
            <p:cNvPr id="1209" name=""/>
            <p:cNvSpPr/>
            <p:nvPr/>
          </p:nvSpPr>
          <p:spPr>
            <a:xfrm>
              <a:off x="2800080" y="3698640"/>
              <a:ext cx="1076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m 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3870360" y="3424320"/>
              <a:ext cx="802440" cy="1252080"/>
              <a:chOff x="3870360" y="3424320"/>
              <a:chExt cx="802440" cy="1252080"/>
            </a:xfrm>
          </p:grpSpPr>
          <p:grpSp>
            <p:nvGrpSpPr>
              <p:cNvPr id="1211" name=""/>
              <p:cNvGrpSpPr/>
              <p:nvPr/>
            </p:nvGrpSpPr>
            <p:grpSpPr>
              <a:xfrm>
                <a:off x="4228200" y="3424320"/>
                <a:ext cx="444600" cy="1252080"/>
                <a:chOff x="4228200" y="3424320"/>
                <a:chExt cx="444600" cy="125208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4228200" y="342432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4230000" y="403380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4245120" y="4048200"/>
                  <a:ext cx="411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5" name=""/>
              <p:cNvSpPr/>
              <p:nvPr/>
            </p:nvSpPr>
            <p:spPr>
              <a:xfrm>
                <a:off x="3870360" y="3698640"/>
                <a:ext cx="343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6" name=""/>
          <p:cNvGrpSpPr/>
          <p:nvPr/>
        </p:nvGrpSpPr>
        <p:grpSpPr>
          <a:xfrm>
            <a:off x="4744080" y="3438360"/>
            <a:ext cx="1540080" cy="1223640"/>
            <a:chOff x="4744080" y="3438360"/>
            <a:chExt cx="1540080" cy="1223640"/>
          </a:xfrm>
        </p:grpSpPr>
        <p:sp>
          <p:nvSpPr>
            <p:cNvPr id="1217" name=""/>
            <p:cNvSpPr/>
            <p:nvPr/>
          </p:nvSpPr>
          <p:spPr>
            <a:xfrm>
              <a:off x="4744080" y="36986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8" name=""/>
            <p:cNvGrpSpPr/>
            <p:nvPr/>
          </p:nvGrpSpPr>
          <p:grpSpPr>
            <a:xfrm>
              <a:off x="5249880" y="3438360"/>
              <a:ext cx="1034280" cy="1223640"/>
              <a:chOff x="5249880" y="3438360"/>
              <a:chExt cx="1034280" cy="1223640"/>
            </a:xfrm>
          </p:grpSpPr>
          <p:sp>
            <p:nvSpPr>
              <p:cNvPr id="1219" name=""/>
              <p:cNvSpPr/>
              <p:nvPr/>
            </p:nvSpPr>
            <p:spPr>
              <a:xfrm>
                <a:off x="5464800" y="369864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0" name=""/>
              <p:cNvGrpSpPr/>
              <p:nvPr/>
            </p:nvGrpSpPr>
            <p:grpSpPr>
              <a:xfrm>
                <a:off x="5841360" y="3438360"/>
                <a:ext cx="442800" cy="1223640"/>
                <a:chOff x="5841360" y="3438360"/>
                <a:chExt cx="442800" cy="122364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5841360" y="343836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Comic Sans MS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5841360" y="401940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Comic Sans MS"/>
                    </a:rPr>
                    <a:t>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846760" y="4038480"/>
                  <a:ext cx="43164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4" name=""/>
              <p:cNvSpPr/>
              <p:nvPr/>
            </p:nvSpPr>
            <p:spPr>
              <a:xfrm>
                <a:off x="5249880" y="3698640"/>
                <a:ext cx="343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Comic Sans MS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5" name=""/>
          <p:cNvGrpSpPr/>
          <p:nvPr/>
        </p:nvGrpSpPr>
        <p:grpSpPr>
          <a:xfrm>
            <a:off x="1614240" y="1592280"/>
            <a:ext cx="5793840" cy="1265040"/>
            <a:chOff x="1614240" y="1592280"/>
            <a:chExt cx="5793840" cy="1265040"/>
          </a:xfrm>
        </p:grpSpPr>
        <p:grpSp>
          <p:nvGrpSpPr>
            <p:cNvPr id="1226" name=""/>
            <p:cNvGrpSpPr/>
            <p:nvPr/>
          </p:nvGrpSpPr>
          <p:grpSpPr>
            <a:xfrm>
              <a:off x="1614240" y="1592280"/>
              <a:ext cx="3139200" cy="1265040"/>
              <a:chOff x="1614240" y="1592280"/>
              <a:chExt cx="3139200" cy="1265040"/>
            </a:xfrm>
          </p:grpSpPr>
          <p:sp>
            <p:nvSpPr>
              <p:cNvPr id="1227" name=""/>
              <p:cNvSpPr/>
              <p:nvPr/>
            </p:nvSpPr>
            <p:spPr>
              <a:xfrm>
                <a:off x="1614240" y="1873080"/>
                <a:ext cx="1076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m 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8" name=""/>
              <p:cNvGrpSpPr/>
              <p:nvPr/>
            </p:nvGrpSpPr>
            <p:grpSpPr>
              <a:xfrm>
                <a:off x="2749680" y="1592280"/>
                <a:ext cx="704880" cy="1265040"/>
                <a:chOff x="2749680" y="1592280"/>
                <a:chExt cx="704880" cy="126504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2749680" y="159228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1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880360" y="221472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768400" y="2233800"/>
                  <a:ext cx="66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2" name=""/>
              <p:cNvSpPr/>
              <p:nvPr/>
            </p:nvSpPr>
            <p:spPr>
              <a:xfrm>
                <a:off x="3549600" y="1873080"/>
                <a:ext cx="371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3" name=""/>
              <p:cNvGrpSpPr/>
              <p:nvPr/>
            </p:nvGrpSpPr>
            <p:grpSpPr>
              <a:xfrm>
                <a:off x="3951360" y="1598400"/>
                <a:ext cx="802080" cy="1252080"/>
                <a:chOff x="3951360" y="1598400"/>
                <a:chExt cx="802080" cy="1252080"/>
              </a:xfrm>
            </p:grpSpPr>
            <p:grpSp>
              <p:nvGrpSpPr>
                <p:cNvPr id="1234" name=""/>
                <p:cNvGrpSpPr/>
                <p:nvPr/>
              </p:nvGrpSpPr>
              <p:grpSpPr>
                <a:xfrm>
                  <a:off x="4308840" y="1598400"/>
                  <a:ext cx="444600" cy="1252080"/>
                  <a:chOff x="4308840" y="1598400"/>
                  <a:chExt cx="444600" cy="1252080"/>
                </a:xfrm>
              </p:grpSpPr>
              <p:sp>
                <p:nvSpPr>
                  <p:cNvPr id="1235" name=""/>
                  <p:cNvSpPr/>
                  <p:nvPr/>
                </p:nvSpPr>
                <p:spPr>
                  <a:xfrm>
                    <a:off x="4308840" y="159840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4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4310640" y="220788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4325760" y="2222280"/>
                    <a:ext cx="411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8" name=""/>
                <p:cNvSpPr/>
                <p:nvPr/>
              </p:nvSpPr>
              <p:spPr>
                <a:xfrm>
                  <a:off x="3951360" y="1873080"/>
                  <a:ext cx="3438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-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9" name=""/>
            <p:cNvGrpSpPr/>
            <p:nvPr/>
          </p:nvGrpSpPr>
          <p:grpSpPr>
            <a:xfrm>
              <a:off x="4828680" y="1592280"/>
              <a:ext cx="2579400" cy="1265040"/>
              <a:chOff x="4828680" y="1592280"/>
              <a:chExt cx="2579400" cy="1265040"/>
            </a:xfrm>
          </p:grpSpPr>
          <p:grpSp>
            <p:nvGrpSpPr>
              <p:cNvPr id="1240" name=""/>
              <p:cNvGrpSpPr/>
              <p:nvPr/>
            </p:nvGrpSpPr>
            <p:grpSpPr>
              <a:xfrm>
                <a:off x="6197760" y="1598400"/>
                <a:ext cx="1210320" cy="1252080"/>
                <a:chOff x="6197760" y="1598400"/>
                <a:chExt cx="1210320" cy="1252080"/>
              </a:xfrm>
            </p:grpSpPr>
            <p:grpSp>
              <p:nvGrpSpPr>
                <p:cNvPr id="1241" name=""/>
                <p:cNvGrpSpPr/>
                <p:nvPr/>
              </p:nvGrpSpPr>
              <p:grpSpPr>
                <a:xfrm>
                  <a:off x="6606000" y="1598400"/>
                  <a:ext cx="802080" cy="1252080"/>
                  <a:chOff x="6606000" y="1598400"/>
                  <a:chExt cx="802080" cy="1252080"/>
                </a:xfrm>
              </p:grpSpPr>
              <p:grpSp>
                <p:nvGrpSpPr>
                  <p:cNvPr id="1242" name=""/>
                  <p:cNvGrpSpPr/>
                  <p:nvPr/>
                </p:nvGrpSpPr>
                <p:grpSpPr>
                  <a:xfrm>
                    <a:off x="6963480" y="1598400"/>
                    <a:ext cx="444600" cy="1252080"/>
                    <a:chOff x="6963480" y="1598400"/>
                    <a:chExt cx="444600" cy="1252080"/>
                  </a:xfrm>
                </p:grpSpPr>
                <p:sp>
                  <p:nvSpPr>
                    <p:cNvPr id="1243" name=""/>
                    <p:cNvSpPr/>
                    <p:nvPr/>
                  </p:nvSpPr>
                  <p:spPr>
                    <a:xfrm>
                      <a:off x="6963480" y="1598400"/>
                      <a:ext cx="44280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4" name=""/>
                    <p:cNvSpPr/>
                    <p:nvPr/>
                  </p:nvSpPr>
                  <p:spPr>
                    <a:xfrm>
                      <a:off x="6965280" y="2207880"/>
                      <a:ext cx="44280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5" name=""/>
                    <p:cNvSpPr/>
                    <p:nvPr/>
                  </p:nvSpPr>
                  <p:spPr>
                    <a:xfrm>
                      <a:off x="6980400" y="2222280"/>
                      <a:ext cx="41112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46" name=""/>
                  <p:cNvSpPr/>
                  <p:nvPr/>
                </p:nvSpPr>
                <p:spPr>
                  <a:xfrm>
                    <a:off x="6606000" y="1873080"/>
                    <a:ext cx="34380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-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7" name=""/>
                <p:cNvSpPr/>
                <p:nvPr/>
              </p:nvSpPr>
              <p:spPr>
                <a:xfrm>
                  <a:off x="6197760" y="1873080"/>
                  <a:ext cx="3711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•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8" name=""/>
              <p:cNvSpPr/>
              <p:nvPr/>
            </p:nvSpPr>
            <p:spPr>
              <a:xfrm>
                <a:off x="4828680" y="187308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9" name=""/>
              <p:cNvGrpSpPr/>
              <p:nvPr/>
            </p:nvGrpSpPr>
            <p:grpSpPr>
              <a:xfrm>
                <a:off x="5391720" y="1592280"/>
                <a:ext cx="704880" cy="1265040"/>
                <a:chOff x="5391720" y="1592280"/>
                <a:chExt cx="704880" cy="1265040"/>
              </a:xfrm>
            </p:grpSpPr>
            <p:sp>
              <p:nvSpPr>
                <p:cNvPr id="1250" name=""/>
                <p:cNvSpPr/>
                <p:nvPr/>
              </p:nvSpPr>
              <p:spPr>
                <a:xfrm>
                  <a:off x="5391720" y="159228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1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5522400" y="221472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5410440" y="2233800"/>
                  <a:ext cx="66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53" name=""/>
          <p:cNvGrpSpPr/>
          <p:nvPr/>
        </p:nvGrpSpPr>
        <p:grpSpPr>
          <a:xfrm>
            <a:off x="5273280" y="1330200"/>
            <a:ext cx="2357280" cy="1556640"/>
            <a:chOff x="5273280" y="1330200"/>
            <a:chExt cx="2357280" cy="1556640"/>
          </a:xfrm>
        </p:grpSpPr>
        <p:grpSp>
          <p:nvGrpSpPr>
            <p:cNvPr id="1254" name=""/>
            <p:cNvGrpSpPr/>
            <p:nvPr/>
          </p:nvGrpSpPr>
          <p:grpSpPr>
            <a:xfrm>
              <a:off x="5485680" y="1694160"/>
              <a:ext cx="1935000" cy="1025640"/>
              <a:chOff x="5485680" y="1694160"/>
              <a:chExt cx="1935000" cy="1025640"/>
            </a:xfrm>
          </p:grpSpPr>
          <p:sp>
            <p:nvSpPr>
              <p:cNvPr id="1255" name=""/>
              <p:cNvSpPr/>
              <p:nvPr/>
            </p:nvSpPr>
            <p:spPr>
              <a:xfrm flipV="1">
                <a:off x="5487120" y="1694160"/>
                <a:ext cx="457560" cy="35604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V="1">
                <a:off x="6963480" y="2362320"/>
                <a:ext cx="457200" cy="35640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5485680" y="2364120"/>
                <a:ext cx="457200" cy="35568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V="1">
                <a:off x="6963480" y="1695600"/>
                <a:ext cx="457200" cy="35640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9" name=""/>
            <p:cNvSpPr/>
            <p:nvPr/>
          </p:nvSpPr>
          <p:spPr>
            <a:xfrm>
              <a:off x="5273280" y="1331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274720" y="2427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275960" y="1330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291440" y="24271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7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 txBox="1"/>
          <p:nvPr/>
        </p:nvSpPr>
        <p:spPr>
          <a:xfrm>
            <a:off x="528480" y="1930320"/>
            <a:ext cx="8067960" cy="35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olving Applications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Involving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ivision of Fractions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4" name=""/>
          <p:cNvGrpSpPr/>
          <p:nvPr/>
        </p:nvGrpSpPr>
        <p:grpSpPr>
          <a:xfrm>
            <a:off x="561960" y="1949400"/>
            <a:ext cx="8018280" cy="2288520"/>
            <a:chOff x="561960" y="1949400"/>
            <a:chExt cx="8018280" cy="2288520"/>
          </a:xfrm>
        </p:grpSpPr>
        <p:sp>
          <p:nvSpPr>
            <p:cNvPr id="1265" name=""/>
            <p:cNvSpPr/>
            <p:nvPr/>
          </p:nvSpPr>
          <p:spPr>
            <a:xfrm>
              <a:off x="561960" y="1949400"/>
              <a:ext cx="8018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 car’s odometer shows the distance a person has driven.  If it takes a driver    hour to drive 20     miles, what is his rate of speed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6" name=""/>
            <p:cNvGrpSpPr/>
            <p:nvPr/>
          </p:nvGrpSpPr>
          <p:grpSpPr>
            <a:xfrm>
              <a:off x="6013440" y="2927160"/>
              <a:ext cx="528120" cy="872640"/>
              <a:chOff x="6013440" y="2927160"/>
              <a:chExt cx="528120" cy="872640"/>
            </a:xfrm>
          </p:grpSpPr>
          <p:sp>
            <p:nvSpPr>
              <p:cNvPr id="1267" name=""/>
              <p:cNvSpPr/>
              <p:nvPr/>
            </p:nvSpPr>
            <p:spPr>
              <a:xfrm>
                <a:off x="6100200" y="2927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013440" y="3340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062400" y="334476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2144160" y="2927160"/>
              <a:ext cx="355680" cy="872640"/>
              <a:chOff x="2144160" y="2927160"/>
              <a:chExt cx="355680" cy="872640"/>
            </a:xfrm>
          </p:grpSpPr>
          <p:sp>
            <p:nvSpPr>
              <p:cNvPr id="1271" name=""/>
              <p:cNvSpPr/>
              <p:nvPr/>
            </p:nvSpPr>
            <p:spPr>
              <a:xfrm>
                <a:off x="2145240" y="2927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144160" y="3340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2162160" y="3340080"/>
                <a:ext cx="320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4" name=""/>
          <p:cNvGrpSpPr/>
          <p:nvPr/>
        </p:nvGrpSpPr>
        <p:grpSpPr>
          <a:xfrm>
            <a:off x="561960" y="1949400"/>
            <a:ext cx="8018280" cy="2288520"/>
            <a:chOff x="561960" y="1949400"/>
            <a:chExt cx="8018280" cy="2288520"/>
          </a:xfrm>
        </p:grpSpPr>
        <p:sp>
          <p:nvSpPr>
            <p:cNvPr id="1275" name=""/>
            <p:cNvSpPr/>
            <p:nvPr/>
          </p:nvSpPr>
          <p:spPr>
            <a:xfrm>
              <a:off x="561960" y="1949400"/>
              <a:ext cx="8018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 car’s odometer shows the distance a person has driven.  If it takes a driver   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hour to drive 20     miles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, what is his rate of speed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6" name=""/>
            <p:cNvGrpSpPr/>
            <p:nvPr/>
          </p:nvGrpSpPr>
          <p:grpSpPr>
            <a:xfrm>
              <a:off x="6013800" y="2927160"/>
              <a:ext cx="528120" cy="872640"/>
              <a:chOff x="6013800" y="2927160"/>
              <a:chExt cx="528120" cy="872640"/>
            </a:xfrm>
          </p:grpSpPr>
          <p:sp>
            <p:nvSpPr>
              <p:cNvPr id="1277" name=""/>
              <p:cNvSpPr/>
              <p:nvPr/>
            </p:nvSpPr>
            <p:spPr>
              <a:xfrm>
                <a:off x="6100200" y="2927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013800" y="3340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062760" y="3344760"/>
                <a:ext cx="431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2144160" y="2927160"/>
              <a:ext cx="355680" cy="872640"/>
              <a:chOff x="2144160" y="2927160"/>
              <a:chExt cx="355680" cy="872640"/>
            </a:xfrm>
          </p:grpSpPr>
          <p:sp>
            <p:nvSpPr>
              <p:cNvPr id="1281" name=""/>
              <p:cNvSpPr/>
              <p:nvPr/>
            </p:nvSpPr>
            <p:spPr>
              <a:xfrm>
                <a:off x="2145240" y="2927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2144160" y="3340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2162160" y="3340080"/>
                <a:ext cx="320760" cy="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4" name=""/>
          <p:cNvGrpSpPr/>
          <p:nvPr/>
        </p:nvGrpSpPr>
        <p:grpSpPr>
          <a:xfrm>
            <a:off x="563400" y="1949400"/>
            <a:ext cx="8018280" cy="2288520"/>
            <a:chOff x="563400" y="1949400"/>
            <a:chExt cx="8018280" cy="2288520"/>
          </a:xfrm>
        </p:grpSpPr>
        <p:sp>
          <p:nvSpPr>
            <p:cNvPr id="1285" name=""/>
            <p:cNvSpPr/>
            <p:nvPr/>
          </p:nvSpPr>
          <p:spPr>
            <a:xfrm>
              <a:off x="563400" y="1949400"/>
              <a:ext cx="8018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 car’s odometer shows the distance a person has driven.  If it takes a driver   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hour to drive 20     miles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what is his rate of speed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6" name=""/>
            <p:cNvGrpSpPr/>
            <p:nvPr/>
          </p:nvGrpSpPr>
          <p:grpSpPr>
            <a:xfrm>
              <a:off x="6015240" y="2927160"/>
              <a:ext cx="528120" cy="872640"/>
              <a:chOff x="6015240" y="2927160"/>
              <a:chExt cx="528120" cy="872640"/>
            </a:xfrm>
          </p:grpSpPr>
          <p:sp>
            <p:nvSpPr>
              <p:cNvPr id="1287" name=""/>
              <p:cNvSpPr/>
              <p:nvPr/>
            </p:nvSpPr>
            <p:spPr>
              <a:xfrm>
                <a:off x="6101640" y="2927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015240" y="3340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064200" y="3344760"/>
                <a:ext cx="4316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2145600" y="2927160"/>
              <a:ext cx="355680" cy="872640"/>
              <a:chOff x="2145600" y="2927160"/>
              <a:chExt cx="355680" cy="872640"/>
            </a:xfrm>
          </p:grpSpPr>
          <p:sp>
            <p:nvSpPr>
              <p:cNvPr id="1291" name=""/>
              <p:cNvSpPr/>
              <p:nvPr/>
            </p:nvSpPr>
            <p:spPr>
              <a:xfrm>
                <a:off x="2146680" y="2927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145600" y="3340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163600" y="3340080"/>
                <a:ext cx="320760" cy="4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94" name="" descr="  Passenger Side  "/>
          <p:cNvPicPr/>
          <p:nvPr/>
        </p:nvPicPr>
        <p:blipFill>
          <a:blip r:embed="rId1"/>
          <a:stretch/>
        </p:blipFill>
        <p:spPr>
          <a:xfrm>
            <a:off x="2292480" y="4302000"/>
            <a:ext cx="4554360" cy="2189160"/>
          </a:xfrm>
          <a:prstGeom prst="rect">
            <a:avLst/>
          </a:prstGeom>
          <a:ln w="0">
            <a:noFill/>
          </a:ln>
        </p:spPr>
      </p:pic>
      <p:sp>
        <p:nvSpPr>
          <p:cNvPr id="1295" name=""/>
          <p:cNvSpPr/>
          <p:nvPr/>
        </p:nvSpPr>
        <p:spPr>
          <a:xfrm>
            <a:off x="1839960" y="7300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s - Division of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/>
          <p:nvPr/>
        </p:nvSpPr>
        <p:spPr>
          <a:xfrm>
            <a:off x="627480" y="139068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Giv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7" name=""/>
          <p:cNvGrpSpPr/>
          <p:nvPr/>
        </p:nvGrpSpPr>
        <p:grpSpPr>
          <a:xfrm>
            <a:off x="675720" y="4673520"/>
            <a:ext cx="6229080" cy="1380600"/>
            <a:chOff x="675720" y="4673520"/>
            <a:chExt cx="6229080" cy="1380600"/>
          </a:xfrm>
        </p:grpSpPr>
        <p:sp>
          <p:nvSpPr>
            <p:cNvPr id="1298" name=""/>
            <p:cNvSpPr/>
            <p:nvPr/>
          </p:nvSpPr>
          <p:spPr>
            <a:xfrm>
              <a:off x="675720" y="4673520"/>
              <a:ext cx="159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Asked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248480" y="5411520"/>
              <a:ext cx="565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What is his rate of speed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0" name=""/>
          <p:cNvGrpSpPr/>
          <p:nvPr/>
        </p:nvGrpSpPr>
        <p:grpSpPr>
          <a:xfrm>
            <a:off x="888120" y="1974960"/>
            <a:ext cx="3140640" cy="2346480"/>
            <a:chOff x="888120" y="1974960"/>
            <a:chExt cx="3140640" cy="2346480"/>
          </a:xfrm>
        </p:grpSpPr>
        <p:grpSp>
          <p:nvGrpSpPr>
            <p:cNvPr id="1301" name=""/>
            <p:cNvGrpSpPr/>
            <p:nvPr/>
          </p:nvGrpSpPr>
          <p:grpSpPr>
            <a:xfrm>
              <a:off x="888120" y="1974960"/>
              <a:ext cx="3140640" cy="1128960"/>
              <a:chOff x="888120" y="1974960"/>
              <a:chExt cx="3140640" cy="1128960"/>
            </a:xfrm>
          </p:grpSpPr>
          <p:grpSp>
            <p:nvGrpSpPr>
              <p:cNvPr id="1302" name=""/>
              <p:cNvGrpSpPr/>
              <p:nvPr/>
            </p:nvGrpSpPr>
            <p:grpSpPr>
              <a:xfrm>
                <a:off x="888120" y="1974960"/>
                <a:ext cx="414720" cy="1128960"/>
                <a:chOff x="888120" y="1974960"/>
                <a:chExt cx="414720" cy="112896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888840" y="19749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888120" y="25225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925200" y="2540160"/>
                  <a:ext cx="33948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6" name=""/>
              <p:cNvSpPr/>
              <p:nvPr/>
            </p:nvSpPr>
            <p:spPr>
              <a:xfrm>
                <a:off x="1339560" y="2217960"/>
                <a:ext cx="2689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hour drive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898200" y="2887560"/>
              <a:ext cx="2578320" cy="1433880"/>
              <a:chOff x="898200" y="2887560"/>
              <a:chExt cx="2578320" cy="1433880"/>
            </a:xfrm>
          </p:grpSpPr>
          <p:grpSp>
            <p:nvGrpSpPr>
              <p:cNvPr id="1308" name=""/>
              <p:cNvGrpSpPr/>
              <p:nvPr/>
            </p:nvGrpSpPr>
            <p:grpSpPr>
              <a:xfrm>
                <a:off x="898200" y="2887560"/>
                <a:ext cx="1299240" cy="1128960"/>
                <a:chOff x="898200" y="2887560"/>
                <a:chExt cx="1299240" cy="1128960"/>
              </a:xfrm>
            </p:grpSpPr>
            <p:grpSp>
              <p:nvGrpSpPr>
                <p:cNvPr id="1309" name=""/>
                <p:cNvGrpSpPr/>
                <p:nvPr/>
              </p:nvGrpSpPr>
              <p:grpSpPr>
                <a:xfrm>
                  <a:off x="1550520" y="2887560"/>
                  <a:ext cx="646920" cy="1128960"/>
                  <a:chOff x="1550520" y="2887560"/>
                  <a:chExt cx="646920" cy="1128960"/>
                </a:xfrm>
              </p:grpSpPr>
              <p:sp>
                <p:nvSpPr>
                  <p:cNvPr id="1310" name=""/>
                  <p:cNvSpPr/>
                  <p:nvPr/>
                </p:nvSpPr>
                <p:spPr>
                  <a:xfrm>
                    <a:off x="1666080" y="288756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ff"/>
                        </a:solidFill>
                        <a:latin typeface="Comic Sans MS"/>
                      </a:rPr>
                      <a:t>3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1550520" y="3435120"/>
                    <a:ext cx="6469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ff"/>
                        </a:solidFill>
                        <a:latin typeface="Comic Sans MS"/>
                      </a:rPr>
                      <a:t>10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1635120" y="3452760"/>
                    <a:ext cx="47772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3" name=""/>
                <p:cNvSpPr/>
                <p:nvPr/>
              </p:nvSpPr>
              <p:spPr>
                <a:xfrm>
                  <a:off x="898200" y="313020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Comic Sans MS"/>
                    </a:rPr>
                    <a:t>2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4" name=""/>
              <p:cNvSpPr/>
              <p:nvPr/>
            </p:nvSpPr>
            <p:spPr>
              <a:xfrm>
                <a:off x="2209680" y="3130200"/>
                <a:ext cx="12668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mile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5" name=""/>
          <p:cNvGrpSpPr/>
          <p:nvPr/>
        </p:nvGrpSpPr>
        <p:grpSpPr>
          <a:xfrm>
            <a:off x="4290840" y="3432240"/>
            <a:ext cx="3731040" cy="1191240"/>
            <a:chOff x="4290840" y="3432240"/>
            <a:chExt cx="3731040" cy="1191240"/>
          </a:xfrm>
        </p:grpSpPr>
        <p:sp>
          <p:nvSpPr>
            <p:cNvPr id="1316" name=""/>
            <p:cNvSpPr/>
            <p:nvPr/>
          </p:nvSpPr>
          <p:spPr>
            <a:xfrm>
              <a:off x="4290840" y="3654360"/>
              <a:ext cx="142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ate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042960" y="3432240"/>
              <a:ext cx="197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distanc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im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1839960" y="7300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s - Division of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69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814320" y="1447920"/>
            <a:ext cx="75265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When you finish this unit, you will be able to 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33600" y="2797200"/>
            <a:ext cx="500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applications involving division of f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"/>
          <p:cNvGrpSpPr/>
          <p:nvPr/>
        </p:nvGrpSpPr>
        <p:grpSpPr>
          <a:xfrm>
            <a:off x="2124720" y="1952640"/>
            <a:ext cx="4889520" cy="644040"/>
            <a:chOff x="2124720" y="1952640"/>
            <a:chExt cx="4889520" cy="644040"/>
          </a:xfrm>
        </p:grpSpPr>
        <p:sp>
          <p:nvSpPr>
            <p:cNvPr id="1320" name=""/>
            <p:cNvSpPr/>
            <p:nvPr/>
          </p:nvSpPr>
          <p:spPr>
            <a:xfrm>
              <a:off x="2124720" y="195264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distance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514400" y="1952640"/>
              <a:ext cx="133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rate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865840" y="1954080"/>
              <a:ext cx="114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tim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2883240" y="3124080"/>
            <a:ext cx="3345840" cy="1124280"/>
            <a:chOff x="2883240" y="3124080"/>
            <a:chExt cx="3345840" cy="1124280"/>
          </a:xfrm>
        </p:grpSpPr>
        <p:sp>
          <p:nvSpPr>
            <p:cNvPr id="1324" name=""/>
            <p:cNvSpPr/>
            <p:nvPr/>
          </p:nvSpPr>
          <p:spPr>
            <a:xfrm>
              <a:off x="4800240" y="3365280"/>
              <a:ext cx="142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 ra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2883240" y="3124080"/>
              <a:ext cx="1782360" cy="1124280"/>
              <a:chOff x="2883240" y="3124080"/>
              <a:chExt cx="1782360" cy="1124280"/>
            </a:xfrm>
          </p:grpSpPr>
          <p:sp>
            <p:nvSpPr>
              <p:cNvPr id="1326" name=""/>
              <p:cNvSpPr/>
              <p:nvPr/>
            </p:nvSpPr>
            <p:spPr>
              <a:xfrm>
                <a:off x="2883240" y="3124080"/>
                <a:ext cx="1782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distanc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3253320" y="3666960"/>
                <a:ext cx="104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tim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884320" y="3687840"/>
                <a:ext cx="17798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9" name=""/>
          <p:cNvGrpSpPr/>
          <p:nvPr/>
        </p:nvGrpSpPr>
        <p:grpSpPr>
          <a:xfrm>
            <a:off x="3079800" y="4762440"/>
            <a:ext cx="2998800" cy="1128960"/>
            <a:chOff x="3079800" y="4762440"/>
            <a:chExt cx="2998800" cy="1128960"/>
          </a:xfrm>
        </p:grpSpPr>
        <p:grpSp>
          <p:nvGrpSpPr>
            <p:cNvPr id="1330" name=""/>
            <p:cNvGrpSpPr/>
            <p:nvPr/>
          </p:nvGrpSpPr>
          <p:grpSpPr>
            <a:xfrm>
              <a:off x="3079800" y="4762440"/>
              <a:ext cx="1240200" cy="1128960"/>
              <a:chOff x="3079800" y="4762440"/>
              <a:chExt cx="1240200" cy="1128960"/>
            </a:xfrm>
          </p:grpSpPr>
          <p:sp>
            <p:nvSpPr>
              <p:cNvPr id="1331" name=""/>
              <p:cNvSpPr/>
              <p:nvPr/>
            </p:nvSpPr>
            <p:spPr>
              <a:xfrm>
                <a:off x="3079800" y="49878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2" name=""/>
              <p:cNvGrpSpPr/>
              <p:nvPr/>
            </p:nvGrpSpPr>
            <p:grpSpPr>
              <a:xfrm>
                <a:off x="3673080" y="4762440"/>
                <a:ext cx="646920" cy="1128960"/>
                <a:chOff x="3673080" y="4762440"/>
                <a:chExt cx="646920" cy="1128960"/>
              </a:xfrm>
            </p:grpSpPr>
            <p:sp>
              <p:nvSpPr>
                <p:cNvPr id="1333" name=""/>
                <p:cNvSpPr/>
                <p:nvPr/>
              </p:nvSpPr>
              <p:spPr>
                <a:xfrm>
                  <a:off x="3788640" y="47624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3673080" y="531000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3808440" y="5310000"/>
                  <a:ext cx="37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6" name=""/>
            <p:cNvSpPr/>
            <p:nvPr/>
          </p:nvSpPr>
          <p:spPr>
            <a:xfrm>
              <a:off x="4274280" y="5005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4780800" y="4767120"/>
              <a:ext cx="415080" cy="1119600"/>
              <a:chOff x="4780800" y="4767120"/>
              <a:chExt cx="415080" cy="1119600"/>
            </a:xfrm>
          </p:grpSpPr>
          <p:sp>
            <p:nvSpPr>
              <p:cNvPr id="1338" name=""/>
              <p:cNvSpPr/>
              <p:nvPr/>
            </p:nvSpPr>
            <p:spPr>
              <a:xfrm>
                <a:off x="4781880" y="47671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780800" y="53053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811760" y="5319720"/>
                <a:ext cx="352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5272200" y="5005440"/>
              <a:ext cx="80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2" name=""/>
          <p:cNvSpPr/>
          <p:nvPr/>
        </p:nvSpPr>
        <p:spPr>
          <a:xfrm>
            <a:off x="1839960" y="7300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s - Division of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0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5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3" name=""/>
          <p:cNvGrpSpPr/>
          <p:nvPr/>
        </p:nvGrpSpPr>
        <p:grpSpPr>
          <a:xfrm>
            <a:off x="3065400" y="1333440"/>
            <a:ext cx="2998800" cy="1128960"/>
            <a:chOff x="3065400" y="1333440"/>
            <a:chExt cx="2998800" cy="1128960"/>
          </a:xfrm>
        </p:grpSpPr>
        <p:grpSp>
          <p:nvGrpSpPr>
            <p:cNvPr id="1344" name=""/>
            <p:cNvGrpSpPr/>
            <p:nvPr/>
          </p:nvGrpSpPr>
          <p:grpSpPr>
            <a:xfrm>
              <a:off x="3065400" y="1333440"/>
              <a:ext cx="1240200" cy="1128960"/>
              <a:chOff x="3065400" y="1333440"/>
              <a:chExt cx="1240200" cy="1128960"/>
            </a:xfrm>
          </p:grpSpPr>
          <p:sp>
            <p:nvSpPr>
              <p:cNvPr id="1345" name=""/>
              <p:cNvSpPr/>
              <p:nvPr/>
            </p:nvSpPr>
            <p:spPr>
              <a:xfrm>
                <a:off x="3065400" y="15588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6" name=""/>
              <p:cNvGrpSpPr/>
              <p:nvPr/>
            </p:nvGrpSpPr>
            <p:grpSpPr>
              <a:xfrm>
                <a:off x="3658680" y="1333440"/>
                <a:ext cx="646920" cy="1128960"/>
                <a:chOff x="3658680" y="1333440"/>
                <a:chExt cx="646920" cy="112896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3774240" y="13334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3658680" y="188100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3794040" y="1881000"/>
                  <a:ext cx="374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0" name=""/>
            <p:cNvSpPr/>
            <p:nvPr/>
          </p:nvSpPr>
          <p:spPr>
            <a:xfrm>
              <a:off x="4259880" y="1576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1" name=""/>
            <p:cNvGrpSpPr/>
            <p:nvPr/>
          </p:nvGrpSpPr>
          <p:grpSpPr>
            <a:xfrm>
              <a:off x="4766400" y="1338120"/>
              <a:ext cx="415080" cy="1119600"/>
              <a:chOff x="4766400" y="1338120"/>
              <a:chExt cx="415080" cy="1119600"/>
            </a:xfrm>
          </p:grpSpPr>
          <p:sp>
            <p:nvSpPr>
              <p:cNvPr id="1352" name=""/>
              <p:cNvSpPr/>
              <p:nvPr/>
            </p:nvSpPr>
            <p:spPr>
              <a:xfrm>
                <a:off x="4767480" y="13381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766400" y="18763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797360" y="1890720"/>
                <a:ext cx="352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5" name=""/>
            <p:cNvSpPr/>
            <p:nvPr/>
          </p:nvSpPr>
          <p:spPr>
            <a:xfrm>
              <a:off x="5257800" y="1576440"/>
              <a:ext cx="80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3193560" y="2573280"/>
            <a:ext cx="2745360" cy="1133640"/>
            <a:chOff x="3193560" y="2573280"/>
            <a:chExt cx="2745360" cy="1133640"/>
          </a:xfrm>
        </p:grpSpPr>
        <p:grpSp>
          <p:nvGrpSpPr>
            <p:cNvPr id="1357" name=""/>
            <p:cNvGrpSpPr/>
            <p:nvPr/>
          </p:nvGrpSpPr>
          <p:grpSpPr>
            <a:xfrm>
              <a:off x="3193560" y="2573280"/>
              <a:ext cx="880200" cy="1133640"/>
              <a:chOff x="3193560" y="2573280"/>
              <a:chExt cx="880200" cy="1133640"/>
            </a:xfrm>
          </p:grpSpPr>
          <p:sp>
            <p:nvSpPr>
              <p:cNvPr id="1358" name=""/>
              <p:cNvSpPr/>
              <p:nvPr/>
            </p:nvSpPr>
            <p:spPr>
              <a:xfrm>
                <a:off x="3193560" y="257328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0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309840" y="31255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216240" y="3138480"/>
                <a:ext cx="833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4134600" y="2581200"/>
              <a:ext cx="1804320" cy="1119600"/>
              <a:chOff x="4134600" y="2581200"/>
              <a:chExt cx="1804320" cy="1119600"/>
            </a:xfrm>
          </p:grpSpPr>
          <p:sp>
            <p:nvSpPr>
              <p:cNvPr id="1362" name=""/>
              <p:cNvSpPr/>
              <p:nvPr/>
            </p:nvSpPr>
            <p:spPr>
              <a:xfrm>
                <a:off x="4134600" y="28191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÷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3" name=""/>
              <p:cNvGrpSpPr/>
              <p:nvPr/>
            </p:nvGrpSpPr>
            <p:grpSpPr>
              <a:xfrm>
                <a:off x="4640760" y="2581200"/>
                <a:ext cx="415080" cy="1119600"/>
                <a:chOff x="4640760" y="2581200"/>
                <a:chExt cx="415080" cy="111960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4641840" y="25812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640760" y="31194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4671720" y="3133800"/>
                  <a:ext cx="352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7" name=""/>
              <p:cNvSpPr/>
              <p:nvPr/>
            </p:nvSpPr>
            <p:spPr>
              <a:xfrm>
                <a:off x="5132520" y="2819160"/>
                <a:ext cx="806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 r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8" name=""/>
          <p:cNvGrpSpPr/>
          <p:nvPr/>
        </p:nvGrpSpPr>
        <p:grpSpPr>
          <a:xfrm>
            <a:off x="1271160" y="3936960"/>
            <a:ext cx="2730960" cy="1133640"/>
            <a:chOff x="1271160" y="3936960"/>
            <a:chExt cx="2730960" cy="1133640"/>
          </a:xfrm>
        </p:grpSpPr>
        <p:grpSp>
          <p:nvGrpSpPr>
            <p:cNvPr id="1369" name=""/>
            <p:cNvGrpSpPr/>
            <p:nvPr/>
          </p:nvGrpSpPr>
          <p:grpSpPr>
            <a:xfrm>
              <a:off x="1271160" y="3936960"/>
              <a:ext cx="880200" cy="1133640"/>
              <a:chOff x="1271160" y="3936960"/>
              <a:chExt cx="880200" cy="1133640"/>
            </a:xfrm>
          </p:grpSpPr>
          <p:sp>
            <p:nvSpPr>
              <p:cNvPr id="1370" name=""/>
              <p:cNvSpPr/>
              <p:nvPr/>
            </p:nvSpPr>
            <p:spPr>
              <a:xfrm>
                <a:off x="1271160" y="393696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0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386720" y="44892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293480" y="4502160"/>
                <a:ext cx="83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3" name=""/>
            <p:cNvSpPr/>
            <p:nvPr/>
          </p:nvSpPr>
          <p:spPr>
            <a:xfrm>
              <a:off x="2250720" y="41828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4" name=""/>
            <p:cNvGrpSpPr/>
            <p:nvPr/>
          </p:nvGrpSpPr>
          <p:grpSpPr>
            <a:xfrm>
              <a:off x="2692800" y="3944880"/>
              <a:ext cx="414360" cy="1119240"/>
              <a:chOff x="2692800" y="3944880"/>
              <a:chExt cx="414360" cy="1119240"/>
            </a:xfrm>
          </p:grpSpPr>
          <p:sp>
            <p:nvSpPr>
              <p:cNvPr id="1375" name=""/>
              <p:cNvSpPr/>
              <p:nvPr/>
            </p:nvSpPr>
            <p:spPr>
              <a:xfrm>
                <a:off x="2693160" y="39448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692800" y="44827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722680" y="4497120"/>
                <a:ext cx="352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8" name=""/>
            <p:cNvSpPr/>
            <p:nvPr/>
          </p:nvSpPr>
          <p:spPr>
            <a:xfrm>
              <a:off x="3195720" y="4182840"/>
              <a:ext cx="80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9" name=""/>
          <p:cNvGrpSpPr/>
          <p:nvPr/>
        </p:nvGrpSpPr>
        <p:grpSpPr>
          <a:xfrm>
            <a:off x="4118040" y="3787920"/>
            <a:ext cx="3743280" cy="1432800"/>
            <a:chOff x="4118040" y="3787920"/>
            <a:chExt cx="3743280" cy="1432800"/>
          </a:xfrm>
        </p:grpSpPr>
        <p:sp>
          <p:nvSpPr>
            <p:cNvPr id="1380" name=""/>
            <p:cNvSpPr/>
            <p:nvPr/>
          </p:nvSpPr>
          <p:spPr>
            <a:xfrm>
              <a:off x="4118040" y="4213080"/>
              <a:ext cx="782640" cy="579600"/>
            </a:xfrm>
            <a:prstGeom prst="rightArrow">
              <a:avLst>
                <a:gd name="adj1" fmla="val 50000"/>
                <a:gd name="adj2" fmla="val 33758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1" name=""/>
            <p:cNvGrpSpPr/>
            <p:nvPr/>
          </p:nvGrpSpPr>
          <p:grpSpPr>
            <a:xfrm>
              <a:off x="4968360" y="3787920"/>
              <a:ext cx="2892960" cy="1432800"/>
              <a:chOff x="4968360" y="3787920"/>
              <a:chExt cx="2892960" cy="1432800"/>
            </a:xfrm>
          </p:grpSpPr>
          <p:grpSp>
            <p:nvGrpSpPr>
              <p:cNvPr id="1382" name=""/>
              <p:cNvGrpSpPr/>
              <p:nvPr/>
            </p:nvGrpSpPr>
            <p:grpSpPr>
              <a:xfrm>
                <a:off x="5130360" y="3941640"/>
                <a:ext cx="2730960" cy="1133640"/>
                <a:chOff x="5130360" y="3941640"/>
                <a:chExt cx="2730960" cy="1133640"/>
              </a:xfrm>
            </p:grpSpPr>
            <p:grpSp>
              <p:nvGrpSpPr>
                <p:cNvPr id="1383" name=""/>
                <p:cNvGrpSpPr/>
                <p:nvPr/>
              </p:nvGrpSpPr>
              <p:grpSpPr>
                <a:xfrm>
                  <a:off x="5130360" y="3941640"/>
                  <a:ext cx="880200" cy="1133640"/>
                  <a:chOff x="5130360" y="3941640"/>
                  <a:chExt cx="880200" cy="1133640"/>
                </a:xfrm>
              </p:grpSpPr>
              <p:sp>
                <p:nvSpPr>
                  <p:cNvPr id="1384" name=""/>
                  <p:cNvSpPr/>
                  <p:nvPr/>
                </p:nvSpPr>
                <p:spPr>
                  <a:xfrm>
                    <a:off x="5130360" y="3941640"/>
                    <a:ext cx="8802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203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5245920" y="4493880"/>
                    <a:ext cx="6469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0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5152680" y="4506840"/>
                    <a:ext cx="833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7" name=""/>
                <p:cNvSpPr/>
                <p:nvPr/>
              </p:nvSpPr>
              <p:spPr>
                <a:xfrm>
                  <a:off x="6109920" y="4187520"/>
                  <a:ext cx="35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•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8" name=""/>
                <p:cNvGrpSpPr/>
                <p:nvPr/>
              </p:nvGrpSpPr>
              <p:grpSpPr>
                <a:xfrm>
                  <a:off x="6552000" y="3949560"/>
                  <a:ext cx="414360" cy="1119240"/>
                  <a:chOff x="6552000" y="3949560"/>
                  <a:chExt cx="414360" cy="1119240"/>
                </a:xfrm>
              </p:grpSpPr>
              <p:sp>
                <p:nvSpPr>
                  <p:cNvPr id="1389" name=""/>
                  <p:cNvSpPr/>
                  <p:nvPr/>
                </p:nvSpPr>
                <p:spPr>
                  <a:xfrm>
                    <a:off x="6552360" y="394956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2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6552000" y="4487400"/>
                    <a:ext cx="414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6581880" y="4501800"/>
                    <a:ext cx="3524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2" name=""/>
                <p:cNvSpPr/>
                <p:nvPr/>
              </p:nvSpPr>
              <p:spPr>
                <a:xfrm>
                  <a:off x="7054920" y="4187520"/>
                  <a:ext cx="806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= r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3" name=""/>
              <p:cNvSpPr/>
              <p:nvPr/>
            </p:nvSpPr>
            <p:spPr>
              <a:xfrm flipV="1">
                <a:off x="5271480" y="4610880"/>
                <a:ext cx="577440" cy="32400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6452280" y="4091760"/>
                <a:ext cx="577440" cy="32400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968360" y="4761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cc33"/>
                    </a:solidFill>
                    <a:latin typeface="Comic Sans MS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918840" y="3787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cc33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2177640" y="5302080"/>
            <a:ext cx="1766880" cy="1133640"/>
            <a:chOff x="2177640" y="5302080"/>
            <a:chExt cx="1766880" cy="1133640"/>
          </a:xfrm>
        </p:grpSpPr>
        <p:grpSp>
          <p:nvGrpSpPr>
            <p:cNvPr id="1398" name=""/>
            <p:cNvGrpSpPr/>
            <p:nvPr/>
          </p:nvGrpSpPr>
          <p:grpSpPr>
            <a:xfrm>
              <a:off x="2177640" y="5302080"/>
              <a:ext cx="880200" cy="1133640"/>
              <a:chOff x="2177640" y="5302080"/>
              <a:chExt cx="880200" cy="1133640"/>
            </a:xfrm>
          </p:grpSpPr>
          <p:sp>
            <p:nvSpPr>
              <p:cNvPr id="1399" name=""/>
              <p:cNvSpPr/>
              <p:nvPr/>
            </p:nvSpPr>
            <p:spPr>
              <a:xfrm>
                <a:off x="2177640" y="530208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0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410560" y="58543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200320" y="5867280"/>
                <a:ext cx="833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2" name=""/>
            <p:cNvSpPr/>
            <p:nvPr/>
          </p:nvSpPr>
          <p:spPr>
            <a:xfrm>
              <a:off x="3138480" y="5548320"/>
              <a:ext cx="80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3" name=""/>
          <p:cNvGrpSpPr/>
          <p:nvPr/>
        </p:nvGrpSpPr>
        <p:grpSpPr>
          <a:xfrm>
            <a:off x="4071960" y="5308560"/>
            <a:ext cx="4496760" cy="1119600"/>
            <a:chOff x="4071960" y="5308560"/>
            <a:chExt cx="4496760" cy="1119600"/>
          </a:xfrm>
        </p:grpSpPr>
        <p:sp>
          <p:nvSpPr>
            <p:cNvPr id="1404" name=""/>
            <p:cNvSpPr/>
            <p:nvPr/>
          </p:nvSpPr>
          <p:spPr>
            <a:xfrm>
              <a:off x="4071960" y="5578560"/>
              <a:ext cx="782640" cy="579240"/>
            </a:xfrm>
            <a:prstGeom prst="rightArrow">
              <a:avLst>
                <a:gd name="adj1" fmla="val 50000"/>
                <a:gd name="adj2" fmla="val 33779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978440" y="55468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4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693760" y="5308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693760" y="58467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24360" y="5861160"/>
              <a:ext cx="352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237720" y="5546880"/>
              <a:ext cx="233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= r (mi/hr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1839960" y="7300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s - Division of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2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7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2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3897360" y="1654200"/>
            <a:ext cx="427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investor has $500 to invest in a stock mutual fund.  If each share is listed at $37½, how many shares could she bu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898800" y="1654200"/>
            <a:ext cx="4300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investor has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$500 to inves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n a stock mutual fund.  If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each shar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listed at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$37½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w many shares could she bu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839960" y="7300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s - Division of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4" name="" descr=""/>
          <p:cNvPicPr/>
          <p:nvPr/>
        </p:nvPicPr>
        <p:blipFill>
          <a:blip r:embed="rId1"/>
          <a:stretch/>
        </p:blipFill>
        <p:spPr>
          <a:xfrm>
            <a:off x="784080" y="1757520"/>
            <a:ext cx="2509920" cy="24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627480" y="167004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Giv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6" name=""/>
          <p:cNvGrpSpPr/>
          <p:nvPr/>
        </p:nvGrpSpPr>
        <p:grpSpPr>
          <a:xfrm>
            <a:off x="1209960" y="2408400"/>
            <a:ext cx="4231440" cy="1409040"/>
            <a:chOff x="1209960" y="2408400"/>
            <a:chExt cx="4231440" cy="1409040"/>
          </a:xfrm>
        </p:grpSpPr>
        <p:sp>
          <p:nvSpPr>
            <p:cNvPr id="1417" name=""/>
            <p:cNvSpPr/>
            <p:nvPr/>
          </p:nvSpPr>
          <p:spPr>
            <a:xfrm>
              <a:off x="1264320" y="2408400"/>
              <a:ext cx="318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$500 to inves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209960" y="3174840"/>
              <a:ext cx="423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each share is $37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675720" y="4280040"/>
            <a:ext cx="7819200" cy="1380600"/>
            <a:chOff x="675720" y="4280040"/>
            <a:chExt cx="7819200" cy="1380600"/>
          </a:xfrm>
        </p:grpSpPr>
        <p:sp>
          <p:nvSpPr>
            <p:cNvPr id="1420" name=""/>
            <p:cNvSpPr/>
            <p:nvPr/>
          </p:nvSpPr>
          <p:spPr>
            <a:xfrm>
              <a:off x="675720" y="4280040"/>
              <a:ext cx="159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Asked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056960" y="5018040"/>
              <a:ext cx="743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How many shares can be bought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2" name=""/>
          <p:cNvGrpSpPr/>
          <p:nvPr/>
        </p:nvGrpSpPr>
        <p:grpSpPr>
          <a:xfrm>
            <a:off x="6261120" y="1670040"/>
            <a:ext cx="2298600" cy="2978280"/>
            <a:chOff x="6261120" y="1670040"/>
            <a:chExt cx="2298600" cy="2978280"/>
          </a:xfrm>
        </p:grpSpPr>
        <p:sp>
          <p:nvSpPr>
            <p:cNvPr id="1423" name=""/>
            <p:cNvSpPr/>
            <p:nvPr/>
          </p:nvSpPr>
          <p:spPr>
            <a:xfrm>
              <a:off x="6261120" y="1670040"/>
              <a:ext cx="2273400" cy="2978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261120" y="2408400"/>
              <a:ext cx="227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261120" y="2878200"/>
              <a:ext cx="227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286680" y="3386160"/>
              <a:ext cx="227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844680" y="2378160"/>
              <a:ext cx="10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$37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844680" y="2873520"/>
              <a:ext cx="10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$37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857280" y="3432240"/>
              <a:ext cx="10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$37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793920" y="1768320"/>
              <a:ext cx="109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Comic Sans MS"/>
                </a:rPr>
                <a:t>$37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501960" y="4027320"/>
              <a:ext cx="19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00"/>
                  </a:solidFill>
                  <a:latin typeface="Comic Sans MS"/>
                </a:rPr>
                <a:t>How man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2" name=""/>
          <p:cNvSpPr/>
          <p:nvPr/>
        </p:nvSpPr>
        <p:spPr>
          <a:xfrm>
            <a:off x="1839960" y="7300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s - Division of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3" name=""/>
          <p:cNvGrpSpPr/>
          <p:nvPr/>
        </p:nvGrpSpPr>
        <p:grpSpPr>
          <a:xfrm>
            <a:off x="1387440" y="1395360"/>
            <a:ext cx="6200640" cy="947160"/>
            <a:chOff x="1387440" y="1395360"/>
            <a:chExt cx="6200640" cy="947160"/>
          </a:xfrm>
        </p:grpSpPr>
        <p:sp>
          <p:nvSpPr>
            <p:cNvPr id="1434" name=""/>
            <p:cNvSpPr/>
            <p:nvPr/>
          </p:nvSpPr>
          <p:spPr>
            <a:xfrm>
              <a:off x="2959200" y="1579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÷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181480" y="1579680"/>
              <a:ext cx="41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387440" y="1395360"/>
              <a:ext cx="1731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whole amou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282840" y="1395360"/>
              <a:ext cx="2027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size of each p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560920" y="1395360"/>
              <a:ext cx="2027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cc99"/>
                  </a:solidFill>
                  <a:latin typeface="Comic Sans MS"/>
                </a:rPr>
                <a:t>number of par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9" name=""/>
          <p:cNvGrpSpPr/>
          <p:nvPr/>
        </p:nvGrpSpPr>
        <p:grpSpPr>
          <a:xfrm>
            <a:off x="1697400" y="2371680"/>
            <a:ext cx="1113480" cy="1263960"/>
            <a:chOff x="1697400" y="2371680"/>
            <a:chExt cx="1113480" cy="1263960"/>
          </a:xfrm>
        </p:grpSpPr>
        <p:sp>
          <p:nvSpPr>
            <p:cNvPr id="1440" name=""/>
            <p:cNvSpPr/>
            <p:nvPr/>
          </p:nvSpPr>
          <p:spPr>
            <a:xfrm>
              <a:off x="2036880" y="2371680"/>
              <a:ext cx="432000" cy="493920"/>
            </a:xfrm>
            <a:prstGeom prst="downArrow">
              <a:avLst>
                <a:gd name="adj1" fmla="val 50000"/>
                <a:gd name="adj2" fmla="val 28583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697400" y="3054240"/>
              <a:ext cx="111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$5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3641760" y="2371680"/>
            <a:ext cx="1309680" cy="1263960"/>
            <a:chOff x="3641760" y="2371680"/>
            <a:chExt cx="1309680" cy="1263960"/>
          </a:xfrm>
        </p:grpSpPr>
        <p:sp>
          <p:nvSpPr>
            <p:cNvPr id="1443" name=""/>
            <p:cNvSpPr/>
            <p:nvPr/>
          </p:nvSpPr>
          <p:spPr>
            <a:xfrm>
              <a:off x="4081680" y="2371680"/>
              <a:ext cx="431640" cy="493920"/>
            </a:xfrm>
            <a:prstGeom prst="downArrow">
              <a:avLst>
                <a:gd name="adj1" fmla="val 50000"/>
                <a:gd name="adj2" fmla="val 2860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641760" y="3054240"/>
              <a:ext cx="13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$37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2961000" y="30542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5407200" y="2371680"/>
            <a:ext cx="2336760" cy="1508760"/>
            <a:chOff x="5407200" y="2371680"/>
            <a:chExt cx="2336760" cy="1508760"/>
          </a:xfrm>
        </p:grpSpPr>
        <p:sp>
          <p:nvSpPr>
            <p:cNvPr id="1447" name=""/>
            <p:cNvSpPr/>
            <p:nvPr/>
          </p:nvSpPr>
          <p:spPr>
            <a:xfrm>
              <a:off x="6359760" y="2371680"/>
              <a:ext cx="431640" cy="493920"/>
            </a:xfrm>
            <a:prstGeom prst="downArrow">
              <a:avLst>
                <a:gd name="adj1" fmla="val 50000"/>
                <a:gd name="adj2" fmla="val 2860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407200" y="2811600"/>
              <a:ext cx="2336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number of shar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9" name=""/>
          <p:cNvSpPr/>
          <p:nvPr/>
        </p:nvSpPr>
        <p:spPr>
          <a:xfrm>
            <a:off x="4995720" y="3054240"/>
            <a:ext cx="4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739960" y="4276800"/>
            <a:ext cx="36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$500 ÷ $37½ = 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2854080" y="5303880"/>
            <a:ext cx="3490920" cy="1148040"/>
            <a:chOff x="2854080" y="5303880"/>
            <a:chExt cx="3490920" cy="1148040"/>
          </a:xfrm>
        </p:grpSpPr>
        <p:sp>
          <p:nvSpPr>
            <p:cNvPr id="1452" name=""/>
            <p:cNvSpPr/>
            <p:nvPr/>
          </p:nvSpPr>
          <p:spPr>
            <a:xfrm>
              <a:off x="2854080" y="5556240"/>
              <a:ext cx="161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500 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501160" y="5556240"/>
              <a:ext cx="84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4" name=""/>
            <p:cNvGrpSpPr/>
            <p:nvPr/>
          </p:nvGrpSpPr>
          <p:grpSpPr>
            <a:xfrm>
              <a:off x="4582800" y="5303880"/>
              <a:ext cx="880200" cy="1148040"/>
              <a:chOff x="4582800" y="5303880"/>
              <a:chExt cx="880200" cy="1148040"/>
            </a:xfrm>
          </p:grpSpPr>
          <p:sp>
            <p:nvSpPr>
              <p:cNvPr id="1455" name=""/>
              <p:cNvSpPr/>
              <p:nvPr/>
            </p:nvSpPr>
            <p:spPr>
              <a:xfrm>
                <a:off x="4582800" y="530388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$7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815720" y="58705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619520" y="5881680"/>
                <a:ext cx="8064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8" name=""/>
          <p:cNvSpPr/>
          <p:nvPr/>
        </p:nvSpPr>
        <p:spPr>
          <a:xfrm>
            <a:off x="1839960" y="7300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s - Division of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9" name=""/>
          <p:cNvGrpSpPr/>
          <p:nvPr/>
        </p:nvGrpSpPr>
        <p:grpSpPr>
          <a:xfrm>
            <a:off x="595080" y="1330200"/>
            <a:ext cx="3490920" cy="1148040"/>
            <a:chOff x="595080" y="1330200"/>
            <a:chExt cx="3490920" cy="1148040"/>
          </a:xfrm>
        </p:grpSpPr>
        <p:sp>
          <p:nvSpPr>
            <p:cNvPr id="1460" name=""/>
            <p:cNvSpPr/>
            <p:nvPr/>
          </p:nvSpPr>
          <p:spPr>
            <a:xfrm>
              <a:off x="595080" y="1582560"/>
              <a:ext cx="161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500 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242160" y="1582560"/>
              <a:ext cx="84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2" name=""/>
            <p:cNvGrpSpPr/>
            <p:nvPr/>
          </p:nvGrpSpPr>
          <p:grpSpPr>
            <a:xfrm>
              <a:off x="2323800" y="1330200"/>
              <a:ext cx="880200" cy="1148040"/>
              <a:chOff x="2323800" y="1330200"/>
              <a:chExt cx="880200" cy="1148040"/>
            </a:xfrm>
          </p:grpSpPr>
          <p:sp>
            <p:nvSpPr>
              <p:cNvPr id="1463" name=""/>
              <p:cNvSpPr/>
              <p:nvPr/>
            </p:nvSpPr>
            <p:spPr>
              <a:xfrm>
                <a:off x="2323800" y="133020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$7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556720" y="1896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360520" y="1908000"/>
                <a:ext cx="8064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6" name=""/>
          <p:cNvGrpSpPr/>
          <p:nvPr/>
        </p:nvGrpSpPr>
        <p:grpSpPr>
          <a:xfrm>
            <a:off x="4183200" y="1328760"/>
            <a:ext cx="4409640" cy="1153080"/>
            <a:chOff x="4183200" y="1328760"/>
            <a:chExt cx="4409640" cy="1153080"/>
          </a:xfrm>
        </p:grpSpPr>
        <p:grpSp>
          <p:nvGrpSpPr>
            <p:cNvPr id="1467" name=""/>
            <p:cNvGrpSpPr/>
            <p:nvPr/>
          </p:nvGrpSpPr>
          <p:grpSpPr>
            <a:xfrm>
              <a:off x="5170680" y="1328760"/>
              <a:ext cx="3422160" cy="1153080"/>
              <a:chOff x="5170680" y="1328760"/>
              <a:chExt cx="3422160" cy="1153080"/>
            </a:xfrm>
          </p:grpSpPr>
          <p:sp>
            <p:nvSpPr>
              <p:cNvPr id="1468" name=""/>
              <p:cNvSpPr/>
              <p:nvPr/>
            </p:nvSpPr>
            <p:spPr>
              <a:xfrm>
                <a:off x="7749000" y="1582920"/>
                <a:ext cx="84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 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9" name=""/>
              <p:cNvGrpSpPr/>
              <p:nvPr/>
            </p:nvGrpSpPr>
            <p:grpSpPr>
              <a:xfrm>
                <a:off x="6830280" y="1330560"/>
                <a:ext cx="880200" cy="1147680"/>
                <a:chOff x="6830280" y="1330560"/>
                <a:chExt cx="880200" cy="114768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6830280" y="1330560"/>
                  <a:ext cx="880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$7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063200" y="18968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6867000" y="1908000"/>
                  <a:ext cx="806040" cy="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3" name=""/>
              <p:cNvSpPr/>
              <p:nvPr/>
            </p:nvSpPr>
            <p:spPr>
              <a:xfrm>
                <a:off x="6309360" y="15829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÷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4" name=""/>
              <p:cNvGrpSpPr/>
              <p:nvPr/>
            </p:nvGrpSpPr>
            <p:grpSpPr>
              <a:xfrm>
                <a:off x="5170680" y="1328760"/>
                <a:ext cx="1113480" cy="1153080"/>
                <a:chOff x="5170680" y="1328760"/>
                <a:chExt cx="1113480" cy="1153080"/>
              </a:xfrm>
            </p:grpSpPr>
            <p:sp>
              <p:nvSpPr>
                <p:cNvPr id="1475" name=""/>
                <p:cNvSpPr/>
                <p:nvPr/>
              </p:nvSpPr>
              <p:spPr>
                <a:xfrm>
                  <a:off x="5170680" y="1328760"/>
                  <a:ext cx="1113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$50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5519880" y="19004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5233680" y="1900440"/>
                  <a:ext cx="987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78" name=""/>
            <p:cNvSpPr/>
            <p:nvPr/>
          </p:nvSpPr>
          <p:spPr>
            <a:xfrm>
              <a:off x="4183200" y="1620720"/>
              <a:ext cx="793440" cy="567000"/>
            </a:xfrm>
            <a:prstGeom prst="rightArrow">
              <a:avLst>
                <a:gd name="adj1" fmla="val 50000"/>
                <a:gd name="adj2" fmla="val 34984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2900520" y="2508120"/>
            <a:ext cx="3393720" cy="1153080"/>
            <a:chOff x="2900520" y="2508120"/>
            <a:chExt cx="3393720" cy="1153080"/>
          </a:xfrm>
        </p:grpSpPr>
        <p:sp>
          <p:nvSpPr>
            <p:cNvPr id="1480" name=""/>
            <p:cNvSpPr/>
            <p:nvPr/>
          </p:nvSpPr>
          <p:spPr>
            <a:xfrm>
              <a:off x="5450400" y="2761920"/>
              <a:ext cx="84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4531680" y="2509560"/>
              <a:ext cx="880200" cy="1151280"/>
              <a:chOff x="4531680" y="2509560"/>
              <a:chExt cx="880200" cy="1151280"/>
            </a:xfrm>
          </p:grpSpPr>
          <p:sp>
            <p:nvSpPr>
              <p:cNvPr id="1482" name=""/>
              <p:cNvSpPr/>
              <p:nvPr/>
            </p:nvSpPr>
            <p:spPr>
              <a:xfrm>
                <a:off x="4531680" y="307944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$7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4764960" y="25095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568760" y="3078000"/>
                <a:ext cx="8064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5" name=""/>
            <p:cNvSpPr/>
            <p:nvPr/>
          </p:nvSpPr>
          <p:spPr>
            <a:xfrm>
              <a:off x="4077720" y="276192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6" name=""/>
            <p:cNvGrpSpPr/>
            <p:nvPr/>
          </p:nvGrpSpPr>
          <p:grpSpPr>
            <a:xfrm>
              <a:off x="2900520" y="2508120"/>
              <a:ext cx="1113480" cy="1153080"/>
              <a:chOff x="2900520" y="2508120"/>
              <a:chExt cx="1113480" cy="1153080"/>
            </a:xfrm>
          </p:grpSpPr>
          <p:sp>
            <p:nvSpPr>
              <p:cNvPr id="1487" name=""/>
              <p:cNvSpPr/>
              <p:nvPr/>
            </p:nvSpPr>
            <p:spPr>
              <a:xfrm>
                <a:off x="2900520" y="2508120"/>
                <a:ext cx="111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$5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249720" y="3079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963520" y="3079800"/>
                <a:ext cx="987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0" name=""/>
          <p:cNvGrpSpPr/>
          <p:nvPr/>
        </p:nvGrpSpPr>
        <p:grpSpPr>
          <a:xfrm>
            <a:off x="1407600" y="3747960"/>
            <a:ext cx="3755880" cy="1615320"/>
            <a:chOff x="1407600" y="3747960"/>
            <a:chExt cx="3755880" cy="1615320"/>
          </a:xfrm>
        </p:grpSpPr>
        <p:grpSp>
          <p:nvGrpSpPr>
            <p:cNvPr id="1491" name=""/>
            <p:cNvGrpSpPr/>
            <p:nvPr/>
          </p:nvGrpSpPr>
          <p:grpSpPr>
            <a:xfrm>
              <a:off x="1770480" y="4011480"/>
              <a:ext cx="3393000" cy="1153080"/>
              <a:chOff x="1770480" y="4011480"/>
              <a:chExt cx="3393000" cy="1153080"/>
            </a:xfrm>
          </p:grpSpPr>
          <p:sp>
            <p:nvSpPr>
              <p:cNvPr id="1492" name=""/>
              <p:cNvSpPr/>
              <p:nvPr/>
            </p:nvSpPr>
            <p:spPr>
              <a:xfrm>
                <a:off x="4319640" y="4265280"/>
                <a:ext cx="84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 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3" name=""/>
              <p:cNvGrpSpPr/>
              <p:nvPr/>
            </p:nvGrpSpPr>
            <p:grpSpPr>
              <a:xfrm>
                <a:off x="3401280" y="4012920"/>
                <a:ext cx="880200" cy="1151280"/>
                <a:chOff x="3401280" y="4012920"/>
                <a:chExt cx="880200" cy="115128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3401280" y="4582800"/>
                  <a:ext cx="880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$7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3633840" y="40129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3438000" y="4581360"/>
                  <a:ext cx="806040" cy="1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7" name=""/>
              <p:cNvSpPr/>
              <p:nvPr/>
            </p:nvSpPr>
            <p:spPr>
              <a:xfrm>
                <a:off x="2947320" y="4265280"/>
                <a:ext cx="3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8" name=""/>
              <p:cNvGrpSpPr/>
              <p:nvPr/>
            </p:nvGrpSpPr>
            <p:grpSpPr>
              <a:xfrm>
                <a:off x="1770480" y="4011480"/>
                <a:ext cx="1113480" cy="1153080"/>
                <a:chOff x="1770480" y="4011480"/>
                <a:chExt cx="1113480" cy="1153080"/>
              </a:xfrm>
            </p:grpSpPr>
            <p:sp>
              <p:nvSpPr>
                <p:cNvPr id="1499" name=""/>
                <p:cNvSpPr/>
                <p:nvPr/>
              </p:nvSpPr>
              <p:spPr>
                <a:xfrm>
                  <a:off x="1770480" y="4011480"/>
                  <a:ext cx="1113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$50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2118960" y="45831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1833120" y="4583160"/>
                  <a:ext cx="987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2" name=""/>
            <p:cNvSpPr/>
            <p:nvPr/>
          </p:nvSpPr>
          <p:spPr>
            <a:xfrm flipV="1">
              <a:off x="1746000" y="4160520"/>
              <a:ext cx="1191240" cy="2113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3341880" y="4776480"/>
              <a:ext cx="1023480" cy="1987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407600" y="37479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Comic Sans MS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076280" y="4903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5259240" y="3992400"/>
            <a:ext cx="2492280" cy="1127520"/>
            <a:chOff x="5259240" y="3992400"/>
            <a:chExt cx="2492280" cy="1127520"/>
          </a:xfrm>
        </p:grpSpPr>
        <p:grpSp>
          <p:nvGrpSpPr>
            <p:cNvPr id="1507" name=""/>
            <p:cNvGrpSpPr/>
            <p:nvPr/>
          </p:nvGrpSpPr>
          <p:grpSpPr>
            <a:xfrm>
              <a:off x="6216840" y="3992400"/>
              <a:ext cx="1534680" cy="1127520"/>
              <a:chOff x="6216840" y="3992400"/>
              <a:chExt cx="1534680" cy="1127520"/>
            </a:xfrm>
          </p:grpSpPr>
          <p:grpSp>
            <p:nvGrpSpPr>
              <p:cNvPr id="1508" name=""/>
              <p:cNvGrpSpPr/>
              <p:nvPr/>
            </p:nvGrpSpPr>
            <p:grpSpPr>
              <a:xfrm>
                <a:off x="6216840" y="3992400"/>
                <a:ext cx="646920" cy="1127520"/>
                <a:chOff x="6216840" y="3992400"/>
                <a:chExt cx="646920" cy="112752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6216840" y="399240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4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6333480" y="45385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6246720" y="4557600"/>
                  <a:ext cx="587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2" name=""/>
              <p:cNvSpPr/>
              <p:nvPr/>
            </p:nvSpPr>
            <p:spPr>
              <a:xfrm>
                <a:off x="6907680" y="4235400"/>
                <a:ext cx="84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 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3" name=""/>
            <p:cNvSpPr/>
            <p:nvPr/>
          </p:nvSpPr>
          <p:spPr>
            <a:xfrm>
              <a:off x="5259240" y="4272120"/>
              <a:ext cx="793800" cy="566640"/>
            </a:xfrm>
            <a:prstGeom prst="rightArrow">
              <a:avLst>
                <a:gd name="adj1" fmla="val 50000"/>
                <a:gd name="adj2" fmla="val 35022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1778040" y="5288040"/>
            <a:ext cx="1875960" cy="1161000"/>
            <a:chOff x="1778040" y="5288040"/>
            <a:chExt cx="1875960" cy="1161000"/>
          </a:xfrm>
        </p:grpSpPr>
        <p:grpSp>
          <p:nvGrpSpPr>
            <p:cNvPr id="1515" name=""/>
            <p:cNvGrpSpPr/>
            <p:nvPr/>
          </p:nvGrpSpPr>
          <p:grpSpPr>
            <a:xfrm>
              <a:off x="1778040" y="5288040"/>
              <a:ext cx="989280" cy="1161000"/>
              <a:chOff x="1778040" y="5288040"/>
              <a:chExt cx="989280" cy="1161000"/>
            </a:xfrm>
          </p:grpSpPr>
          <p:sp>
            <p:nvSpPr>
              <p:cNvPr id="1516" name=""/>
              <p:cNvSpPr/>
              <p:nvPr/>
            </p:nvSpPr>
            <p:spPr>
              <a:xfrm>
                <a:off x="1778040" y="55468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7" name=""/>
              <p:cNvGrpSpPr/>
              <p:nvPr/>
            </p:nvGrpSpPr>
            <p:grpSpPr>
              <a:xfrm>
                <a:off x="2352600" y="5288040"/>
                <a:ext cx="414720" cy="1161000"/>
                <a:chOff x="2352600" y="5288040"/>
                <a:chExt cx="414720" cy="1161000"/>
              </a:xfrm>
            </p:grpSpPr>
            <p:sp>
              <p:nvSpPr>
                <p:cNvPr id="1518" name=""/>
                <p:cNvSpPr/>
                <p:nvPr/>
              </p:nvSpPr>
              <p:spPr>
                <a:xfrm>
                  <a:off x="2352600" y="52880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2353320" y="58676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2384280" y="5867640"/>
                  <a:ext cx="352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1" name=""/>
            <p:cNvSpPr/>
            <p:nvPr/>
          </p:nvSpPr>
          <p:spPr>
            <a:xfrm>
              <a:off x="2810160" y="5546880"/>
              <a:ext cx="84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3749760" y="5288040"/>
            <a:ext cx="3581280" cy="1160640"/>
            <a:chOff x="3749760" y="5288040"/>
            <a:chExt cx="3581280" cy="1160640"/>
          </a:xfrm>
        </p:grpSpPr>
        <p:grpSp>
          <p:nvGrpSpPr>
            <p:cNvPr id="1523" name=""/>
            <p:cNvGrpSpPr/>
            <p:nvPr/>
          </p:nvGrpSpPr>
          <p:grpSpPr>
            <a:xfrm>
              <a:off x="4673880" y="5288040"/>
              <a:ext cx="2657160" cy="1160640"/>
              <a:chOff x="4673880" y="5288040"/>
              <a:chExt cx="2657160" cy="1160640"/>
            </a:xfrm>
          </p:grpSpPr>
          <p:sp>
            <p:nvSpPr>
              <p:cNvPr id="1524" name=""/>
              <p:cNvSpPr/>
              <p:nvPr/>
            </p:nvSpPr>
            <p:spPr>
              <a:xfrm>
                <a:off x="4673880" y="55468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5" name=""/>
              <p:cNvGrpSpPr/>
              <p:nvPr/>
            </p:nvGrpSpPr>
            <p:grpSpPr>
              <a:xfrm>
                <a:off x="5248800" y="5288040"/>
                <a:ext cx="414360" cy="1160640"/>
                <a:chOff x="5248800" y="5288040"/>
                <a:chExt cx="414360" cy="1160640"/>
              </a:xfrm>
            </p:grpSpPr>
            <p:sp>
              <p:nvSpPr>
                <p:cNvPr id="1526" name=""/>
                <p:cNvSpPr/>
                <p:nvPr/>
              </p:nvSpPr>
              <p:spPr>
                <a:xfrm>
                  <a:off x="5248800" y="52880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5249160" y="58672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5280120" y="5867280"/>
                  <a:ext cx="35244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9" name=""/>
              <p:cNvSpPr/>
              <p:nvPr/>
            </p:nvSpPr>
            <p:spPr>
              <a:xfrm>
                <a:off x="5726880" y="5546880"/>
                <a:ext cx="160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share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0" name=""/>
            <p:cNvSpPr/>
            <p:nvPr/>
          </p:nvSpPr>
          <p:spPr>
            <a:xfrm>
              <a:off x="3749760" y="5583240"/>
              <a:ext cx="793800" cy="566640"/>
            </a:xfrm>
            <a:prstGeom prst="rightArrow">
              <a:avLst>
                <a:gd name="adj1" fmla="val 50000"/>
                <a:gd name="adj2" fmla="val 35022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1" name=""/>
          <p:cNvSpPr/>
          <p:nvPr/>
        </p:nvSpPr>
        <p:spPr>
          <a:xfrm>
            <a:off x="1839960" y="730080"/>
            <a:ext cx="54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s - Division of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1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534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e fractions and mix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3" name=""/>
          <p:cNvGraphicFramePr/>
          <p:nvPr/>
        </p:nvGraphicFramePr>
        <p:xfrm>
          <a:off x="3343320" y="300348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3320" y="300348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6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597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4" name=""/>
          <p:cNvSpPr/>
          <p:nvPr/>
        </p:nvSpPr>
        <p:spPr>
          <a:xfrm>
            <a:off x="2743200" y="20574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e rational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6" name=""/>
          <p:cNvGraphicFramePr/>
          <p:nvPr/>
        </p:nvGraphicFramePr>
        <p:xfrm>
          <a:off x="3832200" y="2835360"/>
          <a:ext cx="4473720" cy="3354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32200" y="2835360"/>
                    <a:ext cx="4473720" cy="33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660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7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square root of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9" name=""/>
          <p:cNvGraphicFramePr/>
          <p:nvPr/>
        </p:nvGraphicFramePr>
        <p:xfrm>
          <a:off x="3500280" y="301788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301788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2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723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0" name=""/>
          <p:cNvSpPr/>
          <p:nvPr/>
        </p:nvSpPr>
        <p:spPr>
          <a:xfrm>
            <a:off x="2743200" y="2057400"/>
            <a:ext cx="60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equations involv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2" name=""/>
          <p:cNvGraphicFramePr/>
          <p:nvPr/>
        </p:nvGraphicFramePr>
        <p:xfrm>
          <a:off x="3614760" y="300816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4760" y="300816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41240" y="2843280"/>
            <a:ext cx="7667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ividing Fraction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505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5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786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3" name=""/>
          <p:cNvSpPr/>
          <p:nvPr/>
        </p:nvSpPr>
        <p:spPr>
          <a:xfrm>
            <a:off x="2743200" y="2057400"/>
            <a:ext cx="60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applications involv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division of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85800" y="1447920"/>
            <a:ext cx="75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5" name=""/>
          <p:cNvGraphicFramePr/>
          <p:nvPr/>
        </p:nvGraphicFramePr>
        <p:xfrm>
          <a:off x="3514680" y="301788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4680" y="301788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00400" y="609480"/>
            <a:ext cx="32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55760" y="2814480"/>
            <a:ext cx="27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 + (-12) = -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260880" y="1649520"/>
            <a:ext cx="5332320" cy="1126800"/>
            <a:chOff x="3260880" y="1649520"/>
            <a:chExt cx="5332320" cy="1126800"/>
          </a:xfrm>
        </p:grpSpPr>
        <p:sp>
          <p:nvSpPr>
            <p:cNvPr id="232" name=""/>
            <p:cNvSpPr/>
            <p:nvPr/>
          </p:nvSpPr>
          <p:spPr>
            <a:xfrm>
              <a:off x="3260880" y="2133720"/>
              <a:ext cx="258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7 + (-12) = 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5969160" y="1649520"/>
              <a:ext cx="2624040" cy="1068840"/>
              <a:chOff x="5969160" y="1649520"/>
              <a:chExt cx="2624040" cy="1068840"/>
            </a:xfrm>
          </p:grpSpPr>
          <p:sp>
            <p:nvSpPr>
              <p:cNvPr id="234" name=""/>
              <p:cNvSpPr/>
              <p:nvPr/>
            </p:nvSpPr>
            <p:spPr>
              <a:xfrm>
                <a:off x="5969160" y="1693800"/>
                <a:ext cx="696600" cy="978120"/>
              </a:xfrm>
              <a:custGeom>
                <a:avLst/>
                <a:gdLst>
                  <a:gd name="textAreaLeft" fmla="*/ 93240 w 696600"/>
                  <a:gd name="textAreaRight" fmla="*/ 603360 w 696600"/>
                  <a:gd name="textAreaTop" fmla="*/ 171000 h 978120"/>
                  <a:gd name="textAreaBottom" fmla="*/ 709200 h 978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81680" y="1649520"/>
                <a:ext cx="18115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additive inver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" name=""/>
          <p:cNvSpPr/>
          <p:nvPr/>
        </p:nvSpPr>
        <p:spPr>
          <a:xfrm>
            <a:off x="3436560" y="4307040"/>
            <a:ext cx="21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– 6 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818880" y="4886280"/>
            <a:ext cx="1819080" cy="644040"/>
            <a:chOff x="3818880" y="4886280"/>
            <a:chExt cx="1819080" cy="644040"/>
          </a:xfrm>
        </p:grpSpPr>
        <p:sp>
          <p:nvSpPr>
            <p:cNvPr id="238" name=""/>
            <p:cNvSpPr/>
            <p:nvPr/>
          </p:nvSpPr>
          <p:spPr>
            <a:xfrm>
              <a:off x="3818880" y="488772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14280" y="488628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360600" y="5511960"/>
            <a:ext cx="2388960" cy="648720"/>
            <a:chOff x="3360600" y="5511960"/>
            <a:chExt cx="2388960" cy="648720"/>
          </a:xfrm>
        </p:grpSpPr>
        <p:sp>
          <p:nvSpPr>
            <p:cNvPr id="241" name=""/>
            <p:cNvSpPr/>
            <p:nvPr/>
          </p:nvSpPr>
          <p:spPr>
            <a:xfrm>
              <a:off x="3360600" y="5511960"/>
              <a:ext cx="238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425040" y="5518080"/>
              <a:ext cx="2243160" cy="642600"/>
              <a:chOff x="3425040" y="5518080"/>
              <a:chExt cx="2243160" cy="642600"/>
            </a:xfrm>
          </p:grpSpPr>
          <p:sp>
            <p:nvSpPr>
              <p:cNvPr id="243" name=""/>
              <p:cNvSpPr/>
              <p:nvPr/>
            </p:nvSpPr>
            <p:spPr>
              <a:xfrm>
                <a:off x="3425040" y="551808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82080" y="5518080"/>
                <a:ext cx="1086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 1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385920" y="1281240"/>
            <a:ext cx="5235120" cy="2292120"/>
            <a:chOff x="385920" y="1281240"/>
            <a:chExt cx="5235120" cy="2292120"/>
          </a:xfrm>
        </p:grpSpPr>
        <p:sp>
          <p:nvSpPr>
            <p:cNvPr id="246" name=""/>
            <p:cNvSpPr/>
            <p:nvPr/>
          </p:nvSpPr>
          <p:spPr>
            <a:xfrm>
              <a:off x="3489480" y="1538280"/>
              <a:ext cx="213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7 – 12 = 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85920" y="1281240"/>
              <a:ext cx="2863800" cy="2292120"/>
              <a:chOff x="385920" y="1281240"/>
              <a:chExt cx="2863800" cy="2292120"/>
            </a:xfrm>
          </p:grpSpPr>
          <p:sp>
            <p:nvSpPr>
              <p:cNvPr id="248" name=""/>
              <p:cNvSpPr/>
              <p:nvPr/>
            </p:nvSpPr>
            <p:spPr>
              <a:xfrm>
                <a:off x="385920" y="1281240"/>
                <a:ext cx="2863800" cy="2292120"/>
              </a:xfrm>
              <a:prstGeom prst="irregularSeal2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9285800">
                <a:off x="631440" y="2247840"/>
                <a:ext cx="199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flashback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87800" y="1525680"/>
            <a:ext cx="81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inverse of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ubtracti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ad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0320" y="2206800"/>
            <a:ext cx="848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inverse of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multiplicati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2440" y="2916360"/>
            <a:ext cx="82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verse operations undo one 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00920" y="4013280"/>
            <a:ext cx="7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4013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+ 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13280" y="4013280"/>
            <a:ext cx="8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536640" y="4836960"/>
            <a:ext cx="415080" cy="1148400"/>
            <a:chOff x="3536640" y="4836960"/>
            <a:chExt cx="415080" cy="1148400"/>
          </a:xfrm>
        </p:grpSpPr>
        <p:sp>
          <p:nvSpPr>
            <p:cNvPr id="257" name=""/>
            <p:cNvSpPr/>
            <p:nvPr/>
          </p:nvSpPr>
          <p:spPr>
            <a:xfrm>
              <a:off x="3536640" y="48369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37720" y="54039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60400" y="5402160"/>
              <a:ext cx="366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052520" y="5089680"/>
            <a:ext cx="7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80080" y="5089680"/>
            <a:ext cx="82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609480"/>
            <a:ext cx="32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43120" y="1380960"/>
            <a:ext cx="74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icative inverses are usually called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recipro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43120" y="2633760"/>
            <a:ext cx="74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t of a number and its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reciproca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893240" y="3860640"/>
            <a:ext cx="5403240" cy="1135440"/>
            <a:chOff x="1893240" y="3860640"/>
            <a:chExt cx="5403240" cy="1135440"/>
          </a:xfrm>
        </p:grpSpPr>
        <p:sp>
          <p:nvSpPr>
            <p:cNvPr id="266" name=""/>
            <p:cNvSpPr/>
            <p:nvPr/>
          </p:nvSpPr>
          <p:spPr>
            <a:xfrm>
              <a:off x="1893240" y="4106520"/>
              <a:ext cx="377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he reciprocal o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785560" y="3860640"/>
              <a:ext cx="415080" cy="1134000"/>
              <a:chOff x="5785560" y="3860640"/>
              <a:chExt cx="415080" cy="1134000"/>
            </a:xfrm>
          </p:grpSpPr>
          <p:sp>
            <p:nvSpPr>
              <p:cNvPr id="268" name=""/>
              <p:cNvSpPr/>
              <p:nvPr/>
            </p:nvSpPr>
            <p:spPr>
              <a:xfrm>
                <a:off x="5786640" y="3860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85560" y="44132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25880" y="4416480"/>
                <a:ext cx="33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881040" y="3862080"/>
              <a:ext cx="415440" cy="1134000"/>
              <a:chOff x="6881040" y="3862080"/>
              <a:chExt cx="415440" cy="1134000"/>
            </a:xfrm>
          </p:grpSpPr>
          <p:sp>
            <p:nvSpPr>
              <p:cNvPr id="272" name=""/>
              <p:cNvSpPr/>
              <p:nvPr/>
            </p:nvSpPr>
            <p:spPr>
              <a:xfrm>
                <a:off x="6882480" y="38620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881040" y="44146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921360" y="4417920"/>
                <a:ext cx="3348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272640" y="4106520"/>
              <a:ext cx="51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i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845360" y="5284800"/>
            <a:ext cx="5448960" cy="1134000"/>
            <a:chOff x="1845360" y="5284800"/>
            <a:chExt cx="5448960" cy="1134000"/>
          </a:xfrm>
        </p:grpSpPr>
        <p:sp>
          <p:nvSpPr>
            <p:cNvPr id="277" name=""/>
            <p:cNvSpPr/>
            <p:nvPr/>
          </p:nvSpPr>
          <p:spPr>
            <a:xfrm>
              <a:off x="1845360" y="5529240"/>
              <a:ext cx="195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becau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860280" y="5284800"/>
              <a:ext cx="415440" cy="1134000"/>
              <a:chOff x="3860280" y="5284800"/>
              <a:chExt cx="415440" cy="1134000"/>
            </a:xfrm>
          </p:grpSpPr>
          <p:sp>
            <p:nvSpPr>
              <p:cNvPr id="279" name=""/>
              <p:cNvSpPr/>
              <p:nvPr/>
            </p:nvSpPr>
            <p:spPr>
              <a:xfrm>
                <a:off x="3861720" y="5284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60280" y="5837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00600" y="5840640"/>
                <a:ext cx="33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4357440" y="55292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4804560" y="5284800"/>
              <a:ext cx="415440" cy="1133640"/>
              <a:chOff x="4804560" y="5284800"/>
              <a:chExt cx="415440" cy="1133640"/>
            </a:xfrm>
          </p:grpSpPr>
          <p:sp>
            <p:nvSpPr>
              <p:cNvPr id="284" name=""/>
              <p:cNvSpPr/>
              <p:nvPr/>
            </p:nvSpPr>
            <p:spPr>
              <a:xfrm>
                <a:off x="4806000" y="5284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804560" y="58370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44880" y="5840280"/>
                <a:ext cx="33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5278320" y="5530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5779800" y="5284800"/>
              <a:ext cx="648360" cy="1134000"/>
              <a:chOff x="5779800" y="5284800"/>
              <a:chExt cx="648360" cy="1134000"/>
            </a:xfrm>
          </p:grpSpPr>
          <p:sp>
            <p:nvSpPr>
              <p:cNvPr id="289" name=""/>
              <p:cNvSpPr/>
              <p:nvPr/>
            </p:nvSpPr>
            <p:spPr>
              <a:xfrm>
                <a:off x="5781240" y="52848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79800" y="58374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5821200" y="5837400"/>
                <a:ext cx="5652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470640" y="553068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200400" y="609480"/>
            <a:ext cx="32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1296360" y="2271600"/>
            <a:ext cx="6622560" cy="1146600"/>
            <a:chOff x="1296360" y="2271600"/>
            <a:chExt cx="6622560" cy="1146600"/>
          </a:xfrm>
        </p:grpSpPr>
        <p:sp>
          <p:nvSpPr>
            <p:cNvPr id="295" name=""/>
            <p:cNvSpPr/>
            <p:nvPr/>
          </p:nvSpPr>
          <p:spPr>
            <a:xfrm>
              <a:off x="1296360" y="2516040"/>
              <a:ext cx="415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he reciprocal of 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6315480" y="2271600"/>
              <a:ext cx="414360" cy="1134000"/>
              <a:chOff x="6315480" y="2271600"/>
              <a:chExt cx="414360" cy="1134000"/>
            </a:xfrm>
          </p:grpSpPr>
          <p:sp>
            <p:nvSpPr>
              <p:cNvPr id="297" name=""/>
              <p:cNvSpPr/>
              <p:nvPr/>
            </p:nvSpPr>
            <p:spPr>
              <a:xfrm>
                <a:off x="6315840" y="2271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315480" y="2824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354720" y="2827440"/>
                <a:ext cx="33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7504560" y="2284560"/>
              <a:ext cx="414360" cy="1133640"/>
              <a:chOff x="7504560" y="2284560"/>
              <a:chExt cx="414360" cy="1133640"/>
            </a:xfrm>
          </p:grpSpPr>
          <p:sp>
            <p:nvSpPr>
              <p:cNvPr id="301" name=""/>
              <p:cNvSpPr/>
              <p:nvPr/>
            </p:nvSpPr>
            <p:spPr>
              <a:xfrm>
                <a:off x="7504560" y="22845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504920" y="2836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545240" y="2840040"/>
                <a:ext cx="335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541840" y="2517840"/>
              <a:ext cx="78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37680" y="2530440"/>
              <a:ext cx="77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) i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962720" y="3666960"/>
            <a:ext cx="5220360" cy="1135800"/>
            <a:chOff x="1962720" y="3666960"/>
            <a:chExt cx="5220360" cy="1135800"/>
          </a:xfrm>
        </p:grpSpPr>
        <p:sp>
          <p:nvSpPr>
            <p:cNvPr id="307" name=""/>
            <p:cNvSpPr/>
            <p:nvPr/>
          </p:nvSpPr>
          <p:spPr>
            <a:xfrm>
              <a:off x="1962720" y="3913200"/>
              <a:ext cx="195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becaus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978360" y="3668760"/>
              <a:ext cx="414720" cy="1134000"/>
              <a:chOff x="3978360" y="3668760"/>
              <a:chExt cx="414720" cy="1134000"/>
            </a:xfrm>
          </p:grpSpPr>
          <p:sp>
            <p:nvSpPr>
              <p:cNvPr id="309" name=""/>
              <p:cNvSpPr/>
              <p:nvPr/>
            </p:nvSpPr>
            <p:spPr>
              <a:xfrm>
                <a:off x="3979080" y="36687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978360" y="4221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017960" y="4224600"/>
                <a:ext cx="33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474800" y="391320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4921560" y="3668760"/>
              <a:ext cx="414360" cy="1134000"/>
              <a:chOff x="4921560" y="3668760"/>
              <a:chExt cx="414360" cy="1134000"/>
            </a:xfrm>
          </p:grpSpPr>
          <p:sp>
            <p:nvSpPr>
              <p:cNvPr id="314" name=""/>
              <p:cNvSpPr/>
              <p:nvPr/>
            </p:nvSpPr>
            <p:spPr>
              <a:xfrm>
                <a:off x="4921560" y="36687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921920" y="4221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962240" y="4224600"/>
                <a:ext cx="33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5396040" y="3913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59400" y="391320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5919120" y="3666960"/>
              <a:ext cx="414000" cy="1133640"/>
              <a:chOff x="5919120" y="3666960"/>
              <a:chExt cx="414000" cy="1133640"/>
            </a:xfrm>
          </p:grpSpPr>
          <p:sp>
            <p:nvSpPr>
              <p:cNvPr id="320" name=""/>
              <p:cNvSpPr/>
              <p:nvPr/>
            </p:nvSpPr>
            <p:spPr>
              <a:xfrm>
                <a:off x="5919120" y="3666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919120" y="4219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57640" y="4222440"/>
                <a:ext cx="335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3" name=""/>
          <p:cNvSpPr/>
          <p:nvPr/>
        </p:nvSpPr>
        <p:spPr>
          <a:xfrm>
            <a:off x="3200400" y="609480"/>
            <a:ext cx="32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8:53:10Z</dcterms:modified>
  <cp:revision>493</cp:revision>
  <dc:subject/>
  <dc:title>PowerPoint Presentation</dc:title>
</cp:coreProperties>
</file>