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8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14600" y="1643040"/>
            <a:ext cx="4064040" cy="464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1447920"/>
            <a:ext cx="71629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dding and Subtract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Rational Express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42320" y="1925640"/>
            <a:ext cx="1275480" cy="3043800"/>
            <a:chOff x="742320" y="1925640"/>
            <a:chExt cx="1275480" cy="3043800"/>
          </a:xfrm>
        </p:grpSpPr>
        <p:grpSp>
          <p:nvGrpSpPr>
            <p:cNvPr id="404" name=""/>
            <p:cNvGrpSpPr/>
            <p:nvPr/>
          </p:nvGrpSpPr>
          <p:grpSpPr>
            <a:xfrm>
              <a:off x="1309680" y="1925640"/>
              <a:ext cx="577800" cy="1252440"/>
              <a:chOff x="1309680" y="1925640"/>
              <a:chExt cx="577800" cy="1252440"/>
            </a:xfrm>
          </p:grpSpPr>
          <p:sp>
            <p:nvSpPr>
              <p:cNvPr id="405" name=""/>
              <p:cNvSpPr/>
              <p:nvPr/>
            </p:nvSpPr>
            <p:spPr>
              <a:xfrm>
                <a:off x="1369800" y="192564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309680" y="2535480"/>
                <a:ext cx="57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39560" y="2551320"/>
                <a:ext cx="51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742320" y="3473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1255680" y="3168720"/>
              <a:ext cx="685800" cy="1800720"/>
              <a:chOff x="1255680" y="3168720"/>
              <a:chExt cx="685800" cy="1800720"/>
            </a:xfrm>
          </p:grpSpPr>
          <p:sp>
            <p:nvSpPr>
              <p:cNvPr id="410" name=""/>
              <p:cNvSpPr/>
              <p:nvPr/>
            </p:nvSpPr>
            <p:spPr>
              <a:xfrm>
                <a:off x="1397160" y="3168720"/>
                <a:ext cx="40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55680" y="377820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85920" y="379404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38080" y="4419720"/>
              <a:ext cx="1179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332000" y="2209680"/>
            <a:ext cx="7010280" cy="847800"/>
            <a:chOff x="1332000" y="2209680"/>
            <a:chExt cx="7010280" cy="847800"/>
          </a:xfrm>
        </p:grpSpPr>
        <p:sp>
          <p:nvSpPr>
            <p:cNvPr id="415" name=""/>
            <p:cNvSpPr/>
            <p:nvPr/>
          </p:nvSpPr>
          <p:spPr>
            <a:xfrm>
              <a:off x="2827440" y="2209680"/>
              <a:ext cx="55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, 8, 12, 16, 20, 24, 28 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32000" y="2567160"/>
              <a:ext cx="490320" cy="49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98720" y="2286000"/>
              <a:ext cx="490680" cy="490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8" name=""/>
            <p:cNvCxnSpPr>
              <a:stCxn id="416" idx="6"/>
              <a:endCxn id="417" idx="2"/>
            </p:cNvCxnSpPr>
            <p:nvPr/>
          </p:nvCxnSpPr>
          <p:spPr>
            <a:xfrm flipV="1">
              <a:off x="1822320" y="2531880"/>
              <a:ext cx="1077120" cy="281520"/>
            </a:xfrm>
            <a:prstGeom prst="curvedConnector5">
              <a:avLst>
                <a:gd name="adj1" fmla="val 49983"/>
                <a:gd name="adj2" fmla="val 49935"/>
                <a:gd name="adj3" fmla="val 49983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419" name=""/>
          <p:cNvGrpSpPr/>
          <p:nvPr/>
        </p:nvGrpSpPr>
        <p:grpSpPr>
          <a:xfrm>
            <a:off x="1407960" y="3473280"/>
            <a:ext cx="4114800" cy="870120"/>
            <a:chOff x="1407960" y="3473280"/>
            <a:chExt cx="4114800" cy="870120"/>
          </a:xfrm>
        </p:grpSpPr>
        <p:sp>
          <p:nvSpPr>
            <p:cNvPr id="420" name=""/>
            <p:cNvSpPr/>
            <p:nvPr/>
          </p:nvSpPr>
          <p:spPr>
            <a:xfrm>
              <a:off x="2627280" y="347328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4, 28, 42 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7960" y="3852720"/>
              <a:ext cx="490680" cy="490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46080" y="3548160"/>
              <a:ext cx="490680" cy="49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3" name=""/>
            <p:cNvCxnSpPr>
              <a:stCxn id="421" idx="6"/>
              <a:endCxn id="422" idx="2"/>
            </p:cNvCxnSpPr>
            <p:nvPr/>
          </p:nvCxnSpPr>
          <p:spPr>
            <a:xfrm flipV="1">
              <a:off x="1898640" y="3793320"/>
              <a:ext cx="848160" cy="305640"/>
            </a:xfrm>
            <a:prstGeom prst="curvedConnector5">
              <a:avLst>
                <a:gd name="adj1" fmla="val 49978"/>
                <a:gd name="adj2" fmla="val 50000"/>
                <a:gd name="adj3" fmla="val 49978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424" name=""/>
          <p:cNvGrpSpPr/>
          <p:nvPr/>
        </p:nvGrpSpPr>
        <p:grpSpPr>
          <a:xfrm>
            <a:off x="3465360" y="2209680"/>
            <a:ext cx="4419720" cy="1905120"/>
            <a:chOff x="3465360" y="2209680"/>
            <a:chExt cx="4419720" cy="1905120"/>
          </a:xfrm>
        </p:grpSpPr>
        <p:sp>
          <p:nvSpPr>
            <p:cNvPr id="425" name=""/>
            <p:cNvSpPr/>
            <p:nvPr/>
          </p:nvSpPr>
          <p:spPr>
            <a:xfrm>
              <a:off x="3465360" y="3473280"/>
              <a:ext cx="762120" cy="64152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22960" y="2209680"/>
              <a:ext cx="762120" cy="64152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338800" y="1925640"/>
            <a:ext cx="458640" cy="1885680"/>
            <a:chOff x="5338800" y="1925640"/>
            <a:chExt cx="458640" cy="1885680"/>
          </a:xfrm>
        </p:grpSpPr>
        <p:sp>
          <p:nvSpPr>
            <p:cNvPr id="429" name=""/>
            <p:cNvSpPr/>
            <p:nvPr/>
          </p:nvSpPr>
          <p:spPr>
            <a:xfrm>
              <a:off x="5338800" y="192564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40240" y="3168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104280" y="1925640"/>
            <a:ext cx="2850480" cy="3043800"/>
            <a:chOff x="3104280" y="1925640"/>
            <a:chExt cx="2850480" cy="3043800"/>
          </a:xfrm>
        </p:grpSpPr>
        <p:grpSp>
          <p:nvGrpSpPr>
            <p:cNvPr id="432" name=""/>
            <p:cNvGrpSpPr/>
            <p:nvPr/>
          </p:nvGrpSpPr>
          <p:grpSpPr>
            <a:xfrm>
              <a:off x="3672000" y="1925640"/>
              <a:ext cx="577800" cy="1252080"/>
              <a:chOff x="3672000" y="1925640"/>
              <a:chExt cx="577800" cy="1252080"/>
            </a:xfrm>
          </p:grpSpPr>
          <p:sp>
            <p:nvSpPr>
              <p:cNvPr id="433" name=""/>
              <p:cNvSpPr/>
              <p:nvPr/>
            </p:nvSpPr>
            <p:spPr>
              <a:xfrm>
                <a:off x="3732480" y="192564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72000" y="2535120"/>
                <a:ext cx="57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02240" y="2550960"/>
                <a:ext cx="51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3104280" y="3473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3618000" y="3168720"/>
              <a:ext cx="685800" cy="1800720"/>
              <a:chOff x="3618000" y="3168720"/>
              <a:chExt cx="685800" cy="1800720"/>
            </a:xfrm>
          </p:grpSpPr>
          <p:sp>
            <p:nvSpPr>
              <p:cNvPr id="438" name=""/>
              <p:cNvSpPr/>
              <p:nvPr/>
            </p:nvSpPr>
            <p:spPr>
              <a:xfrm>
                <a:off x="3759480" y="3168720"/>
                <a:ext cx="40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18000" y="377820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48240" y="3794040"/>
                <a:ext cx="62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3200400" y="4419720"/>
              <a:ext cx="275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5181480" y="2535120"/>
              <a:ext cx="773280" cy="642600"/>
              <a:chOff x="5181480" y="2535120"/>
              <a:chExt cx="773280" cy="642600"/>
            </a:xfrm>
          </p:grpSpPr>
          <p:sp>
            <p:nvSpPr>
              <p:cNvPr id="443" name=""/>
              <p:cNvSpPr/>
              <p:nvPr/>
            </p:nvSpPr>
            <p:spPr>
              <a:xfrm>
                <a:off x="5181480" y="2535120"/>
                <a:ext cx="77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2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5230800" y="2535120"/>
                <a:ext cx="674640" cy="158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5181480" y="3778200"/>
              <a:ext cx="773280" cy="642600"/>
              <a:chOff x="5181480" y="3778200"/>
              <a:chExt cx="773280" cy="642600"/>
            </a:xfrm>
          </p:grpSpPr>
          <p:sp>
            <p:nvSpPr>
              <p:cNvPr id="446" name=""/>
              <p:cNvSpPr/>
              <p:nvPr/>
            </p:nvSpPr>
            <p:spPr>
              <a:xfrm>
                <a:off x="5181480" y="3778200"/>
                <a:ext cx="77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2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257800" y="3794040"/>
                <a:ext cx="61920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4191120" y="1925640"/>
            <a:ext cx="799920" cy="1885680"/>
            <a:chOff x="4191120" y="1925640"/>
            <a:chExt cx="799920" cy="1885680"/>
          </a:xfrm>
        </p:grpSpPr>
        <p:sp>
          <p:nvSpPr>
            <p:cNvPr id="449" name=""/>
            <p:cNvSpPr/>
            <p:nvPr/>
          </p:nvSpPr>
          <p:spPr>
            <a:xfrm>
              <a:off x="4191120" y="1925640"/>
              <a:ext cx="79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91120" y="3168720"/>
              <a:ext cx="79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191120" y="2535120"/>
            <a:ext cx="799920" cy="1885680"/>
            <a:chOff x="4191120" y="2535120"/>
            <a:chExt cx="799920" cy="1885680"/>
          </a:xfrm>
        </p:grpSpPr>
        <p:sp>
          <p:nvSpPr>
            <p:cNvPr id="452" name=""/>
            <p:cNvSpPr/>
            <p:nvPr/>
          </p:nvSpPr>
          <p:spPr>
            <a:xfrm>
              <a:off x="4191120" y="2535120"/>
              <a:ext cx="79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91120" y="3778200"/>
              <a:ext cx="79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105520" y="4540320"/>
            <a:ext cx="772920" cy="1252080"/>
            <a:chOff x="5105520" y="4540320"/>
            <a:chExt cx="772920" cy="1252080"/>
          </a:xfrm>
        </p:grpSpPr>
        <p:sp>
          <p:nvSpPr>
            <p:cNvPr id="455" name=""/>
            <p:cNvSpPr/>
            <p:nvPr/>
          </p:nvSpPr>
          <p:spPr>
            <a:xfrm>
              <a:off x="5149800" y="4540320"/>
              <a:ext cx="685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05520" y="5149800"/>
              <a:ext cx="77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81480" y="5165640"/>
              <a:ext cx="618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52680" y="23623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44956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19320" y="297180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 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common denomin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multiplying denominato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52578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</a:t>
            </a:r>
            <a:r>
              <a:rPr b="0" lang="en-US" sz="3200" spc="-1" strike="noStrike" u="sng">
                <a:solidFill>
                  <a:srgbClr val="808080"/>
                </a:solidFill>
                <a:uFillTx/>
                <a:latin typeface="Comic Sans MS"/>
              </a:rPr>
              <a:t>lowest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 common </a:t>
            </a: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  denomin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LCD) by counting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12952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24843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scale the fractions to equivalen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fractions that have the sa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denom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" y="42973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or subtract the numerator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keep the common denom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57600" y="14479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143000" y="1828800"/>
            <a:ext cx="69343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ational</a:t>
            </a:r>
            <a:endParaRPr b="0" lang="en-US" sz="6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Expressions</a:t>
            </a:r>
            <a:endParaRPr b="0" lang="en-US" sz="6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2128680" y="2687760"/>
            <a:ext cx="1420920" cy="2494440"/>
            <a:chOff x="2128680" y="2687760"/>
            <a:chExt cx="1420920" cy="2494440"/>
          </a:xfrm>
        </p:grpSpPr>
        <p:grpSp>
          <p:nvGrpSpPr>
            <p:cNvPr id="471" name=""/>
            <p:cNvGrpSpPr/>
            <p:nvPr/>
          </p:nvGrpSpPr>
          <p:grpSpPr>
            <a:xfrm>
              <a:off x="2546280" y="2687760"/>
              <a:ext cx="900000" cy="1251720"/>
              <a:chOff x="2546280" y="2687760"/>
              <a:chExt cx="900000" cy="1251720"/>
            </a:xfrm>
          </p:grpSpPr>
          <p:sp>
            <p:nvSpPr>
              <p:cNvPr id="472" name=""/>
              <p:cNvSpPr/>
              <p:nvPr/>
            </p:nvSpPr>
            <p:spPr>
              <a:xfrm>
                <a:off x="2766960" y="268776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546280" y="3296880"/>
                <a:ext cx="9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y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2562120" y="3296520"/>
                <a:ext cx="870120" cy="1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135880" y="42350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2614680" y="3930480"/>
              <a:ext cx="761760" cy="1251720"/>
              <a:chOff x="2614680" y="3930480"/>
              <a:chExt cx="761760" cy="1251720"/>
            </a:xfrm>
          </p:grpSpPr>
          <p:sp>
            <p:nvSpPr>
              <p:cNvPr id="477" name=""/>
              <p:cNvSpPr/>
              <p:nvPr/>
            </p:nvSpPr>
            <p:spPr>
              <a:xfrm>
                <a:off x="2793600" y="3930480"/>
                <a:ext cx="40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614680" y="453960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y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82720" y="4555440"/>
                <a:ext cx="62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2128680" y="5181480"/>
              <a:ext cx="142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940120" y="2971800"/>
            <a:ext cx="4146480" cy="847800"/>
            <a:chOff x="2940120" y="2971800"/>
            <a:chExt cx="4146480" cy="847800"/>
          </a:xfrm>
        </p:grpSpPr>
        <p:sp>
          <p:nvSpPr>
            <p:cNvPr id="482" name=""/>
            <p:cNvSpPr/>
            <p:nvPr/>
          </p:nvSpPr>
          <p:spPr>
            <a:xfrm>
              <a:off x="4351320" y="2971800"/>
              <a:ext cx="27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, 4, 6, 8 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40120" y="3329280"/>
              <a:ext cx="490320" cy="49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06840" y="3048120"/>
              <a:ext cx="490680" cy="490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5" name=""/>
            <p:cNvCxnSpPr>
              <a:stCxn id="483" idx="6"/>
              <a:endCxn id="484" idx="2"/>
            </p:cNvCxnSpPr>
            <p:nvPr/>
          </p:nvCxnSpPr>
          <p:spPr>
            <a:xfrm flipV="1">
              <a:off x="3430440" y="3294000"/>
              <a:ext cx="1077120" cy="281520"/>
            </a:xfrm>
            <a:prstGeom prst="curvedConnector5">
              <a:avLst>
                <a:gd name="adj1" fmla="val 49983"/>
                <a:gd name="adj2" fmla="val 49935"/>
                <a:gd name="adj3" fmla="val 49983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486" name=""/>
          <p:cNvGrpSpPr/>
          <p:nvPr/>
        </p:nvGrpSpPr>
        <p:grpSpPr>
          <a:xfrm>
            <a:off x="2824200" y="4235400"/>
            <a:ext cx="4154040" cy="870120"/>
            <a:chOff x="2824200" y="4235400"/>
            <a:chExt cx="4154040" cy="870120"/>
          </a:xfrm>
        </p:grpSpPr>
        <p:sp>
          <p:nvSpPr>
            <p:cNvPr id="487" name=""/>
            <p:cNvSpPr/>
            <p:nvPr/>
          </p:nvSpPr>
          <p:spPr>
            <a:xfrm>
              <a:off x="4043160" y="4235400"/>
              <a:ext cx="293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, 6, 9, 12 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24200" y="4614840"/>
              <a:ext cx="490320" cy="490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2320" y="4310280"/>
              <a:ext cx="489960" cy="49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0" name=""/>
            <p:cNvCxnSpPr>
              <a:stCxn id="488" idx="6"/>
              <a:endCxn id="489" idx="2"/>
            </p:cNvCxnSpPr>
            <p:nvPr/>
          </p:nvCxnSpPr>
          <p:spPr>
            <a:xfrm flipV="1">
              <a:off x="3314520" y="4555440"/>
              <a:ext cx="848160" cy="305640"/>
            </a:xfrm>
            <a:prstGeom prst="curvedConnector5">
              <a:avLst>
                <a:gd name="adj1" fmla="val 49978"/>
                <a:gd name="adj2" fmla="val 50000"/>
                <a:gd name="adj3" fmla="val 49978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491" name=""/>
          <p:cNvGrpSpPr/>
          <p:nvPr/>
        </p:nvGrpSpPr>
        <p:grpSpPr>
          <a:xfrm>
            <a:off x="4689360" y="2971800"/>
            <a:ext cx="1338480" cy="1905120"/>
            <a:chOff x="4689360" y="2971800"/>
            <a:chExt cx="1338480" cy="1905120"/>
          </a:xfrm>
        </p:grpSpPr>
        <p:sp>
          <p:nvSpPr>
            <p:cNvPr id="492" name=""/>
            <p:cNvSpPr/>
            <p:nvPr/>
          </p:nvSpPr>
          <p:spPr>
            <a:xfrm>
              <a:off x="4689360" y="4235400"/>
              <a:ext cx="536760" cy="64152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30680" y="2971800"/>
              <a:ext cx="497160" cy="64152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76400" y="3760920"/>
            <a:ext cx="3646440" cy="1250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2514600"/>
            <a:ext cx="3662640" cy="1251000"/>
          </a:xfrm>
          <a:prstGeom prst="rect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55920" y="2514600"/>
            <a:ext cx="1030320" cy="249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38280" y="2514600"/>
            <a:ext cx="1047600" cy="1885680"/>
            <a:chOff x="2438280" y="2514600"/>
            <a:chExt cx="1047600" cy="1885680"/>
          </a:xfrm>
        </p:grpSpPr>
        <p:sp>
          <p:nvSpPr>
            <p:cNvPr id="499" name=""/>
            <p:cNvSpPr/>
            <p:nvPr/>
          </p:nvSpPr>
          <p:spPr>
            <a:xfrm>
              <a:off x="2438280" y="2514600"/>
              <a:ext cx="81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38280" y="3757680"/>
              <a:ext cx="104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438280" y="3124080"/>
            <a:ext cx="1047600" cy="1885680"/>
            <a:chOff x="2438280" y="3124080"/>
            <a:chExt cx="1047600" cy="1885680"/>
          </a:xfrm>
        </p:grpSpPr>
        <p:sp>
          <p:nvSpPr>
            <p:cNvPr id="502" name=""/>
            <p:cNvSpPr/>
            <p:nvPr/>
          </p:nvSpPr>
          <p:spPr>
            <a:xfrm>
              <a:off x="2438280" y="3124080"/>
              <a:ext cx="81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38280" y="4367160"/>
              <a:ext cx="104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657600" y="2514600"/>
            <a:ext cx="914400" cy="2434320"/>
            <a:chOff x="3657600" y="2514600"/>
            <a:chExt cx="914400" cy="2434320"/>
          </a:xfrm>
        </p:grpSpPr>
        <p:sp>
          <p:nvSpPr>
            <p:cNvPr id="505" name=""/>
            <p:cNvSpPr/>
            <p:nvPr/>
          </p:nvSpPr>
          <p:spPr>
            <a:xfrm>
              <a:off x="3886200" y="25146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57600" y="37576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10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066680" y="2535120"/>
            <a:ext cx="3662280" cy="2495160"/>
            <a:chOff x="1066680" y="2535120"/>
            <a:chExt cx="3662280" cy="2495160"/>
          </a:xfrm>
        </p:grpSpPr>
        <p:grpSp>
          <p:nvGrpSpPr>
            <p:cNvPr id="508" name=""/>
            <p:cNvGrpSpPr/>
            <p:nvPr/>
          </p:nvGrpSpPr>
          <p:grpSpPr>
            <a:xfrm>
              <a:off x="1555560" y="2535120"/>
              <a:ext cx="900000" cy="1252080"/>
              <a:chOff x="1555560" y="2535120"/>
              <a:chExt cx="900000" cy="1252080"/>
            </a:xfrm>
          </p:grpSpPr>
          <p:sp>
            <p:nvSpPr>
              <p:cNvPr id="509" name=""/>
              <p:cNvSpPr/>
              <p:nvPr/>
            </p:nvSpPr>
            <p:spPr>
              <a:xfrm>
                <a:off x="1776240" y="25351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555560" y="3144600"/>
                <a:ext cx="9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y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1571400" y="3144600"/>
                <a:ext cx="87012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1145160" y="4082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1623960" y="3778200"/>
              <a:ext cx="761760" cy="1252080"/>
              <a:chOff x="1623960" y="3778200"/>
              <a:chExt cx="761760" cy="1252080"/>
            </a:xfrm>
          </p:grpSpPr>
          <p:sp>
            <p:nvSpPr>
              <p:cNvPr id="514" name=""/>
              <p:cNvSpPr/>
              <p:nvPr/>
            </p:nvSpPr>
            <p:spPr>
              <a:xfrm>
                <a:off x="1802880" y="3778200"/>
                <a:ext cx="40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623960" y="438768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y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692000" y="4403520"/>
                <a:ext cx="62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1066680" y="5029200"/>
              <a:ext cx="366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65160" y="314460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6y</a:t>
              </a:r>
              <a:r>
                <a:rPr b="0" lang="en-US" sz="3600" spc="-1" strike="noStrike" baseline="30000">
                  <a:solidFill>
                    <a:srgbClr val="80808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3681360" y="3144600"/>
              <a:ext cx="869760" cy="15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63720" y="4387680"/>
              <a:ext cx="9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6y</a:t>
              </a:r>
              <a:r>
                <a:rPr b="0" lang="en-US" sz="3600" spc="-1" strike="noStrike" baseline="30000">
                  <a:solidFill>
                    <a:srgbClr val="80808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57240" y="4403520"/>
              <a:ext cx="914400" cy="15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410080" y="2911320"/>
            <a:ext cx="2438280" cy="1510200"/>
            <a:chOff x="5410080" y="2911320"/>
            <a:chExt cx="2438280" cy="1510200"/>
          </a:xfrm>
        </p:grpSpPr>
        <p:sp>
          <p:nvSpPr>
            <p:cNvPr id="523" name=""/>
            <p:cNvSpPr/>
            <p:nvPr/>
          </p:nvSpPr>
          <p:spPr>
            <a:xfrm>
              <a:off x="5410080" y="2911320"/>
              <a:ext cx="2438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Comic Sans MS"/>
                </a:rPr>
                <a:t>9 + 10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38280" y="3657240"/>
              <a:ext cx="118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Comic Sans MS"/>
                </a:rPr>
                <a:t>6y</a:t>
              </a:r>
              <a:r>
                <a:rPr b="0" lang="en-US" sz="44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06200" y="3696120"/>
              <a:ext cx="2244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1093320" y="15238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906480" y="3468600"/>
            <a:ext cx="4046400" cy="1251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2209680"/>
            <a:ext cx="4043520" cy="1251000"/>
          </a:xfrm>
          <a:prstGeom prst="rect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100240" y="2225520"/>
            <a:ext cx="1325520" cy="1885680"/>
            <a:chOff x="2100240" y="2225520"/>
            <a:chExt cx="1325520" cy="1885680"/>
          </a:xfrm>
        </p:grpSpPr>
        <p:sp>
          <p:nvSpPr>
            <p:cNvPr id="531" name=""/>
            <p:cNvSpPr/>
            <p:nvPr/>
          </p:nvSpPr>
          <p:spPr>
            <a:xfrm>
              <a:off x="2358720" y="2225520"/>
              <a:ext cx="81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100240" y="3468600"/>
              <a:ext cx="13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3y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100240" y="2835360"/>
            <a:ext cx="1325520" cy="1885320"/>
            <a:chOff x="2100240" y="2835360"/>
            <a:chExt cx="1325520" cy="1885320"/>
          </a:xfrm>
        </p:grpSpPr>
        <p:sp>
          <p:nvSpPr>
            <p:cNvPr id="534" name=""/>
            <p:cNvSpPr/>
            <p:nvPr/>
          </p:nvSpPr>
          <p:spPr>
            <a:xfrm>
              <a:off x="2358720" y="2835360"/>
              <a:ext cx="81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00240" y="4078080"/>
              <a:ext cx="13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3y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909000" y="2225520"/>
            <a:ext cx="1526400" cy="2495160"/>
            <a:chOff x="909000" y="2225520"/>
            <a:chExt cx="1526400" cy="2495160"/>
          </a:xfrm>
        </p:grpSpPr>
        <p:grpSp>
          <p:nvGrpSpPr>
            <p:cNvPr id="537" name=""/>
            <p:cNvGrpSpPr/>
            <p:nvPr/>
          </p:nvGrpSpPr>
          <p:grpSpPr>
            <a:xfrm>
              <a:off x="1283040" y="2225520"/>
              <a:ext cx="1152360" cy="1252080"/>
              <a:chOff x="1283040" y="2225520"/>
              <a:chExt cx="1152360" cy="1252080"/>
            </a:xfrm>
          </p:grpSpPr>
          <p:sp>
            <p:nvSpPr>
              <p:cNvPr id="538" name=""/>
              <p:cNvSpPr/>
              <p:nvPr/>
            </p:nvSpPr>
            <p:spPr>
              <a:xfrm>
                <a:off x="1478160" y="2225520"/>
                <a:ext cx="76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283040" y="2835000"/>
                <a:ext cx="115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yz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54320" y="2850840"/>
                <a:ext cx="101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909000" y="3773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1478160" y="3468600"/>
              <a:ext cx="761760" cy="1252080"/>
              <a:chOff x="1478160" y="3468600"/>
              <a:chExt cx="761760" cy="1252080"/>
            </a:xfrm>
          </p:grpSpPr>
          <p:sp>
            <p:nvSpPr>
              <p:cNvPr id="543" name=""/>
              <p:cNvSpPr/>
              <p:nvPr/>
            </p:nvSpPr>
            <p:spPr>
              <a:xfrm>
                <a:off x="1657440" y="3468600"/>
                <a:ext cx="40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478160" y="407808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z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546200" y="409392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"/>
          <p:cNvGrpSpPr/>
          <p:nvPr/>
        </p:nvGrpSpPr>
        <p:grpSpPr>
          <a:xfrm>
            <a:off x="3621240" y="2225520"/>
            <a:ext cx="1218960" cy="1885680"/>
            <a:chOff x="3621240" y="2225520"/>
            <a:chExt cx="1218960" cy="1885680"/>
          </a:xfrm>
        </p:grpSpPr>
        <p:sp>
          <p:nvSpPr>
            <p:cNvPr id="547" name=""/>
            <p:cNvSpPr/>
            <p:nvPr/>
          </p:nvSpPr>
          <p:spPr>
            <a:xfrm>
              <a:off x="3848040" y="2225520"/>
              <a:ext cx="76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8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21240" y="346860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3y</a:t>
              </a:r>
              <a:r>
                <a:rPr b="0" lang="en-US" sz="36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830160" y="2835360"/>
            <a:ext cx="4119480" cy="1885320"/>
            <a:chOff x="830160" y="2835360"/>
            <a:chExt cx="4119480" cy="1885320"/>
          </a:xfrm>
        </p:grpSpPr>
        <p:sp>
          <p:nvSpPr>
            <p:cNvPr id="550" name=""/>
            <p:cNvSpPr/>
            <p:nvPr/>
          </p:nvSpPr>
          <p:spPr>
            <a:xfrm>
              <a:off x="830160" y="4719600"/>
              <a:ext cx="411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3516120" y="2835360"/>
              <a:ext cx="1427040" cy="642600"/>
              <a:chOff x="3516120" y="2835360"/>
              <a:chExt cx="1427040" cy="642600"/>
            </a:xfrm>
          </p:grpSpPr>
          <p:sp>
            <p:nvSpPr>
              <p:cNvPr id="552" name=""/>
              <p:cNvSpPr/>
              <p:nvPr/>
            </p:nvSpPr>
            <p:spPr>
              <a:xfrm>
                <a:off x="3516120" y="2835360"/>
                <a:ext cx="1427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12yz</a:t>
                </a:r>
                <a:r>
                  <a:rPr b="0" lang="en-US" sz="3600" spc="-1" strike="noStrike" baseline="30000">
                    <a:solidFill>
                      <a:srgbClr val="80808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16120" y="2835360"/>
                <a:ext cx="14270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509640" y="4078080"/>
              <a:ext cx="1440000" cy="642600"/>
              <a:chOff x="3509640" y="4078080"/>
              <a:chExt cx="1440000" cy="642600"/>
            </a:xfrm>
          </p:grpSpPr>
          <p:sp>
            <p:nvSpPr>
              <p:cNvPr id="555" name=""/>
              <p:cNvSpPr/>
              <p:nvPr/>
            </p:nvSpPr>
            <p:spPr>
              <a:xfrm>
                <a:off x="3509640" y="4078080"/>
                <a:ext cx="144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12yz</a:t>
                </a:r>
                <a:r>
                  <a:rPr b="0" lang="en-US" sz="3600" spc="-1" strike="noStrike" baseline="30000">
                    <a:solidFill>
                      <a:srgbClr val="80808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63640" y="4093560"/>
                <a:ext cx="1330560" cy="154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"/>
          <p:cNvGrpSpPr/>
          <p:nvPr/>
        </p:nvGrpSpPr>
        <p:grpSpPr>
          <a:xfrm>
            <a:off x="5410080" y="2840040"/>
            <a:ext cx="3132000" cy="1359720"/>
            <a:chOff x="5410080" y="2840040"/>
            <a:chExt cx="3132000" cy="1359720"/>
          </a:xfrm>
        </p:grpSpPr>
        <p:sp>
          <p:nvSpPr>
            <p:cNvPr id="558" name=""/>
            <p:cNvSpPr/>
            <p:nvPr/>
          </p:nvSpPr>
          <p:spPr>
            <a:xfrm>
              <a:off x="5410080" y="2840040"/>
              <a:ext cx="31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8x + 3y</a:t>
              </a:r>
              <a:r>
                <a:rPr b="0" lang="en-US" sz="40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003720" y="3496320"/>
              <a:ext cx="194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Comic Sans MS"/>
                </a:rPr>
                <a:t>12yz</a:t>
              </a:r>
              <a:r>
                <a:rPr b="0" lang="en-US" sz="4000" spc="-1" strike="noStrike" baseline="30000">
                  <a:solidFill>
                    <a:srgbClr val="80808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29240" y="3530160"/>
              <a:ext cx="2895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1093320" y="15238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57200" y="2590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add and subtract rational expres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09480" y="327672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llow Method 2 – find the LCD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th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CD will also contain the variabl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with the largest ex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7600" y="12952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457200" y="2590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add and subtract rational expres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32767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scale the num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ed as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657600" y="14479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4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28600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and subtract fractions using their least common denominator (LC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762120" y="3778200"/>
            <a:ext cx="4682880" cy="1251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2120" y="2527200"/>
            <a:ext cx="4682880" cy="1251000"/>
          </a:xfrm>
          <a:prstGeom prst="rect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60600" y="2535120"/>
            <a:ext cx="1200240" cy="24465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362320" y="2511360"/>
            <a:ext cx="1325520" cy="1885680"/>
            <a:chOff x="2362320" y="2511360"/>
            <a:chExt cx="1325520" cy="1885680"/>
          </a:xfrm>
        </p:grpSpPr>
        <p:sp>
          <p:nvSpPr>
            <p:cNvPr id="575" name=""/>
            <p:cNvSpPr/>
            <p:nvPr/>
          </p:nvSpPr>
          <p:spPr>
            <a:xfrm>
              <a:off x="2362320" y="2511360"/>
              <a:ext cx="107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3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62320" y="3754440"/>
              <a:ext cx="13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7b</a:t>
              </a:r>
              <a:r>
                <a:rPr b="0" lang="en-US" sz="3600" spc="-1" strike="noStrike" baseline="30000">
                  <a:solidFill>
                    <a:srgbClr val="339966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362320" y="3121200"/>
            <a:ext cx="1325520" cy="1885320"/>
            <a:chOff x="2362320" y="3121200"/>
            <a:chExt cx="1325520" cy="1885320"/>
          </a:xfrm>
        </p:grpSpPr>
        <p:sp>
          <p:nvSpPr>
            <p:cNvPr id="578" name=""/>
            <p:cNvSpPr/>
            <p:nvPr/>
          </p:nvSpPr>
          <p:spPr>
            <a:xfrm>
              <a:off x="2362320" y="3121200"/>
              <a:ext cx="107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3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62320" y="4363920"/>
              <a:ext cx="13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7b</a:t>
              </a:r>
              <a:r>
                <a:rPr b="0" lang="en-US" sz="3600" spc="-1" strike="noStrike" baseline="30000">
                  <a:solidFill>
                    <a:srgbClr val="339966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840600" y="2511360"/>
            <a:ext cx="1674000" cy="2495160"/>
            <a:chOff x="840600" y="2511360"/>
            <a:chExt cx="1674000" cy="2495160"/>
          </a:xfrm>
        </p:grpSpPr>
        <p:grpSp>
          <p:nvGrpSpPr>
            <p:cNvPr id="581" name=""/>
            <p:cNvGrpSpPr/>
            <p:nvPr/>
          </p:nvGrpSpPr>
          <p:grpSpPr>
            <a:xfrm>
              <a:off x="1284480" y="2511360"/>
              <a:ext cx="1230120" cy="1252080"/>
              <a:chOff x="1284480" y="2511360"/>
              <a:chExt cx="1230120" cy="1252080"/>
            </a:xfrm>
          </p:grpSpPr>
          <p:sp>
            <p:nvSpPr>
              <p:cNvPr id="582" name=""/>
              <p:cNvSpPr/>
              <p:nvPr/>
            </p:nvSpPr>
            <p:spPr>
              <a:xfrm>
                <a:off x="1519200" y="2511360"/>
                <a:ext cx="7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284480" y="3120840"/>
                <a:ext cx="1230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ab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39920" y="3136680"/>
                <a:ext cx="1120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840600" y="4059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1309680" y="3754440"/>
              <a:ext cx="1181160" cy="1252080"/>
              <a:chOff x="1309680" y="3754440"/>
              <a:chExt cx="1181160" cy="1252080"/>
            </a:xfrm>
          </p:grpSpPr>
          <p:sp>
            <p:nvSpPr>
              <p:cNvPr id="587" name=""/>
              <p:cNvSpPr/>
              <p:nvPr/>
            </p:nvSpPr>
            <p:spPr>
              <a:xfrm>
                <a:off x="1700280" y="3754440"/>
                <a:ext cx="40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309680" y="4363920"/>
                <a:ext cx="118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a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393920" y="4379760"/>
                <a:ext cx="1011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3849840" y="2511360"/>
            <a:ext cx="1218960" cy="1885680"/>
            <a:chOff x="3849840" y="2511360"/>
            <a:chExt cx="1218960" cy="1885680"/>
          </a:xfrm>
        </p:grpSpPr>
        <p:sp>
          <p:nvSpPr>
            <p:cNvPr id="591" name=""/>
            <p:cNvSpPr/>
            <p:nvPr/>
          </p:nvSpPr>
          <p:spPr>
            <a:xfrm>
              <a:off x="4076640" y="251136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9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49840" y="375444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14b</a:t>
              </a:r>
              <a:r>
                <a:rPr b="0" lang="en-US" sz="36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62120" y="3121200"/>
            <a:ext cx="4495680" cy="1885320"/>
            <a:chOff x="762120" y="3121200"/>
            <a:chExt cx="4495680" cy="1885320"/>
          </a:xfrm>
        </p:grpSpPr>
        <p:sp>
          <p:nvSpPr>
            <p:cNvPr id="594" name=""/>
            <p:cNvSpPr/>
            <p:nvPr/>
          </p:nvSpPr>
          <p:spPr>
            <a:xfrm>
              <a:off x="762120" y="5005440"/>
              <a:ext cx="449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3660840" y="3121200"/>
              <a:ext cx="1595520" cy="642600"/>
              <a:chOff x="3660840" y="3121200"/>
              <a:chExt cx="1595520" cy="642600"/>
            </a:xfrm>
          </p:grpSpPr>
          <p:sp>
            <p:nvSpPr>
              <p:cNvPr id="596" name=""/>
              <p:cNvSpPr/>
              <p:nvPr/>
            </p:nvSpPr>
            <p:spPr>
              <a:xfrm>
                <a:off x="3660840" y="3121200"/>
                <a:ext cx="159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21a</a:t>
                </a:r>
                <a:r>
                  <a:rPr b="0" lang="en-US" sz="3600" spc="-1" strike="noStrike" baseline="30000">
                    <a:solidFill>
                      <a:srgbClr val="808080"/>
                    </a:solidFill>
                    <a:latin typeface="Comic Sans MS"/>
                  </a:rPr>
                  <a:t>2</a:t>
                </a: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b</a:t>
                </a:r>
                <a:r>
                  <a:rPr b="0" lang="en-US" sz="3600" spc="-1" strike="noStrike" baseline="30000">
                    <a:solidFill>
                      <a:srgbClr val="80808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703680" y="3121200"/>
                <a:ext cx="15112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3662280" y="4363920"/>
              <a:ext cx="1595520" cy="642600"/>
              <a:chOff x="3662280" y="4363920"/>
              <a:chExt cx="1595520" cy="642600"/>
            </a:xfrm>
          </p:grpSpPr>
          <p:sp>
            <p:nvSpPr>
              <p:cNvPr id="599" name=""/>
              <p:cNvSpPr/>
              <p:nvPr/>
            </p:nvSpPr>
            <p:spPr>
              <a:xfrm>
                <a:off x="3662280" y="4363920"/>
                <a:ext cx="159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21a</a:t>
                </a:r>
                <a:r>
                  <a:rPr b="0" lang="en-US" sz="3600" spc="-1" strike="noStrike" baseline="30000">
                    <a:solidFill>
                      <a:srgbClr val="808080"/>
                    </a:solidFill>
                    <a:latin typeface="Comic Sans MS"/>
                  </a:rPr>
                  <a:t>2</a:t>
                </a: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b</a:t>
                </a:r>
                <a:r>
                  <a:rPr b="0" lang="en-US" sz="3600" spc="-1" strike="noStrike" baseline="30000">
                    <a:solidFill>
                      <a:srgbClr val="80808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738600" y="4379400"/>
                <a:ext cx="1442880" cy="154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5715000" y="3002040"/>
            <a:ext cx="2881080" cy="1572120"/>
            <a:chOff x="5715000" y="3002040"/>
            <a:chExt cx="2881080" cy="1572120"/>
          </a:xfrm>
        </p:grpSpPr>
        <p:sp>
          <p:nvSpPr>
            <p:cNvPr id="602" name=""/>
            <p:cNvSpPr/>
            <p:nvPr/>
          </p:nvSpPr>
          <p:spPr>
            <a:xfrm>
              <a:off x="5715000" y="3002040"/>
              <a:ext cx="28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9a + 14b</a:t>
              </a:r>
              <a:r>
                <a:rPr b="0" lang="en-US" sz="44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10640" y="3809880"/>
              <a:ext cx="2089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21a</a:t>
              </a:r>
              <a:r>
                <a:rPr b="0" lang="en-US" sz="4400" spc="-1" strike="noStrike" baseline="30000">
                  <a:solidFill>
                    <a:srgbClr val="808080"/>
                  </a:solidFill>
                  <a:latin typeface="Comic Sans MS"/>
                </a:rPr>
                <a:t>2</a:t>
              </a:r>
              <a:r>
                <a:rPr b="0" lang="en-US" sz="4400" spc="-1" strike="noStrike">
                  <a:solidFill>
                    <a:srgbClr val="808080"/>
                  </a:solidFill>
                  <a:latin typeface="Comic Sans MS"/>
                </a:rPr>
                <a:t>b</a:t>
              </a:r>
              <a:r>
                <a:rPr b="0" lang="en-US" sz="4400" spc="-1" strike="noStrike" baseline="30000">
                  <a:solidFill>
                    <a:srgbClr val="808080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15000" y="3852000"/>
              <a:ext cx="2881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1093320" y="15238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609480" y="2057400"/>
            <a:ext cx="78487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ixed</a:t>
            </a:r>
            <a:endParaRPr b="0" lang="en-US" sz="72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Numbers</a:t>
            </a:r>
            <a:endParaRPr b="0" lang="en-US" sz="72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990720" y="3381480"/>
            <a:ext cx="7162560" cy="1266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90720" y="2138400"/>
            <a:ext cx="7162560" cy="1251000"/>
          </a:xfrm>
          <a:prstGeom prst="rect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62120" y="4844880"/>
            <a:ext cx="1828440" cy="1481400"/>
            <a:chOff x="762120" y="4844880"/>
            <a:chExt cx="1828440" cy="1481400"/>
          </a:xfrm>
        </p:grpSpPr>
        <p:sp>
          <p:nvSpPr>
            <p:cNvPr id="611" name=""/>
            <p:cNvSpPr/>
            <p:nvPr/>
          </p:nvSpPr>
          <p:spPr>
            <a:xfrm>
              <a:off x="762120" y="4844880"/>
              <a:ext cx="18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52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20600" y="5622840"/>
              <a:ext cx="1311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9966"/>
                  </a:solidFill>
                  <a:latin typeface="Comic Sans MS"/>
                </a:rPr>
                <a:t>4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51400" y="5663160"/>
              <a:ext cx="1646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988560" y="2154240"/>
            <a:ext cx="1525680" cy="2495160"/>
            <a:chOff x="988560" y="2154240"/>
            <a:chExt cx="1525680" cy="2495160"/>
          </a:xfrm>
        </p:grpSpPr>
        <p:grpSp>
          <p:nvGrpSpPr>
            <p:cNvPr id="615" name=""/>
            <p:cNvGrpSpPr/>
            <p:nvPr/>
          </p:nvGrpSpPr>
          <p:grpSpPr>
            <a:xfrm>
              <a:off x="1811160" y="2154240"/>
              <a:ext cx="545760" cy="1252080"/>
              <a:chOff x="1811160" y="2154240"/>
              <a:chExt cx="545760" cy="1252080"/>
            </a:xfrm>
          </p:grpSpPr>
          <p:sp>
            <p:nvSpPr>
              <p:cNvPr id="616" name=""/>
              <p:cNvSpPr/>
              <p:nvPr/>
            </p:nvSpPr>
            <p:spPr>
              <a:xfrm>
                <a:off x="1882080" y="2154240"/>
                <a:ext cx="404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72720" y="2763720"/>
                <a:ext cx="421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11160" y="2779560"/>
                <a:ext cx="545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988560" y="370188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1812960" y="3397320"/>
              <a:ext cx="542520" cy="1252080"/>
              <a:chOff x="1812960" y="3397320"/>
              <a:chExt cx="542520" cy="1252080"/>
            </a:xfrm>
          </p:grpSpPr>
          <p:sp>
            <p:nvSpPr>
              <p:cNvPr id="621" name=""/>
              <p:cNvSpPr/>
              <p:nvPr/>
            </p:nvSpPr>
            <p:spPr>
              <a:xfrm>
                <a:off x="1834920" y="3397320"/>
                <a:ext cx="49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834920" y="4006800"/>
                <a:ext cx="49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12960" y="4022640"/>
                <a:ext cx="542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106668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56120" y="2459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987640" y="2138400"/>
            <a:ext cx="974880" cy="25099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417760" y="2154240"/>
            <a:ext cx="1544400" cy="2495160"/>
            <a:chOff x="2417760" y="2154240"/>
            <a:chExt cx="1544400" cy="2495160"/>
          </a:xfrm>
        </p:grpSpPr>
        <p:sp>
          <p:nvSpPr>
            <p:cNvPr id="628" name=""/>
            <p:cNvSpPr/>
            <p:nvPr/>
          </p:nvSpPr>
          <p:spPr>
            <a:xfrm>
              <a:off x="2417760" y="370188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&gt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417760" y="245916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&gt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3089160" y="2154240"/>
              <a:ext cx="765000" cy="1252080"/>
              <a:chOff x="3089160" y="2154240"/>
              <a:chExt cx="765000" cy="1252080"/>
            </a:xfrm>
          </p:grpSpPr>
          <p:sp>
            <p:nvSpPr>
              <p:cNvPr id="631" name=""/>
              <p:cNvSpPr/>
              <p:nvPr/>
            </p:nvSpPr>
            <p:spPr>
              <a:xfrm>
                <a:off x="3089160" y="2154240"/>
                <a:ext cx="765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60520" y="2763720"/>
                <a:ext cx="422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114360" y="2779560"/>
                <a:ext cx="71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3047760" y="3397320"/>
              <a:ext cx="844560" cy="1252080"/>
              <a:chOff x="3047760" y="3397320"/>
              <a:chExt cx="844560" cy="1252080"/>
            </a:xfrm>
          </p:grpSpPr>
          <p:sp>
            <p:nvSpPr>
              <p:cNvPr id="635" name=""/>
              <p:cNvSpPr/>
              <p:nvPr/>
            </p:nvSpPr>
            <p:spPr>
              <a:xfrm>
                <a:off x="3047760" y="3397320"/>
                <a:ext cx="84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19120" y="4006800"/>
                <a:ext cx="50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106440" y="4022640"/>
                <a:ext cx="728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2514600" y="46483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4511520" y="2133720"/>
            <a:ext cx="1602000" cy="25146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882960" y="2154240"/>
            <a:ext cx="2230200" cy="2495160"/>
            <a:chOff x="3882960" y="2154240"/>
            <a:chExt cx="2230200" cy="2495160"/>
          </a:xfrm>
        </p:grpSpPr>
        <p:grpSp>
          <p:nvGrpSpPr>
            <p:cNvPr id="641" name=""/>
            <p:cNvGrpSpPr/>
            <p:nvPr/>
          </p:nvGrpSpPr>
          <p:grpSpPr>
            <a:xfrm>
              <a:off x="4541760" y="2154240"/>
              <a:ext cx="1477440" cy="1252080"/>
              <a:chOff x="4541760" y="2154240"/>
              <a:chExt cx="1477440" cy="1252080"/>
            </a:xfrm>
          </p:grpSpPr>
          <p:sp>
            <p:nvSpPr>
              <p:cNvPr id="642" name=""/>
              <p:cNvSpPr/>
              <p:nvPr/>
            </p:nvSpPr>
            <p:spPr>
              <a:xfrm>
                <a:off x="4558680" y="2154240"/>
                <a:ext cx="144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7</a:t>
                </a: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(6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65240" y="2763720"/>
                <a:ext cx="122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(6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41760" y="2763720"/>
                <a:ext cx="1477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4559040" y="3397320"/>
              <a:ext cx="1442880" cy="1252080"/>
              <a:chOff x="4559040" y="3397320"/>
              <a:chExt cx="1442880" cy="1252080"/>
            </a:xfrm>
          </p:grpSpPr>
          <p:sp>
            <p:nvSpPr>
              <p:cNvPr id="646" name=""/>
              <p:cNvSpPr/>
              <p:nvPr/>
            </p:nvSpPr>
            <p:spPr>
              <a:xfrm>
                <a:off x="4559040" y="3397320"/>
                <a:ext cx="144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3</a:t>
                </a: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(8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665240" y="4006800"/>
                <a:ext cx="1230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(8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559040" y="4022640"/>
                <a:ext cx="144288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"/>
            <p:cNvSpPr/>
            <p:nvPr/>
          </p:nvSpPr>
          <p:spPr>
            <a:xfrm>
              <a:off x="3882960" y="370188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&gt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82960" y="245916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&gt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962160" y="4648320"/>
              <a:ext cx="215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324480" y="2154240"/>
            <a:ext cx="1828800" cy="2495160"/>
            <a:chOff x="6324480" y="2154240"/>
            <a:chExt cx="1828800" cy="2495160"/>
          </a:xfrm>
        </p:grpSpPr>
        <p:sp>
          <p:nvSpPr>
            <p:cNvPr id="653" name=""/>
            <p:cNvSpPr/>
            <p:nvPr/>
          </p:nvSpPr>
          <p:spPr>
            <a:xfrm>
              <a:off x="6329520" y="3701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329520" y="2459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6845040" y="2154240"/>
              <a:ext cx="1079640" cy="1252080"/>
              <a:chOff x="6845040" y="2154240"/>
              <a:chExt cx="1079640" cy="1252080"/>
            </a:xfrm>
          </p:grpSpPr>
          <p:sp>
            <p:nvSpPr>
              <p:cNvPr id="656" name=""/>
              <p:cNvSpPr/>
              <p:nvPr/>
            </p:nvSpPr>
            <p:spPr>
              <a:xfrm>
                <a:off x="6845040" y="2154240"/>
                <a:ext cx="107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34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003800" y="2763720"/>
                <a:ext cx="7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9966"/>
                    </a:solidFill>
                    <a:latin typeface="Comic Sans MS"/>
                  </a:rPr>
                  <a:t>4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45040" y="2763720"/>
                <a:ext cx="107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897600" y="3397320"/>
              <a:ext cx="973080" cy="1252080"/>
              <a:chOff x="6897600" y="3397320"/>
              <a:chExt cx="973080" cy="1252080"/>
            </a:xfrm>
          </p:grpSpPr>
          <p:sp>
            <p:nvSpPr>
              <p:cNvPr id="660" name=""/>
              <p:cNvSpPr/>
              <p:nvPr/>
            </p:nvSpPr>
            <p:spPr>
              <a:xfrm>
                <a:off x="6897600" y="3397320"/>
                <a:ext cx="973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18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002360" y="400680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9966"/>
                    </a:solidFill>
                    <a:latin typeface="Comic Sans MS"/>
                  </a:rPr>
                  <a:t>4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24600" y="4022640"/>
                <a:ext cx="92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6324480" y="46483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2895480" y="4876920"/>
            <a:ext cx="1828440" cy="1481400"/>
            <a:chOff x="2895480" y="4876920"/>
            <a:chExt cx="1828440" cy="1481400"/>
          </a:xfrm>
        </p:grpSpPr>
        <p:sp>
          <p:nvSpPr>
            <p:cNvPr id="665" name=""/>
            <p:cNvSpPr/>
            <p:nvPr/>
          </p:nvSpPr>
          <p:spPr>
            <a:xfrm>
              <a:off x="2895480" y="4876920"/>
              <a:ext cx="182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26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53960" y="5654880"/>
              <a:ext cx="1311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9966"/>
                  </a:solidFill>
                  <a:latin typeface="Comic Sans MS"/>
                </a:rPr>
                <a:t>2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84760" y="5695200"/>
              <a:ext cx="1646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864720" y="137160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5162760" y="5018040"/>
            <a:ext cx="1422720" cy="1312920"/>
            <a:chOff x="5162760" y="5018040"/>
            <a:chExt cx="1422720" cy="1312920"/>
          </a:xfrm>
        </p:grpSpPr>
        <p:sp>
          <p:nvSpPr>
            <p:cNvPr id="670" name=""/>
            <p:cNvSpPr/>
            <p:nvPr/>
          </p:nvSpPr>
          <p:spPr>
            <a:xfrm>
              <a:off x="5162760" y="52578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825520" y="5018040"/>
              <a:ext cx="759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2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914400" y="3886200"/>
            <a:ext cx="525312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914400" y="2635200"/>
            <a:ext cx="5253120" cy="1251000"/>
          </a:xfrm>
          <a:prstGeom prst="rect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553080" y="3078000"/>
            <a:ext cx="1829880" cy="1617480"/>
            <a:chOff x="6553080" y="3078000"/>
            <a:chExt cx="1829880" cy="1617480"/>
          </a:xfrm>
        </p:grpSpPr>
        <p:grpSp>
          <p:nvGrpSpPr>
            <p:cNvPr id="676" name=""/>
            <p:cNvGrpSpPr/>
            <p:nvPr/>
          </p:nvGrpSpPr>
          <p:grpSpPr>
            <a:xfrm>
              <a:off x="7363440" y="3078000"/>
              <a:ext cx="1019520" cy="1617480"/>
              <a:chOff x="7363440" y="3078000"/>
              <a:chExt cx="1019520" cy="1617480"/>
            </a:xfrm>
          </p:grpSpPr>
          <p:sp>
            <p:nvSpPr>
              <p:cNvPr id="677" name=""/>
              <p:cNvSpPr/>
              <p:nvPr/>
            </p:nvSpPr>
            <p:spPr>
              <a:xfrm>
                <a:off x="7369560" y="3078000"/>
                <a:ext cx="1007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9966"/>
                    </a:solidFill>
                    <a:latin typeface="Comic Sans MS"/>
                  </a:rPr>
                  <a:t>23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363440" y="3931200"/>
                <a:ext cx="1019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4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365600" y="3975480"/>
                <a:ext cx="1013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6553080" y="3504240"/>
              <a:ext cx="914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912240" y="2687760"/>
            <a:ext cx="1526040" cy="2494440"/>
            <a:chOff x="912240" y="2687760"/>
            <a:chExt cx="1526040" cy="2494440"/>
          </a:xfrm>
        </p:grpSpPr>
        <p:grpSp>
          <p:nvGrpSpPr>
            <p:cNvPr id="682" name=""/>
            <p:cNvGrpSpPr/>
            <p:nvPr/>
          </p:nvGrpSpPr>
          <p:grpSpPr>
            <a:xfrm>
              <a:off x="1734840" y="2687760"/>
              <a:ext cx="546120" cy="1251720"/>
              <a:chOff x="1734840" y="2687760"/>
              <a:chExt cx="546120" cy="1251720"/>
            </a:xfrm>
          </p:grpSpPr>
          <p:sp>
            <p:nvSpPr>
              <p:cNvPr id="683" name=""/>
              <p:cNvSpPr/>
              <p:nvPr/>
            </p:nvSpPr>
            <p:spPr>
              <a:xfrm>
                <a:off x="1806120" y="2687760"/>
                <a:ext cx="40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96760" y="3296880"/>
                <a:ext cx="422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734840" y="3312720"/>
                <a:ext cx="546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912240" y="423504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1736640" y="3930480"/>
              <a:ext cx="542880" cy="1251720"/>
              <a:chOff x="1736640" y="3930480"/>
              <a:chExt cx="542880" cy="1251720"/>
            </a:xfrm>
          </p:grpSpPr>
          <p:sp>
            <p:nvSpPr>
              <p:cNvPr id="688" name=""/>
              <p:cNvSpPr/>
              <p:nvPr/>
            </p:nvSpPr>
            <p:spPr>
              <a:xfrm>
                <a:off x="1758960" y="3930480"/>
                <a:ext cx="50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758960" y="4539600"/>
                <a:ext cx="50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736640" y="4555440"/>
                <a:ext cx="54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990360" y="51814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280160" y="2992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2362320" y="2635200"/>
            <a:ext cx="703080" cy="25462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2286000" y="2687760"/>
            <a:ext cx="852480" cy="2494800"/>
            <a:chOff x="2286000" y="2687760"/>
            <a:chExt cx="852480" cy="2494800"/>
          </a:xfrm>
        </p:grpSpPr>
        <p:sp>
          <p:nvSpPr>
            <p:cNvPr id="695" name=""/>
            <p:cNvSpPr/>
            <p:nvPr/>
          </p:nvSpPr>
          <p:spPr>
            <a:xfrm>
              <a:off x="2286000" y="2687760"/>
              <a:ext cx="8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86000" y="3296880"/>
              <a:ext cx="8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86000" y="3930480"/>
              <a:ext cx="8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86000" y="4539960"/>
              <a:ext cx="8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438280" y="5181480"/>
              <a:ext cx="7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4419720" y="2687760"/>
            <a:ext cx="1828800" cy="2494440"/>
            <a:chOff x="4419720" y="2687760"/>
            <a:chExt cx="1828800" cy="2494440"/>
          </a:xfrm>
        </p:grpSpPr>
        <p:sp>
          <p:nvSpPr>
            <p:cNvPr id="701" name=""/>
            <p:cNvSpPr/>
            <p:nvPr/>
          </p:nvSpPr>
          <p:spPr>
            <a:xfrm>
              <a:off x="4496040" y="423504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96040" y="29923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5297760" y="2687760"/>
              <a:ext cx="762120" cy="1251720"/>
              <a:chOff x="5297760" y="2687760"/>
              <a:chExt cx="762120" cy="1251720"/>
            </a:xfrm>
          </p:grpSpPr>
          <p:sp>
            <p:nvSpPr>
              <p:cNvPr id="704" name=""/>
              <p:cNvSpPr/>
              <p:nvPr/>
            </p:nvSpPr>
            <p:spPr>
              <a:xfrm>
                <a:off x="5401080" y="2687760"/>
                <a:ext cx="555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9966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97760" y="3296880"/>
                <a:ext cx="7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97760" y="32968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258160" y="3930480"/>
              <a:ext cx="839520" cy="1251720"/>
              <a:chOff x="5258160" y="3930480"/>
              <a:chExt cx="839520" cy="1251720"/>
            </a:xfrm>
          </p:grpSpPr>
          <p:sp>
            <p:nvSpPr>
              <p:cNvPr id="708" name=""/>
              <p:cNvSpPr/>
              <p:nvPr/>
            </p:nvSpPr>
            <p:spPr>
              <a:xfrm>
                <a:off x="5297400" y="3930480"/>
                <a:ext cx="760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9966"/>
                    </a:solidFill>
                    <a:latin typeface="Comic Sans MS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295960" y="453960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5258160" y="4539240"/>
                <a:ext cx="839520" cy="1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4419720" y="51814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676520" y="2666880"/>
            <a:ext cx="685800" cy="2469960"/>
            <a:chOff x="1676520" y="2666880"/>
            <a:chExt cx="685800" cy="2469960"/>
          </a:xfrm>
        </p:grpSpPr>
        <p:sp>
          <p:nvSpPr>
            <p:cNvPr id="713" name=""/>
            <p:cNvSpPr/>
            <p:nvPr/>
          </p:nvSpPr>
          <p:spPr>
            <a:xfrm>
              <a:off x="1676520" y="3885840"/>
              <a:ext cx="685800" cy="125100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6520" y="2666880"/>
              <a:ext cx="685800" cy="125100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3657600" y="2635200"/>
            <a:ext cx="838080" cy="25462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3044880" y="2687760"/>
            <a:ext cx="1414440" cy="2494440"/>
            <a:chOff x="3044880" y="2687760"/>
            <a:chExt cx="1414440" cy="2494440"/>
          </a:xfrm>
        </p:grpSpPr>
        <p:sp>
          <p:nvSpPr>
            <p:cNvPr id="717" name=""/>
            <p:cNvSpPr/>
            <p:nvPr/>
          </p:nvSpPr>
          <p:spPr>
            <a:xfrm>
              <a:off x="3044880" y="423504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&gt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044880" y="299232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&gt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3657600" y="2687760"/>
              <a:ext cx="801720" cy="1251720"/>
              <a:chOff x="3657600" y="2687760"/>
              <a:chExt cx="801720" cy="1251720"/>
            </a:xfrm>
          </p:grpSpPr>
          <p:sp>
            <p:nvSpPr>
              <p:cNvPr id="720" name=""/>
              <p:cNvSpPr/>
              <p:nvPr/>
            </p:nvSpPr>
            <p:spPr>
              <a:xfrm>
                <a:off x="3821040" y="2687760"/>
                <a:ext cx="47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657600" y="3296880"/>
                <a:ext cx="801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0960" y="3312720"/>
                <a:ext cx="67320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3676680" y="3930480"/>
              <a:ext cx="760320" cy="1251720"/>
              <a:chOff x="3676680" y="3930480"/>
              <a:chExt cx="760320" cy="1251720"/>
            </a:xfrm>
          </p:grpSpPr>
          <p:sp>
            <p:nvSpPr>
              <p:cNvPr id="724" name=""/>
              <p:cNvSpPr/>
              <p:nvPr/>
            </p:nvSpPr>
            <p:spPr>
              <a:xfrm>
                <a:off x="3676680" y="3930480"/>
                <a:ext cx="760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681360" y="4539600"/>
                <a:ext cx="752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3681360" y="4539240"/>
                <a:ext cx="752400" cy="1548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124080" y="5181480"/>
              <a:ext cx="133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864720" y="137160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797040" y="3807000"/>
            <a:ext cx="536580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04960" y="2556000"/>
            <a:ext cx="5362560" cy="1251000"/>
          </a:xfrm>
          <a:prstGeom prst="rect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9960" y="2608200"/>
            <a:ext cx="1526040" cy="3043800"/>
            <a:chOff x="759960" y="2608200"/>
            <a:chExt cx="1526040" cy="3043800"/>
          </a:xfrm>
        </p:grpSpPr>
        <p:grpSp>
          <p:nvGrpSpPr>
            <p:cNvPr id="733" name=""/>
            <p:cNvGrpSpPr/>
            <p:nvPr/>
          </p:nvGrpSpPr>
          <p:grpSpPr>
            <a:xfrm>
              <a:off x="1593720" y="2608200"/>
              <a:ext cx="546120" cy="1252080"/>
              <a:chOff x="1593720" y="2608200"/>
              <a:chExt cx="546120" cy="1252080"/>
            </a:xfrm>
          </p:grpSpPr>
          <p:sp>
            <p:nvSpPr>
              <p:cNvPr id="734" name=""/>
              <p:cNvSpPr/>
              <p:nvPr/>
            </p:nvSpPr>
            <p:spPr>
              <a:xfrm>
                <a:off x="1665000" y="2608200"/>
                <a:ext cx="40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55640" y="3217680"/>
                <a:ext cx="422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593720" y="3233520"/>
                <a:ext cx="546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759960" y="415584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1523880" y="3851280"/>
              <a:ext cx="685800" cy="1800720"/>
              <a:chOff x="1523880" y="3851280"/>
              <a:chExt cx="685800" cy="1800720"/>
            </a:xfrm>
          </p:grpSpPr>
          <p:sp>
            <p:nvSpPr>
              <p:cNvPr id="739" name=""/>
              <p:cNvSpPr/>
              <p:nvPr/>
            </p:nvSpPr>
            <p:spPr>
              <a:xfrm>
                <a:off x="1616040" y="3851280"/>
                <a:ext cx="50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523880" y="446076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595520" y="4476600"/>
                <a:ext cx="54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838080" y="510228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27880" y="2913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2209680" y="2556000"/>
            <a:ext cx="703440" cy="25462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2133720" y="2608200"/>
            <a:ext cx="852480" cy="2495160"/>
            <a:chOff x="2133720" y="2608200"/>
            <a:chExt cx="852480" cy="2495160"/>
          </a:xfrm>
        </p:grpSpPr>
        <p:sp>
          <p:nvSpPr>
            <p:cNvPr id="746" name=""/>
            <p:cNvSpPr/>
            <p:nvPr/>
          </p:nvSpPr>
          <p:spPr>
            <a:xfrm>
              <a:off x="2133720" y="2608200"/>
              <a:ext cx="8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33720" y="3217680"/>
              <a:ext cx="8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133720" y="3851280"/>
              <a:ext cx="8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3720" y="4460760"/>
              <a:ext cx="8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86000" y="5102280"/>
              <a:ext cx="7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4267080" y="2608200"/>
            <a:ext cx="1828800" cy="2495160"/>
            <a:chOff x="4267080" y="2608200"/>
            <a:chExt cx="1828800" cy="2495160"/>
          </a:xfrm>
        </p:grpSpPr>
        <p:sp>
          <p:nvSpPr>
            <p:cNvPr id="752" name=""/>
            <p:cNvSpPr/>
            <p:nvPr/>
          </p:nvSpPr>
          <p:spPr>
            <a:xfrm>
              <a:off x="4343400" y="415584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43400" y="29131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219640" y="2608200"/>
              <a:ext cx="761760" cy="1252080"/>
              <a:chOff x="5219640" y="2608200"/>
              <a:chExt cx="761760" cy="1252080"/>
            </a:xfrm>
          </p:grpSpPr>
          <p:sp>
            <p:nvSpPr>
              <p:cNvPr id="755" name=""/>
              <p:cNvSpPr/>
              <p:nvPr/>
            </p:nvSpPr>
            <p:spPr>
              <a:xfrm>
                <a:off x="5252760" y="2608200"/>
                <a:ext cx="696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9966"/>
                    </a:solidFill>
                    <a:latin typeface="Comic Sans MS"/>
                  </a:rPr>
                  <a:t>1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219640" y="321768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219640" y="32176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5180040" y="3851280"/>
              <a:ext cx="839880" cy="1252080"/>
              <a:chOff x="5180040" y="3851280"/>
              <a:chExt cx="839880" cy="1252080"/>
            </a:xfrm>
          </p:grpSpPr>
          <p:sp>
            <p:nvSpPr>
              <p:cNvPr id="759" name=""/>
              <p:cNvSpPr/>
              <p:nvPr/>
            </p:nvSpPr>
            <p:spPr>
              <a:xfrm>
                <a:off x="5219640" y="3851280"/>
                <a:ext cx="760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9966"/>
                    </a:solidFill>
                    <a:latin typeface="Comic Sans MS"/>
                  </a:rPr>
                  <a:t>1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218200" y="4460760"/>
                <a:ext cx="7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5180040" y="4460760"/>
                <a:ext cx="83988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4267080" y="51022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1523880" y="2587680"/>
            <a:ext cx="685800" cy="2469960"/>
            <a:chOff x="1523880" y="2587680"/>
            <a:chExt cx="685800" cy="2469960"/>
          </a:xfrm>
        </p:grpSpPr>
        <p:sp>
          <p:nvSpPr>
            <p:cNvPr id="764" name=""/>
            <p:cNvSpPr/>
            <p:nvPr/>
          </p:nvSpPr>
          <p:spPr>
            <a:xfrm>
              <a:off x="1523880" y="3806640"/>
              <a:ext cx="685800" cy="125100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23880" y="2587680"/>
              <a:ext cx="685800" cy="125100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3487680" y="2558880"/>
            <a:ext cx="819360" cy="25466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892600" y="2608200"/>
            <a:ext cx="1414440" cy="2495160"/>
            <a:chOff x="2892600" y="2608200"/>
            <a:chExt cx="1414440" cy="2495160"/>
          </a:xfrm>
        </p:grpSpPr>
        <p:sp>
          <p:nvSpPr>
            <p:cNvPr id="768" name=""/>
            <p:cNvSpPr/>
            <p:nvPr/>
          </p:nvSpPr>
          <p:spPr>
            <a:xfrm>
              <a:off x="2892600" y="415584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&gt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92600" y="291312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&gt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05320" y="2608200"/>
              <a:ext cx="801720" cy="1252080"/>
              <a:chOff x="3505320" y="2608200"/>
              <a:chExt cx="801720" cy="12520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68680" y="2608200"/>
                <a:ext cx="673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1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05320" y="3217680"/>
                <a:ext cx="801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8680" y="3233520"/>
                <a:ext cx="67320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3525840" y="3851280"/>
              <a:ext cx="760320" cy="1252080"/>
              <a:chOff x="3525840" y="3851280"/>
              <a:chExt cx="760320" cy="1252080"/>
            </a:xfrm>
          </p:grpSpPr>
          <p:sp>
            <p:nvSpPr>
              <p:cNvPr id="775" name=""/>
              <p:cNvSpPr/>
              <p:nvPr/>
            </p:nvSpPr>
            <p:spPr>
              <a:xfrm>
                <a:off x="3525840" y="3851280"/>
                <a:ext cx="760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1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30520" y="4460760"/>
                <a:ext cx="752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3530520" y="4460760"/>
                <a:ext cx="752400" cy="158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2971800" y="5102280"/>
              <a:ext cx="133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864720" y="137160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6551640" y="3048120"/>
            <a:ext cx="1905840" cy="1680120"/>
            <a:chOff x="6551640" y="3048120"/>
            <a:chExt cx="1905840" cy="1680120"/>
          </a:xfrm>
        </p:grpSpPr>
        <p:grpSp>
          <p:nvGrpSpPr>
            <p:cNvPr id="781" name=""/>
            <p:cNvGrpSpPr/>
            <p:nvPr/>
          </p:nvGrpSpPr>
          <p:grpSpPr>
            <a:xfrm>
              <a:off x="6551640" y="3048120"/>
              <a:ext cx="1905840" cy="1680120"/>
              <a:chOff x="6551640" y="3048120"/>
              <a:chExt cx="1905840" cy="1680120"/>
            </a:xfrm>
          </p:grpSpPr>
          <p:grpSp>
            <p:nvGrpSpPr>
              <p:cNvPr id="782" name=""/>
              <p:cNvGrpSpPr/>
              <p:nvPr/>
            </p:nvGrpSpPr>
            <p:grpSpPr>
              <a:xfrm>
                <a:off x="7395480" y="3048120"/>
                <a:ext cx="1062000" cy="1680120"/>
                <a:chOff x="7395480" y="3048120"/>
                <a:chExt cx="1062000" cy="168012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7401960" y="3048120"/>
                  <a:ext cx="10490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339966"/>
                      </a:solidFill>
                      <a:latin typeface="Comic Sans MS"/>
                    </a:rPr>
                    <a:t>29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395480" y="3811320"/>
                  <a:ext cx="10620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Comic Sans MS"/>
                    </a:rPr>
                    <a:t>20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397640" y="3850920"/>
                  <a:ext cx="10551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6" name=""/>
              <p:cNvSpPr/>
              <p:nvPr/>
            </p:nvSpPr>
            <p:spPr>
              <a:xfrm>
                <a:off x="6551640" y="3429360"/>
                <a:ext cx="951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9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"/>
            <p:cNvSpPr/>
            <p:nvPr/>
          </p:nvSpPr>
          <p:spPr>
            <a:xfrm>
              <a:off x="7402680" y="3851280"/>
              <a:ext cx="104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501920" y="2305080"/>
            <a:ext cx="1599480" cy="1374120"/>
            <a:chOff x="1501920" y="2305080"/>
            <a:chExt cx="1599480" cy="1374120"/>
          </a:xfrm>
        </p:grpSpPr>
        <p:grpSp>
          <p:nvGrpSpPr>
            <p:cNvPr id="790" name=""/>
            <p:cNvGrpSpPr/>
            <p:nvPr/>
          </p:nvGrpSpPr>
          <p:grpSpPr>
            <a:xfrm>
              <a:off x="2156760" y="2305080"/>
              <a:ext cx="944640" cy="1374120"/>
              <a:chOff x="2156760" y="2305080"/>
              <a:chExt cx="944640" cy="1374120"/>
            </a:xfrm>
          </p:grpSpPr>
          <p:sp>
            <p:nvSpPr>
              <p:cNvPr id="791" name=""/>
              <p:cNvSpPr/>
              <p:nvPr/>
            </p:nvSpPr>
            <p:spPr>
              <a:xfrm>
                <a:off x="2163960" y="2305080"/>
                <a:ext cx="931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9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156760" y="2914920"/>
                <a:ext cx="94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158200" y="2946600"/>
                <a:ext cx="9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1501920" y="2610000"/>
              <a:ext cx="75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505320" y="2286000"/>
            <a:ext cx="3886920" cy="1410120"/>
            <a:chOff x="3505320" y="2286000"/>
            <a:chExt cx="3886920" cy="1410120"/>
          </a:xfrm>
        </p:grpSpPr>
        <p:sp>
          <p:nvSpPr>
            <p:cNvPr id="796" name=""/>
            <p:cNvSpPr/>
            <p:nvPr/>
          </p:nvSpPr>
          <p:spPr>
            <a:xfrm>
              <a:off x="3505320" y="2639160"/>
              <a:ext cx="135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 9 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4938120" y="2286000"/>
              <a:ext cx="848160" cy="1410120"/>
              <a:chOff x="4938120" y="2286000"/>
              <a:chExt cx="848160" cy="1410120"/>
            </a:xfrm>
          </p:grpSpPr>
          <p:sp>
            <p:nvSpPr>
              <p:cNvPr id="798" name=""/>
              <p:cNvSpPr/>
              <p:nvPr/>
            </p:nvSpPr>
            <p:spPr>
              <a:xfrm>
                <a:off x="4943160" y="228600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938120" y="2992680"/>
                <a:ext cx="848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939560" y="3029400"/>
                <a:ext cx="84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5871600" y="2639160"/>
              <a:ext cx="591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6544080" y="2286000"/>
              <a:ext cx="848160" cy="1410120"/>
              <a:chOff x="6544080" y="2286000"/>
              <a:chExt cx="848160" cy="1410120"/>
            </a:xfrm>
          </p:grpSpPr>
          <p:sp>
            <p:nvSpPr>
              <p:cNvPr id="803" name=""/>
              <p:cNvSpPr/>
              <p:nvPr/>
            </p:nvSpPr>
            <p:spPr>
              <a:xfrm>
                <a:off x="6547320" y="2286000"/>
                <a:ext cx="839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544080" y="2992680"/>
                <a:ext cx="848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545520" y="3029400"/>
                <a:ext cx="84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"/>
          <p:cNvGrpSpPr/>
          <p:nvPr/>
        </p:nvGrpSpPr>
        <p:grpSpPr>
          <a:xfrm>
            <a:off x="2971800" y="4208400"/>
            <a:ext cx="2358360" cy="1935720"/>
            <a:chOff x="2971800" y="4208400"/>
            <a:chExt cx="2358360" cy="1935720"/>
          </a:xfrm>
        </p:grpSpPr>
        <p:sp>
          <p:nvSpPr>
            <p:cNvPr id="807" name=""/>
            <p:cNvSpPr/>
            <p:nvPr/>
          </p:nvSpPr>
          <p:spPr>
            <a:xfrm>
              <a:off x="2971800" y="4587840"/>
              <a:ext cx="1375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= 1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4343400" y="4208400"/>
              <a:ext cx="986760" cy="1583640"/>
              <a:chOff x="4343400" y="4208400"/>
              <a:chExt cx="986760" cy="1583640"/>
            </a:xfrm>
          </p:grpSpPr>
          <p:sp>
            <p:nvSpPr>
              <p:cNvPr id="809" name=""/>
              <p:cNvSpPr/>
              <p:nvPr/>
            </p:nvSpPr>
            <p:spPr>
              <a:xfrm>
                <a:off x="4349160" y="4208400"/>
                <a:ext cx="974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ff"/>
                    </a:solidFill>
                    <a:latin typeface="Comic Sans MS"/>
                  </a:rPr>
                  <a:t>9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343400" y="4966920"/>
                <a:ext cx="986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ff"/>
                    </a:solidFill>
                    <a:latin typeface="Comic Sans MS"/>
                  </a:rPr>
                  <a:t>20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345560" y="5006520"/>
                <a:ext cx="980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57200" y="22096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adding two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mix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nu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143000" y="3078000"/>
            <a:ext cx="76201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scale fractions so they hav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identical denomin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numerators proportion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numerators. Keep denominat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from step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657600" y="12193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533520" y="22860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adding two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mix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nu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19320" y="3124080"/>
            <a:ext cx="80769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whol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improper fraction to a mix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bine whol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657600" y="12952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8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4572000" y="1963800"/>
            <a:ext cx="3276720" cy="4437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990720" y="2013120"/>
            <a:ext cx="3220920" cy="4387680"/>
          </a:xfrm>
          <a:prstGeom prst="rect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604880" y="4921200"/>
            <a:ext cx="936720" cy="1252080"/>
            <a:chOff x="1604880" y="4921200"/>
            <a:chExt cx="936720" cy="1252080"/>
          </a:xfrm>
        </p:grpSpPr>
        <p:grpSp>
          <p:nvGrpSpPr>
            <p:cNvPr id="824" name=""/>
            <p:cNvGrpSpPr/>
            <p:nvPr/>
          </p:nvGrpSpPr>
          <p:grpSpPr>
            <a:xfrm>
              <a:off x="2041560" y="4921200"/>
              <a:ext cx="500040" cy="1252080"/>
              <a:chOff x="2041560" y="4921200"/>
              <a:chExt cx="500040" cy="1252080"/>
            </a:xfrm>
          </p:grpSpPr>
          <p:sp>
            <p:nvSpPr>
              <p:cNvPr id="825" name=""/>
              <p:cNvSpPr/>
              <p:nvPr/>
            </p:nvSpPr>
            <p:spPr>
              <a:xfrm>
                <a:off x="2044440" y="4921200"/>
                <a:ext cx="493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041560" y="5530680"/>
                <a:ext cx="50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043000" y="5562360"/>
                <a:ext cx="496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1604880" y="5225760"/>
              <a:ext cx="40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1316160" y="2306520"/>
            <a:ext cx="1447560" cy="2495160"/>
            <a:chOff x="1316160" y="2306520"/>
            <a:chExt cx="1447560" cy="2495160"/>
          </a:xfrm>
        </p:grpSpPr>
        <p:grpSp>
          <p:nvGrpSpPr>
            <p:cNvPr id="830" name=""/>
            <p:cNvGrpSpPr/>
            <p:nvPr/>
          </p:nvGrpSpPr>
          <p:grpSpPr>
            <a:xfrm>
              <a:off x="2057040" y="2306520"/>
              <a:ext cx="544320" cy="1252080"/>
              <a:chOff x="2057040" y="2306520"/>
              <a:chExt cx="544320" cy="1252080"/>
            </a:xfrm>
          </p:grpSpPr>
          <p:sp>
            <p:nvSpPr>
              <p:cNvPr id="831" name=""/>
              <p:cNvSpPr/>
              <p:nvPr/>
            </p:nvSpPr>
            <p:spPr>
              <a:xfrm>
                <a:off x="2098080" y="2306520"/>
                <a:ext cx="46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086920" y="2916000"/>
                <a:ext cx="48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057040" y="2933640"/>
                <a:ext cx="54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"/>
            <p:cNvSpPr/>
            <p:nvPr/>
          </p:nvSpPr>
          <p:spPr>
            <a:xfrm>
              <a:off x="1344960" y="3854160"/>
              <a:ext cx="7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2057040" y="3549600"/>
              <a:ext cx="542520" cy="1252080"/>
              <a:chOff x="2057040" y="3549600"/>
              <a:chExt cx="542520" cy="1252080"/>
            </a:xfrm>
          </p:grpSpPr>
          <p:sp>
            <p:nvSpPr>
              <p:cNvPr id="836" name=""/>
              <p:cNvSpPr/>
              <p:nvPr/>
            </p:nvSpPr>
            <p:spPr>
              <a:xfrm>
                <a:off x="2083680" y="3549600"/>
                <a:ext cx="488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071080" y="4159080"/>
                <a:ext cx="512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057040" y="4174920"/>
                <a:ext cx="542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1316160" y="4800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05240" y="2611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105520" y="2427120"/>
            <a:ext cx="1369800" cy="2495160"/>
            <a:chOff x="5105520" y="2427120"/>
            <a:chExt cx="1369800" cy="2495160"/>
          </a:xfrm>
        </p:grpSpPr>
        <p:sp>
          <p:nvSpPr>
            <p:cNvPr id="842" name=""/>
            <p:cNvSpPr/>
            <p:nvPr/>
          </p:nvSpPr>
          <p:spPr>
            <a:xfrm>
              <a:off x="5105520" y="3974760"/>
              <a:ext cx="83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34120" y="2732040"/>
              <a:ext cx="53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5808600" y="2427120"/>
              <a:ext cx="495360" cy="1252080"/>
              <a:chOff x="5808600" y="2427120"/>
              <a:chExt cx="495360" cy="1252080"/>
            </a:xfrm>
          </p:grpSpPr>
          <p:sp>
            <p:nvSpPr>
              <p:cNvPr id="845" name=""/>
              <p:cNvSpPr/>
              <p:nvPr/>
            </p:nvSpPr>
            <p:spPr>
              <a:xfrm>
                <a:off x="5829840" y="2427120"/>
                <a:ext cx="453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808600" y="3036600"/>
                <a:ext cx="4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808600" y="3036600"/>
                <a:ext cx="495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5788080" y="3670200"/>
              <a:ext cx="534960" cy="1252080"/>
              <a:chOff x="5788080" y="3670200"/>
              <a:chExt cx="534960" cy="1252080"/>
            </a:xfrm>
          </p:grpSpPr>
          <p:sp>
            <p:nvSpPr>
              <p:cNvPr id="849" name=""/>
              <p:cNvSpPr/>
              <p:nvPr/>
            </p:nvSpPr>
            <p:spPr>
              <a:xfrm>
                <a:off x="5813280" y="3670200"/>
                <a:ext cx="48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12200" y="4279680"/>
                <a:ext cx="48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5788080" y="4279680"/>
                <a:ext cx="53496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5105520" y="4921200"/>
              <a:ext cx="13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2644920" y="4921200"/>
            <a:ext cx="1337760" cy="1252080"/>
            <a:chOff x="2644920" y="4921200"/>
            <a:chExt cx="1337760" cy="1252080"/>
          </a:xfrm>
        </p:grpSpPr>
        <p:sp>
          <p:nvSpPr>
            <p:cNvPr id="854" name=""/>
            <p:cNvSpPr/>
            <p:nvPr/>
          </p:nvSpPr>
          <p:spPr>
            <a:xfrm>
              <a:off x="2644920" y="522576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3483000" y="4921200"/>
              <a:ext cx="499680" cy="1252080"/>
              <a:chOff x="3483000" y="4921200"/>
              <a:chExt cx="499680" cy="1252080"/>
            </a:xfrm>
          </p:grpSpPr>
          <p:sp>
            <p:nvSpPr>
              <p:cNvPr id="856" name=""/>
              <p:cNvSpPr/>
              <p:nvPr/>
            </p:nvSpPr>
            <p:spPr>
              <a:xfrm>
                <a:off x="3485880" y="492120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483000" y="5530680"/>
                <a:ext cx="49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484080" y="5562360"/>
                <a:ext cx="496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9" name=""/>
          <p:cNvSpPr/>
          <p:nvPr/>
        </p:nvSpPr>
        <p:spPr>
          <a:xfrm>
            <a:off x="5600880" y="522612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49680" y="137160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TRAC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990720" y="3537000"/>
            <a:ext cx="733428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90720" y="2286000"/>
            <a:ext cx="7334280" cy="1251000"/>
          </a:xfrm>
          <a:prstGeom prst="rect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066680" y="2313000"/>
            <a:ext cx="1370160" cy="2488680"/>
            <a:chOff x="1066680" y="2313000"/>
            <a:chExt cx="1370160" cy="2488680"/>
          </a:xfrm>
        </p:grpSpPr>
        <p:sp>
          <p:nvSpPr>
            <p:cNvPr id="865" name=""/>
            <p:cNvSpPr/>
            <p:nvPr/>
          </p:nvSpPr>
          <p:spPr>
            <a:xfrm>
              <a:off x="1066680" y="3854520"/>
              <a:ext cx="83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295280" y="2617920"/>
              <a:ext cx="53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1770120" y="2313000"/>
              <a:ext cx="495360" cy="1252080"/>
              <a:chOff x="1770120" y="2313000"/>
              <a:chExt cx="495360" cy="1252080"/>
            </a:xfrm>
          </p:grpSpPr>
          <p:sp>
            <p:nvSpPr>
              <p:cNvPr id="868" name=""/>
              <p:cNvSpPr/>
              <p:nvPr/>
            </p:nvSpPr>
            <p:spPr>
              <a:xfrm>
                <a:off x="1791360" y="2313000"/>
                <a:ext cx="453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770120" y="2922480"/>
                <a:ext cx="4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770120" y="2922480"/>
                <a:ext cx="495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1749600" y="3549600"/>
              <a:ext cx="534960" cy="1252080"/>
              <a:chOff x="1749600" y="3549600"/>
              <a:chExt cx="534960" cy="1252080"/>
            </a:xfrm>
          </p:grpSpPr>
          <p:sp>
            <p:nvSpPr>
              <p:cNvPr id="872" name=""/>
              <p:cNvSpPr/>
              <p:nvPr/>
            </p:nvSpPr>
            <p:spPr>
              <a:xfrm>
                <a:off x="1774800" y="3549600"/>
                <a:ext cx="48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773720" y="4159080"/>
                <a:ext cx="48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1749600" y="4159080"/>
                <a:ext cx="53496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1066680" y="4800600"/>
              <a:ext cx="137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2711520" y="2290680"/>
            <a:ext cx="2622600" cy="25462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2362320" y="2313000"/>
            <a:ext cx="2743200" cy="2488680"/>
            <a:chOff x="2362320" y="2313000"/>
            <a:chExt cx="2743200" cy="2488680"/>
          </a:xfrm>
        </p:grpSpPr>
        <p:sp>
          <p:nvSpPr>
            <p:cNvPr id="878" name=""/>
            <p:cNvSpPr/>
            <p:nvPr/>
          </p:nvSpPr>
          <p:spPr>
            <a:xfrm>
              <a:off x="2362320" y="26179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62320" y="38545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-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362480" y="2313000"/>
              <a:ext cx="495360" cy="1252080"/>
              <a:chOff x="4362480" y="2313000"/>
              <a:chExt cx="495360" cy="1252080"/>
            </a:xfrm>
          </p:grpSpPr>
          <p:sp>
            <p:nvSpPr>
              <p:cNvPr id="881" name=""/>
              <p:cNvSpPr/>
              <p:nvPr/>
            </p:nvSpPr>
            <p:spPr>
              <a:xfrm>
                <a:off x="4383720" y="2313000"/>
                <a:ext cx="453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362480" y="2922480"/>
                <a:ext cx="4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362480" y="2922480"/>
                <a:ext cx="495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4341960" y="3549600"/>
              <a:ext cx="534960" cy="1252080"/>
              <a:chOff x="4341960" y="3549600"/>
              <a:chExt cx="534960" cy="1252080"/>
            </a:xfrm>
          </p:grpSpPr>
          <p:sp>
            <p:nvSpPr>
              <p:cNvPr id="885" name=""/>
              <p:cNvSpPr/>
              <p:nvPr/>
            </p:nvSpPr>
            <p:spPr>
              <a:xfrm>
                <a:off x="4367160" y="3549600"/>
                <a:ext cx="48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366080" y="4159080"/>
                <a:ext cx="48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4341960" y="4159080"/>
                <a:ext cx="53496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>
              <a:off x="2438280" y="4800600"/>
              <a:ext cx="266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4952880" y="2313000"/>
            <a:ext cx="3048120" cy="2488680"/>
            <a:chOff x="4952880" y="2313000"/>
            <a:chExt cx="3048120" cy="2488680"/>
          </a:xfrm>
        </p:grpSpPr>
        <p:sp>
          <p:nvSpPr>
            <p:cNvPr id="890" name=""/>
            <p:cNvSpPr/>
            <p:nvPr/>
          </p:nvSpPr>
          <p:spPr>
            <a:xfrm>
              <a:off x="4952880" y="26179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6191280" y="2313000"/>
              <a:ext cx="495360" cy="1252080"/>
              <a:chOff x="6191280" y="2313000"/>
              <a:chExt cx="495360" cy="1252080"/>
            </a:xfrm>
          </p:grpSpPr>
          <p:sp>
            <p:nvSpPr>
              <p:cNvPr id="892" name=""/>
              <p:cNvSpPr/>
              <p:nvPr/>
            </p:nvSpPr>
            <p:spPr>
              <a:xfrm>
                <a:off x="6213600" y="2313000"/>
                <a:ext cx="452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191280" y="2922480"/>
                <a:ext cx="4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191280" y="2922480"/>
                <a:ext cx="4953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7277040" y="2313000"/>
              <a:ext cx="495360" cy="1252080"/>
              <a:chOff x="7277040" y="2313000"/>
              <a:chExt cx="495360" cy="1252080"/>
            </a:xfrm>
          </p:grpSpPr>
          <p:sp>
            <p:nvSpPr>
              <p:cNvPr id="896" name=""/>
              <p:cNvSpPr/>
              <p:nvPr/>
            </p:nvSpPr>
            <p:spPr>
              <a:xfrm>
                <a:off x="7298280" y="2313000"/>
                <a:ext cx="453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277040" y="2922480"/>
                <a:ext cx="495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277040" y="2922480"/>
                <a:ext cx="495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6781680" y="2617920"/>
              <a:ext cx="41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52880" y="38545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-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6172200" y="3549600"/>
              <a:ext cx="534960" cy="1252080"/>
              <a:chOff x="6172200" y="3549600"/>
              <a:chExt cx="534960" cy="1252080"/>
            </a:xfrm>
          </p:grpSpPr>
          <p:sp>
            <p:nvSpPr>
              <p:cNvPr id="902" name=""/>
              <p:cNvSpPr/>
              <p:nvPr/>
            </p:nvSpPr>
            <p:spPr>
              <a:xfrm>
                <a:off x="6197400" y="3549600"/>
                <a:ext cx="48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196320" y="4159080"/>
                <a:ext cx="48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6172200" y="4159080"/>
                <a:ext cx="53496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5105520" y="480060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2286000"/>
            <a:ext cx="5562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and subtract rational expressions using their L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and subtract mixed numbers using their L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3886200" y="2313000"/>
            <a:ext cx="1370160" cy="2488680"/>
            <a:chOff x="3886200" y="2313000"/>
            <a:chExt cx="1370160" cy="2488680"/>
          </a:xfrm>
        </p:grpSpPr>
        <p:sp>
          <p:nvSpPr>
            <p:cNvPr id="908" name=""/>
            <p:cNvSpPr/>
            <p:nvPr/>
          </p:nvSpPr>
          <p:spPr>
            <a:xfrm>
              <a:off x="3886200" y="3854520"/>
              <a:ext cx="83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14800" y="2617920"/>
              <a:ext cx="53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4589640" y="2313000"/>
              <a:ext cx="495000" cy="1252080"/>
              <a:chOff x="4589640" y="2313000"/>
              <a:chExt cx="495000" cy="1252080"/>
            </a:xfrm>
          </p:grpSpPr>
          <p:sp>
            <p:nvSpPr>
              <p:cNvPr id="911" name=""/>
              <p:cNvSpPr/>
              <p:nvPr/>
            </p:nvSpPr>
            <p:spPr>
              <a:xfrm>
                <a:off x="4611600" y="2313000"/>
                <a:ext cx="452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89640" y="2922480"/>
                <a:ext cx="495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589640" y="2922480"/>
                <a:ext cx="495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4568760" y="3549600"/>
              <a:ext cx="534960" cy="1252080"/>
              <a:chOff x="4568760" y="3549600"/>
              <a:chExt cx="534960" cy="1252080"/>
            </a:xfrm>
          </p:grpSpPr>
          <p:sp>
            <p:nvSpPr>
              <p:cNvPr id="915" name=""/>
              <p:cNvSpPr/>
              <p:nvPr/>
            </p:nvSpPr>
            <p:spPr>
              <a:xfrm>
                <a:off x="4593960" y="3549600"/>
                <a:ext cx="48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592880" y="4159080"/>
                <a:ext cx="48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4568760" y="4159080"/>
                <a:ext cx="53496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3886200" y="4800600"/>
              <a:ext cx="137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124600" y="4844880"/>
            <a:ext cx="1275840" cy="1496160"/>
            <a:chOff x="5124600" y="4844880"/>
            <a:chExt cx="1275840" cy="1496160"/>
          </a:xfrm>
        </p:grpSpPr>
        <p:sp>
          <p:nvSpPr>
            <p:cNvPr id="920" name=""/>
            <p:cNvSpPr/>
            <p:nvPr/>
          </p:nvSpPr>
          <p:spPr>
            <a:xfrm>
              <a:off x="5124600" y="514980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5905440" y="4844880"/>
              <a:ext cx="495000" cy="1252080"/>
              <a:chOff x="5905440" y="4844880"/>
              <a:chExt cx="495000" cy="1252080"/>
            </a:xfrm>
          </p:grpSpPr>
          <p:sp>
            <p:nvSpPr>
              <p:cNvPr id="922" name=""/>
              <p:cNvSpPr/>
              <p:nvPr/>
            </p:nvSpPr>
            <p:spPr>
              <a:xfrm>
                <a:off x="5927400" y="4844880"/>
                <a:ext cx="452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905440" y="5454360"/>
                <a:ext cx="495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905440" y="5454360"/>
                <a:ext cx="495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5" name=""/>
          <p:cNvGrpSpPr/>
          <p:nvPr/>
        </p:nvGrpSpPr>
        <p:grpSpPr>
          <a:xfrm>
            <a:off x="4113360" y="4844880"/>
            <a:ext cx="915840" cy="1252080"/>
            <a:chOff x="4113360" y="4844880"/>
            <a:chExt cx="915840" cy="1252080"/>
          </a:xfrm>
        </p:grpSpPr>
        <p:sp>
          <p:nvSpPr>
            <p:cNvPr id="926" name=""/>
            <p:cNvSpPr/>
            <p:nvPr/>
          </p:nvSpPr>
          <p:spPr>
            <a:xfrm>
              <a:off x="4113360" y="51498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4494240" y="4844880"/>
              <a:ext cx="534960" cy="1252080"/>
              <a:chOff x="4494240" y="4844880"/>
              <a:chExt cx="534960" cy="1252080"/>
            </a:xfrm>
          </p:grpSpPr>
          <p:sp>
            <p:nvSpPr>
              <p:cNvPr id="928" name=""/>
              <p:cNvSpPr/>
              <p:nvPr/>
            </p:nvSpPr>
            <p:spPr>
              <a:xfrm>
                <a:off x="4519440" y="4844880"/>
                <a:ext cx="48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518360" y="5454360"/>
                <a:ext cx="48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4494240" y="5454360"/>
                <a:ext cx="53496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86400" y="2482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3 parts = 3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600880" y="4114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 parts = 1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457200" y="1752480"/>
            <a:ext cx="8115480" cy="3276720"/>
            <a:chOff x="457200" y="1752480"/>
            <a:chExt cx="8115480" cy="3276720"/>
          </a:xfrm>
        </p:grpSpPr>
        <p:grpSp>
          <p:nvGrpSpPr>
            <p:cNvPr id="935" name=""/>
            <p:cNvGrpSpPr/>
            <p:nvPr/>
          </p:nvGrpSpPr>
          <p:grpSpPr>
            <a:xfrm>
              <a:off x="914400" y="1752480"/>
              <a:ext cx="1360080" cy="1371600"/>
              <a:chOff x="914400" y="1752480"/>
              <a:chExt cx="1360080" cy="1371600"/>
            </a:xfrm>
          </p:grpSpPr>
          <p:sp>
            <p:nvSpPr>
              <p:cNvPr id="936" name=""/>
              <p:cNvSpPr/>
              <p:nvPr/>
            </p:nvSpPr>
            <p:spPr>
              <a:xfrm>
                <a:off x="914400" y="17524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594440" y="17524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914400" y="24382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594440" y="24382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2525760" y="1752480"/>
              <a:ext cx="1360080" cy="1371600"/>
              <a:chOff x="2525760" y="1752480"/>
              <a:chExt cx="1360080" cy="1371600"/>
            </a:xfrm>
          </p:grpSpPr>
          <p:sp>
            <p:nvSpPr>
              <p:cNvPr id="941" name=""/>
              <p:cNvSpPr/>
              <p:nvPr/>
            </p:nvSpPr>
            <p:spPr>
              <a:xfrm>
                <a:off x="2525760" y="17524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205800" y="17524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525760" y="24382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05800" y="24382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4125960" y="1752480"/>
              <a:ext cx="1360080" cy="1371600"/>
              <a:chOff x="4125960" y="1752480"/>
              <a:chExt cx="1360080" cy="1371600"/>
            </a:xfrm>
          </p:grpSpPr>
          <p:sp>
            <p:nvSpPr>
              <p:cNvPr id="946" name=""/>
              <p:cNvSpPr/>
              <p:nvPr/>
            </p:nvSpPr>
            <p:spPr>
              <a:xfrm>
                <a:off x="4125960" y="17524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806000" y="17524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125960" y="24382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806000" y="24382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5726160" y="1752480"/>
              <a:ext cx="681120" cy="685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914400" y="3429000"/>
              <a:ext cx="1360080" cy="1371600"/>
              <a:chOff x="914400" y="3429000"/>
              <a:chExt cx="1360080" cy="1371600"/>
            </a:xfrm>
          </p:grpSpPr>
          <p:sp>
            <p:nvSpPr>
              <p:cNvPr id="952" name=""/>
              <p:cNvSpPr/>
              <p:nvPr/>
            </p:nvSpPr>
            <p:spPr>
              <a:xfrm>
                <a:off x="914400" y="342900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594440" y="342900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914400" y="411480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594440" y="411480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2525760" y="3429000"/>
              <a:ext cx="1360440" cy="1371600"/>
              <a:chOff x="2525760" y="3429000"/>
              <a:chExt cx="1360440" cy="1371600"/>
            </a:xfrm>
          </p:grpSpPr>
          <p:sp>
            <p:nvSpPr>
              <p:cNvPr id="957" name=""/>
              <p:cNvSpPr/>
              <p:nvPr/>
            </p:nvSpPr>
            <p:spPr>
              <a:xfrm>
                <a:off x="2525760" y="3429000"/>
                <a:ext cx="68112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206880" y="3429000"/>
                <a:ext cx="67932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525760" y="4114800"/>
                <a:ext cx="68112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457200" y="3794040"/>
              <a:ext cx="36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57200" y="5029200"/>
              <a:ext cx="811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5796000" y="5149800"/>
            <a:ext cx="25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 parts =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91120" y="1841400"/>
            <a:ext cx="43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rt with 13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914400" y="1752480"/>
            <a:ext cx="2971440" cy="3048120"/>
            <a:chOff x="914400" y="1752480"/>
            <a:chExt cx="2971440" cy="3048120"/>
          </a:xfrm>
        </p:grpSpPr>
        <p:grpSp>
          <p:nvGrpSpPr>
            <p:cNvPr id="966" name=""/>
            <p:cNvGrpSpPr/>
            <p:nvPr/>
          </p:nvGrpSpPr>
          <p:grpSpPr>
            <a:xfrm>
              <a:off x="914400" y="1752480"/>
              <a:ext cx="1360080" cy="1371600"/>
              <a:chOff x="914400" y="1752480"/>
              <a:chExt cx="1360080" cy="1371600"/>
            </a:xfrm>
          </p:grpSpPr>
          <p:sp>
            <p:nvSpPr>
              <p:cNvPr id="967" name=""/>
              <p:cNvSpPr/>
              <p:nvPr/>
            </p:nvSpPr>
            <p:spPr>
              <a:xfrm>
                <a:off x="914400" y="17524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594440" y="17524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914400" y="24382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594440" y="24382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2525760" y="1752480"/>
              <a:ext cx="1360080" cy="1371600"/>
              <a:chOff x="2525760" y="1752480"/>
              <a:chExt cx="1360080" cy="1371600"/>
            </a:xfrm>
          </p:grpSpPr>
          <p:sp>
            <p:nvSpPr>
              <p:cNvPr id="972" name=""/>
              <p:cNvSpPr/>
              <p:nvPr/>
            </p:nvSpPr>
            <p:spPr>
              <a:xfrm>
                <a:off x="2525760" y="17524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205800" y="17524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525760" y="24382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205800" y="24382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925560" y="3429000"/>
              <a:ext cx="1360080" cy="1371600"/>
              <a:chOff x="925560" y="3429000"/>
              <a:chExt cx="1360080" cy="1371600"/>
            </a:xfrm>
          </p:grpSpPr>
          <p:sp>
            <p:nvSpPr>
              <p:cNvPr id="977" name=""/>
              <p:cNvSpPr/>
              <p:nvPr/>
            </p:nvSpPr>
            <p:spPr>
              <a:xfrm>
                <a:off x="925560" y="342900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605600" y="342900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925560" y="411480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605600" y="411480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2525760" y="3429000"/>
              <a:ext cx="681120" cy="685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191120" y="1841400"/>
            <a:ext cx="43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rt with 13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191120" y="342900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unt remaining parts (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914400" y="1752480"/>
            <a:ext cx="2971800" cy="1371600"/>
            <a:chOff x="914400" y="1752480"/>
            <a:chExt cx="2971800" cy="1371600"/>
          </a:xfrm>
        </p:grpSpPr>
        <p:grpSp>
          <p:nvGrpSpPr>
            <p:cNvPr id="986" name=""/>
            <p:cNvGrpSpPr/>
            <p:nvPr/>
          </p:nvGrpSpPr>
          <p:grpSpPr>
            <a:xfrm>
              <a:off x="914400" y="1752480"/>
              <a:ext cx="1360080" cy="1371600"/>
              <a:chOff x="914400" y="1752480"/>
              <a:chExt cx="1360080" cy="1371600"/>
            </a:xfrm>
          </p:grpSpPr>
          <p:sp>
            <p:nvSpPr>
              <p:cNvPr id="987" name=""/>
              <p:cNvSpPr/>
              <p:nvPr/>
            </p:nvSpPr>
            <p:spPr>
              <a:xfrm>
                <a:off x="914400" y="17524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594440" y="17524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914400" y="24382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594440" y="2438280"/>
                <a:ext cx="68004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2525760" y="1752480"/>
              <a:ext cx="1360440" cy="685800"/>
              <a:chOff x="2525760" y="1752480"/>
              <a:chExt cx="1360440" cy="685800"/>
            </a:xfrm>
          </p:grpSpPr>
          <p:sp>
            <p:nvSpPr>
              <p:cNvPr id="992" name=""/>
              <p:cNvSpPr/>
              <p:nvPr/>
            </p:nvSpPr>
            <p:spPr>
              <a:xfrm>
                <a:off x="2525760" y="1752480"/>
                <a:ext cx="68112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206880" y="1752480"/>
                <a:ext cx="679320" cy="6858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4" name=""/>
          <p:cNvSpPr/>
          <p:nvPr/>
        </p:nvSpPr>
        <p:spPr>
          <a:xfrm>
            <a:off x="4191120" y="47242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present as a fraction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191120" y="2635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move 7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380880" y="2209680"/>
            <a:ext cx="8305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When subtracting two </a:t>
            </a:r>
            <a:r>
              <a:rPr b="0" lang="en-US" sz="3500" spc="-1" strike="noStrike">
                <a:solidFill>
                  <a:srgbClr val="0000ff"/>
                </a:solidFill>
                <a:latin typeface="Comic Sans MS"/>
              </a:rPr>
              <a:t>mixed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number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3520" y="2911320"/>
            <a:ext cx="80769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may need to borrow from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minuend’s (number you’re subtrac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from) whole number and convert i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to an equivalent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the mixed numbers to improp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fractions to avoid potential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657600" y="12193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749160" y="2743200"/>
            <a:ext cx="733428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49160" y="1528920"/>
            <a:ext cx="7334280" cy="1250640"/>
          </a:xfrm>
          <a:prstGeom prst="rect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726120" y="1544760"/>
            <a:ext cx="1483560" cy="2494440"/>
            <a:chOff x="726120" y="1544760"/>
            <a:chExt cx="1483560" cy="2494440"/>
          </a:xfrm>
        </p:grpSpPr>
        <p:grpSp>
          <p:nvGrpSpPr>
            <p:cNvPr id="1004" name=""/>
            <p:cNvGrpSpPr/>
            <p:nvPr/>
          </p:nvGrpSpPr>
          <p:grpSpPr>
            <a:xfrm>
              <a:off x="1481040" y="1544760"/>
              <a:ext cx="476280" cy="1251720"/>
              <a:chOff x="1481040" y="1544760"/>
              <a:chExt cx="476280" cy="1251720"/>
            </a:xfrm>
          </p:grpSpPr>
          <p:sp>
            <p:nvSpPr>
              <p:cNvPr id="1005" name=""/>
              <p:cNvSpPr/>
              <p:nvPr/>
            </p:nvSpPr>
            <p:spPr>
              <a:xfrm>
                <a:off x="1517760" y="1544760"/>
                <a:ext cx="40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508040" y="2153880"/>
                <a:ext cx="422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481040" y="2169720"/>
                <a:ext cx="47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>
              <a:off x="726120" y="3092040"/>
              <a:ext cx="7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1447920" y="2787480"/>
              <a:ext cx="542880" cy="1251720"/>
              <a:chOff x="1447920" y="2787480"/>
              <a:chExt cx="542880" cy="1251720"/>
            </a:xfrm>
          </p:grpSpPr>
          <p:sp>
            <p:nvSpPr>
              <p:cNvPr id="1010" name=""/>
              <p:cNvSpPr/>
              <p:nvPr/>
            </p:nvSpPr>
            <p:spPr>
              <a:xfrm>
                <a:off x="1470240" y="2787480"/>
                <a:ext cx="50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470240" y="3396600"/>
                <a:ext cx="50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447920" y="3412440"/>
                <a:ext cx="54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3" name=""/>
            <p:cNvSpPr/>
            <p:nvPr/>
          </p:nvSpPr>
          <p:spPr>
            <a:xfrm>
              <a:off x="762120" y="403848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85960" y="184932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4203720" y="1523880"/>
            <a:ext cx="1968480" cy="24987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3657600" y="1544760"/>
            <a:ext cx="2590920" cy="2494440"/>
            <a:chOff x="3657600" y="1544760"/>
            <a:chExt cx="2590920" cy="2494440"/>
          </a:xfrm>
        </p:grpSpPr>
        <p:grpSp>
          <p:nvGrpSpPr>
            <p:cNvPr id="1017" name=""/>
            <p:cNvGrpSpPr/>
            <p:nvPr/>
          </p:nvGrpSpPr>
          <p:grpSpPr>
            <a:xfrm>
              <a:off x="3886200" y="1544760"/>
              <a:ext cx="2222640" cy="2494440"/>
              <a:chOff x="3886200" y="1544760"/>
              <a:chExt cx="2222640" cy="2494440"/>
            </a:xfrm>
          </p:grpSpPr>
          <p:sp>
            <p:nvSpPr>
              <p:cNvPr id="1018" name=""/>
              <p:cNvSpPr/>
              <p:nvPr/>
            </p:nvSpPr>
            <p:spPr>
              <a:xfrm>
                <a:off x="3886200" y="309204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 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886200" y="184932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 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4648320" y="1544760"/>
                <a:ext cx="1460520" cy="1251720"/>
                <a:chOff x="4648320" y="1544760"/>
                <a:chExt cx="1460520" cy="125172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648320" y="1544760"/>
                  <a:ext cx="1460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25</a:t>
                  </a:r>
                  <a:r>
                    <a:rPr b="0" lang="en-US" sz="3600" spc="-1" strike="noStrike">
                      <a:solidFill>
                        <a:srgbClr val="808080"/>
                      </a:solidFill>
                      <a:latin typeface="Comic Sans MS"/>
                    </a:rPr>
                    <a:t>(8)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807080" y="2153880"/>
                  <a:ext cx="114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r>
                    <a:rPr b="0" lang="en-US" sz="3600" spc="-1" strike="noStrike">
                      <a:solidFill>
                        <a:srgbClr val="808080"/>
                      </a:solidFill>
                      <a:latin typeface="Comic Sans MS"/>
                    </a:rPr>
                    <a:t>(8)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673880" y="2153880"/>
                  <a:ext cx="1409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4648320" y="2787480"/>
                <a:ext cx="1460520" cy="1251720"/>
                <a:chOff x="4648320" y="2787480"/>
                <a:chExt cx="1460520" cy="12517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4648320" y="2787480"/>
                  <a:ext cx="1460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23</a:t>
                  </a:r>
                  <a:r>
                    <a:rPr b="0" lang="en-US" sz="3600" spc="-1" strike="noStrike">
                      <a:solidFill>
                        <a:srgbClr val="808080"/>
                      </a:solidFill>
                      <a:latin typeface="Comic Sans MS"/>
                    </a:rPr>
                    <a:t>(3)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838760" y="3396600"/>
                  <a:ext cx="1079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r>
                    <a:rPr b="0" lang="en-US" sz="3600" spc="-1" strike="noStrike">
                      <a:solidFill>
                        <a:srgbClr val="808080"/>
                      </a:solidFill>
                      <a:latin typeface="Comic Sans MS"/>
                    </a:rPr>
                    <a:t>(3)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673880" y="3396600"/>
                  <a:ext cx="1409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8" name=""/>
            <p:cNvSpPr/>
            <p:nvPr/>
          </p:nvSpPr>
          <p:spPr>
            <a:xfrm>
              <a:off x="3657600" y="403848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"/>
          <p:cNvSpPr/>
          <p:nvPr/>
        </p:nvSpPr>
        <p:spPr>
          <a:xfrm>
            <a:off x="2617920" y="1506600"/>
            <a:ext cx="1268280" cy="25146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209680" y="1544760"/>
            <a:ext cx="1565280" cy="2494440"/>
            <a:chOff x="2209680" y="1544760"/>
            <a:chExt cx="1565280" cy="2494440"/>
          </a:xfrm>
        </p:grpSpPr>
        <p:sp>
          <p:nvSpPr>
            <p:cNvPr id="1031" name=""/>
            <p:cNvSpPr/>
            <p:nvPr/>
          </p:nvSpPr>
          <p:spPr>
            <a:xfrm>
              <a:off x="2209680" y="3092040"/>
              <a:ext cx="76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209680" y="1849320"/>
              <a:ext cx="76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2992320" y="1544760"/>
              <a:ext cx="742680" cy="1251720"/>
              <a:chOff x="2992320" y="1544760"/>
              <a:chExt cx="742680" cy="1251720"/>
            </a:xfrm>
          </p:grpSpPr>
          <p:sp>
            <p:nvSpPr>
              <p:cNvPr id="1034" name=""/>
              <p:cNvSpPr/>
              <p:nvPr/>
            </p:nvSpPr>
            <p:spPr>
              <a:xfrm>
                <a:off x="2992320" y="1544760"/>
                <a:ext cx="742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92040" y="2153880"/>
                <a:ext cx="54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27240" y="2169720"/>
                <a:ext cx="67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2995560" y="2787480"/>
              <a:ext cx="752400" cy="1251720"/>
              <a:chOff x="2995560" y="2787480"/>
              <a:chExt cx="752400" cy="1251720"/>
            </a:xfrm>
          </p:grpSpPr>
          <p:sp>
            <p:nvSpPr>
              <p:cNvPr id="1038" name=""/>
              <p:cNvSpPr/>
              <p:nvPr/>
            </p:nvSpPr>
            <p:spPr>
              <a:xfrm>
                <a:off x="2998440" y="2787480"/>
                <a:ext cx="742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99960" y="3396600"/>
                <a:ext cx="541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2995560" y="3396240"/>
                <a:ext cx="752400" cy="1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2209680" y="4038480"/>
              <a:ext cx="156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6172200" y="1544760"/>
            <a:ext cx="1981080" cy="2494440"/>
            <a:chOff x="6172200" y="1544760"/>
            <a:chExt cx="1981080" cy="2494440"/>
          </a:xfrm>
        </p:grpSpPr>
        <p:sp>
          <p:nvSpPr>
            <p:cNvPr id="1043" name=""/>
            <p:cNvSpPr/>
            <p:nvPr/>
          </p:nvSpPr>
          <p:spPr>
            <a:xfrm>
              <a:off x="6172200" y="309204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172200" y="18493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6858000" y="1544760"/>
              <a:ext cx="1079280" cy="1251720"/>
              <a:chOff x="6858000" y="1544760"/>
              <a:chExt cx="1079280" cy="1251720"/>
            </a:xfrm>
          </p:grpSpPr>
          <p:sp>
            <p:nvSpPr>
              <p:cNvPr id="1046" name=""/>
              <p:cNvSpPr/>
              <p:nvPr/>
            </p:nvSpPr>
            <p:spPr>
              <a:xfrm>
                <a:off x="6858000" y="1544760"/>
                <a:ext cx="107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2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959520" y="2153880"/>
                <a:ext cx="876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908760" y="2153880"/>
                <a:ext cx="97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6953400" y="2787480"/>
              <a:ext cx="888840" cy="1251720"/>
              <a:chOff x="6953400" y="2787480"/>
              <a:chExt cx="888840" cy="1251720"/>
            </a:xfrm>
          </p:grpSpPr>
          <p:sp>
            <p:nvSpPr>
              <p:cNvPr id="1050" name=""/>
              <p:cNvSpPr/>
              <p:nvPr/>
            </p:nvSpPr>
            <p:spPr>
              <a:xfrm>
                <a:off x="6984720" y="2787480"/>
                <a:ext cx="82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6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959520" y="3396600"/>
                <a:ext cx="875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953400" y="3396600"/>
                <a:ext cx="888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6248520" y="403848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6324480" y="4267080"/>
            <a:ext cx="1675800" cy="1686240"/>
            <a:chOff x="6324480" y="4267080"/>
            <a:chExt cx="1675800" cy="1686240"/>
          </a:xfrm>
        </p:grpSpPr>
        <p:grpSp>
          <p:nvGrpSpPr>
            <p:cNvPr id="1055" name=""/>
            <p:cNvGrpSpPr/>
            <p:nvPr/>
          </p:nvGrpSpPr>
          <p:grpSpPr>
            <a:xfrm>
              <a:off x="6765480" y="4267080"/>
              <a:ext cx="1234800" cy="1686240"/>
              <a:chOff x="6765480" y="4267080"/>
              <a:chExt cx="1234800" cy="1686240"/>
            </a:xfrm>
          </p:grpSpPr>
          <p:sp>
            <p:nvSpPr>
              <p:cNvPr id="1056" name=""/>
              <p:cNvSpPr/>
              <p:nvPr/>
            </p:nvSpPr>
            <p:spPr>
              <a:xfrm>
                <a:off x="6765480" y="4267080"/>
                <a:ext cx="12348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Comic Sans MS"/>
                  </a:rPr>
                  <a:t>269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40080" y="5189040"/>
                <a:ext cx="885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24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809400" y="5237280"/>
                <a:ext cx="114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6324480" y="4727880"/>
              <a:ext cx="437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2922480" y="4619520"/>
            <a:ext cx="2639520" cy="1782360"/>
            <a:chOff x="2922480" y="4619520"/>
            <a:chExt cx="2639520" cy="1782360"/>
          </a:xfrm>
        </p:grpSpPr>
        <p:sp>
          <p:nvSpPr>
            <p:cNvPr id="1061" name=""/>
            <p:cNvSpPr/>
            <p:nvPr/>
          </p:nvSpPr>
          <p:spPr>
            <a:xfrm>
              <a:off x="2922480" y="5051880"/>
              <a:ext cx="179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-1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2" name=""/>
            <p:cNvGrpSpPr/>
            <p:nvPr/>
          </p:nvGrpSpPr>
          <p:grpSpPr>
            <a:xfrm>
              <a:off x="4503960" y="4619520"/>
              <a:ext cx="1058040" cy="1782360"/>
              <a:chOff x="4503960" y="4619520"/>
              <a:chExt cx="1058040" cy="1782360"/>
            </a:xfrm>
          </p:grpSpPr>
          <p:sp>
            <p:nvSpPr>
              <p:cNvPr id="1063" name=""/>
              <p:cNvSpPr/>
              <p:nvPr/>
            </p:nvSpPr>
            <p:spPr>
              <a:xfrm>
                <a:off x="4710600" y="4619520"/>
                <a:ext cx="640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03960" y="5484960"/>
                <a:ext cx="1058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2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2800" y="5529960"/>
                <a:ext cx="895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1523880" y="1828800"/>
            <a:ext cx="60962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olving</a:t>
            </a:r>
            <a:endParaRPr b="0" lang="en-US" sz="6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Equations</a:t>
            </a:r>
            <a:endParaRPr b="0" lang="en-US" sz="6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rot="20355000">
            <a:off x="487440" y="1681920"/>
            <a:ext cx="2819520" cy="1312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Rememb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46716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+ 2 =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429000" y="2463840"/>
            <a:ext cx="2209680" cy="642600"/>
            <a:chOff x="3429000" y="2463840"/>
            <a:chExt cx="2209680" cy="642600"/>
          </a:xfrm>
        </p:grpSpPr>
        <p:sp>
          <p:nvSpPr>
            <p:cNvPr id="1071" name=""/>
            <p:cNvSpPr/>
            <p:nvPr/>
          </p:nvSpPr>
          <p:spPr>
            <a:xfrm>
              <a:off x="4050360" y="2463840"/>
              <a:ext cx="7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840920" y="2463840"/>
              <a:ext cx="7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29000" y="310500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3581280" y="3073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      =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390840" y="4133880"/>
            <a:ext cx="24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 – 8 = -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3352680" y="4616280"/>
            <a:ext cx="2364480" cy="642600"/>
            <a:chOff x="3352680" y="4616280"/>
            <a:chExt cx="2364480" cy="642600"/>
          </a:xfrm>
        </p:grpSpPr>
        <p:sp>
          <p:nvSpPr>
            <p:cNvPr id="1077" name=""/>
            <p:cNvSpPr/>
            <p:nvPr/>
          </p:nvSpPr>
          <p:spPr>
            <a:xfrm>
              <a:off x="3884040" y="461628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+ 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893480" y="461628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+ 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2680" y="525780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0" name=""/>
          <p:cNvSpPr/>
          <p:nvPr/>
        </p:nvSpPr>
        <p:spPr>
          <a:xfrm>
            <a:off x="3505320" y="5226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       =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628560" y="3048120"/>
            <a:ext cx="7905960" cy="1149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8560" y="1795320"/>
            <a:ext cx="7905960" cy="1251000"/>
          </a:xfrm>
          <a:prstGeom prst="rect">
            <a:avLst/>
          </a:prstGeom>
          <a:solidFill>
            <a:srgbClr val="ffdb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603520" y="1795320"/>
            <a:ext cx="1968480" cy="23893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38080" y="1981080"/>
            <a:ext cx="3048120" cy="1146600"/>
            <a:chOff x="838080" y="1981080"/>
            <a:chExt cx="3048120" cy="1146600"/>
          </a:xfrm>
        </p:grpSpPr>
        <p:sp>
          <p:nvSpPr>
            <p:cNvPr id="1086" name=""/>
            <p:cNvSpPr/>
            <p:nvPr/>
          </p:nvSpPr>
          <p:spPr>
            <a:xfrm>
              <a:off x="838080" y="223200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+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2057400" y="1981080"/>
              <a:ext cx="457200" cy="1146600"/>
              <a:chOff x="2057400" y="1981080"/>
              <a:chExt cx="457200" cy="1146600"/>
            </a:xfrm>
          </p:grpSpPr>
          <p:sp>
            <p:nvSpPr>
              <p:cNvPr id="1088" name=""/>
              <p:cNvSpPr/>
              <p:nvPr/>
            </p:nvSpPr>
            <p:spPr>
              <a:xfrm>
                <a:off x="2057400" y="19810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057400" y="25462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057400" y="25603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2590920" y="22320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3429000" y="1981080"/>
              <a:ext cx="457200" cy="1146600"/>
              <a:chOff x="3429000" y="1981080"/>
              <a:chExt cx="457200" cy="1146600"/>
            </a:xfrm>
          </p:grpSpPr>
          <p:sp>
            <p:nvSpPr>
              <p:cNvPr id="1093" name=""/>
              <p:cNvSpPr/>
              <p:nvPr/>
            </p:nvSpPr>
            <p:spPr>
              <a:xfrm>
                <a:off x="3429000" y="19810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429000" y="254628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429000" y="25603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"/>
          <p:cNvGrpSpPr/>
          <p:nvPr/>
        </p:nvGrpSpPr>
        <p:grpSpPr>
          <a:xfrm>
            <a:off x="685800" y="3046320"/>
            <a:ext cx="3276720" cy="1148400"/>
            <a:chOff x="685800" y="3046320"/>
            <a:chExt cx="3276720" cy="1148400"/>
          </a:xfrm>
        </p:grpSpPr>
        <p:sp>
          <p:nvSpPr>
            <p:cNvPr id="1097" name=""/>
            <p:cNvSpPr/>
            <p:nvPr/>
          </p:nvSpPr>
          <p:spPr>
            <a:xfrm>
              <a:off x="1295280" y="32986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2057400" y="3046320"/>
              <a:ext cx="457200" cy="1146600"/>
              <a:chOff x="2057400" y="3046320"/>
              <a:chExt cx="457200" cy="1146600"/>
            </a:xfrm>
          </p:grpSpPr>
          <p:sp>
            <p:nvSpPr>
              <p:cNvPr id="1099" name=""/>
              <p:cNvSpPr/>
              <p:nvPr/>
            </p:nvSpPr>
            <p:spPr>
              <a:xfrm>
                <a:off x="2057400" y="3046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057400" y="36115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057400" y="3625920"/>
                <a:ext cx="457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2" name=""/>
            <p:cNvSpPr/>
            <p:nvPr/>
          </p:nvSpPr>
          <p:spPr>
            <a:xfrm>
              <a:off x="2666880" y="32986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3429000" y="3048120"/>
              <a:ext cx="457200" cy="1146600"/>
              <a:chOff x="3429000" y="3048120"/>
              <a:chExt cx="457200" cy="1146600"/>
            </a:xfrm>
          </p:grpSpPr>
          <p:sp>
            <p:nvSpPr>
              <p:cNvPr id="1104" name=""/>
              <p:cNvSpPr/>
              <p:nvPr/>
            </p:nvSpPr>
            <p:spPr>
              <a:xfrm>
                <a:off x="3429000" y="30481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429000" y="3613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429000" y="3627360"/>
                <a:ext cx="457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7" name=""/>
            <p:cNvSpPr/>
            <p:nvPr/>
          </p:nvSpPr>
          <p:spPr>
            <a:xfrm>
              <a:off x="685800" y="4191120"/>
              <a:ext cx="3276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914400" y="45403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       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3886200" y="1935000"/>
            <a:ext cx="779400" cy="2251440"/>
            <a:chOff x="3886200" y="1935000"/>
            <a:chExt cx="779400" cy="2251440"/>
          </a:xfrm>
        </p:grpSpPr>
        <p:sp>
          <p:nvSpPr>
            <p:cNvPr id="1110" name=""/>
            <p:cNvSpPr/>
            <p:nvPr/>
          </p:nvSpPr>
          <p:spPr>
            <a:xfrm>
              <a:off x="3886200" y="1935000"/>
              <a:ext cx="77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886200" y="2514600"/>
              <a:ext cx="77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886200" y="3048120"/>
              <a:ext cx="77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886200" y="3605040"/>
              <a:ext cx="77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• 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4551480" y="1965240"/>
            <a:ext cx="1468440" cy="2221200"/>
            <a:chOff x="4551480" y="1965240"/>
            <a:chExt cx="1468440" cy="2221200"/>
          </a:xfrm>
        </p:grpSpPr>
        <p:sp>
          <p:nvSpPr>
            <p:cNvPr id="1115" name=""/>
            <p:cNvSpPr/>
            <p:nvPr/>
          </p:nvSpPr>
          <p:spPr>
            <a:xfrm>
              <a:off x="4551480" y="329868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&gt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51480" y="223200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&gt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5243400" y="1965240"/>
              <a:ext cx="736560" cy="1161000"/>
              <a:chOff x="5243400" y="1965240"/>
              <a:chExt cx="736560" cy="1161000"/>
            </a:xfrm>
          </p:grpSpPr>
          <p:sp>
            <p:nvSpPr>
              <p:cNvPr id="1118" name=""/>
              <p:cNvSpPr/>
              <p:nvPr/>
            </p:nvSpPr>
            <p:spPr>
              <a:xfrm>
                <a:off x="5275440" y="1965240"/>
                <a:ext cx="672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243400" y="2544840"/>
                <a:ext cx="73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Comic Sans MS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275440" y="2560680"/>
                <a:ext cx="67284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5267160" y="3048120"/>
              <a:ext cx="752760" cy="1138320"/>
              <a:chOff x="5267160" y="3048120"/>
              <a:chExt cx="752760" cy="1138320"/>
            </a:xfrm>
          </p:grpSpPr>
          <p:sp>
            <p:nvSpPr>
              <p:cNvPr id="1122" name=""/>
              <p:cNvSpPr/>
              <p:nvPr/>
            </p:nvSpPr>
            <p:spPr>
              <a:xfrm>
                <a:off x="5403960" y="3048120"/>
                <a:ext cx="47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286240" y="3605040"/>
                <a:ext cx="711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808080"/>
                    </a:solidFill>
                    <a:latin typeface="Comic Sans MS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5267160" y="3604680"/>
                <a:ext cx="752760" cy="1620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5" name=""/>
          <p:cNvSpPr/>
          <p:nvPr/>
        </p:nvSpPr>
        <p:spPr>
          <a:xfrm>
            <a:off x="6477120" y="1801800"/>
            <a:ext cx="2057400" cy="23893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6046920" y="1965240"/>
            <a:ext cx="2182680" cy="2231640"/>
            <a:chOff x="6046920" y="1965240"/>
            <a:chExt cx="2182680" cy="2231640"/>
          </a:xfrm>
        </p:grpSpPr>
        <p:sp>
          <p:nvSpPr>
            <p:cNvPr id="1127" name=""/>
            <p:cNvSpPr/>
            <p:nvPr/>
          </p:nvSpPr>
          <p:spPr>
            <a:xfrm>
              <a:off x="6046920" y="3298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046920" y="22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81680" y="22320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400800" y="32986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7257960" y="1965240"/>
              <a:ext cx="736560" cy="1160640"/>
              <a:chOff x="7257960" y="1965240"/>
              <a:chExt cx="736560" cy="1160640"/>
            </a:xfrm>
          </p:grpSpPr>
          <p:sp>
            <p:nvSpPr>
              <p:cNvPr id="1132" name=""/>
              <p:cNvSpPr/>
              <p:nvPr/>
            </p:nvSpPr>
            <p:spPr>
              <a:xfrm>
                <a:off x="7290000" y="1965240"/>
                <a:ext cx="672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257960" y="2544480"/>
                <a:ext cx="73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290000" y="2560680"/>
                <a:ext cx="67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7251840" y="3048120"/>
              <a:ext cx="752400" cy="1138320"/>
              <a:chOff x="7251840" y="3048120"/>
              <a:chExt cx="752400" cy="1138320"/>
            </a:xfrm>
          </p:grpSpPr>
          <p:sp>
            <p:nvSpPr>
              <p:cNvPr id="1136" name=""/>
              <p:cNvSpPr/>
              <p:nvPr/>
            </p:nvSpPr>
            <p:spPr>
              <a:xfrm>
                <a:off x="7388280" y="3048120"/>
                <a:ext cx="475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270560" y="3605040"/>
                <a:ext cx="711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7251840" y="3604680"/>
                <a:ext cx="752400" cy="1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9" name=""/>
            <p:cNvSpPr/>
            <p:nvPr/>
          </p:nvSpPr>
          <p:spPr>
            <a:xfrm flipV="1">
              <a:off x="6248520" y="4184280"/>
              <a:ext cx="198108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6781680" y="4349880"/>
            <a:ext cx="1222560" cy="1138320"/>
            <a:chOff x="6781680" y="4349880"/>
            <a:chExt cx="1222560" cy="1138320"/>
          </a:xfrm>
        </p:grpSpPr>
        <p:sp>
          <p:nvSpPr>
            <p:cNvPr id="1141" name=""/>
            <p:cNvSpPr/>
            <p:nvPr/>
          </p:nvSpPr>
          <p:spPr>
            <a:xfrm>
              <a:off x="6781680" y="4600440"/>
              <a:ext cx="3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7251840" y="4349880"/>
              <a:ext cx="752400" cy="1138320"/>
              <a:chOff x="7251840" y="4349880"/>
              <a:chExt cx="752400" cy="1138320"/>
            </a:xfrm>
          </p:grpSpPr>
          <p:sp>
            <p:nvSpPr>
              <p:cNvPr id="1143" name=""/>
              <p:cNvSpPr/>
              <p:nvPr/>
            </p:nvSpPr>
            <p:spPr>
              <a:xfrm>
                <a:off x="7388280" y="4349880"/>
                <a:ext cx="475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270560" y="4906800"/>
                <a:ext cx="711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7251840" y="4906440"/>
                <a:ext cx="752400" cy="15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6" name=""/>
          <p:cNvGrpSpPr/>
          <p:nvPr/>
        </p:nvGrpSpPr>
        <p:grpSpPr>
          <a:xfrm>
            <a:off x="3124080" y="4929120"/>
            <a:ext cx="2782440" cy="1683000"/>
            <a:chOff x="3124080" y="4929120"/>
            <a:chExt cx="2782440" cy="1683000"/>
          </a:xfrm>
        </p:grpSpPr>
        <p:sp>
          <p:nvSpPr>
            <p:cNvPr id="1147" name=""/>
            <p:cNvSpPr/>
            <p:nvPr/>
          </p:nvSpPr>
          <p:spPr>
            <a:xfrm>
              <a:off x="3124080" y="5337360"/>
              <a:ext cx="1803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x =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4859280" y="4929120"/>
              <a:ext cx="1047240" cy="1683000"/>
              <a:chOff x="4859280" y="4929120"/>
              <a:chExt cx="1047240" cy="1683000"/>
            </a:xfrm>
          </p:grpSpPr>
          <p:sp>
            <p:nvSpPr>
              <p:cNvPr id="1149" name=""/>
              <p:cNvSpPr/>
              <p:nvPr/>
            </p:nvSpPr>
            <p:spPr>
              <a:xfrm>
                <a:off x="5049000" y="4929120"/>
                <a:ext cx="662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885560" y="5847840"/>
                <a:ext cx="990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ff"/>
                    </a:solidFill>
                    <a:latin typeface="Comic Sans MS"/>
                  </a:rPr>
                  <a:t>20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4859280" y="5847840"/>
                <a:ext cx="1047240" cy="25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 txBox="1"/>
          <p:nvPr/>
        </p:nvSpPr>
        <p:spPr>
          <a:xfrm>
            <a:off x="1295280" y="182880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pplications</a:t>
            </a:r>
            <a:endParaRPr b="0" lang="en-US" sz="66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6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2286000"/>
            <a:ext cx="556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620120" cy="180972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609480" y="1523880"/>
            <a:ext cx="2210040" cy="914400"/>
          </a:xfrm>
          <a:prstGeom prst="wedgeRoundRectCallout">
            <a:avLst>
              <a:gd name="adj1" fmla="val 8333"/>
              <a:gd name="adj2" fmla="val 11649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Beats to a m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09480" y="4876920"/>
            <a:ext cx="2210040" cy="1447560"/>
          </a:xfrm>
          <a:prstGeom prst="wedgeRoundRectCallout">
            <a:avLst>
              <a:gd name="adj1" fmla="val 8476"/>
              <a:gd name="adj2" fmla="val -11545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quarter note gets one b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3276720" y="4737240"/>
                <a:ext cx="457488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7" name=""/>
              <p:cNvSpPr txBox="1"/>
              <p:nvPr/>
            </p:nvSpPr>
            <p:spPr>
              <a:xfrm>
                <a:off x="4076640" y="1371600"/>
                <a:ext cx="36194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8" name=""/>
          <p:cNvSpPr/>
          <p:nvPr/>
        </p:nvSpPr>
        <p:spPr>
          <a:xfrm flipH="1" flipV="1">
            <a:off x="4343400" y="2590920"/>
            <a:ext cx="114480" cy="6984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4686480" y="2617560"/>
            <a:ext cx="572760" cy="6872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5376960" y="2570040"/>
            <a:ext cx="772920" cy="4622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5992920" y="2409840"/>
            <a:ext cx="1149120" cy="549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2"/>
          <a:stretch/>
        </p:blipFill>
        <p:spPr>
          <a:xfrm>
            <a:off x="3009960" y="1523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3" dur="indefinite" restart="never" nodeType="tmRoot">
          <p:childTnLst>
            <p:seq>
              <p:cTn id="634" restart="whenNotActive" nodeType="interactiveSeq" fill="hold">
                <p:stCondLst>
                  <p:cond evt="onClick">
                    <p:tgtEl>
                      <p:spTgt spid="1162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162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8" dur="1" fill="hold"/>
                                        <p:tgtEl>
                                          <p:spTgt spid="1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87656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4229280" y="17524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 txBox="1"/>
          <p:nvPr/>
        </p:nvSpPr>
        <p:spPr>
          <a:xfrm>
            <a:off x="2362320" y="2362320"/>
            <a:ext cx="4562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usic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639" dur="indefinite" restart="never" nodeType="tmRoot">
          <p:childTnLst>
            <p:seq>
              <p:cTn id="640" restart="whenNotActive" nodeType="interactiveSeq" fill="hold">
                <p:stCondLst>
                  <p:cond evt="onClick">
                    <p:tgtEl>
                      <p:spTgt spid="1166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1166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4" dur="1" fill="hold"/>
                                        <p:tgtEl>
                                          <p:spTgt spid="1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69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743200" y="1981080"/>
            <a:ext cx="601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and subtract fractions us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their least common denominat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(L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3886200" y="3328920"/>
          <a:ext cx="4000680" cy="2914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328920"/>
                    <a:ext cx="400068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1" name=""/>
          <p:cNvGraphicFramePr/>
          <p:nvPr/>
        </p:nvGraphicFramePr>
        <p:xfrm>
          <a:off x="3924360" y="3160800"/>
          <a:ext cx="4305240" cy="3163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160800"/>
                    <a:ext cx="4305240" cy="31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23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19810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and subtract ration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xpressions using their L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4" name=""/>
          <p:cNvGraphicFramePr/>
          <p:nvPr/>
        </p:nvGraphicFramePr>
        <p:xfrm>
          <a:off x="3924360" y="3168720"/>
          <a:ext cx="4305240" cy="3155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168720"/>
                    <a:ext cx="430524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6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297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74320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and subtract mixed numb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using their L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7" name=""/>
          <p:cNvGraphicFramePr/>
          <p:nvPr/>
        </p:nvGraphicFramePr>
        <p:xfrm>
          <a:off x="3543480" y="2860560"/>
          <a:ext cx="4533840" cy="3400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3480" y="2860560"/>
                    <a:ext cx="4533840" cy="34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9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360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7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743200" y="20574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421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8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743200" y="20574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1" name=""/>
          <p:cNvGraphicFramePr/>
          <p:nvPr/>
        </p:nvGraphicFramePr>
        <p:xfrm>
          <a:off x="4114800" y="2857680"/>
          <a:ext cx="3962520" cy="2971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857680"/>
                    <a:ext cx="39625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914400" y="1905120"/>
            <a:ext cx="73152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raction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1600200"/>
            <a:ext cx="25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hod 1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2490840"/>
            <a:ext cx="1865520" cy="1800720"/>
            <a:chOff x="1523880" y="2490840"/>
            <a:chExt cx="1865520" cy="1800720"/>
          </a:xfrm>
        </p:grpSpPr>
        <p:grpSp>
          <p:nvGrpSpPr>
            <p:cNvPr id="230" name=""/>
            <p:cNvGrpSpPr/>
            <p:nvPr/>
          </p:nvGrpSpPr>
          <p:grpSpPr>
            <a:xfrm>
              <a:off x="1523880" y="2490840"/>
              <a:ext cx="577800" cy="1252440"/>
              <a:chOff x="1523880" y="2490840"/>
              <a:chExt cx="577800" cy="1252440"/>
            </a:xfrm>
          </p:grpSpPr>
          <p:sp>
            <p:nvSpPr>
              <p:cNvPr id="231" name=""/>
              <p:cNvSpPr/>
              <p:nvPr/>
            </p:nvSpPr>
            <p:spPr>
              <a:xfrm>
                <a:off x="1584000" y="249084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23880" y="3100680"/>
                <a:ext cx="57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553760" y="3116520"/>
                <a:ext cx="51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189880" y="2795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703600" y="2490840"/>
              <a:ext cx="685800" cy="1800720"/>
              <a:chOff x="2703600" y="2490840"/>
              <a:chExt cx="685800" cy="1800720"/>
            </a:xfrm>
          </p:grpSpPr>
          <p:sp>
            <p:nvSpPr>
              <p:cNvPr id="236" name=""/>
              <p:cNvSpPr/>
              <p:nvPr/>
            </p:nvSpPr>
            <p:spPr>
              <a:xfrm>
                <a:off x="2845080" y="2490840"/>
                <a:ext cx="40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03600" y="310032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33840" y="311616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3492720" y="2490840"/>
            <a:ext cx="4103640" cy="1252080"/>
            <a:chOff x="3492720" y="2490840"/>
            <a:chExt cx="4103640" cy="1252080"/>
          </a:xfrm>
        </p:grpSpPr>
        <p:sp>
          <p:nvSpPr>
            <p:cNvPr id="240" name=""/>
            <p:cNvSpPr/>
            <p:nvPr/>
          </p:nvSpPr>
          <p:spPr>
            <a:xfrm>
              <a:off x="3492720" y="2795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062240" y="2490840"/>
              <a:ext cx="1495440" cy="1252080"/>
              <a:chOff x="4062240" y="2490840"/>
              <a:chExt cx="1495440" cy="1252080"/>
            </a:xfrm>
          </p:grpSpPr>
          <p:sp>
            <p:nvSpPr>
              <p:cNvPr id="242" name=""/>
              <p:cNvSpPr/>
              <p:nvPr/>
            </p:nvSpPr>
            <p:spPr>
              <a:xfrm>
                <a:off x="4167000" y="2490840"/>
                <a:ext cx="1285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(10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167000" y="3100320"/>
                <a:ext cx="1285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(10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062240" y="3116160"/>
                <a:ext cx="149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655600" y="2795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6194520" y="2490840"/>
              <a:ext cx="1401840" cy="1252080"/>
              <a:chOff x="6194520" y="2490840"/>
              <a:chExt cx="1401840" cy="1252080"/>
            </a:xfrm>
          </p:grpSpPr>
          <p:sp>
            <p:nvSpPr>
              <p:cNvPr id="247" name=""/>
              <p:cNvSpPr/>
              <p:nvPr/>
            </p:nvSpPr>
            <p:spPr>
              <a:xfrm>
                <a:off x="6363000" y="249084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(5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53200" y="3100320"/>
                <a:ext cx="1287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(5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94520" y="3116160"/>
                <a:ext cx="140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1968480" y="4235400"/>
            <a:ext cx="2698560" cy="1252080"/>
            <a:chOff x="1968480" y="4235400"/>
            <a:chExt cx="2698560" cy="1252080"/>
          </a:xfrm>
        </p:grpSpPr>
        <p:grpSp>
          <p:nvGrpSpPr>
            <p:cNvPr id="251" name=""/>
            <p:cNvGrpSpPr/>
            <p:nvPr/>
          </p:nvGrpSpPr>
          <p:grpSpPr>
            <a:xfrm>
              <a:off x="2498760" y="4235400"/>
              <a:ext cx="803160" cy="1252080"/>
              <a:chOff x="2498760" y="4235400"/>
              <a:chExt cx="803160" cy="1252080"/>
            </a:xfrm>
          </p:grpSpPr>
          <p:sp>
            <p:nvSpPr>
              <p:cNvPr id="252" name=""/>
              <p:cNvSpPr/>
              <p:nvPr/>
            </p:nvSpPr>
            <p:spPr>
              <a:xfrm>
                <a:off x="2528640" y="4235400"/>
                <a:ext cx="744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14600" y="4844880"/>
                <a:ext cx="772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98760" y="4869000"/>
                <a:ext cx="80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369600" y="4540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3832200" y="4235400"/>
              <a:ext cx="834840" cy="1252080"/>
              <a:chOff x="3832200" y="4235400"/>
              <a:chExt cx="834840" cy="1252080"/>
            </a:xfrm>
          </p:grpSpPr>
          <p:sp>
            <p:nvSpPr>
              <p:cNvPr id="257" name=""/>
              <p:cNvSpPr/>
              <p:nvPr/>
            </p:nvSpPr>
            <p:spPr>
              <a:xfrm>
                <a:off x="3981240" y="4235400"/>
                <a:ext cx="534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32200" y="4844880"/>
                <a:ext cx="83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06720" y="4861080"/>
                <a:ext cx="6840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968480" y="4540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72080" y="4235400"/>
            <a:ext cx="1333440" cy="1252080"/>
            <a:chOff x="4672080" y="4235400"/>
            <a:chExt cx="1333440" cy="1252080"/>
          </a:xfrm>
        </p:grpSpPr>
        <p:grpSp>
          <p:nvGrpSpPr>
            <p:cNvPr id="262" name=""/>
            <p:cNvGrpSpPr/>
            <p:nvPr/>
          </p:nvGrpSpPr>
          <p:grpSpPr>
            <a:xfrm>
              <a:off x="5202360" y="4235400"/>
              <a:ext cx="803160" cy="1252080"/>
              <a:chOff x="5202360" y="4235400"/>
              <a:chExt cx="803160" cy="125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5232240" y="4235400"/>
                <a:ext cx="744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18200" y="4844880"/>
                <a:ext cx="772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02360" y="4869000"/>
                <a:ext cx="80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4672080" y="4540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094440" y="4235400"/>
            <a:ext cx="1028520" cy="1252080"/>
            <a:chOff x="6094440" y="4235400"/>
            <a:chExt cx="1028520" cy="1252080"/>
          </a:xfrm>
        </p:grpSpPr>
        <p:grpSp>
          <p:nvGrpSpPr>
            <p:cNvPr id="268" name=""/>
            <p:cNvGrpSpPr/>
            <p:nvPr/>
          </p:nvGrpSpPr>
          <p:grpSpPr>
            <a:xfrm>
              <a:off x="6624720" y="4235400"/>
              <a:ext cx="498240" cy="1252080"/>
              <a:chOff x="6624720" y="4235400"/>
              <a:chExt cx="498240" cy="1252080"/>
            </a:xfrm>
          </p:grpSpPr>
          <p:sp>
            <p:nvSpPr>
              <p:cNvPr id="269" name=""/>
              <p:cNvSpPr/>
              <p:nvPr/>
            </p:nvSpPr>
            <p:spPr>
              <a:xfrm>
                <a:off x="6643440" y="4235400"/>
                <a:ext cx="46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634080" y="4844880"/>
                <a:ext cx="479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624720" y="4869000"/>
                <a:ext cx="4982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6094440" y="4540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1600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hod 2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772640" y="2916360"/>
            <a:ext cx="1275480" cy="3043440"/>
            <a:chOff x="1772640" y="2916360"/>
            <a:chExt cx="1275480" cy="3043440"/>
          </a:xfrm>
        </p:grpSpPr>
        <p:grpSp>
          <p:nvGrpSpPr>
            <p:cNvPr id="276" name=""/>
            <p:cNvGrpSpPr/>
            <p:nvPr/>
          </p:nvGrpSpPr>
          <p:grpSpPr>
            <a:xfrm>
              <a:off x="2340360" y="2916360"/>
              <a:ext cx="577800" cy="1252440"/>
              <a:chOff x="2340360" y="2916360"/>
              <a:chExt cx="577800" cy="1252440"/>
            </a:xfrm>
          </p:grpSpPr>
          <p:sp>
            <p:nvSpPr>
              <p:cNvPr id="277" name=""/>
              <p:cNvSpPr/>
              <p:nvPr/>
            </p:nvSpPr>
            <p:spPr>
              <a:xfrm>
                <a:off x="2400480" y="291636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40360" y="3526200"/>
                <a:ext cx="57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70240" y="3542040"/>
                <a:ext cx="51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1772640" y="4464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2286360" y="4159080"/>
              <a:ext cx="685800" cy="1800720"/>
              <a:chOff x="2286360" y="4159080"/>
              <a:chExt cx="685800" cy="1800720"/>
            </a:xfrm>
          </p:grpSpPr>
          <p:sp>
            <p:nvSpPr>
              <p:cNvPr id="282" name=""/>
              <p:cNvSpPr/>
              <p:nvPr/>
            </p:nvSpPr>
            <p:spPr>
              <a:xfrm>
                <a:off x="2427840" y="4159080"/>
                <a:ext cx="40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360" y="476856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6600" y="478440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868760" y="5410080"/>
              <a:ext cx="117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362320" y="2438280"/>
            <a:ext cx="4952160" cy="2895840"/>
            <a:chOff x="2362320" y="2438280"/>
            <a:chExt cx="4952160" cy="2895840"/>
          </a:xfrm>
        </p:grpSpPr>
        <p:grpSp>
          <p:nvGrpSpPr>
            <p:cNvPr id="287" name=""/>
            <p:cNvGrpSpPr/>
            <p:nvPr/>
          </p:nvGrpSpPr>
          <p:grpSpPr>
            <a:xfrm>
              <a:off x="2362320" y="2438280"/>
              <a:ext cx="4838040" cy="1609920"/>
              <a:chOff x="2362320" y="2438280"/>
              <a:chExt cx="4838040" cy="1609920"/>
            </a:xfrm>
          </p:grpSpPr>
          <p:sp>
            <p:nvSpPr>
              <p:cNvPr id="288" name=""/>
              <p:cNvSpPr/>
              <p:nvPr/>
            </p:nvSpPr>
            <p:spPr>
              <a:xfrm>
                <a:off x="4381560" y="2438280"/>
                <a:ext cx="22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multiple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848040" y="3220920"/>
                <a:ext cx="335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, 10, 15, 20 …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362320" y="3557520"/>
                <a:ext cx="490320" cy="490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29040" y="3276720"/>
                <a:ext cx="489960" cy="4903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92" name=""/>
              <p:cNvCxnSpPr>
                <a:stCxn id="290" idx="6"/>
                <a:endCxn id="291" idx="2"/>
              </p:cNvCxnSpPr>
              <p:nvPr/>
            </p:nvCxnSpPr>
            <p:spPr>
              <a:xfrm flipV="1">
                <a:off x="2852280" y="3521880"/>
                <a:ext cx="1076760" cy="28188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</p:grpSp>
        <p:grpSp>
          <p:nvGrpSpPr>
            <p:cNvPr id="293" name=""/>
            <p:cNvGrpSpPr/>
            <p:nvPr/>
          </p:nvGrpSpPr>
          <p:grpSpPr>
            <a:xfrm>
              <a:off x="2438280" y="4464000"/>
              <a:ext cx="4876200" cy="870120"/>
              <a:chOff x="2438280" y="4464000"/>
              <a:chExt cx="4876200" cy="870120"/>
            </a:xfrm>
          </p:grpSpPr>
          <p:sp>
            <p:nvSpPr>
              <p:cNvPr id="294" name=""/>
              <p:cNvSpPr/>
              <p:nvPr/>
            </p:nvSpPr>
            <p:spPr>
              <a:xfrm>
                <a:off x="3733200" y="4464000"/>
                <a:ext cx="358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, 20, 30, 40 …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38280" y="4843440"/>
                <a:ext cx="490320" cy="490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76040" y="4538520"/>
                <a:ext cx="490320" cy="490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97" name=""/>
              <p:cNvCxnSpPr>
                <a:stCxn id="295" idx="6"/>
                <a:endCxn id="296" idx="2"/>
              </p:cNvCxnSpPr>
              <p:nvPr/>
            </p:nvCxnSpPr>
            <p:spPr>
              <a:xfrm flipV="1">
                <a:off x="2928240" y="4784040"/>
                <a:ext cx="847800" cy="30564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98" name=""/>
          <p:cNvGrpSpPr/>
          <p:nvPr/>
        </p:nvGrpSpPr>
        <p:grpSpPr>
          <a:xfrm>
            <a:off x="3733920" y="3200400"/>
            <a:ext cx="1371600" cy="1905120"/>
            <a:chOff x="3733920" y="3200400"/>
            <a:chExt cx="1371600" cy="1905120"/>
          </a:xfrm>
        </p:grpSpPr>
        <p:sp>
          <p:nvSpPr>
            <p:cNvPr id="299" name=""/>
            <p:cNvSpPr/>
            <p:nvPr/>
          </p:nvSpPr>
          <p:spPr>
            <a:xfrm>
              <a:off x="3733920" y="4464000"/>
              <a:ext cx="647640" cy="64152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19720" y="3200400"/>
              <a:ext cx="685800" cy="64152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1447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hod 2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125800" y="2133720"/>
            <a:ext cx="6179760" cy="1191240"/>
            <a:chOff x="2125800" y="2133720"/>
            <a:chExt cx="6179760" cy="1191240"/>
          </a:xfrm>
        </p:grpSpPr>
        <p:sp>
          <p:nvSpPr>
            <p:cNvPr id="304" name=""/>
            <p:cNvSpPr/>
            <p:nvPr/>
          </p:nvSpPr>
          <p:spPr>
            <a:xfrm>
              <a:off x="2125800" y="2408400"/>
              <a:ext cx="189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LCD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0040" y="2133720"/>
              <a:ext cx="4385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L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owest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ommon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D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enominat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152960" y="3613320"/>
            <a:ext cx="457200" cy="1874160"/>
            <a:chOff x="4152960" y="3613320"/>
            <a:chExt cx="457200" cy="1874160"/>
          </a:xfrm>
        </p:grpSpPr>
        <p:sp>
          <p:nvSpPr>
            <p:cNvPr id="307" name=""/>
            <p:cNvSpPr/>
            <p:nvPr/>
          </p:nvSpPr>
          <p:spPr>
            <a:xfrm>
              <a:off x="4152960" y="36133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66ff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79960" y="4844880"/>
              <a:ext cx="40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66ff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848600" y="3613320"/>
            <a:ext cx="2951640" cy="3032640"/>
            <a:chOff x="1848600" y="3613320"/>
            <a:chExt cx="2951640" cy="3032640"/>
          </a:xfrm>
        </p:grpSpPr>
        <p:grpSp>
          <p:nvGrpSpPr>
            <p:cNvPr id="310" name=""/>
            <p:cNvGrpSpPr/>
            <p:nvPr/>
          </p:nvGrpSpPr>
          <p:grpSpPr>
            <a:xfrm>
              <a:off x="2415960" y="3613320"/>
              <a:ext cx="577800" cy="1220400"/>
              <a:chOff x="2415960" y="3613320"/>
              <a:chExt cx="577800" cy="1220400"/>
            </a:xfrm>
          </p:grpSpPr>
          <p:sp>
            <p:nvSpPr>
              <p:cNvPr id="311" name=""/>
              <p:cNvSpPr/>
              <p:nvPr/>
            </p:nvSpPr>
            <p:spPr>
              <a:xfrm>
                <a:off x="2476440" y="36133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15960" y="4191120"/>
                <a:ext cx="57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446200" y="4227480"/>
                <a:ext cx="51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848600" y="5149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2361960" y="4844880"/>
              <a:ext cx="685800" cy="1801080"/>
              <a:chOff x="2361960" y="4844880"/>
              <a:chExt cx="685800" cy="1801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503080" y="4844880"/>
                <a:ext cx="40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361960" y="545472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392200" y="5470560"/>
                <a:ext cx="62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944360" y="6095880"/>
              <a:ext cx="285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4191120"/>
              <a:ext cx="685800" cy="1191240"/>
              <a:chOff x="4038480" y="4191120"/>
              <a:chExt cx="685800" cy="1191240"/>
            </a:xfrm>
          </p:grpSpPr>
          <p:sp>
            <p:nvSpPr>
              <p:cNvPr id="321" name=""/>
              <p:cNvSpPr/>
              <p:nvPr/>
            </p:nvSpPr>
            <p:spPr>
              <a:xfrm>
                <a:off x="4038480" y="419112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095360" y="4227480"/>
                <a:ext cx="5716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038480" y="5454720"/>
              <a:ext cx="685800" cy="1191240"/>
              <a:chOff x="4038480" y="5454720"/>
              <a:chExt cx="685800" cy="1191240"/>
            </a:xfrm>
          </p:grpSpPr>
          <p:sp>
            <p:nvSpPr>
              <p:cNvPr id="324" name=""/>
              <p:cNvSpPr/>
              <p:nvPr/>
            </p:nvSpPr>
            <p:spPr>
              <a:xfrm>
                <a:off x="4038480" y="545472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68360" y="5470560"/>
                <a:ext cx="62568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2895480" y="4192560"/>
            <a:ext cx="806400" cy="1904760"/>
            <a:chOff x="2895480" y="4192560"/>
            <a:chExt cx="806400" cy="1904760"/>
          </a:xfrm>
        </p:grpSpPr>
        <p:sp>
          <p:nvSpPr>
            <p:cNvPr id="327" name=""/>
            <p:cNvSpPr/>
            <p:nvPr/>
          </p:nvSpPr>
          <p:spPr>
            <a:xfrm>
              <a:off x="2895480" y="4192560"/>
              <a:ext cx="80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95480" y="5454720"/>
              <a:ext cx="80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895480" y="3614760"/>
            <a:ext cx="806400" cy="1872720"/>
            <a:chOff x="2895480" y="3614760"/>
            <a:chExt cx="806400" cy="1872720"/>
          </a:xfrm>
        </p:grpSpPr>
        <p:sp>
          <p:nvSpPr>
            <p:cNvPr id="330" name=""/>
            <p:cNvSpPr/>
            <p:nvPr/>
          </p:nvSpPr>
          <p:spPr>
            <a:xfrm>
              <a:off x="2895480" y="3614760"/>
              <a:ext cx="80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95480" y="4844880"/>
              <a:ext cx="80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222880" y="4229280"/>
            <a:ext cx="1177920" cy="1800360"/>
            <a:chOff x="5222880" y="4229280"/>
            <a:chExt cx="1177920" cy="1800360"/>
          </a:xfrm>
        </p:grpSpPr>
        <p:sp>
          <p:nvSpPr>
            <p:cNvPr id="333" name=""/>
            <p:cNvSpPr/>
            <p:nvPr/>
          </p:nvSpPr>
          <p:spPr>
            <a:xfrm>
              <a:off x="5222880" y="4533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715000" y="4229280"/>
              <a:ext cx="685800" cy="1800360"/>
              <a:chOff x="5715000" y="4229280"/>
              <a:chExt cx="685800" cy="1800360"/>
            </a:xfrm>
          </p:grpSpPr>
          <p:sp>
            <p:nvSpPr>
              <p:cNvPr id="335" name=""/>
              <p:cNvSpPr/>
              <p:nvPr/>
            </p:nvSpPr>
            <p:spPr>
              <a:xfrm>
                <a:off x="5800680" y="4229280"/>
                <a:ext cx="51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66ff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15000" y="483840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44880" y="485424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6664320" y="4229280"/>
            <a:ext cx="1107720" cy="1251720"/>
            <a:chOff x="6664320" y="4229280"/>
            <a:chExt cx="1107720" cy="1251720"/>
          </a:xfrm>
        </p:grpSpPr>
        <p:sp>
          <p:nvSpPr>
            <p:cNvPr id="339" name=""/>
            <p:cNvSpPr/>
            <p:nvPr/>
          </p:nvSpPr>
          <p:spPr>
            <a:xfrm>
              <a:off x="6664320" y="4533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7202160" y="4229280"/>
              <a:ext cx="569880" cy="1251720"/>
              <a:chOff x="7202160" y="4229280"/>
              <a:chExt cx="569880" cy="1251720"/>
            </a:xfrm>
          </p:grpSpPr>
          <p:sp>
            <p:nvSpPr>
              <p:cNvPr id="341" name=""/>
              <p:cNvSpPr/>
              <p:nvPr/>
            </p:nvSpPr>
            <p:spPr>
              <a:xfrm>
                <a:off x="7278480" y="4229280"/>
                <a:ext cx="41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9966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230960" y="4838400"/>
                <a:ext cx="51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9966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7202160" y="4853880"/>
                <a:ext cx="569880" cy="15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885320" y="3352680"/>
            <a:ext cx="3981960" cy="1800720"/>
            <a:chOff x="1885320" y="3352680"/>
            <a:chExt cx="3981960" cy="1800720"/>
          </a:xfrm>
        </p:grpSpPr>
        <p:grpSp>
          <p:nvGrpSpPr>
            <p:cNvPr id="346" name=""/>
            <p:cNvGrpSpPr/>
            <p:nvPr/>
          </p:nvGrpSpPr>
          <p:grpSpPr>
            <a:xfrm>
              <a:off x="2424240" y="3368520"/>
              <a:ext cx="2438280" cy="1219320"/>
              <a:chOff x="2424240" y="3368520"/>
              <a:chExt cx="2438280" cy="1219320"/>
            </a:xfrm>
          </p:grpSpPr>
          <p:sp>
            <p:nvSpPr>
              <p:cNvPr id="347" name=""/>
              <p:cNvSpPr/>
              <p:nvPr/>
            </p:nvSpPr>
            <p:spPr>
              <a:xfrm>
                <a:off x="2424240" y="3368520"/>
                <a:ext cx="485640" cy="6080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09880" y="3368520"/>
                <a:ext cx="4856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02000" y="3368520"/>
                <a:ext cx="4874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89440" y="3368520"/>
                <a:ext cx="4874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424240" y="3979800"/>
                <a:ext cx="4856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09880" y="3979800"/>
                <a:ext cx="4856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02000" y="3979800"/>
                <a:ext cx="4874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89440" y="3979800"/>
                <a:ext cx="4874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76880" y="3368520"/>
                <a:ext cx="4856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76880" y="3979800"/>
                <a:ext cx="4856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1885320" y="3657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181480" y="3352680"/>
              <a:ext cx="685800" cy="1800720"/>
              <a:chOff x="5181480" y="3352680"/>
              <a:chExt cx="685800" cy="1800720"/>
            </a:xfrm>
          </p:grpSpPr>
          <p:sp>
            <p:nvSpPr>
              <p:cNvPr id="359" name=""/>
              <p:cNvSpPr/>
              <p:nvPr/>
            </p:nvSpPr>
            <p:spPr>
              <a:xfrm>
                <a:off x="5322960" y="3352680"/>
                <a:ext cx="40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81480" y="396216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11720" y="397800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"/>
          <p:cNvGrpSpPr/>
          <p:nvPr/>
        </p:nvGrpSpPr>
        <p:grpSpPr>
          <a:xfrm>
            <a:off x="2424240" y="1763640"/>
            <a:ext cx="4814280" cy="1273320"/>
            <a:chOff x="2424240" y="1763640"/>
            <a:chExt cx="4814280" cy="1273320"/>
          </a:xfrm>
        </p:grpSpPr>
        <p:grpSp>
          <p:nvGrpSpPr>
            <p:cNvPr id="363" name=""/>
            <p:cNvGrpSpPr/>
            <p:nvPr/>
          </p:nvGrpSpPr>
          <p:grpSpPr>
            <a:xfrm>
              <a:off x="2424240" y="2390760"/>
              <a:ext cx="2414160" cy="646200"/>
              <a:chOff x="2424240" y="2390760"/>
              <a:chExt cx="2414160" cy="646200"/>
            </a:xfrm>
          </p:grpSpPr>
          <p:sp>
            <p:nvSpPr>
              <p:cNvPr id="364" name=""/>
              <p:cNvSpPr/>
              <p:nvPr/>
            </p:nvSpPr>
            <p:spPr>
              <a:xfrm>
                <a:off x="2424240" y="2390760"/>
                <a:ext cx="490680" cy="646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85760" y="2390760"/>
                <a:ext cx="490680" cy="646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363480" y="2390760"/>
                <a:ext cx="492120" cy="64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55960" y="2390760"/>
                <a:ext cx="492120" cy="64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48080" y="2390760"/>
                <a:ext cx="490320" cy="64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500880" y="1763640"/>
              <a:ext cx="737640" cy="1252440"/>
              <a:chOff x="6500880" y="1763640"/>
              <a:chExt cx="737640" cy="1252440"/>
            </a:xfrm>
          </p:grpSpPr>
          <p:sp>
            <p:nvSpPr>
              <p:cNvPr id="370" name=""/>
              <p:cNvSpPr/>
              <p:nvPr/>
            </p:nvSpPr>
            <p:spPr>
              <a:xfrm>
                <a:off x="6577560" y="1763640"/>
                <a:ext cx="58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500880" y="2373480"/>
                <a:ext cx="73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38680" y="2389320"/>
                <a:ext cx="660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846760" y="206856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&gt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33560" y="4876920"/>
            <a:ext cx="5381640" cy="1997280"/>
            <a:chOff x="1933560" y="4876920"/>
            <a:chExt cx="5381640" cy="1997280"/>
          </a:xfrm>
        </p:grpSpPr>
        <p:sp>
          <p:nvSpPr>
            <p:cNvPr id="375" name=""/>
            <p:cNvSpPr/>
            <p:nvPr/>
          </p:nvSpPr>
          <p:spPr>
            <a:xfrm>
              <a:off x="1933560" y="4876920"/>
              <a:ext cx="538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2438280" y="5091120"/>
              <a:ext cx="2438280" cy="1217520"/>
              <a:chOff x="2438280" y="5091120"/>
              <a:chExt cx="2438280" cy="1217520"/>
            </a:xfrm>
          </p:grpSpPr>
          <p:sp>
            <p:nvSpPr>
              <p:cNvPr id="377" name=""/>
              <p:cNvSpPr/>
              <p:nvPr/>
            </p:nvSpPr>
            <p:spPr>
              <a:xfrm>
                <a:off x="2438280" y="5091120"/>
                <a:ext cx="485640" cy="6080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23920" y="5091120"/>
                <a:ext cx="485640" cy="6080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416040" y="5091120"/>
                <a:ext cx="487440" cy="6080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03480" y="5091120"/>
                <a:ext cx="4874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438280" y="5700600"/>
                <a:ext cx="485640" cy="6080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23920" y="5700600"/>
                <a:ext cx="485640" cy="6080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416040" y="5700600"/>
                <a:ext cx="4874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03480" y="5700600"/>
                <a:ext cx="4874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390920" y="5091120"/>
                <a:ext cx="4856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390920" y="5700600"/>
                <a:ext cx="485640" cy="60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5181480" y="5073480"/>
              <a:ext cx="685800" cy="1800720"/>
              <a:chOff x="5181480" y="5073480"/>
              <a:chExt cx="685800" cy="1800720"/>
            </a:xfrm>
          </p:grpSpPr>
          <p:sp>
            <p:nvSpPr>
              <p:cNvPr id="388" name=""/>
              <p:cNvSpPr/>
              <p:nvPr/>
            </p:nvSpPr>
            <p:spPr>
              <a:xfrm>
                <a:off x="5322960" y="5073480"/>
                <a:ext cx="40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181480" y="568296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211720" y="569880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2424240" y="1752480"/>
            <a:ext cx="3389040" cy="1274760"/>
            <a:chOff x="2424240" y="1752480"/>
            <a:chExt cx="3389040" cy="1274760"/>
          </a:xfrm>
        </p:grpSpPr>
        <p:grpSp>
          <p:nvGrpSpPr>
            <p:cNvPr id="392" name=""/>
            <p:cNvGrpSpPr/>
            <p:nvPr/>
          </p:nvGrpSpPr>
          <p:grpSpPr>
            <a:xfrm>
              <a:off x="2424240" y="1752480"/>
              <a:ext cx="2414160" cy="1272960"/>
              <a:chOff x="2424240" y="1752480"/>
              <a:chExt cx="2414160" cy="1272960"/>
            </a:xfrm>
          </p:grpSpPr>
          <p:sp>
            <p:nvSpPr>
              <p:cNvPr id="393" name=""/>
              <p:cNvSpPr/>
              <p:nvPr/>
            </p:nvSpPr>
            <p:spPr>
              <a:xfrm>
                <a:off x="2424240" y="1752480"/>
                <a:ext cx="490680" cy="12729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85760" y="1752480"/>
                <a:ext cx="490680" cy="12729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363480" y="1752480"/>
                <a:ext cx="492120" cy="1272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55960" y="1752480"/>
                <a:ext cx="492120" cy="1272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48080" y="1752480"/>
                <a:ext cx="490320" cy="1272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235480" y="1774800"/>
              <a:ext cx="577800" cy="1252440"/>
              <a:chOff x="5235480" y="1774800"/>
              <a:chExt cx="577800" cy="1252440"/>
            </a:xfrm>
          </p:grpSpPr>
          <p:sp>
            <p:nvSpPr>
              <p:cNvPr id="399" name=""/>
              <p:cNvSpPr/>
              <p:nvPr/>
            </p:nvSpPr>
            <p:spPr>
              <a:xfrm>
                <a:off x="5295600" y="177480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35480" y="2384640"/>
                <a:ext cx="57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265360" y="2400480"/>
                <a:ext cx="51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4:13Z</dcterms:modified>
  <cp:revision>310</cp:revision>
  <dc:subject/>
  <dc:title>PowerPoint Presentation</dc:title>
</cp:coreProperties>
</file>