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1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3  Uni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3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1828800"/>
            <a:ext cx="7391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ots of Problem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8400" y="152388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70920" y="2575080"/>
            <a:ext cx="72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24 of 30 equivalent to 8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2720" y="3662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26480" y="3946680"/>
            <a:ext cx="13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09680" y="394668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81320" y="3962520"/>
            <a:ext cx="160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8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80440" y="519588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657600" y="15238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8 ft x 16 ft rug covers 80% of the floor of a room.  If the room is 16 ft long, how much wider must the rug be to cover the whole fl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52388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8 ft x 16 ft ru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overs 8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floor of a room.  If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room is 16 f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ong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wider must the rug b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cover the whole fl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09480" y="2960640"/>
            <a:ext cx="2882880" cy="2144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57720" y="127944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4000" y="516564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04960" y="1905120"/>
            <a:ext cx="2917800" cy="1252080"/>
            <a:chOff x="804960" y="1905120"/>
            <a:chExt cx="2917800" cy="1252080"/>
          </a:xfrm>
        </p:grpSpPr>
        <p:sp>
          <p:nvSpPr>
            <p:cNvPr id="294" name=""/>
            <p:cNvSpPr/>
            <p:nvPr/>
          </p:nvSpPr>
          <p:spPr>
            <a:xfrm>
              <a:off x="804960" y="1905120"/>
              <a:ext cx="291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0% cover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8080" y="251460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 ft x 16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379520" y="57592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wid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5130720"/>
            <a:ext cx="2286000" cy="1270080"/>
          </a:xfrm>
          <a:prstGeom prst="wedgeRectCallout">
            <a:avLst>
              <a:gd name="adj1" fmla="val -93402"/>
              <a:gd name="adj2" fmla="val 24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pends on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1676520"/>
            <a:ext cx="2286000" cy="685800"/>
          </a:xfrm>
          <a:prstGeom prst="wedgeRectCallout">
            <a:avLst>
              <a:gd name="adj1" fmla="val -159791"/>
              <a:gd name="adj2" fmla="val 29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2743200"/>
            <a:ext cx="2286000" cy="685800"/>
          </a:xfrm>
          <a:prstGeom prst="wedgeRectCallout">
            <a:avLst>
              <a:gd name="adj1" fmla="val -175208"/>
              <a:gd name="adj2" fmla="val -310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198880" y="3535200"/>
            <a:ext cx="5320440" cy="1646280"/>
            <a:chOff x="2198880" y="3535200"/>
            <a:chExt cx="5320440" cy="1646280"/>
          </a:xfrm>
        </p:grpSpPr>
        <p:sp>
          <p:nvSpPr>
            <p:cNvPr id="301" name=""/>
            <p:cNvSpPr/>
            <p:nvPr/>
          </p:nvSpPr>
          <p:spPr>
            <a:xfrm>
              <a:off x="2971800" y="3581280"/>
              <a:ext cx="234792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971800" y="3581280"/>
              <a:ext cx="234792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07920" y="3535200"/>
              <a:ext cx="114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6 f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971440" y="3809880"/>
              <a:ext cx="5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0600" y="3809880"/>
              <a:ext cx="51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8880" y="390060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644920" y="358092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44920" y="4419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26200" y="4038480"/>
              <a:ext cx="129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x ft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319720" y="4419720"/>
              <a:ext cx="776160" cy="533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775080" y="1523880"/>
            <a:ext cx="55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a of rug: 8 ft x 16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63520" y="1584360"/>
            <a:ext cx="21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28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8280" y="2514600"/>
            <a:ext cx="77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28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8400" y="358128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0.8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1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362320" y="4495680"/>
            <a:ext cx="4610160" cy="916920"/>
            <a:chOff x="2362320" y="4495680"/>
            <a:chExt cx="4610160" cy="916920"/>
          </a:xfrm>
        </p:grpSpPr>
        <p:sp>
          <p:nvSpPr>
            <p:cNvPr id="317" name=""/>
            <p:cNvSpPr/>
            <p:nvPr/>
          </p:nvSpPr>
          <p:spPr>
            <a:xfrm>
              <a:off x="2398680" y="449568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0.8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95680" y="449568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0.8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24560" y="4495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62320" y="44956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057400" y="129528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0.8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1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81320" y="2209680"/>
            <a:ext cx="4610160" cy="916920"/>
            <a:chOff x="2281320" y="2209680"/>
            <a:chExt cx="4610160" cy="916920"/>
          </a:xfrm>
        </p:grpSpPr>
        <p:sp>
          <p:nvSpPr>
            <p:cNvPr id="324" name=""/>
            <p:cNvSpPr/>
            <p:nvPr/>
          </p:nvSpPr>
          <p:spPr>
            <a:xfrm>
              <a:off x="2317680" y="220968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0.8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14680" y="220968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0.8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43560" y="22096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1320" y="22096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942280" y="3276720"/>
            <a:ext cx="34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160 ft</a:t>
            </a:r>
            <a:r>
              <a:rPr b="0" lang="en-US" sz="54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71320" y="4419720"/>
            <a:ext cx="62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16 ft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w ft =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 160 ft</a:t>
            </a:r>
            <a:r>
              <a:rPr b="0" lang="en-US" sz="54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87360" y="556272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 = 10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2441520" y="2239920"/>
            <a:ext cx="5320440" cy="1646280"/>
            <a:chOff x="2441520" y="2239920"/>
            <a:chExt cx="5320440" cy="1646280"/>
          </a:xfrm>
        </p:grpSpPr>
        <p:sp>
          <p:nvSpPr>
            <p:cNvPr id="333" name=""/>
            <p:cNvSpPr/>
            <p:nvPr/>
          </p:nvSpPr>
          <p:spPr>
            <a:xfrm>
              <a:off x="3214440" y="2286000"/>
              <a:ext cx="234792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14440" y="2286000"/>
              <a:ext cx="234792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50560" y="2239920"/>
              <a:ext cx="114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6 f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214080" y="2514600"/>
              <a:ext cx="59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43240" y="2514600"/>
              <a:ext cx="51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41520" y="260532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8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87560" y="2285640"/>
              <a:ext cx="0" cy="3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87560" y="3124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68840" y="2743200"/>
              <a:ext cx="129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x ft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562360" y="3124440"/>
              <a:ext cx="776160" cy="533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962080" y="121932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 = 10 f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91840" y="2286000"/>
            <a:ext cx="929160" cy="1600200"/>
            <a:chOff x="1491840" y="2286000"/>
            <a:chExt cx="929160" cy="1600200"/>
          </a:xfrm>
        </p:grpSpPr>
        <p:sp>
          <p:nvSpPr>
            <p:cNvPr id="345" name=""/>
            <p:cNvSpPr/>
            <p:nvPr/>
          </p:nvSpPr>
          <p:spPr>
            <a:xfrm>
              <a:off x="1491840" y="281952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10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981080" y="2286000"/>
              <a:ext cx="0" cy="457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3338640"/>
              <a:ext cx="0" cy="5475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69520" y="4098960"/>
            <a:ext cx="783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w width – old width = chan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4840" y="4724280"/>
            <a:ext cx="401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Comic Sans MS"/>
              </a:rPr>
              <a:t>10 f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8 ft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 f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599840" y="2286000"/>
            <a:ext cx="16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65280" y="342900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447920" y="3886200"/>
            <a:ext cx="17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3480" y="51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57080" y="5486400"/>
            <a:ext cx="523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ug must be 2 ft wid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cover the whol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08400" y="13716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53320" y="2117880"/>
            <a:ext cx="46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128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160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quivalent to 80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58360" y="3662280"/>
            <a:ext cx="104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6480" y="3946680"/>
            <a:ext cx="13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09680" y="394668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81320" y="3962520"/>
            <a:ext cx="160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8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80440" y="519588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762120" y="208908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mmission is a portion of sales earnings that a sales pers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e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82640" y="1295280"/>
            <a:ext cx="40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ommis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413160" y="3630600"/>
            <a:ext cx="4740120" cy="2684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74880" y="1996920"/>
            <a:ext cx="737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ick Sam, the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used ca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salesma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earns a commission of 17%.  If he manages to unload the Edsel for $4500, how much does he 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66960" y="1986120"/>
            <a:ext cx="737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ick Sam, the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used ca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salesma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earns a commission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7%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If he manages to unload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dsel for $45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does he ear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765440" y="1424160"/>
            <a:ext cx="3263760" cy="250488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504360" y="1981080"/>
            <a:ext cx="1933560" cy="2056680"/>
            <a:chOff x="504360" y="1981080"/>
            <a:chExt cx="1933560" cy="2056680"/>
          </a:xfrm>
        </p:grpSpPr>
        <p:sp>
          <p:nvSpPr>
            <p:cNvPr id="372" name=""/>
            <p:cNvSpPr/>
            <p:nvPr/>
          </p:nvSpPr>
          <p:spPr>
            <a:xfrm flipH="1">
              <a:off x="504000" y="2099520"/>
              <a:ext cx="1933560" cy="1938240"/>
            </a:xfrm>
            <a:custGeom>
              <a:avLst/>
              <a:gdLst/>
              <a:ahLst/>
              <a:rect l="l" t="t" r="r" b="b"/>
              <a:pathLst>
                <a:path w="2626" h="2088">
                  <a:moveTo>
                    <a:pt x="179" y="1571"/>
                  </a:moveTo>
                  <a:lnTo>
                    <a:pt x="196" y="1594"/>
                  </a:lnTo>
                  <a:lnTo>
                    <a:pt x="215" y="1617"/>
                  </a:lnTo>
                  <a:lnTo>
                    <a:pt x="235" y="1640"/>
                  </a:lnTo>
                  <a:lnTo>
                    <a:pt x="254" y="1662"/>
                  </a:lnTo>
                  <a:lnTo>
                    <a:pt x="275" y="1684"/>
                  </a:lnTo>
                  <a:lnTo>
                    <a:pt x="296" y="1706"/>
                  </a:lnTo>
                  <a:lnTo>
                    <a:pt x="319" y="1726"/>
                  </a:lnTo>
                  <a:lnTo>
                    <a:pt x="341" y="1747"/>
                  </a:lnTo>
                  <a:lnTo>
                    <a:pt x="365" y="1767"/>
                  </a:lnTo>
                  <a:lnTo>
                    <a:pt x="389" y="1786"/>
                  </a:lnTo>
                  <a:lnTo>
                    <a:pt x="413" y="1805"/>
                  </a:lnTo>
                  <a:lnTo>
                    <a:pt x="439" y="1823"/>
                  </a:lnTo>
                  <a:lnTo>
                    <a:pt x="464" y="1841"/>
                  </a:lnTo>
                  <a:lnTo>
                    <a:pt x="491" y="1859"/>
                  </a:lnTo>
                  <a:lnTo>
                    <a:pt x="518" y="1875"/>
                  </a:lnTo>
                  <a:lnTo>
                    <a:pt x="546" y="1892"/>
                  </a:lnTo>
                  <a:lnTo>
                    <a:pt x="574" y="1907"/>
                  </a:lnTo>
                  <a:lnTo>
                    <a:pt x="603" y="1922"/>
                  </a:lnTo>
                  <a:lnTo>
                    <a:pt x="632" y="1937"/>
                  </a:lnTo>
                  <a:lnTo>
                    <a:pt x="663" y="1951"/>
                  </a:lnTo>
                  <a:lnTo>
                    <a:pt x="693" y="1965"/>
                  </a:lnTo>
                  <a:lnTo>
                    <a:pt x="723" y="1977"/>
                  </a:lnTo>
                  <a:lnTo>
                    <a:pt x="755" y="1989"/>
                  </a:lnTo>
                  <a:lnTo>
                    <a:pt x="786" y="2000"/>
                  </a:lnTo>
                  <a:lnTo>
                    <a:pt x="819" y="2012"/>
                  </a:lnTo>
                  <a:lnTo>
                    <a:pt x="852" y="2022"/>
                  </a:lnTo>
                  <a:lnTo>
                    <a:pt x="884" y="2032"/>
                  </a:lnTo>
                  <a:lnTo>
                    <a:pt x="918" y="2040"/>
                  </a:lnTo>
                  <a:lnTo>
                    <a:pt x="952" y="2049"/>
                  </a:lnTo>
                  <a:lnTo>
                    <a:pt x="986" y="2056"/>
                  </a:lnTo>
                  <a:lnTo>
                    <a:pt x="1021" y="2063"/>
                  </a:lnTo>
                  <a:lnTo>
                    <a:pt x="1056" y="2068"/>
                  </a:lnTo>
                  <a:lnTo>
                    <a:pt x="1072" y="2071"/>
                  </a:lnTo>
                  <a:lnTo>
                    <a:pt x="1087" y="2073"/>
                  </a:lnTo>
                  <a:lnTo>
                    <a:pt x="1104" y="2075"/>
                  </a:lnTo>
                  <a:lnTo>
                    <a:pt x="1119" y="2076"/>
                  </a:lnTo>
                  <a:lnTo>
                    <a:pt x="1135" y="2079"/>
                  </a:lnTo>
                  <a:lnTo>
                    <a:pt x="1152" y="2080"/>
                  </a:lnTo>
                  <a:lnTo>
                    <a:pt x="1167" y="2081"/>
                  </a:lnTo>
                  <a:lnTo>
                    <a:pt x="1183" y="2083"/>
                  </a:lnTo>
                  <a:lnTo>
                    <a:pt x="1199" y="2085"/>
                  </a:lnTo>
                  <a:lnTo>
                    <a:pt x="1216" y="2086"/>
                  </a:lnTo>
                  <a:lnTo>
                    <a:pt x="1232" y="2086"/>
                  </a:lnTo>
                  <a:lnTo>
                    <a:pt x="1248" y="2087"/>
                  </a:lnTo>
                  <a:lnTo>
                    <a:pt x="1265" y="2087"/>
                  </a:lnTo>
                  <a:lnTo>
                    <a:pt x="1281" y="2088"/>
                  </a:lnTo>
                  <a:lnTo>
                    <a:pt x="1297" y="2088"/>
                  </a:lnTo>
                  <a:lnTo>
                    <a:pt x="1314" y="2088"/>
                  </a:lnTo>
                  <a:lnTo>
                    <a:pt x="1364" y="2087"/>
                  </a:lnTo>
                  <a:lnTo>
                    <a:pt x="1414" y="2085"/>
                  </a:lnTo>
                  <a:lnTo>
                    <a:pt x="1464" y="2081"/>
                  </a:lnTo>
                  <a:lnTo>
                    <a:pt x="1513" y="2076"/>
                  </a:lnTo>
                  <a:lnTo>
                    <a:pt x="1562" y="2070"/>
                  </a:lnTo>
                  <a:lnTo>
                    <a:pt x="1610" y="2062"/>
                  </a:lnTo>
                  <a:lnTo>
                    <a:pt x="1657" y="2052"/>
                  </a:lnTo>
                  <a:lnTo>
                    <a:pt x="1703" y="2041"/>
                  </a:lnTo>
                  <a:lnTo>
                    <a:pt x="1749" y="2029"/>
                  </a:lnTo>
                  <a:lnTo>
                    <a:pt x="1794" y="2015"/>
                  </a:lnTo>
                  <a:lnTo>
                    <a:pt x="1839" y="2000"/>
                  </a:lnTo>
                  <a:lnTo>
                    <a:pt x="1882" y="1985"/>
                  </a:lnTo>
                  <a:lnTo>
                    <a:pt x="1925" y="1968"/>
                  </a:lnTo>
                  <a:lnTo>
                    <a:pt x="1967" y="1950"/>
                  </a:lnTo>
                  <a:lnTo>
                    <a:pt x="2008" y="1930"/>
                  </a:lnTo>
                  <a:lnTo>
                    <a:pt x="2048" y="1909"/>
                  </a:lnTo>
                  <a:lnTo>
                    <a:pt x="2086" y="1889"/>
                  </a:lnTo>
                  <a:lnTo>
                    <a:pt x="2123" y="1866"/>
                  </a:lnTo>
                  <a:lnTo>
                    <a:pt x="2161" y="1841"/>
                  </a:lnTo>
                  <a:lnTo>
                    <a:pt x="2196" y="1817"/>
                  </a:lnTo>
                  <a:lnTo>
                    <a:pt x="2231" y="1791"/>
                  </a:lnTo>
                  <a:lnTo>
                    <a:pt x="2263" y="1764"/>
                  </a:lnTo>
                  <a:lnTo>
                    <a:pt x="2296" y="1737"/>
                  </a:lnTo>
                  <a:lnTo>
                    <a:pt x="2326" y="1709"/>
                  </a:lnTo>
                  <a:lnTo>
                    <a:pt x="2357" y="1679"/>
                  </a:lnTo>
                  <a:lnTo>
                    <a:pt x="2385" y="1649"/>
                  </a:lnTo>
                  <a:lnTo>
                    <a:pt x="2412" y="1618"/>
                  </a:lnTo>
                  <a:lnTo>
                    <a:pt x="2436" y="1586"/>
                  </a:lnTo>
                  <a:lnTo>
                    <a:pt x="2461" y="1554"/>
                  </a:lnTo>
                  <a:lnTo>
                    <a:pt x="2483" y="1520"/>
                  </a:lnTo>
                  <a:lnTo>
                    <a:pt x="2504" y="1486"/>
                  </a:lnTo>
                  <a:lnTo>
                    <a:pt x="2524" y="1451"/>
                  </a:lnTo>
                  <a:lnTo>
                    <a:pt x="2547" y="1404"/>
                  </a:lnTo>
                  <a:lnTo>
                    <a:pt x="2568" y="1355"/>
                  </a:lnTo>
                  <a:lnTo>
                    <a:pt x="2585" y="1306"/>
                  </a:lnTo>
                  <a:lnTo>
                    <a:pt x="2599" y="1255"/>
                  </a:lnTo>
                  <a:lnTo>
                    <a:pt x="2611" y="1203"/>
                  </a:lnTo>
                  <a:lnTo>
                    <a:pt x="2619" y="1152"/>
                  </a:lnTo>
                  <a:lnTo>
                    <a:pt x="2625" y="1099"/>
                  </a:lnTo>
                  <a:lnTo>
                    <a:pt x="2626" y="1044"/>
                  </a:lnTo>
                  <a:lnTo>
                    <a:pt x="2625" y="997"/>
                  </a:lnTo>
                  <a:lnTo>
                    <a:pt x="2622" y="951"/>
                  </a:lnTo>
                  <a:lnTo>
                    <a:pt x="2615" y="905"/>
                  </a:lnTo>
                  <a:lnTo>
                    <a:pt x="2606" y="860"/>
                  </a:lnTo>
                  <a:lnTo>
                    <a:pt x="2595" y="815"/>
                  </a:lnTo>
                  <a:lnTo>
                    <a:pt x="2581" y="771"/>
                  </a:lnTo>
                  <a:lnTo>
                    <a:pt x="2566" y="729"/>
                  </a:lnTo>
                  <a:lnTo>
                    <a:pt x="2547" y="686"/>
                  </a:lnTo>
                  <a:lnTo>
                    <a:pt x="2534" y="660"/>
                  </a:lnTo>
                  <a:lnTo>
                    <a:pt x="2520" y="633"/>
                  </a:lnTo>
                  <a:lnTo>
                    <a:pt x="2506" y="607"/>
                  </a:lnTo>
                  <a:lnTo>
                    <a:pt x="2491" y="581"/>
                  </a:lnTo>
                  <a:lnTo>
                    <a:pt x="2473" y="556"/>
                  </a:lnTo>
                  <a:lnTo>
                    <a:pt x="2457" y="531"/>
                  </a:lnTo>
                  <a:lnTo>
                    <a:pt x="2438" y="506"/>
                  </a:lnTo>
                  <a:lnTo>
                    <a:pt x="2420" y="482"/>
                  </a:lnTo>
                  <a:lnTo>
                    <a:pt x="2398" y="456"/>
                  </a:lnTo>
                  <a:lnTo>
                    <a:pt x="2374" y="429"/>
                  </a:lnTo>
                  <a:lnTo>
                    <a:pt x="2350" y="403"/>
                  </a:lnTo>
                  <a:lnTo>
                    <a:pt x="2324" y="379"/>
                  </a:lnTo>
                  <a:lnTo>
                    <a:pt x="2298" y="353"/>
                  </a:lnTo>
                  <a:lnTo>
                    <a:pt x="2270" y="330"/>
                  </a:lnTo>
                  <a:lnTo>
                    <a:pt x="2242" y="307"/>
                  </a:lnTo>
                  <a:lnTo>
                    <a:pt x="2213" y="284"/>
                  </a:lnTo>
                  <a:lnTo>
                    <a:pt x="2184" y="262"/>
                  </a:lnTo>
                  <a:lnTo>
                    <a:pt x="2154" y="242"/>
                  </a:lnTo>
                  <a:lnTo>
                    <a:pt x="2122" y="222"/>
                  </a:lnTo>
                  <a:lnTo>
                    <a:pt x="2090" y="202"/>
                  </a:lnTo>
                  <a:lnTo>
                    <a:pt x="2057" y="183"/>
                  </a:lnTo>
                  <a:lnTo>
                    <a:pt x="2023" y="165"/>
                  </a:lnTo>
                  <a:lnTo>
                    <a:pt x="1988" y="148"/>
                  </a:lnTo>
                  <a:lnTo>
                    <a:pt x="1953" y="132"/>
                  </a:lnTo>
                  <a:lnTo>
                    <a:pt x="1918" y="117"/>
                  </a:lnTo>
                  <a:lnTo>
                    <a:pt x="1881" y="102"/>
                  </a:lnTo>
                  <a:lnTo>
                    <a:pt x="1843" y="88"/>
                  </a:lnTo>
                  <a:lnTo>
                    <a:pt x="1806" y="76"/>
                  </a:lnTo>
                  <a:lnTo>
                    <a:pt x="1768" y="64"/>
                  </a:lnTo>
                  <a:lnTo>
                    <a:pt x="1729" y="53"/>
                  </a:lnTo>
                  <a:lnTo>
                    <a:pt x="1689" y="43"/>
                  </a:lnTo>
                  <a:lnTo>
                    <a:pt x="1650" y="34"/>
                  </a:lnTo>
                  <a:lnTo>
                    <a:pt x="1609" y="26"/>
                  </a:lnTo>
                  <a:lnTo>
                    <a:pt x="1568" y="19"/>
                  </a:lnTo>
                  <a:lnTo>
                    <a:pt x="1527" y="13"/>
                  </a:lnTo>
                  <a:lnTo>
                    <a:pt x="1485" y="9"/>
                  </a:lnTo>
                  <a:lnTo>
                    <a:pt x="1443" y="4"/>
                  </a:lnTo>
                  <a:lnTo>
                    <a:pt x="1400" y="2"/>
                  </a:lnTo>
                  <a:lnTo>
                    <a:pt x="1357" y="0"/>
                  </a:lnTo>
                  <a:lnTo>
                    <a:pt x="1314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5" y="2"/>
                  </a:lnTo>
                  <a:lnTo>
                    <a:pt x="1196" y="4"/>
                  </a:lnTo>
                  <a:lnTo>
                    <a:pt x="1167" y="7"/>
                  </a:lnTo>
                  <a:lnTo>
                    <a:pt x="1139" y="9"/>
                  </a:lnTo>
                  <a:lnTo>
                    <a:pt x="1110" y="12"/>
                  </a:lnTo>
                  <a:lnTo>
                    <a:pt x="1082" y="16"/>
                  </a:lnTo>
                  <a:lnTo>
                    <a:pt x="1054" y="20"/>
                  </a:lnTo>
                  <a:lnTo>
                    <a:pt x="1026" y="25"/>
                  </a:lnTo>
                  <a:lnTo>
                    <a:pt x="998" y="31"/>
                  </a:lnTo>
                  <a:lnTo>
                    <a:pt x="970" y="36"/>
                  </a:lnTo>
                  <a:lnTo>
                    <a:pt x="943" y="42"/>
                  </a:lnTo>
                  <a:lnTo>
                    <a:pt x="916" y="49"/>
                  </a:lnTo>
                  <a:lnTo>
                    <a:pt x="889" y="56"/>
                  </a:lnTo>
                  <a:lnTo>
                    <a:pt x="862" y="63"/>
                  </a:lnTo>
                  <a:lnTo>
                    <a:pt x="838" y="70"/>
                  </a:lnTo>
                  <a:lnTo>
                    <a:pt x="813" y="78"/>
                  </a:lnTo>
                  <a:lnTo>
                    <a:pt x="790" y="86"/>
                  </a:lnTo>
                  <a:lnTo>
                    <a:pt x="767" y="94"/>
                  </a:lnTo>
                  <a:lnTo>
                    <a:pt x="742" y="103"/>
                  </a:lnTo>
                  <a:lnTo>
                    <a:pt x="720" y="113"/>
                  </a:lnTo>
                  <a:lnTo>
                    <a:pt x="697" y="122"/>
                  </a:lnTo>
                  <a:lnTo>
                    <a:pt x="674" y="132"/>
                  </a:lnTo>
                  <a:lnTo>
                    <a:pt x="651" y="142"/>
                  </a:lnTo>
                  <a:lnTo>
                    <a:pt x="629" y="153"/>
                  </a:lnTo>
                  <a:lnTo>
                    <a:pt x="608" y="163"/>
                  </a:lnTo>
                  <a:lnTo>
                    <a:pt x="586" y="175"/>
                  </a:lnTo>
                  <a:lnTo>
                    <a:pt x="565" y="186"/>
                  </a:lnTo>
                  <a:lnTo>
                    <a:pt x="544" y="198"/>
                  </a:lnTo>
                  <a:lnTo>
                    <a:pt x="523" y="210"/>
                  </a:lnTo>
                  <a:lnTo>
                    <a:pt x="503" y="223"/>
                  </a:lnTo>
                  <a:lnTo>
                    <a:pt x="478" y="238"/>
                  </a:lnTo>
                  <a:lnTo>
                    <a:pt x="455" y="254"/>
                  </a:lnTo>
                  <a:lnTo>
                    <a:pt x="432" y="270"/>
                  </a:lnTo>
                  <a:lnTo>
                    <a:pt x="410" y="288"/>
                  </a:lnTo>
                  <a:lnTo>
                    <a:pt x="387" y="304"/>
                  </a:lnTo>
                  <a:lnTo>
                    <a:pt x="366" y="322"/>
                  </a:lnTo>
                  <a:lnTo>
                    <a:pt x="344" y="339"/>
                  </a:lnTo>
                  <a:lnTo>
                    <a:pt x="324" y="358"/>
                  </a:lnTo>
                  <a:lnTo>
                    <a:pt x="305" y="376"/>
                  </a:lnTo>
                  <a:lnTo>
                    <a:pt x="285" y="396"/>
                  </a:lnTo>
                  <a:lnTo>
                    <a:pt x="266" y="415"/>
                  </a:lnTo>
                  <a:lnTo>
                    <a:pt x="247" y="435"/>
                  </a:lnTo>
                  <a:lnTo>
                    <a:pt x="230" y="455"/>
                  </a:lnTo>
                  <a:lnTo>
                    <a:pt x="212" y="475"/>
                  </a:lnTo>
                  <a:lnTo>
                    <a:pt x="196" y="496"/>
                  </a:lnTo>
                  <a:lnTo>
                    <a:pt x="180" y="517"/>
                  </a:lnTo>
                  <a:lnTo>
                    <a:pt x="139" y="577"/>
                  </a:lnTo>
                  <a:lnTo>
                    <a:pt x="104" y="638"/>
                  </a:lnTo>
                  <a:lnTo>
                    <a:pt x="72" y="701"/>
                  </a:lnTo>
                  <a:lnTo>
                    <a:pt x="47" y="767"/>
                  </a:lnTo>
                  <a:lnTo>
                    <a:pt x="27" y="834"/>
                  </a:lnTo>
                  <a:lnTo>
                    <a:pt x="12" y="903"/>
                  </a:lnTo>
                  <a:lnTo>
                    <a:pt x="4" y="973"/>
                  </a:lnTo>
                  <a:lnTo>
                    <a:pt x="0" y="1044"/>
                  </a:lnTo>
                  <a:lnTo>
                    <a:pt x="4" y="1116"/>
                  </a:lnTo>
                  <a:lnTo>
                    <a:pt x="12" y="1186"/>
                  </a:lnTo>
                  <a:lnTo>
                    <a:pt x="27" y="1255"/>
                  </a:lnTo>
                  <a:lnTo>
                    <a:pt x="47" y="1322"/>
                  </a:lnTo>
                  <a:lnTo>
                    <a:pt x="72" y="1388"/>
                  </a:lnTo>
                  <a:lnTo>
                    <a:pt x="103" y="1451"/>
                  </a:lnTo>
                  <a:lnTo>
                    <a:pt x="138" y="1512"/>
                  </a:lnTo>
                  <a:lnTo>
                    <a:pt x="179" y="157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15240" y="3338280"/>
              <a:ext cx="993960" cy="699480"/>
            </a:xfrm>
            <a:custGeom>
              <a:avLst/>
              <a:gdLst/>
              <a:ahLst/>
              <a:rect l="l" t="t" r="r" b="b"/>
              <a:pathLst>
                <a:path w="1351" h="753">
                  <a:moveTo>
                    <a:pt x="797" y="0"/>
                  </a:moveTo>
                  <a:lnTo>
                    <a:pt x="316" y="324"/>
                  </a:lnTo>
                  <a:lnTo>
                    <a:pt x="9" y="633"/>
                  </a:lnTo>
                  <a:lnTo>
                    <a:pt x="0" y="743"/>
                  </a:lnTo>
                  <a:lnTo>
                    <a:pt x="12" y="744"/>
                  </a:lnTo>
                  <a:lnTo>
                    <a:pt x="23" y="745"/>
                  </a:lnTo>
                  <a:lnTo>
                    <a:pt x="34" y="746"/>
                  </a:lnTo>
                  <a:lnTo>
                    <a:pt x="45" y="747"/>
                  </a:lnTo>
                  <a:lnTo>
                    <a:pt x="57" y="748"/>
                  </a:lnTo>
                  <a:lnTo>
                    <a:pt x="69" y="748"/>
                  </a:lnTo>
                  <a:lnTo>
                    <a:pt x="80" y="750"/>
                  </a:lnTo>
                  <a:lnTo>
                    <a:pt x="92" y="751"/>
                  </a:lnTo>
                  <a:lnTo>
                    <a:pt x="104" y="751"/>
                  </a:lnTo>
                  <a:lnTo>
                    <a:pt x="117" y="752"/>
                  </a:lnTo>
                  <a:lnTo>
                    <a:pt x="128" y="752"/>
                  </a:lnTo>
                  <a:lnTo>
                    <a:pt x="140" y="752"/>
                  </a:lnTo>
                  <a:lnTo>
                    <a:pt x="152" y="753"/>
                  </a:lnTo>
                  <a:lnTo>
                    <a:pt x="163" y="753"/>
                  </a:lnTo>
                  <a:lnTo>
                    <a:pt x="176" y="753"/>
                  </a:lnTo>
                  <a:lnTo>
                    <a:pt x="188" y="753"/>
                  </a:lnTo>
                  <a:lnTo>
                    <a:pt x="234" y="752"/>
                  </a:lnTo>
                  <a:lnTo>
                    <a:pt x="281" y="751"/>
                  </a:lnTo>
                  <a:lnTo>
                    <a:pt x="328" y="747"/>
                  </a:lnTo>
                  <a:lnTo>
                    <a:pt x="373" y="743"/>
                  </a:lnTo>
                  <a:lnTo>
                    <a:pt x="419" y="737"/>
                  </a:lnTo>
                  <a:lnTo>
                    <a:pt x="464" y="730"/>
                  </a:lnTo>
                  <a:lnTo>
                    <a:pt x="509" y="722"/>
                  </a:lnTo>
                  <a:lnTo>
                    <a:pt x="552" y="713"/>
                  </a:lnTo>
                  <a:lnTo>
                    <a:pt x="595" y="702"/>
                  </a:lnTo>
                  <a:lnTo>
                    <a:pt x="637" y="690"/>
                  </a:lnTo>
                  <a:lnTo>
                    <a:pt x="679" y="677"/>
                  </a:lnTo>
                  <a:lnTo>
                    <a:pt x="720" y="663"/>
                  </a:lnTo>
                  <a:lnTo>
                    <a:pt x="761" y="649"/>
                  </a:lnTo>
                  <a:lnTo>
                    <a:pt x="800" y="633"/>
                  </a:lnTo>
                  <a:lnTo>
                    <a:pt x="839" y="616"/>
                  </a:lnTo>
                  <a:lnTo>
                    <a:pt x="876" y="597"/>
                  </a:lnTo>
                  <a:lnTo>
                    <a:pt x="913" y="579"/>
                  </a:lnTo>
                  <a:lnTo>
                    <a:pt x="950" y="559"/>
                  </a:lnTo>
                  <a:lnTo>
                    <a:pt x="986" y="539"/>
                  </a:lnTo>
                  <a:lnTo>
                    <a:pt x="1020" y="517"/>
                  </a:lnTo>
                  <a:lnTo>
                    <a:pt x="1053" y="494"/>
                  </a:lnTo>
                  <a:lnTo>
                    <a:pt x="1086" y="471"/>
                  </a:lnTo>
                  <a:lnTo>
                    <a:pt x="1118" y="447"/>
                  </a:lnTo>
                  <a:lnTo>
                    <a:pt x="1148" y="421"/>
                  </a:lnTo>
                  <a:lnTo>
                    <a:pt x="1177" y="395"/>
                  </a:lnTo>
                  <a:lnTo>
                    <a:pt x="1205" y="368"/>
                  </a:lnTo>
                  <a:lnTo>
                    <a:pt x="1233" y="341"/>
                  </a:lnTo>
                  <a:lnTo>
                    <a:pt x="1259" y="313"/>
                  </a:lnTo>
                  <a:lnTo>
                    <a:pt x="1283" y="284"/>
                  </a:lnTo>
                  <a:lnTo>
                    <a:pt x="1308" y="254"/>
                  </a:lnTo>
                  <a:lnTo>
                    <a:pt x="1330" y="224"/>
                  </a:lnTo>
                  <a:lnTo>
                    <a:pt x="1351" y="193"/>
                  </a:lnTo>
                  <a:lnTo>
                    <a:pt x="1197" y="11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877400" y="3048840"/>
              <a:ext cx="244440" cy="606960"/>
            </a:xfrm>
            <a:custGeom>
              <a:avLst/>
              <a:gdLst/>
              <a:ahLst/>
              <a:rect l="l" t="t" r="r" b="b"/>
              <a:pathLst>
                <a:path w="333" h="655">
                  <a:moveTo>
                    <a:pt x="297" y="621"/>
                  </a:moveTo>
                  <a:lnTo>
                    <a:pt x="259" y="465"/>
                  </a:lnTo>
                  <a:lnTo>
                    <a:pt x="261" y="455"/>
                  </a:lnTo>
                  <a:lnTo>
                    <a:pt x="265" y="431"/>
                  </a:lnTo>
                  <a:lnTo>
                    <a:pt x="272" y="400"/>
                  </a:lnTo>
                  <a:lnTo>
                    <a:pt x="284" y="368"/>
                  </a:lnTo>
                  <a:lnTo>
                    <a:pt x="292" y="352"/>
                  </a:lnTo>
                  <a:lnTo>
                    <a:pt x="301" y="338"/>
                  </a:lnTo>
                  <a:lnTo>
                    <a:pt x="311" y="324"/>
                  </a:lnTo>
                  <a:lnTo>
                    <a:pt x="319" y="313"/>
                  </a:lnTo>
                  <a:lnTo>
                    <a:pt x="326" y="302"/>
                  </a:lnTo>
                  <a:lnTo>
                    <a:pt x="331" y="292"/>
                  </a:lnTo>
                  <a:lnTo>
                    <a:pt x="333" y="284"/>
                  </a:lnTo>
                  <a:lnTo>
                    <a:pt x="333" y="276"/>
                  </a:lnTo>
                  <a:lnTo>
                    <a:pt x="325" y="266"/>
                  </a:lnTo>
                  <a:lnTo>
                    <a:pt x="313" y="265"/>
                  </a:lnTo>
                  <a:lnTo>
                    <a:pt x="298" y="269"/>
                  </a:lnTo>
                  <a:lnTo>
                    <a:pt x="282" y="277"/>
                  </a:lnTo>
                  <a:lnTo>
                    <a:pt x="265" y="286"/>
                  </a:lnTo>
                  <a:lnTo>
                    <a:pt x="252" y="295"/>
                  </a:lnTo>
                  <a:lnTo>
                    <a:pt x="243" y="302"/>
                  </a:lnTo>
                  <a:lnTo>
                    <a:pt x="240" y="304"/>
                  </a:lnTo>
                  <a:lnTo>
                    <a:pt x="237" y="291"/>
                  </a:lnTo>
                  <a:lnTo>
                    <a:pt x="231" y="253"/>
                  </a:lnTo>
                  <a:lnTo>
                    <a:pt x="222" y="201"/>
                  </a:lnTo>
                  <a:lnTo>
                    <a:pt x="210" y="141"/>
                  </a:lnTo>
                  <a:lnTo>
                    <a:pt x="196" y="83"/>
                  </a:lnTo>
                  <a:lnTo>
                    <a:pt x="182" y="35"/>
                  </a:lnTo>
                  <a:lnTo>
                    <a:pt x="168" y="5"/>
                  </a:lnTo>
                  <a:lnTo>
                    <a:pt x="154" y="0"/>
                  </a:lnTo>
                  <a:lnTo>
                    <a:pt x="144" y="19"/>
                  </a:lnTo>
                  <a:lnTo>
                    <a:pt x="137" y="49"/>
                  </a:lnTo>
                  <a:lnTo>
                    <a:pt x="135" y="86"/>
                  </a:lnTo>
                  <a:lnTo>
                    <a:pt x="135" y="126"/>
                  </a:lnTo>
                  <a:lnTo>
                    <a:pt x="136" y="165"/>
                  </a:lnTo>
                  <a:lnTo>
                    <a:pt x="138" y="197"/>
                  </a:lnTo>
                  <a:lnTo>
                    <a:pt x="139" y="220"/>
                  </a:lnTo>
                  <a:lnTo>
                    <a:pt x="140" y="230"/>
                  </a:lnTo>
                  <a:lnTo>
                    <a:pt x="95" y="232"/>
                  </a:lnTo>
                  <a:lnTo>
                    <a:pt x="76" y="258"/>
                  </a:lnTo>
                  <a:lnTo>
                    <a:pt x="35" y="278"/>
                  </a:lnTo>
                  <a:lnTo>
                    <a:pt x="35" y="321"/>
                  </a:lnTo>
                  <a:lnTo>
                    <a:pt x="0" y="347"/>
                  </a:lnTo>
                  <a:lnTo>
                    <a:pt x="54" y="445"/>
                  </a:lnTo>
                  <a:lnTo>
                    <a:pt x="126" y="508"/>
                  </a:lnTo>
                  <a:lnTo>
                    <a:pt x="151" y="655"/>
                  </a:lnTo>
                  <a:lnTo>
                    <a:pt x="297" y="62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867680" y="3562920"/>
              <a:ext cx="187560" cy="117000"/>
            </a:xfrm>
            <a:custGeom>
              <a:avLst/>
              <a:gdLst/>
              <a:ahLst/>
              <a:rect l="l" t="t" r="r" b="b"/>
              <a:pathLst>
                <a:path w="255" h="127">
                  <a:moveTo>
                    <a:pt x="22" y="127"/>
                  </a:moveTo>
                  <a:lnTo>
                    <a:pt x="0" y="17"/>
                  </a:lnTo>
                  <a:lnTo>
                    <a:pt x="228" y="0"/>
                  </a:lnTo>
                  <a:lnTo>
                    <a:pt x="255" y="127"/>
                  </a:lnTo>
                  <a:lnTo>
                    <a:pt x="2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738440" y="3650040"/>
              <a:ext cx="333360" cy="351000"/>
            </a:xfrm>
            <a:custGeom>
              <a:avLst/>
              <a:gdLst/>
              <a:ahLst/>
              <a:rect l="l" t="t" r="r" b="b"/>
              <a:pathLst>
                <a:path w="453" h="378">
                  <a:moveTo>
                    <a:pt x="0" y="22"/>
                  </a:moveTo>
                  <a:lnTo>
                    <a:pt x="32" y="212"/>
                  </a:lnTo>
                  <a:lnTo>
                    <a:pt x="55" y="226"/>
                  </a:lnTo>
                  <a:lnTo>
                    <a:pt x="80" y="238"/>
                  </a:lnTo>
                  <a:lnTo>
                    <a:pt x="104" y="251"/>
                  </a:lnTo>
                  <a:lnTo>
                    <a:pt x="129" y="264"/>
                  </a:lnTo>
                  <a:lnTo>
                    <a:pt x="154" y="276"/>
                  </a:lnTo>
                  <a:lnTo>
                    <a:pt x="179" y="288"/>
                  </a:lnTo>
                  <a:lnTo>
                    <a:pt x="206" y="298"/>
                  </a:lnTo>
                  <a:lnTo>
                    <a:pt x="231" y="309"/>
                  </a:lnTo>
                  <a:lnTo>
                    <a:pt x="258" y="319"/>
                  </a:lnTo>
                  <a:lnTo>
                    <a:pt x="285" y="329"/>
                  </a:lnTo>
                  <a:lnTo>
                    <a:pt x="312" y="339"/>
                  </a:lnTo>
                  <a:lnTo>
                    <a:pt x="340" y="347"/>
                  </a:lnTo>
                  <a:lnTo>
                    <a:pt x="368" y="356"/>
                  </a:lnTo>
                  <a:lnTo>
                    <a:pt x="396" y="364"/>
                  </a:lnTo>
                  <a:lnTo>
                    <a:pt x="424" y="371"/>
                  </a:lnTo>
                  <a:lnTo>
                    <a:pt x="453" y="378"/>
                  </a:lnTo>
                  <a:lnTo>
                    <a:pt x="29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447200" y="2967120"/>
              <a:ext cx="174600" cy="15408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0" y="81"/>
                  </a:moveTo>
                  <a:lnTo>
                    <a:pt x="0" y="166"/>
                  </a:lnTo>
                  <a:lnTo>
                    <a:pt x="238" y="150"/>
                  </a:lnTo>
                  <a:lnTo>
                    <a:pt x="21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431360" y="3165480"/>
              <a:ext cx="174600" cy="131760"/>
            </a:xfrm>
            <a:custGeom>
              <a:avLst/>
              <a:gdLst/>
              <a:ahLst/>
              <a:rect l="l" t="t" r="r" b="b"/>
              <a:pathLst>
                <a:path w="235" h="143">
                  <a:moveTo>
                    <a:pt x="4" y="107"/>
                  </a:moveTo>
                  <a:lnTo>
                    <a:pt x="2" y="85"/>
                  </a:lnTo>
                  <a:lnTo>
                    <a:pt x="1" y="5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232" y="0"/>
                  </a:lnTo>
                  <a:lnTo>
                    <a:pt x="235" y="143"/>
                  </a:lnTo>
                  <a:lnTo>
                    <a:pt x="4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32600" y="2090520"/>
              <a:ext cx="1119240" cy="1505520"/>
            </a:xfrm>
            <a:custGeom>
              <a:avLst/>
              <a:gdLst/>
              <a:ahLst/>
              <a:rect l="l" t="t" r="r" b="b"/>
              <a:pathLst>
                <a:path w="1520" h="1622">
                  <a:moveTo>
                    <a:pt x="697" y="0"/>
                  </a:moveTo>
                  <a:lnTo>
                    <a:pt x="290" y="104"/>
                  </a:lnTo>
                  <a:lnTo>
                    <a:pt x="129" y="369"/>
                  </a:lnTo>
                  <a:lnTo>
                    <a:pt x="156" y="561"/>
                  </a:lnTo>
                  <a:lnTo>
                    <a:pt x="0" y="880"/>
                  </a:lnTo>
                  <a:lnTo>
                    <a:pt x="274" y="932"/>
                  </a:lnTo>
                  <a:lnTo>
                    <a:pt x="255" y="1066"/>
                  </a:lnTo>
                  <a:lnTo>
                    <a:pt x="512" y="980"/>
                  </a:lnTo>
                  <a:lnTo>
                    <a:pt x="521" y="1015"/>
                  </a:lnTo>
                  <a:lnTo>
                    <a:pt x="527" y="1053"/>
                  </a:lnTo>
                  <a:lnTo>
                    <a:pt x="531" y="1092"/>
                  </a:lnTo>
                  <a:lnTo>
                    <a:pt x="532" y="1132"/>
                  </a:lnTo>
                  <a:lnTo>
                    <a:pt x="529" y="1170"/>
                  </a:lnTo>
                  <a:lnTo>
                    <a:pt x="524" y="1206"/>
                  </a:lnTo>
                  <a:lnTo>
                    <a:pt x="514" y="1239"/>
                  </a:lnTo>
                  <a:lnTo>
                    <a:pt x="503" y="1266"/>
                  </a:lnTo>
                  <a:lnTo>
                    <a:pt x="279" y="1256"/>
                  </a:lnTo>
                  <a:lnTo>
                    <a:pt x="297" y="1332"/>
                  </a:lnTo>
                  <a:lnTo>
                    <a:pt x="247" y="1511"/>
                  </a:lnTo>
                  <a:lnTo>
                    <a:pt x="524" y="1622"/>
                  </a:lnTo>
                  <a:lnTo>
                    <a:pt x="721" y="1443"/>
                  </a:lnTo>
                  <a:lnTo>
                    <a:pt x="802" y="1550"/>
                  </a:lnTo>
                  <a:lnTo>
                    <a:pt x="821" y="1589"/>
                  </a:lnTo>
                  <a:lnTo>
                    <a:pt x="1159" y="973"/>
                  </a:lnTo>
                  <a:lnTo>
                    <a:pt x="1520" y="26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1425600" y="2506320"/>
              <a:ext cx="285840" cy="148320"/>
            </a:xfrm>
            <a:custGeom>
              <a:avLst/>
              <a:gdLst/>
              <a:ahLst/>
              <a:rect l="l" t="t" r="r" b="b"/>
              <a:pathLst>
                <a:path w="388" h="161">
                  <a:moveTo>
                    <a:pt x="0" y="83"/>
                  </a:moveTo>
                  <a:lnTo>
                    <a:pt x="3" y="81"/>
                  </a:lnTo>
                  <a:lnTo>
                    <a:pt x="10" y="74"/>
                  </a:lnTo>
                  <a:lnTo>
                    <a:pt x="21" y="65"/>
                  </a:lnTo>
                  <a:lnTo>
                    <a:pt x="35" y="53"/>
                  </a:lnTo>
                  <a:lnTo>
                    <a:pt x="54" y="41"/>
                  </a:lnTo>
                  <a:lnTo>
                    <a:pt x="76" y="28"/>
                  </a:lnTo>
                  <a:lnTo>
                    <a:pt x="101" y="18"/>
                  </a:lnTo>
                  <a:lnTo>
                    <a:pt x="127" y="9"/>
                  </a:lnTo>
                  <a:lnTo>
                    <a:pt x="155" y="2"/>
                  </a:lnTo>
                  <a:lnTo>
                    <a:pt x="187" y="0"/>
                  </a:lnTo>
                  <a:lnTo>
                    <a:pt x="218" y="4"/>
                  </a:lnTo>
                  <a:lnTo>
                    <a:pt x="252" y="13"/>
                  </a:lnTo>
                  <a:lnTo>
                    <a:pt x="286" y="29"/>
                  </a:lnTo>
                  <a:lnTo>
                    <a:pt x="320" y="55"/>
                  </a:lnTo>
                  <a:lnTo>
                    <a:pt x="354" y="89"/>
                  </a:lnTo>
                  <a:lnTo>
                    <a:pt x="388" y="134"/>
                  </a:lnTo>
                  <a:lnTo>
                    <a:pt x="384" y="135"/>
                  </a:lnTo>
                  <a:lnTo>
                    <a:pt x="376" y="138"/>
                  </a:lnTo>
                  <a:lnTo>
                    <a:pt x="363" y="141"/>
                  </a:lnTo>
                  <a:lnTo>
                    <a:pt x="344" y="146"/>
                  </a:lnTo>
                  <a:lnTo>
                    <a:pt x="323" y="150"/>
                  </a:lnTo>
                  <a:lnTo>
                    <a:pt x="299" y="154"/>
                  </a:lnTo>
                  <a:lnTo>
                    <a:pt x="271" y="158"/>
                  </a:lnTo>
                  <a:lnTo>
                    <a:pt x="242" y="161"/>
                  </a:lnTo>
                  <a:lnTo>
                    <a:pt x="210" y="161"/>
                  </a:lnTo>
                  <a:lnTo>
                    <a:pt x="179" y="159"/>
                  </a:lnTo>
                  <a:lnTo>
                    <a:pt x="146" y="156"/>
                  </a:lnTo>
                  <a:lnTo>
                    <a:pt x="115" y="149"/>
                  </a:lnTo>
                  <a:lnTo>
                    <a:pt x="83" y="139"/>
                  </a:lnTo>
                  <a:lnTo>
                    <a:pt x="54" y="125"/>
                  </a:lnTo>
                  <a:lnTo>
                    <a:pt x="26" y="10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575720" y="2565720"/>
              <a:ext cx="90360" cy="10764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61" y="114"/>
                  </a:moveTo>
                  <a:lnTo>
                    <a:pt x="73" y="113"/>
                  </a:lnTo>
                  <a:lnTo>
                    <a:pt x="84" y="109"/>
                  </a:lnTo>
                  <a:lnTo>
                    <a:pt x="94" y="105"/>
                  </a:lnTo>
                  <a:lnTo>
                    <a:pt x="104" y="98"/>
                  </a:lnTo>
                  <a:lnTo>
                    <a:pt x="111" y="89"/>
                  </a:lnTo>
                  <a:lnTo>
                    <a:pt x="117" y="79"/>
                  </a:lnTo>
                  <a:lnTo>
                    <a:pt x="120" y="69"/>
                  </a:lnTo>
                  <a:lnTo>
                    <a:pt x="121" y="58"/>
                  </a:lnTo>
                  <a:lnTo>
                    <a:pt x="120" y="46"/>
                  </a:lnTo>
                  <a:lnTo>
                    <a:pt x="117" y="35"/>
                  </a:lnTo>
                  <a:lnTo>
                    <a:pt x="111" y="25"/>
                  </a:lnTo>
                  <a:lnTo>
                    <a:pt x="104" y="16"/>
                  </a:lnTo>
                  <a:lnTo>
                    <a:pt x="94" y="9"/>
                  </a:lnTo>
                  <a:lnTo>
                    <a:pt x="84" y="5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9"/>
                  </a:lnTo>
                  <a:lnTo>
                    <a:pt x="17" y="16"/>
                  </a:lnTo>
                  <a:lnTo>
                    <a:pt x="10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5" y="79"/>
                  </a:lnTo>
                  <a:lnTo>
                    <a:pt x="10" y="89"/>
                  </a:lnTo>
                  <a:lnTo>
                    <a:pt x="17" y="98"/>
                  </a:lnTo>
                  <a:lnTo>
                    <a:pt x="27" y="105"/>
                  </a:lnTo>
                  <a:lnTo>
                    <a:pt x="37" y="109"/>
                  </a:lnTo>
                  <a:lnTo>
                    <a:pt x="48" y="113"/>
                  </a:lnTo>
                  <a:lnTo>
                    <a:pt x="61" y="11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599480" y="2588040"/>
              <a:ext cx="42840" cy="536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41" y="55"/>
                  </a:lnTo>
                  <a:lnTo>
                    <a:pt x="51" y="50"/>
                  </a:lnTo>
                  <a:lnTo>
                    <a:pt x="56" y="40"/>
                  </a:lnTo>
                  <a:lnTo>
                    <a:pt x="59" y="29"/>
                  </a:lnTo>
                  <a:lnTo>
                    <a:pt x="56" y="17"/>
                  </a:lnTo>
                  <a:lnTo>
                    <a:pt x="51" y="8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3" y="40"/>
                  </a:lnTo>
                  <a:lnTo>
                    <a:pt x="9" y="50"/>
                  </a:lnTo>
                  <a:lnTo>
                    <a:pt x="18" y="55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604880" y="2588040"/>
              <a:ext cx="15840" cy="18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1"/>
                  </a:moveTo>
                  <a:lnTo>
                    <a:pt x="15" y="20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74640" y="1981080"/>
              <a:ext cx="1114560" cy="1249560"/>
            </a:xfrm>
            <a:custGeom>
              <a:avLst/>
              <a:gdLst/>
              <a:ahLst/>
              <a:rect l="l" t="t" r="r" b="b"/>
              <a:pathLst>
                <a:path w="1514" h="1344">
                  <a:moveTo>
                    <a:pt x="930" y="62"/>
                  </a:moveTo>
                  <a:lnTo>
                    <a:pt x="911" y="58"/>
                  </a:lnTo>
                  <a:lnTo>
                    <a:pt x="891" y="52"/>
                  </a:lnTo>
                  <a:lnTo>
                    <a:pt x="872" y="47"/>
                  </a:lnTo>
                  <a:lnTo>
                    <a:pt x="852" y="43"/>
                  </a:lnTo>
                  <a:lnTo>
                    <a:pt x="832" y="38"/>
                  </a:lnTo>
                  <a:lnTo>
                    <a:pt x="812" y="34"/>
                  </a:lnTo>
                  <a:lnTo>
                    <a:pt x="791" y="30"/>
                  </a:lnTo>
                  <a:lnTo>
                    <a:pt x="770" y="26"/>
                  </a:lnTo>
                  <a:lnTo>
                    <a:pt x="748" y="23"/>
                  </a:lnTo>
                  <a:lnTo>
                    <a:pt x="726" y="19"/>
                  </a:lnTo>
                  <a:lnTo>
                    <a:pt x="704" y="16"/>
                  </a:lnTo>
                  <a:lnTo>
                    <a:pt x="681" y="14"/>
                  </a:lnTo>
                  <a:lnTo>
                    <a:pt x="659" y="11"/>
                  </a:lnTo>
                  <a:lnTo>
                    <a:pt x="636" y="8"/>
                  </a:lnTo>
                  <a:lnTo>
                    <a:pt x="611" y="7"/>
                  </a:lnTo>
                  <a:lnTo>
                    <a:pt x="588" y="5"/>
                  </a:lnTo>
                  <a:lnTo>
                    <a:pt x="557" y="2"/>
                  </a:lnTo>
                  <a:lnTo>
                    <a:pt x="524" y="1"/>
                  </a:lnTo>
                  <a:lnTo>
                    <a:pt x="490" y="0"/>
                  </a:lnTo>
                  <a:lnTo>
                    <a:pt x="456" y="0"/>
                  </a:lnTo>
                  <a:lnTo>
                    <a:pt x="421" y="1"/>
                  </a:lnTo>
                  <a:lnTo>
                    <a:pt x="386" y="1"/>
                  </a:lnTo>
                  <a:lnTo>
                    <a:pt x="350" y="3"/>
                  </a:lnTo>
                  <a:lnTo>
                    <a:pt x="314" y="6"/>
                  </a:lnTo>
                  <a:lnTo>
                    <a:pt x="277" y="8"/>
                  </a:lnTo>
                  <a:lnTo>
                    <a:pt x="239" y="11"/>
                  </a:lnTo>
                  <a:lnTo>
                    <a:pt x="201" y="16"/>
                  </a:lnTo>
                  <a:lnTo>
                    <a:pt x="162" y="21"/>
                  </a:lnTo>
                  <a:lnTo>
                    <a:pt x="123" y="26"/>
                  </a:lnTo>
                  <a:lnTo>
                    <a:pt x="82" y="33"/>
                  </a:lnTo>
                  <a:lnTo>
                    <a:pt x="41" y="40"/>
                  </a:lnTo>
                  <a:lnTo>
                    <a:pt x="0" y="48"/>
                  </a:lnTo>
                  <a:lnTo>
                    <a:pt x="174" y="266"/>
                  </a:lnTo>
                  <a:lnTo>
                    <a:pt x="179" y="264"/>
                  </a:lnTo>
                  <a:lnTo>
                    <a:pt x="191" y="257"/>
                  </a:lnTo>
                  <a:lnTo>
                    <a:pt x="212" y="246"/>
                  </a:lnTo>
                  <a:lnTo>
                    <a:pt x="240" y="234"/>
                  </a:lnTo>
                  <a:lnTo>
                    <a:pt x="274" y="221"/>
                  </a:lnTo>
                  <a:lnTo>
                    <a:pt x="314" y="210"/>
                  </a:lnTo>
                  <a:lnTo>
                    <a:pt x="359" y="199"/>
                  </a:lnTo>
                  <a:lnTo>
                    <a:pt x="408" y="192"/>
                  </a:lnTo>
                  <a:lnTo>
                    <a:pt x="461" y="190"/>
                  </a:lnTo>
                  <a:lnTo>
                    <a:pt x="517" y="195"/>
                  </a:lnTo>
                  <a:lnTo>
                    <a:pt x="575" y="205"/>
                  </a:lnTo>
                  <a:lnTo>
                    <a:pt x="635" y="225"/>
                  </a:lnTo>
                  <a:lnTo>
                    <a:pt x="695" y="253"/>
                  </a:lnTo>
                  <a:lnTo>
                    <a:pt x="755" y="294"/>
                  </a:lnTo>
                  <a:lnTo>
                    <a:pt x="816" y="345"/>
                  </a:lnTo>
                  <a:lnTo>
                    <a:pt x="874" y="411"/>
                  </a:lnTo>
                  <a:lnTo>
                    <a:pt x="707" y="651"/>
                  </a:lnTo>
                  <a:lnTo>
                    <a:pt x="807" y="889"/>
                  </a:lnTo>
                  <a:lnTo>
                    <a:pt x="611" y="1073"/>
                  </a:lnTo>
                  <a:lnTo>
                    <a:pt x="722" y="1154"/>
                  </a:lnTo>
                  <a:lnTo>
                    <a:pt x="866" y="916"/>
                  </a:lnTo>
                  <a:lnTo>
                    <a:pt x="868" y="916"/>
                  </a:lnTo>
                  <a:lnTo>
                    <a:pt x="874" y="913"/>
                  </a:lnTo>
                  <a:lnTo>
                    <a:pt x="884" y="912"/>
                  </a:lnTo>
                  <a:lnTo>
                    <a:pt x="897" y="911"/>
                  </a:lnTo>
                  <a:lnTo>
                    <a:pt x="911" y="910"/>
                  </a:lnTo>
                  <a:lnTo>
                    <a:pt x="928" y="909"/>
                  </a:lnTo>
                  <a:lnTo>
                    <a:pt x="945" y="910"/>
                  </a:lnTo>
                  <a:lnTo>
                    <a:pt x="963" y="912"/>
                  </a:lnTo>
                  <a:lnTo>
                    <a:pt x="979" y="917"/>
                  </a:lnTo>
                  <a:lnTo>
                    <a:pt x="995" y="924"/>
                  </a:lnTo>
                  <a:lnTo>
                    <a:pt x="1009" y="934"/>
                  </a:lnTo>
                  <a:lnTo>
                    <a:pt x="1020" y="947"/>
                  </a:lnTo>
                  <a:lnTo>
                    <a:pt x="1029" y="963"/>
                  </a:lnTo>
                  <a:lnTo>
                    <a:pt x="1034" y="984"/>
                  </a:lnTo>
                  <a:lnTo>
                    <a:pt x="1034" y="1009"/>
                  </a:lnTo>
                  <a:lnTo>
                    <a:pt x="1029" y="1039"/>
                  </a:lnTo>
                  <a:lnTo>
                    <a:pt x="1027" y="1044"/>
                  </a:lnTo>
                  <a:lnTo>
                    <a:pt x="1022" y="1055"/>
                  </a:lnTo>
                  <a:lnTo>
                    <a:pt x="1013" y="1072"/>
                  </a:lnTo>
                  <a:lnTo>
                    <a:pt x="999" y="1092"/>
                  </a:lnTo>
                  <a:lnTo>
                    <a:pt x="982" y="1111"/>
                  </a:lnTo>
                  <a:lnTo>
                    <a:pt x="960" y="1130"/>
                  </a:lnTo>
                  <a:lnTo>
                    <a:pt x="936" y="1144"/>
                  </a:lnTo>
                  <a:lnTo>
                    <a:pt x="905" y="1151"/>
                  </a:lnTo>
                  <a:lnTo>
                    <a:pt x="935" y="1344"/>
                  </a:lnTo>
                  <a:lnTo>
                    <a:pt x="937" y="1343"/>
                  </a:lnTo>
                  <a:lnTo>
                    <a:pt x="944" y="1341"/>
                  </a:lnTo>
                  <a:lnTo>
                    <a:pt x="956" y="1337"/>
                  </a:lnTo>
                  <a:lnTo>
                    <a:pt x="971" y="1331"/>
                  </a:lnTo>
                  <a:lnTo>
                    <a:pt x="991" y="1325"/>
                  </a:lnTo>
                  <a:lnTo>
                    <a:pt x="1013" y="1315"/>
                  </a:lnTo>
                  <a:lnTo>
                    <a:pt x="1037" y="1305"/>
                  </a:lnTo>
                  <a:lnTo>
                    <a:pt x="1064" y="1293"/>
                  </a:lnTo>
                  <a:lnTo>
                    <a:pt x="1094" y="1280"/>
                  </a:lnTo>
                  <a:lnTo>
                    <a:pt x="1125" y="1265"/>
                  </a:lnTo>
                  <a:lnTo>
                    <a:pt x="1156" y="1249"/>
                  </a:lnTo>
                  <a:lnTo>
                    <a:pt x="1190" y="1230"/>
                  </a:lnTo>
                  <a:lnTo>
                    <a:pt x="1223" y="1211"/>
                  </a:lnTo>
                  <a:lnTo>
                    <a:pt x="1257" y="1189"/>
                  </a:lnTo>
                  <a:lnTo>
                    <a:pt x="1289" y="1167"/>
                  </a:lnTo>
                  <a:lnTo>
                    <a:pt x="1321" y="1141"/>
                  </a:lnTo>
                  <a:lnTo>
                    <a:pt x="1352" y="1116"/>
                  </a:lnTo>
                  <a:lnTo>
                    <a:pt x="1381" y="1088"/>
                  </a:lnTo>
                  <a:lnTo>
                    <a:pt x="1409" y="1060"/>
                  </a:lnTo>
                  <a:lnTo>
                    <a:pt x="1434" y="1029"/>
                  </a:lnTo>
                  <a:lnTo>
                    <a:pt x="1457" y="996"/>
                  </a:lnTo>
                  <a:lnTo>
                    <a:pt x="1476" y="963"/>
                  </a:lnTo>
                  <a:lnTo>
                    <a:pt x="1492" y="928"/>
                  </a:lnTo>
                  <a:lnTo>
                    <a:pt x="1504" y="891"/>
                  </a:lnTo>
                  <a:lnTo>
                    <a:pt x="1512" y="853"/>
                  </a:lnTo>
                  <a:lnTo>
                    <a:pt x="1514" y="813"/>
                  </a:lnTo>
                  <a:lnTo>
                    <a:pt x="1513" y="772"/>
                  </a:lnTo>
                  <a:lnTo>
                    <a:pt x="1505" y="729"/>
                  </a:lnTo>
                  <a:lnTo>
                    <a:pt x="1492" y="684"/>
                  </a:lnTo>
                  <a:lnTo>
                    <a:pt x="1472" y="639"/>
                  </a:lnTo>
                  <a:lnTo>
                    <a:pt x="1446" y="591"/>
                  </a:lnTo>
                  <a:lnTo>
                    <a:pt x="1413" y="542"/>
                  </a:lnTo>
                  <a:lnTo>
                    <a:pt x="1441" y="348"/>
                  </a:lnTo>
                  <a:lnTo>
                    <a:pt x="1440" y="345"/>
                  </a:lnTo>
                  <a:lnTo>
                    <a:pt x="1435" y="340"/>
                  </a:lnTo>
                  <a:lnTo>
                    <a:pt x="1427" y="331"/>
                  </a:lnTo>
                  <a:lnTo>
                    <a:pt x="1415" y="318"/>
                  </a:lnTo>
                  <a:lnTo>
                    <a:pt x="1400" y="303"/>
                  </a:lnTo>
                  <a:lnTo>
                    <a:pt x="1381" y="286"/>
                  </a:lnTo>
                  <a:lnTo>
                    <a:pt x="1358" y="266"/>
                  </a:lnTo>
                  <a:lnTo>
                    <a:pt x="1331" y="245"/>
                  </a:lnTo>
                  <a:lnTo>
                    <a:pt x="1299" y="223"/>
                  </a:lnTo>
                  <a:lnTo>
                    <a:pt x="1262" y="200"/>
                  </a:lnTo>
                  <a:lnTo>
                    <a:pt x="1220" y="176"/>
                  </a:lnTo>
                  <a:lnTo>
                    <a:pt x="1174" y="152"/>
                  </a:lnTo>
                  <a:lnTo>
                    <a:pt x="1121" y="129"/>
                  </a:lnTo>
                  <a:lnTo>
                    <a:pt x="1063" y="106"/>
                  </a:lnTo>
                  <a:lnTo>
                    <a:pt x="1000" y="83"/>
                  </a:lnTo>
                  <a:lnTo>
                    <a:pt x="93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560600" y="2873880"/>
              <a:ext cx="100080" cy="16308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59" y="0"/>
                  </a:moveTo>
                  <a:lnTo>
                    <a:pt x="86" y="85"/>
                  </a:lnTo>
                  <a:lnTo>
                    <a:pt x="14" y="87"/>
                  </a:lnTo>
                  <a:lnTo>
                    <a:pt x="0" y="175"/>
                  </a:lnTo>
                  <a:lnTo>
                    <a:pt x="135" y="9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067760" y="2881440"/>
              <a:ext cx="96840" cy="1202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19"/>
                  </a:moveTo>
                  <a:lnTo>
                    <a:pt x="54" y="0"/>
                  </a:lnTo>
                  <a:lnTo>
                    <a:pt x="27" y="46"/>
                  </a:lnTo>
                  <a:lnTo>
                    <a:pt x="69" y="36"/>
                  </a:lnTo>
                  <a:lnTo>
                    <a:pt x="62" y="77"/>
                  </a:lnTo>
                  <a:lnTo>
                    <a:pt x="0" y="130"/>
                  </a:lnTo>
                  <a:lnTo>
                    <a:pt x="85" y="95"/>
                  </a:lnTo>
                  <a:lnTo>
                    <a:pt x="92" y="3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74680" y="3234240"/>
              <a:ext cx="160560" cy="32976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17" y="0"/>
                  </a:moveTo>
                  <a:lnTo>
                    <a:pt x="119" y="356"/>
                  </a:lnTo>
                  <a:lnTo>
                    <a:pt x="0" y="236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21760" y="3050280"/>
              <a:ext cx="104760" cy="13176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26"/>
                  </a:moveTo>
                  <a:lnTo>
                    <a:pt x="53" y="64"/>
                  </a:lnTo>
                  <a:lnTo>
                    <a:pt x="142" y="0"/>
                  </a:lnTo>
                  <a:lnTo>
                    <a:pt x="74" y="14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393200" y="2493360"/>
              <a:ext cx="322200" cy="163080"/>
            </a:xfrm>
            <a:custGeom>
              <a:avLst/>
              <a:gdLst/>
              <a:ahLst/>
              <a:rect l="l" t="t" r="r" b="b"/>
              <a:pathLst>
                <a:path w="437" h="176">
                  <a:moveTo>
                    <a:pt x="0" y="107"/>
                  </a:moveTo>
                  <a:lnTo>
                    <a:pt x="3" y="103"/>
                  </a:lnTo>
                  <a:lnTo>
                    <a:pt x="10" y="95"/>
                  </a:lnTo>
                  <a:lnTo>
                    <a:pt x="21" y="83"/>
                  </a:lnTo>
                  <a:lnTo>
                    <a:pt x="36" y="68"/>
                  </a:lnTo>
                  <a:lnTo>
                    <a:pt x="56" y="52"/>
                  </a:lnTo>
                  <a:lnTo>
                    <a:pt x="78" y="37"/>
                  </a:lnTo>
                  <a:lnTo>
                    <a:pt x="104" y="22"/>
                  </a:lnTo>
                  <a:lnTo>
                    <a:pt x="133" y="10"/>
                  </a:lnTo>
                  <a:lnTo>
                    <a:pt x="165" y="2"/>
                  </a:lnTo>
                  <a:lnTo>
                    <a:pt x="199" y="0"/>
                  </a:lnTo>
                  <a:lnTo>
                    <a:pt x="235" y="4"/>
                  </a:lnTo>
                  <a:lnTo>
                    <a:pt x="273" y="17"/>
                  </a:lnTo>
                  <a:lnTo>
                    <a:pt x="312" y="39"/>
                  </a:lnTo>
                  <a:lnTo>
                    <a:pt x="353" y="72"/>
                  </a:lnTo>
                  <a:lnTo>
                    <a:pt x="395" y="117"/>
                  </a:lnTo>
                  <a:lnTo>
                    <a:pt x="437" y="176"/>
                  </a:lnTo>
                  <a:lnTo>
                    <a:pt x="434" y="174"/>
                  </a:lnTo>
                  <a:lnTo>
                    <a:pt x="427" y="167"/>
                  </a:lnTo>
                  <a:lnTo>
                    <a:pt x="417" y="157"/>
                  </a:lnTo>
                  <a:lnTo>
                    <a:pt x="403" y="145"/>
                  </a:lnTo>
                  <a:lnTo>
                    <a:pt x="384" y="132"/>
                  </a:lnTo>
                  <a:lnTo>
                    <a:pt x="362" y="117"/>
                  </a:lnTo>
                  <a:lnTo>
                    <a:pt x="336" y="102"/>
                  </a:lnTo>
                  <a:lnTo>
                    <a:pt x="308" y="88"/>
                  </a:lnTo>
                  <a:lnTo>
                    <a:pt x="278" y="77"/>
                  </a:lnTo>
                  <a:lnTo>
                    <a:pt x="244" y="66"/>
                  </a:lnTo>
                  <a:lnTo>
                    <a:pt x="208" y="61"/>
                  </a:lnTo>
                  <a:lnTo>
                    <a:pt x="169" y="58"/>
                  </a:lnTo>
                  <a:lnTo>
                    <a:pt x="130" y="61"/>
                  </a:lnTo>
                  <a:lnTo>
                    <a:pt x="88" y="70"/>
                  </a:lnTo>
                  <a:lnTo>
                    <a:pt x="45" y="85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952560" y="2584440"/>
              <a:ext cx="193680" cy="310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0" y="0"/>
                  </a:moveTo>
                  <a:lnTo>
                    <a:pt x="3" y="2"/>
                  </a:lnTo>
                  <a:lnTo>
                    <a:pt x="13" y="5"/>
                  </a:lnTo>
                  <a:lnTo>
                    <a:pt x="28" y="11"/>
                  </a:lnTo>
                  <a:lnTo>
                    <a:pt x="47" y="19"/>
                  </a:lnTo>
                  <a:lnTo>
                    <a:pt x="68" y="30"/>
                  </a:lnTo>
                  <a:lnTo>
                    <a:pt x="92" y="44"/>
                  </a:lnTo>
                  <a:lnTo>
                    <a:pt x="117" y="60"/>
                  </a:lnTo>
                  <a:lnTo>
                    <a:pt x="141" y="79"/>
                  </a:lnTo>
                  <a:lnTo>
                    <a:pt x="166" y="101"/>
                  </a:lnTo>
                  <a:lnTo>
                    <a:pt x="188" y="125"/>
                  </a:lnTo>
                  <a:lnTo>
                    <a:pt x="206" y="152"/>
                  </a:lnTo>
                  <a:lnTo>
                    <a:pt x="222" y="182"/>
                  </a:lnTo>
                  <a:lnTo>
                    <a:pt x="231" y="216"/>
                  </a:lnTo>
                  <a:lnTo>
                    <a:pt x="236" y="253"/>
                  </a:lnTo>
                  <a:lnTo>
                    <a:pt x="232" y="292"/>
                  </a:lnTo>
                  <a:lnTo>
                    <a:pt x="222" y="334"/>
                  </a:lnTo>
                  <a:lnTo>
                    <a:pt x="224" y="331"/>
                  </a:lnTo>
                  <a:lnTo>
                    <a:pt x="229" y="321"/>
                  </a:lnTo>
                  <a:lnTo>
                    <a:pt x="236" y="305"/>
                  </a:lnTo>
                  <a:lnTo>
                    <a:pt x="244" y="283"/>
                  </a:lnTo>
                  <a:lnTo>
                    <a:pt x="251" y="258"/>
                  </a:lnTo>
                  <a:lnTo>
                    <a:pt x="258" y="231"/>
                  </a:lnTo>
                  <a:lnTo>
                    <a:pt x="261" y="201"/>
                  </a:lnTo>
                  <a:lnTo>
                    <a:pt x="261" y="170"/>
                  </a:lnTo>
                  <a:lnTo>
                    <a:pt x="258" y="139"/>
                  </a:lnTo>
                  <a:lnTo>
                    <a:pt x="247" y="109"/>
                  </a:lnTo>
                  <a:lnTo>
                    <a:pt x="230" y="80"/>
                  </a:lnTo>
                  <a:lnTo>
                    <a:pt x="204" y="55"/>
                  </a:lnTo>
                  <a:lnTo>
                    <a:pt x="170" y="34"/>
                  </a:lnTo>
                  <a:lnTo>
                    <a:pt x="125" y="17"/>
                  </a:lnTo>
                  <a:lnTo>
                    <a:pt x="6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897840" y="2532600"/>
              <a:ext cx="173160" cy="27828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0" y="0"/>
                  </a:moveTo>
                  <a:lnTo>
                    <a:pt x="4" y="1"/>
                  </a:lnTo>
                  <a:lnTo>
                    <a:pt x="12" y="5"/>
                  </a:lnTo>
                  <a:lnTo>
                    <a:pt x="25" y="9"/>
                  </a:lnTo>
                  <a:lnTo>
                    <a:pt x="42" y="17"/>
                  </a:lnTo>
                  <a:lnTo>
                    <a:pt x="61" y="27"/>
                  </a:lnTo>
                  <a:lnTo>
                    <a:pt x="83" y="39"/>
                  </a:lnTo>
                  <a:lnTo>
                    <a:pt x="105" y="54"/>
                  </a:lnTo>
                  <a:lnTo>
                    <a:pt x="127" y="70"/>
                  </a:lnTo>
                  <a:lnTo>
                    <a:pt x="150" y="90"/>
                  </a:lnTo>
                  <a:lnTo>
                    <a:pt x="169" y="113"/>
                  </a:lnTo>
                  <a:lnTo>
                    <a:pt x="186" y="137"/>
                  </a:lnTo>
                  <a:lnTo>
                    <a:pt x="200" y="165"/>
                  </a:lnTo>
                  <a:lnTo>
                    <a:pt x="209" y="195"/>
                  </a:lnTo>
                  <a:lnTo>
                    <a:pt x="213" y="227"/>
                  </a:lnTo>
                  <a:lnTo>
                    <a:pt x="209" y="263"/>
                  </a:lnTo>
                  <a:lnTo>
                    <a:pt x="200" y="301"/>
                  </a:lnTo>
                  <a:lnTo>
                    <a:pt x="201" y="297"/>
                  </a:lnTo>
                  <a:lnTo>
                    <a:pt x="206" y="288"/>
                  </a:lnTo>
                  <a:lnTo>
                    <a:pt x="213" y="273"/>
                  </a:lnTo>
                  <a:lnTo>
                    <a:pt x="220" y="255"/>
                  </a:lnTo>
                  <a:lnTo>
                    <a:pt x="227" y="232"/>
                  </a:lnTo>
                  <a:lnTo>
                    <a:pt x="232" y="207"/>
                  </a:lnTo>
                  <a:lnTo>
                    <a:pt x="236" y="180"/>
                  </a:lnTo>
                  <a:lnTo>
                    <a:pt x="236" y="152"/>
                  </a:lnTo>
                  <a:lnTo>
                    <a:pt x="231" y="125"/>
                  </a:lnTo>
                  <a:lnTo>
                    <a:pt x="222" y="98"/>
                  </a:lnTo>
                  <a:lnTo>
                    <a:pt x="207" y="73"/>
                  </a:lnTo>
                  <a:lnTo>
                    <a:pt x="185" y="50"/>
                  </a:lnTo>
                  <a:lnTo>
                    <a:pt x="153" y="30"/>
                  </a:lnTo>
                  <a:lnTo>
                    <a:pt x="112" y="15"/>
                  </a:lnTo>
                  <a:lnTo>
                    <a:pt x="6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34480" y="2491560"/>
              <a:ext cx="153720" cy="248760"/>
            </a:xfrm>
            <a:custGeom>
              <a:avLst/>
              <a:gdLst/>
              <a:ahLst/>
              <a:rect l="l" t="t" r="r" b="b"/>
              <a:pathLst>
                <a:path w="210" h="268">
                  <a:moveTo>
                    <a:pt x="0" y="0"/>
                  </a:moveTo>
                  <a:lnTo>
                    <a:pt x="2" y="2"/>
                  </a:lnTo>
                  <a:lnTo>
                    <a:pt x="11" y="4"/>
                  </a:lnTo>
                  <a:lnTo>
                    <a:pt x="22" y="8"/>
                  </a:lnTo>
                  <a:lnTo>
                    <a:pt x="37" y="15"/>
                  </a:lnTo>
                  <a:lnTo>
                    <a:pt x="55" y="25"/>
                  </a:lnTo>
                  <a:lnTo>
                    <a:pt x="74" y="35"/>
                  </a:lnTo>
                  <a:lnTo>
                    <a:pt x="93" y="48"/>
                  </a:lnTo>
                  <a:lnTo>
                    <a:pt x="113" y="63"/>
                  </a:lnTo>
                  <a:lnTo>
                    <a:pt x="132" y="81"/>
                  </a:lnTo>
                  <a:lnTo>
                    <a:pt x="151" y="101"/>
                  </a:lnTo>
                  <a:lnTo>
                    <a:pt x="166" y="122"/>
                  </a:lnTo>
                  <a:lnTo>
                    <a:pt x="177" y="147"/>
                  </a:lnTo>
                  <a:lnTo>
                    <a:pt x="186" y="173"/>
                  </a:lnTo>
                  <a:lnTo>
                    <a:pt x="189" y="202"/>
                  </a:lnTo>
                  <a:lnTo>
                    <a:pt x="187" y="233"/>
                  </a:lnTo>
                  <a:lnTo>
                    <a:pt x="177" y="268"/>
                  </a:lnTo>
                  <a:lnTo>
                    <a:pt x="179" y="264"/>
                  </a:lnTo>
                  <a:lnTo>
                    <a:pt x="183" y="256"/>
                  </a:lnTo>
                  <a:lnTo>
                    <a:pt x="189" y="243"/>
                  </a:lnTo>
                  <a:lnTo>
                    <a:pt x="195" y="226"/>
                  </a:lnTo>
                  <a:lnTo>
                    <a:pt x="201" y="207"/>
                  </a:lnTo>
                  <a:lnTo>
                    <a:pt x="207" y="185"/>
                  </a:lnTo>
                  <a:lnTo>
                    <a:pt x="209" y="160"/>
                  </a:lnTo>
                  <a:lnTo>
                    <a:pt x="210" y="135"/>
                  </a:lnTo>
                  <a:lnTo>
                    <a:pt x="205" y="111"/>
                  </a:lnTo>
                  <a:lnTo>
                    <a:pt x="197" y="87"/>
                  </a:lnTo>
                  <a:lnTo>
                    <a:pt x="184" y="65"/>
                  </a:lnTo>
                  <a:lnTo>
                    <a:pt x="163" y="44"/>
                  </a:lnTo>
                  <a:lnTo>
                    <a:pt x="137" y="27"/>
                  </a:lnTo>
                  <a:lnTo>
                    <a:pt x="100" y="13"/>
                  </a:lnTo>
                  <a:lnTo>
                    <a:pt x="5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05840" y="2125800"/>
              <a:ext cx="176040" cy="289440"/>
            </a:xfrm>
            <a:custGeom>
              <a:avLst/>
              <a:gdLst/>
              <a:ahLst/>
              <a:rect l="l" t="t" r="r" b="b"/>
              <a:pathLst>
                <a:path w="238" h="311">
                  <a:moveTo>
                    <a:pt x="0" y="0"/>
                  </a:moveTo>
                  <a:lnTo>
                    <a:pt x="2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30" y="7"/>
                  </a:lnTo>
                  <a:lnTo>
                    <a:pt x="45" y="12"/>
                  </a:lnTo>
                  <a:lnTo>
                    <a:pt x="63" y="20"/>
                  </a:lnTo>
                  <a:lnTo>
                    <a:pt x="80" y="30"/>
                  </a:lnTo>
                  <a:lnTo>
                    <a:pt x="100" y="43"/>
                  </a:lnTo>
                  <a:lnTo>
                    <a:pt x="119" y="60"/>
                  </a:lnTo>
                  <a:lnTo>
                    <a:pt x="139" y="81"/>
                  </a:lnTo>
                  <a:lnTo>
                    <a:pt x="157" y="106"/>
                  </a:lnTo>
                  <a:lnTo>
                    <a:pt x="175" y="136"/>
                  </a:lnTo>
                  <a:lnTo>
                    <a:pt x="190" y="172"/>
                  </a:lnTo>
                  <a:lnTo>
                    <a:pt x="204" y="212"/>
                  </a:lnTo>
                  <a:lnTo>
                    <a:pt x="214" y="258"/>
                  </a:lnTo>
                  <a:lnTo>
                    <a:pt x="221" y="311"/>
                  </a:lnTo>
                  <a:lnTo>
                    <a:pt x="223" y="308"/>
                  </a:lnTo>
                  <a:lnTo>
                    <a:pt x="225" y="299"/>
                  </a:lnTo>
                  <a:lnTo>
                    <a:pt x="228" y="284"/>
                  </a:lnTo>
                  <a:lnTo>
                    <a:pt x="233" y="264"/>
                  </a:lnTo>
                  <a:lnTo>
                    <a:pt x="235" y="241"/>
                  </a:lnTo>
                  <a:lnTo>
                    <a:pt x="238" y="216"/>
                  </a:lnTo>
                  <a:lnTo>
                    <a:pt x="237" y="188"/>
                  </a:lnTo>
                  <a:lnTo>
                    <a:pt x="233" y="161"/>
                  </a:lnTo>
                  <a:lnTo>
                    <a:pt x="226" y="132"/>
                  </a:lnTo>
                  <a:lnTo>
                    <a:pt x="213" y="104"/>
                  </a:lnTo>
                  <a:lnTo>
                    <a:pt x="196" y="78"/>
                  </a:lnTo>
                  <a:lnTo>
                    <a:pt x="172" y="53"/>
                  </a:lnTo>
                  <a:lnTo>
                    <a:pt x="142" y="34"/>
                  </a:lnTo>
                  <a:lnTo>
                    <a:pt x="104" y="17"/>
                  </a:lnTo>
                  <a:lnTo>
                    <a:pt x="5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913680" y="2227680"/>
              <a:ext cx="57240" cy="178200"/>
            </a:xfrm>
            <a:custGeom>
              <a:avLst/>
              <a:gdLst/>
              <a:ahLst/>
              <a:rect l="l" t="t" r="r" b="b"/>
              <a:pathLst>
                <a:path w="79" h="190">
                  <a:moveTo>
                    <a:pt x="0" y="0"/>
                  </a:moveTo>
                  <a:lnTo>
                    <a:pt x="3" y="5"/>
                  </a:lnTo>
                  <a:lnTo>
                    <a:pt x="14" y="17"/>
                  </a:lnTo>
                  <a:lnTo>
                    <a:pt x="26" y="36"/>
                  </a:lnTo>
                  <a:lnTo>
                    <a:pt x="39" y="60"/>
                  </a:lnTo>
                  <a:lnTo>
                    <a:pt x="51" y="90"/>
                  </a:lnTo>
                  <a:lnTo>
                    <a:pt x="57" y="121"/>
                  </a:lnTo>
                  <a:lnTo>
                    <a:pt x="53" y="156"/>
                  </a:lnTo>
                  <a:lnTo>
                    <a:pt x="40" y="190"/>
                  </a:lnTo>
                  <a:lnTo>
                    <a:pt x="45" y="184"/>
                  </a:lnTo>
                  <a:lnTo>
                    <a:pt x="56" y="170"/>
                  </a:lnTo>
                  <a:lnTo>
                    <a:pt x="67" y="149"/>
                  </a:lnTo>
                  <a:lnTo>
                    <a:pt x="77" y="121"/>
                  </a:lnTo>
                  <a:lnTo>
                    <a:pt x="79" y="91"/>
                  </a:lnTo>
                  <a:lnTo>
                    <a:pt x="70" y="59"/>
                  </a:lnTo>
                  <a:lnTo>
                    <a:pt x="45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383480" y="2923920"/>
              <a:ext cx="141480" cy="24876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0" y="8"/>
                  </a:moveTo>
                  <a:lnTo>
                    <a:pt x="3" y="7"/>
                  </a:lnTo>
                  <a:lnTo>
                    <a:pt x="8" y="6"/>
                  </a:lnTo>
                  <a:lnTo>
                    <a:pt x="17" y="2"/>
                  </a:lnTo>
                  <a:lnTo>
                    <a:pt x="28" y="1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4" y="3"/>
                  </a:lnTo>
                  <a:lnTo>
                    <a:pt x="91" y="10"/>
                  </a:lnTo>
                  <a:lnTo>
                    <a:pt x="109" y="21"/>
                  </a:lnTo>
                  <a:lnTo>
                    <a:pt x="126" y="36"/>
                  </a:lnTo>
                  <a:lnTo>
                    <a:pt x="143" y="56"/>
                  </a:lnTo>
                  <a:lnTo>
                    <a:pt x="157" y="83"/>
                  </a:lnTo>
                  <a:lnTo>
                    <a:pt x="169" y="117"/>
                  </a:lnTo>
                  <a:lnTo>
                    <a:pt x="180" y="159"/>
                  </a:lnTo>
                  <a:lnTo>
                    <a:pt x="188" y="208"/>
                  </a:lnTo>
                  <a:lnTo>
                    <a:pt x="192" y="267"/>
                  </a:lnTo>
                  <a:lnTo>
                    <a:pt x="192" y="265"/>
                  </a:lnTo>
                  <a:lnTo>
                    <a:pt x="190" y="259"/>
                  </a:lnTo>
                  <a:lnTo>
                    <a:pt x="188" y="250"/>
                  </a:lnTo>
                  <a:lnTo>
                    <a:pt x="186" y="238"/>
                  </a:lnTo>
                  <a:lnTo>
                    <a:pt x="181" y="223"/>
                  </a:lnTo>
                  <a:lnTo>
                    <a:pt x="175" y="206"/>
                  </a:lnTo>
                  <a:lnTo>
                    <a:pt x="168" y="188"/>
                  </a:lnTo>
                  <a:lnTo>
                    <a:pt x="159" y="168"/>
                  </a:lnTo>
                  <a:lnTo>
                    <a:pt x="148" y="147"/>
                  </a:lnTo>
                  <a:lnTo>
                    <a:pt x="134" y="125"/>
                  </a:lnTo>
                  <a:lnTo>
                    <a:pt x="119" y="104"/>
                  </a:lnTo>
                  <a:lnTo>
                    <a:pt x="101" y="83"/>
                  </a:lnTo>
                  <a:lnTo>
                    <a:pt x="81" y="62"/>
                  </a:lnTo>
                  <a:lnTo>
                    <a:pt x="56" y="43"/>
                  </a:lnTo>
                  <a:lnTo>
                    <a:pt x="3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431360" y="3297240"/>
              <a:ext cx="196920" cy="70560"/>
            </a:xfrm>
            <a:custGeom>
              <a:avLst/>
              <a:gdLst/>
              <a:ahLst/>
              <a:rect l="l" t="t" r="r" b="b"/>
              <a:pathLst>
                <a:path w="267" h="76">
                  <a:moveTo>
                    <a:pt x="0" y="7"/>
                  </a:moveTo>
                  <a:lnTo>
                    <a:pt x="1" y="9"/>
                  </a:lnTo>
                  <a:lnTo>
                    <a:pt x="5" y="14"/>
                  </a:lnTo>
                  <a:lnTo>
                    <a:pt x="9" y="21"/>
                  </a:lnTo>
                  <a:lnTo>
                    <a:pt x="18" y="29"/>
                  </a:lnTo>
                  <a:lnTo>
                    <a:pt x="27" y="39"/>
                  </a:lnTo>
                  <a:lnTo>
                    <a:pt x="39" y="48"/>
                  </a:lnTo>
                  <a:lnTo>
                    <a:pt x="53" y="57"/>
                  </a:lnTo>
                  <a:lnTo>
                    <a:pt x="68" y="66"/>
                  </a:lnTo>
                  <a:lnTo>
                    <a:pt x="86" y="72"/>
                  </a:lnTo>
                  <a:lnTo>
                    <a:pt x="106" y="76"/>
                  </a:lnTo>
                  <a:lnTo>
                    <a:pt x="127" y="76"/>
                  </a:lnTo>
                  <a:lnTo>
                    <a:pt x="152" y="71"/>
                  </a:lnTo>
                  <a:lnTo>
                    <a:pt x="177" y="62"/>
                  </a:lnTo>
                  <a:lnTo>
                    <a:pt x="205" y="48"/>
                  </a:lnTo>
                  <a:lnTo>
                    <a:pt x="236" y="28"/>
                  </a:lnTo>
                  <a:lnTo>
                    <a:pt x="267" y="0"/>
                  </a:lnTo>
                  <a:lnTo>
                    <a:pt x="266" y="1"/>
                  </a:lnTo>
                  <a:lnTo>
                    <a:pt x="263" y="3"/>
                  </a:lnTo>
                  <a:lnTo>
                    <a:pt x="256" y="7"/>
                  </a:lnTo>
                  <a:lnTo>
                    <a:pt x="247" y="11"/>
                  </a:lnTo>
                  <a:lnTo>
                    <a:pt x="236" y="16"/>
                  </a:lnTo>
                  <a:lnTo>
                    <a:pt x="223" y="21"/>
                  </a:lnTo>
                  <a:lnTo>
                    <a:pt x="208" y="25"/>
                  </a:lnTo>
                  <a:lnTo>
                    <a:pt x="191" y="30"/>
                  </a:lnTo>
                  <a:lnTo>
                    <a:pt x="173" y="33"/>
                  </a:lnTo>
                  <a:lnTo>
                    <a:pt x="152" y="36"/>
                  </a:lnTo>
                  <a:lnTo>
                    <a:pt x="130" y="37"/>
                  </a:lnTo>
                  <a:lnTo>
                    <a:pt x="106" y="36"/>
                  </a:lnTo>
                  <a:lnTo>
                    <a:pt x="82" y="32"/>
                  </a:lnTo>
                  <a:lnTo>
                    <a:pt x="55" y="26"/>
                  </a:lnTo>
                  <a:lnTo>
                    <a:pt x="28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023120" y="3215520"/>
              <a:ext cx="352440" cy="776160"/>
            </a:xfrm>
            <a:custGeom>
              <a:avLst/>
              <a:gdLst/>
              <a:ahLst/>
              <a:rect l="l" t="t" r="r" b="b"/>
              <a:pathLst>
                <a:path w="481" h="836">
                  <a:moveTo>
                    <a:pt x="368" y="0"/>
                  </a:moveTo>
                  <a:lnTo>
                    <a:pt x="481" y="133"/>
                  </a:lnTo>
                  <a:lnTo>
                    <a:pt x="292" y="836"/>
                  </a:lnTo>
                  <a:lnTo>
                    <a:pt x="0" y="457"/>
                  </a:lnTo>
                  <a:lnTo>
                    <a:pt x="56" y="257"/>
                  </a:lnTo>
                  <a:lnTo>
                    <a:pt x="146" y="304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104120" y="3498120"/>
              <a:ext cx="163800" cy="493560"/>
            </a:xfrm>
            <a:custGeom>
              <a:avLst/>
              <a:gdLst/>
              <a:ahLst/>
              <a:rect l="l" t="t" r="r" b="b"/>
              <a:pathLst>
                <a:path w="222" h="532">
                  <a:moveTo>
                    <a:pt x="0" y="0"/>
                  </a:moveTo>
                  <a:lnTo>
                    <a:pt x="0" y="127"/>
                  </a:lnTo>
                  <a:lnTo>
                    <a:pt x="49" y="180"/>
                  </a:lnTo>
                  <a:lnTo>
                    <a:pt x="6" y="361"/>
                  </a:lnTo>
                  <a:lnTo>
                    <a:pt x="146" y="532"/>
                  </a:lnTo>
                  <a:lnTo>
                    <a:pt x="222" y="261"/>
                  </a:lnTo>
                  <a:lnTo>
                    <a:pt x="97" y="174"/>
                  </a:lnTo>
                  <a:lnTo>
                    <a:pt x="10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59760" y="2363400"/>
              <a:ext cx="171720" cy="59760"/>
            </a:xfrm>
            <a:custGeom>
              <a:avLst/>
              <a:gdLst/>
              <a:ahLst/>
              <a:rect l="l" t="t" r="r" b="b"/>
              <a:pathLst>
                <a:path w="232" h="65">
                  <a:moveTo>
                    <a:pt x="232" y="65"/>
                  </a:moveTo>
                  <a:lnTo>
                    <a:pt x="0" y="0"/>
                  </a:lnTo>
                  <a:lnTo>
                    <a:pt x="10" y="65"/>
                  </a:lnTo>
                  <a:lnTo>
                    <a:pt x="232" y="6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863720" y="2508120"/>
              <a:ext cx="168480" cy="88920"/>
            </a:xfrm>
            <a:custGeom>
              <a:avLst/>
              <a:gdLst/>
              <a:ahLst/>
              <a:rect l="l" t="t" r="r" b="b"/>
              <a:pathLst>
                <a:path w="227" h="95">
                  <a:moveTo>
                    <a:pt x="227" y="0"/>
                  </a:moveTo>
                  <a:lnTo>
                    <a:pt x="0" y="42"/>
                  </a:lnTo>
                  <a:lnTo>
                    <a:pt x="54" y="95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42400" y="3364200"/>
              <a:ext cx="206280" cy="538200"/>
            </a:xfrm>
            <a:custGeom>
              <a:avLst/>
              <a:gdLst/>
              <a:ahLst/>
              <a:rect l="l" t="t" r="r" b="b"/>
              <a:pathLst>
                <a:path w="280" h="580">
                  <a:moveTo>
                    <a:pt x="140" y="0"/>
                  </a:moveTo>
                  <a:lnTo>
                    <a:pt x="243" y="80"/>
                  </a:lnTo>
                  <a:lnTo>
                    <a:pt x="0" y="580"/>
                  </a:lnTo>
                  <a:lnTo>
                    <a:pt x="280" y="6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236600" y="3694680"/>
              <a:ext cx="198720" cy="285840"/>
            </a:xfrm>
            <a:custGeom>
              <a:avLst/>
              <a:gdLst/>
              <a:ahLst/>
              <a:rect l="l" t="t" r="r" b="b"/>
              <a:pathLst>
                <a:path w="268" h="309">
                  <a:moveTo>
                    <a:pt x="42" y="0"/>
                  </a:moveTo>
                  <a:lnTo>
                    <a:pt x="0" y="165"/>
                  </a:lnTo>
                  <a:lnTo>
                    <a:pt x="268" y="309"/>
                  </a:lnTo>
                  <a:lnTo>
                    <a:pt x="36" y="13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52400" y="3373200"/>
              <a:ext cx="30240" cy="321120"/>
            </a:xfrm>
            <a:custGeom>
              <a:avLst/>
              <a:gdLst/>
              <a:ahLst/>
              <a:rect l="l" t="t" r="r" b="b"/>
              <a:pathLst>
                <a:path w="43" h="345">
                  <a:moveTo>
                    <a:pt x="27" y="10"/>
                  </a:moveTo>
                  <a:lnTo>
                    <a:pt x="0" y="345"/>
                  </a:lnTo>
                  <a:lnTo>
                    <a:pt x="43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996560" y="3728160"/>
              <a:ext cx="27000" cy="406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20" y="45"/>
                  </a:moveTo>
                  <a:lnTo>
                    <a:pt x="27" y="44"/>
                  </a:lnTo>
                  <a:lnTo>
                    <a:pt x="33" y="39"/>
                  </a:lnTo>
                  <a:lnTo>
                    <a:pt x="38" y="32"/>
                  </a:lnTo>
                  <a:lnTo>
                    <a:pt x="39" y="23"/>
                  </a:lnTo>
                  <a:lnTo>
                    <a:pt x="38" y="14"/>
                  </a:lnTo>
                  <a:lnTo>
                    <a:pt x="33" y="7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6" y="39"/>
                  </a:lnTo>
                  <a:lnTo>
                    <a:pt x="13" y="4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0160" y="2344680"/>
              <a:ext cx="296640" cy="246960"/>
            </a:xfrm>
            <a:custGeom>
              <a:avLst/>
              <a:gdLst/>
              <a:ahLst/>
              <a:rect l="l" t="t" r="r" b="b"/>
              <a:pathLst>
                <a:path w="400" h="264">
                  <a:moveTo>
                    <a:pt x="0" y="110"/>
                  </a:moveTo>
                  <a:lnTo>
                    <a:pt x="3" y="108"/>
                  </a:lnTo>
                  <a:lnTo>
                    <a:pt x="15" y="101"/>
                  </a:lnTo>
                  <a:lnTo>
                    <a:pt x="34" y="92"/>
                  </a:lnTo>
                  <a:lnTo>
                    <a:pt x="57" y="80"/>
                  </a:lnTo>
                  <a:lnTo>
                    <a:pt x="85" y="69"/>
                  </a:lnTo>
                  <a:lnTo>
                    <a:pt x="117" y="58"/>
                  </a:lnTo>
                  <a:lnTo>
                    <a:pt x="149" y="49"/>
                  </a:lnTo>
                  <a:lnTo>
                    <a:pt x="185" y="43"/>
                  </a:lnTo>
                  <a:lnTo>
                    <a:pt x="220" y="42"/>
                  </a:lnTo>
                  <a:lnTo>
                    <a:pt x="255" y="47"/>
                  </a:lnTo>
                  <a:lnTo>
                    <a:pt x="289" y="58"/>
                  </a:lnTo>
                  <a:lnTo>
                    <a:pt x="321" y="79"/>
                  </a:lnTo>
                  <a:lnTo>
                    <a:pt x="348" y="108"/>
                  </a:lnTo>
                  <a:lnTo>
                    <a:pt x="371" y="148"/>
                  </a:lnTo>
                  <a:lnTo>
                    <a:pt x="388" y="200"/>
                  </a:lnTo>
                  <a:lnTo>
                    <a:pt x="399" y="264"/>
                  </a:lnTo>
                  <a:lnTo>
                    <a:pt x="399" y="259"/>
                  </a:lnTo>
                  <a:lnTo>
                    <a:pt x="400" y="245"/>
                  </a:lnTo>
                  <a:lnTo>
                    <a:pt x="400" y="223"/>
                  </a:lnTo>
                  <a:lnTo>
                    <a:pt x="399" y="195"/>
                  </a:lnTo>
                  <a:lnTo>
                    <a:pt x="395" y="164"/>
                  </a:lnTo>
                  <a:lnTo>
                    <a:pt x="390" y="131"/>
                  </a:lnTo>
                  <a:lnTo>
                    <a:pt x="379" y="99"/>
                  </a:lnTo>
                  <a:lnTo>
                    <a:pt x="365" y="68"/>
                  </a:lnTo>
                  <a:lnTo>
                    <a:pt x="345" y="40"/>
                  </a:lnTo>
                  <a:lnTo>
                    <a:pt x="321" y="18"/>
                  </a:lnTo>
                  <a:lnTo>
                    <a:pt x="288" y="4"/>
                  </a:lnTo>
                  <a:lnTo>
                    <a:pt x="248" y="0"/>
                  </a:lnTo>
                  <a:lnTo>
                    <a:pt x="201" y="5"/>
                  </a:lnTo>
                  <a:lnTo>
                    <a:pt x="145" y="25"/>
                  </a:lnTo>
                  <a:lnTo>
                    <a:pt x="77" y="5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1955160" y="3260160"/>
              <a:ext cx="127080" cy="196920"/>
            </a:xfrm>
            <a:custGeom>
              <a:avLst/>
              <a:gdLst/>
              <a:ahLst/>
              <a:rect l="l" t="t" r="r" b="b"/>
              <a:pathLst>
                <a:path w="174" h="210">
                  <a:moveTo>
                    <a:pt x="138" y="87"/>
                  </a:moveTo>
                  <a:lnTo>
                    <a:pt x="87" y="0"/>
                  </a:lnTo>
                  <a:lnTo>
                    <a:pt x="111" y="93"/>
                  </a:lnTo>
                  <a:lnTo>
                    <a:pt x="104" y="94"/>
                  </a:lnTo>
                  <a:lnTo>
                    <a:pt x="98" y="95"/>
                  </a:lnTo>
                  <a:lnTo>
                    <a:pt x="92" y="97"/>
                  </a:lnTo>
                  <a:lnTo>
                    <a:pt x="86" y="99"/>
                  </a:lnTo>
                  <a:lnTo>
                    <a:pt x="36" y="26"/>
                  </a:lnTo>
                  <a:lnTo>
                    <a:pt x="65" y="110"/>
                  </a:lnTo>
                  <a:lnTo>
                    <a:pt x="61" y="114"/>
                  </a:lnTo>
                  <a:lnTo>
                    <a:pt x="56" y="117"/>
                  </a:lnTo>
                  <a:lnTo>
                    <a:pt x="51" y="121"/>
                  </a:lnTo>
                  <a:lnTo>
                    <a:pt x="47" y="125"/>
                  </a:lnTo>
                  <a:lnTo>
                    <a:pt x="0" y="91"/>
                  </a:lnTo>
                  <a:lnTo>
                    <a:pt x="28" y="146"/>
                  </a:lnTo>
                  <a:lnTo>
                    <a:pt x="31" y="145"/>
                  </a:lnTo>
                  <a:lnTo>
                    <a:pt x="19" y="165"/>
                  </a:lnTo>
                  <a:lnTo>
                    <a:pt x="10" y="184"/>
                  </a:lnTo>
                  <a:lnTo>
                    <a:pt x="5" y="198"/>
                  </a:lnTo>
                  <a:lnTo>
                    <a:pt x="3" y="202"/>
                  </a:lnTo>
                  <a:lnTo>
                    <a:pt x="119" y="112"/>
                  </a:lnTo>
                  <a:lnTo>
                    <a:pt x="114" y="130"/>
                  </a:lnTo>
                  <a:lnTo>
                    <a:pt x="112" y="150"/>
                  </a:lnTo>
                  <a:lnTo>
                    <a:pt x="113" y="177"/>
                  </a:lnTo>
                  <a:lnTo>
                    <a:pt x="118" y="210"/>
                  </a:lnTo>
                  <a:lnTo>
                    <a:pt x="119" y="205"/>
                  </a:lnTo>
                  <a:lnTo>
                    <a:pt x="121" y="191"/>
                  </a:lnTo>
                  <a:lnTo>
                    <a:pt x="125" y="170"/>
                  </a:lnTo>
                  <a:lnTo>
                    <a:pt x="131" y="146"/>
                  </a:lnTo>
                  <a:lnTo>
                    <a:pt x="139" y="122"/>
                  </a:lnTo>
                  <a:lnTo>
                    <a:pt x="148" y="101"/>
                  </a:lnTo>
                  <a:lnTo>
                    <a:pt x="160" y="85"/>
                  </a:lnTo>
                  <a:lnTo>
                    <a:pt x="174" y="78"/>
                  </a:lnTo>
                  <a:lnTo>
                    <a:pt x="173" y="78"/>
                  </a:lnTo>
                  <a:lnTo>
                    <a:pt x="170" y="78"/>
                  </a:lnTo>
                  <a:lnTo>
                    <a:pt x="167" y="78"/>
                  </a:lnTo>
                  <a:lnTo>
                    <a:pt x="162" y="78"/>
                  </a:lnTo>
                  <a:lnTo>
                    <a:pt x="156" y="79"/>
                  </a:lnTo>
                  <a:lnTo>
                    <a:pt x="150" y="80"/>
                  </a:lnTo>
                  <a:lnTo>
                    <a:pt x="145" y="83"/>
                  </a:lnTo>
                  <a:lnTo>
                    <a:pt x="138" y="8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1968480" y="3137400"/>
              <a:ext cx="60480" cy="24120"/>
            </a:xfrm>
            <a:custGeom>
              <a:avLst/>
              <a:gdLst/>
              <a:ahLst/>
              <a:rect l="l" t="t" r="r" b="b"/>
              <a:pathLst>
                <a:path w="80" h="25">
                  <a:moveTo>
                    <a:pt x="0" y="20"/>
                  </a:moveTo>
                  <a:lnTo>
                    <a:pt x="2" y="21"/>
                  </a:lnTo>
                  <a:lnTo>
                    <a:pt x="8" y="22"/>
                  </a:lnTo>
                  <a:lnTo>
                    <a:pt x="15" y="24"/>
                  </a:lnTo>
                  <a:lnTo>
                    <a:pt x="25" y="25"/>
                  </a:lnTo>
                  <a:lnTo>
                    <a:pt x="37" y="25"/>
                  </a:lnTo>
                  <a:lnTo>
                    <a:pt x="51" y="24"/>
                  </a:lnTo>
                  <a:lnTo>
                    <a:pt x="65" y="21"/>
                  </a:lnTo>
                  <a:lnTo>
                    <a:pt x="80" y="14"/>
                  </a:lnTo>
                  <a:lnTo>
                    <a:pt x="72" y="0"/>
                  </a:lnTo>
                  <a:lnTo>
                    <a:pt x="59" y="6"/>
                  </a:lnTo>
                  <a:lnTo>
                    <a:pt x="47" y="8"/>
                  </a:lnTo>
                  <a:lnTo>
                    <a:pt x="37" y="9"/>
                  </a:lnTo>
                  <a:lnTo>
                    <a:pt x="28" y="9"/>
                  </a:lnTo>
                  <a:lnTo>
                    <a:pt x="19" y="8"/>
                  </a:lnTo>
                  <a:lnTo>
                    <a:pt x="12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409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022400" y="2057400"/>
            <a:ext cx="3789720" cy="1296720"/>
            <a:chOff x="1022400" y="2057400"/>
            <a:chExt cx="3789720" cy="1296720"/>
          </a:xfrm>
        </p:grpSpPr>
        <p:sp>
          <p:nvSpPr>
            <p:cNvPr id="415" name=""/>
            <p:cNvSpPr/>
            <p:nvPr/>
          </p:nvSpPr>
          <p:spPr>
            <a:xfrm>
              <a:off x="1226520" y="2057400"/>
              <a:ext cx="27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dsel $4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22400" y="2711520"/>
              <a:ext cx="378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mmission 17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476000" y="5581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 earn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115555"/>
              <a:gd name="adj2" fmla="val 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92291"/>
              <a:gd name="adj2" fmla="val -5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134166"/>
              <a:gd name="adj2" fmla="val 20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422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50120" y="3962520"/>
              <a:ext cx="149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4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52960" y="3693960"/>
              <a:ext cx="127152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614680" y="4351320"/>
              <a:ext cx="193680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3840" y="3962520"/>
              <a:ext cx="178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7%, $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4242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part, whole, and percents (portion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463480" y="2286000"/>
            <a:ext cx="39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 = 0.17• 4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95160" y="1353960"/>
            <a:ext cx="603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17% of $45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9960" y="487692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lick Sam earned $765 by selling the Ed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13040" y="3048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7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2360" y="2590920"/>
            <a:ext cx="51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765,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7% of 45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413360" y="3870360"/>
            <a:ext cx="13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360" y="40831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.17  = 1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874800" y="4924440"/>
            <a:ext cx="7888320" cy="1476360"/>
          </a:xfrm>
          <a:custGeom>
            <a:avLst/>
            <a:gdLst>
              <a:gd name="textAreaLeft" fmla="*/ 1380240 w 7888320"/>
              <a:gd name="textAreaRight" fmla="*/ 5718960 w 7888320"/>
              <a:gd name="textAreaTop" fmla="*/ 197640 h 1476360"/>
              <a:gd name="textAreaBottom" fmla="*/ 1278720 h 14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608400" y="1523160"/>
            <a:ext cx="7936200" cy="1538280"/>
          </a:xfrm>
          <a:custGeom>
            <a:avLst/>
            <a:gdLst>
              <a:gd name="textAreaLeft" fmla="*/ 1388880 w 7936200"/>
              <a:gd name="textAreaRight" fmla="*/ 5753880 w 7936200"/>
              <a:gd name="textAreaTop" fmla="*/ 205920 h 1538280"/>
              <a:gd name="textAreaBottom" fmla="*/ 133236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7280" y="2924280"/>
            <a:ext cx="750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Percent of </a:t>
            </a:r>
            <a:br>
              <a:rPr sz="6600"/>
            </a:b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Increase/Decre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85264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628200" y="1676520"/>
            <a:ext cx="8134920" cy="4650120"/>
            <a:chOff x="628200" y="1676520"/>
            <a:chExt cx="8134920" cy="4650120"/>
          </a:xfrm>
        </p:grpSpPr>
        <p:sp>
          <p:nvSpPr>
            <p:cNvPr id="444" name=""/>
            <p:cNvSpPr/>
            <p:nvPr/>
          </p:nvSpPr>
          <p:spPr>
            <a:xfrm>
              <a:off x="4191120" y="1676520"/>
              <a:ext cx="45720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Arizona ridge nosed rattle snake is on the endangered species list. 20 years ago the estimated number in the state was 7500.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200" y="5257800"/>
              <a:ext cx="7701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oday ecologists think about 2500 are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live.  What is the percent of decr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28200" y="1676520"/>
            <a:ext cx="8134920" cy="4650120"/>
            <a:chOff x="628200" y="1676520"/>
            <a:chExt cx="8134920" cy="4650120"/>
          </a:xfrm>
        </p:grpSpPr>
        <p:sp>
          <p:nvSpPr>
            <p:cNvPr id="447" name=""/>
            <p:cNvSpPr/>
            <p:nvPr/>
          </p:nvSpPr>
          <p:spPr>
            <a:xfrm>
              <a:off x="4191120" y="1676520"/>
              <a:ext cx="45720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Arizona ridge nosed rattle snake is on the endangered species list.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20 years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ago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the estimated number in the state was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7500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200" y="5257800"/>
              <a:ext cx="7701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oday ecologists think about </a:t>
              </a: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2500 are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 alive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  What is the </a:t>
              </a: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percent of decrease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450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9960" y="1797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iginally 7500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                sn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now 2500 snak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6400" y="57913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perce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93480" y="2057400"/>
            <a:ext cx="5387760" cy="3505320"/>
            <a:chOff x="3093480" y="2057400"/>
            <a:chExt cx="5387760" cy="3505320"/>
          </a:xfrm>
        </p:grpSpPr>
        <p:grpSp>
          <p:nvGrpSpPr>
            <p:cNvPr id="458" name=""/>
            <p:cNvGrpSpPr/>
            <p:nvPr/>
          </p:nvGrpSpPr>
          <p:grpSpPr>
            <a:xfrm>
              <a:off x="3093480" y="2057400"/>
              <a:ext cx="5387760" cy="3505320"/>
              <a:chOff x="3093480" y="2057400"/>
              <a:chExt cx="5387760" cy="3505320"/>
            </a:xfrm>
          </p:grpSpPr>
          <p:sp>
            <p:nvSpPr>
              <p:cNvPr id="459" name=""/>
              <p:cNvSpPr/>
              <p:nvPr/>
            </p:nvSpPr>
            <p:spPr>
              <a:xfrm>
                <a:off x="4277880" y="2071800"/>
                <a:ext cx="547560" cy="3490920"/>
              </a:xfrm>
              <a:custGeom>
                <a:avLst/>
                <a:gdLst>
                  <a:gd name="textAreaLeft" fmla="*/ 349920 w 547560"/>
                  <a:gd name="textAreaRight" fmla="*/ 547920 w 547560"/>
                  <a:gd name="textAreaTop" fmla="*/ 90720 h 3490920"/>
                  <a:gd name="textAreaBottom" fmla="*/ 3400200 h 349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5910"/>
                    </a:lnTo>
                    <a:cubicBezTo>
                      <a:pt x="10800" y="16810"/>
                      <a:pt x="5400" y="17710"/>
                      <a:pt x="0" y="17710"/>
                    </a:cubicBezTo>
                    <a:cubicBezTo>
                      <a:pt x="5400" y="17710"/>
                      <a:pt x="10800" y="18610"/>
                      <a:pt x="10800" y="1951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3093480" y="2057400"/>
                <a:ext cx="5387760" cy="3490920"/>
                <a:chOff x="3093480" y="2057400"/>
                <a:chExt cx="5387760" cy="349092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825440" y="2057400"/>
                  <a:ext cx="3655800" cy="3490920"/>
                  <a:chOff x="4825440" y="2057400"/>
                  <a:chExt cx="3655800" cy="34909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825440" y="2071800"/>
                    <a:ext cx="1521360" cy="3476520"/>
                  </a:xfrm>
                  <a:prstGeom prst="rect">
                    <a:avLst/>
                  </a:prstGeom>
                  <a:solidFill>
                    <a:srgbClr val="3333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66ccff"/>
                        </a:solidFill>
                        <a:latin typeface="Comic Sans MS"/>
                      </a:rPr>
                      <a:t>snakes</a:t>
                    </a:r>
                    <a:br>
                      <a:rPr sz="3200"/>
                    </a:br>
                    <a:r>
                      <a:rPr b="0" lang="en-US" sz="3200" spc="-1" strike="noStrike">
                        <a:solidFill>
                          <a:srgbClr val="66ccff"/>
                        </a:solidFill>
                        <a:latin typeface="Comic Sans MS"/>
                      </a:rPr>
                      <a:t>alive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825440" y="2071800"/>
                    <a:ext cx="1521360" cy="57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ecrease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346800" y="2071800"/>
                    <a:ext cx="730080" cy="566640"/>
                  </a:xfrm>
                  <a:custGeom>
                    <a:avLst/>
                    <a:gdLst>
                      <a:gd name="textAreaLeft" fmla="*/ 0 w 730080"/>
                      <a:gd name="textAreaRight" fmla="*/ 263520 w 730080"/>
                      <a:gd name="textAreaTop" fmla="*/ 14760 h 566640"/>
                      <a:gd name="textAreaBottom" fmla="*/ 551880 h 566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346800" y="2651040"/>
                    <a:ext cx="730080" cy="2897280"/>
                  </a:xfrm>
                  <a:custGeom>
                    <a:avLst/>
                    <a:gdLst>
                      <a:gd name="textAreaLeft" fmla="*/ 0 w 730080"/>
                      <a:gd name="textAreaRight" fmla="*/ 263520 w 730080"/>
                      <a:gd name="textAreaTop" fmla="*/ 75240 h 2897280"/>
                      <a:gd name="textAreaBottom" fmla="*/ 2822040 h 2897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cubicBezTo>
                          <a:pt x="54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16200" y="10800"/>
                          <a:pt x="21600" y="10800"/>
                        </a:cubicBezTo>
                        <a:cubicBezTo>
                          <a:pt x="162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5400" y="21600"/>
                          <a:pt x="0" y="2160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075080" y="2057400"/>
                    <a:ext cx="1406160" cy="5205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3333cc"/>
                        </a:solidFill>
                        <a:latin typeface="Comic Sans MS"/>
                      </a:rPr>
                      <a:t>% dec.?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120080" y="3871800"/>
                    <a:ext cx="991440" cy="5205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3333cc"/>
                        </a:solidFill>
                        <a:latin typeface="Comic Sans MS"/>
                      </a:rPr>
                      <a:t>250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3093480" y="4648320"/>
                  <a:ext cx="99144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75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5241960" y="4481640"/>
              <a:ext cx="762120" cy="86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533520" y="1447920"/>
            <a:ext cx="8038800" cy="1191240"/>
            <a:chOff x="533520" y="1447920"/>
            <a:chExt cx="8038800" cy="1191240"/>
          </a:xfrm>
        </p:grpSpPr>
        <p:sp>
          <p:nvSpPr>
            <p:cNvPr id="472" name=""/>
            <p:cNvSpPr/>
            <p:nvPr/>
          </p:nvSpPr>
          <p:spPr>
            <a:xfrm>
              <a:off x="533520" y="14479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3002760" y="1479600"/>
              <a:ext cx="4010400" cy="1127520"/>
              <a:chOff x="3002760" y="1479600"/>
              <a:chExt cx="4010400" cy="1127520"/>
            </a:xfrm>
          </p:grpSpPr>
          <p:sp>
            <p:nvSpPr>
              <p:cNvPr id="474" name=""/>
              <p:cNvSpPr/>
              <p:nvPr/>
            </p:nvSpPr>
            <p:spPr>
              <a:xfrm>
                <a:off x="3002760" y="1479600"/>
                <a:ext cx="401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de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87400" y="202572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32000" y="202572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934320" y="172080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54280" y="17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127880" y="2743200"/>
            <a:ext cx="746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ount of decrease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5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58320" y="342900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5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09480" y="4219560"/>
            <a:ext cx="8038800" cy="1191240"/>
            <a:chOff x="609480" y="4219560"/>
            <a:chExt cx="8038800" cy="1191240"/>
          </a:xfrm>
        </p:grpSpPr>
        <p:sp>
          <p:nvSpPr>
            <p:cNvPr id="482" name=""/>
            <p:cNvSpPr/>
            <p:nvPr/>
          </p:nvSpPr>
          <p:spPr>
            <a:xfrm>
              <a:off x="609480" y="421956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208320" y="4251240"/>
              <a:ext cx="3749400" cy="1127520"/>
              <a:chOff x="3208320" y="4251240"/>
              <a:chExt cx="3749400" cy="1127520"/>
            </a:xfrm>
          </p:grpSpPr>
          <p:sp>
            <p:nvSpPr>
              <p:cNvPr id="484" name=""/>
              <p:cNvSpPr/>
              <p:nvPr/>
            </p:nvSpPr>
            <p:spPr>
              <a:xfrm>
                <a:off x="3248640" y="4251240"/>
                <a:ext cx="227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5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01240" y="4797360"/>
                <a:ext cx="174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75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08320" y="479736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7010280" y="449244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30240" y="4492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773440" y="5759280"/>
            <a:ext cx="52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66…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7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43200" y="5791320"/>
            <a:ext cx="2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742680" y="129528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428200" y="2347920"/>
            <a:ext cx="41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7% of 750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40320" y="3747960"/>
            <a:ext cx="564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67 x  7500 =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5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04120" y="519588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1063800" y="1600200"/>
            <a:ext cx="6643440" cy="4700520"/>
            <a:chOff x="1063800" y="1600200"/>
            <a:chExt cx="6643440" cy="4700520"/>
          </a:xfrm>
        </p:grpSpPr>
        <p:sp>
          <p:nvSpPr>
            <p:cNvPr id="498" name=""/>
            <p:cNvSpPr/>
            <p:nvPr/>
          </p:nvSpPr>
          <p:spPr>
            <a:xfrm>
              <a:off x="1063800" y="1635120"/>
              <a:ext cx="3336840" cy="4656240"/>
            </a:xfrm>
            <a:custGeom>
              <a:avLst/>
              <a:gdLst/>
              <a:ahLst/>
              <a:rect l="l" t="t" r="r" b="b"/>
              <a:pathLst>
                <a:path w="4205" h="5867">
                  <a:moveTo>
                    <a:pt x="4205" y="5162"/>
                  </a:moveTo>
                  <a:lnTo>
                    <a:pt x="4184" y="5070"/>
                  </a:lnTo>
                  <a:lnTo>
                    <a:pt x="4165" y="4978"/>
                  </a:lnTo>
                  <a:lnTo>
                    <a:pt x="4146" y="4889"/>
                  </a:lnTo>
                  <a:lnTo>
                    <a:pt x="4128" y="4800"/>
                  </a:lnTo>
                  <a:lnTo>
                    <a:pt x="4107" y="4712"/>
                  </a:lnTo>
                  <a:lnTo>
                    <a:pt x="4086" y="4624"/>
                  </a:lnTo>
                  <a:lnTo>
                    <a:pt x="4062" y="4536"/>
                  </a:lnTo>
                  <a:lnTo>
                    <a:pt x="4038" y="4449"/>
                  </a:lnTo>
                  <a:lnTo>
                    <a:pt x="4032" y="4425"/>
                  </a:lnTo>
                  <a:lnTo>
                    <a:pt x="4025" y="4402"/>
                  </a:lnTo>
                  <a:lnTo>
                    <a:pt x="4018" y="4379"/>
                  </a:lnTo>
                  <a:lnTo>
                    <a:pt x="4013" y="4358"/>
                  </a:lnTo>
                  <a:lnTo>
                    <a:pt x="4004" y="4337"/>
                  </a:lnTo>
                  <a:lnTo>
                    <a:pt x="4001" y="4317"/>
                  </a:lnTo>
                  <a:lnTo>
                    <a:pt x="3999" y="4297"/>
                  </a:lnTo>
                  <a:lnTo>
                    <a:pt x="4001" y="4281"/>
                  </a:lnTo>
                  <a:lnTo>
                    <a:pt x="3955" y="4108"/>
                  </a:lnTo>
                  <a:lnTo>
                    <a:pt x="3905" y="3941"/>
                  </a:lnTo>
                  <a:lnTo>
                    <a:pt x="3850" y="3776"/>
                  </a:lnTo>
                  <a:lnTo>
                    <a:pt x="3795" y="3613"/>
                  </a:lnTo>
                  <a:lnTo>
                    <a:pt x="3738" y="3451"/>
                  </a:lnTo>
                  <a:lnTo>
                    <a:pt x="3681" y="3291"/>
                  </a:lnTo>
                  <a:lnTo>
                    <a:pt x="3623" y="3130"/>
                  </a:lnTo>
                  <a:lnTo>
                    <a:pt x="3570" y="2969"/>
                  </a:lnTo>
                  <a:lnTo>
                    <a:pt x="3539" y="2882"/>
                  </a:lnTo>
                  <a:lnTo>
                    <a:pt x="3510" y="2795"/>
                  </a:lnTo>
                  <a:lnTo>
                    <a:pt x="3479" y="2707"/>
                  </a:lnTo>
                  <a:lnTo>
                    <a:pt x="3449" y="2623"/>
                  </a:lnTo>
                  <a:lnTo>
                    <a:pt x="3417" y="2536"/>
                  </a:lnTo>
                  <a:lnTo>
                    <a:pt x="3386" y="2452"/>
                  </a:lnTo>
                  <a:lnTo>
                    <a:pt x="3354" y="2369"/>
                  </a:lnTo>
                  <a:lnTo>
                    <a:pt x="3323" y="2290"/>
                  </a:lnTo>
                  <a:lnTo>
                    <a:pt x="3169" y="2202"/>
                  </a:lnTo>
                  <a:lnTo>
                    <a:pt x="3016" y="2112"/>
                  </a:lnTo>
                  <a:lnTo>
                    <a:pt x="2862" y="2021"/>
                  </a:lnTo>
                  <a:lnTo>
                    <a:pt x="2708" y="1932"/>
                  </a:lnTo>
                  <a:lnTo>
                    <a:pt x="2551" y="1841"/>
                  </a:lnTo>
                  <a:lnTo>
                    <a:pt x="2395" y="1755"/>
                  </a:lnTo>
                  <a:lnTo>
                    <a:pt x="2237" y="1671"/>
                  </a:lnTo>
                  <a:lnTo>
                    <a:pt x="2080" y="1594"/>
                  </a:lnTo>
                  <a:lnTo>
                    <a:pt x="2088" y="1534"/>
                  </a:lnTo>
                  <a:lnTo>
                    <a:pt x="2097" y="1472"/>
                  </a:lnTo>
                  <a:lnTo>
                    <a:pt x="2099" y="1406"/>
                  </a:lnTo>
                  <a:lnTo>
                    <a:pt x="2098" y="1343"/>
                  </a:lnTo>
                  <a:lnTo>
                    <a:pt x="2087" y="1279"/>
                  </a:lnTo>
                  <a:lnTo>
                    <a:pt x="2067" y="1220"/>
                  </a:lnTo>
                  <a:lnTo>
                    <a:pt x="2035" y="1165"/>
                  </a:lnTo>
                  <a:lnTo>
                    <a:pt x="1992" y="1119"/>
                  </a:lnTo>
                  <a:lnTo>
                    <a:pt x="1955" y="1088"/>
                  </a:lnTo>
                  <a:lnTo>
                    <a:pt x="1917" y="1066"/>
                  </a:lnTo>
                  <a:lnTo>
                    <a:pt x="1874" y="1049"/>
                  </a:lnTo>
                  <a:lnTo>
                    <a:pt x="1830" y="1038"/>
                  </a:lnTo>
                  <a:lnTo>
                    <a:pt x="1785" y="1031"/>
                  </a:lnTo>
                  <a:lnTo>
                    <a:pt x="1741" y="1028"/>
                  </a:lnTo>
                  <a:lnTo>
                    <a:pt x="1697" y="1026"/>
                  </a:lnTo>
                  <a:lnTo>
                    <a:pt x="1657" y="1031"/>
                  </a:lnTo>
                  <a:lnTo>
                    <a:pt x="1648" y="1022"/>
                  </a:lnTo>
                  <a:lnTo>
                    <a:pt x="1490" y="1033"/>
                  </a:lnTo>
                  <a:lnTo>
                    <a:pt x="1337" y="1057"/>
                  </a:lnTo>
                  <a:lnTo>
                    <a:pt x="1186" y="1087"/>
                  </a:lnTo>
                  <a:lnTo>
                    <a:pt x="1037" y="1123"/>
                  </a:lnTo>
                  <a:lnTo>
                    <a:pt x="888" y="1159"/>
                  </a:lnTo>
                  <a:lnTo>
                    <a:pt x="740" y="1197"/>
                  </a:lnTo>
                  <a:lnTo>
                    <a:pt x="591" y="1231"/>
                  </a:lnTo>
                  <a:lnTo>
                    <a:pt x="441" y="1259"/>
                  </a:lnTo>
                  <a:lnTo>
                    <a:pt x="427" y="1259"/>
                  </a:lnTo>
                  <a:lnTo>
                    <a:pt x="416" y="1256"/>
                  </a:lnTo>
                  <a:lnTo>
                    <a:pt x="405" y="1249"/>
                  </a:lnTo>
                  <a:lnTo>
                    <a:pt x="398" y="1241"/>
                  </a:lnTo>
                  <a:lnTo>
                    <a:pt x="391" y="1227"/>
                  </a:lnTo>
                  <a:lnTo>
                    <a:pt x="387" y="1214"/>
                  </a:lnTo>
                  <a:lnTo>
                    <a:pt x="385" y="1202"/>
                  </a:lnTo>
                  <a:lnTo>
                    <a:pt x="388" y="1189"/>
                  </a:lnTo>
                  <a:lnTo>
                    <a:pt x="450" y="1061"/>
                  </a:lnTo>
                  <a:lnTo>
                    <a:pt x="530" y="942"/>
                  </a:lnTo>
                  <a:lnTo>
                    <a:pt x="621" y="830"/>
                  </a:lnTo>
                  <a:lnTo>
                    <a:pt x="720" y="722"/>
                  </a:lnTo>
                  <a:lnTo>
                    <a:pt x="821" y="614"/>
                  </a:lnTo>
                  <a:lnTo>
                    <a:pt x="921" y="508"/>
                  </a:lnTo>
                  <a:lnTo>
                    <a:pt x="1012" y="397"/>
                  </a:lnTo>
                  <a:lnTo>
                    <a:pt x="1093" y="282"/>
                  </a:lnTo>
                  <a:lnTo>
                    <a:pt x="1111" y="282"/>
                  </a:lnTo>
                  <a:lnTo>
                    <a:pt x="1117" y="267"/>
                  </a:lnTo>
                  <a:lnTo>
                    <a:pt x="1125" y="253"/>
                  </a:lnTo>
                  <a:lnTo>
                    <a:pt x="1134" y="237"/>
                  </a:lnTo>
                  <a:lnTo>
                    <a:pt x="1144" y="223"/>
                  </a:lnTo>
                  <a:lnTo>
                    <a:pt x="1149" y="206"/>
                  </a:lnTo>
                  <a:lnTo>
                    <a:pt x="1156" y="191"/>
                  </a:lnTo>
                  <a:lnTo>
                    <a:pt x="1160" y="174"/>
                  </a:lnTo>
                  <a:lnTo>
                    <a:pt x="1163" y="159"/>
                  </a:lnTo>
                  <a:lnTo>
                    <a:pt x="1173" y="167"/>
                  </a:lnTo>
                  <a:lnTo>
                    <a:pt x="1174" y="150"/>
                  </a:lnTo>
                  <a:lnTo>
                    <a:pt x="1177" y="135"/>
                  </a:lnTo>
                  <a:lnTo>
                    <a:pt x="1177" y="120"/>
                  </a:lnTo>
                  <a:lnTo>
                    <a:pt x="1179" y="107"/>
                  </a:lnTo>
                  <a:lnTo>
                    <a:pt x="1177" y="92"/>
                  </a:lnTo>
                  <a:lnTo>
                    <a:pt x="1177" y="79"/>
                  </a:lnTo>
                  <a:lnTo>
                    <a:pt x="1174" y="65"/>
                  </a:lnTo>
                  <a:lnTo>
                    <a:pt x="1173" y="52"/>
                  </a:lnTo>
                  <a:lnTo>
                    <a:pt x="1128" y="17"/>
                  </a:lnTo>
                  <a:lnTo>
                    <a:pt x="1099" y="7"/>
                  </a:lnTo>
                  <a:lnTo>
                    <a:pt x="1069" y="3"/>
                  </a:lnTo>
                  <a:lnTo>
                    <a:pt x="1041" y="0"/>
                  </a:lnTo>
                  <a:lnTo>
                    <a:pt x="1015" y="3"/>
                  </a:lnTo>
                  <a:lnTo>
                    <a:pt x="987" y="6"/>
                  </a:lnTo>
                  <a:lnTo>
                    <a:pt x="960" y="13"/>
                  </a:lnTo>
                  <a:lnTo>
                    <a:pt x="933" y="21"/>
                  </a:lnTo>
                  <a:lnTo>
                    <a:pt x="908" y="35"/>
                  </a:lnTo>
                  <a:lnTo>
                    <a:pt x="900" y="27"/>
                  </a:lnTo>
                  <a:lnTo>
                    <a:pt x="795" y="58"/>
                  </a:lnTo>
                  <a:lnTo>
                    <a:pt x="687" y="93"/>
                  </a:lnTo>
                  <a:lnTo>
                    <a:pt x="574" y="131"/>
                  </a:lnTo>
                  <a:lnTo>
                    <a:pt x="462" y="173"/>
                  </a:lnTo>
                  <a:lnTo>
                    <a:pt x="346" y="216"/>
                  </a:lnTo>
                  <a:lnTo>
                    <a:pt x="231" y="263"/>
                  </a:lnTo>
                  <a:lnTo>
                    <a:pt x="115" y="310"/>
                  </a:lnTo>
                  <a:lnTo>
                    <a:pt x="0" y="361"/>
                  </a:lnTo>
                  <a:lnTo>
                    <a:pt x="3" y="373"/>
                  </a:lnTo>
                  <a:lnTo>
                    <a:pt x="4" y="386"/>
                  </a:lnTo>
                  <a:lnTo>
                    <a:pt x="7" y="397"/>
                  </a:lnTo>
                  <a:lnTo>
                    <a:pt x="18" y="405"/>
                  </a:lnTo>
                  <a:lnTo>
                    <a:pt x="139" y="362"/>
                  </a:lnTo>
                  <a:lnTo>
                    <a:pt x="259" y="317"/>
                  </a:lnTo>
                  <a:lnTo>
                    <a:pt x="380" y="270"/>
                  </a:lnTo>
                  <a:lnTo>
                    <a:pt x="500" y="223"/>
                  </a:lnTo>
                  <a:lnTo>
                    <a:pt x="618" y="177"/>
                  </a:lnTo>
                  <a:lnTo>
                    <a:pt x="736" y="136"/>
                  </a:lnTo>
                  <a:lnTo>
                    <a:pt x="852" y="99"/>
                  </a:lnTo>
                  <a:lnTo>
                    <a:pt x="970" y="71"/>
                  </a:lnTo>
                  <a:lnTo>
                    <a:pt x="989" y="68"/>
                  </a:lnTo>
                  <a:lnTo>
                    <a:pt x="1010" y="66"/>
                  </a:lnTo>
                  <a:lnTo>
                    <a:pt x="1030" y="64"/>
                  </a:lnTo>
                  <a:lnTo>
                    <a:pt x="1051" y="64"/>
                  </a:lnTo>
                  <a:lnTo>
                    <a:pt x="1069" y="64"/>
                  </a:lnTo>
                  <a:lnTo>
                    <a:pt x="1087" y="69"/>
                  </a:lnTo>
                  <a:lnTo>
                    <a:pt x="1104" y="79"/>
                  </a:lnTo>
                  <a:lnTo>
                    <a:pt x="1120" y="97"/>
                  </a:lnTo>
                  <a:lnTo>
                    <a:pt x="1116" y="106"/>
                  </a:lnTo>
                  <a:lnTo>
                    <a:pt x="1116" y="114"/>
                  </a:lnTo>
                  <a:lnTo>
                    <a:pt x="1116" y="122"/>
                  </a:lnTo>
                  <a:lnTo>
                    <a:pt x="1116" y="131"/>
                  </a:lnTo>
                  <a:lnTo>
                    <a:pt x="1114" y="145"/>
                  </a:lnTo>
                  <a:lnTo>
                    <a:pt x="1111" y="159"/>
                  </a:lnTo>
                  <a:lnTo>
                    <a:pt x="1036" y="265"/>
                  </a:lnTo>
                  <a:lnTo>
                    <a:pt x="957" y="366"/>
                  </a:lnTo>
                  <a:lnTo>
                    <a:pt x="876" y="460"/>
                  </a:lnTo>
                  <a:lnTo>
                    <a:pt x="793" y="553"/>
                  </a:lnTo>
                  <a:lnTo>
                    <a:pt x="706" y="642"/>
                  </a:lnTo>
                  <a:lnTo>
                    <a:pt x="621" y="735"/>
                  </a:lnTo>
                  <a:lnTo>
                    <a:pt x="534" y="830"/>
                  </a:lnTo>
                  <a:lnTo>
                    <a:pt x="450" y="934"/>
                  </a:lnTo>
                  <a:lnTo>
                    <a:pt x="430" y="969"/>
                  </a:lnTo>
                  <a:lnTo>
                    <a:pt x="408" y="1005"/>
                  </a:lnTo>
                  <a:lnTo>
                    <a:pt x="384" y="1043"/>
                  </a:lnTo>
                  <a:lnTo>
                    <a:pt x="364" y="1081"/>
                  </a:lnTo>
                  <a:lnTo>
                    <a:pt x="346" y="1119"/>
                  </a:lnTo>
                  <a:lnTo>
                    <a:pt x="335" y="1161"/>
                  </a:lnTo>
                  <a:lnTo>
                    <a:pt x="329" y="1204"/>
                  </a:lnTo>
                  <a:lnTo>
                    <a:pt x="335" y="1251"/>
                  </a:lnTo>
                  <a:lnTo>
                    <a:pt x="338" y="1272"/>
                  </a:lnTo>
                  <a:lnTo>
                    <a:pt x="346" y="1290"/>
                  </a:lnTo>
                  <a:lnTo>
                    <a:pt x="359" y="1300"/>
                  </a:lnTo>
                  <a:lnTo>
                    <a:pt x="375" y="1308"/>
                  </a:lnTo>
                  <a:lnTo>
                    <a:pt x="392" y="1312"/>
                  </a:lnTo>
                  <a:lnTo>
                    <a:pt x="412" y="1315"/>
                  </a:lnTo>
                  <a:lnTo>
                    <a:pt x="430" y="1316"/>
                  </a:lnTo>
                  <a:lnTo>
                    <a:pt x="450" y="1321"/>
                  </a:lnTo>
                  <a:lnTo>
                    <a:pt x="523" y="1308"/>
                  </a:lnTo>
                  <a:lnTo>
                    <a:pt x="598" y="1293"/>
                  </a:lnTo>
                  <a:lnTo>
                    <a:pt x="675" y="1274"/>
                  </a:lnTo>
                  <a:lnTo>
                    <a:pt x="757" y="1256"/>
                  </a:lnTo>
                  <a:lnTo>
                    <a:pt x="837" y="1235"/>
                  </a:lnTo>
                  <a:lnTo>
                    <a:pt x="918" y="1216"/>
                  </a:lnTo>
                  <a:lnTo>
                    <a:pt x="1001" y="1196"/>
                  </a:lnTo>
                  <a:lnTo>
                    <a:pt x="1085" y="1180"/>
                  </a:lnTo>
                  <a:lnTo>
                    <a:pt x="1117" y="1171"/>
                  </a:lnTo>
                  <a:lnTo>
                    <a:pt x="1149" y="1162"/>
                  </a:lnTo>
                  <a:lnTo>
                    <a:pt x="1183" y="1151"/>
                  </a:lnTo>
                  <a:lnTo>
                    <a:pt x="1216" y="1141"/>
                  </a:lnTo>
                  <a:lnTo>
                    <a:pt x="1250" y="1130"/>
                  </a:lnTo>
                  <a:lnTo>
                    <a:pt x="1285" y="1122"/>
                  </a:lnTo>
                  <a:lnTo>
                    <a:pt x="1320" y="1113"/>
                  </a:lnTo>
                  <a:lnTo>
                    <a:pt x="1358" y="1110"/>
                  </a:lnTo>
                  <a:lnTo>
                    <a:pt x="1435" y="1099"/>
                  </a:lnTo>
                  <a:lnTo>
                    <a:pt x="1515" y="1088"/>
                  </a:lnTo>
                  <a:lnTo>
                    <a:pt x="1596" y="1080"/>
                  </a:lnTo>
                  <a:lnTo>
                    <a:pt x="1678" y="1078"/>
                  </a:lnTo>
                  <a:lnTo>
                    <a:pt x="1756" y="1082"/>
                  </a:lnTo>
                  <a:lnTo>
                    <a:pt x="1832" y="1098"/>
                  </a:lnTo>
                  <a:lnTo>
                    <a:pt x="1902" y="1126"/>
                  </a:lnTo>
                  <a:lnTo>
                    <a:pt x="1966" y="1172"/>
                  </a:lnTo>
                  <a:lnTo>
                    <a:pt x="1993" y="1213"/>
                  </a:lnTo>
                  <a:lnTo>
                    <a:pt x="2014" y="1258"/>
                  </a:lnTo>
                  <a:lnTo>
                    <a:pt x="2027" y="1304"/>
                  </a:lnTo>
                  <a:lnTo>
                    <a:pt x="2034" y="1354"/>
                  </a:lnTo>
                  <a:lnTo>
                    <a:pt x="2034" y="1403"/>
                  </a:lnTo>
                  <a:lnTo>
                    <a:pt x="2029" y="1454"/>
                  </a:lnTo>
                  <a:lnTo>
                    <a:pt x="2021" y="1501"/>
                  </a:lnTo>
                  <a:lnTo>
                    <a:pt x="2010" y="1550"/>
                  </a:lnTo>
                  <a:lnTo>
                    <a:pt x="1996" y="1553"/>
                  </a:lnTo>
                  <a:lnTo>
                    <a:pt x="1987" y="1550"/>
                  </a:lnTo>
                  <a:lnTo>
                    <a:pt x="1980" y="1543"/>
                  </a:lnTo>
                  <a:lnTo>
                    <a:pt x="1975" y="1532"/>
                  </a:lnTo>
                  <a:lnTo>
                    <a:pt x="1940" y="1515"/>
                  </a:lnTo>
                  <a:lnTo>
                    <a:pt x="1905" y="1501"/>
                  </a:lnTo>
                  <a:lnTo>
                    <a:pt x="1868" y="1487"/>
                  </a:lnTo>
                  <a:lnTo>
                    <a:pt x="1833" y="1473"/>
                  </a:lnTo>
                  <a:lnTo>
                    <a:pt x="1797" y="1458"/>
                  </a:lnTo>
                  <a:lnTo>
                    <a:pt x="1760" y="1444"/>
                  </a:lnTo>
                  <a:lnTo>
                    <a:pt x="1725" y="1426"/>
                  </a:lnTo>
                  <a:lnTo>
                    <a:pt x="1693" y="1409"/>
                  </a:lnTo>
                  <a:lnTo>
                    <a:pt x="1685" y="1405"/>
                  </a:lnTo>
                  <a:lnTo>
                    <a:pt x="1676" y="1403"/>
                  </a:lnTo>
                  <a:lnTo>
                    <a:pt x="1665" y="1403"/>
                  </a:lnTo>
                  <a:lnTo>
                    <a:pt x="1655" y="1405"/>
                  </a:lnTo>
                  <a:lnTo>
                    <a:pt x="1644" y="1406"/>
                  </a:lnTo>
                  <a:lnTo>
                    <a:pt x="1633" y="1410"/>
                  </a:lnTo>
                  <a:lnTo>
                    <a:pt x="1622" y="1417"/>
                  </a:lnTo>
                  <a:lnTo>
                    <a:pt x="1613" y="1427"/>
                  </a:lnTo>
                  <a:lnTo>
                    <a:pt x="1542" y="1511"/>
                  </a:lnTo>
                  <a:lnTo>
                    <a:pt x="1474" y="1601"/>
                  </a:lnTo>
                  <a:lnTo>
                    <a:pt x="1408" y="1695"/>
                  </a:lnTo>
                  <a:lnTo>
                    <a:pt x="1347" y="1792"/>
                  </a:lnTo>
                  <a:lnTo>
                    <a:pt x="1284" y="1888"/>
                  </a:lnTo>
                  <a:lnTo>
                    <a:pt x="1221" y="1988"/>
                  </a:lnTo>
                  <a:lnTo>
                    <a:pt x="1156" y="2086"/>
                  </a:lnTo>
                  <a:lnTo>
                    <a:pt x="1093" y="2184"/>
                  </a:lnTo>
                  <a:lnTo>
                    <a:pt x="1047" y="2261"/>
                  </a:lnTo>
                  <a:lnTo>
                    <a:pt x="1001" y="2339"/>
                  </a:lnTo>
                  <a:lnTo>
                    <a:pt x="952" y="2417"/>
                  </a:lnTo>
                  <a:lnTo>
                    <a:pt x="905" y="2495"/>
                  </a:lnTo>
                  <a:lnTo>
                    <a:pt x="859" y="2572"/>
                  </a:lnTo>
                  <a:lnTo>
                    <a:pt x="816" y="2652"/>
                  </a:lnTo>
                  <a:lnTo>
                    <a:pt x="775" y="2733"/>
                  </a:lnTo>
                  <a:lnTo>
                    <a:pt x="740" y="2819"/>
                  </a:lnTo>
                  <a:lnTo>
                    <a:pt x="755" y="2861"/>
                  </a:lnTo>
                  <a:lnTo>
                    <a:pt x="778" y="2903"/>
                  </a:lnTo>
                  <a:lnTo>
                    <a:pt x="802" y="2945"/>
                  </a:lnTo>
                  <a:lnTo>
                    <a:pt x="828" y="2987"/>
                  </a:lnTo>
                  <a:lnTo>
                    <a:pt x="853" y="3029"/>
                  </a:lnTo>
                  <a:lnTo>
                    <a:pt x="879" y="3072"/>
                  </a:lnTo>
                  <a:lnTo>
                    <a:pt x="900" y="3116"/>
                  </a:lnTo>
                  <a:lnTo>
                    <a:pt x="916" y="3162"/>
                  </a:lnTo>
                  <a:lnTo>
                    <a:pt x="936" y="3215"/>
                  </a:lnTo>
                  <a:lnTo>
                    <a:pt x="961" y="3267"/>
                  </a:lnTo>
                  <a:lnTo>
                    <a:pt x="989" y="3318"/>
                  </a:lnTo>
                  <a:lnTo>
                    <a:pt x="1022" y="3368"/>
                  </a:lnTo>
                  <a:lnTo>
                    <a:pt x="1050" y="3417"/>
                  </a:lnTo>
                  <a:lnTo>
                    <a:pt x="1079" y="3469"/>
                  </a:lnTo>
                  <a:lnTo>
                    <a:pt x="1101" y="3520"/>
                  </a:lnTo>
                  <a:lnTo>
                    <a:pt x="1120" y="3576"/>
                  </a:lnTo>
                  <a:lnTo>
                    <a:pt x="1141" y="3605"/>
                  </a:lnTo>
                  <a:lnTo>
                    <a:pt x="1158" y="3640"/>
                  </a:lnTo>
                  <a:lnTo>
                    <a:pt x="1173" y="3675"/>
                  </a:lnTo>
                  <a:lnTo>
                    <a:pt x="1187" y="3712"/>
                  </a:lnTo>
                  <a:lnTo>
                    <a:pt x="1200" y="3747"/>
                  </a:lnTo>
                  <a:lnTo>
                    <a:pt x="1212" y="3783"/>
                  </a:lnTo>
                  <a:lnTo>
                    <a:pt x="1226" y="3817"/>
                  </a:lnTo>
                  <a:lnTo>
                    <a:pt x="1243" y="3849"/>
                  </a:lnTo>
                  <a:lnTo>
                    <a:pt x="1320" y="4046"/>
                  </a:lnTo>
                  <a:lnTo>
                    <a:pt x="1397" y="4245"/>
                  </a:lnTo>
                  <a:lnTo>
                    <a:pt x="1472" y="4447"/>
                  </a:lnTo>
                  <a:lnTo>
                    <a:pt x="1542" y="4651"/>
                  </a:lnTo>
                  <a:lnTo>
                    <a:pt x="1606" y="4854"/>
                  </a:lnTo>
                  <a:lnTo>
                    <a:pt x="1666" y="5060"/>
                  </a:lnTo>
                  <a:lnTo>
                    <a:pt x="1718" y="5267"/>
                  </a:lnTo>
                  <a:lnTo>
                    <a:pt x="1763" y="5479"/>
                  </a:lnTo>
                  <a:lnTo>
                    <a:pt x="1766" y="5504"/>
                  </a:lnTo>
                  <a:lnTo>
                    <a:pt x="1771" y="5531"/>
                  </a:lnTo>
                  <a:lnTo>
                    <a:pt x="1776" y="5557"/>
                  </a:lnTo>
                  <a:lnTo>
                    <a:pt x="1783" y="5584"/>
                  </a:lnTo>
                  <a:lnTo>
                    <a:pt x="1785" y="5609"/>
                  </a:lnTo>
                  <a:lnTo>
                    <a:pt x="1790" y="5637"/>
                  </a:lnTo>
                  <a:lnTo>
                    <a:pt x="1790" y="5662"/>
                  </a:lnTo>
                  <a:lnTo>
                    <a:pt x="1790" y="5690"/>
                  </a:lnTo>
                  <a:lnTo>
                    <a:pt x="1802" y="5710"/>
                  </a:lnTo>
                  <a:lnTo>
                    <a:pt x="1812" y="5732"/>
                  </a:lnTo>
                  <a:lnTo>
                    <a:pt x="1816" y="5755"/>
                  </a:lnTo>
                  <a:lnTo>
                    <a:pt x="1822" y="5779"/>
                  </a:lnTo>
                  <a:lnTo>
                    <a:pt x="1823" y="5801"/>
                  </a:lnTo>
                  <a:lnTo>
                    <a:pt x="1828" y="5824"/>
                  </a:lnTo>
                  <a:lnTo>
                    <a:pt x="1833" y="5845"/>
                  </a:lnTo>
                  <a:lnTo>
                    <a:pt x="1843" y="5867"/>
                  </a:lnTo>
                  <a:lnTo>
                    <a:pt x="1882" y="5864"/>
                  </a:lnTo>
                  <a:lnTo>
                    <a:pt x="1921" y="5857"/>
                  </a:lnTo>
                  <a:lnTo>
                    <a:pt x="1958" y="5843"/>
                  </a:lnTo>
                  <a:lnTo>
                    <a:pt x="1994" y="5829"/>
                  </a:lnTo>
                  <a:lnTo>
                    <a:pt x="2029" y="5812"/>
                  </a:lnTo>
                  <a:lnTo>
                    <a:pt x="2066" y="5800"/>
                  </a:lnTo>
                  <a:lnTo>
                    <a:pt x="2102" y="5790"/>
                  </a:lnTo>
                  <a:lnTo>
                    <a:pt x="2142" y="5787"/>
                  </a:lnTo>
                  <a:lnTo>
                    <a:pt x="2168" y="5766"/>
                  </a:lnTo>
                  <a:lnTo>
                    <a:pt x="2199" y="5751"/>
                  </a:lnTo>
                  <a:lnTo>
                    <a:pt x="2231" y="5738"/>
                  </a:lnTo>
                  <a:lnTo>
                    <a:pt x="2265" y="5730"/>
                  </a:lnTo>
                  <a:lnTo>
                    <a:pt x="2297" y="5720"/>
                  </a:lnTo>
                  <a:lnTo>
                    <a:pt x="2329" y="5710"/>
                  </a:lnTo>
                  <a:lnTo>
                    <a:pt x="2359" y="5697"/>
                  </a:lnTo>
                  <a:lnTo>
                    <a:pt x="2388" y="5682"/>
                  </a:lnTo>
                  <a:lnTo>
                    <a:pt x="2605" y="5622"/>
                  </a:lnTo>
                  <a:lnTo>
                    <a:pt x="2823" y="5559"/>
                  </a:lnTo>
                  <a:lnTo>
                    <a:pt x="3039" y="5496"/>
                  </a:lnTo>
                  <a:lnTo>
                    <a:pt x="3257" y="5440"/>
                  </a:lnTo>
                  <a:lnTo>
                    <a:pt x="3474" y="5390"/>
                  </a:lnTo>
                  <a:lnTo>
                    <a:pt x="3697" y="5354"/>
                  </a:lnTo>
                  <a:lnTo>
                    <a:pt x="3922" y="5334"/>
                  </a:lnTo>
                  <a:lnTo>
                    <a:pt x="4151" y="5337"/>
                  </a:lnTo>
                  <a:lnTo>
                    <a:pt x="4160" y="5320"/>
                  </a:lnTo>
                  <a:lnTo>
                    <a:pt x="4170" y="5304"/>
                  </a:lnTo>
                  <a:lnTo>
                    <a:pt x="4178" y="5287"/>
                  </a:lnTo>
                  <a:lnTo>
                    <a:pt x="4188" y="5270"/>
                  </a:lnTo>
                  <a:lnTo>
                    <a:pt x="4194" y="5252"/>
                  </a:lnTo>
                  <a:lnTo>
                    <a:pt x="4199" y="5235"/>
                  </a:lnTo>
                  <a:lnTo>
                    <a:pt x="4202" y="5215"/>
                  </a:lnTo>
                  <a:lnTo>
                    <a:pt x="4205" y="5197"/>
                  </a:lnTo>
                  <a:lnTo>
                    <a:pt x="4202" y="5183"/>
                  </a:lnTo>
                  <a:lnTo>
                    <a:pt x="4201" y="5175"/>
                  </a:lnTo>
                  <a:lnTo>
                    <a:pt x="4201" y="5168"/>
                  </a:lnTo>
                  <a:lnTo>
                    <a:pt x="4205" y="5162"/>
                  </a:lnTo>
                  <a:close/>
                  <a:moveTo>
                    <a:pt x="1851" y="2061"/>
                  </a:moveTo>
                  <a:lnTo>
                    <a:pt x="1840" y="2065"/>
                  </a:lnTo>
                  <a:lnTo>
                    <a:pt x="1829" y="2069"/>
                  </a:lnTo>
                  <a:lnTo>
                    <a:pt x="1818" y="2072"/>
                  </a:lnTo>
                  <a:lnTo>
                    <a:pt x="1807" y="2073"/>
                  </a:lnTo>
                  <a:lnTo>
                    <a:pt x="1794" y="2072"/>
                  </a:lnTo>
                  <a:lnTo>
                    <a:pt x="1783" y="2069"/>
                  </a:lnTo>
                  <a:lnTo>
                    <a:pt x="1771" y="2065"/>
                  </a:lnTo>
                  <a:lnTo>
                    <a:pt x="1763" y="2061"/>
                  </a:lnTo>
                  <a:lnTo>
                    <a:pt x="1749" y="2055"/>
                  </a:lnTo>
                  <a:lnTo>
                    <a:pt x="1739" y="2049"/>
                  </a:lnTo>
                  <a:lnTo>
                    <a:pt x="1729" y="2040"/>
                  </a:lnTo>
                  <a:lnTo>
                    <a:pt x="1721" y="2031"/>
                  </a:lnTo>
                  <a:lnTo>
                    <a:pt x="1713" y="2019"/>
                  </a:lnTo>
                  <a:lnTo>
                    <a:pt x="1706" y="2007"/>
                  </a:lnTo>
                  <a:lnTo>
                    <a:pt x="1699" y="1995"/>
                  </a:lnTo>
                  <a:lnTo>
                    <a:pt x="1693" y="1982"/>
                  </a:lnTo>
                  <a:lnTo>
                    <a:pt x="1699" y="1964"/>
                  </a:lnTo>
                  <a:lnTo>
                    <a:pt x="1704" y="1947"/>
                  </a:lnTo>
                  <a:lnTo>
                    <a:pt x="1710" y="1930"/>
                  </a:lnTo>
                  <a:lnTo>
                    <a:pt x="1718" y="1915"/>
                  </a:lnTo>
                  <a:lnTo>
                    <a:pt x="1727" y="1899"/>
                  </a:lnTo>
                  <a:lnTo>
                    <a:pt x="1738" y="1888"/>
                  </a:lnTo>
                  <a:lnTo>
                    <a:pt x="1752" y="1880"/>
                  </a:lnTo>
                  <a:lnTo>
                    <a:pt x="1771" y="1876"/>
                  </a:lnTo>
                  <a:lnTo>
                    <a:pt x="1777" y="1874"/>
                  </a:lnTo>
                  <a:lnTo>
                    <a:pt x="1785" y="1873"/>
                  </a:lnTo>
                  <a:lnTo>
                    <a:pt x="1794" y="1870"/>
                  </a:lnTo>
                  <a:lnTo>
                    <a:pt x="1802" y="1869"/>
                  </a:lnTo>
                  <a:lnTo>
                    <a:pt x="1809" y="1867"/>
                  </a:lnTo>
                  <a:lnTo>
                    <a:pt x="1818" y="1867"/>
                  </a:lnTo>
                  <a:lnTo>
                    <a:pt x="1825" y="1870"/>
                  </a:lnTo>
                  <a:lnTo>
                    <a:pt x="1833" y="1876"/>
                  </a:lnTo>
                  <a:lnTo>
                    <a:pt x="1816" y="1885"/>
                  </a:lnTo>
                  <a:lnTo>
                    <a:pt x="1816" y="1898"/>
                  </a:lnTo>
                  <a:lnTo>
                    <a:pt x="1814" y="1912"/>
                  </a:lnTo>
                  <a:lnTo>
                    <a:pt x="1809" y="1925"/>
                  </a:lnTo>
                  <a:lnTo>
                    <a:pt x="1807" y="1940"/>
                  </a:lnTo>
                  <a:lnTo>
                    <a:pt x="1804" y="1951"/>
                  </a:lnTo>
                  <a:lnTo>
                    <a:pt x="1805" y="1962"/>
                  </a:lnTo>
                  <a:lnTo>
                    <a:pt x="1811" y="1972"/>
                  </a:lnTo>
                  <a:lnTo>
                    <a:pt x="1825" y="1982"/>
                  </a:lnTo>
                  <a:lnTo>
                    <a:pt x="1836" y="1981"/>
                  </a:lnTo>
                  <a:lnTo>
                    <a:pt x="1846" y="1985"/>
                  </a:lnTo>
                  <a:lnTo>
                    <a:pt x="1856" y="1988"/>
                  </a:lnTo>
                  <a:lnTo>
                    <a:pt x="1868" y="1982"/>
                  </a:lnTo>
                  <a:lnTo>
                    <a:pt x="1875" y="1974"/>
                  </a:lnTo>
                  <a:lnTo>
                    <a:pt x="1886" y="1975"/>
                  </a:lnTo>
                  <a:lnTo>
                    <a:pt x="1895" y="1978"/>
                  </a:lnTo>
                  <a:lnTo>
                    <a:pt x="1905" y="1982"/>
                  </a:lnTo>
                  <a:lnTo>
                    <a:pt x="1902" y="1993"/>
                  </a:lnTo>
                  <a:lnTo>
                    <a:pt x="1899" y="2006"/>
                  </a:lnTo>
                  <a:lnTo>
                    <a:pt x="1893" y="2016"/>
                  </a:lnTo>
                  <a:lnTo>
                    <a:pt x="1888" y="2027"/>
                  </a:lnTo>
                  <a:lnTo>
                    <a:pt x="1878" y="2035"/>
                  </a:lnTo>
                  <a:lnTo>
                    <a:pt x="1870" y="2045"/>
                  </a:lnTo>
                  <a:lnTo>
                    <a:pt x="1860" y="2052"/>
                  </a:lnTo>
                  <a:lnTo>
                    <a:pt x="1851" y="20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78040" y="2865600"/>
              <a:ext cx="2490840" cy="3243240"/>
            </a:xfrm>
            <a:custGeom>
              <a:avLst/>
              <a:gdLst/>
              <a:ahLst/>
              <a:rect l="l" t="t" r="r" b="b"/>
              <a:pathLst>
                <a:path w="3138" h="4087">
                  <a:moveTo>
                    <a:pt x="1048" y="124"/>
                  </a:moveTo>
                  <a:lnTo>
                    <a:pt x="1042" y="142"/>
                  </a:lnTo>
                  <a:lnTo>
                    <a:pt x="1037" y="163"/>
                  </a:lnTo>
                  <a:lnTo>
                    <a:pt x="1027" y="181"/>
                  </a:lnTo>
                  <a:lnTo>
                    <a:pt x="1019" y="202"/>
                  </a:lnTo>
                  <a:lnTo>
                    <a:pt x="1007" y="222"/>
                  </a:lnTo>
                  <a:lnTo>
                    <a:pt x="998" y="242"/>
                  </a:lnTo>
                  <a:lnTo>
                    <a:pt x="986" y="261"/>
                  </a:lnTo>
                  <a:lnTo>
                    <a:pt x="978" y="282"/>
                  </a:lnTo>
                  <a:lnTo>
                    <a:pt x="954" y="272"/>
                  </a:lnTo>
                  <a:lnTo>
                    <a:pt x="932" y="267"/>
                  </a:lnTo>
                  <a:lnTo>
                    <a:pt x="908" y="263"/>
                  </a:lnTo>
                  <a:lnTo>
                    <a:pt x="885" y="264"/>
                  </a:lnTo>
                  <a:lnTo>
                    <a:pt x="863" y="267"/>
                  </a:lnTo>
                  <a:lnTo>
                    <a:pt x="842" y="274"/>
                  </a:lnTo>
                  <a:lnTo>
                    <a:pt x="821" y="285"/>
                  </a:lnTo>
                  <a:lnTo>
                    <a:pt x="801" y="300"/>
                  </a:lnTo>
                  <a:lnTo>
                    <a:pt x="785" y="316"/>
                  </a:lnTo>
                  <a:lnTo>
                    <a:pt x="772" y="335"/>
                  </a:lnTo>
                  <a:lnTo>
                    <a:pt x="761" y="355"/>
                  </a:lnTo>
                  <a:lnTo>
                    <a:pt x="754" y="376"/>
                  </a:lnTo>
                  <a:lnTo>
                    <a:pt x="748" y="397"/>
                  </a:lnTo>
                  <a:lnTo>
                    <a:pt x="745" y="421"/>
                  </a:lnTo>
                  <a:lnTo>
                    <a:pt x="745" y="443"/>
                  </a:lnTo>
                  <a:lnTo>
                    <a:pt x="748" y="467"/>
                  </a:lnTo>
                  <a:lnTo>
                    <a:pt x="755" y="481"/>
                  </a:lnTo>
                  <a:lnTo>
                    <a:pt x="764" y="497"/>
                  </a:lnTo>
                  <a:lnTo>
                    <a:pt x="773" y="511"/>
                  </a:lnTo>
                  <a:lnTo>
                    <a:pt x="786" y="525"/>
                  </a:lnTo>
                  <a:lnTo>
                    <a:pt x="799" y="536"/>
                  </a:lnTo>
                  <a:lnTo>
                    <a:pt x="813" y="547"/>
                  </a:lnTo>
                  <a:lnTo>
                    <a:pt x="828" y="555"/>
                  </a:lnTo>
                  <a:lnTo>
                    <a:pt x="845" y="564"/>
                  </a:lnTo>
                  <a:lnTo>
                    <a:pt x="864" y="571"/>
                  </a:lnTo>
                  <a:lnTo>
                    <a:pt x="884" y="575"/>
                  </a:lnTo>
                  <a:lnTo>
                    <a:pt x="904" y="575"/>
                  </a:lnTo>
                  <a:lnTo>
                    <a:pt x="925" y="575"/>
                  </a:lnTo>
                  <a:lnTo>
                    <a:pt x="944" y="571"/>
                  </a:lnTo>
                  <a:lnTo>
                    <a:pt x="964" y="567"/>
                  </a:lnTo>
                  <a:lnTo>
                    <a:pt x="984" y="561"/>
                  </a:lnTo>
                  <a:lnTo>
                    <a:pt x="1005" y="555"/>
                  </a:lnTo>
                  <a:lnTo>
                    <a:pt x="1017" y="539"/>
                  </a:lnTo>
                  <a:lnTo>
                    <a:pt x="1030" y="522"/>
                  </a:lnTo>
                  <a:lnTo>
                    <a:pt x="1041" y="506"/>
                  </a:lnTo>
                  <a:lnTo>
                    <a:pt x="1052" y="491"/>
                  </a:lnTo>
                  <a:lnTo>
                    <a:pt x="1059" y="473"/>
                  </a:lnTo>
                  <a:lnTo>
                    <a:pt x="1068" y="455"/>
                  </a:lnTo>
                  <a:lnTo>
                    <a:pt x="1072" y="435"/>
                  </a:lnTo>
                  <a:lnTo>
                    <a:pt x="1075" y="414"/>
                  </a:lnTo>
                  <a:lnTo>
                    <a:pt x="1076" y="397"/>
                  </a:lnTo>
                  <a:lnTo>
                    <a:pt x="1071" y="383"/>
                  </a:lnTo>
                  <a:lnTo>
                    <a:pt x="1062" y="370"/>
                  </a:lnTo>
                  <a:lnTo>
                    <a:pt x="1054" y="358"/>
                  </a:lnTo>
                  <a:lnTo>
                    <a:pt x="1045" y="345"/>
                  </a:lnTo>
                  <a:lnTo>
                    <a:pt x="1042" y="333"/>
                  </a:lnTo>
                  <a:lnTo>
                    <a:pt x="1048" y="320"/>
                  </a:lnTo>
                  <a:lnTo>
                    <a:pt x="1066" y="309"/>
                  </a:lnTo>
                  <a:lnTo>
                    <a:pt x="1069" y="292"/>
                  </a:lnTo>
                  <a:lnTo>
                    <a:pt x="1076" y="275"/>
                  </a:lnTo>
                  <a:lnTo>
                    <a:pt x="1083" y="258"/>
                  </a:lnTo>
                  <a:lnTo>
                    <a:pt x="1093" y="242"/>
                  </a:lnTo>
                  <a:lnTo>
                    <a:pt x="1101" y="225"/>
                  </a:lnTo>
                  <a:lnTo>
                    <a:pt x="1111" y="209"/>
                  </a:lnTo>
                  <a:lnTo>
                    <a:pt x="1120" y="192"/>
                  </a:lnTo>
                  <a:lnTo>
                    <a:pt x="1128" y="177"/>
                  </a:lnTo>
                  <a:lnTo>
                    <a:pt x="1375" y="300"/>
                  </a:lnTo>
                  <a:lnTo>
                    <a:pt x="1383" y="326"/>
                  </a:lnTo>
                  <a:lnTo>
                    <a:pt x="1359" y="352"/>
                  </a:lnTo>
                  <a:lnTo>
                    <a:pt x="1333" y="375"/>
                  </a:lnTo>
                  <a:lnTo>
                    <a:pt x="1302" y="396"/>
                  </a:lnTo>
                  <a:lnTo>
                    <a:pt x="1274" y="417"/>
                  </a:lnTo>
                  <a:lnTo>
                    <a:pt x="1246" y="436"/>
                  </a:lnTo>
                  <a:lnTo>
                    <a:pt x="1222" y="460"/>
                  </a:lnTo>
                  <a:lnTo>
                    <a:pt x="1205" y="485"/>
                  </a:lnTo>
                  <a:lnTo>
                    <a:pt x="1198" y="520"/>
                  </a:lnTo>
                  <a:lnTo>
                    <a:pt x="1216" y="547"/>
                  </a:lnTo>
                  <a:lnTo>
                    <a:pt x="1268" y="537"/>
                  </a:lnTo>
                  <a:lnTo>
                    <a:pt x="1320" y="523"/>
                  </a:lnTo>
                  <a:lnTo>
                    <a:pt x="1372" y="505"/>
                  </a:lnTo>
                  <a:lnTo>
                    <a:pt x="1425" y="490"/>
                  </a:lnTo>
                  <a:lnTo>
                    <a:pt x="1474" y="476"/>
                  </a:lnTo>
                  <a:lnTo>
                    <a:pt x="1525" y="470"/>
                  </a:lnTo>
                  <a:lnTo>
                    <a:pt x="1574" y="474"/>
                  </a:lnTo>
                  <a:lnTo>
                    <a:pt x="1621" y="494"/>
                  </a:lnTo>
                  <a:lnTo>
                    <a:pt x="1586" y="525"/>
                  </a:lnTo>
                  <a:lnTo>
                    <a:pt x="1550" y="554"/>
                  </a:lnTo>
                  <a:lnTo>
                    <a:pt x="1511" y="581"/>
                  </a:lnTo>
                  <a:lnTo>
                    <a:pt x="1471" y="606"/>
                  </a:lnTo>
                  <a:lnTo>
                    <a:pt x="1429" y="627"/>
                  </a:lnTo>
                  <a:lnTo>
                    <a:pt x="1389" y="647"/>
                  </a:lnTo>
                  <a:lnTo>
                    <a:pt x="1345" y="663"/>
                  </a:lnTo>
                  <a:lnTo>
                    <a:pt x="1303" y="679"/>
                  </a:lnTo>
                  <a:lnTo>
                    <a:pt x="1274" y="700"/>
                  </a:lnTo>
                  <a:lnTo>
                    <a:pt x="1244" y="718"/>
                  </a:lnTo>
                  <a:lnTo>
                    <a:pt x="1211" y="735"/>
                  </a:lnTo>
                  <a:lnTo>
                    <a:pt x="1177" y="753"/>
                  </a:lnTo>
                  <a:lnTo>
                    <a:pt x="1142" y="770"/>
                  </a:lnTo>
                  <a:lnTo>
                    <a:pt x="1107" y="787"/>
                  </a:lnTo>
                  <a:lnTo>
                    <a:pt x="1072" y="806"/>
                  </a:lnTo>
                  <a:lnTo>
                    <a:pt x="1040" y="829"/>
                  </a:lnTo>
                  <a:lnTo>
                    <a:pt x="1034" y="837"/>
                  </a:lnTo>
                  <a:lnTo>
                    <a:pt x="1033" y="846"/>
                  </a:lnTo>
                  <a:lnTo>
                    <a:pt x="1033" y="854"/>
                  </a:lnTo>
                  <a:lnTo>
                    <a:pt x="1037" y="862"/>
                  </a:lnTo>
                  <a:lnTo>
                    <a:pt x="1047" y="876"/>
                  </a:lnTo>
                  <a:lnTo>
                    <a:pt x="1056" y="890"/>
                  </a:lnTo>
                  <a:lnTo>
                    <a:pt x="1107" y="886"/>
                  </a:lnTo>
                  <a:lnTo>
                    <a:pt x="1156" y="878"/>
                  </a:lnTo>
                  <a:lnTo>
                    <a:pt x="1201" y="864"/>
                  </a:lnTo>
                  <a:lnTo>
                    <a:pt x="1247" y="848"/>
                  </a:lnTo>
                  <a:lnTo>
                    <a:pt x="1291" y="829"/>
                  </a:lnTo>
                  <a:lnTo>
                    <a:pt x="1335" y="811"/>
                  </a:lnTo>
                  <a:lnTo>
                    <a:pt x="1380" y="791"/>
                  </a:lnTo>
                  <a:lnTo>
                    <a:pt x="1427" y="775"/>
                  </a:lnTo>
                  <a:lnTo>
                    <a:pt x="1519" y="747"/>
                  </a:lnTo>
                  <a:lnTo>
                    <a:pt x="1619" y="725"/>
                  </a:lnTo>
                  <a:lnTo>
                    <a:pt x="1722" y="707"/>
                  </a:lnTo>
                  <a:lnTo>
                    <a:pt x="1829" y="700"/>
                  </a:lnTo>
                  <a:lnTo>
                    <a:pt x="1933" y="701"/>
                  </a:lnTo>
                  <a:lnTo>
                    <a:pt x="2032" y="719"/>
                  </a:lnTo>
                  <a:lnTo>
                    <a:pt x="2126" y="754"/>
                  </a:lnTo>
                  <a:lnTo>
                    <a:pt x="2211" y="811"/>
                  </a:lnTo>
                  <a:lnTo>
                    <a:pt x="2230" y="872"/>
                  </a:lnTo>
                  <a:lnTo>
                    <a:pt x="2252" y="932"/>
                  </a:lnTo>
                  <a:lnTo>
                    <a:pt x="2277" y="991"/>
                  </a:lnTo>
                  <a:lnTo>
                    <a:pt x="2305" y="1050"/>
                  </a:lnTo>
                  <a:lnTo>
                    <a:pt x="2332" y="1106"/>
                  </a:lnTo>
                  <a:lnTo>
                    <a:pt x="2359" y="1164"/>
                  </a:lnTo>
                  <a:lnTo>
                    <a:pt x="2384" y="1220"/>
                  </a:lnTo>
                  <a:lnTo>
                    <a:pt x="2406" y="1277"/>
                  </a:lnTo>
                  <a:lnTo>
                    <a:pt x="2429" y="1333"/>
                  </a:lnTo>
                  <a:lnTo>
                    <a:pt x="2453" y="1391"/>
                  </a:lnTo>
                  <a:lnTo>
                    <a:pt x="2475" y="1450"/>
                  </a:lnTo>
                  <a:lnTo>
                    <a:pt x="2499" y="1508"/>
                  </a:lnTo>
                  <a:lnTo>
                    <a:pt x="2521" y="1566"/>
                  </a:lnTo>
                  <a:lnTo>
                    <a:pt x="2545" y="1623"/>
                  </a:lnTo>
                  <a:lnTo>
                    <a:pt x="2567" y="1679"/>
                  </a:lnTo>
                  <a:lnTo>
                    <a:pt x="2591" y="1735"/>
                  </a:lnTo>
                  <a:lnTo>
                    <a:pt x="2583" y="1742"/>
                  </a:lnTo>
                  <a:lnTo>
                    <a:pt x="2584" y="1751"/>
                  </a:lnTo>
                  <a:lnTo>
                    <a:pt x="2591" y="1758"/>
                  </a:lnTo>
                  <a:lnTo>
                    <a:pt x="2600" y="1762"/>
                  </a:lnTo>
                  <a:lnTo>
                    <a:pt x="2643" y="1866"/>
                  </a:lnTo>
                  <a:lnTo>
                    <a:pt x="2684" y="1971"/>
                  </a:lnTo>
                  <a:lnTo>
                    <a:pt x="2722" y="2076"/>
                  </a:lnTo>
                  <a:lnTo>
                    <a:pt x="2758" y="2183"/>
                  </a:lnTo>
                  <a:lnTo>
                    <a:pt x="2790" y="2289"/>
                  </a:lnTo>
                  <a:lnTo>
                    <a:pt x="2824" y="2400"/>
                  </a:lnTo>
                  <a:lnTo>
                    <a:pt x="2856" y="2510"/>
                  </a:lnTo>
                  <a:lnTo>
                    <a:pt x="2890" y="2625"/>
                  </a:lnTo>
                  <a:lnTo>
                    <a:pt x="2922" y="2733"/>
                  </a:lnTo>
                  <a:lnTo>
                    <a:pt x="2956" y="2847"/>
                  </a:lnTo>
                  <a:lnTo>
                    <a:pt x="2989" y="2960"/>
                  </a:lnTo>
                  <a:lnTo>
                    <a:pt x="3023" y="3078"/>
                  </a:lnTo>
                  <a:lnTo>
                    <a:pt x="3054" y="3196"/>
                  </a:lnTo>
                  <a:lnTo>
                    <a:pt x="3085" y="3316"/>
                  </a:lnTo>
                  <a:lnTo>
                    <a:pt x="3111" y="3437"/>
                  </a:lnTo>
                  <a:lnTo>
                    <a:pt x="3138" y="3559"/>
                  </a:lnTo>
                  <a:lnTo>
                    <a:pt x="2989" y="3569"/>
                  </a:lnTo>
                  <a:lnTo>
                    <a:pt x="2845" y="3581"/>
                  </a:lnTo>
                  <a:lnTo>
                    <a:pt x="2702" y="3597"/>
                  </a:lnTo>
                  <a:lnTo>
                    <a:pt x="2560" y="3615"/>
                  </a:lnTo>
                  <a:lnTo>
                    <a:pt x="2419" y="3634"/>
                  </a:lnTo>
                  <a:lnTo>
                    <a:pt x="2277" y="3658"/>
                  </a:lnTo>
                  <a:lnTo>
                    <a:pt x="2134" y="3685"/>
                  </a:lnTo>
                  <a:lnTo>
                    <a:pt x="1991" y="3717"/>
                  </a:lnTo>
                  <a:lnTo>
                    <a:pt x="1962" y="3728"/>
                  </a:lnTo>
                  <a:lnTo>
                    <a:pt x="1934" y="3738"/>
                  </a:lnTo>
                  <a:lnTo>
                    <a:pt x="1902" y="3747"/>
                  </a:lnTo>
                  <a:lnTo>
                    <a:pt x="1871" y="3756"/>
                  </a:lnTo>
                  <a:lnTo>
                    <a:pt x="1837" y="3765"/>
                  </a:lnTo>
                  <a:lnTo>
                    <a:pt x="1805" y="3773"/>
                  </a:lnTo>
                  <a:lnTo>
                    <a:pt x="1774" y="3783"/>
                  </a:lnTo>
                  <a:lnTo>
                    <a:pt x="1745" y="3797"/>
                  </a:lnTo>
                  <a:lnTo>
                    <a:pt x="1652" y="3822"/>
                  </a:lnTo>
                  <a:lnTo>
                    <a:pt x="1562" y="3856"/>
                  </a:lnTo>
                  <a:lnTo>
                    <a:pt x="1473" y="3891"/>
                  </a:lnTo>
                  <a:lnTo>
                    <a:pt x="1386" y="3932"/>
                  </a:lnTo>
                  <a:lnTo>
                    <a:pt x="1298" y="3971"/>
                  </a:lnTo>
                  <a:lnTo>
                    <a:pt x="1213" y="4011"/>
                  </a:lnTo>
                  <a:lnTo>
                    <a:pt x="1129" y="4051"/>
                  </a:lnTo>
                  <a:lnTo>
                    <a:pt x="1048" y="4087"/>
                  </a:lnTo>
                  <a:lnTo>
                    <a:pt x="960" y="3713"/>
                  </a:lnTo>
                  <a:lnTo>
                    <a:pt x="859" y="3346"/>
                  </a:lnTo>
                  <a:lnTo>
                    <a:pt x="745" y="2984"/>
                  </a:lnTo>
                  <a:lnTo>
                    <a:pt x="619" y="2628"/>
                  </a:lnTo>
                  <a:lnTo>
                    <a:pt x="479" y="2276"/>
                  </a:lnTo>
                  <a:lnTo>
                    <a:pt x="329" y="1930"/>
                  </a:lnTo>
                  <a:lnTo>
                    <a:pt x="168" y="1588"/>
                  </a:lnTo>
                  <a:lnTo>
                    <a:pt x="0" y="1251"/>
                  </a:lnTo>
                  <a:lnTo>
                    <a:pt x="46" y="1172"/>
                  </a:lnTo>
                  <a:lnTo>
                    <a:pt x="94" y="1095"/>
                  </a:lnTo>
                  <a:lnTo>
                    <a:pt x="143" y="1015"/>
                  </a:lnTo>
                  <a:lnTo>
                    <a:pt x="193" y="935"/>
                  </a:lnTo>
                  <a:lnTo>
                    <a:pt x="242" y="855"/>
                  </a:lnTo>
                  <a:lnTo>
                    <a:pt x="291" y="780"/>
                  </a:lnTo>
                  <a:lnTo>
                    <a:pt x="339" y="704"/>
                  </a:lnTo>
                  <a:lnTo>
                    <a:pt x="387" y="634"/>
                  </a:lnTo>
                  <a:lnTo>
                    <a:pt x="409" y="588"/>
                  </a:lnTo>
                  <a:lnTo>
                    <a:pt x="436" y="541"/>
                  </a:lnTo>
                  <a:lnTo>
                    <a:pt x="461" y="497"/>
                  </a:lnTo>
                  <a:lnTo>
                    <a:pt x="490" y="455"/>
                  </a:lnTo>
                  <a:lnTo>
                    <a:pt x="518" y="410"/>
                  </a:lnTo>
                  <a:lnTo>
                    <a:pt x="548" y="368"/>
                  </a:lnTo>
                  <a:lnTo>
                    <a:pt x="577" y="324"/>
                  </a:lnTo>
                  <a:lnTo>
                    <a:pt x="608" y="282"/>
                  </a:lnTo>
                  <a:lnTo>
                    <a:pt x="801" y="0"/>
                  </a:lnTo>
                  <a:lnTo>
                    <a:pt x="831" y="10"/>
                  </a:lnTo>
                  <a:lnTo>
                    <a:pt x="862" y="24"/>
                  </a:lnTo>
                  <a:lnTo>
                    <a:pt x="893" y="41"/>
                  </a:lnTo>
                  <a:lnTo>
                    <a:pt x="925" y="58"/>
                  </a:lnTo>
                  <a:lnTo>
                    <a:pt x="954" y="75"/>
                  </a:lnTo>
                  <a:lnTo>
                    <a:pt x="986" y="93"/>
                  </a:lnTo>
                  <a:lnTo>
                    <a:pt x="1016" y="108"/>
                  </a:lnTo>
                  <a:lnTo>
                    <a:pt x="1048" y="124"/>
                  </a:lnTo>
                  <a:close/>
                </a:path>
              </a:pathLst>
            </a:custGeom>
            <a:solidFill>
              <a:srgbClr val="f5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60680" y="3560760"/>
              <a:ext cx="546120" cy="1324080"/>
            </a:xfrm>
            <a:custGeom>
              <a:avLst/>
              <a:gdLst/>
              <a:ahLst/>
              <a:rect l="l" t="t" r="r" b="b"/>
              <a:pathLst>
                <a:path w="689" h="1668">
                  <a:moveTo>
                    <a:pt x="689" y="39"/>
                  </a:moveTo>
                  <a:lnTo>
                    <a:pt x="638" y="227"/>
                  </a:lnTo>
                  <a:lnTo>
                    <a:pt x="588" y="419"/>
                  </a:lnTo>
                  <a:lnTo>
                    <a:pt x="537" y="611"/>
                  </a:lnTo>
                  <a:lnTo>
                    <a:pt x="488" y="804"/>
                  </a:lnTo>
                  <a:lnTo>
                    <a:pt x="436" y="996"/>
                  </a:lnTo>
                  <a:lnTo>
                    <a:pt x="386" y="1190"/>
                  </a:lnTo>
                  <a:lnTo>
                    <a:pt x="334" y="1380"/>
                  </a:lnTo>
                  <a:lnTo>
                    <a:pt x="282" y="1571"/>
                  </a:lnTo>
                  <a:lnTo>
                    <a:pt x="254" y="1588"/>
                  </a:lnTo>
                  <a:lnTo>
                    <a:pt x="225" y="1603"/>
                  </a:lnTo>
                  <a:lnTo>
                    <a:pt x="194" y="1616"/>
                  </a:lnTo>
                  <a:lnTo>
                    <a:pt x="164" y="1628"/>
                  </a:lnTo>
                  <a:lnTo>
                    <a:pt x="132" y="1638"/>
                  </a:lnTo>
                  <a:lnTo>
                    <a:pt x="100" y="1648"/>
                  </a:lnTo>
                  <a:lnTo>
                    <a:pt x="68" y="1656"/>
                  </a:lnTo>
                  <a:lnTo>
                    <a:pt x="35" y="1668"/>
                  </a:lnTo>
                  <a:lnTo>
                    <a:pt x="0" y="1659"/>
                  </a:lnTo>
                  <a:lnTo>
                    <a:pt x="54" y="1457"/>
                  </a:lnTo>
                  <a:lnTo>
                    <a:pt x="108" y="1261"/>
                  </a:lnTo>
                  <a:lnTo>
                    <a:pt x="162" y="1063"/>
                  </a:lnTo>
                  <a:lnTo>
                    <a:pt x="216" y="869"/>
                  </a:lnTo>
                  <a:lnTo>
                    <a:pt x="270" y="671"/>
                  </a:lnTo>
                  <a:lnTo>
                    <a:pt x="324" y="475"/>
                  </a:lnTo>
                  <a:lnTo>
                    <a:pt x="380" y="276"/>
                  </a:lnTo>
                  <a:lnTo>
                    <a:pt x="441" y="74"/>
                  </a:lnTo>
                  <a:lnTo>
                    <a:pt x="463" y="60"/>
                  </a:lnTo>
                  <a:lnTo>
                    <a:pt x="490" y="50"/>
                  </a:lnTo>
                  <a:lnTo>
                    <a:pt x="515" y="42"/>
                  </a:lnTo>
                  <a:lnTo>
                    <a:pt x="543" y="35"/>
                  </a:lnTo>
                  <a:lnTo>
                    <a:pt x="569" y="26"/>
                  </a:lnTo>
                  <a:lnTo>
                    <a:pt x="598" y="19"/>
                  </a:lnTo>
                  <a:lnTo>
                    <a:pt x="624" y="11"/>
                  </a:lnTo>
                  <a:lnTo>
                    <a:pt x="652" y="3"/>
                  </a:lnTo>
                  <a:lnTo>
                    <a:pt x="659" y="0"/>
                  </a:lnTo>
                  <a:lnTo>
                    <a:pt x="668" y="1"/>
                  </a:lnTo>
                  <a:lnTo>
                    <a:pt x="675" y="4"/>
                  </a:lnTo>
                  <a:lnTo>
                    <a:pt x="680" y="10"/>
                  </a:lnTo>
                  <a:lnTo>
                    <a:pt x="683" y="15"/>
                  </a:lnTo>
                  <a:lnTo>
                    <a:pt x="686" y="24"/>
                  </a:lnTo>
                  <a:lnTo>
                    <a:pt x="687" y="31"/>
                  </a:lnTo>
                  <a:lnTo>
                    <a:pt x="689" y="3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30520" y="3621240"/>
              <a:ext cx="426960" cy="1201680"/>
            </a:xfrm>
            <a:custGeom>
              <a:avLst/>
              <a:gdLst/>
              <a:ahLst/>
              <a:rect l="l" t="t" r="r" b="b"/>
              <a:pathLst>
                <a:path w="538" h="1515">
                  <a:moveTo>
                    <a:pt x="538" y="0"/>
                  </a:moveTo>
                  <a:lnTo>
                    <a:pt x="485" y="185"/>
                  </a:lnTo>
                  <a:lnTo>
                    <a:pt x="434" y="371"/>
                  </a:lnTo>
                  <a:lnTo>
                    <a:pt x="385" y="554"/>
                  </a:lnTo>
                  <a:lnTo>
                    <a:pt x="339" y="737"/>
                  </a:lnTo>
                  <a:lnTo>
                    <a:pt x="290" y="919"/>
                  </a:lnTo>
                  <a:lnTo>
                    <a:pt x="242" y="1102"/>
                  </a:lnTo>
                  <a:lnTo>
                    <a:pt x="192" y="1285"/>
                  </a:lnTo>
                  <a:lnTo>
                    <a:pt x="141" y="1470"/>
                  </a:lnTo>
                  <a:lnTo>
                    <a:pt x="123" y="1470"/>
                  </a:lnTo>
                  <a:lnTo>
                    <a:pt x="106" y="1473"/>
                  </a:lnTo>
                  <a:lnTo>
                    <a:pt x="89" y="1477"/>
                  </a:lnTo>
                  <a:lnTo>
                    <a:pt x="73" y="1486"/>
                  </a:lnTo>
                  <a:lnTo>
                    <a:pt x="54" y="1491"/>
                  </a:lnTo>
                  <a:lnTo>
                    <a:pt x="38" y="1500"/>
                  </a:lnTo>
                  <a:lnTo>
                    <a:pt x="18" y="1507"/>
                  </a:lnTo>
                  <a:lnTo>
                    <a:pt x="0" y="1515"/>
                  </a:lnTo>
                  <a:lnTo>
                    <a:pt x="49" y="1330"/>
                  </a:lnTo>
                  <a:lnTo>
                    <a:pt x="98" y="1145"/>
                  </a:lnTo>
                  <a:lnTo>
                    <a:pt x="147" y="960"/>
                  </a:lnTo>
                  <a:lnTo>
                    <a:pt x="197" y="775"/>
                  </a:lnTo>
                  <a:lnTo>
                    <a:pt x="246" y="590"/>
                  </a:lnTo>
                  <a:lnTo>
                    <a:pt x="297" y="408"/>
                  </a:lnTo>
                  <a:lnTo>
                    <a:pt x="346" y="224"/>
                  </a:lnTo>
                  <a:lnTo>
                    <a:pt x="396" y="44"/>
                  </a:lnTo>
                  <a:lnTo>
                    <a:pt x="415" y="38"/>
                  </a:lnTo>
                  <a:lnTo>
                    <a:pt x="433" y="34"/>
                  </a:lnTo>
                  <a:lnTo>
                    <a:pt x="450" y="27"/>
                  </a:lnTo>
                  <a:lnTo>
                    <a:pt x="466" y="21"/>
                  </a:lnTo>
                  <a:lnTo>
                    <a:pt x="483" y="14"/>
                  </a:lnTo>
                  <a:lnTo>
                    <a:pt x="500" y="8"/>
                  </a:lnTo>
                  <a:lnTo>
                    <a:pt x="517" y="3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3718080"/>
              <a:ext cx="461880" cy="657000"/>
            </a:xfrm>
            <a:custGeom>
              <a:avLst/>
              <a:gdLst/>
              <a:ahLst/>
              <a:rect l="l" t="t" r="r" b="b"/>
              <a:pathLst>
                <a:path w="582" h="827">
                  <a:moveTo>
                    <a:pt x="582" y="740"/>
                  </a:moveTo>
                  <a:lnTo>
                    <a:pt x="559" y="756"/>
                  </a:lnTo>
                  <a:lnTo>
                    <a:pt x="537" y="770"/>
                  </a:lnTo>
                  <a:lnTo>
                    <a:pt x="512" y="780"/>
                  </a:lnTo>
                  <a:lnTo>
                    <a:pt x="487" y="789"/>
                  </a:lnTo>
                  <a:lnTo>
                    <a:pt x="459" y="796"/>
                  </a:lnTo>
                  <a:lnTo>
                    <a:pt x="433" y="805"/>
                  </a:lnTo>
                  <a:lnTo>
                    <a:pt x="405" y="813"/>
                  </a:lnTo>
                  <a:lnTo>
                    <a:pt x="380" y="827"/>
                  </a:lnTo>
                  <a:lnTo>
                    <a:pt x="358" y="826"/>
                  </a:lnTo>
                  <a:lnTo>
                    <a:pt x="346" y="822"/>
                  </a:lnTo>
                  <a:lnTo>
                    <a:pt x="342" y="812"/>
                  </a:lnTo>
                  <a:lnTo>
                    <a:pt x="345" y="801"/>
                  </a:lnTo>
                  <a:lnTo>
                    <a:pt x="348" y="787"/>
                  </a:lnTo>
                  <a:lnTo>
                    <a:pt x="351" y="773"/>
                  </a:lnTo>
                  <a:lnTo>
                    <a:pt x="349" y="759"/>
                  </a:lnTo>
                  <a:lnTo>
                    <a:pt x="345" y="749"/>
                  </a:lnTo>
                  <a:lnTo>
                    <a:pt x="321" y="691"/>
                  </a:lnTo>
                  <a:lnTo>
                    <a:pt x="300" y="637"/>
                  </a:lnTo>
                  <a:lnTo>
                    <a:pt x="281" y="582"/>
                  </a:lnTo>
                  <a:lnTo>
                    <a:pt x="261" y="529"/>
                  </a:lnTo>
                  <a:lnTo>
                    <a:pt x="240" y="474"/>
                  </a:lnTo>
                  <a:lnTo>
                    <a:pt x="220" y="422"/>
                  </a:lnTo>
                  <a:lnTo>
                    <a:pt x="198" y="369"/>
                  </a:lnTo>
                  <a:lnTo>
                    <a:pt x="177" y="317"/>
                  </a:lnTo>
                  <a:lnTo>
                    <a:pt x="160" y="312"/>
                  </a:lnTo>
                  <a:lnTo>
                    <a:pt x="145" y="313"/>
                  </a:lnTo>
                  <a:lnTo>
                    <a:pt x="129" y="316"/>
                  </a:lnTo>
                  <a:lnTo>
                    <a:pt x="117" y="323"/>
                  </a:lnTo>
                  <a:lnTo>
                    <a:pt x="101" y="326"/>
                  </a:lnTo>
                  <a:lnTo>
                    <a:pt x="88" y="328"/>
                  </a:lnTo>
                  <a:lnTo>
                    <a:pt x="74" y="326"/>
                  </a:lnTo>
                  <a:lnTo>
                    <a:pt x="62" y="317"/>
                  </a:lnTo>
                  <a:lnTo>
                    <a:pt x="48" y="295"/>
                  </a:lnTo>
                  <a:lnTo>
                    <a:pt x="37" y="272"/>
                  </a:lnTo>
                  <a:lnTo>
                    <a:pt x="25" y="247"/>
                  </a:lnTo>
                  <a:lnTo>
                    <a:pt x="17" y="223"/>
                  </a:lnTo>
                  <a:lnTo>
                    <a:pt x="9" y="197"/>
                  </a:lnTo>
                  <a:lnTo>
                    <a:pt x="4" y="171"/>
                  </a:lnTo>
                  <a:lnTo>
                    <a:pt x="0" y="146"/>
                  </a:lnTo>
                  <a:lnTo>
                    <a:pt x="0" y="124"/>
                  </a:lnTo>
                  <a:lnTo>
                    <a:pt x="42" y="107"/>
                  </a:lnTo>
                  <a:lnTo>
                    <a:pt x="84" y="90"/>
                  </a:lnTo>
                  <a:lnTo>
                    <a:pt x="126" y="73"/>
                  </a:lnTo>
                  <a:lnTo>
                    <a:pt x="168" y="58"/>
                  </a:lnTo>
                  <a:lnTo>
                    <a:pt x="210" y="41"/>
                  </a:lnTo>
                  <a:lnTo>
                    <a:pt x="254" y="27"/>
                  </a:lnTo>
                  <a:lnTo>
                    <a:pt x="299" y="13"/>
                  </a:lnTo>
                  <a:lnTo>
                    <a:pt x="345" y="0"/>
                  </a:lnTo>
                  <a:lnTo>
                    <a:pt x="582" y="7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97080" y="3773520"/>
              <a:ext cx="336600" cy="538200"/>
            </a:xfrm>
            <a:custGeom>
              <a:avLst/>
              <a:gdLst/>
              <a:ahLst/>
              <a:rect l="l" t="t" r="r" b="b"/>
              <a:pathLst>
                <a:path w="423" h="679">
                  <a:moveTo>
                    <a:pt x="423" y="634"/>
                  </a:moveTo>
                  <a:lnTo>
                    <a:pt x="414" y="644"/>
                  </a:lnTo>
                  <a:lnTo>
                    <a:pt x="404" y="652"/>
                  </a:lnTo>
                  <a:lnTo>
                    <a:pt x="390" y="655"/>
                  </a:lnTo>
                  <a:lnTo>
                    <a:pt x="377" y="659"/>
                  </a:lnTo>
                  <a:lnTo>
                    <a:pt x="362" y="661"/>
                  </a:lnTo>
                  <a:lnTo>
                    <a:pt x="349" y="665"/>
                  </a:lnTo>
                  <a:lnTo>
                    <a:pt x="336" y="669"/>
                  </a:lnTo>
                  <a:lnTo>
                    <a:pt x="327" y="679"/>
                  </a:lnTo>
                  <a:lnTo>
                    <a:pt x="303" y="616"/>
                  </a:lnTo>
                  <a:lnTo>
                    <a:pt x="280" y="553"/>
                  </a:lnTo>
                  <a:lnTo>
                    <a:pt x="259" y="491"/>
                  </a:lnTo>
                  <a:lnTo>
                    <a:pt x="240" y="429"/>
                  </a:lnTo>
                  <a:lnTo>
                    <a:pt x="219" y="366"/>
                  </a:lnTo>
                  <a:lnTo>
                    <a:pt x="201" y="305"/>
                  </a:lnTo>
                  <a:lnTo>
                    <a:pt x="184" y="240"/>
                  </a:lnTo>
                  <a:lnTo>
                    <a:pt x="167" y="177"/>
                  </a:lnTo>
                  <a:lnTo>
                    <a:pt x="151" y="166"/>
                  </a:lnTo>
                  <a:lnTo>
                    <a:pt x="137" y="163"/>
                  </a:lnTo>
                  <a:lnTo>
                    <a:pt x="121" y="164"/>
                  </a:lnTo>
                  <a:lnTo>
                    <a:pt x="104" y="171"/>
                  </a:lnTo>
                  <a:lnTo>
                    <a:pt x="86" y="178"/>
                  </a:lnTo>
                  <a:lnTo>
                    <a:pt x="69" y="185"/>
                  </a:lnTo>
                  <a:lnTo>
                    <a:pt x="52" y="191"/>
                  </a:lnTo>
                  <a:lnTo>
                    <a:pt x="35" y="194"/>
                  </a:lnTo>
                  <a:lnTo>
                    <a:pt x="30" y="181"/>
                  </a:lnTo>
                  <a:lnTo>
                    <a:pt x="25" y="170"/>
                  </a:lnTo>
                  <a:lnTo>
                    <a:pt x="18" y="156"/>
                  </a:lnTo>
                  <a:lnTo>
                    <a:pt x="14" y="143"/>
                  </a:lnTo>
                  <a:lnTo>
                    <a:pt x="7" y="128"/>
                  </a:lnTo>
                  <a:lnTo>
                    <a:pt x="3" y="115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25" y="78"/>
                  </a:lnTo>
                  <a:lnTo>
                    <a:pt x="53" y="68"/>
                  </a:lnTo>
                  <a:lnTo>
                    <a:pt x="80" y="57"/>
                  </a:lnTo>
                  <a:lnTo>
                    <a:pt x="108" y="47"/>
                  </a:lnTo>
                  <a:lnTo>
                    <a:pt x="135" y="36"/>
                  </a:lnTo>
                  <a:lnTo>
                    <a:pt x="161" y="24"/>
                  </a:lnTo>
                  <a:lnTo>
                    <a:pt x="186" y="12"/>
                  </a:lnTo>
                  <a:lnTo>
                    <a:pt x="212" y="0"/>
                  </a:lnTo>
                  <a:lnTo>
                    <a:pt x="241" y="73"/>
                  </a:lnTo>
                  <a:lnTo>
                    <a:pt x="271" y="150"/>
                  </a:lnTo>
                  <a:lnTo>
                    <a:pt x="297" y="229"/>
                  </a:lnTo>
                  <a:lnTo>
                    <a:pt x="324" y="310"/>
                  </a:lnTo>
                  <a:lnTo>
                    <a:pt x="348" y="390"/>
                  </a:lnTo>
                  <a:lnTo>
                    <a:pt x="373" y="473"/>
                  </a:lnTo>
                  <a:lnTo>
                    <a:pt x="397" y="553"/>
                  </a:lnTo>
                  <a:lnTo>
                    <a:pt x="423" y="63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87640" y="4032360"/>
              <a:ext cx="669960" cy="790560"/>
            </a:xfrm>
            <a:custGeom>
              <a:avLst/>
              <a:gdLst/>
              <a:ahLst/>
              <a:rect l="l" t="t" r="r" b="b"/>
              <a:pathLst>
                <a:path w="843" h="996">
                  <a:moveTo>
                    <a:pt x="536" y="61"/>
                  </a:moveTo>
                  <a:lnTo>
                    <a:pt x="577" y="119"/>
                  </a:lnTo>
                  <a:lnTo>
                    <a:pt x="605" y="183"/>
                  </a:lnTo>
                  <a:lnTo>
                    <a:pt x="619" y="252"/>
                  </a:lnTo>
                  <a:lnTo>
                    <a:pt x="626" y="323"/>
                  </a:lnTo>
                  <a:lnTo>
                    <a:pt x="622" y="395"/>
                  </a:lnTo>
                  <a:lnTo>
                    <a:pt x="614" y="468"/>
                  </a:lnTo>
                  <a:lnTo>
                    <a:pt x="601" y="539"/>
                  </a:lnTo>
                  <a:lnTo>
                    <a:pt x="590" y="608"/>
                  </a:lnTo>
                  <a:lnTo>
                    <a:pt x="609" y="597"/>
                  </a:lnTo>
                  <a:lnTo>
                    <a:pt x="632" y="585"/>
                  </a:lnTo>
                  <a:lnTo>
                    <a:pt x="656" y="573"/>
                  </a:lnTo>
                  <a:lnTo>
                    <a:pt x="681" y="563"/>
                  </a:lnTo>
                  <a:lnTo>
                    <a:pt x="706" y="553"/>
                  </a:lnTo>
                  <a:lnTo>
                    <a:pt x="734" y="548"/>
                  </a:lnTo>
                  <a:lnTo>
                    <a:pt x="762" y="545"/>
                  </a:lnTo>
                  <a:lnTo>
                    <a:pt x="793" y="546"/>
                  </a:lnTo>
                  <a:lnTo>
                    <a:pt x="803" y="578"/>
                  </a:lnTo>
                  <a:lnTo>
                    <a:pt x="814" y="613"/>
                  </a:lnTo>
                  <a:lnTo>
                    <a:pt x="824" y="647"/>
                  </a:lnTo>
                  <a:lnTo>
                    <a:pt x="834" y="685"/>
                  </a:lnTo>
                  <a:lnTo>
                    <a:pt x="839" y="720"/>
                  </a:lnTo>
                  <a:lnTo>
                    <a:pt x="843" y="759"/>
                  </a:lnTo>
                  <a:lnTo>
                    <a:pt x="842" y="797"/>
                  </a:lnTo>
                  <a:lnTo>
                    <a:pt x="836" y="838"/>
                  </a:lnTo>
                  <a:lnTo>
                    <a:pt x="752" y="857"/>
                  </a:lnTo>
                  <a:lnTo>
                    <a:pt x="671" y="878"/>
                  </a:lnTo>
                  <a:lnTo>
                    <a:pt x="590" y="899"/>
                  </a:lnTo>
                  <a:lnTo>
                    <a:pt x="508" y="923"/>
                  </a:lnTo>
                  <a:lnTo>
                    <a:pt x="426" y="943"/>
                  </a:lnTo>
                  <a:lnTo>
                    <a:pt x="343" y="962"/>
                  </a:lnTo>
                  <a:lnTo>
                    <a:pt x="259" y="979"/>
                  </a:lnTo>
                  <a:lnTo>
                    <a:pt x="175" y="996"/>
                  </a:lnTo>
                  <a:lnTo>
                    <a:pt x="164" y="989"/>
                  </a:lnTo>
                  <a:lnTo>
                    <a:pt x="158" y="982"/>
                  </a:lnTo>
                  <a:lnTo>
                    <a:pt x="155" y="972"/>
                  </a:lnTo>
                  <a:lnTo>
                    <a:pt x="157" y="962"/>
                  </a:lnTo>
                  <a:lnTo>
                    <a:pt x="158" y="951"/>
                  </a:lnTo>
                  <a:lnTo>
                    <a:pt x="162" y="941"/>
                  </a:lnTo>
                  <a:lnTo>
                    <a:pt x="164" y="932"/>
                  </a:lnTo>
                  <a:lnTo>
                    <a:pt x="166" y="925"/>
                  </a:lnTo>
                  <a:lnTo>
                    <a:pt x="193" y="871"/>
                  </a:lnTo>
                  <a:lnTo>
                    <a:pt x="223" y="821"/>
                  </a:lnTo>
                  <a:lnTo>
                    <a:pt x="252" y="770"/>
                  </a:lnTo>
                  <a:lnTo>
                    <a:pt x="283" y="720"/>
                  </a:lnTo>
                  <a:lnTo>
                    <a:pt x="308" y="667"/>
                  </a:lnTo>
                  <a:lnTo>
                    <a:pt x="332" y="615"/>
                  </a:lnTo>
                  <a:lnTo>
                    <a:pt x="349" y="559"/>
                  </a:lnTo>
                  <a:lnTo>
                    <a:pt x="360" y="503"/>
                  </a:lnTo>
                  <a:lnTo>
                    <a:pt x="371" y="483"/>
                  </a:lnTo>
                  <a:lnTo>
                    <a:pt x="379" y="459"/>
                  </a:lnTo>
                  <a:lnTo>
                    <a:pt x="384" y="434"/>
                  </a:lnTo>
                  <a:lnTo>
                    <a:pt x="388" y="407"/>
                  </a:lnTo>
                  <a:lnTo>
                    <a:pt x="386" y="379"/>
                  </a:lnTo>
                  <a:lnTo>
                    <a:pt x="384" y="353"/>
                  </a:lnTo>
                  <a:lnTo>
                    <a:pt x="377" y="328"/>
                  </a:lnTo>
                  <a:lnTo>
                    <a:pt x="370" y="308"/>
                  </a:lnTo>
                  <a:lnTo>
                    <a:pt x="360" y="294"/>
                  </a:lnTo>
                  <a:lnTo>
                    <a:pt x="350" y="286"/>
                  </a:lnTo>
                  <a:lnTo>
                    <a:pt x="339" y="277"/>
                  </a:lnTo>
                  <a:lnTo>
                    <a:pt x="328" y="273"/>
                  </a:lnTo>
                  <a:lnTo>
                    <a:pt x="315" y="269"/>
                  </a:lnTo>
                  <a:lnTo>
                    <a:pt x="302" y="269"/>
                  </a:lnTo>
                  <a:lnTo>
                    <a:pt x="291" y="269"/>
                  </a:lnTo>
                  <a:lnTo>
                    <a:pt x="281" y="273"/>
                  </a:lnTo>
                  <a:lnTo>
                    <a:pt x="251" y="283"/>
                  </a:lnTo>
                  <a:lnTo>
                    <a:pt x="234" y="302"/>
                  </a:lnTo>
                  <a:lnTo>
                    <a:pt x="224" y="326"/>
                  </a:lnTo>
                  <a:lnTo>
                    <a:pt x="220" y="353"/>
                  </a:lnTo>
                  <a:lnTo>
                    <a:pt x="213" y="377"/>
                  </a:lnTo>
                  <a:lnTo>
                    <a:pt x="203" y="398"/>
                  </a:lnTo>
                  <a:lnTo>
                    <a:pt x="186" y="410"/>
                  </a:lnTo>
                  <a:lnTo>
                    <a:pt x="158" y="414"/>
                  </a:lnTo>
                  <a:lnTo>
                    <a:pt x="133" y="400"/>
                  </a:lnTo>
                  <a:lnTo>
                    <a:pt x="105" y="392"/>
                  </a:lnTo>
                  <a:lnTo>
                    <a:pt x="77" y="382"/>
                  </a:lnTo>
                  <a:lnTo>
                    <a:pt x="52" y="374"/>
                  </a:lnTo>
                  <a:lnTo>
                    <a:pt x="28" y="363"/>
                  </a:lnTo>
                  <a:lnTo>
                    <a:pt x="11" y="349"/>
                  </a:lnTo>
                  <a:lnTo>
                    <a:pt x="0" y="330"/>
                  </a:lnTo>
                  <a:lnTo>
                    <a:pt x="0" y="308"/>
                  </a:lnTo>
                  <a:lnTo>
                    <a:pt x="16" y="249"/>
                  </a:lnTo>
                  <a:lnTo>
                    <a:pt x="44" y="199"/>
                  </a:lnTo>
                  <a:lnTo>
                    <a:pt x="80" y="151"/>
                  </a:lnTo>
                  <a:lnTo>
                    <a:pt x="122" y="110"/>
                  </a:lnTo>
                  <a:lnTo>
                    <a:pt x="168" y="72"/>
                  </a:lnTo>
                  <a:lnTo>
                    <a:pt x="218" y="43"/>
                  </a:lnTo>
                  <a:lnTo>
                    <a:pt x="272" y="18"/>
                  </a:lnTo>
                  <a:lnTo>
                    <a:pt x="325" y="0"/>
                  </a:lnTo>
                  <a:lnTo>
                    <a:pt x="350" y="1"/>
                  </a:lnTo>
                  <a:lnTo>
                    <a:pt x="378" y="5"/>
                  </a:lnTo>
                  <a:lnTo>
                    <a:pt x="406" y="8"/>
                  </a:lnTo>
                  <a:lnTo>
                    <a:pt x="434" y="14"/>
                  </a:lnTo>
                  <a:lnTo>
                    <a:pt x="461" y="19"/>
                  </a:lnTo>
                  <a:lnTo>
                    <a:pt x="487" y="30"/>
                  </a:lnTo>
                  <a:lnTo>
                    <a:pt x="511" y="43"/>
                  </a:lnTo>
                  <a:lnTo>
                    <a:pt x="536" y="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57480" y="4110120"/>
              <a:ext cx="531720" cy="642960"/>
            </a:xfrm>
            <a:custGeom>
              <a:avLst/>
              <a:gdLst/>
              <a:ahLst/>
              <a:rect l="l" t="t" r="r" b="b"/>
              <a:pathLst>
                <a:path w="669" h="810">
                  <a:moveTo>
                    <a:pt x="422" y="70"/>
                  </a:moveTo>
                  <a:lnTo>
                    <a:pt x="446" y="131"/>
                  </a:lnTo>
                  <a:lnTo>
                    <a:pt x="458" y="199"/>
                  </a:lnTo>
                  <a:lnTo>
                    <a:pt x="460" y="265"/>
                  </a:lnTo>
                  <a:lnTo>
                    <a:pt x="454" y="333"/>
                  </a:lnTo>
                  <a:lnTo>
                    <a:pt x="440" y="401"/>
                  </a:lnTo>
                  <a:lnTo>
                    <a:pt x="423" y="468"/>
                  </a:lnTo>
                  <a:lnTo>
                    <a:pt x="404" y="534"/>
                  </a:lnTo>
                  <a:lnTo>
                    <a:pt x="387" y="598"/>
                  </a:lnTo>
                  <a:lnTo>
                    <a:pt x="411" y="625"/>
                  </a:lnTo>
                  <a:lnTo>
                    <a:pt x="436" y="633"/>
                  </a:lnTo>
                  <a:lnTo>
                    <a:pt x="464" y="626"/>
                  </a:lnTo>
                  <a:lnTo>
                    <a:pt x="495" y="609"/>
                  </a:lnTo>
                  <a:lnTo>
                    <a:pt x="524" y="586"/>
                  </a:lnTo>
                  <a:lnTo>
                    <a:pt x="555" y="563"/>
                  </a:lnTo>
                  <a:lnTo>
                    <a:pt x="584" y="545"/>
                  </a:lnTo>
                  <a:lnTo>
                    <a:pt x="617" y="536"/>
                  </a:lnTo>
                  <a:lnTo>
                    <a:pt x="629" y="549"/>
                  </a:lnTo>
                  <a:lnTo>
                    <a:pt x="639" y="566"/>
                  </a:lnTo>
                  <a:lnTo>
                    <a:pt x="643" y="583"/>
                  </a:lnTo>
                  <a:lnTo>
                    <a:pt x="649" y="604"/>
                  </a:lnTo>
                  <a:lnTo>
                    <a:pt x="650" y="623"/>
                  </a:lnTo>
                  <a:lnTo>
                    <a:pt x="655" y="644"/>
                  </a:lnTo>
                  <a:lnTo>
                    <a:pt x="659" y="665"/>
                  </a:lnTo>
                  <a:lnTo>
                    <a:pt x="669" y="686"/>
                  </a:lnTo>
                  <a:lnTo>
                    <a:pt x="605" y="702"/>
                  </a:lnTo>
                  <a:lnTo>
                    <a:pt x="545" y="720"/>
                  </a:lnTo>
                  <a:lnTo>
                    <a:pt x="485" y="738"/>
                  </a:lnTo>
                  <a:lnTo>
                    <a:pt x="426" y="757"/>
                  </a:lnTo>
                  <a:lnTo>
                    <a:pt x="366" y="772"/>
                  </a:lnTo>
                  <a:lnTo>
                    <a:pt x="307" y="787"/>
                  </a:lnTo>
                  <a:lnTo>
                    <a:pt x="245" y="800"/>
                  </a:lnTo>
                  <a:lnTo>
                    <a:pt x="185" y="810"/>
                  </a:lnTo>
                  <a:lnTo>
                    <a:pt x="198" y="785"/>
                  </a:lnTo>
                  <a:lnTo>
                    <a:pt x="210" y="759"/>
                  </a:lnTo>
                  <a:lnTo>
                    <a:pt x="224" y="733"/>
                  </a:lnTo>
                  <a:lnTo>
                    <a:pt x="238" y="706"/>
                  </a:lnTo>
                  <a:lnTo>
                    <a:pt x="251" y="678"/>
                  </a:lnTo>
                  <a:lnTo>
                    <a:pt x="266" y="651"/>
                  </a:lnTo>
                  <a:lnTo>
                    <a:pt x="282" y="623"/>
                  </a:lnTo>
                  <a:lnTo>
                    <a:pt x="298" y="598"/>
                  </a:lnTo>
                  <a:lnTo>
                    <a:pt x="311" y="546"/>
                  </a:lnTo>
                  <a:lnTo>
                    <a:pt x="334" y="496"/>
                  </a:lnTo>
                  <a:lnTo>
                    <a:pt x="355" y="443"/>
                  </a:lnTo>
                  <a:lnTo>
                    <a:pt x="377" y="389"/>
                  </a:lnTo>
                  <a:lnTo>
                    <a:pt x="391" y="335"/>
                  </a:lnTo>
                  <a:lnTo>
                    <a:pt x="395" y="281"/>
                  </a:lnTo>
                  <a:lnTo>
                    <a:pt x="383" y="227"/>
                  </a:lnTo>
                  <a:lnTo>
                    <a:pt x="352" y="175"/>
                  </a:lnTo>
                  <a:lnTo>
                    <a:pt x="334" y="161"/>
                  </a:lnTo>
                  <a:lnTo>
                    <a:pt x="317" y="148"/>
                  </a:lnTo>
                  <a:lnTo>
                    <a:pt x="300" y="136"/>
                  </a:lnTo>
                  <a:lnTo>
                    <a:pt x="283" y="126"/>
                  </a:lnTo>
                  <a:lnTo>
                    <a:pt x="263" y="116"/>
                  </a:lnTo>
                  <a:lnTo>
                    <a:pt x="244" y="110"/>
                  </a:lnTo>
                  <a:lnTo>
                    <a:pt x="223" y="105"/>
                  </a:lnTo>
                  <a:lnTo>
                    <a:pt x="202" y="105"/>
                  </a:lnTo>
                  <a:lnTo>
                    <a:pt x="181" y="105"/>
                  </a:lnTo>
                  <a:lnTo>
                    <a:pt x="161" y="110"/>
                  </a:lnTo>
                  <a:lnTo>
                    <a:pt x="142" y="117"/>
                  </a:lnTo>
                  <a:lnTo>
                    <a:pt x="125" y="127"/>
                  </a:lnTo>
                  <a:lnTo>
                    <a:pt x="108" y="138"/>
                  </a:lnTo>
                  <a:lnTo>
                    <a:pt x="92" y="152"/>
                  </a:lnTo>
                  <a:lnTo>
                    <a:pt x="80" y="168"/>
                  </a:lnTo>
                  <a:lnTo>
                    <a:pt x="70" y="185"/>
                  </a:lnTo>
                  <a:lnTo>
                    <a:pt x="62" y="220"/>
                  </a:lnTo>
                  <a:lnTo>
                    <a:pt x="0" y="210"/>
                  </a:lnTo>
                  <a:lnTo>
                    <a:pt x="10" y="171"/>
                  </a:lnTo>
                  <a:lnTo>
                    <a:pt x="28" y="134"/>
                  </a:lnTo>
                  <a:lnTo>
                    <a:pt x="53" y="101"/>
                  </a:lnTo>
                  <a:lnTo>
                    <a:pt x="84" y="71"/>
                  </a:lnTo>
                  <a:lnTo>
                    <a:pt x="118" y="45"/>
                  </a:lnTo>
                  <a:lnTo>
                    <a:pt x="157" y="24"/>
                  </a:lnTo>
                  <a:lnTo>
                    <a:pt x="196" y="8"/>
                  </a:lnTo>
                  <a:lnTo>
                    <a:pt x="237" y="0"/>
                  </a:lnTo>
                  <a:lnTo>
                    <a:pt x="262" y="0"/>
                  </a:lnTo>
                  <a:lnTo>
                    <a:pt x="289" y="3"/>
                  </a:lnTo>
                  <a:lnTo>
                    <a:pt x="314" y="7"/>
                  </a:lnTo>
                  <a:lnTo>
                    <a:pt x="339" y="14"/>
                  </a:lnTo>
                  <a:lnTo>
                    <a:pt x="362" y="22"/>
                  </a:lnTo>
                  <a:lnTo>
                    <a:pt x="384" y="35"/>
                  </a:lnTo>
                  <a:lnTo>
                    <a:pt x="404" y="50"/>
                  </a:lnTo>
                  <a:lnTo>
                    <a:pt x="422" y="7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8360" y="4892760"/>
              <a:ext cx="231840" cy="433440"/>
            </a:xfrm>
            <a:custGeom>
              <a:avLst/>
              <a:gdLst/>
              <a:ahLst/>
              <a:rect l="l" t="t" r="r" b="b"/>
              <a:pathLst>
                <a:path w="291" h="546">
                  <a:moveTo>
                    <a:pt x="149" y="17"/>
                  </a:moveTo>
                  <a:lnTo>
                    <a:pt x="162" y="27"/>
                  </a:lnTo>
                  <a:lnTo>
                    <a:pt x="179" y="37"/>
                  </a:lnTo>
                  <a:lnTo>
                    <a:pt x="196" y="42"/>
                  </a:lnTo>
                  <a:lnTo>
                    <a:pt x="215" y="48"/>
                  </a:lnTo>
                  <a:lnTo>
                    <a:pt x="235" y="51"/>
                  </a:lnTo>
                  <a:lnTo>
                    <a:pt x="255" y="55"/>
                  </a:lnTo>
                  <a:lnTo>
                    <a:pt x="273" y="58"/>
                  </a:lnTo>
                  <a:lnTo>
                    <a:pt x="291" y="62"/>
                  </a:lnTo>
                  <a:lnTo>
                    <a:pt x="290" y="89"/>
                  </a:lnTo>
                  <a:lnTo>
                    <a:pt x="285" y="117"/>
                  </a:lnTo>
                  <a:lnTo>
                    <a:pt x="276" y="142"/>
                  </a:lnTo>
                  <a:lnTo>
                    <a:pt x="266" y="167"/>
                  </a:lnTo>
                  <a:lnTo>
                    <a:pt x="253" y="191"/>
                  </a:lnTo>
                  <a:lnTo>
                    <a:pt x="243" y="216"/>
                  </a:lnTo>
                  <a:lnTo>
                    <a:pt x="234" y="243"/>
                  </a:lnTo>
                  <a:lnTo>
                    <a:pt x="229" y="272"/>
                  </a:lnTo>
                  <a:lnTo>
                    <a:pt x="215" y="309"/>
                  </a:lnTo>
                  <a:lnTo>
                    <a:pt x="206" y="345"/>
                  </a:lnTo>
                  <a:lnTo>
                    <a:pt x="196" y="382"/>
                  </a:lnTo>
                  <a:lnTo>
                    <a:pt x="186" y="419"/>
                  </a:lnTo>
                  <a:lnTo>
                    <a:pt x="172" y="453"/>
                  </a:lnTo>
                  <a:lnTo>
                    <a:pt x="159" y="487"/>
                  </a:lnTo>
                  <a:lnTo>
                    <a:pt x="142" y="516"/>
                  </a:lnTo>
                  <a:lnTo>
                    <a:pt x="123" y="546"/>
                  </a:lnTo>
                  <a:lnTo>
                    <a:pt x="105" y="541"/>
                  </a:lnTo>
                  <a:lnTo>
                    <a:pt x="86" y="540"/>
                  </a:lnTo>
                  <a:lnTo>
                    <a:pt x="68" y="539"/>
                  </a:lnTo>
                  <a:lnTo>
                    <a:pt x="51" y="536"/>
                  </a:lnTo>
                  <a:lnTo>
                    <a:pt x="33" y="530"/>
                  </a:lnTo>
                  <a:lnTo>
                    <a:pt x="19" y="522"/>
                  </a:lnTo>
                  <a:lnTo>
                    <a:pt x="7" y="509"/>
                  </a:lnTo>
                  <a:lnTo>
                    <a:pt x="0" y="494"/>
                  </a:lnTo>
                  <a:lnTo>
                    <a:pt x="9" y="9"/>
                  </a:lnTo>
                  <a:lnTo>
                    <a:pt x="25" y="0"/>
                  </a:lnTo>
                  <a:lnTo>
                    <a:pt x="42" y="0"/>
                  </a:lnTo>
                  <a:lnTo>
                    <a:pt x="60" y="3"/>
                  </a:lnTo>
                  <a:lnTo>
                    <a:pt x="79" y="9"/>
                  </a:lnTo>
                  <a:lnTo>
                    <a:pt x="96" y="14"/>
                  </a:lnTo>
                  <a:lnTo>
                    <a:pt x="114" y="19"/>
                  </a:lnTo>
                  <a:lnTo>
                    <a:pt x="131" y="20"/>
                  </a:lnTo>
                  <a:lnTo>
                    <a:pt x="149" y="17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86080" y="5073480"/>
              <a:ext cx="311040" cy="517680"/>
            </a:xfrm>
            <a:custGeom>
              <a:avLst/>
              <a:gdLst/>
              <a:ahLst/>
              <a:rect l="l" t="t" r="r" b="b"/>
              <a:pathLst>
                <a:path w="391" h="651">
                  <a:moveTo>
                    <a:pt x="391" y="123"/>
                  </a:moveTo>
                  <a:lnTo>
                    <a:pt x="358" y="134"/>
                  </a:lnTo>
                  <a:lnTo>
                    <a:pt x="324" y="146"/>
                  </a:lnTo>
                  <a:lnTo>
                    <a:pt x="292" y="157"/>
                  </a:lnTo>
                  <a:lnTo>
                    <a:pt x="261" y="169"/>
                  </a:lnTo>
                  <a:lnTo>
                    <a:pt x="229" y="181"/>
                  </a:lnTo>
                  <a:lnTo>
                    <a:pt x="199" y="195"/>
                  </a:lnTo>
                  <a:lnTo>
                    <a:pt x="170" y="209"/>
                  </a:lnTo>
                  <a:lnTo>
                    <a:pt x="145" y="228"/>
                  </a:lnTo>
                  <a:lnTo>
                    <a:pt x="139" y="241"/>
                  </a:lnTo>
                  <a:lnTo>
                    <a:pt x="142" y="255"/>
                  </a:lnTo>
                  <a:lnTo>
                    <a:pt x="146" y="267"/>
                  </a:lnTo>
                  <a:lnTo>
                    <a:pt x="153" y="281"/>
                  </a:lnTo>
                  <a:lnTo>
                    <a:pt x="276" y="246"/>
                  </a:lnTo>
                  <a:lnTo>
                    <a:pt x="279" y="265"/>
                  </a:lnTo>
                  <a:lnTo>
                    <a:pt x="285" y="284"/>
                  </a:lnTo>
                  <a:lnTo>
                    <a:pt x="290" y="304"/>
                  </a:lnTo>
                  <a:lnTo>
                    <a:pt x="296" y="324"/>
                  </a:lnTo>
                  <a:lnTo>
                    <a:pt x="299" y="342"/>
                  </a:lnTo>
                  <a:lnTo>
                    <a:pt x="299" y="360"/>
                  </a:lnTo>
                  <a:lnTo>
                    <a:pt x="293" y="378"/>
                  </a:lnTo>
                  <a:lnTo>
                    <a:pt x="285" y="396"/>
                  </a:lnTo>
                  <a:lnTo>
                    <a:pt x="271" y="394"/>
                  </a:lnTo>
                  <a:lnTo>
                    <a:pt x="258" y="394"/>
                  </a:lnTo>
                  <a:lnTo>
                    <a:pt x="244" y="395"/>
                  </a:lnTo>
                  <a:lnTo>
                    <a:pt x="232" y="399"/>
                  </a:lnTo>
                  <a:lnTo>
                    <a:pt x="218" y="403"/>
                  </a:lnTo>
                  <a:lnTo>
                    <a:pt x="205" y="409"/>
                  </a:lnTo>
                  <a:lnTo>
                    <a:pt x="192" y="415"/>
                  </a:lnTo>
                  <a:lnTo>
                    <a:pt x="180" y="423"/>
                  </a:lnTo>
                  <a:lnTo>
                    <a:pt x="184" y="441"/>
                  </a:lnTo>
                  <a:lnTo>
                    <a:pt x="190" y="462"/>
                  </a:lnTo>
                  <a:lnTo>
                    <a:pt x="192" y="483"/>
                  </a:lnTo>
                  <a:lnTo>
                    <a:pt x="197" y="504"/>
                  </a:lnTo>
                  <a:lnTo>
                    <a:pt x="201" y="524"/>
                  </a:lnTo>
                  <a:lnTo>
                    <a:pt x="206" y="545"/>
                  </a:lnTo>
                  <a:lnTo>
                    <a:pt x="213" y="563"/>
                  </a:lnTo>
                  <a:lnTo>
                    <a:pt x="223" y="581"/>
                  </a:lnTo>
                  <a:lnTo>
                    <a:pt x="218" y="594"/>
                  </a:lnTo>
                  <a:lnTo>
                    <a:pt x="209" y="605"/>
                  </a:lnTo>
                  <a:lnTo>
                    <a:pt x="198" y="614"/>
                  </a:lnTo>
                  <a:lnTo>
                    <a:pt x="187" y="622"/>
                  </a:lnTo>
                  <a:lnTo>
                    <a:pt x="174" y="628"/>
                  </a:lnTo>
                  <a:lnTo>
                    <a:pt x="161" y="635"/>
                  </a:lnTo>
                  <a:lnTo>
                    <a:pt x="152" y="642"/>
                  </a:lnTo>
                  <a:lnTo>
                    <a:pt x="145" y="651"/>
                  </a:lnTo>
                  <a:lnTo>
                    <a:pt x="131" y="649"/>
                  </a:lnTo>
                  <a:lnTo>
                    <a:pt x="122" y="644"/>
                  </a:lnTo>
                  <a:lnTo>
                    <a:pt x="112" y="637"/>
                  </a:lnTo>
                  <a:lnTo>
                    <a:pt x="108" y="630"/>
                  </a:lnTo>
                  <a:lnTo>
                    <a:pt x="103" y="619"/>
                  </a:lnTo>
                  <a:lnTo>
                    <a:pt x="101" y="609"/>
                  </a:lnTo>
                  <a:lnTo>
                    <a:pt x="100" y="598"/>
                  </a:lnTo>
                  <a:lnTo>
                    <a:pt x="100" y="590"/>
                  </a:lnTo>
                  <a:lnTo>
                    <a:pt x="89" y="544"/>
                  </a:lnTo>
                  <a:lnTo>
                    <a:pt x="77" y="497"/>
                  </a:lnTo>
                  <a:lnTo>
                    <a:pt x="66" y="452"/>
                  </a:lnTo>
                  <a:lnTo>
                    <a:pt x="56" y="409"/>
                  </a:lnTo>
                  <a:lnTo>
                    <a:pt x="45" y="363"/>
                  </a:lnTo>
                  <a:lnTo>
                    <a:pt x="37" y="318"/>
                  </a:lnTo>
                  <a:lnTo>
                    <a:pt x="27" y="273"/>
                  </a:lnTo>
                  <a:lnTo>
                    <a:pt x="21" y="228"/>
                  </a:lnTo>
                  <a:lnTo>
                    <a:pt x="16" y="211"/>
                  </a:lnTo>
                  <a:lnTo>
                    <a:pt x="11" y="196"/>
                  </a:lnTo>
                  <a:lnTo>
                    <a:pt x="7" y="181"/>
                  </a:lnTo>
                  <a:lnTo>
                    <a:pt x="4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27"/>
                  </a:lnTo>
                  <a:lnTo>
                    <a:pt x="3" y="115"/>
                  </a:lnTo>
                  <a:lnTo>
                    <a:pt x="44" y="92"/>
                  </a:lnTo>
                  <a:lnTo>
                    <a:pt x="86" y="73"/>
                  </a:lnTo>
                  <a:lnTo>
                    <a:pt x="129" y="54"/>
                  </a:lnTo>
                  <a:lnTo>
                    <a:pt x="175" y="40"/>
                  </a:lnTo>
                  <a:lnTo>
                    <a:pt x="220" y="26"/>
                  </a:lnTo>
                  <a:lnTo>
                    <a:pt x="267" y="15"/>
                  </a:lnTo>
                  <a:lnTo>
                    <a:pt x="311" y="7"/>
                  </a:lnTo>
                  <a:lnTo>
                    <a:pt x="356" y="0"/>
                  </a:lnTo>
                  <a:lnTo>
                    <a:pt x="366" y="12"/>
                  </a:lnTo>
                  <a:lnTo>
                    <a:pt x="373" y="29"/>
                  </a:lnTo>
                  <a:lnTo>
                    <a:pt x="376" y="46"/>
                  </a:lnTo>
                  <a:lnTo>
                    <a:pt x="380" y="64"/>
                  </a:lnTo>
                  <a:lnTo>
                    <a:pt x="380" y="80"/>
                  </a:lnTo>
                  <a:lnTo>
                    <a:pt x="382" y="96"/>
                  </a:lnTo>
                  <a:lnTo>
                    <a:pt x="384" y="110"/>
                  </a:lnTo>
                  <a:lnTo>
                    <a:pt x="391" y="123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52720" y="5165640"/>
              <a:ext cx="293760" cy="496800"/>
            </a:xfrm>
            <a:custGeom>
              <a:avLst/>
              <a:gdLst/>
              <a:ahLst/>
              <a:rect l="l" t="t" r="r" b="b"/>
              <a:pathLst>
                <a:path w="370" h="626">
                  <a:moveTo>
                    <a:pt x="370" y="26"/>
                  </a:moveTo>
                  <a:lnTo>
                    <a:pt x="370" y="21"/>
                  </a:lnTo>
                  <a:lnTo>
                    <a:pt x="370" y="17"/>
                  </a:lnTo>
                  <a:lnTo>
                    <a:pt x="361" y="25"/>
                  </a:lnTo>
                  <a:lnTo>
                    <a:pt x="357" y="35"/>
                  </a:lnTo>
                  <a:lnTo>
                    <a:pt x="356" y="43"/>
                  </a:lnTo>
                  <a:lnTo>
                    <a:pt x="359" y="53"/>
                  </a:lnTo>
                  <a:lnTo>
                    <a:pt x="361" y="61"/>
                  </a:lnTo>
                  <a:lnTo>
                    <a:pt x="366" y="73"/>
                  </a:lnTo>
                  <a:lnTo>
                    <a:pt x="367" y="82"/>
                  </a:lnTo>
                  <a:lnTo>
                    <a:pt x="370" y="96"/>
                  </a:lnTo>
                  <a:lnTo>
                    <a:pt x="340" y="122"/>
                  </a:lnTo>
                  <a:lnTo>
                    <a:pt x="300" y="140"/>
                  </a:lnTo>
                  <a:lnTo>
                    <a:pt x="252" y="152"/>
                  </a:lnTo>
                  <a:lnTo>
                    <a:pt x="207" y="166"/>
                  </a:lnTo>
                  <a:lnTo>
                    <a:pt x="168" y="180"/>
                  </a:lnTo>
                  <a:lnTo>
                    <a:pt x="147" y="204"/>
                  </a:lnTo>
                  <a:lnTo>
                    <a:pt x="147" y="238"/>
                  </a:lnTo>
                  <a:lnTo>
                    <a:pt x="176" y="290"/>
                  </a:lnTo>
                  <a:lnTo>
                    <a:pt x="192" y="287"/>
                  </a:lnTo>
                  <a:lnTo>
                    <a:pt x="209" y="280"/>
                  </a:lnTo>
                  <a:lnTo>
                    <a:pt x="225" y="272"/>
                  </a:lnTo>
                  <a:lnTo>
                    <a:pt x="242" y="263"/>
                  </a:lnTo>
                  <a:lnTo>
                    <a:pt x="258" y="255"/>
                  </a:lnTo>
                  <a:lnTo>
                    <a:pt x="275" y="252"/>
                  </a:lnTo>
                  <a:lnTo>
                    <a:pt x="291" y="253"/>
                  </a:lnTo>
                  <a:lnTo>
                    <a:pt x="308" y="263"/>
                  </a:lnTo>
                  <a:lnTo>
                    <a:pt x="310" y="274"/>
                  </a:lnTo>
                  <a:lnTo>
                    <a:pt x="312" y="287"/>
                  </a:lnTo>
                  <a:lnTo>
                    <a:pt x="314" y="298"/>
                  </a:lnTo>
                  <a:lnTo>
                    <a:pt x="317" y="311"/>
                  </a:lnTo>
                  <a:lnTo>
                    <a:pt x="317" y="322"/>
                  </a:lnTo>
                  <a:lnTo>
                    <a:pt x="317" y="333"/>
                  </a:lnTo>
                  <a:lnTo>
                    <a:pt x="317" y="346"/>
                  </a:lnTo>
                  <a:lnTo>
                    <a:pt x="318" y="360"/>
                  </a:lnTo>
                  <a:lnTo>
                    <a:pt x="304" y="365"/>
                  </a:lnTo>
                  <a:lnTo>
                    <a:pt x="290" y="374"/>
                  </a:lnTo>
                  <a:lnTo>
                    <a:pt x="276" y="381"/>
                  </a:lnTo>
                  <a:lnTo>
                    <a:pt x="262" y="388"/>
                  </a:lnTo>
                  <a:lnTo>
                    <a:pt x="246" y="394"/>
                  </a:lnTo>
                  <a:lnTo>
                    <a:pt x="232" y="399"/>
                  </a:lnTo>
                  <a:lnTo>
                    <a:pt x="217" y="402"/>
                  </a:lnTo>
                  <a:lnTo>
                    <a:pt x="203" y="405"/>
                  </a:lnTo>
                  <a:lnTo>
                    <a:pt x="202" y="430"/>
                  </a:lnTo>
                  <a:lnTo>
                    <a:pt x="204" y="457"/>
                  </a:lnTo>
                  <a:lnTo>
                    <a:pt x="210" y="482"/>
                  </a:lnTo>
                  <a:lnTo>
                    <a:pt x="217" y="508"/>
                  </a:lnTo>
                  <a:lnTo>
                    <a:pt x="220" y="532"/>
                  </a:lnTo>
                  <a:lnTo>
                    <a:pt x="223" y="557"/>
                  </a:lnTo>
                  <a:lnTo>
                    <a:pt x="220" y="581"/>
                  </a:lnTo>
                  <a:lnTo>
                    <a:pt x="211" y="607"/>
                  </a:lnTo>
                  <a:lnTo>
                    <a:pt x="200" y="609"/>
                  </a:lnTo>
                  <a:lnTo>
                    <a:pt x="190" y="614"/>
                  </a:lnTo>
                  <a:lnTo>
                    <a:pt x="181" y="618"/>
                  </a:lnTo>
                  <a:lnTo>
                    <a:pt x="171" y="622"/>
                  </a:lnTo>
                  <a:lnTo>
                    <a:pt x="161" y="623"/>
                  </a:lnTo>
                  <a:lnTo>
                    <a:pt x="151" y="626"/>
                  </a:lnTo>
                  <a:lnTo>
                    <a:pt x="141" y="625"/>
                  </a:lnTo>
                  <a:lnTo>
                    <a:pt x="133" y="625"/>
                  </a:lnTo>
                  <a:lnTo>
                    <a:pt x="120" y="609"/>
                  </a:lnTo>
                  <a:lnTo>
                    <a:pt x="112" y="594"/>
                  </a:lnTo>
                  <a:lnTo>
                    <a:pt x="106" y="577"/>
                  </a:lnTo>
                  <a:lnTo>
                    <a:pt x="102" y="560"/>
                  </a:lnTo>
                  <a:lnTo>
                    <a:pt x="97" y="541"/>
                  </a:lnTo>
                  <a:lnTo>
                    <a:pt x="92" y="522"/>
                  </a:lnTo>
                  <a:lnTo>
                    <a:pt x="87" y="503"/>
                  </a:lnTo>
                  <a:lnTo>
                    <a:pt x="80" y="483"/>
                  </a:lnTo>
                  <a:lnTo>
                    <a:pt x="68" y="436"/>
                  </a:lnTo>
                  <a:lnTo>
                    <a:pt x="57" y="389"/>
                  </a:lnTo>
                  <a:lnTo>
                    <a:pt x="46" y="343"/>
                  </a:lnTo>
                  <a:lnTo>
                    <a:pt x="36" y="297"/>
                  </a:lnTo>
                  <a:lnTo>
                    <a:pt x="25" y="249"/>
                  </a:lnTo>
                  <a:lnTo>
                    <a:pt x="15" y="202"/>
                  </a:lnTo>
                  <a:lnTo>
                    <a:pt x="7" y="152"/>
                  </a:lnTo>
                  <a:lnTo>
                    <a:pt x="0" y="105"/>
                  </a:lnTo>
                  <a:lnTo>
                    <a:pt x="39" y="88"/>
                  </a:lnTo>
                  <a:lnTo>
                    <a:pt x="81" y="73"/>
                  </a:lnTo>
                  <a:lnTo>
                    <a:pt x="125" y="59"/>
                  </a:lnTo>
                  <a:lnTo>
                    <a:pt x="168" y="46"/>
                  </a:lnTo>
                  <a:lnTo>
                    <a:pt x="211" y="32"/>
                  </a:lnTo>
                  <a:lnTo>
                    <a:pt x="255" y="21"/>
                  </a:lnTo>
                  <a:lnTo>
                    <a:pt x="298" y="8"/>
                  </a:lnTo>
                  <a:lnTo>
                    <a:pt x="343" y="0"/>
                  </a:lnTo>
                  <a:lnTo>
                    <a:pt x="370" y="2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71840" y="5291280"/>
              <a:ext cx="390600" cy="458640"/>
            </a:xfrm>
            <a:custGeom>
              <a:avLst/>
              <a:gdLst/>
              <a:ahLst/>
              <a:rect l="l" t="t" r="r" b="b"/>
              <a:pathLst>
                <a:path w="491" h="579">
                  <a:moveTo>
                    <a:pt x="242" y="8"/>
                  </a:moveTo>
                  <a:lnTo>
                    <a:pt x="279" y="13"/>
                  </a:lnTo>
                  <a:lnTo>
                    <a:pt x="316" y="24"/>
                  </a:lnTo>
                  <a:lnTo>
                    <a:pt x="349" y="38"/>
                  </a:lnTo>
                  <a:lnTo>
                    <a:pt x="382" y="59"/>
                  </a:lnTo>
                  <a:lnTo>
                    <a:pt x="408" y="84"/>
                  </a:lnTo>
                  <a:lnTo>
                    <a:pt x="431" y="114"/>
                  </a:lnTo>
                  <a:lnTo>
                    <a:pt x="449" y="147"/>
                  </a:lnTo>
                  <a:lnTo>
                    <a:pt x="463" y="185"/>
                  </a:lnTo>
                  <a:lnTo>
                    <a:pt x="476" y="224"/>
                  </a:lnTo>
                  <a:lnTo>
                    <a:pt x="485" y="265"/>
                  </a:lnTo>
                  <a:lnTo>
                    <a:pt x="490" y="307"/>
                  </a:lnTo>
                  <a:lnTo>
                    <a:pt x="491" y="350"/>
                  </a:lnTo>
                  <a:lnTo>
                    <a:pt x="483" y="391"/>
                  </a:lnTo>
                  <a:lnTo>
                    <a:pt x="471" y="432"/>
                  </a:lnTo>
                  <a:lnTo>
                    <a:pt x="452" y="471"/>
                  </a:lnTo>
                  <a:lnTo>
                    <a:pt x="427" y="510"/>
                  </a:lnTo>
                  <a:lnTo>
                    <a:pt x="400" y="533"/>
                  </a:lnTo>
                  <a:lnTo>
                    <a:pt x="373" y="551"/>
                  </a:lnTo>
                  <a:lnTo>
                    <a:pt x="344" y="565"/>
                  </a:lnTo>
                  <a:lnTo>
                    <a:pt x="316" y="575"/>
                  </a:lnTo>
                  <a:lnTo>
                    <a:pt x="285" y="579"/>
                  </a:lnTo>
                  <a:lnTo>
                    <a:pt x="253" y="579"/>
                  </a:lnTo>
                  <a:lnTo>
                    <a:pt x="218" y="576"/>
                  </a:lnTo>
                  <a:lnTo>
                    <a:pt x="180" y="572"/>
                  </a:lnTo>
                  <a:lnTo>
                    <a:pt x="138" y="544"/>
                  </a:lnTo>
                  <a:lnTo>
                    <a:pt x="101" y="513"/>
                  </a:lnTo>
                  <a:lnTo>
                    <a:pt x="68" y="475"/>
                  </a:lnTo>
                  <a:lnTo>
                    <a:pt x="42" y="435"/>
                  </a:lnTo>
                  <a:lnTo>
                    <a:pt x="20" y="388"/>
                  </a:lnTo>
                  <a:lnTo>
                    <a:pt x="7" y="341"/>
                  </a:lnTo>
                  <a:lnTo>
                    <a:pt x="0" y="289"/>
                  </a:lnTo>
                  <a:lnTo>
                    <a:pt x="5" y="238"/>
                  </a:lnTo>
                  <a:lnTo>
                    <a:pt x="16" y="205"/>
                  </a:lnTo>
                  <a:lnTo>
                    <a:pt x="28" y="171"/>
                  </a:lnTo>
                  <a:lnTo>
                    <a:pt x="40" y="136"/>
                  </a:lnTo>
                  <a:lnTo>
                    <a:pt x="56" y="104"/>
                  </a:lnTo>
                  <a:lnTo>
                    <a:pt x="75" y="72"/>
                  </a:lnTo>
                  <a:lnTo>
                    <a:pt x="97" y="46"/>
                  </a:lnTo>
                  <a:lnTo>
                    <a:pt x="127" y="27"/>
                  </a:lnTo>
                  <a:lnTo>
                    <a:pt x="163" y="17"/>
                  </a:lnTo>
                  <a:lnTo>
                    <a:pt x="242" y="8"/>
                  </a:lnTo>
                  <a:lnTo>
                    <a:pt x="242" y="0"/>
                  </a:lnTo>
                  <a:lnTo>
                    <a:pt x="242" y="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73440" y="5391000"/>
              <a:ext cx="147600" cy="125640"/>
            </a:xfrm>
            <a:custGeom>
              <a:avLst/>
              <a:gdLst/>
              <a:ahLst/>
              <a:rect l="l" t="t" r="r" b="b"/>
              <a:pathLst>
                <a:path w="185" h="157">
                  <a:moveTo>
                    <a:pt x="185" y="51"/>
                  </a:moveTo>
                  <a:lnTo>
                    <a:pt x="182" y="69"/>
                  </a:lnTo>
                  <a:lnTo>
                    <a:pt x="178" y="87"/>
                  </a:lnTo>
                  <a:lnTo>
                    <a:pt x="170" y="103"/>
                  </a:lnTo>
                  <a:lnTo>
                    <a:pt x="160" y="119"/>
                  </a:lnTo>
                  <a:lnTo>
                    <a:pt x="146" y="131"/>
                  </a:lnTo>
                  <a:lnTo>
                    <a:pt x="132" y="142"/>
                  </a:lnTo>
                  <a:lnTo>
                    <a:pt x="115" y="150"/>
                  </a:lnTo>
                  <a:lnTo>
                    <a:pt x="97" y="156"/>
                  </a:lnTo>
                  <a:lnTo>
                    <a:pt x="83" y="156"/>
                  </a:lnTo>
                  <a:lnTo>
                    <a:pt x="70" y="157"/>
                  </a:lnTo>
                  <a:lnTo>
                    <a:pt x="59" y="154"/>
                  </a:lnTo>
                  <a:lnTo>
                    <a:pt x="49" y="152"/>
                  </a:lnTo>
                  <a:lnTo>
                    <a:pt x="38" y="146"/>
                  </a:lnTo>
                  <a:lnTo>
                    <a:pt x="28" y="140"/>
                  </a:lnTo>
                  <a:lnTo>
                    <a:pt x="17" y="135"/>
                  </a:lnTo>
                  <a:lnTo>
                    <a:pt x="8" y="129"/>
                  </a:lnTo>
                  <a:lnTo>
                    <a:pt x="3" y="114"/>
                  </a:lnTo>
                  <a:lnTo>
                    <a:pt x="1" y="101"/>
                  </a:lnTo>
                  <a:lnTo>
                    <a:pt x="0" y="86"/>
                  </a:lnTo>
                  <a:lnTo>
                    <a:pt x="4" y="73"/>
                  </a:lnTo>
                  <a:lnTo>
                    <a:pt x="7" y="59"/>
                  </a:lnTo>
                  <a:lnTo>
                    <a:pt x="13" y="46"/>
                  </a:lnTo>
                  <a:lnTo>
                    <a:pt x="18" y="34"/>
                  </a:lnTo>
                  <a:lnTo>
                    <a:pt x="27" y="24"/>
                  </a:lnTo>
                  <a:lnTo>
                    <a:pt x="46" y="13"/>
                  </a:lnTo>
                  <a:lnTo>
                    <a:pt x="70" y="6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39" y="3"/>
                  </a:lnTo>
                  <a:lnTo>
                    <a:pt x="158" y="11"/>
                  </a:lnTo>
                  <a:lnTo>
                    <a:pt x="174" y="27"/>
                  </a:lnTo>
                  <a:lnTo>
                    <a:pt x="185" y="51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85960" y="5396040"/>
              <a:ext cx="177840" cy="234720"/>
            </a:xfrm>
            <a:custGeom>
              <a:avLst/>
              <a:gdLst/>
              <a:ahLst/>
              <a:rect l="l" t="t" r="r" b="b"/>
              <a:pathLst>
                <a:path w="223" h="296">
                  <a:moveTo>
                    <a:pt x="220" y="88"/>
                  </a:moveTo>
                  <a:lnTo>
                    <a:pt x="220" y="111"/>
                  </a:lnTo>
                  <a:lnTo>
                    <a:pt x="221" y="136"/>
                  </a:lnTo>
                  <a:lnTo>
                    <a:pt x="221" y="161"/>
                  </a:lnTo>
                  <a:lnTo>
                    <a:pt x="223" y="186"/>
                  </a:lnTo>
                  <a:lnTo>
                    <a:pt x="220" y="210"/>
                  </a:lnTo>
                  <a:lnTo>
                    <a:pt x="216" y="234"/>
                  </a:lnTo>
                  <a:lnTo>
                    <a:pt x="207" y="253"/>
                  </a:lnTo>
                  <a:lnTo>
                    <a:pt x="195" y="273"/>
                  </a:lnTo>
                  <a:lnTo>
                    <a:pt x="174" y="287"/>
                  </a:lnTo>
                  <a:lnTo>
                    <a:pt x="153" y="296"/>
                  </a:lnTo>
                  <a:lnTo>
                    <a:pt x="132" y="296"/>
                  </a:lnTo>
                  <a:lnTo>
                    <a:pt x="111" y="293"/>
                  </a:lnTo>
                  <a:lnTo>
                    <a:pt x="88" y="284"/>
                  </a:lnTo>
                  <a:lnTo>
                    <a:pt x="67" y="276"/>
                  </a:lnTo>
                  <a:lnTo>
                    <a:pt x="46" y="265"/>
                  </a:lnTo>
                  <a:lnTo>
                    <a:pt x="26" y="255"/>
                  </a:lnTo>
                  <a:lnTo>
                    <a:pt x="12" y="239"/>
                  </a:lnTo>
                  <a:lnTo>
                    <a:pt x="4" y="225"/>
                  </a:lnTo>
                  <a:lnTo>
                    <a:pt x="0" y="209"/>
                  </a:lnTo>
                  <a:lnTo>
                    <a:pt x="0" y="192"/>
                  </a:lnTo>
                  <a:lnTo>
                    <a:pt x="1" y="174"/>
                  </a:lnTo>
                  <a:lnTo>
                    <a:pt x="4" y="157"/>
                  </a:lnTo>
                  <a:lnTo>
                    <a:pt x="5" y="140"/>
                  </a:lnTo>
                  <a:lnTo>
                    <a:pt x="8" y="123"/>
                  </a:lnTo>
                  <a:lnTo>
                    <a:pt x="15" y="102"/>
                  </a:lnTo>
                  <a:lnTo>
                    <a:pt x="25" y="81"/>
                  </a:lnTo>
                  <a:lnTo>
                    <a:pt x="36" y="60"/>
                  </a:lnTo>
                  <a:lnTo>
                    <a:pt x="50" y="40"/>
                  </a:lnTo>
                  <a:lnTo>
                    <a:pt x="66" y="24"/>
                  </a:lnTo>
                  <a:lnTo>
                    <a:pt x="85" y="11"/>
                  </a:lnTo>
                  <a:lnTo>
                    <a:pt x="106" y="3"/>
                  </a:lnTo>
                  <a:lnTo>
                    <a:pt x="133" y="0"/>
                  </a:lnTo>
                  <a:lnTo>
                    <a:pt x="147" y="3"/>
                  </a:lnTo>
                  <a:lnTo>
                    <a:pt x="161" y="11"/>
                  </a:lnTo>
                  <a:lnTo>
                    <a:pt x="174" y="21"/>
                  </a:lnTo>
                  <a:lnTo>
                    <a:pt x="186" y="33"/>
                  </a:lnTo>
                  <a:lnTo>
                    <a:pt x="195" y="46"/>
                  </a:lnTo>
                  <a:lnTo>
                    <a:pt x="204" y="60"/>
                  </a:lnTo>
                  <a:lnTo>
                    <a:pt x="211" y="73"/>
                  </a:lnTo>
                  <a:lnTo>
                    <a:pt x="220" y="88"/>
                  </a:lnTo>
                  <a:close/>
                </a:path>
              </a:pathLst>
            </a:custGeom>
            <a:solidFill>
              <a:srgbClr val="f5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69000" y="1944720"/>
              <a:ext cx="1738440" cy="4356000"/>
              <a:chOff x="5769000" y="1944720"/>
              <a:chExt cx="1738440" cy="4356000"/>
            </a:xfrm>
          </p:grpSpPr>
          <p:sp>
            <p:nvSpPr>
              <p:cNvPr id="513" name=""/>
              <p:cNvSpPr/>
              <p:nvPr/>
            </p:nvSpPr>
            <p:spPr>
              <a:xfrm>
                <a:off x="6211800" y="2114640"/>
                <a:ext cx="1019160" cy="996840"/>
              </a:xfrm>
              <a:custGeom>
                <a:avLst/>
                <a:gdLst/>
                <a:ahLst/>
                <a:rect l="l" t="t" r="r" b="b"/>
                <a:pathLst>
                  <a:path w="642" h="628">
                    <a:moveTo>
                      <a:pt x="195" y="265"/>
                    </a:moveTo>
                    <a:lnTo>
                      <a:pt x="252" y="181"/>
                    </a:lnTo>
                    <a:lnTo>
                      <a:pt x="314" y="119"/>
                    </a:lnTo>
                    <a:lnTo>
                      <a:pt x="378" y="42"/>
                    </a:lnTo>
                    <a:lnTo>
                      <a:pt x="454" y="8"/>
                    </a:lnTo>
                    <a:lnTo>
                      <a:pt x="516" y="0"/>
                    </a:lnTo>
                    <a:lnTo>
                      <a:pt x="580" y="21"/>
                    </a:lnTo>
                    <a:lnTo>
                      <a:pt x="615" y="70"/>
                    </a:lnTo>
                    <a:lnTo>
                      <a:pt x="642" y="161"/>
                    </a:lnTo>
                    <a:lnTo>
                      <a:pt x="635" y="258"/>
                    </a:lnTo>
                    <a:lnTo>
                      <a:pt x="608" y="342"/>
                    </a:lnTo>
                    <a:lnTo>
                      <a:pt x="538" y="440"/>
                    </a:lnTo>
                    <a:lnTo>
                      <a:pt x="461" y="509"/>
                    </a:lnTo>
                    <a:lnTo>
                      <a:pt x="378" y="572"/>
                    </a:lnTo>
                    <a:lnTo>
                      <a:pt x="286" y="613"/>
                    </a:lnTo>
                    <a:lnTo>
                      <a:pt x="210" y="628"/>
                    </a:lnTo>
                    <a:lnTo>
                      <a:pt x="175" y="607"/>
                    </a:lnTo>
                    <a:lnTo>
                      <a:pt x="146" y="524"/>
                    </a:lnTo>
                    <a:lnTo>
                      <a:pt x="153" y="412"/>
                    </a:lnTo>
                    <a:lnTo>
                      <a:pt x="21" y="418"/>
                    </a:lnTo>
                    <a:lnTo>
                      <a:pt x="0" y="398"/>
                    </a:lnTo>
                    <a:lnTo>
                      <a:pt x="21" y="356"/>
                    </a:lnTo>
                    <a:lnTo>
                      <a:pt x="161" y="349"/>
                    </a:lnTo>
                    <a:lnTo>
                      <a:pt x="195" y="26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56360" y="3164040"/>
                <a:ext cx="708120" cy="1463400"/>
              </a:xfrm>
              <a:custGeom>
                <a:avLst/>
                <a:gdLst/>
                <a:ahLst/>
                <a:rect l="l" t="t" r="r" b="b"/>
                <a:pathLst>
                  <a:path w="446" h="922">
                    <a:moveTo>
                      <a:pt x="126" y="78"/>
                    </a:moveTo>
                    <a:lnTo>
                      <a:pt x="188" y="22"/>
                    </a:lnTo>
                    <a:lnTo>
                      <a:pt x="286" y="0"/>
                    </a:lnTo>
                    <a:lnTo>
                      <a:pt x="369" y="15"/>
                    </a:lnTo>
                    <a:lnTo>
                      <a:pt x="432" y="71"/>
                    </a:lnTo>
                    <a:lnTo>
                      <a:pt x="446" y="113"/>
                    </a:lnTo>
                    <a:lnTo>
                      <a:pt x="446" y="168"/>
                    </a:lnTo>
                    <a:lnTo>
                      <a:pt x="419" y="217"/>
                    </a:lnTo>
                    <a:lnTo>
                      <a:pt x="369" y="301"/>
                    </a:lnTo>
                    <a:lnTo>
                      <a:pt x="349" y="399"/>
                    </a:lnTo>
                    <a:lnTo>
                      <a:pt x="342" y="482"/>
                    </a:lnTo>
                    <a:lnTo>
                      <a:pt x="362" y="573"/>
                    </a:lnTo>
                    <a:lnTo>
                      <a:pt x="419" y="656"/>
                    </a:lnTo>
                    <a:lnTo>
                      <a:pt x="439" y="740"/>
                    </a:lnTo>
                    <a:lnTo>
                      <a:pt x="432" y="817"/>
                    </a:lnTo>
                    <a:lnTo>
                      <a:pt x="391" y="880"/>
                    </a:lnTo>
                    <a:lnTo>
                      <a:pt x="335" y="915"/>
                    </a:lnTo>
                    <a:lnTo>
                      <a:pt x="265" y="922"/>
                    </a:lnTo>
                    <a:lnTo>
                      <a:pt x="181" y="922"/>
                    </a:lnTo>
                    <a:lnTo>
                      <a:pt x="119" y="886"/>
                    </a:lnTo>
                    <a:lnTo>
                      <a:pt x="56" y="782"/>
                    </a:lnTo>
                    <a:lnTo>
                      <a:pt x="15" y="691"/>
                    </a:lnTo>
                    <a:lnTo>
                      <a:pt x="0" y="552"/>
                    </a:lnTo>
                    <a:lnTo>
                      <a:pt x="15" y="427"/>
                    </a:lnTo>
                    <a:lnTo>
                      <a:pt x="42" y="294"/>
                    </a:lnTo>
                    <a:lnTo>
                      <a:pt x="84" y="161"/>
                    </a:lnTo>
                    <a:lnTo>
                      <a:pt x="126" y="7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21560" y="3211560"/>
                <a:ext cx="785880" cy="1317600"/>
              </a:xfrm>
              <a:custGeom>
                <a:avLst/>
                <a:gdLst/>
                <a:ahLst/>
                <a:rect l="l" t="t" r="r" b="b"/>
                <a:pathLst>
                  <a:path w="495" h="830">
                    <a:moveTo>
                      <a:pt x="0" y="41"/>
                    </a:moveTo>
                    <a:lnTo>
                      <a:pt x="6" y="6"/>
                    </a:lnTo>
                    <a:lnTo>
                      <a:pt x="83" y="0"/>
                    </a:lnTo>
                    <a:lnTo>
                      <a:pt x="125" y="35"/>
                    </a:lnTo>
                    <a:lnTo>
                      <a:pt x="188" y="125"/>
                    </a:lnTo>
                    <a:lnTo>
                      <a:pt x="271" y="243"/>
                    </a:lnTo>
                    <a:lnTo>
                      <a:pt x="348" y="327"/>
                    </a:lnTo>
                    <a:lnTo>
                      <a:pt x="488" y="480"/>
                    </a:lnTo>
                    <a:lnTo>
                      <a:pt x="495" y="515"/>
                    </a:lnTo>
                    <a:lnTo>
                      <a:pt x="466" y="537"/>
                    </a:lnTo>
                    <a:lnTo>
                      <a:pt x="397" y="564"/>
                    </a:lnTo>
                    <a:lnTo>
                      <a:pt x="300" y="586"/>
                    </a:lnTo>
                    <a:lnTo>
                      <a:pt x="181" y="593"/>
                    </a:lnTo>
                    <a:lnTo>
                      <a:pt x="139" y="599"/>
                    </a:lnTo>
                    <a:lnTo>
                      <a:pt x="125" y="628"/>
                    </a:lnTo>
                    <a:lnTo>
                      <a:pt x="152" y="676"/>
                    </a:lnTo>
                    <a:lnTo>
                      <a:pt x="251" y="759"/>
                    </a:lnTo>
                    <a:lnTo>
                      <a:pt x="320" y="781"/>
                    </a:lnTo>
                    <a:lnTo>
                      <a:pt x="334" y="808"/>
                    </a:lnTo>
                    <a:lnTo>
                      <a:pt x="306" y="830"/>
                    </a:lnTo>
                    <a:lnTo>
                      <a:pt x="243" y="830"/>
                    </a:lnTo>
                    <a:lnTo>
                      <a:pt x="160" y="781"/>
                    </a:lnTo>
                    <a:lnTo>
                      <a:pt x="90" y="711"/>
                    </a:lnTo>
                    <a:lnTo>
                      <a:pt x="48" y="648"/>
                    </a:lnTo>
                    <a:lnTo>
                      <a:pt x="48" y="599"/>
                    </a:lnTo>
                    <a:lnTo>
                      <a:pt x="76" y="564"/>
                    </a:lnTo>
                    <a:lnTo>
                      <a:pt x="118" y="551"/>
                    </a:lnTo>
                    <a:lnTo>
                      <a:pt x="181" y="544"/>
                    </a:lnTo>
                    <a:lnTo>
                      <a:pt x="251" y="544"/>
                    </a:lnTo>
                    <a:lnTo>
                      <a:pt x="334" y="529"/>
                    </a:lnTo>
                    <a:lnTo>
                      <a:pt x="376" y="515"/>
                    </a:lnTo>
                    <a:lnTo>
                      <a:pt x="397" y="495"/>
                    </a:lnTo>
                    <a:lnTo>
                      <a:pt x="390" y="474"/>
                    </a:lnTo>
                    <a:lnTo>
                      <a:pt x="327" y="418"/>
                    </a:lnTo>
                    <a:lnTo>
                      <a:pt x="229" y="320"/>
                    </a:lnTo>
                    <a:lnTo>
                      <a:pt x="139" y="237"/>
                    </a:lnTo>
                    <a:lnTo>
                      <a:pt x="41" y="146"/>
                    </a:lnTo>
                    <a:lnTo>
                      <a:pt x="6" y="8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11800" y="4316400"/>
                <a:ext cx="852480" cy="1984320"/>
              </a:xfrm>
              <a:custGeom>
                <a:avLst/>
                <a:gdLst/>
                <a:ahLst/>
                <a:rect l="l" t="t" r="r" b="b"/>
                <a:pathLst>
                  <a:path w="537" h="1250">
                    <a:moveTo>
                      <a:pt x="265" y="0"/>
                    </a:moveTo>
                    <a:lnTo>
                      <a:pt x="342" y="14"/>
                    </a:lnTo>
                    <a:lnTo>
                      <a:pt x="376" y="71"/>
                    </a:lnTo>
                    <a:lnTo>
                      <a:pt x="369" y="202"/>
                    </a:lnTo>
                    <a:lnTo>
                      <a:pt x="356" y="342"/>
                    </a:lnTo>
                    <a:lnTo>
                      <a:pt x="356" y="488"/>
                    </a:lnTo>
                    <a:lnTo>
                      <a:pt x="425" y="663"/>
                    </a:lnTo>
                    <a:lnTo>
                      <a:pt x="481" y="789"/>
                    </a:lnTo>
                    <a:lnTo>
                      <a:pt x="509" y="915"/>
                    </a:lnTo>
                    <a:lnTo>
                      <a:pt x="502" y="1026"/>
                    </a:lnTo>
                    <a:lnTo>
                      <a:pt x="502" y="1068"/>
                    </a:lnTo>
                    <a:lnTo>
                      <a:pt x="530" y="1110"/>
                    </a:lnTo>
                    <a:lnTo>
                      <a:pt x="537" y="1152"/>
                    </a:lnTo>
                    <a:lnTo>
                      <a:pt x="516" y="1172"/>
                    </a:lnTo>
                    <a:lnTo>
                      <a:pt x="460" y="1159"/>
                    </a:lnTo>
                    <a:lnTo>
                      <a:pt x="356" y="1144"/>
                    </a:lnTo>
                    <a:lnTo>
                      <a:pt x="230" y="1172"/>
                    </a:lnTo>
                    <a:lnTo>
                      <a:pt x="146" y="1221"/>
                    </a:lnTo>
                    <a:lnTo>
                      <a:pt x="104" y="1250"/>
                    </a:lnTo>
                    <a:lnTo>
                      <a:pt x="62" y="1250"/>
                    </a:lnTo>
                    <a:lnTo>
                      <a:pt x="0" y="1159"/>
                    </a:lnTo>
                    <a:lnTo>
                      <a:pt x="7" y="1144"/>
                    </a:lnTo>
                    <a:lnTo>
                      <a:pt x="133" y="1103"/>
                    </a:lnTo>
                    <a:lnTo>
                      <a:pt x="279" y="1082"/>
                    </a:lnTo>
                    <a:lnTo>
                      <a:pt x="384" y="1075"/>
                    </a:lnTo>
                    <a:lnTo>
                      <a:pt x="446" y="1075"/>
                    </a:lnTo>
                    <a:lnTo>
                      <a:pt x="460" y="1033"/>
                    </a:lnTo>
                    <a:lnTo>
                      <a:pt x="440" y="915"/>
                    </a:lnTo>
                    <a:lnTo>
                      <a:pt x="391" y="789"/>
                    </a:lnTo>
                    <a:lnTo>
                      <a:pt x="314" y="628"/>
                    </a:lnTo>
                    <a:lnTo>
                      <a:pt x="251" y="488"/>
                    </a:lnTo>
                    <a:lnTo>
                      <a:pt x="223" y="363"/>
                    </a:lnTo>
                    <a:lnTo>
                      <a:pt x="216" y="224"/>
                    </a:lnTo>
                    <a:lnTo>
                      <a:pt x="216" y="91"/>
                    </a:lnTo>
                    <a:lnTo>
                      <a:pt x="245" y="36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91320" y="4373640"/>
                <a:ext cx="707760" cy="1649160"/>
              </a:xfrm>
              <a:custGeom>
                <a:avLst/>
                <a:gdLst/>
                <a:ahLst/>
                <a:rect l="l" t="t" r="r" b="b"/>
                <a:pathLst>
                  <a:path w="446" h="1039">
                    <a:moveTo>
                      <a:pt x="335" y="0"/>
                    </a:moveTo>
                    <a:lnTo>
                      <a:pt x="397" y="0"/>
                    </a:lnTo>
                    <a:lnTo>
                      <a:pt x="418" y="42"/>
                    </a:lnTo>
                    <a:lnTo>
                      <a:pt x="432" y="133"/>
                    </a:lnTo>
                    <a:lnTo>
                      <a:pt x="418" y="230"/>
                    </a:lnTo>
                    <a:lnTo>
                      <a:pt x="384" y="425"/>
                    </a:lnTo>
                    <a:lnTo>
                      <a:pt x="390" y="509"/>
                    </a:lnTo>
                    <a:lnTo>
                      <a:pt x="432" y="676"/>
                    </a:lnTo>
                    <a:lnTo>
                      <a:pt x="446" y="795"/>
                    </a:lnTo>
                    <a:lnTo>
                      <a:pt x="446" y="886"/>
                    </a:lnTo>
                    <a:lnTo>
                      <a:pt x="426" y="906"/>
                    </a:lnTo>
                    <a:lnTo>
                      <a:pt x="362" y="920"/>
                    </a:lnTo>
                    <a:lnTo>
                      <a:pt x="278" y="941"/>
                    </a:lnTo>
                    <a:lnTo>
                      <a:pt x="196" y="983"/>
                    </a:lnTo>
                    <a:lnTo>
                      <a:pt x="112" y="1039"/>
                    </a:lnTo>
                    <a:lnTo>
                      <a:pt x="77" y="1039"/>
                    </a:lnTo>
                    <a:lnTo>
                      <a:pt x="0" y="977"/>
                    </a:lnTo>
                    <a:lnTo>
                      <a:pt x="8" y="948"/>
                    </a:lnTo>
                    <a:lnTo>
                      <a:pt x="105" y="906"/>
                    </a:lnTo>
                    <a:lnTo>
                      <a:pt x="272" y="864"/>
                    </a:lnTo>
                    <a:lnTo>
                      <a:pt x="349" y="837"/>
                    </a:lnTo>
                    <a:lnTo>
                      <a:pt x="362" y="809"/>
                    </a:lnTo>
                    <a:lnTo>
                      <a:pt x="362" y="691"/>
                    </a:lnTo>
                    <a:lnTo>
                      <a:pt x="335" y="537"/>
                    </a:lnTo>
                    <a:lnTo>
                      <a:pt x="320" y="439"/>
                    </a:lnTo>
                    <a:lnTo>
                      <a:pt x="307" y="286"/>
                    </a:lnTo>
                    <a:lnTo>
                      <a:pt x="300" y="118"/>
                    </a:lnTo>
                    <a:lnTo>
                      <a:pt x="307" y="42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69000" y="1944720"/>
                <a:ext cx="1162080" cy="1469880"/>
              </a:xfrm>
              <a:custGeom>
                <a:avLst/>
                <a:gdLst/>
                <a:ahLst/>
                <a:rect l="l" t="t" r="r" b="b"/>
                <a:pathLst>
                  <a:path w="732" h="926">
                    <a:moveTo>
                      <a:pt x="389" y="926"/>
                    </a:moveTo>
                    <a:lnTo>
                      <a:pt x="424" y="884"/>
                    </a:lnTo>
                    <a:lnTo>
                      <a:pt x="411" y="822"/>
                    </a:lnTo>
                    <a:lnTo>
                      <a:pt x="383" y="738"/>
                    </a:lnTo>
                    <a:lnTo>
                      <a:pt x="278" y="640"/>
                    </a:lnTo>
                    <a:lnTo>
                      <a:pt x="174" y="550"/>
                    </a:lnTo>
                    <a:lnTo>
                      <a:pt x="125" y="452"/>
                    </a:lnTo>
                    <a:lnTo>
                      <a:pt x="104" y="299"/>
                    </a:lnTo>
                    <a:lnTo>
                      <a:pt x="223" y="257"/>
                    </a:lnTo>
                    <a:lnTo>
                      <a:pt x="411" y="237"/>
                    </a:lnTo>
                    <a:lnTo>
                      <a:pt x="488" y="244"/>
                    </a:lnTo>
                    <a:lnTo>
                      <a:pt x="508" y="264"/>
                    </a:lnTo>
                    <a:lnTo>
                      <a:pt x="543" y="230"/>
                    </a:lnTo>
                    <a:lnTo>
                      <a:pt x="530" y="195"/>
                    </a:lnTo>
                    <a:lnTo>
                      <a:pt x="550" y="133"/>
                    </a:lnTo>
                    <a:lnTo>
                      <a:pt x="606" y="76"/>
                    </a:lnTo>
                    <a:lnTo>
                      <a:pt x="648" y="62"/>
                    </a:lnTo>
                    <a:lnTo>
                      <a:pt x="703" y="97"/>
                    </a:lnTo>
                    <a:lnTo>
                      <a:pt x="732" y="62"/>
                    </a:lnTo>
                    <a:lnTo>
                      <a:pt x="683" y="0"/>
                    </a:lnTo>
                    <a:lnTo>
                      <a:pt x="619" y="0"/>
                    </a:lnTo>
                    <a:lnTo>
                      <a:pt x="543" y="34"/>
                    </a:lnTo>
                    <a:lnTo>
                      <a:pt x="495" y="125"/>
                    </a:lnTo>
                    <a:lnTo>
                      <a:pt x="431" y="167"/>
                    </a:lnTo>
                    <a:lnTo>
                      <a:pt x="334" y="180"/>
                    </a:lnTo>
                    <a:lnTo>
                      <a:pt x="159" y="202"/>
                    </a:lnTo>
                    <a:lnTo>
                      <a:pt x="20" y="244"/>
                    </a:lnTo>
                    <a:lnTo>
                      <a:pt x="0" y="279"/>
                    </a:lnTo>
                    <a:lnTo>
                      <a:pt x="13" y="390"/>
                    </a:lnTo>
                    <a:lnTo>
                      <a:pt x="62" y="543"/>
                    </a:lnTo>
                    <a:lnTo>
                      <a:pt x="132" y="669"/>
                    </a:lnTo>
                    <a:lnTo>
                      <a:pt x="201" y="780"/>
                    </a:lnTo>
                    <a:lnTo>
                      <a:pt x="265" y="857"/>
                    </a:lnTo>
                    <a:lnTo>
                      <a:pt x="327" y="912"/>
                    </a:lnTo>
                    <a:lnTo>
                      <a:pt x="389" y="92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307280" y="1600200"/>
              <a:ext cx="399960" cy="501480"/>
              <a:chOff x="7307280" y="1600200"/>
              <a:chExt cx="399960" cy="501480"/>
            </a:xfrm>
          </p:grpSpPr>
          <p:sp>
            <p:nvSpPr>
              <p:cNvPr id="520" name=""/>
              <p:cNvSpPr/>
              <p:nvPr/>
            </p:nvSpPr>
            <p:spPr>
              <a:xfrm>
                <a:off x="7385040" y="1600200"/>
                <a:ext cx="322200" cy="365040"/>
              </a:xfrm>
              <a:custGeom>
                <a:avLst/>
                <a:gdLst/>
                <a:ahLst/>
                <a:rect l="l" t="t" r="r" b="b"/>
                <a:pathLst>
                  <a:path w="203" h="230">
                    <a:moveTo>
                      <a:pt x="63" y="14"/>
                    </a:moveTo>
                    <a:lnTo>
                      <a:pt x="119" y="0"/>
                    </a:lnTo>
                    <a:lnTo>
                      <a:pt x="188" y="20"/>
                    </a:lnTo>
                    <a:lnTo>
                      <a:pt x="203" y="69"/>
                    </a:lnTo>
                    <a:lnTo>
                      <a:pt x="196" y="133"/>
                    </a:lnTo>
                    <a:lnTo>
                      <a:pt x="161" y="174"/>
                    </a:lnTo>
                    <a:lnTo>
                      <a:pt x="112" y="181"/>
                    </a:lnTo>
                    <a:lnTo>
                      <a:pt x="63" y="181"/>
                    </a:lnTo>
                    <a:lnTo>
                      <a:pt x="41" y="202"/>
                    </a:lnTo>
                    <a:lnTo>
                      <a:pt x="41" y="216"/>
                    </a:lnTo>
                    <a:lnTo>
                      <a:pt x="28" y="230"/>
                    </a:lnTo>
                    <a:lnTo>
                      <a:pt x="0" y="223"/>
                    </a:lnTo>
                    <a:lnTo>
                      <a:pt x="6" y="188"/>
                    </a:lnTo>
                    <a:lnTo>
                      <a:pt x="28" y="160"/>
                    </a:lnTo>
                    <a:lnTo>
                      <a:pt x="70" y="139"/>
                    </a:lnTo>
                    <a:lnTo>
                      <a:pt x="112" y="146"/>
                    </a:lnTo>
                    <a:lnTo>
                      <a:pt x="146" y="139"/>
                    </a:lnTo>
                    <a:lnTo>
                      <a:pt x="167" y="104"/>
                    </a:lnTo>
                    <a:lnTo>
                      <a:pt x="167" y="62"/>
                    </a:lnTo>
                    <a:lnTo>
                      <a:pt x="146" y="42"/>
                    </a:lnTo>
                    <a:lnTo>
                      <a:pt x="119" y="42"/>
                    </a:lnTo>
                    <a:lnTo>
                      <a:pt x="90" y="49"/>
                    </a:lnTo>
                    <a:lnTo>
                      <a:pt x="70" y="62"/>
                    </a:lnTo>
                    <a:lnTo>
                      <a:pt x="48" y="49"/>
                    </a:lnTo>
                    <a:lnTo>
                      <a:pt x="63" y="1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07280" y="2011320"/>
                <a:ext cx="93600" cy="9036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2" name=""/>
          <p:cNvSpPr txBox="1"/>
          <p:nvPr/>
        </p:nvSpPr>
        <p:spPr>
          <a:xfrm>
            <a:off x="1066680" y="1828800"/>
            <a:ext cx="6934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scoun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blem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4495680" y="2120760"/>
            <a:ext cx="4038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$69.99 boots are on sale for $39.  What is the percent of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33920" cy="39736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495680" y="2120760"/>
            <a:ext cx="4038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69.99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oots are on sale for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39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 What is the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ercent of discou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527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655360" y="2057400"/>
            <a:ext cx="5702400" cy="3505320"/>
            <a:chOff x="2655360" y="2057400"/>
            <a:chExt cx="5702400" cy="3505320"/>
          </a:xfrm>
        </p:grpSpPr>
        <p:sp>
          <p:nvSpPr>
            <p:cNvPr id="533" name=""/>
            <p:cNvSpPr/>
            <p:nvPr/>
          </p:nvSpPr>
          <p:spPr>
            <a:xfrm>
              <a:off x="3923280" y="2071800"/>
              <a:ext cx="593280" cy="3490920"/>
            </a:xfrm>
            <a:custGeom>
              <a:avLst/>
              <a:gdLst>
                <a:gd name="textAreaLeft" fmla="*/ 379080 w 593280"/>
                <a:gd name="textAreaRight" fmla="*/ 593280 w 593280"/>
                <a:gd name="textAreaTop" fmla="*/ 90720 h 3490920"/>
                <a:gd name="textAreaBottom" fmla="*/ 3400200 h 34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655360" y="2057400"/>
              <a:ext cx="5702400" cy="3490920"/>
              <a:chOff x="2655360" y="2057400"/>
              <a:chExt cx="5702400" cy="34909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516920" y="2057400"/>
                <a:ext cx="3840840" cy="3490920"/>
                <a:chOff x="4516920" y="2057400"/>
                <a:chExt cx="3840840" cy="34909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516920" y="2071800"/>
                  <a:ext cx="1648800" cy="347652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Dis-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counted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pric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516920" y="2071800"/>
                  <a:ext cx="1648800" cy="57924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discou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165720" y="2071800"/>
                  <a:ext cx="791280" cy="566640"/>
                </a:xfrm>
                <a:custGeom>
                  <a:avLst/>
                  <a:gdLst>
                    <a:gd name="textAreaLeft" fmla="*/ 0 w 791280"/>
                    <a:gd name="textAreaRight" fmla="*/ 285840 w 791280"/>
                    <a:gd name="textAreaTop" fmla="*/ 14760 h 566640"/>
                    <a:gd name="textAreaBottom" fmla="*/ 551880 h 56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165720" y="2651040"/>
                  <a:ext cx="791280" cy="2897280"/>
                </a:xfrm>
                <a:custGeom>
                  <a:avLst/>
                  <a:gdLst>
                    <a:gd name="textAreaLeft" fmla="*/ 0 w 791280"/>
                    <a:gd name="textAreaRight" fmla="*/ 285840 w 791280"/>
                    <a:gd name="textAreaTop" fmla="*/ 75240 h 2897280"/>
                    <a:gd name="textAreaBottom" fmla="*/ 2822040 h 28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51600" y="2057400"/>
                  <a:ext cx="140616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% dec.?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7006680" y="3871800"/>
                  <a:ext cx="78876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$3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655360" y="4648320"/>
                <a:ext cx="128880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69.9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69960" y="1797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69.99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3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discounte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6840" y="579132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percent of discount (decre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42424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percent of increase and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953720" y="2117880"/>
            <a:ext cx="52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discou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69.9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$39.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15760" y="2787480"/>
            <a:ext cx="36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discount = $30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14360" y="5683320"/>
            <a:ext cx="64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rate = 0.443 = 44.3% disc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79880" y="3581280"/>
            <a:ext cx="59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unt = rate x marked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6680" y="143208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unt= marked price - sale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9720" y="4327560"/>
            <a:ext cx="43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$30.99 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e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69.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286000" y="4906800"/>
            <a:ext cx="4611600" cy="581400"/>
            <a:chOff x="2286000" y="4906800"/>
            <a:chExt cx="4611600" cy="581400"/>
          </a:xfrm>
        </p:grpSpPr>
        <p:sp>
          <p:nvSpPr>
            <p:cNvPr id="553" name=""/>
            <p:cNvSpPr/>
            <p:nvPr/>
          </p:nvSpPr>
          <p:spPr>
            <a:xfrm>
              <a:off x="2337120" y="4906800"/>
              <a:ext cx="145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$69.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89920" y="4906800"/>
              <a:ext cx="145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$69.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86000" y="4906800"/>
              <a:ext cx="15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8800" y="4906800"/>
              <a:ext cx="15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42680" y="129528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55920" y="3276720"/>
            <a:ext cx="47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4.3% of $69.99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14720" y="4343400"/>
            <a:ext cx="644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0.443 x  $69.99 =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30.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169400" y="560700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2760" y="2254320"/>
            <a:ext cx="81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44.3% of $69.99 = the discou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7848360" cy="48258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505800" y="1305000"/>
            <a:ext cx="3172320" cy="1199880"/>
            <a:chOff x="505800" y="1305000"/>
            <a:chExt cx="3172320" cy="1199880"/>
          </a:xfrm>
        </p:grpSpPr>
        <p:sp>
          <p:nvSpPr>
            <p:cNvPr id="567" name=""/>
            <p:cNvSpPr/>
            <p:nvPr/>
          </p:nvSpPr>
          <p:spPr>
            <a:xfrm rot="20897400">
              <a:off x="536400" y="159984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897400">
              <a:off x="533520" y="16380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9654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092680" y="1752480"/>
            <a:ext cx="40744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is the tru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55360" y="2057400"/>
            <a:ext cx="5172840" cy="3505320"/>
            <a:chOff x="2655360" y="2057400"/>
            <a:chExt cx="5172840" cy="3505320"/>
          </a:xfrm>
        </p:grpSpPr>
        <p:sp>
          <p:nvSpPr>
            <p:cNvPr id="575" name=""/>
            <p:cNvSpPr/>
            <p:nvPr/>
          </p:nvSpPr>
          <p:spPr>
            <a:xfrm>
              <a:off x="3923640" y="2071800"/>
              <a:ext cx="593640" cy="349092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90720 h 3490920"/>
                <a:gd name="textAreaBottom" fmla="*/ 3400200 h 34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655360" y="2057400"/>
              <a:ext cx="5172840" cy="3490920"/>
              <a:chOff x="2655360" y="2057400"/>
              <a:chExt cx="5172840" cy="349092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4517280" y="2057400"/>
                <a:ext cx="3310920" cy="3490920"/>
                <a:chOff x="4517280" y="2057400"/>
                <a:chExt cx="3310920" cy="34909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517280" y="2071800"/>
                  <a:ext cx="1648800" cy="347652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Dis-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counted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pric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517280" y="2071800"/>
                  <a:ext cx="1648800" cy="57924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discount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166080" y="2071800"/>
                  <a:ext cx="791280" cy="566640"/>
                </a:xfrm>
                <a:custGeom>
                  <a:avLst/>
                  <a:gdLst>
                    <a:gd name="textAreaLeft" fmla="*/ 0 w 791280"/>
                    <a:gd name="textAreaRight" fmla="*/ 285840 w 791280"/>
                    <a:gd name="textAreaTop" fmla="*/ 14760 h 566640"/>
                    <a:gd name="textAreaBottom" fmla="*/ 551880 h 56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166080" y="2651040"/>
                  <a:ext cx="791280" cy="2897280"/>
                </a:xfrm>
                <a:custGeom>
                  <a:avLst/>
                  <a:gdLst>
                    <a:gd name="textAreaLeft" fmla="*/ 0 w 791280"/>
                    <a:gd name="textAreaRight" fmla="*/ 285840 w 791280"/>
                    <a:gd name="textAreaTop" fmla="*/ 75240 h 2897280"/>
                    <a:gd name="textAreaBottom" fmla="*/ 2822040 h 28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946560" y="2057400"/>
                  <a:ext cx="88164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73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8120" y="3871800"/>
                  <a:ext cx="53748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$?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2655360" y="4648320"/>
                <a:ext cx="128880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59.9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"/>
          <p:cNvSpPr/>
          <p:nvPr/>
        </p:nvSpPr>
        <p:spPr>
          <a:xfrm>
            <a:off x="669960" y="17971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59.99 ma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16.00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73%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8000" y="5791320"/>
            <a:ext cx="46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Sale (discounted)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372680" y="2057400"/>
            <a:ext cx="529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59.9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200" spc="-1" strike="noStrike">
                <a:solidFill>
                  <a:srgbClr val="cc66ff"/>
                </a:solidFill>
                <a:latin typeface="Comic Sans MS"/>
              </a:rPr>
              <a:t>$16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66040" y="3886200"/>
            <a:ext cx="6125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rate x marked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57680" y="1447920"/>
            <a:ext cx="70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rked pri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sale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80160" y="4525920"/>
            <a:ext cx="6555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73%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59.99 =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$43.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50360" y="2849400"/>
            <a:ext cx="677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339966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 = $43.99  (marked – sa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310120" y="5410080"/>
            <a:ext cx="414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Comic Sans MS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un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9654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2092680" y="1752480"/>
            <a:ext cx="4074480" cy="70344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is the tru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5711760"/>
            <a:ext cx="37339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tty muc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805280" y="1986120"/>
            <a:ext cx="3757680" cy="4471920"/>
            <a:chOff x="4805280" y="1986120"/>
            <a:chExt cx="3757680" cy="4471920"/>
          </a:xfrm>
        </p:grpSpPr>
        <p:sp>
          <p:nvSpPr>
            <p:cNvPr id="600" name=""/>
            <p:cNvSpPr/>
            <p:nvPr/>
          </p:nvSpPr>
          <p:spPr>
            <a:xfrm>
              <a:off x="7201080" y="1986120"/>
              <a:ext cx="912600" cy="853920"/>
            </a:xfrm>
            <a:custGeom>
              <a:avLst/>
              <a:gdLst/>
              <a:ahLst/>
              <a:rect l="l" t="t" r="r" b="b"/>
              <a:pathLst>
                <a:path w="575" h="538">
                  <a:moveTo>
                    <a:pt x="523" y="465"/>
                  </a:moveTo>
                  <a:lnTo>
                    <a:pt x="538" y="414"/>
                  </a:lnTo>
                  <a:lnTo>
                    <a:pt x="548" y="362"/>
                  </a:lnTo>
                  <a:lnTo>
                    <a:pt x="548" y="347"/>
                  </a:lnTo>
                  <a:lnTo>
                    <a:pt x="544" y="292"/>
                  </a:lnTo>
                  <a:lnTo>
                    <a:pt x="529" y="240"/>
                  </a:lnTo>
                  <a:lnTo>
                    <a:pt x="505" y="189"/>
                  </a:lnTo>
                  <a:lnTo>
                    <a:pt x="475" y="146"/>
                  </a:lnTo>
                  <a:lnTo>
                    <a:pt x="438" y="110"/>
                  </a:lnTo>
                  <a:lnTo>
                    <a:pt x="429" y="97"/>
                  </a:lnTo>
                  <a:lnTo>
                    <a:pt x="411" y="88"/>
                  </a:lnTo>
                  <a:lnTo>
                    <a:pt x="392" y="73"/>
                  </a:lnTo>
                  <a:lnTo>
                    <a:pt x="371" y="64"/>
                  </a:lnTo>
                  <a:lnTo>
                    <a:pt x="350" y="52"/>
                  </a:lnTo>
                  <a:lnTo>
                    <a:pt x="328" y="49"/>
                  </a:lnTo>
                  <a:lnTo>
                    <a:pt x="310" y="43"/>
                  </a:lnTo>
                  <a:lnTo>
                    <a:pt x="289" y="37"/>
                  </a:lnTo>
                  <a:lnTo>
                    <a:pt x="268" y="34"/>
                  </a:lnTo>
                  <a:lnTo>
                    <a:pt x="219" y="34"/>
                  </a:lnTo>
                  <a:lnTo>
                    <a:pt x="192" y="37"/>
                  </a:lnTo>
                  <a:lnTo>
                    <a:pt x="186" y="37"/>
                  </a:lnTo>
                  <a:lnTo>
                    <a:pt x="161" y="43"/>
                  </a:lnTo>
                  <a:lnTo>
                    <a:pt x="149" y="46"/>
                  </a:lnTo>
                  <a:lnTo>
                    <a:pt x="134" y="49"/>
                  </a:lnTo>
                  <a:lnTo>
                    <a:pt x="103" y="64"/>
                  </a:lnTo>
                  <a:lnTo>
                    <a:pt x="79" y="76"/>
                  </a:lnTo>
                  <a:lnTo>
                    <a:pt x="39" y="103"/>
                  </a:lnTo>
                  <a:lnTo>
                    <a:pt x="0" y="140"/>
                  </a:lnTo>
                  <a:lnTo>
                    <a:pt x="24" y="113"/>
                  </a:lnTo>
                  <a:lnTo>
                    <a:pt x="67" y="73"/>
                  </a:lnTo>
                  <a:lnTo>
                    <a:pt x="91" y="52"/>
                  </a:lnTo>
                  <a:lnTo>
                    <a:pt x="119" y="37"/>
                  </a:lnTo>
                  <a:lnTo>
                    <a:pt x="146" y="21"/>
                  </a:lnTo>
                  <a:lnTo>
                    <a:pt x="170" y="15"/>
                  </a:lnTo>
                  <a:lnTo>
                    <a:pt x="198" y="6"/>
                  </a:lnTo>
                  <a:lnTo>
                    <a:pt x="225" y="3"/>
                  </a:lnTo>
                  <a:lnTo>
                    <a:pt x="252" y="0"/>
                  </a:lnTo>
                  <a:lnTo>
                    <a:pt x="277" y="3"/>
                  </a:lnTo>
                  <a:lnTo>
                    <a:pt x="301" y="3"/>
                  </a:lnTo>
                  <a:lnTo>
                    <a:pt x="322" y="6"/>
                  </a:lnTo>
                  <a:lnTo>
                    <a:pt x="341" y="12"/>
                  </a:lnTo>
                  <a:lnTo>
                    <a:pt x="359" y="15"/>
                  </a:lnTo>
                  <a:lnTo>
                    <a:pt x="380" y="24"/>
                  </a:lnTo>
                  <a:lnTo>
                    <a:pt x="402" y="34"/>
                  </a:lnTo>
                  <a:lnTo>
                    <a:pt x="423" y="46"/>
                  </a:lnTo>
                  <a:lnTo>
                    <a:pt x="438" y="58"/>
                  </a:lnTo>
                  <a:lnTo>
                    <a:pt x="459" y="70"/>
                  </a:lnTo>
                  <a:lnTo>
                    <a:pt x="499" y="110"/>
                  </a:lnTo>
                  <a:lnTo>
                    <a:pt x="529" y="152"/>
                  </a:lnTo>
                  <a:lnTo>
                    <a:pt x="554" y="201"/>
                  </a:lnTo>
                  <a:lnTo>
                    <a:pt x="569" y="253"/>
                  </a:lnTo>
                  <a:lnTo>
                    <a:pt x="575" y="304"/>
                  </a:lnTo>
                  <a:lnTo>
                    <a:pt x="569" y="362"/>
                  </a:lnTo>
                  <a:lnTo>
                    <a:pt x="560" y="414"/>
                  </a:lnTo>
                  <a:lnTo>
                    <a:pt x="535" y="462"/>
                  </a:lnTo>
                  <a:lnTo>
                    <a:pt x="529" y="478"/>
                  </a:lnTo>
                  <a:lnTo>
                    <a:pt x="508" y="508"/>
                  </a:lnTo>
                  <a:lnTo>
                    <a:pt x="484" y="538"/>
                  </a:lnTo>
                  <a:lnTo>
                    <a:pt x="493" y="523"/>
                  </a:lnTo>
                  <a:lnTo>
                    <a:pt x="523" y="465"/>
                  </a:lnTo>
                  <a:close/>
                </a:path>
              </a:pathLst>
            </a:custGeom>
            <a:solidFill>
              <a:srgbClr val="ff2400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0120" y="2039760"/>
              <a:ext cx="990720" cy="993960"/>
            </a:xfrm>
            <a:custGeom>
              <a:avLst/>
              <a:gdLst/>
              <a:ahLst/>
              <a:rect l="l" t="t" r="r" b="b"/>
              <a:pathLst>
                <a:path w="624" h="626">
                  <a:moveTo>
                    <a:pt x="620" y="258"/>
                  </a:moveTo>
                  <a:lnTo>
                    <a:pt x="605" y="206"/>
                  </a:lnTo>
                  <a:lnTo>
                    <a:pt x="581" y="155"/>
                  </a:lnTo>
                  <a:lnTo>
                    <a:pt x="551" y="112"/>
                  </a:lnTo>
                  <a:lnTo>
                    <a:pt x="514" y="76"/>
                  </a:lnTo>
                  <a:lnTo>
                    <a:pt x="505" y="63"/>
                  </a:lnTo>
                  <a:lnTo>
                    <a:pt x="487" y="54"/>
                  </a:lnTo>
                  <a:lnTo>
                    <a:pt x="468" y="39"/>
                  </a:lnTo>
                  <a:lnTo>
                    <a:pt x="447" y="30"/>
                  </a:lnTo>
                  <a:lnTo>
                    <a:pt x="426" y="18"/>
                  </a:lnTo>
                  <a:lnTo>
                    <a:pt x="404" y="15"/>
                  </a:lnTo>
                  <a:lnTo>
                    <a:pt x="386" y="9"/>
                  </a:lnTo>
                  <a:lnTo>
                    <a:pt x="365" y="3"/>
                  </a:lnTo>
                  <a:lnTo>
                    <a:pt x="344" y="0"/>
                  </a:lnTo>
                  <a:lnTo>
                    <a:pt x="295" y="0"/>
                  </a:lnTo>
                  <a:lnTo>
                    <a:pt x="268" y="3"/>
                  </a:lnTo>
                  <a:lnTo>
                    <a:pt x="262" y="3"/>
                  </a:lnTo>
                  <a:lnTo>
                    <a:pt x="237" y="9"/>
                  </a:lnTo>
                  <a:lnTo>
                    <a:pt x="225" y="12"/>
                  </a:lnTo>
                  <a:lnTo>
                    <a:pt x="210" y="15"/>
                  </a:lnTo>
                  <a:lnTo>
                    <a:pt x="179" y="30"/>
                  </a:lnTo>
                  <a:lnTo>
                    <a:pt x="155" y="42"/>
                  </a:lnTo>
                  <a:lnTo>
                    <a:pt x="115" y="69"/>
                  </a:lnTo>
                  <a:lnTo>
                    <a:pt x="76" y="106"/>
                  </a:lnTo>
                  <a:lnTo>
                    <a:pt x="46" y="152"/>
                  </a:lnTo>
                  <a:lnTo>
                    <a:pt x="21" y="200"/>
                  </a:lnTo>
                  <a:lnTo>
                    <a:pt x="9" y="237"/>
                  </a:lnTo>
                  <a:lnTo>
                    <a:pt x="6" y="252"/>
                  </a:lnTo>
                  <a:lnTo>
                    <a:pt x="0" y="304"/>
                  </a:lnTo>
                  <a:lnTo>
                    <a:pt x="3" y="358"/>
                  </a:lnTo>
                  <a:lnTo>
                    <a:pt x="15" y="413"/>
                  </a:lnTo>
                  <a:lnTo>
                    <a:pt x="39" y="462"/>
                  </a:lnTo>
                  <a:lnTo>
                    <a:pt x="70" y="507"/>
                  </a:lnTo>
                  <a:lnTo>
                    <a:pt x="122" y="559"/>
                  </a:lnTo>
                  <a:lnTo>
                    <a:pt x="149" y="581"/>
                  </a:lnTo>
                  <a:lnTo>
                    <a:pt x="195" y="605"/>
                  </a:lnTo>
                  <a:lnTo>
                    <a:pt x="246" y="620"/>
                  </a:lnTo>
                  <a:lnTo>
                    <a:pt x="301" y="626"/>
                  </a:lnTo>
                  <a:lnTo>
                    <a:pt x="356" y="623"/>
                  </a:lnTo>
                  <a:lnTo>
                    <a:pt x="368" y="620"/>
                  </a:lnTo>
                  <a:lnTo>
                    <a:pt x="408" y="611"/>
                  </a:lnTo>
                  <a:lnTo>
                    <a:pt x="459" y="590"/>
                  </a:lnTo>
                  <a:lnTo>
                    <a:pt x="502" y="559"/>
                  </a:lnTo>
                  <a:lnTo>
                    <a:pt x="541" y="523"/>
                  </a:lnTo>
                  <a:lnTo>
                    <a:pt x="560" y="504"/>
                  </a:lnTo>
                  <a:lnTo>
                    <a:pt x="569" y="489"/>
                  </a:lnTo>
                  <a:lnTo>
                    <a:pt x="599" y="431"/>
                  </a:lnTo>
                  <a:lnTo>
                    <a:pt x="614" y="380"/>
                  </a:lnTo>
                  <a:lnTo>
                    <a:pt x="624" y="328"/>
                  </a:lnTo>
                  <a:lnTo>
                    <a:pt x="624" y="313"/>
                  </a:lnTo>
                  <a:lnTo>
                    <a:pt x="620" y="258"/>
                  </a:lnTo>
                  <a:close/>
                </a:path>
              </a:pathLst>
            </a:custGeom>
            <a:solidFill>
              <a:srgbClr val="ffc080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64400" y="2744640"/>
              <a:ext cx="743040" cy="293760"/>
            </a:xfrm>
            <a:custGeom>
              <a:avLst/>
              <a:gdLst/>
              <a:ahLst/>
              <a:rect l="l" t="t" r="r" b="b"/>
              <a:pathLst>
                <a:path w="468" h="185">
                  <a:moveTo>
                    <a:pt x="237" y="0"/>
                  </a:moveTo>
                  <a:lnTo>
                    <a:pt x="465" y="76"/>
                  </a:lnTo>
                  <a:lnTo>
                    <a:pt x="468" y="94"/>
                  </a:lnTo>
                  <a:lnTo>
                    <a:pt x="465" y="115"/>
                  </a:lnTo>
                  <a:lnTo>
                    <a:pt x="459" y="127"/>
                  </a:lnTo>
                  <a:lnTo>
                    <a:pt x="444" y="140"/>
                  </a:lnTo>
                  <a:lnTo>
                    <a:pt x="408" y="155"/>
                  </a:lnTo>
                  <a:lnTo>
                    <a:pt x="344" y="170"/>
                  </a:lnTo>
                  <a:lnTo>
                    <a:pt x="283" y="179"/>
                  </a:lnTo>
                  <a:lnTo>
                    <a:pt x="219" y="185"/>
                  </a:lnTo>
                  <a:lnTo>
                    <a:pt x="155" y="185"/>
                  </a:lnTo>
                  <a:lnTo>
                    <a:pt x="82" y="182"/>
                  </a:lnTo>
                  <a:lnTo>
                    <a:pt x="30" y="179"/>
                  </a:lnTo>
                  <a:lnTo>
                    <a:pt x="0" y="176"/>
                  </a:lnTo>
                  <a:lnTo>
                    <a:pt x="40" y="167"/>
                  </a:lnTo>
                  <a:lnTo>
                    <a:pt x="91" y="146"/>
                  </a:lnTo>
                  <a:lnTo>
                    <a:pt x="134" y="115"/>
                  </a:lnTo>
                  <a:lnTo>
                    <a:pt x="173" y="79"/>
                  </a:lnTo>
                  <a:lnTo>
                    <a:pt x="192" y="60"/>
                  </a:lnTo>
                  <a:lnTo>
                    <a:pt x="216" y="3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77080" y="2773440"/>
              <a:ext cx="396720" cy="15408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250" y="97"/>
                  </a:moveTo>
                  <a:lnTo>
                    <a:pt x="198" y="45"/>
                  </a:lnTo>
                  <a:lnTo>
                    <a:pt x="67" y="0"/>
                  </a:lnTo>
                  <a:lnTo>
                    <a:pt x="0" y="64"/>
                  </a:lnTo>
                  <a:lnTo>
                    <a:pt x="31" y="76"/>
                  </a:lnTo>
                  <a:lnTo>
                    <a:pt x="73" y="33"/>
                  </a:lnTo>
                  <a:lnTo>
                    <a:pt x="250" y="97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58200" y="3024360"/>
              <a:ext cx="323640" cy="106200"/>
            </a:xfrm>
            <a:custGeom>
              <a:avLst/>
              <a:gdLst/>
              <a:ahLst/>
              <a:rect l="l" t="t" r="r" b="b"/>
              <a:pathLst>
                <a:path w="204" h="67">
                  <a:moveTo>
                    <a:pt x="55" y="3"/>
                  </a:moveTo>
                  <a:lnTo>
                    <a:pt x="0" y="6"/>
                  </a:lnTo>
                  <a:lnTo>
                    <a:pt x="177" y="67"/>
                  </a:lnTo>
                  <a:lnTo>
                    <a:pt x="204" y="40"/>
                  </a:lnTo>
                  <a:lnTo>
                    <a:pt x="67" y="0"/>
                  </a:lnTo>
                  <a:lnTo>
                    <a:pt x="55" y="3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26400" y="2825640"/>
              <a:ext cx="912600" cy="357120"/>
            </a:xfrm>
            <a:custGeom>
              <a:avLst/>
              <a:gdLst/>
              <a:ahLst/>
              <a:rect l="l" t="t" r="r" b="b"/>
              <a:pathLst>
                <a:path w="575" h="225">
                  <a:moveTo>
                    <a:pt x="398" y="131"/>
                  </a:moveTo>
                  <a:lnTo>
                    <a:pt x="343" y="125"/>
                  </a:lnTo>
                  <a:lnTo>
                    <a:pt x="292" y="110"/>
                  </a:lnTo>
                  <a:lnTo>
                    <a:pt x="246" y="86"/>
                  </a:lnTo>
                  <a:lnTo>
                    <a:pt x="219" y="64"/>
                  </a:lnTo>
                  <a:lnTo>
                    <a:pt x="42" y="0"/>
                  </a:lnTo>
                  <a:lnTo>
                    <a:pt x="0" y="43"/>
                  </a:lnTo>
                  <a:lnTo>
                    <a:pt x="541" y="225"/>
                  </a:lnTo>
                  <a:lnTo>
                    <a:pt x="575" y="192"/>
                  </a:lnTo>
                  <a:lnTo>
                    <a:pt x="398" y="131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3680" y="2401920"/>
              <a:ext cx="3670200" cy="1206360"/>
            </a:xfrm>
            <a:custGeom>
              <a:avLst/>
              <a:gdLst/>
              <a:ahLst/>
              <a:rect l="l" t="t" r="r" b="b"/>
              <a:pathLst>
                <a:path w="2312" h="760">
                  <a:moveTo>
                    <a:pt x="0" y="760"/>
                  </a:moveTo>
                  <a:lnTo>
                    <a:pt x="924" y="450"/>
                  </a:lnTo>
                  <a:lnTo>
                    <a:pt x="1852" y="760"/>
                  </a:lnTo>
                  <a:lnTo>
                    <a:pt x="2312" y="316"/>
                  </a:lnTo>
                  <a:lnTo>
                    <a:pt x="2223" y="292"/>
                  </a:lnTo>
                  <a:lnTo>
                    <a:pt x="2226" y="310"/>
                  </a:lnTo>
                  <a:lnTo>
                    <a:pt x="2223" y="331"/>
                  </a:lnTo>
                  <a:lnTo>
                    <a:pt x="2217" y="343"/>
                  </a:lnTo>
                  <a:lnTo>
                    <a:pt x="2202" y="356"/>
                  </a:lnTo>
                  <a:lnTo>
                    <a:pt x="2166" y="371"/>
                  </a:lnTo>
                  <a:lnTo>
                    <a:pt x="2102" y="386"/>
                  </a:lnTo>
                  <a:lnTo>
                    <a:pt x="2041" y="395"/>
                  </a:lnTo>
                  <a:lnTo>
                    <a:pt x="1977" y="401"/>
                  </a:lnTo>
                  <a:lnTo>
                    <a:pt x="1913" y="401"/>
                  </a:lnTo>
                  <a:lnTo>
                    <a:pt x="1840" y="398"/>
                  </a:lnTo>
                  <a:lnTo>
                    <a:pt x="1788" y="395"/>
                  </a:lnTo>
                  <a:lnTo>
                    <a:pt x="1758" y="392"/>
                  </a:lnTo>
                  <a:lnTo>
                    <a:pt x="1895" y="432"/>
                  </a:lnTo>
                  <a:lnTo>
                    <a:pt x="1834" y="492"/>
                  </a:lnTo>
                  <a:lnTo>
                    <a:pt x="1293" y="310"/>
                  </a:lnTo>
                  <a:lnTo>
                    <a:pt x="1262" y="298"/>
                  </a:lnTo>
                  <a:lnTo>
                    <a:pt x="1329" y="234"/>
                  </a:lnTo>
                  <a:lnTo>
                    <a:pt x="1460" y="279"/>
                  </a:lnTo>
                  <a:lnTo>
                    <a:pt x="1429" y="234"/>
                  </a:lnTo>
                  <a:lnTo>
                    <a:pt x="1405" y="185"/>
                  </a:lnTo>
                  <a:lnTo>
                    <a:pt x="1393" y="130"/>
                  </a:lnTo>
                  <a:lnTo>
                    <a:pt x="1390" y="76"/>
                  </a:lnTo>
                  <a:lnTo>
                    <a:pt x="1396" y="24"/>
                  </a:lnTo>
                  <a:lnTo>
                    <a:pt x="1399" y="9"/>
                  </a:lnTo>
                  <a:lnTo>
                    <a:pt x="1372" y="0"/>
                  </a:lnTo>
                  <a:lnTo>
                    <a:pt x="441" y="319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99400" y="2903400"/>
              <a:ext cx="744480" cy="797040"/>
            </a:xfrm>
            <a:custGeom>
              <a:avLst/>
              <a:gdLst/>
              <a:ahLst/>
              <a:rect l="l" t="t" r="r" b="b"/>
              <a:pathLst>
                <a:path w="469" h="502">
                  <a:moveTo>
                    <a:pt x="469" y="0"/>
                  </a:moveTo>
                  <a:lnTo>
                    <a:pt x="469" y="40"/>
                  </a:lnTo>
                  <a:lnTo>
                    <a:pt x="399" y="106"/>
                  </a:lnTo>
                  <a:lnTo>
                    <a:pt x="0" y="502"/>
                  </a:lnTo>
                  <a:lnTo>
                    <a:pt x="0" y="468"/>
                  </a:lnTo>
                  <a:lnTo>
                    <a:pt x="9" y="444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73680" y="3116160"/>
              <a:ext cx="2940120" cy="530280"/>
            </a:xfrm>
            <a:custGeom>
              <a:avLst/>
              <a:gdLst/>
              <a:ahLst/>
              <a:rect l="l" t="t" r="r" b="b"/>
              <a:pathLst>
                <a:path w="1852" h="334">
                  <a:moveTo>
                    <a:pt x="1843" y="334"/>
                  </a:moveTo>
                  <a:lnTo>
                    <a:pt x="1852" y="310"/>
                  </a:lnTo>
                  <a:lnTo>
                    <a:pt x="924" y="0"/>
                  </a:lnTo>
                  <a:lnTo>
                    <a:pt x="0" y="310"/>
                  </a:lnTo>
                  <a:lnTo>
                    <a:pt x="6" y="334"/>
                  </a:lnTo>
                  <a:lnTo>
                    <a:pt x="203" y="334"/>
                  </a:lnTo>
                  <a:lnTo>
                    <a:pt x="924" y="103"/>
                  </a:lnTo>
                  <a:lnTo>
                    <a:pt x="1594" y="334"/>
                  </a:lnTo>
                  <a:lnTo>
                    <a:pt x="1843" y="3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95880" y="3279600"/>
              <a:ext cx="2208240" cy="366840"/>
            </a:xfrm>
            <a:custGeom>
              <a:avLst/>
              <a:gdLst/>
              <a:ahLst/>
              <a:rect l="l" t="t" r="r" b="b"/>
              <a:pathLst>
                <a:path w="1391" h="231">
                  <a:moveTo>
                    <a:pt x="0" y="231"/>
                  </a:moveTo>
                  <a:lnTo>
                    <a:pt x="721" y="0"/>
                  </a:lnTo>
                  <a:lnTo>
                    <a:pt x="1391" y="231"/>
                  </a:lnTo>
                  <a:lnTo>
                    <a:pt x="1248" y="231"/>
                  </a:lnTo>
                  <a:lnTo>
                    <a:pt x="721" y="46"/>
                  </a:lnTo>
                  <a:lnTo>
                    <a:pt x="159" y="231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48240" y="3352680"/>
              <a:ext cx="1728720" cy="293760"/>
            </a:xfrm>
            <a:custGeom>
              <a:avLst/>
              <a:gdLst/>
              <a:ahLst/>
              <a:rect l="l" t="t" r="r" b="b"/>
              <a:pathLst>
                <a:path w="1089" h="185">
                  <a:moveTo>
                    <a:pt x="1089" y="185"/>
                  </a:moveTo>
                  <a:lnTo>
                    <a:pt x="562" y="0"/>
                  </a:lnTo>
                  <a:lnTo>
                    <a:pt x="0" y="185"/>
                  </a:lnTo>
                  <a:lnTo>
                    <a:pt x="1089" y="18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83040" y="3646440"/>
              <a:ext cx="2916360" cy="54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59360" y="3700440"/>
              <a:ext cx="2757600" cy="77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16960" y="3700440"/>
              <a:ext cx="82440" cy="7776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52" y="0"/>
                  </a:moveTo>
                  <a:lnTo>
                    <a:pt x="0" y="0"/>
                  </a:lnTo>
                  <a:lnTo>
                    <a:pt x="0" y="4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08680" y="3778200"/>
              <a:ext cx="2646360" cy="274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86520" y="3956040"/>
              <a:ext cx="2579400" cy="1844640"/>
            </a:xfrm>
            <a:custGeom>
              <a:avLst/>
              <a:gdLst/>
              <a:ahLst/>
              <a:rect l="l" t="t" r="r" b="b"/>
              <a:pathLst>
                <a:path w="1625" h="1162">
                  <a:moveTo>
                    <a:pt x="61" y="61"/>
                  </a:moveTo>
                  <a:lnTo>
                    <a:pt x="25" y="85"/>
                  </a:lnTo>
                  <a:lnTo>
                    <a:pt x="22" y="85"/>
                  </a:lnTo>
                  <a:lnTo>
                    <a:pt x="22" y="91"/>
                  </a:lnTo>
                  <a:lnTo>
                    <a:pt x="19" y="94"/>
                  </a:lnTo>
                  <a:lnTo>
                    <a:pt x="9" y="101"/>
                  </a:lnTo>
                  <a:lnTo>
                    <a:pt x="0" y="10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2" y="155"/>
                  </a:lnTo>
                  <a:lnTo>
                    <a:pt x="25" y="161"/>
                  </a:lnTo>
                  <a:lnTo>
                    <a:pt x="25" y="192"/>
                  </a:lnTo>
                  <a:lnTo>
                    <a:pt x="22" y="195"/>
                  </a:lnTo>
                  <a:lnTo>
                    <a:pt x="9" y="201"/>
                  </a:lnTo>
                  <a:lnTo>
                    <a:pt x="0" y="204"/>
                  </a:lnTo>
                  <a:lnTo>
                    <a:pt x="13" y="961"/>
                  </a:lnTo>
                  <a:lnTo>
                    <a:pt x="79" y="961"/>
                  </a:lnTo>
                  <a:lnTo>
                    <a:pt x="79" y="1065"/>
                  </a:lnTo>
                  <a:lnTo>
                    <a:pt x="101" y="1101"/>
                  </a:lnTo>
                  <a:lnTo>
                    <a:pt x="101" y="1138"/>
                  </a:lnTo>
                  <a:lnTo>
                    <a:pt x="149" y="1138"/>
                  </a:lnTo>
                  <a:lnTo>
                    <a:pt x="156" y="1141"/>
                  </a:lnTo>
                  <a:lnTo>
                    <a:pt x="168" y="1150"/>
                  </a:lnTo>
                  <a:lnTo>
                    <a:pt x="186" y="1156"/>
                  </a:lnTo>
                  <a:lnTo>
                    <a:pt x="207" y="1159"/>
                  </a:lnTo>
                  <a:lnTo>
                    <a:pt x="229" y="1162"/>
                  </a:lnTo>
                  <a:lnTo>
                    <a:pt x="247" y="1162"/>
                  </a:lnTo>
                  <a:lnTo>
                    <a:pt x="268" y="1159"/>
                  </a:lnTo>
                  <a:lnTo>
                    <a:pt x="286" y="1156"/>
                  </a:lnTo>
                  <a:lnTo>
                    <a:pt x="308" y="1150"/>
                  </a:lnTo>
                  <a:lnTo>
                    <a:pt x="320" y="1144"/>
                  </a:lnTo>
                  <a:lnTo>
                    <a:pt x="329" y="1138"/>
                  </a:lnTo>
                  <a:lnTo>
                    <a:pt x="438" y="1138"/>
                  </a:lnTo>
                  <a:lnTo>
                    <a:pt x="445" y="1141"/>
                  </a:lnTo>
                  <a:lnTo>
                    <a:pt x="457" y="1150"/>
                  </a:lnTo>
                  <a:lnTo>
                    <a:pt x="475" y="1156"/>
                  </a:lnTo>
                  <a:lnTo>
                    <a:pt x="496" y="1159"/>
                  </a:lnTo>
                  <a:lnTo>
                    <a:pt x="514" y="1162"/>
                  </a:lnTo>
                  <a:lnTo>
                    <a:pt x="536" y="1162"/>
                  </a:lnTo>
                  <a:lnTo>
                    <a:pt x="554" y="1159"/>
                  </a:lnTo>
                  <a:lnTo>
                    <a:pt x="575" y="1156"/>
                  </a:lnTo>
                  <a:lnTo>
                    <a:pt x="597" y="1150"/>
                  </a:lnTo>
                  <a:lnTo>
                    <a:pt x="606" y="1144"/>
                  </a:lnTo>
                  <a:lnTo>
                    <a:pt x="618" y="1138"/>
                  </a:lnTo>
                  <a:lnTo>
                    <a:pt x="813" y="1138"/>
                  </a:lnTo>
                  <a:lnTo>
                    <a:pt x="819" y="1141"/>
                  </a:lnTo>
                  <a:lnTo>
                    <a:pt x="834" y="1150"/>
                  </a:lnTo>
                  <a:lnTo>
                    <a:pt x="852" y="1156"/>
                  </a:lnTo>
                  <a:lnTo>
                    <a:pt x="873" y="1159"/>
                  </a:lnTo>
                  <a:lnTo>
                    <a:pt x="892" y="1162"/>
                  </a:lnTo>
                  <a:lnTo>
                    <a:pt x="913" y="1162"/>
                  </a:lnTo>
                  <a:lnTo>
                    <a:pt x="931" y="1159"/>
                  </a:lnTo>
                  <a:lnTo>
                    <a:pt x="953" y="1156"/>
                  </a:lnTo>
                  <a:lnTo>
                    <a:pt x="971" y="1150"/>
                  </a:lnTo>
                  <a:lnTo>
                    <a:pt x="986" y="1144"/>
                  </a:lnTo>
                  <a:lnTo>
                    <a:pt x="995" y="1138"/>
                  </a:lnTo>
                  <a:lnTo>
                    <a:pt x="1108" y="1138"/>
                  </a:lnTo>
                  <a:lnTo>
                    <a:pt x="1111" y="1141"/>
                  </a:lnTo>
                  <a:lnTo>
                    <a:pt x="1126" y="1150"/>
                  </a:lnTo>
                  <a:lnTo>
                    <a:pt x="1144" y="1156"/>
                  </a:lnTo>
                  <a:lnTo>
                    <a:pt x="1166" y="1159"/>
                  </a:lnTo>
                  <a:lnTo>
                    <a:pt x="1187" y="1162"/>
                  </a:lnTo>
                  <a:lnTo>
                    <a:pt x="1205" y="1162"/>
                  </a:lnTo>
                  <a:lnTo>
                    <a:pt x="1223" y="1159"/>
                  </a:lnTo>
                  <a:lnTo>
                    <a:pt x="1245" y="1156"/>
                  </a:lnTo>
                  <a:lnTo>
                    <a:pt x="1266" y="1150"/>
                  </a:lnTo>
                  <a:lnTo>
                    <a:pt x="1278" y="1144"/>
                  </a:lnTo>
                  <a:lnTo>
                    <a:pt x="1287" y="1138"/>
                  </a:lnTo>
                  <a:lnTo>
                    <a:pt x="1418" y="1138"/>
                  </a:lnTo>
                  <a:lnTo>
                    <a:pt x="1418" y="1025"/>
                  </a:lnTo>
                  <a:lnTo>
                    <a:pt x="1403" y="1025"/>
                  </a:lnTo>
                  <a:lnTo>
                    <a:pt x="1394" y="998"/>
                  </a:lnTo>
                  <a:lnTo>
                    <a:pt x="1570" y="998"/>
                  </a:lnTo>
                  <a:lnTo>
                    <a:pt x="1625" y="952"/>
                  </a:lnTo>
                  <a:lnTo>
                    <a:pt x="1625" y="0"/>
                  </a:lnTo>
                  <a:lnTo>
                    <a:pt x="1601" y="21"/>
                  </a:lnTo>
                  <a:lnTo>
                    <a:pt x="1555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99440" y="3071880"/>
              <a:ext cx="1163520" cy="3386160"/>
            </a:xfrm>
            <a:custGeom>
              <a:avLst/>
              <a:gdLst/>
              <a:ahLst/>
              <a:rect l="l" t="t" r="r" b="b"/>
              <a:pathLst>
                <a:path w="733" h="2133">
                  <a:moveTo>
                    <a:pt x="231" y="1509"/>
                  </a:moveTo>
                  <a:lnTo>
                    <a:pt x="231" y="557"/>
                  </a:lnTo>
                  <a:lnTo>
                    <a:pt x="207" y="578"/>
                  </a:lnTo>
                  <a:lnTo>
                    <a:pt x="161" y="618"/>
                  </a:lnTo>
                  <a:lnTo>
                    <a:pt x="161" y="445"/>
                  </a:lnTo>
                  <a:lnTo>
                    <a:pt x="200" y="445"/>
                  </a:lnTo>
                  <a:lnTo>
                    <a:pt x="252" y="396"/>
                  </a:lnTo>
                  <a:lnTo>
                    <a:pt x="651" y="0"/>
                  </a:lnTo>
                  <a:lnTo>
                    <a:pt x="651" y="1308"/>
                  </a:lnTo>
                  <a:lnTo>
                    <a:pt x="712" y="1308"/>
                  </a:lnTo>
                  <a:lnTo>
                    <a:pt x="651" y="1375"/>
                  </a:lnTo>
                  <a:lnTo>
                    <a:pt x="651" y="1616"/>
                  </a:lnTo>
                  <a:lnTo>
                    <a:pt x="733" y="1686"/>
                  </a:lnTo>
                  <a:lnTo>
                    <a:pt x="277" y="2133"/>
                  </a:lnTo>
                  <a:lnTo>
                    <a:pt x="194" y="2054"/>
                  </a:lnTo>
                  <a:lnTo>
                    <a:pt x="194" y="1786"/>
                  </a:lnTo>
                  <a:lnTo>
                    <a:pt x="216" y="1786"/>
                  </a:lnTo>
                  <a:lnTo>
                    <a:pt x="252" y="1743"/>
                  </a:lnTo>
                  <a:lnTo>
                    <a:pt x="176" y="1743"/>
                  </a:lnTo>
                  <a:lnTo>
                    <a:pt x="231" y="1686"/>
                  </a:lnTo>
                  <a:lnTo>
                    <a:pt x="231" y="1531"/>
                  </a:lnTo>
                  <a:lnTo>
                    <a:pt x="176" y="1582"/>
                  </a:lnTo>
                  <a:lnTo>
                    <a:pt x="9" y="1582"/>
                  </a:lnTo>
                  <a:lnTo>
                    <a:pt x="0" y="1555"/>
                  </a:lnTo>
                  <a:lnTo>
                    <a:pt x="176" y="1555"/>
                  </a:lnTo>
                  <a:lnTo>
                    <a:pt x="231" y="1509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64040" y="4052880"/>
              <a:ext cx="262080" cy="3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5200" y="4091040"/>
              <a:ext cx="24624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18" y="19"/>
                  </a:lnTo>
                  <a:lnTo>
                    <a:pt x="33" y="22"/>
                  </a:lnTo>
                  <a:lnTo>
                    <a:pt x="73" y="25"/>
                  </a:lnTo>
                  <a:lnTo>
                    <a:pt x="112" y="22"/>
                  </a:lnTo>
                  <a:lnTo>
                    <a:pt x="133" y="19"/>
                  </a:lnTo>
                  <a:lnTo>
                    <a:pt x="142" y="16"/>
                  </a:lnTo>
                  <a:lnTo>
                    <a:pt x="152" y="9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64040" y="4121280"/>
              <a:ext cx="262080" cy="115920"/>
            </a:xfrm>
            <a:custGeom>
              <a:avLst/>
              <a:gdLst/>
              <a:ahLst/>
              <a:rect l="l" t="t" r="r" b="b"/>
              <a:pathLst>
                <a:path w="165" h="73">
                  <a:moveTo>
                    <a:pt x="140" y="0"/>
                  </a:moveTo>
                  <a:lnTo>
                    <a:pt x="119" y="3"/>
                  </a:lnTo>
                  <a:lnTo>
                    <a:pt x="80" y="6"/>
                  </a:lnTo>
                  <a:lnTo>
                    <a:pt x="40" y="3"/>
                  </a:lnTo>
                  <a:lnTo>
                    <a:pt x="25" y="0"/>
                  </a:lnTo>
                  <a:lnTo>
                    <a:pt x="25" y="48"/>
                  </a:lnTo>
                  <a:lnTo>
                    <a:pt x="13" y="48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3" y="60"/>
                  </a:lnTo>
                  <a:lnTo>
                    <a:pt x="19" y="66"/>
                  </a:lnTo>
                  <a:lnTo>
                    <a:pt x="43" y="70"/>
                  </a:lnTo>
                  <a:lnTo>
                    <a:pt x="83" y="73"/>
                  </a:lnTo>
                  <a:lnTo>
                    <a:pt x="122" y="70"/>
                  </a:lnTo>
                  <a:lnTo>
                    <a:pt x="146" y="66"/>
                  </a:lnTo>
                  <a:lnTo>
                    <a:pt x="162" y="60"/>
                  </a:lnTo>
                  <a:lnTo>
                    <a:pt x="165" y="57"/>
                  </a:lnTo>
                  <a:lnTo>
                    <a:pt x="162" y="51"/>
                  </a:lnTo>
                  <a:lnTo>
                    <a:pt x="153" y="48"/>
                  </a:lnTo>
                  <a:lnTo>
                    <a:pt x="140" y="4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64040" y="4211640"/>
              <a:ext cx="262080" cy="73080"/>
            </a:xfrm>
            <a:custGeom>
              <a:avLst/>
              <a:gdLst/>
              <a:ahLst/>
              <a:rect l="l" t="t" r="r" b="b"/>
              <a:pathLst>
                <a:path w="165" h="46">
                  <a:moveTo>
                    <a:pt x="162" y="34"/>
                  </a:moveTo>
                  <a:lnTo>
                    <a:pt x="149" y="40"/>
                  </a:lnTo>
                  <a:lnTo>
                    <a:pt x="140" y="43"/>
                  </a:lnTo>
                  <a:lnTo>
                    <a:pt x="113" y="46"/>
                  </a:lnTo>
                  <a:lnTo>
                    <a:pt x="43" y="46"/>
                  </a:lnTo>
                  <a:lnTo>
                    <a:pt x="25" y="40"/>
                  </a:lnTo>
                  <a:lnTo>
                    <a:pt x="19" y="40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9" y="9"/>
                  </a:lnTo>
                  <a:lnTo>
                    <a:pt x="43" y="13"/>
                  </a:lnTo>
                  <a:lnTo>
                    <a:pt x="83" y="16"/>
                  </a:lnTo>
                  <a:lnTo>
                    <a:pt x="122" y="13"/>
                  </a:lnTo>
                  <a:lnTo>
                    <a:pt x="146" y="9"/>
                  </a:lnTo>
                  <a:lnTo>
                    <a:pt x="162" y="3"/>
                  </a:lnTo>
                  <a:lnTo>
                    <a:pt x="165" y="0"/>
                  </a:lnTo>
                  <a:lnTo>
                    <a:pt x="165" y="31"/>
                  </a:lnTo>
                  <a:lnTo>
                    <a:pt x="162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84920" y="4275000"/>
              <a:ext cx="222120" cy="1236960"/>
            </a:xfrm>
            <a:custGeom>
              <a:avLst/>
              <a:gdLst/>
              <a:ahLst/>
              <a:rect l="l" t="t" r="r" b="b"/>
              <a:pathLst>
                <a:path w="140" h="779">
                  <a:moveTo>
                    <a:pt x="140" y="760"/>
                  </a:moveTo>
                  <a:lnTo>
                    <a:pt x="127" y="3"/>
                  </a:lnTo>
                  <a:lnTo>
                    <a:pt x="100" y="6"/>
                  </a:lnTo>
                  <a:lnTo>
                    <a:pt x="30" y="6"/>
                  </a:lnTo>
                  <a:lnTo>
                    <a:pt x="12" y="0"/>
                  </a:lnTo>
                  <a:lnTo>
                    <a:pt x="0" y="745"/>
                  </a:lnTo>
                  <a:lnTo>
                    <a:pt x="0" y="766"/>
                  </a:lnTo>
                  <a:lnTo>
                    <a:pt x="27" y="776"/>
                  </a:lnTo>
                  <a:lnTo>
                    <a:pt x="67" y="779"/>
                  </a:lnTo>
                  <a:lnTo>
                    <a:pt x="106" y="779"/>
                  </a:lnTo>
                  <a:lnTo>
                    <a:pt x="140" y="766"/>
                  </a:lnTo>
                  <a:lnTo>
                    <a:pt x="140" y="76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99160" y="405288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0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33840" y="4052880"/>
              <a:ext cx="265320" cy="3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48240" y="4091040"/>
              <a:ext cx="241200" cy="39600"/>
            </a:xfrm>
            <a:custGeom>
              <a:avLst/>
              <a:gdLst/>
              <a:ahLst/>
              <a:rect l="l" t="t" r="r" b="b"/>
              <a:pathLst>
                <a:path w="152" h="25">
                  <a:moveTo>
                    <a:pt x="0" y="0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8" y="19"/>
                  </a:lnTo>
                  <a:lnTo>
                    <a:pt x="33" y="22"/>
                  </a:lnTo>
                  <a:lnTo>
                    <a:pt x="73" y="25"/>
                  </a:lnTo>
                  <a:lnTo>
                    <a:pt x="112" y="22"/>
                  </a:lnTo>
                  <a:lnTo>
                    <a:pt x="130" y="19"/>
                  </a:lnTo>
                  <a:lnTo>
                    <a:pt x="143" y="16"/>
                  </a:lnTo>
                  <a:lnTo>
                    <a:pt x="152" y="6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33840" y="4121280"/>
              <a:ext cx="265320" cy="115920"/>
            </a:xfrm>
            <a:custGeom>
              <a:avLst/>
              <a:gdLst/>
              <a:ahLst/>
              <a:rect l="l" t="t" r="r" b="b"/>
              <a:pathLst>
                <a:path w="167" h="73">
                  <a:moveTo>
                    <a:pt x="139" y="0"/>
                  </a:moveTo>
                  <a:lnTo>
                    <a:pt x="121" y="3"/>
                  </a:lnTo>
                  <a:lnTo>
                    <a:pt x="82" y="6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27" y="48"/>
                  </a:lnTo>
                  <a:lnTo>
                    <a:pt x="15" y="48"/>
                  </a:lnTo>
                  <a:lnTo>
                    <a:pt x="6" y="51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21" y="66"/>
                  </a:lnTo>
                  <a:lnTo>
                    <a:pt x="45" y="70"/>
                  </a:lnTo>
                  <a:lnTo>
                    <a:pt x="82" y="73"/>
                  </a:lnTo>
                  <a:lnTo>
                    <a:pt x="121" y="70"/>
                  </a:lnTo>
                  <a:lnTo>
                    <a:pt x="146" y="66"/>
                  </a:lnTo>
                  <a:lnTo>
                    <a:pt x="161" y="60"/>
                  </a:lnTo>
                  <a:lnTo>
                    <a:pt x="167" y="57"/>
                  </a:lnTo>
                  <a:lnTo>
                    <a:pt x="161" y="51"/>
                  </a:lnTo>
                  <a:lnTo>
                    <a:pt x="152" y="48"/>
                  </a:lnTo>
                  <a:lnTo>
                    <a:pt x="139" y="48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33840" y="4211640"/>
              <a:ext cx="265320" cy="730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161" y="34"/>
                  </a:moveTo>
                  <a:lnTo>
                    <a:pt x="149" y="40"/>
                  </a:lnTo>
                  <a:lnTo>
                    <a:pt x="139" y="43"/>
                  </a:lnTo>
                  <a:lnTo>
                    <a:pt x="112" y="46"/>
                  </a:lnTo>
                  <a:lnTo>
                    <a:pt x="45" y="46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6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21" y="9"/>
                  </a:lnTo>
                  <a:lnTo>
                    <a:pt x="45" y="13"/>
                  </a:lnTo>
                  <a:lnTo>
                    <a:pt x="82" y="16"/>
                  </a:lnTo>
                  <a:lnTo>
                    <a:pt x="121" y="13"/>
                  </a:lnTo>
                  <a:lnTo>
                    <a:pt x="146" y="9"/>
                  </a:lnTo>
                  <a:lnTo>
                    <a:pt x="161" y="3"/>
                  </a:lnTo>
                  <a:lnTo>
                    <a:pt x="167" y="0"/>
                  </a:lnTo>
                  <a:lnTo>
                    <a:pt x="167" y="31"/>
                  </a:lnTo>
                  <a:lnTo>
                    <a:pt x="161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23040" y="4275000"/>
              <a:ext cx="285480" cy="1478160"/>
            </a:xfrm>
            <a:custGeom>
              <a:avLst/>
              <a:gdLst/>
              <a:ahLst/>
              <a:rect l="l" t="t" r="r" b="b"/>
              <a:pathLst>
                <a:path w="180" h="931">
                  <a:moveTo>
                    <a:pt x="180" y="909"/>
                  </a:moveTo>
                  <a:lnTo>
                    <a:pt x="174" y="912"/>
                  </a:lnTo>
                  <a:lnTo>
                    <a:pt x="159" y="919"/>
                  </a:lnTo>
                  <a:lnTo>
                    <a:pt x="137" y="925"/>
                  </a:lnTo>
                  <a:lnTo>
                    <a:pt x="119" y="928"/>
                  </a:lnTo>
                  <a:lnTo>
                    <a:pt x="98" y="931"/>
                  </a:lnTo>
                  <a:lnTo>
                    <a:pt x="80" y="931"/>
                  </a:lnTo>
                  <a:lnTo>
                    <a:pt x="58" y="928"/>
                  </a:lnTo>
                  <a:lnTo>
                    <a:pt x="37" y="925"/>
                  </a:lnTo>
                  <a:lnTo>
                    <a:pt x="19" y="919"/>
                  </a:lnTo>
                  <a:lnTo>
                    <a:pt x="7" y="912"/>
                  </a:lnTo>
                  <a:lnTo>
                    <a:pt x="0" y="906"/>
                  </a:lnTo>
                  <a:lnTo>
                    <a:pt x="3" y="903"/>
                  </a:lnTo>
                  <a:lnTo>
                    <a:pt x="13" y="900"/>
                  </a:lnTo>
                  <a:lnTo>
                    <a:pt x="22" y="894"/>
                  </a:lnTo>
                  <a:lnTo>
                    <a:pt x="34" y="0"/>
                  </a:lnTo>
                  <a:lnTo>
                    <a:pt x="52" y="6"/>
                  </a:lnTo>
                  <a:lnTo>
                    <a:pt x="119" y="6"/>
                  </a:lnTo>
                  <a:lnTo>
                    <a:pt x="146" y="3"/>
                  </a:lnTo>
                  <a:lnTo>
                    <a:pt x="159" y="897"/>
                  </a:lnTo>
                  <a:lnTo>
                    <a:pt x="168" y="900"/>
                  </a:lnTo>
                  <a:lnTo>
                    <a:pt x="177" y="903"/>
                  </a:lnTo>
                  <a:lnTo>
                    <a:pt x="180" y="90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23040" y="5713560"/>
              <a:ext cx="285480" cy="87120"/>
            </a:xfrm>
            <a:custGeom>
              <a:avLst/>
              <a:gdLst/>
              <a:ahLst/>
              <a:rect l="l" t="t" r="r" b="b"/>
              <a:pathLst>
                <a:path w="180" h="55">
                  <a:moveTo>
                    <a:pt x="0" y="0"/>
                  </a:moveTo>
                  <a:lnTo>
                    <a:pt x="7" y="6"/>
                  </a:lnTo>
                  <a:lnTo>
                    <a:pt x="19" y="13"/>
                  </a:lnTo>
                  <a:lnTo>
                    <a:pt x="37" y="19"/>
                  </a:lnTo>
                  <a:lnTo>
                    <a:pt x="58" y="22"/>
                  </a:lnTo>
                  <a:lnTo>
                    <a:pt x="80" y="25"/>
                  </a:lnTo>
                  <a:lnTo>
                    <a:pt x="98" y="25"/>
                  </a:lnTo>
                  <a:lnTo>
                    <a:pt x="119" y="22"/>
                  </a:lnTo>
                  <a:lnTo>
                    <a:pt x="137" y="19"/>
                  </a:lnTo>
                  <a:lnTo>
                    <a:pt x="159" y="13"/>
                  </a:lnTo>
                  <a:lnTo>
                    <a:pt x="174" y="6"/>
                  </a:lnTo>
                  <a:lnTo>
                    <a:pt x="180" y="3"/>
                  </a:lnTo>
                  <a:lnTo>
                    <a:pt x="180" y="31"/>
                  </a:lnTo>
                  <a:lnTo>
                    <a:pt x="171" y="37"/>
                  </a:lnTo>
                  <a:lnTo>
                    <a:pt x="159" y="43"/>
                  </a:lnTo>
                  <a:lnTo>
                    <a:pt x="137" y="49"/>
                  </a:lnTo>
                  <a:lnTo>
                    <a:pt x="119" y="52"/>
                  </a:lnTo>
                  <a:lnTo>
                    <a:pt x="98" y="55"/>
                  </a:lnTo>
                  <a:lnTo>
                    <a:pt x="80" y="55"/>
                  </a:lnTo>
                  <a:lnTo>
                    <a:pt x="58" y="52"/>
                  </a:lnTo>
                  <a:lnTo>
                    <a:pt x="37" y="49"/>
                  </a:lnTo>
                  <a:lnTo>
                    <a:pt x="19" y="43"/>
                  </a:lnTo>
                  <a:lnTo>
                    <a:pt x="7" y="34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57800" y="405288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0"/>
                  </a:moveTo>
                  <a:lnTo>
                    <a:pt x="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2840" y="4052880"/>
              <a:ext cx="264960" cy="3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07240" y="4091040"/>
              <a:ext cx="241200" cy="39600"/>
            </a:xfrm>
            <a:custGeom>
              <a:avLst/>
              <a:gdLst/>
              <a:ahLst/>
              <a:rect l="l" t="t" r="r" b="b"/>
              <a:pathLst>
                <a:path w="152" h="25">
                  <a:moveTo>
                    <a:pt x="0" y="0"/>
                  </a:moveTo>
                  <a:lnTo>
                    <a:pt x="0" y="12"/>
                  </a:lnTo>
                  <a:lnTo>
                    <a:pt x="6" y="16"/>
                  </a:lnTo>
                  <a:lnTo>
                    <a:pt x="18" y="19"/>
                  </a:lnTo>
                  <a:lnTo>
                    <a:pt x="33" y="22"/>
                  </a:lnTo>
                  <a:lnTo>
                    <a:pt x="73" y="25"/>
                  </a:lnTo>
                  <a:lnTo>
                    <a:pt x="112" y="22"/>
                  </a:lnTo>
                  <a:lnTo>
                    <a:pt x="130" y="19"/>
                  </a:lnTo>
                  <a:lnTo>
                    <a:pt x="143" y="16"/>
                  </a:lnTo>
                  <a:lnTo>
                    <a:pt x="152" y="6"/>
                  </a:lnTo>
                  <a:lnTo>
                    <a:pt x="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92840" y="4121280"/>
              <a:ext cx="264960" cy="115920"/>
            </a:xfrm>
            <a:custGeom>
              <a:avLst/>
              <a:gdLst/>
              <a:ahLst/>
              <a:rect l="l" t="t" r="r" b="b"/>
              <a:pathLst>
                <a:path w="167" h="73">
                  <a:moveTo>
                    <a:pt x="139" y="0"/>
                  </a:moveTo>
                  <a:lnTo>
                    <a:pt x="121" y="3"/>
                  </a:lnTo>
                  <a:lnTo>
                    <a:pt x="82" y="6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27" y="48"/>
                  </a:lnTo>
                  <a:lnTo>
                    <a:pt x="15" y="48"/>
                  </a:lnTo>
                  <a:lnTo>
                    <a:pt x="6" y="51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21" y="66"/>
                  </a:lnTo>
                  <a:lnTo>
                    <a:pt x="45" y="70"/>
                  </a:lnTo>
                  <a:lnTo>
                    <a:pt x="82" y="73"/>
                  </a:lnTo>
                  <a:lnTo>
                    <a:pt x="121" y="70"/>
                  </a:lnTo>
                  <a:lnTo>
                    <a:pt x="146" y="66"/>
                  </a:lnTo>
                  <a:lnTo>
                    <a:pt x="161" y="60"/>
                  </a:lnTo>
                  <a:lnTo>
                    <a:pt x="167" y="57"/>
                  </a:lnTo>
                  <a:lnTo>
                    <a:pt x="161" y="51"/>
                  </a:lnTo>
                  <a:lnTo>
                    <a:pt x="152" y="48"/>
                  </a:lnTo>
                  <a:lnTo>
                    <a:pt x="139" y="48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92840" y="4211640"/>
              <a:ext cx="264960" cy="73080"/>
            </a:xfrm>
            <a:custGeom>
              <a:avLst/>
              <a:gdLst/>
              <a:ahLst/>
              <a:rect l="l" t="t" r="r" b="b"/>
              <a:pathLst>
                <a:path w="167" h="46">
                  <a:moveTo>
                    <a:pt x="161" y="34"/>
                  </a:moveTo>
                  <a:lnTo>
                    <a:pt x="149" y="40"/>
                  </a:lnTo>
                  <a:lnTo>
                    <a:pt x="139" y="43"/>
                  </a:lnTo>
                  <a:lnTo>
                    <a:pt x="112" y="46"/>
                  </a:lnTo>
                  <a:lnTo>
                    <a:pt x="45" y="46"/>
                  </a:lnTo>
                  <a:lnTo>
                    <a:pt x="27" y="40"/>
                  </a:lnTo>
                  <a:lnTo>
                    <a:pt x="21" y="40"/>
                  </a:lnTo>
                  <a:lnTo>
                    <a:pt x="6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" y="3"/>
                  </a:lnTo>
                  <a:lnTo>
                    <a:pt x="6" y="3"/>
                  </a:lnTo>
                  <a:lnTo>
                    <a:pt x="21" y="9"/>
                  </a:lnTo>
                  <a:lnTo>
                    <a:pt x="45" y="13"/>
                  </a:lnTo>
                  <a:lnTo>
                    <a:pt x="82" y="16"/>
                  </a:lnTo>
                  <a:lnTo>
                    <a:pt x="121" y="13"/>
                  </a:lnTo>
                  <a:lnTo>
                    <a:pt x="146" y="9"/>
                  </a:lnTo>
                  <a:lnTo>
                    <a:pt x="161" y="3"/>
                  </a:lnTo>
                  <a:lnTo>
                    <a:pt x="167" y="0"/>
                  </a:lnTo>
                  <a:lnTo>
                    <a:pt x="167" y="31"/>
                  </a:lnTo>
                  <a:lnTo>
                    <a:pt x="161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1680" y="4275000"/>
              <a:ext cx="285840" cy="1478160"/>
            </a:xfrm>
            <a:custGeom>
              <a:avLst/>
              <a:gdLst/>
              <a:ahLst/>
              <a:rect l="l" t="t" r="r" b="b"/>
              <a:pathLst>
                <a:path w="180" h="931">
                  <a:moveTo>
                    <a:pt x="180" y="909"/>
                  </a:moveTo>
                  <a:lnTo>
                    <a:pt x="174" y="912"/>
                  </a:lnTo>
                  <a:lnTo>
                    <a:pt x="159" y="919"/>
                  </a:lnTo>
                  <a:lnTo>
                    <a:pt x="137" y="925"/>
                  </a:lnTo>
                  <a:lnTo>
                    <a:pt x="116" y="928"/>
                  </a:lnTo>
                  <a:lnTo>
                    <a:pt x="98" y="931"/>
                  </a:lnTo>
                  <a:lnTo>
                    <a:pt x="76" y="931"/>
                  </a:lnTo>
                  <a:lnTo>
                    <a:pt x="58" y="928"/>
                  </a:lnTo>
                  <a:lnTo>
                    <a:pt x="37" y="925"/>
                  </a:lnTo>
                  <a:lnTo>
                    <a:pt x="19" y="919"/>
                  </a:lnTo>
                  <a:lnTo>
                    <a:pt x="7" y="912"/>
                  </a:lnTo>
                  <a:lnTo>
                    <a:pt x="0" y="906"/>
                  </a:lnTo>
                  <a:lnTo>
                    <a:pt x="3" y="903"/>
                  </a:lnTo>
                  <a:lnTo>
                    <a:pt x="13" y="900"/>
                  </a:lnTo>
                  <a:lnTo>
                    <a:pt x="22" y="894"/>
                  </a:lnTo>
                  <a:lnTo>
                    <a:pt x="34" y="0"/>
                  </a:lnTo>
                  <a:lnTo>
                    <a:pt x="52" y="6"/>
                  </a:lnTo>
                  <a:lnTo>
                    <a:pt x="119" y="6"/>
                  </a:lnTo>
                  <a:lnTo>
                    <a:pt x="146" y="3"/>
                  </a:lnTo>
                  <a:lnTo>
                    <a:pt x="159" y="897"/>
                  </a:lnTo>
                  <a:lnTo>
                    <a:pt x="168" y="900"/>
                  </a:lnTo>
                  <a:lnTo>
                    <a:pt x="177" y="903"/>
                  </a:lnTo>
                  <a:lnTo>
                    <a:pt x="180" y="90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1680" y="5713560"/>
              <a:ext cx="285840" cy="87120"/>
            </a:xfrm>
            <a:custGeom>
              <a:avLst/>
              <a:gdLst/>
              <a:ahLst/>
              <a:rect l="l" t="t" r="r" b="b"/>
              <a:pathLst>
                <a:path w="180" h="55">
                  <a:moveTo>
                    <a:pt x="0" y="0"/>
                  </a:moveTo>
                  <a:lnTo>
                    <a:pt x="7" y="6"/>
                  </a:lnTo>
                  <a:lnTo>
                    <a:pt x="19" y="13"/>
                  </a:lnTo>
                  <a:lnTo>
                    <a:pt x="37" y="19"/>
                  </a:lnTo>
                  <a:lnTo>
                    <a:pt x="58" y="22"/>
                  </a:lnTo>
                  <a:lnTo>
                    <a:pt x="76" y="25"/>
                  </a:lnTo>
                  <a:lnTo>
                    <a:pt x="98" y="25"/>
                  </a:lnTo>
                  <a:lnTo>
                    <a:pt x="116" y="22"/>
                  </a:lnTo>
                  <a:lnTo>
                    <a:pt x="137" y="19"/>
                  </a:lnTo>
                  <a:lnTo>
                    <a:pt x="159" y="13"/>
                  </a:lnTo>
                  <a:lnTo>
                    <a:pt x="174" y="6"/>
                  </a:lnTo>
                  <a:lnTo>
                    <a:pt x="180" y="3"/>
                  </a:lnTo>
                  <a:lnTo>
                    <a:pt x="180" y="31"/>
                  </a:lnTo>
                  <a:lnTo>
                    <a:pt x="168" y="37"/>
                  </a:lnTo>
                  <a:lnTo>
                    <a:pt x="159" y="43"/>
                  </a:lnTo>
                  <a:lnTo>
                    <a:pt x="137" y="49"/>
                  </a:lnTo>
                  <a:lnTo>
                    <a:pt x="116" y="52"/>
                  </a:lnTo>
                  <a:lnTo>
                    <a:pt x="98" y="55"/>
                  </a:lnTo>
                  <a:lnTo>
                    <a:pt x="76" y="55"/>
                  </a:lnTo>
                  <a:lnTo>
                    <a:pt x="58" y="52"/>
                  </a:lnTo>
                  <a:lnTo>
                    <a:pt x="37" y="49"/>
                  </a:lnTo>
                  <a:lnTo>
                    <a:pt x="19" y="43"/>
                  </a:lnTo>
                  <a:lnTo>
                    <a:pt x="7" y="34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751800" y="40528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0"/>
                  </a:moveTo>
                  <a:lnTo>
                    <a:pt x="0" y="24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91160" y="4052880"/>
              <a:ext cx="260640" cy="3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500880" y="4091040"/>
              <a:ext cx="24588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21" y="19"/>
                  </a:lnTo>
                  <a:lnTo>
                    <a:pt x="36" y="22"/>
                  </a:lnTo>
                  <a:lnTo>
                    <a:pt x="76" y="25"/>
                  </a:lnTo>
                  <a:lnTo>
                    <a:pt x="115" y="22"/>
                  </a:lnTo>
                  <a:lnTo>
                    <a:pt x="131" y="19"/>
                  </a:lnTo>
                  <a:lnTo>
                    <a:pt x="146" y="16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91160" y="4121280"/>
              <a:ext cx="260640" cy="115920"/>
            </a:xfrm>
            <a:custGeom>
              <a:avLst/>
              <a:gdLst/>
              <a:ahLst/>
              <a:rect l="l" t="t" r="r" b="b"/>
              <a:pathLst>
                <a:path w="164" h="73">
                  <a:moveTo>
                    <a:pt x="137" y="0"/>
                  </a:moveTo>
                  <a:lnTo>
                    <a:pt x="121" y="3"/>
                  </a:lnTo>
                  <a:lnTo>
                    <a:pt x="82" y="6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27" y="48"/>
                  </a:lnTo>
                  <a:lnTo>
                    <a:pt x="15" y="48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3" y="60"/>
                  </a:lnTo>
                  <a:lnTo>
                    <a:pt x="18" y="66"/>
                  </a:lnTo>
                  <a:lnTo>
                    <a:pt x="45" y="70"/>
                  </a:lnTo>
                  <a:lnTo>
                    <a:pt x="82" y="73"/>
                  </a:lnTo>
                  <a:lnTo>
                    <a:pt x="121" y="70"/>
                  </a:lnTo>
                  <a:lnTo>
                    <a:pt x="149" y="66"/>
                  </a:lnTo>
                  <a:lnTo>
                    <a:pt x="161" y="60"/>
                  </a:lnTo>
                  <a:lnTo>
                    <a:pt x="164" y="57"/>
                  </a:lnTo>
                  <a:lnTo>
                    <a:pt x="161" y="51"/>
                  </a:lnTo>
                  <a:lnTo>
                    <a:pt x="152" y="48"/>
                  </a:lnTo>
                  <a:lnTo>
                    <a:pt x="137" y="48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91160" y="4211640"/>
              <a:ext cx="260640" cy="73080"/>
            </a:xfrm>
            <a:custGeom>
              <a:avLst/>
              <a:gdLst/>
              <a:ahLst/>
              <a:rect l="l" t="t" r="r" b="b"/>
              <a:pathLst>
                <a:path w="164" h="46">
                  <a:moveTo>
                    <a:pt x="161" y="34"/>
                  </a:moveTo>
                  <a:lnTo>
                    <a:pt x="149" y="40"/>
                  </a:lnTo>
                  <a:lnTo>
                    <a:pt x="140" y="43"/>
                  </a:lnTo>
                  <a:lnTo>
                    <a:pt x="112" y="46"/>
                  </a:lnTo>
                  <a:lnTo>
                    <a:pt x="45" y="46"/>
                  </a:lnTo>
                  <a:lnTo>
                    <a:pt x="27" y="40"/>
                  </a:lnTo>
                  <a:lnTo>
                    <a:pt x="18" y="40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8" y="9"/>
                  </a:lnTo>
                  <a:lnTo>
                    <a:pt x="45" y="13"/>
                  </a:lnTo>
                  <a:lnTo>
                    <a:pt x="82" y="16"/>
                  </a:lnTo>
                  <a:lnTo>
                    <a:pt x="121" y="13"/>
                  </a:lnTo>
                  <a:lnTo>
                    <a:pt x="149" y="9"/>
                  </a:lnTo>
                  <a:lnTo>
                    <a:pt x="161" y="3"/>
                  </a:lnTo>
                  <a:lnTo>
                    <a:pt x="164" y="0"/>
                  </a:lnTo>
                  <a:lnTo>
                    <a:pt x="164" y="31"/>
                  </a:lnTo>
                  <a:lnTo>
                    <a:pt x="161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477120" y="4275000"/>
              <a:ext cx="288720" cy="1478160"/>
            </a:xfrm>
            <a:custGeom>
              <a:avLst/>
              <a:gdLst/>
              <a:ahLst/>
              <a:rect l="l" t="t" r="r" b="b"/>
              <a:pathLst>
                <a:path w="182" h="931">
                  <a:moveTo>
                    <a:pt x="182" y="909"/>
                  </a:moveTo>
                  <a:lnTo>
                    <a:pt x="173" y="912"/>
                  </a:lnTo>
                  <a:lnTo>
                    <a:pt x="158" y="919"/>
                  </a:lnTo>
                  <a:lnTo>
                    <a:pt x="140" y="925"/>
                  </a:lnTo>
                  <a:lnTo>
                    <a:pt x="118" y="928"/>
                  </a:lnTo>
                  <a:lnTo>
                    <a:pt x="100" y="931"/>
                  </a:lnTo>
                  <a:lnTo>
                    <a:pt x="79" y="931"/>
                  </a:lnTo>
                  <a:lnTo>
                    <a:pt x="60" y="928"/>
                  </a:lnTo>
                  <a:lnTo>
                    <a:pt x="39" y="925"/>
                  </a:lnTo>
                  <a:lnTo>
                    <a:pt x="21" y="919"/>
                  </a:lnTo>
                  <a:lnTo>
                    <a:pt x="6" y="912"/>
                  </a:lnTo>
                  <a:lnTo>
                    <a:pt x="0" y="906"/>
                  </a:lnTo>
                  <a:lnTo>
                    <a:pt x="6" y="903"/>
                  </a:lnTo>
                  <a:lnTo>
                    <a:pt x="12" y="900"/>
                  </a:lnTo>
                  <a:lnTo>
                    <a:pt x="24" y="894"/>
                  </a:lnTo>
                  <a:lnTo>
                    <a:pt x="36" y="0"/>
                  </a:lnTo>
                  <a:lnTo>
                    <a:pt x="54" y="6"/>
                  </a:lnTo>
                  <a:lnTo>
                    <a:pt x="121" y="6"/>
                  </a:lnTo>
                  <a:lnTo>
                    <a:pt x="149" y="3"/>
                  </a:lnTo>
                  <a:lnTo>
                    <a:pt x="161" y="897"/>
                  </a:lnTo>
                  <a:lnTo>
                    <a:pt x="170" y="900"/>
                  </a:lnTo>
                  <a:lnTo>
                    <a:pt x="176" y="903"/>
                  </a:lnTo>
                  <a:lnTo>
                    <a:pt x="182" y="90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77120" y="5713560"/>
              <a:ext cx="288720" cy="87120"/>
            </a:xfrm>
            <a:custGeom>
              <a:avLst/>
              <a:gdLst/>
              <a:ahLst/>
              <a:rect l="l" t="t" r="r" b="b"/>
              <a:pathLst>
                <a:path w="182" h="55">
                  <a:moveTo>
                    <a:pt x="0" y="0"/>
                  </a:moveTo>
                  <a:lnTo>
                    <a:pt x="6" y="6"/>
                  </a:lnTo>
                  <a:lnTo>
                    <a:pt x="21" y="13"/>
                  </a:lnTo>
                  <a:lnTo>
                    <a:pt x="39" y="19"/>
                  </a:lnTo>
                  <a:lnTo>
                    <a:pt x="60" y="22"/>
                  </a:lnTo>
                  <a:lnTo>
                    <a:pt x="79" y="25"/>
                  </a:lnTo>
                  <a:lnTo>
                    <a:pt x="100" y="25"/>
                  </a:lnTo>
                  <a:lnTo>
                    <a:pt x="118" y="22"/>
                  </a:lnTo>
                  <a:lnTo>
                    <a:pt x="140" y="19"/>
                  </a:lnTo>
                  <a:lnTo>
                    <a:pt x="158" y="13"/>
                  </a:lnTo>
                  <a:lnTo>
                    <a:pt x="173" y="6"/>
                  </a:lnTo>
                  <a:lnTo>
                    <a:pt x="182" y="3"/>
                  </a:lnTo>
                  <a:lnTo>
                    <a:pt x="182" y="31"/>
                  </a:lnTo>
                  <a:lnTo>
                    <a:pt x="173" y="37"/>
                  </a:lnTo>
                  <a:lnTo>
                    <a:pt x="158" y="43"/>
                  </a:lnTo>
                  <a:lnTo>
                    <a:pt x="140" y="49"/>
                  </a:lnTo>
                  <a:lnTo>
                    <a:pt x="118" y="52"/>
                  </a:lnTo>
                  <a:lnTo>
                    <a:pt x="100" y="55"/>
                  </a:lnTo>
                  <a:lnTo>
                    <a:pt x="79" y="55"/>
                  </a:lnTo>
                  <a:lnTo>
                    <a:pt x="60" y="52"/>
                  </a:lnTo>
                  <a:lnTo>
                    <a:pt x="39" y="49"/>
                  </a:lnTo>
                  <a:lnTo>
                    <a:pt x="21" y="43"/>
                  </a:lnTo>
                  <a:lnTo>
                    <a:pt x="6" y="34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19800" y="4052880"/>
              <a:ext cx="5904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0" y="0"/>
                  </a:moveTo>
                  <a:lnTo>
                    <a:pt x="0" y="2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9520" y="4052880"/>
              <a:ext cx="260280" cy="3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64200" y="4091040"/>
              <a:ext cx="24624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3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12" y="16"/>
                  </a:lnTo>
                  <a:lnTo>
                    <a:pt x="21" y="19"/>
                  </a:lnTo>
                  <a:lnTo>
                    <a:pt x="36" y="22"/>
                  </a:lnTo>
                  <a:lnTo>
                    <a:pt x="76" y="25"/>
                  </a:lnTo>
                  <a:lnTo>
                    <a:pt x="115" y="22"/>
                  </a:lnTo>
                  <a:lnTo>
                    <a:pt x="134" y="19"/>
                  </a:lnTo>
                  <a:lnTo>
                    <a:pt x="146" y="16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59520" y="4121280"/>
              <a:ext cx="260280" cy="115920"/>
            </a:xfrm>
            <a:custGeom>
              <a:avLst/>
              <a:gdLst/>
              <a:ahLst/>
              <a:rect l="l" t="t" r="r" b="b"/>
              <a:pathLst>
                <a:path w="164" h="73">
                  <a:moveTo>
                    <a:pt x="137" y="0"/>
                  </a:moveTo>
                  <a:lnTo>
                    <a:pt x="118" y="3"/>
                  </a:lnTo>
                  <a:lnTo>
                    <a:pt x="79" y="6"/>
                  </a:lnTo>
                  <a:lnTo>
                    <a:pt x="39" y="3"/>
                  </a:lnTo>
                  <a:lnTo>
                    <a:pt x="24" y="0"/>
                  </a:lnTo>
                  <a:lnTo>
                    <a:pt x="24" y="48"/>
                  </a:lnTo>
                  <a:lnTo>
                    <a:pt x="12" y="48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3" y="60"/>
                  </a:lnTo>
                  <a:lnTo>
                    <a:pt x="18" y="66"/>
                  </a:lnTo>
                  <a:lnTo>
                    <a:pt x="42" y="70"/>
                  </a:lnTo>
                  <a:lnTo>
                    <a:pt x="79" y="73"/>
                  </a:lnTo>
                  <a:lnTo>
                    <a:pt x="122" y="70"/>
                  </a:lnTo>
                  <a:lnTo>
                    <a:pt x="146" y="66"/>
                  </a:lnTo>
                  <a:lnTo>
                    <a:pt x="161" y="60"/>
                  </a:lnTo>
                  <a:lnTo>
                    <a:pt x="164" y="57"/>
                  </a:lnTo>
                  <a:lnTo>
                    <a:pt x="161" y="51"/>
                  </a:lnTo>
                  <a:lnTo>
                    <a:pt x="152" y="48"/>
                  </a:lnTo>
                  <a:lnTo>
                    <a:pt x="137" y="48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9520" y="4211640"/>
              <a:ext cx="260280" cy="73080"/>
            </a:xfrm>
            <a:custGeom>
              <a:avLst/>
              <a:gdLst/>
              <a:ahLst/>
              <a:rect l="l" t="t" r="r" b="b"/>
              <a:pathLst>
                <a:path w="164" h="46">
                  <a:moveTo>
                    <a:pt x="161" y="34"/>
                  </a:moveTo>
                  <a:lnTo>
                    <a:pt x="146" y="40"/>
                  </a:lnTo>
                  <a:lnTo>
                    <a:pt x="137" y="43"/>
                  </a:lnTo>
                  <a:lnTo>
                    <a:pt x="109" y="46"/>
                  </a:lnTo>
                  <a:lnTo>
                    <a:pt x="42" y="46"/>
                  </a:lnTo>
                  <a:lnTo>
                    <a:pt x="24" y="40"/>
                  </a:lnTo>
                  <a:lnTo>
                    <a:pt x="18" y="40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18" y="9"/>
                  </a:lnTo>
                  <a:lnTo>
                    <a:pt x="42" y="13"/>
                  </a:lnTo>
                  <a:lnTo>
                    <a:pt x="79" y="16"/>
                  </a:lnTo>
                  <a:lnTo>
                    <a:pt x="122" y="13"/>
                  </a:lnTo>
                  <a:lnTo>
                    <a:pt x="146" y="9"/>
                  </a:lnTo>
                  <a:lnTo>
                    <a:pt x="161" y="3"/>
                  </a:lnTo>
                  <a:lnTo>
                    <a:pt x="164" y="0"/>
                  </a:lnTo>
                  <a:lnTo>
                    <a:pt x="164" y="31"/>
                  </a:lnTo>
                  <a:lnTo>
                    <a:pt x="161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45480" y="4275000"/>
              <a:ext cx="284040" cy="1478160"/>
            </a:xfrm>
            <a:custGeom>
              <a:avLst/>
              <a:gdLst/>
              <a:ahLst/>
              <a:rect l="l" t="t" r="r" b="b"/>
              <a:pathLst>
                <a:path w="179" h="931">
                  <a:moveTo>
                    <a:pt x="179" y="909"/>
                  </a:moveTo>
                  <a:lnTo>
                    <a:pt x="170" y="912"/>
                  </a:lnTo>
                  <a:lnTo>
                    <a:pt x="158" y="919"/>
                  </a:lnTo>
                  <a:lnTo>
                    <a:pt x="137" y="925"/>
                  </a:lnTo>
                  <a:lnTo>
                    <a:pt x="115" y="928"/>
                  </a:lnTo>
                  <a:lnTo>
                    <a:pt x="97" y="931"/>
                  </a:lnTo>
                  <a:lnTo>
                    <a:pt x="79" y="931"/>
                  </a:lnTo>
                  <a:lnTo>
                    <a:pt x="58" y="928"/>
                  </a:lnTo>
                  <a:lnTo>
                    <a:pt x="36" y="925"/>
                  </a:lnTo>
                  <a:lnTo>
                    <a:pt x="18" y="919"/>
                  </a:lnTo>
                  <a:lnTo>
                    <a:pt x="3" y="912"/>
                  </a:lnTo>
                  <a:lnTo>
                    <a:pt x="0" y="906"/>
                  </a:lnTo>
                  <a:lnTo>
                    <a:pt x="3" y="903"/>
                  </a:lnTo>
                  <a:lnTo>
                    <a:pt x="12" y="900"/>
                  </a:lnTo>
                  <a:lnTo>
                    <a:pt x="21" y="894"/>
                  </a:lnTo>
                  <a:lnTo>
                    <a:pt x="33" y="0"/>
                  </a:lnTo>
                  <a:lnTo>
                    <a:pt x="51" y="6"/>
                  </a:lnTo>
                  <a:lnTo>
                    <a:pt x="118" y="6"/>
                  </a:lnTo>
                  <a:lnTo>
                    <a:pt x="146" y="3"/>
                  </a:lnTo>
                  <a:lnTo>
                    <a:pt x="161" y="897"/>
                  </a:lnTo>
                  <a:lnTo>
                    <a:pt x="170" y="900"/>
                  </a:lnTo>
                  <a:lnTo>
                    <a:pt x="176" y="903"/>
                  </a:lnTo>
                  <a:lnTo>
                    <a:pt x="179" y="90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945480" y="5713560"/>
              <a:ext cx="284040" cy="87120"/>
            </a:xfrm>
            <a:custGeom>
              <a:avLst/>
              <a:gdLst/>
              <a:ahLst/>
              <a:rect l="l" t="t" r="r" b="b"/>
              <a:pathLst>
                <a:path w="179" h="55">
                  <a:moveTo>
                    <a:pt x="0" y="0"/>
                  </a:moveTo>
                  <a:lnTo>
                    <a:pt x="3" y="6"/>
                  </a:lnTo>
                  <a:lnTo>
                    <a:pt x="18" y="13"/>
                  </a:lnTo>
                  <a:lnTo>
                    <a:pt x="36" y="19"/>
                  </a:lnTo>
                  <a:lnTo>
                    <a:pt x="58" y="22"/>
                  </a:lnTo>
                  <a:lnTo>
                    <a:pt x="79" y="25"/>
                  </a:lnTo>
                  <a:lnTo>
                    <a:pt x="97" y="25"/>
                  </a:lnTo>
                  <a:lnTo>
                    <a:pt x="115" y="22"/>
                  </a:lnTo>
                  <a:lnTo>
                    <a:pt x="137" y="19"/>
                  </a:lnTo>
                  <a:lnTo>
                    <a:pt x="158" y="13"/>
                  </a:lnTo>
                  <a:lnTo>
                    <a:pt x="170" y="6"/>
                  </a:lnTo>
                  <a:lnTo>
                    <a:pt x="179" y="3"/>
                  </a:lnTo>
                  <a:lnTo>
                    <a:pt x="179" y="31"/>
                  </a:lnTo>
                  <a:lnTo>
                    <a:pt x="170" y="37"/>
                  </a:lnTo>
                  <a:lnTo>
                    <a:pt x="158" y="43"/>
                  </a:lnTo>
                  <a:lnTo>
                    <a:pt x="137" y="49"/>
                  </a:lnTo>
                  <a:lnTo>
                    <a:pt x="115" y="52"/>
                  </a:lnTo>
                  <a:lnTo>
                    <a:pt x="97" y="55"/>
                  </a:lnTo>
                  <a:lnTo>
                    <a:pt x="79" y="55"/>
                  </a:lnTo>
                  <a:lnTo>
                    <a:pt x="58" y="52"/>
                  </a:lnTo>
                  <a:lnTo>
                    <a:pt x="36" y="49"/>
                  </a:lnTo>
                  <a:lnTo>
                    <a:pt x="18" y="43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04120" y="3989520"/>
              <a:ext cx="324000" cy="10152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0" y="40"/>
                  </a:moveTo>
                  <a:lnTo>
                    <a:pt x="0" y="64"/>
                  </a:lnTo>
                  <a:lnTo>
                    <a:pt x="164" y="64"/>
                  </a:lnTo>
                  <a:lnTo>
                    <a:pt x="204" y="34"/>
                  </a:lnTo>
                  <a:lnTo>
                    <a:pt x="204" y="0"/>
                  </a:lnTo>
                  <a:lnTo>
                    <a:pt x="15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13480" y="4091040"/>
              <a:ext cx="246240" cy="39600"/>
            </a:xfrm>
            <a:custGeom>
              <a:avLst/>
              <a:gdLst/>
              <a:ahLst/>
              <a:rect l="l" t="t" r="r" b="b"/>
              <a:pathLst>
                <a:path w="155" h="25">
                  <a:moveTo>
                    <a:pt x="0" y="0"/>
                  </a:moveTo>
                  <a:lnTo>
                    <a:pt x="0" y="6"/>
                  </a:lnTo>
                  <a:lnTo>
                    <a:pt x="3" y="12"/>
                  </a:lnTo>
                  <a:lnTo>
                    <a:pt x="9" y="16"/>
                  </a:lnTo>
                  <a:lnTo>
                    <a:pt x="21" y="19"/>
                  </a:lnTo>
                  <a:lnTo>
                    <a:pt x="36" y="22"/>
                  </a:lnTo>
                  <a:lnTo>
                    <a:pt x="76" y="25"/>
                  </a:lnTo>
                  <a:lnTo>
                    <a:pt x="115" y="22"/>
                  </a:lnTo>
                  <a:lnTo>
                    <a:pt x="134" y="19"/>
                  </a:lnTo>
                  <a:lnTo>
                    <a:pt x="146" y="16"/>
                  </a:lnTo>
                  <a:lnTo>
                    <a:pt x="155" y="6"/>
                  </a:lnTo>
                  <a:lnTo>
                    <a:pt x="1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404120" y="4121280"/>
              <a:ext cx="260280" cy="115920"/>
            </a:xfrm>
            <a:custGeom>
              <a:avLst/>
              <a:gdLst/>
              <a:ahLst/>
              <a:rect l="l" t="t" r="r" b="b"/>
              <a:pathLst>
                <a:path w="164" h="73">
                  <a:moveTo>
                    <a:pt x="140" y="0"/>
                  </a:moveTo>
                  <a:lnTo>
                    <a:pt x="121" y="3"/>
                  </a:lnTo>
                  <a:lnTo>
                    <a:pt x="82" y="6"/>
                  </a:lnTo>
                  <a:lnTo>
                    <a:pt x="42" y="3"/>
                  </a:lnTo>
                  <a:lnTo>
                    <a:pt x="27" y="0"/>
                  </a:lnTo>
                  <a:lnTo>
                    <a:pt x="27" y="48"/>
                  </a:lnTo>
                  <a:lnTo>
                    <a:pt x="15" y="48"/>
                  </a:lnTo>
                  <a:lnTo>
                    <a:pt x="3" y="51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3" y="60"/>
                  </a:lnTo>
                  <a:lnTo>
                    <a:pt x="18" y="66"/>
                  </a:lnTo>
                  <a:lnTo>
                    <a:pt x="45" y="70"/>
                  </a:lnTo>
                  <a:lnTo>
                    <a:pt x="82" y="73"/>
                  </a:lnTo>
                  <a:lnTo>
                    <a:pt x="121" y="70"/>
                  </a:lnTo>
                  <a:lnTo>
                    <a:pt x="149" y="66"/>
                  </a:lnTo>
                  <a:lnTo>
                    <a:pt x="161" y="60"/>
                  </a:lnTo>
                  <a:lnTo>
                    <a:pt x="164" y="57"/>
                  </a:lnTo>
                  <a:lnTo>
                    <a:pt x="161" y="51"/>
                  </a:lnTo>
                  <a:lnTo>
                    <a:pt x="152" y="48"/>
                  </a:lnTo>
                  <a:lnTo>
                    <a:pt x="140" y="48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04120" y="4211640"/>
              <a:ext cx="260280" cy="73080"/>
            </a:xfrm>
            <a:custGeom>
              <a:avLst/>
              <a:gdLst/>
              <a:ahLst/>
              <a:rect l="l" t="t" r="r" b="b"/>
              <a:pathLst>
                <a:path w="164" h="46">
                  <a:moveTo>
                    <a:pt x="161" y="34"/>
                  </a:moveTo>
                  <a:lnTo>
                    <a:pt x="149" y="40"/>
                  </a:lnTo>
                  <a:lnTo>
                    <a:pt x="140" y="43"/>
                  </a:lnTo>
                  <a:lnTo>
                    <a:pt x="112" y="46"/>
                  </a:lnTo>
                  <a:lnTo>
                    <a:pt x="45" y="46"/>
                  </a:lnTo>
                  <a:lnTo>
                    <a:pt x="27" y="40"/>
                  </a:lnTo>
                  <a:lnTo>
                    <a:pt x="18" y="40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0" y="0"/>
                  </a:lnTo>
                  <a:lnTo>
                    <a:pt x="3" y="3"/>
                  </a:lnTo>
                  <a:lnTo>
                    <a:pt x="18" y="9"/>
                  </a:lnTo>
                  <a:lnTo>
                    <a:pt x="45" y="13"/>
                  </a:lnTo>
                  <a:lnTo>
                    <a:pt x="82" y="16"/>
                  </a:lnTo>
                  <a:lnTo>
                    <a:pt x="121" y="13"/>
                  </a:lnTo>
                  <a:lnTo>
                    <a:pt x="149" y="9"/>
                  </a:lnTo>
                  <a:lnTo>
                    <a:pt x="161" y="3"/>
                  </a:lnTo>
                  <a:lnTo>
                    <a:pt x="164" y="0"/>
                  </a:lnTo>
                  <a:lnTo>
                    <a:pt x="164" y="31"/>
                  </a:lnTo>
                  <a:lnTo>
                    <a:pt x="161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423200" y="4275000"/>
              <a:ext cx="222120" cy="1236960"/>
            </a:xfrm>
            <a:custGeom>
              <a:avLst/>
              <a:gdLst/>
              <a:ahLst/>
              <a:rect l="l" t="t" r="r" b="b"/>
              <a:pathLst>
                <a:path w="140" h="779">
                  <a:moveTo>
                    <a:pt x="140" y="760"/>
                  </a:moveTo>
                  <a:lnTo>
                    <a:pt x="128" y="3"/>
                  </a:lnTo>
                  <a:lnTo>
                    <a:pt x="100" y="6"/>
                  </a:lnTo>
                  <a:lnTo>
                    <a:pt x="33" y="6"/>
                  </a:lnTo>
                  <a:lnTo>
                    <a:pt x="15" y="0"/>
                  </a:lnTo>
                  <a:lnTo>
                    <a:pt x="0" y="745"/>
                  </a:lnTo>
                  <a:lnTo>
                    <a:pt x="0" y="766"/>
                  </a:lnTo>
                  <a:lnTo>
                    <a:pt x="30" y="776"/>
                  </a:lnTo>
                  <a:lnTo>
                    <a:pt x="70" y="779"/>
                  </a:lnTo>
                  <a:lnTo>
                    <a:pt x="109" y="779"/>
                  </a:lnTo>
                  <a:lnTo>
                    <a:pt x="140" y="766"/>
                  </a:lnTo>
                  <a:lnTo>
                    <a:pt x="140" y="76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50000" y="5481720"/>
              <a:ext cx="396720" cy="357120"/>
            </a:xfrm>
            <a:custGeom>
              <a:avLst/>
              <a:gdLst/>
              <a:ahLst/>
              <a:rect l="l" t="t" r="r" b="b"/>
              <a:pathLst>
                <a:path w="250" h="225">
                  <a:moveTo>
                    <a:pt x="162" y="6"/>
                  </a:moveTo>
                  <a:lnTo>
                    <a:pt x="128" y="19"/>
                  </a:lnTo>
                  <a:lnTo>
                    <a:pt x="89" y="19"/>
                  </a:lnTo>
                  <a:lnTo>
                    <a:pt x="49" y="16"/>
                  </a:lnTo>
                  <a:lnTo>
                    <a:pt x="22" y="6"/>
                  </a:lnTo>
                  <a:lnTo>
                    <a:pt x="0" y="37"/>
                  </a:lnTo>
                  <a:lnTo>
                    <a:pt x="195" y="37"/>
                  </a:lnTo>
                  <a:lnTo>
                    <a:pt x="171" y="64"/>
                  </a:lnTo>
                  <a:lnTo>
                    <a:pt x="171" y="168"/>
                  </a:lnTo>
                  <a:lnTo>
                    <a:pt x="189" y="207"/>
                  </a:lnTo>
                  <a:lnTo>
                    <a:pt x="189" y="225"/>
                  </a:lnTo>
                  <a:lnTo>
                    <a:pt x="250" y="177"/>
                  </a:lnTo>
                  <a:lnTo>
                    <a:pt x="250" y="140"/>
                  </a:lnTo>
                  <a:lnTo>
                    <a:pt x="228" y="104"/>
                  </a:lnTo>
                  <a:lnTo>
                    <a:pt x="228" y="0"/>
                  </a:lnTo>
                  <a:lnTo>
                    <a:pt x="162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98960" y="5583240"/>
              <a:ext cx="250920" cy="255600"/>
            </a:xfrm>
            <a:custGeom>
              <a:avLst/>
              <a:gdLst/>
              <a:ahLst/>
              <a:rect l="l" t="t" r="r" b="b"/>
              <a:pathLst>
                <a:path w="158" h="161">
                  <a:moveTo>
                    <a:pt x="0" y="161"/>
                  </a:moveTo>
                  <a:lnTo>
                    <a:pt x="0" y="0"/>
                  </a:lnTo>
                  <a:lnTo>
                    <a:pt x="140" y="0"/>
                  </a:lnTo>
                  <a:lnTo>
                    <a:pt x="140" y="104"/>
                  </a:lnTo>
                  <a:lnTo>
                    <a:pt x="158" y="143"/>
                  </a:lnTo>
                  <a:lnTo>
                    <a:pt x="158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3680" y="5729400"/>
              <a:ext cx="125280" cy="10944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69"/>
                  </a:moveTo>
                  <a:lnTo>
                    <a:pt x="79" y="0"/>
                  </a:lnTo>
                  <a:lnTo>
                    <a:pt x="79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49880" y="5762520"/>
              <a:ext cx="173160" cy="7632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61" y="0"/>
                  </a:moveTo>
                  <a:lnTo>
                    <a:pt x="109" y="0"/>
                  </a:lnTo>
                  <a:lnTo>
                    <a:pt x="100" y="21"/>
                  </a:lnTo>
                  <a:lnTo>
                    <a:pt x="100" y="48"/>
                  </a:lnTo>
                  <a:lnTo>
                    <a:pt x="0" y="48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08640" y="5762520"/>
              <a:ext cx="324000" cy="76320"/>
            </a:xfrm>
            <a:custGeom>
              <a:avLst/>
              <a:gdLst/>
              <a:ahLst/>
              <a:rect l="l" t="t" r="r" b="b"/>
              <a:pathLst>
                <a:path w="204" h="48">
                  <a:moveTo>
                    <a:pt x="189" y="0"/>
                  </a:moveTo>
                  <a:lnTo>
                    <a:pt x="180" y="6"/>
                  </a:lnTo>
                  <a:lnTo>
                    <a:pt x="168" y="12"/>
                  </a:lnTo>
                  <a:lnTo>
                    <a:pt x="146" y="18"/>
                  </a:lnTo>
                  <a:lnTo>
                    <a:pt x="128" y="21"/>
                  </a:lnTo>
                  <a:lnTo>
                    <a:pt x="107" y="24"/>
                  </a:lnTo>
                  <a:lnTo>
                    <a:pt x="89" y="24"/>
                  </a:lnTo>
                  <a:lnTo>
                    <a:pt x="67" y="21"/>
                  </a:lnTo>
                  <a:lnTo>
                    <a:pt x="46" y="18"/>
                  </a:lnTo>
                  <a:lnTo>
                    <a:pt x="28" y="12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21"/>
                  </a:lnTo>
                  <a:lnTo>
                    <a:pt x="0" y="48"/>
                  </a:lnTo>
                  <a:lnTo>
                    <a:pt x="180" y="48"/>
                  </a:lnTo>
                  <a:lnTo>
                    <a:pt x="204" y="24"/>
                  </a:lnTo>
                  <a:lnTo>
                    <a:pt x="204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94480" y="5762520"/>
              <a:ext cx="187200" cy="76320"/>
            </a:xfrm>
            <a:custGeom>
              <a:avLst/>
              <a:gdLst/>
              <a:ahLst/>
              <a:rect l="l" t="t" r="r" b="b"/>
              <a:pathLst>
                <a:path w="118" h="48">
                  <a:moveTo>
                    <a:pt x="24" y="0"/>
                  </a:moveTo>
                  <a:lnTo>
                    <a:pt x="118" y="0"/>
                  </a:lnTo>
                  <a:lnTo>
                    <a:pt x="109" y="21"/>
                  </a:lnTo>
                  <a:lnTo>
                    <a:pt x="109" y="48"/>
                  </a:lnTo>
                  <a:lnTo>
                    <a:pt x="0" y="48"/>
                  </a:lnTo>
                  <a:lnTo>
                    <a:pt x="24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67280" y="5762520"/>
              <a:ext cx="324000" cy="76320"/>
            </a:xfrm>
            <a:custGeom>
              <a:avLst/>
              <a:gdLst/>
              <a:ahLst/>
              <a:rect l="l" t="t" r="r" b="b"/>
              <a:pathLst>
                <a:path w="204" h="48">
                  <a:moveTo>
                    <a:pt x="189" y="0"/>
                  </a:moveTo>
                  <a:lnTo>
                    <a:pt x="177" y="6"/>
                  </a:lnTo>
                  <a:lnTo>
                    <a:pt x="168" y="12"/>
                  </a:lnTo>
                  <a:lnTo>
                    <a:pt x="146" y="18"/>
                  </a:lnTo>
                  <a:lnTo>
                    <a:pt x="125" y="21"/>
                  </a:lnTo>
                  <a:lnTo>
                    <a:pt x="107" y="24"/>
                  </a:lnTo>
                  <a:lnTo>
                    <a:pt x="85" y="24"/>
                  </a:lnTo>
                  <a:lnTo>
                    <a:pt x="67" y="21"/>
                  </a:lnTo>
                  <a:lnTo>
                    <a:pt x="46" y="18"/>
                  </a:lnTo>
                  <a:lnTo>
                    <a:pt x="28" y="12"/>
                  </a:lnTo>
                  <a:lnTo>
                    <a:pt x="16" y="3"/>
                  </a:lnTo>
                  <a:lnTo>
                    <a:pt x="9" y="0"/>
                  </a:lnTo>
                  <a:lnTo>
                    <a:pt x="0" y="21"/>
                  </a:lnTo>
                  <a:lnTo>
                    <a:pt x="0" y="48"/>
                  </a:lnTo>
                  <a:lnTo>
                    <a:pt x="177" y="48"/>
                  </a:lnTo>
                  <a:lnTo>
                    <a:pt x="204" y="24"/>
                  </a:lnTo>
                  <a:lnTo>
                    <a:pt x="204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48440" y="5762520"/>
              <a:ext cx="328680" cy="76320"/>
            </a:xfrm>
            <a:custGeom>
              <a:avLst/>
              <a:gdLst/>
              <a:ahLst/>
              <a:rect l="l" t="t" r="r" b="b"/>
              <a:pathLst>
                <a:path w="207" h="48">
                  <a:moveTo>
                    <a:pt x="27" y="0"/>
                  </a:moveTo>
                  <a:lnTo>
                    <a:pt x="207" y="0"/>
                  </a:lnTo>
                  <a:lnTo>
                    <a:pt x="201" y="21"/>
                  </a:lnTo>
                  <a:lnTo>
                    <a:pt x="201" y="48"/>
                  </a:lnTo>
                  <a:lnTo>
                    <a:pt x="0" y="48"/>
                  </a:lnTo>
                  <a:lnTo>
                    <a:pt x="27" y="2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467400" y="5762520"/>
              <a:ext cx="322200" cy="7632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188" y="0"/>
                  </a:moveTo>
                  <a:lnTo>
                    <a:pt x="179" y="6"/>
                  </a:lnTo>
                  <a:lnTo>
                    <a:pt x="164" y="12"/>
                  </a:lnTo>
                  <a:lnTo>
                    <a:pt x="146" y="18"/>
                  </a:lnTo>
                  <a:lnTo>
                    <a:pt x="124" y="21"/>
                  </a:lnTo>
                  <a:lnTo>
                    <a:pt x="106" y="24"/>
                  </a:lnTo>
                  <a:lnTo>
                    <a:pt x="85" y="24"/>
                  </a:lnTo>
                  <a:lnTo>
                    <a:pt x="66" y="21"/>
                  </a:lnTo>
                  <a:lnTo>
                    <a:pt x="45" y="18"/>
                  </a:lnTo>
                  <a:lnTo>
                    <a:pt x="27" y="12"/>
                  </a:lnTo>
                  <a:lnTo>
                    <a:pt x="12" y="3"/>
                  </a:lnTo>
                  <a:lnTo>
                    <a:pt x="6" y="0"/>
                  </a:lnTo>
                  <a:lnTo>
                    <a:pt x="0" y="21"/>
                  </a:lnTo>
                  <a:lnTo>
                    <a:pt x="0" y="48"/>
                  </a:lnTo>
                  <a:lnTo>
                    <a:pt x="179" y="48"/>
                  </a:lnTo>
                  <a:lnTo>
                    <a:pt x="203" y="24"/>
                  </a:lnTo>
                  <a:lnTo>
                    <a:pt x="203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51800" y="5762520"/>
              <a:ext cx="193680" cy="76320"/>
            </a:xfrm>
            <a:custGeom>
              <a:avLst/>
              <a:gdLst/>
              <a:ahLst/>
              <a:rect l="l" t="t" r="r" b="b"/>
              <a:pathLst>
                <a:path w="122" h="48">
                  <a:moveTo>
                    <a:pt x="24" y="0"/>
                  </a:moveTo>
                  <a:lnTo>
                    <a:pt x="122" y="0"/>
                  </a:lnTo>
                  <a:lnTo>
                    <a:pt x="113" y="21"/>
                  </a:lnTo>
                  <a:lnTo>
                    <a:pt x="113" y="48"/>
                  </a:lnTo>
                  <a:lnTo>
                    <a:pt x="0" y="48"/>
                  </a:lnTo>
                  <a:lnTo>
                    <a:pt x="24" y="2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31080" y="5762520"/>
              <a:ext cx="322200" cy="76320"/>
            </a:xfrm>
            <a:custGeom>
              <a:avLst/>
              <a:gdLst/>
              <a:ahLst/>
              <a:rect l="l" t="t" r="r" b="b"/>
              <a:pathLst>
                <a:path w="203" h="48">
                  <a:moveTo>
                    <a:pt x="188" y="0"/>
                  </a:moveTo>
                  <a:lnTo>
                    <a:pt x="179" y="6"/>
                  </a:lnTo>
                  <a:lnTo>
                    <a:pt x="167" y="12"/>
                  </a:lnTo>
                  <a:lnTo>
                    <a:pt x="146" y="18"/>
                  </a:lnTo>
                  <a:lnTo>
                    <a:pt x="124" y="21"/>
                  </a:lnTo>
                  <a:lnTo>
                    <a:pt x="106" y="24"/>
                  </a:lnTo>
                  <a:lnTo>
                    <a:pt x="88" y="24"/>
                  </a:lnTo>
                  <a:lnTo>
                    <a:pt x="67" y="21"/>
                  </a:lnTo>
                  <a:lnTo>
                    <a:pt x="45" y="18"/>
                  </a:lnTo>
                  <a:lnTo>
                    <a:pt x="27" y="12"/>
                  </a:lnTo>
                  <a:lnTo>
                    <a:pt x="12" y="3"/>
                  </a:lnTo>
                  <a:lnTo>
                    <a:pt x="9" y="0"/>
                  </a:lnTo>
                  <a:lnTo>
                    <a:pt x="0" y="21"/>
                  </a:lnTo>
                  <a:lnTo>
                    <a:pt x="0" y="48"/>
                  </a:lnTo>
                  <a:lnTo>
                    <a:pt x="179" y="48"/>
                  </a:lnTo>
                  <a:lnTo>
                    <a:pt x="203" y="24"/>
                  </a:lnTo>
                  <a:lnTo>
                    <a:pt x="203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15120" y="5762520"/>
              <a:ext cx="222480" cy="76320"/>
            </a:xfrm>
            <a:custGeom>
              <a:avLst/>
              <a:gdLst/>
              <a:ahLst/>
              <a:rect l="l" t="t" r="r" b="b"/>
              <a:pathLst>
                <a:path w="140" h="48">
                  <a:moveTo>
                    <a:pt x="24" y="24"/>
                  </a:moveTo>
                  <a:lnTo>
                    <a:pt x="24" y="0"/>
                  </a:lnTo>
                  <a:lnTo>
                    <a:pt x="140" y="0"/>
                  </a:lnTo>
                  <a:lnTo>
                    <a:pt x="116" y="36"/>
                  </a:lnTo>
                  <a:lnTo>
                    <a:pt x="116" y="48"/>
                  </a:lnTo>
                  <a:lnTo>
                    <a:pt x="0" y="48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78800" y="5502240"/>
              <a:ext cx="87120" cy="336600"/>
            </a:xfrm>
            <a:custGeom>
              <a:avLst/>
              <a:gdLst/>
              <a:ahLst/>
              <a:rect l="l" t="t" r="r" b="b"/>
              <a:pathLst>
                <a:path w="55" h="212">
                  <a:moveTo>
                    <a:pt x="0" y="51"/>
                  </a:moveTo>
                  <a:lnTo>
                    <a:pt x="55" y="0"/>
                  </a:lnTo>
                  <a:lnTo>
                    <a:pt x="55" y="155"/>
                  </a:lnTo>
                  <a:lnTo>
                    <a:pt x="0" y="21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99440" y="5583240"/>
              <a:ext cx="279360" cy="255600"/>
            </a:xfrm>
            <a:custGeom>
              <a:avLst/>
              <a:gdLst/>
              <a:ahLst/>
              <a:rect l="l" t="t" r="r" b="b"/>
              <a:pathLst>
                <a:path w="176" h="161">
                  <a:moveTo>
                    <a:pt x="0" y="161"/>
                  </a:moveTo>
                  <a:lnTo>
                    <a:pt x="0" y="149"/>
                  </a:lnTo>
                  <a:lnTo>
                    <a:pt x="24" y="113"/>
                  </a:lnTo>
                  <a:lnTo>
                    <a:pt x="24" y="0"/>
                  </a:lnTo>
                  <a:lnTo>
                    <a:pt x="176" y="0"/>
                  </a:lnTo>
                  <a:lnTo>
                    <a:pt x="176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3680" y="5838840"/>
              <a:ext cx="376200" cy="619200"/>
            </a:xfrm>
            <a:custGeom>
              <a:avLst/>
              <a:gdLst/>
              <a:ahLst/>
              <a:rect l="l" t="t" r="r" b="b"/>
              <a:pathLst>
                <a:path w="237" h="390">
                  <a:moveTo>
                    <a:pt x="213" y="4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390"/>
                  </a:lnTo>
                  <a:lnTo>
                    <a:pt x="213" y="390"/>
                  </a:lnTo>
                  <a:lnTo>
                    <a:pt x="213" y="4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05280" y="5902200"/>
              <a:ext cx="406440" cy="555840"/>
            </a:xfrm>
            <a:custGeom>
              <a:avLst/>
              <a:gdLst/>
              <a:ahLst/>
              <a:rect l="l" t="t" r="r" b="b"/>
              <a:pathLst>
                <a:path w="256" h="350">
                  <a:moveTo>
                    <a:pt x="256" y="350"/>
                  </a:moveTo>
                  <a:lnTo>
                    <a:pt x="0" y="350"/>
                  </a:lnTo>
                  <a:lnTo>
                    <a:pt x="91" y="262"/>
                  </a:lnTo>
                  <a:lnTo>
                    <a:pt x="91" y="0"/>
                  </a:lnTo>
                  <a:lnTo>
                    <a:pt x="256" y="0"/>
                  </a:lnTo>
                  <a:lnTo>
                    <a:pt x="256" y="35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9440" y="5838840"/>
              <a:ext cx="399960" cy="619200"/>
            </a:xfrm>
            <a:custGeom>
              <a:avLst/>
              <a:gdLst/>
              <a:ahLst/>
              <a:rect l="l" t="t" r="r" b="b"/>
              <a:pathLst>
                <a:path w="252" h="390">
                  <a:moveTo>
                    <a:pt x="0" y="34"/>
                  </a:moveTo>
                  <a:lnTo>
                    <a:pt x="0" y="390"/>
                  </a:lnTo>
                  <a:lnTo>
                    <a:pt x="36" y="390"/>
                  </a:lnTo>
                  <a:lnTo>
                    <a:pt x="36" y="43"/>
                  </a:lnTo>
                  <a:lnTo>
                    <a:pt x="216" y="43"/>
                  </a:lnTo>
                  <a:lnTo>
                    <a:pt x="252" y="0"/>
                  </a:lnTo>
                  <a:lnTo>
                    <a:pt x="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56320" y="5907240"/>
              <a:ext cx="382680" cy="550800"/>
            </a:xfrm>
            <a:custGeom>
              <a:avLst/>
              <a:gdLst/>
              <a:ahLst/>
              <a:rect l="l" t="t" r="r" b="b"/>
              <a:pathLst>
                <a:path w="241" h="347">
                  <a:moveTo>
                    <a:pt x="241" y="347"/>
                  </a:moveTo>
                  <a:lnTo>
                    <a:pt x="0" y="347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68"/>
                  </a:lnTo>
                  <a:lnTo>
                    <a:pt x="241" y="34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249880" y="5838840"/>
              <a:ext cx="120600" cy="619200"/>
            </a:xfrm>
            <a:custGeom>
              <a:avLst/>
              <a:gdLst/>
              <a:ahLst/>
              <a:rect l="l" t="t" r="r" b="b"/>
              <a:pathLst>
                <a:path w="76" h="390">
                  <a:moveTo>
                    <a:pt x="0" y="390"/>
                  </a:moveTo>
                  <a:lnTo>
                    <a:pt x="6" y="356"/>
                  </a:lnTo>
                  <a:lnTo>
                    <a:pt x="12" y="329"/>
                  </a:lnTo>
                  <a:lnTo>
                    <a:pt x="18" y="292"/>
                  </a:lnTo>
                  <a:lnTo>
                    <a:pt x="24" y="262"/>
                  </a:lnTo>
                  <a:lnTo>
                    <a:pt x="30" y="226"/>
                  </a:lnTo>
                  <a:lnTo>
                    <a:pt x="36" y="195"/>
                  </a:lnTo>
                  <a:lnTo>
                    <a:pt x="46" y="165"/>
                  </a:lnTo>
                  <a:lnTo>
                    <a:pt x="52" y="134"/>
                  </a:lnTo>
                  <a:lnTo>
                    <a:pt x="58" y="101"/>
                  </a:lnTo>
                  <a:lnTo>
                    <a:pt x="64" y="67"/>
                  </a:lnTo>
                  <a:lnTo>
                    <a:pt x="70" y="34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80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49880" y="5838840"/>
              <a:ext cx="2149560" cy="619200"/>
            </a:xfrm>
            <a:custGeom>
              <a:avLst/>
              <a:gdLst/>
              <a:ahLst/>
              <a:rect l="l" t="t" r="r" b="b"/>
              <a:pathLst>
                <a:path w="1354" h="390">
                  <a:moveTo>
                    <a:pt x="0" y="390"/>
                  </a:moveTo>
                  <a:lnTo>
                    <a:pt x="6" y="356"/>
                  </a:lnTo>
                  <a:lnTo>
                    <a:pt x="12" y="329"/>
                  </a:lnTo>
                  <a:lnTo>
                    <a:pt x="18" y="292"/>
                  </a:lnTo>
                  <a:lnTo>
                    <a:pt x="24" y="262"/>
                  </a:lnTo>
                  <a:lnTo>
                    <a:pt x="30" y="226"/>
                  </a:lnTo>
                  <a:lnTo>
                    <a:pt x="36" y="195"/>
                  </a:lnTo>
                  <a:lnTo>
                    <a:pt x="46" y="165"/>
                  </a:lnTo>
                  <a:lnTo>
                    <a:pt x="52" y="134"/>
                  </a:lnTo>
                  <a:lnTo>
                    <a:pt x="58" y="101"/>
                  </a:lnTo>
                  <a:lnTo>
                    <a:pt x="64" y="67"/>
                  </a:lnTo>
                  <a:lnTo>
                    <a:pt x="70" y="34"/>
                  </a:lnTo>
                  <a:lnTo>
                    <a:pt x="76" y="0"/>
                  </a:lnTo>
                  <a:lnTo>
                    <a:pt x="1354" y="0"/>
                  </a:lnTo>
                  <a:lnTo>
                    <a:pt x="1354" y="39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59480" y="5467320"/>
              <a:ext cx="406440" cy="73080"/>
            </a:xfrm>
            <a:custGeom>
              <a:avLst/>
              <a:gdLst/>
              <a:ahLst/>
              <a:rect l="l" t="t" r="r" b="b"/>
              <a:pathLst>
                <a:path w="256" h="46">
                  <a:moveTo>
                    <a:pt x="201" y="46"/>
                  </a:moveTo>
                  <a:lnTo>
                    <a:pt x="0" y="46"/>
                  </a:lnTo>
                  <a:lnTo>
                    <a:pt x="40" y="15"/>
                  </a:lnTo>
                  <a:lnTo>
                    <a:pt x="70" y="25"/>
                  </a:lnTo>
                  <a:lnTo>
                    <a:pt x="110" y="28"/>
                  </a:lnTo>
                  <a:lnTo>
                    <a:pt x="149" y="28"/>
                  </a:lnTo>
                  <a:lnTo>
                    <a:pt x="180" y="15"/>
                  </a:lnTo>
                  <a:lnTo>
                    <a:pt x="180" y="0"/>
                  </a:lnTo>
                  <a:lnTo>
                    <a:pt x="256" y="0"/>
                  </a:lnTo>
                  <a:lnTo>
                    <a:pt x="201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0000" y="5540400"/>
              <a:ext cx="309240" cy="42840"/>
            </a:xfrm>
            <a:custGeom>
              <a:avLst/>
              <a:gdLst/>
              <a:ahLst/>
              <a:rect l="l" t="t" r="r" b="b"/>
              <a:pathLst>
                <a:path w="195" h="27">
                  <a:moveTo>
                    <a:pt x="171" y="27"/>
                  </a:moveTo>
                  <a:lnTo>
                    <a:pt x="195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71" y="2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99440" y="5540400"/>
              <a:ext cx="279360" cy="42840"/>
            </a:xfrm>
            <a:custGeom>
              <a:avLst/>
              <a:gdLst/>
              <a:ahLst/>
              <a:rect l="l" t="t" r="r" b="b"/>
              <a:pathLst>
                <a:path w="176" h="27">
                  <a:moveTo>
                    <a:pt x="176" y="0"/>
                  </a:moveTo>
                  <a:lnTo>
                    <a:pt x="0" y="0"/>
                  </a:lnTo>
                  <a:lnTo>
                    <a:pt x="9" y="27"/>
                  </a:lnTo>
                  <a:lnTo>
                    <a:pt x="176" y="27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881480" y="2097000"/>
              <a:ext cx="478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853040" y="2077920"/>
              <a:ext cx="428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822800" y="2058840"/>
              <a:ext cx="4932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790040" y="2039760"/>
              <a:ext cx="4896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756560" y="2023920"/>
              <a:ext cx="4752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721280" y="2009880"/>
              <a:ext cx="493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93200" y="2004840"/>
              <a:ext cx="4896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659360" y="1995480"/>
              <a:ext cx="522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626240" y="1990800"/>
              <a:ext cx="5256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590960" y="1990800"/>
              <a:ext cx="49320" cy="4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548480" y="1986120"/>
              <a:ext cx="52560" cy="53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505640" y="1990800"/>
              <a:ext cx="5256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456320" y="1995480"/>
              <a:ext cx="590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413120" y="2009880"/>
              <a:ext cx="572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364160" y="2019240"/>
              <a:ext cx="68040" cy="6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326360" y="2044800"/>
              <a:ext cx="6336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64520" y="549108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7" y="0"/>
                  </a:moveTo>
                  <a:lnTo>
                    <a:pt x="0" y="31"/>
                  </a:lnTo>
                  <a:lnTo>
                    <a:pt x="22" y="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361120" y="5892840"/>
              <a:ext cx="2038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351040" y="5945040"/>
              <a:ext cx="2048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5341680" y="5999040"/>
              <a:ext cx="2057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332320" y="6051600"/>
              <a:ext cx="206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5322960" y="6100920"/>
              <a:ext cx="207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5307120" y="6148440"/>
              <a:ext cx="209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297040" y="6197760"/>
              <a:ext cx="210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5287680" y="6254640"/>
              <a:ext cx="2111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78320" y="6302520"/>
              <a:ext cx="2121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268960" y="6361200"/>
              <a:ext cx="2130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5258880" y="6404040"/>
              <a:ext cx="2140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 txBox="1"/>
          <p:nvPr/>
        </p:nvSpPr>
        <p:spPr>
          <a:xfrm>
            <a:off x="1066680" y="1600200"/>
            <a:ext cx="6934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terest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blem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038480" y="1676520"/>
            <a:ext cx="472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y borrowed $3000 from his friend and agreed to pay it off in monthly installments over a period of one year including 5% simple interest.  What are his monthly pay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8480" y="1676520"/>
            <a:ext cx="472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y borrowe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3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his friend and agreed to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ay it off in monthly installments over a period of one yea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clud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5% simple intere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What are his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monthly pay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092400" cy="447804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712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937080" y="2054160"/>
            <a:ext cx="3250080" cy="2611800"/>
            <a:chOff x="937080" y="2054160"/>
            <a:chExt cx="3250080" cy="2611800"/>
          </a:xfrm>
        </p:grpSpPr>
        <p:sp>
          <p:nvSpPr>
            <p:cNvPr id="715" name=""/>
            <p:cNvSpPr/>
            <p:nvPr/>
          </p:nvSpPr>
          <p:spPr>
            <a:xfrm>
              <a:off x="937080" y="2651040"/>
              <a:ext cx="3250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 year</a:t>
              </a:r>
              <a:br>
                <a:rPr sz="4000"/>
              </a:b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2 paymen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938160" y="3962520"/>
              <a:ext cx="197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5% AP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63800" y="2054160"/>
              <a:ext cx="162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$3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154880" y="5699160"/>
            <a:ext cx="26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how mu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27560" y="141300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81200" y="497664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719160" y="1371600"/>
            <a:ext cx="4911120" cy="4297320"/>
            <a:chOff x="3719160" y="1371600"/>
            <a:chExt cx="4911120" cy="4297320"/>
          </a:xfrm>
        </p:grpSpPr>
        <p:sp>
          <p:nvSpPr>
            <p:cNvPr id="722" name=""/>
            <p:cNvSpPr/>
            <p:nvPr/>
          </p:nvSpPr>
          <p:spPr>
            <a:xfrm>
              <a:off x="5141880" y="1371600"/>
              <a:ext cx="2028600" cy="3197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3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0080" y="4578480"/>
              <a:ext cx="2030400" cy="10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terest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yr 5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62240" y="1371600"/>
              <a:ext cx="1000080" cy="3206880"/>
            </a:xfrm>
            <a:custGeom>
              <a:avLst/>
              <a:gdLst>
                <a:gd name="textAreaLeft" fmla="*/ 360 w 1000080"/>
                <a:gd name="textAreaRight" fmla="*/ 361440 w 1000080"/>
                <a:gd name="textAreaTop" fmla="*/ 83520 h 3206880"/>
                <a:gd name="textAreaBottom" fmla="*/ 3123360 h 32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719160" y="2676600"/>
              <a:ext cx="1421280" cy="5205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pos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46800" y="1409760"/>
              <a:ext cx="880920" cy="4259160"/>
            </a:xfrm>
            <a:custGeom>
              <a:avLst/>
              <a:gdLst>
                <a:gd name="textAreaLeft" fmla="*/ 0 w 880920"/>
                <a:gd name="textAreaRight" fmla="*/ 318240 w 880920"/>
                <a:gd name="textAreaTop" fmla="*/ 110880 h 4259160"/>
                <a:gd name="textAreaBottom" fmla="*/ 4148280 h 42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51040" y="3065400"/>
              <a:ext cx="1479240" cy="9471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inal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l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42424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simple and compound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676440" y="13795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6600" y="2052720"/>
            <a:ext cx="28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8280" y="2827440"/>
            <a:ext cx="31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19960" y="4638600"/>
            <a:ext cx="45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3000 x 5% x 1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002680" y="553068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3000 x 0.05 x 1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3058560" y="3878280"/>
            <a:ext cx="3064680" cy="853200"/>
            <a:chOff x="3058560" y="3878280"/>
            <a:chExt cx="3064680" cy="853200"/>
          </a:xfrm>
        </p:grpSpPr>
        <p:sp>
          <p:nvSpPr>
            <p:cNvPr id="735" name=""/>
            <p:cNvSpPr/>
            <p:nvPr/>
          </p:nvSpPr>
          <p:spPr>
            <a:xfrm>
              <a:off x="3058560" y="3878280"/>
              <a:ext cx="52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77680" y="3900600"/>
              <a:ext cx="412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41280" y="3967200"/>
              <a:ext cx="38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5220360" y="1949400"/>
            <a:ext cx="325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 year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2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21440" y="3260880"/>
            <a:ext cx="19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5% AP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46720" y="135252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98680" y="40384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049920" y="4159080"/>
            <a:ext cx="52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3000 + $150 = $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19960" y="1903320"/>
            <a:ext cx="45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3000 x 5% x 1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02680" y="259092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3000 x 0.05 x 1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58560" y="114300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77680" y="1165320"/>
            <a:ext cx="4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41280" y="1231920"/>
            <a:ext cx="3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32840" y="33526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9920" y="4876920"/>
            <a:ext cx="74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thly payments = $3150/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78960" y="5715000"/>
            <a:ext cx="2475720" cy="703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$262.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36400" y="2387520"/>
            <a:ext cx="809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sa deposits $200 each month, for 3 months, into an account paying 6.0% APR compounded monthly.  How much does she have at the end of the 3 months in the account? Deposits and compounding both occur at the end of the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6400" y="2387520"/>
            <a:ext cx="809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sa deposit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200 each month, for 3 month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into an account paying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.0% AP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ompounded month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does she have at the end of the 3 months in the account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posits and compounding both occur at the end of the 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5800" y="1152720"/>
            <a:ext cx="3172320" cy="1199880"/>
            <a:chOff x="505800" y="1152720"/>
            <a:chExt cx="3172320" cy="1199880"/>
          </a:xfrm>
        </p:grpSpPr>
        <p:sp>
          <p:nvSpPr>
            <p:cNvPr id="756" name=""/>
            <p:cNvSpPr/>
            <p:nvPr/>
          </p:nvSpPr>
          <p:spPr>
            <a:xfrm rot="20897400">
              <a:off x="536400" y="144756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897400">
              <a:off x="533520" y="148572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9" name=""/>
          <p:cNvGraphicFramePr/>
          <p:nvPr/>
        </p:nvGraphicFramePr>
        <p:xfrm>
          <a:off x="3429000" y="2565360"/>
          <a:ext cx="5084640" cy="2085840"/>
        </p:xfrm>
        <a:graphic>
          <a:graphicData uri="http://schemas.openxmlformats.org/drawingml/2006/table">
            <a:tbl>
              <a:tblPr/>
              <a:tblGrid>
                <a:gridCol w="1693800"/>
                <a:gridCol w="1866960"/>
                <a:gridCol w="1523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+ 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Comic Sans MS"/>
                        </a:rPr>
                        <a:t>C (ans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grpSp>
        <p:nvGrpSpPr>
          <p:cNvPr id="760" name=""/>
          <p:cNvGrpSpPr/>
          <p:nvPr/>
        </p:nvGrpSpPr>
        <p:grpSpPr>
          <a:xfrm>
            <a:off x="558360" y="2001960"/>
            <a:ext cx="2733480" cy="2698920"/>
            <a:chOff x="558360" y="2001960"/>
            <a:chExt cx="2733480" cy="2698920"/>
          </a:xfrm>
        </p:grpSpPr>
        <p:sp>
          <p:nvSpPr>
            <p:cNvPr id="761" name=""/>
            <p:cNvSpPr/>
            <p:nvPr/>
          </p:nvSpPr>
          <p:spPr>
            <a:xfrm>
              <a:off x="675360" y="2001960"/>
              <a:ext cx="189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$200/m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600" y="3098880"/>
              <a:ext cx="19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3 mont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5240" y="256536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6.0% AP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360" y="3632040"/>
              <a:ext cx="2733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compounded</a:t>
              </a:r>
              <a:br>
                <a:rPr sz="3200"/>
              </a:b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 month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522000" y="1316160"/>
            <a:ext cx="14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1400" y="571500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how much - 3 mont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9600" y="515160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3200400" y="1571760"/>
          <a:ext cx="5084640" cy="2085840"/>
        </p:xfrm>
        <a:graphic>
          <a:graphicData uri="http://schemas.openxmlformats.org/drawingml/2006/table">
            <a:tbl>
              <a:tblPr/>
              <a:tblGrid>
                <a:gridCol w="1693800"/>
                <a:gridCol w="1866960"/>
                <a:gridCol w="1523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+ 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+ 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Comic Sans MS"/>
                        </a:rPr>
                        <a:t>C (ans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770" name=""/>
          <p:cNvSpPr/>
          <p:nvPr/>
        </p:nvSpPr>
        <p:spPr>
          <a:xfrm>
            <a:off x="831600" y="141444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27360" y="39625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219320" y="5105520"/>
          <a:ext cx="6781680" cy="115560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831600" y="141444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96840" y="4479840"/>
            <a:ext cx="67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$2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0.06 x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/12 y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066680" y="2209680"/>
          <a:ext cx="6782040" cy="115596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"/>
          <p:cNvSpPr/>
          <p:nvPr/>
        </p:nvSpPr>
        <p:spPr>
          <a:xfrm>
            <a:off x="2746440" y="35053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98280" y="5562720"/>
            <a:ext cx="39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$2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.00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55920" y="556272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=$20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3200400" y="1571760"/>
          <a:ext cx="5084640" cy="2085840"/>
        </p:xfrm>
        <a:graphic>
          <a:graphicData uri="http://schemas.openxmlformats.org/drawingml/2006/table">
            <a:tbl>
              <a:tblPr/>
              <a:tblGrid>
                <a:gridCol w="1693800"/>
                <a:gridCol w="1866960"/>
                <a:gridCol w="15238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4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+ 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Comic Sans MS"/>
                        </a:rPr>
                        <a:t>C (ans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806040" y="14144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27360" y="39625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219320" y="5105520"/>
          <a:ext cx="6781680" cy="115560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4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806040" y="141444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56160" y="4479840"/>
            <a:ext cx="67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$40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0.06 x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/12 y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066680" y="2209680"/>
          <a:ext cx="6782040" cy="115596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40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2746440" y="35053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57600" y="5562720"/>
            <a:ext cx="39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$40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.00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00040" y="5562720"/>
            <a:ext cx="27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=$403.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2895480" y="1571760"/>
          <a:ext cx="5389560" cy="2085840"/>
        </p:xfrm>
        <a:graphic>
          <a:graphicData uri="http://schemas.openxmlformats.org/drawingml/2006/table">
            <a:tbl>
              <a:tblPr/>
              <a:tblGrid>
                <a:gridCol w="1676520"/>
                <a:gridCol w="1828800"/>
                <a:gridCol w="188424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4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403.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603.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Comic Sans MS"/>
                        </a:rPr>
                        <a:t>C (ans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794" name=""/>
          <p:cNvSpPr/>
          <p:nvPr/>
        </p:nvSpPr>
        <p:spPr>
          <a:xfrm>
            <a:off x="803520" y="141444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C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27360" y="39625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1219320" y="5105520"/>
          <a:ext cx="6781680" cy="115560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603.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803520" y="141444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C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94320" y="4267080"/>
            <a:ext cx="69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603.00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6 x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/12 y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066680" y="2057400"/>
          <a:ext cx="6782040" cy="115560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603.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6% =0.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/12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"/>
          <p:cNvSpPr/>
          <p:nvPr/>
        </p:nvSpPr>
        <p:spPr>
          <a:xfrm>
            <a:off x="2746440" y="327672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29160" y="5181480"/>
            <a:ext cx="45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603.00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.00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74480" y="5867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=$603.0200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746440" y="2247840"/>
            <a:ext cx="3047400" cy="3237480"/>
            <a:chOff x="2746440" y="2247840"/>
            <a:chExt cx="3047400" cy="3237480"/>
          </a:xfrm>
        </p:grpSpPr>
        <p:sp>
          <p:nvSpPr>
            <p:cNvPr id="227" name=""/>
            <p:cNvSpPr/>
            <p:nvPr/>
          </p:nvSpPr>
          <p:spPr>
            <a:xfrm>
              <a:off x="2746440" y="2705040"/>
              <a:ext cx="3047400" cy="2780280"/>
            </a:xfrm>
            <a:custGeom>
              <a:avLst/>
              <a:gdLst/>
              <a:ahLst/>
              <a:rect l="l" t="t" r="r" b="b"/>
              <a:pathLst>
                <a:path w="2649" h="1129">
                  <a:moveTo>
                    <a:pt x="16" y="557"/>
                  </a:moveTo>
                  <a:lnTo>
                    <a:pt x="10" y="525"/>
                  </a:lnTo>
                  <a:lnTo>
                    <a:pt x="6" y="493"/>
                  </a:lnTo>
                  <a:lnTo>
                    <a:pt x="2" y="462"/>
                  </a:lnTo>
                  <a:lnTo>
                    <a:pt x="0" y="430"/>
                  </a:lnTo>
                  <a:lnTo>
                    <a:pt x="2" y="397"/>
                  </a:lnTo>
                  <a:lnTo>
                    <a:pt x="7" y="362"/>
                  </a:lnTo>
                  <a:lnTo>
                    <a:pt x="15" y="325"/>
                  </a:lnTo>
                  <a:lnTo>
                    <a:pt x="29" y="286"/>
                  </a:lnTo>
                  <a:lnTo>
                    <a:pt x="40" y="262"/>
                  </a:lnTo>
                  <a:lnTo>
                    <a:pt x="53" y="239"/>
                  </a:lnTo>
                  <a:lnTo>
                    <a:pt x="70" y="218"/>
                  </a:lnTo>
                  <a:lnTo>
                    <a:pt x="89" y="198"/>
                  </a:lnTo>
                  <a:lnTo>
                    <a:pt x="109" y="179"/>
                  </a:lnTo>
                  <a:lnTo>
                    <a:pt x="133" y="162"/>
                  </a:lnTo>
                  <a:lnTo>
                    <a:pt x="159" y="145"/>
                  </a:lnTo>
                  <a:lnTo>
                    <a:pt x="186" y="130"/>
                  </a:lnTo>
                  <a:lnTo>
                    <a:pt x="216" y="116"/>
                  </a:lnTo>
                  <a:lnTo>
                    <a:pt x="249" y="102"/>
                  </a:lnTo>
                  <a:lnTo>
                    <a:pt x="283" y="90"/>
                  </a:lnTo>
                  <a:lnTo>
                    <a:pt x="319" y="79"/>
                  </a:lnTo>
                  <a:lnTo>
                    <a:pt x="357" y="69"/>
                  </a:lnTo>
                  <a:lnTo>
                    <a:pt x="396" y="59"/>
                  </a:lnTo>
                  <a:lnTo>
                    <a:pt x="438" y="51"/>
                  </a:lnTo>
                  <a:lnTo>
                    <a:pt x="480" y="43"/>
                  </a:lnTo>
                  <a:lnTo>
                    <a:pt x="524" y="36"/>
                  </a:lnTo>
                  <a:lnTo>
                    <a:pt x="570" y="31"/>
                  </a:lnTo>
                  <a:lnTo>
                    <a:pt x="617" y="25"/>
                  </a:lnTo>
                  <a:lnTo>
                    <a:pt x="665" y="20"/>
                  </a:lnTo>
                  <a:lnTo>
                    <a:pt x="715" y="17"/>
                  </a:lnTo>
                  <a:lnTo>
                    <a:pt x="766" y="12"/>
                  </a:lnTo>
                  <a:lnTo>
                    <a:pt x="817" y="10"/>
                  </a:lnTo>
                  <a:lnTo>
                    <a:pt x="870" y="8"/>
                  </a:lnTo>
                  <a:lnTo>
                    <a:pt x="924" y="5"/>
                  </a:lnTo>
                  <a:lnTo>
                    <a:pt x="978" y="3"/>
                  </a:lnTo>
                  <a:lnTo>
                    <a:pt x="1033" y="2"/>
                  </a:lnTo>
                  <a:lnTo>
                    <a:pt x="1090" y="1"/>
                  </a:lnTo>
                  <a:lnTo>
                    <a:pt x="1146" y="1"/>
                  </a:lnTo>
                  <a:lnTo>
                    <a:pt x="1204" y="0"/>
                  </a:lnTo>
                  <a:lnTo>
                    <a:pt x="1262" y="0"/>
                  </a:lnTo>
                  <a:lnTo>
                    <a:pt x="1319" y="0"/>
                  </a:lnTo>
                  <a:lnTo>
                    <a:pt x="1375" y="0"/>
                  </a:lnTo>
                  <a:lnTo>
                    <a:pt x="1429" y="0"/>
                  </a:lnTo>
                  <a:lnTo>
                    <a:pt x="1484" y="1"/>
                  </a:lnTo>
                  <a:lnTo>
                    <a:pt x="1538" y="2"/>
                  </a:lnTo>
                  <a:lnTo>
                    <a:pt x="1591" y="3"/>
                  </a:lnTo>
                  <a:lnTo>
                    <a:pt x="1644" y="4"/>
                  </a:lnTo>
                  <a:lnTo>
                    <a:pt x="1697" y="6"/>
                  </a:lnTo>
                  <a:lnTo>
                    <a:pt x="1749" y="9"/>
                  </a:lnTo>
                  <a:lnTo>
                    <a:pt x="1801" y="12"/>
                  </a:lnTo>
                  <a:lnTo>
                    <a:pt x="1850" y="16"/>
                  </a:lnTo>
                  <a:lnTo>
                    <a:pt x="1900" y="19"/>
                  </a:lnTo>
                  <a:lnTo>
                    <a:pt x="1948" y="24"/>
                  </a:lnTo>
                  <a:lnTo>
                    <a:pt x="1997" y="29"/>
                  </a:lnTo>
                  <a:lnTo>
                    <a:pt x="2043" y="35"/>
                  </a:lnTo>
                  <a:lnTo>
                    <a:pt x="2088" y="41"/>
                  </a:lnTo>
                  <a:lnTo>
                    <a:pt x="2133" y="48"/>
                  </a:lnTo>
                  <a:lnTo>
                    <a:pt x="2175" y="56"/>
                  </a:lnTo>
                  <a:lnTo>
                    <a:pt x="2216" y="65"/>
                  </a:lnTo>
                  <a:lnTo>
                    <a:pt x="2256" y="74"/>
                  </a:lnTo>
                  <a:lnTo>
                    <a:pt x="2294" y="85"/>
                  </a:lnTo>
                  <a:lnTo>
                    <a:pt x="2331" y="96"/>
                  </a:lnTo>
                  <a:lnTo>
                    <a:pt x="2365" y="108"/>
                  </a:lnTo>
                  <a:lnTo>
                    <a:pt x="2399" y="122"/>
                  </a:lnTo>
                  <a:lnTo>
                    <a:pt x="2430" y="135"/>
                  </a:lnTo>
                  <a:lnTo>
                    <a:pt x="2460" y="150"/>
                  </a:lnTo>
                  <a:lnTo>
                    <a:pt x="2488" y="166"/>
                  </a:lnTo>
                  <a:lnTo>
                    <a:pt x="2513" y="184"/>
                  </a:lnTo>
                  <a:lnTo>
                    <a:pt x="2536" y="201"/>
                  </a:lnTo>
                  <a:lnTo>
                    <a:pt x="2557" y="221"/>
                  </a:lnTo>
                  <a:lnTo>
                    <a:pt x="2576" y="241"/>
                  </a:lnTo>
                  <a:lnTo>
                    <a:pt x="2592" y="263"/>
                  </a:lnTo>
                  <a:lnTo>
                    <a:pt x="2606" y="286"/>
                  </a:lnTo>
                  <a:lnTo>
                    <a:pt x="2618" y="312"/>
                  </a:lnTo>
                  <a:lnTo>
                    <a:pt x="2628" y="346"/>
                  </a:lnTo>
                  <a:lnTo>
                    <a:pt x="2639" y="386"/>
                  </a:lnTo>
                  <a:lnTo>
                    <a:pt x="2645" y="431"/>
                  </a:lnTo>
                  <a:lnTo>
                    <a:pt x="2649" y="478"/>
                  </a:lnTo>
                  <a:lnTo>
                    <a:pt x="2648" y="526"/>
                  </a:lnTo>
                  <a:lnTo>
                    <a:pt x="2642" y="572"/>
                  </a:lnTo>
                  <a:lnTo>
                    <a:pt x="2629" y="614"/>
                  </a:lnTo>
                  <a:lnTo>
                    <a:pt x="2617" y="644"/>
                  </a:lnTo>
                  <a:lnTo>
                    <a:pt x="2602" y="673"/>
                  </a:lnTo>
                  <a:lnTo>
                    <a:pt x="2586" y="701"/>
                  </a:lnTo>
                  <a:lnTo>
                    <a:pt x="2567" y="727"/>
                  </a:lnTo>
                  <a:lnTo>
                    <a:pt x="2546" y="754"/>
                  </a:lnTo>
                  <a:lnTo>
                    <a:pt x="2525" y="780"/>
                  </a:lnTo>
                  <a:lnTo>
                    <a:pt x="2499" y="804"/>
                  </a:lnTo>
                  <a:lnTo>
                    <a:pt x="2474" y="828"/>
                  </a:lnTo>
                  <a:lnTo>
                    <a:pt x="2445" y="852"/>
                  </a:lnTo>
                  <a:lnTo>
                    <a:pt x="2415" y="875"/>
                  </a:lnTo>
                  <a:lnTo>
                    <a:pt x="2384" y="896"/>
                  </a:lnTo>
                  <a:lnTo>
                    <a:pt x="2351" y="917"/>
                  </a:lnTo>
                  <a:lnTo>
                    <a:pt x="2315" y="937"/>
                  </a:lnTo>
                  <a:lnTo>
                    <a:pt x="2278" y="955"/>
                  </a:lnTo>
                  <a:lnTo>
                    <a:pt x="2239" y="974"/>
                  </a:lnTo>
                  <a:lnTo>
                    <a:pt x="2197" y="991"/>
                  </a:lnTo>
                  <a:lnTo>
                    <a:pt x="2156" y="1007"/>
                  </a:lnTo>
                  <a:lnTo>
                    <a:pt x="2111" y="1022"/>
                  </a:lnTo>
                  <a:lnTo>
                    <a:pt x="2065" y="1037"/>
                  </a:lnTo>
                  <a:lnTo>
                    <a:pt x="2017" y="1050"/>
                  </a:lnTo>
                  <a:lnTo>
                    <a:pt x="1968" y="1062"/>
                  </a:lnTo>
                  <a:lnTo>
                    <a:pt x="1917" y="1074"/>
                  </a:lnTo>
                  <a:lnTo>
                    <a:pt x="1864" y="1084"/>
                  </a:lnTo>
                  <a:lnTo>
                    <a:pt x="1810" y="1093"/>
                  </a:lnTo>
                  <a:lnTo>
                    <a:pt x="1755" y="1101"/>
                  </a:lnTo>
                  <a:lnTo>
                    <a:pt x="1697" y="1108"/>
                  </a:lnTo>
                  <a:lnTo>
                    <a:pt x="1637" y="1115"/>
                  </a:lnTo>
                  <a:lnTo>
                    <a:pt x="1577" y="1120"/>
                  </a:lnTo>
                  <a:lnTo>
                    <a:pt x="1515" y="1124"/>
                  </a:lnTo>
                  <a:lnTo>
                    <a:pt x="1452" y="1127"/>
                  </a:lnTo>
                  <a:lnTo>
                    <a:pt x="1386" y="1129"/>
                  </a:lnTo>
                  <a:lnTo>
                    <a:pt x="1319" y="1129"/>
                  </a:lnTo>
                  <a:lnTo>
                    <a:pt x="1249" y="1128"/>
                  </a:lnTo>
                  <a:lnTo>
                    <a:pt x="1180" y="1127"/>
                  </a:lnTo>
                  <a:lnTo>
                    <a:pt x="1112" y="1123"/>
                  </a:lnTo>
                  <a:lnTo>
                    <a:pt x="1047" y="1119"/>
                  </a:lnTo>
                  <a:lnTo>
                    <a:pt x="983" y="1113"/>
                  </a:lnTo>
                  <a:lnTo>
                    <a:pt x="922" y="1106"/>
                  </a:lnTo>
                  <a:lnTo>
                    <a:pt x="862" y="1098"/>
                  </a:lnTo>
                  <a:lnTo>
                    <a:pt x="803" y="1089"/>
                  </a:lnTo>
                  <a:lnTo>
                    <a:pt x="747" y="1078"/>
                  </a:lnTo>
                  <a:lnTo>
                    <a:pt x="692" y="1067"/>
                  </a:lnTo>
                  <a:lnTo>
                    <a:pt x="639" y="1054"/>
                  </a:lnTo>
                  <a:lnTo>
                    <a:pt x="589" y="1040"/>
                  </a:lnTo>
                  <a:lnTo>
                    <a:pt x="540" y="1025"/>
                  </a:lnTo>
                  <a:lnTo>
                    <a:pt x="493" y="1009"/>
                  </a:lnTo>
                  <a:lnTo>
                    <a:pt x="449" y="992"/>
                  </a:lnTo>
                  <a:lnTo>
                    <a:pt x="407" y="974"/>
                  </a:lnTo>
                  <a:lnTo>
                    <a:pt x="365" y="955"/>
                  </a:lnTo>
                  <a:lnTo>
                    <a:pt x="327" y="934"/>
                  </a:lnTo>
                  <a:lnTo>
                    <a:pt x="290" y="914"/>
                  </a:lnTo>
                  <a:lnTo>
                    <a:pt x="256" y="892"/>
                  </a:lnTo>
                  <a:lnTo>
                    <a:pt x="223" y="869"/>
                  </a:lnTo>
                  <a:lnTo>
                    <a:pt x="193" y="845"/>
                  </a:lnTo>
                  <a:lnTo>
                    <a:pt x="166" y="819"/>
                  </a:lnTo>
                  <a:lnTo>
                    <a:pt x="140" y="794"/>
                  </a:lnTo>
                  <a:lnTo>
                    <a:pt x="116" y="767"/>
                  </a:lnTo>
                  <a:lnTo>
                    <a:pt x="95" y="740"/>
                  </a:lnTo>
                  <a:lnTo>
                    <a:pt x="76" y="711"/>
                  </a:lnTo>
                  <a:lnTo>
                    <a:pt x="60" y="682"/>
                  </a:lnTo>
                  <a:lnTo>
                    <a:pt x="45" y="652"/>
                  </a:lnTo>
                  <a:lnTo>
                    <a:pt x="33" y="621"/>
                  </a:lnTo>
                  <a:lnTo>
                    <a:pt x="23" y="589"/>
                  </a:lnTo>
                  <a:lnTo>
                    <a:pt x="16" y="5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59760" y="2735280"/>
              <a:ext cx="3020400" cy="2719800"/>
            </a:xfrm>
            <a:custGeom>
              <a:avLst/>
              <a:gdLst/>
              <a:ahLst/>
              <a:rect l="l" t="t" r="r" b="b"/>
              <a:pathLst>
                <a:path w="2623" h="1106">
                  <a:moveTo>
                    <a:pt x="1306" y="1106"/>
                  </a:moveTo>
                  <a:lnTo>
                    <a:pt x="1368" y="1106"/>
                  </a:lnTo>
                  <a:lnTo>
                    <a:pt x="1431" y="1104"/>
                  </a:lnTo>
                  <a:lnTo>
                    <a:pt x="1491" y="1102"/>
                  </a:lnTo>
                  <a:lnTo>
                    <a:pt x="1550" y="1098"/>
                  </a:lnTo>
                  <a:lnTo>
                    <a:pt x="1608" y="1094"/>
                  </a:lnTo>
                  <a:lnTo>
                    <a:pt x="1666" y="1088"/>
                  </a:lnTo>
                  <a:lnTo>
                    <a:pt x="1721" y="1081"/>
                  </a:lnTo>
                  <a:lnTo>
                    <a:pt x="1775" y="1073"/>
                  </a:lnTo>
                  <a:lnTo>
                    <a:pt x="1828" y="1065"/>
                  </a:lnTo>
                  <a:lnTo>
                    <a:pt x="1880" y="1055"/>
                  </a:lnTo>
                  <a:lnTo>
                    <a:pt x="1931" y="1044"/>
                  </a:lnTo>
                  <a:lnTo>
                    <a:pt x="1979" y="1033"/>
                  </a:lnTo>
                  <a:lnTo>
                    <a:pt x="2028" y="1020"/>
                  </a:lnTo>
                  <a:lnTo>
                    <a:pt x="2072" y="1006"/>
                  </a:lnTo>
                  <a:lnTo>
                    <a:pt x="2117" y="991"/>
                  </a:lnTo>
                  <a:lnTo>
                    <a:pt x="2160" y="976"/>
                  </a:lnTo>
                  <a:lnTo>
                    <a:pt x="2202" y="959"/>
                  </a:lnTo>
                  <a:lnTo>
                    <a:pt x="2241" y="942"/>
                  </a:lnTo>
                  <a:lnTo>
                    <a:pt x="2279" y="923"/>
                  </a:lnTo>
                  <a:lnTo>
                    <a:pt x="2316" y="904"/>
                  </a:lnTo>
                  <a:lnTo>
                    <a:pt x="2350" y="884"/>
                  </a:lnTo>
                  <a:lnTo>
                    <a:pt x="2382" y="862"/>
                  </a:lnTo>
                  <a:lnTo>
                    <a:pt x="2414" y="841"/>
                  </a:lnTo>
                  <a:lnTo>
                    <a:pt x="2442" y="817"/>
                  </a:lnTo>
                  <a:lnTo>
                    <a:pt x="2470" y="793"/>
                  </a:lnTo>
                  <a:lnTo>
                    <a:pt x="2495" y="768"/>
                  </a:lnTo>
                  <a:lnTo>
                    <a:pt x="2518" y="742"/>
                  </a:lnTo>
                  <a:lnTo>
                    <a:pt x="2540" y="715"/>
                  </a:lnTo>
                  <a:lnTo>
                    <a:pt x="2559" y="687"/>
                  </a:lnTo>
                  <a:lnTo>
                    <a:pt x="2576" y="659"/>
                  </a:lnTo>
                  <a:lnTo>
                    <a:pt x="2592" y="629"/>
                  </a:lnTo>
                  <a:lnTo>
                    <a:pt x="2605" y="599"/>
                  </a:lnTo>
                  <a:lnTo>
                    <a:pt x="2618" y="557"/>
                  </a:lnTo>
                  <a:lnTo>
                    <a:pt x="2623" y="512"/>
                  </a:lnTo>
                  <a:lnTo>
                    <a:pt x="2623" y="465"/>
                  </a:lnTo>
                  <a:lnTo>
                    <a:pt x="2620" y="419"/>
                  </a:lnTo>
                  <a:lnTo>
                    <a:pt x="2613" y="375"/>
                  </a:lnTo>
                  <a:lnTo>
                    <a:pt x="2604" y="336"/>
                  </a:lnTo>
                  <a:lnTo>
                    <a:pt x="2593" y="304"/>
                  </a:lnTo>
                  <a:lnTo>
                    <a:pt x="2583" y="281"/>
                  </a:lnTo>
                  <a:lnTo>
                    <a:pt x="2569" y="259"/>
                  </a:lnTo>
                  <a:lnTo>
                    <a:pt x="2553" y="237"/>
                  </a:lnTo>
                  <a:lnTo>
                    <a:pt x="2535" y="218"/>
                  </a:lnTo>
                  <a:lnTo>
                    <a:pt x="2514" y="198"/>
                  </a:lnTo>
                  <a:lnTo>
                    <a:pt x="2492" y="181"/>
                  </a:lnTo>
                  <a:lnTo>
                    <a:pt x="2467" y="164"/>
                  </a:lnTo>
                  <a:lnTo>
                    <a:pt x="2440" y="149"/>
                  </a:lnTo>
                  <a:lnTo>
                    <a:pt x="2411" y="134"/>
                  </a:lnTo>
                  <a:lnTo>
                    <a:pt x="2380" y="120"/>
                  </a:lnTo>
                  <a:lnTo>
                    <a:pt x="2347" y="107"/>
                  </a:lnTo>
                  <a:lnTo>
                    <a:pt x="2313" y="96"/>
                  </a:lnTo>
                  <a:lnTo>
                    <a:pt x="2276" y="84"/>
                  </a:lnTo>
                  <a:lnTo>
                    <a:pt x="2238" y="74"/>
                  </a:lnTo>
                  <a:lnTo>
                    <a:pt x="2199" y="65"/>
                  </a:lnTo>
                  <a:lnTo>
                    <a:pt x="2159" y="56"/>
                  </a:lnTo>
                  <a:lnTo>
                    <a:pt x="2116" y="48"/>
                  </a:lnTo>
                  <a:lnTo>
                    <a:pt x="2072" y="41"/>
                  </a:lnTo>
                  <a:lnTo>
                    <a:pt x="2029" y="35"/>
                  </a:lnTo>
                  <a:lnTo>
                    <a:pt x="1983" y="29"/>
                  </a:lnTo>
                  <a:lnTo>
                    <a:pt x="1935" y="24"/>
                  </a:lnTo>
                  <a:lnTo>
                    <a:pt x="1887" y="20"/>
                  </a:lnTo>
                  <a:lnTo>
                    <a:pt x="1837" y="16"/>
                  </a:lnTo>
                  <a:lnTo>
                    <a:pt x="1788" y="13"/>
                  </a:lnTo>
                  <a:lnTo>
                    <a:pt x="1736" y="9"/>
                  </a:lnTo>
                  <a:lnTo>
                    <a:pt x="1684" y="7"/>
                  </a:lnTo>
                  <a:lnTo>
                    <a:pt x="1632" y="5"/>
                  </a:lnTo>
                  <a:lnTo>
                    <a:pt x="1579" y="3"/>
                  </a:lnTo>
                  <a:lnTo>
                    <a:pt x="1525" y="2"/>
                  </a:lnTo>
                  <a:lnTo>
                    <a:pt x="1471" y="1"/>
                  </a:lnTo>
                  <a:lnTo>
                    <a:pt x="1417" y="0"/>
                  </a:lnTo>
                  <a:lnTo>
                    <a:pt x="1362" y="0"/>
                  </a:lnTo>
                  <a:lnTo>
                    <a:pt x="1306" y="0"/>
                  </a:lnTo>
                  <a:lnTo>
                    <a:pt x="1250" y="0"/>
                  </a:lnTo>
                  <a:lnTo>
                    <a:pt x="1193" y="0"/>
                  </a:lnTo>
                  <a:lnTo>
                    <a:pt x="1138" y="1"/>
                  </a:lnTo>
                  <a:lnTo>
                    <a:pt x="1083" y="1"/>
                  </a:lnTo>
                  <a:lnTo>
                    <a:pt x="1027" y="2"/>
                  </a:lnTo>
                  <a:lnTo>
                    <a:pt x="973" y="3"/>
                  </a:lnTo>
                  <a:lnTo>
                    <a:pt x="920" y="6"/>
                  </a:lnTo>
                  <a:lnTo>
                    <a:pt x="867" y="7"/>
                  </a:lnTo>
                  <a:lnTo>
                    <a:pt x="814" y="9"/>
                  </a:lnTo>
                  <a:lnTo>
                    <a:pt x="763" y="13"/>
                  </a:lnTo>
                  <a:lnTo>
                    <a:pt x="713" y="16"/>
                  </a:lnTo>
                  <a:lnTo>
                    <a:pt x="664" y="21"/>
                  </a:lnTo>
                  <a:lnTo>
                    <a:pt x="616" y="25"/>
                  </a:lnTo>
                  <a:lnTo>
                    <a:pt x="569" y="30"/>
                  </a:lnTo>
                  <a:lnTo>
                    <a:pt x="524" y="36"/>
                  </a:lnTo>
                  <a:lnTo>
                    <a:pt x="479" y="43"/>
                  </a:lnTo>
                  <a:lnTo>
                    <a:pt x="436" y="51"/>
                  </a:lnTo>
                  <a:lnTo>
                    <a:pt x="395" y="59"/>
                  </a:lnTo>
                  <a:lnTo>
                    <a:pt x="356" y="68"/>
                  </a:lnTo>
                  <a:lnTo>
                    <a:pt x="318" y="77"/>
                  </a:lnTo>
                  <a:lnTo>
                    <a:pt x="282" y="89"/>
                  </a:lnTo>
                  <a:lnTo>
                    <a:pt x="247" y="100"/>
                  </a:lnTo>
                  <a:lnTo>
                    <a:pt x="215" y="113"/>
                  </a:lnTo>
                  <a:lnTo>
                    <a:pt x="185" y="127"/>
                  </a:lnTo>
                  <a:lnTo>
                    <a:pt x="157" y="142"/>
                  </a:lnTo>
                  <a:lnTo>
                    <a:pt x="131" y="158"/>
                  </a:lnTo>
                  <a:lnTo>
                    <a:pt x="108" y="175"/>
                  </a:lnTo>
                  <a:lnTo>
                    <a:pt x="87" y="193"/>
                  </a:lnTo>
                  <a:lnTo>
                    <a:pt x="67" y="213"/>
                  </a:lnTo>
                  <a:lnTo>
                    <a:pt x="51" y="234"/>
                  </a:lnTo>
                  <a:lnTo>
                    <a:pt x="38" y="257"/>
                  </a:lnTo>
                  <a:lnTo>
                    <a:pt x="27" y="280"/>
                  </a:lnTo>
                  <a:lnTo>
                    <a:pt x="14" y="318"/>
                  </a:lnTo>
                  <a:lnTo>
                    <a:pt x="5" y="352"/>
                  </a:lnTo>
                  <a:lnTo>
                    <a:pt x="1" y="386"/>
                  </a:lnTo>
                  <a:lnTo>
                    <a:pt x="0" y="418"/>
                  </a:lnTo>
                  <a:lnTo>
                    <a:pt x="1" y="449"/>
                  </a:lnTo>
                  <a:lnTo>
                    <a:pt x="4" y="480"/>
                  </a:lnTo>
                  <a:lnTo>
                    <a:pt x="9" y="511"/>
                  </a:lnTo>
                  <a:lnTo>
                    <a:pt x="14" y="543"/>
                  </a:lnTo>
                  <a:lnTo>
                    <a:pt x="23" y="578"/>
                  </a:lnTo>
                  <a:lnTo>
                    <a:pt x="33" y="613"/>
                  </a:lnTo>
                  <a:lnTo>
                    <a:pt x="47" y="645"/>
                  </a:lnTo>
                  <a:lnTo>
                    <a:pt x="63" y="677"/>
                  </a:lnTo>
                  <a:lnTo>
                    <a:pt x="81" y="707"/>
                  </a:lnTo>
                  <a:lnTo>
                    <a:pt x="102" y="737"/>
                  </a:lnTo>
                  <a:lnTo>
                    <a:pt x="126" y="765"/>
                  </a:lnTo>
                  <a:lnTo>
                    <a:pt x="152" y="792"/>
                  </a:lnTo>
                  <a:lnTo>
                    <a:pt x="179" y="817"/>
                  </a:lnTo>
                  <a:lnTo>
                    <a:pt x="209" y="843"/>
                  </a:lnTo>
                  <a:lnTo>
                    <a:pt x="243" y="866"/>
                  </a:lnTo>
                  <a:lnTo>
                    <a:pt x="276" y="889"/>
                  </a:lnTo>
                  <a:lnTo>
                    <a:pt x="313" y="910"/>
                  </a:lnTo>
                  <a:lnTo>
                    <a:pt x="351" y="930"/>
                  </a:lnTo>
                  <a:lnTo>
                    <a:pt x="391" y="950"/>
                  </a:lnTo>
                  <a:lnTo>
                    <a:pt x="434" y="967"/>
                  </a:lnTo>
                  <a:lnTo>
                    <a:pt x="478" y="984"/>
                  </a:lnTo>
                  <a:lnTo>
                    <a:pt x="524" y="1001"/>
                  </a:lnTo>
                  <a:lnTo>
                    <a:pt x="571" y="1014"/>
                  </a:lnTo>
                  <a:lnTo>
                    <a:pt x="619" y="1028"/>
                  </a:lnTo>
                  <a:lnTo>
                    <a:pt x="670" y="1041"/>
                  </a:lnTo>
                  <a:lnTo>
                    <a:pt x="722" y="1052"/>
                  </a:lnTo>
                  <a:lnTo>
                    <a:pt x="775" y="1063"/>
                  </a:lnTo>
                  <a:lnTo>
                    <a:pt x="829" y="1072"/>
                  </a:lnTo>
                  <a:lnTo>
                    <a:pt x="886" y="1080"/>
                  </a:lnTo>
                  <a:lnTo>
                    <a:pt x="942" y="1087"/>
                  </a:lnTo>
                  <a:lnTo>
                    <a:pt x="1001" y="1093"/>
                  </a:lnTo>
                  <a:lnTo>
                    <a:pt x="1060" y="1098"/>
                  </a:lnTo>
                  <a:lnTo>
                    <a:pt x="1120" y="1102"/>
                  </a:lnTo>
                  <a:lnTo>
                    <a:pt x="1182" y="1104"/>
                  </a:lnTo>
                  <a:lnTo>
                    <a:pt x="1243" y="1106"/>
                  </a:lnTo>
                  <a:lnTo>
                    <a:pt x="1306" y="1106"/>
                  </a:lnTo>
                  <a:close/>
                </a:path>
              </a:pathLst>
            </a:custGeom>
            <a:solidFill>
              <a:srgbClr val="3f9e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64440" y="2247840"/>
              <a:ext cx="2999520" cy="2725560"/>
            </a:xfrm>
            <a:custGeom>
              <a:avLst/>
              <a:gdLst/>
              <a:ahLst/>
              <a:rect l="l" t="t" r="r" b="b"/>
              <a:pathLst>
                <a:path w="2605" h="1109">
                  <a:moveTo>
                    <a:pt x="0" y="555"/>
                  </a:moveTo>
                  <a:lnTo>
                    <a:pt x="1" y="527"/>
                  </a:lnTo>
                  <a:lnTo>
                    <a:pt x="6" y="501"/>
                  </a:lnTo>
                  <a:lnTo>
                    <a:pt x="14" y="474"/>
                  </a:lnTo>
                  <a:lnTo>
                    <a:pt x="25" y="448"/>
                  </a:lnTo>
                  <a:lnTo>
                    <a:pt x="39" y="421"/>
                  </a:lnTo>
                  <a:lnTo>
                    <a:pt x="56" y="395"/>
                  </a:lnTo>
                  <a:lnTo>
                    <a:pt x="77" y="370"/>
                  </a:lnTo>
                  <a:lnTo>
                    <a:pt x="101" y="344"/>
                  </a:lnTo>
                  <a:lnTo>
                    <a:pt x="121" y="325"/>
                  </a:lnTo>
                  <a:lnTo>
                    <a:pt x="143" y="306"/>
                  </a:lnTo>
                  <a:lnTo>
                    <a:pt x="166" y="288"/>
                  </a:lnTo>
                  <a:lnTo>
                    <a:pt x="191" y="271"/>
                  </a:lnTo>
                  <a:lnTo>
                    <a:pt x="217" y="253"/>
                  </a:lnTo>
                  <a:lnTo>
                    <a:pt x="244" y="236"/>
                  </a:lnTo>
                  <a:lnTo>
                    <a:pt x="273" y="220"/>
                  </a:lnTo>
                  <a:lnTo>
                    <a:pt x="303" y="204"/>
                  </a:lnTo>
                  <a:lnTo>
                    <a:pt x="335" y="188"/>
                  </a:lnTo>
                  <a:lnTo>
                    <a:pt x="368" y="173"/>
                  </a:lnTo>
                  <a:lnTo>
                    <a:pt x="402" y="159"/>
                  </a:lnTo>
                  <a:lnTo>
                    <a:pt x="437" y="145"/>
                  </a:lnTo>
                  <a:lnTo>
                    <a:pt x="472" y="131"/>
                  </a:lnTo>
                  <a:lnTo>
                    <a:pt x="509" y="119"/>
                  </a:lnTo>
                  <a:lnTo>
                    <a:pt x="547" y="106"/>
                  </a:lnTo>
                  <a:lnTo>
                    <a:pt x="586" y="94"/>
                  </a:lnTo>
                  <a:lnTo>
                    <a:pt x="627" y="84"/>
                  </a:lnTo>
                  <a:lnTo>
                    <a:pt x="667" y="74"/>
                  </a:lnTo>
                  <a:lnTo>
                    <a:pt x="710" y="63"/>
                  </a:lnTo>
                  <a:lnTo>
                    <a:pt x="751" y="54"/>
                  </a:lnTo>
                  <a:lnTo>
                    <a:pt x="795" y="46"/>
                  </a:lnTo>
                  <a:lnTo>
                    <a:pt x="839" y="38"/>
                  </a:lnTo>
                  <a:lnTo>
                    <a:pt x="883" y="31"/>
                  </a:lnTo>
                  <a:lnTo>
                    <a:pt x="928" y="25"/>
                  </a:lnTo>
                  <a:lnTo>
                    <a:pt x="974" y="20"/>
                  </a:lnTo>
                  <a:lnTo>
                    <a:pt x="1020" y="14"/>
                  </a:lnTo>
                  <a:lnTo>
                    <a:pt x="1066" y="10"/>
                  </a:lnTo>
                  <a:lnTo>
                    <a:pt x="1113" y="7"/>
                  </a:lnTo>
                  <a:lnTo>
                    <a:pt x="1160" y="3"/>
                  </a:lnTo>
                  <a:lnTo>
                    <a:pt x="1208" y="1"/>
                  </a:lnTo>
                  <a:lnTo>
                    <a:pt x="1255" y="0"/>
                  </a:lnTo>
                  <a:lnTo>
                    <a:pt x="1303" y="0"/>
                  </a:lnTo>
                  <a:lnTo>
                    <a:pt x="1352" y="0"/>
                  </a:lnTo>
                  <a:lnTo>
                    <a:pt x="1399" y="1"/>
                  </a:lnTo>
                  <a:lnTo>
                    <a:pt x="1446" y="3"/>
                  </a:lnTo>
                  <a:lnTo>
                    <a:pt x="1493" y="7"/>
                  </a:lnTo>
                  <a:lnTo>
                    <a:pt x="1541" y="10"/>
                  </a:lnTo>
                  <a:lnTo>
                    <a:pt x="1587" y="14"/>
                  </a:lnTo>
                  <a:lnTo>
                    <a:pt x="1633" y="20"/>
                  </a:lnTo>
                  <a:lnTo>
                    <a:pt x="1678" y="25"/>
                  </a:lnTo>
                  <a:lnTo>
                    <a:pt x="1723" y="31"/>
                  </a:lnTo>
                  <a:lnTo>
                    <a:pt x="1768" y="38"/>
                  </a:lnTo>
                  <a:lnTo>
                    <a:pt x="1811" y="46"/>
                  </a:lnTo>
                  <a:lnTo>
                    <a:pt x="1854" y="54"/>
                  </a:lnTo>
                  <a:lnTo>
                    <a:pt x="1897" y="63"/>
                  </a:lnTo>
                  <a:lnTo>
                    <a:pt x="1938" y="74"/>
                  </a:lnTo>
                  <a:lnTo>
                    <a:pt x="1978" y="84"/>
                  </a:lnTo>
                  <a:lnTo>
                    <a:pt x="2019" y="94"/>
                  </a:lnTo>
                  <a:lnTo>
                    <a:pt x="2058" y="106"/>
                  </a:lnTo>
                  <a:lnTo>
                    <a:pt x="2096" y="119"/>
                  </a:lnTo>
                  <a:lnTo>
                    <a:pt x="2133" y="131"/>
                  </a:lnTo>
                  <a:lnTo>
                    <a:pt x="2169" y="145"/>
                  </a:lnTo>
                  <a:lnTo>
                    <a:pt x="2204" y="159"/>
                  </a:lnTo>
                  <a:lnTo>
                    <a:pt x="2238" y="173"/>
                  </a:lnTo>
                  <a:lnTo>
                    <a:pt x="2270" y="188"/>
                  </a:lnTo>
                  <a:lnTo>
                    <a:pt x="2302" y="204"/>
                  </a:lnTo>
                  <a:lnTo>
                    <a:pt x="2332" y="220"/>
                  </a:lnTo>
                  <a:lnTo>
                    <a:pt x="2361" y="236"/>
                  </a:lnTo>
                  <a:lnTo>
                    <a:pt x="2389" y="253"/>
                  </a:lnTo>
                  <a:lnTo>
                    <a:pt x="2414" y="271"/>
                  </a:lnTo>
                  <a:lnTo>
                    <a:pt x="2439" y="288"/>
                  </a:lnTo>
                  <a:lnTo>
                    <a:pt x="2462" y="306"/>
                  </a:lnTo>
                  <a:lnTo>
                    <a:pt x="2484" y="325"/>
                  </a:lnTo>
                  <a:lnTo>
                    <a:pt x="2504" y="344"/>
                  </a:lnTo>
                  <a:lnTo>
                    <a:pt x="2527" y="370"/>
                  </a:lnTo>
                  <a:lnTo>
                    <a:pt x="2548" y="395"/>
                  </a:lnTo>
                  <a:lnTo>
                    <a:pt x="2565" y="421"/>
                  </a:lnTo>
                  <a:lnTo>
                    <a:pt x="2580" y="448"/>
                  </a:lnTo>
                  <a:lnTo>
                    <a:pt x="2590" y="474"/>
                  </a:lnTo>
                  <a:lnTo>
                    <a:pt x="2598" y="501"/>
                  </a:lnTo>
                  <a:lnTo>
                    <a:pt x="2604" y="527"/>
                  </a:lnTo>
                  <a:lnTo>
                    <a:pt x="2605" y="555"/>
                  </a:lnTo>
                  <a:lnTo>
                    <a:pt x="2603" y="583"/>
                  </a:lnTo>
                  <a:lnTo>
                    <a:pt x="2598" y="610"/>
                  </a:lnTo>
                  <a:lnTo>
                    <a:pt x="2590" y="638"/>
                  </a:lnTo>
                  <a:lnTo>
                    <a:pt x="2579" y="664"/>
                  </a:lnTo>
                  <a:lnTo>
                    <a:pt x="2564" y="691"/>
                  </a:lnTo>
                  <a:lnTo>
                    <a:pt x="2545" y="717"/>
                  </a:lnTo>
                  <a:lnTo>
                    <a:pt x="2525" y="743"/>
                  </a:lnTo>
                  <a:lnTo>
                    <a:pt x="2502" y="768"/>
                  </a:lnTo>
                  <a:lnTo>
                    <a:pt x="2475" y="792"/>
                  </a:lnTo>
                  <a:lnTo>
                    <a:pt x="2445" y="816"/>
                  </a:lnTo>
                  <a:lnTo>
                    <a:pt x="2414" y="839"/>
                  </a:lnTo>
                  <a:lnTo>
                    <a:pt x="2379" y="861"/>
                  </a:lnTo>
                  <a:lnTo>
                    <a:pt x="2343" y="883"/>
                  </a:lnTo>
                  <a:lnTo>
                    <a:pt x="2303" y="905"/>
                  </a:lnTo>
                  <a:lnTo>
                    <a:pt x="2262" y="925"/>
                  </a:lnTo>
                  <a:lnTo>
                    <a:pt x="2219" y="944"/>
                  </a:lnTo>
                  <a:lnTo>
                    <a:pt x="2173" y="963"/>
                  </a:lnTo>
                  <a:lnTo>
                    <a:pt x="2126" y="980"/>
                  </a:lnTo>
                  <a:lnTo>
                    <a:pt x="2076" y="997"/>
                  </a:lnTo>
                  <a:lnTo>
                    <a:pt x="2025" y="1012"/>
                  </a:lnTo>
                  <a:lnTo>
                    <a:pt x="1973" y="1027"/>
                  </a:lnTo>
                  <a:lnTo>
                    <a:pt x="1917" y="1041"/>
                  </a:lnTo>
                  <a:lnTo>
                    <a:pt x="1862" y="1053"/>
                  </a:lnTo>
                  <a:lnTo>
                    <a:pt x="1804" y="1064"/>
                  </a:lnTo>
                  <a:lnTo>
                    <a:pt x="1746" y="1074"/>
                  </a:lnTo>
                  <a:lnTo>
                    <a:pt x="1686" y="1083"/>
                  </a:lnTo>
                  <a:lnTo>
                    <a:pt x="1624" y="1091"/>
                  </a:lnTo>
                  <a:lnTo>
                    <a:pt x="1561" y="1097"/>
                  </a:lnTo>
                  <a:lnTo>
                    <a:pt x="1498" y="1102"/>
                  </a:lnTo>
                  <a:lnTo>
                    <a:pt x="1435" y="1105"/>
                  </a:lnTo>
                  <a:lnTo>
                    <a:pt x="1369" y="1108"/>
                  </a:lnTo>
                  <a:lnTo>
                    <a:pt x="1303" y="1109"/>
                  </a:lnTo>
                  <a:lnTo>
                    <a:pt x="1255" y="1109"/>
                  </a:lnTo>
                  <a:lnTo>
                    <a:pt x="1208" y="1108"/>
                  </a:lnTo>
                  <a:lnTo>
                    <a:pt x="1160" y="1105"/>
                  </a:lnTo>
                  <a:lnTo>
                    <a:pt x="1113" y="1102"/>
                  </a:lnTo>
                  <a:lnTo>
                    <a:pt x="1066" y="1098"/>
                  </a:lnTo>
                  <a:lnTo>
                    <a:pt x="1020" y="1095"/>
                  </a:lnTo>
                  <a:lnTo>
                    <a:pt x="974" y="1089"/>
                  </a:lnTo>
                  <a:lnTo>
                    <a:pt x="928" y="1083"/>
                  </a:lnTo>
                  <a:lnTo>
                    <a:pt x="883" y="1078"/>
                  </a:lnTo>
                  <a:lnTo>
                    <a:pt x="839" y="1071"/>
                  </a:lnTo>
                  <a:lnTo>
                    <a:pt x="795" y="1063"/>
                  </a:lnTo>
                  <a:lnTo>
                    <a:pt x="751" y="1055"/>
                  </a:lnTo>
                  <a:lnTo>
                    <a:pt x="710" y="1045"/>
                  </a:lnTo>
                  <a:lnTo>
                    <a:pt x="667" y="1035"/>
                  </a:lnTo>
                  <a:lnTo>
                    <a:pt x="627" y="1025"/>
                  </a:lnTo>
                  <a:lnTo>
                    <a:pt x="586" y="1014"/>
                  </a:lnTo>
                  <a:lnTo>
                    <a:pt x="547" y="1003"/>
                  </a:lnTo>
                  <a:lnTo>
                    <a:pt x="509" y="990"/>
                  </a:lnTo>
                  <a:lnTo>
                    <a:pt x="472" y="978"/>
                  </a:lnTo>
                  <a:lnTo>
                    <a:pt x="437" y="965"/>
                  </a:lnTo>
                  <a:lnTo>
                    <a:pt x="402" y="950"/>
                  </a:lnTo>
                  <a:lnTo>
                    <a:pt x="368" y="936"/>
                  </a:lnTo>
                  <a:lnTo>
                    <a:pt x="335" y="921"/>
                  </a:lnTo>
                  <a:lnTo>
                    <a:pt x="303" y="906"/>
                  </a:lnTo>
                  <a:lnTo>
                    <a:pt x="273" y="890"/>
                  </a:lnTo>
                  <a:lnTo>
                    <a:pt x="244" y="874"/>
                  </a:lnTo>
                  <a:lnTo>
                    <a:pt x="217" y="857"/>
                  </a:lnTo>
                  <a:lnTo>
                    <a:pt x="191" y="839"/>
                  </a:lnTo>
                  <a:lnTo>
                    <a:pt x="166" y="821"/>
                  </a:lnTo>
                  <a:lnTo>
                    <a:pt x="143" y="804"/>
                  </a:lnTo>
                  <a:lnTo>
                    <a:pt x="121" y="785"/>
                  </a:lnTo>
                  <a:lnTo>
                    <a:pt x="101" y="766"/>
                  </a:lnTo>
                  <a:lnTo>
                    <a:pt x="77" y="740"/>
                  </a:lnTo>
                  <a:lnTo>
                    <a:pt x="56" y="715"/>
                  </a:lnTo>
                  <a:lnTo>
                    <a:pt x="39" y="689"/>
                  </a:lnTo>
                  <a:lnTo>
                    <a:pt x="25" y="662"/>
                  </a:lnTo>
                  <a:lnTo>
                    <a:pt x="14" y="636"/>
                  </a:lnTo>
                  <a:lnTo>
                    <a:pt x="6" y="609"/>
                  </a:lnTo>
                  <a:lnTo>
                    <a:pt x="1" y="583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8120" y="2277720"/>
              <a:ext cx="2971800" cy="2670840"/>
            </a:xfrm>
            <a:custGeom>
              <a:avLst/>
              <a:gdLst/>
              <a:ahLst/>
              <a:rect l="l" t="t" r="r" b="b"/>
              <a:pathLst>
                <a:path w="2583" h="1084">
                  <a:moveTo>
                    <a:pt x="1292" y="1084"/>
                  </a:moveTo>
                  <a:lnTo>
                    <a:pt x="1356" y="1083"/>
                  </a:lnTo>
                  <a:lnTo>
                    <a:pt x="1418" y="1082"/>
                  </a:lnTo>
                  <a:lnTo>
                    <a:pt x="1480" y="1078"/>
                  </a:lnTo>
                  <a:lnTo>
                    <a:pt x="1541" y="1073"/>
                  </a:lnTo>
                  <a:lnTo>
                    <a:pt x="1602" y="1067"/>
                  </a:lnTo>
                  <a:lnTo>
                    <a:pt x="1662" y="1060"/>
                  </a:lnTo>
                  <a:lnTo>
                    <a:pt x="1721" y="1051"/>
                  </a:lnTo>
                  <a:lnTo>
                    <a:pt x="1778" y="1042"/>
                  </a:lnTo>
                  <a:lnTo>
                    <a:pt x="1835" y="1031"/>
                  </a:lnTo>
                  <a:lnTo>
                    <a:pt x="1890" y="1019"/>
                  </a:lnTo>
                  <a:lnTo>
                    <a:pt x="1944" y="1006"/>
                  </a:lnTo>
                  <a:lnTo>
                    <a:pt x="1996" y="992"/>
                  </a:lnTo>
                  <a:lnTo>
                    <a:pt x="2048" y="976"/>
                  </a:lnTo>
                  <a:lnTo>
                    <a:pt x="2097" y="960"/>
                  </a:lnTo>
                  <a:lnTo>
                    <a:pt x="2145" y="944"/>
                  </a:lnTo>
                  <a:lnTo>
                    <a:pt x="2190" y="925"/>
                  </a:lnTo>
                  <a:lnTo>
                    <a:pt x="2234" y="907"/>
                  </a:lnTo>
                  <a:lnTo>
                    <a:pt x="2275" y="887"/>
                  </a:lnTo>
                  <a:lnTo>
                    <a:pt x="2315" y="867"/>
                  </a:lnTo>
                  <a:lnTo>
                    <a:pt x="2352" y="845"/>
                  </a:lnTo>
                  <a:lnTo>
                    <a:pt x="2387" y="823"/>
                  </a:lnTo>
                  <a:lnTo>
                    <a:pt x="2419" y="800"/>
                  </a:lnTo>
                  <a:lnTo>
                    <a:pt x="2449" y="777"/>
                  </a:lnTo>
                  <a:lnTo>
                    <a:pt x="2476" y="753"/>
                  </a:lnTo>
                  <a:lnTo>
                    <a:pt x="2500" y="728"/>
                  </a:lnTo>
                  <a:lnTo>
                    <a:pt x="2522" y="703"/>
                  </a:lnTo>
                  <a:lnTo>
                    <a:pt x="2540" y="678"/>
                  </a:lnTo>
                  <a:lnTo>
                    <a:pt x="2555" y="651"/>
                  </a:lnTo>
                  <a:lnTo>
                    <a:pt x="2567" y="625"/>
                  </a:lnTo>
                  <a:lnTo>
                    <a:pt x="2576" y="597"/>
                  </a:lnTo>
                  <a:lnTo>
                    <a:pt x="2580" y="570"/>
                  </a:lnTo>
                  <a:lnTo>
                    <a:pt x="2583" y="542"/>
                  </a:lnTo>
                  <a:lnTo>
                    <a:pt x="2580" y="514"/>
                  </a:lnTo>
                  <a:lnTo>
                    <a:pt x="2576" y="487"/>
                  </a:lnTo>
                  <a:lnTo>
                    <a:pt x="2567" y="459"/>
                  </a:lnTo>
                  <a:lnTo>
                    <a:pt x="2555" y="433"/>
                  </a:lnTo>
                  <a:lnTo>
                    <a:pt x="2540" y="406"/>
                  </a:lnTo>
                  <a:lnTo>
                    <a:pt x="2522" y="381"/>
                  </a:lnTo>
                  <a:lnTo>
                    <a:pt x="2500" y="355"/>
                  </a:lnTo>
                  <a:lnTo>
                    <a:pt x="2476" y="331"/>
                  </a:lnTo>
                  <a:lnTo>
                    <a:pt x="2449" y="307"/>
                  </a:lnTo>
                  <a:lnTo>
                    <a:pt x="2419" y="284"/>
                  </a:lnTo>
                  <a:lnTo>
                    <a:pt x="2387" y="261"/>
                  </a:lnTo>
                  <a:lnTo>
                    <a:pt x="2352" y="239"/>
                  </a:lnTo>
                  <a:lnTo>
                    <a:pt x="2315" y="217"/>
                  </a:lnTo>
                  <a:lnTo>
                    <a:pt x="2275" y="197"/>
                  </a:lnTo>
                  <a:lnTo>
                    <a:pt x="2234" y="177"/>
                  </a:lnTo>
                  <a:lnTo>
                    <a:pt x="2190" y="159"/>
                  </a:lnTo>
                  <a:lnTo>
                    <a:pt x="2145" y="140"/>
                  </a:lnTo>
                  <a:lnTo>
                    <a:pt x="2097" y="124"/>
                  </a:lnTo>
                  <a:lnTo>
                    <a:pt x="2048" y="108"/>
                  </a:lnTo>
                  <a:lnTo>
                    <a:pt x="1996" y="92"/>
                  </a:lnTo>
                  <a:lnTo>
                    <a:pt x="1944" y="78"/>
                  </a:lnTo>
                  <a:lnTo>
                    <a:pt x="1890" y="65"/>
                  </a:lnTo>
                  <a:lnTo>
                    <a:pt x="1835" y="53"/>
                  </a:lnTo>
                  <a:lnTo>
                    <a:pt x="1778" y="42"/>
                  </a:lnTo>
                  <a:lnTo>
                    <a:pt x="1721" y="33"/>
                  </a:lnTo>
                  <a:lnTo>
                    <a:pt x="1662" y="24"/>
                  </a:lnTo>
                  <a:lnTo>
                    <a:pt x="1602" y="17"/>
                  </a:lnTo>
                  <a:lnTo>
                    <a:pt x="1541" y="11"/>
                  </a:lnTo>
                  <a:lnTo>
                    <a:pt x="1480" y="5"/>
                  </a:lnTo>
                  <a:lnTo>
                    <a:pt x="1418" y="2"/>
                  </a:lnTo>
                  <a:lnTo>
                    <a:pt x="1356" y="1"/>
                  </a:lnTo>
                  <a:lnTo>
                    <a:pt x="1292" y="0"/>
                  </a:lnTo>
                  <a:lnTo>
                    <a:pt x="1229" y="1"/>
                  </a:lnTo>
                  <a:lnTo>
                    <a:pt x="1167" y="2"/>
                  </a:lnTo>
                  <a:lnTo>
                    <a:pt x="1104" y="5"/>
                  </a:lnTo>
                  <a:lnTo>
                    <a:pt x="1043" y="11"/>
                  </a:lnTo>
                  <a:lnTo>
                    <a:pt x="982" y="17"/>
                  </a:lnTo>
                  <a:lnTo>
                    <a:pt x="922" y="24"/>
                  </a:lnTo>
                  <a:lnTo>
                    <a:pt x="864" y="33"/>
                  </a:lnTo>
                  <a:lnTo>
                    <a:pt x="806" y="42"/>
                  </a:lnTo>
                  <a:lnTo>
                    <a:pt x="748" y="53"/>
                  </a:lnTo>
                  <a:lnTo>
                    <a:pt x="693" y="65"/>
                  </a:lnTo>
                  <a:lnTo>
                    <a:pt x="639" y="78"/>
                  </a:lnTo>
                  <a:lnTo>
                    <a:pt x="587" y="92"/>
                  </a:lnTo>
                  <a:lnTo>
                    <a:pt x="536" y="108"/>
                  </a:lnTo>
                  <a:lnTo>
                    <a:pt x="487" y="124"/>
                  </a:lnTo>
                  <a:lnTo>
                    <a:pt x="438" y="140"/>
                  </a:lnTo>
                  <a:lnTo>
                    <a:pt x="393" y="159"/>
                  </a:lnTo>
                  <a:lnTo>
                    <a:pt x="350" y="177"/>
                  </a:lnTo>
                  <a:lnTo>
                    <a:pt x="308" y="197"/>
                  </a:lnTo>
                  <a:lnTo>
                    <a:pt x="268" y="217"/>
                  </a:lnTo>
                  <a:lnTo>
                    <a:pt x="231" y="239"/>
                  </a:lnTo>
                  <a:lnTo>
                    <a:pt x="196" y="261"/>
                  </a:lnTo>
                  <a:lnTo>
                    <a:pt x="164" y="284"/>
                  </a:lnTo>
                  <a:lnTo>
                    <a:pt x="134" y="307"/>
                  </a:lnTo>
                  <a:lnTo>
                    <a:pt x="108" y="331"/>
                  </a:lnTo>
                  <a:lnTo>
                    <a:pt x="83" y="355"/>
                  </a:lnTo>
                  <a:lnTo>
                    <a:pt x="62" y="381"/>
                  </a:lnTo>
                  <a:lnTo>
                    <a:pt x="43" y="406"/>
                  </a:lnTo>
                  <a:lnTo>
                    <a:pt x="28" y="433"/>
                  </a:lnTo>
                  <a:lnTo>
                    <a:pt x="17" y="459"/>
                  </a:lnTo>
                  <a:lnTo>
                    <a:pt x="7" y="487"/>
                  </a:lnTo>
                  <a:lnTo>
                    <a:pt x="3" y="514"/>
                  </a:lnTo>
                  <a:lnTo>
                    <a:pt x="0" y="542"/>
                  </a:lnTo>
                  <a:lnTo>
                    <a:pt x="3" y="570"/>
                  </a:lnTo>
                  <a:lnTo>
                    <a:pt x="7" y="597"/>
                  </a:lnTo>
                  <a:lnTo>
                    <a:pt x="17" y="625"/>
                  </a:lnTo>
                  <a:lnTo>
                    <a:pt x="28" y="651"/>
                  </a:lnTo>
                  <a:lnTo>
                    <a:pt x="43" y="678"/>
                  </a:lnTo>
                  <a:lnTo>
                    <a:pt x="62" y="703"/>
                  </a:lnTo>
                  <a:lnTo>
                    <a:pt x="83" y="728"/>
                  </a:lnTo>
                  <a:lnTo>
                    <a:pt x="108" y="753"/>
                  </a:lnTo>
                  <a:lnTo>
                    <a:pt x="134" y="777"/>
                  </a:lnTo>
                  <a:lnTo>
                    <a:pt x="164" y="800"/>
                  </a:lnTo>
                  <a:lnTo>
                    <a:pt x="196" y="823"/>
                  </a:lnTo>
                  <a:lnTo>
                    <a:pt x="231" y="845"/>
                  </a:lnTo>
                  <a:lnTo>
                    <a:pt x="268" y="867"/>
                  </a:lnTo>
                  <a:lnTo>
                    <a:pt x="308" y="887"/>
                  </a:lnTo>
                  <a:lnTo>
                    <a:pt x="350" y="907"/>
                  </a:lnTo>
                  <a:lnTo>
                    <a:pt x="393" y="925"/>
                  </a:lnTo>
                  <a:lnTo>
                    <a:pt x="438" y="944"/>
                  </a:lnTo>
                  <a:lnTo>
                    <a:pt x="487" y="960"/>
                  </a:lnTo>
                  <a:lnTo>
                    <a:pt x="536" y="976"/>
                  </a:lnTo>
                  <a:lnTo>
                    <a:pt x="587" y="992"/>
                  </a:lnTo>
                  <a:lnTo>
                    <a:pt x="639" y="1006"/>
                  </a:lnTo>
                  <a:lnTo>
                    <a:pt x="693" y="1019"/>
                  </a:lnTo>
                  <a:lnTo>
                    <a:pt x="748" y="1031"/>
                  </a:lnTo>
                  <a:lnTo>
                    <a:pt x="806" y="1042"/>
                  </a:lnTo>
                  <a:lnTo>
                    <a:pt x="864" y="1051"/>
                  </a:lnTo>
                  <a:lnTo>
                    <a:pt x="922" y="1060"/>
                  </a:lnTo>
                  <a:lnTo>
                    <a:pt x="982" y="1067"/>
                  </a:lnTo>
                  <a:lnTo>
                    <a:pt x="1043" y="1073"/>
                  </a:lnTo>
                  <a:lnTo>
                    <a:pt x="1104" y="1078"/>
                  </a:lnTo>
                  <a:lnTo>
                    <a:pt x="1167" y="1082"/>
                  </a:lnTo>
                  <a:lnTo>
                    <a:pt x="1229" y="1083"/>
                  </a:lnTo>
                  <a:lnTo>
                    <a:pt x="1292" y="1084"/>
                  </a:lnTo>
                  <a:close/>
                </a:path>
              </a:pathLst>
            </a:custGeom>
            <a:solidFill>
              <a:srgbClr val="72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15520" y="2247840"/>
              <a:ext cx="2076480" cy="1392120"/>
            </a:xfrm>
            <a:custGeom>
              <a:avLst/>
              <a:gdLst/>
              <a:ahLst/>
              <a:rect l="l" t="t" r="r" b="b"/>
              <a:pathLst>
                <a:path w="1802" h="566">
                  <a:moveTo>
                    <a:pt x="36" y="149"/>
                  </a:moveTo>
                  <a:lnTo>
                    <a:pt x="59" y="139"/>
                  </a:lnTo>
                  <a:lnTo>
                    <a:pt x="83" y="131"/>
                  </a:lnTo>
                  <a:lnTo>
                    <a:pt x="106" y="123"/>
                  </a:lnTo>
                  <a:lnTo>
                    <a:pt x="130" y="115"/>
                  </a:lnTo>
                  <a:lnTo>
                    <a:pt x="155" y="107"/>
                  </a:lnTo>
                  <a:lnTo>
                    <a:pt x="180" y="99"/>
                  </a:lnTo>
                  <a:lnTo>
                    <a:pt x="205" y="92"/>
                  </a:lnTo>
                  <a:lnTo>
                    <a:pt x="232" y="85"/>
                  </a:lnTo>
                  <a:lnTo>
                    <a:pt x="257" y="78"/>
                  </a:lnTo>
                  <a:lnTo>
                    <a:pt x="283" y="71"/>
                  </a:lnTo>
                  <a:lnTo>
                    <a:pt x="310" y="66"/>
                  </a:lnTo>
                  <a:lnTo>
                    <a:pt x="336" y="60"/>
                  </a:lnTo>
                  <a:lnTo>
                    <a:pt x="363" y="54"/>
                  </a:lnTo>
                  <a:lnTo>
                    <a:pt x="391" y="48"/>
                  </a:lnTo>
                  <a:lnTo>
                    <a:pt x="418" y="44"/>
                  </a:lnTo>
                  <a:lnTo>
                    <a:pt x="446" y="38"/>
                  </a:lnTo>
                  <a:lnTo>
                    <a:pt x="473" y="33"/>
                  </a:lnTo>
                  <a:lnTo>
                    <a:pt x="501" y="30"/>
                  </a:lnTo>
                  <a:lnTo>
                    <a:pt x="530" y="25"/>
                  </a:lnTo>
                  <a:lnTo>
                    <a:pt x="559" y="22"/>
                  </a:lnTo>
                  <a:lnTo>
                    <a:pt x="588" y="18"/>
                  </a:lnTo>
                  <a:lnTo>
                    <a:pt x="616" y="15"/>
                  </a:lnTo>
                  <a:lnTo>
                    <a:pt x="645" y="13"/>
                  </a:lnTo>
                  <a:lnTo>
                    <a:pt x="674" y="9"/>
                  </a:lnTo>
                  <a:lnTo>
                    <a:pt x="703" y="8"/>
                  </a:lnTo>
                  <a:lnTo>
                    <a:pt x="733" y="6"/>
                  </a:lnTo>
                  <a:lnTo>
                    <a:pt x="762" y="3"/>
                  </a:lnTo>
                  <a:lnTo>
                    <a:pt x="792" y="2"/>
                  </a:lnTo>
                  <a:lnTo>
                    <a:pt x="821" y="1"/>
                  </a:lnTo>
                  <a:lnTo>
                    <a:pt x="850" y="1"/>
                  </a:lnTo>
                  <a:lnTo>
                    <a:pt x="880" y="0"/>
                  </a:lnTo>
                  <a:lnTo>
                    <a:pt x="910" y="0"/>
                  </a:lnTo>
                  <a:lnTo>
                    <a:pt x="939" y="0"/>
                  </a:lnTo>
                  <a:lnTo>
                    <a:pt x="968" y="1"/>
                  </a:lnTo>
                  <a:lnTo>
                    <a:pt x="998" y="1"/>
                  </a:lnTo>
                  <a:lnTo>
                    <a:pt x="1027" y="2"/>
                  </a:lnTo>
                  <a:lnTo>
                    <a:pt x="1055" y="3"/>
                  </a:lnTo>
                  <a:lnTo>
                    <a:pt x="1084" y="6"/>
                  </a:lnTo>
                  <a:lnTo>
                    <a:pt x="1112" y="7"/>
                  </a:lnTo>
                  <a:lnTo>
                    <a:pt x="1141" y="9"/>
                  </a:lnTo>
                  <a:lnTo>
                    <a:pt x="1169" y="12"/>
                  </a:lnTo>
                  <a:lnTo>
                    <a:pt x="1197" y="15"/>
                  </a:lnTo>
                  <a:lnTo>
                    <a:pt x="1226" y="17"/>
                  </a:lnTo>
                  <a:lnTo>
                    <a:pt x="1254" y="21"/>
                  </a:lnTo>
                  <a:lnTo>
                    <a:pt x="1282" y="24"/>
                  </a:lnTo>
                  <a:lnTo>
                    <a:pt x="1310" y="29"/>
                  </a:lnTo>
                  <a:lnTo>
                    <a:pt x="1337" y="32"/>
                  </a:lnTo>
                  <a:lnTo>
                    <a:pt x="1364" y="37"/>
                  </a:lnTo>
                  <a:lnTo>
                    <a:pt x="1392" y="41"/>
                  </a:lnTo>
                  <a:lnTo>
                    <a:pt x="1418" y="46"/>
                  </a:lnTo>
                  <a:lnTo>
                    <a:pt x="1445" y="52"/>
                  </a:lnTo>
                  <a:lnTo>
                    <a:pt x="1471" y="58"/>
                  </a:lnTo>
                  <a:lnTo>
                    <a:pt x="1498" y="63"/>
                  </a:lnTo>
                  <a:lnTo>
                    <a:pt x="1524" y="69"/>
                  </a:lnTo>
                  <a:lnTo>
                    <a:pt x="1550" y="75"/>
                  </a:lnTo>
                  <a:lnTo>
                    <a:pt x="1575" y="82"/>
                  </a:lnTo>
                  <a:lnTo>
                    <a:pt x="1600" y="89"/>
                  </a:lnTo>
                  <a:lnTo>
                    <a:pt x="1626" y="96"/>
                  </a:lnTo>
                  <a:lnTo>
                    <a:pt x="1650" y="102"/>
                  </a:lnTo>
                  <a:lnTo>
                    <a:pt x="1674" y="111"/>
                  </a:lnTo>
                  <a:lnTo>
                    <a:pt x="1698" y="117"/>
                  </a:lnTo>
                  <a:lnTo>
                    <a:pt x="1723" y="125"/>
                  </a:lnTo>
                  <a:lnTo>
                    <a:pt x="1746" y="135"/>
                  </a:lnTo>
                  <a:lnTo>
                    <a:pt x="1769" y="143"/>
                  </a:lnTo>
                  <a:lnTo>
                    <a:pt x="1772" y="144"/>
                  </a:lnTo>
                  <a:lnTo>
                    <a:pt x="1774" y="146"/>
                  </a:lnTo>
                  <a:lnTo>
                    <a:pt x="1778" y="147"/>
                  </a:lnTo>
                  <a:lnTo>
                    <a:pt x="1779" y="147"/>
                  </a:lnTo>
                  <a:lnTo>
                    <a:pt x="1802" y="159"/>
                  </a:lnTo>
                  <a:lnTo>
                    <a:pt x="1778" y="169"/>
                  </a:lnTo>
                  <a:lnTo>
                    <a:pt x="907" y="564"/>
                  </a:lnTo>
                  <a:lnTo>
                    <a:pt x="901" y="566"/>
                  </a:lnTo>
                  <a:lnTo>
                    <a:pt x="896" y="564"/>
                  </a:lnTo>
                  <a:lnTo>
                    <a:pt x="24" y="176"/>
                  </a:lnTo>
                  <a:lnTo>
                    <a:pt x="0" y="166"/>
                  </a:lnTo>
                  <a:lnTo>
                    <a:pt x="24" y="154"/>
                  </a:lnTo>
                  <a:lnTo>
                    <a:pt x="25" y="153"/>
                  </a:lnTo>
                  <a:lnTo>
                    <a:pt x="29" y="152"/>
                  </a:lnTo>
                  <a:lnTo>
                    <a:pt x="32" y="151"/>
                  </a:lnTo>
                  <a:lnTo>
                    <a:pt x="36" y="1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50080" y="2277720"/>
              <a:ext cx="2007360" cy="1333080"/>
            </a:xfrm>
            <a:custGeom>
              <a:avLst/>
              <a:gdLst/>
              <a:ahLst/>
              <a:rect l="l" t="t" r="r" b="b"/>
              <a:pathLst>
                <a:path w="1744" h="541">
                  <a:moveTo>
                    <a:pt x="0" y="152"/>
                  </a:moveTo>
                  <a:lnTo>
                    <a:pt x="872" y="541"/>
                  </a:lnTo>
                  <a:lnTo>
                    <a:pt x="1744" y="145"/>
                  </a:lnTo>
                  <a:lnTo>
                    <a:pt x="1743" y="145"/>
                  </a:lnTo>
                  <a:lnTo>
                    <a:pt x="1741" y="144"/>
                  </a:lnTo>
                  <a:lnTo>
                    <a:pt x="1739" y="142"/>
                  </a:lnTo>
                  <a:lnTo>
                    <a:pt x="1735" y="141"/>
                  </a:lnTo>
                  <a:lnTo>
                    <a:pt x="1713" y="133"/>
                  </a:lnTo>
                  <a:lnTo>
                    <a:pt x="1690" y="125"/>
                  </a:lnTo>
                  <a:lnTo>
                    <a:pt x="1668" y="117"/>
                  </a:lnTo>
                  <a:lnTo>
                    <a:pt x="1644" y="110"/>
                  </a:lnTo>
                  <a:lnTo>
                    <a:pt x="1621" y="103"/>
                  </a:lnTo>
                  <a:lnTo>
                    <a:pt x="1597" y="95"/>
                  </a:lnTo>
                  <a:lnTo>
                    <a:pt x="1573" y="88"/>
                  </a:lnTo>
                  <a:lnTo>
                    <a:pt x="1548" y="83"/>
                  </a:lnTo>
                  <a:lnTo>
                    <a:pt x="1523" y="76"/>
                  </a:lnTo>
                  <a:lnTo>
                    <a:pt x="1498" y="70"/>
                  </a:lnTo>
                  <a:lnTo>
                    <a:pt x="1472" y="64"/>
                  </a:lnTo>
                  <a:lnTo>
                    <a:pt x="1446" y="58"/>
                  </a:lnTo>
                  <a:lnTo>
                    <a:pt x="1419" y="53"/>
                  </a:lnTo>
                  <a:lnTo>
                    <a:pt x="1393" y="47"/>
                  </a:lnTo>
                  <a:lnTo>
                    <a:pt x="1366" y="42"/>
                  </a:lnTo>
                  <a:lnTo>
                    <a:pt x="1340" y="38"/>
                  </a:lnTo>
                  <a:lnTo>
                    <a:pt x="1312" y="33"/>
                  </a:lnTo>
                  <a:lnTo>
                    <a:pt x="1285" y="28"/>
                  </a:lnTo>
                  <a:lnTo>
                    <a:pt x="1257" y="25"/>
                  </a:lnTo>
                  <a:lnTo>
                    <a:pt x="1229" y="22"/>
                  </a:lnTo>
                  <a:lnTo>
                    <a:pt x="1200" y="18"/>
                  </a:lnTo>
                  <a:lnTo>
                    <a:pt x="1173" y="15"/>
                  </a:lnTo>
                  <a:lnTo>
                    <a:pt x="1144" y="12"/>
                  </a:lnTo>
                  <a:lnTo>
                    <a:pt x="1115" y="10"/>
                  </a:lnTo>
                  <a:lnTo>
                    <a:pt x="1086" y="8"/>
                  </a:lnTo>
                  <a:lnTo>
                    <a:pt x="1058" y="5"/>
                  </a:lnTo>
                  <a:lnTo>
                    <a:pt x="1029" y="3"/>
                  </a:lnTo>
                  <a:lnTo>
                    <a:pt x="999" y="2"/>
                  </a:lnTo>
                  <a:lnTo>
                    <a:pt x="970" y="1"/>
                  </a:lnTo>
                  <a:lnTo>
                    <a:pt x="940" y="1"/>
                  </a:lnTo>
                  <a:lnTo>
                    <a:pt x="911" y="0"/>
                  </a:lnTo>
                  <a:lnTo>
                    <a:pt x="881" y="0"/>
                  </a:lnTo>
                  <a:lnTo>
                    <a:pt x="851" y="0"/>
                  </a:lnTo>
                  <a:lnTo>
                    <a:pt x="820" y="1"/>
                  </a:lnTo>
                  <a:lnTo>
                    <a:pt x="790" y="1"/>
                  </a:lnTo>
                  <a:lnTo>
                    <a:pt x="760" y="2"/>
                  </a:lnTo>
                  <a:lnTo>
                    <a:pt x="730" y="4"/>
                  </a:lnTo>
                  <a:lnTo>
                    <a:pt x="700" y="5"/>
                  </a:lnTo>
                  <a:lnTo>
                    <a:pt x="671" y="8"/>
                  </a:lnTo>
                  <a:lnTo>
                    <a:pt x="642" y="10"/>
                  </a:lnTo>
                  <a:lnTo>
                    <a:pt x="613" y="12"/>
                  </a:lnTo>
                  <a:lnTo>
                    <a:pt x="583" y="16"/>
                  </a:lnTo>
                  <a:lnTo>
                    <a:pt x="554" y="19"/>
                  </a:lnTo>
                  <a:lnTo>
                    <a:pt x="525" y="23"/>
                  </a:lnTo>
                  <a:lnTo>
                    <a:pt x="497" y="26"/>
                  </a:lnTo>
                  <a:lnTo>
                    <a:pt x="469" y="31"/>
                  </a:lnTo>
                  <a:lnTo>
                    <a:pt x="441" y="34"/>
                  </a:lnTo>
                  <a:lnTo>
                    <a:pt x="413" y="39"/>
                  </a:lnTo>
                  <a:lnTo>
                    <a:pt x="386" y="45"/>
                  </a:lnTo>
                  <a:lnTo>
                    <a:pt x="358" y="49"/>
                  </a:lnTo>
                  <a:lnTo>
                    <a:pt x="332" y="55"/>
                  </a:lnTo>
                  <a:lnTo>
                    <a:pt x="304" y="61"/>
                  </a:lnTo>
                  <a:lnTo>
                    <a:pt x="279" y="66"/>
                  </a:lnTo>
                  <a:lnTo>
                    <a:pt x="252" y="72"/>
                  </a:lnTo>
                  <a:lnTo>
                    <a:pt x="227" y="79"/>
                  </a:lnTo>
                  <a:lnTo>
                    <a:pt x="201" y="86"/>
                  </a:lnTo>
                  <a:lnTo>
                    <a:pt x="176" y="93"/>
                  </a:lnTo>
                  <a:lnTo>
                    <a:pt x="151" y="100"/>
                  </a:lnTo>
                  <a:lnTo>
                    <a:pt x="126" y="107"/>
                  </a:lnTo>
                  <a:lnTo>
                    <a:pt x="102" y="115"/>
                  </a:lnTo>
                  <a:lnTo>
                    <a:pt x="79" y="123"/>
                  </a:lnTo>
                  <a:lnTo>
                    <a:pt x="56" y="131"/>
                  </a:lnTo>
                  <a:lnTo>
                    <a:pt x="33" y="139"/>
                  </a:lnTo>
                  <a:lnTo>
                    <a:pt x="11" y="147"/>
                  </a:lnTo>
                  <a:lnTo>
                    <a:pt x="8" y="148"/>
                  </a:lnTo>
                  <a:lnTo>
                    <a:pt x="4" y="149"/>
                  </a:lnTo>
                  <a:lnTo>
                    <a:pt x="1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dd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14720" y="2363760"/>
            <a:ext cx="2142720" cy="2436480"/>
            <a:chOff x="3114720" y="2363760"/>
            <a:chExt cx="2142720" cy="2436480"/>
          </a:xfrm>
        </p:grpSpPr>
        <p:sp>
          <p:nvSpPr>
            <p:cNvPr id="234" name=""/>
            <p:cNvSpPr/>
            <p:nvPr/>
          </p:nvSpPr>
          <p:spPr>
            <a:xfrm>
              <a:off x="3114720" y="2363760"/>
              <a:ext cx="2142720" cy="2436480"/>
            </a:xfrm>
            <a:custGeom>
              <a:avLst/>
              <a:gdLst/>
              <a:ahLst/>
              <a:rect l="l" t="t" r="r" b="b"/>
              <a:pathLst>
                <a:path w="770" h="1197">
                  <a:moveTo>
                    <a:pt x="263" y="323"/>
                  </a:moveTo>
                  <a:lnTo>
                    <a:pt x="340" y="242"/>
                  </a:lnTo>
                  <a:lnTo>
                    <a:pt x="477" y="293"/>
                  </a:lnTo>
                  <a:lnTo>
                    <a:pt x="465" y="428"/>
                  </a:lnTo>
                  <a:lnTo>
                    <a:pt x="299" y="533"/>
                  </a:lnTo>
                  <a:lnTo>
                    <a:pt x="269" y="830"/>
                  </a:lnTo>
                  <a:lnTo>
                    <a:pt x="299" y="922"/>
                  </a:lnTo>
                  <a:lnTo>
                    <a:pt x="245" y="1025"/>
                  </a:lnTo>
                  <a:lnTo>
                    <a:pt x="257" y="1130"/>
                  </a:lnTo>
                  <a:lnTo>
                    <a:pt x="374" y="1197"/>
                  </a:lnTo>
                  <a:lnTo>
                    <a:pt x="526" y="1149"/>
                  </a:lnTo>
                  <a:lnTo>
                    <a:pt x="574" y="1025"/>
                  </a:lnTo>
                  <a:lnTo>
                    <a:pt x="513" y="908"/>
                  </a:lnTo>
                  <a:lnTo>
                    <a:pt x="580" y="842"/>
                  </a:lnTo>
                  <a:lnTo>
                    <a:pt x="580" y="678"/>
                  </a:lnTo>
                  <a:lnTo>
                    <a:pt x="752" y="539"/>
                  </a:lnTo>
                  <a:lnTo>
                    <a:pt x="770" y="329"/>
                  </a:lnTo>
                  <a:lnTo>
                    <a:pt x="659" y="103"/>
                  </a:lnTo>
                  <a:lnTo>
                    <a:pt x="441" y="0"/>
                  </a:lnTo>
                  <a:lnTo>
                    <a:pt x="196" y="67"/>
                  </a:lnTo>
                  <a:lnTo>
                    <a:pt x="55" y="202"/>
                  </a:lnTo>
                  <a:lnTo>
                    <a:pt x="0" y="410"/>
                  </a:lnTo>
                  <a:lnTo>
                    <a:pt x="6" y="533"/>
                  </a:lnTo>
                  <a:lnTo>
                    <a:pt x="257" y="519"/>
                  </a:lnTo>
                  <a:lnTo>
                    <a:pt x="263" y="3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37120" y="2463120"/>
              <a:ext cx="1903320" cy="1699560"/>
            </a:xfrm>
            <a:custGeom>
              <a:avLst/>
              <a:gdLst/>
              <a:ahLst/>
              <a:rect l="l" t="t" r="r" b="b"/>
              <a:pathLst>
                <a:path w="684" h="835">
                  <a:moveTo>
                    <a:pt x="0" y="421"/>
                  </a:moveTo>
                  <a:lnTo>
                    <a:pt x="99" y="403"/>
                  </a:lnTo>
                  <a:lnTo>
                    <a:pt x="156" y="421"/>
                  </a:lnTo>
                  <a:lnTo>
                    <a:pt x="152" y="306"/>
                  </a:lnTo>
                  <a:lnTo>
                    <a:pt x="194" y="177"/>
                  </a:lnTo>
                  <a:lnTo>
                    <a:pt x="360" y="129"/>
                  </a:lnTo>
                  <a:lnTo>
                    <a:pt x="439" y="183"/>
                  </a:lnTo>
                  <a:lnTo>
                    <a:pt x="524" y="268"/>
                  </a:lnTo>
                  <a:lnTo>
                    <a:pt x="500" y="415"/>
                  </a:lnTo>
                  <a:lnTo>
                    <a:pt x="342" y="484"/>
                  </a:lnTo>
                  <a:lnTo>
                    <a:pt x="300" y="587"/>
                  </a:lnTo>
                  <a:lnTo>
                    <a:pt x="312" y="692"/>
                  </a:lnTo>
                  <a:lnTo>
                    <a:pt x="292" y="835"/>
                  </a:lnTo>
                  <a:lnTo>
                    <a:pt x="449" y="835"/>
                  </a:lnTo>
                  <a:lnTo>
                    <a:pt x="469" y="728"/>
                  </a:lnTo>
                  <a:lnTo>
                    <a:pt x="457" y="605"/>
                  </a:lnTo>
                  <a:lnTo>
                    <a:pt x="554" y="538"/>
                  </a:lnTo>
                  <a:lnTo>
                    <a:pt x="627" y="502"/>
                  </a:lnTo>
                  <a:lnTo>
                    <a:pt x="684" y="343"/>
                  </a:lnTo>
                  <a:lnTo>
                    <a:pt x="633" y="171"/>
                  </a:lnTo>
                  <a:lnTo>
                    <a:pt x="463" y="0"/>
                  </a:lnTo>
                  <a:lnTo>
                    <a:pt x="255" y="14"/>
                  </a:lnTo>
                  <a:lnTo>
                    <a:pt x="89" y="117"/>
                  </a:lnTo>
                  <a:lnTo>
                    <a:pt x="17" y="246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30120" y="4291200"/>
              <a:ext cx="612000" cy="38484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79" y="0"/>
                  </a:moveTo>
                  <a:lnTo>
                    <a:pt x="16" y="34"/>
                  </a:lnTo>
                  <a:lnTo>
                    <a:pt x="0" y="127"/>
                  </a:lnTo>
                  <a:lnTo>
                    <a:pt x="49" y="189"/>
                  </a:lnTo>
                  <a:lnTo>
                    <a:pt x="172" y="189"/>
                  </a:lnTo>
                  <a:lnTo>
                    <a:pt x="220" y="115"/>
                  </a:lnTo>
                  <a:lnTo>
                    <a:pt x="178" y="24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 txBox="1"/>
          <p:nvPr/>
        </p:nvSpPr>
        <p:spPr>
          <a:xfrm>
            <a:off x="1066680" y="1828800"/>
            <a:ext cx="6934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rtio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blem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5" name=""/>
          <p:cNvGraphicFramePr/>
          <p:nvPr/>
        </p:nvGraphicFramePr>
        <p:xfrm>
          <a:off x="1523880" y="2181240"/>
          <a:ext cx="6048360" cy="2085840"/>
        </p:xfrm>
        <a:graphic>
          <a:graphicData uri="http://schemas.openxmlformats.org/drawingml/2006/table">
            <a:tbl>
              <a:tblPr/>
              <a:tblGrid>
                <a:gridCol w="1881360"/>
                <a:gridCol w="2052720"/>
                <a:gridCol w="2114280"/>
              </a:tblGrid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gin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d $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4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403.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603.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cc99"/>
                          </a:solidFill>
                          <a:latin typeface="Comic Sans MS"/>
                        </a:rPr>
                        <a:t>$606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06" name=""/>
          <p:cNvSpPr/>
          <p:nvPr/>
        </p:nvSpPr>
        <p:spPr>
          <a:xfrm>
            <a:off x="803520" y="141444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“C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520" y="4500720"/>
            <a:ext cx="796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 the end of the third month Julie has made $6.02 interest on the $600 total she depo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1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198108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volving part, whole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percent (portion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3795840" y="3608280"/>
            <a:ext cx="4281480" cy="2752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7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743200" y="2057400"/>
            <a:ext cx="58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volving percent of in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and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343400" y="4159080"/>
            <a:ext cx="3352680" cy="21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3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743200" y="20574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volving simple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compound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4157640" y="3827520"/>
            <a:ext cx="3843360" cy="2503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657600" y="16765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esse needs at least an 80% on his final to get an “A.”  How many questions does he need to answer correctly if the test consists of 30 equally weighted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51040" y="2749680"/>
            <a:ext cx="2577960" cy="3574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657600" y="167652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esse needs at least a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8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 his final to get an “A.”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questions does he need to answer correct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the test consists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0 equally weighted ques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244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36920" y="2057400"/>
            <a:ext cx="2925360" cy="1845360"/>
            <a:chOff x="736920" y="2057400"/>
            <a:chExt cx="2925360" cy="1845360"/>
          </a:xfrm>
        </p:grpSpPr>
        <p:sp>
          <p:nvSpPr>
            <p:cNvPr id="249" name=""/>
            <p:cNvSpPr/>
            <p:nvPr/>
          </p:nvSpPr>
          <p:spPr>
            <a:xfrm>
              <a:off x="778680" y="205740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920" y="2711520"/>
              <a:ext cx="292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30 questions</a:t>
              </a:r>
              <a:br>
                <a:rPr sz="3600"/>
              </a:b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tot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422360" y="5581800"/>
            <a:ext cx="42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for 8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5537160"/>
            <a:ext cx="2286000" cy="685800"/>
          </a:xfrm>
          <a:prstGeom prst="wedgeRectCallout">
            <a:avLst>
              <a:gd name="adj1" fmla="val -79166"/>
              <a:gd name="adj2" fmla="val 393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24480" y="1676520"/>
            <a:ext cx="2286000" cy="685800"/>
          </a:xfrm>
          <a:prstGeom prst="wedgeRectCallout">
            <a:avLst>
              <a:gd name="adj1" fmla="val -238194"/>
              <a:gd name="adj2" fmla="val 421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2743200"/>
            <a:ext cx="2286000" cy="685800"/>
          </a:xfrm>
          <a:prstGeom prst="wedgeRectCallout">
            <a:avLst>
              <a:gd name="adj1" fmla="val -169722"/>
              <a:gd name="adj2" fmla="val 27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256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524120" y="3693960"/>
              <a:ext cx="111132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51480" y="4351320"/>
              <a:ext cx="934920" cy="60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72480" y="396252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0%,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440" y="4025880"/>
              <a:ext cx="2925360" cy="642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0 ques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88020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3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547640" y="1933560"/>
            <a:ext cx="5239080" cy="1283760"/>
            <a:chOff x="1547640" y="1933560"/>
            <a:chExt cx="5239080" cy="1283760"/>
          </a:xfrm>
        </p:grpSpPr>
        <p:sp>
          <p:nvSpPr>
            <p:cNvPr id="264" name=""/>
            <p:cNvSpPr/>
            <p:nvPr/>
          </p:nvSpPr>
          <p:spPr>
            <a:xfrm>
              <a:off x="1952640" y="23004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0%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30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47640" y="2017800"/>
              <a:ext cx="7034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50960" y="1933560"/>
              <a:ext cx="127656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8880" y="1968480"/>
              <a:ext cx="83988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080" y="1968480"/>
              <a:ext cx="137160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324480" y="2057400"/>
              <a:ext cx="18432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213200" y="384012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8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3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8020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3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8400" y="213372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8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3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8400" y="304812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61600" y="5089680"/>
            <a:ext cx="629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esse needs to answer 24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estions corre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i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6:23Z</dcterms:modified>
  <cp:revision>377</cp:revision>
  <dc:subject/>
  <dc:title>PowerPoint Presentation</dc:title>
</cp:coreProperties>
</file>