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4572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3808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3    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12952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Order of Oper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209680" y="2286000"/>
            <a:ext cx="4572000" cy="2819520"/>
            <a:chOff x="2209680" y="2286000"/>
            <a:chExt cx="4572000" cy="28195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209680" y="2286000"/>
              <a:ext cx="45720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911840" y="333900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826600">
              <a:off x="5941800" y="3202920"/>
              <a:ext cx="540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3333cc"/>
                  </a:solidFill>
                  <a:latin typeface="Comic Sans MS"/>
                </a:rPr>
                <a:t>-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14320" y="3648600"/>
              <a:ext cx="66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2360" y="3660120"/>
              <a:ext cx="819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3333cc"/>
                  </a:solidFill>
                  <a:latin typeface="Comic Sans MS"/>
                </a:rPr>
                <a:t>÷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762120" y="525780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Problem Solv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33520" y="1905120"/>
            <a:ext cx="7855920" cy="764280"/>
            <a:chOff x="533520" y="1905120"/>
            <a:chExt cx="7855920" cy="764280"/>
          </a:xfrm>
        </p:grpSpPr>
        <p:sp>
          <p:nvSpPr>
            <p:cNvPr id="311" name=""/>
            <p:cNvSpPr/>
            <p:nvPr/>
          </p:nvSpPr>
          <p:spPr>
            <a:xfrm>
              <a:off x="1078560" y="1905120"/>
              <a:ext cx="731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44 + (-32)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- 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+ (-3)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• (-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33520" y="1905120"/>
              <a:ext cx="1218240" cy="609120"/>
              <a:chOff x="533520" y="1905120"/>
              <a:chExt cx="1218240" cy="609120"/>
            </a:xfrm>
          </p:grpSpPr>
          <p:sp>
            <p:nvSpPr>
              <p:cNvPr id="313" name=""/>
              <p:cNvSpPr/>
              <p:nvPr/>
            </p:nvSpPr>
            <p:spPr>
              <a:xfrm>
                <a:off x="533520" y="2311200"/>
                <a:ext cx="101520" cy="20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635040" y="1905120"/>
                <a:ext cx="10116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6200" y="1905120"/>
                <a:ext cx="1015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533520" y="1905120"/>
            <a:ext cx="7855920" cy="764280"/>
            <a:chOff x="533520" y="1905120"/>
            <a:chExt cx="7855920" cy="764280"/>
          </a:xfrm>
        </p:grpSpPr>
        <p:sp>
          <p:nvSpPr>
            <p:cNvPr id="317" name=""/>
            <p:cNvSpPr/>
            <p:nvPr/>
          </p:nvSpPr>
          <p:spPr>
            <a:xfrm>
              <a:off x="1078560" y="1905120"/>
              <a:ext cx="731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44 + (-32)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- 2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+ (-3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• (-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520" y="1905120"/>
              <a:ext cx="1218240" cy="609120"/>
              <a:chOff x="533520" y="1905120"/>
              <a:chExt cx="1218240" cy="609120"/>
            </a:xfrm>
          </p:grpSpPr>
          <p:sp>
            <p:nvSpPr>
              <p:cNvPr id="319" name=""/>
              <p:cNvSpPr/>
              <p:nvPr/>
            </p:nvSpPr>
            <p:spPr>
              <a:xfrm>
                <a:off x="533520" y="2311200"/>
                <a:ext cx="101520" cy="2026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35040" y="1905120"/>
                <a:ext cx="101160" cy="609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6200" y="1905120"/>
                <a:ext cx="101556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33520" y="1905120"/>
            <a:ext cx="7875000" cy="764280"/>
            <a:chOff x="533520" y="1905120"/>
            <a:chExt cx="7875000" cy="764280"/>
          </a:xfrm>
        </p:grpSpPr>
        <p:sp>
          <p:nvSpPr>
            <p:cNvPr id="323" name=""/>
            <p:cNvSpPr/>
            <p:nvPr/>
          </p:nvSpPr>
          <p:spPr>
            <a:xfrm>
              <a:off x="1097640" y="1905120"/>
              <a:ext cx="731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44 + (-32)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- 2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+ (-3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•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(-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33520" y="1905120"/>
              <a:ext cx="1218960" cy="609120"/>
              <a:chOff x="533520" y="1905120"/>
              <a:chExt cx="1218960" cy="609120"/>
            </a:xfrm>
          </p:grpSpPr>
          <p:sp>
            <p:nvSpPr>
              <p:cNvPr id="325" name=""/>
              <p:cNvSpPr/>
              <p:nvPr/>
            </p:nvSpPr>
            <p:spPr>
              <a:xfrm>
                <a:off x="533520" y="2311200"/>
                <a:ext cx="101520" cy="2026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35040" y="1905120"/>
                <a:ext cx="101160" cy="609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6560" y="1905120"/>
                <a:ext cx="10159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533520" y="1905120"/>
            <a:ext cx="7875000" cy="764280"/>
            <a:chOff x="533520" y="1905120"/>
            <a:chExt cx="7875000" cy="764280"/>
          </a:xfrm>
        </p:grpSpPr>
        <p:sp>
          <p:nvSpPr>
            <p:cNvPr id="329" name=""/>
            <p:cNvSpPr/>
            <p:nvPr/>
          </p:nvSpPr>
          <p:spPr>
            <a:xfrm>
              <a:off x="1097640" y="1905120"/>
              <a:ext cx="731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44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(-32)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- 2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(-3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•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(-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33520" y="1905120"/>
              <a:ext cx="1218960" cy="609120"/>
              <a:chOff x="533520" y="1905120"/>
              <a:chExt cx="1218960" cy="609120"/>
            </a:xfrm>
          </p:grpSpPr>
          <p:sp>
            <p:nvSpPr>
              <p:cNvPr id="331" name=""/>
              <p:cNvSpPr/>
              <p:nvPr/>
            </p:nvSpPr>
            <p:spPr>
              <a:xfrm>
                <a:off x="533520" y="2311200"/>
                <a:ext cx="101520" cy="2026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040" y="1905120"/>
                <a:ext cx="101160" cy="609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6560" y="1905120"/>
                <a:ext cx="10159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1081440" y="2895480"/>
            <a:ext cx="740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(-32)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-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  <a:ea typeface="Tahoma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  <a:ea typeface="Tahom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 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  <a:ea typeface="Tahoma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(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31680" y="3809880"/>
            <a:ext cx="665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  <a:ea typeface="Tahoma"/>
              </a:rPr>
              <a:t>-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25280" y="4724280"/>
            <a:ext cx="644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  <a:ea typeface="Tahoma"/>
              </a:rPr>
              <a:t>                +       -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27040" y="5638680"/>
            <a:ext cx="500760" cy="764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82880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74320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581280"/>
            <a:ext cx="8382240" cy="990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57200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350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{(-4)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[5 + -3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56840" y="2057400"/>
              <a:ext cx="2361960" cy="609120"/>
              <a:chOff x="456840" y="2057400"/>
              <a:chExt cx="2361960" cy="60912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574560" y="2057400"/>
                <a:ext cx="23652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456840" y="2422080"/>
                <a:ext cx="117720" cy="24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356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+ -3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56840" y="2057400"/>
              <a:ext cx="2361960" cy="609480"/>
              <a:chOff x="456840" y="2057400"/>
              <a:chExt cx="2361960" cy="60948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74560" y="2057400"/>
                <a:ext cx="236520" cy="60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456840" y="2422800"/>
                <a:ext cx="117720" cy="244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362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+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456840" y="2057400"/>
              <a:ext cx="2361960" cy="609120"/>
              <a:chOff x="456840" y="2057400"/>
              <a:chExt cx="2361960" cy="609120"/>
            </a:xfrm>
          </p:grpSpPr>
          <p:sp>
            <p:nvSpPr>
              <p:cNvPr id="364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4560" y="2057400"/>
                <a:ext cx="236520" cy="609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456840" y="2422080"/>
                <a:ext cx="117720" cy="243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368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+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456840" y="2057400"/>
              <a:ext cx="2361960" cy="609480"/>
              <a:chOff x="456840" y="2057400"/>
              <a:chExt cx="2361960" cy="609480"/>
            </a:xfrm>
          </p:grpSpPr>
          <p:sp>
            <p:nvSpPr>
              <p:cNvPr id="370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74560" y="2057400"/>
                <a:ext cx="236520" cy="6094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456840" y="2422800"/>
                <a:ext cx="117720" cy="244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374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64 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56840" y="2057400"/>
              <a:ext cx="2361960" cy="609480"/>
              <a:chOff x="456840" y="2057400"/>
              <a:chExt cx="2361960" cy="60948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74560" y="2057400"/>
                <a:ext cx="236520" cy="6094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flipV="1">
                <a:off x="456840" y="2422800"/>
                <a:ext cx="117720" cy="244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456840" y="3124080"/>
            <a:ext cx="7652880" cy="764280"/>
            <a:chOff x="456840" y="3124080"/>
            <a:chExt cx="7652880" cy="764280"/>
          </a:xfrm>
        </p:grpSpPr>
        <p:sp>
          <p:nvSpPr>
            <p:cNvPr id="380" name=""/>
            <p:cNvSpPr/>
            <p:nvPr/>
          </p:nvSpPr>
          <p:spPr>
            <a:xfrm>
              <a:off x="987480" y="3124080"/>
              <a:ext cx="712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100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56840" y="3124080"/>
              <a:ext cx="2361960" cy="609480"/>
              <a:chOff x="456840" y="3124080"/>
              <a:chExt cx="2361960" cy="60948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811440" y="3124080"/>
                <a:ext cx="200736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574560" y="3124080"/>
                <a:ext cx="236520" cy="6094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>
                <a:off x="456840" y="3489480"/>
                <a:ext cx="117720" cy="244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923040" y="4267080"/>
            <a:ext cx="713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[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5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-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  <a:ea typeface="Tahoma"/>
              </a:rPr>
              <a:t>9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]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56520" y="5257800"/>
            <a:ext cx="699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  <a:ea typeface="Tahoma"/>
              </a:rPr>
              <a:t>-4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  <a:ea typeface="Tahoma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    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828800"/>
            <a:ext cx="8382240" cy="10666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2819520"/>
            <a:ext cx="8382240" cy="10666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3886200"/>
            <a:ext cx="8382240" cy="12193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398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{(-4)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[5 + -3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56840" y="2057400"/>
              <a:ext cx="2361960" cy="609120"/>
              <a:chOff x="456840" y="2057400"/>
              <a:chExt cx="2361960" cy="6091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574560" y="2057400"/>
                <a:ext cx="23652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456840" y="2422080"/>
                <a:ext cx="117720" cy="24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404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+ -3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456840" y="2057400"/>
              <a:ext cx="2361960" cy="609480"/>
              <a:chOff x="456840" y="2057400"/>
              <a:chExt cx="2361960" cy="60948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74560" y="2057400"/>
                <a:ext cx="236520" cy="609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456840" y="2422800"/>
                <a:ext cx="117720" cy="244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410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+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56840" y="2057400"/>
              <a:ext cx="2361960" cy="609120"/>
              <a:chOff x="456840" y="2057400"/>
              <a:chExt cx="2361960" cy="609120"/>
            </a:xfrm>
          </p:grpSpPr>
          <p:sp>
            <p:nvSpPr>
              <p:cNvPr id="412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74560" y="2057400"/>
                <a:ext cx="236520" cy="6091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456840" y="2422080"/>
                <a:ext cx="117720" cy="243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416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+ 64  +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+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456840" y="2057400"/>
              <a:ext cx="2361960" cy="609480"/>
              <a:chOff x="456840" y="2057400"/>
              <a:chExt cx="2361960" cy="60948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74560" y="2057400"/>
                <a:ext cx="236520" cy="6094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456840" y="2422800"/>
                <a:ext cx="117720" cy="244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456840" y="2057400"/>
            <a:ext cx="7700400" cy="764280"/>
            <a:chOff x="456840" y="2057400"/>
            <a:chExt cx="7700400" cy="764280"/>
          </a:xfrm>
        </p:grpSpPr>
        <p:sp>
          <p:nvSpPr>
            <p:cNvPr id="422" name=""/>
            <p:cNvSpPr/>
            <p:nvPr/>
          </p:nvSpPr>
          <p:spPr>
            <a:xfrm>
              <a:off x="974160" y="2057400"/>
              <a:ext cx="718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6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64 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3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-4)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[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5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-3</a:t>
              </a:r>
              <a:r>
                <a:rPr b="0" lang="en-US" sz="4400" spc="-1" strike="noStrike" baseline="30000">
                  <a:solidFill>
                    <a:srgbClr val="009900"/>
                  </a:solidFill>
                  <a:latin typeface="Comic Sans MS"/>
                  <a:ea typeface="Tahoma"/>
                </a:rPr>
                <a:t>2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456840" y="2057400"/>
              <a:ext cx="2361960" cy="609480"/>
              <a:chOff x="456840" y="2057400"/>
              <a:chExt cx="2361960" cy="609480"/>
            </a:xfrm>
          </p:grpSpPr>
          <p:sp>
            <p:nvSpPr>
              <p:cNvPr id="424" name=""/>
              <p:cNvSpPr/>
              <p:nvPr/>
            </p:nvSpPr>
            <p:spPr>
              <a:xfrm flipH="1">
                <a:off x="811080" y="2057400"/>
                <a:ext cx="200772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574560" y="2057400"/>
                <a:ext cx="236520" cy="6094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 flipV="1">
                <a:off x="456840" y="2422800"/>
                <a:ext cx="117720" cy="24408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967320" y="297180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6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ahoma"/>
              </a:rPr>
              <a:t>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  <a:ea typeface="Tahoma"/>
              </a:rPr>
              <a:t>-4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  <a:ea typeface="Tahoma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     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6560" y="380988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{      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</a:rPr>
              <a:t>1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3560" y="4724280"/>
            <a:ext cx="380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ccff"/>
                </a:solidFill>
                <a:latin typeface="Comic Sans MS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80440" y="5562720"/>
            <a:ext cx="820800" cy="764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880" y="198108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81952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73392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572000"/>
            <a:ext cx="8382240" cy="914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20520" y="2138400"/>
            <a:ext cx="69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{  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–[(-2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÷ (-8) + 3]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88280" y="318456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-9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(-12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752120" y="2133720"/>
            <a:ext cx="1828440" cy="533160"/>
            <a:chOff x="1752120" y="2133720"/>
            <a:chExt cx="1828440" cy="533160"/>
          </a:xfrm>
        </p:grpSpPr>
        <p:sp>
          <p:nvSpPr>
            <p:cNvPr id="445" name=""/>
            <p:cNvSpPr/>
            <p:nvPr/>
          </p:nvSpPr>
          <p:spPr>
            <a:xfrm flipH="1">
              <a:off x="1879560" y="2133720"/>
              <a:ext cx="17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794600" y="2133720"/>
              <a:ext cx="8496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1752120" y="2438280"/>
              <a:ext cx="4212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590560" y="3200400"/>
            <a:ext cx="3276720" cy="685440"/>
            <a:chOff x="2590560" y="3200400"/>
            <a:chExt cx="3276720" cy="685440"/>
          </a:xfrm>
        </p:grpSpPr>
        <p:sp>
          <p:nvSpPr>
            <p:cNvPr id="449" name=""/>
            <p:cNvSpPr/>
            <p:nvPr/>
          </p:nvSpPr>
          <p:spPr>
            <a:xfrm flipH="1">
              <a:off x="2819520" y="3200400"/>
              <a:ext cx="30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666880" y="3200400"/>
              <a:ext cx="15264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590560" y="3592080"/>
              <a:ext cx="75960" cy="29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62120" y="297180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53920" y="4343400"/>
            <a:ext cx="7391520" cy="1754280"/>
            <a:chOff x="853920" y="4343400"/>
            <a:chExt cx="7391520" cy="1754280"/>
          </a:xfrm>
        </p:grpSpPr>
        <p:sp>
          <p:nvSpPr>
            <p:cNvPr id="454" name=""/>
            <p:cNvSpPr/>
            <p:nvPr/>
          </p:nvSpPr>
          <p:spPr>
            <a:xfrm>
              <a:off x="1011960" y="4348080"/>
              <a:ext cx="698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3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4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–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[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-2)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Comic Sans MS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(-8)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3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0440" y="5394240"/>
              <a:ext cx="287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-9)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(-12)</a:t>
              </a:r>
              <a:r>
                <a:rPr b="0" lang="en-US" sz="4000" spc="-1" strike="noStrike" baseline="30000">
                  <a:solidFill>
                    <a:srgbClr val="0099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1844280" y="4343400"/>
              <a:ext cx="1828440" cy="533520"/>
              <a:chOff x="1844280" y="4343400"/>
              <a:chExt cx="1828440" cy="533520"/>
            </a:xfrm>
          </p:grpSpPr>
          <p:sp>
            <p:nvSpPr>
              <p:cNvPr id="457" name=""/>
              <p:cNvSpPr/>
              <p:nvPr/>
            </p:nvSpPr>
            <p:spPr>
              <a:xfrm flipH="1">
                <a:off x="1971720" y="4343400"/>
                <a:ext cx="1701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1886760" y="4343400"/>
                <a:ext cx="84960" cy="5335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1844280" y="4647960"/>
                <a:ext cx="42120" cy="22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682360" y="5410080"/>
              <a:ext cx="3276720" cy="685440"/>
              <a:chOff x="2682360" y="5410080"/>
              <a:chExt cx="3276720" cy="68544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2911320" y="5410080"/>
                <a:ext cx="30477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758680" y="5410080"/>
                <a:ext cx="152640" cy="685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2682360" y="5801760"/>
                <a:ext cx="75960" cy="293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853920" y="5181480"/>
              <a:ext cx="739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11960" y="2062080"/>
            <a:ext cx="69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r>
              <a:rPr b="0" lang="en-US" sz="40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4</a:t>
            </a:r>
            <a:r>
              <a:rPr b="0" lang="en-US" sz="40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–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-2)</a:t>
            </a:r>
            <a:r>
              <a:rPr b="0" lang="en-US" sz="4000" spc="-1" strike="noStrike" baseline="30000">
                <a:solidFill>
                  <a:srgbClr val="0099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(-8)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]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80440" y="3108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-9)</a:t>
            </a:r>
            <a:r>
              <a:rPr b="0" lang="en-US" sz="40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-12)</a:t>
            </a:r>
            <a:r>
              <a:rPr b="0" lang="en-US" sz="4000" spc="-1" strike="noStrike" baseline="30000">
                <a:solidFill>
                  <a:srgbClr val="0099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844280" y="2057400"/>
            <a:ext cx="1828440" cy="533520"/>
            <a:chOff x="1844280" y="2057400"/>
            <a:chExt cx="1828440" cy="533520"/>
          </a:xfrm>
        </p:grpSpPr>
        <p:sp>
          <p:nvSpPr>
            <p:cNvPr id="475" name=""/>
            <p:cNvSpPr/>
            <p:nvPr/>
          </p:nvSpPr>
          <p:spPr>
            <a:xfrm flipH="1">
              <a:off x="1971720" y="2057400"/>
              <a:ext cx="1701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1886760" y="2057400"/>
              <a:ext cx="8496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1844280" y="2361960"/>
              <a:ext cx="421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682360" y="3124080"/>
            <a:ext cx="3276720" cy="685440"/>
            <a:chOff x="2682360" y="3124080"/>
            <a:chExt cx="3276720" cy="685440"/>
          </a:xfrm>
        </p:grpSpPr>
        <p:sp>
          <p:nvSpPr>
            <p:cNvPr id="479" name=""/>
            <p:cNvSpPr/>
            <p:nvPr/>
          </p:nvSpPr>
          <p:spPr>
            <a:xfrm flipH="1">
              <a:off x="2911320" y="3124080"/>
              <a:ext cx="30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758680" y="3124080"/>
              <a:ext cx="152640" cy="685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2682360" y="3515760"/>
              <a:ext cx="75960" cy="293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853920" y="28954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9880" y="4419720"/>
            <a:ext cx="7391160" cy="1754280"/>
            <a:chOff x="839880" y="4419720"/>
            <a:chExt cx="7391160" cy="1754280"/>
          </a:xfrm>
        </p:grpSpPr>
        <p:sp>
          <p:nvSpPr>
            <p:cNvPr id="484" name=""/>
            <p:cNvSpPr/>
            <p:nvPr/>
          </p:nvSpPr>
          <p:spPr>
            <a:xfrm>
              <a:off x="910800" y="4424400"/>
              <a:ext cx="7150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1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–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[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-3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(-8)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3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38600" y="5470560"/>
              <a:ext cx="284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81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4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829880" y="4419720"/>
              <a:ext cx="1828440" cy="533160"/>
              <a:chOff x="1829880" y="4419720"/>
              <a:chExt cx="1828440" cy="533160"/>
            </a:xfrm>
          </p:grpSpPr>
          <p:sp>
            <p:nvSpPr>
              <p:cNvPr id="487" name=""/>
              <p:cNvSpPr/>
              <p:nvPr/>
            </p:nvSpPr>
            <p:spPr>
              <a:xfrm flipH="1">
                <a:off x="1957320" y="4419720"/>
                <a:ext cx="1701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872360" y="4419720"/>
                <a:ext cx="84960" cy="533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flipV="1">
                <a:off x="1829880" y="4724280"/>
                <a:ext cx="42120" cy="22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2668320" y="5486400"/>
              <a:ext cx="3276720" cy="685440"/>
              <a:chOff x="2668320" y="5486400"/>
              <a:chExt cx="3276720" cy="685440"/>
            </a:xfrm>
          </p:grpSpPr>
          <p:sp>
            <p:nvSpPr>
              <p:cNvPr id="491" name=""/>
              <p:cNvSpPr/>
              <p:nvPr/>
            </p:nvSpPr>
            <p:spPr>
              <a:xfrm flipH="1">
                <a:off x="2897280" y="5486400"/>
                <a:ext cx="30477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2744640" y="5486400"/>
                <a:ext cx="152640" cy="685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2668320" y="5878080"/>
                <a:ext cx="75960" cy="293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39880" y="5257800"/>
              <a:ext cx="739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0800" y="2062080"/>
            <a:ext cx="71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–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-3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(-8)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]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38600" y="310824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8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1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829880" y="2057400"/>
            <a:ext cx="1828440" cy="533520"/>
            <a:chOff x="1829880" y="2057400"/>
            <a:chExt cx="1828440" cy="533520"/>
          </a:xfrm>
        </p:grpSpPr>
        <p:sp>
          <p:nvSpPr>
            <p:cNvPr id="505" name=""/>
            <p:cNvSpPr/>
            <p:nvPr/>
          </p:nvSpPr>
          <p:spPr>
            <a:xfrm flipH="1">
              <a:off x="1957320" y="2057400"/>
              <a:ext cx="1701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872360" y="2057400"/>
              <a:ext cx="8496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1829880" y="2361960"/>
              <a:ext cx="421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668320" y="3124080"/>
            <a:ext cx="3276720" cy="685440"/>
            <a:chOff x="2668320" y="3124080"/>
            <a:chExt cx="3276720" cy="685440"/>
          </a:xfrm>
        </p:grpSpPr>
        <p:sp>
          <p:nvSpPr>
            <p:cNvPr id="509" name=""/>
            <p:cNvSpPr/>
            <p:nvPr/>
          </p:nvSpPr>
          <p:spPr>
            <a:xfrm flipH="1">
              <a:off x="2897280" y="3124080"/>
              <a:ext cx="30477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744640" y="3124080"/>
              <a:ext cx="152640" cy="685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2668320" y="3515760"/>
              <a:ext cx="75960" cy="293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839880" y="289548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853920" y="4419720"/>
            <a:ext cx="7391520" cy="1754280"/>
            <a:chOff x="853920" y="4419720"/>
            <a:chExt cx="7391520" cy="1754280"/>
          </a:xfrm>
        </p:grpSpPr>
        <p:sp>
          <p:nvSpPr>
            <p:cNvPr id="514" name=""/>
            <p:cNvSpPr/>
            <p:nvPr/>
          </p:nvSpPr>
          <p:spPr>
            <a:xfrm>
              <a:off x="1008000" y="4424400"/>
              <a:ext cx="696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–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[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-3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(-8)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3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36160" y="5470560"/>
              <a:ext cx="197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2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44280" y="4419720"/>
              <a:ext cx="1828440" cy="533160"/>
              <a:chOff x="1844280" y="4419720"/>
              <a:chExt cx="1828440" cy="533160"/>
            </a:xfrm>
          </p:grpSpPr>
          <p:sp>
            <p:nvSpPr>
              <p:cNvPr id="517" name=""/>
              <p:cNvSpPr/>
              <p:nvPr/>
            </p:nvSpPr>
            <p:spPr>
              <a:xfrm flipH="1">
                <a:off x="1971720" y="4419720"/>
                <a:ext cx="1701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1886760" y="4419720"/>
                <a:ext cx="84960" cy="533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1844280" y="4724280"/>
                <a:ext cx="42120" cy="2282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682360" y="5486400"/>
              <a:ext cx="3276720" cy="685440"/>
              <a:chOff x="2682360" y="5486400"/>
              <a:chExt cx="3276720" cy="685440"/>
            </a:xfrm>
          </p:grpSpPr>
          <p:sp>
            <p:nvSpPr>
              <p:cNvPr id="521" name=""/>
              <p:cNvSpPr/>
              <p:nvPr/>
            </p:nvSpPr>
            <p:spPr>
              <a:xfrm flipH="1">
                <a:off x="2911320" y="5486400"/>
                <a:ext cx="304776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2758680" y="5486400"/>
                <a:ext cx="152640" cy="6854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682360" y="5878080"/>
                <a:ext cx="75960" cy="293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853920" y="5257800"/>
              <a:ext cx="739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027800" y="1986120"/>
            <a:ext cx="72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-3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ccff"/>
                </a:solidFill>
                <a:latin typeface="Comic Sans MS"/>
                <a:ea typeface="Tahoma"/>
              </a:rPr>
              <a:t>÷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(-8)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]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36160" y="3032280"/>
            <a:ext cx="197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2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844280" y="1981080"/>
            <a:ext cx="1828440" cy="533520"/>
            <a:chOff x="1844280" y="1981080"/>
            <a:chExt cx="1828440" cy="533520"/>
          </a:xfrm>
        </p:grpSpPr>
        <p:sp>
          <p:nvSpPr>
            <p:cNvPr id="535" name=""/>
            <p:cNvSpPr/>
            <p:nvPr/>
          </p:nvSpPr>
          <p:spPr>
            <a:xfrm flipH="1">
              <a:off x="1971720" y="1981080"/>
              <a:ext cx="170100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886760" y="1981080"/>
              <a:ext cx="84960" cy="533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1844280" y="2285640"/>
              <a:ext cx="42120" cy="2286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682360" y="3048120"/>
            <a:ext cx="3276720" cy="685440"/>
            <a:chOff x="2682360" y="3048120"/>
            <a:chExt cx="3276720" cy="685440"/>
          </a:xfrm>
        </p:grpSpPr>
        <p:sp>
          <p:nvSpPr>
            <p:cNvPr id="539" name=""/>
            <p:cNvSpPr/>
            <p:nvPr/>
          </p:nvSpPr>
          <p:spPr>
            <a:xfrm flipH="1">
              <a:off x="2911320" y="3048120"/>
              <a:ext cx="30477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758680" y="3048120"/>
              <a:ext cx="152640" cy="6854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2682360" y="3439800"/>
              <a:ext cx="75960" cy="2937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853920" y="2819520"/>
            <a:ext cx="768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853920" y="4348080"/>
            <a:ext cx="7680600" cy="1749600"/>
            <a:chOff x="853920" y="4348080"/>
            <a:chExt cx="7680600" cy="1749600"/>
          </a:xfrm>
        </p:grpSpPr>
        <p:sp>
          <p:nvSpPr>
            <p:cNvPr id="544" name=""/>
            <p:cNvSpPr/>
            <p:nvPr/>
          </p:nvSpPr>
          <p:spPr>
            <a:xfrm>
              <a:off x="1037880" y="4348080"/>
              <a:ext cx="72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– 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[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-3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  <a:ea typeface="Tahoma"/>
                </a:rPr>
                <a:t>÷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  (-8)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3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5760" y="5394240"/>
              <a:ext cx="16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3920" y="5181480"/>
              <a:ext cx="768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37880" y="2133720"/>
            <a:ext cx="720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-3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  (-8)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]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85760" y="3179880"/>
            <a:ext cx="168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53920" y="2967120"/>
            <a:ext cx="768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77960" y="4343400"/>
            <a:ext cx="7680240" cy="1749600"/>
            <a:chOff x="777960" y="4343400"/>
            <a:chExt cx="7680240" cy="1749600"/>
          </a:xfrm>
        </p:grpSpPr>
        <p:sp>
          <p:nvSpPr>
            <p:cNvPr id="558" name=""/>
            <p:cNvSpPr/>
            <p:nvPr/>
          </p:nvSpPr>
          <p:spPr>
            <a:xfrm>
              <a:off x="938880" y="4343400"/>
              <a:ext cx="73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– 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[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  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3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]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09440" y="5389560"/>
              <a:ext cx="16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77960" y="5176800"/>
              <a:ext cx="768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38880" y="2133720"/>
            <a:ext cx="73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00ccff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ahoma"/>
              </a:rPr>
              <a:t> 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]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09440" y="3179880"/>
            <a:ext cx="168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7960" y="2967120"/>
            <a:ext cx="768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777960" y="4272120"/>
            <a:ext cx="7680240" cy="1749600"/>
            <a:chOff x="777960" y="4272120"/>
            <a:chExt cx="7680240" cy="1749600"/>
          </a:xfrm>
        </p:grpSpPr>
        <p:sp>
          <p:nvSpPr>
            <p:cNvPr id="572" name=""/>
            <p:cNvSpPr/>
            <p:nvPr/>
          </p:nvSpPr>
          <p:spPr>
            <a:xfrm>
              <a:off x="988200" y="4272120"/>
              <a:ext cx="718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– 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</a:rPr>
                <a:t>7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              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09440" y="5318280"/>
              <a:ext cx="16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7960" y="5105520"/>
              <a:ext cx="768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88200" y="2209680"/>
            <a:ext cx="71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{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–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00ccff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                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09440" y="3255840"/>
            <a:ext cx="168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7960" y="3043080"/>
            <a:ext cx="768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7240" y="4500720"/>
            <a:ext cx="7680600" cy="1749600"/>
            <a:chOff x="687240" y="4500720"/>
            <a:chExt cx="7680600" cy="1749600"/>
          </a:xfrm>
        </p:grpSpPr>
        <p:sp>
          <p:nvSpPr>
            <p:cNvPr id="586" name=""/>
            <p:cNvSpPr/>
            <p:nvPr/>
          </p:nvSpPr>
          <p:spPr>
            <a:xfrm>
              <a:off x="956520" y="4500720"/>
              <a:ext cx="719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-2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                        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19080" y="5546880"/>
              <a:ext cx="16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7240" y="5334120"/>
              <a:ext cx="768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6640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ly evaluate math expressions containing a variety of operations with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57200" y="2590920"/>
            <a:ext cx="2438280" cy="3429000"/>
            <a:chOff x="457200" y="2590920"/>
            <a:chExt cx="2438280" cy="3429000"/>
          </a:xfrm>
        </p:grpSpPr>
        <p:sp>
          <p:nvSpPr>
            <p:cNvPr id="55" name=""/>
            <p:cNvSpPr/>
            <p:nvPr/>
          </p:nvSpPr>
          <p:spPr>
            <a:xfrm>
              <a:off x="457200" y="2590920"/>
              <a:ext cx="2438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6200" y="2604960"/>
              <a:ext cx="24202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46600" y="2633760"/>
              <a:ext cx="12780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83760" y="2648160"/>
              <a:ext cx="7272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73960" y="2676960"/>
              <a:ext cx="547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65840" y="2698200"/>
              <a:ext cx="7272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7920" y="2727000"/>
              <a:ext cx="6372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16680" y="2741400"/>
              <a:ext cx="8208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89400" y="2748600"/>
              <a:ext cx="7740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80840" y="2791800"/>
              <a:ext cx="590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3520" y="2813040"/>
              <a:ext cx="94068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14120" y="2820240"/>
              <a:ext cx="12312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37160" y="2820240"/>
              <a:ext cx="13212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46160" y="2820240"/>
              <a:ext cx="15984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58600" y="2834640"/>
              <a:ext cx="6372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36000" y="2856240"/>
              <a:ext cx="453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1080" y="2870640"/>
              <a:ext cx="453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54800" y="2892240"/>
              <a:ext cx="316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00520" y="2906280"/>
              <a:ext cx="410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47480" y="3071520"/>
              <a:ext cx="24624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3440" y="3135960"/>
              <a:ext cx="2052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61160" y="3171960"/>
              <a:ext cx="1915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34240" y="3186360"/>
              <a:ext cx="9576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21440" y="3222000"/>
              <a:ext cx="16884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79960" y="3236400"/>
              <a:ext cx="2268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53480" y="3265200"/>
              <a:ext cx="7308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85520" y="3300840"/>
              <a:ext cx="2268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15000" y="3616560"/>
              <a:ext cx="6372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01320" y="3666960"/>
              <a:ext cx="57060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1200" y="3781800"/>
              <a:ext cx="3787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18800" y="3824640"/>
              <a:ext cx="13334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1200" y="3917880"/>
              <a:ext cx="18720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3080" y="3968280"/>
              <a:ext cx="273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9440" y="3982680"/>
              <a:ext cx="316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23480" y="3982680"/>
              <a:ext cx="136980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13240" y="4090320"/>
              <a:ext cx="35604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4240" y="4154760"/>
              <a:ext cx="1141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05640" y="4161960"/>
              <a:ext cx="8208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74040" y="4176360"/>
              <a:ext cx="13212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91520" y="4197600"/>
              <a:ext cx="10944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28240" y="4233600"/>
              <a:ext cx="91332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3800" y="4276800"/>
              <a:ext cx="8208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840" y="4298400"/>
              <a:ext cx="410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41120" y="4305600"/>
              <a:ext cx="3636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8880" y="4319640"/>
              <a:ext cx="25092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0440" y="4326840"/>
              <a:ext cx="922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8560" y="4370040"/>
              <a:ext cx="2268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6240" y="4620960"/>
              <a:ext cx="15948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400" y="4620960"/>
              <a:ext cx="410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54720" y="4628160"/>
              <a:ext cx="500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27360" y="4649760"/>
              <a:ext cx="500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1000" y="4671360"/>
              <a:ext cx="500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80840" y="4857840"/>
              <a:ext cx="291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62920" y="4886640"/>
              <a:ext cx="453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960" y="4929480"/>
              <a:ext cx="316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08640" y="4979880"/>
              <a:ext cx="1368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1480" y="5180760"/>
              <a:ext cx="34236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87240" y="2133720"/>
            <a:ext cx="7680600" cy="1749600"/>
            <a:chOff x="687240" y="2133720"/>
            <a:chExt cx="7680600" cy="1749600"/>
          </a:xfrm>
        </p:grpSpPr>
        <p:sp>
          <p:nvSpPr>
            <p:cNvPr id="597" name=""/>
            <p:cNvSpPr/>
            <p:nvPr/>
          </p:nvSpPr>
          <p:spPr>
            <a:xfrm>
              <a:off x="956520" y="2133720"/>
              <a:ext cx="719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5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{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-2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                          }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19080" y="3179880"/>
              <a:ext cx="168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7240" y="2967120"/>
              <a:ext cx="768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83720" y="4267080"/>
            <a:ext cx="892800" cy="1694160"/>
            <a:chOff x="783720" y="4267080"/>
            <a:chExt cx="892800" cy="1694160"/>
          </a:xfrm>
        </p:grpSpPr>
        <p:sp>
          <p:nvSpPr>
            <p:cNvPr id="601" name=""/>
            <p:cNvSpPr/>
            <p:nvPr/>
          </p:nvSpPr>
          <p:spPr>
            <a:xfrm>
              <a:off x="783720" y="42670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ff"/>
                  </a:solidFill>
                  <a:latin typeface="Comic Sans MS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19360" y="5257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30240" y="5100480"/>
              <a:ext cx="746280" cy="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574440" y="4648320"/>
            <a:ext cx="1052280" cy="1008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606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 txBox="1"/>
          <p:nvPr/>
        </p:nvSpPr>
        <p:spPr>
          <a:xfrm>
            <a:off x="1066680" y="1905120"/>
            <a:ext cx="6838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Writing Equations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for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Word Problem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635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914400" y="182880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o unto one side of the equation that which you would do to the other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200400" y="6094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3520" y="13716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three years, John will be 21 years old. What is his ag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886200" cy="2695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33520" y="13716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three year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John will be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21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years ol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What is his ag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3520" y="13716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three year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John will be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21 years ol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What is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his ag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2120" y="36576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in 3 years, John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   will be 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8080" y="50292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age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62120" y="1447920"/>
            <a:ext cx="6858000" cy="2209680"/>
            <a:chOff x="762120" y="1447920"/>
            <a:chExt cx="6858000" cy="2209680"/>
          </a:xfrm>
        </p:grpSpPr>
        <p:sp>
          <p:nvSpPr>
            <p:cNvPr id="672" name=""/>
            <p:cNvSpPr/>
            <p:nvPr/>
          </p:nvSpPr>
          <p:spPr>
            <a:xfrm>
              <a:off x="762120" y="1447920"/>
              <a:ext cx="6858000" cy="2209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90720" y="1523880"/>
              <a:ext cx="6400800" cy="21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nalysis:</a:t>
              </a:r>
              <a:br>
                <a:rPr sz="4000"/>
              </a:b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Let     A = John’s age now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hen  A +3 = 2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5029200" y="5105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1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143000" y="4770360"/>
            <a:ext cx="7238880" cy="381240"/>
            <a:chOff x="1143000" y="4770360"/>
            <a:chExt cx="7238880" cy="381240"/>
          </a:xfrm>
        </p:grpSpPr>
        <p:sp>
          <p:nvSpPr>
            <p:cNvPr id="676" name=""/>
            <p:cNvSpPr/>
            <p:nvPr/>
          </p:nvSpPr>
          <p:spPr>
            <a:xfrm>
              <a:off x="2590920" y="4770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4770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477120" y="47703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43000" y="499896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902160" y="4191120"/>
            <a:ext cx="2298240" cy="1404360"/>
            <a:chOff x="902160" y="4191120"/>
            <a:chExt cx="2298240" cy="1404360"/>
          </a:xfrm>
        </p:grpSpPr>
        <p:sp>
          <p:nvSpPr>
            <p:cNvPr id="681" name=""/>
            <p:cNvSpPr/>
            <p:nvPr/>
          </p:nvSpPr>
          <p:spPr>
            <a:xfrm>
              <a:off x="914400" y="49528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age 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02160" y="4191120"/>
              <a:ext cx="49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6600"/>
                  </a:solidFill>
                  <a:latin typeface="Comic Sans MS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930320" y="4191120"/>
            <a:ext cx="5238360" cy="764280"/>
            <a:chOff x="1930320" y="4191120"/>
            <a:chExt cx="5238360" cy="764280"/>
          </a:xfrm>
        </p:grpSpPr>
        <p:sp>
          <p:nvSpPr>
            <p:cNvPr id="684" name=""/>
            <p:cNvSpPr/>
            <p:nvPr/>
          </p:nvSpPr>
          <p:spPr>
            <a:xfrm>
              <a:off x="1930320" y="4191120"/>
              <a:ext cx="14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6600"/>
                  </a:solidFill>
                  <a:latin typeface="Comic Sans MS"/>
                </a:rPr>
                <a:t>a + 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39400" y="4191120"/>
              <a:ext cx="14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6600"/>
                  </a:solidFill>
                  <a:latin typeface="Comic Sans MS"/>
                </a:rPr>
                <a:t>a + 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44520" y="4191120"/>
              <a:ext cx="14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6600"/>
                  </a:solidFill>
                  <a:latin typeface="Comic Sans MS"/>
                </a:rPr>
                <a:t>a + 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689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457200" y="34732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+3   =     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11430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ask: Perform mathematical operations to get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by it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720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80880" y="33526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+3    =     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1523880"/>
            <a:ext cx="6782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hing added to the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248520" y="4495680"/>
            <a:ext cx="2971800" cy="2135880"/>
            <a:chOff x="6248520" y="4495680"/>
            <a:chExt cx="2971800" cy="2135880"/>
          </a:xfrm>
        </p:grpSpPr>
        <p:sp>
          <p:nvSpPr>
            <p:cNvPr id="750" name=""/>
            <p:cNvSpPr/>
            <p:nvPr/>
          </p:nvSpPr>
          <p:spPr>
            <a:xfrm>
              <a:off x="6610680" y="4495680"/>
              <a:ext cx="1739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48520" y="5562720"/>
              <a:ext cx="29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dd opposite to right si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066680" y="4525920"/>
            <a:ext cx="3124440" cy="1800720"/>
            <a:chOff x="1066680" y="4525920"/>
            <a:chExt cx="3124440" cy="1800720"/>
          </a:xfrm>
        </p:grpSpPr>
        <p:sp>
          <p:nvSpPr>
            <p:cNvPr id="753" name=""/>
            <p:cNvSpPr/>
            <p:nvPr/>
          </p:nvSpPr>
          <p:spPr>
            <a:xfrm>
              <a:off x="1066680" y="5745240"/>
              <a:ext cx="31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dd opposi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71600" y="4525920"/>
              <a:ext cx="1905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757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57200" y="33526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6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=    1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200400" y="6094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3520" y="13716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three years, John will be 21 years old. </a:t>
            </a: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What is his ag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304920" y="2943360"/>
            <a:ext cx="4671720" cy="307656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5121360" y="3200400"/>
            <a:ext cx="35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John is 18 years ol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298008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120" y="129528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hn’s birthday cake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cut into eight pieces. Each piece contains 275 calories. How many calories are in the whole c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129528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hn’s birthday cake is cut into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eight piec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Each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piece contains 275 calori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How many calories are in the whole c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2120" y="1295280"/>
            <a:ext cx="7772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hn’s birthday cake is cut into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eight piec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Each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piece contains 275 calori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How many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alories are in the whole cak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2971800" y="3809880"/>
            <a:ext cx="3429000" cy="258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664000"/>
            <a:ext cx="601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the information contained in word problems into equation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590920"/>
            <a:ext cx="2438280" cy="3429000"/>
            <a:chOff x="457200" y="2590920"/>
            <a:chExt cx="2438280" cy="3429000"/>
          </a:xfrm>
        </p:grpSpPr>
        <p:sp>
          <p:nvSpPr>
            <p:cNvPr id="116" name=""/>
            <p:cNvSpPr/>
            <p:nvPr/>
          </p:nvSpPr>
          <p:spPr>
            <a:xfrm>
              <a:off x="457200" y="2590920"/>
              <a:ext cx="2438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200" y="2604960"/>
              <a:ext cx="24202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6600" y="2633760"/>
              <a:ext cx="12780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83760" y="2648160"/>
              <a:ext cx="7272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3960" y="2676960"/>
              <a:ext cx="547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5840" y="2698200"/>
              <a:ext cx="7272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2727000"/>
              <a:ext cx="6372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16680" y="2741400"/>
              <a:ext cx="8208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9400" y="2748600"/>
              <a:ext cx="7740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0840" y="2791800"/>
              <a:ext cx="590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73520" y="2813040"/>
              <a:ext cx="94068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4120" y="2820240"/>
              <a:ext cx="12312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37160" y="2820240"/>
              <a:ext cx="13212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46160" y="2820240"/>
              <a:ext cx="15984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8600" y="2834640"/>
              <a:ext cx="6372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36000" y="2856240"/>
              <a:ext cx="453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91080" y="2870640"/>
              <a:ext cx="453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54800" y="2892240"/>
              <a:ext cx="316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00520" y="2906280"/>
              <a:ext cx="410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47480" y="3071520"/>
              <a:ext cx="24624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3440" y="3135960"/>
              <a:ext cx="2052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61160" y="3171960"/>
              <a:ext cx="1915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34240" y="3186360"/>
              <a:ext cx="9576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21440" y="3222000"/>
              <a:ext cx="16884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960" y="3236400"/>
              <a:ext cx="2268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53480" y="3265200"/>
              <a:ext cx="7308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85520" y="3300840"/>
              <a:ext cx="2268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5000" y="3616560"/>
              <a:ext cx="6372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01320" y="3666960"/>
              <a:ext cx="57060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11200" y="3781800"/>
              <a:ext cx="3787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8800" y="3824640"/>
              <a:ext cx="13334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200" y="3917880"/>
              <a:ext cx="18720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73080" y="3968280"/>
              <a:ext cx="273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09440" y="3982680"/>
              <a:ext cx="316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480" y="3982680"/>
              <a:ext cx="136980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3240" y="4090320"/>
              <a:ext cx="35604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4240" y="4154760"/>
              <a:ext cx="1141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05640" y="4161960"/>
              <a:ext cx="8208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74040" y="4176360"/>
              <a:ext cx="13212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91520" y="4197600"/>
              <a:ext cx="10944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8240" y="4233600"/>
              <a:ext cx="91332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3800" y="4276800"/>
              <a:ext cx="8208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2840" y="4298400"/>
              <a:ext cx="410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41120" y="4305600"/>
              <a:ext cx="3636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8880" y="4319640"/>
              <a:ext cx="25092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00440" y="4326840"/>
              <a:ext cx="922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560" y="4370040"/>
              <a:ext cx="2268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6240" y="4620960"/>
              <a:ext cx="15948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400" y="4620960"/>
              <a:ext cx="410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54720" y="4628160"/>
              <a:ext cx="500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27360" y="4649760"/>
              <a:ext cx="500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1000" y="4671360"/>
              <a:ext cx="500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80840" y="4857840"/>
              <a:ext cx="291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2920" y="4886640"/>
              <a:ext cx="453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6960" y="4929480"/>
              <a:ext cx="316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08640" y="4979880"/>
              <a:ext cx="1368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1480" y="5180760"/>
              <a:ext cx="34236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62120" y="13716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 8 piece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   1 piece = 275 cal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762120" y="3200400"/>
            <a:ext cx="5105160" cy="1676520"/>
            <a:chOff x="762120" y="3200400"/>
            <a:chExt cx="5105160" cy="1676520"/>
          </a:xfrm>
        </p:grpSpPr>
        <p:grpSp>
          <p:nvGrpSpPr>
            <p:cNvPr id="797" name=""/>
            <p:cNvGrpSpPr/>
            <p:nvPr/>
          </p:nvGrpSpPr>
          <p:grpSpPr>
            <a:xfrm>
              <a:off x="762120" y="3733920"/>
              <a:ext cx="1530360" cy="1128240"/>
              <a:chOff x="762120" y="3733920"/>
              <a:chExt cx="1530360" cy="1128240"/>
            </a:xfrm>
          </p:grpSpPr>
          <p:sp>
            <p:nvSpPr>
              <p:cNvPr id="798" name=""/>
              <p:cNvSpPr/>
              <p:nvPr/>
            </p:nvSpPr>
            <p:spPr>
              <a:xfrm>
                <a:off x="762120" y="4081320"/>
                <a:ext cx="1530360" cy="780840"/>
              </a:xfrm>
              <a:custGeom>
                <a:avLst/>
                <a:gdLst/>
                <a:ahLst/>
                <a:rect l="l" t="t" r="r" b="b"/>
                <a:pathLst>
                  <a:path w="1927" h="985">
                    <a:moveTo>
                      <a:pt x="1138" y="977"/>
                    </a:moveTo>
                    <a:lnTo>
                      <a:pt x="1181" y="981"/>
                    </a:lnTo>
                    <a:lnTo>
                      <a:pt x="1222" y="983"/>
                    </a:lnTo>
                    <a:lnTo>
                      <a:pt x="1262" y="984"/>
                    </a:lnTo>
                    <a:lnTo>
                      <a:pt x="1303" y="985"/>
                    </a:lnTo>
                    <a:lnTo>
                      <a:pt x="1342" y="985"/>
                    </a:lnTo>
                    <a:lnTo>
                      <a:pt x="1380" y="984"/>
                    </a:lnTo>
                    <a:lnTo>
                      <a:pt x="1417" y="982"/>
                    </a:lnTo>
                    <a:lnTo>
                      <a:pt x="1454" y="980"/>
                    </a:lnTo>
                    <a:lnTo>
                      <a:pt x="1488" y="976"/>
                    </a:lnTo>
                    <a:lnTo>
                      <a:pt x="1523" y="973"/>
                    </a:lnTo>
                    <a:lnTo>
                      <a:pt x="1556" y="967"/>
                    </a:lnTo>
                    <a:lnTo>
                      <a:pt x="1587" y="961"/>
                    </a:lnTo>
                    <a:lnTo>
                      <a:pt x="1618" y="954"/>
                    </a:lnTo>
                    <a:lnTo>
                      <a:pt x="1648" y="946"/>
                    </a:lnTo>
                    <a:lnTo>
                      <a:pt x="1676" y="938"/>
                    </a:lnTo>
                    <a:lnTo>
                      <a:pt x="1704" y="929"/>
                    </a:lnTo>
                    <a:lnTo>
                      <a:pt x="1729" y="919"/>
                    </a:lnTo>
                    <a:lnTo>
                      <a:pt x="1753" y="907"/>
                    </a:lnTo>
                    <a:lnTo>
                      <a:pt x="1776" y="895"/>
                    </a:lnTo>
                    <a:lnTo>
                      <a:pt x="1797" y="882"/>
                    </a:lnTo>
                    <a:lnTo>
                      <a:pt x="1818" y="868"/>
                    </a:lnTo>
                    <a:lnTo>
                      <a:pt x="1836" y="853"/>
                    </a:lnTo>
                    <a:lnTo>
                      <a:pt x="1852" y="838"/>
                    </a:lnTo>
                    <a:lnTo>
                      <a:pt x="1868" y="821"/>
                    </a:lnTo>
                    <a:lnTo>
                      <a:pt x="1881" y="803"/>
                    </a:lnTo>
                    <a:lnTo>
                      <a:pt x="1894" y="785"/>
                    </a:lnTo>
                    <a:lnTo>
                      <a:pt x="1903" y="765"/>
                    </a:lnTo>
                    <a:lnTo>
                      <a:pt x="1912" y="745"/>
                    </a:lnTo>
                    <a:lnTo>
                      <a:pt x="1919" y="724"/>
                    </a:lnTo>
                    <a:lnTo>
                      <a:pt x="1924" y="701"/>
                    </a:lnTo>
                    <a:lnTo>
                      <a:pt x="1926" y="678"/>
                    </a:lnTo>
                    <a:lnTo>
                      <a:pt x="1927" y="654"/>
                    </a:lnTo>
                    <a:lnTo>
                      <a:pt x="1926" y="628"/>
                    </a:lnTo>
                    <a:lnTo>
                      <a:pt x="1920" y="604"/>
                    </a:lnTo>
                    <a:lnTo>
                      <a:pt x="1912" y="579"/>
                    </a:lnTo>
                    <a:lnTo>
                      <a:pt x="1901" y="553"/>
                    </a:lnTo>
                    <a:lnTo>
                      <a:pt x="1887" y="528"/>
                    </a:lnTo>
                    <a:lnTo>
                      <a:pt x="1870" y="504"/>
                    </a:lnTo>
                    <a:lnTo>
                      <a:pt x="1850" y="478"/>
                    </a:lnTo>
                    <a:lnTo>
                      <a:pt x="1828" y="454"/>
                    </a:lnTo>
                    <a:lnTo>
                      <a:pt x="1804" y="429"/>
                    </a:lnTo>
                    <a:lnTo>
                      <a:pt x="1777" y="405"/>
                    </a:lnTo>
                    <a:lnTo>
                      <a:pt x="1747" y="381"/>
                    </a:lnTo>
                    <a:lnTo>
                      <a:pt x="1716" y="358"/>
                    </a:lnTo>
                    <a:lnTo>
                      <a:pt x="1684" y="335"/>
                    </a:lnTo>
                    <a:lnTo>
                      <a:pt x="1648" y="311"/>
                    </a:lnTo>
                    <a:lnTo>
                      <a:pt x="1613" y="290"/>
                    </a:lnTo>
                    <a:lnTo>
                      <a:pt x="1575" y="268"/>
                    </a:lnTo>
                    <a:lnTo>
                      <a:pt x="1534" y="246"/>
                    </a:lnTo>
                    <a:lnTo>
                      <a:pt x="1494" y="226"/>
                    </a:lnTo>
                    <a:lnTo>
                      <a:pt x="1453" y="205"/>
                    </a:lnTo>
                    <a:lnTo>
                      <a:pt x="1409" y="187"/>
                    </a:lnTo>
                    <a:lnTo>
                      <a:pt x="1365" y="169"/>
                    </a:lnTo>
                    <a:lnTo>
                      <a:pt x="1320" y="151"/>
                    </a:lnTo>
                    <a:lnTo>
                      <a:pt x="1275" y="134"/>
                    </a:lnTo>
                    <a:lnTo>
                      <a:pt x="1229" y="118"/>
                    </a:lnTo>
                    <a:lnTo>
                      <a:pt x="1183" y="103"/>
                    </a:lnTo>
                    <a:lnTo>
                      <a:pt x="1136" y="89"/>
                    </a:lnTo>
                    <a:lnTo>
                      <a:pt x="1090" y="76"/>
                    </a:lnTo>
                    <a:lnTo>
                      <a:pt x="1042" y="65"/>
                    </a:lnTo>
                    <a:lnTo>
                      <a:pt x="995" y="55"/>
                    </a:lnTo>
                    <a:lnTo>
                      <a:pt x="949" y="44"/>
                    </a:lnTo>
                    <a:lnTo>
                      <a:pt x="903" y="36"/>
                    </a:lnTo>
                    <a:lnTo>
                      <a:pt x="857" y="29"/>
                    </a:lnTo>
                    <a:lnTo>
                      <a:pt x="814" y="23"/>
                    </a:lnTo>
                    <a:lnTo>
                      <a:pt x="773" y="19"/>
                    </a:lnTo>
                    <a:lnTo>
                      <a:pt x="731" y="14"/>
                    </a:lnTo>
                    <a:lnTo>
                      <a:pt x="690" y="10"/>
                    </a:lnTo>
                    <a:lnTo>
                      <a:pt x="649" y="6"/>
                    </a:lnTo>
                    <a:lnTo>
                      <a:pt x="609" y="4"/>
                    </a:lnTo>
                    <a:lnTo>
                      <a:pt x="570" y="2"/>
                    </a:lnTo>
                    <a:lnTo>
                      <a:pt x="532" y="0"/>
                    </a:lnTo>
                    <a:lnTo>
                      <a:pt x="494" y="0"/>
                    </a:lnTo>
                    <a:lnTo>
                      <a:pt x="457" y="0"/>
                    </a:lnTo>
                    <a:lnTo>
                      <a:pt x="421" y="2"/>
                    </a:lnTo>
                    <a:lnTo>
                      <a:pt x="387" y="4"/>
                    </a:lnTo>
                    <a:lnTo>
                      <a:pt x="353" y="6"/>
                    </a:lnTo>
                    <a:lnTo>
                      <a:pt x="320" y="10"/>
                    </a:lnTo>
                    <a:lnTo>
                      <a:pt x="289" y="14"/>
                    </a:lnTo>
                    <a:lnTo>
                      <a:pt x="259" y="20"/>
                    </a:lnTo>
                    <a:lnTo>
                      <a:pt x="230" y="26"/>
                    </a:lnTo>
                    <a:lnTo>
                      <a:pt x="202" y="34"/>
                    </a:lnTo>
                    <a:lnTo>
                      <a:pt x="176" y="42"/>
                    </a:lnTo>
                    <a:lnTo>
                      <a:pt x="152" y="51"/>
                    </a:lnTo>
                    <a:lnTo>
                      <a:pt x="129" y="62"/>
                    </a:lnTo>
                    <a:lnTo>
                      <a:pt x="107" y="73"/>
                    </a:lnTo>
                    <a:lnTo>
                      <a:pt x="87" y="86"/>
                    </a:lnTo>
                    <a:lnTo>
                      <a:pt x="70" y="100"/>
                    </a:lnTo>
                    <a:lnTo>
                      <a:pt x="54" y="116"/>
                    </a:lnTo>
                    <a:lnTo>
                      <a:pt x="40" y="132"/>
                    </a:lnTo>
                    <a:lnTo>
                      <a:pt x="28" y="149"/>
                    </a:lnTo>
                    <a:lnTo>
                      <a:pt x="18" y="167"/>
                    </a:lnTo>
                    <a:lnTo>
                      <a:pt x="10" y="188"/>
                    </a:lnTo>
                    <a:lnTo>
                      <a:pt x="4" y="209"/>
                    </a:lnTo>
                    <a:lnTo>
                      <a:pt x="1" y="232"/>
                    </a:lnTo>
                    <a:lnTo>
                      <a:pt x="0" y="256"/>
                    </a:lnTo>
                    <a:lnTo>
                      <a:pt x="1" y="282"/>
                    </a:lnTo>
                    <a:lnTo>
                      <a:pt x="3" y="307"/>
                    </a:lnTo>
                    <a:lnTo>
                      <a:pt x="9" y="333"/>
                    </a:lnTo>
                    <a:lnTo>
                      <a:pt x="15" y="361"/>
                    </a:lnTo>
                    <a:lnTo>
                      <a:pt x="24" y="387"/>
                    </a:lnTo>
                    <a:lnTo>
                      <a:pt x="35" y="415"/>
                    </a:lnTo>
                    <a:lnTo>
                      <a:pt x="48" y="443"/>
                    </a:lnTo>
                    <a:lnTo>
                      <a:pt x="63" y="472"/>
                    </a:lnTo>
                    <a:lnTo>
                      <a:pt x="80" y="499"/>
                    </a:lnTo>
                    <a:lnTo>
                      <a:pt x="100" y="527"/>
                    </a:lnTo>
                    <a:lnTo>
                      <a:pt x="121" y="555"/>
                    </a:lnTo>
                    <a:lnTo>
                      <a:pt x="145" y="583"/>
                    </a:lnTo>
                    <a:lnTo>
                      <a:pt x="171" y="610"/>
                    </a:lnTo>
                    <a:lnTo>
                      <a:pt x="199" y="637"/>
                    </a:lnTo>
                    <a:lnTo>
                      <a:pt x="230" y="664"/>
                    </a:lnTo>
                    <a:lnTo>
                      <a:pt x="264" y="690"/>
                    </a:lnTo>
                    <a:lnTo>
                      <a:pt x="298" y="716"/>
                    </a:lnTo>
                    <a:lnTo>
                      <a:pt x="336" y="741"/>
                    </a:lnTo>
                    <a:lnTo>
                      <a:pt x="376" y="765"/>
                    </a:lnTo>
                    <a:lnTo>
                      <a:pt x="419" y="790"/>
                    </a:lnTo>
                    <a:lnTo>
                      <a:pt x="465" y="811"/>
                    </a:lnTo>
                    <a:lnTo>
                      <a:pt x="512" y="833"/>
                    </a:lnTo>
                    <a:lnTo>
                      <a:pt x="563" y="854"/>
                    </a:lnTo>
                    <a:lnTo>
                      <a:pt x="616" y="874"/>
                    </a:lnTo>
                    <a:lnTo>
                      <a:pt x="671" y="891"/>
                    </a:lnTo>
                    <a:lnTo>
                      <a:pt x="730" y="908"/>
                    </a:lnTo>
                    <a:lnTo>
                      <a:pt x="791" y="923"/>
                    </a:lnTo>
                    <a:lnTo>
                      <a:pt x="855" y="938"/>
                    </a:lnTo>
                    <a:lnTo>
                      <a:pt x="921" y="950"/>
                    </a:lnTo>
                    <a:lnTo>
                      <a:pt x="991" y="961"/>
                    </a:lnTo>
                    <a:lnTo>
                      <a:pt x="1063" y="970"/>
                    </a:lnTo>
                    <a:lnTo>
                      <a:pt x="1138" y="977"/>
                    </a:lnTo>
                    <a:close/>
                  </a:path>
                </a:pathLst>
              </a:custGeom>
              <a:solidFill>
                <a:srgbClr val="9ef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195560" y="3738240"/>
                <a:ext cx="1032120" cy="884160"/>
              </a:xfrm>
              <a:custGeom>
                <a:avLst/>
                <a:gdLst/>
                <a:ahLst/>
                <a:rect l="l" t="t" r="r" b="b"/>
                <a:pathLst>
                  <a:path w="1298" h="1112">
                    <a:moveTo>
                      <a:pt x="0" y="151"/>
                    </a:moveTo>
                    <a:lnTo>
                      <a:pt x="2" y="142"/>
                    </a:lnTo>
                    <a:lnTo>
                      <a:pt x="11" y="136"/>
                    </a:lnTo>
                    <a:lnTo>
                      <a:pt x="24" y="128"/>
                    </a:lnTo>
                    <a:lnTo>
                      <a:pt x="42" y="119"/>
                    </a:lnTo>
                    <a:lnTo>
                      <a:pt x="64" y="111"/>
                    </a:lnTo>
                    <a:lnTo>
                      <a:pt x="91" y="103"/>
                    </a:lnTo>
                    <a:lnTo>
                      <a:pt x="122" y="95"/>
                    </a:lnTo>
                    <a:lnTo>
                      <a:pt x="155" y="87"/>
                    </a:lnTo>
                    <a:lnTo>
                      <a:pt x="193" y="79"/>
                    </a:lnTo>
                    <a:lnTo>
                      <a:pt x="233" y="72"/>
                    </a:lnTo>
                    <a:lnTo>
                      <a:pt x="275" y="64"/>
                    </a:lnTo>
                    <a:lnTo>
                      <a:pt x="320" y="57"/>
                    </a:lnTo>
                    <a:lnTo>
                      <a:pt x="366" y="50"/>
                    </a:lnTo>
                    <a:lnTo>
                      <a:pt x="415" y="43"/>
                    </a:lnTo>
                    <a:lnTo>
                      <a:pt x="464" y="37"/>
                    </a:lnTo>
                    <a:lnTo>
                      <a:pt x="515" y="31"/>
                    </a:lnTo>
                    <a:lnTo>
                      <a:pt x="566" y="25"/>
                    </a:lnTo>
                    <a:lnTo>
                      <a:pt x="616" y="20"/>
                    </a:lnTo>
                    <a:lnTo>
                      <a:pt x="668" y="16"/>
                    </a:lnTo>
                    <a:lnTo>
                      <a:pt x="719" y="11"/>
                    </a:lnTo>
                    <a:lnTo>
                      <a:pt x="769" y="8"/>
                    </a:lnTo>
                    <a:lnTo>
                      <a:pt x="818" y="4"/>
                    </a:lnTo>
                    <a:lnTo>
                      <a:pt x="866" y="2"/>
                    </a:lnTo>
                    <a:lnTo>
                      <a:pt x="912" y="1"/>
                    </a:lnTo>
                    <a:lnTo>
                      <a:pt x="957" y="0"/>
                    </a:lnTo>
                    <a:lnTo>
                      <a:pt x="999" y="0"/>
                    </a:lnTo>
                    <a:lnTo>
                      <a:pt x="1039" y="1"/>
                    </a:lnTo>
                    <a:lnTo>
                      <a:pt x="1075" y="2"/>
                    </a:lnTo>
                    <a:lnTo>
                      <a:pt x="1108" y="4"/>
                    </a:lnTo>
                    <a:lnTo>
                      <a:pt x="1138" y="8"/>
                    </a:lnTo>
                    <a:lnTo>
                      <a:pt x="1165" y="12"/>
                    </a:lnTo>
                    <a:lnTo>
                      <a:pt x="1187" y="18"/>
                    </a:lnTo>
                    <a:lnTo>
                      <a:pt x="1229" y="41"/>
                    </a:lnTo>
                    <a:lnTo>
                      <a:pt x="1260" y="78"/>
                    </a:lnTo>
                    <a:lnTo>
                      <a:pt x="1282" y="129"/>
                    </a:lnTo>
                    <a:lnTo>
                      <a:pt x="1294" y="189"/>
                    </a:lnTo>
                    <a:lnTo>
                      <a:pt x="1298" y="257"/>
                    </a:lnTo>
                    <a:lnTo>
                      <a:pt x="1296" y="329"/>
                    </a:lnTo>
                    <a:lnTo>
                      <a:pt x="1289" y="406"/>
                    </a:lnTo>
                    <a:lnTo>
                      <a:pt x="1278" y="485"/>
                    </a:lnTo>
                    <a:lnTo>
                      <a:pt x="1263" y="563"/>
                    </a:lnTo>
                    <a:lnTo>
                      <a:pt x="1246" y="637"/>
                    </a:lnTo>
                    <a:lnTo>
                      <a:pt x="1229" y="706"/>
                    </a:lnTo>
                    <a:lnTo>
                      <a:pt x="1212" y="767"/>
                    </a:lnTo>
                    <a:lnTo>
                      <a:pt x="1197" y="819"/>
                    </a:lnTo>
                    <a:lnTo>
                      <a:pt x="1185" y="858"/>
                    </a:lnTo>
                    <a:lnTo>
                      <a:pt x="1177" y="883"/>
                    </a:lnTo>
                    <a:lnTo>
                      <a:pt x="1174" y="892"/>
                    </a:lnTo>
                    <a:lnTo>
                      <a:pt x="848" y="1112"/>
                    </a:lnTo>
                    <a:lnTo>
                      <a:pt x="1003" y="435"/>
                    </a:lnTo>
                    <a:lnTo>
                      <a:pt x="1001" y="434"/>
                    </a:lnTo>
                    <a:lnTo>
                      <a:pt x="992" y="433"/>
                    </a:lnTo>
                    <a:lnTo>
                      <a:pt x="978" y="429"/>
                    </a:lnTo>
                    <a:lnTo>
                      <a:pt x="961" y="425"/>
                    </a:lnTo>
                    <a:lnTo>
                      <a:pt x="938" y="420"/>
                    </a:lnTo>
                    <a:lnTo>
                      <a:pt x="911" y="414"/>
                    </a:lnTo>
                    <a:lnTo>
                      <a:pt x="880" y="406"/>
                    </a:lnTo>
                    <a:lnTo>
                      <a:pt x="847" y="399"/>
                    </a:lnTo>
                    <a:lnTo>
                      <a:pt x="810" y="390"/>
                    </a:lnTo>
                    <a:lnTo>
                      <a:pt x="771" y="381"/>
                    </a:lnTo>
                    <a:lnTo>
                      <a:pt x="729" y="371"/>
                    </a:lnTo>
                    <a:lnTo>
                      <a:pt x="685" y="360"/>
                    </a:lnTo>
                    <a:lnTo>
                      <a:pt x="642" y="350"/>
                    </a:lnTo>
                    <a:lnTo>
                      <a:pt x="595" y="338"/>
                    </a:lnTo>
                    <a:lnTo>
                      <a:pt x="548" y="327"/>
                    </a:lnTo>
                    <a:lnTo>
                      <a:pt x="502" y="315"/>
                    </a:lnTo>
                    <a:lnTo>
                      <a:pt x="455" y="303"/>
                    </a:lnTo>
                    <a:lnTo>
                      <a:pt x="408" y="291"/>
                    </a:lnTo>
                    <a:lnTo>
                      <a:pt x="362" y="278"/>
                    </a:lnTo>
                    <a:lnTo>
                      <a:pt x="318" y="267"/>
                    </a:lnTo>
                    <a:lnTo>
                      <a:pt x="274" y="254"/>
                    </a:lnTo>
                    <a:lnTo>
                      <a:pt x="233" y="243"/>
                    </a:lnTo>
                    <a:lnTo>
                      <a:pt x="193" y="231"/>
                    </a:lnTo>
                    <a:lnTo>
                      <a:pt x="156" y="220"/>
                    </a:lnTo>
                    <a:lnTo>
                      <a:pt x="123" y="209"/>
                    </a:lnTo>
                    <a:lnTo>
                      <a:pt x="92" y="199"/>
                    </a:lnTo>
                    <a:lnTo>
                      <a:pt x="65" y="189"/>
                    </a:lnTo>
                    <a:lnTo>
                      <a:pt x="42" y="179"/>
                    </a:lnTo>
                    <a:lnTo>
                      <a:pt x="25" y="171"/>
                    </a:lnTo>
                    <a:lnTo>
                      <a:pt x="11" y="163"/>
                    </a:lnTo>
                    <a:lnTo>
                      <a:pt x="2" y="156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4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24280" y="3854160"/>
                <a:ext cx="914400" cy="774360"/>
              </a:xfrm>
              <a:custGeom>
                <a:avLst/>
                <a:gdLst/>
                <a:ahLst/>
                <a:rect l="l" t="t" r="r" b="b"/>
                <a:pathLst>
                  <a:path w="1152" h="976">
                    <a:moveTo>
                      <a:pt x="129" y="0"/>
                    </a:moveTo>
                    <a:lnTo>
                      <a:pt x="0" y="569"/>
                    </a:lnTo>
                    <a:lnTo>
                      <a:pt x="928" y="976"/>
                    </a:lnTo>
                    <a:lnTo>
                      <a:pt x="1152" y="30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7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92360" y="4108320"/>
                <a:ext cx="1479600" cy="731520"/>
              </a:xfrm>
              <a:custGeom>
                <a:avLst/>
                <a:gdLst/>
                <a:ahLst/>
                <a:rect l="l" t="t" r="r" b="b"/>
                <a:pathLst>
                  <a:path w="1863" h="922">
                    <a:moveTo>
                      <a:pt x="1692" y="825"/>
                    </a:moveTo>
                    <a:lnTo>
                      <a:pt x="1646" y="843"/>
                    </a:lnTo>
                    <a:lnTo>
                      <a:pt x="1600" y="859"/>
                    </a:lnTo>
                    <a:lnTo>
                      <a:pt x="1554" y="873"/>
                    </a:lnTo>
                    <a:lnTo>
                      <a:pt x="1507" y="886"/>
                    </a:lnTo>
                    <a:lnTo>
                      <a:pt x="1458" y="896"/>
                    </a:lnTo>
                    <a:lnTo>
                      <a:pt x="1411" y="905"/>
                    </a:lnTo>
                    <a:lnTo>
                      <a:pt x="1363" y="911"/>
                    </a:lnTo>
                    <a:lnTo>
                      <a:pt x="1314" y="917"/>
                    </a:lnTo>
                    <a:lnTo>
                      <a:pt x="1266" y="919"/>
                    </a:lnTo>
                    <a:lnTo>
                      <a:pt x="1216" y="922"/>
                    </a:lnTo>
                    <a:lnTo>
                      <a:pt x="1168" y="920"/>
                    </a:lnTo>
                    <a:lnTo>
                      <a:pt x="1120" y="919"/>
                    </a:lnTo>
                    <a:lnTo>
                      <a:pt x="1070" y="916"/>
                    </a:lnTo>
                    <a:lnTo>
                      <a:pt x="1022" y="911"/>
                    </a:lnTo>
                    <a:lnTo>
                      <a:pt x="972" y="904"/>
                    </a:lnTo>
                    <a:lnTo>
                      <a:pt x="924" y="896"/>
                    </a:lnTo>
                    <a:lnTo>
                      <a:pt x="875" y="887"/>
                    </a:lnTo>
                    <a:lnTo>
                      <a:pt x="828" y="877"/>
                    </a:lnTo>
                    <a:lnTo>
                      <a:pt x="780" y="865"/>
                    </a:lnTo>
                    <a:lnTo>
                      <a:pt x="732" y="851"/>
                    </a:lnTo>
                    <a:lnTo>
                      <a:pt x="685" y="837"/>
                    </a:lnTo>
                    <a:lnTo>
                      <a:pt x="639" y="821"/>
                    </a:lnTo>
                    <a:lnTo>
                      <a:pt x="593" y="805"/>
                    </a:lnTo>
                    <a:lnTo>
                      <a:pt x="548" y="787"/>
                    </a:lnTo>
                    <a:lnTo>
                      <a:pt x="503" y="767"/>
                    </a:lnTo>
                    <a:lnTo>
                      <a:pt x="459" y="748"/>
                    </a:lnTo>
                    <a:lnTo>
                      <a:pt x="416" y="727"/>
                    </a:lnTo>
                    <a:lnTo>
                      <a:pt x="374" y="705"/>
                    </a:lnTo>
                    <a:lnTo>
                      <a:pt x="332" y="682"/>
                    </a:lnTo>
                    <a:lnTo>
                      <a:pt x="291" y="658"/>
                    </a:lnTo>
                    <a:lnTo>
                      <a:pt x="252" y="634"/>
                    </a:lnTo>
                    <a:lnTo>
                      <a:pt x="213" y="608"/>
                    </a:lnTo>
                    <a:lnTo>
                      <a:pt x="192" y="592"/>
                    </a:lnTo>
                    <a:lnTo>
                      <a:pt x="171" y="575"/>
                    </a:lnTo>
                    <a:lnTo>
                      <a:pt x="154" y="558"/>
                    </a:lnTo>
                    <a:lnTo>
                      <a:pt x="137" y="540"/>
                    </a:lnTo>
                    <a:lnTo>
                      <a:pt x="121" y="523"/>
                    </a:lnTo>
                    <a:lnTo>
                      <a:pt x="106" y="506"/>
                    </a:lnTo>
                    <a:lnTo>
                      <a:pt x="93" y="487"/>
                    </a:lnTo>
                    <a:lnTo>
                      <a:pt x="80" y="469"/>
                    </a:lnTo>
                    <a:lnTo>
                      <a:pt x="69" y="450"/>
                    </a:lnTo>
                    <a:lnTo>
                      <a:pt x="57" y="431"/>
                    </a:lnTo>
                    <a:lnTo>
                      <a:pt x="48" y="412"/>
                    </a:lnTo>
                    <a:lnTo>
                      <a:pt x="39" y="393"/>
                    </a:lnTo>
                    <a:lnTo>
                      <a:pt x="30" y="373"/>
                    </a:lnTo>
                    <a:lnTo>
                      <a:pt x="22" y="352"/>
                    </a:lnTo>
                    <a:lnTo>
                      <a:pt x="14" y="333"/>
                    </a:lnTo>
                    <a:lnTo>
                      <a:pt x="5" y="312"/>
                    </a:lnTo>
                    <a:lnTo>
                      <a:pt x="2" y="270"/>
                    </a:lnTo>
                    <a:lnTo>
                      <a:pt x="0" y="227"/>
                    </a:lnTo>
                    <a:lnTo>
                      <a:pt x="2" y="183"/>
                    </a:lnTo>
                    <a:lnTo>
                      <a:pt x="15" y="142"/>
                    </a:lnTo>
                    <a:lnTo>
                      <a:pt x="25" y="120"/>
                    </a:lnTo>
                    <a:lnTo>
                      <a:pt x="38" y="100"/>
                    </a:lnTo>
                    <a:lnTo>
                      <a:pt x="54" y="82"/>
                    </a:lnTo>
                    <a:lnTo>
                      <a:pt x="71" y="67"/>
                    </a:lnTo>
                    <a:lnTo>
                      <a:pt x="90" y="53"/>
                    </a:lnTo>
                    <a:lnTo>
                      <a:pt x="111" y="41"/>
                    </a:lnTo>
                    <a:lnTo>
                      <a:pt x="135" y="31"/>
                    </a:lnTo>
                    <a:lnTo>
                      <a:pt x="160" y="23"/>
                    </a:lnTo>
                    <a:lnTo>
                      <a:pt x="188" y="16"/>
                    </a:lnTo>
                    <a:lnTo>
                      <a:pt x="216" y="10"/>
                    </a:lnTo>
                    <a:lnTo>
                      <a:pt x="247" y="6"/>
                    </a:lnTo>
                    <a:lnTo>
                      <a:pt x="281" y="3"/>
                    </a:lnTo>
                    <a:lnTo>
                      <a:pt x="315" y="1"/>
                    </a:lnTo>
                    <a:lnTo>
                      <a:pt x="351" y="0"/>
                    </a:lnTo>
                    <a:lnTo>
                      <a:pt x="389" y="0"/>
                    </a:lnTo>
                    <a:lnTo>
                      <a:pt x="428" y="0"/>
                    </a:lnTo>
                    <a:lnTo>
                      <a:pt x="431" y="3"/>
                    </a:lnTo>
                    <a:lnTo>
                      <a:pt x="433" y="13"/>
                    </a:lnTo>
                    <a:lnTo>
                      <a:pt x="428" y="24"/>
                    </a:lnTo>
                    <a:lnTo>
                      <a:pt x="413" y="35"/>
                    </a:lnTo>
                    <a:lnTo>
                      <a:pt x="371" y="36"/>
                    </a:lnTo>
                    <a:lnTo>
                      <a:pt x="332" y="37"/>
                    </a:lnTo>
                    <a:lnTo>
                      <a:pt x="295" y="40"/>
                    </a:lnTo>
                    <a:lnTo>
                      <a:pt x="261" y="46"/>
                    </a:lnTo>
                    <a:lnTo>
                      <a:pt x="231" y="52"/>
                    </a:lnTo>
                    <a:lnTo>
                      <a:pt x="204" y="60"/>
                    </a:lnTo>
                    <a:lnTo>
                      <a:pt x="178" y="70"/>
                    </a:lnTo>
                    <a:lnTo>
                      <a:pt x="156" y="82"/>
                    </a:lnTo>
                    <a:lnTo>
                      <a:pt x="137" y="96"/>
                    </a:lnTo>
                    <a:lnTo>
                      <a:pt x="120" y="112"/>
                    </a:lnTo>
                    <a:lnTo>
                      <a:pt x="106" y="130"/>
                    </a:lnTo>
                    <a:lnTo>
                      <a:pt x="93" y="151"/>
                    </a:lnTo>
                    <a:lnTo>
                      <a:pt x="84" y="174"/>
                    </a:lnTo>
                    <a:lnTo>
                      <a:pt x="76" y="199"/>
                    </a:lnTo>
                    <a:lnTo>
                      <a:pt x="71" y="228"/>
                    </a:lnTo>
                    <a:lnTo>
                      <a:pt x="68" y="259"/>
                    </a:lnTo>
                    <a:lnTo>
                      <a:pt x="72" y="304"/>
                    </a:lnTo>
                    <a:lnTo>
                      <a:pt x="83" y="346"/>
                    </a:lnTo>
                    <a:lnTo>
                      <a:pt x="96" y="382"/>
                    </a:lnTo>
                    <a:lnTo>
                      <a:pt x="116" y="416"/>
                    </a:lnTo>
                    <a:lnTo>
                      <a:pt x="140" y="447"/>
                    </a:lnTo>
                    <a:lnTo>
                      <a:pt x="168" y="477"/>
                    </a:lnTo>
                    <a:lnTo>
                      <a:pt x="200" y="505"/>
                    </a:lnTo>
                    <a:lnTo>
                      <a:pt x="237" y="531"/>
                    </a:lnTo>
                    <a:lnTo>
                      <a:pt x="239" y="532"/>
                    </a:lnTo>
                    <a:lnTo>
                      <a:pt x="246" y="537"/>
                    </a:lnTo>
                    <a:lnTo>
                      <a:pt x="257" y="545"/>
                    </a:lnTo>
                    <a:lnTo>
                      <a:pt x="272" y="554"/>
                    </a:lnTo>
                    <a:lnTo>
                      <a:pt x="290" y="566"/>
                    </a:lnTo>
                    <a:lnTo>
                      <a:pt x="312" y="579"/>
                    </a:lnTo>
                    <a:lnTo>
                      <a:pt x="336" y="594"/>
                    </a:lnTo>
                    <a:lnTo>
                      <a:pt x="364" y="611"/>
                    </a:lnTo>
                    <a:lnTo>
                      <a:pt x="394" y="629"/>
                    </a:lnTo>
                    <a:lnTo>
                      <a:pt x="426" y="646"/>
                    </a:lnTo>
                    <a:lnTo>
                      <a:pt x="461" y="665"/>
                    </a:lnTo>
                    <a:lnTo>
                      <a:pt x="495" y="683"/>
                    </a:lnTo>
                    <a:lnTo>
                      <a:pt x="532" y="702"/>
                    </a:lnTo>
                    <a:lnTo>
                      <a:pt x="570" y="720"/>
                    </a:lnTo>
                    <a:lnTo>
                      <a:pt x="609" y="737"/>
                    </a:lnTo>
                    <a:lnTo>
                      <a:pt x="648" y="753"/>
                    </a:lnTo>
                    <a:lnTo>
                      <a:pt x="683" y="765"/>
                    </a:lnTo>
                    <a:lnTo>
                      <a:pt x="719" y="776"/>
                    </a:lnTo>
                    <a:lnTo>
                      <a:pt x="754" y="788"/>
                    </a:lnTo>
                    <a:lnTo>
                      <a:pt x="790" y="798"/>
                    </a:lnTo>
                    <a:lnTo>
                      <a:pt x="827" y="807"/>
                    </a:lnTo>
                    <a:lnTo>
                      <a:pt x="864" y="817"/>
                    </a:lnTo>
                    <a:lnTo>
                      <a:pt x="901" y="826"/>
                    </a:lnTo>
                    <a:lnTo>
                      <a:pt x="938" y="834"/>
                    </a:lnTo>
                    <a:lnTo>
                      <a:pt x="976" y="841"/>
                    </a:lnTo>
                    <a:lnTo>
                      <a:pt x="1012" y="848"/>
                    </a:lnTo>
                    <a:lnTo>
                      <a:pt x="1050" y="854"/>
                    </a:lnTo>
                    <a:lnTo>
                      <a:pt x="1088" y="858"/>
                    </a:lnTo>
                    <a:lnTo>
                      <a:pt x="1125" y="863"/>
                    </a:lnTo>
                    <a:lnTo>
                      <a:pt x="1163" y="865"/>
                    </a:lnTo>
                    <a:lnTo>
                      <a:pt x="1200" y="867"/>
                    </a:lnTo>
                    <a:lnTo>
                      <a:pt x="1237" y="867"/>
                    </a:lnTo>
                    <a:lnTo>
                      <a:pt x="1274" y="867"/>
                    </a:lnTo>
                    <a:lnTo>
                      <a:pt x="1311" y="866"/>
                    </a:lnTo>
                    <a:lnTo>
                      <a:pt x="1348" y="863"/>
                    </a:lnTo>
                    <a:lnTo>
                      <a:pt x="1383" y="859"/>
                    </a:lnTo>
                    <a:lnTo>
                      <a:pt x="1419" y="854"/>
                    </a:lnTo>
                    <a:lnTo>
                      <a:pt x="1455" y="847"/>
                    </a:lnTo>
                    <a:lnTo>
                      <a:pt x="1489" y="837"/>
                    </a:lnTo>
                    <a:lnTo>
                      <a:pt x="1523" y="828"/>
                    </a:lnTo>
                    <a:lnTo>
                      <a:pt x="1556" y="817"/>
                    </a:lnTo>
                    <a:lnTo>
                      <a:pt x="1590" y="803"/>
                    </a:lnTo>
                    <a:lnTo>
                      <a:pt x="1622" y="789"/>
                    </a:lnTo>
                    <a:lnTo>
                      <a:pt x="1653" y="772"/>
                    </a:lnTo>
                    <a:lnTo>
                      <a:pt x="1684" y="753"/>
                    </a:lnTo>
                    <a:lnTo>
                      <a:pt x="1714" y="734"/>
                    </a:lnTo>
                    <a:lnTo>
                      <a:pt x="1743" y="712"/>
                    </a:lnTo>
                    <a:lnTo>
                      <a:pt x="1771" y="688"/>
                    </a:lnTo>
                    <a:lnTo>
                      <a:pt x="1787" y="669"/>
                    </a:lnTo>
                    <a:lnTo>
                      <a:pt x="1798" y="646"/>
                    </a:lnTo>
                    <a:lnTo>
                      <a:pt x="1804" y="619"/>
                    </a:lnTo>
                    <a:lnTo>
                      <a:pt x="1803" y="586"/>
                    </a:lnTo>
                    <a:lnTo>
                      <a:pt x="1791" y="551"/>
                    </a:lnTo>
                    <a:lnTo>
                      <a:pt x="1772" y="510"/>
                    </a:lnTo>
                    <a:lnTo>
                      <a:pt x="1739" y="464"/>
                    </a:lnTo>
                    <a:lnTo>
                      <a:pt x="1696" y="414"/>
                    </a:lnTo>
                    <a:lnTo>
                      <a:pt x="1701" y="410"/>
                    </a:lnTo>
                    <a:lnTo>
                      <a:pt x="1707" y="409"/>
                    </a:lnTo>
                    <a:lnTo>
                      <a:pt x="1714" y="410"/>
                    </a:lnTo>
                    <a:lnTo>
                      <a:pt x="1720" y="412"/>
                    </a:lnTo>
                    <a:lnTo>
                      <a:pt x="1726" y="416"/>
                    </a:lnTo>
                    <a:lnTo>
                      <a:pt x="1731" y="420"/>
                    </a:lnTo>
                    <a:lnTo>
                      <a:pt x="1737" y="426"/>
                    </a:lnTo>
                    <a:lnTo>
                      <a:pt x="1743" y="432"/>
                    </a:lnTo>
                    <a:lnTo>
                      <a:pt x="1764" y="449"/>
                    </a:lnTo>
                    <a:lnTo>
                      <a:pt x="1782" y="467"/>
                    </a:lnTo>
                    <a:lnTo>
                      <a:pt x="1799" y="485"/>
                    </a:lnTo>
                    <a:lnTo>
                      <a:pt x="1815" y="505"/>
                    </a:lnTo>
                    <a:lnTo>
                      <a:pt x="1829" y="524"/>
                    </a:lnTo>
                    <a:lnTo>
                      <a:pt x="1842" y="544"/>
                    </a:lnTo>
                    <a:lnTo>
                      <a:pt x="1854" y="564"/>
                    </a:lnTo>
                    <a:lnTo>
                      <a:pt x="1863" y="586"/>
                    </a:lnTo>
                    <a:lnTo>
                      <a:pt x="1858" y="624"/>
                    </a:lnTo>
                    <a:lnTo>
                      <a:pt x="1847" y="661"/>
                    </a:lnTo>
                    <a:lnTo>
                      <a:pt x="1830" y="696"/>
                    </a:lnTo>
                    <a:lnTo>
                      <a:pt x="1811" y="728"/>
                    </a:lnTo>
                    <a:lnTo>
                      <a:pt x="1786" y="757"/>
                    </a:lnTo>
                    <a:lnTo>
                      <a:pt x="1758" y="783"/>
                    </a:lnTo>
                    <a:lnTo>
                      <a:pt x="1726" y="806"/>
                    </a:lnTo>
                    <a:lnTo>
                      <a:pt x="1692" y="8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94320" y="3770280"/>
                <a:ext cx="347400" cy="860040"/>
              </a:xfrm>
              <a:custGeom>
                <a:avLst/>
                <a:gdLst/>
                <a:ahLst/>
                <a:rect l="l" t="t" r="r" b="b"/>
                <a:pathLst>
                  <a:path w="438" h="1084">
                    <a:moveTo>
                      <a:pt x="364" y="629"/>
                    </a:moveTo>
                    <a:lnTo>
                      <a:pt x="364" y="670"/>
                    </a:lnTo>
                    <a:lnTo>
                      <a:pt x="364" y="711"/>
                    </a:lnTo>
                    <a:lnTo>
                      <a:pt x="363" y="749"/>
                    </a:lnTo>
                    <a:lnTo>
                      <a:pt x="357" y="785"/>
                    </a:lnTo>
                    <a:lnTo>
                      <a:pt x="346" y="822"/>
                    </a:lnTo>
                    <a:lnTo>
                      <a:pt x="326" y="859"/>
                    </a:lnTo>
                    <a:lnTo>
                      <a:pt x="296" y="897"/>
                    </a:lnTo>
                    <a:lnTo>
                      <a:pt x="253" y="935"/>
                    </a:lnTo>
                    <a:lnTo>
                      <a:pt x="245" y="946"/>
                    </a:lnTo>
                    <a:lnTo>
                      <a:pt x="235" y="956"/>
                    </a:lnTo>
                    <a:lnTo>
                      <a:pt x="222" y="967"/>
                    </a:lnTo>
                    <a:lnTo>
                      <a:pt x="207" y="978"/>
                    </a:lnTo>
                    <a:lnTo>
                      <a:pt x="191" y="989"/>
                    </a:lnTo>
                    <a:lnTo>
                      <a:pt x="174" y="1000"/>
                    </a:lnTo>
                    <a:lnTo>
                      <a:pt x="154" y="1010"/>
                    </a:lnTo>
                    <a:lnTo>
                      <a:pt x="136" y="1020"/>
                    </a:lnTo>
                    <a:lnTo>
                      <a:pt x="115" y="1031"/>
                    </a:lnTo>
                    <a:lnTo>
                      <a:pt x="96" y="1040"/>
                    </a:lnTo>
                    <a:lnTo>
                      <a:pt x="77" y="1049"/>
                    </a:lnTo>
                    <a:lnTo>
                      <a:pt x="59" y="1057"/>
                    </a:lnTo>
                    <a:lnTo>
                      <a:pt x="41" y="1065"/>
                    </a:lnTo>
                    <a:lnTo>
                      <a:pt x="25" y="1072"/>
                    </a:lnTo>
                    <a:lnTo>
                      <a:pt x="11" y="1078"/>
                    </a:lnTo>
                    <a:lnTo>
                      <a:pt x="0" y="1084"/>
                    </a:lnTo>
                    <a:lnTo>
                      <a:pt x="0" y="1077"/>
                    </a:lnTo>
                    <a:lnTo>
                      <a:pt x="7" y="1064"/>
                    </a:lnTo>
                    <a:lnTo>
                      <a:pt x="16" y="1050"/>
                    </a:lnTo>
                    <a:lnTo>
                      <a:pt x="21" y="1041"/>
                    </a:lnTo>
                    <a:lnTo>
                      <a:pt x="62" y="1020"/>
                    </a:lnTo>
                    <a:lnTo>
                      <a:pt x="100" y="996"/>
                    </a:lnTo>
                    <a:lnTo>
                      <a:pt x="135" y="971"/>
                    </a:lnTo>
                    <a:lnTo>
                      <a:pt x="166" y="944"/>
                    </a:lnTo>
                    <a:lnTo>
                      <a:pt x="193" y="914"/>
                    </a:lnTo>
                    <a:lnTo>
                      <a:pt x="219" y="884"/>
                    </a:lnTo>
                    <a:lnTo>
                      <a:pt x="240" y="852"/>
                    </a:lnTo>
                    <a:lnTo>
                      <a:pt x="259" y="820"/>
                    </a:lnTo>
                    <a:lnTo>
                      <a:pt x="274" y="785"/>
                    </a:lnTo>
                    <a:lnTo>
                      <a:pt x="288" y="751"/>
                    </a:lnTo>
                    <a:lnTo>
                      <a:pt x="298" y="715"/>
                    </a:lnTo>
                    <a:lnTo>
                      <a:pt x="306" y="679"/>
                    </a:lnTo>
                    <a:lnTo>
                      <a:pt x="312" y="644"/>
                    </a:lnTo>
                    <a:lnTo>
                      <a:pt x="317" y="608"/>
                    </a:lnTo>
                    <a:lnTo>
                      <a:pt x="318" y="572"/>
                    </a:lnTo>
                    <a:lnTo>
                      <a:pt x="318" y="537"/>
                    </a:lnTo>
                    <a:lnTo>
                      <a:pt x="346" y="478"/>
                    </a:lnTo>
                    <a:lnTo>
                      <a:pt x="369" y="416"/>
                    </a:lnTo>
                    <a:lnTo>
                      <a:pt x="387" y="350"/>
                    </a:lnTo>
                    <a:lnTo>
                      <a:pt x="397" y="282"/>
                    </a:lnTo>
                    <a:lnTo>
                      <a:pt x="400" y="213"/>
                    </a:lnTo>
                    <a:lnTo>
                      <a:pt x="393" y="144"/>
                    </a:lnTo>
                    <a:lnTo>
                      <a:pt x="375" y="75"/>
                    </a:lnTo>
                    <a:lnTo>
                      <a:pt x="346" y="8"/>
                    </a:lnTo>
                    <a:lnTo>
                      <a:pt x="348" y="6"/>
                    </a:lnTo>
                    <a:lnTo>
                      <a:pt x="352" y="4"/>
                    </a:lnTo>
                    <a:lnTo>
                      <a:pt x="357" y="3"/>
                    </a:lnTo>
                    <a:lnTo>
                      <a:pt x="363" y="2"/>
                    </a:lnTo>
                    <a:lnTo>
                      <a:pt x="367" y="2"/>
                    </a:lnTo>
                    <a:lnTo>
                      <a:pt x="373" y="1"/>
                    </a:lnTo>
                    <a:lnTo>
                      <a:pt x="377" y="1"/>
                    </a:lnTo>
                    <a:lnTo>
                      <a:pt x="380" y="0"/>
                    </a:lnTo>
                    <a:lnTo>
                      <a:pt x="410" y="75"/>
                    </a:lnTo>
                    <a:lnTo>
                      <a:pt x="428" y="154"/>
                    </a:lnTo>
                    <a:lnTo>
                      <a:pt x="438" y="236"/>
                    </a:lnTo>
                    <a:lnTo>
                      <a:pt x="438" y="320"/>
                    </a:lnTo>
                    <a:lnTo>
                      <a:pt x="428" y="403"/>
                    </a:lnTo>
                    <a:lnTo>
                      <a:pt x="414" y="482"/>
                    </a:lnTo>
                    <a:lnTo>
                      <a:pt x="392" y="558"/>
                    </a:lnTo>
                    <a:lnTo>
                      <a:pt x="364" y="6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51200" y="3736800"/>
                <a:ext cx="227160" cy="372600"/>
              </a:xfrm>
              <a:custGeom>
                <a:avLst/>
                <a:gdLst/>
                <a:ahLst/>
                <a:rect l="l" t="t" r="r" b="b"/>
                <a:pathLst>
                  <a:path w="287" h="471">
                    <a:moveTo>
                      <a:pt x="0" y="6"/>
                    </a:moveTo>
                    <a:lnTo>
                      <a:pt x="21" y="8"/>
                    </a:lnTo>
                    <a:lnTo>
                      <a:pt x="41" y="9"/>
                    </a:lnTo>
                    <a:lnTo>
                      <a:pt x="63" y="9"/>
                    </a:lnTo>
                    <a:lnTo>
                      <a:pt x="83" y="8"/>
                    </a:lnTo>
                    <a:lnTo>
                      <a:pt x="104" y="7"/>
                    </a:lnTo>
                    <a:lnTo>
                      <a:pt x="125" y="6"/>
                    </a:lnTo>
                    <a:lnTo>
                      <a:pt x="144" y="5"/>
                    </a:lnTo>
                    <a:lnTo>
                      <a:pt x="164" y="3"/>
                    </a:lnTo>
                    <a:lnTo>
                      <a:pt x="182" y="1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0" y="1"/>
                    </a:lnTo>
                    <a:lnTo>
                      <a:pt x="242" y="3"/>
                    </a:lnTo>
                    <a:lnTo>
                      <a:pt x="253" y="6"/>
                    </a:lnTo>
                    <a:lnTo>
                      <a:pt x="262" y="11"/>
                    </a:lnTo>
                    <a:lnTo>
                      <a:pt x="268" y="16"/>
                    </a:lnTo>
                    <a:lnTo>
                      <a:pt x="261" y="68"/>
                    </a:lnTo>
                    <a:lnTo>
                      <a:pt x="261" y="120"/>
                    </a:lnTo>
                    <a:lnTo>
                      <a:pt x="269" y="170"/>
                    </a:lnTo>
                    <a:lnTo>
                      <a:pt x="287" y="216"/>
                    </a:lnTo>
                    <a:lnTo>
                      <a:pt x="285" y="243"/>
                    </a:lnTo>
                    <a:lnTo>
                      <a:pt x="283" y="269"/>
                    </a:lnTo>
                    <a:lnTo>
                      <a:pt x="280" y="293"/>
                    </a:lnTo>
                    <a:lnTo>
                      <a:pt x="275" y="316"/>
                    </a:lnTo>
                    <a:lnTo>
                      <a:pt x="266" y="339"/>
                    </a:lnTo>
                    <a:lnTo>
                      <a:pt x="251" y="363"/>
                    </a:lnTo>
                    <a:lnTo>
                      <a:pt x="230" y="387"/>
                    </a:lnTo>
                    <a:lnTo>
                      <a:pt x="200" y="415"/>
                    </a:lnTo>
                    <a:lnTo>
                      <a:pt x="185" y="428"/>
                    </a:lnTo>
                    <a:lnTo>
                      <a:pt x="172" y="438"/>
                    </a:lnTo>
                    <a:lnTo>
                      <a:pt x="163" y="446"/>
                    </a:lnTo>
                    <a:lnTo>
                      <a:pt x="155" y="453"/>
                    </a:lnTo>
                    <a:lnTo>
                      <a:pt x="148" y="459"/>
                    </a:lnTo>
                    <a:lnTo>
                      <a:pt x="141" y="463"/>
                    </a:lnTo>
                    <a:lnTo>
                      <a:pt x="134" y="467"/>
                    </a:lnTo>
                    <a:lnTo>
                      <a:pt x="125" y="471"/>
                    </a:lnTo>
                    <a:lnTo>
                      <a:pt x="111" y="457"/>
                    </a:lnTo>
                    <a:lnTo>
                      <a:pt x="137" y="429"/>
                    </a:lnTo>
                    <a:lnTo>
                      <a:pt x="160" y="402"/>
                    </a:lnTo>
                    <a:lnTo>
                      <a:pt x="181" y="377"/>
                    </a:lnTo>
                    <a:lnTo>
                      <a:pt x="198" y="352"/>
                    </a:lnTo>
                    <a:lnTo>
                      <a:pt x="210" y="325"/>
                    </a:lnTo>
                    <a:lnTo>
                      <a:pt x="217" y="296"/>
                    </a:lnTo>
                    <a:lnTo>
                      <a:pt x="219" y="265"/>
                    </a:lnTo>
                    <a:lnTo>
                      <a:pt x="213" y="229"/>
                    </a:lnTo>
                    <a:lnTo>
                      <a:pt x="205" y="186"/>
                    </a:lnTo>
                    <a:lnTo>
                      <a:pt x="202" y="141"/>
                    </a:lnTo>
                    <a:lnTo>
                      <a:pt x="207" y="97"/>
                    </a:lnTo>
                    <a:lnTo>
                      <a:pt x="218" y="53"/>
                    </a:lnTo>
                    <a:lnTo>
                      <a:pt x="205" y="50"/>
                    </a:lnTo>
                    <a:lnTo>
                      <a:pt x="193" y="47"/>
                    </a:lnTo>
                    <a:lnTo>
                      <a:pt x="181" y="46"/>
                    </a:lnTo>
                    <a:lnTo>
                      <a:pt x="169" y="45"/>
                    </a:lnTo>
                    <a:lnTo>
                      <a:pt x="156" y="45"/>
                    </a:lnTo>
                    <a:lnTo>
                      <a:pt x="143" y="45"/>
                    </a:lnTo>
                    <a:lnTo>
                      <a:pt x="131" y="46"/>
                    </a:lnTo>
                    <a:lnTo>
                      <a:pt x="118" y="46"/>
                    </a:lnTo>
                    <a:lnTo>
                      <a:pt x="105" y="46"/>
                    </a:lnTo>
                    <a:lnTo>
                      <a:pt x="92" y="47"/>
                    </a:lnTo>
                    <a:lnTo>
                      <a:pt x="81" y="47"/>
                    </a:lnTo>
                    <a:lnTo>
                      <a:pt x="68" y="46"/>
                    </a:lnTo>
                    <a:lnTo>
                      <a:pt x="57" y="45"/>
                    </a:lnTo>
                    <a:lnTo>
                      <a:pt x="44" y="43"/>
                    </a:lnTo>
                    <a:lnTo>
                      <a:pt x="33" y="41"/>
                    </a:lnTo>
                    <a:lnTo>
                      <a:pt x="21" y="3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75240" y="4140000"/>
                <a:ext cx="163440" cy="480600"/>
              </a:xfrm>
              <a:custGeom>
                <a:avLst/>
                <a:gdLst/>
                <a:ahLst/>
                <a:rect l="l" t="t" r="r" b="b"/>
                <a:pathLst>
                  <a:path w="205" h="606">
                    <a:moveTo>
                      <a:pt x="162" y="312"/>
                    </a:moveTo>
                    <a:lnTo>
                      <a:pt x="162" y="352"/>
                    </a:lnTo>
                    <a:lnTo>
                      <a:pt x="157" y="388"/>
                    </a:lnTo>
                    <a:lnTo>
                      <a:pt x="144" y="424"/>
                    </a:lnTo>
                    <a:lnTo>
                      <a:pt x="128" y="459"/>
                    </a:lnTo>
                    <a:lnTo>
                      <a:pt x="108" y="492"/>
                    </a:lnTo>
                    <a:lnTo>
                      <a:pt x="87" y="524"/>
                    </a:lnTo>
                    <a:lnTo>
                      <a:pt x="64" y="555"/>
                    </a:lnTo>
                    <a:lnTo>
                      <a:pt x="42" y="586"/>
                    </a:lnTo>
                    <a:lnTo>
                      <a:pt x="0" y="606"/>
                    </a:lnTo>
                    <a:lnTo>
                      <a:pt x="3" y="573"/>
                    </a:lnTo>
                    <a:lnTo>
                      <a:pt x="18" y="540"/>
                    </a:lnTo>
                    <a:lnTo>
                      <a:pt x="41" y="509"/>
                    </a:lnTo>
                    <a:lnTo>
                      <a:pt x="67" y="478"/>
                    </a:lnTo>
                    <a:lnTo>
                      <a:pt x="91" y="446"/>
                    </a:lnTo>
                    <a:lnTo>
                      <a:pt x="110" y="414"/>
                    </a:lnTo>
                    <a:lnTo>
                      <a:pt x="119" y="379"/>
                    </a:lnTo>
                    <a:lnTo>
                      <a:pt x="112" y="341"/>
                    </a:lnTo>
                    <a:lnTo>
                      <a:pt x="95" y="295"/>
                    </a:lnTo>
                    <a:lnTo>
                      <a:pt x="95" y="252"/>
                    </a:lnTo>
                    <a:lnTo>
                      <a:pt x="107" y="211"/>
                    </a:lnTo>
                    <a:lnTo>
                      <a:pt x="127" y="171"/>
                    </a:lnTo>
                    <a:lnTo>
                      <a:pt x="147" y="130"/>
                    </a:lnTo>
                    <a:lnTo>
                      <a:pt x="166" y="89"/>
                    </a:lnTo>
                    <a:lnTo>
                      <a:pt x="175" y="46"/>
                    </a:lnTo>
                    <a:lnTo>
                      <a:pt x="173" y="0"/>
                    </a:lnTo>
                    <a:lnTo>
                      <a:pt x="190" y="1"/>
                    </a:lnTo>
                    <a:lnTo>
                      <a:pt x="198" y="14"/>
                    </a:lnTo>
                    <a:lnTo>
                      <a:pt x="201" y="30"/>
                    </a:lnTo>
                    <a:lnTo>
                      <a:pt x="205" y="46"/>
                    </a:lnTo>
                    <a:lnTo>
                      <a:pt x="205" y="83"/>
                    </a:lnTo>
                    <a:lnTo>
                      <a:pt x="198" y="117"/>
                    </a:lnTo>
                    <a:lnTo>
                      <a:pt x="186" y="149"/>
                    </a:lnTo>
                    <a:lnTo>
                      <a:pt x="174" y="180"/>
                    </a:lnTo>
                    <a:lnTo>
                      <a:pt x="161" y="211"/>
                    </a:lnTo>
                    <a:lnTo>
                      <a:pt x="154" y="243"/>
                    </a:lnTo>
                    <a:lnTo>
                      <a:pt x="153" y="277"/>
                    </a:lnTo>
                    <a:lnTo>
                      <a:pt x="16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271880" y="3857400"/>
                <a:ext cx="723960" cy="253800"/>
              </a:xfrm>
              <a:custGeom>
                <a:avLst/>
                <a:gdLst/>
                <a:ahLst/>
                <a:rect l="l" t="t" r="r" b="b"/>
                <a:pathLst>
                  <a:path w="914" h="320">
                    <a:moveTo>
                      <a:pt x="910" y="310"/>
                    </a:moveTo>
                    <a:lnTo>
                      <a:pt x="898" y="315"/>
                    </a:lnTo>
                    <a:lnTo>
                      <a:pt x="885" y="317"/>
                    </a:lnTo>
                    <a:lnTo>
                      <a:pt x="871" y="319"/>
                    </a:lnTo>
                    <a:lnTo>
                      <a:pt x="859" y="320"/>
                    </a:lnTo>
                    <a:lnTo>
                      <a:pt x="846" y="319"/>
                    </a:lnTo>
                    <a:lnTo>
                      <a:pt x="833" y="319"/>
                    </a:lnTo>
                    <a:lnTo>
                      <a:pt x="821" y="317"/>
                    </a:lnTo>
                    <a:lnTo>
                      <a:pt x="808" y="315"/>
                    </a:lnTo>
                    <a:lnTo>
                      <a:pt x="795" y="312"/>
                    </a:lnTo>
                    <a:lnTo>
                      <a:pt x="781" y="310"/>
                    </a:lnTo>
                    <a:lnTo>
                      <a:pt x="769" y="308"/>
                    </a:lnTo>
                    <a:lnTo>
                      <a:pt x="756" y="304"/>
                    </a:lnTo>
                    <a:lnTo>
                      <a:pt x="743" y="302"/>
                    </a:lnTo>
                    <a:lnTo>
                      <a:pt x="731" y="300"/>
                    </a:lnTo>
                    <a:lnTo>
                      <a:pt x="718" y="297"/>
                    </a:lnTo>
                    <a:lnTo>
                      <a:pt x="705" y="296"/>
                    </a:lnTo>
                    <a:lnTo>
                      <a:pt x="686" y="282"/>
                    </a:lnTo>
                    <a:lnTo>
                      <a:pt x="665" y="270"/>
                    </a:lnTo>
                    <a:lnTo>
                      <a:pt x="644" y="257"/>
                    </a:lnTo>
                    <a:lnTo>
                      <a:pt x="622" y="246"/>
                    </a:lnTo>
                    <a:lnTo>
                      <a:pt x="602" y="234"/>
                    </a:lnTo>
                    <a:lnTo>
                      <a:pt x="580" y="224"/>
                    </a:lnTo>
                    <a:lnTo>
                      <a:pt x="558" y="213"/>
                    </a:lnTo>
                    <a:lnTo>
                      <a:pt x="535" y="203"/>
                    </a:lnTo>
                    <a:lnTo>
                      <a:pt x="513" y="193"/>
                    </a:lnTo>
                    <a:lnTo>
                      <a:pt x="491" y="183"/>
                    </a:lnTo>
                    <a:lnTo>
                      <a:pt x="468" y="173"/>
                    </a:lnTo>
                    <a:lnTo>
                      <a:pt x="446" y="163"/>
                    </a:lnTo>
                    <a:lnTo>
                      <a:pt x="423" y="153"/>
                    </a:lnTo>
                    <a:lnTo>
                      <a:pt x="401" y="142"/>
                    </a:lnTo>
                    <a:lnTo>
                      <a:pt x="379" y="132"/>
                    </a:lnTo>
                    <a:lnTo>
                      <a:pt x="357" y="120"/>
                    </a:lnTo>
                    <a:lnTo>
                      <a:pt x="337" y="117"/>
                    </a:lnTo>
                    <a:lnTo>
                      <a:pt x="316" y="113"/>
                    </a:lnTo>
                    <a:lnTo>
                      <a:pt x="294" y="111"/>
                    </a:lnTo>
                    <a:lnTo>
                      <a:pt x="273" y="109"/>
                    </a:lnTo>
                    <a:lnTo>
                      <a:pt x="253" y="106"/>
                    </a:lnTo>
                    <a:lnTo>
                      <a:pt x="231" y="105"/>
                    </a:lnTo>
                    <a:lnTo>
                      <a:pt x="210" y="103"/>
                    </a:lnTo>
                    <a:lnTo>
                      <a:pt x="189" y="100"/>
                    </a:lnTo>
                    <a:lnTo>
                      <a:pt x="167" y="97"/>
                    </a:lnTo>
                    <a:lnTo>
                      <a:pt x="147" y="95"/>
                    </a:lnTo>
                    <a:lnTo>
                      <a:pt x="127" y="91"/>
                    </a:lnTo>
                    <a:lnTo>
                      <a:pt x="106" y="87"/>
                    </a:lnTo>
                    <a:lnTo>
                      <a:pt x="86" y="82"/>
                    </a:lnTo>
                    <a:lnTo>
                      <a:pt x="66" y="77"/>
                    </a:lnTo>
                    <a:lnTo>
                      <a:pt x="46" y="71"/>
                    </a:lnTo>
                    <a:lnTo>
                      <a:pt x="28" y="64"/>
                    </a:lnTo>
                    <a:lnTo>
                      <a:pt x="20" y="58"/>
                    </a:lnTo>
                    <a:lnTo>
                      <a:pt x="13" y="50"/>
                    </a:lnTo>
                    <a:lnTo>
                      <a:pt x="7" y="43"/>
                    </a:lnTo>
                    <a:lnTo>
                      <a:pt x="3" y="34"/>
                    </a:lnTo>
                    <a:lnTo>
                      <a:pt x="0" y="26"/>
                    </a:lnTo>
                    <a:lnTo>
                      <a:pt x="0" y="16"/>
                    </a:lnTo>
                    <a:lnTo>
                      <a:pt x="3" y="8"/>
                    </a:lnTo>
                    <a:lnTo>
                      <a:pt x="8" y="0"/>
                    </a:lnTo>
                    <a:lnTo>
                      <a:pt x="21" y="12"/>
                    </a:lnTo>
                    <a:lnTo>
                      <a:pt x="36" y="20"/>
                    </a:lnTo>
                    <a:lnTo>
                      <a:pt x="50" y="28"/>
                    </a:lnTo>
                    <a:lnTo>
                      <a:pt x="66" y="33"/>
                    </a:lnTo>
                    <a:lnTo>
                      <a:pt x="82" y="36"/>
                    </a:lnTo>
                    <a:lnTo>
                      <a:pt x="98" y="38"/>
                    </a:lnTo>
                    <a:lnTo>
                      <a:pt x="115" y="41"/>
                    </a:lnTo>
                    <a:lnTo>
                      <a:pt x="133" y="41"/>
                    </a:lnTo>
                    <a:lnTo>
                      <a:pt x="150" y="41"/>
                    </a:lnTo>
                    <a:lnTo>
                      <a:pt x="167" y="41"/>
                    </a:lnTo>
                    <a:lnTo>
                      <a:pt x="185" y="39"/>
                    </a:lnTo>
                    <a:lnTo>
                      <a:pt x="202" y="38"/>
                    </a:lnTo>
                    <a:lnTo>
                      <a:pt x="219" y="38"/>
                    </a:lnTo>
                    <a:lnTo>
                      <a:pt x="236" y="38"/>
                    </a:lnTo>
                    <a:lnTo>
                      <a:pt x="254" y="39"/>
                    </a:lnTo>
                    <a:lnTo>
                      <a:pt x="270" y="41"/>
                    </a:lnTo>
                    <a:lnTo>
                      <a:pt x="314" y="44"/>
                    </a:lnTo>
                    <a:lnTo>
                      <a:pt x="355" y="52"/>
                    </a:lnTo>
                    <a:lnTo>
                      <a:pt x="395" y="65"/>
                    </a:lnTo>
                    <a:lnTo>
                      <a:pt x="436" y="80"/>
                    </a:lnTo>
                    <a:lnTo>
                      <a:pt x="474" y="98"/>
                    </a:lnTo>
                    <a:lnTo>
                      <a:pt x="512" y="118"/>
                    </a:lnTo>
                    <a:lnTo>
                      <a:pt x="549" y="138"/>
                    </a:lnTo>
                    <a:lnTo>
                      <a:pt x="586" y="160"/>
                    </a:lnTo>
                    <a:lnTo>
                      <a:pt x="624" y="182"/>
                    </a:lnTo>
                    <a:lnTo>
                      <a:pt x="660" y="203"/>
                    </a:lnTo>
                    <a:lnTo>
                      <a:pt x="698" y="223"/>
                    </a:lnTo>
                    <a:lnTo>
                      <a:pt x="738" y="241"/>
                    </a:lnTo>
                    <a:lnTo>
                      <a:pt x="778" y="256"/>
                    </a:lnTo>
                    <a:lnTo>
                      <a:pt x="819" y="267"/>
                    </a:lnTo>
                    <a:lnTo>
                      <a:pt x="862" y="276"/>
                    </a:lnTo>
                    <a:lnTo>
                      <a:pt x="907" y="279"/>
                    </a:lnTo>
                    <a:lnTo>
                      <a:pt x="912" y="286"/>
                    </a:lnTo>
                    <a:lnTo>
                      <a:pt x="914" y="294"/>
                    </a:lnTo>
                    <a:lnTo>
                      <a:pt x="913" y="302"/>
                    </a:lnTo>
                    <a:lnTo>
                      <a:pt x="910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216440" y="4087800"/>
                <a:ext cx="718920" cy="304200"/>
              </a:xfrm>
              <a:custGeom>
                <a:avLst/>
                <a:gdLst/>
                <a:ahLst/>
                <a:rect l="l" t="t" r="r" b="b"/>
                <a:pathLst>
                  <a:path w="906" h="383">
                    <a:moveTo>
                      <a:pt x="901" y="383"/>
                    </a:moveTo>
                    <a:lnTo>
                      <a:pt x="882" y="374"/>
                    </a:lnTo>
                    <a:lnTo>
                      <a:pt x="864" y="365"/>
                    </a:lnTo>
                    <a:lnTo>
                      <a:pt x="848" y="354"/>
                    </a:lnTo>
                    <a:lnTo>
                      <a:pt x="833" y="343"/>
                    </a:lnTo>
                    <a:lnTo>
                      <a:pt x="819" y="332"/>
                    </a:lnTo>
                    <a:lnTo>
                      <a:pt x="807" y="321"/>
                    </a:lnTo>
                    <a:lnTo>
                      <a:pt x="793" y="311"/>
                    </a:lnTo>
                    <a:lnTo>
                      <a:pt x="781" y="301"/>
                    </a:lnTo>
                    <a:lnTo>
                      <a:pt x="769" y="292"/>
                    </a:lnTo>
                    <a:lnTo>
                      <a:pt x="756" y="285"/>
                    </a:lnTo>
                    <a:lnTo>
                      <a:pt x="742" y="279"/>
                    </a:lnTo>
                    <a:lnTo>
                      <a:pt x="728" y="276"/>
                    </a:lnTo>
                    <a:lnTo>
                      <a:pt x="714" y="275"/>
                    </a:lnTo>
                    <a:lnTo>
                      <a:pt x="698" y="276"/>
                    </a:lnTo>
                    <a:lnTo>
                      <a:pt x="682" y="281"/>
                    </a:lnTo>
                    <a:lnTo>
                      <a:pt x="664" y="289"/>
                    </a:lnTo>
                    <a:lnTo>
                      <a:pt x="640" y="292"/>
                    </a:lnTo>
                    <a:lnTo>
                      <a:pt x="614" y="294"/>
                    </a:lnTo>
                    <a:lnTo>
                      <a:pt x="589" y="296"/>
                    </a:lnTo>
                    <a:lnTo>
                      <a:pt x="565" y="296"/>
                    </a:lnTo>
                    <a:lnTo>
                      <a:pt x="541" y="294"/>
                    </a:lnTo>
                    <a:lnTo>
                      <a:pt x="516" y="292"/>
                    </a:lnTo>
                    <a:lnTo>
                      <a:pt x="492" y="289"/>
                    </a:lnTo>
                    <a:lnTo>
                      <a:pt x="469" y="284"/>
                    </a:lnTo>
                    <a:lnTo>
                      <a:pt x="447" y="278"/>
                    </a:lnTo>
                    <a:lnTo>
                      <a:pt x="425" y="270"/>
                    </a:lnTo>
                    <a:lnTo>
                      <a:pt x="405" y="261"/>
                    </a:lnTo>
                    <a:lnTo>
                      <a:pt x="385" y="251"/>
                    </a:lnTo>
                    <a:lnTo>
                      <a:pt x="367" y="238"/>
                    </a:lnTo>
                    <a:lnTo>
                      <a:pt x="349" y="224"/>
                    </a:lnTo>
                    <a:lnTo>
                      <a:pt x="333" y="208"/>
                    </a:lnTo>
                    <a:lnTo>
                      <a:pt x="319" y="191"/>
                    </a:lnTo>
                    <a:lnTo>
                      <a:pt x="305" y="183"/>
                    </a:lnTo>
                    <a:lnTo>
                      <a:pt x="290" y="177"/>
                    </a:lnTo>
                    <a:lnTo>
                      <a:pt x="276" y="173"/>
                    </a:lnTo>
                    <a:lnTo>
                      <a:pt x="261" y="171"/>
                    </a:lnTo>
                    <a:lnTo>
                      <a:pt x="246" y="172"/>
                    </a:lnTo>
                    <a:lnTo>
                      <a:pt x="231" y="173"/>
                    </a:lnTo>
                    <a:lnTo>
                      <a:pt x="214" y="176"/>
                    </a:lnTo>
                    <a:lnTo>
                      <a:pt x="199" y="177"/>
                    </a:lnTo>
                    <a:lnTo>
                      <a:pt x="183" y="179"/>
                    </a:lnTo>
                    <a:lnTo>
                      <a:pt x="168" y="182"/>
                    </a:lnTo>
                    <a:lnTo>
                      <a:pt x="153" y="182"/>
                    </a:lnTo>
                    <a:lnTo>
                      <a:pt x="138" y="180"/>
                    </a:lnTo>
                    <a:lnTo>
                      <a:pt x="123" y="178"/>
                    </a:lnTo>
                    <a:lnTo>
                      <a:pt x="110" y="172"/>
                    </a:lnTo>
                    <a:lnTo>
                      <a:pt x="96" y="165"/>
                    </a:lnTo>
                    <a:lnTo>
                      <a:pt x="83" y="154"/>
                    </a:lnTo>
                    <a:lnTo>
                      <a:pt x="68" y="144"/>
                    </a:lnTo>
                    <a:lnTo>
                      <a:pt x="55" y="132"/>
                    </a:lnTo>
                    <a:lnTo>
                      <a:pt x="44" y="119"/>
                    </a:lnTo>
                    <a:lnTo>
                      <a:pt x="34" y="105"/>
                    </a:lnTo>
                    <a:lnTo>
                      <a:pt x="23" y="92"/>
                    </a:lnTo>
                    <a:lnTo>
                      <a:pt x="15" y="77"/>
                    </a:lnTo>
                    <a:lnTo>
                      <a:pt x="7" y="63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2" y="25"/>
                    </a:lnTo>
                    <a:lnTo>
                      <a:pt x="6" y="16"/>
                    </a:lnTo>
                    <a:lnTo>
                      <a:pt x="11" y="8"/>
                    </a:lnTo>
                    <a:lnTo>
                      <a:pt x="17" y="3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51" y="2"/>
                    </a:lnTo>
                    <a:lnTo>
                      <a:pt x="55" y="38"/>
                    </a:lnTo>
                    <a:lnTo>
                      <a:pt x="65" y="65"/>
                    </a:lnTo>
                    <a:lnTo>
                      <a:pt x="78" y="86"/>
                    </a:lnTo>
                    <a:lnTo>
                      <a:pt x="96" y="101"/>
                    </a:lnTo>
                    <a:lnTo>
                      <a:pt x="117" y="111"/>
                    </a:lnTo>
                    <a:lnTo>
                      <a:pt x="138" y="118"/>
                    </a:lnTo>
                    <a:lnTo>
                      <a:pt x="164" y="122"/>
                    </a:lnTo>
                    <a:lnTo>
                      <a:pt x="189" y="123"/>
                    </a:lnTo>
                    <a:lnTo>
                      <a:pt x="216" y="123"/>
                    </a:lnTo>
                    <a:lnTo>
                      <a:pt x="243" y="123"/>
                    </a:lnTo>
                    <a:lnTo>
                      <a:pt x="271" y="124"/>
                    </a:lnTo>
                    <a:lnTo>
                      <a:pt x="296" y="126"/>
                    </a:lnTo>
                    <a:lnTo>
                      <a:pt x="322" y="132"/>
                    </a:lnTo>
                    <a:lnTo>
                      <a:pt x="345" y="140"/>
                    </a:lnTo>
                    <a:lnTo>
                      <a:pt x="365" y="153"/>
                    </a:lnTo>
                    <a:lnTo>
                      <a:pt x="384" y="171"/>
                    </a:lnTo>
                    <a:lnTo>
                      <a:pt x="407" y="198"/>
                    </a:lnTo>
                    <a:lnTo>
                      <a:pt x="433" y="216"/>
                    </a:lnTo>
                    <a:lnTo>
                      <a:pt x="462" y="228"/>
                    </a:lnTo>
                    <a:lnTo>
                      <a:pt x="493" y="233"/>
                    </a:lnTo>
                    <a:lnTo>
                      <a:pt x="526" y="235"/>
                    </a:lnTo>
                    <a:lnTo>
                      <a:pt x="559" y="232"/>
                    </a:lnTo>
                    <a:lnTo>
                      <a:pt x="594" y="228"/>
                    </a:lnTo>
                    <a:lnTo>
                      <a:pt x="628" y="222"/>
                    </a:lnTo>
                    <a:lnTo>
                      <a:pt x="661" y="217"/>
                    </a:lnTo>
                    <a:lnTo>
                      <a:pt x="695" y="214"/>
                    </a:lnTo>
                    <a:lnTo>
                      <a:pt x="727" y="214"/>
                    </a:lnTo>
                    <a:lnTo>
                      <a:pt x="757" y="217"/>
                    </a:lnTo>
                    <a:lnTo>
                      <a:pt x="785" y="225"/>
                    </a:lnTo>
                    <a:lnTo>
                      <a:pt x="810" y="240"/>
                    </a:lnTo>
                    <a:lnTo>
                      <a:pt x="832" y="262"/>
                    </a:lnTo>
                    <a:lnTo>
                      <a:pt x="850" y="293"/>
                    </a:lnTo>
                    <a:lnTo>
                      <a:pt x="857" y="305"/>
                    </a:lnTo>
                    <a:lnTo>
                      <a:pt x="867" y="315"/>
                    </a:lnTo>
                    <a:lnTo>
                      <a:pt x="878" y="324"/>
                    </a:lnTo>
                    <a:lnTo>
                      <a:pt x="888" y="335"/>
                    </a:lnTo>
                    <a:lnTo>
                      <a:pt x="899" y="345"/>
                    </a:lnTo>
                    <a:lnTo>
                      <a:pt x="905" y="355"/>
                    </a:lnTo>
                    <a:lnTo>
                      <a:pt x="906" y="368"/>
                    </a:lnTo>
                    <a:lnTo>
                      <a:pt x="901" y="383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86120" y="3848040"/>
                <a:ext cx="771480" cy="783720"/>
              </a:xfrm>
              <a:custGeom>
                <a:avLst/>
                <a:gdLst/>
                <a:ahLst/>
                <a:rect l="l" t="t" r="r" b="b"/>
                <a:pathLst>
                  <a:path w="971" h="987">
                    <a:moveTo>
                      <a:pt x="827" y="980"/>
                    </a:moveTo>
                    <a:lnTo>
                      <a:pt x="803" y="969"/>
                    </a:lnTo>
                    <a:lnTo>
                      <a:pt x="780" y="956"/>
                    </a:lnTo>
                    <a:lnTo>
                      <a:pt x="755" y="944"/>
                    </a:lnTo>
                    <a:lnTo>
                      <a:pt x="731" y="933"/>
                    </a:lnTo>
                    <a:lnTo>
                      <a:pt x="707" y="921"/>
                    </a:lnTo>
                    <a:lnTo>
                      <a:pt x="683" y="910"/>
                    </a:lnTo>
                    <a:lnTo>
                      <a:pt x="659" y="898"/>
                    </a:lnTo>
                    <a:lnTo>
                      <a:pt x="634" y="887"/>
                    </a:lnTo>
                    <a:lnTo>
                      <a:pt x="610" y="876"/>
                    </a:lnTo>
                    <a:lnTo>
                      <a:pt x="585" y="865"/>
                    </a:lnTo>
                    <a:lnTo>
                      <a:pt x="561" y="853"/>
                    </a:lnTo>
                    <a:lnTo>
                      <a:pt x="536" y="843"/>
                    </a:lnTo>
                    <a:lnTo>
                      <a:pt x="511" y="832"/>
                    </a:lnTo>
                    <a:lnTo>
                      <a:pt x="487" y="821"/>
                    </a:lnTo>
                    <a:lnTo>
                      <a:pt x="462" y="811"/>
                    </a:lnTo>
                    <a:lnTo>
                      <a:pt x="437" y="799"/>
                    </a:lnTo>
                    <a:lnTo>
                      <a:pt x="412" y="789"/>
                    </a:lnTo>
                    <a:lnTo>
                      <a:pt x="388" y="779"/>
                    </a:lnTo>
                    <a:lnTo>
                      <a:pt x="362" y="768"/>
                    </a:lnTo>
                    <a:lnTo>
                      <a:pt x="338" y="758"/>
                    </a:lnTo>
                    <a:lnTo>
                      <a:pt x="313" y="747"/>
                    </a:lnTo>
                    <a:lnTo>
                      <a:pt x="288" y="737"/>
                    </a:lnTo>
                    <a:lnTo>
                      <a:pt x="263" y="727"/>
                    </a:lnTo>
                    <a:lnTo>
                      <a:pt x="238" y="716"/>
                    </a:lnTo>
                    <a:lnTo>
                      <a:pt x="213" y="707"/>
                    </a:lnTo>
                    <a:lnTo>
                      <a:pt x="188" y="697"/>
                    </a:lnTo>
                    <a:lnTo>
                      <a:pt x="163" y="686"/>
                    </a:lnTo>
                    <a:lnTo>
                      <a:pt x="138" y="676"/>
                    </a:lnTo>
                    <a:lnTo>
                      <a:pt x="112" y="667"/>
                    </a:lnTo>
                    <a:lnTo>
                      <a:pt x="88" y="656"/>
                    </a:lnTo>
                    <a:lnTo>
                      <a:pt x="63" y="647"/>
                    </a:lnTo>
                    <a:lnTo>
                      <a:pt x="38" y="637"/>
                    </a:lnTo>
                    <a:lnTo>
                      <a:pt x="0" y="600"/>
                    </a:lnTo>
                    <a:lnTo>
                      <a:pt x="21" y="524"/>
                    </a:lnTo>
                    <a:lnTo>
                      <a:pt x="38" y="451"/>
                    </a:lnTo>
                    <a:lnTo>
                      <a:pt x="50" y="380"/>
                    </a:lnTo>
                    <a:lnTo>
                      <a:pt x="61" y="311"/>
                    </a:lnTo>
                    <a:lnTo>
                      <a:pt x="71" y="243"/>
                    </a:lnTo>
                    <a:lnTo>
                      <a:pt x="81" y="174"/>
                    </a:lnTo>
                    <a:lnTo>
                      <a:pt x="96" y="105"/>
                    </a:lnTo>
                    <a:lnTo>
                      <a:pt x="115" y="32"/>
                    </a:lnTo>
                    <a:lnTo>
                      <a:pt x="121" y="29"/>
                    </a:lnTo>
                    <a:lnTo>
                      <a:pt x="126" y="24"/>
                    </a:lnTo>
                    <a:lnTo>
                      <a:pt x="131" y="18"/>
                    </a:lnTo>
                    <a:lnTo>
                      <a:pt x="137" y="13"/>
                    </a:lnTo>
                    <a:lnTo>
                      <a:pt x="142" y="8"/>
                    </a:lnTo>
                    <a:lnTo>
                      <a:pt x="149" y="3"/>
                    </a:lnTo>
                    <a:lnTo>
                      <a:pt x="156" y="1"/>
                    </a:lnTo>
                    <a:lnTo>
                      <a:pt x="163" y="0"/>
                    </a:lnTo>
                    <a:lnTo>
                      <a:pt x="171" y="4"/>
                    </a:lnTo>
                    <a:lnTo>
                      <a:pt x="178" y="10"/>
                    </a:lnTo>
                    <a:lnTo>
                      <a:pt x="184" y="17"/>
                    </a:lnTo>
                    <a:lnTo>
                      <a:pt x="187" y="23"/>
                    </a:lnTo>
                    <a:lnTo>
                      <a:pt x="190" y="31"/>
                    </a:lnTo>
                    <a:lnTo>
                      <a:pt x="191" y="39"/>
                    </a:lnTo>
                    <a:lnTo>
                      <a:pt x="190" y="47"/>
                    </a:lnTo>
                    <a:lnTo>
                      <a:pt x="186" y="56"/>
                    </a:lnTo>
                    <a:lnTo>
                      <a:pt x="171" y="119"/>
                    </a:lnTo>
                    <a:lnTo>
                      <a:pt x="156" y="180"/>
                    </a:lnTo>
                    <a:lnTo>
                      <a:pt x="141" y="238"/>
                    </a:lnTo>
                    <a:lnTo>
                      <a:pt x="127" y="297"/>
                    </a:lnTo>
                    <a:lnTo>
                      <a:pt x="114" y="356"/>
                    </a:lnTo>
                    <a:lnTo>
                      <a:pt x="100" y="415"/>
                    </a:lnTo>
                    <a:lnTo>
                      <a:pt x="85" y="476"/>
                    </a:lnTo>
                    <a:lnTo>
                      <a:pt x="70" y="539"/>
                    </a:lnTo>
                    <a:lnTo>
                      <a:pt x="70" y="594"/>
                    </a:lnTo>
                    <a:lnTo>
                      <a:pt x="111" y="610"/>
                    </a:lnTo>
                    <a:lnTo>
                      <a:pt x="153" y="627"/>
                    </a:lnTo>
                    <a:lnTo>
                      <a:pt x="193" y="643"/>
                    </a:lnTo>
                    <a:lnTo>
                      <a:pt x="235" y="658"/>
                    </a:lnTo>
                    <a:lnTo>
                      <a:pt x="275" y="673"/>
                    </a:lnTo>
                    <a:lnTo>
                      <a:pt x="315" y="688"/>
                    </a:lnTo>
                    <a:lnTo>
                      <a:pt x="356" y="704"/>
                    </a:lnTo>
                    <a:lnTo>
                      <a:pt x="396" y="719"/>
                    </a:lnTo>
                    <a:lnTo>
                      <a:pt x="435" y="735"/>
                    </a:lnTo>
                    <a:lnTo>
                      <a:pt x="475" y="751"/>
                    </a:lnTo>
                    <a:lnTo>
                      <a:pt x="515" y="768"/>
                    </a:lnTo>
                    <a:lnTo>
                      <a:pt x="554" y="785"/>
                    </a:lnTo>
                    <a:lnTo>
                      <a:pt x="593" y="804"/>
                    </a:lnTo>
                    <a:lnTo>
                      <a:pt x="632" y="825"/>
                    </a:lnTo>
                    <a:lnTo>
                      <a:pt x="671" y="845"/>
                    </a:lnTo>
                    <a:lnTo>
                      <a:pt x="710" y="867"/>
                    </a:lnTo>
                    <a:lnTo>
                      <a:pt x="725" y="873"/>
                    </a:lnTo>
                    <a:lnTo>
                      <a:pt x="740" y="880"/>
                    </a:lnTo>
                    <a:lnTo>
                      <a:pt x="757" y="887"/>
                    </a:lnTo>
                    <a:lnTo>
                      <a:pt x="773" y="895"/>
                    </a:lnTo>
                    <a:lnTo>
                      <a:pt x="789" y="904"/>
                    </a:lnTo>
                    <a:lnTo>
                      <a:pt x="805" y="912"/>
                    </a:lnTo>
                    <a:lnTo>
                      <a:pt x="822" y="921"/>
                    </a:lnTo>
                    <a:lnTo>
                      <a:pt x="838" y="928"/>
                    </a:lnTo>
                    <a:lnTo>
                      <a:pt x="856" y="936"/>
                    </a:lnTo>
                    <a:lnTo>
                      <a:pt x="872" y="943"/>
                    </a:lnTo>
                    <a:lnTo>
                      <a:pt x="889" y="949"/>
                    </a:lnTo>
                    <a:lnTo>
                      <a:pt x="905" y="952"/>
                    </a:lnTo>
                    <a:lnTo>
                      <a:pt x="922" y="956"/>
                    </a:lnTo>
                    <a:lnTo>
                      <a:pt x="939" y="957"/>
                    </a:lnTo>
                    <a:lnTo>
                      <a:pt x="955" y="956"/>
                    </a:lnTo>
                    <a:lnTo>
                      <a:pt x="971" y="952"/>
                    </a:lnTo>
                    <a:lnTo>
                      <a:pt x="960" y="970"/>
                    </a:lnTo>
                    <a:lnTo>
                      <a:pt x="945" y="980"/>
                    </a:lnTo>
                    <a:lnTo>
                      <a:pt x="927" y="986"/>
                    </a:lnTo>
                    <a:lnTo>
                      <a:pt x="907" y="987"/>
                    </a:lnTo>
                    <a:lnTo>
                      <a:pt x="887" y="986"/>
                    </a:lnTo>
                    <a:lnTo>
                      <a:pt x="865" y="984"/>
                    </a:lnTo>
                    <a:lnTo>
                      <a:pt x="845" y="981"/>
                    </a:lnTo>
                    <a:lnTo>
                      <a:pt x="827" y="9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256040" y="3733920"/>
                <a:ext cx="473040" cy="104400"/>
              </a:xfrm>
              <a:custGeom>
                <a:avLst/>
                <a:gdLst/>
                <a:ahLst/>
                <a:rect l="l" t="t" r="r" b="b"/>
                <a:pathLst>
                  <a:path w="594" h="132">
                    <a:moveTo>
                      <a:pt x="594" y="30"/>
                    </a:moveTo>
                    <a:lnTo>
                      <a:pt x="575" y="40"/>
                    </a:lnTo>
                    <a:lnTo>
                      <a:pt x="554" y="49"/>
                    </a:lnTo>
                    <a:lnTo>
                      <a:pt x="533" y="58"/>
                    </a:lnTo>
                    <a:lnTo>
                      <a:pt x="511" y="67"/>
                    </a:lnTo>
                    <a:lnTo>
                      <a:pt x="490" y="73"/>
                    </a:lnTo>
                    <a:lnTo>
                      <a:pt x="468" y="79"/>
                    </a:lnTo>
                    <a:lnTo>
                      <a:pt x="445" y="84"/>
                    </a:lnTo>
                    <a:lnTo>
                      <a:pt x="422" y="87"/>
                    </a:lnTo>
                    <a:lnTo>
                      <a:pt x="397" y="91"/>
                    </a:lnTo>
                    <a:lnTo>
                      <a:pt x="374" y="92"/>
                    </a:lnTo>
                    <a:lnTo>
                      <a:pt x="350" y="93"/>
                    </a:lnTo>
                    <a:lnTo>
                      <a:pt x="326" y="93"/>
                    </a:lnTo>
                    <a:lnTo>
                      <a:pt x="303" y="91"/>
                    </a:lnTo>
                    <a:lnTo>
                      <a:pt x="279" y="88"/>
                    </a:lnTo>
                    <a:lnTo>
                      <a:pt x="254" y="85"/>
                    </a:lnTo>
                    <a:lnTo>
                      <a:pt x="231" y="79"/>
                    </a:lnTo>
                    <a:lnTo>
                      <a:pt x="211" y="76"/>
                    </a:lnTo>
                    <a:lnTo>
                      <a:pt x="191" y="75"/>
                    </a:lnTo>
                    <a:lnTo>
                      <a:pt x="174" y="75"/>
                    </a:lnTo>
                    <a:lnTo>
                      <a:pt x="157" y="77"/>
                    </a:lnTo>
                    <a:lnTo>
                      <a:pt x="142" y="79"/>
                    </a:lnTo>
                    <a:lnTo>
                      <a:pt x="127" y="84"/>
                    </a:lnTo>
                    <a:lnTo>
                      <a:pt x="113" y="88"/>
                    </a:lnTo>
                    <a:lnTo>
                      <a:pt x="100" y="94"/>
                    </a:lnTo>
                    <a:lnTo>
                      <a:pt x="87" y="100"/>
                    </a:lnTo>
                    <a:lnTo>
                      <a:pt x="76" y="106"/>
                    </a:lnTo>
                    <a:lnTo>
                      <a:pt x="63" y="111"/>
                    </a:lnTo>
                    <a:lnTo>
                      <a:pt x="52" y="117"/>
                    </a:lnTo>
                    <a:lnTo>
                      <a:pt x="39" y="122"/>
                    </a:lnTo>
                    <a:lnTo>
                      <a:pt x="26" y="126"/>
                    </a:lnTo>
                    <a:lnTo>
                      <a:pt x="14" y="130"/>
                    </a:lnTo>
                    <a:lnTo>
                      <a:pt x="0" y="132"/>
                    </a:lnTo>
                    <a:lnTo>
                      <a:pt x="11" y="108"/>
                    </a:lnTo>
                    <a:lnTo>
                      <a:pt x="26" y="90"/>
                    </a:lnTo>
                    <a:lnTo>
                      <a:pt x="45" y="76"/>
                    </a:lnTo>
                    <a:lnTo>
                      <a:pt x="66" y="65"/>
                    </a:lnTo>
                    <a:lnTo>
                      <a:pt x="86" y="56"/>
                    </a:lnTo>
                    <a:lnTo>
                      <a:pt x="109" y="49"/>
                    </a:lnTo>
                    <a:lnTo>
                      <a:pt x="131" y="42"/>
                    </a:lnTo>
                    <a:lnTo>
                      <a:pt x="152" y="33"/>
                    </a:lnTo>
                    <a:lnTo>
                      <a:pt x="185" y="35"/>
                    </a:lnTo>
                    <a:lnTo>
                      <a:pt x="218" y="38"/>
                    </a:lnTo>
                    <a:lnTo>
                      <a:pt x="248" y="39"/>
                    </a:lnTo>
                    <a:lnTo>
                      <a:pt x="278" y="39"/>
                    </a:lnTo>
                    <a:lnTo>
                      <a:pt x="305" y="39"/>
                    </a:lnTo>
                    <a:lnTo>
                      <a:pt x="333" y="39"/>
                    </a:lnTo>
                    <a:lnTo>
                      <a:pt x="359" y="37"/>
                    </a:lnTo>
                    <a:lnTo>
                      <a:pt x="386" y="35"/>
                    </a:lnTo>
                    <a:lnTo>
                      <a:pt x="410" y="32"/>
                    </a:lnTo>
                    <a:lnTo>
                      <a:pt x="435" y="30"/>
                    </a:lnTo>
                    <a:lnTo>
                      <a:pt x="460" y="25"/>
                    </a:lnTo>
                    <a:lnTo>
                      <a:pt x="484" y="22"/>
                    </a:lnTo>
                    <a:lnTo>
                      <a:pt x="508" y="17"/>
                    </a:lnTo>
                    <a:lnTo>
                      <a:pt x="532" y="11"/>
                    </a:lnTo>
                    <a:lnTo>
                      <a:pt x="556" y="6"/>
                    </a:lnTo>
                    <a:lnTo>
                      <a:pt x="581" y="0"/>
                    </a:lnTo>
                    <a:lnTo>
                      <a:pt x="587" y="4"/>
                    </a:lnTo>
                    <a:lnTo>
                      <a:pt x="592" y="12"/>
                    </a:lnTo>
                    <a:lnTo>
                      <a:pt x="594" y="20"/>
                    </a:lnTo>
                    <a:lnTo>
                      <a:pt x="59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03760" y="4419360"/>
                <a:ext cx="847440" cy="271080"/>
              </a:xfrm>
              <a:custGeom>
                <a:avLst/>
                <a:gdLst/>
                <a:ahLst/>
                <a:rect l="l" t="t" r="r" b="b"/>
                <a:pathLst>
                  <a:path w="1068" h="342">
                    <a:moveTo>
                      <a:pt x="1052" y="315"/>
                    </a:moveTo>
                    <a:lnTo>
                      <a:pt x="1033" y="328"/>
                    </a:lnTo>
                    <a:lnTo>
                      <a:pt x="1004" y="336"/>
                    </a:lnTo>
                    <a:lnTo>
                      <a:pt x="969" y="341"/>
                    </a:lnTo>
                    <a:lnTo>
                      <a:pt x="929" y="342"/>
                    </a:lnTo>
                    <a:lnTo>
                      <a:pt x="884" y="341"/>
                    </a:lnTo>
                    <a:lnTo>
                      <a:pt x="837" y="337"/>
                    </a:lnTo>
                    <a:lnTo>
                      <a:pt x="787" y="333"/>
                    </a:lnTo>
                    <a:lnTo>
                      <a:pt x="739" y="326"/>
                    </a:lnTo>
                    <a:lnTo>
                      <a:pt x="689" y="319"/>
                    </a:lnTo>
                    <a:lnTo>
                      <a:pt x="643" y="311"/>
                    </a:lnTo>
                    <a:lnTo>
                      <a:pt x="601" y="303"/>
                    </a:lnTo>
                    <a:lnTo>
                      <a:pt x="564" y="295"/>
                    </a:lnTo>
                    <a:lnTo>
                      <a:pt x="531" y="289"/>
                    </a:lnTo>
                    <a:lnTo>
                      <a:pt x="507" y="283"/>
                    </a:lnTo>
                    <a:lnTo>
                      <a:pt x="492" y="280"/>
                    </a:lnTo>
                    <a:lnTo>
                      <a:pt x="486" y="278"/>
                    </a:lnTo>
                    <a:lnTo>
                      <a:pt x="454" y="272"/>
                    </a:lnTo>
                    <a:lnTo>
                      <a:pt x="421" y="262"/>
                    </a:lnTo>
                    <a:lnTo>
                      <a:pt x="386" y="251"/>
                    </a:lnTo>
                    <a:lnTo>
                      <a:pt x="352" y="238"/>
                    </a:lnTo>
                    <a:lnTo>
                      <a:pt x="316" y="224"/>
                    </a:lnTo>
                    <a:lnTo>
                      <a:pt x="281" y="209"/>
                    </a:lnTo>
                    <a:lnTo>
                      <a:pt x="247" y="192"/>
                    </a:lnTo>
                    <a:lnTo>
                      <a:pt x="213" y="174"/>
                    </a:lnTo>
                    <a:lnTo>
                      <a:pt x="180" y="155"/>
                    </a:lnTo>
                    <a:lnTo>
                      <a:pt x="149" y="136"/>
                    </a:lnTo>
                    <a:lnTo>
                      <a:pt x="119" y="116"/>
                    </a:lnTo>
                    <a:lnTo>
                      <a:pt x="90" y="95"/>
                    </a:lnTo>
                    <a:lnTo>
                      <a:pt x="65" y="75"/>
                    </a:lnTo>
                    <a:lnTo>
                      <a:pt x="41" y="53"/>
                    </a:lnTo>
                    <a:lnTo>
                      <a:pt x="20" y="32"/>
                    </a:lnTo>
                    <a:lnTo>
                      <a:pt x="3" y="11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5" y="1"/>
                    </a:lnTo>
                    <a:lnTo>
                      <a:pt x="24" y="3"/>
                    </a:lnTo>
                    <a:lnTo>
                      <a:pt x="35" y="4"/>
                    </a:lnTo>
                    <a:lnTo>
                      <a:pt x="44" y="3"/>
                    </a:lnTo>
                    <a:lnTo>
                      <a:pt x="53" y="0"/>
                    </a:lnTo>
                    <a:lnTo>
                      <a:pt x="64" y="15"/>
                    </a:lnTo>
                    <a:lnTo>
                      <a:pt x="76" y="28"/>
                    </a:lnTo>
                    <a:lnTo>
                      <a:pt x="92" y="43"/>
                    </a:lnTo>
                    <a:lnTo>
                      <a:pt x="110" y="58"/>
                    </a:lnTo>
                    <a:lnTo>
                      <a:pt x="130" y="72"/>
                    </a:lnTo>
                    <a:lnTo>
                      <a:pt x="151" y="86"/>
                    </a:lnTo>
                    <a:lnTo>
                      <a:pt x="173" y="100"/>
                    </a:lnTo>
                    <a:lnTo>
                      <a:pt x="195" y="113"/>
                    </a:lnTo>
                    <a:lnTo>
                      <a:pt x="217" y="125"/>
                    </a:lnTo>
                    <a:lnTo>
                      <a:pt x="238" y="137"/>
                    </a:lnTo>
                    <a:lnTo>
                      <a:pt x="257" y="147"/>
                    </a:lnTo>
                    <a:lnTo>
                      <a:pt x="276" y="156"/>
                    </a:lnTo>
                    <a:lnTo>
                      <a:pt x="291" y="166"/>
                    </a:lnTo>
                    <a:lnTo>
                      <a:pt x="303" y="172"/>
                    </a:lnTo>
                    <a:lnTo>
                      <a:pt x="313" y="177"/>
                    </a:lnTo>
                    <a:lnTo>
                      <a:pt x="318" y="182"/>
                    </a:lnTo>
                    <a:lnTo>
                      <a:pt x="360" y="198"/>
                    </a:lnTo>
                    <a:lnTo>
                      <a:pt x="404" y="213"/>
                    </a:lnTo>
                    <a:lnTo>
                      <a:pt x="448" y="227"/>
                    </a:lnTo>
                    <a:lnTo>
                      <a:pt x="496" y="239"/>
                    </a:lnTo>
                    <a:lnTo>
                      <a:pt x="543" y="252"/>
                    </a:lnTo>
                    <a:lnTo>
                      <a:pt x="590" y="263"/>
                    </a:lnTo>
                    <a:lnTo>
                      <a:pt x="637" y="273"/>
                    </a:lnTo>
                    <a:lnTo>
                      <a:pt x="684" y="282"/>
                    </a:lnTo>
                    <a:lnTo>
                      <a:pt x="727" y="289"/>
                    </a:lnTo>
                    <a:lnTo>
                      <a:pt x="770" y="296"/>
                    </a:lnTo>
                    <a:lnTo>
                      <a:pt x="809" y="300"/>
                    </a:lnTo>
                    <a:lnTo>
                      <a:pt x="846" y="303"/>
                    </a:lnTo>
                    <a:lnTo>
                      <a:pt x="878" y="305"/>
                    </a:lnTo>
                    <a:lnTo>
                      <a:pt x="906" y="304"/>
                    </a:lnTo>
                    <a:lnTo>
                      <a:pt x="929" y="301"/>
                    </a:lnTo>
                    <a:lnTo>
                      <a:pt x="946" y="298"/>
                    </a:lnTo>
                    <a:lnTo>
                      <a:pt x="985" y="298"/>
                    </a:lnTo>
                    <a:lnTo>
                      <a:pt x="1016" y="296"/>
                    </a:lnTo>
                    <a:lnTo>
                      <a:pt x="1041" y="293"/>
                    </a:lnTo>
                    <a:lnTo>
                      <a:pt x="1057" y="292"/>
                    </a:lnTo>
                    <a:lnTo>
                      <a:pt x="1066" y="293"/>
                    </a:lnTo>
                    <a:lnTo>
                      <a:pt x="1068" y="297"/>
                    </a:lnTo>
                    <a:lnTo>
                      <a:pt x="1064" y="304"/>
                    </a:lnTo>
                    <a:lnTo>
                      <a:pt x="1052" y="3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124080" y="3200400"/>
              <a:ext cx="2743200" cy="1676520"/>
            </a:xfrm>
            <a:prstGeom prst="cloudCallout">
              <a:avLst>
                <a:gd name="adj1" fmla="val -81425"/>
                <a:gd name="adj2" fmla="val 2490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75 calori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5943600" y="2209680"/>
            <a:ext cx="2895480" cy="3644280"/>
            <a:chOff x="5943600" y="2209680"/>
            <a:chExt cx="2895480" cy="3644280"/>
          </a:xfrm>
        </p:grpSpPr>
        <p:grpSp>
          <p:nvGrpSpPr>
            <p:cNvPr id="812" name=""/>
            <p:cNvGrpSpPr/>
            <p:nvPr/>
          </p:nvGrpSpPr>
          <p:grpSpPr>
            <a:xfrm>
              <a:off x="5943600" y="3809880"/>
              <a:ext cx="2631960" cy="2044080"/>
              <a:chOff x="5943600" y="3809880"/>
              <a:chExt cx="2631960" cy="2044080"/>
            </a:xfrm>
          </p:grpSpPr>
          <p:grpSp>
            <p:nvGrpSpPr>
              <p:cNvPr id="813" name=""/>
              <p:cNvGrpSpPr/>
              <p:nvPr/>
            </p:nvGrpSpPr>
            <p:grpSpPr>
              <a:xfrm>
                <a:off x="5943600" y="3809880"/>
                <a:ext cx="2631960" cy="2044080"/>
                <a:chOff x="5943600" y="3809880"/>
                <a:chExt cx="2631960" cy="204408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5943600" y="4479480"/>
                  <a:ext cx="2631960" cy="1301400"/>
                </a:xfrm>
                <a:custGeom>
                  <a:avLst/>
                  <a:gdLst/>
                  <a:ahLst/>
                  <a:rect l="l" t="t" r="r" b="b"/>
                  <a:pathLst>
                    <a:path w="3315" h="1640">
                      <a:moveTo>
                        <a:pt x="1505" y="1625"/>
                      </a:moveTo>
                      <a:lnTo>
                        <a:pt x="1541" y="1622"/>
                      </a:lnTo>
                      <a:lnTo>
                        <a:pt x="1577" y="1617"/>
                      </a:lnTo>
                      <a:lnTo>
                        <a:pt x="1614" y="1611"/>
                      </a:lnTo>
                      <a:lnTo>
                        <a:pt x="1651" y="1605"/>
                      </a:lnTo>
                      <a:lnTo>
                        <a:pt x="1687" y="1599"/>
                      </a:lnTo>
                      <a:lnTo>
                        <a:pt x="1724" y="1592"/>
                      </a:lnTo>
                      <a:lnTo>
                        <a:pt x="1762" y="1584"/>
                      </a:lnTo>
                      <a:lnTo>
                        <a:pt x="1800" y="1576"/>
                      </a:lnTo>
                      <a:lnTo>
                        <a:pt x="1838" y="1566"/>
                      </a:lnTo>
                      <a:lnTo>
                        <a:pt x="1876" y="1556"/>
                      </a:lnTo>
                      <a:lnTo>
                        <a:pt x="1914" y="1546"/>
                      </a:lnTo>
                      <a:lnTo>
                        <a:pt x="1952" y="1535"/>
                      </a:lnTo>
                      <a:lnTo>
                        <a:pt x="1992" y="1524"/>
                      </a:lnTo>
                      <a:lnTo>
                        <a:pt x="2030" y="1512"/>
                      </a:lnTo>
                      <a:lnTo>
                        <a:pt x="2068" y="1499"/>
                      </a:lnTo>
                      <a:lnTo>
                        <a:pt x="2106" y="1487"/>
                      </a:lnTo>
                      <a:lnTo>
                        <a:pt x="2144" y="1473"/>
                      </a:lnTo>
                      <a:lnTo>
                        <a:pt x="2182" y="1459"/>
                      </a:lnTo>
                      <a:lnTo>
                        <a:pt x="2220" y="1444"/>
                      </a:lnTo>
                      <a:lnTo>
                        <a:pt x="2258" y="1429"/>
                      </a:lnTo>
                      <a:lnTo>
                        <a:pt x="2295" y="1414"/>
                      </a:lnTo>
                      <a:lnTo>
                        <a:pt x="2332" y="1399"/>
                      </a:lnTo>
                      <a:lnTo>
                        <a:pt x="2368" y="1383"/>
                      </a:lnTo>
                      <a:lnTo>
                        <a:pt x="2404" y="1366"/>
                      </a:lnTo>
                      <a:lnTo>
                        <a:pt x="2440" y="1349"/>
                      </a:lnTo>
                      <a:lnTo>
                        <a:pt x="2476" y="1331"/>
                      </a:lnTo>
                      <a:lnTo>
                        <a:pt x="2510" y="1314"/>
                      </a:lnTo>
                      <a:lnTo>
                        <a:pt x="2545" y="1296"/>
                      </a:lnTo>
                      <a:lnTo>
                        <a:pt x="2579" y="1277"/>
                      </a:lnTo>
                      <a:lnTo>
                        <a:pt x="2613" y="1259"/>
                      </a:lnTo>
                      <a:lnTo>
                        <a:pt x="2645" y="1240"/>
                      </a:lnTo>
                      <a:lnTo>
                        <a:pt x="2677" y="1221"/>
                      </a:lnTo>
                      <a:lnTo>
                        <a:pt x="2751" y="1174"/>
                      </a:lnTo>
                      <a:lnTo>
                        <a:pt x="2821" y="1125"/>
                      </a:lnTo>
                      <a:lnTo>
                        <a:pt x="2887" y="1076"/>
                      </a:lnTo>
                      <a:lnTo>
                        <a:pt x="2949" y="1025"/>
                      </a:lnTo>
                      <a:lnTo>
                        <a:pt x="3008" y="975"/>
                      </a:lnTo>
                      <a:lnTo>
                        <a:pt x="3061" y="925"/>
                      </a:lnTo>
                      <a:lnTo>
                        <a:pt x="3110" y="874"/>
                      </a:lnTo>
                      <a:lnTo>
                        <a:pt x="3154" y="824"/>
                      </a:lnTo>
                      <a:lnTo>
                        <a:pt x="3193" y="776"/>
                      </a:lnTo>
                      <a:lnTo>
                        <a:pt x="3228" y="729"/>
                      </a:lnTo>
                      <a:lnTo>
                        <a:pt x="3257" y="682"/>
                      </a:lnTo>
                      <a:lnTo>
                        <a:pt x="3280" y="638"/>
                      </a:lnTo>
                      <a:lnTo>
                        <a:pt x="3298" y="595"/>
                      </a:lnTo>
                      <a:lnTo>
                        <a:pt x="3310" y="555"/>
                      </a:lnTo>
                      <a:lnTo>
                        <a:pt x="3315" y="517"/>
                      </a:lnTo>
                      <a:lnTo>
                        <a:pt x="3315" y="482"/>
                      </a:lnTo>
                      <a:lnTo>
                        <a:pt x="3311" y="452"/>
                      </a:lnTo>
                      <a:lnTo>
                        <a:pt x="3304" y="422"/>
                      </a:lnTo>
                      <a:lnTo>
                        <a:pt x="3294" y="394"/>
                      </a:lnTo>
                      <a:lnTo>
                        <a:pt x="3280" y="365"/>
                      </a:lnTo>
                      <a:lnTo>
                        <a:pt x="3264" y="337"/>
                      </a:lnTo>
                      <a:lnTo>
                        <a:pt x="3245" y="311"/>
                      </a:lnTo>
                      <a:lnTo>
                        <a:pt x="3223" y="285"/>
                      </a:lnTo>
                      <a:lnTo>
                        <a:pt x="3199" y="260"/>
                      </a:lnTo>
                      <a:lnTo>
                        <a:pt x="3173" y="236"/>
                      </a:lnTo>
                      <a:lnTo>
                        <a:pt x="3144" y="213"/>
                      </a:lnTo>
                      <a:lnTo>
                        <a:pt x="3112" y="190"/>
                      </a:lnTo>
                      <a:lnTo>
                        <a:pt x="3077" y="169"/>
                      </a:lnTo>
                      <a:lnTo>
                        <a:pt x="3040" y="149"/>
                      </a:lnTo>
                      <a:lnTo>
                        <a:pt x="3001" y="130"/>
                      </a:lnTo>
                      <a:lnTo>
                        <a:pt x="2959" y="113"/>
                      </a:lnTo>
                      <a:lnTo>
                        <a:pt x="2916" y="95"/>
                      </a:lnTo>
                      <a:lnTo>
                        <a:pt x="2868" y="80"/>
                      </a:lnTo>
                      <a:lnTo>
                        <a:pt x="2820" y="65"/>
                      </a:lnTo>
                      <a:lnTo>
                        <a:pt x="2769" y="53"/>
                      </a:lnTo>
                      <a:lnTo>
                        <a:pt x="2716" y="41"/>
                      </a:lnTo>
                      <a:lnTo>
                        <a:pt x="2660" y="31"/>
                      </a:lnTo>
                      <a:lnTo>
                        <a:pt x="2603" y="22"/>
                      </a:lnTo>
                      <a:lnTo>
                        <a:pt x="2544" y="15"/>
                      </a:lnTo>
                      <a:lnTo>
                        <a:pt x="2481" y="8"/>
                      </a:lnTo>
                      <a:lnTo>
                        <a:pt x="2418" y="3"/>
                      </a:lnTo>
                      <a:lnTo>
                        <a:pt x="2352" y="1"/>
                      </a:lnTo>
                      <a:lnTo>
                        <a:pt x="2284" y="0"/>
                      </a:lnTo>
                      <a:lnTo>
                        <a:pt x="2215" y="0"/>
                      </a:lnTo>
                      <a:lnTo>
                        <a:pt x="2144" y="1"/>
                      </a:lnTo>
                      <a:lnTo>
                        <a:pt x="2070" y="4"/>
                      </a:lnTo>
                      <a:lnTo>
                        <a:pt x="1995" y="10"/>
                      </a:lnTo>
                      <a:lnTo>
                        <a:pt x="1918" y="17"/>
                      </a:lnTo>
                      <a:lnTo>
                        <a:pt x="1840" y="26"/>
                      </a:lnTo>
                      <a:lnTo>
                        <a:pt x="1759" y="39"/>
                      </a:lnTo>
                      <a:lnTo>
                        <a:pt x="1678" y="55"/>
                      </a:lnTo>
                      <a:lnTo>
                        <a:pt x="1596" y="73"/>
                      </a:lnTo>
                      <a:lnTo>
                        <a:pt x="1514" y="95"/>
                      </a:lnTo>
                      <a:lnTo>
                        <a:pt x="1431" y="120"/>
                      </a:lnTo>
                      <a:lnTo>
                        <a:pt x="1348" y="145"/>
                      </a:lnTo>
                      <a:lnTo>
                        <a:pt x="1263" y="174"/>
                      </a:lnTo>
                      <a:lnTo>
                        <a:pt x="1182" y="205"/>
                      </a:lnTo>
                      <a:lnTo>
                        <a:pt x="1099" y="237"/>
                      </a:lnTo>
                      <a:lnTo>
                        <a:pt x="1018" y="270"/>
                      </a:lnTo>
                      <a:lnTo>
                        <a:pt x="939" y="306"/>
                      </a:lnTo>
                      <a:lnTo>
                        <a:pt x="859" y="344"/>
                      </a:lnTo>
                      <a:lnTo>
                        <a:pt x="783" y="382"/>
                      </a:lnTo>
                      <a:lnTo>
                        <a:pt x="708" y="421"/>
                      </a:lnTo>
                      <a:lnTo>
                        <a:pt x="636" y="462"/>
                      </a:lnTo>
                      <a:lnTo>
                        <a:pt x="565" y="502"/>
                      </a:lnTo>
                      <a:lnTo>
                        <a:pt x="498" y="543"/>
                      </a:lnTo>
                      <a:lnTo>
                        <a:pt x="434" y="585"/>
                      </a:lnTo>
                      <a:lnTo>
                        <a:pt x="373" y="628"/>
                      </a:lnTo>
                      <a:lnTo>
                        <a:pt x="316" y="669"/>
                      </a:lnTo>
                      <a:lnTo>
                        <a:pt x="263" y="712"/>
                      </a:lnTo>
                      <a:lnTo>
                        <a:pt x="214" y="753"/>
                      </a:lnTo>
                      <a:lnTo>
                        <a:pt x="169" y="795"/>
                      </a:lnTo>
                      <a:lnTo>
                        <a:pt x="129" y="835"/>
                      </a:lnTo>
                      <a:lnTo>
                        <a:pt x="93" y="874"/>
                      </a:lnTo>
                      <a:lnTo>
                        <a:pt x="63" y="913"/>
                      </a:lnTo>
                      <a:lnTo>
                        <a:pt x="39" y="951"/>
                      </a:lnTo>
                      <a:lnTo>
                        <a:pt x="19" y="987"/>
                      </a:lnTo>
                      <a:lnTo>
                        <a:pt x="6" y="1023"/>
                      </a:lnTo>
                      <a:lnTo>
                        <a:pt x="0" y="1056"/>
                      </a:lnTo>
                      <a:lnTo>
                        <a:pt x="0" y="1087"/>
                      </a:lnTo>
                      <a:lnTo>
                        <a:pt x="4" y="1118"/>
                      </a:lnTo>
                      <a:lnTo>
                        <a:pt x="13" y="1148"/>
                      </a:lnTo>
                      <a:lnTo>
                        <a:pt x="25" y="1178"/>
                      </a:lnTo>
                      <a:lnTo>
                        <a:pt x="40" y="1208"/>
                      </a:lnTo>
                      <a:lnTo>
                        <a:pt x="58" y="1237"/>
                      </a:lnTo>
                      <a:lnTo>
                        <a:pt x="80" y="1266"/>
                      </a:lnTo>
                      <a:lnTo>
                        <a:pt x="104" y="1293"/>
                      </a:lnTo>
                      <a:lnTo>
                        <a:pt x="132" y="1321"/>
                      </a:lnTo>
                      <a:lnTo>
                        <a:pt x="163" y="1347"/>
                      </a:lnTo>
                      <a:lnTo>
                        <a:pt x="197" y="1374"/>
                      </a:lnTo>
                      <a:lnTo>
                        <a:pt x="233" y="1399"/>
                      </a:lnTo>
                      <a:lnTo>
                        <a:pt x="273" y="1423"/>
                      </a:lnTo>
                      <a:lnTo>
                        <a:pt x="314" y="1447"/>
                      </a:lnTo>
                      <a:lnTo>
                        <a:pt x="358" y="1468"/>
                      </a:lnTo>
                      <a:lnTo>
                        <a:pt x="405" y="1490"/>
                      </a:lnTo>
                      <a:lnTo>
                        <a:pt x="455" y="1510"/>
                      </a:lnTo>
                      <a:lnTo>
                        <a:pt x="505" y="1529"/>
                      </a:lnTo>
                      <a:lnTo>
                        <a:pt x="560" y="1547"/>
                      </a:lnTo>
                      <a:lnTo>
                        <a:pt x="616" y="1563"/>
                      </a:lnTo>
                      <a:lnTo>
                        <a:pt x="674" y="1578"/>
                      </a:lnTo>
                      <a:lnTo>
                        <a:pt x="734" y="1592"/>
                      </a:lnTo>
                      <a:lnTo>
                        <a:pt x="796" y="1603"/>
                      </a:lnTo>
                      <a:lnTo>
                        <a:pt x="860" y="1614"/>
                      </a:lnTo>
                      <a:lnTo>
                        <a:pt x="926" y="1623"/>
                      </a:lnTo>
                      <a:lnTo>
                        <a:pt x="993" y="1630"/>
                      </a:lnTo>
                      <a:lnTo>
                        <a:pt x="1062" y="1634"/>
                      </a:lnTo>
                      <a:lnTo>
                        <a:pt x="1132" y="1638"/>
                      </a:lnTo>
                      <a:lnTo>
                        <a:pt x="1205" y="1640"/>
                      </a:lnTo>
                      <a:lnTo>
                        <a:pt x="1277" y="1639"/>
                      </a:lnTo>
                      <a:lnTo>
                        <a:pt x="1352" y="1637"/>
                      </a:lnTo>
                      <a:lnTo>
                        <a:pt x="1428" y="1632"/>
                      </a:lnTo>
                      <a:lnTo>
                        <a:pt x="1505" y="1625"/>
                      </a:lnTo>
                      <a:close/>
                    </a:path>
                  </a:pathLst>
                </a:custGeom>
                <a:solidFill>
                  <a:srgbClr val="3d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188040" y="3809880"/>
                  <a:ext cx="1816200" cy="1134720"/>
                </a:xfrm>
                <a:custGeom>
                  <a:avLst/>
                  <a:gdLst/>
                  <a:ahLst/>
                  <a:rect l="l" t="t" r="r" b="b"/>
                  <a:pathLst>
                    <a:path w="2290" h="1429">
                      <a:moveTo>
                        <a:pt x="1115" y="1422"/>
                      </a:moveTo>
                      <a:lnTo>
                        <a:pt x="1172" y="1415"/>
                      </a:lnTo>
                      <a:lnTo>
                        <a:pt x="1228" y="1406"/>
                      </a:lnTo>
                      <a:lnTo>
                        <a:pt x="1284" y="1394"/>
                      </a:lnTo>
                      <a:lnTo>
                        <a:pt x="1340" y="1381"/>
                      </a:lnTo>
                      <a:lnTo>
                        <a:pt x="1395" y="1365"/>
                      </a:lnTo>
                      <a:lnTo>
                        <a:pt x="1450" y="1346"/>
                      </a:lnTo>
                      <a:lnTo>
                        <a:pt x="1504" y="1327"/>
                      </a:lnTo>
                      <a:lnTo>
                        <a:pt x="1557" y="1306"/>
                      </a:lnTo>
                      <a:lnTo>
                        <a:pt x="1609" y="1283"/>
                      </a:lnTo>
                      <a:lnTo>
                        <a:pt x="1660" y="1257"/>
                      </a:lnTo>
                      <a:lnTo>
                        <a:pt x="1710" y="1232"/>
                      </a:lnTo>
                      <a:lnTo>
                        <a:pt x="1760" y="1204"/>
                      </a:lnTo>
                      <a:lnTo>
                        <a:pt x="1807" y="1176"/>
                      </a:lnTo>
                      <a:lnTo>
                        <a:pt x="1853" y="1147"/>
                      </a:lnTo>
                      <a:lnTo>
                        <a:pt x="1897" y="1116"/>
                      </a:lnTo>
                      <a:lnTo>
                        <a:pt x="1939" y="1085"/>
                      </a:lnTo>
                      <a:lnTo>
                        <a:pt x="1980" y="1052"/>
                      </a:lnTo>
                      <a:lnTo>
                        <a:pt x="2019" y="1020"/>
                      </a:lnTo>
                      <a:lnTo>
                        <a:pt x="2056" y="987"/>
                      </a:lnTo>
                      <a:lnTo>
                        <a:pt x="2089" y="953"/>
                      </a:lnTo>
                      <a:lnTo>
                        <a:pt x="2121" y="920"/>
                      </a:lnTo>
                      <a:lnTo>
                        <a:pt x="2151" y="887"/>
                      </a:lnTo>
                      <a:lnTo>
                        <a:pt x="2179" y="852"/>
                      </a:lnTo>
                      <a:lnTo>
                        <a:pt x="2203" y="819"/>
                      </a:lnTo>
                      <a:lnTo>
                        <a:pt x="2225" y="784"/>
                      </a:lnTo>
                      <a:lnTo>
                        <a:pt x="2243" y="751"/>
                      </a:lnTo>
                      <a:lnTo>
                        <a:pt x="2258" y="718"/>
                      </a:lnTo>
                      <a:lnTo>
                        <a:pt x="2271" y="686"/>
                      </a:lnTo>
                      <a:lnTo>
                        <a:pt x="2281" y="654"/>
                      </a:lnTo>
                      <a:lnTo>
                        <a:pt x="2287" y="623"/>
                      </a:lnTo>
                      <a:lnTo>
                        <a:pt x="2290" y="592"/>
                      </a:lnTo>
                      <a:lnTo>
                        <a:pt x="2288" y="563"/>
                      </a:lnTo>
                      <a:lnTo>
                        <a:pt x="2284" y="534"/>
                      </a:lnTo>
                      <a:lnTo>
                        <a:pt x="2277" y="505"/>
                      </a:lnTo>
                      <a:lnTo>
                        <a:pt x="2268" y="476"/>
                      </a:lnTo>
                      <a:lnTo>
                        <a:pt x="2256" y="448"/>
                      </a:lnTo>
                      <a:lnTo>
                        <a:pt x="2241" y="420"/>
                      </a:lnTo>
                      <a:lnTo>
                        <a:pt x="2225" y="392"/>
                      </a:lnTo>
                      <a:lnTo>
                        <a:pt x="2205" y="365"/>
                      </a:lnTo>
                      <a:lnTo>
                        <a:pt x="2185" y="338"/>
                      </a:lnTo>
                      <a:lnTo>
                        <a:pt x="2162" y="312"/>
                      </a:lnTo>
                      <a:lnTo>
                        <a:pt x="2135" y="285"/>
                      </a:lnTo>
                      <a:lnTo>
                        <a:pt x="2109" y="260"/>
                      </a:lnTo>
                      <a:lnTo>
                        <a:pt x="2079" y="236"/>
                      </a:lnTo>
                      <a:lnTo>
                        <a:pt x="2048" y="213"/>
                      </a:lnTo>
                      <a:lnTo>
                        <a:pt x="2014" y="190"/>
                      </a:lnTo>
                      <a:lnTo>
                        <a:pt x="1978" y="168"/>
                      </a:lnTo>
                      <a:lnTo>
                        <a:pt x="1942" y="147"/>
                      </a:lnTo>
                      <a:lnTo>
                        <a:pt x="1904" y="127"/>
                      </a:lnTo>
                      <a:lnTo>
                        <a:pt x="1863" y="109"/>
                      </a:lnTo>
                      <a:lnTo>
                        <a:pt x="1821" y="92"/>
                      </a:lnTo>
                      <a:lnTo>
                        <a:pt x="1778" y="76"/>
                      </a:lnTo>
                      <a:lnTo>
                        <a:pt x="1733" y="61"/>
                      </a:lnTo>
                      <a:lnTo>
                        <a:pt x="1687" y="48"/>
                      </a:lnTo>
                      <a:lnTo>
                        <a:pt x="1640" y="35"/>
                      </a:lnTo>
                      <a:lnTo>
                        <a:pt x="1591" y="25"/>
                      </a:lnTo>
                      <a:lnTo>
                        <a:pt x="1542" y="17"/>
                      </a:lnTo>
                      <a:lnTo>
                        <a:pt x="1491" y="10"/>
                      </a:lnTo>
                      <a:lnTo>
                        <a:pt x="1439" y="4"/>
                      </a:lnTo>
                      <a:lnTo>
                        <a:pt x="1386" y="2"/>
                      </a:lnTo>
                      <a:lnTo>
                        <a:pt x="1332" y="0"/>
                      </a:lnTo>
                      <a:lnTo>
                        <a:pt x="1278" y="1"/>
                      </a:lnTo>
                      <a:lnTo>
                        <a:pt x="1223" y="3"/>
                      </a:lnTo>
                      <a:lnTo>
                        <a:pt x="1166" y="8"/>
                      </a:lnTo>
                      <a:lnTo>
                        <a:pt x="1110" y="15"/>
                      </a:lnTo>
                      <a:lnTo>
                        <a:pt x="1053" y="24"/>
                      </a:lnTo>
                      <a:lnTo>
                        <a:pt x="998" y="35"/>
                      </a:lnTo>
                      <a:lnTo>
                        <a:pt x="943" y="49"/>
                      </a:lnTo>
                      <a:lnTo>
                        <a:pt x="887" y="64"/>
                      </a:lnTo>
                      <a:lnTo>
                        <a:pt x="833" y="81"/>
                      </a:lnTo>
                      <a:lnTo>
                        <a:pt x="779" y="101"/>
                      </a:lnTo>
                      <a:lnTo>
                        <a:pt x="726" y="122"/>
                      </a:lnTo>
                      <a:lnTo>
                        <a:pt x="674" y="144"/>
                      </a:lnTo>
                      <a:lnTo>
                        <a:pt x="624" y="168"/>
                      </a:lnTo>
                      <a:lnTo>
                        <a:pt x="574" y="193"/>
                      </a:lnTo>
                      <a:lnTo>
                        <a:pt x="526" y="220"/>
                      </a:lnTo>
                      <a:lnTo>
                        <a:pt x="478" y="247"/>
                      </a:lnTo>
                      <a:lnTo>
                        <a:pt x="433" y="275"/>
                      </a:lnTo>
                      <a:lnTo>
                        <a:pt x="390" y="305"/>
                      </a:lnTo>
                      <a:lnTo>
                        <a:pt x="347" y="335"/>
                      </a:lnTo>
                      <a:lnTo>
                        <a:pt x="307" y="366"/>
                      </a:lnTo>
                      <a:lnTo>
                        <a:pt x="269" y="398"/>
                      </a:lnTo>
                      <a:lnTo>
                        <a:pt x="232" y="430"/>
                      </a:lnTo>
                      <a:lnTo>
                        <a:pt x="198" y="463"/>
                      </a:lnTo>
                      <a:lnTo>
                        <a:pt x="166" y="496"/>
                      </a:lnTo>
                      <a:lnTo>
                        <a:pt x="137" y="529"/>
                      </a:lnTo>
                      <a:lnTo>
                        <a:pt x="110" y="562"/>
                      </a:lnTo>
                      <a:lnTo>
                        <a:pt x="85" y="595"/>
                      </a:lnTo>
                      <a:lnTo>
                        <a:pt x="65" y="628"/>
                      </a:lnTo>
                      <a:lnTo>
                        <a:pt x="46" y="662"/>
                      </a:lnTo>
                      <a:lnTo>
                        <a:pt x="30" y="694"/>
                      </a:lnTo>
                      <a:lnTo>
                        <a:pt x="17" y="726"/>
                      </a:lnTo>
                      <a:lnTo>
                        <a:pt x="8" y="757"/>
                      </a:lnTo>
                      <a:lnTo>
                        <a:pt x="3" y="789"/>
                      </a:lnTo>
                      <a:lnTo>
                        <a:pt x="0" y="819"/>
                      </a:lnTo>
                      <a:lnTo>
                        <a:pt x="1" y="848"/>
                      </a:lnTo>
                      <a:lnTo>
                        <a:pt x="6" y="877"/>
                      </a:lnTo>
                      <a:lnTo>
                        <a:pt x="13" y="906"/>
                      </a:lnTo>
                      <a:lnTo>
                        <a:pt x="22" y="935"/>
                      </a:lnTo>
                      <a:lnTo>
                        <a:pt x="34" y="964"/>
                      </a:lnTo>
                      <a:lnTo>
                        <a:pt x="47" y="992"/>
                      </a:lnTo>
                      <a:lnTo>
                        <a:pt x="65" y="1021"/>
                      </a:lnTo>
                      <a:lnTo>
                        <a:pt x="83" y="1049"/>
                      </a:lnTo>
                      <a:lnTo>
                        <a:pt x="104" y="1077"/>
                      </a:lnTo>
                      <a:lnTo>
                        <a:pt x="127" y="1103"/>
                      </a:lnTo>
                      <a:lnTo>
                        <a:pt x="152" y="1130"/>
                      </a:lnTo>
                      <a:lnTo>
                        <a:pt x="180" y="1156"/>
                      </a:lnTo>
                      <a:lnTo>
                        <a:pt x="209" y="1181"/>
                      </a:lnTo>
                      <a:lnTo>
                        <a:pt x="240" y="1206"/>
                      </a:lnTo>
                      <a:lnTo>
                        <a:pt x="273" y="1230"/>
                      </a:lnTo>
                      <a:lnTo>
                        <a:pt x="308" y="1252"/>
                      </a:lnTo>
                      <a:lnTo>
                        <a:pt x="345" y="1274"/>
                      </a:lnTo>
                      <a:lnTo>
                        <a:pt x="383" y="1294"/>
                      </a:lnTo>
                      <a:lnTo>
                        <a:pt x="423" y="1314"/>
                      </a:lnTo>
                      <a:lnTo>
                        <a:pt x="465" y="1331"/>
                      </a:lnTo>
                      <a:lnTo>
                        <a:pt x="507" y="1348"/>
                      </a:lnTo>
                      <a:lnTo>
                        <a:pt x="551" y="1365"/>
                      </a:lnTo>
                      <a:lnTo>
                        <a:pt x="597" y="1378"/>
                      </a:lnTo>
                      <a:lnTo>
                        <a:pt x="644" y="1391"/>
                      </a:lnTo>
                      <a:lnTo>
                        <a:pt x="691" y="1401"/>
                      </a:lnTo>
                      <a:lnTo>
                        <a:pt x="741" y="1411"/>
                      </a:lnTo>
                      <a:lnTo>
                        <a:pt x="792" y="1419"/>
                      </a:lnTo>
                      <a:lnTo>
                        <a:pt x="844" y="1424"/>
                      </a:lnTo>
                      <a:lnTo>
                        <a:pt x="897" y="1428"/>
                      </a:lnTo>
                      <a:lnTo>
                        <a:pt x="950" y="1429"/>
                      </a:lnTo>
                      <a:lnTo>
                        <a:pt x="1004" y="1429"/>
                      </a:lnTo>
                      <a:lnTo>
                        <a:pt x="1059" y="1427"/>
                      </a:lnTo>
                      <a:lnTo>
                        <a:pt x="1115" y="1422"/>
                      </a:lnTo>
                      <a:close/>
                    </a:path>
                  </a:pathLst>
                </a:custGeom>
                <a:solidFill>
                  <a:srgbClr val="4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897680" y="4107960"/>
                  <a:ext cx="125280" cy="717120"/>
                </a:xfrm>
                <a:custGeom>
                  <a:avLst/>
                  <a:gdLst/>
                  <a:ahLst/>
                  <a:rect l="l" t="t" r="r" b="b"/>
                  <a:pathLst>
                    <a:path w="157" h="903">
                      <a:moveTo>
                        <a:pt x="0" y="149"/>
                      </a:moveTo>
                      <a:lnTo>
                        <a:pt x="60" y="903"/>
                      </a:lnTo>
                      <a:lnTo>
                        <a:pt x="157" y="902"/>
                      </a:lnTo>
                      <a:lnTo>
                        <a:pt x="66" y="0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4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194160" y="4574880"/>
                  <a:ext cx="1273320" cy="1050480"/>
                </a:xfrm>
                <a:custGeom>
                  <a:avLst/>
                  <a:gdLst/>
                  <a:ahLst/>
                  <a:rect l="l" t="t" r="r" b="b"/>
                  <a:pathLst>
                    <a:path w="1604" h="1324">
                      <a:moveTo>
                        <a:pt x="1566" y="847"/>
                      </a:moveTo>
                      <a:lnTo>
                        <a:pt x="1604" y="1172"/>
                      </a:lnTo>
                      <a:lnTo>
                        <a:pt x="1602" y="1176"/>
                      </a:lnTo>
                      <a:lnTo>
                        <a:pt x="1595" y="1181"/>
                      </a:lnTo>
                      <a:lnTo>
                        <a:pt x="1584" y="1189"/>
                      </a:lnTo>
                      <a:lnTo>
                        <a:pt x="1570" y="1200"/>
                      </a:lnTo>
                      <a:lnTo>
                        <a:pt x="1551" y="1210"/>
                      </a:lnTo>
                      <a:lnTo>
                        <a:pt x="1529" y="1223"/>
                      </a:lnTo>
                      <a:lnTo>
                        <a:pt x="1505" y="1236"/>
                      </a:lnTo>
                      <a:lnTo>
                        <a:pt x="1477" y="1248"/>
                      </a:lnTo>
                      <a:lnTo>
                        <a:pt x="1449" y="1262"/>
                      </a:lnTo>
                      <a:lnTo>
                        <a:pt x="1417" y="1275"/>
                      </a:lnTo>
                      <a:lnTo>
                        <a:pt x="1385" y="1286"/>
                      </a:lnTo>
                      <a:lnTo>
                        <a:pt x="1352" y="1298"/>
                      </a:lnTo>
                      <a:lnTo>
                        <a:pt x="1317" y="1307"/>
                      </a:lnTo>
                      <a:lnTo>
                        <a:pt x="1283" y="1314"/>
                      </a:lnTo>
                      <a:lnTo>
                        <a:pt x="1247" y="1320"/>
                      </a:lnTo>
                      <a:lnTo>
                        <a:pt x="1212" y="1323"/>
                      </a:lnTo>
                      <a:lnTo>
                        <a:pt x="1169" y="1324"/>
                      </a:lnTo>
                      <a:lnTo>
                        <a:pt x="1120" y="1324"/>
                      </a:lnTo>
                      <a:lnTo>
                        <a:pt x="1069" y="1323"/>
                      </a:lnTo>
                      <a:lnTo>
                        <a:pt x="1016" y="1321"/>
                      </a:lnTo>
                      <a:lnTo>
                        <a:pt x="962" y="1317"/>
                      </a:lnTo>
                      <a:lnTo>
                        <a:pt x="909" y="1314"/>
                      </a:lnTo>
                      <a:lnTo>
                        <a:pt x="855" y="1309"/>
                      </a:lnTo>
                      <a:lnTo>
                        <a:pt x="804" y="1305"/>
                      </a:lnTo>
                      <a:lnTo>
                        <a:pt x="755" y="1300"/>
                      </a:lnTo>
                      <a:lnTo>
                        <a:pt x="710" y="1295"/>
                      </a:lnTo>
                      <a:lnTo>
                        <a:pt x="670" y="1291"/>
                      </a:lnTo>
                      <a:lnTo>
                        <a:pt x="634" y="1286"/>
                      </a:lnTo>
                      <a:lnTo>
                        <a:pt x="604" y="1283"/>
                      </a:lnTo>
                      <a:lnTo>
                        <a:pt x="582" y="1280"/>
                      </a:lnTo>
                      <a:lnTo>
                        <a:pt x="568" y="1279"/>
                      </a:lnTo>
                      <a:lnTo>
                        <a:pt x="564" y="1278"/>
                      </a:lnTo>
                      <a:lnTo>
                        <a:pt x="89" y="875"/>
                      </a:lnTo>
                      <a:lnTo>
                        <a:pt x="0" y="0"/>
                      </a:lnTo>
                      <a:lnTo>
                        <a:pt x="3" y="1"/>
                      </a:lnTo>
                      <a:lnTo>
                        <a:pt x="11" y="5"/>
                      </a:lnTo>
                      <a:lnTo>
                        <a:pt x="24" y="11"/>
                      </a:lnTo>
                      <a:lnTo>
                        <a:pt x="42" y="19"/>
                      </a:lnTo>
                      <a:lnTo>
                        <a:pt x="64" y="31"/>
                      </a:lnTo>
                      <a:lnTo>
                        <a:pt x="90" y="42"/>
                      </a:lnTo>
                      <a:lnTo>
                        <a:pt x="121" y="56"/>
                      </a:lnTo>
                      <a:lnTo>
                        <a:pt x="156" y="72"/>
                      </a:lnTo>
                      <a:lnTo>
                        <a:pt x="194" y="88"/>
                      </a:lnTo>
                      <a:lnTo>
                        <a:pt x="235" y="106"/>
                      </a:lnTo>
                      <a:lnTo>
                        <a:pt x="280" y="124"/>
                      </a:lnTo>
                      <a:lnTo>
                        <a:pt x="327" y="144"/>
                      </a:lnTo>
                      <a:lnTo>
                        <a:pt x="377" y="163"/>
                      </a:lnTo>
                      <a:lnTo>
                        <a:pt x="430" y="183"/>
                      </a:lnTo>
                      <a:lnTo>
                        <a:pt x="484" y="203"/>
                      </a:lnTo>
                      <a:lnTo>
                        <a:pt x="541" y="223"/>
                      </a:lnTo>
                      <a:lnTo>
                        <a:pt x="598" y="243"/>
                      </a:lnTo>
                      <a:lnTo>
                        <a:pt x="658" y="261"/>
                      </a:lnTo>
                      <a:lnTo>
                        <a:pt x="718" y="279"/>
                      </a:lnTo>
                      <a:lnTo>
                        <a:pt x="780" y="298"/>
                      </a:lnTo>
                      <a:lnTo>
                        <a:pt x="842" y="314"/>
                      </a:lnTo>
                      <a:lnTo>
                        <a:pt x="905" y="329"/>
                      </a:lnTo>
                      <a:lnTo>
                        <a:pt x="968" y="343"/>
                      </a:lnTo>
                      <a:lnTo>
                        <a:pt x="1030" y="354"/>
                      </a:lnTo>
                      <a:lnTo>
                        <a:pt x="1094" y="365"/>
                      </a:lnTo>
                      <a:lnTo>
                        <a:pt x="1156" y="373"/>
                      </a:lnTo>
                      <a:lnTo>
                        <a:pt x="1217" y="380"/>
                      </a:lnTo>
                      <a:lnTo>
                        <a:pt x="1277" y="383"/>
                      </a:lnTo>
                      <a:lnTo>
                        <a:pt x="1337" y="384"/>
                      </a:lnTo>
                      <a:lnTo>
                        <a:pt x="1394" y="382"/>
                      </a:lnTo>
                      <a:lnTo>
                        <a:pt x="1450" y="377"/>
                      </a:lnTo>
                      <a:lnTo>
                        <a:pt x="1504" y="369"/>
                      </a:lnTo>
                      <a:lnTo>
                        <a:pt x="1566" y="847"/>
                      </a:lnTo>
                      <a:close/>
                    </a:path>
                  </a:pathLst>
                </a:custGeom>
                <a:solidFill>
                  <a:srgbClr val="4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7070760" y="4223880"/>
                  <a:ext cx="877680" cy="704520"/>
                </a:xfrm>
                <a:custGeom>
                  <a:avLst/>
                  <a:gdLst/>
                  <a:ahLst/>
                  <a:rect l="l" t="t" r="r" b="b"/>
                  <a:pathLst>
                    <a:path w="1106" h="887">
                      <a:moveTo>
                        <a:pt x="0" y="188"/>
                      </a:moveTo>
                      <a:lnTo>
                        <a:pt x="1003" y="0"/>
                      </a:lnTo>
                      <a:lnTo>
                        <a:pt x="1106" y="768"/>
                      </a:lnTo>
                      <a:lnTo>
                        <a:pt x="394" y="887"/>
                      </a:lnTo>
                      <a:lnTo>
                        <a:pt x="0" y="188"/>
                      </a:lnTo>
                      <a:close/>
                    </a:path>
                  </a:pathLst>
                </a:custGeom>
                <a:solidFill>
                  <a:srgbClr val="7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959440" y="4508280"/>
                  <a:ext cx="2614680" cy="1345680"/>
                </a:xfrm>
                <a:custGeom>
                  <a:avLst/>
                  <a:gdLst/>
                  <a:ahLst/>
                  <a:rect l="l" t="t" r="r" b="b"/>
                  <a:pathLst>
                    <a:path w="3294" h="1696">
                      <a:moveTo>
                        <a:pt x="2506" y="1378"/>
                      </a:moveTo>
                      <a:lnTo>
                        <a:pt x="2482" y="1390"/>
                      </a:lnTo>
                      <a:lnTo>
                        <a:pt x="2458" y="1401"/>
                      </a:lnTo>
                      <a:lnTo>
                        <a:pt x="2434" y="1413"/>
                      </a:lnTo>
                      <a:lnTo>
                        <a:pt x="2409" y="1424"/>
                      </a:lnTo>
                      <a:lnTo>
                        <a:pt x="2384" y="1435"/>
                      </a:lnTo>
                      <a:lnTo>
                        <a:pt x="2360" y="1446"/>
                      </a:lnTo>
                      <a:lnTo>
                        <a:pt x="2334" y="1456"/>
                      </a:lnTo>
                      <a:lnTo>
                        <a:pt x="2309" y="1467"/>
                      </a:lnTo>
                      <a:lnTo>
                        <a:pt x="2284" y="1477"/>
                      </a:lnTo>
                      <a:lnTo>
                        <a:pt x="2258" y="1488"/>
                      </a:lnTo>
                      <a:lnTo>
                        <a:pt x="2232" y="1498"/>
                      </a:lnTo>
                      <a:lnTo>
                        <a:pt x="2205" y="1508"/>
                      </a:lnTo>
                      <a:lnTo>
                        <a:pt x="2179" y="1517"/>
                      </a:lnTo>
                      <a:lnTo>
                        <a:pt x="2152" y="1528"/>
                      </a:lnTo>
                      <a:lnTo>
                        <a:pt x="2126" y="1537"/>
                      </a:lnTo>
                      <a:lnTo>
                        <a:pt x="2098" y="1546"/>
                      </a:lnTo>
                      <a:lnTo>
                        <a:pt x="2071" y="1555"/>
                      </a:lnTo>
                      <a:lnTo>
                        <a:pt x="2042" y="1565"/>
                      </a:lnTo>
                      <a:lnTo>
                        <a:pt x="2014" y="1573"/>
                      </a:lnTo>
                      <a:lnTo>
                        <a:pt x="1985" y="1582"/>
                      </a:lnTo>
                      <a:lnTo>
                        <a:pt x="1955" y="1590"/>
                      </a:lnTo>
                      <a:lnTo>
                        <a:pt x="1925" y="1598"/>
                      </a:lnTo>
                      <a:lnTo>
                        <a:pt x="1895" y="1606"/>
                      </a:lnTo>
                      <a:lnTo>
                        <a:pt x="1866" y="1613"/>
                      </a:lnTo>
                      <a:lnTo>
                        <a:pt x="1834" y="1621"/>
                      </a:lnTo>
                      <a:lnTo>
                        <a:pt x="1803" y="1628"/>
                      </a:lnTo>
                      <a:lnTo>
                        <a:pt x="1771" y="1635"/>
                      </a:lnTo>
                      <a:lnTo>
                        <a:pt x="1739" y="1642"/>
                      </a:lnTo>
                      <a:lnTo>
                        <a:pt x="1707" y="1648"/>
                      </a:lnTo>
                      <a:lnTo>
                        <a:pt x="1673" y="1655"/>
                      </a:lnTo>
                      <a:lnTo>
                        <a:pt x="1640" y="1660"/>
                      </a:lnTo>
                      <a:lnTo>
                        <a:pt x="1605" y="1666"/>
                      </a:lnTo>
                      <a:lnTo>
                        <a:pt x="1579" y="1672"/>
                      </a:lnTo>
                      <a:lnTo>
                        <a:pt x="1542" y="1678"/>
                      </a:lnTo>
                      <a:lnTo>
                        <a:pt x="1498" y="1683"/>
                      </a:lnTo>
                      <a:lnTo>
                        <a:pt x="1446" y="1687"/>
                      </a:lnTo>
                      <a:lnTo>
                        <a:pt x="1390" y="1690"/>
                      </a:lnTo>
                      <a:lnTo>
                        <a:pt x="1329" y="1693"/>
                      </a:lnTo>
                      <a:lnTo>
                        <a:pt x="1266" y="1695"/>
                      </a:lnTo>
                      <a:lnTo>
                        <a:pt x="1204" y="1696"/>
                      </a:lnTo>
                      <a:lnTo>
                        <a:pt x="1142" y="1696"/>
                      </a:lnTo>
                      <a:lnTo>
                        <a:pt x="1083" y="1695"/>
                      </a:lnTo>
                      <a:lnTo>
                        <a:pt x="1029" y="1694"/>
                      </a:lnTo>
                      <a:lnTo>
                        <a:pt x="979" y="1691"/>
                      </a:lnTo>
                      <a:lnTo>
                        <a:pt x="939" y="1688"/>
                      </a:lnTo>
                      <a:lnTo>
                        <a:pt x="907" y="1685"/>
                      </a:lnTo>
                      <a:lnTo>
                        <a:pt x="885" y="1680"/>
                      </a:lnTo>
                      <a:lnTo>
                        <a:pt x="876" y="1674"/>
                      </a:lnTo>
                      <a:lnTo>
                        <a:pt x="800" y="1664"/>
                      </a:lnTo>
                      <a:lnTo>
                        <a:pt x="728" y="1649"/>
                      </a:lnTo>
                      <a:lnTo>
                        <a:pt x="662" y="1633"/>
                      </a:lnTo>
                      <a:lnTo>
                        <a:pt x="599" y="1614"/>
                      </a:lnTo>
                      <a:lnTo>
                        <a:pt x="541" y="1594"/>
                      </a:lnTo>
                      <a:lnTo>
                        <a:pt x="489" y="1572"/>
                      </a:lnTo>
                      <a:lnTo>
                        <a:pt x="440" y="1550"/>
                      </a:lnTo>
                      <a:lnTo>
                        <a:pt x="397" y="1528"/>
                      </a:lnTo>
                      <a:lnTo>
                        <a:pt x="358" y="1507"/>
                      </a:lnTo>
                      <a:lnTo>
                        <a:pt x="325" y="1486"/>
                      </a:lnTo>
                      <a:lnTo>
                        <a:pt x="297" y="1468"/>
                      </a:lnTo>
                      <a:lnTo>
                        <a:pt x="273" y="1452"/>
                      </a:lnTo>
                      <a:lnTo>
                        <a:pt x="255" y="1438"/>
                      </a:lnTo>
                      <a:lnTo>
                        <a:pt x="242" y="1428"/>
                      </a:lnTo>
                      <a:lnTo>
                        <a:pt x="234" y="1421"/>
                      </a:lnTo>
                      <a:lnTo>
                        <a:pt x="232" y="1418"/>
                      </a:lnTo>
                      <a:lnTo>
                        <a:pt x="201" y="1394"/>
                      </a:lnTo>
                      <a:lnTo>
                        <a:pt x="172" y="1369"/>
                      </a:lnTo>
                      <a:lnTo>
                        <a:pt x="145" y="1342"/>
                      </a:lnTo>
                      <a:lnTo>
                        <a:pt x="120" y="1315"/>
                      </a:lnTo>
                      <a:lnTo>
                        <a:pt x="97" y="1287"/>
                      </a:lnTo>
                      <a:lnTo>
                        <a:pt x="76" y="1257"/>
                      </a:lnTo>
                      <a:lnTo>
                        <a:pt x="58" y="1227"/>
                      </a:lnTo>
                      <a:lnTo>
                        <a:pt x="42" y="1196"/>
                      </a:lnTo>
                      <a:lnTo>
                        <a:pt x="28" y="1163"/>
                      </a:lnTo>
                      <a:lnTo>
                        <a:pt x="16" y="1129"/>
                      </a:lnTo>
                      <a:lnTo>
                        <a:pt x="8" y="1095"/>
                      </a:lnTo>
                      <a:lnTo>
                        <a:pt x="2" y="1058"/>
                      </a:lnTo>
                      <a:lnTo>
                        <a:pt x="0" y="1021"/>
                      </a:lnTo>
                      <a:lnTo>
                        <a:pt x="1" y="982"/>
                      </a:lnTo>
                      <a:lnTo>
                        <a:pt x="5" y="943"/>
                      </a:lnTo>
                      <a:lnTo>
                        <a:pt x="12" y="901"/>
                      </a:lnTo>
                      <a:lnTo>
                        <a:pt x="36" y="855"/>
                      </a:lnTo>
                      <a:lnTo>
                        <a:pt x="61" y="813"/>
                      </a:lnTo>
                      <a:lnTo>
                        <a:pt x="90" y="773"/>
                      </a:lnTo>
                      <a:lnTo>
                        <a:pt x="120" y="739"/>
                      </a:lnTo>
                      <a:lnTo>
                        <a:pt x="150" y="708"/>
                      </a:lnTo>
                      <a:lnTo>
                        <a:pt x="181" y="681"/>
                      </a:lnTo>
                      <a:lnTo>
                        <a:pt x="212" y="657"/>
                      </a:lnTo>
                      <a:lnTo>
                        <a:pt x="242" y="635"/>
                      </a:lnTo>
                      <a:lnTo>
                        <a:pt x="271" y="618"/>
                      </a:lnTo>
                      <a:lnTo>
                        <a:pt x="297" y="603"/>
                      </a:lnTo>
                      <a:lnTo>
                        <a:pt x="322" y="590"/>
                      </a:lnTo>
                      <a:lnTo>
                        <a:pt x="342" y="581"/>
                      </a:lnTo>
                      <a:lnTo>
                        <a:pt x="360" y="574"/>
                      </a:lnTo>
                      <a:lnTo>
                        <a:pt x="373" y="569"/>
                      </a:lnTo>
                      <a:lnTo>
                        <a:pt x="382" y="566"/>
                      </a:lnTo>
                      <a:lnTo>
                        <a:pt x="385" y="566"/>
                      </a:lnTo>
                      <a:lnTo>
                        <a:pt x="385" y="579"/>
                      </a:lnTo>
                      <a:lnTo>
                        <a:pt x="382" y="589"/>
                      </a:lnTo>
                      <a:lnTo>
                        <a:pt x="377" y="597"/>
                      </a:lnTo>
                      <a:lnTo>
                        <a:pt x="371" y="604"/>
                      </a:lnTo>
                      <a:lnTo>
                        <a:pt x="363" y="610"/>
                      </a:lnTo>
                      <a:lnTo>
                        <a:pt x="355" y="614"/>
                      </a:lnTo>
                      <a:lnTo>
                        <a:pt x="347" y="619"/>
                      </a:lnTo>
                      <a:lnTo>
                        <a:pt x="339" y="625"/>
                      </a:lnTo>
                      <a:lnTo>
                        <a:pt x="311" y="642"/>
                      </a:lnTo>
                      <a:lnTo>
                        <a:pt x="285" y="659"/>
                      </a:lnTo>
                      <a:lnTo>
                        <a:pt x="259" y="678"/>
                      </a:lnTo>
                      <a:lnTo>
                        <a:pt x="234" y="696"/>
                      </a:lnTo>
                      <a:lnTo>
                        <a:pt x="211" y="715"/>
                      </a:lnTo>
                      <a:lnTo>
                        <a:pt x="189" y="734"/>
                      </a:lnTo>
                      <a:lnTo>
                        <a:pt x="168" y="754"/>
                      </a:lnTo>
                      <a:lnTo>
                        <a:pt x="149" y="775"/>
                      </a:lnTo>
                      <a:lnTo>
                        <a:pt x="132" y="795"/>
                      </a:lnTo>
                      <a:lnTo>
                        <a:pt x="115" y="817"/>
                      </a:lnTo>
                      <a:lnTo>
                        <a:pt x="103" y="840"/>
                      </a:lnTo>
                      <a:lnTo>
                        <a:pt x="91" y="863"/>
                      </a:lnTo>
                      <a:lnTo>
                        <a:pt x="82" y="887"/>
                      </a:lnTo>
                      <a:lnTo>
                        <a:pt x="75" y="913"/>
                      </a:lnTo>
                      <a:lnTo>
                        <a:pt x="70" y="939"/>
                      </a:lnTo>
                      <a:lnTo>
                        <a:pt x="69" y="967"/>
                      </a:lnTo>
                      <a:lnTo>
                        <a:pt x="69" y="1001"/>
                      </a:lnTo>
                      <a:lnTo>
                        <a:pt x="73" y="1035"/>
                      </a:lnTo>
                      <a:lnTo>
                        <a:pt x="80" y="1068"/>
                      </a:lnTo>
                      <a:lnTo>
                        <a:pt x="88" y="1099"/>
                      </a:lnTo>
                      <a:lnTo>
                        <a:pt x="99" y="1129"/>
                      </a:lnTo>
                      <a:lnTo>
                        <a:pt x="113" y="1158"/>
                      </a:lnTo>
                      <a:lnTo>
                        <a:pt x="128" y="1186"/>
                      </a:lnTo>
                      <a:lnTo>
                        <a:pt x="145" y="1213"/>
                      </a:lnTo>
                      <a:lnTo>
                        <a:pt x="165" y="1239"/>
                      </a:lnTo>
                      <a:lnTo>
                        <a:pt x="186" y="1264"/>
                      </a:lnTo>
                      <a:lnTo>
                        <a:pt x="209" y="1288"/>
                      </a:lnTo>
                      <a:lnTo>
                        <a:pt x="232" y="1311"/>
                      </a:lnTo>
                      <a:lnTo>
                        <a:pt x="257" y="1333"/>
                      </a:lnTo>
                      <a:lnTo>
                        <a:pt x="284" y="1355"/>
                      </a:lnTo>
                      <a:lnTo>
                        <a:pt x="310" y="1376"/>
                      </a:lnTo>
                      <a:lnTo>
                        <a:pt x="338" y="1395"/>
                      </a:lnTo>
                      <a:lnTo>
                        <a:pt x="368" y="1414"/>
                      </a:lnTo>
                      <a:lnTo>
                        <a:pt x="398" y="1431"/>
                      </a:lnTo>
                      <a:lnTo>
                        <a:pt x="428" y="1447"/>
                      </a:lnTo>
                      <a:lnTo>
                        <a:pt x="459" y="1463"/>
                      </a:lnTo>
                      <a:lnTo>
                        <a:pt x="490" y="1477"/>
                      </a:lnTo>
                      <a:lnTo>
                        <a:pt x="521" y="1491"/>
                      </a:lnTo>
                      <a:lnTo>
                        <a:pt x="553" y="1505"/>
                      </a:lnTo>
                      <a:lnTo>
                        <a:pt x="585" y="1516"/>
                      </a:lnTo>
                      <a:lnTo>
                        <a:pt x="618" y="1528"/>
                      </a:lnTo>
                      <a:lnTo>
                        <a:pt x="651" y="1538"/>
                      </a:lnTo>
                      <a:lnTo>
                        <a:pt x="685" y="1547"/>
                      </a:lnTo>
                      <a:lnTo>
                        <a:pt x="718" y="1555"/>
                      </a:lnTo>
                      <a:lnTo>
                        <a:pt x="753" y="1564"/>
                      </a:lnTo>
                      <a:lnTo>
                        <a:pt x="787" y="1572"/>
                      </a:lnTo>
                      <a:lnTo>
                        <a:pt x="823" y="1577"/>
                      </a:lnTo>
                      <a:lnTo>
                        <a:pt x="859" y="1583"/>
                      </a:lnTo>
                      <a:lnTo>
                        <a:pt x="894" y="1588"/>
                      </a:lnTo>
                      <a:lnTo>
                        <a:pt x="931" y="1592"/>
                      </a:lnTo>
                      <a:lnTo>
                        <a:pt x="969" y="1596"/>
                      </a:lnTo>
                      <a:lnTo>
                        <a:pt x="1006" y="1598"/>
                      </a:lnTo>
                      <a:lnTo>
                        <a:pt x="1045" y="1600"/>
                      </a:lnTo>
                      <a:lnTo>
                        <a:pt x="1084" y="1602"/>
                      </a:lnTo>
                      <a:lnTo>
                        <a:pt x="1124" y="1602"/>
                      </a:lnTo>
                      <a:lnTo>
                        <a:pt x="1164" y="1602"/>
                      </a:lnTo>
                      <a:lnTo>
                        <a:pt x="1204" y="1602"/>
                      </a:lnTo>
                      <a:lnTo>
                        <a:pt x="1246" y="1600"/>
                      </a:lnTo>
                      <a:lnTo>
                        <a:pt x="1288" y="1598"/>
                      </a:lnTo>
                      <a:lnTo>
                        <a:pt x="1331" y="1596"/>
                      </a:lnTo>
                      <a:lnTo>
                        <a:pt x="1374" y="1592"/>
                      </a:lnTo>
                      <a:lnTo>
                        <a:pt x="1418" y="1589"/>
                      </a:lnTo>
                      <a:lnTo>
                        <a:pt x="1463" y="1584"/>
                      </a:lnTo>
                      <a:lnTo>
                        <a:pt x="1508" y="1580"/>
                      </a:lnTo>
                      <a:lnTo>
                        <a:pt x="1562" y="1572"/>
                      </a:lnTo>
                      <a:lnTo>
                        <a:pt x="1617" y="1562"/>
                      </a:lnTo>
                      <a:lnTo>
                        <a:pt x="1671" y="1553"/>
                      </a:lnTo>
                      <a:lnTo>
                        <a:pt x="1725" y="1543"/>
                      </a:lnTo>
                      <a:lnTo>
                        <a:pt x="1780" y="1531"/>
                      </a:lnTo>
                      <a:lnTo>
                        <a:pt x="1834" y="1520"/>
                      </a:lnTo>
                      <a:lnTo>
                        <a:pt x="1889" y="1507"/>
                      </a:lnTo>
                      <a:lnTo>
                        <a:pt x="1943" y="1493"/>
                      </a:lnTo>
                      <a:lnTo>
                        <a:pt x="1997" y="1478"/>
                      </a:lnTo>
                      <a:lnTo>
                        <a:pt x="2051" y="1463"/>
                      </a:lnTo>
                      <a:lnTo>
                        <a:pt x="2105" y="1446"/>
                      </a:lnTo>
                      <a:lnTo>
                        <a:pt x="2158" y="1429"/>
                      </a:lnTo>
                      <a:lnTo>
                        <a:pt x="2211" y="1410"/>
                      </a:lnTo>
                      <a:lnTo>
                        <a:pt x="2264" y="1390"/>
                      </a:lnTo>
                      <a:lnTo>
                        <a:pt x="2317" y="1369"/>
                      </a:lnTo>
                      <a:lnTo>
                        <a:pt x="2369" y="1346"/>
                      </a:lnTo>
                      <a:lnTo>
                        <a:pt x="2421" y="1323"/>
                      </a:lnTo>
                      <a:lnTo>
                        <a:pt x="2473" y="1297"/>
                      </a:lnTo>
                      <a:lnTo>
                        <a:pt x="2523" y="1271"/>
                      </a:lnTo>
                      <a:lnTo>
                        <a:pt x="2574" y="1242"/>
                      </a:lnTo>
                      <a:lnTo>
                        <a:pt x="2624" y="1213"/>
                      </a:lnTo>
                      <a:lnTo>
                        <a:pt x="2673" y="1182"/>
                      </a:lnTo>
                      <a:lnTo>
                        <a:pt x="2722" y="1149"/>
                      </a:lnTo>
                      <a:lnTo>
                        <a:pt x="2769" y="1114"/>
                      </a:lnTo>
                      <a:lnTo>
                        <a:pt x="2816" y="1079"/>
                      </a:lnTo>
                      <a:lnTo>
                        <a:pt x="2862" y="1041"/>
                      </a:lnTo>
                      <a:lnTo>
                        <a:pt x="2908" y="1001"/>
                      </a:lnTo>
                      <a:lnTo>
                        <a:pt x="2953" y="960"/>
                      </a:lnTo>
                      <a:lnTo>
                        <a:pt x="2997" y="917"/>
                      </a:lnTo>
                      <a:lnTo>
                        <a:pt x="3040" y="871"/>
                      </a:lnTo>
                      <a:lnTo>
                        <a:pt x="3081" y="825"/>
                      </a:lnTo>
                      <a:lnTo>
                        <a:pt x="3122" y="776"/>
                      </a:lnTo>
                      <a:lnTo>
                        <a:pt x="3154" y="713"/>
                      </a:lnTo>
                      <a:lnTo>
                        <a:pt x="3181" y="654"/>
                      </a:lnTo>
                      <a:lnTo>
                        <a:pt x="3205" y="594"/>
                      </a:lnTo>
                      <a:lnTo>
                        <a:pt x="3225" y="534"/>
                      </a:lnTo>
                      <a:lnTo>
                        <a:pt x="3235" y="475"/>
                      </a:lnTo>
                      <a:lnTo>
                        <a:pt x="3238" y="414"/>
                      </a:lnTo>
                      <a:lnTo>
                        <a:pt x="3230" y="353"/>
                      </a:lnTo>
                      <a:lnTo>
                        <a:pt x="3209" y="288"/>
                      </a:lnTo>
                      <a:lnTo>
                        <a:pt x="3186" y="257"/>
                      </a:lnTo>
                      <a:lnTo>
                        <a:pt x="3161" y="230"/>
                      </a:lnTo>
                      <a:lnTo>
                        <a:pt x="3134" y="204"/>
                      </a:lnTo>
                      <a:lnTo>
                        <a:pt x="3106" y="181"/>
                      </a:lnTo>
                      <a:lnTo>
                        <a:pt x="3076" y="159"/>
                      </a:lnTo>
                      <a:lnTo>
                        <a:pt x="3046" y="141"/>
                      </a:lnTo>
                      <a:lnTo>
                        <a:pt x="3014" y="124"/>
                      </a:lnTo>
                      <a:lnTo>
                        <a:pt x="2982" y="108"/>
                      </a:lnTo>
                      <a:lnTo>
                        <a:pt x="2947" y="94"/>
                      </a:lnTo>
                      <a:lnTo>
                        <a:pt x="2914" y="82"/>
                      </a:lnTo>
                      <a:lnTo>
                        <a:pt x="2879" y="72"/>
                      </a:lnTo>
                      <a:lnTo>
                        <a:pt x="2844" y="61"/>
                      </a:lnTo>
                      <a:lnTo>
                        <a:pt x="2809" y="53"/>
                      </a:lnTo>
                      <a:lnTo>
                        <a:pt x="2773" y="47"/>
                      </a:lnTo>
                      <a:lnTo>
                        <a:pt x="2738" y="40"/>
                      </a:lnTo>
                      <a:lnTo>
                        <a:pt x="2703" y="34"/>
                      </a:lnTo>
                      <a:lnTo>
                        <a:pt x="2695" y="0"/>
                      </a:lnTo>
                      <a:lnTo>
                        <a:pt x="2725" y="0"/>
                      </a:lnTo>
                      <a:lnTo>
                        <a:pt x="2754" y="2"/>
                      </a:lnTo>
                      <a:lnTo>
                        <a:pt x="2784" y="4"/>
                      </a:lnTo>
                      <a:lnTo>
                        <a:pt x="2813" y="7"/>
                      </a:lnTo>
                      <a:lnTo>
                        <a:pt x="2841" y="13"/>
                      </a:lnTo>
                      <a:lnTo>
                        <a:pt x="2869" y="20"/>
                      </a:lnTo>
                      <a:lnTo>
                        <a:pt x="2898" y="28"/>
                      </a:lnTo>
                      <a:lnTo>
                        <a:pt x="2925" y="37"/>
                      </a:lnTo>
                      <a:lnTo>
                        <a:pt x="2953" y="48"/>
                      </a:lnTo>
                      <a:lnTo>
                        <a:pt x="2981" y="59"/>
                      </a:lnTo>
                      <a:lnTo>
                        <a:pt x="3007" y="71"/>
                      </a:lnTo>
                      <a:lnTo>
                        <a:pt x="3034" y="85"/>
                      </a:lnTo>
                      <a:lnTo>
                        <a:pt x="3061" y="98"/>
                      </a:lnTo>
                      <a:lnTo>
                        <a:pt x="3088" y="112"/>
                      </a:lnTo>
                      <a:lnTo>
                        <a:pt x="3113" y="127"/>
                      </a:lnTo>
                      <a:lnTo>
                        <a:pt x="3140" y="143"/>
                      </a:lnTo>
                      <a:lnTo>
                        <a:pt x="3173" y="172"/>
                      </a:lnTo>
                      <a:lnTo>
                        <a:pt x="3205" y="204"/>
                      </a:lnTo>
                      <a:lnTo>
                        <a:pt x="3233" y="242"/>
                      </a:lnTo>
                      <a:lnTo>
                        <a:pt x="3257" y="285"/>
                      </a:lnTo>
                      <a:lnTo>
                        <a:pt x="3277" y="333"/>
                      </a:lnTo>
                      <a:lnTo>
                        <a:pt x="3290" y="389"/>
                      </a:lnTo>
                      <a:lnTo>
                        <a:pt x="3294" y="449"/>
                      </a:lnTo>
                      <a:lnTo>
                        <a:pt x="3292" y="516"/>
                      </a:lnTo>
                      <a:lnTo>
                        <a:pt x="3290" y="528"/>
                      </a:lnTo>
                      <a:lnTo>
                        <a:pt x="3287" y="540"/>
                      </a:lnTo>
                      <a:lnTo>
                        <a:pt x="3285" y="553"/>
                      </a:lnTo>
                      <a:lnTo>
                        <a:pt x="3281" y="568"/>
                      </a:lnTo>
                      <a:lnTo>
                        <a:pt x="3278" y="584"/>
                      </a:lnTo>
                      <a:lnTo>
                        <a:pt x="3273" y="601"/>
                      </a:lnTo>
                      <a:lnTo>
                        <a:pt x="3269" y="619"/>
                      </a:lnTo>
                      <a:lnTo>
                        <a:pt x="3263" y="639"/>
                      </a:lnTo>
                      <a:lnTo>
                        <a:pt x="3255" y="658"/>
                      </a:lnTo>
                      <a:lnTo>
                        <a:pt x="3247" y="680"/>
                      </a:lnTo>
                      <a:lnTo>
                        <a:pt x="3238" y="702"/>
                      </a:lnTo>
                      <a:lnTo>
                        <a:pt x="3226" y="725"/>
                      </a:lnTo>
                      <a:lnTo>
                        <a:pt x="3214" y="750"/>
                      </a:lnTo>
                      <a:lnTo>
                        <a:pt x="3200" y="776"/>
                      </a:lnTo>
                      <a:lnTo>
                        <a:pt x="3184" y="802"/>
                      </a:lnTo>
                      <a:lnTo>
                        <a:pt x="3165" y="829"/>
                      </a:lnTo>
                      <a:lnTo>
                        <a:pt x="3146" y="857"/>
                      </a:lnTo>
                      <a:lnTo>
                        <a:pt x="3122" y="886"/>
                      </a:lnTo>
                      <a:lnTo>
                        <a:pt x="3098" y="916"/>
                      </a:lnTo>
                      <a:lnTo>
                        <a:pt x="3071" y="947"/>
                      </a:lnTo>
                      <a:lnTo>
                        <a:pt x="3042" y="978"/>
                      </a:lnTo>
                      <a:lnTo>
                        <a:pt x="3008" y="1012"/>
                      </a:lnTo>
                      <a:lnTo>
                        <a:pt x="2974" y="1045"/>
                      </a:lnTo>
                      <a:lnTo>
                        <a:pt x="2935" y="1079"/>
                      </a:lnTo>
                      <a:lnTo>
                        <a:pt x="2894" y="1114"/>
                      </a:lnTo>
                      <a:lnTo>
                        <a:pt x="2849" y="1150"/>
                      </a:lnTo>
                      <a:lnTo>
                        <a:pt x="2801" y="1186"/>
                      </a:lnTo>
                      <a:lnTo>
                        <a:pt x="2749" y="1223"/>
                      </a:lnTo>
                      <a:lnTo>
                        <a:pt x="2695" y="1261"/>
                      </a:lnTo>
                      <a:lnTo>
                        <a:pt x="2635" y="1300"/>
                      </a:lnTo>
                      <a:lnTo>
                        <a:pt x="2573" y="1338"/>
                      </a:lnTo>
                      <a:lnTo>
                        <a:pt x="2506" y="13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7524720" y="4693680"/>
                  <a:ext cx="799920" cy="803160"/>
                </a:xfrm>
                <a:custGeom>
                  <a:avLst/>
                  <a:gdLst/>
                  <a:ahLst/>
                  <a:rect l="l" t="t" r="r" b="b"/>
                  <a:pathLst>
                    <a:path w="1007" h="1013">
                      <a:moveTo>
                        <a:pt x="448" y="832"/>
                      </a:moveTo>
                      <a:lnTo>
                        <a:pt x="426" y="844"/>
                      </a:lnTo>
                      <a:lnTo>
                        <a:pt x="402" y="855"/>
                      </a:lnTo>
                      <a:lnTo>
                        <a:pt x="375" y="867"/>
                      </a:lnTo>
                      <a:lnTo>
                        <a:pt x="349" y="879"/>
                      </a:lnTo>
                      <a:lnTo>
                        <a:pt x="320" y="891"/>
                      </a:lnTo>
                      <a:lnTo>
                        <a:pt x="291" y="904"/>
                      </a:lnTo>
                      <a:lnTo>
                        <a:pt x="261" y="916"/>
                      </a:lnTo>
                      <a:lnTo>
                        <a:pt x="231" y="929"/>
                      </a:lnTo>
                      <a:lnTo>
                        <a:pt x="201" y="940"/>
                      </a:lnTo>
                      <a:lnTo>
                        <a:pt x="171" y="953"/>
                      </a:lnTo>
                      <a:lnTo>
                        <a:pt x="142" y="965"/>
                      </a:lnTo>
                      <a:lnTo>
                        <a:pt x="113" y="975"/>
                      </a:lnTo>
                      <a:lnTo>
                        <a:pt x="85" y="985"/>
                      </a:lnTo>
                      <a:lnTo>
                        <a:pt x="57" y="996"/>
                      </a:lnTo>
                      <a:lnTo>
                        <a:pt x="32" y="1005"/>
                      </a:lnTo>
                      <a:lnTo>
                        <a:pt x="8" y="1013"/>
                      </a:lnTo>
                      <a:lnTo>
                        <a:pt x="2" y="1009"/>
                      </a:lnTo>
                      <a:lnTo>
                        <a:pt x="0" y="1004"/>
                      </a:lnTo>
                      <a:lnTo>
                        <a:pt x="1" y="995"/>
                      </a:lnTo>
                      <a:lnTo>
                        <a:pt x="6" y="985"/>
                      </a:lnTo>
                      <a:lnTo>
                        <a:pt x="11" y="975"/>
                      </a:lnTo>
                      <a:lnTo>
                        <a:pt x="18" y="965"/>
                      </a:lnTo>
                      <a:lnTo>
                        <a:pt x="26" y="955"/>
                      </a:lnTo>
                      <a:lnTo>
                        <a:pt x="34" y="948"/>
                      </a:lnTo>
                      <a:lnTo>
                        <a:pt x="65" y="936"/>
                      </a:lnTo>
                      <a:lnTo>
                        <a:pt x="95" y="923"/>
                      </a:lnTo>
                      <a:lnTo>
                        <a:pt x="127" y="912"/>
                      </a:lnTo>
                      <a:lnTo>
                        <a:pt x="156" y="900"/>
                      </a:lnTo>
                      <a:lnTo>
                        <a:pt x="185" y="887"/>
                      </a:lnTo>
                      <a:lnTo>
                        <a:pt x="214" y="876"/>
                      </a:lnTo>
                      <a:lnTo>
                        <a:pt x="243" y="864"/>
                      </a:lnTo>
                      <a:lnTo>
                        <a:pt x="272" y="853"/>
                      </a:lnTo>
                      <a:lnTo>
                        <a:pt x="299" y="840"/>
                      </a:lnTo>
                      <a:lnTo>
                        <a:pt x="327" y="829"/>
                      </a:lnTo>
                      <a:lnTo>
                        <a:pt x="355" y="816"/>
                      </a:lnTo>
                      <a:lnTo>
                        <a:pt x="381" y="803"/>
                      </a:lnTo>
                      <a:lnTo>
                        <a:pt x="409" y="791"/>
                      </a:lnTo>
                      <a:lnTo>
                        <a:pt x="435" y="777"/>
                      </a:lnTo>
                      <a:lnTo>
                        <a:pt x="461" y="763"/>
                      </a:lnTo>
                      <a:lnTo>
                        <a:pt x="487" y="748"/>
                      </a:lnTo>
                      <a:lnTo>
                        <a:pt x="513" y="733"/>
                      </a:lnTo>
                      <a:lnTo>
                        <a:pt x="538" y="718"/>
                      </a:lnTo>
                      <a:lnTo>
                        <a:pt x="562" y="701"/>
                      </a:lnTo>
                      <a:lnTo>
                        <a:pt x="587" y="683"/>
                      </a:lnTo>
                      <a:lnTo>
                        <a:pt x="612" y="665"/>
                      </a:lnTo>
                      <a:lnTo>
                        <a:pt x="636" y="647"/>
                      </a:lnTo>
                      <a:lnTo>
                        <a:pt x="660" y="626"/>
                      </a:lnTo>
                      <a:lnTo>
                        <a:pt x="684" y="605"/>
                      </a:lnTo>
                      <a:lnTo>
                        <a:pt x="707" y="583"/>
                      </a:lnTo>
                      <a:lnTo>
                        <a:pt x="731" y="559"/>
                      </a:lnTo>
                      <a:lnTo>
                        <a:pt x="754" y="535"/>
                      </a:lnTo>
                      <a:lnTo>
                        <a:pt x="778" y="510"/>
                      </a:lnTo>
                      <a:lnTo>
                        <a:pt x="799" y="482"/>
                      </a:lnTo>
                      <a:lnTo>
                        <a:pt x="822" y="453"/>
                      </a:lnTo>
                      <a:lnTo>
                        <a:pt x="845" y="423"/>
                      </a:lnTo>
                      <a:lnTo>
                        <a:pt x="867" y="392"/>
                      </a:lnTo>
                      <a:lnTo>
                        <a:pt x="886" y="363"/>
                      </a:lnTo>
                      <a:lnTo>
                        <a:pt x="901" y="339"/>
                      </a:lnTo>
                      <a:lnTo>
                        <a:pt x="913" y="316"/>
                      </a:lnTo>
                      <a:lnTo>
                        <a:pt x="924" y="292"/>
                      </a:lnTo>
                      <a:lnTo>
                        <a:pt x="932" y="267"/>
                      </a:lnTo>
                      <a:lnTo>
                        <a:pt x="935" y="238"/>
                      </a:lnTo>
                      <a:lnTo>
                        <a:pt x="937" y="203"/>
                      </a:lnTo>
                      <a:lnTo>
                        <a:pt x="934" y="161"/>
                      </a:lnTo>
                      <a:lnTo>
                        <a:pt x="928" y="140"/>
                      </a:lnTo>
                      <a:lnTo>
                        <a:pt x="913" y="120"/>
                      </a:lnTo>
                      <a:lnTo>
                        <a:pt x="892" y="101"/>
                      </a:lnTo>
                      <a:lnTo>
                        <a:pt x="865" y="83"/>
                      </a:lnTo>
                      <a:lnTo>
                        <a:pt x="837" y="68"/>
                      </a:lnTo>
                      <a:lnTo>
                        <a:pt x="810" y="56"/>
                      </a:lnTo>
                      <a:lnTo>
                        <a:pt x="786" y="47"/>
                      </a:lnTo>
                      <a:lnTo>
                        <a:pt x="766" y="42"/>
                      </a:lnTo>
                      <a:lnTo>
                        <a:pt x="756" y="4"/>
                      </a:lnTo>
                      <a:lnTo>
                        <a:pt x="773" y="2"/>
                      </a:lnTo>
                      <a:lnTo>
                        <a:pt x="790" y="0"/>
                      </a:lnTo>
                      <a:lnTo>
                        <a:pt x="807" y="3"/>
                      </a:lnTo>
                      <a:lnTo>
                        <a:pt x="826" y="6"/>
                      </a:lnTo>
                      <a:lnTo>
                        <a:pt x="844" y="12"/>
                      </a:lnTo>
                      <a:lnTo>
                        <a:pt x="863" y="20"/>
                      </a:lnTo>
                      <a:lnTo>
                        <a:pt x="881" y="29"/>
                      </a:lnTo>
                      <a:lnTo>
                        <a:pt x="898" y="38"/>
                      </a:lnTo>
                      <a:lnTo>
                        <a:pt x="916" y="50"/>
                      </a:lnTo>
                      <a:lnTo>
                        <a:pt x="932" y="63"/>
                      </a:lnTo>
                      <a:lnTo>
                        <a:pt x="947" y="75"/>
                      </a:lnTo>
                      <a:lnTo>
                        <a:pt x="961" y="88"/>
                      </a:lnTo>
                      <a:lnTo>
                        <a:pt x="973" y="101"/>
                      </a:lnTo>
                      <a:lnTo>
                        <a:pt x="985" y="114"/>
                      </a:lnTo>
                      <a:lnTo>
                        <a:pt x="994" y="127"/>
                      </a:lnTo>
                      <a:lnTo>
                        <a:pt x="1001" y="140"/>
                      </a:lnTo>
                      <a:lnTo>
                        <a:pt x="1007" y="187"/>
                      </a:lnTo>
                      <a:lnTo>
                        <a:pt x="1003" y="234"/>
                      </a:lnTo>
                      <a:lnTo>
                        <a:pt x="993" y="281"/>
                      </a:lnTo>
                      <a:lnTo>
                        <a:pt x="976" y="330"/>
                      </a:lnTo>
                      <a:lnTo>
                        <a:pt x="951" y="378"/>
                      </a:lnTo>
                      <a:lnTo>
                        <a:pt x="922" y="425"/>
                      </a:lnTo>
                      <a:lnTo>
                        <a:pt x="887" y="473"/>
                      </a:lnTo>
                      <a:lnTo>
                        <a:pt x="848" y="519"/>
                      </a:lnTo>
                      <a:lnTo>
                        <a:pt x="804" y="565"/>
                      </a:lnTo>
                      <a:lnTo>
                        <a:pt x="758" y="609"/>
                      </a:lnTo>
                      <a:lnTo>
                        <a:pt x="708" y="651"/>
                      </a:lnTo>
                      <a:lnTo>
                        <a:pt x="658" y="692"/>
                      </a:lnTo>
                      <a:lnTo>
                        <a:pt x="606" y="731"/>
                      </a:lnTo>
                      <a:lnTo>
                        <a:pt x="553" y="766"/>
                      </a:lnTo>
                      <a:lnTo>
                        <a:pt x="500" y="801"/>
                      </a:lnTo>
                      <a:lnTo>
                        <a:pt x="448" y="8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7858080" y="3998520"/>
                  <a:ext cx="195120" cy="844200"/>
                </a:xfrm>
                <a:custGeom>
                  <a:avLst/>
                  <a:gdLst/>
                  <a:ahLst/>
                  <a:rect l="l" t="t" r="r" b="b"/>
                  <a:pathLst>
                    <a:path w="246" h="1062">
                      <a:moveTo>
                        <a:pt x="229" y="424"/>
                      </a:moveTo>
                      <a:lnTo>
                        <a:pt x="232" y="457"/>
                      </a:lnTo>
                      <a:lnTo>
                        <a:pt x="228" y="490"/>
                      </a:lnTo>
                      <a:lnTo>
                        <a:pt x="223" y="521"/>
                      </a:lnTo>
                      <a:lnTo>
                        <a:pt x="218" y="551"/>
                      </a:lnTo>
                      <a:lnTo>
                        <a:pt x="213" y="582"/>
                      </a:lnTo>
                      <a:lnTo>
                        <a:pt x="214" y="614"/>
                      </a:lnTo>
                      <a:lnTo>
                        <a:pt x="223" y="646"/>
                      </a:lnTo>
                      <a:lnTo>
                        <a:pt x="240" y="681"/>
                      </a:lnTo>
                      <a:lnTo>
                        <a:pt x="240" y="705"/>
                      </a:lnTo>
                      <a:lnTo>
                        <a:pt x="236" y="730"/>
                      </a:lnTo>
                      <a:lnTo>
                        <a:pt x="232" y="756"/>
                      </a:lnTo>
                      <a:lnTo>
                        <a:pt x="227" y="781"/>
                      </a:lnTo>
                      <a:lnTo>
                        <a:pt x="224" y="806"/>
                      </a:lnTo>
                      <a:lnTo>
                        <a:pt x="224" y="832"/>
                      </a:lnTo>
                      <a:lnTo>
                        <a:pt x="228" y="856"/>
                      </a:lnTo>
                      <a:lnTo>
                        <a:pt x="239" y="878"/>
                      </a:lnTo>
                      <a:lnTo>
                        <a:pt x="244" y="903"/>
                      </a:lnTo>
                      <a:lnTo>
                        <a:pt x="246" y="928"/>
                      </a:lnTo>
                      <a:lnTo>
                        <a:pt x="243" y="953"/>
                      </a:lnTo>
                      <a:lnTo>
                        <a:pt x="239" y="977"/>
                      </a:lnTo>
                      <a:lnTo>
                        <a:pt x="229" y="1000"/>
                      </a:lnTo>
                      <a:lnTo>
                        <a:pt x="218" y="1022"/>
                      </a:lnTo>
                      <a:lnTo>
                        <a:pt x="203" y="1042"/>
                      </a:lnTo>
                      <a:lnTo>
                        <a:pt x="185" y="1062"/>
                      </a:lnTo>
                      <a:lnTo>
                        <a:pt x="178" y="1061"/>
                      </a:lnTo>
                      <a:lnTo>
                        <a:pt x="172" y="1056"/>
                      </a:lnTo>
                      <a:lnTo>
                        <a:pt x="165" y="1051"/>
                      </a:lnTo>
                      <a:lnTo>
                        <a:pt x="157" y="1047"/>
                      </a:lnTo>
                      <a:lnTo>
                        <a:pt x="168" y="1032"/>
                      </a:lnTo>
                      <a:lnTo>
                        <a:pt x="178" y="1016"/>
                      </a:lnTo>
                      <a:lnTo>
                        <a:pt x="186" y="998"/>
                      </a:lnTo>
                      <a:lnTo>
                        <a:pt x="191" y="979"/>
                      </a:lnTo>
                      <a:lnTo>
                        <a:pt x="194" y="962"/>
                      </a:lnTo>
                      <a:lnTo>
                        <a:pt x="194" y="943"/>
                      </a:lnTo>
                      <a:lnTo>
                        <a:pt x="188" y="925"/>
                      </a:lnTo>
                      <a:lnTo>
                        <a:pt x="179" y="909"/>
                      </a:lnTo>
                      <a:lnTo>
                        <a:pt x="156" y="880"/>
                      </a:lnTo>
                      <a:lnTo>
                        <a:pt x="148" y="851"/>
                      </a:lnTo>
                      <a:lnTo>
                        <a:pt x="151" y="824"/>
                      </a:lnTo>
                      <a:lnTo>
                        <a:pt x="161" y="795"/>
                      </a:lnTo>
                      <a:lnTo>
                        <a:pt x="172" y="765"/>
                      </a:lnTo>
                      <a:lnTo>
                        <a:pt x="179" y="736"/>
                      </a:lnTo>
                      <a:lnTo>
                        <a:pt x="176" y="705"/>
                      </a:lnTo>
                      <a:lnTo>
                        <a:pt x="161" y="674"/>
                      </a:lnTo>
                      <a:lnTo>
                        <a:pt x="142" y="646"/>
                      </a:lnTo>
                      <a:lnTo>
                        <a:pt x="135" y="619"/>
                      </a:lnTo>
                      <a:lnTo>
                        <a:pt x="138" y="591"/>
                      </a:lnTo>
                      <a:lnTo>
                        <a:pt x="147" y="563"/>
                      </a:lnTo>
                      <a:lnTo>
                        <a:pt x="156" y="536"/>
                      </a:lnTo>
                      <a:lnTo>
                        <a:pt x="163" y="506"/>
                      </a:lnTo>
                      <a:lnTo>
                        <a:pt x="163" y="476"/>
                      </a:lnTo>
                      <a:lnTo>
                        <a:pt x="152" y="445"/>
                      </a:lnTo>
                      <a:lnTo>
                        <a:pt x="143" y="432"/>
                      </a:lnTo>
                      <a:lnTo>
                        <a:pt x="134" y="418"/>
                      </a:lnTo>
                      <a:lnTo>
                        <a:pt x="123" y="405"/>
                      </a:lnTo>
                      <a:lnTo>
                        <a:pt x="114" y="390"/>
                      </a:lnTo>
                      <a:lnTo>
                        <a:pt x="107" y="377"/>
                      </a:lnTo>
                      <a:lnTo>
                        <a:pt x="104" y="361"/>
                      </a:lnTo>
                      <a:lnTo>
                        <a:pt x="105" y="344"/>
                      </a:lnTo>
                      <a:lnTo>
                        <a:pt x="111" y="327"/>
                      </a:lnTo>
                      <a:lnTo>
                        <a:pt x="122" y="308"/>
                      </a:lnTo>
                      <a:lnTo>
                        <a:pt x="133" y="288"/>
                      </a:lnTo>
                      <a:lnTo>
                        <a:pt x="141" y="267"/>
                      </a:lnTo>
                      <a:lnTo>
                        <a:pt x="147" y="246"/>
                      </a:lnTo>
                      <a:lnTo>
                        <a:pt x="150" y="225"/>
                      </a:lnTo>
                      <a:lnTo>
                        <a:pt x="151" y="202"/>
                      </a:lnTo>
                      <a:lnTo>
                        <a:pt x="149" y="180"/>
                      </a:lnTo>
                      <a:lnTo>
                        <a:pt x="144" y="157"/>
                      </a:lnTo>
                      <a:lnTo>
                        <a:pt x="138" y="147"/>
                      </a:lnTo>
                      <a:lnTo>
                        <a:pt x="132" y="138"/>
                      </a:lnTo>
                      <a:lnTo>
                        <a:pt x="125" y="129"/>
                      </a:lnTo>
                      <a:lnTo>
                        <a:pt x="117" y="120"/>
                      </a:lnTo>
                      <a:lnTo>
                        <a:pt x="107" y="113"/>
                      </a:lnTo>
                      <a:lnTo>
                        <a:pt x="97" y="107"/>
                      </a:lnTo>
                      <a:lnTo>
                        <a:pt x="87" y="103"/>
                      </a:lnTo>
                      <a:lnTo>
                        <a:pt x="75" y="100"/>
                      </a:lnTo>
                      <a:lnTo>
                        <a:pt x="73" y="141"/>
                      </a:lnTo>
                      <a:lnTo>
                        <a:pt x="69" y="181"/>
                      </a:lnTo>
                      <a:lnTo>
                        <a:pt x="61" y="220"/>
                      </a:lnTo>
                      <a:lnTo>
                        <a:pt x="49" y="257"/>
                      </a:lnTo>
                      <a:lnTo>
                        <a:pt x="45" y="261"/>
                      </a:lnTo>
                      <a:lnTo>
                        <a:pt x="39" y="263"/>
                      </a:lnTo>
                      <a:lnTo>
                        <a:pt x="32" y="264"/>
                      </a:lnTo>
                      <a:lnTo>
                        <a:pt x="26" y="263"/>
                      </a:lnTo>
                      <a:lnTo>
                        <a:pt x="19" y="260"/>
                      </a:lnTo>
                      <a:lnTo>
                        <a:pt x="12" y="257"/>
                      </a:lnTo>
                      <a:lnTo>
                        <a:pt x="5" y="255"/>
                      </a:lnTo>
                      <a:lnTo>
                        <a:pt x="0" y="251"/>
                      </a:lnTo>
                      <a:lnTo>
                        <a:pt x="2" y="222"/>
                      </a:lnTo>
                      <a:lnTo>
                        <a:pt x="9" y="196"/>
                      </a:lnTo>
                      <a:lnTo>
                        <a:pt x="20" y="172"/>
                      </a:lnTo>
                      <a:lnTo>
                        <a:pt x="30" y="147"/>
                      </a:lnTo>
                      <a:lnTo>
                        <a:pt x="38" y="124"/>
                      </a:lnTo>
                      <a:lnTo>
                        <a:pt x="42" y="99"/>
                      </a:lnTo>
                      <a:lnTo>
                        <a:pt x="38" y="71"/>
                      </a:lnTo>
                      <a:lnTo>
                        <a:pt x="27" y="41"/>
                      </a:lnTo>
                      <a:lnTo>
                        <a:pt x="19" y="33"/>
                      </a:lnTo>
                      <a:lnTo>
                        <a:pt x="12" y="25"/>
                      </a:lnTo>
                      <a:lnTo>
                        <a:pt x="5" y="16"/>
                      </a:lnTo>
                      <a:lnTo>
                        <a:pt x="1" y="7"/>
                      </a:lnTo>
                      <a:lnTo>
                        <a:pt x="6" y="5"/>
                      </a:lnTo>
                      <a:lnTo>
                        <a:pt x="11" y="2"/>
                      </a:lnTo>
                      <a:lnTo>
                        <a:pt x="16" y="1"/>
                      </a:lnTo>
                      <a:lnTo>
                        <a:pt x="22" y="0"/>
                      </a:lnTo>
                      <a:lnTo>
                        <a:pt x="29" y="13"/>
                      </a:lnTo>
                      <a:lnTo>
                        <a:pt x="37" y="24"/>
                      </a:lnTo>
                      <a:lnTo>
                        <a:pt x="44" y="36"/>
                      </a:lnTo>
                      <a:lnTo>
                        <a:pt x="52" y="48"/>
                      </a:lnTo>
                      <a:lnTo>
                        <a:pt x="59" y="60"/>
                      </a:lnTo>
                      <a:lnTo>
                        <a:pt x="66" y="73"/>
                      </a:lnTo>
                      <a:lnTo>
                        <a:pt x="72" y="86"/>
                      </a:lnTo>
                      <a:lnTo>
                        <a:pt x="75" y="100"/>
                      </a:lnTo>
                      <a:lnTo>
                        <a:pt x="77" y="89"/>
                      </a:lnTo>
                      <a:lnTo>
                        <a:pt x="81" y="81"/>
                      </a:lnTo>
                      <a:lnTo>
                        <a:pt x="87" y="76"/>
                      </a:lnTo>
                      <a:lnTo>
                        <a:pt x="95" y="75"/>
                      </a:lnTo>
                      <a:lnTo>
                        <a:pt x="103" y="75"/>
                      </a:lnTo>
                      <a:lnTo>
                        <a:pt x="111" y="77"/>
                      </a:lnTo>
                      <a:lnTo>
                        <a:pt x="120" y="82"/>
                      </a:lnTo>
                      <a:lnTo>
                        <a:pt x="128" y="86"/>
                      </a:lnTo>
                      <a:lnTo>
                        <a:pt x="151" y="106"/>
                      </a:lnTo>
                      <a:lnTo>
                        <a:pt x="168" y="129"/>
                      </a:lnTo>
                      <a:lnTo>
                        <a:pt x="181" y="155"/>
                      </a:lnTo>
                      <a:lnTo>
                        <a:pt x="188" y="183"/>
                      </a:lnTo>
                      <a:lnTo>
                        <a:pt x="191" y="213"/>
                      </a:lnTo>
                      <a:lnTo>
                        <a:pt x="191" y="243"/>
                      </a:lnTo>
                      <a:lnTo>
                        <a:pt x="189" y="273"/>
                      </a:lnTo>
                      <a:lnTo>
                        <a:pt x="183" y="302"/>
                      </a:lnTo>
                      <a:lnTo>
                        <a:pt x="176" y="317"/>
                      </a:lnTo>
                      <a:lnTo>
                        <a:pt x="176" y="332"/>
                      </a:lnTo>
                      <a:lnTo>
                        <a:pt x="182" y="347"/>
                      </a:lnTo>
                      <a:lnTo>
                        <a:pt x="191" y="362"/>
                      </a:lnTo>
                      <a:lnTo>
                        <a:pt x="203" y="377"/>
                      </a:lnTo>
                      <a:lnTo>
                        <a:pt x="214" y="392"/>
                      </a:lnTo>
                      <a:lnTo>
                        <a:pt x="224" y="408"/>
                      </a:lnTo>
                      <a:lnTo>
                        <a:pt x="229" y="4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7861320" y="4255560"/>
                  <a:ext cx="96840" cy="588600"/>
                </a:xfrm>
                <a:custGeom>
                  <a:avLst/>
                  <a:gdLst/>
                  <a:ahLst/>
                  <a:rect l="l" t="t" r="r" b="b"/>
                  <a:pathLst>
                    <a:path w="122" h="741">
                      <a:moveTo>
                        <a:pt x="0" y="9"/>
                      </a:moveTo>
                      <a:lnTo>
                        <a:pt x="4" y="2"/>
                      </a:lnTo>
                      <a:lnTo>
                        <a:pt x="11" y="1"/>
                      </a:lnTo>
                      <a:lnTo>
                        <a:pt x="21" y="1"/>
                      </a:lnTo>
                      <a:lnTo>
                        <a:pt x="29" y="0"/>
                      </a:lnTo>
                      <a:lnTo>
                        <a:pt x="42" y="18"/>
                      </a:lnTo>
                      <a:lnTo>
                        <a:pt x="53" y="39"/>
                      </a:lnTo>
                      <a:lnTo>
                        <a:pt x="60" y="61"/>
                      </a:lnTo>
                      <a:lnTo>
                        <a:pt x="64" y="85"/>
                      </a:lnTo>
                      <a:lnTo>
                        <a:pt x="68" y="109"/>
                      </a:lnTo>
                      <a:lnTo>
                        <a:pt x="72" y="133"/>
                      </a:lnTo>
                      <a:lnTo>
                        <a:pt x="77" y="157"/>
                      </a:lnTo>
                      <a:lnTo>
                        <a:pt x="84" y="179"/>
                      </a:lnTo>
                      <a:lnTo>
                        <a:pt x="87" y="249"/>
                      </a:lnTo>
                      <a:lnTo>
                        <a:pt x="94" y="319"/>
                      </a:lnTo>
                      <a:lnTo>
                        <a:pt x="101" y="388"/>
                      </a:lnTo>
                      <a:lnTo>
                        <a:pt x="109" y="456"/>
                      </a:lnTo>
                      <a:lnTo>
                        <a:pt x="116" y="525"/>
                      </a:lnTo>
                      <a:lnTo>
                        <a:pt x="121" y="593"/>
                      </a:lnTo>
                      <a:lnTo>
                        <a:pt x="122" y="660"/>
                      </a:lnTo>
                      <a:lnTo>
                        <a:pt x="118" y="728"/>
                      </a:lnTo>
                      <a:lnTo>
                        <a:pt x="108" y="741"/>
                      </a:lnTo>
                      <a:lnTo>
                        <a:pt x="93" y="726"/>
                      </a:lnTo>
                      <a:lnTo>
                        <a:pt x="83" y="709"/>
                      </a:lnTo>
                      <a:lnTo>
                        <a:pt x="77" y="690"/>
                      </a:lnTo>
                      <a:lnTo>
                        <a:pt x="74" y="669"/>
                      </a:lnTo>
                      <a:lnTo>
                        <a:pt x="72" y="647"/>
                      </a:lnTo>
                      <a:lnTo>
                        <a:pt x="72" y="624"/>
                      </a:lnTo>
                      <a:lnTo>
                        <a:pt x="72" y="602"/>
                      </a:lnTo>
                      <a:lnTo>
                        <a:pt x="70" y="580"/>
                      </a:lnTo>
                      <a:lnTo>
                        <a:pt x="71" y="547"/>
                      </a:lnTo>
                      <a:lnTo>
                        <a:pt x="68" y="486"/>
                      </a:lnTo>
                      <a:lnTo>
                        <a:pt x="60" y="406"/>
                      </a:lnTo>
                      <a:lnTo>
                        <a:pt x="48" y="315"/>
                      </a:lnTo>
                      <a:lnTo>
                        <a:pt x="36" y="222"/>
                      </a:lnTo>
                      <a:lnTo>
                        <a:pt x="23" y="134"/>
                      </a:lnTo>
                      <a:lnTo>
                        <a:pt x="10" y="6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000920" y="4346280"/>
                  <a:ext cx="377640" cy="549000"/>
                </a:xfrm>
                <a:custGeom>
                  <a:avLst/>
                  <a:gdLst/>
                  <a:ahLst/>
                  <a:rect l="l" t="t" r="r" b="b"/>
                  <a:pathLst>
                    <a:path w="475" h="693">
                      <a:moveTo>
                        <a:pt x="321" y="453"/>
                      </a:moveTo>
                      <a:lnTo>
                        <a:pt x="343" y="481"/>
                      </a:lnTo>
                      <a:lnTo>
                        <a:pt x="365" y="509"/>
                      </a:lnTo>
                      <a:lnTo>
                        <a:pt x="387" y="537"/>
                      </a:lnTo>
                      <a:lnTo>
                        <a:pt x="407" y="565"/>
                      </a:lnTo>
                      <a:lnTo>
                        <a:pt x="427" y="595"/>
                      </a:lnTo>
                      <a:lnTo>
                        <a:pt x="446" y="625"/>
                      </a:lnTo>
                      <a:lnTo>
                        <a:pt x="462" y="655"/>
                      </a:lnTo>
                      <a:lnTo>
                        <a:pt x="475" y="687"/>
                      </a:lnTo>
                      <a:lnTo>
                        <a:pt x="471" y="692"/>
                      </a:lnTo>
                      <a:lnTo>
                        <a:pt x="467" y="693"/>
                      </a:lnTo>
                      <a:lnTo>
                        <a:pt x="462" y="692"/>
                      </a:lnTo>
                      <a:lnTo>
                        <a:pt x="452" y="690"/>
                      </a:lnTo>
                      <a:lnTo>
                        <a:pt x="421" y="649"/>
                      </a:lnTo>
                      <a:lnTo>
                        <a:pt x="390" y="609"/>
                      </a:lnTo>
                      <a:lnTo>
                        <a:pt x="360" y="569"/>
                      </a:lnTo>
                      <a:lnTo>
                        <a:pt x="330" y="528"/>
                      </a:lnTo>
                      <a:lnTo>
                        <a:pt x="300" y="488"/>
                      </a:lnTo>
                      <a:lnTo>
                        <a:pt x="270" y="448"/>
                      </a:lnTo>
                      <a:lnTo>
                        <a:pt x="242" y="406"/>
                      </a:lnTo>
                      <a:lnTo>
                        <a:pt x="213" y="366"/>
                      </a:lnTo>
                      <a:lnTo>
                        <a:pt x="184" y="324"/>
                      </a:lnTo>
                      <a:lnTo>
                        <a:pt x="156" y="284"/>
                      </a:lnTo>
                      <a:lnTo>
                        <a:pt x="129" y="243"/>
                      </a:lnTo>
                      <a:lnTo>
                        <a:pt x="101" y="200"/>
                      </a:lnTo>
                      <a:lnTo>
                        <a:pt x="76" y="159"/>
                      </a:lnTo>
                      <a:lnTo>
                        <a:pt x="49" y="116"/>
                      </a:lnTo>
                      <a:lnTo>
                        <a:pt x="24" y="72"/>
                      </a:lnTo>
                      <a:lnTo>
                        <a:pt x="0" y="28"/>
                      </a:lnTo>
                      <a:lnTo>
                        <a:pt x="2" y="16"/>
                      </a:lnTo>
                      <a:lnTo>
                        <a:pt x="4" y="8"/>
                      </a:lnTo>
                      <a:lnTo>
                        <a:pt x="10" y="3"/>
                      </a:lnTo>
                      <a:lnTo>
                        <a:pt x="22" y="0"/>
                      </a:lnTo>
                      <a:lnTo>
                        <a:pt x="321" y="4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240320" y="4514400"/>
                  <a:ext cx="652680" cy="156960"/>
                </a:xfrm>
                <a:custGeom>
                  <a:avLst/>
                  <a:gdLst/>
                  <a:ahLst/>
                  <a:rect l="l" t="t" r="r" b="b"/>
                  <a:pathLst>
                    <a:path w="823" h="198">
                      <a:moveTo>
                        <a:pt x="823" y="69"/>
                      </a:moveTo>
                      <a:lnTo>
                        <a:pt x="787" y="55"/>
                      </a:lnTo>
                      <a:lnTo>
                        <a:pt x="755" y="48"/>
                      </a:lnTo>
                      <a:lnTo>
                        <a:pt x="726" y="46"/>
                      </a:lnTo>
                      <a:lnTo>
                        <a:pt x="700" y="49"/>
                      </a:lnTo>
                      <a:lnTo>
                        <a:pt x="675" y="55"/>
                      </a:lnTo>
                      <a:lnTo>
                        <a:pt x="651" y="65"/>
                      </a:lnTo>
                      <a:lnTo>
                        <a:pt x="628" y="77"/>
                      </a:lnTo>
                      <a:lnTo>
                        <a:pt x="605" y="91"/>
                      </a:lnTo>
                      <a:lnTo>
                        <a:pt x="581" y="106"/>
                      </a:lnTo>
                      <a:lnTo>
                        <a:pt x="556" y="119"/>
                      </a:lnTo>
                      <a:lnTo>
                        <a:pt x="528" y="133"/>
                      </a:lnTo>
                      <a:lnTo>
                        <a:pt x="498" y="146"/>
                      </a:lnTo>
                      <a:lnTo>
                        <a:pt x="465" y="156"/>
                      </a:lnTo>
                      <a:lnTo>
                        <a:pt x="428" y="164"/>
                      </a:lnTo>
                      <a:lnTo>
                        <a:pt x="385" y="168"/>
                      </a:lnTo>
                      <a:lnTo>
                        <a:pt x="338" y="168"/>
                      </a:lnTo>
                      <a:lnTo>
                        <a:pt x="323" y="159"/>
                      </a:lnTo>
                      <a:lnTo>
                        <a:pt x="305" y="152"/>
                      </a:lnTo>
                      <a:lnTo>
                        <a:pt x="286" y="146"/>
                      </a:lnTo>
                      <a:lnTo>
                        <a:pt x="265" y="141"/>
                      </a:lnTo>
                      <a:lnTo>
                        <a:pt x="243" y="138"/>
                      </a:lnTo>
                      <a:lnTo>
                        <a:pt x="222" y="137"/>
                      </a:lnTo>
                      <a:lnTo>
                        <a:pt x="199" y="137"/>
                      </a:lnTo>
                      <a:lnTo>
                        <a:pt x="177" y="138"/>
                      </a:lnTo>
                      <a:lnTo>
                        <a:pt x="154" y="140"/>
                      </a:lnTo>
                      <a:lnTo>
                        <a:pt x="132" y="145"/>
                      </a:lnTo>
                      <a:lnTo>
                        <a:pt x="110" y="151"/>
                      </a:lnTo>
                      <a:lnTo>
                        <a:pt x="89" y="156"/>
                      </a:lnTo>
                      <a:lnTo>
                        <a:pt x="69" y="166"/>
                      </a:lnTo>
                      <a:lnTo>
                        <a:pt x="52" y="175"/>
                      </a:lnTo>
                      <a:lnTo>
                        <a:pt x="36" y="185"/>
                      </a:lnTo>
                      <a:lnTo>
                        <a:pt x="22" y="198"/>
                      </a:lnTo>
                      <a:lnTo>
                        <a:pt x="0" y="169"/>
                      </a:lnTo>
                      <a:lnTo>
                        <a:pt x="8" y="159"/>
                      </a:lnTo>
                      <a:lnTo>
                        <a:pt x="18" y="149"/>
                      </a:lnTo>
                      <a:lnTo>
                        <a:pt x="27" y="140"/>
                      </a:lnTo>
                      <a:lnTo>
                        <a:pt x="38" y="132"/>
                      </a:lnTo>
                      <a:lnTo>
                        <a:pt x="51" y="125"/>
                      </a:lnTo>
                      <a:lnTo>
                        <a:pt x="64" y="118"/>
                      </a:lnTo>
                      <a:lnTo>
                        <a:pt x="78" y="114"/>
                      </a:lnTo>
                      <a:lnTo>
                        <a:pt x="93" y="108"/>
                      </a:lnTo>
                      <a:lnTo>
                        <a:pt x="107" y="104"/>
                      </a:lnTo>
                      <a:lnTo>
                        <a:pt x="124" y="101"/>
                      </a:lnTo>
                      <a:lnTo>
                        <a:pt x="140" y="99"/>
                      </a:lnTo>
                      <a:lnTo>
                        <a:pt x="157" y="98"/>
                      </a:lnTo>
                      <a:lnTo>
                        <a:pt x="174" y="98"/>
                      </a:lnTo>
                      <a:lnTo>
                        <a:pt x="192" y="98"/>
                      </a:lnTo>
                      <a:lnTo>
                        <a:pt x="209" y="98"/>
                      </a:lnTo>
                      <a:lnTo>
                        <a:pt x="226" y="100"/>
                      </a:lnTo>
                      <a:lnTo>
                        <a:pt x="246" y="104"/>
                      </a:lnTo>
                      <a:lnTo>
                        <a:pt x="265" y="108"/>
                      </a:lnTo>
                      <a:lnTo>
                        <a:pt x="284" y="110"/>
                      </a:lnTo>
                      <a:lnTo>
                        <a:pt x="303" y="113"/>
                      </a:lnTo>
                      <a:lnTo>
                        <a:pt x="323" y="116"/>
                      </a:lnTo>
                      <a:lnTo>
                        <a:pt x="341" y="119"/>
                      </a:lnTo>
                      <a:lnTo>
                        <a:pt x="361" y="124"/>
                      </a:lnTo>
                      <a:lnTo>
                        <a:pt x="381" y="130"/>
                      </a:lnTo>
                      <a:lnTo>
                        <a:pt x="405" y="129"/>
                      </a:lnTo>
                      <a:lnTo>
                        <a:pt x="429" y="122"/>
                      </a:lnTo>
                      <a:lnTo>
                        <a:pt x="452" y="113"/>
                      </a:lnTo>
                      <a:lnTo>
                        <a:pt x="474" y="101"/>
                      </a:lnTo>
                      <a:lnTo>
                        <a:pt x="496" y="87"/>
                      </a:lnTo>
                      <a:lnTo>
                        <a:pt x="518" y="72"/>
                      </a:lnTo>
                      <a:lnTo>
                        <a:pt x="540" y="57"/>
                      </a:lnTo>
                      <a:lnTo>
                        <a:pt x="561" y="42"/>
                      </a:lnTo>
                      <a:lnTo>
                        <a:pt x="583" y="28"/>
                      </a:lnTo>
                      <a:lnTo>
                        <a:pt x="605" y="17"/>
                      </a:lnTo>
                      <a:lnTo>
                        <a:pt x="628" y="8"/>
                      </a:lnTo>
                      <a:lnTo>
                        <a:pt x="652" y="2"/>
                      </a:lnTo>
                      <a:lnTo>
                        <a:pt x="678" y="0"/>
                      </a:lnTo>
                      <a:lnTo>
                        <a:pt x="704" y="3"/>
                      </a:lnTo>
                      <a:lnTo>
                        <a:pt x="732" y="12"/>
                      </a:lnTo>
                      <a:lnTo>
                        <a:pt x="762" y="27"/>
                      </a:lnTo>
                      <a:lnTo>
                        <a:pt x="775" y="30"/>
                      </a:lnTo>
                      <a:lnTo>
                        <a:pt x="785" y="32"/>
                      </a:lnTo>
                      <a:lnTo>
                        <a:pt x="793" y="33"/>
                      </a:lnTo>
                      <a:lnTo>
                        <a:pt x="800" y="33"/>
                      </a:lnTo>
                      <a:lnTo>
                        <a:pt x="805" y="32"/>
                      </a:lnTo>
                      <a:lnTo>
                        <a:pt x="809" y="30"/>
                      </a:lnTo>
                      <a:lnTo>
                        <a:pt x="814" y="25"/>
                      </a:lnTo>
                      <a:lnTo>
                        <a:pt x="818" y="19"/>
                      </a:lnTo>
                      <a:lnTo>
                        <a:pt x="823" y="69"/>
                      </a:lnTo>
                      <a:close/>
                    </a:path>
                  </a:pathLst>
                </a:custGeom>
                <a:solidFill>
                  <a:srgbClr val="ffff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548480" y="3846240"/>
                  <a:ext cx="295200" cy="155160"/>
                </a:xfrm>
                <a:custGeom>
                  <a:avLst/>
                  <a:gdLst/>
                  <a:ahLst/>
                  <a:rect l="l" t="t" r="r" b="b"/>
                  <a:pathLst>
                    <a:path w="373" h="194">
                      <a:moveTo>
                        <a:pt x="31" y="0"/>
                      </a:moveTo>
                      <a:lnTo>
                        <a:pt x="56" y="1"/>
                      </a:lnTo>
                      <a:lnTo>
                        <a:pt x="80" y="4"/>
                      </a:lnTo>
                      <a:lnTo>
                        <a:pt x="102" y="10"/>
                      </a:lnTo>
                      <a:lnTo>
                        <a:pt x="125" y="18"/>
                      </a:lnTo>
                      <a:lnTo>
                        <a:pt x="146" y="27"/>
                      </a:lnTo>
                      <a:lnTo>
                        <a:pt x="167" y="39"/>
                      </a:lnTo>
                      <a:lnTo>
                        <a:pt x="186" y="51"/>
                      </a:lnTo>
                      <a:lnTo>
                        <a:pt x="207" y="64"/>
                      </a:lnTo>
                      <a:lnTo>
                        <a:pt x="227" y="78"/>
                      </a:lnTo>
                      <a:lnTo>
                        <a:pt x="246" y="92"/>
                      </a:lnTo>
                      <a:lnTo>
                        <a:pt x="266" y="106"/>
                      </a:lnTo>
                      <a:lnTo>
                        <a:pt x="285" y="119"/>
                      </a:lnTo>
                      <a:lnTo>
                        <a:pt x="306" y="133"/>
                      </a:lnTo>
                      <a:lnTo>
                        <a:pt x="327" y="145"/>
                      </a:lnTo>
                      <a:lnTo>
                        <a:pt x="349" y="156"/>
                      </a:lnTo>
                      <a:lnTo>
                        <a:pt x="371" y="166"/>
                      </a:lnTo>
                      <a:lnTo>
                        <a:pt x="373" y="175"/>
                      </a:lnTo>
                      <a:lnTo>
                        <a:pt x="369" y="183"/>
                      </a:lnTo>
                      <a:lnTo>
                        <a:pt x="363" y="190"/>
                      </a:lnTo>
                      <a:lnTo>
                        <a:pt x="356" y="194"/>
                      </a:lnTo>
                      <a:lnTo>
                        <a:pt x="334" y="193"/>
                      </a:lnTo>
                      <a:lnTo>
                        <a:pt x="313" y="189"/>
                      </a:lnTo>
                      <a:lnTo>
                        <a:pt x="293" y="183"/>
                      </a:lnTo>
                      <a:lnTo>
                        <a:pt x="274" y="176"/>
                      </a:lnTo>
                      <a:lnTo>
                        <a:pt x="255" y="167"/>
                      </a:lnTo>
                      <a:lnTo>
                        <a:pt x="237" y="156"/>
                      </a:lnTo>
                      <a:lnTo>
                        <a:pt x="219" y="145"/>
                      </a:lnTo>
                      <a:lnTo>
                        <a:pt x="200" y="133"/>
                      </a:lnTo>
                      <a:lnTo>
                        <a:pt x="180" y="121"/>
                      </a:lnTo>
                      <a:lnTo>
                        <a:pt x="160" y="107"/>
                      </a:lnTo>
                      <a:lnTo>
                        <a:pt x="138" y="93"/>
                      </a:lnTo>
                      <a:lnTo>
                        <a:pt x="115" y="80"/>
                      </a:lnTo>
                      <a:lnTo>
                        <a:pt x="89" y="66"/>
                      </a:lnTo>
                      <a:lnTo>
                        <a:pt x="62" y="54"/>
                      </a:lnTo>
                      <a:lnTo>
                        <a:pt x="32" y="41"/>
                      </a:lnTo>
                      <a:lnTo>
                        <a:pt x="0" y="3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439040" y="4819320"/>
                  <a:ext cx="468360" cy="113760"/>
                </a:xfrm>
                <a:custGeom>
                  <a:avLst/>
                  <a:gdLst/>
                  <a:ahLst/>
                  <a:rect l="l" t="t" r="r" b="b"/>
                  <a:pathLst>
                    <a:path w="589" h="145">
                      <a:moveTo>
                        <a:pt x="559" y="40"/>
                      </a:moveTo>
                      <a:lnTo>
                        <a:pt x="527" y="48"/>
                      </a:lnTo>
                      <a:lnTo>
                        <a:pt x="495" y="55"/>
                      </a:lnTo>
                      <a:lnTo>
                        <a:pt x="463" y="62"/>
                      </a:lnTo>
                      <a:lnTo>
                        <a:pt x="430" y="69"/>
                      </a:lnTo>
                      <a:lnTo>
                        <a:pt x="397" y="76"/>
                      </a:lnTo>
                      <a:lnTo>
                        <a:pt x="362" y="82"/>
                      </a:lnTo>
                      <a:lnTo>
                        <a:pt x="329" y="89"/>
                      </a:lnTo>
                      <a:lnTo>
                        <a:pt x="296" y="95"/>
                      </a:lnTo>
                      <a:lnTo>
                        <a:pt x="261" y="100"/>
                      </a:lnTo>
                      <a:lnTo>
                        <a:pt x="226" y="107"/>
                      </a:lnTo>
                      <a:lnTo>
                        <a:pt x="192" y="113"/>
                      </a:lnTo>
                      <a:lnTo>
                        <a:pt x="157" y="119"/>
                      </a:lnTo>
                      <a:lnTo>
                        <a:pt x="123" y="126"/>
                      </a:lnTo>
                      <a:lnTo>
                        <a:pt x="88" y="131"/>
                      </a:lnTo>
                      <a:lnTo>
                        <a:pt x="55" y="138"/>
                      </a:lnTo>
                      <a:lnTo>
                        <a:pt x="20" y="145"/>
                      </a:lnTo>
                      <a:lnTo>
                        <a:pt x="20" y="138"/>
                      </a:lnTo>
                      <a:lnTo>
                        <a:pt x="16" y="133"/>
                      </a:lnTo>
                      <a:lnTo>
                        <a:pt x="11" y="127"/>
                      </a:lnTo>
                      <a:lnTo>
                        <a:pt x="5" y="121"/>
                      </a:lnTo>
                      <a:lnTo>
                        <a:pt x="1" y="116"/>
                      </a:lnTo>
                      <a:lnTo>
                        <a:pt x="0" y="112"/>
                      </a:lnTo>
                      <a:lnTo>
                        <a:pt x="2" y="106"/>
                      </a:lnTo>
                      <a:lnTo>
                        <a:pt x="10" y="101"/>
                      </a:lnTo>
                      <a:lnTo>
                        <a:pt x="44" y="98"/>
                      </a:lnTo>
                      <a:lnTo>
                        <a:pt x="79" y="93"/>
                      </a:lnTo>
                      <a:lnTo>
                        <a:pt x="114" y="89"/>
                      </a:lnTo>
                      <a:lnTo>
                        <a:pt x="148" y="83"/>
                      </a:lnTo>
                      <a:lnTo>
                        <a:pt x="183" y="77"/>
                      </a:lnTo>
                      <a:lnTo>
                        <a:pt x="216" y="70"/>
                      </a:lnTo>
                      <a:lnTo>
                        <a:pt x="251" y="65"/>
                      </a:lnTo>
                      <a:lnTo>
                        <a:pt x="284" y="58"/>
                      </a:lnTo>
                      <a:lnTo>
                        <a:pt x="317" y="50"/>
                      </a:lnTo>
                      <a:lnTo>
                        <a:pt x="352" y="43"/>
                      </a:lnTo>
                      <a:lnTo>
                        <a:pt x="385" y="36"/>
                      </a:lnTo>
                      <a:lnTo>
                        <a:pt x="419" y="29"/>
                      </a:lnTo>
                      <a:lnTo>
                        <a:pt x="452" y="21"/>
                      </a:lnTo>
                      <a:lnTo>
                        <a:pt x="485" y="14"/>
                      </a:lnTo>
                      <a:lnTo>
                        <a:pt x="518" y="7"/>
                      </a:lnTo>
                      <a:lnTo>
                        <a:pt x="551" y="0"/>
                      </a:lnTo>
                      <a:lnTo>
                        <a:pt x="559" y="5"/>
                      </a:lnTo>
                      <a:lnTo>
                        <a:pt x="569" y="10"/>
                      </a:lnTo>
                      <a:lnTo>
                        <a:pt x="578" y="17"/>
                      </a:lnTo>
                      <a:lnTo>
                        <a:pt x="586" y="24"/>
                      </a:lnTo>
                      <a:lnTo>
                        <a:pt x="589" y="31"/>
                      </a:lnTo>
                      <a:lnTo>
                        <a:pt x="587" y="36"/>
                      </a:lnTo>
                      <a:lnTo>
                        <a:pt x="578" y="39"/>
                      </a:lnTo>
                      <a:lnTo>
                        <a:pt x="559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048440" y="4214520"/>
                  <a:ext cx="789120" cy="150480"/>
                </a:xfrm>
                <a:custGeom>
                  <a:avLst/>
                  <a:gdLst/>
                  <a:ahLst/>
                  <a:rect l="l" t="t" r="r" b="b"/>
                  <a:pathLst>
                    <a:path w="996" h="190">
                      <a:moveTo>
                        <a:pt x="973" y="45"/>
                      </a:moveTo>
                      <a:lnTo>
                        <a:pt x="944" y="53"/>
                      </a:lnTo>
                      <a:lnTo>
                        <a:pt x="915" y="60"/>
                      </a:lnTo>
                      <a:lnTo>
                        <a:pt x="886" y="67"/>
                      </a:lnTo>
                      <a:lnTo>
                        <a:pt x="858" y="74"/>
                      </a:lnTo>
                      <a:lnTo>
                        <a:pt x="828" y="80"/>
                      </a:lnTo>
                      <a:lnTo>
                        <a:pt x="799" y="86"/>
                      </a:lnTo>
                      <a:lnTo>
                        <a:pt x="769" y="92"/>
                      </a:lnTo>
                      <a:lnTo>
                        <a:pt x="739" y="98"/>
                      </a:lnTo>
                      <a:lnTo>
                        <a:pt x="710" y="102"/>
                      </a:lnTo>
                      <a:lnTo>
                        <a:pt x="680" y="107"/>
                      </a:lnTo>
                      <a:lnTo>
                        <a:pt x="650" y="112"/>
                      </a:lnTo>
                      <a:lnTo>
                        <a:pt x="620" y="116"/>
                      </a:lnTo>
                      <a:lnTo>
                        <a:pt x="589" y="121"/>
                      </a:lnTo>
                      <a:lnTo>
                        <a:pt x="559" y="125"/>
                      </a:lnTo>
                      <a:lnTo>
                        <a:pt x="529" y="129"/>
                      </a:lnTo>
                      <a:lnTo>
                        <a:pt x="499" y="132"/>
                      </a:lnTo>
                      <a:lnTo>
                        <a:pt x="468" y="137"/>
                      </a:lnTo>
                      <a:lnTo>
                        <a:pt x="438" y="140"/>
                      </a:lnTo>
                      <a:lnTo>
                        <a:pt x="407" y="144"/>
                      </a:lnTo>
                      <a:lnTo>
                        <a:pt x="377" y="147"/>
                      </a:lnTo>
                      <a:lnTo>
                        <a:pt x="347" y="151"/>
                      </a:lnTo>
                      <a:lnTo>
                        <a:pt x="316" y="154"/>
                      </a:lnTo>
                      <a:lnTo>
                        <a:pt x="286" y="158"/>
                      </a:lnTo>
                      <a:lnTo>
                        <a:pt x="255" y="161"/>
                      </a:lnTo>
                      <a:lnTo>
                        <a:pt x="225" y="165"/>
                      </a:lnTo>
                      <a:lnTo>
                        <a:pt x="195" y="168"/>
                      </a:lnTo>
                      <a:lnTo>
                        <a:pt x="164" y="171"/>
                      </a:lnTo>
                      <a:lnTo>
                        <a:pt x="134" y="175"/>
                      </a:lnTo>
                      <a:lnTo>
                        <a:pt x="104" y="178"/>
                      </a:lnTo>
                      <a:lnTo>
                        <a:pt x="74" y="182"/>
                      </a:lnTo>
                      <a:lnTo>
                        <a:pt x="44" y="186"/>
                      </a:lnTo>
                      <a:lnTo>
                        <a:pt x="14" y="190"/>
                      </a:lnTo>
                      <a:lnTo>
                        <a:pt x="0" y="158"/>
                      </a:lnTo>
                      <a:lnTo>
                        <a:pt x="31" y="154"/>
                      </a:lnTo>
                      <a:lnTo>
                        <a:pt x="64" y="151"/>
                      </a:lnTo>
                      <a:lnTo>
                        <a:pt x="97" y="146"/>
                      </a:lnTo>
                      <a:lnTo>
                        <a:pt x="131" y="142"/>
                      </a:lnTo>
                      <a:lnTo>
                        <a:pt x="165" y="138"/>
                      </a:lnTo>
                      <a:lnTo>
                        <a:pt x="201" y="132"/>
                      </a:lnTo>
                      <a:lnTo>
                        <a:pt x="237" y="128"/>
                      </a:lnTo>
                      <a:lnTo>
                        <a:pt x="272" y="123"/>
                      </a:lnTo>
                      <a:lnTo>
                        <a:pt x="309" y="117"/>
                      </a:lnTo>
                      <a:lnTo>
                        <a:pt x="346" y="113"/>
                      </a:lnTo>
                      <a:lnTo>
                        <a:pt x="382" y="107"/>
                      </a:lnTo>
                      <a:lnTo>
                        <a:pt x="419" y="101"/>
                      </a:lnTo>
                      <a:lnTo>
                        <a:pt x="455" y="95"/>
                      </a:lnTo>
                      <a:lnTo>
                        <a:pt x="492" y="90"/>
                      </a:lnTo>
                      <a:lnTo>
                        <a:pt x="528" y="84"/>
                      </a:lnTo>
                      <a:lnTo>
                        <a:pt x="564" y="78"/>
                      </a:lnTo>
                      <a:lnTo>
                        <a:pt x="600" y="72"/>
                      </a:lnTo>
                      <a:lnTo>
                        <a:pt x="634" y="67"/>
                      </a:lnTo>
                      <a:lnTo>
                        <a:pt x="667" y="61"/>
                      </a:lnTo>
                      <a:lnTo>
                        <a:pt x="701" y="55"/>
                      </a:lnTo>
                      <a:lnTo>
                        <a:pt x="732" y="51"/>
                      </a:lnTo>
                      <a:lnTo>
                        <a:pt x="763" y="45"/>
                      </a:lnTo>
                      <a:lnTo>
                        <a:pt x="793" y="39"/>
                      </a:lnTo>
                      <a:lnTo>
                        <a:pt x="822" y="34"/>
                      </a:lnTo>
                      <a:lnTo>
                        <a:pt x="850" y="29"/>
                      </a:lnTo>
                      <a:lnTo>
                        <a:pt x="875" y="24"/>
                      </a:lnTo>
                      <a:lnTo>
                        <a:pt x="899" y="19"/>
                      </a:lnTo>
                      <a:lnTo>
                        <a:pt x="922" y="15"/>
                      </a:lnTo>
                      <a:lnTo>
                        <a:pt x="943" y="11"/>
                      </a:lnTo>
                      <a:lnTo>
                        <a:pt x="961" y="7"/>
                      </a:lnTo>
                      <a:lnTo>
                        <a:pt x="979" y="3"/>
                      </a:lnTo>
                      <a:lnTo>
                        <a:pt x="994" y="0"/>
                      </a:lnTo>
                      <a:lnTo>
                        <a:pt x="996" y="15"/>
                      </a:lnTo>
                      <a:lnTo>
                        <a:pt x="991" y="27"/>
                      </a:lnTo>
                      <a:lnTo>
                        <a:pt x="982" y="37"/>
                      </a:lnTo>
                      <a:lnTo>
                        <a:pt x="97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365960" y="3822480"/>
                  <a:ext cx="115920" cy="47160"/>
                </a:xfrm>
                <a:custGeom>
                  <a:avLst/>
                  <a:gdLst/>
                  <a:ahLst/>
                  <a:rect l="l" t="t" r="r" b="b"/>
                  <a:pathLst>
                    <a:path w="146" h="58">
                      <a:moveTo>
                        <a:pt x="120" y="58"/>
                      </a:moveTo>
                      <a:lnTo>
                        <a:pt x="105" y="57"/>
                      </a:lnTo>
                      <a:lnTo>
                        <a:pt x="91" y="54"/>
                      </a:lnTo>
                      <a:lnTo>
                        <a:pt x="78" y="49"/>
                      </a:lnTo>
                      <a:lnTo>
                        <a:pt x="64" y="45"/>
                      </a:lnTo>
                      <a:lnTo>
                        <a:pt x="50" y="41"/>
                      </a:lnTo>
                      <a:lnTo>
                        <a:pt x="36" y="39"/>
                      </a:lnTo>
                      <a:lnTo>
                        <a:pt x="22" y="39"/>
                      </a:lnTo>
                      <a:lnTo>
                        <a:pt x="8" y="43"/>
                      </a:lnTo>
                      <a:lnTo>
                        <a:pt x="4" y="37"/>
                      </a:lnTo>
                      <a:lnTo>
                        <a:pt x="1" y="26"/>
                      </a:lnTo>
                      <a:lnTo>
                        <a:pt x="0" y="15"/>
                      </a:lnTo>
                      <a:lnTo>
                        <a:pt x="1" y="5"/>
                      </a:lnTo>
                      <a:lnTo>
                        <a:pt x="27" y="1"/>
                      </a:lnTo>
                      <a:lnTo>
                        <a:pt x="48" y="0"/>
                      </a:lnTo>
                      <a:lnTo>
                        <a:pt x="66" y="1"/>
                      </a:lnTo>
                      <a:lnTo>
                        <a:pt x="82" y="3"/>
                      </a:lnTo>
                      <a:lnTo>
                        <a:pt x="98" y="5"/>
                      </a:lnTo>
                      <a:lnTo>
                        <a:pt x="113" y="9"/>
                      </a:lnTo>
                      <a:lnTo>
                        <a:pt x="128" y="12"/>
                      </a:lnTo>
                      <a:lnTo>
                        <a:pt x="146" y="14"/>
                      </a:lnTo>
                      <a:lnTo>
                        <a:pt x="144" y="27"/>
                      </a:lnTo>
                      <a:lnTo>
                        <a:pt x="137" y="39"/>
                      </a:lnTo>
                      <a:lnTo>
                        <a:pt x="128" y="49"/>
                      </a:lnTo>
                      <a:lnTo>
                        <a:pt x="12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175440" y="3811320"/>
                  <a:ext cx="1170000" cy="1539360"/>
                </a:xfrm>
                <a:custGeom>
                  <a:avLst/>
                  <a:gdLst/>
                  <a:ahLst/>
                  <a:rect l="l" t="t" r="r" b="b"/>
                  <a:pathLst>
                    <a:path w="1476" h="1938">
                      <a:moveTo>
                        <a:pt x="1467" y="59"/>
                      </a:moveTo>
                      <a:lnTo>
                        <a:pt x="1436" y="55"/>
                      </a:lnTo>
                      <a:lnTo>
                        <a:pt x="1405" y="52"/>
                      </a:lnTo>
                      <a:lnTo>
                        <a:pt x="1373" y="49"/>
                      </a:lnTo>
                      <a:lnTo>
                        <a:pt x="1342" y="47"/>
                      </a:lnTo>
                      <a:lnTo>
                        <a:pt x="1310" y="46"/>
                      </a:lnTo>
                      <a:lnTo>
                        <a:pt x="1279" y="46"/>
                      </a:lnTo>
                      <a:lnTo>
                        <a:pt x="1248" y="46"/>
                      </a:lnTo>
                      <a:lnTo>
                        <a:pt x="1217" y="46"/>
                      </a:lnTo>
                      <a:lnTo>
                        <a:pt x="1186" y="48"/>
                      </a:lnTo>
                      <a:lnTo>
                        <a:pt x="1155" y="52"/>
                      </a:lnTo>
                      <a:lnTo>
                        <a:pt x="1125" y="56"/>
                      </a:lnTo>
                      <a:lnTo>
                        <a:pt x="1093" y="62"/>
                      </a:lnTo>
                      <a:lnTo>
                        <a:pt x="1064" y="69"/>
                      </a:lnTo>
                      <a:lnTo>
                        <a:pt x="1034" y="78"/>
                      </a:lnTo>
                      <a:lnTo>
                        <a:pt x="1004" y="89"/>
                      </a:lnTo>
                      <a:lnTo>
                        <a:pt x="975" y="100"/>
                      </a:lnTo>
                      <a:lnTo>
                        <a:pt x="954" y="104"/>
                      </a:lnTo>
                      <a:lnTo>
                        <a:pt x="933" y="107"/>
                      </a:lnTo>
                      <a:lnTo>
                        <a:pt x="911" y="110"/>
                      </a:lnTo>
                      <a:lnTo>
                        <a:pt x="891" y="113"/>
                      </a:lnTo>
                      <a:lnTo>
                        <a:pt x="870" y="115"/>
                      </a:lnTo>
                      <a:lnTo>
                        <a:pt x="848" y="119"/>
                      </a:lnTo>
                      <a:lnTo>
                        <a:pt x="827" y="122"/>
                      </a:lnTo>
                      <a:lnTo>
                        <a:pt x="808" y="125"/>
                      </a:lnTo>
                      <a:lnTo>
                        <a:pt x="787" y="130"/>
                      </a:lnTo>
                      <a:lnTo>
                        <a:pt x="767" y="136"/>
                      </a:lnTo>
                      <a:lnTo>
                        <a:pt x="748" y="143"/>
                      </a:lnTo>
                      <a:lnTo>
                        <a:pt x="729" y="151"/>
                      </a:lnTo>
                      <a:lnTo>
                        <a:pt x="711" y="160"/>
                      </a:lnTo>
                      <a:lnTo>
                        <a:pt x="694" y="171"/>
                      </a:lnTo>
                      <a:lnTo>
                        <a:pt x="678" y="185"/>
                      </a:lnTo>
                      <a:lnTo>
                        <a:pt x="661" y="200"/>
                      </a:lnTo>
                      <a:lnTo>
                        <a:pt x="635" y="213"/>
                      </a:lnTo>
                      <a:lnTo>
                        <a:pt x="611" y="228"/>
                      </a:lnTo>
                      <a:lnTo>
                        <a:pt x="587" y="245"/>
                      </a:lnTo>
                      <a:lnTo>
                        <a:pt x="562" y="262"/>
                      </a:lnTo>
                      <a:lnTo>
                        <a:pt x="539" y="281"/>
                      </a:lnTo>
                      <a:lnTo>
                        <a:pt x="517" y="301"/>
                      </a:lnTo>
                      <a:lnTo>
                        <a:pt x="496" y="321"/>
                      </a:lnTo>
                      <a:lnTo>
                        <a:pt x="472" y="341"/>
                      </a:lnTo>
                      <a:lnTo>
                        <a:pt x="451" y="360"/>
                      </a:lnTo>
                      <a:lnTo>
                        <a:pt x="428" y="380"/>
                      </a:lnTo>
                      <a:lnTo>
                        <a:pt x="404" y="400"/>
                      </a:lnTo>
                      <a:lnTo>
                        <a:pt x="381" y="417"/>
                      </a:lnTo>
                      <a:lnTo>
                        <a:pt x="357" y="433"/>
                      </a:lnTo>
                      <a:lnTo>
                        <a:pt x="332" y="448"/>
                      </a:lnTo>
                      <a:lnTo>
                        <a:pt x="307" y="462"/>
                      </a:lnTo>
                      <a:lnTo>
                        <a:pt x="279" y="472"/>
                      </a:lnTo>
                      <a:lnTo>
                        <a:pt x="250" y="486"/>
                      </a:lnTo>
                      <a:lnTo>
                        <a:pt x="231" y="506"/>
                      </a:lnTo>
                      <a:lnTo>
                        <a:pt x="216" y="530"/>
                      </a:lnTo>
                      <a:lnTo>
                        <a:pt x="206" y="556"/>
                      </a:lnTo>
                      <a:lnTo>
                        <a:pt x="199" y="585"/>
                      </a:lnTo>
                      <a:lnTo>
                        <a:pt x="192" y="615"/>
                      </a:lnTo>
                      <a:lnTo>
                        <a:pt x="186" y="643"/>
                      </a:lnTo>
                      <a:lnTo>
                        <a:pt x="175" y="669"/>
                      </a:lnTo>
                      <a:lnTo>
                        <a:pt x="80" y="814"/>
                      </a:lnTo>
                      <a:lnTo>
                        <a:pt x="89" y="859"/>
                      </a:lnTo>
                      <a:lnTo>
                        <a:pt x="96" y="904"/>
                      </a:lnTo>
                      <a:lnTo>
                        <a:pt x="101" y="950"/>
                      </a:lnTo>
                      <a:lnTo>
                        <a:pt x="104" y="996"/>
                      </a:lnTo>
                      <a:lnTo>
                        <a:pt x="101" y="1041"/>
                      </a:lnTo>
                      <a:lnTo>
                        <a:pt x="93" y="1085"/>
                      </a:lnTo>
                      <a:lnTo>
                        <a:pt x="80" y="1126"/>
                      </a:lnTo>
                      <a:lnTo>
                        <a:pt x="59" y="1166"/>
                      </a:lnTo>
                      <a:lnTo>
                        <a:pt x="59" y="1204"/>
                      </a:lnTo>
                      <a:lnTo>
                        <a:pt x="65" y="1240"/>
                      </a:lnTo>
                      <a:lnTo>
                        <a:pt x="76" y="1276"/>
                      </a:lnTo>
                      <a:lnTo>
                        <a:pt x="91" y="1310"/>
                      </a:lnTo>
                      <a:lnTo>
                        <a:pt x="107" y="1343"/>
                      </a:lnTo>
                      <a:lnTo>
                        <a:pt x="123" y="1378"/>
                      </a:lnTo>
                      <a:lnTo>
                        <a:pt x="137" y="1412"/>
                      </a:lnTo>
                      <a:lnTo>
                        <a:pt x="148" y="1448"/>
                      </a:lnTo>
                      <a:lnTo>
                        <a:pt x="179" y="1833"/>
                      </a:lnTo>
                      <a:lnTo>
                        <a:pt x="187" y="1842"/>
                      </a:lnTo>
                      <a:lnTo>
                        <a:pt x="192" y="1852"/>
                      </a:lnTo>
                      <a:lnTo>
                        <a:pt x="195" y="1864"/>
                      </a:lnTo>
                      <a:lnTo>
                        <a:pt x="196" y="1875"/>
                      </a:lnTo>
                      <a:lnTo>
                        <a:pt x="197" y="1887"/>
                      </a:lnTo>
                      <a:lnTo>
                        <a:pt x="199" y="1898"/>
                      </a:lnTo>
                      <a:lnTo>
                        <a:pt x="205" y="1909"/>
                      </a:lnTo>
                      <a:lnTo>
                        <a:pt x="213" y="1918"/>
                      </a:lnTo>
                      <a:lnTo>
                        <a:pt x="216" y="1938"/>
                      </a:lnTo>
                      <a:lnTo>
                        <a:pt x="205" y="1934"/>
                      </a:lnTo>
                      <a:lnTo>
                        <a:pt x="192" y="1926"/>
                      </a:lnTo>
                      <a:lnTo>
                        <a:pt x="178" y="1917"/>
                      </a:lnTo>
                      <a:lnTo>
                        <a:pt x="164" y="1905"/>
                      </a:lnTo>
                      <a:lnTo>
                        <a:pt x="150" y="1894"/>
                      </a:lnTo>
                      <a:lnTo>
                        <a:pt x="138" y="1881"/>
                      </a:lnTo>
                      <a:lnTo>
                        <a:pt x="129" y="1871"/>
                      </a:lnTo>
                      <a:lnTo>
                        <a:pt x="123" y="1860"/>
                      </a:lnTo>
                      <a:lnTo>
                        <a:pt x="108" y="1824"/>
                      </a:lnTo>
                      <a:lnTo>
                        <a:pt x="101" y="1789"/>
                      </a:lnTo>
                      <a:lnTo>
                        <a:pt x="100" y="1754"/>
                      </a:lnTo>
                      <a:lnTo>
                        <a:pt x="104" y="1720"/>
                      </a:lnTo>
                      <a:lnTo>
                        <a:pt x="108" y="1684"/>
                      </a:lnTo>
                      <a:lnTo>
                        <a:pt x="111" y="1647"/>
                      </a:lnTo>
                      <a:lnTo>
                        <a:pt x="111" y="1609"/>
                      </a:lnTo>
                      <a:lnTo>
                        <a:pt x="103" y="1568"/>
                      </a:lnTo>
                      <a:lnTo>
                        <a:pt x="90" y="1521"/>
                      </a:lnTo>
                      <a:lnTo>
                        <a:pt x="73" y="1471"/>
                      </a:lnTo>
                      <a:lnTo>
                        <a:pt x="54" y="1418"/>
                      </a:lnTo>
                      <a:lnTo>
                        <a:pt x="36" y="1363"/>
                      </a:lnTo>
                      <a:lnTo>
                        <a:pt x="19" y="1307"/>
                      </a:lnTo>
                      <a:lnTo>
                        <a:pt x="7" y="1252"/>
                      </a:lnTo>
                      <a:lnTo>
                        <a:pt x="0" y="1199"/>
                      </a:lnTo>
                      <a:lnTo>
                        <a:pt x="2" y="1148"/>
                      </a:lnTo>
                      <a:lnTo>
                        <a:pt x="22" y="1098"/>
                      </a:lnTo>
                      <a:lnTo>
                        <a:pt x="30" y="1047"/>
                      </a:lnTo>
                      <a:lnTo>
                        <a:pt x="31" y="996"/>
                      </a:lnTo>
                      <a:lnTo>
                        <a:pt x="30" y="946"/>
                      </a:lnTo>
                      <a:lnTo>
                        <a:pt x="29" y="895"/>
                      </a:lnTo>
                      <a:lnTo>
                        <a:pt x="31" y="843"/>
                      </a:lnTo>
                      <a:lnTo>
                        <a:pt x="42" y="792"/>
                      </a:lnTo>
                      <a:lnTo>
                        <a:pt x="63" y="741"/>
                      </a:lnTo>
                      <a:lnTo>
                        <a:pt x="95" y="704"/>
                      </a:lnTo>
                      <a:lnTo>
                        <a:pt x="115" y="662"/>
                      </a:lnTo>
                      <a:lnTo>
                        <a:pt x="128" y="617"/>
                      </a:lnTo>
                      <a:lnTo>
                        <a:pt x="139" y="573"/>
                      </a:lnTo>
                      <a:lnTo>
                        <a:pt x="152" y="531"/>
                      </a:lnTo>
                      <a:lnTo>
                        <a:pt x="171" y="492"/>
                      </a:lnTo>
                      <a:lnTo>
                        <a:pt x="201" y="461"/>
                      </a:lnTo>
                      <a:lnTo>
                        <a:pt x="245" y="438"/>
                      </a:lnTo>
                      <a:lnTo>
                        <a:pt x="286" y="417"/>
                      </a:lnTo>
                      <a:lnTo>
                        <a:pt x="325" y="394"/>
                      </a:lnTo>
                      <a:lnTo>
                        <a:pt x="363" y="367"/>
                      </a:lnTo>
                      <a:lnTo>
                        <a:pt x="400" y="340"/>
                      </a:lnTo>
                      <a:lnTo>
                        <a:pt x="436" y="310"/>
                      </a:lnTo>
                      <a:lnTo>
                        <a:pt x="470" y="279"/>
                      </a:lnTo>
                      <a:lnTo>
                        <a:pt x="506" y="249"/>
                      </a:lnTo>
                      <a:lnTo>
                        <a:pt x="542" y="218"/>
                      </a:lnTo>
                      <a:lnTo>
                        <a:pt x="577" y="189"/>
                      </a:lnTo>
                      <a:lnTo>
                        <a:pt x="614" y="161"/>
                      </a:lnTo>
                      <a:lnTo>
                        <a:pt x="652" y="137"/>
                      </a:lnTo>
                      <a:lnTo>
                        <a:pt x="693" y="114"/>
                      </a:lnTo>
                      <a:lnTo>
                        <a:pt x="734" y="95"/>
                      </a:lnTo>
                      <a:lnTo>
                        <a:pt x="778" y="82"/>
                      </a:lnTo>
                      <a:lnTo>
                        <a:pt x="825" y="71"/>
                      </a:lnTo>
                      <a:lnTo>
                        <a:pt x="875" y="68"/>
                      </a:lnTo>
                      <a:lnTo>
                        <a:pt x="1143" y="7"/>
                      </a:lnTo>
                      <a:lnTo>
                        <a:pt x="1159" y="10"/>
                      </a:lnTo>
                      <a:lnTo>
                        <a:pt x="1176" y="11"/>
                      </a:lnTo>
                      <a:lnTo>
                        <a:pt x="1194" y="11"/>
                      </a:lnTo>
                      <a:lnTo>
                        <a:pt x="1211" y="11"/>
                      </a:lnTo>
                      <a:lnTo>
                        <a:pt x="1228" y="10"/>
                      </a:lnTo>
                      <a:lnTo>
                        <a:pt x="1247" y="8"/>
                      </a:lnTo>
                      <a:lnTo>
                        <a:pt x="1264" y="6"/>
                      </a:lnTo>
                      <a:lnTo>
                        <a:pt x="1282" y="3"/>
                      </a:lnTo>
                      <a:lnTo>
                        <a:pt x="1300" y="2"/>
                      </a:lnTo>
                      <a:lnTo>
                        <a:pt x="1318" y="0"/>
                      </a:lnTo>
                      <a:lnTo>
                        <a:pt x="1335" y="0"/>
                      </a:lnTo>
                      <a:lnTo>
                        <a:pt x="1353" y="0"/>
                      </a:lnTo>
                      <a:lnTo>
                        <a:pt x="1370" y="1"/>
                      </a:lnTo>
                      <a:lnTo>
                        <a:pt x="1386" y="4"/>
                      </a:lnTo>
                      <a:lnTo>
                        <a:pt x="1402" y="9"/>
                      </a:lnTo>
                      <a:lnTo>
                        <a:pt x="1417" y="16"/>
                      </a:lnTo>
                      <a:lnTo>
                        <a:pt x="1476" y="18"/>
                      </a:lnTo>
                      <a:lnTo>
                        <a:pt x="1467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378560" y="4946400"/>
                  <a:ext cx="103320" cy="520200"/>
                </a:xfrm>
                <a:custGeom>
                  <a:avLst/>
                  <a:gdLst/>
                  <a:ahLst/>
                  <a:rect l="l" t="t" r="r" b="b"/>
                  <a:pathLst>
                    <a:path w="132" h="656">
                      <a:moveTo>
                        <a:pt x="111" y="417"/>
                      </a:moveTo>
                      <a:lnTo>
                        <a:pt x="125" y="451"/>
                      </a:lnTo>
                      <a:lnTo>
                        <a:pt x="132" y="483"/>
                      </a:lnTo>
                      <a:lnTo>
                        <a:pt x="132" y="513"/>
                      </a:lnTo>
                      <a:lnTo>
                        <a:pt x="128" y="543"/>
                      </a:lnTo>
                      <a:lnTo>
                        <a:pt x="120" y="572"/>
                      </a:lnTo>
                      <a:lnTo>
                        <a:pt x="111" y="599"/>
                      </a:lnTo>
                      <a:lnTo>
                        <a:pt x="102" y="627"/>
                      </a:lnTo>
                      <a:lnTo>
                        <a:pt x="94" y="656"/>
                      </a:lnTo>
                      <a:lnTo>
                        <a:pt x="45" y="643"/>
                      </a:lnTo>
                      <a:lnTo>
                        <a:pt x="49" y="619"/>
                      </a:lnTo>
                      <a:lnTo>
                        <a:pt x="56" y="594"/>
                      </a:lnTo>
                      <a:lnTo>
                        <a:pt x="61" y="568"/>
                      </a:lnTo>
                      <a:lnTo>
                        <a:pt x="68" y="543"/>
                      </a:lnTo>
                      <a:lnTo>
                        <a:pt x="73" y="518"/>
                      </a:lnTo>
                      <a:lnTo>
                        <a:pt x="75" y="491"/>
                      </a:lnTo>
                      <a:lnTo>
                        <a:pt x="73" y="466"/>
                      </a:lnTo>
                      <a:lnTo>
                        <a:pt x="66" y="439"/>
                      </a:lnTo>
                      <a:lnTo>
                        <a:pt x="45" y="401"/>
                      </a:lnTo>
                      <a:lnTo>
                        <a:pt x="31" y="360"/>
                      </a:lnTo>
                      <a:lnTo>
                        <a:pt x="23" y="316"/>
                      </a:lnTo>
                      <a:lnTo>
                        <a:pt x="20" y="270"/>
                      </a:lnTo>
                      <a:lnTo>
                        <a:pt x="21" y="225"/>
                      </a:lnTo>
                      <a:lnTo>
                        <a:pt x="25" y="180"/>
                      </a:lnTo>
                      <a:lnTo>
                        <a:pt x="30" y="136"/>
                      </a:lnTo>
                      <a:lnTo>
                        <a:pt x="36" y="95"/>
                      </a:lnTo>
                      <a:lnTo>
                        <a:pt x="35" y="81"/>
                      </a:lnTo>
                      <a:lnTo>
                        <a:pt x="31" y="68"/>
                      </a:lnTo>
                      <a:lnTo>
                        <a:pt x="27" y="56"/>
                      </a:lnTo>
                      <a:lnTo>
                        <a:pt x="20" y="44"/>
                      </a:lnTo>
                      <a:lnTo>
                        <a:pt x="14" y="33"/>
                      </a:lnTo>
                      <a:lnTo>
                        <a:pt x="8" y="21"/>
                      </a:lnTo>
                      <a:lnTo>
                        <a:pt x="4" y="11"/>
                      </a:lnTo>
                      <a:lnTo>
                        <a:pt x="0" y="0"/>
                      </a:lnTo>
                      <a:lnTo>
                        <a:pt x="8" y="3"/>
                      </a:lnTo>
                      <a:lnTo>
                        <a:pt x="15" y="6"/>
                      </a:lnTo>
                      <a:lnTo>
                        <a:pt x="22" y="11"/>
                      </a:lnTo>
                      <a:lnTo>
                        <a:pt x="29" y="15"/>
                      </a:lnTo>
                      <a:lnTo>
                        <a:pt x="35" y="21"/>
                      </a:lnTo>
                      <a:lnTo>
                        <a:pt x="42" y="27"/>
                      </a:lnTo>
                      <a:lnTo>
                        <a:pt x="49" y="33"/>
                      </a:lnTo>
                      <a:lnTo>
                        <a:pt x="56" y="37"/>
                      </a:lnTo>
                      <a:lnTo>
                        <a:pt x="74" y="50"/>
                      </a:lnTo>
                      <a:lnTo>
                        <a:pt x="88" y="66"/>
                      </a:lnTo>
                      <a:lnTo>
                        <a:pt x="96" y="84"/>
                      </a:lnTo>
                      <a:lnTo>
                        <a:pt x="101" y="104"/>
                      </a:lnTo>
                      <a:lnTo>
                        <a:pt x="103" y="126"/>
                      </a:lnTo>
                      <a:lnTo>
                        <a:pt x="103" y="148"/>
                      </a:lnTo>
                      <a:lnTo>
                        <a:pt x="102" y="169"/>
                      </a:lnTo>
                      <a:lnTo>
                        <a:pt x="101" y="188"/>
                      </a:lnTo>
                      <a:lnTo>
                        <a:pt x="91" y="216"/>
                      </a:lnTo>
                      <a:lnTo>
                        <a:pt x="84" y="245"/>
                      </a:lnTo>
                      <a:lnTo>
                        <a:pt x="82" y="274"/>
                      </a:lnTo>
                      <a:lnTo>
                        <a:pt x="82" y="303"/>
                      </a:lnTo>
                      <a:lnTo>
                        <a:pt x="84" y="333"/>
                      </a:lnTo>
                      <a:lnTo>
                        <a:pt x="90" y="362"/>
                      </a:lnTo>
                      <a:lnTo>
                        <a:pt x="99" y="391"/>
                      </a:lnTo>
                      <a:lnTo>
                        <a:pt x="111" y="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377040" y="5371560"/>
                  <a:ext cx="1079280" cy="242640"/>
                </a:xfrm>
                <a:custGeom>
                  <a:avLst/>
                  <a:gdLst/>
                  <a:ahLst/>
                  <a:rect l="l" t="t" r="r" b="b"/>
                  <a:pathLst>
                    <a:path w="1360" h="305">
                      <a:moveTo>
                        <a:pt x="1294" y="204"/>
                      </a:moveTo>
                      <a:lnTo>
                        <a:pt x="1265" y="219"/>
                      </a:lnTo>
                      <a:lnTo>
                        <a:pt x="1234" y="233"/>
                      </a:lnTo>
                      <a:lnTo>
                        <a:pt x="1201" y="245"/>
                      </a:lnTo>
                      <a:lnTo>
                        <a:pt x="1168" y="258"/>
                      </a:lnTo>
                      <a:lnTo>
                        <a:pt x="1133" y="268"/>
                      </a:lnTo>
                      <a:lnTo>
                        <a:pt x="1098" y="279"/>
                      </a:lnTo>
                      <a:lnTo>
                        <a:pt x="1062" y="287"/>
                      </a:lnTo>
                      <a:lnTo>
                        <a:pt x="1026" y="294"/>
                      </a:lnTo>
                      <a:lnTo>
                        <a:pt x="989" y="299"/>
                      </a:lnTo>
                      <a:lnTo>
                        <a:pt x="954" y="303"/>
                      </a:lnTo>
                      <a:lnTo>
                        <a:pt x="917" y="305"/>
                      </a:lnTo>
                      <a:lnTo>
                        <a:pt x="881" y="305"/>
                      </a:lnTo>
                      <a:lnTo>
                        <a:pt x="847" y="303"/>
                      </a:lnTo>
                      <a:lnTo>
                        <a:pt x="812" y="298"/>
                      </a:lnTo>
                      <a:lnTo>
                        <a:pt x="780" y="290"/>
                      </a:lnTo>
                      <a:lnTo>
                        <a:pt x="747" y="281"/>
                      </a:lnTo>
                      <a:lnTo>
                        <a:pt x="726" y="279"/>
                      </a:lnTo>
                      <a:lnTo>
                        <a:pt x="703" y="276"/>
                      </a:lnTo>
                      <a:lnTo>
                        <a:pt x="677" y="273"/>
                      </a:lnTo>
                      <a:lnTo>
                        <a:pt x="651" y="270"/>
                      </a:lnTo>
                      <a:lnTo>
                        <a:pt x="623" y="266"/>
                      </a:lnTo>
                      <a:lnTo>
                        <a:pt x="595" y="261"/>
                      </a:lnTo>
                      <a:lnTo>
                        <a:pt x="568" y="258"/>
                      </a:lnTo>
                      <a:lnTo>
                        <a:pt x="539" y="255"/>
                      </a:lnTo>
                      <a:lnTo>
                        <a:pt x="510" y="251"/>
                      </a:lnTo>
                      <a:lnTo>
                        <a:pt x="481" y="249"/>
                      </a:lnTo>
                      <a:lnTo>
                        <a:pt x="454" y="246"/>
                      </a:lnTo>
                      <a:lnTo>
                        <a:pt x="427" y="244"/>
                      </a:lnTo>
                      <a:lnTo>
                        <a:pt x="401" y="243"/>
                      </a:lnTo>
                      <a:lnTo>
                        <a:pt x="376" y="243"/>
                      </a:lnTo>
                      <a:lnTo>
                        <a:pt x="353" y="243"/>
                      </a:lnTo>
                      <a:lnTo>
                        <a:pt x="332" y="245"/>
                      </a:lnTo>
                      <a:lnTo>
                        <a:pt x="303" y="241"/>
                      </a:lnTo>
                      <a:lnTo>
                        <a:pt x="275" y="234"/>
                      </a:lnTo>
                      <a:lnTo>
                        <a:pt x="250" y="227"/>
                      </a:lnTo>
                      <a:lnTo>
                        <a:pt x="224" y="218"/>
                      </a:lnTo>
                      <a:lnTo>
                        <a:pt x="201" y="208"/>
                      </a:lnTo>
                      <a:lnTo>
                        <a:pt x="178" y="197"/>
                      </a:lnTo>
                      <a:lnTo>
                        <a:pt x="158" y="184"/>
                      </a:lnTo>
                      <a:lnTo>
                        <a:pt x="137" y="169"/>
                      </a:lnTo>
                      <a:lnTo>
                        <a:pt x="117" y="154"/>
                      </a:lnTo>
                      <a:lnTo>
                        <a:pt x="99" y="137"/>
                      </a:lnTo>
                      <a:lnTo>
                        <a:pt x="80" y="119"/>
                      </a:lnTo>
                      <a:lnTo>
                        <a:pt x="63" y="98"/>
                      </a:lnTo>
                      <a:lnTo>
                        <a:pt x="47" y="76"/>
                      </a:lnTo>
                      <a:lnTo>
                        <a:pt x="31" y="52"/>
                      </a:lnTo>
                      <a:lnTo>
                        <a:pt x="15" y="26"/>
                      </a:lnTo>
                      <a:lnTo>
                        <a:pt x="0" y="0"/>
                      </a:lnTo>
                      <a:lnTo>
                        <a:pt x="14" y="11"/>
                      </a:lnTo>
                      <a:lnTo>
                        <a:pt x="26" y="22"/>
                      </a:lnTo>
                      <a:lnTo>
                        <a:pt x="41" y="33"/>
                      </a:lnTo>
                      <a:lnTo>
                        <a:pt x="55" y="43"/>
                      </a:lnTo>
                      <a:lnTo>
                        <a:pt x="70" y="53"/>
                      </a:lnTo>
                      <a:lnTo>
                        <a:pt x="85" y="62"/>
                      </a:lnTo>
                      <a:lnTo>
                        <a:pt x="100" y="71"/>
                      </a:lnTo>
                      <a:lnTo>
                        <a:pt x="116" y="79"/>
                      </a:lnTo>
                      <a:lnTo>
                        <a:pt x="131" y="86"/>
                      </a:lnTo>
                      <a:lnTo>
                        <a:pt x="147" y="93"/>
                      </a:lnTo>
                      <a:lnTo>
                        <a:pt x="164" y="99"/>
                      </a:lnTo>
                      <a:lnTo>
                        <a:pt x="181" y="104"/>
                      </a:lnTo>
                      <a:lnTo>
                        <a:pt x="198" y="107"/>
                      </a:lnTo>
                      <a:lnTo>
                        <a:pt x="215" y="109"/>
                      </a:lnTo>
                      <a:lnTo>
                        <a:pt x="232" y="111"/>
                      </a:lnTo>
                      <a:lnTo>
                        <a:pt x="250" y="111"/>
                      </a:lnTo>
                      <a:lnTo>
                        <a:pt x="274" y="136"/>
                      </a:lnTo>
                      <a:lnTo>
                        <a:pt x="299" y="155"/>
                      </a:lnTo>
                      <a:lnTo>
                        <a:pt x="327" y="170"/>
                      </a:lnTo>
                      <a:lnTo>
                        <a:pt x="356" y="182"/>
                      </a:lnTo>
                      <a:lnTo>
                        <a:pt x="386" y="189"/>
                      </a:lnTo>
                      <a:lnTo>
                        <a:pt x="417" y="193"/>
                      </a:lnTo>
                      <a:lnTo>
                        <a:pt x="448" y="196"/>
                      </a:lnTo>
                      <a:lnTo>
                        <a:pt x="481" y="196"/>
                      </a:lnTo>
                      <a:lnTo>
                        <a:pt x="514" y="195"/>
                      </a:lnTo>
                      <a:lnTo>
                        <a:pt x="547" y="193"/>
                      </a:lnTo>
                      <a:lnTo>
                        <a:pt x="579" y="191"/>
                      </a:lnTo>
                      <a:lnTo>
                        <a:pt x="613" y="190"/>
                      </a:lnTo>
                      <a:lnTo>
                        <a:pt x="645" y="190"/>
                      </a:lnTo>
                      <a:lnTo>
                        <a:pt x="677" y="191"/>
                      </a:lnTo>
                      <a:lnTo>
                        <a:pt x="708" y="195"/>
                      </a:lnTo>
                      <a:lnTo>
                        <a:pt x="739" y="200"/>
                      </a:lnTo>
                      <a:lnTo>
                        <a:pt x="770" y="212"/>
                      </a:lnTo>
                      <a:lnTo>
                        <a:pt x="802" y="220"/>
                      </a:lnTo>
                      <a:lnTo>
                        <a:pt x="834" y="226"/>
                      </a:lnTo>
                      <a:lnTo>
                        <a:pt x="867" y="229"/>
                      </a:lnTo>
                      <a:lnTo>
                        <a:pt x="901" y="230"/>
                      </a:lnTo>
                      <a:lnTo>
                        <a:pt x="934" y="229"/>
                      </a:lnTo>
                      <a:lnTo>
                        <a:pt x="968" y="226"/>
                      </a:lnTo>
                      <a:lnTo>
                        <a:pt x="1002" y="221"/>
                      </a:lnTo>
                      <a:lnTo>
                        <a:pt x="1035" y="215"/>
                      </a:lnTo>
                      <a:lnTo>
                        <a:pt x="1069" y="208"/>
                      </a:lnTo>
                      <a:lnTo>
                        <a:pt x="1102" y="199"/>
                      </a:lnTo>
                      <a:lnTo>
                        <a:pt x="1135" y="190"/>
                      </a:lnTo>
                      <a:lnTo>
                        <a:pt x="1167" y="181"/>
                      </a:lnTo>
                      <a:lnTo>
                        <a:pt x="1198" y="169"/>
                      </a:lnTo>
                      <a:lnTo>
                        <a:pt x="1228" y="159"/>
                      </a:lnTo>
                      <a:lnTo>
                        <a:pt x="1258" y="147"/>
                      </a:lnTo>
                      <a:lnTo>
                        <a:pt x="1271" y="151"/>
                      </a:lnTo>
                      <a:lnTo>
                        <a:pt x="1286" y="152"/>
                      </a:lnTo>
                      <a:lnTo>
                        <a:pt x="1302" y="152"/>
                      </a:lnTo>
                      <a:lnTo>
                        <a:pt x="1318" y="151"/>
                      </a:lnTo>
                      <a:lnTo>
                        <a:pt x="1332" y="152"/>
                      </a:lnTo>
                      <a:lnTo>
                        <a:pt x="1344" y="155"/>
                      </a:lnTo>
                      <a:lnTo>
                        <a:pt x="1355" y="162"/>
                      </a:lnTo>
                      <a:lnTo>
                        <a:pt x="1360" y="176"/>
                      </a:lnTo>
                      <a:lnTo>
                        <a:pt x="1351" y="180"/>
                      </a:lnTo>
                      <a:lnTo>
                        <a:pt x="1342" y="181"/>
                      </a:lnTo>
                      <a:lnTo>
                        <a:pt x="1333" y="183"/>
                      </a:lnTo>
                      <a:lnTo>
                        <a:pt x="1324" y="185"/>
                      </a:lnTo>
                      <a:lnTo>
                        <a:pt x="1315" y="188"/>
                      </a:lnTo>
                      <a:lnTo>
                        <a:pt x="1307" y="191"/>
                      </a:lnTo>
                      <a:lnTo>
                        <a:pt x="1299" y="197"/>
                      </a:lnTo>
                      <a:lnTo>
                        <a:pt x="1294" y="2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616440" y="4847760"/>
                  <a:ext cx="671760" cy="161640"/>
                </a:xfrm>
                <a:custGeom>
                  <a:avLst/>
                  <a:gdLst/>
                  <a:ahLst/>
                  <a:rect l="l" t="t" r="r" b="b"/>
                  <a:pathLst>
                    <a:path w="845" h="205">
                      <a:moveTo>
                        <a:pt x="815" y="126"/>
                      </a:moveTo>
                      <a:lnTo>
                        <a:pt x="793" y="126"/>
                      </a:lnTo>
                      <a:lnTo>
                        <a:pt x="772" y="126"/>
                      </a:lnTo>
                      <a:lnTo>
                        <a:pt x="750" y="127"/>
                      </a:lnTo>
                      <a:lnTo>
                        <a:pt x="727" y="128"/>
                      </a:lnTo>
                      <a:lnTo>
                        <a:pt x="705" y="129"/>
                      </a:lnTo>
                      <a:lnTo>
                        <a:pt x="682" y="131"/>
                      </a:lnTo>
                      <a:lnTo>
                        <a:pt x="659" y="134"/>
                      </a:lnTo>
                      <a:lnTo>
                        <a:pt x="637" y="137"/>
                      </a:lnTo>
                      <a:lnTo>
                        <a:pt x="614" y="142"/>
                      </a:lnTo>
                      <a:lnTo>
                        <a:pt x="592" y="146"/>
                      </a:lnTo>
                      <a:lnTo>
                        <a:pt x="570" y="152"/>
                      </a:lnTo>
                      <a:lnTo>
                        <a:pt x="549" y="159"/>
                      </a:lnTo>
                      <a:lnTo>
                        <a:pt x="528" y="167"/>
                      </a:lnTo>
                      <a:lnTo>
                        <a:pt x="508" y="175"/>
                      </a:lnTo>
                      <a:lnTo>
                        <a:pt x="489" y="185"/>
                      </a:lnTo>
                      <a:lnTo>
                        <a:pt x="471" y="196"/>
                      </a:lnTo>
                      <a:lnTo>
                        <a:pt x="445" y="203"/>
                      </a:lnTo>
                      <a:lnTo>
                        <a:pt x="421" y="205"/>
                      </a:lnTo>
                      <a:lnTo>
                        <a:pt x="398" y="205"/>
                      </a:lnTo>
                      <a:lnTo>
                        <a:pt x="375" y="200"/>
                      </a:lnTo>
                      <a:lnTo>
                        <a:pt x="353" y="195"/>
                      </a:lnTo>
                      <a:lnTo>
                        <a:pt x="331" y="188"/>
                      </a:lnTo>
                      <a:lnTo>
                        <a:pt x="309" y="178"/>
                      </a:lnTo>
                      <a:lnTo>
                        <a:pt x="288" y="169"/>
                      </a:lnTo>
                      <a:lnTo>
                        <a:pt x="267" y="159"/>
                      </a:lnTo>
                      <a:lnTo>
                        <a:pt x="245" y="150"/>
                      </a:lnTo>
                      <a:lnTo>
                        <a:pt x="223" y="142"/>
                      </a:lnTo>
                      <a:lnTo>
                        <a:pt x="200" y="135"/>
                      </a:lnTo>
                      <a:lnTo>
                        <a:pt x="177" y="130"/>
                      </a:lnTo>
                      <a:lnTo>
                        <a:pt x="154" y="128"/>
                      </a:lnTo>
                      <a:lnTo>
                        <a:pt x="129" y="129"/>
                      </a:lnTo>
                      <a:lnTo>
                        <a:pt x="103" y="134"/>
                      </a:lnTo>
                      <a:lnTo>
                        <a:pt x="89" y="130"/>
                      </a:lnTo>
                      <a:lnTo>
                        <a:pt x="76" y="126"/>
                      </a:lnTo>
                      <a:lnTo>
                        <a:pt x="61" y="121"/>
                      </a:lnTo>
                      <a:lnTo>
                        <a:pt x="47" y="114"/>
                      </a:lnTo>
                      <a:lnTo>
                        <a:pt x="34" y="107"/>
                      </a:lnTo>
                      <a:lnTo>
                        <a:pt x="21" y="98"/>
                      </a:lnTo>
                      <a:lnTo>
                        <a:pt x="10" y="89"/>
                      </a:lnTo>
                      <a:lnTo>
                        <a:pt x="0" y="77"/>
                      </a:lnTo>
                      <a:lnTo>
                        <a:pt x="11" y="74"/>
                      </a:lnTo>
                      <a:lnTo>
                        <a:pt x="23" y="73"/>
                      </a:lnTo>
                      <a:lnTo>
                        <a:pt x="35" y="74"/>
                      </a:lnTo>
                      <a:lnTo>
                        <a:pt x="48" y="75"/>
                      </a:lnTo>
                      <a:lnTo>
                        <a:pt x="61" y="75"/>
                      </a:lnTo>
                      <a:lnTo>
                        <a:pt x="71" y="73"/>
                      </a:lnTo>
                      <a:lnTo>
                        <a:pt x="81" y="67"/>
                      </a:lnTo>
                      <a:lnTo>
                        <a:pt x="88" y="55"/>
                      </a:lnTo>
                      <a:lnTo>
                        <a:pt x="111" y="54"/>
                      </a:lnTo>
                      <a:lnTo>
                        <a:pt x="134" y="56"/>
                      </a:lnTo>
                      <a:lnTo>
                        <a:pt x="156" y="61"/>
                      </a:lnTo>
                      <a:lnTo>
                        <a:pt x="178" y="67"/>
                      </a:lnTo>
                      <a:lnTo>
                        <a:pt x="199" y="74"/>
                      </a:lnTo>
                      <a:lnTo>
                        <a:pt x="220" y="82"/>
                      </a:lnTo>
                      <a:lnTo>
                        <a:pt x="239" y="90"/>
                      </a:lnTo>
                      <a:lnTo>
                        <a:pt x="260" y="99"/>
                      </a:lnTo>
                      <a:lnTo>
                        <a:pt x="280" y="108"/>
                      </a:lnTo>
                      <a:lnTo>
                        <a:pt x="300" y="117"/>
                      </a:lnTo>
                      <a:lnTo>
                        <a:pt x="321" y="124"/>
                      </a:lnTo>
                      <a:lnTo>
                        <a:pt x="342" y="131"/>
                      </a:lnTo>
                      <a:lnTo>
                        <a:pt x="362" y="137"/>
                      </a:lnTo>
                      <a:lnTo>
                        <a:pt x="386" y="140"/>
                      </a:lnTo>
                      <a:lnTo>
                        <a:pt x="407" y="140"/>
                      </a:lnTo>
                      <a:lnTo>
                        <a:pt x="432" y="139"/>
                      </a:lnTo>
                      <a:lnTo>
                        <a:pt x="451" y="135"/>
                      </a:lnTo>
                      <a:lnTo>
                        <a:pt x="471" y="128"/>
                      </a:lnTo>
                      <a:lnTo>
                        <a:pt x="492" y="121"/>
                      </a:lnTo>
                      <a:lnTo>
                        <a:pt x="511" y="114"/>
                      </a:lnTo>
                      <a:lnTo>
                        <a:pt x="532" y="106"/>
                      </a:lnTo>
                      <a:lnTo>
                        <a:pt x="553" y="99"/>
                      </a:lnTo>
                      <a:lnTo>
                        <a:pt x="574" y="91"/>
                      </a:lnTo>
                      <a:lnTo>
                        <a:pt x="595" y="84"/>
                      </a:lnTo>
                      <a:lnTo>
                        <a:pt x="616" y="77"/>
                      </a:lnTo>
                      <a:lnTo>
                        <a:pt x="637" y="73"/>
                      </a:lnTo>
                      <a:lnTo>
                        <a:pt x="659" y="68"/>
                      </a:lnTo>
                      <a:lnTo>
                        <a:pt x="679" y="66"/>
                      </a:lnTo>
                      <a:lnTo>
                        <a:pt x="700" y="64"/>
                      </a:lnTo>
                      <a:lnTo>
                        <a:pt x="722" y="66"/>
                      </a:lnTo>
                      <a:lnTo>
                        <a:pt x="743" y="70"/>
                      </a:lnTo>
                      <a:lnTo>
                        <a:pt x="763" y="76"/>
                      </a:lnTo>
                      <a:lnTo>
                        <a:pt x="770" y="75"/>
                      </a:lnTo>
                      <a:lnTo>
                        <a:pt x="777" y="75"/>
                      </a:lnTo>
                      <a:lnTo>
                        <a:pt x="784" y="74"/>
                      </a:lnTo>
                      <a:lnTo>
                        <a:pt x="791" y="73"/>
                      </a:lnTo>
                      <a:lnTo>
                        <a:pt x="798" y="71"/>
                      </a:lnTo>
                      <a:lnTo>
                        <a:pt x="803" y="68"/>
                      </a:lnTo>
                      <a:lnTo>
                        <a:pt x="806" y="62"/>
                      </a:lnTo>
                      <a:lnTo>
                        <a:pt x="808" y="55"/>
                      </a:lnTo>
                      <a:lnTo>
                        <a:pt x="808" y="40"/>
                      </a:lnTo>
                      <a:lnTo>
                        <a:pt x="803" y="29"/>
                      </a:lnTo>
                      <a:lnTo>
                        <a:pt x="795" y="20"/>
                      </a:lnTo>
                      <a:lnTo>
                        <a:pt x="786" y="9"/>
                      </a:lnTo>
                      <a:lnTo>
                        <a:pt x="788" y="8"/>
                      </a:lnTo>
                      <a:lnTo>
                        <a:pt x="789" y="6"/>
                      </a:lnTo>
                      <a:lnTo>
                        <a:pt x="790" y="3"/>
                      </a:lnTo>
                      <a:lnTo>
                        <a:pt x="789" y="0"/>
                      </a:lnTo>
                      <a:lnTo>
                        <a:pt x="799" y="1"/>
                      </a:lnTo>
                      <a:lnTo>
                        <a:pt x="808" y="6"/>
                      </a:lnTo>
                      <a:lnTo>
                        <a:pt x="816" y="11"/>
                      </a:lnTo>
                      <a:lnTo>
                        <a:pt x="825" y="18"/>
                      </a:lnTo>
                      <a:lnTo>
                        <a:pt x="830" y="26"/>
                      </a:lnTo>
                      <a:lnTo>
                        <a:pt x="836" y="35"/>
                      </a:lnTo>
                      <a:lnTo>
                        <a:pt x="841" y="44"/>
                      </a:lnTo>
                      <a:lnTo>
                        <a:pt x="845" y="52"/>
                      </a:lnTo>
                      <a:lnTo>
                        <a:pt x="845" y="73"/>
                      </a:lnTo>
                      <a:lnTo>
                        <a:pt x="841" y="93"/>
                      </a:lnTo>
                      <a:lnTo>
                        <a:pt x="831" y="111"/>
                      </a:lnTo>
                      <a:lnTo>
                        <a:pt x="815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267240" y="4642920"/>
                  <a:ext cx="352440" cy="260280"/>
                </a:xfrm>
                <a:custGeom>
                  <a:avLst/>
                  <a:gdLst/>
                  <a:ahLst/>
                  <a:rect l="l" t="t" r="r" b="b"/>
                  <a:pathLst>
                    <a:path w="442" h="328">
                      <a:moveTo>
                        <a:pt x="417" y="318"/>
                      </a:moveTo>
                      <a:lnTo>
                        <a:pt x="398" y="324"/>
                      </a:lnTo>
                      <a:lnTo>
                        <a:pt x="380" y="327"/>
                      </a:lnTo>
                      <a:lnTo>
                        <a:pt x="363" y="328"/>
                      </a:lnTo>
                      <a:lnTo>
                        <a:pt x="345" y="327"/>
                      </a:lnTo>
                      <a:lnTo>
                        <a:pt x="329" y="325"/>
                      </a:lnTo>
                      <a:lnTo>
                        <a:pt x="313" y="319"/>
                      </a:lnTo>
                      <a:lnTo>
                        <a:pt x="298" y="312"/>
                      </a:lnTo>
                      <a:lnTo>
                        <a:pt x="283" y="304"/>
                      </a:lnTo>
                      <a:lnTo>
                        <a:pt x="269" y="295"/>
                      </a:lnTo>
                      <a:lnTo>
                        <a:pt x="255" y="283"/>
                      </a:lnTo>
                      <a:lnTo>
                        <a:pt x="243" y="272"/>
                      </a:lnTo>
                      <a:lnTo>
                        <a:pt x="230" y="258"/>
                      </a:lnTo>
                      <a:lnTo>
                        <a:pt x="217" y="244"/>
                      </a:lnTo>
                      <a:lnTo>
                        <a:pt x="206" y="230"/>
                      </a:lnTo>
                      <a:lnTo>
                        <a:pt x="194" y="215"/>
                      </a:lnTo>
                      <a:lnTo>
                        <a:pt x="183" y="200"/>
                      </a:lnTo>
                      <a:lnTo>
                        <a:pt x="164" y="200"/>
                      </a:lnTo>
                      <a:lnTo>
                        <a:pt x="145" y="200"/>
                      </a:lnTo>
                      <a:lnTo>
                        <a:pt x="125" y="202"/>
                      </a:lnTo>
                      <a:lnTo>
                        <a:pt x="106" y="200"/>
                      </a:lnTo>
                      <a:lnTo>
                        <a:pt x="87" y="196"/>
                      </a:lnTo>
                      <a:lnTo>
                        <a:pt x="71" y="189"/>
                      </a:lnTo>
                      <a:lnTo>
                        <a:pt x="58" y="177"/>
                      </a:lnTo>
                      <a:lnTo>
                        <a:pt x="48" y="159"/>
                      </a:lnTo>
                      <a:lnTo>
                        <a:pt x="39" y="143"/>
                      </a:lnTo>
                      <a:lnTo>
                        <a:pt x="35" y="125"/>
                      </a:lnTo>
                      <a:lnTo>
                        <a:pt x="35" y="106"/>
                      </a:lnTo>
                      <a:lnTo>
                        <a:pt x="35" y="87"/>
                      </a:lnTo>
                      <a:lnTo>
                        <a:pt x="35" y="69"/>
                      </a:lnTo>
                      <a:lnTo>
                        <a:pt x="31" y="53"/>
                      </a:lnTo>
                      <a:lnTo>
                        <a:pt x="20" y="40"/>
                      </a:lnTo>
                      <a:lnTo>
                        <a:pt x="1" y="31"/>
                      </a:lnTo>
                      <a:lnTo>
                        <a:pt x="1" y="23"/>
                      </a:lnTo>
                      <a:lnTo>
                        <a:pt x="0" y="14"/>
                      </a:lnTo>
                      <a:lnTo>
                        <a:pt x="1" y="6"/>
                      </a:lnTo>
                      <a:lnTo>
                        <a:pt x="7" y="0"/>
                      </a:lnTo>
                      <a:lnTo>
                        <a:pt x="32" y="15"/>
                      </a:lnTo>
                      <a:lnTo>
                        <a:pt x="50" y="36"/>
                      </a:lnTo>
                      <a:lnTo>
                        <a:pt x="63" y="60"/>
                      </a:lnTo>
                      <a:lnTo>
                        <a:pt x="74" y="85"/>
                      </a:lnTo>
                      <a:lnTo>
                        <a:pt x="86" y="109"/>
                      </a:lnTo>
                      <a:lnTo>
                        <a:pt x="102" y="129"/>
                      </a:lnTo>
                      <a:lnTo>
                        <a:pt x="124" y="140"/>
                      </a:lnTo>
                      <a:lnTo>
                        <a:pt x="156" y="143"/>
                      </a:lnTo>
                      <a:lnTo>
                        <a:pt x="174" y="145"/>
                      </a:lnTo>
                      <a:lnTo>
                        <a:pt x="190" y="149"/>
                      </a:lnTo>
                      <a:lnTo>
                        <a:pt x="205" y="152"/>
                      </a:lnTo>
                      <a:lnTo>
                        <a:pt x="219" y="158"/>
                      </a:lnTo>
                      <a:lnTo>
                        <a:pt x="231" y="166"/>
                      </a:lnTo>
                      <a:lnTo>
                        <a:pt x="244" y="176"/>
                      </a:lnTo>
                      <a:lnTo>
                        <a:pt x="255" y="189"/>
                      </a:lnTo>
                      <a:lnTo>
                        <a:pt x="266" y="206"/>
                      </a:lnTo>
                      <a:lnTo>
                        <a:pt x="269" y="220"/>
                      </a:lnTo>
                      <a:lnTo>
                        <a:pt x="276" y="233"/>
                      </a:lnTo>
                      <a:lnTo>
                        <a:pt x="286" y="245"/>
                      </a:lnTo>
                      <a:lnTo>
                        <a:pt x="299" y="256"/>
                      </a:lnTo>
                      <a:lnTo>
                        <a:pt x="313" y="267"/>
                      </a:lnTo>
                      <a:lnTo>
                        <a:pt x="327" y="275"/>
                      </a:lnTo>
                      <a:lnTo>
                        <a:pt x="339" y="283"/>
                      </a:lnTo>
                      <a:lnTo>
                        <a:pt x="352" y="289"/>
                      </a:lnTo>
                      <a:lnTo>
                        <a:pt x="442" y="274"/>
                      </a:lnTo>
                      <a:lnTo>
                        <a:pt x="417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 flipH="1" flipV="1">
                <a:off x="6629400" y="4038480"/>
                <a:ext cx="761760" cy="9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6247800" y="4114440"/>
                <a:ext cx="1752840" cy="533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553080" y="3885840"/>
                <a:ext cx="990720" cy="990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10280" y="3809880"/>
                <a:ext cx="0" cy="12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7010280" y="2209680"/>
              <a:ext cx="18288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238880" y="236232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?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09480" y="5334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 ? calories in c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85800" y="2570040"/>
            <a:ext cx="266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 c = calories in whole c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3581280" y="2514600"/>
                <a:ext cx="4876920" cy="27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762120" y="15238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nalys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6019920" y="4495680"/>
            <a:ext cx="2437920" cy="1447200"/>
            <a:chOff x="6019920" y="4495680"/>
            <a:chExt cx="2437920" cy="1447200"/>
          </a:xfrm>
        </p:grpSpPr>
        <p:sp>
          <p:nvSpPr>
            <p:cNvPr id="846" name=""/>
            <p:cNvSpPr/>
            <p:nvPr/>
          </p:nvSpPr>
          <p:spPr>
            <a:xfrm>
              <a:off x="6019920" y="4941360"/>
              <a:ext cx="2437920" cy="1001520"/>
            </a:xfrm>
            <a:custGeom>
              <a:avLst/>
              <a:gdLst/>
              <a:ahLst/>
              <a:rect l="l" t="t" r="r" b="b"/>
              <a:pathLst>
                <a:path w="1927" h="985">
                  <a:moveTo>
                    <a:pt x="1138" y="977"/>
                  </a:moveTo>
                  <a:lnTo>
                    <a:pt x="1181" y="981"/>
                  </a:lnTo>
                  <a:lnTo>
                    <a:pt x="1222" y="983"/>
                  </a:lnTo>
                  <a:lnTo>
                    <a:pt x="1262" y="984"/>
                  </a:lnTo>
                  <a:lnTo>
                    <a:pt x="1303" y="985"/>
                  </a:lnTo>
                  <a:lnTo>
                    <a:pt x="1342" y="985"/>
                  </a:lnTo>
                  <a:lnTo>
                    <a:pt x="1380" y="984"/>
                  </a:lnTo>
                  <a:lnTo>
                    <a:pt x="1417" y="982"/>
                  </a:lnTo>
                  <a:lnTo>
                    <a:pt x="1454" y="980"/>
                  </a:lnTo>
                  <a:lnTo>
                    <a:pt x="1488" y="976"/>
                  </a:lnTo>
                  <a:lnTo>
                    <a:pt x="1523" y="973"/>
                  </a:lnTo>
                  <a:lnTo>
                    <a:pt x="1556" y="967"/>
                  </a:lnTo>
                  <a:lnTo>
                    <a:pt x="1587" y="961"/>
                  </a:lnTo>
                  <a:lnTo>
                    <a:pt x="1618" y="954"/>
                  </a:lnTo>
                  <a:lnTo>
                    <a:pt x="1648" y="946"/>
                  </a:lnTo>
                  <a:lnTo>
                    <a:pt x="1676" y="938"/>
                  </a:lnTo>
                  <a:lnTo>
                    <a:pt x="1704" y="929"/>
                  </a:lnTo>
                  <a:lnTo>
                    <a:pt x="1729" y="919"/>
                  </a:lnTo>
                  <a:lnTo>
                    <a:pt x="1753" y="907"/>
                  </a:lnTo>
                  <a:lnTo>
                    <a:pt x="1776" y="895"/>
                  </a:lnTo>
                  <a:lnTo>
                    <a:pt x="1797" y="882"/>
                  </a:lnTo>
                  <a:lnTo>
                    <a:pt x="1818" y="868"/>
                  </a:lnTo>
                  <a:lnTo>
                    <a:pt x="1836" y="853"/>
                  </a:lnTo>
                  <a:lnTo>
                    <a:pt x="1852" y="838"/>
                  </a:lnTo>
                  <a:lnTo>
                    <a:pt x="1868" y="821"/>
                  </a:lnTo>
                  <a:lnTo>
                    <a:pt x="1881" y="803"/>
                  </a:lnTo>
                  <a:lnTo>
                    <a:pt x="1894" y="785"/>
                  </a:lnTo>
                  <a:lnTo>
                    <a:pt x="1903" y="765"/>
                  </a:lnTo>
                  <a:lnTo>
                    <a:pt x="1912" y="745"/>
                  </a:lnTo>
                  <a:lnTo>
                    <a:pt x="1919" y="724"/>
                  </a:lnTo>
                  <a:lnTo>
                    <a:pt x="1924" y="701"/>
                  </a:lnTo>
                  <a:lnTo>
                    <a:pt x="1926" y="678"/>
                  </a:lnTo>
                  <a:lnTo>
                    <a:pt x="1927" y="654"/>
                  </a:lnTo>
                  <a:lnTo>
                    <a:pt x="1926" y="628"/>
                  </a:lnTo>
                  <a:lnTo>
                    <a:pt x="1920" y="604"/>
                  </a:lnTo>
                  <a:lnTo>
                    <a:pt x="1912" y="579"/>
                  </a:lnTo>
                  <a:lnTo>
                    <a:pt x="1901" y="553"/>
                  </a:lnTo>
                  <a:lnTo>
                    <a:pt x="1887" y="528"/>
                  </a:lnTo>
                  <a:lnTo>
                    <a:pt x="1870" y="504"/>
                  </a:lnTo>
                  <a:lnTo>
                    <a:pt x="1850" y="478"/>
                  </a:lnTo>
                  <a:lnTo>
                    <a:pt x="1828" y="454"/>
                  </a:lnTo>
                  <a:lnTo>
                    <a:pt x="1804" y="429"/>
                  </a:lnTo>
                  <a:lnTo>
                    <a:pt x="1777" y="405"/>
                  </a:lnTo>
                  <a:lnTo>
                    <a:pt x="1747" y="381"/>
                  </a:lnTo>
                  <a:lnTo>
                    <a:pt x="1716" y="358"/>
                  </a:lnTo>
                  <a:lnTo>
                    <a:pt x="1684" y="335"/>
                  </a:lnTo>
                  <a:lnTo>
                    <a:pt x="1648" y="311"/>
                  </a:lnTo>
                  <a:lnTo>
                    <a:pt x="1613" y="290"/>
                  </a:lnTo>
                  <a:lnTo>
                    <a:pt x="1575" y="268"/>
                  </a:lnTo>
                  <a:lnTo>
                    <a:pt x="1534" y="246"/>
                  </a:lnTo>
                  <a:lnTo>
                    <a:pt x="1494" y="226"/>
                  </a:lnTo>
                  <a:lnTo>
                    <a:pt x="1453" y="205"/>
                  </a:lnTo>
                  <a:lnTo>
                    <a:pt x="1409" y="187"/>
                  </a:lnTo>
                  <a:lnTo>
                    <a:pt x="1365" y="169"/>
                  </a:lnTo>
                  <a:lnTo>
                    <a:pt x="1320" y="151"/>
                  </a:lnTo>
                  <a:lnTo>
                    <a:pt x="1275" y="134"/>
                  </a:lnTo>
                  <a:lnTo>
                    <a:pt x="1229" y="118"/>
                  </a:lnTo>
                  <a:lnTo>
                    <a:pt x="1183" y="103"/>
                  </a:lnTo>
                  <a:lnTo>
                    <a:pt x="1136" y="89"/>
                  </a:lnTo>
                  <a:lnTo>
                    <a:pt x="1090" y="76"/>
                  </a:lnTo>
                  <a:lnTo>
                    <a:pt x="1042" y="65"/>
                  </a:lnTo>
                  <a:lnTo>
                    <a:pt x="995" y="55"/>
                  </a:lnTo>
                  <a:lnTo>
                    <a:pt x="949" y="44"/>
                  </a:lnTo>
                  <a:lnTo>
                    <a:pt x="903" y="36"/>
                  </a:lnTo>
                  <a:lnTo>
                    <a:pt x="857" y="29"/>
                  </a:lnTo>
                  <a:lnTo>
                    <a:pt x="814" y="23"/>
                  </a:lnTo>
                  <a:lnTo>
                    <a:pt x="773" y="19"/>
                  </a:lnTo>
                  <a:lnTo>
                    <a:pt x="731" y="14"/>
                  </a:lnTo>
                  <a:lnTo>
                    <a:pt x="690" y="10"/>
                  </a:lnTo>
                  <a:lnTo>
                    <a:pt x="649" y="6"/>
                  </a:lnTo>
                  <a:lnTo>
                    <a:pt x="609" y="4"/>
                  </a:lnTo>
                  <a:lnTo>
                    <a:pt x="570" y="2"/>
                  </a:lnTo>
                  <a:lnTo>
                    <a:pt x="532" y="0"/>
                  </a:lnTo>
                  <a:lnTo>
                    <a:pt x="494" y="0"/>
                  </a:lnTo>
                  <a:lnTo>
                    <a:pt x="457" y="0"/>
                  </a:lnTo>
                  <a:lnTo>
                    <a:pt x="421" y="2"/>
                  </a:lnTo>
                  <a:lnTo>
                    <a:pt x="387" y="4"/>
                  </a:lnTo>
                  <a:lnTo>
                    <a:pt x="353" y="6"/>
                  </a:lnTo>
                  <a:lnTo>
                    <a:pt x="320" y="10"/>
                  </a:lnTo>
                  <a:lnTo>
                    <a:pt x="289" y="14"/>
                  </a:lnTo>
                  <a:lnTo>
                    <a:pt x="259" y="20"/>
                  </a:lnTo>
                  <a:lnTo>
                    <a:pt x="230" y="26"/>
                  </a:lnTo>
                  <a:lnTo>
                    <a:pt x="202" y="34"/>
                  </a:lnTo>
                  <a:lnTo>
                    <a:pt x="176" y="42"/>
                  </a:lnTo>
                  <a:lnTo>
                    <a:pt x="152" y="51"/>
                  </a:lnTo>
                  <a:lnTo>
                    <a:pt x="129" y="62"/>
                  </a:lnTo>
                  <a:lnTo>
                    <a:pt x="107" y="73"/>
                  </a:lnTo>
                  <a:lnTo>
                    <a:pt x="87" y="86"/>
                  </a:lnTo>
                  <a:lnTo>
                    <a:pt x="70" y="100"/>
                  </a:lnTo>
                  <a:lnTo>
                    <a:pt x="54" y="116"/>
                  </a:lnTo>
                  <a:lnTo>
                    <a:pt x="40" y="132"/>
                  </a:lnTo>
                  <a:lnTo>
                    <a:pt x="28" y="149"/>
                  </a:lnTo>
                  <a:lnTo>
                    <a:pt x="18" y="167"/>
                  </a:lnTo>
                  <a:lnTo>
                    <a:pt x="10" y="188"/>
                  </a:lnTo>
                  <a:lnTo>
                    <a:pt x="4" y="209"/>
                  </a:lnTo>
                  <a:lnTo>
                    <a:pt x="1" y="232"/>
                  </a:lnTo>
                  <a:lnTo>
                    <a:pt x="0" y="256"/>
                  </a:lnTo>
                  <a:lnTo>
                    <a:pt x="1" y="282"/>
                  </a:lnTo>
                  <a:lnTo>
                    <a:pt x="3" y="307"/>
                  </a:lnTo>
                  <a:lnTo>
                    <a:pt x="9" y="333"/>
                  </a:lnTo>
                  <a:lnTo>
                    <a:pt x="15" y="361"/>
                  </a:lnTo>
                  <a:lnTo>
                    <a:pt x="24" y="387"/>
                  </a:lnTo>
                  <a:lnTo>
                    <a:pt x="35" y="415"/>
                  </a:lnTo>
                  <a:lnTo>
                    <a:pt x="48" y="443"/>
                  </a:lnTo>
                  <a:lnTo>
                    <a:pt x="63" y="472"/>
                  </a:lnTo>
                  <a:lnTo>
                    <a:pt x="80" y="499"/>
                  </a:lnTo>
                  <a:lnTo>
                    <a:pt x="100" y="527"/>
                  </a:lnTo>
                  <a:lnTo>
                    <a:pt x="121" y="555"/>
                  </a:lnTo>
                  <a:lnTo>
                    <a:pt x="145" y="583"/>
                  </a:lnTo>
                  <a:lnTo>
                    <a:pt x="171" y="610"/>
                  </a:lnTo>
                  <a:lnTo>
                    <a:pt x="199" y="637"/>
                  </a:lnTo>
                  <a:lnTo>
                    <a:pt x="230" y="664"/>
                  </a:lnTo>
                  <a:lnTo>
                    <a:pt x="264" y="690"/>
                  </a:lnTo>
                  <a:lnTo>
                    <a:pt x="298" y="716"/>
                  </a:lnTo>
                  <a:lnTo>
                    <a:pt x="336" y="741"/>
                  </a:lnTo>
                  <a:lnTo>
                    <a:pt x="376" y="765"/>
                  </a:lnTo>
                  <a:lnTo>
                    <a:pt x="419" y="790"/>
                  </a:lnTo>
                  <a:lnTo>
                    <a:pt x="465" y="811"/>
                  </a:lnTo>
                  <a:lnTo>
                    <a:pt x="512" y="833"/>
                  </a:lnTo>
                  <a:lnTo>
                    <a:pt x="563" y="854"/>
                  </a:lnTo>
                  <a:lnTo>
                    <a:pt x="616" y="874"/>
                  </a:lnTo>
                  <a:lnTo>
                    <a:pt x="671" y="891"/>
                  </a:lnTo>
                  <a:lnTo>
                    <a:pt x="730" y="908"/>
                  </a:lnTo>
                  <a:lnTo>
                    <a:pt x="791" y="923"/>
                  </a:lnTo>
                  <a:lnTo>
                    <a:pt x="855" y="938"/>
                  </a:lnTo>
                  <a:lnTo>
                    <a:pt x="921" y="950"/>
                  </a:lnTo>
                  <a:lnTo>
                    <a:pt x="991" y="961"/>
                  </a:lnTo>
                  <a:lnTo>
                    <a:pt x="1063" y="970"/>
                  </a:lnTo>
                  <a:lnTo>
                    <a:pt x="1138" y="977"/>
                  </a:lnTo>
                  <a:close/>
                </a:path>
              </a:pathLst>
            </a:custGeom>
            <a:solidFill>
              <a:srgbClr val="9eff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710400" y="4501440"/>
              <a:ext cx="1644120" cy="1134000"/>
            </a:xfrm>
            <a:custGeom>
              <a:avLst/>
              <a:gdLst/>
              <a:ahLst/>
              <a:rect l="l" t="t" r="r" b="b"/>
              <a:pathLst>
                <a:path w="1298" h="1112">
                  <a:moveTo>
                    <a:pt x="0" y="151"/>
                  </a:moveTo>
                  <a:lnTo>
                    <a:pt x="2" y="142"/>
                  </a:lnTo>
                  <a:lnTo>
                    <a:pt x="11" y="136"/>
                  </a:lnTo>
                  <a:lnTo>
                    <a:pt x="24" y="128"/>
                  </a:lnTo>
                  <a:lnTo>
                    <a:pt x="42" y="119"/>
                  </a:lnTo>
                  <a:lnTo>
                    <a:pt x="64" y="111"/>
                  </a:lnTo>
                  <a:lnTo>
                    <a:pt x="91" y="103"/>
                  </a:lnTo>
                  <a:lnTo>
                    <a:pt x="122" y="95"/>
                  </a:lnTo>
                  <a:lnTo>
                    <a:pt x="155" y="87"/>
                  </a:lnTo>
                  <a:lnTo>
                    <a:pt x="193" y="79"/>
                  </a:lnTo>
                  <a:lnTo>
                    <a:pt x="233" y="72"/>
                  </a:lnTo>
                  <a:lnTo>
                    <a:pt x="275" y="64"/>
                  </a:lnTo>
                  <a:lnTo>
                    <a:pt x="320" y="57"/>
                  </a:lnTo>
                  <a:lnTo>
                    <a:pt x="366" y="50"/>
                  </a:lnTo>
                  <a:lnTo>
                    <a:pt x="415" y="43"/>
                  </a:lnTo>
                  <a:lnTo>
                    <a:pt x="464" y="37"/>
                  </a:lnTo>
                  <a:lnTo>
                    <a:pt x="515" y="31"/>
                  </a:lnTo>
                  <a:lnTo>
                    <a:pt x="566" y="25"/>
                  </a:lnTo>
                  <a:lnTo>
                    <a:pt x="616" y="20"/>
                  </a:lnTo>
                  <a:lnTo>
                    <a:pt x="668" y="16"/>
                  </a:lnTo>
                  <a:lnTo>
                    <a:pt x="719" y="11"/>
                  </a:lnTo>
                  <a:lnTo>
                    <a:pt x="769" y="8"/>
                  </a:lnTo>
                  <a:lnTo>
                    <a:pt x="818" y="4"/>
                  </a:lnTo>
                  <a:lnTo>
                    <a:pt x="866" y="2"/>
                  </a:lnTo>
                  <a:lnTo>
                    <a:pt x="912" y="1"/>
                  </a:lnTo>
                  <a:lnTo>
                    <a:pt x="957" y="0"/>
                  </a:lnTo>
                  <a:lnTo>
                    <a:pt x="999" y="0"/>
                  </a:lnTo>
                  <a:lnTo>
                    <a:pt x="1039" y="1"/>
                  </a:lnTo>
                  <a:lnTo>
                    <a:pt x="1075" y="2"/>
                  </a:lnTo>
                  <a:lnTo>
                    <a:pt x="1108" y="4"/>
                  </a:lnTo>
                  <a:lnTo>
                    <a:pt x="1138" y="8"/>
                  </a:lnTo>
                  <a:lnTo>
                    <a:pt x="1165" y="12"/>
                  </a:lnTo>
                  <a:lnTo>
                    <a:pt x="1187" y="18"/>
                  </a:lnTo>
                  <a:lnTo>
                    <a:pt x="1229" y="41"/>
                  </a:lnTo>
                  <a:lnTo>
                    <a:pt x="1260" y="78"/>
                  </a:lnTo>
                  <a:lnTo>
                    <a:pt x="1282" y="129"/>
                  </a:lnTo>
                  <a:lnTo>
                    <a:pt x="1294" y="189"/>
                  </a:lnTo>
                  <a:lnTo>
                    <a:pt x="1298" y="257"/>
                  </a:lnTo>
                  <a:lnTo>
                    <a:pt x="1296" y="329"/>
                  </a:lnTo>
                  <a:lnTo>
                    <a:pt x="1289" y="406"/>
                  </a:lnTo>
                  <a:lnTo>
                    <a:pt x="1278" y="485"/>
                  </a:lnTo>
                  <a:lnTo>
                    <a:pt x="1263" y="563"/>
                  </a:lnTo>
                  <a:lnTo>
                    <a:pt x="1246" y="637"/>
                  </a:lnTo>
                  <a:lnTo>
                    <a:pt x="1229" y="706"/>
                  </a:lnTo>
                  <a:lnTo>
                    <a:pt x="1212" y="767"/>
                  </a:lnTo>
                  <a:lnTo>
                    <a:pt x="1197" y="819"/>
                  </a:lnTo>
                  <a:lnTo>
                    <a:pt x="1185" y="858"/>
                  </a:lnTo>
                  <a:lnTo>
                    <a:pt x="1177" y="883"/>
                  </a:lnTo>
                  <a:lnTo>
                    <a:pt x="1174" y="892"/>
                  </a:lnTo>
                  <a:lnTo>
                    <a:pt x="848" y="1112"/>
                  </a:lnTo>
                  <a:lnTo>
                    <a:pt x="1003" y="435"/>
                  </a:lnTo>
                  <a:lnTo>
                    <a:pt x="1001" y="434"/>
                  </a:lnTo>
                  <a:lnTo>
                    <a:pt x="992" y="433"/>
                  </a:lnTo>
                  <a:lnTo>
                    <a:pt x="978" y="429"/>
                  </a:lnTo>
                  <a:lnTo>
                    <a:pt x="961" y="425"/>
                  </a:lnTo>
                  <a:lnTo>
                    <a:pt x="938" y="420"/>
                  </a:lnTo>
                  <a:lnTo>
                    <a:pt x="911" y="414"/>
                  </a:lnTo>
                  <a:lnTo>
                    <a:pt x="880" y="406"/>
                  </a:lnTo>
                  <a:lnTo>
                    <a:pt x="847" y="399"/>
                  </a:lnTo>
                  <a:lnTo>
                    <a:pt x="810" y="390"/>
                  </a:lnTo>
                  <a:lnTo>
                    <a:pt x="771" y="381"/>
                  </a:lnTo>
                  <a:lnTo>
                    <a:pt x="729" y="371"/>
                  </a:lnTo>
                  <a:lnTo>
                    <a:pt x="685" y="360"/>
                  </a:lnTo>
                  <a:lnTo>
                    <a:pt x="642" y="350"/>
                  </a:lnTo>
                  <a:lnTo>
                    <a:pt x="595" y="338"/>
                  </a:lnTo>
                  <a:lnTo>
                    <a:pt x="548" y="327"/>
                  </a:lnTo>
                  <a:lnTo>
                    <a:pt x="502" y="315"/>
                  </a:lnTo>
                  <a:lnTo>
                    <a:pt x="455" y="303"/>
                  </a:lnTo>
                  <a:lnTo>
                    <a:pt x="408" y="291"/>
                  </a:lnTo>
                  <a:lnTo>
                    <a:pt x="362" y="278"/>
                  </a:lnTo>
                  <a:lnTo>
                    <a:pt x="318" y="267"/>
                  </a:lnTo>
                  <a:lnTo>
                    <a:pt x="274" y="254"/>
                  </a:lnTo>
                  <a:lnTo>
                    <a:pt x="233" y="243"/>
                  </a:lnTo>
                  <a:lnTo>
                    <a:pt x="193" y="231"/>
                  </a:lnTo>
                  <a:lnTo>
                    <a:pt x="156" y="220"/>
                  </a:lnTo>
                  <a:lnTo>
                    <a:pt x="123" y="209"/>
                  </a:lnTo>
                  <a:lnTo>
                    <a:pt x="92" y="199"/>
                  </a:lnTo>
                  <a:lnTo>
                    <a:pt x="65" y="189"/>
                  </a:lnTo>
                  <a:lnTo>
                    <a:pt x="42" y="179"/>
                  </a:lnTo>
                  <a:lnTo>
                    <a:pt x="25" y="171"/>
                  </a:lnTo>
                  <a:lnTo>
                    <a:pt x="11" y="163"/>
                  </a:lnTo>
                  <a:lnTo>
                    <a:pt x="2" y="15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4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96640" y="4650120"/>
              <a:ext cx="1456560" cy="993240"/>
            </a:xfrm>
            <a:custGeom>
              <a:avLst/>
              <a:gdLst/>
              <a:ahLst/>
              <a:rect l="l" t="t" r="r" b="b"/>
              <a:pathLst>
                <a:path w="1152" h="976">
                  <a:moveTo>
                    <a:pt x="129" y="0"/>
                  </a:moveTo>
                  <a:lnTo>
                    <a:pt x="0" y="569"/>
                  </a:lnTo>
                  <a:lnTo>
                    <a:pt x="928" y="976"/>
                  </a:lnTo>
                  <a:lnTo>
                    <a:pt x="1152" y="30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7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67800" y="4976280"/>
              <a:ext cx="2356920" cy="938520"/>
            </a:xfrm>
            <a:custGeom>
              <a:avLst/>
              <a:gdLst/>
              <a:ahLst/>
              <a:rect l="l" t="t" r="r" b="b"/>
              <a:pathLst>
                <a:path w="1863" h="922">
                  <a:moveTo>
                    <a:pt x="1692" y="825"/>
                  </a:moveTo>
                  <a:lnTo>
                    <a:pt x="1646" y="843"/>
                  </a:lnTo>
                  <a:lnTo>
                    <a:pt x="1600" y="859"/>
                  </a:lnTo>
                  <a:lnTo>
                    <a:pt x="1554" y="873"/>
                  </a:lnTo>
                  <a:lnTo>
                    <a:pt x="1507" y="886"/>
                  </a:lnTo>
                  <a:lnTo>
                    <a:pt x="1458" y="896"/>
                  </a:lnTo>
                  <a:lnTo>
                    <a:pt x="1411" y="905"/>
                  </a:lnTo>
                  <a:lnTo>
                    <a:pt x="1363" y="911"/>
                  </a:lnTo>
                  <a:lnTo>
                    <a:pt x="1314" y="917"/>
                  </a:lnTo>
                  <a:lnTo>
                    <a:pt x="1266" y="919"/>
                  </a:lnTo>
                  <a:lnTo>
                    <a:pt x="1216" y="922"/>
                  </a:lnTo>
                  <a:lnTo>
                    <a:pt x="1168" y="920"/>
                  </a:lnTo>
                  <a:lnTo>
                    <a:pt x="1120" y="919"/>
                  </a:lnTo>
                  <a:lnTo>
                    <a:pt x="1070" y="916"/>
                  </a:lnTo>
                  <a:lnTo>
                    <a:pt x="1022" y="911"/>
                  </a:lnTo>
                  <a:lnTo>
                    <a:pt x="972" y="904"/>
                  </a:lnTo>
                  <a:lnTo>
                    <a:pt x="924" y="896"/>
                  </a:lnTo>
                  <a:lnTo>
                    <a:pt x="875" y="887"/>
                  </a:lnTo>
                  <a:lnTo>
                    <a:pt x="828" y="877"/>
                  </a:lnTo>
                  <a:lnTo>
                    <a:pt x="780" y="865"/>
                  </a:lnTo>
                  <a:lnTo>
                    <a:pt x="732" y="851"/>
                  </a:lnTo>
                  <a:lnTo>
                    <a:pt x="685" y="837"/>
                  </a:lnTo>
                  <a:lnTo>
                    <a:pt x="639" y="821"/>
                  </a:lnTo>
                  <a:lnTo>
                    <a:pt x="593" y="805"/>
                  </a:lnTo>
                  <a:lnTo>
                    <a:pt x="548" y="787"/>
                  </a:lnTo>
                  <a:lnTo>
                    <a:pt x="503" y="767"/>
                  </a:lnTo>
                  <a:lnTo>
                    <a:pt x="459" y="748"/>
                  </a:lnTo>
                  <a:lnTo>
                    <a:pt x="416" y="727"/>
                  </a:lnTo>
                  <a:lnTo>
                    <a:pt x="374" y="705"/>
                  </a:lnTo>
                  <a:lnTo>
                    <a:pt x="332" y="682"/>
                  </a:lnTo>
                  <a:lnTo>
                    <a:pt x="291" y="658"/>
                  </a:lnTo>
                  <a:lnTo>
                    <a:pt x="252" y="634"/>
                  </a:lnTo>
                  <a:lnTo>
                    <a:pt x="213" y="608"/>
                  </a:lnTo>
                  <a:lnTo>
                    <a:pt x="192" y="592"/>
                  </a:lnTo>
                  <a:lnTo>
                    <a:pt x="171" y="575"/>
                  </a:lnTo>
                  <a:lnTo>
                    <a:pt x="154" y="558"/>
                  </a:lnTo>
                  <a:lnTo>
                    <a:pt x="137" y="540"/>
                  </a:lnTo>
                  <a:lnTo>
                    <a:pt x="121" y="523"/>
                  </a:lnTo>
                  <a:lnTo>
                    <a:pt x="106" y="506"/>
                  </a:lnTo>
                  <a:lnTo>
                    <a:pt x="93" y="487"/>
                  </a:lnTo>
                  <a:lnTo>
                    <a:pt x="80" y="469"/>
                  </a:lnTo>
                  <a:lnTo>
                    <a:pt x="69" y="450"/>
                  </a:lnTo>
                  <a:lnTo>
                    <a:pt x="57" y="431"/>
                  </a:lnTo>
                  <a:lnTo>
                    <a:pt x="48" y="412"/>
                  </a:lnTo>
                  <a:lnTo>
                    <a:pt x="39" y="393"/>
                  </a:lnTo>
                  <a:lnTo>
                    <a:pt x="30" y="373"/>
                  </a:lnTo>
                  <a:lnTo>
                    <a:pt x="22" y="352"/>
                  </a:lnTo>
                  <a:lnTo>
                    <a:pt x="14" y="333"/>
                  </a:lnTo>
                  <a:lnTo>
                    <a:pt x="5" y="312"/>
                  </a:lnTo>
                  <a:lnTo>
                    <a:pt x="2" y="270"/>
                  </a:lnTo>
                  <a:lnTo>
                    <a:pt x="0" y="227"/>
                  </a:lnTo>
                  <a:lnTo>
                    <a:pt x="2" y="183"/>
                  </a:lnTo>
                  <a:lnTo>
                    <a:pt x="15" y="142"/>
                  </a:lnTo>
                  <a:lnTo>
                    <a:pt x="25" y="120"/>
                  </a:lnTo>
                  <a:lnTo>
                    <a:pt x="38" y="100"/>
                  </a:lnTo>
                  <a:lnTo>
                    <a:pt x="54" y="82"/>
                  </a:lnTo>
                  <a:lnTo>
                    <a:pt x="71" y="67"/>
                  </a:lnTo>
                  <a:lnTo>
                    <a:pt x="90" y="53"/>
                  </a:lnTo>
                  <a:lnTo>
                    <a:pt x="111" y="41"/>
                  </a:lnTo>
                  <a:lnTo>
                    <a:pt x="135" y="31"/>
                  </a:lnTo>
                  <a:lnTo>
                    <a:pt x="160" y="23"/>
                  </a:lnTo>
                  <a:lnTo>
                    <a:pt x="188" y="16"/>
                  </a:lnTo>
                  <a:lnTo>
                    <a:pt x="216" y="10"/>
                  </a:lnTo>
                  <a:lnTo>
                    <a:pt x="247" y="6"/>
                  </a:lnTo>
                  <a:lnTo>
                    <a:pt x="281" y="3"/>
                  </a:lnTo>
                  <a:lnTo>
                    <a:pt x="315" y="1"/>
                  </a:lnTo>
                  <a:lnTo>
                    <a:pt x="351" y="0"/>
                  </a:lnTo>
                  <a:lnTo>
                    <a:pt x="389" y="0"/>
                  </a:lnTo>
                  <a:lnTo>
                    <a:pt x="428" y="0"/>
                  </a:lnTo>
                  <a:lnTo>
                    <a:pt x="431" y="3"/>
                  </a:lnTo>
                  <a:lnTo>
                    <a:pt x="433" y="13"/>
                  </a:lnTo>
                  <a:lnTo>
                    <a:pt x="428" y="24"/>
                  </a:lnTo>
                  <a:lnTo>
                    <a:pt x="413" y="35"/>
                  </a:lnTo>
                  <a:lnTo>
                    <a:pt x="371" y="36"/>
                  </a:lnTo>
                  <a:lnTo>
                    <a:pt x="332" y="37"/>
                  </a:lnTo>
                  <a:lnTo>
                    <a:pt x="295" y="40"/>
                  </a:lnTo>
                  <a:lnTo>
                    <a:pt x="261" y="46"/>
                  </a:lnTo>
                  <a:lnTo>
                    <a:pt x="231" y="52"/>
                  </a:lnTo>
                  <a:lnTo>
                    <a:pt x="204" y="60"/>
                  </a:lnTo>
                  <a:lnTo>
                    <a:pt x="178" y="70"/>
                  </a:lnTo>
                  <a:lnTo>
                    <a:pt x="156" y="82"/>
                  </a:lnTo>
                  <a:lnTo>
                    <a:pt x="137" y="96"/>
                  </a:lnTo>
                  <a:lnTo>
                    <a:pt x="120" y="112"/>
                  </a:lnTo>
                  <a:lnTo>
                    <a:pt x="106" y="130"/>
                  </a:lnTo>
                  <a:lnTo>
                    <a:pt x="93" y="151"/>
                  </a:lnTo>
                  <a:lnTo>
                    <a:pt x="84" y="174"/>
                  </a:lnTo>
                  <a:lnTo>
                    <a:pt x="76" y="199"/>
                  </a:lnTo>
                  <a:lnTo>
                    <a:pt x="71" y="228"/>
                  </a:lnTo>
                  <a:lnTo>
                    <a:pt x="68" y="259"/>
                  </a:lnTo>
                  <a:lnTo>
                    <a:pt x="72" y="304"/>
                  </a:lnTo>
                  <a:lnTo>
                    <a:pt x="83" y="346"/>
                  </a:lnTo>
                  <a:lnTo>
                    <a:pt x="96" y="382"/>
                  </a:lnTo>
                  <a:lnTo>
                    <a:pt x="116" y="416"/>
                  </a:lnTo>
                  <a:lnTo>
                    <a:pt x="140" y="447"/>
                  </a:lnTo>
                  <a:lnTo>
                    <a:pt x="168" y="477"/>
                  </a:lnTo>
                  <a:lnTo>
                    <a:pt x="200" y="505"/>
                  </a:lnTo>
                  <a:lnTo>
                    <a:pt x="237" y="531"/>
                  </a:lnTo>
                  <a:lnTo>
                    <a:pt x="239" y="532"/>
                  </a:lnTo>
                  <a:lnTo>
                    <a:pt x="246" y="537"/>
                  </a:lnTo>
                  <a:lnTo>
                    <a:pt x="257" y="545"/>
                  </a:lnTo>
                  <a:lnTo>
                    <a:pt x="272" y="554"/>
                  </a:lnTo>
                  <a:lnTo>
                    <a:pt x="290" y="566"/>
                  </a:lnTo>
                  <a:lnTo>
                    <a:pt x="312" y="579"/>
                  </a:lnTo>
                  <a:lnTo>
                    <a:pt x="336" y="594"/>
                  </a:lnTo>
                  <a:lnTo>
                    <a:pt x="364" y="611"/>
                  </a:lnTo>
                  <a:lnTo>
                    <a:pt x="394" y="629"/>
                  </a:lnTo>
                  <a:lnTo>
                    <a:pt x="426" y="646"/>
                  </a:lnTo>
                  <a:lnTo>
                    <a:pt x="461" y="665"/>
                  </a:lnTo>
                  <a:lnTo>
                    <a:pt x="495" y="683"/>
                  </a:lnTo>
                  <a:lnTo>
                    <a:pt x="532" y="702"/>
                  </a:lnTo>
                  <a:lnTo>
                    <a:pt x="570" y="720"/>
                  </a:lnTo>
                  <a:lnTo>
                    <a:pt x="609" y="737"/>
                  </a:lnTo>
                  <a:lnTo>
                    <a:pt x="648" y="753"/>
                  </a:lnTo>
                  <a:lnTo>
                    <a:pt x="683" y="765"/>
                  </a:lnTo>
                  <a:lnTo>
                    <a:pt x="719" y="776"/>
                  </a:lnTo>
                  <a:lnTo>
                    <a:pt x="754" y="788"/>
                  </a:lnTo>
                  <a:lnTo>
                    <a:pt x="790" y="798"/>
                  </a:lnTo>
                  <a:lnTo>
                    <a:pt x="827" y="807"/>
                  </a:lnTo>
                  <a:lnTo>
                    <a:pt x="864" y="817"/>
                  </a:lnTo>
                  <a:lnTo>
                    <a:pt x="901" y="826"/>
                  </a:lnTo>
                  <a:lnTo>
                    <a:pt x="938" y="834"/>
                  </a:lnTo>
                  <a:lnTo>
                    <a:pt x="976" y="841"/>
                  </a:lnTo>
                  <a:lnTo>
                    <a:pt x="1012" y="848"/>
                  </a:lnTo>
                  <a:lnTo>
                    <a:pt x="1050" y="854"/>
                  </a:lnTo>
                  <a:lnTo>
                    <a:pt x="1088" y="858"/>
                  </a:lnTo>
                  <a:lnTo>
                    <a:pt x="1125" y="863"/>
                  </a:lnTo>
                  <a:lnTo>
                    <a:pt x="1163" y="865"/>
                  </a:lnTo>
                  <a:lnTo>
                    <a:pt x="1200" y="867"/>
                  </a:lnTo>
                  <a:lnTo>
                    <a:pt x="1237" y="867"/>
                  </a:lnTo>
                  <a:lnTo>
                    <a:pt x="1274" y="867"/>
                  </a:lnTo>
                  <a:lnTo>
                    <a:pt x="1311" y="866"/>
                  </a:lnTo>
                  <a:lnTo>
                    <a:pt x="1348" y="863"/>
                  </a:lnTo>
                  <a:lnTo>
                    <a:pt x="1383" y="859"/>
                  </a:lnTo>
                  <a:lnTo>
                    <a:pt x="1419" y="854"/>
                  </a:lnTo>
                  <a:lnTo>
                    <a:pt x="1455" y="847"/>
                  </a:lnTo>
                  <a:lnTo>
                    <a:pt x="1489" y="837"/>
                  </a:lnTo>
                  <a:lnTo>
                    <a:pt x="1523" y="828"/>
                  </a:lnTo>
                  <a:lnTo>
                    <a:pt x="1556" y="817"/>
                  </a:lnTo>
                  <a:lnTo>
                    <a:pt x="1590" y="803"/>
                  </a:lnTo>
                  <a:lnTo>
                    <a:pt x="1622" y="789"/>
                  </a:lnTo>
                  <a:lnTo>
                    <a:pt x="1653" y="772"/>
                  </a:lnTo>
                  <a:lnTo>
                    <a:pt x="1684" y="753"/>
                  </a:lnTo>
                  <a:lnTo>
                    <a:pt x="1714" y="734"/>
                  </a:lnTo>
                  <a:lnTo>
                    <a:pt x="1743" y="712"/>
                  </a:lnTo>
                  <a:lnTo>
                    <a:pt x="1771" y="688"/>
                  </a:lnTo>
                  <a:lnTo>
                    <a:pt x="1787" y="669"/>
                  </a:lnTo>
                  <a:lnTo>
                    <a:pt x="1798" y="646"/>
                  </a:lnTo>
                  <a:lnTo>
                    <a:pt x="1804" y="619"/>
                  </a:lnTo>
                  <a:lnTo>
                    <a:pt x="1803" y="586"/>
                  </a:lnTo>
                  <a:lnTo>
                    <a:pt x="1791" y="551"/>
                  </a:lnTo>
                  <a:lnTo>
                    <a:pt x="1772" y="510"/>
                  </a:lnTo>
                  <a:lnTo>
                    <a:pt x="1739" y="464"/>
                  </a:lnTo>
                  <a:lnTo>
                    <a:pt x="1696" y="414"/>
                  </a:lnTo>
                  <a:lnTo>
                    <a:pt x="1701" y="410"/>
                  </a:lnTo>
                  <a:lnTo>
                    <a:pt x="1707" y="409"/>
                  </a:lnTo>
                  <a:lnTo>
                    <a:pt x="1714" y="410"/>
                  </a:lnTo>
                  <a:lnTo>
                    <a:pt x="1720" y="412"/>
                  </a:lnTo>
                  <a:lnTo>
                    <a:pt x="1726" y="416"/>
                  </a:lnTo>
                  <a:lnTo>
                    <a:pt x="1731" y="420"/>
                  </a:lnTo>
                  <a:lnTo>
                    <a:pt x="1737" y="426"/>
                  </a:lnTo>
                  <a:lnTo>
                    <a:pt x="1743" y="432"/>
                  </a:lnTo>
                  <a:lnTo>
                    <a:pt x="1764" y="449"/>
                  </a:lnTo>
                  <a:lnTo>
                    <a:pt x="1782" y="467"/>
                  </a:lnTo>
                  <a:lnTo>
                    <a:pt x="1799" y="485"/>
                  </a:lnTo>
                  <a:lnTo>
                    <a:pt x="1815" y="505"/>
                  </a:lnTo>
                  <a:lnTo>
                    <a:pt x="1829" y="524"/>
                  </a:lnTo>
                  <a:lnTo>
                    <a:pt x="1842" y="544"/>
                  </a:lnTo>
                  <a:lnTo>
                    <a:pt x="1854" y="564"/>
                  </a:lnTo>
                  <a:lnTo>
                    <a:pt x="1863" y="586"/>
                  </a:lnTo>
                  <a:lnTo>
                    <a:pt x="1858" y="624"/>
                  </a:lnTo>
                  <a:lnTo>
                    <a:pt x="1847" y="661"/>
                  </a:lnTo>
                  <a:lnTo>
                    <a:pt x="1830" y="696"/>
                  </a:lnTo>
                  <a:lnTo>
                    <a:pt x="1811" y="728"/>
                  </a:lnTo>
                  <a:lnTo>
                    <a:pt x="1786" y="757"/>
                  </a:lnTo>
                  <a:lnTo>
                    <a:pt x="1758" y="783"/>
                  </a:lnTo>
                  <a:lnTo>
                    <a:pt x="1726" y="806"/>
                  </a:lnTo>
                  <a:lnTo>
                    <a:pt x="1692" y="8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23520" y="4542480"/>
              <a:ext cx="553320" cy="1103400"/>
            </a:xfrm>
            <a:custGeom>
              <a:avLst/>
              <a:gdLst/>
              <a:ahLst/>
              <a:rect l="l" t="t" r="r" b="b"/>
              <a:pathLst>
                <a:path w="438" h="1084">
                  <a:moveTo>
                    <a:pt x="364" y="629"/>
                  </a:moveTo>
                  <a:lnTo>
                    <a:pt x="364" y="670"/>
                  </a:lnTo>
                  <a:lnTo>
                    <a:pt x="364" y="711"/>
                  </a:lnTo>
                  <a:lnTo>
                    <a:pt x="363" y="749"/>
                  </a:lnTo>
                  <a:lnTo>
                    <a:pt x="357" y="785"/>
                  </a:lnTo>
                  <a:lnTo>
                    <a:pt x="346" y="822"/>
                  </a:lnTo>
                  <a:lnTo>
                    <a:pt x="326" y="859"/>
                  </a:lnTo>
                  <a:lnTo>
                    <a:pt x="296" y="897"/>
                  </a:lnTo>
                  <a:lnTo>
                    <a:pt x="253" y="935"/>
                  </a:lnTo>
                  <a:lnTo>
                    <a:pt x="245" y="946"/>
                  </a:lnTo>
                  <a:lnTo>
                    <a:pt x="235" y="956"/>
                  </a:lnTo>
                  <a:lnTo>
                    <a:pt x="222" y="967"/>
                  </a:lnTo>
                  <a:lnTo>
                    <a:pt x="207" y="978"/>
                  </a:lnTo>
                  <a:lnTo>
                    <a:pt x="191" y="989"/>
                  </a:lnTo>
                  <a:lnTo>
                    <a:pt x="174" y="1000"/>
                  </a:lnTo>
                  <a:lnTo>
                    <a:pt x="154" y="1010"/>
                  </a:lnTo>
                  <a:lnTo>
                    <a:pt x="136" y="1020"/>
                  </a:lnTo>
                  <a:lnTo>
                    <a:pt x="115" y="1031"/>
                  </a:lnTo>
                  <a:lnTo>
                    <a:pt x="96" y="1040"/>
                  </a:lnTo>
                  <a:lnTo>
                    <a:pt x="77" y="1049"/>
                  </a:lnTo>
                  <a:lnTo>
                    <a:pt x="59" y="1057"/>
                  </a:lnTo>
                  <a:lnTo>
                    <a:pt x="41" y="1065"/>
                  </a:lnTo>
                  <a:lnTo>
                    <a:pt x="25" y="1072"/>
                  </a:lnTo>
                  <a:lnTo>
                    <a:pt x="11" y="1078"/>
                  </a:lnTo>
                  <a:lnTo>
                    <a:pt x="0" y="1084"/>
                  </a:lnTo>
                  <a:lnTo>
                    <a:pt x="0" y="1077"/>
                  </a:lnTo>
                  <a:lnTo>
                    <a:pt x="7" y="1064"/>
                  </a:lnTo>
                  <a:lnTo>
                    <a:pt x="16" y="1050"/>
                  </a:lnTo>
                  <a:lnTo>
                    <a:pt x="21" y="1041"/>
                  </a:lnTo>
                  <a:lnTo>
                    <a:pt x="62" y="1020"/>
                  </a:lnTo>
                  <a:lnTo>
                    <a:pt x="100" y="996"/>
                  </a:lnTo>
                  <a:lnTo>
                    <a:pt x="135" y="971"/>
                  </a:lnTo>
                  <a:lnTo>
                    <a:pt x="166" y="944"/>
                  </a:lnTo>
                  <a:lnTo>
                    <a:pt x="193" y="914"/>
                  </a:lnTo>
                  <a:lnTo>
                    <a:pt x="219" y="884"/>
                  </a:lnTo>
                  <a:lnTo>
                    <a:pt x="240" y="852"/>
                  </a:lnTo>
                  <a:lnTo>
                    <a:pt x="259" y="820"/>
                  </a:lnTo>
                  <a:lnTo>
                    <a:pt x="274" y="785"/>
                  </a:lnTo>
                  <a:lnTo>
                    <a:pt x="288" y="751"/>
                  </a:lnTo>
                  <a:lnTo>
                    <a:pt x="298" y="715"/>
                  </a:lnTo>
                  <a:lnTo>
                    <a:pt x="306" y="679"/>
                  </a:lnTo>
                  <a:lnTo>
                    <a:pt x="312" y="644"/>
                  </a:lnTo>
                  <a:lnTo>
                    <a:pt x="317" y="608"/>
                  </a:lnTo>
                  <a:lnTo>
                    <a:pt x="318" y="572"/>
                  </a:lnTo>
                  <a:lnTo>
                    <a:pt x="318" y="537"/>
                  </a:lnTo>
                  <a:lnTo>
                    <a:pt x="346" y="478"/>
                  </a:lnTo>
                  <a:lnTo>
                    <a:pt x="369" y="416"/>
                  </a:lnTo>
                  <a:lnTo>
                    <a:pt x="387" y="350"/>
                  </a:lnTo>
                  <a:lnTo>
                    <a:pt x="397" y="282"/>
                  </a:lnTo>
                  <a:lnTo>
                    <a:pt x="400" y="213"/>
                  </a:lnTo>
                  <a:lnTo>
                    <a:pt x="393" y="144"/>
                  </a:lnTo>
                  <a:lnTo>
                    <a:pt x="375" y="75"/>
                  </a:lnTo>
                  <a:lnTo>
                    <a:pt x="346" y="8"/>
                  </a:lnTo>
                  <a:lnTo>
                    <a:pt x="348" y="6"/>
                  </a:lnTo>
                  <a:lnTo>
                    <a:pt x="352" y="4"/>
                  </a:lnTo>
                  <a:lnTo>
                    <a:pt x="357" y="3"/>
                  </a:lnTo>
                  <a:lnTo>
                    <a:pt x="363" y="2"/>
                  </a:lnTo>
                  <a:lnTo>
                    <a:pt x="367" y="2"/>
                  </a:lnTo>
                  <a:lnTo>
                    <a:pt x="373" y="1"/>
                  </a:lnTo>
                  <a:lnTo>
                    <a:pt x="377" y="1"/>
                  </a:lnTo>
                  <a:lnTo>
                    <a:pt x="380" y="0"/>
                  </a:lnTo>
                  <a:lnTo>
                    <a:pt x="410" y="75"/>
                  </a:lnTo>
                  <a:lnTo>
                    <a:pt x="428" y="154"/>
                  </a:lnTo>
                  <a:lnTo>
                    <a:pt x="438" y="236"/>
                  </a:lnTo>
                  <a:lnTo>
                    <a:pt x="438" y="320"/>
                  </a:lnTo>
                  <a:lnTo>
                    <a:pt x="428" y="403"/>
                  </a:lnTo>
                  <a:lnTo>
                    <a:pt x="414" y="482"/>
                  </a:lnTo>
                  <a:lnTo>
                    <a:pt x="392" y="558"/>
                  </a:lnTo>
                  <a:lnTo>
                    <a:pt x="364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914240" y="4499640"/>
              <a:ext cx="361800" cy="478080"/>
            </a:xfrm>
            <a:custGeom>
              <a:avLst/>
              <a:gdLst/>
              <a:ahLst/>
              <a:rect l="l" t="t" r="r" b="b"/>
              <a:pathLst>
                <a:path w="287" h="471">
                  <a:moveTo>
                    <a:pt x="0" y="6"/>
                  </a:moveTo>
                  <a:lnTo>
                    <a:pt x="21" y="8"/>
                  </a:lnTo>
                  <a:lnTo>
                    <a:pt x="41" y="9"/>
                  </a:lnTo>
                  <a:lnTo>
                    <a:pt x="63" y="9"/>
                  </a:lnTo>
                  <a:lnTo>
                    <a:pt x="83" y="8"/>
                  </a:lnTo>
                  <a:lnTo>
                    <a:pt x="104" y="7"/>
                  </a:lnTo>
                  <a:lnTo>
                    <a:pt x="125" y="6"/>
                  </a:lnTo>
                  <a:lnTo>
                    <a:pt x="144" y="5"/>
                  </a:lnTo>
                  <a:lnTo>
                    <a:pt x="164" y="3"/>
                  </a:lnTo>
                  <a:lnTo>
                    <a:pt x="182" y="1"/>
                  </a:lnTo>
                  <a:lnTo>
                    <a:pt x="200" y="1"/>
                  </a:lnTo>
                  <a:lnTo>
                    <a:pt x="216" y="0"/>
                  </a:lnTo>
                  <a:lnTo>
                    <a:pt x="230" y="1"/>
                  </a:lnTo>
                  <a:lnTo>
                    <a:pt x="242" y="3"/>
                  </a:lnTo>
                  <a:lnTo>
                    <a:pt x="253" y="6"/>
                  </a:lnTo>
                  <a:lnTo>
                    <a:pt x="262" y="11"/>
                  </a:lnTo>
                  <a:lnTo>
                    <a:pt x="268" y="16"/>
                  </a:lnTo>
                  <a:lnTo>
                    <a:pt x="261" y="68"/>
                  </a:lnTo>
                  <a:lnTo>
                    <a:pt x="261" y="120"/>
                  </a:lnTo>
                  <a:lnTo>
                    <a:pt x="269" y="170"/>
                  </a:lnTo>
                  <a:lnTo>
                    <a:pt x="287" y="216"/>
                  </a:lnTo>
                  <a:lnTo>
                    <a:pt x="285" y="243"/>
                  </a:lnTo>
                  <a:lnTo>
                    <a:pt x="283" y="269"/>
                  </a:lnTo>
                  <a:lnTo>
                    <a:pt x="280" y="293"/>
                  </a:lnTo>
                  <a:lnTo>
                    <a:pt x="275" y="316"/>
                  </a:lnTo>
                  <a:lnTo>
                    <a:pt x="266" y="339"/>
                  </a:lnTo>
                  <a:lnTo>
                    <a:pt x="251" y="363"/>
                  </a:lnTo>
                  <a:lnTo>
                    <a:pt x="230" y="387"/>
                  </a:lnTo>
                  <a:lnTo>
                    <a:pt x="200" y="415"/>
                  </a:lnTo>
                  <a:lnTo>
                    <a:pt x="185" y="428"/>
                  </a:lnTo>
                  <a:lnTo>
                    <a:pt x="172" y="438"/>
                  </a:lnTo>
                  <a:lnTo>
                    <a:pt x="163" y="446"/>
                  </a:lnTo>
                  <a:lnTo>
                    <a:pt x="155" y="453"/>
                  </a:lnTo>
                  <a:lnTo>
                    <a:pt x="148" y="459"/>
                  </a:lnTo>
                  <a:lnTo>
                    <a:pt x="141" y="463"/>
                  </a:lnTo>
                  <a:lnTo>
                    <a:pt x="134" y="467"/>
                  </a:lnTo>
                  <a:lnTo>
                    <a:pt x="125" y="471"/>
                  </a:lnTo>
                  <a:lnTo>
                    <a:pt x="111" y="457"/>
                  </a:lnTo>
                  <a:lnTo>
                    <a:pt x="137" y="429"/>
                  </a:lnTo>
                  <a:lnTo>
                    <a:pt x="160" y="402"/>
                  </a:lnTo>
                  <a:lnTo>
                    <a:pt x="181" y="377"/>
                  </a:lnTo>
                  <a:lnTo>
                    <a:pt x="198" y="352"/>
                  </a:lnTo>
                  <a:lnTo>
                    <a:pt x="210" y="325"/>
                  </a:lnTo>
                  <a:lnTo>
                    <a:pt x="217" y="296"/>
                  </a:lnTo>
                  <a:lnTo>
                    <a:pt x="219" y="265"/>
                  </a:lnTo>
                  <a:lnTo>
                    <a:pt x="213" y="229"/>
                  </a:lnTo>
                  <a:lnTo>
                    <a:pt x="205" y="186"/>
                  </a:lnTo>
                  <a:lnTo>
                    <a:pt x="202" y="141"/>
                  </a:lnTo>
                  <a:lnTo>
                    <a:pt x="207" y="97"/>
                  </a:lnTo>
                  <a:lnTo>
                    <a:pt x="218" y="53"/>
                  </a:lnTo>
                  <a:lnTo>
                    <a:pt x="205" y="50"/>
                  </a:lnTo>
                  <a:lnTo>
                    <a:pt x="193" y="47"/>
                  </a:lnTo>
                  <a:lnTo>
                    <a:pt x="181" y="46"/>
                  </a:lnTo>
                  <a:lnTo>
                    <a:pt x="169" y="45"/>
                  </a:lnTo>
                  <a:lnTo>
                    <a:pt x="156" y="45"/>
                  </a:lnTo>
                  <a:lnTo>
                    <a:pt x="143" y="45"/>
                  </a:lnTo>
                  <a:lnTo>
                    <a:pt x="131" y="46"/>
                  </a:lnTo>
                  <a:lnTo>
                    <a:pt x="118" y="46"/>
                  </a:lnTo>
                  <a:lnTo>
                    <a:pt x="105" y="46"/>
                  </a:lnTo>
                  <a:lnTo>
                    <a:pt x="92" y="47"/>
                  </a:lnTo>
                  <a:lnTo>
                    <a:pt x="81" y="47"/>
                  </a:lnTo>
                  <a:lnTo>
                    <a:pt x="68" y="46"/>
                  </a:lnTo>
                  <a:lnTo>
                    <a:pt x="57" y="45"/>
                  </a:lnTo>
                  <a:lnTo>
                    <a:pt x="44" y="43"/>
                  </a:lnTo>
                  <a:lnTo>
                    <a:pt x="33" y="41"/>
                  </a:lnTo>
                  <a:lnTo>
                    <a:pt x="2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792920" y="5016600"/>
              <a:ext cx="260280" cy="616680"/>
            </a:xfrm>
            <a:custGeom>
              <a:avLst/>
              <a:gdLst/>
              <a:ahLst/>
              <a:rect l="l" t="t" r="r" b="b"/>
              <a:pathLst>
                <a:path w="205" h="606">
                  <a:moveTo>
                    <a:pt x="162" y="312"/>
                  </a:moveTo>
                  <a:lnTo>
                    <a:pt x="162" y="352"/>
                  </a:lnTo>
                  <a:lnTo>
                    <a:pt x="157" y="388"/>
                  </a:lnTo>
                  <a:lnTo>
                    <a:pt x="144" y="424"/>
                  </a:lnTo>
                  <a:lnTo>
                    <a:pt x="128" y="459"/>
                  </a:lnTo>
                  <a:lnTo>
                    <a:pt x="108" y="492"/>
                  </a:lnTo>
                  <a:lnTo>
                    <a:pt x="87" y="524"/>
                  </a:lnTo>
                  <a:lnTo>
                    <a:pt x="64" y="555"/>
                  </a:lnTo>
                  <a:lnTo>
                    <a:pt x="42" y="586"/>
                  </a:lnTo>
                  <a:lnTo>
                    <a:pt x="0" y="606"/>
                  </a:lnTo>
                  <a:lnTo>
                    <a:pt x="3" y="573"/>
                  </a:lnTo>
                  <a:lnTo>
                    <a:pt x="18" y="540"/>
                  </a:lnTo>
                  <a:lnTo>
                    <a:pt x="41" y="509"/>
                  </a:lnTo>
                  <a:lnTo>
                    <a:pt x="67" y="478"/>
                  </a:lnTo>
                  <a:lnTo>
                    <a:pt x="91" y="446"/>
                  </a:lnTo>
                  <a:lnTo>
                    <a:pt x="110" y="414"/>
                  </a:lnTo>
                  <a:lnTo>
                    <a:pt x="119" y="379"/>
                  </a:lnTo>
                  <a:lnTo>
                    <a:pt x="112" y="341"/>
                  </a:lnTo>
                  <a:lnTo>
                    <a:pt x="95" y="295"/>
                  </a:lnTo>
                  <a:lnTo>
                    <a:pt x="95" y="252"/>
                  </a:lnTo>
                  <a:lnTo>
                    <a:pt x="107" y="211"/>
                  </a:lnTo>
                  <a:lnTo>
                    <a:pt x="127" y="171"/>
                  </a:lnTo>
                  <a:lnTo>
                    <a:pt x="147" y="130"/>
                  </a:lnTo>
                  <a:lnTo>
                    <a:pt x="166" y="89"/>
                  </a:lnTo>
                  <a:lnTo>
                    <a:pt x="175" y="46"/>
                  </a:lnTo>
                  <a:lnTo>
                    <a:pt x="173" y="0"/>
                  </a:lnTo>
                  <a:lnTo>
                    <a:pt x="190" y="1"/>
                  </a:lnTo>
                  <a:lnTo>
                    <a:pt x="198" y="14"/>
                  </a:lnTo>
                  <a:lnTo>
                    <a:pt x="201" y="30"/>
                  </a:lnTo>
                  <a:lnTo>
                    <a:pt x="205" y="46"/>
                  </a:lnTo>
                  <a:lnTo>
                    <a:pt x="205" y="83"/>
                  </a:lnTo>
                  <a:lnTo>
                    <a:pt x="198" y="117"/>
                  </a:lnTo>
                  <a:lnTo>
                    <a:pt x="186" y="149"/>
                  </a:lnTo>
                  <a:lnTo>
                    <a:pt x="174" y="180"/>
                  </a:lnTo>
                  <a:lnTo>
                    <a:pt x="161" y="211"/>
                  </a:lnTo>
                  <a:lnTo>
                    <a:pt x="154" y="243"/>
                  </a:lnTo>
                  <a:lnTo>
                    <a:pt x="153" y="277"/>
                  </a:lnTo>
                  <a:lnTo>
                    <a:pt x="16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31720" y="4654440"/>
              <a:ext cx="1153080" cy="325800"/>
            </a:xfrm>
            <a:custGeom>
              <a:avLst/>
              <a:gdLst/>
              <a:ahLst/>
              <a:rect l="l" t="t" r="r" b="b"/>
              <a:pathLst>
                <a:path w="914" h="320">
                  <a:moveTo>
                    <a:pt x="910" y="310"/>
                  </a:moveTo>
                  <a:lnTo>
                    <a:pt x="898" y="315"/>
                  </a:lnTo>
                  <a:lnTo>
                    <a:pt x="885" y="317"/>
                  </a:lnTo>
                  <a:lnTo>
                    <a:pt x="871" y="319"/>
                  </a:lnTo>
                  <a:lnTo>
                    <a:pt x="859" y="320"/>
                  </a:lnTo>
                  <a:lnTo>
                    <a:pt x="846" y="319"/>
                  </a:lnTo>
                  <a:lnTo>
                    <a:pt x="833" y="319"/>
                  </a:lnTo>
                  <a:lnTo>
                    <a:pt x="821" y="317"/>
                  </a:lnTo>
                  <a:lnTo>
                    <a:pt x="808" y="315"/>
                  </a:lnTo>
                  <a:lnTo>
                    <a:pt x="795" y="312"/>
                  </a:lnTo>
                  <a:lnTo>
                    <a:pt x="781" y="310"/>
                  </a:lnTo>
                  <a:lnTo>
                    <a:pt x="769" y="308"/>
                  </a:lnTo>
                  <a:lnTo>
                    <a:pt x="756" y="304"/>
                  </a:lnTo>
                  <a:lnTo>
                    <a:pt x="743" y="302"/>
                  </a:lnTo>
                  <a:lnTo>
                    <a:pt x="731" y="300"/>
                  </a:lnTo>
                  <a:lnTo>
                    <a:pt x="718" y="297"/>
                  </a:lnTo>
                  <a:lnTo>
                    <a:pt x="705" y="296"/>
                  </a:lnTo>
                  <a:lnTo>
                    <a:pt x="686" y="282"/>
                  </a:lnTo>
                  <a:lnTo>
                    <a:pt x="665" y="270"/>
                  </a:lnTo>
                  <a:lnTo>
                    <a:pt x="644" y="257"/>
                  </a:lnTo>
                  <a:lnTo>
                    <a:pt x="622" y="246"/>
                  </a:lnTo>
                  <a:lnTo>
                    <a:pt x="602" y="234"/>
                  </a:lnTo>
                  <a:lnTo>
                    <a:pt x="580" y="224"/>
                  </a:lnTo>
                  <a:lnTo>
                    <a:pt x="558" y="213"/>
                  </a:lnTo>
                  <a:lnTo>
                    <a:pt x="535" y="203"/>
                  </a:lnTo>
                  <a:lnTo>
                    <a:pt x="513" y="193"/>
                  </a:lnTo>
                  <a:lnTo>
                    <a:pt x="491" y="183"/>
                  </a:lnTo>
                  <a:lnTo>
                    <a:pt x="468" y="173"/>
                  </a:lnTo>
                  <a:lnTo>
                    <a:pt x="446" y="163"/>
                  </a:lnTo>
                  <a:lnTo>
                    <a:pt x="423" y="153"/>
                  </a:lnTo>
                  <a:lnTo>
                    <a:pt x="401" y="142"/>
                  </a:lnTo>
                  <a:lnTo>
                    <a:pt x="379" y="132"/>
                  </a:lnTo>
                  <a:lnTo>
                    <a:pt x="357" y="120"/>
                  </a:lnTo>
                  <a:lnTo>
                    <a:pt x="337" y="117"/>
                  </a:lnTo>
                  <a:lnTo>
                    <a:pt x="316" y="113"/>
                  </a:lnTo>
                  <a:lnTo>
                    <a:pt x="294" y="111"/>
                  </a:lnTo>
                  <a:lnTo>
                    <a:pt x="273" y="109"/>
                  </a:lnTo>
                  <a:lnTo>
                    <a:pt x="253" y="106"/>
                  </a:lnTo>
                  <a:lnTo>
                    <a:pt x="231" y="105"/>
                  </a:lnTo>
                  <a:lnTo>
                    <a:pt x="210" y="103"/>
                  </a:lnTo>
                  <a:lnTo>
                    <a:pt x="189" y="100"/>
                  </a:lnTo>
                  <a:lnTo>
                    <a:pt x="167" y="97"/>
                  </a:lnTo>
                  <a:lnTo>
                    <a:pt x="147" y="95"/>
                  </a:lnTo>
                  <a:lnTo>
                    <a:pt x="127" y="91"/>
                  </a:lnTo>
                  <a:lnTo>
                    <a:pt x="106" y="87"/>
                  </a:lnTo>
                  <a:lnTo>
                    <a:pt x="86" y="82"/>
                  </a:lnTo>
                  <a:lnTo>
                    <a:pt x="66" y="77"/>
                  </a:lnTo>
                  <a:lnTo>
                    <a:pt x="46" y="71"/>
                  </a:lnTo>
                  <a:lnTo>
                    <a:pt x="28" y="64"/>
                  </a:lnTo>
                  <a:lnTo>
                    <a:pt x="20" y="58"/>
                  </a:lnTo>
                  <a:lnTo>
                    <a:pt x="13" y="50"/>
                  </a:lnTo>
                  <a:lnTo>
                    <a:pt x="7" y="43"/>
                  </a:lnTo>
                  <a:lnTo>
                    <a:pt x="3" y="34"/>
                  </a:lnTo>
                  <a:lnTo>
                    <a:pt x="0" y="26"/>
                  </a:lnTo>
                  <a:lnTo>
                    <a:pt x="0" y="16"/>
                  </a:lnTo>
                  <a:lnTo>
                    <a:pt x="3" y="8"/>
                  </a:lnTo>
                  <a:lnTo>
                    <a:pt x="8" y="0"/>
                  </a:lnTo>
                  <a:lnTo>
                    <a:pt x="21" y="12"/>
                  </a:lnTo>
                  <a:lnTo>
                    <a:pt x="36" y="20"/>
                  </a:lnTo>
                  <a:lnTo>
                    <a:pt x="50" y="28"/>
                  </a:lnTo>
                  <a:lnTo>
                    <a:pt x="66" y="33"/>
                  </a:lnTo>
                  <a:lnTo>
                    <a:pt x="82" y="36"/>
                  </a:lnTo>
                  <a:lnTo>
                    <a:pt x="98" y="38"/>
                  </a:lnTo>
                  <a:lnTo>
                    <a:pt x="115" y="41"/>
                  </a:lnTo>
                  <a:lnTo>
                    <a:pt x="133" y="41"/>
                  </a:lnTo>
                  <a:lnTo>
                    <a:pt x="150" y="41"/>
                  </a:lnTo>
                  <a:lnTo>
                    <a:pt x="167" y="41"/>
                  </a:lnTo>
                  <a:lnTo>
                    <a:pt x="185" y="39"/>
                  </a:lnTo>
                  <a:lnTo>
                    <a:pt x="202" y="38"/>
                  </a:lnTo>
                  <a:lnTo>
                    <a:pt x="219" y="38"/>
                  </a:lnTo>
                  <a:lnTo>
                    <a:pt x="236" y="38"/>
                  </a:lnTo>
                  <a:lnTo>
                    <a:pt x="254" y="39"/>
                  </a:lnTo>
                  <a:lnTo>
                    <a:pt x="270" y="41"/>
                  </a:lnTo>
                  <a:lnTo>
                    <a:pt x="314" y="44"/>
                  </a:lnTo>
                  <a:lnTo>
                    <a:pt x="355" y="52"/>
                  </a:lnTo>
                  <a:lnTo>
                    <a:pt x="395" y="65"/>
                  </a:lnTo>
                  <a:lnTo>
                    <a:pt x="436" y="80"/>
                  </a:lnTo>
                  <a:lnTo>
                    <a:pt x="474" y="98"/>
                  </a:lnTo>
                  <a:lnTo>
                    <a:pt x="512" y="118"/>
                  </a:lnTo>
                  <a:lnTo>
                    <a:pt x="549" y="138"/>
                  </a:lnTo>
                  <a:lnTo>
                    <a:pt x="586" y="160"/>
                  </a:lnTo>
                  <a:lnTo>
                    <a:pt x="624" y="182"/>
                  </a:lnTo>
                  <a:lnTo>
                    <a:pt x="660" y="203"/>
                  </a:lnTo>
                  <a:lnTo>
                    <a:pt x="698" y="223"/>
                  </a:lnTo>
                  <a:lnTo>
                    <a:pt x="738" y="241"/>
                  </a:lnTo>
                  <a:lnTo>
                    <a:pt x="778" y="256"/>
                  </a:lnTo>
                  <a:lnTo>
                    <a:pt x="819" y="267"/>
                  </a:lnTo>
                  <a:lnTo>
                    <a:pt x="862" y="276"/>
                  </a:lnTo>
                  <a:lnTo>
                    <a:pt x="907" y="279"/>
                  </a:lnTo>
                  <a:lnTo>
                    <a:pt x="912" y="286"/>
                  </a:lnTo>
                  <a:lnTo>
                    <a:pt x="914" y="294"/>
                  </a:lnTo>
                  <a:lnTo>
                    <a:pt x="913" y="302"/>
                  </a:lnTo>
                  <a:lnTo>
                    <a:pt x="91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743520" y="4949640"/>
              <a:ext cx="1145160" cy="390240"/>
            </a:xfrm>
            <a:custGeom>
              <a:avLst/>
              <a:gdLst/>
              <a:ahLst/>
              <a:rect l="l" t="t" r="r" b="b"/>
              <a:pathLst>
                <a:path w="906" h="383">
                  <a:moveTo>
                    <a:pt x="901" y="383"/>
                  </a:moveTo>
                  <a:lnTo>
                    <a:pt x="882" y="374"/>
                  </a:lnTo>
                  <a:lnTo>
                    <a:pt x="864" y="365"/>
                  </a:lnTo>
                  <a:lnTo>
                    <a:pt x="848" y="354"/>
                  </a:lnTo>
                  <a:lnTo>
                    <a:pt x="833" y="343"/>
                  </a:lnTo>
                  <a:lnTo>
                    <a:pt x="819" y="332"/>
                  </a:lnTo>
                  <a:lnTo>
                    <a:pt x="807" y="321"/>
                  </a:lnTo>
                  <a:lnTo>
                    <a:pt x="793" y="311"/>
                  </a:lnTo>
                  <a:lnTo>
                    <a:pt x="781" y="301"/>
                  </a:lnTo>
                  <a:lnTo>
                    <a:pt x="769" y="292"/>
                  </a:lnTo>
                  <a:lnTo>
                    <a:pt x="756" y="285"/>
                  </a:lnTo>
                  <a:lnTo>
                    <a:pt x="742" y="279"/>
                  </a:lnTo>
                  <a:lnTo>
                    <a:pt x="728" y="276"/>
                  </a:lnTo>
                  <a:lnTo>
                    <a:pt x="714" y="275"/>
                  </a:lnTo>
                  <a:lnTo>
                    <a:pt x="698" y="276"/>
                  </a:lnTo>
                  <a:lnTo>
                    <a:pt x="682" y="281"/>
                  </a:lnTo>
                  <a:lnTo>
                    <a:pt x="664" y="289"/>
                  </a:lnTo>
                  <a:lnTo>
                    <a:pt x="640" y="292"/>
                  </a:lnTo>
                  <a:lnTo>
                    <a:pt x="614" y="294"/>
                  </a:lnTo>
                  <a:lnTo>
                    <a:pt x="589" y="296"/>
                  </a:lnTo>
                  <a:lnTo>
                    <a:pt x="565" y="296"/>
                  </a:lnTo>
                  <a:lnTo>
                    <a:pt x="541" y="294"/>
                  </a:lnTo>
                  <a:lnTo>
                    <a:pt x="516" y="292"/>
                  </a:lnTo>
                  <a:lnTo>
                    <a:pt x="492" y="289"/>
                  </a:lnTo>
                  <a:lnTo>
                    <a:pt x="469" y="284"/>
                  </a:lnTo>
                  <a:lnTo>
                    <a:pt x="447" y="278"/>
                  </a:lnTo>
                  <a:lnTo>
                    <a:pt x="425" y="270"/>
                  </a:lnTo>
                  <a:lnTo>
                    <a:pt x="405" y="261"/>
                  </a:lnTo>
                  <a:lnTo>
                    <a:pt x="385" y="251"/>
                  </a:lnTo>
                  <a:lnTo>
                    <a:pt x="367" y="238"/>
                  </a:lnTo>
                  <a:lnTo>
                    <a:pt x="349" y="224"/>
                  </a:lnTo>
                  <a:lnTo>
                    <a:pt x="333" y="208"/>
                  </a:lnTo>
                  <a:lnTo>
                    <a:pt x="319" y="191"/>
                  </a:lnTo>
                  <a:lnTo>
                    <a:pt x="305" y="183"/>
                  </a:lnTo>
                  <a:lnTo>
                    <a:pt x="290" y="177"/>
                  </a:lnTo>
                  <a:lnTo>
                    <a:pt x="276" y="173"/>
                  </a:lnTo>
                  <a:lnTo>
                    <a:pt x="261" y="171"/>
                  </a:lnTo>
                  <a:lnTo>
                    <a:pt x="246" y="172"/>
                  </a:lnTo>
                  <a:lnTo>
                    <a:pt x="231" y="173"/>
                  </a:lnTo>
                  <a:lnTo>
                    <a:pt x="214" y="176"/>
                  </a:lnTo>
                  <a:lnTo>
                    <a:pt x="199" y="177"/>
                  </a:lnTo>
                  <a:lnTo>
                    <a:pt x="183" y="179"/>
                  </a:lnTo>
                  <a:lnTo>
                    <a:pt x="168" y="182"/>
                  </a:lnTo>
                  <a:lnTo>
                    <a:pt x="153" y="182"/>
                  </a:lnTo>
                  <a:lnTo>
                    <a:pt x="138" y="180"/>
                  </a:lnTo>
                  <a:lnTo>
                    <a:pt x="123" y="178"/>
                  </a:lnTo>
                  <a:lnTo>
                    <a:pt x="110" y="172"/>
                  </a:lnTo>
                  <a:lnTo>
                    <a:pt x="96" y="165"/>
                  </a:lnTo>
                  <a:lnTo>
                    <a:pt x="83" y="154"/>
                  </a:lnTo>
                  <a:lnTo>
                    <a:pt x="68" y="144"/>
                  </a:lnTo>
                  <a:lnTo>
                    <a:pt x="55" y="132"/>
                  </a:lnTo>
                  <a:lnTo>
                    <a:pt x="44" y="119"/>
                  </a:lnTo>
                  <a:lnTo>
                    <a:pt x="34" y="105"/>
                  </a:lnTo>
                  <a:lnTo>
                    <a:pt x="23" y="92"/>
                  </a:lnTo>
                  <a:lnTo>
                    <a:pt x="15" y="77"/>
                  </a:lnTo>
                  <a:lnTo>
                    <a:pt x="7" y="63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2" y="25"/>
                  </a:lnTo>
                  <a:lnTo>
                    <a:pt x="6" y="16"/>
                  </a:lnTo>
                  <a:lnTo>
                    <a:pt x="11" y="8"/>
                  </a:lnTo>
                  <a:lnTo>
                    <a:pt x="17" y="3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55" y="38"/>
                  </a:lnTo>
                  <a:lnTo>
                    <a:pt x="65" y="65"/>
                  </a:lnTo>
                  <a:lnTo>
                    <a:pt x="78" y="86"/>
                  </a:lnTo>
                  <a:lnTo>
                    <a:pt x="96" y="101"/>
                  </a:lnTo>
                  <a:lnTo>
                    <a:pt x="117" y="111"/>
                  </a:lnTo>
                  <a:lnTo>
                    <a:pt x="138" y="118"/>
                  </a:lnTo>
                  <a:lnTo>
                    <a:pt x="164" y="122"/>
                  </a:lnTo>
                  <a:lnTo>
                    <a:pt x="189" y="123"/>
                  </a:lnTo>
                  <a:lnTo>
                    <a:pt x="216" y="123"/>
                  </a:lnTo>
                  <a:lnTo>
                    <a:pt x="243" y="123"/>
                  </a:lnTo>
                  <a:lnTo>
                    <a:pt x="271" y="124"/>
                  </a:lnTo>
                  <a:lnTo>
                    <a:pt x="296" y="126"/>
                  </a:lnTo>
                  <a:lnTo>
                    <a:pt x="322" y="132"/>
                  </a:lnTo>
                  <a:lnTo>
                    <a:pt x="345" y="140"/>
                  </a:lnTo>
                  <a:lnTo>
                    <a:pt x="365" y="153"/>
                  </a:lnTo>
                  <a:lnTo>
                    <a:pt x="384" y="171"/>
                  </a:lnTo>
                  <a:lnTo>
                    <a:pt x="407" y="198"/>
                  </a:lnTo>
                  <a:lnTo>
                    <a:pt x="433" y="216"/>
                  </a:lnTo>
                  <a:lnTo>
                    <a:pt x="462" y="228"/>
                  </a:lnTo>
                  <a:lnTo>
                    <a:pt x="493" y="233"/>
                  </a:lnTo>
                  <a:lnTo>
                    <a:pt x="526" y="235"/>
                  </a:lnTo>
                  <a:lnTo>
                    <a:pt x="559" y="232"/>
                  </a:lnTo>
                  <a:lnTo>
                    <a:pt x="594" y="228"/>
                  </a:lnTo>
                  <a:lnTo>
                    <a:pt x="628" y="222"/>
                  </a:lnTo>
                  <a:lnTo>
                    <a:pt x="661" y="217"/>
                  </a:lnTo>
                  <a:lnTo>
                    <a:pt x="695" y="214"/>
                  </a:lnTo>
                  <a:lnTo>
                    <a:pt x="727" y="214"/>
                  </a:lnTo>
                  <a:lnTo>
                    <a:pt x="757" y="217"/>
                  </a:lnTo>
                  <a:lnTo>
                    <a:pt x="785" y="225"/>
                  </a:lnTo>
                  <a:lnTo>
                    <a:pt x="810" y="240"/>
                  </a:lnTo>
                  <a:lnTo>
                    <a:pt x="832" y="262"/>
                  </a:lnTo>
                  <a:lnTo>
                    <a:pt x="850" y="293"/>
                  </a:lnTo>
                  <a:lnTo>
                    <a:pt x="857" y="305"/>
                  </a:lnTo>
                  <a:lnTo>
                    <a:pt x="867" y="315"/>
                  </a:lnTo>
                  <a:lnTo>
                    <a:pt x="878" y="324"/>
                  </a:lnTo>
                  <a:lnTo>
                    <a:pt x="888" y="335"/>
                  </a:lnTo>
                  <a:lnTo>
                    <a:pt x="899" y="345"/>
                  </a:lnTo>
                  <a:lnTo>
                    <a:pt x="905" y="355"/>
                  </a:lnTo>
                  <a:lnTo>
                    <a:pt x="906" y="368"/>
                  </a:lnTo>
                  <a:lnTo>
                    <a:pt x="901" y="38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35800" y="4642200"/>
              <a:ext cx="1229040" cy="1005480"/>
            </a:xfrm>
            <a:custGeom>
              <a:avLst/>
              <a:gdLst/>
              <a:ahLst/>
              <a:rect l="l" t="t" r="r" b="b"/>
              <a:pathLst>
                <a:path w="971" h="987">
                  <a:moveTo>
                    <a:pt x="827" y="980"/>
                  </a:moveTo>
                  <a:lnTo>
                    <a:pt x="803" y="969"/>
                  </a:lnTo>
                  <a:lnTo>
                    <a:pt x="780" y="956"/>
                  </a:lnTo>
                  <a:lnTo>
                    <a:pt x="755" y="944"/>
                  </a:lnTo>
                  <a:lnTo>
                    <a:pt x="731" y="933"/>
                  </a:lnTo>
                  <a:lnTo>
                    <a:pt x="707" y="921"/>
                  </a:lnTo>
                  <a:lnTo>
                    <a:pt x="683" y="910"/>
                  </a:lnTo>
                  <a:lnTo>
                    <a:pt x="659" y="898"/>
                  </a:lnTo>
                  <a:lnTo>
                    <a:pt x="634" y="887"/>
                  </a:lnTo>
                  <a:lnTo>
                    <a:pt x="610" y="876"/>
                  </a:lnTo>
                  <a:lnTo>
                    <a:pt x="585" y="865"/>
                  </a:lnTo>
                  <a:lnTo>
                    <a:pt x="561" y="853"/>
                  </a:lnTo>
                  <a:lnTo>
                    <a:pt x="536" y="843"/>
                  </a:lnTo>
                  <a:lnTo>
                    <a:pt x="511" y="832"/>
                  </a:lnTo>
                  <a:lnTo>
                    <a:pt x="487" y="821"/>
                  </a:lnTo>
                  <a:lnTo>
                    <a:pt x="462" y="811"/>
                  </a:lnTo>
                  <a:lnTo>
                    <a:pt x="437" y="799"/>
                  </a:lnTo>
                  <a:lnTo>
                    <a:pt x="412" y="789"/>
                  </a:lnTo>
                  <a:lnTo>
                    <a:pt x="388" y="779"/>
                  </a:lnTo>
                  <a:lnTo>
                    <a:pt x="362" y="768"/>
                  </a:lnTo>
                  <a:lnTo>
                    <a:pt x="338" y="758"/>
                  </a:lnTo>
                  <a:lnTo>
                    <a:pt x="313" y="747"/>
                  </a:lnTo>
                  <a:lnTo>
                    <a:pt x="288" y="737"/>
                  </a:lnTo>
                  <a:lnTo>
                    <a:pt x="263" y="727"/>
                  </a:lnTo>
                  <a:lnTo>
                    <a:pt x="238" y="716"/>
                  </a:lnTo>
                  <a:lnTo>
                    <a:pt x="213" y="707"/>
                  </a:lnTo>
                  <a:lnTo>
                    <a:pt x="188" y="697"/>
                  </a:lnTo>
                  <a:lnTo>
                    <a:pt x="163" y="686"/>
                  </a:lnTo>
                  <a:lnTo>
                    <a:pt x="138" y="676"/>
                  </a:lnTo>
                  <a:lnTo>
                    <a:pt x="112" y="667"/>
                  </a:lnTo>
                  <a:lnTo>
                    <a:pt x="88" y="656"/>
                  </a:lnTo>
                  <a:lnTo>
                    <a:pt x="63" y="647"/>
                  </a:lnTo>
                  <a:lnTo>
                    <a:pt x="38" y="637"/>
                  </a:lnTo>
                  <a:lnTo>
                    <a:pt x="0" y="600"/>
                  </a:lnTo>
                  <a:lnTo>
                    <a:pt x="21" y="524"/>
                  </a:lnTo>
                  <a:lnTo>
                    <a:pt x="38" y="451"/>
                  </a:lnTo>
                  <a:lnTo>
                    <a:pt x="50" y="380"/>
                  </a:lnTo>
                  <a:lnTo>
                    <a:pt x="61" y="311"/>
                  </a:lnTo>
                  <a:lnTo>
                    <a:pt x="71" y="243"/>
                  </a:lnTo>
                  <a:lnTo>
                    <a:pt x="81" y="174"/>
                  </a:lnTo>
                  <a:lnTo>
                    <a:pt x="96" y="105"/>
                  </a:lnTo>
                  <a:lnTo>
                    <a:pt x="115" y="32"/>
                  </a:lnTo>
                  <a:lnTo>
                    <a:pt x="121" y="29"/>
                  </a:lnTo>
                  <a:lnTo>
                    <a:pt x="126" y="24"/>
                  </a:lnTo>
                  <a:lnTo>
                    <a:pt x="131" y="18"/>
                  </a:lnTo>
                  <a:lnTo>
                    <a:pt x="137" y="13"/>
                  </a:lnTo>
                  <a:lnTo>
                    <a:pt x="142" y="8"/>
                  </a:lnTo>
                  <a:lnTo>
                    <a:pt x="149" y="3"/>
                  </a:lnTo>
                  <a:lnTo>
                    <a:pt x="156" y="1"/>
                  </a:lnTo>
                  <a:lnTo>
                    <a:pt x="163" y="0"/>
                  </a:lnTo>
                  <a:lnTo>
                    <a:pt x="171" y="4"/>
                  </a:lnTo>
                  <a:lnTo>
                    <a:pt x="178" y="10"/>
                  </a:lnTo>
                  <a:lnTo>
                    <a:pt x="184" y="17"/>
                  </a:lnTo>
                  <a:lnTo>
                    <a:pt x="187" y="23"/>
                  </a:lnTo>
                  <a:lnTo>
                    <a:pt x="190" y="31"/>
                  </a:lnTo>
                  <a:lnTo>
                    <a:pt x="191" y="39"/>
                  </a:lnTo>
                  <a:lnTo>
                    <a:pt x="190" y="47"/>
                  </a:lnTo>
                  <a:lnTo>
                    <a:pt x="186" y="56"/>
                  </a:lnTo>
                  <a:lnTo>
                    <a:pt x="171" y="119"/>
                  </a:lnTo>
                  <a:lnTo>
                    <a:pt x="156" y="180"/>
                  </a:lnTo>
                  <a:lnTo>
                    <a:pt x="141" y="238"/>
                  </a:lnTo>
                  <a:lnTo>
                    <a:pt x="127" y="297"/>
                  </a:lnTo>
                  <a:lnTo>
                    <a:pt x="114" y="356"/>
                  </a:lnTo>
                  <a:lnTo>
                    <a:pt x="100" y="415"/>
                  </a:lnTo>
                  <a:lnTo>
                    <a:pt x="85" y="476"/>
                  </a:lnTo>
                  <a:lnTo>
                    <a:pt x="70" y="539"/>
                  </a:lnTo>
                  <a:lnTo>
                    <a:pt x="70" y="594"/>
                  </a:lnTo>
                  <a:lnTo>
                    <a:pt x="111" y="610"/>
                  </a:lnTo>
                  <a:lnTo>
                    <a:pt x="153" y="627"/>
                  </a:lnTo>
                  <a:lnTo>
                    <a:pt x="193" y="643"/>
                  </a:lnTo>
                  <a:lnTo>
                    <a:pt x="235" y="658"/>
                  </a:lnTo>
                  <a:lnTo>
                    <a:pt x="275" y="673"/>
                  </a:lnTo>
                  <a:lnTo>
                    <a:pt x="315" y="688"/>
                  </a:lnTo>
                  <a:lnTo>
                    <a:pt x="356" y="704"/>
                  </a:lnTo>
                  <a:lnTo>
                    <a:pt x="396" y="719"/>
                  </a:lnTo>
                  <a:lnTo>
                    <a:pt x="435" y="735"/>
                  </a:lnTo>
                  <a:lnTo>
                    <a:pt x="475" y="751"/>
                  </a:lnTo>
                  <a:lnTo>
                    <a:pt x="515" y="768"/>
                  </a:lnTo>
                  <a:lnTo>
                    <a:pt x="554" y="785"/>
                  </a:lnTo>
                  <a:lnTo>
                    <a:pt x="593" y="804"/>
                  </a:lnTo>
                  <a:lnTo>
                    <a:pt x="632" y="825"/>
                  </a:lnTo>
                  <a:lnTo>
                    <a:pt x="671" y="845"/>
                  </a:lnTo>
                  <a:lnTo>
                    <a:pt x="710" y="867"/>
                  </a:lnTo>
                  <a:lnTo>
                    <a:pt x="725" y="873"/>
                  </a:lnTo>
                  <a:lnTo>
                    <a:pt x="740" y="880"/>
                  </a:lnTo>
                  <a:lnTo>
                    <a:pt x="757" y="887"/>
                  </a:lnTo>
                  <a:lnTo>
                    <a:pt x="773" y="895"/>
                  </a:lnTo>
                  <a:lnTo>
                    <a:pt x="789" y="904"/>
                  </a:lnTo>
                  <a:lnTo>
                    <a:pt x="805" y="912"/>
                  </a:lnTo>
                  <a:lnTo>
                    <a:pt x="822" y="921"/>
                  </a:lnTo>
                  <a:lnTo>
                    <a:pt x="838" y="928"/>
                  </a:lnTo>
                  <a:lnTo>
                    <a:pt x="856" y="936"/>
                  </a:lnTo>
                  <a:lnTo>
                    <a:pt x="872" y="943"/>
                  </a:lnTo>
                  <a:lnTo>
                    <a:pt x="889" y="949"/>
                  </a:lnTo>
                  <a:lnTo>
                    <a:pt x="905" y="952"/>
                  </a:lnTo>
                  <a:lnTo>
                    <a:pt x="922" y="956"/>
                  </a:lnTo>
                  <a:lnTo>
                    <a:pt x="939" y="957"/>
                  </a:lnTo>
                  <a:lnTo>
                    <a:pt x="955" y="956"/>
                  </a:lnTo>
                  <a:lnTo>
                    <a:pt x="971" y="952"/>
                  </a:lnTo>
                  <a:lnTo>
                    <a:pt x="960" y="970"/>
                  </a:lnTo>
                  <a:lnTo>
                    <a:pt x="945" y="980"/>
                  </a:lnTo>
                  <a:lnTo>
                    <a:pt x="927" y="986"/>
                  </a:lnTo>
                  <a:lnTo>
                    <a:pt x="907" y="987"/>
                  </a:lnTo>
                  <a:lnTo>
                    <a:pt x="887" y="986"/>
                  </a:lnTo>
                  <a:lnTo>
                    <a:pt x="865" y="984"/>
                  </a:lnTo>
                  <a:lnTo>
                    <a:pt x="845" y="981"/>
                  </a:lnTo>
                  <a:lnTo>
                    <a:pt x="827" y="9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06520" y="4495680"/>
              <a:ext cx="753480" cy="134280"/>
            </a:xfrm>
            <a:custGeom>
              <a:avLst/>
              <a:gdLst/>
              <a:ahLst/>
              <a:rect l="l" t="t" r="r" b="b"/>
              <a:pathLst>
                <a:path w="594" h="132">
                  <a:moveTo>
                    <a:pt x="594" y="30"/>
                  </a:moveTo>
                  <a:lnTo>
                    <a:pt x="575" y="40"/>
                  </a:lnTo>
                  <a:lnTo>
                    <a:pt x="554" y="49"/>
                  </a:lnTo>
                  <a:lnTo>
                    <a:pt x="533" y="58"/>
                  </a:lnTo>
                  <a:lnTo>
                    <a:pt x="511" y="67"/>
                  </a:lnTo>
                  <a:lnTo>
                    <a:pt x="490" y="73"/>
                  </a:lnTo>
                  <a:lnTo>
                    <a:pt x="468" y="79"/>
                  </a:lnTo>
                  <a:lnTo>
                    <a:pt x="445" y="84"/>
                  </a:lnTo>
                  <a:lnTo>
                    <a:pt x="422" y="87"/>
                  </a:lnTo>
                  <a:lnTo>
                    <a:pt x="397" y="91"/>
                  </a:lnTo>
                  <a:lnTo>
                    <a:pt x="374" y="92"/>
                  </a:lnTo>
                  <a:lnTo>
                    <a:pt x="350" y="93"/>
                  </a:lnTo>
                  <a:lnTo>
                    <a:pt x="326" y="93"/>
                  </a:lnTo>
                  <a:lnTo>
                    <a:pt x="303" y="91"/>
                  </a:lnTo>
                  <a:lnTo>
                    <a:pt x="279" y="88"/>
                  </a:lnTo>
                  <a:lnTo>
                    <a:pt x="254" y="85"/>
                  </a:lnTo>
                  <a:lnTo>
                    <a:pt x="231" y="79"/>
                  </a:lnTo>
                  <a:lnTo>
                    <a:pt x="211" y="76"/>
                  </a:lnTo>
                  <a:lnTo>
                    <a:pt x="191" y="75"/>
                  </a:lnTo>
                  <a:lnTo>
                    <a:pt x="174" y="75"/>
                  </a:lnTo>
                  <a:lnTo>
                    <a:pt x="157" y="77"/>
                  </a:lnTo>
                  <a:lnTo>
                    <a:pt x="142" y="79"/>
                  </a:lnTo>
                  <a:lnTo>
                    <a:pt x="127" y="84"/>
                  </a:lnTo>
                  <a:lnTo>
                    <a:pt x="113" y="88"/>
                  </a:lnTo>
                  <a:lnTo>
                    <a:pt x="100" y="94"/>
                  </a:lnTo>
                  <a:lnTo>
                    <a:pt x="87" y="100"/>
                  </a:lnTo>
                  <a:lnTo>
                    <a:pt x="76" y="106"/>
                  </a:lnTo>
                  <a:lnTo>
                    <a:pt x="63" y="111"/>
                  </a:lnTo>
                  <a:lnTo>
                    <a:pt x="52" y="117"/>
                  </a:lnTo>
                  <a:lnTo>
                    <a:pt x="39" y="122"/>
                  </a:lnTo>
                  <a:lnTo>
                    <a:pt x="26" y="126"/>
                  </a:lnTo>
                  <a:lnTo>
                    <a:pt x="14" y="130"/>
                  </a:lnTo>
                  <a:lnTo>
                    <a:pt x="0" y="132"/>
                  </a:lnTo>
                  <a:lnTo>
                    <a:pt x="11" y="108"/>
                  </a:lnTo>
                  <a:lnTo>
                    <a:pt x="26" y="90"/>
                  </a:lnTo>
                  <a:lnTo>
                    <a:pt x="45" y="76"/>
                  </a:lnTo>
                  <a:lnTo>
                    <a:pt x="66" y="65"/>
                  </a:lnTo>
                  <a:lnTo>
                    <a:pt x="86" y="56"/>
                  </a:lnTo>
                  <a:lnTo>
                    <a:pt x="109" y="49"/>
                  </a:lnTo>
                  <a:lnTo>
                    <a:pt x="131" y="42"/>
                  </a:lnTo>
                  <a:lnTo>
                    <a:pt x="152" y="33"/>
                  </a:lnTo>
                  <a:lnTo>
                    <a:pt x="185" y="35"/>
                  </a:lnTo>
                  <a:lnTo>
                    <a:pt x="218" y="38"/>
                  </a:lnTo>
                  <a:lnTo>
                    <a:pt x="248" y="39"/>
                  </a:lnTo>
                  <a:lnTo>
                    <a:pt x="278" y="39"/>
                  </a:lnTo>
                  <a:lnTo>
                    <a:pt x="305" y="39"/>
                  </a:lnTo>
                  <a:lnTo>
                    <a:pt x="333" y="39"/>
                  </a:lnTo>
                  <a:lnTo>
                    <a:pt x="359" y="37"/>
                  </a:lnTo>
                  <a:lnTo>
                    <a:pt x="386" y="35"/>
                  </a:lnTo>
                  <a:lnTo>
                    <a:pt x="410" y="32"/>
                  </a:lnTo>
                  <a:lnTo>
                    <a:pt x="435" y="30"/>
                  </a:lnTo>
                  <a:lnTo>
                    <a:pt x="460" y="25"/>
                  </a:lnTo>
                  <a:lnTo>
                    <a:pt x="484" y="22"/>
                  </a:lnTo>
                  <a:lnTo>
                    <a:pt x="508" y="17"/>
                  </a:lnTo>
                  <a:lnTo>
                    <a:pt x="532" y="11"/>
                  </a:lnTo>
                  <a:lnTo>
                    <a:pt x="556" y="6"/>
                  </a:lnTo>
                  <a:lnTo>
                    <a:pt x="581" y="0"/>
                  </a:lnTo>
                  <a:lnTo>
                    <a:pt x="587" y="4"/>
                  </a:lnTo>
                  <a:lnTo>
                    <a:pt x="592" y="12"/>
                  </a:lnTo>
                  <a:lnTo>
                    <a:pt x="594" y="20"/>
                  </a:lnTo>
                  <a:lnTo>
                    <a:pt x="59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563880" y="5375160"/>
              <a:ext cx="1350000" cy="347760"/>
            </a:xfrm>
            <a:custGeom>
              <a:avLst/>
              <a:gdLst/>
              <a:ahLst/>
              <a:rect l="l" t="t" r="r" b="b"/>
              <a:pathLst>
                <a:path w="1068" h="342">
                  <a:moveTo>
                    <a:pt x="1052" y="315"/>
                  </a:moveTo>
                  <a:lnTo>
                    <a:pt x="1033" y="328"/>
                  </a:lnTo>
                  <a:lnTo>
                    <a:pt x="1004" y="336"/>
                  </a:lnTo>
                  <a:lnTo>
                    <a:pt x="969" y="341"/>
                  </a:lnTo>
                  <a:lnTo>
                    <a:pt x="929" y="342"/>
                  </a:lnTo>
                  <a:lnTo>
                    <a:pt x="884" y="341"/>
                  </a:lnTo>
                  <a:lnTo>
                    <a:pt x="837" y="337"/>
                  </a:lnTo>
                  <a:lnTo>
                    <a:pt x="787" y="333"/>
                  </a:lnTo>
                  <a:lnTo>
                    <a:pt x="739" y="326"/>
                  </a:lnTo>
                  <a:lnTo>
                    <a:pt x="689" y="319"/>
                  </a:lnTo>
                  <a:lnTo>
                    <a:pt x="643" y="311"/>
                  </a:lnTo>
                  <a:lnTo>
                    <a:pt x="601" y="303"/>
                  </a:lnTo>
                  <a:lnTo>
                    <a:pt x="564" y="295"/>
                  </a:lnTo>
                  <a:lnTo>
                    <a:pt x="531" y="289"/>
                  </a:lnTo>
                  <a:lnTo>
                    <a:pt x="507" y="283"/>
                  </a:lnTo>
                  <a:lnTo>
                    <a:pt x="492" y="280"/>
                  </a:lnTo>
                  <a:lnTo>
                    <a:pt x="486" y="278"/>
                  </a:lnTo>
                  <a:lnTo>
                    <a:pt x="454" y="272"/>
                  </a:lnTo>
                  <a:lnTo>
                    <a:pt x="421" y="262"/>
                  </a:lnTo>
                  <a:lnTo>
                    <a:pt x="386" y="251"/>
                  </a:lnTo>
                  <a:lnTo>
                    <a:pt x="352" y="238"/>
                  </a:lnTo>
                  <a:lnTo>
                    <a:pt x="316" y="224"/>
                  </a:lnTo>
                  <a:lnTo>
                    <a:pt x="281" y="209"/>
                  </a:lnTo>
                  <a:lnTo>
                    <a:pt x="247" y="192"/>
                  </a:lnTo>
                  <a:lnTo>
                    <a:pt x="213" y="174"/>
                  </a:lnTo>
                  <a:lnTo>
                    <a:pt x="180" y="155"/>
                  </a:lnTo>
                  <a:lnTo>
                    <a:pt x="149" y="136"/>
                  </a:lnTo>
                  <a:lnTo>
                    <a:pt x="119" y="116"/>
                  </a:lnTo>
                  <a:lnTo>
                    <a:pt x="90" y="95"/>
                  </a:lnTo>
                  <a:lnTo>
                    <a:pt x="65" y="75"/>
                  </a:lnTo>
                  <a:lnTo>
                    <a:pt x="41" y="53"/>
                  </a:lnTo>
                  <a:lnTo>
                    <a:pt x="20" y="32"/>
                  </a:lnTo>
                  <a:lnTo>
                    <a:pt x="3" y="11"/>
                  </a:lnTo>
                  <a:lnTo>
                    <a:pt x="0" y="3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1"/>
                  </a:lnTo>
                  <a:lnTo>
                    <a:pt x="24" y="3"/>
                  </a:lnTo>
                  <a:lnTo>
                    <a:pt x="35" y="4"/>
                  </a:lnTo>
                  <a:lnTo>
                    <a:pt x="44" y="3"/>
                  </a:lnTo>
                  <a:lnTo>
                    <a:pt x="53" y="0"/>
                  </a:lnTo>
                  <a:lnTo>
                    <a:pt x="64" y="15"/>
                  </a:lnTo>
                  <a:lnTo>
                    <a:pt x="76" y="28"/>
                  </a:lnTo>
                  <a:lnTo>
                    <a:pt x="92" y="43"/>
                  </a:lnTo>
                  <a:lnTo>
                    <a:pt x="110" y="58"/>
                  </a:lnTo>
                  <a:lnTo>
                    <a:pt x="130" y="72"/>
                  </a:lnTo>
                  <a:lnTo>
                    <a:pt x="151" y="86"/>
                  </a:lnTo>
                  <a:lnTo>
                    <a:pt x="173" y="100"/>
                  </a:lnTo>
                  <a:lnTo>
                    <a:pt x="195" y="113"/>
                  </a:lnTo>
                  <a:lnTo>
                    <a:pt x="217" y="125"/>
                  </a:lnTo>
                  <a:lnTo>
                    <a:pt x="238" y="137"/>
                  </a:lnTo>
                  <a:lnTo>
                    <a:pt x="257" y="147"/>
                  </a:lnTo>
                  <a:lnTo>
                    <a:pt x="276" y="156"/>
                  </a:lnTo>
                  <a:lnTo>
                    <a:pt x="291" y="166"/>
                  </a:lnTo>
                  <a:lnTo>
                    <a:pt x="303" y="172"/>
                  </a:lnTo>
                  <a:lnTo>
                    <a:pt x="313" y="177"/>
                  </a:lnTo>
                  <a:lnTo>
                    <a:pt x="318" y="182"/>
                  </a:lnTo>
                  <a:lnTo>
                    <a:pt x="360" y="198"/>
                  </a:lnTo>
                  <a:lnTo>
                    <a:pt x="404" y="213"/>
                  </a:lnTo>
                  <a:lnTo>
                    <a:pt x="448" y="227"/>
                  </a:lnTo>
                  <a:lnTo>
                    <a:pt x="496" y="239"/>
                  </a:lnTo>
                  <a:lnTo>
                    <a:pt x="543" y="252"/>
                  </a:lnTo>
                  <a:lnTo>
                    <a:pt x="590" y="263"/>
                  </a:lnTo>
                  <a:lnTo>
                    <a:pt x="637" y="273"/>
                  </a:lnTo>
                  <a:lnTo>
                    <a:pt x="684" y="282"/>
                  </a:lnTo>
                  <a:lnTo>
                    <a:pt x="727" y="289"/>
                  </a:lnTo>
                  <a:lnTo>
                    <a:pt x="770" y="296"/>
                  </a:lnTo>
                  <a:lnTo>
                    <a:pt x="809" y="300"/>
                  </a:lnTo>
                  <a:lnTo>
                    <a:pt x="846" y="303"/>
                  </a:lnTo>
                  <a:lnTo>
                    <a:pt x="878" y="305"/>
                  </a:lnTo>
                  <a:lnTo>
                    <a:pt x="906" y="304"/>
                  </a:lnTo>
                  <a:lnTo>
                    <a:pt x="929" y="301"/>
                  </a:lnTo>
                  <a:lnTo>
                    <a:pt x="946" y="298"/>
                  </a:lnTo>
                  <a:lnTo>
                    <a:pt x="985" y="298"/>
                  </a:lnTo>
                  <a:lnTo>
                    <a:pt x="1016" y="296"/>
                  </a:lnTo>
                  <a:lnTo>
                    <a:pt x="1041" y="293"/>
                  </a:lnTo>
                  <a:lnTo>
                    <a:pt x="1057" y="292"/>
                  </a:lnTo>
                  <a:lnTo>
                    <a:pt x="1066" y="293"/>
                  </a:lnTo>
                  <a:lnTo>
                    <a:pt x="1068" y="297"/>
                  </a:lnTo>
                  <a:lnTo>
                    <a:pt x="1064" y="304"/>
                  </a:lnTo>
                  <a:lnTo>
                    <a:pt x="1052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859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762120" y="3200400"/>
            <a:ext cx="7924680" cy="1762920"/>
            <a:chOff x="762120" y="3200400"/>
            <a:chExt cx="7924680" cy="1762920"/>
          </a:xfrm>
        </p:grpSpPr>
        <p:sp>
          <p:nvSpPr>
            <p:cNvPr id="888" name=""/>
            <p:cNvSpPr/>
            <p:nvPr/>
          </p:nvSpPr>
          <p:spPr>
            <a:xfrm>
              <a:off x="1371600" y="3200400"/>
              <a:ext cx="1676520" cy="17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62120" y="396216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91120" y="327636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 27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57200" y="4876920"/>
            <a:ext cx="2590920" cy="962280"/>
            <a:chOff x="457200" y="4876920"/>
            <a:chExt cx="2590920" cy="962280"/>
          </a:xfrm>
        </p:grpSpPr>
        <p:sp>
          <p:nvSpPr>
            <p:cNvPr id="892" name=""/>
            <p:cNvSpPr/>
            <p:nvPr/>
          </p:nvSpPr>
          <p:spPr>
            <a:xfrm>
              <a:off x="457200" y="525780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ivided by 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1066680" y="487692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25440" y="2819520"/>
            <a:ext cx="3872520" cy="3019680"/>
            <a:chOff x="4825440" y="2819520"/>
            <a:chExt cx="3872520" cy="3019680"/>
          </a:xfrm>
        </p:grpSpPr>
        <p:sp>
          <p:nvSpPr>
            <p:cNvPr id="895" name=""/>
            <p:cNvSpPr/>
            <p:nvPr/>
          </p:nvSpPr>
          <p:spPr>
            <a:xfrm>
              <a:off x="571500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ultiply by 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4825440" y="2819520"/>
              <a:ext cx="3872520" cy="2544120"/>
              <a:chOff x="4825440" y="2819520"/>
              <a:chExt cx="3872520" cy="2544120"/>
            </a:xfrm>
          </p:grpSpPr>
          <p:sp>
            <p:nvSpPr>
              <p:cNvPr id="897" name=""/>
              <p:cNvSpPr/>
              <p:nvPr/>
            </p:nvSpPr>
            <p:spPr>
              <a:xfrm>
                <a:off x="5638680" y="2819520"/>
                <a:ext cx="3059280" cy="19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4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en-US" sz="124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12400" spc="-1" strike="noStrike">
                    <a:solidFill>
                      <a:srgbClr val="000000"/>
                    </a:solidFill>
                    <a:latin typeface="Comic Sans MS"/>
                  </a:rPr>
                  <a:t>	</a:t>
                </a:r>
                <a:r>
                  <a:rPr b="0" lang="en-US" sz="12400" spc="-1" strike="noStrike">
                    <a:solidFill>
                      <a:srgbClr val="000000"/>
                    </a:solidFill>
                    <a:latin typeface="Comic Sans MS"/>
                  </a:rPr>
                  <a:t> )</a:t>
                </a:r>
                <a:endParaRPr b="0" lang="en-US" sz="1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825440" y="3048120"/>
                <a:ext cx="8787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9" name=""/>
              <p:cNvCxnSpPr/>
              <p:nvPr/>
            </p:nvCxnSpPr>
            <p:spPr>
              <a:xfrm rot="10800000">
                <a:off x="5257080" y="4419000"/>
                <a:ext cx="450000" cy="945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00" name=""/>
          <p:cNvGrpSpPr/>
          <p:nvPr/>
        </p:nvGrpSpPr>
        <p:grpSpPr>
          <a:xfrm>
            <a:off x="304920" y="2819520"/>
            <a:ext cx="4647960" cy="3553200"/>
            <a:chOff x="304920" y="2819520"/>
            <a:chExt cx="4647960" cy="3553200"/>
          </a:xfrm>
        </p:grpSpPr>
        <p:sp>
          <p:nvSpPr>
            <p:cNvPr id="901" name=""/>
            <p:cNvSpPr/>
            <p:nvPr/>
          </p:nvSpPr>
          <p:spPr>
            <a:xfrm>
              <a:off x="1981080" y="5791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ultiply by 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04920" y="2819520"/>
              <a:ext cx="3058920" cy="19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1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2400" spc="-1" strike="noStrike">
                  <a:solidFill>
                    <a:srgbClr val="000000"/>
                  </a:solidFill>
                  <a:latin typeface="Comic Sans MS"/>
                </a:rPr>
                <a:t> )</a:t>
              </a:r>
              <a:endParaRPr b="0" lang="en-US" sz="1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301560" y="30481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4" name=""/>
            <p:cNvCxnSpPr>
              <a:stCxn id="901" idx="0"/>
              <a:endCxn id="903" idx="2"/>
            </p:cNvCxnSpPr>
            <p:nvPr/>
          </p:nvCxnSpPr>
          <p:spPr>
            <a:xfrm flipV="1">
              <a:off x="3466800" y="4602960"/>
              <a:ext cx="275400" cy="118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907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143000" y="36878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 27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59520" y="3718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850000" y="3641760"/>
            <a:ext cx="26128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8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5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939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990720" y="3733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436400" y="3763800"/>
            <a:ext cx="7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92560" y="380988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15000" y="397836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200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lo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685800" y="135576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took Tina 4 hours to travel from Tucson to Prescott during highway construction.  Her average speed is 54 mi./hr.  After the highway was completed Tina could drive at an average speed of 72 mi./hr.  By how much did this affect her travel ti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5800" y="135576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t took Tin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4 hours to travel from Tucson to Prescot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during highway construction.  Her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verage speed is 54 mi./hr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After the highway was completed Tina could drive at an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verage speed of 72 mi./hr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y how much did this affect her travel time</a:t>
            </a:r>
            <a:r>
              <a:rPr b="0" lang="en-US" sz="4000" spc="-1" strike="noStrike">
                <a:solidFill>
                  <a:srgbClr val="01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3842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 4 hours - Tucson to Prescott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   at speed of 54 mi./hr.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609480" y="4451400"/>
            <a:ext cx="1749600" cy="137160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1805040" cy="137160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701280" y="582300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49160" y="591336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3276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 time difference for two tr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1560" y="4038480"/>
            <a:ext cx="4955040" cy="1785600"/>
            <a:chOff x="2131560" y="4038480"/>
            <a:chExt cx="4955040" cy="1785600"/>
          </a:xfrm>
        </p:grpSpPr>
        <p:sp>
          <p:nvSpPr>
            <p:cNvPr id="981" name=""/>
            <p:cNvSpPr/>
            <p:nvPr/>
          </p:nvSpPr>
          <p:spPr>
            <a:xfrm>
              <a:off x="2131560" y="5181480"/>
              <a:ext cx="174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ff"/>
                  </a:solidFill>
                  <a:latin typeface="Comic Sans MS"/>
                </a:rPr>
                <a:t>? hou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60000" y="4572000"/>
              <a:ext cx="22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ff"/>
                  </a:solidFill>
                  <a:latin typeface="Comic Sans MS"/>
                </a:rPr>
                <a:t>72 mi./h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286000" y="4572000"/>
              <a:ext cx="4800600" cy="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48320" y="4038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rip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2438280" y="4952880"/>
            <a:ext cx="4572000" cy="1587600"/>
            <a:chOff x="2438280" y="4952880"/>
            <a:chExt cx="4572000" cy="1587600"/>
          </a:xfrm>
        </p:grpSpPr>
        <p:sp>
          <p:nvSpPr>
            <p:cNvPr id="986" name=""/>
            <p:cNvSpPr/>
            <p:nvPr/>
          </p:nvSpPr>
          <p:spPr>
            <a:xfrm>
              <a:off x="4598640" y="4952880"/>
              <a:ext cx="22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54 mi./hr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38480" y="5486400"/>
              <a:ext cx="18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4 hou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38280" y="6019920"/>
              <a:ext cx="4572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95480" y="60199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rip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133720" y="2514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second speed is 72 mi./h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609480" y="1479600"/>
            <a:ext cx="1749600" cy="13716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2"/>
          <a:stretch/>
        </p:blipFill>
        <p:spPr>
          <a:xfrm>
            <a:off x="6881760" y="1555920"/>
            <a:ext cx="1805040" cy="13716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701280" y="285120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049160" y="294156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92" idx="3"/>
            <a:endCxn id="993" idx="0"/>
          </p:cNvCxnSpPr>
          <p:nvPr/>
        </p:nvCxnSpPr>
        <p:spPr>
          <a:xfrm flipV="1">
            <a:off x="2359080" y="1555200"/>
            <a:ext cx="5426640" cy="610200"/>
          </a:xfrm>
          <a:prstGeom prst="curvedConnector5">
            <a:avLst>
              <a:gd name="adj1" fmla="val 41657"/>
              <a:gd name="adj2" fmla="val 68713"/>
              <a:gd name="adj3" fmla="val 416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7" name=""/>
          <p:cNvSpPr/>
          <p:nvPr/>
        </p:nvSpPr>
        <p:spPr>
          <a:xfrm>
            <a:off x="3505320" y="1905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838080" y="480060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velocity formula, calculated distance and trip 2 velocity to find time for tri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838080" y="342900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velocity formula and trip 1 time and speed to find the distance to Pres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609480" y="1479600"/>
            <a:ext cx="1749600" cy="137160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6881760" y="1555920"/>
            <a:ext cx="1805040" cy="13716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701280" y="285120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9160" y="294156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5" name=""/>
          <p:cNvCxnSpPr>
            <a:stCxn id="1001" idx="3"/>
            <a:endCxn id="1002" idx="0"/>
          </p:cNvCxnSpPr>
          <p:nvPr/>
        </p:nvCxnSpPr>
        <p:spPr>
          <a:xfrm flipV="1">
            <a:off x="2359080" y="1555200"/>
            <a:ext cx="5426640" cy="610200"/>
          </a:xfrm>
          <a:prstGeom prst="curvedConnector5">
            <a:avLst>
              <a:gd name="adj1" fmla="val 41657"/>
              <a:gd name="adj2" fmla="val 68713"/>
              <a:gd name="adj3" fmla="val 416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6" name=""/>
          <p:cNvSpPr/>
          <p:nvPr/>
        </p:nvSpPr>
        <p:spPr>
          <a:xfrm>
            <a:off x="3505320" y="1905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38080" y="4952880"/>
            <a:ext cx="7925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me difference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ip 1 time - trip 2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38080" y="3581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ip 2 is at faster speed, takes less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609480" y="1479600"/>
            <a:ext cx="1749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6881760" y="1555920"/>
            <a:ext cx="1805040" cy="137160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701280" y="285120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049160" y="294156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co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0" idx="3"/>
            <a:endCxn id="1011" idx="0"/>
          </p:cNvCxnSpPr>
          <p:nvPr/>
        </p:nvCxnSpPr>
        <p:spPr>
          <a:xfrm flipV="1">
            <a:off x="2359080" y="1555200"/>
            <a:ext cx="5426640" cy="610200"/>
          </a:xfrm>
          <a:prstGeom prst="curvedConnector5">
            <a:avLst>
              <a:gd name="adj1" fmla="val 41657"/>
              <a:gd name="adj2" fmla="val 68713"/>
              <a:gd name="adj3" fmla="val 416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5" name=""/>
          <p:cNvSpPr/>
          <p:nvPr/>
        </p:nvSpPr>
        <p:spPr>
          <a:xfrm>
            <a:off x="827640" y="3429000"/>
            <a:ext cx="7405920" cy="642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= velocity x time   (d = v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110680" y="4281480"/>
            <a:ext cx="479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 = (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72 mi/h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•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011960" y="5210280"/>
            <a:ext cx="72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re “t” represents the time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scott at 72 mi/h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505320" y="19051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05320" y="3809880"/>
            <a:ext cx="761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1196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664000"/>
            <a:ext cx="601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multi-step word problems using addition, subtraction, multiplication, and division of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2590920"/>
            <a:ext cx="2438280" cy="3429000"/>
            <a:chOff x="457200" y="2590920"/>
            <a:chExt cx="2438280" cy="3429000"/>
          </a:xfrm>
        </p:grpSpPr>
        <p:sp>
          <p:nvSpPr>
            <p:cNvPr id="177" name=""/>
            <p:cNvSpPr/>
            <p:nvPr/>
          </p:nvSpPr>
          <p:spPr>
            <a:xfrm>
              <a:off x="457200" y="2590920"/>
              <a:ext cx="2438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6200" y="2604960"/>
              <a:ext cx="24202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6600" y="2633760"/>
              <a:ext cx="12780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83760" y="2648160"/>
              <a:ext cx="7272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73960" y="2676960"/>
              <a:ext cx="547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5840" y="2698200"/>
              <a:ext cx="7272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7920" y="2727000"/>
              <a:ext cx="6372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16680" y="2741400"/>
              <a:ext cx="8208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89400" y="2748600"/>
              <a:ext cx="7740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0840" y="2791800"/>
              <a:ext cx="590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73520" y="2813040"/>
              <a:ext cx="94068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14120" y="2820240"/>
              <a:ext cx="12312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37160" y="2820240"/>
              <a:ext cx="13212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820240"/>
              <a:ext cx="15984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58600" y="2834640"/>
              <a:ext cx="6372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6000" y="2856240"/>
              <a:ext cx="453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1080" y="2870640"/>
              <a:ext cx="453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54800" y="2892240"/>
              <a:ext cx="316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00520" y="2906280"/>
              <a:ext cx="410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7480" y="3071520"/>
              <a:ext cx="24624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3440" y="3135960"/>
              <a:ext cx="2052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61160" y="3171960"/>
              <a:ext cx="1915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34240" y="3186360"/>
              <a:ext cx="9576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21440" y="3222000"/>
              <a:ext cx="16884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79960" y="3236400"/>
              <a:ext cx="2268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53480" y="3265200"/>
              <a:ext cx="7308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5520" y="3300840"/>
              <a:ext cx="2268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5000" y="3616560"/>
              <a:ext cx="6372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01320" y="3666960"/>
              <a:ext cx="57060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1200" y="3781800"/>
              <a:ext cx="3787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18800" y="3824640"/>
              <a:ext cx="13334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1200" y="3917880"/>
              <a:ext cx="18720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73080" y="3968280"/>
              <a:ext cx="273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9440" y="3982680"/>
              <a:ext cx="316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3480" y="3982680"/>
              <a:ext cx="136980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3240" y="4090320"/>
              <a:ext cx="35604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4240" y="4154760"/>
              <a:ext cx="1141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05640" y="4161960"/>
              <a:ext cx="8208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040" y="4176360"/>
              <a:ext cx="13212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91520" y="4197600"/>
              <a:ext cx="10944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28240" y="4233600"/>
              <a:ext cx="91332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800" y="4276800"/>
              <a:ext cx="8208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840" y="4298400"/>
              <a:ext cx="410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41120" y="4305600"/>
              <a:ext cx="3636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8880" y="4319640"/>
              <a:ext cx="25092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0440" y="4326840"/>
              <a:ext cx="922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8560" y="4370040"/>
              <a:ext cx="2268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240" y="4620960"/>
              <a:ext cx="15948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400" y="4620960"/>
              <a:ext cx="410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54720" y="4628160"/>
              <a:ext cx="500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7360" y="4649760"/>
              <a:ext cx="500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1000" y="4671360"/>
              <a:ext cx="500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80840" y="4857840"/>
              <a:ext cx="291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62920" y="4886640"/>
              <a:ext cx="453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76960" y="4929480"/>
              <a:ext cx="316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8640" y="4979880"/>
              <a:ext cx="1368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41480" y="5180760"/>
              <a:ext cx="34236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1312920"/>
            <a:ext cx="8000640" cy="1859040"/>
            <a:chOff x="685800" y="1312920"/>
            <a:chExt cx="8000640" cy="1859040"/>
          </a:xfrm>
        </p:grpSpPr>
        <p:pic>
          <p:nvPicPr>
            <p:cNvPr id="1022" name="" descr=""/>
            <p:cNvPicPr/>
            <p:nvPr/>
          </p:nvPicPr>
          <p:blipFill>
            <a:blip r:embed="rId1"/>
            <a:stretch/>
          </p:blipFill>
          <p:spPr>
            <a:xfrm>
              <a:off x="685800" y="1441440"/>
              <a:ext cx="173304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" descr=""/>
            <p:cNvPicPr/>
            <p:nvPr/>
          </p:nvPicPr>
          <p:blipFill>
            <a:blip r:embed="rId2"/>
            <a:stretch/>
          </p:blipFill>
          <p:spPr>
            <a:xfrm>
              <a:off x="6898680" y="1504800"/>
              <a:ext cx="17877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780120" y="26377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uc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55640" y="27122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esco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6" name=""/>
            <p:cNvCxnSpPr>
              <a:stCxn id="1022" idx="3"/>
              <a:endCxn id="1023" idx="0"/>
            </p:cNvCxnSpPr>
            <p:nvPr/>
          </p:nvCxnSpPr>
          <p:spPr>
            <a:xfrm flipV="1">
              <a:off x="2418480" y="1504080"/>
              <a:ext cx="5374800" cy="510120"/>
            </a:xfrm>
            <a:prstGeom prst="curvedConnector5">
              <a:avLst>
                <a:gd name="adj1" fmla="val 41663"/>
                <a:gd name="adj2" fmla="val 68714"/>
                <a:gd name="adj3" fmla="val 4166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7" name=""/>
            <p:cNvSpPr/>
            <p:nvPr/>
          </p:nvSpPr>
          <p:spPr>
            <a:xfrm>
              <a:off x="2183760" y="1466280"/>
              <a:ext cx="163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4 hou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708800" y="159372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54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217600" y="219240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72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70360" y="212832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33"/>
                  </a:solidFill>
                  <a:latin typeface="Comic Sans MS"/>
                </a:rPr>
                <a:t>time diff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975680" y="3276720"/>
            <a:ext cx="479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 = (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72 mi/h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•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996560" y="4191120"/>
            <a:ext cx="570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 = (54 mi/hr) • 4 h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806120" y="518148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 = 216 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85800" y="1312920"/>
            <a:ext cx="8000640" cy="1859040"/>
            <a:chOff x="685800" y="1312920"/>
            <a:chExt cx="8000640" cy="1859040"/>
          </a:xfrm>
        </p:grpSpPr>
        <p:pic>
          <p:nvPicPr>
            <p:cNvPr id="1036" name="" descr=""/>
            <p:cNvPicPr/>
            <p:nvPr/>
          </p:nvPicPr>
          <p:blipFill>
            <a:blip r:embed="rId1"/>
            <a:stretch/>
          </p:blipFill>
          <p:spPr>
            <a:xfrm>
              <a:off x="685800" y="1441440"/>
              <a:ext cx="173304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7" name="" descr=""/>
            <p:cNvPicPr/>
            <p:nvPr/>
          </p:nvPicPr>
          <p:blipFill>
            <a:blip r:embed="rId2"/>
            <a:stretch/>
          </p:blipFill>
          <p:spPr>
            <a:xfrm>
              <a:off x="6898680" y="1504800"/>
              <a:ext cx="17877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780120" y="26377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uc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055640" y="27122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esco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0" name=""/>
            <p:cNvCxnSpPr>
              <a:stCxn id="1036" idx="3"/>
              <a:endCxn id="1037" idx="0"/>
            </p:cNvCxnSpPr>
            <p:nvPr/>
          </p:nvCxnSpPr>
          <p:spPr>
            <a:xfrm flipV="1">
              <a:off x="2418480" y="1504080"/>
              <a:ext cx="5374800" cy="510120"/>
            </a:xfrm>
            <a:prstGeom prst="curvedConnector5">
              <a:avLst>
                <a:gd name="adj1" fmla="val 41663"/>
                <a:gd name="adj2" fmla="val 68714"/>
                <a:gd name="adj3" fmla="val 4166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"/>
            <p:cNvSpPr/>
            <p:nvPr/>
          </p:nvSpPr>
          <p:spPr>
            <a:xfrm>
              <a:off x="2183760" y="1466280"/>
              <a:ext cx="163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4 hou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08800" y="159372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54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217600" y="219240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 Sans MS"/>
                </a:rPr>
                <a:t>72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770360" y="212832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33"/>
                  </a:solidFill>
                  <a:latin typeface="Comic Sans MS"/>
                </a:rPr>
                <a:t>time diff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823400" y="2971800"/>
            <a:ext cx="479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 = (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72 mi/h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• 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31520" y="3809880"/>
            <a:ext cx="315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 = 216 m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685800" y="1312920"/>
            <a:ext cx="8000640" cy="1859040"/>
            <a:chOff x="685800" y="1312920"/>
            <a:chExt cx="8000640" cy="1859040"/>
          </a:xfrm>
        </p:grpSpPr>
        <p:pic>
          <p:nvPicPr>
            <p:cNvPr id="1049" name="" descr=""/>
            <p:cNvPicPr/>
            <p:nvPr/>
          </p:nvPicPr>
          <p:blipFill>
            <a:blip r:embed="rId3"/>
            <a:stretch/>
          </p:blipFill>
          <p:spPr>
            <a:xfrm>
              <a:off x="685800" y="1441440"/>
              <a:ext cx="173304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" descr=""/>
            <p:cNvPicPr/>
            <p:nvPr/>
          </p:nvPicPr>
          <p:blipFill>
            <a:blip r:embed="rId4"/>
            <a:stretch/>
          </p:blipFill>
          <p:spPr>
            <a:xfrm>
              <a:off x="6898680" y="1504800"/>
              <a:ext cx="17877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"/>
            <p:cNvSpPr/>
            <p:nvPr/>
          </p:nvSpPr>
          <p:spPr>
            <a:xfrm>
              <a:off x="780120" y="26377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uc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055640" y="27122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esco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3" name=""/>
            <p:cNvCxnSpPr>
              <a:stCxn id="1049" idx="3"/>
              <a:endCxn id="1050" idx="0"/>
            </p:cNvCxnSpPr>
            <p:nvPr/>
          </p:nvCxnSpPr>
          <p:spPr>
            <a:xfrm flipV="1">
              <a:off x="2418480" y="1504080"/>
              <a:ext cx="5374800" cy="510120"/>
            </a:xfrm>
            <a:prstGeom prst="curvedConnector5">
              <a:avLst>
                <a:gd name="adj1" fmla="val 41663"/>
                <a:gd name="adj2" fmla="val 68714"/>
                <a:gd name="adj3" fmla="val 4166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54" name=""/>
            <p:cNvSpPr/>
            <p:nvPr/>
          </p:nvSpPr>
          <p:spPr>
            <a:xfrm>
              <a:off x="2183760" y="1466280"/>
              <a:ext cx="163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4 hou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708800" y="159372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54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217600" y="219240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72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770360" y="212832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33"/>
                  </a:solidFill>
                  <a:latin typeface="Comic Sans MS"/>
                </a:rPr>
                <a:t>time diff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847800" y="4648320"/>
            <a:ext cx="7413480" cy="825120"/>
            <a:chOff x="847800" y="4648320"/>
            <a:chExt cx="7413480" cy="825120"/>
          </a:xfrm>
        </p:grpSpPr>
        <p:sp>
          <p:nvSpPr>
            <p:cNvPr id="1059" name=""/>
            <p:cNvSpPr/>
            <p:nvPr/>
          </p:nvSpPr>
          <p:spPr>
            <a:xfrm>
              <a:off x="5989680" y="4648320"/>
              <a:ext cx="22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16 mi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47800" y="4648320"/>
              <a:ext cx="3908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72 mi/h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) • 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17200" y="46483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3083760" y="5638680"/>
            <a:ext cx="281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2t = 2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1065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066680" y="387036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72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570720" y="3886200"/>
            <a:ext cx="150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91120" y="389412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990720" y="4708440"/>
            <a:ext cx="1600200" cy="1008360"/>
            <a:chOff x="990720" y="4708440"/>
            <a:chExt cx="1600200" cy="1008360"/>
          </a:xfrm>
        </p:grpSpPr>
        <p:sp>
          <p:nvSpPr>
            <p:cNvPr id="1096" name=""/>
            <p:cNvSpPr/>
            <p:nvPr/>
          </p:nvSpPr>
          <p:spPr>
            <a:xfrm>
              <a:off x="990720" y="47242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173960" y="470844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7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477120" y="4724280"/>
            <a:ext cx="1600200" cy="1008360"/>
            <a:chOff x="6477120" y="4724280"/>
            <a:chExt cx="1600200" cy="1008360"/>
          </a:xfrm>
        </p:grpSpPr>
        <p:sp>
          <p:nvSpPr>
            <p:cNvPr id="1099" name=""/>
            <p:cNvSpPr/>
            <p:nvPr/>
          </p:nvSpPr>
          <p:spPr>
            <a:xfrm>
              <a:off x="6477120" y="47242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12640" y="472428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7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132360" y="6094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838080" y="1447920"/>
            <a:ext cx="7391160" cy="4952520"/>
            <a:chOff x="838080" y="1447920"/>
            <a:chExt cx="7391160" cy="4952520"/>
          </a:xfrm>
        </p:grpSpPr>
        <p:sp>
          <p:nvSpPr>
            <p:cNvPr id="1103" name=""/>
            <p:cNvSpPr/>
            <p:nvPr/>
          </p:nvSpPr>
          <p:spPr>
            <a:xfrm>
              <a:off x="3823560" y="5482800"/>
              <a:ext cx="1335240" cy="329400"/>
            </a:xfrm>
            <a:custGeom>
              <a:avLst/>
              <a:gdLst/>
              <a:ahLst/>
              <a:rect l="l" t="t" r="r" b="b"/>
              <a:pathLst>
                <a:path w="581" h="180">
                  <a:moveTo>
                    <a:pt x="64" y="180"/>
                  </a:moveTo>
                  <a:lnTo>
                    <a:pt x="51" y="178"/>
                  </a:lnTo>
                  <a:lnTo>
                    <a:pt x="40" y="175"/>
                  </a:lnTo>
                  <a:lnTo>
                    <a:pt x="30" y="170"/>
                  </a:lnTo>
                  <a:lnTo>
                    <a:pt x="21" y="164"/>
                  </a:lnTo>
                  <a:lnTo>
                    <a:pt x="9" y="147"/>
                  </a:lnTo>
                  <a:lnTo>
                    <a:pt x="3" y="130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0" y="71"/>
                  </a:lnTo>
                  <a:lnTo>
                    <a:pt x="3" y="51"/>
                  </a:lnTo>
                  <a:lnTo>
                    <a:pt x="9" y="33"/>
                  </a:lnTo>
                  <a:lnTo>
                    <a:pt x="21" y="17"/>
                  </a:lnTo>
                  <a:lnTo>
                    <a:pt x="30" y="10"/>
                  </a:lnTo>
                  <a:lnTo>
                    <a:pt x="40" y="5"/>
                  </a:lnTo>
                  <a:lnTo>
                    <a:pt x="51" y="2"/>
                  </a:lnTo>
                  <a:lnTo>
                    <a:pt x="64" y="0"/>
                  </a:lnTo>
                  <a:lnTo>
                    <a:pt x="518" y="0"/>
                  </a:lnTo>
                  <a:lnTo>
                    <a:pt x="531" y="2"/>
                  </a:lnTo>
                  <a:lnTo>
                    <a:pt x="542" y="5"/>
                  </a:lnTo>
                  <a:lnTo>
                    <a:pt x="552" y="10"/>
                  </a:lnTo>
                  <a:lnTo>
                    <a:pt x="560" y="17"/>
                  </a:lnTo>
                  <a:lnTo>
                    <a:pt x="571" y="33"/>
                  </a:lnTo>
                  <a:lnTo>
                    <a:pt x="578" y="51"/>
                  </a:lnTo>
                  <a:lnTo>
                    <a:pt x="581" y="71"/>
                  </a:lnTo>
                  <a:lnTo>
                    <a:pt x="581" y="91"/>
                  </a:lnTo>
                  <a:lnTo>
                    <a:pt x="581" y="102"/>
                  </a:lnTo>
                  <a:lnTo>
                    <a:pt x="580" y="115"/>
                  </a:lnTo>
                  <a:lnTo>
                    <a:pt x="578" y="130"/>
                  </a:lnTo>
                  <a:lnTo>
                    <a:pt x="573" y="144"/>
                  </a:lnTo>
                  <a:lnTo>
                    <a:pt x="565" y="159"/>
                  </a:lnTo>
                  <a:lnTo>
                    <a:pt x="555" y="170"/>
                  </a:lnTo>
                  <a:lnTo>
                    <a:pt x="539" y="176"/>
                  </a:lnTo>
                  <a:lnTo>
                    <a:pt x="518" y="180"/>
                  </a:lnTo>
                  <a:lnTo>
                    <a:pt x="64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30360" y="1605600"/>
              <a:ext cx="500760" cy="3880080"/>
            </a:xfrm>
            <a:custGeom>
              <a:avLst/>
              <a:gdLst/>
              <a:ahLst/>
              <a:rect l="l" t="t" r="r" b="b"/>
              <a:pathLst>
                <a:path w="218" h="2118">
                  <a:moveTo>
                    <a:pt x="2" y="2095"/>
                  </a:moveTo>
                  <a:lnTo>
                    <a:pt x="42" y="22"/>
                  </a:lnTo>
                  <a:lnTo>
                    <a:pt x="42" y="0"/>
                  </a:lnTo>
                  <a:lnTo>
                    <a:pt x="65" y="0"/>
                  </a:lnTo>
                  <a:lnTo>
                    <a:pt x="155" y="0"/>
                  </a:lnTo>
                  <a:lnTo>
                    <a:pt x="178" y="0"/>
                  </a:lnTo>
                  <a:lnTo>
                    <a:pt x="178" y="22"/>
                  </a:lnTo>
                  <a:lnTo>
                    <a:pt x="218" y="2095"/>
                  </a:lnTo>
                  <a:lnTo>
                    <a:pt x="218" y="2118"/>
                  </a:lnTo>
                  <a:lnTo>
                    <a:pt x="197" y="2118"/>
                  </a:lnTo>
                  <a:lnTo>
                    <a:pt x="25" y="2118"/>
                  </a:lnTo>
                  <a:lnTo>
                    <a:pt x="0" y="2118"/>
                  </a:lnTo>
                  <a:lnTo>
                    <a:pt x="2" y="2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87600" y="1645920"/>
              <a:ext cx="395280" cy="3801600"/>
            </a:xfrm>
            <a:custGeom>
              <a:avLst/>
              <a:gdLst/>
              <a:ahLst/>
              <a:rect l="l" t="t" r="r" b="b"/>
              <a:pathLst>
                <a:path w="172" h="2075">
                  <a:moveTo>
                    <a:pt x="172" y="2075"/>
                  </a:moveTo>
                  <a:lnTo>
                    <a:pt x="130" y="0"/>
                  </a:lnTo>
                  <a:lnTo>
                    <a:pt x="40" y="0"/>
                  </a:lnTo>
                  <a:lnTo>
                    <a:pt x="0" y="2075"/>
                  </a:lnTo>
                  <a:lnTo>
                    <a:pt x="172" y="2075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168080" y="5400000"/>
              <a:ext cx="638640" cy="166320"/>
            </a:xfrm>
            <a:custGeom>
              <a:avLst/>
              <a:gdLst/>
              <a:ahLst/>
              <a:rect l="l" t="t" r="r" b="b"/>
              <a:pathLst>
                <a:path w="278" h="91">
                  <a:moveTo>
                    <a:pt x="47" y="91"/>
                  </a:moveTo>
                  <a:lnTo>
                    <a:pt x="37" y="89"/>
                  </a:lnTo>
                  <a:lnTo>
                    <a:pt x="29" y="87"/>
                  </a:lnTo>
                  <a:lnTo>
                    <a:pt x="21" y="83"/>
                  </a:lnTo>
                  <a:lnTo>
                    <a:pt x="14" y="78"/>
                  </a:lnTo>
                  <a:lnTo>
                    <a:pt x="8" y="71"/>
                  </a:lnTo>
                  <a:lnTo>
                    <a:pt x="3" y="63"/>
                  </a:lnTo>
                  <a:lnTo>
                    <a:pt x="2" y="55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8"/>
                  </a:lnTo>
                  <a:lnTo>
                    <a:pt x="8" y="20"/>
                  </a:lnTo>
                  <a:lnTo>
                    <a:pt x="14" y="13"/>
                  </a:lnTo>
                  <a:lnTo>
                    <a:pt x="21" y="8"/>
                  </a:lnTo>
                  <a:lnTo>
                    <a:pt x="29" y="3"/>
                  </a:lnTo>
                  <a:lnTo>
                    <a:pt x="37" y="2"/>
                  </a:lnTo>
                  <a:lnTo>
                    <a:pt x="47" y="0"/>
                  </a:lnTo>
                  <a:lnTo>
                    <a:pt x="232" y="0"/>
                  </a:lnTo>
                  <a:lnTo>
                    <a:pt x="241" y="2"/>
                  </a:lnTo>
                  <a:lnTo>
                    <a:pt x="249" y="3"/>
                  </a:lnTo>
                  <a:lnTo>
                    <a:pt x="257" y="8"/>
                  </a:lnTo>
                  <a:lnTo>
                    <a:pt x="265" y="13"/>
                  </a:lnTo>
                  <a:lnTo>
                    <a:pt x="270" y="20"/>
                  </a:lnTo>
                  <a:lnTo>
                    <a:pt x="274" y="28"/>
                  </a:lnTo>
                  <a:lnTo>
                    <a:pt x="276" y="37"/>
                  </a:lnTo>
                  <a:lnTo>
                    <a:pt x="278" y="45"/>
                  </a:lnTo>
                  <a:lnTo>
                    <a:pt x="274" y="63"/>
                  </a:lnTo>
                  <a:lnTo>
                    <a:pt x="265" y="78"/>
                  </a:lnTo>
                  <a:lnTo>
                    <a:pt x="250" y="87"/>
                  </a:lnTo>
                  <a:lnTo>
                    <a:pt x="232" y="91"/>
                  </a:lnTo>
                  <a:lnTo>
                    <a:pt x="47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00480" y="5427360"/>
              <a:ext cx="572040" cy="11160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218" y="61"/>
                  </a:moveTo>
                  <a:lnTo>
                    <a:pt x="230" y="60"/>
                  </a:lnTo>
                  <a:lnTo>
                    <a:pt x="239" y="53"/>
                  </a:lnTo>
                  <a:lnTo>
                    <a:pt x="246" y="43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46" y="18"/>
                  </a:lnTo>
                  <a:lnTo>
                    <a:pt x="239" y="8"/>
                  </a:lnTo>
                  <a:lnTo>
                    <a:pt x="230" y="1"/>
                  </a:lnTo>
                  <a:lnTo>
                    <a:pt x="218" y="0"/>
                  </a:lnTo>
                  <a:lnTo>
                    <a:pt x="33" y="0"/>
                  </a:lnTo>
                  <a:lnTo>
                    <a:pt x="20" y="1"/>
                  </a:lnTo>
                  <a:lnTo>
                    <a:pt x="10" y="8"/>
                  </a:lnTo>
                  <a:lnTo>
                    <a:pt x="4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43"/>
                  </a:lnTo>
                  <a:lnTo>
                    <a:pt x="10" y="53"/>
                  </a:lnTo>
                  <a:lnTo>
                    <a:pt x="20" y="60"/>
                  </a:lnTo>
                  <a:lnTo>
                    <a:pt x="33" y="61"/>
                  </a:lnTo>
                  <a:lnTo>
                    <a:pt x="218" y="61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55600" y="5510160"/>
              <a:ext cx="1270800" cy="274320"/>
            </a:xfrm>
            <a:custGeom>
              <a:avLst/>
              <a:gdLst/>
              <a:ahLst/>
              <a:rect l="l" t="t" r="r" b="b"/>
              <a:pathLst>
                <a:path w="553" h="150">
                  <a:moveTo>
                    <a:pt x="504" y="150"/>
                  </a:moveTo>
                  <a:lnTo>
                    <a:pt x="517" y="149"/>
                  </a:lnTo>
                  <a:lnTo>
                    <a:pt x="528" y="144"/>
                  </a:lnTo>
                  <a:lnTo>
                    <a:pt x="536" y="137"/>
                  </a:lnTo>
                  <a:lnTo>
                    <a:pt x="543" y="128"/>
                  </a:lnTo>
                  <a:lnTo>
                    <a:pt x="548" y="118"/>
                  </a:lnTo>
                  <a:lnTo>
                    <a:pt x="551" y="105"/>
                  </a:lnTo>
                  <a:lnTo>
                    <a:pt x="553" y="90"/>
                  </a:lnTo>
                  <a:lnTo>
                    <a:pt x="553" y="76"/>
                  </a:lnTo>
                  <a:lnTo>
                    <a:pt x="553" y="76"/>
                  </a:lnTo>
                  <a:lnTo>
                    <a:pt x="553" y="61"/>
                  </a:lnTo>
                  <a:lnTo>
                    <a:pt x="551" y="47"/>
                  </a:lnTo>
                  <a:lnTo>
                    <a:pt x="548" y="34"/>
                  </a:lnTo>
                  <a:lnTo>
                    <a:pt x="543" y="23"/>
                  </a:lnTo>
                  <a:lnTo>
                    <a:pt x="536" y="13"/>
                  </a:lnTo>
                  <a:lnTo>
                    <a:pt x="528" y="6"/>
                  </a:lnTo>
                  <a:lnTo>
                    <a:pt x="517" y="2"/>
                  </a:lnTo>
                  <a:lnTo>
                    <a:pt x="504" y="0"/>
                  </a:lnTo>
                  <a:lnTo>
                    <a:pt x="50" y="0"/>
                  </a:lnTo>
                  <a:lnTo>
                    <a:pt x="36" y="2"/>
                  </a:lnTo>
                  <a:lnTo>
                    <a:pt x="24" y="6"/>
                  </a:lnTo>
                  <a:lnTo>
                    <a:pt x="16" y="13"/>
                  </a:lnTo>
                  <a:lnTo>
                    <a:pt x="10" y="23"/>
                  </a:lnTo>
                  <a:lnTo>
                    <a:pt x="5" y="34"/>
                  </a:lnTo>
                  <a:lnTo>
                    <a:pt x="2" y="47"/>
                  </a:lnTo>
                  <a:lnTo>
                    <a:pt x="0" y="61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2" y="105"/>
                  </a:lnTo>
                  <a:lnTo>
                    <a:pt x="5" y="118"/>
                  </a:lnTo>
                  <a:lnTo>
                    <a:pt x="10" y="128"/>
                  </a:lnTo>
                  <a:lnTo>
                    <a:pt x="16" y="137"/>
                  </a:lnTo>
                  <a:lnTo>
                    <a:pt x="24" y="144"/>
                  </a:lnTo>
                  <a:lnTo>
                    <a:pt x="36" y="149"/>
                  </a:lnTo>
                  <a:lnTo>
                    <a:pt x="50" y="150"/>
                  </a:lnTo>
                  <a:lnTo>
                    <a:pt x="504" y="15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3280" y="1447920"/>
              <a:ext cx="404280" cy="32220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87"/>
                  </a:moveTo>
                  <a:lnTo>
                    <a:pt x="2" y="71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0" y="15"/>
                  </a:lnTo>
                  <a:lnTo>
                    <a:pt x="47" y="10"/>
                  </a:lnTo>
                  <a:lnTo>
                    <a:pt x="55" y="6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1" y="10"/>
                  </a:lnTo>
                  <a:lnTo>
                    <a:pt x="137" y="15"/>
                  </a:lnTo>
                  <a:lnTo>
                    <a:pt x="145" y="19"/>
                  </a:lnTo>
                  <a:lnTo>
                    <a:pt x="152" y="26"/>
                  </a:lnTo>
                  <a:lnTo>
                    <a:pt x="163" y="39"/>
                  </a:lnTo>
                  <a:lnTo>
                    <a:pt x="170" y="53"/>
                  </a:lnTo>
                  <a:lnTo>
                    <a:pt x="174" y="71"/>
                  </a:lnTo>
                  <a:lnTo>
                    <a:pt x="176" y="87"/>
                  </a:lnTo>
                  <a:lnTo>
                    <a:pt x="174" y="105"/>
                  </a:lnTo>
                  <a:lnTo>
                    <a:pt x="170" y="121"/>
                  </a:lnTo>
                  <a:lnTo>
                    <a:pt x="161" y="137"/>
                  </a:lnTo>
                  <a:lnTo>
                    <a:pt x="150" y="150"/>
                  </a:lnTo>
                  <a:lnTo>
                    <a:pt x="137" y="161"/>
                  </a:lnTo>
                  <a:lnTo>
                    <a:pt x="123" y="170"/>
                  </a:lnTo>
                  <a:lnTo>
                    <a:pt x="107" y="174"/>
                  </a:lnTo>
                  <a:lnTo>
                    <a:pt x="89" y="176"/>
                  </a:lnTo>
                  <a:lnTo>
                    <a:pt x="79" y="176"/>
                  </a:lnTo>
                  <a:lnTo>
                    <a:pt x="71" y="174"/>
                  </a:lnTo>
                  <a:lnTo>
                    <a:pt x="63" y="173"/>
                  </a:lnTo>
                  <a:lnTo>
                    <a:pt x="55" y="170"/>
                  </a:lnTo>
                  <a:lnTo>
                    <a:pt x="47" y="165"/>
                  </a:lnTo>
                  <a:lnTo>
                    <a:pt x="40" y="161"/>
                  </a:lnTo>
                  <a:lnTo>
                    <a:pt x="32" y="157"/>
                  </a:lnTo>
                  <a:lnTo>
                    <a:pt x="26" y="150"/>
                  </a:lnTo>
                  <a:lnTo>
                    <a:pt x="15" y="136"/>
                  </a:lnTo>
                  <a:lnTo>
                    <a:pt x="6" y="121"/>
                  </a:lnTo>
                  <a:lnTo>
                    <a:pt x="2" y="10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36200" y="1486440"/>
              <a:ext cx="303120" cy="2415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66" y="132"/>
                  </a:moveTo>
                  <a:lnTo>
                    <a:pt x="79" y="131"/>
                  </a:lnTo>
                  <a:lnTo>
                    <a:pt x="92" y="128"/>
                  </a:lnTo>
                  <a:lnTo>
                    <a:pt x="103" y="121"/>
                  </a:lnTo>
                  <a:lnTo>
                    <a:pt x="113" y="113"/>
                  </a:lnTo>
                  <a:lnTo>
                    <a:pt x="121" y="103"/>
                  </a:lnTo>
                  <a:lnTo>
                    <a:pt x="127" y="92"/>
                  </a:lnTo>
                  <a:lnTo>
                    <a:pt x="130" y="79"/>
                  </a:lnTo>
                  <a:lnTo>
                    <a:pt x="132" y="66"/>
                  </a:lnTo>
                  <a:lnTo>
                    <a:pt x="130" y="53"/>
                  </a:lnTo>
                  <a:lnTo>
                    <a:pt x="127" y="40"/>
                  </a:lnTo>
                  <a:lnTo>
                    <a:pt x="121" y="29"/>
                  </a:lnTo>
                  <a:lnTo>
                    <a:pt x="113" y="19"/>
                  </a:lnTo>
                  <a:lnTo>
                    <a:pt x="103" y="11"/>
                  </a:lnTo>
                  <a:lnTo>
                    <a:pt x="92" y="5"/>
                  </a:lnTo>
                  <a:lnTo>
                    <a:pt x="79" y="2"/>
                  </a:lnTo>
                  <a:lnTo>
                    <a:pt x="66" y="0"/>
                  </a:lnTo>
                  <a:lnTo>
                    <a:pt x="53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19" y="19"/>
                  </a:lnTo>
                  <a:lnTo>
                    <a:pt x="11" y="29"/>
                  </a:lnTo>
                  <a:lnTo>
                    <a:pt x="4" y="40"/>
                  </a:lnTo>
                  <a:lnTo>
                    <a:pt x="1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4" y="92"/>
                  </a:lnTo>
                  <a:lnTo>
                    <a:pt x="11" y="103"/>
                  </a:lnTo>
                  <a:lnTo>
                    <a:pt x="19" y="113"/>
                  </a:lnTo>
                  <a:lnTo>
                    <a:pt x="29" y="121"/>
                  </a:lnTo>
                  <a:lnTo>
                    <a:pt x="40" y="128"/>
                  </a:lnTo>
                  <a:lnTo>
                    <a:pt x="53" y="131"/>
                  </a:lnTo>
                  <a:lnTo>
                    <a:pt x="66" y="132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617120" y="1953360"/>
              <a:ext cx="372600" cy="28764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71" y="45"/>
                  </a:moveTo>
                  <a:lnTo>
                    <a:pt x="65" y="49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8"/>
                  </a:lnTo>
                  <a:lnTo>
                    <a:pt x="44" y="84"/>
                  </a:lnTo>
                  <a:lnTo>
                    <a:pt x="45" y="91"/>
                  </a:lnTo>
                  <a:lnTo>
                    <a:pt x="47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62" y="110"/>
                  </a:lnTo>
                  <a:lnTo>
                    <a:pt x="70" y="113"/>
                  </a:lnTo>
                  <a:lnTo>
                    <a:pt x="78" y="113"/>
                  </a:lnTo>
                  <a:lnTo>
                    <a:pt x="84" y="113"/>
                  </a:lnTo>
                  <a:lnTo>
                    <a:pt x="92" y="112"/>
                  </a:lnTo>
                  <a:lnTo>
                    <a:pt x="107" y="105"/>
                  </a:lnTo>
                  <a:lnTo>
                    <a:pt x="115" y="94"/>
                  </a:lnTo>
                  <a:lnTo>
                    <a:pt x="120" y="81"/>
                  </a:lnTo>
                  <a:lnTo>
                    <a:pt x="118" y="68"/>
                  </a:lnTo>
                  <a:lnTo>
                    <a:pt x="117" y="61"/>
                  </a:lnTo>
                  <a:lnTo>
                    <a:pt x="113" y="55"/>
                  </a:lnTo>
                  <a:lnTo>
                    <a:pt x="108" y="50"/>
                  </a:lnTo>
                  <a:lnTo>
                    <a:pt x="102" y="47"/>
                  </a:lnTo>
                  <a:lnTo>
                    <a:pt x="94" y="44"/>
                  </a:lnTo>
                  <a:lnTo>
                    <a:pt x="87" y="44"/>
                  </a:lnTo>
                  <a:lnTo>
                    <a:pt x="79" y="44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07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34" y="18"/>
                  </a:lnTo>
                  <a:lnTo>
                    <a:pt x="146" y="29"/>
                  </a:lnTo>
                  <a:lnTo>
                    <a:pt x="154" y="40"/>
                  </a:lnTo>
                  <a:lnTo>
                    <a:pt x="160" y="55"/>
                  </a:lnTo>
                  <a:lnTo>
                    <a:pt x="162" y="70"/>
                  </a:lnTo>
                  <a:lnTo>
                    <a:pt x="162" y="84"/>
                  </a:lnTo>
                  <a:lnTo>
                    <a:pt x="160" y="99"/>
                  </a:lnTo>
                  <a:lnTo>
                    <a:pt x="154" y="113"/>
                  </a:lnTo>
                  <a:lnTo>
                    <a:pt x="150" y="120"/>
                  </a:lnTo>
                  <a:lnTo>
                    <a:pt x="146" y="126"/>
                  </a:lnTo>
                  <a:lnTo>
                    <a:pt x="139" y="133"/>
                  </a:lnTo>
                  <a:lnTo>
                    <a:pt x="134" y="137"/>
                  </a:lnTo>
                  <a:lnTo>
                    <a:pt x="128" y="142"/>
                  </a:lnTo>
                  <a:lnTo>
                    <a:pt x="120" y="147"/>
                  </a:lnTo>
                  <a:lnTo>
                    <a:pt x="113" y="150"/>
                  </a:lnTo>
                  <a:lnTo>
                    <a:pt x="105" y="154"/>
                  </a:lnTo>
                  <a:lnTo>
                    <a:pt x="89" y="157"/>
                  </a:lnTo>
                  <a:lnTo>
                    <a:pt x="73" y="157"/>
                  </a:lnTo>
                  <a:lnTo>
                    <a:pt x="57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8" y="129"/>
                  </a:lnTo>
                  <a:lnTo>
                    <a:pt x="10" y="116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1"/>
                  </a:lnTo>
                  <a:lnTo>
                    <a:pt x="5" y="57"/>
                  </a:lnTo>
                  <a:lnTo>
                    <a:pt x="12" y="42"/>
                  </a:lnTo>
                  <a:lnTo>
                    <a:pt x="20" y="31"/>
                  </a:lnTo>
                  <a:lnTo>
                    <a:pt x="31" y="19"/>
                  </a:lnTo>
                  <a:lnTo>
                    <a:pt x="44" y="10"/>
                  </a:lnTo>
                  <a:lnTo>
                    <a:pt x="58" y="3"/>
                  </a:lnTo>
                  <a:lnTo>
                    <a:pt x="71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045560" y="1950120"/>
              <a:ext cx="369720" cy="28728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71" y="46"/>
                  </a:moveTo>
                  <a:lnTo>
                    <a:pt x="63" y="49"/>
                  </a:lnTo>
                  <a:lnTo>
                    <a:pt x="56" y="52"/>
                  </a:lnTo>
                  <a:lnTo>
                    <a:pt x="51" y="59"/>
                  </a:lnTo>
                  <a:lnTo>
                    <a:pt x="47" y="65"/>
                  </a:lnTo>
                  <a:lnTo>
                    <a:pt x="43" y="72"/>
                  </a:lnTo>
                  <a:lnTo>
                    <a:pt x="43" y="78"/>
                  </a:lnTo>
                  <a:lnTo>
                    <a:pt x="42" y="84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5" y="107"/>
                  </a:lnTo>
                  <a:lnTo>
                    <a:pt x="59" y="110"/>
                  </a:lnTo>
                  <a:lnTo>
                    <a:pt x="68" y="114"/>
                  </a:lnTo>
                  <a:lnTo>
                    <a:pt x="76" y="114"/>
                  </a:lnTo>
                  <a:lnTo>
                    <a:pt x="82" y="114"/>
                  </a:lnTo>
                  <a:lnTo>
                    <a:pt x="90" y="112"/>
                  </a:lnTo>
                  <a:lnTo>
                    <a:pt x="98" y="109"/>
                  </a:lnTo>
                  <a:lnTo>
                    <a:pt x="105" y="105"/>
                  </a:lnTo>
                  <a:lnTo>
                    <a:pt x="110" y="101"/>
                  </a:lnTo>
                  <a:lnTo>
                    <a:pt x="114" y="94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19" y="75"/>
                  </a:lnTo>
                  <a:lnTo>
                    <a:pt x="118" y="68"/>
                  </a:lnTo>
                  <a:lnTo>
                    <a:pt x="114" y="62"/>
                  </a:lnTo>
                  <a:lnTo>
                    <a:pt x="111" y="57"/>
                  </a:lnTo>
                  <a:lnTo>
                    <a:pt x="106" y="52"/>
                  </a:lnTo>
                  <a:lnTo>
                    <a:pt x="100" y="49"/>
                  </a:lnTo>
                  <a:lnTo>
                    <a:pt x="93" y="46"/>
                  </a:lnTo>
                  <a:lnTo>
                    <a:pt x="85" y="44"/>
                  </a:lnTo>
                  <a:lnTo>
                    <a:pt x="79" y="44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05" y="4"/>
                  </a:lnTo>
                  <a:lnTo>
                    <a:pt x="119" y="9"/>
                  </a:lnTo>
                  <a:lnTo>
                    <a:pt x="132" y="17"/>
                  </a:lnTo>
                  <a:lnTo>
                    <a:pt x="143" y="28"/>
                  </a:lnTo>
                  <a:lnTo>
                    <a:pt x="152" y="41"/>
                  </a:lnTo>
                  <a:lnTo>
                    <a:pt x="158" y="55"/>
                  </a:lnTo>
                  <a:lnTo>
                    <a:pt x="161" y="70"/>
                  </a:lnTo>
                  <a:lnTo>
                    <a:pt x="161" y="84"/>
                  </a:lnTo>
                  <a:lnTo>
                    <a:pt x="158" y="99"/>
                  </a:lnTo>
                  <a:lnTo>
                    <a:pt x="153" y="114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9" y="133"/>
                  </a:lnTo>
                  <a:lnTo>
                    <a:pt x="132" y="138"/>
                  </a:lnTo>
                  <a:lnTo>
                    <a:pt x="126" y="143"/>
                  </a:lnTo>
                  <a:lnTo>
                    <a:pt x="118" y="147"/>
                  </a:lnTo>
                  <a:lnTo>
                    <a:pt x="111" y="151"/>
                  </a:lnTo>
                  <a:lnTo>
                    <a:pt x="103" y="154"/>
                  </a:lnTo>
                  <a:lnTo>
                    <a:pt x="87" y="157"/>
                  </a:lnTo>
                  <a:lnTo>
                    <a:pt x="71" y="157"/>
                  </a:lnTo>
                  <a:lnTo>
                    <a:pt x="56" y="154"/>
                  </a:lnTo>
                  <a:lnTo>
                    <a:pt x="42" y="149"/>
                  </a:lnTo>
                  <a:lnTo>
                    <a:pt x="29" y="141"/>
                  </a:lnTo>
                  <a:lnTo>
                    <a:pt x="17" y="131"/>
                  </a:lnTo>
                  <a:lnTo>
                    <a:pt x="9" y="118"/>
                  </a:lnTo>
                  <a:lnTo>
                    <a:pt x="3" y="104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3" y="57"/>
                  </a:lnTo>
                  <a:lnTo>
                    <a:pt x="9" y="44"/>
                  </a:lnTo>
                  <a:lnTo>
                    <a:pt x="17" y="31"/>
                  </a:lnTo>
                  <a:lnTo>
                    <a:pt x="29" y="20"/>
                  </a:lnTo>
                  <a:lnTo>
                    <a:pt x="42" y="12"/>
                  </a:lnTo>
                  <a:lnTo>
                    <a:pt x="58" y="5"/>
                  </a:lnTo>
                  <a:lnTo>
                    <a:pt x="71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0000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4"/>
                  </a:lnTo>
                  <a:lnTo>
                    <a:pt x="406" y="26"/>
                  </a:lnTo>
                  <a:lnTo>
                    <a:pt x="399" y="0"/>
                  </a:lnTo>
                  <a:lnTo>
                    <a:pt x="391" y="26"/>
                  </a:lnTo>
                  <a:lnTo>
                    <a:pt x="385" y="54"/>
                  </a:lnTo>
                  <a:lnTo>
                    <a:pt x="2" y="1530"/>
                  </a:lnTo>
                  <a:lnTo>
                    <a:pt x="0" y="1538"/>
                  </a:lnTo>
                  <a:lnTo>
                    <a:pt x="9" y="1539"/>
                  </a:lnTo>
                  <a:lnTo>
                    <a:pt x="21" y="1542"/>
                  </a:lnTo>
                  <a:lnTo>
                    <a:pt x="28" y="1544"/>
                  </a:lnTo>
                  <a:lnTo>
                    <a:pt x="30" y="1538"/>
                  </a:lnTo>
                  <a:lnTo>
                    <a:pt x="399" y="113"/>
                  </a:lnTo>
                  <a:lnTo>
                    <a:pt x="779" y="1538"/>
                  </a:lnTo>
                  <a:lnTo>
                    <a:pt x="781" y="1544"/>
                  </a:lnTo>
                  <a:lnTo>
                    <a:pt x="787" y="1542"/>
                  </a:lnTo>
                  <a:lnTo>
                    <a:pt x="802" y="1539"/>
                  </a:lnTo>
                  <a:lnTo>
                    <a:pt x="808" y="1538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922680" y="2065320"/>
              <a:ext cx="1815480" cy="2761200"/>
            </a:xfrm>
            <a:custGeom>
              <a:avLst/>
              <a:gdLst/>
              <a:ahLst/>
              <a:rect l="l" t="t" r="r" b="b"/>
              <a:pathLst>
                <a:path w="790" h="1507">
                  <a:moveTo>
                    <a:pt x="790" y="1504"/>
                  </a:moveTo>
                  <a:lnTo>
                    <a:pt x="396" y="26"/>
                  </a:lnTo>
                  <a:lnTo>
                    <a:pt x="389" y="0"/>
                  </a:lnTo>
                  <a:lnTo>
                    <a:pt x="381" y="26"/>
                  </a:lnTo>
                  <a:lnTo>
                    <a:pt x="0" y="1504"/>
                  </a:lnTo>
                  <a:lnTo>
                    <a:pt x="13" y="1507"/>
                  </a:lnTo>
                  <a:lnTo>
                    <a:pt x="389" y="55"/>
                  </a:lnTo>
                  <a:lnTo>
                    <a:pt x="775" y="1507"/>
                  </a:lnTo>
                  <a:lnTo>
                    <a:pt x="790" y="150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808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4"/>
                  </a:moveTo>
                  <a:lnTo>
                    <a:pt x="861" y="51"/>
                  </a:lnTo>
                  <a:lnTo>
                    <a:pt x="854" y="87"/>
                  </a:lnTo>
                  <a:lnTo>
                    <a:pt x="843" y="121"/>
                  </a:lnTo>
                  <a:lnTo>
                    <a:pt x="829" y="153"/>
                  </a:lnTo>
                  <a:lnTo>
                    <a:pt x="811" y="184"/>
                  </a:lnTo>
                  <a:lnTo>
                    <a:pt x="788" y="215"/>
                  </a:lnTo>
                  <a:lnTo>
                    <a:pt x="764" y="242"/>
                  </a:lnTo>
                  <a:lnTo>
                    <a:pt x="737" y="266"/>
                  </a:lnTo>
                  <a:lnTo>
                    <a:pt x="706" y="290"/>
                  </a:lnTo>
                  <a:lnTo>
                    <a:pt x="672" y="310"/>
                  </a:lnTo>
                  <a:lnTo>
                    <a:pt x="636" y="328"/>
                  </a:lnTo>
                  <a:lnTo>
                    <a:pt x="599" y="344"/>
                  </a:lnTo>
                  <a:lnTo>
                    <a:pt x="559" y="355"/>
                  </a:lnTo>
                  <a:lnTo>
                    <a:pt x="519" y="365"/>
                  </a:lnTo>
                  <a:lnTo>
                    <a:pt x="475" y="370"/>
                  </a:lnTo>
                  <a:lnTo>
                    <a:pt x="431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0" y="366"/>
                  </a:lnTo>
                  <a:lnTo>
                    <a:pt x="336" y="363"/>
                  </a:lnTo>
                  <a:lnTo>
                    <a:pt x="313" y="358"/>
                  </a:lnTo>
                  <a:lnTo>
                    <a:pt x="291" y="352"/>
                  </a:lnTo>
                  <a:lnTo>
                    <a:pt x="268" y="345"/>
                  </a:lnTo>
                  <a:lnTo>
                    <a:pt x="247" y="337"/>
                  </a:lnTo>
                  <a:lnTo>
                    <a:pt x="226" y="329"/>
                  </a:lnTo>
                  <a:lnTo>
                    <a:pt x="205" y="319"/>
                  </a:lnTo>
                  <a:lnTo>
                    <a:pt x="186" y="308"/>
                  </a:lnTo>
                  <a:lnTo>
                    <a:pt x="166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2"/>
                  </a:lnTo>
                  <a:lnTo>
                    <a:pt x="40" y="164"/>
                  </a:lnTo>
                  <a:lnTo>
                    <a:pt x="26" y="135"/>
                  </a:lnTo>
                  <a:lnTo>
                    <a:pt x="15" y="106"/>
                  </a:lnTo>
                  <a:lnTo>
                    <a:pt x="6" y="76"/>
                  </a:lnTo>
                  <a:lnTo>
                    <a:pt x="2" y="45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5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72280" y="4692960"/>
              <a:ext cx="1914480" cy="628200"/>
            </a:xfrm>
            <a:custGeom>
              <a:avLst/>
              <a:gdLst/>
              <a:ahLst/>
              <a:rect l="l" t="t" r="r" b="b"/>
              <a:pathLst>
                <a:path w="833" h="343">
                  <a:moveTo>
                    <a:pt x="0" y="0"/>
                  </a:moveTo>
                  <a:lnTo>
                    <a:pt x="1" y="36"/>
                  </a:lnTo>
                  <a:lnTo>
                    <a:pt x="8" y="70"/>
                  </a:lnTo>
                  <a:lnTo>
                    <a:pt x="19" y="102"/>
                  </a:lnTo>
                  <a:lnTo>
                    <a:pt x="32" y="133"/>
                  </a:lnTo>
                  <a:lnTo>
                    <a:pt x="50" y="163"/>
                  </a:lnTo>
                  <a:lnTo>
                    <a:pt x="71" y="191"/>
                  </a:lnTo>
                  <a:lnTo>
                    <a:pt x="95" y="218"/>
                  </a:lnTo>
                  <a:lnTo>
                    <a:pt x="121" y="243"/>
                  </a:lnTo>
                  <a:lnTo>
                    <a:pt x="151" y="265"/>
                  </a:lnTo>
                  <a:lnTo>
                    <a:pt x="184" y="285"/>
                  </a:lnTo>
                  <a:lnTo>
                    <a:pt x="218" y="301"/>
                  </a:lnTo>
                  <a:lnTo>
                    <a:pt x="253" y="315"/>
                  </a:lnTo>
                  <a:lnTo>
                    <a:pt x="292" y="326"/>
                  </a:lnTo>
                  <a:lnTo>
                    <a:pt x="332" y="336"/>
                  </a:lnTo>
                  <a:lnTo>
                    <a:pt x="374" y="341"/>
                  </a:lnTo>
                  <a:lnTo>
                    <a:pt x="416" y="343"/>
                  </a:lnTo>
                  <a:lnTo>
                    <a:pt x="458" y="341"/>
                  </a:lnTo>
                  <a:lnTo>
                    <a:pt x="500" y="336"/>
                  </a:lnTo>
                  <a:lnTo>
                    <a:pt x="541" y="326"/>
                  </a:lnTo>
                  <a:lnTo>
                    <a:pt x="579" y="315"/>
                  </a:lnTo>
                  <a:lnTo>
                    <a:pt x="615" y="301"/>
                  </a:lnTo>
                  <a:lnTo>
                    <a:pt x="649" y="285"/>
                  </a:lnTo>
                  <a:lnTo>
                    <a:pt x="681" y="265"/>
                  </a:lnTo>
                  <a:lnTo>
                    <a:pt x="712" y="243"/>
                  </a:lnTo>
                  <a:lnTo>
                    <a:pt x="738" y="218"/>
                  </a:lnTo>
                  <a:lnTo>
                    <a:pt x="762" y="191"/>
                  </a:lnTo>
                  <a:lnTo>
                    <a:pt x="783" y="163"/>
                  </a:lnTo>
                  <a:lnTo>
                    <a:pt x="801" y="133"/>
                  </a:lnTo>
                  <a:lnTo>
                    <a:pt x="814" y="102"/>
                  </a:lnTo>
                  <a:lnTo>
                    <a:pt x="825" y="70"/>
                  </a:lnTo>
                  <a:lnTo>
                    <a:pt x="831" y="36"/>
                  </a:lnTo>
                  <a:lnTo>
                    <a:pt x="8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10440" y="2012400"/>
              <a:ext cx="1856880" cy="2828520"/>
            </a:xfrm>
            <a:custGeom>
              <a:avLst/>
              <a:gdLst/>
              <a:ahLst/>
              <a:rect l="l" t="t" r="r" b="b"/>
              <a:pathLst>
                <a:path w="808" h="1544">
                  <a:moveTo>
                    <a:pt x="806" y="1530"/>
                  </a:moveTo>
                  <a:lnTo>
                    <a:pt x="412" y="52"/>
                  </a:lnTo>
                  <a:lnTo>
                    <a:pt x="405" y="26"/>
                  </a:lnTo>
                  <a:lnTo>
                    <a:pt x="397" y="0"/>
                  </a:lnTo>
                  <a:lnTo>
                    <a:pt x="391" y="26"/>
                  </a:lnTo>
                  <a:lnTo>
                    <a:pt x="384" y="52"/>
                  </a:lnTo>
                  <a:lnTo>
                    <a:pt x="2" y="1530"/>
                  </a:lnTo>
                  <a:lnTo>
                    <a:pt x="0" y="1536"/>
                  </a:lnTo>
                  <a:lnTo>
                    <a:pt x="6" y="1538"/>
                  </a:lnTo>
                  <a:lnTo>
                    <a:pt x="21" y="1542"/>
                  </a:lnTo>
                  <a:lnTo>
                    <a:pt x="27" y="1544"/>
                  </a:lnTo>
                  <a:lnTo>
                    <a:pt x="29" y="1536"/>
                  </a:lnTo>
                  <a:lnTo>
                    <a:pt x="399" y="112"/>
                  </a:lnTo>
                  <a:lnTo>
                    <a:pt x="777" y="1536"/>
                  </a:lnTo>
                  <a:lnTo>
                    <a:pt x="780" y="1544"/>
                  </a:lnTo>
                  <a:lnTo>
                    <a:pt x="787" y="1542"/>
                  </a:lnTo>
                  <a:lnTo>
                    <a:pt x="799" y="1538"/>
                  </a:lnTo>
                  <a:lnTo>
                    <a:pt x="808" y="1536"/>
                  </a:lnTo>
                  <a:lnTo>
                    <a:pt x="806" y="1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28440" y="2063520"/>
              <a:ext cx="1815480" cy="2759040"/>
            </a:xfrm>
            <a:custGeom>
              <a:avLst/>
              <a:gdLst/>
              <a:ahLst/>
              <a:rect l="l" t="t" r="r" b="b"/>
              <a:pathLst>
                <a:path w="790" h="1506">
                  <a:moveTo>
                    <a:pt x="790" y="1503"/>
                  </a:moveTo>
                  <a:lnTo>
                    <a:pt x="397" y="26"/>
                  </a:lnTo>
                  <a:lnTo>
                    <a:pt x="389" y="0"/>
                  </a:lnTo>
                  <a:lnTo>
                    <a:pt x="383" y="26"/>
                  </a:lnTo>
                  <a:lnTo>
                    <a:pt x="0" y="1503"/>
                  </a:lnTo>
                  <a:lnTo>
                    <a:pt x="15" y="1506"/>
                  </a:lnTo>
                  <a:lnTo>
                    <a:pt x="391" y="56"/>
                  </a:lnTo>
                  <a:lnTo>
                    <a:pt x="777" y="1506"/>
                  </a:lnTo>
                  <a:lnTo>
                    <a:pt x="790" y="1503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245640" y="4667040"/>
              <a:ext cx="1983600" cy="679680"/>
            </a:xfrm>
            <a:custGeom>
              <a:avLst/>
              <a:gdLst/>
              <a:ahLst/>
              <a:rect l="l" t="t" r="r" b="b"/>
              <a:pathLst>
                <a:path w="863" h="371">
                  <a:moveTo>
                    <a:pt x="863" y="13"/>
                  </a:moveTo>
                  <a:lnTo>
                    <a:pt x="861" y="50"/>
                  </a:lnTo>
                  <a:lnTo>
                    <a:pt x="855" y="85"/>
                  </a:lnTo>
                  <a:lnTo>
                    <a:pt x="844" y="119"/>
                  </a:lnTo>
                  <a:lnTo>
                    <a:pt x="829" y="152"/>
                  </a:lnTo>
                  <a:lnTo>
                    <a:pt x="811" y="184"/>
                  </a:lnTo>
                  <a:lnTo>
                    <a:pt x="789" y="213"/>
                  </a:lnTo>
                  <a:lnTo>
                    <a:pt x="764" y="240"/>
                  </a:lnTo>
                  <a:lnTo>
                    <a:pt x="737" y="266"/>
                  </a:lnTo>
                  <a:lnTo>
                    <a:pt x="706" y="289"/>
                  </a:lnTo>
                  <a:lnTo>
                    <a:pt x="672" y="310"/>
                  </a:lnTo>
                  <a:lnTo>
                    <a:pt x="637" y="328"/>
                  </a:lnTo>
                  <a:lnTo>
                    <a:pt x="600" y="342"/>
                  </a:lnTo>
                  <a:lnTo>
                    <a:pt x="559" y="355"/>
                  </a:lnTo>
                  <a:lnTo>
                    <a:pt x="519" y="363"/>
                  </a:lnTo>
                  <a:lnTo>
                    <a:pt x="475" y="370"/>
                  </a:lnTo>
                  <a:lnTo>
                    <a:pt x="432" y="371"/>
                  </a:lnTo>
                  <a:lnTo>
                    <a:pt x="407" y="371"/>
                  </a:lnTo>
                  <a:lnTo>
                    <a:pt x="383" y="370"/>
                  </a:lnTo>
                  <a:lnTo>
                    <a:pt x="361" y="366"/>
                  </a:lnTo>
                  <a:lnTo>
                    <a:pt x="336" y="363"/>
                  </a:lnTo>
                  <a:lnTo>
                    <a:pt x="314" y="358"/>
                  </a:lnTo>
                  <a:lnTo>
                    <a:pt x="291" y="352"/>
                  </a:lnTo>
                  <a:lnTo>
                    <a:pt x="269" y="345"/>
                  </a:lnTo>
                  <a:lnTo>
                    <a:pt x="248" y="337"/>
                  </a:lnTo>
                  <a:lnTo>
                    <a:pt x="227" y="329"/>
                  </a:lnTo>
                  <a:lnTo>
                    <a:pt x="206" y="319"/>
                  </a:lnTo>
                  <a:lnTo>
                    <a:pt x="186" y="308"/>
                  </a:lnTo>
                  <a:lnTo>
                    <a:pt x="167" y="297"/>
                  </a:lnTo>
                  <a:lnTo>
                    <a:pt x="149" y="284"/>
                  </a:lnTo>
                  <a:lnTo>
                    <a:pt x="131" y="271"/>
                  </a:lnTo>
                  <a:lnTo>
                    <a:pt x="115" y="257"/>
                  </a:lnTo>
                  <a:lnTo>
                    <a:pt x="99" y="242"/>
                  </a:lnTo>
                  <a:lnTo>
                    <a:pt x="76" y="218"/>
                  </a:lnTo>
                  <a:lnTo>
                    <a:pt x="57" y="190"/>
                  </a:lnTo>
                  <a:lnTo>
                    <a:pt x="39" y="163"/>
                  </a:lnTo>
                  <a:lnTo>
                    <a:pt x="26" y="134"/>
                  </a:lnTo>
                  <a:lnTo>
                    <a:pt x="15" y="105"/>
                  </a:lnTo>
                  <a:lnTo>
                    <a:pt x="7" y="74"/>
                  </a:lnTo>
                  <a:lnTo>
                    <a:pt x="2" y="4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3" y="0"/>
                  </a:lnTo>
                  <a:lnTo>
                    <a:pt x="848" y="0"/>
                  </a:lnTo>
                  <a:lnTo>
                    <a:pt x="863" y="0"/>
                  </a:lnTo>
                  <a:lnTo>
                    <a:pt x="863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275880" y="4691160"/>
              <a:ext cx="1918800" cy="629640"/>
            </a:xfrm>
            <a:custGeom>
              <a:avLst/>
              <a:gdLst/>
              <a:ahLst/>
              <a:rect l="l" t="t" r="r" b="b"/>
              <a:pathLst>
                <a:path w="835" h="344">
                  <a:moveTo>
                    <a:pt x="0" y="0"/>
                  </a:moveTo>
                  <a:lnTo>
                    <a:pt x="2" y="35"/>
                  </a:lnTo>
                  <a:lnTo>
                    <a:pt x="8" y="69"/>
                  </a:lnTo>
                  <a:lnTo>
                    <a:pt x="20" y="101"/>
                  </a:lnTo>
                  <a:lnTo>
                    <a:pt x="33" y="134"/>
                  </a:lnTo>
                  <a:lnTo>
                    <a:pt x="50" y="164"/>
                  </a:lnTo>
                  <a:lnTo>
                    <a:pt x="71" y="192"/>
                  </a:lnTo>
                  <a:lnTo>
                    <a:pt x="96" y="219"/>
                  </a:lnTo>
                  <a:lnTo>
                    <a:pt x="123" y="244"/>
                  </a:lnTo>
                  <a:lnTo>
                    <a:pt x="152" y="265"/>
                  </a:lnTo>
                  <a:lnTo>
                    <a:pt x="185" y="286"/>
                  </a:lnTo>
                  <a:lnTo>
                    <a:pt x="220" y="302"/>
                  </a:lnTo>
                  <a:lnTo>
                    <a:pt x="256" y="316"/>
                  </a:lnTo>
                  <a:lnTo>
                    <a:pt x="294" y="327"/>
                  </a:lnTo>
                  <a:lnTo>
                    <a:pt x="335" y="337"/>
                  </a:lnTo>
                  <a:lnTo>
                    <a:pt x="377" y="342"/>
                  </a:lnTo>
                  <a:lnTo>
                    <a:pt x="419" y="344"/>
                  </a:lnTo>
                  <a:lnTo>
                    <a:pt x="461" y="342"/>
                  </a:lnTo>
                  <a:lnTo>
                    <a:pt x="503" y="337"/>
                  </a:lnTo>
                  <a:lnTo>
                    <a:pt x="543" y="327"/>
                  </a:lnTo>
                  <a:lnTo>
                    <a:pt x="580" y="316"/>
                  </a:lnTo>
                  <a:lnTo>
                    <a:pt x="617" y="302"/>
                  </a:lnTo>
                  <a:lnTo>
                    <a:pt x="651" y="286"/>
                  </a:lnTo>
                  <a:lnTo>
                    <a:pt x="684" y="265"/>
                  </a:lnTo>
                  <a:lnTo>
                    <a:pt x="713" y="244"/>
                  </a:lnTo>
                  <a:lnTo>
                    <a:pt x="740" y="219"/>
                  </a:lnTo>
                  <a:lnTo>
                    <a:pt x="764" y="192"/>
                  </a:lnTo>
                  <a:lnTo>
                    <a:pt x="785" y="164"/>
                  </a:lnTo>
                  <a:lnTo>
                    <a:pt x="803" y="134"/>
                  </a:lnTo>
                  <a:lnTo>
                    <a:pt x="816" y="101"/>
                  </a:lnTo>
                  <a:lnTo>
                    <a:pt x="827" y="69"/>
                  </a:lnTo>
                  <a:lnTo>
                    <a:pt x="834" y="35"/>
                  </a:lnTo>
                  <a:lnTo>
                    <a:pt x="8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359520" y="5746680"/>
              <a:ext cx="2263320" cy="653760"/>
            </a:xfrm>
            <a:custGeom>
              <a:avLst/>
              <a:gdLst/>
              <a:ahLst/>
              <a:rect l="l" t="t" r="r" b="b"/>
              <a:pathLst>
                <a:path w="985" h="357">
                  <a:moveTo>
                    <a:pt x="153" y="357"/>
                  </a:moveTo>
                  <a:lnTo>
                    <a:pt x="131" y="357"/>
                  </a:lnTo>
                  <a:lnTo>
                    <a:pt x="111" y="355"/>
                  </a:lnTo>
                  <a:lnTo>
                    <a:pt x="93" y="352"/>
                  </a:lnTo>
                  <a:lnTo>
                    <a:pt x="77" y="349"/>
                  </a:lnTo>
                  <a:lnTo>
                    <a:pt x="63" y="344"/>
                  </a:lnTo>
                  <a:lnTo>
                    <a:pt x="51" y="339"/>
                  </a:lnTo>
                  <a:lnTo>
                    <a:pt x="40" y="331"/>
                  </a:lnTo>
                  <a:lnTo>
                    <a:pt x="30" y="323"/>
                  </a:lnTo>
                  <a:lnTo>
                    <a:pt x="18" y="305"/>
                  </a:lnTo>
                  <a:lnTo>
                    <a:pt x="8" y="284"/>
                  </a:lnTo>
                  <a:lnTo>
                    <a:pt x="1" y="259"/>
                  </a:lnTo>
                  <a:lnTo>
                    <a:pt x="0" y="229"/>
                  </a:lnTo>
                  <a:lnTo>
                    <a:pt x="1" y="205"/>
                  </a:lnTo>
                  <a:lnTo>
                    <a:pt x="5" y="179"/>
                  </a:lnTo>
                  <a:lnTo>
                    <a:pt x="9" y="154"/>
                  </a:lnTo>
                  <a:lnTo>
                    <a:pt x="16" y="128"/>
                  </a:lnTo>
                  <a:lnTo>
                    <a:pt x="26" y="102"/>
                  </a:lnTo>
                  <a:lnTo>
                    <a:pt x="39" y="78"/>
                  </a:lnTo>
                  <a:lnTo>
                    <a:pt x="53" y="55"/>
                  </a:lnTo>
                  <a:lnTo>
                    <a:pt x="69" y="36"/>
                  </a:lnTo>
                  <a:lnTo>
                    <a:pt x="79" y="28"/>
                  </a:lnTo>
                  <a:lnTo>
                    <a:pt x="89" y="20"/>
                  </a:lnTo>
                  <a:lnTo>
                    <a:pt x="98" y="13"/>
                  </a:lnTo>
                  <a:lnTo>
                    <a:pt x="108" y="8"/>
                  </a:lnTo>
                  <a:lnTo>
                    <a:pt x="119" y="5"/>
                  </a:lnTo>
                  <a:lnTo>
                    <a:pt x="131" y="2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832" y="0"/>
                  </a:lnTo>
                  <a:lnTo>
                    <a:pt x="843" y="0"/>
                  </a:lnTo>
                  <a:lnTo>
                    <a:pt x="854" y="2"/>
                  </a:lnTo>
                  <a:lnTo>
                    <a:pt x="866" y="5"/>
                  </a:lnTo>
                  <a:lnTo>
                    <a:pt x="877" y="8"/>
                  </a:lnTo>
                  <a:lnTo>
                    <a:pt x="887" y="13"/>
                  </a:lnTo>
                  <a:lnTo>
                    <a:pt x="896" y="20"/>
                  </a:lnTo>
                  <a:lnTo>
                    <a:pt x="906" y="28"/>
                  </a:lnTo>
                  <a:lnTo>
                    <a:pt x="916" y="36"/>
                  </a:lnTo>
                  <a:lnTo>
                    <a:pt x="932" y="55"/>
                  </a:lnTo>
                  <a:lnTo>
                    <a:pt x="946" y="78"/>
                  </a:lnTo>
                  <a:lnTo>
                    <a:pt x="958" y="102"/>
                  </a:lnTo>
                  <a:lnTo>
                    <a:pt x="967" y="128"/>
                  </a:lnTo>
                  <a:lnTo>
                    <a:pt x="975" y="154"/>
                  </a:lnTo>
                  <a:lnTo>
                    <a:pt x="980" y="179"/>
                  </a:lnTo>
                  <a:lnTo>
                    <a:pt x="983" y="205"/>
                  </a:lnTo>
                  <a:lnTo>
                    <a:pt x="985" y="229"/>
                  </a:lnTo>
                  <a:lnTo>
                    <a:pt x="982" y="267"/>
                  </a:lnTo>
                  <a:lnTo>
                    <a:pt x="972" y="297"/>
                  </a:lnTo>
                  <a:lnTo>
                    <a:pt x="958" y="320"/>
                  </a:lnTo>
                  <a:lnTo>
                    <a:pt x="938" y="336"/>
                  </a:lnTo>
                  <a:lnTo>
                    <a:pt x="916" y="346"/>
                  </a:lnTo>
                  <a:lnTo>
                    <a:pt x="890" y="352"/>
                  </a:lnTo>
                  <a:lnTo>
                    <a:pt x="861" y="355"/>
                  </a:lnTo>
                  <a:lnTo>
                    <a:pt x="832" y="357"/>
                  </a:lnTo>
                  <a:lnTo>
                    <a:pt x="153" y="3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391560" y="5774040"/>
              <a:ext cx="2199240" cy="599040"/>
            </a:xfrm>
            <a:custGeom>
              <a:avLst/>
              <a:gdLst/>
              <a:ahLst/>
              <a:rect l="l" t="t" r="r" b="b"/>
              <a:pathLst>
                <a:path w="957" h="327">
                  <a:moveTo>
                    <a:pt x="818" y="327"/>
                  </a:moveTo>
                  <a:lnTo>
                    <a:pt x="850" y="326"/>
                  </a:lnTo>
                  <a:lnTo>
                    <a:pt x="877" y="323"/>
                  </a:lnTo>
                  <a:lnTo>
                    <a:pt x="902" y="316"/>
                  </a:lnTo>
                  <a:lnTo>
                    <a:pt x="921" y="305"/>
                  </a:lnTo>
                  <a:lnTo>
                    <a:pt x="937" y="290"/>
                  </a:lnTo>
                  <a:lnTo>
                    <a:pt x="947" y="271"/>
                  </a:lnTo>
                  <a:lnTo>
                    <a:pt x="955" y="245"/>
                  </a:lnTo>
                  <a:lnTo>
                    <a:pt x="957" y="214"/>
                  </a:lnTo>
                  <a:lnTo>
                    <a:pt x="957" y="214"/>
                  </a:lnTo>
                  <a:lnTo>
                    <a:pt x="955" y="179"/>
                  </a:lnTo>
                  <a:lnTo>
                    <a:pt x="947" y="143"/>
                  </a:lnTo>
                  <a:lnTo>
                    <a:pt x="937" y="106"/>
                  </a:lnTo>
                  <a:lnTo>
                    <a:pt x="921" y="72"/>
                  </a:lnTo>
                  <a:lnTo>
                    <a:pt x="902" y="43"/>
                  </a:lnTo>
                  <a:lnTo>
                    <a:pt x="877" y="21"/>
                  </a:lnTo>
                  <a:lnTo>
                    <a:pt x="850" y="5"/>
                  </a:lnTo>
                  <a:lnTo>
                    <a:pt x="818" y="0"/>
                  </a:lnTo>
                  <a:lnTo>
                    <a:pt x="139" y="0"/>
                  </a:lnTo>
                  <a:lnTo>
                    <a:pt x="107" y="5"/>
                  </a:lnTo>
                  <a:lnTo>
                    <a:pt x="79" y="21"/>
                  </a:lnTo>
                  <a:lnTo>
                    <a:pt x="55" y="43"/>
                  </a:lnTo>
                  <a:lnTo>
                    <a:pt x="36" y="72"/>
                  </a:lnTo>
                  <a:lnTo>
                    <a:pt x="20" y="106"/>
                  </a:lnTo>
                  <a:lnTo>
                    <a:pt x="8" y="143"/>
                  </a:lnTo>
                  <a:lnTo>
                    <a:pt x="2" y="179"/>
                  </a:lnTo>
                  <a:lnTo>
                    <a:pt x="0" y="214"/>
                  </a:lnTo>
                  <a:lnTo>
                    <a:pt x="0" y="214"/>
                  </a:lnTo>
                  <a:lnTo>
                    <a:pt x="2" y="245"/>
                  </a:lnTo>
                  <a:lnTo>
                    <a:pt x="8" y="271"/>
                  </a:lnTo>
                  <a:lnTo>
                    <a:pt x="20" y="290"/>
                  </a:lnTo>
                  <a:lnTo>
                    <a:pt x="36" y="305"/>
                  </a:lnTo>
                  <a:lnTo>
                    <a:pt x="55" y="316"/>
                  </a:lnTo>
                  <a:lnTo>
                    <a:pt x="79" y="323"/>
                  </a:lnTo>
                  <a:lnTo>
                    <a:pt x="107" y="326"/>
                  </a:lnTo>
                  <a:lnTo>
                    <a:pt x="139" y="327"/>
                  </a:lnTo>
                  <a:lnTo>
                    <a:pt x="818" y="327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43840" y="1959120"/>
              <a:ext cx="45720" cy="7668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2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20" y="41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35840" y="1968480"/>
              <a:ext cx="337680" cy="257760"/>
            </a:xfrm>
            <a:custGeom>
              <a:avLst/>
              <a:gdLst/>
              <a:ahLst/>
              <a:rect l="l" t="t" r="r" b="b"/>
              <a:pathLst>
                <a:path w="147" h="141">
                  <a:moveTo>
                    <a:pt x="62" y="31"/>
                  </a:moveTo>
                  <a:lnTo>
                    <a:pt x="52" y="34"/>
                  </a:lnTo>
                  <a:lnTo>
                    <a:pt x="46" y="39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2"/>
                  </a:lnTo>
                  <a:lnTo>
                    <a:pt x="29" y="68"/>
                  </a:lnTo>
                  <a:lnTo>
                    <a:pt x="29" y="76"/>
                  </a:lnTo>
                  <a:lnTo>
                    <a:pt x="31" y="84"/>
                  </a:lnTo>
                  <a:lnTo>
                    <a:pt x="34" y="91"/>
                  </a:lnTo>
                  <a:lnTo>
                    <a:pt x="39" y="97"/>
                  </a:lnTo>
                  <a:lnTo>
                    <a:pt x="44" y="104"/>
                  </a:lnTo>
                  <a:lnTo>
                    <a:pt x="50" y="108"/>
                  </a:lnTo>
                  <a:lnTo>
                    <a:pt x="58" y="112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6" y="112"/>
                  </a:lnTo>
                  <a:lnTo>
                    <a:pt x="102" y="104"/>
                  </a:lnTo>
                  <a:lnTo>
                    <a:pt x="113" y="89"/>
                  </a:lnTo>
                  <a:lnTo>
                    <a:pt x="120" y="74"/>
                  </a:lnTo>
                  <a:lnTo>
                    <a:pt x="118" y="57"/>
                  </a:lnTo>
                  <a:lnTo>
                    <a:pt x="115" y="50"/>
                  </a:lnTo>
                  <a:lnTo>
                    <a:pt x="110" y="44"/>
                  </a:lnTo>
                  <a:lnTo>
                    <a:pt x="104" y="39"/>
                  </a:lnTo>
                  <a:lnTo>
                    <a:pt x="97" y="34"/>
                  </a:lnTo>
                  <a:lnTo>
                    <a:pt x="89" y="31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62" y="31"/>
                  </a:lnTo>
                  <a:lnTo>
                    <a:pt x="54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6" y="2"/>
                  </a:lnTo>
                  <a:lnTo>
                    <a:pt x="109" y="7"/>
                  </a:lnTo>
                  <a:lnTo>
                    <a:pt x="121" y="15"/>
                  </a:lnTo>
                  <a:lnTo>
                    <a:pt x="131" y="24"/>
                  </a:lnTo>
                  <a:lnTo>
                    <a:pt x="139" y="36"/>
                  </a:lnTo>
                  <a:lnTo>
                    <a:pt x="144" y="49"/>
                  </a:lnTo>
                  <a:lnTo>
                    <a:pt x="147" y="63"/>
                  </a:lnTo>
                  <a:lnTo>
                    <a:pt x="147" y="76"/>
                  </a:lnTo>
                  <a:lnTo>
                    <a:pt x="144" y="91"/>
                  </a:lnTo>
                  <a:lnTo>
                    <a:pt x="139" y="102"/>
                  </a:lnTo>
                  <a:lnTo>
                    <a:pt x="131" y="115"/>
                  </a:lnTo>
                  <a:lnTo>
                    <a:pt x="121" y="125"/>
                  </a:lnTo>
                  <a:lnTo>
                    <a:pt x="110" y="133"/>
                  </a:lnTo>
                  <a:lnTo>
                    <a:pt x="96" y="137"/>
                  </a:lnTo>
                  <a:lnTo>
                    <a:pt x="81" y="141"/>
                  </a:lnTo>
                  <a:lnTo>
                    <a:pt x="67" y="141"/>
                  </a:lnTo>
                  <a:lnTo>
                    <a:pt x="52" y="139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4" y="92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6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4" y="3"/>
                  </a:lnTo>
                  <a:lnTo>
                    <a:pt x="62" y="31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21960" y="2166120"/>
              <a:ext cx="47880" cy="6948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0" y="4"/>
                  </a:moveTo>
                  <a:lnTo>
                    <a:pt x="13" y="0"/>
                  </a:lnTo>
                  <a:lnTo>
                    <a:pt x="21" y="31"/>
                  </a:lnTo>
                  <a:lnTo>
                    <a:pt x="8" y="3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059240" y="1966320"/>
              <a:ext cx="342720" cy="259920"/>
            </a:xfrm>
            <a:custGeom>
              <a:avLst/>
              <a:gdLst/>
              <a:ahLst/>
              <a:rect l="l" t="t" r="r" b="b"/>
              <a:pathLst>
                <a:path w="149" h="142">
                  <a:moveTo>
                    <a:pt x="62" y="30"/>
                  </a:moveTo>
                  <a:lnTo>
                    <a:pt x="53" y="33"/>
                  </a:lnTo>
                  <a:lnTo>
                    <a:pt x="45" y="38"/>
                  </a:lnTo>
                  <a:lnTo>
                    <a:pt x="39" y="45"/>
                  </a:lnTo>
                  <a:lnTo>
                    <a:pt x="34" y="53"/>
                  </a:lnTo>
                  <a:lnTo>
                    <a:pt x="31" y="61"/>
                  </a:lnTo>
                  <a:lnTo>
                    <a:pt x="29" y="67"/>
                  </a:lnTo>
                  <a:lnTo>
                    <a:pt x="29" y="75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9" y="98"/>
                  </a:lnTo>
                  <a:lnTo>
                    <a:pt x="44" y="103"/>
                  </a:lnTo>
                  <a:lnTo>
                    <a:pt x="50" y="108"/>
                  </a:lnTo>
                  <a:lnTo>
                    <a:pt x="58" y="111"/>
                  </a:lnTo>
                  <a:lnTo>
                    <a:pt x="68" y="113"/>
                  </a:lnTo>
                  <a:lnTo>
                    <a:pt x="78" y="113"/>
                  </a:lnTo>
                  <a:lnTo>
                    <a:pt x="87" y="111"/>
                  </a:lnTo>
                  <a:lnTo>
                    <a:pt x="102" y="103"/>
                  </a:lnTo>
                  <a:lnTo>
                    <a:pt x="113" y="88"/>
                  </a:lnTo>
                  <a:lnTo>
                    <a:pt x="120" y="74"/>
                  </a:lnTo>
                  <a:lnTo>
                    <a:pt x="118" y="56"/>
                  </a:lnTo>
                  <a:lnTo>
                    <a:pt x="115" y="50"/>
                  </a:lnTo>
                  <a:lnTo>
                    <a:pt x="110" y="43"/>
                  </a:lnTo>
                  <a:lnTo>
                    <a:pt x="105" y="38"/>
                  </a:lnTo>
                  <a:lnTo>
                    <a:pt x="97" y="33"/>
                  </a:lnTo>
                  <a:lnTo>
                    <a:pt x="89" y="30"/>
                  </a:lnTo>
                  <a:lnTo>
                    <a:pt x="81" y="27"/>
                  </a:lnTo>
                  <a:lnTo>
                    <a:pt x="71" y="27"/>
                  </a:lnTo>
                  <a:lnTo>
                    <a:pt x="62" y="30"/>
                  </a:lnTo>
                  <a:lnTo>
                    <a:pt x="53" y="3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21" y="14"/>
                  </a:lnTo>
                  <a:lnTo>
                    <a:pt x="133" y="24"/>
                  </a:lnTo>
                  <a:lnTo>
                    <a:pt x="141" y="35"/>
                  </a:lnTo>
                  <a:lnTo>
                    <a:pt x="146" y="48"/>
                  </a:lnTo>
                  <a:lnTo>
                    <a:pt x="149" y="63"/>
                  </a:lnTo>
                  <a:lnTo>
                    <a:pt x="147" y="75"/>
                  </a:lnTo>
                  <a:lnTo>
                    <a:pt x="146" y="90"/>
                  </a:lnTo>
                  <a:lnTo>
                    <a:pt x="139" y="103"/>
                  </a:lnTo>
                  <a:lnTo>
                    <a:pt x="131" y="114"/>
                  </a:lnTo>
                  <a:lnTo>
                    <a:pt x="121" y="124"/>
                  </a:lnTo>
                  <a:lnTo>
                    <a:pt x="110" y="132"/>
                  </a:lnTo>
                  <a:lnTo>
                    <a:pt x="95" y="138"/>
                  </a:lnTo>
                  <a:lnTo>
                    <a:pt x="81" y="142"/>
                  </a:lnTo>
                  <a:lnTo>
                    <a:pt x="66" y="142"/>
                  </a:lnTo>
                  <a:lnTo>
                    <a:pt x="52" y="138"/>
                  </a:lnTo>
                  <a:lnTo>
                    <a:pt x="39" y="134"/>
                  </a:lnTo>
                  <a:lnTo>
                    <a:pt x="28" y="126"/>
                  </a:lnTo>
                  <a:lnTo>
                    <a:pt x="16" y="116"/>
                  </a:lnTo>
                  <a:lnTo>
                    <a:pt x="8" y="105"/>
                  </a:lnTo>
                  <a:lnTo>
                    <a:pt x="3" y="92"/>
                  </a:lnTo>
                  <a:lnTo>
                    <a:pt x="0" y="77"/>
                  </a:lnTo>
                  <a:lnTo>
                    <a:pt x="2" y="64"/>
                  </a:lnTo>
                  <a:lnTo>
                    <a:pt x="3" y="50"/>
                  </a:lnTo>
                  <a:lnTo>
                    <a:pt x="10" y="37"/>
                  </a:lnTo>
                  <a:lnTo>
                    <a:pt x="18" y="25"/>
                  </a:lnTo>
                  <a:lnTo>
                    <a:pt x="28" y="16"/>
                  </a:lnTo>
                  <a:lnTo>
                    <a:pt x="39" y="8"/>
                  </a:lnTo>
                  <a:lnTo>
                    <a:pt x="53" y="3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7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47040" y="1453680"/>
              <a:ext cx="6464880" cy="514800"/>
            </a:xfrm>
            <a:custGeom>
              <a:avLst/>
              <a:gdLst/>
              <a:ahLst/>
              <a:rect l="l" t="t" r="r" b="b"/>
              <a:pathLst>
                <a:path w="2813" h="281">
                  <a:moveTo>
                    <a:pt x="19" y="215"/>
                  </a:moveTo>
                  <a:lnTo>
                    <a:pt x="19" y="215"/>
                  </a:lnTo>
                  <a:lnTo>
                    <a:pt x="22" y="215"/>
                  </a:lnTo>
                  <a:lnTo>
                    <a:pt x="29" y="213"/>
                  </a:lnTo>
                  <a:lnTo>
                    <a:pt x="40" y="212"/>
                  </a:lnTo>
                  <a:lnTo>
                    <a:pt x="56" y="210"/>
                  </a:lnTo>
                  <a:lnTo>
                    <a:pt x="74" y="207"/>
                  </a:lnTo>
                  <a:lnTo>
                    <a:pt x="97" y="204"/>
                  </a:lnTo>
                  <a:lnTo>
                    <a:pt x="121" y="200"/>
                  </a:lnTo>
                  <a:lnTo>
                    <a:pt x="147" y="196"/>
                  </a:lnTo>
                  <a:lnTo>
                    <a:pt x="174" y="192"/>
                  </a:lnTo>
                  <a:lnTo>
                    <a:pt x="203" y="188"/>
                  </a:lnTo>
                  <a:lnTo>
                    <a:pt x="232" y="183"/>
                  </a:lnTo>
                  <a:lnTo>
                    <a:pt x="263" y="178"/>
                  </a:lnTo>
                  <a:lnTo>
                    <a:pt x="292" y="173"/>
                  </a:lnTo>
                  <a:lnTo>
                    <a:pt x="323" y="168"/>
                  </a:lnTo>
                  <a:lnTo>
                    <a:pt x="350" y="163"/>
                  </a:lnTo>
                  <a:lnTo>
                    <a:pt x="378" y="158"/>
                  </a:lnTo>
                  <a:lnTo>
                    <a:pt x="397" y="154"/>
                  </a:lnTo>
                  <a:lnTo>
                    <a:pt x="416" y="147"/>
                  </a:lnTo>
                  <a:lnTo>
                    <a:pt x="436" y="141"/>
                  </a:lnTo>
                  <a:lnTo>
                    <a:pt x="454" y="133"/>
                  </a:lnTo>
                  <a:lnTo>
                    <a:pt x="471" y="123"/>
                  </a:lnTo>
                  <a:lnTo>
                    <a:pt x="487" y="113"/>
                  </a:lnTo>
                  <a:lnTo>
                    <a:pt x="505" y="104"/>
                  </a:lnTo>
                  <a:lnTo>
                    <a:pt x="521" y="94"/>
                  </a:lnTo>
                  <a:lnTo>
                    <a:pt x="534" y="86"/>
                  </a:lnTo>
                  <a:lnTo>
                    <a:pt x="547" y="79"/>
                  </a:lnTo>
                  <a:lnTo>
                    <a:pt x="560" y="71"/>
                  </a:lnTo>
                  <a:lnTo>
                    <a:pt x="573" y="63"/>
                  </a:lnTo>
                  <a:lnTo>
                    <a:pt x="588" y="57"/>
                  </a:lnTo>
                  <a:lnTo>
                    <a:pt x="602" y="49"/>
                  </a:lnTo>
                  <a:lnTo>
                    <a:pt x="617" y="42"/>
                  </a:lnTo>
                  <a:lnTo>
                    <a:pt x="631" y="36"/>
                  </a:lnTo>
                  <a:lnTo>
                    <a:pt x="647" y="29"/>
                  </a:lnTo>
                  <a:lnTo>
                    <a:pt x="665" y="24"/>
                  </a:lnTo>
                  <a:lnTo>
                    <a:pt x="681" y="20"/>
                  </a:lnTo>
                  <a:lnTo>
                    <a:pt x="701" y="16"/>
                  </a:lnTo>
                  <a:lnTo>
                    <a:pt x="720" y="13"/>
                  </a:lnTo>
                  <a:lnTo>
                    <a:pt x="739" y="10"/>
                  </a:lnTo>
                  <a:lnTo>
                    <a:pt x="760" y="8"/>
                  </a:lnTo>
                  <a:lnTo>
                    <a:pt x="783" y="8"/>
                  </a:lnTo>
                  <a:lnTo>
                    <a:pt x="809" y="8"/>
                  </a:lnTo>
                  <a:lnTo>
                    <a:pt x="835" y="10"/>
                  </a:lnTo>
                  <a:lnTo>
                    <a:pt x="857" y="13"/>
                  </a:lnTo>
                  <a:lnTo>
                    <a:pt x="878" y="15"/>
                  </a:lnTo>
                  <a:lnTo>
                    <a:pt x="899" y="20"/>
                  </a:lnTo>
                  <a:lnTo>
                    <a:pt x="919" y="24"/>
                  </a:lnTo>
                  <a:lnTo>
                    <a:pt x="937" y="29"/>
                  </a:lnTo>
                  <a:lnTo>
                    <a:pt x="953" y="34"/>
                  </a:lnTo>
                  <a:lnTo>
                    <a:pt x="969" y="41"/>
                  </a:lnTo>
                  <a:lnTo>
                    <a:pt x="983" y="47"/>
                  </a:lnTo>
                  <a:lnTo>
                    <a:pt x="998" y="55"/>
                  </a:lnTo>
                  <a:lnTo>
                    <a:pt x="1012" y="62"/>
                  </a:lnTo>
                  <a:lnTo>
                    <a:pt x="1027" y="70"/>
                  </a:lnTo>
                  <a:lnTo>
                    <a:pt x="1040" y="78"/>
                  </a:lnTo>
                  <a:lnTo>
                    <a:pt x="1053" y="86"/>
                  </a:lnTo>
                  <a:lnTo>
                    <a:pt x="1066" y="94"/>
                  </a:lnTo>
                  <a:lnTo>
                    <a:pt x="1080" y="102"/>
                  </a:lnTo>
                  <a:lnTo>
                    <a:pt x="1095" y="112"/>
                  </a:lnTo>
                  <a:lnTo>
                    <a:pt x="1109" y="120"/>
                  </a:lnTo>
                  <a:lnTo>
                    <a:pt x="1124" y="128"/>
                  </a:lnTo>
                  <a:lnTo>
                    <a:pt x="1140" y="136"/>
                  </a:lnTo>
                  <a:lnTo>
                    <a:pt x="1156" y="144"/>
                  </a:lnTo>
                  <a:lnTo>
                    <a:pt x="1174" y="152"/>
                  </a:lnTo>
                  <a:lnTo>
                    <a:pt x="1193" y="160"/>
                  </a:lnTo>
                  <a:lnTo>
                    <a:pt x="1222" y="170"/>
                  </a:lnTo>
                  <a:lnTo>
                    <a:pt x="1253" y="176"/>
                  </a:lnTo>
                  <a:lnTo>
                    <a:pt x="1282" y="181"/>
                  </a:lnTo>
                  <a:lnTo>
                    <a:pt x="1313" y="186"/>
                  </a:lnTo>
                  <a:lnTo>
                    <a:pt x="1344" y="188"/>
                  </a:lnTo>
                  <a:lnTo>
                    <a:pt x="1374" y="189"/>
                  </a:lnTo>
                  <a:lnTo>
                    <a:pt x="1405" y="189"/>
                  </a:lnTo>
                  <a:lnTo>
                    <a:pt x="1436" y="189"/>
                  </a:lnTo>
                  <a:lnTo>
                    <a:pt x="1465" y="186"/>
                  </a:lnTo>
                  <a:lnTo>
                    <a:pt x="1494" y="184"/>
                  </a:lnTo>
                  <a:lnTo>
                    <a:pt x="1521" y="181"/>
                  </a:lnTo>
                  <a:lnTo>
                    <a:pt x="1549" y="178"/>
                  </a:lnTo>
                  <a:lnTo>
                    <a:pt x="1573" y="173"/>
                  </a:lnTo>
                  <a:lnTo>
                    <a:pt x="1597" y="168"/>
                  </a:lnTo>
                  <a:lnTo>
                    <a:pt x="1620" y="165"/>
                  </a:lnTo>
                  <a:lnTo>
                    <a:pt x="1639" y="160"/>
                  </a:lnTo>
                  <a:lnTo>
                    <a:pt x="1654" y="155"/>
                  </a:lnTo>
                  <a:lnTo>
                    <a:pt x="1668" y="150"/>
                  </a:lnTo>
                  <a:lnTo>
                    <a:pt x="1684" y="144"/>
                  </a:lnTo>
                  <a:lnTo>
                    <a:pt x="1699" y="136"/>
                  </a:lnTo>
                  <a:lnTo>
                    <a:pt x="1713" y="128"/>
                  </a:lnTo>
                  <a:lnTo>
                    <a:pt x="1728" y="118"/>
                  </a:lnTo>
                  <a:lnTo>
                    <a:pt x="1744" y="108"/>
                  </a:lnTo>
                  <a:lnTo>
                    <a:pt x="1760" y="99"/>
                  </a:lnTo>
                  <a:lnTo>
                    <a:pt x="1775" y="91"/>
                  </a:lnTo>
                  <a:lnTo>
                    <a:pt x="1788" y="81"/>
                  </a:lnTo>
                  <a:lnTo>
                    <a:pt x="1802" y="73"/>
                  </a:lnTo>
                  <a:lnTo>
                    <a:pt x="1817" y="63"/>
                  </a:lnTo>
                  <a:lnTo>
                    <a:pt x="1833" y="55"/>
                  </a:lnTo>
                  <a:lnTo>
                    <a:pt x="1849" y="47"/>
                  </a:lnTo>
                  <a:lnTo>
                    <a:pt x="1865" y="39"/>
                  </a:lnTo>
                  <a:lnTo>
                    <a:pt x="1881" y="33"/>
                  </a:lnTo>
                  <a:lnTo>
                    <a:pt x="1899" y="24"/>
                  </a:lnTo>
                  <a:lnTo>
                    <a:pt x="1919" y="20"/>
                  </a:lnTo>
                  <a:lnTo>
                    <a:pt x="1938" y="13"/>
                  </a:lnTo>
                  <a:lnTo>
                    <a:pt x="1957" y="8"/>
                  </a:lnTo>
                  <a:lnTo>
                    <a:pt x="1978" y="5"/>
                  </a:lnTo>
                  <a:lnTo>
                    <a:pt x="1999" y="2"/>
                  </a:lnTo>
                  <a:lnTo>
                    <a:pt x="2022" y="0"/>
                  </a:lnTo>
                  <a:lnTo>
                    <a:pt x="2046" y="0"/>
                  </a:lnTo>
                  <a:lnTo>
                    <a:pt x="2090" y="2"/>
                  </a:lnTo>
                  <a:lnTo>
                    <a:pt x="2129" y="8"/>
                  </a:lnTo>
                  <a:lnTo>
                    <a:pt x="2164" y="16"/>
                  </a:lnTo>
                  <a:lnTo>
                    <a:pt x="2195" y="28"/>
                  </a:lnTo>
                  <a:lnTo>
                    <a:pt x="2224" y="41"/>
                  </a:lnTo>
                  <a:lnTo>
                    <a:pt x="2250" y="55"/>
                  </a:lnTo>
                  <a:lnTo>
                    <a:pt x="2274" y="71"/>
                  </a:lnTo>
                  <a:lnTo>
                    <a:pt x="2298" y="87"/>
                  </a:lnTo>
                  <a:lnTo>
                    <a:pt x="2314" y="99"/>
                  </a:lnTo>
                  <a:lnTo>
                    <a:pt x="2329" y="108"/>
                  </a:lnTo>
                  <a:lnTo>
                    <a:pt x="2345" y="120"/>
                  </a:lnTo>
                  <a:lnTo>
                    <a:pt x="2361" y="128"/>
                  </a:lnTo>
                  <a:lnTo>
                    <a:pt x="2379" y="137"/>
                  </a:lnTo>
                  <a:lnTo>
                    <a:pt x="2397" y="146"/>
                  </a:lnTo>
                  <a:lnTo>
                    <a:pt x="2416" y="154"/>
                  </a:lnTo>
                  <a:lnTo>
                    <a:pt x="2437" y="160"/>
                  </a:lnTo>
                  <a:lnTo>
                    <a:pt x="2465" y="168"/>
                  </a:lnTo>
                  <a:lnTo>
                    <a:pt x="2494" y="175"/>
                  </a:lnTo>
                  <a:lnTo>
                    <a:pt x="2524" y="181"/>
                  </a:lnTo>
                  <a:lnTo>
                    <a:pt x="2553" y="188"/>
                  </a:lnTo>
                  <a:lnTo>
                    <a:pt x="2584" y="192"/>
                  </a:lnTo>
                  <a:lnTo>
                    <a:pt x="2613" y="197"/>
                  </a:lnTo>
                  <a:lnTo>
                    <a:pt x="2642" y="202"/>
                  </a:lnTo>
                  <a:lnTo>
                    <a:pt x="2668" y="205"/>
                  </a:lnTo>
                  <a:lnTo>
                    <a:pt x="2694" y="209"/>
                  </a:lnTo>
                  <a:lnTo>
                    <a:pt x="2718" y="210"/>
                  </a:lnTo>
                  <a:lnTo>
                    <a:pt x="2738" y="213"/>
                  </a:lnTo>
                  <a:lnTo>
                    <a:pt x="2757" y="215"/>
                  </a:lnTo>
                  <a:lnTo>
                    <a:pt x="2771" y="217"/>
                  </a:lnTo>
                  <a:lnTo>
                    <a:pt x="2783" y="217"/>
                  </a:lnTo>
                  <a:lnTo>
                    <a:pt x="2789" y="218"/>
                  </a:lnTo>
                  <a:lnTo>
                    <a:pt x="2792" y="218"/>
                  </a:lnTo>
                  <a:lnTo>
                    <a:pt x="2813" y="218"/>
                  </a:lnTo>
                  <a:lnTo>
                    <a:pt x="2813" y="221"/>
                  </a:lnTo>
                  <a:lnTo>
                    <a:pt x="2813" y="228"/>
                  </a:lnTo>
                  <a:lnTo>
                    <a:pt x="2813" y="236"/>
                  </a:lnTo>
                  <a:lnTo>
                    <a:pt x="2813" y="239"/>
                  </a:lnTo>
                  <a:lnTo>
                    <a:pt x="2813" y="255"/>
                  </a:lnTo>
                  <a:lnTo>
                    <a:pt x="2813" y="278"/>
                  </a:lnTo>
                  <a:lnTo>
                    <a:pt x="2791" y="278"/>
                  </a:lnTo>
                  <a:lnTo>
                    <a:pt x="22" y="281"/>
                  </a:lnTo>
                  <a:lnTo>
                    <a:pt x="0" y="281"/>
                  </a:lnTo>
                  <a:lnTo>
                    <a:pt x="0" y="259"/>
                  </a:lnTo>
                  <a:lnTo>
                    <a:pt x="0" y="238"/>
                  </a:lnTo>
                  <a:lnTo>
                    <a:pt x="0" y="218"/>
                  </a:lnTo>
                  <a:lnTo>
                    <a:pt x="19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97440" y="1491840"/>
              <a:ext cx="6364080" cy="435960"/>
            </a:xfrm>
            <a:custGeom>
              <a:avLst/>
              <a:gdLst/>
              <a:ahLst/>
              <a:rect l="l" t="t" r="r" b="b"/>
              <a:pathLst>
                <a:path w="2769" h="238">
                  <a:moveTo>
                    <a:pt x="0" y="238"/>
                  </a:moveTo>
                  <a:lnTo>
                    <a:pt x="2769" y="234"/>
                  </a:lnTo>
                  <a:lnTo>
                    <a:pt x="2769" y="218"/>
                  </a:lnTo>
                  <a:lnTo>
                    <a:pt x="2767" y="218"/>
                  </a:lnTo>
                  <a:lnTo>
                    <a:pt x="2759" y="218"/>
                  </a:lnTo>
                  <a:lnTo>
                    <a:pt x="2748" y="217"/>
                  </a:lnTo>
                  <a:lnTo>
                    <a:pt x="2733" y="215"/>
                  </a:lnTo>
                  <a:lnTo>
                    <a:pt x="2716" y="213"/>
                  </a:lnTo>
                  <a:lnTo>
                    <a:pt x="2695" y="212"/>
                  </a:lnTo>
                  <a:lnTo>
                    <a:pt x="2672" y="209"/>
                  </a:lnTo>
                  <a:lnTo>
                    <a:pt x="2646" y="205"/>
                  </a:lnTo>
                  <a:lnTo>
                    <a:pt x="2619" y="202"/>
                  </a:lnTo>
                  <a:lnTo>
                    <a:pt x="2590" y="199"/>
                  </a:lnTo>
                  <a:lnTo>
                    <a:pt x="2559" y="194"/>
                  </a:lnTo>
                  <a:lnTo>
                    <a:pt x="2530" y="188"/>
                  </a:lnTo>
                  <a:lnTo>
                    <a:pt x="2497" y="183"/>
                  </a:lnTo>
                  <a:lnTo>
                    <a:pt x="2468" y="176"/>
                  </a:lnTo>
                  <a:lnTo>
                    <a:pt x="2438" y="168"/>
                  </a:lnTo>
                  <a:lnTo>
                    <a:pt x="2409" y="160"/>
                  </a:lnTo>
                  <a:lnTo>
                    <a:pt x="2381" y="150"/>
                  </a:lnTo>
                  <a:lnTo>
                    <a:pt x="2357" y="141"/>
                  </a:lnTo>
                  <a:lnTo>
                    <a:pt x="2334" y="129"/>
                  </a:lnTo>
                  <a:lnTo>
                    <a:pt x="2312" y="116"/>
                  </a:lnTo>
                  <a:lnTo>
                    <a:pt x="2292" y="104"/>
                  </a:lnTo>
                  <a:lnTo>
                    <a:pt x="2273" y="91"/>
                  </a:lnTo>
                  <a:lnTo>
                    <a:pt x="2254" y="78"/>
                  </a:lnTo>
                  <a:lnTo>
                    <a:pt x="2234" y="65"/>
                  </a:lnTo>
                  <a:lnTo>
                    <a:pt x="2213" y="52"/>
                  </a:lnTo>
                  <a:lnTo>
                    <a:pt x="2192" y="41"/>
                  </a:lnTo>
                  <a:lnTo>
                    <a:pt x="2170" y="29"/>
                  </a:lnTo>
                  <a:lnTo>
                    <a:pt x="2145" y="20"/>
                  </a:lnTo>
                  <a:lnTo>
                    <a:pt x="2120" y="12"/>
                  </a:lnTo>
                  <a:lnTo>
                    <a:pt x="2090" y="5"/>
                  </a:lnTo>
                  <a:lnTo>
                    <a:pt x="2060" y="2"/>
                  </a:lnTo>
                  <a:lnTo>
                    <a:pt x="2024" y="0"/>
                  </a:lnTo>
                  <a:lnTo>
                    <a:pt x="1989" y="2"/>
                  </a:lnTo>
                  <a:lnTo>
                    <a:pt x="1955" y="7"/>
                  </a:lnTo>
                  <a:lnTo>
                    <a:pt x="1924" y="13"/>
                  </a:lnTo>
                  <a:lnTo>
                    <a:pt x="1895" y="21"/>
                  </a:lnTo>
                  <a:lnTo>
                    <a:pt x="1868" y="33"/>
                  </a:lnTo>
                  <a:lnTo>
                    <a:pt x="1842" y="44"/>
                  </a:lnTo>
                  <a:lnTo>
                    <a:pt x="1816" y="57"/>
                  </a:lnTo>
                  <a:lnTo>
                    <a:pt x="1793" y="70"/>
                  </a:lnTo>
                  <a:lnTo>
                    <a:pt x="1771" y="84"/>
                  </a:lnTo>
                  <a:lnTo>
                    <a:pt x="1748" y="97"/>
                  </a:lnTo>
                  <a:lnTo>
                    <a:pt x="1727" y="112"/>
                  </a:lnTo>
                  <a:lnTo>
                    <a:pt x="1706" y="123"/>
                  </a:lnTo>
                  <a:lnTo>
                    <a:pt x="1685" y="136"/>
                  </a:lnTo>
                  <a:lnTo>
                    <a:pt x="1664" y="146"/>
                  </a:lnTo>
                  <a:lnTo>
                    <a:pt x="1643" y="154"/>
                  </a:lnTo>
                  <a:lnTo>
                    <a:pt x="1622" y="160"/>
                  </a:lnTo>
                  <a:lnTo>
                    <a:pt x="1599" y="165"/>
                  </a:lnTo>
                  <a:lnTo>
                    <a:pt x="1575" y="170"/>
                  </a:lnTo>
                  <a:lnTo>
                    <a:pt x="1549" y="175"/>
                  </a:lnTo>
                  <a:lnTo>
                    <a:pt x="1522" y="179"/>
                  </a:lnTo>
                  <a:lnTo>
                    <a:pt x="1494" y="183"/>
                  </a:lnTo>
                  <a:lnTo>
                    <a:pt x="1465" y="186"/>
                  </a:lnTo>
                  <a:lnTo>
                    <a:pt x="1436" y="189"/>
                  </a:lnTo>
                  <a:lnTo>
                    <a:pt x="1406" y="191"/>
                  </a:lnTo>
                  <a:lnTo>
                    <a:pt x="1375" y="191"/>
                  </a:lnTo>
                  <a:lnTo>
                    <a:pt x="1344" y="191"/>
                  </a:lnTo>
                  <a:lnTo>
                    <a:pt x="1314" y="189"/>
                  </a:lnTo>
                  <a:lnTo>
                    <a:pt x="1283" y="186"/>
                  </a:lnTo>
                  <a:lnTo>
                    <a:pt x="1252" y="183"/>
                  </a:lnTo>
                  <a:lnTo>
                    <a:pt x="1221" y="176"/>
                  </a:lnTo>
                  <a:lnTo>
                    <a:pt x="1192" y="170"/>
                  </a:lnTo>
                  <a:lnTo>
                    <a:pt x="1163" y="160"/>
                  </a:lnTo>
                  <a:lnTo>
                    <a:pt x="1136" y="150"/>
                  </a:lnTo>
                  <a:lnTo>
                    <a:pt x="1112" y="139"/>
                  </a:lnTo>
                  <a:lnTo>
                    <a:pt x="1089" y="126"/>
                  </a:lnTo>
                  <a:lnTo>
                    <a:pt x="1066" y="115"/>
                  </a:lnTo>
                  <a:lnTo>
                    <a:pt x="1047" y="102"/>
                  </a:lnTo>
                  <a:lnTo>
                    <a:pt x="1026" y="89"/>
                  </a:lnTo>
                  <a:lnTo>
                    <a:pt x="1007" y="76"/>
                  </a:lnTo>
                  <a:lnTo>
                    <a:pt x="987" y="65"/>
                  </a:lnTo>
                  <a:lnTo>
                    <a:pt x="966" y="54"/>
                  </a:lnTo>
                  <a:lnTo>
                    <a:pt x="944" y="42"/>
                  </a:lnTo>
                  <a:lnTo>
                    <a:pt x="919" y="34"/>
                  </a:lnTo>
                  <a:lnTo>
                    <a:pt x="894" y="24"/>
                  </a:lnTo>
                  <a:lnTo>
                    <a:pt x="866" y="18"/>
                  </a:lnTo>
                  <a:lnTo>
                    <a:pt x="834" y="13"/>
                  </a:lnTo>
                  <a:lnTo>
                    <a:pt x="800" y="10"/>
                  </a:lnTo>
                  <a:lnTo>
                    <a:pt x="761" y="8"/>
                  </a:lnTo>
                  <a:lnTo>
                    <a:pt x="726" y="10"/>
                  </a:lnTo>
                  <a:lnTo>
                    <a:pt x="693" y="13"/>
                  </a:lnTo>
                  <a:lnTo>
                    <a:pt x="664" y="20"/>
                  </a:lnTo>
                  <a:lnTo>
                    <a:pt x="637" y="28"/>
                  </a:lnTo>
                  <a:lnTo>
                    <a:pt x="611" y="37"/>
                  </a:lnTo>
                  <a:lnTo>
                    <a:pt x="587" y="49"/>
                  </a:lnTo>
                  <a:lnTo>
                    <a:pt x="562" y="62"/>
                  </a:lnTo>
                  <a:lnTo>
                    <a:pt x="541" y="73"/>
                  </a:lnTo>
                  <a:lnTo>
                    <a:pt x="519" y="87"/>
                  </a:lnTo>
                  <a:lnTo>
                    <a:pt x="498" y="100"/>
                  </a:lnTo>
                  <a:lnTo>
                    <a:pt x="477" y="112"/>
                  </a:lnTo>
                  <a:lnTo>
                    <a:pt x="454" y="125"/>
                  </a:lnTo>
                  <a:lnTo>
                    <a:pt x="433" y="134"/>
                  </a:lnTo>
                  <a:lnTo>
                    <a:pt x="409" y="144"/>
                  </a:lnTo>
                  <a:lnTo>
                    <a:pt x="385" y="152"/>
                  </a:lnTo>
                  <a:lnTo>
                    <a:pt x="359" y="158"/>
                  </a:lnTo>
                  <a:lnTo>
                    <a:pt x="331" y="163"/>
                  </a:lnTo>
                  <a:lnTo>
                    <a:pt x="302" y="168"/>
                  </a:lnTo>
                  <a:lnTo>
                    <a:pt x="273" y="175"/>
                  </a:lnTo>
                  <a:lnTo>
                    <a:pt x="243" y="179"/>
                  </a:lnTo>
                  <a:lnTo>
                    <a:pt x="214" y="184"/>
                  </a:lnTo>
                  <a:lnTo>
                    <a:pt x="183" y="189"/>
                  </a:lnTo>
                  <a:lnTo>
                    <a:pt x="154" y="194"/>
                  </a:lnTo>
                  <a:lnTo>
                    <a:pt x="126" y="197"/>
                  </a:lnTo>
                  <a:lnTo>
                    <a:pt x="100" y="202"/>
                  </a:lnTo>
                  <a:lnTo>
                    <a:pt x="76" y="205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21" y="213"/>
                  </a:lnTo>
                  <a:lnTo>
                    <a:pt x="10" y="215"/>
                  </a:lnTo>
                  <a:lnTo>
                    <a:pt x="4" y="217"/>
                  </a:lnTo>
                  <a:lnTo>
                    <a:pt x="0" y="217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29520" y="2166120"/>
              <a:ext cx="47880" cy="5688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7" y="31"/>
                  </a:moveTo>
                  <a:lnTo>
                    <a:pt x="21" y="28"/>
                  </a:lnTo>
                  <a:lnTo>
                    <a:pt x="13" y="0"/>
                  </a:lnTo>
                  <a:lnTo>
                    <a:pt x="0" y="4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bf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371600" y="3870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951600" y="38098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191120" y="3894120"/>
            <a:ext cx="71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685800" y="1312920"/>
            <a:ext cx="8000640" cy="1859040"/>
            <a:chOff x="685800" y="1312920"/>
            <a:chExt cx="8000640" cy="1859040"/>
          </a:xfrm>
        </p:grpSpPr>
        <p:pic>
          <p:nvPicPr>
            <p:cNvPr id="1135" name="" descr=""/>
            <p:cNvPicPr/>
            <p:nvPr/>
          </p:nvPicPr>
          <p:blipFill>
            <a:blip r:embed="rId1"/>
            <a:stretch/>
          </p:blipFill>
          <p:spPr>
            <a:xfrm>
              <a:off x="685800" y="1441440"/>
              <a:ext cx="173304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" descr=""/>
            <p:cNvPicPr/>
            <p:nvPr/>
          </p:nvPicPr>
          <p:blipFill>
            <a:blip r:embed="rId2"/>
            <a:stretch/>
          </p:blipFill>
          <p:spPr>
            <a:xfrm>
              <a:off x="6898680" y="1504800"/>
              <a:ext cx="17877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780120" y="26377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uc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055640" y="27122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esco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9" name=""/>
            <p:cNvCxnSpPr>
              <a:stCxn id="1135" idx="3"/>
              <a:endCxn id="1136" idx="0"/>
            </p:cNvCxnSpPr>
            <p:nvPr/>
          </p:nvCxnSpPr>
          <p:spPr>
            <a:xfrm flipV="1">
              <a:off x="2418480" y="1504080"/>
              <a:ext cx="5374800" cy="510120"/>
            </a:xfrm>
            <a:prstGeom prst="curvedConnector5">
              <a:avLst>
                <a:gd name="adj1" fmla="val 41663"/>
                <a:gd name="adj2" fmla="val 68714"/>
                <a:gd name="adj3" fmla="val 4166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0" name=""/>
            <p:cNvSpPr/>
            <p:nvPr/>
          </p:nvSpPr>
          <p:spPr>
            <a:xfrm>
              <a:off x="2183760" y="1466280"/>
              <a:ext cx="163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4 hou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08800" y="159372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54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17600" y="219240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omic Sans MS"/>
                </a:rPr>
                <a:t>72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70360" y="212832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33"/>
                  </a:solidFill>
                  <a:latin typeface="Comic Sans MS"/>
                </a:rPr>
                <a:t>time diff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3132360" y="53352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685800" y="1312920"/>
            <a:ext cx="8000640" cy="1859040"/>
            <a:chOff x="685800" y="1312920"/>
            <a:chExt cx="8000640" cy="1859040"/>
          </a:xfrm>
        </p:grpSpPr>
        <p:pic>
          <p:nvPicPr>
            <p:cNvPr id="1146" name="" descr=""/>
            <p:cNvPicPr/>
            <p:nvPr/>
          </p:nvPicPr>
          <p:blipFill>
            <a:blip r:embed="rId3"/>
            <a:stretch/>
          </p:blipFill>
          <p:spPr>
            <a:xfrm>
              <a:off x="685800" y="1441440"/>
              <a:ext cx="173304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7" name="" descr=""/>
            <p:cNvPicPr/>
            <p:nvPr/>
          </p:nvPicPr>
          <p:blipFill>
            <a:blip r:embed="rId4"/>
            <a:stretch/>
          </p:blipFill>
          <p:spPr>
            <a:xfrm>
              <a:off x="6898680" y="1504800"/>
              <a:ext cx="17877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780120" y="26377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uc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55640" y="2712240"/>
              <a:ext cx="13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resco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0" name=""/>
            <p:cNvCxnSpPr>
              <a:stCxn id="1146" idx="3"/>
              <a:endCxn id="1147" idx="0"/>
            </p:cNvCxnSpPr>
            <p:nvPr/>
          </p:nvCxnSpPr>
          <p:spPr>
            <a:xfrm flipV="1">
              <a:off x="2418480" y="1504080"/>
              <a:ext cx="5374800" cy="510120"/>
            </a:xfrm>
            <a:prstGeom prst="curvedConnector5">
              <a:avLst>
                <a:gd name="adj1" fmla="val 41663"/>
                <a:gd name="adj2" fmla="val 68714"/>
                <a:gd name="adj3" fmla="val 4166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1" name=""/>
            <p:cNvSpPr/>
            <p:nvPr/>
          </p:nvSpPr>
          <p:spPr>
            <a:xfrm>
              <a:off x="2183760" y="1466280"/>
              <a:ext cx="1631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4 hou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08800" y="159372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54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217600" y="2192400"/>
              <a:ext cx="202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72 mi./h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770360" y="212832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33"/>
                  </a:solidFill>
                  <a:latin typeface="Comic Sans MS"/>
                </a:rPr>
                <a:t>time diff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709440" y="3900600"/>
            <a:ext cx="14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 =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7120" y="3306600"/>
            <a:ext cx="75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to Prescott at 54 mi/hr  = 4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40800" y="4754520"/>
            <a:ext cx="75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to Prescott at 72 mi/hr  = 3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623600" y="5559480"/>
            <a:ext cx="6028200" cy="703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Time difference = 1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3715560" y="6094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8580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133720" y="19051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luate math expressions containing a variety of operations with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457200" y="2590920"/>
            <a:ext cx="1981080" cy="2819160"/>
            <a:chOff x="457200" y="2590920"/>
            <a:chExt cx="1981080" cy="2819160"/>
          </a:xfrm>
        </p:grpSpPr>
        <p:sp>
          <p:nvSpPr>
            <p:cNvPr id="1163" name=""/>
            <p:cNvSpPr/>
            <p:nvPr/>
          </p:nvSpPr>
          <p:spPr>
            <a:xfrm>
              <a:off x="457200" y="2590920"/>
              <a:ext cx="1981080" cy="28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4400" y="2602440"/>
              <a:ext cx="1966320" cy="27957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17360" y="2626200"/>
              <a:ext cx="103680" cy="1825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8600" y="2637720"/>
              <a:ext cx="59040" cy="200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39680" y="2661480"/>
              <a:ext cx="44280" cy="943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95560" y="2679120"/>
              <a:ext cx="59040" cy="1825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62160" y="2702880"/>
              <a:ext cx="51840" cy="1767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17960" y="2714760"/>
              <a:ext cx="66600" cy="1825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77360" y="2720520"/>
              <a:ext cx="63000" cy="164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451520" y="2755800"/>
              <a:ext cx="48240" cy="1591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957960" y="2773440"/>
              <a:ext cx="764280" cy="112068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909720" y="2779560"/>
              <a:ext cx="100080" cy="8020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928080" y="2779560"/>
              <a:ext cx="107280" cy="8197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35640" y="2779560"/>
              <a:ext cx="129600" cy="10321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14520" y="2791440"/>
              <a:ext cx="51840" cy="1353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77520" y="2809080"/>
              <a:ext cx="37080" cy="1296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622160" y="2820960"/>
              <a:ext cx="37080" cy="12384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674000" y="2838600"/>
              <a:ext cx="25920" cy="1058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11080" y="2850120"/>
              <a:ext cx="33120" cy="111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80440" y="2985840"/>
              <a:ext cx="200160" cy="3772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388520" y="3039120"/>
              <a:ext cx="166680" cy="38916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91600" y="3068640"/>
              <a:ext cx="155520" cy="27108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51000" y="3080160"/>
              <a:ext cx="77760" cy="1177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403280" y="3109680"/>
              <a:ext cx="137160" cy="29484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88080" y="3121560"/>
              <a:ext cx="18360" cy="291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429200" y="3145320"/>
              <a:ext cx="59040" cy="943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455120" y="3174840"/>
              <a:ext cx="18360" cy="352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073160" y="3434400"/>
              <a:ext cx="51840" cy="352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62000" y="3475440"/>
              <a:ext cx="463680" cy="164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63440" y="3569760"/>
              <a:ext cx="307800" cy="2829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13320" y="3605400"/>
              <a:ext cx="1083240" cy="442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20360" y="3682080"/>
              <a:ext cx="151920" cy="19440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76240" y="3723120"/>
              <a:ext cx="21960" cy="1000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906120" y="3735000"/>
              <a:ext cx="25920" cy="1000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917280" y="3735000"/>
              <a:ext cx="1113120" cy="41868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6280" y="3823560"/>
              <a:ext cx="289080" cy="5367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9080" y="3876480"/>
              <a:ext cx="92520" cy="164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96400" y="3882600"/>
              <a:ext cx="66600" cy="164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52200" y="3894480"/>
              <a:ext cx="107280" cy="1353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03880" y="3912120"/>
              <a:ext cx="88920" cy="1767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02600" y="3941640"/>
              <a:ext cx="741960" cy="2415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7360" y="3976920"/>
              <a:ext cx="66600" cy="3182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5600" y="3994560"/>
              <a:ext cx="33120" cy="2653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662840" y="4000680"/>
              <a:ext cx="29520" cy="529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3120" y="4012200"/>
              <a:ext cx="203760" cy="3715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98560" y="4018320"/>
              <a:ext cx="749520" cy="813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2680" y="4053600"/>
              <a:ext cx="18360" cy="1058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05440" y="4259880"/>
              <a:ext cx="129600" cy="1000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3880" y="4259880"/>
              <a:ext cx="33120" cy="41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861480" y="4266000"/>
              <a:ext cx="40680" cy="5248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839160" y="4283640"/>
              <a:ext cx="40680" cy="501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09640" y="4301280"/>
              <a:ext cx="40680" cy="4482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451520" y="4454640"/>
              <a:ext cx="237240" cy="8964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518120" y="4478400"/>
              <a:ext cx="37080" cy="76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9280" y="4513680"/>
              <a:ext cx="25920" cy="471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555200" y="4555080"/>
              <a:ext cx="10800" cy="176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32040" y="4719960"/>
              <a:ext cx="278280" cy="6544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3510000" y="3809880"/>
            <a:ext cx="4262400" cy="23958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cover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3715560" y="6094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981080" y="19051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ut the information contained in word problems into equation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57200" y="2590920"/>
            <a:ext cx="1828800" cy="2514600"/>
            <a:chOff x="457200" y="2590920"/>
            <a:chExt cx="1828800" cy="2514600"/>
          </a:xfrm>
        </p:grpSpPr>
        <p:sp>
          <p:nvSpPr>
            <p:cNvPr id="1224" name=""/>
            <p:cNvSpPr/>
            <p:nvPr/>
          </p:nvSpPr>
          <p:spPr>
            <a:xfrm>
              <a:off x="457200" y="2590920"/>
              <a:ext cx="18288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3680" y="2601360"/>
              <a:ext cx="1815480" cy="2493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74160" y="2622240"/>
              <a:ext cx="95760" cy="1630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77120" y="2632680"/>
              <a:ext cx="54720" cy="178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94680" y="2653920"/>
              <a:ext cx="41040" cy="83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38680" y="2669760"/>
              <a:ext cx="54720" cy="1630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200240" y="2690640"/>
              <a:ext cx="47880" cy="1576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51720" y="2701080"/>
              <a:ext cx="61560" cy="1630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06440" y="2706480"/>
              <a:ext cx="57960" cy="1472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374840" y="2738160"/>
              <a:ext cx="44280" cy="1418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19440" y="2754000"/>
              <a:ext cx="705600" cy="9993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74800" y="2759040"/>
              <a:ext cx="92160" cy="7153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92080" y="2759040"/>
              <a:ext cx="99000" cy="7311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98920" y="2759040"/>
              <a:ext cx="119880" cy="9205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33160" y="2769480"/>
              <a:ext cx="47880" cy="1209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91480" y="2785320"/>
              <a:ext cx="34200" cy="1155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32520" y="2796120"/>
              <a:ext cx="34200" cy="110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580400" y="2811600"/>
              <a:ext cx="23760" cy="946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14960" y="2822400"/>
              <a:ext cx="30600" cy="99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25000" y="2943360"/>
              <a:ext cx="184680" cy="3366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6880" y="2990520"/>
              <a:ext cx="154080" cy="347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135080" y="3016800"/>
              <a:ext cx="143640" cy="2419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190160" y="3027600"/>
              <a:ext cx="71640" cy="1051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330560" y="3053880"/>
              <a:ext cx="126720" cy="2628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24360" y="3064320"/>
              <a:ext cx="16920" cy="262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354320" y="3085200"/>
              <a:ext cx="54720" cy="83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378440" y="3111480"/>
              <a:ext cx="16920" cy="3132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25640" y="3342960"/>
              <a:ext cx="47880" cy="3132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15200" y="3380040"/>
              <a:ext cx="428040" cy="147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847880" y="3464280"/>
              <a:ext cx="284040" cy="2523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78400" y="3495600"/>
              <a:ext cx="1000080" cy="394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00200" y="3564000"/>
              <a:ext cx="140400" cy="173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44200" y="3601080"/>
              <a:ext cx="20520" cy="892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71560" y="3611520"/>
              <a:ext cx="23760" cy="892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81640" y="3611520"/>
              <a:ext cx="1027440" cy="3733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24320" y="3690360"/>
              <a:ext cx="267120" cy="4788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7480" y="3737880"/>
              <a:ext cx="85320" cy="147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93440" y="3742920"/>
              <a:ext cx="61560" cy="147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44920" y="3753360"/>
              <a:ext cx="99000" cy="1209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608120" y="3769200"/>
              <a:ext cx="82080" cy="1576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60480" y="3795480"/>
              <a:ext cx="684720" cy="2156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1880" y="3827160"/>
              <a:ext cx="61560" cy="2840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86520" y="3843000"/>
              <a:ext cx="30600" cy="236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70320" y="3848400"/>
              <a:ext cx="27360" cy="471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0960" y="3858840"/>
              <a:ext cx="188280" cy="3312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64720" y="3863880"/>
              <a:ext cx="691920" cy="7257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0720" y="3895560"/>
              <a:ext cx="16920" cy="946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1480" y="4079880"/>
              <a:ext cx="119520" cy="892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1280" y="4079880"/>
              <a:ext cx="30600" cy="36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30520" y="4084920"/>
              <a:ext cx="37440" cy="4680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9640" y="4100760"/>
              <a:ext cx="37440" cy="447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2280" y="4116600"/>
              <a:ext cx="37440" cy="3996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74840" y="4253400"/>
              <a:ext cx="218880" cy="79956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436760" y="4274280"/>
              <a:ext cx="34200" cy="684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446840" y="4305960"/>
              <a:ext cx="23760" cy="41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470960" y="4342680"/>
              <a:ext cx="1008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95320" y="4489920"/>
              <a:ext cx="256680" cy="5839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68580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3886200" cy="2347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cover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3715560" y="60948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514600" y="18288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multi-step word problems with integer mathema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457200" y="2590920"/>
            <a:ext cx="2438280" cy="3429000"/>
            <a:chOff x="457200" y="2590920"/>
            <a:chExt cx="2438280" cy="3429000"/>
          </a:xfrm>
        </p:grpSpPr>
        <p:sp>
          <p:nvSpPr>
            <p:cNvPr id="1286" name=""/>
            <p:cNvSpPr/>
            <p:nvPr/>
          </p:nvSpPr>
          <p:spPr>
            <a:xfrm>
              <a:off x="457200" y="2590920"/>
              <a:ext cx="2438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6200" y="2604960"/>
              <a:ext cx="24202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46600" y="2633760"/>
              <a:ext cx="12780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83760" y="2648160"/>
              <a:ext cx="7272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73960" y="2676960"/>
              <a:ext cx="547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65840" y="2698200"/>
              <a:ext cx="7272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447920" y="2727000"/>
              <a:ext cx="6372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16680" y="2741400"/>
              <a:ext cx="8208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589400" y="2748600"/>
              <a:ext cx="7740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80840" y="2791800"/>
              <a:ext cx="590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73520" y="2813040"/>
              <a:ext cx="94068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14120" y="2820240"/>
              <a:ext cx="12312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37160" y="2820240"/>
              <a:ext cx="13212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46160" y="2820240"/>
              <a:ext cx="15984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758600" y="2834640"/>
              <a:ext cx="6372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836000" y="2856240"/>
              <a:ext cx="453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891080" y="2870640"/>
              <a:ext cx="453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54800" y="2892240"/>
              <a:ext cx="316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00520" y="2906280"/>
              <a:ext cx="410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47480" y="3071520"/>
              <a:ext cx="24624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03440" y="3135960"/>
              <a:ext cx="2052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61160" y="3171960"/>
              <a:ext cx="1915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34240" y="3186360"/>
              <a:ext cx="9576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21440" y="3222000"/>
              <a:ext cx="16884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479960" y="3236400"/>
              <a:ext cx="2268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53480" y="3265200"/>
              <a:ext cx="7308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85520" y="3300840"/>
              <a:ext cx="2268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215000" y="3616560"/>
              <a:ext cx="6372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201320" y="3666960"/>
              <a:ext cx="57060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311200" y="3781800"/>
              <a:ext cx="3787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18800" y="3824640"/>
              <a:ext cx="13334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1200" y="3917880"/>
              <a:ext cx="18720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73080" y="3968280"/>
              <a:ext cx="273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09440" y="3982680"/>
              <a:ext cx="316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023480" y="3982680"/>
              <a:ext cx="136980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13240" y="4090320"/>
              <a:ext cx="35604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04240" y="4154760"/>
              <a:ext cx="1141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05640" y="4161960"/>
              <a:ext cx="8208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174040" y="4176360"/>
              <a:ext cx="13212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91520" y="4197600"/>
              <a:ext cx="10944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128240" y="4233600"/>
              <a:ext cx="91332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03800" y="4276800"/>
              <a:ext cx="8208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62840" y="4298400"/>
              <a:ext cx="410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41120" y="4305600"/>
              <a:ext cx="3636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8880" y="4319640"/>
              <a:ext cx="25092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00440" y="4326840"/>
              <a:ext cx="922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08560" y="4370040"/>
              <a:ext cx="2268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16240" y="4620960"/>
              <a:ext cx="15948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2400" y="4620960"/>
              <a:ext cx="410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54720" y="4628160"/>
              <a:ext cx="500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27360" y="4649760"/>
              <a:ext cx="500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91000" y="4671360"/>
              <a:ext cx="500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80840" y="4857840"/>
              <a:ext cx="291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62920" y="4886640"/>
              <a:ext cx="453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76960" y="4929480"/>
              <a:ext cx="316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08640" y="4979880"/>
              <a:ext cx="1368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1480" y="5180760"/>
              <a:ext cx="34236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68580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1"/>
          <a:stretch/>
        </p:blipFill>
        <p:spPr>
          <a:xfrm>
            <a:off x="4019400" y="3641760"/>
            <a:ext cx="4057920" cy="2606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71600"/>
            <a:ext cx="7772400" cy="5002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1447920" y="2057400"/>
            <a:ext cx="60195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Order of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50000">
                      <a:srgbClr val="005e75"/>
                    </a:gs>
                    <a:gs pos="100000">
                      <a:srgbClr val="00ccff"/>
                    </a:gs>
                  </a:gsLst>
                  <a:lin ang="5400000"/>
                </a:gradFill>
                <a:latin typeface="Comic Sans MS"/>
              </a:rPr>
              <a:t>Operat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50000">
                    <a:srgbClr val="005e75"/>
                  </a:gs>
                  <a:gs pos="100000">
                    <a:srgbClr val="00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3280" y="1295280"/>
            <a:ext cx="70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ahoma"/>
              </a:rPr>
              <a:t>What do you do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  <a:ea typeface="Tahoma"/>
              </a:rPr>
              <a:t>first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  <a:ea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7560" y="2133720"/>
            <a:ext cx="413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÷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  <a:ea typeface="Tahoma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085920" y="209520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2680" y="3382920"/>
            <a:ext cx="76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4 to 8 THEN divide the answer by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6320" y="3809880"/>
            <a:ext cx="7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14160" y="4389480"/>
            <a:ext cx="413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÷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  <a:ea typeface="Tahoma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533840" y="4305240"/>
            <a:ext cx="457200" cy="2209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00" y="5638680"/>
            <a:ext cx="768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ivide 8 by 4 THEN add 4 to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13280" y="22096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98960" y="4419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82440" y="68580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sp>
          <p:nvSpPr>
            <p:cNvPr id="250" name=""/>
            <p:cNvSpPr/>
            <p:nvPr/>
          </p:nvSpPr>
          <p:spPr>
            <a:xfrm>
              <a:off x="993240" y="1752480"/>
              <a:ext cx="700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8)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 + 2 </a:t>
              </a:r>
              <a:r>
                <a:rPr b="0" lang="en-US" sz="6600" spc="-1" strike="noStrike" baseline="24000">
                  <a:solidFill>
                    <a:srgbClr val="000000"/>
                  </a:solidFill>
                  <a:latin typeface="Comic Sans MS"/>
                  <a:ea typeface="Tahoma"/>
                </a:rPr>
                <a:t>.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2 +         =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6019920" y="1790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2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sp>
          <p:nvSpPr>
            <p:cNvPr id="253" name=""/>
            <p:cNvSpPr/>
            <p:nvPr/>
          </p:nvSpPr>
          <p:spPr>
            <a:xfrm>
              <a:off x="993240" y="1752480"/>
              <a:ext cx="700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(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8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)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 + 2 </a:t>
              </a:r>
              <a:r>
                <a:rPr b="0" lang="en-US" sz="6600" spc="-1" strike="noStrike" baseline="24000">
                  <a:solidFill>
                    <a:srgbClr val="000000"/>
                  </a:solidFill>
                  <a:latin typeface="Comic Sans MS"/>
                  <a:ea typeface="Tahoma"/>
                </a:rPr>
                <a:t>.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2 +         =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6019920" y="1790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grpSp>
          <p:nvGrpSpPr>
            <p:cNvPr id="256" name=""/>
            <p:cNvGrpSpPr/>
            <p:nvPr/>
          </p:nvGrpSpPr>
          <p:grpSpPr>
            <a:xfrm>
              <a:off x="993240" y="1752480"/>
              <a:ext cx="7006680" cy="1099440"/>
              <a:chOff x="993240" y="1752480"/>
              <a:chExt cx="7006680" cy="1099440"/>
            </a:xfrm>
          </p:grpSpPr>
          <p:sp>
            <p:nvSpPr>
              <p:cNvPr id="257" name=""/>
              <p:cNvSpPr/>
              <p:nvPr/>
            </p:nvSpPr>
            <p:spPr>
              <a:xfrm>
                <a:off x="993240" y="1752480"/>
                <a:ext cx="7006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+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÷ 4 + 2 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.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+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9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grpSp>
          <p:nvGrpSpPr>
            <p:cNvPr id="261" name=""/>
            <p:cNvGrpSpPr/>
            <p:nvPr/>
          </p:nvGrpSpPr>
          <p:grpSpPr>
            <a:xfrm>
              <a:off x="993240" y="1752480"/>
              <a:ext cx="7006680" cy="1099440"/>
              <a:chOff x="993240" y="1752480"/>
              <a:chExt cx="7006680" cy="1099440"/>
            </a:xfrm>
          </p:grpSpPr>
          <p:sp>
            <p:nvSpPr>
              <p:cNvPr id="262" name=""/>
              <p:cNvSpPr/>
              <p:nvPr/>
            </p:nvSpPr>
            <p:spPr>
              <a:xfrm>
                <a:off x="993240" y="1752480"/>
                <a:ext cx="7006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+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ccff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+ 2 </a:t>
                </a:r>
                <a:r>
                  <a:rPr b="0" lang="en-US" sz="6600" spc="-1" strike="noStrike" baseline="24000">
                    <a:solidFill>
                      <a:srgbClr val="00ccff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+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3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4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93240" y="1752480"/>
            <a:ext cx="7006320" cy="1099440"/>
            <a:chOff x="993240" y="1752480"/>
            <a:chExt cx="7006320" cy="1099440"/>
          </a:xfrm>
        </p:grpSpPr>
        <p:grpSp>
          <p:nvGrpSpPr>
            <p:cNvPr id="266" name=""/>
            <p:cNvGrpSpPr/>
            <p:nvPr/>
          </p:nvGrpSpPr>
          <p:grpSpPr>
            <a:xfrm>
              <a:off x="993240" y="1752480"/>
              <a:ext cx="7006320" cy="1099440"/>
              <a:chOff x="993240" y="1752480"/>
              <a:chExt cx="7006320" cy="1099440"/>
            </a:xfrm>
          </p:grpSpPr>
          <p:sp>
            <p:nvSpPr>
              <p:cNvPr id="267" name=""/>
              <p:cNvSpPr/>
              <p:nvPr/>
            </p:nvSpPr>
            <p:spPr>
              <a:xfrm>
                <a:off x="993240" y="1752480"/>
                <a:ext cx="700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99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ccff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2 </a:t>
                </a:r>
                <a:r>
                  <a:rPr b="0" lang="en-US" sz="6600" spc="-1" strike="noStrike" baseline="24000">
                    <a:solidFill>
                      <a:srgbClr val="00ccff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8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9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120" y="300024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93200" y="2486160"/>
            <a:ext cx="60145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[(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•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)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47720" y="3076560"/>
            <a:ext cx="543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•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)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22240" y="3838680"/>
            <a:ext cx="53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ccff"/>
                </a:solidFill>
                <a:latin typeface="Comic Sans MS"/>
              </a:rPr>
              <a:t>•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]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19840" y="4924440"/>
            <a:ext cx="417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35 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00320" y="1386000"/>
            <a:ext cx="248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960" y="1371600"/>
            <a:ext cx="27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18640" y="472428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706480" y="623880"/>
            <a:ext cx="35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70520" y="1143000"/>
            <a:ext cx="60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8480" y="1828800"/>
            <a:ext cx="78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23 + 6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÷ -2 + 3 •-2 + (6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  <a:ea typeface="Tahoma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3056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428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1520" y="114300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09560" y="1143000"/>
            <a:ext cx="75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ff"/>
                </a:solidFill>
                <a:latin typeface="Comic Sans MS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92880" y="1143000"/>
            <a:ext cx="45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1040" y="2590920"/>
            <a:ext cx="225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4800" spc="-1" strike="noStrike">
                <a:solidFill>
                  <a:srgbClr val="009900"/>
                </a:solidFill>
                <a:latin typeface="Comic Sans MS"/>
                <a:ea typeface="Tahoma"/>
              </a:rPr>
              <a:t>36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4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19920" y="3519360"/>
            <a:ext cx="12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(4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0840" y="3519360"/>
            <a:ext cx="57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23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cc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ccff"/>
                </a:solidFill>
                <a:latin typeface="Comic Sans MS"/>
                <a:ea typeface="Tahoma"/>
              </a:rPr>
              <a:t>÷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-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3</a:t>
            </a:r>
            <a:r>
              <a:rPr b="0" lang="en-US" sz="4800" spc="-1" strike="noStrike">
                <a:solidFill>
                  <a:srgbClr val="00ccff"/>
                </a:solidFill>
                <a:latin typeface="Comic Sans MS"/>
                <a:ea typeface="Tahoma"/>
              </a:rPr>
              <a:t> •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-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8440" y="451008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Comic Sans MS"/>
              </a:rPr>
              <a:t>(-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30760" y="451008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ff"/>
                </a:solidFill>
                <a:latin typeface="Comic Sans MS"/>
                <a:ea typeface="Tahoma"/>
              </a:rPr>
              <a:t>(-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42080" y="4495680"/>
            <a:ext cx="7649640" cy="839520"/>
            <a:chOff x="442080" y="4495680"/>
            <a:chExt cx="7649640" cy="839520"/>
          </a:xfrm>
        </p:grpSpPr>
        <p:sp>
          <p:nvSpPr>
            <p:cNvPr id="296" name=""/>
            <p:cNvSpPr/>
            <p:nvPr/>
          </p:nvSpPr>
          <p:spPr>
            <a:xfrm>
              <a:off x="442080" y="4510080"/>
              <a:ext cx="158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23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6680" y="44956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81200" y="4495680"/>
              <a:ext cx="1910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  <a:ea typeface="Tahoma"/>
                </a:rPr>
                <a:t>+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 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  <a:ea typeface="Tahoma"/>
                </a:rPr>
                <a:t>(40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19200" y="1843200"/>
            <a:ext cx="784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23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6 </a:t>
            </a:r>
            <a:r>
              <a:rPr b="0" lang="en-US" sz="4800" spc="-1" strike="noStrike">
                <a:solidFill>
                  <a:srgbClr val="00ccff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-2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3 </a:t>
            </a:r>
            <a:r>
              <a:rPr b="0" lang="en-US" sz="4800" spc="-1" strike="noStrike">
                <a:solidFill>
                  <a:srgbClr val="00ccff"/>
                </a:solidFill>
                <a:latin typeface="Comic Sans MS"/>
                <a:ea typeface="Tahoma"/>
              </a:rPr>
              <a:t>•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-2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6</a:t>
            </a:r>
            <a:r>
              <a:rPr b="0" lang="en-US" sz="4800" spc="-1" strike="noStrike" baseline="30000">
                <a:solidFill>
                  <a:srgbClr val="009900"/>
                </a:solidFill>
                <a:latin typeface="Comic Sans MS"/>
                <a:ea typeface="Tahoma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+ 4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  <a:ea typeface="Tahoma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00760" y="5562720"/>
            <a:ext cx="107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-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54440" y="5576760"/>
            <a:ext cx="154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91040" y="5562720"/>
            <a:ext cx="1037160" cy="825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6:36:48Z</dcterms:created>
  <dc:creator>Community Campus</dc:creator>
  <dc:description/>
  <dc:language>en-US</dc:language>
  <cp:lastModifiedBy>iddcws</cp:lastModifiedBy>
  <dcterms:modified xsi:type="dcterms:W3CDTF">2003-01-28T18:50:06Z</dcterms:modified>
  <cp:revision>78</cp:revision>
  <dc:subject/>
  <dc:title>PowerPoint Presentation</dc:title>
</cp:coreProperties>
</file>