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80880" y="-380880"/>
            <a:ext cx="9905760" cy="76960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532800" y="457200"/>
            <a:ext cx="26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AT086  Prealgeb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426720" y="457200"/>
            <a:ext cx="217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lass 10  Unit 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endshow"/>
          </p:cNvPr>
          <p:cNvSpPr/>
          <p:nvPr/>
        </p:nvSpPr>
        <p:spPr>
          <a:xfrm>
            <a:off x="0" y="0"/>
            <a:ext cx="1981080" cy="304920"/>
          </a:xfrm>
          <a:custGeom>
            <a:avLst/>
            <a:gdLst>
              <a:gd name="textAreaLeft" fmla="*/ 19440 w 1981080"/>
              <a:gd name="textAreaRight" fmla="*/ 1961640 w 19810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40196" h="21600">
                <a:moveTo>
                  <a:pt x="0" y="0"/>
                </a:moveTo>
                <a:lnTo>
                  <a:pt x="140196" y="0"/>
                </a:lnTo>
                <a:lnTo>
                  <a:pt x="140196" y="21600"/>
                </a:lnTo>
                <a:lnTo>
                  <a:pt x="0" y="21600"/>
                </a:lnTo>
                <a:close/>
              </a:path>
              <a:path fill="lightenLess" w="140196" h="21600">
                <a:moveTo>
                  <a:pt x="0" y="0"/>
                </a:moveTo>
                <a:lnTo>
                  <a:pt x="140196" y="0"/>
                </a:lnTo>
                <a:lnTo>
                  <a:pt x="138796" y="1400"/>
                </a:lnTo>
                <a:lnTo>
                  <a:pt x="1400" y="1400"/>
                </a:lnTo>
                <a:close/>
              </a:path>
              <a:path fill="darken" w="140196" h="21600">
                <a:moveTo>
                  <a:pt x="140196" y="0"/>
                </a:moveTo>
                <a:lnTo>
                  <a:pt x="140196" y="21600"/>
                </a:lnTo>
                <a:lnTo>
                  <a:pt x="138796" y="20200"/>
                </a:lnTo>
                <a:lnTo>
                  <a:pt x="138796" y="1400"/>
                </a:lnTo>
                <a:close/>
              </a:path>
              <a:path fill="darkenLess" w="140196" h="21600">
                <a:moveTo>
                  <a:pt x="140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8796" y="20200"/>
                </a:lnTo>
                <a:close/>
              </a:path>
              <a:path fill="lighten" w="140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it to T O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057400" y="6629400"/>
            <a:ext cx="510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© Pima Community College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19920" y="2209680"/>
            <a:ext cx="2433600" cy="30052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6243480" y="3124080"/>
            <a:ext cx="2210040" cy="18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0.123xyz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328680" y="1828800"/>
            <a:ext cx="6381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cc99"/>
                </a:solidFill>
                <a:latin typeface="Comic Sans MS"/>
              </a:rPr>
              <a:t>Decimal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cc99"/>
                </a:solidFill>
                <a:latin typeface="Comic Sans MS"/>
              </a:rPr>
              <a:t>Review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838080" y="1523880"/>
            <a:ext cx="7391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0.137z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+ 124z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– 0.0087) - (24z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+ 7.9z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+ 42) 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359000" y="3322800"/>
            <a:ext cx="678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0.137z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+ 124   z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–   0.0087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23760" y="3336840"/>
            <a:ext cx="60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420840" y="3962520"/>
            <a:ext cx="8189640" cy="764280"/>
            <a:chOff x="420840" y="3962520"/>
            <a:chExt cx="8189640" cy="764280"/>
          </a:xfrm>
        </p:grpSpPr>
        <p:sp>
          <p:nvSpPr>
            <p:cNvPr id="264" name=""/>
            <p:cNvSpPr/>
            <p:nvPr/>
          </p:nvSpPr>
          <p:spPr>
            <a:xfrm>
              <a:off x="525240" y="3962520"/>
              <a:ext cx="360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20840" y="4724280"/>
              <a:ext cx="8189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3048120" y="5302080"/>
            <a:ext cx="556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Note: subtra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081080" y="4038480"/>
            <a:ext cx="545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24       z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+    7.9z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+ 4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49880" y="4008600"/>
            <a:ext cx="118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575400" y="4022640"/>
            <a:ext cx="211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0000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743200" y="700200"/>
            <a:ext cx="373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lynomials/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553320" y="5586840"/>
            <a:ext cx="2160000" cy="1018800"/>
            <a:chOff x="553320" y="5586840"/>
            <a:chExt cx="2160000" cy="1018800"/>
          </a:xfrm>
        </p:grpSpPr>
        <p:sp>
          <p:nvSpPr>
            <p:cNvPr id="272" name=""/>
            <p:cNvSpPr/>
            <p:nvPr/>
          </p:nvSpPr>
          <p:spPr>
            <a:xfrm rot="20897400">
              <a:off x="593280" y="5791320"/>
              <a:ext cx="2079720" cy="609480"/>
            </a:xfrm>
            <a:prstGeom prst="roundRect">
              <a:avLst>
                <a:gd name="adj" fmla="val 16667"/>
              </a:avLst>
            </a:prstGeom>
            <a:solidFill>
              <a:srgbClr val="ff5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20897400">
              <a:off x="669960" y="5790960"/>
              <a:ext cx="198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examp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762120" y="1523880"/>
            <a:ext cx="761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o subtract:  Add inver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919080" y="3824280"/>
            <a:ext cx="5943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verse of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24z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+ 7.9z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+ 42) 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579040" y="4951440"/>
            <a:ext cx="1564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-24z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343040" y="5424480"/>
            <a:ext cx="188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- 7.9z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397200" y="5424480"/>
            <a:ext cx="123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- 4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959400" y="2287440"/>
            <a:ext cx="7431840" cy="1444320"/>
            <a:chOff x="959400" y="2287440"/>
            <a:chExt cx="7431840" cy="1444320"/>
          </a:xfrm>
        </p:grpSpPr>
        <p:sp>
          <p:nvSpPr>
            <p:cNvPr id="280" name=""/>
            <p:cNvSpPr/>
            <p:nvPr/>
          </p:nvSpPr>
          <p:spPr>
            <a:xfrm>
              <a:off x="1388520" y="2287440"/>
              <a:ext cx="6910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to get inverse, change all signs!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1" name=""/>
            <p:cNvGrpSpPr/>
            <p:nvPr/>
          </p:nvGrpSpPr>
          <p:grpSpPr>
            <a:xfrm>
              <a:off x="959400" y="2906640"/>
              <a:ext cx="2876760" cy="825120"/>
              <a:chOff x="959400" y="2906640"/>
              <a:chExt cx="2876760" cy="825120"/>
            </a:xfrm>
          </p:grpSpPr>
          <p:sp>
            <p:nvSpPr>
              <p:cNvPr id="282" name=""/>
              <p:cNvSpPr/>
              <p:nvPr/>
            </p:nvSpPr>
            <p:spPr>
              <a:xfrm>
                <a:off x="959400" y="2906640"/>
                <a:ext cx="52956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458880" y="2906640"/>
                <a:ext cx="3772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707840" y="3413160"/>
                <a:ext cx="1562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5516640" y="2906640"/>
              <a:ext cx="2874600" cy="825120"/>
              <a:chOff x="5516640" y="2906640"/>
              <a:chExt cx="2874600" cy="825120"/>
            </a:xfrm>
          </p:grpSpPr>
          <p:sp>
            <p:nvSpPr>
              <p:cNvPr id="286" name=""/>
              <p:cNvSpPr/>
              <p:nvPr/>
            </p:nvSpPr>
            <p:spPr>
              <a:xfrm>
                <a:off x="7861680" y="2906640"/>
                <a:ext cx="52956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516640" y="2906640"/>
                <a:ext cx="3772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215040" y="3413160"/>
                <a:ext cx="1562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9" name=""/>
          <p:cNvSpPr/>
          <p:nvPr/>
        </p:nvSpPr>
        <p:spPr>
          <a:xfrm>
            <a:off x="2743200" y="700200"/>
            <a:ext cx="373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lynomials/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"/>
          <p:cNvGrpSpPr/>
          <p:nvPr/>
        </p:nvGrpSpPr>
        <p:grpSpPr>
          <a:xfrm>
            <a:off x="1187640" y="2438280"/>
            <a:ext cx="7263720" cy="764280"/>
            <a:chOff x="1187640" y="2438280"/>
            <a:chExt cx="7263720" cy="764280"/>
          </a:xfrm>
        </p:grpSpPr>
        <p:sp>
          <p:nvSpPr>
            <p:cNvPr id="291" name=""/>
            <p:cNvSpPr/>
            <p:nvPr/>
          </p:nvSpPr>
          <p:spPr>
            <a:xfrm>
              <a:off x="1187640" y="2438280"/>
              <a:ext cx="7263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0.137z</a:t>
              </a:r>
              <a:r>
                <a:rPr b="0" lang="en-US" sz="4400" spc="-1" strike="noStrike" baseline="30000">
                  <a:solidFill>
                    <a:srgbClr val="000000"/>
                  </a:solidFill>
                  <a:latin typeface="Comic Sans MS"/>
                </a:rPr>
                <a:t>5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 +  124   z</a:t>
              </a:r>
              <a:r>
                <a:rPr b="0" lang="en-US" sz="44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 –  0.0087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517280" y="2438280"/>
              <a:ext cx="939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.0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525240" y="3124080"/>
            <a:ext cx="3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20840" y="3886200"/>
            <a:ext cx="8189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1086480" y="3124080"/>
            <a:ext cx="7523640" cy="764280"/>
            <a:chOff x="1086480" y="3124080"/>
            <a:chExt cx="7523640" cy="764280"/>
          </a:xfrm>
        </p:grpSpPr>
        <p:sp>
          <p:nvSpPr>
            <p:cNvPr id="296" name=""/>
            <p:cNvSpPr/>
            <p:nvPr/>
          </p:nvSpPr>
          <p:spPr>
            <a:xfrm>
              <a:off x="1086480" y="3124080"/>
              <a:ext cx="5607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24       z</a:t>
              </a:r>
              <a:r>
                <a:rPr b="0" lang="en-US" sz="4400" spc="-1" strike="noStrike" baseline="30000">
                  <a:solidFill>
                    <a:srgbClr val="000000"/>
                  </a:solidFill>
                  <a:latin typeface="Comic Sans MS"/>
                </a:rPr>
                <a:t>5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        7.9z</a:t>
              </a:r>
              <a:r>
                <a:rPr b="0" lang="en-US" sz="44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  42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527120" y="3124080"/>
              <a:ext cx="1290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.000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413760" y="3124080"/>
              <a:ext cx="2196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.0000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3261240" y="31240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775840" y="31240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860800" y="4038480"/>
            <a:ext cx="257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- 42.008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093280" y="4038480"/>
            <a:ext cx="628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z</a:t>
            </a:r>
            <a:r>
              <a:rPr b="0" lang="en-US" sz="4400" spc="-1" strike="noStrike" baseline="30000">
                <a:solidFill>
                  <a:srgbClr val="0000ff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790160" y="403848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726080" y="4038480"/>
            <a:ext cx="836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439880" y="403848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180320" y="403848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951720" y="403848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04880" y="403848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03000" y="4038480"/>
            <a:ext cx="255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-23.863z</a:t>
            </a:r>
            <a:r>
              <a:rPr b="0" lang="en-US" sz="4400" spc="-1" strike="noStrike" baseline="30000">
                <a:solidFill>
                  <a:srgbClr val="0000ff"/>
                </a:solidFill>
                <a:latin typeface="Comic Sans MS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743200" y="700200"/>
            <a:ext cx="373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lynomials/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ying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09480" y="236232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. Multiply like integ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09480" y="3184560"/>
            <a:ext cx="7772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. Decimal places in product = sum of decimal places in fact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ying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38080" y="144792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ultip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685800" y="2209680"/>
            <a:ext cx="1828800" cy="1373400"/>
            <a:chOff x="685800" y="2209680"/>
            <a:chExt cx="1828800" cy="1373400"/>
          </a:xfrm>
        </p:grpSpPr>
        <p:sp>
          <p:nvSpPr>
            <p:cNvPr id="317" name=""/>
            <p:cNvSpPr/>
            <p:nvPr/>
          </p:nvSpPr>
          <p:spPr>
            <a:xfrm>
              <a:off x="1295280" y="2209680"/>
              <a:ext cx="1059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5.6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957600" y="2879640"/>
              <a:ext cx="1296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x 3.8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85800" y="3581280"/>
              <a:ext cx="1828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990720" y="3641760"/>
            <a:ext cx="14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44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685800" y="4251240"/>
            <a:ext cx="1828800" cy="703440"/>
            <a:chOff x="685800" y="4251240"/>
            <a:chExt cx="1828800" cy="703440"/>
          </a:xfrm>
        </p:grpSpPr>
        <p:sp>
          <p:nvSpPr>
            <p:cNvPr id="322" name=""/>
            <p:cNvSpPr/>
            <p:nvPr/>
          </p:nvSpPr>
          <p:spPr>
            <a:xfrm>
              <a:off x="685800" y="4251240"/>
              <a:ext cx="144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168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85800" y="4952880"/>
              <a:ext cx="1828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685800" y="5013360"/>
            <a:ext cx="166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21.2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24080" y="1905120"/>
            <a:ext cx="54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. Multiply like integ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048120" y="2819520"/>
            <a:ext cx="4952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. Decimal places i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product  = sum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decimal places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facto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537640" y="5334120"/>
            <a:ext cx="175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88264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17840" y="5334120"/>
            <a:ext cx="18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00 0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ying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905120" y="1447920"/>
            <a:ext cx="533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0.01360 x 0.0064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820320" y="225756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1722600" y="2271600"/>
            <a:ext cx="2849400" cy="1238040"/>
            <a:chOff x="1722600" y="2271600"/>
            <a:chExt cx="2849400" cy="1238040"/>
          </a:xfrm>
        </p:grpSpPr>
        <p:sp>
          <p:nvSpPr>
            <p:cNvPr id="333" name=""/>
            <p:cNvSpPr/>
            <p:nvPr/>
          </p:nvSpPr>
          <p:spPr>
            <a:xfrm>
              <a:off x="2336760" y="2271600"/>
              <a:ext cx="161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0.013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17000" y="2867040"/>
              <a:ext cx="223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x 0.0064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722600" y="3505320"/>
              <a:ext cx="2849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2746800" y="3505320"/>
            <a:ext cx="149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224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748960" y="411480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544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1722600" y="4692600"/>
            <a:ext cx="2849400" cy="642600"/>
            <a:chOff x="1722600" y="4692600"/>
            <a:chExt cx="2849400" cy="642600"/>
          </a:xfrm>
        </p:grpSpPr>
        <p:sp>
          <p:nvSpPr>
            <p:cNvPr id="339" name=""/>
            <p:cNvSpPr/>
            <p:nvPr/>
          </p:nvSpPr>
          <p:spPr>
            <a:xfrm>
              <a:off x="2444760" y="4692600"/>
              <a:ext cx="1563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816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722600" y="5334120"/>
              <a:ext cx="2849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1223280" y="5334120"/>
            <a:ext cx="3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952880" y="2270160"/>
            <a:ext cx="312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5 pla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952880" y="2879640"/>
            <a:ext cx="312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5 pla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4952880" y="3489480"/>
            <a:ext cx="3124440" cy="703440"/>
            <a:chOff x="4952880" y="3489480"/>
            <a:chExt cx="3124440" cy="703440"/>
          </a:xfrm>
        </p:grpSpPr>
        <p:sp>
          <p:nvSpPr>
            <p:cNvPr id="345" name=""/>
            <p:cNvSpPr/>
            <p:nvPr/>
          </p:nvSpPr>
          <p:spPr>
            <a:xfrm>
              <a:off x="4952880" y="3489480"/>
              <a:ext cx="3124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10 place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952880" y="3508200"/>
              <a:ext cx="2438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1050840" y="5334120"/>
            <a:ext cx="3447000" cy="1069200"/>
            <a:chOff x="1050840" y="5334120"/>
            <a:chExt cx="3447000" cy="1069200"/>
          </a:xfrm>
        </p:grpSpPr>
        <p:sp>
          <p:nvSpPr>
            <p:cNvPr id="348" name=""/>
            <p:cNvSpPr/>
            <p:nvPr/>
          </p:nvSpPr>
          <p:spPr>
            <a:xfrm>
              <a:off x="4195080" y="5334120"/>
              <a:ext cx="302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9" name=""/>
            <p:cNvGrpSpPr/>
            <p:nvPr/>
          </p:nvGrpSpPr>
          <p:grpSpPr>
            <a:xfrm>
              <a:off x="1050840" y="5851440"/>
              <a:ext cx="3368880" cy="551880"/>
              <a:chOff x="1050840" y="5851440"/>
              <a:chExt cx="3368880" cy="551880"/>
            </a:xfrm>
          </p:grpSpPr>
          <p:grpSp>
            <p:nvGrpSpPr>
              <p:cNvPr id="350" name=""/>
              <p:cNvGrpSpPr/>
              <p:nvPr/>
            </p:nvGrpSpPr>
            <p:grpSpPr>
              <a:xfrm>
                <a:off x="1363680" y="5851440"/>
                <a:ext cx="3056040" cy="142920"/>
                <a:chOff x="1363680" y="5851440"/>
                <a:chExt cx="3056040" cy="14292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1363680" y="5851440"/>
                  <a:ext cx="412560" cy="142920"/>
                </a:xfrm>
                <a:custGeom>
                  <a:avLst/>
                  <a:gdLst/>
                  <a:ahLst/>
                  <a:rect l="l" t="t" r="r" b="b"/>
                  <a:pathLst>
                    <a:path w="260" h="90">
                      <a:moveTo>
                        <a:pt x="0" y="0"/>
                      </a:moveTo>
                      <a:cubicBezTo>
                        <a:pt x="13" y="43"/>
                        <a:pt x="31" y="59"/>
                        <a:pt x="73" y="74"/>
                      </a:cubicBezTo>
                      <a:cubicBezTo>
                        <a:pt x="260" y="56"/>
                        <a:pt x="141" y="90"/>
                        <a:pt x="220" y="11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1676520" y="5851440"/>
                  <a:ext cx="380880" cy="142920"/>
                </a:xfrm>
                <a:custGeom>
                  <a:avLst/>
                  <a:gdLst/>
                  <a:ahLst/>
                  <a:rect l="l" t="t" r="r" b="b"/>
                  <a:pathLst>
                    <a:path w="260" h="90">
                      <a:moveTo>
                        <a:pt x="0" y="0"/>
                      </a:moveTo>
                      <a:cubicBezTo>
                        <a:pt x="13" y="43"/>
                        <a:pt x="31" y="59"/>
                        <a:pt x="73" y="74"/>
                      </a:cubicBezTo>
                      <a:cubicBezTo>
                        <a:pt x="260" y="56"/>
                        <a:pt x="141" y="90"/>
                        <a:pt x="220" y="11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1981080" y="5851440"/>
                  <a:ext cx="381240" cy="142920"/>
                </a:xfrm>
                <a:custGeom>
                  <a:avLst/>
                  <a:gdLst/>
                  <a:ahLst/>
                  <a:rect l="l" t="t" r="r" b="b"/>
                  <a:pathLst>
                    <a:path w="260" h="90">
                      <a:moveTo>
                        <a:pt x="0" y="0"/>
                      </a:moveTo>
                      <a:cubicBezTo>
                        <a:pt x="13" y="43"/>
                        <a:pt x="31" y="59"/>
                        <a:pt x="73" y="74"/>
                      </a:cubicBezTo>
                      <a:cubicBezTo>
                        <a:pt x="260" y="56"/>
                        <a:pt x="141" y="90"/>
                        <a:pt x="220" y="11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2286000" y="5851440"/>
                  <a:ext cx="380880" cy="142920"/>
                </a:xfrm>
                <a:custGeom>
                  <a:avLst/>
                  <a:gdLst/>
                  <a:ahLst/>
                  <a:rect l="l" t="t" r="r" b="b"/>
                  <a:pathLst>
                    <a:path w="260" h="90">
                      <a:moveTo>
                        <a:pt x="0" y="0"/>
                      </a:moveTo>
                      <a:cubicBezTo>
                        <a:pt x="13" y="43"/>
                        <a:pt x="31" y="59"/>
                        <a:pt x="73" y="74"/>
                      </a:cubicBezTo>
                      <a:cubicBezTo>
                        <a:pt x="260" y="56"/>
                        <a:pt x="141" y="90"/>
                        <a:pt x="220" y="11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2590920" y="5851440"/>
                  <a:ext cx="304560" cy="142920"/>
                </a:xfrm>
                <a:custGeom>
                  <a:avLst/>
                  <a:gdLst/>
                  <a:ahLst/>
                  <a:rect l="l" t="t" r="r" b="b"/>
                  <a:pathLst>
                    <a:path w="260" h="90">
                      <a:moveTo>
                        <a:pt x="0" y="0"/>
                      </a:moveTo>
                      <a:cubicBezTo>
                        <a:pt x="13" y="43"/>
                        <a:pt x="31" y="59"/>
                        <a:pt x="73" y="74"/>
                      </a:cubicBezTo>
                      <a:cubicBezTo>
                        <a:pt x="260" y="56"/>
                        <a:pt x="141" y="90"/>
                        <a:pt x="220" y="11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2819520" y="5851440"/>
                  <a:ext cx="380880" cy="142920"/>
                </a:xfrm>
                <a:custGeom>
                  <a:avLst/>
                  <a:gdLst/>
                  <a:ahLst/>
                  <a:rect l="l" t="t" r="r" b="b"/>
                  <a:pathLst>
                    <a:path w="260" h="90">
                      <a:moveTo>
                        <a:pt x="0" y="0"/>
                      </a:moveTo>
                      <a:cubicBezTo>
                        <a:pt x="13" y="43"/>
                        <a:pt x="31" y="59"/>
                        <a:pt x="73" y="74"/>
                      </a:cubicBezTo>
                      <a:cubicBezTo>
                        <a:pt x="260" y="56"/>
                        <a:pt x="141" y="90"/>
                        <a:pt x="220" y="11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3124080" y="5851440"/>
                  <a:ext cx="381240" cy="142920"/>
                </a:xfrm>
                <a:custGeom>
                  <a:avLst/>
                  <a:gdLst/>
                  <a:ahLst/>
                  <a:rect l="l" t="t" r="r" b="b"/>
                  <a:pathLst>
                    <a:path w="260" h="90">
                      <a:moveTo>
                        <a:pt x="0" y="0"/>
                      </a:moveTo>
                      <a:cubicBezTo>
                        <a:pt x="13" y="43"/>
                        <a:pt x="31" y="59"/>
                        <a:pt x="73" y="74"/>
                      </a:cubicBezTo>
                      <a:cubicBezTo>
                        <a:pt x="260" y="56"/>
                        <a:pt x="141" y="90"/>
                        <a:pt x="220" y="11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3429000" y="5851440"/>
                  <a:ext cx="380880" cy="142920"/>
                </a:xfrm>
                <a:custGeom>
                  <a:avLst/>
                  <a:gdLst/>
                  <a:ahLst/>
                  <a:rect l="l" t="t" r="r" b="b"/>
                  <a:pathLst>
                    <a:path w="260" h="90">
                      <a:moveTo>
                        <a:pt x="0" y="0"/>
                      </a:moveTo>
                      <a:cubicBezTo>
                        <a:pt x="13" y="43"/>
                        <a:pt x="31" y="59"/>
                        <a:pt x="73" y="74"/>
                      </a:cubicBezTo>
                      <a:cubicBezTo>
                        <a:pt x="260" y="56"/>
                        <a:pt x="141" y="90"/>
                        <a:pt x="220" y="11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3733920" y="5851440"/>
                  <a:ext cx="380880" cy="142920"/>
                </a:xfrm>
                <a:custGeom>
                  <a:avLst/>
                  <a:gdLst/>
                  <a:ahLst/>
                  <a:rect l="l" t="t" r="r" b="b"/>
                  <a:pathLst>
                    <a:path w="260" h="90">
                      <a:moveTo>
                        <a:pt x="0" y="0"/>
                      </a:moveTo>
                      <a:cubicBezTo>
                        <a:pt x="13" y="43"/>
                        <a:pt x="31" y="59"/>
                        <a:pt x="73" y="74"/>
                      </a:cubicBezTo>
                      <a:cubicBezTo>
                        <a:pt x="260" y="56"/>
                        <a:pt x="141" y="90"/>
                        <a:pt x="220" y="11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4038480" y="5851440"/>
                  <a:ext cx="381240" cy="142920"/>
                </a:xfrm>
                <a:custGeom>
                  <a:avLst/>
                  <a:gdLst/>
                  <a:ahLst/>
                  <a:rect l="l" t="t" r="r" b="b"/>
                  <a:pathLst>
                    <a:path w="260" h="90">
                      <a:moveTo>
                        <a:pt x="0" y="0"/>
                      </a:moveTo>
                      <a:cubicBezTo>
                        <a:pt x="13" y="43"/>
                        <a:pt x="31" y="59"/>
                        <a:pt x="73" y="74"/>
                      </a:cubicBezTo>
                      <a:cubicBezTo>
                        <a:pt x="260" y="56"/>
                        <a:pt x="141" y="90"/>
                        <a:pt x="220" y="11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1" name=""/>
              <p:cNvSpPr/>
              <p:nvPr/>
            </p:nvSpPr>
            <p:spPr>
              <a:xfrm>
                <a:off x="3946680" y="5943600"/>
                <a:ext cx="24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565440" y="5943600"/>
                <a:ext cx="397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276720" y="5943600"/>
                <a:ext cx="39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971800" y="5943600"/>
                <a:ext cx="39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666880" y="5943600"/>
                <a:ext cx="397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422440" y="5943600"/>
                <a:ext cx="397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117880" y="5943600"/>
                <a:ext cx="39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828800" y="5943600"/>
                <a:ext cx="39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3880" y="5943600"/>
                <a:ext cx="397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050840" y="5943600"/>
                <a:ext cx="54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1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cimals with Ex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819520" y="295596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0.3)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= 0.02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362320" y="4403880"/>
            <a:ext cx="441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3.28)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= 10.758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3352680" y="2362320"/>
            <a:ext cx="3429000" cy="1066680"/>
            <a:chOff x="3352680" y="2362320"/>
            <a:chExt cx="3429000" cy="1066680"/>
          </a:xfrm>
        </p:grpSpPr>
        <p:sp>
          <p:nvSpPr>
            <p:cNvPr id="375" name=""/>
            <p:cNvSpPr/>
            <p:nvPr/>
          </p:nvSpPr>
          <p:spPr>
            <a:xfrm>
              <a:off x="3352680" y="3108240"/>
              <a:ext cx="304920" cy="3207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6" name=""/>
            <p:cNvGrpSpPr/>
            <p:nvPr/>
          </p:nvGrpSpPr>
          <p:grpSpPr>
            <a:xfrm>
              <a:off x="3504960" y="2362320"/>
              <a:ext cx="3276720" cy="745200"/>
              <a:chOff x="3504960" y="2362320"/>
              <a:chExt cx="3276720" cy="745200"/>
            </a:xfrm>
          </p:grpSpPr>
          <p:sp>
            <p:nvSpPr>
              <p:cNvPr id="377" name=""/>
              <p:cNvSpPr/>
              <p:nvPr/>
            </p:nvSpPr>
            <p:spPr>
              <a:xfrm>
                <a:off x="4191120" y="2362320"/>
                <a:ext cx="2590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1 decimal pla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343400" y="2438280"/>
                <a:ext cx="2057400" cy="22860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79" name=""/>
              <p:cNvCxnSpPr>
                <a:stCxn id="378" idx="2"/>
                <a:endCxn id="375" idx="0"/>
              </p:cNvCxnSpPr>
              <p:nvPr/>
            </p:nvCxnSpPr>
            <p:spPr>
              <a:xfrm flipV="1" rot="10800000">
                <a:off x="3504600" y="2551680"/>
                <a:ext cx="838800" cy="556200"/>
              </a:xfrm>
              <a:prstGeom prst="curvedConnector2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380" name=""/>
          <p:cNvGrpSpPr/>
          <p:nvPr/>
        </p:nvGrpSpPr>
        <p:grpSpPr>
          <a:xfrm>
            <a:off x="4495680" y="2941560"/>
            <a:ext cx="4191120" cy="825480"/>
            <a:chOff x="4495680" y="2941560"/>
            <a:chExt cx="4191120" cy="825480"/>
          </a:xfrm>
        </p:grpSpPr>
        <p:grpSp>
          <p:nvGrpSpPr>
            <p:cNvPr id="381" name=""/>
            <p:cNvGrpSpPr/>
            <p:nvPr/>
          </p:nvGrpSpPr>
          <p:grpSpPr>
            <a:xfrm>
              <a:off x="4495680" y="2941560"/>
              <a:ext cx="4191120" cy="825480"/>
              <a:chOff x="4495680" y="2941560"/>
              <a:chExt cx="4191120" cy="825480"/>
            </a:xfrm>
          </p:grpSpPr>
          <p:sp>
            <p:nvSpPr>
              <p:cNvPr id="382" name=""/>
              <p:cNvSpPr/>
              <p:nvPr/>
            </p:nvSpPr>
            <p:spPr>
              <a:xfrm>
                <a:off x="6629400" y="2941560"/>
                <a:ext cx="20574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3 decimal plac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858000" y="3016080"/>
                <a:ext cx="1676520" cy="47340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495680" y="3032280"/>
                <a:ext cx="1676520" cy="47304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85" name=""/>
            <p:cNvCxnSpPr>
              <a:stCxn id="383" idx="2"/>
              <a:endCxn id="384" idx="6"/>
            </p:cNvCxnSpPr>
            <p:nvPr/>
          </p:nvCxnSpPr>
          <p:spPr>
            <a:xfrm flipV="1" rot="10800000">
              <a:off x="6171480" y="3252600"/>
              <a:ext cx="686520" cy="16560"/>
            </a:xfrm>
            <a:prstGeom prst="curvedConnector5">
              <a:avLst>
                <a:gd name="adj1" fmla="val 50000"/>
                <a:gd name="adj2" fmla="val 48888"/>
                <a:gd name="adj3" fmla="val 5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86" name=""/>
          <p:cNvGrpSpPr/>
          <p:nvPr/>
        </p:nvGrpSpPr>
        <p:grpSpPr>
          <a:xfrm>
            <a:off x="2971800" y="3809880"/>
            <a:ext cx="3809880" cy="1067040"/>
            <a:chOff x="2971800" y="3809880"/>
            <a:chExt cx="3809880" cy="1067040"/>
          </a:xfrm>
        </p:grpSpPr>
        <p:sp>
          <p:nvSpPr>
            <p:cNvPr id="387" name=""/>
            <p:cNvSpPr/>
            <p:nvPr/>
          </p:nvSpPr>
          <p:spPr>
            <a:xfrm>
              <a:off x="2971800" y="4556160"/>
              <a:ext cx="304920" cy="3207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191120" y="3809880"/>
              <a:ext cx="25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 decimal plac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267080" y="3870360"/>
              <a:ext cx="1676520" cy="3207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0" name=""/>
            <p:cNvCxnSpPr>
              <a:stCxn id="389" idx="2"/>
              <a:endCxn id="387" idx="0"/>
            </p:cNvCxnSpPr>
            <p:nvPr/>
          </p:nvCxnSpPr>
          <p:spPr>
            <a:xfrm flipV="1" rot="10800000">
              <a:off x="3123360" y="4030200"/>
              <a:ext cx="1143720" cy="52632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91" name=""/>
          <p:cNvGrpSpPr/>
          <p:nvPr/>
        </p:nvGrpSpPr>
        <p:grpSpPr>
          <a:xfrm>
            <a:off x="5029200" y="4343400"/>
            <a:ext cx="3733920" cy="825480"/>
            <a:chOff x="5029200" y="4343400"/>
            <a:chExt cx="3733920" cy="825480"/>
          </a:xfrm>
        </p:grpSpPr>
        <p:sp>
          <p:nvSpPr>
            <p:cNvPr id="392" name=""/>
            <p:cNvSpPr/>
            <p:nvPr/>
          </p:nvSpPr>
          <p:spPr>
            <a:xfrm>
              <a:off x="6705720" y="4343400"/>
              <a:ext cx="2057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4 decimal plac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086600" y="4556160"/>
              <a:ext cx="1066680" cy="3207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29200" y="4572000"/>
              <a:ext cx="1676520" cy="3207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5" name=""/>
            <p:cNvCxnSpPr>
              <a:stCxn id="393" idx="2"/>
              <a:endCxn id="394" idx="6"/>
            </p:cNvCxnSpPr>
            <p:nvPr/>
          </p:nvCxnSpPr>
          <p:spPr>
            <a:xfrm flipV="1" rot="10800000">
              <a:off x="6705000" y="4716000"/>
              <a:ext cx="381600" cy="16560"/>
            </a:xfrm>
            <a:prstGeom prst="curvedConnector5">
              <a:avLst>
                <a:gd name="adj1" fmla="val 49952"/>
                <a:gd name="adj2" fmla="val 48888"/>
                <a:gd name="adj3" fmla="val 4995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5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cientific N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454120" y="1447920"/>
            <a:ext cx="41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iameter of Ear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276720" y="2209680"/>
            <a:ext cx="249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2,756 k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124080" y="2971800"/>
            <a:ext cx="290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 2756 k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4586400" y="2971800"/>
            <a:ext cx="542520" cy="1145520"/>
            <a:chOff x="4586400" y="2971800"/>
            <a:chExt cx="542520" cy="1145520"/>
          </a:xfrm>
        </p:grpSpPr>
        <p:sp>
          <p:nvSpPr>
            <p:cNvPr id="401" name=""/>
            <p:cNvSpPr/>
            <p:nvPr/>
          </p:nvSpPr>
          <p:spPr>
            <a:xfrm>
              <a:off x="4812480" y="2971800"/>
              <a:ext cx="316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586400" y="3504960"/>
              <a:ext cx="380880" cy="142920"/>
            </a:xfrm>
            <a:custGeom>
              <a:avLst/>
              <a:gdLst/>
              <a:ahLst/>
              <a:rect l="l" t="t" r="r" b="b"/>
              <a:pathLst>
                <a:path w="260" h="90">
                  <a:moveTo>
                    <a:pt x="0" y="0"/>
                  </a:moveTo>
                  <a:cubicBezTo>
                    <a:pt x="13" y="43"/>
                    <a:pt x="31" y="59"/>
                    <a:pt x="73" y="74"/>
                  </a:cubicBezTo>
                  <a:cubicBezTo>
                    <a:pt x="260" y="56"/>
                    <a:pt x="141" y="90"/>
                    <a:pt x="220" y="11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646880" y="3657600"/>
              <a:ext cx="24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4265640" y="3505320"/>
            <a:ext cx="396720" cy="612000"/>
            <a:chOff x="4265640" y="3505320"/>
            <a:chExt cx="396720" cy="612000"/>
          </a:xfrm>
        </p:grpSpPr>
        <p:sp>
          <p:nvSpPr>
            <p:cNvPr id="405" name=""/>
            <p:cNvSpPr/>
            <p:nvPr/>
          </p:nvSpPr>
          <p:spPr>
            <a:xfrm>
              <a:off x="4281120" y="3505320"/>
              <a:ext cx="380880" cy="142560"/>
            </a:xfrm>
            <a:custGeom>
              <a:avLst/>
              <a:gdLst/>
              <a:ahLst/>
              <a:rect l="l" t="t" r="r" b="b"/>
              <a:pathLst>
                <a:path w="260" h="90">
                  <a:moveTo>
                    <a:pt x="0" y="0"/>
                  </a:moveTo>
                  <a:cubicBezTo>
                    <a:pt x="13" y="43"/>
                    <a:pt x="31" y="59"/>
                    <a:pt x="73" y="74"/>
                  </a:cubicBezTo>
                  <a:cubicBezTo>
                    <a:pt x="260" y="56"/>
                    <a:pt x="141" y="90"/>
                    <a:pt x="220" y="11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265640" y="3657600"/>
              <a:ext cx="39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3960720" y="3505320"/>
            <a:ext cx="396720" cy="612000"/>
            <a:chOff x="3960720" y="3505320"/>
            <a:chExt cx="396720" cy="612000"/>
          </a:xfrm>
        </p:grpSpPr>
        <p:sp>
          <p:nvSpPr>
            <p:cNvPr id="408" name=""/>
            <p:cNvSpPr/>
            <p:nvPr/>
          </p:nvSpPr>
          <p:spPr>
            <a:xfrm>
              <a:off x="3976560" y="3505320"/>
              <a:ext cx="380880" cy="142560"/>
            </a:xfrm>
            <a:custGeom>
              <a:avLst/>
              <a:gdLst/>
              <a:ahLst/>
              <a:rect l="l" t="t" r="r" b="b"/>
              <a:pathLst>
                <a:path w="260" h="90">
                  <a:moveTo>
                    <a:pt x="0" y="0"/>
                  </a:moveTo>
                  <a:cubicBezTo>
                    <a:pt x="13" y="43"/>
                    <a:pt x="31" y="59"/>
                    <a:pt x="73" y="74"/>
                  </a:cubicBezTo>
                  <a:cubicBezTo>
                    <a:pt x="260" y="56"/>
                    <a:pt x="141" y="90"/>
                    <a:pt x="220" y="11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60720" y="3657600"/>
              <a:ext cx="39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3656160" y="3505320"/>
            <a:ext cx="396720" cy="612000"/>
            <a:chOff x="3656160" y="3505320"/>
            <a:chExt cx="396720" cy="612000"/>
          </a:xfrm>
        </p:grpSpPr>
        <p:sp>
          <p:nvSpPr>
            <p:cNvPr id="411" name=""/>
            <p:cNvSpPr/>
            <p:nvPr/>
          </p:nvSpPr>
          <p:spPr>
            <a:xfrm>
              <a:off x="3672000" y="3505320"/>
              <a:ext cx="380880" cy="142560"/>
            </a:xfrm>
            <a:custGeom>
              <a:avLst/>
              <a:gdLst/>
              <a:ahLst/>
              <a:rect l="l" t="t" r="r" b="b"/>
              <a:pathLst>
                <a:path w="260" h="90">
                  <a:moveTo>
                    <a:pt x="0" y="0"/>
                  </a:moveTo>
                  <a:cubicBezTo>
                    <a:pt x="13" y="43"/>
                    <a:pt x="31" y="59"/>
                    <a:pt x="73" y="74"/>
                  </a:cubicBezTo>
                  <a:cubicBezTo>
                    <a:pt x="260" y="56"/>
                    <a:pt x="141" y="90"/>
                    <a:pt x="220" y="11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656160" y="3657600"/>
              <a:ext cx="39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3426480" y="2955960"/>
            <a:ext cx="31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627640" y="4175280"/>
            <a:ext cx="17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1.275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355280" y="4175280"/>
            <a:ext cx="13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x 10</a:t>
            </a:r>
            <a:r>
              <a:rPr b="0" lang="en-US" sz="4000" spc="-1" strike="noStrike" baseline="30000">
                <a:solidFill>
                  <a:srgbClr val="0000ff"/>
                </a:solidFill>
                <a:latin typeface="Comic Sans MS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587200" y="4175280"/>
            <a:ext cx="92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k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914400" y="499752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ound to the nearest hundred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434960" y="5775480"/>
            <a:ext cx="118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1.2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531160" y="5775480"/>
            <a:ext cx="214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x 10</a:t>
            </a:r>
            <a:r>
              <a:rPr b="0" lang="en-US" sz="4000" spc="-1" strike="noStrike" baseline="30000">
                <a:solidFill>
                  <a:srgbClr val="0000ff"/>
                </a:solidFill>
                <a:latin typeface="Comic Sans MS"/>
              </a:rPr>
              <a:t>4 </a:t>
            </a: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k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780440" y="5775480"/>
            <a:ext cx="294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(12,800 km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0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3581280" y="1828800"/>
                <a:ext cx="160020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|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6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2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viding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419720" y="1295280"/>
            <a:ext cx="38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038480" y="129528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495680" y="129528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3962520" y="2438280"/>
            <a:ext cx="1104840" cy="764280"/>
            <a:chOff x="3962520" y="2438280"/>
            <a:chExt cx="1104840" cy="764280"/>
          </a:xfrm>
        </p:grpSpPr>
        <p:sp>
          <p:nvSpPr>
            <p:cNvPr id="427" name=""/>
            <p:cNvSpPr/>
            <p:nvPr/>
          </p:nvSpPr>
          <p:spPr>
            <a:xfrm>
              <a:off x="4038480" y="2438280"/>
              <a:ext cx="685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962520" y="3124080"/>
              <a:ext cx="1104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4495680" y="304812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4495680" y="3581280"/>
            <a:ext cx="685800" cy="764280"/>
            <a:chOff x="4495680" y="3581280"/>
            <a:chExt cx="685800" cy="764280"/>
          </a:xfrm>
        </p:grpSpPr>
        <p:sp>
          <p:nvSpPr>
            <p:cNvPr id="431" name=""/>
            <p:cNvSpPr/>
            <p:nvPr/>
          </p:nvSpPr>
          <p:spPr>
            <a:xfrm>
              <a:off x="4495680" y="3581280"/>
              <a:ext cx="68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495680" y="4267080"/>
              <a:ext cx="648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495680" y="4343040"/>
              <a:ext cx="648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1447920" y="4419720"/>
            <a:ext cx="62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Just like regular division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85800" y="5105520"/>
            <a:ext cx="7924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ut decimal point directly above decimal point in dividen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viding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636160" y="1295280"/>
            <a:ext cx="31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5105520" y="4784760"/>
            <a:ext cx="1218960" cy="703440"/>
            <a:chOff x="5105520" y="4784760"/>
            <a:chExt cx="1218960" cy="703440"/>
          </a:xfrm>
        </p:grpSpPr>
        <p:sp>
          <p:nvSpPr>
            <p:cNvPr id="439" name=""/>
            <p:cNvSpPr/>
            <p:nvPr/>
          </p:nvSpPr>
          <p:spPr>
            <a:xfrm>
              <a:off x="5390640" y="4784760"/>
              <a:ext cx="75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54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105520" y="5394240"/>
              <a:ext cx="1218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1" name=""/>
          <p:cNvSpPr/>
          <p:nvPr/>
        </p:nvSpPr>
        <p:spPr>
          <a:xfrm>
            <a:off x="5725080" y="539424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690160" y="425124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4267080" y="1752480"/>
                <a:ext cx="297180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|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411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4" name=""/>
          <p:cNvSpPr/>
          <p:nvPr/>
        </p:nvSpPr>
        <p:spPr>
          <a:xfrm>
            <a:off x="4964760" y="12952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4533840" y="2422440"/>
            <a:ext cx="1790640" cy="703440"/>
            <a:chOff x="4533840" y="2422440"/>
            <a:chExt cx="1790640" cy="703440"/>
          </a:xfrm>
        </p:grpSpPr>
        <p:sp>
          <p:nvSpPr>
            <p:cNvPr id="446" name=""/>
            <p:cNvSpPr/>
            <p:nvPr/>
          </p:nvSpPr>
          <p:spPr>
            <a:xfrm>
              <a:off x="4780800" y="2422440"/>
              <a:ext cx="75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36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533840" y="3040200"/>
              <a:ext cx="1790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5080680" y="30322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309280" y="12952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349960" y="30322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4533840" y="3641760"/>
            <a:ext cx="1790640" cy="703440"/>
            <a:chOff x="4533840" y="3641760"/>
            <a:chExt cx="1790640" cy="703440"/>
          </a:xfrm>
        </p:grpSpPr>
        <p:sp>
          <p:nvSpPr>
            <p:cNvPr id="452" name=""/>
            <p:cNvSpPr/>
            <p:nvPr/>
          </p:nvSpPr>
          <p:spPr>
            <a:xfrm>
              <a:off x="5050800" y="3641760"/>
              <a:ext cx="75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45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533840" y="4267080"/>
              <a:ext cx="1790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"/>
          <p:cNvSpPr/>
          <p:nvPr/>
        </p:nvSpPr>
        <p:spPr>
          <a:xfrm>
            <a:off x="5345640" y="425124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802840" y="12952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071040" y="539424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771520" y="592776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5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107760" y="12952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403680" y="1295280"/>
            <a:ext cx="145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666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09480" y="304812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411 ÷ 9 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1924560" y="4844880"/>
            <a:ext cx="1845000" cy="1099440"/>
            <a:chOff x="1924560" y="4844880"/>
            <a:chExt cx="1845000" cy="1099440"/>
          </a:xfrm>
        </p:grpSpPr>
        <p:sp>
          <p:nvSpPr>
            <p:cNvPr id="462" name=""/>
            <p:cNvSpPr/>
            <p:nvPr/>
          </p:nvSpPr>
          <p:spPr>
            <a:xfrm>
              <a:off x="1924560" y="4844880"/>
              <a:ext cx="18450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Comic Sans MS"/>
                </a:rPr>
                <a:t>45.6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200400" y="4876920"/>
              <a:ext cx="5335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9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5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0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533520" y="2895480"/>
            <a:ext cx="2361960" cy="2971800"/>
            <a:chOff x="533520" y="2895480"/>
            <a:chExt cx="2361960" cy="2971800"/>
          </a:xfrm>
        </p:grpSpPr>
        <p:sp>
          <p:nvSpPr>
            <p:cNvPr id="45" name=""/>
            <p:cNvSpPr/>
            <p:nvPr/>
          </p:nvSpPr>
          <p:spPr>
            <a:xfrm>
              <a:off x="533520" y="2895480"/>
              <a:ext cx="236196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42160" y="2907720"/>
              <a:ext cx="234432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201320" y="2932560"/>
              <a:ext cx="12384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34160" y="2945160"/>
              <a:ext cx="7056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227960" y="2970000"/>
              <a:ext cx="529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13720" y="2988720"/>
              <a:ext cx="7056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93280" y="3013560"/>
              <a:ext cx="6192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559520" y="3025800"/>
              <a:ext cx="795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30440" y="3032280"/>
              <a:ext cx="7488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9000" y="3069360"/>
              <a:ext cx="572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130400" y="3088080"/>
              <a:ext cx="91116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73160" y="3094200"/>
              <a:ext cx="11916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95120" y="3094200"/>
              <a:ext cx="12816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04120" y="3094200"/>
              <a:ext cx="15480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94240" y="3106800"/>
              <a:ext cx="6192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869480" y="3125520"/>
              <a:ext cx="4392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2400" y="3137760"/>
              <a:ext cx="4392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984320" y="3156480"/>
              <a:ext cx="3096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028600" y="3169080"/>
              <a:ext cx="3960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96080" y="3312000"/>
              <a:ext cx="23868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43760" y="3367800"/>
              <a:ext cx="1987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409400" y="3399120"/>
              <a:ext cx="18576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479960" y="3411360"/>
              <a:ext cx="9288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661400" y="3442320"/>
              <a:ext cx="16344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524240" y="3454920"/>
              <a:ext cx="2196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92360" y="3479760"/>
              <a:ext cx="7056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23320" y="3510720"/>
              <a:ext cx="2196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67560" y="3784320"/>
              <a:ext cx="6192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254240" y="3827880"/>
              <a:ext cx="55296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29560" y="3927600"/>
              <a:ext cx="3668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077480" y="3964680"/>
              <a:ext cx="129168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47440" y="4045680"/>
              <a:ext cx="18108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033200" y="4089240"/>
              <a:ext cx="262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068480" y="4101480"/>
              <a:ext cx="3096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081800" y="4101480"/>
              <a:ext cx="132696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78400" y="4194720"/>
              <a:ext cx="34488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69400" y="4250880"/>
              <a:ext cx="1105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130480" y="4257000"/>
              <a:ext cx="7956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96720" y="4269600"/>
              <a:ext cx="12816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019600" y="4287960"/>
              <a:ext cx="10584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183680" y="4319280"/>
              <a:ext cx="88452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72200" y="4356360"/>
              <a:ext cx="795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29800" y="4375080"/>
              <a:ext cx="3960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971000" y="4381560"/>
              <a:ext cx="3528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64120" y="4393800"/>
              <a:ext cx="24300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059840" y="4399920"/>
              <a:ext cx="8935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74080" y="4437360"/>
              <a:ext cx="2196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0760" y="4654800"/>
              <a:ext cx="15480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32240" y="4654800"/>
              <a:ext cx="3960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015560" y="4661280"/>
              <a:ext cx="4860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88920" y="4679640"/>
              <a:ext cx="4860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953640" y="4698360"/>
              <a:ext cx="4860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719000" y="4860000"/>
              <a:ext cx="28296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798560" y="4884840"/>
              <a:ext cx="4392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811880" y="4922280"/>
              <a:ext cx="306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842840" y="4965840"/>
              <a:ext cx="1296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099440" y="5140080"/>
              <a:ext cx="33156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895480" y="2530440"/>
            <a:ext cx="5562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ve reviewed the most important topics regarding the mathematics of decimal num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700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47800" y="1447920"/>
            <a:ext cx="761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When you finish this unit, you will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cimals - Fr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429000" y="152388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4 =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429000" y="548640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¾ =</a:t>
            </a:r>
            <a:r>
              <a:rPr b="0" lang="en-US" sz="40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0.7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90960" y="2911320"/>
            <a:ext cx="14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3228840" y="2911320"/>
            <a:ext cx="2181240" cy="703440"/>
            <a:chOff x="3228840" y="2911320"/>
            <a:chExt cx="2181240" cy="703440"/>
          </a:xfrm>
        </p:grpSpPr>
        <p:sp>
          <p:nvSpPr>
            <p:cNvPr id="469" name=""/>
            <p:cNvSpPr/>
            <p:nvPr/>
          </p:nvSpPr>
          <p:spPr>
            <a:xfrm>
              <a:off x="3228840" y="2911320"/>
              <a:ext cx="107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4)3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616200" y="2979720"/>
              <a:ext cx="1793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1" name=""/>
          <p:cNvSpPr/>
          <p:nvPr/>
        </p:nvSpPr>
        <p:spPr>
          <a:xfrm>
            <a:off x="4114800" y="23623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664800" y="2362320"/>
            <a:ext cx="60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0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3708360" y="3421080"/>
            <a:ext cx="939960" cy="703440"/>
            <a:chOff x="3708360" y="3421080"/>
            <a:chExt cx="939960" cy="703440"/>
          </a:xfrm>
        </p:grpSpPr>
        <p:sp>
          <p:nvSpPr>
            <p:cNvPr id="474" name=""/>
            <p:cNvSpPr/>
            <p:nvPr/>
          </p:nvSpPr>
          <p:spPr>
            <a:xfrm>
              <a:off x="3708360" y="3421080"/>
              <a:ext cx="93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28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708360" y="4038840"/>
              <a:ext cx="939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4114800" y="394668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431240" y="236232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3962520" y="4419720"/>
            <a:ext cx="1143000" cy="703440"/>
            <a:chOff x="3962520" y="4419720"/>
            <a:chExt cx="1143000" cy="703440"/>
          </a:xfrm>
        </p:grpSpPr>
        <p:sp>
          <p:nvSpPr>
            <p:cNvPr id="479" name=""/>
            <p:cNvSpPr/>
            <p:nvPr/>
          </p:nvSpPr>
          <p:spPr>
            <a:xfrm>
              <a:off x="4114800" y="4419720"/>
              <a:ext cx="990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20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962520" y="5037120"/>
              <a:ext cx="939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962520" y="5121360"/>
              <a:ext cx="939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6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cimals - Fr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133720" y="1836720"/>
            <a:ext cx="297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Fra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5316480" y="1447920"/>
            <a:ext cx="555480" cy="1604160"/>
            <a:chOff x="5316480" y="1447920"/>
            <a:chExt cx="555480" cy="1604160"/>
          </a:xfrm>
        </p:grpSpPr>
        <p:sp>
          <p:nvSpPr>
            <p:cNvPr id="485" name=""/>
            <p:cNvSpPr/>
            <p:nvPr/>
          </p:nvSpPr>
          <p:spPr>
            <a:xfrm>
              <a:off x="5332320" y="1447920"/>
              <a:ext cx="522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316480" y="2226960"/>
              <a:ext cx="555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321160" y="222696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1676520" y="3657600"/>
            <a:ext cx="579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ecimal Equivale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2743200" y="4876920"/>
            <a:ext cx="3570120" cy="825120"/>
            <a:chOff x="2743200" y="4876920"/>
            <a:chExt cx="3570120" cy="825120"/>
          </a:xfrm>
        </p:grpSpPr>
        <p:sp>
          <p:nvSpPr>
            <p:cNvPr id="490" name=""/>
            <p:cNvSpPr/>
            <p:nvPr/>
          </p:nvSpPr>
          <p:spPr>
            <a:xfrm>
              <a:off x="2743200" y="4876920"/>
              <a:ext cx="3570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b)a.0000…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265560" y="4952880"/>
              <a:ext cx="251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0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5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viding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850120" y="1447920"/>
            <a:ext cx="343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76.42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0.03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2039760" y="2516040"/>
            <a:ext cx="4202280" cy="703440"/>
            <a:chOff x="2039760" y="2516040"/>
            <a:chExt cx="4202280" cy="703440"/>
          </a:xfrm>
        </p:grpSpPr>
        <p:sp>
          <p:nvSpPr>
            <p:cNvPr id="495" name=""/>
            <p:cNvSpPr/>
            <p:nvPr/>
          </p:nvSpPr>
          <p:spPr>
            <a:xfrm>
              <a:off x="2039760" y="2516040"/>
              <a:ext cx="3810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0.0 3 7 )76.4 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021200" y="2595600"/>
              <a:ext cx="2220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7" name=""/>
          <p:cNvSpPr/>
          <p:nvPr/>
        </p:nvSpPr>
        <p:spPr>
          <a:xfrm>
            <a:off x="5672520" y="251604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010920" y="1981080"/>
            <a:ext cx="31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1834560" y="2514600"/>
            <a:ext cx="3575520" cy="1758960"/>
            <a:chOff x="1834560" y="2514600"/>
            <a:chExt cx="3575520" cy="1758960"/>
          </a:xfrm>
        </p:grpSpPr>
        <p:grpSp>
          <p:nvGrpSpPr>
            <p:cNvPr id="500" name=""/>
            <p:cNvGrpSpPr/>
            <p:nvPr/>
          </p:nvGrpSpPr>
          <p:grpSpPr>
            <a:xfrm>
              <a:off x="1834560" y="2514600"/>
              <a:ext cx="1289520" cy="1330200"/>
              <a:chOff x="1834560" y="2514600"/>
              <a:chExt cx="1289520" cy="1330200"/>
            </a:xfrm>
          </p:grpSpPr>
          <p:sp>
            <p:nvSpPr>
              <p:cNvPr id="501" name=""/>
              <p:cNvSpPr/>
              <p:nvPr/>
            </p:nvSpPr>
            <p:spPr>
              <a:xfrm>
                <a:off x="2799360" y="2514600"/>
                <a:ext cx="316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.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834560" y="3324240"/>
                <a:ext cx="866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x 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1905120" y="3352680"/>
                <a:ext cx="725400" cy="42876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830680" y="2743200"/>
                <a:ext cx="293400" cy="32076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505" name=""/>
              <p:cNvCxnSpPr>
                <a:stCxn id="503" idx="6"/>
                <a:endCxn id="504" idx="4"/>
              </p:cNvCxnSpPr>
              <p:nvPr/>
            </p:nvCxnSpPr>
            <p:spPr>
              <a:xfrm flipV="1">
                <a:off x="2630520" y="3063600"/>
                <a:ext cx="348480" cy="504000"/>
              </a:xfrm>
              <a:prstGeom prst="curvedConnector2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506" name=""/>
            <p:cNvGrpSpPr/>
            <p:nvPr/>
          </p:nvGrpSpPr>
          <p:grpSpPr>
            <a:xfrm>
              <a:off x="4483800" y="2743200"/>
              <a:ext cx="926280" cy="1530360"/>
              <a:chOff x="4483800" y="2743200"/>
              <a:chExt cx="926280" cy="1530360"/>
            </a:xfrm>
          </p:grpSpPr>
          <p:sp>
            <p:nvSpPr>
              <p:cNvPr id="507" name=""/>
              <p:cNvSpPr/>
              <p:nvPr/>
            </p:nvSpPr>
            <p:spPr>
              <a:xfrm>
                <a:off x="4483800" y="3753000"/>
                <a:ext cx="866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x 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532400" y="3809880"/>
                <a:ext cx="725400" cy="42876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5116680" y="2743200"/>
                <a:ext cx="293400" cy="32076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510" name=""/>
              <p:cNvCxnSpPr>
                <a:stCxn id="508" idx="0"/>
                <a:endCxn id="509" idx="4"/>
              </p:cNvCxnSpPr>
              <p:nvPr/>
            </p:nvCxnSpPr>
            <p:spPr>
              <a:xfrm flipH="1" flipV="1" rot="5400000">
                <a:off x="4706640" y="3252240"/>
                <a:ext cx="746640" cy="369000"/>
              </a:xfrm>
              <a:prstGeom prst="curvedConnector5">
                <a:avLst>
                  <a:gd name="adj1" fmla="val 49975"/>
                  <a:gd name="adj2" fmla="val 50000"/>
                  <a:gd name="adj3" fmla="val 49975"/>
                </a:avLst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511" name=""/>
          <p:cNvGrpSpPr/>
          <p:nvPr/>
        </p:nvGrpSpPr>
        <p:grpSpPr>
          <a:xfrm>
            <a:off x="2433960" y="2514600"/>
            <a:ext cx="3829680" cy="1758960"/>
            <a:chOff x="2433960" y="2514600"/>
            <a:chExt cx="3829680" cy="1758960"/>
          </a:xfrm>
        </p:grpSpPr>
        <p:grpSp>
          <p:nvGrpSpPr>
            <p:cNvPr id="512" name=""/>
            <p:cNvGrpSpPr/>
            <p:nvPr/>
          </p:nvGrpSpPr>
          <p:grpSpPr>
            <a:xfrm>
              <a:off x="2433960" y="2514600"/>
              <a:ext cx="1212480" cy="1758960"/>
              <a:chOff x="2433960" y="2514600"/>
              <a:chExt cx="1212480" cy="1758960"/>
            </a:xfrm>
          </p:grpSpPr>
          <p:sp>
            <p:nvSpPr>
              <p:cNvPr id="513" name=""/>
              <p:cNvSpPr/>
              <p:nvPr/>
            </p:nvSpPr>
            <p:spPr>
              <a:xfrm>
                <a:off x="3250440" y="2514600"/>
                <a:ext cx="316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.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2433960" y="3753000"/>
                <a:ext cx="1069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x 1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2627280" y="3762360"/>
                <a:ext cx="725400" cy="42876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3352680" y="2743200"/>
                <a:ext cx="293760" cy="32076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517" name=""/>
              <p:cNvCxnSpPr>
                <a:stCxn id="515" idx="0"/>
                <a:endCxn id="516" idx="3"/>
              </p:cNvCxnSpPr>
              <p:nvPr/>
            </p:nvCxnSpPr>
            <p:spPr>
              <a:xfrm flipH="1" flipV="1" rot="5400000">
                <a:off x="2819880" y="3186360"/>
                <a:ext cx="747000" cy="405360"/>
              </a:xfrm>
              <a:prstGeom prst="curvedConnector5">
                <a:avLst>
                  <a:gd name="adj1" fmla="val 46769"/>
                  <a:gd name="adj2" fmla="val 49955"/>
                  <a:gd name="adj3" fmla="val 46769"/>
                </a:avLst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518" name=""/>
            <p:cNvGrpSpPr/>
            <p:nvPr/>
          </p:nvGrpSpPr>
          <p:grpSpPr>
            <a:xfrm>
              <a:off x="5194440" y="2743200"/>
              <a:ext cx="1069200" cy="1100160"/>
              <a:chOff x="5194440" y="2743200"/>
              <a:chExt cx="1069200" cy="1100160"/>
            </a:xfrm>
          </p:grpSpPr>
          <p:sp>
            <p:nvSpPr>
              <p:cNvPr id="519" name=""/>
              <p:cNvSpPr/>
              <p:nvPr/>
            </p:nvSpPr>
            <p:spPr>
              <a:xfrm>
                <a:off x="5194440" y="3322800"/>
                <a:ext cx="1069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x 1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294160" y="3381480"/>
                <a:ext cx="725760" cy="42840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497560" y="2743200"/>
                <a:ext cx="293760" cy="32076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522" name=""/>
              <p:cNvCxnSpPr>
                <a:stCxn id="520" idx="0"/>
                <a:endCxn id="521" idx="4"/>
              </p:cNvCxnSpPr>
              <p:nvPr/>
            </p:nvCxnSpPr>
            <p:spPr>
              <a:xfrm flipV="1" rot="16200000">
                <a:off x="5492160" y="3216240"/>
                <a:ext cx="317880" cy="13320"/>
              </a:xfrm>
              <a:prstGeom prst="curvedConnector5">
                <a:avLst>
                  <a:gd name="adj1" fmla="val 50000"/>
                  <a:gd name="adj2" fmla="val 50000"/>
                  <a:gd name="adj3" fmla="val 50000"/>
                </a:avLst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523" name=""/>
          <p:cNvGrpSpPr/>
          <p:nvPr/>
        </p:nvGrpSpPr>
        <p:grpSpPr>
          <a:xfrm>
            <a:off x="3220920" y="2514600"/>
            <a:ext cx="3997440" cy="1758960"/>
            <a:chOff x="3220920" y="2514600"/>
            <a:chExt cx="3997440" cy="1758960"/>
          </a:xfrm>
        </p:grpSpPr>
        <p:grpSp>
          <p:nvGrpSpPr>
            <p:cNvPr id="524" name=""/>
            <p:cNvGrpSpPr/>
            <p:nvPr/>
          </p:nvGrpSpPr>
          <p:grpSpPr>
            <a:xfrm>
              <a:off x="3220920" y="2514600"/>
              <a:ext cx="1271880" cy="1373040"/>
              <a:chOff x="3220920" y="2514600"/>
              <a:chExt cx="1271880" cy="1373040"/>
            </a:xfrm>
          </p:grpSpPr>
          <p:sp>
            <p:nvSpPr>
              <p:cNvPr id="525" name=""/>
              <p:cNvSpPr/>
              <p:nvPr/>
            </p:nvSpPr>
            <p:spPr>
              <a:xfrm>
                <a:off x="3631320" y="2514600"/>
                <a:ext cx="316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.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3220920" y="3367080"/>
                <a:ext cx="1271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x 1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3429000" y="3457440"/>
                <a:ext cx="725400" cy="42876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3745080" y="2743200"/>
                <a:ext cx="293400" cy="32076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529" name=""/>
              <p:cNvCxnSpPr>
                <a:stCxn id="527" idx="0"/>
                <a:endCxn id="528" idx="3"/>
              </p:cNvCxnSpPr>
              <p:nvPr/>
            </p:nvCxnSpPr>
            <p:spPr>
              <a:xfrm flipV="1" rot="16200000">
                <a:off x="3569040" y="3233880"/>
                <a:ext cx="442080" cy="5400"/>
              </a:xfrm>
              <a:prstGeom prst="curvedConnector5">
                <a:avLst>
                  <a:gd name="adj1" fmla="val 44580"/>
                  <a:gd name="adj2" fmla="val 50000"/>
                  <a:gd name="adj3" fmla="val 44580"/>
                </a:avLst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530" name=""/>
            <p:cNvGrpSpPr/>
            <p:nvPr/>
          </p:nvGrpSpPr>
          <p:grpSpPr>
            <a:xfrm>
              <a:off x="5791320" y="2803680"/>
              <a:ext cx="1427040" cy="1469880"/>
              <a:chOff x="5791320" y="2803680"/>
              <a:chExt cx="1427040" cy="1469880"/>
            </a:xfrm>
          </p:grpSpPr>
          <p:sp>
            <p:nvSpPr>
              <p:cNvPr id="531" name=""/>
              <p:cNvSpPr/>
              <p:nvPr/>
            </p:nvSpPr>
            <p:spPr>
              <a:xfrm>
                <a:off x="5946480" y="3753000"/>
                <a:ext cx="1271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x 1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6324480" y="3762360"/>
                <a:ext cx="725760" cy="42876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791320" y="2803680"/>
                <a:ext cx="293400" cy="32040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534" name=""/>
              <p:cNvCxnSpPr>
                <a:stCxn id="532" idx="0"/>
                <a:endCxn id="533" idx="6"/>
              </p:cNvCxnSpPr>
              <p:nvPr/>
            </p:nvCxnSpPr>
            <p:spPr>
              <a:xfrm flipV="1" rot="16200000">
                <a:off x="5987160" y="3061080"/>
                <a:ext cx="799200" cy="603720"/>
              </a:xfrm>
              <a:prstGeom prst="curvedConnector2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535" name=""/>
          <p:cNvGrpSpPr/>
          <p:nvPr/>
        </p:nvGrpSpPr>
        <p:grpSpPr>
          <a:xfrm>
            <a:off x="2743200" y="5097600"/>
            <a:ext cx="3641760" cy="703440"/>
            <a:chOff x="2743200" y="5097600"/>
            <a:chExt cx="3641760" cy="703440"/>
          </a:xfrm>
        </p:grpSpPr>
        <p:sp>
          <p:nvSpPr>
            <p:cNvPr id="536" name=""/>
            <p:cNvSpPr/>
            <p:nvPr/>
          </p:nvSpPr>
          <p:spPr>
            <a:xfrm>
              <a:off x="2743200" y="5097600"/>
              <a:ext cx="2649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37)76420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505320" y="5168880"/>
              <a:ext cx="2879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5172480" y="5097600"/>
            <a:ext cx="118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953520" y="4556160"/>
            <a:ext cx="23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2065.40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36" dur="indefinite" restart="never" nodeType="tmRoot">
          <p:childTnLst>
            <p:seq>
              <p:cTn id="837" dur="indefinite" nodeType="mainSeq">
                <p:childTnLst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2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2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8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4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9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4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9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quare Ro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676520" y="1447920"/>
            <a:ext cx="571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Irrational Numb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533520" y="2467080"/>
            <a:ext cx="8153280" cy="1649520"/>
            <a:chOff x="533520" y="2467080"/>
            <a:chExt cx="8153280" cy="1649520"/>
          </a:xfrm>
        </p:grpSpPr>
        <p:sp>
          <p:nvSpPr>
            <p:cNvPr id="543" name=""/>
            <p:cNvSpPr/>
            <p:nvPr/>
          </p:nvSpPr>
          <p:spPr>
            <a:xfrm>
              <a:off x="533520" y="2803680"/>
              <a:ext cx="81532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Can’t be written in the form    , where a &amp; b are integers (b </a:t>
              </a:r>
              <a:r>
                <a:rPr b="0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 0)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4" name=""/>
            <p:cNvGrpSpPr/>
            <p:nvPr/>
          </p:nvGrpSpPr>
          <p:grpSpPr>
            <a:xfrm>
              <a:off x="7387920" y="2467080"/>
              <a:ext cx="536760" cy="1207800"/>
              <a:chOff x="7387920" y="2467080"/>
              <a:chExt cx="536760" cy="1207800"/>
            </a:xfrm>
          </p:grpSpPr>
          <p:sp>
            <p:nvSpPr>
              <p:cNvPr id="545" name=""/>
              <p:cNvSpPr/>
              <p:nvPr/>
            </p:nvSpPr>
            <p:spPr>
              <a:xfrm>
                <a:off x="7400520" y="2467080"/>
                <a:ext cx="436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7387920" y="3032280"/>
                <a:ext cx="462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391520" y="3049560"/>
                <a:ext cx="53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8" name=""/>
          <p:cNvSpPr/>
          <p:nvPr/>
        </p:nvSpPr>
        <p:spPr>
          <a:xfrm>
            <a:off x="1981080" y="4784760"/>
            <a:ext cx="5181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√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10 is irration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24382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quare Ro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514600" y="1447920"/>
            <a:ext cx="556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Use a calculat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724280" y="2895480"/>
            <a:ext cx="4191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nter number, press          ke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248520" y="3581280"/>
            <a:ext cx="1143000" cy="82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0" y="2327400"/>
            <a:ext cx="5467320" cy="375732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1752480" y="3794040"/>
            <a:ext cx="457200" cy="47304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quare Ro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438280" y="3809880"/>
            <a:ext cx="2667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.01 • 3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3253680" y="1447920"/>
            <a:ext cx="2635920" cy="825120"/>
            <a:chOff x="3253680" y="1447920"/>
            <a:chExt cx="2635920" cy="825120"/>
          </a:xfrm>
        </p:grpSpPr>
        <p:sp>
          <p:nvSpPr>
            <p:cNvPr id="558" name=""/>
            <p:cNvSpPr/>
            <p:nvPr/>
          </p:nvSpPr>
          <p:spPr>
            <a:xfrm>
              <a:off x="3253680" y="1447920"/>
              <a:ext cx="26359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√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.0009 =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628800" y="1600200"/>
              <a:ext cx="16765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0" name=""/>
          <p:cNvGrpSpPr/>
          <p:nvPr/>
        </p:nvGrpSpPr>
        <p:grpSpPr>
          <a:xfrm>
            <a:off x="762120" y="2590920"/>
            <a:ext cx="3352680" cy="825120"/>
            <a:chOff x="762120" y="2590920"/>
            <a:chExt cx="3352680" cy="825120"/>
          </a:xfrm>
        </p:grpSpPr>
        <p:sp>
          <p:nvSpPr>
            <p:cNvPr id="561" name=""/>
            <p:cNvSpPr/>
            <p:nvPr/>
          </p:nvSpPr>
          <p:spPr>
            <a:xfrm>
              <a:off x="762120" y="2590920"/>
              <a:ext cx="3352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√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.0001•9 =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219320" y="2743200"/>
              <a:ext cx="2438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4343400" y="2604960"/>
            <a:ext cx="3962160" cy="825120"/>
            <a:chOff x="4343400" y="2604960"/>
            <a:chExt cx="3962160" cy="825120"/>
          </a:xfrm>
        </p:grpSpPr>
        <p:sp>
          <p:nvSpPr>
            <p:cNvPr id="564" name=""/>
            <p:cNvSpPr/>
            <p:nvPr/>
          </p:nvSpPr>
          <p:spPr>
            <a:xfrm>
              <a:off x="4343400" y="2604960"/>
              <a:ext cx="39621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√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.0001 • √9 =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800600" y="2757600"/>
              <a:ext cx="1600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6" name=""/>
          <p:cNvSpPr/>
          <p:nvPr/>
        </p:nvSpPr>
        <p:spPr>
          <a:xfrm>
            <a:off x="5295960" y="380988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.0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33520" y="5013360"/>
            <a:ext cx="8076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quare root has ½ the number of decimal places if not irrationa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86" dur="indefinite" restart="never" nodeType="tmRoot">
          <p:childTnLst>
            <p:seq>
              <p:cTn id="887" dur="indefinite" nodeType="mainSeq">
                <p:childTnLst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7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13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quare Ro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3414240" y="1447920"/>
            <a:ext cx="2287080" cy="825120"/>
            <a:chOff x="3414240" y="1447920"/>
            <a:chExt cx="2287080" cy="825120"/>
          </a:xfrm>
        </p:grpSpPr>
        <p:sp>
          <p:nvSpPr>
            <p:cNvPr id="570" name=""/>
            <p:cNvSpPr/>
            <p:nvPr/>
          </p:nvSpPr>
          <p:spPr>
            <a:xfrm>
              <a:off x="3414240" y="1447920"/>
              <a:ext cx="2287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√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.009 =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00520" y="1600200"/>
              <a:ext cx="16765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2" name=""/>
          <p:cNvSpPr/>
          <p:nvPr/>
        </p:nvSpPr>
        <p:spPr>
          <a:xfrm>
            <a:off x="2590920" y="405288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.03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1219320" y="2971800"/>
            <a:ext cx="6781680" cy="825120"/>
            <a:chOff x="1219320" y="2971800"/>
            <a:chExt cx="6781680" cy="825120"/>
          </a:xfrm>
        </p:grpSpPr>
        <p:sp>
          <p:nvSpPr>
            <p:cNvPr id="574" name=""/>
            <p:cNvSpPr/>
            <p:nvPr/>
          </p:nvSpPr>
          <p:spPr>
            <a:xfrm>
              <a:off x="1219320" y="2971800"/>
              <a:ext cx="6781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√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.001•9 = √.001 • √9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057400" y="3124080"/>
              <a:ext cx="1828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876920" y="3124080"/>
              <a:ext cx="1371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"/>
          <p:cNvSpPr/>
          <p:nvPr/>
        </p:nvSpPr>
        <p:spPr>
          <a:xfrm>
            <a:off x="4114800" y="405288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181480" y="4052880"/>
            <a:ext cx="198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48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.09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4648320" y="2270160"/>
            <a:ext cx="3429000" cy="1311120"/>
            <a:chOff x="4648320" y="2270160"/>
            <a:chExt cx="3429000" cy="1311120"/>
          </a:xfrm>
        </p:grpSpPr>
        <p:sp>
          <p:nvSpPr>
            <p:cNvPr id="580" name=""/>
            <p:cNvSpPr/>
            <p:nvPr/>
          </p:nvSpPr>
          <p:spPr>
            <a:xfrm>
              <a:off x="4648320" y="2971800"/>
              <a:ext cx="1981080" cy="6094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981760" y="2270160"/>
              <a:ext cx="205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irration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019920" y="2271600"/>
              <a:ext cx="2057400" cy="5778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3" name=""/>
            <p:cNvCxnSpPr>
              <a:stCxn id="582" idx="2"/>
              <a:endCxn id="580" idx="0"/>
            </p:cNvCxnSpPr>
            <p:nvPr/>
          </p:nvCxnSpPr>
          <p:spPr>
            <a:xfrm flipV="1" rot="10800000">
              <a:off x="5638320" y="2560320"/>
              <a:ext cx="381600" cy="41184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84" name=""/>
          <p:cNvGrpSpPr/>
          <p:nvPr/>
        </p:nvGrpSpPr>
        <p:grpSpPr>
          <a:xfrm>
            <a:off x="533520" y="4465080"/>
            <a:ext cx="8076960" cy="1251720"/>
            <a:chOff x="533520" y="4465080"/>
            <a:chExt cx="8076960" cy="1251720"/>
          </a:xfrm>
        </p:grpSpPr>
        <p:sp>
          <p:nvSpPr>
            <p:cNvPr id="585" name=""/>
            <p:cNvSpPr/>
            <p:nvPr/>
          </p:nvSpPr>
          <p:spPr>
            <a:xfrm>
              <a:off x="533520" y="5013360"/>
              <a:ext cx="8076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From your calculator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6" name=""/>
            <p:cNvCxnSpPr>
              <a:stCxn id="585" idx="0"/>
              <a:endCxn id="572" idx="1"/>
            </p:cNvCxnSpPr>
            <p:nvPr/>
          </p:nvCxnSpPr>
          <p:spPr>
            <a:xfrm flipV="1" rot="16200000">
              <a:off x="3306960" y="3748320"/>
              <a:ext cx="548280" cy="1981800"/>
            </a:xfrm>
            <a:prstGeom prst="curvedConnector5">
              <a:avLst>
                <a:gd name="adj1" fmla="val 12417"/>
                <a:gd name="adj2" fmla="val 55759"/>
                <a:gd name="adj3" fmla="val 1241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p:timing>
    <p:tnLst>
      <p:par>
        <p:cTn id="914" dur="indefinite" restart="never" nodeType="tmRoot">
          <p:childTnLst>
            <p:seq>
              <p:cTn id="915" dur="indefinite" nodeType="mainSeq">
                <p:childTnLst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20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5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0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2133720" y="13716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ractional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209680" y="1257480"/>
            <a:ext cx="0" cy="5105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57200" y="1981080"/>
            <a:ext cx="8229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80880" y="13716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1" name=""/>
          <p:cNvGrpSpPr/>
          <p:nvPr/>
        </p:nvGrpSpPr>
        <p:grpSpPr>
          <a:xfrm>
            <a:off x="3453120" y="1905120"/>
            <a:ext cx="788760" cy="977760"/>
            <a:chOff x="3453120" y="1905120"/>
            <a:chExt cx="788760" cy="977760"/>
          </a:xfrm>
        </p:grpSpPr>
        <p:sp>
          <p:nvSpPr>
            <p:cNvPr id="592" name=""/>
            <p:cNvSpPr/>
            <p:nvPr/>
          </p:nvSpPr>
          <p:spPr>
            <a:xfrm>
              <a:off x="3453120" y="1905120"/>
              <a:ext cx="788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1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655440" y="23623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471840" y="2376720"/>
              <a:ext cx="765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657120" y="2071800"/>
            <a:ext cx="85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57200" y="2895480"/>
            <a:ext cx="8229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3555360" y="2819520"/>
            <a:ext cx="586080" cy="991800"/>
            <a:chOff x="3555360" y="2819520"/>
            <a:chExt cx="586080" cy="991800"/>
          </a:xfrm>
        </p:grpSpPr>
        <p:sp>
          <p:nvSpPr>
            <p:cNvPr id="598" name=""/>
            <p:cNvSpPr/>
            <p:nvPr/>
          </p:nvSpPr>
          <p:spPr>
            <a:xfrm>
              <a:off x="3555360" y="281952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655800" y="32907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581640" y="3290760"/>
              <a:ext cx="547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1" name=""/>
          <p:cNvSpPr/>
          <p:nvPr/>
        </p:nvSpPr>
        <p:spPr>
          <a:xfrm>
            <a:off x="6658200" y="2994120"/>
            <a:ext cx="85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57200" y="3809880"/>
            <a:ext cx="8229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3644640" y="3733920"/>
            <a:ext cx="385920" cy="991800"/>
            <a:chOff x="3644640" y="3733920"/>
            <a:chExt cx="385920" cy="991800"/>
          </a:xfrm>
        </p:grpSpPr>
        <p:sp>
          <p:nvSpPr>
            <p:cNvPr id="604" name=""/>
            <p:cNvSpPr/>
            <p:nvPr/>
          </p:nvSpPr>
          <p:spPr>
            <a:xfrm>
              <a:off x="3644640" y="37339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644640" y="42051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678480" y="4205160"/>
              <a:ext cx="352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7" name=""/>
          <p:cNvSpPr/>
          <p:nvPr/>
        </p:nvSpPr>
        <p:spPr>
          <a:xfrm>
            <a:off x="6657120" y="3908520"/>
            <a:ext cx="85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57200" y="4724280"/>
            <a:ext cx="8229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3555360" y="4648320"/>
            <a:ext cx="586080" cy="991800"/>
            <a:chOff x="3555360" y="4648320"/>
            <a:chExt cx="586080" cy="991800"/>
          </a:xfrm>
        </p:grpSpPr>
        <p:sp>
          <p:nvSpPr>
            <p:cNvPr id="610" name=""/>
            <p:cNvSpPr/>
            <p:nvPr/>
          </p:nvSpPr>
          <p:spPr>
            <a:xfrm>
              <a:off x="3655800" y="46483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555360" y="511956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596040" y="5119560"/>
              <a:ext cx="520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457200" y="5638680"/>
            <a:ext cx="8229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3452760" y="5562720"/>
            <a:ext cx="788760" cy="977760"/>
            <a:chOff x="3452760" y="5562720"/>
            <a:chExt cx="788760" cy="977760"/>
          </a:xfrm>
        </p:grpSpPr>
        <p:sp>
          <p:nvSpPr>
            <p:cNvPr id="615" name=""/>
            <p:cNvSpPr/>
            <p:nvPr/>
          </p:nvSpPr>
          <p:spPr>
            <a:xfrm>
              <a:off x="3655440" y="55627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452760" y="6019920"/>
              <a:ext cx="788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1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V="1">
              <a:off x="3485880" y="6019920"/>
              <a:ext cx="750960" cy="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6615360" y="4822920"/>
            <a:ext cx="94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616080" y="5729400"/>
            <a:ext cx="94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410080" y="1295280"/>
            <a:ext cx="0" cy="5105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257800" y="13716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ponential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812160" y="207180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943200" y="299412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074240" y="390852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013040" y="4822920"/>
            <a:ext cx="56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882000" y="5729400"/>
            <a:ext cx="82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828800" y="70020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vision of Scientific N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/>
          <p:nvPr/>
        </p:nvSpPr>
        <p:spPr>
          <a:xfrm>
            <a:off x="1981080" y="1447920"/>
            <a:ext cx="518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iameter of an At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523880" y="280044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0.000 000 000 006 41 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90920" y="487692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6.41 x 10</a:t>
            </a:r>
            <a:r>
              <a:rPr b="0" lang="en-US" sz="4000" spc="-1" strike="noStrike" baseline="30000">
                <a:solidFill>
                  <a:srgbClr val="0000ff"/>
                </a:solidFill>
                <a:latin typeface="Comic Sans MS"/>
              </a:rPr>
              <a:t>-12</a:t>
            </a: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 i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2057400" y="2800440"/>
            <a:ext cx="4428720" cy="1544400"/>
            <a:chOff x="2057400" y="2800440"/>
            <a:chExt cx="4428720" cy="1544400"/>
          </a:xfrm>
        </p:grpSpPr>
        <p:sp>
          <p:nvSpPr>
            <p:cNvPr id="632" name=""/>
            <p:cNvSpPr/>
            <p:nvPr/>
          </p:nvSpPr>
          <p:spPr>
            <a:xfrm>
              <a:off x="2057400" y="3333960"/>
              <a:ext cx="4267080" cy="304560"/>
            </a:xfrm>
            <a:custGeom>
              <a:avLst/>
              <a:gdLst/>
              <a:ahLst/>
              <a:rect l="l" t="t" r="r" b="b"/>
              <a:pathLst>
                <a:path w="387" h="84">
                  <a:moveTo>
                    <a:pt x="0" y="0"/>
                  </a:moveTo>
                  <a:cubicBezTo>
                    <a:pt x="94" y="72"/>
                    <a:pt x="113" y="73"/>
                    <a:pt x="241" y="84"/>
                  </a:cubicBezTo>
                  <a:cubicBezTo>
                    <a:pt x="277" y="76"/>
                    <a:pt x="387" y="62"/>
                    <a:pt x="387" y="11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111120" y="3702240"/>
              <a:ext cx="217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2 place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169680" y="2800440"/>
              <a:ext cx="316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"/>
          <p:cNvSpPr/>
          <p:nvPr/>
        </p:nvSpPr>
        <p:spPr>
          <a:xfrm>
            <a:off x="1828800" y="70020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cientific N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3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8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1600200" y="700200"/>
            <a:ext cx="594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viding Monomials Using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2286000" y="1981080"/>
            <a:ext cx="4572000" cy="1389240"/>
            <a:chOff x="2286000" y="1981080"/>
            <a:chExt cx="4572000" cy="1389240"/>
          </a:xfrm>
        </p:grpSpPr>
        <p:sp>
          <p:nvSpPr>
            <p:cNvPr id="638" name=""/>
            <p:cNvSpPr/>
            <p:nvPr/>
          </p:nvSpPr>
          <p:spPr>
            <a:xfrm>
              <a:off x="2286000" y="2263680"/>
              <a:ext cx="4572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Rule        = x</a:t>
              </a:r>
              <a:r>
                <a:rPr b="0" lang="en-US" sz="4800" spc="-1" strike="noStrike" baseline="30000">
                  <a:solidFill>
                    <a:srgbClr val="000000"/>
                  </a:solidFill>
                  <a:latin typeface="Comic Sans MS"/>
                </a:rPr>
                <a:t>-n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9" name=""/>
            <p:cNvGrpSpPr/>
            <p:nvPr/>
          </p:nvGrpSpPr>
          <p:grpSpPr>
            <a:xfrm>
              <a:off x="4038480" y="1981080"/>
              <a:ext cx="1066680" cy="1389240"/>
              <a:chOff x="4038480" y="1981080"/>
              <a:chExt cx="1066680" cy="1389240"/>
            </a:xfrm>
          </p:grpSpPr>
          <p:sp>
            <p:nvSpPr>
              <p:cNvPr id="640" name=""/>
              <p:cNvSpPr/>
              <p:nvPr/>
            </p:nvSpPr>
            <p:spPr>
              <a:xfrm>
                <a:off x="4267080" y="198108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4038480" y="2666880"/>
                <a:ext cx="10666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r>
                  <a:rPr b="0" lang="en-US" sz="4000" spc="-1" strike="noStrike" baseline="30000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4038480" y="2682720"/>
                <a:ext cx="1066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43" name=""/>
          <p:cNvGrpSpPr/>
          <p:nvPr/>
        </p:nvGrpSpPr>
        <p:grpSpPr>
          <a:xfrm>
            <a:off x="1905120" y="3809880"/>
            <a:ext cx="5333760" cy="1830960"/>
            <a:chOff x="1905120" y="3809880"/>
            <a:chExt cx="5333760" cy="1830960"/>
          </a:xfrm>
        </p:grpSpPr>
        <p:sp>
          <p:nvSpPr>
            <p:cNvPr id="644" name=""/>
            <p:cNvSpPr/>
            <p:nvPr/>
          </p:nvSpPr>
          <p:spPr>
            <a:xfrm>
              <a:off x="1905120" y="4084560"/>
              <a:ext cx="53337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Example: 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= r</a:t>
              </a:r>
              <a:r>
                <a:rPr b="0" lang="en-US" sz="4800" spc="-1" strike="noStrike" baseline="30000">
                  <a:solidFill>
                    <a:srgbClr val="000000"/>
                  </a:solidFill>
                  <a:latin typeface="Comic Sans MS"/>
                </a:rPr>
                <a:t>-3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5" name=""/>
            <p:cNvGrpSpPr/>
            <p:nvPr/>
          </p:nvGrpSpPr>
          <p:grpSpPr>
            <a:xfrm>
              <a:off x="4705200" y="3809880"/>
              <a:ext cx="780480" cy="1373400"/>
              <a:chOff x="4705200" y="3809880"/>
              <a:chExt cx="780480" cy="1373400"/>
            </a:xfrm>
          </p:grpSpPr>
          <p:sp>
            <p:nvSpPr>
              <p:cNvPr id="646" name=""/>
              <p:cNvSpPr/>
              <p:nvPr/>
            </p:nvSpPr>
            <p:spPr>
              <a:xfrm>
                <a:off x="4860000" y="3809880"/>
                <a:ext cx="4701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768920" y="4479840"/>
                <a:ext cx="653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r</a:t>
                </a:r>
                <a:r>
                  <a:rPr b="0" lang="en-US" sz="4000" spc="-1" strike="noStrike" baseline="30000">
                    <a:solidFill>
                      <a:srgbClr val="000000"/>
                    </a:solidFill>
                    <a:latin typeface="Comic Sans MS"/>
                  </a:rPr>
                  <a:t>-3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4705200" y="4495680"/>
                <a:ext cx="780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71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743200" y="60948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ming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14600" y="12193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aming Decim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95280" y="1600200"/>
            <a:ext cx="6782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425.</a:t>
            </a:r>
            <a:r>
              <a:rPr b="0" lang="en-US" sz="8800" spc="-1" strike="noStrike">
                <a:solidFill>
                  <a:srgbClr val="00cc99"/>
                </a:solidFill>
                <a:latin typeface="Comic Sans MS"/>
              </a:rPr>
              <a:t>2</a:t>
            </a:r>
            <a:r>
              <a:rPr b="0" lang="en-US" sz="8800" spc="-1" strike="noStrike">
                <a:solidFill>
                  <a:srgbClr val="0099cc"/>
                </a:solidFill>
                <a:latin typeface="Comic Sans MS"/>
              </a:rPr>
              <a:t>6</a:t>
            </a:r>
            <a:r>
              <a:rPr b="0" lang="en-US" sz="8800" spc="-1" strike="noStrike">
                <a:solidFill>
                  <a:srgbClr val="ff9966"/>
                </a:solidFill>
                <a:latin typeface="Comic Sans MS"/>
              </a:rPr>
              <a:t>8</a:t>
            </a:r>
            <a:r>
              <a:rPr b="0" lang="en-US" sz="8800" spc="-1" strike="noStrike">
                <a:solidFill>
                  <a:srgbClr val="ff9900"/>
                </a:solidFill>
                <a:latin typeface="Comic Sans MS"/>
              </a:rPr>
              <a:t>9</a:t>
            </a:r>
            <a:r>
              <a:rPr b="0" lang="en-US" sz="8800" spc="-1" strike="noStrike">
                <a:solidFill>
                  <a:srgbClr val="339966"/>
                </a:solidFill>
                <a:latin typeface="Comic Sans MS"/>
              </a:rPr>
              <a:t>7</a:t>
            </a:r>
            <a:r>
              <a:rPr b="0" lang="en-US" sz="8800" spc="-1" strike="noStrike">
                <a:solidFill>
                  <a:srgbClr val="996633"/>
                </a:solidFill>
                <a:latin typeface="Comic Sans MS"/>
              </a:rPr>
              <a:t>1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95280" y="2209680"/>
            <a:ext cx="533520" cy="5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09680" y="2209680"/>
            <a:ext cx="533520" cy="5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743200" y="2209680"/>
            <a:ext cx="533520" cy="5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76720" y="2209680"/>
            <a:ext cx="533160" cy="5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267080" y="2209680"/>
            <a:ext cx="533520" cy="5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00600" y="2209680"/>
            <a:ext cx="533520" cy="5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57800" y="2209680"/>
            <a:ext cx="533520" cy="5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324480" y="2209680"/>
            <a:ext cx="533520" cy="5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781680" y="2209680"/>
            <a:ext cx="533520" cy="5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315200" y="2209680"/>
            <a:ext cx="533520" cy="5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304920" y="2743200"/>
            <a:ext cx="1828800" cy="1328040"/>
            <a:chOff x="304920" y="2743200"/>
            <a:chExt cx="1828800" cy="1328040"/>
          </a:xfrm>
        </p:grpSpPr>
        <p:cxnSp>
          <p:nvCxnSpPr>
            <p:cNvPr id="119" name=""/>
            <p:cNvCxnSpPr>
              <a:stCxn id="108" idx="4"/>
            </p:cNvCxnSpPr>
            <p:nvPr/>
          </p:nvCxnSpPr>
          <p:spPr>
            <a:xfrm rot="5400000">
              <a:off x="1161360" y="2800440"/>
              <a:ext cx="457920" cy="343440"/>
            </a:xfrm>
            <a:prstGeom prst="bentConnector3">
              <a:avLst>
                <a:gd name="adj1" fmla="val 49960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0" name=""/>
            <p:cNvSpPr/>
            <p:nvPr/>
          </p:nvSpPr>
          <p:spPr>
            <a:xfrm>
              <a:off x="304920" y="3124080"/>
              <a:ext cx="1828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Hundred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371600" y="2742840"/>
            <a:ext cx="1143000" cy="1572480"/>
            <a:chOff x="1371600" y="2742840"/>
            <a:chExt cx="1143000" cy="1572480"/>
          </a:xfrm>
        </p:grpSpPr>
        <p:cxnSp>
          <p:nvCxnSpPr>
            <p:cNvPr id="122" name=""/>
            <p:cNvCxnSpPr>
              <a:stCxn id="109" idx="4"/>
            </p:cNvCxnSpPr>
            <p:nvPr/>
          </p:nvCxnSpPr>
          <p:spPr>
            <a:xfrm rot="5400000">
              <a:off x="1733040" y="3066840"/>
              <a:ext cx="1067400" cy="4197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3" name=""/>
            <p:cNvSpPr/>
            <p:nvPr/>
          </p:nvSpPr>
          <p:spPr>
            <a:xfrm>
              <a:off x="1371600" y="3733920"/>
              <a:ext cx="11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Ten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1676520" y="2849040"/>
            <a:ext cx="1333080" cy="2639160"/>
            <a:chOff x="1676520" y="2849040"/>
            <a:chExt cx="1333080" cy="2639160"/>
          </a:xfrm>
        </p:grpSpPr>
        <p:cxnSp>
          <p:nvCxnSpPr>
            <p:cNvPr id="125" name=""/>
            <p:cNvCxnSpPr>
              <a:stCxn id="110" idx="4"/>
            </p:cNvCxnSpPr>
            <p:nvPr/>
          </p:nvCxnSpPr>
          <p:spPr>
            <a:xfrm rot="5400000">
              <a:off x="1809000" y="3705840"/>
              <a:ext cx="2057760" cy="343800"/>
            </a:xfrm>
            <a:prstGeom prst="bentConnector3">
              <a:avLst>
                <a:gd name="adj1" fmla="val 49991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6" name=""/>
            <p:cNvSpPr/>
            <p:nvPr/>
          </p:nvSpPr>
          <p:spPr>
            <a:xfrm>
              <a:off x="1676520" y="4906800"/>
              <a:ext cx="121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Unit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1066680" y="2849400"/>
            <a:ext cx="2743200" cy="4192920"/>
            <a:chOff x="1066680" y="2849400"/>
            <a:chExt cx="2743200" cy="4192920"/>
          </a:xfrm>
        </p:grpSpPr>
        <p:cxnSp>
          <p:nvCxnSpPr>
            <p:cNvPr id="128" name=""/>
            <p:cNvCxnSpPr>
              <a:stCxn id="111" idx="4"/>
            </p:cNvCxnSpPr>
            <p:nvPr/>
          </p:nvCxnSpPr>
          <p:spPr>
            <a:xfrm rot="5400000">
              <a:off x="1694880" y="4201920"/>
              <a:ext cx="3201120" cy="496080"/>
            </a:xfrm>
            <a:prstGeom prst="bentConnector3">
              <a:avLst>
                <a:gd name="adj1" fmla="val 49994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9" name=""/>
            <p:cNvSpPr/>
            <p:nvPr/>
          </p:nvSpPr>
          <p:spPr>
            <a:xfrm>
              <a:off x="1066680" y="5973480"/>
              <a:ext cx="27432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9900"/>
                  </a:solidFill>
                  <a:latin typeface="Comic Sans MS"/>
                </a:rPr>
                <a:t>Decimal Poi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86200" y="2819520"/>
            <a:ext cx="1523880" cy="3583800"/>
            <a:chOff x="3886200" y="2819520"/>
            <a:chExt cx="1523880" cy="3583800"/>
          </a:xfrm>
        </p:grpSpPr>
        <p:cxnSp>
          <p:nvCxnSpPr>
            <p:cNvPr id="131" name=""/>
            <p:cNvCxnSpPr/>
            <p:nvPr/>
          </p:nvCxnSpPr>
          <p:spPr>
            <a:xfrm flipH="1" rot="16200000">
              <a:off x="2533680" y="4323960"/>
              <a:ext cx="3201120" cy="191520"/>
            </a:xfrm>
            <a:prstGeom prst="bentConnector3">
              <a:avLst>
                <a:gd name="adj1" fmla="val 49994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2" name=""/>
            <p:cNvSpPr/>
            <p:nvPr/>
          </p:nvSpPr>
          <p:spPr>
            <a:xfrm>
              <a:off x="3886200" y="594360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Comic Sans MS"/>
                </a:rPr>
                <a:t>Ten</a:t>
              </a:r>
              <a:r>
                <a:rPr b="0" lang="en-US" sz="2400" spc="-1" strike="noStrike">
                  <a:solidFill>
                    <a:srgbClr val="0000ff"/>
                  </a:solidFill>
                  <a:latin typeface="Comic Sans MS"/>
                </a:rPr>
                <a:t>th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572000" y="2971800"/>
            <a:ext cx="2514600" cy="3050280"/>
            <a:chOff x="4572000" y="2971800"/>
            <a:chExt cx="2514600" cy="3050280"/>
          </a:xfrm>
        </p:grpSpPr>
        <p:cxnSp>
          <p:nvCxnSpPr>
            <p:cNvPr id="134" name=""/>
            <p:cNvCxnSpPr/>
            <p:nvPr/>
          </p:nvCxnSpPr>
          <p:spPr>
            <a:xfrm flipH="1" rot="16200000">
              <a:off x="3447000" y="4171680"/>
              <a:ext cx="2667240" cy="2671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5" name=""/>
            <p:cNvSpPr/>
            <p:nvPr/>
          </p:nvSpPr>
          <p:spPr>
            <a:xfrm>
              <a:off x="4572000" y="556236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cc"/>
                  </a:solidFill>
                  <a:latin typeface="Comic Sans MS"/>
                </a:rPr>
                <a:t>Hundred</a:t>
              </a:r>
              <a:r>
                <a:rPr b="0" lang="en-US" sz="2400" spc="-1" strike="noStrike">
                  <a:solidFill>
                    <a:srgbClr val="0000ff"/>
                  </a:solidFill>
                  <a:latin typeface="Comic Sans MS"/>
                </a:rPr>
                <a:t>th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5257800" y="2895480"/>
            <a:ext cx="2743200" cy="2704320"/>
            <a:chOff x="5257800" y="2895480"/>
            <a:chExt cx="2743200" cy="2704320"/>
          </a:xfrm>
        </p:grpSpPr>
        <p:cxnSp>
          <p:nvCxnSpPr>
            <p:cNvPr id="137" name=""/>
            <p:cNvCxnSpPr/>
            <p:nvPr/>
          </p:nvCxnSpPr>
          <p:spPr>
            <a:xfrm flipH="1" rot="16200000">
              <a:off x="4378320" y="3925800"/>
              <a:ext cx="2328480" cy="267120"/>
            </a:xfrm>
            <a:prstGeom prst="bentConnector3">
              <a:avLst>
                <a:gd name="adj1" fmla="val 49018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8" name=""/>
            <p:cNvSpPr/>
            <p:nvPr/>
          </p:nvSpPr>
          <p:spPr>
            <a:xfrm>
              <a:off x="5257800" y="514008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66"/>
                  </a:solidFill>
                  <a:latin typeface="Comic Sans MS"/>
                </a:rPr>
                <a:t>Thousand</a:t>
              </a:r>
              <a:r>
                <a:rPr b="0" lang="en-US" sz="2400" spc="-1" strike="noStrike">
                  <a:solidFill>
                    <a:srgbClr val="0000ff"/>
                  </a:solidFill>
                  <a:latin typeface="Comic Sans MS"/>
                </a:rPr>
                <a:t>th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5638680" y="2895480"/>
            <a:ext cx="3048120" cy="2237760"/>
            <a:chOff x="5638680" y="2895480"/>
            <a:chExt cx="3048120" cy="2237760"/>
          </a:xfrm>
        </p:grpSpPr>
        <p:sp>
          <p:nvSpPr>
            <p:cNvPr id="140" name=""/>
            <p:cNvSpPr/>
            <p:nvPr/>
          </p:nvSpPr>
          <p:spPr>
            <a:xfrm>
              <a:off x="6019920" y="2895480"/>
              <a:ext cx="0" cy="186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638680" y="467352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Comic Sans MS"/>
                </a:rPr>
                <a:t>Ten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Thousand</a:t>
              </a:r>
              <a:r>
                <a:rPr b="0" lang="en-US" sz="2400" spc="-1" strike="noStrike">
                  <a:solidFill>
                    <a:srgbClr val="0000ff"/>
                  </a:solidFill>
                  <a:latin typeface="Comic Sans MS"/>
                </a:rPr>
                <a:t>th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5867280" y="2819520"/>
            <a:ext cx="3048120" cy="1892160"/>
            <a:chOff x="5867280" y="2819520"/>
            <a:chExt cx="3048120" cy="1892160"/>
          </a:xfrm>
        </p:grpSpPr>
        <p:sp>
          <p:nvSpPr>
            <p:cNvPr id="143" name=""/>
            <p:cNvSpPr/>
            <p:nvPr/>
          </p:nvSpPr>
          <p:spPr>
            <a:xfrm>
              <a:off x="6629400" y="2819520"/>
              <a:ext cx="0" cy="129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867280" y="3886200"/>
              <a:ext cx="304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9966"/>
                  </a:solidFill>
                  <a:latin typeface="Comic Sans MS"/>
                </a:rPr>
                <a:t>Hundred Thousand</a:t>
              </a:r>
              <a:r>
                <a:rPr b="0" lang="en-US" sz="2400" spc="-1" strike="noStrike">
                  <a:solidFill>
                    <a:srgbClr val="0000ff"/>
                  </a:solidFill>
                  <a:latin typeface="Comic Sans MS"/>
                </a:rPr>
                <a:t>ths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6781680" y="2819520"/>
            <a:ext cx="2133720" cy="1053720"/>
            <a:chOff x="6781680" y="2819520"/>
            <a:chExt cx="2133720" cy="1053720"/>
          </a:xfrm>
        </p:grpSpPr>
        <p:sp>
          <p:nvSpPr>
            <p:cNvPr id="146" name=""/>
            <p:cNvSpPr/>
            <p:nvPr/>
          </p:nvSpPr>
          <p:spPr>
            <a:xfrm>
              <a:off x="7391520" y="2819520"/>
              <a:ext cx="0" cy="659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781680" y="341352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6633"/>
                  </a:solidFill>
                  <a:latin typeface="Comic Sans MS"/>
                </a:rPr>
                <a:t>Million</a:t>
              </a:r>
              <a:r>
                <a:rPr b="0" lang="en-US" sz="2400" spc="-1" strike="noStrike">
                  <a:solidFill>
                    <a:srgbClr val="0000ff"/>
                  </a:solidFill>
                  <a:latin typeface="Comic Sans MS"/>
                </a:rPr>
                <a:t>th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"/>
          <p:cNvSpPr/>
          <p:nvPr/>
        </p:nvSpPr>
        <p:spPr>
          <a:xfrm>
            <a:off x="1523880" y="1447920"/>
            <a:ext cx="609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5.14a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6.28a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3025800" y="2330280"/>
            <a:ext cx="3053880" cy="1284120"/>
            <a:chOff x="3025800" y="2330280"/>
            <a:chExt cx="3053880" cy="1284120"/>
          </a:xfrm>
        </p:grpSpPr>
        <p:grpSp>
          <p:nvGrpSpPr>
            <p:cNvPr id="651" name=""/>
            <p:cNvGrpSpPr/>
            <p:nvPr/>
          </p:nvGrpSpPr>
          <p:grpSpPr>
            <a:xfrm>
              <a:off x="3025800" y="2330280"/>
              <a:ext cx="2527200" cy="1284120"/>
              <a:chOff x="3025800" y="2330280"/>
              <a:chExt cx="2527200" cy="1284120"/>
            </a:xfrm>
          </p:grpSpPr>
          <p:sp>
            <p:nvSpPr>
              <p:cNvPr id="652" name=""/>
              <p:cNvSpPr/>
              <p:nvPr/>
            </p:nvSpPr>
            <p:spPr>
              <a:xfrm>
                <a:off x="3249720" y="2330280"/>
                <a:ext cx="207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-5.14a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Comic Sans MS"/>
                  </a:rPr>
                  <a:t>2</a:t>
                </a: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3323520" y="2971800"/>
                <a:ext cx="1931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6.28a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Comic Sans MS"/>
                  </a:rPr>
                  <a:t>4</a:t>
                </a: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3025800" y="2971800"/>
                <a:ext cx="252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5" name=""/>
            <p:cNvSpPr/>
            <p:nvPr/>
          </p:nvSpPr>
          <p:spPr>
            <a:xfrm>
              <a:off x="5609520" y="262080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6" name=""/>
          <p:cNvSpPr/>
          <p:nvPr/>
        </p:nvSpPr>
        <p:spPr>
          <a:xfrm>
            <a:off x="4159080" y="4033800"/>
            <a:ext cx="105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-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2540160" y="3701880"/>
            <a:ext cx="1515960" cy="1265040"/>
            <a:chOff x="2540160" y="3701880"/>
            <a:chExt cx="1515960" cy="1265040"/>
          </a:xfrm>
        </p:grpSpPr>
        <p:grpSp>
          <p:nvGrpSpPr>
            <p:cNvPr id="658" name=""/>
            <p:cNvGrpSpPr/>
            <p:nvPr/>
          </p:nvGrpSpPr>
          <p:grpSpPr>
            <a:xfrm>
              <a:off x="2943360" y="3701880"/>
              <a:ext cx="1112760" cy="1265040"/>
              <a:chOff x="2943360" y="3701880"/>
              <a:chExt cx="1112760" cy="1265040"/>
            </a:xfrm>
          </p:grpSpPr>
          <p:sp>
            <p:nvSpPr>
              <p:cNvPr id="659" name=""/>
              <p:cNvSpPr/>
              <p:nvPr/>
            </p:nvSpPr>
            <p:spPr>
              <a:xfrm>
                <a:off x="2955960" y="3701880"/>
                <a:ext cx="1089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5.14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2955960" y="4324320"/>
                <a:ext cx="1089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6.28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943360" y="4343400"/>
                <a:ext cx="1112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2" name=""/>
            <p:cNvSpPr/>
            <p:nvPr/>
          </p:nvSpPr>
          <p:spPr>
            <a:xfrm>
              <a:off x="2540160" y="3983040"/>
              <a:ext cx="343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5083560" y="4033800"/>
            <a:ext cx="145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3-5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118600" y="5342040"/>
            <a:ext cx="148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 0.8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539520" y="5342040"/>
            <a:ext cx="72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232520" y="5342040"/>
            <a:ext cx="75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7" name=""/>
          <p:cNvGrpSpPr/>
          <p:nvPr/>
        </p:nvGrpSpPr>
        <p:grpSpPr>
          <a:xfrm>
            <a:off x="5046120" y="5060880"/>
            <a:ext cx="1921320" cy="1265040"/>
            <a:chOff x="5046120" y="5060880"/>
            <a:chExt cx="1921320" cy="1265040"/>
          </a:xfrm>
        </p:grpSpPr>
        <p:sp>
          <p:nvSpPr>
            <p:cNvPr id="668" name=""/>
            <p:cNvSpPr/>
            <p:nvPr/>
          </p:nvSpPr>
          <p:spPr>
            <a:xfrm>
              <a:off x="5046120" y="5342040"/>
              <a:ext cx="765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r>
                <a:rPr b="0" lang="en-US" sz="4000" spc="-1" strike="noStrike">
                  <a:solidFill>
                    <a:srgbClr val="cc0000"/>
                  </a:solidFill>
                  <a:latin typeface="Comic Sans MS"/>
                </a:rPr>
                <a:t> </a:t>
              </a:r>
              <a:r>
                <a:rPr b="0" lang="en-US" sz="4000" spc="-1" strike="noStrike">
                  <a:solidFill>
                    <a:srgbClr val="0000ff"/>
                  </a:solidFill>
                  <a:latin typeface="Comic Sans MS"/>
                </a:rPr>
                <a:t>-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867280" y="5060880"/>
              <a:ext cx="108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0.8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900400" y="5683320"/>
              <a:ext cx="1023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a</a:t>
              </a:r>
              <a:r>
                <a:rPr b="0" lang="en-US" sz="3600" spc="-1" strike="noStrike" baseline="30000">
                  <a:solidFill>
                    <a:srgbClr val="0000ff"/>
                  </a:solidFill>
                  <a:latin typeface="Comic Sans MS"/>
                </a:rPr>
                <a:t>2</a:t>
              </a: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b</a:t>
              </a:r>
              <a:r>
                <a:rPr b="0" lang="en-US" sz="3600" spc="-1" strike="noStrike" baseline="30000">
                  <a:solidFill>
                    <a:srgbClr val="0000ff"/>
                  </a:solidFill>
                  <a:latin typeface="Comic Sans MS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854680" y="5702400"/>
              <a:ext cx="11127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2" name=""/>
          <p:cNvSpPr/>
          <p:nvPr/>
        </p:nvSpPr>
        <p:spPr>
          <a:xfrm>
            <a:off x="1600200" y="700200"/>
            <a:ext cx="594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viding Monomials Using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78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83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88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93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98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03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08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ythagorean Theor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438280" y="1523880"/>
            <a:ext cx="426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ight Triang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648320" y="2362320"/>
            <a:ext cx="281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+ b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= c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657600" y="3200400"/>
            <a:ext cx="48006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square of the hypotenuse is equal to the sum of the square of the other two sides.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533160" y="2819520"/>
            <a:ext cx="2332440" cy="2775960"/>
            <a:chOff x="533160" y="2819520"/>
            <a:chExt cx="2332440" cy="2775960"/>
          </a:xfrm>
        </p:grpSpPr>
        <p:sp>
          <p:nvSpPr>
            <p:cNvPr id="678" name=""/>
            <p:cNvSpPr/>
            <p:nvPr/>
          </p:nvSpPr>
          <p:spPr>
            <a:xfrm flipH="1">
              <a:off x="532800" y="2819520"/>
              <a:ext cx="1904760" cy="2133360"/>
            </a:xfrm>
            <a:prstGeom prst="rtTriangl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038240" y="3429000"/>
              <a:ext cx="400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428920" y="3476520"/>
              <a:ext cx="43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292040" y="4952880"/>
              <a:ext cx="462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2" name=""/>
          <p:cNvGrpSpPr/>
          <p:nvPr/>
        </p:nvGrpSpPr>
        <p:grpSpPr>
          <a:xfrm>
            <a:off x="1828800" y="4114800"/>
            <a:ext cx="1752480" cy="838080"/>
            <a:chOff x="1828800" y="4114800"/>
            <a:chExt cx="1752480" cy="838080"/>
          </a:xfrm>
        </p:grpSpPr>
        <p:sp>
          <p:nvSpPr>
            <p:cNvPr id="683" name=""/>
            <p:cNvSpPr/>
            <p:nvPr/>
          </p:nvSpPr>
          <p:spPr>
            <a:xfrm>
              <a:off x="1905120" y="4419720"/>
              <a:ext cx="533160" cy="533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4" name=""/>
            <p:cNvGrpSpPr/>
            <p:nvPr/>
          </p:nvGrpSpPr>
          <p:grpSpPr>
            <a:xfrm>
              <a:off x="1828800" y="4114800"/>
              <a:ext cx="1752480" cy="685800"/>
              <a:chOff x="1828800" y="4114800"/>
              <a:chExt cx="1752480" cy="685800"/>
            </a:xfrm>
          </p:grpSpPr>
          <p:sp>
            <p:nvSpPr>
              <p:cNvPr id="685" name=""/>
              <p:cNvSpPr/>
              <p:nvPr/>
            </p:nvSpPr>
            <p:spPr>
              <a:xfrm>
                <a:off x="1828800" y="4572000"/>
                <a:ext cx="304920" cy="22860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606040" y="4114800"/>
                <a:ext cx="900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90°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651040" y="4191120"/>
                <a:ext cx="930240" cy="53316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88" name=""/>
              <p:cNvCxnSpPr>
                <a:stCxn id="687" idx="2"/>
                <a:endCxn id="689" idx="1"/>
              </p:cNvCxnSpPr>
              <p:nvPr/>
            </p:nvCxnSpPr>
            <p:spPr>
              <a:xfrm flipV="1" rot="10800000">
                <a:off x="2098080" y="4456800"/>
                <a:ext cx="552960" cy="186120"/>
              </a:xfrm>
              <a:prstGeom prst="curvedConnector2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690" name=""/>
          <p:cNvGrpSpPr/>
          <p:nvPr/>
        </p:nvGrpSpPr>
        <p:grpSpPr>
          <a:xfrm>
            <a:off x="473760" y="2227320"/>
            <a:ext cx="2440800" cy="1353960"/>
            <a:chOff x="473760" y="2227320"/>
            <a:chExt cx="2440800" cy="1353960"/>
          </a:xfrm>
        </p:grpSpPr>
        <p:sp>
          <p:nvSpPr>
            <p:cNvPr id="691" name=""/>
            <p:cNvSpPr/>
            <p:nvPr/>
          </p:nvSpPr>
          <p:spPr>
            <a:xfrm>
              <a:off x="473760" y="2227320"/>
              <a:ext cx="2440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hypotenus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33520" y="2227320"/>
              <a:ext cx="2320920" cy="5792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979640" y="3124080"/>
              <a:ext cx="382680" cy="4572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4" name=""/>
            <p:cNvCxnSpPr>
              <a:stCxn id="692" idx="4"/>
              <a:endCxn id="693" idx="2"/>
            </p:cNvCxnSpPr>
            <p:nvPr/>
          </p:nvCxnSpPr>
          <p:spPr>
            <a:xfrm flipH="1" rot="16200000">
              <a:off x="1563840" y="2935800"/>
              <a:ext cx="546480" cy="28656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95" name=""/>
          <p:cNvGrpSpPr/>
          <p:nvPr/>
        </p:nvGrpSpPr>
        <p:grpSpPr>
          <a:xfrm>
            <a:off x="1693800" y="4603680"/>
            <a:ext cx="1462320" cy="1569960"/>
            <a:chOff x="1693800" y="4603680"/>
            <a:chExt cx="1462320" cy="1569960"/>
          </a:xfrm>
        </p:grpSpPr>
        <p:sp>
          <p:nvSpPr>
            <p:cNvPr id="696" name=""/>
            <p:cNvSpPr/>
            <p:nvPr/>
          </p:nvSpPr>
          <p:spPr>
            <a:xfrm>
              <a:off x="2195280" y="5410080"/>
              <a:ext cx="960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leg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200320" y="5594400"/>
              <a:ext cx="931680" cy="5792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693800" y="4724280"/>
              <a:ext cx="398520" cy="2732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039760" y="4603680"/>
              <a:ext cx="398520" cy="2732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9" name=""/>
            <p:cNvCxnSpPr>
              <a:stCxn id="697" idx="0"/>
              <a:endCxn id="698" idx="4"/>
            </p:cNvCxnSpPr>
            <p:nvPr/>
          </p:nvCxnSpPr>
          <p:spPr>
            <a:xfrm flipV="1" rot="16200000">
              <a:off x="1981440" y="4908960"/>
              <a:ext cx="597600" cy="773640"/>
            </a:xfrm>
            <a:prstGeom prst="curvedConnector5">
              <a:avLst>
                <a:gd name="adj1" fmla="val 49969"/>
                <a:gd name="adj2" fmla="val 50000"/>
                <a:gd name="adj3" fmla="val 49969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00" name=""/>
            <p:cNvCxnSpPr>
              <a:stCxn id="697" idx="0"/>
              <a:endCxn id="689" idx="6"/>
            </p:cNvCxnSpPr>
            <p:nvPr/>
          </p:nvCxnSpPr>
          <p:spPr>
            <a:xfrm flipV="1" rot="16200000">
              <a:off x="2124720" y="5052240"/>
              <a:ext cx="855000" cy="22932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p:timing>
    <p:tnLst>
      <p:par>
        <p:cTn id="1015" dur="indefinite" restart="never" nodeType="tmRoot">
          <p:childTnLst>
            <p:seq>
              <p:cTn id="1016" dur="indefinite" nodeType="mainSeq">
                <p:childTnLst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1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6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/>
          <p:nvPr/>
        </p:nvSpPr>
        <p:spPr>
          <a:xfrm>
            <a:off x="3219480" y="3276720"/>
            <a:ext cx="3581280" cy="1295280"/>
          </a:xfrm>
          <a:prstGeom prst="parallelogram">
            <a:avLst>
              <a:gd name="adj" fmla="val 69122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905120" y="144792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rea of parallelogram =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057400" y="556272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rea of triangle = ½b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4" name=""/>
          <p:cNvGrpSpPr/>
          <p:nvPr/>
        </p:nvGrpSpPr>
        <p:grpSpPr>
          <a:xfrm>
            <a:off x="4114800" y="3124080"/>
            <a:ext cx="3962520" cy="1556280"/>
            <a:chOff x="4114800" y="3124080"/>
            <a:chExt cx="3962520" cy="1556280"/>
          </a:xfrm>
        </p:grpSpPr>
        <p:sp>
          <p:nvSpPr>
            <p:cNvPr id="705" name=""/>
            <p:cNvSpPr/>
            <p:nvPr/>
          </p:nvSpPr>
          <p:spPr>
            <a:xfrm>
              <a:off x="4114800" y="3276720"/>
              <a:ext cx="1828800" cy="129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6" name=""/>
            <p:cNvGrpSpPr/>
            <p:nvPr/>
          </p:nvGrpSpPr>
          <p:grpSpPr>
            <a:xfrm>
              <a:off x="5333760" y="3124080"/>
              <a:ext cx="2743560" cy="1556280"/>
              <a:chOff x="5333760" y="3124080"/>
              <a:chExt cx="2743560" cy="1556280"/>
            </a:xfrm>
          </p:grpSpPr>
          <p:sp>
            <p:nvSpPr>
              <p:cNvPr id="707" name=""/>
              <p:cNvSpPr/>
              <p:nvPr/>
            </p:nvSpPr>
            <p:spPr>
              <a:xfrm>
                <a:off x="6781680" y="3124080"/>
                <a:ext cx="1295640" cy="155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Cut in hal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H="1">
                <a:off x="5333760" y="3657600"/>
                <a:ext cx="152388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9" name=""/>
          <p:cNvSpPr/>
          <p:nvPr/>
        </p:nvSpPr>
        <p:spPr>
          <a:xfrm>
            <a:off x="2435400" y="2209680"/>
            <a:ext cx="419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ase x Height = b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200400" y="3276720"/>
            <a:ext cx="2743200" cy="1295280"/>
          </a:xfrm>
          <a:custGeom>
            <a:avLst/>
            <a:gdLst/>
            <a:ahLst/>
            <a:rect l="l" t="t" r="r" b="b"/>
            <a:pathLst>
              <a:path w="1728" h="816">
                <a:moveTo>
                  <a:pt x="576" y="0"/>
                </a:moveTo>
                <a:lnTo>
                  <a:pt x="0" y="816"/>
                </a:lnTo>
                <a:lnTo>
                  <a:pt x="1728" y="816"/>
                </a:lnTo>
                <a:lnTo>
                  <a:pt x="576" y="0"/>
                </a:lnTo>
                <a:close/>
              </a:path>
            </a:pathLst>
          </a:custGeom>
          <a:solidFill>
            <a:srgbClr val="0000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"/>
          <p:cNvGrpSpPr/>
          <p:nvPr/>
        </p:nvGrpSpPr>
        <p:grpSpPr>
          <a:xfrm>
            <a:off x="3124080" y="4540320"/>
            <a:ext cx="2819520" cy="581400"/>
            <a:chOff x="3124080" y="4540320"/>
            <a:chExt cx="2819520" cy="581400"/>
          </a:xfrm>
        </p:grpSpPr>
        <p:sp>
          <p:nvSpPr>
            <p:cNvPr id="712" name=""/>
            <p:cNvSpPr/>
            <p:nvPr/>
          </p:nvSpPr>
          <p:spPr>
            <a:xfrm>
              <a:off x="3733920" y="4540320"/>
              <a:ext cx="173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Base (b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>
              <a:off x="3124080" y="483084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486400" y="483084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5" name=""/>
          <p:cNvGrpSpPr/>
          <p:nvPr/>
        </p:nvGrpSpPr>
        <p:grpSpPr>
          <a:xfrm>
            <a:off x="1295280" y="3276720"/>
            <a:ext cx="2838600" cy="1295280"/>
            <a:chOff x="1295280" y="3276720"/>
            <a:chExt cx="2838600" cy="1295280"/>
          </a:xfrm>
        </p:grpSpPr>
        <p:sp>
          <p:nvSpPr>
            <p:cNvPr id="716" name=""/>
            <p:cNvSpPr/>
            <p:nvPr/>
          </p:nvSpPr>
          <p:spPr>
            <a:xfrm flipH="1">
              <a:off x="3981240" y="441972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7" name=""/>
            <p:cNvGrpSpPr/>
            <p:nvPr/>
          </p:nvGrpSpPr>
          <p:grpSpPr>
            <a:xfrm>
              <a:off x="1295280" y="3276720"/>
              <a:ext cx="2838600" cy="1295280"/>
              <a:chOff x="1295280" y="3276720"/>
              <a:chExt cx="2838600" cy="1295280"/>
            </a:xfrm>
          </p:grpSpPr>
          <p:sp>
            <p:nvSpPr>
              <p:cNvPr id="718" name=""/>
              <p:cNvSpPr/>
              <p:nvPr/>
            </p:nvSpPr>
            <p:spPr>
              <a:xfrm>
                <a:off x="4133880" y="3276720"/>
                <a:ext cx="0" cy="1295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3448080" y="3733920"/>
                <a:ext cx="60948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1295280" y="3397320"/>
                <a:ext cx="2286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Height (h)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3981600" y="441972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22" name=""/>
          <p:cNvSpPr/>
          <p:nvPr/>
        </p:nvSpPr>
        <p:spPr>
          <a:xfrm>
            <a:off x="2971800" y="7002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ea of Triang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/>
          <p:nvPr/>
        </p:nvSpPr>
        <p:spPr>
          <a:xfrm>
            <a:off x="533520" y="140004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circumference &amp; area of a circ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952880" y="476892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 =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 = 2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380880" y="1981080"/>
            <a:ext cx="4114800" cy="3581640"/>
            <a:chOff x="380880" y="1981080"/>
            <a:chExt cx="4114800" cy="3581640"/>
          </a:xfrm>
        </p:grpSpPr>
        <p:sp>
          <p:nvSpPr>
            <p:cNvPr id="726" name=""/>
            <p:cNvSpPr/>
            <p:nvPr/>
          </p:nvSpPr>
          <p:spPr>
            <a:xfrm>
              <a:off x="1066680" y="2133720"/>
              <a:ext cx="3276720" cy="32763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914400" y="1981080"/>
              <a:ext cx="3581280" cy="3581640"/>
            </a:xfrm>
            <a:prstGeom prst="ellipse">
              <a:avLst/>
            </a:prstGeom>
            <a:noFill/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rot="16200000">
              <a:off x="2590920" y="2514240"/>
              <a:ext cx="228600" cy="297180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77400 h 2971800"/>
                <a:gd name="textAreaBottom" fmla="*/ 2894400 h 297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438280" y="41148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590920" y="3733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743200" y="3809880"/>
              <a:ext cx="1600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438280" y="22096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80880" y="34815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066680" y="3809880"/>
              <a:ext cx="16002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705040" y="335268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6" name=""/>
          <p:cNvSpPr/>
          <p:nvPr/>
        </p:nvSpPr>
        <p:spPr>
          <a:xfrm>
            <a:off x="3200400" y="70020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ea of Cir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4915080" y="5486400"/>
            <a:ext cx="205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=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600880" y="3054240"/>
            <a:ext cx="19047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3.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4191120" y="2133720"/>
            <a:ext cx="4419360" cy="1220400"/>
            <a:chOff x="4191120" y="2133720"/>
            <a:chExt cx="4419360" cy="1220400"/>
          </a:xfrm>
        </p:grpSpPr>
        <p:sp>
          <p:nvSpPr>
            <p:cNvPr id="740" name=""/>
            <p:cNvSpPr/>
            <p:nvPr/>
          </p:nvSpPr>
          <p:spPr>
            <a:xfrm>
              <a:off x="4191120" y="2155680"/>
              <a:ext cx="1143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1" name=""/>
            <p:cNvGrpSpPr/>
            <p:nvPr/>
          </p:nvGrpSpPr>
          <p:grpSpPr>
            <a:xfrm>
              <a:off x="5257800" y="2133720"/>
              <a:ext cx="3352680" cy="1220400"/>
              <a:chOff x="5257800" y="2133720"/>
              <a:chExt cx="3352680" cy="1220400"/>
            </a:xfrm>
          </p:grpSpPr>
          <p:sp>
            <p:nvSpPr>
              <p:cNvPr id="742" name=""/>
              <p:cNvSpPr/>
              <p:nvPr/>
            </p:nvSpPr>
            <p:spPr>
              <a:xfrm>
                <a:off x="5257800" y="2133720"/>
                <a:ext cx="3352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Circumference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5829480" y="2711520"/>
                <a:ext cx="2209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Diameter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5295960" y="2743200"/>
                <a:ext cx="3276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3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8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"/>
          <p:cNvSpPr/>
          <p:nvPr/>
        </p:nvSpPr>
        <p:spPr>
          <a:xfrm>
            <a:off x="1219320" y="2362320"/>
            <a:ext cx="2286000" cy="3429000"/>
          </a:xfrm>
          <a:prstGeom prst="can">
            <a:avLst>
              <a:gd name="adj" fmla="val 25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657600" y="228600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Volu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6324480" y="2743200"/>
            <a:ext cx="1600200" cy="1099800"/>
            <a:chOff x="6324480" y="2743200"/>
            <a:chExt cx="1600200" cy="1099800"/>
          </a:xfrm>
        </p:grpSpPr>
        <p:sp>
          <p:nvSpPr>
            <p:cNvPr id="748" name=""/>
            <p:cNvSpPr/>
            <p:nvPr/>
          </p:nvSpPr>
          <p:spPr>
            <a:xfrm>
              <a:off x="6896160" y="274320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324480" y="3200400"/>
              <a:ext cx="1600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heigh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0" name=""/>
          <p:cNvSpPr/>
          <p:nvPr/>
        </p:nvSpPr>
        <p:spPr>
          <a:xfrm>
            <a:off x="5334120" y="39625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V = A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1" name=""/>
          <p:cNvGrpSpPr/>
          <p:nvPr/>
        </p:nvGrpSpPr>
        <p:grpSpPr>
          <a:xfrm>
            <a:off x="5105520" y="4571280"/>
            <a:ext cx="2057400" cy="1420560"/>
            <a:chOff x="5105520" y="4571280"/>
            <a:chExt cx="2057400" cy="1420560"/>
          </a:xfrm>
        </p:grpSpPr>
        <p:sp>
          <p:nvSpPr>
            <p:cNvPr id="752" name=""/>
            <p:cNvSpPr/>
            <p:nvPr/>
          </p:nvSpPr>
          <p:spPr>
            <a:xfrm>
              <a:off x="5105520" y="4800600"/>
              <a:ext cx="2057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V = 2</a:t>
              </a: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rh  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 rot="5400000">
              <a:off x="6248160" y="4342320"/>
              <a:ext cx="304920" cy="76176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19800 h 761760"/>
                <a:gd name="textAreaBottom" fmla="*/ 74196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4" name=""/>
          <p:cNvGrpSpPr/>
          <p:nvPr/>
        </p:nvGrpSpPr>
        <p:grpSpPr>
          <a:xfrm>
            <a:off x="1219320" y="2286000"/>
            <a:ext cx="7391160" cy="3505320"/>
            <a:chOff x="1219320" y="2286000"/>
            <a:chExt cx="7391160" cy="3505320"/>
          </a:xfrm>
        </p:grpSpPr>
        <p:sp>
          <p:nvSpPr>
            <p:cNvPr id="755" name=""/>
            <p:cNvSpPr/>
            <p:nvPr/>
          </p:nvSpPr>
          <p:spPr>
            <a:xfrm>
              <a:off x="5334120" y="2286000"/>
              <a:ext cx="32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 area of bas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6" name=""/>
            <p:cNvGrpSpPr/>
            <p:nvPr/>
          </p:nvGrpSpPr>
          <p:grpSpPr>
            <a:xfrm>
              <a:off x="1219320" y="5029200"/>
              <a:ext cx="2286000" cy="762120"/>
              <a:chOff x="1219320" y="5029200"/>
              <a:chExt cx="2286000" cy="762120"/>
            </a:xfrm>
          </p:grpSpPr>
          <p:sp>
            <p:nvSpPr>
              <p:cNvPr id="757" name=""/>
              <p:cNvSpPr/>
              <p:nvPr/>
            </p:nvSpPr>
            <p:spPr>
              <a:xfrm>
                <a:off x="1219320" y="5029200"/>
                <a:ext cx="2286000" cy="76212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095560" y="5089680"/>
                <a:ext cx="533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59" name=""/>
          <p:cNvSpPr/>
          <p:nvPr/>
        </p:nvSpPr>
        <p:spPr>
          <a:xfrm>
            <a:off x="3124080" y="1447920"/>
            <a:ext cx="2819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ylind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819520" y="70020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culating Volu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1295280" y="1371600"/>
            <a:ext cx="662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Volume of Sphere (Ball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295280" y="2971800"/>
            <a:ext cx="2286000" cy="2209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295280" y="3809880"/>
            <a:ext cx="2286000" cy="457200"/>
          </a:xfrm>
          <a:prstGeom prst="ellipse">
            <a:avLst/>
          </a:prstGeom>
          <a:solidFill>
            <a:srgbClr val="66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4" name=""/>
          <p:cNvGrpSpPr/>
          <p:nvPr/>
        </p:nvGrpSpPr>
        <p:grpSpPr>
          <a:xfrm>
            <a:off x="2133720" y="3687840"/>
            <a:ext cx="1447560" cy="581400"/>
            <a:chOff x="2133720" y="3687840"/>
            <a:chExt cx="1447560" cy="581400"/>
          </a:xfrm>
        </p:grpSpPr>
        <p:sp>
          <p:nvSpPr>
            <p:cNvPr id="765" name=""/>
            <p:cNvSpPr/>
            <p:nvPr/>
          </p:nvSpPr>
          <p:spPr>
            <a:xfrm>
              <a:off x="2133720" y="3687840"/>
              <a:ext cx="353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438280" y="403848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5435640" y="3252960"/>
            <a:ext cx="2209680" cy="1114560"/>
            <a:chOff x="5435640" y="3252960"/>
            <a:chExt cx="2209680" cy="1114560"/>
          </a:xfrm>
        </p:grpSpPr>
        <p:sp>
          <p:nvSpPr>
            <p:cNvPr id="768" name=""/>
            <p:cNvSpPr/>
            <p:nvPr/>
          </p:nvSpPr>
          <p:spPr>
            <a:xfrm>
              <a:off x="5435640" y="3487680"/>
              <a:ext cx="2209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V =     </a:t>
              </a: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"/>
            <p:cNvGrpSpPr/>
            <p:nvPr/>
          </p:nvGrpSpPr>
          <p:grpSpPr>
            <a:xfrm>
              <a:off x="6273720" y="3252960"/>
              <a:ext cx="533520" cy="1114560"/>
              <a:chOff x="6273720" y="3252960"/>
              <a:chExt cx="533520" cy="1114560"/>
            </a:xfrm>
          </p:grpSpPr>
          <p:sp>
            <p:nvSpPr>
              <p:cNvPr id="770" name=""/>
              <p:cNvSpPr/>
              <p:nvPr/>
            </p:nvSpPr>
            <p:spPr>
              <a:xfrm>
                <a:off x="6333480" y="325296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6333480" y="378612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6273720" y="378612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73" name=""/>
          <p:cNvSpPr/>
          <p:nvPr/>
        </p:nvSpPr>
        <p:spPr>
          <a:xfrm>
            <a:off x="2819520" y="70020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culating Volu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039" dur="indefinite" restart="never" nodeType="tmRoot">
          <p:childTnLst>
            <p:seq>
              <p:cTn id="1040" dur="indefinite" nodeType="mainSeq">
                <p:childTnLst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5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5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743200" y="60948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ming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1371600"/>
            <a:ext cx="381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aming Decim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685800" y="2057400"/>
          <a:ext cx="7696080" cy="4190760"/>
        </p:xfrm>
        <a:graphic>
          <a:graphicData uri="http://schemas.openxmlformats.org/drawingml/2006/table">
            <a:tbl>
              <a:tblPr/>
              <a:tblGrid>
                <a:gridCol w="2565360"/>
                <a:gridCol w="2565360"/>
                <a:gridCol w="2565360"/>
              </a:tblGrid>
              <a:tr h="48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cim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raction Equival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447920" y="266544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0.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371600" y="379404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0.7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19320" y="516564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0.45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76720" y="272736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ree ten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352680" y="364176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y-five hundred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276720" y="4800600"/>
            <a:ext cx="2438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 hundred fifty-six thousand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6863760" y="2529000"/>
            <a:ext cx="586080" cy="977760"/>
            <a:chOff x="6863760" y="2529000"/>
            <a:chExt cx="586080" cy="977760"/>
          </a:xfrm>
        </p:grpSpPr>
        <p:sp>
          <p:nvSpPr>
            <p:cNvPr id="158" name=""/>
            <p:cNvSpPr/>
            <p:nvPr/>
          </p:nvSpPr>
          <p:spPr>
            <a:xfrm>
              <a:off x="6965640" y="25290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863760" y="298620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927840" y="29862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6761160" y="3625920"/>
            <a:ext cx="788760" cy="977760"/>
            <a:chOff x="6761160" y="3625920"/>
            <a:chExt cx="788760" cy="977760"/>
          </a:xfrm>
        </p:grpSpPr>
        <p:sp>
          <p:nvSpPr>
            <p:cNvPr id="162" name=""/>
            <p:cNvSpPr/>
            <p:nvPr/>
          </p:nvSpPr>
          <p:spPr>
            <a:xfrm>
              <a:off x="6863400" y="362592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7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61160" y="4083120"/>
              <a:ext cx="788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1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797520" y="408312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660720" y="4998960"/>
            <a:ext cx="991440" cy="977760"/>
            <a:chOff x="6660720" y="4998960"/>
            <a:chExt cx="991440" cy="977760"/>
          </a:xfrm>
        </p:grpSpPr>
        <p:sp>
          <p:nvSpPr>
            <p:cNvPr id="166" name=""/>
            <p:cNvSpPr/>
            <p:nvPr/>
          </p:nvSpPr>
          <p:spPr>
            <a:xfrm>
              <a:off x="6761160" y="4998960"/>
              <a:ext cx="788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45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660720" y="5456160"/>
              <a:ext cx="99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1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705720" y="5456160"/>
              <a:ext cx="914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590920" y="7002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cimals to Fr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2120" y="144792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hanging Decimals to Frac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143000" y="26748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0.37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495680" y="2521080"/>
            <a:ext cx="411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ree hundred seventy five thousand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590920" y="2438280"/>
            <a:ext cx="1602000" cy="1114920"/>
            <a:chOff x="2590920" y="2438280"/>
            <a:chExt cx="1602000" cy="1114920"/>
          </a:xfrm>
        </p:grpSpPr>
        <p:sp>
          <p:nvSpPr>
            <p:cNvPr id="174" name=""/>
            <p:cNvSpPr/>
            <p:nvPr/>
          </p:nvSpPr>
          <p:spPr>
            <a:xfrm>
              <a:off x="2590920" y="2674800"/>
              <a:ext cx="380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3079440" y="2438280"/>
              <a:ext cx="1113480" cy="1114920"/>
              <a:chOff x="3079440" y="2438280"/>
              <a:chExt cx="1113480" cy="1114920"/>
            </a:xfrm>
          </p:grpSpPr>
          <p:sp>
            <p:nvSpPr>
              <p:cNvPr id="176" name=""/>
              <p:cNvSpPr/>
              <p:nvPr/>
            </p:nvSpPr>
            <p:spPr>
              <a:xfrm>
                <a:off x="3196440" y="2438280"/>
                <a:ext cx="880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375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079440" y="2971800"/>
                <a:ext cx="1113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00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103200" y="2971800"/>
                <a:ext cx="1067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9" name=""/>
          <p:cNvGrpSpPr/>
          <p:nvPr/>
        </p:nvGrpSpPr>
        <p:grpSpPr>
          <a:xfrm>
            <a:off x="2241360" y="3687840"/>
            <a:ext cx="1113480" cy="1114560"/>
            <a:chOff x="2241360" y="3687840"/>
            <a:chExt cx="1113480" cy="1114560"/>
          </a:xfrm>
        </p:grpSpPr>
        <p:sp>
          <p:nvSpPr>
            <p:cNvPr id="180" name=""/>
            <p:cNvSpPr/>
            <p:nvPr/>
          </p:nvSpPr>
          <p:spPr>
            <a:xfrm>
              <a:off x="2358360" y="3687840"/>
              <a:ext cx="88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37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241360" y="4221000"/>
              <a:ext cx="1113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10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265120" y="4221000"/>
              <a:ext cx="1067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3429000" y="3687840"/>
            <a:ext cx="2007360" cy="1114560"/>
            <a:chOff x="3429000" y="3687840"/>
            <a:chExt cx="2007360" cy="1114560"/>
          </a:xfrm>
        </p:grpSpPr>
        <p:sp>
          <p:nvSpPr>
            <p:cNvPr id="184" name=""/>
            <p:cNvSpPr/>
            <p:nvPr/>
          </p:nvSpPr>
          <p:spPr>
            <a:xfrm>
              <a:off x="3429000" y="3924360"/>
              <a:ext cx="380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3960000" y="3687840"/>
              <a:ext cx="1476360" cy="1114560"/>
              <a:chOff x="3960000" y="3687840"/>
              <a:chExt cx="1476360" cy="1114560"/>
            </a:xfrm>
          </p:grpSpPr>
          <p:sp>
            <p:nvSpPr>
              <p:cNvPr id="186" name=""/>
              <p:cNvSpPr/>
              <p:nvPr/>
            </p:nvSpPr>
            <p:spPr>
              <a:xfrm>
                <a:off x="4076640" y="3687840"/>
                <a:ext cx="1243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3333cc"/>
                    </a:solidFill>
                    <a:latin typeface="Comic Sans MS"/>
                  </a:rPr>
                  <a:t>5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 • 7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960000" y="4221000"/>
                <a:ext cx="1476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3333cc"/>
                    </a:solidFill>
                    <a:latin typeface="Comic Sans MS"/>
                  </a:rPr>
                  <a:t>5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 • 20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973320" y="4221000"/>
                <a:ext cx="1447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9" name=""/>
          <p:cNvGrpSpPr/>
          <p:nvPr/>
        </p:nvGrpSpPr>
        <p:grpSpPr>
          <a:xfrm>
            <a:off x="5549760" y="3687840"/>
            <a:ext cx="1360800" cy="1114560"/>
            <a:chOff x="5549760" y="3687840"/>
            <a:chExt cx="1360800" cy="1114560"/>
          </a:xfrm>
        </p:grpSpPr>
        <p:sp>
          <p:nvSpPr>
            <p:cNvPr id="190" name=""/>
            <p:cNvSpPr/>
            <p:nvPr/>
          </p:nvSpPr>
          <p:spPr>
            <a:xfrm>
              <a:off x="5549760" y="3924360"/>
              <a:ext cx="381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6030360" y="3687840"/>
              <a:ext cx="880200" cy="1114560"/>
              <a:chOff x="6030360" y="3687840"/>
              <a:chExt cx="880200" cy="1114560"/>
            </a:xfrm>
          </p:grpSpPr>
          <p:sp>
            <p:nvSpPr>
              <p:cNvPr id="192" name=""/>
              <p:cNvSpPr/>
              <p:nvPr/>
            </p:nvSpPr>
            <p:spPr>
              <a:xfrm>
                <a:off x="6147000" y="368784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7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030360" y="4221000"/>
                <a:ext cx="880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20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064200" y="4221000"/>
                <a:ext cx="838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5" name=""/>
          <p:cNvGrpSpPr/>
          <p:nvPr/>
        </p:nvGrpSpPr>
        <p:grpSpPr>
          <a:xfrm>
            <a:off x="3187800" y="4952880"/>
            <a:ext cx="2808360" cy="1114560"/>
            <a:chOff x="3187800" y="4952880"/>
            <a:chExt cx="2808360" cy="1114560"/>
          </a:xfrm>
        </p:grpSpPr>
        <p:sp>
          <p:nvSpPr>
            <p:cNvPr id="196" name=""/>
            <p:cNvSpPr/>
            <p:nvPr/>
          </p:nvSpPr>
          <p:spPr>
            <a:xfrm>
              <a:off x="3187800" y="5187960"/>
              <a:ext cx="1904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0.375 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5115960" y="4952880"/>
              <a:ext cx="880200" cy="1114560"/>
              <a:chOff x="5115960" y="4952880"/>
              <a:chExt cx="880200" cy="1114560"/>
            </a:xfrm>
          </p:grpSpPr>
          <p:sp>
            <p:nvSpPr>
              <p:cNvPr id="198" name=""/>
              <p:cNvSpPr/>
              <p:nvPr/>
            </p:nvSpPr>
            <p:spPr>
              <a:xfrm>
                <a:off x="5232600" y="495288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7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115960" y="5486040"/>
                <a:ext cx="880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20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149800" y="5486040"/>
                <a:ext cx="838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352680" y="3200400"/>
            <a:ext cx="243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3.17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464832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657600" y="4648320"/>
            <a:ext cx="2895480" cy="1312920"/>
            <a:chOff x="3657600" y="4648320"/>
            <a:chExt cx="2895480" cy="1312920"/>
          </a:xfrm>
        </p:grpSpPr>
        <p:sp>
          <p:nvSpPr>
            <p:cNvPr id="204" name=""/>
            <p:cNvSpPr/>
            <p:nvPr/>
          </p:nvSpPr>
          <p:spPr>
            <a:xfrm>
              <a:off x="3657600" y="502920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267080" y="4648320"/>
              <a:ext cx="22860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Round up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1600200" y="5562720"/>
            <a:ext cx="601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3.2 to nearest ten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590920" y="7002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unding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38080" y="129528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ound 3.175 to the nearest ten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4038480" y="2209680"/>
            <a:ext cx="3505320" cy="1752840"/>
            <a:chOff x="4038480" y="2209680"/>
            <a:chExt cx="3505320" cy="1752840"/>
          </a:xfrm>
        </p:grpSpPr>
        <p:sp>
          <p:nvSpPr>
            <p:cNvPr id="210" name=""/>
            <p:cNvSpPr/>
            <p:nvPr/>
          </p:nvSpPr>
          <p:spPr>
            <a:xfrm>
              <a:off x="4495680" y="2209680"/>
              <a:ext cx="3048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Tenth plac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038480" y="3276720"/>
              <a:ext cx="304920" cy="6858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648320" y="2209680"/>
              <a:ext cx="457200" cy="6858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3" name=""/>
            <p:cNvCxnSpPr>
              <a:stCxn id="212" idx="2"/>
              <a:endCxn id="211" idx="0"/>
            </p:cNvCxnSpPr>
            <p:nvPr/>
          </p:nvCxnSpPr>
          <p:spPr>
            <a:xfrm flipV="1" rot="10800000">
              <a:off x="4190400" y="2551680"/>
              <a:ext cx="457920" cy="7246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14" name=""/>
          <p:cNvGrpSpPr/>
          <p:nvPr/>
        </p:nvGrpSpPr>
        <p:grpSpPr>
          <a:xfrm>
            <a:off x="4267080" y="3276720"/>
            <a:ext cx="2971800" cy="1465200"/>
            <a:chOff x="4267080" y="3276720"/>
            <a:chExt cx="2971800" cy="1465200"/>
          </a:xfrm>
        </p:grpSpPr>
        <p:sp>
          <p:nvSpPr>
            <p:cNvPr id="215" name=""/>
            <p:cNvSpPr/>
            <p:nvPr/>
          </p:nvSpPr>
          <p:spPr>
            <a:xfrm>
              <a:off x="5334120" y="4038480"/>
              <a:ext cx="1904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&gt; = 5 ?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267080" y="3276720"/>
              <a:ext cx="457200" cy="6858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410080" y="4038480"/>
              <a:ext cx="457200" cy="6858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8" name=""/>
            <p:cNvCxnSpPr>
              <a:stCxn id="217" idx="2"/>
              <a:endCxn id="216" idx="4"/>
            </p:cNvCxnSpPr>
            <p:nvPr/>
          </p:nvCxnSpPr>
          <p:spPr>
            <a:xfrm rot="10800000">
              <a:off x="4494960" y="3961800"/>
              <a:ext cx="915120" cy="41976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105440" y="33670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429000" y="1814400"/>
            <a:ext cx="228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123.6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337032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65640" y="2576520"/>
            <a:ext cx="208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234.4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95680" y="1967040"/>
            <a:ext cx="228600" cy="671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416120" y="3367080"/>
            <a:ext cx="3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670560" y="33670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267360" y="33670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4689000" y="1362240"/>
            <a:ext cx="806400" cy="2829960"/>
            <a:chOff x="4689000" y="1362240"/>
            <a:chExt cx="806400" cy="2829960"/>
          </a:xfrm>
        </p:grpSpPr>
        <p:sp>
          <p:nvSpPr>
            <p:cNvPr id="228" name=""/>
            <p:cNvSpPr/>
            <p:nvPr/>
          </p:nvSpPr>
          <p:spPr>
            <a:xfrm>
              <a:off x="4965840" y="336708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ff"/>
                  </a:solidFill>
                  <a:latin typeface="Comic Sans MS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689000" y="13622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164840" y="1371600"/>
            <a:ext cx="955440" cy="2820600"/>
            <a:chOff x="4164840" y="1371600"/>
            <a:chExt cx="955440" cy="2820600"/>
          </a:xfrm>
        </p:grpSpPr>
        <p:sp>
          <p:nvSpPr>
            <p:cNvPr id="231" name=""/>
            <p:cNvSpPr/>
            <p:nvPr/>
          </p:nvSpPr>
          <p:spPr>
            <a:xfrm>
              <a:off x="4590720" y="336708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ff"/>
                  </a:solidFill>
                  <a:latin typeface="Comic Sans MS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164840" y="13716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838080" y="432756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. line up decimal poi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5165640"/>
            <a:ext cx="769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. treat like whole number add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ing &amp; Subtracting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4952880" y="2286000"/>
            <a:ext cx="3200400" cy="24670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grpSp>
        <p:nvGrpSpPr>
          <p:cNvPr id="237" name=""/>
          <p:cNvGrpSpPr/>
          <p:nvPr/>
        </p:nvGrpSpPr>
        <p:grpSpPr>
          <a:xfrm>
            <a:off x="1676520" y="2424240"/>
            <a:ext cx="2286000" cy="1586880"/>
            <a:chOff x="1676520" y="2424240"/>
            <a:chExt cx="2286000" cy="1586880"/>
          </a:xfrm>
        </p:grpSpPr>
        <p:sp>
          <p:nvSpPr>
            <p:cNvPr id="238" name=""/>
            <p:cNvSpPr/>
            <p:nvPr/>
          </p:nvSpPr>
          <p:spPr>
            <a:xfrm>
              <a:off x="2362320" y="2424240"/>
              <a:ext cx="15238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9.82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676520" y="3976560"/>
              <a:ext cx="228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955160" y="3186000"/>
              <a:ext cx="1746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- 3.11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685800" y="493704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.  Line up decimal poi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" y="577548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. Subtract like whole numb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362320" y="3976560"/>
            <a:ext cx="152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6.7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438280" y="1371600"/>
            <a:ext cx="4191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ubtra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ing &amp; Subtracting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365640" y="527220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371600" y="70020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ing/Subtracting Signed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534760" y="1600200"/>
            <a:ext cx="407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+ 0.0037 – 1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62120" y="259092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ubtract smaller absolute value from larg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2819520" y="3657600"/>
            <a:ext cx="2971800" cy="1585440"/>
            <a:chOff x="2819520" y="3657600"/>
            <a:chExt cx="2971800" cy="1585440"/>
          </a:xfrm>
        </p:grpSpPr>
        <p:sp>
          <p:nvSpPr>
            <p:cNvPr id="251" name=""/>
            <p:cNvSpPr/>
            <p:nvPr/>
          </p:nvSpPr>
          <p:spPr>
            <a:xfrm>
              <a:off x="3509280" y="3657600"/>
              <a:ext cx="2088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1.0000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018960" y="4417920"/>
              <a:ext cx="2552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– 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0.0037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819520" y="5241960"/>
              <a:ext cx="2971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5042160" y="527220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715280" y="527220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334040" y="527220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953160" y="527220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0320" y="5272200"/>
            <a:ext cx="3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021120" y="5195880"/>
            <a:ext cx="37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3T23:15:18Z</dcterms:created>
  <dc:creator>Community Campus</dc:creator>
  <dc:description/>
  <dc:language>en-US</dc:language>
  <cp:lastModifiedBy>iddcws</cp:lastModifiedBy>
  <dcterms:modified xsi:type="dcterms:W3CDTF">2003-01-28T18:55:23Z</dcterms:modified>
  <cp:revision>214</cp:revision>
  <dc:subject/>
  <dc:title>PowerPoint Presentation</dc:title>
</cp:coreProperties>
</file>