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7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895480"/>
            <a:ext cx="4419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543800" y="4419720"/>
                <a:ext cx="57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620120" y="1523880"/>
                <a:ext cx="5778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90480" y="5029200"/>
                <a:ext cx="44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070520" y="5029200"/>
                <a:ext cx="393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137200" y="4495680"/>
                <a:ext cx="5778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5029200"/>
                <a:ext cx="44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838080" y="2514600"/>
                <a:ext cx="91944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705720" y="3505320"/>
                <a:ext cx="57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636560" y="1523880"/>
                <a:ext cx="420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914560" y="4495680"/>
                <a:ext cx="65556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14560" y="1600200"/>
                <a:ext cx="393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72000" y="1523880"/>
                <a:ext cx="341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15000" y="1447920"/>
                <a:ext cx="44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7120" y="1600200"/>
                <a:ext cx="44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15238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/6 of an acre of land needs to be divided into thirds. What will be the size of each new land divi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733920" y="3505320"/>
            <a:ext cx="4190040" cy="1600200"/>
            <a:chOff x="3733920" y="3505320"/>
            <a:chExt cx="4190040" cy="1600200"/>
          </a:xfrm>
        </p:grpSpPr>
        <p:sp>
          <p:nvSpPr>
            <p:cNvPr id="330" name=""/>
            <p:cNvSpPr/>
            <p:nvPr/>
          </p:nvSpPr>
          <p:spPr>
            <a:xfrm>
              <a:off x="3733920" y="3962520"/>
              <a:ext cx="781200" cy="685800"/>
            </a:xfrm>
            <a:prstGeom prst="rightArrow">
              <a:avLst>
                <a:gd name="adj1" fmla="val 43269"/>
                <a:gd name="adj2" fmla="val 62350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941000" y="3505320"/>
              <a:ext cx="2982960" cy="1600200"/>
              <a:chOff x="4941000" y="3505320"/>
              <a:chExt cx="2982960" cy="1600200"/>
            </a:xfrm>
          </p:grpSpPr>
          <p:sp>
            <p:nvSpPr>
              <p:cNvPr id="332" name=""/>
              <p:cNvSpPr/>
              <p:nvPr/>
            </p:nvSpPr>
            <p:spPr>
              <a:xfrm>
                <a:off x="4941000" y="3505320"/>
                <a:ext cx="497160" cy="5331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41000" y="403848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38160" y="3505320"/>
                <a:ext cx="496800" cy="5331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38160" y="4038480"/>
                <a:ext cx="49680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35320" y="3505320"/>
                <a:ext cx="497160" cy="5331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935320" y="403848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32480" y="3505320"/>
                <a:ext cx="497160" cy="5331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32480" y="403848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30000" y="3505320"/>
                <a:ext cx="496800" cy="5331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30000" y="4038480"/>
                <a:ext cx="49680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426800" y="3505320"/>
                <a:ext cx="497160" cy="533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26800" y="4038480"/>
                <a:ext cx="497160" cy="533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41000" y="457200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438160" y="4572000"/>
                <a:ext cx="49680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35320" y="457200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32480" y="4572000"/>
                <a:ext cx="49716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0000" y="4572000"/>
                <a:ext cx="496800" cy="53352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26800" y="4572000"/>
                <a:ext cx="497160" cy="533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685800" y="15238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/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an acre of land needs to be divided into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ird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will be the size of each new land divi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5181480"/>
            <a:ext cx="1905120" cy="1801080"/>
            <a:chOff x="5410080" y="5181480"/>
            <a:chExt cx="1905120" cy="1801080"/>
          </a:xfrm>
        </p:grpSpPr>
        <p:grpSp>
          <p:nvGrpSpPr>
            <p:cNvPr id="352" name=""/>
            <p:cNvGrpSpPr/>
            <p:nvPr/>
          </p:nvGrpSpPr>
          <p:grpSpPr>
            <a:xfrm>
              <a:off x="5410080" y="5181480"/>
              <a:ext cx="577800" cy="1252440"/>
              <a:chOff x="5410080" y="5181480"/>
              <a:chExt cx="577800" cy="1252440"/>
            </a:xfrm>
          </p:grpSpPr>
          <p:sp>
            <p:nvSpPr>
              <p:cNvPr id="353" name=""/>
              <p:cNvSpPr/>
              <p:nvPr/>
            </p:nvSpPr>
            <p:spPr>
              <a:xfrm>
                <a:off x="5470200" y="518148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10080" y="57913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39960" y="580716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083280" y="5486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6615000" y="5181480"/>
              <a:ext cx="700200" cy="1801080"/>
              <a:chOff x="6615000" y="5181480"/>
              <a:chExt cx="700200" cy="1801080"/>
            </a:xfrm>
          </p:grpSpPr>
          <p:sp>
            <p:nvSpPr>
              <p:cNvPr id="358" name=""/>
              <p:cNvSpPr/>
              <p:nvPr/>
            </p:nvSpPr>
            <p:spPr>
              <a:xfrm>
                <a:off x="6622920" y="518148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15000" y="5791320"/>
                <a:ext cx="7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45240" y="580716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09480" y="3581280"/>
            <a:ext cx="2895840" cy="1600200"/>
            <a:chOff x="609480" y="3581280"/>
            <a:chExt cx="2895840" cy="1600200"/>
          </a:xfrm>
        </p:grpSpPr>
        <p:sp>
          <p:nvSpPr>
            <p:cNvPr id="363" name=""/>
            <p:cNvSpPr/>
            <p:nvPr/>
          </p:nvSpPr>
          <p:spPr>
            <a:xfrm>
              <a:off x="609480" y="3581280"/>
              <a:ext cx="497160" cy="1600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3581280"/>
              <a:ext cx="457200" cy="160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03400" y="3581280"/>
              <a:ext cx="496800" cy="1600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581280"/>
              <a:ext cx="496800" cy="1600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93760" y="3581280"/>
              <a:ext cx="497160" cy="1600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90920" y="3581280"/>
              <a:ext cx="496800" cy="1600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776160" y="1479600"/>
            <a:ext cx="4329000" cy="2165040"/>
            <a:chOff x="776160" y="1479600"/>
            <a:chExt cx="4329000" cy="2165040"/>
          </a:xfrm>
        </p:grpSpPr>
        <p:sp>
          <p:nvSpPr>
            <p:cNvPr id="370" name=""/>
            <p:cNvSpPr/>
            <p:nvPr/>
          </p:nvSpPr>
          <p:spPr>
            <a:xfrm>
              <a:off x="776160" y="1479600"/>
              <a:ext cx="721440" cy="72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6160" y="2201400"/>
              <a:ext cx="721440" cy="72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97600" y="1479600"/>
              <a:ext cx="721440" cy="72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97600" y="2201400"/>
              <a:ext cx="721440" cy="72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19400" y="1479600"/>
              <a:ext cx="721080" cy="72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19400" y="2201400"/>
              <a:ext cx="721080" cy="72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40480" y="1479600"/>
              <a:ext cx="721440" cy="72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40480" y="2201400"/>
              <a:ext cx="721440" cy="72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62280" y="1479600"/>
              <a:ext cx="721440" cy="72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2280" y="2201400"/>
              <a:ext cx="721440" cy="721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84080" y="1479600"/>
              <a:ext cx="721080" cy="72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84080" y="2201400"/>
              <a:ext cx="721080" cy="72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6160" y="2922840"/>
              <a:ext cx="721440" cy="72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97600" y="2922840"/>
              <a:ext cx="721440" cy="72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9400" y="2922840"/>
              <a:ext cx="721080" cy="72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0480" y="2922840"/>
              <a:ext cx="721440" cy="72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62280" y="2922840"/>
              <a:ext cx="721440" cy="721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4080" y="2922840"/>
              <a:ext cx="721080" cy="72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410080" y="1295280"/>
            <a:ext cx="2755800" cy="1801080"/>
            <a:chOff x="5410080" y="1295280"/>
            <a:chExt cx="2755800" cy="1801080"/>
          </a:xfrm>
        </p:grpSpPr>
        <p:grpSp>
          <p:nvGrpSpPr>
            <p:cNvPr id="389" name=""/>
            <p:cNvGrpSpPr/>
            <p:nvPr/>
          </p:nvGrpSpPr>
          <p:grpSpPr>
            <a:xfrm>
              <a:off x="5410080" y="1295280"/>
              <a:ext cx="577800" cy="1252440"/>
              <a:chOff x="5410080" y="1295280"/>
              <a:chExt cx="577800" cy="1252440"/>
            </a:xfrm>
          </p:grpSpPr>
          <p:sp>
            <p:nvSpPr>
              <p:cNvPr id="390" name=""/>
              <p:cNvSpPr/>
              <p:nvPr/>
            </p:nvSpPr>
            <p:spPr>
              <a:xfrm>
                <a:off x="5470200" y="129528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080" y="19051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39960" y="192096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116040" y="1599840"/>
              <a:ext cx="61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919560" y="1295280"/>
              <a:ext cx="700200" cy="1801080"/>
              <a:chOff x="6919560" y="1295280"/>
              <a:chExt cx="700200" cy="1801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927480" y="129528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919560" y="1905120"/>
                <a:ext cx="700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9800" y="1920960"/>
                <a:ext cx="639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7723080" y="1599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431040" y="2546280"/>
            <a:ext cx="699840" cy="1801080"/>
            <a:chOff x="6431040" y="2546280"/>
            <a:chExt cx="699840" cy="1801080"/>
          </a:xfrm>
        </p:grpSpPr>
        <p:sp>
          <p:nvSpPr>
            <p:cNvPr id="400" name=""/>
            <p:cNvSpPr/>
            <p:nvPr/>
          </p:nvSpPr>
          <p:spPr>
            <a:xfrm>
              <a:off x="6438600" y="2546280"/>
              <a:ext cx="6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31040" y="3156120"/>
              <a:ext cx="69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60920" y="3171960"/>
              <a:ext cx="63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505320" y="3701880"/>
            <a:ext cx="2165400" cy="1252440"/>
            <a:chOff x="3505320" y="3701880"/>
            <a:chExt cx="2165400" cy="1252440"/>
          </a:xfrm>
        </p:grpSpPr>
        <p:grpSp>
          <p:nvGrpSpPr>
            <p:cNvPr id="404" name=""/>
            <p:cNvGrpSpPr/>
            <p:nvPr/>
          </p:nvGrpSpPr>
          <p:grpSpPr>
            <a:xfrm>
              <a:off x="3505320" y="3701880"/>
              <a:ext cx="577800" cy="1252440"/>
              <a:chOff x="3505320" y="3701880"/>
              <a:chExt cx="577800" cy="1252440"/>
            </a:xfrm>
          </p:grpSpPr>
          <p:sp>
            <p:nvSpPr>
              <p:cNvPr id="405" name=""/>
              <p:cNvSpPr/>
              <p:nvPr/>
            </p:nvSpPr>
            <p:spPr>
              <a:xfrm>
                <a:off x="3565440" y="370188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505320" y="43117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35200" y="432756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211280" y="4006800"/>
              <a:ext cx="61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015160" y="3701880"/>
              <a:ext cx="655560" cy="1252440"/>
              <a:chOff x="5015160" y="3701880"/>
              <a:chExt cx="655560" cy="1252440"/>
            </a:xfrm>
          </p:grpSpPr>
          <p:sp>
            <p:nvSpPr>
              <p:cNvPr id="410" name=""/>
              <p:cNvSpPr/>
              <p:nvPr/>
            </p:nvSpPr>
            <p:spPr>
              <a:xfrm>
                <a:off x="5019840" y="370188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15160" y="4311720"/>
                <a:ext cx="65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31000" y="432756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2057400" y="4952880"/>
            <a:ext cx="1828800" cy="1252440"/>
            <a:chOff x="2057400" y="4952880"/>
            <a:chExt cx="1828800" cy="1252440"/>
          </a:xfrm>
        </p:grpSpPr>
        <p:grpSp>
          <p:nvGrpSpPr>
            <p:cNvPr id="414" name=""/>
            <p:cNvGrpSpPr/>
            <p:nvPr/>
          </p:nvGrpSpPr>
          <p:grpSpPr>
            <a:xfrm>
              <a:off x="2057400" y="4952880"/>
              <a:ext cx="577800" cy="1252440"/>
              <a:chOff x="2057400" y="4952880"/>
              <a:chExt cx="577800" cy="1252440"/>
            </a:xfrm>
          </p:grpSpPr>
          <p:sp>
            <p:nvSpPr>
              <p:cNvPr id="415" name=""/>
              <p:cNvSpPr/>
              <p:nvPr/>
            </p:nvSpPr>
            <p:spPr>
              <a:xfrm>
                <a:off x="2117520" y="495288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057400" y="556272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087280" y="557856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2747520" y="52578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230640" y="4952880"/>
              <a:ext cx="655560" cy="1252440"/>
              <a:chOff x="3230640" y="4952880"/>
              <a:chExt cx="655560" cy="1252440"/>
            </a:xfrm>
          </p:grpSpPr>
          <p:sp>
            <p:nvSpPr>
              <p:cNvPr id="420" name=""/>
              <p:cNvSpPr/>
              <p:nvPr/>
            </p:nvSpPr>
            <p:spPr>
              <a:xfrm>
                <a:off x="3235320" y="495288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30640" y="5562720"/>
                <a:ext cx="65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46480" y="557856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3989520" y="4952880"/>
            <a:ext cx="1755720" cy="1252080"/>
            <a:chOff x="3989520" y="4952880"/>
            <a:chExt cx="1755720" cy="1252080"/>
          </a:xfrm>
        </p:grpSpPr>
        <p:sp>
          <p:nvSpPr>
            <p:cNvPr id="424" name=""/>
            <p:cNvSpPr/>
            <p:nvPr/>
          </p:nvSpPr>
          <p:spPr>
            <a:xfrm>
              <a:off x="3989520" y="5257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525920" y="4952880"/>
              <a:ext cx="1219320" cy="1252080"/>
              <a:chOff x="4525920" y="4952880"/>
              <a:chExt cx="1219320" cy="1252080"/>
            </a:xfrm>
          </p:grpSpPr>
          <p:sp>
            <p:nvSpPr>
              <p:cNvPr id="426" name=""/>
              <p:cNvSpPr/>
              <p:nvPr/>
            </p:nvSpPr>
            <p:spPr>
              <a:xfrm>
                <a:off x="4529160" y="4952880"/>
                <a:ext cx="121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5920" y="556236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 </a:t>
                </a:r>
                <a:r>
                  <a:rPr b="0" lang="en-US" sz="36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4200" y="5578560"/>
                <a:ext cx="120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5854680" y="4952880"/>
            <a:ext cx="1231920" cy="1801080"/>
            <a:chOff x="5854680" y="4952880"/>
            <a:chExt cx="1231920" cy="1801080"/>
          </a:xfrm>
        </p:grpSpPr>
        <p:sp>
          <p:nvSpPr>
            <p:cNvPr id="430" name=""/>
            <p:cNvSpPr/>
            <p:nvPr/>
          </p:nvSpPr>
          <p:spPr>
            <a:xfrm>
              <a:off x="5854680" y="5257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400800" y="4952880"/>
              <a:ext cx="685800" cy="1801080"/>
              <a:chOff x="6400800" y="4952880"/>
              <a:chExt cx="685800" cy="1801080"/>
            </a:xfrm>
          </p:grpSpPr>
          <p:sp>
            <p:nvSpPr>
              <p:cNvPr id="432" name=""/>
              <p:cNvSpPr/>
              <p:nvPr/>
            </p:nvSpPr>
            <p:spPr>
              <a:xfrm>
                <a:off x="6419880" y="49528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00800" y="5562720"/>
                <a:ext cx="685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31040" y="5578560"/>
                <a:ext cx="625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276720" y="1600200"/>
            <a:ext cx="25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438280" y="2482920"/>
            <a:ext cx="2374920" cy="1252440"/>
            <a:chOff x="2438280" y="2482920"/>
            <a:chExt cx="2374920" cy="1252440"/>
          </a:xfrm>
        </p:grpSpPr>
        <p:grpSp>
          <p:nvGrpSpPr>
            <p:cNvPr id="438" name=""/>
            <p:cNvGrpSpPr/>
            <p:nvPr/>
          </p:nvGrpSpPr>
          <p:grpSpPr>
            <a:xfrm>
              <a:off x="2438280" y="2482920"/>
              <a:ext cx="577800" cy="1252440"/>
              <a:chOff x="2438280" y="2482920"/>
              <a:chExt cx="577800" cy="1252440"/>
            </a:xfrm>
          </p:grpSpPr>
          <p:sp>
            <p:nvSpPr>
              <p:cNvPr id="439" name=""/>
              <p:cNvSpPr/>
              <p:nvPr/>
            </p:nvSpPr>
            <p:spPr>
              <a:xfrm>
                <a:off x="2498400" y="24829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438280" y="3092760"/>
                <a:ext cx="57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468160" y="3108600"/>
                <a:ext cx="51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3128760" y="27874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611520" y="2482920"/>
              <a:ext cx="655560" cy="1252440"/>
              <a:chOff x="3611520" y="2482920"/>
              <a:chExt cx="655560" cy="1252440"/>
            </a:xfrm>
          </p:grpSpPr>
          <p:sp>
            <p:nvSpPr>
              <p:cNvPr id="444" name=""/>
              <p:cNvSpPr/>
              <p:nvPr/>
            </p:nvSpPr>
            <p:spPr>
              <a:xfrm>
                <a:off x="3616200" y="248292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11520" y="3092760"/>
                <a:ext cx="65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7360" y="310860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437040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906800" y="2482920"/>
            <a:ext cx="1771920" cy="1252080"/>
            <a:chOff x="4906800" y="2482920"/>
            <a:chExt cx="1771920" cy="1252080"/>
          </a:xfrm>
        </p:grpSpPr>
        <p:grpSp>
          <p:nvGrpSpPr>
            <p:cNvPr id="449" name=""/>
            <p:cNvGrpSpPr/>
            <p:nvPr/>
          </p:nvGrpSpPr>
          <p:grpSpPr>
            <a:xfrm>
              <a:off x="4906800" y="2482920"/>
              <a:ext cx="1219320" cy="1252080"/>
              <a:chOff x="4906800" y="2482920"/>
              <a:chExt cx="1219320" cy="1252080"/>
            </a:xfrm>
          </p:grpSpPr>
          <p:sp>
            <p:nvSpPr>
              <p:cNvPr id="450" name=""/>
              <p:cNvSpPr/>
              <p:nvPr/>
            </p:nvSpPr>
            <p:spPr>
              <a:xfrm>
                <a:off x="4910040" y="2482920"/>
                <a:ext cx="121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 •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06800" y="3092400"/>
                <a:ext cx="121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 •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15080" y="3108600"/>
                <a:ext cx="120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623592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152880" y="4311720"/>
            <a:ext cx="876240" cy="1252080"/>
            <a:chOff x="3152880" y="4311720"/>
            <a:chExt cx="876240" cy="1252080"/>
          </a:xfrm>
        </p:grpSpPr>
        <p:sp>
          <p:nvSpPr>
            <p:cNvPr id="455" name=""/>
            <p:cNvSpPr/>
            <p:nvPr/>
          </p:nvSpPr>
          <p:spPr>
            <a:xfrm>
              <a:off x="3281400" y="4311720"/>
              <a:ext cx="61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52880" y="4921200"/>
              <a:ext cx="8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8160" y="4937040"/>
              <a:ext cx="6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870360" y="4311720"/>
            <a:ext cx="1325520" cy="1800720"/>
            <a:chOff x="3870360" y="4311720"/>
            <a:chExt cx="1325520" cy="1800720"/>
          </a:xfrm>
        </p:grpSpPr>
        <p:sp>
          <p:nvSpPr>
            <p:cNvPr id="459" name=""/>
            <p:cNvSpPr/>
            <p:nvPr/>
          </p:nvSpPr>
          <p:spPr>
            <a:xfrm>
              <a:off x="3870360" y="4311720"/>
              <a:ext cx="92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8280" y="4921200"/>
              <a:ext cx="92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53080" y="4616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195880" y="4311720"/>
            <a:ext cx="824040" cy="1252080"/>
            <a:chOff x="5195880" y="4311720"/>
            <a:chExt cx="824040" cy="1252080"/>
          </a:xfrm>
        </p:grpSpPr>
        <p:sp>
          <p:nvSpPr>
            <p:cNvPr id="463" name=""/>
            <p:cNvSpPr/>
            <p:nvPr/>
          </p:nvSpPr>
          <p:spPr>
            <a:xfrm>
              <a:off x="5299200" y="4311720"/>
              <a:ext cx="61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95880" y="4921200"/>
              <a:ext cx="82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94160" y="4937040"/>
              <a:ext cx="625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28840" y="1600200"/>
            <a:ext cx="271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thod 2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24080" y="4311720"/>
            <a:ext cx="1877760" cy="1252080"/>
            <a:chOff x="3124080" y="4311720"/>
            <a:chExt cx="1877760" cy="1252080"/>
          </a:xfrm>
        </p:grpSpPr>
        <p:grpSp>
          <p:nvGrpSpPr>
            <p:cNvPr id="469" name=""/>
            <p:cNvGrpSpPr/>
            <p:nvPr/>
          </p:nvGrpSpPr>
          <p:grpSpPr>
            <a:xfrm>
              <a:off x="3124080" y="4311720"/>
              <a:ext cx="1295280" cy="1252080"/>
              <a:chOff x="3124080" y="4311720"/>
              <a:chExt cx="1295280" cy="1252080"/>
            </a:xfrm>
          </p:grpSpPr>
          <p:sp>
            <p:nvSpPr>
              <p:cNvPr id="470" name=""/>
              <p:cNvSpPr/>
              <p:nvPr/>
            </p:nvSpPr>
            <p:spPr>
              <a:xfrm>
                <a:off x="3188880" y="4311720"/>
                <a:ext cx="1166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•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24080" y="4921200"/>
                <a:ext cx="129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 •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87440" y="4937040"/>
                <a:ext cx="116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4559040" y="46162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119560" y="4311720"/>
            <a:ext cx="824040" cy="1252080"/>
            <a:chOff x="5119560" y="4311720"/>
            <a:chExt cx="824040" cy="1252080"/>
          </a:xfrm>
        </p:grpSpPr>
        <p:sp>
          <p:nvSpPr>
            <p:cNvPr id="475" name=""/>
            <p:cNvSpPr/>
            <p:nvPr/>
          </p:nvSpPr>
          <p:spPr>
            <a:xfrm>
              <a:off x="5222880" y="4311720"/>
              <a:ext cx="61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19560" y="4921200"/>
              <a:ext cx="82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18200" y="4937040"/>
              <a:ext cx="625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133720" y="2482920"/>
            <a:ext cx="2374560" cy="1252440"/>
            <a:chOff x="2133720" y="2482920"/>
            <a:chExt cx="2374560" cy="1252440"/>
          </a:xfrm>
        </p:grpSpPr>
        <p:grpSp>
          <p:nvGrpSpPr>
            <p:cNvPr id="479" name=""/>
            <p:cNvGrpSpPr/>
            <p:nvPr/>
          </p:nvGrpSpPr>
          <p:grpSpPr>
            <a:xfrm>
              <a:off x="2133720" y="2482920"/>
              <a:ext cx="577440" cy="1252440"/>
              <a:chOff x="2133720" y="2482920"/>
              <a:chExt cx="577440" cy="1252440"/>
            </a:xfrm>
          </p:grpSpPr>
          <p:sp>
            <p:nvSpPr>
              <p:cNvPr id="480" name=""/>
              <p:cNvSpPr/>
              <p:nvPr/>
            </p:nvSpPr>
            <p:spPr>
              <a:xfrm>
                <a:off x="2193480" y="2482920"/>
                <a:ext cx="45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33720" y="3092760"/>
                <a:ext cx="577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63240" y="3108600"/>
                <a:ext cx="51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2823480" y="27874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306600" y="2482920"/>
              <a:ext cx="655200" cy="1252440"/>
              <a:chOff x="3306600" y="2482920"/>
              <a:chExt cx="655200" cy="1252440"/>
            </a:xfrm>
          </p:grpSpPr>
          <p:sp>
            <p:nvSpPr>
              <p:cNvPr id="485" name=""/>
              <p:cNvSpPr/>
              <p:nvPr/>
            </p:nvSpPr>
            <p:spPr>
              <a:xfrm>
                <a:off x="3310920" y="248292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306600" y="3092760"/>
                <a:ext cx="65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22080" y="310860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406548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393440" y="2254320"/>
            <a:ext cx="2629440" cy="1740960"/>
            <a:chOff x="4393440" y="2254320"/>
            <a:chExt cx="2629440" cy="1740960"/>
          </a:xfrm>
        </p:grpSpPr>
        <p:grpSp>
          <p:nvGrpSpPr>
            <p:cNvPr id="490" name=""/>
            <p:cNvGrpSpPr/>
            <p:nvPr/>
          </p:nvGrpSpPr>
          <p:grpSpPr>
            <a:xfrm>
              <a:off x="4648320" y="2482920"/>
              <a:ext cx="2374560" cy="1252440"/>
              <a:chOff x="4648320" y="2482920"/>
              <a:chExt cx="2374560" cy="12524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4648320" y="2482920"/>
                <a:ext cx="577440" cy="1252440"/>
                <a:chOff x="4648320" y="2482920"/>
                <a:chExt cx="577440" cy="12524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708080" y="2482920"/>
                  <a:ext cx="456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648320" y="3092760"/>
                  <a:ext cx="577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77840" y="3108600"/>
                  <a:ext cx="517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5338080" y="278748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5821200" y="2482920"/>
                <a:ext cx="655200" cy="1252440"/>
                <a:chOff x="5821200" y="2482920"/>
                <a:chExt cx="655200" cy="12524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5825520" y="2482920"/>
                  <a:ext cx="647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821200" y="3092760"/>
                  <a:ext cx="655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36680" y="3108600"/>
                  <a:ext cx="625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6580080" y="2787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flipV="1">
              <a:off x="4648320" y="259092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867280" y="327672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93440" y="2254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58600" y="3352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1981080" y="2095560"/>
            <a:ext cx="2513160" cy="1800720"/>
            <a:chOff x="1981080" y="2095560"/>
            <a:chExt cx="2513160" cy="1800720"/>
          </a:xfrm>
        </p:grpSpPr>
        <p:grpSp>
          <p:nvGrpSpPr>
            <p:cNvPr id="507" name=""/>
            <p:cNvGrpSpPr/>
            <p:nvPr/>
          </p:nvGrpSpPr>
          <p:grpSpPr>
            <a:xfrm>
              <a:off x="1981080" y="2095560"/>
              <a:ext cx="669960" cy="1800720"/>
              <a:chOff x="1981080" y="2095560"/>
              <a:chExt cx="669960" cy="1800720"/>
            </a:xfrm>
          </p:grpSpPr>
          <p:sp>
            <p:nvSpPr>
              <p:cNvPr id="508" name=""/>
              <p:cNvSpPr/>
              <p:nvPr/>
            </p:nvSpPr>
            <p:spPr>
              <a:xfrm>
                <a:off x="2087280" y="20955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81080" y="2705040"/>
                <a:ext cx="66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20680" y="272088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2809440" y="24001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166920" y="2095560"/>
              <a:ext cx="781200" cy="1252080"/>
              <a:chOff x="3166920" y="2095560"/>
              <a:chExt cx="781200" cy="1252080"/>
            </a:xfrm>
          </p:grpSpPr>
          <p:sp>
            <p:nvSpPr>
              <p:cNvPr id="513" name=""/>
              <p:cNvSpPr/>
              <p:nvPr/>
            </p:nvSpPr>
            <p:spPr>
              <a:xfrm>
                <a:off x="3233520" y="20955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166920" y="2705040"/>
                <a:ext cx="7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44680" y="272088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4051440" y="2400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603680" y="2095560"/>
            <a:ext cx="2512800" cy="1800720"/>
            <a:chOff x="4603680" y="2095560"/>
            <a:chExt cx="2512800" cy="1800720"/>
          </a:xfrm>
        </p:grpSpPr>
        <p:grpSp>
          <p:nvGrpSpPr>
            <p:cNvPr id="518" name=""/>
            <p:cNvGrpSpPr/>
            <p:nvPr/>
          </p:nvGrpSpPr>
          <p:grpSpPr>
            <a:xfrm>
              <a:off x="4603680" y="2095560"/>
              <a:ext cx="669960" cy="1800720"/>
              <a:chOff x="4603680" y="2095560"/>
              <a:chExt cx="669960" cy="1800720"/>
            </a:xfrm>
          </p:grpSpPr>
          <p:sp>
            <p:nvSpPr>
              <p:cNvPr id="519" name=""/>
              <p:cNvSpPr/>
              <p:nvPr/>
            </p:nvSpPr>
            <p:spPr>
              <a:xfrm>
                <a:off x="4709880" y="20955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03680" y="2705040"/>
                <a:ext cx="66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43280" y="272088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5432040" y="24001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5789520" y="2095560"/>
              <a:ext cx="780840" cy="1252080"/>
              <a:chOff x="5789520" y="2095560"/>
              <a:chExt cx="780840" cy="1252080"/>
            </a:xfrm>
          </p:grpSpPr>
          <p:sp>
            <p:nvSpPr>
              <p:cNvPr id="524" name=""/>
              <p:cNvSpPr/>
              <p:nvPr/>
            </p:nvSpPr>
            <p:spPr>
              <a:xfrm>
                <a:off x="5856120" y="20955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89520" y="2705040"/>
                <a:ext cx="78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7280" y="272088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673680" y="2400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355640" y="1752480"/>
            <a:ext cx="2444400" cy="1908000"/>
            <a:chOff x="4355640" y="1752480"/>
            <a:chExt cx="2444400" cy="1908000"/>
          </a:xfrm>
        </p:grpSpPr>
        <p:sp>
          <p:nvSpPr>
            <p:cNvPr id="529" name=""/>
            <p:cNvSpPr/>
            <p:nvPr/>
          </p:nvSpPr>
          <p:spPr>
            <a:xfrm flipV="1">
              <a:off x="4672080" y="227916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877000" y="288936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355640" y="1752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57240" y="3017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353840" y="1752480"/>
            <a:ext cx="2458080" cy="1908000"/>
            <a:chOff x="4353840" y="1752480"/>
            <a:chExt cx="2458080" cy="1908000"/>
          </a:xfrm>
        </p:grpSpPr>
        <p:sp>
          <p:nvSpPr>
            <p:cNvPr id="534" name=""/>
            <p:cNvSpPr/>
            <p:nvPr/>
          </p:nvSpPr>
          <p:spPr>
            <a:xfrm flipV="1">
              <a:off x="4672080" y="288936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5877000" y="227916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48240" y="1752480"/>
              <a:ext cx="4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3840" y="3017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162400" y="4387680"/>
            <a:ext cx="781200" cy="1252080"/>
            <a:chOff x="5162400" y="4387680"/>
            <a:chExt cx="781200" cy="1252080"/>
          </a:xfrm>
        </p:grpSpPr>
        <p:sp>
          <p:nvSpPr>
            <p:cNvPr id="539" name=""/>
            <p:cNvSpPr/>
            <p:nvPr/>
          </p:nvSpPr>
          <p:spPr>
            <a:xfrm>
              <a:off x="5229360" y="43876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62400" y="4997160"/>
              <a:ext cx="7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40160" y="5013360"/>
              <a:ext cx="625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147840" y="4387680"/>
            <a:ext cx="1860480" cy="1252080"/>
            <a:chOff x="3147840" y="4387680"/>
            <a:chExt cx="1860480" cy="1252080"/>
          </a:xfrm>
        </p:grpSpPr>
        <p:grpSp>
          <p:nvGrpSpPr>
            <p:cNvPr id="543" name=""/>
            <p:cNvGrpSpPr/>
            <p:nvPr/>
          </p:nvGrpSpPr>
          <p:grpSpPr>
            <a:xfrm>
              <a:off x="3147840" y="4387680"/>
              <a:ext cx="1252440" cy="1252080"/>
              <a:chOff x="3147840" y="4387680"/>
              <a:chExt cx="1252440" cy="1252080"/>
            </a:xfrm>
          </p:grpSpPr>
          <p:sp>
            <p:nvSpPr>
              <p:cNvPr id="544" name=""/>
              <p:cNvSpPr/>
              <p:nvPr/>
            </p:nvSpPr>
            <p:spPr>
              <a:xfrm>
                <a:off x="3195360" y="4387680"/>
                <a:ext cx="115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•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147840" y="4997160"/>
                <a:ext cx="125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 •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3201480" y="4996800"/>
                <a:ext cx="1146240" cy="1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4565520" y="469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1981080" y="2095560"/>
            <a:ext cx="2513160" cy="1800720"/>
            <a:chOff x="1981080" y="2095560"/>
            <a:chExt cx="2513160" cy="1800720"/>
          </a:xfrm>
        </p:grpSpPr>
        <p:grpSp>
          <p:nvGrpSpPr>
            <p:cNvPr id="550" name=""/>
            <p:cNvGrpSpPr/>
            <p:nvPr/>
          </p:nvGrpSpPr>
          <p:grpSpPr>
            <a:xfrm>
              <a:off x="1981080" y="2095560"/>
              <a:ext cx="669960" cy="1800720"/>
              <a:chOff x="1981080" y="2095560"/>
              <a:chExt cx="669960" cy="1800720"/>
            </a:xfrm>
          </p:grpSpPr>
          <p:sp>
            <p:nvSpPr>
              <p:cNvPr id="551" name=""/>
              <p:cNvSpPr/>
              <p:nvPr/>
            </p:nvSpPr>
            <p:spPr>
              <a:xfrm>
                <a:off x="2087280" y="20955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981080" y="2705040"/>
                <a:ext cx="66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020680" y="272088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2809440" y="24001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3166920" y="2095560"/>
              <a:ext cx="781200" cy="1252080"/>
              <a:chOff x="3166920" y="2095560"/>
              <a:chExt cx="781200" cy="1252080"/>
            </a:xfrm>
          </p:grpSpPr>
          <p:sp>
            <p:nvSpPr>
              <p:cNvPr id="556" name=""/>
              <p:cNvSpPr/>
              <p:nvPr/>
            </p:nvSpPr>
            <p:spPr>
              <a:xfrm>
                <a:off x="3233520" y="209556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166920" y="2705040"/>
                <a:ext cx="7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44680" y="272088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4051440" y="2400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603680" y="2095560"/>
            <a:ext cx="2303640" cy="1252080"/>
            <a:chOff x="4603680" y="2095560"/>
            <a:chExt cx="2303640" cy="1252080"/>
          </a:xfrm>
        </p:grpSpPr>
        <p:grpSp>
          <p:nvGrpSpPr>
            <p:cNvPr id="561" name=""/>
            <p:cNvGrpSpPr/>
            <p:nvPr/>
          </p:nvGrpSpPr>
          <p:grpSpPr>
            <a:xfrm>
              <a:off x="4603680" y="2095560"/>
              <a:ext cx="1796400" cy="1252080"/>
              <a:chOff x="4603680" y="2095560"/>
              <a:chExt cx="1796400" cy="1252080"/>
            </a:xfrm>
          </p:grpSpPr>
          <p:sp>
            <p:nvSpPr>
              <p:cNvPr id="562" name=""/>
              <p:cNvSpPr/>
              <p:nvPr/>
            </p:nvSpPr>
            <p:spPr>
              <a:xfrm>
                <a:off x="4888440" y="2095560"/>
                <a:ext cx="122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• 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03680" y="2705040"/>
                <a:ext cx="1796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 •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09520" y="2720880"/>
                <a:ext cx="158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6464520" y="24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802880" y="1752480"/>
            <a:ext cx="2377800" cy="1908000"/>
            <a:chOff x="1802880" y="1752480"/>
            <a:chExt cx="2377800" cy="1908000"/>
          </a:xfrm>
        </p:grpSpPr>
        <p:sp>
          <p:nvSpPr>
            <p:cNvPr id="567" name=""/>
            <p:cNvSpPr/>
            <p:nvPr/>
          </p:nvSpPr>
          <p:spPr>
            <a:xfrm flipV="1">
              <a:off x="2050920" y="2279160"/>
              <a:ext cx="57816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3255840" y="288936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02880" y="1752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7880" y="3017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238720" y="3778200"/>
            <a:ext cx="781200" cy="1252080"/>
            <a:chOff x="5238720" y="3778200"/>
            <a:chExt cx="781200" cy="1252080"/>
          </a:xfrm>
        </p:grpSpPr>
        <p:sp>
          <p:nvSpPr>
            <p:cNvPr id="572" name=""/>
            <p:cNvSpPr/>
            <p:nvPr/>
          </p:nvSpPr>
          <p:spPr>
            <a:xfrm>
              <a:off x="5305320" y="377820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38720" y="4387680"/>
              <a:ext cx="7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16480" y="4403880"/>
              <a:ext cx="6256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71880" y="3778200"/>
            <a:ext cx="743040" cy="1252080"/>
            <a:chOff x="3071880" y="3778200"/>
            <a:chExt cx="743040" cy="1252080"/>
          </a:xfrm>
        </p:grpSpPr>
        <p:sp>
          <p:nvSpPr>
            <p:cNvPr id="576" name=""/>
            <p:cNvSpPr/>
            <p:nvPr/>
          </p:nvSpPr>
          <p:spPr>
            <a:xfrm>
              <a:off x="3100680" y="3778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71880" y="4387680"/>
              <a:ext cx="7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103920" y="4387320"/>
              <a:ext cx="679320" cy="1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794040" y="3778200"/>
            <a:ext cx="1325520" cy="1800720"/>
            <a:chOff x="3794040" y="3778200"/>
            <a:chExt cx="1325520" cy="1800720"/>
          </a:xfrm>
        </p:grpSpPr>
        <p:sp>
          <p:nvSpPr>
            <p:cNvPr id="580" name=""/>
            <p:cNvSpPr/>
            <p:nvPr/>
          </p:nvSpPr>
          <p:spPr>
            <a:xfrm>
              <a:off x="3794040" y="3778200"/>
              <a:ext cx="92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1960" y="4387680"/>
              <a:ext cx="92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76760" y="4082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1874880" y="2095560"/>
            <a:ext cx="2670120" cy="1800720"/>
            <a:chOff x="1874880" y="2095560"/>
            <a:chExt cx="2670120" cy="1800720"/>
          </a:xfrm>
        </p:grpSpPr>
        <p:grpSp>
          <p:nvGrpSpPr>
            <p:cNvPr id="585" name=""/>
            <p:cNvGrpSpPr/>
            <p:nvPr/>
          </p:nvGrpSpPr>
          <p:grpSpPr>
            <a:xfrm>
              <a:off x="1874880" y="2095560"/>
              <a:ext cx="792000" cy="1800720"/>
              <a:chOff x="1874880" y="2095560"/>
              <a:chExt cx="792000" cy="1800720"/>
            </a:xfrm>
          </p:grpSpPr>
          <p:sp>
            <p:nvSpPr>
              <p:cNvPr id="586" name=""/>
              <p:cNvSpPr/>
              <p:nvPr/>
            </p:nvSpPr>
            <p:spPr>
              <a:xfrm>
                <a:off x="1874880" y="209556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36800" y="2705040"/>
                <a:ext cx="66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74960" y="272088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2690640" y="24004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3124080" y="2095560"/>
              <a:ext cx="897120" cy="1252080"/>
              <a:chOff x="3124080" y="2095560"/>
              <a:chExt cx="897120" cy="1252080"/>
            </a:xfrm>
          </p:grpSpPr>
          <p:sp>
            <p:nvSpPr>
              <p:cNvPr id="591" name=""/>
              <p:cNvSpPr/>
              <p:nvPr/>
            </p:nvSpPr>
            <p:spPr>
              <a:xfrm>
                <a:off x="3247920" y="209556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24080" y="2705040"/>
                <a:ext cx="89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92480" y="27208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102200" y="24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572000" y="2101680"/>
            <a:ext cx="2670120" cy="1800720"/>
            <a:chOff x="4572000" y="2101680"/>
            <a:chExt cx="2670120" cy="1800720"/>
          </a:xfrm>
        </p:grpSpPr>
        <p:grpSp>
          <p:nvGrpSpPr>
            <p:cNvPr id="596" name=""/>
            <p:cNvGrpSpPr/>
            <p:nvPr/>
          </p:nvGrpSpPr>
          <p:grpSpPr>
            <a:xfrm>
              <a:off x="4572000" y="2101680"/>
              <a:ext cx="792000" cy="1800720"/>
              <a:chOff x="4572000" y="2101680"/>
              <a:chExt cx="792000" cy="1800720"/>
            </a:xfrm>
          </p:grpSpPr>
          <p:sp>
            <p:nvSpPr>
              <p:cNvPr id="597" name=""/>
              <p:cNvSpPr/>
              <p:nvPr/>
            </p:nvSpPr>
            <p:spPr>
              <a:xfrm>
                <a:off x="4572000" y="21016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33920" y="2711160"/>
                <a:ext cx="66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72080" y="272700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387760" y="240660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5821200" y="2101680"/>
              <a:ext cx="897120" cy="1252080"/>
              <a:chOff x="5821200" y="2101680"/>
              <a:chExt cx="897120" cy="1252080"/>
            </a:xfrm>
          </p:grpSpPr>
          <p:sp>
            <p:nvSpPr>
              <p:cNvPr id="602" name=""/>
              <p:cNvSpPr/>
              <p:nvPr/>
            </p:nvSpPr>
            <p:spPr>
              <a:xfrm>
                <a:off x="5945040" y="210168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21200" y="2711160"/>
                <a:ext cx="897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1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89600" y="272700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6799320" y="2406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262400" y="1752480"/>
            <a:ext cx="2684520" cy="1908000"/>
            <a:chOff x="4262400" y="1752480"/>
            <a:chExt cx="2684520" cy="1908000"/>
          </a:xfrm>
        </p:grpSpPr>
        <p:sp>
          <p:nvSpPr>
            <p:cNvPr id="607" name=""/>
            <p:cNvSpPr/>
            <p:nvPr/>
          </p:nvSpPr>
          <p:spPr>
            <a:xfrm flipV="1">
              <a:off x="4748040" y="2279160"/>
              <a:ext cx="57816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52960" y="2889360"/>
              <a:ext cx="57816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2400" y="175248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56160" y="301788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-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336200" y="1752480"/>
            <a:ext cx="2547360" cy="1908000"/>
            <a:chOff x="4336200" y="1752480"/>
            <a:chExt cx="2547360" cy="1908000"/>
          </a:xfrm>
        </p:grpSpPr>
        <p:sp>
          <p:nvSpPr>
            <p:cNvPr id="612" name=""/>
            <p:cNvSpPr/>
            <p:nvPr/>
          </p:nvSpPr>
          <p:spPr>
            <a:xfrm flipV="1">
              <a:off x="4748040" y="2889360"/>
              <a:ext cx="57816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952960" y="2279160"/>
              <a:ext cx="57816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419880" y="1752480"/>
              <a:ext cx="4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36200" y="30178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209680" y="3778200"/>
            <a:ext cx="2046240" cy="1252080"/>
            <a:chOff x="2209680" y="3778200"/>
            <a:chExt cx="2046240" cy="1252080"/>
          </a:xfrm>
        </p:grpSpPr>
        <p:grpSp>
          <p:nvGrpSpPr>
            <p:cNvPr id="617" name=""/>
            <p:cNvGrpSpPr/>
            <p:nvPr/>
          </p:nvGrpSpPr>
          <p:grpSpPr>
            <a:xfrm>
              <a:off x="2209680" y="3778200"/>
              <a:ext cx="1460520" cy="1252080"/>
              <a:chOff x="2209680" y="3778200"/>
              <a:chExt cx="1460520" cy="1252080"/>
            </a:xfrm>
          </p:grpSpPr>
          <p:sp>
            <p:nvSpPr>
              <p:cNvPr id="618" name=""/>
              <p:cNvSpPr/>
              <p:nvPr/>
            </p:nvSpPr>
            <p:spPr>
              <a:xfrm>
                <a:off x="2224080" y="3778200"/>
                <a:ext cx="1431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1 •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209680" y="4387680"/>
                <a:ext cx="14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 • -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2225520" y="4387320"/>
                <a:ext cx="1428840" cy="16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3813120" y="4083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413240" y="3778200"/>
            <a:ext cx="1543320" cy="1252080"/>
            <a:chOff x="4413240" y="3778200"/>
            <a:chExt cx="1543320" cy="1252080"/>
          </a:xfrm>
        </p:grpSpPr>
        <p:grpSp>
          <p:nvGrpSpPr>
            <p:cNvPr id="623" name=""/>
            <p:cNvGrpSpPr/>
            <p:nvPr/>
          </p:nvGrpSpPr>
          <p:grpSpPr>
            <a:xfrm>
              <a:off x="4413240" y="3778200"/>
              <a:ext cx="989280" cy="1252080"/>
              <a:chOff x="4413240" y="3778200"/>
              <a:chExt cx="989280" cy="1252080"/>
            </a:xfrm>
          </p:grpSpPr>
          <p:sp>
            <p:nvSpPr>
              <p:cNvPr id="624" name=""/>
              <p:cNvSpPr/>
              <p:nvPr/>
            </p:nvSpPr>
            <p:spPr>
              <a:xfrm>
                <a:off x="4570560" y="3778200"/>
                <a:ext cx="67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13240" y="4387680"/>
                <a:ext cx="98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64000" y="4387680"/>
                <a:ext cx="88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513760" y="4083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6143760" y="3778200"/>
            <a:ext cx="790560" cy="1252080"/>
            <a:chOff x="6143760" y="3778200"/>
            <a:chExt cx="790560" cy="1252080"/>
          </a:xfrm>
        </p:grpSpPr>
        <p:sp>
          <p:nvSpPr>
            <p:cNvPr id="629" name=""/>
            <p:cNvSpPr/>
            <p:nvPr/>
          </p:nvSpPr>
          <p:spPr>
            <a:xfrm>
              <a:off x="6330960" y="3778200"/>
              <a:ext cx="41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43760" y="4387680"/>
              <a:ext cx="7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45200" y="4387680"/>
              <a:ext cx="7873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990720" y="2938320"/>
            <a:ext cx="7543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numer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enomina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 to make sure you hav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reduced your answer complete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57600" y="12193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9480" y="2057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657600" y="12193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057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784600"/>
            <a:ext cx="7162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cel numerator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denominators by comm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factors. Repeat if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numerato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enomin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1523880" y="1600200"/>
            <a:ext cx="60962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ixed Number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57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286000"/>
            <a:ext cx="556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and reduce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mixed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520" y="1523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make a purchase of 1¾ pounds of cheese. You want to freeze ½ of it. What is the amount you will free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1523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make a purchase o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¾ pounds of chees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You want to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reeze ½ of 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hat is the amount you will free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209680" y="4195800"/>
            <a:ext cx="2210040" cy="1272960"/>
            <a:chOff x="2209680" y="4195800"/>
            <a:chExt cx="2210040" cy="1272960"/>
          </a:xfrm>
        </p:grpSpPr>
        <p:sp>
          <p:nvSpPr>
            <p:cNvPr id="646" name=""/>
            <p:cNvSpPr/>
            <p:nvPr/>
          </p:nvSpPr>
          <p:spPr>
            <a:xfrm>
              <a:off x="2743200" y="4195800"/>
              <a:ext cx="1676520" cy="127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09680" y="4511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572000" y="4191120"/>
            <a:ext cx="2743200" cy="1282680"/>
            <a:chOff x="4572000" y="4191120"/>
            <a:chExt cx="2743200" cy="1282680"/>
          </a:xfrm>
        </p:grpSpPr>
        <p:sp>
          <p:nvSpPr>
            <p:cNvPr id="649" name=""/>
            <p:cNvSpPr/>
            <p:nvPr/>
          </p:nvSpPr>
          <p:spPr>
            <a:xfrm>
              <a:off x="4572000" y="4191120"/>
              <a:ext cx="380880" cy="127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48160" y="450864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/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52880" y="4192920"/>
              <a:ext cx="380880" cy="127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33760" y="4191120"/>
              <a:ext cx="381240" cy="127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15000" y="4191120"/>
              <a:ext cx="380880" cy="12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743200" y="4191120"/>
            <a:ext cx="3352680" cy="1274760"/>
            <a:chOff x="2743200" y="4191120"/>
            <a:chExt cx="3352680" cy="1274760"/>
          </a:xfrm>
        </p:grpSpPr>
        <p:sp>
          <p:nvSpPr>
            <p:cNvPr id="655" name=""/>
            <p:cNvSpPr/>
            <p:nvPr/>
          </p:nvSpPr>
          <p:spPr>
            <a:xfrm>
              <a:off x="2743200" y="48769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70560" y="4876920"/>
              <a:ext cx="152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24080" y="4195800"/>
              <a:ext cx="0" cy="12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81280" y="4191120"/>
              <a:ext cx="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00680" y="4191120"/>
              <a:ext cx="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438280" y="1447920"/>
            <a:ext cx="1638360" cy="2514960"/>
            <a:chOff x="2438280" y="1447920"/>
            <a:chExt cx="1638360" cy="2514960"/>
          </a:xfrm>
        </p:grpSpPr>
        <p:grpSp>
          <p:nvGrpSpPr>
            <p:cNvPr id="661" name=""/>
            <p:cNvGrpSpPr/>
            <p:nvPr/>
          </p:nvGrpSpPr>
          <p:grpSpPr>
            <a:xfrm>
              <a:off x="2495520" y="1447920"/>
              <a:ext cx="1523880" cy="1326960"/>
              <a:chOff x="2495520" y="1447920"/>
              <a:chExt cx="1523880" cy="1326960"/>
            </a:xfrm>
          </p:grpSpPr>
          <p:sp>
            <p:nvSpPr>
              <p:cNvPr id="662" name=""/>
              <p:cNvSpPr/>
              <p:nvPr/>
            </p:nvSpPr>
            <p:spPr>
              <a:xfrm>
                <a:off x="2495520" y="1447920"/>
                <a:ext cx="380880" cy="663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76400" y="1447920"/>
                <a:ext cx="381240" cy="663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257640" y="1447920"/>
                <a:ext cx="380880" cy="663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638520" y="1447920"/>
                <a:ext cx="380880" cy="663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95520" y="2111400"/>
                <a:ext cx="380880" cy="663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76400" y="2111400"/>
                <a:ext cx="381240" cy="663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57640" y="2111400"/>
                <a:ext cx="380880" cy="663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638520" y="2111400"/>
                <a:ext cx="380880" cy="663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2438280" y="2771640"/>
              <a:ext cx="163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/8 froz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438280" y="4267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/8 and 3/8 = 7/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5181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/8 of a pound is fro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952880" y="1447920"/>
            <a:ext cx="1676520" cy="2514960"/>
            <a:chOff x="4952880" y="1447920"/>
            <a:chExt cx="1676520" cy="2514960"/>
          </a:xfrm>
        </p:grpSpPr>
        <p:sp>
          <p:nvSpPr>
            <p:cNvPr id="675" name=""/>
            <p:cNvSpPr/>
            <p:nvPr/>
          </p:nvSpPr>
          <p:spPr>
            <a:xfrm>
              <a:off x="5029200" y="1447920"/>
              <a:ext cx="380880" cy="663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10080" y="1447920"/>
              <a:ext cx="381240" cy="663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1447920"/>
              <a:ext cx="380880" cy="663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1320" y="2120760"/>
              <a:ext cx="380880" cy="663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29200" y="2111400"/>
              <a:ext cx="380880" cy="663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10080" y="2111400"/>
              <a:ext cx="381240" cy="663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1320" y="2111400"/>
              <a:ext cx="380880" cy="66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2200" y="2111400"/>
              <a:ext cx="380880" cy="66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52880" y="277164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/8 frozen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72200" y="1447920"/>
              <a:ext cx="380880" cy="66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990720" y="16765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reeze ½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of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¾ pounds of che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971800" y="2514600"/>
            <a:ext cx="2437560" cy="1268640"/>
            <a:chOff x="2971800" y="2514600"/>
            <a:chExt cx="2437560" cy="1268640"/>
          </a:xfrm>
        </p:grpSpPr>
        <p:sp>
          <p:nvSpPr>
            <p:cNvPr id="687" name=""/>
            <p:cNvSpPr/>
            <p:nvPr/>
          </p:nvSpPr>
          <p:spPr>
            <a:xfrm>
              <a:off x="2971800" y="2735280"/>
              <a:ext cx="60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03640" y="273708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3494160" y="2514600"/>
              <a:ext cx="608760" cy="1266840"/>
              <a:chOff x="3494160" y="2514600"/>
              <a:chExt cx="608760" cy="1266840"/>
            </a:xfrm>
          </p:grpSpPr>
          <p:sp>
            <p:nvSpPr>
              <p:cNvPr id="690" name=""/>
              <p:cNvSpPr/>
              <p:nvPr/>
            </p:nvSpPr>
            <p:spPr>
              <a:xfrm>
                <a:off x="3494160" y="25146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94160" y="30780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494160" y="3085920"/>
                <a:ext cx="60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4800600" y="2516400"/>
              <a:ext cx="608760" cy="1266840"/>
              <a:chOff x="4800600" y="2516400"/>
              <a:chExt cx="608760" cy="1266840"/>
            </a:xfrm>
          </p:grpSpPr>
          <p:sp>
            <p:nvSpPr>
              <p:cNvPr id="694" name=""/>
              <p:cNvSpPr/>
              <p:nvPr/>
            </p:nvSpPr>
            <p:spPr>
              <a:xfrm>
                <a:off x="4800600" y="25164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800600" y="3079800"/>
                <a:ext cx="608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00600" y="3087720"/>
                <a:ext cx="60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"/>
          <p:cNvGrpSpPr/>
          <p:nvPr/>
        </p:nvGrpSpPr>
        <p:grpSpPr>
          <a:xfrm>
            <a:off x="1600200" y="4038480"/>
            <a:ext cx="2324160" cy="1268280"/>
            <a:chOff x="1600200" y="4038480"/>
            <a:chExt cx="2324160" cy="1268280"/>
          </a:xfrm>
        </p:grpSpPr>
        <p:sp>
          <p:nvSpPr>
            <p:cNvPr id="698" name=""/>
            <p:cNvSpPr/>
            <p:nvPr/>
          </p:nvSpPr>
          <p:spPr>
            <a:xfrm>
              <a:off x="2133360" y="42606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1600200" y="4038480"/>
              <a:ext cx="533160" cy="1266840"/>
              <a:chOff x="1600200" y="4038480"/>
              <a:chExt cx="533160" cy="1266840"/>
            </a:xfrm>
          </p:grpSpPr>
          <p:sp>
            <p:nvSpPr>
              <p:cNvPr id="700" name=""/>
              <p:cNvSpPr/>
              <p:nvPr/>
            </p:nvSpPr>
            <p:spPr>
              <a:xfrm>
                <a:off x="1600200" y="403848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600200" y="460188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00200" y="46098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743200" y="4039920"/>
              <a:ext cx="533160" cy="1266840"/>
              <a:chOff x="2743200" y="4039920"/>
              <a:chExt cx="533160" cy="1266840"/>
            </a:xfrm>
          </p:grpSpPr>
          <p:sp>
            <p:nvSpPr>
              <p:cNvPr id="704" name=""/>
              <p:cNvSpPr/>
              <p:nvPr/>
            </p:nvSpPr>
            <p:spPr>
              <a:xfrm>
                <a:off x="2743200" y="40399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43200" y="46033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43200" y="46112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390840" y="4260600"/>
              <a:ext cx="533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076640" y="4068720"/>
            <a:ext cx="2475720" cy="1266840"/>
            <a:chOff x="4076640" y="4068720"/>
            <a:chExt cx="2475720" cy="1266840"/>
          </a:xfrm>
        </p:grpSpPr>
        <p:grpSp>
          <p:nvGrpSpPr>
            <p:cNvPr id="709" name=""/>
            <p:cNvGrpSpPr/>
            <p:nvPr/>
          </p:nvGrpSpPr>
          <p:grpSpPr>
            <a:xfrm>
              <a:off x="4076640" y="4068720"/>
              <a:ext cx="1649880" cy="1266840"/>
              <a:chOff x="4076640" y="4068720"/>
              <a:chExt cx="1649880" cy="1266840"/>
            </a:xfrm>
          </p:grpSpPr>
          <p:sp>
            <p:nvSpPr>
              <p:cNvPr id="710" name=""/>
              <p:cNvSpPr/>
              <p:nvPr/>
            </p:nvSpPr>
            <p:spPr>
              <a:xfrm>
                <a:off x="4076640" y="4068720"/>
                <a:ext cx="1649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7 • 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076640" y="4632120"/>
                <a:ext cx="16498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4 • 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076640" y="4640040"/>
                <a:ext cx="1649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830200" y="4289400"/>
              <a:ext cx="72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4071600" y="4111560"/>
            <a:ext cx="4147560" cy="2159280"/>
            <a:chOff x="4071600" y="4111560"/>
            <a:chExt cx="4147560" cy="2159280"/>
          </a:xfrm>
        </p:grpSpPr>
        <p:grpSp>
          <p:nvGrpSpPr>
            <p:cNvPr id="716" name=""/>
            <p:cNvGrpSpPr/>
            <p:nvPr/>
          </p:nvGrpSpPr>
          <p:grpSpPr>
            <a:xfrm>
              <a:off x="6781680" y="4111560"/>
              <a:ext cx="533160" cy="1300320"/>
              <a:chOff x="6781680" y="4111560"/>
              <a:chExt cx="533160" cy="1300320"/>
            </a:xfrm>
          </p:grpSpPr>
          <p:sp>
            <p:nvSpPr>
              <p:cNvPr id="717" name=""/>
              <p:cNvSpPr/>
              <p:nvPr/>
            </p:nvSpPr>
            <p:spPr>
              <a:xfrm>
                <a:off x="6781680" y="411156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781680" y="470844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781680" y="471708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4071600" y="5567400"/>
              <a:ext cx="41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pound of chees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3429000" y="1676520"/>
            <a:ext cx="2209680" cy="1145880"/>
            <a:chOff x="3429000" y="1676520"/>
            <a:chExt cx="2209680" cy="1145880"/>
          </a:xfrm>
        </p:grpSpPr>
        <p:sp>
          <p:nvSpPr>
            <p:cNvPr id="722" name=""/>
            <p:cNvSpPr/>
            <p:nvPr/>
          </p:nvSpPr>
          <p:spPr>
            <a:xfrm>
              <a:off x="3429000" y="18968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95680" y="18986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962520" y="1676520"/>
              <a:ext cx="533160" cy="1144440"/>
              <a:chOff x="3962520" y="1676520"/>
              <a:chExt cx="533160" cy="1144440"/>
            </a:xfrm>
          </p:grpSpPr>
          <p:sp>
            <p:nvSpPr>
              <p:cNvPr id="725" name=""/>
              <p:cNvSpPr/>
              <p:nvPr/>
            </p:nvSpPr>
            <p:spPr>
              <a:xfrm>
                <a:off x="3962520" y="1676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62520" y="22395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62520" y="22474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105520" y="1677960"/>
              <a:ext cx="533160" cy="1144440"/>
              <a:chOff x="5105520" y="1677960"/>
              <a:chExt cx="533160" cy="1144440"/>
            </a:xfrm>
          </p:grpSpPr>
          <p:sp>
            <p:nvSpPr>
              <p:cNvPr id="729" name=""/>
              <p:cNvSpPr/>
              <p:nvPr/>
            </p:nvSpPr>
            <p:spPr>
              <a:xfrm>
                <a:off x="5105520" y="16779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05520" y="2241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105520" y="22489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2171880" y="3124080"/>
            <a:ext cx="2399760" cy="1146240"/>
            <a:chOff x="2171880" y="3124080"/>
            <a:chExt cx="2399760" cy="1146240"/>
          </a:xfrm>
        </p:grpSpPr>
        <p:sp>
          <p:nvSpPr>
            <p:cNvPr id="733" name=""/>
            <p:cNvSpPr/>
            <p:nvPr/>
          </p:nvSpPr>
          <p:spPr>
            <a:xfrm>
              <a:off x="2781000" y="3346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2171880" y="3124080"/>
              <a:ext cx="685440" cy="1144800"/>
              <a:chOff x="2171880" y="3124080"/>
              <a:chExt cx="685440" cy="1144800"/>
            </a:xfrm>
          </p:grpSpPr>
          <p:sp>
            <p:nvSpPr>
              <p:cNvPr id="735" name=""/>
              <p:cNvSpPr/>
              <p:nvPr/>
            </p:nvSpPr>
            <p:spPr>
              <a:xfrm>
                <a:off x="2171880" y="312408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247840" y="368748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247840" y="369540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3390840" y="3125520"/>
              <a:ext cx="532800" cy="1144800"/>
              <a:chOff x="3390840" y="3125520"/>
              <a:chExt cx="532800" cy="1144800"/>
            </a:xfrm>
          </p:grpSpPr>
          <p:sp>
            <p:nvSpPr>
              <p:cNvPr id="739" name=""/>
              <p:cNvSpPr/>
              <p:nvPr/>
            </p:nvSpPr>
            <p:spPr>
              <a:xfrm>
                <a:off x="3390840" y="312552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90840" y="368892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390840" y="3696840"/>
                <a:ext cx="532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4038480" y="3346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181480" y="3124080"/>
            <a:ext cx="1371600" cy="1144800"/>
            <a:chOff x="5181480" y="3124080"/>
            <a:chExt cx="1371600" cy="1144800"/>
          </a:xfrm>
        </p:grpSpPr>
        <p:grpSp>
          <p:nvGrpSpPr>
            <p:cNvPr id="744" name=""/>
            <p:cNvGrpSpPr/>
            <p:nvPr/>
          </p:nvGrpSpPr>
          <p:grpSpPr>
            <a:xfrm>
              <a:off x="5181480" y="3124080"/>
              <a:ext cx="761760" cy="1144800"/>
              <a:chOff x="5181480" y="3124080"/>
              <a:chExt cx="761760" cy="1144800"/>
            </a:xfrm>
          </p:grpSpPr>
          <p:sp>
            <p:nvSpPr>
              <p:cNvPr id="745" name=""/>
              <p:cNvSpPr/>
              <p:nvPr/>
            </p:nvSpPr>
            <p:spPr>
              <a:xfrm>
                <a:off x="5181480" y="31240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81480" y="36874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81480" y="3695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019560" y="33447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080680" y="4876920"/>
            <a:ext cx="1167840" cy="1144800"/>
            <a:chOff x="5080680" y="4876920"/>
            <a:chExt cx="1167840" cy="1144800"/>
          </a:xfrm>
        </p:grpSpPr>
        <p:grpSp>
          <p:nvGrpSpPr>
            <p:cNvPr id="750" name=""/>
            <p:cNvGrpSpPr/>
            <p:nvPr/>
          </p:nvGrpSpPr>
          <p:grpSpPr>
            <a:xfrm>
              <a:off x="5486400" y="4876920"/>
              <a:ext cx="762120" cy="1144800"/>
              <a:chOff x="5486400" y="4876920"/>
              <a:chExt cx="762120" cy="1144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600880" y="4876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486400" y="54403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00880" y="54482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080680" y="5097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895480" y="5097600"/>
            <a:ext cx="2286000" cy="703440"/>
            <a:chOff x="2895480" y="5097600"/>
            <a:chExt cx="2286000" cy="703440"/>
          </a:xfrm>
        </p:grpSpPr>
        <p:sp>
          <p:nvSpPr>
            <p:cNvPr id="756" name=""/>
            <p:cNvSpPr/>
            <p:nvPr/>
          </p:nvSpPr>
          <p:spPr>
            <a:xfrm>
              <a:off x="2895480" y="50976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 )55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9880" y="5189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990720" y="2743200"/>
            <a:ext cx="71625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mixed numbers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improper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ncel numerator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denominators by comm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factors, when pos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762120" y="2800440"/>
            <a:ext cx="7696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numer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enomin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ck to make sure you hav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reduced your answer completel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990720" y="2617920"/>
            <a:ext cx="716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answer from improp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fraction to mixed number 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whol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3276720" y="1523880"/>
            <a:ext cx="2514600" cy="1146600"/>
            <a:chOff x="3276720" y="1523880"/>
            <a:chExt cx="2514600" cy="1146600"/>
          </a:xfrm>
        </p:grpSpPr>
        <p:sp>
          <p:nvSpPr>
            <p:cNvPr id="769" name=""/>
            <p:cNvSpPr/>
            <p:nvPr/>
          </p:nvSpPr>
          <p:spPr>
            <a:xfrm>
              <a:off x="3276720" y="1744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4340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809880" y="1523880"/>
              <a:ext cx="533520" cy="1144800"/>
              <a:chOff x="3809880" y="1523880"/>
              <a:chExt cx="533520" cy="1144800"/>
            </a:xfrm>
          </p:grpSpPr>
          <p:sp>
            <p:nvSpPr>
              <p:cNvPr id="772" name=""/>
              <p:cNvSpPr/>
              <p:nvPr/>
            </p:nvSpPr>
            <p:spPr>
              <a:xfrm>
                <a:off x="3809880" y="1523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09880" y="20872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809880" y="2095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5257800" y="1525680"/>
              <a:ext cx="533520" cy="1144800"/>
              <a:chOff x="5257800" y="1525680"/>
              <a:chExt cx="533520" cy="1144800"/>
            </a:xfrm>
          </p:grpSpPr>
          <p:sp>
            <p:nvSpPr>
              <p:cNvPr id="776" name=""/>
              <p:cNvSpPr/>
              <p:nvPr/>
            </p:nvSpPr>
            <p:spPr>
              <a:xfrm>
                <a:off x="5257800" y="1525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57800" y="20890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57800" y="20970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4724280" y="17445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676520" y="3046320"/>
            <a:ext cx="6629400" cy="1594440"/>
            <a:chOff x="1676520" y="3046320"/>
            <a:chExt cx="6629400" cy="1594440"/>
          </a:xfrm>
        </p:grpSpPr>
        <p:grpSp>
          <p:nvGrpSpPr>
            <p:cNvPr id="781" name=""/>
            <p:cNvGrpSpPr/>
            <p:nvPr/>
          </p:nvGrpSpPr>
          <p:grpSpPr>
            <a:xfrm>
              <a:off x="1676520" y="3046320"/>
              <a:ext cx="1981080" cy="1146600"/>
              <a:chOff x="1676520" y="3046320"/>
              <a:chExt cx="1981080" cy="1146600"/>
            </a:xfrm>
          </p:grpSpPr>
          <p:sp>
            <p:nvSpPr>
              <p:cNvPr id="782" name=""/>
              <p:cNvSpPr/>
              <p:nvPr/>
            </p:nvSpPr>
            <p:spPr>
              <a:xfrm>
                <a:off x="2438280" y="326880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1676520" y="3046320"/>
                <a:ext cx="761760" cy="1145160"/>
                <a:chOff x="1676520" y="3046320"/>
                <a:chExt cx="761760" cy="11451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1676520" y="304632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790640" y="361008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733400" y="3611520"/>
                  <a:ext cx="64800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2895480" y="3048120"/>
                <a:ext cx="762120" cy="1144800"/>
                <a:chOff x="2895480" y="3048120"/>
                <a:chExt cx="762120" cy="114480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2895480" y="304812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009960" y="36115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009960" y="36194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1" name=""/>
            <p:cNvSpPr/>
            <p:nvPr/>
          </p:nvSpPr>
          <p:spPr>
            <a:xfrm>
              <a:off x="3809880" y="3084480"/>
              <a:ext cx="4496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Change mixed number to improper fra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1456200" y="4387680"/>
            <a:ext cx="6849720" cy="1710000"/>
            <a:chOff x="1456200" y="4387680"/>
            <a:chExt cx="6849720" cy="1710000"/>
          </a:xfrm>
        </p:grpSpPr>
        <p:grpSp>
          <p:nvGrpSpPr>
            <p:cNvPr id="793" name=""/>
            <p:cNvGrpSpPr/>
            <p:nvPr/>
          </p:nvGrpSpPr>
          <p:grpSpPr>
            <a:xfrm>
              <a:off x="1456200" y="4387680"/>
              <a:ext cx="2471760" cy="1710000"/>
              <a:chOff x="1456200" y="4387680"/>
              <a:chExt cx="2471760" cy="171000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1676520" y="4678200"/>
                <a:ext cx="1981080" cy="1145880"/>
                <a:chOff x="1676520" y="4678200"/>
                <a:chExt cx="1981080" cy="1145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2438280" y="4900320"/>
                  <a:ext cx="5335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1676520" y="4678200"/>
                  <a:ext cx="761760" cy="1144800"/>
                  <a:chOff x="1676520" y="4678200"/>
                  <a:chExt cx="761760" cy="114480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1676520" y="46782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790640" y="5241600"/>
                    <a:ext cx="533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6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1733400" y="5243040"/>
                    <a:ext cx="648000" cy="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0" name=""/>
                <p:cNvGrpSpPr/>
                <p:nvPr/>
              </p:nvGrpSpPr>
              <p:grpSpPr>
                <a:xfrm>
                  <a:off x="2895480" y="4679640"/>
                  <a:ext cx="762120" cy="1144440"/>
                  <a:chOff x="2895480" y="4679640"/>
                  <a:chExt cx="762120" cy="114444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2895480" y="4679640"/>
                    <a:ext cx="762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8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009960" y="5242680"/>
                    <a:ext cx="533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3009960" y="525060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4" name=""/>
              <p:cNvGrpSpPr/>
              <p:nvPr/>
            </p:nvGrpSpPr>
            <p:grpSpPr>
              <a:xfrm>
                <a:off x="1456200" y="4387680"/>
                <a:ext cx="2471760" cy="1710000"/>
                <a:chOff x="1456200" y="4387680"/>
                <a:chExt cx="2471760" cy="1710000"/>
              </a:xfrm>
            </p:grpSpPr>
            <p:sp>
              <p:nvSpPr>
                <p:cNvPr id="805" name=""/>
                <p:cNvSpPr/>
                <p:nvPr/>
              </p:nvSpPr>
              <p:spPr>
                <a:xfrm flipV="1">
                  <a:off x="1749600" y="483012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V="1">
                  <a:off x="3003480" y="536040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456560" y="4389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513600" y="55162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1749600" y="536040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3003480" y="4830120"/>
                  <a:ext cx="577800" cy="30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456200" y="547020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513960" y="438768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3" name=""/>
            <p:cNvSpPr/>
            <p:nvPr/>
          </p:nvSpPr>
          <p:spPr>
            <a:xfrm>
              <a:off x="3809880" y="4708440"/>
              <a:ext cx="4496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Cancel by common facto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276720" y="1523880"/>
            <a:ext cx="2514600" cy="1146600"/>
            <a:chOff x="3276720" y="1523880"/>
            <a:chExt cx="2514600" cy="1146600"/>
          </a:xfrm>
        </p:grpSpPr>
        <p:sp>
          <p:nvSpPr>
            <p:cNvPr id="816" name=""/>
            <p:cNvSpPr/>
            <p:nvPr/>
          </p:nvSpPr>
          <p:spPr>
            <a:xfrm>
              <a:off x="3276720" y="174456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34340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809880" y="1523880"/>
              <a:ext cx="533520" cy="1144800"/>
              <a:chOff x="3809880" y="1523880"/>
              <a:chExt cx="533520" cy="1144800"/>
            </a:xfrm>
          </p:grpSpPr>
          <p:sp>
            <p:nvSpPr>
              <p:cNvPr id="819" name=""/>
              <p:cNvSpPr/>
              <p:nvPr/>
            </p:nvSpPr>
            <p:spPr>
              <a:xfrm>
                <a:off x="3809880" y="1523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9880" y="20872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809880" y="2095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257800" y="1525680"/>
              <a:ext cx="533520" cy="1144800"/>
              <a:chOff x="5257800" y="1525680"/>
              <a:chExt cx="533520" cy="1144800"/>
            </a:xfrm>
          </p:grpSpPr>
          <p:sp>
            <p:nvSpPr>
              <p:cNvPr id="823" name=""/>
              <p:cNvSpPr/>
              <p:nvPr/>
            </p:nvSpPr>
            <p:spPr>
              <a:xfrm>
                <a:off x="5257800" y="1525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257800" y="20890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57800" y="20970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724280" y="17445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212840" y="3046320"/>
            <a:ext cx="7093080" cy="1632600"/>
            <a:chOff x="1212840" y="3046320"/>
            <a:chExt cx="7093080" cy="1632600"/>
          </a:xfrm>
        </p:grpSpPr>
        <p:grpSp>
          <p:nvGrpSpPr>
            <p:cNvPr id="828" name=""/>
            <p:cNvGrpSpPr/>
            <p:nvPr/>
          </p:nvGrpSpPr>
          <p:grpSpPr>
            <a:xfrm>
              <a:off x="1212840" y="3046320"/>
              <a:ext cx="2444760" cy="1632600"/>
              <a:chOff x="1212840" y="3046320"/>
              <a:chExt cx="2444760" cy="1632600"/>
            </a:xfrm>
          </p:grpSpPr>
          <p:sp>
            <p:nvSpPr>
              <p:cNvPr id="829" name=""/>
              <p:cNvSpPr/>
              <p:nvPr/>
            </p:nvSpPr>
            <p:spPr>
              <a:xfrm>
                <a:off x="2438280" y="326880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1212840" y="3046320"/>
                <a:ext cx="1225440" cy="1632600"/>
                <a:chOff x="1212840" y="3046320"/>
                <a:chExt cx="1225440" cy="16326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212840" y="3046320"/>
                  <a:ext cx="1225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 • 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1323720" y="3610080"/>
                  <a:ext cx="10047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 • 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1276200" y="3611520"/>
                  <a:ext cx="110124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2895480" y="3048120"/>
                <a:ext cx="762120" cy="1144800"/>
                <a:chOff x="2895480" y="3048120"/>
                <a:chExt cx="762120" cy="114480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2895480" y="304812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009960" y="36115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009960" y="36194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8" name=""/>
            <p:cNvSpPr/>
            <p:nvPr/>
          </p:nvSpPr>
          <p:spPr>
            <a:xfrm>
              <a:off x="3809880" y="3084480"/>
              <a:ext cx="4496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Multiply numerators &amp; denominators acro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676520" y="4678200"/>
            <a:ext cx="6858000" cy="1145160"/>
            <a:chOff x="1676520" y="4678200"/>
            <a:chExt cx="6858000" cy="1145160"/>
          </a:xfrm>
        </p:grpSpPr>
        <p:grpSp>
          <p:nvGrpSpPr>
            <p:cNvPr id="840" name=""/>
            <p:cNvGrpSpPr/>
            <p:nvPr/>
          </p:nvGrpSpPr>
          <p:grpSpPr>
            <a:xfrm>
              <a:off x="1676520" y="4678200"/>
              <a:ext cx="1981080" cy="1145160"/>
              <a:chOff x="1676520" y="4678200"/>
              <a:chExt cx="1981080" cy="1145160"/>
            </a:xfrm>
          </p:grpSpPr>
          <p:sp>
            <p:nvSpPr>
              <p:cNvPr id="841" name=""/>
              <p:cNvSpPr/>
              <p:nvPr/>
            </p:nvSpPr>
            <p:spPr>
              <a:xfrm>
                <a:off x="2438280" y="4900680"/>
                <a:ext cx="1219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 1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1676520" y="4678200"/>
                <a:ext cx="761760" cy="1145160"/>
                <a:chOff x="1676520" y="4678200"/>
                <a:chExt cx="761760" cy="11451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676520" y="467820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790640" y="52419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733400" y="5243400"/>
                  <a:ext cx="648000" cy="6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6" name=""/>
            <p:cNvSpPr/>
            <p:nvPr/>
          </p:nvSpPr>
          <p:spPr>
            <a:xfrm>
              <a:off x="3809880" y="4716360"/>
              <a:ext cx="4724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Write number as mixed or whole numb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838080" y="1681200"/>
            <a:ext cx="7391520" cy="44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nal Expression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8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rationa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fractions raised to a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ying Rat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3200400" y="1523880"/>
            <a:ext cx="2742840" cy="1146600"/>
            <a:chOff x="3200400" y="1523880"/>
            <a:chExt cx="2742840" cy="1146600"/>
          </a:xfrm>
        </p:grpSpPr>
        <p:sp>
          <p:nvSpPr>
            <p:cNvPr id="851" name=""/>
            <p:cNvSpPr/>
            <p:nvPr/>
          </p:nvSpPr>
          <p:spPr>
            <a:xfrm>
              <a:off x="426708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3200400" y="1523880"/>
              <a:ext cx="990360" cy="1144800"/>
              <a:chOff x="3200400" y="1523880"/>
              <a:chExt cx="990360" cy="1144800"/>
            </a:xfrm>
          </p:grpSpPr>
          <p:sp>
            <p:nvSpPr>
              <p:cNvPr id="853" name=""/>
              <p:cNvSpPr/>
              <p:nvPr/>
            </p:nvSpPr>
            <p:spPr>
              <a:xfrm>
                <a:off x="3200400" y="152388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200400" y="208728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00400" y="209520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4876920" y="1525680"/>
              <a:ext cx="1066320" cy="1144800"/>
              <a:chOff x="4876920" y="1525680"/>
              <a:chExt cx="1066320" cy="1144800"/>
            </a:xfrm>
          </p:grpSpPr>
          <p:sp>
            <p:nvSpPr>
              <p:cNvPr id="857" name=""/>
              <p:cNvSpPr/>
              <p:nvPr/>
            </p:nvSpPr>
            <p:spPr>
              <a:xfrm>
                <a:off x="4876920" y="152568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b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76920" y="2089080"/>
                <a:ext cx="1066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a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76920" y="209700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1905120" y="3000240"/>
            <a:ext cx="5409720" cy="1146600"/>
            <a:chOff x="1905120" y="3000240"/>
            <a:chExt cx="5409720" cy="1146600"/>
          </a:xfrm>
        </p:grpSpPr>
        <p:sp>
          <p:nvSpPr>
            <p:cNvPr id="861" name=""/>
            <p:cNvSpPr/>
            <p:nvPr/>
          </p:nvSpPr>
          <p:spPr>
            <a:xfrm>
              <a:off x="3657600" y="3222360"/>
              <a:ext cx="53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905120" y="3000240"/>
              <a:ext cx="1752480" cy="1144800"/>
              <a:chOff x="1905120" y="3000240"/>
              <a:chExt cx="1752480" cy="1144800"/>
            </a:xfrm>
          </p:grpSpPr>
          <p:sp>
            <p:nvSpPr>
              <p:cNvPr id="863" name=""/>
              <p:cNvSpPr/>
              <p:nvPr/>
            </p:nvSpPr>
            <p:spPr>
              <a:xfrm>
                <a:off x="2171520" y="3000240"/>
                <a:ext cx="121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05120" y="356364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b • 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62000" y="3563640"/>
                <a:ext cx="1638000" cy="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4267080" y="3001680"/>
              <a:ext cx="3047760" cy="1145160"/>
              <a:chOff x="4267080" y="3001680"/>
              <a:chExt cx="3047760" cy="1145160"/>
            </a:xfrm>
          </p:grpSpPr>
          <p:sp>
            <p:nvSpPr>
              <p:cNvPr id="867" name=""/>
              <p:cNvSpPr/>
              <p:nvPr/>
            </p:nvSpPr>
            <p:spPr>
              <a:xfrm>
                <a:off x="4267080" y="3001680"/>
                <a:ext cx="304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 • b • b • b •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14720" y="356544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• a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4267080" y="3563280"/>
                <a:ext cx="304776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2470320" y="3153960"/>
            <a:ext cx="2962080" cy="838440"/>
            <a:chOff x="2470320" y="3153960"/>
            <a:chExt cx="2962080" cy="838440"/>
          </a:xfrm>
        </p:grpSpPr>
        <p:sp>
          <p:nvSpPr>
            <p:cNvPr id="871" name=""/>
            <p:cNvSpPr/>
            <p:nvPr/>
          </p:nvSpPr>
          <p:spPr>
            <a:xfrm flipV="1">
              <a:off x="247032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485460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124080" y="3153960"/>
            <a:ext cx="2962440" cy="838440"/>
            <a:chOff x="3124080" y="3153960"/>
            <a:chExt cx="2962440" cy="838440"/>
          </a:xfrm>
        </p:grpSpPr>
        <p:sp>
          <p:nvSpPr>
            <p:cNvPr id="874" name=""/>
            <p:cNvSpPr/>
            <p:nvPr/>
          </p:nvSpPr>
          <p:spPr>
            <a:xfrm flipV="1">
              <a:off x="312408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550872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774880" y="3153960"/>
            <a:ext cx="3321000" cy="838440"/>
            <a:chOff x="2774880" y="3153960"/>
            <a:chExt cx="3321000" cy="838440"/>
          </a:xfrm>
        </p:grpSpPr>
        <p:sp>
          <p:nvSpPr>
            <p:cNvPr id="877" name=""/>
            <p:cNvSpPr/>
            <p:nvPr/>
          </p:nvSpPr>
          <p:spPr>
            <a:xfrm flipV="1">
              <a:off x="2774880" y="315396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5518080" y="368784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576800" y="2620800"/>
            <a:ext cx="3570480" cy="1862640"/>
            <a:chOff x="1576800" y="2620800"/>
            <a:chExt cx="3570480" cy="1862640"/>
          </a:xfrm>
        </p:grpSpPr>
        <p:sp>
          <p:nvSpPr>
            <p:cNvPr id="880" name=""/>
            <p:cNvSpPr/>
            <p:nvPr/>
          </p:nvSpPr>
          <p:spPr>
            <a:xfrm flipV="1">
              <a:off x="1882800" y="368784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76800" y="3902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267080" y="315396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33280" y="2620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209680" y="2620800"/>
            <a:ext cx="3245040" cy="1861200"/>
            <a:chOff x="2209680" y="2620800"/>
            <a:chExt cx="3245040" cy="1861200"/>
          </a:xfrm>
        </p:grpSpPr>
        <p:sp>
          <p:nvSpPr>
            <p:cNvPr id="885" name=""/>
            <p:cNvSpPr/>
            <p:nvPr/>
          </p:nvSpPr>
          <p:spPr>
            <a:xfrm flipV="1">
              <a:off x="2209680" y="3153960"/>
              <a:ext cx="577800" cy="3049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43480" y="26208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4876920" y="3687840"/>
              <a:ext cx="577800" cy="3045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04680" y="3900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cc99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372280" y="4648320"/>
            <a:ext cx="952200" cy="1144800"/>
            <a:chOff x="5372280" y="4648320"/>
            <a:chExt cx="952200" cy="1144800"/>
          </a:xfrm>
        </p:grpSpPr>
        <p:sp>
          <p:nvSpPr>
            <p:cNvPr id="890" name=""/>
            <p:cNvSpPr/>
            <p:nvPr/>
          </p:nvSpPr>
          <p:spPr>
            <a:xfrm>
              <a:off x="5398920" y="4648320"/>
              <a:ext cx="89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b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02240" y="5211720"/>
              <a:ext cx="69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72280" y="5211720"/>
              <a:ext cx="952200" cy="1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819520" y="4649760"/>
            <a:ext cx="2476440" cy="1145160"/>
            <a:chOff x="2819520" y="4649760"/>
            <a:chExt cx="2476440" cy="1145160"/>
          </a:xfrm>
        </p:grpSpPr>
        <p:sp>
          <p:nvSpPr>
            <p:cNvPr id="894" name=""/>
            <p:cNvSpPr/>
            <p:nvPr/>
          </p:nvSpPr>
          <p:spPr>
            <a:xfrm>
              <a:off x="4762440" y="4870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2819520" y="4649760"/>
              <a:ext cx="1866960" cy="1145160"/>
              <a:chOff x="2819520" y="4649760"/>
              <a:chExt cx="1866960" cy="1145160"/>
            </a:xfrm>
          </p:grpSpPr>
          <p:sp>
            <p:nvSpPr>
              <p:cNvPr id="896" name=""/>
              <p:cNvSpPr/>
              <p:nvPr/>
            </p:nvSpPr>
            <p:spPr>
              <a:xfrm>
                <a:off x="2819520" y="4649760"/>
                <a:ext cx="1866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 • b •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215160" y="5213520"/>
                <a:ext cx="107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819520" y="5211360"/>
                <a:ext cx="186696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2971800" y="1523880"/>
            <a:ext cx="3173400" cy="1146600"/>
            <a:chOff x="2971800" y="1523880"/>
            <a:chExt cx="3173400" cy="1146600"/>
          </a:xfrm>
        </p:grpSpPr>
        <p:sp>
          <p:nvSpPr>
            <p:cNvPr id="900" name=""/>
            <p:cNvSpPr/>
            <p:nvPr/>
          </p:nvSpPr>
          <p:spPr>
            <a:xfrm>
              <a:off x="411480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2971800" y="1523880"/>
              <a:ext cx="1143000" cy="1145160"/>
              <a:chOff x="2971800" y="1523880"/>
              <a:chExt cx="1143000" cy="114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3047760" y="1523880"/>
                <a:ext cx="9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71800" y="208764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y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47760" y="209556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724640" y="1525680"/>
              <a:ext cx="1420560" cy="1144800"/>
              <a:chOff x="4724640" y="1525680"/>
              <a:chExt cx="1420560" cy="1144800"/>
            </a:xfrm>
          </p:grpSpPr>
          <p:sp>
            <p:nvSpPr>
              <p:cNvPr id="906" name=""/>
              <p:cNvSpPr/>
              <p:nvPr/>
            </p:nvSpPr>
            <p:spPr>
              <a:xfrm>
                <a:off x="4724640" y="1525680"/>
                <a:ext cx="14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y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112000" y="20890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67480" y="2104920"/>
                <a:ext cx="133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762120" y="3000240"/>
            <a:ext cx="7543800" cy="1146600"/>
            <a:chOff x="762120" y="3000240"/>
            <a:chExt cx="7543800" cy="1146600"/>
          </a:xfrm>
        </p:grpSpPr>
        <p:sp>
          <p:nvSpPr>
            <p:cNvPr id="910" name=""/>
            <p:cNvSpPr/>
            <p:nvPr/>
          </p:nvSpPr>
          <p:spPr>
            <a:xfrm>
              <a:off x="3276720" y="32227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762120" y="3000240"/>
              <a:ext cx="2487600" cy="1145160"/>
              <a:chOff x="762120" y="3000240"/>
              <a:chExt cx="2487600" cy="1145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62120" y="3000240"/>
                <a:ext cx="2487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 • x • x • 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280" y="3564000"/>
                <a:ext cx="241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• y • y • 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0280" y="3564000"/>
                <a:ext cx="241128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3886200" y="3002040"/>
              <a:ext cx="4419720" cy="1144800"/>
              <a:chOff x="3886200" y="3002040"/>
              <a:chExt cx="4419720" cy="1144800"/>
            </a:xfrm>
          </p:grpSpPr>
          <p:sp>
            <p:nvSpPr>
              <p:cNvPr id="916" name=""/>
              <p:cNvSpPr/>
              <p:nvPr/>
            </p:nvSpPr>
            <p:spPr>
              <a:xfrm>
                <a:off x="3886200" y="3002040"/>
                <a:ext cx="4419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 • y • y • y • y • z • 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96000" y="3565440"/>
                <a:ext cx="2400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 • x • x • 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3886200" y="3564000"/>
                <a:ext cx="4419720" cy="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9" name=""/>
          <p:cNvGrpSpPr/>
          <p:nvPr/>
        </p:nvGrpSpPr>
        <p:grpSpPr>
          <a:xfrm>
            <a:off x="5765760" y="4648320"/>
            <a:ext cx="1320840" cy="1144800"/>
            <a:chOff x="5765760" y="4648320"/>
            <a:chExt cx="1320840" cy="1144800"/>
          </a:xfrm>
        </p:grpSpPr>
        <p:sp>
          <p:nvSpPr>
            <p:cNvPr id="920" name=""/>
            <p:cNvSpPr/>
            <p:nvPr/>
          </p:nvSpPr>
          <p:spPr>
            <a:xfrm>
              <a:off x="5773680" y="464832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6y</a:t>
              </a:r>
              <a:r>
                <a:rPr b="0" lang="en-US" sz="32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80040" y="5211720"/>
              <a:ext cx="69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65760" y="5211720"/>
              <a:ext cx="132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2070000" y="4649760"/>
            <a:ext cx="3581280" cy="1145160"/>
            <a:chOff x="2070000" y="4649760"/>
            <a:chExt cx="3581280" cy="1145160"/>
          </a:xfrm>
        </p:grpSpPr>
        <p:sp>
          <p:nvSpPr>
            <p:cNvPr id="924" name=""/>
            <p:cNvSpPr/>
            <p:nvPr/>
          </p:nvSpPr>
          <p:spPr>
            <a:xfrm>
              <a:off x="5117760" y="487044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2070000" y="4649760"/>
              <a:ext cx="2933640" cy="1145160"/>
              <a:chOff x="2070000" y="4649760"/>
              <a:chExt cx="2933640" cy="1145160"/>
            </a:xfrm>
          </p:grpSpPr>
          <p:sp>
            <p:nvSpPr>
              <p:cNvPr id="926" name=""/>
              <p:cNvSpPr/>
              <p:nvPr/>
            </p:nvSpPr>
            <p:spPr>
              <a:xfrm>
                <a:off x="2070000" y="4649760"/>
                <a:ext cx="293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 • 4 • y • y • 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98440" y="5213520"/>
                <a:ext cx="107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070000" y="5211720"/>
                <a:ext cx="2933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415080" y="2635200"/>
            <a:ext cx="7249320" cy="1862640"/>
            <a:chOff x="415080" y="2635200"/>
            <a:chExt cx="7249320" cy="1862640"/>
          </a:xfrm>
        </p:grpSpPr>
        <p:sp>
          <p:nvSpPr>
            <p:cNvPr id="930" name=""/>
            <p:cNvSpPr/>
            <p:nvPr/>
          </p:nvSpPr>
          <p:spPr>
            <a:xfrm flipV="1">
              <a:off x="762120" y="373392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1371600" y="318420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5080" y="39164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1403280" y="373392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013120" y="373392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3971880" y="318420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4680000" y="318420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5289480" y="318420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013120" y="318420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4876920" y="373392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5518080" y="373392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52040" y="2635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590920" y="3733920"/>
              <a:ext cx="57780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7086600" y="3184200"/>
              <a:ext cx="5778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2622600" y="3184200"/>
              <a:ext cx="5778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6127920" y="3733920"/>
              <a:ext cx="57780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2971800" y="1523880"/>
            <a:ext cx="3173400" cy="1146600"/>
            <a:chOff x="2971800" y="1523880"/>
            <a:chExt cx="3173400" cy="1146600"/>
          </a:xfrm>
        </p:grpSpPr>
        <p:sp>
          <p:nvSpPr>
            <p:cNvPr id="948" name=""/>
            <p:cNvSpPr/>
            <p:nvPr/>
          </p:nvSpPr>
          <p:spPr>
            <a:xfrm>
              <a:off x="4114800" y="174636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2971800" y="1523880"/>
              <a:ext cx="1143000" cy="1145160"/>
              <a:chOff x="2971800" y="1523880"/>
              <a:chExt cx="1143000" cy="1145160"/>
            </a:xfrm>
          </p:grpSpPr>
          <p:sp>
            <p:nvSpPr>
              <p:cNvPr id="950" name=""/>
              <p:cNvSpPr/>
              <p:nvPr/>
            </p:nvSpPr>
            <p:spPr>
              <a:xfrm>
                <a:off x="3047760" y="1523880"/>
                <a:ext cx="99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971800" y="208764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y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047760" y="2095560"/>
                <a:ext cx="99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4724640" y="1525680"/>
              <a:ext cx="1420560" cy="1144800"/>
              <a:chOff x="4724640" y="1525680"/>
              <a:chExt cx="1420560" cy="1144800"/>
            </a:xfrm>
          </p:grpSpPr>
          <p:sp>
            <p:nvSpPr>
              <p:cNvPr id="954" name=""/>
              <p:cNvSpPr/>
              <p:nvPr/>
            </p:nvSpPr>
            <p:spPr>
              <a:xfrm>
                <a:off x="4724640" y="1525680"/>
                <a:ext cx="14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y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112000" y="208908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67480" y="2104920"/>
                <a:ext cx="133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7" name=""/>
          <p:cNvSpPr/>
          <p:nvPr/>
        </p:nvSpPr>
        <p:spPr>
          <a:xfrm>
            <a:off x="3894120" y="4656240"/>
            <a:ext cx="13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6y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3886200" y="5219640"/>
            <a:ext cx="1320840" cy="581400"/>
            <a:chOff x="3886200" y="5219640"/>
            <a:chExt cx="1320840" cy="581400"/>
          </a:xfrm>
        </p:grpSpPr>
        <p:sp>
          <p:nvSpPr>
            <p:cNvPr id="959" name=""/>
            <p:cNvSpPr/>
            <p:nvPr/>
          </p:nvSpPr>
          <p:spPr>
            <a:xfrm>
              <a:off x="4200480" y="5219640"/>
              <a:ext cx="69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86200" y="5219640"/>
              <a:ext cx="132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971800" y="1523880"/>
            <a:ext cx="3173400" cy="1267200"/>
            <a:chOff x="2971800" y="1523880"/>
            <a:chExt cx="3173400" cy="1267200"/>
          </a:xfrm>
        </p:grpSpPr>
        <p:sp>
          <p:nvSpPr>
            <p:cNvPr id="962" name=""/>
            <p:cNvSpPr/>
            <p:nvPr/>
          </p:nvSpPr>
          <p:spPr>
            <a:xfrm>
              <a:off x="3881160" y="2209680"/>
              <a:ext cx="3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2971800" y="1523880"/>
              <a:ext cx="3173400" cy="1146600"/>
              <a:chOff x="2971800" y="1523880"/>
              <a:chExt cx="3173400" cy="1146600"/>
            </a:xfrm>
          </p:grpSpPr>
          <p:sp>
            <p:nvSpPr>
              <p:cNvPr id="964" name=""/>
              <p:cNvSpPr/>
              <p:nvPr/>
            </p:nvSpPr>
            <p:spPr>
              <a:xfrm>
                <a:off x="4114800" y="1746360"/>
                <a:ext cx="533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2971800" y="1523880"/>
                <a:ext cx="1143000" cy="1145160"/>
                <a:chOff x="2971800" y="1523880"/>
                <a:chExt cx="1143000" cy="114516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3047760" y="1523880"/>
                  <a:ext cx="990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x</a:t>
                  </a:r>
                  <a:r>
                    <a:rPr b="0" lang="en-US" sz="3200" spc="-1" strike="noStrike" baseline="30000">
                      <a:solidFill>
                        <a:srgbClr val="80808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971800" y="2087640"/>
                  <a:ext cx="1143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9y</a:t>
                  </a:r>
                  <a:r>
                    <a:rPr b="0" lang="en-US" sz="3200" spc="-1" strike="noStrike" baseline="30000">
                      <a:solidFill>
                        <a:srgbClr val="3333cc"/>
                      </a:solidFill>
                      <a:latin typeface="Comic Sans MS"/>
                    </a:rPr>
                    <a:t>2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047760" y="209556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724640" y="1525680"/>
                <a:ext cx="1420560" cy="1144800"/>
                <a:chOff x="4724640" y="1525680"/>
                <a:chExt cx="1420560" cy="11448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724640" y="1525680"/>
                  <a:ext cx="1420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2y</a:t>
                  </a:r>
                  <a:r>
                    <a:rPr b="0" lang="en-US" sz="3200" spc="-1" strike="noStrike" baseline="30000">
                      <a:solidFill>
                        <a:srgbClr val="3333cc"/>
                      </a:solidFill>
                      <a:latin typeface="Comic Sans MS"/>
                    </a:rPr>
                    <a:t>4</a:t>
                  </a: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r>
                    <a:rPr b="0" lang="en-US" sz="3200" spc="-1" strike="noStrike" baseline="30000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112000" y="2089080"/>
                  <a:ext cx="6476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r>
                    <a:rPr b="0" lang="en-US" sz="3200" spc="-1" strike="noStrike" baseline="30000">
                      <a:solidFill>
                        <a:srgbClr val="80808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4767480" y="2104920"/>
                  <a:ext cx="1333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3" name=""/>
          <p:cNvGrpSpPr/>
          <p:nvPr/>
        </p:nvGrpSpPr>
        <p:grpSpPr>
          <a:xfrm>
            <a:off x="3352680" y="3048120"/>
            <a:ext cx="1752840" cy="1114560"/>
            <a:chOff x="3352680" y="3048120"/>
            <a:chExt cx="1752840" cy="1114560"/>
          </a:xfrm>
        </p:grpSpPr>
        <p:sp>
          <p:nvSpPr>
            <p:cNvPr id="974" name=""/>
            <p:cNvSpPr/>
            <p:nvPr/>
          </p:nvSpPr>
          <p:spPr>
            <a:xfrm>
              <a:off x="3390840" y="3048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52680" y="35812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95680" y="30495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352680" y="3246480"/>
            <a:ext cx="2519640" cy="918000"/>
            <a:chOff x="3352680" y="3246480"/>
            <a:chExt cx="2519640" cy="918000"/>
          </a:xfrm>
        </p:grpSpPr>
        <p:sp>
          <p:nvSpPr>
            <p:cNvPr id="978" name=""/>
            <p:cNvSpPr/>
            <p:nvPr/>
          </p:nvSpPr>
          <p:spPr>
            <a:xfrm>
              <a:off x="3962520" y="3246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52680" y="3587760"/>
              <a:ext cx="53352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883040" y="358308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3200" spc="-1" strike="noStrike" baseline="30000">
                  <a:solidFill>
                    <a:srgbClr val="80808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538520" y="3605040"/>
              <a:ext cx="13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4894920" y="304956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276520" y="304956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 txBox="1"/>
          <p:nvPr/>
        </p:nvSpPr>
        <p:spPr>
          <a:xfrm>
            <a:off x="898560" y="1600200"/>
            <a:ext cx="740736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mplifying Fraction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ised to a Power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822240" y="1604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1600200" y="1781280"/>
            <a:ext cx="1676520" cy="1207800"/>
            <a:chOff x="1600200" y="1781280"/>
            <a:chExt cx="1676520" cy="1207800"/>
          </a:xfrm>
        </p:grpSpPr>
        <p:sp>
          <p:nvSpPr>
            <p:cNvPr id="988" name=""/>
            <p:cNvSpPr/>
            <p:nvPr/>
          </p:nvSpPr>
          <p:spPr>
            <a:xfrm>
              <a:off x="1600200" y="192744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43200" y="18129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2057400" y="1781280"/>
              <a:ext cx="533520" cy="1207800"/>
              <a:chOff x="2057400" y="1781280"/>
              <a:chExt cx="533520" cy="1207800"/>
            </a:xfrm>
          </p:grpSpPr>
          <p:sp>
            <p:nvSpPr>
              <p:cNvPr id="991" name=""/>
              <p:cNvSpPr/>
              <p:nvPr/>
            </p:nvSpPr>
            <p:spPr>
              <a:xfrm>
                <a:off x="2057400" y="1781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57400" y="23464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057400" y="23925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3124080" y="1781280"/>
            <a:ext cx="2666160" cy="1207800"/>
            <a:chOff x="3124080" y="1781280"/>
            <a:chExt cx="2666160" cy="1207800"/>
          </a:xfrm>
        </p:grpSpPr>
        <p:grpSp>
          <p:nvGrpSpPr>
            <p:cNvPr id="995" name=""/>
            <p:cNvGrpSpPr/>
            <p:nvPr/>
          </p:nvGrpSpPr>
          <p:grpSpPr>
            <a:xfrm>
              <a:off x="3809880" y="1781280"/>
              <a:ext cx="1980360" cy="1207800"/>
              <a:chOff x="3809880" y="1781280"/>
              <a:chExt cx="1980360" cy="1207800"/>
            </a:xfrm>
          </p:grpSpPr>
          <p:sp>
            <p:nvSpPr>
              <p:cNvPr id="996" name=""/>
              <p:cNvSpPr/>
              <p:nvPr/>
            </p:nvSpPr>
            <p:spPr>
              <a:xfrm>
                <a:off x="3809880" y="1781280"/>
                <a:ext cx="198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• 1 •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809880" y="2346480"/>
                <a:ext cx="198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 • 4 •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809880" y="2392560"/>
                <a:ext cx="198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>
              <a:off x="3124080" y="192708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867280" y="1781280"/>
            <a:ext cx="1599840" cy="1207800"/>
            <a:chOff x="5867280" y="1781280"/>
            <a:chExt cx="1599840" cy="1207800"/>
          </a:xfrm>
        </p:grpSpPr>
        <p:sp>
          <p:nvSpPr>
            <p:cNvPr id="1001" name=""/>
            <p:cNvSpPr/>
            <p:nvPr/>
          </p:nvSpPr>
          <p:spPr>
            <a:xfrm>
              <a:off x="5867280" y="192708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6629400" y="1781280"/>
              <a:ext cx="837720" cy="1207800"/>
              <a:chOff x="6629400" y="1781280"/>
              <a:chExt cx="837720" cy="1207800"/>
            </a:xfrm>
          </p:grpSpPr>
          <p:sp>
            <p:nvSpPr>
              <p:cNvPr id="1003" name=""/>
              <p:cNvSpPr/>
              <p:nvPr/>
            </p:nvSpPr>
            <p:spPr>
              <a:xfrm>
                <a:off x="6629400" y="1781280"/>
                <a:ext cx="83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629400" y="2346480"/>
                <a:ext cx="83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629400" y="2392560"/>
                <a:ext cx="83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" name=""/>
          <p:cNvGrpSpPr/>
          <p:nvPr/>
        </p:nvGrpSpPr>
        <p:grpSpPr>
          <a:xfrm>
            <a:off x="3124080" y="3213000"/>
            <a:ext cx="1447560" cy="1207800"/>
            <a:chOff x="3124080" y="3213000"/>
            <a:chExt cx="1447560" cy="1207800"/>
          </a:xfrm>
        </p:grpSpPr>
        <p:grpSp>
          <p:nvGrpSpPr>
            <p:cNvPr id="1007" name=""/>
            <p:cNvGrpSpPr/>
            <p:nvPr/>
          </p:nvGrpSpPr>
          <p:grpSpPr>
            <a:xfrm>
              <a:off x="3809880" y="3213000"/>
              <a:ext cx="761760" cy="1207800"/>
              <a:chOff x="3809880" y="3213000"/>
              <a:chExt cx="761760" cy="1207800"/>
            </a:xfrm>
          </p:grpSpPr>
          <p:sp>
            <p:nvSpPr>
              <p:cNvPr id="1008" name=""/>
              <p:cNvSpPr/>
              <p:nvPr/>
            </p:nvSpPr>
            <p:spPr>
              <a:xfrm>
                <a:off x="3809880" y="32130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809880" y="37782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809880" y="38242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3124080" y="335916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648320" y="3213000"/>
            <a:ext cx="1599840" cy="1207800"/>
            <a:chOff x="4648320" y="3213000"/>
            <a:chExt cx="1599840" cy="1207800"/>
          </a:xfrm>
        </p:grpSpPr>
        <p:sp>
          <p:nvSpPr>
            <p:cNvPr id="1013" name=""/>
            <p:cNvSpPr/>
            <p:nvPr/>
          </p:nvSpPr>
          <p:spPr>
            <a:xfrm>
              <a:off x="4648320" y="335916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5410080" y="3213000"/>
              <a:ext cx="838080" cy="1207800"/>
              <a:chOff x="5410080" y="3213000"/>
              <a:chExt cx="838080" cy="1207800"/>
            </a:xfrm>
          </p:grpSpPr>
          <p:sp>
            <p:nvSpPr>
              <p:cNvPr id="1015" name=""/>
              <p:cNvSpPr/>
              <p:nvPr/>
            </p:nvSpPr>
            <p:spPr>
              <a:xfrm>
                <a:off x="5410080" y="32130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410080" y="37782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410080" y="38242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8" name=""/>
          <p:cNvGrpSpPr/>
          <p:nvPr/>
        </p:nvGrpSpPr>
        <p:grpSpPr>
          <a:xfrm>
            <a:off x="1600200" y="4660920"/>
            <a:ext cx="1676520" cy="1207800"/>
            <a:chOff x="1600200" y="4660920"/>
            <a:chExt cx="1676520" cy="1207800"/>
          </a:xfrm>
        </p:grpSpPr>
        <p:sp>
          <p:nvSpPr>
            <p:cNvPr id="1019" name=""/>
            <p:cNvSpPr/>
            <p:nvPr/>
          </p:nvSpPr>
          <p:spPr>
            <a:xfrm>
              <a:off x="1600200" y="4807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43200" y="4692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57400" y="4660920"/>
              <a:ext cx="533520" cy="1207800"/>
              <a:chOff x="2057400" y="4660920"/>
              <a:chExt cx="533520" cy="1207800"/>
            </a:xfrm>
          </p:grpSpPr>
          <p:sp>
            <p:nvSpPr>
              <p:cNvPr id="1022" name=""/>
              <p:cNvSpPr/>
              <p:nvPr/>
            </p:nvSpPr>
            <p:spPr>
              <a:xfrm>
                <a:off x="2057400" y="4660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057400" y="52261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057400" y="5272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3124080" y="4660920"/>
            <a:ext cx="1447560" cy="1207800"/>
            <a:chOff x="3124080" y="4660920"/>
            <a:chExt cx="1447560" cy="1207800"/>
          </a:xfrm>
        </p:grpSpPr>
        <p:grpSp>
          <p:nvGrpSpPr>
            <p:cNvPr id="1026" name=""/>
            <p:cNvGrpSpPr/>
            <p:nvPr/>
          </p:nvGrpSpPr>
          <p:grpSpPr>
            <a:xfrm>
              <a:off x="3809880" y="4660920"/>
              <a:ext cx="761760" cy="1207800"/>
              <a:chOff x="3809880" y="4660920"/>
              <a:chExt cx="761760" cy="1207800"/>
            </a:xfrm>
          </p:grpSpPr>
          <p:sp>
            <p:nvSpPr>
              <p:cNvPr id="1027" name=""/>
              <p:cNvSpPr/>
              <p:nvPr/>
            </p:nvSpPr>
            <p:spPr>
              <a:xfrm>
                <a:off x="3809880" y="466092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09880" y="522612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09880" y="52722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0" name=""/>
            <p:cNvSpPr/>
            <p:nvPr/>
          </p:nvSpPr>
          <p:spPr>
            <a:xfrm>
              <a:off x="3124080" y="480708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4648320" y="4660920"/>
            <a:ext cx="1599840" cy="1207800"/>
            <a:chOff x="4648320" y="4660920"/>
            <a:chExt cx="1599840" cy="1207800"/>
          </a:xfrm>
        </p:grpSpPr>
        <p:sp>
          <p:nvSpPr>
            <p:cNvPr id="1032" name=""/>
            <p:cNvSpPr/>
            <p:nvPr/>
          </p:nvSpPr>
          <p:spPr>
            <a:xfrm>
              <a:off x="4648320" y="480708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5410080" y="4660920"/>
              <a:ext cx="838080" cy="1207800"/>
              <a:chOff x="5410080" y="4660920"/>
              <a:chExt cx="838080" cy="1207800"/>
            </a:xfrm>
          </p:grpSpPr>
          <p:sp>
            <p:nvSpPr>
              <p:cNvPr id="1034" name=""/>
              <p:cNvSpPr/>
              <p:nvPr/>
            </p:nvSpPr>
            <p:spPr>
              <a:xfrm>
                <a:off x="5410080" y="46609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10080" y="52261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410080" y="52722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7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ons Raised to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505320" y="2590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ust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200400" y="3352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a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2971800" y="4203720"/>
            <a:ext cx="3186000" cy="2046960"/>
            <a:chOff x="2971800" y="4203720"/>
            <a:chExt cx="3186000" cy="2046960"/>
          </a:xfrm>
        </p:grpSpPr>
        <p:grpSp>
          <p:nvGrpSpPr>
            <p:cNvPr id="1042" name=""/>
            <p:cNvGrpSpPr/>
            <p:nvPr/>
          </p:nvGrpSpPr>
          <p:grpSpPr>
            <a:xfrm>
              <a:off x="3078000" y="4203720"/>
              <a:ext cx="2971440" cy="1207800"/>
              <a:chOff x="3078000" y="4203720"/>
              <a:chExt cx="2971440" cy="120780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3078000" y="4203720"/>
                <a:ext cx="1676520" cy="1207800"/>
                <a:chOff x="3078000" y="4203720"/>
                <a:chExt cx="1676520" cy="120780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3078000" y="4349880"/>
                  <a:ext cx="14479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Comic Sans MS"/>
                    </a:rPr>
                    <a:t>(   )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1000" y="42354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6" name=""/>
                <p:cNvGrpSpPr/>
                <p:nvPr/>
              </p:nvGrpSpPr>
              <p:grpSpPr>
                <a:xfrm>
                  <a:off x="3535200" y="4203720"/>
                  <a:ext cx="533520" cy="1207800"/>
                  <a:chOff x="3535200" y="4203720"/>
                  <a:chExt cx="533520" cy="120780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3535200" y="4203720"/>
                    <a:ext cx="5335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535200" y="4768920"/>
                    <a:ext cx="5335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535200" y="4815000"/>
                    <a:ext cx="5335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0" name=""/>
              <p:cNvSpPr/>
              <p:nvPr/>
            </p:nvSpPr>
            <p:spPr>
              <a:xfrm>
                <a:off x="4664520" y="4456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5287680" y="4203720"/>
                <a:ext cx="761760" cy="1207800"/>
                <a:chOff x="5287680" y="4203720"/>
                <a:chExt cx="761760" cy="12078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287680" y="4203720"/>
                  <a:ext cx="761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en-US" sz="36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5287680" y="4768920"/>
                  <a:ext cx="761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r>
                    <a:rPr b="0" lang="en-US" sz="36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287680" y="481500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5" name=""/>
            <p:cNvSpPr/>
            <p:nvPr/>
          </p:nvSpPr>
          <p:spPr>
            <a:xfrm>
              <a:off x="2971800" y="5486400"/>
              <a:ext cx="31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where b </a:t>
              </a: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ons Raised to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048120" y="3354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3354480"/>
            <a:ext cx="173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181480" y="33526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 • 4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• 4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71800" y="43131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724280" y="431316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523880" y="51339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ultiply each exponent by the power it is rais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38280" y="2362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791320" y="2362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04880" y="2362320"/>
            <a:ext cx="14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• 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ons Raised to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"/>
          <p:cNvGrpSpPr/>
          <p:nvPr/>
        </p:nvGrpSpPr>
        <p:grpSpPr>
          <a:xfrm>
            <a:off x="1981080" y="1706400"/>
            <a:ext cx="2991600" cy="1282680"/>
            <a:chOff x="1981080" y="1706400"/>
            <a:chExt cx="2991600" cy="1282680"/>
          </a:xfrm>
        </p:grpSpPr>
        <p:sp>
          <p:nvSpPr>
            <p:cNvPr id="1069" name=""/>
            <p:cNvSpPr/>
            <p:nvPr/>
          </p:nvSpPr>
          <p:spPr>
            <a:xfrm>
              <a:off x="1981080" y="192708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(       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962520" y="1706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2476440" y="1781280"/>
              <a:ext cx="1370880" cy="1207800"/>
              <a:chOff x="2476440" y="1781280"/>
              <a:chExt cx="1370880" cy="1207800"/>
            </a:xfrm>
          </p:grpSpPr>
          <p:sp>
            <p:nvSpPr>
              <p:cNvPr id="1072" name=""/>
              <p:cNvSpPr/>
              <p:nvPr/>
            </p:nvSpPr>
            <p:spPr>
              <a:xfrm>
                <a:off x="2476440" y="1781280"/>
                <a:ext cx="137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3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476440" y="2346480"/>
                <a:ext cx="137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476440" y="2392560"/>
                <a:ext cx="137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4400280" y="187488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5181480" y="1728720"/>
            <a:ext cx="1981440" cy="1207800"/>
            <a:chOff x="5181480" y="1728720"/>
            <a:chExt cx="1981440" cy="1207800"/>
          </a:xfrm>
        </p:grpSpPr>
        <p:sp>
          <p:nvSpPr>
            <p:cNvPr id="1077" name=""/>
            <p:cNvSpPr/>
            <p:nvPr/>
          </p:nvSpPr>
          <p:spPr>
            <a:xfrm>
              <a:off x="5181480" y="172872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-3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546880" y="22939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2c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81480" y="2340000"/>
              <a:ext cx="198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695760" y="4800600"/>
            <a:ext cx="1735200" cy="1220400"/>
            <a:chOff x="3695760" y="4800600"/>
            <a:chExt cx="1735200" cy="1220400"/>
          </a:xfrm>
        </p:grpSpPr>
        <p:sp>
          <p:nvSpPr>
            <p:cNvPr id="1081" name=""/>
            <p:cNvSpPr/>
            <p:nvPr/>
          </p:nvSpPr>
          <p:spPr>
            <a:xfrm>
              <a:off x="3714840" y="4800600"/>
              <a:ext cx="169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-27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95760" y="5410080"/>
              <a:ext cx="1735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14800" y="5378400"/>
              <a:ext cx="89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8c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105520" y="3276720"/>
            <a:ext cx="2171520" cy="1220400"/>
            <a:chOff x="5105520" y="3276720"/>
            <a:chExt cx="2171520" cy="1220400"/>
          </a:xfrm>
        </p:grpSpPr>
        <p:sp>
          <p:nvSpPr>
            <p:cNvPr id="1085" name=""/>
            <p:cNvSpPr/>
            <p:nvPr/>
          </p:nvSpPr>
          <p:spPr>
            <a:xfrm>
              <a:off x="5599080" y="3854520"/>
              <a:ext cx="118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62400" y="3900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05520" y="3276720"/>
              <a:ext cx="217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-3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714680" y="3276720"/>
            <a:ext cx="3258000" cy="1220400"/>
            <a:chOff x="1714680" y="3276720"/>
            <a:chExt cx="3258000" cy="1220400"/>
          </a:xfrm>
        </p:grpSpPr>
        <p:grpSp>
          <p:nvGrpSpPr>
            <p:cNvPr id="1089" name=""/>
            <p:cNvGrpSpPr/>
            <p:nvPr/>
          </p:nvGrpSpPr>
          <p:grpSpPr>
            <a:xfrm>
              <a:off x="1714680" y="3276720"/>
              <a:ext cx="2552400" cy="1220400"/>
              <a:chOff x="1714680" y="3276720"/>
              <a:chExt cx="2552400" cy="1220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2398320" y="3854520"/>
                <a:ext cx="118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14680" y="3900600"/>
                <a:ext cx="255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14680" y="3276720"/>
                <a:ext cx="2552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-3)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 • 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4400280" y="3429000"/>
              <a:ext cx="5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1752480" y="762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ons Raised to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1066680" y="1523880"/>
            <a:ext cx="70106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pplication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us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ication of Fraction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76520" y="266688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½ of ¾ cup brown su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05320" y="36417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½ • 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79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applications involving multiplying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14479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eet demand, a car dealer wants 1/5 of his 120 vehicle inventory to consist of light trucks. How many light trucks should he have on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33520" y="14479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eet demand, a car dealer wants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/5 of his 120 vehicle inventor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consist of light trucks.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any light trucks should he have on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3429000" y="3733920"/>
            <a:ext cx="2286000" cy="1084680"/>
            <a:chOff x="3429000" y="3733920"/>
            <a:chExt cx="2286000" cy="1084680"/>
          </a:xfrm>
        </p:grpSpPr>
        <p:grpSp>
          <p:nvGrpSpPr>
            <p:cNvPr id="1102" name=""/>
            <p:cNvGrpSpPr/>
            <p:nvPr/>
          </p:nvGrpSpPr>
          <p:grpSpPr>
            <a:xfrm>
              <a:off x="3429000" y="3733920"/>
              <a:ext cx="533160" cy="1084680"/>
              <a:chOff x="3429000" y="3733920"/>
              <a:chExt cx="533160" cy="1084680"/>
            </a:xfrm>
          </p:grpSpPr>
          <p:sp>
            <p:nvSpPr>
              <p:cNvPr id="1103" name=""/>
              <p:cNvSpPr/>
              <p:nvPr/>
            </p:nvSpPr>
            <p:spPr>
              <a:xfrm>
                <a:off x="3429000" y="3733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429000" y="42372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429000" y="4283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3962520" y="39546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0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4840200" y="505764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4 light tru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2034000" y="4724280"/>
            <a:ext cx="2891880" cy="1800720"/>
            <a:chOff x="2034000" y="4724280"/>
            <a:chExt cx="2891880" cy="1800720"/>
          </a:xfrm>
        </p:grpSpPr>
        <p:grpSp>
          <p:nvGrpSpPr>
            <p:cNvPr id="1109" name=""/>
            <p:cNvGrpSpPr/>
            <p:nvPr/>
          </p:nvGrpSpPr>
          <p:grpSpPr>
            <a:xfrm>
              <a:off x="2362320" y="5111640"/>
              <a:ext cx="533160" cy="1084680"/>
              <a:chOff x="2362320" y="5111640"/>
              <a:chExt cx="533160" cy="1084680"/>
            </a:xfrm>
          </p:grpSpPr>
          <p:sp>
            <p:nvSpPr>
              <p:cNvPr id="1110" name=""/>
              <p:cNvSpPr/>
              <p:nvPr/>
            </p:nvSpPr>
            <p:spPr>
              <a:xfrm>
                <a:off x="2362320" y="51116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362320" y="5614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362320" y="56610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2995200" y="53323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3505320" y="5111640"/>
              <a:ext cx="914040" cy="1084680"/>
              <a:chOff x="3505320" y="5111640"/>
              <a:chExt cx="914040" cy="1084680"/>
            </a:xfrm>
          </p:grpSpPr>
          <p:sp>
            <p:nvSpPr>
              <p:cNvPr id="1115" name=""/>
              <p:cNvSpPr/>
              <p:nvPr/>
            </p:nvSpPr>
            <p:spPr>
              <a:xfrm>
                <a:off x="3505320" y="511164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2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505320" y="561492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505320" y="56610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4483080" y="5332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362320" y="5765400"/>
              <a:ext cx="533160" cy="282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581280" y="5226120"/>
              <a:ext cx="838440" cy="365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34000" y="5943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137480" y="47242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1828800" y="3886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triangle = ½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3168360" y="2057400"/>
            <a:ext cx="2851560" cy="1892160"/>
            <a:chOff x="3168360" y="2057400"/>
            <a:chExt cx="2851560" cy="1892160"/>
          </a:xfrm>
        </p:grpSpPr>
        <p:sp>
          <p:nvSpPr>
            <p:cNvPr id="1127" name=""/>
            <p:cNvSpPr/>
            <p:nvPr/>
          </p:nvSpPr>
          <p:spPr>
            <a:xfrm>
              <a:off x="4125960" y="3429000"/>
              <a:ext cx="96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00400" y="2057400"/>
              <a:ext cx="2819520" cy="1371600"/>
            </a:xfrm>
            <a:prstGeom prst="rtTriangl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68360" y="248436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14300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½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base times the h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"/>
          <p:cNvGrpSpPr/>
          <p:nvPr/>
        </p:nvGrpSpPr>
        <p:grpSpPr>
          <a:xfrm>
            <a:off x="533520" y="1535040"/>
            <a:ext cx="8076960" cy="2228040"/>
            <a:chOff x="533520" y="1535040"/>
            <a:chExt cx="8076960" cy="2228040"/>
          </a:xfrm>
        </p:grpSpPr>
        <p:sp>
          <p:nvSpPr>
            <p:cNvPr id="1133" name=""/>
            <p:cNvSpPr/>
            <p:nvPr/>
          </p:nvSpPr>
          <p:spPr>
            <a:xfrm>
              <a:off x="533520" y="1535040"/>
              <a:ext cx="8076960" cy="22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A tile company produces decorative triangular tiles that have a base of   3    inches and a height of 2    inches. Find the area.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879840" y="2244600"/>
              <a:ext cx="461160" cy="1023120"/>
              <a:chOff x="879840" y="2244600"/>
              <a:chExt cx="461160" cy="1023120"/>
            </a:xfrm>
          </p:grpSpPr>
          <p:sp>
            <p:nvSpPr>
              <p:cNvPr id="1135" name=""/>
              <p:cNvSpPr/>
              <p:nvPr/>
            </p:nvSpPr>
            <p:spPr>
              <a:xfrm>
                <a:off x="884880" y="22446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Bookshelf Symbol 2"/>
                    <a:ea typeface="Bookshelf Symbol 2"/>
                  </a:rPr>
                  <a:t>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9840" y="2503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Bookshelf Symbol 2"/>
                    <a:ea typeface="Bookshelf Symbol 2"/>
                  </a:rPr>
                  <a:t>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925560" y="288432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6431400" y="2198520"/>
              <a:ext cx="461160" cy="1069200"/>
              <a:chOff x="6431400" y="2198520"/>
              <a:chExt cx="461160" cy="106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431400" y="219852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Bookshelf Symbol 2"/>
                    <a:ea typeface="Bookshelf Symbol 2"/>
                  </a:rPr>
                  <a:t>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431400" y="2503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Bookshelf Symbol 2"/>
                    <a:ea typeface="Bookshelf Symbol 2"/>
                  </a:rPr>
                  <a:t>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477120" y="2884320"/>
                <a:ext cx="369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2" name=""/>
          <p:cNvGrpSpPr/>
          <p:nvPr/>
        </p:nvGrpSpPr>
        <p:grpSpPr>
          <a:xfrm>
            <a:off x="533520" y="1535040"/>
            <a:ext cx="8076960" cy="2228040"/>
            <a:chOff x="533520" y="1535040"/>
            <a:chExt cx="8076960" cy="2228040"/>
          </a:xfrm>
        </p:grpSpPr>
        <p:sp>
          <p:nvSpPr>
            <p:cNvPr id="1143" name=""/>
            <p:cNvSpPr/>
            <p:nvPr/>
          </p:nvSpPr>
          <p:spPr>
            <a:xfrm>
              <a:off x="533520" y="1535040"/>
              <a:ext cx="8076960" cy="22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A tile company produces decorative triangular tiles that have a </a:t>
              </a: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base of   3    inches</a:t>
              </a: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 and a </a:t>
              </a:r>
              <a:r>
                <a:rPr b="0" lang="en-US" sz="3500" spc="-1" strike="noStrike">
                  <a:solidFill>
                    <a:srgbClr val="0000ff"/>
                  </a:solidFill>
                  <a:latin typeface="Comic Sans MS"/>
                </a:rPr>
                <a:t>height of 2    inches</a:t>
              </a: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r>
                <a:rPr b="0" lang="en-US" sz="3500" spc="-1" strike="noStrike">
                  <a:solidFill>
                    <a:srgbClr val="808080"/>
                  </a:solidFill>
                  <a:latin typeface="Comic Sans MS"/>
                </a:rPr>
                <a:t>Find the area</a:t>
              </a:r>
              <a:r>
                <a:rPr b="0" lang="en-US" sz="35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879840" y="2244600"/>
              <a:ext cx="461160" cy="1023120"/>
              <a:chOff x="879840" y="2244600"/>
              <a:chExt cx="461160" cy="1023120"/>
            </a:xfrm>
          </p:grpSpPr>
          <p:sp>
            <p:nvSpPr>
              <p:cNvPr id="1145" name=""/>
              <p:cNvSpPr/>
              <p:nvPr/>
            </p:nvSpPr>
            <p:spPr>
              <a:xfrm>
                <a:off x="892800" y="22446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Bookshelf Symbol 2"/>
                    <a:ea typeface="Bookshelf Symbol 2"/>
                  </a:rPr>
                  <a:t>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79840" y="2503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Bookshelf Symbol 2"/>
                    <a:ea typeface="Bookshelf Symbol 2"/>
                  </a:rPr>
                  <a:t>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25560" y="2884320"/>
                <a:ext cx="369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431400" y="2198520"/>
              <a:ext cx="461160" cy="1069200"/>
              <a:chOff x="6431400" y="2198520"/>
              <a:chExt cx="461160" cy="1069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6431400" y="219852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Bookshelf Symbol 2"/>
                    <a:ea typeface="Bookshelf Symbol 2"/>
                  </a:rPr>
                  <a:t>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431400" y="25034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Bookshelf Symbol 2"/>
                    <a:ea typeface="Bookshelf Symbol 2"/>
                  </a:rPr>
                  <a:t>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477120" y="2884320"/>
                <a:ext cx="3697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2" name=""/>
          <p:cNvGrpSpPr/>
          <p:nvPr/>
        </p:nvGrpSpPr>
        <p:grpSpPr>
          <a:xfrm>
            <a:off x="3124080" y="3732120"/>
            <a:ext cx="2743200" cy="2746800"/>
            <a:chOff x="3124080" y="3732120"/>
            <a:chExt cx="2743200" cy="2746800"/>
          </a:xfrm>
        </p:grpSpPr>
        <p:sp>
          <p:nvSpPr>
            <p:cNvPr id="1153" name=""/>
            <p:cNvSpPr/>
            <p:nvPr/>
          </p:nvSpPr>
          <p:spPr>
            <a:xfrm>
              <a:off x="3124080" y="3732120"/>
              <a:ext cx="2743200" cy="20588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495680" y="37638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3984120" y="5592600"/>
              <a:ext cx="1023480" cy="886320"/>
              <a:chOff x="3984120" y="5592600"/>
              <a:chExt cx="1023480" cy="8863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984120" y="58514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4334400" y="5592600"/>
                <a:ext cx="384840" cy="886320"/>
                <a:chOff x="4334400" y="5592600"/>
                <a:chExt cx="384840" cy="88632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4334400" y="55926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334400" y="589752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341960" y="613548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>
                <a:off x="4680720" y="585144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428360" y="4708440"/>
              <a:ext cx="1049040" cy="885960"/>
              <a:chOff x="4428360" y="4708440"/>
              <a:chExt cx="1049040" cy="885960"/>
            </a:xfrm>
          </p:grpSpPr>
          <p:sp>
            <p:nvSpPr>
              <p:cNvPr id="1163" name=""/>
              <p:cNvSpPr/>
              <p:nvPr/>
            </p:nvSpPr>
            <p:spPr>
              <a:xfrm>
                <a:off x="4428360" y="4982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4773600" y="4708440"/>
                <a:ext cx="384840" cy="885960"/>
                <a:chOff x="4773600" y="4708440"/>
                <a:chExt cx="384840" cy="8859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773600" y="47084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6" name=""/>
                <p:cNvGrpSpPr/>
                <p:nvPr/>
              </p:nvGrpSpPr>
              <p:grpSpPr>
                <a:xfrm>
                  <a:off x="4773600" y="5013000"/>
                  <a:ext cx="384840" cy="581400"/>
                  <a:chOff x="4773600" y="5013000"/>
                  <a:chExt cx="384840" cy="58140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4773600" y="5013000"/>
                    <a:ext cx="38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Bookshelf Symbol 2"/>
                        <a:ea typeface="Bookshelf Symbol 2"/>
                      </a:rPr>
                      <a:t>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781520" y="5251320"/>
                    <a:ext cx="369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9" name=""/>
              <p:cNvSpPr/>
              <p:nvPr/>
            </p:nvSpPr>
            <p:spPr>
              <a:xfrm>
                <a:off x="5150520" y="498276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0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685800" y="1660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85800" y="3946680"/>
            <a:ext cx="3733920" cy="1206720"/>
            <a:chOff x="685800" y="3946680"/>
            <a:chExt cx="3733920" cy="1206720"/>
          </a:xfrm>
        </p:grpSpPr>
        <p:sp>
          <p:nvSpPr>
            <p:cNvPr id="1173" name=""/>
            <p:cNvSpPr/>
            <p:nvPr/>
          </p:nvSpPr>
          <p:spPr>
            <a:xfrm>
              <a:off x="914400" y="457200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omic Sans MS"/>
                </a:rPr>
                <a:t>what is the area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85800" y="39466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Asked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914400" y="2057400"/>
            <a:ext cx="3962520" cy="1602000"/>
            <a:chOff x="914400" y="2057400"/>
            <a:chExt cx="3962520" cy="1602000"/>
          </a:xfrm>
        </p:grpSpPr>
        <p:grpSp>
          <p:nvGrpSpPr>
            <p:cNvPr id="1176" name=""/>
            <p:cNvGrpSpPr/>
            <p:nvPr/>
          </p:nvGrpSpPr>
          <p:grpSpPr>
            <a:xfrm>
              <a:off x="914400" y="2057400"/>
              <a:ext cx="3505320" cy="885960"/>
              <a:chOff x="914400" y="2057400"/>
              <a:chExt cx="3505320" cy="885960"/>
            </a:xfrm>
          </p:grpSpPr>
          <p:sp>
            <p:nvSpPr>
              <p:cNvPr id="1177" name=""/>
              <p:cNvSpPr/>
              <p:nvPr/>
            </p:nvSpPr>
            <p:spPr>
              <a:xfrm>
                <a:off x="914400" y="2295360"/>
                <a:ext cx="3505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base = 3    inch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2558160" y="2057400"/>
                <a:ext cx="402480" cy="885960"/>
                <a:chOff x="2558160" y="2057400"/>
                <a:chExt cx="402480" cy="8859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2558160" y="20574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Bookshelf Symbol 2"/>
                      <a:ea typeface="Bookshelf Symbol 2"/>
                    </a:rPr>
                    <a:t>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558160" y="236196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590920" y="260028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2" name=""/>
            <p:cNvGrpSpPr/>
            <p:nvPr/>
          </p:nvGrpSpPr>
          <p:grpSpPr>
            <a:xfrm>
              <a:off x="914400" y="2773440"/>
              <a:ext cx="3962520" cy="885960"/>
              <a:chOff x="914400" y="2773440"/>
              <a:chExt cx="3962520" cy="885960"/>
            </a:xfrm>
          </p:grpSpPr>
          <p:sp>
            <p:nvSpPr>
              <p:cNvPr id="1183" name=""/>
              <p:cNvSpPr/>
              <p:nvPr/>
            </p:nvSpPr>
            <p:spPr>
              <a:xfrm>
                <a:off x="914400" y="3040200"/>
                <a:ext cx="396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height = 2    inch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4" name=""/>
              <p:cNvGrpSpPr/>
              <p:nvPr/>
            </p:nvGrpSpPr>
            <p:grpSpPr>
              <a:xfrm>
                <a:off x="2939040" y="2773440"/>
                <a:ext cx="402480" cy="885960"/>
                <a:chOff x="2939040" y="2773440"/>
                <a:chExt cx="402480" cy="88596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2939040" y="27734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939040" y="30780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Bookshelf Symbol 2"/>
                      <a:ea typeface="Bookshelf Symbol 2"/>
                    </a:rPr>
                    <a:t>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971800" y="331632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8" name=""/>
          <p:cNvGrpSpPr/>
          <p:nvPr/>
        </p:nvGrpSpPr>
        <p:grpSpPr>
          <a:xfrm>
            <a:off x="5257800" y="1523880"/>
            <a:ext cx="2743200" cy="2746800"/>
            <a:chOff x="5257800" y="1523880"/>
            <a:chExt cx="2743200" cy="2746800"/>
          </a:xfrm>
        </p:grpSpPr>
        <p:sp>
          <p:nvSpPr>
            <p:cNvPr id="1189" name=""/>
            <p:cNvSpPr/>
            <p:nvPr/>
          </p:nvSpPr>
          <p:spPr>
            <a:xfrm>
              <a:off x="5257800" y="1523880"/>
              <a:ext cx="2743200" cy="20588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29400" y="155556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6117840" y="3384360"/>
              <a:ext cx="1023480" cy="886320"/>
              <a:chOff x="6117840" y="3384360"/>
              <a:chExt cx="1023480" cy="886320"/>
            </a:xfrm>
          </p:grpSpPr>
          <p:sp>
            <p:nvSpPr>
              <p:cNvPr id="1192" name=""/>
              <p:cNvSpPr/>
              <p:nvPr/>
            </p:nvSpPr>
            <p:spPr>
              <a:xfrm>
                <a:off x="6117840" y="3643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6468120" y="3384360"/>
                <a:ext cx="384840" cy="886320"/>
                <a:chOff x="6468120" y="3384360"/>
                <a:chExt cx="384840" cy="8863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6468120" y="338436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6468120" y="36892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6475680" y="392724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"/>
              <p:cNvSpPr/>
              <p:nvPr/>
            </p:nvSpPr>
            <p:spPr>
              <a:xfrm>
                <a:off x="6814440" y="364320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6562080" y="2500200"/>
              <a:ext cx="1049040" cy="885960"/>
              <a:chOff x="6562080" y="2500200"/>
              <a:chExt cx="1049040" cy="885960"/>
            </a:xfrm>
          </p:grpSpPr>
          <p:sp>
            <p:nvSpPr>
              <p:cNvPr id="1199" name=""/>
              <p:cNvSpPr/>
              <p:nvPr/>
            </p:nvSpPr>
            <p:spPr>
              <a:xfrm>
                <a:off x="6562080" y="2774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0" name=""/>
              <p:cNvGrpSpPr/>
              <p:nvPr/>
            </p:nvGrpSpPr>
            <p:grpSpPr>
              <a:xfrm>
                <a:off x="6907320" y="2500200"/>
                <a:ext cx="384840" cy="885960"/>
                <a:chOff x="6907320" y="2500200"/>
                <a:chExt cx="384840" cy="8859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907320" y="25002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2" name=""/>
                <p:cNvGrpSpPr/>
                <p:nvPr/>
              </p:nvGrpSpPr>
              <p:grpSpPr>
                <a:xfrm>
                  <a:off x="6907320" y="2804760"/>
                  <a:ext cx="384840" cy="581400"/>
                  <a:chOff x="6907320" y="2804760"/>
                  <a:chExt cx="384840" cy="58140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6907320" y="2804760"/>
                    <a:ext cx="38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Bookshelf Symbol 2"/>
                        <a:ea typeface="Bookshelf Symbol 2"/>
                      </a:rPr>
                      <a:t>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6915240" y="3043080"/>
                    <a:ext cx="369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5" name=""/>
              <p:cNvSpPr/>
              <p:nvPr/>
            </p:nvSpPr>
            <p:spPr>
              <a:xfrm>
                <a:off x="7284240" y="277452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6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124080" y="1820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½ • b • 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57200" y="1523880"/>
            <a:ext cx="2743200" cy="2746800"/>
            <a:chOff x="457200" y="1523880"/>
            <a:chExt cx="2743200" cy="2746800"/>
          </a:xfrm>
        </p:grpSpPr>
        <p:sp>
          <p:nvSpPr>
            <p:cNvPr id="1209" name=""/>
            <p:cNvSpPr/>
            <p:nvPr/>
          </p:nvSpPr>
          <p:spPr>
            <a:xfrm>
              <a:off x="457200" y="1523880"/>
              <a:ext cx="2743200" cy="20588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28800" y="155556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1317240" y="3384360"/>
              <a:ext cx="1023480" cy="886320"/>
              <a:chOff x="1317240" y="3384360"/>
              <a:chExt cx="1023480" cy="886320"/>
            </a:xfrm>
          </p:grpSpPr>
          <p:sp>
            <p:nvSpPr>
              <p:cNvPr id="1212" name=""/>
              <p:cNvSpPr/>
              <p:nvPr/>
            </p:nvSpPr>
            <p:spPr>
              <a:xfrm>
                <a:off x="1317240" y="3643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1667520" y="3384360"/>
                <a:ext cx="384840" cy="886320"/>
                <a:chOff x="1667520" y="3384360"/>
                <a:chExt cx="384840" cy="88632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1667520" y="338436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667520" y="36892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1675080" y="392724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7" name=""/>
              <p:cNvSpPr/>
              <p:nvPr/>
            </p:nvSpPr>
            <p:spPr>
              <a:xfrm>
                <a:off x="2013840" y="364320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1761480" y="2500200"/>
              <a:ext cx="1049040" cy="885960"/>
              <a:chOff x="1761480" y="2500200"/>
              <a:chExt cx="1049040" cy="885960"/>
            </a:xfrm>
          </p:grpSpPr>
          <p:sp>
            <p:nvSpPr>
              <p:cNvPr id="1219" name=""/>
              <p:cNvSpPr/>
              <p:nvPr/>
            </p:nvSpPr>
            <p:spPr>
              <a:xfrm>
                <a:off x="1761480" y="2774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0" name=""/>
              <p:cNvGrpSpPr/>
              <p:nvPr/>
            </p:nvGrpSpPr>
            <p:grpSpPr>
              <a:xfrm>
                <a:off x="2106720" y="2500200"/>
                <a:ext cx="384840" cy="885960"/>
                <a:chOff x="2106720" y="2500200"/>
                <a:chExt cx="384840" cy="8859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106720" y="25002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Bookshelf Symbol 2"/>
                      <a:ea typeface="Bookshelf Symbol 2"/>
                    </a:rPr>
                    <a:t>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2" name=""/>
                <p:cNvGrpSpPr/>
                <p:nvPr/>
              </p:nvGrpSpPr>
              <p:grpSpPr>
                <a:xfrm>
                  <a:off x="2106720" y="2804760"/>
                  <a:ext cx="384840" cy="581400"/>
                  <a:chOff x="2106720" y="2804760"/>
                  <a:chExt cx="384840" cy="581400"/>
                </a:xfrm>
              </p:grpSpPr>
              <p:sp>
                <p:nvSpPr>
                  <p:cNvPr id="1223" name=""/>
                  <p:cNvSpPr/>
                  <p:nvPr/>
                </p:nvSpPr>
                <p:spPr>
                  <a:xfrm>
                    <a:off x="2106720" y="2804760"/>
                    <a:ext cx="38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200" spc="-1" strike="noStrike">
                        <a:solidFill>
                          <a:srgbClr val="000000"/>
                        </a:solidFill>
                        <a:latin typeface="Bookshelf Symbol 2"/>
                        <a:ea typeface="Bookshelf Symbol 2"/>
                      </a:rPr>
                      <a:t>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114640" y="3043080"/>
                    <a:ext cx="369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25" name=""/>
              <p:cNvSpPr/>
              <p:nvPr/>
            </p:nvSpPr>
            <p:spPr>
              <a:xfrm>
                <a:off x="2483640" y="2774520"/>
                <a:ext cx="32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”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6" name=""/>
          <p:cNvGrpSpPr/>
          <p:nvPr/>
        </p:nvGrpSpPr>
        <p:grpSpPr>
          <a:xfrm>
            <a:off x="3124080" y="2735280"/>
            <a:ext cx="4038840" cy="1154520"/>
            <a:chOff x="3124080" y="2735280"/>
            <a:chExt cx="4038840" cy="1154520"/>
          </a:xfrm>
        </p:grpSpPr>
        <p:sp>
          <p:nvSpPr>
            <p:cNvPr id="1227" name=""/>
            <p:cNvSpPr/>
            <p:nvPr/>
          </p:nvSpPr>
          <p:spPr>
            <a:xfrm>
              <a:off x="3124080" y="2990880"/>
              <a:ext cx="9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8" name=""/>
            <p:cNvGrpSpPr/>
            <p:nvPr/>
          </p:nvGrpSpPr>
          <p:grpSpPr>
            <a:xfrm>
              <a:off x="5284800" y="2735280"/>
              <a:ext cx="679320" cy="1154520"/>
              <a:chOff x="5284800" y="2735280"/>
              <a:chExt cx="679320" cy="1154520"/>
            </a:xfrm>
          </p:grpSpPr>
          <p:sp>
            <p:nvSpPr>
              <p:cNvPr id="1229" name=""/>
              <p:cNvSpPr/>
              <p:nvPr/>
            </p:nvSpPr>
            <p:spPr>
              <a:xfrm>
                <a:off x="5299920" y="2735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416920" y="3308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84800" y="330840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4197240" y="2735280"/>
              <a:ext cx="527040" cy="1154160"/>
              <a:chOff x="4197240" y="2735280"/>
              <a:chExt cx="527040" cy="1154160"/>
            </a:xfrm>
          </p:grpSpPr>
          <p:sp>
            <p:nvSpPr>
              <p:cNvPr id="1233" name=""/>
              <p:cNvSpPr/>
              <p:nvPr/>
            </p:nvSpPr>
            <p:spPr>
              <a:xfrm>
                <a:off x="4253040" y="273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253760" y="33080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197240" y="3308040"/>
                <a:ext cx="52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4833720" y="29908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43320" y="29908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"/>
            <p:cNvGrpSpPr/>
            <p:nvPr/>
          </p:nvGrpSpPr>
          <p:grpSpPr>
            <a:xfrm>
              <a:off x="6483240" y="2735280"/>
              <a:ext cx="679680" cy="1154520"/>
              <a:chOff x="6483240" y="2735280"/>
              <a:chExt cx="679680" cy="1154520"/>
            </a:xfrm>
          </p:grpSpPr>
          <p:sp>
            <p:nvSpPr>
              <p:cNvPr id="1239" name=""/>
              <p:cNvSpPr/>
              <p:nvPr/>
            </p:nvSpPr>
            <p:spPr>
              <a:xfrm>
                <a:off x="6498720" y="2735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16080" y="3308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483240" y="3308400"/>
                <a:ext cx="67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2" name=""/>
          <p:cNvGrpSpPr/>
          <p:nvPr/>
        </p:nvGrpSpPr>
        <p:grpSpPr>
          <a:xfrm>
            <a:off x="3953160" y="2514600"/>
            <a:ext cx="2260800" cy="1602000"/>
            <a:chOff x="3953160" y="2514600"/>
            <a:chExt cx="2260800" cy="1602000"/>
          </a:xfrm>
        </p:grpSpPr>
        <p:sp>
          <p:nvSpPr>
            <p:cNvPr id="1243" name=""/>
            <p:cNvSpPr/>
            <p:nvPr/>
          </p:nvSpPr>
          <p:spPr>
            <a:xfrm flipV="1">
              <a:off x="4245120" y="3428640"/>
              <a:ext cx="43164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410080" y="2895120"/>
              <a:ext cx="43200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953160" y="35352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9960" y="25146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124080" y="3962520"/>
            <a:ext cx="4032360" cy="1154520"/>
            <a:chOff x="3124080" y="3962520"/>
            <a:chExt cx="4032360" cy="1154520"/>
          </a:xfrm>
        </p:grpSpPr>
        <p:sp>
          <p:nvSpPr>
            <p:cNvPr id="1248" name=""/>
            <p:cNvSpPr/>
            <p:nvPr/>
          </p:nvSpPr>
          <p:spPr>
            <a:xfrm>
              <a:off x="3124080" y="42181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5278320" y="3962520"/>
              <a:ext cx="679680" cy="1154520"/>
              <a:chOff x="5278320" y="3962520"/>
              <a:chExt cx="679680" cy="1154520"/>
            </a:xfrm>
          </p:grpSpPr>
          <p:sp>
            <p:nvSpPr>
              <p:cNvPr id="1250" name=""/>
              <p:cNvSpPr/>
              <p:nvPr/>
            </p:nvSpPr>
            <p:spPr>
              <a:xfrm>
                <a:off x="5409360" y="3962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11160" y="4535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278320" y="4535640"/>
                <a:ext cx="67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4191120" y="3962520"/>
              <a:ext cx="527040" cy="1154160"/>
              <a:chOff x="4191120" y="3962520"/>
              <a:chExt cx="527040" cy="1154160"/>
            </a:xfrm>
          </p:grpSpPr>
          <p:sp>
            <p:nvSpPr>
              <p:cNvPr id="1254" name=""/>
              <p:cNvSpPr/>
              <p:nvPr/>
            </p:nvSpPr>
            <p:spPr>
              <a:xfrm>
                <a:off x="4246920" y="3962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247640" y="45352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191120" y="4535280"/>
                <a:ext cx="52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827240" y="42181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36840" y="421812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6477120" y="3962520"/>
              <a:ext cx="679320" cy="1154520"/>
              <a:chOff x="6477120" y="3962520"/>
              <a:chExt cx="679320" cy="1154520"/>
            </a:xfrm>
          </p:grpSpPr>
          <p:sp>
            <p:nvSpPr>
              <p:cNvPr id="1260" name=""/>
              <p:cNvSpPr/>
              <p:nvPr/>
            </p:nvSpPr>
            <p:spPr>
              <a:xfrm>
                <a:off x="6492240" y="39625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609240" y="45356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477120" y="453564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3" name=""/>
          <p:cNvGrpSpPr/>
          <p:nvPr/>
        </p:nvGrpSpPr>
        <p:grpSpPr>
          <a:xfrm>
            <a:off x="5410080" y="3733920"/>
            <a:ext cx="1896120" cy="1571760"/>
            <a:chOff x="5410080" y="3733920"/>
            <a:chExt cx="1896120" cy="1571760"/>
          </a:xfrm>
        </p:grpSpPr>
        <p:sp>
          <p:nvSpPr>
            <p:cNvPr id="1264" name=""/>
            <p:cNvSpPr/>
            <p:nvPr/>
          </p:nvSpPr>
          <p:spPr>
            <a:xfrm flipV="1">
              <a:off x="6578640" y="4648320"/>
              <a:ext cx="431640" cy="30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5410080" y="4114440"/>
              <a:ext cx="432000" cy="304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49200" y="37339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92200" y="4724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808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1066680" y="5176800"/>
            <a:ext cx="2404080" cy="1154520"/>
            <a:chOff x="1066680" y="5176800"/>
            <a:chExt cx="2404080" cy="1154520"/>
          </a:xfrm>
        </p:grpSpPr>
        <p:sp>
          <p:nvSpPr>
            <p:cNvPr id="1269" name=""/>
            <p:cNvSpPr/>
            <p:nvPr/>
          </p:nvSpPr>
          <p:spPr>
            <a:xfrm>
              <a:off x="1066680" y="5432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2063520" y="5176800"/>
              <a:ext cx="1407240" cy="1154520"/>
              <a:chOff x="2063520" y="5176800"/>
              <a:chExt cx="1407240" cy="1154520"/>
            </a:xfrm>
          </p:grpSpPr>
          <p:sp>
            <p:nvSpPr>
              <p:cNvPr id="1271" name=""/>
              <p:cNvSpPr/>
              <p:nvPr/>
            </p:nvSpPr>
            <p:spPr>
              <a:xfrm>
                <a:off x="2145240" y="517680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 • 1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264040" y="5749920"/>
                <a:ext cx="1009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 • 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063520" y="5749920"/>
                <a:ext cx="140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4" name=""/>
          <p:cNvGrpSpPr/>
          <p:nvPr/>
        </p:nvGrpSpPr>
        <p:grpSpPr>
          <a:xfrm>
            <a:off x="3568680" y="5176800"/>
            <a:ext cx="1231200" cy="1154520"/>
            <a:chOff x="3568680" y="5176800"/>
            <a:chExt cx="1231200" cy="1154520"/>
          </a:xfrm>
        </p:grpSpPr>
        <p:sp>
          <p:nvSpPr>
            <p:cNvPr id="1275" name=""/>
            <p:cNvSpPr/>
            <p:nvPr/>
          </p:nvSpPr>
          <p:spPr>
            <a:xfrm>
              <a:off x="3568680" y="5432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4120560" y="5176800"/>
              <a:ext cx="679320" cy="1154520"/>
              <a:chOff x="4120560" y="5176800"/>
              <a:chExt cx="679320" cy="1154520"/>
            </a:xfrm>
          </p:grpSpPr>
          <p:sp>
            <p:nvSpPr>
              <p:cNvPr id="1277" name=""/>
              <p:cNvSpPr/>
              <p:nvPr/>
            </p:nvSpPr>
            <p:spPr>
              <a:xfrm>
                <a:off x="4135320" y="5176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137480" y="5749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120560" y="574992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0" name=""/>
          <p:cNvGrpSpPr/>
          <p:nvPr/>
        </p:nvGrpSpPr>
        <p:grpSpPr>
          <a:xfrm>
            <a:off x="4876920" y="5176800"/>
            <a:ext cx="3236760" cy="1154520"/>
            <a:chOff x="4876920" y="5176800"/>
            <a:chExt cx="3236760" cy="1154520"/>
          </a:xfrm>
        </p:grpSpPr>
        <p:sp>
          <p:nvSpPr>
            <p:cNvPr id="1281" name=""/>
            <p:cNvSpPr/>
            <p:nvPr/>
          </p:nvSpPr>
          <p:spPr>
            <a:xfrm>
              <a:off x="4876920" y="5432400"/>
              <a:ext cx="323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= 4       sq. in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5753160" y="5176800"/>
              <a:ext cx="679320" cy="1154520"/>
              <a:chOff x="5753160" y="5176800"/>
              <a:chExt cx="679320" cy="1154520"/>
            </a:xfrm>
          </p:grpSpPr>
          <p:sp>
            <p:nvSpPr>
              <p:cNvPr id="1283" name=""/>
              <p:cNvSpPr/>
              <p:nvPr/>
            </p:nvSpPr>
            <p:spPr>
              <a:xfrm>
                <a:off x="5884200" y="5176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770440" y="57499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53160" y="5749920"/>
                <a:ext cx="679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6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3048120" y="12193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ir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57200" y="2492280"/>
            <a:ext cx="7848720" cy="2812320"/>
            <a:chOff x="457200" y="2492280"/>
            <a:chExt cx="7848720" cy="2812320"/>
          </a:xfrm>
        </p:grpSpPr>
        <p:sp>
          <p:nvSpPr>
            <p:cNvPr id="1289" name=""/>
            <p:cNvSpPr/>
            <p:nvPr/>
          </p:nvSpPr>
          <p:spPr>
            <a:xfrm>
              <a:off x="650880" y="2492280"/>
              <a:ext cx="1967040" cy="12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7200" y="3657600"/>
              <a:ext cx="784872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808080"/>
                  </a:solidFill>
                  <a:latin typeface="Comic Sans MS"/>
                </a:rPr>
                <a:t>diameter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across the circle passing through the center (2 spokes in a straight line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9480" y="1523880"/>
            <a:ext cx="1981440" cy="198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562040" y="2463840"/>
            <a:ext cx="7632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1638360" y="1879200"/>
            <a:ext cx="6819840" cy="1672920"/>
            <a:chOff x="1638360" y="1879200"/>
            <a:chExt cx="6819840" cy="1672920"/>
          </a:xfrm>
        </p:grpSpPr>
        <p:sp>
          <p:nvSpPr>
            <p:cNvPr id="1295" name=""/>
            <p:cNvSpPr/>
            <p:nvPr/>
          </p:nvSpPr>
          <p:spPr>
            <a:xfrm>
              <a:off x="2819520" y="1905120"/>
              <a:ext cx="563868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cc6600"/>
                  </a:solidFill>
                  <a:latin typeface="Comic Sans MS"/>
                </a:rPr>
                <a:t>radius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from the center to the edge (spoke of a bicycle wheel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1638360" y="1879200"/>
              <a:ext cx="716040" cy="584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09480" y="1523880"/>
            <a:ext cx="7086600" cy="4939560"/>
            <a:chOff x="609480" y="1523880"/>
            <a:chExt cx="7086600" cy="4939560"/>
          </a:xfrm>
        </p:grpSpPr>
        <p:sp>
          <p:nvSpPr>
            <p:cNvPr id="1298" name=""/>
            <p:cNvSpPr/>
            <p:nvPr/>
          </p:nvSpPr>
          <p:spPr>
            <a:xfrm>
              <a:off x="609480" y="5334120"/>
              <a:ext cx="70866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3333cc"/>
                  </a:solidFill>
                  <a:latin typeface="Comic Sans MS"/>
                </a:rPr>
                <a:t>circumference</a:t>
              </a:r>
              <a:r>
                <a:rPr b="0" lang="en-US" sz="3400" spc="-1" strike="noStrike">
                  <a:solidFill>
                    <a:srgbClr val="000000"/>
                  </a:solidFill>
                  <a:latin typeface="Comic Sans MS"/>
                </a:rPr>
                <a:t> = distance around the circl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09480" y="1523880"/>
              <a:ext cx="1981440" cy="198144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3048120" y="2013120"/>
            <a:ext cx="28954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the diameter measures </a:t>
            </a:r>
            <a:r>
              <a:rPr b="0" lang="en-US" sz="3400" spc="-1" strike="noStrike">
                <a:solidFill>
                  <a:srgbClr val="808080"/>
                </a:solidFill>
                <a:latin typeface="Comic Sans MS"/>
              </a:rPr>
              <a:t>20 inche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095880" y="1860480"/>
            <a:ext cx="22100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radius measures </a:t>
            </a:r>
            <a:r>
              <a:rPr b="0" lang="en-US" sz="3400" spc="-1" strike="noStrike">
                <a:solidFill>
                  <a:srgbClr val="cc6600"/>
                </a:solidFill>
                <a:latin typeface="Comic Sans MS"/>
              </a:rPr>
              <a:t>10 inches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033720" y="4680000"/>
            <a:ext cx="28335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the radius measures </a:t>
            </a:r>
            <a:r>
              <a:rPr b="0" lang="en-US" sz="3400" spc="-1" strike="noStrike">
                <a:solidFill>
                  <a:srgbClr val="0000ff"/>
                </a:solidFill>
                <a:latin typeface="Comic Sans MS"/>
              </a:rPr>
              <a:t>8 centimeter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248520" y="4314960"/>
            <a:ext cx="25146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diameter measures </a:t>
            </a:r>
            <a:r>
              <a:rPr b="0" lang="en-US" sz="3400" spc="-1" strike="noStrike">
                <a:solidFill>
                  <a:srgbClr val="808080"/>
                </a:solidFill>
                <a:latin typeface="Comic Sans MS"/>
              </a:rPr>
              <a:t>16 inche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048120" y="12193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ir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09480" y="1523880"/>
            <a:ext cx="1981440" cy="19814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2492280"/>
            <a:ext cx="1967040" cy="12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1638360" y="1879200"/>
            <a:ext cx="716040" cy="5842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16760" y="3774960"/>
            <a:ext cx="182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d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en-US" sz="4800" spc="-1" strike="noStrike">
                <a:solidFill>
                  <a:srgbClr val="cc66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1219320" y="12952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ircumfere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diame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   = 2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radi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33920" y="2743200"/>
            <a:ext cx="335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2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4722840"/>
            <a:ext cx="6019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“pi”) is a number that i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approximatel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2/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762120" y="2209680"/>
            <a:ext cx="2007720" cy="1981080"/>
            <a:chOff x="762120" y="2209680"/>
            <a:chExt cx="2007720" cy="1981080"/>
          </a:xfrm>
        </p:grpSpPr>
        <p:sp>
          <p:nvSpPr>
            <p:cNvPr id="1315" name=""/>
            <p:cNvSpPr/>
            <p:nvPr/>
          </p:nvSpPr>
          <p:spPr>
            <a:xfrm>
              <a:off x="762120" y="2209680"/>
              <a:ext cx="1981080" cy="198108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03160" y="3254040"/>
              <a:ext cx="1966680" cy="129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1790640" y="2640960"/>
              <a:ext cx="715680" cy="584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circumference of a circle with a radius of 5  3/5  me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2120" y="2971800"/>
            <a:ext cx="1904760" cy="1905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714680" y="3924360"/>
            <a:ext cx="95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950760" y="396252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3/5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733920" y="3065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=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095880" y="2809800"/>
            <a:ext cx="1600200" cy="1154520"/>
            <a:chOff x="6095880" y="2809800"/>
            <a:chExt cx="1600200" cy="1154520"/>
          </a:xfrm>
        </p:grpSpPr>
        <p:sp>
          <p:nvSpPr>
            <p:cNvPr id="1324" name=""/>
            <p:cNvSpPr/>
            <p:nvPr/>
          </p:nvSpPr>
          <p:spPr>
            <a:xfrm>
              <a:off x="6095880" y="30654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" name=""/>
            <p:cNvGrpSpPr/>
            <p:nvPr/>
          </p:nvGrpSpPr>
          <p:grpSpPr>
            <a:xfrm>
              <a:off x="7016760" y="2809800"/>
              <a:ext cx="679320" cy="1154520"/>
              <a:chOff x="7016760" y="2809800"/>
              <a:chExt cx="679320" cy="1154520"/>
            </a:xfrm>
          </p:grpSpPr>
          <p:sp>
            <p:nvSpPr>
              <p:cNvPr id="1326" name=""/>
              <p:cNvSpPr/>
              <p:nvPr/>
            </p:nvSpPr>
            <p:spPr>
              <a:xfrm>
                <a:off x="7032960" y="2809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148880" y="3382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016760" y="338292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9" name=""/>
          <p:cNvGrpSpPr/>
          <p:nvPr/>
        </p:nvGrpSpPr>
        <p:grpSpPr>
          <a:xfrm>
            <a:off x="2728800" y="3876840"/>
            <a:ext cx="3748320" cy="1154520"/>
            <a:chOff x="2728800" y="3876840"/>
            <a:chExt cx="3748320" cy="1154520"/>
          </a:xfrm>
        </p:grpSpPr>
        <p:sp>
          <p:nvSpPr>
            <p:cNvPr id="1330" name=""/>
            <p:cNvSpPr/>
            <p:nvPr/>
          </p:nvSpPr>
          <p:spPr>
            <a:xfrm>
              <a:off x="2728800" y="4132440"/>
              <a:ext cx="33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 = 2 •       •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4465800" y="3876840"/>
              <a:ext cx="679320" cy="1154520"/>
              <a:chOff x="4465800" y="3876840"/>
              <a:chExt cx="679320" cy="1154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4482000" y="38768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597920" y="4449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465800" y="444996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5950080" y="3876840"/>
              <a:ext cx="527040" cy="1154160"/>
              <a:chOff x="5950080" y="3876840"/>
              <a:chExt cx="527040" cy="1154160"/>
            </a:xfrm>
          </p:grpSpPr>
          <p:sp>
            <p:nvSpPr>
              <p:cNvPr id="1336" name=""/>
              <p:cNvSpPr/>
              <p:nvPr/>
            </p:nvSpPr>
            <p:spPr>
              <a:xfrm>
                <a:off x="6006600" y="3876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06600" y="4449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950080" y="4449600"/>
                <a:ext cx="52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9" name=""/>
          <p:cNvGrpSpPr/>
          <p:nvPr/>
        </p:nvGrpSpPr>
        <p:grpSpPr>
          <a:xfrm>
            <a:off x="1058760" y="5095800"/>
            <a:ext cx="3962160" cy="1154520"/>
            <a:chOff x="1058760" y="5095800"/>
            <a:chExt cx="3962160" cy="1154520"/>
          </a:xfrm>
        </p:grpSpPr>
        <p:sp>
          <p:nvSpPr>
            <p:cNvPr id="1340" name=""/>
            <p:cNvSpPr/>
            <p:nvPr/>
          </p:nvSpPr>
          <p:spPr>
            <a:xfrm>
              <a:off x="1058760" y="535140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 =      •       •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1" name=""/>
            <p:cNvGrpSpPr/>
            <p:nvPr/>
          </p:nvGrpSpPr>
          <p:grpSpPr>
            <a:xfrm>
              <a:off x="3162240" y="5095800"/>
              <a:ext cx="679320" cy="1154520"/>
              <a:chOff x="3162240" y="5095800"/>
              <a:chExt cx="679320" cy="1154520"/>
            </a:xfrm>
          </p:grpSpPr>
          <p:sp>
            <p:nvSpPr>
              <p:cNvPr id="1342" name=""/>
              <p:cNvSpPr/>
              <p:nvPr/>
            </p:nvSpPr>
            <p:spPr>
              <a:xfrm>
                <a:off x="3178440" y="5095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294360" y="566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62240" y="566892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2207880" y="5095800"/>
              <a:ext cx="527040" cy="1154520"/>
              <a:chOff x="2207880" y="5095800"/>
              <a:chExt cx="527040" cy="1154520"/>
            </a:xfrm>
          </p:grpSpPr>
          <p:sp>
            <p:nvSpPr>
              <p:cNvPr id="1346" name=""/>
              <p:cNvSpPr/>
              <p:nvPr/>
            </p:nvSpPr>
            <p:spPr>
              <a:xfrm>
                <a:off x="2264400" y="5095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63680" y="566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207880" y="5668920"/>
                <a:ext cx="52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4341600" y="5095800"/>
              <a:ext cx="679320" cy="1154520"/>
              <a:chOff x="4341600" y="5095800"/>
              <a:chExt cx="679320" cy="1154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4357800" y="50958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473720" y="56689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341600" y="5668920"/>
                <a:ext cx="67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3" name=""/>
          <p:cNvSpPr/>
          <p:nvPr/>
        </p:nvSpPr>
        <p:spPr>
          <a:xfrm>
            <a:off x="1828800" y="7621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Fractions -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306400" y="5029200"/>
            <a:ext cx="3196440" cy="1154160"/>
            <a:chOff x="5306400" y="5029200"/>
            <a:chExt cx="3196440" cy="1154160"/>
          </a:xfrm>
        </p:grpSpPr>
        <p:grpSp>
          <p:nvGrpSpPr>
            <p:cNvPr id="1355" name=""/>
            <p:cNvGrpSpPr/>
            <p:nvPr/>
          </p:nvGrpSpPr>
          <p:grpSpPr>
            <a:xfrm>
              <a:off x="6352920" y="5029200"/>
              <a:ext cx="527400" cy="1154160"/>
              <a:chOff x="6352920" y="5029200"/>
              <a:chExt cx="527400" cy="1154160"/>
            </a:xfrm>
          </p:grpSpPr>
          <p:sp>
            <p:nvSpPr>
              <p:cNvPr id="1356" name=""/>
              <p:cNvSpPr/>
              <p:nvPr/>
            </p:nvSpPr>
            <p:spPr>
              <a:xfrm>
                <a:off x="6409080" y="502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409440" y="5601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52920" y="5601960"/>
                <a:ext cx="5274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9" name=""/>
            <p:cNvSpPr/>
            <p:nvPr/>
          </p:nvSpPr>
          <p:spPr>
            <a:xfrm>
              <a:off x="5306400" y="5284800"/>
              <a:ext cx="31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met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6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and reduce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1" name=""/>
          <p:cNvGraphicFramePr/>
          <p:nvPr/>
        </p:nvGraphicFramePr>
        <p:xfrm>
          <a:off x="3048120" y="2722680"/>
          <a:ext cx="4876560" cy="365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722680"/>
                    <a:ext cx="4876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14400" y="1828800"/>
            <a:ext cx="7315200" cy="39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and</a:t>
            </a:r>
            <a:endParaRPr b="0" lang="en-US" sz="32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educing</a:t>
            </a:r>
            <a:endParaRPr b="0" lang="en-US" sz="32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0" lang="en-US" sz="32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279440" y="3662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3" name=""/>
          <p:cNvGraphicFramePr/>
          <p:nvPr/>
        </p:nvGraphicFramePr>
        <p:xfrm>
          <a:off x="3048120" y="2716200"/>
          <a:ext cx="4876560" cy="365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716200"/>
                    <a:ext cx="4876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2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6" name=""/>
          <p:cNvGraphicFramePr/>
          <p:nvPr/>
        </p:nvGraphicFramePr>
        <p:xfrm>
          <a:off x="3048120" y="2722680"/>
          <a:ext cx="4876560" cy="365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722680"/>
                    <a:ext cx="48765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8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9" name=""/>
          <p:cNvGraphicFramePr/>
          <p:nvPr/>
        </p:nvGraphicFramePr>
        <p:xfrm>
          <a:off x="3048120" y="2984400"/>
          <a:ext cx="4495680" cy="3395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84400"/>
                    <a:ext cx="4495680" cy="33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5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 fractions raised to a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2" name=""/>
          <p:cNvGraphicFramePr/>
          <p:nvPr/>
        </p:nvGraphicFramePr>
        <p:xfrm>
          <a:off x="3048120" y="3046320"/>
          <a:ext cx="4419360" cy="3333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46320"/>
                    <a:ext cx="441936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61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applications involving multiply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895480" y="4572000"/>
            <a:ext cx="4572000" cy="1612800"/>
            <a:chOff x="2895480" y="4572000"/>
            <a:chExt cx="4572000" cy="1612800"/>
          </a:xfrm>
        </p:grpSpPr>
        <p:sp>
          <p:nvSpPr>
            <p:cNvPr id="243" name=""/>
            <p:cNvSpPr/>
            <p:nvPr/>
          </p:nvSpPr>
          <p:spPr>
            <a:xfrm>
              <a:off x="2895480" y="4572000"/>
              <a:ext cx="1143000" cy="1612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4572000"/>
              <a:ext cx="1143000" cy="1612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4572000"/>
              <a:ext cx="1143000" cy="1612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24480" y="4572000"/>
              <a:ext cx="1143000" cy="1612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09680" y="158112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okie recipe calls for ¾ cup of brown sugar. If you plan to make ½ of the recipe, how much sugar would you 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09480" y="1828800"/>
            <a:ext cx="1371600" cy="3885840"/>
            <a:chOff x="609480" y="1828800"/>
            <a:chExt cx="1371600" cy="38858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609480" y="1828800"/>
              <a:ext cx="1371600" cy="9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09480" y="2818800"/>
              <a:ext cx="1371600" cy="9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"/>
            <a:stretch/>
          </p:blipFill>
          <p:spPr>
            <a:xfrm>
              <a:off x="609480" y="3808800"/>
              <a:ext cx="1371600" cy="9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"/>
            <a:stretch/>
          </p:blipFill>
          <p:spPr>
            <a:xfrm>
              <a:off x="609480" y="4794480"/>
              <a:ext cx="1371600" cy="92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"/>
          <p:cNvSpPr/>
          <p:nvPr/>
        </p:nvSpPr>
        <p:spPr>
          <a:xfrm>
            <a:off x="2209680" y="158112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cookie recipe calls for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¾ cup of brown suga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If you plan to mak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½ of the reci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ow much sugar would you 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798560"/>
            <a:ext cx="9144000" cy="360"/>
          </a:xfrm>
          <a:prstGeom prst="rect">
            <a:avLst/>
          </a:prstGeom>
          <a:solidFill>
            <a:srgbClr val="316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895480" y="5334120"/>
            <a:ext cx="4572000" cy="850680"/>
            <a:chOff x="2895480" y="5334120"/>
            <a:chExt cx="4572000" cy="850680"/>
          </a:xfrm>
        </p:grpSpPr>
        <p:sp>
          <p:nvSpPr>
            <p:cNvPr id="256" name=""/>
            <p:cNvSpPr/>
            <p:nvPr/>
          </p:nvSpPr>
          <p:spPr>
            <a:xfrm>
              <a:off x="2895480" y="5334120"/>
              <a:ext cx="4572000" cy="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5334120"/>
              <a:ext cx="1143000" cy="8506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5334120"/>
              <a:ext cx="1143000" cy="8506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5334120"/>
              <a:ext cx="1143000" cy="8506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1752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/4 is the same quantity as 6/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0800" y="2590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ake half of 6/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514600" y="3886200"/>
            <a:ext cx="4191120" cy="2133720"/>
            <a:chOff x="2514600" y="3886200"/>
            <a:chExt cx="4191120" cy="2133720"/>
          </a:xfrm>
        </p:grpSpPr>
        <p:sp>
          <p:nvSpPr>
            <p:cNvPr id="263" name=""/>
            <p:cNvSpPr/>
            <p:nvPr/>
          </p:nvSpPr>
          <p:spPr>
            <a:xfrm>
              <a:off x="2514600" y="3886200"/>
              <a:ext cx="106380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81280" y="3886200"/>
              <a:ext cx="106380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75240" y="3886200"/>
              <a:ext cx="106344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41920" y="3886200"/>
              <a:ext cx="1063800" cy="10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14600" y="4956120"/>
              <a:ext cx="106380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81280" y="4956120"/>
              <a:ext cx="106380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5240" y="4956120"/>
              <a:ext cx="1063440" cy="106380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41920" y="4956120"/>
              <a:ext cx="1063800" cy="1063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514600" y="2590920"/>
            <a:ext cx="5124240" cy="2359080"/>
            <a:chOff x="2514600" y="2590920"/>
            <a:chExt cx="5124240" cy="2359080"/>
          </a:xfrm>
        </p:grpSpPr>
        <p:grpSp>
          <p:nvGrpSpPr>
            <p:cNvPr id="272" name=""/>
            <p:cNvGrpSpPr/>
            <p:nvPr/>
          </p:nvGrpSpPr>
          <p:grpSpPr>
            <a:xfrm>
              <a:off x="5718240" y="2590920"/>
              <a:ext cx="1920600" cy="703440"/>
              <a:chOff x="5718240" y="2590920"/>
              <a:chExt cx="1920600" cy="703440"/>
            </a:xfrm>
          </p:grpSpPr>
          <p:sp>
            <p:nvSpPr>
              <p:cNvPr id="273" name=""/>
              <p:cNvSpPr/>
              <p:nvPr/>
            </p:nvSpPr>
            <p:spPr>
              <a:xfrm>
                <a:off x="5718240" y="2598840"/>
                <a:ext cx="838080" cy="685800"/>
              </a:xfrm>
              <a:prstGeom prst="rightArrow">
                <a:avLst>
                  <a:gd name="adj1" fmla="val 43269"/>
                  <a:gd name="adj2" fmla="val 6689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89880" y="2590920"/>
                <a:ext cx="948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/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514600" y="3886200"/>
              <a:ext cx="3124080" cy="1063800"/>
              <a:chOff x="2514600" y="3886200"/>
              <a:chExt cx="3124080" cy="1063800"/>
            </a:xfrm>
          </p:grpSpPr>
          <p:sp>
            <p:nvSpPr>
              <p:cNvPr id="276" name=""/>
              <p:cNvSpPr/>
              <p:nvPr/>
            </p:nvSpPr>
            <p:spPr>
              <a:xfrm>
                <a:off x="2514600" y="3886200"/>
                <a:ext cx="1063800" cy="1063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581280" y="3886200"/>
                <a:ext cx="1063800" cy="1063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75240" y="3886200"/>
                <a:ext cx="1063440" cy="10638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167652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¾ cup of brown su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24160" y="2743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½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of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 the sug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944320" y="4022640"/>
            <a:ext cx="1065960" cy="1389240"/>
            <a:chOff x="5944320" y="4022640"/>
            <a:chExt cx="1065960" cy="1389240"/>
          </a:xfrm>
        </p:grpSpPr>
        <p:grpSp>
          <p:nvGrpSpPr>
            <p:cNvPr id="283" name=""/>
            <p:cNvGrpSpPr/>
            <p:nvPr/>
          </p:nvGrpSpPr>
          <p:grpSpPr>
            <a:xfrm>
              <a:off x="6553080" y="4022640"/>
              <a:ext cx="457200" cy="1389240"/>
              <a:chOff x="6553080" y="4022640"/>
              <a:chExt cx="457200" cy="1389240"/>
            </a:xfrm>
          </p:grpSpPr>
          <p:sp>
            <p:nvSpPr>
              <p:cNvPr id="284" name=""/>
              <p:cNvSpPr/>
              <p:nvPr/>
            </p:nvSpPr>
            <p:spPr>
              <a:xfrm>
                <a:off x="6553080" y="402264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53080" y="4708440"/>
                <a:ext cx="457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53080" y="4724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44320" y="4365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796560" y="4022640"/>
            <a:ext cx="1994760" cy="1389240"/>
            <a:chOff x="3796560" y="4022640"/>
            <a:chExt cx="1994760" cy="1389240"/>
          </a:xfrm>
        </p:grpSpPr>
        <p:grpSp>
          <p:nvGrpSpPr>
            <p:cNvPr id="289" name=""/>
            <p:cNvGrpSpPr/>
            <p:nvPr/>
          </p:nvGrpSpPr>
          <p:grpSpPr>
            <a:xfrm>
              <a:off x="4419720" y="4022640"/>
              <a:ext cx="1371600" cy="1389240"/>
              <a:chOff x="4419720" y="4022640"/>
              <a:chExt cx="1371600" cy="1389240"/>
            </a:xfrm>
          </p:grpSpPr>
          <p:sp>
            <p:nvSpPr>
              <p:cNvPr id="290" name=""/>
              <p:cNvSpPr/>
              <p:nvPr/>
            </p:nvSpPr>
            <p:spPr>
              <a:xfrm>
                <a:off x="4419720" y="40226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r>
                  <a:rPr b="0" lang="en-US" sz="40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19720" y="470844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 </a:t>
                </a:r>
                <a:r>
                  <a:rPr b="0" lang="en-US" sz="4000" spc="-1" strike="noStrike">
                    <a:solidFill>
                      <a:srgbClr val="808080"/>
                    </a:solidFill>
                    <a:latin typeface="Comic Sans MS"/>
                  </a:rPr>
                  <a:t>•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4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19720" y="472752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796560" y="4365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752480" y="3567240"/>
            <a:ext cx="5639040" cy="1844640"/>
            <a:chOff x="1752480" y="3567240"/>
            <a:chExt cx="5639040" cy="1844640"/>
          </a:xfrm>
        </p:grpSpPr>
        <p:grpSp>
          <p:nvGrpSpPr>
            <p:cNvPr id="296" name=""/>
            <p:cNvGrpSpPr/>
            <p:nvPr/>
          </p:nvGrpSpPr>
          <p:grpSpPr>
            <a:xfrm>
              <a:off x="1752480" y="4022640"/>
              <a:ext cx="5639040" cy="1389240"/>
              <a:chOff x="1752480" y="4022640"/>
              <a:chExt cx="5639040" cy="13892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2057400" y="4022640"/>
                <a:ext cx="1600200" cy="1389240"/>
                <a:chOff x="2057400" y="4022640"/>
                <a:chExt cx="1600200" cy="138924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2057400" y="4022640"/>
                  <a:ext cx="457200" cy="1389240"/>
                  <a:chOff x="2057400" y="4022640"/>
                  <a:chExt cx="457200" cy="138924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057400" y="40226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057400" y="47084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057400" y="47293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200400" y="4022640"/>
                  <a:ext cx="457200" cy="1389240"/>
                  <a:chOff x="3200400" y="4022640"/>
                  <a:chExt cx="457200" cy="13892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3200400" y="40226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200400" y="4708440"/>
                    <a:ext cx="4572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4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200400" y="47293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>
                  <a:off x="2671920" y="4365720"/>
                  <a:ext cx="371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808080"/>
                      </a:solidFill>
                      <a:latin typeface="Comic Sans MS"/>
                    </a:rPr>
                    <a:t>•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1752480" y="4022640"/>
                <a:ext cx="5639040" cy="1387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flipH="1">
              <a:off x="2925360" y="3567240"/>
              <a:ext cx="274680" cy="95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657600" y="144792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590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ultiply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3352680"/>
            <a:ext cx="6705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numer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enominators acr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71800" y="4997520"/>
            <a:ext cx="3200400" cy="1252440"/>
            <a:chOff x="2971800" y="4997520"/>
            <a:chExt cx="3200400" cy="1252440"/>
          </a:xfrm>
        </p:grpSpPr>
        <p:grpSp>
          <p:nvGrpSpPr>
            <p:cNvPr id="313" name=""/>
            <p:cNvGrpSpPr/>
            <p:nvPr/>
          </p:nvGrpSpPr>
          <p:grpSpPr>
            <a:xfrm>
              <a:off x="2971800" y="4997520"/>
              <a:ext cx="457200" cy="1252440"/>
              <a:chOff x="2971800" y="4997520"/>
              <a:chExt cx="457200" cy="125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2971800" y="49975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71800" y="56073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800" y="564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114800" y="4997520"/>
              <a:ext cx="457200" cy="1252440"/>
              <a:chOff x="4114800" y="4997520"/>
              <a:chExt cx="457200" cy="1252440"/>
            </a:xfrm>
          </p:grpSpPr>
          <p:sp>
            <p:nvSpPr>
              <p:cNvPr id="318" name=""/>
              <p:cNvSpPr/>
              <p:nvPr/>
            </p:nvSpPr>
            <p:spPr>
              <a:xfrm>
                <a:off x="4114800" y="49975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14800" y="560736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4800" y="564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585960" y="530244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181480" y="4997520"/>
              <a:ext cx="990720" cy="1252440"/>
              <a:chOff x="5181480" y="4997520"/>
              <a:chExt cx="990720" cy="1252440"/>
            </a:xfrm>
          </p:grpSpPr>
          <p:sp>
            <p:nvSpPr>
              <p:cNvPr id="323" name=""/>
              <p:cNvSpPr/>
              <p:nvPr/>
            </p:nvSpPr>
            <p:spPr>
              <a:xfrm>
                <a:off x="5334120" y="49975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81480" y="5607360"/>
                <a:ext cx="99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334120" y="564372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4711680" y="5302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828800" y="762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plying &amp; Reduc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3:22Z</dcterms:modified>
  <cp:revision>258</cp:revision>
  <dc:subject/>
  <dc:title>PowerPoint Presentation</dc:title>
</cp:coreProperties>
</file>