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9  Uni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523880"/>
            <a:ext cx="79250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s and Fractions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4732200"/>
            <a:ext cx="852480" cy="1411560"/>
          </a:xfrm>
          <a:custGeom>
            <a:avLst/>
            <a:gdLst/>
            <a:ahLst/>
            <a:rect l="l" t="t" r="r" b="b"/>
            <a:pathLst>
              <a:path w="537" h="889">
                <a:moveTo>
                  <a:pt x="110" y="0"/>
                </a:moveTo>
                <a:lnTo>
                  <a:pt x="120" y="0"/>
                </a:lnTo>
                <a:lnTo>
                  <a:pt x="126" y="2"/>
                </a:lnTo>
                <a:lnTo>
                  <a:pt x="133" y="4"/>
                </a:lnTo>
                <a:lnTo>
                  <a:pt x="143" y="8"/>
                </a:lnTo>
                <a:lnTo>
                  <a:pt x="153" y="12"/>
                </a:lnTo>
                <a:lnTo>
                  <a:pt x="166" y="18"/>
                </a:lnTo>
                <a:lnTo>
                  <a:pt x="176" y="22"/>
                </a:lnTo>
                <a:lnTo>
                  <a:pt x="186" y="30"/>
                </a:lnTo>
                <a:lnTo>
                  <a:pt x="192" y="37"/>
                </a:lnTo>
                <a:lnTo>
                  <a:pt x="199" y="47"/>
                </a:lnTo>
                <a:lnTo>
                  <a:pt x="202" y="51"/>
                </a:lnTo>
                <a:lnTo>
                  <a:pt x="206" y="53"/>
                </a:lnTo>
                <a:lnTo>
                  <a:pt x="209" y="59"/>
                </a:lnTo>
                <a:lnTo>
                  <a:pt x="212" y="63"/>
                </a:lnTo>
                <a:lnTo>
                  <a:pt x="212" y="67"/>
                </a:lnTo>
                <a:lnTo>
                  <a:pt x="212" y="73"/>
                </a:lnTo>
                <a:lnTo>
                  <a:pt x="216" y="78"/>
                </a:lnTo>
                <a:lnTo>
                  <a:pt x="216" y="84"/>
                </a:lnTo>
                <a:lnTo>
                  <a:pt x="216" y="88"/>
                </a:lnTo>
                <a:lnTo>
                  <a:pt x="219" y="92"/>
                </a:lnTo>
                <a:lnTo>
                  <a:pt x="219" y="98"/>
                </a:lnTo>
                <a:lnTo>
                  <a:pt x="222" y="104"/>
                </a:lnTo>
                <a:lnTo>
                  <a:pt x="222" y="108"/>
                </a:lnTo>
                <a:lnTo>
                  <a:pt x="222" y="114"/>
                </a:lnTo>
                <a:lnTo>
                  <a:pt x="222" y="121"/>
                </a:lnTo>
                <a:lnTo>
                  <a:pt x="222" y="127"/>
                </a:lnTo>
                <a:lnTo>
                  <a:pt x="222" y="131"/>
                </a:lnTo>
                <a:lnTo>
                  <a:pt x="222" y="137"/>
                </a:lnTo>
                <a:lnTo>
                  <a:pt x="219" y="143"/>
                </a:lnTo>
                <a:lnTo>
                  <a:pt x="219" y="149"/>
                </a:lnTo>
                <a:lnTo>
                  <a:pt x="219" y="153"/>
                </a:lnTo>
                <a:lnTo>
                  <a:pt x="219" y="159"/>
                </a:lnTo>
                <a:lnTo>
                  <a:pt x="216" y="166"/>
                </a:lnTo>
                <a:lnTo>
                  <a:pt x="216" y="172"/>
                </a:lnTo>
                <a:lnTo>
                  <a:pt x="216" y="176"/>
                </a:lnTo>
                <a:lnTo>
                  <a:pt x="216" y="182"/>
                </a:lnTo>
                <a:lnTo>
                  <a:pt x="212" y="188"/>
                </a:lnTo>
                <a:lnTo>
                  <a:pt x="212" y="194"/>
                </a:lnTo>
                <a:lnTo>
                  <a:pt x="212" y="200"/>
                </a:lnTo>
                <a:lnTo>
                  <a:pt x="212" y="205"/>
                </a:lnTo>
                <a:lnTo>
                  <a:pt x="212" y="211"/>
                </a:lnTo>
                <a:lnTo>
                  <a:pt x="212" y="217"/>
                </a:lnTo>
                <a:lnTo>
                  <a:pt x="209" y="223"/>
                </a:lnTo>
                <a:lnTo>
                  <a:pt x="209" y="227"/>
                </a:lnTo>
                <a:lnTo>
                  <a:pt x="206" y="233"/>
                </a:lnTo>
                <a:lnTo>
                  <a:pt x="206" y="239"/>
                </a:lnTo>
                <a:lnTo>
                  <a:pt x="206" y="244"/>
                </a:lnTo>
                <a:lnTo>
                  <a:pt x="206" y="248"/>
                </a:lnTo>
                <a:lnTo>
                  <a:pt x="206" y="256"/>
                </a:lnTo>
                <a:lnTo>
                  <a:pt x="206" y="260"/>
                </a:lnTo>
                <a:lnTo>
                  <a:pt x="206" y="266"/>
                </a:lnTo>
                <a:lnTo>
                  <a:pt x="206" y="270"/>
                </a:lnTo>
                <a:lnTo>
                  <a:pt x="206" y="276"/>
                </a:lnTo>
                <a:lnTo>
                  <a:pt x="206" y="280"/>
                </a:lnTo>
                <a:lnTo>
                  <a:pt x="206" y="285"/>
                </a:lnTo>
                <a:lnTo>
                  <a:pt x="206" y="291"/>
                </a:lnTo>
                <a:lnTo>
                  <a:pt x="209" y="295"/>
                </a:lnTo>
                <a:lnTo>
                  <a:pt x="212" y="299"/>
                </a:lnTo>
                <a:lnTo>
                  <a:pt x="209" y="307"/>
                </a:lnTo>
                <a:lnTo>
                  <a:pt x="209" y="313"/>
                </a:lnTo>
                <a:lnTo>
                  <a:pt x="209" y="319"/>
                </a:lnTo>
                <a:lnTo>
                  <a:pt x="209" y="328"/>
                </a:lnTo>
                <a:lnTo>
                  <a:pt x="209" y="334"/>
                </a:lnTo>
                <a:lnTo>
                  <a:pt x="209" y="340"/>
                </a:lnTo>
                <a:lnTo>
                  <a:pt x="209" y="346"/>
                </a:lnTo>
                <a:lnTo>
                  <a:pt x="209" y="354"/>
                </a:lnTo>
                <a:lnTo>
                  <a:pt x="206" y="360"/>
                </a:lnTo>
                <a:lnTo>
                  <a:pt x="206" y="366"/>
                </a:lnTo>
                <a:lnTo>
                  <a:pt x="206" y="373"/>
                </a:lnTo>
                <a:lnTo>
                  <a:pt x="206" y="381"/>
                </a:lnTo>
                <a:lnTo>
                  <a:pt x="206" y="387"/>
                </a:lnTo>
                <a:lnTo>
                  <a:pt x="206" y="395"/>
                </a:lnTo>
                <a:lnTo>
                  <a:pt x="206" y="401"/>
                </a:lnTo>
                <a:lnTo>
                  <a:pt x="206" y="407"/>
                </a:lnTo>
                <a:lnTo>
                  <a:pt x="206" y="414"/>
                </a:lnTo>
                <a:lnTo>
                  <a:pt x="206" y="422"/>
                </a:lnTo>
                <a:lnTo>
                  <a:pt x="206" y="428"/>
                </a:lnTo>
                <a:lnTo>
                  <a:pt x="206" y="434"/>
                </a:lnTo>
                <a:lnTo>
                  <a:pt x="202" y="442"/>
                </a:lnTo>
                <a:lnTo>
                  <a:pt x="202" y="448"/>
                </a:lnTo>
                <a:lnTo>
                  <a:pt x="202" y="455"/>
                </a:lnTo>
                <a:lnTo>
                  <a:pt x="202" y="463"/>
                </a:lnTo>
                <a:lnTo>
                  <a:pt x="199" y="469"/>
                </a:lnTo>
                <a:lnTo>
                  <a:pt x="199" y="475"/>
                </a:lnTo>
                <a:lnTo>
                  <a:pt x="199" y="481"/>
                </a:lnTo>
                <a:lnTo>
                  <a:pt x="199" y="489"/>
                </a:lnTo>
                <a:lnTo>
                  <a:pt x="199" y="496"/>
                </a:lnTo>
                <a:lnTo>
                  <a:pt x="199" y="504"/>
                </a:lnTo>
                <a:lnTo>
                  <a:pt x="199" y="510"/>
                </a:lnTo>
                <a:lnTo>
                  <a:pt x="199" y="518"/>
                </a:lnTo>
                <a:lnTo>
                  <a:pt x="199" y="524"/>
                </a:lnTo>
                <a:lnTo>
                  <a:pt x="199" y="530"/>
                </a:lnTo>
                <a:lnTo>
                  <a:pt x="196" y="537"/>
                </a:lnTo>
                <a:lnTo>
                  <a:pt x="196" y="543"/>
                </a:lnTo>
                <a:lnTo>
                  <a:pt x="196" y="551"/>
                </a:lnTo>
                <a:lnTo>
                  <a:pt x="196" y="557"/>
                </a:lnTo>
                <a:lnTo>
                  <a:pt x="196" y="563"/>
                </a:lnTo>
                <a:lnTo>
                  <a:pt x="196" y="571"/>
                </a:lnTo>
                <a:lnTo>
                  <a:pt x="196" y="578"/>
                </a:lnTo>
                <a:lnTo>
                  <a:pt x="196" y="584"/>
                </a:lnTo>
                <a:lnTo>
                  <a:pt x="196" y="590"/>
                </a:lnTo>
                <a:lnTo>
                  <a:pt x="196" y="598"/>
                </a:lnTo>
                <a:lnTo>
                  <a:pt x="196" y="604"/>
                </a:lnTo>
                <a:lnTo>
                  <a:pt x="196" y="610"/>
                </a:lnTo>
                <a:lnTo>
                  <a:pt x="196" y="619"/>
                </a:lnTo>
                <a:lnTo>
                  <a:pt x="196" y="627"/>
                </a:lnTo>
                <a:lnTo>
                  <a:pt x="192" y="633"/>
                </a:lnTo>
                <a:lnTo>
                  <a:pt x="192" y="639"/>
                </a:lnTo>
                <a:lnTo>
                  <a:pt x="192" y="645"/>
                </a:lnTo>
                <a:lnTo>
                  <a:pt x="192" y="653"/>
                </a:lnTo>
                <a:lnTo>
                  <a:pt x="192" y="660"/>
                </a:lnTo>
                <a:lnTo>
                  <a:pt x="192" y="666"/>
                </a:lnTo>
                <a:lnTo>
                  <a:pt x="192" y="672"/>
                </a:lnTo>
                <a:lnTo>
                  <a:pt x="196" y="680"/>
                </a:lnTo>
                <a:lnTo>
                  <a:pt x="196" y="686"/>
                </a:lnTo>
                <a:lnTo>
                  <a:pt x="196" y="692"/>
                </a:lnTo>
                <a:lnTo>
                  <a:pt x="196" y="701"/>
                </a:lnTo>
                <a:lnTo>
                  <a:pt x="196" y="707"/>
                </a:lnTo>
                <a:lnTo>
                  <a:pt x="196" y="713"/>
                </a:lnTo>
                <a:lnTo>
                  <a:pt x="196" y="721"/>
                </a:lnTo>
                <a:lnTo>
                  <a:pt x="196" y="727"/>
                </a:lnTo>
                <a:lnTo>
                  <a:pt x="199" y="735"/>
                </a:lnTo>
                <a:lnTo>
                  <a:pt x="209" y="731"/>
                </a:lnTo>
                <a:lnTo>
                  <a:pt x="219" y="731"/>
                </a:lnTo>
                <a:lnTo>
                  <a:pt x="232" y="729"/>
                </a:lnTo>
                <a:lnTo>
                  <a:pt x="245" y="727"/>
                </a:lnTo>
                <a:lnTo>
                  <a:pt x="255" y="725"/>
                </a:lnTo>
                <a:lnTo>
                  <a:pt x="272" y="723"/>
                </a:lnTo>
                <a:lnTo>
                  <a:pt x="279" y="723"/>
                </a:lnTo>
                <a:lnTo>
                  <a:pt x="285" y="721"/>
                </a:lnTo>
                <a:lnTo>
                  <a:pt x="295" y="719"/>
                </a:lnTo>
                <a:lnTo>
                  <a:pt x="302" y="719"/>
                </a:lnTo>
                <a:lnTo>
                  <a:pt x="308" y="719"/>
                </a:lnTo>
                <a:lnTo>
                  <a:pt x="315" y="717"/>
                </a:lnTo>
                <a:lnTo>
                  <a:pt x="325" y="715"/>
                </a:lnTo>
                <a:lnTo>
                  <a:pt x="331" y="715"/>
                </a:lnTo>
                <a:lnTo>
                  <a:pt x="338" y="715"/>
                </a:lnTo>
                <a:lnTo>
                  <a:pt x="345" y="713"/>
                </a:lnTo>
                <a:lnTo>
                  <a:pt x="355" y="713"/>
                </a:lnTo>
                <a:lnTo>
                  <a:pt x="361" y="713"/>
                </a:lnTo>
                <a:lnTo>
                  <a:pt x="368" y="713"/>
                </a:lnTo>
                <a:lnTo>
                  <a:pt x="375" y="713"/>
                </a:lnTo>
                <a:lnTo>
                  <a:pt x="384" y="711"/>
                </a:lnTo>
                <a:lnTo>
                  <a:pt x="394" y="711"/>
                </a:lnTo>
                <a:lnTo>
                  <a:pt x="398" y="711"/>
                </a:lnTo>
                <a:lnTo>
                  <a:pt x="408" y="711"/>
                </a:lnTo>
                <a:lnTo>
                  <a:pt x="414" y="711"/>
                </a:lnTo>
                <a:lnTo>
                  <a:pt x="424" y="713"/>
                </a:lnTo>
                <a:lnTo>
                  <a:pt x="434" y="713"/>
                </a:lnTo>
                <a:lnTo>
                  <a:pt x="451" y="713"/>
                </a:lnTo>
                <a:lnTo>
                  <a:pt x="461" y="713"/>
                </a:lnTo>
                <a:lnTo>
                  <a:pt x="474" y="715"/>
                </a:lnTo>
                <a:lnTo>
                  <a:pt x="484" y="719"/>
                </a:lnTo>
                <a:lnTo>
                  <a:pt x="494" y="721"/>
                </a:lnTo>
                <a:lnTo>
                  <a:pt x="504" y="725"/>
                </a:lnTo>
                <a:lnTo>
                  <a:pt x="514" y="729"/>
                </a:lnTo>
                <a:lnTo>
                  <a:pt x="520" y="735"/>
                </a:lnTo>
                <a:lnTo>
                  <a:pt x="524" y="742"/>
                </a:lnTo>
                <a:lnTo>
                  <a:pt x="530" y="748"/>
                </a:lnTo>
                <a:lnTo>
                  <a:pt x="534" y="756"/>
                </a:lnTo>
                <a:lnTo>
                  <a:pt x="534" y="760"/>
                </a:lnTo>
                <a:lnTo>
                  <a:pt x="537" y="764"/>
                </a:lnTo>
                <a:lnTo>
                  <a:pt x="537" y="768"/>
                </a:lnTo>
                <a:lnTo>
                  <a:pt x="537" y="772"/>
                </a:lnTo>
                <a:lnTo>
                  <a:pt x="534" y="778"/>
                </a:lnTo>
                <a:lnTo>
                  <a:pt x="530" y="785"/>
                </a:lnTo>
                <a:lnTo>
                  <a:pt x="530" y="789"/>
                </a:lnTo>
                <a:lnTo>
                  <a:pt x="530" y="797"/>
                </a:lnTo>
                <a:lnTo>
                  <a:pt x="520" y="801"/>
                </a:lnTo>
                <a:lnTo>
                  <a:pt x="510" y="805"/>
                </a:lnTo>
                <a:lnTo>
                  <a:pt x="497" y="809"/>
                </a:lnTo>
                <a:lnTo>
                  <a:pt x="487" y="815"/>
                </a:lnTo>
                <a:lnTo>
                  <a:pt x="477" y="817"/>
                </a:lnTo>
                <a:lnTo>
                  <a:pt x="464" y="819"/>
                </a:lnTo>
                <a:lnTo>
                  <a:pt x="454" y="821"/>
                </a:lnTo>
                <a:lnTo>
                  <a:pt x="444" y="826"/>
                </a:lnTo>
                <a:lnTo>
                  <a:pt x="431" y="826"/>
                </a:lnTo>
                <a:lnTo>
                  <a:pt x="421" y="828"/>
                </a:lnTo>
                <a:lnTo>
                  <a:pt x="408" y="830"/>
                </a:lnTo>
                <a:lnTo>
                  <a:pt x="398" y="832"/>
                </a:lnTo>
                <a:lnTo>
                  <a:pt x="388" y="832"/>
                </a:lnTo>
                <a:lnTo>
                  <a:pt x="375" y="834"/>
                </a:lnTo>
                <a:lnTo>
                  <a:pt x="361" y="834"/>
                </a:lnTo>
                <a:lnTo>
                  <a:pt x="351" y="836"/>
                </a:lnTo>
                <a:lnTo>
                  <a:pt x="338" y="836"/>
                </a:lnTo>
                <a:lnTo>
                  <a:pt x="328" y="836"/>
                </a:lnTo>
                <a:lnTo>
                  <a:pt x="315" y="836"/>
                </a:lnTo>
                <a:lnTo>
                  <a:pt x="305" y="838"/>
                </a:lnTo>
                <a:lnTo>
                  <a:pt x="292" y="838"/>
                </a:lnTo>
                <a:lnTo>
                  <a:pt x="279" y="840"/>
                </a:lnTo>
                <a:lnTo>
                  <a:pt x="269" y="842"/>
                </a:lnTo>
                <a:lnTo>
                  <a:pt x="259" y="844"/>
                </a:lnTo>
                <a:lnTo>
                  <a:pt x="245" y="844"/>
                </a:lnTo>
                <a:lnTo>
                  <a:pt x="235" y="848"/>
                </a:lnTo>
                <a:lnTo>
                  <a:pt x="222" y="850"/>
                </a:lnTo>
                <a:lnTo>
                  <a:pt x="216" y="854"/>
                </a:lnTo>
                <a:lnTo>
                  <a:pt x="202" y="858"/>
                </a:lnTo>
                <a:lnTo>
                  <a:pt x="192" y="862"/>
                </a:lnTo>
                <a:lnTo>
                  <a:pt x="182" y="867"/>
                </a:lnTo>
                <a:lnTo>
                  <a:pt x="176" y="875"/>
                </a:lnTo>
                <a:lnTo>
                  <a:pt x="163" y="877"/>
                </a:lnTo>
                <a:lnTo>
                  <a:pt x="156" y="881"/>
                </a:lnTo>
                <a:lnTo>
                  <a:pt x="146" y="883"/>
                </a:lnTo>
                <a:lnTo>
                  <a:pt x="136" y="885"/>
                </a:lnTo>
                <a:lnTo>
                  <a:pt x="126" y="887"/>
                </a:lnTo>
                <a:lnTo>
                  <a:pt x="116" y="889"/>
                </a:lnTo>
                <a:lnTo>
                  <a:pt x="106" y="889"/>
                </a:lnTo>
                <a:lnTo>
                  <a:pt x="100" y="889"/>
                </a:lnTo>
                <a:lnTo>
                  <a:pt x="90" y="887"/>
                </a:lnTo>
                <a:lnTo>
                  <a:pt x="83" y="885"/>
                </a:lnTo>
                <a:lnTo>
                  <a:pt x="73" y="883"/>
                </a:lnTo>
                <a:lnTo>
                  <a:pt x="67" y="881"/>
                </a:lnTo>
                <a:lnTo>
                  <a:pt x="57" y="879"/>
                </a:lnTo>
                <a:lnTo>
                  <a:pt x="50" y="875"/>
                </a:lnTo>
                <a:lnTo>
                  <a:pt x="43" y="873"/>
                </a:lnTo>
                <a:lnTo>
                  <a:pt x="37" y="869"/>
                </a:lnTo>
                <a:lnTo>
                  <a:pt x="30" y="862"/>
                </a:lnTo>
                <a:lnTo>
                  <a:pt x="27" y="858"/>
                </a:lnTo>
                <a:lnTo>
                  <a:pt x="17" y="854"/>
                </a:lnTo>
                <a:lnTo>
                  <a:pt x="14" y="850"/>
                </a:lnTo>
                <a:lnTo>
                  <a:pt x="10" y="842"/>
                </a:lnTo>
                <a:lnTo>
                  <a:pt x="7" y="838"/>
                </a:lnTo>
                <a:lnTo>
                  <a:pt x="4" y="832"/>
                </a:lnTo>
                <a:lnTo>
                  <a:pt x="4" y="826"/>
                </a:lnTo>
                <a:lnTo>
                  <a:pt x="0" y="819"/>
                </a:lnTo>
                <a:lnTo>
                  <a:pt x="0" y="815"/>
                </a:lnTo>
                <a:lnTo>
                  <a:pt x="0" y="807"/>
                </a:lnTo>
                <a:lnTo>
                  <a:pt x="4" y="803"/>
                </a:lnTo>
                <a:lnTo>
                  <a:pt x="4" y="797"/>
                </a:lnTo>
                <a:lnTo>
                  <a:pt x="7" y="789"/>
                </a:lnTo>
                <a:lnTo>
                  <a:pt x="10" y="785"/>
                </a:lnTo>
                <a:lnTo>
                  <a:pt x="17" y="778"/>
                </a:lnTo>
                <a:lnTo>
                  <a:pt x="17" y="766"/>
                </a:lnTo>
                <a:lnTo>
                  <a:pt x="17" y="754"/>
                </a:lnTo>
                <a:lnTo>
                  <a:pt x="17" y="744"/>
                </a:lnTo>
                <a:lnTo>
                  <a:pt x="17" y="731"/>
                </a:lnTo>
                <a:lnTo>
                  <a:pt x="17" y="719"/>
                </a:lnTo>
                <a:lnTo>
                  <a:pt x="17" y="709"/>
                </a:lnTo>
                <a:lnTo>
                  <a:pt x="17" y="696"/>
                </a:lnTo>
                <a:lnTo>
                  <a:pt x="17" y="686"/>
                </a:lnTo>
                <a:lnTo>
                  <a:pt x="17" y="672"/>
                </a:lnTo>
                <a:lnTo>
                  <a:pt x="17" y="662"/>
                </a:lnTo>
                <a:lnTo>
                  <a:pt x="17" y="649"/>
                </a:lnTo>
                <a:lnTo>
                  <a:pt x="20" y="639"/>
                </a:lnTo>
                <a:lnTo>
                  <a:pt x="20" y="627"/>
                </a:lnTo>
                <a:lnTo>
                  <a:pt x="20" y="614"/>
                </a:lnTo>
                <a:lnTo>
                  <a:pt x="20" y="602"/>
                </a:lnTo>
                <a:lnTo>
                  <a:pt x="24" y="592"/>
                </a:lnTo>
                <a:lnTo>
                  <a:pt x="24" y="580"/>
                </a:lnTo>
                <a:lnTo>
                  <a:pt x="24" y="569"/>
                </a:lnTo>
                <a:lnTo>
                  <a:pt x="24" y="557"/>
                </a:lnTo>
                <a:lnTo>
                  <a:pt x="24" y="545"/>
                </a:lnTo>
                <a:lnTo>
                  <a:pt x="24" y="535"/>
                </a:lnTo>
                <a:lnTo>
                  <a:pt x="24" y="522"/>
                </a:lnTo>
                <a:lnTo>
                  <a:pt x="24" y="510"/>
                </a:lnTo>
                <a:lnTo>
                  <a:pt x="27" y="500"/>
                </a:lnTo>
                <a:lnTo>
                  <a:pt x="27" y="487"/>
                </a:lnTo>
                <a:lnTo>
                  <a:pt x="27" y="475"/>
                </a:lnTo>
                <a:lnTo>
                  <a:pt x="27" y="465"/>
                </a:lnTo>
                <a:lnTo>
                  <a:pt x="27" y="453"/>
                </a:lnTo>
                <a:lnTo>
                  <a:pt x="27" y="440"/>
                </a:lnTo>
                <a:lnTo>
                  <a:pt x="27" y="428"/>
                </a:lnTo>
                <a:lnTo>
                  <a:pt x="27" y="418"/>
                </a:lnTo>
                <a:lnTo>
                  <a:pt x="27" y="405"/>
                </a:lnTo>
                <a:lnTo>
                  <a:pt x="27" y="393"/>
                </a:lnTo>
                <a:lnTo>
                  <a:pt x="27" y="383"/>
                </a:lnTo>
                <a:lnTo>
                  <a:pt x="27" y="371"/>
                </a:lnTo>
                <a:lnTo>
                  <a:pt x="27" y="358"/>
                </a:lnTo>
                <a:lnTo>
                  <a:pt x="27" y="348"/>
                </a:lnTo>
                <a:lnTo>
                  <a:pt x="30" y="336"/>
                </a:lnTo>
                <a:lnTo>
                  <a:pt x="30" y="325"/>
                </a:lnTo>
                <a:lnTo>
                  <a:pt x="30" y="313"/>
                </a:lnTo>
                <a:lnTo>
                  <a:pt x="30" y="301"/>
                </a:lnTo>
                <a:lnTo>
                  <a:pt x="30" y="289"/>
                </a:lnTo>
                <a:lnTo>
                  <a:pt x="30" y="278"/>
                </a:lnTo>
                <a:lnTo>
                  <a:pt x="30" y="266"/>
                </a:lnTo>
                <a:lnTo>
                  <a:pt x="30" y="256"/>
                </a:lnTo>
                <a:lnTo>
                  <a:pt x="33" y="244"/>
                </a:lnTo>
                <a:lnTo>
                  <a:pt x="33" y="233"/>
                </a:lnTo>
                <a:lnTo>
                  <a:pt x="33" y="221"/>
                </a:lnTo>
                <a:lnTo>
                  <a:pt x="33" y="209"/>
                </a:lnTo>
                <a:lnTo>
                  <a:pt x="33" y="198"/>
                </a:lnTo>
                <a:lnTo>
                  <a:pt x="33" y="186"/>
                </a:lnTo>
                <a:lnTo>
                  <a:pt x="37" y="176"/>
                </a:lnTo>
                <a:lnTo>
                  <a:pt x="37" y="164"/>
                </a:lnTo>
                <a:lnTo>
                  <a:pt x="37" y="151"/>
                </a:lnTo>
                <a:lnTo>
                  <a:pt x="37" y="141"/>
                </a:lnTo>
                <a:lnTo>
                  <a:pt x="37" y="129"/>
                </a:lnTo>
                <a:lnTo>
                  <a:pt x="37" y="116"/>
                </a:lnTo>
                <a:lnTo>
                  <a:pt x="37" y="106"/>
                </a:lnTo>
                <a:lnTo>
                  <a:pt x="40" y="94"/>
                </a:lnTo>
                <a:lnTo>
                  <a:pt x="40" y="84"/>
                </a:lnTo>
                <a:lnTo>
                  <a:pt x="40" y="73"/>
                </a:lnTo>
                <a:lnTo>
                  <a:pt x="40" y="63"/>
                </a:lnTo>
                <a:lnTo>
                  <a:pt x="43" y="51"/>
                </a:lnTo>
                <a:lnTo>
                  <a:pt x="43" y="41"/>
                </a:lnTo>
                <a:lnTo>
                  <a:pt x="47" y="34"/>
                </a:lnTo>
                <a:lnTo>
                  <a:pt x="57" y="30"/>
                </a:lnTo>
                <a:lnTo>
                  <a:pt x="67" y="22"/>
                </a:lnTo>
                <a:lnTo>
                  <a:pt x="76" y="16"/>
                </a:lnTo>
                <a:lnTo>
                  <a:pt x="90" y="10"/>
                </a:lnTo>
                <a:lnTo>
                  <a:pt x="100" y="6"/>
                </a:lnTo>
                <a:lnTo>
                  <a:pt x="103" y="2"/>
                </a:lnTo>
                <a:lnTo>
                  <a:pt x="110" y="0"/>
                </a:lnTo>
                <a:lnTo>
                  <a:pt x="110" y="0"/>
                </a:lnTo>
                <a:close/>
              </a:path>
            </a:pathLst>
          </a:custGeom>
          <a:solidFill>
            <a:srgbClr val="ffc2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99160" y="4732200"/>
            <a:ext cx="404640" cy="1203480"/>
          </a:xfrm>
          <a:custGeom>
            <a:avLst/>
            <a:gdLst/>
            <a:ahLst/>
            <a:rect l="l" t="t" r="r" b="b"/>
            <a:pathLst>
              <a:path w="255" h="758">
                <a:moveTo>
                  <a:pt x="63" y="0"/>
                </a:moveTo>
                <a:lnTo>
                  <a:pt x="76" y="0"/>
                </a:lnTo>
                <a:lnTo>
                  <a:pt x="90" y="4"/>
                </a:lnTo>
                <a:lnTo>
                  <a:pt x="103" y="8"/>
                </a:lnTo>
                <a:lnTo>
                  <a:pt x="116" y="10"/>
                </a:lnTo>
                <a:lnTo>
                  <a:pt x="123" y="14"/>
                </a:lnTo>
                <a:lnTo>
                  <a:pt x="133" y="20"/>
                </a:lnTo>
                <a:lnTo>
                  <a:pt x="139" y="26"/>
                </a:lnTo>
                <a:lnTo>
                  <a:pt x="149" y="32"/>
                </a:lnTo>
                <a:lnTo>
                  <a:pt x="156" y="37"/>
                </a:lnTo>
                <a:lnTo>
                  <a:pt x="159" y="45"/>
                </a:lnTo>
                <a:lnTo>
                  <a:pt x="163" y="51"/>
                </a:lnTo>
                <a:lnTo>
                  <a:pt x="166" y="57"/>
                </a:lnTo>
                <a:lnTo>
                  <a:pt x="169" y="65"/>
                </a:lnTo>
                <a:lnTo>
                  <a:pt x="176" y="73"/>
                </a:lnTo>
                <a:lnTo>
                  <a:pt x="179" y="82"/>
                </a:lnTo>
                <a:lnTo>
                  <a:pt x="179" y="90"/>
                </a:lnTo>
                <a:lnTo>
                  <a:pt x="179" y="98"/>
                </a:lnTo>
                <a:lnTo>
                  <a:pt x="182" y="106"/>
                </a:lnTo>
                <a:lnTo>
                  <a:pt x="182" y="114"/>
                </a:lnTo>
                <a:lnTo>
                  <a:pt x="186" y="125"/>
                </a:lnTo>
                <a:lnTo>
                  <a:pt x="186" y="133"/>
                </a:lnTo>
                <a:lnTo>
                  <a:pt x="186" y="141"/>
                </a:lnTo>
                <a:lnTo>
                  <a:pt x="186" y="145"/>
                </a:lnTo>
                <a:lnTo>
                  <a:pt x="186" y="149"/>
                </a:lnTo>
                <a:lnTo>
                  <a:pt x="189" y="153"/>
                </a:lnTo>
                <a:lnTo>
                  <a:pt x="189" y="159"/>
                </a:lnTo>
                <a:lnTo>
                  <a:pt x="189" y="168"/>
                </a:lnTo>
                <a:lnTo>
                  <a:pt x="189" y="176"/>
                </a:lnTo>
                <a:lnTo>
                  <a:pt x="192" y="184"/>
                </a:lnTo>
                <a:lnTo>
                  <a:pt x="196" y="192"/>
                </a:lnTo>
                <a:lnTo>
                  <a:pt x="199" y="200"/>
                </a:lnTo>
                <a:lnTo>
                  <a:pt x="202" y="207"/>
                </a:lnTo>
                <a:lnTo>
                  <a:pt x="206" y="215"/>
                </a:lnTo>
                <a:lnTo>
                  <a:pt x="212" y="223"/>
                </a:lnTo>
                <a:lnTo>
                  <a:pt x="212" y="229"/>
                </a:lnTo>
                <a:lnTo>
                  <a:pt x="216" y="237"/>
                </a:lnTo>
                <a:lnTo>
                  <a:pt x="216" y="246"/>
                </a:lnTo>
                <a:lnTo>
                  <a:pt x="219" y="252"/>
                </a:lnTo>
                <a:lnTo>
                  <a:pt x="219" y="260"/>
                </a:lnTo>
                <a:lnTo>
                  <a:pt x="222" y="266"/>
                </a:lnTo>
                <a:lnTo>
                  <a:pt x="222" y="274"/>
                </a:lnTo>
                <a:lnTo>
                  <a:pt x="225" y="282"/>
                </a:lnTo>
                <a:lnTo>
                  <a:pt x="225" y="289"/>
                </a:lnTo>
                <a:lnTo>
                  <a:pt x="229" y="297"/>
                </a:lnTo>
                <a:lnTo>
                  <a:pt x="229" y="303"/>
                </a:lnTo>
                <a:lnTo>
                  <a:pt x="232" y="311"/>
                </a:lnTo>
                <a:lnTo>
                  <a:pt x="232" y="319"/>
                </a:lnTo>
                <a:lnTo>
                  <a:pt x="235" y="328"/>
                </a:lnTo>
                <a:lnTo>
                  <a:pt x="235" y="334"/>
                </a:lnTo>
                <a:lnTo>
                  <a:pt x="239" y="342"/>
                </a:lnTo>
                <a:lnTo>
                  <a:pt x="239" y="350"/>
                </a:lnTo>
                <a:lnTo>
                  <a:pt x="239" y="356"/>
                </a:lnTo>
                <a:lnTo>
                  <a:pt x="242" y="364"/>
                </a:lnTo>
                <a:lnTo>
                  <a:pt x="242" y="373"/>
                </a:lnTo>
                <a:lnTo>
                  <a:pt x="242" y="379"/>
                </a:lnTo>
                <a:lnTo>
                  <a:pt x="242" y="387"/>
                </a:lnTo>
                <a:lnTo>
                  <a:pt x="245" y="395"/>
                </a:lnTo>
                <a:lnTo>
                  <a:pt x="245" y="403"/>
                </a:lnTo>
                <a:lnTo>
                  <a:pt x="245" y="412"/>
                </a:lnTo>
                <a:lnTo>
                  <a:pt x="249" y="420"/>
                </a:lnTo>
                <a:lnTo>
                  <a:pt x="249" y="426"/>
                </a:lnTo>
                <a:lnTo>
                  <a:pt x="249" y="434"/>
                </a:lnTo>
                <a:lnTo>
                  <a:pt x="249" y="442"/>
                </a:lnTo>
                <a:lnTo>
                  <a:pt x="249" y="451"/>
                </a:lnTo>
                <a:lnTo>
                  <a:pt x="252" y="459"/>
                </a:lnTo>
                <a:lnTo>
                  <a:pt x="252" y="467"/>
                </a:lnTo>
                <a:lnTo>
                  <a:pt x="252" y="473"/>
                </a:lnTo>
                <a:lnTo>
                  <a:pt x="252" y="481"/>
                </a:lnTo>
                <a:lnTo>
                  <a:pt x="252" y="489"/>
                </a:lnTo>
                <a:lnTo>
                  <a:pt x="252" y="498"/>
                </a:lnTo>
                <a:lnTo>
                  <a:pt x="252" y="504"/>
                </a:lnTo>
                <a:lnTo>
                  <a:pt x="252" y="512"/>
                </a:lnTo>
                <a:lnTo>
                  <a:pt x="252" y="520"/>
                </a:lnTo>
                <a:lnTo>
                  <a:pt x="252" y="528"/>
                </a:lnTo>
                <a:lnTo>
                  <a:pt x="252" y="537"/>
                </a:lnTo>
                <a:lnTo>
                  <a:pt x="252" y="543"/>
                </a:lnTo>
                <a:lnTo>
                  <a:pt x="252" y="553"/>
                </a:lnTo>
                <a:lnTo>
                  <a:pt x="252" y="561"/>
                </a:lnTo>
                <a:lnTo>
                  <a:pt x="252" y="567"/>
                </a:lnTo>
                <a:lnTo>
                  <a:pt x="252" y="576"/>
                </a:lnTo>
                <a:lnTo>
                  <a:pt x="252" y="584"/>
                </a:lnTo>
                <a:lnTo>
                  <a:pt x="255" y="592"/>
                </a:lnTo>
                <a:lnTo>
                  <a:pt x="252" y="600"/>
                </a:lnTo>
                <a:lnTo>
                  <a:pt x="252" y="608"/>
                </a:lnTo>
                <a:lnTo>
                  <a:pt x="252" y="617"/>
                </a:lnTo>
                <a:lnTo>
                  <a:pt x="252" y="623"/>
                </a:lnTo>
                <a:lnTo>
                  <a:pt x="252" y="631"/>
                </a:lnTo>
                <a:lnTo>
                  <a:pt x="252" y="639"/>
                </a:lnTo>
                <a:lnTo>
                  <a:pt x="252" y="647"/>
                </a:lnTo>
                <a:lnTo>
                  <a:pt x="252" y="655"/>
                </a:lnTo>
                <a:lnTo>
                  <a:pt x="252" y="664"/>
                </a:lnTo>
                <a:lnTo>
                  <a:pt x="252" y="672"/>
                </a:lnTo>
                <a:lnTo>
                  <a:pt x="252" y="680"/>
                </a:lnTo>
                <a:lnTo>
                  <a:pt x="252" y="688"/>
                </a:lnTo>
                <a:lnTo>
                  <a:pt x="252" y="694"/>
                </a:lnTo>
                <a:lnTo>
                  <a:pt x="252" y="703"/>
                </a:lnTo>
                <a:lnTo>
                  <a:pt x="252" y="711"/>
                </a:lnTo>
                <a:lnTo>
                  <a:pt x="252" y="721"/>
                </a:lnTo>
                <a:lnTo>
                  <a:pt x="249" y="723"/>
                </a:lnTo>
                <a:lnTo>
                  <a:pt x="245" y="725"/>
                </a:lnTo>
                <a:lnTo>
                  <a:pt x="239" y="727"/>
                </a:lnTo>
                <a:lnTo>
                  <a:pt x="232" y="729"/>
                </a:lnTo>
                <a:lnTo>
                  <a:pt x="225" y="731"/>
                </a:lnTo>
                <a:lnTo>
                  <a:pt x="216" y="735"/>
                </a:lnTo>
                <a:lnTo>
                  <a:pt x="209" y="739"/>
                </a:lnTo>
                <a:lnTo>
                  <a:pt x="199" y="744"/>
                </a:lnTo>
                <a:lnTo>
                  <a:pt x="189" y="746"/>
                </a:lnTo>
                <a:lnTo>
                  <a:pt x="182" y="748"/>
                </a:lnTo>
                <a:lnTo>
                  <a:pt x="176" y="750"/>
                </a:lnTo>
                <a:lnTo>
                  <a:pt x="166" y="752"/>
                </a:lnTo>
                <a:lnTo>
                  <a:pt x="156" y="754"/>
                </a:lnTo>
                <a:lnTo>
                  <a:pt x="153" y="756"/>
                </a:lnTo>
                <a:lnTo>
                  <a:pt x="146" y="756"/>
                </a:lnTo>
                <a:lnTo>
                  <a:pt x="139" y="758"/>
                </a:lnTo>
                <a:lnTo>
                  <a:pt x="126" y="752"/>
                </a:lnTo>
                <a:lnTo>
                  <a:pt x="116" y="746"/>
                </a:lnTo>
                <a:lnTo>
                  <a:pt x="106" y="739"/>
                </a:lnTo>
                <a:lnTo>
                  <a:pt x="100" y="733"/>
                </a:lnTo>
                <a:lnTo>
                  <a:pt x="93" y="727"/>
                </a:lnTo>
                <a:lnTo>
                  <a:pt x="90" y="721"/>
                </a:lnTo>
                <a:lnTo>
                  <a:pt x="83" y="713"/>
                </a:lnTo>
                <a:lnTo>
                  <a:pt x="80" y="707"/>
                </a:lnTo>
                <a:lnTo>
                  <a:pt x="76" y="698"/>
                </a:lnTo>
                <a:lnTo>
                  <a:pt x="73" y="690"/>
                </a:lnTo>
                <a:lnTo>
                  <a:pt x="70" y="684"/>
                </a:lnTo>
                <a:lnTo>
                  <a:pt x="70" y="676"/>
                </a:lnTo>
                <a:lnTo>
                  <a:pt x="66" y="666"/>
                </a:lnTo>
                <a:lnTo>
                  <a:pt x="66" y="658"/>
                </a:lnTo>
                <a:lnTo>
                  <a:pt x="70" y="649"/>
                </a:lnTo>
                <a:lnTo>
                  <a:pt x="70" y="641"/>
                </a:lnTo>
                <a:lnTo>
                  <a:pt x="70" y="637"/>
                </a:lnTo>
                <a:lnTo>
                  <a:pt x="70" y="633"/>
                </a:lnTo>
                <a:lnTo>
                  <a:pt x="70" y="627"/>
                </a:lnTo>
                <a:lnTo>
                  <a:pt x="70" y="623"/>
                </a:lnTo>
                <a:lnTo>
                  <a:pt x="73" y="614"/>
                </a:lnTo>
                <a:lnTo>
                  <a:pt x="73" y="606"/>
                </a:lnTo>
                <a:lnTo>
                  <a:pt x="73" y="600"/>
                </a:lnTo>
                <a:lnTo>
                  <a:pt x="73" y="596"/>
                </a:lnTo>
                <a:lnTo>
                  <a:pt x="76" y="592"/>
                </a:lnTo>
                <a:lnTo>
                  <a:pt x="76" y="588"/>
                </a:lnTo>
                <a:lnTo>
                  <a:pt x="76" y="580"/>
                </a:lnTo>
                <a:lnTo>
                  <a:pt x="80" y="571"/>
                </a:lnTo>
                <a:lnTo>
                  <a:pt x="80" y="565"/>
                </a:lnTo>
                <a:lnTo>
                  <a:pt x="80" y="561"/>
                </a:lnTo>
                <a:lnTo>
                  <a:pt x="80" y="557"/>
                </a:lnTo>
                <a:lnTo>
                  <a:pt x="80" y="553"/>
                </a:lnTo>
                <a:lnTo>
                  <a:pt x="80" y="543"/>
                </a:lnTo>
                <a:lnTo>
                  <a:pt x="80" y="537"/>
                </a:lnTo>
                <a:lnTo>
                  <a:pt x="80" y="526"/>
                </a:lnTo>
                <a:lnTo>
                  <a:pt x="76" y="520"/>
                </a:lnTo>
                <a:lnTo>
                  <a:pt x="76" y="512"/>
                </a:lnTo>
                <a:lnTo>
                  <a:pt x="76" y="504"/>
                </a:lnTo>
                <a:lnTo>
                  <a:pt x="73" y="498"/>
                </a:lnTo>
                <a:lnTo>
                  <a:pt x="73" y="487"/>
                </a:lnTo>
                <a:lnTo>
                  <a:pt x="73" y="481"/>
                </a:lnTo>
                <a:lnTo>
                  <a:pt x="73" y="473"/>
                </a:lnTo>
                <a:lnTo>
                  <a:pt x="73" y="465"/>
                </a:lnTo>
                <a:lnTo>
                  <a:pt x="73" y="459"/>
                </a:lnTo>
                <a:lnTo>
                  <a:pt x="73" y="451"/>
                </a:lnTo>
                <a:lnTo>
                  <a:pt x="73" y="444"/>
                </a:lnTo>
                <a:lnTo>
                  <a:pt x="73" y="436"/>
                </a:lnTo>
                <a:lnTo>
                  <a:pt x="70" y="428"/>
                </a:lnTo>
                <a:lnTo>
                  <a:pt x="70" y="422"/>
                </a:lnTo>
                <a:lnTo>
                  <a:pt x="66" y="414"/>
                </a:lnTo>
                <a:lnTo>
                  <a:pt x="66" y="407"/>
                </a:lnTo>
                <a:lnTo>
                  <a:pt x="66" y="399"/>
                </a:lnTo>
                <a:lnTo>
                  <a:pt x="63" y="391"/>
                </a:lnTo>
                <a:lnTo>
                  <a:pt x="63" y="385"/>
                </a:lnTo>
                <a:lnTo>
                  <a:pt x="63" y="377"/>
                </a:lnTo>
                <a:lnTo>
                  <a:pt x="60" y="371"/>
                </a:lnTo>
                <a:lnTo>
                  <a:pt x="60" y="362"/>
                </a:lnTo>
                <a:lnTo>
                  <a:pt x="57" y="354"/>
                </a:lnTo>
                <a:lnTo>
                  <a:pt x="57" y="348"/>
                </a:lnTo>
                <a:lnTo>
                  <a:pt x="53" y="340"/>
                </a:lnTo>
                <a:lnTo>
                  <a:pt x="53" y="334"/>
                </a:lnTo>
                <a:lnTo>
                  <a:pt x="50" y="328"/>
                </a:lnTo>
                <a:lnTo>
                  <a:pt x="47" y="319"/>
                </a:lnTo>
                <a:lnTo>
                  <a:pt x="47" y="311"/>
                </a:lnTo>
                <a:lnTo>
                  <a:pt x="43" y="305"/>
                </a:lnTo>
                <a:lnTo>
                  <a:pt x="43" y="299"/>
                </a:lnTo>
                <a:lnTo>
                  <a:pt x="40" y="291"/>
                </a:lnTo>
                <a:lnTo>
                  <a:pt x="40" y="285"/>
                </a:lnTo>
                <a:lnTo>
                  <a:pt x="37" y="276"/>
                </a:lnTo>
                <a:lnTo>
                  <a:pt x="37" y="270"/>
                </a:lnTo>
                <a:lnTo>
                  <a:pt x="37" y="262"/>
                </a:lnTo>
                <a:lnTo>
                  <a:pt x="33" y="256"/>
                </a:lnTo>
                <a:lnTo>
                  <a:pt x="30" y="248"/>
                </a:lnTo>
                <a:lnTo>
                  <a:pt x="30" y="241"/>
                </a:lnTo>
                <a:lnTo>
                  <a:pt x="27" y="235"/>
                </a:lnTo>
                <a:lnTo>
                  <a:pt x="27" y="227"/>
                </a:lnTo>
                <a:lnTo>
                  <a:pt x="23" y="219"/>
                </a:lnTo>
                <a:lnTo>
                  <a:pt x="23" y="213"/>
                </a:lnTo>
                <a:lnTo>
                  <a:pt x="17" y="207"/>
                </a:lnTo>
                <a:lnTo>
                  <a:pt x="17" y="198"/>
                </a:lnTo>
                <a:lnTo>
                  <a:pt x="13" y="190"/>
                </a:lnTo>
                <a:lnTo>
                  <a:pt x="13" y="184"/>
                </a:lnTo>
                <a:lnTo>
                  <a:pt x="10" y="178"/>
                </a:lnTo>
                <a:lnTo>
                  <a:pt x="10" y="170"/>
                </a:lnTo>
                <a:lnTo>
                  <a:pt x="7" y="164"/>
                </a:lnTo>
                <a:lnTo>
                  <a:pt x="7" y="157"/>
                </a:lnTo>
                <a:lnTo>
                  <a:pt x="7" y="149"/>
                </a:lnTo>
                <a:lnTo>
                  <a:pt x="4" y="143"/>
                </a:lnTo>
                <a:lnTo>
                  <a:pt x="4" y="135"/>
                </a:lnTo>
                <a:lnTo>
                  <a:pt x="4" y="127"/>
                </a:lnTo>
                <a:lnTo>
                  <a:pt x="4" y="121"/>
                </a:lnTo>
                <a:lnTo>
                  <a:pt x="0" y="112"/>
                </a:lnTo>
                <a:lnTo>
                  <a:pt x="0" y="106"/>
                </a:lnTo>
                <a:lnTo>
                  <a:pt x="0" y="98"/>
                </a:lnTo>
                <a:lnTo>
                  <a:pt x="0" y="92"/>
                </a:lnTo>
                <a:lnTo>
                  <a:pt x="0" y="84"/>
                </a:lnTo>
                <a:lnTo>
                  <a:pt x="0" y="75"/>
                </a:lnTo>
                <a:lnTo>
                  <a:pt x="0" y="69"/>
                </a:lnTo>
                <a:lnTo>
                  <a:pt x="0" y="63"/>
                </a:lnTo>
                <a:lnTo>
                  <a:pt x="0" y="55"/>
                </a:lnTo>
                <a:lnTo>
                  <a:pt x="0" y="47"/>
                </a:lnTo>
                <a:lnTo>
                  <a:pt x="0" y="41"/>
                </a:lnTo>
                <a:lnTo>
                  <a:pt x="4" y="34"/>
                </a:lnTo>
                <a:lnTo>
                  <a:pt x="13" y="30"/>
                </a:lnTo>
                <a:lnTo>
                  <a:pt x="23" y="22"/>
                </a:lnTo>
                <a:lnTo>
                  <a:pt x="33" y="16"/>
                </a:lnTo>
                <a:lnTo>
                  <a:pt x="43" y="10"/>
                </a:lnTo>
                <a:lnTo>
                  <a:pt x="53" y="6"/>
                </a:lnTo>
                <a:lnTo>
                  <a:pt x="60" y="2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abb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03800" y="4184640"/>
            <a:ext cx="1571760" cy="465120"/>
          </a:xfrm>
          <a:custGeom>
            <a:avLst/>
            <a:gdLst/>
            <a:ahLst/>
            <a:rect l="l" t="t" r="r" b="b"/>
            <a:pathLst>
              <a:path w="990" h="293">
                <a:moveTo>
                  <a:pt x="838" y="0"/>
                </a:moveTo>
                <a:lnTo>
                  <a:pt x="848" y="0"/>
                </a:lnTo>
                <a:lnTo>
                  <a:pt x="858" y="0"/>
                </a:lnTo>
                <a:lnTo>
                  <a:pt x="868" y="0"/>
                </a:lnTo>
                <a:lnTo>
                  <a:pt x="881" y="0"/>
                </a:lnTo>
                <a:lnTo>
                  <a:pt x="891" y="0"/>
                </a:lnTo>
                <a:lnTo>
                  <a:pt x="901" y="0"/>
                </a:lnTo>
                <a:lnTo>
                  <a:pt x="911" y="2"/>
                </a:lnTo>
                <a:lnTo>
                  <a:pt x="924" y="4"/>
                </a:lnTo>
                <a:lnTo>
                  <a:pt x="934" y="6"/>
                </a:lnTo>
                <a:lnTo>
                  <a:pt x="941" y="9"/>
                </a:lnTo>
                <a:lnTo>
                  <a:pt x="951" y="11"/>
                </a:lnTo>
                <a:lnTo>
                  <a:pt x="961" y="17"/>
                </a:lnTo>
                <a:lnTo>
                  <a:pt x="967" y="21"/>
                </a:lnTo>
                <a:lnTo>
                  <a:pt x="974" y="27"/>
                </a:lnTo>
                <a:lnTo>
                  <a:pt x="984" y="35"/>
                </a:lnTo>
                <a:lnTo>
                  <a:pt x="990" y="41"/>
                </a:lnTo>
                <a:lnTo>
                  <a:pt x="987" y="45"/>
                </a:lnTo>
                <a:lnTo>
                  <a:pt x="987" y="50"/>
                </a:lnTo>
                <a:lnTo>
                  <a:pt x="987" y="56"/>
                </a:lnTo>
                <a:lnTo>
                  <a:pt x="987" y="60"/>
                </a:lnTo>
                <a:lnTo>
                  <a:pt x="987" y="66"/>
                </a:lnTo>
                <a:lnTo>
                  <a:pt x="984" y="74"/>
                </a:lnTo>
                <a:lnTo>
                  <a:pt x="981" y="80"/>
                </a:lnTo>
                <a:lnTo>
                  <a:pt x="974" y="86"/>
                </a:lnTo>
                <a:lnTo>
                  <a:pt x="967" y="91"/>
                </a:lnTo>
                <a:lnTo>
                  <a:pt x="961" y="97"/>
                </a:lnTo>
                <a:lnTo>
                  <a:pt x="954" y="99"/>
                </a:lnTo>
                <a:lnTo>
                  <a:pt x="944" y="103"/>
                </a:lnTo>
                <a:lnTo>
                  <a:pt x="934" y="105"/>
                </a:lnTo>
                <a:lnTo>
                  <a:pt x="924" y="109"/>
                </a:lnTo>
                <a:lnTo>
                  <a:pt x="911" y="111"/>
                </a:lnTo>
                <a:lnTo>
                  <a:pt x="901" y="113"/>
                </a:lnTo>
                <a:lnTo>
                  <a:pt x="888" y="113"/>
                </a:lnTo>
                <a:lnTo>
                  <a:pt x="878" y="115"/>
                </a:lnTo>
                <a:lnTo>
                  <a:pt x="865" y="115"/>
                </a:lnTo>
                <a:lnTo>
                  <a:pt x="851" y="117"/>
                </a:lnTo>
                <a:lnTo>
                  <a:pt x="838" y="117"/>
                </a:lnTo>
                <a:lnTo>
                  <a:pt x="825" y="117"/>
                </a:lnTo>
                <a:lnTo>
                  <a:pt x="812" y="117"/>
                </a:lnTo>
                <a:lnTo>
                  <a:pt x="798" y="119"/>
                </a:lnTo>
                <a:lnTo>
                  <a:pt x="785" y="119"/>
                </a:lnTo>
                <a:lnTo>
                  <a:pt x="772" y="119"/>
                </a:lnTo>
                <a:lnTo>
                  <a:pt x="759" y="119"/>
                </a:lnTo>
                <a:lnTo>
                  <a:pt x="745" y="121"/>
                </a:lnTo>
                <a:lnTo>
                  <a:pt x="732" y="121"/>
                </a:lnTo>
                <a:lnTo>
                  <a:pt x="722" y="123"/>
                </a:lnTo>
                <a:lnTo>
                  <a:pt x="712" y="125"/>
                </a:lnTo>
                <a:lnTo>
                  <a:pt x="702" y="127"/>
                </a:lnTo>
                <a:lnTo>
                  <a:pt x="692" y="129"/>
                </a:lnTo>
                <a:lnTo>
                  <a:pt x="682" y="134"/>
                </a:lnTo>
                <a:lnTo>
                  <a:pt x="673" y="134"/>
                </a:lnTo>
                <a:lnTo>
                  <a:pt x="663" y="136"/>
                </a:lnTo>
                <a:lnTo>
                  <a:pt x="653" y="136"/>
                </a:lnTo>
                <a:lnTo>
                  <a:pt x="643" y="140"/>
                </a:lnTo>
                <a:lnTo>
                  <a:pt x="633" y="140"/>
                </a:lnTo>
                <a:lnTo>
                  <a:pt x="623" y="142"/>
                </a:lnTo>
                <a:lnTo>
                  <a:pt x="613" y="144"/>
                </a:lnTo>
                <a:lnTo>
                  <a:pt x="603" y="148"/>
                </a:lnTo>
                <a:lnTo>
                  <a:pt x="593" y="148"/>
                </a:lnTo>
                <a:lnTo>
                  <a:pt x="586" y="150"/>
                </a:lnTo>
                <a:lnTo>
                  <a:pt x="573" y="152"/>
                </a:lnTo>
                <a:lnTo>
                  <a:pt x="567" y="154"/>
                </a:lnTo>
                <a:lnTo>
                  <a:pt x="557" y="156"/>
                </a:lnTo>
                <a:lnTo>
                  <a:pt x="547" y="158"/>
                </a:lnTo>
                <a:lnTo>
                  <a:pt x="537" y="160"/>
                </a:lnTo>
                <a:lnTo>
                  <a:pt x="530" y="162"/>
                </a:lnTo>
                <a:lnTo>
                  <a:pt x="517" y="166"/>
                </a:lnTo>
                <a:lnTo>
                  <a:pt x="510" y="168"/>
                </a:lnTo>
                <a:lnTo>
                  <a:pt x="500" y="170"/>
                </a:lnTo>
                <a:lnTo>
                  <a:pt x="490" y="172"/>
                </a:lnTo>
                <a:lnTo>
                  <a:pt x="480" y="175"/>
                </a:lnTo>
                <a:lnTo>
                  <a:pt x="474" y="177"/>
                </a:lnTo>
                <a:lnTo>
                  <a:pt x="461" y="179"/>
                </a:lnTo>
                <a:lnTo>
                  <a:pt x="454" y="181"/>
                </a:lnTo>
                <a:lnTo>
                  <a:pt x="444" y="185"/>
                </a:lnTo>
                <a:lnTo>
                  <a:pt x="437" y="187"/>
                </a:lnTo>
                <a:lnTo>
                  <a:pt x="424" y="189"/>
                </a:lnTo>
                <a:lnTo>
                  <a:pt x="418" y="191"/>
                </a:lnTo>
                <a:lnTo>
                  <a:pt x="408" y="193"/>
                </a:lnTo>
                <a:lnTo>
                  <a:pt x="398" y="195"/>
                </a:lnTo>
                <a:lnTo>
                  <a:pt x="388" y="199"/>
                </a:lnTo>
                <a:lnTo>
                  <a:pt x="381" y="203"/>
                </a:lnTo>
                <a:lnTo>
                  <a:pt x="371" y="205"/>
                </a:lnTo>
                <a:lnTo>
                  <a:pt x="361" y="207"/>
                </a:lnTo>
                <a:lnTo>
                  <a:pt x="351" y="209"/>
                </a:lnTo>
                <a:lnTo>
                  <a:pt x="345" y="211"/>
                </a:lnTo>
                <a:lnTo>
                  <a:pt x="331" y="213"/>
                </a:lnTo>
                <a:lnTo>
                  <a:pt x="325" y="218"/>
                </a:lnTo>
                <a:lnTo>
                  <a:pt x="315" y="220"/>
                </a:lnTo>
                <a:lnTo>
                  <a:pt x="305" y="224"/>
                </a:lnTo>
                <a:lnTo>
                  <a:pt x="298" y="226"/>
                </a:lnTo>
                <a:lnTo>
                  <a:pt x="288" y="228"/>
                </a:lnTo>
                <a:lnTo>
                  <a:pt x="278" y="230"/>
                </a:lnTo>
                <a:lnTo>
                  <a:pt x="268" y="234"/>
                </a:lnTo>
                <a:lnTo>
                  <a:pt x="262" y="236"/>
                </a:lnTo>
                <a:lnTo>
                  <a:pt x="252" y="240"/>
                </a:lnTo>
                <a:lnTo>
                  <a:pt x="242" y="242"/>
                </a:lnTo>
                <a:lnTo>
                  <a:pt x="235" y="246"/>
                </a:lnTo>
                <a:lnTo>
                  <a:pt x="225" y="248"/>
                </a:lnTo>
                <a:lnTo>
                  <a:pt x="216" y="250"/>
                </a:lnTo>
                <a:lnTo>
                  <a:pt x="206" y="252"/>
                </a:lnTo>
                <a:lnTo>
                  <a:pt x="199" y="257"/>
                </a:lnTo>
                <a:lnTo>
                  <a:pt x="192" y="261"/>
                </a:lnTo>
                <a:lnTo>
                  <a:pt x="179" y="263"/>
                </a:lnTo>
                <a:lnTo>
                  <a:pt x="172" y="267"/>
                </a:lnTo>
                <a:lnTo>
                  <a:pt x="163" y="269"/>
                </a:lnTo>
                <a:lnTo>
                  <a:pt x="153" y="271"/>
                </a:lnTo>
                <a:lnTo>
                  <a:pt x="146" y="275"/>
                </a:lnTo>
                <a:lnTo>
                  <a:pt x="136" y="279"/>
                </a:lnTo>
                <a:lnTo>
                  <a:pt x="126" y="281"/>
                </a:lnTo>
                <a:lnTo>
                  <a:pt x="119" y="283"/>
                </a:lnTo>
                <a:lnTo>
                  <a:pt x="110" y="287"/>
                </a:lnTo>
                <a:lnTo>
                  <a:pt x="100" y="289"/>
                </a:lnTo>
                <a:lnTo>
                  <a:pt x="93" y="293"/>
                </a:lnTo>
                <a:lnTo>
                  <a:pt x="83" y="291"/>
                </a:lnTo>
                <a:lnTo>
                  <a:pt x="73" y="289"/>
                </a:lnTo>
                <a:lnTo>
                  <a:pt x="63" y="287"/>
                </a:lnTo>
                <a:lnTo>
                  <a:pt x="57" y="285"/>
                </a:lnTo>
                <a:lnTo>
                  <a:pt x="47" y="283"/>
                </a:lnTo>
                <a:lnTo>
                  <a:pt x="40" y="281"/>
                </a:lnTo>
                <a:lnTo>
                  <a:pt x="30" y="279"/>
                </a:lnTo>
                <a:lnTo>
                  <a:pt x="23" y="279"/>
                </a:lnTo>
                <a:lnTo>
                  <a:pt x="13" y="269"/>
                </a:lnTo>
                <a:lnTo>
                  <a:pt x="10" y="263"/>
                </a:lnTo>
                <a:lnTo>
                  <a:pt x="4" y="252"/>
                </a:lnTo>
                <a:lnTo>
                  <a:pt x="4" y="246"/>
                </a:lnTo>
                <a:lnTo>
                  <a:pt x="0" y="240"/>
                </a:lnTo>
                <a:lnTo>
                  <a:pt x="0" y="232"/>
                </a:lnTo>
                <a:lnTo>
                  <a:pt x="4" y="224"/>
                </a:lnTo>
                <a:lnTo>
                  <a:pt x="10" y="218"/>
                </a:lnTo>
                <a:lnTo>
                  <a:pt x="13" y="211"/>
                </a:lnTo>
                <a:lnTo>
                  <a:pt x="20" y="205"/>
                </a:lnTo>
                <a:lnTo>
                  <a:pt x="27" y="199"/>
                </a:lnTo>
                <a:lnTo>
                  <a:pt x="33" y="193"/>
                </a:lnTo>
                <a:lnTo>
                  <a:pt x="43" y="189"/>
                </a:lnTo>
                <a:lnTo>
                  <a:pt x="53" y="183"/>
                </a:lnTo>
                <a:lnTo>
                  <a:pt x="63" y="179"/>
                </a:lnTo>
                <a:lnTo>
                  <a:pt x="76" y="172"/>
                </a:lnTo>
                <a:lnTo>
                  <a:pt x="86" y="168"/>
                </a:lnTo>
                <a:lnTo>
                  <a:pt x="100" y="162"/>
                </a:lnTo>
                <a:lnTo>
                  <a:pt x="113" y="158"/>
                </a:lnTo>
                <a:lnTo>
                  <a:pt x="126" y="154"/>
                </a:lnTo>
                <a:lnTo>
                  <a:pt x="136" y="150"/>
                </a:lnTo>
                <a:lnTo>
                  <a:pt x="153" y="148"/>
                </a:lnTo>
                <a:lnTo>
                  <a:pt x="163" y="142"/>
                </a:lnTo>
                <a:lnTo>
                  <a:pt x="179" y="140"/>
                </a:lnTo>
                <a:lnTo>
                  <a:pt x="192" y="136"/>
                </a:lnTo>
                <a:lnTo>
                  <a:pt x="202" y="131"/>
                </a:lnTo>
                <a:lnTo>
                  <a:pt x="216" y="129"/>
                </a:lnTo>
                <a:lnTo>
                  <a:pt x="229" y="127"/>
                </a:lnTo>
                <a:lnTo>
                  <a:pt x="239" y="123"/>
                </a:lnTo>
                <a:lnTo>
                  <a:pt x="249" y="119"/>
                </a:lnTo>
                <a:lnTo>
                  <a:pt x="259" y="117"/>
                </a:lnTo>
                <a:lnTo>
                  <a:pt x="268" y="115"/>
                </a:lnTo>
                <a:lnTo>
                  <a:pt x="278" y="111"/>
                </a:lnTo>
                <a:lnTo>
                  <a:pt x="285" y="109"/>
                </a:lnTo>
                <a:lnTo>
                  <a:pt x="295" y="107"/>
                </a:lnTo>
                <a:lnTo>
                  <a:pt x="302" y="103"/>
                </a:lnTo>
                <a:lnTo>
                  <a:pt x="308" y="101"/>
                </a:lnTo>
                <a:lnTo>
                  <a:pt x="318" y="99"/>
                </a:lnTo>
                <a:lnTo>
                  <a:pt x="328" y="97"/>
                </a:lnTo>
                <a:lnTo>
                  <a:pt x="335" y="95"/>
                </a:lnTo>
                <a:lnTo>
                  <a:pt x="345" y="93"/>
                </a:lnTo>
                <a:lnTo>
                  <a:pt x="351" y="91"/>
                </a:lnTo>
                <a:lnTo>
                  <a:pt x="361" y="86"/>
                </a:lnTo>
                <a:lnTo>
                  <a:pt x="368" y="84"/>
                </a:lnTo>
                <a:lnTo>
                  <a:pt x="378" y="82"/>
                </a:lnTo>
                <a:lnTo>
                  <a:pt x="388" y="80"/>
                </a:lnTo>
                <a:lnTo>
                  <a:pt x="394" y="76"/>
                </a:lnTo>
                <a:lnTo>
                  <a:pt x="404" y="76"/>
                </a:lnTo>
                <a:lnTo>
                  <a:pt x="414" y="74"/>
                </a:lnTo>
                <a:lnTo>
                  <a:pt x="421" y="70"/>
                </a:lnTo>
                <a:lnTo>
                  <a:pt x="427" y="68"/>
                </a:lnTo>
                <a:lnTo>
                  <a:pt x="437" y="66"/>
                </a:lnTo>
                <a:lnTo>
                  <a:pt x="447" y="64"/>
                </a:lnTo>
                <a:lnTo>
                  <a:pt x="454" y="62"/>
                </a:lnTo>
                <a:lnTo>
                  <a:pt x="464" y="60"/>
                </a:lnTo>
                <a:lnTo>
                  <a:pt x="474" y="58"/>
                </a:lnTo>
                <a:lnTo>
                  <a:pt x="480" y="56"/>
                </a:lnTo>
                <a:lnTo>
                  <a:pt x="490" y="54"/>
                </a:lnTo>
                <a:lnTo>
                  <a:pt x="500" y="54"/>
                </a:lnTo>
                <a:lnTo>
                  <a:pt x="510" y="50"/>
                </a:lnTo>
                <a:lnTo>
                  <a:pt x="517" y="47"/>
                </a:lnTo>
                <a:lnTo>
                  <a:pt x="527" y="47"/>
                </a:lnTo>
                <a:lnTo>
                  <a:pt x="537" y="45"/>
                </a:lnTo>
                <a:lnTo>
                  <a:pt x="543" y="43"/>
                </a:lnTo>
                <a:lnTo>
                  <a:pt x="550" y="41"/>
                </a:lnTo>
                <a:lnTo>
                  <a:pt x="563" y="41"/>
                </a:lnTo>
                <a:lnTo>
                  <a:pt x="570" y="39"/>
                </a:lnTo>
                <a:lnTo>
                  <a:pt x="580" y="37"/>
                </a:lnTo>
                <a:lnTo>
                  <a:pt x="590" y="35"/>
                </a:lnTo>
                <a:lnTo>
                  <a:pt x="596" y="33"/>
                </a:lnTo>
                <a:lnTo>
                  <a:pt x="606" y="31"/>
                </a:lnTo>
                <a:lnTo>
                  <a:pt x="616" y="29"/>
                </a:lnTo>
                <a:lnTo>
                  <a:pt x="623" y="27"/>
                </a:lnTo>
                <a:lnTo>
                  <a:pt x="633" y="27"/>
                </a:lnTo>
                <a:lnTo>
                  <a:pt x="643" y="25"/>
                </a:lnTo>
                <a:lnTo>
                  <a:pt x="653" y="23"/>
                </a:lnTo>
                <a:lnTo>
                  <a:pt x="659" y="21"/>
                </a:lnTo>
                <a:lnTo>
                  <a:pt x="669" y="21"/>
                </a:lnTo>
                <a:lnTo>
                  <a:pt x="679" y="19"/>
                </a:lnTo>
                <a:lnTo>
                  <a:pt x="689" y="19"/>
                </a:lnTo>
                <a:lnTo>
                  <a:pt x="696" y="17"/>
                </a:lnTo>
                <a:lnTo>
                  <a:pt x="706" y="15"/>
                </a:lnTo>
                <a:lnTo>
                  <a:pt x="716" y="15"/>
                </a:lnTo>
                <a:lnTo>
                  <a:pt x="722" y="13"/>
                </a:lnTo>
                <a:lnTo>
                  <a:pt x="732" y="11"/>
                </a:lnTo>
                <a:lnTo>
                  <a:pt x="742" y="11"/>
                </a:lnTo>
                <a:lnTo>
                  <a:pt x="752" y="9"/>
                </a:lnTo>
                <a:lnTo>
                  <a:pt x="762" y="9"/>
                </a:lnTo>
                <a:lnTo>
                  <a:pt x="772" y="6"/>
                </a:lnTo>
                <a:lnTo>
                  <a:pt x="782" y="6"/>
                </a:lnTo>
                <a:lnTo>
                  <a:pt x="788" y="4"/>
                </a:lnTo>
                <a:lnTo>
                  <a:pt x="798" y="4"/>
                </a:lnTo>
                <a:lnTo>
                  <a:pt x="808" y="2"/>
                </a:lnTo>
                <a:lnTo>
                  <a:pt x="818" y="2"/>
                </a:lnTo>
                <a:lnTo>
                  <a:pt x="828" y="0"/>
                </a:lnTo>
                <a:lnTo>
                  <a:pt x="838" y="0"/>
                </a:lnTo>
                <a:lnTo>
                  <a:pt x="838" y="0"/>
                </a:lnTo>
                <a:close/>
              </a:path>
            </a:pathLst>
          </a:custGeom>
          <a:solidFill>
            <a:srgbClr val="ba9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8440" y="4289400"/>
            <a:ext cx="2392200" cy="561960"/>
          </a:xfrm>
          <a:custGeom>
            <a:avLst/>
            <a:gdLst/>
            <a:ahLst/>
            <a:rect l="l" t="t" r="r" b="b"/>
            <a:pathLst>
              <a:path w="1507" h="354">
                <a:moveTo>
                  <a:pt x="0" y="8"/>
                </a:moveTo>
                <a:lnTo>
                  <a:pt x="17" y="102"/>
                </a:lnTo>
                <a:lnTo>
                  <a:pt x="40" y="100"/>
                </a:lnTo>
                <a:lnTo>
                  <a:pt x="63" y="98"/>
                </a:lnTo>
                <a:lnTo>
                  <a:pt x="86" y="96"/>
                </a:lnTo>
                <a:lnTo>
                  <a:pt x="113" y="96"/>
                </a:lnTo>
                <a:lnTo>
                  <a:pt x="133" y="96"/>
                </a:lnTo>
                <a:lnTo>
                  <a:pt x="159" y="96"/>
                </a:lnTo>
                <a:lnTo>
                  <a:pt x="182" y="96"/>
                </a:lnTo>
                <a:lnTo>
                  <a:pt x="205" y="96"/>
                </a:lnTo>
                <a:lnTo>
                  <a:pt x="229" y="96"/>
                </a:lnTo>
                <a:lnTo>
                  <a:pt x="252" y="96"/>
                </a:lnTo>
                <a:lnTo>
                  <a:pt x="275" y="96"/>
                </a:lnTo>
                <a:lnTo>
                  <a:pt x="298" y="96"/>
                </a:lnTo>
                <a:lnTo>
                  <a:pt x="318" y="96"/>
                </a:lnTo>
                <a:lnTo>
                  <a:pt x="345" y="100"/>
                </a:lnTo>
                <a:lnTo>
                  <a:pt x="368" y="100"/>
                </a:lnTo>
                <a:lnTo>
                  <a:pt x="391" y="102"/>
                </a:lnTo>
                <a:lnTo>
                  <a:pt x="414" y="104"/>
                </a:lnTo>
                <a:lnTo>
                  <a:pt x="437" y="104"/>
                </a:lnTo>
                <a:lnTo>
                  <a:pt x="457" y="106"/>
                </a:lnTo>
                <a:lnTo>
                  <a:pt x="484" y="109"/>
                </a:lnTo>
                <a:lnTo>
                  <a:pt x="507" y="111"/>
                </a:lnTo>
                <a:lnTo>
                  <a:pt x="527" y="113"/>
                </a:lnTo>
                <a:lnTo>
                  <a:pt x="550" y="115"/>
                </a:lnTo>
                <a:lnTo>
                  <a:pt x="573" y="119"/>
                </a:lnTo>
                <a:lnTo>
                  <a:pt x="593" y="121"/>
                </a:lnTo>
                <a:lnTo>
                  <a:pt x="616" y="123"/>
                </a:lnTo>
                <a:lnTo>
                  <a:pt x="639" y="127"/>
                </a:lnTo>
                <a:lnTo>
                  <a:pt x="662" y="131"/>
                </a:lnTo>
                <a:lnTo>
                  <a:pt x="682" y="133"/>
                </a:lnTo>
                <a:lnTo>
                  <a:pt x="709" y="137"/>
                </a:lnTo>
                <a:lnTo>
                  <a:pt x="729" y="141"/>
                </a:lnTo>
                <a:lnTo>
                  <a:pt x="752" y="145"/>
                </a:lnTo>
                <a:lnTo>
                  <a:pt x="772" y="150"/>
                </a:lnTo>
                <a:lnTo>
                  <a:pt x="795" y="154"/>
                </a:lnTo>
                <a:lnTo>
                  <a:pt x="815" y="158"/>
                </a:lnTo>
                <a:lnTo>
                  <a:pt x="838" y="164"/>
                </a:lnTo>
                <a:lnTo>
                  <a:pt x="858" y="166"/>
                </a:lnTo>
                <a:lnTo>
                  <a:pt x="881" y="172"/>
                </a:lnTo>
                <a:lnTo>
                  <a:pt x="901" y="176"/>
                </a:lnTo>
                <a:lnTo>
                  <a:pt x="921" y="182"/>
                </a:lnTo>
                <a:lnTo>
                  <a:pt x="944" y="186"/>
                </a:lnTo>
                <a:lnTo>
                  <a:pt x="964" y="195"/>
                </a:lnTo>
                <a:lnTo>
                  <a:pt x="984" y="199"/>
                </a:lnTo>
                <a:lnTo>
                  <a:pt x="1007" y="205"/>
                </a:lnTo>
                <a:lnTo>
                  <a:pt x="1027" y="211"/>
                </a:lnTo>
                <a:lnTo>
                  <a:pt x="1047" y="217"/>
                </a:lnTo>
                <a:lnTo>
                  <a:pt x="1066" y="223"/>
                </a:lnTo>
                <a:lnTo>
                  <a:pt x="1090" y="232"/>
                </a:lnTo>
                <a:lnTo>
                  <a:pt x="1106" y="236"/>
                </a:lnTo>
                <a:lnTo>
                  <a:pt x="1129" y="244"/>
                </a:lnTo>
                <a:lnTo>
                  <a:pt x="1149" y="250"/>
                </a:lnTo>
                <a:lnTo>
                  <a:pt x="1166" y="258"/>
                </a:lnTo>
                <a:lnTo>
                  <a:pt x="1189" y="264"/>
                </a:lnTo>
                <a:lnTo>
                  <a:pt x="1209" y="272"/>
                </a:lnTo>
                <a:lnTo>
                  <a:pt x="1225" y="279"/>
                </a:lnTo>
                <a:lnTo>
                  <a:pt x="1245" y="289"/>
                </a:lnTo>
                <a:lnTo>
                  <a:pt x="1265" y="295"/>
                </a:lnTo>
                <a:lnTo>
                  <a:pt x="1285" y="303"/>
                </a:lnTo>
                <a:lnTo>
                  <a:pt x="1305" y="311"/>
                </a:lnTo>
                <a:lnTo>
                  <a:pt x="1325" y="320"/>
                </a:lnTo>
                <a:lnTo>
                  <a:pt x="1341" y="328"/>
                </a:lnTo>
                <a:lnTo>
                  <a:pt x="1361" y="336"/>
                </a:lnTo>
                <a:lnTo>
                  <a:pt x="1378" y="346"/>
                </a:lnTo>
                <a:lnTo>
                  <a:pt x="1401" y="354"/>
                </a:lnTo>
                <a:lnTo>
                  <a:pt x="1507" y="283"/>
                </a:lnTo>
                <a:lnTo>
                  <a:pt x="1487" y="272"/>
                </a:lnTo>
                <a:lnTo>
                  <a:pt x="1464" y="262"/>
                </a:lnTo>
                <a:lnTo>
                  <a:pt x="1444" y="254"/>
                </a:lnTo>
                <a:lnTo>
                  <a:pt x="1424" y="244"/>
                </a:lnTo>
                <a:lnTo>
                  <a:pt x="1401" y="236"/>
                </a:lnTo>
                <a:lnTo>
                  <a:pt x="1384" y="225"/>
                </a:lnTo>
                <a:lnTo>
                  <a:pt x="1361" y="217"/>
                </a:lnTo>
                <a:lnTo>
                  <a:pt x="1341" y="211"/>
                </a:lnTo>
                <a:lnTo>
                  <a:pt x="1318" y="201"/>
                </a:lnTo>
                <a:lnTo>
                  <a:pt x="1298" y="193"/>
                </a:lnTo>
                <a:lnTo>
                  <a:pt x="1275" y="184"/>
                </a:lnTo>
                <a:lnTo>
                  <a:pt x="1255" y="176"/>
                </a:lnTo>
                <a:lnTo>
                  <a:pt x="1232" y="168"/>
                </a:lnTo>
                <a:lnTo>
                  <a:pt x="1212" y="162"/>
                </a:lnTo>
                <a:lnTo>
                  <a:pt x="1189" y="154"/>
                </a:lnTo>
                <a:lnTo>
                  <a:pt x="1169" y="147"/>
                </a:lnTo>
                <a:lnTo>
                  <a:pt x="1146" y="141"/>
                </a:lnTo>
                <a:lnTo>
                  <a:pt x="1123" y="133"/>
                </a:lnTo>
                <a:lnTo>
                  <a:pt x="1100" y="127"/>
                </a:lnTo>
                <a:lnTo>
                  <a:pt x="1080" y="121"/>
                </a:lnTo>
                <a:lnTo>
                  <a:pt x="1057" y="113"/>
                </a:lnTo>
                <a:lnTo>
                  <a:pt x="1033" y="106"/>
                </a:lnTo>
                <a:lnTo>
                  <a:pt x="1010" y="100"/>
                </a:lnTo>
                <a:lnTo>
                  <a:pt x="990" y="96"/>
                </a:lnTo>
                <a:lnTo>
                  <a:pt x="964" y="90"/>
                </a:lnTo>
                <a:lnTo>
                  <a:pt x="944" y="84"/>
                </a:lnTo>
                <a:lnTo>
                  <a:pt x="917" y="80"/>
                </a:lnTo>
                <a:lnTo>
                  <a:pt x="894" y="74"/>
                </a:lnTo>
                <a:lnTo>
                  <a:pt x="874" y="70"/>
                </a:lnTo>
                <a:lnTo>
                  <a:pt x="848" y="63"/>
                </a:lnTo>
                <a:lnTo>
                  <a:pt x="825" y="61"/>
                </a:lnTo>
                <a:lnTo>
                  <a:pt x="802" y="55"/>
                </a:lnTo>
                <a:lnTo>
                  <a:pt x="778" y="51"/>
                </a:lnTo>
                <a:lnTo>
                  <a:pt x="755" y="47"/>
                </a:lnTo>
                <a:lnTo>
                  <a:pt x="729" y="43"/>
                </a:lnTo>
                <a:lnTo>
                  <a:pt x="706" y="39"/>
                </a:lnTo>
                <a:lnTo>
                  <a:pt x="682" y="35"/>
                </a:lnTo>
                <a:lnTo>
                  <a:pt x="659" y="31"/>
                </a:lnTo>
                <a:lnTo>
                  <a:pt x="633" y="29"/>
                </a:lnTo>
                <a:lnTo>
                  <a:pt x="609" y="27"/>
                </a:lnTo>
                <a:lnTo>
                  <a:pt x="583" y="22"/>
                </a:lnTo>
                <a:lnTo>
                  <a:pt x="560" y="20"/>
                </a:lnTo>
                <a:lnTo>
                  <a:pt x="533" y="18"/>
                </a:lnTo>
                <a:lnTo>
                  <a:pt x="510" y="14"/>
                </a:lnTo>
                <a:lnTo>
                  <a:pt x="484" y="12"/>
                </a:lnTo>
                <a:lnTo>
                  <a:pt x="460" y="10"/>
                </a:lnTo>
                <a:lnTo>
                  <a:pt x="434" y="8"/>
                </a:lnTo>
                <a:lnTo>
                  <a:pt x="411" y="8"/>
                </a:lnTo>
                <a:lnTo>
                  <a:pt x="384" y="6"/>
                </a:lnTo>
                <a:lnTo>
                  <a:pt x="361" y="4"/>
                </a:lnTo>
                <a:lnTo>
                  <a:pt x="335" y="2"/>
                </a:lnTo>
                <a:lnTo>
                  <a:pt x="308" y="2"/>
                </a:lnTo>
                <a:lnTo>
                  <a:pt x="282" y="0"/>
                </a:lnTo>
                <a:lnTo>
                  <a:pt x="255" y="0"/>
                </a:lnTo>
                <a:lnTo>
                  <a:pt x="232" y="0"/>
                </a:lnTo>
                <a:lnTo>
                  <a:pt x="209" y="0"/>
                </a:lnTo>
                <a:lnTo>
                  <a:pt x="182" y="0"/>
                </a:lnTo>
                <a:lnTo>
                  <a:pt x="156" y="0"/>
                </a:lnTo>
                <a:lnTo>
                  <a:pt x="129" y="0"/>
                </a:lnTo>
                <a:lnTo>
                  <a:pt x="103" y="2"/>
                </a:lnTo>
                <a:lnTo>
                  <a:pt x="76" y="2"/>
                </a:lnTo>
                <a:lnTo>
                  <a:pt x="53" y="4"/>
                </a:lnTo>
                <a:lnTo>
                  <a:pt x="27" y="4"/>
                </a:lnTo>
                <a:lnTo>
                  <a:pt x="0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70800" y="4152960"/>
            <a:ext cx="977760" cy="1355760"/>
          </a:xfrm>
          <a:custGeom>
            <a:avLst/>
            <a:gdLst/>
            <a:ahLst/>
            <a:rect l="l" t="t" r="r" b="b"/>
            <a:pathLst>
              <a:path w="616" h="854">
                <a:moveTo>
                  <a:pt x="146" y="0"/>
                </a:moveTo>
                <a:lnTo>
                  <a:pt x="0" y="33"/>
                </a:lnTo>
                <a:lnTo>
                  <a:pt x="474" y="854"/>
                </a:lnTo>
                <a:lnTo>
                  <a:pt x="616" y="824"/>
                </a:lnTo>
                <a:lnTo>
                  <a:pt x="146" y="0"/>
                </a:lnTo>
                <a:lnTo>
                  <a:pt x="1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12880" y="5762520"/>
            <a:ext cx="4894560" cy="638280"/>
          </a:xfrm>
          <a:custGeom>
            <a:avLst/>
            <a:gdLst/>
            <a:ahLst/>
            <a:rect l="l" t="t" r="r" b="b"/>
            <a:pathLst>
              <a:path w="3083" h="402">
                <a:moveTo>
                  <a:pt x="3083" y="95"/>
                </a:moveTo>
                <a:lnTo>
                  <a:pt x="3063" y="0"/>
                </a:lnTo>
                <a:lnTo>
                  <a:pt x="3043" y="0"/>
                </a:lnTo>
                <a:lnTo>
                  <a:pt x="3026" y="2"/>
                </a:lnTo>
                <a:lnTo>
                  <a:pt x="3007" y="2"/>
                </a:lnTo>
                <a:lnTo>
                  <a:pt x="2990" y="4"/>
                </a:lnTo>
                <a:lnTo>
                  <a:pt x="2970" y="4"/>
                </a:lnTo>
                <a:lnTo>
                  <a:pt x="2954" y="6"/>
                </a:lnTo>
                <a:lnTo>
                  <a:pt x="2934" y="9"/>
                </a:lnTo>
                <a:lnTo>
                  <a:pt x="2917" y="11"/>
                </a:lnTo>
                <a:lnTo>
                  <a:pt x="2897" y="11"/>
                </a:lnTo>
                <a:lnTo>
                  <a:pt x="2881" y="13"/>
                </a:lnTo>
                <a:lnTo>
                  <a:pt x="2861" y="15"/>
                </a:lnTo>
                <a:lnTo>
                  <a:pt x="2844" y="17"/>
                </a:lnTo>
                <a:lnTo>
                  <a:pt x="2824" y="17"/>
                </a:lnTo>
                <a:lnTo>
                  <a:pt x="2808" y="19"/>
                </a:lnTo>
                <a:lnTo>
                  <a:pt x="2788" y="19"/>
                </a:lnTo>
                <a:lnTo>
                  <a:pt x="2771" y="21"/>
                </a:lnTo>
                <a:lnTo>
                  <a:pt x="2752" y="23"/>
                </a:lnTo>
                <a:lnTo>
                  <a:pt x="2735" y="23"/>
                </a:lnTo>
                <a:lnTo>
                  <a:pt x="2715" y="25"/>
                </a:lnTo>
                <a:lnTo>
                  <a:pt x="2702" y="27"/>
                </a:lnTo>
                <a:lnTo>
                  <a:pt x="2679" y="27"/>
                </a:lnTo>
                <a:lnTo>
                  <a:pt x="2662" y="29"/>
                </a:lnTo>
                <a:lnTo>
                  <a:pt x="2646" y="31"/>
                </a:lnTo>
                <a:lnTo>
                  <a:pt x="2626" y="33"/>
                </a:lnTo>
                <a:lnTo>
                  <a:pt x="2609" y="35"/>
                </a:lnTo>
                <a:lnTo>
                  <a:pt x="2589" y="35"/>
                </a:lnTo>
                <a:lnTo>
                  <a:pt x="2573" y="37"/>
                </a:lnTo>
                <a:lnTo>
                  <a:pt x="2556" y="39"/>
                </a:lnTo>
                <a:lnTo>
                  <a:pt x="2536" y="39"/>
                </a:lnTo>
                <a:lnTo>
                  <a:pt x="2520" y="41"/>
                </a:lnTo>
                <a:lnTo>
                  <a:pt x="2500" y="43"/>
                </a:lnTo>
                <a:lnTo>
                  <a:pt x="2483" y="45"/>
                </a:lnTo>
                <a:lnTo>
                  <a:pt x="2463" y="45"/>
                </a:lnTo>
                <a:lnTo>
                  <a:pt x="2447" y="47"/>
                </a:lnTo>
                <a:lnTo>
                  <a:pt x="2427" y="47"/>
                </a:lnTo>
                <a:lnTo>
                  <a:pt x="2410" y="52"/>
                </a:lnTo>
                <a:lnTo>
                  <a:pt x="2391" y="52"/>
                </a:lnTo>
                <a:lnTo>
                  <a:pt x="2374" y="54"/>
                </a:lnTo>
                <a:lnTo>
                  <a:pt x="2354" y="54"/>
                </a:lnTo>
                <a:lnTo>
                  <a:pt x="2338" y="58"/>
                </a:lnTo>
                <a:lnTo>
                  <a:pt x="2318" y="58"/>
                </a:lnTo>
                <a:lnTo>
                  <a:pt x="2301" y="60"/>
                </a:lnTo>
                <a:lnTo>
                  <a:pt x="2281" y="60"/>
                </a:lnTo>
                <a:lnTo>
                  <a:pt x="2265" y="62"/>
                </a:lnTo>
                <a:lnTo>
                  <a:pt x="2248" y="62"/>
                </a:lnTo>
                <a:lnTo>
                  <a:pt x="2228" y="64"/>
                </a:lnTo>
                <a:lnTo>
                  <a:pt x="2208" y="66"/>
                </a:lnTo>
                <a:lnTo>
                  <a:pt x="2195" y="68"/>
                </a:lnTo>
                <a:lnTo>
                  <a:pt x="2172" y="70"/>
                </a:lnTo>
                <a:lnTo>
                  <a:pt x="2159" y="70"/>
                </a:lnTo>
                <a:lnTo>
                  <a:pt x="2139" y="72"/>
                </a:lnTo>
                <a:lnTo>
                  <a:pt x="2119" y="74"/>
                </a:lnTo>
                <a:lnTo>
                  <a:pt x="2103" y="74"/>
                </a:lnTo>
                <a:lnTo>
                  <a:pt x="2083" y="76"/>
                </a:lnTo>
                <a:lnTo>
                  <a:pt x="2066" y="76"/>
                </a:lnTo>
                <a:lnTo>
                  <a:pt x="2050" y="80"/>
                </a:lnTo>
                <a:lnTo>
                  <a:pt x="2030" y="80"/>
                </a:lnTo>
                <a:lnTo>
                  <a:pt x="2013" y="82"/>
                </a:lnTo>
                <a:lnTo>
                  <a:pt x="1993" y="82"/>
                </a:lnTo>
                <a:lnTo>
                  <a:pt x="1977" y="84"/>
                </a:lnTo>
                <a:lnTo>
                  <a:pt x="1957" y="84"/>
                </a:lnTo>
                <a:lnTo>
                  <a:pt x="1940" y="86"/>
                </a:lnTo>
                <a:lnTo>
                  <a:pt x="1924" y="88"/>
                </a:lnTo>
                <a:lnTo>
                  <a:pt x="1904" y="90"/>
                </a:lnTo>
                <a:lnTo>
                  <a:pt x="1894" y="97"/>
                </a:lnTo>
                <a:lnTo>
                  <a:pt x="1884" y="103"/>
                </a:lnTo>
                <a:lnTo>
                  <a:pt x="1874" y="109"/>
                </a:lnTo>
                <a:lnTo>
                  <a:pt x="1864" y="115"/>
                </a:lnTo>
                <a:lnTo>
                  <a:pt x="1854" y="121"/>
                </a:lnTo>
                <a:lnTo>
                  <a:pt x="1844" y="127"/>
                </a:lnTo>
                <a:lnTo>
                  <a:pt x="1834" y="134"/>
                </a:lnTo>
                <a:lnTo>
                  <a:pt x="1828" y="140"/>
                </a:lnTo>
                <a:lnTo>
                  <a:pt x="1818" y="146"/>
                </a:lnTo>
                <a:lnTo>
                  <a:pt x="1808" y="152"/>
                </a:lnTo>
                <a:lnTo>
                  <a:pt x="1798" y="156"/>
                </a:lnTo>
                <a:lnTo>
                  <a:pt x="1791" y="164"/>
                </a:lnTo>
                <a:lnTo>
                  <a:pt x="1781" y="168"/>
                </a:lnTo>
                <a:lnTo>
                  <a:pt x="1771" y="172"/>
                </a:lnTo>
                <a:lnTo>
                  <a:pt x="1765" y="179"/>
                </a:lnTo>
                <a:lnTo>
                  <a:pt x="1755" y="185"/>
                </a:lnTo>
                <a:lnTo>
                  <a:pt x="1748" y="189"/>
                </a:lnTo>
                <a:lnTo>
                  <a:pt x="1738" y="195"/>
                </a:lnTo>
                <a:lnTo>
                  <a:pt x="1728" y="201"/>
                </a:lnTo>
                <a:lnTo>
                  <a:pt x="1722" y="205"/>
                </a:lnTo>
                <a:lnTo>
                  <a:pt x="1712" y="209"/>
                </a:lnTo>
                <a:lnTo>
                  <a:pt x="1705" y="213"/>
                </a:lnTo>
                <a:lnTo>
                  <a:pt x="1695" y="216"/>
                </a:lnTo>
                <a:lnTo>
                  <a:pt x="1689" y="222"/>
                </a:lnTo>
                <a:lnTo>
                  <a:pt x="1679" y="226"/>
                </a:lnTo>
                <a:lnTo>
                  <a:pt x="1669" y="230"/>
                </a:lnTo>
                <a:lnTo>
                  <a:pt x="1662" y="232"/>
                </a:lnTo>
                <a:lnTo>
                  <a:pt x="1652" y="236"/>
                </a:lnTo>
                <a:lnTo>
                  <a:pt x="1645" y="240"/>
                </a:lnTo>
                <a:lnTo>
                  <a:pt x="1636" y="242"/>
                </a:lnTo>
                <a:lnTo>
                  <a:pt x="1629" y="246"/>
                </a:lnTo>
                <a:lnTo>
                  <a:pt x="1619" y="248"/>
                </a:lnTo>
                <a:lnTo>
                  <a:pt x="1612" y="250"/>
                </a:lnTo>
                <a:lnTo>
                  <a:pt x="1602" y="252"/>
                </a:lnTo>
                <a:lnTo>
                  <a:pt x="1593" y="254"/>
                </a:lnTo>
                <a:lnTo>
                  <a:pt x="1583" y="256"/>
                </a:lnTo>
                <a:lnTo>
                  <a:pt x="1573" y="256"/>
                </a:lnTo>
                <a:lnTo>
                  <a:pt x="1566" y="259"/>
                </a:lnTo>
                <a:lnTo>
                  <a:pt x="1556" y="259"/>
                </a:lnTo>
                <a:lnTo>
                  <a:pt x="1546" y="261"/>
                </a:lnTo>
                <a:lnTo>
                  <a:pt x="1536" y="259"/>
                </a:lnTo>
                <a:lnTo>
                  <a:pt x="1530" y="259"/>
                </a:lnTo>
                <a:lnTo>
                  <a:pt x="1516" y="259"/>
                </a:lnTo>
                <a:lnTo>
                  <a:pt x="1510" y="259"/>
                </a:lnTo>
                <a:lnTo>
                  <a:pt x="1500" y="259"/>
                </a:lnTo>
                <a:lnTo>
                  <a:pt x="1490" y="256"/>
                </a:lnTo>
                <a:lnTo>
                  <a:pt x="1480" y="254"/>
                </a:lnTo>
                <a:lnTo>
                  <a:pt x="1470" y="252"/>
                </a:lnTo>
                <a:lnTo>
                  <a:pt x="1460" y="250"/>
                </a:lnTo>
                <a:lnTo>
                  <a:pt x="1450" y="248"/>
                </a:lnTo>
                <a:lnTo>
                  <a:pt x="1440" y="244"/>
                </a:lnTo>
                <a:lnTo>
                  <a:pt x="1427" y="242"/>
                </a:lnTo>
                <a:lnTo>
                  <a:pt x="1417" y="236"/>
                </a:lnTo>
                <a:lnTo>
                  <a:pt x="1407" y="234"/>
                </a:lnTo>
                <a:lnTo>
                  <a:pt x="1394" y="230"/>
                </a:lnTo>
                <a:lnTo>
                  <a:pt x="1384" y="226"/>
                </a:lnTo>
                <a:lnTo>
                  <a:pt x="1371" y="220"/>
                </a:lnTo>
                <a:lnTo>
                  <a:pt x="1357" y="213"/>
                </a:lnTo>
                <a:lnTo>
                  <a:pt x="1347" y="207"/>
                </a:lnTo>
                <a:lnTo>
                  <a:pt x="1334" y="203"/>
                </a:lnTo>
                <a:lnTo>
                  <a:pt x="1321" y="195"/>
                </a:lnTo>
                <a:lnTo>
                  <a:pt x="1311" y="187"/>
                </a:lnTo>
                <a:lnTo>
                  <a:pt x="1294" y="179"/>
                </a:lnTo>
                <a:lnTo>
                  <a:pt x="1285" y="172"/>
                </a:lnTo>
                <a:lnTo>
                  <a:pt x="1275" y="166"/>
                </a:lnTo>
                <a:lnTo>
                  <a:pt x="1261" y="160"/>
                </a:lnTo>
                <a:lnTo>
                  <a:pt x="1255" y="158"/>
                </a:lnTo>
                <a:lnTo>
                  <a:pt x="1248" y="156"/>
                </a:lnTo>
                <a:lnTo>
                  <a:pt x="1241" y="154"/>
                </a:lnTo>
                <a:lnTo>
                  <a:pt x="1232" y="154"/>
                </a:lnTo>
                <a:lnTo>
                  <a:pt x="1222" y="150"/>
                </a:lnTo>
                <a:lnTo>
                  <a:pt x="1212" y="150"/>
                </a:lnTo>
                <a:lnTo>
                  <a:pt x="1198" y="148"/>
                </a:lnTo>
                <a:lnTo>
                  <a:pt x="1188" y="148"/>
                </a:lnTo>
                <a:lnTo>
                  <a:pt x="1179" y="148"/>
                </a:lnTo>
                <a:lnTo>
                  <a:pt x="1172" y="148"/>
                </a:lnTo>
                <a:lnTo>
                  <a:pt x="1165" y="148"/>
                </a:lnTo>
                <a:lnTo>
                  <a:pt x="1159" y="148"/>
                </a:lnTo>
                <a:lnTo>
                  <a:pt x="1149" y="148"/>
                </a:lnTo>
                <a:lnTo>
                  <a:pt x="1139" y="148"/>
                </a:lnTo>
                <a:lnTo>
                  <a:pt x="1132" y="148"/>
                </a:lnTo>
                <a:lnTo>
                  <a:pt x="1122" y="148"/>
                </a:lnTo>
                <a:lnTo>
                  <a:pt x="1112" y="148"/>
                </a:lnTo>
                <a:lnTo>
                  <a:pt x="1102" y="148"/>
                </a:lnTo>
                <a:lnTo>
                  <a:pt x="1092" y="148"/>
                </a:lnTo>
                <a:lnTo>
                  <a:pt x="1082" y="148"/>
                </a:lnTo>
                <a:lnTo>
                  <a:pt x="1069" y="148"/>
                </a:lnTo>
                <a:lnTo>
                  <a:pt x="1056" y="150"/>
                </a:lnTo>
                <a:lnTo>
                  <a:pt x="1046" y="150"/>
                </a:lnTo>
                <a:lnTo>
                  <a:pt x="1033" y="152"/>
                </a:lnTo>
                <a:lnTo>
                  <a:pt x="1020" y="152"/>
                </a:lnTo>
                <a:lnTo>
                  <a:pt x="1006" y="154"/>
                </a:lnTo>
                <a:lnTo>
                  <a:pt x="990" y="154"/>
                </a:lnTo>
                <a:lnTo>
                  <a:pt x="980" y="156"/>
                </a:lnTo>
                <a:lnTo>
                  <a:pt x="963" y="156"/>
                </a:lnTo>
                <a:lnTo>
                  <a:pt x="950" y="158"/>
                </a:lnTo>
                <a:lnTo>
                  <a:pt x="933" y="160"/>
                </a:lnTo>
                <a:lnTo>
                  <a:pt x="917" y="164"/>
                </a:lnTo>
                <a:lnTo>
                  <a:pt x="897" y="166"/>
                </a:lnTo>
                <a:lnTo>
                  <a:pt x="880" y="166"/>
                </a:lnTo>
                <a:lnTo>
                  <a:pt x="864" y="170"/>
                </a:lnTo>
                <a:lnTo>
                  <a:pt x="844" y="172"/>
                </a:lnTo>
                <a:lnTo>
                  <a:pt x="824" y="172"/>
                </a:lnTo>
                <a:lnTo>
                  <a:pt x="804" y="177"/>
                </a:lnTo>
                <a:lnTo>
                  <a:pt x="784" y="179"/>
                </a:lnTo>
                <a:lnTo>
                  <a:pt x="765" y="183"/>
                </a:lnTo>
                <a:lnTo>
                  <a:pt x="741" y="185"/>
                </a:lnTo>
                <a:lnTo>
                  <a:pt x="718" y="189"/>
                </a:lnTo>
                <a:lnTo>
                  <a:pt x="695" y="191"/>
                </a:lnTo>
                <a:lnTo>
                  <a:pt x="672" y="195"/>
                </a:lnTo>
                <a:lnTo>
                  <a:pt x="645" y="199"/>
                </a:lnTo>
                <a:lnTo>
                  <a:pt x="622" y="203"/>
                </a:lnTo>
                <a:lnTo>
                  <a:pt x="596" y="207"/>
                </a:lnTo>
                <a:lnTo>
                  <a:pt x="569" y="211"/>
                </a:lnTo>
                <a:lnTo>
                  <a:pt x="556" y="213"/>
                </a:lnTo>
                <a:lnTo>
                  <a:pt x="543" y="216"/>
                </a:lnTo>
                <a:lnTo>
                  <a:pt x="529" y="216"/>
                </a:lnTo>
                <a:lnTo>
                  <a:pt x="516" y="220"/>
                </a:lnTo>
                <a:lnTo>
                  <a:pt x="500" y="222"/>
                </a:lnTo>
                <a:lnTo>
                  <a:pt x="490" y="224"/>
                </a:lnTo>
                <a:lnTo>
                  <a:pt x="473" y="226"/>
                </a:lnTo>
                <a:lnTo>
                  <a:pt x="463" y="228"/>
                </a:lnTo>
                <a:lnTo>
                  <a:pt x="447" y="230"/>
                </a:lnTo>
                <a:lnTo>
                  <a:pt x="437" y="232"/>
                </a:lnTo>
                <a:lnTo>
                  <a:pt x="420" y="234"/>
                </a:lnTo>
                <a:lnTo>
                  <a:pt x="410" y="236"/>
                </a:lnTo>
                <a:lnTo>
                  <a:pt x="394" y="238"/>
                </a:lnTo>
                <a:lnTo>
                  <a:pt x="384" y="240"/>
                </a:lnTo>
                <a:lnTo>
                  <a:pt x="370" y="242"/>
                </a:lnTo>
                <a:lnTo>
                  <a:pt x="357" y="246"/>
                </a:lnTo>
                <a:lnTo>
                  <a:pt x="347" y="246"/>
                </a:lnTo>
                <a:lnTo>
                  <a:pt x="334" y="248"/>
                </a:lnTo>
                <a:lnTo>
                  <a:pt x="321" y="250"/>
                </a:lnTo>
                <a:lnTo>
                  <a:pt x="311" y="252"/>
                </a:lnTo>
                <a:lnTo>
                  <a:pt x="298" y="254"/>
                </a:lnTo>
                <a:lnTo>
                  <a:pt x="284" y="256"/>
                </a:lnTo>
                <a:lnTo>
                  <a:pt x="271" y="259"/>
                </a:lnTo>
                <a:lnTo>
                  <a:pt x="261" y="263"/>
                </a:lnTo>
                <a:lnTo>
                  <a:pt x="251" y="263"/>
                </a:lnTo>
                <a:lnTo>
                  <a:pt x="238" y="265"/>
                </a:lnTo>
                <a:lnTo>
                  <a:pt x="228" y="267"/>
                </a:lnTo>
                <a:lnTo>
                  <a:pt x="218" y="269"/>
                </a:lnTo>
                <a:lnTo>
                  <a:pt x="208" y="271"/>
                </a:lnTo>
                <a:lnTo>
                  <a:pt x="198" y="273"/>
                </a:lnTo>
                <a:lnTo>
                  <a:pt x="185" y="275"/>
                </a:lnTo>
                <a:lnTo>
                  <a:pt x="178" y="277"/>
                </a:lnTo>
                <a:lnTo>
                  <a:pt x="165" y="279"/>
                </a:lnTo>
                <a:lnTo>
                  <a:pt x="159" y="281"/>
                </a:lnTo>
                <a:lnTo>
                  <a:pt x="145" y="281"/>
                </a:lnTo>
                <a:lnTo>
                  <a:pt x="139" y="283"/>
                </a:lnTo>
                <a:lnTo>
                  <a:pt x="129" y="285"/>
                </a:lnTo>
                <a:lnTo>
                  <a:pt x="119" y="287"/>
                </a:lnTo>
                <a:lnTo>
                  <a:pt x="112" y="287"/>
                </a:lnTo>
                <a:lnTo>
                  <a:pt x="106" y="289"/>
                </a:lnTo>
                <a:lnTo>
                  <a:pt x="96" y="291"/>
                </a:lnTo>
                <a:lnTo>
                  <a:pt x="86" y="291"/>
                </a:lnTo>
                <a:lnTo>
                  <a:pt x="79" y="293"/>
                </a:lnTo>
                <a:lnTo>
                  <a:pt x="72" y="295"/>
                </a:lnTo>
                <a:lnTo>
                  <a:pt x="59" y="297"/>
                </a:lnTo>
                <a:lnTo>
                  <a:pt x="49" y="302"/>
                </a:lnTo>
                <a:lnTo>
                  <a:pt x="39" y="302"/>
                </a:lnTo>
                <a:lnTo>
                  <a:pt x="26" y="306"/>
                </a:lnTo>
                <a:lnTo>
                  <a:pt x="19" y="306"/>
                </a:lnTo>
                <a:lnTo>
                  <a:pt x="13" y="308"/>
                </a:lnTo>
                <a:lnTo>
                  <a:pt x="0" y="310"/>
                </a:lnTo>
                <a:lnTo>
                  <a:pt x="0" y="312"/>
                </a:lnTo>
                <a:lnTo>
                  <a:pt x="46" y="402"/>
                </a:lnTo>
                <a:lnTo>
                  <a:pt x="66" y="398"/>
                </a:lnTo>
                <a:lnTo>
                  <a:pt x="89" y="394"/>
                </a:lnTo>
                <a:lnTo>
                  <a:pt x="109" y="390"/>
                </a:lnTo>
                <a:lnTo>
                  <a:pt x="132" y="386"/>
                </a:lnTo>
                <a:lnTo>
                  <a:pt x="155" y="379"/>
                </a:lnTo>
                <a:lnTo>
                  <a:pt x="178" y="375"/>
                </a:lnTo>
                <a:lnTo>
                  <a:pt x="202" y="371"/>
                </a:lnTo>
                <a:lnTo>
                  <a:pt x="225" y="367"/>
                </a:lnTo>
                <a:lnTo>
                  <a:pt x="245" y="363"/>
                </a:lnTo>
                <a:lnTo>
                  <a:pt x="268" y="359"/>
                </a:lnTo>
                <a:lnTo>
                  <a:pt x="291" y="355"/>
                </a:lnTo>
                <a:lnTo>
                  <a:pt x="314" y="351"/>
                </a:lnTo>
                <a:lnTo>
                  <a:pt x="337" y="347"/>
                </a:lnTo>
                <a:lnTo>
                  <a:pt x="361" y="343"/>
                </a:lnTo>
                <a:lnTo>
                  <a:pt x="384" y="338"/>
                </a:lnTo>
                <a:lnTo>
                  <a:pt x="407" y="336"/>
                </a:lnTo>
                <a:lnTo>
                  <a:pt x="427" y="332"/>
                </a:lnTo>
                <a:lnTo>
                  <a:pt x="453" y="328"/>
                </a:lnTo>
                <a:lnTo>
                  <a:pt x="473" y="324"/>
                </a:lnTo>
                <a:lnTo>
                  <a:pt x="496" y="320"/>
                </a:lnTo>
                <a:lnTo>
                  <a:pt x="516" y="316"/>
                </a:lnTo>
                <a:lnTo>
                  <a:pt x="539" y="314"/>
                </a:lnTo>
                <a:lnTo>
                  <a:pt x="563" y="308"/>
                </a:lnTo>
                <a:lnTo>
                  <a:pt x="586" y="306"/>
                </a:lnTo>
                <a:lnTo>
                  <a:pt x="606" y="302"/>
                </a:lnTo>
                <a:lnTo>
                  <a:pt x="629" y="300"/>
                </a:lnTo>
                <a:lnTo>
                  <a:pt x="649" y="295"/>
                </a:lnTo>
                <a:lnTo>
                  <a:pt x="669" y="293"/>
                </a:lnTo>
                <a:lnTo>
                  <a:pt x="688" y="289"/>
                </a:lnTo>
                <a:lnTo>
                  <a:pt x="712" y="287"/>
                </a:lnTo>
                <a:lnTo>
                  <a:pt x="731" y="285"/>
                </a:lnTo>
                <a:lnTo>
                  <a:pt x="751" y="283"/>
                </a:lnTo>
                <a:lnTo>
                  <a:pt x="771" y="279"/>
                </a:lnTo>
                <a:lnTo>
                  <a:pt x="791" y="277"/>
                </a:lnTo>
                <a:lnTo>
                  <a:pt x="811" y="273"/>
                </a:lnTo>
                <a:lnTo>
                  <a:pt x="831" y="271"/>
                </a:lnTo>
                <a:lnTo>
                  <a:pt x="847" y="269"/>
                </a:lnTo>
                <a:lnTo>
                  <a:pt x="864" y="267"/>
                </a:lnTo>
                <a:lnTo>
                  <a:pt x="884" y="263"/>
                </a:lnTo>
                <a:lnTo>
                  <a:pt x="900" y="261"/>
                </a:lnTo>
                <a:lnTo>
                  <a:pt x="920" y="259"/>
                </a:lnTo>
                <a:lnTo>
                  <a:pt x="937" y="256"/>
                </a:lnTo>
                <a:lnTo>
                  <a:pt x="953" y="254"/>
                </a:lnTo>
                <a:lnTo>
                  <a:pt x="970" y="252"/>
                </a:lnTo>
                <a:lnTo>
                  <a:pt x="983" y="250"/>
                </a:lnTo>
                <a:lnTo>
                  <a:pt x="1000" y="250"/>
                </a:lnTo>
                <a:lnTo>
                  <a:pt x="1013" y="248"/>
                </a:lnTo>
                <a:lnTo>
                  <a:pt x="1026" y="248"/>
                </a:lnTo>
                <a:lnTo>
                  <a:pt x="1043" y="246"/>
                </a:lnTo>
                <a:lnTo>
                  <a:pt x="1056" y="244"/>
                </a:lnTo>
                <a:lnTo>
                  <a:pt x="1066" y="242"/>
                </a:lnTo>
                <a:lnTo>
                  <a:pt x="1079" y="242"/>
                </a:lnTo>
                <a:lnTo>
                  <a:pt x="1089" y="242"/>
                </a:lnTo>
                <a:lnTo>
                  <a:pt x="1102" y="240"/>
                </a:lnTo>
                <a:lnTo>
                  <a:pt x="1112" y="240"/>
                </a:lnTo>
                <a:lnTo>
                  <a:pt x="1122" y="240"/>
                </a:lnTo>
                <a:lnTo>
                  <a:pt x="1132" y="240"/>
                </a:lnTo>
                <a:lnTo>
                  <a:pt x="1139" y="240"/>
                </a:lnTo>
                <a:lnTo>
                  <a:pt x="1149" y="240"/>
                </a:lnTo>
                <a:lnTo>
                  <a:pt x="1159" y="240"/>
                </a:lnTo>
                <a:lnTo>
                  <a:pt x="1172" y="242"/>
                </a:lnTo>
                <a:lnTo>
                  <a:pt x="1182" y="244"/>
                </a:lnTo>
                <a:lnTo>
                  <a:pt x="1195" y="252"/>
                </a:lnTo>
                <a:lnTo>
                  <a:pt x="1212" y="261"/>
                </a:lnTo>
                <a:lnTo>
                  <a:pt x="1225" y="267"/>
                </a:lnTo>
                <a:lnTo>
                  <a:pt x="1241" y="277"/>
                </a:lnTo>
                <a:lnTo>
                  <a:pt x="1255" y="283"/>
                </a:lnTo>
                <a:lnTo>
                  <a:pt x="1268" y="289"/>
                </a:lnTo>
                <a:lnTo>
                  <a:pt x="1285" y="295"/>
                </a:lnTo>
                <a:lnTo>
                  <a:pt x="1298" y="302"/>
                </a:lnTo>
                <a:lnTo>
                  <a:pt x="1311" y="308"/>
                </a:lnTo>
                <a:lnTo>
                  <a:pt x="1324" y="314"/>
                </a:lnTo>
                <a:lnTo>
                  <a:pt x="1338" y="318"/>
                </a:lnTo>
                <a:lnTo>
                  <a:pt x="1354" y="322"/>
                </a:lnTo>
                <a:lnTo>
                  <a:pt x="1364" y="326"/>
                </a:lnTo>
                <a:lnTo>
                  <a:pt x="1381" y="332"/>
                </a:lnTo>
                <a:lnTo>
                  <a:pt x="1390" y="336"/>
                </a:lnTo>
                <a:lnTo>
                  <a:pt x="1407" y="338"/>
                </a:lnTo>
                <a:lnTo>
                  <a:pt x="1417" y="343"/>
                </a:lnTo>
                <a:lnTo>
                  <a:pt x="1430" y="345"/>
                </a:lnTo>
                <a:lnTo>
                  <a:pt x="1443" y="347"/>
                </a:lnTo>
                <a:lnTo>
                  <a:pt x="1453" y="349"/>
                </a:lnTo>
                <a:lnTo>
                  <a:pt x="1467" y="349"/>
                </a:lnTo>
                <a:lnTo>
                  <a:pt x="1480" y="353"/>
                </a:lnTo>
                <a:lnTo>
                  <a:pt x="1493" y="353"/>
                </a:lnTo>
                <a:lnTo>
                  <a:pt x="1506" y="355"/>
                </a:lnTo>
                <a:lnTo>
                  <a:pt x="1516" y="355"/>
                </a:lnTo>
                <a:lnTo>
                  <a:pt x="1530" y="355"/>
                </a:lnTo>
                <a:lnTo>
                  <a:pt x="1543" y="355"/>
                </a:lnTo>
                <a:lnTo>
                  <a:pt x="1556" y="355"/>
                </a:lnTo>
                <a:lnTo>
                  <a:pt x="1566" y="355"/>
                </a:lnTo>
                <a:lnTo>
                  <a:pt x="1579" y="353"/>
                </a:lnTo>
                <a:lnTo>
                  <a:pt x="1593" y="353"/>
                </a:lnTo>
                <a:lnTo>
                  <a:pt x="1602" y="353"/>
                </a:lnTo>
                <a:lnTo>
                  <a:pt x="1616" y="349"/>
                </a:lnTo>
                <a:lnTo>
                  <a:pt x="1626" y="347"/>
                </a:lnTo>
                <a:lnTo>
                  <a:pt x="1639" y="345"/>
                </a:lnTo>
                <a:lnTo>
                  <a:pt x="1652" y="343"/>
                </a:lnTo>
                <a:lnTo>
                  <a:pt x="1662" y="338"/>
                </a:lnTo>
                <a:lnTo>
                  <a:pt x="1672" y="336"/>
                </a:lnTo>
                <a:lnTo>
                  <a:pt x="1685" y="332"/>
                </a:lnTo>
                <a:lnTo>
                  <a:pt x="1695" y="328"/>
                </a:lnTo>
                <a:lnTo>
                  <a:pt x="1708" y="326"/>
                </a:lnTo>
                <a:lnTo>
                  <a:pt x="1718" y="322"/>
                </a:lnTo>
                <a:lnTo>
                  <a:pt x="1732" y="318"/>
                </a:lnTo>
                <a:lnTo>
                  <a:pt x="1742" y="314"/>
                </a:lnTo>
                <a:lnTo>
                  <a:pt x="1755" y="308"/>
                </a:lnTo>
                <a:lnTo>
                  <a:pt x="1768" y="304"/>
                </a:lnTo>
                <a:lnTo>
                  <a:pt x="1778" y="300"/>
                </a:lnTo>
                <a:lnTo>
                  <a:pt x="1791" y="293"/>
                </a:lnTo>
                <a:lnTo>
                  <a:pt x="1801" y="287"/>
                </a:lnTo>
                <a:lnTo>
                  <a:pt x="1811" y="281"/>
                </a:lnTo>
                <a:lnTo>
                  <a:pt x="1824" y="275"/>
                </a:lnTo>
                <a:lnTo>
                  <a:pt x="1838" y="269"/>
                </a:lnTo>
                <a:lnTo>
                  <a:pt x="1848" y="263"/>
                </a:lnTo>
                <a:lnTo>
                  <a:pt x="1861" y="256"/>
                </a:lnTo>
                <a:lnTo>
                  <a:pt x="1871" y="248"/>
                </a:lnTo>
                <a:lnTo>
                  <a:pt x="1884" y="242"/>
                </a:lnTo>
                <a:lnTo>
                  <a:pt x="1897" y="234"/>
                </a:lnTo>
                <a:lnTo>
                  <a:pt x="1907" y="228"/>
                </a:lnTo>
                <a:lnTo>
                  <a:pt x="1920" y="220"/>
                </a:lnTo>
                <a:lnTo>
                  <a:pt x="1930" y="213"/>
                </a:lnTo>
                <a:lnTo>
                  <a:pt x="1944" y="205"/>
                </a:lnTo>
                <a:lnTo>
                  <a:pt x="1957" y="195"/>
                </a:lnTo>
                <a:lnTo>
                  <a:pt x="1970" y="189"/>
                </a:lnTo>
                <a:lnTo>
                  <a:pt x="1983" y="179"/>
                </a:lnTo>
                <a:lnTo>
                  <a:pt x="3083" y="95"/>
                </a:lnTo>
                <a:lnTo>
                  <a:pt x="3083" y="95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70840" y="5448240"/>
            <a:ext cx="436320" cy="474840"/>
          </a:xfrm>
          <a:custGeom>
            <a:avLst/>
            <a:gdLst/>
            <a:ahLst/>
            <a:rect l="l" t="t" r="r" b="b"/>
            <a:pathLst>
              <a:path w="275" h="299">
                <a:moveTo>
                  <a:pt x="146" y="0"/>
                </a:moveTo>
                <a:lnTo>
                  <a:pt x="0" y="28"/>
                </a:lnTo>
                <a:lnTo>
                  <a:pt x="129" y="299"/>
                </a:lnTo>
                <a:lnTo>
                  <a:pt x="275" y="272"/>
                </a:lnTo>
                <a:lnTo>
                  <a:pt x="146" y="0"/>
                </a:lnTo>
                <a:lnTo>
                  <a:pt x="146" y="0"/>
                </a:lnTo>
                <a:close/>
              </a:path>
            </a:pathLst>
          </a:cu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4676760"/>
            <a:ext cx="704880" cy="247680"/>
          </a:xfrm>
          <a:custGeom>
            <a:avLst/>
            <a:gdLst/>
            <a:ahLst/>
            <a:rect l="l" t="t" r="r" b="b"/>
            <a:pathLst>
              <a:path w="444" h="156">
                <a:moveTo>
                  <a:pt x="79" y="156"/>
                </a:moveTo>
                <a:lnTo>
                  <a:pt x="86" y="149"/>
                </a:lnTo>
                <a:lnTo>
                  <a:pt x="99" y="147"/>
                </a:lnTo>
                <a:lnTo>
                  <a:pt x="106" y="143"/>
                </a:lnTo>
                <a:lnTo>
                  <a:pt x="116" y="141"/>
                </a:lnTo>
                <a:lnTo>
                  <a:pt x="129" y="137"/>
                </a:lnTo>
                <a:lnTo>
                  <a:pt x="139" y="133"/>
                </a:lnTo>
                <a:lnTo>
                  <a:pt x="149" y="131"/>
                </a:lnTo>
                <a:lnTo>
                  <a:pt x="162" y="129"/>
                </a:lnTo>
                <a:lnTo>
                  <a:pt x="172" y="127"/>
                </a:lnTo>
                <a:lnTo>
                  <a:pt x="182" y="125"/>
                </a:lnTo>
                <a:lnTo>
                  <a:pt x="192" y="121"/>
                </a:lnTo>
                <a:lnTo>
                  <a:pt x="205" y="119"/>
                </a:lnTo>
                <a:lnTo>
                  <a:pt x="215" y="117"/>
                </a:lnTo>
                <a:lnTo>
                  <a:pt x="229" y="115"/>
                </a:lnTo>
                <a:lnTo>
                  <a:pt x="238" y="113"/>
                </a:lnTo>
                <a:lnTo>
                  <a:pt x="252" y="113"/>
                </a:lnTo>
                <a:lnTo>
                  <a:pt x="262" y="110"/>
                </a:lnTo>
                <a:lnTo>
                  <a:pt x="275" y="108"/>
                </a:lnTo>
                <a:lnTo>
                  <a:pt x="285" y="108"/>
                </a:lnTo>
                <a:lnTo>
                  <a:pt x="298" y="106"/>
                </a:lnTo>
                <a:lnTo>
                  <a:pt x="308" y="104"/>
                </a:lnTo>
                <a:lnTo>
                  <a:pt x="321" y="104"/>
                </a:lnTo>
                <a:lnTo>
                  <a:pt x="331" y="102"/>
                </a:lnTo>
                <a:lnTo>
                  <a:pt x="344" y="102"/>
                </a:lnTo>
                <a:lnTo>
                  <a:pt x="354" y="100"/>
                </a:lnTo>
                <a:lnTo>
                  <a:pt x="368" y="100"/>
                </a:lnTo>
                <a:lnTo>
                  <a:pt x="381" y="98"/>
                </a:lnTo>
                <a:lnTo>
                  <a:pt x="391" y="98"/>
                </a:lnTo>
                <a:lnTo>
                  <a:pt x="404" y="98"/>
                </a:lnTo>
                <a:lnTo>
                  <a:pt x="417" y="96"/>
                </a:lnTo>
                <a:lnTo>
                  <a:pt x="431" y="94"/>
                </a:lnTo>
                <a:lnTo>
                  <a:pt x="444" y="94"/>
                </a:lnTo>
                <a:lnTo>
                  <a:pt x="440" y="88"/>
                </a:lnTo>
                <a:lnTo>
                  <a:pt x="440" y="84"/>
                </a:lnTo>
                <a:lnTo>
                  <a:pt x="440" y="76"/>
                </a:lnTo>
                <a:lnTo>
                  <a:pt x="440" y="72"/>
                </a:lnTo>
                <a:lnTo>
                  <a:pt x="437" y="65"/>
                </a:lnTo>
                <a:lnTo>
                  <a:pt x="437" y="59"/>
                </a:lnTo>
                <a:lnTo>
                  <a:pt x="434" y="53"/>
                </a:lnTo>
                <a:lnTo>
                  <a:pt x="434" y="47"/>
                </a:lnTo>
                <a:lnTo>
                  <a:pt x="431" y="41"/>
                </a:lnTo>
                <a:lnTo>
                  <a:pt x="431" y="35"/>
                </a:lnTo>
                <a:lnTo>
                  <a:pt x="431" y="28"/>
                </a:lnTo>
                <a:lnTo>
                  <a:pt x="431" y="24"/>
                </a:lnTo>
                <a:lnTo>
                  <a:pt x="427" y="16"/>
                </a:lnTo>
                <a:lnTo>
                  <a:pt x="427" y="12"/>
                </a:lnTo>
                <a:lnTo>
                  <a:pt x="427" y="6"/>
                </a:lnTo>
                <a:lnTo>
                  <a:pt x="427" y="0"/>
                </a:lnTo>
                <a:lnTo>
                  <a:pt x="414" y="0"/>
                </a:lnTo>
                <a:lnTo>
                  <a:pt x="401" y="2"/>
                </a:lnTo>
                <a:lnTo>
                  <a:pt x="384" y="2"/>
                </a:lnTo>
                <a:lnTo>
                  <a:pt x="371" y="4"/>
                </a:lnTo>
                <a:lnTo>
                  <a:pt x="358" y="6"/>
                </a:lnTo>
                <a:lnTo>
                  <a:pt x="344" y="6"/>
                </a:lnTo>
                <a:lnTo>
                  <a:pt x="328" y="6"/>
                </a:lnTo>
                <a:lnTo>
                  <a:pt x="318" y="8"/>
                </a:lnTo>
                <a:lnTo>
                  <a:pt x="305" y="10"/>
                </a:lnTo>
                <a:lnTo>
                  <a:pt x="291" y="10"/>
                </a:lnTo>
                <a:lnTo>
                  <a:pt x="278" y="12"/>
                </a:lnTo>
                <a:lnTo>
                  <a:pt x="262" y="12"/>
                </a:lnTo>
                <a:lnTo>
                  <a:pt x="248" y="14"/>
                </a:lnTo>
                <a:lnTo>
                  <a:pt x="235" y="16"/>
                </a:lnTo>
                <a:lnTo>
                  <a:pt x="222" y="18"/>
                </a:lnTo>
                <a:lnTo>
                  <a:pt x="209" y="20"/>
                </a:lnTo>
                <a:lnTo>
                  <a:pt x="195" y="22"/>
                </a:lnTo>
                <a:lnTo>
                  <a:pt x="179" y="24"/>
                </a:lnTo>
                <a:lnTo>
                  <a:pt x="169" y="26"/>
                </a:lnTo>
                <a:lnTo>
                  <a:pt x="156" y="28"/>
                </a:lnTo>
                <a:lnTo>
                  <a:pt x="139" y="33"/>
                </a:lnTo>
                <a:lnTo>
                  <a:pt x="129" y="35"/>
                </a:lnTo>
                <a:lnTo>
                  <a:pt x="113" y="37"/>
                </a:lnTo>
                <a:lnTo>
                  <a:pt x="103" y="43"/>
                </a:lnTo>
                <a:lnTo>
                  <a:pt x="86" y="45"/>
                </a:lnTo>
                <a:lnTo>
                  <a:pt x="73" y="47"/>
                </a:lnTo>
                <a:lnTo>
                  <a:pt x="63" y="51"/>
                </a:lnTo>
                <a:lnTo>
                  <a:pt x="50" y="55"/>
                </a:lnTo>
                <a:lnTo>
                  <a:pt x="36" y="59"/>
                </a:lnTo>
                <a:lnTo>
                  <a:pt x="23" y="63"/>
                </a:lnTo>
                <a:lnTo>
                  <a:pt x="10" y="69"/>
                </a:lnTo>
                <a:lnTo>
                  <a:pt x="0" y="74"/>
                </a:lnTo>
                <a:lnTo>
                  <a:pt x="79" y="156"/>
                </a:lnTo>
                <a:lnTo>
                  <a:pt x="79" y="15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8760" y="3859200"/>
            <a:ext cx="452520" cy="250920"/>
          </a:xfrm>
          <a:custGeom>
            <a:avLst/>
            <a:gdLst/>
            <a:ahLst/>
            <a:rect l="l" t="t" r="r" b="b"/>
            <a:pathLst>
              <a:path w="285" h="158">
                <a:moveTo>
                  <a:pt x="0" y="66"/>
                </a:moveTo>
                <a:lnTo>
                  <a:pt x="6" y="70"/>
                </a:lnTo>
                <a:lnTo>
                  <a:pt x="16" y="76"/>
                </a:lnTo>
                <a:lnTo>
                  <a:pt x="26" y="80"/>
                </a:lnTo>
                <a:lnTo>
                  <a:pt x="43" y="89"/>
                </a:lnTo>
                <a:lnTo>
                  <a:pt x="49" y="93"/>
                </a:lnTo>
                <a:lnTo>
                  <a:pt x="56" y="97"/>
                </a:lnTo>
                <a:lnTo>
                  <a:pt x="63" y="99"/>
                </a:lnTo>
                <a:lnTo>
                  <a:pt x="73" y="105"/>
                </a:lnTo>
                <a:lnTo>
                  <a:pt x="76" y="109"/>
                </a:lnTo>
                <a:lnTo>
                  <a:pt x="86" y="113"/>
                </a:lnTo>
                <a:lnTo>
                  <a:pt x="93" y="117"/>
                </a:lnTo>
                <a:lnTo>
                  <a:pt x="99" y="119"/>
                </a:lnTo>
                <a:lnTo>
                  <a:pt x="112" y="130"/>
                </a:lnTo>
                <a:lnTo>
                  <a:pt x="126" y="136"/>
                </a:lnTo>
                <a:lnTo>
                  <a:pt x="136" y="142"/>
                </a:lnTo>
                <a:lnTo>
                  <a:pt x="142" y="150"/>
                </a:lnTo>
                <a:lnTo>
                  <a:pt x="146" y="154"/>
                </a:lnTo>
                <a:lnTo>
                  <a:pt x="149" y="158"/>
                </a:lnTo>
                <a:lnTo>
                  <a:pt x="285" y="115"/>
                </a:lnTo>
                <a:lnTo>
                  <a:pt x="281" y="109"/>
                </a:lnTo>
                <a:lnTo>
                  <a:pt x="275" y="103"/>
                </a:lnTo>
                <a:lnTo>
                  <a:pt x="268" y="97"/>
                </a:lnTo>
                <a:lnTo>
                  <a:pt x="265" y="93"/>
                </a:lnTo>
                <a:lnTo>
                  <a:pt x="261" y="89"/>
                </a:lnTo>
                <a:lnTo>
                  <a:pt x="255" y="82"/>
                </a:lnTo>
                <a:lnTo>
                  <a:pt x="252" y="80"/>
                </a:lnTo>
                <a:lnTo>
                  <a:pt x="245" y="76"/>
                </a:lnTo>
                <a:lnTo>
                  <a:pt x="235" y="68"/>
                </a:lnTo>
                <a:lnTo>
                  <a:pt x="225" y="62"/>
                </a:lnTo>
                <a:lnTo>
                  <a:pt x="215" y="58"/>
                </a:lnTo>
                <a:lnTo>
                  <a:pt x="205" y="52"/>
                </a:lnTo>
                <a:lnTo>
                  <a:pt x="195" y="45"/>
                </a:lnTo>
                <a:lnTo>
                  <a:pt x="182" y="39"/>
                </a:lnTo>
                <a:lnTo>
                  <a:pt x="172" y="35"/>
                </a:lnTo>
                <a:lnTo>
                  <a:pt x="159" y="29"/>
                </a:lnTo>
                <a:lnTo>
                  <a:pt x="146" y="23"/>
                </a:lnTo>
                <a:lnTo>
                  <a:pt x="132" y="17"/>
                </a:lnTo>
                <a:lnTo>
                  <a:pt x="116" y="7"/>
                </a:lnTo>
                <a:lnTo>
                  <a:pt x="102" y="0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3505320"/>
            <a:ext cx="584280" cy="560160"/>
          </a:xfrm>
          <a:custGeom>
            <a:avLst/>
            <a:gdLst/>
            <a:ahLst/>
            <a:rect l="l" t="t" r="r" b="b"/>
            <a:pathLst>
              <a:path w="368" h="353">
                <a:moveTo>
                  <a:pt x="229" y="0"/>
                </a:moveTo>
                <a:lnTo>
                  <a:pt x="226" y="4"/>
                </a:lnTo>
                <a:lnTo>
                  <a:pt x="222" y="8"/>
                </a:lnTo>
                <a:lnTo>
                  <a:pt x="219" y="14"/>
                </a:lnTo>
                <a:lnTo>
                  <a:pt x="212" y="18"/>
                </a:lnTo>
                <a:lnTo>
                  <a:pt x="209" y="23"/>
                </a:lnTo>
                <a:lnTo>
                  <a:pt x="209" y="27"/>
                </a:lnTo>
                <a:lnTo>
                  <a:pt x="202" y="33"/>
                </a:lnTo>
                <a:lnTo>
                  <a:pt x="202" y="39"/>
                </a:lnTo>
                <a:lnTo>
                  <a:pt x="199" y="43"/>
                </a:lnTo>
                <a:lnTo>
                  <a:pt x="192" y="49"/>
                </a:lnTo>
                <a:lnTo>
                  <a:pt x="189" y="53"/>
                </a:lnTo>
                <a:lnTo>
                  <a:pt x="186" y="57"/>
                </a:lnTo>
                <a:lnTo>
                  <a:pt x="182" y="61"/>
                </a:lnTo>
                <a:lnTo>
                  <a:pt x="179" y="68"/>
                </a:lnTo>
                <a:lnTo>
                  <a:pt x="176" y="72"/>
                </a:lnTo>
                <a:lnTo>
                  <a:pt x="173" y="78"/>
                </a:lnTo>
                <a:lnTo>
                  <a:pt x="169" y="82"/>
                </a:lnTo>
                <a:lnTo>
                  <a:pt x="163" y="88"/>
                </a:lnTo>
                <a:lnTo>
                  <a:pt x="159" y="92"/>
                </a:lnTo>
                <a:lnTo>
                  <a:pt x="156" y="96"/>
                </a:lnTo>
                <a:lnTo>
                  <a:pt x="153" y="100"/>
                </a:lnTo>
                <a:lnTo>
                  <a:pt x="149" y="107"/>
                </a:lnTo>
                <a:lnTo>
                  <a:pt x="146" y="111"/>
                </a:lnTo>
                <a:lnTo>
                  <a:pt x="143" y="117"/>
                </a:lnTo>
                <a:lnTo>
                  <a:pt x="139" y="121"/>
                </a:lnTo>
                <a:lnTo>
                  <a:pt x="133" y="127"/>
                </a:lnTo>
                <a:lnTo>
                  <a:pt x="130" y="131"/>
                </a:lnTo>
                <a:lnTo>
                  <a:pt x="126" y="135"/>
                </a:lnTo>
                <a:lnTo>
                  <a:pt x="123" y="139"/>
                </a:lnTo>
                <a:lnTo>
                  <a:pt x="123" y="146"/>
                </a:lnTo>
                <a:lnTo>
                  <a:pt x="116" y="150"/>
                </a:lnTo>
                <a:lnTo>
                  <a:pt x="116" y="156"/>
                </a:lnTo>
                <a:lnTo>
                  <a:pt x="113" y="160"/>
                </a:lnTo>
                <a:lnTo>
                  <a:pt x="106" y="164"/>
                </a:lnTo>
                <a:lnTo>
                  <a:pt x="103" y="170"/>
                </a:lnTo>
                <a:lnTo>
                  <a:pt x="100" y="174"/>
                </a:lnTo>
                <a:lnTo>
                  <a:pt x="96" y="180"/>
                </a:lnTo>
                <a:lnTo>
                  <a:pt x="93" y="184"/>
                </a:lnTo>
                <a:lnTo>
                  <a:pt x="90" y="189"/>
                </a:lnTo>
                <a:lnTo>
                  <a:pt x="86" y="193"/>
                </a:lnTo>
                <a:lnTo>
                  <a:pt x="83" y="199"/>
                </a:lnTo>
                <a:lnTo>
                  <a:pt x="80" y="203"/>
                </a:lnTo>
                <a:lnTo>
                  <a:pt x="77" y="209"/>
                </a:lnTo>
                <a:lnTo>
                  <a:pt x="70" y="213"/>
                </a:lnTo>
                <a:lnTo>
                  <a:pt x="67" y="219"/>
                </a:lnTo>
                <a:lnTo>
                  <a:pt x="63" y="223"/>
                </a:lnTo>
                <a:lnTo>
                  <a:pt x="60" y="227"/>
                </a:lnTo>
                <a:lnTo>
                  <a:pt x="57" y="234"/>
                </a:lnTo>
                <a:lnTo>
                  <a:pt x="53" y="238"/>
                </a:lnTo>
                <a:lnTo>
                  <a:pt x="50" y="244"/>
                </a:lnTo>
                <a:lnTo>
                  <a:pt x="47" y="248"/>
                </a:lnTo>
                <a:lnTo>
                  <a:pt x="40" y="252"/>
                </a:lnTo>
                <a:lnTo>
                  <a:pt x="37" y="258"/>
                </a:lnTo>
                <a:lnTo>
                  <a:pt x="33" y="262"/>
                </a:lnTo>
                <a:lnTo>
                  <a:pt x="30" y="266"/>
                </a:lnTo>
                <a:lnTo>
                  <a:pt x="27" y="273"/>
                </a:lnTo>
                <a:lnTo>
                  <a:pt x="24" y="277"/>
                </a:lnTo>
                <a:lnTo>
                  <a:pt x="20" y="283"/>
                </a:lnTo>
                <a:lnTo>
                  <a:pt x="17" y="287"/>
                </a:lnTo>
                <a:lnTo>
                  <a:pt x="10" y="293"/>
                </a:lnTo>
                <a:lnTo>
                  <a:pt x="7" y="297"/>
                </a:lnTo>
                <a:lnTo>
                  <a:pt x="7" y="301"/>
                </a:lnTo>
                <a:lnTo>
                  <a:pt x="0" y="305"/>
                </a:lnTo>
                <a:lnTo>
                  <a:pt x="0" y="312"/>
                </a:lnTo>
                <a:lnTo>
                  <a:pt x="139" y="353"/>
                </a:lnTo>
                <a:lnTo>
                  <a:pt x="143" y="346"/>
                </a:lnTo>
                <a:lnTo>
                  <a:pt x="146" y="340"/>
                </a:lnTo>
                <a:lnTo>
                  <a:pt x="149" y="336"/>
                </a:lnTo>
                <a:lnTo>
                  <a:pt x="153" y="332"/>
                </a:lnTo>
                <a:lnTo>
                  <a:pt x="156" y="326"/>
                </a:lnTo>
                <a:lnTo>
                  <a:pt x="159" y="322"/>
                </a:lnTo>
                <a:lnTo>
                  <a:pt x="163" y="316"/>
                </a:lnTo>
                <a:lnTo>
                  <a:pt x="166" y="312"/>
                </a:lnTo>
                <a:lnTo>
                  <a:pt x="169" y="305"/>
                </a:lnTo>
                <a:lnTo>
                  <a:pt x="173" y="301"/>
                </a:lnTo>
                <a:lnTo>
                  <a:pt x="176" y="297"/>
                </a:lnTo>
                <a:lnTo>
                  <a:pt x="179" y="291"/>
                </a:lnTo>
                <a:lnTo>
                  <a:pt x="182" y="287"/>
                </a:lnTo>
                <a:lnTo>
                  <a:pt x="186" y="281"/>
                </a:lnTo>
                <a:lnTo>
                  <a:pt x="189" y="277"/>
                </a:lnTo>
                <a:lnTo>
                  <a:pt x="192" y="271"/>
                </a:lnTo>
                <a:lnTo>
                  <a:pt x="199" y="266"/>
                </a:lnTo>
                <a:lnTo>
                  <a:pt x="202" y="262"/>
                </a:lnTo>
                <a:lnTo>
                  <a:pt x="202" y="256"/>
                </a:lnTo>
                <a:lnTo>
                  <a:pt x="209" y="252"/>
                </a:lnTo>
                <a:lnTo>
                  <a:pt x="212" y="246"/>
                </a:lnTo>
                <a:lnTo>
                  <a:pt x="216" y="242"/>
                </a:lnTo>
                <a:lnTo>
                  <a:pt x="219" y="238"/>
                </a:lnTo>
                <a:lnTo>
                  <a:pt x="222" y="232"/>
                </a:lnTo>
                <a:lnTo>
                  <a:pt x="226" y="227"/>
                </a:lnTo>
                <a:lnTo>
                  <a:pt x="229" y="223"/>
                </a:lnTo>
                <a:lnTo>
                  <a:pt x="232" y="217"/>
                </a:lnTo>
                <a:lnTo>
                  <a:pt x="235" y="213"/>
                </a:lnTo>
                <a:lnTo>
                  <a:pt x="239" y="207"/>
                </a:lnTo>
                <a:lnTo>
                  <a:pt x="245" y="203"/>
                </a:lnTo>
                <a:lnTo>
                  <a:pt x="249" y="197"/>
                </a:lnTo>
                <a:lnTo>
                  <a:pt x="252" y="193"/>
                </a:lnTo>
                <a:lnTo>
                  <a:pt x="255" y="189"/>
                </a:lnTo>
                <a:lnTo>
                  <a:pt x="259" y="184"/>
                </a:lnTo>
                <a:lnTo>
                  <a:pt x="262" y="178"/>
                </a:lnTo>
                <a:lnTo>
                  <a:pt x="265" y="174"/>
                </a:lnTo>
                <a:lnTo>
                  <a:pt x="269" y="168"/>
                </a:lnTo>
                <a:lnTo>
                  <a:pt x="272" y="164"/>
                </a:lnTo>
                <a:lnTo>
                  <a:pt x="275" y="158"/>
                </a:lnTo>
                <a:lnTo>
                  <a:pt x="279" y="154"/>
                </a:lnTo>
                <a:lnTo>
                  <a:pt x="282" y="150"/>
                </a:lnTo>
                <a:lnTo>
                  <a:pt x="288" y="143"/>
                </a:lnTo>
                <a:lnTo>
                  <a:pt x="292" y="139"/>
                </a:lnTo>
                <a:lnTo>
                  <a:pt x="295" y="133"/>
                </a:lnTo>
                <a:lnTo>
                  <a:pt x="298" y="129"/>
                </a:lnTo>
                <a:lnTo>
                  <a:pt x="302" y="125"/>
                </a:lnTo>
                <a:lnTo>
                  <a:pt x="305" y="119"/>
                </a:lnTo>
                <a:lnTo>
                  <a:pt x="308" y="115"/>
                </a:lnTo>
                <a:lnTo>
                  <a:pt x="312" y="111"/>
                </a:lnTo>
                <a:lnTo>
                  <a:pt x="318" y="107"/>
                </a:lnTo>
                <a:lnTo>
                  <a:pt x="322" y="100"/>
                </a:lnTo>
                <a:lnTo>
                  <a:pt x="325" y="96"/>
                </a:lnTo>
                <a:lnTo>
                  <a:pt x="325" y="90"/>
                </a:lnTo>
                <a:lnTo>
                  <a:pt x="332" y="86"/>
                </a:lnTo>
                <a:lnTo>
                  <a:pt x="335" y="80"/>
                </a:lnTo>
                <a:lnTo>
                  <a:pt x="338" y="76"/>
                </a:lnTo>
                <a:lnTo>
                  <a:pt x="341" y="72"/>
                </a:lnTo>
                <a:lnTo>
                  <a:pt x="345" y="66"/>
                </a:lnTo>
                <a:lnTo>
                  <a:pt x="348" y="61"/>
                </a:lnTo>
                <a:lnTo>
                  <a:pt x="351" y="57"/>
                </a:lnTo>
                <a:lnTo>
                  <a:pt x="358" y="51"/>
                </a:lnTo>
                <a:lnTo>
                  <a:pt x="361" y="47"/>
                </a:lnTo>
                <a:lnTo>
                  <a:pt x="365" y="41"/>
                </a:lnTo>
                <a:lnTo>
                  <a:pt x="368" y="39"/>
                </a:lnTo>
                <a:lnTo>
                  <a:pt x="229" y="0"/>
                </a:lnTo>
                <a:lnTo>
                  <a:pt x="22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19760" y="5362560"/>
            <a:ext cx="168120" cy="42840"/>
          </a:xfrm>
          <a:custGeom>
            <a:avLst/>
            <a:gdLst/>
            <a:ahLst/>
            <a:rect l="l" t="t" r="r" b="b"/>
            <a:pathLst>
              <a:path w="106" h="27">
                <a:moveTo>
                  <a:pt x="70" y="0"/>
                </a:moveTo>
                <a:lnTo>
                  <a:pt x="73" y="0"/>
                </a:lnTo>
                <a:lnTo>
                  <a:pt x="83" y="4"/>
                </a:lnTo>
                <a:lnTo>
                  <a:pt x="96" y="8"/>
                </a:lnTo>
                <a:lnTo>
                  <a:pt x="106" y="13"/>
                </a:lnTo>
                <a:lnTo>
                  <a:pt x="93" y="17"/>
                </a:lnTo>
                <a:lnTo>
                  <a:pt x="80" y="19"/>
                </a:lnTo>
                <a:lnTo>
                  <a:pt x="70" y="23"/>
                </a:lnTo>
                <a:lnTo>
                  <a:pt x="57" y="25"/>
                </a:lnTo>
                <a:lnTo>
                  <a:pt x="43" y="25"/>
                </a:lnTo>
                <a:lnTo>
                  <a:pt x="27" y="27"/>
                </a:lnTo>
                <a:lnTo>
                  <a:pt x="17" y="25"/>
                </a:lnTo>
                <a:lnTo>
                  <a:pt x="0" y="25"/>
                </a:lnTo>
                <a:lnTo>
                  <a:pt x="10" y="23"/>
                </a:lnTo>
                <a:lnTo>
                  <a:pt x="17" y="21"/>
                </a:lnTo>
                <a:lnTo>
                  <a:pt x="27" y="17"/>
                </a:lnTo>
                <a:lnTo>
                  <a:pt x="34" y="15"/>
                </a:lnTo>
                <a:lnTo>
                  <a:pt x="43" y="10"/>
                </a:lnTo>
                <a:lnTo>
                  <a:pt x="50" y="8"/>
                </a:lnTo>
                <a:lnTo>
                  <a:pt x="60" y="4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19680" y="5011560"/>
            <a:ext cx="163440" cy="344520"/>
          </a:xfrm>
          <a:custGeom>
            <a:avLst/>
            <a:gdLst/>
            <a:ahLst/>
            <a:rect l="l" t="t" r="r" b="b"/>
            <a:pathLst>
              <a:path w="103" h="217">
                <a:moveTo>
                  <a:pt x="0" y="18"/>
                </a:moveTo>
                <a:lnTo>
                  <a:pt x="7" y="20"/>
                </a:lnTo>
                <a:lnTo>
                  <a:pt x="17" y="22"/>
                </a:lnTo>
                <a:lnTo>
                  <a:pt x="27" y="20"/>
                </a:lnTo>
                <a:lnTo>
                  <a:pt x="40" y="20"/>
                </a:lnTo>
                <a:lnTo>
                  <a:pt x="47" y="16"/>
                </a:lnTo>
                <a:lnTo>
                  <a:pt x="57" y="12"/>
                </a:lnTo>
                <a:lnTo>
                  <a:pt x="60" y="6"/>
                </a:lnTo>
                <a:lnTo>
                  <a:pt x="63" y="0"/>
                </a:lnTo>
                <a:lnTo>
                  <a:pt x="67" y="4"/>
                </a:lnTo>
                <a:lnTo>
                  <a:pt x="73" y="6"/>
                </a:lnTo>
                <a:lnTo>
                  <a:pt x="77" y="12"/>
                </a:lnTo>
                <a:lnTo>
                  <a:pt x="83" y="16"/>
                </a:lnTo>
                <a:lnTo>
                  <a:pt x="93" y="24"/>
                </a:lnTo>
                <a:lnTo>
                  <a:pt x="103" y="29"/>
                </a:lnTo>
                <a:lnTo>
                  <a:pt x="93" y="29"/>
                </a:lnTo>
                <a:lnTo>
                  <a:pt x="87" y="29"/>
                </a:lnTo>
                <a:lnTo>
                  <a:pt x="80" y="31"/>
                </a:lnTo>
                <a:lnTo>
                  <a:pt x="77" y="33"/>
                </a:lnTo>
                <a:lnTo>
                  <a:pt x="67" y="39"/>
                </a:lnTo>
                <a:lnTo>
                  <a:pt x="63" y="47"/>
                </a:lnTo>
                <a:lnTo>
                  <a:pt x="67" y="53"/>
                </a:lnTo>
                <a:lnTo>
                  <a:pt x="73" y="63"/>
                </a:lnTo>
                <a:lnTo>
                  <a:pt x="80" y="70"/>
                </a:lnTo>
                <a:lnTo>
                  <a:pt x="90" y="76"/>
                </a:lnTo>
                <a:lnTo>
                  <a:pt x="80" y="80"/>
                </a:lnTo>
                <a:lnTo>
                  <a:pt x="73" y="84"/>
                </a:lnTo>
                <a:lnTo>
                  <a:pt x="63" y="88"/>
                </a:lnTo>
                <a:lnTo>
                  <a:pt x="57" y="94"/>
                </a:lnTo>
                <a:lnTo>
                  <a:pt x="50" y="98"/>
                </a:lnTo>
                <a:lnTo>
                  <a:pt x="50" y="104"/>
                </a:lnTo>
                <a:lnTo>
                  <a:pt x="44" y="111"/>
                </a:lnTo>
                <a:lnTo>
                  <a:pt x="44" y="119"/>
                </a:lnTo>
                <a:lnTo>
                  <a:pt x="40" y="123"/>
                </a:lnTo>
                <a:lnTo>
                  <a:pt x="44" y="131"/>
                </a:lnTo>
                <a:lnTo>
                  <a:pt x="44" y="137"/>
                </a:lnTo>
                <a:lnTo>
                  <a:pt x="44" y="143"/>
                </a:lnTo>
                <a:lnTo>
                  <a:pt x="47" y="149"/>
                </a:lnTo>
                <a:lnTo>
                  <a:pt x="50" y="156"/>
                </a:lnTo>
                <a:lnTo>
                  <a:pt x="53" y="162"/>
                </a:lnTo>
                <a:lnTo>
                  <a:pt x="60" y="170"/>
                </a:lnTo>
                <a:lnTo>
                  <a:pt x="67" y="172"/>
                </a:lnTo>
                <a:lnTo>
                  <a:pt x="73" y="176"/>
                </a:lnTo>
                <a:lnTo>
                  <a:pt x="77" y="180"/>
                </a:lnTo>
                <a:lnTo>
                  <a:pt x="80" y="184"/>
                </a:lnTo>
                <a:lnTo>
                  <a:pt x="83" y="190"/>
                </a:lnTo>
                <a:lnTo>
                  <a:pt x="80" y="197"/>
                </a:lnTo>
                <a:lnTo>
                  <a:pt x="73" y="201"/>
                </a:lnTo>
                <a:lnTo>
                  <a:pt x="63" y="207"/>
                </a:lnTo>
                <a:lnTo>
                  <a:pt x="53" y="211"/>
                </a:lnTo>
                <a:lnTo>
                  <a:pt x="44" y="217"/>
                </a:lnTo>
                <a:lnTo>
                  <a:pt x="44" y="209"/>
                </a:lnTo>
                <a:lnTo>
                  <a:pt x="40" y="203"/>
                </a:lnTo>
                <a:lnTo>
                  <a:pt x="40" y="197"/>
                </a:lnTo>
                <a:lnTo>
                  <a:pt x="37" y="190"/>
                </a:lnTo>
                <a:lnTo>
                  <a:pt x="34" y="182"/>
                </a:lnTo>
                <a:lnTo>
                  <a:pt x="34" y="176"/>
                </a:lnTo>
                <a:lnTo>
                  <a:pt x="34" y="170"/>
                </a:lnTo>
                <a:lnTo>
                  <a:pt x="34" y="164"/>
                </a:lnTo>
                <a:lnTo>
                  <a:pt x="30" y="156"/>
                </a:lnTo>
                <a:lnTo>
                  <a:pt x="27" y="152"/>
                </a:lnTo>
                <a:lnTo>
                  <a:pt x="27" y="143"/>
                </a:lnTo>
                <a:lnTo>
                  <a:pt x="27" y="137"/>
                </a:lnTo>
                <a:lnTo>
                  <a:pt x="24" y="131"/>
                </a:lnTo>
                <a:lnTo>
                  <a:pt x="24" y="125"/>
                </a:lnTo>
                <a:lnTo>
                  <a:pt x="24" y="119"/>
                </a:lnTo>
                <a:lnTo>
                  <a:pt x="24" y="113"/>
                </a:lnTo>
                <a:lnTo>
                  <a:pt x="20" y="104"/>
                </a:lnTo>
                <a:lnTo>
                  <a:pt x="17" y="100"/>
                </a:lnTo>
                <a:lnTo>
                  <a:pt x="17" y="94"/>
                </a:lnTo>
                <a:lnTo>
                  <a:pt x="17" y="86"/>
                </a:lnTo>
                <a:lnTo>
                  <a:pt x="14" y="80"/>
                </a:lnTo>
                <a:lnTo>
                  <a:pt x="14" y="76"/>
                </a:lnTo>
                <a:lnTo>
                  <a:pt x="10" y="68"/>
                </a:lnTo>
                <a:lnTo>
                  <a:pt x="10" y="63"/>
                </a:lnTo>
                <a:lnTo>
                  <a:pt x="7" y="57"/>
                </a:lnTo>
                <a:lnTo>
                  <a:pt x="7" y="51"/>
                </a:lnTo>
                <a:lnTo>
                  <a:pt x="4" y="45"/>
                </a:lnTo>
                <a:lnTo>
                  <a:pt x="4" y="41"/>
                </a:lnTo>
                <a:lnTo>
                  <a:pt x="4" y="33"/>
                </a:lnTo>
                <a:lnTo>
                  <a:pt x="0" y="29"/>
                </a:lnTo>
                <a:lnTo>
                  <a:pt x="0" y="22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10040" y="5440320"/>
            <a:ext cx="2088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0"/>
                </a:moveTo>
                <a:lnTo>
                  <a:pt x="6" y="2"/>
                </a:lnTo>
                <a:lnTo>
                  <a:pt x="13" y="5"/>
                </a:lnTo>
                <a:lnTo>
                  <a:pt x="6" y="7"/>
                </a:lnTo>
                <a:lnTo>
                  <a:pt x="3" y="9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99040" y="5421240"/>
            <a:ext cx="63360" cy="55800"/>
          </a:xfrm>
          <a:custGeom>
            <a:avLst/>
            <a:gdLst/>
            <a:ahLst/>
            <a:rect l="l" t="t" r="r" b="b"/>
            <a:pathLst>
              <a:path w="40" h="35">
                <a:moveTo>
                  <a:pt x="40" y="35"/>
                </a:moveTo>
                <a:lnTo>
                  <a:pt x="36" y="31"/>
                </a:lnTo>
                <a:lnTo>
                  <a:pt x="33" y="27"/>
                </a:lnTo>
                <a:lnTo>
                  <a:pt x="27" y="23"/>
                </a:lnTo>
                <a:lnTo>
                  <a:pt x="23" y="17"/>
                </a:lnTo>
                <a:lnTo>
                  <a:pt x="10" y="10"/>
                </a:lnTo>
                <a:lnTo>
                  <a:pt x="0" y="6"/>
                </a:lnTo>
                <a:lnTo>
                  <a:pt x="7" y="4"/>
                </a:lnTo>
                <a:lnTo>
                  <a:pt x="13" y="4"/>
                </a:lnTo>
                <a:lnTo>
                  <a:pt x="23" y="0"/>
                </a:lnTo>
                <a:lnTo>
                  <a:pt x="33" y="0"/>
                </a:lnTo>
                <a:lnTo>
                  <a:pt x="33" y="4"/>
                </a:lnTo>
                <a:lnTo>
                  <a:pt x="33" y="8"/>
                </a:lnTo>
                <a:lnTo>
                  <a:pt x="33" y="12"/>
                </a:lnTo>
                <a:lnTo>
                  <a:pt x="36" y="17"/>
                </a:lnTo>
                <a:lnTo>
                  <a:pt x="36" y="23"/>
                </a:lnTo>
                <a:lnTo>
                  <a:pt x="36" y="27"/>
                </a:lnTo>
                <a:lnTo>
                  <a:pt x="36" y="31"/>
                </a:lnTo>
                <a:lnTo>
                  <a:pt x="40" y="35"/>
                </a:lnTo>
                <a:lnTo>
                  <a:pt x="4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94360" y="5262480"/>
            <a:ext cx="41040" cy="81000"/>
          </a:xfrm>
          <a:custGeom>
            <a:avLst/>
            <a:gdLst/>
            <a:ahLst/>
            <a:rect l="l" t="t" r="r" b="b"/>
            <a:pathLst>
              <a:path w="26" h="51">
                <a:moveTo>
                  <a:pt x="26" y="51"/>
                </a:moveTo>
                <a:lnTo>
                  <a:pt x="13" y="45"/>
                </a:lnTo>
                <a:lnTo>
                  <a:pt x="6" y="41"/>
                </a:lnTo>
                <a:lnTo>
                  <a:pt x="3" y="32"/>
                </a:lnTo>
                <a:lnTo>
                  <a:pt x="0" y="26"/>
                </a:lnTo>
                <a:lnTo>
                  <a:pt x="0" y="18"/>
                </a:lnTo>
                <a:lnTo>
                  <a:pt x="0" y="12"/>
                </a:lnTo>
                <a:lnTo>
                  <a:pt x="3" y="4"/>
                </a:lnTo>
                <a:lnTo>
                  <a:pt x="13" y="0"/>
                </a:lnTo>
                <a:lnTo>
                  <a:pt x="13" y="6"/>
                </a:lnTo>
                <a:lnTo>
                  <a:pt x="16" y="12"/>
                </a:lnTo>
                <a:lnTo>
                  <a:pt x="16" y="18"/>
                </a:lnTo>
                <a:lnTo>
                  <a:pt x="20" y="24"/>
                </a:lnTo>
                <a:lnTo>
                  <a:pt x="20" y="30"/>
                </a:lnTo>
                <a:lnTo>
                  <a:pt x="23" y="39"/>
                </a:lnTo>
                <a:lnTo>
                  <a:pt x="23" y="43"/>
                </a:lnTo>
                <a:lnTo>
                  <a:pt x="26" y="51"/>
                </a:lnTo>
                <a:lnTo>
                  <a:pt x="26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89520" y="4881600"/>
            <a:ext cx="220680" cy="393840"/>
          </a:xfrm>
          <a:custGeom>
            <a:avLst/>
            <a:gdLst/>
            <a:ahLst/>
            <a:rect l="l" t="t" r="r" b="b"/>
            <a:pathLst>
              <a:path w="139" h="248">
                <a:moveTo>
                  <a:pt x="139" y="215"/>
                </a:moveTo>
                <a:lnTo>
                  <a:pt x="135" y="213"/>
                </a:lnTo>
                <a:lnTo>
                  <a:pt x="132" y="215"/>
                </a:lnTo>
                <a:lnTo>
                  <a:pt x="129" y="217"/>
                </a:lnTo>
                <a:lnTo>
                  <a:pt x="125" y="223"/>
                </a:lnTo>
                <a:lnTo>
                  <a:pt x="122" y="227"/>
                </a:lnTo>
                <a:lnTo>
                  <a:pt x="119" y="231"/>
                </a:lnTo>
                <a:lnTo>
                  <a:pt x="119" y="238"/>
                </a:lnTo>
                <a:lnTo>
                  <a:pt x="119" y="242"/>
                </a:lnTo>
                <a:lnTo>
                  <a:pt x="122" y="244"/>
                </a:lnTo>
                <a:lnTo>
                  <a:pt x="109" y="248"/>
                </a:lnTo>
                <a:lnTo>
                  <a:pt x="99" y="248"/>
                </a:lnTo>
                <a:lnTo>
                  <a:pt x="89" y="246"/>
                </a:lnTo>
                <a:lnTo>
                  <a:pt x="79" y="244"/>
                </a:lnTo>
                <a:lnTo>
                  <a:pt x="72" y="238"/>
                </a:lnTo>
                <a:lnTo>
                  <a:pt x="72" y="234"/>
                </a:lnTo>
                <a:lnTo>
                  <a:pt x="72" y="229"/>
                </a:lnTo>
                <a:lnTo>
                  <a:pt x="79" y="225"/>
                </a:lnTo>
                <a:lnTo>
                  <a:pt x="82" y="223"/>
                </a:lnTo>
                <a:lnTo>
                  <a:pt x="96" y="221"/>
                </a:lnTo>
                <a:lnTo>
                  <a:pt x="89" y="215"/>
                </a:lnTo>
                <a:lnTo>
                  <a:pt x="86" y="207"/>
                </a:lnTo>
                <a:lnTo>
                  <a:pt x="82" y="201"/>
                </a:lnTo>
                <a:lnTo>
                  <a:pt x="86" y="195"/>
                </a:lnTo>
                <a:lnTo>
                  <a:pt x="86" y="188"/>
                </a:lnTo>
                <a:lnTo>
                  <a:pt x="89" y="182"/>
                </a:lnTo>
                <a:lnTo>
                  <a:pt x="92" y="176"/>
                </a:lnTo>
                <a:lnTo>
                  <a:pt x="96" y="168"/>
                </a:lnTo>
                <a:lnTo>
                  <a:pt x="96" y="162"/>
                </a:lnTo>
                <a:lnTo>
                  <a:pt x="99" y="154"/>
                </a:lnTo>
                <a:lnTo>
                  <a:pt x="99" y="147"/>
                </a:lnTo>
                <a:lnTo>
                  <a:pt x="99" y="143"/>
                </a:lnTo>
                <a:lnTo>
                  <a:pt x="96" y="135"/>
                </a:lnTo>
                <a:lnTo>
                  <a:pt x="92" y="131"/>
                </a:lnTo>
                <a:lnTo>
                  <a:pt x="82" y="125"/>
                </a:lnTo>
                <a:lnTo>
                  <a:pt x="76" y="121"/>
                </a:lnTo>
                <a:lnTo>
                  <a:pt x="79" y="119"/>
                </a:lnTo>
                <a:lnTo>
                  <a:pt x="89" y="117"/>
                </a:lnTo>
                <a:lnTo>
                  <a:pt x="96" y="115"/>
                </a:lnTo>
                <a:lnTo>
                  <a:pt x="102" y="113"/>
                </a:lnTo>
                <a:lnTo>
                  <a:pt x="102" y="109"/>
                </a:lnTo>
                <a:lnTo>
                  <a:pt x="106" y="104"/>
                </a:lnTo>
                <a:lnTo>
                  <a:pt x="102" y="100"/>
                </a:lnTo>
                <a:lnTo>
                  <a:pt x="102" y="96"/>
                </a:lnTo>
                <a:lnTo>
                  <a:pt x="99" y="90"/>
                </a:lnTo>
                <a:lnTo>
                  <a:pt x="92" y="86"/>
                </a:lnTo>
                <a:lnTo>
                  <a:pt x="79" y="80"/>
                </a:lnTo>
                <a:lnTo>
                  <a:pt x="69" y="76"/>
                </a:lnTo>
                <a:lnTo>
                  <a:pt x="59" y="72"/>
                </a:lnTo>
                <a:lnTo>
                  <a:pt x="46" y="70"/>
                </a:lnTo>
                <a:lnTo>
                  <a:pt x="33" y="65"/>
                </a:lnTo>
                <a:lnTo>
                  <a:pt x="19" y="61"/>
                </a:lnTo>
                <a:lnTo>
                  <a:pt x="13" y="57"/>
                </a:lnTo>
                <a:lnTo>
                  <a:pt x="6" y="53"/>
                </a:lnTo>
                <a:lnTo>
                  <a:pt x="0" y="47"/>
                </a:lnTo>
                <a:lnTo>
                  <a:pt x="0" y="41"/>
                </a:lnTo>
                <a:lnTo>
                  <a:pt x="6" y="35"/>
                </a:lnTo>
                <a:lnTo>
                  <a:pt x="16" y="29"/>
                </a:lnTo>
                <a:lnTo>
                  <a:pt x="16" y="20"/>
                </a:lnTo>
                <a:lnTo>
                  <a:pt x="16" y="16"/>
                </a:lnTo>
                <a:lnTo>
                  <a:pt x="19" y="12"/>
                </a:lnTo>
                <a:lnTo>
                  <a:pt x="23" y="10"/>
                </a:lnTo>
                <a:lnTo>
                  <a:pt x="36" y="6"/>
                </a:lnTo>
                <a:lnTo>
                  <a:pt x="46" y="8"/>
                </a:lnTo>
                <a:lnTo>
                  <a:pt x="59" y="8"/>
                </a:lnTo>
                <a:lnTo>
                  <a:pt x="72" y="8"/>
                </a:lnTo>
                <a:lnTo>
                  <a:pt x="82" y="6"/>
                </a:lnTo>
                <a:lnTo>
                  <a:pt x="89" y="0"/>
                </a:lnTo>
                <a:lnTo>
                  <a:pt x="89" y="6"/>
                </a:lnTo>
                <a:lnTo>
                  <a:pt x="92" y="10"/>
                </a:lnTo>
                <a:lnTo>
                  <a:pt x="92" y="16"/>
                </a:lnTo>
                <a:lnTo>
                  <a:pt x="96" y="20"/>
                </a:lnTo>
                <a:lnTo>
                  <a:pt x="96" y="27"/>
                </a:lnTo>
                <a:lnTo>
                  <a:pt x="96" y="33"/>
                </a:lnTo>
                <a:lnTo>
                  <a:pt x="96" y="39"/>
                </a:lnTo>
                <a:lnTo>
                  <a:pt x="99" y="45"/>
                </a:lnTo>
                <a:lnTo>
                  <a:pt x="99" y="51"/>
                </a:lnTo>
                <a:lnTo>
                  <a:pt x="102" y="57"/>
                </a:lnTo>
                <a:lnTo>
                  <a:pt x="102" y="63"/>
                </a:lnTo>
                <a:lnTo>
                  <a:pt x="106" y="70"/>
                </a:lnTo>
                <a:lnTo>
                  <a:pt x="106" y="76"/>
                </a:lnTo>
                <a:lnTo>
                  <a:pt x="106" y="82"/>
                </a:lnTo>
                <a:lnTo>
                  <a:pt x="109" y="90"/>
                </a:lnTo>
                <a:lnTo>
                  <a:pt x="109" y="96"/>
                </a:lnTo>
                <a:lnTo>
                  <a:pt x="109" y="104"/>
                </a:lnTo>
                <a:lnTo>
                  <a:pt x="112" y="111"/>
                </a:lnTo>
                <a:lnTo>
                  <a:pt x="112" y="117"/>
                </a:lnTo>
                <a:lnTo>
                  <a:pt x="119" y="125"/>
                </a:lnTo>
                <a:lnTo>
                  <a:pt x="119" y="131"/>
                </a:lnTo>
                <a:lnTo>
                  <a:pt x="119" y="139"/>
                </a:lnTo>
                <a:lnTo>
                  <a:pt x="122" y="145"/>
                </a:lnTo>
                <a:lnTo>
                  <a:pt x="122" y="154"/>
                </a:lnTo>
                <a:lnTo>
                  <a:pt x="125" y="162"/>
                </a:lnTo>
                <a:lnTo>
                  <a:pt x="125" y="168"/>
                </a:lnTo>
                <a:lnTo>
                  <a:pt x="129" y="176"/>
                </a:lnTo>
                <a:lnTo>
                  <a:pt x="129" y="182"/>
                </a:lnTo>
                <a:lnTo>
                  <a:pt x="132" y="191"/>
                </a:lnTo>
                <a:lnTo>
                  <a:pt x="132" y="199"/>
                </a:lnTo>
                <a:lnTo>
                  <a:pt x="135" y="205"/>
                </a:lnTo>
                <a:lnTo>
                  <a:pt x="139" y="215"/>
                </a:lnTo>
                <a:lnTo>
                  <a:pt x="139" y="2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41720" y="5460840"/>
            <a:ext cx="336600" cy="540000"/>
          </a:xfrm>
          <a:custGeom>
            <a:avLst/>
            <a:gdLst/>
            <a:ahLst/>
            <a:rect l="l" t="t" r="r" b="b"/>
            <a:pathLst>
              <a:path w="212" h="340">
                <a:moveTo>
                  <a:pt x="155" y="76"/>
                </a:moveTo>
                <a:lnTo>
                  <a:pt x="149" y="73"/>
                </a:lnTo>
                <a:lnTo>
                  <a:pt x="145" y="71"/>
                </a:lnTo>
                <a:lnTo>
                  <a:pt x="135" y="69"/>
                </a:lnTo>
                <a:lnTo>
                  <a:pt x="129" y="69"/>
                </a:lnTo>
                <a:lnTo>
                  <a:pt x="126" y="71"/>
                </a:lnTo>
                <a:lnTo>
                  <a:pt x="122" y="76"/>
                </a:lnTo>
                <a:lnTo>
                  <a:pt x="116" y="80"/>
                </a:lnTo>
                <a:lnTo>
                  <a:pt x="109" y="84"/>
                </a:lnTo>
                <a:lnTo>
                  <a:pt x="106" y="90"/>
                </a:lnTo>
                <a:lnTo>
                  <a:pt x="99" y="96"/>
                </a:lnTo>
                <a:lnTo>
                  <a:pt x="96" y="100"/>
                </a:lnTo>
                <a:lnTo>
                  <a:pt x="92" y="104"/>
                </a:lnTo>
                <a:lnTo>
                  <a:pt x="99" y="108"/>
                </a:lnTo>
                <a:lnTo>
                  <a:pt x="109" y="112"/>
                </a:lnTo>
                <a:lnTo>
                  <a:pt x="122" y="112"/>
                </a:lnTo>
                <a:lnTo>
                  <a:pt x="132" y="112"/>
                </a:lnTo>
                <a:lnTo>
                  <a:pt x="139" y="108"/>
                </a:lnTo>
                <a:lnTo>
                  <a:pt x="149" y="104"/>
                </a:lnTo>
                <a:lnTo>
                  <a:pt x="155" y="102"/>
                </a:lnTo>
                <a:lnTo>
                  <a:pt x="159" y="98"/>
                </a:lnTo>
                <a:lnTo>
                  <a:pt x="159" y="102"/>
                </a:lnTo>
                <a:lnTo>
                  <a:pt x="162" y="108"/>
                </a:lnTo>
                <a:lnTo>
                  <a:pt x="162" y="114"/>
                </a:lnTo>
                <a:lnTo>
                  <a:pt x="162" y="121"/>
                </a:lnTo>
                <a:lnTo>
                  <a:pt x="162" y="125"/>
                </a:lnTo>
                <a:lnTo>
                  <a:pt x="165" y="131"/>
                </a:lnTo>
                <a:lnTo>
                  <a:pt x="165" y="137"/>
                </a:lnTo>
                <a:lnTo>
                  <a:pt x="169" y="143"/>
                </a:lnTo>
                <a:lnTo>
                  <a:pt x="169" y="147"/>
                </a:lnTo>
                <a:lnTo>
                  <a:pt x="169" y="153"/>
                </a:lnTo>
                <a:lnTo>
                  <a:pt x="172" y="160"/>
                </a:lnTo>
                <a:lnTo>
                  <a:pt x="175" y="164"/>
                </a:lnTo>
                <a:lnTo>
                  <a:pt x="175" y="170"/>
                </a:lnTo>
                <a:lnTo>
                  <a:pt x="175" y="176"/>
                </a:lnTo>
                <a:lnTo>
                  <a:pt x="175" y="180"/>
                </a:lnTo>
                <a:lnTo>
                  <a:pt x="178" y="188"/>
                </a:lnTo>
                <a:lnTo>
                  <a:pt x="178" y="192"/>
                </a:lnTo>
                <a:lnTo>
                  <a:pt x="178" y="196"/>
                </a:lnTo>
                <a:lnTo>
                  <a:pt x="182" y="201"/>
                </a:lnTo>
                <a:lnTo>
                  <a:pt x="182" y="207"/>
                </a:lnTo>
                <a:lnTo>
                  <a:pt x="182" y="211"/>
                </a:lnTo>
                <a:lnTo>
                  <a:pt x="185" y="217"/>
                </a:lnTo>
                <a:lnTo>
                  <a:pt x="185" y="221"/>
                </a:lnTo>
                <a:lnTo>
                  <a:pt x="185" y="227"/>
                </a:lnTo>
                <a:lnTo>
                  <a:pt x="188" y="233"/>
                </a:lnTo>
                <a:lnTo>
                  <a:pt x="188" y="244"/>
                </a:lnTo>
                <a:lnTo>
                  <a:pt x="192" y="252"/>
                </a:lnTo>
                <a:lnTo>
                  <a:pt x="195" y="260"/>
                </a:lnTo>
                <a:lnTo>
                  <a:pt x="195" y="266"/>
                </a:lnTo>
                <a:lnTo>
                  <a:pt x="195" y="274"/>
                </a:lnTo>
                <a:lnTo>
                  <a:pt x="195" y="280"/>
                </a:lnTo>
                <a:lnTo>
                  <a:pt x="198" y="289"/>
                </a:lnTo>
                <a:lnTo>
                  <a:pt x="198" y="293"/>
                </a:lnTo>
                <a:lnTo>
                  <a:pt x="202" y="301"/>
                </a:lnTo>
                <a:lnTo>
                  <a:pt x="202" y="305"/>
                </a:lnTo>
                <a:lnTo>
                  <a:pt x="205" y="309"/>
                </a:lnTo>
                <a:lnTo>
                  <a:pt x="205" y="317"/>
                </a:lnTo>
                <a:lnTo>
                  <a:pt x="208" y="324"/>
                </a:lnTo>
                <a:lnTo>
                  <a:pt x="208" y="326"/>
                </a:lnTo>
                <a:lnTo>
                  <a:pt x="212" y="328"/>
                </a:lnTo>
                <a:lnTo>
                  <a:pt x="59" y="340"/>
                </a:lnTo>
                <a:lnTo>
                  <a:pt x="56" y="338"/>
                </a:lnTo>
                <a:lnTo>
                  <a:pt x="56" y="332"/>
                </a:lnTo>
                <a:lnTo>
                  <a:pt x="56" y="328"/>
                </a:lnTo>
                <a:lnTo>
                  <a:pt x="53" y="324"/>
                </a:lnTo>
                <a:lnTo>
                  <a:pt x="49" y="317"/>
                </a:lnTo>
                <a:lnTo>
                  <a:pt x="49" y="313"/>
                </a:lnTo>
                <a:lnTo>
                  <a:pt x="49" y="305"/>
                </a:lnTo>
                <a:lnTo>
                  <a:pt x="46" y="297"/>
                </a:lnTo>
                <a:lnTo>
                  <a:pt x="46" y="289"/>
                </a:lnTo>
                <a:lnTo>
                  <a:pt x="43" y="280"/>
                </a:lnTo>
                <a:lnTo>
                  <a:pt x="43" y="274"/>
                </a:lnTo>
                <a:lnTo>
                  <a:pt x="39" y="270"/>
                </a:lnTo>
                <a:lnTo>
                  <a:pt x="39" y="266"/>
                </a:lnTo>
                <a:lnTo>
                  <a:pt x="39" y="260"/>
                </a:lnTo>
                <a:lnTo>
                  <a:pt x="39" y="254"/>
                </a:lnTo>
                <a:lnTo>
                  <a:pt x="36" y="250"/>
                </a:lnTo>
                <a:lnTo>
                  <a:pt x="36" y="244"/>
                </a:lnTo>
                <a:lnTo>
                  <a:pt x="36" y="239"/>
                </a:lnTo>
                <a:lnTo>
                  <a:pt x="46" y="242"/>
                </a:lnTo>
                <a:lnTo>
                  <a:pt x="59" y="244"/>
                </a:lnTo>
                <a:lnTo>
                  <a:pt x="66" y="244"/>
                </a:lnTo>
                <a:lnTo>
                  <a:pt x="73" y="244"/>
                </a:lnTo>
                <a:lnTo>
                  <a:pt x="79" y="242"/>
                </a:lnTo>
                <a:lnTo>
                  <a:pt x="89" y="242"/>
                </a:lnTo>
                <a:lnTo>
                  <a:pt x="92" y="235"/>
                </a:lnTo>
                <a:lnTo>
                  <a:pt x="96" y="231"/>
                </a:lnTo>
                <a:lnTo>
                  <a:pt x="99" y="225"/>
                </a:lnTo>
                <a:lnTo>
                  <a:pt x="102" y="219"/>
                </a:lnTo>
                <a:lnTo>
                  <a:pt x="89" y="219"/>
                </a:lnTo>
                <a:lnTo>
                  <a:pt x="82" y="217"/>
                </a:lnTo>
                <a:lnTo>
                  <a:pt x="73" y="215"/>
                </a:lnTo>
                <a:lnTo>
                  <a:pt x="69" y="213"/>
                </a:lnTo>
                <a:lnTo>
                  <a:pt x="63" y="209"/>
                </a:lnTo>
                <a:lnTo>
                  <a:pt x="59" y="205"/>
                </a:lnTo>
                <a:lnTo>
                  <a:pt x="56" y="201"/>
                </a:lnTo>
                <a:lnTo>
                  <a:pt x="56" y="196"/>
                </a:lnTo>
                <a:lnTo>
                  <a:pt x="53" y="190"/>
                </a:lnTo>
                <a:lnTo>
                  <a:pt x="49" y="184"/>
                </a:lnTo>
                <a:lnTo>
                  <a:pt x="46" y="180"/>
                </a:lnTo>
                <a:lnTo>
                  <a:pt x="46" y="176"/>
                </a:lnTo>
                <a:lnTo>
                  <a:pt x="43" y="172"/>
                </a:lnTo>
                <a:lnTo>
                  <a:pt x="39" y="168"/>
                </a:lnTo>
                <a:lnTo>
                  <a:pt x="33" y="164"/>
                </a:lnTo>
                <a:lnTo>
                  <a:pt x="26" y="164"/>
                </a:lnTo>
                <a:lnTo>
                  <a:pt x="23" y="164"/>
                </a:lnTo>
                <a:lnTo>
                  <a:pt x="20" y="164"/>
                </a:lnTo>
                <a:lnTo>
                  <a:pt x="16" y="158"/>
                </a:lnTo>
                <a:lnTo>
                  <a:pt x="16" y="153"/>
                </a:lnTo>
                <a:lnTo>
                  <a:pt x="13" y="147"/>
                </a:lnTo>
                <a:lnTo>
                  <a:pt x="13" y="141"/>
                </a:lnTo>
                <a:lnTo>
                  <a:pt x="10" y="135"/>
                </a:lnTo>
                <a:lnTo>
                  <a:pt x="10" y="129"/>
                </a:lnTo>
                <a:lnTo>
                  <a:pt x="10" y="123"/>
                </a:lnTo>
                <a:lnTo>
                  <a:pt x="10" y="117"/>
                </a:lnTo>
                <a:lnTo>
                  <a:pt x="6" y="110"/>
                </a:lnTo>
                <a:lnTo>
                  <a:pt x="3" y="104"/>
                </a:lnTo>
                <a:lnTo>
                  <a:pt x="3" y="98"/>
                </a:lnTo>
                <a:lnTo>
                  <a:pt x="3" y="92"/>
                </a:lnTo>
                <a:lnTo>
                  <a:pt x="0" y="84"/>
                </a:lnTo>
                <a:lnTo>
                  <a:pt x="0" y="78"/>
                </a:lnTo>
                <a:lnTo>
                  <a:pt x="0" y="71"/>
                </a:lnTo>
                <a:lnTo>
                  <a:pt x="0" y="65"/>
                </a:lnTo>
                <a:lnTo>
                  <a:pt x="6" y="63"/>
                </a:lnTo>
                <a:lnTo>
                  <a:pt x="13" y="59"/>
                </a:lnTo>
                <a:lnTo>
                  <a:pt x="13" y="53"/>
                </a:lnTo>
                <a:lnTo>
                  <a:pt x="13" y="49"/>
                </a:lnTo>
                <a:lnTo>
                  <a:pt x="13" y="45"/>
                </a:lnTo>
                <a:lnTo>
                  <a:pt x="13" y="39"/>
                </a:lnTo>
                <a:lnTo>
                  <a:pt x="13" y="33"/>
                </a:lnTo>
                <a:lnTo>
                  <a:pt x="13" y="28"/>
                </a:lnTo>
                <a:lnTo>
                  <a:pt x="10" y="22"/>
                </a:lnTo>
                <a:lnTo>
                  <a:pt x="10" y="16"/>
                </a:lnTo>
                <a:lnTo>
                  <a:pt x="10" y="10"/>
                </a:lnTo>
                <a:lnTo>
                  <a:pt x="10" y="6"/>
                </a:lnTo>
                <a:lnTo>
                  <a:pt x="10" y="2"/>
                </a:lnTo>
                <a:lnTo>
                  <a:pt x="10" y="0"/>
                </a:lnTo>
                <a:lnTo>
                  <a:pt x="20" y="0"/>
                </a:lnTo>
                <a:lnTo>
                  <a:pt x="29" y="0"/>
                </a:lnTo>
                <a:lnTo>
                  <a:pt x="36" y="0"/>
                </a:lnTo>
                <a:lnTo>
                  <a:pt x="46" y="2"/>
                </a:lnTo>
                <a:lnTo>
                  <a:pt x="56" y="6"/>
                </a:lnTo>
                <a:lnTo>
                  <a:pt x="63" y="8"/>
                </a:lnTo>
                <a:lnTo>
                  <a:pt x="69" y="10"/>
                </a:lnTo>
                <a:lnTo>
                  <a:pt x="76" y="14"/>
                </a:lnTo>
                <a:lnTo>
                  <a:pt x="79" y="18"/>
                </a:lnTo>
                <a:lnTo>
                  <a:pt x="86" y="22"/>
                </a:lnTo>
                <a:lnTo>
                  <a:pt x="89" y="28"/>
                </a:lnTo>
                <a:lnTo>
                  <a:pt x="96" y="33"/>
                </a:lnTo>
                <a:lnTo>
                  <a:pt x="99" y="39"/>
                </a:lnTo>
                <a:lnTo>
                  <a:pt x="102" y="43"/>
                </a:lnTo>
                <a:lnTo>
                  <a:pt x="106" y="49"/>
                </a:lnTo>
                <a:lnTo>
                  <a:pt x="112" y="55"/>
                </a:lnTo>
                <a:lnTo>
                  <a:pt x="126" y="51"/>
                </a:lnTo>
                <a:lnTo>
                  <a:pt x="132" y="49"/>
                </a:lnTo>
                <a:lnTo>
                  <a:pt x="139" y="45"/>
                </a:lnTo>
                <a:lnTo>
                  <a:pt x="145" y="43"/>
                </a:lnTo>
                <a:lnTo>
                  <a:pt x="149" y="49"/>
                </a:lnTo>
                <a:lnTo>
                  <a:pt x="149" y="59"/>
                </a:lnTo>
                <a:lnTo>
                  <a:pt x="152" y="67"/>
                </a:lnTo>
                <a:lnTo>
                  <a:pt x="155" y="76"/>
                </a:lnTo>
                <a:lnTo>
                  <a:pt x="155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62440" y="4751280"/>
            <a:ext cx="263520" cy="220680"/>
          </a:xfrm>
          <a:custGeom>
            <a:avLst/>
            <a:gdLst/>
            <a:ahLst/>
            <a:rect l="l" t="t" r="r" b="b"/>
            <a:pathLst>
              <a:path w="166" h="139">
                <a:moveTo>
                  <a:pt x="152" y="0"/>
                </a:moveTo>
                <a:lnTo>
                  <a:pt x="152" y="2"/>
                </a:lnTo>
                <a:lnTo>
                  <a:pt x="152" y="4"/>
                </a:lnTo>
                <a:lnTo>
                  <a:pt x="152" y="8"/>
                </a:lnTo>
                <a:lnTo>
                  <a:pt x="152" y="18"/>
                </a:lnTo>
                <a:lnTo>
                  <a:pt x="152" y="22"/>
                </a:lnTo>
                <a:lnTo>
                  <a:pt x="156" y="27"/>
                </a:lnTo>
                <a:lnTo>
                  <a:pt x="156" y="33"/>
                </a:lnTo>
                <a:lnTo>
                  <a:pt x="159" y="39"/>
                </a:lnTo>
                <a:lnTo>
                  <a:pt x="159" y="43"/>
                </a:lnTo>
                <a:lnTo>
                  <a:pt x="162" y="51"/>
                </a:lnTo>
                <a:lnTo>
                  <a:pt x="162" y="57"/>
                </a:lnTo>
                <a:lnTo>
                  <a:pt x="166" y="66"/>
                </a:lnTo>
                <a:lnTo>
                  <a:pt x="159" y="63"/>
                </a:lnTo>
                <a:lnTo>
                  <a:pt x="152" y="61"/>
                </a:lnTo>
                <a:lnTo>
                  <a:pt x="146" y="57"/>
                </a:lnTo>
                <a:lnTo>
                  <a:pt x="139" y="55"/>
                </a:lnTo>
                <a:lnTo>
                  <a:pt x="129" y="53"/>
                </a:lnTo>
                <a:lnTo>
                  <a:pt x="123" y="51"/>
                </a:lnTo>
                <a:lnTo>
                  <a:pt x="119" y="51"/>
                </a:lnTo>
                <a:lnTo>
                  <a:pt x="116" y="51"/>
                </a:lnTo>
                <a:lnTo>
                  <a:pt x="106" y="55"/>
                </a:lnTo>
                <a:lnTo>
                  <a:pt x="96" y="59"/>
                </a:lnTo>
                <a:lnTo>
                  <a:pt x="86" y="63"/>
                </a:lnTo>
                <a:lnTo>
                  <a:pt x="80" y="68"/>
                </a:lnTo>
                <a:lnTo>
                  <a:pt x="70" y="74"/>
                </a:lnTo>
                <a:lnTo>
                  <a:pt x="63" y="78"/>
                </a:lnTo>
                <a:lnTo>
                  <a:pt x="56" y="84"/>
                </a:lnTo>
                <a:lnTo>
                  <a:pt x="53" y="90"/>
                </a:lnTo>
                <a:lnTo>
                  <a:pt x="46" y="94"/>
                </a:lnTo>
                <a:lnTo>
                  <a:pt x="40" y="100"/>
                </a:lnTo>
                <a:lnTo>
                  <a:pt x="36" y="107"/>
                </a:lnTo>
                <a:lnTo>
                  <a:pt x="33" y="115"/>
                </a:lnTo>
                <a:lnTo>
                  <a:pt x="30" y="119"/>
                </a:lnTo>
                <a:lnTo>
                  <a:pt x="27" y="127"/>
                </a:lnTo>
                <a:lnTo>
                  <a:pt x="27" y="133"/>
                </a:lnTo>
                <a:lnTo>
                  <a:pt x="27" y="139"/>
                </a:lnTo>
                <a:lnTo>
                  <a:pt x="27" y="133"/>
                </a:lnTo>
                <a:lnTo>
                  <a:pt x="23" y="127"/>
                </a:lnTo>
                <a:lnTo>
                  <a:pt x="23" y="119"/>
                </a:lnTo>
                <a:lnTo>
                  <a:pt x="20" y="113"/>
                </a:lnTo>
                <a:lnTo>
                  <a:pt x="20" y="104"/>
                </a:lnTo>
                <a:lnTo>
                  <a:pt x="20" y="98"/>
                </a:lnTo>
                <a:lnTo>
                  <a:pt x="17" y="92"/>
                </a:lnTo>
                <a:lnTo>
                  <a:pt x="17" y="88"/>
                </a:lnTo>
                <a:lnTo>
                  <a:pt x="13" y="80"/>
                </a:lnTo>
                <a:lnTo>
                  <a:pt x="10" y="76"/>
                </a:lnTo>
                <a:lnTo>
                  <a:pt x="10" y="72"/>
                </a:lnTo>
                <a:lnTo>
                  <a:pt x="10" y="66"/>
                </a:lnTo>
                <a:lnTo>
                  <a:pt x="10" y="61"/>
                </a:lnTo>
                <a:lnTo>
                  <a:pt x="7" y="55"/>
                </a:lnTo>
                <a:lnTo>
                  <a:pt x="7" y="51"/>
                </a:lnTo>
                <a:lnTo>
                  <a:pt x="7" y="47"/>
                </a:lnTo>
                <a:lnTo>
                  <a:pt x="3" y="39"/>
                </a:lnTo>
                <a:lnTo>
                  <a:pt x="3" y="33"/>
                </a:lnTo>
                <a:lnTo>
                  <a:pt x="0" y="25"/>
                </a:lnTo>
                <a:lnTo>
                  <a:pt x="0" y="22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152" y="0"/>
                </a:lnTo>
                <a:lnTo>
                  <a:pt x="1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6032520"/>
            <a:ext cx="279360" cy="58680"/>
          </a:xfrm>
          <a:custGeom>
            <a:avLst/>
            <a:gdLst/>
            <a:ahLst/>
            <a:rect l="l" t="t" r="r" b="b"/>
            <a:pathLst>
              <a:path w="176" h="37">
                <a:moveTo>
                  <a:pt x="0" y="37"/>
                </a:moveTo>
                <a:lnTo>
                  <a:pt x="7" y="33"/>
                </a:lnTo>
                <a:lnTo>
                  <a:pt x="17" y="27"/>
                </a:lnTo>
                <a:lnTo>
                  <a:pt x="23" y="21"/>
                </a:lnTo>
                <a:lnTo>
                  <a:pt x="33" y="15"/>
                </a:lnTo>
                <a:lnTo>
                  <a:pt x="40" y="9"/>
                </a:lnTo>
                <a:lnTo>
                  <a:pt x="46" y="7"/>
                </a:lnTo>
                <a:lnTo>
                  <a:pt x="53" y="5"/>
                </a:lnTo>
                <a:lnTo>
                  <a:pt x="66" y="2"/>
                </a:lnTo>
                <a:lnTo>
                  <a:pt x="76" y="0"/>
                </a:lnTo>
                <a:lnTo>
                  <a:pt x="86" y="0"/>
                </a:lnTo>
                <a:lnTo>
                  <a:pt x="96" y="0"/>
                </a:lnTo>
                <a:lnTo>
                  <a:pt x="106" y="0"/>
                </a:lnTo>
                <a:lnTo>
                  <a:pt x="119" y="0"/>
                </a:lnTo>
                <a:lnTo>
                  <a:pt x="129" y="0"/>
                </a:lnTo>
                <a:lnTo>
                  <a:pt x="139" y="0"/>
                </a:lnTo>
                <a:lnTo>
                  <a:pt x="152" y="2"/>
                </a:lnTo>
                <a:lnTo>
                  <a:pt x="166" y="2"/>
                </a:lnTo>
                <a:lnTo>
                  <a:pt x="176" y="5"/>
                </a:lnTo>
                <a:lnTo>
                  <a:pt x="166" y="7"/>
                </a:lnTo>
                <a:lnTo>
                  <a:pt x="152" y="7"/>
                </a:lnTo>
                <a:lnTo>
                  <a:pt x="139" y="9"/>
                </a:lnTo>
                <a:lnTo>
                  <a:pt x="129" y="13"/>
                </a:lnTo>
                <a:lnTo>
                  <a:pt x="116" y="13"/>
                </a:lnTo>
                <a:lnTo>
                  <a:pt x="106" y="15"/>
                </a:lnTo>
                <a:lnTo>
                  <a:pt x="96" y="17"/>
                </a:lnTo>
                <a:lnTo>
                  <a:pt x="83" y="19"/>
                </a:lnTo>
                <a:lnTo>
                  <a:pt x="73" y="21"/>
                </a:lnTo>
                <a:lnTo>
                  <a:pt x="63" y="23"/>
                </a:lnTo>
                <a:lnTo>
                  <a:pt x="50" y="25"/>
                </a:lnTo>
                <a:lnTo>
                  <a:pt x="40" y="27"/>
                </a:lnTo>
                <a:lnTo>
                  <a:pt x="30" y="29"/>
                </a:lnTo>
                <a:lnTo>
                  <a:pt x="17" y="31"/>
                </a:lnTo>
                <a:lnTo>
                  <a:pt x="7" y="33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49600" y="5086440"/>
            <a:ext cx="199800" cy="152280"/>
          </a:xfrm>
          <a:custGeom>
            <a:avLst/>
            <a:gdLst/>
            <a:ahLst/>
            <a:rect l="l" t="t" r="r" b="b"/>
            <a:pathLst>
              <a:path w="126" h="96">
                <a:moveTo>
                  <a:pt x="3" y="0"/>
                </a:moveTo>
                <a:lnTo>
                  <a:pt x="10" y="6"/>
                </a:lnTo>
                <a:lnTo>
                  <a:pt x="20" y="12"/>
                </a:lnTo>
                <a:lnTo>
                  <a:pt x="26" y="16"/>
                </a:lnTo>
                <a:lnTo>
                  <a:pt x="39" y="23"/>
                </a:lnTo>
                <a:lnTo>
                  <a:pt x="49" y="27"/>
                </a:lnTo>
                <a:lnTo>
                  <a:pt x="63" y="31"/>
                </a:lnTo>
                <a:lnTo>
                  <a:pt x="66" y="33"/>
                </a:lnTo>
                <a:lnTo>
                  <a:pt x="76" y="33"/>
                </a:lnTo>
                <a:lnTo>
                  <a:pt x="83" y="35"/>
                </a:lnTo>
                <a:lnTo>
                  <a:pt x="89" y="37"/>
                </a:lnTo>
                <a:lnTo>
                  <a:pt x="86" y="43"/>
                </a:lnTo>
                <a:lnTo>
                  <a:pt x="89" y="51"/>
                </a:lnTo>
                <a:lnTo>
                  <a:pt x="99" y="57"/>
                </a:lnTo>
                <a:lnTo>
                  <a:pt x="109" y="66"/>
                </a:lnTo>
                <a:lnTo>
                  <a:pt x="119" y="72"/>
                </a:lnTo>
                <a:lnTo>
                  <a:pt x="126" y="78"/>
                </a:lnTo>
                <a:lnTo>
                  <a:pt x="126" y="82"/>
                </a:lnTo>
                <a:lnTo>
                  <a:pt x="126" y="86"/>
                </a:lnTo>
                <a:lnTo>
                  <a:pt x="126" y="90"/>
                </a:lnTo>
                <a:lnTo>
                  <a:pt x="122" y="96"/>
                </a:lnTo>
                <a:lnTo>
                  <a:pt x="112" y="92"/>
                </a:lnTo>
                <a:lnTo>
                  <a:pt x="106" y="90"/>
                </a:lnTo>
                <a:lnTo>
                  <a:pt x="96" y="88"/>
                </a:lnTo>
                <a:lnTo>
                  <a:pt x="92" y="86"/>
                </a:lnTo>
                <a:lnTo>
                  <a:pt x="79" y="78"/>
                </a:lnTo>
                <a:lnTo>
                  <a:pt x="69" y="72"/>
                </a:lnTo>
                <a:lnTo>
                  <a:pt x="59" y="62"/>
                </a:lnTo>
                <a:lnTo>
                  <a:pt x="49" y="53"/>
                </a:lnTo>
                <a:lnTo>
                  <a:pt x="36" y="47"/>
                </a:lnTo>
                <a:lnTo>
                  <a:pt x="26" y="39"/>
                </a:lnTo>
                <a:lnTo>
                  <a:pt x="10" y="41"/>
                </a:lnTo>
                <a:lnTo>
                  <a:pt x="0" y="43"/>
                </a:lnTo>
                <a:lnTo>
                  <a:pt x="0" y="37"/>
                </a:lnTo>
                <a:lnTo>
                  <a:pt x="0" y="33"/>
                </a:lnTo>
                <a:lnTo>
                  <a:pt x="0" y="25"/>
                </a:lnTo>
                <a:lnTo>
                  <a:pt x="0" y="21"/>
                </a:lnTo>
                <a:lnTo>
                  <a:pt x="0" y="16"/>
                </a:lnTo>
                <a:lnTo>
                  <a:pt x="0" y="10"/>
                </a:lnTo>
                <a:lnTo>
                  <a:pt x="0" y="4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54280" y="4859280"/>
            <a:ext cx="231840" cy="255600"/>
          </a:xfrm>
          <a:custGeom>
            <a:avLst/>
            <a:gdLst/>
            <a:ahLst/>
            <a:rect l="l" t="t" r="r" b="b"/>
            <a:pathLst>
              <a:path w="146" h="161">
                <a:moveTo>
                  <a:pt x="0" y="47"/>
                </a:moveTo>
                <a:lnTo>
                  <a:pt x="3" y="49"/>
                </a:lnTo>
                <a:lnTo>
                  <a:pt x="7" y="55"/>
                </a:lnTo>
                <a:lnTo>
                  <a:pt x="13" y="59"/>
                </a:lnTo>
                <a:lnTo>
                  <a:pt x="17" y="63"/>
                </a:lnTo>
                <a:lnTo>
                  <a:pt x="27" y="59"/>
                </a:lnTo>
                <a:lnTo>
                  <a:pt x="33" y="55"/>
                </a:lnTo>
                <a:lnTo>
                  <a:pt x="43" y="53"/>
                </a:lnTo>
                <a:lnTo>
                  <a:pt x="53" y="51"/>
                </a:lnTo>
                <a:lnTo>
                  <a:pt x="60" y="43"/>
                </a:lnTo>
                <a:lnTo>
                  <a:pt x="70" y="36"/>
                </a:lnTo>
                <a:lnTo>
                  <a:pt x="80" y="30"/>
                </a:lnTo>
                <a:lnTo>
                  <a:pt x="93" y="24"/>
                </a:lnTo>
                <a:lnTo>
                  <a:pt x="106" y="18"/>
                </a:lnTo>
                <a:lnTo>
                  <a:pt x="116" y="12"/>
                </a:lnTo>
                <a:lnTo>
                  <a:pt x="133" y="6"/>
                </a:lnTo>
                <a:lnTo>
                  <a:pt x="146" y="0"/>
                </a:lnTo>
                <a:lnTo>
                  <a:pt x="142" y="6"/>
                </a:lnTo>
                <a:lnTo>
                  <a:pt x="142" y="10"/>
                </a:lnTo>
                <a:lnTo>
                  <a:pt x="142" y="14"/>
                </a:lnTo>
                <a:lnTo>
                  <a:pt x="142" y="20"/>
                </a:lnTo>
                <a:lnTo>
                  <a:pt x="142" y="24"/>
                </a:lnTo>
                <a:lnTo>
                  <a:pt x="142" y="30"/>
                </a:lnTo>
                <a:lnTo>
                  <a:pt x="142" y="34"/>
                </a:lnTo>
                <a:lnTo>
                  <a:pt x="142" y="41"/>
                </a:lnTo>
                <a:lnTo>
                  <a:pt x="142" y="45"/>
                </a:lnTo>
                <a:lnTo>
                  <a:pt x="142" y="49"/>
                </a:lnTo>
                <a:lnTo>
                  <a:pt x="142" y="53"/>
                </a:lnTo>
                <a:lnTo>
                  <a:pt x="142" y="59"/>
                </a:lnTo>
                <a:lnTo>
                  <a:pt x="142" y="63"/>
                </a:lnTo>
                <a:lnTo>
                  <a:pt x="142" y="69"/>
                </a:lnTo>
                <a:lnTo>
                  <a:pt x="142" y="73"/>
                </a:lnTo>
                <a:lnTo>
                  <a:pt x="142" y="79"/>
                </a:lnTo>
                <a:lnTo>
                  <a:pt x="139" y="84"/>
                </a:lnTo>
                <a:lnTo>
                  <a:pt x="139" y="90"/>
                </a:lnTo>
                <a:lnTo>
                  <a:pt x="139" y="94"/>
                </a:lnTo>
                <a:lnTo>
                  <a:pt x="139" y="100"/>
                </a:lnTo>
                <a:lnTo>
                  <a:pt x="139" y="104"/>
                </a:lnTo>
                <a:lnTo>
                  <a:pt x="139" y="108"/>
                </a:lnTo>
                <a:lnTo>
                  <a:pt x="139" y="114"/>
                </a:lnTo>
                <a:lnTo>
                  <a:pt x="139" y="120"/>
                </a:lnTo>
                <a:lnTo>
                  <a:pt x="139" y="125"/>
                </a:lnTo>
                <a:lnTo>
                  <a:pt x="139" y="129"/>
                </a:lnTo>
                <a:lnTo>
                  <a:pt x="139" y="135"/>
                </a:lnTo>
                <a:lnTo>
                  <a:pt x="139" y="141"/>
                </a:lnTo>
                <a:lnTo>
                  <a:pt x="139" y="145"/>
                </a:lnTo>
                <a:lnTo>
                  <a:pt x="139" y="151"/>
                </a:lnTo>
                <a:lnTo>
                  <a:pt x="139" y="155"/>
                </a:lnTo>
                <a:lnTo>
                  <a:pt x="139" y="161"/>
                </a:lnTo>
                <a:lnTo>
                  <a:pt x="126" y="153"/>
                </a:lnTo>
                <a:lnTo>
                  <a:pt x="116" y="147"/>
                </a:lnTo>
                <a:lnTo>
                  <a:pt x="113" y="143"/>
                </a:lnTo>
                <a:lnTo>
                  <a:pt x="106" y="141"/>
                </a:lnTo>
                <a:lnTo>
                  <a:pt x="96" y="139"/>
                </a:lnTo>
                <a:lnTo>
                  <a:pt x="89" y="137"/>
                </a:lnTo>
                <a:lnTo>
                  <a:pt x="80" y="137"/>
                </a:lnTo>
                <a:lnTo>
                  <a:pt x="70" y="137"/>
                </a:lnTo>
                <a:lnTo>
                  <a:pt x="60" y="133"/>
                </a:lnTo>
                <a:lnTo>
                  <a:pt x="56" y="131"/>
                </a:lnTo>
                <a:lnTo>
                  <a:pt x="50" y="127"/>
                </a:lnTo>
                <a:lnTo>
                  <a:pt x="46" y="123"/>
                </a:lnTo>
                <a:lnTo>
                  <a:pt x="43" y="118"/>
                </a:lnTo>
                <a:lnTo>
                  <a:pt x="43" y="114"/>
                </a:lnTo>
                <a:lnTo>
                  <a:pt x="36" y="108"/>
                </a:lnTo>
                <a:lnTo>
                  <a:pt x="33" y="102"/>
                </a:lnTo>
                <a:lnTo>
                  <a:pt x="30" y="98"/>
                </a:lnTo>
                <a:lnTo>
                  <a:pt x="27" y="92"/>
                </a:lnTo>
                <a:lnTo>
                  <a:pt x="23" y="88"/>
                </a:lnTo>
                <a:lnTo>
                  <a:pt x="17" y="86"/>
                </a:lnTo>
                <a:lnTo>
                  <a:pt x="7" y="84"/>
                </a:lnTo>
                <a:lnTo>
                  <a:pt x="0" y="82"/>
                </a:lnTo>
                <a:lnTo>
                  <a:pt x="0" y="77"/>
                </a:lnTo>
                <a:lnTo>
                  <a:pt x="0" y="71"/>
                </a:lnTo>
                <a:lnTo>
                  <a:pt x="0" y="67"/>
                </a:lnTo>
                <a:lnTo>
                  <a:pt x="0" y="63"/>
                </a:lnTo>
                <a:lnTo>
                  <a:pt x="0" y="53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29080" y="5232240"/>
            <a:ext cx="466560" cy="947880"/>
          </a:xfrm>
          <a:custGeom>
            <a:avLst/>
            <a:gdLst/>
            <a:ahLst/>
            <a:rect l="l" t="t" r="r" b="b"/>
            <a:pathLst>
              <a:path w="294" h="597">
                <a:moveTo>
                  <a:pt x="79" y="113"/>
                </a:moveTo>
                <a:lnTo>
                  <a:pt x="69" y="109"/>
                </a:lnTo>
                <a:lnTo>
                  <a:pt x="62" y="105"/>
                </a:lnTo>
                <a:lnTo>
                  <a:pt x="59" y="99"/>
                </a:lnTo>
                <a:lnTo>
                  <a:pt x="59" y="95"/>
                </a:lnTo>
                <a:lnTo>
                  <a:pt x="62" y="90"/>
                </a:lnTo>
                <a:lnTo>
                  <a:pt x="66" y="84"/>
                </a:lnTo>
                <a:lnTo>
                  <a:pt x="69" y="78"/>
                </a:lnTo>
                <a:lnTo>
                  <a:pt x="76" y="74"/>
                </a:lnTo>
                <a:lnTo>
                  <a:pt x="79" y="68"/>
                </a:lnTo>
                <a:lnTo>
                  <a:pt x="86" y="62"/>
                </a:lnTo>
                <a:lnTo>
                  <a:pt x="89" y="58"/>
                </a:lnTo>
                <a:lnTo>
                  <a:pt x="92" y="54"/>
                </a:lnTo>
                <a:lnTo>
                  <a:pt x="89" y="49"/>
                </a:lnTo>
                <a:lnTo>
                  <a:pt x="82" y="45"/>
                </a:lnTo>
                <a:lnTo>
                  <a:pt x="76" y="41"/>
                </a:lnTo>
                <a:lnTo>
                  <a:pt x="66" y="39"/>
                </a:lnTo>
                <a:lnTo>
                  <a:pt x="59" y="39"/>
                </a:lnTo>
                <a:lnTo>
                  <a:pt x="49" y="41"/>
                </a:lnTo>
                <a:lnTo>
                  <a:pt x="43" y="43"/>
                </a:lnTo>
                <a:lnTo>
                  <a:pt x="33" y="45"/>
                </a:lnTo>
                <a:lnTo>
                  <a:pt x="26" y="45"/>
                </a:lnTo>
                <a:lnTo>
                  <a:pt x="19" y="49"/>
                </a:lnTo>
                <a:lnTo>
                  <a:pt x="13" y="49"/>
                </a:lnTo>
                <a:lnTo>
                  <a:pt x="9" y="54"/>
                </a:lnTo>
                <a:lnTo>
                  <a:pt x="9" y="45"/>
                </a:lnTo>
                <a:lnTo>
                  <a:pt x="9" y="39"/>
                </a:lnTo>
                <a:lnTo>
                  <a:pt x="9" y="33"/>
                </a:lnTo>
                <a:lnTo>
                  <a:pt x="9" y="25"/>
                </a:lnTo>
                <a:lnTo>
                  <a:pt x="16" y="31"/>
                </a:lnTo>
                <a:lnTo>
                  <a:pt x="23" y="35"/>
                </a:lnTo>
                <a:lnTo>
                  <a:pt x="26" y="31"/>
                </a:lnTo>
                <a:lnTo>
                  <a:pt x="29" y="27"/>
                </a:lnTo>
                <a:lnTo>
                  <a:pt x="33" y="23"/>
                </a:lnTo>
                <a:lnTo>
                  <a:pt x="39" y="17"/>
                </a:lnTo>
                <a:lnTo>
                  <a:pt x="43" y="13"/>
                </a:lnTo>
                <a:lnTo>
                  <a:pt x="46" y="6"/>
                </a:lnTo>
                <a:lnTo>
                  <a:pt x="49" y="2"/>
                </a:lnTo>
                <a:lnTo>
                  <a:pt x="49" y="0"/>
                </a:lnTo>
                <a:lnTo>
                  <a:pt x="59" y="6"/>
                </a:lnTo>
                <a:lnTo>
                  <a:pt x="69" y="15"/>
                </a:lnTo>
                <a:lnTo>
                  <a:pt x="79" y="21"/>
                </a:lnTo>
                <a:lnTo>
                  <a:pt x="92" y="27"/>
                </a:lnTo>
                <a:lnTo>
                  <a:pt x="99" y="29"/>
                </a:lnTo>
                <a:lnTo>
                  <a:pt x="105" y="31"/>
                </a:lnTo>
                <a:lnTo>
                  <a:pt x="112" y="33"/>
                </a:lnTo>
                <a:lnTo>
                  <a:pt x="122" y="35"/>
                </a:lnTo>
                <a:lnTo>
                  <a:pt x="129" y="35"/>
                </a:lnTo>
                <a:lnTo>
                  <a:pt x="135" y="37"/>
                </a:lnTo>
                <a:lnTo>
                  <a:pt x="142" y="37"/>
                </a:lnTo>
                <a:lnTo>
                  <a:pt x="152" y="37"/>
                </a:lnTo>
                <a:lnTo>
                  <a:pt x="152" y="47"/>
                </a:lnTo>
                <a:lnTo>
                  <a:pt x="152" y="58"/>
                </a:lnTo>
                <a:lnTo>
                  <a:pt x="152" y="68"/>
                </a:lnTo>
                <a:lnTo>
                  <a:pt x="152" y="76"/>
                </a:lnTo>
                <a:lnTo>
                  <a:pt x="152" y="86"/>
                </a:lnTo>
                <a:lnTo>
                  <a:pt x="152" y="97"/>
                </a:lnTo>
                <a:lnTo>
                  <a:pt x="152" y="107"/>
                </a:lnTo>
                <a:lnTo>
                  <a:pt x="152" y="117"/>
                </a:lnTo>
                <a:lnTo>
                  <a:pt x="149" y="127"/>
                </a:lnTo>
                <a:lnTo>
                  <a:pt x="149" y="136"/>
                </a:lnTo>
                <a:lnTo>
                  <a:pt x="149" y="146"/>
                </a:lnTo>
                <a:lnTo>
                  <a:pt x="149" y="156"/>
                </a:lnTo>
                <a:lnTo>
                  <a:pt x="149" y="166"/>
                </a:lnTo>
                <a:lnTo>
                  <a:pt x="149" y="174"/>
                </a:lnTo>
                <a:lnTo>
                  <a:pt x="149" y="185"/>
                </a:lnTo>
                <a:lnTo>
                  <a:pt x="149" y="195"/>
                </a:lnTo>
                <a:lnTo>
                  <a:pt x="145" y="203"/>
                </a:lnTo>
                <a:lnTo>
                  <a:pt x="145" y="211"/>
                </a:lnTo>
                <a:lnTo>
                  <a:pt x="145" y="222"/>
                </a:lnTo>
                <a:lnTo>
                  <a:pt x="145" y="230"/>
                </a:lnTo>
                <a:lnTo>
                  <a:pt x="142" y="240"/>
                </a:lnTo>
                <a:lnTo>
                  <a:pt x="142" y="248"/>
                </a:lnTo>
                <a:lnTo>
                  <a:pt x="142" y="256"/>
                </a:lnTo>
                <a:lnTo>
                  <a:pt x="142" y="265"/>
                </a:lnTo>
                <a:lnTo>
                  <a:pt x="142" y="273"/>
                </a:lnTo>
                <a:lnTo>
                  <a:pt x="142" y="281"/>
                </a:lnTo>
                <a:lnTo>
                  <a:pt x="142" y="287"/>
                </a:lnTo>
                <a:lnTo>
                  <a:pt x="142" y="297"/>
                </a:lnTo>
                <a:lnTo>
                  <a:pt x="142" y="304"/>
                </a:lnTo>
                <a:lnTo>
                  <a:pt x="142" y="312"/>
                </a:lnTo>
                <a:lnTo>
                  <a:pt x="142" y="320"/>
                </a:lnTo>
                <a:lnTo>
                  <a:pt x="142" y="328"/>
                </a:lnTo>
                <a:lnTo>
                  <a:pt x="142" y="334"/>
                </a:lnTo>
                <a:lnTo>
                  <a:pt x="142" y="340"/>
                </a:lnTo>
                <a:lnTo>
                  <a:pt x="142" y="349"/>
                </a:lnTo>
                <a:lnTo>
                  <a:pt x="142" y="355"/>
                </a:lnTo>
                <a:lnTo>
                  <a:pt x="142" y="361"/>
                </a:lnTo>
                <a:lnTo>
                  <a:pt x="142" y="367"/>
                </a:lnTo>
                <a:lnTo>
                  <a:pt x="142" y="373"/>
                </a:lnTo>
                <a:lnTo>
                  <a:pt x="142" y="379"/>
                </a:lnTo>
                <a:lnTo>
                  <a:pt x="139" y="386"/>
                </a:lnTo>
                <a:lnTo>
                  <a:pt x="139" y="392"/>
                </a:lnTo>
                <a:lnTo>
                  <a:pt x="139" y="396"/>
                </a:lnTo>
                <a:lnTo>
                  <a:pt x="139" y="400"/>
                </a:lnTo>
                <a:lnTo>
                  <a:pt x="139" y="406"/>
                </a:lnTo>
                <a:lnTo>
                  <a:pt x="139" y="410"/>
                </a:lnTo>
                <a:lnTo>
                  <a:pt x="139" y="414"/>
                </a:lnTo>
                <a:lnTo>
                  <a:pt x="139" y="420"/>
                </a:lnTo>
                <a:lnTo>
                  <a:pt x="139" y="427"/>
                </a:lnTo>
                <a:lnTo>
                  <a:pt x="139" y="435"/>
                </a:lnTo>
                <a:lnTo>
                  <a:pt x="139" y="439"/>
                </a:lnTo>
                <a:lnTo>
                  <a:pt x="139" y="445"/>
                </a:lnTo>
                <a:lnTo>
                  <a:pt x="139" y="449"/>
                </a:lnTo>
                <a:lnTo>
                  <a:pt x="139" y="453"/>
                </a:lnTo>
                <a:lnTo>
                  <a:pt x="139" y="453"/>
                </a:lnTo>
                <a:lnTo>
                  <a:pt x="139" y="455"/>
                </a:lnTo>
                <a:lnTo>
                  <a:pt x="149" y="453"/>
                </a:lnTo>
                <a:lnTo>
                  <a:pt x="155" y="451"/>
                </a:lnTo>
                <a:lnTo>
                  <a:pt x="165" y="449"/>
                </a:lnTo>
                <a:lnTo>
                  <a:pt x="172" y="447"/>
                </a:lnTo>
                <a:lnTo>
                  <a:pt x="182" y="445"/>
                </a:lnTo>
                <a:lnTo>
                  <a:pt x="192" y="443"/>
                </a:lnTo>
                <a:lnTo>
                  <a:pt x="202" y="441"/>
                </a:lnTo>
                <a:lnTo>
                  <a:pt x="211" y="439"/>
                </a:lnTo>
                <a:lnTo>
                  <a:pt x="221" y="437"/>
                </a:lnTo>
                <a:lnTo>
                  <a:pt x="231" y="435"/>
                </a:lnTo>
                <a:lnTo>
                  <a:pt x="241" y="433"/>
                </a:lnTo>
                <a:lnTo>
                  <a:pt x="251" y="431"/>
                </a:lnTo>
                <a:lnTo>
                  <a:pt x="261" y="429"/>
                </a:lnTo>
                <a:lnTo>
                  <a:pt x="274" y="427"/>
                </a:lnTo>
                <a:lnTo>
                  <a:pt x="284" y="424"/>
                </a:lnTo>
                <a:lnTo>
                  <a:pt x="294" y="424"/>
                </a:lnTo>
                <a:lnTo>
                  <a:pt x="294" y="431"/>
                </a:lnTo>
                <a:lnTo>
                  <a:pt x="294" y="437"/>
                </a:lnTo>
                <a:lnTo>
                  <a:pt x="294" y="445"/>
                </a:lnTo>
                <a:lnTo>
                  <a:pt x="291" y="451"/>
                </a:lnTo>
                <a:lnTo>
                  <a:pt x="284" y="457"/>
                </a:lnTo>
                <a:lnTo>
                  <a:pt x="281" y="465"/>
                </a:lnTo>
                <a:lnTo>
                  <a:pt x="274" y="472"/>
                </a:lnTo>
                <a:lnTo>
                  <a:pt x="268" y="480"/>
                </a:lnTo>
                <a:lnTo>
                  <a:pt x="261" y="484"/>
                </a:lnTo>
                <a:lnTo>
                  <a:pt x="255" y="490"/>
                </a:lnTo>
                <a:lnTo>
                  <a:pt x="245" y="498"/>
                </a:lnTo>
                <a:lnTo>
                  <a:pt x="241" y="504"/>
                </a:lnTo>
                <a:lnTo>
                  <a:pt x="235" y="511"/>
                </a:lnTo>
                <a:lnTo>
                  <a:pt x="228" y="517"/>
                </a:lnTo>
                <a:lnTo>
                  <a:pt x="225" y="525"/>
                </a:lnTo>
                <a:lnTo>
                  <a:pt x="225" y="531"/>
                </a:lnTo>
                <a:lnTo>
                  <a:pt x="235" y="537"/>
                </a:lnTo>
                <a:lnTo>
                  <a:pt x="248" y="543"/>
                </a:lnTo>
                <a:lnTo>
                  <a:pt x="241" y="545"/>
                </a:lnTo>
                <a:lnTo>
                  <a:pt x="231" y="547"/>
                </a:lnTo>
                <a:lnTo>
                  <a:pt x="225" y="547"/>
                </a:lnTo>
                <a:lnTo>
                  <a:pt x="218" y="550"/>
                </a:lnTo>
                <a:lnTo>
                  <a:pt x="202" y="552"/>
                </a:lnTo>
                <a:lnTo>
                  <a:pt x="188" y="556"/>
                </a:lnTo>
                <a:lnTo>
                  <a:pt x="182" y="558"/>
                </a:lnTo>
                <a:lnTo>
                  <a:pt x="172" y="558"/>
                </a:lnTo>
                <a:lnTo>
                  <a:pt x="165" y="560"/>
                </a:lnTo>
                <a:lnTo>
                  <a:pt x="162" y="562"/>
                </a:lnTo>
                <a:lnTo>
                  <a:pt x="149" y="564"/>
                </a:lnTo>
                <a:lnTo>
                  <a:pt x="135" y="566"/>
                </a:lnTo>
                <a:lnTo>
                  <a:pt x="135" y="560"/>
                </a:lnTo>
                <a:lnTo>
                  <a:pt x="135" y="554"/>
                </a:lnTo>
                <a:lnTo>
                  <a:pt x="129" y="547"/>
                </a:lnTo>
                <a:lnTo>
                  <a:pt x="122" y="541"/>
                </a:lnTo>
                <a:lnTo>
                  <a:pt x="115" y="535"/>
                </a:lnTo>
                <a:lnTo>
                  <a:pt x="109" y="527"/>
                </a:lnTo>
                <a:lnTo>
                  <a:pt x="102" y="521"/>
                </a:lnTo>
                <a:lnTo>
                  <a:pt x="99" y="513"/>
                </a:lnTo>
                <a:lnTo>
                  <a:pt x="92" y="506"/>
                </a:lnTo>
                <a:lnTo>
                  <a:pt x="86" y="500"/>
                </a:lnTo>
                <a:lnTo>
                  <a:pt x="79" y="494"/>
                </a:lnTo>
                <a:lnTo>
                  <a:pt x="72" y="488"/>
                </a:lnTo>
                <a:lnTo>
                  <a:pt x="66" y="482"/>
                </a:lnTo>
                <a:lnTo>
                  <a:pt x="62" y="476"/>
                </a:lnTo>
                <a:lnTo>
                  <a:pt x="52" y="470"/>
                </a:lnTo>
                <a:lnTo>
                  <a:pt x="49" y="465"/>
                </a:lnTo>
                <a:lnTo>
                  <a:pt x="43" y="461"/>
                </a:lnTo>
                <a:lnTo>
                  <a:pt x="39" y="457"/>
                </a:lnTo>
                <a:lnTo>
                  <a:pt x="26" y="463"/>
                </a:lnTo>
                <a:lnTo>
                  <a:pt x="16" y="468"/>
                </a:lnTo>
                <a:lnTo>
                  <a:pt x="13" y="472"/>
                </a:lnTo>
                <a:lnTo>
                  <a:pt x="9" y="474"/>
                </a:lnTo>
                <a:lnTo>
                  <a:pt x="6" y="478"/>
                </a:lnTo>
                <a:lnTo>
                  <a:pt x="6" y="484"/>
                </a:lnTo>
                <a:lnTo>
                  <a:pt x="6" y="486"/>
                </a:lnTo>
                <a:lnTo>
                  <a:pt x="6" y="490"/>
                </a:lnTo>
                <a:lnTo>
                  <a:pt x="9" y="496"/>
                </a:lnTo>
                <a:lnTo>
                  <a:pt x="13" y="504"/>
                </a:lnTo>
                <a:lnTo>
                  <a:pt x="19" y="506"/>
                </a:lnTo>
                <a:lnTo>
                  <a:pt x="29" y="511"/>
                </a:lnTo>
                <a:lnTo>
                  <a:pt x="36" y="513"/>
                </a:lnTo>
                <a:lnTo>
                  <a:pt x="43" y="519"/>
                </a:lnTo>
                <a:lnTo>
                  <a:pt x="46" y="523"/>
                </a:lnTo>
                <a:lnTo>
                  <a:pt x="49" y="527"/>
                </a:lnTo>
                <a:lnTo>
                  <a:pt x="52" y="531"/>
                </a:lnTo>
                <a:lnTo>
                  <a:pt x="59" y="537"/>
                </a:lnTo>
                <a:lnTo>
                  <a:pt x="62" y="541"/>
                </a:lnTo>
                <a:lnTo>
                  <a:pt x="66" y="547"/>
                </a:lnTo>
                <a:lnTo>
                  <a:pt x="69" y="552"/>
                </a:lnTo>
                <a:lnTo>
                  <a:pt x="72" y="558"/>
                </a:lnTo>
                <a:lnTo>
                  <a:pt x="76" y="562"/>
                </a:lnTo>
                <a:lnTo>
                  <a:pt x="79" y="566"/>
                </a:lnTo>
                <a:lnTo>
                  <a:pt x="82" y="572"/>
                </a:lnTo>
                <a:lnTo>
                  <a:pt x="86" y="578"/>
                </a:lnTo>
                <a:lnTo>
                  <a:pt x="76" y="580"/>
                </a:lnTo>
                <a:lnTo>
                  <a:pt x="62" y="582"/>
                </a:lnTo>
                <a:lnTo>
                  <a:pt x="49" y="584"/>
                </a:lnTo>
                <a:lnTo>
                  <a:pt x="43" y="586"/>
                </a:lnTo>
                <a:lnTo>
                  <a:pt x="29" y="588"/>
                </a:lnTo>
                <a:lnTo>
                  <a:pt x="19" y="593"/>
                </a:lnTo>
                <a:lnTo>
                  <a:pt x="13" y="595"/>
                </a:lnTo>
                <a:lnTo>
                  <a:pt x="3" y="597"/>
                </a:lnTo>
                <a:lnTo>
                  <a:pt x="3" y="593"/>
                </a:lnTo>
                <a:lnTo>
                  <a:pt x="3" y="586"/>
                </a:lnTo>
                <a:lnTo>
                  <a:pt x="3" y="582"/>
                </a:lnTo>
                <a:lnTo>
                  <a:pt x="3" y="578"/>
                </a:lnTo>
                <a:lnTo>
                  <a:pt x="0" y="574"/>
                </a:lnTo>
                <a:lnTo>
                  <a:pt x="0" y="568"/>
                </a:lnTo>
                <a:lnTo>
                  <a:pt x="0" y="564"/>
                </a:lnTo>
                <a:lnTo>
                  <a:pt x="0" y="560"/>
                </a:lnTo>
                <a:lnTo>
                  <a:pt x="0" y="554"/>
                </a:lnTo>
                <a:lnTo>
                  <a:pt x="0" y="550"/>
                </a:lnTo>
                <a:lnTo>
                  <a:pt x="0" y="543"/>
                </a:lnTo>
                <a:lnTo>
                  <a:pt x="0" y="541"/>
                </a:lnTo>
                <a:lnTo>
                  <a:pt x="0" y="535"/>
                </a:lnTo>
                <a:lnTo>
                  <a:pt x="0" y="531"/>
                </a:lnTo>
                <a:lnTo>
                  <a:pt x="0" y="527"/>
                </a:lnTo>
                <a:lnTo>
                  <a:pt x="0" y="523"/>
                </a:lnTo>
                <a:lnTo>
                  <a:pt x="0" y="517"/>
                </a:lnTo>
                <a:lnTo>
                  <a:pt x="0" y="513"/>
                </a:lnTo>
                <a:lnTo>
                  <a:pt x="0" y="506"/>
                </a:lnTo>
                <a:lnTo>
                  <a:pt x="0" y="504"/>
                </a:lnTo>
                <a:lnTo>
                  <a:pt x="0" y="498"/>
                </a:lnTo>
                <a:lnTo>
                  <a:pt x="0" y="494"/>
                </a:lnTo>
                <a:lnTo>
                  <a:pt x="0" y="490"/>
                </a:lnTo>
                <a:lnTo>
                  <a:pt x="0" y="486"/>
                </a:lnTo>
                <a:lnTo>
                  <a:pt x="0" y="482"/>
                </a:lnTo>
                <a:lnTo>
                  <a:pt x="0" y="476"/>
                </a:lnTo>
                <a:lnTo>
                  <a:pt x="0" y="470"/>
                </a:lnTo>
                <a:lnTo>
                  <a:pt x="0" y="468"/>
                </a:lnTo>
                <a:lnTo>
                  <a:pt x="0" y="461"/>
                </a:lnTo>
                <a:lnTo>
                  <a:pt x="0" y="457"/>
                </a:lnTo>
                <a:lnTo>
                  <a:pt x="0" y="453"/>
                </a:lnTo>
                <a:lnTo>
                  <a:pt x="0" y="449"/>
                </a:lnTo>
                <a:lnTo>
                  <a:pt x="6" y="447"/>
                </a:lnTo>
                <a:lnTo>
                  <a:pt x="13" y="445"/>
                </a:lnTo>
                <a:lnTo>
                  <a:pt x="19" y="443"/>
                </a:lnTo>
                <a:lnTo>
                  <a:pt x="29" y="441"/>
                </a:lnTo>
                <a:lnTo>
                  <a:pt x="36" y="437"/>
                </a:lnTo>
                <a:lnTo>
                  <a:pt x="43" y="437"/>
                </a:lnTo>
                <a:lnTo>
                  <a:pt x="49" y="435"/>
                </a:lnTo>
                <a:lnTo>
                  <a:pt x="59" y="433"/>
                </a:lnTo>
                <a:lnTo>
                  <a:pt x="66" y="431"/>
                </a:lnTo>
                <a:lnTo>
                  <a:pt x="76" y="431"/>
                </a:lnTo>
                <a:lnTo>
                  <a:pt x="82" y="431"/>
                </a:lnTo>
                <a:lnTo>
                  <a:pt x="92" y="431"/>
                </a:lnTo>
                <a:lnTo>
                  <a:pt x="99" y="431"/>
                </a:lnTo>
                <a:lnTo>
                  <a:pt x="105" y="431"/>
                </a:lnTo>
                <a:lnTo>
                  <a:pt x="112" y="435"/>
                </a:lnTo>
                <a:lnTo>
                  <a:pt x="122" y="437"/>
                </a:lnTo>
                <a:lnTo>
                  <a:pt x="129" y="431"/>
                </a:lnTo>
                <a:lnTo>
                  <a:pt x="132" y="427"/>
                </a:lnTo>
                <a:lnTo>
                  <a:pt x="132" y="420"/>
                </a:lnTo>
                <a:lnTo>
                  <a:pt x="132" y="416"/>
                </a:lnTo>
                <a:lnTo>
                  <a:pt x="132" y="410"/>
                </a:lnTo>
                <a:lnTo>
                  <a:pt x="132" y="406"/>
                </a:lnTo>
                <a:lnTo>
                  <a:pt x="129" y="400"/>
                </a:lnTo>
                <a:lnTo>
                  <a:pt x="125" y="396"/>
                </a:lnTo>
                <a:lnTo>
                  <a:pt x="122" y="390"/>
                </a:lnTo>
                <a:lnTo>
                  <a:pt x="119" y="386"/>
                </a:lnTo>
                <a:lnTo>
                  <a:pt x="112" y="379"/>
                </a:lnTo>
                <a:lnTo>
                  <a:pt x="109" y="375"/>
                </a:lnTo>
                <a:lnTo>
                  <a:pt x="105" y="369"/>
                </a:lnTo>
                <a:lnTo>
                  <a:pt x="102" y="365"/>
                </a:lnTo>
                <a:lnTo>
                  <a:pt x="99" y="359"/>
                </a:lnTo>
                <a:lnTo>
                  <a:pt x="99" y="355"/>
                </a:lnTo>
                <a:lnTo>
                  <a:pt x="92" y="355"/>
                </a:lnTo>
                <a:lnTo>
                  <a:pt x="82" y="357"/>
                </a:lnTo>
                <a:lnTo>
                  <a:pt x="72" y="357"/>
                </a:lnTo>
                <a:lnTo>
                  <a:pt x="66" y="359"/>
                </a:lnTo>
                <a:lnTo>
                  <a:pt x="66" y="363"/>
                </a:lnTo>
                <a:lnTo>
                  <a:pt x="62" y="369"/>
                </a:lnTo>
                <a:lnTo>
                  <a:pt x="59" y="375"/>
                </a:lnTo>
                <a:lnTo>
                  <a:pt x="59" y="383"/>
                </a:lnTo>
                <a:lnTo>
                  <a:pt x="52" y="390"/>
                </a:lnTo>
                <a:lnTo>
                  <a:pt x="52" y="398"/>
                </a:lnTo>
                <a:lnTo>
                  <a:pt x="49" y="402"/>
                </a:lnTo>
                <a:lnTo>
                  <a:pt x="49" y="406"/>
                </a:lnTo>
                <a:lnTo>
                  <a:pt x="39" y="398"/>
                </a:lnTo>
                <a:lnTo>
                  <a:pt x="29" y="392"/>
                </a:lnTo>
                <a:lnTo>
                  <a:pt x="23" y="386"/>
                </a:lnTo>
                <a:lnTo>
                  <a:pt x="19" y="381"/>
                </a:lnTo>
                <a:lnTo>
                  <a:pt x="16" y="375"/>
                </a:lnTo>
                <a:lnTo>
                  <a:pt x="16" y="371"/>
                </a:lnTo>
                <a:lnTo>
                  <a:pt x="16" y="361"/>
                </a:lnTo>
                <a:lnTo>
                  <a:pt x="19" y="355"/>
                </a:lnTo>
                <a:lnTo>
                  <a:pt x="26" y="349"/>
                </a:lnTo>
                <a:lnTo>
                  <a:pt x="33" y="343"/>
                </a:lnTo>
                <a:lnTo>
                  <a:pt x="43" y="338"/>
                </a:lnTo>
                <a:lnTo>
                  <a:pt x="52" y="334"/>
                </a:lnTo>
                <a:lnTo>
                  <a:pt x="66" y="328"/>
                </a:lnTo>
                <a:lnTo>
                  <a:pt x="76" y="324"/>
                </a:lnTo>
                <a:lnTo>
                  <a:pt x="89" y="318"/>
                </a:lnTo>
                <a:lnTo>
                  <a:pt x="102" y="314"/>
                </a:lnTo>
                <a:lnTo>
                  <a:pt x="112" y="308"/>
                </a:lnTo>
                <a:lnTo>
                  <a:pt x="125" y="304"/>
                </a:lnTo>
                <a:lnTo>
                  <a:pt x="135" y="297"/>
                </a:lnTo>
                <a:lnTo>
                  <a:pt x="139" y="289"/>
                </a:lnTo>
                <a:lnTo>
                  <a:pt x="139" y="285"/>
                </a:lnTo>
                <a:lnTo>
                  <a:pt x="132" y="279"/>
                </a:lnTo>
                <a:lnTo>
                  <a:pt x="129" y="275"/>
                </a:lnTo>
                <a:lnTo>
                  <a:pt x="122" y="273"/>
                </a:lnTo>
                <a:lnTo>
                  <a:pt x="112" y="275"/>
                </a:lnTo>
                <a:lnTo>
                  <a:pt x="105" y="279"/>
                </a:lnTo>
                <a:lnTo>
                  <a:pt x="96" y="281"/>
                </a:lnTo>
                <a:lnTo>
                  <a:pt x="92" y="281"/>
                </a:lnTo>
                <a:lnTo>
                  <a:pt x="79" y="279"/>
                </a:lnTo>
                <a:lnTo>
                  <a:pt x="69" y="275"/>
                </a:lnTo>
                <a:lnTo>
                  <a:pt x="59" y="267"/>
                </a:lnTo>
                <a:lnTo>
                  <a:pt x="49" y="261"/>
                </a:lnTo>
                <a:lnTo>
                  <a:pt x="39" y="252"/>
                </a:lnTo>
                <a:lnTo>
                  <a:pt x="33" y="248"/>
                </a:lnTo>
                <a:lnTo>
                  <a:pt x="26" y="252"/>
                </a:lnTo>
                <a:lnTo>
                  <a:pt x="19" y="258"/>
                </a:lnTo>
                <a:lnTo>
                  <a:pt x="16" y="265"/>
                </a:lnTo>
                <a:lnTo>
                  <a:pt x="13" y="273"/>
                </a:lnTo>
                <a:lnTo>
                  <a:pt x="19" y="279"/>
                </a:lnTo>
                <a:lnTo>
                  <a:pt x="26" y="285"/>
                </a:lnTo>
                <a:lnTo>
                  <a:pt x="26" y="291"/>
                </a:lnTo>
                <a:lnTo>
                  <a:pt x="26" y="297"/>
                </a:lnTo>
                <a:lnTo>
                  <a:pt x="19" y="304"/>
                </a:lnTo>
                <a:lnTo>
                  <a:pt x="13" y="308"/>
                </a:lnTo>
                <a:lnTo>
                  <a:pt x="6" y="314"/>
                </a:lnTo>
                <a:lnTo>
                  <a:pt x="0" y="320"/>
                </a:lnTo>
                <a:lnTo>
                  <a:pt x="0" y="312"/>
                </a:lnTo>
                <a:lnTo>
                  <a:pt x="0" y="304"/>
                </a:lnTo>
                <a:lnTo>
                  <a:pt x="0" y="295"/>
                </a:lnTo>
                <a:lnTo>
                  <a:pt x="0" y="287"/>
                </a:lnTo>
                <a:lnTo>
                  <a:pt x="0" y="281"/>
                </a:lnTo>
                <a:lnTo>
                  <a:pt x="0" y="275"/>
                </a:lnTo>
                <a:lnTo>
                  <a:pt x="0" y="267"/>
                </a:lnTo>
                <a:lnTo>
                  <a:pt x="0" y="258"/>
                </a:lnTo>
                <a:lnTo>
                  <a:pt x="0" y="250"/>
                </a:lnTo>
                <a:lnTo>
                  <a:pt x="0" y="244"/>
                </a:lnTo>
                <a:lnTo>
                  <a:pt x="0" y="236"/>
                </a:lnTo>
                <a:lnTo>
                  <a:pt x="0" y="228"/>
                </a:lnTo>
                <a:lnTo>
                  <a:pt x="0" y="222"/>
                </a:lnTo>
                <a:lnTo>
                  <a:pt x="3" y="213"/>
                </a:lnTo>
                <a:lnTo>
                  <a:pt x="3" y="205"/>
                </a:lnTo>
                <a:lnTo>
                  <a:pt x="3" y="199"/>
                </a:lnTo>
                <a:lnTo>
                  <a:pt x="3" y="191"/>
                </a:lnTo>
                <a:lnTo>
                  <a:pt x="3" y="183"/>
                </a:lnTo>
                <a:lnTo>
                  <a:pt x="3" y="174"/>
                </a:lnTo>
                <a:lnTo>
                  <a:pt x="3" y="168"/>
                </a:lnTo>
                <a:lnTo>
                  <a:pt x="3" y="160"/>
                </a:lnTo>
                <a:lnTo>
                  <a:pt x="3" y="152"/>
                </a:lnTo>
                <a:lnTo>
                  <a:pt x="3" y="146"/>
                </a:lnTo>
                <a:lnTo>
                  <a:pt x="6" y="138"/>
                </a:lnTo>
                <a:lnTo>
                  <a:pt x="6" y="129"/>
                </a:lnTo>
                <a:lnTo>
                  <a:pt x="6" y="123"/>
                </a:lnTo>
                <a:lnTo>
                  <a:pt x="6" y="115"/>
                </a:lnTo>
                <a:lnTo>
                  <a:pt x="6" y="107"/>
                </a:lnTo>
                <a:lnTo>
                  <a:pt x="6" y="99"/>
                </a:lnTo>
                <a:lnTo>
                  <a:pt x="6" y="92"/>
                </a:lnTo>
                <a:lnTo>
                  <a:pt x="6" y="86"/>
                </a:lnTo>
                <a:lnTo>
                  <a:pt x="6" y="78"/>
                </a:lnTo>
                <a:lnTo>
                  <a:pt x="6" y="78"/>
                </a:lnTo>
                <a:lnTo>
                  <a:pt x="6" y="80"/>
                </a:lnTo>
                <a:lnTo>
                  <a:pt x="9" y="86"/>
                </a:lnTo>
                <a:lnTo>
                  <a:pt x="13" y="90"/>
                </a:lnTo>
                <a:lnTo>
                  <a:pt x="13" y="95"/>
                </a:lnTo>
                <a:lnTo>
                  <a:pt x="13" y="99"/>
                </a:lnTo>
                <a:lnTo>
                  <a:pt x="13" y="105"/>
                </a:lnTo>
                <a:lnTo>
                  <a:pt x="13" y="111"/>
                </a:lnTo>
                <a:lnTo>
                  <a:pt x="13" y="115"/>
                </a:lnTo>
                <a:lnTo>
                  <a:pt x="13" y="121"/>
                </a:lnTo>
                <a:lnTo>
                  <a:pt x="13" y="127"/>
                </a:lnTo>
                <a:lnTo>
                  <a:pt x="13" y="131"/>
                </a:lnTo>
                <a:lnTo>
                  <a:pt x="9" y="136"/>
                </a:lnTo>
                <a:lnTo>
                  <a:pt x="9" y="144"/>
                </a:lnTo>
                <a:lnTo>
                  <a:pt x="9" y="148"/>
                </a:lnTo>
                <a:lnTo>
                  <a:pt x="6" y="152"/>
                </a:lnTo>
                <a:lnTo>
                  <a:pt x="6" y="158"/>
                </a:lnTo>
                <a:lnTo>
                  <a:pt x="6" y="164"/>
                </a:lnTo>
                <a:lnTo>
                  <a:pt x="3" y="168"/>
                </a:lnTo>
                <a:lnTo>
                  <a:pt x="3" y="172"/>
                </a:lnTo>
                <a:lnTo>
                  <a:pt x="3" y="179"/>
                </a:lnTo>
                <a:lnTo>
                  <a:pt x="3" y="185"/>
                </a:lnTo>
                <a:lnTo>
                  <a:pt x="3" y="189"/>
                </a:lnTo>
                <a:lnTo>
                  <a:pt x="3" y="193"/>
                </a:lnTo>
                <a:lnTo>
                  <a:pt x="3" y="199"/>
                </a:lnTo>
                <a:lnTo>
                  <a:pt x="3" y="205"/>
                </a:lnTo>
                <a:lnTo>
                  <a:pt x="3" y="209"/>
                </a:lnTo>
                <a:lnTo>
                  <a:pt x="6" y="213"/>
                </a:lnTo>
                <a:lnTo>
                  <a:pt x="6" y="220"/>
                </a:lnTo>
                <a:lnTo>
                  <a:pt x="13" y="224"/>
                </a:lnTo>
                <a:lnTo>
                  <a:pt x="13" y="228"/>
                </a:lnTo>
                <a:lnTo>
                  <a:pt x="19" y="232"/>
                </a:lnTo>
                <a:lnTo>
                  <a:pt x="23" y="238"/>
                </a:lnTo>
                <a:lnTo>
                  <a:pt x="33" y="242"/>
                </a:lnTo>
                <a:lnTo>
                  <a:pt x="39" y="240"/>
                </a:lnTo>
                <a:lnTo>
                  <a:pt x="46" y="238"/>
                </a:lnTo>
                <a:lnTo>
                  <a:pt x="49" y="232"/>
                </a:lnTo>
                <a:lnTo>
                  <a:pt x="52" y="230"/>
                </a:lnTo>
                <a:lnTo>
                  <a:pt x="52" y="226"/>
                </a:lnTo>
                <a:lnTo>
                  <a:pt x="52" y="222"/>
                </a:lnTo>
                <a:lnTo>
                  <a:pt x="49" y="217"/>
                </a:lnTo>
                <a:lnTo>
                  <a:pt x="49" y="213"/>
                </a:lnTo>
                <a:lnTo>
                  <a:pt x="46" y="205"/>
                </a:lnTo>
                <a:lnTo>
                  <a:pt x="49" y="199"/>
                </a:lnTo>
                <a:lnTo>
                  <a:pt x="52" y="197"/>
                </a:lnTo>
                <a:lnTo>
                  <a:pt x="62" y="197"/>
                </a:lnTo>
                <a:lnTo>
                  <a:pt x="66" y="197"/>
                </a:lnTo>
                <a:lnTo>
                  <a:pt x="72" y="199"/>
                </a:lnTo>
                <a:lnTo>
                  <a:pt x="79" y="199"/>
                </a:lnTo>
                <a:lnTo>
                  <a:pt x="89" y="201"/>
                </a:lnTo>
                <a:lnTo>
                  <a:pt x="99" y="199"/>
                </a:lnTo>
                <a:lnTo>
                  <a:pt x="109" y="195"/>
                </a:lnTo>
                <a:lnTo>
                  <a:pt x="119" y="191"/>
                </a:lnTo>
                <a:lnTo>
                  <a:pt x="125" y="187"/>
                </a:lnTo>
                <a:lnTo>
                  <a:pt x="129" y="183"/>
                </a:lnTo>
                <a:lnTo>
                  <a:pt x="132" y="174"/>
                </a:lnTo>
                <a:lnTo>
                  <a:pt x="132" y="168"/>
                </a:lnTo>
                <a:lnTo>
                  <a:pt x="132" y="162"/>
                </a:lnTo>
                <a:lnTo>
                  <a:pt x="132" y="152"/>
                </a:lnTo>
                <a:lnTo>
                  <a:pt x="132" y="146"/>
                </a:lnTo>
                <a:lnTo>
                  <a:pt x="132" y="136"/>
                </a:lnTo>
                <a:lnTo>
                  <a:pt x="132" y="129"/>
                </a:lnTo>
                <a:lnTo>
                  <a:pt x="132" y="123"/>
                </a:lnTo>
                <a:lnTo>
                  <a:pt x="132" y="115"/>
                </a:lnTo>
                <a:lnTo>
                  <a:pt x="132" y="109"/>
                </a:lnTo>
                <a:lnTo>
                  <a:pt x="135" y="103"/>
                </a:lnTo>
                <a:lnTo>
                  <a:pt x="125" y="103"/>
                </a:lnTo>
                <a:lnTo>
                  <a:pt x="119" y="103"/>
                </a:lnTo>
                <a:lnTo>
                  <a:pt x="109" y="103"/>
                </a:lnTo>
                <a:lnTo>
                  <a:pt x="102" y="105"/>
                </a:lnTo>
                <a:lnTo>
                  <a:pt x="92" y="107"/>
                </a:lnTo>
                <a:lnTo>
                  <a:pt x="86" y="109"/>
                </a:lnTo>
                <a:lnTo>
                  <a:pt x="79" y="111"/>
                </a:lnTo>
                <a:lnTo>
                  <a:pt x="79" y="113"/>
                </a:lnTo>
                <a:lnTo>
                  <a:pt x="79" y="1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4280" y="4403880"/>
            <a:ext cx="236520" cy="520560"/>
          </a:xfrm>
          <a:custGeom>
            <a:avLst/>
            <a:gdLst/>
            <a:ahLst/>
            <a:rect l="l" t="t" r="r" b="b"/>
            <a:pathLst>
              <a:path w="149" h="328">
                <a:moveTo>
                  <a:pt x="146" y="244"/>
                </a:moveTo>
                <a:lnTo>
                  <a:pt x="133" y="241"/>
                </a:lnTo>
                <a:lnTo>
                  <a:pt x="123" y="237"/>
                </a:lnTo>
                <a:lnTo>
                  <a:pt x="113" y="237"/>
                </a:lnTo>
                <a:lnTo>
                  <a:pt x="109" y="237"/>
                </a:lnTo>
                <a:lnTo>
                  <a:pt x="106" y="237"/>
                </a:lnTo>
                <a:lnTo>
                  <a:pt x="103" y="241"/>
                </a:lnTo>
                <a:lnTo>
                  <a:pt x="93" y="244"/>
                </a:lnTo>
                <a:lnTo>
                  <a:pt x="89" y="252"/>
                </a:lnTo>
                <a:lnTo>
                  <a:pt x="80" y="256"/>
                </a:lnTo>
                <a:lnTo>
                  <a:pt x="76" y="260"/>
                </a:lnTo>
                <a:lnTo>
                  <a:pt x="70" y="264"/>
                </a:lnTo>
                <a:lnTo>
                  <a:pt x="66" y="270"/>
                </a:lnTo>
                <a:lnTo>
                  <a:pt x="70" y="274"/>
                </a:lnTo>
                <a:lnTo>
                  <a:pt x="73" y="280"/>
                </a:lnTo>
                <a:lnTo>
                  <a:pt x="70" y="285"/>
                </a:lnTo>
                <a:lnTo>
                  <a:pt x="70" y="291"/>
                </a:lnTo>
                <a:lnTo>
                  <a:pt x="63" y="297"/>
                </a:lnTo>
                <a:lnTo>
                  <a:pt x="53" y="303"/>
                </a:lnTo>
                <a:lnTo>
                  <a:pt x="36" y="307"/>
                </a:lnTo>
                <a:lnTo>
                  <a:pt x="23" y="313"/>
                </a:lnTo>
                <a:lnTo>
                  <a:pt x="13" y="317"/>
                </a:lnTo>
                <a:lnTo>
                  <a:pt x="0" y="328"/>
                </a:lnTo>
                <a:lnTo>
                  <a:pt x="0" y="319"/>
                </a:lnTo>
                <a:lnTo>
                  <a:pt x="0" y="315"/>
                </a:lnTo>
                <a:lnTo>
                  <a:pt x="0" y="311"/>
                </a:lnTo>
                <a:lnTo>
                  <a:pt x="0" y="305"/>
                </a:lnTo>
                <a:lnTo>
                  <a:pt x="0" y="299"/>
                </a:lnTo>
                <a:lnTo>
                  <a:pt x="0" y="295"/>
                </a:lnTo>
                <a:lnTo>
                  <a:pt x="0" y="291"/>
                </a:lnTo>
                <a:lnTo>
                  <a:pt x="0" y="285"/>
                </a:lnTo>
                <a:lnTo>
                  <a:pt x="0" y="278"/>
                </a:lnTo>
                <a:lnTo>
                  <a:pt x="0" y="274"/>
                </a:lnTo>
                <a:lnTo>
                  <a:pt x="0" y="268"/>
                </a:lnTo>
                <a:lnTo>
                  <a:pt x="0" y="264"/>
                </a:lnTo>
                <a:lnTo>
                  <a:pt x="0" y="258"/>
                </a:lnTo>
                <a:lnTo>
                  <a:pt x="0" y="254"/>
                </a:lnTo>
                <a:lnTo>
                  <a:pt x="0" y="248"/>
                </a:lnTo>
                <a:lnTo>
                  <a:pt x="0" y="244"/>
                </a:lnTo>
                <a:lnTo>
                  <a:pt x="0" y="237"/>
                </a:lnTo>
                <a:lnTo>
                  <a:pt x="0" y="233"/>
                </a:lnTo>
                <a:lnTo>
                  <a:pt x="0" y="227"/>
                </a:lnTo>
                <a:lnTo>
                  <a:pt x="0" y="221"/>
                </a:lnTo>
                <a:lnTo>
                  <a:pt x="0" y="217"/>
                </a:lnTo>
                <a:lnTo>
                  <a:pt x="0" y="211"/>
                </a:lnTo>
                <a:lnTo>
                  <a:pt x="0" y="207"/>
                </a:lnTo>
                <a:lnTo>
                  <a:pt x="0" y="200"/>
                </a:lnTo>
                <a:lnTo>
                  <a:pt x="0" y="196"/>
                </a:lnTo>
                <a:lnTo>
                  <a:pt x="0" y="190"/>
                </a:lnTo>
                <a:lnTo>
                  <a:pt x="0" y="184"/>
                </a:lnTo>
                <a:lnTo>
                  <a:pt x="0" y="180"/>
                </a:lnTo>
                <a:lnTo>
                  <a:pt x="0" y="174"/>
                </a:lnTo>
                <a:lnTo>
                  <a:pt x="0" y="170"/>
                </a:lnTo>
                <a:lnTo>
                  <a:pt x="0" y="166"/>
                </a:lnTo>
                <a:lnTo>
                  <a:pt x="3" y="162"/>
                </a:lnTo>
                <a:lnTo>
                  <a:pt x="0" y="153"/>
                </a:lnTo>
                <a:lnTo>
                  <a:pt x="0" y="149"/>
                </a:lnTo>
                <a:lnTo>
                  <a:pt x="0" y="145"/>
                </a:lnTo>
                <a:lnTo>
                  <a:pt x="0" y="141"/>
                </a:lnTo>
                <a:lnTo>
                  <a:pt x="0" y="135"/>
                </a:lnTo>
                <a:lnTo>
                  <a:pt x="0" y="129"/>
                </a:lnTo>
                <a:lnTo>
                  <a:pt x="0" y="125"/>
                </a:lnTo>
                <a:lnTo>
                  <a:pt x="0" y="121"/>
                </a:lnTo>
                <a:lnTo>
                  <a:pt x="0" y="114"/>
                </a:lnTo>
                <a:lnTo>
                  <a:pt x="0" y="108"/>
                </a:lnTo>
                <a:lnTo>
                  <a:pt x="0" y="104"/>
                </a:lnTo>
                <a:lnTo>
                  <a:pt x="0" y="98"/>
                </a:lnTo>
                <a:lnTo>
                  <a:pt x="0" y="94"/>
                </a:lnTo>
                <a:lnTo>
                  <a:pt x="0" y="90"/>
                </a:lnTo>
                <a:lnTo>
                  <a:pt x="0" y="86"/>
                </a:lnTo>
                <a:lnTo>
                  <a:pt x="0" y="80"/>
                </a:lnTo>
                <a:lnTo>
                  <a:pt x="0" y="73"/>
                </a:lnTo>
                <a:lnTo>
                  <a:pt x="0" y="69"/>
                </a:lnTo>
                <a:lnTo>
                  <a:pt x="0" y="65"/>
                </a:lnTo>
                <a:lnTo>
                  <a:pt x="0" y="59"/>
                </a:lnTo>
                <a:lnTo>
                  <a:pt x="0" y="53"/>
                </a:lnTo>
                <a:lnTo>
                  <a:pt x="0" y="49"/>
                </a:lnTo>
                <a:lnTo>
                  <a:pt x="0" y="43"/>
                </a:lnTo>
                <a:lnTo>
                  <a:pt x="0" y="39"/>
                </a:lnTo>
                <a:lnTo>
                  <a:pt x="0" y="34"/>
                </a:lnTo>
                <a:lnTo>
                  <a:pt x="0" y="28"/>
                </a:lnTo>
                <a:lnTo>
                  <a:pt x="0" y="24"/>
                </a:lnTo>
                <a:lnTo>
                  <a:pt x="0" y="18"/>
                </a:lnTo>
                <a:lnTo>
                  <a:pt x="0" y="14"/>
                </a:lnTo>
                <a:lnTo>
                  <a:pt x="0" y="10"/>
                </a:lnTo>
                <a:lnTo>
                  <a:pt x="0" y="4"/>
                </a:lnTo>
                <a:lnTo>
                  <a:pt x="0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4"/>
                </a:lnTo>
                <a:lnTo>
                  <a:pt x="149" y="18"/>
                </a:lnTo>
                <a:lnTo>
                  <a:pt x="149" y="22"/>
                </a:lnTo>
                <a:lnTo>
                  <a:pt x="149" y="28"/>
                </a:lnTo>
                <a:lnTo>
                  <a:pt x="149" y="32"/>
                </a:lnTo>
                <a:lnTo>
                  <a:pt x="149" y="39"/>
                </a:lnTo>
                <a:lnTo>
                  <a:pt x="149" y="45"/>
                </a:lnTo>
                <a:lnTo>
                  <a:pt x="149" y="53"/>
                </a:lnTo>
                <a:lnTo>
                  <a:pt x="149" y="59"/>
                </a:lnTo>
                <a:lnTo>
                  <a:pt x="149" y="69"/>
                </a:lnTo>
                <a:lnTo>
                  <a:pt x="146" y="75"/>
                </a:lnTo>
                <a:lnTo>
                  <a:pt x="146" y="86"/>
                </a:lnTo>
                <a:lnTo>
                  <a:pt x="146" y="90"/>
                </a:lnTo>
                <a:lnTo>
                  <a:pt x="146" y="94"/>
                </a:lnTo>
                <a:lnTo>
                  <a:pt x="146" y="98"/>
                </a:lnTo>
                <a:lnTo>
                  <a:pt x="146" y="104"/>
                </a:lnTo>
                <a:lnTo>
                  <a:pt x="146" y="108"/>
                </a:lnTo>
                <a:lnTo>
                  <a:pt x="146" y="114"/>
                </a:lnTo>
                <a:lnTo>
                  <a:pt x="146" y="119"/>
                </a:lnTo>
                <a:lnTo>
                  <a:pt x="146" y="125"/>
                </a:lnTo>
                <a:lnTo>
                  <a:pt x="146" y="129"/>
                </a:lnTo>
                <a:lnTo>
                  <a:pt x="146" y="135"/>
                </a:lnTo>
                <a:lnTo>
                  <a:pt x="146" y="141"/>
                </a:lnTo>
                <a:lnTo>
                  <a:pt x="146" y="145"/>
                </a:lnTo>
                <a:lnTo>
                  <a:pt x="146" y="151"/>
                </a:lnTo>
                <a:lnTo>
                  <a:pt x="146" y="155"/>
                </a:lnTo>
                <a:lnTo>
                  <a:pt x="146" y="162"/>
                </a:lnTo>
                <a:lnTo>
                  <a:pt x="146" y="168"/>
                </a:lnTo>
                <a:lnTo>
                  <a:pt x="146" y="174"/>
                </a:lnTo>
                <a:lnTo>
                  <a:pt x="146" y="180"/>
                </a:lnTo>
                <a:lnTo>
                  <a:pt x="146" y="184"/>
                </a:lnTo>
                <a:lnTo>
                  <a:pt x="146" y="190"/>
                </a:lnTo>
                <a:lnTo>
                  <a:pt x="146" y="198"/>
                </a:lnTo>
                <a:lnTo>
                  <a:pt x="146" y="205"/>
                </a:lnTo>
                <a:lnTo>
                  <a:pt x="146" y="209"/>
                </a:lnTo>
                <a:lnTo>
                  <a:pt x="146" y="217"/>
                </a:lnTo>
                <a:lnTo>
                  <a:pt x="146" y="223"/>
                </a:lnTo>
                <a:lnTo>
                  <a:pt x="146" y="229"/>
                </a:lnTo>
                <a:lnTo>
                  <a:pt x="146" y="235"/>
                </a:lnTo>
                <a:lnTo>
                  <a:pt x="146" y="244"/>
                </a:lnTo>
                <a:lnTo>
                  <a:pt x="146" y="2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4040" y="5356080"/>
            <a:ext cx="4532040" cy="719280"/>
          </a:xfrm>
          <a:custGeom>
            <a:avLst/>
            <a:gdLst/>
            <a:ahLst/>
            <a:rect l="l" t="t" r="r" b="b"/>
            <a:pathLst>
              <a:path w="2855" h="453">
                <a:moveTo>
                  <a:pt x="2739" y="94"/>
                </a:moveTo>
                <a:lnTo>
                  <a:pt x="2732" y="90"/>
                </a:lnTo>
                <a:lnTo>
                  <a:pt x="2726" y="90"/>
                </a:lnTo>
                <a:lnTo>
                  <a:pt x="2719" y="88"/>
                </a:lnTo>
                <a:lnTo>
                  <a:pt x="2709" y="88"/>
                </a:lnTo>
                <a:lnTo>
                  <a:pt x="2699" y="86"/>
                </a:lnTo>
                <a:lnTo>
                  <a:pt x="2689" y="86"/>
                </a:lnTo>
                <a:lnTo>
                  <a:pt x="2676" y="86"/>
                </a:lnTo>
                <a:lnTo>
                  <a:pt x="2663" y="88"/>
                </a:lnTo>
                <a:lnTo>
                  <a:pt x="2646" y="88"/>
                </a:lnTo>
                <a:lnTo>
                  <a:pt x="2633" y="88"/>
                </a:lnTo>
                <a:lnTo>
                  <a:pt x="2617" y="90"/>
                </a:lnTo>
                <a:lnTo>
                  <a:pt x="2600" y="92"/>
                </a:lnTo>
                <a:lnTo>
                  <a:pt x="2577" y="94"/>
                </a:lnTo>
                <a:lnTo>
                  <a:pt x="2557" y="96"/>
                </a:lnTo>
                <a:lnTo>
                  <a:pt x="2537" y="101"/>
                </a:lnTo>
                <a:lnTo>
                  <a:pt x="2517" y="105"/>
                </a:lnTo>
                <a:lnTo>
                  <a:pt x="2494" y="107"/>
                </a:lnTo>
                <a:lnTo>
                  <a:pt x="2471" y="111"/>
                </a:lnTo>
                <a:lnTo>
                  <a:pt x="2448" y="115"/>
                </a:lnTo>
                <a:lnTo>
                  <a:pt x="2424" y="117"/>
                </a:lnTo>
                <a:lnTo>
                  <a:pt x="2398" y="123"/>
                </a:lnTo>
                <a:lnTo>
                  <a:pt x="2371" y="127"/>
                </a:lnTo>
                <a:lnTo>
                  <a:pt x="2345" y="131"/>
                </a:lnTo>
                <a:lnTo>
                  <a:pt x="2319" y="137"/>
                </a:lnTo>
                <a:lnTo>
                  <a:pt x="2292" y="144"/>
                </a:lnTo>
                <a:lnTo>
                  <a:pt x="2266" y="148"/>
                </a:lnTo>
                <a:lnTo>
                  <a:pt x="2239" y="154"/>
                </a:lnTo>
                <a:lnTo>
                  <a:pt x="2213" y="160"/>
                </a:lnTo>
                <a:lnTo>
                  <a:pt x="2183" y="166"/>
                </a:lnTo>
                <a:lnTo>
                  <a:pt x="2156" y="172"/>
                </a:lnTo>
                <a:lnTo>
                  <a:pt x="2126" y="178"/>
                </a:lnTo>
                <a:lnTo>
                  <a:pt x="2100" y="185"/>
                </a:lnTo>
                <a:lnTo>
                  <a:pt x="2070" y="191"/>
                </a:lnTo>
                <a:lnTo>
                  <a:pt x="2040" y="197"/>
                </a:lnTo>
                <a:lnTo>
                  <a:pt x="2014" y="203"/>
                </a:lnTo>
                <a:lnTo>
                  <a:pt x="1984" y="209"/>
                </a:lnTo>
                <a:lnTo>
                  <a:pt x="1958" y="217"/>
                </a:lnTo>
                <a:lnTo>
                  <a:pt x="1931" y="224"/>
                </a:lnTo>
                <a:lnTo>
                  <a:pt x="1901" y="230"/>
                </a:lnTo>
                <a:lnTo>
                  <a:pt x="1875" y="238"/>
                </a:lnTo>
                <a:lnTo>
                  <a:pt x="1848" y="244"/>
                </a:lnTo>
                <a:lnTo>
                  <a:pt x="1822" y="252"/>
                </a:lnTo>
                <a:lnTo>
                  <a:pt x="1795" y="258"/>
                </a:lnTo>
                <a:lnTo>
                  <a:pt x="1769" y="265"/>
                </a:lnTo>
                <a:lnTo>
                  <a:pt x="1746" y="273"/>
                </a:lnTo>
                <a:lnTo>
                  <a:pt x="1722" y="279"/>
                </a:lnTo>
                <a:lnTo>
                  <a:pt x="1699" y="285"/>
                </a:lnTo>
                <a:lnTo>
                  <a:pt x="1676" y="293"/>
                </a:lnTo>
                <a:lnTo>
                  <a:pt x="1650" y="299"/>
                </a:lnTo>
                <a:lnTo>
                  <a:pt x="1630" y="308"/>
                </a:lnTo>
                <a:lnTo>
                  <a:pt x="1610" y="314"/>
                </a:lnTo>
                <a:lnTo>
                  <a:pt x="1590" y="320"/>
                </a:lnTo>
                <a:lnTo>
                  <a:pt x="1570" y="326"/>
                </a:lnTo>
                <a:lnTo>
                  <a:pt x="1553" y="332"/>
                </a:lnTo>
                <a:lnTo>
                  <a:pt x="1534" y="338"/>
                </a:lnTo>
                <a:lnTo>
                  <a:pt x="1520" y="344"/>
                </a:lnTo>
                <a:lnTo>
                  <a:pt x="1504" y="351"/>
                </a:lnTo>
                <a:lnTo>
                  <a:pt x="1491" y="357"/>
                </a:lnTo>
                <a:lnTo>
                  <a:pt x="1477" y="361"/>
                </a:lnTo>
                <a:lnTo>
                  <a:pt x="1467" y="367"/>
                </a:lnTo>
                <a:lnTo>
                  <a:pt x="1457" y="371"/>
                </a:lnTo>
                <a:lnTo>
                  <a:pt x="1448" y="375"/>
                </a:lnTo>
                <a:lnTo>
                  <a:pt x="1441" y="381"/>
                </a:lnTo>
                <a:lnTo>
                  <a:pt x="1438" y="387"/>
                </a:lnTo>
                <a:lnTo>
                  <a:pt x="1428" y="392"/>
                </a:lnTo>
                <a:lnTo>
                  <a:pt x="1418" y="396"/>
                </a:lnTo>
                <a:lnTo>
                  <a:pt x="1404" y="402"/>
                </a:lnTo>
                <a:lnTo>
                  <a:pt x="1395" y="408"/>
                </a:lnTo>
                <a:lnTo>
                  <a:pt x="1381" y="412"/>
                </a:lnTo>
                <a:lnTo>
                  <a:pt x="1371" y="416"/>
                </a:lnTo>
                <a:lnTo>
                  <a:pt x="1361" y="422"/>
                </a:lnTo>
                <a:lnTo>
                  <a:pt x="1348" y="426"/>
                </a:lnTo>
                <a:lnTo>
                  <a:pt x="1335" y="428"/>
                </a:lnTo>
                <a:lnTo>
                  <a:pt x="1322" y="433"/>
                </a:lnTo>
                <a:lnTo>
                  <a:pt x="1308" y="437"/>
                </a:lnTo>
                <a:lnTo>
                  <a:pt x="1298" y="441"/>
                </a:lnTo>
                <a:lnTo>
                  <a:pt x="1285" y="443"/>
                </a:lnTo>
                <a:lnTo>
                  <a:pt x="1272" y="447"/>
                </a:lnTo>
                <a:lnTo>
                  <a:pt x="1259" y="449"/>
                </a:lnTo>
                <a:lnTo>
                  <a:pt x="1246" y="451"/>
                </a:lnTo>
                <a:lnTo>
                  <a:pt x="1232" y="451"/>
                </a:lnTo>
                <a:lnTo>
                  <a:pt x="1219" y="453"/>
                </a:lnTo>
                <a:lnTo>
                  <a:pt x="1206" y="453"/>
                </a:lnTo>
                <a:lnTo>
                  <a:pt x="1193" y="453"/>
                </a:lnTo>
                <a:lnTo>
                  <a:pt x="1179" y="453"/>
                </a:lnTo>
                <a:lnTo>
                  <a:pt x="1166" y="451"/>
                </a:lnTo>
                <a:lnTo>
                  <a:pt x="1156" y="451"/>
                </a:lnTo>
                <a:lnTo>
                  <a:pt x="1143" y="449"/>
                </a:lnTo>
                <a:lnTo>
                  <a:pt x="1130" y="445"/>
                </a:lnTo>
                <a:lnTo>
                  <a:pt x="1120" y="443"/>
                </a:lnTo>
                <a:lnTo>
                  <a:pt x="1106" y="439"/>
                </a:lnTo>
                <a:lnTo>
                  <a:pt x="1096" y="433"/>
                </a:lnTo>
                <a:lnTo>
                  <a:pt x="1083" y="428"/>
                </a:lnTo>
                <a:lnTo>
                  <a:pt x="1073" y="422"/>
                </a:lnTo>
                <a:lnTo>
                  <a:pt x="1063" y="414"/>
                </a:lnTo>
                <a:lnTo>
                  <a:pt x="1057" y="408"/>
                </a:lnTo>
                <a:lnTo>
                  <a:pt x="1043" y="404"/>
                </a:lnTo>
                <a:lnTo>
                  <a:pt x="1037" y="400"/>
                </a:lnTo>
                <a:lnTo>
                  <a:pt x="1027" y="396"/>
                </a:lnTo>
                <a:lnTo>
                  <a:pt x="1017" y="394"/>
                </a:lnTo>
                <a:lnTo>
                  <a:pt x="1007" y="392"/>
                </a:lnTo>
                <a:lnTo>
                  <a:pt x="997" y="390"/>
                </a:lnTo>
                <a:lnTo>
                  <a:pt x="984" y="387"/>
                </a:lnTo>
                <a:lnTo>
                  <a:pt x="977" y="385"/>
                </a:lnTo>
                <a:lnTo>
                  <a:pt x="964" y="383"/>
                </a:lnTo>
                <a:lnTo>
                  <a:pt x="954" y="379"/>
                </a:lnTo>
                <a:lnTo>
                  <a:pt x="941" y="377"/>
                </a:lnTo>
                <a:lnTo>
                  <a:pt x="931" y="375"/>
                </a:lnTo>
                <a:lnTo>
                  <a:pt x="921" y="375"/>
                </a:lnTo>
                <a:lnTo>
                  <a:pt x="908" y="373"/>
                </a:lnTo>
                <a:lnTo>
                  <a:pt x="894" y="373"/>
                </a:lnTo>
                <a:lnTo>
                  <a:pt x="885" y="371"/>
                </a:lnTo>
                <a:lnTo>
                  <a:pt x="871" y="369"/>
                </a:lnTo>
                <a:lnTo>
                  <a:pt x="858" y="369"/>
                </a:lnTo>
                <a:lnTo>
                  <a:pt x="845" y="367"/>
                </a:lnTo>
                <a:lnTo>
                  <a:pt x="832" y="367"/>
                </a:lnTo>
                <a:lnTo>
                  <a:pt x="818" y="367"/>
                </a:lnTo>
                <a:lnTo>
                  <a:pt x="802" y="367"/>
                </a:lnTo>
                <a:lnTo>
                  <a:pt x="792" y="367"/>
                </a:lnTo>
                <a:lnTo>
                  <a:pt x="775" y="367"/>
                </a:lnTo>
                <a:lnTo>
                  <a:pt x="762" y="367"/>
                </a:lnTo>
                <a:lnTo>
                  <a:pt x="749" y="367"/>
                </a:lnTo>
                <a:lnTo>
                  <a:pt x="735" y="367"/>
                </a:lnTo>
                <a:lnTo>
                  <a:pt x="722" y="367"/>
                </a:lnTo>
                <a:lnTo>
                  <a:pt x="706" y="367"/>
                </a:lnTo>
                <a:lnTo>
                  <a:pt x="692" y="367"/>
                </a:lnTo>
                <a:lnTo>
                  <a:pt x="676" y="367"/>
                </a:lnTo>
                <a:lnTo>
                  <a:pt x="663" y="369"/>
                </a:lnTo>
                <a:lnTo>
                  <a:pt x="646" y="369"/>
                </a:lnTo>
                <a:lnTo>
                  <a:pt x="633" y="369"/>
                </a:lnTo>
                <a:lnTo>
                  <a:pt x="616" y="369"/>
                </a:lnTo>
                <a:lnTo>
                  <a:pt x="603" y="369"/>
                </a:lnTo>
                <a:lnTo>
                  <a:pt x="586" y="371"/>
                </a:lnTo>
                <a:lnTo>
                  <a:pt x="570" y="373"/>
                </a:lnTo>
                <a:lnTo>
                  <a:pt x="553" y="373"/>
                </a:lnTo>
                <a:lnTo>
                  <a:pt x="540" y="375"/>
                </a:lnTo>
                <a:lnTo>
                  <a:pt x="524" y="375"/>
                </a:lnTo>
                <a:lnTo>
                  <a:pt x="510" y="377"/>
                </a:lnTo>
                <a:lnTo>
                  <a:pt x="494" y="377"/>
                </a:lnTo>
                <a:lnTo>
                  <a:pt x="477" y="379"/>
                </a:lnTo>
                <a:lnTo>
                  <a:pt x="461" y="381"/>
                </a:lnTo>
                <a:lnTo>
                  <a:pt x="447" y="383"/>
                </a:lnTo>
                <a:lnTo>
                  <a:pt x="431" y="385"/>
                </a:lnTo>
                <a:lnTo>
                  <a:pt x="414" y="387"/>
                </a:lnTo>
                <a:lnTo>
                  <a:pt x="398" y="390"/>
                </a:lnTo>
                <a:lnTo>
                  <a:pt x="381" y="390"/>
                </a:lnTo>
                <a:lnTo>
                  <a:pt x="368" y="392"/>
                </a:lnTo>
                <a:lnTo>
                  <a:pt x="351" y="394"/>
                </a:lnTo>
                <a:lnTo>
                  <a:pt x="335" y="396"/>
                </a:lnTo>
                <a:lnTo>
                  <a:pt x="318" y="398"/>
                </a:lnTo>
                <a:lnTo>
                  <a:pt x="305" y="402"/>
                </a:lnTo>
                <a:lnTo>
                  <a:pt x="288" y="404"/>
                </a:lnTo>
                <a:lnTo>
                  <a:pt x="272" y="406"/>
                </a:lnTo>
                <a:lnTo>
                  <a:pt x="255" y="408"/>
                </a:lnTo>
                <a:lnTo>
                  <a:pt x="242" y="410"/>
                </a:lnTo>
                <a:lnTo>
                  <a:pt x="225" y="412"/>
                </a:lnTo>
                <a:lnTo>
                  <a:pt x="209" y="414"/>
                </a:lnTo>
                <a:lnTo>
                  <a:pt x="196" y="416"/>
                </a:lnTo>
                <a:lnTo>
                  <a:pt x="179" y="420"/>
                </a:lnTo>
                <a:lnTo>
                  <a:pt x="163" y="422"/>
                </a:lnTo>
                <a:lnTo>
                  <a:pt x="163" y="416"/>
                </a:lnTo>
                <a:lnTo>
                  <a:pt x="159" y="412"/>
                </a:lnTo>
                <a:lnTo>
                  <a:pt x="159" y="408"/>
                </a:lnTo>
                <a:lnTo>
                  <a:pt x="159" y="404"/>
                </a:lnTo>
                <a:lnTo>
                  <a:pt x="149" y="400"/>
                </a:lnTo>
                <a:lnTo>
                  <a:pt x="139" y="398"/>
                </a:lnTo>
                <a:lnTo>
                  <a:pt x="129" y="394"/>
                </a:lnTo>
                <a:lnTo>
                  <a:pt x="123" y="392"/>
                </a:lnTo>
                <a:lnTo>
                  <a:pt x="110" y="394"/>
                </a:lnTo>
                <a:lnTo>
                  <a:pt x="103" y="394"/>
                </a:lnTo>
                <a:lnTo>
                  <a:pt x="93" y="396"/>
                </a:lnTo>
                <a:lnTo>
                  <a:pt x="80" y="396"/>
                </a:lnTo>
                <a:lnTo>
                  <a:pt x="70" y="396"/>
                </a:lnTo>
                <a:lnTo>
                  <a:pt x="60" y="396"/>
                </a:lnTo>
                <a:lnTo>
                  <a:pt x="47" y="396"/>
                </a:lnTo>
                <a:lnTo>
                  <a:pt x="37" y="394"/>
                </a:lnTo>
                <a:lnTo>
                  <a:pt x="27" y="392"/>
                </a:lnTo>
                <a:lnTo>
                  <a:pt x="17" y="390"/>
                </a:lnTo>
                <a:lnTo>
                  <a:pt x="10" y="385"/>
                </a:lnTo>
                <a:lnTo>
                  <a:pt x="4" y="381"/>
                </a:lnTo>
                <a:lnTo>
                  <a:pt x="0" y="375"/>
                </a:lnTo>
                <a:lnTo>
                  <a:pt x="0" y="369"/>
                </a:lnTo>
                <a:lnTo>
                  <a:pt x="0" y="363"/>
                </a:lnTo>
                <a:lnTo>
                  <a:pt x="4" y="355"/>
                </a:lnTo>
                <a:lnTo>
                  <a:pt x="10" y="355"/>
                </a:lnTo>
                <a:lnTo>
                  <a:pt x="17" y="355"/>
                </a:lnTo>
                <a:lnTo>
                  <a:pt x="23" y="355"/>
                </a:lnTo>
                <a:lnTo>
                  <a:pt x="30" y="355"/>
                </a:lnTo>
                <a:lnTo>
                  <a:pt x="37" y="353"/>
                </a:lnTo>
                <a:lnTo>
                  <a:pt x="43" y="351"/>
                </a:lnTo>
                <a:lnTo>
                  <a:pt x="43" y="344"/>
                </a:lnTo>
                <a:lnTo>
                  <a:pt x="43" y="340"/>
                </a:lnTo>
                <a:lnTo>
                  <a:pt x="43" y="336"/>
                </a:lnTo>
                <a:lnTo>
                  <a:pt x="40" y="332"/>
                </a:lnTo>
                <a:lnTo>
                  <a:pt x="57" y="330"/>
                </a:lnTo>
                <a:lnTo>
                  <a:pt x="73" y="326"/>
                </a:lnTo>
                <a:lnTo>
                  <a:pt x="90" y="322"/>
                </a:lnTo>
                <a:lnTo>
                  <a:pt x="106" y="320"/>
                </a:lnTo>
                <a:lnTo>
                  <a:pt x="123" y="318"/>
                </a:lnTo>
                <a:lnTo>
                  <a:pt x="136" y="316"/>
                </a:lnTo>
                <a:lnTo>
                  <a:pt x="156" y="314"/>
                </a:lnTo>
                <a:lnTo>
                  <a:pt x="176" y="310"/>
                </a:lnTo>
                <a:lnTo>
                  <a:pt x="192" y="308"/>
                </a:lnTo>
                <a:lnTo>
                  <a:pt x="209" y="305"/>
                </a:lnTo>
                <a:lnTo>
                  <a:pt x="225" y="303"/>
                </a:lnTo>
                <a:lnTo>
                  <a:pt x="245" y="299"/>
                </a:lnTo>
                <a:lnTo>
                  <a:pt x="262" y="297"/>
                </a:lnTo>
                <a:lnTo>
                  <a:pt x="282" y="295"/>
                </a:lnTo>
                <a:lnTo>
                  <a:pt x="302" y="293"/>
                </a:lnTo>
                <a:lnTo>
                  <a:pt x="318" y="291"/>
                </a:lnTo>
                <a:lnTo>
                  <a:pt x="338" y="289"/>
                </a:lnTo>
                <a:lnTo>
                  <a:pt x="358" y="287"/>
                </a:lnTo>
                <a:lnTo>
                  <a:pt x="375" y="283"/>
                </a:lnTo>
                <a:lnTo>
                  <a:pt x="394" y="283"/>
                </a:lnTo>
                <a:lnTo>
                  <a:pt x="414" y="279"/>
                </a:lnTo>
                <a:lnTo>
                  <a:pt x="431" y="279"/>
                </a:lnTo>
                <a:lnTo>
                  <a:pt x="454" y="277"/>
                </a:lnTo>
                <a:lnTo>
                  <a:pt x="471" y="277"/>
                </a:lnTo>
                <a:lnTo>
                  <a:pt x="490" y="273"/>
                </a:lnTo>
                <a:lnTo>
                  <a:pt x="510" y="273"/>
                </a:lnTo>
                <a:lnTo>
                  <a:pt x="527" y="271"/>
                </a:lnTo>
                <a:lnTo>
                  <a:pt x="550" y="271"/>
                </a:lnTo>
                <a:lnTo>
                  <a:pt x="567" y="271"/>
                </a:lnTo>
                <a:lnTo>
                  <a:pt x="586" y="269"/>
                </a:lnTo>
                <a:lnTo>
                  <a:pt x="606" y="267"/>
                </a:lnTo>
                <a:lnTo>
                  <a:pt x="626" y="267"/>
                </a:lnTo>
                <a:lnTo>
                  <a:pt x="643" y="267"/>
                </a:lnTo>
                <a:lnTo>
                  <a:pt x="663" y="267"/>
                </a:lnTo>
                <a:lnTo>
                  <a:pt x="679" y="267"/>
                </a:lnTo>
                <a:lnTo>
                  <a:pt x="699" y="267"/>
                </a:lnTo>
                <a:lnTo>
                  <a:pt x="719" y="265"/>
                </a:lnTo>
                <a:lnTo>
                  <a:pt x="735" y="265"/>
                </a:lnTo>
                <a:lnTo>
                  <a:pt x="755" y="267"/>
                </a:lnTo>
                <a:lnTo>
                  <a:pt x="775" y="267"/>
                </a:lnTo>
                <a:lnTo>
                  <a:pt x="792" y="267"/>
                </a:lnTo>
                <a:lnTo>
                  <a:pt x="812" y="267"/>
                </a:lnTo>
                <a:lnTo>
                  <a:pt x="828" y="267"/>
                </a:lnTo>
                <a:lnTo>
                  <a:pt x="848" y="271"/>
                </a:lnTo>
                <a:lnTo>
                  <a:pt x="861" y="271"/>
                </a:lnTo>
                <a:lnTo>
                  <a:pt x="881" y="273"/>
                </a:lnTo>
                <a:lnTo>
                  <a:pt x="898" y="275"/>
                </a:lnTo>
                <a:lnTo>
                  <a:pt x="914" y="277"/>
                </a:lnTo>
                <a:lnTo>
                  <a:pt x="931" y="279"/>
                </a:lnTo>
                <a:lnTo>
                  <a:pt x="947" y="279"/>
                </a:lnTo>
                <a:lnTo>
                  <a:pt x="964" y="283"/>
                </a:lnTo>
                <a:lnTo>
                  <a:pt x="981" y="285"/>
                </a:lnTo>
                <a:lnTo>
                  <a:pt x="997" y="289"/>
                </a:lnTo>
                <a:lnTo>
                  <a:pt x="1010" y="291"/>
                </a:lnTo>
                <a:lnTo>
                  <a:pt x="1027" y="293"/>
                </a:lnTo>
                <a:lnTo>
                  <a:pt x="1043" y="297"/>
                </a:lnTo>
                <a:lnTo>
                  <a:pt x="1057" y="301"/>
                </a:lnTo>
                <a:lnTo>
                  <a:pt x="1070" y="305"/>
                </a:lnTo>
                <a:lnTo>
                  <a:pt x="1087" y="310"/>
                </a:lnTo>
                <a:lnTo>
                  <a:pt x="1100" y="314"/>
                </a:lnTo>
                <a:lnTo>
                  <a:pt x="1113" y="318"/>
                </a:lnTo>
                <a:lnTo>
                  <a:pt x="1126" y="322"/>
                </a:lnTo>
                <a:lnTo>
                  <a:pt x="1140" y="330"/>
                </a:lnTo>
                <a:lnTo>
                  <a:pt x="1156" y="334"/>
                </a:lnTo>
                <a:lnTo>
                  <a:pt x="1163" y="340"/>
                </a:lnTo>
                <a:lnTo>
                  <a:pt x="1173" y="349"/>
                </a:lnTo>
                <a:lnTo>
                  <a:pt x="1183" y="353"/>
                </a:lnTo>
                <a:lnTo>
                  <a:pt x="1193" y="357"/>
                </a:lnTo>
                <a:lnTo>
                  <a:pt x="1199" y="357"/>
                </a:lnTo>
                <a:lnTo>
                  <a:pt x="1209" y="359"/>
                </a:lnTo>
                <a:lnTo>
                  <a:pt x="1216" y="359"/>
                </a:lnTo>
                <a:lnTo>
                  <a:pt x="1226" y="359"/>
                </a:lnTo>
                <a:lnTo>
                  <a:pt x="1236" y="357"/>
                </a:lnTo>
                <a:lnTo>
                  <a:pt x="1242" y="357"/>
                </a:lnTo>
                <a:lnTo>
                  <a:pt x="1252" y="353"/>
                </a:lnTo>
                <a:lnTo>
                  <a:pt x="1265" y="351"/>
                </a:lnTo>
                <a:lnTo>
                  <a:pt x="1275" y="344"/>
                </a:lnTo>
                <a:lnTo>
                  <a:pt x="1285" y="340"/>
                </a:lnTo>
                <a:lnTo>
                  <a:pt x="1298" y="334"/>
                </a:lnTo>
                <a:lnTo>
                  <a:pt x="1312" y="330"/>
                </a:lnTo>
                <a:lnTo>
                  <a:pt x="1318" y="322"/>
                </a:lnTo>
                <a:lnTo>
                  <a:pt x="1332" y="314"/>
                </a:lnTo>
                <a:lnTo>
                  <a:pt x="1345" y="308"/>
                </a:lnTo>
                <a:lnTo>
                  <a:pt x="1358" y="299"/>
                </a:lnTo>
                <a:lnTo>
                  <a:pt x="1375" y="291"/>
                </a:lnTo>
                <a:lnTo>
                  <a:pt x="1391" y="283"/>
                </a:lnTo>
                <a:lnTo>
                  <a:pt x="1408" y="275"/>
                </a:lnTo>
                <a:lnTo>
                  <a:pt x="1428" y="267"/>
                </a:lnTo>
                <a:lnTo>
                  <a:pt x="1448" y="258"/>
                </a:lnTo>
                <a:lnTo>
                  <a:pt x="1467" y="250"/>
                </a:lnTo>
                <a:lnTo>
                  <a:pt x="1487" y="242"/>
                </a:lnTo>
                <a:lnTo>
                  <a:pt x="1514" y="234"/>
                </a:lnTo>
                <a:lnTo>
                  <a:pt x="1534" y="226"/>
                </a:lnTo>
                <a:lnTo>
                  <a:pt x="1560" y="217"/>
                </a:lnTo>
                <a:lnTo>
                  <a:pt x="1587" y="209"/>
                </a:lnTo>
                <a:lnTo>
                  <a:pt x="1613" y="201"/>
                </a:lnTo>
                <a:lnTo>
                  <a:pt x="1640" y="193"/>
                </a:lnTo>
                <a:lnTo>
                  <a:pt x="1666" y="185"/>
                </a:lnTo>
                <a:lnTo>
                  <a:pt x="1696" y="176"/>
                </a:lnTo>
                <a:lnTo>
                  <a:pt x="1726" y="168"/>
                </a:lnTo>
                <a:lnTo>
                  <a:pt x="1752" y="160"/>
                </a:lnTo>
                <a:lnTo>
                  <a:pt x="1782" y="150"/>
                </a:lnTo>
                <a:lnTo>
                  <a:pt x="1812" y="144"/>
                </a:lnTo>
                <a:lnTo>
                  <a:pt x="1845" y="135"/>
                </a:lnTo>
                <a:lnTo>
                  <a:pt x="1875" y="127"/>
                </a:lnTo>
                <a:lnTo>
                  <a:pt x="1908" y="121"/>
                </a:lnTo>
                <a:lnTo>
                  <a:pt x="1938" y="113"/>
                </a:lnTo>
                <a:lnTo>
                  <a:pt x="1971" y="107"/>
                </a:lnTo>
                <a:lnTo>
                  <a:pt x="2001" y="99"/>
                </a:lnTo>
                <a:lnTo>
                  <a:pt x="2034" y="90"/>
                </a:lnTo>
                <a:lnTo>
                  <a:pt x="2067" y="84"/>
                </a:lnTo>
                <a:lnTo>
                  <a:pt x="2100" y="78"/>
                </a:lnTo>
                <a:lnTo>
                  <a:pt x="2130" y="72"/>
                </a:lnTo>
                <a:lnTo>
                  <a:pt x="2163" y="66"/>
                </a:lnTo>
                <a:lnTo>
                  <a:pt x="2193" y="58"/>
                </a:lnTo>
                <a:lnTo>
                  <a:pt x="2226" y="53"/>
                </a:lnTo>
                <a:lnTo>
                  <a:pt x="2256" y="49"/>
                </a:lnTo>
                <a:lnTo>
                  <a:pt x="2285" y="41"/>
                </a:lnTo>
                <a:lnTo>
                  <a:pt x="2315" y="37"/>
                </a:lnTo>
                <a:lnTo>
                  <a:pt x="2348" y="33"/>
                </a:lnTo>
                <a:lnTo>
                  <a:pt x="2378" y="29"/>
                </a:lnTo>
                <a:lnTo>
                  <a:pt x="2408" y="23"/>
                </a:lnTo>
                <a:lnTo>
                  <a:pt x="2434" y="19"/>
                </a:lnTo>
                <a:lnTo>
                  <a:pt x="2464" y="17"/>
                </a:lnTo>
                <a:lnTo>
                  <a:pt x="2494" y="12"/>
                </a:lnTo>
                <a:lnTo>
                  <a:pt x="2521" y="10"/>
                </a:lnTo>
                <a:lnTo>
                  <a:pt x="2547" y="8"/>
                </a:lnTo>
                <a:lnTo>
                  <a:pt x="2574" y="6"/>
                </a:lnTo>
                <a:lnTo>
                  <a:pt x="2600" y="4"/>
                </a:lnTo>
                <a:lnTo>
                  <a:pt x="2623" y="2"/>
                </a:lnTo>
                <a:lnTo>
                  <a:pt x="2646" y="2"/>
                </a:lnTo>
                <a:lnTo>
                  <a:pt x="2670" y="2"/>
                </a:lnTo>
                <a:lnTo>
                  <a:pt x="2689" y="0"/>
                </a:lnTo>
                <a:lnTo>
                  <a:pt x="2709" y="2"/>
                </a:lnTo>
                <a:lnTo>
                  <a:pt x="2732" y="2"/>
                </a:lnTo>
                <a:lnTo>
                  <a:pt x="2752" y="4"/>
                </a:lnTo>
                <a:lnTo>
                  <a:pt x="2766" y="4"/>
                </a:lnTo>
                <a:lnTo>
                  <a:pt x="2785" y="8"/>
                </a:lnTo>
                <a:lnTo>
                  <a:pt x="2799" y="10"/>
                </a:lnTo>
                <a:lnTo>
                  <a:pt x="2812" y="14"/>
                </a:lnTo>
                <a:lnTo>
                  <a:pt x="2822" y="17"/>
                </a:lnTo>
                <a:lnTo>
                  <a:pt x="2835" y="21"/>
                </a:lnTo>
                <a:lnTo>
                  <a:pt x="2845" y="27"/>
                </a:lnTo>
                <a:lnTo>
                  <a:pt x="2855" y="33"/>
                </a:lnTo>
                <a:lnTo>
                  <a:pt x="2739" y="94"/>
                </a:lnTo>
                <a:lnTo>
                  <a:pt x="2739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9960" y="4146480"/>
            <a:ext cx="2156040" cy="698400"/>
          </a:xfrm>
          <a:custGeom>
            <a:avLst/>
            <a:gdLst/>
            <a:ahLst/>
            <a:rect l="l" t="t" r="r" b="b"/>
            <a:pathLst>
              <a:path w="1358" h="440">
                <a:moveTo>
                  <a:pt x="1334" y="0"/>
                </a:moveTo>
                <a:lnTo>
                  <a:pt x="1334" y="2"/>
                </a:lnTo>
                <a:lnTo>
                  <a:pt x="1334" y="8"/>
                </a:lnTo>
                <a:lnTo>
                  <a:pt x="1334" y="10"/>
                </a:lnTo>
                <a:lnTo>
                  <a:pt x="1338" y="14"/>
                </a:lnTo>
                <a:lnTo>
                  <a:pt x="1338" y="20"/>
                </a:lnTo>
                <a:lnTo>
                  <a:pt x="1341" y="26"/>
                </a:lnTo>
                <a:lnTo>
                  <a:pt x="1328" y="22"/>
                </a:lnTo>
                <a:lnTo>
                  <a:pt x="1321" y="22"/>
                </a:lnTo>
                <a:lnTo>
                  <a:pt x="1311" y="24"/>
                </a:lnTo>
                <a:lnTo>
                  <a:pt x="1301" y="28"/>
                </a:lnTo>
                <a:lnTo>
                  <a:pt x="1291" y="28"/>
                </a:lnTo>
                <a:lnTo>
                  <a:pt x="1282" y="30"/>
                </a:lnTo>
                <a:lnTo>
                  <a:pt x="1272" y="33"/>
                </a:lnTo>
                <a:lnTo>
                  <a:pt x="1262" y="35"/>
                </a:lnTo>
                <a:lnTo>
                  <a:pt x="1252" y="39"/>
                </a:lnTo>
                <a:lnTo>
                  <a:pt x="1242" y="41"/>
                </a:lnTo>
                <a:lnTo>
                  <a:pt x="1235" y="45"/>
                </a:lnTo>
                <a:lnTo>
                  <a:pt x="1232" y="51"/>
                </a:lnTo>
                <a:lnTo>
                  <a:pt x="1229" y="55"/>
                </a:lnTo>
                <a:lnTo>
                  <a:pt x="1222" y="61"/>
                </a:lnTo>
                <a:lnTo>
                  <a:pt x="1232" y="63"/>
                </a:lnTo>
                <a:lnTo>
                  <a:pt x="1242" y="65"/>
                </a:lnTo>
                <a:lnTo>
                  <a:pt x="1252" y="67"/>
                </a:lnTo>
                <a:lnTo>
                  <a:pt x="1265" y="69"/>
                </a:lnTo>
                <a:lnTo>
                  <a:pt x="1272" y="61"/>
                </a:lnTo>
                <a:lnTo>
                  <a:pt x="1278" y="59"/>
                </a:lnTo>
                <a:lnTo>
                  <a:pt x="1291" y="55"/>
                </a:lnTo>
                <a:lnTo>
                  <a:pt x="1301" y="55"/>
                </a:lnTo>
                <a:lnTo>
                  <a:pt x="1311" y="55"/>
                </a:lnTo>
                <a:lnTo>
                  <a:pt x="1325" y="55"/>
                </a:lnTo>
                <a:lnTo>
                  <a:pt x="1334" y="55"/>
                </a:lnTo>
                <a:lnTo>
                  <a:pt x="1348" y="55"/>
                </a:lnTo>
                <a:lnTo>
                  <a:pt x="1351" y="61"/>
                </a:lnTo>
                <a:lnTo>
                  <a:pt x="1351" y="67"/>
                </a:lnTo>
                <a:lnTo>
                  <a:pt x="1351" y="74"/>
                </a:lnTo>
                <a:lnTo>
                  <a:pt x="1354" y="82"/>
                </a:lnTo>
                <a:lnTo>
                  <a:pt x="1354" y="84"/>
                </a:lnTo>
                <a:lnTo>
                  <a:pt x="1358" y="88"/>
                </a:lnTo>
                <a:lnTo>
                  <a:pt x="1358" y="90"/>
                </a:lnTo>
                <a:lnTo>
                  <a:pt x="1358" y="92"/>
                </a:lnTo>
                <a:lnTo>
                  <a:pt x="1344" y="94"/>
                </a:lnTo>
                <a:lnTo>
                  <a:pt x="1331" y="96"/>
                </a:lnTo>
                <a:lnTo>
                  <a:pt x="1318" y="96"/>
                </a:lnTo>
                <a:lnTo>
                  <a:pt x="1301" y="98"/>
                </a:lnTo>
                <a:lnTo>
                  <a:pt x="1288" y="98"/>
                </a:lnTo>
                <a:lnTo>
                  <a:pt x="1275" y="100"/>
                </a:lnTo>
                <a:lnTo>
                  <a:pt x="1262" y="102"/>
                </a:lnTo>
                <a:lnTo>
                  <a:pt x="1248" y="104"/>
                </a:lnTo>
                <a:lnTo>
                  <a:pt x="1232" y="104"/>
                </a:lnTo>
                <a:lnTo>
                  <a:pt x="1219" y="106"/>
                </a:lnTo>
                <a:lnTo>
                  <a:pt x="1205" y="108"/>
                </a:lnTo>
                <a:lnTo>
                  <a:pt x="1192" y="108"/>
                </a:lnTo>
                <a:lnTo>
                  <a:pt x="1179" y="110"/>
                </a:lnTo>
                <a:lnTo>
                  <a:pt x="1162" y="112"/>
                </a:lnTo>
                <a:lnTo>
                  <a:pt x="1152" y="115"/>
                </a:lnTo>
                <a:lnTo>
                  <a:pt x="1139" y="117"/>
                </a:lnTo>
                <a:lnTo>
                  <a:pt x="1136" y="110"/>
                </a:lnTo>
                <a:lnTo>
                  <a:pt x="1139" y="104"/>
                </a:lnTo>
                <a:lnTo>
                  <a:pt x="1142" y="98"/>
                </a:lnTo>
                <a:lnTo>
                  <a:pt x="1146" y="92"/>
                </a:lnTo>
                <a:lnTo>
                  <a:pt x="1152" y="84"/>
                </a:lnTo>
                <a:lnTo>
                  <a:pt x="1156" y="80"/>
                </a:lnTo>
                <a:lnTo>
                  <a:pt x="1162" y="71"/>
                </a:lnTo>
                <a:lnTo>
                  <a:pt x="1169" y="67"/>
                </a:lnTo>
                <a:lnTo>
                  <a:pt x="1172" y="61"/>
                </a:lnTo>
                <a:lnTo>
                  <a:pt x="1172" y="55"/>
                </a:lnTo>
                <a:lnTo>
                  <a:pt x="1176" y="49"/>
                </a:lnTo>
                <a:lnTo>
                  <a:pt x="1176" y="45"/>
                </a:lnTo>
                <a:lnTo>
                  <a:pt x="1172" y="41"/>
                </a:lnTo>
                <a:lnTo>
                  <a:pt x="1166" y="37"/>
                </a:lnTo>
                <a:lnTo>
                  <a:pt x="1156" y="33"/>
                </a:lnTo>
                <a:lnTo>
                  <a:pt x="1146" y="30"/>
                </a:lnTo>
                <a:lnTo>
                  <a:pt x="1139" y="35"/>
                </a:lnTo>
                <a:lnTo>
                  <a:pt x="1132" y="37"/>
                </a:lnTo>
                <a:lnTo>
                  <a:pt x="1126" y="39"/>
                </a:lnTo>
                <a:lnTo>
                  <a:pt x="1119" y="41"/>
                </a:lnTo>
                <a:lnTo>
                  <a:pt x="1109" y="43"/>
                </a:lnTo>
                <a:lnTo>
                  <a:pt x="1103" y="45"/>
                </a:lnTo>
                <a:lnTo>
                  <a:pt x="1093" y="47"/>
                </a:lnTo>
                <a:lnTo>
                  <a:pt x="1086" y="49"/>
                </a:lnTo>
                <a:lnTo>
                  <a:pt x="1079" y="51"/>
                </a:lnTo>
                <a:lnTo>
                  <a:pt x="1070" y="51"/>
                </a:lnTo>
                <a:lnTo>
                  <a:pt x="1063" y="53"/>
                </a:lnTo>
                <a:lnTo>
                  <a:pt x="1053" y="55"/>
                </a:lnTo>
                <a:lnTo>
                  <a:pt x="1040" y="61"/>
                </a:lnTo>
                <a:lnTo>
                  <a:pt x="1030" y="69"/>
                </a:lnTo>
                <a:lnTo>
                  <a:pt x="1033" y="74"/>
                </a:lnTo>
                <a:lnTo>
                  <a:pt x="1040" y="80"/>
                </a:lnTo>
                <a:lnTo>
                  <a:pt x="1046" y="84"/>
                </a:lnTo>
                <a:lnTo>
                  <a:pt x="1053" y="88"/>
                </a:lnTo>
                <a:lnTo>
                  <a:pt x="1056" y="84"/>
                </a:lnTo>
                <a:lnTo>
                  <a:pt x="1066" y="82"/>
                </a:lnTo>
                <a:lnTo>
                  <a:pt x="1073" y="80"/>
                </a:lnTo>
                <a:lnTo>
                  <a:pt x="1079" y="80"/>
                </a:lnTo>
                <a:lnTo>
                  <a:pt x="1083" y="82"/>
                </a:lnTo>
                <a:lnTo>
                  <a:pt x="1089" y="86"/>
                </a:lnTo>
                <a:lnTo>
                  <a:pt x="1089" y="88"/>
                </a:lnTo>
                <a:lnTo>
                  <a:pt x="1089" y="92"/>
                </a:lnTo>
                <a:lnTo>
                  <a:pt x="1093" y="98"/>
                </a:lnTo>
                <a:lnTo>
                  <a:pt x="1093" y="102"/>
                </a:lnTo>
                <a:lnTo>
                  <a:pt x="1093" y="106"/>
                </a:lnTo>
                <a:lnTo>
                  <a:pt x="1093" y="110"/>
                </a:lnTo>
                <a:lnTo>
                  <a:pt x="1093" y="117"/>
                </a:lnTo>
                <a:lnTo>
                  <a:pt x="1096" y="121"/>
                </a:lnTo>
                <a:lnTo>
                  <a:pt x="1089" y="121"/>
                </a:lnTo>
                <a:lnTo>
                  <a:pt x="1079" y="123"/>
                </a:lnTo>
                <a:lnTo>
                  <a:pt x="1070" y="125"/>
                </a:lnTo>
                <a:lnTo>
                  <a:pt x="1063" y="125"/>
                </a:lnTo>
                <a:lnTo>
                  <a:pt x="1053" y="125"/>
                </a:lnTo>
                <a:lnTo>
                  <a:pt x="1046" y="127"/>
                </a:lnTo>
                <a:lnTo>
                  <a:pt x="1036" y="127"/>
                </a:lnTo>
                <a:lnTo>
                  <a:pt x="1030" y="129"/>
                </a:lnTo>
                <a:lnTo>
                  <a:pt x="1020" y="131"/>
                </a:lnTo>
                <a:lnTo>
                  <a:pt x="1010" y="133"/>
                </a:lnTo>
                <a:lnTo>
                  <a:pt x="1003" y="133"/>
                </a:lnTo>
                <a:lnTo>
                  <a:pt x="993" y="135"/>
                </a:lnTo>
                <a:lnTo>
                  <a:pt x="987" y="135"/>
                </a:lnTo>
                <a:lnTo>
                  <a:pt x="977" y="137"/>
                </a:lnTo>
                <a:lnTo>
                  <a:pt x="970" y="137"/>
                </a:lnTo>
                <a:lnTo>
                  <a:pt x="960" y="141"/>
                </a:lnTo>
                <a:lnTo>
                  <a:pt x="950" y="141"/>
                </a:lnTo>
                <a:lnTo>
                  <a:pt x="944" y="143"/>
                </a:lnTo>
                <a:lnTo>
                  <a:pt x="934" y="143"/>
                </a:lnTo>
                <a:lnTo>
                  <a:pt x="927" y="145"/>
                </a:lnTo>
                <a:lnTo>
                  <a:pt x="917" y="145"/>
                </a:lnTo>
                <a:lnTo>
                  <a:pt x="911" y="147"/>
                </a:lnTo>
                <a:lnTo>
                  <a:pt x="901" y="147"/>
                </a:lnTo>
                <a:lnTo>
                  <a:pt x="894" y="151"/>
                </a:lnTo>
                <a:lnTo>
                  <a:pt x="884" y="151"/>
                </a:lnTo>
                <a:lnTo>
                  <a:pt x="877" y="153"/>
                </a:lnTo>
                <a:lnTo>
                  <a:pt x="871" y="155"/>
                </a:lnTo>
                <a:lnTo>
                  <a:pt x="861" y="158"/>
                </a:lnTo>
                <a:lnTo>
                  <a:pt x="854" y="158"/>
                </a:lnTo>
                <a:lnTo>
                  <a:pt x="844" y="160"/>
                </a:lnTo>
                <a:lnTo>
                  <a:pt x="838" y="160"/>
                </a:lnTo>
                <a:lnTo>
                  <a:pt x="828" y="164"/>
                </a:lnTo>
                <a:lnTo>
                  <a:pt x="824" y="155"/>
                </a:lnTo>
                <a:lnTo>
                  <a:pt x="821" y="147"/>
                </a:lnTo>
                <a:lnTo>
                  <a:pt x="821" y="143"/>
                </a:lnTo>
                <a:lnTo>
                  <a:pt x="818" y="141"/>
                </a:lnTo>
                <a:lnTo>
                  <a:pt x="824" y="135"/>
                </a:lnTo>
                <a:lnTo>
                  <a:pt x="834" y="131"/>
                </a:lnTo>
                <a:lnTo>
                  <a:pt x="841" y="129"/>
                </a:lnTo>
                <a:lnTo>
                  <a:pt x="848" y="131"/>
                </a:lnTo>
                <a:lnTo>
                  <a:pt x="858" y="131"/>
                </a:lnTo>
                <a:lnTo>
                  <a:pt x="864" y="133"/>
                </a:lnTo>
                <a:lnTo>
                  <a:pt x="874" y="135"/>
                </a:lnTo>
                <a:lnTo>
                  <a:pt x="881" y="137"/>
                </a:lnTo>
                <a:lnTo>
                  <a:pt x="887" y="141"/>
                </a:lnTo>
                <a:lnTo>
                  <a:pt x="897" y="143"/>
                </a:lnTo>
                <a:lnTo>
                  <a:pt x="904" y="143"/>
                </a:lnTo>
                <a:lnTo>
                  <a:pt x="911" y="145"/>
                </a:lnTo>
                <a:lnTo>
                  <a:pt x="921" y="145"/>
                </a:lnTo>
                <a:lnTo>
                  <a:pt x="927" y="143"/>
                </a:lnTo>
                <a:lnTo>
                  <a:pt x="937" y="141"/>
                </a:lnTo>
                <a:lnTo>
                  <a:pt x="944" y="139"/>
                </a:lnTo>
                <a:lnTo>
                  <a:pt x="937" y="135"/>
                </a:lnTo>
                <a:lnTo>
                  <a:pt x="934" y="129"/>
                </a:lnTo>
                <a:lnTo>
                  <a:pt x="930" y="125"/>
                </a:lnTo>
                <a:lnTo>
                  <a:pt x="930" y="121"/>
                </a:lnTo>
                <a:lnTo>
                  <a:pt x="930" y="117"/>
                </a:lnTo>
                <a:lnTo>
                  <a:pt x="930" y="110"/>
                </a:lnTo>
                <a:lnTo>
                  <a:pt x="930" y="106"/>
                </a:lnTo>
                <a:lnTo>
                  <a:pt x="930" y="102"/>
                </a:lnTo>
                <a:lnTo>
                  <a:pt x="930" y="98"/>
                </a:lnTo>
                <a:lnTo>
                  <a:pt x="930" y="92"/>
                </a:lnTo>
                <a:lnTo>
                  <a:pt x="927" y="88"/>
                </a:lnTo>
                <a:lnTo>
                  <a:pt x="924" y="86"/>
                </a:lnTo>
                <a:lnTo>
                  <a:pt x="917" y="82"/>
                </a:lnTo>
                <a:lnTo>
                  <a:pt x="911" y="80"/>
                </a:lnTo>
                <a:lnTo>
                  <a:pt x="904" y="78"/>
                </a:lnTo>
                <a:lnTo>
                  <a:pt x="894" y="78"/>
                </a:lnTo>
                <a:lnTo>
                  <a:pt x="881" y="84"/>
                </a:lnTo>
                <a:lnTo>
                  <a:pt x="868" y="88"/>
                </a:lnTo>
                <a:lnTo>
                  <a:pt x="854" y="88"/>
                </a:lnTo>
                <a:lnTo>
                  <a:pt x="841" y="90"/>
                </a:lnTo>
                <a:lnTo>
                  <a:pt x="834" y="90"/>
                </a:lnTo>
                <a:lnTo>
                  <a:pt x="824" y="90"/>
                </a:lnTo>
                <a:lnTo>
                  <a:pt x="818" y="90"/>
                </a:lnTo>
                <a:lnTo>
                  <a:pt x="811" y="92"/>
                </a:lnTo>
                <a:lnTo>
                  <a:pt x="805" y="94"/>
                </a:lnTo>
                <a:lnTo>
                  <a:pt x="798" y="98"/>
                </a:lnTo>
                <a:lnTo>
                  <a:pt x="791" y="100"/>
                </a:lnTo>
                <a:lnTo>
                  <a:pt x="785" y="104"/>
                </a:lnTo>
                <a:lnTo>
                  <a:pt x="778" y="104"/>
                </a:lnTo>
                <a:lnTo>
                  <a:pt x="768" y="104"/>
                </a:lnTo>
                <a:lnTo>
                  <a:pt x="762" y="104"/>
                </a:lnTo>
                <a:lnTo>
                  <a:pt x="758" y="104"/>
                </a:lnTo>
                <a:lnTo>
                  <a:pt x="752" y="104"/>
                </a:lnTo>
                <a:lnTo>
                  <a:pt x="748" y="108"/>
                </a:lnTo>
                <a:lnTo>
                  <a:pt x="742" y="110"/>
                </a:lnTo>
                <a:lnTo>
                  <a:pt x="742" y="117"/>
                </a:lnTo>
                <a:lnTo>
                  <a:pt x="742" y="121"/>
                </a:lnTo>
                <a:lnTo>
                  <a:pt x="745" y="127"/>
                </a:lnTo>
                <a:lnTo>
                  <a:pt x="748" y="131"/>
                </a:lnTo>
                <a:lnTo>
                  <a:pt x="752" y="137"/>
                </a:lnTo>
                <a:lnTo>
                  <a:pt x="758" y="143"/>
                </a:lnTo>
                <a:lnTo>
                  <a:pt x="762" y="151"/>
                </a:lnTo>
                <a:lnTo>
                  <a:pt x="768" y="155"/>
                </a:lnTo>
                <a:lnTo>
                  <a:pt x="775" y="160"/>
                </a:lnTo>
                <a:lnTo>
                  <a:pt x="781" y="166"/>
                </a:lnTo>
                <a:lnTo>
                  <a:pt x="788" y="172"/>
                </a:lnTo>
                <a:lnTo>
                  <a:pt x="778" y="172"/>
                </a:lnTo>
                <a:lnTo>
                  <a:pt x="768" y="174"/>
                </a:lnTo>
                <a:lnTo>
                  <a:pt x="762" y="176"/>
                </a:lnTo>
                <a:lnTo>
                  <a:pt x="752" y="178"/>
                </a:lnTo>
                <a:lnTo>
                  <a:pt x="745" y="180"/>
                </a:lnTo>
                <a:lnTo>
                  <a:pt x="735" y="180"/>
                </a:lnTo>
                <a:lnTo>
                  <a:pt x="725" y="182"/>
                </a:lnTo>
                <a:lnTo>
                  <a:pt x="719" y="184"/>
                </a:lnTo>
                <a:lnTo>
                  <a:pt x="709" y="186"/>
                </a:lnTo>
                <a:lnTo>
                  <a:pt x="702" y="190"/>
                </a:lnTo>
                <a:lnTo>
                  <a:pt x="692" y="190"/>
                </a:lnTo>
                <a:lnTo>
                  <a:pt x="685" y="194"/>
                </a:lnTo>
                <a:lnTo>
                  <a:pt x="675" y="194"/>
                </a:lnTo>
                <a:lnTo>
                  <a:pt x="666" y="196"/>
                </a:lnTo>
                <a:lnTo>
                  <a:pt x="659" y="201"/>
                </a:lnTo>
                <a:lnTo>
                  <a:pt x="652" y="203"/>
                </a:lnTo>
                <a:lnTo>
                  <a:pt x="659" y="196"/>
                </a:lnTo>
                <a:lnTo>
                  <a:pt x="669" y="194"/>
                </a:lnTo>
                <a:lnTo>
                  <a:pt x="679" y="188"/>
                </a:lnTo>
                <a:lnTo>
                  <a:pt x="689" y="184"/>
                </a:lnTo>
                <a:lnTo>
                  <a:pt x="699" y="182"/>
                </a:lnTo>
                <a:lnTo>
                  <a:pt x="709" y="180"/>
                </a:lnTo>
                <a:lnTo>
                  <a:pt x="722" y="180"/>
                </a:lnTo>
                <a:lnTo>
                  <a:pt x="735" y="180"/>
                </a:lnTo>
                <a:lnTo>
                  <a:pt x="735" y="176"/>
                </a:lnTo>
                <a:lnTo>
                  <a:pt x="735" y="172"/>
                </a:lnTo>
                <a:lnTo>
                  <a:pt x="735" y="166"/>
                </a:lnTo>
                <a:lnTo>
                  <a:pt x="735" y="162"/>
                </a:lnTo>
                <a:lnTo>
                  <a:pt x="732" y="158"/>
                </a:lnTo>
                <a:lnTo>
                  <a:pt x="732" y="151"/>
                </a:lnTo>
                <a:lnTo>
                  <a:pt x="728" y="147"/>
                </a:lnTo>
                <a:lnTo>
                  <a:pt x="725" y="143"/>
                </a:lnTo>
                <a:lnTo>
                  <a:pt x="719" y="135"/>
                </a:lnTo>
                <a:lnTo>
                  <a:pt x="709" y="127"/>
                </a:lnTo>
                <a:lnTo>
                  <a:pt x="702" y="121"/>
                </a:lnTo>
                <a:lnTo>
                  <a:pt x="695" y="119"/>
                </a:lnTo>
                <a:lnTo>
                  <a:pt x="682" y="123"/>
                </a:lnTo>
                <a:lnTo>
                  <a:pt x="666" y="129"/>
                </a:lnTo>
                <a:lnTo>
                  <a:pt x="656" y="135"/>
                </a:lnTo>
                <a:lnTo>
                  <a:pt x="639" y="141"/>
                </a:lnTo>
                <a:lnTo>
                  <a:pt x="632" y="143"/>
                </a:lnTo>
                <a:lnTo>
                  <a:pt x="626" y="145"/>
                </a:lnTo>
                <a:lnTo>
                  <a:pt x="619" y="147"/>
                </a:lnTo>
                <a:lnTo>
                  <a:pt x="613" y="151"/>
                </a:lnTo>
                <a:lnTo>
                  <a:pt x="603" y="151"/>
                </a:lnTo>
                <a:lnTo>
                  <a:pt x="596" y="153"/>
                </a:lnTo>
                <a:lnTo>
                  <a:pt x="586" y="153"/>
                </a:lnTo>
                <a:lnTo>
                  <a:pt x="579" y="155"/>
                </a:lnTo>
                <a:lnTo>
                  <a:pt x="569" y="158"/>
                </a:lnTo>
                <a:lnTo>
                  <a:pt x="563" y="160"/>
                </a:lnTo>
                <a:lnTo>
                  <a:pt x="556" y="162"/>
                </a:lnTo>
                <a:lnTo>
                  <a:pt x="553" y="166"/>
                </a:lnTo>
                <a:lnTo>
                  <a:pt x="553" y="174"/>
                </a:lnTo>
                <a:lnTo>
                  <a:pt x="556" y="182"/>
                </a:lnTo>
                <a:lnTo>
                  <a:pt x="563" y="190"/>
                </a:lnTo>
                <a:lnTo>
                  <a:pt x="569" y="201"/>
                </a:lnTo>
                <a:lnTo>
                  <a:pt x="573" y="203"/>
                </a:lnTo>
                <a:lnTo>
                  <a:pt x="573" y="209"/>
                </a:lnTo>
                <a:lnTo>
                  <a:pt x="576" y="213"/>
                </a:lnTo>
                <a:lnTo>
                  <a:pt x="576" y="217"/>
                </a:lnTo>
                <a:lnTo>
                  <a:pt x="583" y="219"/>
                </a:lnTo>
                <a:lnTo>
                  <a:pt x="589" y="219"/>
                </a:lnTo>
                <a:lnTo>
                  <a:pt x="579" y="221"/>
                </a:lnTo>
                <a:lnTo>
                  <a:pt x="573" y="223"/>
                </a:lnTo>
                <a:lnTo>
                  <a:pt x="563" y="227"/>
                </a:lnTo>
                <a:lnTo>
                  <a:pt x="556" y="229"/>
                </a:lnTo>
                <a:lnTo>
                  <a:pt x="553" y="223"/>
                </a:lnTo>
                <a:lnTo>
                  <a:pt x="550" y="219"/>
                </a:lnTo>
                <a:lnTo>
                  <a:pt x="546" y="215"/>
                </a:lnTo>
                <a:lnTo>
                  <a:pt x="543" y="211"/>
                </a:lnTo>
                <a:lnTo>
                  <a:pt x="540" y="203"/>
                </a:lnTo>
                <a:lnTo>
                  <a:pt x="533" y="199"/>
                </a:lnTo>
                <a:lnTo>
                  <a:pt x="530" y="194"/>
                </a:lnTo>
                <a:lnTo>
                  <a:pt x="526" y="190"/>
                </a:lnTo>
                <a:lnTo>
                  <a:pt x="520" y="184"/>
                </a:lnTo>
                <a:lnTo>
                  <a:pt x="516" y="180"/>
                </a:lnTo>
                <a:lnTo>
                  <a:pt x="510" y="176"/>
                </a:lnTo>
                <a:lnTo>
                  <a:pt x="507" y="174"/>
                </a:lnTo>
                <a:lnTo>
                  <a:pt x="493" y="170"/>
                </a:lnTo>
                <a:lnTo>
                  <a:pt x="487" y="170"/>
                </a:lnTo>
                <a:lnTo>
                  <a:pt x="477" y="174"/>
                </a:lnTo>
                <a:lnTo>
                  <a:pt x="467" y="180"/>
                </a:lnTo>
                <a:lnTo>
                  <a:pt x="464" y="184"/>
                </a:lnTo>
                <a:lnTo>
                  <a:pt x="460" y="190"/>
                </a:lnTo>
                <a:lnTo>
                  <a:pt x="457" y="194"/>
                </a:lnTo>
                <a:lnTo>
                  <a:pt x="457" y="196"/>
                </a:lnTo>
                <a:lnTo>
                  <a:pt x="447" y="196"/>
                </a:lnTo>
                <a:lnTo>
                  <a:pt x="434" y="194"/>
                </a:lnTo>
                <a:lnTo>
                  <a:pt x="420" y="194"/>
                </a:lnTo>
                <a:lnTo>
                  <a:pt x="411" y="196"/>
                </a:lnTo>
                <a:lnTo>
                  <a:pt x="397" y="196"/>
                </a:lnTo>
                <a:lnTo>
                  <a:pt x="387" y="196"/>
                </a:lnTo>
                <a:lnTo>
                  <a:pt x="374" y="199"/>
                </a:lnTo>
                <a:lnTo>
                  <a:pt x="364" y="201"/>
                </a:lnTo>
                <a:lnTo>
                  <a:pt x="354" y="203"/>
                </a:lnTo>
                <a:lnTo>
                  <a:pt x="341" y="207"/>
                </a:lnTo>
                <a:lnTo>
                  <a:pt x="334" y="211"/>
                </a:lnTo>
                <a:lnTo>
                  <a:pt x="328" y="217"/>
                </a:lnTo>
                <a:lnTo>
                  <a:pt x="318" y="221"/>
                </a:lnTo>
                <a:lnTo>
                  <a:pt x="311" y="227"/>
                </a:lnTo>
                <a:lnTo>
                  <a:pt x="308" y="233"/>
                </a:lnTo>
                <a:lnTo>
                  <a:pt x="305" y="242"/>
                </a:lnTo>
                <a:lnTo>
                  <a:pt x="308" y="246"/>
                </a:lnTo>
                <a:lnTo>
                  <a:pt x="314" y="250"/>
                </a:lnTo>
                <a:lnTo>
                  <a:pt x="324" y="256"/>
                </a:lnTo>
                <a:lnTo>
                  <a:pt x="331" y="260"/>
                </a:lnTo>
                <a:lnTo>
                  <a:pt x="338" y="254"/>
                </a:lnTo>
                <a:lnTo>
                  <a:pt x="348" y="250"/>
                </a:lnTo>
                <a:lnTo>
                  <a:pt x="358" y="248"/>
                </a:lnTo>
                <a:lnTo>
                  <a:pt x="367" y="244"/>
                </a:lnTo>
                <a:lnTo>
                  <a:pt x="374" y="242"/>
                </a:lnTo>
                <a:lnTo>
                  <a:pt x="387" y="240"/>
                </a:lnTo>
                <a:lnTo>
                  <a:pt x="397" y="240"/>
                </a:lnTo>
                <a:lnTo>
                  <a:pt x="411" y="240"/>
                </a:lnTo>
                <a:lnTo>
                  <a:pt x="420" y="240"/>
                </a:lnTo>
                <a:lnTo>
                  <a:pt x="430" y="240"/>
                </a:lnTo>
                <a:lnTo>
                  <a:pt x="444" y="240"/>
                </a:lnTo>
                <a:lnTo>
                  <a:pt x="454" y="242"/>
                </a:lnTo>
                <a:lnTo>
                  <a:pt x="467" y="242"/>
                </a:lnTo>
                <a:lnTo>
                  <a:pt x="480" y="244"/>
                </a:lnTo>
                <a:lnTo>
                  <a:pt x="490" y="244"/>
                </a:lnTo>
                <a:lnTo>
                  <a:pt x="503" y="246"/>
                </a:lnTo>
                <a:lnTo>
                  <a:pt x="490" y="250"/>
                </a:lnTo>
                <a:lnTo>
                  <a:pt x="477" y="254"/>
                </a:lnTo>
                <a:lnTo>
                  <a:pt x="464" y="258"/>
                </a:lnTo>
                <a:lnTo>
                  <a:pt x="450" y="264"/>
                </a:lnTo>
                <a:lnTo>
                  <a:pt x="437" y="268"/>
                </a:lnTo>
                <a:lnTo>
                  <a:pt x="424" y="272"/>
                </a:lnTo>
                <a:lnTo>
                  <a:pt x="411" y="278"/>
                </a:lnTo>
                <a:lnTo>
                  <a:pt x="397" y="285"/>
                </a:lnTo>
                <a:lnTo>
                  <a:pt x="384" y="289"/>
                </a:lnTo>
                <a:lnTo>
                  <a:pt x="371" y="293"/>
                </a:lnTo>
                <a:lnTo>
                  <a:pt x="358" y="301"/>
                </a:lnTo>
                <a:lnTo>
                  <a:pt x="348" y="305"/>
                </a:lnTo>
                <a:lnTo>
                  <a:pt x="334" y="309"/>
                </a:lnTo>
                <a:lnTo>
                  <a:pt x="324" y="315"/>
                </a:lnTo>
                <a:lnTo>
                  <a:pt x="311" y="324"/>
                </a:lnTo>
                <a:lnTo>
                  <a:pt x="298" y="330"/>
                </a:lnTo>
                <a:lnTo>
                  <a:pt x="285" y="334"/>
                </a:lnTo>
                <a:lnTo>
                  <a:pt x="275" y="340"/>
                </a:lnTo>
                <a:lnTo>
                  <a:pt x="261" y="346"/>
                </a:lnTo>
                <a:lnTo>
                  <a:pt x="252" y="352"/>
                </a:lnTo>
                <a:lnTo>
                  <a:pt x="238" y="360"/>
                </a:lnTo>
                <a:lnTo>
                  <a:pt x="228" y="367"/>
                </a:lnTo>
                <a:lnTo>
                  <a:pt x="215" y="373"/>
                </a:lnTo>
                <a:lnTo>
                  <a:pt x="205" y="381"/>
                </a:lnTo>
                <a:lnTo>
                  <a:pt x="192" y="387"/>
                </a:lnTo>
                <a:lnTo>
                  <a:pt x="182" y="393"/>
                </a:lnTo>
                <a:lnTo>
                  <a:pt x="172" y="401"/>
                </a:lnTo>
                <a:lnTo>
                  <a:pt x="159" y="410"/>
                </a:lnTo>
                <a:lnTo>
                  <a:pt x="149" y="416"/>
                </a:lnTo>
                <a:lnTo>
                  <a:pt x="139" y="424"/>
                </a:lnTo>
                <a:lnTo>
                  <a:pt x="129" y="432"/>
                </a:lnTo>
                <a:lnTo>
                  <a:pt x="119" y="440"/>
                </a:lnTo>
                <a:lnTo>
                  <a:pt x="0" y="379"/>
                </a:lnTo>
                <a:lnTo>
                  <a:pt x="6" y="373"/>
                </a:lnTo>
                <a:lnTo>
                  <a:pt x="13" y="369"/>
                </a:lnTo>
                <a:lnTo>
                  <a:pt x="20" y="362"/>
                </a:lnTo>
                <a:lnTo>
                  <a:pt x="30" y="358"/>
                </a:lnTo>
                <a:lnTo>
                  <a:pt x="33" y="352"/>
                </a:lnTo>
                <a:lnTo>
                  <a:pt x="40" y="348"/>
                </a:lnTo>
                <a:lnTo>
                  <a:pt x="50" y="344"/>
                </a:lnTo>
                <a:lnTo>
                  <a:pt x="56" y="338"/>
                </a:lnTo>
                <a:lnTo>
                  <a:pt x="63" y="334"/>
                </a:lnTo>
                <a:lnTo>
                  <a:pt x="69" y="328"/>
                </a:lnTo>
                <a:lnTo>
                  <a:pt x="79" y="324"/>
                </a:lnTo>
                <a:lnTo>
                  <a:pt x="86" y="317"/>
                </a:lnTo>
                <a:lnTo>
                  <a:pt x="93" y="313"/>
                </a:lnTo>
                <a:lnTo>
                  <a:pt x="103" y="309"/>
                </a:lnTo>
                <a:lnTo>
                  <a:pt x="109" y="305"/>
                </a:lnTo>
                <a:lnTo>
                  <a:pt x="119" y="301"/>
                </a:lnTo>
                <a:lnTo>
                  <a:pt x="122" y="297"/>
                </a:lnTo>
                <a:lnTo>
                  <a:pt x="132" y="291"/>
                </a:lnTo>
                <a:lnTo>
                  <a:pt x="139" y="287"/>
                </a:lnTo>
                <a:lnTo>
                  <a:pt x="149" y="285"/>
                </a:lnTo>
                <a:lnTo>
                  <a:pt x="156" y="278"/>
                </a:lnTo>
                <a:lnTo>
                  <a:pt x="162" y="274"/>
                </a:lnTo>
                <a:lnTo>
                  <a:pt x="172" y="270"/>
                </a:lnTo>
                <a:lnTo>
                  <a:pt x="179" y="266"/>
                </a:lnTo>
                <a:lnTo>
                  <a:pt x="189" y="262"/>
                </a:lnTo>
                <a:lnTo>
                  <a:pt x="195" y="258"/>
                </a:lnTo>
                <a:lnTo>
                  <a:pt x="205" y="254"/>
                </a:lnTo>
                <a:lnTo>
                  <a:pt x="212" y="250"/>
                </a:lnTo>
                <a:lnTo>
                  <a:pt x="218" y="246"/>
                </a:lnTo>
                <a:lnTo>
                  <a:pt x="228" y="242"/>
                </a:lnTo>
                <a:lnTo>
                  <a:pt x="235" y="237"/>
                </a:lnTo>
                <a:lnTo>
                  <a:pt x="245" y="235"/>
                </a:lnTo>
                <a:lnTo>
                  <a:pt x="252" y="231"/>
                </a:lnTo>
                <a:lnTo>
                  <a:pt x="261" y="227"/>
                </a:lnTo>
                <a:lnTo>
                  <a:pt x="268" y="223"/>
                </a:lnTo>
                <a:lnTo>
                  <a:pt x="275" y="219"/>
                </a:lnTo>
                <a:lnTo>
                  <a:pt x="281" y="215"/>
                </a:lnTo>
                <a:lnTo>
                  <a:pt x="295" y="213"/>
                </a:lnTo>
                <a:lnTo>
                  <a:pt x="301" y="209"/>
                </a:lnTo>
                <a:lnTo>
                  <a:pt x="308" y="205"/>
                </a:lnTo>
                <a:lnTo>
                  <a:pt x="318" y="201"/>
                </a:lnTo>
                <a:lnTo>
                  <a:pt x="328" y="199"/>
                </a:lnTo>
                <a:lnTo>
                  <a:pt x="334" y="194"/>
                </a:lnTo>
                <a:lnTo>
                  <a:pt x="341" y="192"/>
                </a:lnTo>
                <a:lnTo>
                  <a:pt x="351" y="188"/>
                </a:lnTo>
                <a:lnTo>
                  <a:pt x="361" y="184"/>
                </a:lnTo>
                <a:lnTo>
                  <a:pt x="367" y="182"/>
                </a:lnTo>
                <a:lnTo>
                  <a:pt x="377" y="180"/>
                </a:lnTo>
                <a:lnTo>
                  <a:pt x="384" y="176"/>
                </a:lnTo>
                <a:lnTo>
                  <a:pt x="394" y="174"/>
                </a:lnTo>
                <a:lnTo>
                  <a:pt x="401" y="170"/>
                </a:lnTo>
                <a:lnTo>
                  <a:pt x="411" y="166"/>
                </a:lnTo>
                <a:lnTo>
                  <a:pt x="420" y="164"/>
                </a:lnTo>
                <a:lnTo>
                  <a:pt x="427" y="160"/>
                </a:lnTo>
                <a:lnTo>
                  <a:pt x="440" y="158"/>
                </a:lnTo>
                <a:lnTo>
                  <a:pt x="447" y="155"/>
                </a:lnTo>
                <a:lnTo>
                  <a:pt x="454" y="153"/>
                </a:lnTo>
                <a:lnTo>
                  <a:pt x="464" y="151"/>
                </a:lnTo>
                <a:lnTo>
                  <a:pt x="473" y="147"/>
                </a:lnTo>
                <a:lnTo>
                  <a:pt x="483" y="143"/>
                </a:lnTo>
                <a:lnTo>
                  <a:pt x="490" y="141"/>
                </a:lnTo>
                <a:lnTo>
                  <a:pt x="500" y="139"/>
                </a:lnTo>
                <a:lnTo>
                  <a:pt x="510" y="137"/>
                </a:lnTo>
                <a:lnTo>
                  <a:pt x="520" y="135"/>
                </a:lnTo>
                <a:lnTo>
                  <a:pt x="523" y="137"/>
                </a:lnTo>
                <a:lnTo>
                  <a:pt x="530" y="139"/>
                </a:lnTo>
                <a:lnTo>
                  <a:pt x="543" y="143"/>
                </a:lnTo>
                <a:lnTo>
                  <a:pt x="553" y="145"/>
                </a:lnTo>
                <a:lnTo>
                  <a:pt x="563" y="143"/>
                </a:lnTo>
                <a:lnTo>
                  <a:pt x="566" y="141"/>
                </a:lnTo>
                <a:lnTo>
                  <a:pt x="569" y="137"/>
                </a:lnTo>
                <a:lnTo>
                  <a:pt x="573" y="133"/>
                </a:lnTo>
                <a:lnTo>
                  <a:pt x="573" y="125"/>
                </a:lnTo>
                <a:lnTo>
                  <a:pt x="576" y="119"/>
                </a:lnTo>
                <a:lnTo>
                  <a:pt x="583" y="117"/>
                </a:lnTo>
                <a:lnTo>
                  <a:pt x="593" y="115"/>
                </a:lnTo>
                <a:lnTo>
                  <a:pt x="599" y="110"/>
                </a:lnTo>
                <a:lnTo>
                  <a:pt x="606" y="108"/>
                </a:lnTo>
                <a:lnTo>
                  <a:pt x="613" y="106"/>
                </a:lnTo>
                <a:lnTo>
                  <a:pt x="626" y="104"/>
                </a:lnTo>
                <a:lnTo>
                  <a:pt x="632" y="102"/>
                </a:lnTo>
                <a:lnTo>
                  <a:pt x="639" y="100"/>
                </a:lnTo>
                <a:lnTo>
                  <a:pt x="649" y="98"/>
                </a:lnTo>
                <a:lnTo>
                  <a:pt x="656" y="98"/>
                </a:lnTo>
                <a:lnTo>
                  <a:pt x="666" y="96"/>
                </a:lnTo>
                <a:lnTo>
                  <a:pt x="672" y="94"/>
                </a:lnTo>
                <a:lnTo>
                  <a:pt x="682" y="90"/>
                </a:lnTo>
                <a:lnTo>
                  <a:pt x="692" y="90"/>
                </a:lnTo>
                <a:lnTo>
                  <a:pt x="699" y="88"/>
                </a:lnTo>
                <a:lnTo>
                  <a:pt x="709" y="86"/>
                </a:lnTo>
                <a:lnTo>
                  <a:pt x="719" y="84"/>
                </a:lnTo>
                <a:lnTo>
                  <a:pt x="725" y="82"/>
                </a:lnTo>
                <a:lnTo>
                  <a:pt x="735" y="82"/>
                </a:lnTo>
                <a:lnTo>
                  <a:pt x="745" y="80"/>
                </a:lnTo>
                <a:lnTo>
                  <a:pt x="752" y="78"/>
                </a:lnTo>
                <a:lnTo>
                  <a:pt x="758" y="74"/>
                </a:lnTo>
                <a:lnTo>
                  <a:pt x="768" y="74"/>
                </a:lnTo>
                <a:lnTo>
                  <a:pt x="778" y="71"/>
                </a:lnTo>
                <a:lnTo>
                  <a:pt x="785" y="69"/>
                </a:lnTo>
                <a:lnTo>
                  <a:pt x="795" y="67"/>
                </a:lnTo>
                <a:lnTo>
                  <a:pt x="805" y="65"/>
                </a:lnTo>
                <a:lnTo>
                  <a:pt x="815" y="65"/>
                </a:lnTo>
                <a:lnTo>
                  <a:pt x="821" y="63"/>
                </a:lnTo>
                <a:lnTo>
                  <a:pt x="831" y="63"/>
                </a:lnTo>
                <a:lnTo>
                  <a:pt x="841" y="61"/>
                </a:lnTo>
                <a:lnTo>
                  <a:pt x="848" y="61"/>
                </a:lnTo>
                <a:lnTo>
                  <a:pt x="854" y="63"/>
                </a:lnTo>
                <a:lnTo>
                  <a:pt x="864" y="65"/>
                </a:lnTo>
                <a:lnTo>
                  <a:pt x="874" y="67"/>
                </a:lnTo>
                <a:lnTo>
                  <a:pt x="884" y="67"/>
                </a:lnTo>
                <a:lnTo>
                  <a:pt x="891" y="67"/>
                </a:lnTo>
                <a:lnTo>
                  <a:pt x="901" y="65"/>
                </a:lnTo>
                <a:lnTo>
                  <a:pt x="907" y="63"/>
                </a:lnTo>
                <a:lnTo>
                  <a:pt x="917" y="59"/>
                </a:lnTo>
                <a:lnTo>
                  <a:pt x="917" y="51"/>
                </a:lnTo>
                <a:lnTo>
                  <a:pt x="921" y="49"/>
                </a:lnTo>
                <a:lnTo>
                  <a:pt x="930" y="47"/>
                </a:lnTo>
                <a:lnTo>
                  <a:pt x="944" y="45"/>
                </a:lnTo>
                <a:lnTo>
                  <a:pt x="940" y="49"/>
                </a:lnTo>
                <a:lnTo>
                  <a:pt x="937" y="55"/>
                </a:lnTo>
                <a:lnTo>
                  <a:pt x="937" y="59"/>
                </a:lnTo>
                <a:lnTo>
                  <a:pt x="937" y="61"/>
                </a:lnTo>
                <a:lnTo>
                  <a:pt x="944" y="63"/>
                </a:lnTo>
                <a:lnTo>
                  <a:pt x="950" y="65"/>
                </a:lnTo>
                <a:lnTo>
                  <a:pt x="957" y="65"/>
                </a:lnTo>
                <a:lnTo>
                  <a:pt x="960" y="67"/>
                </a:lnTo>
                <a:lnTo>
                  <a:pt x="970" y="65"/>
                </a:lnTo>
                <a:lnTo>
                  <a:pt x="977" y="61"/>
                </a:lnTo>
                <a:lnTo>
                  <a:pt x="977" y="57"/>
                </a:lnTo>
                <a:lnTo>
                  <a:pt x="977" y="51"/>
                </a:lnTo>
                <a:lnTo>
                  <a:pt x="974" y="45"/>
                </a:lnTo>
                <a:lnTo>
                  <a:pt x="970" y="41"/>
                </a:lnTo>
                <a:lnTo>
                  <a:pt x="980" y="39"/>
                </a:lnTo>
                <a:lnTo>
                  <a:pt x="993" y="37"/>
                </a:lnTo>
                <a:lnTo>
                  <a:pt x="1003" y="35"/>
                </a:lnTo>
                <a:lnTo>
                  <a:pt x="1017" y="33"/>
                </a:lnTo>
                <a:lnTo>
                  <a:pt x="1026" y="30"/>
                </a:lnTo>
                <a:lnTo>
                  <a:pt x="1036" y="30"/>
                </a:lnTo>
                <a:lnTo>
                  <a:pt x="1050" y="28"/>
                </a:lnTo>
                <a:lnTo>
                  <a:pt x="1063" y="28"/>
                </a:lnTo>
                <a:lnTo>
                  <a:pt x="1073" y="26"/>
                </a:lnTo>
                <a:lnTo>
                  <a:pt x="1083" y="24"/>
                </a:lnTo>
                <a:lnTo>
                  <a:pt x="1096" y="24"/>
                </a:lnTo>
                <a:lnTo>
                  <a:pt x="1109" y="22"/>
                </a:lnTo>
                <a:lnTo>
                  <a:pt x="1119" y="22"/>
                </a:lnTo>
                <a:lnTo>
                  <a:pt x="1129" y="20"/>
                </a:lnTo>
                <a:lnTo>
                  <a:pt x="1142" y="18"/>
                </a:lnTo>
                <a:lnTo>
                  <a:pt x="1152" y="18"/>
                </a:lnTo>
                <a:lnTo>
                  <a:pt x="1162" y="14"/>
                </a:lnTo>
                <a:lnTo>
                  <a:pt x="1176" y="14"/>
                </a:lnTo>
                <a:lnTo>
                  <a:pt x="1185" y="12"/>
                </a:lnTo>
                <a:lnTo>
                  <a:pt x="1199" y="12"/>
                </a:lnTo>
                <a:lnTo>
                  <a:pt x="1209" y="10"/>
                </a:lnTo>
                <a:lnTo>
                  <a:pt x="1222" y="10"/>
                </a:lnTo>
                <a:lnTo>
                  <a:pt x="1232" y="8"/>
                </a:lnTo>
                <a:lnTo>
                  <a:pt x="1242" y="8"/>
                </a:lnTo>
                <a:lnTo>
                  <a:pt x="1252" y="6"/>
                </a:lnTo>
                <a:lnTo>
                  <a:pt x="1265" y="6"/>
                </a:lnTo>
                <a:lnTo>
                  <a:pt x="1275" y="4"/>
                </a:lnTo>
                <a:lnTo>
                  <a:pt x="1288" y="4"/>
                </a:lnTo>
                <a:lnTo>
                  <a:pt x="1298" y="2"/>
                </a:lnTo>
                <a:lnTo>
                  <a:pt x="1311" y="2"/>
                </a:lnTo>
                <a:lnTo>
                  <a:pt x="1321" y="0"/>
                </a:lnTo>
                <a:lnTo>
                  <a:pt x="1334" y="0"/>
                </a:lnTo>
                <a:lnTo>
                  <a:pt x="13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3434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26080" y="48769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0683200">
            <a:off x="5105520" y="464796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0707200">
            <a:off x="5562720" y="44953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0.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44792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re a way to express numbers less than one within the decimal syst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1240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8</a:t>
            </a:r>
            <a:r>
              <a:rPr b="0" lang="en-US" sz="5400" spc="-1" strike="noStrike">
                <a:solidFill>
                  <a:srgbClr val="808080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ff9900"/>
                </a:solidFill>
                <a:latin typeface="Comic Sans MS"/>
              </a:rPr>
              <a:t>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411480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4 x 10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8 x 1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800" spc="-1" strike="noStrike">
                <a:solidFill>
                  <a:srgbClr val="808080"/>
                </a:solidFill>
                <a:latin typeface="Comic Sans MS"/>
              </a:rPr>
              <a:t>2 x 1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5400" spc="-1" strike="noStrike">
                <a:solidFill>
                  <a:srgbClr val="ff9900"/>
                </a:solidFill>
                <a:latin typeface="Comic Sans MS"/>
              </a:rPr>
              <a:t>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600200" y="4243320"/>
            <a:ext cx="6783480" cy="2129400"/>
            <a:chOff x="1600200" y="4243320"/>
            <a:chExt cx="6783480" cy="2129400"/>
          </a:xfrm>
        </p:grpSpPr>
        <p:sp>
          <p:nvSpPr>
            <p:cNvPr id="370" name=""/>
            <p:cNvSpPr/>
            <p:nvPr/>
          </p:nvSpPr>
          <p:spPr>
            <a:xfrm>
              <a:off x="1600200" y="5181480"/>
              <a:ext cx="640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How do we represent with powers of 10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50160" y="4243320"/>
              <a:ext cx="533520" cy="7621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62920" y="5181480"/>
              <a:ext cx="53316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6"/>
              <a:endCxn id="371" idx="4"/>
            </p:cNvCxnSpPr>
            <p:nvPr/>
          </p:nvCxnSpPr>
          <p:spPr>
            <a:xfrm flipV="1">
              <a:off x="7695720" y="5005080"/>
              <a:ext cx="421560" cy="5198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dissolv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15238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can 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362320" y="2438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1/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37339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 an equivalent f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76920" y="51055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5/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1606680" cy="2133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914400" y="3809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 x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8 x 10 + 2 x 1 + 5 x 1/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160020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82 </a:t>
            </a: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1/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= 482 </a:t>
            </a: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5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2590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 x 100 + 8 x 10 + 2 x 1 + </a:t>
            </a: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x 1/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91440" y="380988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 x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8 x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 x 1 + 5 x 1/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1440" y="380988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 x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0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8 x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 x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5 x 1/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91080" y="3809880"/>
            <a:ext cx="71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 x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00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8 x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 x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1/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4952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. .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0" y="4952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62320" y="4952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8120" y="4952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4952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/10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48320" y="49528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/100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952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/1000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772400" y="4952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152388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82 5/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24382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ur hundred eighty two and five ten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380988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se a short hand no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5320" y="46483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82.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209680" y="5257440"/>
            <a:ext cx="1524240" cy="642960"/>
            <a:chOff x="2209680" y="5257440"/>
            <a:chExt cx="1524240" cy="642960"/>
          </a:xfrm>
        </p:grpSpPr>
        <p:sp>
          <p:nvSpPr>
            <p:cNvPr id="401" name=""/>
            <p:cNvSpPr/>
            <p:nvPr/>
          </p:nvSpPr>
          <p:spPr>
            <a:xfrm>
              <a:off x="2209680" y="525780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124080" y="5257440"/>
              <a:ext cx="6098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124080" y="5409720"/>
            <a:ext cx="990720" cy="1420200"/>
            <a:chOff x="3124080" y="5409720"/>
            <a:chExt cx="990720" cy="1420200"/>
          </a:xfrm>
        </p:grpSpPr>
        <p:sp>
          <p:nvSpPr>
            <p:cNvPr id="404" name=""/>
            <p:cNvSpPr/>
            <p:nvPr/>
          </p:nvSpPr>
          <p:spPr>
            <a:xfrm>
              <a:off x="3124080" y="563868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733920" y="5409720"/>
              <a:ext cx="3808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419720" y="5410080"/>
            <a:ext cx="380880" cy="1023840"/>
            <a:chOff x="4419720" y="5410080"/>
            <a:chExt cx="380880" cy="1023840"/>
          </a:xfrm>
        </p:grpSpPr>
        <p:sp>
          <p:nvSpPr>
            <p:cNvPr id="407" name=""/>
            <p:cNvSpPr/>
            <p:nvPr/>
          </p:nvSpPr>
          <p:spPr>
            <a:xfrm>
              <a:off x="4419720" y="579132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610160" y="5410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028840" y="5409720"/>
            <a:ext cx="3048480" cy="916920"/>
            <a:chOff x="5028840" y="5409720"/>
            <a:chExt cx="3048480" cy="916920"/>
          </a:xfrm>
        </p:grpSpPr>
        <p:sp>
          <p:nvSpPr>
            <p:cNvPr id="410" name=""/>
            <p:cNvSpPr/>
            <p:nvPr/>
          </p:nvSpPr>
          <p:spPr>
            <a:xfrm>
              <a:off x="5029200" y="57452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Decimal Poi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5028840" y="5409720"/>
              <a:ext cx="3049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486040" y="5181480"/>
            <a:ext cx="1752840" cy="642600"/>
            <a:chOff x="5486040" y="5181480"/>
            <a:chExt cx="1752840" cy="642600"/>
          </a:xfrm>
        </p:grpSpPr>
        <p:sp>
          <p:nvSpPr>
            <p:cNvPr id="413" name=""/>
            <p:cNvSpPr/>
            <p:nvPr/>
          </p:nvSpPr>
          <p:spPr>
            <a:xfrm>
              <a:off x="6095880" y="51814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/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5486040" y="525744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15238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049480" cy="17528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819520" y="22860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191120" y="2057400"/>
            <a:ext cx="609480" cy="1280880"/>
            <a:chOff x="4191120" y="2057400"/>
            <a:chExt cx="609480" cy="1280880"/>
          </a:xfrm>
        </p:grpSpPr>
        <p:sp>
          <p:nvSpPr>
            <p:cNvPr id="420" name=""/>
            <p:cNvSpPr/>
            <p:nvPr/>
          </p:nvSpPr>
          <p:spPr>
            <a:xfrm>
              <a:off x="4274640" y="20574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72840" y="269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1120" y="2695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143000" y="3276720"/>
            <a:ext cx="6857640" cy="1890360"/>
            <a:chOff x="1143000" y="3276720"/>
            <a:chExt cx="6857640" cy="1890360"/>
          </a:xfrm>
        </p:grpSpPr>
        <p:sp>
          <p:nvSpPr>
            <p:cNvPr id="424" name=""/>
            <p:cNvSpPr/>
            <p:nvPr/>
          </p:nvSpPr>
          <p:spPr>
            <a:xfrm>
              <a:off x="1143000" y="3276720"/>
              <a:ext cx="510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We want to expre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1219320" y="3886200"/>
              <a:ext cx="6781320" cy="1280880"/>
              <a:chOff x="1219320" y="3886200"/>
              <a:chExt cx="6781320" cy="128088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1219320" y="3886200"/>
                <a:ext cx="609480" cy="1280880"/>
                <a:chOff x="1219320" y="3886200"/>
                <a:chExt cx="609480" cy="12808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302840" y="388620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301040" y="452448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4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219320" y="452448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365120" y="4174920"/>
                <a:ext cx="6635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as      +        +          + …  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2617560" y="3886200"/>
                <a:ext cx="704880" cy="1280520"/>
                <a:chOff x="2617560" y="3886200"/>
                <a:chExt cx="704880" cy="12805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752200" y="3886200"/>
                  <a:ext cx="436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617560" y="452412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665080" y="452556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171760" y="3886200"/>
                <a:ext cx="1229400" cy="1280520"/>
                <a:chOff x="5171760" y="3886200"/>
                <a:chExt cx="1229400" cy="12805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586480" y="3886200"/>
                  <a:ext cx="400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171760" y="4524120"/>
                  <a:ext cx="1229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00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252760" y="4525560"/>
                  <a:ext cx="1066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3765960" y="3886200"/>
                <a:ext cx="966960" cy="1280520"/>
                <a:chOff x="3765960" y="3886200"/>
                <a:chExt cx="966960" cy="12805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018680" y="3886200"/>
                  <a:ext cx="462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765960" y="4524120"/>
                  <a:ext cx="966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0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792240" y="4525560"/>
                  <a:ext cx="91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3" name=""/>
          <p:cNvGrpSpPr/>
          <p:nvPr/>
        </p:nvGrpSpPr>
        <p:grpSpPr>
          <a:xfrm>
            <a:off x="3124080" y="5121360"/>
            <a:ext cx="2209680" cy="1280880"/>
            <a:chOff x="3124080" y="5121360"/>
            <a:chExt cx="2209680" cy="1280880"/>
          </a:xfrm>
        </p:grpSpPr>
        <p:grpSp>
          <p:nvGrpSpPr>
            <p:cNvPr id="444" name=""/>
            <p:cNvGrpSpPr/>
            <p:nvPr/>
          </p:nvGrpSpPr>
          <p:grpSpPr>
            <a:xfrm>
              <a:off x="3124080" y="5121360"/>
              <a:ext cx="609480" cy="1280880"/>
              <a:chOff x="3124080" y="5121360"/>
              <a:chExt cx="609480" cy="1280880"/>
            </a:xfrm>
          </p:grpSpPr>
          <p:sp>
            <p:nvSpPr>
              <p:cNvPr id="445" name=""/>
              <p:cNvSpPr/>
              <p:nvPr/>
            </p:nvSpPr>
            <p:spPr>
              <a:xfrm>
                <a:off x="3207600" y="51213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205800" y="57596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124080" y="575964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3960720" y="5121360"/>
              <a:ext cx="1373040" cy="1280520"/>
              <a:chOff x="3960720" y="5121360"/>
              <a:chExt cx="1373040" cy="1280520"/>
            </a:xfrm>
          </p:grpSpPr>
          <p:sp>
            <p:nvSpPr>
              <p:cNvPr id="449" name=""/>
              <p:cNvSpPr/>
              <p:nvPr/>
            </p:nvSpPr>
            <p:spPr>
              <a:xfrm>
                <a:off x="4113360" y="5121360"/>
                <a:ext cx="1066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113360" y="5759280"/>
                <a:ext cx="1066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x 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960720" y="5759280"/>
                <a:ext cx="137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5390280" y="5121360"/>
            <a:ext cx="1476720" cy="1280520"/>
            <a:chOff x="5390280" y="5121360"/>
            <a:chExt cx="1476720" cy="1280520"/>
          </a:xfrm>
        </p:grpSpPr>
        <p:sp>
          <p:nvSpPr>
            <p:cNvPr id="453" name=""/>
            <p:cNvSpPr/>
            <p:nvPr/>
          </p:nvSpPr>
          <p:spPr>
            <a:xfrm>
              <a:off x="5390280" y="54100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5900040" y="5121360"/>
              <a:ext cx="966960" cy="1280520"/>
              <a:chOff x="5900040" y="5121360"/>
              <a:chExt cx="966960" cy="1280520"/>
            </a:xfrm>
          </p:grpSpPr>
          <p:sp>
            <p:nvSpPr>
              <p:cNvPr id="455" name=""/>
              <p:cNvSpPr/>
              <p:nvPr/>
            </p:nvSpPr>
            <p:spPr>
              <a:xfrm>
                <a:off x="6031080" y="51213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00040" y="575928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6320" y="5759280"/>
                <a:ext cx="91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505320" y="1295280"/>
            <a:ext cx="2148480" cy="1280880"/>
            <a:chOff x="3505320" y="1295280"/>
            <a:chExt cx="2148480" cy="1280880"/>
          </a:xfrm>
        </p:grpSpPr>
        <p:grpSp>
          <p:nvGrpSpPr>
            <p:cNvPr id="460" name=""/>
            <p:cNvGrpSpPr/>
            <p:nvPr/>
          </p:nvGrpSpPr>
          <p:grpSpPr>
            <a:xfrm>
              <a:off x="3505320" y="1295280"/>
              <a:ext cx="609480" cy="1280880"/>
              <a:chOff x="3505320" y="1295280"/>
              <a:chExt cx="609480" cy="1280880"/>
            </a:xfrm>
          </p:grpSpPr>
          <p:sp>
            <p:nvSpPr>
              <p:cNvPr id="461" name=""/>
              <p:cNvSpPr/>
              <p:nvPr/>
            </p:nvSpPr>
            <p:spPr>
              <a:xfrm>
                <a:off x="3588840" y="1295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587040" y="19335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05320" y="19335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4177080" y="1295280"/>
              <a:ext cx="1476720" cy="1280520"/>
              <a:chOff x="4177080" y="1295280"/>
              <a:chExt cx="1476720" cy="1280520"/>
            </a:xfrm>
          </p:grpSpPr>
          <p:sp>
            <p:nvSpPr>
              <p:cNvPr id="465" name=""/>
              <p:cNvSpPr/>
              <p:nvPr/>
            </p:nvSpPr>
            <p:spPr>
              <a:xfrm>
                <a:off x="4177080" y="158400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4686840" y="1295280"/>
                <a:ext cx="966960" cy="1280520"/>
                <a:chOff x="4686840" y="1295280"/>
                <a:chExt cx="966960" cy="1280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817880" y="1295280"/>
                  <a:ext cx="7048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25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686840" y="1933200"/>
                  <a:ext cx="966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Comic Sans MS"/>
                    </a:rPr>
                    <a:t>100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713120" y="1933200"/>
                  <a:ext cx="915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0" name=""/>
          <p:cNvGrpSpPr/>
          <p:nvPr/>
        </p:nvGrpSpPr>
        <p:grpSpPr>
          <a:xfrm>
            <a:off x="2008800" y="2590920"/>
            <a:ext cx="2147040" cy="1280520"/>
            <a:chOff x="2008800" y="2590920"/>
            <a:chExt cx="2147040" cy="1280520"/>
          </a:xfrm>
        </p:grpSpPr>
        <p:sp>
          <p:nvSpPr>
            <p:cNvPr id="471" name=""/>
            <p:cNvSpPr/>
            <p:nvPr/>
          </p:nvSpPr>
          <p:spPr>
            <a:xfrm>
              <a:off x="2008800" y="28796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2555640" y="2590920"/>
              <a:ext cx="1600200" cy="1280520"/>
              <a:chOff x="2555640" y="2590920"/>
              <a:chExt cx="1600200" cy="1280520"/>
            </a:xfrm>
          </p:grpSpPr>
          <p:sp>
            <p:nvSpPr>
              <p:cNvPr id="473" name=""/>
              <p:cNvSpPr/>
              <p:nvPr/>
            </p:nvSpPr>
            <p:spPr>
              <a:xfrm>
                <a:off x="2622240" y="2590920"/>
                <a:ext cx="1467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0 + 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72440" y="322884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555640" y="3228840"/>
                <a:ext cx="1600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4232880" y="2590920"/>
            <a:ext cx="2938680" cy="1280520"/>
            <a:chOff x="4232880" y="2590920"/>
            <a:chExt cx="2938680" cy="1280520"/>
          </a:xfrm>
        </p:grpSpPr>
        <p:grpSp>
          <p:nvGrpSpPr>
            <p:cNvPr id="477" name=""/>
            <p:cNvGrpSpPr/>
            <p:nvPr/>
          </p:nvGrpSpPr>
          <p:grpSpPr>
            <a:xfrm>
              <a:off x="4757040" y="2590920"/>
              <a:ext cx="966960" cy="1280520"/>
              <a:chOff x="4757040" y="2590920"/>
              <a:chExt cx="966960" cy="1280520"/>
            </a:xfrm>
          </p:grpSpPr>
          <p:sp>
            <p:nvSpPr>
              <p:cNvPr id="478" name=""/>
              <p:cNvSpPr/>
              <p:nvPr/>
            </p:nvSpPr>
            <p:spPr>
              <a:xfrm>
                <a:off x="4887720" y="25909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757040" y="322884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821120" y="322884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4232880" y="28796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6204600" y="2590920"/>
              <a:ext cx="966960" cy="1280520"/>
              <a:chOff x="6204600" y="2590920"/>
              <a:chExt cx="966960" cy="1280520"/>
            </a:xfrm>
          </p:grpSpPr>
          <p:sp>
            <p:nvSpPr>
              <p:cNvPr id="483" name=""/>
              <p:cNvSpPr/>
              <p:nvPr/>
            </p:nvSpPr>
            <p:spPr>
              <a:xfrm>
                <a:off x="6466320" y="25909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04600" y="322884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268680" y="3228840"/>
                <a:ext cx="83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735520" y="28796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729520" y="3886200"/>
            <a:ext cx="3624480" cy="1280520"/>
            <a:chOff x="2729520" y="3886200"/>
            <a:chExt cx="3624480" cy="1280520"/>
          </a:xfrm>
        </p:grpSpPr>
        <p:grpSp>
          <p:nvGrpSpPr>
            <p:cNvPr id="488" name=""/>
            <p:cNvGrpSpPr/>
            <p:nvPr/>
          </p:nvGrpSpPr>
          <p:grpSpPr>
            <a:xfrm>
              <a:off x="3180600" y="3886200"/>
              <a:ext cx="1709280" cy="1280520"/>
              <a:chOff x="3180600" y="3886200"/>
              <a:chExt cx="1709280" cy="1280520"/>
            </a:xfrm>
          </p:grpSpPr>
          <p:sp>
            <p:nvSpPr>
              <p:cNvPr id="489" name=""/>
              <p:cNvSpPr/>
              <p:nvPr/>
            </p:nvSpPr>
            <p:spPr>
              <a:xfrm>
                <a:off x="3311280" y="3886200"/>
                <a:ext cx="144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 x 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180600" y="4524120"/>
                <a:ext cx="170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 x 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273120" y="452412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2729520" y="4174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5387040" y="3886200"/>
              <a:ext cx="966960" cy="1280520"/>
              <a:chOff x="5387040" y="3886200"/>
              <a:chExt cx="966960" cy="1280520"/>
            </a:xfrm>
          </p:grpSpPr>
          <p:sp>
            <p:nvSpPr>
              <p:cNvPr id="494" name=""/>
              <p:cNvSpPr/>
              <p:nvPr/>
            </p:nvSpPr>
            <p:spPr>
              <a:xfrm>
                <a:off x="5648760" y="38862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387040" y="452412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51120" y="452412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4917960" y="4174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819520" y="5181480"/>
            <a:ext cx="3438000" cy="1280880"/>
            <a:chOff x="2819520" y="5181480"/>
            <a:chExt cx="3438000" cy="1280880"/>
          </a:xfrm>
        </p:grpSpPr>
        <p:grpSp>
          <p:nvGrpSpPr>
            <p:cNvPr id="499" name=""/>
            <p:cNvGrpSpPr/>
            <p:nvPr/>
          </p:nvGrpSpPr>
          <p:grpSpPr>
            <a:xfrm>
              <a:off x="2819520" y="5181480"/>
              <a:ext cx="609480" cy="1280880"/>
              <a:chOff x="2819520" y="5181480"/>
              <a:chExt cx="609480" cy="1280880"/>
            </a:xfrm>
          </p:grpSpPr>
          <p:sp>
            <p:nvSpPr>
              <p:cNvPr id="500" name=""/>
              <p:cNvSpPr/>
              <p:nvPr/>
            </p:nvSpPr>
            <p:spPr>
              <a:xfrm>
                <a:off x="2903040" y="5181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01240" y="58197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819520" y="58197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3491640" y="5470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021560" y="5181480"/>
              <a:ext cx="704880" cy="1280880"/>
              <a:chOff x="4021560" y="5181480"/>
              <a:chExt cx="704880" cy="1280880"/>
            </a:xfrm>
          </p:grpSpPr>
          <p:sp>
            <p:nvSpPr>
              <p:cNvPr id="505" name=""/>
              <p:cNvSpPr/>
              <p:nvPr/>
            </p:nvSpPr>
            <p:spPr>
              <a:xfrm>
                <a:off x="4152240" y="5181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21560" y="58197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38840" y="5819760"/>
                <a:ext cx="66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5290560" y="5181480"/>
              <a:ext cx="966960" cy="1280880"/>
              <a:chOff x="5290560" y="5181480"/>
              <a:chExt cx="966960" cy="1280880"/>
            </a:xfrm>
          </p:grpSpPr>
          <p:sp>
            <p:nvSpPr>
              <p:cNvPr id="509" name=""/>
              <p:cNvSpPr/>
              <p:nvPr/>
            </p:nvSpPr>
            <p:spPr>
              <a:xfrm>
                <a:off x="5552280" y="5181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90560" y="581976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16480" y="5819760"/>
                <a:ext cx="91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780080" y="5470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429000" y="44197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82.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5181480"/>
            <a:ext cx="701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ur hundred eighty two and twenty five hundredt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14461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952880" y="1219320"/>
            <a:ext cx="609480" cy="1280880"/>
            <a:chOff x="4952880" y="1219320"/>
            <a:chExt cx="609480" cy="1280880"/>
          </a:xfrm>
        </p:grpSpPr>
        <p:sp>
          <p:nvSpPr>
            <p:cNvPr id="518" name=""/>
            <p:cNvSpPr/>
            <p:nvPr/>
          </p:nvSpPr>
          <p:spPr>
            <a:xfrm>
              <a:off x="5036400" y="1219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4600" y="1857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2880" y="1857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447920" y="2422440"/>
            <a:ext cx="6248160" cy="1618200"/>
            <a:chOff x="1447920" y="2422440"/>
            <a:chExt cx="6248160" cy="1618200"/>
          </a:xfrm>
        </p:grpSpPr>
        <p:sp>
          <p:nvSpPr>
            <p:cNvPr id="522" name=""/>
            <p:cNvSpPr/>
            <p:nvPr/>
          </p:nvSpPr>
          <p:spPr>
            <a:xfrm>
              <a:off x="1447920" y="2422440"/>
              <a:ext cx="6248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 x 100 + 8 x 10 + 2 x 1 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67160" y="311616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 x      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24560" y="311616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 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3612960" y="2895480"/>
              <a:ext cx="646920" cy="1145160"/>
              <a:chOff x="3612960" y="2895480"/>
              <a:chExt cx="646920" cy="1145160"/>
            </a:xfrm>
          </p:grpSpPr>
          <p:sp>
            <p:nvSpPr>
              <p:cNvPr id="526" name=""/>
              <p:cNvSpPr/>
              <p:nvPr/>
            </p:nvSpPr>
            <p:spPr>
              <a:xfrm>
                <a:off x="3728880" y="2895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612960" y="34592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632040" y="345744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5605920" y="2895480"/>
              <a:ext cx="880200" cy="1144800"/>
              <a:chOff x="5605920" y="2895480"/>
              <a:chExt cx="880200" cy="1144800"/>
            </a:xfrm>
          </p:grpSpPr>
          <p:sp>
            <p:nvSpPr>
              <p:cNvPr id="530" name=""/>
              <p:cNvSpPr/>
              <p:nvPr/>
            </p:nvSpPr>
            <p:spPr>
              <a:xfrm>
                <a:off x="5838840" y="289548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05920" y="345888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3880" y="3457440"/>
                <a:ext cx="763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2743200" y="3885840"/>
            <a:ext cx="2895480" cy="1359000"/>
            <a:chOff x="2743200" y="3885840"/>
            <a:chExt cx="2895480" cy="1359000"/>
          </a:xfrm>
        </p:grpSpPr>
        <p:sp>
          <p:nvSpPr>
            <p:cNvPr id="534" name=""/>
            <p:cNvSpPr/>
            <p:nvPr/>
          </p:nvSpPr>
          <p:spPr>
            <a:xfrm>
              <a:off x="3429000" y="4419720"/>
              <a:ext cx="2209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482.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00000">
              <a:off x="3390840" y="3238200"/>
              <a:ext cx="228600" cy="15238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00600" y="4495680"/>
              <a:ext cx="380880" cy="609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35" idx="1"/>
              <a:endCxn id="536" idx="0"/>
            </p:cNvCxnSpPr>
            <p:nvPr/>
          </p:nvCxnSpPr>
          <p:spPr>
            <a:xfrm flipH="1" rot="16200000">
              <a:off x="4065480" y="3569760"/>
              <a:ext cx="363960" cy="1488240"/>
            </a:xfrm>
            <a:prstGeom prst="curvedConnector5">
              <a:avLst>
                <a:gd name="adj1" fmla="val 7821"/>
                <a:gd name="adj2" fmla="val 49987"/>
                <a:gd name="adj3" fmla="val 782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8" name=""/>
          <p:cNvGrpSpPr/>
          <p:nvPr/>
        </p:nvGrpSpPr>
        <p:grpSpPr>
          <a:xfrm>
            <a:off x="3429000" y="3885840"/>
            <a:ext cx="3124080" cy="1359000"/>
            <a:chOff x="3429000" y="3885840"/>
            <a:chExt cx="3124080" cy="1359000"/>
          </a:xfrm>
        </p:grpSpPr>
        <p:sp>
          <p:nvSpPr>
            <p:cNvPr id="539" name=""/>
            <p:cNvSpPr/>
            <p:nvPr/>
          </p:nvSpPr>
          <p:spPr>
            <a:xfrm rot="16200000">
              <a:off x="5524200" y="3085560"/>
              <a:ext cx="228600" cy="1828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429000" y="4419720"/>
              <a:ext cx="2209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482.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81480" y="4495680"/>
              <a:ext cx="381240" cy="609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2" name=""/>
            <p:cNvCxnSpPr>
              <a:stCxn id="539" idx="1"/>
              <a:endCxn id="541" idx="0"/>
            </p:cNvCxnSpPr>
            <p:nvPr/>
          </p:nvCxnSpPr>
          <p:spPr>
            <a:xfrm rot="5400000">
              <a:off x="5322600" y="4181400"/>
              <a:ext cx="363960" cy="265680"/>
            </a:xfrm>
            <a:prstGeom prst="curvedConnector5">
              <a:avLst>
                <a:gd name="adj1" fmla="val 3861"/>
                <a:gd name="adj2" fmla="val 49932"/>
                <a:gd name="adj3" fmla="val 386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zoom dir="in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81280" y="14461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952880" y="1219320"/>
            <a:ext cx="609480" cy="1280880"/>
            <a:chOff x="4952880" y="1219320"/>
            <a:chExt cx="609480" cy="1280880"/>
          </a:xfrm>
        </p:grpSpPr>
        <p:sp>
          <p:nvSpPr>
            <p:cNvPr id="546" name=""/>
            <p:cNvSpPr/>
            <p:nvPr/>
          </p:nvSpPr>
          <p:spPr>
            <a:xfrm>
              <a:off x="5036400" y="1219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34600" y="1857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52880" y="1857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57200" y="2301840"/>
            <a:ext cx="7971120" cy="1280880"/>
            <a:chOff x="457200" y="2301840"/>
            <a:chExt cx="7971120" cy="1280880"/>
          </a:xfrm>
        </p:grpSpPr>
        <p:sp>
          <p:nvSpPr>
            <p:cNvPr id="550" name=""/>
            <p:cNvSpPr/>
            <p:nvPr/>
          </p:nvSpPr>
          <p:spPr>
            <a:xfrm>
              <a:off x="457200" y="262080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Express       a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514600" y="2301840"/>
              <a:ext cx="609480" cy="1280880"/>
              <a:chOff x="2514600" y="2301840"/>
              <a:chExt cx="609480" cy="1280880"/>
            </a:xfrm>
          </p:grpSpPr>
          <p:sp>
            <p:nvSpPr>
              <p:cNvPr id="552" name=""/>
              <p:cNvSpPr/>
              <p:nvPr/>
            </p:nvSpPr>
            <p:spPr>
              <a:xfrm>
                <a:off x="2598120" y="23018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96320" y="29401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14600" y="29401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808440" y="2301840"/>
              <a:ext cx="704880" cy="1280520"/>
              <a:chOff x="3808440" y="2301840"/>
              <a:chExt cx="704880" cy="1280520"/>
            </a:xfrm>
          </p:grpSpPr>
          <p:sp>
            <p:nvSpPr>
              <p:cNvPr id="556" name=""/>
              <p:cNvSpPr/>
              <p:nvPr/>
            </p:nvSpPr>
            <p:spPr>
              <a:xfrm>
                <a:off x="3943080" y="2301840"/>
                <a:ext cx="43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808440" y="29397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55960" y="29412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467040" y="2301840"/>
              <a:ext cx="1229400" cy="1280520"/>
              <a:chOff x="6467040" y="2301840"/>
              <a:chExt cx="1229400" cy="1280520"/>
            </a:xfrm>
          </p:grpSpPr>
          <p:sp>
            <p:nvSpPr>
              <p:cNvPr id="560" name=""/>
              <p:cNvSpPr/>
              <p:nvPr/>
            </p:nvSpPr>
            <p:spPr>
              <a:xfrm>
                <a:off x="6882480" y="2301840"/>
                <a:ext cx="400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467040" y="293976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548400" y="294120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5061960" y="2301840"/>
              <a:ext cx="966960" cy="1280520"/>
              <a:chOff x="5061960" y="2301840"/>
              <a:chExt cx="966960" cy="1280520"/>
            </a:xfrm>
          </p:grpSpPr>
          <p:sp>
            <p:nvSpPr>
              <p:cNvPr id="564" name=""/>
              <p:cNvSpPr/>
              <p:nvPr/>
            </p:nvSpPr>
            <p:spPr>
              <a:xfrm>
                <a:off x="5315040" y="230184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061960" y="293976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088240" y="29412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4552200" y="2620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54120" y="26208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24440" y="2620800"/>
              <a:ext cx="80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2209680" y="3581280"/>
            <a:ext cx="1116000" cy="1280880"/>
            <a:chOff x="2209680" y="3581280"/>
            <a:chExt cx="1116000" cy="1280880"/>
          </a:xfrm>
        </p:grpSpPr>
        <p:grpSp>
          <p:nvGrpSpPr>
            <p:cNvPr id="571" name=""/>
            <p:cNvGrpSpPr/>
            <p:nvPr/>
          </p:nvGrpSpPr>
          <p:grpSpPr>
            <a:xfrm>
              <a:off x="2209680" y="3581280"/>
              <a:ext cx="609480" cy="1280880"/>
              <a:chOff x="2209680" y="3581280"/>
              <a:chExt cx="609480" cy="1280880"/>
            </a:xfrm>
          </p:grpSpPr>
          <p:sp>
            <p:nvSpPr>
              <p:cNvPr id="572" name=""/>
              <p:cNvSpPr/>
              <p:nvPr/>
            </p:nvSpPr>
            <p:spPr>
              <a:xfrm>
                <a:off x="2293200" y="3581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291400" y="42195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209680" y="42195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2882880" y="3886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429000" y="3581280"/>
            <a:ext cx="2209680" cy="1280880"/>
            <a:chOff x="3429000" y="3581280"/>
            <a:chExt cx="2209680" cy="1280880"/>
          </a:xfrm>
        </p:grpSpPr>
        <p:grpSp>
          <p:nvGrpSpPr>
            <p:cNvPr id="577" name=""/>
            <p:cNvGrpSpPr/>
            <p:nvPr/>
          </p:nvGrpSpPr>
          <p:grpSpPr>
            <a:xfrm>
              <a:off x="3429000" y="3581280"/>
              <a:ext cx="609480" cy="1280880"/>
              <a:chOff x="3429000" y="3581280"/>
              <a:chExt cx="609480" cy="1280880"/>
            </a:xfrm>
          </p:grpSpPr>
          <p:sp>
            <p:nvSpPr>
              <p:cNvPr id="578" name=""/>
              <p:cNvSpPr/>
              <p:nvPr/>
            </p:nvSpPr>
            <p:spPr>
              <a:xfrm>
                <a:off x="3512520" y="3581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10720" y="42195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29000" y="42195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4648320" y="3581280"/>
              <a:ext cx="990360" cy="1280880"/>
              <a:chOff x="4648320" y="3581280"/>
              <a:chExt cx="990360" cy="1280880"/>
            </a:xfrm>
          </p:grpSpPr>
          <p:sp>
            <p:nvSpPr>
              <p:cNvPr id="582" name=""/>
              <p:cNvSpPr/>
              <p:nvPr/>
            </p:nvSpPr>
            <p:spPr>
              <a:xfrm>
                <a:off x="4659840" y="358128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659840" y="421956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48320" y="4219560"/>
                <a:ext cx="99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4112640" y="38862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702400" y="3581280"/>
            <a:ext cx="1698840" cy="1280880"/>
            <a:chOff x="5702400" y="3581280"/>
            <a:chExt cx="1698840" cy="1280880"/>
          </a:xfrm>
        </p:grpSpPr>
        <p:sp>
          <p:nvSpPr>
            <p:cNvPr id="587" name=""/>
            <p:cNvSpPr/>
            <p:nvPr/>
          </p:nvSpPr>
          <p:spPr>
            <a:xfrm>
              <a:off x="5702400" y="3886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6171840" y="3581280"/>
              <a:ext cx="1229400" cy="1280880"/>
              <a:chOff x="6171840" y="3581280"/>
              <a:chExt cx="1229400" cy="1280880"/>
            </a:xfrm>
          </p:grpSpPr>
          <p:sp>
            <p:nvSpPr>
              <p:cNvPr id="589" name=""/>
              <p:cNvSpPr/>
              <p:nvPr/>
            </p:nvSpPr>
            <p:spPr>
              <a:xfrm>
                <a:off x="6303240" y="358128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2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171840" y="421956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78680" y="421956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2" name=""/>
          <p:cNvGrpSpPr/>
          <p:nvPr/>
        </p:nvGrpSpPr>
        <p:grpSpPr>
          <a:xfrm>
            <a:off x="368280" y="5029200"/>
            <a:ext cx="3155760" cy="1280880"/>
            <a:chOff x="368280" y="5029200"/>
            <a:chExt cx="3155760" cy="1280880"/>
          </a:xfrm>
        </p:grpSpPr>
        <p:sp>
          <p:nvSpPr>
            <p:cNvPr id="593" name=""/>
            <p:cNvSpPr/>
            <p:nvPr/>
          </p:nvSpPr>
          <p:spPr>
            <a:xfrm>
              <a:off x="368280" y="53341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770760" y="5029200"/>
              <a:ext cx="2753280" cy="1280880"/>
              <a:chOff x="770760" y="5029200"/>
              <a:chExt cx="2753280" cy="1280880"/>
            </a:xfrm>
          </p:grpSpPr>
          <p:sp>
            <p:nvSpPr>
              <p:cNvPr id="595" name=""/>
              <p:cNvSpPr/>
              <p:nvPr/>
            </p:nvSpPr>
            <p:spPr>
              <a:xfrm>
                <a:off x="770760" y="5029200"/>
                <a:ext cx="2753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 + 20 + 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2880" y="566748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17200" y="5667480"/>
                <a:ext cx="266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8" name=""/>
          <p:cNvGrpSpPr/>
          <p:nvPr/>
        </p:nvGrpSpPr>
        <p:grpSpPr>
          <a:xfrm>
            <a:off x="3492720" y="5029200"/>
            <a:ext cx="5194440" cy="1280880"/>
            <a:chOff x="3492720" y="5029200"/>
            <a:chExt cx="5194440" cy="1280880"/>
          </a:xfrm>
        </p:grpSpPr>
        <p:sp>
          <p:nvSpPr>
            <p:cNvPr id="599" name=""/>
            <p:cNvSpPr/>
            <p:nvPr/>
          </p:nvSpPr>
          <p:spPr>
            <a:xfrm>
              <a:off x="3492720" y="5348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3952440" y="5029200"/>
              <a:ext cx="1229400" cy="1280880"/>
              <a:chOff x="3952440" y="5029200"/>
              <a:chExt cx="1229400" cy="1280880"/>
            </a:xfrm>
          </p:grpSpPr>
          <p:sp>
            <p:nvSpPr>
              <p:cNvPr id="601" name=""/>
              <p:cNvSpPr/>
              <p:nvPr/>
            </p:nvSpPr>
            <p:spPr>
              <a:xfrm>
                <a:off x="4083840" y="502920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52440" y="566748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959280" y="5667480"/>
                <a:ext cx="1218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5705280" y="5029200"/>
              <a:ext cx="1229400" cy="1280880"/>
              <a:chOff x="5705280" y="5029200"/>
              <a:chExt cx="1229400" cy="1280880"/>
            </a:xfrm>
          </p:grpSpPr>
          <p:sp>
            <p:nvSpPr>
              <p:cNvPr id="605" name=""/>
              <p:cNvSpPr/>
              <p:nvPr/>
            </p:nvSpPr>
            <p:spPr>
              <a:xfrm>
                <a:off x="5967360" y="50292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705280" y="566748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710320" y="566748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7457760" y="5029200"/>
              <a:ext cx="1229400" cy="1280880"/>
              <a:chOff x="7457760" y="5029200"/>
              <a:chExt cx="1229400" cy="1280880"/>
            </a:xfrm>
          </p:grpSpPr>
          <p:sp>
            <p:nvSpPr>
              <p:cNvPr id="609" name=""/>
              <p:cNvSpPr/>
              <p:nvPr/>
            </p:nvSpPr>
            <p:spPr>
              <a:xfrm>
                <a:off x="7850880" y="50292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457760" y="566748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462800" y="5667480"/>
                <a:ext cx="1219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5215680" y="5348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68520" y="53481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752480" y="1295280"/>
            <a:ext cx="5563080" cy="1280880"/>
            <a:chOff x="1752480" y="1295280"/>
            <a:chExt cx="5563080" cy="1280880"/>
          </a:xfrm>
        </p:grpSpPr>
        <p:grpSp>
          <p:nvGrpSpPr>
            <p:cNvPr id="616" name=""/>
            <p:cNvGrpSpPr/>
            <p:nvPr/>
          </p:nvGrpSpPr>
          <p:grpSpPr>
            <a:xfrm>
              <a:off x="1752480" y="1295280"/>
              <a:ext cx="609480" cy="1280880"/>
              <a:chOff x="1752480" y="1295280"/>
              <a:chExt cx="609480" cy="1280880"/>
            </a:xfrm>
          </p:grpSpPr>
          <p:sp>
            <p:nvSpPr>
              <p:cNvPr id="617" name=""/>
              <p:cNvSpPr/>
              <p:nvPr/>
            </p:nvSpPr>
            <p:spPr>
              <a:xfrm>
                <a:off x="1836000" y="1295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34200" y="19335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752480" y="19335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2425680" y="1600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2819160" y="1295280"/>
              <a:ext cx="1229400" cy="1280880"/>
              <a:chOff x="2819160" y="1295280"/>
              <a:chExt cx="1229400" cy="1280880"/>
            </a:xfrm>
          </p:grpSpPr>
          <p:sp>
            <p:nvSpPr>
              <p:cNvPr id="622" name=""/>
              <p:cNvSpPr/>
              <p:nvPr/>
            </p:nvSpPr>
            <p:spPr>
              <a:xfrm>
                <a:off x="2950560" y="129528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19160" y="193356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00520" y="1933560"/>
                <a:ext cx="106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419360" y="1295280"/>
              <a:ext cx="1229400" cy="1280880"/>
              <a:chOff x="4419360" y="1295280"/>
              <a:chExt cx="1229400" cy="1280880"/>
            </a:xfrm>
          </p:grpSpPr>
          <p:sp>
            <p:nvSpPr>
              <p:cNvPr id="626" name=""/>
              <p:cNvSpPr/>
              <p:nvPr/>
            </p:nvSpPr>
            <p:spPr>
              <a:xfrm>
                <a:off x="4681440" y="129528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19360" y="193356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500720" y="193356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6086160" y="1295280"/>
              <a:ext cx="1229400" cy="1280880"/>
              <a:chOff x="6086160" y="1295280"/>
              <a:chExt cx="1229400" cy="1280880"/>
            </a:xfrm>
          </p:grpSpPr>
          <p:sp>
            <p:nvSpPr>
              <p:cNvPr id="630" name=""/>
              <p:cNvSpPr/>
              <p:nvPr/>
            </p:nvSpPr>
            <p:spPr>
              <a:xfrm>
                <a:off x="6479280" y="1295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86160" y="193356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67520" y="193356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4018680" y="1600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18880" y="1600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1170000" y="3063960"/>
            <a:ext cx="2484000" cy="1280520"/>
            <a:chOff x="1170000" y="3063960"/>
            <a:chExt cx="2484000" cy="1280520"/>
          </a:xfrm>
        </p:grpSpPr>
        <p:sp>
          <p:nvSpPr>
            <p:cNvPr id="636" name=""/>
            <p:cNvSpPr/>
            <p:nvPr/>
          </p:nvSpPr>
          <p:spPr>
            <a:xfrm>
              <a:off x="1170000" y="3368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1682640" y="3063960"/>
              <a:ext cx="1971360" cy="1280520"/>
              <a:chOff x="1682640" y="3063960"/>
              <a:chExt cx="1971360" cy="1280520"/>
            </a:xfrm>
          </p:grpSpPr>
          <p:sp>
            <p:nvSpPr>
              <p:cNvPr id="638" name=""/>
              <p:cNvSpPr/>
              <p:nvPr/>
            </p:nvSpPr>
            <p:spPr>
              <a:xfrm>
                <a:off x="1814040" y="3063960"/>
                <a:ext cx="170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 x 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682640" y="3701880"/>
                <a:ext cx="1971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 x 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716120" y="3701880"/>
                <a:ext cx="190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3637800" y="3063960"/>
            <a:ext cx="2586960" cy="1280520"/>
            <a:chOff x="3637800" y="3063960"/>
            <a:chExt cx="2586960" cy="1280520"/>
          </a:xfrm>
        </p:grpSpPr>
        <p:grpSp>
          <p:nvGrpSpPr>
            <p:cNvPr id="642" name=""/>
            <p:cNvGrpSpPr/>
            <p:nvPr/>
          </p:nvGrpSpPr>
          <p:grpSpPr>
            <a:xfrm>
              <a:off x="4167360" y="3063960"/>
              <a:ext cx="2057400" cy="1280520"/>
              <a:chOff x="4167360" y="3063960"/>
              <a:chExt cx="2057400" cy="1280520"/>
            </a:xfrm>
          </p:grpSpPr>
          <p:sp>
            <p:nvSpPr>
              <p:cNvPr id="643" name=""/>
              <p:cNvSpPr/>
              <p:nvPr/>
            </p:nvSpPr>
            <p:spPr>
              <a:xfrm>
                <a:off x="4472280" y="3063960"/>
                <a:ext cx="144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 x 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210200" y="3701880"/>
                <a:ext cx="1971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 x 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167360" y="3701880"/>
                <a:ext cx="2057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3637800" y="3368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282720" y="3063960"/>
            <a:ext cx="1642320" cy="1280520"/>
            <a:chOff x="6282720" y="3063960"/>
            <a:chExt cx="1642320" cy="1280520"/>
          </a:xfrm>
        </p:grpSpPr>
        <p:grpSp>
          <p:nvGrpSpPr>
            <p:cNvPr id="648" name=""/>
            <p:cNvGrpSpPr/>
            <p:nvPr/>
          </p:nvGrpSpPr>
          <p:grpSpPr>
            <a:xfrm>
              <a:off x="6695640" y="3063960"/>
              <a:ext cx="1229400" cy="1280520"/>
              <a:chOff x="6695640" y="3063960"/>
              <a:chExt cx="1229400" cy="1280520"/>
            </a:xfrm>
          </p:grpSpPr>
          <p:sp>
            <p:nvSpPr>
              <p:cNvPr id="649" name=""/>
              <p:cNvSpPr/>
              <p:nvPr/>
            </p:nvSpPr>
            <p:spPr>
              <a:xfrm>
                <a:off x="7088760" y="30639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695640" y="370188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777000" y="370188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6282720" y="3368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2379600" y="4724280"/>
            <a:ext cx="1209600" cy="1280880"/>
            <a:chOff x="2379600" y="4724280"/>
            <a:chExt cx="1209600" cy="1280880"/>
          </a:xfrm>
        </p:grpSpPr>
        <p:sp>
          <p:nvSpPr>
            <p:cNvPr id="654" name=""/>
            <p:cNvSpPr/>
            <p:nvPr/>
          </p:nvSpPr>
          <p:spPr>
            <a:xfrm>
              <a:off x="2379600" y="5029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2884320" y="4724280"/>
              <a:ext cx="704880" cy="1280880"/>
              <a:chOff x="2884320" y="4724280"/>
              <a:chExt cx="704880" cy="1280880"/>
            </a:xfrm>
          </p:grpSpPr>
          <p:sp>
            <p:nvSpPr>
              <p:cNvPr id="656" name=""/>
              <p:cNvSpPr/>
              <p:nvPr/>
            </p:nvSpPr>
            <p:spPr>
              <a:xfrm>
                <a:off x="3015360" y="4724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884320" y="536256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27160" y="53625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606120" y="4724280"/>
            <a:ext cx="1498320" cy="1280880"/>
            <a:chOff x="3606120" y="4724280"/>
            <a:chExt cx="1498320" cy="1280880"/>
          </a:xfrm>
        </p:grpSpPr>
        <p:grpSp>
          <p:nvGrpSpPr>
            <p:cNvPr id="660" name=""/>
            <p:cNvGrpSpPr/>
            <p:nvPr/>
          </p:nvGrpSpPr>
          <p:grpSpPr>
            <a:xfrm>
              <a:off x="4137480" y="4724280"/>
              <a:ext cx="966960" cy="1280880"/>
              <a:chOff x="4137480" y="4724280"/>
              <a:chExt cx="966960" cy="1280880"/>
            </a:xfrm>
          </p:grpSpPr>
          <p:sp>
            <p:nvSpPr>
              <p:cNvPr id="661" name=""/>
              <p:cNvSpPr/>
              <p:nvPr/>
            </p:nvSpPr>
            <p:spPr>
              <a:xfrm>
                <a:off x="4399200" y="4724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137480" y="536256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159080" y="5362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3606120" y="5029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152320" y="4724280"/>
            <a:ext cx="1629720" cy="1280880"/>
            <a:chOff x="5152320" y="4724280"/>
            <a:chExt cx="1629720" cy="1280880"/>
          </a:xfrm>
        </p:grpSpPr>
        <p:grpSp>
          <p:nvGrpSpPr>
            <p:cNvPr id="666" name=""/>
            <p:cNvGrpSpPr/>
            <p:nvPr/>
          </p:nvGrpSpPr>
          <p:grpSpPr>
            <a:xfrm>
              <a:off x="5552640" y="4724280"/>
              <a:ext cx="1229400" cy="1280880"/>
              <a:chOff x="5552640" y="4724280"/>
              <a:chExt cx="1229400" cy="1280880"/>
            </a:xfrm>
          </p:grpSpPr>
          <p:sp>
            <p:nvSpPr>
              <p:cNvPr id="667" name=""/>
              <p:cNvSpPr/>
              <p:nvPr/>
            </p:nvSpPr>
            <p:spPr>
              <a:xfrm>
                <a:off x="5945400" y="47242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52640" y="536256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33640" y="5362560"/>
                <a:ext cx="106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5152320" y="5029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4461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4952880" y="1219320"/>
            <a:ext cx="609480" cy="1280880"/>
            <a:chOff x="4952880" y="1219320"/>
            <a:chExt cx="609480" cy="1280880"/>
          </a:xfrm>
        </p:grpSpPr>
        <p:sp>
          <p:nvSpPr>
            <p:cNvPr id="674" name=""/>
            <p:cNvSpPr/>
            <p:nvPr/>
          </p:nvSpPr>
          <p:spPr>
            <a:xfrm>
              <a:off x="5036400" y="12193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34600" y="1857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52880" y="1857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975240" y="3124080"/>
            <a:ext cx="1998000" cy="1280520"/>
            <a:chOff x="975240" y="3124080"/>
            <a:chExt cx="1998000" cy="1280520"/>
          </a:xfrm>
        </p:grpSpPr>
        <p:grpSp>
          <p:nvGrpSpPr>
            <p:cNvPr id="678" name=""/>
            <p:cNvGrpSpPr/>
            <p:nvPr/>
          </p:nvGrpSpPr>
          <p:grpSpPr>
            <a:xfrm>
              <a:off x="2268360" y="3124080"/>
              <a:ext cx="704880" cy="1280520"/>
              <a:chOff x="2268360" y="3124080"/>
              <a:chExt cx="704880" cy="1280520"/>
            </a:xfrm>
          </p:grpSpPr>
          <p:sp>
            <p:nvSpPr>
              <p:cNvPr id="679" name=""/>
              <p:cNvSpPr/>
              <p:nvPr/>
            </p:nvSpPr>
            <p:spPr>
              <a:xfrm>
                <a:off x="2399040" y="31240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268360" y="376200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315880" y="37634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975240" y="3413160"/>
              <a:ext cx="129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3084120" y="3124080"/>
            <a:ext cx="2369880" cy="1280520"/>
            <a:chOff x="3084120" y="3124080"/>
            <a:chExt cx="2369880" cy="1280520"/>
          </a:xfrm>
        </p:grpSpPr>
        <p:grpSp>
          <p:nvGrpSpPr>
            <p:cNvPr id="684" name=""/>
            <p:cNvGrpSpPr/>
            <p:nvPr/>
          </p:nvGrpSpPr>
          <p:grpSpPr>
            <a:xfrm>
              <a:off x="4487040" y="3124080"/>
              <a:ext cx="966960" cy="1280520"/>
              <a:chOff x="4487040" y="3124080"/>
              <a:chExt cx="966960" cy="1280520"/>
            </a:xfrm>
          </p:grpSpPr>
          <p:sp>
            <p:nvSpPr>
              <p:cNvPr id="685" name=""/>
              <p:cNvSpPr/>
              <p:nvPr/>
            </p:nvSpPr>
            <p:spPr>
              <a:xfrm>
                <a:off x="4749120" y="31240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487040" y="376200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513320" y="37634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3084120" y="3413160"/>
              <a:ext cx="129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5587560" y="3124080"/>
            <a:ext cx="2566080" cy="1280520"/>
            <a:chOff x="5587560" y="3124080"/>
            <a:chExt cx="2566080" cy="1280520"/>
          </a:xfrm>
        </p:grpSpPr>
        <p:grpSp>
          <p:nvGrpSpPr>
            <p:cNvPr id="690" name=""/>
            <p:cNvGrpSpPr/>
            <p:nvPr/>
          </p:nvGrpSpPr>
          <p:grpSpPr>
            <a:xfrm>
              <a:off x="6924240" y="3124080"/>
              <a:ext cx="1229400" cy="1280520"/>
              <a:chOff x="6924240" y="3124080"/>
              <a:chExt cx="1229400" cy="1280520"/>
            </a:xfrm>
          </p:grpSpPr>
          <p:sp>
            <p:nvSpPr>
              <p:cNvPr id="691" name=""/>
              <p:cNvSpPr/>
              <p:nvPr/>
            </p:nvSpPr>
            <p:spPr>
              <a:xfrm>
                <a:off x="7319160" y="31240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924240" y="376200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05600" y="376344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5587560" y="3413160"/>
              <a:ext cx="129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676520" y="2514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x 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81280" y="251604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8 x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62720" y="251604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 2 x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352680" y="44197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95680" y="44197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1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5257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 hundred eighty-two and one hundred twenty-five thousand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74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2666880"/>
            <a:ext cx="57913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e names for numbers containing dec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the decimal part of a number to an equivalent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514600" y="1219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295280" y="1600200"/>
            <a:ext cx="678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425.</a:t>
            </a:r>
            <a:r>
              <a:rPr b="0" lang="en-US" sz="8800" spc="-1" strike="noStrike">
                <a:solidFill>
                  <a:srgbClr val="00cc99"/>
                </a:solidFill>
                <a:latin typeface="Comic Sans MS"/>
              </a:rPr>
              <a:t>2</a:t>
            </a:r>
            <a:r>
              <a:rPr b="0" lang="en-US" sz="8800" spc="-1" strike="noStrike">
                <a:solidFill>
                  <a:srgbClr val="0099cc"/>
                </a:solidFill>
                <a:latin typeface="Comic Sans MS"/>
              </a:rPr>
              <a:t>6</a:t>
            </a:r>
            <a:r>
              <a:rPr b="0" lang="en-US" sz="8800" spc="-1" strike="noStrike">
                <a:solidFill>
                  <a:srgbClr val="ff9966"/>
                </a:solidFill>
                <a:latin typeface="Comic Sans MS"/>
              </a:rPr>
              <a:t>8</a:t>
            </a:r>
            <a:r>
              <a:rPr b="0" lang="en-US" sz="8800" spc="-1" strike="noStrike">
                <a:solidFill>
                  <a:srgbClr val="ff9900"/>
                </a:solidFill>
                <a:latin typeface="Comic Sans MS"/>
              </a:rPr>
              <a:t>9</a:t>
            </a:r>
            <a:r>
              <a:rPr b="0" lang="en-US" sz="8800" spc="-1" strike="noStrike">
                <a:solidFill>
                  <a:srgbClr val="339966"/>
                </a:solidFill>
                <a:latin typeface="Comic Sans MS"/>
              </a:rPr>
              <a:t>7</a:t>
            </a:r>
            <a:r>
              <a:rPr b="0" lang="en-US" sz="8800" spc="-1" strike="noStrike">
                <a:solidFill>
                  <a:srgbClr val="996633"/>
                </a:solidFill>
                <a:latin typeface="Comic Sans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096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7432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76720" y="2209680"/>
            <a:ext cx="533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8006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578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244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816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152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04920" y="2743200"/>
            <a:ext cx="1828800" cy="1328040"/>
            <a:chOff x="304920" y="2743200"/>
            <a:chExt cx="1828800" cy="1328040"/>
          </a:xfrm>
        </p:grpSpPr>
        <p:cxnSp>
          <p:nvCxnSpPr>
            <p:cNvPr id="715" name=""/>
            <p:cNvCxnSpPr>
              <a:stCxn id="704" idx="4"/>
            </p:cNvCxnSpPr>
            <p:nvPr/>
          </p:nvCxnSpPr>
          <p:spPr>
            <a:xfrm rot="5400000">
              <a:off x="1161360" y="2800440"/>
              <a:ext cx="457920" cy="343440"/>
            </a:xfrm>
            <a:prstGeom prst="bentConnector3">
              <a:avLst>
                <a:gd name="adj1" fmla="val 4996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6" name=""/>
            <p:cNvSpPr/>
            <p:nvPr/>
          </p:nvSpPr>
          <p:spPr>
            <a:xfrm>
              <a:off x="304920" y="3124080"/>
              <a:ext cx="182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undre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1371600" y="2742840"/>
            <a:ext cx="1143000" cy="1572480"/>
            <a:chOff x="1371600" y="2742840"/>
            <a:chExt cx="1143000" cy="1572480"/>
          </a:xfrm>
        </p:grpSpPr>
        <p:cxnSp>
          <p:nvCxnSpPr>
            <p:cNvPr id="718" name=""/>
            <p:cNvCxnSpPr>
              <a:stCxn id="705" idx="4"/>
            </p:cNvCxnSpPr>
            <p:nvPr/>
          </p:nvCxnSpPr>
          <p:spPr>
            <a:xfrm rot="5400000">
              <a:off x="1733040" y="3066840"/>
              <a:ext cx="1067400" cy="419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9" name=""/>
            <p:cNvSpPr/>
            <p:nvPr/>
          </p:nvSpPr>
          <p:spPr>
            <a:xfrm>
              <a:off x="1371600" y="373392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e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676520" y="2849040"/>
            <a:ext cx="1333080" cy="2639160"/>
            <a:chOff x="1676520" y="2849040"/>
            <a:chExt cx="1333080" cy="2639160"/>
          </a:xfrm>
        </p:grpSpPr>
        <p:cxnSp>
          <p:nvCxnSpPr>
            <p:cNvPr id="721" name=""/>
            <p:cNvCxnSpPr>
              <a:stCxn id="706" idx="4"/>
            </p:cNvCxnSpPr>
            <p:nvPr/>
          </p:nvCxnSpPr>
          <p:spPr>
            <a:xfrm rot="5400000">
              <a:off x="1809000" y="3705840"/>
              <a:ext cx="2057760" cy="343800"/>
            </a:xfrm>
            <a:prstGeom prst="bentConnector3">
              <a:avLst>
                <a:gd name="adj1" fmla="val 49991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22" name=""/>
            <p:cNvSpPr/>
            <p:nvPr/>
          </p:nvSpPr>
          <p:spPr>
            <a:xfrm>
              <a:off x="1676520" y="4906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Uni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066680" y="2849400"/>
            <a:ext cx="2743200" cy="4192920"/>
            <a:chOff x="1066680" y="2849400"/>
            <a:chExt cx="2743200" cy="4192920"/>
          </a:xfrm>
        </p:grpSpPr>
        <p:cxnSp>
          <p:nvCxnSpPr>
            <p:cNvPr id="724" name=""/>
            <p:cNvCxnSpPr>
              <a:stCxn id="707" idx="4"/>
            </p:cNvCxnSpPr>
            <p:nvPr/>
          </p:nvCxnSpPr>
          <p:spPr>
            <a:xfrm rot="5400000">
              <a:off x="1694880" y="4201920"/>
              <a:ext cx="3201120" cy="496080"/>
            </a:xfrm>
            <a:prstGeom prst="bentConnector3">
              <a:avLst>
                <a:gd name="adj1" fmla="val 4999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25" name=""/>
            <p:cNvSpPr/>
            <p:nvPr/>
          </p:nvSpPr>
          <p:spPr>
            <a:xfrm>
              <a:off x="1066680" y="597348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Comic Sans MS"/>
                </a:rPr>
                <a:t>Decimal Pla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886200" y="2819520"/>
            <a:ext cx="1523880" cy="3583800"/>
            <a:chOff x="3886200" y="2819520"/>
            <a:chExt cx="1523880" cy="3583800"/>
          </a:xfrm>
        </p:grpSpPr>
        <p:cxnSp>
          <p:nvCxnSpPr>
            <p:cNvPr id="727" name=""/>
            <p:cNvCxnSpPr/>
            <p:nvPr/>
          </p:nvCxnSpPr>
          <p:spPr>
            <a:xfrm flipH="1" rot="16200000">
              <a:off x="2533680" y="4323960"/>
              <a:ext cx="3201120" cy="191520"/>
            </a:xfrm>
            <a:prstGeom prst="bentConnector3">
              <a:avLst>
                <a:gd name="adj1" fmla="val 4999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28" name=""/>
            <p:cNvSpPr/>
            <p:nvPr/>
          </p:nvSpPr>
          <p:spPr>
            <a:xfrm>
              <a:off x="3886200" y="59436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Ten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572000" y="2971800"/>
            <a:ext cx="2514600" cy="3050280"/>
            <a:chOff x="4572000" y="2971800"/>
            <a:chExt cx="2514600" cy="3050280"/>
          </a:xfrm>
        </p:grpSpPr>
        <p:cxnSp>
          <p:nvCxnSpPr>
            <p:cNvPr id="730" name=""/>
            <p:cNvCxnSpPr/>
            <p:nvPr/>
          </p:nvCxnSpPr>
          <p:spPr>
            <a:xfrm flipH="1" rot="16200000">
              <a:off x="3447000" y="4171680"/>
              <a:ext cx="2667240" cy="267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1" name=""/>
            <p:cNvSpPr/>
            <p:nvPr/>
          </p:nvSpPr>
          <p:spPr>
            <a:xfrm>
              <a:off x="4572000" y="556236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cc"/>
                  </a:solidFill>
                  <a:latin typeface="Comic Sans MS"/>
                </a:rPr>
                <a:t>Hundre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257800" y="2895480"/>
            <a:ext cx="2743200" cy="2704320"/>
            <a:chOff x="5257800" y="2895480"/>
            <a:chExt cx="2743200" cy="2704320"/>
          </a:xfrm>
        </p:grpSpPr>
        <p:cxnSp>
          <p:nvCxnSpPr>
            <p:cNvPr id="733" name=""/>
            <p:cNvCxnSpPr/>
            <p:nvPr/>
          </p:nvCxnSpPr>
          <p:spPr>
            <a:xfrm flipH="1" rot="16200000">
              <a:off x="4378320" y="3925800"/>
              <a:ext cx="2328480" cy="267120"/>
            </a:xfrm>
            <a:prstGeom prst="bentConnector3">
              <a:avLst>
                <a:gd name="adj1" fmla="val 49018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5257800" y="5140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66"/>
                  </a:solidFill>
                  <a:latin typeface="Comic Sans MS"/>
                </a:rPr>
                <a:t>Thousan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5638680" y="2895480"/>
            <a:ext cx="3048120" cy="2237760"/>
            <a:chOff x="5638680" y="2895480"/>
            <a:chExt cx="3048120" cy="2237760"/>
          </a:xfrm>
        </p:grpSpPr>
        <p:sp>
          <p:nvSpPr>
            <p:cNvPr id="736" name=""/>
            <p:cNvSpPr/>
            <p:nvPr/>
          </p:nvSpPr>
          <p:spPr>
            <a:xfrm>
              <a:off x="6019920" y="2895480"/>
              <a:ext cx="0" cy="18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38680" y="4673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Comic Sans MS"/>
                </a:rPr>
                <a:t>Ten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Thousan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5867280" y="2819520"/>
            <a:ext cx="3048120" cy="1892160"/>
            <a:chOff x="5867280" y="2819520"/>
            <a:chExt cx="3048120" cy="1892160"/>
          </a:xfrm>
        </p:grpSpPr>
        <p:sp>
          <p:nvSpPr>
            <p:cNvPr id="739" name=""/>
            <p:cNvSpPr/>
            <p:nvPr/>
          </p:nvSpPr>
          <p:spPr>
            <a:xfrm>
              <a:off x="6629400" y="28195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67280" y="3886200"/>
              <a:ext cx="304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9966"/>
                  </a:solidFill>
                  <a:latin typeface="Comic Sans MS"/>
                </a:rPr>
                <a:t>Hundred Thousand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781680" y="2819520"/>
            <a:ext cx="2133720" cy="1053720"/>
            <a:chOff x="6781680" y="2819520"/>
            <a:chExt cx="2133720" cy="1053720"/>
          </a:xfrm>
        </p:grpSpPr>
        <p:sp>
          <p:nvSpPr>
            <p:cNvPr id="742" name=""/>
            <p:cNvSpPr/>
            <p:nvPr/>
          </p:nvSpPr>
          <p:spPr>
            <a:xfrm>
              <a:off x="7391520" y="2819520"/>
              <a:ext cx="0" cy="65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781680" y="3413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6633"/>
                  </a:solidFill>
                  <a:latin typeface="Comic Sans MS"/>
                </a:rPr>
                <a:t>Million</a:t>
              </a:r>
              <a:r>
                <a:rPr b="0" lang="en-US" sz="2400" spc="-1" strike="noStrike">
                  <a:solidFill>
                    <a:srgbClr val="0000ff"/>
                  </a:solidFill>
                  <a:latin typeface="Comic Sans MS"/>
                </a:rPr>
                <a:t>th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66880" y="13716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685800" y="2057400"/>
          <a:ext cx="7696080" cy="41907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action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1447920" y="266544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37940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7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51656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4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76720" y="2727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te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352680" y="364176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y-five hundred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76720" y="4800600"/>
            <a:ext cx="243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 hundred fifty-six thousand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863760" y="2529000"/>
            <a:ext cx="586080" cy="977760"/>
            <a:chOff x="6863760" y="2529000"/>
            <a:chExt cx="586080" cy="977760"/>
          </a:xfrm>
        </p:grpSpPr>
        <p:sp>
          <p:nvSpPr>
            <p:cNvPr id="754" name=""/>
            <p:cNvSpPr/>
            <p:nvPr/>
          </p:nvSpPr>
          <p:spPr>
            <a:xfrm>
              <a:off x="6965640" y="2529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63760" y="29862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927840" y="2986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761160" y="3625920"/>
            <a:ext cx="788760" cy="977760"/>
            <a:chOff x="6761160" y="3625920"/>
            <a:chExt cx="788760" cy="977760"/>
          </a:xfrm>
        </p:grpSpPr>
        <p:sp>
          <p:nvSpPr>
            <p:cNvPr id="758" name=""/>
            <p:cNvSpPr/>
            <p:nvPr/>
          </p:nvSpPr>
          <p:spPr>
            <a:xfrm>
              <a:off x="6863400" y="36259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7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61160" y="408312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97520" y="4083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6660720" y="4998960"/>
            <a:ext cx="991440" cy="977760"/>
            <a:chOff x="6660720" y="4998960"/>
            <a:chExt cx="991440" cy="977760"/>
          </a:xfrm>
        </p:grpSpPr>
        <p:sp>
          <p:nvSpPr>
            <p:cNvPr id="762" name=""/>
            <p:cNvSpPr/>
            <p:nvPr/>
          </p:nvSpPr>
          <p:spPr>
            <a:xfrm>
              <a:off x="6761160" y="499896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5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60720" y="545616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705720" y="545616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1447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ci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229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257800" y="1447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85800" y="3276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(say) largest integer in numerat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008080" y="229392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 1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714640" y="259092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433840" y="2057400"/>
            <a:ext cx="1676520" cy="581400"/>
            <a:chOff x="5433840" y="2057400"/>
            <a:chExt cx="1676520" cy="581400"/>
          </a:xfrm>
        </p:grpSpPr>
        <p:sp>
          <p:nvSpPr>
            <p:cNvPr id="773" name=""/>
            <p:cNvSpPr/>
            <p:nvPr/>
          </p:nvSpPr>
          <p:spPr>
            <a:xfrm>
              <a:off x="5833080" y="205740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2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33840" y="259092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609480" y="45720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) Count decimal pla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53341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) Denominator has that many zeros after the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8080" y="1523880"/>
            <a:ext cx="7620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hanging Decimals to Fraction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2739960" y="3324240"/>
            <a:ext cx="3927600" cy="3043080"/>
          </a:xfrm>
          <a:custGeom>
            <a:avLst/>
            <a:gdLst/>
            <a:ahLst/>
            <a:rect l="l" t="t" r="r" b="b"/>
            <a:pathLst>
              <a:path w="2474" h="3833">
                <a:moveTo>
                  <a:pt x="15" y="64"/>
                </a:moveTo>
                <a:lnTo>
                  <a:pt x="0" y="3197"/>
                </a:lnTo>
                <a:lnTo>
                  <a:pt x="0" y="3833"/>
                </a:lnTo>
                <a:lnTo>
                  <a:pt x="263" y="3824"/>
                </a:lnTo>
                <a:lnTo>
                  <a:pt x="2474" y="1510"/>
                </a:lnTo>
                <a:lnTo>
                  <a:pt x="2414" y="0"/>
                </a:lnTo>
                <a:lnTo>
                  <a:pt x="462" y="73"/>
                </a:lnTo>
                <a:lnTo>
                  <a:pt x="15" y="64"/>
                </a:lnTo>
                <a:lnTo>
                  <a:pt x="15" y="64"/>
                </a:lnTo>
                <a:close/>
              </a:path>
            </a:pathLst>
          </a:custGeom>
          <a:solidFill>
            <a:srgbClr val="cdd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741760" y="3395520"/>
            <a:ext cx="1274760" cy="1249560"/>
          </a:xfrm>
          <a:custGeom>
            <a:avLst/>
            <a:gdLst/>
            <a:ahLst/>
            <a:rect l="l" t="t" r="r" b="b"/>
            <a:pathLst>
              <a:path w="803" h="1574">
                <a:moveTo>
                  <a:pt x="803" y="0"/>
                </a:moveTo>
                <a:lnTo>
                  <a:pt x="656" y="773"/>
                </a:lnTo>
                <a:lnTo>
                  <a:pt x="0" y="1574"/>
                </a:lnTo>
                <a:lnTo>
                  <a:pt x="31" y="0"/>
                </a:lnTo>
                <a:lnTo>
                  <a:pt x="803" y="0"/>
                </a:lnTo>
                <a:lnTo>
                  <a:pt x="803" y="0"/>
                </a:lnTo>
                <a:close/>
              </a:path>
            </a:pathLst>
          </a:custGeom>
          <a:solidFill>
            <a:srgbClr val="968a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698920" y="3836880"/>
            <a:ext cx="2941560" cy="2522520"/>
          </a:xfrm>
          <a:custGeom>
            <a:avLst/>
            <a:gdLst/>
            <a:ahLst/>
            <a:rect l="l" t="t" r="r" b="b"/>
            <a:pathLst>
              <a:path w="1853" h="3178">
                <a:moveTo>
                  <a:pt x="48" y="601"/>
                </a:moveTo>
                <a:lnTo>
                  <a:pt x="702" y="0"/>
                </a:lnTo>
                <a:lnTo>
                  <a:pt x="711" y="8"/>
                </a:lnTo>
                <a:lnTo>
                  <a:pt x="719" y="17"/>
                </a:lnTo>
                <a:lnTo>
                  <a:pt x="728" y="26"/>
                </a:lnTo>
                <a:lnTo>
                  <a:pt x="737" y="34"/>
                </a:lnTo>
                <a:lnTo>
                  <a:pt x="746" y="43"/>
                </a:lnTo>
                <a:lnTo>
                  <a:pt x="755" y="52"/>
                </a:lnTo>
                <a:lnTo>
                  <a:pt x="763" y="62"/>
                </a:lnTo>
                <a:lnTo>
                  <a:pt x="773" y="71"/>
                </a:lnTo>
                <a:lnTo>
                  <a:pt x="782" y="79"/>
                </a:lnTo>
                <a:lnTo>
                  <a:pt x="791" y="88"/>
                </a:lnTo>
                <a:lnTo>
                  <a:pt x="800" y="97"/>
                </a:lnTo>
                <a:lnTo>
                  <a:pt x="809" y="105"/>
                </a:lnTo>
                <a:lnTo>
                  <a:pt x="818" y="116"/>
                </a:lnTo>
                <a:lnTo>
                  <a:pt x="827" y="124"/>
                </a:lnTo>
                <a:lnTo>
                  <a:pt x="836" y="133"/>
                </a:lnTo>
                <a:lnTo>
                  <a:pt x="845" y="142"/>
                </a:lnTo>
                <a:lnTo>
                  <a:pt x="853" y="150"/>
                </a:lnTo>
                <a:lnTo>
                  <a:pt x="862" y="159"/>
                </a:lnTo>
                <a:lnTo>
                  <a:pt x="871" y="170"/>
                </a:lnTo>
                <a:lnTo>
                  <a:pt x="880" y="178"/>
                </a:lnTo>
                <a:lnTo>
                  <a:pt x="889" y="187"/>
                </a:lnTo>
                <a:lnTo>
                  <a:pt x="898" y="196"/>
                </a:lnTo>
                <a:lnTo>
                  <a:pt x="907" y="204"/>
                </a:lnTo>
                <a:lnTo>
                  <a:pt x="916" y="213"/>
                </a:lnTo>
                <a:lnTo>
                  <a:pt x="925" y="223"/>
                </a:lnTo>
                <a:lnTo>
                  <a:pt x="934" y="232"/>
                </a:lnTo>
                <a:lnTo>
                  <a:pt x="943" y="241"/>
                </a:lnTo>
                <a:lnTo>
                  <a:pt x="952" y="249"/>
                </a:lnTo>
                <a:lnTo>
                  <a:pt x="961" y="258"/>
                </a:lnTo>
                <a:lnTo>
                  <a:pt x="970" y="267"/>
                </a:lnTo>
                <a:lnTo>
                  <a:pt x="979" y="275"/>
                </a:lnTo>
                <a:lnTo>
                  <a:pt x="988" y="286"/>
                </a:lnTo>
                <a:lnTo>
                  <a:pt x="996" y="294"/>
                </a:lnTo>
                <a:lnTo>
                  <a:pt x="1005" y="303"/>
                </a:lnTo>
                <a:lnTo>
                  <a:pt x="1014" y="312"/>
                </a:lnTo>
                <a:lnTo>
                  <a:pt x="1023" y="320"/>
                </a:lnTo>
                <a:lnTo>
                  <a:pt x="1033" y="331"/>
                </a:lnTo>
                <a:lnTo>
                  <a:pt x="1042" y="339"/>
                </a:lnTo>
                <a:lnTo>
                  <a:pt x="1051" y="348"/>
                </a:lnTo>
                <a:lnTo>
                  <a:pt x="1060" y="357"/>
                </a:lnTo>
                <a:lnTo>
                  <a:pt x="1069" y="365"/>
                </a:lnTo>
                <a:lnTo>
                  <a:pt x="1078" y="376"/>
                </a:lnTo>
                <a:lnTo>
                  <a:pt x="1087" y="383"/>
                </a:lnTo>
                <a:lnTo>
                  <a:pt x="1096" y="393"/>
                </a:lnTo>
                <a:lnTo>
                  <a:pt x="1105" y="402"/>
                </a:lnTo>
                <a:lnTo>
                  <a:pt x="1114" y="411"/>
                </a:lnTo>
                <a:lnTo>
                  <a:pt x="1123" y="419"/>
                </a:lnTo>
                <a:lnTo>
                  <a:pt x="1132" y="428"/>
                </a:lnTo>
                <a:lnTo>
                  <a:pt x="1141" y="438"/>
                </a:lnTo>
                <a:lnTo>
                  <a:pt x="1149" y="447"/>
                </a:lnTo>
                <a:lnTo>
                  <a:pt x="1158" y="456"/>
                </a:lnTo>
                <a:lnTo>
                  <a:pt x="1168" y="464"/>
                </a:lnTo>
                <a:lnTo>
                  <a:pt x="1176" y="473"/>
                </a:lnTo>
                <a:lnTo>
                  <a:pt x="1186" y="482"/>
                </a:lnTo>
                <a:lnTo>
                  <a:pt x="1195" y="490"/>
                </a:lnTo>
                <a:lnTo>
                  <a:pt x="1204" y="501"/>
                </a:lnTo>
                <a:lnTo>
                  <a:pt x="1213" y="509"/>
                </a:lnTo>
                <a:lnTo>
                  <a:pt x="1222" y="518"/>
                </a:lnTo>
                <a:lnTo>
                  <a:pt x="1231" y="527"/>
                </a:lnTo>
                <a:lnTo>
                  <a:pt x="1240" y="535"/>
                </a:lnTo>
                <a:lnTo>
                  <a:pt x="1249" y="546"/>
                </a:lnTo>
                <a:lnTo>
                  <a:pt x="1258" y="554"/>
                </a:lnTo>
                <a:lnTo>
                  <a:pt x="1267" y="563"/>
                </a:lnTo>
                <a:lnTo>
                  <a:pt x="1276" y="572"/>
                </a:lnTo>
                <a:lnTo>
                  <a:pt x="1286" y="580"/>
                </a:lnTo>
                <a:lnTo>
                  <a:pt x="1295" y="589"/>
                </a:lnTo>
                <a:lnTo>
                  <a:pt x="1304" y="600"/>
                </a:lnTo>
                <a:lnTo>
                  <a:pt x="1313" y="608"/>
                </a:lnTo>
                <a:lnTo>
                  <a:pt x="1321" y="617"/>
                </a:lnTo>
                <a:lnTo>
                  <a:pt x="1330" y="626"/>
                </a:lnTo>
                <a:lnTo>
                  <a:pt x="1339" y="634"/>
                </a:lnTo>
                <a:lnTo>
                  <a:pt x="1348" y="645"/>
                </a:lnTo>
                <a:lnTo>
                  <a:pt x="1357" y="652"/>
                </a:lnTo>
                <a:lnTo>
                  <a:pt x="1366" y="662"/>
                </a:lnTo>
                <a:lnTo>
                  <a:pt x="1375" y="671"/>
                </a:lnTo>
                <a:lnTo>
                  <a:pt x="1385" y="679"/>
                </a:lnTo>
                <a:lnTo>
                  <a:pt x="1394" y="688"/>
                </a:lnTo>
                <a:lnTo>
                  <a:pt x="1403" y="697"/>
                </a:lnTo>
                <a:lnTo>
                  <a:pt x="1412" y="707"/>
                </a:lnTo>
                <a:lnTo>
                  <a:pt x="1421" y="716"/>
                </a:lnTo>
                <a:lnTo>
                  <a:pt x="1430" y="724"/>
                </a:lnTo>
                <a:lnTo>
                  <a:pt x="1439" y="733"/>
                </a:lnTo>
                <a:lnTo>
                  <a:pt x="1448" y="742"/>
                </a:lnTo>
                <a:lnTo>
                  <a:pt x="1457" y="752"/>
                </a:lnTo>
                <a:lnTo>
                  <a:pt x="1466" y="761"/>
                </a:lnTo>
                <a:lnTo>
                  <a:pt x="1475" y="769"/>
                </a:lnTo>
                <a:lnTo>
                  <a:pt x="1483" y="778"/>
                </a:lnTo>
                <a:lnTo>
                  <a:pt x="1492" y="787"/>
                </a:lnTo>
                <a:lnTo>
                  <a:pt x="1502" y="795"/>
                </a:lnTo>
                <a:lnTo>
                  <a:pt x="1511" y="806"/>
                </a:lnTo>
                <a:lnTo>
                  <a:pt x="1520" y="815"/>
                </a:lnTo>
                <a:lnTo>
                  <a:pt x="1529" y="823"/>
                </a:lnTo>
                <a:lnTo>
                  <a:pt x="1538" y="832"/>
                </a:lnTo>
                <a:lnTo>
                  <a:pt x="1547" y="841"/>
                </a:lnTo>
                <a:lnTo>
                  <a:pt x="1556" y="849"/>
                </a:lnTo>
                <a:lnTo>
                  <a:pt x="1565" y="860"/>
                </a:lnTo>
                <a:lnTo>
                  <a:pt x="1574" y="868"/>
                </a:lnTo>
                <a:lnTo>
                  <a:pt x="1583" y="877"/>
                </a:lnTo>
                <a:lnTo>
                  <a:pt x="1592" y="886"/>
                </a:lnTo>
                <a:lnTo>
                  <a:pt x="1601" y="894"/>
                </a:lnTo>
                <a:lnTo>
                  <a:pt x="1611" y="905"/>
                </a:lnTo>
                <a:lnTo>
                  <a:pt x="1620" y="913"/>
                </a:lnTo>
                <a:lnTo>
                  <a:pt x="1629" y="922"/>
                </a:lnTo>
                <a:lnTo>
                  <a:pt x="1638" y="931"/>
                </a:lnTo>
                <a:lnTo>
                  <a:pt x="1647" y="939"/>
                </a:lnTo>
                <a:lnTo>
                  <a:pt x="1655" y="948"/>
                </a:lnTo>
                <a:lnTo>
                  <a:pt x="1664" y="957"/>
                </a:lnTo>
                <a:lnTo>
                  <a:pt x="1673" y="967"/>
                </a:lnTo>
                <a:lnTo>
                  <a:pt x="1682" y="976"/>
                </a:lnTo>
                <a:lnTo>
                  <a:pt x="1691" y="984"/>
                </a:lnTo>
                <a:lnTo>
                  <a:pt x="1700" y="993"/>
                </a:lnTo>
                <a:lnTo>
                  <a:pt x="1709" y="1002"/>
                </a:lnTo>
                <a:lnTo>
                  <a:pt x="1718" y="1010"/>
                </a:lnTo>
                <a:lnTo>
                  <a:pt x="1727" y="1019"/>
                </a:lnTo>
                <a:lnTo>
                  <a:pt x="1737" y="1030"/>
                </a:lnTo>
                <a:lnTo>
                  <a:pt x="1746" y="1038"/>
                </a:lnTo>
                <a:lnTo>
                  <a:pt x="1755" y="1047"/>
                </a:lnTo>
                <a:lnTo>
                  <a:pt x="1764" y="1056"/>
                </a:lnTo>
                <a:lnTo>
                  <a:pt x="1773" y="1064"/>
                </a:lnTo>
                <a:lnTo>
                  <a:pt x="1782" y="1075"/>
                </a:lnTo>
                <a:lnTo>
                  <a:pt x="1791" y="1083"/>
                </a:lnTo>
                <a:lnTo>
                  <a:pt x="1800" y="1092"/>
                </a:lnTo>
                <a:lnTo>
                  <a:pt x="1809" y="1101"/>
                </a:lnTo>
                <a:lnTo>
                  <a:pt x="1817" y="1109"/>
                </a:lnTo>
                <a:lnTo>
                  <a:pt x="1826" y="1118"/>
                </a:lnTo>
                <a:lnTo>
                  <a:pt x="1835" y="1128"/>
                </a:lnTo>
                <a:lnTo>
                  <a:pt x="1844" y="1137"/>
                </a:lnTo>
                <a:lnTo>
                  <a:pt x="1853" y="1146"/>
                </a:lnTo>
                <a:lnTo>
                  <a:pt x="331" y="3178"/>
                </a:lnTo>
                <a:lnTo>
                  <a:pt x="194" y="3176"/>
                </a:lnTo>
                <a:lnTo>
                  <a:pt x="96" y="3164"/>
                </a:lnTo>
                <a:lnTo>
                  <a:pt x="60" y="3152"/>
                </a:lnTo>
                <a:lnTo>
                  <a:pt x="43" y="3134"/>
                </a:lnTo>
                <a:lnTo>
                  <a:pt x="35" y="3029"/>
                </a:lnTo>
                <a:lnTo>
                  <a:pt x="27" y="2786"/>
                </a:lnTo>
                <a:lnTo>
                  <a:pt x="20" y="2451"/>
                </a:lnTo>
                <a:lnTo>
                  <a:pt x="14" y="2072"/>
                </a:lnTo>
                <a:lnTo>
                  <a:pt x="5" y="1368"/>
                </a:lnTo>
                <a:lnTo>
                  <a:pt x="0" y="1049"/>
                </a:lnTo>
                <a:lnTo>
                  <a:pt x="48" y="601"/>
                </a:lnTo>
                <a:lnTo>
                  <a:pt x="48" y="601"/>
                </a:lnTo>
                <a:close/>
              </a:path>
            </a:pathLst>
          </a:custGeom>
          <a:solidFill>
            <a:srgbClr val="66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59280" y="4325760"/>
            <a:ext cx="3578040" cy="2041560"/>
          </a:xfrm>
          <a:custGeom>
            <a:avLst/>
            <a:gdLst/>
            <a:ahLst/>
            <a:rect l="l" t="t" r="r" b="b"/>
            <a:pathLst>
              <a:path w="2254" h="2573">
                <a:moveTo>
                  <a:pt x="62" y="2564"/>
                </a:moveTo>
                <a:lnTo>
                  <a:pt x="1768" y="2573"/>
                </a:lnTo>
                <a:lnTo>
                  <a:pt x="1843" y="2570"/>
                </a:lnTo>
                <a:lnTo>
                  <a:pt x="2006" y="2556"/>
                </a:lnTo>
                <a:lnTo>
                  <a:pt x="2094" y="2545"/>
                </a:lnTo>
                <a:lnTo>
                  <a:pt x="2171" y="2531"/>
                </a:lnTo>
                <a:lnTo>
                  <a:pt x="2227" y="2514"/>
                </a:lnTo>
                <a:lnTo>
                  <a:pt x="2244" y="2504"/>
                </a:lnTo>
                <a:lnTo>
                  <a:pt x="2252" y="2492"/>
                </a:lnTo>
                <a:lnTo>
                  <a:pt x="2254" y="2102"/>
                </a:lnTo>
                <a:lnTo>
                  <a:pt x="2251" y="1304"/>
                </a:lnTo>
                <a:lnTo>
                  <a:pt x="2245" y="520"/>
                </a:lnTo>
                <a:lnTo>
                  <a:pt x="2243" y="167"/>
                </a:lnTo>
                <a:lnTo>
                  <a:pt x="2046" y="0"/>
                </a:lnTo>
                <a:lnTo>
                  <a:pt x="1616" y="347"/>
                </a:lnTo>
                <a:lnTo>
                  <a:pt x="1207" y="845"/>
                </a:lnTo>
                <a:lnTo>
                  <a:pt x="745" y="1424"/>
                </a:lnTo>
                <a:lnTo>
                  <a:pt x="272" y="2173"/>
                </a:lnTo>
                <a:lnTo>
                  <a:pt x="0" y="2573"/>
                </a:lnTo>
                <a:lnTo>
                  <a:pt x="62" y="2564"/>
                </a:lnTo>
                <a:lnTo>
                  <a:pt x="62" y="256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41880" y="4552920"/>
            <a:ext cx="1825560" cy="1009800"/>
          </a:xfrm>
          <a:custGeom>
            <a:avLst/>
            <a:gdLst/>
            <a:ahLst/>
            <a:rect l="l" t="t" r="r" b="b"/>
            <a:pathLst>
              <a:path w="1150" h="1271">
                <a:moveTo>
                  <a:pt x="1087" y="128"/>
                </a:moveTo>
                <a:lnTo>
                  <a:pt x="1089" y="132"/>
                </a:lnTo>
                <a:lnTo>
                  <a:pt x="1098" y="140"/>
                </a:lnTo>
                <a:lnTo>
                  <a:pt x="1103" y="146"/>
                </a:lnTo>
                <a:lnTo>
                  <a:pt x="1109" y="153"/>
                </a:lnTo>
                <a:lnTo>
                  <a:pt x="1116" y="161"/>
                </a:lnTo>
                <a:lnTo>
                  <a:pt x="1121" y="170"/>
                </a:lnTo>
                <a:lnTo>
                  <a:pt x="1128" y="180"/>
                </a:lnTo>
                <a:lnTo>
                  <a:pt x="1135" y="191"/>
                </a:lnTo>
                <a:lnTo>
                  <a:pt x="1145" y="215"/>
                </a:lnTo>
                <a:lnTo>
                  <a:pt x="1150" y="239"/>
                </a:lnTo>
                <a:lnTo>
                  <a:pt x="1150" y="267"/>
                </a:lnTo>
                <a:lnTo>
                  <a:pt x="1148" y="281"/>
                </a:lnTo>
                <a:lnTo>
                  <a:pt x="1144" y="295"/>
                </a:lnTo>
                <a:lnTo>
                  <a:pt x="1140" y="302"/>
                </a:lnTo>
                <a:lnTo>
                  <a:pt x="1137" y="307"/>
                </a:lnTo>
                <a:lnTo>
                  <a:pt x="1131" y="316"/>
                </a:lnTo>
                <a:lnTo>
                  <a:pt x="1127" y="322"/>
                </a:lnTo>
                <a:lnTo>
                  <a:pt x="1121" y="329"/>
                </a:lnTo>
                <a:lnTo>
                  <a:pt x="1115" y="335"/>
                </a:lnTo>
                <a:lnTo>
                  <a:pt x="1107" y="342"/>
                </a:lnTo>
                <a:lnTo>
                  <a:pt x="1099" y="348"/>
                </a:lnTo>
                <a:lnTo>
                  <a:pt x="1090" y="355"/>
                </a:lnTo>
                <a:lnTo>
                  <a:pt x="1080" y="362"/>
                </a:lnTo>
                <a:lnTo>
                  <a:pt x="1069" y="368"/>
                </a:lnTo>
                <a:lnTo>
                  <a:pt x="1058" y="374"/>
                </a:lnTo>
                <a:lnTo>
                  <a:pt x="1044" y="380"/>
                </a:lnTo>
                <a:lnTo>
                  <a:pt x="1031" y="387"/>
                </a:lnTo>
                <a:lnTo>
                  <a:pt x="1016" y="392"/>
                </a:lnTo>
                <a:lnTo>
                  <a:pt x="1001" y="397"/>
                </a:lnTo>
                <a:lnTo>
                  <a:pt x="966" y="407"/>
                </a:lnTo>
                <a:lnTo>
                  <a:pt x="928" y="418"/>
                </a:lnTo>
                <a:lnTo>
                  <a:pt x="885" y="426"/>
                </a:lnTo>
                <a:lnTo>
                  <a:pt x="837" y="435"/>
                </a:lnTo>
                <a:lnTo>
                  <a:pt x="783" y="442"/>
                </a:lnTo>
                <a:lnTo>
                  <a:pt x="724" y="447"/>
                </a:lnTo>
                <a:lnTo>
                  <a:pt x="564" y="967"/>
                </a:lnTo>
                <a:lnTo>
                  <a:pt x="293" y="1271"/>
                </a:lnTo>
                <a:lnTo>
                  <a:pt x="0" y="1136"/>
                </a:lnTo>
                <a:lnTo>
                  <a:pt x="923" y="0"/>
                </a:lnTo>
                <a:lnTo>
                  <a:pt x="1087" y="128"/>
                </a:lnTo>
                <a:lnTo>
                  <a:pt x="1087" y="128"/>
                </a:lnTo>
                <a:close/>
              </a:path>
            </a:pathLst>
          </a:custGeom>
          <a:solidFill>
            <a:srgbClr val="c2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90920" y="5630760"/>
            <a:ext cx="1550880" cy="525600"/>
          </a:xfrm>
          <a:custGeom>
            <a:avLst/>
            <a:gdLst/>
            <a:ahLst/>
            <a:rect l="l" t="t" r="r" b="b"/>
            <a:pathLst>
              <a:path w="977" h="662">
                <a:moveTo>
                  <a:pt x="0" y="558"/>
                </a:moveTo>
                <a:lnTo>
                  <a:pt x="8" y="561"/>
                </a:lnTo>
                <a:lnTo>
                  <a:pt x="31" y="572"/>
                </a:lnTo>
                <a:lnTo>
                  <a:pt x="47" y="580"/>
                </a:lnTo>
                <a:lnTo>
                  <a:pt x="67" y="587"/>
                </a:lnTo>
                <a:lnTo>
                  <a:pt x="90" y="596"/>
                </a:lnTo>
                <a:lnTo>
                  <a:pt x="114" y="605"/>
                </a:lnTo>
                <a:lnTo>
                  <a:pt x="142" y="615"/>
                </a:lnTo>
                <a:lnTo>
                  <a:pt x="172" y="624"/>
                </a:lnTo>
                <a:lnTo>
                  <a:pt x="205" y="632"/>
                </a:lnTo>
                <a:lnTo>
                  <a:pt x="238" y="639"/>
                </a:lnTo>
                <a:lnTo>
                  <a:pt x="274" y="648"/>
                </a:lnTo>
                <a:lnTo>
                  <a:pt x="311" y="653"/>
                </a:lnTo>
                <a:lnTo>
                  <a:pt x="388" y="662"/>
                </a:lnTo>
                <a:lnTo>
                  <a:pt x="468" y="662"/>
                </a:lnTo>
                <a:lnTo>
                  <a:pt x="550" y="651"/>
                </a:lnTo>
                <a:lnTo>
                  <a:pt x="590" y="643"/>
                </a:lnTo>
                <a:lnTo>
                  <a:pt x="631" y="631"/>
                </a:lnTo>
                <a:lnTo>
                  <a:pt x="652" y="624"/>
                </a:lnTo>
                <a:lnTo>
                  <a:pt x="672" y="615"/>
                </a:lnTo>
                <a:lnTo>
                  <a:pt x="691" y="606"/>
                </a:lnTo>
                <a:lnTo>
                  <a:pt x="711" y="596"/>
                </a:lnTo>
                <a:lnTo>
                  <a:pt x="730" y="586"/>
                </a:lnTo>
                <a:lnTo>
                  <a:pt x="750" y="573"/>
                </a:lnTo>
                <a:lnTo>
                  <a:pt x="759" y="566"/>
                </a:lnTo>
                <a:lnTo>
                  <a:pt x="768" y="560"/>
                </a:lnTo>
                <a:lnTo>
                  <a:pt x="778" y="553"/>
                </a:lnTo>
                <a:lnTo>
                  <a:pt x="787" y="546"/>
                </a:lnTo>
                <a:lnTo>
                  <a:pt x="796" y="539"/>
                </a:lnTo>
                <a:lnTo>
                  <a:pt x="805" y="530"/>
                </a:lnTo>
                <a:lnTo>
                  <a:pt x="814" y="521"/>
                </a:lnTo>
                <a:lnTo>
                  <a:pt x="822" y="514"/>
                </a:lnTo>
                <a:lnTo>
                  <a:pt x="831" y="506"/>
                </a:lnTo>
                <a:lnTo>
                  <a:pt x="840" y="497"/>
                </a:lnTo>
                <a:lnTo>
                  <a:pt x="849" y="487"/>
                </a:lnTo>
                <a:lnTo>
                  <a:pt x="857" y="478"/>
                </a:lnTo>
                <a:lnTo>
                  <a:pt x="866" y="468"/>
                </a:lnTo>
                <a:lnTo>
                  <a:pt x="874" y="457"/>
                </a:lnTo>
                <a:lnTo>
                  <a:pt x="883" y="447"/>
                </a:lnTo>
                <a:lnTo>
                  <a:pt x="891" y="436"/>
                </a:lnTo>
                <a:lnTo>
                  <a:pt x="898" y="426"/>
                </a:lnTo>
                <a:lnTo>
                  <a:pt x="906" y="414"/>
                </a:lnTo>
                <a:lnTo>
                  <a:pt x="914" y="402"/>
                </a:lnTo>
                <a:lnTo>
                  <a:pt x="921" y="390"/>
                </a:lnTo>
                <a:lnTo>
                  <a:pt x="929" y="377"/>
                </a:lnTo>
                <a:lnTo>
                  <a:pt x="932" y="371"/>
                </a:lnTo>
                <a:lnTo>
                  <a:pt x="935" y="365"/>
                </a:lnTo>
                <a:lnTo>
                  <a:pt x="940" y="358"/>
                </a:lnTo>
                <a:lnTo>
                  <a:pt x="943" y="351"/>
                </a:lnTo>
                <a:lnTo>
                  <a:pt x="950" y="338"/>
                </a:lnTo>
                <a:lnTo>
                  <a:pt x="963" y="310"/>
                </a:lnTo>
                <a:lnTo>
                  <a:pt x="977" y="280"/>
                </a:lnTo>
                <a:lnTo>
                  <a:pt x="782" y="0"/>
                </a:lnTo>
                <a:lnTo>
                  <a:pt x="252" y="93"/>
                </a:lnTo>
                <a:lnTo>
                  <a:pt x="0" y="558"/>
                </a:lnTo>
                <a:lnTo>
                  <a:pt x="0" y="558"/>
                </a:lnTo>
                <a:close/>
              </a:path>
            </a:pathLst>
          </a:custGeom>
          <a:solidFill>
            <a:srgbClr val="c2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664160" y="5316480"/>
            <a:ext cx="1112760" cy="701640"/>
          </a:xfrm>
          <a:custGeom>
            <a:avLst/>
            <a:gdLst/>
            <a:ahLst/>
            <a:rect l="l" t="t" r="r" b="b"/>
            <a:pathLst>
              <a:path w="701" h="885">
                <a:moveTo>
                  <a:pt x="78" y="453"/>
                </a:moveTo>
                <a:lnTo>
                  <a:pt x="392" y="885"/>
                </a:lnTo>
                <a:lnTo>
                  <a:pt x="701" y="333"/>
                </a:lnTo>
                <a:lnTo>
                  <a:pt x="295" y="0"/>
                </a:lnTo>
                <a:lnTo>
                  <a:pt x="0" y="333"/>
                </a:lnTo>
                <a:lnTo>
                  <a:pt x="78" y="453"/>
                </a:lnTo>
                <a:lnTo>
                  <a:pt x="78" y="4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646520" y="5321160"/>
            <a:ext cx="507960" cy="533520"/>
          </a:xfrm>
          <a:custGeom>
            <a:avLst/>
            <a:gdLst/>
            <a:ahLst/>
            <a:rect l="l" t="t" r="r" b="b"/>
            <a:pathLst>
              <a:path w="320" h="671">
                <a:moveTo>
                  <a:pt x="318" y="339"/>
                </a:moveTo>
                <a:lnTo>
                  <a:pt x="320" y="415"/>
                </a:lnTo>
                <a:lnTo>
                  <a:pt x="318" y="475"/>
                </a:lnTo>
                <a:lnTo>
                  <a:pt x="311" y="524"/>
                </a:lnTo>
                <a:lnTo>
                  <a:pt x="307" y="545"/>
                </a:lnTo>
                <a:lnTo>
                  <a:pt x="302" y="562"/>
                </a:lnTo>
                <a:lnTo>
                  <a:pt x="297" y="580"/>
                </a:lnTo>
                <a:lnTo>
                  <a:pt x="291" y="593"/>
                </a:lnTo>
                <a:lnTo>
                  <a:pt x="284" y="607"/>
                </a:lnTo>
                <a:lnTo>
                  <a:pt x="281" y="614"/>
                </a:lnTo>
                <a:lnTo>
                  <a:pt x="278" y="621"/>
                </a:lnTo>
                <a:lnTo>
                  <a:pt x="273" y="628"/>
                </a:lnTo>
                <a:lnTo>
                  <a:pt x="270" y="633"/>
                </a:lnTo>
                <a:lnTo>
                  <a:pt x="267" y="640"/>
                </a:lnTo>
                <a:lnTo>
                  <a:pt x="263" y="645"/>
                </a:lnTo>
                <a:lnTo>
                  <a:pt x="260" y="652"/>
                </a:lnTo>
                <a:lnTo>
                  <a:pt x="255" y="659"/>
                </a:lnTo>
                <a:lnTo>
                  <a:pt x="252" y="664"/>
                </a:lnTo>
                <a:lnTo>
                  <a:pt x="249" y="671"/>
                </a:lnTo>
                <a:lnTo>
                  <a:pt x="0" y="333"/>
                </a:lnTo>
                <a:lnTo>
                  <a:pt x="274" y="30"/>
                </a:lnTo>
                <a:lnTo>
                  <a:pt x="309" y="0"/>
                </a:lnTo>
                <a:lnTo>
                  <a:pt x="230" y="224"/>
                </a:lnTo>
                <a:lnTo>
                  <a:pt x="318" y="339"/>
                </a:lnTo>
                <a:lnTo>
                  <a:pt x="318" y="339"/>
                </a:lnTo>
                <a:close/>
              </a:path>
            </a:pathLst>
          </a:custGeom>
          <a:solidFill>
            <a:srgbClr val="abb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740120" y="5410080"/>
            <a:ext cx="439920" cy="297000"/>
          </a:xfrm>
          <a:custGeom>
            <a:avLst/>
            <a:gdLst/>
            <a:ahLst/>
            <a:rect l="l" t="t" r="r" b="b"/>
            <a:pathLst>
              <a:path w="277" h="375">
                <a:moveTo>
                  <a:pt x="0" y="158"/>
                </a:moveTo>
                <a:lnTo>
                  <a:pt x="134" y="0"/>
                </a:lnTo>
                <a:lnTo>
                  <a:pt x="153" y="0"/>
                </a:lnTo>
                <a:lnTo>
                  <a:pt x="166" y="9"/>
                </a:lnTo>
                <a:lnTo>
                  <a:pt x="173" y="30"/>
                </a:lnTo>
                <a:lnTo>
                  <a:pt x="234" y="61"/>
                </a:lnTo>
                <a:lnTo>
                  <a:pt x="211" y="134"/>
                </a:lnTo>
                <a:lnTo>
                  <a:pt x="277" y="184"/>
                </a:lnTo>
                <a:lnTo>
                  <a:pt x="222" y="280"/>
                </a:lnTo>
                <a:lnTo>
                  <a:pt x="143" y="337"/>
                </a:lnTo>
                <a:lnTo>
                  <a:pt x="9" y="375"/>
                </a:lnTo>
                <a:lnTo>
                  <a:pt x="40" y="286"/>
                </a:lnTo>
                <a:lnTo>
                  <a:pt x="30" y="205"/>
                </a:lnTo>
                <a:lnTo>
                  <a:pt x="0" y="158"/>
                </a:lnTo>
                <a:lnTo>
                  <a:pt x="0" y="158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518080" y="4529160"/>
            <a:ext cx="398520" cy="249120"/>
          </a:xfrm>
          <a:custGeom>
            <a:avLst/>
            <a:gdLst/>
            <a:ahLst/>
            <a:rect l="l" t="t" r="r" b="b"/>
            <a:pathLst>
              <a:path w="251" h="314">
                <a:moveTo>
                  <a:pt x="0" y="210"/>
                </a:moveTo>
                <a:lnTo>
                  <a:pt x="88" y="314"/>
                </a:lnTo>
                <a:lnTo>
                  <a:pt x="87" y="225"/>
                </a:lnTo>
                <a:lnTo>
                  <a:pt x="251" y="152"/>
                </a:lnTo>
                <a:lnTo>
                  <a:pt x="194" y="107"/>
                </a:lnTo>
                <a:lnTo>
                  <a:pt x="240" y="38"/>
                </a:lnTo>
                <a:lnTo>
                  <a:pt x="124" y="0"/>
                </a:lnTo>
                <a:lnTo>
                  <a:pt x="0" y="210"/>
                </a:lnTo>
                <a:lnTo>
                  <a:pt x="0" y="21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365640" y="3849840"/>
            <a:ext cx="2490480" cy="1946160"/>
          </a:xfrm>
          <a:custGeom>
            <a:avLst/>
            <a:gdLst/>
            <a:ahLst/>
            <a:rect l="l" t="t" r="r" b="b"/>
            <a:pathLst>
              <a:path w="1569" h="2452">
                <a:moveTo>
                  <a:pt x="580" y="1978"/>
                </a:moveTo>
                <a:lnTo>
                  <a:pt x="1323" y="1052"/>
                </a:lnTo>
                <a:lnTo>
                  <a:pt x="1396" y="1040"/>
                </a:lnTo>
                <a:lnTo>
                  <a:pt x="1401" y="1033"/>
                </a:lnTo>
                <a:lnTo>
                  <a:pt x="1407" y="1025"/>
                </a:lnTo>
                <a:lnTo>
                  <a:pt x="1415" y="1014"/>
                </a:lnTo>
                <a:lnTo>
                  <a:pt x="1420" y="1009"/>
                </a:lnTo>
                <a:lnTo>
                  <a:pt x="1425" y="1002"/>
                </a:lnTo>
                <a:lnTo>
                  <a:pt x="1430" y="995"/>
                </a:lnTo>
                <a:lnTo>
                  <a:pt x="1435" y="987"/>
                </a:lnTo>
                <a:lnTo>
                  <a:pt x="1441" y="978"/>
                </a:lnTo>
                <a:lnTo>
                  <a:pt x="1447" y="971"/>
                </a:lnTo>
                <a:lnTo>
                  <a:pt x="1453" y="962"/>
                </a:lnTo>
                <a:lnTo>
                  <a:pt x="1459" y="952"/>
                </a:lnTo>
                <a:lnTo>
                  <a:pt x="1464" y="943"/>
                </a:lnTo>
                <a:lnTo>
                  <a:pt x="1470" y="935"/>
                </a:lnTo>
                <a:lnTo>
                  <a:pt x="1477" y="924"/>
                </a:lnTo>
                <a:lnTo>
                  <a:pt x="1482" y="914"/>
                </a:lnTo>
                <a:lnTo>
                  <a:pt x="1488" y="905"/>
                </a:lnTo>
                <a:lnTo>
                  <a:pt x="1492" y="895"/>
                </a:lnTo>
                <a:lnTo>
                  <a:pt x="1497" y="884"/>
                </a:lnTo>
                <a:lnTo>
                  <a:pt x="1502" y="876"/>
                </a:lnTo>
                <a:lnTo>
                  <a:pt x="1516" y="837"/>
                </a:lnTo>
                <a:lnTo>
                  <a:pt x="1569" y="407"/>
                </a:lnTo>
                <a:lnTo>
                  <a:pt x="1540" y="81"/>
                </a:lnTo>
                <a:lnTo>
                  <a:pt x="1457" y="0"/>
                </a:lnTo>
                <a:lnTo>
                  <a:pt x="1375" y="17"/>
                </a:lnTo>
                <a:lnTo>
                  <a:pt x="1249" y="123"/>
                </a:lnTo>
                <a:lnTo>
                  <a:pt x="1167" y="192"/>
                </a:lnTo>
                <a:lnTo>
                  <a:pt x="973" y="224"/>
                </a:lnTo>
                <a:lnTo>
                  <a:pt x="774" y="307"/>
                </a:lnTo>
                <a:lnTo>
                  <a:pt x="551" y="458"/>
                </a:lnTo>
                <a:lnTo>
                  <a:pt x="430" y="609"/>
                </a:lnTo>
                <a:lnTo>
                  <a:pt x="255" y="836"/>
                </a:lnTo>
                <a:lnTo>
                  <a:pt x="135" y="1070"/>
                </a:lnTo>
                <a:lnTo>
                  <a:pt x="126" y="1094"/>
                </a:lnTo>
                <a:lnTo>
                  <a:pt x="121" y="1118"/>
                </a:lnTo>
                <a:lnTo>
                  <a:pt x="115" y="1141"/>
                </a:lnTo>
                <a:lnTo>
                  <a:pt x="107" y="1167"/>
                </a:lnTo>
                <a:lnTo>
                  <a:pt x="100" y="1198"/>
                </a:lnTo>
                <a:lnTo>
                  <a:pt x="92" y="1234"/>
                </a:lnTo>
                <a:lnTo>
                  <a:pt x="87" y="1254"/>
                </a:lnTo>
                <a:lnTo>
                  <a:pt x="83" y="1273"/>
                </a:lnTo>
                <a:lnTo>
                  <a:pt x="78" y="1293"/>
                </a:lnTo>
                <a:lnTo>
                  <a:pt x="74" y="1316"/>
                </a:lnTo>
                <a:lnTo>
                  <a:pt x="65" y="1361"/>
                </a:lnTo>
                <a:lnTo>
                  <a:pt x="57" y="1408"/>
                </a:lnTo>
                <a:lnTo>
                  <a:pt x="48" y="1458"/>
                </a:lnTo>
                <a:lnTo>
                  <a:pt x="41" y="1508"/>
                </a:lnTo>
                <a:lnTo>
                  <a:pt x="35" y="1560"/>
                </a:lnTo>
                <a:lnTo>
                  <a:pt x="26" y="1664"/>
                </a:lnTo>
                <a:lnTo>
                  <a:pt x="20" y="1758"/>
                </a:lnTo>
                <a:lnTo>
                  <a:pt x="16" y="1833"/>
                </a:lnTo>
                <a:lnTo>
                  <a:pt x="11" y="1892"/>
                </a:lnTo>
                <a:lnTo>
                  <a:pt x="7" y="1935"/>
                </a:lnTo>
                <a:lnTo>
                  <a:pt x="0" y="1999"/>
                </a:lnTo>
                <a:lnTo>
                  <a:pt x="68" y="2276"/>
                </a:lnTo>
                <a:lnTo>
                  <a:pt x="193" y="2407"/>
                </a:lnTo>
                <a:lnTo>
                  <a:pt x="440" y="2452"/>
                </a:lnTo>
                <a:lnTo>
                  <a:pt x="671" y="2415"/>
                </a:lnTo>
                <a:lnTo>
                  <a:pt x="885" y="2334"/>
                </a:lnTo>
                <a:lnTo>
                  <a:pt x="910" y="2207"/>
                </a:lnTo>
                <a:lnTo>
                  <a:pt x="856" y="2117"/>
                </a:lnTo>
                <a:lnTo>
                  <a:pt x="747" y="2027"/>
                </a:lnTo>
                <a:lnTo>
                  <a:pt x="624" y="2015"/>
                </a:lnTo>
                <a:lnTo>
                  <a:pt x="580" y="1978"/>
                </a:lnTo>
                <a:lnTo>
                  <a:pt x="580" y="1978"/>
                </a:lnTo>
                <a:close/>
              </a:path>
            </a:pathLst>
          </a:custGeom>
          <a:solidFill>
            <a:srgbClr val="00bc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726000" y="3868560"/>
            <a:ext cx="2125440" cy="1643400"/>
          </a:xfrm>
          <a:custGeom>
            <a:avLst/>
            <a:gdLst/>
            <a:ahLst/>
            <a:rect l="l" t="t" r="r" b="b"/>
            <a:pathLst>
              <a:path w="1339" h="2070">
                <a:moveTo>
                  <a:pt x="427" y="617"/>
                </a:moveTo>
                <a:lnTo>
                  <a:pt x="421" y="625"/>
                </a:lnTo>
                <a:lnTo>
                  <a:pt x="416" y="631"/>
                </a:lnTo>
                <a:lnTo>
                  <a:pt x="412" y="638"/>
                </a:lnTo>
                <a:lnTo>
                  <a:pt x="406" y="646"/>
                </a:lnTo>
                <a:lnTo>
                  <a:pt x="400" y="657"/>
                </a:lnTo>
                <a:lnTo>
                  <a:pt x="392" y="667"/>
                </a:lnTo>
                <a:lnTo>
                  <a:pt x="384" y="679"/>
                </a:lnTo>
                <a:lnTo>
                  <a:pt x="380" y="684"/>
                </a:lnTo>
                <a:lnTo>
                  <a:pt x="376" y="691"/>
                </a:lnTo>
                <a:lnTo>
                  <a:pt x="372" y="698"/>
                </a:lnTo>
                <a:lnTo>
                  <a:pt x="367" y="705"/>
                </a:lnTo>
                <a:lnTo>
                  <a:pt x="362" y="712"/>
                </a:lnTo>
                <a:lnTo>
                  <a:pt x="357" y="721"/>
                </a:lnTo>
                <a:lnTo>
                  <a:pt x="353" y="728"/>
                </a:lnTo>
                <a:lnTo>
                  <a:pt x="347" y="736"/>
                </a:lnTo>
                <a:lnTo>
                  <a:pt x="343" y="745"/>
                </a:lnTo>
                <a:lnTo>
                  <a:pt x="337" y="754"/>
                </a:lnTo>
                <a:lnTo>
                  <a:pt x="332" y="762"/>
                </a:lnTo>
                <a:lnTo>
                  <a:pt x="326" y="771"/>
                </a:lnTo>
                <a:lnTo>
                  <a:pt x="320" y="780"/>
                </a:lnTo>
                <a:lnTo>
                  <a:pt x="315" y="790"/>
                </a:lnTo>
                <a:lnTo>
                  <a:pt x="309" y="799"/>
                </a:lnTo>
                <a:lnTo>
                  <a:pt x="304" y="809"/>
                </a:lnTo>
                <a:lnTo>
                  <a:pt x="297" y="820"/>
                </a:lnTo>
                <a:lnTo>
                  <a:pt x="291" y="830"/>
                </a:lnTo>
                <a:lnTo>
                  <a:pt x="286" y="840"/>
                </a:lnTo>
                <a:lnTo>
                  <a:pt x="279" y="851"/>
                </a:lnTo>
                <a:lnTo>
                  <a:pt x="274" y="861"/>
                </a:lnTo>
                <a:lnTo>
                  <a:pt x="267" y="872"/>
                </a:lnTo>
                <a:lnTo>
                  <a:pt x="261" y="884"/>
                </a:lnTo>
                <a:lnTo>
                  <a:pt x="255" y="894"/>
                </a:lnTo>
                <a:lnTo>
                  <a:pt x="248" y="906"/>
                </a:lnTo>
                <a:lnTo>
                  <a:pt x="242" y="918"/>
                </a:lnTo>
                <a:lnTo>
                  <a:pt x="236" y="931"/>
                </a:lnTo>
                <a:lnTo>
                  <a:pt x="229" y="943"/>
                </a:lnTo>
                <a:lnTo>
                  <a:pt x="223" y="955"/>
                </a:lnTo>
                <a:lnTo>
                  <a:pt x="217" y="967"/>
                </a:lnTo>
                <a:lnTo>
                  <a:pt x="213" y="972"/>
                </a:lnTo>
                <a:lnTo>
                  <a:pt x="210" y="979"/>
                </a:lnTo>
                <a:lnTo>
                  <a:pt x="206" y="984"/>
                </a:lnTo>
                <a:lnTo>
                  <a:pt x="204" y="991"/>
                </a:lnTo>
                <a:lnTo>
                  <a:pt x="201" y="998"/>
                </a:lnTo>
                <a:lnTo>
                  <a:pt x="198" y="1003"/>
                </a:lnTo>
                <a:lnTo>
                  <a:pt x="191" y="1017"/>
                </a:lnTo>
                <a:lnTo>
                  <a:pt x="187" y="1024"/>
                </a:lnTo>
                <a:lnTo>
                  <a:pt x="185" y="1029"/>
                </a:lnTo>
                <a:lnTo>
                  <a:pt x="179" y="1043"/>
                </a:lnTo>
                <a:lnTo>
                  <a:pt x="166" y="1069"/>
                </a:lnTo>
                <a:lnTo>
                  <a:pt x="153" y="1097"/>
                </a:lnTo>
                <a:lnTo>
                  <a:pt x="142" y="1123"/>
                </a:lnTo>
                <a:lnTo>
                  <a:pt x="129" y="1151"/>
                </a:lnTo>
                <a:lnTo>
                  <a:pt x="118" y="1180"/>
                </a:lnTo>
                <a:lnTo>
                  <a:pt x="106" y="1208"/>
                </a:lnTo>
                <a:lnTo>
                  <a:pt x="96" y="1237"/>
                </a:lnTo>
                <a:lnTo>
                  <a:pt x="85" y="1265"/>
                </a:lnTo>
                <a:lnTo>
                  <a:pt x="75" y="1295"/>
                </a:lnTo>
                <a:lnTo>
                  <a:pt x="65" y="1324"/>
                </a:lnTo>
                <a:lnTo>
                  <a:pt x="56" y="1354"/>
                </a:lnTo>
                <a:lnTo>
                  <a:pt x="47" y="1383"/>
                </a:lnTo>
                <a:lnTo>
                  <a:pt x="39" y="1413"/>
                </a:lnTo>
                <a:lnTo>
                  <a:pt x="31" y="1442"/>
                </a:lnTo>
                <a:lnTo>
                  <a:pt x="26" y="1472"/>
                </a:lnTo>
                <a:lnTo>
                  <a:pt x="19" y="1501"/>
                </a:lnTo>
                <a:lnTo>
                  <a:pt x="9" y="1560"/>
                </a:lnTo>
                <a:lnTo>
                  <a:pt x="0" y="1674"/>
                </a:lnTo>
                <a:lnTo>
                  <a:pt x="1" y="1732"/>
                </a:lnTo>
                <a:lnTo>
                  <a:pt x="7" y="1787"/>
                </a:lnTo>
                <a:lnTo>
                  <a:pt x="11" y="1813"/>
                </a:lnTo>
                <a:lnTo>
                  <a:pt x="17" y="1839"/>
                </a:lnTo>
                <a:lnTo>
                  <a:pt x="23" y="1865"/>
                </a:lnTo>
                <a:lnTo>
                  <a:pt x="31" y="1891"/>
                </a:lnTo>
                <a:lnTo>
                  <a:pt x="41" y="1915"/>
                </a:lnTo>
                <a:lnTo>
                  <a:pt x="52" y="1940"/>
                </a:lnTo>
                <a:lnTo>
                  <a:pt x="55" y="1945"/>
                </a:lnTo>
                <a:lnTo>
                  <a:pt x="58" y="1952"/>
                </a:lnTo>
                <a:lnTo>
                  <a:pt x="65" y="1962"/>
                </a:lnTo>
                <a:lnTo>
                  <a:pt x="70" y="1974"/>
                </a:lnTo>
                <a:lnTo>
                  <a:pt x="78" y="1986"/>
                </a:lnTo>
                <a:lnTo>
                  <a:pt x="85" y="1997"/>
                </a:lnTo>
                <a:lnTo>
                  <a:pt x="93" y="2007"/>
                </a:lnTo>
                <a:lnTo>
                  <a:pt x="100" y="2019"/>
                </a:lnTo>
                <a:lnTo>
                  <a:pt x="109" y="2030"/>
                </a:lnTo>
                <a:lnTo>
                  <a:pt x="118" y="2040"/>
                </a:lnTo>
                <a:lnTo>
                  <a:pt x="127" y="2051"/>
                </a:lnTo>
                <a:lnTo>
                  <a:pt x="137" y="2061"/>
                </a:lnTo>
                <a:lnTo>
                  <a:pt x="147" y="2070"/>
                </a:lnTo>
                <a:lnTo>
                  <a:pt x="141" y="1888"/>
                </a:lnTo>
                <a:lnTo>
                  <a:pt x="144" y="1851"/>
                </a:lnTo>
                <a:lnTo>
                  <a:pt x="150" y="1815"/>
                </a:lnTo>
                <a:lnTo>
                  <a:pt x="154" y="1796"/>
                </a:lnTo>
                <a:lnTo>
                  <a:pt x="158" y="1778"/>
                </a:lnTo>
                <a:lnTo>
                  <a:pt x="163" y="1761"/>
                </a:lnTo>
                <a:lnTo>
                  <a:pt x="170" y="1744"/>
                </a:lnTo>
                <a:lnTo>
                  <a:pt x="176" y="1726"/>
                </a:lnTo>
                <a:lnTo>
                  <a:pt x="180" y="1719"/>
                </a:lnTo>
                <a:lnTo>
                  <a:pt x="184" y="1711"/>
                </a:lnTo>
                <a:lnTo>
                  <a:pt x="189" y="1704"/>
                </a:lnTo>
                <a:lnTo>
                  <a:pt x="193" y="1697"/>
                </a:lnTo>
                <a:lnTo>
                  <a:pt x="198" y="1690"/>
                </a:lnTo>
                <a:lnTo>
                  <a:pt x="202" y="1683"/>
                </a:lnTo>
                <a:lnTo>
                  <a:pt x="208" y="1676"/>
                </a:lnTo>
                <a:lnTo>
                  <a:pt x="213" y="1669"/>
                </a:lnTo>
                <a:lnTo>
                  <a:pt x="219" y="1664"/>
                </a:lnTo>
                <a:lnTo>
                  <a:pt x="225" y="1657"/>
                </a:lnTo>
                <a:lnTo>
                  <a:pt x="238" y="1647"/>
                </a:lnTo>
                <a:lnTo>
                  <a:pt x="252" y="1638"/>
                </a:lnTo>
                <a:lnTo>
                  <a:pt x="190" y="1801"/>
                </a:lnTo>
                <a:lnTo>
                  <a:pt x="258" y="1907"/>
                </a:lnTo>
                <a:lnTo>
                  <a:pt x="353" y="1955"/>
                </a:lnTo>
                <a:lnTo>
                  <a:pt x="719" y="1515"/>
                </a:lnTo>
                <a:lnTo>
                  <a:pt x="976" y="1189"/>
                </a:lnTo>
                <a:lnTo>
                  <a:pt x="1293" y="849"/>
                </a:lnTo>
                <a:lnTo>
                  <a:pt x="1302" y="794"/>
                </a:lnTo>
                <a:lnTo>
                  <a:pt x="1311" y="733"/>
                </a:lnTo>
                <a:lnTo>
                  <a:pt x="1320" y="655"/>
                </a:lnTo>
                <a:lnTo>
                  <a:pt x="1330" y="565"/>
                </a:lnTo>
                <a:lnTo>
                  <a:pt x="1337" y="469"/>
                </a:lnTo>
                <a:lnTo>
                  <a:pt x="1339" y="275"/>
                </a:lnTo>
                <a:lnTo>
                  <a:pt x="1336" y="230"/>
                </a:lnTo>
                <a:lnTo>
                  <a:pt x="1330" y="187"/>
                </a:lnTo>
                <a:lnTo>
                  <a:pt x="1323" y="147"/>
                </a:lnTo>
                <a:lnTo>
                  <a:pt x="1319" y="128"/>
                </a:lnTo>
                <a:lnTo>
                  <a:pt x="1315" y="110"/>
                </a:lnTo>
                <a:lnTo>
                  <a:pt x="1309" y="93"/>
                </a:lnTo>
                <a:lnTo>
                  <a:pt x="1302" y="78"/>
                </a:lnTo>
                <a:lnTo>
                  <a:pt x="1296" y="64"/>
                </a:lnTo>
                <a:lnTo>
                  <a:pt x="1292" y="57"/>
                </a:lnTo>
                <a:lnTo>
                  <a:pt x="1288" y="50"/>
                </a:lnTo>
                <a:lnTo>
                  <a:pt x="1284" y="45"/>
                </a:lnTo>
                <a:lnTo>
                  <a:pt x="1280" y="38"/>
                </a:lnTo>
                <a:lnTo>
                  <a:pt x="1271" y="27"/>
                </a:lnTo>
                <a:lnTo>
                  <a:pt x="1261" y="19"/>
                </a:lnTo>
                <a:lnTo>
                  <a:pt x="1251" y="12"/>
                </a:lnTo>
                <a:lnTo>
                  <a:pt x="1240" y="6"/>
                </a:lnTo>
                <a:lnTo>
                  <a:pt x="1227" y="3"/>
                </a:lnTo>
                <a:lnTo>
                  <a:pt x="1201" y="0"/>
                </a:lnTo>
                <a:lnTo>
                  <a:pt x="1170" y="5"/>
                </a:lnTo>
                <a:lnTo>
                  <a:pt x="1137" y="19"/>
                </a:lnTo>
                <a:lnTo>
                  <a:pt x="1118" y="29"/>
                </a:lnTo>
                <a:lnTo>
                  <a:pt x="1099" y="41"/>
                </a:lnTo>
                <a:lnTo>
                  <a:pt x="1089" y="48"/>
                </a:lnTo>
                <a:lnTo>
                  <a:pt x="1078" y="57"/>
                </a:lnTo>
                <a:lnTo>
                  <a:pt x="1068" y="65"/>
                </a:lnTo>
                <a:lnTo>
                  <a:pt x="1057" y="74"/>
                </a:lnTo>
                <a:lnTo>
                  <a:pt x="1045" y="83"/>
                </a:lnTo>
                <a:lnTo>
                  <a:pt x="1034" y="93"/>
                </a:lnTo>
                <a:lnTo>
                  <a:pt x="1022" y="105"/>
                </a:lnTo>
                <a:lnTo>
                  <a:pt x="1011" y="116"/>
                </a:lnTo>
                <a:lnTo>
                  <a:pt x="998" y="128"/>
                </a:lnTo>
                <a:lnTo>
                  <a:pt x="992" y="135"/>
                </a:lnTo>
                <a:lnTo>
                  <a:pt x="985" y="142"/>
                </a:lnTo>
                <a:lnTo>
                  <a:pt x="979" y="149"/>
                </a:lnTo>
                <a:lnTo>
                  <a:pt x="973" y="154"/>
                </a:lnTo>
                <a:lnTo>
                  <a:pt x="966" y="163"/>
                </a:lnTo>
                <a:lnTo>
                  <a:pt x="959" y="169"/>
                </a:lnTo>
                <a:lnTo>
                  <a:pt x="927" y="183"/>
                </a:lnTo>
                <a:lnTo>
                  <a:pt x="910" y="192"/>
                </a:lnTo>
                <a:lnTo>
                  <a:pt x="892" y="202"/>
                </a:lnTo>
                <a:lnTo>
                  <a:pt x="874" y="213"/>
                </a:lnTo>
                <a:lnTo>
                  <a:pt x="855" y="225"/>
                </a:lnTo>
                <a:lnTo>
                  <a:pt x="845" y="232"/>
                </a:lnTo>
                <a:lnTo>
                  <a:pt x="836" y="237"/>
                </a:lnTo>
                <a:lnTo>
                  <a:pt x="826" y="244"/>
                </a:lnTo>
                <a:lnTo>
                  <a:pt x="816" y="251"/>
                </a:lnTo>
                <a:lnTo>
                  <a:pt x="807" y="260"/>
                </a:lnTo>
                <a:lnTo>
                  <a:pt x="797" y="267"/>
                </a:lnTo>
                <a:lnTo>
                  <a:pt x="787" y="273"/>
                </a:lnTo>
                <a:lnTo>
                  <a:pt x="777" y="280"/>
                </a:lnTo>
                <a:lnTo>
                  <a:pt x="767" y="289"/>
                </a:lnTo>
                <a:lnTo>
                  <a:pt x="757" y="298"/>
                </a:lnTo>
                <a:lnTo>
                  <a:pt x="747" y="305"/>
                </a:lnTo>
                <a:lnTo>
                  <a:pt x="738" y="313"/>
                </a:lnTo>
                <a:lnTo>
                  <a:pt x="728" y="322"/>
                </a:lnTo>
                <a:lnTo>
                  <a:pt x="718" y="329"/>
                </a:lnTo>
                <a:lnTo>
                  <a:pt x="708" y="338"/>
                </a:lnTo>
                <a:lnTo>
                  <a:pt x="698" y="346"/>
                </a:lnTo>
                <a:lnTo>
                  <a:pt x="688" y="355"/>
                </a:lnTo>
                <a:lnTo>
                  <a:pt x="678" y="364"/>
                </a:lnTo>
                <a:lnTo>
                  <a:pt x="668" y="372"/>
                </a:lnTo>
                <a:lnTo>
                  <a:pt x="659" y="381"/>
                </a:lnTo>
                <a:lnTo>
                  <a:pt x="649" y="390"/>
                </a:lnTo>
                <a:lnTo>
                  <a:pt x="640" y="398"/>
                </a:lnTo>
                <a:lnTo>
                  <a:pt x="630" y="407"/>
                </a:lnTo>
                <a:lnTo>
                  <a:pt x="621" y="416"/>
                </a:lnTo>
                <a:lnTo>
                  <a:pt x="611" y="424"/>
                </a:lnTo>
                <a:lnTo>
                  <a:pt x="602" y="433"/>
                </a:lnTo>
                <a:lnTo>
                  <a:pt x="593" y="442"/>
                </a:lnTo>
                <a:lnTo>
                  <a:pt x="584" y="450"/>
                </a:lnTo>
                <a:lnTo>
                  <a:pt x="575" y="459"/>
                </a:lnTo>
                <a:lnTo>
                  <a:pt x="566" y="468"/>
                </a:lnTo>
                <a:lnTo>
                  <a:pt x="558" y="476"/>
                </a:lnTo>
                <a:lnTo>
                  <a:pt x="549" y="485"/>
                </a:lnTo>
                <a:lnTo>
                  <a:pt x="542" y="492"/>
                </a:lnTo>
                <a:lnTo>
                  <a:pt x="534" y="501"/>
                </a:lnTo>
                <a:lnTo>
                  <a:pt x="526" y="509"/>
                </a:lnTo>
                <a:lnTo>
                  <a:pt x="518" y="516"/>
                </a:lnTo>
                <a:lnTo>
                  <a:pt x="510" y="525"/>
                </a:lnTo>
                <a:lnTo>
                  <a:pt x="502" y="532"/>
                </a:lnTo>
                <a:lnTo>
                  <a:pt x="496" y="539"/>
                </a:lnTo>
                <a:lnTo>
                  <a:pt x="489" y="547"/>
                </a:lnTo>
                <a:lnTo>
                  <a:pt x="482" y="554"/>
                </a:lnTo>
                <a:lnTo>
                  <a:pt x="476" y="561"/>
                </a:lnTo>
                <a:lnTo>
                  <a:pt x="470" y="568"/>
                </a:lnTo>
                <a:lnTo>
                  <a:pt x="465" y="573"/>
                </a:lnTo>
                <a:lnTo>
                  <a:pt x="459" y="580"/>
                </a:lnTo>
                <a:lnTo>
                  <a:pt x="453" y="587"/>
                </a:lnTo>
                <a:lnTo>
                  <a:pt x="443" y="598"/>
                </a:lnTo>
                <a:lnTo>
                  <a:pt x="434" y="608"/>
                </a:lnTo>
                <a:lnTo>
                  <a:pt x="427" y="617"/>
                </a:lnTo>
                <a:lnTo>
                  <a:pt x="427" y="617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375080" y="4336920"/>
            <a:ext cx="817560" cy="501840"/>
          </a:xfrm>
          <a:custGeom>
            <a:avLst/>
            <a:gdLst/>
            <a:ahLst/>
            <a:rect l="l" t="t" r="r" b="b"/>
            <a:pathLst>
              <a:path w="515" h="631">
                <a:moveTo>
                  <a:pt x="70" y="343"/>
                </a:moveTo>
                <a:lnTo>
                  <a:pt x="66" y="357"/>
                </a:lnTo>
                <a:lnTo>
                  <a:pt x="56" y="390"/>
                </a:lnTo>
                <a:lnTo>
                  <a:pt x="47" y="438"/>
                </a:lnTo>
                <a:lnTo>
                  <a:pt x="44" y="487"/>
                </a:lnTo>
                <a:lnTo>
                  <a:pt x="48" y="509"/>
                </a:lnTo>
                <a:lnTo>
                  <a:pt x="56" y="530"/>
                </a:lnTo>
                <a:lnTo>
                  <a:pt x="61" y="539"/>
                </a:lnTo>
                <a:lnTo>
                  <a:pt x="67" y="546"/>
                </a:lnTo>
                <a:lnTo>
                  <a:pt x="76" y="553"/>
                </a:lnTo>
                <a:lnTo>
                  <a:pt x="85" y="558"/>
                </a:lnTo>
                <a:lnTo>
                  <a:pt x="108" y="563"/>
                </a:lnTo>
                <a:lnTo>
                  <a:pt x="137" y="562"/>
                </a:lnTo>
                <a:lnTo>
                  <a:pt x="175" y="551"/>
                </a:lnTo>
                <a:lnTo>
                  <a:pt x="197" y="544"/>
                </a:lnTo>
                <a:lnTo>
                  <a:pt x="221" y="532"/>
                </a:lnTo>
                <a:lnTo>
                  <a:pt x="258" y="482"/>
                </a:lnTo>
                <a:lnTo>
                  <a:pt x="282" y="612"/>
                </a:lnTo>
                <a:lnTo>
                  <a:pt x="315" y="631"/>
                </a:lnTo>
                <a:lnTo>
                  <a:pt x="370" y="471"/>
                </a:lnTo>
                <a:lnTo>
                  <a:pt x="401" y="504"/>
                </a:lnTo>
                <a:lnTo>
                  <a:pt x="429" y="490"/>
                </a:lnTo>
                <a:lnTo>
                  <a:pt x="452" y="452"/>
                </a:lnTo>
                <a:lnTo>
                  <a:pt x="452" y="404"/>
                </a:lnTo>
                <a:lnTo>
                  <a:pt x="488" y="367"/>
                </a:lnTo>
                <a:lnTo>
                  <a:pt x="515" y="274"/>
                </a:lnTo>
                <a:lnTo>
                  <a:pt x="509" y="114"/>
                </a:lnTo>
                <a:lnTo>
                  <a:pt x="501" y="86"/>
                </a:lnTo>
                <a:lnTo>
                  <a:pt x="491" y="60"/>
                </a:lnTo>
                <a:lnTo>
                  <a:pt x="488" y="55"/>
                </a:lnTo>
                <a:lnTo>
                  <a:pt x="484" y="50"/>
                </a:lnTo>
                <a:lnTo>
                  <a:pt x="478" y="38"/>
                </a:lnTo>
                <a:lnTo>
                  <a:pt x="470" y="29"/>
                </a:lnTo>
                <a:lnTo>
                  <a:pt x="460" y="21"/>
                </a:lnTo>
                <a:lnTo>
                  <a:pt x="450" y="14"/>
                </a:lnTo>
                <a:lnTo>
                  <a:pt x="439" y="7"/>
                </a:lnTo>
                <a:lnTo>
                  <a:pt x="412" y="0"/>
                </a:lnTo>
                <a:lnTo>
                  <a:pt x="381" y="1"/>
                </a:lnTo>
                <a:lnTo>
                  <a:pt x="344" y="10"/>
                </a:lnTo>
                <a:lnTo>
                  <a:pt x="293" y="36"/>
                </a:lnTo>
                <a:lnTo>
                  <a:pt x="239" y="88"/>
                </a:lnTo>
                <a:lnTo>
                  <a:pt x="201" y="125"/>
                </a:lnTo>
                <a:lnTo>
                  <a:pt x="185" y="52"/>
                </a:lnTo>
                <a:lnTo>
                  <a:pt x="155" y="43"/>
                </a:lnTo>
                <a:lnTo>
                  <a:pt x="147" y="90"/>
                </a:lnTo>
                <a:lnTo>
                  <a:pt x="78" y="106"/>
                </a:lnTo>
                <a:lnTo>
                  <a:pt x="44" y="123"/>
                </a:lnTo>
                <a:lnTo>
                  <a:pt x="11" y="210"/>
                </a:lnTo>
                <a:lnTo>
                  <a:pt x="0" y="272"/>
                </a:lnTo>
                <a:lnTo>
                  <a:pt x="70" y="343"/>
                </a:lnTo>
                <a:lnTo>
                  <a:pt x="70" y="343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37240" y="4565520"/>
            <a:ext cx="163440" cy="115920"/>
          </a:xfrm>
          <a:custGeom>
            <a:avLst/>
            <a:gdLst/>
            <a:ahLst/>
            <a:rect l="l" t="t" r="r" b="b"/>
            <a:pathLst>
              <a:path w="103" h="145">
                <a:moveTo>
                  <a:pt x="34" y="31"/>
                </a:moveTo>
                <a:lnTo>
                  <a:pt x="7" y="72"/>
                </a:lnTo>
                <a:lnTo>
                  <a:pt x="0" y="114"/>
                </a:lnTo>
                <a:lnTo>
                  <a:pt x="16" y="145"/>
                </a:lnTo>
                <a:lnTo>
                  <a:pt x="44" y="143"/>
                </a:lnTo>
                <a:lnTo>
                  <a:pt x="88" y="116"/>
                </a:lnTo>
                <a:lnTo>
                  <a:pt x="103" y="52"/>
                </a:lnTo>
                <a:lnTo>
                  <a:pt x="88" y="0"/>
                </a:lnTo>
                <a:lnTo>
                  <a:pt x="49" y="15"/>
                </a:lnTo>
                <a:lnTo>
                  <a:pt x="34" y="31"/>
                </a:lnTo>
                <a:lnTo>
                  <a:pt x="34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75200" y="4638600"/>
            <a:ext cx="120600" cy="95400"/>
          </a:xfrm>
          <a:custGeom>
            <a:avLst/>
            <a:gdLst/>
            <a:ahLst/>
            <a:rect l="l" t="t" r="r" b="b"/>
            <a:pathLst>
              <a:path w="76" h="120">
                <a:moveTo>
                  <a:pt x="0" y="63"/>
                </a:moveTo>
                <a:lnTo>
                  <a:pt x="1" y="108"/>
                </a:lnTo>
                <a:lnTo>
                  <a:pt x="29" y="120"/>
                </a:lnTo>
                <a:lnTo>
                  <a:pt x="57" y="111"/>
                </a:lnTo>
                <a:lnTo>
                  <a:pt x="76" y="59"/>
                </a:lnTo>
                <a:lnTo>
                  <a:pt x="72" y="16"/>
                </a:lnTo>
                <a:lnTo>
                  <a:pt x="51" y="0"/>
                </a:lnTo>
                <a:lnTo>
                  <a:pt x="29" y="14"/>
                </a:lnTo>
                <a:lnTo>
                  <a:pt x="0" y="63"/>
                </a:lnTo>
                <a:lnTo>
                  <a:pt x="0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46440" y="4708440"/>
            <a:ext cx="154080" cy="88920"/>
          </a:xfrm>
          <a:custGeom>
            <a:avLst/>
            <a:gdLst/>
            <a:ahLst/>
            <a:rect l="l" t="t" r="r" b="b"/>
            <a:pathLst>
              <a:path w="97" h="111">
                <a:moveTo>
                  <a:pt x="22" y="0"/>
                </a:moveTo>
                <a:lnTo>
                  <a:pt x="4" y="64"/>
                </a:lnTo>
                <a:lnTo>
                  <a:pt x="0" y="111"/>
                </a:lnTo>
                <a:lnTo>
                  <a:pt x="28" y="107"/>
                </a:lnTo>
                <a:lnTo>
                  <a:pt x="65" y="73"/>
                </a:lnTo>
                <a:lnTo>
                  <a:pt x="69" y="68"/>
                </a:lnTo>
                <a:lnTo>
                  <a:pt x="75" y="62"/>
                </a:lnTo>
                <a:lnTo>
                  <a:pt x="80" y="55"/>
                </a:lnTo>
                <a:lnTo>
                  <a:pt x="87" y="48"/>
                </a:lnTo>
                <a:lnTo>
                  <a:pt x="92" y="41"/>
                </a:lnTo>
                <a:lnTo>
                  <a:pt x="97" y="29"/>
                </a:lnTo>
                <a:lnTo>
                  <a:pt x="94" y="26"/>
                </a:lnTo>
                <a:lnTo>
                  <a:pt x="85" y="21"/>
                </a:lnTo>
                <a:lnTo>
                  <a:pt x="59" y="10"/>
                </a:lnTo>
                <a:lnTo>
                  <a:pt x="35" y="3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314880" y="4786200"/>
            <a:ext cx="1517400" cy="1028880"/>
          </a:xfrm>
          <a:custGeom>
            <a:avLst/>
            <a:gdLst/>
            <a:ahLst/>
            <a:rect l="l" t="t" r="r" b="b"/>
            <a:pathLst>
              <a:path w="956" h="1297">
                <a:moveTo>
                  <a:pt x="180" y="0"/>
                </a:moveTo>
                <a:lnTo>
                  <a:pt x="173" y="19"/>
                </a:lnTo>
                <a:lnTo>
                  <a:pt x="166" y="40"/>
                </a:lnTo>
                <a:lnTo>
                  <a:pt x="157" y="71"/>
                </a:lnTo>
                <a:lnTo>
                  <a:pt x="147" y="107"/>
                </a:lnTo>
                <a:lnTo>
                  <a:pt x="142" y="128"/>
                </a:lnTo>
                <a:lnTo>
                  <a:pt x="136" y="149"/>
                </a:lnTo>
                <a:lnTo>
                  <a:pt x="130" y="173"/>
                </a:lnTo>
                <a:lnTo>
                  <a:pt x="124" y="198"/>
                </a:lnTo>
                <a:lnTo>
                  <a:pt x="118" y="224"/>
                </a:lnTo>
                <a:lnTo>
                  <a:pt x="111" y="251"/>
                </a:lnTo>
                <a:lnTo>
                  <a:pt x="106" y="279"/>
                </a:lnTo>
                <a:lnTo>
                  <a:pt x="100" y="309"/>
                </a:lnTo>
                <a:lnTo>
                  <a:pt x="89" y="369"/>
                </a:lnTo>
                <a:lnTo>
                  <a:pt x="79" y="433"/>
                </a:lnTo>
                <a:lnTo>
                  <a:pt x="71" y="498"/>
                </a:lnTo>
                <a:lnTo>
                  <a:pt x="61" y="631"/>
                </a:lnTo>
                <a:lnTo>
                  <a:pt x="63" y="765"/>
                </a:lnTo>
                <a:lnTo>
                  <a:pt x="71" y="830"/>
                </a:lnTo>
                <a:lnTo>
                  <a:pt x="76" y="862"/>
                </a:lnTo>
                <a:lnTo>
                  <a:pt x="82" y="893"/>
                </a:lnTo>
                <a:lnTo>
                  <a:pt x="89" y="922"/>
                </a:lnTo>
                <a:lnTo>
                  <a:pt x="98" y="952"/>
                </a:lnTo>
                <a:lnTo>
                  <a:pt x="108" y="981"/>
                </a:lnTo>
                <a:lnTo>
                  <a:pt x="120" y="1007"/>
                </a:lnTo>
                <a:lnTo>
                  <a:pt x="126" y="1021"/>
                </a:lnTo>
                <a:lnTo>
                  <a:pt x="129" y="1028"/>
                </a:lnTo>
                <a:lnTo>
                  <a:pt x="133" y="1035"/>
                </a:lnTo>
                <a:lnTo>
                  <a:pt x="136" y="1042"/>
                </a:lnTo>
                <a:lnTo>
                  <a:pt x="139" y="1047"/>
                </a:lnTo>
                <a:lnTo>
                  <a:pt x="144" y="1054"/>
                </a:lnTo>
                <a:lnTo>
                  <a:pt x="147" y="1059"/>
                </a:lnTo>
                <a:lnTo>
                  <a:pt x="150" y="1066"/>
                </a:lnTo>
                <a:lnTo>
                  <a:pt x="155" y="1071"/>
                </a:lnTo>
                <a:lnTo>
                  <a:pt x="159" y="1078"/>
                </a:lnTo>
                <a:lnTo>
                  <a:pt x="163" y="1084"/>
                </a:lnTo>
                <a:lnTo>
                  <a:pt x="172" y="1096"/>
                </a:lnTo>
                <a:lnTo>
                  <a:pt x="181" y="1106"/>
                </a:lnTo>
                <a:lnTo>
                  <a:pt x="190" y="1118"/>
                </a:lnTo>
                <a:lnTo>
                  <a:pt x="200" y="1127"/>
                </a:lnTo>
                <a:lnTo>
                  <a:pt x="210" y="1137"/>
                </a:lnTo>
                <a:lnTo>
                  <a:pt x="221" y="1148"/>
                </a:lnTo>
                <a:lnTo>
                  <a:pt x="232" y="1156"/>
                </a:lnTo>
                <a:lnTo>
                  <a:pt x="243" y="1165"/>
                </a:lnTo>
                <a:lnTo>
                  <a:pt x="255" y="1174"/>
                </a:lnTo>
                <a:lnTo>
                  <a:pt x="268" y="1182"/>
                </a:lnTo>
                <a:lnTo>
                  <a:pt x="281" y="1189"/>
                </a:lnTo>
                <a:lnTo>
                  <a:pt x="295" y="1196"/>
                </a:lnTo>
                <a:lnTo>
                  <a:pt x="308" y="1203"/>
                </a:lnTo>
                <a:lnTo>
                  <a:pt x="323" y="1210"/>
                </a:lnTo>
                <a:lnTo>
                  <a:pt x="353" y="1221"/>
                </a:lnTo>
                <a:lnTo>
                  <a:pt x="385" y="1229"/>
                </a:lnTo>
                <a:lnTo>
                  <a:pt x="420" y="1236"/>
                </a:lnTo>
                <a:lnTo>
                  <a:pt x="457" y="1240"/>
                </a:lnTo>
                <a:lnTo>
                  <a:pt x="537" y="1241"/>
                </a:lnTo>
                <a:lnTo>
                  <a:pt x="626" y="1233"/>
                </a:lnTo>
                <a:lnTo>
                  <a:pt x="674" y="1226"/>
                </a:lnTo>
                <a:lnTo>
                  <a:pt x="726" y="1215"/>
                </a:lnTo>
                <a:lnTo>
                  <a:pt x="753" y="1208"/>
                </a:lnTo>
                <a:lnTo>
                  <a:pt x="779" y="1201"/>
                </a:lnTo>
                <a:lnTo>
                  <a:pt x="807" y="1193"/>
                </a:lnTo>
                <a:lnTo>
                  <a:pt x="835" y="1184"/>
                </a:lnTo>
                <a:lnTo>
                  <a:pt x="865" y="1175"/>
                </a:lnTo>
                <a:lnTo>
                  <a:pt x="894" y="1165"/>
                </a:lnTo>
                <a:lnTo>
                  <a:pt x="925" y="1153"/>
                </a:lnTo>
                <a:lnTo>
                  <a:pt x="956" y="1141"/>
                </a:lnTo>
                <a:lnTo>
                  <a:pt x="940" y="1149"/>
                </a:lnTo>
                <a:lnTo>
                  <a:pt x="921" y="1160"/>
                </a:lnTo>
                <a:lnTo>
                  <a:pt x="909" y="1165"/>
                </a:lnTo>
                <a:lnTo>
                  <a:pt x="896" y="1172"/>
                </a:lnTo>
                <a:lnTo>
                  <a:pt x="880" y="1177"/>
                </a:lnTo>
                <a:lnTo>
                  <a:pt x="863" y="1186"/>
                </a:lnTo>
                <a:lnTo>
                  <a:pt x="845" y="1193"/>
                </a:lnTo>
                <a:lnTo>
                  <a:pt x="826" y="1201"/>
                </a:lnTo>
                <a:lnTo>
                  <a:pt x="806" y="1208"/>
                </a:lnTo>
                <a:lnTo>
                  <a:pt x="785" y="1217"/>
                </a:lnTo>
                <a:lnTo>
                  <a:pt x="763" y="1224"/>
                </a:lnTo>
                <a:lnTo>
                  <a:pt x="739" y="1233"/>
                </a:lnTo>
                <a:lnTo>
                  <a:pt x="716" y="1240"/>
                </a:lnTo>
                <a:lnTo>
                  <a:pt x="691" y="1248"/>
                </a:lnTo>
                <a:lnTo>
                  <a:pt x="665" y="1255"/>
                </a:lnTo>
                <a:lnTo>
                  <a:pt x="640" y="1262"/>
                </a:lnTo>
                <a:lnTo>
                  <a:pt x="613" y="1269"/>
                </a:lnTo>
                <a:lnTo>
                  <a:pt x="586" y="1276"/>
                </a:lnTo>
                <a:lnTo>
                  <a:pt x="531" y="1286"/>
                </a:lnTo>
                <a:lnTo>
                  <a:pt x="477" y="1293"/>
                </a:lnTo>
                <a:lnTo>
                  <a:pt x="422" y="1297"/>
                </a:lnTo>
                <a:lnTo>
                  <a:pt x="314" y="1290"/>
                </a:lnTo>
                <a:lnTo>
                  <a:pt x="262" y="1278"/>
                </a:lnTo>
                <a:lnTo>
                  <a:pt x="238" y="1271"/>
                </a:lnTo>
                <a:lnTo>
                  <a:pt x="214" y="1260"/>
                </a:lnTo>
                <a:lnTo>
                  <a:pt x="191" y="1248"/>
                </a:lnTo>
                <a:lnTo>
                  <a:pt x="168" y="1236"/>
                </a:lnTo>
                <a:lnTo>
                  <a:pt x="158" y="1229"/>
                </a:lnTo>
                <a:lnTo>
                  <a:pt x="147" y="1221"/>
                </a:lnTo>
                <a:lnTo>
                  <a:pt x="137" y="1212"/>
                </a:lnTo>
                <a:lnTo>
                  <a:pt x="128" y="1203"/>
                </a:lnTo>
                <a:lnTo>
                  <a:pt x="118" y="1195"/>
                </a:lnTo>
                <a:lnTo>
                  <a:pt x="109" y="1184"/>
                </a:lnTo>
                <a:lnTo>
                  <a:pt x="99" y="1174"/>
                </a:lnTo>
                <a:lnTo>
                  <a:pt x="91" y="1163"/>
                </a:lnTo>
                <a:lnTo>
                  <a:pt x="82" y="1151"/>
                </a:lnTo>
                <a:lnTo>
                  <a:pt x="75" y="1139"/>
                </a:lnTo>
                <a:lnTo>
                  <a:pt x="67" y="1127"/>
                </a:lnTo>
                <a:lnTo>
                  <a:pt x="63" y="1120"/>
                </a:lnTo>
                <a:lnTo>
                  <a:pt x="60" y="1115"/>
                </a:lnTo>
                <a:lnTo>
                  <a:pt x="45" y="1085"/>
                </a:lnTo>
                <a:lnTo>
                  <a:pt x="34" y="1056"/>
                </a:lnTo>
                <a:lnTo>
                  <a:pt x="23" y="1023"/>
                </a:lnTo>
                <a:lnTo>
                  <a:pt x="15" y="987"/>
                </a:lnTo>
                <a:lnTo>
                  <a:pt x="3" y="908"/>
                </a:lnTo>
                <a:lnTo>
                  <a:pt x="0" y="817"/>
                </a:lnTo>
                <a:lnTo>
                  <a:pt x="4" y="714"/>
                </a:lnTo>
                <a:lnTo>
                  <a:pt x="10" y="659"/>
                </a:lnTo>
                <a:lnTo>
                  <a:pt x="14" y="629"/>
                </a:lnTo>
                <a:lnTo>
                  <a:pt x="19" y="600"/>
                </a:lnTo>
                <a:lnTo>
                  <a:pt x="23" y="569"/>
                </a:lnTo>
                <a:lnTo>
                  <a:pt x="29" y="537"/>
                </a:lnTo>
                <a:lnTo>
                  <a:pt x="35" y="505"/>
                </a:lnTo>
                <a:lnTo>
                  <a:pt x="42" y="472"/>
                </a:lnTo>
                <a:lnTo>
                  <a:pt x="50" y="437"/>
                </a:lnTo>
                <a:lnTo>
                  <a:pt x="58" y="402"/>
                </a:lnTo>
                <a:lnTo>
                  <a:pt x="62" y="383"/>
                </a:lnTo>
                <a:lnTo>
                  <a:pt x="67" y="366"/>
                </a:lnTo>
                <a:lnTo>
                  <a:pt x="71" y="347"/>
                </a:lnTo>
                <a:lnTo>
                  <a:pt x="77" y="329"/>
                </a:lnTo>
                <a:lnTo>
                  <a:pt x="81" y="310"/>
                </a:lnTo>
                <a:lnTo>
                  <a:pt x="87" y="291"/>
                </a:lnTo>
                <a:lnTo>
                  <a:pt x="92" y="272"/>
                </a:lnTo>
                <a:lnTo>
                  <a:pt x="98" y="251"/>
                </a:lnTo>
                <a:lnTo>
                  <a:pt x="104" y="232"/>
                </a:lnTo>
                <a:lnTo>
                  <a:pt x="109" y="211"/>
                </a:lnTo>
                <a:lnTo>
                  <a:pt x="116" y="192"/>
                </a:lnTo>
                <a:lnTo>
                  <a:pt x="123" y="172"/>
                </a:lnTo>
                <a:lnTo>
                  <a:pt x="128" y="151"/>
                </a:lnTo>
                <a:lnTo>
                  <a:pt x="135" y="130"/>
                </a:lnTo>
                <a:lnTo>
                  <a:pt x="143" y="109"/>
                </a:lnTo>
                <a:lnTo>
                  <a:pt x="149" y="88"/>
                </a:lnTo>
                <a:lnTo>
                  <a:pt x="156" y="66"/>
                </a:lnTo>
                <a:lnTo>
                  <a:pt x="164" y="45"/>
                </a:lnTo>
                <a:lnTo>
                  <a:pt x="172" y="23"/>
                </a:lnTo>
                <a:lnTo>
                  <a:pt x="180" y="0"/>
                </a:lnTo>
                <a:lnTo>
                  <a:pt x="1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490920" y="4002120"/>
            <a:ext cx="1757520" cy="809640"/>
          </a:xfrm>
          <a:custGeom>
            <a:avLst/>
            <a:gdLst/>
            <a:ahLst/>
            <a:rect l="l" t="t" r="r" b="b"/>
            <a:pathLst>
              <a:path w="1107" h="1021">
                <a:moveTo>
                  <a:pt x="0" y="1021"/>
                </a:moveTo>
                <a:lnTo>
                  <a:pt x="5" y="1011"/>
                </a:lnTo>
                <a:lnTo>
                  <a:pt x="17" y="979"/>
                </a:lnTo>
                <a:lnTo>
                  <a:pt x="27" y="959"/>
                </a:lnTo>
                <a:lnTo>
                  <a:pt x="39" y="932"/>
                </a:lnTo>
                <a:lnTo>
                  <a:pt x="46" y="919"/>
                </a:lnTo>
                <a:lnTo>
                  <a:pt x="50" y="912"/>
                </a:lnTo>
                <a:lnTo>
                  <a:pt x="54" y="903"/>
                </a:lnTo>
                <a:lnTo>
                  <a:pt x="57" y="896"/>
                </a:lnTo>
                <a:lnTo>
                  <a:pt x="62" y="887"/>
                </a:lnTo>
                <a:lnTo>
                  <a:pt x="65" y="880"/>
                </a:lnTo>
                <a:lnTo>
                  <a:pt x="70" y="872"/>
                </a:lnTo>
                <a:lnTo>
                  <a:pt x="74" y="863"/>
                </a:lnTo>
                <a:lnTo>
                  <a:pt x="79" y="854"/>
                </a:lnTo>
                <a:lnTo>
                  <a:pt x="83" y="846"/>
                </a:lnTo>
                <a:lnTo>
                  <a:pt x="89" y="837"/>
                </a:lnTo>
                <a:lnTo>
                  <a:pt x="93" y="827"/>
                </a:lnTo>
                <a:lnTo>
                  <a:pt x="99" y="818"/>
                </a:lnTo>
                <a:lnTo>
                  <a:pt x="103" y="809"/>
                </a:lnTo>
                <a:lnTo>
                  <a:pt x="109" y="799"/>
                </a:lnTo>
                <a:lnTo>
                  <a:pt x="114" y="789"/>
                </a:lnTo>
                <a:lnTo>
                  <a:pt x="120" y="780"/>
                </a:lnTo>
                <a:lnTo>
                  <a:pt x="126" y="770"/>
                </a:lnTo>
                <a:lnTo>
                  <a:pt x="132" y="759"/>
                </a:lnTo>
                <a:lnTo>
                  <a:pt x="138" y="749"/>
                </a:lnTo>
                <a:lnTo>
                  <a:pt x="144" y="738"/>
                </a:lnTo>
                <a:lnTo>
                  <a:pt x="150" y="728"/>
                </a:lnTo>
                <a:lnTo>
                  <a:pt x="157" y="718"/>
                </a:lnTo>
                <a:lnTo>
                  <a:pt x="163" y="707"/>
                </a:lnTo>
                <a:lnTo>
                  <a:pt x="170" y="697"/>
                </a:lnTo>
                <a:lnTo>
                  <a:pt x="177" y="685"/>
                </a:lnTo>
                <a:lnTo>
                  <a:pt x="184" y="674"/>
                </a:lnTo>
                <a:lnTo>
                  <a:pt x="191" y="664"/>
                </a:lnTo>
                <a:lnTo>
                  <a:pt x="198" y="652"/>
                </a:lnTo>
                <a:lnTo>
                  <a:pt x="206" y="641"/>
                </a:lnTo>
                <a:lnTo>
                  <a:pt x="214" y="629"/>
                </a:lnTo>
                <a:lnTo>
                  <a:pt x="220" y="619"/>
                </a:lnTo>
                <a:lnTo>
                  <a:pt x="228" y="607"/>
                </a:lnTo>
                <a:lnTo>
                  <a:pt x="236" y="596"/>
                </a:lnTo>
                <a:lnTo>
                  <a:pt x="245" y="584"/>
                </a:lnTo>
                <a:lnTo>
                  <a:pt x="253" y="572"/>
                </a:lnTo>
                <a:lnTo>
                  <a:pt x="261" y="561"/>
                </a:lnTo>
                <a:lnTo>
                  <a:pt x="270" y="549"/>
                </a:lnTo>
                <a:lnTo>
                  <a:pt x="279" y="537"/>
                </a:lnTo>
                <a:lnTo>
                  <a:pt x="287" y="527"/>
                </a:lnTo>
                <a:lnTo>
                  <a:pt x="296" y="515"/>
                </a:lnTo>
                <a:lnTo>
                  <a:pt x="305" y="504"/>
                </a:lnTo>
                <a:lnTo>
                  <a:pt x="314" y="492"/>
                </a:lnTo>
                <a:lnTo>
                  <a:pt x="323" y="480"/>
                </a:lnTo>
                <a:lnTo>
                  <a:pt x="333" y="470"/>
                </a:lnTo>
                <a:lnTo>
                  <a:pt x="342" y="457"/>
                </a:lnTo>
                <a:lnTo>
                  <a:pt x="352" y="447"/>
                </a:lnTo>
                <a:lnTo>
                  <a:pt x="362" y="435"/>
                </a:lnTo>
                <a:lnTo>
                  <a:pt x="371" y="423"/>
                </a:lnTo>
                <a:lnTo>
                  <a:pt x="381" y="412"/>
                </a:lnTo>
                <a:lnTo>
                  <a:pt x="392" y="400"/>
                </a:lnTo>
                <a:lnTo>
                  <a:pt x="403" y="390"/>
                </a:lnTo>
                <a:lnTo>
                  <a:pt x="413" y="378"/>
                </a:lnTo>
                <a:lnTo>
                  <a:pt x="424" y="367"/>
                </a:lnTo>
                <a:lnTo>
                  <a:pt x="434" y="355"/>
                </a:lnTo>
                <a:lnTo>
                  <a:pt x="445" y="345"/>
                </a:lnTo>
                <a:lnTo>
                  <a:pt x="456" y="334"/>
                </a:lnTo>
                <a:lnTo>
                  <a:pt x="467" y="322"/>
                </a:lnTo>
                <a:lnTo>
                  <a:pt x="478" y="312"/>
                </a:lnTo>
                <a:lnTo>
                  <a:pt x="490" y="301"/>
                </a:lnTo>
                <a:lnTo>
                  <a:pt x="502" y="291"/>
                </a:lnTo>
                <a:lnTo>
                  <a:pt x="513" y="281"/>
                </a:lnTo>
                <a:lnTo>
                  <a:pt x="525" y="270"/>
                </a:lnTo>
                <a:lnTo>
                  <a:pt x="537" y="260"/>
                </a:lnTo>
                <a:lnTo>
                  <a:pt x="549" y="249"/>
                </a:lnTo>
                <a:lnTo>
                  <a:pt x="561" y="239"/>
                </a:lnTo>
                <a:lnTo>
                  <a:pt x="573" y="230"/>
                </a:lnTo>
                <a:lnTo>
                  <a:pt x="586" y="220"/>
                </a:lnTo>
                <a:lnTo>
                  <a:pt x="599" y="210"/>
                </a:lnTo>
                <a:lnTo>
                  <a:pt x="611" y="201"/>
                </a:lnTo>
                <a:lnTo>
                  <a:pt x="625" y="190"/>
                </a:lnTo>
                <a:lnTo>
                  <a:pt x="637" y="182"/>
                </a:lnTo>
                <a:lnTo>
                  <a:pt x="650" y="173"/>
                </a:lnTo>
                <a:lnTo>
                  <a:pt x="664" y="164"/>
                </a:lnTo>
                <a:lnTo>
                  <a:pt x="677" y="156"/>
                </a:lnTo>
                <a:lnTo>
                  <a:pt x="691" y="147"/>
                </a:lnTo>
                <a:lnTo>
                  <a:pt x="705" y="138"/>
                </a:lnTo>
                <a:lnTo>
                  <a:pt x="719" y="130"/>
                </a:lnTo>
                <a:lnTo>
                  <a:pt x="732" y="123"/>
                </a:lnTo>
                <a:lnTo>
                  <a:pt x="747" y="114"/>
                </a:lnTo>
                <a:lnTo>
                  <a:pt x="761" y="107"/>
                </a:lnTo>
                <a:lnTo>
                  <a:pt x="776" y="99"/>
                </a:lnTo>
                <a:lnTo>
                  <a:pt x="790" y="92"/>
                </a:lnTo>
                <a:lnTo>
                  <a:pt x="805" y="85"/>
                </a:lnTo>
                <a:lnTo>
                  <a:pt x="819" y="79"/>
                </a:lnTo>
                <a:lnTo>
                  <a:pt x="834" y="73"/>
                </a:lnTo>
                <a:lnTo>
                  <a:pt x="849" y="66"/>
                </a:lnTo>
                <a:lnTo>
                  <a:pt x="864" y="60"/>
                </a:lnTo>
                <a:lnTo>
                  <a:pt x="879" y="53"/>
                </a:lnTo>
                <a:lnTo>
                  <a:pt x="911" y="43"/>
                </a:lnTo>
                <a:lnTo>
                  <a:pt x="942" y="33"/>
                </a:lnTo>
                <a:lnTo>
                  <a:pt x="974" y="24"/>
                </a:lnTo>
                <a:lnTo>
                  <a:pt x="1007" y="17"/>
                </a:lnTo>
                <a:lnTo>
                  <a:pt x="1040" y="10"/>
                </a:lnTo>
                <a:lnTo>
                  <a:pt x="1107" y="1"/>
                </a:lnTo>
                <a:lnTo>
                  <a:pt x="1074" y="0"/>
                </a:lnTo>
                <a:lnTo>
                  <a:pt x="984" y="5"/>
                </a:lnTo>
                <a:lnTo>
                  <a:pt x="922" y="15"/>
                </a:lnTo>
                <a:lnTo>
                  <a:pt x="886" y="24"/>
                </a:lnTo>
                <a:lnTo>
                  <a:pt x="850" y="33"/>
                </a:lnTo>
                <a:lnTo>
                  <a:pt x="811" y="45"/>
                </a:lnTo>
                <a:lnTo>
                  <a:pt x="791" y="52"/>
                </a:lnTo>
                <a:lnTo>
                  <a:pt x="771" y="60"/>
                </a:lnTo>
                <a:lnTo>
                  <a:pt x="750" y="67"/>
                </a:lnTo>
                <a:lnTo>
                  <a:pt x="729" y="78"/>
                </a:lnTo>
                <a:lnTo>
                  <a:pt x="707" y="86"/>
                </a:lnTo>
                <a:lnTo>
                  <a:pt x="685" y="99"/>
                </a:lnTo>
                <a:lnTo>
                  <a:pt x="664" y="109"/>
                </a:lnTo>
                <a:lnTo>
                  <a:pt x="642" y="121"/>
                </a:lnTo>
                <a:lnTo>
                  <a:pt x="630" y="128"/>
                </a:lnTo>
                <a:lnTo>
                  <a:pt x="619" y="135"/>
                </a:lnTo>
                <a:lnTo>
                  <a:pt x="608" y="142"/>
                </a:lnTo>
                <a:lnTo>
                  <a:pt x="597" y="149"/>
                </a:lnTo>
                <a:lnTo>
                  <a:pt x="586" y="156"/>
                </a:lnTo>
                <a:lnTo>
                  <a:pt x="573" y="163"/>
                </a:lnTo>
                <a:lnTo>
                  <a:pt x="562" y="171"/>
                </a:lnTo>
                <a:lnTo>
                  <a:pt x="551" y="178"/>
                </a:lnTo>
                <a:lnTo>
                  <a:pt x="540" y="187"/>
                </a:lnTo>
                <a:lnTo>
                  <a:pt x="528" y="196"/>
                </a:lnTo>
                <a:lnTo>
                  <a:pt x="516" y="204"/>
                </a:lnTo>
                <a:lnTo>
                  <a:pt x="505" y="215"/>
                </a:lnTo>
                <a:lnTo>
                  <a:pt x="494" y="223"/>
                </a:lnTo>
                <a:lnTo>
                  <a:pt x="482" y="232"/>
                </a:lnTo>
                <a:lnTo>
                  <a:pt x="471" y="242"/>
                </a:lnTo>
                <a:lnTo>
                  <a:pt x="459" y="253"/>
                </a:lnTo>
                <a:lnTo>
                  <a:pt x="447" y="263"/>
                </a:lnTo>
                <a:lnTo>
                  <a:pt x="436" y="274"/>
                </a:lnTo>
                <a:lnTo>
                  <a:pt x="425" y="286"/>
                </a:lnTo>
                <a:lnTo>
                  <a:pt x="413" y="296"/>
                </a:lnTo>
                <a:lnTo>
                  <a:pt x="401" y="308"/>
                </a:lnTo>
                <a:lnTo>
                  <a:pt x="390" y="319"/>
                </a:lnTo>
                <a:lnTo>
                  <a:pt x="378" y="331"/>
                </a:lnTo>
                <a:lnTo>
                  <a:pt x="367" y="343"/>
                </a:lnTo>
                <a:lnTo>
                  <a:pt x="361" y="350"/>
                </a:lnTo>
                <a:lnTo>
                  <a:pt x="356" y="357"/>
                </a:lnTo>
                <a:lnTo>
                  <a:pt x="350" y="364"/>
                </a:lnTo>
                <a:lnTo>
                  <a:pt x="344" y="369"/>
                </a:lnTo>
                <a:lnTo>
                  <a:pt x="339" y="376"/>
                </a:lnTo>
                <a:lnTo>
                  <a:pt x="333" y="383"/>
                </a:lnTo>
                <a:lnTo>
                  <a:pt x="328" y="390"/>
                </a:lnTo>
                <a:lnTo>
                  <a:pt x="322" y="397"/>
                </a:lnTo>
                <a:lnTo>
                  <a:pt x="315" y="404"/>
                </a:lnTo>
                <a:lnTo>
                  <a:pt x="310" y="411"/>
                </a:lnTo>
                <a:lnTo>
                  <a:pt x="304" y="418"/>
                </a:lnTo>
                <a:lnTo>
                  <a:pt x="299" y="424"/>
                </a:lnTo>
                <a:lnTo>
                  <a:pt x="293" y="433"/>
                </a:lnTo>
                <a:lnTo>
                  <a:pt x="287" y="440"/>
                </a:lnTo>
                <a:lnTo>
                  <a:pt x="282" y="447"/>
                </a:lnTo>
                <a:lnTo>
                  <a:pt x="276" y="454"/>
                </a:lnTo>
                <a:lnTo>
                  <a:pt x="271" y="463"/>
                </a:lnTo>
                <a:lnTo>
                  <a:pt x="266" y="470"/>
                </a:lnTo>
                <a:lnTo>
                  <a:pt x="261" y="478"/>
                </a:lnTo>
                <a:lnTo>
                  <a:pt x="255" y="485"/>
                </a:lnTo>
                <a:lnTo>
                  <a:pt x="249" y="494"/>
                </a:lnTo>
                <a:lnTo>
                  <a:pt x="244" y="501"/>
                </a:lnTo>
                <a:lnTo>
                  <a:pt x="238" y="509"/>
                </a:lnTo>
                <a:lnTo>
                  <a:pt x="233" y="518"/>
                </a:lnTo>
                <a:lnTo>
                  <a:pt x="227" y="527"/>
                </a:lnTo>
                <a:lnTo>
                  <a:pt x="223" y="534"/>
                </a:lnTo>
                <a:lnTo>
                  <a:pt x="217" y="542"/>
                </a:lnTo>
                <a:lnTo>
                  <a:pt x="212" y="551"/>
                </a:lnTo>
                <a:lnTo>
                  <a:pt x="206" y="560"/>
                </a:lnTo>
                <a:lnTo>
                  <a:pt x="200" y="568"/>
                </a:lnTo>
                <a:lnTo>
                  <a:pt x="196" y="577"/>
                </a:lnTo>
                <a:lnTo>
                  <a:pt x="190" y="586"/>
                </a:lnTo>
                <a:lnTo>
                  <a:pt x="185" y="594"/>
                </a:lnTo>
                <a:lnTo>
                  <a:pt x="180" y="605"/>
                </a:lnTo>
                <a:lnTo>
                  <a:pt x="175" y="613"/>
                </a:lnTo>
                <a:lnTo>
                  <a:pt x="169" y="622"/>
                </a:lnTo>
                <a:lnTo>
                  <a:pt x="163" y="633"/>
                </a:lnTo>
                <a:lnTo>
                  <a:pt x="159" y="641"/>
                </a:lnTo>
                <a:lnTo>
                  <a:pt x="153" y="652"/>
                </a:lnTo>
                <a:lnTo>
                  <a:pt x="149" y="660"/>
                </a:lnTo>
                <a:lnTo>
                  <a:pt x="143" y="671"/>
                </a:lnTo>
                <a:lnTo>
                  <a:pt x="139" y="681"/>
                </a:lnTo>
                <a:lnTo>
                  <a:pt x="133" y="690"/>
                </a:lnTo>
                <a:lnTo>
                  <a:pt x="129" y="700"/>
                </a:lnTo>
                <a:lnTo>
                  <a:pt x="123" y="711"/>
                </a:lnTo>
                <a:lnTo>
                  <a:pt x="119" y="721"/>
                </a:lnTo>
                <a:lnTo>
                  <a:pt x="109" y="742"/>
                </a:lnTo>
                <a:lnTo>
                  <a:pt x="99" y="763"/>
                </a:lnTo>
                <a:lnTo>
                  <a:pt x="89" y="783"/>
                </a:lnTo>
                <a:lnTo>
                  <a:pt x="80" y="806"/>
                </a:lnTo>
                <a:lnTo>
                  <a:pt x="71" y="828"/>
                </a:lnTo>
                <a:lnTo>
                  <a:pt x="62" y="851"/>
                </a:lnTo>
                <a:lnTo>
                  <a:pt x="52" y="874"/>
                </a:lnTo>
                <a:lnTo>
                  <a:pt x="43" y="896"/>
                </a:lnTo>
                <a:lnTo>
                  <a:pt x="34" y="920"/>
                </a:lnTo>
                <a:lnTo>
                  <a:pt x="26" y="945"/>
                </a:lnTo>
                <a:lnTo>
                  <a:pt x="17" y="969"/>
                </a:lnTo>
                <a:lnTo>
                  <a:pt x="8" y="995"/>
                </a:lnTo>
                <a:lnTo>
                  <a:pt x="0" y="1021"/>
                </a:lnTo>
                <a:lnTo>
                  <a:pt x="0" y="10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48440" y="3814920"/>
            <a:ext cx="631800" cy="738000"/>
          </a:xfrm>
          <a:custGeom>
            <a:avLst/>
            <a:gdLst/>
            <a:ahLst/>
            <a:rect l="l" t="t" r="r" b="b"/>
            <a:pathLst>
              <a:path w="398" h="931">
                <a:moveTo>
                  <a:pt x="0" y="237"/>
                </a:moveTo>
                <a:lnTo>
                  <a:pt x="7" y="227"/>
                </a:lnTo>
                <a:lnTo>
                  <a:pt x="15" y="217"/>
                </a:lnTo>
                <a:lnTo>
                  <a:pt x="20" y="210"/>
                </a:lnTo>
                <a:lnTo>
                  <a:pt x="26" y="203"/>
                </a:lnTo>
                <a:lnTo>
                  <a:pt x="33" y="194"/>
                </a:lnTo>
                <a:lnTo>
                  <a:pt x="39" y="185"/>
                </a:lnTo>
                <a:lnTo>
                  <a:pt x="47" y="177"/>
                </a:lnTo>
                <a:lnTo>
                  <a:pt x="55" y="166"/>
                </a:lnTo>
                <a:lnTo>
                  <a:pt x="63" y="158"/>
                </a:lnTo>
                <a:lnTo>
                  <a:pt x="72" y="147"/>
                </a:lnTo>
                <a:lnTo>
                  <a:pt x="82" y="137"/>
                </a:lnTo>
                <a:lnTo>
                  <a:pt x="91" y="126"/>
                </a:lnTo>
                <a:lnTo>
                  <a:pt x="101" y="116"/>
                </a:lnTo>
                <a:lnTo>
                  <a:pt x="112" y="104"/>
                </a:lnTo>
                <a:lnTo>
                  <a:pt x="122" y="94"/>
                </a:lnTo>
                <a:lnTo>
                  <a:pt x="133" y="85"/>
                </a:lnTo>
                <a:lnTo>
                  <a:pt x="144" y="74"/>
                </a:lnTo>
                <a:lnTo>
                  <a:pt x="154" y="64"/>
                </a:lnTo>
                <a:lnTo>
                  <a:pt x="167" y="54"/>
                </a:lnTo>
                <a:lnTo>
                  <a:pt x="178" y="45"/>
                </a:lnTo>
                <a:lnTo>
                  <a:pt x="189" y="36"/>
                </a:lnTo>
                <a:lnTo>
                  <a:pt x="201" y="29"/>
                </a:lnTo>
                <a:lnTo>
                  <a:pt x="213" y="22"/>
                </a:lnTo>
                <a:lnTo>
                  <a:pt x="224" y="16"/>
                </a:lnTo>
                <a:lnTo>
                  <a:pt x="246" y="5"/>
                </a:lnTo>
                <a:lnTo>
                  <a:pt x="268" y="0"/>
                </a:lnTo>
                <a:lnTo>
                  <a:pt x="311" y="2"/>
                </a:lnTo>
                <a:lnTo>
                  <a:pt x="329" y="10"/>
                </a:lnTo>
                <a:lnTo>
                  <a:pt x="347" y="26"/>
                </a:lnTo>
                <a:lnTo>
                  <a:pt x="354" y="36"/>
                </a:lnTo>
                <a:lnTo>
                  <a:pt x="361" y="48"/>
                </a:lnTo>
                <a:lnTo>
                  <a:pt x="375" y="80"/>
                </a:lnTo>
                <a:lnTo>
                  <a:pt x="385" y="118"/>
                </a:lnTo>
                <a:lnTo>
                  <a:pt x="392" y="165"/>
                </a:lnTo>
                <a:lnTo>
                  <a:pt x="398" y="288"/>
                </a:lnTo>
                <a:lnTo>
                  <a:pt x="396" y="366"/>
                </a:lnTo>
                <a:lnTo>
                  <a:pt x="390" y="452"/>
                </a:lnTo>
                <a:lnTo>
                  <a:pt x="385" y="501"/>
                </a:lnTo>
                <a:lnTo>
                  <a:pt x="379" y="553"/>
                </a:lnTo>
                <a:lnTo>
                  <a:pt x="372" y="608"/>
                </a:lnTo>
                <a:lnTo>
                  <a:pt x="364" y="666"/>
                </a:lnTo>
                <a:lnTo>
                  <a:pt x="360" y="695"/>
                </a:lnTo>
                <a:lnTo>
                  <a:pt x="356" y="726"/>
                </a:lnTo>
                <a:lnTo>
                  <a:pt x="351" y="759"/>
                </a:lnTo>
                <a:lnTo>
                  <a:pt x="345" y="791"/>
                </a:lnTo>
                <a:lnTo>
                  <a:pt x="340" y="825"/>
                </a:lnTo>
                <a:lnTo>
                  <a:pt x="333" y="860"/>
                </a:lnTo>
                <a:lnTo>
                  <a:pt x="328" y="895"/>
                </a:lnTo>
                <a:lnTo>
                  <a:pt x="321" y="931"/>
                </a:lnTo>
                <a:lnTo>
                  <a:pt x="329" y="875"/>
                </a:lnTo>
                <a:lnTo>
                  <a:pt x="338" y="815"/>
                </a:lnTo>
                <a:lnTo>
                  <a:pt x="348" y="739"/>
                </a:lnTo>
                <a:lnTo>
                  <a:pt x="357" y="650"/>
                </a:lnTo>
                <a:lnTo>
                  <a:pt x="363" y="555"/>
                </a:lnTo>
                <a:lnTo>
                  <a:pt x="366" y="361"/>
                </a:lnTo>
                <a:lnTo>
                  <a:pt x="362" y="315"/>
                </a:lnTo>
                <a:lnTo>
                  <a:pt x="358" y="272"/>
                </a:lnTo>
                <a:lnTo>
                  <a:pt x="351" y="232"/>
                </a:lnTo>
                <a:lnTo>
                  <a:pt x="347" y="213"/>
                </a:lnTo>
                <a:lnTo>
                  <a:pt x="342" y="194"/>
                </a:lnTo>
                <a:lnTo>
                  <a:pt x="337" y="178"/>
                </a:lnTo>
                <a:lnTo>
                  <a:pt x="330" y="161"/>
                </a:lnTo>
                <a:lnTo>
                  <a:pt x="324" y="147"/>
                </a:lnTo>
                <a:lnTo>
                  <a:pt x="316" y="133"/>
                </a:lnTo>
                <a:lnTo>
                  <a:pt x="313" y="128"/>
                </a:lnTo>
                <a:lnTo>
                  <a:pt x="309" y="121"/>
                </a:lnTo>
                <a:lnTo>
                  <a:pt x="300" y="111"/>
                </a:lnTo>
                <a:lnTo>
                  <a:pt x="291" y="102"/>
                </a:lnTo>
                <a:lnTo>
                  <a:pt x="281" y="94"/>
                </a:lnTo>
                <a:lnTo>
                  <a:pt x="270" y="88"/>
                </a:lnTo>
                <a:lnTo>
                  <a:pt x="258" y="83"/>
                </a:lnTo>
                <a:lnTo>
                  <a:pt x="233" y="80"/>
                </a:lnTo>
                <a:lnTo>
                  <a:pt x="204" y="83"/>
                </a:lnTo>
                <a:lnTo>
                  <a:pt x="171" y="95"/>
                </a:lnTo>
                <a:lnTo>
                  <a:pt x="153" y="106"/>
                </a:lnTo>
                <a:lnTo>
                  <a:pt x="134" y="116"/>
                </a:lnTo>
                <a:lnTo>
                  <a:pt x="124" y="123"/>
                </a:lnTo>
                <a:lnTo>
                  <a:pt x="114" y="130"/>
                </a:lnTo>
                <a:lnTo>
                  <a:pt x="104" y="139"/>
                </a:lnTo>
                <a:lnTo>
                  <a:pt x="94" y="147"/>
                </a:lnTo>
                <a:lnTo>
                  <a:pt x="83" y="156"/>
                </a:lnTo>
                <a:lnTo>
                  <a:pt x="72" y="165"/>
                </a:lnTo>
                <a:lnTo>
                  <a:pt x="61" y="175"/>
                </a:lnTo>
                <a:lnTo>
                  <a:pt x="49" y="187"/>
                </a:lnTo>
                <a:lnTo>
                  <a:pt x="37" y="198"/>
                </a:lnTo>
                <a:lnTo>
                  <a:pt x="26" y="210"/>
                </a:lnTo>
                <a:lnTo>
                  <a:pt x="19" y="217"/>
                </a:lnTo>
                <a:lnTo>
                  <a:pt x="14" y="224"/>
                </a:lnTo>
                <a:lnTo>
                  <a:pt x="7" y="231"/>
                </a:lnTo>
                <a:lnTo>
                  <a:pt x="0" y="237"/>
                </a:lnTo>
                <a:lnTo>
                  <a:pt x="0" y="2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116240" y="5056200"/>
            <a:ext cx="478080" cy="411120"/>
          </a:xfrm>
          <a:custGeom>
            <a:avLst/>
            <a:gdLst/>
            <a:ahLst/>
            <a:rect l="l" t="t" r="r" b="b"/>
            <a:pathLst>
              <a:path w="301" h="518">
                <a:moveTo>
                  <a:pt x="45" y="210"/>
                </a:moveTo>
                <a:lnTo>
                  <a:pt x="58" y="159"/>
                </a:lnTo>
                <a:lnTo>
                  <a:pt x="74" y="114"/>
                </a:lnTo>
                <a:lnTo>
                  <a:pt x="93" y="66"/>
                </a:lnTo>
                <a:lnTo>
                  <a:pt x="105" y="38"/>
                </a:lnTo>
                <a:lnTo>
                  <a:pt x="119" y="0"/>
                </a:lnTo>
                <a:lnTo>
                  <a:pt x="114" y="7"/>
                </a:lnTo>
                <a:lnTo>
                  <a:pt x="109" y="14"/>
                </a:lnTo>
                <a:lnTo>
                  <a:pt x="103" y="22"/>
                </a:lnTo>
                <a:lnTo>
                  <a:pt x="98" y="29"/>
                </a:lnTo>
                <a:lnTo>
                  <a:pt x="92" y="38"/>
                </a:lnTo>
                <a:lnTo>
                  <a:pt x="87" y="47"/>
                </a:lnTo>
                <a:lnTo>
                  <a:pt x="80" y="55"/>
                </a:lnTo>
                <a:lnTo>
                  <a:pt x="74" y="66"/>
                </a:lnTo>
                <a:lnTo>
                  <a:pt x="69" y="74"/>
                </a:lnTo>
                <a:lnTo>
                  <a:pt x="62" y="85"/>
                </a:lnTo>
                <a:lnTo>
                  <a:pt x="57" y="95"/>
                </a:lnTo>
                <a:lnTo>
                  <a:pt x="51" y="106"/>
                </a:lnTo>
                <a:lnTo>
                  <a:pt x="45" y="116"/>
                </a:lnTo>
                <a:lnTo>
                  <a:pt x="40" y="126"/>
                </a:lnTo>
                <a:lnTo>
                  <a:pt x="34" y="137"/>
                </a:lnTo>
                <a:lnTo>
                  <a:pt x="25" y="161"/>
                </a:lnTo>
                <a:lnTo>
                  <a:pt x="16" y="184"/>
                </a:lnTo>
                <a:lnTo>
                  <a:pt x="10" y="208"/>
                </a:lnTo>
                <a:lnTo>
                  <a:pt x="0" y="256"/>
                </a:lnTo>
                <a:lnTo>
                  <a:pt x="0" y="303"/>
                </a:lnTo>
                <a:lnTo>
                  <a:pt x="4" y="327"/>
                </a:lnTo>
                <a:lnTo>
                  <a:pt x="11" y="350"/>
                </a:lnTo>
                <a:lnTo>
                  <a:pt x="21" y="373"/>
                </a:lnTo>
                <a:lnTo>
                  <a:pt x="26" y="383"/>
                </a:lnTo>
                <a:lnTo>
                  <a:pt x="34" y="393"/>
                </a:lnTo>
                <a:lnTo>
                  <a:pt x="42" y="404"/>
                </a:lnTo>
                <a:lnTo>
                  <a:pt x="52" y="414"/>
                </a:lnTo>
                <a:lnTo>
                  <a:pt x="62" y="425"/>
                </a:lnTo>
                <a:lnTo>
                  <a:pt x="73" y="433"/>
                </a:lnTo>
                <a:lnTo>
                  <a:pt x="86" y="444"/>
                </a:lnTo>
                <a:lnTo>
                  <a:pt x="99" y="452"/>
                </a:lnTo>
                <a:lnTo>
                  <a:pt x="114" y="461"/>
                </a:lnTo>
                <a:lnTo>
                  <a:pt x="129" y="470"/>
                </a:lnTo>
                <a:lnTo>
                  <a:pt x="146" y="477"/>
                </a:lnTo>
                <a:lnTo>
                  <a:pt x="164" y="484"/>
                </a:lnTo>
                <a:lnTo>
                  <a:pt x="184" y="490"/>
                </a:lnTo>
                <a:lnTo>
                  <a:pt x="205" y="497"/>
                </a:lnTo>
                <a:lnTo>
                  <a:pt x="226" y="503"/>
                </a:lnTo>
                <a:lnTo>
                  <a:pt x="250" y="510"/>
                </a:lnTo>
                <a:lnTo>
                  <a:pt x="301" y="518"/>
                </a:lnTo>
                <a:lnTo>
                  <a:pt x="264" y="494"/>
                </a:lnTo>
                <a:lnTo>
                  <a:pt x="235" y="478"/>
                </a:lnTo>
                <a:lnTo>
                  <a:pt x="206" y="466"/>
                </a:lnTo>
                <a:lnTo>
                  <a:pt x="177" y="451"/>
                </a:lnTo>
                <a:lnTo>
                  <a:pt x="119" y="418"/>
                </a:lnTo>
                <a:lnTo>
                  <a:pt x="83" y="390"/>
                </a:lnTo>
                <a:lnTo>
                  <a:pt x="58" y="360"/>
                </a:lnTo>
                <a:lnTo>
                  <a:pt x="40" y="319"/>
                </a:lnTo>
                <a:lnTo>
                  <a:pt x="39" y="258"/>
                </a:lnTo>
                <a:lnTo>
                  <a:pt x="45" y="210"/>
                </a:lnTo>
                <a:lnTo>
                  <a:pt x="45" y="2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66880" y="3295800"/>
            <a:ext cx="4057920" cy="3117600"/>
          </a:xfrm>
          <a:custGeom>
            <a:avLst/>
            <a:gdLst/>
            <a:ahLst/>
            <a:rect l="l" t="t" r="r" b="b"/>
            <a:pathLst>
              <a:path w="2556" h="3927">
                <a:moveTo>
                  <a:pt x="66" y="3913"/>
                </a:moveTo>
                <a:lnTo>
                  <a:pt x="174" y="3912"/>
                </a:lnTo>
                <a:lnTo>
                  <a:pt x="427" y="3907"/>
                </a:lnTo>
                <a:lnTo>
                  <a:pt x="710" y="3903"/>
                </a:lnTo>
                <a:lnTo>
                  <a:pt x="908" y="3908"/>
                </a:lnTo>
                <a:lnTo>
                  <a:pt x="999" y="3913"/>
                </a:lnTo>
                <a:lnTo>
                  <a:pt x="1144" y="3919"/>
                </a:lnTo>
                <a:lnTo>
                  <a:pt x="1522" y="3920"/>
                </a:lnTo>
                <a:lnTo>
                  <a:pt x="1902" y="3917"/>
                </a:lnTo>
                <a:lnTo>
                  <a:pt x="2142" y="3905"/>
                </a:lnTo>
                <a:lnTo>
                  <a:pt x="2207" y="3896"/>
                </a:lnTo>
                <a:lnTo>
                  <a:pt x="2276" y="3884"/>
                </a:lnTo>
                <a:lnTo>
                  <a:pt x="2345" y="3874"/>
                </a:lnTo>
                <a:lnTo>
                  <a:pt x="2409" y="3861"/>
                </a:lnTo>
                <a:lnTo>
                  <a:pt x="2465" y="3851"/>
                </a:lnTo>
                <a:lnTo>
                  <a:pt x="2511" y="3842"/>
                </a:lnTo>
                <a:lnTo>
                  <a:pt x="2552" y="3834"/>
                </a:lnTo>
                <a:lnTo>
                  <a:pt x="2556" y="3168"/>
                </a:lnTo>
                <a:lnTo>
                  <a:pt x="2553" y="2594"/>
                </a:lnTo>
                <a:lnTo>
                  <a:pt x="2549" y="2324"/>
                </a:lnTo>
                <a:lnTo>
                  <a:pt x="2542" y="2091"/>
                </a:lnTo>
                <a:lnTo>
                  <a:pt x="2534" y="1885"/>
                </a:lnTo>
                <a:lnTo>
                  <a:pt x="2529" y="1679"/>
                </a:lnTo>
                <a:lnTo>
                  <a:pt x="2522" y="1269"/>
                </a:lnTo>
                <a:lnTo>
                  <a:pt x="2520" y="890"/>
                </a:lnTo>
                <a:lnTo>
                  <a:pt x="2521" y="560"/>
                </a:lnTo>
                <a:lnTo>
                  <a:pt x="2520" y="307"/>
                </a:lnTo>
                <a:lnTo>
                  <a:pt x="2517" y="210"/>
                </a:lnTo>
                <a:lnTo>
                  <a:pt x="2513" y="132"/>
                </a:lnTo>
                <a:lnTo>
                  <a:pt x="2505" y="33"/>
                </a:lnTo>
                <a:lnTo>
                  <a:pt x="2502" y="0"/>
                </a:lnTo>
                <a:lnTo>
                  <a:pt x="2403" y="7"/>
                </a:lnTo>
                <a:lnTo>
                  <a:pt x="2293" y="14"/>
                </a:lnTo>
                <a:lnTo>
                  <a:pt x="2152" y="23"/>
                </a:lnTo>
                <a:lnTo>
                  <a:pt x="1990" y="30"/>
                </a:lnTo>
                <a:lnTo>
                  <a:pt x="1815" y="35"/>
                </a:lnTo>
                <a:lnTo>
                  <a:pt x="1458" y="31"/>
                </a:lnTo>
                <a:lnTo>
                  <a:pt x="1276" y="30"/>
                </a:lnTo>
                <a:lnTo>
                  <a:pt x="1079" y="33"/>
                </a:lnTo>
                <a:lnTo>
                  <a:pt x="879" y="40"/>
                </a:lnTo>
                <a:lnTo>
                  <a:pt x="685" y="51"/>
                </a:lnTo>
                <a:lnTo>
                  <a:pt x="506" y="63"/>
                </a:lnTo>
                <a:lnTo>
                  <a:pt x="353" y="73"/>
                </a:lnTo>
                <a:lnTo>
                  <a:pt x="237" y="80"/>
                </a:lnTo>
                <a:lnTo>
                  <a:pt x="165" y="83"/>
                </a:lnTo>
                <a:lnTo>
                  <a:pt x="60" y="80"/>
                </a:lnTo>
                <a:lnTo>
                  <a:pt x="47" y="80"/>
                </a:lnTo>
                <a:lnTo>
                  <a:pt x="45" y="83"/>
                </a:lnTo>
                <a:lnTo>
                  <a:pt x="44" y="266"/>
                </a:lnTo>
                <a:lnTo>
                  <a:pt x="38" y="683"/>
                </a:lnTo>
                <a:lnTo>
                  <a:pt x="34" y="928"/>
                </a:lnTo>
                <a:lnTo>
                  <a:pt x="28" y="1167"/>
                </a:lnTo>
                <a:lnTo>
                  <a:pt x="21" y="1380"/>
                </a:lnTo>
                <a:lnTo>
                  <a:pt x="18" y="1471"/>
                </a:lnTo>
                <a:lnTo>
                  <a:pt x="15" y="1545"/>
                </a:lnTo>
                <a:lnTo>
                  <a:pt x="2" y="1907"/>
                </a:lnTo>
                <a:lnTo>
                  <a:pt x="0" y="2377"/>
                </a:lnTo>
                <a:lnTo>
                  <a:pt x="2" y="2847"/>
                </a:lnTo>
                <a:lnTo>
                  <a:pt x="6" y="3043"/>
                </a:lnTo>
                <a:lnTo>
                  <a:pt x="9" y="3197"/>
                </a:lnTo>
                <a:lnTo>
                  <a:pt x="18" y="3456"/>
                </a:lnTo>
                <a:lnTo>
                  <a:pt x="25" y="3688"/>
                </a:lnTo>
                <a:lnTo>
                  <a:pt x="32" y="3924"/>
                </a:lnTo>
                <a:lnTo>
                  <a:pt x="41" y="3927"/>
                </a:lnTo>
                <a:lnTo>
                  <a:pt x="61" y="3917"/>
                </a:lnTo>
                <a:lnTo>
                  <a:pt x="68" y="3522"/>
                </a:lnTo>
                <a:lnTo>
                  <a:pt x="75" y="3154"/>
                </a:lnTo>
                <a:lnTo>
                  <a:pt x="84" y="2733"/>
                </a:lnTo>
                <a:lnTo>
                  <a:pt x="88" y="2519"/>
                </a:lnTo>
                <a:lnTo>
                  <a:pt x="93" y="2310"/>
                </a:lnTo>
                <a:lnTo>
                  <a:pt x="97" y="2109"/>
                </a:lnTo>
                <a:lnTo>
                  <a:pt x="102" y="1927"/>
                </a:lnTo>
                <a:lnTo>
                  <a:pt x="106" y="1765"/>
                </a:lnTo>
                <a:lnTo>
                  <a:pt x="111" y="1632"/>
                </a:lnTo>
                <a:lnTo>
                  <a:pt x="114" y="1533"/>
                </a:lnTo>
                <a:lnTo>
                  <a:pt x="117" y="1472"/>
                </a:lnTo>
                <a:lnTo>
                  <a:pt x="123" y="1200"/>
                </a:lnTo>
                <a:lnTo>
                  <a:pt x="120" y="791"/>
                </a:lnTo>
                <a:lnTo>
                  <a:pt x="113" y="177"/>
                </a:lnTo>
                <a:lnTo>
                  <a:pt x="260" y="182"/>
                </a:lnTo>
                <a:lnTo>
                  <a:pt x="527" y="188"/>
                </a:lnTo>
                <a:lnTo>
                  <a:pt x="820" y="182"/>
                </a:lnTo>
                <a:lnTo>
                  <a:pt x="946" y="175"/>
                </a:lnTo>
                <a:lnTo>
                  <a:pt x="1043" y="162"/>
                </a:lnTo>
                <a:lnTo>
                  <a:pt x="1088" y="155"/>
                </a:lnTo>
                <a:lnTo>
                  <a:pt x="1142" y="146"/>
                </a:lnTo>
                <a:lnTo>
                  <a:pt x="1203" y="139"/>
                </a:lnTo>
                <a:lnTo>
                  <a:pt x="1271" y="132"/>
                </a:lnTo>
                <a:lnTo>
                  <a:pt x="1345" y="125"/>
                </a:lnTo>
                <a:lnTo>
                  <a:pt x="1422" y="118"/>
                </a:lnTo>
                <a:lnTo>
                  <a:pt x="1501" y="113"/>
                </a:lnTo>
                <a:lnTo>
                  <a:pt x="1582" y="108"/>
                </a:lnTo>
                <a:lnTo>
                  <a:pt x="1737" y="99"/>
                </a:lnTo>
                <a:lnTo>
                  <a:pt x="1877" y="92"/>
                </a:lnTo>
                <a:lnTo>
                  <a:pt x="2062" y="85"/>
                </a:lnTo>
                <a:lnTo>
                  <a:pt x="2292" y="82"/>
                </a:lnTo>
                <a:lnTo>
                  <a:pt x="2423" y="77"/>
                </a:lnTo>
                <a:lnTo>
                  <a:pt x="2426" y="148"/>
                </a:lnTo>
                <a:lnTo>
                  <a:pt x="2434" y="337"/>
                </a:lnTo>
                <a:lnTo>
                  <a:pt x="2439" y="463"/>
                </a:lnTo>
                <a:lnTo>
                  <a:pt x="2445" y="605"/>
                </a:lnTo>
                <a:lnTo>
                  <a:pt x="2452" y="758"/>
                </a:lnTo>
                <a:lnTo>
                  <a:pt x="2457" y="917"/>
                </a:lnTo>
                <a:lnTo>
                  <a:pt x="2464" y="1079"/>
                </a:lnTo>
                <a:lnTo>
                  <a:pt x="2470" y="1236"/>
                </a:lnTo>
                <a:lnTo>
                  <a:pt x="2479" y="1524"/>
                </a:lnTo>
                <a:lnTo>
                  <a:pt x="2483" y="1855"/>
                </a:lnTo>
                <a:lnTo>
                  <a:pt x="2477" y="2200"/>
                </a:lnTo>
                <a:lnTo>
                  <a:pt x="2474" y="2835"/>
                </a:lnTo>
                <a:lnTo>
                  <a:pt x="2471" y="3454"/>
                </a:lnTo>
                <a:lnTo>
                  <a:pt x="2466" y="3659"/>
                </a:lnTo>
                <a:lnTo>
                  <a:pt x="2464" y="3719"/>
                </a:lnTo>
                <a:lnTo>
                  <a:pt x="2462" y="3745"/>
                </a:lnTo>
                <a:lnTo>
                  <a:pt x="2452" y="3750"/>
                </a:lnTo>
                <a:lnTo>
                  <a:pt x="2428" y="3757"/>
                </a:lnTo>
                <a:lnTo>
                  <a:pt x="2395" y="3763"/>
                </a:lnTo>
                <a:lnTo>
                  <a:pt x="2352" y="3770"/>
                </a:lnTo>
                <a:lnTo>
                  <a:pt x="2301" y="3775"/>
                </a:lnTo>
                <a:lnTo>
                  <a:pt x="2244" y="3780"/>
                </a:lnTo>
                <a:lnTo>
                  <a:pt x="2119" y="3789"/>
                </a:lnTo>
                <a:lnTo>
                  <a:pt x="1989" y="3799"/>
                </a:lnTo>
                <a:lnTo>
                  <a:pt x="1868" y="3808"/>
                </a:lnTo>
                <a:lnTo>
                  <a:pt x="1706" y="3822"/>
                </a:lnTo>
                <a:lnTo>
                  <a:pt x="1639" y="3823"/>
                </a:lnTo>
                <a:lnTo>
                  <a:pt x="1528" y="3816"/>
                </a:lnTo>
                <a:lnTo>
                  <a:pt x="1385" y="3806"/>
                </a:lnTo>
                <a:lnTo>
                  <a:pt x="1307" y="3799"/>
                </a:lnTo>
                <a:lnTo>
                  <a:pt x="1224" y="3794"/>
                </a:lnTo>
                <a:lnTo>
                  <a:pt x="1140" y="3787"/>
                </a:lnTo>
                <a:lnTo>
                  <a:pt x="1057" y="3780"/>
                </a:lnTo>
                <a:lnTo>
                  <a:pt x="896" y="3773"/>
                </a:lnTo>
                <a:lnTo>
                  <a:pt x="752" y="3771"/>
                </a:lnTo>
                <a:lnTo>
                  <a:pt x="640" y="3780"/>
                </a:lnTo>
                <a:lnTo>
                  <a:pt x="593" y="3785"/>
                </a:lnTo>
                <a:lnTo>
                  <a:pt x="545" y="3790"/>
                </a:lnTo>
                <a:lnTo>
                  <a:pt x="448" y="3794"/>
                </a:lnTo>
                <a:lnTo>
                  <a:pt x="264" y="3790"/>
                </a:lnTo>
                <a:lnTo>
                  <a:pt x="123" y="3778"/>
                </a:lnTo>
                <a:lnTo>
                  <a:pt x="77" y="3770"/>
                </a:lnTo>
                <a:lnTo>
                  <a:pt x="66" y="3822"/>
                </a:lnTo>
                <a:lnTo>
                  <a:pt x="66" y="3865"/>
                </a:lnTo>
                <a:lnTo>
                  <a:pt x="66" y="3913"/>
                </a:lnTo>
                <a:lnTo>
                  <a:pt x="66" y="39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40160" y="4398840"/>
            <a:ext cx="152640" cy="284400"/>
          </a:xfrm>
          <a:custGeom>
            <a:avLst/>
            <a:gdLst/>
            <a:ahLst/>
            <a:rect l="l" t="t" r="r" b="b"/>
            <a:pathLst>
              <a:path w="96" h="359">
                <a:moveTo>
                  <a:pt x="79" y="35"/>
                </a:moveTo>
                <a:lnTo>
                  <a:pt x="70" y="54"/>
                </a:lnTo>
                <a:lnTo>
                  <a:pt x="61" y="76"/>
                </a:lnTo>
                <a:lnTo>
                  <a:pt x="52" y="101"/>
                </a:lnTo>
                <a:lnTo>
                  <a:pt x="43" y="128"/>
                </a:lnTo>
                <a:lnTo>
                  <a:pt x="36" y="156"/>
                </a:lnTo>
                <a:lnTo>
                  <a:pt x="26" y="220"/>
                </a:lnTo>
                <a:lnTo>
                  <a:pt x="25" y="288"/>
                </a:lnTo>
                <a:lnTo>
                  <a:pt x="29" y="323"/>
                </a:lnTo>
                <a:lnTo>
                  <a:pt x="33" y="340"/>
                </a:lnTo>
                <a:lnTo>
                  <a:pt x="37" y="359"/>
                </a:lnTo>
                <a:lnTo>
                  <a:pt x="33" y="354"/>
                </a:lnTo>
                <a:lnTo>
                  <a:pt x="22" y="340"/>
                </a:lnTo>
                <a:lnTo>
                  <a:pt x="0" y="277"/>
                </a:lnTo>
                <a:lnTo>
                  <a:pt x="0" y="229"/>
                </a:lnTo>
                <a:lnTo>
                  <a:pt x="6" y="198"/>
                </a:lnTo>
                <a:lnTo>
                  <a:pt x="10" y="182"/>
                </a:lnTo>
                <a:lnTo>
                  <a:pt x="15" y="165"/>
                </a:lnTo>
                <a:lnTo>
                  <a:pt x="22" y="146"/>
                </a:lnTo>
                <a:lnTo>
                  <a:pt x="29" y="127"/>
                </a:lnTo>
                <a:lnTo>
                  <a:pt x="38" y="106"/>
                </a:lnTo>
                <a:lnTo>
                  <a:pt x="48" y="83"/>
                </a:lnTo>
                <a:lnTo>
                  <a:pt x="54" y="73"/>
                </a:lnTo>
                <a:lnTo>
                  <a:pt x="60" y="61"/>
                </a:lnTo>
                <a:lnTo>
                  <a:pt x="78" y="31"/>
                </a:lnTo>
                <a:lnTo>
                  <a:pt x="96" y="0"/>
                </a:lnTo>
                <a:lnTo>
                  <a:pt x="79" y="35"/>
                </a:lnTo>
                <a:lnTo>
                  <a:pt x="79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05400" y="4694400"/>
            <a:ext cx="299880" cy="66600"/>
          </a:xfrm>
          <a:custGeom>
            <a:avLst/>
            <a:gdLst/>
            <a:ahLst/>
            <a:rect l="l" t="t" r="r" b="b"/>
            <a:pathLst>
              <a:path w="189" h="83">
                <a:moveTo>
                  <a:pt x="0" y="14"/>
                </a:moveTo>
                <a:lnTo>
                  <a:pt x="17" y="19"/>
                </a:lnTo>
                <a:lnTo>
                  <a:pt x="57" y="31"/>
                </a:lnTo>
                <a:lnTo>
                  <a:pt x="82" y="41"/>
                </a:lnTo>
                <a:lnTo>
                  <a:pt x="104" y="54"/>
                </a:lnTo>
                <a:lnTo>
                  <a:pt x="124" y="67"/>
                </a:lnTo>
                <a:lnTo>
                  <a:pt x="139" y="83"/>
                </a:lnTo>
                <a:lnTo>
                  <a:pt x="189" y="59"/>
                </a:lnTo>
                <a:lnTo>
                  <a:pt x="181" y="14"/>
                </a:lnTo>
                <a:lnTo>
                  <a:pt x="142" y="47"/>
                </a:lnTo>
                <a:lnTo>
                  <a:pt x="139" y="43"/>
                </a:lnTo>
                <a:lnTo>
                  <a:pt x="129" y="34"/>
                </a:lnTo>
                <a:lnTo>
                  <a:pt x="115" y="24"/>
                </a:lnTo>
                <a:lnTo>
                  <a:pt x="106" y="19"/>
                </a:lnTo>
                <a:lnTo>
                  <a:pt x="96" y="14"/>
                </a:lnTo>
                <a:lnTo>
                  <a:pt x="75" y="5"/>
                </a:lnTo>
                <a:lnTo>
                  <a:pt x="52" y="0"/>
                </a:lnTo>
                <a:lnTo>
                  <a:pt x="26" y="3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795920" y="4710240"/>
            <a:ext cx="163440" cy="156960"/>
          </a:xfrm>
          <a:custGeom>
            <a:avLst/>
            <a:gdLst/>
            <a:ahLst/>
            <a:rect l="l" t="t" r="r" b="b"/>
            <a:pathLst>
              <a:path w="103" h="197">
                <a:moveTo>
                  <a:pt x="0" y="0"/>
                </a:moveTo>
                <a:lnTo>
                  <a:pt x="2" y="60"/>
                </a:lnTo>
                <a:lnTo>
                  <a:pt x="5" y="116"/>
                </a:lnTo>
                <a:lnTo>
                  <a:pt x="8" y="142"/>
                </a:lnTo>
                <a:lnTo>
                  <a:pt x="12" y="166"/>
                </a:lnTo>
                <a:lnTo>
                  <a:pt x="17" y="183"/>
                </a:lnTo>
                <a:lnTo>
                  <a:pt x="21" y="190"/>
                </a:lnTo>
                <a:lnTo>
                  <a:pt x="24" y="196"/>
                </a:lnTo>
                <a:lnTo>
                  <a:pt x="33" y="197"/>
                </a:lnTo>
                <a:lnTo>
                  <a:pt x="43" y="189"/>
                </a:lnTo>
                <a:lnTo>
                  <a:pt x="69" y="133"/>
                </a:lnTo>
                <a:lnTo>
                  <a:pt x="76" y="109"/>
                </a:lnTo>
                <a:lnTo>
                  <a:pt x="85" y="79"/>
                </a:lnTo>
                <a:lnTo>
                  <a:pt x="94" y="46"/>
                </a:lnTo>
                <a:lnTo>
                  <a:pt x="103" y="10"/>
                </a:lnTo>
                <a:lnTo>
                  <a:pt x="100" y="20"/>
                </a:lnTo>
                <a:lnTo>
                  <a:pt x="90" y="48"/>
                </a:lnTo>
                <a:lnTo>
                  <a:pt x="83" y="66"/>
                </a:lnTo>
                <a:lnTo>
                  <a:pt x="75" y="83"/>
                </a:lnTo>
                <a:lnTo>
                  <a:pt x="71" y="92"/>
                </a:lnTo>
                <a:lnTo>
                  <a:pt x="66" y="98"/>
                </a:lnTo>
                <a:lnTo>
                  <a:pt x="57" y="114"/>
                </a:lnTo>
                <a:lnTo>
                  <a:pt x="53" y="119"/>
                </a:lnTo>
                <a:lnTo>
                  <a:pt x="49" y="124"/>
                </a:lnTo>
                <a:lnTo>
                  <a:pt x="40" y="130"/>
                </a:lnTo>
                <a:lnTo>
                  <a:pt x="31" y="131"/>
                </a:lnTo>
                <a:lnTo>
                  <a:pt x="23" y="123"/>
                </a:lnTo>
                <a:lnTo>
                  <a:pt x="9" y="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19600" y="4564080"/>
            <a:ext cx="192240" cy="125280"/>
          </a:xfrm>
          <a:custGeom>
            <a:avLst/>
            <a:gdLst/>
            <a:ahLst/>
            <a:rect l="l" t="t" r="r" b="b"/>
            <a:pathLst>
              <a:path w="121" h="160">
                <a:moveTo>
                  <a:pt x="83" y="11"/>
                </a:moveTo>
                <a:lnTo>
                  <a:pt x="79" y="16"/>
                </a:lnTo>
                <a:lnTo>
                  <a:pt x="73" y="21"/>
                </a:lnTo>
                <a:lnTo>
                  <a:pt x="66" y="30"/>
                </a:lnTo>
                <a:lnTo>
                  <a:pt x="59" y="38"/>
                </a:lnTo>
                <a:lnTo>
                  <a:pt x="50" y="47"/>
                </a:lnTo>
                <a:lnTo>
                  <a:pt x="42" y="59"/>
                </a:lnTo>
                <a:lnTo>
                  <a:pt x="35" y="69"/>
                </a:lnTo>
                <a:lnTo>
                  <a:pt x="28" y="80"/>
                </a:lnTo>
                <a:lnTo>
                  <a:pt x="24" y="92"/>
                </a:lnTo>
                <a:lnTo>
                  <a:pt x="21" y="113"/>
                </a:lnTo>
                <a:lnTo>
                  <a:pt x="24" y="121"/>
                </a:lnTo>
                <a:lnTo>
                  <a:pt x="31" y="130"/>
                </a:lnTo>
                <a:lnTo>
                  <a:pt x="41" y="135"/>
                </a:lnTo>
                <a:lnTo>
                  <a:pt x="56" y="139"/>
                </a:lnTo>
                <a:lnTo>
                  <a:pt x="69" y="130"/>
                </a:lnTo>
                <a:lnTo>
                  <a:pt x="80" y="121"/>
                </a:lnTo>
                <a:lnTo>
                  <a:pt x="92" y="106"/>
                </a:lnTo>
                <a:lnTo>
                  <a:pt x="107" y="66"/>
                </a:lnTo>
                <a:lnTo>
                  <a:pt x="104" y="40"/>
                </a:lnTo>
                <a:lnTo>
                  <a:pt x="100" y="26"/>
                </a:lnTo>
                <a:lnTo>
                  <a:pt x="93" y="11"/>
                </a:lnTo>
                <a:lnTo>
                  <a:pt x="92" y="5"/>
                </a:lnTo>
                <a:lnTo>
                  <a:pt x="95" y="0"/>
                </a:lnTo>
                <a:lnTo>
                  <a:pt x="107" y="4"/>
                </a:lnTo>
                <a:lnTo>
                  <a:pt x="120" y="33"/>
                </a:lnTo>
                <a:lnTo>
                  <a:pt x="121" y="83"/>
                </a:lnTo>
                <a:lnTo>
                  <a:pt x="114" y="108"/>
                </a:lnTo>
                <a:lnTo>
                  <a:pt x="112" y="113"/>
                </a:lnTo>
                <a:lnTo>
                  <a:pt x="109" y="120"/>
                </a:lnTo>
                <a:lnTo>
                  <a:pt x="105" y="125"/>
                </a:lnTo>
                <a:lnTo>
                  <a:pt x="101" y="130"/>
                </a:lnTo>
                <a:lnTo>
                  <a:pt x="92" y="141"/>
                </a:lnTo>
                <a:lnTo>
                  <a:pt x="80" y="149"/>
                </a:lnTo>
                <a:lnTo>
                  <a:pt x="66" y="154"/>
                </a:lnTo>
                <a:lnTo>
                  <a:pt x="51" y="160"/>
                </a:lnTo>
                <a:lnTo>
                  <a:pt x="23" y="160"/>
                </a:lnTo>
                <a:lnTo>
                  <a:pt x="7" y="149"/>
                </a:lnTo>
                <a:lnTo>
                  <a:pt x="0" y="128"/>
                </a:lnTo>
                <a:lnTo>
                  <a:pt x="2" y="104"/>
                </a:lnTo>
                <a:lnTo>
                  <a:pt x="8" y="78"/>
                </a:lnTo>
                <a:lnTo>
                  <a:pt x="18" y="54"/>
                </a:lnTo>
                <a:lnTo>
                  <a:pt x="24" y="43"/>
                </a:lnTo>
                <a:lnTo>
                  <a:pt x="30" y="35"/>
                </a:lnTo>
                <a:lnTo>
                  <a:pt x="35" y="28"/>
                </a:lnTo>
                <a:lnTo>
                  <a:pt x="41" y="23"/>
                </a:lnTo>
                <a:lnTo>
                  <a:pt x="50" y="17"/>
                </a:lnTo>
                <a:lnTo>
                  <a:pt x="57" y="12"/>
                </a:lnTo>
                <a:lnTo>
                  <a:pt x="71" y="11"/>
                </a:lnTo>
                <a:lnTo>
                  <a:pt x="83" y="11"/>
                </a:lnTo>
                <a:lnTo>
                  <a:pt x="83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62600" y="4635360"/>
            <a:ext cx="145800" cy="111240"/>
          </a:xfrm>
          <a:custGeom>
            <a:avLst/>
            <a:gdLst/>
            <a:ahLst/>
            <a:rect l="l" t="t" r="r" b="b"/>
            <a:pathLst>
              <a:path w="92" h="141">
                <a:moveTo>
                  <a:pt x="36" y="25"/>
                </a:moveTo>
                <a:lnTo>
                  <a:pt x="35" y="26"/>
                </a:lnTo>
                <a:lnTo>
                  <a:pt x="30" y="35"/>
                </a:lnTo>
                <a:lnTo>
                  <a:pt x="24" y="45"/>
                </a:lnTo>
                <a:lnTo>
                  <a:pt x="17" y="59"/>
                </a:lnTo>
                <a:lnTo>
                  <a:pt x="12" y="87"/>
                </a:lnTo>
                <a:lnTo>
                  <a:pt x="14" y="99"/>
                </a:lnTo>
                <a:lnTo>
                  <a:pt x="17" y="103"/>
                </a:lnTo>
                <a:lnTo>
                  <a:pt x="23" y="106"/>
                </a:lnTo>
                <a:lnTo>
                  <a:pt x="44" y="111"/>
                </a:lnTo>
                <a:lnTo>
                  <a:pt x="61" y="104"/>
                </a:lnTo>
                <a:lnTo>
                  <a:pt x="72" y="89"/>
                </a:lnTo>
                <a:lnTo>
                  <a:pt x="76" y="71"/>
                </a:lnTo>
                <a:lnTo>
                  <a:pt x="78" y="51"/>
                </a:lnTo>
                <a:lnTo>
                  <a:pt x="74" y="28"/>
                </a:lnTo>
                <a:lnTo>
                  <a:pt x="70" y="19"/>
                </a:lnTo>
                <a:lnTo>
                  <a:pt x="64" y="14"/>
                </a:lnTo>
                <a:lnTo>
                  <a:pt x="45" y="19"/>
                </a:lnTo>
                <a:lnTo>
                  <a:pt x="32" y="25"/>
                </a:lnTo>
                <a:lnTo>
                  <a:pt x="34" y="18"/>
                </a:lnTo>
                <a:lnTo>
                  <a:pt x="38" y="12"/>
                </a:lnTo>
                <a:lnTo>
                  <a:pt x="45" y="7"/>
                </a:lnTo>
                <a:lnTo>
                  <a:pt x="61" y="0"/>
                </a:lnTo>
                <a:lnTo>
                  <a:pt x="76" y="2"/>
                </a:lnTo>
                <a:lnTo>
                  <a:pt x="89" y="12"/>
                </a:lnTo>
                <a:lnTo>
                  <a:pt x="92" y="38"/>
                </a:lnTo>
                <a:lnTo>
                  <a:pt x="89" y="59"/>
                </a:lnTo>
                <a:lnTo>
                  <a:pt x="82" y="87"/>
                </a:lnTo>
                <a:lnTo>
                  <a:pt x="71" y="113"/>
                </a:lnTo>
                <a:lnTo>
                  <a:pt x="64" y="122"/>
                </a:lnTo>
                <a:lnTo>
                  <a:pt x="59" y="130"/>
                </a:lnTo>
                <a:lnTo>
                  <a:pt x="52" y="135"/>
                </a:lnTo>
                <a:lnTo>
                  <a:pt x="45" y="139"/>
                </a:lnTo>
                <a:lnTo>
                  <a:pt x="32" y="141"/>
                </a:lnTo>
                <a:lnTo>
                  <a:pt x="19" y="137"/>
                </a:lnTo>
                <a:lnTo>
                  <a:pt x="9" y="129"/>
                </a:lnTo>
                <a:lnTo>
                  <a:pt x="0" y="97"/>
                </a:lnTo>
                <a:lnTo>
                  <a:pt x="3" y="78"/>
                </a:lnTo>
                <a:lnTo>
                  <a:pt x="6" y="64"/>
                </a:lnTo>
                <a:lnTo>
                  <a:pt x="13" y="51"/>
                </a:lnTo>
                <a:lnTo>
                  <a:pt x="18" y="42"/>
                </a:lnTo>
                <a:lnTo>
                  <a:pt x="25" y="33"/>
                </a:lnTo>
                <a:lnTo>
                  <a:pt x="31" y="28"/>
                </a:lnTo>
                <a:lnTo>
                  <a:pt x="36" y="25"/>
                </a:lnTo>
                <a:lnTo>
                  <a:pt x="3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900680" y="4616280"/>
            <a:ext cx="85680" cy="61920"/>
          </a:xfrm>
          <a:custGeom>
            <a:avLst/>
            <a:gdLst/>
            <a:ahLst/>
            <a:rect l="l" t="t" r="r" b="b"/>
            <a:pathLst>
              <a:path w="54" h="76">
                <a:moveTo>
                  <a:pt x="4" y="22"/>
                </a:moveTo>
                <a:lnTo>
                  <a:pt x="27" y="24"/>
                </a:lnTo>
                <a:lnTo>
                  <a:pt x="44" y="40"/>
                </a:lnTo>
                <a:lnTo>
                  <a:pt x="51" y="76"/>
                </a:lnTo>
                <a:lnTo>
                  <a:pt x="54" y="27"/>
                </a:lnTo>
                <a:lnTo>
                  <a:pt x="50" y="12"/>
                </a:lnTo>
                <a:lnTo>
                  <a:pt x="46" y="7"/>
                </a:lnTo>
                <a:lnTo>
                  <a:pt x="41" y="1"/>
                </a:lnTo>
                <a:lnTo>
                  <a:pt x="26" y="0"/>
                </a:lnTo>
                <a:lnTo>
                  <a:pt x="3" y="7"/>
                </a:lnTo>
                <a:lnTo>
                  <a:pt x="0" y="10"/>
                </a:lnTo>
                <a:lnTo>
                  <a:pt x="0" y="15"/>
                </a:lnTo>
                <a:lnTo>
                  <a:pt x="4" y="22"/>
                </a:lnTo>
                <a:lnTo>
                  <a:pt x="4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02320" y="4421160"/>
            <a:ext cx="99720" cy="174600"/>
          </a:xfrm>
          <a:custGeom>
            <a:avLst/>
            <a:gdLst/>
            <a:ahLst/>
            <a:rect l="l" t="t" r="r" b="b"/>
            <a:pathLst>
              <a:path w="63" h="220">
                <a:moveTo>
                  <a:pt x="42" y="220"/>
                </a:moveTo>
                <a:lnTo>
                  <a:pt x="39" y="149"/>
                </a:lnTo>
                <a:lnTo>
                  <a:pt x="35" y="114"/>
                </a:lnTo>
                <a:lnTo>
                  <a:pt x="28" y="78"/>
                </a:lnTo>
                <a:lnTo>
                  <a:pt x="23" y="58"/>
                </a:lnTo>
                <a:lnTo>
                  <a:pt x="16" y="38"/>
                </a:lnTo>
                <a:lnTo>
                  <a:pt x="9" y="19"/>
                </a:lnTo>
                <a:lnTo>
                  <a:pt x="0" y="0"/>
                </a:lnTo>
                <a:lnTo>
                  <a:pt x="10" y="6"/>
                </a:lnTo>
                <a:lnTo>
                  <a:pt x="22" y="19"/>
                </a:lnTo>
                <a:lnTo>
                  <a:pt x="27" y="27"/>
                </a:lnTo>
                <a:lnTo>
                  <a:pt x="33" y="38"/>
                </a:lnTo>
                <a:lnTo>
                  <a:pt x="55" y="100"/>
                </a:lnTo>
                <a:lnTo>
                  <a:pt x="62" y="147"/>
                </a:lnTo>
                <a:lnTo>
                  <a:pt x="63" y="206"/>
                </a:lnTo>
                <a:lnTo>
                  <a:pt x="42" y="220"/>
                </a:lnTo>
                <a:lnTo>
                  <a:pt x="42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81360" y="4344840"/>
            <a:ext cx="115920" cy="144720"/>
          </a:xfrm>
          <a:custGeom>
            <a:avLst/>
            <a:gdLst/>
            <a:ahLst/>
            <a:rect l="l" t="t" r="r" b="b"/>
            <a:pathLst>
              <a:path w="73" h="182">
                <a:moveTo>
                  <a:pt x="0" y="170"/>
                </a:moveTo>
                <a:lnTo>
                  <a:pt x="3" y="137"/>
                </a:lnTo>
                <a:lnTo>
                  <a:pt x="6" y="106"/>
                </a:lnTo>
                <a:lnTo>
                  <a:pt x="10" y="70"/>
                </a:lnTo>
                <a:lnTo>
                  <a:pt x="17" y="35"/>
                </a:lnTo>
                <a:lnTo>
                  <a:pt x="26" y="11"/>
                </a:lnTo>
                <a:lnTo>
                  <a:pt x="31" y="4"/>
                </a:lnTo>
                <a:lnTo>
                  <a:pt x="37" y="0"/>
                </a:lnTo>
                <a:lnTo>
                  <a:pt x="51" y="7"/>
                </a:lnTo>
                <a:lnTo>
                  <a:pt x="70" y="51"/>
                </a:lnTo>
                <a:lnTo>
                  <a:pt x="73" y="96"/>
                </a:lnTo>
                <a:lnTo>
                  <a:pt x="71" y="118"/>
                </a:lnTo>
                <a:lnTo>
                  <a:pt x="65" y="141"/>
                </a:lnTo>
                <a:lnTo>
                  <a:pt x="58" y="162"/>
                </a:lnTo>
                <a:lnTo>
                  <a:pt x="52" y="182"/>
                </a:lnTo>
                <a:lnTo>
                  <a:pt x="55" y="122"/>
                </a:lnTo>
                <a:lnTo>
                  <a:pt x="54" y="77"/>
                </a:lnTo>
                <a:lnTo>
                  <a:pt x="51" y="63"/>
                </a:lnTo>
                <a:lnTo>
                  <a:pt x="48" y="58"/>
                </a:lnTo>
                <a:lnTo>
                  <a:pt x="45" y="54"/>
                </a:lnTo>
                <a:lnTo>
                  <a:pt x="37" y="58"/>
                </a:lnTo>
                <a:lnTo>
                  <a:pt x="31" y="70"/>
                </a:lnTo>
                <a:lnTo>
                  <a:pt x="16" y="111"/>
                </a:lnTo>
                <a:lnTo>
                  <a:pt x="9" y="132"/>
                </a:lnTo>
                <a:lnTo>
                  <a:pt x="5" y="151"/>
                </a:lnTo>
                <a:lnTo>
                  <a:pt x="0" y="170"/>
                </a:lnTo>
                <a:lnTo>
                  <a:pt x="0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33840" y="4708440"/>
            <a:ext cx="155520" cy="108000"/>
          </a:xfrm>
          <a:custGeom>
            <a:avLst/>
            <a:gdLst/>
            <a:ahLst/>
            <a:rect l="l" t="t" r="r" b="b"/>
            <a:pathLst>
              <a:path w="98" h="135">
                <a:moveTo>
                  <a:pt x="30" y="0"/>
                </a:moveTo>
                <a:lnTo>
                  <a:pt x="26" y="12"/>
                </a:lnTo>
                <a:lnTo>
                  <a:pt x="17" y="40"/>
                </a:lnTo>
                <a:lnTo>
                  <a:pt x="7" y="74"/>
                </a:lnTo>
                <a:lnTo>
                  <a:pt x="0" y="107"/>
                </a:lnTo>
                <a:lnTo>
                  <a:pt x="1" y="130"/>
                </a:lnTo>
                <a:lnTo>
                  <a:pt x="7" y="135"/>
                </a:lnTo>
                <a:lnTo>
                  <a:pt x="16" y="133"/>
                </a:lnTo>
                <a:lnTo>
                  <a:pt x="28" y="125"/>
                </a:lnTo>
                <a:lnTo>
                  <a:pt x="37" y="116"/>
                </a:lnTo>
                <a:lnTo>
                  <a:pt x="46" y="106"/>
                </a:lnTo>
                <a:lnTo>
                  <a:pt x="57" y="94"/>
                </a:lnTo>
                <a:lnTo>
                  <a:pt x="63" y="87"/>
                </a:lnTo>
                <a:lnTo>
                  <a:pt x="69" y="80"/>
                </a:lnTo>
                <a:lnTo>
                  <a:pt x="76" y="71"/>
                </a:lnTo>
                <a:lnTo>
                  <a:pt x="83" y="62"/>
                </a:lnTo>
                <a:lnTo>
                  <a:pt x="91" y="52"/>
                </a:lnTo>
                <a:lnTo>
                  <a:pt x="98" y="41"/>
                </a:lnTo>
                <a:lnTo>
                  <a:pt x="93" y="47"/>
                </a:lnTo>
                <a:lnTo>
                  <a:pt x="87" y="54"/>
                </a:lnTo>
                <a:lnTo>
                  <a:pt x="79" y="61"/>
                </a:lnTo>
                <a:lnTo>
                  <a:pt x="71" y="69"/>
                </a:lnTo>
                <a:lnTo>
                  <a:pt x="61" y="76"/>
                </a:lnTo>
                <a:lnTo>
                  <a:pt x="52" y="85"/>
                </a:lnTo>
                <a:lnTo>
                  <a:pt x="43" y="90"/>
                </a:lnTo>
                <a:lnTo>
                  <a:pt x="26" y="94"/>
                </a:lnTo>
                <a:lnTo>
                  <a:pt x="16" y="85"/>
                </a:lnTo>
                <a:lnTo>
                  <a:pt x="16" y="55"/>
                </a:lnTo>
                <a:lnTo>
                  <a:pt x="21" y="31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375080" y="4514760"/>
            <a:ext cx="142920" cy="106560"/>
          </a:xfrm>
          <a:custGeom>
            <a:avLst/>
            <a:gdLst/>
            <a:ahLst/>
            <a:rect l="l" t="t" r="r" b="b"/>
            <a:pathLst>
              <a:path w="90" h="134">
                <a:moveTo>
                  <a:pt x="0" y="49"/>
                </a:moveTo>
                <a:lnTo>
                  <a:pt x="5" y="59"/>
                </a:lnTo>
                <a:lnTo>
                  <a:pt x="13" y="70"/>
                </a:lnTo>
                <a:lnTo>
                  <a:pt x="18" y="77"/>
                </a:lnTo>
                <a:lnTo>
                  <a:pt x="23" y="84"/>
                </a:lnTo>
                <a:lnTo>
                  <a:pt x="29" y="91"/>
                </a:lnTo>
                <a:lnTo>
                  <a:pt x="35" y="98"/>
                </a:lnTo>
                <a:lnTo>
                  <a:pt x="43" y="104"/>
                </a:lnTo>
                <a:lnTo>
                  <a:pt x="51" y="111"/>
                </a:lnTo>
                <a:lnTo>
                  <a:pt x="59" y="118"/>
                </a:lnTo>
                <a:lnTo>
                  <a:pt x="69" y="124"/>
                </a:lnTo>
                <a:lnTo>
                  <a:pt x="90" y="134"/>
                </a:lnTo>
                <a:lnTo>
                  <a:pt x="87" y="130"/>
                </a:lnTo>
                <a:lnTo>
                  <a:pt x="78" y="122"/>
                </a:lnTo>
                <a:lnTo>
                  <a:pt x="72" y="117"/>
                </a:lnTo>
                <a:lnTo>
                  <a:pt x="66" y="108"/>
                </a:lnTo>
                <a:lnTo>
                  <a:pt x="59" y="101"/>
                </a:lnTo>
                <a:lnTo>
                  <a:pt x="51" y="92"/>
                </a:lnTo>
                <a:lnTo>
                  <a:pt x="44" y="82"/>
                </a:lnTo>
                <a:lnTo>
                  <a:pt x="37" y="72"/>
                </a:lnTo>
                <a:lnTo>
                  <a:pt x="30" y="59"/>
                </a:lnTo>
                <a:lnTo>
                  <a:pt x="24" y="49"/>
                </a:lnTo>
                <a:lnTo>
                  <a:pt x="9" y="0"/>
                </a:lnTo>
                <a:lnTo>
                  <a:pt x="0" y="49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456080" y="4403880"/>
            <a:ext cx="152280" cy="36360"/>
          </a:xfrm>
          <a:custGeom>
            <a:avLst/>
            <a:gdLst/>
            <a:ahLst/>
            <a:rect l="l" t="t" r="r" b="b"/>
            <a:pathLst>
              <a:path w="96" h="45">
                <a:moveTo>
                  <a:pt x="0" y="45"/>
                </a:moveTo>
                <a:lnTo>
                  <a:pt x="10" y="36"/>
                </a:lnTo>
                <a:lnTo>
                  <a:pt x="18" y="31"/>
                </a:lnTo>
                <a:lnTo>
                  <a:pt x="30" y="26"/>
                </a:lnTo>
                <a:lnTo>
                  <a:pt x="46" y="24"/>
                </a:lnTo>
                <a:lnTo>
                  <a:pt x="88" y="23"/>
                </a:lnTo>
                <a:lnTo>
                  <a:pt x="96" y="7"/>
                </a:lnTo>
                <a:lnTo>
                  <a:pt x="88" y="3"/>
                </a:lnTo>
                <a:lnTo>
                  <a:pt x="67" y="0"/>
                </a:lnTo>
                <a:lnTo>
                  <a:pt x="38" y="5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749840" y="4327560"/>
            <a:ext cx="299880" cy="92160"/>
          </a:xfrm>
          <a:custGeom>
            <a:avLst/>
            <a:gdLst/>
            <a:ahLst/>
            <a:rect l="l" t="t" r="r" b="b"/>
            <a:pathLst>
              <a:path w="189" h="114">
                <a:moveTo>
                  <a:pt x="14" y="114"/>
                </a:moveTo>
                <a:lnTo>
                  <a:pt x="16" y="111"/>
                </a:lnTo>
                <a:lnTo>
                  <a:pt x="23" y="98"/>
                </a:lnTo>
                <a:lnTo>
                  <a:pt x="28" y="92"/>
                </a:lnTo>
                <a:lnTo>
                  <a:pt x="35" y="85"/>
                </a:lnTo>
                <a:lnTo>
                  <a:pt x="44" y="76"/>
                </a:lnTo>
                <a:lnTo>
                  <a:pt x="53" y="67"/>
                </a:lnTo>
                <a:lnTo>
                  <a:pt x="64" y="59"/>
                </a:lnTo>
                <a:lnTo>
                  <a:pt x="78" y="52"/>
                </a:lnTo>
                <a:lnTo>
                  <a:pt x="91" y="45"/>
                </a:lnTo>
                <a:lnTo>
                  <a:pt x="108" y="38"/>
                </a:lnTo>
                <a:lnTo>
                  <a:pt x="145" y="31"/>
                </a:lnTo>
                <a:lnTo>
                  <a:pt x="189" y="33"/>
                </a:lnTo>
                <a:lnTo>
                  <a:pt x="184" y="29"/>
                </a:lnTo>
                <a:lnTo>
                  <a:pt x="169" y="19"/>
                </a:lnTo>
                <a:lnTo>
                  <a:pt x="158" y="13"/>
                </a:lnTo>
                <a:lnTo>
                  <a:pt x="147" y="7"/>
                </a:lnTo>
                <a:lnTo>
                  <a:pt x="120" y="0"/>
                </a:lnTo>
                <a:lnTo>
                  <a:pt x="89" y="0"/>
                </a:lnTo>
                <a:lnTo>
                  <a:pt x="57" y="13"/>
                </a:lnTo>
                <a:lnTo>
                  <a:pt x="42" y="27"/>
                </a:lnTo>
                <a:lnTo>
                  <a:pt x="35" y="36"/>
                </a:lnTo>
                <a:lnTo>
                  <a:pt x="27" y="45"/>
                </a:lnTo>
                <a:lnTo>
                  <a:pt x="21" y="55"/>
                </a:lnTo>
                <a:lnTo>
                  <a:pt x="13" y="69"/>
                </a:lnTo>
                <a:lnTo>
                  <a:pt x="0" y="98"/>
                </a:lnTo>
                <a:lnTo>
                  <a:pt x="14" y="114"/>
                </a:lnTo>
                <a:lnTo>
                  <a:pt x="14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44960" y="4187880"/>
            <a:ext cx="69840" cy="245880"/>
          </a:xfrm>
          <a:custGeom>
            <a:avLst/>
            <a:gdLst/>
            <a:ahLst/>
            <a:rect l="l" t="t" r="r" b="b"/>
            <a:pathLst>
              <a:path w="44" h="310">
                <a:moveTo>
                  <a:pt x="0" y="305"/>
                </a:moveTo>
                <a:lnTo>
                  <a:pt x="7" y="274"/>
                </a:lnTo>
                <a:lnTo>
                  <a:pt x="14" y="239"/>
                </a:lnTo>
                <a:lnTo>
                  <a:pt x="22" y="196"/>
                </a:lnTo>
                <a:lnTo>
                  <a:pt x="33" y="95"/>
                </a:lnTo>
                <a:lnTo>
                  <a:pt x="33" y="47"/>
                </a:lnTo>
                <a:lnTo>
                  <a:pt x="29" y="0"/>
                </a:lnTo>
                <a:lnTo>
                  <a:pt x="42" y="81"/>
                </a:lnTo>
                <a:lnTo>
                  <a:pt x="44" y="147"/>
                </a:lnTo>
                <a:lnTo>
                  <a:pt x="34" y="236"/>
                </a:lnTo>
                <a:lnTo>
                  <a:pt x="30" y="270"/>
                </a:lnTo>
                <a:lnTo>
                  <a:pt x="24" y="298"/>
                </a:lnTo>
                <a:lnTo>
                  <a:pt x="19" y="301"/>
                </a:lnTo>
                <a:lnTo>
                  <a:pt x="10" y="307"/>
                </a:lnTo>
                <a:lnTo>
                  <a:pt x="3" y="310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187880"/>
            <a:ext cx="88920" cy="252360"/>
          </a:xfrm>
          <a:custGeom>
            <a:avLst/>
            <a:gdLst/>
            <a:ahLst/>
            <a:rect l="l" t="t" r="r" b="b"/>
            <a:pathLst>
              <a:path w="56" h="319">
                <a:moveTo>
                  <a:pt x="0" y="310"/>
                </a:moveTo>
                <a:lnTo>
                  <a:pt x="11" y="284"/>
                </a:lnTo>
                <a:lnTo>
                  <a:pt x="22" y="256"/>
                </a:lnTo>
                <a:lnTo>
                  <a:pt x="32" y="218"/>
                </a:lnTo>
                <a:lnTo>
                  <a:pt x="40" y="171"/>
                </a:lnTo>
                <a:lnTo>
                  <a:pt x="43" y="119"/>
                </a:lnTo>
                <a:lnTo>
                  <a:pt x="38" y="60"/>
                </a:lnTo>
                <a:lnTo>
                  <a:pt x="33" y="48"/>
                </a:lnTo>
                <a:lnTo>
                  <a:pt x="23" y="0"/>
                </a:lnTo>
                <a:lnTo>
                  <a:pt x="56" y="71"/>
                </a:lnTo>
                <a:lnTo>
                  <a:pt x="52" y="116"/>
                </a:lnTo>
                <a:lnTo>
                  <a:pt x="52" y="175"/>
                </a:lnTo>
                <a:lnTo>
                  <a:pt x="45" y="215"/>
                </a:lnTo>
                <a:lnTo>
                  <a:pt x="34" y="258"/>
                </a:lnTo>
                <a:lnTo>
                  <a:pt x="18" y="319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111640" y="4113360"/>
            <a:ext cx="111240" cy="342720"/>
          </a:xfrm>
          <a:custGeom>
            <a:avLst/>
            <a:gdLst/>
            <a:ahLst/>
            <a:rect l="l" t="t" r="r" b="b"/>
            <a:pathLst>
              <a:path w="70" h="432">
                <a:moveTo>
                  <a:pt x="0" y="416"/>
                </a:moveTo>
                <a:lnTo>
                  <a:pt x="4" y="404"/>
                </a:lnTo>
                <a:lnTo>
                  <a:pt x="11" y="371"/>
                </a:lnTo>
                <a:lnTo>
                  <a:pt x="17" y="347"/>
                </a:lnTo>
                <a:lnTo>
                  <a:pt x="23" y="321"/>
                </a:lnTo>
                <a:lnTo>
                  <a:pt x="35" y="260"/>
                </a:lnTo>
                <a:lnTo>
                  <a:pt x="46" y="193"/>
                </a:lnTo>
                <a:lnTo>
                  <a:pt x="54" y="123"/>
                </a:lnTo>
                <a:lnTo>
                  <a:pt x="57" y="57"/>
                </a:lnTo>
                <a:lnTo>
                  <a:pt x="56" y="28"/>
                </a:lnTo>
                <a:lnTo>
                  <a:pt x="53" y="0"/>
                </a:lnTo>
                <a:lnTo>
                  <a:pt x="60" y="37"/>
                </a:lnTo>
                <a:lnTo>
                  <a:pt x="68" y="132"/>
                </a:lnTo>
                <a:lnTo>
                  <a:pt x="70" y="196"/>
                </a:lnTo>
                <a:lnTo>
                  <a:pt x="65" y="271"/>
                </a:lnTo>
                <a:lnTo>
                  <a:pt x="61" y="309"/>
                </a:lnTo>
                <a:lnTo>
                  <a:pt x="54" y="349"/>
                </a:lnTo>
                <a:lnTo>
                  <a:pt x="51" y="369"/>
                </a:lnTo>
                <a:lnTo>
                  <a:pt x="46" y="390"/>
                </a:lnTo>
                <a:lnTo>
                  <a:pt x="41" y="411"/>
                </a:lnTo>
                <a:lnTo>
                  <a:pt x="34" y="432"/>
                </a:lnTo>
                <a:lnTo>
                  <a:pt x="0" y="416"/>
                </a:lnTo>
                <a:lnTo>
                  <a:pt x="0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00480" y="4521240"/>
            <a:ext cx="88920" cy="135000"/>
          </a:xfrm>
          <a:custGeom>
            <a:avLst/>
            <a:gdLst/>
            <a:ahLst/>
            <a:rect l="l" t="t" r="r" b="b"/>
            <a:pathLst>
              <a:path w="56" h="172">
                <a:moveTo>
                  <a:pt x="54" y="0"/>
                </a:moveTo>
                <a:lnTo>
                  <a:pt x="56" y="77"/>
                </a:lnTo>
                <a:lnTo>
                  <a:pt x="51" y="106"/>
                </a:lnTo>
                <a:lnTo>
                  <a:pt x="48" y="120"/>
                </a:lnTo>
                <a:lnTo>
                  <a:pt x="41" y="134"/>
                </a:lnTo>
                <a:lnTo>
                  <a:pt x="37" y="139"/>
                </a:lnTo>
                <a:lnTo>
                  <a:pt x="34" y="146"/>
                </a:lnTo>
                <a:lnTo>
                  <a:pt x="30" y="151"/>
                </a:lnTo>
                <a:lnTo>
                  <a:pt x="24" y="156"/>
                </a:lnTo>
                <a:lnTo>
                  <a:pt x="13" y="165"/>
                </a:lnTo>
                <a:lnTo>
                  <a:pt x="0" y="172"/>
                </a:lnTo>
                <a:lnTo>
                  <a:pt x="1" y="169"/>
                </a:lnTo>
                <a:lnTo>
                  <a:pt x="6" y="160"/>
                </a:lnTo>
                <a:lnTo>
                  <a:pt x="22" y="125"/>
                </a:lnTo>
                <a:lnTo>
                  <a:pt x="31" y="99"/>
                </a:lnTo>
                <a:lnTo>
                  <a:pt x="40" y="71"/>
                </a:lnTo>
                <a:lnTo>
                  <a:pt x="48" y="37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424480" y="4383000"/>
            <a:ext cx="233280" cy="325440"/>
          </a:xfrm>
          <a:custGeom>
            <a:avLst/>
            <a:gdLst/>
            <a:ahLst/>
            <a:rect l="l" t="t" r="r" b="b"/>
            <a:pathLst>
              <a:path w="147" h="411">
                <a:moveTo>
                  <a:pt x="84" y="0"/>
                </a:moveTo>
                <a:lnTo>
                  <a:pt x="79" y="49"/>
                </a:lnTo>
                <a:lnTo>
                  <a:pt x="73" y="99"/>
                </a:lnTo>
                <a:lnTo>
                  <a:pt x="68" y="130"/>
                </a:lnTo>
                <a:lnTo>
                  <a:pt x="64" y="161"/>
                </a:lnTo>
                <a:lnTo>
                  <a:pt x="58" y="194"/>
                </a:lnTo>
                <a:lnTo>
                  <a:pt x="52" y="229"/>
                </a:lnTo>
                <a:lnTo>
                  <a:pt x="45" y="262"/>
                </a:lnTo>
                <a:lnTo>
                  <a:pt x="38" y="295"/>
                </a:lnTo>
                <a:lnTo>
                  <a:pt x="29" y="326"/>
                </a:lnTo>
                <a:lnTo>
                  <a:pt x="20" y="355"/>
                </a:lnTo>
                <a:lnTo>
                  <a:pt x="10" y="381"/>
                </a:lnTo>
                <a:lnTo>
                  <a:pt x="0" y="404"/>
                </a:lnTo>
                <a:lnTo>
                  <a:pt x="13" y="409"/>
                </a:lnTo>
                <a:lnTo>
                  <a:pt x="48" y="411"/>
                </a:lnTo>
                <a:lnTo>
                  <a:pt x="70" y="404"/>
                </a:lnTo>
                <a:lnTo>
                  <a:pt x="95" y="387"/>
                </a:lnTo>
                <a:lnTo>
                  <a:pt x="108" y="374"/>
                </a:lnTo>
                <a:lnTo>
                  <a:pt x="115" y="368"/>
                </a:lnTo>
                <a:lnTo>
                  <a:pt x="121" y="359"/>
                </a:lnTo>
                <a:lnTo>
                  <a:pt x="127" y="348"/>
                </a:lnTo>
                <a:lnTo>
                  <a:pt x="134" y="338"/>
                </a:lnTo>
                <a:lnTo>
                  <a:pt x="141" y="328"/>
                </a:lnTo>
                <a:lnTo>
                  <a:pt x="147" y="316"/>
                </a:lnTo>
                <a:lnTo>
                  <a:pt x="134" y="321"/>
                </a:lnTo>
                <a:lnTo>
                  <a:pt x="121" y="328"/>
                </a:lnTo>
                <a:lnTo>
                  <a:pt x="105" y="336"/>
                </a:lnTo>
                <a:lnTo>
                  <a:pt x="88" y="343"/>
                </a:lnTo>
                <a:lnTo>
                  <a:pt x="75" y="347"/>
                </a:lnTo>
                <a:lnTo>
                  <a:pt x="58" y="345"/>
                </a:lnTo>
                <a:lnTo>
                  <a:pt x="59" y="312"/>
                </a:lnTo>
                <a:lnTo>
                  <a:pt x="65" y="283"/>
                </a:lnTo>
                <a:lnTo>
                  <a:pt x="70" y="241"/>
                </a:lnTo>
                <a:lnTo>
                  <a:pt x="81" y="137"/>
                </a:lnTo>
                <a:lnTo>
                  <a:pt x="84" y="0"/>
                </a:lnTo>
                <a:lnTo>
                  <a:pt x="8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541840" y="4543560"/>
            <a:ext cx="462240" cy="284040"/>
          </a:xfrm>
          <a:custGeom>
            <a:avLst/>
            <a:gdLst/>
            <a:ahLst/>
            <a:rect l="l" t="t" r="r" b="b"/>
            <a:pathLst>
              <a:path w="291" h="359">
                <a:moveTo>
                  <a:pt x="0" y="208"/>
                </a:moveTo>
                <a:lnTo>
                  <a:pt x="81" y="359"/>
                </a:lnTo>
                <a:lnTo>
                  <a:pt x="97" y="212"/>
                </a:lnTo>
                <a:lnTo>
                  <a:pt x="268" y="142"/>
                </a:lnTo>
                <a:lnTo>
                  <a:pt x="196" y="82"/>
                </a:lnTo>
                <a:lnTo>
                  <a:pt x="291" y="7"/>
                </a:lnTo>
                <a:lnTo>
                  <a:pt x="149" y="0"/>
                </a:lnTo>
                <a:lnTo>
                  <a:pt x="202" y="45"/>
                </a:lnTo>
                <a:lnTo>
                  <a:pt x="141" y="115"/>
                </a:lnTo>
                <a:lnTo>
                  <a:pt x="207" y="127"/>
                </a:lnTo>
                <a:lnTo>
                  <a:pt x="60" y="199"/>
                </a:lnTo>
                <a:lnTo>
                  <a:pt x="62" y="257"/>
                </a:lnTo>
                <a:lnTo>
                  <a:pt x="0" y="208"/>
                </a:lnTo>
                <a:lnTo>
                  <a:pt x="0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699080" y="5516640"/>
            <a:ext cx="135000" cy="180720"/>
          </a:xfrm>
          <a:custGeom>
            <a:avLst/>
            <a:gdLst/>
            <a:ahLst/>
            <a:rect l="l" t="t" r="r" b="b"/>
            <a:pathLst>
              <a:path w="85" h="227">
                <a:moveTo>
                  <a:pt x="0" y="0"/>
                </a:moveTo>
                <a:lnTo>
                  <a:pt x="11" y="12"/>
                </a:lnTo>
                <a:lnTo>
                  <a:pt x="16" y="19"/>
                </a:lnTo>
                <a:lnTo>
                  <a:pt x="21" y="27"/>
                </a:lnTo>
                <a:lnTo>
                  <a:pt x="32" y="52"/>
                </a:lnTo>
                <a:lnTo>
                  <a:pt x="43" y="83"/>
                </a:lnTo>
                <a:lnTo>
                  <a:pt x="49" y="123"/>
                </a:lnTo>
                <a:lnTo>
                  <a:pt x="50" y="171"/>
                </a:lnTo>
                <a:lnTo>
                  <a:pt x="49" y="197"/>
                </a:lnTo>
                <a:lnTo>
                  <a:pt x="45" y="227"/>
                </a:lnTo>
                <a:lnTo>
                  <a:pt x="49" y="222"/>
                </a:lnTo>
                <a:lnTo>
                  <a:pt x="55" y="215"/>
                </a:lnTo>
                <a:lnTo>
                  <a:pt x="60" y="206"/>
                </a:lnTo>
                <a:lnTo>
                  <a:pt x="83" y="152"/>
                </a:lnTo>
                <a:lnTo>
                  <a:pt x="85" y="118"/>
                </a:lnTo>
                <a:lnTo>
                  <a:pt x="82" y="98"/>
                </a:lnTo>
                <a:lnTo>
                  <a:pt x="75" y="78"/>
                </a:lnTo>
                <a:lnTo>
                  <a:pt x="70" y="69"/>
                </a:lnTo>
                <a:lnTo>
                  <a:pt x="64" y="59"/>
                </a:lnTo>
                <a:lnTo>
                  <a:pt x="57" y="48"/>
                </a:lnTo>
                <a:lnTo>
                  <a:pt x="48" y="38"/>
                </a:lnTo>
                <a:lnTo>
                  <a:pt x="38" y="29"/>
                </a:lnTo>
                <a:lnTo>
                  <a:pt x="27" y="19"/>
                </a:lnTo>
                <a:lnTo>
                  <a:pt x="15" y="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9200" y="4700520"/>
            <a:ext cx="493920" cy="120600"/>
          </a:xfrm>
          <a:custGeom>
            <a:avLst/>
            <a:gdLst/>
            <a:ahLst/>
            <a:rect l="l" t="t" r="r" b="b"/>
            <a:pathLst>
              <a:path w="311" h="151">
                <a:moveTo>
                  <a:pt x="0" y="151"/>
                </a:moveTo>
                <a:lnTo>
                  <a:pt x="4" y="148"/>
                </a:lnTo>
                <a:lnTo>
                  <a:pt x="13" y="137"/>
                </a:lnTo>
                <a:lnTo>
                  <a:pt x="19" y="132"/>
                </a:lnTo>
                <a:lnTo>
                  <a:pt x="26" y="125"/>
                </a:lnTo>
                <a:lnTo>
                  <a:pt x="33" y="118"/>
                </a:lnTo>
                <a:lnTo>
                  <a:pt x="41" y="110"/>
                </a:lnTo>
                <a:lnTo>
                  <a:pt x="50" y="101"/>
                </a:lnTo>
                <a:lnTo>
                  <a:pt x="60" y="94"/>
                </a:lnTo>
                <a:lnTo>
                  <a:pt x="70" y="85"/>
                </a:lnTo>
                <a:lnTo>
                  <a:pt x="81" y="77"/>
                </a:lnTo>
                <a:lnTo>
                  <a:pt x="93" y="70"/>
                </a:lnTo>
                <a:lnTo>
                  <a:pt x="105" y="61"/>
                </a:lnTo>
                <a:lnTo>
                  <a:pt x="117" y="56"/>
                </a:lnTo>
                <a:lnTo>
                  <a:pt x="129" y="49"/>
                </a:lnTo>
                <a:lnTo>
                  <a:pt x="155" y="42"/>
                </a:lnTo>
                <a:lnTo>
                  <a:pt x="182" y="39"/>
                </a:lnTo>
                <a:lnTo>
                  <a:pt x="210" y="42"/>
                </a:lnTo>
                <a:lnTo>
                  <a:pt x="237" y="52"/>
                </a:lnTo>
                <a:lnTo>
                  <a:pt x="249" y="61"/>
                </a:lnTo>
                <a:lnTo>
                  <a:pt x="262" y="72"/>
                </a:lnTo>
                <a:lnTo>
                  <a:pt x="275" y="85"/>
                </a:lnTo>
                <a:lnTo>
                  <a:pt x="281" y="94"/>
                </a:lnTo>
                <a:lnTo>
                  <a:pt x="288" y="101"/>
                </a:lnTo>
                <a:lnTo>
                  <a:pt x="294" y="111"/>
                </a:lnTo>
                <a:lnTo>
                  <a:pt x="299" y="120"/>
                </a:lnTo>
                <a:lnTo>
                  <a:pt x="305" y="132"/>
                </a:lnTo>
                <a:lnTo>
                  <a:pt x="311" y="143"/>
                </a:lnTo>
                <a:lnTo>
                  <a:pt x="306" y="129"/>
                </a:lnTo>
                <a:lnTo>
                  <a:pt x="300" y="115"/>
                </a:lnTo>
                <a:lnTo>
                  <a:pt x="296" y="106"/>
                </a:lnTo>
                <a:lnTo>
                  <a:pt x="291" y="98"/>
                </a:lnTo>
                <a:lnTo>
                  <a:pt x="286" y="87"/>
                </a:lnTo>
                <a:lnTo>
                  <a:pt x="280" y="79"/>
                </a:lnTo>
                <a:lnTo>
                  <a:pt x="273" y="68"/>
                </a:lnTo>
                <a:lnTo>
                  <a:pt x="267" y="58"/>
                </a:lnTo>
                <a:lnTo>
                  <a:pt x="259" y="47"/>
                </a:lnTo>
                <a:lnTo>
                  <a:pt x="250" y="39"/>
                </a:lnTo>
                <a:lnTo>
                  <a:pt x="241" y="30"/>
                </a:lnTo>
                <a:lnTo>
                  <a:pt x="232" y="21"/>
                </a:lnTo>
                <a:lnTo>
                  <a:pt x="222" y="14"/>
                </a:lnTo>
                <a:lnTo>
                  <a:pt x="211" y="9"/>
                </a:lnTo>
                <a:lnTo>
                  <a:pt x="187" y="2"/>
                </a:lnTo>
                <a:lnTo>
                  <a:pt x="162" y="0"/>
                </a:lnTo>
                <a:lnTo>
                  <a:pt x="135" y="9"/>
                </a:lnTo>
                <a:lnTo>
                  <a:pt x="119" y="16"/>
                </a:lnTo>
                <a:lnTo>
                  <a:pt x="105" y="26"/>
                </a:lnTo>
                <a:lnTo>
                  <a:pt x="88" y="39"/>
                </a:lnTo>
                <a:lnTo>
                  <a:pt x="80" y="47"/>
                </a:lnTo>
                <a:lnTo>
                  <a:pt x="72" y="54"/>
                </a:lnTo>
                <a:lnTo>
                  <a:pt x="64" y="65"/>
                </a:lnTo>
                <a:lnTo>
                  <a:pt x="55" y="73"/>
                </a:lnTo>
                <a:lnTo>
                  <a:pt x="46" y="84"/>
                </a:lnTo>
                <a:lnTo>
                  <a:pt x="37" y="96"/>
                </a:lnTo>
                <a:lnTo>
                  <a:pt x="28" y="108"/>
                </a:lnTo>
                <a:lnTo>
                  <a:pt x="23" y="115"/>
                </a:lnTo>
                <a:lnTo>
                  <a:pt x="19" y="122"/>
                </a:lnTo>
                <a:lnTo>
                  <a:pt x="14" y="129"/>
                </a:lnTo>
                <a:lnTo>
                  <a:pt x="10" y="136"/>
                </a:lnTo>
                <a:lnTo>
                  <a:pt x="4" y="144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090960" y="5854680"/>
            <a:ext cx="663480" cy="468360"/>
          </a:xfrm>
          <a:custGeom>
            <a:avLst/>
            <a:gdLst/>
            <a:ahLst/>
            <a:rect l="l" t="t" r="r" b="b"/>
            <a:pathLst>
              <a:path w="418" h="592">
                <a:moveTo>
                  <a:pt x="0" y="588"/>
                </a:moveTo>
                <a:lnTo>
                  <a:pt x="399" y="0"/>
                </a:lnTo>
                <a:lnTo>
                  <a:pt x="418" y="9"/>
                </a:lnTo>
                <a:lnTo>
                  <a:pt x="58" y="592"/>
                </a:lnTo>
                <a:lnTo>
                  <a:pt x="0" y="588"/>
                </a:lnTo>
                <a:lnTo>
                  <a:pt x="0" y="5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41880" y="4705200"/>
            <a:ext cx="1216080" cy="744840"/>
          </a:xfrm>
          <a:custGeom>
            <a:avLst/>
            <a:gdLst/>
            <a:ahLst/>
            <a:rect l="l" t="t" r="r" b="b"/>
            <a:pathLst>
              <a:path w="766" h="938">
                <a:moveTo>
                  <a:pt x="0" y="912"/>
                </a:moveTo>
                <a:lnTo>
                  <a:pt x="745" y="0"/>
                </a:lnTo>
                <a:lnTo>
                  <a:pt x="766" y="3"/>
                </a:lnTo>
                <a:lnTo>
                  <a:pt x="758" y="14"/>
                </a:lnTo>
                <a:lnTo>
                  <a:pt x="748" y="26"/>
                </a:lnTo>
                <a:lnTo>
                  <a:pt x="743" y="33"/>
                </a:lnTo>
                <a:lnTo>
                  <a:pt x="736" y="41"/>
                </a:lnTo>
                <a:lnTo>
                  <a:pt x="728" y="50"/>
                </a:lnTo>
                <a:lnTo>
                  <a:pt x="720" y="60"/>
                </a:lnTo>
                <a:lnTo>
                  <a:pt x="711" y="73"/>
                </a:lnTo>
                <a:lnTo>
                  <a:pt x="702" y="83"/>
                </a:lnTo>
                <a:lnTo>
                  <a:pt x="697" y="90"/>
                </a:lnTo>
                <a:lnTo>
                  <a:pt x="692" y="97"/>
                </a:lnTo>
                <a:lnTo>
                  <a:pt x="687" y="102"/>
                </a:lnTo>
                <a:lnTo>
                  <a:pt x="681" y="109"/>
                </a:lnTo>
                <a:lnTo>
                  <a:pt x="676" y="116"/>
                </a:lnTo>
                <a:lnTo>
                  <a:pt x="670" y="125"/>
                </a:lnTo>
                <a:lnTo>
                  <a:pt x="663" y="131"/>
                </a:lnTo>
                <a:lnTo>
                  <a:pt x="658" y="138"/>
                </a:lnTo>
                <a:lnTo>
                  <a:pt x="651" y="147"/>
                </a:lnTo>
                <a:lnTo>
                  <a:pt x="645" y="154"/>
                </a:lnTo>
                <a:lnTo>
                  <a:pt x="639" y="163"/>
                </a:lnTo>
                <a:lnTo>
                  <a:pt x="632" y="171"/>
                </a:lnTo>
                <a:lnTo>
                  <a:pt x="625" y="178"/>
                </a:lnTo>
                <a:lnTo>
                  <a:pt x="619" y="187"/>
                </a:lnTo>
                <a:lnTo>
                  <a:pt x="612" y="196"/>
                </a:lnTo>
                <a:lnTo>
                  <a:pt x="605" y="204"/>
                </a:lnTo>
                <a:lnTo>
                  <a:pt x="599" y="213"/>
                </a:lnTo>
                <a:lnTo>
                  <a:pt x="591" y="222"/>
                </a:lnTo>
                <a:lnTo>
                  <a:pt x="584" y="232"/>
                </a:lnTo>
                <a:lnTo>
                  <a:pt x="576" y="241"/>
                </a:lnTo>
                <a:lnTo>
                  <a:pt x="570" y="249"/>
                </a:lnTo>
                <a:lnTo>
                  <a:pt x="562" y="260"/>
                </a:lnTo>
                <a:lnTo>
                  <a:pt x="554" y="268"/>
                </a:lnTo>
                <a:lnTo>
                  <a:pt x="546" y="279"/>
                </a:lnTo>
                <a:lnTo>
                  <a:pt x="539" y="287"/>
                </a:lnTo>
                <a:lnTo>
                  <a:pt x="530" y="298"/>
                </a:lnTo>
                <a:lnTo>
                  <a:pt x="524" y="308"/>
                </a:lnTo>
                <a:lnTo>
                  <a:pt x="516" y="317"/>
                </a:lnTo>
                <a:lnTo>
                  <a:pt x="508" y="327"/>
                </a:lnTo>
                <a:lnTo>
                  <a:pt x="499" y="338"/>
                </a:lnTo>
                <a:lnTo>
                  <a:pt x="491" y="348"/>
                </a:lnTo>
                <a:lnTo>
                  <a:pt x="484" y="359"/>
                </a:lnTo>
                <a:lnTo>
                  <a:pt x="476" y="369"/>
                </a:lnTo>
                <a:lnTo>
                  <a:pt x="468" y="379"/>
                </a:lnTo>
                <a:lnTo>
                  <a:pt x="459" y="390"/>
                </a:lnTo>
                <a:lnTo>
                  <a:pt x="451" y="398"/>
                </a:lnTo>
                <a:lnTo>
                  <a:pt x="443" y="409"/>
                </a:lnTo>
                <a:lnTo>
                  <a:pt x="434" y="421"/>
                </a:lnTo>
                <a:lnTo>
                  <a:pt x="427" y="430"/>
                </a:lnTo>
                <a:lnTo>
                  <a:pt x="419" y="440"/>
                </a:lnTo>
                <a:lnTo>
                  <a:pt x="410" y="450"/>
                </a:lnTo>
                <a:lnTo>
                  <a:pt x="402" y="463"/>
                </a:lnTo>
                <a:lnTo>
                  <a:pt x="393" y="473"/>
                </a:lnTo>
                <a:lnTo>
                  <a:pt x="385" y="483"/>
                </a:lnTo>
                <a:lnTo>
                  <a:pt x="377" y="494"/>
                </a:lnTo>
                <a:lnTo>
                  <a:pt x="368" y="504"/>
                </a:lnTo>
                <a:lnTo>
                  <a:pt x="361" y="515"/>
                </a:lnTo>
                <a:lnTo>
                  <a:pt x="353" y="525"/>
                </a:lnTo>
                <a:lnTo>
                  <a:pt x="344" y="535"/>
                </a:lnTo>
                <a:lnTo>
                  <a:pt x="336" y="546"/>
                </a:lnTo>
                <a:lnTo>
                  <a:pt x="328" y="556"/>
                </a:lnTo>
                <a:lnTo>
                  <a:pt x="320" y="567"/>
                </a:lnTo>
                <a:lnTo>
                  <a:pt x="313" y="577"/>
                </a:lnTo>
                <a:lnTo>
                  <a:pt x="305" y="587"/>
                </a:lnTo>
                <a:lnTo>
                  <a:pt x="296" y="596"/>
                </a:lnTo>
                <a:lnTo>
                  <a:pt x="288" y="607"/>
                </a:lnTo>
                <a:lnTo>
                  <a:pt x="281" y="617"/>
                </a:lnTo>
                <a:lnTo>
                  <a:pt x="272" y="627"/>
                </a:lnTo>
                <a:lnTo>
                  <a:pt x="266" y="638"/>
                </a:lnTo>
                <a:lnTo>
                  <a:pt x="258" y="646"/>
                </a:lnTo>
                <a:lnTo>
                  <a:pt x="250" y="657"/>
                </a:lnTo>
                <a:lnTo>
                  <a:pt x="242" y="667"/>
                </a:lnTo>
                <a:lnTo>
                  <a:pt x="236" y="676"/>
                </a:lnTo>
                <a:lnTo>
                  <a:pt x="228" y="686"/>
                </a:lnTo>
                <a:lnTo>
                  <a:pt x="221" y="695"/>
                </a:lnTo>
                <a:lnTo>
                  <a:pt x="213" y="704"/>
                </a:lnTo>
                <a:lnTo>
                  <a:pt x="207" y="714"/>
                </a:lnTo>
                <a:lnTo>
                  <a:pt x="200" y="723"/>
                </a:lnTo>
                <a:lnTo>
                  <a:pt x="193" y="731"/>
                </a:lnTo>
                <a:lnTo>
                  <a:pt x="186" y="740"/>
                </a:lnTo>
                <a:lnTo>
                  <a:pt x="180" y="749"/>
                </a:lnTo>
                <a:lnTo>
                  <a:pt x="173" y="757"/>
                </a:lnTo>
                <a:lnTo>
                  <a:pt x="167" y="766"/>
                </a:lnTo>
                <a:lnTo>
                  <a:pt x="161" y="775"/>
                </a:lnTo>
                <a:lnTo>
                  <a:pt x="155" y="783"/>
                </a:lnTo>
                <a:lnTo>
                  <a:pt x="148" y="790"/>
                </a:lnTo>
                <a:lnTo>
                  <a:pt x="143" y="799"/>
                </a:lnTo>
                <a:lnTo>
                  <a:pt x="137" y="806"/>
                </a:lnTo>
                <a:lnTo>
                  <a:pt x="132" y="813"/>
                </a:lnTo>
                <a:lnTo>
                  <a:pt x="126" y="822"/>
                </a:lnTo>
                <a:lnTo>
                  <a:pt x="121" y="828"/>
                </a:lnTo>
                <a:lnTo>
                  <a:pt x="116" y="835"/>
                </a:lnTo>
                <a:lnTo>
                  <a:pt x="110" y="842"/>
                </a:lnTo>
                <a:lnTo>
                  <a:pt x="106" y="849"/>
                </a:lnTo>
                <a:lnTo>
                  <a:pt x="102" y="854"/>
                </a:lnTo>
                <a:lnTo>
                  <a:pt x="97" y="861"/>
                </a:lnTo>
                <a:lnTo>
                  <a:pt x="88" y="874"/>
                </a:lnTo>
                <a:lnTo>
                  <a:pt x="80" y="884"/>
                </a:lnTo>
                <a:lnTo>
                  <a:pt x="74" y="894"/>
                </a:lnTo>
                <a:lnTo>
                  <a:pt x="67" y="905"/>
                </a:lnTo>
                <a:lnTo>
                  <a:pt x="62" y="913"/>
                </a:lnTo>
                <a:lnTo>
                  <a:pt x="58" y="920"/>
                </a:lnTo>
                <a:lnTo>
                  <a:pt x="53" y="926"/>
                </a:lnTo>
                <a:lnTo>
                  <a:pt x="49" y="936"/>
                </a:lnTo>
                <a:lnTo>
                  <a:pt x="39" y="938"/>
                </a:lnTo>
                <a:lnTo>
                  <a:pt x="22" y="929"/>
                </a:lnTo>
                <a:lnTo>
                  <a:pt x="7" y="917"/>
                </a:lnTo>
                <a:lnTo>
                  <a:pt x="0" y="912"/>
                </a:lnTo>
                <a:lnTo>
                  <a:pt x="0" y="9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845320" y="4275000"/>
            <a:ext cx="774720" cy="257400"/>
          </a:xfrm>
          <a:custGeom>
            <a:avLst/>
            <a:gdLst/>
            <a:ahLst/>
            <a:rect l="l" t="t" r="r" b="b"/>
            <a:pathLst>
              <a:path w="488" h="322">
                <a:moveTo>
                  <a:pt x="0" y="310"/>
                </a:moveTo>
                <a:lnTo>
                  <a:pt x="288" y="0"/>
                </a:lnTo>
                <a:lnTo>
                  <a:pt x="296" y="7"/>
                </a:lnTo>
                <a:lnTo>
                  <a:pt x="305" y="15"/>
                </a:lnTo>
                <a:lnTo>
                  <a:pt x="316" y="24"/>
                </a:lnTo>
                <a:lnTo>
                  <a:pt x="328" y="36"/>
                </a:lnTo>
                <a:lnTo>
                  <a:pt x="336" y="43"/>
                </a:lnTo>
                <a:lnTo>
                  <a:pt x="344" y="50"/>
                </a:lnTo>
                <a:lnTo>
                  <a:pt x="351" y="59"/>
                </a:lnTo>
                <a:lnTo>
                  <a:pt x="359" y="67"/>
                </a:lnTo>
                <a:lnTo>
                  <a:pt x="368" y="74"/>
                </a:lnTo>
                <a:lnTo>
                  <a:pt x="377" y="83"/>
                </a:lnTo>
                <a:lnTo>
                  <a:pt x="385" y="92"/>
                </a:lnTo>
                <a:lnTo>
                  <a:pt x="394" y="102"/>
                </a:lnTo>
                <a:lnTo>
                  <a:pt x="403" y="111"/>
                </a:lnTo>
                <a:lnTo>
                  <a:pt x="412" y="119"/>
                </a:lnTo>
                <a:lnTo>
                  <a:pt x="420" y="130"/>
                </a:lnTo>
                <a:lnTo>
                  <a:pt x="429" y="138"/>
                </a:lnTo>
                <a:lnTo>
                  <a:pt x="436" y="149"/>
                </a:lnTo>
                <a:lnTo>
                  <a:pt x="444" y="158"/>
                </a:lnTo>
                <a:lnTo>
                  <a:pt x="451" y="168"/>
                </a:lnTo>
                <a:lnTo>
                  <a:pt x="458" y="177"/>
                </a:lnTo>
                <a:lnTo>
                  <a:pt x="464" y="187"/>
                </a:lnTo>
                <a:lnTo>
                  <a:pt x="471" y="196"/>
                </a:lnTo>
                <a:lnTo>
                  <a:pt x="475" y="204"/>
                </a:lnTo>
                <a:lnTo>
                  <a:pt x="481" y="213"/>
                </a:lnTo>
                <a:lnTo>
                  <a:pt x="488" y="229"/>
                </a:lnTo>
                <a:lnTo>
                  <a:pt x="291" y="62"/>
                </a:lnTo>
                <a:lnTo>
                  <a:pt x="13" y="322"/>
                </a:lnTo>
                <a:lnTo>
                  <a:pt x="0" y="310"/>
                </a:lnTo>
                <a:lnTo>
                  <a:pt x="0" y="3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89640" y="4721400"/>
            <a:ext cx="60120" cy="41040"/>
          </a:xfrm>
          <a:custGeom>
            <a:avLst/>
            <a:gdLst/>
            <a:ahLst/>
            <a:rect l="l" t="t" r="r" b="b"/>
            <a:pathLst>
              <a:path w="38" h="53">
                <a:moveTo>
                  <a:pt x="22" y="0"/>
                </a:moveTo>
                <a:lnTo>
                  <a:pt x="19" y="4"/>
                </a:lnTo>
                <a:lnTo>
                  <a:pt x="13" y="16"/>
                </a:lnTo>
                <a:lnTo>
                  <a:pt x="0" y="53"/>
                </a:lnTo>
                <a:lnTo>
                  <a:pt x="3" y="46"/>
                </a:lnTo>
                <a:lnTo>
                  <a:pt x="8" y="40"/>
                </a:lnTo>
                <a:lnTo>
                  <a:pt x="12" y="32"/>
                </a:lnTo>
                <a:lnTo>
                  <a:pt x="18" y="23"/>
                </a:lnTo>
                <a:lnTo>
                  <a:pt x="24" y="16"/>
                </a:lnTo>
                <a:lnTo>
                  <a:pt x="31" y="11"/>
                </a:lnTo>
                <a:lnTo>
                  <a:pt x="38" y="7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897440" y="5432400"/>
            <a:ext cx="289080" cy="247680"/>
          </a:xfrm>
          <a:custGeom>
            <a:avLst/>
            <a:gdLst/>
            <a:ahLst/>
            <a:rect l="l" t="t" r="r" b="b"/>
            <a:pathLst>
              <a:path w="182" h="314">
                <a:moveTo>
                  <a:pt x="63" y="0"/>
                </a:moveTo>
                <a:lnTo>
                  <a:pt x="77" y="2"/>
                </a:lnTo>
                <a:lnTo>
                  <a:pt x="103" y="9"/>
                </a:lnTo>
                <a:lnTo>
                  <a:pt x="123" y="17"/>
                </a:lnTo>
                <a:lnTo>
                  <a:pt x="150" y="26"/>
                </a:lnTo>
                <a:lnTo>
                  <a:pt x="153" y="31"/>
                </a:lnTo>
                <a:lnTo>
                  <a:pt x="153" y="38"/>
                </a:lnTo>
                <a:lnTo>
                  <a:pt x="144" y="59"/>
                </a:lnTo>
                <a:lnTo>
                  <a:pt x="139" y="71"/>
                </a:lnTo>
                <a:lnTo>
                  <a:pt x="132" y="80"/>
                </a:lnTo>
                <a:lnTo>
                  <a:pt x="126" y="89"/>
                </a:lnTo>
                <a:lnTo>
                  <a:pt x="182" y="141"/>
                </a:lnTo>
                <a:lnTo>
                  <a:pt x="177" y="168"/>
                </a:lnTo>
                <a:lnTo>
                  <a:pt x="167" y="198"/>
                </a:lnTo>
                <a:lnTo>
                  <a:pt x="160" y="213"/>
                </a:lnTo>
                <a:lnTo>
                  <a:pt x="155" y="222"/>
                </a:lnTo>
                <a:lnTo>
                  <a:pt x="151" y="229"/>
                </a:lnTo>
                <a:lnTo>
                  <a:pt x="146" y="238"/>
                </a:lnTo>
                <a:lnTo>
                  <a:pt x="141" y="246"/>
                </a:lnTo>
                <a:lnTo>
                  <a:pt x="134" y="253"/>
                </a:lnTo>
                <a:lnTo>
                  <a:pt x="128" y="262"/>
                </a:lnTo>
                <a:lnTo>
                  <a:pt x="121" y="269"/>
                </a:lnTo>
                <a:lnTo>
                  <a:pt x="113" y="276"/>
                </a:lnTo>
                <a:lnTo>
                  <a:pt x="105" y="283"/>
                </a:lnTo>
                <a:lnTo>
                  <a:pt x="96" y="290"/>
                </a:lnTo>
                <a:lnTo>
                  <a:pt x="86" y="295"/>
                </a:lnTo>
                <a:lnTo>
                  <a:pt x="76" y="300"/>
                </a:lnTo>
                <a:lnTo>
                  <a:pt x="54" y="309"/>
                </a:lnTo>
                <a:lnTo>
                  <a:pt x="28" y="312"/>
                </a:lnTo>
                <a:lnTo>
                  <a:pt x="0" y="314"/>
                </a:lnTo>
                <a:lnTo>
                  <a:pt x="24" y="304"/>
                </a:lnTo>
                <a:lnTo>
                  <a:pt x="44" y="291"/>
                </a:lnTo>
                <a:lnTo>
                  <a:pt x="63" y="279"/>
                </a:lnTo>
                <a:lnTo>
                  <a:pt x="79" y="265"/>
                </a:lnTo>
                <a:lnTo>
                  <a:pt x="87" y="260"/>
                </a:lnTo>
                <a:lnTo>
                  <a:pt x="94" y="253"/>
                </a:lnTo>
                <a:lnTo>
                  <a:pt x="101" y="246"/>
                </a:lnTo>
                <a:lnTo>
                  <a:pt x="107" y="239"/>
                </a:lnTo>
                <a:lnTo>
                  <a:pt x="113" y="232"/>
                </a:lnTo>
                <a:lnTo>
                  <a:pt x="117" y="226"/>
                </a:lnTo>
                <a:lnTo>
                  <a:pt x="128" y="213"/>
                </a:lnTo>
                <a:lnTo>
                  <a:pt x="135" y="201"/>
                </a:lnTo>
                <a:lnTo>
                  <a:pt x="142" y="189"/>
                </a:lnTo>
                <a:lnTo>
                  <a:pt x="151" y="170"/>
                </a:lnTo>
                <a:lnTo>
                  <a:pt x="157" y="153"/>
                </a:lnTo>
                <a:lnTo>
                  <a:pt x="88" y="127"/>
                </a:lnTo>
                <a:lnTo>
                  <a:pt x="123" y="47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807080" y="5408640"/>
            <a:ext cx="161640" cy="96840"/>
          </a:xfrm>
          <a:custGeom>
            <a:avLst/>
            <a:gdLst/>
            <a:ahLst/>
            <a:rect l="l" t="t" r="r" b="b"/>
            <a:pathLst>
              <a:path w="102" h="121">
                <a:moveTo>
                  <a:pt x="0" y="93"/>
                </a:moveTo>
                <a:lnTo>
                  <a:pt x="2" y="90"/>
                </a:lnTo>
                <a:lnTo>
                  <a:pt x="9" y="81"/>
                </a:lnTo>
                <a:lnTo>
                  <a:pt x="15" y="74"/>
                </a:lnTo>
                <a:lnTo>
                  <a:pt x="20" y="67"/>
                </a:lnTo>
                <a:lnTo>
                  <a:pt x="27" y="62"/>
                </a:lnTo>
                <a:lnTo>
                  <a:pt x="34" y="53"/>
                </a:lnTo>
                <a:lnTo>
                  <a:pt x="42" y="45"/>
                </a:lnTo>
                <a:lnTo>
                  <a:pt x="50" y="38"/>
                </a:lnTo>
                <a:lnTo>
                  <a:pt x="58" y="29"/>
                </a:lnTo>
                <a:lnTo>
                  <a:pt x="67" y="22"/>
                </a:lnTo>
                <a:lnTo>
                  <a:pt x="76" y="15"/>
                </a:lnTo>
                <a:lnTo>
                  <a:pt x="85" y="8"/>
                </a:lnTo>
                <a:lnTo>
                  <a:pt x="102" y="0"/>
                </a:lnTo>
                <a:lnTo>
                  <a:pt x="98" y="3"/>
                </a:lnTo>
                <a:lnTo>
                  <a:pt x="90" y="14"/>
                </a:lnTo>
                <a:lnTo>
                  <a:pt x="84" y="22"/>
                </a:lnTo>
                <a:lnTo>
                  <a:pt x="77" y="31"/>
                </a:lnTo>
                <a:lnTo>
                  <a:pt x="71" y="40"/>
                </a:lnTo>
                <a:lnTo>
                  <a:pt x="63" y="50"/>
                </a:lnTo>
                <a:lnTo>
                  <a:pt x="55" y="60"/>
                </a:lnTo>
                <a:lnTo>
                  <a:pt x="47" y="71"/>
                </a:lnTo>
                <a:lnTo>
                  <a:pt x="40" y="79"/>
                </a:lnTo>
                <a:lnTo>
                  <a:pt x="34" y="90"/>
                </a:lnTo>
                <a:lnTo>
                  <a:pt x="27" y="98"/>
                </a:lnTo>
                <a:lnTo>
                  <a:pt x="23" y="107"/>
                </a:lnTo>
                <a:lnTo>
                  <a:pt x="16" y="121"/>
                </a:lnTo>
                <a:lnTo>
                  <a:pt x="0" y="93"/>
                </a:lnTo>
                <a:lnTo>
                  <a:pt x="0" y="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743360" y="5364000"/>
            <a:ext cx="216000" cy="104760"/>
          </a:xfrm>
          <a:custGeom>
            <a:avLst/>
            <a:gdLst/>
            <a:ahLst/>
            <a:rect l="l" t="t" r="r" b="b"/>
            <a:pathLst>
              <a:path w="136" h="132">
                <a:moveTo>
                  <a:pt x="0" y="52"/>
                </a:moveTo>
                <a:lnTo>
                  <a:pt x="113" y="132"/>
                </a:lnTo>
                <a:lnTo>
                  <a:pt x="136" y="127"/>
                </a:lnTo>
                <a:lnTo>
                  <a:pt x="18" y="0"/>
                </a:lnTo>
                <a:lnTo>
                  <a:pt x="0" y="52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51600" y="5556240"/>
            <a:ext cx="156960" cy="69840"/>
          </a:xfrm>
          <a:custGeom>
            <a:avLst/>
            <a:gdLst/>
            <a:ahLst/>
            <a:rect l="l" t="t" r="r" b="b"/>
            <a:pathLst>
              <a:path w="99" h="89">
                <a:moveTo>
                  <a:pt x="0" y="44"/>
                </a:moveTo>
                <a:lnTo>
                  <a:pt x="99" y="89"/>
                </a:lnTo>
                <a:lnTo>
                  <a:pt x="18" y="0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921200" y="5465880"/>
            <a:ext cx="93600" cy="39600"/>
          </a:xfrm>
          <a:custGeom>
            <a:avLst/>
            <a:gdLst/>
            <a:ahLst/>
            <a:rect l="l" t="t" r="r" b="b"/>
            <a:pathLst>
              <a:path w="59" h="49">
                <a:moveTo>
                  <a:pt x="0" y="2"/>
                </a:moveTo>
                <a:lnTo>
                  <a:pt x="4" y="0"/>
                </a:lnTo>
                <a:lnTo>
                  <a:pt x="23" y="4"/>
                </a:lnTo>
                <a:lnTo>
                  <a:pt x="44" y="6"/>
                </a:lnTo>
                <a:lnTo>
                  <a:pt x="59" y="0"/>
                </a:lnTo>
                <a:lnTo>
                  <a:pt x="57" y="40"/>
                </a:lnTo>
                <a:lnTo>
                  <a:pt x="54" y="46"/>
                </a:lnTo>
                <a:lnTo>
                  <a:pt x="51" y="49"/>
                </a:lnTo>
                <a:lnTo>
                  <a:pt x="40" y="47"/>
                </a:lnTo>
                <a:lnTo>
                  <a:pt x="23" y="33"/>
                </a:lnTo>
                <a:lnTo>
                  <a:pt x="13" y="20"/>
                </a:lnTo>
                <a:lnTo>
                  <a:pt x="6" y="11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933720" y="5959440"/>
            <a:ext cx="486000" cy="268200"/>
          </a:xfrm>
          <a:custGeom>
            <a:avLst/>
            <a:gdLst/>
            <a:ahLst/>
            <a:rect l="l" t="t" r="r" b="b"/>
            <a:pathLst>
              <a:path w="306" h="340">
                <a:moveTo>
                  <a:pt x="43" y="76"/>
                </a:moveTo>
                <a:lnTo>
                  <a:pt x="0" y="158"/>
                </a:lnTo>
                <a:lnTo>
                  <a:pt x="145" y="175"/>
                </a:lnTo>
                <a:lnTo>
                  <a:pt x="96" y="340"/>
                </a:lnTo>
                <a:lnTo>
                  <a:pt x="153" y="340"/>
                </a:lnTo>
                <a:lnTo>
                  <a:pt x="176" y="205"/>
                </a:lnTo>
                <a:lnTo>
                  <a:pt x="298" y="281"/>
                </a:lnTo>
                <a:lnTo>
                  <a:pt x="306" y="217"/>
                </a:lnTo>
                <a:lnTo>
                  <a:pt x="188" y="158"/>
                </a:lnTo>
                <a:lnTo>
                  <a:pt x="241" y="18"/>
                </a:lnTo>
                <a:lnTo>
                  <a:pt x="196" y="0"/>
                </a:lnTo>
                <a:lnTo>
                  <a:pt x="160" y="141"/>
                </a:lnTo>
                <a:lnTo>
                  <a:pt x="43" y="76"/>
                </a:lnTo>
                <a:lnTo>
                  <a:pt x="43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30880" y="5952960"/>
            <a:ext cx="155520" cy="71640"/>
          </a:xfrm>
          <a:custGeom>
            <a:avLst/>
            <a:gdLst/>
            <a:ahLst/>
            <a:rect l="l" t="t" r="r" b="b"/>
            <a:pathLst>
              <a:path w="98" h="90">
                <a:moveTo>
                  <a:pt x="0" y="73"/>
                </a:moveTo>
                <a:lnTo>
                  <a:pt x="35" y="90"/>
                </a:lnTo>
                <a:lnTo>
                  <a:pt x="98" y="25"/>
                </a:lnTo>
                <a:lnTo>
                  <a:pt x="82" y="0"/>
                </a:lnTo>
                <a:lnTo>
                  <a:pt x="0" y="73"/>
                </a:lnTo>
                <a:lnTo>
                  <a:pt x="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53000" y="5791320"/>
            <a:ext cx="185760" cy="198360"/>
          </a:xfrm>
          <a:custGeom>
            <a:avLst/>
            <a:gdLst/>
            <a:ahLst/>
            <a:rect l="l" t="t" r="r" b="b"/>
            <a:pathLst>
              <a:path w="117" h="249">
                <a:moveTo>
                  <a:pt x="2" y="66"/>
                </a:moveTo>
                <a:lnTo>
                  <a:pt x="0" y="114"/>
                </a:lnTo>
                <a:lnTo>
                  <a:pt x="84" y="138"/>
                </a:lnTo>
                <a:lnTo>
                  <a:pt x="82" y="241"/>
                </a:lnTo>
                <a:lnTo>
                  <a:pt x="99" y="249"/>
                </a:lnTo>
                <a:lnTo>
                  <a:pt x="117" y="12"/>
                </a:lnTo>
                <a:lnTo>
                  <a:pt x="86" y="0"/>
                </a:lnTo>
                <a:lnTo>
                  <a:pt x="89" y="105"/>
                </a:lnTo>
                <a:lnTo>
                  <a:pt x="2" y="66"/>
                </a:lnTo>
                <a:lnTo>
                  <a:pt x="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65800" y="4834080"/>
            <a:ext cx="311040" cy="182520"/>
          </a:xfrm>
          <a:custGeom>
            <a:avLst/>
            <a:gdLst/>
            <a:ahLst/>
            <a:rect l="l" t="t" r="r" b="b"/>
            <a:pathLst>
              <a:path w="196" h="229">
                <a:moveTo>
                  <a:pt x="92" y="0"/>
                </a:moveTo>
                <a:lnTo>
                  <a:pt x="36" y="71"/>
                </a:lnTo>
                <a:lnTo>
                  <a:pt x="41" y="76"/>
                </a:lnTo>
                <a:lnTo>
                  <a:pt x="46" y="83"/>
                </a:lnTo>
                <a:lnTo>
                  <a:pt x="53" y="92"/>
                </a:lnTo>
                <a:lnTo>
                  <a:pt x="60" y="102"/>
                </a:lnTo>
                <a:lnTo>
                  <a:pt x="67" y="112"/>
                </a:lnTo>
                <a:lnTo>
                  <a:pt x="74" y="124"/>
                </a:lnTo>
                <a:lnTo>
                  <a:pt x="78" y="137"/>
                </a:lnTo>
                <a:lnTo>
                  <a:pt x="83" y="159"/>
                </a:lnTo>
                <a:lnTo>
                  <a:pt x="74" y="177"/>
                </a:lnTo>
                <a:lnTo>
                  <a:pt x="64" y="182"/>
                </a:lnTo>
                <a:lnTo>
                  <a:pt x="48" y="185"/>
                </a:lnTo>
                <a:lnTo>
                  <a:pt x="0" y="183"/>
                </a:lnTo>
                <a:lnTo>
                  <a:pt x="7" y="190"/>
                </a:lnTo>
                <a:lnTo>
                  <a:pt x="15" y="197"/>
                </a:lnTo>
                <a:lnTo>
                  <a:pt x="25" y="204"/>
                </a:lnTo>
                <a:lnTo>
                  <a:pt x="36" y="211"/>
                </a:lnTo>
                <a:lnTo>
                  <a:pt x="48" y="220"/>
                </a:lnTo>
                <a:lnTo>
                  <a:pt x="61" y="225"/>
                </a:lnTo>
                <a:lnTo>
                  <a:pt x="74" y="229"/>
                </a:lnTo>
                <a:lnTo>
                  <a:pt x="95" y="227"/>
                </a:lnTo>
                <a:lnTo>
                  <a:pt x="103" y="218"/>
                </a:lnTo>
                <a:lnTo>
                  <a:pt x="108" y="204"/>
                </a:lnTo>
                <a:lnTo>
                  <a:pt x="108" y="157"/>
                </a:lnTo>
                <a:lnTo>
                  <a:pt x="103" y="123"/>
                </a:lnTo>
                <a:lnTo>
                  <a:pt x="97" y="102"/>
                </a:lnTo>
                <a:lnTo>
                  <a:pt x="92" y="79"/>
                </a:lnTo>
                <a:lnTo>
                  <a:pt x="108" y="43"/>
                </a:lnTo>
                <a:lnTo>
                  <a:pt x="190" y="72"/>
                </a:lnTo>
                <a:lnTo>
                  <a:pt x="196" y="24"/>
                </a:lnTo>
                <a:lnTo>
                  <a:pt x="92" y="0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89440" y="4917960"/>
            <a:ext cx="308160" cy="255600"/>
          </a:xfrm>
          <a:custGeom>
            <a:avLst/>
            <a:gdLst/>
            <a:ahLst/>
            <a:rect l="l" t="t" r="r" b="b"/>
            <a:pathLst>
              <a:path w="194" h="321">
                <a:moveTo>
                  <a:pt x="62" y="0"/>
                </a:moveTo>
                <a:lnTo>
                  <a:pt x="62" y="30"/>
                </a:lnTo>
                <a:lnTo>
                  <a:pt x="71" y="33"/>
                </a:lnTo>
                <a:lnTo>
                  <a:pt x="91" y="44"/>
                </a:lnTo>
                <a:lnTo>
                  <a:pt x="103" y="51"/>
                </a:lnTo>
                <a:lnTo>
                  <a:pt x="116" y="59"/>
                </a:lnTo>
                <a:lnTo>
                  <a:pt x="127" y="68"/>
                </a:lnTo>
                <a:lnTo>
                  <a:pt x="136" y="77"/>
                </a:lnTo>
                <a:lnTo>
                  <a:pt x="142" y="94"/>
                </a:lnTo>
                <a:lnTo>
                  <a:pt x="138" y="103"/>
                </a:lnTo>
                <a:lnTo>
                  <a:pt x="128" y="111"/>
                </a:lnTo>
                <a:lnTo>
                  <a:pt x="109" y="120"/>
                </a:lnTo>
                <a:lnTo>
                  <a:pt x="83" y="125"/>
                </a:lnTo>
                <a:lnTo>
                  <a:pt x="47" y="130"/>
                </a:lnTo>
                <a:lnTo>
                  <a:pt x="0" y="134"/>
                </a:lnTo>
                <a:lnTo>
                  <a:pt x="38" y="318"/>
                </a:lnTo>
                <a:lnTo>
                  <a:pt x="83" y="321"/>
                </a:lnTo>
                <a:lnTo>
                  <a:pt x="36" y="167"/>
                </a:lnTo>
                <a:lnTo>
                  <a:pt x="84" y="158"/>
                </a:lnTo>
                <a:lnTo>
                  <a:pt x="127" y="148"/>
                </a:lnTo>
                <a:lnTo>
                  <a:pt x="166" y="132"/>
                </a:lnTo>
                <a:lnTo>
                  <a:pt x="190" y="110"/>
                </a:lnTo>
                <a:lnTo>
                  <a:pt x="194" y="96"/>
                </a:lnTo>
                <a:lnTo>
                  <a:pt x="189" y="80"/>
                </a:lnTo>
                <a:lnTo>
                  <a:pt x="184" y="72"/>
                </a:lnTo>
                <a:lnTo>
                  <a:pt x="176" y="63"/>
                </a:lnTo>
                <a:lnTo>
                  <a:pt x="165" y="54"/>
                </a:lnTo>
                <a:lnTo>
                  <a:pt x="150" y="44"/>
                </a:lnTo>
                <a:lnTo>
                  <a:pt x="133" y="33"/>
                </a:lnTo>
                <a:lnTo>
                  <a:pt x="113" y="23"/>
                </a:lnTo>
                <a:lnTo>
                  <a:pt x="90" y="13"/>
                </a:lnTo>
                <a:lnTo>
                  <a:pt x="76" y="6"/>
                </a:lnTo>
                <a:lnTo>
                  <a:pt x="62" y="0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986440" y="5075280"/>
            <a:ext cx="185760" cy="138240"/>
          </a:xfrm>
          <a:custGeom>
            <a:avLst/>
            <a:gdLst/>
            <a:ahLst/>
            <a:rect l="l" t="t" r="r" b="b"/>
            <a:pathLst>
              <a:path w="117" h="173">
                <a:moveTo>
                  <a:pt x="17" y="0"/>
                </a:moveTo>
                <a:lnTo>
                  <a:pt x="0" y="38"/>
                </a:lnTo>
                <a:lnTo>
                  <a:pt x="109" y="173"/>
                </a:lnTo>
                <a:lnTo>
                  <a:pt x="117" y="16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84800" y="5132520"/>
            <a:ext cx="268560" cy="249120"/>
          </a:xfrm>
          <a:custGeom>
            <a:avLst/>
            <a:gdLst/>
            <a:ahLst/>
            <a:rect l="l" t="t" r="r" b="b"/>
            <a:pathLst>
              <a:path w="169" h="314">
                <a:moveTo>
                  <a:pt x="12" y="184"/>
                </a:moveTo>
                <a:lnTo>
                  <a:pt x="17" y="191"/>
                </a:lnTo>
                <a:lnTo>
                  <a:pt x="22" y="199"/>
                </a:lnTo>
                <a:lnTo>
                  <a:pt x="29" y="210"/>
                </a:lnTo>
                <a:lnTo>
                  <a:pt x="37" y="220"/>
                </a:lnTo>
                <a:lnTo>
                  <a:pt x="45" y="230"/>
                </a:lnTo>
                <a:lnTo>
                  <a:pt x="54" y="239"/>
                </a:lnTo>
                <a:lnTo>
                  <a:pt x="62" y="246"/>
                </a:lnTo>
                <a:lnTo>
                  <a:pt x="69" y="251"/>
                </a:lnTo>
                <a:lnTo>
                  <a:pt x="76" y="251"/>
                </a:lnTo>
                <a:lnTo>
                  <a:pt x="82" y="246"/>
                </a:lnTo>
                <a:lnTo>
                  <a:pt x="84" y="237"/>
                </a:lnTo>
                <a:lnTo>
                  <a:pt x="84" y="196"/>
                </a:lnTo>
                <a:lnTo>
                  <a:pt x="78" y="161"/>
                </a:lnTo>
                <a:lnTo>
                  <a:pt x="69" y="120"/>
                </a:lnTo>
                <a:lnTo>
                  <a:pt x="86" y="121"/>
                </a:lnTo>
                <a:lnTo>
                  <a:pt x="116" y="114"/>
                </a:lnTo>
                <a:lnTo>
                  <a:pt x="126" y="106"/>
                </a:lnTo>
                <a:lnTo>
                  <a:pt x="129" y="88"/>
                </a:lnTo>
                <a:lnTo>
                  <a:pt x="117" y="64"/>
                </a:lnTo>
                <a:lnTo>
                  <a:pt x="113" y="55"/>
                </a:lnTo>
                <a:lnTo>
                  <a:pt x="107" y="48"/>
                </a:lnTo>
                <a:lnTo>
                  <a:pt x="100" y="38"/>
                </a:lnTo>
                <a:lnTo>
                  <a:pt x="92" y="29"/>
                </a:lnTo>
                <a:lnTo>
                  <a:pt x="98" y="0"/>
                </a:lnTo>
                <a:lnTo>
                  <a:pt x="105" y="7"/>
                </a:lnTo>
                <a:lnTo>
                  <a:pt x="113" y="15"/>
                </a:lnTo>
                <a:lnTo>
                  <a:pt x="121" y="26"/>
                </a:lnTo>
                <a:lnTo>
                  <a:pt x="131" y="38"/>
                </a:lnTo>
                <a:lnTo>
                  <a:pt x="135" y="45"/>
                </a:lnTo>
                <a:lnTo>
                  <a:pt x="141" y="52"/>
                </a:lnTo>
                <a:lnTo>
                  <a:pt x="145" y="59"/>
                </a:lnTo>
                <a:lnTo>
                  <a:pt x="150" y="68"/>
                </a:lnTo>
                <a:lnTo>
                  <a:pt x="154" y="74"/>
                </a:lnTo>
                <a:lnTo>
                  <a:pt x="158" y="81"/>
                </a:lnTo>
                <a:lnTo>
                  <a:pt x="168" y="111"/>
                </a:lnTo>
                <a:lnTo>
                  <a:pt x="169" y="125"/>
                </a:lnTo>
                <a:lnTo>
                  <a:pt x="164" y="135"/>
                </a:lnTo>
                <a:lnTo>
                  <a:pt x="161" y="140"/>
                </a:lnTo>
                <a:lnTo>
                  <a:pt x="156" y="144"/>
                </a:lnTo>
                <a:lnTo>
                  <a:pt x="142" y="151"/>
                </a:lnTo>
                <a:lnTo>
                  <a:pt x="95" y="151"/>
                </a:lnTo>
                <a:lnTo>
                  <a:pt x="100" y="283"/>
                </a:lnTo>
                <a:lnTo>
                  <a:pt x="96" y="298"/>
                </a:lnTo>
                <a:lnTo>
                  <a:pt x="91" y="309"/>
                </a:lnTo>
                <a:lnTo>
                  <a:pt x="83" y="314"/>
                </a:lnTo>
                <a:lnTo>
                  <a:pt x="73" y="310"/>
                </a:lnTo>
                <a:lnTo>
                  <a:pt x="60" y="298"/>
                </a:lnTo>
                <a:lnTo>
                  <a:pt x="53" y="289"/>
                </a:lnTo>
                <a:lnTo>
                  <a:pt x="44" y="277"/>
                </a:lnTo>
                <a:lnTo>
                  <a:pt x="39" y="269"/>
                </a:lnTo>
                <a:lnTo>
                  <a:pt x="34" y="262"/>
                </a:lnTo>
                <a:lnTo>
                  <a:pt x="29" y="253"/>
                </a:lnTo>
                <a:lnTo>
                  <a:pt x="24" y="243"/>
                </a:lnTo>
                <a:lnTo>
                  <a:pt x="18" y="232"/>
                </a:lnTo>
                <a:lnTo>
                  <a:pt x="12" y="220"/>
                </a:lnTo>
                <a:lnTo>
                  <a:pt x="6" y="208"/>
                </a:lnTo>
                <a:lnTo>
                  <a:pt x="3" y="203"/>
                </a:lnTo>
                <a:lnTo>
                  <a:pt x="0" y="196"/>
                </a:lnTo>
                <a:lnTo>
                  <a:pt x="12" y="184"/>
                </a:lnTo>
                <a:lnTo>
                  <a:pt x="12" y="1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400800" y="5307120"/>
            <a:ext cx="155520" cy="161640"/>
          </a:xfrm>
          <a:custGeom>
            <a:avLst/>
            <a:gdLst/>
            <a:ahLst/>
            <a:rect l="l" t="t" r="r" b="b"/>
            <a:pathLst>
              <a:path w="98" h="205">
                <a:moveTo>
                  <a:pt x="0" y="155"/>
                </a:moveTo>
                <a:lnTo>
                  <a:pt x="57" y="33"/>
                </a:lnTo>
                <a:lnTo>
                  <a:pt x="36" y="21"/>
                </a:lnTo>
                <a:lnTo>
                  <a:pt x="45" y="0"/>
                </a:lnTo>
                <a:lnTo>
                  <a:pt x="98" y="6"/>
                </a:lnTo>
                <a:lnTo>
                  <a:pt x="10" y="205"/>
                </a:lnTo>
                <a:lnTo>
                  <a:pt x="0" y="155"/>
                </a:lnTo>
                <a:lnTo>
                  <a:pt x="0" y="1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52960" y="5553000"/>
            <a:ext cx="181080" cy="200160"/>
          </a:xfrm>
          <a:custGeom>
            <a:avLst/>
            <a:gdLst/>
            <a:ahLst/>
            <a:rect l="l" t="t" r="r" b="b"/>
            <a:pathLst>
              <a:path w="114" h="251">
                <a:moveTo>
                  <a:pt x="0" y="123"/>
                </a:moveTo>
                <a:lnTo>
                  <a:pt x="4" y="168"/>
                </a:lnTo>
                <a:lnTo>
                  <a:pt x="80" y="93"/>
                </a:lnTo>
                <a:lnTo>
                  <a:pt x="50" y="246"/>
                </a:lnTo>
                <a:lnTo>
                  <a:pt x="75" y="251"/>
                </a:lnTo>
                <a:lnTo>
                  <a:pt x="114" y="1"/>
                </a:lnTo>
                <a:lnTo>
                  <a:pt x="96" y="0"/>
                </a:lnTo>
                <a:lnTo>
                  <a:pt x="0" y="123"/>
                </a:lnTo>
                <a:lnTo>
                  <a:pt x="0" y="1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165720" y="5597640"/>
            <a:ext cx="174600" cy="212760"/>
          </a:xfrm>
          <a:custGeom>
            <a:avLst/>
            <a:gdLst/>
            <a:ahLst/>
            <a:rect l="l" t="t" r="r" b="b"/>
            <a:pathLst>
              <a:path w="110" h="267">
                <a:moveTo>
                  <a:pt x="89" y="22"/>
                </a:moveTo>
                <a:lnTo>
                  <a:pt x="86" y="17"/>
                </a:lnTo>
                <a:lnTo>
                  <a:pt x="78" y="10"/>
                </a:lnTo>
                <a:lnTo>
                  <a:pt x="67" y="2"/>
                </a:lnTo>
                <a:lnTo>
                  <a:pt x="53" y="0"/>
                </a:lnTo>
                <a:lnTo>
                  <a:pt x="38" y="7"/>
                </a:lnTo>
                <a:lnTo>
                  <a:pt x="31" y="16"/>
                </a:lnTo>
                <a:lnTo>
                  <a:pt x="23" y="29"/>
                </a:lnTo>
                <a:lnTo>
                  <a:pt x="11" y="73"/>
                </a:lnTo>
                <a:lnTo>
                  <a:pt x="1" y="139"/>
                </a:lnTo>
                <a:lnTo>
                  <a:pt x="0" y="205"/>
                </a:lnTo>
                <a:lnTo>
                  <a:pt x="2" y="229"/>
                </a:lnTo>
                <a:lnTo>
                  <a:pt x="8" y="244"/>
                </a:lnTo>
                <a:lnTo>
                  <a:pt x="10" y="251"/>
                </a:lnTo>
                <a:lnTo>
                  <a:pt x="13" y="257"/>
                </a:lnTo>
                <a:lnTo>
                  <a:pt x="21" y="263"/>
                </a:lnTo>
                <a:lnTo>
                  <a:pt x="40" y="267"/>
                </a:lnTo>
                <a:lnTo>
                  <a:pt x="60" y="258"/>
                </a:lnTo>
                <a:lnTo>
                  <a:pt x="69" y="251"/>
                </a:lnTo>
                <a:lnTo>
                  <a:pt x="78" y="243"/>
                </a:lnTo>
                <a:lnTo>
                  <a:pt x="86" y="234"/>
                </a:lnTo>
                <a:lnTo>
                  <a:pt x="93" y="227"/>
                </a:lnTo>
                <a:lnTo>
                  <a:pt x="98" y="213"/>
                </a:lnTo>
                <a:lnTo>
                  <a:pt x="109" y="123"/>
                </a:lnTo>
                <a:lnTo>
                  <a:pt x="110" y="68"/>
                </a:lnTo>
                <a:lnTo>
                  <a:pt x="109" y="45"/>
                </a:lnTo>
                <a:lnTo>
                  <a:pt x="106" y="31"/>
                </a:lnTo>
                <a:lnTo>
                  <a:pt x="104" y="61"/>
                </a:lnTo>
                <a:lnTo>
                  <a:pt x="100" y="92"/>
                </a:lnTo>
                <a:lnTo>
                  <a:pt x="95" y="126"/>
                </a:lnTo>
                <a:lnTo>
                  <a:pt x="91" y="144"/>
                </a:lnTo>
                <a:lnTo>
                  <a:pt x="86" y="159"/>
                </a:lnTo>
                <a:lnTo>
                  <a:pt x="80" y="175"/>
                </a:lnTo>
                <a:lnTo>
                  <a:pt x="75" y="189"/>
                </a:lnTo>
                <a:lnTo>
                  <a:pt x="70" y="196"/>
                </a:lnTo>
                <a:lnTo>
                  <a:pt x="67" y="201"/>
                </a:lnTo>
                <a:lnTo>
                  <a:pt x="59" y="208"/>
                </a:lnTo>
                <a:lnTo>
                  <a:pt x="49" y="213"/>
                </a:lnTo>
                <a:lnTo>
                  <a:pt x="39" y="213"/>
                </a:lnTo>
                <a:lnTo>
                  <a:pt x="29" y="210"/>
                </a:lnTo>
                <a:lnTo>
                  <a:pt x="22" y="201"/>
                </a:lnTo>
                <a:lnTo>
                  <a:pt x="17" y="173"/>
                </a:lnTo>
                <a:lnTo>
                  <a:pt x="20" y="137"/>
                </a:lnTo>
                <a:lnTo>
                  <a:pt x="24" y="118"/>
                </a:lnTo>
                <a:lnTo>
                  <a:pt x="30" y="97"/>
                </a:lnTo>
                <a:lnTo>
                  <a:pt x="37" y="78"/>
                </a:lnTo>
                <a:lnTo>
                  <a:pt x="43" y="61"/>
                </a:lnTo>
                <a:lnTo>
                  <a:pt x="48" y="52"/>
                </a:lnTo>
                <a:lnTo>
                  <a:pt x="52" y="45"/>
                </a:lnTo>
                <a:lnTo>
                  <a:pt x="56" y="38"/>
                </a:lnTo>
                <a:lnTo>
                  <a:pt x="60" y="31"/>
                </a:lnTo>
                <a:lnTo>
                  <a:pt x="68" y="22"/>
                </a:lnTo>
                <a:lnTo>
                  <a:pt x="76" y="17"/>
                </a:lnTo>
                <a:lnTo>
                  <a:pt x="89" y="22"/>
                </a:lnTo>
                <a:lnTo>
                  <a:pt x="89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937120" y="5788080"/>
            <a:ext cx="370080" cy="203040"/>
          </a:xfrm>
          <a:custGeom>
            <a:avLst/>
            <a:gdLst/>
            <a:ahLst/>
            <a:rect l="l" t="t" r="r" b="b"/>
            <a:pathLst>
              <a:path w="233" h="257">
                <a:moveTo>
                  <a:pt x="8" y="0"/>
                </a:moveTo>
                <a:lnTo>
                  <a:pt x="0" y="35"/>
                </a:lnTo>
                <a:lnTo>
                  <a:pt x="231" y="257"/>
                </a:lnTo>
                <a:lnTo>
                  <a:pt x="233" y="224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845320" y="5970600"/>
            <a:ext cx="218880" cy="212760"/>
          </a:xfrm>
          <a:custGeom>
            <a:avLst/>
            <a:gdLst/>
            <a:ahLst/>
            <a:rect l="l" t="t" r="r" b="b"/>
            <a:pathLst>
              <a:path w="138" h="267">
                <a:moveTo>
                  <a:pt x="47" y="8"/>
                </a:moveTo>
                <a:lnTo>
                  <a:pt x="47" y="33"/>
                </a:lnTo>
                <a:lnTo>
                  <a:pt x="0" y="159"/>
                </a:lnTo>
                <a:lnTo>
                  <a:pt x="133" y="267"/>
                </a:lnTo>
                <a:lnTo>
                  <a:pt x="138" y="239"/>
                </a:lnTo>
                <a:lnTo>
                  <a:pt x="63" y="170"/>
                </a:lnTo>
                <a:lnTo>
                  <a:pt x="58" y="0"/>
                </a:lnTo>
                <a:lnTo>
                  <a:pt x="47" y="8"/>
                </a:lnTo>
                <a:lnTo>
                  <a:pt x="4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006720" y="3570120"/>
            <a:ext cx="587520" cy="657360"/>
          </a:xfrm>
          <a:custGeom>
            <a:avLst/>
            <a:gdLst/>
            <a:ahLst/>
            <a:rect l="l" t="t" r="r" b="b"/>
            <a:pathLst>
              <a:path w="370" h="829">
                <a:moveTo>
                  <a:pt x="0" y="755"/>
                </a:moveTo>
                <a:lnTo>
                  <a:pt x="224" y="829"/>
                </a:lnTo>
                <a:lnTo>
                  <a:pt x="102" y="415"/>
                </a:lnTo>
                <a:lnTo>
                  <a:pt x="370" y="63"/>
                </a:lnTo>
                <a:lnTo>
                  <a:pt x="330" y="0"/>
                </a:lnTo>
                <a:lnTo>
                  <a:pt x="65" y="432"/>
                </a:lnTo>
                <a:lnTo>
                  <a:pt x="179" y="767"/>
                </a:lnTo>
                <a:lnTo>
                  <a:pt x="0" y="668"/>
                </a:lnTo>
                <a:lnTo>
                  <a:pt x="0" y="755"/>
                </a:lnTo>
                <a:lnTo>
                  <a:pt x="0" y="7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951360" y="3613320"/>
            <a:ext cx="374400" cy="55440"/>
          </a:xfrm>
          <a:custGeom>
            <a:avLst/>
            <a:gdLst/>
            <a:ahLst/>
            <a:rect l="l" t="t" r="r" b="b"/>
            <a:pathLst>
              <a:path w="236" h="69">
                <a:moveTo>
                  <a:pt x="0" y="26"/>
                </a:moveTo>
                <a:lnTo>
                  <a:pt x="11" y="69"/>
                </a:lnTo>
                <a:lnTo>
                  <a:pt x="236" y="19"/>
                </a:lnTo>
                <a:lnTo>
                  <a:pt x="233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13280" y="3683160"/>
            <a:ext cx="342720" cy="96840"/>
          </a:xfrm>
          <a:custGeom>
            <a:avLst/>
            <a:gdLst/>
            <a:ahLst/>
            <a:rect l="l" t="t" r="r" b="b"/>
            <a:pathLst>
              <a:path w="216" h="124">
                <a:moveTo>
                  <a:pt x="0" y="51"/>
                </a:moveTo>
                <a:lnTo>
                  <a:pt x="8" y="124"/>
                </a:lnTo>
                <a:lnTo>
                  <a:pt x="213" y="33"/>
                </a:lnTo>
                <a:lnTo>
                  <a:pt x="216" y="0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578480" y="3559320"/>
            <a:ext cx="217440" cy="204480"/>
          </a:xfrm>
          <a:custGeom>
            <a:avLst/>
            <a:gdLst/>
            <a:ahLst/>
            <a:rect l="l" t="t" r="r" b="b"/>
            <a:pathLst>
              <a:path w="137" h="259">
                <a:moveTo>
                  <a:pt x="29" y="0"/>
                </a:moveTo>
                <a:lnTo>
                  <a:pt x="0" y="72"/>
                </a:lnTo>
                <a:lnTo>
                  <a:pt x="51" y="134"/>
                </a:lnTo>
                <a:lnTo>
                  <a:pt x="15" y="228"/>
                </a:lnTo>
                <a:lnTo>
                  <a:pt x="48" y="250"/>
                </a:lnTo>
                <a:lnTo>
                  <a:pt x="66" y="160"/>
                </a:lnTo>
                <a:lnTo>
                  <a:pt x="106" y="259"/>
                </a:lnTo>
                <a:lnTo>
                  <a:pt x="133" y="240"/>
                </a:lnTo>
                <a:lnTo>
                  <a:pt x="87" y="148"/>
                </a:lnTo>
                <a:lnTo>
                  <a:pt x="137" y="58"/>
                </a:lnTo>
                <a:lnTo>
                  <a:pt x="115" y="9"/>
                </a:lnTo>
                <a:lnTo>
                  <a:pt x="73" y="111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946760" y="3625920"/>
            <a:ext cx="172800" cy="49320"/>
          </a:xfrm>
          <a:custGeom>
            <a:avLst/>
            <a:gdLst/>
            <a:ahLst/>
            <a:rect l="l" t="t" r="r" b="b"/>
            <a:pathLst>
              <a:path w="109" h="63">
                <a:moveTo>
                  <a:pt x="0" y="13"/>
                </a:moveTo>
                <a:lnTo>
                  <a:pt x="7" y="63"/>
                </a:lnTo>
                <a:lnTo>
                  <a:pt x="109" y="35"/>
                </a:lnTo>
                <a:lnTo>
                  <a:pt x="105" y="0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324400" y="3465360"/>
            <a:ext cx="131760" cy="225720"/>
          </a:xfrm>
          <a:custGeom>
            <a:avLst/>
            <a:gdLst/>
            <a:ahLst/>
            <a:rect l="l" t="t" r="r" b="b"/>
            <a:pathLst>
              <a:path w="83" h="284">
                <a:moveTo>
                  <a:pt x="75" y="0"/>
                </a:moveTo>
                <a:lnTo>
                  <a:pt x="70" y="12"/>
                </a:lnTo>
                <a:lnTo>
                  <a:pt x="63" y="24"/>
                </a:lnTo>
                <a:lnTo>
                  <a:pt x="60" y="31"/>
                </a:lnTo>
                <a:lnTo>
                  <a:pt x="55" y="39"/>
                </a:lnTo>
                <a:lnTo>
                  <a:pt x="46" y="60"/>
                </a:lnTo>
                <a:lnTo>
                  <a:pt x="36" y="81"/>
                </a:lnTo>
                <a:lnTo>
                  <a:pt x="27" y="105"/>
                </a:lnTo>
                <a:lnTo>
                  <a:pt x="18" y="131"/>
                </a:lnTo>
                <a:lnTo>
                  <a:pt x="10" y="156"/>
                </a:lnTo>
                <a:lnTo>
                  <a:pt x="5" y="182"/>
                </a:lnTo>
                <a:lnTo>
                  <a:pt x="0" y="227"/>
                </a:lnTo>
                <a:lnTo>
                  <a:pt x="4" y="247"/>
                </a:lnTo>
                <a:lnTo>
                  <a:pt x="10" y="263"/>
                </a:lnTo>
                <a:lnTo>
                  <a:pt x="16" y="270"/>
                </a:lnTo>
                <a:lnTo>
                  <a:pt x="23" y="275"/>
                </a:lnTo>
                <a:lnTo>
                  <a:pt x="39" y="284"/>
                </a:lnTo>
                <a:lnTo>
                  <a:pt x="42" y="280"/>
                </a:lnTo>
                <a:lnTo>
                  <a:pt x="51" y="270"/>
                </a:lnTo>
                <a:lnTo>
                  <a:pt x="56" y="263"/>
                </a:lnTo>
                <a:lnTo>
                  <a:pt x="61" y="254"/>
                </a:lnTo>
                <a:lnTo>
                  <a:pt x="66" y="244"/>
                </a:lnTo>
                <a:lnTo>
                  <a:pt x="72" y="232"/>
                </a:lnTo>
                <a:lnTo>
                  <a:pt x="79" y="208"/>
                </a:lnTo>
                <a:lnTo>
                  <a:pt x="80" y="182"/>
                </a:lnTo>
                <a:lnTo>
                  <a:pt x="77" y="168"/>
                </a:lnTo>
                <a:lnTo>
                  <a:pt x="72" y="154"/>
                </a:lnTo>
                <a:lnTo>
                  <a:pt x="68" y="145"/>
                </a:lnTo>
                <a:lnTo>
                  <a:pt x="64" y="138"/>
                </a:lnTo>
                <a:lnTo>
                  <a:pt x="60" y="131"/>
                </a:lnTo>
                <a:lnTo>
                  <a:pt x="54" y="124"/>
                </a:lnTo>
                <a:lnTo>
                  <a:pt x="50" y="156"/>
                </a:lnTo>
                <a:lnTo>
                  <a:pt x="54" y="159"/>
                </a:lnTo>
                <a:lnTo>
                  <a:pt x="62" y="169"/>
                </a:lnTo>
                <a:lnTo>
                  <a:pt x="66" y="187"/>
                </a:lnTo>
                <a:lnTo>
                  <a:pt x="65" y="197"/>
                </a:lnTo>
                <a:lnTo>
                  <a:pt x="61" y="209"/>
                </a:lnTo>
                <a:lnTo>
                  <a:pt x="57" y="215"/>
                </a:lnTo>
                <a:lnTo>
                  <a:pt x="53" y="220"/>
                </a:lnTo>
                <a:lnTo>
                  <a:pt x="45" y="228"/>
                </a:lnTo>
                <a:lnTo>
                  <a:pt x="36" y="232"/>
                </a:lnTo>
                <a:lnTo>
                  <a:pt x="29" y="230"/>
                </a:lnTo>
                <a:lnTo>
                  <a:pt x="25" y="223"/>
                </a:lnTo>
                <a:lnTo>
                  <a:pt x="24" y="209"/>
                </a:lnTo>
                <a:lnTo>
                  <a:pt x="28" y="189"/>
                </a:lnTo>
                <a:lnTo>
                  <a:pt x="39" y="159"/>
                </a:lnTo>
                <a:lnTo>
                  <a:pt x="83" y="46"/>
                </a:lnTo>
                <a:lnTo>
                  <a:pt x="75" y="0"/>
                </a:lnTo>
                <a:lnTo>
                  <a:pt x="7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49480" y="4767120"/>
            <a:ext cx="349200" cy="376560"/>
          </a:xfrm>
          <a:custGeom>
            <a:avLst/>
            <a:gdLst/>
            <a:ahLst/>
            <a:rect l="l" t="t" r="r" b="b"/>
            <a:pathLst>
              <a:path w="220" h="475">
                <a:moveTo>
                  <a:pt x="101" y="0"/>
                </a:moveTo>
                <a:lnTo>
                  <a:pt x="28" y="242"/>
                </a:lnTo>
                <a:lnTo>
                  <a:pt x="35" y="251"/>
                </a:lnTo>
                <a:lnTo>
                  <a:pt x="44" y="262"/>
                </a:lnTo>
                <a:lnTo>
                  <a:pt x="49" y="267"/>
                </a:lnTo>
                <a:lnTo>
                  <a:pt x="54" y="274"/>
                </a:lnTo>
                <a:lnTo>
                  <a:pt x="60" y="282"/>
                </a:lnTo>
                <a:lnTo>
                  <a:pt x="67" y="289"/>
                </a:lnTo>
                <a:lnTo>
                  <a:pt x="72" y="298"/>
                </a:lnTo>
                <a:lnTo>
                  <a:pt x="78" y="307"/>
                </a:lnTo>
                <a:lnTo>
                  <a:pt x="83" y="315"/>
                </a:lnTo>
                <a:lnTo>
                  <a:pt x="89" y="324"/>
                </a:lnTo>
                <a:lnTo>
                  <a:pt x="93" y="334"/>
                </a:lnTo>
                <a:lnTo>
                  <a:pt x="98" y="343"/>
                </a:lnTo>
                <a:lnTo>
                  <a:pt x="109" y="378"/>
                </a:lnTo>
                <a:lnTo>
                  <a:pt x="108" y="392"/>
                </a:lnTo>
                <a:lnTo>
                  <a:pt x="102" y="405"/>
                </a:lnTo>
                <a:lnTo>
                  <a:pt x="97" y="411"/>
                </a:lnTo>
                <a:lnTo>
                  <a:pt x="90" y="414"/>
                </a:lnTo>
                <a:lnTo>
                  <a:pt x="71" y="419"/>
                </a:lnTo>
                <a:lnTo>
                  <a:pt x="10" y="418"/>
                </a:lnTo>
                <a:lnTo>
                  <a:pt x="0" y="456"/>
                </a:lnTo>
                <a:lnTo>
                  <a:pt x="12" y="461"/>
                </a:lnTo>
                <a:lnTo>
                  <a:pt x="42" y="470"/>
                </a:lnTo>
                <a:lnTo>
                  <a:pt x="80" y="475"/>
                </a:lnTo>
                <a:lnTo>
                  <a:pt x="118" y="471"/>
                </a:lnTo>
                <a:lnTo>
                  <a:pt x="134" y="464"/>
                </a:lnTo>
                <a:lnTo>
                  <a:pt x="145" y="452"/>
                </a:lnTo>
                <a:lnTo>
                  <a:pt x="153" y="435"/>
                </a:lnTo>
                <a:lnTo>
                  <a:pt x="154" y="411"/>
                </a:lnTo>
                <a:lnTo>
                  <a:pt x="148" y="379"/>
                </a:lnTo>
                <a:lnTo>
                  <a:pt x="141" y="360"/>
                </a:lnTo>
                <a:lnTo>
                  <a:pt x="134" y="340"/>
                </a:lnTo>
                <a:lnTo>
                  <a:pt x="122" y="317"/>
                </a:lnTo>
                <a:lnTo>
                  <a:pt x="120" y="310"/>
                </a:lnTo>
                <a:lnTo>
                  <a:pt x="117" y="303"/>
                </a:lnTo>
                <a:lnTo>
                  <a:pt x="114" y="298"/>
                </a:lnTo>
                <a:lnTo>
                  <a:pt x="110" y="291"/>
                </a:lnTo>
                <a:lnTo>
                  <a:pt x="106" y="284"/>
                </a:lnTo>
                <a:lnTo>
                  <a:pt x="102" y="277"/>
                </a:lnTo>
                <a:lnTo>
                  <a:pt x="98" y="270"/>
                </a:lnTo>
                <a:lnTo>
                  <a:pt x="95" y="263"/>
                </a:lnTo>
                <a:lnTo>
                  <a:pt x="86" y="248"/>
                </a:lnTo>
                <a:lnTo>
                  <a:pt x="80" y="241"/>
                </a:lnTo>
                <a:lnTo>
                  <a:pt x="76" y="232"/>
                </a:lnTo>
                <a:lnTo>
                  <a:pt x="106" y="90"/>
                </a:lnTo>
                <a:lnTo>
                  <a:pt x="195" y="229"/>
                </a:lnTo>
                <a:lnTo>
                  <a:pt x="220" y="152"/>
                </a:lnTo>
                <a:lnTo>
                  <a:pt x="101" y="0"/>
                </a:lnTo>
                <a:lnTo>
                  <a:pt x="10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468600" y="3787920"/>
            <a:ext cx="341280" cy="207720"/>
          </a:xfrm>
          <a:custGeom>
            <a:avLst/>
            <a:gdLst/>
            <a:ahLst/>
            <a:rect l="l" t="t" r="r" b="b"/>
            <a:pathLst>
              <a:path w="215" h="260">
                <a:moveTo>
                  <a:pt x="46" y="40"/>
                </a:moveTo>
                <a:lnTo>
                  <a:pt x="46" y="38"/>
                </a:lnTo>
                <a:lnTo>
                  <a:pt x="37" y="55"/>
                </a:lnTo>
                <a:lnTo>
                  <a:pt x="24" y="87"/>
                </a:lnTo>
                <a:lnTo>
                  <a:pt x="12" y="127"/>
                </a:lnTo>
                <a:lnTo>
                  <a:pt x="3" y="170"/>
                </a:lnTo>
                <a:lnTo>
                  <a:pt x="0" y="210"/>
                </a:lnTo>
                <a:lnTo>
                  <a:pt x="3" y="227"/>
                </a:lnTo>
                <a:lnTo>
                  <a:pt x="8" y="241"/>
                </a:lnTo>
                <a:lnTo>
                  <a:pt x="12" y="248"/>
                </a:lnTo>
                <a:lnTo>
                  <a:pt x="18" y="253"/>
                </a:lnTo>
                <a:lnTo>
                  <a:pt x="30" y="260"/>
                </a:lnTo>
                <a:lnTo>
                  <a:pt x="56" y="260"/>
                </a:lnTo>
                <a:lnTo>
                  <a:pt x="74" y="243"/>
                </a:lnTo>
                <a:lnTo>
                  <a:pt x="84" y="215"/>
                </a:lnTo>
                <a:lnTo>
                  <a:pt x="88" y="182"/>
                </a:lnTo>
                <a:lnTo>
                  <a:pt x="89" y="146"/>
                </a:lnTo>
                <a:lnTo>
                  <a:pt x="88" y="114"/>
                </a:lnTo>
                <a:lnTo>
                  <a:pt x="85" y="83"/>
                </a:lnTo>
                <a:lnTo>
                  <a:pt x="191" y="142"/>
                </a:lnTo>
                <a:lnTo>
                  <a:pt x="215" y="127"/>
                </a:lnTo>
                <a:lnTo>
                  <a:pt x="61" y="0"/>
                </a:lnTo>
                <a:lnTo>
                  <a:pt x="49" y="31"/>
                </a:lnTo>
                <a:lnTo>
                  <a:pt x="57" y="62"/>
                </a:lnTo>
                <a:lnTo>
                  <a:pt x="68" y="128"/>
                </a:lnTo>
                <a:lnTo>
                  <a:pt x="70" y="163"/>
                </a:lnTo>
                <a:lnTo>
                  <a:pt x="67" y="192"/>
                </a:lnTo>
                <a:lnTo>
                  <a:pt x="62" y="205"/>
                </a:lnTo>
                <a:lnTo>
                  <a:pt x="56" y="213"/>
                </a:lnTo>
                <a:lnTo>
                  <a:pt x="47" y="218"/>
                </a:lnTo>
                <a:lnTo>
                  <a:pt x="35" y="218"/>
                </a:lnTo>
                <a:lnTo>
                  <a:pt x="26" y="172"/>
                </a:lnTo>
                <a:lnTo>
                  <a:pt x="28" y="116"/>
                </a:lnTo>
                <a:lnTo>
                  <a:pt x="33" y="80"/>
                </a:lnTo>
                <a:lnTo>
                  <a:pt x="39" y="61"/>
                </a:lnTo>
                <a:lnTo>
                  <a:pt x="46" y="40"/>
                </a:lnTo>
                <a:lnTo>
                  <a:pt x="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773680" y="3608280"/>
            <a:ext cx="263520" cy="165240"/>
          </a:xfrm>
          <a:custGeom>
            <a:avLst/>
            <a:gdLst/>
            <a:ahLst/>
            <a:rect l="l" t="t" r="r" b="b"/>
            <a:pathLst>
              <a:path w="166" h="208">
                <a:moveTo>
                  <a:pt x="6" y="76"/>
                </a:moveTo>
                <a:lnTo>
                  <a:pt x="13" y="71"/>
                </a:lnTo>
                <a:lnTo>
                  <a:pt x="21" y="64"/>
                </a:lnTo>
                <a:lnTo>
                  <a:pt x="31" y="59"/>
                </a:lnTo>
                <a:lnTo>
                  <a:pt x="41" y="52"/>
                </a:lnTo>
                <a:lnTo>
                  <a:pt x="54" y="45"/>
                </a:lnTo>
                <a:lnTo>
                  <a:pt x="75" y="40"/>
                </a:lnTo>
                <a:lnTo>
                  <a:pt x="89" y="47"/>
                </a:lnTo>
                <a:lnTo>
                  <a:pt x="90" y="73"/>
                </a:lnTo>
                <a:lnTo>
                  <a:pt x="85" y="95"/>
                </a:lnTo>
                <a:lnTo>
                  <a:pt x="74" y="125"/>
                </a:lnTo>
                <a:lnTo>
                  <a:pt x="66" y="142"/>
                </a:lnTo>
                <a:lnTo>
                  <a:pt x="57" y="161"/>
                </a:lnTo>
                <a:lnTo>
                  <a:pt x="51" y="173"/>
                </a:lnTo>
                <a:lnTo>
                  <a:pt x="46" y="184"/>
                </a:lnTo>
                <a:lnTo>
                  <a:pt x="40" y="196"/>
                </a:lnTo>
                <a:lnTo>
                  <a:pt x="33" y="208"/>
                </a:lnTo>
                <a:lnTo>
                  <a:pt x="166" y="171"/>
                </a:lnTo>
                <a:lnTo>
                  <a:pt x="166" y="130"/>
                </a:lnTo>
                <a:lnTo>
                  <a:pt x="69" y="177"/>
                </a:lnTo>
                <a:lnTo>
                  <a:pt x="71" y="173"/>
                </a:lnTo>
                <a:lnTo>
                  <a:pt x="78" y="165"/>
                </a:lnTo>
                <a:lnTo>
                  <a:pt x="81" y="159"/>
                </a:lnTo>
                <a:lnTo>
                  <a:pt x="87" y="151"/>
                </a:lnTo>
                <a:lnTo>
                  <a:pt x="92" y="142"/>
                </a:lnTo>
                <a:lnTo>
                  <a:pt x="97" y="133"/>
                </a:lnTo>
                <a:lnTo>
                  <a:pt x="103" y="125"/>
                </a:lnTo>
                <a:lnTo>
                  <a:pt x="108" y="114"/>
                </a:lnTo>
                <a:lnTo>
                  <a:pt x="114" y="104"/>
                </a:lnTo>
                <a:lnTo>
                  <a:pt x="119" y="92"/>
                </a:lnTo>
                <a:lnTo>
                  <a:pt x="137" y="50"/>
                </a:lnTo>
                <a:lnTo>
                  <a:pt x="143" y="17"/>
                </a:lnTo>
                <a:lnTo>
                  <a:pt x="137" y="5"/>
                </a:lnTo>
                <a:lnTo>
                  <a:pt x="126" y="0"/>
                </a:lnTo>
                <a:lnTo>
                  <a:pt x="81" y="10"/>
                </a:lnTo>
                <a:lnTo>
                  <a:pt x="65" y="17"/>
                </a:lnTo>
                <a:lnTo>
                  <a:pt x="46" y="26"/>
                </a:lnTo>
                <a:lnTo>
                  <a:pt x="25" y="40"/>
                </a:lnTo>
                <a:lnTo>
                  <a:pt x="12" y="47"/>
                </a:lnTo>
                <a:lnTo>
                  <a:pt x="0" y="54"/>
                </a:lnTo>
                <a:lnTo>
                  <a:pt x="6" y="76"/>
                </a:lnTo>
                <a:lnTo>
                  <a:pt x="6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979960" y="3675240"/>
            <a:ext cx="339840" cy="298440"/>
          </a:xfrm>
          <a:custGeom>
            <a:avLst/>
            <a:gdLst/>
            <a:ahLst/>
            <a:rect l="l" t="t" r="r" b="b"/>
            <a:pathLst>
              <a:path w="214" h="376">
                <a:moveTo>
                  <a:pt x="0" y="361"/>
                </a:moveTo>
                <a:lnTo>
                  <a:pt x="21" y="376"/>
                </a:lnTo>
                <a:lnTo>
                  <a:pt x="214" y="23"/>
                </a:lnTo>
                <a:lnTo>
                  <a:pt x="201" y="0"/>
                </a:lnTo>
                <a:lnTo>
                  <a:pt x="0" y="361"/>
                </a:lnTo>
                <a:lnTo>
                  <a:pt x="0" y="3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210360" y="3825720"/>
            <a:ext cx="210960" cy="182880"/>
          </a:xfrm>
          <a:custGeom>
            <a:avLst/>
            <a:gdLst/>
            <a:ahLst/>
            <a:rect l="l" t="t" r="r" b="b"/>
            <a:pathLst>
              <a:path w="133" h="230">
                <a:moveTo>
                  <a:pt x="0" y="83"/>
                </a:moveTo>
                <a:lnTo>
                  <a:pt x="1" y="86"/>
                </a:lnTo>
                <a:lnTo>
                  <a:pt x="4" y="90"/>
                </a:lnTo>
                <a:lnTo>
                  <a:pt x="12" y="92"/>
                </a:lnTo>
                <a:lnTo>
                  <a:pt x="15" y="85"/>
                </a:lnTo>
                <a:lnTo>
                  <a:pt x="20" y="78"/>
                </a:lnTo>
                <a:lnTo>
                  <a:pt x="25" y="71"/>
                </a:lnTo>
                <a:lnTo>
                  <a:pt x="32" y="60"/>
                </a:lnTo>
                <a:lnTo>
                  <a:pt x="39" y="52"/>
                </a:lnTo>
                <a:lnTo>
                  <a:pt x="46" y="45"/>
                </a:lnTo>
                <a:lnTo>
                  <a:pt x="52" y="38"/>
                </a:lnTo>
                <a:lnTo>
                  <a:pt x="63" y="34"/>
                </a:lnTo>
                <a:lnTo>
                  <a:pt x="68" y="48"/>
                </a:lnTo>
                <a:lnTo>
                  <a:pt x="63" y="85"/>
                </a:lnTo>
                <a:lnTo>
                  <a:pt x="58" y="112"/>
                </a:lnTo>
                <a:lnTo>
                  <a:pt x="53" y="130"/>
                </a:lnTo>
                <a:lnTo>
                  <a:pt x="48" y="149"/>
                </a:lnTo>
                <a:lnTo>
                  <a:pt x="52" y="145"/>
                </a:lnTo>
                <a:lnTo>
                  <a:pt x="63" y="138"/>
                </a:lnTo>
                <a:lnTo>
                  <a:pt x="76" y="130"/>
                </a:lnTo>
                <a:lnTo>
                  <a:pt x="89" y="126"/>
                </a:lnTo>
                <a:lnTo>
                  <a:pt x="98" y="130"/>
                </a:lnTo>
                <a:lnTo>
                  <a:pt x="100" y="147"/>
                </a:lnTo>
                <a:lnTo>
                  <a:pt x="98" y="159"/>
                </a:lnTo>
                <a:lnTo>
                  <a:pt x="92" y="177"/>
                </a:lnTo>
                <a:lnTo>
                  <a:pt x="84" y="201"/>
                </a:lnTo>
                <a:lnTo>
                  <a:pt x="71" y="229"/>
                </a:lnTo>
                <a:lnTo>
                  <a:pt x="84" y="230"/>
                </a:lnTo>
                <a:lnTo>
                  <a:pt x="87" y="222"/>
                </a:lnTo>
                <a:lnTo>
                  <a:pt x="98" y="196"/>
                </a:lnTo>
                <a:lnTo>
                  <a:pt x="111" y="161"/>
                </a:lnTo>
                <a:lnTo>
                  <a:pt x="125" y="125"/>
                </a:lnTo>
                <a:lnTo>
                  <a:pt x="133" y="92"/>
                </a:lnTo>
                <a:lnTo>
                  <a:pt x="132" y="69"/>
                </a:lnTo>
                <a:lnTo>
                  <a:pt x="127" y="66"/>
                </a:lnTo>
                <a:lnTo>
                  <a:pt x="119" y="66"/>
                </a:lnTo>
                <a:lnTo>
                  <a:pt x="90" y="85"/>
                </a:lnTo>
                <a:lnTo>
                  <a:pt x="90" y="59"/>
                </a:lnTo>
                <a:lnTo>
                  <a:pt x="88" y="34"/>
                </a:lnTo>
                <a:lnTo>
                  <a:pt x="81" y="14"/>
                </a:lnTo>
                <a:lnTo>
                  <a:pt x="77" y="5"/>
                </a:lnTo>
                <a:lnTo>
                  <a:pt x="71" y="0"/>
                </a:lnTo>
                <a:lnTo>
                  <a:pt x="56" y="3"/>
                </a:lnTo>
                <a:lnTo>
                  <a:pt x="44" y="12"/>
                </a:lnTo>
                <a:lnTo>
                  <a:pt x="39" y="19"/>
                </a:lnTo>
                <a:lnTo>
                  <a:pt x="32" y="28"/>
                </a:lnTo>
                <a:lnTo>
                  <a:pt x="24" y="38"/>
                </a:lnTo>
                <a:lnTo>
                  <a:pt x="18" y="52"/>
                </a:lnTo>
                <a:lnTo>
                  <a:pt x="13" y="59"/>
                </a:lnTo>
                <a:lnTo>
                  <a:pt x="9" y="66"/>
                </a:lnTo>
                <a:lnTo>
                  <a:pt x="4" y="74"/>
                </a:lnTo>
                <a:lnTo>
                  <a:pt x="0" y="83"/>
                </a:lnTo>
                <a:lnTo>
                  <a:pt x="0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45120" y="3503520"/>
            <a:ext cx="181080" cy="198360"/>
          </a:xfrm>
          <a:custGeom>
            <a:avLst/>
            <a:gdLst/>
            <a:ahLst/>
            <a:rect l="l" t="t" r="r" b="b"/>
            <a:pathLst>
              <a:path w="114" h="250">
                <a:moveTo>
                  <a:pt x="24" y="26"/>
                </a:moveTo>
                <a:lnTo>
                  <a:pt x="21" y="36"/>
                </a:lnTo>
                <a:lnTo>
                  <a:pt x="14" y="64"/>
                </a:lnTo>
                <a:lnTo>
                  <a:pt x="7" y="102"/>
                </a:lnTo>
                <a:lnTo>
                  <a:pt x="1" y="147"/>
                </a:lnTo>
                <a:lnTo>
                  <a:pt x="0" y="189"/>
                </a:lnTo>
                <a:lnTo>
                  <a:pt x="2" y="208"/>
                </a:lnTo>
                <a:lnTo>
                  <a:pt x="8" y="224"/>
                </a:lnTo>
                <a:lnTo>
                  <a:pt x="15" y="236"/>
                </a:lnTo>
                <a:lnTo>
                  <a:pt x="20" y="241"/>
                </a:lnTo>
                <a:lnTo>
                  <a:pt x="27" y="246"/>
                </a:lnTo>
                <a:lnTo>
                  <a:pt x="40" y="250"/>
                </a:lnTo>
                <a:lnTo>
                  <a:pt x="58" y="248"/>
                </a:lnTo>
                <a:lnTo>
                  <a:pt x="77" y="241"/>
                </a:lnTo>
                <a:lnTo>
                  <a:pt x="91" y="229"/>
                </a:lnTo>
                <a:lnTo>
                  <a:pt x="102" y="215"/>
                </a:lnTo>
                <a:lnTo>
                  <a:pt x="108" y="198"/>
                </a:lnTo>
                <a:lnTo>
                  <a:pt x="114" y="156"/>
                </a:lnTo>
                <a:lnTo>
                  <a:pt x="109" y="113"/>
                </a:lnTo>
                <a:lnTo>
                  <a:pt x="105" y="92"/>
                </a:lnTo>
                <a:lnTo>
                  <a:pt x="98" y="71"/>
                </a:lnTo>
                <a:lnTo>
                  <a:pt x="90" y="52"/>
                </a:lnTo>
                <a:lnTo>
                  <a:pt x="86" y="43"/>
                </a:lnTo>
                <a:lnTo>
                  <a:pt x="83" y="36"/>
                </a:lnTo>
                <a:lnTo>
                  <a:pt x="78" y="30"/>
                </a:lnTo>
                <a:lnTo>
                  <a:pt x="72" y="23"/>
                </a:lnTo>
                <a:lnTo>
                  <a:pt x="64" y="14"/>
                </a:lnTo>
                <a:lnTo>
                  <a:pt x="55" y="7"/>
                </a:lnTo>
                <a:lnTo>
                  <a:pt x="46" y="7"/>
                </a:lnTo>
                <a:lnTo>
                  <a:pt x="38" y="40"/>
                </a:lnTo>
                <a:lnTo>
                  <a:pt x="41" y="43"/>
                </a:lnTo>
                <a:lnTo>
                  <a:pt x="47" y="50"/>
                </a:lnTo>
                <a:lnTo>
                  <a:pt x="52" y="59"/>
                </a:lnTo>
                <a:lnTo>
                  <a:pt x="59" y="68"/>
                </a:lnTo>
                <a:lnTo>
                  <a:pt x="66" y="80"/>
                </a:lnTo>
                <a:lnTo>
                  <a:pt x="72" y="92"/>
                </a:lnTo>
                <a:lnTo>
                  <a:pt x="79" y="106"/>
                </a:lnTo>
                <a:lnTo>
                  <a:pt x="89" y="134"/>
                </a:lnTo>
                <a:lnTo>
                  <a:pt x="91" y="161"/>
                </a:lnTo>
                <a:lnTo>
                  <a:pt x="89" y="175"/>
                </a:lnTo>
                <a:lnTo>
                  <a:pt x="84" y="187"/>
                </a:lnTo>
                <a:lnTo>
                  <a:pt x="80" y="194"/>
                </a:lnTo>
                <a:lnTo>
                  <a:pt x="75" y="199"/>
                </a:lnTo>
                <a:lnTo>
                  <a:pt x="69" y="205"/>
                </a:lnTo>
                <a:lnTo>
                  <a:pt x="62" y="210"/>
                </a:lnTo>
                <a:lnTo>
                  <a:pt x="49" y="217"/>
                </a:lnTo>
                <a:lnTo>
                  <a:pt x="39" y="217"/>
                </a:lnTo>
                <a:lnTo>
                  <a:pt x="31" y="213"/>
                </a:lnTo>
                <a:lnTo>
                  <a:pt x="26" y="205"/>
                </a:lnTo>
                <a:lnTo>
                  <a:pt x="20" y="179"/>
                </a:lnTo>
                <a:lnTo>
                  <a:pt x="21" y="144"/>
                </a:lnTo>
                <a:lnTo>
                  <a:pt x="24" y="108"/>
                </a:lnTo>
                <a:lnTo>
                  <a:pt x="30" y="73"/>
                </a:lnTo>
                <a:lnTo>
                  <a:pt x="36" y="49"/>
                </a:lnTo>
                <a:lnTo>
                  <a:pt x="38" y="40"/>
                </a:lnTo>
                <a:lnTo>
                  <a:pt x="41" y="0"/>
                </a:lnTo>
                <a:lnTo>
                  <a:pt x="24" y="26"/>
                </a:lnTo>
                <a:lnTo>
                  <a:pt x="24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840200" y="5305320"/>
            <a:ext cx="984240" cy="736560"/>
          </a:xfrm>
          <a:custGeom>
            <a:avLst/>
            <a:gdLst/>
            <a:ahLst/>
            <a:rect l="l" t="t" r="r" b="b"/>
            <a:pathLst>
              <a:path w="620" h="929">
                <a:moveTo>
                  <a:pt x="0" y="513"/>
                </a:moveTo>
                <a:lnTo>
                  <a:pt x="280" y="929"/>
                </a:lnTo>
                <a:lnTo>
                  <a:pt x="620" y="341"/>
                </a:lnTo>
                <a:lnTo>
                  <a:pt x="185" y="0"/>
                </a:lnTo>
                <a:lnTo>
                  <a:pt x="128" y="71"/>
                </a:lnTo>
                <a:lnTo>
                  <a:pt x="185" y="33"/>
                </a:lnTo>
                <a:lnTo>
                  <a:pt x="552" y="326"/>
                </a:lnTo>
                <a:lnTo>
                  <a:pt x="274" y="863"/>
                </a:lnTo>
                <a:lnTo>
                  <a:pt x="0" y="513"/>
                </a:lnTo>
                <a:lnTo>
                  <a:pt x="0" y="5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213520" y="5554800"/>
            <a:ext cx="358560" cy="320400"/>
          </a:xfrm>
          <a:custGeom>
            <a:avLst/>
            <a:gdLst/>
            <a:ahLst/>
            <a:rect l="l" t="t" r="r" b="b"/>
            <a:pathLst>
              <a:path w="226" h="404">
                <a:moveTo>
                  <a:pt x="226" y="28"/>
                </a:moveTo>
                <a:lnTo>
                  <a:pt x="16" y="404"/>
                </a:lnTo>
                <a:lnTo>
                  <a:pt x="0" y="396"/>
                </a:lnTo>
                <a:lnTo>
                  <a:pt x="214" y="0"/>
                </a:lnTo>
                <a:lnTo>
                  <a:pt x="226" y="28"/>
                </a:lnTo>
                <a:lnTo>
                  <a:pt x="22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192640" y="5551560"/>
            <a:ext cx="239760" cy="210960"/>
          </a:xfrm>
          <a:custGeom>
            <a:avLst/>
            <a:gdLst/>
            <a:ahLst/>
            <a:rect l="l" t="t" r="r" b="b"/>
            <a:pathLst>
              <a:path w="151" h="265">
                <a:moveTo>
                  <a:pt x="151" y="31"/>
                </a:moveTo>
                <a:lnTo>
                  <a:pt x="0" y="265"/>
                </a:lnTo>
                <a:lnTo>
                  <a:pt x="138" y="0"/>
                </a:lnTo>
                <a:lnTo>
                  <a:pt x="151" y="31"/>
                </a:lnTo>
                <a:lnTo>
                  <a:pt x="151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91240" y="4627440"/>
            <a:ext cx="47520" cy="42840"/>
          </a:xfrm>
          <a:custGeom>
            <a:avLst/>
            <a:gdLst/>
            <a:ahLst/>
            <a:rect l="l" t="t" r="r" b="b"/>
            <a:pathLst>
              <a:path w="30" h="53">
                <a:moveTo>
                  <a:pt x="7" y="13"/>
                </a:moveTo>
                <a:lnTo>
                  <a:pt x="0" y="43"/>
                </a:lnTo>
                <a:lnTo>
                  <a:pt x="3" y="53"/>
                </a:lnTo>
                <a:lnTo>
                  <a:pt x="18" y="50"/>
                </a:lnTo>
                <a:lnTo>
                  <a:pt x="27" y="43"/>
                </a:lnTo>
                <a:lnTo>
                  <a:pt x="30" y="33"/>
                </a:lnTo>
                <a:lnTo>
                  <a:pt x="29" y="10"/>
                </a:lnTo>
                <a:lnTo>
                  <a:pt x="25" y="3"/>
                </a:lnTo>
                <a:lnTo>
                  <a:pt x="19" y="0"/>
                </a:lnTo>
                <a:lnTo>
                  <a:pt x="14" y="3"/>
                </a:lnTo>
                <a:lnTo>
                  <a:pt x="7" y="13"/>
                </a:lnTo>
                <a:lnTo>
                  <a:pt x="7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997520" y="4686480"/>
            <a:ext cx="34920" cy="28440"/>
          </a:xfrm>
          <a:custGeom>
            <a:avLst/>
            <a:gdLst/>
            <a:ahLst/>
            <a:rect l="l" t="t" r="r" b="b"/>
            <a:pathLst>
              <a:path w="22" h="37">
                <a:moveTo>
                  <a:pt x="4" y="13"/>
                </a:moveTo>
                <a:lnTo>
                  <a:pt x="0" y="28"/>
                </a:lnTo>
                <a:lnTo>
                  <a:pt x="1" y="37"/>
                </a:lnTo>
                <a:lnTo>
                  <a:pt x="11" y="37"/>
                </a:lnTo>
                <a:lnTo>
                  <a:pt x="18" y="33"/>
                </a:lnTo>
                <a:lnTo>
                  <a:pt x="21" y="26"/>
                </a:lnTo>
                <a:lnTo>
                  <a:pt x="22" y="9"/>
                </a:lnTo>
                <a:lnTo>
                  <a:pt x="20" y="2"/>
                </a:lnTo>
                <a:lnTo>
                  <a:pt x="15" y="0"/>
                </a:lnTo>
                <a:lnTo>
                  <a:pt x="4" y="13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440240" y="4610160"/>
            <a:ext cx="74520" cy="174600"/>
          </a:xfrm>
          <a:custGeom>
            <a:avLst/>
            <a:gdLst/>
            <a:ahLst/>
            <a:rect l="l" t="t" r="r" b="b"/>
            <a:pathLst>
              <a:path w="47" h="220">
                <a:moveTo>
                  <a:pt x="29" y="0"/>
                </a:moveTo>
                <a:lnTo>
                  <a:pt x="26" y="9"/>
                </a:lnTo>
                <a:lnTo>
                  <a:pt x="19" y="33"/>
                </a:lnTo>
                <a:lnTo>
                  <a:pt x="10" y="68"/>
                </a:lnTo>
                <a:lnTo>
                  <a:pt x="3" y="108"/>
                </a:lnTo>
                <a:lnTo>
                  <a:pt x="0" y="147"/>
                </a:lnTo>
                <a:lnTo>
                  <a:pt x="4" y="182"/>
                </a:lnTo>
                <a:lnTo>
                  <a:pt x="10" y="196"/>
                </a:lnTo>
                <a:lnTo>
                  <a:pt x="15" y="203"/>
                </a:lnTo>
                <a:lnTo>
                  <a:pt x="19" y="208"/>
                </a:lnTo>
                <a:lnTo>
                  <a:pt x="31" y="217"/>
                </a:lnTo>
                <a:lnTo>
                  <a:pt x="47" y="220"/>
                </a:lnTo>
                <a:lnTo>
                  <a:pt x="38" y="212"/>
                </a:lnTo>
                <a:lnTo>
                  <a:pt x="22" y="179"/>
                </a:lnTo>
                <a:lnTo>
                  <a:pt x="15" y="111"/>
                </a:lnTo>
                <a:lnTo>
                  <a:pt x="18" y="61"/>
                </a:lnTo>
                <a:lnTo>
                  <a:pt x="22" y="31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to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to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14479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ing Decimals to Fr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981080" y="267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8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3124080" y="2438280"/>
            <a:ext cx="4038840" cy="1114920"/>
            <a:chOff x="3124080" y="2438280"/>
            <a:chExt cx="4038840" cy="1114920"/>
          </a:xfrm>
        </p:grpSpPr>
        <p:sp>
          <p:nvSpPr>
            <p:cNvPr id="863" name=""/>
            <p:cNvSpPr/>
            <p:nvPr/>
          </p:nvSpPr>
          <p:spPr>
            <a:xfrm>
              <a:off x="4800600" y="2521080"/>
              <a:ext cx="236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Eighty eight hundred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24080" y="267480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3624840" y="2438280"/>
              <a:ext cx="880200" cy="1114920"/>
              <a:chOff x="3624840" y="2438280"/>
              <a:chExt cx="880200" cy="1114920"/>
            </a:xfrm>
          </p:grpSpPr>
          <p:sp>
            <p:nvSpPr>
              <p:cNvPr id="866" name=""/>
              <p:cNvSpPr/>
              <p:nvPr/>
            </p:nvSpPr>
            <p:spPr>
              <a:xfrm>
                <a:off x="3741480" y="243828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8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24840" y="2971800"/>
                <a:ext cx="88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84240" y="29718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9" name=""/>
          <p:cNvSpPr/>
          <p:nvPr/>
        </p:nvSpPr>
        <p:spPr>
          <a:xfrm>
            <a:off x="3187800" y="518796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88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5029200" y="4952880"/>
            <a:ext cx="838080" cy="1114920"/>
            <a:chOff x="5029200" y="4952880"/>
            <a:chExt cx="838080" cy="1114920"/>
          </a:xfrm>
        </p:grpSpPr>
        <p:sp>
          <p:nvSpPr>
            <p:cNvPr id="871" name=""/>
            <p:cNvSpPr/>
            <p:nvPr/>
          </p:nvSpPr>
          <p:spPr>
            <a:xfrm>
              <a:off x="5112000" y="49528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12000" y="54864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29200" y="548640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1210320" y="3687840"/>
            <a:ext cx="880200" cy="1114560"/>
            <a:chOff x="1210320" y="3687840"/>
            <a:chExt cx="880200" cy="1114560"/>
          </a:xfrm>
        </p:grpSpPr>
        <p:sp>
          <p:nvSpPr>
            <p:cNvPr id="875" name=""/>
            <p:cNvSpPr/>
            <p:nvPr/>
          </p:nvSpPr>
          <p:spPr>
            <a:xfrm>
              <a:off x="1325520" y="36878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10320" y="422100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68280" y="4221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282760" y="3687840"/>
            <a:ext cx="1992240" cy="1114560"/>
            <a:chOff x="2282760" y="3687840"/>
            <a:chExt cx="1992240" cy="1114560"/>
          </a:xfrm>
        </p:grpSpPr>
        <p:sp>
          <p:nvSpPr>
            <p:cNvPr id="879" name=""/>
            <p:cNvSpPr/>
            <p:nvPr/>
          </p:nvSpPr>
          <p:spPr>
            <a:xfrm>
              <a:off x="2282760" y="392436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2827440" y="3687840"/>
              <a:ext cx="1447560" cy="1114560"/>
              <a:chOff x="2827440" y="3687840"/>
              <a:chExt cx="1447560" cy="1114560"/>
            </a:xfrm>
          </p:grpSpPr>
          <p:sp>
            <p:nvSpPr>
              <p:cNvPr id="881" name=""/>
              <p:cNvSpPr/>
              <p:nvPr/>
            </p:nvSpPr>
            <p:spPr>
              <a:xfrm>
                <a:off x="2930040" y="3687840"/>
                <a:ext cx="124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4 •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930040" y="4221000"/>
                <a:ext cx="124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0 •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827440" y="422100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4" name=""/>
          <p:cNvGrpSpPr/>
          <p:nvPr/>
        </p:nvGrpSpPr>
        <p:grpSpPr>
          <a:xfrm>
            <a:off x="4403880" y="3687840"/>
            <a:ext cx="1352160" cy="1114560"/>
            <a:chOff x="4403880" y="3687840"/>
            <a:chExt cx="1352160" cy="1114560"/>
          </a:xfrm>
        </p:grpSpPr>
        <p:sp>
          <p:nvSpPr>
            <p:cNvPr id="885" name=""/>
            <p:cNvSpPr/>
            <p:nvPr/>
          </p:nvSpPr>
          <p:spPr>
            <a:xfrm>
              <a:off x="4403880" y="392436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4917960" y="3687840"/>
              <a:ext cx="838080" cy="1114560"/>
              <a:chOff x="4917960" y="3687840"/>
              <a:chExt cx="838080" cy="1114560"/>
            </a:xfrm>
          </p:grpSpPr>
          <p:sp>
            <p:nvSpPr>
              <p:cNvPr id="887" name=""/>
              <p:cNvSpPr/>
              <p:nvPr/>
            </p:nvSpPr>
            <p:spPr>
              <a:xfrm>
                <a:off x="5000760" y="36878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4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000760" y="422100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5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917960" y="422100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"/>
          <p:cNvGrpSpPr/>
          <p:nvPr/>
        </p:nvGrpSpPr>
        <p:grpSpPr>
          <a:xfrm>
            <a:off x="5867280" y="3687840"/>
            <a:ext cx="1981440" cy="1114560"/>
            <a:chOff x="5867280" y="3687840"/>
            <a:chExt cx="1981440" cy="1114560"/>
          </a:xfrm>
        </p:grpSpPr>
        <p:sp>
          <p:nvSpPr>
            <p:cNvPr id="891" name=""/>
            <p:cNvSpPr/>
            <p:nvPr/>
          </p:nvSpPr>
          <p:spPr>
            <a:xfrm>
              <a:off x="5867280" y="3924360"/>
              <a:ext cx="3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6400800" y="3687840"/>
              <a:ext cx="1447920" cy="1114560"/>
              <a:chOff x="6400800" y="3687840"/>
              <a:chExt cx="1447920" cy="1114560"/>
            </a:xfrm>
          </p:grpSpPr>
          <p:sp>
            <p:nvSpPr>
              <p:cNvPr id="893" name=""/>
              <p:cNvSpPr/>
              <p:nvPr/>
            </p:nvSpPr>
            <p:spPr>
              <a:xfrm>
                <a:off x="6504120" y="3687840"/>
                <a:ext cx="124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2 •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504120" y="4221000"/>
                <a:ext cx="124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5 • 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400800" y="4221000"/>
                <a:ext cx="144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 to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685800" y="1523880"/>
            <a:ext cx="7620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Changing Fractions to Decimals</a:t>
            </a:r>
            <a:endParaRPr b="0" lang="en-US" sz="24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2435400" y="3637080"/>
            <a:ext cx="4419360" cy="2477880"/>
          </a:xfrm>
          <a:custGeom>
            <a:avLst/>
            <a:gdLst/>
            <a:ahLst/>
            <a:rect l="l" t="t" r="r" b="b"/>
            <a:pathLst>
              <a:path w="5570" h="3123">
                <a:moveTo>
                  <a:pt x="0" y="168"/>
                </a:moveTo>
                <a:lnTo>
                  <a:pt x="126" y="0"/>
                </a:lnTo>
                <a:lnTo>
                  <a:pt x="5425" y="0"/>
                </a:lnTo>
                <a:lnTo>
                  <a:pt x="5570" y="147"/>
                </a:lnTo>
                <a:lnTo>
                  <a:pt x="5549" y="2976"/>
                </a:lnTo>
                <a:lnTo>
                  <a:pt x="5446" y="3123"/>
                </a:lnTo>
                <a:lnTo>
                  <a:pt x="105" y="3123"/>
                </a:lnTo>
                <a:lnTo>
                  <a:pt x="0" y="2976"/>
                </a:lnTo>
                <a:lnTo>
                  <a:pt x="0" y="168"/>
                </a:lnTo>
                <a:lnTo>
                  <a:pt x="0" y="1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62440" y="4903920"/>
            <a:ext cx="644400" cy="1238040"/>
          </a:xfrm>
          <a:custGeom>
            <a:avLst/>
            <a:gdLst/>
            <a:ahLst/>
            <a:rect l="l" t="t" r="r" b="b"/>
            <a:pathLst>
              <a:path w="812" h="1561">
                <a:moveTo>
                  <a:pt x="265" y="0"/>
                </a:moveTo>
                <a:lnTo>
                  <a:pt x="0" y="91"/>
                </a:lnTo>
                <a:lnTo>
                  <a:pt x="690" y="1561"/>
                </a:lnTo>
                <a:lnTo>
                  <a:pt x="812" y="1531"/>
                </a:lnTo>
                <a:lnTo>
                  <a:pt x="145" y="137"/>
                </a:lnTo>
                <a:lnTo>
                  <a:pt x="318" y="85"/>
                </a:lnTo>
                <a:lnTo>
                  <a:pt x="265" y="0"/>
                </a:lnTo>
                <a:lnTo>
                  <a:pt x="265" y="0"/>
                </a:lnTo>
                <a:close/>
              </a:path>
            </a:pathLst>
          </a:custGeom>
          <a:solidFill>
            <a:srgbClr val="d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567320" y="5143680"/>
            <a:ext cx="2239920" cy="998280"/>
          </a:xfrm>
          <a:custGeom>
            <a:avLst/>
            <a:gdLst/>
            <a:ahLst/>
            <a:rect l="l" t="t" r="r" b="b"/>
            <a:pathLst>
              <a:path w="2823" h="1259">
                <a:moveTo>
                  <a:pt x="0" y="1213"/>
                </a:moveTo>
                <a:lnTo>
                  <a:pt x="25" y="1208"/>
                </a:lnTo>
                <a:lnTo>
                  <a:pt x="86" y="1190"/>
                </a:lnTo>
                <a:lnTo>
                  <a:pt x="129" y="1177"/>
                </a:lnTo>
                <a:lnTo>
                  <a:pt x="175" y="1164"/>
                </a:lnTo>
                <a:lnTo>
                  <a:pt x="230" y="1149"/>
                </a:lnTo>
                <a:lnTo>
                  <a:pt x="285" y="1133"/>
                </a:lnTo>
                <a:lnTo>
                  <a:pt x="342" y="1116"/>
                </a:lnTo>
                <a:lnTo>
                  <a:pt x="401" y="1101"/>
                </a:lnTo>
                <a:lnTo>
                  <a:pt x="460" y="1086"/>
                </a:lnTo>
                <a:lnTo>
                  <a:pt x="515" y="1071"/>
                </a:lnTo>
                <a:lnTo>
                  <a:pt x="567" y="1059"/>
                </a:lnTo>
                <a:lnTo>
                  <a:pt x="614" y="1046"/>
                </a:lnTo>
                <a:lnTo>
                  <a:pt x="690" y="1031"/>
                </a:lnTo>
                <a:lnTo>
                  <a:pt x="776" y="1019"/>
                </a:lnTo>
                <a:lnTo>
                  <a:pt x="903" y="1010"/>
                </a:lnTo>
                <a:lnTo>
                  <a:pt x="1215" y="993"/>
                </a:lnTo>
                <a:lnTo>
                  <a:pt x="1620" y="979"/>
                </a:lnTo>
                <a:lnTo>
                  <a:pt x="1637" y="960"/>
                </a:lnTo>
                <a:lnTo>
                  <a:pt x="1656" y="939"/>
                </a:lnTo>
                <a:lnTo>
                  <a:pt x="1669" y="924"/>
                </a:lnTo>
                <a:lnTo>
                  <a:pt x="1682" y="909"/>
                </a:lnTo>
                <a:lnTo>
                  <a:pt x="1700" y="892"/>
                </a:lnTo>
                <a:lnTo>
                  <a:pt x="1717" y="875"/>
                </a:lnTo>
                <a:lnTo>
                  <a:pt x="1734" y="854"/>
                </a:lnTo>
                <a:lnTo>
                  <a:pt x="1755" y="835"/>
                </a:lnTo>
                <a:lnTo>
                  <a:pt x="1776" y="812"/>
                </a:lnTo>
                <a:lnTo>
                  <a:pt x="1796" y="791"/>
                </a:lnTo>
                <a:lnTo>
                  <a:pt x="1819" y="766"/>
                </a:lnTo>
                <a:lnTo>
                  <a:pt x="1833" y="755"/>
                </a:lnTo>
                <a:lnTo>
                  <a:pt x="1842" y="744"/>
                </a:lnTo>
                <a:lnTo>
                  <a:pt x="1855" y="732"/>
                </a:lnTo>
                <a:lnTo>
                  <a:pt x="1867" y="721"/>
                </a:lnTo>
                <a:lnTo>
                  <a:pt x="1893" y="694"/>
                </a:lnTo>
                <a:lnTo>
                  <a:pt x="1905" y="683"/>
                </a:lnTo>
                <a:lnTo>
                  <a:pt x="1920" y="669"/>
                </a:lnTo>
                <a:lnTo>
                  <a:pt x="1931" y="658"/>
                </a:lnTo>
                <a:lnTo>
                  <a:pt x="1945" y="645"/>
                </a:lnTo>
                <a:lnTo>
                  <a:pt x="1958" y="633"/>
                </a:lnTo>
                <a:lnTo>
                  <a:pt x="1973" y="622"/>
                </a:lnTo>
                <a:lnTo>
                  <a:pt x="1987" y="609"/>
                </a:lnTo>
                <a:lnTo>
                  <a:pt x="2000" y="595"/>
                </a:lnTo>
                <a:lnTo>
                  <a:pt x="2015" y="584"/>
                </a:lnTo>
                <a:lnTo>
                  <a:pt x="2028" y="571"/>
                </a:lnTo>
                <a:lnTo>
                  <a:pt x="2042" y="559"/>
                </a:lnTo>
                <a:lnTo>
                  <a:pt x="2057" y="548"/>
                </a:lnTo>
                <a:lnTo>
                  <a:pt x="2070" y="536"/>
                </a:lnTo>
                <a:lnTo>
                  <a:pt x="2083" y="525"/>
                </a:lnTo>
                <a:lnTo>
                  <a:pt x="2112" y="502"/>
                </a:lnTo>
                <a:lnTo>
                  <a:pt x="2141" y="479"/>
                </a:lnTo>
                <a:lnTo>
                  <a:pt x="2167" y="460"/>
                </a:lnTo>
                <a:lnTo>
                  <a:pt x="2196" y="439"/>
                </a:lnTo>
                <a:lnTo>
                  <a:pt x="2224" y="422"/>
                </a:lnTo>
                <a:lnTo>
                  <a:pt x="2251" y="405"/>
                </a:lnTo>
                <a:lnTo>
                  <a:pt x="2277" y="388"/>
                </a:lnTo>
                <a:lnTo>
                  <a:pt x="2304" y="373"/>
                </a:lnTo>
                <a:lnTo>
                  <a:pt x="2327" y="360"/>
                </a:lnTo>
                <a:lnTo>
                  <a:pt x="2350" y="346"/>
                </a:lnTo>
                <a:lnTo>
                  <a:pt x="2372" y="335"/>
                </a:lnTo>
                <a:lnTo>
                  <a:pt x="2414" y="314"/>
                </a:lnTo>
                <a:lnTo>
                  <a:pt x="2452" y="295"/>
                </a:lnTo>
                <a:lnTo>
                  <a:pt x="2486" y="280"/>
                </a:lnTo>
                <a:lnTo>
                  <a:pt x="2517" y="266"/>
                </a:lnTo>
                <a:lnTo>
                  <a:pt x="2564" y="245"/>
                </a:lnTo>
                <a:lnTo>
                  <a:pt x="2640" y="221"/>
                </a:lnTo>
                <a:lnTo>
                  <a:pt x="2490" y="38"/>
                </a:lnTo>
                <a:lnTo>
                  <a:pt x="2580" y="0"/>
                </a:lnTo>
                <a:lnTo>
                  <a:pt x="2823" y="270"/>
                </a:lnTo>
                <a:lnTo>
                  <a:pt x="2804" y="276"/>
                </a:lnTo>
                <a:lnTo>
                  <a:pt x="2751" y="297"/>
                </a:lnTo>
                <a:lnTo>
                  <a:pt x="2713" y="310"/>
                </a:lnTo>
                <a:lnTo>
                  <a:pt x="2671" y="327"/>
                </a:lnTo>
                <a:lnTo>
                  <a:pt x="2623" y="346"/>
                </a:lnTo>
                <a:lnTo>
                  <a:pt x="2574" y="369"/>
                </a:lnTo>
                <a:lnTo>
                  <a:pt x="2549" y="380"/>
                </a:lnTo>
                <a:lnTo>
                  <a:pt x="2523" y="394"/>
                </a:lnTo>
                <a:lnTo>
                  <a:pt x="2494" y="407"/>
                </a:lnTo>
                <a:lnTo>
                  <a:pt x="2466" y="418"/>
                </a:lnTo>
                <a:lnTo>
                  <a:pt x="2439" y="434"/>
                </a:lnTo>
                <a:lnTo>
                  <a:pt x="2412" y="447"/>
                </a:lnTo>
                <a:lnTo>
                  <a:pt x="2384" y="462"/>
                </a:lnTo>
                <a:lnTo>
                  <a:pt x="2357" y="477"/>
                </a:lnTo>
                <a:lnTo>
                  <a:pt x="2331" y="493"/>
                </a:lnTo>
                <a:lnTo>
                  <a:pt x="2304" y="508"/>
                </a:lnTo>
                <a:lnTo>
                  <a:pt x="2279" y="525"/>
                </a:lnTo>
                <a:lnTo>
                  <a:pt x="2253" y="540"/>
                </a:lnTo>
                <a:lnTo>
                  <a:pt x="2230" y="557"/>
                </a:lnTo>
                <a:lnTo>
                  <a:pt x="2205" y="574"/>
                </a:lnTo>
                <a:lnTo>
                  <a:pt x="2184" y="592"/>
                </a:lnTo>
                <a:lnTo>
                  <a:pt x="2163" y="609"/>
                </a:lnTo>
                <a:lnTo>
                  <a:pt x="2142" y="628"/>
                </a:lnTo>
                <a:lnTo>
                  <a:pt x="2121" y="645"/>
                </a:lnTo>
                <a:lnTo>
                  <a:pt x="2101" y="666"/>
                </a:lnTo>
                <a:lnTo>
                  <a:pt x="2080" y="685"/>
                </a:lnTo>
                <a:lnTo>
                  <a:pt x="2057" y="706"/>
                </a:lnTo>
                <a:lnTo>
                  <a:pt x="2036" y="725"/>
                </a:lnTo>
                <a:lnTo>
                  <a:pt x="2015" y="746"/>
                </a:lnTo>
                <a:lnTo>
                  <a:pt x="1992" y="766"/>
                </a:lnTo>
                <a:lnTo>
                  <a:pt x="1971" y="787"/>
                </a:lnTo>
                <a:lnTo>
                  <a:pt x="1950" y="808"/>
                </a:lnTo>
                <a:lnTo>
                  <a:pt x="1930" y="829"/>
                </a:lnTo>
                <a:lnTo>
                  <a:pt x="1909" y="850"/>
                </a:lnTo>
                <a:lnTo>
                  <a:pt x="1888" y="871"/>
                </a:lnTo>
                <a:lnTo>
                  <a:pt x="1867" y="892"/>
                </a:lnTo>
                <a:lnTo>
                  <a:pt x="1848" y="911"/>
                </a:lnTo>
                <a:lnTo>
                  <a:pt x="1829" y="930"/>
                </a:lnTo>
                <a:lnTo>
                  <a:pt x="1812" y="949"/>
                </a:lnTo>
                <a:lnTo>
                  <a:pt x="1795" y="968"/>
                </a:lnTo>
                <a:lnTo>
                  <a:pt x="1776" y="985"/>
                </a:lnTo>
                <a:lnTo>
                  <a:pt x="1760" y="1002"/>
                </a:lnTo>
                <a:lnTo>
                  <a:pt x="1745" y="1017"/>
                </a:lnTo>
                <a:lnTo>
                  <a:pt x="1732" y="1033"/>
                </a:lnTo>
                <a:lnTo>
                  <a:pt x="1719" y="1048"/>
                </a:lnTo>
                <a:lnTo>
                  <a:pt x="1707" y="1059"/>
                </a:lnTo>
                <a:lnTo>
                  <a:pt x="1686" y="1082"/>
                </a:lnTo>
                <a:lnTo>
                  <a:pt x="1671" y="1097"/>
                </a:lnTo>
                <a:lnTo>
                  <a:pt x="1658" y="1113"/>
                </a:lnTo>
                <a:lnTo>
                  <a:pt x="1350" y="1126"/>
                </a:lnTo>
                <a:lnTo>
                  <a:pt x="1086" y="1141"/>
                </a:lnTo>
                <a:lnTo>
                  <a:pt x="863" y="1160"/>
                </a:lnTo>
                <a:lnTo>
                  <a:pt x="690" y="1187"/>
                </a:lnTo>
                <a:lnTo>
                  <a:pt x="610" y="1202"/>
                </a:lnTo>
                <a:lnTo>
                  <a:pt x="536" y="1219"/>
                </a:lnTo>
                <a:lnTo>
                  <a:pt x="475" y="1234"/>
                </a:lnTo>
                <a:lnTo>
                  <a:pt x="428" y="1246"/>
                </a:lnTo>
                <a:lnTo>
                  <a:pt x="386" y="1259"/>
                </a:lnTo>
                <a:lnTo>
                  <a:pt x="0" y="1213"/>
                </a:lnTo>
                <a:lnTo>
                  <a:pt x="0" y="1213"/>
                </a:lnTo>
                <a:close/>
              </a:path>
            </a:pathLst>
          </a:custGeom>
          <a:solidFill>
            <a:srgbClr val="d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927600" y="3940200"/>
            <a:ext cx="2792160" cy="2139840"/>
          </a:xfrm>
          <a:custGeom>
            <a:avLst/>
            <a:gdLst/>
            <a:ahLst/>
            <a:rect l="l" t="t" r="r" b="b"/>
            <a:pathLst>
              <a:path w="3519" h="2694">
                <a:moveTo>
                  <a:pt x="236" y="777"/>
                </a:moveTo>
                <a:lnTo>
                  <a:pt x="768" y="644"/>
                </a:lnTo>
                <a:lnTo>
                  <a:pt x="1144" y="599"/>
                </a:lnTo>
                <a:lnTo>
                  <a:pt x="1648" y="724"/>
                </a:lnTo>
                <a:lnTo>
                  <a:pt x="1914" y="340"/>
                </a:lnTo>
                <a:lnTo>
                  <a:pt x="2270" y="102"/>
                </a:lnTo>
                <a:lnTo>
                  <a:pt x="2692" y="0"/>
                </a:lnTo>
                <a:lnTo>
                  <a:pt x="3475" y="1141"/>
                </a:lnTo>
                <a:lnTo>
                  <a:pt x="3304" y="1236"/>
                </a:lnTo>
                <a:lnTo>
                  <a:pt x="3511" y="1422"/>
                </a:lnTo>
                <a:lnTo>
                  <a:pt x="3348" y="1466"/>
                </a:lnTo>
                <a:lnTo>
                  <a:pt x="3519" y="1709"/>
                </a:lnTo>
                <a:lnTo>
                  <a:pt x="3002" y="1977"/>
                </a:lnTo>
                <a:lnTo>
                  <a:pt x="2623" y="2325"/>
                </a:lnTo>
                <a:lnTo>
                  <a:pt x="2388" y="2532"/>
                </a:lnTo>
                <a:lnTo>
                  <a:pt x="1546" y="2540"/>
                </a:lnTo>
                <a:lnTo>
                  <a:pt x="1004" y="2694"/>
                </a:lnTo>
                <a:lnTo>
                  <a:pt x="673" y="2686"/>
                </a:lnTo>
                <a:lnTo>
                  <a:pt x="0" y="1289"/>
                </a:lnTo>
                <a:lnTo>
                  <a:pt x="169" y="1228"/>
                </a:lnTo>
                <a:lnTo>
                  <a:pt x="126" y="998"/>
                </a:lnTo>
                <a:lnTo>
                  <a:pt x="295" y="954"/>
                </a:lnTo>
                <a:lnTo>
                  <a:pt x="236" y="777"/>
                </a:lnTo>
                <a:lnTo>
                  <a:pt x="236" y="7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430360" y="3646440"/>
            <a:ext cx="1162080" cy="1274760"/>
          </a:xfrm>
          <a:custGeom>
            <a:avLst/>
            <a:gdLst/>
            <a:ahLst/>
            <a:rect l="l" t="t" r="r" b="b"/>
            <a:pathLst>
              <a:path w="1463" h="1607">
                <a:moveTo>
                  <a:pt x="1233" y="45"/>
                </a:moveTo>
                <a:lnTo>
                  <a:pt x="1418" y="266"/>
                </a:lnTo>
                <a:lnTo>
                  <a:pt x="1463" y="622"/>
                </a:lnTo>
                <a:lnTo>
                  <a:pt x="1433" y="954"/>
                </a:lnTo>
                <a:lnTo>
                  <a:pt x="1248" y="1266"/>
                </a:lnTo>
                <a:lnTo>
                  <a:pt x="967" y="1496"/>
                </a:lnTo>
                <a:lnTo>
                  <a:pt x="621" y="1607"/>
                </a:lnTo>
                <a:lnTo>
                  <a:pt x="235" y="1563"/>
                </a:lnTo>
                <a:lnTo>
                  <a:pt x="0" y="1445"/>
                </a:lnTo>
                <a:lnTo>
                  <a:pt x="36" y="156"/>
                </a:lnTo>
                <a:lnTo>
                  <a:pt x="176" y="0"/>
                </a:lnTo>
                <a:lnTo>
                  <a:pt x="1233" y="45"/>
                </a:lnTo>
                <a:lnTo>
                  <a:pt x="1233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382840" y="3627360"/>
            <a:ext cx="1268280" cy="1336680"/>
          </a:xfrm>
          <a:custGeom>
            <a:avLst/>
            <a:gdLst/>
            <a:ahLst/>
            <a:rect l="l" t="t" r="r" b="b"/>
            <a:pathLst>
              <a:path w="1596" h="1683">
                <a:moveTo>
                  <a:pt x="1138" y="0"/>
                </a:moveTo>
                <a:lnTo>
                  <a:pt x="1347" y="0"/>
                </a:lnTo>
                <a:lnTo>
                  <a:pt x="1507" y="219"/>
                </a:lnTo>
                <a:lnTo>
                  <a:pt x="1553" y="340"/>
                </a:lnTo>
                <a:lnTo>
                  <a:pt x="1583" y="468"/>
                </a:lnTo>
                <a:lnTo>
                  <a:pt x="1596" y="599"/>
                </a:lnTo>
                <a:lnTo>
                  <a:pt x="1594" y="728"/>
                </a:lnTo>
                <a:lnTo>
                  <a:pt x="1575" y="858"/>
                </a:lnTo>
                <a:lnTo>
                  <a:pt x="1539" y="983"/>
                </a:lnTo>
                <a:lnTo>
                  <a:pt x="1490" y="1105"/>
                </a:lnTo>
                <a:lnTo>
                  <a:pt x="1423" y="1217"/>
                </a:lnTo>
                <a:lnTo>
                  <a:pt x="1345" y="1320"/>
                </a:lnTo>
                <a:lnTo>
                  <a:pt x="1254" y="1415"/>
                </a:lnTo>
                <a:lnTo>
                  <a:pt x="1153" y="1496"/>
                </a:lnTo>
                <a:lnTo>
                  <a:pt x="1041" y="1563"/>
                </a:lnTo>
                <a:lnTo>
                  <a:pt x="922" y="1618"/>
                </a:lnTo>
                <a:lnTo>
                  <a:pt x="798" y="1656"/>
                </a:lnTo>
                <a:lnTo>
                  <a:pt x="669" y="1677"/>
                </a:lnTo>
                <a:lnTo>
                  <a:pt x="538" y="1683"/>
                </a:lnTo>
                <a:lnTo>
                  <a:pt x="408" y="1671"/>
                </a:lnTo>
                <a:lnTo>
                  <a:pt x="281" y="1645"/>
                </a:lnTo>
                <a:lnTo>
                  <a:pt x="157" y="1603"/>
                </a:lnTo>
                <a:lnTo>
                  <a:pt x="0" y="1523"/>
                </a:lnTo>
                <a:lnTo>
                  <a:pt x="34" y="1398"/>
                </a:lnTo>
                <a:lnTo>
                  <a:pt x="89" y="1363"/>
                </a:lnTo>
                <a:lnTo>
                  <a:pt x="182" y="1417"/>
                </a:lnTo>
                <a:lnTo>
                  <a:pt x="283" y="1457"/>
                </a:lnTo>
                <a:lnTo>
                  <a:pt x="385" y="1485"/>
                </a:lnTo>
                <a:lnTo>
                  <a:pt x="494" y="1500"/>
                </a:lnTo>
                <a:lnTo>
                  <a:pt x="600" y="1502"/>
                </a:lnTo>
                <a:lnTo>
                  <a:pt x="709" y="1489"/>
                </a:lnTo>
                <a:lnTo>
                  <a:pt x="813" y="1464"/>
                </a:lnTo>
                <a:lnTo>
                  <a:pt x="914" y="1426"/>
                </a:lnTo>
                <a:lnTo>
                  <a:pt x="1009" y="1375"/>
                </a:lnTo>
                <a:lnTo>
                  <a:pt x="1098" y="1312"/>
                </a:lnTo>
                <a:lnTo>
                  <a:pt x="1176" y="1240"/>
                </a:lnTo>
                <a:lnTo>
                  <a:pt x="1247" y="1158"/>
                </a:lnTo>
                <a:lnTo>
                  <a:pt x="1305" y="1067"/>
                </a:lnTo>
                <a:lnTo>
                  <a:pt x="1353" y="970"/>
                </a:lnTo>
                <a:lnTo>
                  <a:pt x="1387" y="869"/>
                </a:lnTo>
                <a:lnTo>
                  <a:pt x="1408" y="762"/>
                </a:lnTo>
                <a:lnTo>
                  <a:pt x="1418" y="654"/>
                </a:lnTo>
                <a:lnTo>
                  <a:pt x="1412" y="546"/>
                </a:lnTo>
                <a:lnTo>
                  <a:pt x="1393" y="441"/>
                </a:lnTo>
                <a:lnTo>
                  <a:pt x="1361" y="337"/>
                </a:lnTo>
                <a:lnTo>
                  <a:pt x="1317" y="238"/>
                </a:lnTo>
                <a:lnTo>
                  <a:pt x="1262" y="146"/>
                </a:lnTo>
                <a:lnTo>
                  <a:pt x="1241" y="125"/>
                </a:lnTo>
                <a:lnTo>
                  <a:pt x="1231" y="114"/>
                </a:lnTo>
                <a:lnTo>
                  <a:pt x="1222" y="101"/>
                </a:lnTo>
                <a:lnTo>
                  <a:pt x="1212" y="87"/>
                </a:lnTo>
                <a:lnTo>
                  <a:pt x="1201" y="74"/>
                </a:lnTo>
                <a:lnTo>
                  <a:pt x="1190" y="61"/>
                </a:lnTo>
                <a:lnTo>
                  <a:pt x="1178" y="47"/>
                </a:lnTo>
                <a:lnTo>
                  <a:pt x="1167" y="34"/>
                </a:lnTo>
                <a:lnTo>
                  <a:pt x="1159" y="23"/>
                </a:lnTo>
                <a:lnTo>
                  <a:pt x="1144" y="8"/>
                </a:lnTo>
                <a:lnTo>
                  <a:pt x="1138" y="0"/>
                </a:lnTo>
                <a:lnTo>
                  <a:pt x="1138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436840" y="4803840"/>
            <a:ext cx="1584360" cy="1285920"/>
          </a:xfrm>
          <a:custGeom>
            <a:avLst/>
            <a:gdLst/>
            <a:ahLst/>
            <a:rect l="l" t="t" r="r" b="b"/>
            <a:pathLst>
              <a:path w="1996" h="1620">
                <a:moveTo>
                  <a:pt x="557" y="118"/>
                </a:moveTo>
                <a:lnTo>
                  <a:pt x="0" y="1008"/>
                </a:lnTo>
                <a:lnTo>
                  <a:pt x="0" y="1514"/>
                </a:lnTo>
                <a:lnTo>
                  <a:pt x="91" y="1620"/>
                </a:lnTo>
                <a:lnTo>
                  <a:pt x="1295" y="1620"/>
                </a:lnTo>
                <a:lnTo>
                  <a:pt x="1996" y="540"/>
                </a:lnTo>
                <a:lnTo>
                  <a:pt x="1080" y="0"/>
                </a:lnTo>
                <a:lnTo>
                  <a:pt x="557" y="118"/>
                </a:lnTo>
                <a:lnTo>
                  <a:pt x="557" y="118"/>
                </a:lnTo>
                <a:close/>
              </a:path>
            </a:pathLst>
          </a:cu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033800" y="3933720"/>
            <a:ext cx="2706840" cy="1932120"/>
          </a:xfrm>
          <a:custGeom>
            <a:avLst/>
            <a:gdLst/>
            <a:ahLst/>
            <a:rect l="l" t="t" r="r" b="b"/>
            <a:pathLst>
              <a:path w="3410" h="2434">
                <a:moveTo>
                  <a:pt x="2557" y="0"/>
                </a:moveTo>
                <a:lnTo>
                  <a:pt x="2466" y="19"/>
                </a:lnTo>
                <a:lnTo>
                  <a:pt x="2367" y="42"/>
                </a:lnTo>
                <a:lnTo>
                  <a:pt x="2308" y="57"/>
                </a:lnTo>
                <a:lnTo>
                  <a:pt x="2247" y="74"/>
                </a:lnTo>
                <a:lnTo>
                  <a:pt x="2182" y="97"/>
                </a:lnTo>
                <a:lnTo>
                  <a:pt x="2118" y="120"/>
                </a:lnTo>
                <a:lnTo>
                  <a:pt x="2083" y="133"/>
                </a:lnTo>
                <a:lnTo>
                  <a:pt x="2051" y="146"/>
                </a:lnTo>
                <a:lnTo>
                  <a:pt x="2021" y="162"/>
                </a:lnTo>
                <a:lnTo>
                  <a:pt x="1988" y="177"/>
                </a:lnTo>
                <a:lnTo>
                  <a:pt x="1958" y="192"/>
                </a:lnTo>
                <a:lnTo>
                  <a:pt x="1928" y="209"/>
                </a:lnTo>
                <a:lnTo>
                  <a:pt x="1899" y="226"/>
                </a:lnTo>
                <a:lnTo>
                  <a:pt x="1871" y="245"/>
                </a:lnTo>
                <a:lnTo>
                  <a:pt x="1846" y="264"/>
                </a:lnTo>
                <a:lnTo>
                  <a:pt x="1821" y="285"/>
                </a:lnTo>
                <a:lnTo>
                  <a:pt x="1798" y="306"/>
                </a:lnTo>
                <a:lnTo>
                  <a:pt x="1777" y="329"/>
                </a:lnTo>
                <a:lnTo>
                  <a:pt x="1760" y="350"/>
                </a:lnTo>
                <a:lnTo>
                  <a:pt x="1741" y="373"/>
                </a:lnTo>
                <a:lnTo>
                  <a:pt x="1722" y="394"/>
                </a:lnTo>
                <a:lnTo>
                  <a:pt x="1705" y="415"/>
                </a:lnTo>
                <a:lnTo>
                  <a:pt x="1688" y="436"/>
                </a:lnTo>
                <a:lnTo>
                  <a:pt x="1673" y="456"/>
                </a:lnTo>
                <a:lnTo>
                  <a:pt x="1658" y="477"/>
                </a:lnTo>
                <a:lnTo>
                  <a:pt x="1644" y="496"/>
                </a:lnTo>
                <a:lnTo>
                  <a:pt x="1616" y="533"/>
                </a:lnTo>
                <a:lnTo>
                  <a:pt x="1593" y="569"/>
                </a:lnTo>
                <a:lnTo>
                  <a:pt x="1551" y="631"/>
                </a:lnTo>
                <a:lnTo>
                  <a:pt x="1521" y="683"/>
                </a:lnTo>
                <a:lnTo>
                  <a:pt x="1498" y="723"/>
                </a:lnTo>
                <a:lnTo>
                  <a:pt x="1481" y="755"/>
                </a:lnTo>
                <a:lnTo>
                  <a:pt x="1466" y="749"/>
                </a:lnTo>
                <a:lnTo>
                  <a:pt x="1424" y="730"/>
                </a:lnTo>
                <a:lnTo>
                  <a:pt x="1392" y="719"/>
                </a:lnTo>
                <a:lnTo>
                  <a:pt x="1354" y="707"/>
                </a:lnTo>
                <a:lnTo>
                  <a:pt x="1312" y="694"/>
                </a:lnTo>
                <a:lnTo>
                  <a:pt x="1264" y="681"/>
                </a:lnTo>
                <a:lnTo>
                  <a:pt x="1211" y="669"/>
                </a:lnTo>
                <a:lnTo>
                  <a:pt x="1154" y="656"/>
                </a:lnTo>
                <a:lnTo>
                  <a:pt x="1091" y="647"/>
                </a:lnTo>
                <a:lnTo>
                  <a:pt x="1027" y="639"/>
                </a:lnTo>
                <a:lnTo>
                  <a:pt x="888" y="631"/>
                </a:lnTo>
                <a:lnTo>
                  <a:pt x="738" y="641"/>
                </a:lnTo>
                <a:lnTo>
                  <a:pt x="589" y="660"/>
                </a:lnTo>
                <a:lnTo>
                  <a:pt x="517" y="673"/>
                </a:lnTo>
                <a:lnTo>
                  <a:pt x="451" y="688"/>
                </a:lnTo>
                <a:lnTo>
                  <a:pt x="386" y="704"/>
                </a:lnTo>
                <a:lnTo>
                  <a:pt x="323" y="719"/>
                </a:lnTo>
                <a:lnTo>
                  <a:pt x="268" y="734"/>
                </a:lnTo>
                <a:lnTo>
                  <a:pt x="217" y="749"/>
                </a:lnTo>
                <a:lnTo>
                  <a:pt x="167" y="764"/>
                </a:lnTo>
                <a:lnTo>
                  <a:pt x="126" y="778"/>
                </a:lnTo>
                <a:lnTo>
                  <a:pt x="59" y="801"/>
                </a:lnTo>
                <a:lnTo>
                  <a:pt x="17" y="818"/>
                </a:lnTo>
                <a:lnTo>
                  <a:pt x="0" y="823"/>
                </a:lnTo>
                <a:lnTo>
                  <a:pt x="768" y="2345"/>
                </a:lnTo>
                <a:lnTo>
                  <a:pt x="825" y="2329"/>
                </a:lnTo>
                <a:lnTo>
                  <a:pt x="892" y="2316"/>
                </a:lnTo>
                <a:lnTo>
                  <a:pt x="977" y="2299"/>
                </a:lnTo>
                <a:lnTo>
                  <a:pt x="1082" y="2282"/>
                </a:lnTo>
                <a:lnTo>
                  <a:pt x="1200" y="2265"/>
                </a:lnTo>
                <a:lnTo>
                  <a:pt x="1327" y="2252"/>
                </a:lnTo>
                <a:lnTo>
                  <a:pt x="1462" y="2246"/>
                </a:lnTo>
                <a:lnTo>
                  <a:pt x="1604" y="2248"/>
                </a:lnTo>
                <a:lnTo>
                  <a:pt x="1745" y="2269"/>
                </a:lnTo>
                <a:lnTo>
                  <a:pt x="1815" y="2284"/>
                </a:lnTo>
                <a:lnTo>
                  <a:pt x="1884" y="2299"/>
                </a:lnTo>
                <a:lnTo>
                  <a:pt x="1950" y="2316"/>
                </a:lnTo>
                <a:lnTo>
                  <a:pt x="2011" y="2335"/>
                </a:lnTo>
                <a:lnTo>
                  <a:pt x="2068" y="2352"/>
                </a:lnTo>
                <a:lnTo>
                  <a:pt x="2121" y="2371"/>
                </a:lnTo>
                <a:lnTo>
                  <a:pt x="2169" y="2388"/>
                </a:lnTo>
                <a:lnTo>
                  <a:pt x="2209" y="2404"/>
                </a:lnTo>
                <a:lnTo>
                  <a:pt x="2264" y="2426"/>
                </a:lnTo>
                <a:lnTo>
                  <a:pt x="2285" y="2434"/>
                </a:lnTo>
                <a:lnTo>
                  <a:pt x="2294" y="2406"/>
                </a:lnTo>
                <a:lnTo>
                  <a:pt x="2306" y="2371"/>
                </a:lnTo>
                <a:lnTo>
                  <a:pt x="2323" y="2328"/>
                </a:lnTo>
                <a:lnTo>
                  <a:pt x="2344" y="2272"/>
                </a:lnTo>
                <a:lnTo>
                  <a:pt x="2369" y="2212"/>
                </a:lnTo>
                <a:lnTo>
                  <a:pt x="2382" y="2179"/>
                </a:lnTo>
                <a:lnTo>
                  <a:pt x="2397" y="2145"/>
                </a:lnTo>
                <a:lnTo>
                  <a:pt x="2412" y="2109"/>
                </a:lnTo>
                <a:lnTo>
                  <a:pt x="2429" y="2073"/>
                </a:lnTo>
                <a:lnTo>
                  <a:pt x="2447" y="2037"/>
                </a:lnTo>
                <a:lnTo>
                  <a:pt x="2466" y="1999"/>
                </a:lnTo>
                <a:lnTo>
                  <a:pt x="2485" y="1962"/>
                </a:lnTo>
                <a:lnTo>
                  <a:pt x="2507" y="1924"/>
                </a:lnTo>
                <a:lnTo>
                  <a:pt x="2528" y="1886"/>
                </a:lnTo>
                <a:lnTo>
                  <a:pt x="2549" y="1848"/>
                </a:lnTo>
                <a:lnTo>
                  <a:pt x="2574" y="1812"/>
                </a:lnTo>
                <a:lnTo>
                  <a:pt x="2597" y="1776"/>
                </a:lnTo>
                <a:lnTo>
                  <a:pt x="2621" y="1742"/>
                </a:lnTo>
                <a:lnTo>
                  <a:pt x="2635" y="1725"/>
                </a:lnTo>
                <a:lnTo>
                  <a:pt x="2648" y="1708"/>
                </a:lnTo>
                <a:lnTo>
                  <a:pt x="2661" y="1692"/>
                </a:lnTo>
                <a:lnTo>
                  <a:pt x="2675" y="1675"/>
                </a:lnTo>
                <a:lnTo>
                  <a:pt x="2688" y="1660"/>
                </a:lnTo>
                <a:lnTo>
                  <a:pt x="2701" y="1645"/>
                </a:lnTo>
                <a:lnTo>
                  <a:pt x="2715" y="1632"/>
                </a:lnTo>
                <a:lnTo>
                  <a:pt x="2728" y="1614"/>
                </a:lnTo>
                <a:lnTo>
                  <a:pt x="2743" y="1601"/>
                </a:lnTo>
                <a:lnTo>
                  <a:pt x="2758" y="1588"/>
                </a:lnTo>
                <a:lnTo>
                  <a:pt x="2772" y="1575"/>
                </a:lnTo>
                <a:lnTo>
                  <a:pt x="2787" y="1563"/>
                </a:lnTo>
                <a:lnTo>
                  <a:pt x="2802" y="1552"/>
                </a:lnTo>
                <a:lnTo>
                  <a:pt x="2817" y="1540"/>
                </a:lnTo>
                <a:lnTo>
                  <a:pt x="2846" y="1519"/>
                </a:lnTo>
                <a:lnTo>
                  <a:pt x="2876" y="1500"/>
                </a:lnTo>
                <a:lnTo>
                  <a:pt x="2907" y="1481"/>
                </a:lnTo>
                <a:lnTo>
                  <a:pt x="2935" y="1462"/>
                </a:lnTo>
                <a:lnTo>
                  <a:pt x="2964" y="1445"/>
                </a:lnTo>
                <a:lnTo>
                  <a:pt x="2990" y="1428"/>
                </a:lnTo>
                <a:lnTo>
                  <a:pt x="3019" y="1413"/>
                </a:lnTo>
                <a:lnTo>
                  <a:pt x="3045" y="1398"/>
                </a:lnTo>
                <a:lnTo>
                  <a:pt x="3072" y="1384"/>
                </a:lnTo>
                <a:lnTo>
                  <a:pt x="3097" y="1371"/>
                </a:lnTo>
                <a:lnTo>
                  <a:pt x="3123" y="1358"/>
                </a:lnTo>
                <a:lnTo>
                  <a:pt x="3146" y="1346"/>
                </a:lnTo>
                <a:lnTo>
                  <a:pt x="3194" y="1324"/>
                </a:lnTo>
                <a:lnTo>
                  <a:pt x="3235" y="1306"/>
                </a:lnTo>
                <a:lnTo>
                  <a:pt x="3273" y="1289"/>
                </a:lnTo>
                <a:lnTo>
                  <a:pt x="3308" y="1276"/>
                </a:lnTo>
                <a:lnTo>
                  <a:pt x="3363" y="1257"/>
                </a:lnTo>
                <a:lnTo>
                  <a:pt x="3410" y="1242"/>
                </a:lnTo>
                <a:lnTo>
                  <a:pt x="3365" y="1158"/>
                </a:lnTo>
                <a:lnTo>
                  <a:pt x="3342" y="1166"/>
                </a:lnTo>
                <a:lnTo>
                  <a:pt x="3279" y="1185"/>
                </a:lnTo>
                <a:lnTo>
                  <a:pt x="3235" y="1200"/>
                </a:lnTo>
                <a:lnTo>
                  <a:pt x="3188" y="1217"/>
                </a:lnTo>
                <a:lnTo>
                  <a:pt x="3133" y="1238"/>
                </a:lnTo>
                <a:lnTo>
                  <a:pt x="3076" y="1261"/>
                </a:lnTo>
                <a:lnTo>
                  <a:pt x="3045" y="1276"/>
                </a:lnTo>
                <a:lnTo>
                  <a:pt x="3015" y="1287"/>
                </a:lnTo>
                <a:lnTo>
                  <a:pt x="2984" y="1303"/>
                </a:lnTo>
                <a:lnTo>
                  <a:pt x="2954" y="1318"/>
                </a:lnTo>
                <a:lnTo>
                  <a:pt x="2924" y="1333"/>
                </a:lnTo>
                <a:lnTo>
                  <a:pt x="2893" y="1350"/>
                </a:lnTo>
                <a:lnTo>
                  <a:pt x="2863" y="1367"/>
                </a:lnTo>
                <a:lnTo>
                  <a:pt x="2832" y="1384"/>
                </a:lnTo>
                <a:lnTo>
                  <a:pt x="2804" y="1403"/>
                </a:lnTo>
                <a:lnTo>
                  <a:pt x="2775" y="1422"/>
                </a:lnTo>
                <a:lnTo>
                  <a:pt x="2749" y="1441"/>
                </a:lnTo>
                <a:lnTo>
                  <a:pt x="2724" y="1462"/>
                </a:lnTo>
                <a:lnTo>
                  <a:pt x="2697" y="1481"/>
                </a:lnTo>
                <a:lnTo>
                  <a:pt x="2675" y="1504"/>
                </a:lnTo>
                <a:lnTo>
                  <a:pt x="2652" y="1525"/>
                </a:lnTo>
                <a:lnTo>
                  <a:pt x="2633" y="1546"/>
                </a:lnTo>
                <a:lnTo>
                  <a:pt x="2614" y="1571"/>
                </a:lnTo>
                <a:lnTo>
                  <a:pt x="2604" y="1582"/>
                </a:lnTo>
                <a:lnTo>
                  <a:pt x="2595" y="1595"/>
                </a:lnTo>
                <a:lnTo>
                  <a:pt x="2557" y="1647"/>
                </a:lnTo>
                <a:lnTo>
                  <a:pt x="2519" y="1700"/>
                </a:lnTo>
                <a:lnTo>
                  <a:pt x="2481" y="1757"/>
                </a:lnTo>
                <a:lnTo>
                  <a:pt x="2443" y="1816"/>
                </a:lnTo>
                <a:lnTo>
                  <a:pt x="2409" y="1873"/>
                </a:lnTo>
                <a:lnTo>
                  <a:pt x="2374" y="1932"/>
                </a:lnTo>
                <a:lnTo>
                  <a:pt x="2342" y="1985"/>
                </a:lnTo>
                <a:lnTo>
                  <a:pt x="2312" y="2039"/>
                </a:lnTo>
                <a:lnTo>
                  <a:pt x="2285" y="2088"/>
                </a:lnTo>
                <a:lnTo>
                  <a:pt x="2262" y="2132"/>
                </a:lnTo>
                <a:lnTo>
                  <a:pt x="2241" y="2170"/>
                </a:lnTo>
                <a:lnTo>
                  <a:pt x="2213" y="2225"/>
                </a:lnTo>
                <a:lnTo>
                  <a:pt x="2203" y="2246"/>
                </a:lnTo>
                <a:lnTo>
                  <a:pt x="2182" y="2238"/>
                </a:lnTo>
                <a:lnTo>
                  <a:pt x="2127" y="2221"/>
                </a:lnTo>
                <a:lnTo>
                  <a:pt x="2087" y="2212"/>
                </a:lnTo>
                <a:lnTo>
                  <a:pt x="2042" y="2200"/>
                </a:lnTo>
                <a:lnTo>
                  <a:pt x="1992" y="2187"/>
                </a:lnTo>
                <a:lnTo>
                  <a:pt x="1935" y="2174"/>
                </a:lnTo>
                <a:lnTo>
                  <a:pt x="1878" y="2160"/>
                </a:lnTo>
                <a:lnTo>
                  <a:pt x="1815" y="2149"/>
                </a:lnTo>
                <a:lnTo>
                  <a:pt x="1753" y="2139"/>
                </a:lnTo>
                <a:lnTo>
                  <a:pt x="1688" y="2130"/>
                </a:lnTo>
                <a:lnTo>
                  <a:pt x="1559" y="2118"/>
                </a:lnTo>
                <a:lnTo>
                  <a:pt x="1437" y="2118"/>
                </a:lnTo>
                <a:lnTo>
                  <a:pt x="1209" y="2141"/>
                </a:lnTo>
                <a:lnTo>
                  <a:pt x="1105" y="2156"/>
                </a:lnTo>
                <a:lnTo>
                  <a:pt x="1013" y="2170"/>
                </a:lnTo>
                <a:lnTo>
                  <a:pt x="933" y="2185"/>
                </a:lnTo>
                <a:lnTo>
                  <a:pt x="875" y="2196"/>
                </a:lnTo>
                <a:lnTo>
                  <a:pt x="821" y="2208"/>
                </a:lnTo>
                <a:lnTo>
                  <a:pt x="160" y="869"/>
                </a:lnTo>
                <a:lnTo>
                  <a:pt x="219" y="850"/>
                </a:lnTo>
                <a:lnTo>
                  <a:pt x="285" y="831"/>
                </a:lnTo>
                <a:lnTo>
                  <a:pt x="327" y="820"/>
                </a:lnTo>
                <a:lnTo>
                  <a:pt x="373" y="808"/>
                </a:lnTo>
                <a:lnTo>
                  <a:pt x="422" y="797"/>
                </a:lnTo>
                <a:lnTo>
                  <a:pt x="475" y="784"/>
                </a:lnTo>
                <a:lnTo>
                  <a:pt x="532" y="772"/>
                </a:lnTo>
                <a:lnTo>
                  <a:pt x="593" y="763"/>
                </a:lnTo>
                <a:lnTo>
                  <a:pt x="721" y="744"/>
                </a:lnTo>
                <a:lnTo>
                  <a:pt x="852" y="732"/>
                </a:lnTo>
                <a:lnTo>
                  <a:pt x="983" y="732"/>
                </a:lnTo>
                <a:lnTo>
                  <a:pt x="1110" y="744"/>
                </a:lnTo>
                <a:lnTo>
                  <a:pt x="1226" y="764"/>
                </a:lnTo>
                <a:lnTo>
                  <a:pt x="1329" y="789"/>
                </a:lnTo>
                <a:lnTo>
                  <a:pt x="1374" y="803"/>
                </a:lnTo>
                <a:lnTo>
                  <a:pt x="1416" y="816"/>
                </a:lnTo>
                <a:lnTo>
                  <a:pt x="1481" y="839"/>
                </a:lnTo>
                <a:lnTo>
                  <a:pt x="1523" y="856"/>
                </a:lnTo>
                <a:lnTo>
                  <a:pt x="1538" y="863"/>
                </a:lnTo>
                <a:lnTo>
                  <a:pt x="1568" y="803"/>
                </a:lnTo>
                <a:lnTo>
                  <a:pt x="1604" y="740"/>
                </a:lnTo>
                <a:lnTo>
                  <a:pt x="1625" y="702"/>
                </a:lnTo>
                <a:lnTo>
                  <a:pt x="1650" y="660"/>
                </a:lnTo>
                <a:lnTo>
                  <a:pt x="1681" y="618"/>
                </a:lnTo>
                <a:lnTo>
                  <a:pt x="1711" y="572"/>
                </a:lnTo>
                <a:lnTo>
                  <a:pt x="1728" y="552"/>
                </a:lnTo>
                <a:lnTo>
                  <a:pt x="1747" y="529"/>
                </a:lnTo>
                <a:lnTo>
                  <a:pt x="1764" y="506"/>
                </a:lnTo>
                <a:lnTo>
                  <a:pt x="1783" y="485"/>
                </a:lnTo>
                <a:lnTo>
                  <a:pt x="1802" y="462"/>
                </a:lnTo>
                <a:lnTo>
                  <a:pt x="1823" y="439"/>
                </a:lnTo>
                <a:lnTo>
                  <a:pt x="1844" y="420"/>
                </a:lnTo>
                <a:lnTo>
                  <a:pt x="1865" y="397"/>
                </a:lnTo>
                <a:lnTo>
                  <a:pt x="1886" y="378"/>
                </a:lnTo>
                <a:lnTo>
                  <a:pt x="1909" y="359"/>
                </a:lnTo>
                <a:lnTo>
                  <a:pt x="1931" y="340"/>
                </a:lnTo>
                <a:lnTo>
                  <a:pt x="1956" y="323"/>
                </a:lnTo>
                <a:lnTo>
                  <a:pt x="1981" y="308"/>
                </a:lnTo>
                <a:lnTo>
                  <a:pt x="2004" y="291"/>
                </a:lnTo>
                <a:lnTo>
                  <a:pt x="2030" y="278"/>
                </a:lnTo>
                <a:lnTo>
                  <a:pt x="2055" y="262"/>
                </a:lnTo>
                <a:lnTo>
                  <a:pt x="2082" y="249"/>
                </a:lnTo>
                <a:lnTo>
                  <a:pt x="2106" y="238"/>
                </a:lnTo>
                <a:lnTo>
                  <a:pt x="2133" y="224"/>
                </a:lnTo>
                <a:lnTo>
                  <a:pt x="2160" y="213"/>
                </a:lnTo>
                <a:lnTo>
                  <a:pt x="2211" y="192"/>
                </a:lnTo>
                <a:lnTo>
                  <a:pt x="2262" y="173"/>
                </a:lnTo>
                <a:lnTo>
                  <a:pt x="2312" y="158"/>
                </a:lnTo>
                <a:lnTo>
                  <a:pt x="2359" y="143"/>
                </a:lnTo>
                <a:lnTo>
                  <a:pt x="2403" y="131"/>
                </a:lnTo>
                <a:lnTo>
                  <a:pt x="2443" y="122"/>
                </a:lnTo>
                <a:lnTo>
                  <a:pt x="2509" y="107"/>
                </a:lnTo>
                <a:lnTo>
                  <a:pt x="2570" y="97"/>
                </a:lnTo>
                <a:lnTo>
                  <a:pt x="2557" y="0"/>
                </a:lnTo>
                <a:lnTo>
                  <a:pt x="255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18120" y="3933720"/>
            <a:ext cx="735120" cy="990720"/>
          </a:xfrm>
          <a:custGeom>
            <a:avLst/>
            <a:gdLst/>
            <a:ahLst/>
            <a:rect l="l" t="t" r="r" b="b"/>
            <a:pathLst>
              <a:path w="925" h="1249">
                <a:moveTo>
                  <a:pt x="0" y="70"/>
                </a:moveTo>
                <a:lnTo>
                  <a:pt x="785" y="1211"/>
                </a:lnTo>
                <a:lnTo>
                  <a:pt x="925" y="1249"/>
                </a:lnTo>
                <a:lnTo>
                  <a:pt x="57" y="0"/>
                </a:lnTo>
                <a:lnTo>
                  <a:pt x="0" y="70"/>
                </a:lnTo>
                <a:lnTo>
                  <a:pt x="0" y="7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38760" y="4700520"/>
            <a:ext cx="2820960" cy="1335240"/>
          </a:xfrm>
          <a:custGeom>
            <a:avLst/>
            <a:gdLst/>
            <a:ahLst/>
            <a:rect l="l" t="t" r="r" b="b"/>
            <a:pathLst>
              <a:path w="3553" h="1681">
                <a:moveTo>
                  <a:pt x="257" y="0"/>
                </a:moveTo>
                <a:lnTo>
                  <a:pt x="0" y="76"/>
                </a:lnTo>
                <a:lnTo>
                  <a:pt x="774" y="1681"/>
                </a:lnTo>
                <a:lnTo>
                  <a:pt x="795" y="1673"/>
                </a:lnTo>
                <a:lnTo>
                  <a:pt x="850" y="1656"/>
                </a:lnTo>
                <a:lnTo>
                  <a:pt x="890" y="1645"/>
                </a:lnTo>
                <a:lnTo>
                  <a:pt x="936" y="1632"/>
                </a:lnTo>
                <a:lnTo>
                  <a:pt x="987" y="1616"/>
                </a:lnTo>
                <a:lnTo>
                  <a:pt x="1044" y="1601"/>
                </a:lnTo>
                <a:lnTo>
                  <a:pt x="1105" y="1584"/>
                </a:lnTo>
                <a:lnTo>
                  <a:pt x="1169" y="1569"/>
                </a:lnTo>
                <a:lnTo>
                  <a:pt x="1236" y="1554"/>
                </a:lnTo>
                <a:lnTo>
                  <a:pt x="1304" y="1540"/>
                </a:lnTo>
                <a:lnTo>
                  <a:pt x="1373" y="1527"/>
                </a:lnTo>
                <a:lnTo>
                  <a:pt x="1441" y="1514"/>
                </a:lnTo>
                <a:lnTo>
                  <a:pt x="1576" y="1498"/>
                </a:lnTo>
                <a:lnTo>
                  <a:pt x="1715" y="1493"/>
                </a:lnTo>
                <a:lnTo>
                  <a:pt x="1861" y="1498"/>
                </a:lnTo>
                <a:lnTo>
                  <a:pt x="2010" y="1514"/>
                </a:lnTo>
                <a:lnTo>
                  <a:pt x="2150" y="1531"/>
                </a:lnTo>
                <a:lnTo>
                  <a:pt x="2274" y="1552"/>
                </a:lnTo>
                <a:lnTo>
                  <a:pt x="2373" y="1569"/>
                </a:lnTo>
                <a:lnTo>
                  <a:pt x="2462" y="1588"/>
                </a:lnTo>
                <a:lnTo>
                  <a:pt x="2475" y="1559"/>
                </a:lnTo>
                <a:lnTo>
                  <a:pt x="2492" y="1527"/>
                </a:lnTo>
                <a:lnTo>
                  <a:pt x="2515" y="1485"/>
                </a:lnTo>
                <a:lnTo>
                  <a:pt x="2542" y="1434"/>
                </a:lnTo>
                <a:lnTo>
                  <a:pt x="2574" y="1377"/>
                </a:lnTo>
                <a:lnTo>
                  <a:pt x="2610" y="1314"/>
                </a:lnTo>
                <a:lnTo>
                  <a:pt x="2650" y="1245"/>
                </a:lnTo>
                <a:lnTo>
                  <a:pt x="2673" y="1213"/>
                </a:lnTo>
                <a:lnTo>
                  <a:pt x="2694" y="1177"/>
                </a:lnTo>
                <a:lnTo>
                  <a:pt x="2717" y="1143"/>
                </a:lnTo>
                <a:lnTo>
                  <a:pt x="2741" y="1107"/>
                </a:lnTo>
                <a:lnTo>
                  <a:pt x="2764" y="1072"/>
                </a:lnTo>
                <a:lnTo>
                  <a:pt x="2789" y="1038"/>
                </a:lnTo>
                <a:lnTo>
                  <a:pt x="2814" y="1006"/>
                </a:lnTo>
                <a:lnTo>
                  <a:pt x="2825" y="989"/>
                </a:lnTo>
                <a:lnTo>
                  <a:pt x="2838" y="972"/>
                </a:lnTo>
                <a:lnTo>
                  <a:pt x="2852" y="956"/>
                </a:lnTo>
                <a:lnTo>
                  <a:pt x="2863" y="941"/>
                </a:lnTo>
                <a:lnTo>
                  <a:pt x="2876" y="926"/>
                </a:lnTo>
                <a:lnTo>
                  <a:pt x="2890" y="911"/>
                </a:lnTo>
                <a:lnTo>
                  <a:pt x="2901" y="896"/>
                </a:lnTo>
                <a:lnTo>
                  <a:pt x="2914" y="880"/>
                </a:lnTo>
                <a:lnTo>
                  <a:pt x="2928" y="867"/>
                </a:lnTo>
                <a:lnTo>
                  <a:pt x="2941" y="854"/>
                </a:lnTo>
                <a:lnTo>
                  <a:pt x="2954" y="840"/>
                </a:lnTo>
                <a:lnTo>
                  <a:pt x="2968" y="827"/>
                </a:lnTo>
                <a:lnTo>
                  <a:pt x="2992" y="804"/>
                </a:lnTo>
                <a:lnTo>
                  <a:pt x="3019" y="782"/>
                </a:lnTo>
                <a:lnTo>
                  <a:pt x="3044" y="762"/>
                </a:lnTo>
                <a:lnTo>
                  <a:pt x="3070" y="745"/>
                </a:lnTo>
                <a:lnTo>
                  <a:pt x="3095" y="728"/>
                </a:lnTo>
                <a:lnTo>
                  <a:pt x="3120" y="713"/>
                </a:lnTo>
                <a:lnTo>
                  <a:pt x="3144" y="698"/>
                </a:lnTo>
                <a:lnTo>
                  <a:pt x="3169" y="685"/>
                </a:lnTo>
                <a:lnTo>
                  <a:pt x="3192" y="671"/>
                </a:lnTo>
                <a:lnTo>
                  <a:pt x="3217" y="658"/>
                </a:lnTo>
                <a:lnTo>
                  <a:pt x="3238" y="645"/>
                </a:lnTo>
                <a:lnTo>
                  <a:pt x="3283" y="624"/>
                </a:lnTo>
                <a:lnTo>
                  <a:pt x="3325" y="605"/>
                </a:lnTo>
                <a:lnTo>
                  <a:pt x="3365" y="588"/>
                </a:lnTo>
                <a:lnTo>
                  <a:pt x="3401" y="572"/>
                </a:lnTo>
                <a:lnTo>
                  <a:pt x="3435" y="559"/>
                </a:lnTo>
                <a:lnTo>
                  <a:pt x="3464" y="550"/>
                </a:lnTo>
                <a:lnTo>
                  <a:pt x="3511" y="534"/>
                </a:lnTo>
                <a:lnTo>
                  <a:pt x="3553" y="525"/>
                </a:lnTo>
                <a:lnTo>
                  <a:pt x="3340" y="304"/>
                </a:lnTo>
                <a:lnTo>
                  <a:pt x="3243" y="365"/>
                </a:lnTo>
                <a:lnTo>
                  <a:pt x="3378" y="487"/>
                </a:lnTo>
                <a:lnTo>
                  <a:pt x="3321" y="506"/>
                </a:lnTo>
                <a:lnTo>
                  <a:pt x="3257" y="529"/>
                </a:lnTo>
                <a:lnTo>
                  <a:pt x="3220" y="544"/>
                </a:lnTo>
                <a:lnTo>
                  <a:pt x="3181" y="561"/>
                </a:lnTo>
                <a:lnTo>
                  <a:pt x="3139" y="578"/>
                </a:lnTo>
                <a:lnTo>
                  <a:pt x="3097" y="601"/>
                </a:lnTo>
                <a:lnTo>
                  <a:pt x="3053" y="624"/>
                </a:lnTo>
                <a:lnTo>
                  <a:pt x="3032" y="633"/>
                </a:lnTo>
                <a:lnTo>
                  <a:pt x="3011" y="646"/>
                </a:lnTo>
                <a:lnTo>
                  <a:pt x="2990" y="660"/>
                </a:lnTo>
                <a:lnTo>
                  <a:pt x="2970" y="673"/>
                </a:lnTo>
                <a:lnTo>
                  <a:pt x="2951" y="686"/>
                </a:lnTo>
                <a:lnTo>
                  <a:pt x="2932" y="700"/>
                </a:lnTo>
                <a:lnTo>
                  <a:pt x="2912" y="715"/>
                </a:lnTo>
                <a:lnTo>
                  <a:pt x="2893" y="730"/>
                </a:lnTo>
                <a:lnTo>
                  <a:pt x="2878" y="745"/>
                </a:lnTo>
                <a:lnTo>
                  <a:pt x="2863" y="761"/>
                </a:lnTo>
                <a:lnTo>
                  <a:pt x="2848" y="776"/>
                </a:lnTo>
                <a:lnTo>
                  <a:pt x="2831" y="795"/>
                </a:lnTo>
                <a:lnTo>
                  <a:pt x="2814" y="816"/>
                </a:lnTo>
                <a:lnTo>
                  <a:pt x="2797" y="837"/>
                </a:lnTo>
                <a:lnTo>
                  <a:pt x="2779" y="859"/>
                </a:lnTo>
                <a:lnTo>
                  <a:pt x="2770" y="871"/>
                </a:lnTo>
                <a:lnTo>
                  <a:pt x="2760" y="884"/>
                </a:lnTo>
                <a:lnTo>
                  <a:pt x="2722" y="934"/>
                </a:lnTo>
                <a:lnTo>
                  <a:pt x="2684" y="989"/>
                </a:lnTo>
                <a:lnTo>
                  <a:pt x="2648" y="1044"/>
                </a:lnTo>
                <a:lnTo>
                  <a:pt x="2610" y="1099"/>
                </a:lnTo>
                <a:lnTo>
                  <a:pt x="2574" y="1154"/>
                </a:lnTo>
                <a:lnTo>
                  <a:pt x="2540" y="1207"/>
                </a:lnTo>
                <a:lnTo>
                  <a:pt x="2508" y="1257"/>
                </a:lnTo>
                <a:lnTo>
                  <a:pt x="2479" y="1303"/>
                </a:lnTo>
                <a:lnTo>
                  <a:pt x="2454" y="1342"/>
                </a:lnTo>
                <a:lnTo>
                  <a:pt x="2418" y="1400"/>
                </a:lnTo>
                <a:lnTo>
                  <a:pt x="2405" y="1422"/>
                </a:lnTo>
                <a:lnTo>
                  <a:pt x="2384" y="1417"/>
                </a:lnTo>
                <a:lnTo>
                  <a:pt x="2327" y="1401"/>
                </a:lnTo>
                <a:lnTo>
                  <a:pt x="2236" y="1382"/>
                </a:lnTo>
                <a:lnTo>
                  <a:pt x="2114" y="1363"/>
                </a:lnTo>
                <a:lnTo>
                  <a:pt x="1968" y="1348"/>
                </a:lnTo>
                <a:lnTo>
                  <a:pt x="1802" y="1342"/>
                </a:lnTo>
                <a:lnTo>
                  <a:pt x="1618" y="1350"/>
                </a:lnTo>
                <a:lnTo>
                  <a:pt x="1424" y="1377"/>
                </a:lnTo>
                <a:lnTo>
                  <a:pt x="1329" y="1396"/>
                </a:lnTo>
                <a:lnTo>
                  <a:pt x="1247" y="1413"/>
                </a:lnTo>
                <a:lnTo>
                  <a:pt x="1171" y="1428"/>
                </a:lnTo>
                <a:lnTo>
                  <a:pt x="1107" y="1443"/>
                </a:lnTo>
                <a:lnTo>
                  <a:pt x="1052" y="1457"/>
                </a:lnTo>
                <a:lnTo>
                  <a:pt x="1004" y="1468"/>
                </a:lnTo>
                <a:lnTo>
                  <a:pt x="930" y="1491"/>
                </a:lnTo>
                <a:lnTo>
                  <a:pt x="835" y="1529"/>
                </a:lnTo>
                <a:lnTo>
                  <a:pt x="152" y="129"/>
                </a:lnTo>
                <a:lnTo>
                  <a:pt x="295" y="91"/>
                </a:lnTo>
                <a:lnTo>
                  <a:pt x="257" y="0"/>
                </a:lnTo>
                <a:lnTo>
                  <a:pt x="25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759040" y="4079880"/>
            <a:ext cx="177840" cy="17784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161" y="212"/>
                </a:moveTo>
                <a:lnTo>
                  <a:pt x="148" y="216"/>
                </a:lnTo>
                <a:lnTo>
                  <a:pt x="137" y="220"/>
                </a:lnTo>
                <a:lnTo>
                  <a:pt x="122" y="224"/>
                </a:lnTo>
                <a:lnTo>
                  <a:pt x="108" y="224"/>
                </a:lnTo>
                <a:lnTo>
                  <a:pt x="93" y="222"/>
                </a:lnTo>
                <a:lnTo>
                  <a:pt x="80" y="220"/>
                </a:lnTo>
                <a:lnTo>
                  <a:pt x="66" y="214"/>
                </a:lnTo>
                <a:lnTo>
                  <a:pt x="55" y="209"/>
                </a:lnTo>
                <a:lnTo>
                  <a:pt x="44" y="199"/>
                </a:lnTo>
                <a:lnTo>
                  <a:pt x="34" y="190"/>
                </a:lnTo>
                <a:lnTo>
                  <a:pt x="25" y="180"/>
                </a:lnTo>
                <a:lnTo>
                  <a:pt x="15" y="169"/>
                </a:lnTo>
                <a:lnTo>
                  <a:pt x="9" y="155"/>
                </a:lnTo>
                <a:lnTo>
                  <a:pt x="4" y="142"/>
                </a:lnTo>
                <a:lnTo>
                  <a:pt x="2" y="129"/>
                </a:lnTo>
                <a:lnTo>
                  <a:pt x="0" y="114"/>
                </a:lnTo>
                <a:lnTo>
                  <a:pt x="2" y="100"/>
                </a:lnTo>
                <a:lnTo>
                  <a:pt x="4" y="87"/>
                </a:lnTo>
                <a:lnTo>
                  <a:pt x="8" y="72"/>
                </a:lnTo>
                <a:lnTo>
                  <a:pt x="13" y="60"/>
                </a:lnTo>
                <a:lnTo>
                  <a:pt x="21" y="49"/>
                </a:lnTo>
                <a:lnTo>
                  <a:pt x="28" y="38"/>
                </a:lnTo>
                <a:lnTo>
                  <a:pt x="40" y="28"/>
                </a:lnTo>
                <a:lnTo>
                  <a:pt x="51" y="19"/>
                </a:lnTo>
                <a:lnTo>
                  <a:pt x="63" y="13"/>
                </a:lnTo>
                <a:lnTo>
                  <a:pt x="76" y="7"/>
                </a:lnTo>
                <a:lnTo>
                  <a:pt x="89" y="3"/>
                </a:lnTo>
                <a:lnTo>
                  <a:pt x="103" y="0"/>
                </a:lnTo>
                <a:lnTo>
                  <a:pt x="118" y="0"/>
                </a:lnTo>
                <a:lnTo>
                  <a:pt x="131" y="1"/>
                </a:lnTo>
                <a:lnTo>
                  <a:pt x="144" y="5"/>
                </a:lnTo>
                <a:lnTo>
                  <a:pt x="158" y="11"/>
                </a:lnTo>
                <a:lnTo>
                  <a:pt x="169" y="17"/>
                </a:lnTo>
                <a:lnTo>
                  <a:pt x="182" y="24"/>
                </a:lnTo>
                <a:lnTo>
                  <a:pt x="192" y="34"/>
                </a:lnTo>
                <a:lnTo>
                  <a:pt x="201" y="43"/>
                </a:lnTo>
                <a:lnTo>
                  <a:pt x="209" y="57"/>
                </a:lnTo>
                <a:lnTo>
                  <a:pt x="215" y="68"/>
                </a:lnTo>
                <a:lnTo>
                  <a:pt x="219" y="81"/>
                </a:lnTo>
                <a:lnTo>
                  <a:pt x="222" y="95"/>
                </a:lnTo>
                <a:lnTo>
                  <a:pt x="224" y="110"/>
                </a:lnTo>
                <a:lnTo>
                  <a:pt x="222" y="123"/>
                </a:lnTo>
                <a:lnTo>
                  <a:pt x="220" y="136"/>
                </a:lnTo>
                <a:lnTo>
                  <a:pt x="217" y="150"/>
                </a:lnTo>
                <a:lnTo>
                  <a:pt x="211" y="163"/>
                </a:lnTo>
                <a:lnTo>
                  <a:pt x="203" y="174"/>
                </a:lnTo>
                <a:lnTo>
                  <a:pt x="196" y="186"/>
                </a:lnTo>
                <a:lnTo>
                  <a:pt x="184" y="195"/>
                </a:lnTo>
                <a:lnTo>
                  <a:pt x="173" y="205"/>
                </a:lnTo>
                <a:lnTo>
                  <a:pt x="161" y="212"/>
                </a:lnTo>
                <a:lnTo>
                  <a:pt x="161" y="21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825640" y="4678200"/>
            <a:ext cx="68400" cy="146160"/>
          </a:xfrm>
          <a:custGeom>
            <a:avLst/>
            <a:gdLst/>
            <a:ahLst/>
            <a:rect l="l" t="t" r="r" b="b"/>
            <a:pathLst>
              <a:path w="85" h="185">
                <a:moveTo>
                  <a:pt x="0" y="185"/>
                </a:moveTo>
                <a:lnTo>
                  <a:pt x="85" y="185"/>
                </a:lnTo>
                <a:lnTo>
                  <a:pt x="85" y="0"/>
                </a:lnTo>
                <a:lnTo>
                  <a:pt x="0" y="0"/>
                </a:lnTo>
                <a:lnTo>
                  <a:pt x="0" y="185"/>
                </a:lnTo>
                <a:lnTo>
                  <a:pt x="0" y="18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289320" y="4168800"/>
            <a:ext cx="182520" cy="61920"/>
          </a:xfrm>
          <a:custGeom>
            <a:avLst/>
            <a:gdLst/>
            <a:ahLst/>
            <a:rect l="l" t="t" r="r" b="b"/>
            <a:pathLst>
              <a:path w="230" h="78">
                <a:moveTo>
                  <a:pt x="0" y="78"/>
                </a:moveTo>
                <a:lnTo>
                  <a:pt x="230" y="78"/>
                </a:lnTo>
                <a:lnTo>
                  <a:pt x="230" y="0"/>
                </a:lnTo>
                <a:lnTo>
                  <a:pt x="0" y="0"/>
                </a:lnTo>
                <a:lnTo>
                  <a:pt x="0" y="78"/>
                </a:lnTo>
                <a:lnTo>
                  <a:pt x="0" y="78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090960" y="4519440"/>
            <a:ext cx="136440" cy="176400"/>
          </a:xfrm>
          <a:custGeom>
            <a:avLst/>
            <a:gdLst/>
            <a:ahLst/>
            <a:rect l="l" t="t" r="r" b="b"/>
            <a:pathLst>
              <a:path w="171" h="220">
                <a:moveTo>
                  <a:pt x="51" y="0"/>
                </a:moveTo>
                <a:lnTo>
                  <a:pt x="0" y="57"/>
                </a:lnTo>
                <a:lnTo>
                  <a:pt x="122" y="220"/>
                </a:lnTo>
                <a:lnTo>
                  <a:pt x="171" y="171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147840" y="3772080"/>
            <a:ext cx="163800" cy="141120"/>
          </a:xfrm>
          <a:custGeom>
            <a:avLst/>
            <a:gdLst/>
            <a:ahLst/>
            <a:rect l="l" t="t" r="r" b="b"/>
            <a:pathLst>
              <a:path w="206" h="178">
                <a:moveTo>
                  <a:pt x="0" y="114"/>
                </a:moveTo>
                <a:lnTo>
                  <a:pt x="57" y="178"/>
                </a:lnTo>
                <a:lnTo>
                  <a:pt x="206" y="43"/>
                </a:lnTo>
                <a:lnTo>
                  <a:pt x="164" y="0"/>
                </a:lnTo>
                <a:lnTo>
                  <a:pt x="0" y="114"/>
                </a:lnTo>
                <a:lnTo>
                  <a:pt x="0" y="11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486160" y="4570560"/>
            <a:ext cx="125280" cy="125280"/>
          </a:xfrm>
          <a:custGeom>
            <a:avLst/>
            <a:gdLst/>
            <a:ahLst/>
            <a:rect l="l" t="t" r="r" b="b"/>
            <a:pathLst>
              <a:path w="158" h="157">
                <a:moveTo>
                  <a:pt x="158" y="51"/>
                </a:moveTo>
                <a:lnTo>
                  <a:pt x="36" y="157"/>
                </a:lnTo>
                <a:lnTo>
                  <a:pt x="0" y="100"/>
                </a:lnTo>
                <a:lnTo>
                  <a:pt x="114" y="0"/>
                </a:lnTo>
                <a:lnTo>
                  <a:pt x="158" y="51"/>
                </a:lnTo>
                <a:lnTo>
                  <a:pt x="158" y="51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183280" y="4543560"/>
            <a:ext cx="639720" cy="1226880"/>
          </a:xfrm>
          <a:custGeom>
            <a:avLst/>
            <a:gdLst/>
            <a:ahLst/>
            <a:rect l="l" t="t" r="r" b="b"/>
            <a:pathLst>
              <a:path w="806" h="1546">
                <a:moveTo>
                  <a:pt x="100" y="0"/>
                </a:moveTo>
                <a:lnTo>
                  <a:pt x="806" y="1506"/>
                </a:lnTo>
                <a:lnTo>
                  <a:pt x="716" y="1546"/>
                </a:lnTo>
                <a:lnTo>
                  <a:pt x="0" y="16"/>
                </a:lnTo>
                <a:lnTo>
                  <a:pt x="100" y="0"/>
                </a:lnTo>
                <a:lnTo>
                  <a:pt x="10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17760" y="4938840"/>
            <a:ext cx="554040" cy="807840"/>
          </a:xfrm>
          <a:custGeom>
            <a:avLst/>
            <a:gdLst/>
            <a:ahLst/>
            <a:rect l="l" t="t" r="r" b="b"/>
            <a:pathLst>
              <a:path w="698" h="1019">
                <a:moveTo>
                  <a:pt x="561" y="17"/>
                </a:moveTo>
                <a:lnTo>
                  <a:pt x="0" y="869"/>
                </a:lnTo>
                <a:lnTo>
                  <a:pt x="29" y="1019"/>
                </a:lnTo>
                <a:lnTo>
                  <a:pt x="698" y="0"/>
                </a:lnTo>
                <a:lnTo>
                  <a:pt x="561" y="17"/>
                </a:lnTo>
                <a:lnTo>
                  <a:pt x="561" y="17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847960" y="4118040"/>
            <a:ext cx="463680" cy="368280"/>
          </a:xfrm>
          <a:custGeom>
            <a:avLst/>
            <a:gdLst/>
            <a:ahLst/>
            <a:rect l="l" t="t" r="r" b="b"/>
            <a:pathLst>
              <a:path w="584" h="464">
                <a:moveTo>
                  <a:pt x="0" y="108"/>
                </a:moveTo>
                <a:lnTo>
                  <a:pt x="549" y="464"/>
                </a:lnTo>
                <a:lnTo>
                  <a:pt x="584" y="422"/>
                </a:lnTo>
                <a:lnTo>
                  <a:pt x="36" y="0"/>
                </a:lnTo>
                <a:lnTo>
                  <a:pt x="0" y="108"/>
                </a:lnTo>
                <a:lnTo>
                  <a:pt x="0" y="108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508120" y="4179960"/>
            <a:ext cx="339840" cy="334800"/>
          </a:xfrm>
          <a:custGeom>
            <a:avLst/>
            <a:gdLst/>
            <a:ahLst/>
            <a:rect l="l" t="t" r="r" b="b"/>
            <a:pathLst>
              <a:path w="428" h="422">
                <a:moveTo>
                  <a:pt x="343" y="0"/>
                </a:moveTo>
                <a:lnTo>
                  <a:pt x="0" y="373"/>
                </a:lnTo>
                <a:lnTo>
                  <a:pt x="29" y="422"/>
                </a:lnTo>
                <a:lnTo>
                  <a:pt x="428" y="72"/>
                </a:lnTo>
                <a:lnTo>
                  <a:pt x="343" y="0"/>
                </a:lnTo>
                <a:lnTo>
                  <a:pt x="343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16240" y="4808520"/>
            <a:ext cx="785880" cy="498600"/>
          </a:xfrm>
          <a:custGeom>
            <a:avLst/>
            <a:gdLst/>
            <a:ahLst/>
            <a:rect l="l" t="t" r="r" b="b"/>
            <a:pathLst>
              <a:path w="990" h="627">
                <a:moveTo>
                  <a:pt x="0" y="86"/>
                </a:moveTo>
                <a:lnTo>
                  <a:pt x="990" y="627"/>
                </a:lnTo>
                <a:lnTo>
                  <a:pt x="990" y="508"/>
                </a:lnTo>
                <a:lnTo>
                  <a:pt x="78" y="0"/>
                </a:lnTo>
                <a:lnTo>
                  <a:pt x="0" y="86"/>
                </a:lnTo>
                <a:lnTo>
                  <a:pt x="0" y="86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452760" y="5227560"/>
            <a:ext cx="658800" cy="900360"/>
          </a:xfrm>
          <a:custGeom>
            <a:avLst/>
            <a:gdLst/>
            <a:ahLst/>
            <a:rect l="l" t="t" r="r" b="b"/>
            <a:pathLst>
              <a:path w="829" h="1133">
                <a:moveTo>
                  <a:pt x="749" y="0"/>
                </a:moveTo>
                <a:lnTo>
                  <a:pt x="0" y="1133"/>
                </a:lnTo>
                <a:lnTo>
                  <a:pt x="150" y="1112"/>
                </a:lnTo>
                <a:lnTo>
                  <a:pt x="829" y="106"/>
                </a:lnTo>
                <a:lnTo>
                  <a:pt x="749" y="0"/>
                </a:lnTo>
                <a:lnTo>
                  <a:pt x="749" y="0"/>
                </a:lnTo>
                <a:close/>
              </a:path>
            </a:pathLst>
          </a:custGeom>
          <a:solidFill>
            <a:srgbClr val="d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57480" y="5011560"/>
            <a:ext cx="673200" cy="403560"/>
          </a:xfrm>
          <a:custGeom>
            <a:avLst/>
            <a:gdLst/>
            <a:ahLst/>
            <a:rect l="l" t="t" r="r" b="b"/>
            <a:pathLst>
              <a:path w="848" h="507">
                <a:moveTo>
                  <a:pt x="36" y="0"/>
                </a:moveTo>
                <a:lnTo>
                  <a:pt x="848" y="443"/>
                </a:lnTo>
                <a:lnTo>
                  <a:pt x="806" y="507"/>
                </a:lnTo>
                <a:lnTo>
                  <a:pt x="0" y="5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992320" y="5108400"/>
            <a:ext cx="674640" cy="401760"/>
          </a:xfrm>
          <a:custGeom>
            <a:avLst/>
            <a:gdLst/>
            <a:ahLst/>
            <a:rect l="l" t="t" r="r" b="b"/>
            <a:pathLst>
              <a:path w="849" h="506">
                <a:moveTo>
                  <a:pt x="36" y="0"/>
                </a:moveTo>
                <a:lnTo>
                  <a:pt x="849" y="442"/>
                </a:lnTo>
                <a:lnTo>
                  <a:pt x="806" y="506"/>
                </a:lnTo>
                <a:lnTo>
                  <a:pt x="0" y="56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927520" y="5207040"/>
            <a:ext cx="674640" cy="403200"/>
          </a:xfrm>
          <a:custGeom>
            <a:avLst/>
            <a:gdLst/>
            <a:ahLst/>
            <a:rect l="l" t="t" r="r" b="b"/>
            <a:pathLst>
              <a:path w="850" h="508">
                <a:moveTo>
                  <a:pt x="36" y="0"/>
                </a:moveTo>
                <a:lnTo>
                  <a:pt x="850" y="443"/>
                </a:lnTo>
                <a:lnTo>
                  <a:pt x="806" y="508"/>
                </a:lnTo>
                <a:lnTo>
                  <a:pt x="0" y="5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59120" y="5315040"/>
            <a:ext cx="673200" cy="401400"/>
          </a:xfrm>
          <a:custGeom>
            <a:avLst/>
            <a:gdLst/>
            <a:ahLst/>
            <a:rect l="l" t="t" r="r" b="b"/>
            <a:pathLst>
              <a:path w="848" h="506">
                <a:moveTo>
                  <a:pt x="35" y="0"/>
                </a:moveTo>
                <a:lnTo>
                  <a:pt x="848" y="443"/>
                </a:lnTo>
                <a:lnTo>
                  <a:pt x="804" y="506"/>
                </a:lnTo>
                <a:lnTo>
                  <a:pt x="0" y="57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793960" y="5415120"/>
            <a:ext cx="673200" cy="403200"/>
          </a:xfrm>
          <a:custGeom>
            <a:avLst/>
            <a:gdLst/>
            <a:ahLst/>
            <a:rect l="l" t="t" r="r" b="b"/>
            <a:pathLst>
              <a:path w="847" h="508">
                <a:moveTo>
                  <a:pt x="36" y="0"/>
                </a:moveTo>
                <a:lnTo>
                  <a:pt x="847" y="443"/>
                </a:lnTo>
                <a:lnTo>
                  <a:pt x="804" y="508"/>
                </a:lnTo>
                <a:lnTo>
                  <a:pt x="0" y="5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22680" y="5524560"/>
            <a:ext cx="672840" cy="401400"/>
          </a:xfrm>
          <a:custGeom>
            <a:avLst/>
            <a:gdLst/>
            <a:ahLst/>
            <a:rect l="l" t="t" r="r" b="b"/>
            <a:pathLst>
              <a:path w="848" h="506">
                <a:moveTo>
                  <a:pt x="36" y="0"/>
                </a:moveTo>
                <a:lnTo>
                  <a:pt x="848" y="441"/>
                </a:lnTo>
                <a:lnTo>
                  <a:pt x="806" y="506"/>
                </a:lnTo>
                <a:lnTo>
                  <a:pt x="0" y="5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654280" y="5621400"/>
            <a:ext cx="673200" cy="399960"/>
          </a:xfrm>
          <a:custGeom>
            <a:avLst/>
            <a:gdLst/>
            <a:ahLst/>
            <a:rect l="l" t="t" r="r" b="b"/>
            <a:pathLst>
              <a:path w="848" h="506">
                <a:moveTo>
                  <a:pt x="36" y="0"/>
                </a:moveTo>
                <a:lnTo>
                  <a:pt x="848" y="441"/>
                </a:lnTo>
                <a:lnTo>
                  <a:pt x="806" y="506"/>
                </a:lnTo>
                <a:lnTo>
                  <a:pt x="0" y="55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84440" y="5718240"/>
            <a:ext cx="674640" cy="403200"/>
          </a:xfrm>
          <a:custGeom>
            <a:avLst/>
            <a:gdLst/>
            <a:ahLst/>
            <a:rect l="l" t="t" r="r" b="b"/>
            <a:pathLst>
              <a:path w="850" h="507">
                <a:moveTo>
                  <a:pt x="37" y="0"/>
                </a:moveTo>
                <a:lnTo>
                  <a:pt x="850" y="443"/>
                </a:lnTo>
                <a:lnTo>
                  <a:pt x="806" y="507"/>
                </a:lnTo>
                <a:lnTo>
                  <a:pt x="0" y="57"/>
                </a:lnTo>
                <a:lnTo>
                  <a:pt x="37" y="0"/>
                </a:lnTo>
                <a:lnTo>
                  <a:pt x="37" y="0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523960" y="5827680"/>
            <a:ext cx="628920" cy="330120"/>
          </a:xfrm>
          <a:custGeom>
            <a:avLst/>
            <a:gdLst/>
            <a:ahLst/>
            <a:rect l="l" t="t" r="r" b="b"/>
            <a:pathLst>
              <a:path w="793" h="416">
                <a:moveTo>
                  <a:pt x="35" y="0"/>
                </a:moveTo>
                <a:lnTo>
                  <a:pt x="793" y="416"/>
                </a:lnTo>
                <a:lnTo>
                  <a:pt x="618" y="397"/>
                </a:lnTo>
                <a:lnTo>
                  <a:pt x="0" y="57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443320" y="5945040"/>
            <a:ext cx="336240" cy="182880"/>
          </a:xfrm>
          <a:custGeom>
            <a:avLst/>
            <a:gdLst/>
            <a:ahLst/>
            <a:rect l="l" t="t" r="r" b="b"/>
            <a:pathLst>
              <a:path w="424" h="230">
                <a:moveTo>
                  <a:pt x="36" y="0"/>
                </a:moveTo>
                <a:lnTo>
                  <a:pt x="424" y="203"/>
                </a:lnTo>
                <a:lnTo>
                  <a:pt x="296" y="230"/>
                </a:lnTo>
                <a:lnTo>
                  <a:pt x="0" y="5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ffa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362320" y="3611520"/>
            <a:ext cx="230040" cy="2543040"/>
          </a:xfrm>
          <a:custGeom>
            <a:avLst/>
            <a:gdLst/>
            <a:ahLst/>
            <a:rect l="l" t="t" r="r" b="b"/>
            <a:pathLst>
              <a:path w="291" h="3204">
                <a:moveTo>
                  <a:pt x="160" y="2932"/>
                </a:moveTo>
                <a:lnTo>
                  <a:pt x="160" y="272"/>
                </a:lnTo>
                <a:lnTo>
                  <a:pt x="169" y="224"/>
                </a:lnTo>
                <a:lnTo>
                  <a:pt x="190" y="192"/>
                </a:lnTo>
                <a:lnTo>
                  <a:pt x="219" y="165"/>
                </a:lnTo>
                <a:lnTo>
                  <a:pt x="253" y="150"/>
                </a:lnTo>
                <a:lnTo>
                  <a:pt x="291" y="148"/>
                </a:lnTo>
                <a:lnTo>
                  <a:pt x="291" y="0"/>
                </a:lnTo>
                <a:lnTo>
                  <a:pt x="236" y="0"/>
                </a:lnTo>
                <a:lnTo>
                  <a:pt x="181" y="11"/>
                </a:lnTo>
                <a:lnTo>
                  <a:pt x="133" y="36"/>
                </a:lnTo>
                <a:lnTo>
                  <a:pt x="87" y="68"/>
                </a:lnTo>
                <a:lnTo>
                  <a:pt x="51" y="108"/>
                </a:lnTo>
                <a:lnTo>
                  <a:pt x="23" y="156"/>
                </a:lnTo>
                <a:lnTo>
                  <a:pt x="6" y="207"/>
                </a:lnTo>
                <a:lnTo>
                  <a:pt x="0" y="262"/>
                </a:lnTo>
                <a:lnTo>
                  <a:pt x="0" y="2946"/>
                </a:lnTo>
                <a:lnTo>
                  <a:pt x="6" y="2997"/>
                </a:lnTo>
                <a:lnTo>
                  <a:pt x="21" y="3048"/>
                </a:lnTo>
                <a:lnTo>
                  <a:pt x="49" y="3098"/>
                </a:lnTo>
                <a:lnTo>
                  <a:pt x="86" y="3138"/>
                </a:lnTo>
                <a:lnTo>
                  <a:pt x="131" y="3170"/>
                </a:lnTo>
                <a:lnTo>
                  <a:pt x="181" y="3193"/>
                </a:lnTo>
                <a:lnTo>
                  <a:pt x="234" y="3204"/>
                </a:lnTo>
                <a:lnTo>
                  <a:pt x="291" y="3204"/>
                </a:lnTo>
                <a:lnTo>
                  <a:pt x="291" y="3056"/>
                </a:lnTo>
                <a:lnTo>
                  <a:pt x="253" y="3054"/>
                </a:lnTo>
                <a:lnTo>
                  <a:pt x="219" y="3041"/>
                </a:lnTo>
                <a:lnTo>
                  <a:pt x="188" y="3012"/>
                </a:lnTo>
                <a:lnTo>
                  <a:pt x="167" y="2980"/>
                </a:lnTo>
                <a:lnTo>
                  <a:pt x="160" y="2932"/>
                </a:lnTo>
                <a:lnTo>
                  <a:pt x="160" y="29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692760" y="3611520"/>
            <a:ext cx="235080" cy="2543040"/>
          </a:xfrm>
          <a:custGeom>
            <a:avLst/>
            <a:gdLst/>
            <a:ahLst/>
            <a:rect l="l" t="t" r="r" b="b"/>
            <a:pathLst>
              <a:path w="297" h="3204">
                <a:moveTo>
                  <a:pt x="134" y="2932"/>
                </a:moveTo>
                <a:lnTo>
                  <a:pt x="134" y="272"/>
                </a:lnTo>
                <a:lnTo>
                  <a:pt x="126" y="224"/>
                </a:lnTo>
                <a:lnTo>
                  <a:pt x="103" y="192"/>
                </a:lnTo>
                <a:lnTo>
                  <a:pt x="75" y="165"/>
                </a:lnTo>
                <a:lnTo>
                  <a:pt x="40" y="150"/>
                </a:lnTo>
                <a:lnTo>
                  <a:pt x="0" y="148"/>
                </a:lnTo>
                <a:lnTo>
                  <a:pt x="0" y="0"/>
                </a:lnTo>
                <a:lnTo>
                  <a:pt x="57" y="0"/>
                </a:lnTo>
                <a:lnTo>
                  <a:pt x="113" y="11"/>
                </a:lnTo>
                <a:lnTo>
                  <a:pt x="160" y="36"/>
                </a:lnTo>
                <a:lnTo>
                  <a:pt x="206" y="68"/>
                </a:lnTo>
                <a:lnTo>
                  <a:pt x="242" y="108"/>
                </a:lnTo>
                <a:lnTo>
                  <a:pt x="270" y="156"/>
                </a:lnTo>
                <a:lnTo>
                  <a:pt x="289" y="207"/>
                </a:lnTo>
                <a:lnTo>
                  <a:pt x="297" y="276"/>
                </a:lnTo>
                <a:lnTo>
                  <a:pt x="295" y="2946"/>
                </a:lnTo>
                <a:lnTo>
                  <a:pt x="289" y="2997"/>
                </a:lnTo>
                <a:lnTo>
                  <a:pt x="270" y="3048"/>
                </a:lnTo>
                <a:lnTo>
                  <a:pt x="244" y="3098"/>
                </a:lnTo>
                <a:lnTo>
                  <a:pt x="208" y="3138"/>
                </a:lnTo>
                <a:lnTo>
                  <a:pt x="162" y="3170"/>
                </a:lnTo>
                <a:lnTo>
                  <a:pt x="113" y="3193"/>
                </a:lnTo>
                <a:lnTo>
                  <a:pt x="59" y="3204"/>
                </a:lnTo>
                <a:lnTo>
                  <a:pt x="2" y="3204"/>
                </a:lnTo>
                <a:lnTo>
                  <a:pt x="2" y="3056"/>
                </a:lnTo>
                <a:lnTo>
                  <a:pt x="42" y="3054"/>
                </a:lnTo>
                <a:lnTo>
                  <a:pt x="76" y="3041"/>
                </a:lnTo>
                <a:lnTo>
                  <a:pt x="105" y="3012"/>
                </a:lnTo>
                <a:lnTo>
                  <a:pt x="126" y="2980"/>
                </a:lnTo>
                <a:lnTo>
                  <a:pt x="134" y="2932"/>
                </a:lnTo>
                <a:lnTo>
                  <a:pt x="134" y="29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581200" y="3613320"/>
            <a:ext cx="4127400" cy="118800"/>
          </a:xfrm>
          <a:custGeom>
            <a:avLst/>
            <a:gdLst/>
            <a:ahLst/>
            <a:rect l="l" t="t" r="r" b="b"/>
            <a:pathLst>
              <a:path w="5200" h="150">
                <a:moveTo>
                  <a:pt x="0" y="150"/>
                </a:moveTo>
                <a:lnTo>
                  <a:pt x="5200" y="150"/>
                </a:lnTo>
                <a:lnTo>
                  <a:pt x="5200" y="0"/>
                </a:lnTo>
                <a:lnTo>
                  <a:pt x="0" y="0"/>
                </a:lnTo>
                <a:lnTo>
                  <a:pt x="0" y="150"/>
                </a:lnTo>
                <a:lnTo>
                  <a:pt x="0" y="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581200" y="6035760"/>
            <a:ext cx="4127400" cy="118800"/>
          </a:xfrm>
          <a:custGeom>
            <a:avLst/>
            <a:gdLst/>
            <a:ahLst/>
            <a:rect l="l" t="t" r="r" b="b"/>
            <a:pathLst>
              <a:path w="5200" h="150">
                <a:moveTo>
                  <a:pt x="0" y="150"/>
                </a:moveTo>
                <a:lnTo>
                  <a:pt x="5200" y="150"/>
                </a:lnTo>
                <a:lnTo>
                  <a:pt x="5200" y="0"/>
                </a:lnTo>
                <a:lnTo>
                  <a:pt x="0" y="0"/>
                </a:lnTo>
                <a:lnTo>
                  <a:pt x="0" y="150"/>
                </a:lnTo>
                <a:lnTo>
                  <a:pt x="0" y="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411280" y="3706920"/>
            <a:ext cx="1284480" cy="1282680"/>
          </a:xfrm>
          <a:custGeom>
            <a:avLst/>
            <a:gdLst/>
            <a:ahLst/>
            <a:rect l="l" t="t" r="r" b="b"/>
            <a:pathLst>
              <a:path w="1617" h="1616">
                <a:moveTo>
                  <a:pt x="1214" y="0"/>
                </a:moveTo>
                <a:lnTo>
                  <a:pt x="1444" y="0"/>
                </a:lnTo>
                <a:lnTo>
                  <a:pt x="1528" y="152"/>
                </a:lnTo>
                <a:lnTo>
                  <a:pt x="1574" y="274"/>
                </a:lnTo>
                <a:lnTo>
                  <a:pt x="1604" y="401"/>
                </a:lnTo>
                <a:lnTo>
                  <a:pt x="1617" y="530"/>
                </a:lnTo>
                <a:lnTo>
                  <a:pt x="1614" y="662"/>
                </a:lnTo>
                <a:lnTo>
                  <a:pt x="1596" y="791"/>
                </a:lnTo>
                <a:lnTo>
                  <a:pt x="1560" y="916"/>
                </a:lnTo>
                <a:lnTo>
                  <a:pt x="1509" y="1036"/>
                </a:lnTo>
                <a:lnTo>
                  <a:pt x="1444" y="1150"/>
                </a:lnTo>
                <a:lnTo>
                  <a:pt x="1366" y="1255"/>
                </a:lnTo>
                <a:lnTo>
                  <a:pt x="1275" y="1348"/>
                </a:lnTo>
                <a:lnTo>
                  <a:pt x="1174" y="1428"/>
                </a:lnTo>
                <a:lnTo>
                  <a:pt x="1062" y="1496"/>
                </a:lnTo>
                <a:lnTo>
                  <a:pt x="943" y="1552"/>
                </a:lnTo>
                <a:lnTo>
                  <a:pt x="817" y="1588"/>
                </a:lnTo>
                <a:lnTo>
                  <a:pt x="690" y="1610"/>
                </a:lnTo>
                <a:lnTo>
                  <a:pt x="559" y="1616"/>
                </a:lnTo>
                <a:lnTo>
                  <a:pt x="429" y="1605"/>
                </a:lnTo>
                <a:lnTo>
                  <a:pt x="302" y="1578"/>
                </a:lnTo>
                <a:lnTo>
                  <a:pt x="178" y="1534"/>
                </a:lnTo>
                <a:lnTo>
                  <a:pt x="21" y="1455"/>
                </a:lnTo>
                <a:lnTo>
                  <a:pt x="0" y="1226"/>
                </a:lnTo>
                <a:lnTo>
                  <a:pt x="110" y="1297"/>
                </a:lnTo>
                <a:lnTo>
                  <a:pt x="203" y="1350"/>
                </a:lnTo>
                <a:lnTo>
                  <a:pt x="304" y="1390"/>
                </a:lnTo>
                <a:lnTo>
                  <a:pt x="407" y="1418"/>
                </a:lnTo>
                <a:lnTo>
                  <a:pt x="515" y="1434"/>
                </a:lnTo>
                <a:lnTo>
                  <a:pt x="621" y="1436"/>
                </a:lnTo>
                <a:lnTo>
                  <a:pt x="728" y="1424"/>
                </a:lnTo>
                <a:lnTo>
                  <a:pt x="834" y="1397"/>
                </a:lnTo>
                <a:lnTo>
                  <a:pt x="935" y="1359"/>
                </a:lnTo>
                <a:lnTo>
                  <a:pt x="1030" y="1308"/>
                </a:lnTo>
                <a:lnTo>
                  <a:pt x="1117" y="1245"/>
                </a:lnTo>
                <a:lnTo>
                  <a:pt x="1197" y="1173"/>
                </a:lnTo>
                <a:lnTo>
                  <a:pt x="1268" y="1091"/>
                </a:lnTo>
                <a:lnTo>
                  <a:pt x="1327" y="1000"/>
                </a:lnTo>
                <a:lnTo>
                  <a:pt x="1374" y="903"/>
                </a:lnTo>
                <a:lnTo>
                  <a:pt x="1408" y="800"/>
                </a:lnTo>
                <a:lnTo>
                  <a:pt x="1431" y="696"/>
                </a:lnTo>
                <a:lnTo>
                  <a:pt x="1439" y="587"/>
                </a:lnTo>
                <a:lnTo>
                  <a:pt x="1433" y="481"/>
                </a:lnTo>
                <a:lnTo>
                  <a:pt x="1414" y="373"/>
                </a:lnTo>
                <a:lnTo>
                  <a:pt x="1382" y="270"/>
                </a:lnTo>
                <a:lnTo>
                  <a:pt x="1338" y="171"/>
                </a:lnTo>
                <a:lnTo>
                  <a:pt x="1281" y="80"/>
                </a:lnTo>
                <a:lnTo>
                  <a:pt x="1214" y="0"/>
                </a:lnTo>
                <a:lnTo>
                  <a:pt x="12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048200" y="3889440"/>
            <a:ext cx="2705040" cy="1957320"/>
          </a:xfrm>
          <a:custGeom>
            <a:avLst/>
            <a:gdLst/>
            <a:ahLst/>
            <a:rect l="l" t="t" r="r" b="b"/>
            <a:pathLst>
              <a:path w="3408" h="2466">
                <a:moveTo>
                  <a:pt x="2555" y="0"/>
                </a:moveTo>
                <a:lnTo>
                  <a:pt x="2464" y="17"/>
                </a:lnTo>
                <a:lnTo>
                  <a:pt x="2365" y="40"/>
                </a:lnTo>
                <a:lnTo>
                  <a:pt x="2306" y="55"/>
                </a:lnTo>
                <a:lnTo>
                  <a:pt x="2243" y="74"/>
                </a:lnTo>
                <a:lnTo>
                  <a:pt x="2181" y="95"/>
                </a:lnTo>
                <a:lnTo>
                  <a:pt x="2116" y="118"/>
                </a:lnTo>
                <a:lnTo>
                  <a:pt x="2084" y="131"/>
                </a:lnTo>
                <a:lnTo>
                  <a:pt x="2049" y="146"/>
                </a:lnTo>
                <a:lnTo>
                  <a:pt x="2019" y="160"/>
                </a:lnTo>
                <a:lnTo>
                  <a:pt x="1987" y="175"/>
                </a:lnTo>
                <a:lnTo>
                  <a:pt x="1956" y="192"/>
                </a:lnTo>
                <a:lnTo>
                  <a:pt x="1926" y="209"/>
                </a:lnTo>
                <a:lnTo>
                  <a:pt x="1897" y="226"/>
                </a:lnTo>
                <a:lnTo>
                  <a:pt x="1871" y="245"/>
                </a:lnTo>
                <a:lnTo>
                  <a:pt x="1844" y="264"/>
                </a:lnTo>
                <a:lnTo>
                  <a:pt x="1819" y="285"/>
                </a:lnTo>
                <a:lnTo>
                  <a:pt x="1797" y="306"/>
                </a:lnTo>
                <a:lnTo>
                  <a:pt x="1778" y="327"/>
                </a:lnTo>
                <a:lnTo>
                  <a:pt x="1759" y="350"/>
                </a:lnTo>
                <a:lnTo>
                  <a:pt x="1740" y="373"/>
                </a:lnTo>
                <a:lnTo>
                  <a:pt x="1721" y="394"/>
                </a:lnTo>
                <a:lnTo>
                  <a:pt x="1703" y="414"/>
                </a:lnTo>
                <a:lnTo>
                  <a:pt x="1686" y="435"/>
                </a:lnTo>
                <a:lnTo>
                  <a:pt x="1671" y="456"/>
                </a:lnTo>
                <a:lnTo>
                  <a:pt x="1658" y="475"/>
                </a:lnTo>
                <a:lnTo>
                  <a:pt x="1643" y="494"/>
                </a:lnTo>
                <a:lnTo>
                  <a:pt x="1614" y="532"/>
                </a:lnTo>
                <a:lnTo>
                  <a:pt x="1591" y="568"/>
                </a:lnTo>
                <a:lnTo>
                  <a:pt x="1549" y="631"/>
                </a:lnTo>
                <a:lnTo>
                  <a:pt x="1519" y="683"/>
                </a:lnTo>
                <a:lnTo>
                  <a:pt x="1496" y="721"/>
                </a:lnTo>
                <a:lnTo>
                  <a:pt x="1479" y="755"/>
                </a:lnTo>
                <a:lnTo>
                  <a:pt x="1464" y="747"/>
                </a:lnTo>
                <a:lnTo>
                  <a:pt x="1422" y="730"/>
                </a:lnTo>
                <a:lnTo>
                  <a:pt x="1390" y="719"/>
                </a:lnTo>
                <a:lnTo>
                  <a:pt x="1354" y="705"/>
                </a:lnTo>
                <a:lnTo>
                  <a:pt x="1310" y="692"/>
                </a:lnTo>
                <a:lnTo>
                  <a:pt x="1262" y="679"/>
                </a:lnTo>
                <a:lnTo>
                  <a:pt x="1209" y="667"/>
                </a:lnTo>
                <a:lnTo>
                  <a:pt x="1152" y="656"/>
                </a:lnTo>
                <a:lnTo>
                  <a:pt x="1089" y="646"/>
                </a:lnTo>
                <a:lnTo>
                  <a:pt x="1025" y="639"/>
                </a:lnTo>
                <a:lnTo>
                  <a:pt x="886" y="631"/>
                </a:lnTo>
                <a:lnTo>
                  <a:pt x="736" y="639"/>
                </a:lnTo>
                <a:lnTo>
                  <a:pt x="588" y="660"/>
                </a:lnTo>
                <a:lnTo>
                  <a:pt x="515" y="673"/>
                </a:lnTo>
                <a:lnTo>
                  <a:pt x="449" y="686"/>
                </a:lnTo>
                <a:lnTo>
                  <a:pt x="384" y="702"/>
                </a:lnTo>
                <a:lnTo>
                  <a:pt x="323" y="717"/>
                </a:lnTo>
                <a:lnTo>
                  <a:pt x="266" y="734"/>
                </a:lnTo>
                <a:lnTo>
                  <a:pt x="215" y="747"/>
                </a:lnTo>
                <a:lnTo>
                  <a:pt x="166" y="762"/>
                </a:lnTo>
                <a:lnTo>
                  <a:pt x="124" y="776"/>
                </a:lnTo>
                <a:lnTo>
                  <a:pt x="57" y="800"/>
                </a:lnTo>
                <a:lnTo>
                  <a:pt x="15" y="816"/>
                </a:lnTo>
                <a:lnTo>
                  <a:pt x="0" y="821"/>
                </a:lnTo>
                <a:lnTo>
                  <a:pt x="766" y="2343"/>
                </a:lnTo>
                <a:lnTo>
                  <a:pt x="823" y="2329"/>
                </a:lnTo>
                <a:lnTo>
                  <a:pt x="890" y="2316"/>
                </a:lnTo>
                <a:lnTo>
                  <a:pt x="977" y="2299"/>
                </a:lnTo>
                <a:lnTo>
                  <a:pt x="1080" y="2280"/>
                </a:lnTo>
                <a:lnTo>
                  <a:pt x="1198" y="2265"/>
                </a:lnTo>
                <a:lnTo>
                  <a:pt x="1327" y="2251"/>
                </a:lnTo>
                <a:lnTo>
                  <a:pt x="1460" y="2242"/>
                </a:lnTo>
                <a:lnTo>
                  <a:pt x="1601" y="2249"/>
                </a:lnTo>
                <a:lnTo>
                  <a:pt x="1740" y="2274"/>
                </a:lnTo>
                <a:lnTo>
                  <a:pt x="1806" y="2289"/>
                </a:lnTo>
                <a:lnTo>
                  <a:pt x="1873" y="2308"/>
                </a:lnTo>
                <a:lnTo>
                  <a:pt x="1935" y="2329"/>
                </a:lnTo>
                <a:lnTo>
                  <a:pt x="1994" y="2350"/>
                </a:lnTo>
                <a:lnTo>
                  <a:pt x="2047" y="2371"/>
                </a:lnTo>
                <a:lnTo>
                  <a:pt x="2099" y="2392"/>
                </a:lnTo>
                <a:lnTo>
                  <a:pt x="2141" y="2411"/>
                </a:lnTo>
                <a:lnTo>
                  <a:pt x="2181" y="2430"/>
                </a:lnTo>
                <a:lnTo>
                  <a:pt x="2209" y="2445"/>
                </a:lnTo>
                <a:lnTo>
                  <a:pt x="2232" y="2457"/>
                </a:lnTo>
                <a:lnTo>
                  <a:pt x="2251" y="2466"/>
                </a:lnTo>
                <a:lnTo>
                  <a:pt x="2262" y="2436"/>
                </a:lnTo>
                <a:lnTo>
                  <a:pt x="2276" y="2400"/>
                </a:lnTo>
                <a:lnTo>
                  <a:pt x="2295" y="2354"/>
                </a:lnTo>
                <a:lnTo>
                  <a:pt x="2317" y="2297"/>
                </a:lnTo>
                <a:lnTo>
                  <a:pt x="2344" y="2234"/>
                </a:lnTo>
                <a:lnTo>
                  <a:pt x="2359" y="2198"/>
                </a:lnTo>
                <a:lnTo>
                  <a:pt x="2376" y="2162"/>
                </a:lnTo>
                <a:lnTo>
                  <a:pt x="2393" y="2126"/>
                </a:lnTo>
                <a:lnTo>
                  <a:pt x="2412" y="2090"/>
                </a:lnTo>
                <a:lnTo>
                  <a:pt x="2431" y="2050"/>
                </a:lnTo>
                <a:lnTo>
                  <a:pt x="2452" y="2012"/>
                </a:lnTo>
                <a:lnTo>
                  <a:pt x="2473" y="1972"/>
                </a:lnTo>
                <a:lnTo>
                  <a:pt x="2494" y="1934"/>
                </a:lnTo>
                <a:lnTo>
                  <a:pt x="2517" y="1896"/>
                </a:lnTo>
                <a:lnTo>
                  <a:pt x="2542" y="1856"/>
                </a:lnTo>
                <a:lnTo>
                  <a:pt x="2566" y="1818"/>
                </a:lnTo>
                <a:lnTo>
                  <a:pt x="2591" y="1782"/>
                </a:lnTo>
                <a:lnTo>
                  <a:pt x="2616" y="1746"/>
                </a:lnTo>
                <a:lnTo>
                  <a:pt x="2631" y="1728"/>
                </a:lnTo>
                <a:lnTo>
                  <a:pt x="2642" y="1711"/>
                </a:lnTo>
                <a:lnTo>
                  <a:pt x="2658" y="1694"/>
                </a:lnTo>
                <a:lnTo>
                  <a:pt x="2671" y="1677"/>
                </a:lnTo>
                <a:lnTo>
                  <a:pt x="2684" y="1662"/>
                </a:lnTo>
                <a:lnTo>
                  <a:pt x="2698" y="1645"/>
                </a:lnTo>
                <a:lnTo>
                  <a:pt x="2713" y="1630"/>
                </a:lnTo>
                <a:lnTo>
                  <a:pt x="2726" y="1616"/>
                </a:lnTo>
                <a:lnTo>
                  <a:pt x="2741" y="1601"/>
                </a:lnTo>
                <a:lnTo>
                  <a:pt x="2755" y="1588"/>
                </a:lnTo>
                <a:lnTo>
                  <a:pt x="2770" y="1574"/>
                </a:lnTo>
                <a:lnTo>
                  <a:pt x="2785" y="1563"/>
                </a:lnTo>
                <a:lnTo>
                  <a:pt x="2800" y="1552"/>
                </a:lnTo>
                <a:lnTo>
                  <a:pt x="2815" y="1540"/>
                </a:lnTo>
                <a:lnTo>
                  <a:pt x="2844" y="1519"/>
                </a:lnTo>
                <a:lnTo>
                  <a:pt x="2874" y="1498"/>
                </a:lnTo>
                <a:lnTo>
                  <a:pt x="2905" y="1479"/>
                </a:lnTo>
                <a:lnTo>
                  <a:pt x="2933" y="1460"/>
                </a:lnTo>
                <a:lnTo>
                  <a:pt x="2962" y="1445"/>
                </a:lnTo>
                <a:lnTo>
                  <a:pt x="2990" y="1428"/>
                </a:lnTo>
                <a:lnTo>
                  <a:pt x="3017" y="1413"/>
                </a:lnTo>
                <a:lnTo>
                  <a:pt x="3044" y="1396"/>
                </a:lnTo>
                <a:lnTo>
                  <a:pt x="3070" y="1382"/>
                </a:lnTo>
                <a:lnTo>
                  <a:pt x="3095" y="1369"/>
                </a:lnTo>
                <a:lnTo>
                  <a:pt x="3120" y="1356"/>
                </a:lnTo>
                <a:lnTo>
                  <a:pt x="3144" y="1346"/>
                </a:lnTo>
                <a:lnTo>
                  <a:pt x="3192" y="1323"/>
                </a:lnTo>
                <a:lnTo>
                  <a:pt x="3234" y="1304"/>
                </a:lnTo>
                <a:lnTo>
                  <a:pt x="3272" y="1289"/>
                </a:lnTo>
                <a:lnTo>
                  <a:pt x="3306" y="1274"/>
                </a:lnTo>
                <a:lnTo>
                  <a:pt x="3363" y="1255"/>
                </a:lnTo>
                <a:lnTo>
                  <a:pt x="3408" y="1242"/>
                </a:lnTo>
                <a:lnTo>
                  <a:pt x="3363" y="1156"/>
                </a:lnTo>
                <a:lnTo>
                  <a:pt x="3340" y="1164"/>
                </a:lnTo>
                <a:lnTo>
                  <a:pt x="3281" y="1185"/>
                </a:lnTo>
                <a:lnTo>
                  <a:pt x="3239" y="1200"/>
                </a:lnTo>
                <a:lnTo>
                  <a:pt x="3192" y="1219"/>
                </a:lnTo>
                <a:lnTo>
                  <a:pt x="3139" y="1240"/>
                </a:lnTo>
                <a:lnTo>
                  <a:pt x="3110" y="1251"/>
                </a:lnTo>
                <a:lnTo>
                  <a:pt x="3082" y="1264"/>
                </a:lnTo>
                <a:lnTo>
                  <a:pt x="3051" y="1278"/>
                </a:lnTo>
                <a:lnTo>
                  <a:pt x="3023" y="1293"/>
                </a:lnTo>
                <a:lnTo>
                  <a:pt x="2990" y="1308"/>
                </a:lnTo>
                <a:lnTo>
                  <a:pt x="2960" y="1323"/>
                </a:lnTo>
                <a:lnTo>
                  <a:pt x="2929" y="1339"/>
                </a:lnTo>
                <a:lnTo>
                  <a:pt x="2899" y="1358"/>
                </a:lnTo>
                <a:lnTo>
                  <a:pt x="2869" y="1375"/>
                </a:lnTo>
                <a:lnTo>
                  <a:pt x="2838" y="1394"/>
                </a:lnTo>
                <a:lnTo>
                  <a:pt x="2808" y="1413"/>
                </a:lnTo>
                <a:lnTo>
                  <a:pt x="2779" y="1434"/>
                </a:lnTo>
                <a:lnTo>
                  <a:pt x="2749" y="1455"/>
                </a:lnTo>
                <a:lnTo>
                  <a:pt x="2722" y="1476"/>
                </a:lnTo>
                <a:lnTo>
                  <a:pt x="2696" y="1498"/>
                </a:lnTo>
                <a:lnTo>
                  <a:pt x="2669" y="1521"/>
                </a:lnTo>
                <a:lnTo>
                  <a:pt x="2646" y="1544"/>
                </a:lnTo>
                <a:lnTo>
                  <a:pt x="2635" y="1557"/>
                </a:lnTo>
                <a:lnTo>
                  <a:pt x="2623" y="1569"/>
                </a:lnTo>
                <a:lnTo>
                  <a:pt x="2612" y="1582"/>
                </a:lnTo>
                <a:lnTo>
                  <a:pt x="2601" y="1595"/>
                </a:lnTo>
                <a:lnTo>
                  <a:pt x="2589" y="1607"/>
                </a:lnTo>
                <a:lnTo>
                  <a:pt x="2580" y="1622"/>
                </a:lnTo>
                <a:lnTo>
                  <a:pt x="2568" y="1635"/>
                </a:lnTo>
                <a:lnTo>
                  <a:pt x="2559" y="1649"/>
                </a:lnTo>
                <a:lnTo>
                  <a:pt x="2538" y="1677"/>
                </a:lnTo>
                <a:lnTo>
                  <a:pt x="2496" y="1736"/>
                </a:lnTo>
                <a:lnTo>
                  <a:pt x="2456" y="1797"/>
                </a:lnTo>
                <a:lnTo>
                  <a:pt x="2420" y="1860"/>
                </a:lnTo>
                <a:lnTo>
                  <a:pt x="2384" y="1922"/>
                </a:lnTo>
                <a:lnTo>
                  <a:pt x="2352" y="1983"/>
                </a:lnTo>
                <a:lnTo>
                  <a:pt x="2321" y="2042"/>
                </a:lnTo>
                <a:lnTo>
                  <a:pt x="2295" y="2097"/>
                </a:lnTo>
                <a:lnTo>
                  <a:pt x="2270" y="2151"/>
                </a:lnTo>
                <a:lnTo>
                  <a:pt x="2249" y="2198"/>
                </a:lnTo>
                <a:lnTo>
                  <a:pt x="2230" y="2238"/>
                </a:lnTo>
                <a:lnTo>
                  <a:pt x="2205" y="2297"/>
                </a:lnTo>
                <a:lnTo>
                  <a:pt x="2196" y="2318"/>
                </a:lnTo>
                <a:lnTo>
                  <a:pt x="2177" y="2308"/>
                </a:lnTo>
                <a:lnTo>
                  <a:pt x="2152" y="2301"/>
                </a:lnTo>
                <a:lnTo>
                  <a:pt x="2120" y="2287"/>
                </a:lnTo>
                <a:lnTo>
                  <a:pt x="2080" y="2272"/>
                </a:lnTo>
                <a:lnTo>
                  <a:pt x="2034" y="2255"/>
                </a:lnTo>
                <a:lnTo>
                  <a:pt x="1983" y="2236"/>
                </a:lnTo>
                <a:lnTo>
                  <a:pt x="1926" y="2217"/>
                </a:lnTo>
                <a:lnTo>
                  <a:pt x="1865" y="2200"/>
                </a:lnTo>
                <a:lnTo>
                  <a:pt x="1802" y="2183"/>
                </a:lnTo>
                <a:lnTo>
                  <a:pt x="1736" y="2168"/>
                </a:lnTo>
                <a:lnTo>
                  <a:pt x="1669" y="2154"/>
                </a:lnTo>
                <a:lnTo>
                  <a:pt x="1603" y="2145"/>
                </a:lnTo>
                <a:lnTo>
                  <a:pt x="1534" y="2137"/>
                </a:lnTo>
                <a:lnTo>
                  <a:pt x="1405" y="2137"/>
                </a:lnTo>
                <a:lnTo>
                  <a:pt x="1173" y="2160"/>
                </a:lnTo>
                <a:lnTo>
                  <a:pt x="989" y="2183"/>
                </a:lnTo>
                <a:lnTo>
                  <a:pt x="865" y="2200"/>
                </a:lnTo>
                <a:lnTo>
                  <a:pt x="820" y="2206"/>
                </a:lnTo>
                <a:lnTo>
                  <a:pt x="160" y="867"/>
                </a:lnTo>
                <a:lnTo>
                  <a:pt x="217" y="850"/>
                </a:lnTo>
                <a:lnTo>
                  <a:pt x="283" y="831"/>
                </a:lnTo>
                <a:lnTo>
                  <a:pt x="325" y="819"/>
                </a:lnTo>
                <a:lnTo>
                  <a:pt x="371" y="808"/>
                </a:lnTo>
                <a:lnTo>
                  <a:pt x="420" y="795"/>
                </a:lnTo>
                <a:lnTo>
                  <a:pt x="474" y="783"/>
                </a:lnTo>
                <a:lnTo>
                  <a:pt x="532" y="772"/>
                </a:lnTo>
                <a:lnTo>
                  <a:pt x="591" y="762"/>
                </a:lnTo>
                <a:lnTo>
                  <a:pt x="719" y="743"/>
                </a:lnTo>
                <a:lnTo>
                  <a:pt x="850" y="730"/>
                </a:lnTo>
                <a:lnTo>
                  <a:pt x="981" y="730"/>
                </a:lnTo>
                <a:lnTo>
                  <a:pt x="1108" y="742"/>
                </a:lnTo>
                <a:lnTo>
                  <a:pt x="1224" y="762"/>
                </a:lnTo>
                <a:lnTo>
                  <a:pt x="1327" y="789"/>
                </a:lnTo>
                <a:lnTo>
                  <a:pt x="1373" y="802"/>
                </a:lnTo>
                <a:lnTo>
                  <a:pt x="1413" y="816"/>
                </a:lnTo>
                <a:lnTo>
                  <a:pt x="1479" y="839"/>
                </a:lnTo>
                <a:lnTo>
                  <a:pt x="1523" y="856"/>
                </a:lnTo>
                <a:lnTo>
                  <a:pt x="1536" y="861"/>
                </a:lnTo>
                <a:lnTo>
                  <a:pt x="1567" y="802"/>
                </a:lnTo>
                <a:lnTo>
                  <a:pt x="1603" y="740"/>
                </a:lnTo>
                <a:lnTo>
                  <a:pt x="1624" y="702"/>
                </a:lnTo>
                <a:lnTo>
                  <a:pt x="1650" y="660"/>
                </a:lnTo>
                <a:lnTo>
                  <a:pt x="1679" y="616"/>
                </a:lnTo>
                <a:lnTo>
                  <a:pt x="1709" y="572"/>
                </a:lnTo>
                <a:lnTo>
                  <a:pt x="1726" y="549"/>
                </a:lnTo>
                <a:lnTo>
                  <a:pt x="1745" y="529"/>
                </a:lnTo>
                <a:lnTo>
                  <a:pt x="1762" y="506"/>
                </a:lnTo>
                <a:lnTo>
                  <a:pt x="1781" y="483"/>
                </a:lnTo>
                <a:lnTo>
                  <a:pt x="1800" y="460"/>
                </a:lnTo>
                <a:lnTo>
                  <a:pt x="1821" y="439"/>
                </a:lnTo>
                <a:lnTo>
                  <a:pt x="1842" y="418"/>
                </a:lnTo>
                <a:lnTo>
                  <a:pt x="1863" y="397"/>
                </a:lnTo>
                <a:lnTo>
                  <a:pt x="1884" y="376"/>
                </a:lnTo>
                <a:lnTo>
                  <a:pt x="1907" y="359"/>
                </a:lnTo>
                <a:lnTo>
                  <a:pt x="1932" y="340"/>
                </a:lnTo>
                <a:lnTo>
                  <a:pt x="1954" y="323"/>
                </a:lnTo>
                <a:lnTo>
                  <a:pt x="1979" y="306"/>
                </a:lnTo>
                <a:lnTo>
                  <a:pt x="2004" y="291"/>
                </a:lnTo>
                <a:lnTo>
                  <a:pt x="2028" y="278"/>
                </a:lnTo>
                <a:lnTo>
                  <a:pt x="2053" y="262"/>
                </a:lnTo>
                <a:lnTo>
                  <a:pt x="2080" y="247"/>
                </a:lnTo>
                <a:lnTo>
                  <a:pt x="2104" y="236"/>
                </a:lnTo>
                <a:lnTo>
                  <a:pt x="2131" y="222"/>
                </a:lnTo>
                <a:lnTo>
                  <a:pt x="2158" y="213"/>
                </a:lnTo>
                <a:lnTo>
                  <a:pt x="2209" y="190"/>
                </a:lnTo>
                <a:lnTo>
                  <a:pt x="2260" y="173"/>
                </a:lnTo>
                <a:lnTo>
                  <a:pt x="2310" y="156"/>
                </a:lnTo>
                <a:lnTo>
                  <a:pt x="2357" y="143"/>
                </a:lnTo>
                <a:lnTo>
                  <a:pt x="2401" y="129"/>
                </a:lnTo>
                <a:lnTo>
                  <a:pt x="2441" y="120"/>
                </a:lnTo>
                <a:lnTo>
                  <a:pt x="2507" y="105"/>
                </a:lnTo>
                <a:lnTo>
                  <a:pt x="2568" y="95"/>
                </a:lnTo>
                <a:lnTo>
                  <a:pt x="2555" y="0"/>
                </a:lnTo>
                <a:lnTo>
                  <a:pt x="25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29280" y="3889440"/>
            <a:ext cx="735120" cy="990360"/>
          </a:xfrm>
          <a:custGeom>
            <a:avLst/>
            <a:gdLst/>
            <a:ahLst/>
            <a:rect l="l" t="t" r="r" b="b"/>
            <a:pathLst>
              <a:path w="926" h="1247">
                <a:moveTo>
                  <a:pt x="0" y="70"/>
                </a:moveTo>
                <a:lnTo>
                  <a:pt x="785" y="1209"/>
                </a:lnTo>
                <a:lnTo>
                  <a:pt x="926" y="1247"/>
                </a:lnTo>
                <a:lnTo>
                  <a:pt x="57" y="0"/>
                </a:lnTo>
                <a:lnTo>
                  <a:pt x="0" y="70"/>
                </a:lnTo>
                <a:lnTo>
                  <a:pt x="0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951360" y="4656240"/>
            <a:ext cx="2819160" cy="1333440"/>
          </a:xfrm>
          <a:custGeom>
            <a:avLst/>
            <a:gdLst/>
            <a:ahLst/>
            <a:rect l="l" t="t" r="r" b="b"/>
            <a:pathLst>
              <a:path w="3552" h="1681">
                <a:moveTo>
                  <a:pt x="256" y="0"/>
                </a:moveTo>
                <a:lnTo>
                  <a:pt x="0" y="68"/>
                </a:lnTo>
                <a:lnTo>
                  <a:pt x="773" y="1681"/>
                </a:lnTo>
                <a:lnTo>
                  <a:pt x="794" y="1675"/>
                </a:lnTo>
                <a:lnTo>
                  <a:pt x="849" y="1658"/>
                </a:lnTo>
                <a:lnTo>
                  <a:pt x="889" y="1645"/>
                </a:lnTo>
                <a:lnTo>
                  <a:pt x="935" y="1631"/>
                </a:lnTo>
                <a:lnTo>
                  <a:pt x="986" y="1616"/>
                </a:lnTo>
                <a:lnTo>
                  <a:pt x="1045" y="1601"/>
                </a:lnTo>
                <a:lnTo>
                  <a:pt x="1104" y="1586"/>
                </a:lnTo>
                <a:lnTo>
                  <a:pt x="1169" y="1571"/>
                </a:lnTo>
                <a:lnTo>
                  <a:pt x="1235" y="1555"/>
                </a:lnTo>
                <a:lnTo>
                  <a:pt x="1304" y="1540"/>
                </a:lnTo>
                <a:lnTo>
                  <a:pt x="1372" y="1529"/>
                </a:lnTo>
                <a:lnTo>
                  <a:pt x="1440" y="1515"/>
                </a:lnTo>
                <a:lnTo>
                  <a:pt x="1575" y="1498"/>
                </a:lnTo>
                <a:lnTo>
                  <a:pt x="1853" y="1498"/>
                </a:lnTo>
                <a:lnTo>
                  <a:pt x="2119" y="1527"/>
                </a:lnTo>
                <a:lnTo>
                  <a:pt x="2231" y="1544"/>
                </a:lnTo>
                <a:lnTo>
                  <a:pt x="2321" y="1559"/>
                </a:lnTo>
                <a:lnTo>
                  <a:pt x="2400" y="1576"/>
                </a:lnTo>
                <a:lnTo>
                  <a:pt x="2416" y="1550"/>
                </a:lnTo>
                <a:lnTo>
                  <a:pt x="2435" y="1517"/>
                </a:lnTo>
                <a:lnTo>
                  <a:pt x="2463" y="1477"/>
                </a:lnTo>
                <a:lnTo>
                  <a:pt x="2494" y="1426"/>
                </a:lnTo>
                <a:lnTo>
                  <a:pt x="2532" y="1371"/>
                </a:lnTo>
                <a:lnTo>
                  <a:pt x="2573" y="1308"/>
                </a:lnTo>
                <a:lnTo>
                  <a:pt x="2619" y="1242"/>
                </a:lnTo>
                <a:lnTo>
                  <a:pt x="2644" y="1207"/>
                </a:lnTo>
                <a:lnTo>
                  <a:pt x="2668" y="1173"/>
                </a:lnTo>
                <a:lnTo>
                  <a:pt x="2695" y="1139"/>
                </a:lnTo>
                <a:lnTo>
                  <a:pt x="2706" y="1122"/>
                </a:lnTo>
                <a:lnTo>
                  <a:pt x="2720" y="1105"/>
                </a:lnTo>
                <a:lnTo>
                  <a:pt x="2733" y="1088"/>
                </a:lnTo>
                <a:lnTo>
                  <a:pt x="2746" y="1070"/>
                </a:lnTo>
                <a:lnTo>
                  <a:pt x="2760" y="1053"/>
                </a:lnTo>
                <a:lnTo>
                  <a:pt x="2773" y="1036"/>
                </a:lnTo>
                <a:lnTo>
                  <a:pt x="2786" y="1021"/>
                </a:lnTo>
                <a:lnTo>
                  <a:pt x="2801" y="1004"/>
                </a:lnTo>
                <a:lnTo>
                  <a:pt x="2815" y="987"/>
                </a:lnTo>
                <a:lnTo>
                  <a:pt x="2828" y="972"/>
                </a:lnTo>
                <a:lnTo>
                  <a:pt x="2843" y="956"/>
                </a:lnTo>
                <a:lnTo>
                  <a:pt x="2857" y="941"/>
                </a:lnTo>
                <a:lnTo>
                  <a:pt x="2870" y="924"/>
                </a:lnTo>
                <a:lnTo>
                  <a:pt x="2883" y="909"/>
                </a:lnTo>
                <a:lnTo>
                  <a:pt x="2896" y="896"/>
                </a:lnTo>
                <a:lnTo>
                  <a:pt x="2912" y="880"/>
                </a:lnTo>
                <a:lnTo>
                  <a:pt x="2923" y="867"/>
                </a:lnTo>
                <a:lnTo>
                  <a:pt x="2938" y="854"/>
                </a:lnTo>
                <a:lnTo>
                  <a:pt x="2952" y="840"/>
                </a:lnTo>
                <a:lnTo>
                  <a:pt x="2965" y="827"/>
                </a:lnTo>
                <a:lnTo>
                  <a:pt x="2978" y="816"/>
                </a:lnTo>
                <a:lnTo>
                  <a:pt x="2992" y="804"/>
                </a:lnTo>
                <a:lnTo>
                  <a:pt x="3018" y="783"/>
                </a:lnTo>
                <a:lnTo>
                  <a:pt x="3043" y="764"/>
                </a:lnTo>
                <a:lnTo>
                  <a:pt x="3069" y="747"/>
                </a:lnTo>
                <a:lnTo>
                  <a:pt x="3094" y="730"/>
                </a:lnTo>
                <a:lnTo>
                  <a:pt x="3119" y="715"/>
                </a:lnTo>
                <a:lnTo>
                  <a:pt x="3144" y="700"/>
                </a:lnTo>
                <a:lnTo>
                  <a:pt x="3168" y="684"/>
                </a:lnTo>
                <a:lnTo>
                  <a:pt x="3191" y="671"/>
                </a:lnTo>
                <a:lnTo>
                  <a:pt x="3214" y="658"/>
                </a:lnTo>
                <a:lnTo>
                  <a:pt x="3237" y="646"/>
                </a:lnTo>
                <a:lnTo>
                  <a:pt x="3282" y="624"/>
                </a:lnTo>
                <a:lnTo>
                  <a:pt x="3324" y="605"/>
                </a:lnTo>
                <a:lnTo>
                  <a:pt x="3364" y="587"/>
                </a:lnTo>
                <a:lnTo>
                  <a:pt x="3400" y="572"/>
                </a:lnTo>
                <a:lnTo>
                  <a:pt x="3434" y="561"/>
                </a:lnTo>
                <a:lnTo>
                  <a:pt x="3463" y="551"/>
                </a:lnTo>
                <a:lnTo>
                  <a:pt x="3510" y="536"/>
                </a:lnTo>
                <a:lnTo>
                  <a:pt x="3552" y="525"/>
                </a:lnTo>
                <a:lnTo>
                  <a:pt x="3339" y="304"/>
                </a:lnTo>
                <a:lnTo>
                  <a:pt x="3241" y="365"/>
                </a:lnTo>
                <a:lnTo>
                  <a:pt x="3377" y="487"/>
                </a:lnTo>
                <a:lnTo>
                  <a:pt x="3330" y="506"/>
                </a:lnTo>
                <a:lnTo>
                  <a:pt x="3305" y="517"/>
                </a:lnTo>
                <a:lnTo>
                  <a:pt x="3277" y="530"/>
                </a:lnTo>
                <a:lnTo>
                  <a:pt x="3246" y="546"/>
                </a:lnTo>
                <a:lnTo>
                  <a:pt x="3210" y="565"/>
                </a:lnTo>
                <a:lnTo>
                  <a:pt x="3172" y="584"/>
                </a:lnTo>
                <a:lnTo>
                  <a:pt x="3130" y="605"/>
                </a:lnTo>
                <a:lnTo>
                  <a:pt x="3109" y="618"/>
                </a:lnTo>
                <a:lnTo>
                  <a:pt x="3090" y="629"/>
                </a:lnTo>
                <a:lnTo>
                  <a:pt x="3068" y="643"/>
                </a:lnTo>
                <a:lnTo>
                  <a:pt x="3047" y="656"/>
                </a:lnTo>
                <a:lnTo>
                  <a:pt x="3026" y="669"/>
                </a:lnTo>
                <a:lnTo>
                  <a:pt x="3003" y="683"/>
                </a:lnTo>
                <a:lnTo>
                  <a:pt x="2982" y="698"/>
                </a:lnTo>
                <a:lnTo>
                  <a:pt x="2961" y="713"/>
                </a:lnTo>
                <a:lnTo>
                  <a:pt x="2938" y="728"/>
                </a:lnTo>
                <a:lnTo>
                  <a:pt x="2916" y="745"/>
                </a:lnTo>
                <a:lnTo>
                  <a:pt x="2896" y="762"/>
                </a:lnTo>
                <a:lnTo>
                  <a:pt x="2874" y="778"/>
                </a:lnTo>
                <a:lnTo>
                  <a:pt x="2855" y="797"/>
                </a:lnTo>
                <a:lnTo>
                  <a:pt x="2832" y="816"/>
                </a:lnTo>
                <a:lnTo>
                  <a:pt x="2811" y="839"/>
                </a:lnTo>
                <a:lnTo>
                  <a:pt x="2790" y="861"/>
                </a:lnTo>
                <a:lnTo>
                  <a:pt x="2767" y="884"/>
                </a:lnTo>
                <a:lnTo>
                  <a:pt x="2756" y="897"/>
                </a:lnTo>
                <a:lnTo>
                  <a:pt x="2744" y="911"/>
                </a:lnTo>
                <a:lnTo>
                  <a:pt x="2733" y="924"/>
                </a:lnTo>
                <a:lnTo>
                  <a:pt x="2724" y="937"/>
                </a:lnTo>
                <a:lnTo>
                  <a:pt x="2712" y="951"/>
                </a:lnTo>
                <a:lnTo>
                  <a:pt x="2701" y="964"/>
                </a:lnTo>
                <a:lnTo>
                  <a:pt x="2689" y="979"/>
                </a:lnTo>
                <a:lnTo>
                  <a:pt x="2678" y="993"/>
                </a:lnTo>
                <a:lnTo>
                  <a:pt x="2666" y="1008"/>
                </a:lnTo>
                <a:lnTo>
                  <a:pt x="2657" y="1021"/>
                </a:lnTo>
                <a:lnTo>
                  <a:pt x="2613" y="1080"/>
                </a:lnTo>
                <a:lnTo>
                  <a:pt x="2571" y="1139"/>
                </a:lnTo>
                <a:lnTo>
                  <a:pt x="2532" y="1196"/>
                </a:lnTo>
                <a:lnTo>
                  <a:pt x="2495" y="1253"/>
                </a:lnTo>
                <a:lnTo>
                  <a:pt x="2463" y="1304"/>
                </a:lnTo>
                <a:lnTo>
                  <a:pt x="2431" y="1354"/>
                </a:lnTo>
                <a:lnTo>
                  <a:pt x="2406" y="1394"/>
                </a:lnTo>
                <a:lnTo>
                  <a:pt x="2370" y="1457"/>
                </a:lnTo>
                <a:lnTo>
                  <a:pt x="2355" y="1479"/>
                </a:lnTo>
                <a:lnTo>
                  <a:pt x="2338" y="1472"/>
                </a:lnTo>
                <a:lnTo>
                  <a:pt x="2283" y="1453"/>
                </a:lnTo>
                <a:lnTo>
                  <a:pt x="2245" y="1441"/>
                </a:lnTo>
                <a:lnTo>
                  <a:pt x="2197" y="1428"/>
                </a:lnTo>
                <a:lnTo>
                  <a:pt x="2144" y="1415"/>
                </a:lnTo>
                <a:lnTo>
                  <a:pt x="2083" y="1403"/>
                </a:lnTo>
                <a:lnTo>
                  <a:pt x="2016" y="1392"/>
                </a:lnTo>
                <a:lnTo>
                  <a:pt x="1944" y="1382"/>
                </a:lnTo>
                <a:lnTo>
                  <a:pt x="1783" y="1373"/>
                </a:lnTo>
                <a:lnTo>
                  <a:pt x="1604" y="1377"/>
                </a:lnTo>
                <a:lnTo>
                  <a:pt x="1412" y="1401"/>
                </a:lnTo>
                <a:lnTo>
                  <a:pt x="1317" y="1418"/>
                </a:lnTo>
                <a:lnTo>
                  <a:pt x="1233" y="1437"/>
                </a:lnTo>
                <a:lnTo>
                  <a:pt x="1161" y="1453"/>
                </a:lnTo>
                <a:lnTo>
                  <a:pt x="1098" y="1468"/>
                </a:lnTo>
                <a:lnTo>
                  <a:pt x="1041" y="1481"/>
                </a:lnTo>
                <a:lnTo>
                  <a:pt x="996" y="1495"/>
                </a:lnTo>
                <a:lnTo>
                  <a:pt x="923" y="1515"/>
                </a:lnTo>
                <a:lnTo>
                  <a:pt x="851" y="1544"/>
                </a:lnTo>
                <a:lnTo>
                  <a:pt x="838" y="1555"/>
                </a:lnTo>
                <a:lnTo>
                  <a:pt x="152" y="129"/>
                </a:lnTo>
                <a:lnTo>
                  <a:pt x="294" y="93"/>
                </a:lnTo>
                <a:lnTo>
                  <a:pt x="256" y="0"/>
                </a:lnTo>
                <a:lnTo>
                  <a:pt x="2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73600" y="4859280"/>
            <a:ext cx="644400" cy="1238400"/>
          </a:xfrm>
          <a:custGeom>
            <a:avLst/>
            <a:gdLst/>
            <a:ahLst/>
            <a:rect l="l" t="t" r="r" b="b"/>
            <a:pathLst>
              <a:path w="811" h="1559">
                <a:moveTo>
                  <a:pt x="266" y="0"/>
                </a:moveTo>
                <a:lnTo>
                  <a:pt x="0" y="91"/>
                </a:lnTo>
                <a:lnTo>
                  <a:pt x="690" y="1559"/>
                </a:lnTo>
                <a:lnTo>
                  <a:pt x="811" y="1528"/>
                </a:lnTo>
                <a:lnTo>
                  <a:pt x="144" y="137"/>
                </a:lnTo>
                <a:lnTo>
                  <a:pt x="317" y="83"/>
                </a:lnTo>
                <a:lnTo>
                  <a:pt x="266" y="0"/>
                </a:lnTo>
                <a:lnTo>
                  <a:pt x="2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78480" y="5099040"/>
            <a:ext cx="2241360" cy="998640"/>
          </a:xfrm>
          <a:custGeom>
            <a:avLst/>
            <a:gdLst/>
            <a:ahLst/>
            <a:rect l="l" t="t" r="r" b="b"/>
            <a:pathLst>
              <a:path w="2823" h="1257">
                <a:moveTo>
                  <a:pt x="0" y="1213"/>
                </a:moveTo>
                <a:lnTo>
                  <a:pt x="23" y="1206"/>
                </a:lnTo>
                <a:lnTo>
                  <a:pt x="80" y="1190"/>
                </a:lnTo>
                <a:lnTo>
                  <a:pt x="120" y="1179"/>
                </a:lnTo>
                <a:lnTo>
                  <a:pt x="166" y="1166"/>
                </a:lnTo>
                <a:lnTo>
                  <a:pt x="215" y="1152"/>
                </a:lnTo>
                <a:lnTo>
                  <a:pt x="270" y="1137"/>
                </a:lnTo>
                <a:lnTo>
                  <a:pt x="325" y="1122"/>
                </a:lnTo>
                <a:lnTo>
                  <a:pt x="384" y="1107"/>
                </a:lnTo>
                <a:lnTo>
                  <a:pt x="441" y="1091"/>
                </a:lnTo>
                <a:lnTo>
                  <a:pt x="496" y="1076"/>
                </a:lnTo>
                <a:lnTo>
                  <a:pt x="552" y="1063"/>
                </a:lnTo>
                <a:lnTo>
                  <a:pt x="603" y="1050"/>
                </a:lnTo>
                <a:lnTo>
                  <a:pt x="690" y="1029"/>
                </a:lnTo>
                <a:lnTo>
                  <a:pt x="789" y="1015"/>
                </a:lnTo>
                <a:lnTo>
                  <a:pt x="920" y="1008"/>
                </a:lnTo>
                <a:lnTo>
                  <a:pt x="1228" y="1000"/>
                </a:lnTo>
                <a:lnTo>
                  <a:pt x="1614" y="1008"/>
                </a:lnTo>
                <a:lnTo>
                  <a:pt x="1631" y="987"/>
                </a:lnTo>
                <a:lnTo>
                  <a:pt x="1641" y="975"/>
                </a:lnTo>
                <a:lnTo>
                  <a:pt x="1652" y="962"/>
                </a:lnTo>
                <a:lnTo>
                  <a:pt x="1666" y="949"/>
                </a:lnTo>
                <a:lnTo>
                  <a:pt x="1679" y="932"/>
                </a:lnTo>
                <a:lnTo>
                  <a:pt x="1694" y="915"/>
                </a:lnTo>
                <a:lnTo>
                  <a:pt x="1713" y="896"/>
                </a:lnTo>
                <a:lnTo>
                  <a:pt x="1730" y="875"/>
                </a:lnTo>
                <a:lnTo>
                  <a:pt x="1751" y="854"/>
                </a:lnTo>
                <a:lnTo>
                  <a:pt x="1772" y="831"/>
                </a:lnTo>
                <a:lnTo>
                  <a:pt x="1783" y="818"/>
                </a:lnTo>
                <a:lnTo>
                  <a:pt x="1795" y="806"/>
                </a:lnTo>
                <a:lnTo>
                  <a:pt x="1806" y="795"/>
                </a:lnTo>
                <a:lnTo>
                  <a:pt x="1818" y="782"/>
                </a:lnTo>
                <a:lnTo>
                  <a:pt x="1829" y="770"/>
                </a:lnTo>
                <a:lnTo>
                  <a:pt x="1840" y="757"/>
                </a:lnTo>
                <a:lnTo>
                  <a:pt x="1865" y="732"/>
                </a:lnTo>
                <a:lnTo>
                  <a:pt x="1878" y="719"/>
                </a:lnTo>
                <a:lnTo>
                  <a:pt x="1892" y="705"/>
                </a:lnTo>
                <a:lnTo>
                  <a:pt x="1905" y="692"/>
                </a:lnTo>
                <a:lnTo>
                  <a:pt x="1916" y="679"/>
                </a:lnTo>
                <a:lnTo>
                  <a:pt x="1943" y="652"/>
                </a:lnTo>
                <a:lnTo>
                  <a:pt x="1958" y="641"/>
                </a:lnTo>
                <a:lnTo>
                  <a:pt x="1972" y="627"/>
                </a:lnTo>
                <a:lnTo>
                  <a:pt x="1985" y="614"/>
                </a:lnTo>
                <a:lnTo>
                  <a:pt x="2000" y="601"/>
                </a:lnTo>
                <a:lnTo>
                  <a:pt x="2013" y="588"/>
                </a:lnTo>
                <a:lnTo>
                  <a:pt x="2027" y="576"/>
                </a:lnTo>
                <a:lnTo>
                  <a:pt x="2042" y="565"/>
                </a:lnTo>
                <a:lnTo>
                  <a:pt x="2055" y="551"/>
                </a:lnTo>
                <a:lnTo>
                  <a:pt x="2068" y="540"/>
                </a:lnTo>
                <a:lnTo>
                  <a:pt x="2084" y="527"/>
                </a:lnTo>
                <a:lnTo>
                  <a:pt x="2112" y="504"/>
                </a:lnTo>
                <a:lnTo>
                  <a:pt x="2141" y="481"/>
                </a:lnTo>
                <a:lnTo>
                  <a:pt x="2169" y="460"/>
                </a:lnTo>
                <a:lnTo>
                  <a:pt x="2196" y="439"/>
                </a:lnTo>
                <a:lnTo>
                  <a:pt x="2224" y="420"/>
                </a:lnTo>
                <a:lnTo>
                  <a:pt x="2251" y="403"/>
                </a:lnTo>
                <a:lnTo>
                  <a:pt x="2278" y="388"/>
                </a:lnTo>
                <a:lnTo>
                  <a:pt x="2302" y="373"/>
                </a:lnTo>
                <a:lnTo>
                  <a:pt x="2327" y="359"/>
                </a:lnTo>
                <a:lnTo>
                  <a:pt x="2352" y="346"/>
                </a:lnTo>
                <a:lnTo>
                  <a:pt x="2373" y="335"/>
                </a:lnTo>
                <a:lnTo>
                  <a:pt x="2416" y="312"/>
                </a:lnTo>
                <a:lnTo>
                  <a:pt x="2452" y="295"/>
                </a:lnTo>
                <a:lnTo>
                  <a:pt x="2487" y="278"/>
                </a:lnTo>
                <a:lnTo>
                  <a:pt x="2515" y="264"/>
                </a:lnTo>
                <a:lnTo>
                  <a:pt x="2565" y="243"/>
                </a:lnTo>
                <a:lnTo>
                  <a:pt x="2643" y="221"/>
                </a:lnTo>
                <a:lnTo>
                  <a:pt x="2489" y="38"/>
                </a:lnTo>
                <a:lnTo>
                  <a:pt x="2580" y="0"/>
                </a:lnTo>
                <a:lnTo>
                  <a:pt x="2823" y="268"/>
                </a:lnTo>
                <a:lnTo>
                  <a:pt x="2804" y="274"/>
                </a:lnTo>
                <a:lnTo>
                  <a:pt x="2755" y="291"/>
                </a:lnTo>
                <a:lnTo>
                  <a:pt x="2719" y="304"/>
                </a:lnTo>
                <a:lnTo>
                  <a:pt x="2679" y="318"/>
                </a:lnTo>
                <a:lnTo>
                  <a:pt x="2633" y="335"/>
                </a:lnTo>
                <a:lnTo>
                  <a:pt x="2584" y="356"/>
                </a:lnTo>
                <a:lnTo>
                  <a:pt x="2532" y="376"/>
                </a:lnTo>
                <a:lnTo>
                  <a:pt x="2504" y="388"/>
                </a:lnTo>
                <a:lnTo>
                  <a:pt x="2477" y="401"/>
                </a:lnTo>
                <a:lnTo>
                  <a:pt x="2451" y="413"/>
                </a:lnTo>
                <a:lnTo>
                  <a:pt x="2422" y="428"/>
                </a:lnTo>
                <a:lnTo>
                  <a:pt x="2394" y="441"/>
                </a:lnTo>
                <a:lnTo>
                  <a:pt x="2367" y="454"/>
                </a:lnTo>
                <a:lnTo>
                  <a:pt x="2338" y="470"/>
                </a:lnTo>
                <a:lnTo>
                  <a:pt x="2312" y="485"/>
                </a:lnTo>
                <a:lnTo>
                  <a:pt x="2283" y="502"/>
                </a:lnTo>
                <a:lnTo>
                  <a:pt x="2257" y="517"/>
                </a:lnTo>
                <a:lnTo>
                  <a:pt x="2230" y="534"/>
                </a:lnTo>
                <a:lnTo>
                  <a:pt x="2205" y="551"/>
                </a:lnTo>
                <a:lnTo>
                  <a:pt x="2181" y="569"/>
                </a:lnTo>
                <a:lnTo>
                  <a:pt x="2156" y="586"/>
                </a:lnTo>
                <a:lnTo>
                  <a:pt x="2133" y="605"/>
                </a:lnTo>
                <a:lnTo>
                  <a:pt x="2108" y="624"/>
                </a:lnTo>
                <a:lnTo>
                  <a:pt x="2086" y="645"/>
                </a:lnTo>
                <a:lnTo>
                  <a:pt x="2061" y="664"/>
                </a:lnTo>
                <a:lnTo>
                  <a:pt x="2040" y="686"/>
                </a:lnTo>
                <a:lnTo>
                  <a:pt x="2017" y="707"/>
                </a:lnTo>
                <a:lnTo>
                  <a:pt x="1994" y="728"/>
                </a:lnTo>
                <a:lnTo>
                  <a:pt x="1973" y="751"/>
                </a:lnTo>
                <a:lnTo>
                  <a:pt x="1951" y="772"/>
                </a:lnTo>
                <a:lnTo>
                  <a:pt x="1928" y="795"/>
                </a:lnTo>
                <a:lnTo>
                  <a:pt x="1909" y="816"/>
                </a:lnTo>
                <a:lnTo>
                  <a:pt x="1888" y="839"/>
                </a:lnTo>
                <a:lnTo>
                  <a:pt x="1869" y="859"/>
                </a:lnTo>
                <a:lnTo>
                  <a:pt x="1848" y="880"/>
                </a:lnTo>
                <a:lnTo>
                  <a:pt x="1831" y="901"/>
                </a:lnTo>
                <a:lnTo>
                  <a:pt x="1812" y="922"/>
                </a:lnTo>
                <a:lnTo>
                  <a:pt x="1795" y="941"/>
                </a:lnTo>
                <a:lnTo>
                  <a:pt x="1780" y="960"/>
                </a:lnTo>
                <a:lnTo>
                  <a:pt x="1764" y="979"/>
                </a:lnTo>
                <a:lnTo>
                  <a:pt x="1749" y="996"/>
                </a:lnTo>
                <a:lnTo>
                  <a:pt x="1736" y="1014"/>
                </a:lnTo>
                <a:lnTo>
                  <a:pt x="1723" y="1029"/>
                </a:lnTo>
                <a:lnTo>
                  <a:pt x="1711" y="1042"/>
                </a:lnTo>
                <a:lnTo>
                  <a:pt x="1702" y="1057"/>
                </a:lnTo>
                <a:lnTo>
                  <a:pt x="1683" y="1080"/>
                </a:lnTo>
                <a:lnTo>
                  <a:pt x="1669" y="1095"/>
                </a:lnTo>
                <a:lnTo>
                  <a:pt x="1658" y="1110"/>
                </a:lnTo>
                <a:lnTo>
                  <a:pt x="894" y="1137"/>
                </a:lnTo>
                <a:lnTo>
                  <a:pt x="715" y="1166"/>
                </a:lnTo>
                <a:lnTo>
                  <a:pt x="630" y="1187"/>
                </a:lnTo>
                <a:lnTo>
                  <a:pt x="552" y="1206"/>
                </a:lnTo>
                <a:lnTo>
                  <a:pt x="485" y="1225"/>
                </a:lnTo>
                <a:lnTo>
                  <a:pt x="434" y="1242"/>
                </a:lnTo>
                <a:lnTo>
                  <a:pt x="388" y="1257"/>
                </a:lnTo>
                <a:lnTo>
                  <a:pt x="0" y="1213"/>
                </a:lnTo>
                <a:lnTo>
                  <a:pt x="0" y="12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771640" y="4035600"/>
            <a:ext cx="177840" cy="1760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162" y="211"/>
                </a:moveTo>
                <a:lnTo>
                  <a:pt x="150" y="217"/>
                </a:lnTo>
                <a:lnTo>
                  <a:pt x="137" y="221"/>
                </a:lnTo>
                <a:lnTo>
                  <a:pt x="124" y="223"/>
                </a:lnTo>
                <a:lnTo>
                  <a:pt x="108" y="223"/>
                </a:lnTo>
                <a:lnTo>
                  <a:pt x="95" y="221"/>
                </a:lnTo>
                <a:lnTo>
                  <a:pt x="80" y="219"/>
                </a:lnTo>
                <a:lnTo>
                  <a:pt x="69" y="213"/>
                </a:lnTo>
                <a:lnTo>
                  <a:pt x="55" y="208"/>
                </a:lnTo>
                <a:lnTo>
                  <a:pt x="44" y="200"/>
                </a:lnTo>
                <a:lnTo>
                  <a:pt x="32" y="191"/>
                </a:lnTo>
                <a:lnTo>
                  <a:pt x="25" y="179"/>
                </a:lnTo>
                <a:lnTo>
                  <a:pt x="15" y="168"/>
                </a:lnTo>
                <a:lnTo>
                  <a:pt x="10" y="154"/>
                </a:lnTo>
                <a:lnTo>
                  <a:pt x="6" y="141"/>
                </a:lnTo>
                <a:lnTo>
                  <a:pt x="2" y="128"/>
                </a:lnTo>
                <a:lnTo>
                  <a:pt x="0" y="114"/>
                </a:lnTo>
                <a:lnTo>
                  <a:pt x="2" y="101"/>
                </a:lnTo>
                <a:lnTo>
                  <a:pt x="4" y="86"/>
                </a:lnTo>
                <a:lnTo>
                  <a:pt x="8" y="73"/>
                </a:lnTo>
                <a:lnTo>
                  <a:pt x="13" y="59"/>
                </a:lnTo>
                <a:lnTo>
                  <a:pt x="21" y="48"/>
                </a:lnTo>
                <a:lnTo>
                  <a:pt x="31" y="37"/>
                </a:lnTo>
                <a:lnTo>
                  <a:pt x="40" y="29"/>
                </a:lnTo>
                <a:lnTo>
                  <a:pt x="51" y="19"/>
                </a:lnTo>
                <a:lnTo>
                  <a:pt x="63" y="12"/>
                </a:lnTo>
                <a:lnTo>
                  <a:pt x="76" y="6"/>
                </a:lnTo>
                <a:lnTo>
                  <a:pt x="89" y="2"/>
                </a:lnTo>
                <a:lnTo>
                  <a:pt x="103" y="0"/>
                </a:lnTo>
                <a:lnTo>
                  <a:pt x="116" y="0"/>
                </a:lnTo>
                <a:lnTo>
                  <a:pt x="131" y="2"/>
                </a:lnTo>
                <a:lnTo>
                  <a:pt x="145" y="4"/>
                </a:lnTo>
                <a:lnTo>
                  <a:pt x="158" y="10"/>
                </a:lnTo>
                <a:lnTo>
                  <a:pt x="169" y="16"/>
                </a:lnTo>
                <a:lnTo>
                  <a:pt x="181" y="23"/>
                </a:lnTo>
                <a:lnTo>
                  <a:pt x="192" y="33"/>
                </a:lnTo>
                <a:lnTo>
                  <a:pt x="202" y="44"/>
                </a:lnTo>
                <a:lnTo>
                  <a:pt x="209" y="56"/>
                </a:lnTo>
                <a:lnTo>
                  <a:pt x="215" y="69"/>
                </a:lnTo>
                <a:lnTo>
                  <a:pt x="221" y="82"/>
                </a:lnTo>
                <a:lnTo>
                  <a:pt x="223" y="95"/>
                </a:lnTo>
                <a:lnTo>
                  <a:pt x="224" y="109"/>
                </a:lnTo>
                <a:lnTo>
                  <a:pt x="223" y="124"/>
                </a:lnTo>
                <a:lnTo>
                  <a:pt x="221" y="137"/>
                </a:lnTo>
                <a:lnTo>
                  <a:pt x="217" y="151"/>
                </a:lnTo>
                <a:lnTo>
                  <a:pt x="211" y="162"/>
                </a:lnTo>
                <a:lnTo>
                  <a:pt x="204" y="175"/>
                </a:lnTo>
                <a:lnTo>
                  <a:pt x="196" y="187"/>
                </a:lnTo>
                <a:lnTo>
                  <a:pt x="186" y="196"/>
                </a:lnTo>
                <a:lnTo>
                  <a:pt x="175" y="204"/>
                </a:lnTo>
                <a:lnTo>
                  <a:pt x="162" y="211"/>
                </a:lnTo>
                <a:lnTo>
                  <a:pt x="162" y="2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836800" y="4633920"/>
            <a:ext cx="68400" cy="147600"/>
          </a:xfrm>
          <a:custGeom>
            <a:avLst/>
            <a:gdLst/>
            <a:ahLst/>
            <a:rect l="l" t="t" r="r" b="b"/>
            <a:pathLst>
              <a:path w="85" h="187">
                <a:moveTo>
                  <a:pt x="0" y="187"/>
                </a:moveTo>
                <a:lnTo>
                  <a:pt x="85" y="187"/>
                </a:lnTo>
                <a:lnTo>
                  <a:pt x="85" y="0"/>
                </a:lnTo>
                <a:lnTo>
                  <a:pt x="0" y="0"/>
                </a:lnTo>
                <a:lnTo>
                  <a:pt x="0" y="187"/>
                </a:lnTo>
                <a:lnTo>
                  <a:pt x="0" y="1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01920" y="4124160"/>
            <a:ext cx="181080" cy="61920"/>
          </a:xfrm>
          <a:custGeom>
            <a:avLst/>
            <a:gdLst/>
            <a:ahLst/>
            <a:rect l="l" t="t" r="r" b="b"/>
            <a:pathLst>
              <a:path w="228" h="78">
                <a:moveTo>
                  <a:pt x="0" y="78"/>
                </a:moveTo>
                <a:lnTo>
                  <a:pt x="228" y="78"/>
                </a:lnTo>
                <a:lnTo>
                  <a:pt x="228" y="0"/>
                </a:lnTo>
                <a:lnTo>
                  <a:pt x="0" y="0"/>
                </a:lnTo>
                <a:lnTo>
                  <a:pt x="0" y="78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03560" y="4475160"/>
            <a:ext cx="135000" cy="176040"/>
          </a:xfrm>
          <a:custGeom>
            <a:avLst/>
            <a:gdLst/>
            <a:ahLst/>
            <a:rect l="l" t="t" r="r" b="b"/>
            <a:pathLst>
              <a:path w="171" h="222">
                <a:moveTo>
                  <a:pt x="52" y="0"/>
                </a:moveTo>
                <a:lnTo>
                  <a:pt x="0" y="57"/>
                </a:lnTo>
                <a:lnTo>
                  <a:pt x="122" y="222"/>
                </a:lnTo>
                <a:lnTo>
                  <a:pt x="171" y="171"/>
                </a:lnTo>
                <a:lnTo>
                  <a:pt x="52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160800" y="3727440"/>
            <a:ext cx="163440" cy="141120"/>
          </a:xfrm>
          <a:custGeom>
            <a:avLst/>
            <a:gdLst/>
            <a:ahLst/>
            <a:rect l="l" t="t" r="r" b="b"/>
            <a:pathLst>
              <a:path w="207" h="177">
                <a:moveTo>
                  <a:pt x="0" y="115"/>
                </a:moveTo>
                <a:lnTo>
                  <a:pt x="57" y="177"/>
                </a:lnTo>
                <a:lnTo>
                  <a:pt x="207" y="42"/>
                </a:lnTo>
                <a:lnTo>
                  <a:pt x="163" y="0"/>
                </a:lnTo>
                <a:lnTo>
                  <a:pt x="0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498760" y="4525920"/>
            <a:ext cx="123840" cy="125280"/>
          </a:xfrm>
          <a:custGeom>
            <a:avLst/>
            <a:gdLst/>
            <a:ahLst/>
            <a:rect l="l" t="t" r="r" b="b"/>
            <a:pathLst>
              <a:path w="158" h="158">
                <a:moveTo>
                  <a:pt x="158" y="52"/>
                </a:moveTo>
                <a:lnTo>
                  <a:pt x="36" y="158"/>
                </a:lnTo>
                <a:lnTo>
                  <a:pt x="0" y="101"/>
                </a:lnTo>
                <a:lnTo>
                  <a:pt x="116" y="0"/>
                </a:lnTo>
                <a:lnTo>
                  <a:pt x="158" y="52"/>
                </a:lnTo>
                <a:lnTo>
                  <a:pt x="15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97320" y="4497480"/>
            <a:ext cx="640080" cy="1276200"/>
          </a:xfrm>
          <a:custGeom>
            <a:avLst/>
            <a:gdLst/>
            <a:ahLst/>
            <a:rect l="l" t="t" r="r" b="b"/>
            <a:pathLst>
              <a:path w="806" h="1607">
                <a:moveTo>
                  <a:pt x="99" y="0"/>
                </a:moveTo>
                <a:lnTo>
                  <a:pt x="806" y="1508"/>
                </a:lnTo>
                <a:lnTo>
                  <a:pt x="747" y="1607"/>
                </a:lnTo>
                <a:lnTo>
                  <a:pt x="0" y="15"/>
                </a:lnTo>
                <a:lnTo>
                  <a:pt x="99" y="0"/>
                </a:lnTo>
                <a:lnTo>
                  <a:pt x="9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419200" y="4923000"/>
            <a:ext cx="508320" cy="776160"/>
          </a:xfrm>
          <a:custGeom>
            <a:avLst/>
            <a:gdLst/>
            <a:ahLst/>
            <a:rect l="l" t="t" r="r" b="b"/>
            <a:pathLst>
              <a:path w="641" h="978">
                <a:moveTo>
                  <a:pt x="534" y="0"/>
                </a:moveTo>
                <a:lnTo>
                  <a:pt x="0" y="828"/>
                </a:lnTo>
                <a:lnTo>
                  <a:pt x="29" y="978"/>
                </a:lnTo>
                <a:lnTo>
                  <a:pt x="641" y="21"/>
                </a:lnTo>
                <a:lnTo>
                  <a:pt x="534" y="0"/>
                </a:lnTo>
                <a:lnTo>
                  <a:pt x="5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860560" y="4073400"/>
            <a:ext cx="463680" cy="368280"/>
          </a:xfrm>
          <a:custGeom>
            <a:avLst/>
            <a:gdLst/>
            <a:ahLst/>
            <a:rect l="l" t="t" r="r" b="b"/>
            <a:pathLst>
              <a:path w="586" h="464">
                <a:moveTo>
                  <a:pt x="0" y="106"/>
                </a:moveTo>
                <a:lnTo>
                  <a:pt x="550" y="464"/>
                </a:lnTo>
                <a:lnTo>
                  <a:pt x="586" y="420"/>
                </a:lnTo>
                <a:lnTo>
                  <a:pt x="36" y="0"/>
                </a:lnTo>
                <a:lnTo>
                  <a:pt x="0" y="106"/>
                </a:lnTo>
                <a:lnTo>
                  <a:pt x="0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21080" y="4135320"/>
            <a:ext cx="339480" cy="335160"/>
          </a:xfrm>
          <a:custGeom>
            <a:avLst/>
            <a:gdLst/>
            <a:ahLst/>
            <a:rect l="l" t="t" r="r" b="b"/>
            <a:pathLst>
              <a:path w="427" h="422">
                <a:moveTo>
                  <a:pt x="342" y="0"/>
                </a:moveTo>
                <a:lnTo>
                  <a:pt x="0" y="373"/>
                </a:lnTo>
                <a:lnTo>
                  <a:pt x="28" y="422"/>
                </a:lnTo>
                <a:lnTo>
                  <a:pt x="427" y="72"/>
                </a:lnTo>
                <a:lnTo>
                  <a:pt x="342" y="0"/>
                </a:lnTo>
                <a:lnTo>
                  <a:pt x="3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28840" y="4764240"/>
            <a:ext cx="785880" cy="498240"/>
          </a:xfrm>
          <a:custGeom>
            <a:avLst/>
            <a:gdLst/>
            <a:ahLst/>
            <a:rect l="l" t="t" r="r" b="b"/>
            <a:pathLst>
              <a:path w="990" h="627">
                <a:moveTo>
                  <a:pt x="0" y="85"/>
                </a:moveTo>
                <a:lnTo>
                  <a:pt x="990" y="627"/>
                </a:lnTo>
                <a:lnTo>
                  <a:pt x="990" y="506"/>
                </a:lnTo>
                <a:lnTo>
                  <a:pt x="78" y="0"/>
                </a:lnTo>
                <a:lnTo>
                  <a:pt x="0" y="85"/>
                </a:lnTo>
                <a:lnTo>
                  <a:pt x="0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409920" y="5200560"/>
            <a:ext cx="654120" cy="901800"/>
          </a:xfrm>
          <a:custGeom>
            <a:avLst/>
            <a:gdLst/>
            <a:ahLst/>
            <a:rect l="l" t="t" r="r" b="b"/>
            <a:pathLst>
              <a:path w="825" h="1136">
                <a:moveTo>
                  <a:pt x="747" y="0"/>
                </a:moveTo>
                <a:lnTo>
                  <a:pt x="0" y="1136"/>
                </a:lnTo>
                <a:lnTo>
                  <a:pt x="150" y="1113"/>
                </a:lnTo>
                <a:lnTo>
                  <a:pt x="825" y="107"/>
                </a:lnTo>
                <a:lnTo>
                  <a:pt x="747" y="0"/>
                </a:lnTo>
                <a:lnTo>
                  <a:pt x="7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063960" y="4978440"/>
            <a:ext cx="672840" cy="403200"/>
          </a:xfrm>
          <a:custGeom>
            <a:avLst/>
            <a:gdLst/>
            <a:ahLst/>
            <a:rect l="l" t="t" r="r" b="b"/>
            <a:pathLst>
              <a:path w="848" h="508">
                <a:moveTo>
                  <a:pt x="36" y="0"/>
                </a:moveTo>
                <a:lnTo>
                  <a:pt x="848" y="443"/>
                </a:lnTo>
                <a:lnTo>
                  <a:pt x="806" y="508"/>
                </a:lnTo>
                <a:lnTo>
                  <a:pt x="0" y="5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95560" y="5081760"/>
            <a:ext cx="674640" cy="403200"/>
          </a:xfrm>
          <a:custGeom>
            <a:avLst/>
            <a:gdLst/>
            <a:ahLst/>
            <a:rect l="l" t="t" r="r" b="b"/>
            <a:pathLst>
              <a:path w="850" h="508">
                <a:moveTo>
                  <a:pt x="36" y="0"/>
                </a:moveTo>
                <a:lnTo>
                  <a:pt x="850" y="443"/>
                </a:lnTo>
                <a:lnTo>
                  <a:pt x="806" y="508"/>
                </a:lnTo>
                <a:lnTo>
                  <a:pt x="0" y="5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927520" y="5184720"/>
            <a:ext cx="674640" cy="401760"/>
          </a:xfrm>
          <a:custGeom>
            <a:avLst/>
            <a:gdLst/>
            <a:ahLst/>
            <a:rect l="l" t="t" r="r" b="b"/>
            <a:pathLst>
              <a:path w="850" h="506">
                <a:moveTo>
                  <a:pt x="36" y="0"/>
                </a:moveTo>
                <a:lnTo>
                  <a:pt x="850" y="444"/>
                </a:lnTo>
                <a:lnTo>
                  <a:pt x="806" y="506"/>
                </a:lnTo>
                <a:lnTo>
                  <a:pt x="0" y="58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62360" y="5286240"/>
            <a:ext cx="671400" cy="401760"/>
          </a:xfrm>
          <a:custGeom>
            <a:avLst/>
            <a:gdLst/>
            <a:ahLst/>
            <a:rect l="l" t="t" r="r" b="b"/>
            <a:pathLst>
              <a:path w="848" h="506">
                <a:moveTo>
                  <a:pt x="36" y="0"/>
                </a:moveTo>
                <a:lnTo>
                  <a:pt x="848" y="441"/>
                </a:lnTo>
                <a:lnTo>
                  <a:pt x="806" y="506"/>
                </a:lnTo>
                <a:lnTo>
                  <a:pt x="0" y="5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93960" y="5388120"/>
            <a:ext cx="673200" cy="403200"/>
          </a:xfrm>
          <a:custGeom>
            <a:avLst/>
            <a:gdLst/>
            <a:ahLst/>
            <a:rect l="l" t="t" r="r" b="b"/>
            <a:pathLst>
              <a:path w="847" h="508">
                <a:moveTo>
                  <a:pt x="36" y="0"/>
                </a:moveTo>
                <a:lnTo>
                  <a:pt x="847" y="443"/>
                </a:lnTo>
                <a:lnTo>
                  <a:pt x="804" y="508"/>
                </a:lnTo>
                <a:lnTo>
                  <a:pt x="0" y="59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725560" y="5491080"/>
            <a:ext cx="675000" cy="403200"/>
          </a:xfrm>
          <a:custGeom>
            <a:avLst/>
            <a:gdLst/>
            <a:ahLst/>
            <a:rect l="l" t="t" r="r" b="b"/>
            <a:pathLst>
              <a:path w="850" h="508">
                <a:moveTo>
                  <a:pt x="36" y="0"/>
                </a:moveTo>
                <a:lnTo>
                  <a:pt x="850" y="444"/>
                </a:lnTo>
                <a:lnTo>
                  <a:pt x="806" y="508"/>
                </a:lnTo>
                <a:lnTo>
                  <a:pt x="0" y="58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657520" y="5592600"/>
            <a:ext cx="673200" cy="403560"/>
          </a:xfrm>
          <a:custGeom>
            <a:avLst/>
            <a:gdLst/>
            <a:ahLst/>
            <a:rect l="l" t="t" r="r" b="b"/>
            <a:pathLst>
              <a:path w="847" h="508">
                <a:moveTo>
                  <a:pt x="36" y="0"/>
                </a:moveTo>
                <a:lnTo>
                  <a:pt x="847" y="443"/>
                </a:lnTo>
                <a:lnTo>
                  <a:pt x="806" y="508"/>
                </a:lnTo>
                <a:lnTo>
                  <a:pt x="0" y="5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90920" y="5695920"/>
            <a:ext cx="672840" cy="401760"/>
          </a:xfrm>
          <a:custGeom>
            <a:avLst/>
            <a:gdLst/>
            <a:ahLst/>
            <a:rect l="l" t="t" r="r" b="b"/>
            <a:pathLst>
              <a:path w="848" h="506">
                <a:moveTo>
                  <a:pt x="34" y="0"/>
                </a:moveTo>
                <a:lnTo>
                  <a:pt x="848" y="443"/>
                </a:lnTo>
                <a:lnTo>
                  <a:pt x="806" y="506"/>
                </a:lnTo>
                <a:lnTo>
                  <a:pt x="0" y="57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523960" y="5799240"/>
            <a:ext cx="628920" cy="328680"/>
          </a:xfrm>
          <a:custGeom>
            <a:avLst/>
            <a:gdLst/>
            <a:ahLst/>
            <a:rect l="l" t="t" r="r" b="b"/>
            <a:pathLst>
              <a:path w="793" h="415">
                <a:moveTo>
                  <a:pt x="37" y="0"/>
                </a:moveTo>
                <a:lnTo>
                  <a:pt x="793" y="415"/>
                </a:lnTo>
                <a:lnTo>
                  <a:pt x="618" y="398"/>
                </a:lnTo>
                <a:lnTo>
                  <a:pt x="0" y="56"/>
                </a:lnTo>
                <a:lnTo>
                  <a:pt x="37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455920" y="5899320"/>
            <a:ext cx="420480" cy="228600"/>
          </a:xfrm>
          <a:custGeom>
            <a:avLst/>
            <a:gdLst/>
            <a:ahLst/>
            <a:rect l="l" t="t" r="r" b="b"/>
            <a:pathLst>
              <a:path w="530" h="287">
                <a:moveTo>
                  <a:pt x="36" y="0"/>
                </a:moveTo>
                <a:lnTo>
                  <a:pt x="530" y="274"/>
                </a:lnTo>
                <a:lnTo>
                  <a:pt x="424" y="287"/>
                </a:lnTo>
                <a:lnTo>
                  <a:pt x="0" y="5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733920" y="3774960"/>
            <a:ext cx="303120" cy="452520"/>
          </a:xfrm>
          <a:custGeom>
            <a:avLst/>
            <a:gdLst/>
            <a:ahLst/>
            <a:rect l="l" t="t" r="r" b="b"/>
            <a:pathLst>
              <a:path w="382" h="571">
                <a:moveTo>
                  <a:pt x="101" y="571"/>
                </a:moveTo>
                <a:lnTo>
                  <a:pt x="0" y="518"/>
                </a:lnTo>
                <a:lnTo>
                  <a:pt x="201" y="135"/>
                </a:lnTo>
                <a:lnTo>
                  <a:pt x="190" y="139"/>
                </a:lnTo>
                <a:lnTo>
                  <a:pt x="180" y="143"/>
                </a:lnTo>
                <a:lnTo>
                  <a:pt x="169" y="145"/>
                </a:lnTo>
                <a:lnTo>
                  <a:pt x="160" y="149"/>
                </a:lnTo>
                <a:lnTo>
                  <a:pt x="137" y="153"/>
                </a:lnTo>
                <a:lnTo>
                  <a:pt x="114" y="154"/>
                </a:lnTo>
                <a:lnTo>
                  <a:pt x="91" y="156"/>
                </a:lnTo>
                <a:lnTo>
                  <a:pt x="70" y="156"/>
                </a:lnTo>
                <a:lnTo>
                  <a:pt x="49" y="154"/>
                </a:lnTo>
                <a:lnTo>
                  <a:pt x="26" y="153"/>
                </a:lnTo>
                <a:lnTo>
                  <a:pt x="80" y="50"/>
                </a:lnTo>
                <a:lnTo>
                  <a:pt x="131" y="54"/>
                </a:lnTo>
                <a:lnTo>
                  <a:pt x="161" y="52"/>
                </a:lnTo>
                <a:lnTo>
                  <a:pt x="175" y="50"/>
                </a:lnTo>
                <a:lnTo>
                  <a:pt x="192" y="48"/>
                </a:lnTo>
                <a:lnTo>
                  <a:pt x="207" y="46"/>
                </a:lnTo>
                <a:lnTo>
                  <a:pt x="222" y="40"/>
                </a:lnTo>
                <a:lnTo>
                  <a:pt x="237" y="37"/>
                </a:lnTo>
                <a:lnTo>
                  <a:pt x="251" y="31"/>
                </a:lnTo>
                <a:lnTo>
                  <a:pt x="300" y="0"/>
                </a:lnTo>
                <a:lnTo>
                  <a:pt x="382" y="44"/>
                </a:lnTo>
                <a:lnTo>
                  <a:pt x="101" y="571"/>
                </a:lnTo>
                <a:lnTo>
                  <a:pt x="101" y="57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89240" y="3903840"/>
            <a:ext cx="304920" cy="473040"/>
          </a:xfrm>
          <a:custGeom>
            <a:avLst/>
            <a:gdLst/>
            <a:ahLst/>
            <a:rect l="l" t="t" r="r" b="b"/>
            <a:pathLst>
              <a:path w="384" h="597">
                <a:moveTo>
                  <a:pt x="384" y="481"/>
                </a:moveTo>
                <a:lnTo>
                  <a:pt x="384" y="597"/>
                </a:lnTo>
                <a:lnTo>
                  <a:pt x="0" y="597"/>
                </a:lnTo>
                <a:lnTo>
                  <a:pt x="2" y="567"/>
                </a:lnTo>
                <a:lnTo>
                  <a:pt x="12" y="538"/>
                </a:lnTo>
                <a:lnTo>
                  <a:pt x="21" y="512"/>
                </a:lnTo>
                <a:lnTo>
                  <a:pt x="35" y="485"/>
                </a:lnTo>
                <a:lnTo>
                  <a:pt x="56" y="456"/>
                </a:lnTo>
                <a:lnTo>
                  <a:pt x="59" y="447"/>
                </a:lnTo>
                <a:lnTo>
                  <a:pt x="67" y="439"/>
                </a:lnTo>
                <a:lnTo>
                  <a:pt x="75" y="432"/>
                </a:lnTo>
                <a:lnTo>
                  <a:pt x="80" y="422"/>
                </a:lnTo>
                <a:lnTo>
                  <a:pt x="90" y="415"/>
                </a:lnTo>
                <a:lnTo>
                  <a:pt x="97" y="405"/>
                </a:lnTo>
                <a:lnTo>
                  <a:pt x="105" y="396"/>
                </a:lnTo>
                <a:lnTo>
                  <a:pt x="116" y="386"/>
                </a:lnTo>
                <a:lnTo>
                  <a:pt x="124" y="375"/>
                </a:lnTo>
                <a:lnTo>
                  <a:pt x="135" y="367"/>
                </a:lnTo>
                <a:lnTo>
                  <a:pt x="147" y="356"/>
                </a:lnTo>
                <a:lnTo>
                  <a:pt x="156" y="344"/>
                </a:lnTo>
                <a:lnTo>
                  <a:pt x="166" y="335"/>
                </a:lnTo>
                <a:lnTo>
                  <a:pt x="173" y="327"/>
                </a:lnTo>
                <a:lnTo>
                  <a:pt x="189" y="312"/>
                </a:lnTo>
                <a:lnTo>
                  <a:pt x="204" y="297"/>
                </a:lnTo>
                <a:lnTo>
                  <a:pt x="215" y="285"/>
                </a:lnTo>
                <a:lnTo>
                  <a:pt x="227" y="274"/>
                </a:lnTo>
                <a:lnTo>
                  <a:pt x="234" y="264"/>
                </a:lnTo>
                <a:lnTo>
                  <a:pt x="246" y="249"/>
                </a:lnTo>
                <a:lnTo>
                  <a:pt x="263" y="215"/>
                </a:lnTo>
                <a:lnTo>
                  <a:pt x="268" y="181"/>
                </a:lnTo>
                <a:lnTo>
                  <a:pt x="263" y="146"/>
                </a:lnTo>
                <a:lnTo>
                  <a:pt x="249" y="122"/>
                </a:lnTo>
                <a:lnTo>
                  <a:pt x="240" y="112"/>
                </a:lnTo>
                <a:lnTo>
                  <a:pt x="229" y="107"/>
                </a:lnTo>
                <a:lnTo>
                  <a:pt x="200" y="101"/>
                </a:lnTo>
                <a:lnTo>
                  <a:pt x="170" y="107"/>
                </a:lnTo>
                <a:lnTo>
                  <a:pt x="149" y="124"/>
                </a:lnTo>
                <a:lnTo>
                  <a:pt x="134" y="150"/>
                </a:lnTo>
                <a:lnTo>
                  <a:pt x="126" y="192"/>
                </a:lnTo>
                <a:lnTo>
                  <a:pt x="12" y="181"/>
                </a:lnTo>
                <a:lnTo>
                  <a:pt x="19" y="135"/>
                </a:lnTo>
                <a:lnTo>
                  <a:pt x="25" y="116"/>
                </a:lnTo>
                <a:lnTo>
                  <a:pt x="33" y="97"/>
                </a:lnTo>
                <a:lnTo>
                  <a:pt x="50" y="65"/>
                </a:lnTo>
                <a:lnTo>
                  <a:pt x="59" y="53"/>
                </a:lnTo>
                <a:lnTo>
                  <a:pt x="73" y="42"/>
                </a:lnTo>
                <a:lnTo>
                  <a:pt x="86" y="30"/>
                </a:lnTo>
                <a:lnTo>
                  <a:pt x="101" y="23"/>
                </a:lnTo>
                <a:lnTo>
                  <a:pt x="116" y="15"/>
                </a:lnTo>
                <a:lnTo>
                  <a:pt x="132" y="10"/>
                </a:lnTo>
                <a:lnTo>
                  <a:pt x="164" y="2"/>
                </a:lnTo>
                <a:lnTo>
                  <a:pt x="202" y="0"/>
                </a:lnTo>
                <a:lnTo>
                  <a:pt x="278" y="10"/>
                </a:lnTo>
                <a:lnTo>
                  <a:pt x="310" y="25"/>
                </a:lnTo>
                <a:lnTo>
                  <a:pt x="322" y="34"/>
                </a:lnTo>
                <a:lnTo>
                  <a:pt x="335" y="46"/>
                </a:lnTo>
                <a:lnTo>
                  <a:pt x="371" y="97"/>
                </a:lnTo>
                <a:lnTo>
                  <a:pt x="384" y="162"/>
                </a:lnTo>
                <a:lnTo>
                  <a:pt x="381" y="200"/>
                </a:lnTo>
                <a:lnTo>
                  <a:pt x="371" y="238"/>
                </a:lnTo>
                <a:lnTo>
                  <a:pt x="352" y="274"/>
                </a:lnTo>
                <a:lnTo>
                  <a:pt x="327" y="312"/>
                </a:lnTo>
                <a:lnTo>
                  <a:pt x="322" y="318"/>
                </a:lnTo>
                <a:lnTo>
                  <a:pt x="316" y="325"/>
                </a:lnTo>
                <a:lnTo>
                  <a:pt x="307" y="333"/>
                </a:lnTo>
                <a:lnTo>
                  <a:pt x="299" y="342"/>
                </a:lnTo>
                <a:lnTo>
                  <a:pt x="289" y="352"/>
                </a:lnTo>
                <a:lnTo>
                  <a:pt x="280" y="363"/>
                </a:lnTo>
                <a:lnTo>
                  <a:pt x="268" y="375"/>
                </a:lnTo>
                <a:lnTo>
                  <a:pt x="255" y="386"/>
                </a:lnTo>
                <a:lnTo>
                  <a:pt x="242" y="397"/>
                </a:lnTo>
                <a:lnTo>
                  <a:pt x="230" y="409"/>
                </a:lnTo>
                <a:lnTo>
                  <a:pt x="221" y="416"/>
                </a:lnTo>
                <a:lnTo>
                  <a:pt x="211" y="426"/>
                </a:lnTo>
                <a:lnTo>
                  <a:pt x="198" y="439"/>
                </a:lnTo>
                <a:lnTo>
                  <a:pt x="189" y="451"/>
                </a:lnTo>
                <a:lnTo>
                  <a:pt x="168" y="481"/>
                </a:lnTo>
                <a:lnTo>
                  <a:pt x="384" y="481"/>
                </a:lnTo>
                <a:lnTo>
                  <a:pt x="384" y="481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479840" y="3753000"/>
            <a:ext cx="339840" cy="479160"/>
          </a:xfrm>
          <a:custGeom>
            <a:avLst/>
            <a:gdLst/>
            <a:ahLst/>
            <a:rect l="l" t="t" r="r" b="b"/>
            <a:pathLst>
              <a:path w="427" h="603">
                <a:moveTo>
                  <a:pt x="49" y="468"/>
                </a:moveTo>
                <a:lnTo>
                  <a:pt x="159" y="428"/>
                </a:lnTo>
                <a:lnTo>
                  <a:pt x="177" y="464"/>
                </a:lnTo>
                <a:lnTo>
                  <a:pt x="199" y="487"/>
                </a:lnTo>
                <a:lnTo>
                  <a:pt x="213" y="494"/>
                </a:lnTo>
                <a:lnTo>
                  <a:pt x="226" y="498"/>
                </a:lnTo>
                <a:lnTo>
                  <a:pt x="255" y="498"/>
                </a:lnTo>
                <a:lnTo>
                  <a:pt x="281" y="485"/>
                </a:lnTo>
                <a:lnTo>
                  <a:pt x="302" y="458"/>
                </a:lnTo>
                <a:lnTo>
                  <a:pt x="312" y="426"/>
                </a:lnTo>
                <a:lnTo>
                  <a:pt x="306" y="384"/>
                </a:lnTo>
                <a:lnTo>
                  <a:pt x="293" y="348"/>
                </a:lnTo>
                <a:lnTo>
                  <a:pt x="272" y="323"/>
                </a:lnTo>
                <a:lnTo>
                  <a:pt x="258" y="314"/>
                </a:lnTo>
                <a:lnTo>
                  <a:pt x="245" y="308"/>
                </a:lnTo>
                <a:lnTo>
                  <a:pt x="216" y="308"/>
                </a:lnTo>
                <a:lnTo>
                  <a:pt x="175" y="327"/>
                </a:lnTo>
                <a:lnTo>
                  <a:pt x="163" y="236"/>
                </a:lnTo>
                <a:lnTo>
                  <a:pt x="197" y="224"/>
                </a:lnTo>
                <a:lnTo>
                  <a:pt x="216" y="205"/>
                </a:lnTo>
                <a:lnTo>
                  <a:pt x="228" y="179"/>
                </a:lnTo>
                <a:lnTo>
                  <a:pt x="224" y="150"/>
                </a:lnTo>
                <a:lnTo>
                  <a:pt x="216" y="127"/>
                </a:lnTo>
                <a:lnTo>
                  <a:pt x="201" y="112"/>
                </a:lnTo>
                <a:lnTo>
                  <a:pt x="192" y="106"/>
                </a:lnTo>
                <a:lnTo>
                  <a:pt x="182" y="102"/>
                </a:lnTo>
                <a:lnTo>
                  <a:pt x="159" y="104"/>
                </a:lnTo>
                <a:lnTo>
                  <a:pt x="139" y="114"/>
                </a:lnTo>
                <a:lnTo>
                  <a:pt x="123" y="131"/>
                </a:lnTo>
                <a:lnTo>
                  <a:pt x="114" y="156"/>
                </a:lnTo>
                <a:lnTo>
                  <a:pt x="116" y="188"/>
                </a:lnTo>
                <a:lnTo>
                  <a:pt x="0" y="198"/>
                </a:lnTo>
                <a:lnTo>
                  <a:pt x="2" y="148"/>
                </a:lnTo>
                <a:lnTo>
                  <a:pt x="4" y="125"/>
                </a:lnTo>
                <a:lnTo>
                  <a:pt x="9" y="106"/>
                </a:lnTo>
                <a:lnTo>
                  <a:pt x="15" y="97"/>
                </a:lnTo>
                <a:lnTo>
                  <a:pt x="19" y="89"/>
                </a:lnTo>
                <a:lnTo>
                  <a:pt x="23" y="80"/>
                </a:lnTo>
                <a:lnTo>
                  <a:pt x="28" y="72"/>
                </a:lnTo>
                <a:lnTo>
                  <a:pt x="42" y="57"/>
                </a:lnTo>
                <a:lnTo>
                  <a:pt x="57" y="42"/>
                </a:lnTo>
                <a:lnTo>
                  <a:pt x="74" y="30"/>
                </a:lnTo>
                <a:lnTo>
                  <a:pt x="93" y="19"/>
                </a:lnTo>
                <a:lnTo>
                  <a:pt x="135" y="5"/>
                </a:lnTo>
                <a:lnTo>
                  <a:pt x="209" y="0"/>
                </a:lnTo>
                <a:lnTo>
                  <a:pt x="241" y="9"/>
                </a:lnTo>
                <a:lnTo>
                  <a:pt x="256" y="17"/>
                </a:lnTo>
                <a:lnTo>
                  <a:pt x="274" y="26"/>
                </a:lnTo>
                <a:lnTo>
                  <a:pt x="313" y="63"/>
                </a:lnTo>
                <a:lnTo>
                  <a:pt x="334" y="112"/>
                </a:lnTo>
                <a:lnTo>
                  <a:pt x="338" y="148"/>
                </a:lnTo>
                <a:lnTo>
                  <a:pt x="329" y="182"/>
                </a:lnTo>
                <a:lnTo>
                  <a:pt x="321" y="201"/>
                </a:lnTo>
                <a:lnTo>
                  <a:pt x="315" y="209"/>
                </a:lnTo>
                <a:lnTo>
                  <a:pt x="310" y="217"/>
                </a:lnTo>
                <a:lnTo>
                  <a:pt x="294" y="234"/>
                </a:lnTo>
                <a:lnTo>
                  <a:pt x="279" y="251"/>
                </a:lnTo>
                <a:lnTo>
                  <a:pt x="327" y="258"/>
                </a:lnTo>
                <a:lnTo>
                  <a:pt x="350" y="268"/>
                </a:lnTo>
                <a:lnTo>
                  <a:pt x="369" y="279"/>
                </a:lnTo>
                <a:lnTo>
                  <a:pt x="403" y="317"/>
                </a:lnTo>
                <a:lnTo>
                  <a:pt x="420" y="365"/>
                </a:lnTo>
                <a:lnTo>
                  <a:pt x="427" y="403"/>
                </a:lnTo>
                <a:lnTo>
                  <a:pt x="424" y="441"/>
                </a:lnTo>
                <a:lnTo>
                  <a:pt x="414" y="477"/>
                </a:lnTo>
                <a:lnTo>
                  <a:pt x="408" y="494"/>
                </a:lnTo>
                <a:lnTo>
                  <a:pt x="403" y="504"/>
                </a:lnTo>
                <a:lnTo>
                  <a:pt x="397" y="511"/>
                </a:lnTo>
                <a:lnTo>
                  <a:pt x="386" y="528"/>
                </a:lnTo>
                <a:lnTo>
                  <a:pt x="374" y="542"/>
                </a:lnTo>
                <a:lnTo>
                  <a:pt x="361" y="555"/>
                </a:lnTo>
                <a:lnTo>
                  <a:pt x="348" y="566"/>
                </a:lnTo>
                <a:lnTo>
                  <a:pt x="313" y="585"/>
                </a:lnTo>
                <a:lnTo>
                  <a:pt x="275" y="599"/>
                </a:lnTo>
                <a:lnTo>
                  <a:pt x="203" y="603"/>
                </a:lnTo>
                <a:lnTo>
                  <a:pt x="171" y="595"/>
                </a:lnTo>
                <a:lnTo>
                  <a:pt x="154" y="587"/>
                </a:lnTo>
                <a:lnTo>
                  <a:pt x="139" y="580"/>
                </a:lnTo>
                <a:lnTo>
                  <a:pt x="85" y="534"/>
                </a:lnTo>
                <a:lnTo>
                  <a:pt x="49" y="468"/>
                </a:lnTo>
                <a:lnTo>
                  <a:pt x="49" y="4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03960" y="5538960"/>
            <a:ext cx="334800" cy="480960"/>
          </a:xfrm>
          <a:custGeom>
            <a:avLst/>
            <a:gdLst/>
            <a:ahLst/>
            <a:rect l="l" t="t" r="r" b="b"/>
            <a:pathLst>
              <a:path w="420" h="607">
                <a:moveTo>
                  <a:pt x="0" y="381"/>
                </a:moveTo>
                <a:lnTo>
                  <a:pt x="116" y="394"/>
                </a:lnTo>
                <a:lnTo>
                  <a:pt x="116" y="434"/>
                </a:lnTo>
                <a:lnTo>
                  <a:pt x="125" y="466"/>
                </a:lnTo>
                <a:lnTo>
                  <a:pt x="133" y="478"/>
                </a:lnTo>
                <a:lnTo>
                  <a:pt x="144" y="489"/>
                </a:lnTo>
                <a:lnTo>
                  <a:pt x="169" y="500"/>
                </a:lnTo>
                <a:lnTo>
                  <a:pt x="200" y="500"/>
                </a:lnTo>
                <a:lnTo>
                  <a:pt x="230" y="489"/>
                </a:lnTo>
                <a:lnTo>
                  <a:pt x="253" y="462"/>
                </a:lnTo>
                <a:lnTo>
                  <a:pt x="268" y="422"/>
                </a:lnTo>
                <a:lnTo>
                  <a:pt x="272" y="384"/>
                </a:lnTo>
                <a:lnTo>
                  <a:pt x="264" y="352"/>
                </a:lnTo>
                <a:lnTo>
                  <a:pt x="257" y="339"/>
                </a:lnTo>
                <a:lnTo>
                  <a:pt x="247" y="329"/>
                </a:lnTo>
                <a:lnTo>
                  <a:pt x="222" y="316"/>
                </a:lnTo>
                <a:lnTo>
                  <a:pt x="177" y="314"/>
                </a:lnTo>
                <a:lnTo>
                  <a:pt x="209" y="227"/>
                </a:lnTo>
                <a:lnTo>
                  <a:pt x="243" y="230"/>
                </a:lnTo>
                <a:lnTo>
                  <a:pt x="270" y="223"/>
                </a:lnTo>
                <a:lnTo>
                  <a:pt x="291" y="204"/>
                </a:lnTo>
                <a:lnTo>
                  <a:pt x="302" y="177"/>
                </a:lnTo>
                <a:lnTo>
                  <a:pt x="306" y="154"/>
                </a:lnTo>
                <a:lnTo>
                  <a:pt x="298" y="133"/>
                </a:lnTo>
                <a:lnTo>
                  <a:pt x="293" y="124"/>
                </a:lnTo>
                <a:lnTo>
                  <a:pt x="285" y="116"/>
                </a:lnTo>
                <a:lnTo>
                  <a:pt x="264" y="107"/>
                </a:lnTo>
                <a:lnTo>
                  <a:pt x="243" y="107"/>
                </a:lnTo>
                <a:lnTo>
                  <a:pt x="220" y="116"/>
                </a:lnTo>
                <a:lnTo>
                  <a:pt x="201" y="133"/>
                </a:lnTo>
                <a:lnTo>
                  <a:pt x="188" y="162"/>
                </a:lnTo>
                <a:lnTo>
                  <a:pt x="80" y="118"/>
                </a:lnTo>
                <a:lnTo>
                  <a:pt x="104" y="73"/>
                </a:lnTo>
                <a:lnTo>
                  <a:pt x="118" y="55"/>
                </a:lnTo>
                <a:lnTo>
                  <a:pt x="131" y="40"/>
                </a:lnTo>
                <a:lnTo>
                  <a:pt x="146" y="29"/>
                </a:lnTo>
                <a:lnTo>
                  <a:pt x="154" y="23"/>
                </a:lnTo>
                <a:lnTo>
                  <a:pt x="163" y="17"/>
                </a:lnTo>
                <a:lnTo>
                  <a:pt x="181" y="12"/>
                </a:lnTo>
                <a:lnTo>
                  <a:pt x="201" y="4"/>
                </a:lnTo>
                <a:lnTo>
                  <a:pt x="222" y="2"/>
                </a:lnTo>
                <a:lnTo>
                  <a:pt x="245" y="0"/>
                </a:lnTo>
                <a:lnTo>
                  <a:pt x="289" y="8"/>
                </a:lnTo>
                <a:lnTo>
                  <a:pt x="357" y="38"/>
                </a:lnTo>
                <a:lnTo>
                  <a:pt x="382" y="61"/>
                </a:lnTo>
                <a:lnTo>
                  <a:pt x="393" y="74"/>
                </a:lnTo>
                <a:lnTo>
                  <a:pt x="401" y="90"/>
                </a:lnTo>
                <a:lnTo>
                  <a:pt x="420" y="143"/>
                </a:lnTo>
                <a:lnTo>
                  <a:pt x="418" y="194"/>
                </a:lnTo>
                <a:lnTo>
                  <a:pt x="403" y="229"/>
                </a:lnTo>
                <a:lnTo>
                  <a:pt x="380" y="255"/>
                </a:lnTo>
                <a:lnTo>
                  <a:pt x="372" y="261"/>
                </a:lnTo>
                <a:lnTo>
                  <a:pt x="365" y="267"/>
                </a:lnTo>
                <a:lnTo>
                  <a:pt x="346" y="276"/>
                </a:lnTo>
                <a:lnTo>
                  <a:pt x="327" y="286"/>
                </a:lnTo>
                <a:lnTo>
                  <a:pt x="304" y="291"/>
                </a:lnTo>
                <a:lnTo>
                  <a:pt x="344" y="320"/>
                </a:lnTo>
                <a:lnTo>
                  <a:pt x="359" y="341"/>
                </a:lnTo>
                <a:lnTo>
                  <a:pt x="371" y="360"/>
                </a:lnTo>
                <a:lnTo>
                  <a:pt x="384" y="407"/>
                </a:lnTo>
                <a:lnTo>
                  <a:pt x="378" y="459"/>
                </a:lnTo>
                <a:lnTo>
                  <a:pt x="365" y="497"/>
                </a:lnTo>
                <a:lnTo>
                  <a:pt x="346" y="527"/>
                </a:lnTo>
                <a:lnTo>
                  <a:pt x="321" y="556"/>
                </a:lnTo>
                <a:lnTo>
                  <a:pt x="308" y="567"/>
                </a:lnTo>
                <a:lnTo>
                  <a:pt x="291" y="578"/>
                </a:lnTo>
                <a:lnTo>
                  <a:pt x="274" y="588"/>
                </a:lnTo>
                <a:lnTo>
                  <a:pt x="257" y="596"/>
                </a:lnTo>
                <a:lnTo>
                  <a:pt x="238" y="601"/>
                </a:lnTo>
                <a:lnTo>
                  <a:pt x="220" y="605"/>
                </a:lnTo>
                <a:lnTo>
                  <a:pt x="182" y="607"/>
                </a:lnTo>
                <a:lnTo>
                  <a:pt x="142" y="599"/>
                </a:lnTo>
                <a:lnTo>
                  <a:pt x="76" y="571"/>
                </a:lnTo>
                <a:lnTo>
                  <a:pt x="49" y="548"/>
                </a:lnTo>
                <a:lnTo>
                  <a:pt x="38" y="535"/>
                </a:lnTo>
                <a:lnTo>
                  <a:pt x="28" y="519"/>
                </a:lnTo>
                <a:lnTo>
                  <a:pt x="2" y="455"/>
                </a:lnTo>
                <a:lnTo>
                  <a:pt x="0" y="381"/>
                </a:lnTo>
                <a:lnTo>
                  <a:pt x="0" y="3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80200" y="3736800"/>
            <a:ext cx="303120" cy="473400"/>
          </a:xfrm>
          <a:custGeom>
            <a:avLst/>
            <a:gdLst/>
            <a:ahLst/>
            <a:rect l="l" t="t" r="r" b="b"/>
            <a:pathLst>
              <a:path w="382" h="597">
                <a:moveTo>
                  <a:pt x="382" y="481"/>
                </a:moveTo>
                <a:lnTo>
                  <a:pt x="382" y="597"/>
                </a:lnTo>
                <a:lnTo>
                  <a:pt x="0" y="597"/>
                </a:lnTo>
                <a:lnTo>
                  <a:pt x="3" y="568"/>
                </a:lnTo>
                <a:lnTo>
                  <a:pt x="11" y="540"/>
                </a:lnTo>
                <a:lnTo>
                  <a:pt x="20" y="511"/>
                </a:lnTo>
                <a:lnTo>
                  <a:pt x="36" y="485"/>
                </a:lnTo>
                <a:lnTo>
                  <a:pt x="55" y="456"/>
                </a:lnTo>
                <a:lnTo>
                  <a:pt x="60" y="449"/>
                </a:lnTo>
                <a:lnTo>
                  <a:pt x="66" y="439"/>
                </a:lnTo>
                <a:lnTo>
                  <a:pt x="81" y="424"/>
                </a:lnTo>
                <a:lnTo>
                  <a:pt x="89" y="414"/>
                </a:lnTo>
                <a:lnTo>
                  <a:pt x="96" y="405"/>
                </a:lnTo>
                <a:lnTo>
                  <a:pt x="106" y="395"/>
                </a:lnTo>
                <a:lnTo>
                  <a:pt x="115" y="386"/>
                </a:lnTo>
                <a:lnTo>
                  <a:pt x="125" y="376"/>
                </a:lnTo>
                <a:lnTo>
                  <a:pt x="134" y="367"/>
                </a:lnTo>
                <a:lnTo>
                  <a:pt x="144" y="355"/>
                </a:lnTo>
                <a:lnTo>
                  <a:pt x="155" y="344"/>
                </a:lnTo>
                <a:lnTo>
                  <a:pt x="165" y="336"/>
                </a:lnTo>
                <a:lnTo>
                  <a:pt x="174" y="327"/>
                </a:lnTo>
                <a:lnTo>
                  <a:pt x="190" y="314"/>
                </a:lnTo>
                <a:lnTo>
                  <a:pt x="203" y="298"/>
                </a:lnTo>
                <a:lnTo>
                  <a:pt x="214" y="287"/>
                </a:lnTo>
                <a:lnTo>
                  <a:pt x="224" y="274"/>
                </a:lnTo>
                <a:lnTo>
                  <a:pt x="233" y="264"/>
                </a:lnTo>
                <a:lnTo>
                  <a:pt x="247" y="249"/>
                </a:lnTo>
                <a:lnTo>
                  <a:pt x="262" y="215"/>
                </a:lnTo>
                <a:lnTo>
                  <a:pt x="268" y="181"/>
                </a:lnTo>
                <a:lnTo>
                  <a:pt x="264" y="148"/>
                </a:lnTo>
                <a:lnTo>
                  <a:pt x="249" y="122"/>
                </a:lnTo>
                <a:lnTo>
                  <a:pt x="239" y="114"/>
                </a:lnTo>
                <a:lnTo>
                  <a:pt x="228" y="106"/>
                </a:lnTo>
                <a:lnTo>
                  <a:pt x="199" y="103"/>
                </a:lnTo>
                <a:lnTo>
                  <a:pt x="171" y="106"/>
                </a:lnTo>
                <a:lnTo>
                  <a:pt x="148" y="123"/>
                </a:lnTo>
                <a:lnTo>
                  <a:pt x="133" y="150"/>
                </a:lnTo>
                <a:lnTo>
                  <a:pt x="127" y="192"/>
                </a:lnTo>
                <a:lnTo>
                  <a:pt x="11" y="182"/>
                </a:lnTo>
                <a:lnTo>
                  <a:pt x="19" y="137"/>
                </a:lnTo>
                <a:lnTo>
                  <a:pt x="24" y="116"/>
                </a:lnTo>
                <a:lnTo>
                  <a:pt x="30" y="97"/>
                </a:lnTo>
                <a:lnTo>
                  <a:pt x="49" y="66"/>
                </a:lnTo>
                <a:lnTo>
                  <a:pt x="60" y="53"/>
                </a:lnTo>
                <a:lnTo>
                  <a:pt x="72" y="42"/>
                </a:lnTo>
                <a:lnTo>
                  <a:pt x="85" y="32"/>
                </a:lnTo>
                <a:lnTo>
                  <a:pt x="98" y="23"/>
                </a:lnTo>
                <a:lnTo>
                  <a:pt x="115" y="15"/>
                </a:lnTo>
                <a:lnTo>
                  <a:pt x="131" y="9"/>
                </a:lnTo>
                <a:lnTo>
                  <a:pt x="163" y="4"/>
                </a:lnTo>
                <a:lnTo>
                  <a:pt x="201" y="0"/>
                </a:lnTo>
                <a:lnTo>
                  <a:pt x="277" y="11"/>
                </a:lnTo>
                <a:lnTo>
                  <a:pt x="307" y="26"/>
                </a:lnTo>
                <a:lnTo>
                  <a:pt x="323" y="34"/>
                </a:lnTo>
                <a:lnTo>
                  <a:pt x="334" y="45"/>
                </a:lnTo>
                <a:lnTo>
                  <a:pt x="370" y="99"/>
                </a:lnTo>
                <a:lnTo>
                  <a:pt x="382" y="161"/>
                </a:lnTo>
                <a:lnTo>
                  <a:pt x="380" y="200"/>
                </a:lnTo>
                <a:lnTo>
                  <a:pt x="370" y="238"/>
                </a:lnTo>
                <a:lnTo>
                  <a:pt x="351" y="274"/>
                </a:lnTo>
                <a:lnTo>
                  <a:pt x="326" y="312"/>
                </a:lnTo>
                <a:lnTo>
                  <a:pt x="313" y="325"/>
                </a:lnTo>
                <a:lnTo>
                  <a:pt x="307" y="335"/>
                </a:lnTo>
                <a:lnTo>
                  <a:pt x="298" y="344"/>
                </a:lnTo>
                <a:lnTo>
                  <a:pt x="288" y="354"/>
                </a:lnTo>
                <a:lnTo>
                  <a:pt x="279" y="363"/>
                </a:lnTo>
                <a:lnTo>
                  <a:pt x="268" y="374"/>
                </a:lnTo>
                <a:lnTo>
                  <a:pt x="254" y="386"/>
                </a:lnTo>
                <a:lnTo>
                  <a:pt x="241" y="397"/>
                </a:lnTo>
                <a:lnTo>
                  <a:pt x="230" y="409"/>
                </a:lnTo>
                <a:lnTo>
                  <a:pt x="220" y="418"/>
                </a:lnTo>
                <a:lnTo>
                  <a:pt x="211" y="426"/>
                </a:lnTo>
                <a:lnTo>
                  <a:pt x="197" y="439"/>
                </a:lnTo>
                <a:lnTo>
                  <a:pt x="188" y="451"/>
                </a:lnTo>
                <a:lnTo>
                  <a:pt x="165" y="481"/>
                </a:lnTo>
                <a:lnTo>
                  <a:pt x="382" y="481"/>
                </a:lnTo>
                <a:lnTo>
                  <a:pt x="382" y="481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849920" y="3908520"/>
            <a:ext cx="266760" cy="484200"/>
          </a:xfrm>
          <a:custGeom>
            <a:avLst/>
            <a:gdLst/>
            <a:ahLst/>
            <a:rect l="l" t="t" r="r" b="b"/>
            <a:pathLst>
              <a:path w="334" h="608">
                <a:moveTo>
                  <a:pt x="334" y="589"/>
                </a:moveTo>
                <a:lnTo>
                  <a:pt x="220" y="608"/>
                </a:lnTo>
                <a:lnTo>
                  <a:pt x="148" y="184"/>
                </a:lnTo>
                <a:lnTo>
                  <a:pt x="136" y="203"/>
                </a:lnTo>
                <a:lnTo>
                  <a:pt x="129" y="211"/>
                </a:lnTo>
                <a:lnTo>
                  <a:pt x="121" y="218"/>
                </a:lnTo>
                <a:lnTo>
                  <a:pt x="106" y="235"/>
                </a:lnTo>
                <a:lnTo>
                  <a:pt x="91" y="251"/>
                </a:lnTo>
                <a:lnTo>
                  <a:pt x="74" y="266"/>
                </a:lnTo>
                <a:lnTo>
                  <a:pt x="57" y="279"/>
                </a:lnTo>
                <a:lnTo>
                  <a:pt x="38" y="292"/>
                </a:lnTo>
                <a:lnTo>
                  <a:pt x="19" y="304"/>
                </a:lnTo>
                <a:lnTo>
                  <a:pt x="0" y="190"/>
                </a:lnTo>
                <a:lnTo>
                  <a:pt x="41" y="161"/>
                </a:lnTo>
                <a:lnTo>
                  <a:pt x="64" y="142"/>
                </a:lnTo>
                <a:lnTo>
                  <a:pt x="76" y="131"/>
                </a:lnTo>
                <a:lnTo>
                  <a:pt x="87" y="119"/>
                </a:lnTo>
                <a:lnTo>
                  <a:pt x="98" y="108"/>
                </a:lnTo>
                <a:lnTo>
                  <a:pt x="106" y="95"/>
                </a:lnTo>
                <a:lnTo>
                  <a:pt x="115" y="81"/>
                </a:lnTo>
                <a:lnTo>
                  <a:pt x="123" y="70"/>
                </a:lnTo>
                <a:lnTo>
                  <a:pt x="142" y="15"/>
                </a:lnTo>
                <a:lnTo>
                  <a:pt x="233" y="0"/>
                </a:lnTo>
                <a:lnTo>
                  <a:pt x="334" y="589"/>
                </a:lnTo>
                <a:lnTo>
                  <a:pt x="334" y="5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906720" y="5546880"/>
            <a:ext cx="311400" cy="477720"/>
          </a:xfrm>
          <a:custGeom>
            <a:avLst/>
            <a:gdLst/>
            <a:ahLst/>
            <a:rect l="l" t="t" r="r" b="b"/>
            <a:pathLst>
              <a:path w="392" h="603">
                <a:moveTo>
                  <a:pt x="392" y="567"/>
                </a:moveTo>
                <a:lnTo>
                  <a:pt x="282" y="603"/>
                </a:lnTo>
                <a:lnTo>
                  <a:pt x="147" y="194"/>
                </a:lnTo>
                <a:lnTo>
                  <a:pt x="135" y="215"/>
                </a:lnTo>
                <a:lnTo>
                  <a:pt x="130" y="224"/>
                </a:lnTo>
                <a:lnTo>
                  <a:pt x="124" y="234"/>
                </a:lnTo>
                <a:lnTo>
                  <a:pt x="113" y="253"/>
                </a:lnTo>
                <a:lnTo>
                  <a:pt x="99" y="270"/>
                </a:lnTo>
                <a:lnTo>
                  <a:pt x="86" y="287"/>
                </a:lnTo>
                <a:lnTo>
                  <a:pt x="71" y="302"/>
                </a:lnTo>
                <a:lnTo>
                  <a:pt x="54" y="319"/>
                </a:lnTo>
                <a:lnTo>
                  <a:pt x="37" y="333"/>
                </a:lnTo>
                <a:lnTo>
                  <a:pt x="0" y="222"/>
                </a:lnTo>
                <a:lnTo>
                  <a:pt x="38" y="188"/>
                </a:lnTo>
                <a:lnTo>
                  <a:pt x="56" y="165"/>
                </a:lnTo>
                <a:lnTo>
                  <a:pt x="67" y="154"/>
                </a:lnTo>
                <a:lnTo>
                  <a:pt x="75" y="141"/>
                </a:lnTo>
                <a:lnTo>
                  <a:pt x="86" y="127"/>
                </a:lnTo>
                <a:lnTo>
                  <a:pt x="92" y="114"/>
                </a:lnTo>
                <a:lnTo>
                  <a:pt x="99" y="99"/>
                </a:lnTo>
                <a:lnTo>
                  <a:pt x="103" y="85"/>
                </a:lnTo>
                <a:lnTo>
                  <a:pt x="115" y="28"/>
                </a:lnTo>
                <a:lnTo>
                  <a:pt x="204" y="0"/>
                </a:lnTo>
                <a:lnTo>
                  <a:pt x="392" y="567"/>
                </a:lnTo>
                <a:lnTo>
                  <a:pt x="392" y="5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140440" y="3732120"/>
            <a:ext cx="368280" cy="488880"/>
          </a:xfrm>
          <a:custGeom>
            <a:avLst/>
            <a:gdLst/>
            <a:ahLst/>
            <a:rect l="l" t="t" r="r" b="b"/>
            <a:pathLst>
              <a:path w="464" h="616">
                <a:moveTo>
                  <a:pt x="0" y="384"/>
                </a:moveTo>
                <a:lnTo>
                  <a:pt x="101" y="398"/>
                </a:lnTo>
                <a:lnTo>
                  <a:pt x="101" y="438"/>
                </a:lnTo>
                <a:lnTo>
                  <a:pt x="113" y="470"/>
                </a:lnTo>
                <a:lnTo>
                  <a:pt x="122" y="483"/>
                </a:lnTo>
                <a:lnTo>
                  <a:pt x="134" y="495"/>
                </a:lnTo>
                <a:lnTo>
                  <a:pt x="160" y="508"/>
                </a:lnTo>
                <a:lnTo>
                  <a:pt x="194" y="510"/>
                </a:lnTo>
                <a:lnTo>
                  <a:pt x="227" y="500"/>
                </a:lnTo>
                <a:lnTo>
                  <a:pt x="255" y="476"/>
                </a:lnTo>
                <a:lnTo>
                  <a:pt x="270" y="436"/>
                </a:lnTo>
                <a:lnTo>
                  <a:pt x="276" y="394"/>
                </a:lnTo>
                <a:lnTo>
                  <a:pt x="268" y="361"/>
                </a:lnTo>
                <a:lnTo>
                  <a:pt x="259" y="348"/>
                </a:lnTo>
                <a:lnTo>
                  <a:pt x="248" y="339"/>
                </a:lnTo>
                <a:lnTo>
                  <a:pt x="217" y="323"/>
                </a:lnTo>
                <a:lnTo>
                  <a:pt x="173" y="323"/>
                </a:lnTo>
                <a:lnTo>
                  <a:pt x="151" y="331"/>
                </a:lnTo>
                <a:lnTo>
                  <a:pt x="139" y="337"/>
                </a:lnTo>
                <a:lnTo>
                  <a:pt x="126" y="346"/>
                </a:lnTo>
                <a:lnTo>
                  <a:pt x="35" y="304"/>
                </a:lnTo>
                <a:lnTo>
                  <a:pt x="187" y="0"/>
                </a:lnTo>
                <a:lnTo>
                  <a:pt x="464" y="78"/>
                </a:lnTo>
                <a:lnTo>
                  <a:pt x="434" y="190"/>
                </a:lnTo>
                <a:lnTo>
                  <a:pt x="246" y="139"/>
                </a:lnTo>
                <a:lnTo>
                  <a:pt x="196" y="234"/>
                </a:lnTo>
                <a:lnTo>
                  <a:pt x="215" y="230"/>
                </a:lnTo>
                <a:lnTo>
                  <a:pt x="234" y="226"/>
                </a:lnTo>
                <a:lnTo>
                  <a:pt x="272" y="232"/>
                </a:lnTo>
                <a:lnTo>
                  <a:pt x="331" y="263"/>
                </a:lnTo>
                <a:lnTo>
                  <a:pt x="356" y="287"/>
                </a:lnTo>
                <a:lnTo>
                  <a:pt x="364" y="301"/>
                </a:lnTo>
                <a:lnTo>
                  <a:pt x="373" y="316"/>
                </a:lnTo>
                <a:lnTo>
                  <a:pt x="394" y="386"/>
                </a:lnTo>
                <a:lnTo>
                  <a:pt x="383" y="464"/>
                </a:lnTo>
                <a:lnTo>
                  <a:pt x="371" y="496"/>
                </a:lnTo>
                <a:lnTo>
                  <a:pt x="356" y="527"/>
                </a:lnTo>
                <a:lnTo>
                  <a:pt x="333" y="554"/>
                </a:lnTo>
                <a:lnTo>
                  <a:pt x="308" y="576"/>
                </a:lnTo>
                <a:lnTo>
                  <a:pt x="299" y="584"/>
                </a:lnTo>
                <a:lnTo>
                  <a:pt x="289" y="590"/>
                </a:lnTo>
                <a:lnTo>
                  <a:pt x="280" y="595"/>
                </a:lnTo>
                <a:lnTo>
                  <a:pt x="268" y="601"/>
                </a:lnTo>
                <a:lnTo>
                  <a:pt x="249" y="609"/>
                </a:lnTo>
                <a:lnTo>
                  <a:pt x="229" y="612"/>
                </a:lnTo>
                <a:lnTo>
                  <a:pt x="206" y="616"/>
                </a:lnTo>
                <a:lnTo>
                  <a:pt x="183" y="616"/>
                </a:lnTo>
                <a:lnTo>
                  <a:pt x="137" y="609"/>
                </a:lnTo>
                <a:lnTo>
                  <a:pt x="69" y="576"/>
                </a:lnTo>
                <a:lnTo>
                  <a:pt x="44" y="554"/>
                </a:lnTo>
                <a:lnTo>
                  <a:pt x="33" y="540"/>
                </a:lnTo>
                <a:lnTo>
                  <a:pt x="23" y="525"/>
                </a:lnTo>
                <a:lnTo>
                  <a:pt x="0" y="460"/>
                </a:lnTo>
                <a:lnTo>
                  <a:pt x="0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602160" y="4376880"/>
            <a:ext cx="355320" cy="487080"/>
          </a:xfrm>
          <a:custGeom>
            <a:avLst/>
            <a:gdLst/>
            <a:ahLst/>
            <a:rect l="l" t="t" r="r" b="b"/>
            <a:pathLst>
              <a:path w="446" h="614">
                <a:moveTo>
                  <a:pt x="0" y="390"/>
                </a:moveTo>
                <a:lnTo>
                  <a:pt x="102" y="401"/>
                </a:lnTo>
                <a:lnTo>
                  <a:pt x="104" y="439"/>
                </a:lnTo>
                <a:lnTo>
                  <a:pt x="115" y="472"/>
                </a:lnTo>
                <a:lnTo>
                  <a:pt x="127" y="485"/>
                </a:lnTo>
                <a:lnTo>
                  <a:pt x="138" y="495"/>
                </a:lnTo>
                <a:lnTo>
                  <a:pt x="165" y="508"/>
                </a:lnTo>
                <a:lnTo>
                  <a:pt x="199" y="508"/>
                </a:lnTo>
                <a:lnTo>
                  <a:pt x="231" y="498"/>
                </a:lnTo>
                <a:lnTo>
                  <a:pt x="256" y="472"/>
                </a:lnTo>
                <a:lnTo>
                  <a:pt x="273" y="430"/>
                </a:lnTo>
                <a:lnTo>
                  <a:pt x="277" y="388"/>
                </a:lnTo>
                <a:lnTo>
                  <a:pt x="266" y="358"/>
                </a:lnTo>
                <a:lnTo>
                  <a:pt x="256" y="344"/>
                </a:lnTo>
                <a:lnTo>
                  <a:pt x="243" y="335"/>
                </a:lnTo>
                <a:lnTo>
                  <a:pt x="212" y="321"/>
                </a:lnTo>
                <a:lnTo>
                  <a:pt x="169" y="323"/>
                </a:lnTo>
                <a:lnTo>
                  <a:pt x="146" y="331"/>
                </a:lnTo>
                <a:lnTo>
                  <a:pt x="134" y="339"/>
                </a:lnTo>
                <a:lnTo>
                  <a:pt x="123" y="346"/>
                </a:lnTo>
                <a:lnTo>
                  <a:pt x="30" y="312"/>
                </a:lnTo>
                <a:lnTo>
                  <a:pt x="165" y="0"/>
                </a:lnTo>
                <a:lnTo>
                  <a:pt x="446" y="65"/>
                </a:lnTo>
                <a:lnTo>
                  <a:pt x="421" y="177"/>
                </a:lnTo>
                <a:lnTo>
                  <a:pt x="231" y="133"/>
                </a:lnTo>
                <a:lnTo>
                  <a:pt x="188" y="232"/>
                </a:lnTo>
                <a:lnTo>
                  <a:pt x="207" y="228"/>
                </a:lnTo>
                <a:lnTo>
                  <a:pt x="226" y="225"/>
                </a:lnTo>
                <a:lnTo>
                  <a:pt x="264" y="226"/>
                </a:lnTo>
                <a:lnTo>
                  <a:pt x="325" y="255"/>
                </a:lnTo>
                <a:lnTo>
                  <a:pt x="347" y="278"/>
                </a:lnTo>
                <a:lnTo>
                  <a:pt x="359" y="291"/>
                </a:lnTo>
                <a:lnTo>
                  <a:pt x="368" y="306"/>
                </a:lnTo>
                <a:lnTo>
                  <a:pt x="391" y="375"/>
                </a:lnTo>
                <a:lnTo>
                  <a:pt x="385" y="453"/>
                </a:lnTo>
                <a:lnTo>
                  <a:pt x="376" y="487"/>
                </a:lnTo>
                <a:lnTo>
                  <a:pt x="361" y="517"/>
                </a:lnTo>
                <a:lnTo>
                  <a:pt x="342" y="544"/>
                </a:lnTo>
                <a:lnTo>
                  <a:pt x="317" y="569"/>
                </a:lnTo>
                <a:lnTo>
                  <a:pt x="307" y="576"/>
                </a:lnTo>
                <a:lnTo>
                  <a:pt x="300" y="582"/>
                </a:lnTo>
                <a:lnTo>
                  <a:pt x="290" y="590"/>
                </a:lnTo>
                <a:lnTo>
                  <a:pt x="279" y="595"/>
                </a:lnTo>
                <a:lnTo>
                  <a:pt x="260" y="603"/>
                </a:lnTo>
                <a:lnTo>
                  <a:pt x="239" y="609"/>
                </a:lnTo>
                <a:lnTo>
                  <a:pt x="216" y="614"/>
                </a:lnTo>
                <a:lnTo>
                  <a:pt x="195" y="614"/>
                </a:lnTo>
                <a:lnTo>
                  <a:pt x="146" y="609"/>
                </a:lnTo>
                <a:lnTo>
                  <a:pt x="77" y="580"/>
                </a:lnTo>
                <a:lnTo>
                  <a:pt x="51" y="559"/>
                </a:lnTo>
                <a:lnTo>
                  <a:pt x="39" y="546"/>
                </a:lnTo>
                <a:lnTo>
                  <a:pt x="30" y="533"/>
                </a:lnTo>
                <a:lnTo>
                  <a:pt x="1" y="468"/>
                </a:lnTo>
                <a:lnTo>
                  <a:pt x="0" y="390"/>
                </a:lnTo>
                <a:lnTo>
                  <a:pt x="0" y="39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486480" y="4195800"/>
            <a:ext cx="266760" cy="482400"/>
          </a:xfrm>
          <a:custGeom>
            <a:avLst/>
            <a:gdLst/>
            <a:ahLst/>
            <a:rect l="l" t="t" r="r" b="b"/>
            <a:pathLst>
              <a:path w="334" h="608">
                <a:moveTo>
                  <a:pt x="334" y="588"/>
                </a:moveTo>
                <a:lnTo>
                  <a:pt x="220" y="608"/>
                </a:lnTo>
                <a:lnTo>
                  <a:pt x="148" y="182"/>
                </a:lnTo>
                <a:lnTo>
                  <a:pt x="135" y="202"/>
                </a:lnTo>
                <a:lnTo>
                  <a:pt x="129" y="209"/>
                </a:lnTo>
                <a:lnTo>
                  <a:pt x="122" y="219"/>
                </a:lnTo>
                <a:lnTo>
                  <a:pt x="106" y="236"/>
                </a:lnTo>
                <a:lnTo>
                  <a:pt x="91" y="249"/>
                </a:lnTo>
                <a:lnTo>
                  <a:pt x="74" y="266"/>
                </a:lnTo>
                <a:lnTo>
                  <a:pt x="57" y="278"/>
                </a:lnTo>
                <a:lnTo>
                  <a:pt x="38" y="291"/>
                </a:lnTo>
                <a:lnTo>
                  <a:pt x="19" y="302"/>
                </a:lnTo>
                <a:lnTo>
                  <a:pt x="0" y="188"/>
                </a:lnTo>
                <a:lnTo>
                  <a:pt x="42" y="162"/>
                </a:lnTo>
                <a:lnTo>
                  <a:pt x="65" y="141"/>
                </a:lnTo>
                <a:lnTo>
                  <a:pt x="76" y="131"/>
                </a:lnTo>
                <a:lnTo>
                  <a:pt x="85" y="120"/>
                </a:lnTo>
                <a:lnTo>
                  <a:pt x="97" y="106"/>
                </a:lnTo>
                <a:lnTo>
                  <a:pt x="106" y="95"/>
                </a:lnTo>
                <a:lnTo>
                  <a:pt x="116" y="82"/>
                </a:lnTo>
                <a:lnTo>
                  <a:pt x="123" y="68"/>
                </a:lnTo>
                <a:lnTo>
                  <a:pt x="142" y="15"/>
                </a:lnTo>
                <a:lnTo>
                  <a:pt x="234" y="0"/>
                </a:lnTo>
                <a:lnTo>
                  <a:pt x="334" y="588"/>
                </a:lnTo>
                <a:lnTo>
                  <a:pt x="334" y="5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422600" y="4624560"/>
            <a:ext cx="1117800" cy="858600"/>
          </a:xfrm>
          <a:custGeom>
            <a:avLst/>
            <a:gdLst/>
            <a:ahLst/>
            <a:rect l="l" t="t" r="r" b="b"/>
            <a:pathLst>
              <a:path w="1406" h="1082">
                <a:moveTo>
                  <a:pt x="0" y="72"/>
                </a:moveTo>
                <a:lnTo>
                  <a:pt x="43" y="61"/>
                </a:lnTo>
                <a:lnTo>
                  <a:pt x="95" y="48"/>
                </a:lnTo>
                <a:lnTo>
                  <a:pt x="163" y="34"/>
                </a:lnTo>
                <a:lnTo>
                  <a:pt x="245" y="19"/>
                </a:lnTo>
                <a:lnTo>
                  <a:pt x="336" y="8"/>
                </a:lnTo>
                <a:lnTo>
                  <a:pt x="545" y="0"/>
                </a:lnTo>
                <a:lnTo>
                  <a:pt x="729" y="19"/>
                </a:lnTo>
                <a:lnTo>
                  <a:pt x="857" y="51"/>
                </a:lnTo>
                <a:lnTo>
                  <a:pt x="899" y="68"/>
                </a:lnTo>
                <a:lnTo>
                  <a:pt x="927" y="82"/>
                </a:lnTo>
                <a:lnTo>
                  <a:pt x="950" y="95"/>
                </a:lnTo>
                <a:lnTo>
                  <a:pt x="1406" y="1082"/>
                </a:lnTo>
                <a:lnTo>
                  <a:pt x="1351" y="1069"/>
                </a:lnTo>
                <a:lnTo>
                  <a:pt x="1290" y="1057"/>
                </a:lnTo>
                <a:lnTo>
                  <a:pt x="1214" y="1042"/>
                </a:lnTo>
                <a:lnTo>
                  <a:pt x="1131" y="1027"/>
                </a:lnTo>
                <a:lnTo>
                  <a:pt x="1041" y="1015"/>
                </a:lnTo>
                <a:lnTo>
                  <a:pt x="952" y="1008"/>
                </a:lnTo>
                <a:lnTo>
                  <a:pt x="872" y="1004"/>
                </a:lnTo>
                <a:lnTo>
                  <a:pt x="577" y="1033"/>
                </a:lnTo>
                <a:lnTo>
                  <a:pt x="475" y="1050"/>
                </a:lnTo>
                <a:lnTo>
                  <a:pt x="435" y="1057"/>
                </a:lnTo>
                <a:lnTo>
                  <a:pt x="0" y="72"/>
                </a:lnTo>
                <a:lnTo>
                  <a:pt x="0" y="72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394240" y="4118040"/>
            <a:ext cx="982800" cy="1233360"/>
          </a:xfrm>
          <a:custGeom>
            <a:avLst/>
            <a:gdLst/>
            <a:ahLst/>
            <a:rect l="l" t="t" r="r" b="b"/>
            <a:pathLst>
              <a:path w="1237" h="1556">
                <a:moveTo>
                  <a:pt x="0" y="536"/>
                </a:moveTo>
                <a:lnTo>
                  <a:pt x="9" y="525"/>
                </a:lnTo>
                <a:lnTo>
                  <a:pt x="19" y="513"/>
                </a:lnTo>
                <a:lnTo>
                  <a:pt x="30" y="496"/>
                </a:lnTo>
                <a:lnTo>
                  <a:pt x="47" y="477"/>
                </a:lnTo>
                <a:lnTo>
                  <a:pt x="64" y="455"/>
                </a:lnTo>
                <a:lnTo>
                  <a:pt x="76" y="441"/>
                </a:lnTo>
                <a:lnTo>
                  <a:pt x="85" y="428"/>
                </a:lnTo>
                <a:lnTo>
                  <a:pt x="97" y="415"/>
                </a:lnTo>
                <a:lnTo>
                  <a:pt x="108" y="401"/>
                </a:lnTo>
                <a:lnTo>
                  <a:pt x="119" y="388"/>
                </a:lnTo>
                <a:lnTo>
                  <a:pt x="133" y="375"/>
                </a:lnTo>
                <a:lnTo>
                  <a:pt x="144" y="359"/>
                </a:lnTo>
                <a:lnTo>
                  <a:pt x="157" y="346"/>
                </a:lnTo>
                <a:lnTo>
                  <a:pt x="171" y="331"/>
                </a:lnTo>
                <a:lnTo>
                  <a:pt x="186" y="316"/>
                </a:lnTo>
                <a:lnTo>
                  <a:pt x="199" y="301"/>
                </a:lnTo>
                <a:lnTo>
                  <a:pt x="215" y="287"/>
                </a:lnTo>
                <a:lnTo>
                  <a:pt x="228" y="274"/>
                </a:lnTo>
                <a:lnTo>
                  <a:pt x="243" y="259"/>
                </a:lnTo>
                <a:lnTo>
                  <a:pt x="256" y="247"/>
                </a:lnTo>
                <a:lnTo>
                  <a:pt x="272" y="234"/>
                </a:lnTo>
                <a:lnTo>
                  <a:pt x="285" y="221"/>
                </a:lnTo>
                <a:lnTo>
                  <a:pt x="300" y="207"/>
                </a:lnTo>
                <a:lnTo>
                  <a:pt x="313" y="196"/>
                </a:lnTo>
                <a:lnTo>
                  <a:pt x="329" y="186"/>
                </a:lnTo>
                <a:lnTo>
                  <a:pt x="357" y="165"/>
                </a:lnTo>
                <a:lnTo>
                  <a:pt x="389" y="148"/>
                </a:lnTo>
                <a:lnTo>
                  <a:pt x="422" y="129"/>
                </a:lnTo>
                <a:lnTo>
                  <a:pt x="454" y="112"/>
                </a:lnTo>
                <a:lnTo>
                  <a:pt x="488" y="95"/>
                </a:lnTo>
                <a:lnTo>
                  <a:pt x="521" y="80"/>
                </a:lnTo>
                <a:lnTo>
                  <a:pt x="553" y="65"/>
                </a:lnTo>
                <a:lnTo>
                  <a:pt x="585" y="51"/>
                </a:lnTo>
                <a:lnTo>
                  <a:pt x="614" y="40"/>
                </a:lnTo>
                <a:lnTo>
                  <a:pt x="642" y="30"/>
                </a:lnTo>
                <a:lnTo>
                  <a:pt x="686" y="13"/>
                </a:lnTo>
                <a:lnTo>
                  <a:pt x="728" y="0"/>
                </a:lnTo>
                <a:lnTo>
                  <a:pt x="1237" y="759"/>
                </a:lnTo>
                <a:lnTo>
                  <a:pt x="1224" y="766"/>
                </a:lnTo>
                <a:lnTo>
                  <a:pt x="1188" y="787"/>
                </a:lnTo>
                <a:lnTo>
                  <a:pt x="1165" y="803"/>
                </a:lnTo>
                <a:lnTo>
                  <a:pt x="1136" y="818"/>
                </a:lnTo>
                <a:lnTo>
                  <a:pt x="1106" y="839"/>
                </a:lnTo>
                <a:lnTo>
                  <a:pt x="1074" y="858"/>
                </a:lnTo>
                <a:lnTo>
                  <a:pt x="1041" y="880"/>
                </a:lnTo>
                <a:lnTo>
                  <a:pt x="1007" y="901"/>
                </a:lnTo>
                <a:lnTo>
                  <a:pt x="975" y="924"/>
                </a:lnTo>
                <a:lnTo>
                  <a:pt x="941" y="949"/>
                </a:lnTo>
                <a:lnTo>
                  <a:pt x="910" y="972"/>
                </a:lnTo>
                <a:lnTo>
                  <a:pt x="884" y="995"/>
                </a:lnTo>
                <a:lnTo>
                  <a:pt x="857" y="1014"/>
                </a:lnTo>
                <a:lnTo>
                  <a:pt x="838" y="1036"/>
                </a:lnTo>
                <a:lnTo>
                  <a:pt x="817" y="1059"/>
                </a:lnTo>
                <a:lnTo>
                  <a:pt x="808" y="1073"/>
                </a:lnTo>
                <a:lnTo>
                  <a:pt x="796" y="1088"/>
                </a:lnTo>
                <a:lnTo>
                  <a:pt x="771" y="1122"/>
                </a:lnTo>
                <a:lnTo>
                  <a:pt x="747" y="1160"/>
                </a:lnTo>
                <a:lnTo>
                  <a:pt x="720" y="1202"/>
                </a:lnTo>
                <a:lnTo>
                  <a:pt x="694" y="1246"/>
                </a:lnTo>
                <a:lnTo>
                  <a:pt x="667" y="1289"/>
                </a:lnTo>
                <a:lnTo>
                  <a:pt x="642" y="1335"/>
                </a:lnTo>
                <a:lnTo>
                  <a:pt x="617" y="1377"/>
                </a:lnTo>
                <a:lnTo>
                  <a:pt x="595" y="1419"/>
                </a:lnTo>
                <a:lnTo>
                  <a:pt x="574" y="1455"/>
                </a:lnTo>
                <a:lnTo>
                  <a:pt x="557" y="1489"/>
                </a:lnTo>
                <a:lnTo>
                  <a:pt x="530" y="1537"/>
                </a:lnTo>
                <a:lnTo>
                  <a:pt x="521" y="1556"/>
                </a:lnTo>
                <a:lnTo>
                  <a:pt x="0" y="536"/>
                </a:lnTo>
                <a:lnTo>
                  <a:pt x="0" y="536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648400" y="3648240"/>
            <a:ext cx="298440" cy="279360"/>
          </a:xfrm>
          <a:custGeom>
            <a:avLst/>
            <a:gdLst/>
            <a:ahLst/>
            <a:rect l="l" t="t" r="r" b="b"/>
            <a:pathLst>
              <a:path w="376" h="351">
                <a:moveTo>
                  <a:pt x="228" y="0"/>
                </a:moveTo>
                <a:lnTo>
                  <a:pt x="278" y="7"/>
                </a:lnTo>
                <a:lnTo>
                  <a:pt x="298" y="17"/>
                </a:lnTo>
                <a:lnTo>
                  <a:pt x="319" y="30"/>
                </a:lnTo>
                <a:lnTo>
                  <a:pt x="352" y="66"/>
                </a:lnTo>
                <a:lnTo>
                  <a:pt x="371" y="116"/>
                </a:lnTo>
                <a:lnTo>
                  <a:pt x="376" y="154"/>
                </a:lnTo>
                <a:lnTo>
                  <a:pt x="375" y="192"/>
                </a:lnTo>
                <a:lnTo>
                  <a:pt x="365" y="226"/>
                </a:lnTo>
                <a:lnTo>
                  <a:pt x="357" y="245"/>
                </a:lnTo>
                <a:lnTo>
                  <a:pt x="354" y="253"/>
                </a:lnTo>
                <a:lnTo>
                  <a:pt x="348" y="260"/>
                </a:lnTo>
                <a:lnTo>
                  <a:pt x="337" y="277"/>
                </a:lnTo>
                <a:lnTo>
                  <a:pt x="325" y="293"/>
                </a:lnTo>
                <a:lnTo>
                  <a:pt x="312" y="306"/>
                </a:lnTo>
                <a:lnTo>
                  <a:pt x="297" y="317"/>
                </a:lnTo>
                <a:lnTo>
                  <a:pt x="264" y="336"/>
                </a:lnTo>
                <a:lnTo>
                  <a:pt x="226" y="348"/>
                </a:lnTo>
                <a:lnTo>
                  <a:pt x="152" y="351"/>
                </a:lnTo>
                <a:lnTo>
                  <a:pt x="120" y="344"/>
                </a:lnTo>
                <a:lnTo>
                  <a:pt x="103" y="338"/>
                </a:lnTo>
                <a:lnTo>
                  <a:pt x="87" y="329"/>
                </a:lnTo>
                <a:lnTo>
                  <a:pt x="34" y="283"/>
                </a:lnTo>
                <a:lnTo>
                  <a:pt x="0" y="218"/>
                </a:lnTo>
                <a:lnTo>
                  <a:pt x="110" y="178"/>
                </a:lnTo>
                <a:lnTo>
                  <a:pt x="126" y="213"/>
                </a:lnTo>
                <a:lnTo>
                  <a:pt x="150" y="237"/>
                </a:lnTo>
                <a:lnTo>
                  <a:pt x="164" y="245"/>
                </a:lnTo>
                <a:lnTo>
                  <a:pt x="177" y="249"/>
                </a:lnTo>
                <a:lnTo>
                  <a:pt x="205" y="247"/>
                </a:lnTo>
                <a:lnTo>
                  <a:pt x="232" y="234"/>
                </a:lnTo>
                <a:lnTo>
                  <a:pt x="253" y="209"/>
                </a:lnTo>
                <a:lnTo>
                  <a:pt x="260" y="175"/>
                </a:lnTo>
                <a:lnTo>
                  <a:pt x="257" y="133"/>
                </a:lnTo>
                <a:lnTo>
                  <a:pt x="243" y="97"/>
                </a:lnTo>
                <a:lnTo>
                  <a:pt x="221" y="72"/>
                </a:lnTo>
                <a:lnTo>
                  <a:pt x="207" y="62"/>
                </a:lnTo>
                <a:lnTo>
                  <a:pt x="194" y="59"/>
                </a:lnTo>
                <a:lnTo>
                  <a:pt x="228" y="0"/>
                </a:lnTo>
                <a:lnTo>
                  <a:pt x="228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762120" y="13716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ing fractions to dec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809880" y="19051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r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371600" y="25909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cimals are represented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62120" y="45846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sk:  Is there some number I can multiply the denominator by to get 10, 100, 1000, 10,000, . . .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 to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1447920" y="3276720"/>
            <a:ext cx="6414480" cy="1220400"/>
            <a:chOff x="1447920" y="3276720"/>
            <a:chExt cx="6414480" cy="1220400"/>
          </a:xfrm>
        </p:grpSpPr>
        <p:grpSp>
          <p:nvGrpSpPr>
            <p:cNvPr id="981" name=""/>
            <p:cNvGrpSpPr/>
            <p:nvPr/>
          </p:nvGrpSpPr>
          <p:grpSpPr>
            <a:xfrm>
              <a:off x="1447920" y="3276720"/>
              <a:ext cx="761760" cy="1220400"/>
              <a:chOff x="1447920" y="3276720"/>
              <a:chExt cx="761760" cy="1220400"/>
            </a:xfrm>
          </p:grpSpPr>
          <p:sp>
            <p:nvSpPr>
              <p:cNvPr id="982" name=""/>
              <p:cNvSpPr/>
              <p:nvPr/>
            </p:nvSpPr>
            <p:spPr>
              <a:xfrm>
                <a:off x="1609920" y="3276720"/>
                <a:ext cx="43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76360" y="3854520"/>
                <a:ext cx="70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47920" y="388620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2540880" y="3276720"/>
              <a:ext cx="966960" cy="1220400"/>
              <a:chOff x="2540880" y="3276720"/>
              <a:chExt cx="966960" cy="1220400"/>
            </a:xfrm>
          </p:grpSpPr>
          <p:sp>
            <p:nvSpPr>
              <p:cNvPr id="986" name=""/>
              <p:cNvSpPr/>
              <p:nvPr/>
            </p:nvSpPr>
            <p:spPr>
              <a:xfrm>
                <a:off x="2540880" y="3854520"/>
                <a:ext cx="96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793960" y="327672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567160" y="388620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3809520" y="3276720"/>
              <a:ext cx="1229400" cy="1220400"/>
              <a:chOff x="3809520" y="3276720"/>
              <a:chExt cx="1229400" cy="1220400"/>
            </a:xfrm>
          </p:grpSpPr>
          <p:sp>
            <p:nvSpPr>
              <p:cNvPr id="990" name=""/>
              <p:cNvSpPr/>
              <p:nvPr/>
            </p:nvSpPr>
            <p:spPr>
              <a:xfrm>
                <a:off x="3809520" y="3854520"/>
                <a:ext cx="122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223880" y="3276720"/>
                <a:ext cx="400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890520" y="388620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5420880" y="3276720"/>
              <a:ext cx="1613160" cy="1220400"/>
              <a:chOff x="5420880" y="3276720"/>
              <a:chExt cx="1613160" cy="1220400"/>
            </a:xfrm>
          </p:grpSpPr>
          <p:sp>
            <p:nvSpPr>
              <p:cNvPr id="994" name=""/>
              <p:cNvSpPr/>
              <p:nvPr/>
            </p:nvSpPr>
            <p:spPr>
              <a:xfrm>
                <a:off x="5420880" y="3854520"/>
                <a:ext cx="161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,0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995800" y="327672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465520" y="3886200"/>
                <a:ext cx="1524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2207520" y="3565440"/>
              <a:ext cx="3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02800" y="3565440"/>
              <a:ext cx="3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27040" y="3565440"/>
              <a:ext cx="3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79760" y="356544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, 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685800" y="5562720"/>
            <a:ext cx="777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ix hundred twenty-five thousandth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ctions to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62120" y="13716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nging fractions to dec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3429000" y="3962520"/>
            <a:ext cx="3082680" cy="1389240"/>
            <a:chOff x="3429000" y="3962520"/>
            <a:chExt cx="3082680" cy="1389240"/>
          </a:xfrm>
        </p:grpSpPr>
        <p:sp>
          <p:nvSpPr>
            <p:cNvPr id="1005" name=""/>
            <p:cNvSpPr/>
            <p:nvPr/>
          </p:nvSpPr>
          <p:spPr>
            <a:xfrm>
              <a:off x="4152960" y="4243320"/>
              <a:ext cx="609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3429000" y="3962520"/>
              <a:ext cx="609480" cy="1389240"/>
              <a:chOff x="3429000" y="3962520"/>
              <a:chExt cx="609480" cy="1389240"/>
            </a:xfrm>
          </p:grpSpPr>
          <p:sp>
            <p:nvSpPr>
              <p:cNvPr id="1007" name=""/>
              <p:cNvSpPr/>
              <p:nvPr/>
            </p:nvSpPr>
            <p:spPr>
              <a:xfrm>
                <a:off x="3499560" y="396252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499560" y="464832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429000" y="4648320"/>
                <a:ext cx="6094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4771800" y="4243320"/>
              <a:ext cx="173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0.62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3429000" y="26668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992840" y="266688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743200" y="2362320"/>
            <a:ext cx="685800" cy="1389240"/>
            <a:chOff x="2743200" y="2362320"/>
            <a:chExt cx="685800" cy="1389240"/>
          </a:xfrm>
        </p:grpSpPr>
        <p:sp>
          <p:nvSpPr>
            <p:cNvPr id="1014" name=""/>
            <p:cNvSpPr/>
            <p:nvPr/>
          </p:nvSpPr>
          <p:spPr>
            <a:xfrm>
              <a:off x="2851920" y="23623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51920" y="30481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43200" y="3048120"/>
              <a:ext cx="685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3948840" y="2362320"/>
            <a:ext cx="104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3948840" y="3048120"/>
            <a:ext cx="1049400" cy="703440"/>
            <a:chOff x="3948840" y="3048120"/>
            <a:chExt cx="1049400" cy="703440"/>
          </a:xfrm>
        </p:grpSpPr>
        <p:sp>
          <p:nvSpPr>
            <p:cNvPr id="1019" name=""/>
            <p:cNvSpPr/>
            <p:nvPr/>
          </p:nvSpPr>
          <p:spPr>
            <a:xfrm>
              <a:off x="3948840" y="304812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16520" y="3048120"/>
              <a:ext cx="914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5610240" y="2362320"/>
            <a:ext cx="1122480" cy="703440"/>
            <a:chOff x="5610240" y="2362320"/>
            <a:chExt cx="1122480" cy="703440"/>
          </a:xfrm>
        </p:grpSpPr>
        <p:sp>
          <p:nvSpPr>
            <p:cNvPr id="1022" name=""/>
            <p:cNvSpPr/>
            <p:nvPr/>
          </p:nvSpPr>
          <p:spPr>
            <a:xfrm>
              <a:off x="5646600" y="236232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6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10240" y="3048120"/>
              <a:ext cx="11224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5690160" y="3048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457960" y="3048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31440" y="3048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375960" y="30481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438280" y="7002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– Number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762120" y="1600200"/>
            <a:ext cx="77342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Placing Decimals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on the Number Lin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962520" cy="261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"/>
          <p:cNvGrpSpPr/>
          <p:nvPr/>
        </p:nvGrpSpPr>
        <p:grpSpPr>
          <a:xfrm>
            <a:off x="762120" y="4495680"/>
            <a:ext cx="7695720" cy="1800720"/>
            <a:chOff x="762120" y="4495680"/>
            <a:chExt cx="7695720" cy="1800720"/>
          </a:xfrm>
        </p:grpSpPr>
        <p:grpSp>
          <p:nvGrpSpPr>
            <p:cNvPr id="1032" name=""/>
            <p:cNvGrpSpPr/>
            <p:nvPr/>
          </p:nvGrpSpPr>
          <p:grpSpPr>
            <a:xfrm>
              <a:off x="762120" y="5410080"/>
              <a:ext cx="7695720" cy="886320"/>
              <a:chOff x="762120" y="5410080"/>
              <a:chExt cx="7695720" cy="886320"/>
            </a:xfrm>
          </p:grpSpPr>
          <p:sp>
            <p:nvSpPr>
              <p:cNvPr id="1033" name=""/>
              <p:cNvSpPr/>
              <p:nvPr/>
            </p:nvSpPr>
            <p:spPr>
              <a:xfrm>
                <a:off x="914400" y="5638680"/>
                <a:ext cx="7086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572000" y="5410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809880" y="5410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57800" y="5410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943600" y="5410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124080" y="5410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438280" y="5410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629400" y="5410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52480" y="5410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238880" y="5410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848360" y="5410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066680" y="5410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62120" y="571500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.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447560" y="571500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.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133360" y="571500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.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819160" y="571500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.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504960" y="571500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.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267080" y="5715000"/>
                <a:ext cx="83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.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952880" y="5715000"/>
                <a:ext cx="83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.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638680" y="5715000"/>
                <a:ext cx="83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.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324480" y="5715000"/>
                <a:ext cx="83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.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933960" y="571500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.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543800" y="57150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2.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6" name=""/>
            <p:cNvSpPr/>
            <p:nvPr/>
          </p:nvSpPr>
          <p:spPr>
            <a:xfrm rot="16200000">
              <a:off x="5562360" y="4038480"/>
              <a:ext cx="152640" cy="10666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 rot="5400000">
              <a:off x="4457880" y="1333440"/>
              <a:ext cx="304560" cy="69343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80720 h 6934320"/>
                <a:gd name="textAreaBottom" fmla="*/ 6753600 h 69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2213"/>
                  </a:lnTo>
                  <a:cubicBezTo>
                    <a:pt x="10800" y="13113"/>
                    <a:pt x="5400" y="14013"/>
                    <a:pt x="0" y="14013"/>
                  </a:cubicBezTo>
                  <a:cubicBezTo>
                    <a:pt x="5400" y="14013"/>
                    <a:pt x="10800" y="14913"/>
                    <a:pt x="10800" y="1581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1143000" y="137160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ace 1.4 on the number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1752480" y="3581280"/>
            <a:ext cx="5715000" cy="1023840"/>
            <a:chOff x="1752480" y="3581280"/>
            <a:chExt cx="5715000" cy="1023840"/>
          </a:xfrm>
        </p:grpSpPr>
        <p:sp>
          <p:nvSpPr>
            <p:cNvPr id="1060" name=""/>
            <p:cNvSpPr/>
            <p:nvPr/>
          </p:nvSpPr>
          <p:spPr>
            <a:xfrm>
              <a:off x="1752480" y="380988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796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88620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3376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01956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0040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1460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705360" y="35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419360" y="39625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05160" y="39625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790960" y="39625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76760" y="39625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4960" y="39625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19160" y="39625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133360" y="39625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5486400" y="2819520"/>
            <a:ext cx="1295280" cy="1066680"/>
            <a:chOff x="5486400" y="2819520"/>
            <a:chExt cx="1295280" cy="1066680"/>
          </a:xfrm>
        </p:grpSpPr>
        <p:sp>
          <p:nvSpPr>
            <p:cNvPr id="1076" name=""/>
            <p:cNvSpPr/>
            <p:nvPr/>
          </p:nvSpPr>
          <p:spPr>
            <a:xfrm>
              <a:off x="5486400" y="3733920"/>
              <a:ext cx="152280" cy="15228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867280" y="28195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.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5638320" y="3352680"/>
              <a:ext cx="3812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733920" y="4830840"/>
            <a:ext cx="1295280" cy="884160"/>
            <a:chOff x="3733920" y="4830840"/>
            <a:chExt cx="1295280" cy="884160"/>
          </a:xfrm>
        </p:grpSpPr>
        <p:sp>
          <p:nvSpPr>
            <p:cNvPr id="1080" name=""/>
            <p:cNvSpPr/>
            <p:nvPr/>
          </p:nvSpPr>
          <p:spPr>
            <a:xfrm>
              <a:off x="3733920" y="5562720"/>
              <a:ext cx="152280" cy="152280"/>
            </a:xfrm>
            <a:prstGeom prst="ellipse">
              <a:avLst/>
            </a:prstGeom>
            <a:solidFill>
              <a:srgbClr val="ff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14800" y="4830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.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3886200" y="533412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2438280" y="7002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– Number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76720" y="227016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4 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4648320" y="2025720"/>
            <a:ext cx="1143000" cy="1252440"/>
            <a:chOff x="4648320" y="2025720"/>
            <a:chExt cx="1143000" cy="1252440"/>
          </a:xfrm>
        </p:grpSpPr>
        <p:sp>
          <p:nvSpPr>
            <p:cNvPr id="1086" name=""/>
            <p:cNvSpPr/>
            <p:nvPr/>
          </p:nvSpPr>
          <p:spPr>
            <a:xfrm>
              <a:off x="4648320" y="227016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5029200" y="2025720"/>
              <a:ext cx="762120" cy="1252440"/>
              <a:chOff x="5029200" y="2025720"/>
              <a:chExt cx="762120" cy="1252440"/>
            </a:xfrm>
          </p:grpSpPr>
          <p:sp>
            <p:nvSpPr>
              <p:cNvPr id="1088" name=""/>
              <p:cNvSpPr/>
              <p:nvPr/>
            </p:nvSpPr>
            <p:spPr>
              <a:xfrm>
                <a:off x="5181480" y="20257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029200" y="263556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067360" y="263556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3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2209680"/>
            <a:ext cx="57913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fractions to decimals in cases where the denominator of the fraction may be expressed as a power of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numbers containing decimal parts on the number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ze of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685800" y="1600200"/>
            <a:ext cx="7924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termining the Relative Size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of a Decima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876560" cy="2859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1371600" y="1371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ing zeros after a deci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314880" y="2133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5 = 5/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09680" y="28954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50 = 50/100 = 5/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47920" y="36576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50 = 5/10 = 50/100 = 5/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514600" y="4387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.5 = 0.50 = 0.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62120" y="513396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ding zeros at the end of a decimal does not change the valu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ze of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"/>
          <p:cNvGrpSpPr/>
          <p:nvPr/>
        </p:nvGrpSpPr>
        <p:grpSpPr>
          <a:xfrm>
            <a:off x="685800" y="3504960"/>
            <a:ext cx="7772400" cy="1603080"/>
            <a:chOff x="685800" y="3504960"/>
            <a:chExt cx="7772400" cy="1603080"/>
          </a:xfrm>
        </p:grpSpPr>
        <p:grpSp>
          <p:nvGrpSpPr>
            <p:cNvPr id="1102" name=""/>
            <p:cNvGrpSpPr/>
            <p:nvPr/>
          </p:nvGrpSpPr>
          <p:grpSpPr>
            <a:xfrm>
              <a:off x="685800" y="4343400"/>
              <a:ext cx="7772400" cy="764640"/>
              <a:chOff x="685800" y="4343400"/>
              <a:chExt cx="7772400" cy="764640"/>
            </a:xfrm>
          </p:grpSpPr>
          <p:sp>
            <p:nvSpPr>
              <p:cNvPr id="1103" name=""/>
              <p:cNvSpPr/>
              <p:nvPr/>
            </p:nvSpPr>
            <p:spPr>
              <a:xfrm>
                <a:off x="685800" y="4572000"/>
                <a:ext cx="777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5720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8862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578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9436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2004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5146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6294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288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152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2468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21932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62120" y="4648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.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37160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.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5740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.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74320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.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42900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.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191120" y="464832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.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876920" y="464832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.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562720" y="464832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.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48520" y="4648320"/>
                <a:ext cx="99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.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934320" y="4648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3.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43800" y="46483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.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 rot="16200000">
              <a:off x="7048440" y="308556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 rot="5400000">
              <a:off x="4457520" y="37080"/>
              <a:ext cx="304920" cy="7543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96560 h 7543800"/>
                <a:gd name="textAreaBottom" fmla="*/ 7347240 h 754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6200"/>
                  </a:lnTo>
                  <a:cubicBezTo>
                    <a:pt x="10800" y="17100"/>
                    <a:pt x="5400" y="18000"/>
                    <a:pt x="0" y="18000"/>
                  </a:cubicBezTo>
                  <a:cubicBezTo>
                    <a:pt x="5400" y="18000"/>
                    <a:pt x="10800" y="18900"/>
                    <a:pt x="10800" y="198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8" name=""/>
          <p:cNvGrpSpPr/>
          <p:nvPr/>
        </p:nvGrpSpPr>
        <p:grpSpPr>
          <a:xfrm>
            <a:off x="1066680" y="2590920"/>
            <a:ext cx="7010640" cy="1023480"/>
            <a:chOff x="1066680" y="2590920"/>
            <a:chExt cx="7010640" cy="1023480"/>
          </a:xfrm>
        </p:grpSpPr>
        <p:sp>
          <p:nvSpPr>
            <p:cNvPr id="1129" name=""/>
            <p:cNvSpPr/>
            <p:nvPr/>
          </p:nvSpPr>
          <p:spPr>
            <a:xfrm>
              <a:off x="1143000" y="2819520"/>
              <a:ext cx="693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4100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832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0958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816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6252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7672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4674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181480" y="2971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867280" y="2971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553080" y="2971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238880" y="29718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267080" y="29718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81280" y="29718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895480" y="29718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6668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0574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44792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286000" y="29718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76520" y="29718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066680" y="29718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1600200" y="3824280"/>
            <a:ext cx="1980720" cy="824040"/>
            <a:chOff x="1600200" y="3824280"/>
            <a:chExt cx="1980720" cy="824040"/>
          </a:xfrm>
        </p:grpSpPr>
        <p:sp>
          <p:nvSpPr>
            <p:cNvPr id="1151" name=""/>
            <p:cNvSpPr/>
            <p:nvPr/>
          </p:nvSpPr>
          <p:spPr>
            <a:xfrm>
              <a:off x="1600200" y="4495680"/>
              <a:ext cx="197640" cy="152640"/>
            </a:xfrm>
            <a:prstGeom prst="ellipse">
              <a:avLst/>
            </a:prstGeom>
            <a:solidFill>
              <a:srgbClr val="99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897200" y="3824280"/>
              <a:ext cx="168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.075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1698840" y="4191120"/>
              <a:ext cx="2970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6400800" y="3809880"/>
            <a:ext cx="1904760" cy="824040"/>
            <a:chOff x="6400800" y="3809880"/>
            <a:chExt cx="1904760" cy="824040"/>
          </a:xfrm>
        </p:grpSpPr>
        <p:sp>
          <p:nvSpPr>
            <p:cNvPr id="1155" name=""/>
            <p:cNvSpPr/>
            <p:nvPr/>
          </p:nvSpPr>
          <p:spPr>
            <a:xfrm>
              <a:off x="6400800" y="4481280"/>
              <a:ext cx="200160" cy="1526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801840" y="3809880"/>
              <a:ext cx="150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.75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600600" y="4176720"/>
              <a:ext cx="300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>
            <a:off x="762120" y="5486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0752 &lt; 3.75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105520" y="5486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752 &gt; 3.075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1447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ich is larger: 3.752   or 3. 0752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334120" y="1447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ze of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3" name=""/>
          <p:cNvGrpSpPr/>
          <p:nvPr/>
        </p:nvGrpSpPr>
        <p:grpSpPr>
          <a:xfrm>
            <a:off x="685800" y="3352680"/>
            <a:ext cx="7772400" cy="1694520"/>
            <a:chOff x="685800" y="3352680"/>
            <a:chExt cx="7772400" cy="1694520"/>
          </a:xfrm>
        </p:grpSpPr>
        <p:grpSp>
          <p:nvGrpSpPr>
            <p:cNvPr id="1164" name=""/>
            <p:cNvGrpSpPr/>
            <p:nvPr/>
          </p:nvGrpSpPr>
          <p:grpSpPr>
            <a:xfrm>
              <a:off x="685800" y="4343400"/>
              <a:ext cx="7772400" cy="703800"/>
              <a:chOff x="685800" y="4343400"/>
              <a:chExt cx="7772400" cy="703800"/>
            </a:xfrm>
          </p:grpSpPr>
          <p:sp>
            <p:nvSpPr>
              <p:cNvPr id="1165" name=""/>
              <p:cNvSpPr/>
              <p:nvPr/>
            </p:nvSpPr>
            <p:spPr>
              <a:xfrm>
                <a:off x="685800" y="4572000"/>
                <a:ext cx="7772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45720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862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578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9436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004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5146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6294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8288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31520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92468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219320" y="4343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85800" y="46483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2.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71600" y="46483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2.1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057400" y="46483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2.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743200" y="46483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2.1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429000" y="46483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2.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191120" y="46483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2.1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876920" y="46483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2.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562720" y="46483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2.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248520" y="46483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2.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934320" y="46483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2.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543800" y="464832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-2.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rot="16200000">
              <a:off x="6895800" y="3009600"/>
              <a:ext cx="152640" cy="8384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 rot="5400000">
              <a:off x="4495680" y="-75960"/>
              <a:ext cx="380880" cy="7543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96560 h 7543800"/>
                <a:gd name="textAreaBottom" fmla="*/ 7347240 h 754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5518"/>
                  </a:lnTo>
                  <a:cubicBezTo>
                    <a:pt x="10800" y="16418"/>
                    <a:pt x="5400" y="17318"/>
                    <a:pt x="0" y="17318"/>
                  </a:cubicBezTo>
                  <a:cubicBezTo>
                    <a:pt x="5400" y="17318"/>
                    <a:pt x="10800" y="18218"/>
                    <a:pt x="10800" y="1911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2590920" y="57150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.1037 &gt; -2.13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3520" y="1447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ich is larger: –2.137   or –2.1037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410080" y="1447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838080" y="2514600"/>
            <a:ext cx="7391520" cy="840600"/>
            <a:chOff x="838080" y="2514600"/>
            <a:chExt cx="7391520" cy="840600"/>
          </a:xfrm>
        </p:grpSpPr>
        <p:sp>
          <p:nvSpPr>
            <p:cNvPr id="1194" name=""/>
            <p:cNvSpPr/>
            <p:nvPr/>
          </p:nvSpPr>
          <p:spPr>
            <a:xfrm>
              <a:off x="990720" y="2743200"/>
              <a:ext cx="693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5780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49568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94360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2940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80988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12408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1520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8769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.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562720" y="28954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.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248520" y="2895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858000" y="2895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.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4800" y="2895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29000" y="2895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.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743200" y="2895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.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51460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905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9528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05740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47920" y="2895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.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38080" y="28954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3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77240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467480" y="28954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3733920" y="3809880"/>
            <a:ext cx="1752480" cy="838440"/>
            <a:chOff x="3733920" y="3809880"/>
            <a:chExt cx="1752480" cy="838440"/>
          </a:xfrm>
        </p:grpSpPr>
        <p:sp>
          <p:nvSpPr>
            <p:cNvPr id="1218" name=""/>
            <p:cNvSpPr/>
            <p:nvPr/>
          </p:nvSpPr>
          <p:spPr>
            <a:xfrm>
              <a:off x="3733920" y="380988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2.137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3341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4100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6172200" y="3809880"/>
            <a:ext cx="1676160" cy="838440"/>
            <a:chOff x="6172200" y="3809880"/>
            <a:chExt cx="1676160" cy="838440"/>
          </a:xfrm>
        </p:grpSpPr>
        <p:sp>
          <p:nvSpPr>
            <p:cNvPr id="1222" name=""/>
            <p:cNvSpPr/>
            <p:nvPr/>
          </p:nvSpPr>
          <p:spPr>
            <a:xfrm>
              <a:off x="6172200" y="380988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-2.103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696080" y="4495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72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685800" y="5181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&lt; 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248520" y="51814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eater 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ze of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5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1676520" y="1523880"/>
            <a:ext cx="586728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156b1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ounding Decimal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156b13"/>
                  </a:gs>
                </a:gsLst>
                <a:lin ang="81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2133720" y="3608280"/>
            <a:ext cx="5105160" cy="2576520"/>
          </a:xfrm>
          <a:custGeom>
            <a:avLst/>
            <a:gdLst/>
            <a:ahLst/>
            <a:rect l="l" t="t" r="r" b="b"/>
            <a:pathLst>
              <a:path w="2483" h="1623">
                <a:moveTo>
                  <a:pt x="15" y="543"/>
                </a:moveTo>
                <a:lnTo>
                  <a:pt x="23" y="573"/>
                </a:lnTo>
                <a:lnTo>
                  <a:pt x="32" y="602"/>
                </a:lnTo>
                <a:lnTo>
                  <a:pt x="44" y="632"/>
                </a:lnTo>
                <a:lnTo>
                  <a:pt x="58" y="662"/>
                </a:lnTo>
                <a:lnTo>
                  <a:pt x="72" y="692"/>
                </a:lnTo>
                <a:lnTo>
                  <a:pt x="89" y="722"/>
                </a:lnTo>
                <a:lnTo>
                  <a:pt x="107" y="752"/>
                </a:lnTo>
                <a:lnTo>
                  <a:pt x="126" y="782"/>
                </a:lnTo>
                <a:lnTo>
                  <a:pt x="148" y="813"/>
                </a:lnTo>
                <a:lnTo>
                  <a:pt x="170" y="842"/>
                </a:lnTo>
                <a:lnTo>
                  <a:pt x="195" y="873"/>
                </a:lnTo>
                <a:lnTo>
                  <a:pt x="220" y="903"/>
                </a:lnTo>
                <a:lnTo>
                  <a:pt x="247" y="933"/>
                </a:lnTo>
                <a:lnTo>
                  <a:pt x="275" y="962"/>
                </a:lnTo>
                <a:lnTo>
                  <a:pt x="305" y="993"/>
                </a:lnTo>
                <a:lnTo>
                  <a:pt x="336" y="1022"/>
                </a:lnTo>
                <a:lnTo>
                  <a:pt x="368" y="1050"/>
                </a:lnTo>
                <a:lnTo>
                  <a:pt x="401" y="1080"/>
                </a:lnTo>
                <a:lnTo>
                  <a:pt x="436" y="1108"/>
                </a:lnTo>
                <a:lnTo>
                  <a:pt x="473" y="1136"/>
                </a:lnTo>
                <a:lnTo>
                  <a:pt x="510" y="1164"/>
                </a:lnTo>
                <a:lnTo>
                  <a:pt x="548" y="1191"/>
                </a:lnTo>
                <a:lnTo>
                  <a:pt x="587" y="1218"/>
                </a:lnTo>
                <a:lnTo>
                  <a:pt x="628" y="1244"/>
                </a:lnTo>
                <a:lnTo>
                  <a:pt x="670" y="1270"/>
                </a:lnTo>
                <a:lnTo>
                  <a:pt x="712" y="1296"/>
                </a:lnTo>
                <a:lnTo>
                  <a:pt x="756" y="1321"/>
                </a:lnTo>
                <a:lnTo>
                  <a:pt x="800" y="1344"/>
                </a:lnTo>
                <a:lnTo>
                  <a:pt x="846" y="1368"/>
                </a:lnTo>
                <a:lnTo>
                  <a:pt x="893" y="1390"/>
                </a:lnTo>
                <a:lnTo>
                  <a:pt x="940" y="1413"/>
                </a:lnTo>
                <a:lnTo>
                  <a:pt x="988" y="1434"/>
                </a:lnTo>
                <a:lnTo>
                  <a:pt x="1027" y="1450"/>
                </a:lnTo>
                <a:lnTo>
                  <a:pt x="1067" y="1465"/>
                </a:lnTo>
                <a:lnTo>
                  <a:pt x="1106" y="1481"/>
                </a:lnTo>
                <a:lnTo>
                  <a:pt x="1145" y="1495"/>
                </a:lnTo>
                <a:lnTo>
                  <a:pt x="1184" y="1509"/>
                </a:lnTo>
                <a:lnTo>
                  <a:pt x="1223" y="1521"/>
                </a:lnTo>
                <a:lnTo>
                  <a:pt x="1262" y="1534"/>
                </a:lnTo>
                <a:lnTo>
                  <a:pt x="1300" y="1544"/>
                </a:lnTo>
                <a:lnTo>
                  <a:pt x="1339" y="1555"/>
                </a:lnTo>
                <a:lnTo>
                  <a:pt x="1376" y="1564"/>
                </a:lnTo>
                <a:lnTo>
                  <a:pt x="1414" y="1574"/>
                </a:lnTo>
                <a:lnTo>
                  <a:pt x="1451" y="1582"/>
                </a:lnTo>
                <a:lnTo>
                  <a:pt x="1489" y="1589"/>
                </a:lnTo>
                <a:lnTo>
                  <a:pt x="1525" y="1596"/>
                </a:lnTo>
                <a:lnTo>
                  <a:pt x="1561" y="1602"/>
                </a:lnTo>
                <a:lnTo>
                  <a:pt x="1598" y="1607"/>
                </a:lnTo>
                <a:lnTo>
                  <a:pt x="1634" y="1611"/>
                </a:lnTo>
                <a:lnTo>
                  <a:pt x="1669" y="1615"/>
                </a:lnTo>
                <a:lnTo>
                  <a:pt x="1704" y="1618"/>
                </a:lnTo>
                <a:lnTo>
                  <a:pt x="1737" y="1621"/>
                </a:lnTo>
                <a:lnTo>
                  <a:pt x="1772" y="1622"/>
                </a:lnTo>
                <a:lnTo>
                  <a:pt x="1805" y="1623"/>
                </a:lnTo>
                <a:lnTo>
                  <a:pt x="1838" y="1623"/>
                </a:lnTo>
                <a:lnTo>
                  <a:pt x="1870" y="1622"/>
                </a:lnTo>
                <a:lnTo>
                  <a:pt x="1903" y="1621"/>
                </a:lnTo>
                <a:lnTo>
                  <a:pt x="1933" y="1618"/>
                </a:lnTo>
                <a:lnTo>
                  <a:pt x="1964" y="1616"/>
                </a:lnTo>
                <a:lnTo>
                  <a:pt x="1994" y="1612"/>
                </a:lnTo>
                <a:lnTo>
                  <a:pt x="2023" y="1608"/>
                </a:lnTo>
                <a:lnTo>
                  <a:pt x="2052" y="1603"/>
                </a:lnTo>
                <a:lnTo>
                  <a:pt x="2080" y="1597"/>
                </a:lnTo>
                <a:lnTo>
                  <a:pt x="2107" y="1591"/>
                </a:lnTo>
                <a:lnTo>
                  <a:pt x="2139" y="1583"/>
                </a:lnTo>
                <a:lnTo>
                  <a:pt x="2168" y="1574"/>
                </a:lnTo>
                <a:lnTo>
                  <a:pt x="2198" y="1563"/>
                </a:lnTo>
                <a:lnTo>
                  <a:pt x="2226" y="1551"/>
                </a:lnTo>
                <a:lnTo>
                  <a:pt x="2253" y="1538"/>
                </a:lnTo>
                <a:lnTo>
                  <a:pt x="2280" y="1525"/>
                </a:lnTo>
                <a:lnTo>
                  <a:pt x="2304" y="1510"/>
                </a:lnTo>
                <a:lnTo>
                  <a:pt x="2327" y="1495"/>
                </a:lnTo>
                <a:lnTo>
                  <a:pt x="2348" y="1478"/>
                </a:lnTo>
                <a:lnTo>
                  <a:pt x="2368" y="1460"/>
                </a:lnTo>
                <a:lnTo>
                  <a:pt x="2387" y="1442"/>
                </a:lnTo>
                <a:lnTo>
                  <a:pt x="2405" y="1422"/>
                </a:lnTo>
                <a:lnTo>
                  <a:pt x="2419" y="1401"/>
                </a:lnTo>
                <a:lnTo>
                  <a:pt x="2434" y="1380"/>
                </a:lnTo>
                <a:lnTo>
                  <a:pt x="2446" y="1356"/>
                </a:lnTo>
                <a:lnTo>
                  <a:pt x="2457" y="1333"/>
                </a:lnTo>
                <a:lnTo>
                  <a:pt x="2470" y="1291"/>
                </a:lnTo>
                <a:lnTo>
                  <a:pt x="2479" y="1249"/>
                </a:lnTo>
                <a:lnTo>
                  <a:pt x="2483" y="1204"/>
                </a:lnTo>
                <a:lnTo>
                  <a:pt x="2481" y="1160"/>
                </a:lnTo>
                <a:lnTo>
                  <a:pt x="2476" y="1114"/>
                </a:lnTo>
                <a:lnTo>
                  <a:pt x="2465" y="1068"/>
                </a:lnTo>
                <a:lnTo>
                  <a:pt x="2450" y="1021"/>
                </a:lnTo>
                <a:lnTo>
                  <a:pt x="2430" y="973"/>
                </a:lnTo>
                <a:lnTo>
                  <a:pt x="2418" y="946"/>
                </a:lnTo>
                <a:lnTo>
                  <a:pt x="2403" y="920"/>
                </a:lnTo>
                <a:lnTo>
                  <a:pt x="2389" y="893"/>
                </a:lnTo>
                <a:lnTo>
                  <a:pt x="2372" y="866"/>
                </a:lnTo>
                <a:lnTo>
                  <a:pt x="2355" y="840"/>
                </a:lnTo>
                <a:lnTo>
                  <a:pt x="2336" y="813"/>
                </a:lnTo>
                <a:lnTo>
                  <a:pt x="2316" y="786"/>
                </a:lnTo>
                <a:lnTo>
                  <a:pt x="2296" y="759"/>
                </a:lnTo>
                <a:lnTo>
                  <a:pt x="2273" y="732"/>
                </a:lnTo>
                <a:lnTo>
                  <a:pt x="2250" y="706"/>
                </a:lnTo>
                <a:lnTo>
                  <a:pt x="2226" y="679"/>
                </a:lnTo>
                <a:lnTo>
                  <a:pt x="2201" y="653"/>
                </a:lnTo>
                <a:lnTo>
                  <a:pt x="2174" y="626"/>
                </a:lnTo>
                <a:lnTo>
                  <a:pt x="2147" y="600"/>
                </a:lnTo>
                <a:lnTo>
                  <a:pt x="2117" y="574"/>
                </a:lnTo>
                <a:lnTo>
                  <a:pt x="2088" y="548"/>
                </a:lnTo>
                <a:lnTo>
                  <a:pt x="2057" y="523"/>
                </a:lnTo>
                <a:lnTo>
                  <a:pt x="2026" y="499"/>
                </a:lnTo>
                <a:lnTo>
                  <a:pt x="1994" y="473"/>
                </a:lnTo>
                <a:lnTo>
                  <a:pt x="1960" y="449"/>
                </a:lnTo>
                <a:lnTo>
                  <a:pt x="1925" y="425"/>
                </a:lnTo>
                <a:lnTo>
                  <a:pt x="1890" y="401"/>
                </a:lnTo>
                <a:lnTo>
                  <a:pt x="1854" y="378"/>
                </a:lnTo>
                <a:lnTo>
                  <a:pt x="1818" y="354"/>
                </a:lnTo>
                <a:lnTo>
                  <a:pt x="1780" y="332"/>
                </a:lnTo>
                <a:lnTo>
                  <a:pt x="1741" y="309"/>
                </a:lnTo>
                <a:lnTo>
                  <a:pt x="1702" y="288"/>
                </a:lnTo>
                <a:lnTo>
                  <a:pt x="1662" y="267"/>
                </a:lnTo>
                <a:lnTo>
                  <a:pt x="1621" y="247"/>
                </a:lnTo>
                <a:lnTo>
                  <a:pt x="1579" y="227"/>
                </a:lnTo>
                <a:lnTo>
                  <a:pt x="1537" y="207"/>
                </a:lnTo>
                <a:lnTo>
                  <a:pt x="1494" y="188"/>
                </a:lnTo>
                <a:lnTo>
                  <a:pt x="1463" y="175"/>
                </a:lnTo>
                <a:lnTo>
                  <a:pt x="1433" y="162"/>
                </a:lnTo>
                <a:lnTo>
                  <a:pt x="1402" y="151"/>
                </a:lnTo>
                <a:lnTo>
                  <a:pt x="1372" y="139"/>
                </a:lnTo>
                <a:lnTo>
                  <a:pt x="1341" y="128"/>
                </a:lnTo>
                <a:lnTo>
                  <a:pt x="1310" y="118"/>
                </a:lnTo>
                <a:lnTo>
                  <a:pt x="1281" y="107"/>
                </a:lnTo>
                <a:lnTo>
                  <a:pt x="1250" y="98"/>
                </a:lnTo>
                <a:lnTo>
                  <a:pt x="1219" y="88"/>
                </a:lnTo>
                <a:lnTo>
                  <a:pt x="1190" y="80"/>
                </a:lnTo>
                <a:lnTo>
                  <a:pt x="1160" y="72"/>
                </a:lnTo>
                <a:lnTo>
                  <a:pt x="1129" y="64"/>
                </a:lnTo>
                <a:lnTo>
                  <a:pt x="1100" y="57"/>
                </a:lnTo>
                <a:lnTo>
                  <a:pt x="1070" y="50"/>
                </a:lnTo>
                <a:lnTo>
                  <a:pt x="1041" y="42"/>
                </a:lnTo>
                <a:lnTo>
                  <a:pt x="1012" y="37"/>
                </a:lnTo>
                <a:lnTo>
                  <a:pt x="983" y="31"/>
                </a:lnTo>
                <a:lnTo>
                  <a:pt x="953" y="26"/>
                </a:lnTo>
                <a:lnTo>
                  <a:pt x="925" y="21"/>
                </a:lnTo>
                <a:lnTo>
                  <a:pt x="897" y="18"/>
                </a:lnTo>
                <a:lnTo>
                  <a:pt x="869" y="13"/>
                </a:lnTo>
                <a:lnTo>
                  <a:pt x="840" y="11"/>
                </a:lnTo>
                <a:lnTo>
                  <a:pt x="814" y="7"/>
                </a:lnTo>
                <a:lnTo>
                  <a:pt x="785" y="5"/>
                </a:lnTo>
                <a:lnTo>
                  <a:pt x="759" y="4"/>
                </a:lnTo>
                <a:lnTo>
                  <a:pt x="732" y="1"/>
                </a:lnTo>
                <a:lnTo>
                  <a:pt x="705" y="1"/>
                </a:lnTo>
                <a:lnTo>
                  <a:pt x="679" y="0"/>
                </a:lnTo>
                <a:lnTo>
                  <a:pt x="653" y="0"/>
                </a:lnTo>
                <a:lnTo>
                  <a:pt x="627" y="0"/>
                </a:lnTo>
                <a:lnTo>
                  <a:pt x="603" y="1"/>
                </a:lnTo>
                <a:lnTo>
                  <a:pt x="577" y="2"/>
                </a:lnTo>
                <a:lnTo>
                  <a:pt x="552" y="4"/>
                </a:lnTo>
                <a:lnTo>
                  <a:pt x="528" y="6"/>
                </a:lnTo>
                <a:lnTo>
                  <a:pt x="503" y="8"/>
                </a:lnTo>
                <a:lnTo>
                  <a:pt x="479" y="12"/>
                </a:lnTo>
                <a:lnTo>
                  <a:pt x="456" y="15"/>
                </a:lnTo>
                <a:lnTo>
                  <a:pt x="434" y="19"/>
                </a:lnTo>
                <a:lnTo>
                  <a:pt x="411" y="24"/>
                </a:lnTo>
                <a:lnTo>
                  <a:pt x="389" y="28"/>
                </a:lnTo>
                <a:lnTo>
                  <a:pt x="368" y="34"/>
                </a:lnTo>
                <a:lnTo>
                  <a:pt x="346" y="40"/>
                </a:lnTo>
                <a:lnTo>
                  <a:pt x="326" y="46"/>
                </a:lnTo>
                <a:lnTo>
                  <a:pt x="306" y="53"/>
                </a:lnTo>
                <a:lnTo>
                  <a:pt x="286" y="60"/>
                </a:lnTo>
                <a:lnTo>
                  <a:pt x="267" y="67"/>
                </a:lnTo>
                <a:lnTo>
                  <a:pt x="248" y="75"/>
                </a:lnTo>
                <a:lnTo>
                  <a:pt x="231" y="84"/>
                </a:lnTo>
                <a:lnTo>
                  <a:pt x="196" y="104"/>
                </a:lnTo>
                <a:lnTo>
                  <a:pt x="164" y="125"/>
                </a:lnTo>
                <a:lnTo>
                  <a:pt x="133" y="147"/>
                </a:lnTo>
                <a:lnTo>
                  <a:pt x="106" y="172"/>
                </a:lnTo>
                <a:lnTo>
                  <a:pt x="82" y="199"/>
                </a:lnTo>
                <a:lnTo>
                  <a:pt x="60" y="227"/>
                </a:lnTo>
                <a:lnTo>
                  <a:pt x="42" y="258"/>
                </a:lnTo>
                <a:lnTo>
                  <a:pt x="27" y="291"/>
                </a:lnTo>
                <a:lnTo>
                  <a:pt x="8" y="351"/>
                </a:lnTo>
                <a:lnTo>
                  <a:pt x="0" y="413"/>
                </a:lnTo>
                <a:lnTo>
                  <a:pt x="3" y="478"/>
                </a:lnTo>
                <a:lnTo>
                  <a:pt x="15" y="543"/>
                </a:lnTo>
                <a:close/>
              </a:path>
            </a:pathLst>
          </a:cu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235480" y="3840120"/>
            <a:ext cx="1057320" cy="1717560"/>
          </a:xfrm>
          <a:custGeom>
            <a:avLst/>
            <a:gdLst/>
            <a:ahLst/>
            <a:rect l="l" t="t" r="r" b="b"/>
            <a:pathLst>
              <a:path w="666" h="1082">
                <a:moveTo>
                  <a:pt x="241" y="7"/>
                </a:moveTo>
                <a:lnTo>
                  <a:pt x="220" y="2"/>
                </a:lnTo>
                <a:lnTo>
                  <a:pt x="198" y="0"/>
                </a:lnTo>
                <a:lnTo>
                  <a:pt x="177" y="0"/>
                </a:lnTo>
                <a:lnTo>
                  <a:pt x="155" y="0"/>
                </a:lnTo>
                <a:lnTo>
                  <a:pt x="135" y="3"/>
                </a:lnTo>
                <a:lnTo>
                  <a:pt x="115" y="7"/>
                </a:lnTo>
                <a:lnTo>
                  <a:pt x="96" y="11"/>
                </a:lnTo>
                <a:lnTo>
                  <a:pt x="79" y="16"/>
                </a:lnTo>
                <a:lnTo>
                  <a:pt x="61" y="21"/>
                </a:lnTo>
                <a:lnTo>
                  <a:pt x="47" y="27"/>
                </a:lnTo>
                <a:lnTo>
                  <a:pt x="33" y="33"/>
                </a:lnTo>
                <a:lnTo>
                  <a:pt x="21" y="38"/>
                </a:lnTo>
                <a:lnTo>
                  <a:pt x="12" y="42"/>
                </a:lnTo>
                <a:lnTo>
                  <a:pt x="5" y="45"/>
                </a:lnTo>
                <a:lnTo>
                  <a:pt x="1" y="47"/>
                </a:lnTo>
                <a:lnTo>
                  <a:pt x="0" y="48"/>
                </a:lnTo>
                <a:lnTo>
                  <a:pt x="1" y="48"/>
                </a:lnTo>
                <a:lnTo>
                  <a:pt x="6" y="47"/>
                </a:lnTo>
                <a:lnTo>
                  <a:pt x="14" y="46"/>
                </a:lnTo>
                <a:lnTo>
                  <a:pt x="25" y="43"/>
                </a:lnTo>
                <a:lnTo>
                  <a:pt x="39" y="42"/>
                </a:lnTo>
                <a:lnTo>
                  <a:pt x="53" y="42"/>
                </a:lnTo>
                <a:lnTo>
                  <a:pt x="71" y="42"/>
                </a:lnTo>
                <a:lnTo>
                  <a:pt x="90" y="43"/>
                </a:lnTo>
                <a:lnTo>
                  <a:pt x="110" y="47"/>
                </a:lnTo>
                <a:lnTo>
                  <a:pt x="130" y="52"/>
                </a:lnTo>
                <a:lnTo>
                  <a:pt x="153" y="59"/>
                </a:lnTo>
                <a:lnTo>
                  <a:pt x="174" y="68"/>
                </a:lnTo>
                <a:lnTo>
                  <a:pt x="196" y="80"/>
                </a:lnTo>
                <a:lnTo>
                  <a:pt x="218" y="95"/>
                </a:lnTo>
                <a:lnTo>
                  <a:pt x="240" y="113"/>
                </a:lnTo>
                <a:lnTo>
                  <a:pt x="260" y="135"/>
                </a:lnTo>
                <a:lnTo>
                  <a:pt x="299" y="187"/>
                </a:lnTo>
                <a:lnTo>
                  <a:pt x="338" y="247"/>
                </a:lnTo>
                <a:lnTo>
                  <a:pt x="376" y="315"/>
                </a:lnTo>
                <a:lnTo>
                  <a:pt x="412" y="388"/>
                </a:lnTo>
                <a:lnTo>
                  <a:pt x="447" y="464"/>
                </a:lnTo>
                <a:lnTo>
                  <a:pt x="480" y="543"/>
                </a:lnTo>
                <a:lnTo>
                  <a:pt x="512" y="623"/>
                </a:lnTo>
                <a:lnTo>
                  <a:pt x="542" y="702"/>
                </a:lnTo>
                <a:lnTo>
                  <a:pt x="569" y="777"/>
                </a:lnTo>
                <a:lnTo>
                  <a:pt x="593" y="848"/>
                </a:lnTo>
                <a:lnTo>
                  <a:pt x="613" y="913"/>
                </a:lnTo>
                <a:lnTo>
                  <a:pt x="632" y="969"/>
                </a:lnTo>
                <a:lnTo>
                  <a:pt x="645" y="1016"/>
                </a:lnTo>
                <a:lnTo>
                  <a:pt x="656" y="1051"/>
                </a:lnTo>
                <a:lnTo>
                  <a:pt x="663" y="1074"/>
                </a:lnTo>
                <a:lnTo>
                  <a:pt x="666" y="1082"/>
                </a:lnTo>
                <a:lnTo>
                  <a:pt x="664" y="1075"/>
                </a:lnTo>
                <a:lnTo>
                  <a:pt x="660" y="1055"/>
                </a:lnTo>
                <a:lnTo>
                  <a:pt x="655" y="1024"/>
                </a:lnTo>
                <a:lnTo>
                  <a:pt x="647" y="982"/>
                </a:lnTo>
                <a:lnTo>
                  <a:pt x="636" y="931"/>
                </a:lnTo>
                <a:lnTo>
                  <a:pt x="624" y="874"/>
                </a:lnTo>
                <a:lnTo>
                  <a:pt x="609" y="809"/>
                </a:lnTo>
                <a:lnTo>
                  <a:pt x="593" y="740"/>
                </a:lnTo>
                <a:lnTo>
                  <a:pt x="574" y="667"/>
                </a:lnTo>
                <a:lnTo>
                  <a:pt x="554" y="591"/>
                </a:lnTo>
                <a:lnTo>
                  <a:pt x="533" y="515"/>
                </a:lnTo>
                <a:lnTo>
                  <a:pt x="510" y="439"/>
                </a:lnTo>
                <a:lnTo>
                  <a:pt x="484" y="365"/>
                </a:lnTo>
                <a:lnTo>
                  <a:pt x="457" y="294"/>
                </a:lnTo>
                <a:lnTo>
                  <a:pt x="429" y="227"/>
                </a:lnTo>
                <a:lnTo>
                  <a:pt x="400" y="166"/>
                </a:lnTo>
                <a:lnTo>
                  <a:pt x="393" y="154"/>
                </a:lnTo>
                <a:lnTo>
                  <a:pt x="386" y="142"/>
                </a:lnTo>
                <a:lnTo>
                  <a:pt x="380" y="130"/>
                </a:lnTo>
                <a:lnTo>
                  <a:pt x="373" y="119"/>
                </a:lnTo>
                <a:lnTo>
                  <a:pt x="366" y="108"/>
                </a:lnTo>
                <a:lnTo>
                  <a:pt x="358" y="98"/>
                </a:lnTo>
                <a:lnTo>
                  <a:pt x="351" y="87"/>
                </a:lnTo>
                <a:lnTo>
                  <a:pt x="345" y="78"/>
                </a:lnTo>
                <a:lnTo>
                  <a:pt x="334" y="63"/>
                </a:lnTo>
                <a:lnTo>
                  <a:pt x="322" y="52"/>
                </a:lnTo>
                <a:lnTo>
                  <a:pt x="310" y="41"/>
                </a:lnTo>
                <a:lnTo>
                  <a:pt x="298" y="32"/>
                </a:lnTo>
                <a:lnTo>
                  <a:pt x="284" y="23"/>
                </a:lnTo>
                <a:lnTo>
                  <a:pt x="269" y="18"/>
                </a:lnTo>
                <a:lnTo>
                  <a:pt x="256" y="12"/>
                </a:lnTo>
                <a:lnTo>
                  <a:pt x="241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25880" y="3989520"/>
            <a:ext cx="581040" cy="1566720"/>
          </a:xfrm>
          <a:custGeom>
            <a:avLst/>
            <a:gdLst/>
            <a:ahLst/>
            <a:rect l="l" t="t" r="r" b="b"/>
            <a:pathLst>
              <a:path w="366" h="987">
                <a:moveTo>
                  <a:pt x="366" y="40"/>
                </a:moveTo>
                <a:lnTo>
                  <a:pt x="362" y="40"/>
                </a:lnTo>
                <a:lnTo>
                  <a:pt x="352" y="41"/>
                </a:lnTo>
                <a:lnTo>
                  <a:pt x="334" y="46"/>
                </a:lnTo>
                <a:lnTo>
                  <a:pt x="313" y="54"/>
                </a:lnTo>
                <a:lnTo>
                  <a:pt x="287" y="69"/>
                </a:lnTo>
                <a:lnTo>
                  <a:pt x="260" y="91"/>
                </a:lnTo>
                <a:lnTo>
                  <a:pt x="231" y="121"/>
                </a:lnTo>
                <a:lnTo>
                  <a:pt x="203" y="162"/>
                </a:lnTo>
                <a:lnTo>
                  <a:pt x="153" y="267"/>
                </a:lnTo>
                <a:lnTo>
                  <a:pt x="111" y="393"/>
                </a:lnTo>
                <a:lnTo>
                  <a:pt x="76" y="529"/>
                </a:lnTo>
                <a:lnTo>
                  <a:pt x="48" y="666"/>
                </a:lnTo>
                <a:lnTo>
                  <a:pt x="27" y="790"/>
                </a:lnTo>
                <a:lnTo>
                  <a:pt x="12" y="891"/>
                </a:lnTo>
                <a:lnTo>
                  <a:pt x="3" y="961"/>
                </a:lnTo>
                <a:lnTo>
                  <a:pt x="0" y="987"/>
                </a:lnTo>
                <a:lnTo>
                  <a:pt x="0" y="960"/>
                </a:lnTo>
                <a:lnTo>
                  <a:pt x="1" y="884"/>
                </a:lnTo>
                <a:lnTo>
                  <a:pt x="5" y="774"/>
                </a:lnTo>
                <a:lnTo>
                  <a:pt x="13" y="640"/>
                </a:lnTo>
                <a:lnTo>
                  <a:pt x="28" y="494"/>
                </a:lnTo>
                <a:lnTo>
                  <a:pt x="50" y="348"/>
                </a:lnTo>
                <a:lnTo>
                  <a:pt x="79" y="215"/>
                </a:lnTo>
                <a:lnTo>
                  <a:pt x="121" y="106"/>
                </a:lnTo>
                <a:lnTo>
                  <a:pt x="140" y="74"/>
                </a:lnTo>
                <a:lnTo>
                  <a:pt x="158" y="48"/>
                </a:lnTo>
                <a:lnTo>
                  <a:pt x="178" y="29"/>
                </a:lnTo>
                <a:lnTo>
                  <a:pt x="200" y="15"/>
                </a:lnTo>
                <a:lnTo>
                  <a:pt x="220" y="6"/>
                </a:lnTo>
                <a:lnTo>
                  <a:pt x="240" y="1"/>
                </a:lnTo>
                <a:lnTo>
                  <a:pt x="260" y="0"/>
                </a:lnTo>
                <a:lnTo>
                  <a:pt x="279" y="1"/>
                </a:lnTo>
                <a:lnTo>
                  <a:pt x="297" y="5"/>
                </a:lnTo>
                <a:lnTo>
                  <a:pt x="314" y="11"/>
                </a:lnTo>
                <a:lnTo>
                  <a:pt x="329" y="16"/>
                </a:lnTo>
                <a:lnTo>
                  <a:pt x="341" y="24"/>
                </a:lnTo>
                <a:lnTo>
                  <a:pt x="352" y="29"/>
                </a:lnTo>
                <a:lnTo>
                  <a:pt x="360" y="35"/>
                </a:lnTo>
                <a:lnTo>
                  <a:pt x="365" y="39"/>
                </a:lnTo>
                <a:lnTo>
                  <a:pt x="36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294160" y="3422520"/>
            <a:ext cx="252720" cy="385920"/>
          </a:xfrm>
          <a:custGeom>
            <a:avLst/>
            <a:gdLst/>
            <a:ahLst/>
            <a:rect l="l" t="t" r="r" b="b"/>
            <a:pathLst>
              <a:path w="159" h="243">
                <a:moveTo>
                  <a:pt x="79" y="243"/>
                </a:moveTo>
                <a:lnTo>
                  <a:pt x="159" y="35"/>
                </a:lnTo>
                <a:lnTo>
                  <a:pt x="0" y="0"/>
                </a:lnTo>
                <a:lnTo>
                  <a:pt x="79" y="2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903400" y="3565440"/>
            <a:ext cx="2195640" cy="1970280"/>
          </a:xfrm>
          <a:custGeom>
            <a:avLst/>
            <a:gdLst/>
            <a:ahLst/>
            <a:rect l="l" t="t" r="r" b="b"/>
            <a:pathLst>
              <a:path w="1383" h="1241">
                <a:moveTo>
                  <a:pt x="658" y="490"/>
                </a:moveTo>
                <a:lnTo>
                  <a:pt x="607" y="539"/>
                </a:lnTo>
                <a:lnTo>
                  <a:pt x="553" y="593"/>
                </a:lnTo>
                <a:lnTo>
                  <a:pt x="498" y="650"/>
                </a:lnTo>
                <a:lnTo>
                  <a:pt x="441" y="710"/>
                </a:lnTo>
                <a:lnTo>
                  <a:pt x="386" y="773"/>
                </a:lnTo>
                <a:lnTo>
                  <a:pt x="331" y="835"/>
                </a:lnTo>
                <a:lnTo>
                  <a:pt x="279" y="896"/>
                </a:lnTo>
                <a:lnTo>
                  <a:pt x="228" y="957"/>
                </a:lnTo>
                <a:lnTo>
                  <a:pt x="181" y="1014"/>
                </a:lnTo>
                <a:lnTo>
                  <a:pt x="137" y="1068"/>
                </a:lnTo>
                <a:lnTo>
                  <a:pt x="98" y="1116"/>
                </a:lnTo>
                <a:lnTo>
                  <a:pt x="64" y="1157"/>
                </a:lnTo>
                <a:lnTo>
                  <a:pt x="37" y="1193"/>
                </a:lnTo>
                <a:lnTo>
                  <a:pt x="17" y="1218"/>
                </a:lnTo>
                <a:lnTo>
                  <a:pt x="4" y="1235"/>
                </a:lnTo>
                <a:lnTo>
                  <a:pt x="0" y="1241"/>
                </a:lnTo>
                <a:lnTo>
                  <a:pt x="5" y="1235"/>
                </a:lnTo>
                <a:lnTo>
                  <a:pt x="23" y="1217"/>
                </a:lnTo>
                <a:lnTo>
                  <a:pt x="48" y="1189"/>
                </a:lnTo>
                <a:lnTo>
                  <a:pt x="83" y="1154"/>
                </a:lnTo>
                <a:lnTo>
                  <a:pt x="125" y="1109"/>
                </a:lnTo>
                <a:lnTo>
                  <a:pt x="173" y="1060"/>
                </a:lnTo>
                <a:lnTo>
                  <a:pt x="227" y="1006"/>
                </a:lnTo>
                <a:lnTo>
                  <a:pt x="283" y="948"/>
                </a:lnTo>
                <a:lnTo>
                  <a:pt x="342" y="888"/>
                </a:lnTo>
                <a:lnTo>
                  <a:pt x="401" y="827"/>
                </a:lnTo>
                <a:lnTo>
                  <a:pt x="462" y="767"/>
                </a:lnTo>
                <a:lnTo>
                  <a:pt x="522" y="709"/>
                </a:lnTo>
                <a:lnTo>
                  <a:pt x="578" y="655"/>
                </a:lnTo>
                <a:lnTo>
                  <a:pt x="632" y="605"/>
                </a:lnTo>
                <a:lnTo>
                  <a:pt x="680" y="561"/>
                </a:lnTo>
                <a:lnTo>
                  <a:pt x="723" y="525"/>
                </a:lnTo>
                <a:lnTo>
                  <a:pt x="765" y="490"/>
                </a:lnTo>
                <a:lnTo>
                  <a:pt x="812" y="453"/>
                </a:lnTo>
                <a:lnTo>
                  <a:pt x="863" y="412"/>
                </a:lnTo>
                <a:lnTo>
                  <a:pt x="915" y="369"/>
                </a:lnTo>
                <a:lnTo>
                  <a:pt x="969" y="326"/>
                </a:lnTo>
                <a:lnTo>
                  <a:pt x="1024" y="282"/>
                </a:lnTo>
                <a:lnTo>
                  <a:pt x="1079" y="240"/>
                </a:lnTo>
                <a:lnTo>
                  <a:pt x="1132" y="198"/>
                </a:lnTo>
                <a:lnTo>
                  <a:pt x="1183" y="158"/>
                </a:lnTo>
                <a:lnTo>
                  <a:pt x="1230" y="120"/>
                </a:lnTo>
                <a:lnTo>
                  <a:pt x="1273" y="87"/>
                </a:lnTo>
                <a:lnTo>
                  <a:pt x="1309" y="58"/>
                </a:lnTo>
                <a:lnTo>
                  <a:pt x="1340" y="34"/>
                </a:lnTo>
                <a:lnTo>
                  <a:pt x="1362" y="15"/>
                </a:lnTo>
                <a:lnTo>
                  <a:pt x="1377" y="4"/>
                </a:lnTo>
                <a:lnTo>
                  <a:pt x="1383" y="0"/>
                </a:lnTo>
                <a:lnTo>
                  <a:pt x="1377" y="4"/>
                </a:lnTo>
                <a:lnTo>
                  <a:pt x="1361" y="12"/>
                </a:lnTo>
                <a:lnTo>
                  <a:pt x="1337" y="26"/>
                </a:lnTo>
                <a:lnTo>
                  <a:pt x="1305" y="45"/>
                </a:lnTo>
                <a:lnTo>
                  <a:pt x="1264" y="68"/>
                </a:lnTo>
                <a:lnTo>
                  <a:pt x="1219" y="96"/>
                </a:lnTo>
                <a:lnTo>
                  <a:pt x="1168" y="127"/>
                </a:lnTo>
                <a:lnTo>
                  <a:pt x="1113" y="161"/>
                </a:lnTo>
                <a:lnTo>
                  <a:pt x="1055" y="198"/>
                </a:lnTo>
                <a:lnTo>
                  <a:pt x="996" y="238"/>
                </a:lnTo>
                <a:lnTo>
                  <a:pt x="936" y="278"/>
                </a:lnTo>
                <a:lnTo>
                  <a:pt x="875" y="320"/>
                </a:lnTo>
                <a:lnTo>
                  <a:pt x="816" y="362"/>
                </a:lnTo>
                <a:lnTo>
                  <a:pt x="760" y="406"/>
                </a:lnTo>
                <a:lnTo>
                  <a:pt x="706" y="448"/>
                </a:lnTo>
                <a:lnTo>
                  <a:pt x="658" y="4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438280" y="3352680"/>
            <a:ext cx="2262240" cy="2114640"/>
          </a:xfrm>
          <a:custGeom>
            <a:avLst/>
            <a:gdLst/>
            <a:ahLst/>
            <a:rect l="l" t="t" r="r" b="b"/>
            <a:pathLst>
              <a:path w="1425" h="1332">
                <a:moveTo>
                  <a:pt x="95" y="1163"/>
                </a:moveTo>
                <a:lnTo>
                  <a:pt x="103" y="1156"/>
                </a:lnTo>
                <a:lnTo>
                  <a:pt x="110" y="1149"/>
                </a:lnTo>
                <a:lnTo>
                  <a:pt x="118" y="1141"/>
                </a:lnTo>
                <a:lnTo>
                  <a:pt x="126" y="1133"/>
                </a:lnTo>
                <a:lnTo>
                  <a:pt x="134" y="1124"/>
                </a:lnTo>
                <a:lnTo>
                  <a:pt x="142" y="1116"/>
                </a:lnTo>
                <a:lnTo>
                  <a:pt x="152" y="1108"/>
                </a:lnTo>
                <a:lnTo>
                  <a:pt x="160" y="1098"/>
                </a:lnTo>
                <a:lnTo>
                  <a:pt x="293" y="1149"/>
                </a:lnTo>
                <a:lnTo>
                  <a:pt x="193" y="1063"/>
                </a:lnTo>
                <a:lnTo>
                  <a:pt x="211" y="1045"/>
                </a:lnTo>
                <a:lnTo>
                  <a:pt x="227" y="1028"/>
                </a:lnTo>
                <a:lnTo>
                  <a:pt x="246" y="1009"/>
                </a:lnTo>
                <a:lnTo>
                  <a:pt x="263" y="990"/>
                </a:lnTo>
                <a:lnTo>
                  <a:pt x="282" y="971"/>
                </a:lnTo>
                <a:lnTo>
                  <a:pt x="301" y="951"/>
                </a:lnTo>
                <a:lnTo>
                  <a:pt x="320" y="931"/>
                </a:lnTo>
                <a:lnTo>
                  <a:pt x="338" y="911"/>
                </a:lnTo>
                <a:lnTo>
                  <a:pt x="477" y="964"/>
                </a:lnTo>
                <a:lnTo>
                  <a:pt x="373" y="874"/>
                </a:lnTo>
                <a:lnTo>
                  <a:pt x="392" y="855"/>
                </a:lnTo>
                <a:lnTo>
                  <a:pt x="410" y="835"/>
                </a:lnTo>
                <a:lnTo>
                  <a:pt x="428" y="816"/>
                </a:lnTo>
                <a:lnTo>
                  <a:pt x="447" y="797"/>
                </a:lnTo>
                <a:lnTo>
                  <a:pt x="465" y="777"/>
                </a:lnTo>
                <a:lnTo>
                  <a:pt x="483" y="759"/>
                </a:lnTo>
                <a:lnTo>
                  <a:pt x="501" y="741"/>
                </a:lnTo>
                <a:lnTo>
                  <a:pt x="520" y="722"/>
                </a:lnTo>
                <a:lnTo>
                  <a:pt x="654" y="774"/>
                </a:lnTo>
                <a:lnTo>
                  <a:pt x="555" y="687"/>
                </a:lnTo>
                <a:lnTo>
                  <a:pt x="573" y="668"/>
                </a:lnTo>
                <a:lnTo>
                  <a:pt x="592" y="650"/>
                </a:lnTo>
                <a:lnTo>
                  <a:pt x="610" y="633"/>
                </a:lnTo>
                <a:lnTo>
                  <a:pt x="628" y="615"/>
                </a:lnTo>
                <a:lnTo>
                  <a:pt x="644" y="599"/>
                </a:lnTo>
                <a:lnTo>
                  <a:pt x="662" y="583"/>
                </a:lnTo>
                <a:lnTo>
                  <a:pt x="678" y="568"/>
                </a:lnTo>
                <a:lnTo>
                  <a:pt x="694" y="554"/>
                </a:lnTo>
                <a:lnTo>
                  <a:pt x="832" y="607"/>
                </a:lnTo>
                <a:lnTo>
                  <a:pt x="733" y="520"/>
                </a:lnTo>
                <a:lnTo>
                  <a:pt x="737" y="517"/>
                </a:lnTo>
                <a:lnTo>
                  <a:pt x="741" y="514"/>
                </a:lnTo>
                <a:lnTo>
                  <a:pt x="744" y="512"/>
                </a:lnTo>
                <a:lnTo>
                  <a:pt x="748" y="509"/>
                </a:lnTo>
                <a:lnTo>
                  <a:pt x="763" y="497"/>
                </a:lnTo>
                <a:lnTo>
                  <a:pt x="777" y="486"/>
                </a:lnTo>
                <a:lnTo>
                  <a:pt x="794" y="474"/>
                </a:lnTo>
                <a:lnTo>
                  <a:pt x="810" y="461"/>
                </a:lnTo>
                <a:lnTo>
                  <a:pt x="827" y="448"/>
                </a:lnTo>
                <a:lnTo>
                  <a:pt x="845" y="435"/>
                </a:lnTo>
                <a:lnTo>
                  <a:pt x="862" y="421"/>
                </a:lnTo>
                <a:lnTo>
                  <a:pt x="881" y="407"/>
                </a:lnTo>
                <a:lnTo>
                  <a:pt x="1023" y="462"/>
                </a:lnTo>
                <a:lnTo>
                  <a:pt x="924" y="375"/>
                </a:lnTo>
                <a:lnTo>
                  <a:pt x="944" y="360"/>
                </a:lnTo>
                <a:lnTo>
                  <a:pt x="964" y="345"/>
                </a:lnTo>
                <a:lnTo>
                  <a:pt x="984" y="329"/>
                </a:lnTo>
                <a:lnTo>
                  <a:pt x="1004" y="314"/>
                </a:lnTo>
                <a:lnTo>
                  <a:pt x="1024" y="299"/>
                </a:lnTo>
                <a:lnTo>
                  <a:pt x="1046" y="282"/>
                </a:lnTo>
                <a:lnTo>
                  <a:pt x="1066" y="267"/>
                </a:lnTo>
                <a:lnTo>
                  <a:pt x="1086" y="252"/>
                </a:lnTo>
                <a:lnTo>
                  <a:pt x="1227" y="307"/>
                </a:lnTo>
                <a:lnTo>
                  <a:pt x="1129" y="220"/>
                </a:lnTo>
                <a:lnTo>
                  <a:pt x="1145" y="208"/>
                </a:lnTo>
                <a:lnTo>
                  <a:pt x="1160" y="196"/>
                </a:lnTo>
                <a:lnTo>
                  <a:pt x="1176" y="185"/>
                </a:lnTo>
                <a:lnTo>
                  <a:pt x="1191" y="174"/>
                </a:lnTo>
                <a:lnTo>
                  <a:pt x="1206" y="162"/>
                </a:lnTo>
                <a:lnTo>
                  <a:pt x="1220" y="152"/>
                </a:lnTo>
                <a:lnTo>
                  <a:pt x="1235" y="141"/>
                </a:lnTo>
                <a:lnTo>
                  <a:pt x="1249" y="131"/>
                </a:lnTo>
                <a:lnTo>
                  <a:pt x="1406" y="192"/>
                </a:lnTo>
                <a:lnTo>
                  <a:pt x="1296" y="95"/>
                </a:lnTo>
                <a:lnTo>
                  <a:pt x="1324" y="75"/>
                </a:lnTo>
                <a:lnTo>
                  <a:pt x="1348" y="56"/>
                </a:lnTo>
                <a:lnTo>
                  <a:pt x="1371" y="40"/>
                </a:lnTo>
                <a:lnTo>
                  <a:pt x="1390" y="26"/>
                </a:lnTo>
                <a:lnTo>
                  <a:pt x="1404" y="15"/>
                </a:lnTo>
                <a:lnTo>
                  <a:pt x="1415" y="7"/>
                </a:lnTo>
                <a:lnTo>
                  <a:pt x="1422" y="2"/>
                </a:lnTo>
                <a:lnTo>
                  <a:pt x="1425" y="0"/>
                </a:lnTo>
                <a:lnTo>
                  <a:pt x="1421" y="1"/>
                </a:lnTo>
                <a:lnTo>
                  <a:pt x="1408" y="7"/>
                </a:lnTo>
                <a:lnTo>
                  <a:pt x="1388" y="15"/>
                </a:lnTo>
                <a:lnTo>
                  <a:pt x="1363" y="28"/>
                </a:lnTo>
                <a:lnTo>
                  <a:pt x="1329" y="44"/>
                </a:lnTo>
                <a:lnTo>
                  <a:pt x="1290" y="64"/>
                </a:lnTo>
                <a:lnTo>
                  <a:pt x="1246" y="86"/>
                </a:lnTo>
                <a:lnTo>
                  <a:pt x="1196" y="113"/>
                </a:lnTo>
                <a:lnTo>
                  <a:pt x="1143" y="145"/>
                </a:lnTo>
                <a:lnTo>
                  <a:pt x="1085" y="179"/>
                </a:lnTo>
                <a:lnTo>
                  <a:pt x="1023" y="218"/>
                </a:lnTo>
                <a:lnTo>
                  <a:pt x="959" y="261"/>
                </a:lnTo>
                <a:lnTo>
                  <a:pt x="892" y="308"/>
                </a:lnTo>
                <a:lnTo>
                  <a:pt x="823" y="359"/>
                </a:lnTo>
                <a:lnTo>
                  <a:pt x="752" y="414"/>
                </a:lnTo>
                <a:lnTo>
                  <a:pt x="681" y="474"/>
                </a:lnTo>
                <a:lnTo>
                  <a:pt x="622" y="526"/>
                </a:lnTo>
                <a:lnTo>
                  <a:pt x="563" y="582"/>
                </a:lnTo>
                <a:lnTo>
                  <a:pt x="503" y="641"/>
                </a:lnTo>
                <a:lnTo>
                  <a:pt x="444" y="701"/>
                </a:lnTo>
                <a:lnTo>
                  <a:pt x="385" y="762"/>
                </a:lnTo>
                <a:lnTo>
                  <a:pt x="330" y="822"/>
                </a:lnTo>
                <a:lnTo>
                  <a:pt x="275" y="882"/>
                </a:lnTo>
                <a:lnTo>
                  <a:pt x="224" y="940"/>
                </a:lnTo>
                <a:lnTo>
                  <a:pt x="177" y="994"/>
                </a:lnTo>
                <a:lnTo>
                  <a:pt x="134" y="1043"/>
                </a:lnTo>
                <a:lnTo>
                  <a:pt x="95" y="1089"/>
                </a:lnTo>
                <a:lnTo>
                  <a:pt x="63" y="1128"/>
                </a:lnTo>
                <a:lnTo>
                  <a:pt x="36" y="1160"/>
                </a:lnTo>
                <a:lnTo>
                  <a:pt x="16" y="1184"/>
                </a:lnTo>
                <a:lnTo>
                  <a:pt x="4" y="1200"/>
                </a:lnTo>
                <a:lnTo>
                  <a:pt x="0" y="1204"/>
                </a:lnTo>
                <a:lnTo>
                  <a:pt x="321" y="1332"/>
                </a:lnTo>
                <a:lnTo>
                  <a:pt x="318" y="1331"/>
                </a:lnTo>
                <a:lnTo>
                  <a:pt x="310" y="1327"/>
                </a:lnTo>
                <a:lnTo>
                  <a:pt x="298" y="1318"/>
                </a:lnTo>
                <a:lnTo>
                  <a:pt x="283" y="1309"/>
                </a:lnTo>
                <a:lnTo>
                  <a:pt x="265" y="1297"/>
                </a:lnTo>
                <a:lnTo>
                  <a:pt x="244" y="1284"/>
                </a:lnTo>
                <a:lnTo>
                  <a:pt x="223" y="1270"/>
                </a:lnTo>
                <a:lnTo>
                  <a:pt x="201" y="1255"/>
                </a:lnTo>
                <a:lnTo>
                  <a:pt x="180" y="1241"/>
                </a:lnTo>
                <a:lnTo>
                  <a:pt x="158" y="1225"/>
                </a:lnTo>
                <a:lnTo>
                  <a:pt x="140" y="1211"/>
                </a:lnTo>
                <a:lnTo>
                  <a:pt x="122" y="1198"/>
                </a:lnTo>
                <a:lnTo>
                  <a:pt x="109" y="1187"/>
                </a:lnTo>
                <a:lnTo>
                  <a:pt x="99" y="1176"/>
                </a:lnTo>
                <a:lnTo>
                  <a:pt x="95" y="1168"/>
                </a:lnTo>
                <a:lnTo>
                  <a:pt x="95" y="11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521160" y="4537080"/>
            <a:ext cx="2212920" cy="1554120"/>
          </a:xfrm>
          <a:custGeom>
            <a:avLst/>
            <a:gdLst/>
            <a:ahLst/>
            <a:rect l="l" t="t" r="r" b="b"/>
            <a:pathLst>
              <a:path w="1394" h="979">
                <a:moveTo>
                  <a:pt x="157" y="0"/>
                </a:moveTo>
                <a:lnTo>
                  <a:pt x="1394" y="357"/>
                </a:lnTo>
                <a:lnTo>
                  <a:pt x="1391" y="362"/>
                </a:lnTo>
                <a:lnTo>
                  <a:pt x="1386" y="377"/>
                </a:lnTo>
                <a:lnTo>
                  <a:pt x="1375" y="401"/>
                </a:lnTo>
                <a:lnTo>
                  <a:pt x="1360" y="432"/>
                </a:lnTo>
                <a:lnTo>
                  <a:pt x="1341" y="469"/>
                </a:lnTo>
                <a:lnTo>
                  <a:pt x="1317" y="511"/>
                </a:lnTo>
                <a:lnTo>
                  <a:pt x="1290" y="557"/>
                </a:lnTo>
                <a:lnTo>
                  <a:pt x="1258" y="605"/>
                </a:lnTo>
                <a:lnTo>
                  <a:pt x="1223" y="656"/>
                </a:lnTo>
                <a:lnTo>
                  <a:pt x="1183" y="706"/>
                </a:lnTo>
                <a:lnTo>
                  <a:pt x="1139" y="756"/>
                </a:lnTo>
                <a:lnTo>
                  <a:pt x="1089" y="803"/>
                </a:lnTo>
                <a:lnTo>
                  <a:pt x="1037" y="848"/>
                </a:lnTo>
                <a:lnTo>
                  <a:pt x="980" y="887"/>
                </a:lnTo>
                <a:lnTo>
                  <a:pt x="918" y="922"/>
                </a:lnTo>
                <a:lnTo>
                  <a:pt x="853" y="949"/>
                </a:lnTo>
                <a:lnTo>
                  <a:pt x="841" y="953"/>
                </a:lnTo>
                <a:lnTo>
                  <a:pt x="827" y="957"/>
                </a:lnTo>
                <a:lnTo>
                  <a:pt x="814" y="960"/>
                </a:lnTo>
                <a:lnTo>
                  <a:pt x="802" y="964"/>
                </a:lnTo>
                <a:lnTo>
                  <a:pt x="788" y="967"/>
                </a:lnTo>
                <a:lnTo>
                  <a:pt x="775" y="970"/>
                </a:lnTo>
                <a:lnTo>
                  <a:pt x="761" y="972"/>
                </a:lnTo>
                <a:lnTo>
                  <a:pt x="747" y="975"/>
                </a:lnTo>
                <a:lnTo>
                  <a:pt x="733" y="976"/>
                </a:lnTo>
                <a:lnTo>
                  <a:pt x="720" y="978"/>
                </a:lnTo>
                <a:lnTo>
                  <a:pt x="705" y="978"/>
                </a:lnTo>
                <a:lnTo>
                  <a:pt x="690" y="979"/>
                </a:lnTo>
                <a:lnTo>
                  <a:pt x="677" y="979"/>
                </a:lnTo>
                <a:lnTo>
                  <a:pt x="662" y="979"/>
                </a:lnTo>
                <a:lnTo>
                  <a:pt x="647" y="979"/>
                </a:lnTo>
                <a:lnTo>
                  <a:pt x="632" y="978"/>
                </a:lnTo>
                <a:lnTo>
                  <a:pt x="618" y="977"/>
                </a:lnTo>
                <a:lnTo>
                  <a:pt x="602" y="976"/>
                </a:lnTo>
                <a:lnTo>
                  <a:pt x="587" y="973"/>
                </a:lnTo>
                <a:lnTo>
                  <a:pt x="571" y="971"/>
                </a:lnTo>
                <a:lnTo>
                  <a:pt x="555" y="969"/>
                </a:lnTo>
                <a:lnTo>
                  <a:pt x="538" y="965"/>
                </a:lnTo>
                <a:lnTo>
                  <a:pt x="522" y="962"/>
                </a:lnTo>
                <a:lnTo>
                  <a:pt x="506" y="957"/>
                </a:lnTo>
                <a:lnTo>
                  <a:pt x="482" y="950"/>
                </a:lnTo>
                <a:lnTo>
                  <a:pt x="459" y="943"/>
                </a:lnTo>
                <a:lnTo>
                  <a:pt x="436" y="936"/>
                </a:lnTo>
                <a:lnTo>
                  <a:pt x="415" y="927"/>
                </a:lnTo>
                <a:lnTo>
                  <a:pt x="395" y="919"/>
                </a:lnTo>
                <a:lnTo>
                  <a:pt x="375" y="911"/>
                </a:lnTo>
                <a:lnTo>
                  <a:pt x="355" y="902"/>
                </a:lnTo>
                <a:lnTo>
                  <a:pt x="336" y="892"/>
                </a:lnTo>
                <a:lnTo>
                  <a:pt x="266" y="851"/>
                </a:lnTo>
                <a:lnTo>
                  <a:pt x="205" y="806"/>
                </a:lnTo>
                <a:lnTo>
                  <a:pt x="156" y="758"/>
                </a:lnTo>
                <a:lnTo>
                  <a:pt x="114" y="708"/>
                </a:lnTo>
                <a:lnTo>
                  <a:pt x="81" y="656"/>
                </a:lnTo>
                <a:lnTo>
                  <a:pt x="54" y="603"/>
                </a:lnTo>
                <a:lnTo>
                  <a:pt x="34" y="551"/>
                </a:lnTo>
                <a:lnTo>
                  <a:pt x="19" y="501"/>
                </a:lnTo>
                <a:lnTo>
                  <a:pt x="9" y="454"/>
                </a:lnTo>
                <a:lnTo>
                  <a:pt x="3" y="409"/>
                </a:lnTo>
                <a:lnTo>
                  <a:pt x="0" y="369"/>
                </a:lnTo>
                <a:lnTo>
                  <a:pt x="0" y="334"/>
                </a:lnTo>
                <a:lnTo>
                  <a:pt x="1" y="304"/>
                </a:lnTo>
                <a:lnTo>
                  <a:pt x="3" y="283"/>
                </a:lnTo>
                <a:lnTo>
                  <a:pt x="4" y="269"/>
                </a:lnTo>
                <a:lnTo>
                  <a:pt x="5" y="264"/>
                </a:lnTo>
                <a:lnTo>
                  <a:pt x="5" y="270"/>
                </a:lnTo>
                <a:lnTo>
                  <a:pt x="8" y="285"/>
                </a:lnTo>
                <a:lnTo>
                  <a:pt x="12" y="311"/>
                </a:lnTo>
                <a:lnTo>
                  <a:pt x="20" y="344"/>
                </a:lnTo>
                <a:lnTo>
                  <a:pt x="31" y="384"/>
                </a:lnTo>
                <a:lnTo>
                  <a:pt x="46" y="429"/>
                </a:lnTo>
                <a:lnTo>
                  <a:pt x="65" y="477"/>
                </a:lnTo>
                <a:lnTo>
                  <a:pt x="89" y="529"/>
                </a:lnTo>
                <a:lnTo>
                  <a:pt x="120" y="582"/>
                </a:lnTo>
                <a:lnTo>
                  <a:pt x="156" y="635"/>
                </a:lnTo>
                <a:lnTo>
                  <a:pt x="200" y="686"/>
                </a:lnTo>
                <a:lnTo>
                  <a:pt x="251" y="736"/>
                </a:lnTo>
                <a:lnTo>
                  <a:pt x="312" y="782"/>
                </a:lnTo>
                <a:lnTo>
                  <a:pt x="379" y="822"/>
                </a:lnTo>
                <a:lnTo>
                  <a:pt x="458" y="856"/>
                </a:lnTo>
                <a:lnTo>
                  <a:pt x="545" y="883"/>
                </a:lnTo>
                <a:lnTo>
                  <a:pt x="622" y="893"/>
                </a:lnTo>
                <a:lnTo>
                  <a:pt x="694" y="890"/>
                </a:lnTo>
                <a:lnTo>
                  <a:pt x="764" y="875"/>
                </a:lnTo>
                <a:lnTo>
                  <a:pt x="830" y="848"/>
                </a:lnTo>
                <a:lnTo>
                  <a:pt x="893" y="813"/>
                </a:lnTo>
                <a:lnTo>
                  <a:pt x="951" y="772"/>
                </a:lnTo>
                <a:lnTo>
                  <a:pt x="1006" y="725"/>
                </a:lnTo>
                <a:lnTo>
                  <a:pt x="1055" y="677"/>
                </a:lnTo>
                <a:lnTo>
                  <a:pt x="1100" y="626"/>
                </a:lnTo>
                <a:lnTo>
                  <a:pt x="1140" y="577"/>
                </a:lnTo>
                <a:lnTo>
                  <a:pt x="1174" y="530"/>
                </a:lnTo>
                <a:lnTo>
                  <a:pt x="1203" y="486"/>
                </a:lnTo>
                <a:lnTo>
                  <a:pt x="1225" y="450"/>
                </a:lnTo>
                <a:lnTo>
                  <a:pt x="1242" y="422"/>
                </a:lnTo>
                <a:lnTo>
                  <a:pt x="1251" y="404"/>
                </a:lnTo>
                <a:lnTo>
                  <a:pt x="1255" y="397"/>
                </a:lnTo>
                <a:lnTo>
                  <a:pt x="15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041720" y="5046840"/>
            <a:ext cx="768240" cy="525240"/>
          </a:xfrm>
          <a:custGeom>
            <a:avLst/>
            <a:gdLst/>
            <a:ahLst/>
            <a:rect l="l" t="t" r="r" b="b"/>
            <a:pathLst>
              <a:path w="484" h="331">
                <a:moveTo>
                  <a:pt x="484" y="175"/>
                </a:moveTo>
                <a:lnTo>
                  <a:pt x="483" y="177"/>
                </a:lnTo>
                <a:lnTo>
                  <a:pt x="480" y="184"/>
                </a:lnTo>
                <a:lnTo>
                  <a:pt x="475" y="196"/>
                </a:lnTo>
                <a:lnTo>
                  <a:pt x="467" y="210"/>
                </a:lnTo>
                <a:lnTo>
                  <a:pt x="458" y="225"/>
                </a:lnTo>
                <a:lnTo>
                  <a:pt x="444" y="243"/>
                </a:lnTo>
                <a:lnTo>
                  <a:pt x="429" y="261"/>
                </a:lnTo>
                <a:lnTo>
                  <a:pt x="411" y="278"/>
                </a:lnTo>
                <a:lnTo>
                  <a:pt x="389" y="295"/>
                </a:lnTo>
                <a:lnTo>
                  <a:pt x="364" y="309"/>
                </a:lnTo>
                <a:lnTo>
                  <a:pt x="335" y="321"/>
                </a:lnTo>
                <a:lnTo>
                  <a:pt x="304" y="328"/>
                </a:lnTo>
                <a:lnTo>
                  <a:pt x="270" y="331"/>
                </a:lnTo>
                <a:lnTo>
                  <a:pt x="231" y="329"/>
                </a:lnTo>
                <a:lnTo>
                  <a:pt x="188" y="321"/>
                </a:lnTo>
                <a:lnTo>
                  <a:pt x="141" y="305"/>
                </a:lnTo>
                <a:lnTo>
                  <a:pt x="75" y="269"/>
                </a:lnTo>
                <a:lnTo>
                  <a:pt x="32" y="223"/>
                </a:lnTo>
                <a:lnTo>
                  <a:pt x="9" y="173"/>
                </a:lnTo>
                <a:lnTo>
                  <a:pt x="0" y="122"/>
                </a:lnTo>
                <a:lnTo>
                  <a:pt x="0" y="75"/>
                </a:lnTo>
                <a:lnTo>
                  <a:pt x="5" y="36"/>
                </a:lnTo>
                <a:lnTo>
                  <a:pt x="13" y="9"/>
                </a:lnTo>
                <a:lnTo>
                  <a:pt x="16" y="0"/>
                </a:lnTo>
                <a:lnTo>
                  <a:pt x="392" y="147"/>
                </a:lnTo>
                <a:lnTo>
                  <a:pt x="86" y="75"/>
                </a:lnTo>
                <a:lnTo>
                  <a:pt x="84" y="80"/>
                </a:lnTo>
                <a:lnTo>
                  <a:pt x="82" y="94"/>
                </a:lnTo>
                <a:lnTo>
                  <a:pt x="80" y="115"/>
                </a:lnTo>
                <a:lnTo>
                  <a:pt x="84" y="141"/>
                </a:lnTo>
                <a:lnTo>
                  <a:pt x="94" y="169"/>
                </a:lnTo>
                <a:lnTo>
                  <a:pt x="112" y="198"/>
                </a:lnTo>
                <a:lnTo>
                  <a:pt x="145" y="225"/>
                </a:lnTo>
                <a:lnTo>
                  <a:pt x="190" y="250"/>
                </a:lnTo>
                <a:lnTo>
                  <a:pt x="223" y="261"/>
                </a:lnTo>
                <a:lnTo>
                  <a:pt x="253" y="268"/>
                </a:lnTo>
                <a:lnTo>
                  <a:pt x="283" y="270"/>
                </a:lnTo>
                <a:lnTo>
                  <a:pt x="310" y="269"/>
                </a:lnTo>
                <a:lnTo>
                  <a:pt x="337" y="264"/>
                </a:lnTo>
                <a:lnTo>
                  <a:pt x="361" y="258"/>
                </a:lnTo>
                <a:lnTo>
                  <a:pt x="382" y="249"/>
                </a:lnTo>
                <a:lnTo>
                  <a:pt x="404" y="240"/>
                </a:lnTo>
                <a:lnTo>
                  <a:pt x="421" y="229"/>
                </a:lnTo>
                <a:lnTo>
                  <a:pt x="437" y="217"/>
                </a:lnTo>
                <a:lnTo>
                  <a:pt x="452" y="207"/>
                </a:lnTo>
                <a:lnTo>
                  <a:pt x="463" y="197"/>
                </a:lnTo>
                <a:lnTo>
                  <a:pt x="472" y="188"/>
                </a:lnTo>
                <a:lnTo>
                  <a:pt x="479" y="181"/>
                </a:lnTo>
                <a:lnTo>
                  <a:pt x="483" y="176"/>
                </a:lnTo>
                <a:lnTo>
                  <a:pt x="484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684680" y="4495680"/>
            <a:ext cx="1584360" cy="204840"/>
          </a:xfrm>
          <a:custGeom>
            <a:avLst/>
            <a:gdLst/>
            <a:ahLst/>
            <a:rect l="l" t="t" r="r" b="b"/>
            <a:pathLst>
              <a:path w="998" h="129">
                <a:moveTo>
                  <a:pt x="0" y="129"/>
                </a:moveTo>
                <a:lnTo>
                  <a:pt x="968" y="0"/>
                </a:lnTo>
                <a:lnTo>
                  <a:pt x="998" y="95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405400" y="4479840"/>
            <a:ext cx="187200" cy="262080"/>
          </a:xfrm>
          <a:custGeom>
            <a:avLst/>
            <a:gdLst/>
            <a:ahLst/>
            <a:rect l="l" t="t" r="r" b="b"/>
            <a:pathLst>
              <a:path w="118" h="165">
                <a:moveTo>
                  <a:pt x="0" y="0"/>
                </a:moveTo>
                <a:lnTo>
                  <a:pt x="59" y="165"/>
                </a:lnTo>
                <a:lnTo>
                  <a:pt x="118" y="147"/>
                </a:lnTo>
                <a:lnTo>
                  <a:pt x="6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3352680" y="320040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3.1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90920" y="4648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3657600" y="4648320"/>
            <a:ext cx="2895480" cy="1312920"/>
            <a:chOff x="3657600" y="4648320"/>
            <a:chExt cx="2895480" cy="1312920"/>
          </a:xfrm>
        </p:grpSpPr>
        <p:sp>
          <p:nvSpPr>
            <p:cNvPr id="1243" name=""/>
            <p:cNvSpPr/>
            <p:nvPr/>
          </p:nvSpPr>
          <p:spPr>
            <a:xfrm>
              <a:off x="3657600" y="50292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267080" y="4648320"/>
              <a:ext cx="228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Round u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1600200" y="55627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3.2 to nearest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8380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und 3.175 to the nearest ten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4038480" y="2209680"/>
            <a:ext cx="3505320" cy="1752840"/>
            <a:chOff x="4038480" y="2209680"/>
            <a:chExt cx="3505320" cy="1752840"/>
          </a:xfrm>
        </p:grpSpPr>
        <p:sp>
          <p:nvSpPr>
            <p:cNvPr id="1249" name=""/>
            <p:cNvSpPr/>
            <p:nvPr/>
          </p:nvSpPr>
          <p:spPr>
            <a:xfrm>
              <a:off x="4495680" y="2209680"/>
              <a:ext cx="3048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Tenth plac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38480" y="3276720"/>
              <a:ext cx="30492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48320" y="2209680"/>
              <a:ext cx="45720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2" name=""/>
            <p:cNvCxnSpPr>
              <a:stCxn id="1251" idx="2"/>
              <a:endCxn id="1250" idx="0"/>
            </p:cNvCxnSpPr>
            <p:nvPr/>
          </p:nvCxnSpPr>
          <p:spPr>
            <a:xfrm flipV="1" rot="10800000">
              <a:off x="4190400" y="2551680"/>
              <a:ext cx="457920" cy="7246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53" name=""/>
          <p:cNvGrpSpPr/>
          <p:nvPr/>
        </p:nvGrpSpPr>
        <p:grpSpPr>
          <a:xfrm>
            <a:off x="4267080" y="3276720"/>
            <a:ext cx="2971800" cy="1465200"/>
            <a:chOff x="4267080" y="3276720"/>
            <a:chExt cx="2971800" cy="1465200"/>
          </a:xfrm>
        </p:grpSpPr>
        <p:sp>
          <p:nvSpPr>
            <p:cNvPr id="1254" name=""/>
            <p:cNvSpPr/>
            <p:nvPr/>
          </p:nvSpPr>
          <p:spPr>
            <a:xfrm>
              <a:off x="5334120" y="4038480"/>
              <a:ext cx="190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&gt; = 5 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67080" y="3276720"/>
              <a:ext cx="45720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410080" y="4038480"/>
              <a:ext cx="457200" cy="685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7" name=""/>
            <p:cNvCxnSpPr>
              <a:stCxn id="1256" idx="2"/>
              <a:endCxn id="1255" idx="4"/>
            </p:cNvCxnSpPr>
            <p:nvPr/>
          </p:nvCxnSpPr>
          <p:spPr>
            <a:xfrm rot="10800000">
              <a:off x="4494960" y="3961800"/>
              <a:ext cx="915120" cy="419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pull dir="l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914400" y="2209680"/>
            <a:ext cx="75438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cate digit to be rounded 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 at digits to r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&gt; or = 5: round up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drop digits to the 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&lt; 5: don’t chang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drop digits to the 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90920" y="700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09680" y="14479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ules for rou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500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5" dur="500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0" dur="500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312408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26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the names for decimal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5105160" cy="31402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323" name="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4800600" cy="313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312408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326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the decimal part of a number into an equivalent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5105160" cy="31402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3276720" y="3218040"/>
            <a:ext cx="5029200" cy="303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312408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38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743200" y="205740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 fractions to decimals in cases where the denominator can be expressed as a power of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1"/>
          <a:stretch/>
        </p:blipFill>
        <p:spPr>
          <a:xfrm>
            <a:off x="3276720" y="3505320"/>
            <a:ext cx="5105160" cy="27590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449" name="" descr=""/>
          <p:cNvPicPr/>
          <p:nvPr/>
        </p:nvPicPr>
        <p:blipFill>
          <a:blip r:embed="rId2"/>
          <a:stretch/>
        </p:blipFill>
        <p:spPr>
          <a:xfrm>
            <a:off x="3352680" y="3548160"/>
            <a:ext cx="4800600" cy="270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124080" y="609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96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2666880"/>
            <a:ext cx="57913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e the relative size of two numbers containing decimal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nd decimal numbers to a specified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312408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452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numbers containing decimals on the number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5105160" cy="31402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512" name="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4952880" cy="3116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312408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51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 the relative size of two numbers containing dec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5105160" cy="31402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575" name="" descr=""/>
          <p:cNvPicPr/>
          <p:nvPr/>
        </p:nvPicPr>
        <p:blipFill>
          <a:blip r:embed="rId2"/>
          <a:stretch/>
        </p:blipFill>
        <p:spPr>
          <a:xfrm>
            <a:off x="3276720" y="3249720"/>
            <a:ext cx="5029200" cy="299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3124080" y="700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578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5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 decimal numbers to a specific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5105160" cy="31402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638" name="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4724640" cy="3106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67652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60ce0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Naming Decimals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60ce0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905120" y="3505320"/>
            <a:ext cx="2819160" cy="25336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952880" y="3657600"/>
            <a:ext cx="3276720" cy="1371600"/>
          </a:xfrm>
          <a:prstGeom prst="wedgeEllipseCallout">
            <a:avLst>
              <a:gd name="adj1" fmla="val -43750"/>
              <a:gd name="adj2" fmla="val 63310"/>
            </a:avLst>
          </a:prstGeom>
          <a:solidFill>
            <a:srgbClr val="cc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3809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’s in a na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1339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ressing whole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190512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1, 638, 975, 48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2209680"/>
            <a:ext cx="5331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006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8168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2209680"/>
            <a:ext cx="53352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57200" y="2819160"/>
            <a:ext cx="1905120" cy="932400"/>
            <a:chOff x="457200" y="2819160"/>
            <a:chExt cx="1905120" cy="932400"/>
          </a:xfrm>
        </p:grpSpPr>
        <p:cxnSp>
          <p:nvCxnSpPr>
            <p:cNvPr id="274" name=""/>
            <p:cNvCxnSpPr>
              <a:stCxn id="263" idx="4"/>
            </p:cNvCxnSpPr>
            <p:nvPr/>
          </p:nvCxnSpPr>
          <p:spPr>
            <a:xfrm rot="5400000">
              <a:off x="1179720" y="2858400"/>
              <a:ext cx="421560" cy="343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457200" y="317016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Bill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914400" y="2819160"/>
            <a:ext cx="1828800" cy="2400840"/>
            <a:chOff x="914400" y="2819160"/>
            <a:chExt cx="1828800" cy="2400840"/>
          </a:xfrm>
        </p:grpSpPr>
        <p:cxnSp>
          <p:nvCxnSpPr>
            <p:cNvPr id="277" name=""/>
            <p:cNvCxnSpPr>
              <a:stCxn id="264" idx="4"/>
            </p:cNvCxnSpPr>
            <p:nvPr/>
          </p:nvCxnSpPr>
          <p:spPr>
            <a:xfrm rot="5400000">
              <a:off x="1774080" y="3102120"/>
              <a:ext cx="985320" cy="419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8" name=""/>
            <p:cNvSpPr/>
            <p:nvPr/>
          </p:nvSpPr>
          <p:spPr>
            <a:xfrm>
              <a:off x="914400" y="3663720"/>
              <a:ext cx="1828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undred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ill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295280" y="2819160"/>
            <a:ext cx="1828800" cy="2925720"/>
            <a:chOff x="1295280" y="2819160"/>
            <a:chExt cx="1828800" cy="2925720"/>
          </a:xfrm>
        </p:grpSpPr>
        <p:cxnSp>
          <p:nvCxnSpPr>
            <p:cNvPr id="280" name=""/>
            <p:cNvCxnSpPr>
              <a:stCxn id="265" idx="4"/>
            </p:cNvCxnSpPr>
            <p:nvPr/>
          </p:nvCxnSpPr>
          <p:spPr>
            <a:xfrm rot="5400000">
              <a:off x="1835280" y="3650040"/>
              <a:ext cx="2005560" cy="343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"/>
            <p:cNvSpPr/>
            <p:nvPr/>
          </p:nvSpPr>
          <p:spPr>
            <a:xfrm>
              <a:off x="1295280" y="4676040"/>
              <a:ext cx="1828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en</a:t>
              </a:r>
              <a:br>
                <a:rPr sz="3200"/>
              </a:b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ill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905120" y="2819160"/>
            <a:ext cx="1904760" cy="3565800"/>
            <a:chOff x="1905120" y="2819160"/>
            <a:chExt cx="1904760" cy="3565800"/>
          </a:xfrm>
        </p:grpSpPr>
        <p:cxnSp>
          <p:nvCxnSpPr>
            <p:cNvPr id="283" name=""/>
            <p:cNvCxnSpPr>
              <a:stCxn id="266" idx="4"/>
            </p:cNvCxnSpPr>
            <p:nvPr/>
          </p:nvCxnSpPr>
          <p:spPr>
            <a:xfrm rot="5400000">
              <a:off x="1728720" y="4138200"/>
              <a:ext cx="3133800" cy="496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" name=""/>
            <p:cNvSpPr/>
            <p:nvPr/>
          </p:nvSpPr>
          <p:spPr>
            <a:xfrm>
              <a:off x="1905120" y="580356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Mill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419720" y="2819160"/>
            <a:ext cx="3962160" cy="4130640"/>
            <a:chOff x="4419720" y="2819160"/>
            <a:chExt cx="3962160" cy="4130640"/>
          </a:xfrm>
        </p:grpSpPr>
        <p:cxnSp>
          <p:nvCxnSpPr>
            <p:cNvPr id="286" name=""/>
            <p:cNvCxnSpPr>
              <a:stCxn id="267" idx="4"/>
            </p:cNvCxnSpPr>
            <p:nvPr/>
          </p:nvCxnSpPr>
          <p:spPr>
            <a:xfrm flipH="1" rot="16200000">
              <a:off x="3060720" y="4291200"/>
              <a:ext cx="3135240" cy="191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"/>
            <p:cNvSpPr/>
            <p:nvPr/>
          </p:nvSpPr>
          <p:spPr>
            <a:xfrm>
              <a:off x="4419720" y="5880960"/>
              <a:ext cx="3962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undred thousan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29200" y="2819520"/>
            <a:ext cx="3505320" cy="3110040"/>
            <a:chOff x="5029200" y="2819520"/>
            <a:chExt cx="3505320" cy="3110040"/>
          </a:xfrm>
        </p:grpSpPr>
        <p:cxnSp>
          <p:nvCxnSpPr>
            <p:cNvPr id="289" name=""/>
            <p:cNvCxnSpPr>
              <a:stCxn id="268" idx="4"/>
            </p:cNvCxnSpPr>
            <p:nvPr/>
          </p:nvCxnSpPr>
          <p:spPr>
            <a:xfrm flipH="1" rot="16200000">
              <a:off x="3898080" y="3987360"/>
              <a:ext cx="2603520" cy="26712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029200" y="5348160"/>
              <a:ext cx="35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en thousan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486400" y="2819520"/>
            <a:ext cx="3276720" cy="2579400"/>
            <a:chOff x="5486400" y="2819520"/>
            <a:chExt cx="3276720" cy="2579400"/>
          </a:xfrm>
        </p:grpSpPr>
        <p:cxnSp>
          <p:nvCxnSpPr>
            <p:cNvPr id="292" name=""/>
            <p:cNvCxnSpPr>
              <a:stCxn id="269" idx="4"/>
            </p:cNvCxnSpPr>
            <p:nvPr/>
          </p:nvCxnSpPr>
          <p:spPr>
            <a:xfrm flipH="1" rot="16200000">
              <a:off x="4620600" y="3722040"/>
              <a:ext cx="2072520" cy="267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5486400" y="481752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housan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324480" y="2819520"/>
            <a:ext cx="2514600" cy="2125800"/>
            <a:chOff x="6324480" y="2819520"/>
            <a:chExt cx="2514600" cy="2125800"/>
          </a:xfrm>
        </p:grpSpPr>
        <p:sp>
          <p:nvSpPr>
            <p:cNvPr id="295" name=""/>
            <p:cNvSpPr/>
            <p:nvPr/>
          </p:nvSpPr>
          <p:spPr>
            <a:xfrm>
              <a:off x="6629400" y="2819520"/>
              <a:ext cx="0" cy="161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24480" y="4363920"/>
              <a:ext cx="251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Hundred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6781680" y="2819520"/>
            <a:ext cx="1828800" cy="1648080"/>
            <a:chOff x="6781680" y="2819520"/>
            <a:chExt cx="1828800" cy="1648080"/>
          </a:xfrm>
        </p:grpSpPr>
        <p:sp>
          <p:nvSpPr>
            <p:cNvPr id="298" name=""/>
            <p:cNvSpPr/>
            <p:nvPr/>
          </p:nvSpPr>
          <p:spPr>
            <a:xfrm>
              <a:off x="7086600" y="28195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1680" y="38862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Te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315200" y="2819520"/>
            <a:ext cx="1447920" cy="1185840"/>
            <a:chOff x="7315200" y="2819520"/>
            <a:chExt cx="1447920" cy="1185840"/>
          </a:xfrm>
        </p:grpSpPr>
        <p:sp>
          <p:nvSpPr>
            <p:cNvPr id="301" name=""/>
            <p:cNvSpPr/>
            <p:nvPr/>
          </p:nvSpPr>
          <p:spPr>
            <a:xfrm>
              <a:off x="7543800" y="2819520"/>
              <a:ext cx="0" cy="67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15200" y="342396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Uni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20574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, 638, 975, 48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62120" y="2895480"/>
            <a:ext cx="2286000" cy="3553200"/>
            <a:chOff x="762120" y="2895480"/>
            <a:chExt cx="2286000" cy="3553200"/>
          </a:xfrm>
        </p:grpSpPr>
        <p:sp>
          <p:nvSpPr>
            <p:cNvPr id="306" name=""/>
            <p:cNvSpPr/>
            <p:nvPr/>
          </p:nvSpPr>
          <p:spPr>
            <a:xfrm>
              <a:off x="1066680" y="2895480"/>
              <a:ext cx="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120" y="586728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One bill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523880" y="2819520"/>
            <a:ext cx="6324840" cy="3019680"/>
            <a:chOff x="1523880" y="2819520"/>
            <a:chExt cx="6324840" cy="3019680"/>
          </a:xfrm>
        </p:grpSpPr>
        <p:sp>
          <p:nvSpPr>
            <p:cNvPr id="309" name=""/>
            <p:cNvSpPr/>
            <p:nvPr/>
          </p:nvSpPr>
          <p:spPr>
            <a:xfrm>
              <a:off x="1752480" y="281952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3880" y="5257800"/>
              <a:ext cx="632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ix hundred thirty eight mill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828800" y="2819520"/>
            <a:ext cx="7010280" cy="2897640"/>
            <a:chOff x="1828800" y="2819520"/>
            <a:chExt cx="7010280" cy="2897640"/>
          </a:xfrm>
        </p:grpSpPr>
        <p:sp>
          <p:nvSpPr>
            <p:cNvPr id="312" name=""/>
            <p:cNvSpPr/>
            <p:nvPr/>
          </p:nvSpPr>
          <p:spPr>
            <a:xfrm>
              <a:off x="1828800" y="4648320"/>
              <a:ext cx="7010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Nine hundred seventy five thousa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61960" y="2819520"/>
              <a:ext cx="106668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886200" y="2819520"/>
            <a:ext cx="4876920" cy="2364120"/>
            <a:chOff x="3886200" y="2819520"/>
            <a:chExt cx="4876920" cy="2364120"/>
          </a:xfrm>
        </p:grpSpPr>
        <p:sp>
          <p:nvSpPr>
            <p:cNvPr id="315" name=""/>
            <p:cNvSpPr/>
            <p:nvPr/>
          </p:nvSpPr>
          <p:spPr>
            <a:xfrm flipH="1">
              <a:off x="4495320" y="2819520"/>
              <a:ext cx="7621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86200" y="4114800"/>
              <a:ext cx="4876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Four hundred eighty tw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523880" y="1339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ressing whole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19810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, 683,975,48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28954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anded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5812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 x 1,000,00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35812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6 x 100,00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4267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3 x 10,00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42670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8 x 1,00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49528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9 x 10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4952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7 x 1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90720" y="55627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5 x 1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5562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4 x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86400" y="5562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8 x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5562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1339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ressing whole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743200" y="6094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1339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pressing whole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20574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,638,975,4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327040" y="2057400"/>
            <a:ext cx="2244960" cy="1602000"/>
            <a:chOff x="2327040" y="2057400"/>
            <a:chExt cx="2244960" cy="1602000"/>
          </a:xfrm>
        </p:grpSpPr>
        <p:sp>
          <p:nvSpPr>
            <p:cNvPr id="336" name=""/>
            <p:cNvSpPr/>
            <p:nvPr/>
          </p:nvSpPr>
          <p:spPr>
            <a:xfrm>
              <a:off x="2590920" y="2955960"/>
              <a:ext cx="19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x 10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27040" y="2057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324160" y="2057400"/>
            <a:ext cx="2362320" cy="2303640"/>
            <a:chOff x="2324160" y="2057400"/>
            <a:chExt cx="2362320" cy="2303640"/>
          </a:xfrm>
        </p:grpSpPr>
        <p:sp>
          <p:nvSpPr>
            <p:cNvPr id="339" name=""/>
            <p:cNvSpPr/>
            <p:nvPr/>
          </p:nvSpPr>
          <p:spPr>
            <a:xfrm>
              <a:off x="2324160" y="365760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3 x 10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13360" y="2057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644560" y="2057400"/>
            <a:ext cx="3908520" cy="1602000"/>
            <a:chOff x="2644560" y="2057400"/>
            <a:chExt cx="3908520" cy="1602000"/>
          </a:xfrm>
        </p:grpSpPr>
        <p:sp>
          <p:nvSpPr>
            <p:cNvPr id="342" name=""/>
            <p:cNvSpPr/>
            <p:nvPr/>
          </p:nvSpPr>
          <p:spPr>
            <a:xfrm>
              <a:off x="4267080" y="295596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6 x 10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44560" y="2057400"/>
              <a:ext cx="69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,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572280" y="2057400"/>
            <a:ext cx="3247560" cy="2303640"/>
            <a:chOff x="3572280" y="2057400"/>
            <a:chExt cx="3247560" cy="2303640"/>
          </a:xfrm>
        </p:grpSpPr>
        <p:sp>
          <p:nvSpPr>
            <p:cNvPr id="345" name=""/>
            <p:cNvSpPr/>
            <p:nvPr/>
          </p:nvSpPr>
          <p:spPr>
            <a:xfrm>
              <a:off x="4457880" y="365760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8 x 10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72280" y="2057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324160" y="2057400"/>
            <a:ext cx="2308320" cy="3049920"/>
            <a:chOff x="2324160" y="2057400"/>
            <a:chExt cx="2308320" cy="3049920"/>
          </a:xfrm>
        </p:grpSpPr>
        <p:sp>
          <p:nvSpPr>
            <p:cNvPr id="348" name=""/>
            <p:cNvSpPr/>
            <p:nvPr/>
          </p:nvSpPr>
          <p:spPr>
            <a:xfrm>
              <a:off x="2324160" y="44038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9 x 10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39840" y="2057400"/>
              <a:ext cx="69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,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457880" y="2057400"/>
            <a:ext cx="2361960" cy="3049920"/>
            <a:chOff x="4457880" y="2057400"/>
            <a:chExt cx="2361960" cy="3049920"/>
          </a:xfrm>
        </p:grpSpPr>
        <p:sp>
          <p:nvSpPr>
            <p:cNvPr id="351" name=""/>
            <p:cNvSpPr/>
            <p:nvPr/>
          </p:nvSpPr>
          <p:spPr>
            <a:xfrm>
              <a:off x="4457880" y="440388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7 x 10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86680" y="2057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362320" y="2057400"/>
            <a:ext cx="3034800" cy="3751560"/>
            <a:chOff x="2362320" y="2057400"/>
            <a:chExt cx="3034800" cy="3751560"/>
          </a:xfrm>
        </p:grpSpPr>
        <p:sp>
          <p:nvSpPr>
            <p:cNvPr id="354" name=""/>
            <p:cNvSpPr/>
            <p:nvPr/>
          </p:nvSpPr>
          <p:spPr>
            <a:xfrm>
              <a:off x="2362320" y="5105520"/>
              <a:ext cx="236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5 x 10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67560" y="2057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495680" y="2057400"/>
            <a:ext cx="2286000" cy="3751560"/>
            <a:chOff x="4495680" y="2057400"/>
            <a:chExt cx="2286000" cy="3751560"/>
          </a:xfrm>
        </p:grpSpPr>
        <p:sp>
          <p:nvSpPr>
            <p:cNvPr id="357" name=""/>
            <p:cNvSpPr/>
            <p:nvPr/>
          </p:nvSpPr>
          <p:spPr>
            <a:xfrm>
              <a:off x="4495680" y="510552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4 x 10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35120" y="2057400"/>
              <a:ext cx="692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,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400480" y="2057400"/>
            <a:ext cx="3911040" cy="4475520"/>
            <a:chOff x="2400480" y="2057400"/>
            <a:chExt cx="3911040" cy="4475520"/>
          </a:xfrm>
        </p:grpSpPr>
        <p:sp>
          <p:nvSpPr>
            <p:cNvPr id="360" name=""/>
            <p:cNvSpPr/>
            <p:nvPr/>
          </p:nvSpPr>
          <p:spPr>
            <a:xfrm>
              <a:off x="2400480" y="5829480"/>
              <a:ext cx="220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8 x 10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81960" y="2057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457880" y="2057400"/>
            <a:ext cx="2286000" cy="4475520"/>
            <a:chOff x="4457880" y="2057400"/>
            <a:chExt cx="2286000" cy="4475520"/>
          </a:xfrm>
        </p:grpSpPr>
        <p:sp>
          <p:nvSpPr>
            <p:cNvPr id="363" name=""/>
            <p:cNvSpPr/>
            <p:nvPr/>
          </p:nvSpPr>
          <p:spPr>
            <a:xfrm>
              <a:off x="4457880" y="58294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+ 2 x 10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62840" y="205740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5:06Z</dcterms:modified>
  <cp:revision>163</cp:revision>
  <dc:subject/>
  <dc:title>PowerPoint Presentation</dc:title>
</cp:coreProperties>
</file>