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7080" y="45720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7 Uni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1905120"/>
            <a:ext cx="8001000" cy="38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Order of Operations and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Evaluating and Simplify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Expression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156120" y="2590920"/>
            <a:ext cx="2791080" cy="1252080"/>
            <a:chOff x="3156120" y="2590920"/>
            <a:chExt cx="2791080" cy="1252080"/>
          </a:xfrm>
        </p:grpSpPr>
        <p:grpSp>
          <p:nvGrpSpPr>
            <p:cNvPr id="391" name=""/>
            <p:cNvGrpSpPr/>
            <p:nvPr/>
          </p:nvGrpSpPr>
          <p:grpSpPr>
            <a:xfrm>
              <a:off x="4162320" y="2590920"/>
              <a:ext cx="791640" cy="1252080"/>
              <a:chOff x="4162320" y="2590920"/>
              <a:chExt cx="791640" cy="1252080"/>
            </a:xfrm>
          </p:grpSpPr>
          <p:sp>
            <p:nvSpPr>
              <p:cNvPr id="392" name=""/>
              <p:cNvSpPr/>
              <p:nvPr/>
            </p:nvSpPr>
            <p:spPr>
              <a:xfrm>
                <a:off x="4162320" y="2590920"/>
                <a:ext cx="79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23880" y="3200400"/>
                <a:ext cx="66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262040" y="3216240"/>
                <a:ext cx="59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3777120" y="280368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3156120" y="2590920"/>
              <a:ext cx="533160" cy="1252080"/>
              <a:chOff x="3156120" y="2590920"/>
              <a:chExt cx="533160" cy="1252080"/>
            </a:xfrm>
          </p:grpSpPr>
          <p:sp>
            <p:nvSpPr>
              <p:cNvPr id="397" name=""/>
              <p:cNvSpPr/>
              <p:nvPr/>
            </p:nvSpPr>
            <p:spPr>
              <a:xfrm>
                <a:off x="3176280" y="2590920"/>
                <a:ext cx="49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76280" y="3200400"/>
                <a:ext cx="49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56120" y="321624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4969440" y="2805120"/>
              <a:ext cx="977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124080" y="1295280"/>
            <a:ext cx="2851920" cy="1252440"/>
            <a:chOff x="3124080" y="1295280"/>
            <a:chExt cx="2851920" cy="1252440"/>
          </a:xfrm>
        </p:grpSpPr>
        <p:grpSp>
          <p:nvGrpSpPr>
            <p:cNvPr id="402" name=""/>
            <p:cNvGrpSpPr/>
            <p:nvPr/>
          </p:nvGrpSpPr>
          <p:grpSpPr>
            <a:xfrm>
              <a:off x="3124080" y="1295280"/>
              <a:ext cx="792360" cy="1252440"/>
              <a:chOff x="3124080" y="1295280"/>
              <a:chExt cx="792360" cy="1252440"/>
            </a:xfrm>
          </p:grpSpPr>
          <p:sp>
            <p:nvSpPr>
              <p:cNvPr id="403" name=""/>
              <p:cNvSpPr/>
              <p:nvPr/>
            </p:nvSpPr>
            <p:spPr>
              <a:xfrm>
                <a:off x="3124080" y="1295280"/>
                <a:ext cx="79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86000" y="1905120"/>
                <a:ext cx="66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224160" y="192096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3921840" y="150804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4392720" y="1295280"/>
              <a:ext cx="533160" cy="1252440"/>
              <a:chOff x="4392720" y="1295280"/>
              <a:chExt cx="533160" cy="1252440"/>
            </a:xfrm>
          </p:grpSpPr>
          <p:sp>
            <p:nvSpPr>
              <p:cNvPr id="408" name=""/>
              <p:cNvSpPr/>
              <p:nvPr/>
            </p:nvSpPr>
            <p:spPr>
              <a:xfrm>
                <a:off x="4413240" y="1295280"/>
                <a:ext cx="49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13240" y="1905120"/>
                <a:ext cx="49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392720" y="192096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4998240" y="1509840"/>
              <a:ext cx="977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683160" y="3886200"/>
            <a:ext cx="1735920" cy="1800720"/>
            <a:chOff x="3683160" y="3886200"/>
            <a:chExt cx="1735920" cy="1800720"/>
          </a:xfrm>
        </p:grpSpPr>
        <p:grpSp>
          <p:nvGrpSpPr>
            <p:cNvPr id="413" name=""/>
            <p:cNvGrpSpPr/>
            <p:nvPr/>
          </p:nvGrpSpPr>
          <p:grpSpPr>
            <a:xfrm>
              <a:off x="3683160" y="3886200"/>
              <a:ext cx="792000" cy="1800720"/>
              <a:chOff x="3683160" y="3886200"/>
              <a:chExt cx="792000" cy="1800720"/>
            </a:xfrm>
          </p:grpSpPr>
          <p:sp>
            <p:nvSpPr>
              <p:cNvPr id="414" name=""/>
              <p:cNvSpPr/>
              <p:nvPr/>
            </p:nvSpPr>
            <p:spPr>
              <a:xfrm>
                <a:off x="3683160" y="388620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45080" y="4495680"/>
                <a:ext cx="669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82880" y="4511520"/>
                <a:ext cx="5922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4441320" y="4100400"/>
              <a:ext cx="977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967560" y="5105520"/>
            <a:ext cx="1177200" cy="1800720"/>
            <a:chOff x="3967560" y="5105520"/>
            <a:chExt cx="1177200" cy="1800720"/>
          </a:xfrm>
        </p:grpSpPr>
        <p:sp>
          <p:nvSpPr>
            <p:cNvPr id="419" name=""/>
            <p:cNvSpPr/>
            <p:nvPr/>
          </p:nvSpPr>
          <p:spPr>
            <a:xfrm>
              <a:off x="3967560" y="54151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352760" y="5105520"/>
              <a:ext cx="792000" cy="1800720"/>
              <a:chOff x="4352760" y="5105520"/>
              <a:chExt cx="792000" cy="1800720"/>
            </a:xfrm>
          </p:grpSpPr>
          <p:sp>
            <p:nvSpPr>
              <p:cNvPr id="421" name=""/>
              <p:cNvSpPr/>
              <p:nvPr/>
            </p:nvSpPr>
            <p:spPr>
              <a:xfrm>
                <a:off x="4352760" y="510552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14320" y="5715000"/>
                <a:ext cx="669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52480" y="5730840"/>
                <a:ext cx="5918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743200" y="1523880"/>
            <a:ext cx="3581280" cy="1252080"/>
            <a:chOff x="2743200" y="1523880"/>
            <a:chExt cx="3581280" cy="1252080"/>
          </a:xfrm>
        </p:grpSpPr>
        <p:grpSp>
          <p:nvGrpSpPr>
            <p:cNvPr id="426" name=""/>
            <p:cNvGrpSpPr/>
            <p:nvPr/>
          </p:nvGrpSpPr>
          <p:grpSpPr>
            <a:xfrm>
              <a:off x="2743200" y="1523880"/>
              <a:ext cx="792000" cy="1252080"/>
              <a:chOff x="2743200" y="1523880"/>
              <a:chExt cx="792000" cy="1252080"/>
            </a:xfrm>
          </p:grpSpPr>
          <p:sp>
            <p:nvSpPr>
              <p:cNvPr id="427" name=""/>
              <p:cNvSpPr/>
              <p:nvPr/>
            </p:nvSpPr>
            <p:spPr>
              <a:xfrm>
                <a:off x="2743200" y="15238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805120" y="2133360"/>
                <a:ext cx="66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843280" y="214920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3484440" y="1736640"/>
              <a:ext cx="66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606920" y="1523880"/>
              <a:ext cx="533520" cy="1252080"/>
              <a:chOff x="4606920" y="1523880"/>
              <a:chExt cx="533520" cy="1252080"/>
            </a:xfrm>
          </p:grpSpPr>
          <p:sp>
            <p:nvSpPr>
              <p:cNvPr id="432" name=""/>
              <p:cNvSpPr/>
              <p:nvPr/>
            </p:nvSpPr>
            <p:spPr>
              <a:xfrm>
                <a:off x="4626720" y="1523880"/>
                <a:ext cx="49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26720" y="2133360"/>
                <a:ext cx="49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06920" y="214920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4126320" y="17985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23600" y="173844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5743440" y="1523880"/>
              <a:ext cx="581040" cy="1252080"/>
              <a:chOff x="5743440" y="1523880"/>
              <a:chExt cx="581040" cy="1252080"/>
            </a:xfrm>
          </p:grpSpPr>
          <p:sp>
            <p:nvSpPr>
              <p:cNvPr id="438" name=""/>
              <p:cNvSpPr/>
              <p:nvPr/>
            </p:nvSpPr>
            <p:spPr>
              <a:xfrm>
                <a:off x="5765040" y="1523880"/>
                <a:ext cx="53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65040" y="2133360"/>
                <a:ext cx="53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743440" y="2149200"/>
                <a:ext cx="581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2913120" y="3168720"/>
            <a:ext cx="3241080" cy="1252440"/>
            <a:chOff x="2913120" y="3168720"/>
            <a:chExt cx="3241080" cy="1252440"/>
          </a:xfrm>
        </p:grpSpPr>
        <p:grpSp>
          <p:nvGrpSpPr>
            <p:cNvPr id="442" name=""/>
            <p:cNvGrpSpPr/>
            <p:nvPr/>
          </p:nvGrpSpPr>
          <p:grpSpPr>
            <a:xfrm>
              <a:off x="2913120" y="3168720"/>
              <a:ext cx="791640" cy="1252080"/>
              <a:chOff x="2913120" y="3168720"/>
              <a:chExt cx="791640" cy="1252080"/>
            </a:xfrm>
          </p:grpSpPr>
          <p:sp>
            <p:nvSpPr>
              <p:cNvPr id="443" name=""/>
              <p:cNvSpPr/>
              <p:nvPr/>
            </p:nvSpPr>
            <p:spPr>
              <a:xfrm>
                <a:off x="2913120" y="3168720"/>
                <a:ext cx="79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74680" y="3778200"/>
                <a:ext cx="66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12840" y="3794040"/>
                <a:ext cx="591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3654000" y="3381480"/>
              <a:ext cx="66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4436640" y="3168720"/>
              <a:ext cx="533160" cy="1252440"/>
              <a:chOff x="4436640" y="3168720"/>
              <a:chExt cx="533160" cy="1252440"/>
            </a:xfrm>
          </p:grpSpPr>
          <p:sp>
            <p:nvSpPr>
              <p:cNvPr id="448" name=""/>
              <p:cNvSpPr/>
              <p:nvPr/>
            </p:nvSpPr>
            <p:spPr>
              <a:xfrm>
                <a:off x="4456800" y="3168720"/>
                <a:ext cx="49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456800" y="3778560"/>
                <a:ext cx="49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436640" y="379440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5053320" y="338328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5573520" y="3168720"/>
              <a:ext cx="580680" cy="1252080"/>
              <a:chOff x="5573520" y="3168720"/>
              <a:chExt cx="580680" cy="1252080"/>
            </a:xfrm>
          </p:grpSpPr>
          <p:sp>
            <p:nvSpPr>
              <p:cNvPr id="453" name=""/>
              <p:cNvSpPr/>
              <p:nvPr/>
            </p:nvSpPr>
            <p:spPr>
              <a:xfrm>
                <a:off x="5595120" y="3168720"/>
                <a:ext cx="538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95120" y="3778200"/>
                <a:ext cx="538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73520" y="3794040"/>
                <a:ext cx="580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3002040" y="4876920"/>
            <a:ext cx="3063960" cy="1252440"/>
            <a:chOff x="3002040" y="4876920"/>
            <a:chExt cx="3063960" cy="1252440"/>
          </a:xfrm>
        </p:grpSpPr>
        <p:grpSp>
          <p:nvGrpSpPr>
            <p:cNvPr id="457" name=""/>
            <p:cNvGrpSpPr/>
            <p:nvPr/>
          </p:nvGrpSpPr>
          <p:grpSpPr>
            <a:xfrm>
              <a:off x="3002040" y="4876920"/>
              <a:ext cx="792000" cy="1252080"/>
              <a:chOff x="3002040" y="4876920"/>
              <a:chExt cx="792000" cy="1252080"/>
            </a:xfrm>
          </p:grpSpPr>
          <p:sp>
            <p:nvSpPr>
              <p:cNvPr id="458" name=""/>
              <p:cNvSpPr/>
              <p:nvPr/>
            </p:nvSpPr>
            <p:spPr>
              <a:xfrm>
                <a:off x="3002040" y="487692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063960" y="5486400"/>
                <a:ext cx="66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102120" y="550224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3822120" y="508968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4348440" y="4876920"/>
              <a:ext cx="533160" cy="1252440"/>
              <a:chOff x="4348440" y="4876920"/>
              <a:chExt cx="533160" cy="1252440"/>
            </a:xfrm>
          </p:grpSpPr>
          <p:sp>
            <p:nvSpPr>
              <p:cNvPr id="463" name=""/>
              <p:cNvSpPr/>
              <p:nvPr/>
            </p:nvSpPr>
            <p:spPr>
              <a:xfrm>
                <a:off x="4368600" y="4876920"/>
                <a:ext cx="49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68600" y="5486760"/>
                <a:ext cx="49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348440" y="550260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4965120" y="509148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484960" y="4876920"/>
              <a:ext cx="581040" cy="1252080"/>
              <a:chOff x="5484960" y="4876920"/>
              <a:chExt cx="581040" cy="1252080"/>
            </a:xfrm>
          </p:grpSpPr>
          <p:sp>
            <p:nvSpPr>
              <p:cNvPr id="468" name=""/>
              <p:cNvSpPr/>
              <p:nvPr/>
            </p:nvSpPr>
            <p:spPr>
              <a:xfrm>
                <a:off x="5506560" y="4876920"/>
                <a:ext cx="53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506560" y="5486400"/>
                <a:ext cx="53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484960" y="5502240"/>
                <a:ext cx="581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3032280" y="1523880"/>
            <a:ext cx="3063600" cy="1252440"/>
            <a:chOff x="3032280" y="1523880"/>
            <a:chExt cx="3063600" cy="1252440"/>
          </a:xfrm>
        </p:grpSpPr>
        <p:grpSp>
          <p:nvGrpSpPr>
            <p:cNvPr id="473" name=""/>
            <p:cNvGrpSpPr/>
            <p:nvPr/>
          </p:nvGrpSpPr>
          <p:grpSpPr>
            <a:xfrm>
              <a:off x="3032280" y="1523880"/>
              <a:ext cx="792000" cy="1252080"/>
              <a:chOff x="3032280" y="1523880"/>
              <a:chExt cx="792000" cy="1252080"/>
            </a:xfrm>
          </p:grpSpPr>
          <p:sp>
            <p:nvSpPr>
              <p:cNvPr id="474" name=""/>
              <p:cNvSpPr/>
              <p:nvPr/>
            </p:nvSpPr>
            <p:spPr>
              <a:xfrm>
                <a:off x="3032280" y="15238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094200" y="2133360"/>
                <a:ext cx="66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32360" y="214920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852000" y="173664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4378320" y="1523880"/>
              <a:ext cx="533520" cy="1252440"/>
              <a:chOff x="4378320" y="1523880"/>
              <a:chExt cx="533520" cy="1252440"/>
            </a:xfrm>
          </p:grpSpPr>
          <p:sp>
            <p:nvSpPr>
              <p:cNvPr id="479" name=""/>
              <p:cNvSpPr/>
              <p:nvPr/>
            </p:nvSpPr>
            <p:spPr>
              <a:xfrm>
                <a:off x="4398840" y="1523880"/>
                <a:ext cx="493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398840" y="2133720"/>
                <a:ext cx="493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378320" y="21495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4995000" y="173844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5514840" y="1523880"/>
              <a:ext cx="581040" cy="1252080"/>
              <a:chOff x="5514840" y="1523880"/>
              <a:chExt cx="581040" cy="1252080"/>
            </a:xfrm>
          </p:grpSpPr>
          <p:sp>
            <p:nvSpPr>
              <p:cNvPr id="484" name=""/>
              <p:cNvSpPr/>
              <p:nvPr/>
            </p:nvSpPr>
            <p:spPr>
              <a:xfrm>
                <a:off x="5536440" y="1523880"/>
                <a:ext cx="53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536440" y="2133360"/>
                <a:ext cx="53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514840" y="2149200"/>
                <a:ext cx="581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7" name=""/>
          <p:cNvGrpSpPr/>
          <p:nvPr/>
        </p:nvGrpSpPr>
        <p:grpSpPr>
          <a:xfrm>
            <a:off x="2753640" y="3016080"/>
            <a:ext cx="3358080" cy="1589040"/>
            <a:chOff x="2753640" y="3016080"/>
            <a:chExt cx="3358080" cy="1589040"/>
          </a:xfrm>
        </p:grpSpPr>
        <p:grpSp>
          <p:nvGrpSpPr>
            <p:cNvPr id="488" name=""/>
            <p:cNvGrpSpPr/>
            <p:nvPr/>
          </p:nvGrpSpPr>
          <p:grpSpPr>
            <a:xfrm>
              <a:off x="3048120" y="3168720"/>
              <a:ext cx="3063600" cy="1252440"/>
              <a:chOff x="3048120" y="3168720"/>
              <a:chExt cx="3063600" cy="125244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3048120" y="3168720"/>
                <a:ext cx="792000" cy="1252080"/>
                <a:chOff x="3048120" y="3168720"/>
                <a:chExt cx="792000" cy="12520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048120" y="3168720"/>
                  <a:ext cx="792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110040" y="3778200"/>
                  <a:ext cx="669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148200" y="3794040"/>
                  <a:ext cx="592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3867840" y="3381480"/>
                <a:ext cx="409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4394160" y="3168720"/>
                <a:ext cx="533520" cy="1252440"/>
                <a:chOff x="4394160" y="3168720"/>
                <a:chExt cx="533520" cy="125244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4414680" y="3168720"/>
                  <a:ext cx="493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414680" y="3778560"/>
                  <a:ext cx="493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394160" y="37944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5010840" y="3383280"/>
                <a:ext cx="4093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5530680" y="3168720"/>
                <a:ext cx="581040" cy="1252080"/>
                <a:chOff x="5530680" y="3168720"/>
                <a:chExt cx="581040" cy="12520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552280" y="3168720"/>
                  <a:ext cx="538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552280" y="3778200"/>
                  <a:ext cx="538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530680" y="3794040"/>
                  <a:ext cx="581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"/>
            <p:cNvGrpSpPr/>
            <p:nvPr/>
          </p:nvGrpSpPr>
          <p:grpSpPr>
            <a:xfrm>
              <a:off x="2753640" y="3016080"/>
              <a:ext cx="2539800" cy="1589040"/>
              <a:chOff x="2753640" y="3016080"/>
              <a:chExt cx="2539800" cy="1589040"/>
            </a:xfrm>
          </p:grpSpPr>
          <p:sp>
            <p:nvSpPr>
              <p:cNvPr id="504" name=""/>
              <p:cNvSpPr/>
              <p:nvPr/>
            </p:nvSpPr>
            <p:spPr>
              <a:xfrm flipV="1">
                <a:off x="3152880" y="3360600"/>
                <a:ext cx="576000" cy="214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3152880" y="3960720"/>
                <a:ext cx="581040" cy="216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4397400" y="3962160"/>
                <a:ext cx="576360" cy="214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4398840" y="3358800"/>
                <a:ext cx="576360" cy="214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21960" y="30160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50640" y="30160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088880" y="39625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53640" y="39625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2" name=""/>
          <p:cNvGrpSpPr/>
          <p:nvPr/>
        </p:nvGrpSpPr>
        <p:grpSpPr>
          <a:xfrm>
            <a:off x="2448000" y="4876920"/>
            <a:ext cx="3063960" cy="1252080"/>
            <a:chOff x="2448000" y="4876920"/>
            <a:chExt cx="3063960" cy="1252080"/>
          </a:xfrm>
        </p:grpSpPr>
        <p:grpSp>
          <p:nvGrpSpPr>
            <p:cNvPr id="513" name=""/>
            <p:cNvGrpSpPr/>
            <p:nvPr/>
          </p:nvGrpSpPr>
          <p:grpSpPr>
            <a:xfrm>
              <a:off x="2448000" y="4876920"/>
              <a:ext cx="792000" cy="1252080"/>
              <a:chOff x="2448000" y="4876920"/>
              <a:chExt cx="792000" cy="1252080"/>
            </a:xfrm>
          </p:grpSpPr>
          <p:sp>
            <p:nvSpPr>
              <p:cNvPr id="514" name=""/>
              <p:cNvSpPr/>
              <p:nvPr/>
            </p:nvSpPr>
            <p:spPr>
              <a:xfrm>
                <a:off x="2448000" y="487692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509920" y="5486400"/>
                <a:ext cx="66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548080" y="550224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3268080" y="508968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3794040" y="4876920"/>
              <a:ext cx="533520" cy="1252080"/>
              <a:chOff x="3794040" y="4876920"/>
              <a:chExt cx="533520" cy="1252080"/>
            </a:xfrm>
          </p:grpSpPr>
          <p:sp>
            <p:nvSpPr>
              <p:cNvPr id="519" name=""/>
              <p:cNvSpPr/>
              <p:nvPr/>
            </p:nvSpPr>
            <p:spPr>
              <a:xfrm>
                <a:off x="3814920" y="4876920"/>
                <a:ext cx="49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814920" y="5486400"/>
                <a:ext cx="49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794040" y="550224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4411080" y="509112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4930920" y="4876920"/>
              <a:ext cx="581040" cy="1252080"/>
              <a:chOff x="4930920" y="4876920"/>
              <a:chExt cx="581040" cy="1252080"/>
            </a:xfrm>
          </p:grpSpPr>
          <p:sp>
            <p:nvSpPr>
              <p:cNvPr id="524" name=""/>
              <p:cNvSpPr/>
              <p:nvPr/>
            </p:nvSpPr>
            <p:spPr>
              <a:xfrm>
                <a:off x="4952520" y="4876920"/>
                <a:ext cx="53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952520" y="5486400"/>
                <a:ext cx="53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930920" y="5502240"/>
                <a:ext cx="581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7" name=""/>
          <p:cNvGrpSpPr/>
          <p:nvPr/>
        </p:nvGrpSpPr>
        <p:grpSpPr>
          <a:xfrm>
            <a:off x="5591880" y="4876920"/>
            <a:ext cx="1199520" cy="1252080"/>
            <a:chOff x="5591880" y="4876920"/>
            <a:chExt cx="1199520" cy="1252080"/>
          </a:xfrm>
        </p:grpSpPr>
        <p:sp>
          <p:nvSpPr>
            <p:cNvPr id="528" name=""/>
            <p:cNvSpPr/>
            <p:nvPr/>
          </p:nvSpPr>
          <p:spPr>
            <a:xfrm>
              <a:off x="5591880" y="51055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6210360" y="4876920"/>
              <a:ext cx="581040" cy="1252080"/>
              <a:chOff x="6210360" y="4876920"/>
              <a:chExt cx="581040" cy="1252080"/>
            </a:xfrm>
          </p:grpSpPr>
          <p:sp>
            <p:nvSpPr>
              <p:cNvPr id="530" name=""/>
              <p:cNvSpPr/>
              <p:nvPr/>
            </p:nvSpPr>
            <p:spPr>
              <a:xfrm>
                <a:off x="6232680" y="4876920"/>
                <a:ext cx="538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232680" y="5486400"/>
                <a:ext cx="538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210360" y="5502240"/>
                <a:ext cx="581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2260080" y="4737240"/>
            <a:ext cx="3566880" cy="1588680"/>
            <a:chOff x="2260080" y="4737240"/>
            <a:chExt cx="3566880" cy="1588680"/>
          </a:xfrm>
        </p:grpSpPr>
        <p:sp>
          <p:nvSpPr>
            <p:cNvPr id="534" name=""/>
            <p:cNvSpPr/>
            <p:nvPr/>
          </p:nvSpPr>
          <p:spPr>
            <a:xfrm flipV="1">
              <a:off x="2543400" y="5681520"/>
              <a:ext cx="581040" cy="216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4932360" y="5079600"/>
              <a:ext cx="576360" cy="214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84160" y="4737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60080" y="5683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914400" y="2133720"/>
            <a:ext cx="74390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Evaluating</a:t>
            </a:r>
            <a:endParaRPr b="0" lang="en-US" sz="6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Expressions</a:t>
            </a:r>
            <a:endParaRPr b="0" lang="en-US" sz="6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20355000">
            <a:off x="487440" y="1681920"/>
            <a:ext cx="2819520" cy="1312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Rememb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429000" y="17524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alu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5120" y="24130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05320" y="241308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en x = 3 and y =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09880" y="3625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3886200" y="2362320"/>
            <a:ext cx="1828800" cy="2006640"/>
            <a:chOff x="3886200" y="2362320"/>
            <a:chExt cx="1828800" cy="2006640"/>
          </a:xfrm>
        </p:grpSpPr>
        <p:sp>
          <p:nvSpPr>
            <p:cNvPr id="546" name=""/>
            <p:cNvSpPr/>
            <p:nvPr/>
          </p:nvSpPr>
          <p:spPr>
            <a:xfrm>
              <a:off x="5105520" y="2362320"/>
              <a:ext cx="609480" cy="641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86200" y="3733920"/>
              <a:ext cx="504720" cy="635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8" name=""/>
            <p:cNvCxnSpPr>
              <a:stCxn id="546" idx="4"/>
              <a:endCxn id="547" idx="0"/>
            </p:cNvCxnSpPr>
            <p:nvPr/>
          </p:nvCxnSpPr>
          <p:spPr>
            <a:xfrm rot="5400000">
              <a:off x="4408920" y="2732760"/>
              <a:ext cx="731160" cy="12718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49" name=""/>
          <p:cNvGrpSpPr/>
          <p:nvPr/>
        </p:nvGrpSpPr>
        <p:grpSpPr>
          <a:xfrm>
            <a:off x="4800600" y="2413080"/>
            <a:ext cx="2895480" cy="2006640"/>
            <a:chOff x="4800600" y="2413080"/>
            <a:chExt cx="2895480" cy="2006640"/>
          </a:xfrm>
        </p:grpSpPr>
        <p:sp>
          <p:nvSpPr>
            <p:cNvPr id="550" name=""/>
            <p:cNvSpPr/>
            <p:nvPr/>
          </p:nvSpPr>
          <p:spPr>
            <a:xfrm>
              <a:off x="7162920" y="2413080"/>
              <a:ext cx="533160" cy="590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00600" y="3784680"/>
              <a:ext cx="457200" cy="635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2" name=""/>
            <p:cNvCxnSpPr>
              <a:stCxn id="550" idx="4"/>
              <a:endCxn id="551" idx="0"/>
            </p:cNvCxnSpPr>
            <p:nvPr/>
          </p:nvCxnSpPr>
          <p:spPr>
            <a:xfrm rot="5400000">
              <a:off x="5838120" y="2193840"/>
              <a:ext cx="781920" cy="2401200"/>
            </a:xfrm>
            <a:prstGeom prst="curvedConnector5">
              <a:avLst>
                <a:gd name="adj1" fmla="val 49976"/>
                <a:gd name="adj2" fmla="val 49992"/>
                <a:gd name="adj3" fmla="val 49976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53" name=""/>
          <p:cNvSpPr/>
          <p:nvPr/>
        </p:nvSpPr>
        <p:spPr>
          <a:xfrm>
            <a:off x="2514600" y="4648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62520" y="4648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9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38680" y="46483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20355000">
            <a:off x="487440" y="1681920"/>
            <a:ext cx="2819520" cy="1312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Rememb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33720" y="22096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tance 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te •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38080" y="396252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distance traveled by a Concorde flying at a cruising rate of 1336 miles/hr for 2¼ h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657600" y="2971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38080" y="396252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Find the distanc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raveled by a Concorde flying at a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ruising rate of 1336 miles/hr for 2¼ hour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38080" y="1797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r = 1336 miles/h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10080" y="17971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t = 2¼ hou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1676520" y="1797120"/>
            <a:ext cx="6095880" cy="1969560"/>
            <a:chOff x="1676520" y="1797120"/>
            <a:chExt cx="6095880" cy="1969560"/>
          </a:xfrm>
        </p:grpSpPr>
        <p:sp>
          <p:nvSpPr>
            <p:cNvPr id="566" name=""/>
            <p:cNvSpPr/>
            <p:nvPr/>
          </p:nvSpPr>
          <p:spPr>
            <a:xfrm>
              <a:off x="3962520" y="31240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 • 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676520" y="1797120"/>
              <a:ext cx="3047760" cy="596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00800" y="1828800"/>
              <a:ext cx="1371600" cy="596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14800" y="3124080"/>
              <a:ext cx="533520" cy="596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72000" y="3137040"/>
              <a:ext cx="533520" cy="596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1" name=""/>
            <p:cNvCxnSpPr>
              <a:stCxn id="567" idx="4"/>
              <a:endCxn id="569" idx="2"/>
            </p:cNvCxnSpPr>
            <p:nvPr/>
          </p:nvCxnSpPr>
          <p:spPr>
            <a:xfrm flipH="1" rot="16200000">
              <a:off x="3143520" y="2450160"/>
              <a:ext cx="1028880" cy="9151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2" name=""/>
            <p:cNvCxnSpPr>
              <a:stCxn id="568" idx="4"/>
              <a:endCxn id="570" idx="6"/>
            </p:cNvCxnSpPr>
            <p:nvPr/>
          </p:nvCxnSpPr>
          <p:spPr>
            <a:xfrm rot="5400000">
              <a:off x="5590440" y="1939680"/>
              <a:ext cx="1010520" cy="19818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3" name=""/>
          <p:cNvGrpSpPr/>
          <p:nvPr/>
        </p:nvGrpSpPr>
        <p:grpSpPr>
          <a:xfrm>
            <a:off x="1905120" y="3794040"/>
            <a:ext cx="5257800" cy="1648440"/>
            <a:chOff x="1905120" y="3794040"/>
            <a:chExt cx="5257800" cy="1648440"/>
          </a:xfrm>
        </p:grpSpPr>
        <p:grpSp>
          <p:nvGrpSpPr>
            <p:cNvPr id="574" name=""/>
            <p:cNvGrpSpPr/>
            <p:nvPr/>
          </p:nvGrpSpPr>
          <p:grpSpPr>
            <a:xfrm>
              <a:off x="1905120" y="3794040"/>
              <a:ext cx="2361960" cy="1648440"/>
              <a:chOff x="1905120" y="3794040"/>
              <a:chExt cx="2361960" cy="1648440"/>
            </a:xfrm>
          </p:grpSpPr>
          <p:sp>
            <p:nvSpPr>
              <p:cNvPr id="575" name=""/>
              <p:cNvSpPr/>
              <p:nvPr/>
            </p:nvSpPr>
            <p:spPr>
              <a:xfrm>
                <a:off x="1905120" y="3794040"/>
                <a:ext cx="2361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336 mil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552760" y="4373640"/>
                <a:ext cx="10666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hou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905120" y="4389480"/>
                <a:ext cx="23619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5181480" y="3794040"/>
              <a:ext cx="533520" cy="1161000"/>
              <a:chOff x="5181480" y="3794040"/>
              <a:chExt cx="533520" cy="1161000"/>
            </a:xfrm>
          </p:grpSpPr>
          <p:sp>
            <p:nvSpPr>
              <p:cNvPr id="579" name=""/>
              <p:cNvSpPr/>
              <p:nvPr/>
            </p:nvSpPr>
            <p:spPr>
              <a:xfrm>
                <a:off x="5257800" y="37940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257800" y="43736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181480" y="4387680"/>
                <a:ext cx="5335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4343400" y="405288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15000" y="40528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hou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209680" y="5089680"/>
            <a:ext cx="4724640" cy="1648080"/>
            <a:chOff x="2209680" y="5089680"/>
            <a:chExt cx="4724640" cy="1648080"/>
          </a:xfrm>
        </p:grpSpPr>
        <p:grpSp>
          <p:nvGrpSpPr>
            <p:cNvPr id="585" name=""/>
            <p:cNvGrpSpPr/>
            <p:nvPr/>
          </p:nvGrpSpPr>
          <p:grpSpPr>
            <a:xfrm>
              <a:off x="2209680" y="5089680"/>
              <a:ext cx="2362320" cy="1648080"/>
              <a:chOff x="2209680" y="5089680"/>
              <a:chExt cx="2362320" cy="1648080"/>
            </a:xfrm>
          </p:grpSpPr>
          <p:sp>
            <p:nvSpPr>
              <p:cNvPr id="586" name=""/>
              <p:cNvSpPr/>
              <p:nvPr/>
            </p:nvSpPr>
            <p:spPr>
              <a:xfrm>
                <a:off x="2209680" y="5089680"/>
                <a:ext cx="2362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336 mil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57680" y="5668920"/>
                <a:ext cx="10666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hou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209680" y="5684760"/>
                <a:ext cx="236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4648320" y="53481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5181480" y="5089680"/>
              <a:ext cx="1752840" cy="1160640"/>
              <a:chOff x="5181480" y="5089680"/>
              <a:chExt cx="1752840" cy="1160640"/>
            </a:xfrm>
          </p:grpSpPr>
          <p:sp>
            <p:nvSpPr>
              <p:cNvPr id="591" name=""/>
              <p:cNvSpPr/>
              <p:nvPr/>
            </p:nvSpPr>
            <p:spPr>
              <a:xfrm>
                <a:off x="5181480" y="5089680"/>
                <a:ext cx="1752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9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 hour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62440" y="5668920"/>
                <a:ext cx="790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181480" y="5684760"/>
                <a:ext cx="17528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"/>
          <p:cNvGrpSpPr/>
          <p:nvPr/>
        </p:nvGrpSpPr>
        <p:grpSpPr>
          <a:xfrm>
            <a:off x="1547280" y="2697120"/>
            <a:ext cx="5387040" cy="1999080"/>
            <a:chOff x="1547280" y="2697120"/>
            <a:chExt cx="5387040" cy="1999080"/>
          </a:xfrm>
        </p:grpSpPr>
        <p:grpSp>
          <p:nvGrpSpPr>
            <p:cNvPr id="595" name=""/>
            <p:cNvGrpSpPr/>
            <p:nvPr/>
          </p:nvGrpSpPr>
          <p:grpSpPr>
            <a:xfrm>
              <a:off x="2209680" y="3048120"/>
              <a:ext cx="2362320" cy="1648080"/>
              <a:chOff x="2209680" y="3048120"/>
              <a:chExt cx="2362320" cy="1648080"/>
            </a:xfrm>
          </p:grpSpPr>
          <p:sp>
            <p:nvSpPr>
              <p:cNvPr id="596" name=""/>
              <p:cNvSpPr/>
              <p:nvPr/>
            </p:nvSpPr>
            <p:spPr>
              <a:xfrm>
                <a:off x="2209680" y="3048120"/>
                <a:ext cx="2362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336 mil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57680" y="3627360"/>
                <a:ext cx="10666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hou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09680" y="3643200"/>
                <a:ext cx="236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4648320" y="33066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1547280" y="2697120"/>
              <a:ext cx="5387040" cy="1800720"/>
              <a:chOff x="1547280" y="2697120"/>
              <a:chExt cx="5387040" cy="180072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5181480" y="3048120"/>
                <a:ext cx="1752840" cy="1160640"/>
                <a:chOff x="5181480" y="3048120"/>
                <a:chExt cx="1752840" cy="116064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5181480" y="3048120"/>
                  <a:ext cx="1752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9 hours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62440" y="3627360"/>
                  <a:ext cx="790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181480" y="3643200"/>
                  <a:ext cx="1752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1547280" y="2697120"/>
                <a:ext cx="4953600" cy="1800720"/>
                <a:chOff x="1547280" y="2697120"/>
                <a:chExt cx="4953600" cy="1800720"/>
              </a:xfrm>
            </p:grpSpPr>
            <p:sp>
              <p:nvSpPr>
                <p:cNvPr id="606" name=""/>
                <p:cNvSpPr/>
                <p:nvPr/>
              </p:nvSpPr>
              <p:spPr>
                <a:xfrm flipV="1">
                  <a:off x="2286000" y="3260520"/>
                  <a:ext cx="1143000" cy="1681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5867280" y="3809520"/>
                  <a:ext cx="381240" cy="2286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547280" y="2697120"/>
                  <a:ext cx="880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33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6086880" y="39164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1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2209680" y="1584360"/>
            <a:ext cx="4724640" cy="1648080"/>
            <a:chOff x="2209680" y="1584360"/>
            <a:chExt cx="4724640" cy="1648080"/>
          </a:xfrm>
        </p:grpSpPr>
        <p:grpSp>
          <p:nvGrpSpPr>
            <p:cNvPr id="612" name=""/>
            <p:cNvGrpSpPr/>
            <p:nvPr/>
          </p:nvGrpSpPr>
          <p:grpSpPr>
            <a:xfrm>
              <a:off x="2209680" y="1584360"/>
              <a:ext cx="2362320" cy="1648080"/>
              <a:chOff x="2209680" y="1584360"/>
              <a:chExt cx="2362320" cy="1648080"/>
            </a:xfrm>
          </p:grpSpPr>
          <p:sp>
            <p:nvSpPr>
              <p:cNvPr id="613" name=""/>
              <p:cNvSpPr/>
              <p:nvPr/>
            </p:nvSpPr>
            <p:spPr>
              <a:xfrm>
                <a:off x="2209680" y="1584360"/>
                <a:ext cx="2362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336 mil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857680" y="2163600"/>
                <a:ext cx="10666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hou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209680" y="2179440"/>
                <a:ext cx="236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>
              <a:off x="4648320" y="18432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5181480" y="1584360"/>
              <a:ext cx="1752840" cy="1160640"/>
              <a:chOff x="5181480" y="1584360"/>
              <a:chExt cx="1752840" cy="1160640"/>
            </a:xfrm>
          </p:grpSpPr>
          <p:sp>
            <p:nvSpPr>
              <p:cNvPr id="618" name=""/>
              <p:cNvSpPr/>
              <p:nvPr/>
            </p:nvSpPr>
            <p:spPr>
              <a:xfrm>
                <a:off x="5181480" y="1584360"/>
                <a:ext cx="1752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9 hour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662440" y="2163600"/>
                <a:ext cx="790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181480" y="2179800"/>
                <a:ext cx="175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"/>
          <p:cNvGrpSpPr/>
          <p:nvPr/>
        </p:nvGrpSpPr>
        <p:grpSpPr>
          <a:xfrm>
            <a:off x="2743200" y="3260520"/>
            <a:ext cx="4114800" cy="748080"/>
            <a:chOff x="2743200" y="3260520"/>
            <a:chExt cx="4114800" cy="748080"/>
          </a:xfrm>
        </p:grpSpPr>
        <p:sp>
          <p:nvSpPr>
            <p:cNvPr id="622" name=""/>
            <p:cNvSpPr/>
            <p:nvPr/>
          </p:nvSpPr>
          <p:spPr>
            <a:xfrm flipV="1">
              <a:off x="2743200" y="3840120"/>
              <a:ext cx="1295280" cy="168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5562720" y="3260520"/>
              <a:ext cx="1295280" cy="1681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600200" y="4869000"/>
            <a:ext cx="34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34 miles • 9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63960" y="48690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3006 m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85800" y="15238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make a right angle inside bend in sheet metal, the length of sheet used is given by the formul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048120" y="3352680"/>
            <a:ext cx="2971800" cy="1100520"/>
            <a:chOff x="3048120" y="3352680"/>
            <a:chExt cx="2971800" cy="1100520"/>
          </a:xfrm>
        </p:grpSpPr>
        <p:sp>
          <p:nvSpPr>
            <p:cNvPr id="629" name=""/>
            <p:cNvSpPr/>
            <p:nvPr/>
          </p:nvSpPr>
          <p:spPr>
            <a:xfrm>
              <a:off x="3048120" y="358128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L = x + y 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5486400" y="3352680"/>
              <a:ext cx="533520" cy="1100520"/>
              <a:chOff x="5486400" y="3352680"/>
              <a:chExt cx="533520" cy="1100520"/>
            </a:xfrm>
          </p:grpSpPr>
          <p:sp>
            <p:nvSpPr>
              <p:cNvPr id="631" name=""/>
              <p:cNvSpPr/>
              <p:nvPr/>
            </p:nvSpPr>
            <p:spPr>
              <a:xfrm>
                <a:off x="5486400" y="33526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486400" y="3871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486400" y="387180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4" name=""/>
          <p:cNvGrpSpPr/>
          <p:nvPr/>
        </p:nvGrpSpPr>
        <p:grpSpPr>
          <a:xfrm>
            <a:off x="2057400" y="4572000"/>
            <a:ext cx="5029200" cy="1829880"/>
            <a:chOff x="2057400" y="4572000"/>
            <a:chExt cx="5029200" cy="1829880"/>
          </a:xfrm>
        </p:grpSpPr>
        <p:sp>
          <p:nvSpPr>
            <p:cNvPr id="635" name=""/>
            <p:cNvSpPr/>
            <p:nvPr/>
          </p:nvSpPr>
          <p:spPr>
            <a:xfrm>
              <a:off x="2057400" y="4572000"/>
              <a:ext cx="27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x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= a lengt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57400" y="5149800"/>
              <a:ext cx="419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y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= another lengt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057400" y="5759280"/>
              <a:ext cx="50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T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= thickness of shee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15238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length of sheet metal used when x = 6½”, y = 11½”, and T = ¼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124080" y="2743200"/>
            <a:ext cx="2971800" cy="1100520"/>
            <a:chOff x="3124080" y="2743200"/>
            <a:chExt cx="2971800" cy="1100520"/>
          </a:xfrm>
        </p:grpSpPr>
        <p:sp>
          <p:nvSpPr>
            <p:cNvPr id="641" name=""/>
            <p:cNvSpPr/>
            <p:nvPr/>
          </p:nvSpPr>
          <p:spPr>
            <a:xfrm>
              <a:off x="3124080" y="297180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L = x + y 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5562360" y="2743200"/>
              <a:ext cx="533520" cy="1100520"/>
              <a:chOff x="5562360" y="2743200"/>
              <a:chExt cx="533520" cy="1100520"/>
            </a:xfrm>
          </p:grpSpPr>
          <p:sp>
            <p:nvSpPr>
              <p:cNvPr id="643" name=""/>
              <p:cNvSpPr/>
              <p:nvPr/>
            </p:nvSpPr>
            <p:spPr>
              <a:xfrm>
                <a:off x="5562360" y="27432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562360" y="32623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562360" y="326232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6" name=""/>
          <p:cNvSpPr/>
          <p:nvPr/>
        </p:nvSpPr>
        <p:spPr>
          <a:xfrm>
            <a:off x="609480" y="15238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length of sheet meta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used when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x = 6½”, y = 11½”, and T = ¼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324160" y="3854520"/>
            <a:ext cx="4572000" cy="1100520"/>
            <a:chOff x="2324160" y="3854520"/>
            <a:chExt cx="4572000" cy="1100520"/>
          </a:xfrm>
        </p:grpSpPr>
        <p:sp>
          <p:nvSpPr>
            <p:cNvPr id="648" name=""/>
            <p:cNvSpPr/>
            <p:nvPr/>
          </p:nvSpPr>
          <p:spPr>
            <a:xfrm>
              <a:off x="2324160" y="40831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L = 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6363000" y="3854520"/>
              <a:ext cx="533160" cy="1100160"/>
              <a:chOff x="6363000" y="3854520"/>
              <a:chExt cx="533160" cy="1100160"/>
            </a:xfrm>
          </p:grpSpPr>
          <p:sp>
            <p:nvSpPr>
              <p:cNvPr id="650" name=""/>
              <p:cNvSpPr/>
              <p:nvPr/>
            </p:nvSpPr>
            <p:spPr>
              <a:xfrm>
                <a:off x="6363000" y="3854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¼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63000" y="4373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363000" y="4373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3619800" y="3854520"/>
              <a:ext cx="533160" cy="1100520"/>
              <a:chOff x="3619800" y="3854520"/>
              <a:chExt cx="533160" cy="1100520"/>
            </a:xfrm>
          </p:grpSpPr>
          <p:sp>
            <p:nvSpPr>
              <p:cNvPr id="654" name=""/>
              <p:cNvSpPr/>
              <p:nvPr/>
            </p:nvSpPr>
            <p:spPr>
              <a:xfrm>
                <a:off x="3619800" y="3854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19800" y="437364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619800" y="43736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4152960" y="40831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143680" y="3854520"/>
              <a:ext cx="533520" cy="1100520"/>
              <a:chOff x="5143680" y="3854520"/>
              <a:chExt cx="533520" cy="1100520"/>
            </a:xfrm>
          </p:grpSpPr>
          <p:sp>
            <p:nvSpPr>
              <p:cNvPr id="659" name=""/>
              <p:cNvSpPr/>
              <p:nvPr/>
            </p:nvSpPr>
            <p:spPr>
              <a:xfrm>
                <a:off x="5143680" y="3854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143680" y="437364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143680" y="4373640"/>
                <a:ext cx="5335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5753160" y="40831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1828800" y="5073480"/>
            <a:ext cx="5562720" cy="1100520"/>
            <a:chOff x="1828800" y="5073480"/>
            <a:chExt cx="5562720" cy="1100520"/>
          </a:xfrm>
        </p:grpSpPr>
        <p:sp>
          <p:nvSpPr>
            <p:cNvPr id="664" name=""/>
            <p:cNvSpPr/>
            <p:nvPr/>
          </p:nvSpPr>
          <p:spPr>
            <a:xfrm>
              <a:off x="1828800" y="53020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L = 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5867280" y="5073480"/>
              <a:ext cx="533520" cy="1100520"/>
              <a:chOff x="5867280" y="5073480"/>
              <a:chExt cx="533520" cy="1100520"/>
            </a:xfrm>
          </p:grpSpPr>
          <p:sp>
            <p:nvSpPr>
              <p:cNvPr id="666" name=""/>
              <p:cNvSpPr/>
              <p:nvPr/>
            </p:nvSpPr>
            <p:spPr>
              <a:xfrm>
                <a:off x="5867280" y="5073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67280" y="55926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867280" y="5592600"/>
                <a:ext cx="5335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3124080" y="5073480"/>
              <a:ext cx="533520" cy="1100520"/>
              <a:chOff x="3124080" y="5073480"/>
              <a:chExt cx="533520" cy="1100520"/>
            </a:xfrm>
          </p:grpSpPr>
          <p:sp>
            <p:nvSpPr>
              <p:cNvPr id="670" name=""/>
              <p:cNvSpPr/>
              <p:nvPr/>
            </p:nvSpPr>
            <p:spPr>
              <a:xfrm>
                <a:off x="3124080" y="5073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24080" y="55926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124080" y="559260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3657600" y="53020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1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4648320" y="5073480"/>
              <a:ext cx="533160" cy="1100520"/>
              <a:chOff x="4648320" y="5073480"/>
              <a:chExt cx="533160" cy="1100520"/>
            </a:xfrm>
          </p:grpSpPr>
          <p:sp>
            <p:nvSpPr>
              <p:cNvPr id="675" name=""/>
              <p:cNvSpPr/>
              <p:nvPr/>
            </p:nvSpPr>
            <p:spPr>
              <a:xfrm>
                <a:off x="4648320" y="5073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48320" y="55926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648320" y="559260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" name=""/>
            <p:cNvSpPr/>
            <p:nvPr/>
          </p:nvSpPr>
          <p:spPr>
            <a:xfrm>
              <a:off x="5257800" y="53020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00800" y="53020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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4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286000"/>
            <a:ext cx="5334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e order of operations agreement to simplify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aluate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"/>
          <p:cNvGrpSpPr/>
          <p:nvPr/>
        </p:nvGrpSpPr>
        <p:grpSpPr>
          <a:xfrm>
            <a:off x="1752480" y="2743200"/>
            <a:ext cx="5639040" cy="1100520"/>
            <a:chOff x="1752480" y="2743200"/>
            <a:chExt cx="5639040" cy="1100520"/>
          </a:xfrm>
        </p:grpSpPr>
        <p:sp>
          <p:nvSpPr>
            <p:cNvPr id="681" name=""/>
            <p:cNvSpPr/>
            <p:nvPr/>
          </p:nvSpPr>
          <p:spPr>
            <a:xfrm>
              <a:off x="1752480" y="29718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L = 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5791320" y="2743200"/>
              <a:ext cx="533160" cy="1100520"/>
              <a:chOff x="5791320" y="2743200"/>
              <a:chExt cx="533160" cy="1100520"/>
            </a:xfrm>
          </p:grpSpPr>
          <p:sp>
            <p:nvSpPr>
              <p:cNvPr id="683" name=""/>
              <p:cNvSpPr/>
              <p:nvPr/>
            </p:nvSpPr>
            <p:spPr>
              <a:xfrm>
                <a:off x="5791320" y="27432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791320" y="32623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791320" y="326232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048120" y="2743200"/>
              <a:ext cx="533160" cy="1100520"/>
              <a:chOff x="3048120" y="2743200"/>
              <a:chExt cx="533160" cy="1100520"/>
            </a:xfrm>
          </p:grpSpPr>
          <p:sp>
            <p:nvSpPr>
              <p:cNvPr id="687" name=""/>
              <p:cNvSpPr/>
              <p:nvPr/>
            </p:nvSpPr>
            <p:spPr>
              <a:xfrm>
                <a:off x="3048120" y="27432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048120" y="32623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048120" y="326232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3581280" y="29718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1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572000" y="2743200"/>
              <a:ext cx="533160" cy="1100520"/>
              <a:chOff x="4572000" y="2743200"/>
              <a:chExt cx="533160" cy="1100520"/>
            </a:xfrm>
          </p:grpSpPr>
          <p:sp>
            <p:nvSpPr>
              <p:cNvPr id="692" name=""/>
              <p:cNvSpPr/>
              <p:nvPr/>
            </p:nvSpPr>
            <p:spPr>
              <a:xfrm>
                <a:off x="4572000" y="27432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572000" y="32623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572000" y="326232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5181480" y="29718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324480" y="2971800"/>
              <a:ext cx="49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6858000" y="2743200"/>
              <a:ext cx="533520" cy="1100520"/>
              <a:chOff x="6858000" y="2743200"/>
              <a:chExt cx="533520" cy="1100520"/>
            </a:xfrm>
          </p:grpSpPr>
          <p:sp>
            <p:nvSpPr>
              <p:cNvPr id="698" name=""/>
              <p:cNvSpPr/>
              <p:nvPr/>
            </p:nvSpPr>
            <p:spPr>
              <a:xfrm>
                <a:off x="6858000" y="27432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858000" y="32623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858000" y="3262320"/>
                <a:ext cx="5335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ng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286000" y="3962520"/>
            <a:ext cx="4572000" cy="1100520"/>
            <a:chOff x="2286000" y="3962520"/>
            <a:chExt cx="4572000" cy="1100520"/>
          </a:xfrm>
        </p:grpSpPr>
        <p:sp>
          <p:nvSpPr>
            <p:cNvPr id="703" name=""/>
            <p:cNvSpPr/>
            <p:nvPr/>
          </p:nvSpPr>
          <p:spPr>
            <a:xfrm>
              <a:off x="2286000" y="41911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L = 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6324480" y="3962520"/>
              <a:ext cx="533520" cy="1100520"/>
              <a:chOff x="6324480" y="3962520"/>
              <a:chExt cx="533520" cy="1100520"/>
            </a:xfrm>
          </p:grpSpPr>
          <p:sp>
            <p:nvSpPr>
              <p:cNvPr id="705" name=""/>
              <p:cNvSpPr/>
              <p:nvPr/>
            </p:nvSpPr>
            <p:spPr>
              <a:xfrm>
                <a:off x="6324480" y="3962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24480" y="448164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324480" y="4481640"/>
                <a:ext cx="5335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3581280" y="3962520"/>
              <a:ext cx="533520" cy="1100520"/>
              <a:chOff x="3581280" y="3962520"/>
              <a:chExt cx="533520" cy="1100520"/>
            </a:xfrm>
          </p:grpSpPr>
          <p:sp>
            <p:nvSpPr>
              <p:cNvPr id="709" name=""/>
              <p:cNvSpPr/>
              <p:nvPr/>
            </p:nvSpPr>
            <p:spPr>
              <a:xfrm>
                <a:off x="3581280" y="3962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581280" y="448164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581280" y="448164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4114800" y="41911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1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5105520" y="3962520"/>
              <a:ext cx="533160" cy="1100520"/>
              <a:chOff x="5105520" y="3962520"/>
              <a:chExt cx="533160" cy="1100520"/>
            </a:xfrm>
          </p:grpSpPr>
          <p:sp>
            <p:nvSpPr>
              <p:cNvPr id="714" name=""/>
              <p:cNvSpPr/>
              <p:nvPr/>
            </p:nvSpPr>
            <p:spPr>
              <a:xfrm>
                <a:off x="5105520" y="39625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105520" y="448164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105520" y="448164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5715000" y="41911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752480" y="1523880"/>
            <a:ext cx="5638680" cy="1100520"/>
            <a:chOff x="1752480" y="1523880"/>
            <a:chExt cx="5638680" cy="1100520"/>
          </a:xfrm>
        </p:grpSpPr>
        <p:sp>
          <p:nvSpPr>
            <p:cNvPr id="719" name=""/>
            <p:cNvSpPr/>
            <p:nvPr/>
          </p:nvSpPr>
          <p:spPr>
            <a:xfrm>
              <a:off x="1752480" y="1752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L = 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5790960" y="1523880"/>
              <a:ext cx="533520" cy="1100520"/>
              <a:chOff x="5790960" y="1523880"/>
              <a:chExt cx="533520" cy="1100520"/>
            </a:xfrm>
          </p:grpSpPr>
          <p:sp>
            <p:nvSpPr>
              <p:cNvPr id="721" name=""/>
              <p:cNvSpPr/>
              <p:nvPr/>
            </p:nvSpPr>
            <p:spPr>
              <a:xfrm>
                <a:off x="5790960" y="1523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790960" y="2043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790960" y="2043000"/>
                <a:ext cx="5335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3047760" y="1523880"/>
              <a:ext cx="533520" cy="1100520"/>
              <a:chOff x="3047760" y="1523880"/>
              <a:chExt cx="533520" cy="1100520"/>
            </a:xfrm>
          </p:grpSpPr>
          <p:sp>
            <p:nvSpPr>
              <p:cNvPr id="725" name=""/>
              <p:cNvSpPr/>
              <p:nvPr/>
            </p:nvSpPr>
            <p:spPr>
              <a:xfrm>
                <a:off x="3047760" y="15238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047760" y="20430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047760" y="204300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3581280" y="17524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1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4572000" y="1523880"/>
              <a:ext cx="533160" cy="1100520"/>
              <a:chOff x="4572000" y="1523880"/>
              <a:chExt cx="533160" cy="1100520"/>
            </a:xfrm>
          </p:grpSpPr>
          <p:sp>
            <p:nvSpPr>
              <p:cNvPr id="730" name=""/>
              <p:cNvSpPr/>
              <p:nvPr/>
            </p:nvSpPr>
            <p:spPr>
              <a:xfrm>
                <a:off x="4572000" y="1523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572000" y="2043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572000" y="204300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" name=""/>
            <p:cNvSpPr/>
            <p:nvPr/>
          </p:nvSpPr>
          <p:spPr>
            <a:xfrm>
              <a:off x="5181480" y="17524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24480" y="1752480"/>
              <a:ext cx="49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6858000" y="1523880"/>
              <a:ext cx="533160" cy="1100520"/>
              <a:chOff x="6858000" y="1523880"/>
              <a:chExt cx="533160" cy="1100520"/>
            </a:xfrm>
          </p:grpSpPr>
          <p:sp>
            <p:nvSpPr>
              <p:cNvPr id="736" name=""/>
              <p:cNvSpPr/>
              <p:nvPr/>
            </p:nvSpPr>
            <p:spPr>
              <a:xfrm>
                <a:off x="6858000" y="15238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858000" y="20430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858000" y="204300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9" name=""/>
          <p:cNvGrpSpPr/>
          <p:nvPr/>
        </p:nvGrpSpPr>
        <p:grpSpPr>
          <a:xfrm>
            <a:off x="2209680" y="5181480"/>
            <a:ext cx="2514600" cy="1100520"/>
            <a:chOff x="2209680" y="5181480"/>
            <a:chExt cx="2514600" cy="1100520"/>
          </a:xfrm>
        </p:grpSpPr>
        <p:sp>
          <p:nvSpPr>
            <p:cNvPr id="740" name=""/>
            <p:cNvSpPr/>
            <p:nvPr/>
          </p:nvSpPr>
          <p:spPr>
            <a:xfrm>
              <a:off x="2209680" y="541008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L = 1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4190760" y="5181480"/>
              <a:ext cx="533520" cy="1100520"/>
              <a:chOff x="4190760" y="5181480"/>
              <a:chExt cx="533520" cy="1100520"/>
            </a:xfrm>
          </p:grpSpPr>
          <p:sp>
            <p:nvSpPr>
              <p:cNvPr id="742" name=""/>
              <p:cNvSpPr/>
              <p:nvPr/>
            </p:nvSpPr>
            <p:spPr>
              <a:xfrm>
                <a:off x="4190760" y="51814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190760" y="57006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190760" y="570060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3657600" y="5410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4876920" y="5181480"/>
            <a:ext cx="1980720" cy="1419840"/>
            <a:chOff x="4876920" y="5181480"/>
            <a:chExt cx="1980720" cy="1419840"/>
          </a:xfrm>
        </p:grpSpPr>
        <p:grpSp>
          <p:nvGrpSpPr>
            <p:cNvPr id="747" name=""/>
            <p:cNvGrpSpPr/>
            <p:nvPr/>
          </p:nvGrpSpPr>
          <p:grpSpPr>
            <a:xfrm>
              <a:off x="5867280" y="5181480"/>
              <a:ext cx="533160" cy="1100520"/>
              <a:chOff x="5867280" y="5181480"/>
              <a:chExt cx="533160" cy="1100520"/>
            </a:xfrm>
          </p:grpSpPr>
          <p:sp>
            <p:nvSpPr>
              <p:cNvPr id="748" name=""/>
              <p:cNvSpPr/>
              <p:nvPr/>
            </p:nvSpPr>
            <p:spPr>
              <a:xfrm>
                <a:off x="5867280" y="51814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867280" y="57006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67280" y="570060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4876920" y="5410080"/>
              <a:ext cx="106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1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24480" y="54100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914400" y="1905120"/>
            <a:ext cx="73818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Area of</a:t>
            </a:r>
            <a:endParaRPr b="0" lang="en-US" sz="6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Trapezoids</a:t>
            </a:r>
            <a:endParaRPr b="0" lang="en-US" sz="6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&amp; Circles</a:t>
            </a:r>
            <a:endParaRPr b="0" lang="en-US" sz="6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 &amp;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1066680" y="2071800"/>
            <a:ext cx="3504960" cy="1739520"/>
            <a:chOff x="1066680" y="2071800"/>
            <a:chExt cx="3504960" cy="1739520"/>
          </a:xfrm>
        </p:grpSpPr>
        <p:grpSp>
          <p:nvGrpSpPr>
            <p:cNvPr id="756" name=""/>
            <p:cNvGrpSpPr/>
            <p:nvPr/>
          </p:nvGrpSpPr>
          <p:grpSpPr>
            <a:xfrm>
              <a:off x="2133720" y="2071800"/>
              <a:ext cx="2437920" cy="1218600"/>
              <a:chOff x="2133720" y="2071800"/>
              <a:chExt cx="2437920" cy="1218600"/>
            </a:xfrm>
          </p:grpSpPr>
          <p:sp>
            <p:nvSpPr>
              <p:cNvPr id="757" name=""/>
              <p:cNvSpPr/>
              <p:nvPr/>
            </p:nvSpPr>
            <p:spPr>
              <a:xfrm>
                <a:off x="2133720" y="2071800"/>
                <a:ext cx="60948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133720" y="2681280"/>
                <a:ext cx="609480" cy="6091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743200" y="2071800"/>
                <a:ext cx="60912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743200" y="2681280"/>
                <a:ext cx="609120" cy="6091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352680" y="2071800"/>
                <a:ext cx="60912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352680" y="2681280"/>
                <a:ext cx="609120" cy="6091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962160" y="2071800"/>
                <a:ext cx="60948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962160" y="2681280"/>
                <a:ext cx="609480" cy="6091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2666880" y="32907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eng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66680" y="2421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wid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5410080" y="1676520"/>
            <a:ext cx="2438640" cy="2973240"/>
            <a:chOff x="5410080" y="1676520"/>
            <a:chExt cx="2438640" cy="2973240"/>
          </a:xfrm>
        </p:grpSpPr>
        <p:grpSp>
          <p:nvGrpSpPr>
            <p:cNvPr id="768" name=""/>
            <p:cNvGrpSpPr/>
            <p:nvPr/>
          </p:nvGrpSpPr>
          <p:grpSpPr>
            <a:xfrm>
              <a:off x="5486400" y="1676520"/>
              <a:ext cx="1218960" cy="2438280"/>
              <a:chOff x="5486400" y="1676520"/>
              <a:chExt cx="1218960" cy="2438280"/>
            </a:xfrm>
          </p:grpSpPr>
          <p:sp>
            <p:nvSpPr>
              <p:cNvPr id="769" name=""/>
              <p:cNvSpPr/>
              <p:nvPr/>
            </p:nvSpPr>
            <p:spPr>
              <a:xfrm>
                <a:off x="5486400" y="1676520"/>
                <a:ext cx="60948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486400" y="2286000"/>
                <a:ext cx="60948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095880" y="1676520"/>
                <a:ext cx="60948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095880" y="2286000"/>
                <a:ext cx="60948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486400" y="2895480"/>
                <a:ext cx="609480" cy="6098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486400" y="3505320"/>
                <a:ext cx="60948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095880" y="2895480"/>
                <a:ext cx="609480" cy="60984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095880" y="3505320"/>
                <a:ext cx="60948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5410080" y="41292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eng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705720" y="2637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wid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1752480" y="4419720"/>
            <a:ext cx="2438640" cy="1739520"/>
            <a:chOff x="1752480" y="4419720"/>
            <a:chExt cx="2438640" cy="1739520"/>
          </a:xfrm>
        </p:grpSpPr>
        <p:grpSp>
          <p:nvGrpSpPr>
            <p:cNvPr id="780" name=""/>
            <p:cNvGrpSpPr/>
            <p:nvPr/>
          </p:nvGrpSpPr>
          <p:grpSpPr>
            <a:xfrm>
              <a:off x="1828800" y="4419720"/>
              <a:ext cx="1219320" cy="1218960"/>
              <a:chOff x="1828800" y="4419720"/>
              <a:chExt cx="1219320" cy="1218960"/>
            </a:xfrm>
          </p:grpSpPr>
          <p:sp>
            <p:nvSpPr>
              <p:cNvPr id="781" name=""/>
              <p:cNvSpPr/>
              <p:nvPr/>
            </p:nvSpPr>
            <p:spPr>
              <a:xfrm>
                <a:off x="1828800" y="4419720"/>
                <a:ext cx="60948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828800" y="5029200"/>
                <a:ext cx="60948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438280" y="4419720"/>
                <a:ext cx="60984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438280" y="5029200"/>
                <a:ext cx="609840" cy="6094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1752480" y="56386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eng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48120" y="47703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wid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4648320" y="4968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= l • 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 &amp;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76720" y="3397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Trapezo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381560" y="29433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343400" y="1219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2438280" y="1738440"/>
            <a:ext cx="4267440" cy="1212840"/>
            <a:chOff x="2438280" y="1738440"/>
            <a:chExt cx="4267440" cy="1212840"/>
          </a:xfrm>
        </p:grpSpPr>
        <p:sp>
          <p:nvSpPr>
            <p:cNvPr id="793" name=""/>
            <p:cNvSpPr/>
            <p:nvPr/>
          </p:nvSpPr>
          <p:spPr>
            <a:xfrm>
              <a:off x="3657600" y="1738440"/>
              <a:ext cx="609480" cy="6094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57600" y="2341800"/>
              <a:ext cx="609480" cy="6094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267080" y="1738440"/>
              <a:ext cx="609840" cy="6094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267080" y="2341800"/>
              <a:ext cx="609840" cy="6094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876920" y="1738440"/>
              <a:ext cx="609480" cy="6094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76920" y="2341800"/>
              <a:ext cx="609480" cy="6094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86400" y="2341800"/>
              <a:ext cx="609480" cy="6094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048120" y="2340000"/>
              <a:ext cx="609480" cy="609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86400" y="1738440"/>
              <a:ext cx="609480" cy="60156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95880" y="2341800"/>
              <a:ext cx="609840" cy="60948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047400" y="1738440"/>
              <a:ext cx="609480" cy="60156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438280" y="2341800"/>
              <a:ext cx="609840" cy="60948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828800" y="4191120"/>
            <a:ext cx="54864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-sided fig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pair of parallel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rd to count square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6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 &amp;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762120" y="2286000"/>
            <a:ext cx="3657600" cy="2244600"/>
            <a:chOff x="762120" y="2286000"/>
            <a:chExt cx="3657600" cy="2244600"/>
          </a:xfrm>
        </p:grpSpPr>
        <p:sp>
          <p:nvSpPr>
            <p:cNvPr id="808" name=""/>
            <p:cNvSpPr/>
            <p:nvPr/>
          </p:nvSpPr>
          <p:spPr>
            <a:xfrm>
              <a:off x="2400480" y="40100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362320" y="2286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762120" y="2805120"/>
              <a:ext cx="3657600" cy="1212840"/>
              <a:chOff x="762120" y="2805120"/>
              <a:chExt cx="3657600" cy="1212840"/>
            </a:xfrm>
          </p:grpSpPr>
          <p:sp>
            <p:nvSpPr>
              <p:cNvPr id="811" name=""/>
              <p:cNvSpPr/>
              <p:nvPr/>
            </p:nvSpPr>
            <p:spPr>
              <a:xfrm>
                <a:off x="1806480" y="2805120"/>
                <a:ext cx="52236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806480" y="3408480"/>
                <a:ext cx="52236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328840" y="2805120"/>
                <a:ext cx="5238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328840" y="3408480"/>
                <a:ext cx="5238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852640" y="2805120"/>
                <a:ext cx="52236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852640" y="3408480"/>
                <a:ext cx="52236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375000" y="3408480"/>
                <a:ext cx="52236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284120" y="3406680"/>
                <a:ext cx="522360" cy="6112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375000" y="2805120"/>
                <a:ext cx="522360" cy="601560"/>
              </a:xfrm>
              <a:prstGeom prst="rtTriangle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897360" y="3408480"/>
                <a:ext cx="522360" cy="609480"/>
              </a:xfrm>
              <a:prstGeom prst="rtTriangle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1283400" y="2805120"/>
                <a:ext cx="522360" cy="601560"/>
              </a:xfrm>
              <a:prstGeom prst="rtTriangle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762120" y="3408480"/>
                <a:ext cx="522000" cy="609480"/>
              </a:xfrm>
              <a:prstGeom prst="rtTriangle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3" name=""/>
          <p:cNvGrpSpPr/>
          <p:nvPr/>
        </p:nvGrpSpPr>
        <p:grpSpPr>
          <a:xfrm>
            <a:off x="3493800" y="2286000"/>
            <a:ext cx="4964400" cy="2743200"/>
            <a:chOff x="3493800" y="2286000"/>
            <a:chExt cx="4964400" cy="2743200"/>
          </a:xfrm>
        </p:grpSpPr>
        <p:grpSp>
          <p:nvGrpSpPr>
            <p:cNvPr id="824" name=""/>
            <p:cNvGrpSpPr/>
            <p:nvPr/>
          </p:nvGrpSpPr>
          <p:grpSpPr>
            <a:xfrm>
              <a:off x="4648320" y="2286000"/>
              <a:ext cx="3809880" cy="2244600"/>
              <a:chOff x="4648320" y="2286000"/>
              <a:chExt cx="3809880" cy="2244600"/>
            </a:xfrm>
          </p:grpSpPr>
          <p:sp>
            <p:nvSpPr>
              <p:cNvPr id="825" name=""/>
              <p:cNvSpPr/>
              <p:nvPr/>
            </p:nvSpPr>
            <p:spPr>
              <a:xfrm>
                <a:off x="6362640" y="4010040"/>
                <a:ext cx="3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324480" y="22860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7" name=""/>
              <p:cNvGrpSpPr/>
              <p:nvPr/>
            </p:nvGrpSpPr>
            <p:grpSpPr>
              <a:xfrm>
                <a:off x="4648320" y="2805120"/>
                <a:ext cx="3809880" cy="1212840"/>
                <a:chOff x="4648320" y="2805120"/>
                <a:chExt cx="3809880" cy="121284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5737320" y="2805120"/>
                  <a:ext cx="544320" cy="6094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737320" y="3408480"/>
                  <a:ext cx="544320" cy="6094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281640" y="2805120"/>
                  <a:ext cx="542880" cy="6094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281640" y="3408480"/>
                  <a:ext cx="542880" cy="6094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824520" y="2805120"/>
                  <a:ext cx="544680" cy="6094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824520" y="3408480"/>
                  <a:ext cx="544680" cy="6094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369200" y="3408480"/>
                  <a:ext cx="544320" cy="6094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192640" y="3406680"/>
                  <a:ext cx="544680" cy="6112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369200" y="2805120"/>
                  <a:ext cx="544320" cy="601560"/>
                </a:xfrm>
                <a:prstGeom prst="rtTriangle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913520" y="3408480"/>
                  <a:ext cx="544680" cy="609480"/>
                </a:xfrm>
                <a:prstGeom prst="rtTriangle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>
                  <a:off x="5191920" y="2805120"/>
                  <a:ext cx="544680" cy="601560"/>
                </a:xfrm>
                <a:prstGeom prst="rtTriangle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>
                  <a:off x="4648320" y="3408480"/>
                  <a:ext cx="544320" cy="609480"/>
                </a:xfrm>
                <a:prstGeom prst="rtTriangle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0" name=""/>
            <p:cNvSpPr/>
            <p:nvPr/>
          </p:nvSpPr>
          <p:spPr>
            <a:xfrm flipH="1">
              <a:off x="3493440" y="4343400"/>
              <a:ext cx="2144520" cy="685800"/>
            </a:xfrm>
            <a:custGeom>
              <a:avLst/>
              <a:gdLst>
                <a:gd name="textAreaLeft" fmla="*/ 375120 w 2144520"/>
                <a:gd name="textAreaRight" fmla="*/ 1554840 w 2144520"/>
                <a:gd name="textAreaTop" fmla="*/ 91800 h 685800"/>
                <a:gd name="textAreaBottom" fmla="*/ 5940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 rot="20355000">
            <a:off x="487440" y="1681920"/>
            <a:ext cx="2819520" cy="1312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Rememb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543480" y="5410080"/>
            <a:ext cx="20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sul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 rot="20355000">
            <a:off x="487440" y="1681920"/>
            <a:ext cx="2819520" cy="1312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Rememb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71800" y="4159080"/>
            <a:ext cx="314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allel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470320" y="4975200"/>
            <a:ext cx="4235400" cy="642600"/>
            <a:chOff x="2470320" y="4975200"/>
            <a:chExt cx="4235400" cy="642600"/>
          </a:xfrm>
        </p:grpSpPr>
        <p:sp>
          <p:nvSpPr>
            <p:cNvPr id="846" name=""/>
            <p:cNvSpPr/>
            <p:nvPr/>
          </p:nvSpPr>
          <p:spPr>
            <a:xfrm>
              <a:off x="2470320" y="4975200"/>
              <a:ext cx="183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rea o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52920" y="4975200"/>
              <a:ext cx="12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b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233960" y="5045040"/>
              <a:ext cx="1295280" cy="501840"/>
            </a:xfrm>
            <a:prstGeom prst="parallelogram">
              <a:avLst>
                <a:gd name="adj" fmla="val 6452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 &amp;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71600" y="2438280"/>
            <a:ext cx="6400800" cy="1211400"/>
          </a:xfrm>
          <a:prstGeom prst="parallelogram">
            <a:avLst>
              <a:gd name="adj" fmla="val 85177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 flipV="1">
            <a:off x="4114800" y="2437920"/>
            <a:ext cx="914400" cy="121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3168720" y="2438280"/>
            <a:ext cx="418320" cy="1211400"/>
            <a:chOff x="3168720" y="2438280"/>
            <a:chExt cx="418320" cy="1211400"/>
          </a:xfrm>
        </p:grpSpPr>
        <p:sp>
          <p:nvSpPr>
            <p:cNvPr id="853" name=""/>
            <p:cNvSpPr/>
            <p:nvPr/>
          </p:nvSpPr>
          <p:spPr>
            <a:xfrm>
              <a:off x="3168720" y="2438280"/>
              <a:ext cx="0" cy="12114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86720" y="2784600"/>
              <a:ext cx="40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2984400" y="1919160"/>
            <a:ext cx="3035160" cy="2197080"/>
            <a:chOff x="2984400" y="1919160"/>
            <a:chExt cx="3035160" cy="2197080"/>
          </a:xfrm>
        </p:grpSpPr>
        <p:sp>
          <p:nvSpPr>
            <p:cNvPr id="856" name=""/>
            <p:cNvSpPr/>
            <p:nvPr/>
          </p:nvSpPr>
          <p:spPr>
            <a:xfrm>
              <a:off x="2984400" y="359568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653800" y="3595680"/>
              <a:ext cx="3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86560" y="1919160"/>
              <a:ext cx="3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651280" y="191916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 &amp;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1371600" y="1219320"/>
            <a:ext cx="6400800" cy="2196720"/>
            <a:chOff x="1371600" y="1219320"/>
            <a:chExt cx="6400800" cy="2196720"/>
          </a:xfrm>
        </p:grpSpPr>
        <p:sp>
          <p:nvSpPr>
            <p:cNvPr id="862" name=""/>
            <p:cNvSpPr/>
            <p:nvPr/>
          </p:nvSpPr>
          <p:spPr>
            <a:xfrm>
              <a:off x="1371600" y="1738080"/>
              <a:ext cx="6400800" cy="1211040"/>
            </a:xfrm>
            <a:prstGeom prst="parallelogram">
              <a:avLst>
                <a:gd name="adj" fmla="val 8520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4114800" y="1738080"/>
              <a:ext cx="914400" cy="121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3168720" y="1738080"/>
              <a:ext cx="418320" cy="1211040"/>
              <a:chOff x="3168720" y="1738080"/>
              <a:chExt cx="418320" cy="1211040"/>
            </a:xfrm>
          </p:grpSpPr>
          <p:sp>
            <p:nvSpPr>
              <p:cNvPr id="865" name=""/>
              <p:cNvSpPr/>
              <p:nvPr/>
            </p:nvSpPr>
            <p:spPr>
              <a:xfrm>
                <a:off x="3168720" y="1738080"/>
                <a:ext cx="0" cy="121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186720" y="2084040"/>
                <a:ext cx="40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984400" y="1219320"/>
              <a:ext cx="3035160" cy="2196720"/>
              <a:chOff x="2984400" y="1219320"/>
              <a:chExt cx="3035160" cy="2196720"/>
            </a:xfrm>
          </p:grpSpPr>
          <p:sp>
            <p:nvSpPr>
              <p:cNvPr id="868" name=""/>
              <p:cNvSpPr/>
              <p:nvPr/>
            </p:nvSpPr>
            <p:spPr>
              <a:xfrm>
                <a:off x="2984400" y="2895480"/>
                <a:ext cx="36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653800" y="2895480"/>
                <a:ext cx="36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986560" y="1219320"/>
                <a:ext cx="36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651280" y="1219320"/>
                <a:ext cx="36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2" name=""/>
          <p:cNvGrpSpPr/>
          <p:nvPr/>
        </p:nvGrpSpPr>
        <p:grpSpPr>
          <a:xfrm>
            <a:off x="838080" y="3666960"/>
            <a:ext cx="4235400" cy="642600"/>
            <a:chOff x="838080" y="3666960"/>
            <a:chExt cx="4235400" cy="642600"/>
          </a:xfrm>
        </p:grpSpPr>
        <p:sp>
          <p:nvSpPr>
            <p:cNvPr id="873" name=""/>
            <p:cNvSpPr/>
            <p:nvPr/>
          </p:nvSpPr>
          <p:spPr>
            <a:xfrm>
              <a:off x="838080" y="3666960"/>
              <a:ext cx="183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rea o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820680" y="3666960"/>
              <a:ext cx="12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b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601720" y="3736800"/>
              <a:ext cx="1295280" cy="501840"/>
            </a:xfrm>
            <a:prstGeom prst="parallelogram">
              <a:avLst>
                <a:gd name="adj" fmla="val 6452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5605560" y="366696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base = x + 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1981080" y="4616280"/>
            <a:ext cx="5183280" cy="642600"/>
            <a:chOff x="1981080" y="4616280"/>
            <a:chExt cx="5183280" cy="642600"/>
          </a:xfrm>
        </p:grpSpPr>
        <p:sp>
          <p:nvSpPr>
            <p:cNvPr id="878" name=""/>
            <p:cNvSpPr/>
            <p:nvPr/>
          </p:nvSpPr>
          <p:spPr>
            <a:xfrm>
              <a:off x="1981080" y="4616280"/>
              <a:ext cx="183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rea o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921200" y="4616280"/>
              <a:ext cx="224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(x + y)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744720" y="4686480"/>
              <a:ext cx="1295640" cy="501480"/>
            </a:xfrm>
            <a:prstGeom prst="parallelogram">
              <a:avLst>
                <a:gd name="adj" fmla="val 64591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 &amp;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371600" y="1219320"/>
            <a:ext cx="6400800" cy="2196720"/>
            <a:chOff x="1371600" y="1219320"/>
            <a:chExt cx="6400800" cy="2196720"/>
          </a:xfrm>
        </p:grpSpPr>
        <p:sp>
          <p:nvSpPr>
            <p:cNvPr id="883" name=""/>
            <p:cNvSpPr/>
            <p:nvPr/>
          </p:nvSpPr>
          <p:spPr>
            <a:xfrm>
              <a:off x="1371600" y="1738080"/>
              <a:ext cx="6400800" cy="1211040"/>
            </a:xfrm>
            <a:prstGeom prst="parallelogram">
              <a:avLst>
                <a:gd name="adj" fmla="val 85202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4114800" y="1738080"/>
              <a:ext cx="914400" cy="121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3168720" y="1738080"/>
              <a:ext cx="418320" cy="1211040"/>
              <a:chOff x="3168720" y="1738080"/>
              <a:chExt cx="418320" cy="1211040"/>
            </a:xfrm>
          </p:grpSpPr>
          <p:sp>
            <p:nvSpPr>
              <p:cNvPr id="886" name=""/>
              <p:cNvSpPr/>
              <p:nvPr/>
            </p:nvSpPr>
            <p:spPr>
              <a:xfrm>
                <a:off x="3168720" y="1738080"/>
                <a:ext cx="0" cy="121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186720" y="2084040"/>
                <a:ext cx="400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2984400" y="1219320"/>
              <a:ext cx="3035160" cy="2196720"/>
              <a:chOff x="2984400" y="1219320"/>
              <a:chExt cx="3035160" cy="2196720"/>
            </a:xfrm>
          </p:grpSpPr>
          <p:sp>
            <p:nvSpPr>
              <p:cNvPr id="889" name=""/>
              <p:cNvSpPr/>
              <p:nvPr/>
            </p:nvSpPr>
            <p:spPr>
              <a:xfrm>
                <a:off x="2984400" y="2895480"/>
                <a:ext cx="36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653800" y="2895480"/>
                <a:ext cx="36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986560" y="1219320"/>
                <a:ext cx="36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651280" y="1219320"/>
                <a:ext cx="368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3" name=""/>
          <p:cNvSpPr/>
          <p:nvPr/>
        </p:nvSpPr>
        <p:spPr>
          <a:xfrm>
            <a:off x="990720" y="36669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cause the area of a trapezoid is </a:t>
            </a: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one-half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he parallelogram’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1447920" y="5029200"/>
            <a:ext cx="6247800" cy="1160640"/>
            <a:chOff x="1447920" y="5029200"/>
            <a:chExt cx="6247800" cy="1160640"/>
          </a:xfrm>
        </p:grpSpPr>
        <p:sp>
          <p:nvSpPr>
            <p:cNvPr id="895" name=""/>
            <p:cNvSpPr/>
            <p:nvPr/>
          </p:nvSpPr>
          <p:spPr>
            <a:xfrm>
              <a:off x="1447920" y="5288040"/>
              <a:ext cx="45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rea of trapezoid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6" name=""/>
            <p:cNvGrpSpPr/>
            <p:nvPr/>
          </p:nvGrpSpPr>
          <p:grpSpPr>
            <a:xfrm>
              <a:off x="6019560" y="5029200"/>
              <a:ext cx="1676160" cy="1160640"/>
              <a:chOff x="6019560" y="5029200"/>
              <a:chExt cx="1676160" cy="1160640"/>
            </a:xfrm>
          </p:grpSpPr>
          <p:sp>
            <p:nvSpPr>
              <p:cNvPr id="897" name=""/>
              <p:cNvSpPr/>
              <p:nvPr/>
            </p:nvSpPr>
            <p:spPr>
              <a:xfrm>
                <a:off x="6019560" y="5029200"/>
                <a:ext cx="1676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(x + y)h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660720" y="5608440"/>
                <a:ext cx="39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019560" y="5638680"/>
                <a:ext cx="1676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 &amp;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80880" y="181944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of trapezoid = ½h(a + 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819840" y="1233360"/>
            <a:ext cx="1790640" cy="1816200"/>
            <a:chOff x="6819840" y="1233360"/>
            <a:chExt cx="1790640" cy="1816200"/>
          </a:xfrm>
        </p:grpSpPr>
        <p:sp>
          <p:nvSpPr>
            <p:cNvPr id="903" name=""/>
            <p:cNvSpPr/>
            <p:nvPr/>
          </p:nvSpPr>
          <p:spPr>
            <a:xfrm flipV="1">
              <a:off x="6819840" y="1676520"/>
              <a:ext cx="1790640" cy="914400"/>
            </a:xfrm>
            <a:custGeom>
              <a:avLst/>
              <a:gdLst>
                <a:gd name="textAreaLeft" fmla="*/ 393840 w 1790640"/>
                <a:gd name="textAreaRight" fmla="*/ 1396800 w 1790640"/>
                <a:gd name="textAreaTop" fmla="*/ 200880 h 914400"/>
                <a:gd name="textAreaBottom" fmla="*/ 713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82600" y="123336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82600" y="252900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83880" y="182880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350120" y="16765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1905120" y="297180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: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h = 4”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a = 8”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b = 6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438280" y="3733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= ½ •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1617840" y="4576680"/>
            <a:ext cx="4033080" cy="1049040"/>
            <a:chOff x="1617840" y="4576680"/>
            <a:chExt cx="4033080" cy="1049040"/>
          </a:xfrm>
        </p:grpSpPr>
        <p:sp>
          <p:nvSpPr>
            <p:cNvPr id="911" name=""/>
            <p:cNvSpPr/>
            <p:nvPr/>
          </p:nvSpPr>
          <p:spPr>
            <a:xfrm>
              <a:off x="1617840" y="4780080"/>
              <a:ext cx="155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rea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3247920" y="4576680"/>
              <a:ext cx="392400" cy="1049040"/>
              <a:chOff x="3247920" y="4576680"/>
              <a:chExt cx="392400" cy="1049040"/>
            </a:xfrm>
          </p:grpSpPr>
          <p:sp>
            <p:nvSpPr>
              <p:cNvPr id="913" name=""/>
              <p:cNvSpPr/>
              <p:nvPr/>
            </p:nvSpPr>
            <p:spPr>
              <a:xfrm>
                <a:off x="3256920" y="4576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256920" y="5105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247920" y="5095800"/>
                <a:ext cx="37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4185720" y="4576680"/>
              <a:ext cx="383400" cy="1049040"/>
              <a:chOff x="4185720" y="4576680"/>
              <a:chExt cx="383400" cy="1049040"/>
            </a:xfrm>
          </p:grpSpPr>
          <p:sp>
            <p:nvSpPr>
              <p:cNvPr id="917" name=""/>
              <p:cNvSpPr/>
              <p:nvPr/>
            </p:nvSpPr>
            <p:spPr>
              <a:xfrm>
                <a:off x="4185720" y="4576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185720" y="5105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191120" y="5095800"/>
                <a:ext cx="372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5064840" y="4576680"/>
              <a:ext cx="586080" cy="1049040"/>
              <a:chOff x="5064840" y="4576680"/>
              <a:chExt cx="586080" cy="1049040"/>
            </a:xfrm>
          </p:grpSpPr>
          <p:sp>
            <p:nvSpPr>
              <p:cNvPr id="921" name=""/>
              <p:cNvSpPr/>
              <p:nvPr/>
            </p:nvSpPr>
            <p:spPr>
              <a:xfrm>
                <a:off x="5064840" y="45766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165280" y="5105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124600" y="5095800"/>
                <a:ext cx="46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4" name=""/>
            <p:cNvSpPr/>
            <p:nvPr/>
          </p:nvSpPr>
          <p:spPr>
            <a:xfrm>
              <a:off x="3730320" y="478008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644720" y="478008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5715000" y="4780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8in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2952360" y="4343400"/>
            <a:ext cx="1991520" cy="1449360"/>
            <a:chOff x="2952360" y="4343400"/>
            <a:chExt cx="1991520" cy="1449360"/>
          </a:xfrm>
        </p:grpSpPr>
        <p:sp>
          <p:nvSpPr>
            <p:cNvPr id="928" name=""/>
            <p:cNvSpPr/>
            <p:nvPr/>
          </p:nvSpPr>
          <p:spPr>
            <a:xfrm flipV="1">
              <a:off x="3236760" y="5181480"/>
              <a:ext cx="420840" cy="316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4191120" y="4647960"/>
              <a:ext cx="420480" cy="315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952360" y="5272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560480" y="4343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 &amp;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160020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ate the area of the trapezoid show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3600" y="1219320"/>
            <a:ext cx="2438280" cy="1952640"/>
            <a:chOff x="5943600" y="1219320"/>
            <a:chExt cx="2438280" cy="1952640"/>
          </a:xfrm>
        </p:grpSpPr>
        <p:sp>
          <p:nvSpPr>
            <p:cNvPr id="935" name=""/>
            <p:cNvSpPr/>
            <p:nvPr/>
          </p:nvSpPr>
          <p:spPr>
            <a:xfrm flipV="1">
              <a:off x="5943600" y="1737360"/>
              <a:ext cx="2438280" cy="914040"/>
            </a:xfrm>
            <a:custGeom>
              <a:avLst/>
              <a:gdLst>
                <a:gd name="textAreaLeft" fmla="*/ 536040 w 2438280"/>
                <a:gd name="textAreaRight" fmla="*/ 1902240 w 2438280"/>
                <a:gd name="textAreaTop" fmla="*/ 200880 h 914040"/>
                <a:gd name="textAreaBottom" fmla="*/ 71316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864480" y="1219320"/>
              <a:ext cx="59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8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13640" y="2590560"/>
              <a:ext cx="89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4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705720" y="19047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¾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705720" y="173808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873000" y="3048120"/>
            <a:ext cx="49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h = 5¾”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a = 14”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b = 8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590920" y="39625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= ½ •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5¾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4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819520" y="48448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= ½ • 5¾ •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2286000"/>
            <a:ext cx="556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 the area of a trapezoid and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polynomials containing f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 &amp;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5943600" y="1219320"/>
            <a:ext cx="2438280" cy="1952640"/>
            <a:chOff x="5943600" y="1219320"/>
            <a:chExt cx="2438280" cy="1952640"/>
          </a:xfrm>
        </p:grpSpPr>
        <p:sp>
          <p:nvSpPr>
            <p:cNvPr id="945" name=""/>
            <p:cNvSpPr/>
            <p:nvPr/>
          </p:nvSpPr>
          <p:spPr>
            <a:xfrm flipV="1">
              <a:off x="5943600" y="1737360"/>
              <a:ext cx="2438280" cy="914040"/>
            </a:xfrm>
            <a:custGeom>
              <a:avLst/>
              <a:gdLst>
                <a:gd name="textAreaLeft" fmla="*/ 536040 w 2438280"/>
                <a:gd name="textAreaRight" fmla="*/ 1902240 w 2438280"/>
                <a:gd name="textAreaTop" fmla="*/ 200880 h 914040"/>
                <a:gd name="textAreaBottom" fmla="*/ 71316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864480" y="1219320"/>
              <a:ext cx="59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8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713640" y="2590560"/>
              <a:ext cx="89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4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705720" y="19047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5¾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05720" y="1738080"/>
              <a:ext cx="0" cy="9140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1438200" y="1873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= ½ • 5¾ •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387440" y="2819520"/>
            <a:ext cx="3521880" cy="1049040"/>
            <a:chOff x="1387440" y="2819520"/>
            <a:chExt cx="3521880" cy="1049040"/>
          </a:xfrm>
        </p:grpSpPr>
        <p:sp>
          <p:nvSpPr>
            <p:cNvPr id="952" name=""/>
            <p:cNvSpPr/>
            <p:nvPr/>
          </p:nvSpPr>
          <p:spPr>
            <a:xfrm>
              <a:off x="1387440" y="3022560"/>
              <a:ext cx="85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2335320" y="2819520"/>
              <a:ext cx="392400" cy="1049040"/>
              <a:chOff x="2335320" y="2819520"/>
              <a:chExt cx="392400" cy="1049040"/>
            </a:xfrm>
          </p:grpSpPr>
          <p:sp>
            <p:nvSpPr>
              <p:cNvPr id="954" name=""/>
              <p:cNvSpPr/>
              <p:nvPr/>
            </p:nvSpPr>
            <p:spPr>
              <a:xfrm>
                <a:off x="2343960" y="28195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344320" y="3348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335320" y="3338640"/>
                <a:ext cx="37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3265920" y="2819520"/>
              <a:ext cx="586080" cy="1049040"/>
              <a:chOff x="3265920" y="2819520"/>
              <a:chExt cx="586080" cy="1049040"/>
            </a:xfrm>
          </p:grpSpPr>
          <p:sp>
            <p:nvSpPr>
              <p:cNvPr id="958" name=""/>
              <p:cNvSpPr/>
              <p:nvPr/>
            </p:nvSpPr>
            <p:spPr>
              <a:xfrm>
                <a:off x="3265920" y="281952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Comic Sans MS"/>
                  </a:rPr>
                  <a:t>2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394800" y="3348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311280" y="3338640"/>
                <a:ext cx="4950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4323240" y="2819520"/>
              <a:ext cx="586080" cy="1049040"/>
              <a:chOff x="4323240" y="2819520"/>
              <a:chExt cx="586080" cy="1049040"/>
            </a:xfrm>
          </p:grpSpPr>
          <p:sp>
            <p:nvSpPr>
              <p:cNvPr id="962" name=""/>
              <p:cNvSpPr/>
              <p:nvPr/>
            </p:nvSpPr>
            <p:spPr>
              <a:xfrm>
                <a:off x="4323240" y="281952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2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424040" y="3348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344840" y="3338640"/>
                <a:ext cx="54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2817360" y="302256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874680" y="3022560"/>
              <a:ext cx="3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1387440" y="3809880"/>
            <a:ext cx="3911040" cy="1449000"/>
            <a:chOff x="1387440" y="3809880"/>
            <a:chExt cx="3911040" cy="1449000"/>
          </a:xfrm>
        </p:grpSpPr>
        <p:grpSp>
          <p:nvGrpSpPr>
            <p:cNvPr id="968" name=""/>
            <p:cNvGrpSpPr/>
            <p:nvPr/>
          </p:nvGrpSpPr>
          <p:grpSpPr>
            <a:xfrm>
              <a:off x="1387440" y="4057560"/>
              <a:ext cx="3521880" cy="1049040"/>
              <a:chOff x="1387440" y="4057560"/>
              <a:chExt cx="3521880" cy="1049040"/>
            </a:xfrm>
          </p:grpSpPr>
          <p:sp>
            <p:nvSpPr>
              <p:cNvPr id="969" name=""/>
              <p:cNvSpPr/>
              <p:nvPr/>
            </p:nvSpPr>
            <p:spPr>
              <a:xfrm>
                <a:off x="1387440" y="4260960"/>
                <a:ext cx="854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A 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0" name=""/>
              <p:cNvGrpSpPr/>
              <p:nvPr/>
            </p:nvGrpSpPr>
            <p:grpSpPr>
              <a:xfrm>
                <a:off x="2335320" y="4057560"/>
                <a:ext cx="392400" cy="1049040"/>
                <a:chOff x="2335320" y="4057560"/>
                <a:chExt cx="392400" cy="104904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2343960" y="405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344320" y="4586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4576680"/>
                  <a:ext cx="372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3265920" y="4057560"/>
                <a:ext cx="586080" cy="1049040"/>
                <a:chOff x="3265920" y="4057560"/>
                <a:chExt cx="586080" cy="104904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3265920" y="4057560"/>
                  <a:ext cx="586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2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395160" y="4586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311640" y="4576680"/>
                  <a:ext cx="495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4323240" y="4057560"/>
                <a:ext cx="586080" cy="1049040"/>
                <a:chOff x="4323240" y="4057560"/>
                <a:chExt cx="586080" cy="104904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4323240" y="4057560"/>
                  <a:ext cx="586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2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424040" y="4586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344840" y="4576680"/>
                  <a:ext cx="5446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2" name=""/>
              <p:cNvSpPr/>
              <p:nvPr/>
            </p:nvSpPr>
            <p:spPr>
              <a:xfrm>
                <a:off x="2817360" y="426096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874680" y="4260960"/>
                <a:ext cx="35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3030120" y="3809880"/>
              <a:ext cx="2268360" cy="1449000"/>
              <a:chOff x="3030120" y="3809880"/>
              <a:chExt cx="2268360" cy="1449000"/>
            </a:xfrm>
          </p:grpSpPr>
          <p:sp>
            <p:nvSpPr>
              <p:cNvPr id="985" name=""/>
              <p:cNvSpPr/>
              <p:nvPr/>
            </p:nvSpPr>
            <p:spPr>
              <a:xfrm flipV="1">
                <a:off x="3362400" y="4647960"/>
                <a:ext cx="420480" cy="316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4392720" y="4114440"/>
                <a:ext cx="420480" cy="316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030120" y="47383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712400" y="38098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Comic Sans MS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9" name=""/>
          <p:cNvSpPr/>
          <p:nvPr/>
        </p:nvSpPr>
        <p:spPr>
          <a:xfrm>
            <a:off x="3581280" y="5479920"/>
            <a:ext cx="19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63¼in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1693800" y="5276880"/>
            <a:ext cx="1803240" cy="1049040"/>
            <a:chOff x="1693800" y="5276880"/>
            <a:chExt cx="1803240" cy="1049040"/>
          </a:xfrm>
        </p:grpSpPr>
        <p:sp>
          <p:nvSpPr>
            <p:cNvPr id="991" name=""/>
            <p:cNvSpPr/>
            <p:nvPr/>
          </p:nvSpPr>
          <p:spPr>
            <a:xfrm>
              <a:off x="1693800" y="5479920"/>
              <a:ext cx="85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2" name=""/>
            <p:cNvGrpSpPr/>
            <p:nvPr/>
          </p:nvGrpSpPr>
          <p:grpSpPr>
            <a:xfrm>
              <a:off x="2651040" y="5276880"/>
              <a:ext cx="846000" cy="1049040"/>
              <a:chOff x="2651040" y="5276880"/>
              <a:chExt cx="846000" cy="1049040"/>
            </a:xfrm>
          </p:grpSpPr>
          <p:sp>
            <p:nvSpPr>
              <p:cNvPr id="993" name=""/>
              <p:cNvSpPr/>
              <p:nvPr/>
            </p:nvSpPr>
            <p:spPr>
              <a:xfrm>
                <a:off x="2679480" y="5276880"/>
                <a:ext cx="788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25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882160" y="5805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651040" y="5796000"/>
                <a:ext cx="84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 &amp;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743200" y="1905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of a Cir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1333080" y="2895480"/>
            <a:ext cx="2552760" cy="2455200"/>
            <a:chOff x="1333080" y="2895480"/>
            <a:chExt cx="2552760" cy="2455200"/>
          </a:xfrm>
        </p:grpSpPr>
        <p:grpSp>
          <p:nvGrpSpPr>
            <p:cNvPr id="999" name=""/>
            <p:cNvGrpSpPr/>
            <p:nvPr/>
          </p:nvGrpSpPr>
          <p:grpSpPr>
            <a:xfrm>
              <a:off x="1638360" y="2895480"/>
              <a:ext cx="1904760" cy="1905120"/>
              <a:chOff x="1638360" y="2895480"/>
              <a:chExt cx="1904760" cy="1905120"/>
            </a:xfrm>
          </p:grpSpPr>
          <p:sp>
            <p:nvSpPr>
              <p:cNvPr id="1000" name=""/>
              <p:cNvSpPr/>
              <p:nvPr/>
            </p:nvSpPr>
            <p:spPr>
              <a:xfrm>
                <a:off x="1638360" y="2895480"/>
                <a:ext cx="1904760" cy="19051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590920" y="289548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38360" y="3848040"/>
                <a:ext cx="190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905120" y="3149640"/>
                <a:ext cx="1371240" cy="132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1905120" y="3224520"/>
                <a:ext cx="1370880" cy="13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2209680" y="458640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026880" y="3687840"/>
              <a:ext cx="34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247840" y="4786200"/>
              <a:ext cx="647640" cy="547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581280" y="3581280"/>
              <a:ext cx="266760" cy="266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333440" y="3581280"/>
              <a:ext cx="266760" cy="266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0" name=""/>
            <p:cNvCxnSpPr>
              <a:stCxn id="1007" idx="2"/>
              <a:endCxn id="1009" idx="4"/>
            </p:cNvCxnSpPr>
            <p:nvPr/>
          </p:nvCxnSpPr>
          <p:spPr>
            <a:xfrm rot="10800000">
              <a:off x="1465920" y="3847320"/>
              <a:ext cx="781920" cy="12135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011" name=""/>
            <p:cNvCxnSpPr>
              <a:stCxn id="1007" idx="6"/>
              <a:endCxn id="1008" idx="4"/>
            </p:cNvCxnSpPr>
            <p:nvPr/>
          </p:nvCxnSpPr>
          <p:spPr>
            <a:xfrm flipV="1">
              <a:off x="2895480" y="3847320"/>
              <a:ext cx="820080" cy="12135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012" name=""/>
            <p:cNvSpPr/>
            <p:nvPr/>
          </p:nvSpPr>
          <p:spPr>
            <a:xfrm flipH="1">
              <a:off x="1333080" y="3867120"/>
              <a:ext cx="26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3619080" y="3867120"/>
              <a:ext cx="26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4819680" y="33973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 = radi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695760" y="4191120"/>
            <a:ext cx="46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ircumference = 2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 &amp;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761760" y="1371600"/>
            <a:ext cx="2552760" cy="3126600"/>
            <a:chOff x="761760" y="1371600"/>
            <a:chExt cx="2552760" cy="3126600"/>
          </a:xfrm>
        </p:grpSpPr>
        <p:grpSp>
          <p:nvGrpSpPr>
            <p:cNvPr id="1018" name=""/>
            <p:cNvGrpSpPr/>
            <p:nvPr/>
          </p:nvGrpSpPr>
          <p:grpSpPr>
            <a:xfrm>
              <a:off x="1066680" y="2043000"/>
              <a:ext cx="1904760" cy="1905120"/>
              <a:chOff x="1066680" y="2043000"/>
              <a:chExt cx="1904760" cy="1905120"/>
            </a:xfrm>
          </p:grpSpPr>
          <p:sp>
            <p:nvSpPr>
              <p:cNvPr id="1019" name=""/>
              <p:cNvSpPr/>
              <p:nvPr/>
            </p:nvSpPr>
            <p:spPr>
              <a:xfrm>
                <a:off x="1066680" y="2043000"/>
                <a:ext cx="1904760" cy="1905120"/>
              </a:xfrm>
              <a:prstGeom prst="ellipse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019240" y="2043000"/>
                <a:ext cx="0" cy="190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066680" y="2995560"/>
                <a:ext cx="190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333440" y="2297160"/>
                <a:ext cx="1371240" cy="132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1333440" y="2372040"/>
                <a:ext cx="1370880" cy="13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4" name=""/>
            <p:cNvSpPr/>
            <p:nvPr/>
          </p:nvSpPr>
          <p:spPr>
            <a:xfrm>
              <a:off x="1638360" y="373392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455560" y="2835360"/>
              <a:ext cx="34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676520" y="3933720"/>
              <a:ext cx="647640" cy="547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09960" y="2728800"/>
              <a:ext cx="266760" cy="266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62120" y="2728800"/>
              <a:ext cx="266760" cy="266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9" name=""/>
            <p:cNvCxnSpPr>
              <a:stCxn id="1026" idx="2"/>
              <a:endCxn id="1028" idx="4"/>
            </p:cNvCxnSpPr>
            <p:nvPr/>
          </p:nvCxnSpPr>
          <p:spPr>
            <a:xfrm rot="10800000">
              <a:off x="894600" y="2994840"/>
              <a:ext cx="781920" cy="12135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030" name=""/>
            <p:cNvCxnSpPr>
              <a:stCxn id="1026" idx="6"/>
              <a:endCxn id="1027" idx="4"/>
            </p:cNvCxnSpPr>
            <p:nvPr/>
          </p:nvCxnSpPr>
          <p:spPr>
            <a:xfrm flipV="1">
              <a:off x="2323800" y="2994840"/>
              <a:ext cx="819720" cy="12135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031" name=""/>
            <p:cNvSpPr/>
            <p:nvPr/>
          </p:nvSpPr>
          <p:spPr>
            <a:xfrm flipH="1">
              <a:off x="761760" y="3014640"/>
              <a:ext cx="26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3047760" y="3014640"/>
              <a:ext cx="26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38360" y="137160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761760" y="2971800"/>
              <a:ext cx="26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3047760" y="2971800"/>
              <a:ext cx="26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676520" y="1523880"/>
              <a:ext cx="647640" cy="547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38080" y="2933640"/>
              <a:ext cx="266760" cy="266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009960" y="2971800"/>
              <a:ext cx="266760" cy="266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9" name=""/>
            <p:cNvCxnSpPr>
              <a:stCxn id="1036" idx="2"/>
              <a:endCxn id="1037" idx="1"/>
            </p:cNvCxnSpPr>
            <p:nvPr/>
          </p:nvCxnSpPr>
          <p:spPr>
            <a:xfrm flipV="1" rot="10800000">
              <a:off x="877320" y="1797480"/>
              <a:ext cx="799200" cy="11754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040" name=""/>
            <p:cNvCxnSpPr>
              <a:stCxn id="1036" idx="6"/>
              <a:endCxn id="1038" idx="0"/>
            </p:cNvCxnSpPr>
            <p:nvPr/>
          </p:nvCxnSpPr>
          <p:spPr>
            <a:xfrm>
              <a:off x="2323800" y="1798200"/>
              <a:ext cx="819720" cy="11739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</p:grpSp>
      <p:grpSp>
        <p:nvGrpSpPr>
          <p:cNvPr id="1041" name=""/>
          <p:cNvGrpSpPr/>
          <p:nvPr/>
        </p:nvGrpSpPr>
        <p:grpSpPr>
          <a:xfrm>
            <a:off x="5427360" y="1066680"/>
            <a:ext cx="2725920" cy="1855800"/>
            <a:chOff x="5427360" y="1066680"/>
            <a:chExt cx="2725920" cy="1855800"/>
          </a:xfrm>
        </p:grpSpPr>
        <p:grpSp>
          <p:nvGrpSpPr>
            <p:cNvPr id="1042" name=""/>
            <p:cNvGrpSpPr/>
            <p:nvPr/>
          </p:nvGrpSpPr>
          <p:grpSpPr>
            <a:xfrm>
              <a:off x="5715000" y="1752480"/>
              <a:ext cx="2438280" cy="1170000"/>
              <a:chOff x="5715000" y="1752480"/>
              <a:chExt cx="2438280" cy="1170000"/>
            </a:xfrm>
          </p:grpSpPr>
          <p:grpSp>
            <p:nvGrpSpPr>
              <p:cNvPr id="1043" name=""/>
              <p:cNvGrpSpPr/>
              <p:nvPr/>
            </p:nvGrpSpPr>
            <p:grpSpPr>
              <a:xfrm>
                <a:off x="5715000" y="1752480"/>
                <a:ext cx="609480" cy="1170000"/>
                <a:chOff x="5715000" y="1752480"/>
                <a:chExt cx="609480" cy="1170000"/>
              </a:xfrm>
            </p:grpSpPr>
            <p:sp>
              <p:nvSpPr>
                <p:cNvPr id="1044" name=""/>
                <p:cNvSpPr/>
                <p:nvPr/>
              </p:nvSpPr>
              <p:spPr>
                <a:xfrm>
                  <a:off x="5715000" y="1903320"/>
                  <a:ext cx="304920" cy="10051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H="1">
                  <a:off x="6019920" y="1903320"/>
                  <a:ext cx="304560" cy="1019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715000" y="1752480"/>
                  <a:ext cx="609480" cy="165240"/>
                </a:xfrm>
                <a:custGeom>
                  <a:avLst/>
                  <a:gdLst/>
                  <a:ahLst/>
                  <a:rect l="l" t="t" r="r" b="b"/>
                  <a:pathLst>
                    <a:path w="384" h="104">
                      <a:moveTo>
                        <a:pt x="0" y="104"/>
                      </a:moveTo>
                      <a:cubicBezTo>
                        <a:pt x="12" y="88"/>
                        <a:pt x="24" y="72"/>
                        <a:pt x="48" y="56"/>
                      </a:cubicBezTo>
                      <a:cubicBezTo>
                        <a:pt x="72" y="40"/>
                        <a:pt x="112" y="16"/>
                        <a:pt x="144" y="8"/>
                      </a:cubicBezTo>
                      <a:cubicBezTo>
                        <a:pt x="176" y="0"/>
                        <a:pt x="208" y="0"/>
                        <a:pt x="240" y="8"/>
                      </a:cubicBezTo>
                      <a:cubicBezTo>
                        <a:pt x="272" y="16"/>
                        <a:pt x="312" y="40"/>
                        <a:pt x="336" y="56"/>
                      </a:cubicBezTo>
                      <a:cubicBezTo>
                        <a:pt x="360" y="72"/>
                        <a:pt x="372" y="88"/>
                        <a:pt x="384" y="10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6324480" y="1752480"/>
                <a:ext cx="609480" cy="1170000"/>
                <a:chOff x="6324480" y="1752480"/>
                <a:chExt cx="609480" cy="11700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6324480" y="1903320"/>
                  <a:ext cx="304560" cy="100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H="1">
                  <a:off x="6628680" y="1903320"/>
                  <a:ext cx="304920" cy="1019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324480" y="1752480"/>
                  <a:ext cx="609480" cy="165240"/>
                </a:xfrm>
                <a:custGeom>
                  <a:avLst/>
                  <a:gdLst/>
                  <a:ahLst/>
                  <a:rect l="l" t="t" r="r" b="b"/>
                  <a:pathLst>
                    <a:path w="384" h="104">
                      <a:moveTo>
                        <a:pt x="0" y="104"/>
                      </a:moveTo>
                      <a:cubicBezTo>
                        <a:pt x="12" y="88"/>
                        <a:pt x="24" y="72"/>
                        <a:pt x="48" y="56"/>
                      </a:cubicBezTo>
                      <a:cubicBezTo>
                        <a:pt x="72" y="40"/>
                        <a:pt x="112" y="16"/>
                        <a:pt x="144" y="8"/>
                      </a:cubicBezTo>
                      <a:cubicBezTo>
                        <a:pt x="176" y="0"/>
                        <a:pt x="208" y="0"/>
                        <a:pt x="240" y="8"/>
                      </a:cubicBezTo>
                      <a:cubicBezTo>
                        <a:pt x="272" y="16"/>
                        <a:pt x="312" y="40"/>
                        <a:pt x="336" y="56"/>
                      </a:cubicBezTo>
                      <a:cubicBezTo>
                        <a:pt x="360" y="72"/>
                        <a:pt x="372" y="88"/>
                        <a:pt x="384" y="10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6934320" y="1752480"/>
                <a:ext cx="609480" cy="1170000"/>
                <a:chOff x="6934320" y="1752480"/>
                <a:chExt cx="609480" cy="11700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6934320" y="1903320"/>
                  <a:ext cx="304560" cy="100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H="1">
                  <a:off x="7238520" y="1903320"/>
                  <a:ext cx="304920" cy="1019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934320" y="1752480"/>
                  <a:ext cx="609480" cy="165240"/>
                </a:xfrm>
                <a:custGeom>
                  <a:avLst/>
                  <a:gdLst/>
                  <a:ahLst/>
                  <a:rect l="l" t="t" r="r" b="b"/>
                  <a:pathLst>
                    <a:path w="384" h="104">
                      <a:moveTo>
                        <a:pt x="0" y="104"/>
                      </a:moveTo>
                      <a:cubicBezTo>
                        <a:pt x="12" y="88"/>
                        <a:pt x="24" y="72"/>
                        <a:pt x="48" y="56"/>
                      </a:cubicBezTo>
                      <a:cubicBezTo>
                        <a:pt x="72" y="40"/>
                        <a:pt x="112" y="16"/>
                        <a:pt x="144" y="8"/>
                      </a:cubicBezTo>
                      <a:cubicBezTo>
                        <a:pt x="176" y="0"/>
                        <a:pt x="208" y="0"/>
                        <a:pt x="240" y="8"/>
                      </a:cubicBezTo>
                      <a:cubicBezTo>
                        <a:pt x="272" y="16"/>
                        <a:pt x="312" y="40"/>
                        <a:pt x="336" y="56"/>
                      </a:cubicBezTo>
                      <a:cubicBezTo>
                        <a:pt x="360" y="72"/>
                        <a:pt x="372" y="88"/>
                        <a:pt x="384" y="10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7543800" y="1752480"/>
                <a:ext cx="609480" cy="1170000"/>
                <a:chOff x="7543800" y="1752480"/>
                <a:chExt cx="609480" cy="117000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7543800" y="1903320"/>
                  <a:ext cx="304560" cy="100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H="1">
                  <a:off x="7848000" y="1903320"/>
                  <a:ext cx="304920" cy="1019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7543800" y="1752480"/>
                  <a:ext cx="609480" cy="165240"/>
                </a:xfrm>
                <a:custGeom>
                  <a:avLst/>
                  <a:gdLst/>
                  <a:ahLst/>
                  <a:rect l="l" t="t" r="r" b="b"/>
                  <a:pathLst>
                    <a:path w="384" h="104">
                      <a:moveTo>
                        <a:pt x="0" y="104"/>
                      </a:moveTo>
                      <a:cubicBezTo>
                        <a:pt x="12" y="88"/>
                        <a:pt x="24" y="72"/>
                        <a:pt x="48" y="56"/>
                      </a:cubicBezTo>
                      <a:cubicBezTo>
                        <a:pt x="72" y="40"/>
                        <a:pt x="112" y="16"/>
                        <a:pt x="144" y="8"/>
                      </a:cubicBezTo>
                      <a:cubicBezTo>
                        <a:pt x="176" y="0"/>
                        <a:pt x="208" y="0"/>
                        <a:pt x="240" y="8"/>
                      </a:cubicBezTo>
                      <a:cubicBezTo>
                        <a:pt x="272" y="16"/>
                        <a:pt x="312" y="40"/>
                        <a:pt x="336" y="56"/>
                      </a:cubicBezTo>
                      <a:cubicBezTo>
                        <a:pt x="360" y="72"/>
                        <a:pt x="372" y="88"/>
                        <a:pt x="384" y="10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9" name=""/>
            <p:cNvGrpSpPr/>
            <p:nvPr/>
          </p:nvGrpSpPr>
          <p:grpSpPr>
            <a:xfrm>
              <a:off x="5715000" y="1066680"/>
              <a:ext cx="2438280" cy="764280"/>
              <a:chOff x="5715000" y="1066680"/>
              <a:chExt cx="2438280" cy="764280"/>
            </a:xfrm>
          </p:grpSpPr>
          <p:sp>
            <p:nvSpPr>
              <p:cNvPr id="1060" name=""/>
              <p:cNvSpPr/>
              <p:nvPr/>
            </p:nvSpPr>
            <p:spPr>
              <a:xfrm>
                <a:off x="6553080" y="1066680"/>
                <a:ext cx="761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5715000" y="152388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7314840" y="152388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715000" y="13712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153280" y="13712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5427360" y="2048040"/>
              <a:ext cx="34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427360" y="2971440"/>
            <a:ext cx="2725920" cy="1706040"/>
            <a:chOff x="5427360" y="2971440"/>
            <a:chExt cx="2725920" cy="1706040"/>
          </a:xfrm>
        </p:grpSpPr>
        <p:grpSp>
          <p:nvGrpSpPr>
            <p:cNvPr id="1067" name=""/>
            <p:cNvGrpSpPr/>
            <p:nvPr/>
          </p:nvGrpSpPr>
          <p:grpSpPr>
            <a:xfrm>
              <a:off x="5715000" y="2971440"/>
              <a:ext cx="2438280" cy="1170360"/>
              <a:chOff x="5715000" y="2971440"/>
              <a:chExt cx="2438280" cy="1170360"/>
            </a:xfrm>
          </p:grpSpPr>
          <p:grpSp>
            <p:nvGrpSpPr>
              <p:cNvPr id="1068" name=""/>
              <p:cNvGrpSpPr/>
              <p:nvPr/>
            </p:nvGrpSpPr>
            <p:grpSpPr>
              <a:xfrm>
                <a:off x="5715000" y="2971440"/>
                <a:ext cx="609480" cy="1170000"/>
                <a:chOff x="5715000" y="2971440"/>
                <a:chExt cx="609480" cy="1170000"/>
              </a:xfrm>
            </p:grpSpPr>
            <p:sp>
              <p:nvSpPr>
                <p:cNvPr id="1069" name=""/>
                <p:cNvSpPr/>
                <p:nvPr/>
              </p:nvSpPr>
              <p:spPr>
                <a:xfrm flipV="1">
                  <a:off x="5715000" y="2985840"/>
                  <a:ext cx="304920" cy="10047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H="1" flipV="1">
                  <a:off x="6019920" y="2971440"/>
                  <a:ext cx="304560" cy="1019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V="1">
                  <a:off x="5715000" y="3975840"/>
                  <a:ext cx="609480" cy="165240"/>
                </a:xfrm>
                <a:custGeom>
                  <a:avLst/>
                  <a:gdLst/>
                  <a:ahLst/>
                  <a:rect l="l" t="t" r="r" b="b"/>
                  <a:pathLst>
                    <a:path w="384" h="104">
                      <a:moveTo>
                        <a:pt x="0" y="104"/>
                      </a:moveTo>
                      <a:cubicBezTo>
                        <a:pt x="12" y="88"/>
                        <a:pt x="24" y="72"/>
                        <a:pt x="48" y="56"/>
                      </a:cubicBezTo>
                      <a:cubicBezTo>
                        <a:pt x="72" y="40"/>
                        <a:pt x="112" y="16"/>
                        <a:pt x="144" y="8"/>
                      </a:cubicBezTo>
                      <a:cubicBezTo>
                        <a:pt x="176" y="0"/>
                        <a:pt x="208" y="0"/>
                        <a:pt x="240" y="8"/>
                      </a:cubicBezTo>
                      <a:cubicBezTo>
                        <a:pt x="272" y="16"/>
                        <a:pt x="312" y="40"/>
                        <a:pt x="336" y="56"/>
                      </a:cubicBezTo>
                      <a:cubicBezTo>
                        <a:pt x="360" y="72"/>
                        <a:pt x="372" y="88"/>
                        <a:pt x="384" y="10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6324480" y="2971800"/>
                <a:ext cx="609480" cy="1170000"/>
                <a:chOff x="6324480" y="2971800"/>
                <a:chExt cx="609480" cy="1170000"/>
              </a:xfrm>
            </p:grpSpPr>
            <p:sp>
              <p:nvSpPr>
                <p:cNvPr id="1073" name=""/>
                <p:cNvSpPr/>
                <p:nvPr/>
              </p:nvSpPr>
              <p:spPr>
                <a:xfrm flipV="1">
                  <a:off x="6324480" y="2985840"/>
                  <a:ext cx="304560" cy="100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H="1" flipV="1">
                  <a:off x="6628680" y="2971800"/>
                  <a:ext cx="304920" cy="1019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V="1">
                  <a:off x="6324480" y="3976200"/>
                  <a:ext cx="609480" cy="165240"/>
                </a:xfrm>
                <a:custGeom>
                  <a:avLst/>
                  <a:gdLst/>
                  <a:ahLst/>
                  <a:rect l="l" t="t" r="r" b="b"/>
                  <a:pathLst>
                    <a:path w="384" h="104">
                      <a:moveTo>
                        <a:pt x="0" y="104"/>
                      </a:moveTo>
                      <a:cubicBezTo>
                        <a:pt x="12" y="88"/>
                        <a:pt x="24" y="72"/>
                        <a:pt x="48" y="56"/>
                      </a:cubicBezTo>
                      <a:cubicBezTo>
                        <a:pt x="72" y="40"/>
                        <a:pt x="112" y="16"/>
                        <a:pt x="144" y="8"/>
                      </a:cubicBezTo>
                      <a:cubicBezTo>
                        <a:pt x="176" y="0"/>
                        <a:pt x="208" y="0"/>
                        <a:pt x="240" y="8"/>
                      </a:cubicBezTo>
                      <a:cubicBezTo>
                        <a:pt x="272" y="16"/>
                        <a:pt x="312" y="40"/>
                        <a:pt x="336" y="56"/>
                      </a:cubicBezTo>
                      <a:cubicBezTo>
                        <a:pt x="360" y="72"/>
                        <a:pt x="372" y="88"/>
                        <a:pt x="384" y="10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6934320" y="2971800"/>
                <a:ext cx="609480" cy="1170000"/>
                <a:chOff x="6934320" y="2971800"/>
                <a:chExt cx="609480" cy="1170000"/>
              </a:xfrm>
            </p:grpSpPr>
            <p:sp>
              <p:nvSpPr>
                <p:cNvPr id="1077" name=""/>
                <p:cNvSpPr/>
                <p:nvPr/>
              </p:nvSpPr>
              <p:spPr>
                <a:xfrm flipV="1">
                  <a:off x="6934320" y="2985840"/>
                  <a:ext cx="304560" cy="100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 flipV="1">
                  <a:off x="7238520" y="2971800"/>
                  <a:ext cx="304920" cy="1019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V="1">
                  <a:off x="6934320" y="3976200"/>
                  <a:ext cx="609480" cy="165240"/>
                </a:xfrm>
                <a:custGeom>
                  <a:avLst/>
                  <a:gdLst/>
                  <a:ahLst/>
                  <a:rect l="l" t="t" r="r" b="b"/>
                  <a:pathLst>
                    <a:path w="384" h="104">
                      <a:moveTo>
                        <a:pt x="0" y="104"/>
                      </a:moveTo>
                      <a:cubicBezTo>
                        <a:pt x="12" y="88"/>
                        <a:pt x="24" y="72"/>
                        <a:pt x="48" y="56"/>
                      </a:cubicBezTo>
                      <a:cubicBezTo>
                        <a:pt x="72" y="40"/>
                        <a:pt x="112" y="16"/>
                        <a:pt x="144" y="8"/>
                      </a:cubicBezTo>
                      <a:cubicBezTo>
                        <a:pt x="176" y="0"/>
                        <a:pt x="208" y="0"/>
                        <a:pt x="240" y="8"/>
                      </a:cubicBezTo>
                      <a:cubicBezTo>
                        <a:pt x="272" y="16"/>
                        <a:pt x="312" y="40"/>
                        <a:pt x="336" y="56"/>
                      </a:cubicBezTo>
                      <a:cubicBezTo>
                        <a:pt x="360" y="72"/>
                        <a:pt x="372" y="88"/>
                        <a:pt x="384" y="10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7543800" y="2971800"/>
                <a:ext cx="609480" cy="1170000"/>
                <a:chOff x="7543800" y="2971800"/>
                <a:chExt cx="609480" cy="1170000"/>
              </a:xfrm>
            </p:grpSpPr>
            <p:sp>
              <p:nvSpPr>
                <p:cNvPr id="1081" name=""/>
                <p:cNvSpPr/>
                <p:nvPr/>
              </p:nvSpPr>
              <p:spPr>
                <a:xfrm flipV="1">
                  <a:off x="7543800" y="2985840"/>
                  <a:ext cx="304560" cy="100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 flipV="1">
                  <a:off x="7848000" y="2971800"/>
                  <a:ext cx="304920" cy="1019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V="1">
                  <a:off x="7543800" y="3976200"/>
                  <a:ext cx="609480" cy="165240"/>
                </a:xfrm>
                <a:custGeom>
                  <a:avLst/>
                  <a:gdLst/>
                  <a:ahLst/>
                  <a:rect l="l" t="t" r="r" b="b"/>
                  <a:pathLst>
                    <a:path w="384" h="104">
                      <a:moveTo>
                        <a:pt x="0" y="104"/>
                      </a:moveTo>
                      <a:cubicBezTo>
                        <a:pt x="12" y="88"/>
                        <a:pt x="24" y="72"/>
                        <a:pt x="48" y="56"/>
                      </a:cubicBezTo>
                      <a:cubicBezTo>
                        <a:pt x="72" y="40"/>
                        <a:pt x="112" y="16"/>
                        <a:pt x="144" y="8"/>
                      </a:cubicBezTo>
                      <a:cubicBezTo>
                        <a:pt x="176" y="0"/>
                        <a:pt x="208" y="0"/>
                        <a:pt x="240" y="8"/>
                      </a:cubicBezTo>
                      <a:cubicBezTo>
                        <a:pt x="272" y="16"/>
                        <a:pt x="312" y="40"/>
                        <a:pt x="336" y="56"/>
                      </a:cubicBezTo>
                      <a:cubicBezTo>
                        <a:pt x="360" y="72"/>
                        <a:pt x="372" y="88"/>
                        <a:pt x="384" y="10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4" name=""/>
            <p:cNvGrpSpPr/>
            <p:nvPr/>
          </p:nvGrpSpPr>
          <p:grpSpPr>
            <a:xfrm>
              <a:off x="5715000" y="3913200"/>
              <a:ext cx="2438280" cy="764280"/>
              <a:chOff x="5715000" y="3913200"/>
              <a:chExt cx="2438280" cy="764280"/>
            </a:xfrm>
          </p:grpSpPr>
          <p:sp>
            <p:nvSpPr>
              <p:cNvPr id="1085" name=""/>
              <p:cNvSpPr/>
              <p:nvPr/>
            </p:nvSpPr>
            <p:spPr>
              <a:xfrm>
                <a:off x="6553080" y="3913200"/>
                <a:ext cx="761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>
                <a:off x="5715000" y="437040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7314840" y="437040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715000" y="421776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153280" y="421776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0" name=""/>
            <p:cNvSpPr/>
            <p:nvPr/>
          </p:nvSpPr>
          <p:spPr>
            <a:xfrm>
              <a:off x="5427360" y="3267000"/>
              <a:ext cx="34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3200400" y="2835360"/>
            <a:ext cx="3030840" cy="3720240"/>
            <a:chOff x="3200400" y="2835360"/>
            <a:chExt cx="3030840" cy="3720240"/>
          </a:xfrm>
        </p:grpSpPr>
        <p:grpSp>
          <p:nvGrpSpPr>
            <p:cNvPr id="1092" name=""/>
            <p:cNvGrpSpPr/>
            <p:nvPr/>
          </p:nvGrpSpPr>
          <p:grpSpPr>
            <a:xfrm>
              <a:off x="3200400" y="4719600"/>
              <a:ext cx="3030840" cy="1836000"/>
              <a:chOff x="3200400" y="4719600"/>
              <a:chExt cx="3030840" cy="1836000"/>
            </a:xfrm>
          </p:grpSpPr>
          <p:grpSp>
            <p:nvGrpSpPr>
              <p:cNvPr id="1093" name=""/>
              <p:cNvGrpSpPr/>
              <p:nvPr/>
            </p:nvGrpSpPr>
            <p:grpSpPr>
              <a:xfrm>
                <a:off x="3200400" y="4719600"/>
                <a:ext cx="2743200" cy="1300320"/>
                <a:chOff x="3200400" y="4719600"/>
                <a:chExt cx="2743200" cy="1300320"/>
              </a:xfrm>
            </p:grpSpPr>
            <p:grpSp>
              <p:nvGrpSpPr>
                <p:cNvPr id="1094" name=""/>
                <p:cNvGrpSpPr/>
                <p:nvPr/>
              </p:nvGrpSpPr>
              <p:grpSpPr>
                <a:xfrm>
                  <a:off x="3505320" y="4719600"/>
                  <a:ext cx="2438280" cy="1170000"/>
                  <a:chOff x="3505320" y="4719600"/>
                  <a:chExt cx="2438280" cy="1170000"/>
                </a:xfrm>
              </p:grpSpPr>
              <p:grpSp>
                <p:nvGrpSpPr>
                  <p:cNvPr id="1095" name=""/>
                  <p:cNvGrpSpPr/>
                  <p:nvPr/>
                </p:nvGrpSpPr>
                <p:grpSpPr>
                  <a:xfrm>
                    <a:off x="3505320" y="4719600"/>
                    <a:ext cx="609480" cy="1170000"/>
                    <a:chOff x="3505320" y="4719600"/>
                    <a:chExt cx="609480" cy="1170000"/>
                  </a:xfrm>
                </p:grpSpPr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3505320" y="4870440"/>
                      <a:ext cx="304560" cy="1005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 flipH="1">
                      <a:off x="3809520" y="4870440"/>
                      <a:ext cx="304920" cy="1019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3505320" y="4719600"/>
                      <a:ext cx="60948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4" h="104">
                          <a:moveTo>
                            <a:pt x="0" y="104"/>
                          </a:moveTo>
                          <a:cubicBezTo>
                            <a:pt x="12" y="88"/>
                            <a:pt x="24" y="72"/>
                            <a:pt x="48" y="56"/>
                          </a:cubicBezTo>
                          <a:cubicBezTo>
                            <a:pt x="72" y="40"/>
                            <a:pt x="112" y="16"/>
                            <a:pt x="144" y="8"/>
                          </a:cubicBezTo>
                          <a:cubicBezTo>
                            <a:pt x="176" y="0"/>
                            <a:pt x="208" y="0"/>
                            <a:pt x="240" y="8"/>
                          </a:cubicBezTo>
                          <a:cubicBezTo>
                            <a:pt x="272" y="16"/>
                            <a:pt x="312" y="40"/>
                            <a:pt x="336" y="56"/>
                          </a:cubicBezTo>
                          <a:cubicBezTo>
                            <a:pt x="360" y="72"/>
                            <a:pt x="372" y="88"/>
                            <a:pt x="384" y="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99" name=""/>
                  <p:cNvGrpSpPr/>
                  <p:nvPr/>
                </p:nvGrpSpPr>
                <p:grpSpPr>
                  <a:xfrm>
                    <a:off x="4114800" y="4719600"/>
                    <a:ext cx="609480" cy="1170000"/>
                    <a:chOff x="4114800" y="4719600"/>
                    <a:chExt cx="609480" cy="1170000"/>
                  </a:xfrm>
                </p:grpSpPr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4114800" y="4870440"/>
                      <a:ext cx="304560" cy="1005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 flipH="1">
                      <a:off x="4419000" y="4870440"/>
                      <a:ext cx="304920" cy="1019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4114800" y="4719600"/>
                      <a:ext cx="60948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4" h="104">
                          <a:moveTo>
                            <a:pt x="0" y="104"/>
                          </a:moveTo>
                          <a:cubicBezTo>
                            <a:pt x="12" y="88"/>
                            <a:pt x="24" y="72"/>
                            <a:pt x="48" y="56"/>
                          </a:cubicBezTo>
                          <a:cubicBezTo>
                            <a:pt x="72" y="40"/>
                            <a:pt x="112" y="16"/>
                            <a:pt x="144" y="8"/>
                          </a:cubicBezTo>
                          <a:cubicBezTo>
                            <a:pt x="176" y="0"/>
                            <a:pt x="208" y="0"/>
                            <a:pt x="240" y="8"/>
                          </a:cubicBezTo>
                          <a:cubicBezTo>
                            <a:pt x="272" y="16"/>
                            <a:pt x="312" y="40"/>
                            <a:pt x="336" y="56"/>
                          </a:cubicBezTo>
                          <a:cubicBezTo>
                            <a:pt x="360" y="72"/>
                            <a:pt x="372" y="88"/>
                            <a:pt x="384" y="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4724280" y="4719600"/>
                    <a:ext cx="609480" cy="1170000"/>
                    <a:chOff x="4724280" y="4719600"/>
                    <a:chExt cx="609480" cy="1170000"/>
                  </a:xfrm>
                </p:grpSpPr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4724280" y="4870440"/>
                      <a:ext cx="304560" cy="1005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 flipH="1">
                      <a:off x="5028480" y="4870440"/>
                      <a:ext cx="304920" cy="1019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>
                      <a:off x="4724280" y="4719600"/>
                      <a:ext cx="60948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4" h="104">
                          <a:moveTo>
                            <a:pt x="0" y="104"/>
                          </a:moveTo>
                          <a:cubicBezTo>
                            <a:pt x="12" y="88"/>
                            <a:pt x="24" y="72"/>
                            <a:pt x="48" y="56"/>
                          </a:cubicBezTo>
                          <a:cubicBezTo>
                            <a:pt x="72" y="40"/>
                            <a:pt x="112" y="16"/>
                            <a:pt x="144" y="8"/>
                          </a:cubicBezTo>
                          <a:cubicBezTo>
                            <a:pt x="176" y="0"/>
                            <a:pt x="208" y="0"/>
                            <a:pt x="240" y="8"/>
                          </a:cubicBezTo>
                          <a:cubicBezTo>
                            <a:pt x="272" y="16"/>
                            <a:pt x="312" y="40"/>
                            <a:pt x="336" y="56"/>
                          </a:cubicBezTo>
                          <a:cubicBezTo>
                            <a:pt x="360" y="72"/>
                            <a:pt x="372" y="88"/>
                            <a:pt x="384" y="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7" name=""/>
                  <p:cNvGrpSpPr/>
                  <p:nvPr/>
                </p:nvGrpSpPr>
                <p:grpSpPr>
                  <a:xfrm>
                    <a:off x="5334120" y="4719600"/>
                    <a:ext cx="609480" cy="1170000"/>
                    <a:chOff x="5334120" y="4719600"/>
                    <a:chExt cx="609480" cy="1170000"/>
                  </a:xfrm>
                </p:grpSpPr>
                <p:sp>
                  <p:nvSpPr>
                    <p:cNvPr id="1108" name=""/>
                    <p:cNvSpPr/>
                    <p:nvPr/>
                  </p:nvSpPr>
                  <p:spPr>
                    <a:xfrm>
                      <a:off x="5334120" y="4870440"/>
                      <a:ext cx="304560" cy="10047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 flipH="1">
                      <a:off x="5638320" y="4870440"/>
                      <a:ext cx="304920" cy="101916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0" name=""/>
                    <p:cNvSpPr/>
                    <p:nvPr/>
                  </p:nvSpPr>
                  <p:spPr>
                    <a:xfrm>
                      <a:off x="5334120" y="4719600"/>
                      <a:ext cx="60948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4" h="104">
                          <a:moveTo>
                            <a:pt x="0" y="104"/>
                          </a:moveTo>
                          <a:cubicBezTo>
                            <a:pt x="12" y="88"/>
                            <a:pt x="24" y="72"/>
                            <a:pt x="48" y="56"/>
                          </a:cubicBezTo>
                          <a:cubicBezTo>
                            <a:pt x="72" y="40"/>
                            <a:pt x="112" y="16"/>
                            <a:pt x="144" y="8"/>
                          </a:cubicBezTo>
                          <a:cubicBezTo>
                            <a:pt x="176" y="0"/>
                            <a:pt x="208" y="0"/>
                            <a:pt x="240" y="8"/>
                          </a:cubicBezTo>
                          <a:cubicBezTo>
                            <a:pt x="272" y="16"/>
                            <a:pt x="312" y="40"/>
                            <a:pt x="336" y="56"/>
                          </a:cubicBezTo>
                          <a:cubicBezTo>
                            <a:pt x="360" y="72"/>
                            <a:pt x="372" y="88"/>
                            <a:pt x="384" y="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200400" y="4849920"/>
                  <a:ext cx="2437920" cy="1170000"/>
                  <a:chOff x="3200400" y="4849920"/>
                  <a:chExt cx="2437920" cy="1170000"/>
                </a:xfrm>
              </p:grpSpPr>
              <p:grpSp>
                <p:nvGrpSpPr>
                  <p:cNvPr id="1112" name=""/>
                  <p:cNvGrpSpPr/>
                  <p:nvPr/>
                </p:nvGrpSpPr>
                <p:grpSpPr>
                  <a:xfrm>
                    <a:off x="3200400" y="4849920"/>
                    <a:ext cx="609480" cy="1170000"/>
                    <a:chOff x="3200400" y="4849920"/>
                    <a:chExt cx="609480" cy="1170000"/>
                  </a:xfrm>
                </p:grpSpPr>
                <p:sp>
                  <p:nvSpPr>
                    <p:cNvPr id="1113" name=""/>
                    <p:cNvSpPr/>
                    <p:nvPr/>
                  </p:nvSpPr>
                  <p:spPr>
                    <a:xfrm flipV="1">
                      <a:off x="3200400" y="4863960"/>
                      <a:ext cx="304560" cy="1005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4" name=""/>
                    <p:cNvSpPr/>
                    <p:nvPr/>
                  </p:nvSpPr>
                  <p:spPr>
                    <a:xfrm flipH="1" flipV="1">
                      <a:off x="3504600" y="4849920"/>
                      <a:ext cx="304920" cy="1019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5" name=""/>
                    <p:cNvSpPr/>
                    <p:nvPr/>
                  </p:nvSpPr>
                  <p:spPr>
                    <a:xfrm flipV="1">
                      <a:off x="3200400" y="5854320"/>
                      <a:ext cx="60948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4" h="104">
                          <a:moveTo>
                            <a:pt x="0" y="104"/>
                          </a:moveTo>
                          <a:cubicBezTo>
                            <a:pt x="12" y="88"/>
                            <a:pt x="24" y="72"/>
                            <a:pt x="48" y="56"/>
                          </a:cubicBezTo>
                          <a:cubicBezTo>
                            <a:pt x="72" y="40"/>
                            <a:pt x="112" y="16"/>
                            <a:pt x="144" y="8"/>
                          </a:cubicBezTo>
                          <a:cubicBezTo>
                            <a:pt x="176" y="0"/>
                            <a:pt x="208" y="0"/>
                            <a:pt x="240" y="8"/>
                          </a:cubicBezTo>
                          <a:cubicBezTo>
                            <a:pt x="272" y="16"/>
                            <a:pt x="312" y="40"/>
                            <a:pt x="336" y="56"/>
                          </a:cubicBezTo>
                          <a:cubicBezTo>
                            <a:pt x="360" y="72"/>
                            <a:pt x="372" y="88"/>
                            <a:pt x="384" y="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16" name=""/>
                  <p:cNvGrpSpPr/>
                  <p:nvPr/>
                </p:nvGrpSpPr>
                <p:grpSpPr>
                  <a:xfrm>
                    <a:off x="3809880" y="4849920"/>
                    <a:ext cx="609120" cy="1170000"/>
                    <a:chOff x="3809880" y="4849920"/>
                    <a:chExt cx="609120" cy="1170000"/>
                  </a:xfrm>
                </p:grpSpPr>
                <p:sp>
                  <p:nvSpPr>
                    <p:cNvPr id="1117" name=""/>
                    <p:cNvSpPr/>
                    <p:nvPr/>
                  </p:nvSpPr>
                  <p:spPr>
                    <a:xfrm flipV="1">
                      <a:off x="3809880" y="4863960"/>
                      <a:ext cx="304200" cy="1005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 flipH="1" flipV="1">
                      <a:off x="4114080" y="4849920"/>
                      <a:ext cx="304560" cy="1019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9" name=""/>
                    <p:cNvSpPr/>
                    <p:nvPr/>
                  </p:nvSpPr>
                  <p:spPr>
                    <a:xfrm flipV="1">
                      <a:off x="3809880" y="5854320"/>
                      <a:ext cx="60912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4" h="104">
                          <a:moveTo>
                            <a:pt x="0" y="104"/>
                          </a:moveTo>
                          <a:cubicBezTo>
                            <a:pt x="12" y="88"/>
                            <a:pt x="24" y="72"/>
                            <a:pt x="48" y="56"/>
                          </a:cubicBezTo>
                          <a:cubicBezTo>
                            <a:pt x="72" y="40"/>
                            <a:pt x="112" y="16"/>
                            <a:pt x="144" y="8"/>
                          </a:cubicBezTo>
                          <a:cubicBezTo>
                            <a:pt x="176" y="0"/>
                            <a:pt x="208" y="0"/>
                            <a:pt x="240" y="8"/>
                          </a:cubicBezTo>
                          <a:cubicBezTo>
                            <a:pt x="272" y="16"/>
                            <a:pt x="312" y="40"/>
                            <a:pt x="336" y="56"/>
                          </a:cubicBezTo>
                          <a:cubicBezTo>
                            <a:pt x="360" y="72"/>
                            <a:pt x="372" y="88"/>
                            <a:pt x="384" y="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4419360" y="4849920"/>
                    <a:ext cx="609120" cy="1170000"/>
                    <a:chOff x="4419360" y="4849920"/>
                    <a:chExt cx="609120" cy="1170000"/>
                  </a:xfrm>
                </p:grpSpPr>
                <p:sp>
                  <p:nvSpPr>
                    <p:cNvPr id="1121" name=""/>
                    <p:cNvSpPr/>
                    <p:nvPr/>
                  </p:nvSpPr>
                  <p:spPr>
                    <a:xfrm flipV="1">
                      <a:off x="4419360" y="4863960"/>
                      <a:ext cx="304200" cy="1005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 flipH="1" flipV="1">
                      <a:off x="4723560" y="4849920"/>
                      <a:ext cx="304560" cy="1019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 flipV="1">
                      <a:off x="4419360" y="5854320"/>
                      <a:ext cx="60912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4" h="104">
                          <a:moveTo>
                            <a:pt x="0" y="104"/>
                          </a:moveTo>
                          <a:cubicBezTo>
                            <a:pt x="12" y="88"/>
                            <a:pt x="24" y="72"/>
                            <a:pt x="48" y="56"/>
                          </a:cubicBezTo>
                          <a:cubicBezTo>
                            <a:pt x="72" y="40"/>
                            <a:pt x="112" y="16"/>
                            <a:pt x="144" y="8"/>
                          </a:cubicBezTo>
                          <a:cubicBezTo>
                            <a:pt x="176" y="0"/>
                            <a:pt x="208" y="0"/>
                            <a:pt x="240" y="8"/>
                          </a:cubicBezTo>
                          <a:cubicBezTo>
                            <a:pt x="272" y="16"/>
                            <a:pt x="312" y="40"/>
                            <a:pt x="336" y="56"/>
                          </a:cubicBezTo>
                          <a:cubicBezTo>
                            <a:pt x="360" y="72"/>
                            <a:pt x="372" y="88"/>
                            <a:pt x="384" y="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24" name=""/>
                  <p:cNvGrpSpPr/>
                  <p:nvPr/>
                </p:nvGrpSpPr>
                <p:grpSpPr>
                  <a:xfrm>
                    <a:off x="5028840" y="4849920"/>
                    <a:ext cx="609480" cy="1170000"/>
                    <a:chOff x="5028840" y="4849920"/>
                    <a:chExt cx="609480" cy="1170000"/>
                  </a:xfrm>
                </p:grpSpPr>
                <p:sp>
                  <p:nvSpPr>
                    <p:cNvPr id="1125" name=""/>
                    <p:cNvSpPr/>
                    <p:nvPr/>
                  </p:nvSpPr>
                  <p:spPr>
                    <a:xfrm flipV="1">
                      <a:off x="5028840" y="4863960"/>
                      <a:ext cx="304560" cy="1005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6" name=""/>
                    <p:cNvSpPr/>
                    <p:nvPr/>
                  </p:nvSpPr>
                  <p:spPr>
                    <a:xfrm flipH="1" flipV="1">
                      <a:off x="5333040" y="4849920"/>
                      <a:ext cx="304920" cy="1019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7" name=""/>
                    <p:cNvSpPr/>
                    <p:nvPr/>
                  </p:nvSpPr>
                  <p:spPr>
                    <a:xfrm flipV="1">
                      <a:off x="5028840" y="5854320"/>
                      <a:ext cx="60948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4" h="104">
                          <a:moveTo>
                            <a:pt x="0" y="104"/>
                          </a:moveTo>
                          <a:cubicBezTo>
                            <a:pt x="12" y="88"/>
                            <a:pt x="24" y="72"/>
                            <a:pt x="48" y="56"/>
                          </a:cubicBezTo>
                          <a:cubicBezTo>
                            <a:pt x="72" y="40"/>
                            <a:pt x="112" y="16"/>
                            <a:pt x="144" y="8"/>
                          </a:cubicBezTo>
                          <a:cubicBezTo>
                            <a:pt x="176" y="0"/>
                            <a:pt x="208" y="0"/>
                            <a:pt x="240" y="8"/>
                          </a:cubicBezTo>
                          <a:cubicBezTo>
                            <a:pt x="272" y="16"/>
                            <a:pt x="312" y="40"/>
                            <a:pt x="336" y="56"/>
                          </a:cubicBezTo>
                          <a:cubicBezTo>
                            <a:pt x="360" y="72"/>
                            <a:pt x="372" y="88"/>
                            <a:pt x="384" y="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128" name=""/>
              <p:cNvGrpSpPr/>
              <p:nvPr/>
            </p:nvGrpSpPr>
            <p:grpSpPr>
              <a:xfrm>
                <a:off x="3200400" y="5791320"/>
                <a:ext cx="2743200" cy="764280"/>
                <a:chOff x="3200400" y="5791320"/>
                <a:chExt cx="2743200" cy="76428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191120" y="5791320"/>
                  <a:ext cx="7621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r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3200400" y="6248160"/>
                  <a:ext cx="990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H="1">
                  <a:off x="4952880" y="6248160"/>
                  <a:ext cx="990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3200400" y="6095880"/>
                  <a:ext cx="0" cy="274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5943600" y="6095880"/>
                  <a:ext cx="0" cy="274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"/>
              <p:cNvSpPr/>
              <p:nvPr/>
            </p:nvSpPr>
            <p:spPr>
              <a:xfrm>
                <a:off x="5882760" y="5079960"/>
                <a:ext cx="348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"/>
            <p:cNvSpPr/>
            <p:nvPr/>
          </p:nvSpPr>
          <p:spPr>
            <a:xfrm flipH="1" rot="16200000">
              <a:off x="4147200" y="2883600"/>
              <a:ext cx="1158840" cy="1062000"/>
            </a:xfrm>
            <a:custGeom>
              <a:avLst/>
              <a:gdLst>
                <a:gd name="textAreaLeft" fmla="*/ -360 w 1158840"/>
                <a:gd name="textAreaRight" fmla="*/ 1158840 w 1158840"/>
                <a:gd name="textAreaTop" fmla="*/ 0 h 1062000"/>
                <a:gd name="textAreaBottom" fmla="*/ 1062360 h 10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 &amp;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954000" y="1523880"/>
            <a:ext cx="3030840" cy="1912320"/>
            <a:chOff x="954000" y="1523880"/>
            <a:chExt cx="3030840" cy="1912320"/>
          </a:xfrm>
        </p:grpSpPr>
        <p:grpSp>
          <p:nvGrpSpPr>
            <p:cNvPr id="1138" name=""/>
            <p:cNvGrpSpPr/>
            <p:nvPr/>
          </p:nvGrpSpPr>
          <p:grpSpPr>
            <a:xfrm>
              <a:off x="954000" y="1600200"/>
              <a:ext cx="3030840" cy="1836000"/>
              <a:chOff x="954000" y="1600200"/>
              <a:chExt cx="3030840" cy="183600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954000" y="1600200"/>
                <a:ext cx="2743200" cy="1300320"/>
                <a:chOff x="954000" y="1600200"/>
                <a:chExt cx="2743200" cy="1300320"/>
              </a:xfrm>
            </p:grpSpPr>
            <p:grpSp>
              <p:nvGrpSpPr>
                <p:cNvPr id="1140" name=""/>
                <p:cNvGrpSpPr/>
                <p:nvPr/>
              </p:nvGrpSpPr>
              <p:grpSpPr>
                <a:xfrm>
                  <a:off x="1258920" y="1600200"/>
                  <a:ext cx="2438280" cy="1170000"/>
                  <a:chOff x="1258920" y="1600200"/>
                  <a:chExt cx="2438280" cy="1170000"/>
                </a:xfrm>
              </p:grpSpPr>
              <p:grpSp>
                <p:nvGrpSpPr>
                  <p:cNvPr id="1141" name=""/>
                  <p:cNvGrpSpPr/>
                  <p:nvPr/>
                </p:nvGrpSpPr>
                <p:grpSpPr>
                  <a:xfrm>
                    <a:off x="1258920" y="1600200"/>
                    <a:ext cx="609480" cy="1170000"/>
                    <a:chOff x="1258920" y="1600200"/>
                    <a:chExt cx="609480" cy="1170000"/>
                  </a:xfrm>
                </p:grpSpPr>
                <p:sp>
                  <p:nvSpPr>
                    <p:cNvPr id="1142" name=""/>
                    <p:cNvSpPr/>
                    <p:nvPr/>
                  </p:nvSpPr>
                  <p:spPr>
                    <a:xfrm>
                      <a:off x="1258920" y="1751040"/>
                      <a:ext cx="304560" cy="1005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3" name=""/>
                    <p:cNvSpPr/>
                    <p:nvPr/>
                  </p:nvSpPr>
                  <p:spPr>
                    <a:xfrm flipH="1">
                      <a:off x="1563120" y="1751040"/>
                      <a:ext cx="304920" cy="1019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4" name=""/>
                    <p:cNvSpPr/>
                    <p:nvPr/>
                  </p:nvSpPr>
                  <p:spPr>
                    <a:xfrm>
                      <a:off x="1258920" y="1600200"/>
                      <a:ext cx="60948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4" h="104">
                          <a:moveTo>
                            <a:pt x="0" y="104"/>
                          </a:moveTo>
                          <a:cubicBezTo>
                            <a:pt x="12" y="88"/>
                            <a:pt x="24" y="72"/>
                            <a:pt x="48" y="56"/>
                          </a:cubicBezTo>
                          <a:cubicBezTo>
                            <a:pt x="72" y="40"/>
                            <a:pt x="112" y="16"/>
                            <a:pt x="144" y="8"/>
                          </a:cubicBezTo>
                          <a:cubicBezTo>
                            <a:pt x="176" y="0"/>
                            <a:pt x="208" y="0"/>
                            <a:pt x="240" y="8"/>
                          </a:cubicBezTo>
                          <a:cubicBezTo>
                            <a:pt x="272" y="16"/>
                            <a:pt x="312" y="40"/>
                            <a:pt x="336" y="56"/>
                          </a:cubicBezTo>
                          <a:cubicBezTo>
                            <a:pt x="360" y="72"/>
                            <a:pt x="372" y="88"/>
                            <a:pt x="384" y="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5" name=""/>
                  <p:cNvGrpSpPr/>
                  <p:nvPr/>
                </p:nvGrpSpPr>
                <p:grpSpPr>
                  <a:xfrm>
                    <a:off x="1868400" y="1600200"/>
                    <a:ext cx="609480" cy="1170000"/>
                    <a:chOff x="1868400" y="1600200"/>
                    <a:chExt cx="609480" cy="1170000"/>
                  </a:xfrm>
                </p:grpSpPr>
                <p:sp>
                  <p:nvSpPr>
                    <p:cNvPr id="1146" name=""/>
                    <p:cNvSpPr/>
                    <p:nvPr/>
                  </p:nvSpPr>
                  <p:spPr>
                    <a:xfrm>
                      <a:off x="1868400" y="1751040"/>
                      <a:ext cx="304560" cy="1005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 flipH="1">
                      <a:off x="2172600" y="1751040"/>
                      <a:ext cx="304920" cy="1019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1868400" y="1600200"/>
                      <a:ext cx="60948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4" h="104">
                          <a:moveTo>
                            <a:pt x="0" y="104"/>
                          </a:moveTo>
                          <a:cubicBezTo>
                            <a:pt x="12" y="88"/>
                            <a:pt x="24" y="72"/>
                            <a:pt x="48" y="56"/>
                          </a:cubicBezTo>
                          <a:cubicBezTo>
                            <a:pt x="72" y="40"/>
                            <a:pt x="112" y="16"/>
                            <a:pt x="144" y="8"/>
                          </a:cubicBezTo>
                          <a:cubicBezTo>
                            <a:pt x="176" y="0"/>
                            <a:pt x="208" y="0"/>
                            <a:pt x="240" y="8"/>
                          </a:cubicBezTo>
                          <a:cubicBezTo>
                            <a:pt x="272" y="16"/>
                            <a:pt x="312" y="40"/>
                            <a:pt x="336" y="56"/>
                          </a:cubicBezTo>
                          <a:cubicBezTo>
                            <a:pt x="360" y="72"/>
                            <a:pt x="372" y="88"/>
                            <a:pt x="384" y="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9" name=""/>
                  <p:cNvGrpSpPr/>
                  <p:nvPr/>
                </p:nvGrpSpPr>
                <p:grpSpPr>
                  <a:xfrm>
                    <a:off x="2477880" y="1600200"/>
                    <a:ext cx="609480" cy="1170000"/>
                    <a:chOff x="2477880" y="1600200"/>
                    <a:chExt cx="609480" cy="1170000"/>
                  </a:xfrm>
                </p:grpSpPr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2477880" y="1751040"/>
                      <a:ext cx="304560" cy="1005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 flipH="1">
                      <a:off x="2782080" y="1751040"/>
                      <a:ext cx="304920" cy="1019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>
                      <a:off x="2477880" y="1600200"/>
                      <a:ext cx="60948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4" h="104">
                          <a:moveTo>
                            <a:pt x="0" y="104"/>
                          </a:moveTo>
                          <a:cubicBezTo>
                            <a:pt x="12" y="88"/>
                            <a:pt x="24" y="72"/>
                            <a:pt x="48" y="56"/>
                          </a:cubicBezTo>
                          <a:cubicBezTo>
                            <a:pt x="72" y="40"/>
                            <a:pt x="112" y="16"/>
                            <a:pt x="144" y="8"/>
                          </a:cubicBezTo>
                          <a:cubicBezTo>
                            <a:pt x="176" y="0"/>
                            <a:pt x="208" y="0"/>
                            <a:pt x="240" y="8"/>
                          </a:cubicBezTo>
                          <a:cubicBezTo>
                            <a:pt x="272" y="16"/>
                            <a:pt x="312" y="40"/>
                            <a:pt x="336" y="56"/>
                          </a:cubicBezTo>
                          <a:cubicBezTo>
                            <a:pt x="360" y="72"/>
                            <a:pt x="372" y="88"/>
                            <a:pt x="384" y="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53" name=""/>
                  <p:cNvGrpSpPr/>
                  <p:nvPr/>
                </p:nvGrpSpPr>
                <p:grpSpPr>
                  <a:xfrm>
                    <a:off x="3087720" y="1600200"/>
                    <a:ext cx="609480" cy="1170000"/>
                    <a:chOff x="3087720" y="1600200"/>
                    <a:chExt cx="609480" cy="1170000"/>
                  </a:xfrm>
                </p:grpSpPr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3087720" y="1751040"/>
                      <a:ext cx="304560" cy="10047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 flipH="1">
                      <a:off x="3391920" y="1751040"/>
                      <a:ext cx="304920" cy="101916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3087720" y="1600200"/>
                      <a:ext cx="60948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4" h="104">
                          <a:moveTo>
                            <a:pt x="0" y="104"/>
                          </a:moveTo>
                          <a:cubicBezTo>
                            <a:pt x="12" y="88"/>
                            <a:pt x="24" y="72"/>
                            <a:pt x="48" y="56"/>
                          </a:cubicBezTo>
                          <a:cubicBezTo>
                            <a:pt x="72" y="40"/>
                            <a:pt x="112" y="16"/>
                            <a:pt x="144" y="8"/>
                          </a:cubicBezTo>
                          <a:cubicBezTo>
                            <a:pt x="176" y="0"/>
                            <a:pt x="208" y="0"/>
                            <a:pt x="240" y="8"/>
                          </a:cubicBezTo>
                          <a:cubicBezTo>
                            <a:pt x="272" y="16"/>
                            <a:pt x="312" y="40"/>
                            <a:pt x="336" y="56"/>
                          </a:cubicBezTo>
                          <a:cubicBezTo>
                            <a:pt x="360" y="72"/>
                            <a:pt x="372" y="88"/>
                            <a:pt x="384" y="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57" name=""/>
                <p:cNvGrpSpPr/>
                <p:nvPr/>
              </p:nvGrpSpPr>
              <p:grpSpPr>
                <a:xfrm>
                  <a:off x="954000" y="1730520"/>
                  <a:ext cx="2437920" cy="1170000"/>
                  <a:chOff x="954000" y="1730520"/>
                  <a:chExt cx="2437920" cy="1170000"/>
                </a:xfrm>
              </p:grpSpPr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954000" y="1730520"/>
                    <a:ext cx="609480" cy="1170000"/>
                    <a:chOff x="954000" y="1730520"/>
                    <a:chExt cx="609480" cy="117000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 flipV="1">
                      <a:off x="954000" y="1744560"/>
                      <a:ext cx="304560" cy="1005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flipH="1" flipV="1">
                      <a:off x="1258200" y="1730520"/>
                      <a:ext cx="304920" cy="1019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 flipV="1">
                      <a:off x="954000" y="2734920"/>
                      <a:ext cx="60948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4" h="104">
                          <a:moveTo>
                            <a:pt x="0" y="104"/>
                          </a:moveTo>
                          <a:cubicBezTo>
                            <a:pt x="12" y="88"/>
                            <a:pt x="24" y="72"/>
                            <a:pt x="48" y="56"/>
                          </a:cubicBezTo>
                          <a:cubicBezTo>
                            <a:pt x="72" y="40"/>
                            <a:pt x="112" y="16"/>
                            <a:pt x="144" y="8"/>
                          </a:cubicBezTo>
                          <a:cubicBezTo>
                            <a:pt x="176" y="0"/>
                            <a:pt x="208" y="0"/>
                            <a:pt x="240" y="8"/>
                          </a:cubicBezTo>
                          <a:cubicBezTo>
                            <a:pt x="272" y="16"/>
                            <a:pt x="312" y="40"/>
                            <a:pt x="336" y="56"/>
                          </a:cubicBezTo>
                          <a:cubicBezTo>
                            <a:pt x="360" y="72"/>
                            <a:pt x="372" y="88"/>
                            <a:pt x="384" y="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62" name=""/>
                  <p:cNvGrpSpPr/>
                  <p:nvPr/>
                </p:nvGrpSpPr>
                <p:grpSpPr>
                  <a:xfrm>
                    <a:off x="1563480" y="1730520"/>
                    <a:ext cx="609120" cy="1170000"/>
                    <a:chOff x="1563480" y="1730520"/>
                    <a:chExt cx="609120" cy="1170000"/>
                  </a:xfrm>
                </p:grpSpPr>
                <p:sp>
                  <p:nvSpPr>
                    <p:cNvPr id="1163" name=""/>
                    <p:cNvSpPr/>
                    <p:nvPr/>
                  </p:nvSpPr>
                  <p:spPr>
                    <a:xfrm flipV="1">
                      <a:off x="1563480" y="1744560"/>
                      <a:ext cx="304200" cy="1005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 flipH="1" flipV="1">
                      <a:off x="1867680" y="1730520"/>
                      <a:ext cx="304560" cy="1019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5" name=""/>
                    <p:cNvSpPr/>
                    <p:nvPr/>
                  </p:nvSpPr>
                  <p:spPr>
                    <a:xfrm flipV="1">
                      <a:off x="1563480" y="2734920"/>
                      <a:ext cx="60912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4" h="104">
                          <a:moveTo>
                            <a:pt x="0" y="104"/>
                          </a:moveTo>
                          <a:cubicBezTo>
                            <a:pt x="12" y="88"/>
                            <a:pt x="24" y="72"/>
                            <a:pt x="48" y="56"/>
                          </a:cubicBezTo>
                          <a:cubicBezTo>
                            <a:pt x="72" y="40"/>
                            <a:pt x="112" y="16"/>
                            <a:pt x="144" y="8"/>
                          </a:cubicBezTo>
                          <a:cubicBezTo>
                            <a:pt x="176" y="0"/>
                            <a:pt x="208" y="0"/>
                            <a:pt x="240" y="8"/>
                          </a:cubicBezTo>
                          <a:cubicBezTo>
                            <a:pt x="272" y="16"/>
                            <a:pt x="312" y="40"/>
                            <a:pt x="336" y="56"/>
                          </a:cubicBezTo>
                          <a:cubicBezTo>
                            <a:pt x="360" y="72"/>
                            <a:pt x="372" y="88"/>
                            <a:pt x="384" y="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66" name=""/>
                  <p:cNvGrpSpPr/>
                  <p:nvPr/>
                </p:nvGrpSpPr>
                <p:grpSpPr>
                  <a:xfrm>
                    <a:off x="2172960" y="1730520"/>
                    <a:ext cx="609120" cy="1170000"/>
                    <a:chOff x="2172960" y="1730520"/>
                    <a:chExt cx="609120" cy="1170000"/>
                  </a:xfrm>
                </p:grpSpPr>
                <p:sp>
                  <p:nvSpPr>
                    <p:cNvPr id="1167" name=""/>
                    <p:cNvSpPr/>
                    <p:nvPr/>
                  </p:nvSpPr>
                  <p:spPr>
                    <a:xfrm flipV="1">
                      <a:off x="2172960" y="1744560"/>
                      <a:ext cx="304200" cy="1005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 flipH="1" flipV="1">
                      <a:off x="2477160" y="1730520"/>
                      <a:ext cx="304560" cy="1019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 flipV="1">
                      <a:off x="2172960" y="2734920"/>
                      <a:ext cx="60912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4" h="104">
                          <a:moveTo>
                            <a:pt x="0" y="104"/>
                          </a:moveTo>
                          <a:cubicBezTo>
                            <a:pt x="12" y="88"/>
                            <a:pt x="24" y="72"/>
                            <a:pt x="48" y="56"/>
                          </a:cubicBezTo>
                          <a:cubicBezTo>
                            <a:pt x="72" y="40"/>
                            <a:pt x="112" y="16"/>
                            <a:pt x="144" y="8"/>
                          </a:cubicBezTo>
                          <a:cubicBezTo>
                            <a:pt x="176" y="0"/>
                            <a:pt x="208" y="0"/>
                            <a:pt x="240" y="8"/>
                          </a:cubicBezTo>
                          <a:cubicBezTo>
                            <a:pt x="272" y="16"/>
                            <a:pt x="312" y="40"/>
                            <a:pt x="336" y="56"/>
                          </a:cubicBezTo>
                          <a:cubicBezTo>
                            <a:pt x="360" y="72"/>
                            <a:pt x="372" y="88"/>
                            <a:pt x="384" y="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70" name=""/>
                  <p:cNvGrpSpPr/>
                  <p:nvPr/>
                </p:nvGrpSpPr>
                <p:grpSpPr>
                  <a:xfrm>
                    <a:off x="2782440" y="1730520"/>
                    <a:ext cx="609480" cy="1170000"/>
                    <a:chOff x="2782440" y="1730520"/>
                    <a:chExt cx="609480" cy="1170000"/>
                  </a:xfrm>
                </p:grpSpPr>
                <p:sp>
                  <p:nvSpPr>
                    <p:cNvPr id="1171" name=""/>
                    <p:cNvSpPr/>
                    <p:nvPr/>
                  </p:nvSpPr>
                  <p:spPr>
                    <a:xfrm flipV="1">
                      <a:off x="2782440" y="1744560"/>
                      <a:ext cx="304560" cy="1005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 flipH="1" flipV="1">
                      <a:off x="3086640" y="1730520"/>
                      <a:ext cx="304920" cy="1019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 flipV="1">
                      <a:off x="2782440" y="2734920"/>
                      <a:ext cx="60948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4" h="104">
                          <a:moveTo>
                            <a:pt x="0" y="104"/>
                          </a:moveTo>
                          <a:cubicBezTo>
                            <a:pt x="12" y="88"/>
                            <a:pt x="24" y="72"/>
                            <a:pt x="48" y="56"/>
                          </a:cubicBezTo>
                          <a:cubicBezTo>
                            <a:pt x="72" y="40"/>
                            <a:pt x="112" y="16"/>
                            <a:pt x="144" y="8"/>
                          </a:cubicBezTo>
                          <a:cubicBezTo>
                            <a:pt x="176" y="0"/>
                            <a:pt x="208" y="0"/>
                            <a:pt x="240" y="8"/>
                          </a:cubicBezTo>
                          <a:cubicBezTo>
                            <a:pt x="272" y="16"/>
                            <a:pt x="312" y="40"/>
                            <a:pt x="336" y="56"/>
                          </a:cubicBezTo>
                          <a:cubicBezTo>
                            <a:pt x="360" y="72"/>
                            <a:pt x="372" y="88"/>
                            <a:pt x="384" y="104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174" name=""/>
              <p:cNvGrpSpPr/>
              <p:nvPr/>
            </p:nvGrpSpPr>
            <p:grpSpPr>
              <a:xfrm>
                <a:off x="954000" y="2671920"/>
                <a:ext cx="2743200" cy="764280"/>
                <a:chOff x="954000" y="2671920"/>
                <a:chExt cx="2743200" cy="764280"/>
              </a:xfrm>
            </p:grpSpPr>
            <p:sp>
              <p:nvSpPr>
                <p:cNvPr id="1175" name=""/>
                <p:cNvSpPr/>
                <p:nvPr/>
              </p:nvSpPr>
              <p:spPr>
                <a:xfrm>
                  <a:off x="1944720" y="2671920"/>
                  <a:ext cx="7621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0000ff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r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flipH="1">
                  <a:off x="954000" y="3128760"/>
                  <a:ext cx="990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H="1">
                  <a:off x="2706480" y="3128760"/>
                  <a:ext cx="990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54000" y="2976480"/>
                  <a:ext cx="0" cy="274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3697200" y="2976480"/>
                  <a:ext cx="0" cy="274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0" name=""/>
              <p:cNvSpPr/>
              <p:nvPr/>
            </p:nvSpPr>
            <p:spPr>
              <a:xfrm>
                <a:off x="3636360" y="1960560"/>
                <a:ext cx="348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"/>
            <p:cNvGrpSpPr/>
            <p:nvPr/>
          </p:nvGrpSpPr>
          <p:grpSpPr>
            <a:xfrm>
              <a:off x="3331800" y="1523880"/>
              <a:ext cx="348480" cy="1225800"/>
              <a:chOff x="3331800" y="1523880"/>
              <a:chExt cx="348480" cy="1225800"/>
            </a:xfrm>
          </p:grpSpPr>
          <p:sp>
            <p:nvSpPr>
              <p:cNvPr id="1182" name=""/>
              <p:cNvSpPr/>
              <p:nvPr/>
            </p:nvSpPr>
            <p:spPr>
              <a:xfrm>
                <a:off x="3392280" y="1600200"/>
                <a:ext cx="0" cy="1149480"/>
              </a:xfrm>
              <a:prstGeom prst="line">
                <a:avLst/>
              </a:prstGeom>
              <a:ln w="381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331800" y="1523880"/>
                <a:ext cx="348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4" name=""/>
          <p:cNvGrpSpPr/>
          <p:nvPr/>
        </p:nvGrpSpPr>
        <p:grpSpPr>
          <a:xfrm>
            <a:off x="4344840" y="1689120"/>
            <a:ext cx="3961080" cy="1746360"/>
            <a:chOff x="4344840" y="1689120"/>
            <a:chExt cx="3961080" cy="1746360"/>
          </a:xfrm>
        </p:grpSpPr>
        <p:sp>
          <p:nvSpPr>
            <p:cNvPr id="1185" name=""/>
            <p:cNvSpPr/>
            <p:nvPr/>
          </p:nvSpPr>
          <p:spPr>
            <a:xfrm>
              <a:off x="5334120" y="1689120"/>
              <a:ext cx="2971800" cy="1170000"/>
            </a:xfrm>
            <a:prstGeom prst="parallelogram">
              <a:avLst>
                <a:gd name="adj" fmla="val 63500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344840" y="1769760"/>
              <a:ext cx="608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095880" y="1689120"/>
              <a:ext cx="0" cy="117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089400" y="1984320"/>
              <a:ext cx="4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604560" y="2854080"/>
              <a:ext cx="43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952560" y="3505320"/>
            <a:ext cx="304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= </a:t>
            </a:r>
            <a:r>
              <a:rPr b="0" lang="en-US" sz="4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141560" y="42670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=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486400" y="3687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= b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097000" y="5119560"/>
            <a:ext cx="49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ea of a circle =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 &amp;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33520" y="1447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ate the area of a circle with a radius of 7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581280" y="251460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=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3520" y="1447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ate the area of a circle with a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radius of 7i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8" name=""/>
          <p:cNvGrpSpPr/>
          <p:nvPr/>
        </p:nvGrpSpPr>
        <p:grpSpPr>
          <a:xfrm>
            <a:off x="3048120" y="3416400"/>
            <a:ext cx="3123720" cy="1157400"/>
            <a:chOff x="3048120" y="3416400"/>
            <a:chExt cx="3123720" cy="1157400"/>
          </a:xfrm>
        </p:grpSpPr>
        <p:sp>
          <p:nvSpPr>
            <p:cNvPr id="1199" name=""/>
            <p:cNvSpPr/>
            <p:nvPr/>
          </p:nvSpPr>
          <p:spPr>
            <a:xfrm>
              <a:off x="3048120" y="367344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0" name=""/>
            <p:cNvGrpSpPr/>
            <p:nvPr/>
          </p:nvGrpSpPr>
          <p:grpSpPr>
            <a:xfrm>
              <a:off x="4114800" y="3416400"/>
              <a:ext cx="682200" cy="1157400"/>
              <a:chOff x="4114800" y="3416400"/>
              <a:chExt cx="682200" cy="11574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131720" y="34164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2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248360" y="3992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114800" y="3992400"/>
                <a:ext cx="6822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5489280" y="3416400"/>
              <a:ext cx="682560" cy="1157400"/>
              <a:chOff x="5489280" y="3416400"/>
              <a:chExt cx="682560" cy="1157400"/>
            </a:xfrm>
          </p:grpSpPr>
          <p:sp>
            <p:nvSpPr>
              <p:cNvPr id="1205" name=""/>
              <p:cNvSpPr/>
              <p:nvPr/>
            </p:nvSpPr>
            <p:spPr>
              <a:xfrm>
                <a:off x="5514120" y="3416400"/>
                <a:ext cx="548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591160" y="39924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489280" y="3992400"/>
                <a:ext cx="68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4956120" y="3673440"/>
              <a:ext cx="3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1981080" y="4740120"/>
            <a:ext cx="3048120" cy="1157760"/>
            <a:chOff x="1981080" y="4740120"/>
            <a:chExt cx="3048120" cy="1157760"/>
          </a:xfrm>
        </p:grpSpPr>
        <p:sp>
          <p:nvSpPr>
            <p:cNvPr id="1210" name=""/>
            <p:cNvSpPr/>
            <p:nvPr/>
          </p:nvSpPr>
          <p:spPr>
            <a:xfrm>
              <a:off x="1981080" y="4997520"/>
              <a:ext cx="91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1" name=""/>
            <p:cNvGrpSpPr/>
            <p:nvPr/>
          </p:nvGrpSpPr>
          <p:grpSpPr>
            <a:xfrm>
              <a:off x="2971800" y="4740120"/>
              <a:ext cx="682560" cy="1157760"/>
              <a:chOff x="2971800" y="4740120"/>
              <a:chExt cx="682560" cy="1157760"/>
            </a:xfrm>
          </p:grpSpPr>
          <p:sp>
            <p:nvSpPr>
              <p:cNvPr id="1212" name=""/>
              <p:cNvSpPr/>
              <p:nvPr/>
            </p:nvSpPr>
            <p:spPr>
              <a:xfrm>
                <a:off x="2989080" y="47401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105720" y="53164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971800" y="5316480"/>
                <a:ext cx="68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4346640" y="4740120"/>
              <a:ext cx="682560" cy="1157400"/>
              <a:chOff x="4346640" y="4740120"/>
              <a:chExt cx="682560" cy="11574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364280" y="47401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448520" y="5316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346640" y="5316120"/>
                <a:ext cx="68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9" name=""/>
            <p:cNvSpPr/>
            <p:nvPr/>
          </p:nvSpPr>
          <p:spPr>
            <a:xfrm>
              <a:off x="3813120" y="499752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5105520" y="4997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54 in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2733840" y="4495680"/>
            <a:ext cx="2656080" cy="1572120"/>
            <a:chOff x="2733840" y="4495680"/>
            <a:chExt cx="2656080" cy="1572120"/>
          </a:xfrm>
        </p:grpSpPr>
        <p:sp>
          <p:nvSpPr>
            <p:cNvPr id="1222" name=""/>
            <p:cNvSpPr/>
            <p:nvPr/>
          </p:nvSpPr>
          <p:spPr>
            <a:xfrm flipV="1">
              <a:off x="3097080" y="5409720"/>
              <a:ext cx="432000" cy="319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4419720" y="4876920"/>
              <a:ext cx="609480" cy="318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733840" y="54864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975920" y="44956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 &amp;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1476360"/>
            <a:ext cx="55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lculate the area of the circle sh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995480" y="2816280"/>
            <a:ext cx="40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diameter = 3½ f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711520" y="34732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dius = ½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6172200" y="1447920"/>
            <a:ext cx="1828800" cy="1828800"/>
            <a:chOff x="6172200" y="1447920"/>
            <a:chExt cx="1828800" cy="1828800"/>
          </a:xfrm>
        </p:grpSpPr>
        <p:sp>
          <p:nvSpPr>
            <p:cNvPr id="1231" name=""/>
            <p:cNvSpPr/>
            <p:nvPr/>
          </p:nvSpPr>
          <p:spPr>
            <a:xfrm>
              <a:off x="6172200" y="1447920"/>
              <a:ext cx="182880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172200" y="236232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048440" y="23241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492600" y="2400480"/>
              <a:ext cx="11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½ ft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744560" y="4114800"/>
            <a:ext cx="3633840" cy="1157760"/>
            <a:chOff x="1744560" y="4114800"/>
            <a:chExt cx="3633840" cy="1157760"/>
          </a:xfrm>
        </p:grpSpPr>
        <p:sp>
          <p:nvSpPr>
            <p:cNvPr id="1236" name=""/>
            <p:cNvSpPr/>
            <p:nvPr/>
          </p:nvSpPr>
          <p:spPr>
            <a:xfrm>
              <a:off x="1744560" y="4371840"/>
              <a:ext cx="190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radius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3700440" y="4114800"/>
              <a:ext cx="432000" cy="1157400"/>
              <a:chOff x="3700440" y="4114800"/>
              <a:chExt cx="432000" cy="1157400"/>
            </a:xfrm>
          </p:grpSpPr>
          <p:sp>
            <p:nvSpPr>
              <p:cNvPr id="1238" name=""/>
              <p:cNvSpPr/>
              <p:nvPr/>
            </p:nvSpPr>
            <p:spPr>
              <a:xfrm>
                <a:off x="3708720" y="4114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709440" y="4690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V="1">
                <a:off x="3700440" y="4690800"/>
                <a:ext cx="4320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4946760" y="4114800"/>
              <a:ext cx="431640" cy="1157760"/>
              <a:chOff x="4946760" y="4114800"/>
              <a:chExt cx="431640" cy="1157760"/>
            </a:xfrm>
          </p:grpSpPr>
          <p:sp>
            <p:nvSpPr>
              <p:cNvPr id="1242" name=""/>
              <p:cNvSpPr/>
              <p:nvPr/>
            </p:nvSpPr>
            <p:spPr>
              <a:xfrm>
                <a:off x="4955040" y="4114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955400" y="46911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946760" y="4691160"/>
                <a:ext cx="4316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>
              <a:off x="4184640" y="4371840"/>
              <a:ext cx="81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454720" y="4114800"/>
            <a:ext cx="1927800" cy="1157400"/>
            <a:chOff x="5454720" y="4114800"/>
            <a:chExt cx="1927800" cy="1157400"/>
          </a:xfrm>
        </p:grpSpPr>
        <p:sp>
          <p:nvSpPr>
            <p:cNvPr id="1247" name=""/>
            <p:cNvSpPr/>
            <p:nvPr/>
          </p:nvSpPr>
          <p:spPr>
            <a:xfrm>
              <a:off x="5454720" y="437184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8" name=""/>
            <p:cNvGrpSpPr/>
            <p:nvPr/>
          </p:nvGrpSpPr>
          <p:grpSpPr>
            <a:xfrm>
              <a:off x="5937480" y="4114800"/>
              <a:ext cx="431640" cy="1157400"/>
              <a:chOff x="5937480" y="4114800"/>
              <a:chExt cx="431640" cy="1157400"/>
            </a:xfrm>
          </p:grpSpPr>
          <p:sp>
            <p:nvSpPr>
              <p:cNvPr id="1249" name=""/>
              <p:cNvSpPr/>
              <p:nvPr/>
            </p:nvSpPr>
            <p:spPr>
              <a:xfrm>
                <a:off x="5945400" y="4114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946120" y="4690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V="1">
                <a:off x="5937480" y="4690800"/>
                <a:ext cx="43164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6445440" y="437184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3" name=""/>
            <p:cNvGrpSpPr/>
            <p:nvPr/>
          </p:nvGrpSpPr>
          <p:grpSpPr>
            <a:xfrm>
              <a:off x="6927840" y="4114800"/>
              <a:ext cx="454680" cy="1157400"/>
              <a:chOff x="6927840" y="4114800"/>
              <a:chExt cx="454680" cy="1157400"/>
            </a:xfrm>
          </p:grpSpPr>
          <p:sp>
            <p:nvSpPr>
              <p:cNvPr id="1254" name=""/>
              <p:cNvSpPr/>
              <p:nvPr/>
            </p:nvSpPr>
            <p:spPr>
              <a:xfrm>
                <a:off x="6968520" y="4114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936840" y="4690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927840" y="4690800"/>
                <a:ext cx="4320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7" name=""/>
          <p:cNvGrpSpPr/>
          <p:nvPr/>
        </p:nvGrpSpPr>
        <p:grpSpPr>
          <a:xfrm>
            <a:off x="3962520" y="5259240"/>
            <a:ext cx="1218600" cy="1157760"/>
            <a:chOff x="3962520" y="5259240"/>
            <a:chExt cx="1218600" cy="1157760"/>
          </a:xfrm>
        </p:grpSpPr>
        <p:sp>
          <p:nvSpPr>
            <p:cNvPr id="1258" name=""/>
            <p:cNvSpPr/>
            <p:nvPr/>
          </p:nvSpPr>
          <p:spPr>
            <a:xfrm>
              <a:off x="4419360" y="5516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ft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9" name=""/>
            <p:cNvGrpSpPr/>
            <p:nvPr/>
          </p:nvGrpSpPr>
          <p:grpSpPr>
            <a:xfrm>
              <a:off x="3962520" y="5259240"/>
              <a:ext cx="453960" cy="1157760"/>
              <a:chOff x="3962520" y="5259240"/>
              <a:chExt cx="453960" cy="1157760"/>
            </a:xfrm>
          </p:grpSpPr>
          <p:sp>
            <p:nvSpPr>
              <p:cNvPr id="1260" name=""/>
              <p:cNvSpPr/>
              <p:nvPr/>
            </p:nvSpPr>
            <p:spPr>
              <a:xfrm>
                <a:off x="4002480" y="5259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971160" y="58356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962520" y="5835600"/>
                <a:ext cx="43128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8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a of Trapezoids &amp; 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286000" y="15001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=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6172200" y="1447920"/>
            <a:ext cx="1828800" cy="1828800"/>
            <a:chOff x="6172200" y="1447920"/>
            <a:chExt cx="1828800" cy="1828800"/>
          </a:xfrm>
        </p:grpSpPr>
        <p:sp>
          <p:nvSpPr>
            <p:cNvPr id="1266" name=""/>
            <p:cNvSpPr/>
            <p:nvPr/>
          </p:nvSpPr>
          <p:spPr>
            <a:xfrm>
              <a:off x="6172200" y="1447920"/>
              <a:ext cx="1828800" cy="182880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048440" y="236232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048440" y="23241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9" name=""/>
            <p:cNvGrpSpPr/>
            <p:nvPr/>
          </p:nvGrpSpPr>
          <p:grpSpPr>
            <a:xfrm>
              <a:off x="6573960" y="2209680"/>
              <a:ext cx="1025280" cy="840600"/>
              <a:chOff x="6573960" y="2209680"/>
              <a:chExt cx="1025280" cy="840600"/>
            </a:xfrm>
          </p:grpSpPr>
          <p:sp>
            <p:nvSpPr>
              <p:cNvPr id="1270" name=""/>
              <p:cNvSpPr/>
              <p:nvPr/>
            </p:nvSpPr>
            <p:spPr>
              <a:xfrm>
                <a:off x="6967440" y="2370240"/>
                <a:ext cx="63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ft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1" name=""/>
              <p:cNvGrpSpPr/>
              <p:nvPr/>
            </p:nvGrpSpPr>
            <p:grpSpPr>
              <a:xfrm>
                <a:off x="6573960" y="2209680"/>
                <a:ext cx="431640" cy="840600"/>
                <a:chOff x="6573960" y="2209680"/>
                <a:chExt cx="431640" cy="84060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6613200" y="220968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6611400" y="25905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6573960" y="2633400"/>
                  <a:ext cx="431640" cy="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5" name=""/>
          <p:cNvGrpSpPr/>
          <p:nvPr/>
        </p:nvGrpSpPr>
        <p:grpSpPr>
          <a:xfrm>
            <a:off x="1600200" y="2286000"/>
            <a:ext cx="3262320" cy="1157760"/>
            <a:chOff x="1600200" y="2286000"/>
            <a:chExt cx="3262320" cy="1157760"/>
          </a:xfrm>
        </p:grpSpPr>
        <p:sp>
          <p:nvSpPr>
            <p:cNvPr id="1276" name=""/>
            <p:cNvSpPr/>
            <p:nvPr/>
          </p:nvSpPr>
          <p:spPr>
            <a:xfrm>
              <a:off x="1600200" y="254304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radius =     ft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7" name=""/>
            <p:cNvGrpSpPr/>
            <p:nvPr/>
          </p:nvGrpSpPr>
          <p:grpSpPr>
            <a:xfrm>
              <a:off x="3575160" y="2286000"/>
              <a:ext cx="454680" cy="1157760"/>
              <a:chOff x="3575160" y="2286000"/>
              <a:chExt cx="454680" cy="1157760"/>
            </a:xfrm>
          </p:grpSpPr>
          <p:sp>
            <p:nvSpPr>
              <p:cNvPr id="1278" name=""/>
              <p:cNvSpPr/>
              <p:nvPr/>
            </p:nvSpPr>
            <p:spPr>
              <a:xfrm>
                <a:off x="3615840" y="2286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583800" y="2862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575160" y="2862360"/>
                <a:ext cx="4316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1" name=""/>
          <p:cNvGrpSpPr/>
          <p:nvPr/>
        </p:nvGrpSpPr>
        <p:grpSpPr>
          <a:xfrm>
            <a:off x="1433520" y="3505320"/>
            <a:ext cx="3138480" cy="1157760"/>
            <a:chOff x="1433520" y="3505320"/>
            <a:chExt cx="3138480" cy="1157760"/>
          </a:xfrm>
        </p:grpSpPr>
        <p:sp>
          <p:nvSpPr>
            <p:cNvPr id="1282" name=""/>
            <p:cNvSpPr/>
            <p:nvPr/>
          </p:nvSpPr>
          <p:spPr>
            <a:xfrm>
              <a:off x="1433520" y="376236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3" name=""/>
            <p:cNvGrpSpPr/>
            <p:nvPr/>
          </p:nvGrpSpPr>
          <p:grpSpPr>
            <a:xfrm>
              <a:off x="2364120" y="3505320"/>
              <a:ext cx="646920" cy="1157760"/>
              <a:chOff x="2364120" y="3505320"/>
              <a:chExt cx="646920" cy="1157760"/>
            </a:xfrm>
          </p:grpSpPr>
          <p:sp>
            <p:nvSpPr>
              <p:cNvPr id="1284" name=""/>
              <p:cNvSpPr/>
              <p:nvPr/>
            </p:nvSpPr>
            <p:spPr>
              <a:xfrm>
                <a:off x="2364120" y="35053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2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480400" y="4081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V="1">
                <a:off x="2395440" y="4081320"/>
                <a:ext cx="58428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3643200" y="3505320"/>
              <a:ext cx="454680" cy="1157760"/>
              <a:chOff x="3643200" y="3505320"/>
              <a:chExt cx="454680" cy="1157760"/>
            </a:xfrm>
          </p:grpSpPr>
          <p:sp>
            <p:nvSpPr>
              <p:cNvPr id="1288" name=""/>
              <p:cNvSpPr/>
              <p:nvPr/>
            </p:nvSpPr>
            <p:spPr>
              <a:xfrm>
                <a:off x="3683880" y="35053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651840" y="4081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643200" y="4081680"/>
                <a:ext cx="43164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1" name=""/>
            <p:cNvSpPr/>
            <p:nvPr/>
          </p:nvSpPr>
          <p:spPr>
            <a:xfrm>
              <a:off x="3033720" y="376236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948120" y="3762360"/>
              <a:ext cx="6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4495680" y="3503520"/>
            <a:ext cx="3115080" cy="1159200"/>
            <a:chOff x="4495680" y="3503520"/>
            <a:chExt cx="3115080" cy="1159200"/>
          </a:xfrm>
        </p:grpSpPr>
        <p:grpSp>
          <p:nvGrpSpPr>
            <p:cNvPr id="1294" name=""/>
            <p:cNvGrpSpPr/>
            <p:nvPr/>
          </p:nvGrpSpPr>
          <p:grpSpPr>
            <a:xfrm>
              <a:off x="7156440" y="3503520"/>
              <a:ext cx="454320" cy="1157760"/>
              <a:chOff x="7156440" y="3503520"/>
              <a:chExt cx="454320" cy="1157760"/>
            </a:xfrm>
          </p:grpSpPr>
          <p:sp>
            <p:nvSpPr>
              <p:cNvPr id="1295" name=""/>
              <p:cNvSpPr/>
              <p:nvPr/>
            </p:nvSpPr>
            <p:spPr>
              <a:xfrm>
                <a:off x="7196760" y="35035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165080" y="40798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7156440" y="4079520"/>
                <a:ext cx="43164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5664240" y="376092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9" name=""/>
            <p:cNvGrpSpPr/>
            <p:nvPr/>
          </p:nvGrpSpPr>
          <p:grpSpPr>
            <a:xfrm>
              <a:off x="6146640" y="3503520"/>
              <a:ext cx="454680" cy="1157760"/>
              <a:chOff x="6146640" y="3503520"/>
              <a:chExt cx="454680" cy="1157760"/>
            </a:xfrm>
          </p:grpSpPr>
          <p:sp>
            <p:nvSpPr>
              <p:cNvPr id="1300" name=""/>
              <p:cNvSpPr/>
              <p:nvPr/>
            </p:nvSpPr>
            <p:spPr>
              <a:xfrm>
                <a:off x="6187320" y="35035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155640" y="40798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146640" y="4079880"/>
                <a:ext cx="43200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3" name=""/>
            <p:cNvSpPr/>
            <p:nvPr/>
          </p:nvSpPr>
          <p:spPr>
            <a:xfrm>
              <a:off x="4495680" y="376236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73680" y="376236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4943520" y="3505320"/>
              <a:ext cx="646920" cy="1157400"/>
              <a:chOff x="4943520" y="3505320"/>
              <a:chExt cx="646920" cy="1157400"/>
            </a:xfrm>
          </p:grpSpPr>
          <p:sp>
            <p:nvSpPr>
              <p:cNvPr id="1306" name=""/>
              <p:cNvSpPr/>
              <p:nvPr/>
            </p:nvSpPr>
            <p:spPr>
              <a:xfrm>
                <a:off x="4943520" y="35053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060160" y="40813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4975200" y="4080960"/>
                <a:ext cx="58428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9" name=""/>
          <p:cNvGrpSpPr/>
          <p:nvPr/>
        </p:nvGrpSpPr>
        <p:grpSpPr>
          <a:xfrm>
            <a:off x="4292640" y="5000760"/>
            <a:ext cx="1101240" cy="1157400"/>
            <a:chOff x="4292640" y="5000760"/>
            <a:chExt cx="1101240" cy="1157400"/>
          </a:xfrm>
        </p:grpSpPr>
        <p:sp>
          <p:nvSpPr>
            <p:cNvPr id="1310" name=""/>
            <p:cNvSpPr/>
            <p:nvPr/>
          </p:nvSpPr>
          <p:spPr>
            <a:xfrm>
              <a:off x="4292640" y="52578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1" name=""/>
            <p:cNvGrpSpPr/>
            <p:nvPr/>
          </p:nvGrpSpPr>
          <p:grpSpPr>
            <a:xfrm>
              <a:off x="4746960" y="5000760"/>
              <a:ext cx="646920" cy="1157400"/>
              <a:chOff x="4746960" y="5000760"/>
              <a:chExt cx="646920" cy="1157400"/>
            </a:xfrm>
          </p:grpSpPr>
          <p:sp>
            <p:nvSpPr>
              <p:cNvPr id="1312" name=""/>
              <p:cNvSpPr/>
              <p:nvPr/>
            </p:nvSpPr>
            <p:spPr>
              <a:xfrm>
                <a:off x="4746960" y="500076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7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862880" y="55767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V="1">
                <a:off x="4778280" y="5576400"/>
                <a:ext cx="5839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5" name=""/>
          <p:cNvGrpSpPr/>
          <p:nvPr/>
        </p:nvGrpSpPr>
        <p:grpSpPr>
          <a:xfrm>
            <a:off x="5410080" y="4998960"/>
            <a:ext cx="2136960" cy="1157760"/>
            <a:chOff x="5410080" y="4998960"/>
            <a:chExt cx="2136960" cy="1157760"/>
          </a:xfrm>
        </p:grpSpPr>
        <p:sp>
          <p:nvSpPr>
            <p:cNvPr id="1316" name=""/>
            <p:cNvSpPr/>
            <p:nvPr/>
          </p:nvSpPr>
          <p:spPr>
            <a:xfrm>
              <a:off x="6647040" y="5256360"/>
              <a:ext cx="9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ft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7" name=""/>
            <p:cNvGrpSpPr/>
            <p:nvPr/>
          </p:nvGrpSpPr>
          <p:grpSpPr>
            <a:xfrm>
              <a:off x="6248520" y="4998960"/>
              <a:ext cx="453960" cy="1157760"/>
              <a:chOff x="6248520" y="4998960"/>
              <a:chExt cx="453960" cy="1157760"/>
            </a:xfrm>
          </p:grpSpPr>
          <p:sp>
            <p:nvSpPr>
              <p:cNvPr id="1318" name=""/>
              <p:cNvSpPr/>
              <p:nvPr/>
            </p:nvSpPr>
            <p:spPr>
              <a:xfrm>
                <a:off x="6288480" y="4998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257160" y="55753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248520" y="5575320"/>
                <a:ext cx="431280" cy="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1" name=""/>
            <p:cNvSpPr/>
            <p:nvPr/>
          </p:nvSpPr>
          <p:spPr>
            <a:xfrm>
              <a:off x="5410080" y="5257800"/>
              <a:ext cx="90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1286280" y="4754520"/>
            <a:ext cx="2921040" cy="1572120"/>
            <a:chOff x="1286280" y="4754520"/>
            <a:chExt cx="2921040" cy="1572120"/>
          </a:xfrm>
        </p:grpSpPr>
        <p:grpSp>
          <p:nvGrpSpPr>
            <p:cNvPr id="1323" name=""/>
            <p:cNvGrpSpPr/>
            <p:nvPr/>
          </p:nvGrpSpPr>
          <p:grpSpPr>
            <a:xfrm>
              <a:off x="1540080" y="5000760"/>
              <a:ext cx="2667240" cy="1157400"/>
              <a:chOff x="1540080" y="5000760"/>
              <a:chExt cx="2667240" cy="1157400"/>
            </a:xfrm>
          </p:grpSpPr>
          <p:grpSp>
            <p:nvGrpSpPr>
              <p:cNvPr id="1324" name=""/>
              <p:cNvGrpSpPr/>
              <p:nvPr/>
            </p:nvGrpSpPr>
            <p:grpSpPr>
              <a:xfrm>
                <a:off x="3753000" y="5000760"/>
                <a:ext cx="454320" cy="1157400"/>
                <a:chOff x="3753000" y="5000760"/>
                <a:chExt cx="454320" cy="1157400"/>
              </a:xfrm>
            </p:grpSpPr>
            <p:sp>
              <p:nvSpPr>
                <p:cNvPr id="1325" name=""/>
                <p:cNvSpPr/>
                <p:nvPr/>
              </p:nvSpPr>
              <p:spPr>
                <a:xfrm>
                  <a:off x="3793320" y="50007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3761640" y="55767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flipV="1">
                  <a:off x="3753000" y="5576760"/>
                  <a:ext cx="431640" cy="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8" name=""/>
              <p:cNvSpPr/>
              <p:nvPr/>
            </p:nvSpPr>
            <p:spPr>
              <a:xfrm>
                <a:off x="2260440" y="5257800"/>
                <a:ext cx="381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9" name=""/>
              <p:cNvGrpSpPr/>
              <p:nvPr/>
            </p:nvGrpSpPr>
            <p:grpSpPr>
              <a:xfrm>
                <a:off x="2743200" y="5000760"/>
                <a:ext cx="454680" cy="1157400"/>
                <a:chOff x="2743200" y="5000760"/>
                <a:chExt cx="454680" cy="115740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2783880" y="50007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752200" y="55767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743200" y="5576760"/>
                  <a:ext cx="432000" cy="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"/>
              <p:cNvSpPr/>
              <p:nvPr/>
            </p:nvSpPr>
            <p:spPr>
              <a:xfrm>
                <a:off x="3270240" y="5257800"/>
                <a:ext cx="380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1540080" y="5000760"/>
                <a:ext cx="646920" cy="1157400"/>
                <a:chOff x="1540080" y="5000760"/>
                <a:chExt cx="646920" cy="115740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1540080" y="500076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2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1656720" y="557676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7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flipV="1">
                  <a:off x="1571760" y="5576400"/>
                  <a:ext cx="584280" cy="3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8" name=""/>
            <p:cNvGrpSpPr/>
            <p:nvPr/>
          </p:nvGrpSpPr>
          <p:grpSpPr>
            <a:xfrm>
              <a:off x="1286280" y="4754520"/>
              <a:ext cx="2242800" cy="1572120"/>
              <a:chOff x="1286280" y="4754520"/>
              <a:chExt cx="2242800" cy="1572120"/>
            </a:xfrm>
          </p:grpSpPr>
          <p:sp>
            <p:nvSpPr>
              <p:cNvPr id="1339" name=""/>
              <p:cNvSpPr/>
              <p:nvPr/>
            </p:nvSpPr>
            <p:spPr>
              <a:xfrm flipV="1">
                <a:off x="1636560" y="5707080"/>
                <a:ext cx="432000" cy="318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V="1">
                <a:off x="2781360" y="5708160"/>
                <a:ext cx="431640" cy="319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2781360" y="5105520"/>
                <a:ext cx="431640" cy="318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V="1">
                <a:off x="1549440" y="5105520"/>
                <a:ext cx="606240" cy="3189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286280" y="5745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396520" y="57452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3115080" y="47545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084760" y="47545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6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6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1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 txBox="1"/>
          <p:nvPr/>
        </p:nvSpPr>
        <p:spPr>
          <a:xfrm>
            <a:off x="609480" y="2286000"/>
            <a:ext cx="7925040" cy="32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implifying Polynomials</a:t>
            </a:r>
            <a:endParaRPr b="0" lang="en-US" sz="24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Containing Fractions</a:t>
            </a:r>
            <a:endParaRPr b="0" lang="en-US" sz="24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 rot="20355000">
            <a:off x="487440" y="1681920"/>
            <a:ext cx="2819520" cy="1312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Rememb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743200" y="2254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2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5)(3p + 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114800" y="2209680"/>
            <a:ext cx="457200" cy="64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048120" y="2317680"/>
            <a:ext cx="457200" cy="64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800600" y="2317680"/>
            <a:ext cx="457200" cy="565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791320" y="2317680"/>
            <a:ext cx="45720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86000" y="52578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196080" y="525780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8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379040" y="5257800"/>
            <a:ext cx="13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805360" y="525780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3276720" y="2005560"/>
            <a:ext cx="3930480" cy="891360"/>
            <a:chOff x="3276720" y="2005560"/>
            <a:chExt cx="3930480" cy="891360"/>
          </a:xfrm>
        </p:grpSpPr>
        <p:cxnSp>
          <p:nvCxnSpPr>
            <p:cNvPr id="1360" name=""/>
            <p:cNvCxnSpPr>
              <a:stCxn id="1352" idx="0"/>
              <a:endCxn id="1353" idx="0"/>
            </p:cNvCxnSpPr>
            <p:nvPr/>
          </p:nvCxnSpPr>
          <p:spPr>
            <a:xfrm flipH="1" rot="16200000">
              <a:off x="4151880" y="1441080"/>
              <a:ext cx="2520" cy="1753200"/>
            </a:xfrm>
            <a:prstGeom prst="curvedConnector5">
              <a:avLst>
                <a:gd name="adj1" fmla="val -14400000"/>
                <a:gd name="adj2" fmla="val 49989"/>
                <a:gd name="adj3" fmla="val -14400000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361" name=""/>
            <p:cNvSpPr/>
            <p:nvPr/>
          </p:nvSpPr>
          <p:spPr>
            <a:xfrm>
              <a:off x="6826320" y="225432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276720" y="1703160"/>
            <a:ext cx="4387680" cy="1193760"/>
            <a:chOff x="3276720" y="1703160"/>
            <a:chExt cx="4387680" cy="1193760"/>
          </a:xfrm>
        </p:grpSpPr>
        <p:cxnSp>
          <p:nvCxnSpPr>
            <p:cNvPr id="1363" name=""/>
            <p:cNvCxnSpPr>
              <a:stCxn id="1352" idx="0"/>
              <a:endCxn id="1354" idx="0"/>
            </p:cNvCxnSpPr>
            <p:nvPr/>
          </p:nvCxnSpPr>
          <p:spPr>
            <a:xfrm flipH="1" rot="16200000">
              <a:off x="4647240" y="945720"/>
              <a:ext cx="2520" cy="2743920"/>
            </a:xfrm>
            <a:prstGeom prst="curvedConnector5">
              <a:avLst>
                <a:gd name="adj1" fmla="val -28400000"/>
                <a:gd name="adj2" fmla="val 49993"/>
                <a:gd name="adj3" fmla="val -28400000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364" name=""/>
            <p:cNvSpPr/>
            <p:nvPr/>
          </p:nvSpPr>
          <p:spPr>
            <a:xfrm>
              <a:off x="7130880" y="22543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4342320" y="2254320"/>
            <a:ext cx="3702960" cy="859320"/>
            <a:chOff x="4342320" y="2254320"/>
            <a:chExt cx="3702960" cy="859320"/>
          </a:xfrm>
        </p:grpSpPr>
        <p:cxnSp>
          <p:nvCxnSpPr>
            <p:cNvPr id="1366" name=""/>
            <p:cNvCxnSpPr>
              <a:stCxn id="1351" idx="4"/>
              <a:endCxn id="1353" idx="4"/>
            </p:cNvCxnSpPr>
            <p:nvPr/>
          </p:nvCxnSpPr>
          <p:spPr>
            <a:xfrm flipH="1" rot="16200000">
              <a:off x="4669560" y="2523960"/>
              <a:ext cx="32400" cy="686520"/>
            </a:xfrm>
            <a:prstGeom prst="curvedConnector5">
              <a:avLst>
                <a:gd name="adj1" fmla="val 819101"/>
                <a:gd name="adj2" fmla="val 50000"/>
                <a:gd name="adj3" fmla="val 819101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367" name=""/>
            <p:cNvSpPr/>
            <p:nvPr/>
          </p:nvSpPr>
          <p:spPr>
            <a:xfrm>
              <a:off x="7512120" y="22543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4342320" y="2254320"/>
            <a:ext cx="4084200" cy="1068120"/>
            <a:chOff x="4342320" y="2254320"/>
            <a:chExt cx="4084200" cy="1068120"/>
          </a:xfrm>
        </p:grpSpPr>
        <p:cxnSp>
          <p:nvCxnSpPr>
            <p:cNvPr id="1369" name=""/>
            <p:cNvCxnSpPr>
              <a:stCxn id="1351" idx="4"/>
              <a:endCxn id="1354" idx="4"/>
            </p:cNvCxnSpPr>
            <p:nvPr/>
          </p:nvCxnSpPr>
          <p:spPr>
            <a:xfrm flipH="1" rot="16200000">
              <a:off x="5180040" y="2013480"/>
              <a:ext cx="2160" cy="1677240"/>
            </a:xfrm>
            <a:prstGeom prst="curvedConnector5">
              <a:avLst>
                <a:gd name="adj1" fmla="val 26180000"/>
                <a:gd name="adj2" fmla="val 50000"/>
                <a:gd name="adj3" fmla="val 26180000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370" name=""/>
            <p:cNvSpPr/>
            <p:nvPr/>
          </p:nvSpPr>
          <p:spPr>
            <a:xfrm>
              <a:off x="7893000" y="22543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990720" y="3473280"/>
            <a:ext cx="1904760" cy="1284120"/>
            <a:chOff x="990720" y="3473280"/>
            <a:chExt cx="1904760" cy="1284120"/>
          </a:xfrm>
        </p:grpSpPr>
        <p:sp>
          <p:nvSpPr>
            <p:cNvPr id="1372" name=""/>
            <p:cNvSpPr/>
            <p:nvPr/>
          </p:nvSpPr>
          <p:spPr>
            <a:xfrm>
              <a:off x="990720" y="4114800"/>
              <a:ext cx="190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• 3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734480" y="3473280"/>
              <a:ext cx="41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2819520" y="3473280"/>
            <a:ext cx="1981080" cy="1284120"/>
            <a:chOff x="2819520" y="3473280"/>
            <a:chExt cx="1981080" cy="1284120"/>
          </a:xfrm>
        </p:grpSpPr>
        <p:sp>
          <p:nvSpPr>
            <p:cNvPr id="1375" name=""/>
            <p:cNvSpPr/>
            <p:nvPr/>
          </p:nvSpPr>
          <p:spPr>
            <a:xfrm>
              <a:off x="2819520" y="411480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2p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• 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585600" y="3473280"/>
              <a:ext cx="53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4800600" y="3473280"/>
            <a:ext cx="1797120" cy="1284120"/>
            <a:chOff x="4800600" y="3473280"/>
            <a:chExt cx="1797120" cy="1284120"/>
          </a:xfrm>
        </p:grpSpPr>
        <p:sp>
          <p:nvSpPr>
            <p:cNvPr id="1378" name=""/>
            <p:cNvSpPr/>
            <p:nvPr/>
          </p:nvSpPr>
          <p:spPr>
            <a:xfrm>
              <a:off x="4800600" y="4114800"/>
              <a:ext cx="179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5 • 3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17360" y="3473280"/>
              <a:ext cx="33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0" name=""/>
          <p:cNvGrpSpPr/>
          <p:nvPr/>
        </p:nvGrpSpPr>
        <p:grpSpPr>
          <a:xfrm>
            <a:off x="6553080" y="3473280"/>
            <a:ext cx="1600200" cy="1284120"/>
            <a:chOff x="6553080" y="3473280"/>
            <a:chExt cx="1600200" cy="1284120"/>
          </a:xfrm>
        </p:grpSpPr>
        <p:sp>
          <p:nvSpPr>
            <p:cNvPr id="1381" name=""/>
            <p:cNvSpPr/>
            <p:nvPr/>
          </p:nvSpPr>
          <p:spPr>
            <a:xfrm>
              <a:off x="6553080" y="41148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5 • 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131240" y="3473280"/>
              <a:ext cx="42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2438280" y="2239920"/>
            <a:ext cx="4267440" cy="1114560"/>
            <a:chOff x="2438280" y="2239920"/>
            <a:chExt cx="4267440" cy="1114560"/>
          </a:xfrm>
        </p:grpSpPr>
        <p:grpSp>
          <p:nvGrpSpPr>
            <p:cNvPr id="1385" name=""/>
            <p:cNvGrpSpPr/>
            <p:nvPr/>
          </p:nvGrpSpPr>
          <p:grpSpPr>
            <a:xfrm>
              <a:off x="4724280" y="2239920"/>
              <a:ext cx="533160" cy="1114560"/>
              <a:chOff x="4724280" y="2239920"/>
              <a:chExt cx="533160" cy="1114560"/>
            </a:xfrm>
          </p:grpSpPr>
          <p:sp>
            <p:nvSpPr>
              <p:cNvPr id="1386" name=""/>
              <p:cNvSpPr/>
              <p:nvPr/>
            </p:nvSpPr>
            <p:spPr>
              <a:xfrm>
                <a:off x="4724280" y="22399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724280" y="27730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724280" y="280332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2743200" y="2239920"/>
              <a:ext cx="533520" cy="1114560"/>
              <a:chOff x="2743200" y="2239920"/>
              <a:chExt cx="533520" cy="1114560"/>
            </a:xfrm>
          </p:grpSpPr>
          <p:sp>
            <p:nvSpPr>
              <p:cNvPr id="1390" name=""/>
              <p:cNvSpPr/>
              <p:nvPr/>
            </p:nvSpPr>
            <p:spPr>
              <a:xfrm>
                <a:off x="2743200" y="2239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743200" y="277308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743200" y="280332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3" name=""/>
            <p:cNvSpPr/>
            <p:nvPr/>
          </p:nvSpPr>
          <p:spPr>
            <a:xfrm>
              <a:off x="2438280" y="2474640"/>
              <a:ext cx="3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276720" y="2468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+ 1)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257800" y="246816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+ 5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533520" y="4114800"/>
            <a:ext cx="2306880" cy="1839960"/>
            <a:chOff x="533520" y="4114800"/>
            <a:chExt cx="2306880" cy="1839960"/>
          </a:xfrm>
        </p:grpSpPr>
        <p:grpSp>
          <p:nvGrpSpPr>
            <p:cNvPr id="1397" name=""/>
            <p:cNvGrpSpPr/>
            <p:nvPr/>
          </p:nvGrpSpPr>
          <p:grpSpPr>
            <a:xfrm>
              <a:off x="533520" y="4840200"/>
              <a:ext cx="2306880" cy="1114560"/>
              <a:chOff x="533520" y="4840200"/>
              <a:chExt cx="2306880" cy="1114560"/>
            </a:xfrm>
          </p:grpSpPr>
          <p:grpSp>
            <p:nvGrpSpPr>
              <p:cNvPr id="1398" name=""/>
              <p:cNvGrpSpPr/>
              <p:nvPr/>
            </p:nvGrpSpPr>
            <p:grpSpPr>
              <a:xfrm>
                <a:off x="533520" y="4840200"/>
                <a:ext cx="533520" cy="1114560"/>
                <a:chOff x="533520" y="4840200"/>
                <a:chExt cx="533520" cy="111456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533520" y="484020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533520" y="537336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533520" y="54036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1866960" y="4840200"/>
                <a:ext cx="533520" cy="1114560"/>
                <a:chOff x="1866960" y="4840200"/>
                <a:chExt cx="533520" cy="111456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1866960" y="484020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1866960" y="537336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866960" y="54036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6" name=""/>
              <p:cNvSpPr/>
              <p:nvPr/>
            </p:nvSpPr>
            <p:spPr>
              <a:xfrm>
                <a:off x="1028880" y="507528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417400" y="507528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8" name=""/>
            <p:cNvSpPr/>
            <p:nvPr/>
          </p:nvSpPr>
          <p:spPr>
            <a:xfrm>
              <a:off x="1465200" y="4114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2895480" y="4114800"/>
            <a:ext cx="2286000" cy="1839960"/>
            <a:chOff x="2895480" y="4114800"/>
            <a:chExt cx="2286000" cy="1839960"/>
          </a:xfrm>
        </p:grpSpPr>
        <p:grpSp>
          <p:nvGrpSpPr>
            <p:cNvPr id="1410" name=""/>
            <p:cNvGrpSpPr/>
            <p:nvPr/>
          </p:nvGrpSpPr>
          <p:grpSpPr>
            <a:xfrm>
              <a:off x="2895480" y="4840200"/>
              <a:ext cx="2286000" cy="1114560"/>
              <a:chOff x="2895480" y="4840200"/>
              <a:chExt cx="2286000" cy="1114560"/>
            </a:xfrm>
          </p:grpSpPr>
          <p:sp>
            <p:nvSpPr>
              <p:cNvPr id="1411" name=""/>
              <p:cNvSpPr/>
              <p:nvPr/>
            </p:nvSpPr>
            <p:spPr>
              <a:xfrm>
                <a:off x="2895480" y="5076720"/>
                <a:ext cx="380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2" name=""/>
              <p:cNvGrpSpPr/>
              <p:nvPr/>
            </p:nvGrpSpPr>
            <p:grpSpPr>
              <a:xfrm>
                <a:off x="3390840" y="4840200"/>
                <a:ext cx="533160" cy="1114560"/>
                <a:chOff x="3390840" y="4840200"/>
                <a:chExt cx="533160" cy="111456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3390840" y="4840200"/>
                  <a:ext cx="53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3390840" y="5373360"/>
                  <a:ext cx="53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3390840" y="5403600"/>
                  <a:ext cx="533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6" name=""/>
              <p:cNvSpPr/>
              <p:nvPr/>
            </p:nvSpPr>
            <p:spPr>
              <a:xfrm>
                <a:off x="3924000" y="5076720"/>
                <a:ext cx="125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• 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7" name=""/>
            <p:cNvSpPr/>
            <p:nvPr/>
          </p:nvSpPr>
          <p:spPr>
            <a:xfrm>
              <a:off x="3809880" y="4114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5105520" y="4114800"/>
            <a:ext cx="2115000" cy="2151720"/>
            <a:chOff x="5105520" y="4114800"/>
            <a:chExt cx="2115000" cy="2151720"/>
          </a:xfrm>
        </p:grpSpPr>
        <p:grpSp>
          <p:nvGrpSpPr>
            <p:cNvPr id="1419" name=""/>
            <p:cNvGrpSpPr/>
            <p:nvPr/>
          </p:nvGrpSpPr>
          <p:grpSpPr>
            <a:xfrm>
              <a:off x="5105520" y="4840200"/>
              <a:ext cx="2115000" cy="1426320"/>
              <a:chOff x="5105520" y="4840200"/>
              <a:chExt cx="2115000" cy="1426320"/>
            </a:xfrm>
          </p:grpSpPr>
          <p:sp>
            <p:nvSpPr>
              <p:cNvPr id="1420" name=""/>
              <p:cNvSpPr/>
              <p:nvPr/>
            </p:nvSpPr>
            <p:spPr>
              <a:xfrm>
                <a:off x="5105520" y="5075280"/>
                <a:ext cx="1066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+ 1 •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1" name=""/>
              <p:cNvGrpSpPr/>
              <p:nvPr/>
            </p:nvGrpSpPr>
            <p:grpSpPr>
              <a:xfrm>
                <a:off x="6248520" y="4840200"/>
                <a:ext cx="533160" cy="1114560"/>
                <a:chOff x="6248520" y="4840200"/>
                <a:chExt cx="533160" cy="111456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6248520" y="4840200"/>
                  <a:ext cx="53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6248520" y="5373360"/>
                  <a:ext cx="53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6248520" y="5403600"/>
                  <a:ext cx="533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5" name=""/>
              <p:cNvSpPr/>
              <p:nvPr/>
            </p:nvSpPr>
            <p:spPr>
              <a:xfrm>
                <a:off x="6797520" y="507528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6" name=""/>
            <p:cNvSpPr/>
            <p:nvPr/>
          </p:nvSpPr>
          <p:spPr>
            <a:xfrm>
              <a:off x="5942160" y="4114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7162920" y="4114800"/>
            <a:ext cx="1523880" cy="1602720"/>
            <a:chOff x="7162920" y="4114800"/>
            <a:chExt cx="1523880" cy="1602720"/>
          </a:xfrm>
        </p:grpSpPr>
        <p:sp>
          <p:nvSpPr>
            <p:cNvPr id="1428" name=""/>
            <p:cNvSpPr/>
            <p:nvPr/>
          </p:nvSpPr>
          <p:spPr>
            <a:xfrm>
              <a:off x="7162920" y="507492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1 • 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696080" y="4114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2743200" y="2270160"/>
            <a:ext cx="533520" cy="1082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962520" y="2438280"/>
            <a:ext cx="533160" cy="635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724280" y="2209680"/>
            <a:ext cx="533520" cy="1082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19920" y="2514600"/>
            <a:ext cx="533160" cy="550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2590920" y="1828800"/>
            <a:ext cx="2400120" cy="642600"/>
            <a:chOff x="2590920" y="1828800"/>
            <a:chExt cx="2400120" cy="642600"/>
          </a:xfrm>
        </p:grpSpPr>
        <p:cxnSp>
          <p:nvCxnSpPr>
            <p:cNvPr id="1435" name=""/>
            <p:cNvCxnSpPr>
              <a:stCxn id="1430" idx="0"/>
              <a:endCxn id="1432" idx="0"/>
            </p:cNvCxnSpPr>
            <p:nvPr/>
          </p:nvCxnSpPr>
          <p:spPr>
            <a:xfrm flipH="1" flipV="1" rot="5400000">
              <a:off x="3969720" y="1248840"/>
              <a:ext cx="61200" cy="1981800"/>
            </a:xfrm>
            <a:prstGeom prst="curvedConnector5">
              <a:avLst>
                <a:gd name="adj1" fmla="val 478698"/>
                <a:gd name="adj2" fmla="val 50000"/>
                <a:gd name="adj3" fmla="val 478698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436" name=""/>
            <p:cNvSpPr/>
            <p:nvPr/>
          </p:nvSpPr>
          <p:spPr>
            <a:xfrm>
              <a:off x="2590920" y="1828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3009960" y="1568520"/>
            <a:ext cx="3389400" cy="945000"/>
            <a:chOff x="3009960" y="1568520"/>
            <a:chExt cx="3389400" cy="945000"/>
          </a:xfrm>
        </p:grpSpPr>
        <p:cxnSp>
          <p:nvCxnSpPr>
            <p:cNvPr id="1438" name=""/>
            <p:cNvCxnSpPr>
              <a:stCxn id="1430" idx="0"/>
              <a:endCxn id="1433" idx="0"/>
            </p:cNvCxnSpPr>
            <p:nvPr/>
          </p:nvCxnSpPr>
          <p:spPr>
            <a:xfrm flipH="1" rot="16200000">
              <a:off x="4526280" y="752400"/>
              <a:ext cx="244800" cy="3277440"/>
            </a:xfrm>
            <a:prstGeom prst="curvedConnector5">
              <a:avLst>
                <a:gd name="adj1" fmla="val -223564"/>
                <a:gd name="adj2" fmla="val 49994"/>
                <a:gd name="adj3" fmla="val -223564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439" name=""/>
            <p:cNvSpPr/>
            <p:nvPr/>
          </p:nvSpPr>
          <p:spPr>
            <a:xfrm>
              <a:off x="5942160" y="15685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3809880" y="2940120"/>
            <a:ext cx="1181520" cy="642600"/>
            <a:chOff x="3809880" y="2940120"/>
            <a:chExt cx="1181520" cy="642600"/>
          </a:xfrm>
        </p:grpSpPr>
        <p:cxnSp>
          <p:nvCxnSpPr>
            <p:cNvPr id="1441" name=""/>
            <p:cNvCxnSpPr>
              <a:stCxn id="1431" idx="4"/>
              <a:endCxn id="1432" idx="4"/>
            </p:cNvCxnSpPr>
            <p:nvPr/>
          </p:nvCxnSpPr>
          <p:spPr>
            <a:xfrm flipH="1" rot="16200000">
              <a:off x="4500360" y="2801520"/>
              <a:ext cx="219960" cy="762480"/>
            </a:xfrm>
            <a:prstGeom prst="curvedConnector5">
              <a:avLst>
                <a:gd name="adj1" fmla="val 204262"/>
                <a:gd name="adj2" fmla="val 49976"/>
                <a:gd name="adj3" fmla="val 204262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442" name=""/>
            <p:cNvSpPr/>
            <p:nvPr/>
          </p:nvSpPr>
          <p:spPr>
            <a:xfrm>
              <a:off x="3809880" y="2940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4228200" y="3065040"/>
            <a:ext cx="2401200" cy="854280"/>
            <a:chOff x="4228200" y="3065040"/>
            <a:chExt cx="2401200" cy="854280"/>
          </a:xfrm>
        </p:grpSpPr>
        <p:cxnSp>
          <p:nvCxnSpPr>
            <p:cNvPr id="1444" name=""/>
            <p:cNvCxnSpPr>
              <a:stCxn id="1431" idx="4"/>
              <a:endCxn id="1433" idx="4"/>
            </p:cNvCxnSpPr>
            <p:nvPr/>
          </p:nvCxnSpPr>
          <p:spPr>
            <a:xfrm flipH="1" flipV="1" rot="5400000">
              <a:off x="5252400" y="2040480"/>
              <a:ext cx="8640" cy="2057760"/>
            </a:xfrm>
            <a:prstGeom prst="curvedConnector5">
              <a:avLst>
                <a:gd name="adj1" fmla="val -9278260"/>
                <a:gd name="adj2" fmla="val 49991"/>
                <a:gd name="adj3" fmla="val -9278260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445" name=""/>
            <p:cNvSpPr/>
            <p:nvPr/>
          </p:nvSpPr>
          <p:spPr>
            <a:xfrm>
              <a:off x="6172200" y="32767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6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228600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aluate expressions with negative ex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533520" y="1295280"/>
            <a:ext cx="8153280" cy="1959840"/>
            <a:chOff x="533520" y="1295280"/>
            <a:chExt cx="8153280" cy="1959840"/>
          </a:xfrm>
        </p:grpSpPr>
        <p:grpSp>
          <p:nvGrpSpPr>
            <p:cNvPr id="1448" name=""/>
            <p:cNvGrpSpPr/>
            <p:nvPr/>
          </p:nvGrpSpPr>
          <p:grpSpPr>
            <a:xfrm>
              <a:off x="533520" y="1828800"/>
              <a:ext cx="2306880" cy="1114560"/>
              <a:chOff x="533520" y="1828800"/>
              <a:chExt cx="2306880" cy="1114560"/>
            </a:xfrm>
          </p:grpSpPr>
          <p:grpSp>
            <p:nvGrpSpPr>
              <p:cNvPr id="1449" name=""/>
              <p:cNvGrpSpPr/>
              <p:nvPr/>
            </p:nvGrpSpPr>
            <p:grpSpPr>
              <a:xfrm>
                <a:off x="533520" y="1828800"/>
                <a:ext cx="533520" cy="1114560"/>
                <a:chOff x="533520" y="1828800"/>
                <a:chExt cx="533520" cy="1114560"/>
              </a:xfrm>
            </p:grpSpPr>
            <p:sp>
              <p:nvSpPr>
                <p:cNvPr id="1450" name=""/>
                <p:cNvSpPr/>
                <p:nvPr/>
              </p:nvSpPr>
              <p:spPr>
                <a:xfrm>
                  <a:off x="533520" y="182880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533520" y="236196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533520" y="23922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3" name=""/>
              <p:cNvGrpSpPr/>
              <p:nvPr/>
            </p:nvGrpSpPr>
            <p:grpSpPr>
              <a:xfrm>
                <a:off x="1866960" y="1828800"/>
                <a:ext cx="533520" cy="1114560"/>
                <a:chOff x="1866960" y="1828800"/>
                <a:chExt cx="533520" cy="111456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1866960" y="182880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1866960" y="236196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1866960" y="23922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7" name=""/>
              <p:cNvSpPr/>
              <p:nvPr/>
            </p:nvSpPr>
            <p:spPr>
              <a:xfrm>
                <a:off x="1028880" y="206388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417400" y="206388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9" name=""/>
            <p:cNvSpPr/>
            <p:nvPr/>
          </p:nvSpPr>
          <p:spPr>
            <a:xfrm>
              <a:off x="1465200" y="12952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0" name=""/>
            <p:cNvGrpSpPr/>
            <p:nvPr/>
          </p:nvGrpSpPr>
          <p:grpSpPr>
            <a:xfrm>
              <a:off x="2895480" y="1828800"/>
              <a:ext cx="2286000" cy="1114560"/>
              <a:chOff x="2895480" y="1828800"/>
              <a:chExt cx="2286000" cy="1114560"/>
            </a:xfrm>
          </p:grpSpPr>
          <p:sp>
            <p:nvSpPr>
              <p:cNvPr id="1461" name=""/>
              <p:cNvSpPr/>
              <p:nvPr/>
            </p:nvSpPr>
            <p:spPr>
              <a:xfrm>
                <a:off x="2895480" y="2065320"/>
                <a:ext cx="380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2" name=""/>
              <p:cNvGrpSpPr/>
              <p:nvPr/>
            </p:nvGrpSpPr>
            <p:grpSpPr>
              <a:xfrm>
                <a:off x="3390840" y="1828800"/>
                <a:ext cx="533160" cy="1114560"/>
                <a:chOff x="3390840" y="1828800"/>
                <a:chExt cx="533160" cy="1114560"/>
              </a:xfrm>
            </p:grpSpPr>
            <p:sp>
              <p:nvSpPr>
                <p:cNvPr id="1463" name=""/>
                <p:cNvSpPr/>
                <p:nvPr/>
              </p:nvSpPr>
              <p:spPr>
                <a:xfrm>
                  <a:off x="3390840" y="1828800"/>
                  <a:ext cx="53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3390840" y="2361960"/>
                  <a:ext cx="53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3390840" y="2392200"/>
                  <a:ext cx="533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6" name=""/>
              <p:cNvSpPr/>
              <p:nvPr/>
            </p:nvSpPr>
            <p:spPr>
              <a:xfrm>
                <a:off x="3924000" y="2065320"/>
                <a:ext cx="125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• 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>
              <a:off x="3809880" y="12952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5105520" y="1828800"/>
              <a:ext cx="2115000" cy="1426320"/>
              <a:chOff x="5105520" y="1828800"/>
              <a:chExt cx="2115000" cy="1426320"/>
            </a:xfrm>
          </p:grpSpPr>
          <p:sp>
            <p:nvSpPr>
              <p:cNvPr id="1469" name=""/>
              <p:cNvSpPr/>
              <p:nvPr/>
            </p:nvSpPr>
            <p:spPr>
              <a:xfrm>
                <a:off x="5105520" y="2063880"/>
                <a:ext cx="1066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+ 1 •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0" name=""/>
              <p:cNvGrpSpPr/>
              <p:nvPr/>
            </p:nvGrpSpPr>
            <p:grpSpPr>
              <a:xfrm>
                <a:off x="6248520" y="1828800"/>
                <a:ext cx="533160" cy="1114560"/>
                <a:chOff x="6248520" y="1828800"/>
                <a:chExt cx="533160" cy="111456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6248520" y="1828800"/>
                  <a:ext cx="53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6248520" y="2361960"/>
                  <a:ext cx="53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6248520" y="2392200"/>
                  <a:ext cx="533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4" name=""/>
              <p:cNvSpPr/>
              <p:nvPr/>
            </p:nvSpPr>
            <p:spPr>
              <a:xfrm>
                <a:off x="6797520" y="2063880"/>
                <a:ext cx="42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>
              <a:off x="5942160" y="12952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162920" y="206388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1 • 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696080" y="12952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1905120" y="3124080"/>
            <a:ext cx="1334520" cy="1114560"/>
            <a:chOff x="1905120" y="3124080"/>
            <a:chExt cx="1334520" cy="1114560"/>
          </a:xfrm>
        </p:grpSpPr>
        <p:grpSp>
          <p:nvGrpSpPr>
            <p:cNvPr id="1479" name=""/>
            <p:cNvGrpSpPr/>
            <p:nvPr/>
          </p:nvGrpSpPr>
          <p:grpSpPr>
            <a:xfrm>
              <a:off x="1905120" y="3124080"/>
              <a:ext cx="685440" cy="1114560"/>
              <a:chOff x="1905120" y="3124080"/>
              <a:chExt cx="685440" cy="1114560"/>
            </a:xfrm>
          </p:grpSpPr>
          <p:sp>
            <p:nvSpPr>
              <p:cNvPr id="1480" name=""/>
              <p:cNvSpPr/>
              <p:nvPr/>
            </p:nvSpPr>
            <p:spPr>
              <a:xfrm>
                <a:off x="1981080" y="3124080"/>
                <a:ext cx="532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905120" y="3657240"/>
                <a:ext cx="68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942920" y="368748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3" name=""/>
            <p:cNvSpPr/>
            <p:nvPr/>
          </p:nvSpPr>
          <p:spPr>
            <a:xfrm>
              <a:off x="2514240" y="3358800"/>
              <a:ext cx="72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3200400" y="3124080"/>
            <a:ext cx="1600200" cy="1114560"/>
            <a:chOff x="3200400" y="3124080"/>
            <a:chExt cx="1600200" cy="1114560"/>
          </a:xfrm>
        </p:grpSpPr>
        <p:sp>
          <p:nvSpPr>
            <p:cNvPr id="1485" name=""/>
            <p:cNvSpPr/>
            <p:nvPr/>
          </p:nvSpPr>
          <p:spPr>
            <a:xfrm>
              <a:off x="3200400" y="336060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6" name=""/>
            <p:cNvGrpSpPr/>
            <p:nvPr/>
          </p:nvGrpSpPr>
          <p:grpSpPr>
            <a:xfrm>
              <a:off x="3695760" y="3124080"/>
              <a:ext cx="533160" cy="1114560"/>
              <a:chOff x="3695760" y="3124080"/>
              <a:chExt cx="533160" cy="1114560"/>
            </a:xfrm>
          </p:grpSpPr>
          <p:sp>
            <p:nvSpPr>
              <p:cNvPr id="1487" name=""/>
              <p:cNvSpPr/>
              <p:nvPr/>
            </p:nvSpPr>
            <p:spPr>
              <a:xfrm>
                <a:off x="3695760" y="31240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695760" y="365724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695760" y="36874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0" name=""/>
            <p:cNvSpPr/>
            <p:nvPr/>
          </p:nvSpPr>
          <p:spPr>
            <a:xfrm>
              <a:off x="4228920" y="3360600"/>
              <a:ext cx="57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4724280" y="3124080"/>
            <a:ext cx="1660680" cy="1114560"/>
            <a:chOff x="4724280" y="3124080"/>
            <a:chExt cx="1660680" cy="1114560"/>
          </a:xfrm>
        </p:grpSpPr>
        <p:sp>
          <p:nvSpPr>
            <p:cNvPr id="1492" name=""/>
            <p:cNvSpPr/>
            <p:nvPr/>
          </p:nvSpPr>
          <p:spPr>
            <a:xfrm>
              <a:off x="4724280" y="3358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5337000" y="3124080"/>
              <a:ext cx="533160" cy="1114560"/>
              <a:chOff x="5337000" y="3124080"/>
              <a:chExt cx="533160" cy="1114560"/>
            </a:xfrm>
          </p:grpSpPr>
          <p:sp>
            <p:nvSpPr>
              <p:cNvPr id="1494" name=""/>
              <p:cNvSpPr/>
              <p:nvPr/>
            </p:nvSpPr>
            <p:spPr>
              <a:xfrm>
                <a:off x="5337000" y="31240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337000" y="365724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337000" y="36874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"/>
            <p:cNvSpPr/>
            <p:nvPr/>
          </p:nvSpPr>
          <p:spPr>
            <a:xfrm>
              <a:off x="5961960" y="33588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8" name=""/>
          <p:cNvSpPr/>
          <p:nvPr/>
        </p:nvSpPr>
        <p:spPr>
          <a:xfrm>
            <a:off x="6399360" y="3359160"/>
            <a:ext cx="8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9" name=""/>
          <p:cNvGrpSpPr/>
          <p:nvPr/>
        </p:nvGrpSpPr>
        <p:grpSpPr>
          <a:xfrm>
            <a:off x="2131920" y="4602240"/>
            <a:ext cx="1335240" cy="1114560"/>
            <a:chOff x="2131920" y="4602240"/>
            <a:chExt cx="1335240" cy="1114560"/>
          </a:xfrm>
        </p:grpSpPr>
        <p:grpSp>
          <p:nvGrpSpPr>
            <p:cNvPr id="1500" name=""/>
            <p:cNvGrpSpPr/>
            <p:nvPr/>
          </p:nvGrpSpPr>
          <p:grpSpPr>
            <a:xfrm>
              <a:off x="2131920" y="4602240"/>
              <a:ext cx="685800" cy="1114560"/>
              <a:chOff x="2131920" y="4602240"/>
              <a:chExt cx="685800" cy="1114560"/>
            </a:xfrm>
          </p:grpSpPr>
          <p:sp>
            <p:nvSpPr>
              <p:cNvPr id="1501" name=""/>
              <p:cNvSpPr/>
              <p:nvPr/>
            </p:nvSpPr>
            <p:spPr>
              <a:xfrm>
                <a:off x="2208240" y="460224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131920" y="513540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2170080" y="516564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4" name=""/>
            <p:cNvSpPr/>
            <p:nvPr/>
          </p:nvSpPr>
          <p:spPr>
            <a:xfrm>
              <a:off x="2741400" y="4836960"/>
              <a:ext cx="72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3387600" y="4602240"/>
            <a:ext cx="2855880" cy="1114560"/>
            <a:chOff x="3387600" y="4602240"/>
            <a:chExt cx="2855880" cy="1114560"/>
          </a:xfrm>
        </p:grpSpPr>
        <p:sp>
          <p:nvSpPr>
            <p:cNvPr id="1506" name=""/>
            <p:cNvSpPr/>
            <p:nvPr/>
          </p:nvSpPr>
          <p:spPr>
            <a:xfrm>
              <a:off x="3387600" y="4838760"/>
              <a:ext cx="72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7" name=""/>
            <p:cNvGrpSpPr/>
            <p:nvPr/>
          </p:nvGrpSpPr>
          <p:grpSpPr>
            <a:xfrm>
              <a:off x="3998880" y="4602240"/>
              <a:ext cx="533520" cy="1114560"/>
              <a:chOff x="3998880" y="4602240"/>
              <a:chExt cx="533520" cy="1114560"/>
            </a:xfrm>
          </p:grpSpPr>
          <p:sp>
            <p:nvSpPr>
              <p:cNvPr id="1508" name=""/>
              <p:cNvSpPr/>
              <p:nvPr/>
            </p:nvSpPr>
            <p:spPr>
              <a:xfrm>
                <a:off x="3998880" y="460224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998880" y="51354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998880" y="516564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1" name=""/>
            <p:cNvSpPr/>
            <p:nvPr/>
          </p:nvSpPr>
          <p:spPr>
            <a:xfrm>
              <a:off x="4570200" y="48369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2" name=""/>
            <p:cNvGrpSpPr/>
            <p:nvPr/>
          </p:nvGrpSpPr>
          <p:grpSpPr>
            <a:xfrm>
              <a:off x="5180040" y="4602240"/>
              <a:ext cx="533160" cy="1114560"/>
              <a:chOff x="5180040" y="4602240"/>
              <a:chExt cx="533160" cy="1114560"/>
            </a:xfrm>
          </p:grpSpPr>
          <p:sp>
            <p:nvSpPr>
              <p:cNvPr id="1513" name=""/>
              <p:cNvSpPr/>
              <p:nvPr/>
            </p:nvSpPr>
            <p:spPr>
              <a:xfrm>
                <a:off x="5180040" y="460224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180040" y="513540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180040" y="516564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6" name=""/>
            <p:cNvSpPr/>
            <p:nvPr/>
          </p:nvSpPr>
          <p:spPr>
            <a:xfrm>
              <a:off x="5560920" y="4836960"/>
              <a:ext cx="68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)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7" name=""/>
          <p:cNvSpPr/>
          <p:nvPr/>
        </p:nvSpPr>
        <p:spPr>
          <a:xfrm>
            <a:off x="6170760" y="4836960"/>
            <a:ext cx="8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"/>
          <p:cNvGrpSpPr/>
          <p:nvPr/>
        </p:nvGrpSpPr>
        <p:grpSpPr>
          <a:xfrm>
            <a:off x="2131920" y="1828800"/>
            <a:ext cx="4878360" cy="1114560"/>
            <a:chOff x="2131920" y="1828800"/>
            <a:chExt cx="4878360" cy="1114560"/>
          </a:xfrm>
        </p:grpSpPr>
        <p:grpSp>
          <p:nvGrpSpPr>
            <p:cNvPr id="1519" name=""/>
            <p:cNvGrpSpPr/>
            <p:nvPr/>
          </p:nvGrpSpPr>
          <p:grpSpPr>
            <a:xfrm>
              <a:off x="2131920" y="1828800"/>
              <a:ext cx="1335240" cy="1114560"/>
              <a:chOff x="2131920" y="1828800"/>
              <a:chExt cx="1335240" cy="1114560"/>
            </a:xfrm>
          </p:grpSpPr>
          <p:grpSp>
            <p:nvGrpSpPr>
              <p:cNvPr id="1520" name=""/>
              <p:cNvGrpSpPr/>
              <p:nvPr/>
            </p:nvGrpSpPr>
            <p:grpSpPr>
              <a:xfrm>
                <a:off x="2131920" y="1828800"/>
                <a:ext cx="685800" cy="1114560"/>
                <a:chOff x="2131920" y="1828800"/>
                <a:chExt cx="685800" cy="111456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2208240" y="1828800"/>
                  <a:ext cx="53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2131920" y="2361960"/>
                  <a:ext cx="685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2170080" y="239220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4" name=""/>
              <p:cNvSpPr/>
              <p:nvPr/>
            </p:nvSpPr>
            <p:spPr>
              <a:xfrm>
                <a:off x="2741400" y="2063520"/>
                <a:ext cx="725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3387600" y="1828800"/>
              <a:ext cx="2855880" cy="1114560"/>
              <a:chOff x="3387600" y="1828800"/>
              <a:chExt cx="2855880" cy="1114560"/>
            </a:xfrm>
          </p:grpSpPr>
          <p:sp>
            <p:nvSpPr>
              <p:cNvPr id="1526" name=""/>
              <p:cNvSpPr/>
              <p:nvPr/>
            </p:nvSpPr>
            <p:spPr>
              <a:xfrm>
                <a:off x="3387600" y="2065320"/>
                <a:ext cx="725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+ (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3998880" y="1828800"/>
                <a:ext cx="533520" cy="1114560"/>
                <a:chOff x="3998880" y="1828800"/>
                <a:chExt cx="533520" cy="111456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3998880" y="182880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998880" y="236196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3998880" y="239220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1" name=""/>
              <p:cNvSpPr/>
              <p:nvPr/>
            </p:nvSpPr>
            <p:spPr>
              <a:xfrm>
                <a:off x="4570200" y="20635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2" name=""/>
              <p:cNvGrpSpPr/>
              <p:nvPr/>
            </p:nvGrpSpPr>
            <p:grpSpPr>
              <a:xfrm>
                <a:off x="5180040" y="1828800"/>
                <a:ext cx="533160" cy="1114560"/>
                <a:chOff x="5180040" y="1828800"/>
                <a:chExt cx="533160" cy="111456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5180040" y="1828800"/>
                  <a:ext cx="53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5180040" y="2361960"/>
                  <a:ext cx="53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5180040" y="2392200"/>
                  <a:ext cx="533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6" name=""/>
              <p:cNvSpPr/>
              <p:nvPr/>
            </p:nvSpPr>
            <p:spPr>
              <a:xfrm>
                <a:off x="5560920" y="2063520"/>
                <a:ext cx="682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)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7" name=""/>
            <p:cNvSpPr/>
            <p:nvPr/>
          </p:nvSpPr>
          <p:spPr>
            <a:xfrm>
              <a:off x="6170760" y="2063520"/>
              <a:ext cx="83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ing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9" name=""/>
          <p:cNvGrpSpPr/>
          <p:nvPr/>
        </p:nvGrpSpPr>
        <p:grpSpPr>
          <a:xfrm>
            <a:off x="2741760" y="3124080"/>
            <a:ext cx="3659040" cy="1114920"/>
            <a:chOff x="2741760" y="3124080"/>
            <a:chExt cx="3659040" cy="1114920"/>
          </a:xfrm>
        </p:grpSpPr>
        <p:grpSp>
          <p:nvGrpSpPr>
            <p:cNvPr id="1540" name=""/>
            <p:cNvGrpSpPr/>
            <p:nvPr/>
          </p:nvGrpSpPr>
          <p:grpSpPr>
            <a:xfrm>
              <a:off x="2741760" y="3124080"/>
              <a:ext cx="1334520" cy="1114560"/>
              <a:chOff x="2741760" y="3124080"/>
              <a:chExt cx="1334520" cy="1114560"/>
            </a:xfrm>
          </p:grpSpPr>
          <p:grpSp>
            <p:nvGrpSpPr>
              <p:cNvPr id="1541" name=""/>
              <p:cNvGrpSpPr/>
              <p:nvPr/>
            </p:nvGrpSpPr>
            <p:grpSpPr>
              <a:xfrm>
                <a:off x="2741760" y="3124080"/>
                <a:ext cx="685440" cy="1114560"/>
                <a:chOff x="2741760" y="3124080"/>
                <a:chExt cx="685440" cy="111456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2817720" y="3124080"/>
                  <a:ext cx="532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2741760" y="3657240"/>
                  <a:ext cx="685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2779560" y="3687480"/>
                  <a:ext cx="609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5" name=""/>
              <p:cNvSpPr/>
              <p:nvPr/>
            </p:nvSpPr>
            <p:spPr>
              <a:xfrm>
                <a:off x="3350880" y="3358800"/>
                <a:ext cx="725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4037040" y="3124080"/>
              <a:ext cx="1600200" cy="1114920"/>
              <a:chOff x="4037040" y="3124080"/>
              <a:chExt cx="1600200" cy="1114920"/>
            </a:xfrm>
          </p:grpSpPr>
          <p:sp>
            <p:nvSpPr>
              <p:cNvPr id="1547" name=""/>
              <p:cNvSpPr/>
              <p:nvPr/>
            </p:nvSpPr>
            <p:spPr>
              <a:xfrm>
                <a:off x="4037040" y="3360600"/>
                <a:ext cx="380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8" name=""/>
              <p:cNvGrpSpPr/>
              <p:nvPr/>
            </p:nvGrpSpPr>
            <p:grpSpPr>
              <a:xfrm>
                <a:off x="4532400" y="3124080"/>
                <a:ext cx="533520" cy="1114920"/>
                <a:chOff x="4532400" y="3124080"/>
                <a:chExt cx="533520" cy="111492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4532400" y="312408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4532400" y="365760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8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4532400" y="368784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2" name=""/>
              <p:cNvSpPr/>
              <p:nvPr/>
            </p:nvSpPr>
            <p:spPr>
              <a:xfrm>
                <a:off x="5065920" y="3360600"/>
                <a:ext cx="571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3" name=""/>
            <p:cNvSpPr/>
            <p:nvPr/>
          </p:nvSpPr>
          <p:spPr>
            <a:xfrm>
              <a:off x="5560920" y="3359160"/>
              <a:ext cx="8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3048120" y="4495680"/>
            <a:ext cx="2971800" cy="1114560"/>
            <a:chOff x="3048120" y="4495680"/>
            <a:chExt cx="2971800" cy="1114560"/>
          </a:xfrm>
        </p:grpSpPr>
        <p:grpSp>
          <p:nvGrpSpPr>
            <p:cNvPr id="1555" name=""/>
            <p:cNvGrpSpPr/>
            <p:nvPr/>
          </p:nvGrpSpPr>
          <p:grpSpPr>
            <a:xfrm>
              <a:off x="3048120" y="4495680"/>
              <a:ext cx="1335240" cy="1114560"/>
              <a:chOff x="3048120" y="4495680"/>
              <a:chExt cx="1335240" cy="1114560"/>
            </a:xfrm>
          </p:grpSpPr>
          <p:grpSp>
            <p:nvGrpSpPr>
              <p:cNvPr id="1556" name=""/>
              <p:cNvGrpSpPr/>
              <p:nvPr/>
            </p:nvGrpSpPr>
            <p:grpSpPr>
              <a:xfrm>
                <a:off x="3048120" y="4495680"/>
                <a:ext cx="685800" cy="1114560"/>
                <a:chOff x="3048120" y="4495680"/>
                <a:chExt cx="685800" cy="111456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3124440" y="4495680"/>
                  <a:ext cx="53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3048120" y="5028840"/>
                  <a:ext cx="685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4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3086280" y="505908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0" name=""/>
              <p:cNvSpPr/>
              <p:nvPr/>
            </p:nvSpPr>
            <p:spPr>
              <a:xfrm>
                <a:off x="3657600" y="4730400"/>
                <a:ext cx="725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1" name=""/>
            <p:cNvSpPr/>
            <p:nvPr/>
          </p:nvSpPr>
          <p:spPr>
            <a:xfrm>
              <a:off x="4267440" y="4732200"/>
              <a:ext cx="95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180040" y="4730760"/>
              <a:ext cx="8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 txBox="1"/>
          <p:nvPr/>
        </p:nvSpPr>
        <p:spPr>
          <a:xfrm>
            <a:off x="685800" y="1981080"/>
            <a:ext cx="76960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Evaluating Expressions with</a:t>
            </a:r>
            <a:endParaRPr b="0" lang="en-US" sz="44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Negative Exponents</a:t>
            </a:r>
            <a:endParaRPr b="0" lang="en-US" sz="44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ative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324160" y="16444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sitive Exponen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1828800" y="2406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10 • 10 • 10 = 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2400480" y="31687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10 • 10 =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124080" y="39304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10 =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476440" y="4692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ponent as Zer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657600" y="5454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ative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286000" y="1644480"/>
            <a:ext cx="46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gative Exponen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2878200" y="2344680"/>
            <a:ext cx="3413160" cy="1573560"/>
            <a:chOff x="2878200" y="2344680"/>
            <a:chExt cx="3413160" cy="1573560"/>
          </a:xfrm>
        </p:grpSpPr>
        <p:sp>
          <p:nvSpPr>
            <p:cNvPr id="1574" name=""/>
            <p:cNvSpPr/>
            <p:nvPr/>
          </p:nvSpPr>
          <p:spPr>
            <a:xfrm>
              <a:off x="2878200" y="2567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4325760" y="2344680"/>
              <a:ext cx="735120" cy="1572120"/>
              <a:chOff x="4325760" y="2344680"/>
              <a:chExt cx="735120" cy="1572120"/>
            </a:xfrm>
          </p:grpSpPr>
          <p:sp>
            <p:nvSpPr>
              <p:cNvPr id="1576" name=""/>
              <p:cNvSpPr/>
              <p:nvPr/>
            </p:nvSpPr>
            <p:spPr>
              <a:xfrm>
                <a:off x="4325760" y="2847960"/>
                <a:ext cx="73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486680" y="23446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325760" y="2876760"/>
                <a:ext cx="73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9" name=""/>
            <p:cNvSpPr/>
            <p:nvPr/>
          </p:nvSpPr>
          <p:spPr>
            <a:xfrm>
              <a:off x="5151600" y="25671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0" name=""/>
            <p:cNvGrpSpPr/>
            <p:nvPr/>
          </p:nvGrpSpPr>
          <p:grpSpPr>
            <a:xfrm>
              <a:off x="5648400" y="2346480"/>
              <a:ext cx="642960" cy="1571760"/>
              <a:chOff x="5648400" y="2346480"/>
              <a:chExt cx="642960" cy="1571760"/>
            </a:xfrm>
          </p:grpSpPr>
          <p:sp>
            <p:nvSpPr>
              <p:cNvPr id="1581" name=""/>
              <p:cNvSpPr/>
              <p:nvPr/>
            </p:nvSpPr>
            <p:spPr>
              <a:xfrm>
                <a:off x="5648400" y="2849400"/>
                <a:ext cx="6429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763240" y="23464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694480" y="2877840"/>
                <a:ext cx="55080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4" name=""/>
          <p:cNvGrpSpPr/>
          <p:nvPr/>
        </p:nvGrpSpPr>
        <p:grpSpPr>
          <a:xfrm>
            <a:off x="2793960" y="3429000"/>
            <a:ext cx="3580920" cy="1573560"/>
            <a:chOff x="2793960" y="3429000"/>
            <a:chExt cx="3580920" cy="1573560"/>
          </a:xfrm>
        </p:grpSpPr>
        <p:sp>
          <p:nvSpPr>
            <p:cNvPr id="1585" name=""/>
            <p:cNvSpPr/>
            <p:nvPr/>
          </p:nvSpPr>
          <p:spPr>
            <a:xfrm>
              <a:off x="2793960" y="365148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6" name=""/>
            <p:cNvGrpSpPr/>
            <p:nvPr/>
          </p:nvGrpSpPr>
          <p:grpSpPr>
            <a:xfrm>
              <a:off x="4181040" y="3429000"/>
              <a:ext cx="838080" cy="1084680"/>
              <a:chOff x="4181040" y="3429000"/>
              <a:chExt cx="838080" cy="1084680"/>
            </a:xfrm>
          </p:grpSpPr>
          <p:sp>
            <p:nvSpPr>
              <p:cNvPr id="1587" name=""/>
              <p:cNvSpPr/>
              <p:nvPr/>
            </p:nvSpPr>
            <p:spPr>
              <a:xfrm>
                <a:off x="4181040" y="393228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392000" y="3429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231800" y="3960720"/>
                <a:ext cx="73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0" name=""/>
            <p:cNvSpPr/>
            <p:nvPr/>
          </p:nvSpPr>
          <p:spPr>
            <a:xfrm>
              <a:off x="5006880" y="3651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1" name=""/>
            <p:cNvGrpSpPr/>
            <p:nvPr/>
          </p:nvGrpSpPr>
          <p:grpSpPr>
            <a:xfrm>
              <a:off x="5503680" y="3430800"/>
              <a:ext cx="871200" cy="1571760"/>
              <a:chOff x="5503680" y="3430800"/>
              <a:chExt cx="871200" cy="1571760"/>
            </a:xfrm>
          </p:grpSpPr>
          <p:sp>
            <p:nvSpPr>
              <p:cNvPr id="1592" name=""/>
              <p:cNvSpPr/>
              <p:nvPr/>
            </p:nvSpPr>
            <p:spPr>
              <a:xfrm>
                <a:off x="5503680" y="3933720"/>
                <a:ext cx="871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731920" y="3430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527080" y="3962520"/>
                <a:ext cx="82512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5" name=""/>
          <p:cNvGrpSpPr/>
          <p:nvPr/>
        </p:nvGrpSpPr>
        <p:grpSpPr>
          <a:xfrm>
            <a:off x="2666880" y="4513320"/>
            <a:ext cx="3835080" cy="1086120"/>
            <a:chOff x="2666880" y="4513320"/>
            <a:chExt cx="3835080" cy="1086120"/>
          </a:xfrm>
        </p:grpSpPr>
        <p:sp>
          <p:nvSpPr>
            <p:cNvPr id="1596" name=""/>
            <p:cNvSpPr/>
            <p:nvPr/>
          </p:nvSpPr>
          <p:spPr>
            <a:xfrm>
              <a:off x="2666880" y="473544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-3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7" name=""/>
            <p:cNvGrpSpPr/>
            <p:nvPr/>
          </p:nvGrpSpPr>
          <p:grpSpPr>
            <a:xfrm>
              <a:off x="4054320" y="4513320"/>
              <a:ext cx="838080" cy="1084320"/>
              <a:chOff x="4054320" y="4513320"/>
              <a:chExt cx="838080" cy="1084320"/>
            </a:xfrm>
          </p:grpSpPr>
          <p:sp>
            <p:nvSpPr>
              <p:cNvPr id="1598" name=""/>
              <p:cNvSpPr/>
              <p:nvPr/>
            </p:nvSpPr>
            <p:spPr>
              <a:xfrm>
                <a:off x="4054320" y="501624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265280" y="45133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105080" y="5044680"/>
                <a:ext cx="73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1" name=""/>
            <p:cNvSpPr/>
            <p:nvPr/>
          </p:nvSpPr>
          <p:spPr>
            <a:xfrm>
              <a:off x="4879800" y="4735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2" name=""/>
            <p:cNvGrpSpPr/>
            <p:nvPr/>
          </p:nvGrpSpPr>
          <p:grpSpPr>
            <a:xfrm>
              <a:off x="5257440" y="4514760"/>
              <a:ext cx="1244520" cy="1084680"/>
              <a:chOff x="5257440" y="4514760"/>
              <a:chExt cx="1244520" cy="1084680"/>
            </a:xfrm>
          </p:grpSpPr>
          <p:sp>
            <p:nvSpPr>
              <p:cNvPr id="1603" name=""/>
              <p:cNvSpPr/>
              <p:nvPr/>
            </p:nvSpPr>
            <p:spPr>
              <a:xfrm>
                <a:off x="5257440" y="5018040"/>
                <a:ext cx="1244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672160" y="45147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362200" y="5046840"/>
                <a:ext cx="1035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 rot="20355000">
            <a:off x="487440" y="1681920"/>
            <a:ext cx="2819520" cy="1312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Rememb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752480" y="2849400"/>
            <a:ext cx="609480" cy="1114920"/>
            <a:chOff x="1752480" y="2849400"/>
            <a:chExt cx="609480" cy="1114920"/>
          </a:xfrm>
        </p:grpSpPr>
        <p:sp>
          <p:nvSpPr>
            <p:cNvPr id="1608" name=""/>
            <p:cNvSpPr/>
            <p:nvPr/>
          </p:nvSpPr>
          <p:spPr>
            <a:xfrm>
              <a:off x="1752480" y="28494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52480" y="3382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752480" y="33987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1" name=""/>
          <p:cNvGrpSpPr/>
          <p:nvPr/>
        </p:nvGrpSpPr>
        <p:grpSpPr>
          <a:xfrm>
            <a:off x="2438280" y="2849400"/>
            <a:ext cx="3732120" cy="1114920"/>
            <a:chOff x="2438280" y="2849400"/>
            <a:chExt cx="3732120" cy="1114920"/>
          </a:xfrm>
        </p:grpSpPr>
        <p:sp>
          <p:nvSpPr>
            <p:cNvPr id="1612" name=""/>
            <p:cNvSpPr/>
            <p:nvPr/>
          </p:nvSpPr>
          <p:spPr>
            <a:xfrm>
              <a:off x="2438280" y="30859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3" name=""/>
            <p:cNvGrpSpPr/>
            <p:nvPr/>
          </p:nvGrpSpPr>
          <p:grpSpPr>
            <a:xfrm>
              <a:off x="2971800" y="2849400"/>
              <a:ext cx="3198600" cy="1114920"/>
              <a:chOff x="2971800" y="2849400"/>
              <a:chExt cx="3198600" cy="1114920"/>
            </a:xfrm>
          </p:grpSpPr>
          <p:sp>
            <p:nvSpPr>
              <p:cNvPr id="1614" name=""/>
              <p:cNvSpPr/>
              <p:nvPr/>
            </p:nvSpPr>
            <p:spPr>
              <a:xfrm>
                <a:off x="2971800" y="2849400"/>
                <a:ext cx="319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 • 3 • 3 • 3 • 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971800" y="3382920"/>
                <a:ext cx="3198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 • 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2971800" y="3398760"/>
                <a:ext cx="319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7" name=""/>
          <p:cNvSpPr/>
          <p:nvPr/>
        </p:nvSpPr>
        <p:spPr>
          <a:xfrm>
            <a:off x="6248520" y="30862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4038480" y="3004920"/>
            <a:ext cx="1981440" cy="831600"/>
            <a:chOff x="4038480" y="3004920"/>
            <a:chExt cx="1981440" cy="831600"/>
          </a:xfrm>
        </p:grpSpPr>
        <p:sp>
          <p:nvSpPr>
            <p:cNvPr id="1619" name=""/>
            <p:cNvSpPr/>
            <p:nvPr/>
          </p:nvSpPr>
          <p:spPr>
            <a:xfrm flipV="1">
              <a:off x="4038480" y="3538080"/>
              <a:ext cx="381240" cy="298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V="1">
              <a:off x="4648320" y="3538080"/>
              <a:ext cx="380880" cy="298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5029200" y="3004920"/>
              <a:ext cx="380880" cy="298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5638680" y="3004920"/>
              <a:ext cx="381240" cy="298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2362320" y="4525920"/>
            <a:ext cx="609480" cy="1114920"/>
            <a:chOff x="2362320" y="4525920"/>
            <a:chExt cx="609480" cy="1114920"/>
          </a:xfrm>
        </p:grpSpPr>
        <p:sp>
          <p:nvSpPr>
            <p:cNvPr id="1624" name=""/>
            <p:cNvSpPr/>
            <p:nvPr/>
          </p:nvSpPr>
          <p:spPr>
            <a:xfrm>
              <a:off x="2362320" y="4525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362320" y="50594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362320" y="50752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7" name=""/>
          <p:cNvSpPr/>
          <p:nvPr/>
        </p:nvSpPr>
        <p:spPr>
          <a:xfrm>
            <a:off x="3048120" y="47624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5 –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572000" y="4768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638680" y="4768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ative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/>
          <p:nvPr/>
        </p:nvSpPr>
        <p:spPr>
          <a:xfrm>
            <a:off x="2971800" y="700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ative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2211480" y="1384200"/>
            <a:ext cx="649080" cy="1276200"/>
            <a:chOff x="2211480" y="1384200"/>
            <a:chExt cx="649080" cy="1276200"/>
          </a:xfrm>
        </p:grpSpPr>
        <p:sp>
          <p:nvSpPr>
            <p:cNvPr id="1633" name=""/>
            <p:cNvSpPr/>
            <p:nvPr/>
          </p:nvSpPr>
          <p:spPr>
            <a:xfrm>
              <a:off x="2238480" y="138420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238480" y="201780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211480" y="2025720"/>
              <a:ext cx="64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2975760" y="1376280"/>
            <a:ext cx="3975840" cy="1291680"/>
            <a:chOff x="2975760" y="1376280"/>
            <a:chExt cx="3975840" cy="1291680"/>
          </a:xfrm>
        </p:grpSpPr>
        <p:sp>
          <p:nvSpPr>
            <p:cNvPr id="1637" name=""/>
            <p:cNvSpPr/>
            <p:nvPr/>
          </p:nvSpPr>
          <p:spPr>
            <a:xfrm>
              <a:off x="2975760" y="16700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3567240" y="1376280"/>
              <a:ext cx="3384360" cy="1291680"/>
              <a:chOff x="3567240" y="1376280"/>
              <a:chExt cx="3384360" cy="1291680"/>
            </a:xfrm>
          </p:grpSpPr>
          <p:sp>
            <p:nvSpPr>
              <p:cNvPr id="1639" name=""/>
              <p:cNvSpPr/>
              <p:nvPr/>
            </p:nvSpPr>
            <p:spPr>
              <a:xfrm>
                <a:off x="4701600" y="1376280"/>
                <a:ext cx="1114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 • 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693600" y="2025360"/>
                <a:ext cx="3131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 • 3 • 3 • 3 • 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567240" y="2025360"/>
                <a:ext cx="338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2" name=""/>
          <p:cNvGrpSpPr/>
          <p:nvPr/>
        </p:nvGrpSpPr>
        <p:grpSpPr>
          <a:xfrm>
            <a:off x="5680800" y="3182760"/>
            <a:ext cx="1308960" cy="1290600"/>
            <a:chOff x="5680800" y="3182760"/>
            <a:chExt cx="1308960" cy="1290600"/>
          </a:xfrm>
        </p:grpSpPr>
        <p:sp>
          <p:nvSpPr>
            <p:cNvPr id="1643" name=""/>
            <p:cNvSpPr/>
            <p:nvPr/>
          </p:nvSpPr>
          <p:spPr>
            <a:xfrm>
              <a:off x="5680800" y="34592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4" name=""/>
            <p:cNvGrpSpPr/>
            <p:nvPr/>
          </p:nvGrpSpPr>
          <p:grpSpPr>
            <a:xfrm>
              <a:off x="6247080" y="3182760"/>
              <a:ext cx="742680" cy="1290600"/>
              <a:chOff x="6247080" y="3182760"/>
              <a:chExt cx="742680" cy="1290600"/>
            </a:xfrm>
          </p:grpSpPr>
          <p:sp>
            <p:nvSpPr>
              <p:cNvPr id="1645" name=""/>
              <p:cNvSpPr/>
              <p:nvPr/>
            </p:nvSpPr>
            <p:spPr>
              <a:xfrm>
                <a:off x="6397200" y="31827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265800" y="38307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2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247080" y="3828960"/>
                <a:ext cx="742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8" name=""/>
          <p:cNvGrpSpPr/>
          <p:nvPr/>
        </p:nvGrpSpPr>
        <p:grpSpPr>
          <a:xfrm>
            <a:off x="2173320" y="2874960"/>
            <a:ext cx="3384360" cy="1825920"/>
            <a:chOff x="2173320" y="2874960"/>
            <a:chExt cx="3384360" cy="1825920"/>
          </a:xfrm>
        </p:grpSpPr>
        <p:sp>
          <p:nvSpPr>
            <p:cNvPr id="1649" name=""/>
            <p:cNvSpPr/>
            <p:nvPr/>
          </p:nvSpPr>
          <p:spPr>
            <a:xfrm>
              <a:off x="3308040" y="3184560"/>
              <a:ext cx="111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 • 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299680" y="3832200"/>
              <a:ext cx="313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 • 3 • 3 • 3 • 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173320" y="3828960"/>
              <a:ext cx="33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2" name=""/>
            <p:cNvGrpSpPr/>
            <p:nvPr/>
          </p:nvGrpSpPr>
          <p:grpSpPr>
            <a:xfrm>
              <a:off x="3321000" y="2874960"/>
              <a:ext cx="2187360" cy="1825920"/>
              <a:chOff x="3321000" y="2874960"/>
              <a:chExt cx="2187360" cy="1825920"/>
            </a:xfrm>
          </p:grpSpPr>
          <p:grpSp>
            <p:nvGrpSpPr>
              <p:cNvPr id="1653" name=""/>
              <p:cNvGrpSpPr/>
              <p:nvPr/>
            </p:nvGrpSpPr>
            <p:grpSpPr>
              <a:xfrm>
                <a:off x="3321000" y="3298320"/>
                <a:ext cx="2187360" cy="1037520"/>
                <a:chOff x="3321000" y="3298320"/>
                <a:chExt cx="2187360" cy="1037520"/>
              </a:xfrm>
            </p:grpSpPr>
            <p:sp>
              <p:nvSpPr>
                <p:cNvPr id="1654" name=""/>
                <p:cNvSpPr/>
                <p:nvPr/>
              </p:nvSpPr>
              <p:spPr>
                <a:xfrm flipV="1">
                  <a:off x="3321000" y="3299760"/>
                  <a:ext cx="360000" cy="3758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V="1">
                  <a:off x="4081320" y="3298320"/>
                  <a:ext cx="360000" cy="3758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flipV="1">
                  <a:off x="4387680" y="3959640"/>
                  <a:ext cx="360360" cy="3762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flipV="1">
                  <a:off x="5148000" y="3958560"/>
                  <a:ext cx="360360" cy="3758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8" name=""/>
              <p:cNvSpPr/>
              <p:nvPr/>
            </p:nvSpPr>
            <p:spPr>
              <a:xfrm>
                <a:off x="3632400" y="2874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410360" y="2874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091400" y="41194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4853160" y="41194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2" name=""/>
          <p:cNvGrpSpPr/>
          <p:nvPr/>
        </p:nvGrpSpPr>
        <p:grpSpPr>
          <a:xfrm>
            <a:off x="1447920" y="4967280"/>
            <a:ext cx="649080" cy="1276200"/>
            <a:chOff x="1447920" y="4967280"/>
            <a:chExt cx="649080" cy="1276200"/>
          </a:xfrm>
        </p:grpSpPr>
        <p:sp>
          <p:nvSpPr>
            <p:cNvPr id="1663" name=""/>
            <p:cNvSpPr/>
            <p:nvPr/>
          </p:nvSpPr>
          <p:spPr>
            <a:xfrm>
              <a:off x="1474920" y="496728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74920" y="5600880"/>
              <a:ext cx="59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447920" y="5608800"/>
              <a:ext cx="64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2196360" y="5253120"/>
            <a:ext cx="1527120" cy="703440"/>
            <a:chOff x="2196360" y="5253120"/>
            <a:chExt cx="1527120" cy="703440"/>
          </a:xfrm>
        </p:grpSpPr>
        <p:sp>
          <p:nvSpPr>
            <p:cNvPr id="1667" name=""/>
            <p:cNvSpPr/>
            <p:nvPr/>
          </p:nvSpPr>
          <p:spPr>
            <a:xfrm>
              <a:off x="2196360" y="52531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753280" y="5283360"/>
              <a:ext cx="97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2 - 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3739320" y="5253120"/>
            <a:ext cx="1184400" cy="703440"/>
            <a:chOff x="3739320" y="5253120"/>
            <a:chExt cx="1184400" cy="703440"/>
          </a:xfrm>
        </p:grpSpPr>
        <p:sp>
          <p:nvSpPr>
            <p:cNvPr id="1670" name=""/>
            <p:cNvSpPr/>
            <p:nvPr/>
          </p:nvSpPr>
          <p:spPr>
            <a:xfrm>
              <a:off x="3739320" y="52531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243320" y="5283360"/>
              <a:ext cx="68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-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2" name=""/>
          <p:cNvGrpSpPr/>
          <p:nvPr/>
        </p:nvGrpSpPr>
        <p:grpSpPr>
          <a:xfrm>
            <a:off x="4973040" y="4967280"/>
            <a:ext cx="1218240" cy="1276200"/>
            <a:chOff x="4973040" y="4967280"/>
            <a:chExt cx="1218240" cy="1276200"/>
          </a:xfrm>
        </p:grpSpPr>
        <p:sp>
          <p:nvSpPr>
            <p:cNvPr id="1673" name=""/>
            <p:cNvSpPr/>
            <p:nvPr/>
          </p:nvSpPr>
          <p:spPr>
            <a:xfrm>
              <a:off x="4973040" y="52531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4" name=""/>
            <p:cNvGrpSpPr/>
            <p:nvPr/>
          </p:nvGrpSpPr>
          <p:grpSpPr>
            <a:xfrm>
              <a:off x="5542200" y="4967280"/>
              <a:ext cx="649080" cy="1276200"/>
              <a:chOff x="5542200" y="4967280"/>
              <a:chExt cx="649080" cy="1276200"/>
            </a:xfrm>
          </p:grpSpPr>
          <p:sp>
            <p:nvSpPr>
              <p:cNvPr id="1675" name=""/>
              <p:cNvSpPr/>
              <p:nvPr/>
            </p:nvSpPr>
            <p:spPr>
              <a:xfrm>
                <a:off x="5644800" y="49672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569200" y="5600880"/>
                <a:ext cx="59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542200" y="5608800"/>
                <a:ext cx="64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8" name=""/>
          <p:cNvGrpSpPr/>
          <p:nvPr/>
        </p:nvGrpSpPr>
        <p:grpSpPr>
          <a:xfrm>
            <a:off x="6329880" y="4960800"/>
            <a:ext cx="1289880" cy="1288800"/>
            <a:chOff x="6329880" y="4960800"/>
            <a:chExt cx="1289880" cy="1288800"/>
          </a:xfrm>
        </p:grpSpPr>
        <p:sp>
          <p:nvSpPr>
            <p:cNvPr id="1679" name=""/>
            <p:cNvSpPr/>
            <p:nvPr/>
          </p:nvSpPr>
          <p:spPr>
            <a:xfrm>
              <a:off x="6329880" y="52545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0" name=""/>
            <p:cNvGrpSpPr/>
            <p:nvPr/>
          </p:nvGrpSpPr>
          <p:grpSpPr>
            <a:xfrm>
              <a:off x="6876720" y="4960800"/>
              <a:ext cx="743040" cy="1288800"/>
              <a:chOff x="6876720" y="4960800"/>
              <a:chExt cx="743040" cy="1288800"/>
            </a:xfrm>
          </p:grpSpPr>
          <p:sp>
            <p:nvSpPr>
              <p:cNvPr id="1681" name=""/>
              <p:cNvSpPr/>
              <p:nvPr/>
            </p:nvSpPr>
            <p:spPr>
              <a:xfrm>
                <a:off x="7027200" y="49608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895800" y="56070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2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876720" y="5602320"/>
                <a:ext cx="743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3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8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9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4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4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2971800" y="700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ative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688200" y="1279440"/>
            <a:ext cx="175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Comic Sans MS"/>
              </a:rPr>
              <a:t>Ru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85800" y="2209680"/>
            <a:ext cx="786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base with a negative exponent is equal to the reciprocal of the base with the exponent made positi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7" name=""/>
          <p:cNvGrpSpPr/>
          <p:nvPr/>
        </p:nvGrpSpPr>
        <p:grpSpPr>
          <a:xfrm>
            <a:off x="1187280" y="3962520"/>
            <a:ext cx="2295360" cy="1275840"/>
            <a:chOff x="1187280" y="3962520"/>
            <a:chExt cx="2295360" cy="1275840"/>
          </a:xfrm>
        </p:grpSpPr>
        <p:grpSp>
          <p:nvGrpSpPr>
            <p:cNvPr id="1688" name=""/>
            <p:cNvGrpSpPr/>
            <p:nvPr/>
          </p:nvGrpSpPr>
          <p:grpSpPr>
            <a:xfrm>
              <a:off x="1187280" y="3962520"/>
              <a:ext cx="2134080" cy="1275840"/>
              <a:chOff x="1187280" y="3962520"/>
              <a:chExt cx="2134080" cy="1275840"/>
            </a:xfrm>
          </p:grpSpPr>
          <p:sp>
            <p:nvSpPr>
              <p:cNvPr id="1689" name=""/>
              <p:cNvSpPr/>
              <p:nvPr/>
            </p:nvSpPr>
            <p:spPr>
              <a:xfrm>
                <a:off x="1187280" y="4248000"/>
                <a:ext cx="732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4000" spc="-1" strike="noStrike" baseline="30000">
                    <a:solidFill>
                      <a:srgbClr val="0000ff"/>
                    </a:solidFill>
                    <a:latin typeface="Comic Sans MS"/>
                  </a:rPr>
                  <a:t>-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0" name=""/>
              <p:cNvGrpSpPr/>
              <p:nvPr/>
            </p:nvGrpSpPr>
            <p:grpSpPr>
              <a:xfrm>
                <a:off x="1892880" y="3962520"/>
                <a:ext cx="1428480" cy="1275840"/>
                <a:chOff x="1892880" y="3962520"/>
                <a:chExt cx="1428480" cy="1275840"/>
              </a:xfrm>
            </p:grpSpPr>
            <p:grpSp>
              <p:nvGrpSpPr>
                <p:cNvPr id="1691" name=""/>
                <p:cNvGrpSpPr/>
                <p:nvPr/>
              </p:nvGrpSpPr>
              <p:grpSpPr>
                <a:xfrm>
                  <a:off x="2593800" y="3962520"/>
                  <a:ext cx="463680" cy="1275840"/>
                  <a:chOff x="2593800" y="3962520"/>
                  <a:chExt cx="463680" cy="1275840"/>
                </a:xfrm>
              </p:grpSpPr>
              <p:sp>
                <p:nvSpPr>
                  <p:cNvPr id="1692" name=""/>
                  <p:cNvSpPr/>
                  <p:nvPr/>
                </p:nvSpPr>
                <p:spPr>
                  <a:xfrm>
                    <a:off x="2606040" y="396252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2604240" y="459576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 flipV="1">
                    <a:off x="2593800" y="4595760"/>
                    <a:ext cx="463680" cy="7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5" name=""/>
                <p:cNvGrpSpPr/>
                <p:nvPr/>
              </p:nvGrpSpPr>
              <p:grpSpPr>
                <a:xfrm>
                  <a:off x="1892880" y="4248000"/>
                  <a:ext cx="1428480" cy="705240"/>
                  <a:chOff x="1892880" y="4248000"/>
                  <a:chExt cx="1428480" cy="705240"/>
                </a:xfrm>
              </p:grpSpPr>
              <p:sp>
                <p:nvSpPr>
                  <p:cNvPr id="1696" name=""/>
                  <p:cNvSpPr/>
                  <p:nvPr/>
                </p:nvSpPr>
                <p:spPr>
                  <a:xfrm>
                    <a:off x="1892880" y="4249800"/>
                    <a:ext cx="47016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=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97" name=""/>
                  <p:cNvGrpSpPr/>
                  <p:nvPr/>
                </p:nvGrpSpPr>
                <p:grpSpPr>
                  <a:xfrm>
                    <a:off x="2367720" y="4248000"/>
                    <a:ext cx="953640" cy="704880"/>
                    <a:chOff x="2367720" y="4248000"/>
                    <a:chExt cx="953640" cy="704880"/>
                  </a:xfrm>
                </p:grpSpPr>
                <p:sp>
                  <p:nvSpPr>
                    <p:cNvPr id="1698" name=""/>
                    <p:cNvSpPr/>
                    <p:nvPr/>
                  </p:nvSpPr>
                  <p:spPr>
                    <a:xfrm>
                      <a:off x="2367720" y="4248000"/>
                      <a:ext cx="33300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9" name=""/>
                    <p:cNvSpPr/>
                    <p:nvPr/>
                  </p:nvSpPr>
                  <p:spPr>
                    <a:xfrm>
                      <a:off x="2988360" y="4249440"/>
                      <a:ext cx="33300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700" name=""/>
            <p:cNvSpPr/>
            <p:nvPr/>
          </p:nvSpPr>
          <p:spPr>
            <a:xfrm>
              <a:off x="3134160" y="4249800"/>
              <a:ext cx="348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baseline="30000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5533920" y="3990960"/>
            <a:ext cx="2219760" cy="1220400"/>
            <a:chOff x="5533920" y="3990960"/>
            <a:chExt cx="2219760" cy="1220400"/>
          </a:xfrm>
        </p:grpSpPr>
        <p:sp>
          <p:nvSpPr>
            <p:cNvPr id="1702" name=""/>
            <p:cNvSpPr/>
            <p:nvPr/>
          </p:nvSpPr>
          <p:spPr>
            <a:xfrm>
              <a:off x="5533920" y="4249800"/>
              <a:ext cx="70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4000" spc="-1" strike="noStrike" baseline="30000">
                  <a:solidFill>
                    <a:srgbClr val="0000ff"/>
                  </a:solidFill>
                  <a:latin typeface="Comic Sans MS"/>
                </a:rPr>
                <a:t>-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3" name=""/>
            <p:cNvGrpSpPr/>
            <p:nvPr/>
          </p:nvGrpSpPr>
          <p:grpSpPr>
            <a:xfrm>
              <a:off x="6249240" y="3990960"/>
              <a:ext cx="1504440" cy="1220400"/>
              <a:chOff x="6249240" y="3990960"/>
              <a:chExt cx="1504440" cy="1220400"/>
            </a:xfrm>
          </p:grpSpPr>
          <p:sp>
            <p:nvSpPr>
              <p:cNvPr id="1704" name=""/>
              <p:cNvSpPr/>
              <p:nvPr/>
            </p:nvSpPr>
            <p:spPr>
              <a:xfrm>
                <a:off x="6249240" y="424980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5" name=""/>
              <p:cNvGrpSpPr/>
              <p:nvPr/>
            </p:nvGrpSpPr>
            <p:grpSpPr>
              <a:xfrm>
                <a:off x="6735240" y="3990960"/>
                <a:ext cx="1018440" cy="1220400"/>
                <a:chOff x="6735240" y="3990960"/>
                <a:chExt cx="1018440" cy="1220400"/>
              </a:xfrm>
            </p:grpSpPr>
            <p:grpSp>
              <p:nvGrpSpPr>
                <p:cNvPr id="1706" name=""/>
                <p:cNvGrpSpPr/>
                <p:nvPr/>
              </p:nvGrpSpPr>
              <p:grpSpPr>
                <a:xfrm>
                  <a:off x="6968160" y="3990960"/>
                  <a:ext cx="572400" cy="1220400"/>
                  <a:chOff x="6968160" y="3990960"/>
                  <a:chExt cx="572400" cy="1220400"/>
                </a:xfrm>
              </p:grpSpPr>
              <p:sp>
                <p:nvSpPr>
                  <p:cNvPr id="1707" name=""/>
                  <p:cNvSpPr/>
                  <p:nvPr/>
                </p:nvSpPr>
                <p:spPr>
                  <a:xfrm>
                    <a:off x="7032960" y="399096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6968160" y="4568760"/>
                    <a:ext cx="5724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x</a:t>
                    </a:r>
                    <a:r>
                      <a:rPr b="0" lang="en-US" sz="3600" spc="-1" strike="noStrike" baseline="30000">
                        <a:solidFill>
                          <a:srgbClr val="0000ff"/>
                        </a:solidFill>
                        <a:latin typeface="Comic Sans MS"/>
                      </a:rPr>
                      <a:t>a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 flipV="1">
                    <a:off x="7022520" y="4624200"/>
                    <a:ext cx="463320" cy="7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0" name=""/>
                <p:cNvSpPr/>
                <p:nvPr/>
              </p:nvSpPr>
              <p:spPr>
                <a:xfrm>
                  <a:off x="6735240" y="4249440"/>
                  <a:ext cx="333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(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7420680" y="4249440"/>
                  <a:ext cx="333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12" name=""/>
          <p:cNvGrpSpPr/>
          <p:nvPr/>
        </p:nvGrpSpPr>
        <p:grpSpPr>
          <a:xfrm>
            <a:off x="3142440" y="5181480"/>
            <a:ext cx="2869920" cy="1204560"/>
            <a:chOff x="3142440" y="5181480"/>
            <a:chExt cx="2869920" cy="1204560"/>
          </a:xfrm>
        </p:grpSpPr>
        <p:sp>
          <p:nvSpPr>
            <p:cNvPr id="1713" name=""/>
            <p:cNvSpPr/>
            <p:nvPr/>
          </p:nvSpPr>
          <p:spPr>
            <a:xfrm>
              <a:off x="5667120" y="5394240"/>
              <a:ext cx="34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baseline="30000">
                  <a:solidFill>
                    <a:srgbClr val="0000ff"/>
                  </a:solidFill>
                  <a:latin typeface="Comic Sans MS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4" name=""/>
            <p:cNvGrpSpPr/>
            <p:nvPr/>
          </p:nvGrpSpPr>
          <p:grpSpPr>
            <a:xfrm>
              <a:off x="3142440" y="5211720"/>
              <a:ext cx="1311840" cy="1144440"/>
              <a:chOff x="3142440" y="5211720"/>
              <a:chExt cx="1311840" cy="1144440"/>
            </a:xfrm>
          </p:grpSpPr>
          <p:grpSp>
            <p:nvGrpSpPr>
              <p:cNvPr id="1715" name=""/>
              <p:cNvGrpSpPr/>
              <p:nvPr/>
            </p:nvGrpSpPr>
            <p:grpSpPr>
              <a:xfrm>
                <a:off x="3428640" y="5211720"/>
                <a:ext cx="463680" cy="1144440"/>
                <a:chOff x="3428640" y="5211720"/>
                <a:chExt cx="463680" cy="1144440"/>
              </a:xfrm>
            </p:grpSpPr>
            <p:sp>
              <p:nvSpPr>
                <p:cNvPr id="1716" name=""/>
                <p:cNvSpPr/>
                <p:nvPr/>
              </p:nvSpPr>
              <p:spPr>
                <a:xfrm>
                  <a:off x="3450600" y="5211720"/>
                  <a:ext cx="42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3453120" y="5713560"/>
                  <a:ext cx="414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 flipV="1">
                  <a:off x="3428640" y="5784840"/>
                  <a:ext cx="463680" cy="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9" name=""/>
              <p:cNvSpPr/>
              <p:nvPr/>
            </p:nvSpPr>
            <p:spPr>
              <a:xfrm>
                <a:off x="3142440" y="5402520"/>
                <a:ext cx="333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859920" y="5402520"/>
                <a:ext cx="333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014360" y="5364360"/>
                <a:ext cx="439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 baseline="30000">
                    <a:solidFill>
                      <a:srgbClr val="0000ff"/>
                    </a:solidFill>
                    <a:latin typeface="Comic Sans MS"/>
                  </a:rPr>
                  <a:t>-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2" name=""/>
            <p:cNvGrpSpPr/>
            <p:nvPr/>
          </p:nvGrpSpPr>
          <p:grpSpPr>
            <a:xfrm>
              <a:off x="4340880" y="5181480"/>
              <a:ext cx="1507680" cy="1204560"/>
              <a:chOff x="4340880" y="5181480"/>
              <a:chExt cx="1507680" cy="1204560"/>
            </a:xfrm>
          </p:grpSpPr>
          <p:grpSp>
            <p:nvGrpSpPr>
              <p:cNvPr id="1723" name=""/>
              <p:cNvGrpSpPr/>
              <p:nvPr/>
            </p:nvGrpSpPr>
            <p:grpSpPr>
              <a:xfrm>
                <a:off x="4815720" y="5181480"/>
                <a:ext cx="1032840" cy="1204560"/>
                <a:chOff x="4815720" y="5181480"/>
                <a:chExt cx="1032840" cy="1204560"/>
              </a:xfrm>
            </p:grpSpPr>
            <p:grpSp>
              <p:nvGrpSpPr>
                <p:cNvPr id="1724" name=""/>
                <p:cNvGrpSpPr/>
                <p:nvPr/>
              </p:nvGrpSpPr>
              <p:grpSpPr>
                <a:xfrm>
                  <a:off x="5121000" y="5181480"/>
                  <a:ext cx="463680" cy="1204560"/>
                  <a:chOff x="5121000" y="5181480"/>
                  <a:chExt cx="463680" cy="1204560"/>
                </a:xfrm>
              </p:grpSpPr>
              <p:sp>
                <p:nvSpPr>
                  <p:cNvPr id="1725" name=""/>
                  <p:cNvSpPr/>
                  <p:nvPr/>
                </p:nvSpPr>
                <p:spPr>
                  <a:xfrm>
                    <a:off x="5145840" y="5181480"/>
                    <a:ext cx="4140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y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5141160" y="5743440"/>
                    <a:ext cx="4230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x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 flipV="1">
                    <a:off x="5121000" y="5814720"/>
                    <a:ext cx="463680" cy="7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8" name=""/>
                <p:cNvSpPr/>
                <p:nvPr/>
              </p:nvSpPr>
              <p:spPr>
                <a:xfrm>
                  <a:off x="4815720" y="5432400"/>
                  <a:ext cx="333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(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5515560" y="5432400"/>
                  <a:ext cx="333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0" name=""/>
              <p:cNvSpPr/>
              <p:nvPr/>
            </p:nvSpPr>
            <p:spPr>
              <a:xfrm>
                <a:off x="4340880" y="543240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d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"/>
          <p:cNvSpPr/>
          <p:nvPr/>
        </p:nvSpPr>
        <p:spPr>
          <a:xfrm>
            <a:off x="2971800" y="700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ative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2" name=""/>
          <p:cNvGrpSpPr/>
          <p:nvPr/>
        </p:nvGrpSpPr>
        <p:grpSpPr>
          <a:xfrm>
            <a:off x="1761480" y="1539720"/>
            <a:ext cx="1413360" cy="1252080"/>
            <a:chOff x="1761480" y="1539720"/>
            <a:chExt cx="1413360" cy="1252080"/>
          </a:xfrm>
        </p:grpSpPr>
        <p:grpSp>
          <p:nvGrpSpPr>
            <p:cNvPr id="1733" name=""/>
            <p:cNvGrpSpPr/>
            <p:nvPr/>
          </p:nvGrpSpPr>
          <p:grpSpPr>
            <a:xfrm>
              <a:off x="2108520" y="1539720"/>
              <a:ext cx="463320" cy="1252080"/>
              <a:chOff x="2108520" y="1539720"/>
              <a:chExt cx="463320" cy="1252080"/>
            </a:xfrm>
          </p:grpSpPr>
          <p:sp>
            <p:nvSpPr>
              <p:cNvPr id="1734" name=""/>
              <p:cNvSpPr/>
              <p:nvPr/>
            </p:nvSpPr>
            <p:spPr>
              <a:xfrm>
                <a:off x="2118600" y="15397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118600" y="21492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2108520" y="2141280"/>
                <a:ext cx="46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>
              <a:off x="1761480" y="1814400"/>
              <a:ext cx="33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579760" y="1814400"/>
              <a:ext cx="59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4661280" y="1913040"/>
            <a:ext cx="34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5039280" y="1523880"/>
            <a:ext cx="1115280" cy="1283760"/>
            <a:chOff x="5039280" y="1523880"/>
            <a:chExt cx="1115280" cy="1283760"/>
          </a:xfrm>
        </p:grpSpPr>
        <p:sp>
          <p:nvSpPr>
            <p:cNvPr id="1741" name=""/>
            <p:cNvSpPr/>
            <p:nvPr/>
          </p:nvSpPr>
          <p:spPr>
            <a:xfrm>
              <a:off x="5039280" y="18144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2" name=""/>
            <p:cNvGrpSpPr/>
            <p:nvPr/>
          </p:nvGrpSpPr>
          <p:grpSpPr>
            <a:xfrm>
              <a:off x="5559480" y="1523880"/>
              <a:ext cx="595080" cy="1283760"/>
              <a:chOff x="5559480" y="1523880"/>
              <a:chExt cx="595080" cy="1283760"/>
            </a:xfrm>
          </p:grpSpPr>
          <p:sp>
            <p:nvSpPr>
              <p:cNvPr id="1743" name=""/>
              <p:cNvSpPr/>
              <p:nvPr/>
            </p:nvSpPr>
            <p:spPr>
              <a:xfrm>
                <a:off x="5559480" y="1523880"/>
                <a:ext cx="59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559480" y="2165040"/>
                <a:ext cx="59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635440" y="2165040"/>
                <a:ext cx="442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6" name=""/>
          <p:cNvGrpSpPr/>
          <p:nvPr/>
        </p:nvGrpSpPr>
        <p:grpSpPr>
          <a:xfrm>
            <a:off x="1299960" y="4524480"/>
            <a:ext cx="1541520" cy="1252080"/>
            <a:chOff x="1299960" y="4524480"/>
            <a:chExt cx="1541520" cy="1252080"/>
          </a:xfrm>
        </p:grpSpPr>
        <p:grpSp>
          <p:nvGrpSpPr>
            <p:cNvPr id="1747" name=""/>
            <p:cNvGrpSpPr/>
            <p:nvPr/>
          </p:nvGrpSpPr>
          <p:grpSpPr>
            <a:xfrm>
              <a:off x="1775160" y="4524480"/>
              <a:ext cx="463320" cy="1252080"/>
              <a:chOff x="1775160" y="4524480"/>
              <a:chExt cx="463320" cy="1252080"/>
            </a:xfrm>
          </p:grpSpPr>
          <p:sp>
            <p:nvSpPr>
              <p:cNvPr id="1748" name=""/>
              <p:cNvSpPr/>
              <p:nvPr/>
            </p:nvSpPr>
            <p:spPr>
              <a:xfrm>
                <a:off x="1785240" y="4524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85240" y="51339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5160" y="5126040"/>
                <a:ext cx="46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1" name=""/>
            <p:cNvSpPr/>
            <p:nvPr/>
          </p:nvSpPr>
          <p:spPr>
            <a:xfrm>
              <a:off x="1299960" y="4799160"/>
              <a:ext cx="496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246400" y="4799160"/>
              <a:ext cx="59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2919960" y="4532400"/>
            <a:ext cx="1984680" cy="1236600"/>
            <a:chOff x="2919960" y="4532400"/>
            <a:chExt cx="1984680" cy="1236600"/>
          </a:xfrm>
        </p:grpSpPr>
        <p:sp>
          <p:nvSpPr>
            <p:cNvPr id="1754" name=""/>
            <p:cNvSpPr/>
            <p:nvPr/>
          </p:nvSpPr>
          <p:spPr>
            <a:xfrm>
              <a:off x="2919960" y="47991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5" name=""/>
            <p:cNvGrpSpPr/>
            <p:nvPr/>
          </p:nvGrpSpPr>
          <p:grpSpPr>
            <a:xfrm>
              <a:off x="3461760" y="4532400"/>
              <a:ext cx="1442880" cy="1236600"/>
              <a:chOff x="3461760" y="4532400"/>
              <a:chExt cx="1442880" cy="1236600"/>
            </a:xfrm>
          </p:grpSpPr>
          <p:grpSp>
            <p:nvGrpSpPr>
              <p:cNvPr id="1756" name=""/>
              <p:cNvGrpSpPr/>
              <p:nvPr/>
            </p:nvGrpSpPr>
            <p:grpSpPr>
              <a:xfrm>
                <a:off x="3954240" y="4532400"/>
                <a:ext cx="463320" cy="1236600"/>
                <a:chOff x="3954240" y="4532400"/>
                <a:chExt cx="463320" cy="1236600"/>
              </a:xfrm>
            </p:grpSpPr>
            <p:sp>
              <p:nvSpPr>
                <p:cNvPr id="1757" name=""/>
                <p:cNvSpPr/>
                <p:nvPr/>
              </p:nvSpPr>
              <p:spPr>
                <a:xfrm>
                  <a:off x="3964320" y="453240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Comic Sans MS"/>
                    </a:rPr>
                    <a:t>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964320" y="512640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Comic Sans MS"/>
                    </a:rPr>
                    <a:t>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3954240" y="5134320"/>
                  <a:ext cx="46332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0" name=""/>
              <p:cNvSpPr/>
              <p:nvPr/>
            </p:nvSpPr>
            <p:spPr>
              <a:xfrm>
                <a:off x="3461760" y="4807080"/>
                <a:ext cx="496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Comic Sans MS"/>
                  </a:rPr>
                  <a:t>(-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380480" y="4807080"/>
                <a:ext cx="333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Comic Sans MS"/>
                  </a:rPr>
                  <a:t>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4556160" y="4897800"/>
                <a:ext cx="348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 baseline="30000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3" name=""/>
          <p:cNvGrpSpPr/>
          <p:nvPr/>
        </p:nvGrpSpPr>
        <p:grpSpPr>
          <a:xfrm>
            <a:off x="6168240" y="1523880"/>
            <a:ext cx="1251720" cy="1284120"/>
            <a:chOff x="6168240" y="1523880"/>
            <a:chExt cx="1251720" cy="1284120"/>
          </a:xfrm>
        </p:grpSpPr>
        <p:grpSp>
          <p:nvGrpSpPr>
            <p:cNvPr id="1764" name=""/>
            <p:cNvGrpSpPr/>
            <p:nvPr/>
          </p:nvGrpSpPr>
          <p:grpSpPr>
            <a:xfrm>
              <a:off x="6168240" y="1523880"/>
              <a:ext cx="1251720" cy="1284120"/>
              <a:chOff x="6168240" y="1523880"/>
              <a:chExt cx="1251720" cy="1284120"/>
            </a:xfrm>
          </p:grpSpPr>
          <p:sp>
            <p:nvSpPr>
              <p:cNvPr id="1765" name=""/>
              <p:cNvSpPr/>
              <p:nvPr/>
            </p:nvSpPr>
            <p:spPr>
              <a:xfrm>
                <a:off x="6168240" y="181440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6" name=""/>
              <p:cNvGrpSpPr/>
              <p:nvPr/>
            </p:nvGrpSpPr>
            <p:grpSpPr>
              <a:xfrm>
                <a:off x="6715080" y="1523880"/>
                <a:ext cx="704880" cy="1284120"/>
                <a:chOff x="6715080" y="1523880"/>
                <a:chExt cx="704880" cy="1284120"/>
              </a:xfrm>
            </p:grpSpPr>
            <p:sp>
              <p:nvSpPr>
                <p:cNvPr id="1767" name=""/>
                <p:cNvSpPr/>
                <p:nvPr/>
              </p:nvSpPr>
              <p:spPr>
                <a:xfrm>
                  <a:off x="6715080" y="152388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Comic Sans MS"/>
                    </a:rPr>
                    <a:t>2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6846120" y="216540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Comic Sans MS"/>
                    </a:rPr>
                    <a:t>9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9" name=""/>
            <p:cNvSpPr/>
            <p:nvPr/>
          </p:nvSpPr>
          <p:spPr>
            <a:xfrm>
              <a:off x="6748560" y="2165400"/>
              <a:ext cx="639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4934520" y="4508640"/>
            <a:ext cx="1615680" cy="1284120"/>
            <a:chOff x="4934520" y="4508640"/>
            <a:chExt cx="1615680" cy="1284120"/>
          </a:xfrm>
        </p:grpSpPr>
        <p:sp>
          <p:nvSpPr>
            <p:cNvPr id="1771" name=""/>
            <p:cNvSpPr/>
            <p:nvPr/>
          </p:nvSpPr>
          <p:spPr>
            <a:xfrm>
              <a:off x="4934520" y="47991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2" name=""/>
            <p:cNvGrpSpPr/>
            <p:nvPr/>
          </p:nvGrpSpPr>
          <p:grpSpPr>
            <a:xfrm>
              <a:off x="5480280" y="4508640"/>
              <a:ext cx="1069920" cy="1284120"/>
              <a:chOff x="5480280" y="4508640"/>
              <a:chExt cx="1069920" cy="1284120"/>
            </a:xfrm>
          </p:grpSpPr>
          <p:sp>
            <p:nvSpPr>
              <p:cNvPr id="1773" name=""/>
              <p:cNvSpPr/>
              <p:nvPr/>
            </p:nvSpPr>
            <p:spPr>
              <a:xfrm>
                <a:off x="5505480" y="4508640"/>
                <a:ext cx="1017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(-5)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505480" y="5150160"/>
                <a:ext cx="1017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(-3)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5480280" y="5134320"/>
                <a:ext cx="106992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6" name=""/>
          <p:cNvGrpSpPr/>
          <p:nvPr/>
        </p:nvGrpSpPr>
        <p:grpSpPr>
          <a:xfrm>
            <a:off x="6653880" y="4508640"/>
            <a:ext cx="1251720" cy="1283760"/>
            <a:chOff x="6653880" y="4508640"/>
            <a:chExt cx="1251720" cy="1283760"/>
          </a:xfrm>
        </p:grpSpPr>
        <p:sp>
          <p:nvSpPr>
            <p:cNvPr id="1777" name=""/>
            <p:cNvSpPr/>
            <p:nvPr/>
          </p:nvSpPr>
          <p:spPr>
            <a:xfrm>
              <a:off x="6653880" y="47991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8" name=""/>
            <p:cNvGrpSpPr/>
            <p:nvPr/>
          </p:nvGrpSpPr>
          <p:grpSpPr>
            <a:xfrm>
              <a:off x="7200720" y="4508640"/>
              <a:ext cx="704880" cy="1283760"/>
              <a:chOff x="7200720" y="4508640"/>
              <a:chExt cx="704880" cy="1283760"/>
            </a:xfrm>
          </p:grpSpPr>
          <p:sp>
            <p:nvSpPr>
              <p:cNvPr id="1779" name=""/>
              <p:cNvSpPr/>
              <p:nvPr/>
            </p:nvSpPr>
            <p:spPr>
              <a:xfrm>
                <a:off x="7200720" y="45086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2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331760" y="51498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234200" y="5149800"/>
                <a:ext cx="6397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2" name=""/>
          <p:cNvGrpSpPr/>
          <p:nvPr/>
        </p:nvGrpSpPr>
        <p:grpSpPr>
          <a:xfrm>
            <a:off x="3237480" y="1547640"/>
            <a:ext cx="2010960" cy="2568240"/>
            <a:chOff x="3237480" y="1547640"/>
            <a:chExt cx="2010960" cy="2568240"/>
          </a:xfrm>
        </p:grpSpPr>
        <p:grpSp>
          <p:nvGrpSpPr>
            <p:cNvPr id="1783" name=""/>
            <p:cNvGrpSpPr/>
            <p:nvPr/>
          </p:nvGrpSpPr>
          <p:grpSpPr>
            <a:xfrm>
              <a:off x="3237480" y="1547640"/>
              <a:ext cx="1580760" cy="1236600"/>
              <a:chOff x="3237480" y="1547640"/>
              <a:chExt cx="1580760" cy="1236600"/>
            </a:xfrm>
          </p:grpSpPr>
          <p:sp>
            <p:nvSpPr>
              <p:cNvPr id="1784" name=""/>
              <p:cNvSpPr/>
              <p:nvPr/>
            </p:nvSpPr>
            <p:spPr>
              <a:xfrm>
                <a:off x="3237480" y="181440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5" name=""/>
              <p:cNvGrpSpPr/>
              <p:nvPr/>
            </p:nvGrpSpPr>
            <p:grpSpPr>
              <a:xfrm>
                <a:off x="3712320" y="1547640"/>
                <a:ext cx="1105920" cy="1236600"/>
                <a:chOff x="3712320" y="1547640"/>
                <a:chExt cx="1105920" cy="1236600"/>
              </a:xfrm>
            </p:grpSpPr>
            <p:grpSp>
              <p:nvGrpSpPr>
                <p:cNvPr id="1786" name=""/>
                <p:cNvGrpSpPr/>
                <p:nvPr/>
              </p:nvGrpSpPr>
              <p:grpSpPr>
                <a:xfrm>
                  <a:off x="4059000" y="1547640"/>
                  <a:ext cx="463320" cy="1236600"/>
                  <a:chOff x="4059000" y="1547640"/>
                  <a:chExt cx="463320" cy="1236600"/>
                </a:xfrm>
              </p:grpSpPr>
              <p:sp>
                <p:nvSpPr>
                  <p:cNvPr id="1787" name=""/>
                  <p:cNvSpPr/>
                  <p:nvPr/>
                </p:nvSpPr>
                <p:spPr>
                  <a:xfrm>
                    <a:off x="4069080" y="154764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ff"/>
                        </a:solidFill>
                        <a:latin typeface="Comic Sans MS"/>
                      </a:rPr>
                      <a:t>5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8" name=""/>
                  <p:cNvSpPr/>
                  <p:nvPr/>
                </p:nvSpPr>
                <p:spPr>
                  <a:xfrm>
                    <a:off x="4069080" y="2141640"/>
                    <a:ext cx="4428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ff"/>
                        </a:solidFill>
                        <a:latin typeface="Comic Sans MS"/>
                      </a:rPr>
                      <a:t>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4059000" y="2149560"/>
                    <a:ext cx="463320" cy="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0" name=""/>
                <p:cNvSpPr/>
                <p:nvPr/>
              </p:nvSpPr>
              <p:spPr>
                <a:xfrm>
                  <a:off x="3712320" y="1822320"/>
                  <a:ext cx="333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ff"/>
                      </a:solidFill>
                      <a:latin typeface="Comic Sans MS"/>
                    </a:rPr>
                    <a:t>(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4485240" y="1822320"/>
                  <a:ext cx="333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ff"/>
                      </a:solidFill>
                      <a:latin typeface="Comic Sans MS"/>
                    </a:rPr>
                    <a:t>)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2" name=""/>
            <p:cNvGrpSpPr/>
            <p:nvPr/>
          </p:nvGrpSpPr>
          <p:grpSpPr>
            <a:xfrm>
              <a:off x="3352680" y="2707920"/>
              <a:ext cx="1895760" cy="1407960"/>
              <a:chOff x="3352680" y="2707920"/>
              <a:chExt cx="1895760" cy="1407960"/>
            </a:xfrm>
          </p:grpSpPr>
          <p:sp>
            <p:nvSpPr>
              <p:cNvPr id="1793" name=""/>
              <p:cNvSpPr/>
              <p:nvPr/>
            </p:nvSpPr>
            <p:spPr>
              <a:xfrm>
                <a:off x="3352680" y="3168720"/>
                <a:ext cx="18957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ff"/>
                    </a:solidFill>
                    <a:latin typeface="Comic Sans MS"/>
                  </a:rPr>
                  <a:t>reciprocal of bas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4300560" y="2707920"/>
                <a:ext cx="0" cy="56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797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4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438280" y="205740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the order of operations to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implify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6" name=""/>
          <p:cNvGraphicFramePr/>
          <p:nvPr/>
        </p:nvGraphicFramePr>
        <p:xfrm>
          <a:off x="3629160" y="3124080"/>
          <a:ext cx="4295520" cy="322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9160" y="3124080"/>
                    <a:ext cx="429552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066680" y="1523880"/>
            <a:ext cx="70106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Order of</a:t>
            </a:r>
            <a:endParaRPr b="0" lang="en-US" sz="24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e1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Operations</a:t>
            </a:r>
            <a:endParaRPr b="0" lang="en-US" sz="2400" spc="1" strike="noStrike">
              <a:ln w="0">
                <a:noFill/>
              </a:ln>
              <a:solidFill>
                <a:srgbClr val="0066e1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8" name=""/>
          <p:cNvGraphicFramePr/>
          <p:nvPr/>
        </p:nvGraphicFramePr>
        <p:xfrm>
          <a:off x="3629160" y="3106800"/>
          <a:ext cx="4295520" cy="324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9160" y="3106800"/>
                    <a:ext cx="429552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0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1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862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743200" y="20574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e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1" name=""/>
          <p:cNvGraphicFramePr/>
          <p:nvPr/>
        </p:nvGraphicFramePr>
        <p:xfrm>
          <a:off x="3629160" y="3067200"/>
          <a:ext cx="4295520" cy="3279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9160" y="3067200"/>
                    <a:ext cx="429552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3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4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925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2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the area of a trapezoid an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4" name=""/>
          <p:cNvGraphicFramePr/>
          <p:nvPr/>
        </p:nvGraphicFramePr>
        <p:xfrm>
          <a:off x="3629160" y="3094200"/>
          <a:ext cx="4295520" cy="3252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9160" y="3094200"/>
                    <a:ext cx="4295520" cy="32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6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988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 polynomials containing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7" name=""/>
          <p:cNvGraphicFramePr/>
          <p:nvPr/>
        </p:nvGraphicFramePr>
        <p:xfrm>
          <a:off x="3629160" y="3070080"/>
          <a:ext cx="4295520" cy="3276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9160" y="3070080"/>
                    <a:ext cx="42955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9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2051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8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e expressions with negative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0355000">
            <a:off x="487440" y="1681920"/>
            <a:ext cx="2819520" cy="1312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Rememb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167652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P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3502080"/>
            <a:ext cx="68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M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34290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enthe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400680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wers (exponent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45403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ication &amp; Di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50734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ition &amp; Subt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1523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(2 • 3)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•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(-4 + 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429000" y="2438280"/>
            <a:ext cx="5143680" cy="642600"/>
            <a:chOff x="3429000" y="2438280"/>
            <a:chExt cx="5143680" cy="642600"/>
          </a:xfrm>
        </p:grpSpPr>
        <p:sp>
          <p:nvSpPr>
            <p:cNvPr id="237" name=""/>
            <p:cNvSpPr/>
            <p:nvPr/>
          </p:nvSpPr>
          <p:spPr>
            <a:xfrm>
              <a:off x="3429000" y="243828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4</a:t>
              </a:r>
              <a:r>
                <a:rPr b="0" lang="en-US" sz="3600" spc="-1" strike="noStrike" baseline="30000">
                  <a:solidFill>
                    <a:srgbClr val="339966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– </a:t>
              </a: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6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• 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76840" y="2438280"/>
              <a:ext cx="28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Parenthes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429000" y="3375000"/>
            <a:ext cx="5143680" cy="642600"/>
            <a:chOff x="3429000" y="3375000"/>
            <a:chExt cx="5143680" cy="642600"/>
          </a:xfrm>
        </p:grpSpPr>
        <p:sp>
          <p:nvSpPr>
            <p:cNvPr id="240" name=""/>
            <p:cNvSpPr/>
            <p:nvPr/>
          </p:nvSpPr>
          <p:spPr>
            <a:xfrm>
              <a:off x="3429000" y="33750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16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– </a:t>
              </a:r>
              <a:r>
                <a:rPr b="0" lang="en-US" sz="3600" spc="-1" strike="noStrike">
                  <a:solidFill>
                    <a:srgbClr val="cc66ff"/>
                  </a:solidFill>
                  <a:latin typeface="Comic Sans MS"/>
                </a:rPr>
                <a:t>6 • 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76840" y="3375000"/>
              <a:ext cx="28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Exponen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581280" y="4289400"/>
            <a:ext cx="5105520" cy="642600"/>
            <a:chOff x="3581280" y="4289400"/>
            <a:chExt cx="5105520" cy="642600"/>
          </a:xfrm>
        </p:grpSpPr>
        <p:sp>
          <p:nvSpPr>
            <p:cNvPr id="243" name=""/>
            <p:cNvSpPr/>
            <p:nvPr/>
          </p:nvSpPr>
          <p:spPr>
            <a:xfrm>
              <a:off x="3581280" y="428940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6 – </a:t>
              </a:r>
              <a:r>
                <a:rPr b="0" lang="en-US" sz="3600" spc="-1" strike="noStrike">
                  <a:solidFill>
                    <a:srgbClr val="cc66ff"/>
                  </a:solidFill>
                  <a:latin typeface="Comic Sans MS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62720" y="428940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Multipli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114800" y="5203800"/>
            <a:ext cx="4572000" cy="1191240"/>
            <a:chOff x="4114800" y="5203800"/>
            <a:chExt cx="4572000" cy="1191240"/>
          </a:xfrm>
        </p:grpSpPr>
        <p:sp>
          <p:nvSpPr>
            <p:cNvPr id="246" name=""/>
            <p:cNvSpPr/>
            <p:nvPr/>
          </p:nvSpPr>
          <p:spPr>
            <a:xfrm>
              <a:off x="4114800" y="520380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–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62720" y="520380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Subtrac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491840" y="1295280"/>
            <a:ext cx="6222960" cy="1252080"/>
            <a:chOff x="1491840" y="1295280"/>
            <a:chExt cx="6222960" cy="1252080"/>
          </a:xfrm>
        </p:grpSpPr>
        <p:grpSp>
          <p:nvGrpSpPr>
            <p:cNvPr id="250" name=""/>
            <p:cNvGrpSpPr/>
            <p:nvPr/>
          </p:nvGrpSpPr>
          <p:grpSpPr>
            <a:xfrm>
              <a:off x="1623960" y="1295280"/>
              <a:ext cx="792000" cy="1252080"/>
              <a:chOff x="1623960" y="1295280"/>
              <a:chExt cx="792000" cy="1252080"/>
            </a:xfrm>
          </p:grpSpPr>
          <p:sp>
            <p:nvSpPr>
              <p:cNvPr id="251" name=""/>
              <p:cNvSpPr/>
              <p:nvPr/>
            </p:nvSpPr>
            <p:spPr>
              <a:xfrm>
                <a:off x="1623960" y="12952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685880" y="1904760"/>
                <a:ext cx="66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724040" y="192060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2823480" y="150804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616200" y="1295280"/>
              <a:ext cx="533520" cy="1252080"/>
              <a:chOff x="3616200" y="1295280"/>
              <a:chExt cx="533520" cy="1252080"/>
            </a:xfrm>
          </p:grpSpPr>
          <p:sp>
            <p:nvSpPr>
              <p:cNvPr id="256" name=""/>
              <p:cNvSpPr/>
              <p:nvPr/>
            </p:nvSpPr>
            <p:spPr>
              <a:xfrm>
                <a:off x="3636000" y="1295280"/>
                <a:ext cx="49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636000" y="1904760"/>
                <a:ext cx="49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616200" y="192060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6369480" y="1509840"/>
              <a:ext cx="569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√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91840" y="1509840"/>
              <a:ext cx="12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(   )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835520" y="1295280"/>
              <a:ext cx="625680" cy="1252080"/>
              <a:chOff x="4835520" y="1295280"/>
              <a:chExt cx="625680" cy="1252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858560" y="1295280"/>
                <a:ext cx="57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858560" y="1904760"/>
                <a:ext cx="57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35520" y="1920600"/>
                <a:ext cx="62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332160" y="1509840"/>
              <a:ext cx="2457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(    </a:t>
              </a:r>
              <a:r>
                <a:rPr b="0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    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39920" y="15098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6810480" y="1295280"/>
              <a:ext cx="904320" cy="1252080"/>
              <a:chOff x="6810480" y="1295280"/>
              <a:chExt cx="904320" cy="1252080"/>
            </a:xfrm>
          </p:grpSpPr>
          <p:sp>
            <p:nvSpPr>
              <p:cNvPr id="268" name=""/>
              <p:cNvSpPr/>
              <p:nvPr/>
            </p:nvSpPr>
            <p:spPr>
              <a:xfrm>
                <a:off x="6843960" y="1295280"/>
                <a:ext cx="838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43960" y="1904760"/>
                <a:ext cx="838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10480" y="1920600"/>
                <a:ext cx="904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1" name=""/>
          <p:cNvGrpSpPr/>
          <p:nvPr/>
        </p:nvGrpSpPr>
        <p:grpSpPr>
          <a:xfrm>
            <a:off x="1472760" y="2590920"/>
            <a:ext cx="6262920" cy="1252440"/>
            <a:chOff x="1472760" y="2590920"/>
            <a:chExt cx="6262920" cy="1252440"/>
          </a:xfrm>
        </p:grpSpPr>
        <p:grpSp>
          <p:nvGrpSpPr>
            <p:cNvPr id="272" name=""/>
            <p:cNvGrpSpPr/>
            <p:nvPr/>
          </p:nvGrpSpPr>
          <p:grpSpPr>
            <a:xfrm>
              <a:off x="1604880" y="2590920"/>
              <a:ext cx="792000" cy="1252080"/>
              <a:chOff x="1604880" y="2590920"/>
              <a:chExt cx="792000" cy="1252080"/>
            </a:xfrm>
          </p:grpSpPr>
          <p:sp>
            <p:nvSpPr>
              <p:cNvPr id="273" name=""/>
              <p:cNvSpPr/>
              <p:nvPr/>
            </p:nvSpPr>
            <p:spPr>
              <a:xfrm>
                <a:off x="1604880" y="259092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666800" y="3200400"/>
                <a:ext cx="66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704960" y="321624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2804400" y="280368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72760" y="2803680"/>
              <a:ext cx="12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(   )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637080" y="2590920"/>
              <a:ext cx="533160" cy="1252080"/>
              <a:chOff x="3637080" y="2590920"/>
              <a:chExt cx="533160" cy="1252080"/>
            </a:xfrm>
          </p:grpSpPr>
          <p:sp>
            <p:nvSpPr>
              <p:cNvPr id="279" name=""/>
              <p:cNvSpPr/>
              <p:nvPr/>
            </p:nvSpPr>
            <p:spPr>
              <a:xfrm>
                <a:off x="3656880" y="2590920"/>
                <a:ext cx="494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56880" y="3200400"/>
                <a:ext cx="494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37080" y="321624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6390000" y="2805120"/>
              <a:ext cx="569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√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4800600" y="2590920"/>
              <a:ext cx="625320" cy="1252440"/>
              <a:chOff x="4800600" y="2590920"/>
              <a:chExt cx="625320" cy="1252440"/>
            </a:xfrm>
          </p:grpSpPr>
          <p:sp>
            <p:nvSpPr>
              <p:cNvPr id="284" name=""/>
              <p:cNvSpPr/>
              <p:nvPr/>
            </p:nvSpPr>
            <p:spPr>
              <a:xfrm>
                <a:off x="4824360" y="2590920"/>
                <a:ext cx="57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824360" y="3200760"/>
                <a:ext cx="57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00600" y="3216600"/>
                <a:ext cx="6253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3431520" y="2805120"/>
              <a:ext cx="2201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(   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•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    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860800" y="28051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6831000" y="2590920"/>
              <a:ext cx="904680" cy="1252080"/>
              <a:chOff x="6831000" y="2590920"/>
              <a:chExt cx="904680" cy="1252080"/>
            </a:xfrm>
          </p:grpSpPr>
          <p:sp>
            <p:nvSpPr>
              <p:cNvPr id="290" name=""/>
              <p:cNvSpPr/>
              <p:nvPr/>
            </p:nvSpPr>
            <p:spPr>
              <a:xfrm>
                <a:off x="6864480" y="2590920"/>
                <a:ext cx="838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864480" y="3200400"/>
                <a:ext cx="838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831000" y="3216240"/>
                <a:ext cx="90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1472760" y="3886200"/>
            <a:ext cx="6262920" cy="1252080"/>
            <a:chOff x="1472760" y="3886200"/>
            <a:chExt cx="6262920" cy="1252080"/>
          </a:xfrm>
        </p:grpSpPr>
        <p:grpSp>
          <p:nvGrpSpPr>
            <p:cNvPr id="294" name=""/>
            <p:cNvGrpSpPr/>
            <p:nvPr/>
          </p:nvGrpSpPr>
          <p:grpSpPr>
            <a:xfrm>
              <a:off x="1604880" y="3886200"/>
              <a:ext cx="792000" cy="1252080"/>
              <a:chOff x="1604880" y="3886200"/>
              <a:chExt cx="792000" cy="1252080"/>
            </a:xfrm>
          </p:grpSpPr>
          <p:sp>
            <p:nvSpPr>
              <p:cNvPr id="295" name=""/>
              <p:cNvSpPr/>
              <p:nvPr/>
            </p:nvSpPr>
            <p:spPr>
              <a:xfrm>
                <a:off x="1604880" y="388620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666800" y="4495680"/>
                <a:ext cx="66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704960" y="451152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2804400" y="409896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72760" y="4098960"/>
              <a:ext cx="12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(   )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637080" y="3886200"/>
              <a:ext cx="533160" cy="1252080"/>
              <a:chOff x="3637080" y="3886200"/>
              <a:chExt cx="533160" cy="1252080"/>
            </a:xfrm>
          </p:grpSpPr>
          <p:sp>
            <p:nvSpPr>
              <p:cNvPr id="301" name=""/>
              <p:cNvSpPr/>
              <p:nvPr/>
            </p:nvSpPr>
            <p:spPr>
              <a:xfrm>
                <a:off x="3656880" y="3886200"/>
                <a:ext cx="494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56880" y="4495680"/>
                <a:ext cx="494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637080" y="451152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6390000" y="4100400"/>
              <a:ext cx="569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√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800600" y="3886200"/>
              <a:ext cx="625320" cy="1252080"/>
              <a:chOff x="4800600" y="3886200"/>
              <a:chExt cx="625320" cy="1252080"/>
            </a:xfrm>
          </p:grpSpPr>
          <p:sp>
            <p:nvSpPr>
              <p:cNvPr id="306" name=""/>
              <p:cNvSpPr/>
              <p:nvPr/>
            </p:nvSpPr>
            <p:spPr>
              <a:xfrm>
                <a:off x="4824360" y="3886200"/>
                <a:ext cx="57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824360" y="4495680"/>
                <a:ext cx="57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00600" y="4511520"/>
                <a:ext cx="625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431520" y="4100400"/>
              <a:ext cx="2201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(   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•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    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60800" y="4100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6831000" y="3886200"/>
              <a:ext cx="904680" cy="1252080"/>
              <a:chOff x="6831000" y="3886200"/>
              <a:chExt cx="904680" cy="1252080"/>
            </a:xfrm>
          </p:grpSpPr>
          <p:sp>
            <p:nvSpPr>
              <p:cNvPr id="312" name=""/>
              <p:cNvSpPr/>
              <p:nvPr/>
            </p:nvSpPr>
            <p:spPr>
              <a:xfrm>
                <a:off x="6864480" y="3886200"/>
                <a:ext cx="838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864480" y="4495680"/>
                <a:ext cx="838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831000" y="4511520"/>
                <a:ext cx="90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2426760" y="5105520"/>
            <a:ext cx="4354560" cy="1252080"/>
            <a:chOff x="2426760" y="5105520"/>
            <a:chExt cx="4354560" cy="1252080"/>
          </a:xfrm>
        </p:grpSpPr>
        <p:grpSp>
          <p:nvGrpSpPr>
            <p:cNvPr id="316" name=""/>
            <p:cNvGrpSpPr/>
            <p:nvPr/>
          </p:nvGrpSpPr>
          <p:grpSpPr>
            <a:xfrm>
              <a:off x="2558880" y="5105520"/>
              <a:ext cx="792000" cy="1252080"/>
              <a:chOff x="2558880" y="5105520"/>
              <a:chExt cx="792000" cy="1252080"/>
            </a:xfrm>
          </p:grpSpPr>
          <p:sp>
            <p:nvSpPr>
              <p:cNvPr id="317" name=""/>
              <p:cNvSpPr/>
              <p:nvPr/>
            </p:nvSpPr>
            <p:spPr>
              <a:xfrm>
                <a:off x="2558880" y="510552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20800" y="5715000"/>
                <a:ext cx="66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58960" y="573084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3758400" y="531828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26760" y="5318280"/>
              <a:ext cx="12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(   )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36000" y="5319720"/>
              <a:ext cx="569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√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4230720" y="5105520"/>
              <a:ext cx="625320" cy="1252080"/>
              <a:chOff x="4230720" y="5105520"/>
              <a:chExt cx="625320" cy="1252080"/>
            </a:xfrm>
          </p:grpSpPr>
          <p:sp>
            <p:nvSpPr>
              <p:cNvPr id="324" name=""/>
              <p:cNvSpPr/>
              <p:nvPr/>
            </p:nvSpPr>
            <p:spPr>
              <a:xfrm>
                <a:off x="4254480" y="5105520"/>
                <a:ext cx="57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254480" y="5715000"/>
                <a:ext cx="57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230720" y="5730840"/>
                <a:ext cx="625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4906440" y="53197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5876640" y="5105520"/>
              <a:ext cx="904680" cy="1252080"/>
              <a:chOff x="5876640" y="5105520"/>
              <a:chExt cx="904680" cy="1252080"/>
            </a:xfrm>
          </p:grpSpPr>
          <p:sp>
            <p:nvSpPr>
              <p:cNvPr id="329" name=""/>
              <p:cNvSpPr/>
              <p:nvPr/>
            </p:nvSpPr>
            <p:spPr>
              <a:xfrm>
                <a:off x="5910120" y="5105520"/>
                <a:ext cx="838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910120" y="5715000"/>
                <a:ext cx="838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76640" y="5730840"/>
                <a:ext cx="90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150280" y="2590920"/>
            <a:ext cx="4933800" cy="1252440"/>
            <a:chOff x="2150280" y="2590920"/>
            <a:chExt cx="4933800" cy="1252440"/>
          </a:xfrm>
        </p:grpSpPr>
        <p:grpSp>
          <p:nvGrpSpPr>
            <p:cNvPr id="334" name=""/>
            <p:cNvGrpSpPr/>
            <p:nvPr/>
          </p:nvGrpSpPr>
          <p:grpSpPr>
            <a:xfrm>
              <a:off x="4900680" y="2590920"/>
              <a:ext cx="792000" cy="1252080"/>
              <a:chOff x="4900680" y="2590920"/>
              <a:chExt cx="792000" cy="1252080"/>
            </a:xfrm>
          </p:grpSpPr>
          <p:sp>
            <p:nvSpPr>
              <p:cNvPr id="335" name=""/>
              <p:cNvSpPr/>
              <p:nvPr/>
            </p:nvSpPr>
            <p:spPr>
              <a:xfrm>
                <a:off x="4900680" y="259092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62600" y="3200400"/>
                <a:ext cx="66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00760" y="321624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4515840" y="280368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2355840" y="2590920"/>
              <a:ext cx="533160" cy="1252080"/>
              <a:chOff x="2355840" y="2590920"/>
              <a:chExt cx="533160" cy="1252080"/>
            </a:xfrm>
          </p:grpSpPr>
          <p:sp>
            <p:nvSpPr>
              <p:cNvPr id="340" name=""/>
              <p:cNvSpPr/>
              <p:nvPr/>
            </p:nvSpPr>
            <p:spPr>
              <a:xfrm>
                <a:off x="2376360" y="2590920"/>
                <a:ext cx="49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376360" y="3200400"/>
                <a:ext cx="49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355840" y="32162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225120" y="2805120"/>
              <a:ext cx="858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√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3519360" y="2590920"/>
              <a:ext cx="625320" cy="1252440"/>
              <a:chOff x="3519360" y="2590920"/>
              <a:chExt cx="625320" cy="1252440"/>
            </a:xfrm>
          </p:grpSpPr>
          <p:sp>
            <p:nvSpPr>
              <p:cNvPr id="345" name=""/>
              <p:cNvSpPr/>
              <p:nvPr/>
            </p:nvSpPr>
            <p:spPr>
              <a:xfrm>
                <a:off x="3543120" y="2590920"/>
                <a:ext cx="57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543120" y="3200760"/>
                <a:ext cx="57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19360" y="3216600"/>
                <a:ext cx="6253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2150280" y="2805120"/>
              <a:ext cx="2201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(    •     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85840" y="28051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124080" y="3886200"/>
            <a:ext cx="2851920" cy="1252080"/>
            <a:chOff x="3124080" y="3886200"/>
            <a:chExt cx="2851920" cy="1252080"/>
          </a:xfrm>
        </p:grpSpPr>
        <p:grpSp>
          <p:nvGrpSpPr>
            <p:cNvPr id="351" name=""/>
            <p:cNvGrpSpPr/>
            <p:nvPr/>
          </p:nvGrpSpPr>
          <p:grpSpPr>
            <a:xfrm>
              <a:off x="3124080" y="3886200"/>
              <a:ext cx="792000" cy="1252080"/>
              <a:chOff x="3124080" y="3886200"/>
              <a:chExt cx="792000" cy="1252080"/>
            </a:xfrm>
          </p:grpSpPr>
          <p:sp>
            <p:nvSpPr>
              <p:cNvPr id="352" name=""/>
              <p:cNvSpPr/>
              <p:nvPr/>
            </p:nvSpPr>
            <p:spPr>
              <a:xfrm>
                <a:off x="3124080" y="388620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186000" y="4495680"/>
                <a:ext cx="66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24160" y="451152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3921840" y="409896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392360" y="3886200"/>
              <a:ext cx="533520" cy="1252080"/>
              <a:chOff x="4392360" y="3886200"/>
              <a:chExt cx="533520" cy="1252080"/>
            </a:xfrm>
          </p:grpSpPr>
          <p:sp>
            <p:nvSpPr>
              <p:cNvPr id="357" name=""/>
              <p:cNvSpPr/>
              <p:nvPr/>
            </p:nvSpPr>
            <p:spPr>
              <a:xfrm>
                <a:off x="4412160" y="3886200"/>
                <a:ext cx="49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12160" y="4495680"/>
                <a:ext cx="49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392360" y="451152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4998240" y="4100400"/>
              <a:ext cx="977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426760" y="1295280"/>
            <a:ext cx="4354560" cy="1252080"/>
            <a:chOff x="2426760" y="1295280"/>
            <a:chExt cx="4354560" cy="1252080"/>
          </a:xfrm>
        </p:grpSpPr>
        <p:grpSp>
          <p:nvGrpSpPr>
            <p:cNvPr id="362" name=""/>
            <p:cNvGrpSpPr/>
            <p:nvPr/>
          </p:nvGrpSpPr>
          <p:grpSpPr>
            <a:xfrm>
              <a:off x="2558880" y="1295280"/>
              <a:ext cx="792000" cy="1252080"/>
              <a:chOff x="2558880" y="1295280"/>
              <a:chExt cx="792000" cy="1252080"/>
            </a:xfrm>
          </p:grpSpPr>
          <p:sp>
            <p:nvSpPr>
              <p:cNvPr id="363" name=""/>
              <p:cNvSpPr/>
              <p:nvPr/>
            </p:nvSpPr>
            <p:spPr>
              <a:xfrm>
                <a:off x="2558880" y="129528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620800" y="1904760"/>
                <a:ext cx="66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58960" y="1920600"/>
                <a:ext cx="592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3758400" y="150804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26760" y="1508040"/>
              <a:ext cx="12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(   )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36000" y="1509480"/>
              <a:ext cx="569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√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4230720" y="1295280"/>
              <a:ext cx="625320" cy="1252080"/>
              <a:chOff x="4230720" y="1295280"/>
              <a:chExt cx="625320" cy="1252080"/>
            </a:xfrm>
          </p:grpSpPr>
          <p:sp>
            <p:nvSpPr>
              <p:cNvPr id="370" name=""/>
              <p:cNvSpPr/>
              <p:nvPr/>
            </p:nvSpPr>
            <p:spPr>
              <a:xfrm>
                <a:off x="4254480" y="1295280"/>
                <a:ext cx="57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254480" y="1904760"/>
                <a:ext cx="57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230720" y="1920600"/>
                <a:ext cx="625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4906440" y="15094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5876640" y="1295280"/>
              <a:ext cx="904680" cy="1252080"/>
              <a:chOff x="5876640" y="1295280"/>
              <a:chExt cx="904680" cy="1252080"/>
            </a:xfrm>
          </p:grpSpPr>
          <p:sp>
            <p:nvSpPr>
              <p:cNvPr id="375" name=""/>
              <p:cNvSpPr/>
              <p:nvPr/>
            </p:nvSpPr>
            <p:spPr>
              <a:xfrm>
                <a:off x="5910120" y="1295280"/>
                <a:ext cx="838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10120" y="1904760"/>
                <a:ext cx="838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876640" y="1920600"/>
                <a:ext cx="904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8" name=""/>
          <p:cNvGrpSpPr/>
          <p:nvPr/>
        </p:nvGrpSpPr>
        <p:grpSpPr>
          <a:xfrm>
            <a:off x="3124080" y="5105520"/>
            <a:ext cx="2851920" cy="1252080"/>
            <a:chOff x="3124080" y="5105520"/>
            <a:chExt cx="2851920" cy="1252080"/>
          </a:xfrm>
        </p:grpSpPr>
        <p:grpSp>
          <p:nvGrpSpPr>
            <p:cNvPr id="379" name=""/>
            <p:cNvGrpSpPr/>
            <p:nvPr/>
          </p:nvGrpSpPr>
          <p:grpSpPr>
            <a:xfrm>
              <a:off x="3124080" y="5105520"/>
              <a:ext cx="792360" cy="1252080"/>
              <a:chOff x="3124080" y="5105520"/>
              <a:chExt cx="792360" cy="1252080"/>
            </a:xfrm>
          </p:grpSpPr>
          <p:sp>
            <p:nvSpPr>
              <p:cNvPr id="380" name=""/>
              <p:cNvSpPr/>
              <p:nvPr/>
            </p:nvSpPr>
            <p:spPr>
              <a:xfrm>
                <a:off x="3124080" y="5105520"/>
                <a:ext cx="79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86000" y="5715000"/>
                <a:ext cx="66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224160" y="5730840"/>
                <a:ext cx="5922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3921840" y="5318280"/>
              <a:ext cx="40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4392720" y="5105520"/>
              <a:ext cx="533160" cy="1252080"/>
              <a:chOff x="4392720" y="5105520"/>
              <a:chExt cx="533160" cy="1252080"/>
            </a:xfrm>
          </p:grpSpPr>
          <p:sp>
            <p:nvSpPr>
              <p:cNvPr id="385" name=""/>
              <p:cNvSpPr/>
              <p:nvPr/>
            </p:nvSpPr>
            <p:spPr>
              <a:xfrm>
                <a:off x="4413240" y="5105520"/>
                <a:ext cx="49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3240" y="5715000"/>
                <a:ext cx="493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392720" y="57308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4998240" y="5319720"/>
              <a:ext cx="977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3:02Z</dcterms:modified>
  <cp:revision>295</cp:revision>
  <dc:subject/>
  <dc:title>PowerPoint Presentation</dc:title>
</cp:coreProperties>
</file>