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4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2  Uni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772400" cy="46483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2" name=""/>
          <p:cNvSpPr txBox="1"/>
          <p:nvPr/>
        </p:nvSpPr>
        <p:spPr>
          <a:xfrm>
            <a:off x="990720" y="2438280"/>
            <a:ext cx="70866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Using Percen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5160" y="1143000"/>
            <a:ext cx="293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Comic Sans MS"/>
              </a:rPr>
              <a:t>Per</a:t>
            </a:r>
            <a:r>
              <a:rPr b="0" lang="en-US" sz="6000" spc="-1" strike="noStrike">
                <a:solidFill>
                  <a:srgbClr val="cc66ff"/>
                </a:solidFill>
                <a:latin typeface="Comic Sans MS"/>
              </a:rPr>
              <a:t>c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70600" y="2590920"/>
            <a:ext cx="311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for ea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0280" y="2406600"/>
            <a:ext cx="3466800" cy="1631880"/>
          </a:xfrm>
          <a:prstGeom prst="wedgeRoundRectCallout">
            <a:avLst>
              <a:gd name="adj1" fmla="val 70513"/>
              <a:gd name="adj2" fmla="val 2430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ff"/>
                </a:solidFill>
                <a:latin typeface="Comic Sans MS"/>
              </a:rPr>
              <a:t>p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52880" y="4387680"/>
            <a:ext cx="3467160" cy="1632240"/>
          </a:xfrm>
          <a:prstGeom prst="wedgeRoundRectCallout">
            <a:avLst>
              <a:gd name="adj1" fmla="val -76421"/>
              <a:gd name="adj2" fmla="val 22375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66ff"/>
                </a:solidFill>
                <a:latin typeface="Comic Sans MS"/>
              </a:rPr>
              <a:t>cen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4360" y="5029200"/>
            <a:ext cx="327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undr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8200" y="3352680"/>
            <a:ext cx="2016360" cy="1676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68760" y="1617840"/>
            <a:ext cx="3860640" cy="2192040"/>
          </a:xfrm>
          <a:prstGeom prst="rect">
            <a:avLst/>
          </a:prstGeom>
          <a:solidFill>
            <a:srgbClr val="b2b2b2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4920" y="4238640"/>
            <a:ext cx="7147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N percent is defined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the ratio of N to 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940280" y="1905120"/>
            <a:ext cx="1355760" cy="1755000"/>
            <a:chOff x="4940280" y="1905120"/>
            <a:chExt cx="1355760" cy="1755000"/>
          </a:xfrm>
        </p:grpSpPr>
        <p:sp>
          <p:nvSpPr>
            <p:cNvPr id="188" name=""/>
            <p:cNvSpPr/>
            <p:nvPr/>
          </p:nvSpPr>
          <p:spPr>
            <a:xfrm>
              <a:off x="5241600" y="1905120"/>
              <a:ext cx="70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05520" y="2743200"/>
              <a:ext cx="10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0280" y="274320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032640" y="2286000"/>
            <a:ext cx="184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N%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687240" y="1990800"/>
            <a:ext cx="3655800" cy="3655800"/>
            <a:chOff x="687240" y="1990800"/>
            <a:chExt cx="3655800" cy="3655800"/>
          </a:xfrm>
        </p:grpSpPr>
        <p:sp>
          <p:nvSpPr>
            <p:cNvPr id="194" name=""/>
            <p:cNvSpPr/>
            <p:nvPr/>
          </p:nvSpPr>
          <p:spPr>
            <a:xfrm>
              <a:off x="687240" y="1990800"/>
              <a:ext cx="3655800" cy="3655800"/>
            </a:xfrm>
            <a:custGeom>
              <a:avLst/>
              <a:gdLst/>
              <a:ahLst/>
              <a:rect l="l" t="t" r="r" b="b"/>
              <a:pathLst>
                <a:path w="2303" h="2303">
                  <a:moveTo>
                    <a:pt x="2294" y="642"/>
                  </a:moveTo>
                  <a:lnTo>
                    <a:pt x="2288" y="608"/>
                  </a:lnTo>
                  <a:lnTo>
                    <a:pt x="2280" y="574"/>
                  </a:lnTo>
                  <a:lnTo>
                    <a:pt x="2269" y="541"/>
                  </a:lnTo>
                  <a:lnTo>
                    <a:pt x="2257" y="509"/>
                  </a:lnTo>
                  <a:lnTo>
                    <a:pt x="2242" y="477"/>
                  </a:lnTo>
                  <a:lnTo>
                    <a:pt x="2225" y="446"/>
                  </a:lnTo>
                  <a:lnTo>
                    <a:pt x="2207" y="416"/>
                  </a:lnTo>
                  <a:lnTo>
                    <a:pt x="2185" y="386"/>
                  </a:lnTo>
                  <a:lnTo>
                    <a:pt x="2163" y="357"/>
                  </a:lnTo>
                  <a:lnTo>
                    <a:pt x="2138" y="330"/>
                  </a:lnTo>
                  <a:lnTo>
                    <a:pt x="2111" y="302"/>
                  </a:lnTo>
                  <a:lnTo>
                    <a:pt x="2084" y="276"/>
                  </a:lnTo>
                  <a:lnTo>
                    <a:pt x="2054" y="251"/>
                  </a:lnTo>
                  <a:lnTo>
                    <a:pt x="2023" y="227"/>
                  </a:lnTo>
                  <a:lnTo>
                    <a:pt x="1990" y="203"/>
                  </a:lnTo>
                  <a:lnTo>
                    <a:pt x="1956" y="182"/>
                  </a:lnTo>
                  <a:lnTo>
                    <a:pt x="1920" y="160"/>
                  </a:lnTo>
                  <a:lnTo>
                    <a:pt x="1883" y="141"/>
                  </a:lnTo>
                  <a:lnTo>
                    <a:pt x="1844" y="122"/>
                  </a:lnTo>
                  <a:lnTo>
                    <a:pt x="1805" y="104"/>
                  </a:lnTo>
                  <a:lnTo>
                    <a:pt x="1764" y="87"/>
                  </a:lnTo>
                  <a:lnTo>
                    <a:pt x="1722" y="73"/>
                  </a:lnTo>
                  <a:lnTo>
                    <a:pt x="1679" y="59"/>
                  </a:lnTo>
                  <a:lnTo>
                    <a:pt x="1635" y="47"/>
                  </a:lnTo>
                  <a:lnTo>
                    <a:pt x="1591" y="36"/>
                  </a:lnTo>
                  <a:lnTo>
                    <a:pt x="1544" y="25"/>
                  </a:lnTo>
                  <a:lnTo>
                    <a:pt x="1498" y="18"/>
                  </a:lnTo>
                  <a:lnTo>
                    <a:pt x="1451" y="11"/>
                  </a:lnTo>
                  <a:lnTo>
                    <a:pt x="1403" y="6"/>
                  </a:lnTo>
                  <a:lnTo>
                    <a:pt x="1354" y="2"/>
                  </a:lnTo>
                  <a:lnTo>
                    <a:pt x="1305" y="0"/>
                  </a:lnTo>
                  <a:lnTo>
                    <a:pt x="1255" y="0"/>
                  </a:lnTo>
                  <a:lnTo>
                    <a:pt x="1222" y="1"/>
                  </a:lnTo>
                  <a:lnTo>
                    <a:pt x="1187" y="2"/>
                  </a:lnTo>
                  <a:lnTo>
                    <a:pt x="1154" y="5"/>
                  </a:lnTo>
                  <a:lnTo>
                    <a:pt x="1120" y="7"/>
                  </a:lnTo>
                  <a:lnTo>
                    <a:pt x="1087" y="12"/>
                  </a:lnTo>
                  <a:lnTo>
                    <a:pt x="1055" y="16"/>
                  </a:lnTo>
                  <a:lnTo>
                    <a:pt x="1021" y="21"/>
                  </a:lnTo>
                  <a:lnTo>
                    <a:pt x="989" y="27"/>
                  </a:lnTo>
                  <a:lnTo>
                    <a:pt x="957" y="35"/>
                  </a:lnTo>
                  <a:lnTo>
                    <a:pt x="924" y="42"/>
                  </a:lnTo>
                  <a:lnTo>
                    <a:pt x="892" y="50"/>
                  </a:lnTo>
                  <a:lnTo>
                    <a:pt x="861" y="60"/>
                  </a:lnTo>
                  <a:lnTo>
                    <a:pt x="829" y="69"/>
                  </a:lnTo>
                  <a:lnTo>
                    <a:pt x="798" y="80"/>
                  </a:lnTo>
                  <a:lnTo>
                    <a:pt x="768" y="92"/>
                  </a:lnTo>
                  <a:lnTo>
                    <a:pt x="737" y="104"/>
                  </a:lnTo>
                  <a:lnTo>
                    <a:pt x="707" y="116"/>
                  </a:lnTo>
                  <a:lnTo>
                    <a:pt x="677" y="130"/>
                  </a:lnTo>
                  <a:lnTo>
                    <a:pt x="649" y="143"/>
                  </a:lnTo>
                  <a:lnTo>
                    <a:pt x="619" y="159"/>
                  </a:lnTo>
                  <a:lnTo>
                    <a:pt x="590" y="174"/>
                  </a:lnTo>
                  <a:lnTo>
                    <a:pt x="563" y="191"/>
                  </a:lnTo>
                  <a:lnTo>
                    <a:pt x="534" y="208"/>
                  </a:lnTo>
                  <a:lnTo>
                    <a:pt x="506" y="226"/>
                  </a:lnTo>
                  <a:lnTo>
                    <a:pt x="480" y="244"/>
                  </a:lnTo>
                  <a:lnTo>
                    <a:pt x="453" y="263"/>
                  </a:lnTo>
                  <a:lnTo>
                    <a:pt x="428" y="282"/>
                  </a:lnTo>
                  <a:lnTo>
                    <a:pt x="401" y="302"/>
                  </a:lnTo>
                  <a:lnTo>
                    <a:pt x="376" y="324"/>
                  </a:lnTo>
                  <a:lnTo>
                    <a:pt x="351" y="345"/>
                  </a:lnTo>
                  <a:lnTo>
                    <a:pt x="327" y="368"/>
                  </a:lnTo>
                  <a:lnTo>
                    <a:pt x="303" y="391"/>
                  </a:lnTo>
                  <a:lnTo>
                    <a:pt x="252" y="446"/>
                  </a:lnTo>
                  <a:lnTo>
                    <a:pt x="204" y="504"/>
                  </a:lnTo>
                  <a:lnTo>
                    <a:pt x="162" y="564"/>
                  </a:lnTo>
                  <a:lnTo>
                    <a:pt x="124" y="626"/>
                  </a:lnTo>
                  <a:lnTo>
                    <a:pt x="92" y="691"/>
                  </a:lnTo>
                  <a:lnTo>
                    <a:pt x="65" y="758"/>
                  </a:lnTo>
                  <a:lnTo>
                    <a:pt x="42" y="826"/>
                  </a:lnTo>
                  <a:lnTo>
                    <a:pt x="24" y="895"/>
                  </a:lnTo>
                  <a:lnTo>
                    <a:pt x="11" y="966"/>
                  </a:lnTo>
                  <a:lnTo>
                    <a:pt x="2" y="1039"/>
                  </a:lnTo>
                  <a:lnTo>
                    <a:pt x="0" y="1111"/>
                  </a:lnTo>
                  <a:lnTo>
                    <a:pt x="2" y="1184"/>
                  </a:lnTo>
                  <a:lnTo>
                    <a:pt x="11" y="1260"/>
                  </a:lnTo>
                  <a:lnTo>
                    <a:pt x="23" y="1334"/>
                  </a:lnTo>
                  <a:lnTo>
                    <a:pt x="41" y="1408"/>
                  </a:lnTo>
                  <a:lnTo>
                    <a:pt x="65" y="1483"/>
                  </a:lnTo>
                  <a:lnTo>
                    <a:pt x="75" y="1512"/>
                  </a:lnTo>
                  <a:lnTo>
                    <a:pt x="87" y="1542"/>
                  </a:lnTo>
                  <a:lnTo>
                    <a:pt x="99" y="1570"/>
                  </a:lnTo>
                  <a:lnTo>
                    <a:pt x="111" y="1598"/>
                  </a:lnTo>
                  <a:lnTo>
                    <a:pt x="125" y="1627"/>
                  </a:lnTo>
                  <a:lnTo>
                    <a:pt x="140" y="1654"/>
                  </a:lnTo>
                  <a:lnTo>
                    <a:pt x="154" y="1682"/>
                  </a:lnTo>
                  <a:lnTo>
                    <a:pt x="170" y="1708"/>
                  </a:lnTo>
                  <a:lnTo>
                    <a:pt x="186" y="1734"/>
                  </a:lnTo>
                  <a:lnTo>
                    <a:pt x="203" y="1760"/>
                  </a:lnTo>
                  <a:lnTo>
                    <a:pt x="221" y="1786"/>
                  </a:lnTo>
                  <a:lnTo>
                    <a:pt x="239" y="1811"/>
                  </a:lnTo>
                  <a:lnTo>
                    <a:pt x="257" y="1836"/>
                  </a:lnTo>
                  <a:lnTo>
                    <a:pt x="276" y="1861"/>
                  </a:lnTo>
                  <a:lnTo>
                    <a:pt x="296" y="1884"/>
                  </a:lnTo>
                  <a:lnTo>
                    <a:pt x="317" y="1907"/>
                  </a:lnTo>
                  <a:lnTo>
                    <a:pt x="317" y="1910"/>
                  </a:lnTo>
                  <a:lnTo>
                    <a:pt x="319" y="1910"/>
                  </a:lnTo>
                  <a:lnTo>
                    <a:pt x="336" y="1929"/>
                  </a:lnTo>
                  <a:lnTo>
                    <a:pt x="354" y="1947"/>
                  </a:lnTo>
                  <a:lnTo>
                    <a:pt x="371" y="1965"/>
                  </a:lnTo>
                  <a:lnTo>
                    <a:pt x="389" y="1983"/>
                  </a:lnTo>
                  <a:lnTo>
                    <a:pt x="408" y="1999"/>
                  </a:lnTo>
                  <a:lnTo>
                    <a:pt x="426" y="2016"/>
                  </a:lnTo>
                  <a:lnTo>
                    <a:pt x="445" y="2033"/>
                  </a:lnTo>
                  <a:lnTo>
                    <a:pt x="466" y="2048"/>
                  </a:lnTo>
                  <a:lnTo>
                    <a:pt x="485" y="2064"/>
                  </a:lnTo>
                  <a:lnTo>
                    <a:pt x="505" y="2080"/>
                  </a:lnTo>
                  <a:lnTo>
                    <a:pt x="526" y="2095"/>
                  </a:lnTo>
                  <a:lnTo>
                    <a:pt x="546" y="2109"/>
                  </a:lnTo>
                  <a:lnTo>
                    <a:pt x="567" y="2123"/>
                  </a:lnTo>
                  <a:lnTo>
                    <a:pt x="589" y="2137"/>
                  </a:lnTo>
                  <a:lnTo>
                    <a:pt x="610" y="2149"/>
                  </a:lnTo>
                  <a:lnTo>
                    <a:pt x="632" y="2162"/>
                  </a:lnTo>
                  <a:lnTo>
                    <a:pt x="664" y="2179"/>
                  </a:lnTo>
                  <a:lnTo>
                    <a:pt x="695" y="2194"/>
                  </a:lnTo>
                  <a:lnTo>
                    <a:pt x="727" y="2210"/>
                  </a:lnTo>
                  <a:lnTo>
                    <a:pt x="761" y="2223"/>
                  </a:lnTo>
                  <a:lnTo>
                    <a:pt x="793" y="2236"/>
                  </a:lnTo>
                  <a:lnTo>
                    <a:pt x="826" y="2248"/>
                  </a:lnTo>
                  <a:lnTo>
                    <a:pt x="860" y="2258"/>
                  </a:lnTo>
                  <a:lnTo>
                    <a:pt x="893" y="2267"/>
                  </a:lnTo>
                  <a:lnTo>
                    <a:pt x="927" y="2276"/>
                  </a:lnTo>
                  <a:lnTo>
                    <a:pt x="961" y="2283"/>
                  </a:lnTo>
                  <a:lnTo>
                    <a:pt x="995" y="2289"/>
                  </a:lnTo>
                  <a:lnTo>
                    <a:pt x="1029" y="2295"/>
                  </a:lnTo>
                  <a:lnTo>
                    <a:pt x="1064" y="2298"/>
                  </a:lnTo>
                  <a:lnTo>
                    <a:pt x="1099" y="2301"/>
                  </a:lnTo>
                  <a:lnTo>
                    <a:pt x="1135" y="2303"/>
                  </a:lnTo>
                  <a:lnTo>
                    <a:pt x="1169" y="2303"/>
                  </a:lnTo>
                  <a:lnTo>
                    <a:pt x="1180" y="2303"/>
                  </a:lnTo>
                  <a:lnTo>
                    <a:pt x="1195" y="2302"/>
                  </a:lnTo>
                  <a:lnTo>
                    <a:pt x="1216" y="2302"/>
                  </a:lnTo>
                  <a:lnTo>
                    <a:pt x="1238" y="2299"/>
                  </a:lnTo>
                  <a:lnTo>
                    <a:pt x="1265" y="2297"/>
                  </a:lnTo>
                  <a:lnTo>
                    <a:pt x="1293" y="2292"/>
                  </a:lnTo>
                  <a:lnTo>
                    <a:pt x="1326" y="2287"/>
                  </a:lnTo>
                  <a:lnTo>
                    <a:pt x="1359" y="2280"/>
                  </a:lnTo>
                  <a:lnTo>
                    <a:pt x="1395" y="2272"/>
                  </a:lnTo>
                  <a:lnTo>
                    <a:pt x="1432" y="2261"/>
                  </a:lnTo>
                  <a:lnTo>
                    <a:pt x="1470" y="2248"/>
                  </a:lnTo>
                  <a:lnTo>
                    <a:pt x="1508" y="2232"/>
                  </a:lnTo>
                  <a:lnTo>
                    <a:pt x="1548" y="2215"/>
                  </a:lnTo>
                  <a:lnTo>
                    <a:pt x="1587" y="2194"/>
                  </a:lnTo>
                  <a:lnTo>
                    <a:pt x="1627" y="2170"/>
                  </a:lnTo>
                  <a:lnTo>
                    <a:pt x="1665" y="2143"/>
                  </a:lnTo>
                  <a:lnTo>
                    <a:pt x="1695" y="2119"/>
                  </a:lnTo>
                  <a:lnTo>
                    <a:pt x="1723" y="2094"/>
                  </a:lnTo>
                  <a:lnTo>
                    <a:pt x="1748" y="2066"/>
                  </a:lnTo>
                  <a:lnTo>
                    <a:pt x="1773" y="2039"/>
                  </a:lnTo>
                  <a:lnTo>
                    <a:pt x="1795" y="2010"/>
                  </a:lnTo>
                  <a:lnTo>
                    <a:pt x="1815" y="1979"/>
                  </a:lnTo>
                  <a:lnTo>
                    <a:pt x="1834" y="1947"/>
                  </a:lnTo>
                  <a:lnTo>
                    <a:pt x="1851" y="1915"/>
                  </a:lnTo>
                  <a:lnTo>
                    <a:pt x="1865" y="1880"/>
                  </a:lnTo>
                  <a:lnTo>
                    <a:pt x="1879" y="1844"/>
                  </a:lnTo>
                  <a:lnTo>
                    <a:pt x="1889" y="1807"/>
                  </a:lnTo>
                  <a:lnTo>
                    <a:pt x="1898" y="1769"/>
                  </a:lnTo>
                  <a:lnTo>
                    <a:pt x="1905" y="1729"/>
                  </a:lnTo>
                  <a:lnTo>
                    <a:pt x="1910" y="1689"/>
                  </a:lnTo>
                  <a:lnTo>
                    <a:pt x="1912" y="1647"/>
                  </a:lnTo>
                  <a:lnTo>
                    <a:pt x="1913" y="1604"/>
                  </a:lnTo>
                  <a:lnTo>
                    <a:pt x="1917" y="1532"/>
                  </a:lnTo>
                  <a:lnTo>
                    <a:pt x="1929" y="1470"/>
                  </a:lnTo>
                  <a:lnTo>
                    <a:pt x="1947" y="1415"/>
                  </a:lnTo>
                  <a:lnTo>
                    <a:pt x="1971" y="1367"/>
                  </a:lnTo>
                  <a:lnTo>
                    <a:pt x="1998" y="1325"/>
                  </a:lnTo>
                  <a:lnTo>
                    <a:pt x="2029" y="1286"/>
                  </a:lnTo>
                  <a:lnTo>
                    <a:pt x="2064" y="1250"/>
                  </a:lnTo>
                  <a:lnTo>
                    <a:pt x="2098" y="1214"/>
                  </a:lnTo>
                  <a:lnTo>
                    <a:pt x="2110" y="1202"/>
                  </a:lnTo>
                  <a:lnTo>
                    <a:pt x="2122" y="1190"/>
                  </a:lnTo>
                  <a:lnTo>
                    <a:pt x="2135" y="1177"/>
                  </a:lnTo>
                  <a:lnTo>
                    <a:pt x="2147" y="1164"/>
                  </a:lnTo>
                  <a:lnTo>
                    <a:pt x="2159" y="1152"/>
                  </a:lnTo>
                  <a:lnTo>
                    <a:pt x="2171" y="1139"/>
                  </a:lnTo>
                  <a:lnTo>
                    <a:pt x="2183" y="1125"/>
                  </a:lnTo>
                  <a:lnTo>
                    <a:pt x="2195" y="1111"/>
                  </a:lnTo>
                  <a:lnTo>
                    <a:pt x="2219" y="1078"/>
                  </a:lnTo>
                  <a:lnTo>
                    <a:pt x="2243" y="1039"/>
                  </a:lnTo>
                  <a:lnTo>
                    <a:pt x="2264" y="994"/>
                  </a:lnTo>
                  <a:lnTo>
                    <a:pt x="2282" y="942"/>
                  </a:lnTo>
                  <a:lnTo>
                    <a:pt x="2295" y="882"/>
                  </a:lnTo>
                  <a:lnTo>
                    <a:pt x="2303" y="813"/>
                  </a:lnTo>
                  <a:lnTo>
                    <a:pt x="2303" y="733"/>
                  </a:lnTo>
                  <a:lnTo>
                    <a:pt x="2294" y="6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63240" y="4576680"/>
              <a:ext cx="549360" cy="214560"/>
            </a:xfrm>
            <a:custGeom>
              <a:avLst/>
              <a:gdLst/>
              <a:ahLst/>
              <a:rect l="l" t="t" r="r" b="b"/>
              <a:pathLst>
                <a:path w="346" h="135">
                  <a:moveTo>
                    <a:pt x="48" y="0"/>
                  </a:moveTo>
                  <a:lnTo>
                    <a:pt x="346" y="106"/>
                  </a:lnTo>
                  <a:lnTo>
                    <a:pt x="35" y="135"/>
                  </a:lnTo>
                  <a:lnTo>
                    <a:pt x="44" y="122"/>
                  </a:lnTo>
                  <a:lnTo>
                    <a:pt x="14" y="108"/>
                  </a:lnTo>
                  <a:lnTo>
                    <a:pt x="54" y="82"/>
                  </a:lnTo>
                  <a:lnTo>
                    <a:pt x="31" y="78"/>
                  </a:lnTo>
                  <a:lnTo>
                    <a:pt x="53" y="61"/>
                  </a:lnTo>
                  <a:lnTo>
                    <a:pt x="29" y="37"/>
                  </a:lnTo>
                  <a:lnTo>
                    <a:pt x="66" y="23"/>
                  </a:lnTo>
                  <a:lnTo>
                    <a:pt x="0" y="10"/>
                  </a:lnTo>
                  <a:lnTo>
                    <a:pt x="2" y="7"/>
                  </a:lnTo>
                  <a:lnTo>
                    <a:pt x="2" y="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52480" y="532764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29" y="17"/>
                  </a:moveTo>
                  <a:lnTo>
                    <a:pt x="22" y="13"/>
                  </a:lnTo>
                  <a:lnTo>
                    <a:pt x="15" y="10"/>
                  </a:lnTo>
                  <a:lnTo>
                    <a:pt x="7" y="6"/>
                  </a:lnTo>
                  <a:lnTo>
                    <a:pt x="0" y="1"/>
                  </a:lnTo>
                  <a:lnTo>
                    <a:pt x="11" y="0"/>
                  </a:lnTo>
                  <a:lnTo>
                    <a:pt x="31" y="16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92000" y="5284800"/>
              <a:ext cx="109440" cy="2232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63" y="8"/>
                  </a:moveTo>
                  <a:lnTo>
                    <a:pt x="13" y="14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4" y="8"/>
                  </a:lnTo>
                  <a:lnTo>
                    <a:pt x="0" y="7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9" y="7"/>
                  </a:lnTo>
                  <a:lnTo>
                    <a:pt x="63" y="9"/>
                  </a:lnTo>
                  <a:lnTo>
                    <a:pt x="63" y="8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98400" y="5211720"/>
              <a:ext cx="199800" cy="61920"/>
            </a:xfrm>
            <a:custGeom>
              <a:avLst/>
              <a:gdLst/>
              <a:ahLst/>
              <a:rect l="l" t="t" r="r" b="b"/>
              <a:pathLst>
                <a:path w="126" h="39">
                  <a:moveTo>
                    <a:pt x="100" y="30"/>
                  </a:moveTo>
                  <a:lnTo>
                    <a:pt x="35" y="39"/>
                  </a:lnTo>
                  <a:lnTo>
                    <a:pt x="27" y="33"/>
                  </a:lnTo>
                  <a:lnTo>
                    <a:pt x="18" y="27"/>
                  </a:lnTo>
                  <a:lnTo>
                    <a:pt x="9" y="21"/>
                  </a:lnTo>
                  <a:lnTo>
                    <a:pt x="0" y="15"/>
                  </a:lnTo>
                  <a:lnTo>
                    <a:pt x="115" y="0"/>
                  </a:lnTo>
                  <a:lnTo>
                    <a:pt x="126" y="7"/>
                  </a:lnTo>
                  <a:lnTo>
                    <a:pt x="100" y="30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34680" y="5164200"/>
              <a:ext cx="263520" cy="47520"/>
            </a:xfrm>
            <a:custGeom>
              <a:avLst/>
              <a:gdLst/>
              <a:ahLst/>
              <a:rect l="l" t="t" r="r" b="b"/>
              <a:pathLst>
                <a:path w="166" h="30">
                  <a:moveTo>
                    <a:pt x="147" y="15"/>
                  </a:moveTo>
                  <a:lnTo>
                    <a:pt x="20" y="30"/>
                  </a:lnTo>
                  <a:lnTo>
                    <a:pt x="15" y="27"/>
                  </a:lnTo>
                  <a:lnTo>
                    <a:pt x="11" y="23"/>
                  </a:lnTo>
                  <a:lnTo>
                    <a:pt x="5" y="20"/>
                  </a:lnTo>
                  <a:lnTo>
                    <a:pt x="0" y="16"/>
                  </a:lnTo>
                  <a:lnTo>
                    <a:pt x="166" y="0"/>
                  </a:lnTo>
                  <a:lnTo>
                    <a:pt x="147" y="15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98320" y="5133960"/>
              <a:ext cx="309600" cy="30240"/>
            </a:xfrm>
            <a:custGeom>
              <a:avLst/>
              <a:gdLst/>
              <a:ahLst/>
              <a:rect l="l" t="t" r="r" b="b"/>
              <a:pathLst>
                <a:path w="195" h="19">
                  <a:moveTo>
                    <a:pt x="4" y="19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191" y="0"/>
                  </a:lnTo>
                  <a:lnTo>
                    <a:pt x="195" y="2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64840" y="5103720"/>
              <a:ext cx="312840" cy="33480"/>
            </a:xfrm>
            <a:custGeom>
              <a:avLst/>
              <a:gdLst/>
              <a:ahLst/>
              <a:rect l="l" t="t" r="r" b="b"/>
              <a:pathLst>
                <a:path w="197" h="21">
                  <a:moveTo>
                    <a:pt x="0" y="18"/>
                  </a:moveTo>
                  <a:lnTo>
                    <a:pt x="197" y="0"/>
                  </a:lnTo>
                  <a:lnTo>
                    <a:pt x="188" y="4"/>
                  </a:lnTo>
                  <a:lnTo>
                    <a:pt x="2" y="21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10840" y="5052960"/>
              <a:ext cx="390600" cy="55440"/>
            </a:xfrm>
            <a:custGeom>
              <a:avLst/>
              <a:gdLst/>
              <a:ahLst/>
              <a:rect l="l" t="t" r="r" b="b"/>
              <a:pathLst>
                <a:path w="246" h="35">
                  <a:moveTo>
                    <a:pt x="16" y="35"/>
                  </a:moveTo>
                  <a:lnTo>
                    <a:pt x="12" y="31"/>
                  </a:lnTo>
                  <a:lnTo>
                    <a:pt x="9" y="27"/>
                  </a:lnTo>
                  <a:lnTo>
                    <a:pt x="4" y="25"/>
                  </a:lnTo>
                  <a:lnTo>
                    <a:pt x="0" y="21"/>
                  </a:lnTo>
                  <a:lnTo>
                    <a:pt x="227" y="0"/>
                  </a:lnTo>
                  <a:lnTo>
                    <a:pt x="246" y="13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66560" y="5011560"/>
              <a:ext cx="426960" cy="51120"/>
            </a:xfrm>
            <a:custGeom>
              <a:avLst/>
              <a:gdLst/>
              <a:ahLst/>
              <a:rect l="l" t="t" r="r" b="b"/>
              <a:pathLst>
                <a:path w="269" h="32">
                  <a:moveTo>
                    <a:pt x="249" y="9"/>
                  </a:moveTo>
                  <a:lnTo>
                    <a:pt x="12" y="32"/>
                  </a:lnTo>
                  <a:lnTo>
                    <a:pt x="9" y="28"/>
                  </a:lnTo>
                  <a:lnTo>
                    <a:pt x="6" y="26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269" y="0"/>
                  </a:lnTo>
                  <a:lnTo>
                    <a:pt x="249" y="9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92040" y="4929120"/>
              <a:ext cx="517320" cy="57240"/>
            </a:xfrm>
            <a:custGeom>
              <a:avLst/>
              <a:gdLst/>
              <a:ahLst/>
              <a:rect l="l" t="t" r="r" b="b"/>
              <a:pathLst>
                <a:path w="326" h="36">
                  <a:moveTo>
                    <a:pt x="311" y="13"/>
                  </a:moveTo>
                  <a:lnTo>
                    <a:pt x="311" y="13"/>
                  </a:lnTo>
                  <a:lnTo>
                    <a:pt x="11" y="36"/>
                  </a:lnTo>
                  <a:lnTo>
                    <a:pt x="8" y="34"/>
                  </a:lnTo>
                  <a:lnTo>
                    <a:pt x="6" y="30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326" y="0"/>
                  </a:lnTo>
                  <a:lnTo>
                    <a:pt x="311" y="13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60360" y="4890960"/>
              <a:ext cx="536400" cy="52560"/>
            </a:xfrm>
            <a:custGeom>
              <a:avLst/>
              <a:gdLst/>
              <a:ahLst/>
              <a:rect l="l" t="t" r="r" b="b"/>
              <a:pathLst>
                <a:path w="338" h="33">
                  <a:moveTo>
                    <a:pt x="6" y="33"/>
                  </a:moveTo>
                  <a:lnTo>
                    <a:pt x="4" y="30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328" y="0"/>
                  </a:lnTo>
                  <a:lnTo>
                    <a:pt x="338" y="8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20400" y="4843440"/>
              <a:ext cx="579600" cy="61920"/>
            </a:xfrm>
            <a:custGeom>
              <a:avLst/>
              <a:gdLst/>
              <a:ahLst/>
              <a:rect l="l" t="t" r="r" b="b"/>
              <a:pathLst>
                <a:path w="365" h="39">
                  <a:moveTo>
                    <a:pt x="365" y="12"/>
                  </a:moveTo>
                  <a:lnTo>
                    <a:pt x="10" y="39"/>
                  </a:lnTo>
                  <a:lnTo>
                    <a:pt x="8" y="36"/>
                  </a:lnTo>
                  <a:lnTo>
                    <a:pt x="6" y="33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346" y="0"/>
                  </a:lnTo>
                  <a:lnTo>
                    <a:pt x="365" y="12"/>
                  </a:lnTo>
                  <a:lnTo>
                    <a:pt x="365" y="12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77560" y="4773600"/>
              <a:ext cx="623880" cy="85680"/>
            </a:xfrm>
            <a:custGeom>
              <a:avLst/>
              <a:gdLst/>
              <a:ahLst/>
              <a:rect l="l" t="t" r="r" b="b"/>
              <a:pathLst>
                <a:path w="393" h="54">
                  <a:moveTo>
                    <a:pt x="371" y="28"/>
                  </a:moveTo>
                  <a:lnTo>
                    <a:pt x="13" y="54"/>
                  </a:lnTo>
                  <a:lnTo>
                    <a:pt x="10" y="49"/>
                  </a:lnTo>
                  <a:lnTo>
                    <a:pt x="6" y="46"/>
                  </a:lnTo>
                  <a:lnTo>
                    <a:pt x="3" y="42"/>
                  </a:lnTo>
                  <a:lnTo>
                    <a:pt x="0" y="37"/>
                  </a:lnTo>
                  <a:lnTo>
                    <a:pt x="393" y="0"/>
                  </a:lnTo>
                  <a:lnTo>
                    <a:pt x="371" y="28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12680" y="4565520"/>
              <a:ext cx="237960" cy="34920"/>
            </a:xfrm>
            <a:custGeom>
              <a:avLst/>
              <a:gdLst/>
              <a:ahLst/>
              <a:rect l="l" t="t" r="r" b="b"/>
              <a:pathLst>
                <a:path w="150" h="22">
                  <a:moveTo>
                    <a:pt x="0" y="8"/>
                  </a:moveTo>
                  <a:lnTo>
                    <a:pt x="150" y="0"/>
                  </a:lnTo>
                  <a:lnTo>
                    <a:pt x="135" y="15"/>
                  </a:lnTo>
                  <a:lnTo>
                    <a:pt x="9" y="22"/>
                  </a:lnTo>
                  <a:lnTo>
                    <a:pt x="6" y="19"/>
                  </a:lnTo>
                  <a:lnTo>
                    <a:pt x="5" y="15"/>
                  </a:lnTo>
                  <a:lnTo>
                    <a:pt x="3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41120" y="4616280"/>
              <a:ext cx="225360" cy="17640"/>
            </a:xfrm>
            <a:custGeom>
              <a:avLst/>
              <a:gdLst/>
              <a:ahLst/>
              <a:rect l="l" t="t" r="r" b="b"/>
              <a:pathLst>
                <a:path w="142" h="11">
                  <a:moveTo>
                    <a:pt x="129" y="0"/>
                  </a:moveTo>
                  <a:lnTo>
                    <a:pt x="142" y="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60200" y="4646520"/>
              <a:ext cx="231840" cy="25560"/>
            </a:xfrm>
            <a:custGeom>
              <a:avLst/>
              <a:gdLst/>
              <a:ahLst/>
              <a:rect l="l" t="t" r="r" b="b"/>
              <a:pathLst>
                <a:path w="146" h="16">
                  <a:moveTo>
                    <a:pt x="0" y="9"/>
                  </a:moveTo>
                  <a:lnTo>
                    <a:pt x="140" y="0"/>
                  </a:lnTo>
                  <a:lnTo>
                    <a:pt x="146" y="7"/>
                  </a:lnTo>
                  <a:lnTo>
                    <a:pt x="4" y="16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83960" y="4686480"/>
              <a:ext cx="200160" cy="23760"/>
            </a:xfrm>
            <a:custGeom>
              <a:avLst/>
              <a:gdLst/>
              <a:ahLst/>
              <a:rect l="l" t="t" r="r" b="b"/>
              <a:pathLst>
                <a:path w="126" h="15">
                  <a:moveTo>
                    <a:pt x="0" y="7"/>
                  </a:moveTo>
                  <a:lnTo>
                    <a:pt x="126" y="0"/>
                  </a:lnTo>
                  <a:lnTo>
                    <a:pt x="114" y="9"/>
                  </a:lnTo>
                  <a:lnTo>
                    <a:pt x="4" y="15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07720" y="4726080"/>
              <a:ext cx="157320" cy="25200"/>
            </a:xfrm>
            <a:custGeom>
              <a:avLst/>
              <a:gdLst/>
              <a:ahLst/>
              <a:rect l="l" t="t" r="r" b="b"/>
              <a:pathLst>
                <a:path w="99" h="16">
                  <a:moveTo>
                    <a:pt x="99" y="0"/>
                  </a:moveTo>
                  <a:lnTo>
                    <a:pt x="85" y="10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36520" y="4768920"/>
              <a:ext cx="158760" cy="38160"/>
            </a:xfrm>
            <a:custGeom>
              <a:avLst/>
              <a:gdLst/>
              <a:ahLst/>
              <a:rect l="l" t="t" r="r" b="b"/>
              <a:pathLst>
                <a:path w="100" h="24">
                  <a:moveTo>
                    <a:pt x="81" y="0"/>
                  </a:moveTo>
                  <a:lnTo>
                    <a:pt x="98" y="8"/>
                  </a:lnTo>
                  <a:lnTo>
                    <a:pt x="96" y="13"/>
                  </a:lnTo>
                  <a:lnTo>
                    <a:pt x="100" y="15"/>
                  </a:lnTo>
                  <a:lnTo>
                    <a:pt x="14" y="24"/>
                  </a:lnTo>
                  <a:lnTo>
                    <a:pt x="11" y="19"/>
                  </a:lnTo>
                  <a:lnTo>
                    <a:pt x="7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90360" y="4519440"/>
              <a:ext cx="250920" cy="32040"/>
            </a:xfrm>
            <a:custGeom>
              <a:avLst/>
              <a:gdLst/>
              <a:ahLst/>
              <a:rect l="l" t="t" r="r" b="b"/>
              <a:pathLst>
                <a:path w="158" h="20">
                  <a:moveTo>
                    <a:pt x="6" y="20"/>
                  </a:moveTo>
                  <a:lnTo>
                    <a:pt x="5" y="18"/>
                  </a:lnTo>
                  <a:lnTo>
                    <a:pt x="3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140" y="0"/>
                  </a:lnTo>
                  <a:lnTo>
                    <a:pt x="158" y="12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53640" y="4444920"/>
              <a:ext cx="300240" cy="61920"/>
            </a:xfrm>
            <a:custGeom>
              <a:avLst/>
              <a:gdLst/>
              <a:ahLst/>
              <a:rect l="l" t="t" r="r" b="b"/>
              <a:pathLst>
                <a:path w="189" h="39">
                  <a:moveTo>
                    <a:pt x="164" y="30"/>
                  </a:moveTo>
                  <a:lnTo>
                    <a:pt x="15" y="39"/>
                  </a:lnTo>
                  <a:lnTo>
                    <a:pt x="11" y="32"/>
                  </a:lnTo>
                  <a:lnTo>
                    <a:pt x="8" y="24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171" y="0"/>
                  </a:lnTo>
                  <a:lnTo>
                    <a:pt x="189" y="16"/>
                  </a:lnTo>
                  <a:lnTo>
                    <a:pt x="164" y="30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34920" y="4389480"/>
              <a:ext cx="304560" cy="44280"/>
            </a:xfrm>
            <a:custGeom>
              <a:avLst/>
              <a:gdLst/>
              <a:ahLst/>
              <a:rect l="l" t="t" r="r" b="b"/>
              <a:pathLst>
                <a:path w="192" h="28">
                  <a:moveTo>
                    <a:pt x="181" y="19"/>
                  </a:moveTo>
                  <a:lnTo>
                    <a:pt x="5" y="28"/>
                  </a:lnTo>
                  <a:lnTo>
                    <a:pt x="4" y="26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192" y="0"/>
                  </a:lnTo>
                  <a:lnTo>
                    <a:pt x="181" y="19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74440" y="4254480"/>
              <a:ext cx="324000" cy="13176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1" y="83"/>
                  </a:moveTo>
                  <a:lnTo>
                    <a:pt x="23" y="63"/>
                  </a:lnTo>
                  <a:lnTo>
                    <a:pt x="15" y="42"/>
                  </a:lnTo>
                  <a:lnTo>
                    <a:pt x="7" y="20"/>
                  </a:lnTo>
                  <a:lnTo>
                    <a:pt x="0" y="0"/>
                  </a:lnTo>
                  <a:lnTo>
                    <a:pt x="204" y="69"/>
                  </a:lnTo>
                  <a:lnTo>
                    <a:pt x="31" y="8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33080" y="4976640"/>
              <a:ext cx="474840" cy="41400"/>
            </a:xfrm>
            <a:custGeom>
              <a:avLst/>
              <a:gdLst/>
              <a:ahLst/>
              <a:rect l="l" t="t" r="r" b="b"/>
              <a:pathLst>
                <a:path w="299" h="26">
                  <a:moveTo>
                    <a:pt x="292" y="0"/>
                  </a:moveTo>
                  <a:lnTo>
                    <a:pt x="299" y="4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93920" y="4759200"/>
              <a:ext cx="395280" cy="101880"/>
            </a:xfrm>
            <a:custGeom>
              <a:avLst/>
              <a:gdLst/>
              <a:ahLst/>
              <a:rect l="l" t="t" r="r" b="b"/>
              <a:pathLst>
                <a:path w="249" h="64">
                  <a:moveTo>
                    <a:pt x="0" y="42"/>
                  </a:moveTo>
                  <a:lnTo>
                    <a:pt x="28" y="0"/>
                  </a:lnTo>
                  <a:lnTo>
                    <a:pt x="249" y="20"/>
                  </a:lnTo>
                  <a:lnTo>
                    <a:pt x="247" y="32"/>
                  </a:lnTo>
                  <a:lnTo>
                    <a:pt x="243" y="43"/>
                  </a:lnTo>
                  <a:lnTo>
                    <a:pt x="241" y="53"/>
                  </a:lnTo>
                  <a:lnTo>
                    <a:pt x="237" y="64"/>
                  </a:lnTo>
                  <a:lnTo>
                    <a:pt x="2" y="43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65200" y="4487760"/>
              <a:ext cx="351000" cy="174600"/>
            </a:xfrm>
            <a:custGeom>
              <a:avLst/>
              <a:gdLst/>
              <a:ahLst/>
              <a:rect l="l" t="t" r="r" b="b"/>
              <a:pathLst>
                <a:path w="221" h="110">
                  <a:moveTo>
                    <a:pt x="216" y="110"/>
                  </a:moveTo>
                  <a:lnTo>
                    <a:pt x="0" y="82"/>
                  </a:lnTo>
                  <a:lnTo>
                    <a:pt x="221" y="0"/>
                  </a:lnTo>
                  <a:lnTo>
                    <a:pt x="221" y="7"/>
                  </a:lnTo>
                  <a:lnTo>
                    <a:pt x="221" y="15"/>
                  </a:lnTo>
                  <a:lnTo>
                    <a:pt x="220" y="22"/>
                  </a:lnTo>
                  <a:lnTo>
                    <a:pt x="220" y="31"/>
                  </a:lnTo>
                  <a:lnTo>
                    <a:pt x="220" y="51"/>
                  </a:lnTo>
                  <a:lnTo>
                    <a:pt x="219" y="71"/>
                  </a:lnTo>
                  <a:lnTo>
                    <a:pt x="218" y="91"/>
                  </a:lnTo>
                  <a:lnTo>
                    <a:pt x="216" y="11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5600" y="4641840"/>
              <a:ext cx="380880" cy="69840"/>
            </a:xfrm>
            <a:custGeom>
              <a:avLst/>
              <a:gdLst/>
              <a:ahLst/>
              <a:rect l="l" t="t" r="r" b="b"/>
              <a:pathLst>
                <a:path w="240" h="44">
                  <a:moveTo>
                    <a:pt x="240" y="29"/>
                  </a:moveTo>
                  <a:lnTo>
                    <a:pt x="239" y="33"/>
                  </a:lnTo>
                  <a:lnTo>
                    <a:pt x="239" y="37"/>
                  </a:lnTo>
                  <a:lnTo>
                    <a:pt x="239" y="40"/>
                  </a:lnTo>
                  <a:lnTo>
                    <a:pt x="238" y="44"/>
                  </a:lnTo>
                  <a:lnTo>
                    <a:pt x="6" y="22"/>
                  </a:lnTo>
                  <a:lnTo>
                    <a:pt x="0" y="0"/>
                  </a:lnTo>
                  <a:lnTo>
                    <a:pt x="240" y="29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17680" y="4705200"/>
              <a:ext cx="380880" cy="59040"/>
            </a:xfrm>
            <a:custGeom>
              <a:avLst/>
              <a:gdLst/>
              <a:ahLst/>
              <a:rect l="l" t="t" r="r" b="b"/>
              <a:pathLst>
                <a:path w="240" h="37">
                  <a:moveTo>
                    <a:pt x="16" y="0"/>
                  </a:moveTo>
                  <a:lnTo>
                    <a:pt x="240" y="21"/>
                  </a:lnTo>
                  <a:lnTo>
                    <a:pt x="239" y="25"/>
                  </a:lnTo>
                  <a:lnTo>
                    <a:pt x="239" y="29"/>
                  </a:lnTo>
                  <a:lnTo>
                    <a:pt x="238" y="32"/>
                  </a:lnTo>
                  <a:lnTo>
                    <a:pt x="238" y="37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13000" y="4857840"/>
              <a:ext cx="350640" cy="61920"/>
            </a:xfrm>
            <a:custGeom>
              <a:avLst/>
              <a:gdLst/>
              <a:ahLst/>
              <a:rect l="l" t="t" r="r" b="b"/>
              <a:pathLst>
                <a:path w="221" h="39">
                  <a:moveTo>
                    <a:pt x="13" y="0"/>
                  </a:moveTo>
                  <a:lnTo>
                    <a:pt x="221" y="19"/>
                  </a:lnTo>
                  <a:lnTo>
                    <a:pt x="220" y="24"/>
                  </a:lnTo>
                  <a:lnTo>
                    <a:pt x="217" y="29"/>
                  </a:lnTo>
                  <a:lnTo>
                    <a:pt x="216" y="34"/>
                  </a:lnTo>
                  <a:lnTo>
                    <a:pt x="214" y="39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23800" y="4916520"/>
              <a:ext cx="319320" cy="39600"/>
            </a:xfrm>
            <a:custGeom>
              <a:avLst/>
              <a:gdLst/>
              <a:ahLst/>
              <a:rect l="l" t="t" r="r" b="b"/>
              <a:pathLst>
                <a:path w="201" h="25">
                  <a:moveTo>
                    <a:pt x="201" y="19"/>
                  </a:moveTo>
                  <a:lnTo>
                    <a:pt x="199" y="20"/>
                  </a:lnTo>
                  <a:lnTo>
                    <a:pt x="199" y="21"/>
                  </a:lnTo>
                  <a:lnTo>
                    <a:pt x="198" y="24"/>
                  </a:lnTo>
                  <a:lnTo>
                    <a:pt x="197" y="25"/>
                  </a:lnTo>
                  <a:lnTo>
                    <a:pt x="7" y="8"/>
                  </a:lnTo>
                  <a:lnTo>
                    <a:pt x="0" y="0"/>
                  </a:lnTo>
                  <a:lnTo>
                    <a:pt x="201" y="19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17680" y="4956120"/>
              <a:ext cx="307800" cy="42840"/>
            </a:xfrm>
            <a:custGeom>
              <a:avLst/>
              <a:gdLst/>
              <a:ahLst/>
              <a:rect l="l" t="t" r="r" b="b"/>
              <a:pathLst>
                <a:path w="194" h="27">
                  <a:moveTo>
                    <a:pt x="5" y="0"/>
                  </a:moveTo>
                  <a:lnTo>
                    <a:pt x="194" y="17"/>
                  </a:lnTo>
                  <a:lnTo>
                    <a:pt x="193" y="19"/>
                  </a:lnTo>
                  <a:lnTo>
                    <a:pt x="191" y="21"/>
                  </a:lnTo>
                  <a:lnTo>
                    <a:pt x="190" y="25"/>
                  </a:lnTo>
                  <a:lnTo>
                    <a:pt x="189" y="27"/>
                  </a:lnTo>
                  <a:lnTo>
                    <a:pt x="0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230280" y="5002200"/>
              <a:ext cx="274680" cy="44640"/>
            </a:xfrm>
            <a:custGeom>
              <a:avLst/>
              <a:gdLst/>
              <a:ahLst/>
              <a:rect l="l" t="t" r="r" b="b"/>
              <a:pathLst>
                <a:path w="173" h="28">
                  <a:moveTo>
                    <a:pt x="173" y="15"/>
                  </a:moveTo>
                  <a:lnTo>
                    <a:pt x="170" y="19"/>
                  </a:lnTo>
                  <a:lnTo>
                    <a:pt x="169" y="22"/>
                  </a:lnTo>
                  <a:lnTo>
                    <a:pt x="167" y="26"/>
                  </a:lnTo>
                  <a:lnTo>
                    <a:pt x="164" y="28"/>
                  </a:lnTo>
                  <a:lnTo>
                    <a:pt x="14" y="10"/>
                  </a:lnTo>
                  <a:lnTo>
                    <a:pt x="0" y="0"/>
                  </a:lnTo>
                  <a:lnTo>
                    <a:pt x="173" y="15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14440" y="5045040"/>
              <a:ext cx="262080" cy="47520"/>
            </a:xfrm>
            <a:custGeom>
              <a:avLst/>
              <a:gdLst/>
              <a:ahLst/>
              <a:rect l="l" t="t" r="r" b="b"/>
              <a:pathLst>
                <a:path w="165" h="30">
                  <a:moveTo>
                    <a:pt x="12" y="0"/>
                  </a:moveTo>
                  <a:lnTo>
                    <a:pt x="165" y="18"/>
                  </a:lnTo>
                  <a:lnTo>
                    <a:pt x="164" y="20"/>
                  </a:lnTo>
                  <a:lnTo>
                    <a:pt x="161" y="24"/>
                  </a:lnTo>
                  <a:lnTo>
                    <a:pt x="160" y="28"/>
                  </a:lnTo>
                  <a:lnTo>
                    <a:pt x="158" y="30"/>
                  </a:lnTo>
                  <a:lnTo>
                    <a:pt x="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07960" y="5089680"/>
              <a:ext cx="239760" cy="55440"/>
            </a:xfrm>
            <a:custGeom>
              <a:avLst/>
              <a:gdLst/>
              <a:ahLst/>
              <a:rect l="l" t="t" r="r" b="b"/>
              <a:pathLst>
                <a:path w="151" h="35">
                  <a:moveTo>
                    <a:pt x="151" y="18"/>
                  </a:moveTo>
                  <a:lnTo>
                    <a:pt x="147" y="22"/>
                  </a:lnTo>
                  <a:lnTo>
                    <a:pt x="144" y="26"/>
                  </a:lnTo>
                  <a:lnTo>
                    <a:pt x="140" y="31"/>
                  </a:lnTo>
                  <a:lnTo>
                    <a:pt x="138" y="35"/>
                  </a:lnTo>
                  <a:lnTo>
                    <a:pt x="18" y="21"/>
                  </a:lnTo>
                  <a:lnTo>
                    <a:pt x="0" y="0"/>
                  </a:lnTo>
                  <a:lnTo>
                    <a:pt x="151" y="18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96800" y="5149800"/>
              <a:ext cx="209880" cy="49320"/>
            </a:xfrm>
            <a:custGeom>
              <a:avLst/>
              <a:gdLst/>
              <a:ahLst/>
              <a:rect l="l" t="t" r="r" b="b"/>
              <a:pathLst>
                <a:path w="132" h="31">
                  <a:moveTo>
                    <a:pt x="19" y="0"/>
                  </a:moveTo>
                  <a:lnTo>
                    <a:pt x="132" y="13"/>
                  </a:lnTo>
                  <a:lnTo>
                    <a:pt x="128" y="18"/>
                  </a:lnTo>
                  <a:lnTo>
                    <a:pt x="124" y="21"/>
                  </a:lnTo>
                  <a:lnTo>
                    <a:pt x="121" y="26"/>
                  </a:lnTo>
                  <a:lnTo>
                    <a:pt x="117" y="3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9" y="8"/>
                  </a:lnTo>
                  <a:lnTo>
                    <a:pt x="15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96800" y="5205240"/>
              <a:ext cx="162000" cy="25560"/>
            </a:xfrm>
            <a:custGeom>
              <a:avLst/>
              <a:gdLst/>
              <a:ahLst/>
              <a:rect l="l" t="t" r="r" b="b"/>
              <a:pathLst>
                <a:path w="102" h="16">
                  <a:moveTo>
                    <a:pt x="102" y="11"/>
                  </a:moveTo>
                  <a:lnTo>
                    <a:pt x="101" y="13"/>
                  </a:lnTo>
                  <a:lnTo>
                    <a:pt x="99" y="14"/>
                  </a:lnTo>
                  <a:lnTo>
                    <a:pt x="97" y="15"/>
                  </a:lnTo>
                  <a:lnTo>
                    <a:pt x="96" y="16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1" y="6"/>
                  </a:lnTo>
                  <a:lnTo>
                    <a:pt x="7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102" y="11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4720" y="5278320"/>
              <a:ext cx="78120" cy="3672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" y="0"/>
                  </a:moveTo>
                  <a:lnTo>
                    <a:pt x="49" y="7"/>
                  </a:lnTo>
                  <a:lnTo>
                    <a:pt x="44" y="11"/>
                  </a:lnTo>
                  <a:lnTo>
                    <a:pt x="39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06520" y="5245200"/>
              <a:ext cx="115920" cy="21960"/>
            </a:xfrm>
            <a:custGeom>
              <a:avLst/>
              <a:gdLst/>
              <a:ahLst/>
              <a:rect l="l" t="t" r="r" b="b"/>
              <a:pathLst>
                <a:path w="73" h="14">
                  <a:moveTo>
                    <a:pt x="0" y="3"/>
                  </a:moveTo>
                  <a:lnTo>
                    <a:pt x="6" y="0"/>
                  </a:lnTo>
                  <a:lnTo>
                    <a:pt x="73" y="7"/>
                  </a:lnTo>
                  <a:lnTo>
                    <a:pt x="72" y="8"/>
                  </a:lnTo>
                  <a:lnTo>
                    <a:pt x="69" y="10"/>
                  </a:lnTo>
                  <a:lnTo>
                    <a:pt x="68" y="12"/>
                  </a:lnTo>
                  <a:lnTo>
                    <a:pt x="66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5240" y="2100240"/>
              <a:ext cx="3438360" cy="3436920"/>
            </a:xfrm>
            <a:custGeom>
              <a:avLst/>
              <a:gdLst/>
              <a:ahLst/>
              <a:rect l="l" t="t" r="r" b="b"/>
              <a:pathLst>
                <a:path w="2166" h="2165">
                  <a:moveTo>
                    <a:pt x="2072" y="999"/>
                  </a:moveTo>
                  <a:lnTo>
                    <a:pt x="2061" y="1013"/>
                  </a:lnTo>
                  <a:lnTo>
                    <a:pt x="2051" y="1025"/>
                  </a:lnTo>
                  <a:lnTo>
                    <a:pt x="2040" y="1038"/>
                  </a:lnTo>
                  <a:lnTo>
                    <a:pt x="2029" y="1050"/>
                  </a:lnTo>
                  <a:lnTo>
                    <a:pt x="2017" y="1062"/>
                  </a:lnTo>
                  <a:lnTo>
                    <a:pt x="2005" y="1072"/>
                  </a:lnTo>
                  <a:lnTo>
                    <a:pt x="1993" y="1084"/>
                  </a:lnTo>
                  <a:lnTo>
                    <a:pt x="1981" y="1096"/>
                  </a:lnTo>
                  <a:lnTo>
                    <a:pt x="1963" y="1114"/>
                  </a:lnTo>
                  <a:lnTo>
                    <a:pt x="1947" y="1131"/>
                  </a:lnTo>
                  <a:lnTo>
                    <a:pt x="1929" y="1149"/>
                  </a:lnTo>
                  <a:lnTo>
                    <a:pt x="1912" y="1168"/>
                  </a:lnTo>
                  <a:lnTo>
                    <a:pt x="1895" y="1187"/>
                  </a:lnTo>
                  <a:lnTo>
                    <a:pt x="1880" y="1207"/>
                  </a:lnTo>
                  <a:lnTo>
                    <a:pt x="1864" y="1228"/>
                  </a:lnTo>
                  <a:lnTo>
                    <a:pt x="1850" y="1250"/>
                  </a:lnTo>
                  <a:lnTo>
                    <a:pt x="1837" y="1273"/>
                  </a:lnTo>
                  <a:lnTo>
                    <a:pt x="1824" y="1298"/>
                  </a:lnTo>
                  <a:lnTo>
                    <a:pt x="1813" y="1325"/>
                  </a:lnTo>
                  <a:lnTo>
                    <a:pt x="1803" y="1353"/>
                  </a:lnTo>
                  <a:lnTo>
                    <a:pt x="1794" y="1383"/>
                  </a:lnTo>
                  <a:lnTo>
                    <a:pt x="1788" y="1414"/>
                  </a:lnTo>
                  <a:lnTo>
                    <a:pt x="1782" y="1449"/>
                  </a:lnTo>
                  <a:lnTo>
                    <a:pt x="1778" y="1485"/>
                  </a:lnTo>
                  <a:lnTo>
                    <a:pt x="1519" y="1581"/>
                  </a:lnTo>
                  <a:lnTo>
                    <a:pt x="1508" y="1580"/>
                  </a:lnTo>
                  <a:lnTo>
                    <a:pt x="1523" y="1635"/>
                  </a:lnTo>
                  <a:lnTo>
                    <a:pt x="1486" y="1672"/>
                  </a:lnTo>
                  <a:lnTo>
                    <a:pt x="1514" y="1681"/>
                  </a:lnTo>
                  <a:lnTo>
                    <a:pt x="1485" y="1724"/>
                  </a:lnTo>
                  <a:lnTo>
                    <a:pt x="1508" y="1733"/>
                  </a:lnTo>
                  <a:lnTo>
                    <a:pt x="1508" y="1734"/>
                  </a:lnTo>
                  <a:lnTo>
                    <a:pt x="1508" y="1734"/>
                  </a:lnTo>
                  <a:lnTo>
                    <a:pt x="1514" y="1737"/>
                  </a:lnTo>
                  <a:lnTo>
                    <a:pt x="1495" y="1764"/>
                  </a:lnTo>
                  <a:lnTo>
                    <a:pt x="1518" y="1787"/>
                  </a:lnTo>
                  <a:lnTo>
                    <a:pt x="1500" y="1822"/>
                  </a:lnTo>
                  <a:lnTo>
                    <a:pt x="1524" y="1842"/>
                  </a:lnTo>
                  <a:lnTo>
                    <a:pt x="1491" y="1875"/>
                  </a:lnTo>
                  <a:lnTo>
                    <a:pt x="1519" y="1909"/>
                  </a:lnTo>
                  <a:lnTo>
                    <a:pt x="1507" y="1918"/>
                  </a:lnTo>
                  <a:lnTo>
                    <a:pt x="1496" y="1929"/>
                  </a:lnTo>
                  <a:lnTo>
                    <a:pt x="1489" y="1941"/>
                  </a:lnTo>
                  <a:lnTo>
                    <a:pt x="1489" y="1952"/>
                  </a:lnTo>
                  <a:lnTo>
                    <a:pt x="1493" y="1958"/>
                  </a:lnTo>
                  <a:lnTo>
                    <a:pt x="1496" y="1964"/>
                  </a:lnTo>
                  <a:lnTo>
                    <a:pt x="1502" y="1969"/>
                  </a:lnTo>
                  <a:lnTo>
                    <a:pt x="1507" y="1972"/>
                  </a:lnTo>
                  <a:lnTo>
                    <a:pt x="1486" y="1987"/>
                  </a:lnTo>
                  <a:lnTo>
                    <a:pt x="1505" y="2011"/>
                  </a:lnTo>
                  <a:lnTo>
                    <a:pt x="1491" y="2028"/>
                  </a:lnTo>
                  <a:lnTo>
                    <a:pt x="1510" y="2049"/>
                  </a:lnTo>
                  <a:lnTo>
                    <a:pt x="1483" y="2064"/>
                  </a:lnTo>
                  <a:lnTo>
                    <a:pt x="1457" y="2079"/>
                  </a:lnTo>
                  <a:lnTo>
                    <a:pt x="1431" y="2091"/>
                  </a:lnTo>
                  <a:lnTo>
                    <a:pt x="1403" y="2103"/>
                  </a:lnTo>
                  <a:lnTo>
                    <a:pt x="1376" y="2113"/>
                  </a:lnTo>
                  <a:lnTo>
                    <a:pt x="1348" y="2123"/>
                  </a:lnTo>
                  <a:lnTo>
                    <a:pt x="1322" y="2131"/>
                  </a:lnTo>
                  <a:lnTo>
                    <a:pt x="1295" y="2138"/>
                  </a:lnTo>
                  <a:lnTo>
                    <a:pt x="1268" y="2144"/>
                  </a:lnTo>
                  <a:lnTo>
                    <a:pt x="1242" y="2150"/>
                  </a:lnTo>
                  <a:lnTo>
                    <a:pt x="1216" y="2155"/>
                  </a:lnTo>
                  <a:lnTo>
                    <a:pt x="1191" y="2159"/>
                  </a:lnTo>
                  <a:lnTo>
                    <a:pt x="1167" y="2161"/>
                  </a:lnTo>
                  <a:lnTo>
                    <a:pt x="1144" y="2163"/>
                  </a:lnTo>
                  <a:lnTo>
                    <a:pt x="1122" y="2165"/>
                  </a:lnTo>
                  <a:lnTo>
                    <a:pt x="1101" y="2165"/>
                  </a:lnTo>
                  <a:lnTo>
                    <a:pt x="1071" y="2165"/>
                  </a:lnTo>
                  <a:lnTo>
                    <a:pt x="1043" y="2163"/>
                  </a:lnTo>
                  <a:lnTo>
                    <a:pt x="1014" y="2161"/>
                  </a:lnTo>
                  <a:lnTo>
                    <a:pt x="985" y="2158"/>
                  </a:lnTo>
                  <a:lnTo>
                    <a:pt x="956" y="2154"/>
                  </a:lnTo>
                  <a:lnTo>
                    <a:pt x="927" y="2149"/>
                  </a:lnTo>
                  <a:lnTo>
                    <a:pt x="899" y="2144"/>
                  </a:lnTo>
                  <a:lnTo>
                    <a:pt x="871" y="2138"/>
                  </a:lnTo>
                  <a:lnTo>
                    <a:pt x="842" y="2131"/>
                  </a:lnTo>
                  <a:lnTo>
                    <a:pt x="815" y="2123"/>
                  </a:lnTo>
                  <a:lnTo>
                    <a:pt x="786" y="2114"/>
                  </a:lnTo>
                  <a:lnTo>
                    <a:pt x="758" y="2105"/>
                  </a:lnTo>
                  <a:lnTo>
                    <a:pt x="731" y="2095"/>
                  </a:lnTo>
                  <a:lnTo>
                    <a:pt x="704" y="2083"/>
                  </a:lnTo>
                  <a:lnTo>
                    <a:pt x="677" y="2073"/>
                  </a:lnTo>
                  <a:lnTo>
                    <a:pt x="650" y="2060"/>
                  </a:lnTo>
                  <a:lnTo>
                    <a:pt x="666" y="2050"/>
                  </a:lnTo>
                  <a:lnTo>
                    <a:pt x="639" y="2030"/>
                  </a:lnTo>
                  <a:lnTo>
                    <a:pt x="676" y="2016"/>
                  </a:lnTo>
                  <a:lnTo>
                    <a:pt x="631" y="1991"/>
                  </a:lnTo>
                  <a:lnTo>
                    <a:pt x="661" y="1966"/>
                  </a:lnTo>
                  <a:lnTo>
                    <a:pt x="635" y="1950"/>
                  </a:lnTo>
                  <a:lnTo>
                    <a:pt x="680" y="1918"/>
                  </a:lnTo>
                  <a:lnTo>
                    <a:pt x="649" y="1899"/>
                  </a:lnTo>
                  <a:lnTo>
                    <a:pt x="682" y="1887"/>
                  </a:lnTo>
                  <a:lnTo>
                    <a:pt x="633" y="1852"/>
                  </a:lnTo>
                  <a:lnTo>
                    <a:pt x="693" y="1824"/>
                  </a:lnTo>
                  <a:lnTo>
                    <a:pt x="645" y="1800"/>
                  </a:lnTo>
                  <a:lnTo>
                    <a:pt x="674" y="1776"/>
                  </a:lnTo>
                  <a:lnTo>
                    <a:pt x="647" y="1756"/>
                  </a:lnTo>
                  <a:lnTo>
                    <a:pt x="686" y="1751"/>
                  </a:lnTo>
                  <a:lnTo>
                    <a:pt x="629" y="1718"/>
                  </a:lnTo>
                  <a:lnTo>
                    <a:pt x="665" y="1675"/>
                  </a:lnTo>
                  <a:lnTo>
                    <a:pt x="669" y="1676"/>
                  </a:lnTo>
                  <a:lnTo>
                    <a:pt x="674" y="1666"/>
                  </a:lnTo>
                  <a:lnTo>
                    <a:pt x="675" y="1663"/>
                  </a:lnTo>
                  <a:lnTo>
                    <a:pt x="674" y="1664"/>
                  </a:lnTo>
                  <a:lnTo>
                    <a:pt x="675" y="1660"/>
                  </a:lnTo>
                  <a:lnTo>
                    <a:pt x="344" y="1542"/>
                  </a:lnTo>
                  <a:lnTo>
                    <a:pt x="317" y="1547"/>
                  </a:lnTo>
                  <a:lnTo>
                    <a:pt x="323" y="1541"/>
                  </a:lnTo>
                  <a:lnTo>
                    <a:pt x="283" y="1517"/>
                  </a:lnTo>
                  <a:lnTo>
                    <a:pt x="319" y="1497"/>
                  </a:lnTo>
                  <a:lnTo>
                    <a:pt x="286" y="1467"/>
                  </a:lnTo>
                  <a:lnTo>
                    <a:pt x="312" y="1423"/>
                  </a:lnTo>
                  <a:lnTo>
                    <a:pt x="296" y="1424"/>
                  </a:lnTo>
                  <a:lnTo>
                    <a:pt x="44" y="1336"/>
                  </a:lnTo>
                  <a:lnTo>
                    <a:pt x="26" y="1270"/>
                  </a:lnTo>
                  <a:lnTo>
                    <a:pt x="13" y="1203"/>
                  </a:lnTo>
                  <a:lnTo>
                    <a:pt x="5" y="1137"/>
                  </a:lnTo>
                  <a:lnTo>
                    <a:pt x="0" y="1071"/>
                  </a:lnTo>
                  <a:lnTo>
                    <a:pt x="0" y="1005"/>
                  </a:lnTo>
                  <a:lnTo>
                    <a:pt x="5" y="941"/>
                  </a:lnTo>
                  <a:lnTo>
                    <a:pt x="13" y="879"/>
                  </a:lnTo>
                  <a:lnTo>
                    <a:pt x="26" y="815"/>
                  </a:lnTo>
                  <a:lnTo>
                    <a:pt x="44" y="754"/>
                  </a:lnTo>
                  <a:lnTo>
                    <a:pt x="66" y="695"/>
                  </a:lnTo>
                  <a:lnTo>
                    <a:pt x="92" y="637"/>
                  </a:lnTo>
                  <a:lnTo>
                    <a:pt x="122" y="580"/>
                  </a:lnTo>
                  <a:lnTo>
                    <a:pt x="157" y="525"/>
                  </a:lnTo>
                  <a:lnTo>
                    <a:pt x="195" y="471"/>
                  </a:lnTo>
                  <a:lnTo>
                    <a:pt x="238" y="420"/>
                  </a:lnTo>
                  <a:lnTo>
                    <a:pt x="284" y="371"/>
                  </a:lnTo>
                  <a:lnTo>
                    <a:pt x="307" y="349"/>
                  </a:lnTo>
                  <a:lnTo>
                    <a:pt x="330" y="328"/>
                  </a:lnTo>
                  <a:lnTo>
                    <a:pt x="354" y="307"/>
                  </a:lnTo>
                  <a:lnTo>
                    <a:pt x="377" y="287"/>
                  </a:lnTo>
                  <a:lnTo>
                    <a:pt x="401" y="268"/>
                  </a:lnTo>
                  <a:lnTo>
                    <a:pt x="426" y="249"/>
                  </a:lnTo>
                  <a:lnTo>
                    <a:pt x="452" y="231"/>
                  </a:lnTo>
                  <a:lnTo>
                    <a:pt x="478" y="214"/>
                  </a:lnTo>
                  <a:lnTo>
                    <a:pt x="503" y="197"/>
                  </a:lnTo>
                  <a:lnTo>
                    <a:pt x="530" y="181"/>
                  </a:lnTo>
                  <a:lnTo>
                    <a:pt x="557" y="165"/>
                  </a:lnTo>
                  <a:lnTo>
                    <a:pt x="584" y="151"/>
                  </a:lnTo>
                  <a:lnTo>
                    <a:pt x="612" y="137"/>
                  </a:lnTo>
                  <a:lnTo>
                    <a:pt x="639" y="123"/>
                  </a:lnTo>
                  <a:lnTo>
                    <a:pt x="668" y="110"/>
                  </a:lnTo>
                  <a:lnTo>
                    <a:pt x="696" y="98"/>
                  </a:lnTo>
                  <a:lnTo>
                    <a:pt x="725" y="88"/>
                  </a:lnTo>
                  <a:lnTo>
                    <a:pt x="754" y="77"/>
                  </a:lnTo>
                  <a:lnTo>
                    <a:pt x="784" y="66"/>
                  </a:lnTo>
                  <a:lnTo>
                    <a:pt x="813" y="56"/>
                  </a:lnTo>
                  <a:lnTo>
                    <a:pt x="843" y="48"/>
                  </a:lnTo>
                  <a:lnTo>
                    <a:pt x="873" y="41"/>
                  </a:lnTo>
                  <a:lnTo>
                    <a:pt x="904" y="33"/>
                  </a:lnTo>
                  <a:lnTo>
                    <a:pt x="935" y="27"/>
                  </a:lnTo>
                  <a:lnTo>
                    <a:pt x="966" y="21"/>
                  </a:lnTo>
                  <a:lnTo>
                    <a:pt x="997" y="16"/>
                  </a:lnTo>
                  <a:lnTo>
                    <a:pt x="1028" y="11"/>
                  </a:lnTo>
                  <a:lnTo>
                    <a:pt x="1061" y="7"/>
                  </a:lnTo>
                  <a:lnTo>
                    <a:pt x="1092" y="5"/>
                  </a:lnTo>
                  <a:lnTo>
                    <a:pt x="1124" y="3"/>
                  </a:lnTo>
                  <a:lnTo>
                    <a:pt x="1156" y="1"/>
                  </a:lnTo>
                  <a:lnTo>
                    <a:pt x="1188" y="0"/>
                  </a:lnTo>
                  <a:lnTo>
                    <a:pt x="1235" y="0"/>
                  </a:lnTo>
                  <a:lnTo>
                    <a:pt x="1280" y="3"/>
                  </a:lnTo>
                  <a:lnTo>
                    <a:pt x="1326" y="5"/>
                  </a:lnTo>
                  <a:lnTo>
                    <a:pt x="1371" y="10"/>
                  </a:lnTo>
                  <a:lnTo>
                    <a:pt x="1415" y="17"/>
                  </a:lnTo>
                  <a:lnTo>
                    <a:pt x="1458" y="24"/>
                  </a:lnTo>
                  <a:lnTo>
                    <a:pt x="1501" y="33"/>
                  </a:lnTo>
                  <a:lnTo>
                    <a:pt x="1543" y="42"/>
                  </a:lnTo>
                  <a:lnTo>
                    <a:pt x="1585" y="54"/>
                  </a:lnTo>
                  <a:lnTo>
                    <a:pt x="1624" y="66"/>
                  </a:lnTo>
                  <a:lnTo>
                    <a:pt x="1664" y="80"/>
                  </a:lnTo>
                  <a:lnTo>
                    <a:pt x="1702" y="95"/>
                  </a:lnTo>
                  <a:lnTo>
                    <a:pt x="1739" y="111"/>
                  </a:lnTo>
                  <a:lnTo>
                    <a:pt x="1775" y="128"/>
                  </a:lnTo>
                  <a:lnTo>
                    <a:pt x="1809" y="146"/>
                  </a:lnTo>
                  <a:lnTo>
                    <a:pt x="1843" y="165"/>
                  </a:lnTo>
                  <a:lnTo>
                    <a:pt x="1875" y="186"/>
                  </a:lnTo>
                  <a:lnTo>
                    <a:pt x="1905" y="207"/>
                  </a:lnTo>
                  <a:lnTo>
                    <a:pt x="1935" y="229"/>
                  </a:lnTo>
                  <a:lnTo>
                    <a:pt x="1962" y="251"/>
                  </a:lnTo>
                  <a:lnTo>
                    <a:pt x="1989" y="275"/>
                  </a:lnTo>
                  <a:lnTo>
                    <a:pt x="2012" y="299"/>
                  </a:lnTo>
                  <a:lnTo>
                    <a:pt x="2036" y="325"/>
                  </a:lnTo>
                  <a:lnTo>
                    <a:pt x="2057" y="350"/>
                  </a:lnTo>
                  <a:lnTo>
                    <a:pt x="2077" y="378"/>
                  </a:lnTo>
                  <a:lnTo>
                    <a:pt x="2094" y="405"/>
                  </a:lnTo>
                  <a:lnTo>
                    <a:pt x="2109" y="433"/>
                  </a:lnTo>
                  <a:lnTo>
                    <a:pt x="2123" y="462"/>
                  </a:lnTo>
                  <a:lnTo>
                    <a:pt x="2135" y="491"/>
                  </a:lnTo>
                  <a:lnTo>
                    <a:pt x="2145" y="521"/>
                  </a:lnTo>
                  <a:lnTo>
                    <a:pt x="2152" y="551"/>
                  </a:lnTo>
                  <a:lnTo>
                    <a:pt x="2158" y="582"/>
                  </a:lnTo>
                  <a:lnTo>
                    <a:pt x="2165" y="664"/>
                  </a:lnTo>
                  <a:lnTo>
                    <a:pt x="2166" y="734"/>
                  </a:lnTo>
                  <a:lnTo>
                    <a:pt x="2160" y="795"/>
                  </a:lnTo>
                  <a:lnTo>
                    <a:pt x="2150" y="849"/>
                  </a:lnTo>
                  <a:lnTo>
                    <a:pt x="2134" y="894"/>
                  </a:lnTo>
                  <a:lnTo>
                    <a:pt x="2115" y="935"/>
                  </a:lnTo>
                  <a:lnTo>
                    <a:pt x="2095" y="970"/>
                  </a:lnTo>
                  <a:lnTo>
                    <a:pt x="2072" y="999"/>
                  </a:lnTo>
                  <a:close/>
                </a:path>
              </a:pathLst>
            </a:custGeom>
            <a:solidFill>
              <a:srgbClr val="14dd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03040" y="3467160"/>
              <a:ext cx="1013040" cy="2117520"/>
            </a:xfrm>
            <a:custGeom>
              <a:avLst/>
              <a:gdLst/>
              <a:ahLst/>
              <a:rect l="l" t="t" r="r" b="b"/>
              <a:pathLst>
                <a:path w="638" h="1334">
                  <a:moveTo>
                    <a:pt x="614" y="805"/>
                  </a:moveTo>
                  <a:lnTo>
                    <a:pt x="597" y="796"/>
                  </a:lnTo>
                  <a:lnTo>
                    <a:pt x="575" y="787"/>
                  </a:lnTo>
                  <a:lnTo>
                    <a:pt x="552" y="778"/>
                  </a:lnTo>
                  <a:lnTo>
                    <a:pt x="528" y="771"/>
                  </a:lnTo>
                  <a:lnTo>
                    <a:pt x="504" y="763"/>
                  </a:lnTo>
                  <a:lnTo>
                    <a:pt x="481" y="758"/>
                  </a:lnTo>
                  <a:lnTo>
                    <a:pt x="463" y="753"/>
                  </a:lnTo>
                  <a:lnTo>
                    <a:pt x="449" y="749"/>
                  </a:lnTo>
                  <a:lnTo>
                    <a:pt x="452" y="729"/>
                  </a:lnTo>
                  <a:lnTo>
                    <a:pt x="454" y="709"/>
                  </a:lnTo>
                  <a:lnTo>
                    <a:pt x="450" y="691"/>
                  </a:lnTo>
                  <a:lnTo>
                    <a:pt x="437" y="680"/>
                  </a:lnTo>
                  <a:lnTo>
                    <a:pt x="433" y="679"/>
                  </a:lnTo>
                  <a:lnTo>
                    <a:pt x="429" y="679"/>
                  </a:lnTo>
                  <a:lnTo>
                    <a:pt x="423" y="679"/>
                  </a:lnTo>
                  <a:lnTo>
                    <a:pt x="415" y="679"/>
                  </a:lnTo>
                  <a:lnTo>
                    <a:pt x="407" y="679"/>
                  </a:lnTo>
                  <a:lnTo>
                    <a:pt x="399" y="680"/>
                  </a:lnTo>
                  <a:lnTo>
                    <a:pt x="389" y="680"/>
                  </a:lnTo>
                  <a:lnTo>
                    <a:pt x="378" y="681"/>
                  </a:lnTo>
                  <a:lnTo>
                    <a:pt x="383" y="638"/>
                  </a:lnTo>
                  <a:lnTo>
                    <a:pt x="390" y="565"/>
                  </a:lnTo>
                  <a:lnTo>
                    <a:pt x="399" y="479"/>
                  </a:lnTo>
                  <a:lnTo>
                    <a:pt x="407" y="394"/>
                  </a:lnTo>
                  <a:lnTo>
                    <a:pt x="421" y="387"/>
                  </a:lnTo>
                  <a:lnTo>
                    <a:pt x="433" y="381"/>
                  </a:lnTo>
                  <a:lnTo>
                    <a:pt x="443" y="374"/>
                  </a:lnTo>
                  <a:lnTo>
                    <a:pt x="450" y="368"/>
                  </a:lnTo>
                  <a:lnTo>
                    <a:pt x="455" y="362"/>
                  </a:lnTo>
                  <a:lnTo>
                    <a:pt x="458" y="356"/>
                  </a:lnTo>
                  <a:lnTo>
                    <a:pt x="460" y="350"/>
                  </a:lnTo>
                  <a:lnTo>
                    <a:pt x="458" y="344"/>
                  </a:lnTo>
                  <a:lnTo>
                    <a:pt x="456" y="339"/>
                  </a:lnTo>
                  <a:lnTo>
                    <a:pt x="452" y="334"/>
                  </a:lnTo>
                  <a:lnTo>
                    <a:pt x="446" y="332"/>
                  </a:lnTo>
                  <a:lnTo>
                    <a:pt x="442" y="330"/>
                  </a:lnTo>
                  <a:lnTo>
                    <a:pt x="435" y="328"/>
                  </a:lnTo>
                  <a:lnTo>
                    <a:pt x="427" y="327"/>
                  </a:lnTo>
                  <a:lnTo>
                    <a:pt x="420" y="327"/>
                  </a:lnTo>
                  <a:lnTo>
                    <a:pt x="413" y="327"/>
                  </a:lnTo>
                  <a:lnTo>
                    <a:pt x="413" y="326"/>
                  </a:lnTo>
                  <a:lnTo>
                    <a:pt x="413" y="322"/>
                  </a:lnTo>
                  <a:lnTo>
                    <a:pt x="413" y="318"/>
                  </a:lnTo>
                  <a:lnTo>
                    <a:pt x="413" y="313"/>
                  </a:lnTo>
                  <a:lnTo>
                    <a:pt x="443" y="311"/>
                  </a:lnTo>
                  <a:lnTo>
                    <a:pt x="442" y="294"/>
                  </a:lnTo>
                  <a:lnTo>
                    <a:pt x="414" y="295"/>
                  </a:lnTo>
                  <a:lnTo>
                    <a:pt x="414" y="294"/>
                  </a:lnTo>
                  <a:lnTo>
                    <a:pt x="414" y="293"/>
                  </a:lnTo>
                  <a:lnTo>
                    <a:pt x="414" y="291"/>
                  </a:lnTo>
                  <a:lnTo>
                    <a:pt x="415" y="290"/>
                  </a:lnTo>
                  <a:lnTo>
                    <a:pt x="451" y="288"/>
                  </a:lnTo>
                  <a:lnTo>
                    <a:pt x="451" y="271"/>
                  </a:lnTo>
                  <a:lnTo>
                    <a:pt x="417" y="273"/>
                  </a:lnTo>
                  <a:lnTo>
                    <a:pt x="417" y="272"/>
                  </a:lnTo>
                  <a:lnTo>
                    <a:pt x="417" y="271"/>
                  </a:lnTo>
                  <a:lnTo>
                    <a:pt x="417" y="270"/>
                  </a:lnTo>
                  <a:lnTo>
                    <a:pt x="417" y="269"/>
                  </a:lnTo>
                  <a:lnTo>
                    <a:pt x="442" y="268"/>
                  </a:lnTo>
                  <a:lnTo>
                    <a:pt x="441" y="250"/>
                  </a:lnTo>
                  <a:lnTo>
                    <a:pt x="418" y="251"/>
                  </a:lnTo>
                  <a:lnTo>
                    <a:pt x="418" y="248"/>
                  </a:lnTo>
                  <a:lnTo>
                    <a:pt x="418" y="247"/>
                  </a:lnTo>
                  <a:lnTo>
                    <a:pt x="418" y="245"/>
                  </a:lnTo>
                  <a:lnTo>
                    <a:pt x="418" y="244"/>
                  </a:lnTo>
                  <a:lnTo>
                    <a:pt x="425" y="244"/>
                  </a:lnTo>
                  <a:lnTo>
                    <a:pt x="432" y="244"/>
                  </a:lnTo>
                  <a:lnTo>
                    <a:pt x="439" y="241"/>
                  </a:lnTo>
                  <a:lnTo>
                    <a:pt x="446" y="236"/>
                  </a:lnTo>
                  <a:lnTo>
                    <a:pt x="450" y="232"/>
                  </a:lnTo>
                  <a:lnTo>
                    <a:pt x="452" y="227"/>
                  </a:lnTo>
                  <a:lnTo>
                    <a:pt x="454" y="220"/>
                  </a:lnTo>
                  <a:lnTo>
                    <a:pt x="454" y="210"/>
                  </a:lnTo>
                  <a:lnTo>
                    <a:pt x="451" y="202"/>
                  </a:lnTo>
                  <a:lnTo>
                    <a:pt x="448" y="195"/>
                  </a:lnTo>
                  <a:lnTo>
                    <a:pt x="444" y="189"/>
                  </a:lnTo>
                  <a:lnTo>
                    <a:pt x="442" y="185"/>
                  </a:lnTo>
                  <a:lnTo>
                    <a:pt x="442" y="185"/>
                  </a:lnTo>
                  <a:lnTo>
                    <a:pt x="442" y="185"/>
                  </a:lnTo>
                  <a:lnTo>
                    <a:pt x="442" y="185"/>
                  </a:lnTo>
                  <a:lnTo>
                    <a:pt x="442" y="184"/>
                  </a:lnTo>
                  <a:lnTo>
                    <a:pt x="443" y="183"/>
                  </a:lnTo>
                  <a:lnTo>
                    <a:pt x="444" y="181"/>
                  </a:lnTo>
                  <a:lnTo>
                    <a:pt x="445" y="180"/>
                  </a:lnTo>
                  <a:lnTo>
                    <a:pt x="446" y="179"/>
                  </a:lnTo>
                  <a:lnTo>
                    <a:pt x="451" y="175"/>
                  </a:lnTo>
                  <a:lnTo>
                    <a:pt x="456" y="172"/>
                  </a:lnTo>
                  <a:lnTo>
                    <a:pt x="460" y="168"/>
                  </a:lnTo>
                  <a:lnTo>
                    <a:pt x="464" y="166"/>
                  </a:lnTo>
                  <a:lnTo>
                    <a:pt x="472" y="162"/>
                  </a:lnTo>
                  <a:lnTo>
                    <a:pt x="478" y="158"/>
                  </a:lnTo>
                  <a:lnTo>
                    <a:pt x="482" y="152"/>
                  </a:lnTo>
                  <a:lnTo>
                    <a:pt x="484" y="143"/>
                  </a:lnTo>
                  <a:lnTo>
                    <a:pt x="482" y="136"/>
                  </a:lnTo>
                  <a:lnTo>
                    <a:pt x="479" y="129"/>
                  </a:lnTo>
                  <a:lnTo>
                    <a:pt x="473" y="123"/>
                  </a:lnTo>
                  <a:lnTo>
                    <a:pt x="466" y="117"/>
                  </a:lnTo>
                  <a:lnTo>
                    <a:pt x="457" y="111"/>
                  </a:lnTo>
                  <a:lnTo>
                    <a:pt x="451" y="107"/>
                  </a:lnTo>
                  <a:lnTo>
                    <a:pt x="444" y="104"/>
                  </a:lnTo>
                  <a:lnTo>
                    <a:pt x="439" y="101"/>
                  </a:lnTo>
                  <a:lnTo>
                    <a:pt x="441" y="100"/>
                  </a:lnTo>
                  <a:lnTo>
                    <a:pt x="442" y="99"/>
                  </a:lnTo>
                  <a:lnTo>
                    <a:pt x="444" y="97"/>
                  </a:lnTo>
                  <a:lnTo>
                    <a:pt x="446" y="95"/>
                  </a:lnTo>
                  <a:lnTo>
                    <a:pt x="452" y="91"/>
                  </a:lnTo>
                  <a:lnTo>
                    <a:pt x="460" y="86"/>
                  </a:lnTo>
                  <a:lnTo>
                    <a:pt x="468" y="82"/>
                  </a:lnTo>
                  <a:lnTo>
                    <a:pt x="476" y="77"/>
                  </a:lnTo>
                  <a:lnTo>
                    <a:pt x="486" y="73"/>
                  </a:lnTo>
                  <a:lnTo>
                    <a:pt x="495" y="67"/>
                  </a:lnTo>
                  <a:lnTo>
                    <a:pt x="503" y="62"/>
                  </a:lnTo>
                  <a:lnTo>
                    <a:pt x="510" y="56"/>
                  </a:lnTo>
                  <a:lnTo>
                    <a:pt x="516" y="51"/>
                  </a:lnTo>
                  <a:lnTo>
                    <a:pt x="519" y="45"/>
                  </a:lnTo>
                  <a:lnTo>
                    <a:pt x="522" y="39"/>
                  </a:lnTo>
                  <a:lnTo>
                    <a:pt x="522" y="32"/>
                  </a:lnTo>
                  <a:lnTo>
                    <a:pt x="519" y="26"/>
                  </a:lnTo>
                  <a:lnTo>
                    <a:pt x="516" y="21"/>
                  </a:lnTo>
                  <a:lnTo>
                    <a:pt x="511" y="18"/>
                  </a:lnTo>
                  <a:lnTo>
                    <a:pt x="504" y="13"/>
                  </a:lnTo>
                  <a:lnTo>
                    <a:pt x="495" y="11"/>
                  </a:lnTo>
                  <a:lnTo>
                    <a:pt x="485" y="7"/>
                  </a:lnTo>
                  <a:lnTo>
                    <a:pt x="473" y="5"/>
                  </a:lnTo>
                  <a:lnTo>
                    <a:pt x="457" y="2"/>
                  </a:lnTo>
                  <a:lnTo>
                    <a:pt x="435" y="0"/>
                  </a:lnTo>
                  <a:lnTo>
                    <a:pt x="412" y="0"/>
                  </a:lnTo>
                  <a:lnTo>
                    <a:pt x="388" y="2"/>
                  </a:lnTo>
                  <a:lnTo>
                    <a:pt x="364" y="6"/>
                  </a:lnTo>
                  <a:lnTo>
                    <a:pt x="340" y="12"/>
                  </a:lnTo>
                  <a:lnTo>
                    <a:pt x="316" y="18"/>
                  </a:lnTo>
                  <a:lnTo>
                    <a:pt x="294" y="25"/>
                  </a:lnTo>
                  <a:lnTo>
                    <a:pt x="272" y="32"/>
                  </a:lnTo>
                  <a:lnTo>
                    <a:pt x="252" y="40"/>
                  </a:lnTo>
                  <a:lnTo>
                    <a:pt x="233" y="48"/>
                  </a:lnTo>
                  <a:lnTo>
                    <a:pt x="216" y="56"/>
                  </a:lnTo>
                  <a:lnTo>
                    <a:pt x="202" y="63"/>
                  </a:lnTo>
                  <a:lnTo>
                    <a:pt x="190" y="69"/>
                  </a:lnTo>
                  <a:lnTo>
                    <a:pt x="180" y="74"/>
                  </a:lnTo>
                  <a:lnTo>
                    <a:pt x="174" y="77"/>
                  </a:lnTo>
                  <a:lnTo>
                    <a:pt x="171" y="79"/>
                  </a:lnTo>
                  <a:lnTo>
                    <a:pt x="166" y="81"/>
                  </a:lnTo>
                  <a:lnTo>
                    <a:pt x="165" y="87"/>
                  </a:lnTo>
                  <a:lnTo>
                    <a:pt x="162" y="109"/>
                  </a:lnTo>
                  <a:lnTo>
                    <a:pt x="156" y="164"/>
                  </a:lnTo>
                  <a:lnTo>
                    <a:pt x="149" y="240"/>
                  </a:lnTo>
                  <a:lnTo>
                    <a:pt x="144" y="328"/>
                  </a:lnTo>
                  <a:lnTo>
                    <a:pt x="111" y="331"/>
                  </a:lnTo>
                  <a:lnTo>
                    <a:pt x="86" y="333"/>
                  </a:lnTo>
                  <a:lnTo>
                    <a:pt x="67" y="337"/>
                  </a:lnTo>
                  <a:lnTo>
                    <a:pt x="54" y="339"/>
                  </a:lnTo>
                  <a:lnTo>
                    <a:pt x="45" y="343"/>
                  </a:lnTo>
                  <a:lnTo>
                    <a:pt x="40" y="346"/>
                  </a:lnTo>
                  <a:lnTo>
                    <a:pt x="38" y="351"/>
                  </a:lnTo>
                  <a:lnTo>
                    <a:pt x="38" y="356"/>
                  </a:lnTo>
                  <a:lnTo>
                    <a:pt x="38" y="358"/>
                  </a:lnTo>
                  <a:lnTo>
                    <a:pt x="37" y="361"/>
                  </a:lnTo>
                  <a:lnTo>
                    <a:pt x="37" y="362"/>
                  </a:lnTo>
                  <a:lnTo>
                    <a:pt x="36" y="364"/>
                  </a:lnTo>
                  <a:lnTo>
                    <a:pt x="34" y="368"/>
                  </a:lnTo>
                  <a:lnTo>
                    <a:pt x="33" y="373"/>
                  </a:lnTo>
                  <a:lnTo>
                    <a:pt x="33" y="379"/>
                  </a:lnTo>
                  <a:lnTo>
                    <a:pt x="36" y="383"/>
                  </a:lnTo>
                  <a:lnTo>
                    <a:pt x="40" y="388"/>
                  </a:lnTo>
                  <a:lnTo>
                    <a:pt x="45" y="391"/>
                  </a:lnTo>
                  <a:lnTo>
                    <a:pt x="52" y="392"/>
                  </a:lnTo>
                  <a:lnTo>
                    <a:pt x="58" y="392"/>
                  </a:lnTo>
                  <a:lnTo>
                    <a:pt x="64" y="392"/>
                  </a:lnTo>
                  <a:lnTo>
                    <a:pt x="73" y="392"/>
                  </a:lnTo>
                  <a:lnTo>
                    <a:pt x="82" y="391"/>
                  </a:lnTo>
                  <a:lnTo>
                    <a:pt x="93" y="391"/>
                  </a:lnTo>
                  <a:lnTo>
                    <a:pt x="105" y="389"/>
                  </a:lnTo>
                  <a:lnTo>
                    <a:pt x="118" y="389"/>
                  </a:lnTo>
                  <a:lnTo>
                    <a:pt x="130" y="388"/>
                  </a:lnTo>
                  <a:lnTo>
                    <a:pt x="143" y="388"/>
                  </a:lnTo>
                  <a:lnTo>
                    <a:pt x="143" y="423"/>
                  </a:lnTo>
                  <a:lnTo>
                    <a:pt x="144" y="453"/>
                  </a:lnTo>
                  <a:lnTo>
                    <a:pt x="147" y="479"/>
                  </a:lnTo>
                  <a:lnTo>
                    <a:pt x="149" y="502"/>
                  </a:lnTo>
                  <a:lnTo>
                    <a:pt x="141" y="508"/>
                  </a:lnTo>
                  <a:lnTo>
                    <a:pt x="134" y="514"/>
                  </a:lnTo>
                  <a:lnTo>
                    <a:pt x="129" y="518"/>
                  </a:lnTo>
                  <a:lnTo>
                    <a:pt x="128" y="521"/>
                  </a:lnTo>
                  <a:lnTo>
                    <a:pt x="136" y="538"/>
                  </a:lnTo>
                  <a:lnTo>
                    <a:pt x="143" y="529"/>
                  </a:lnTo>
                  <a:lnTo>
                    <a:pt x="144" y="529"/>
                  </a:lnTo>
                  <a:lnTo>
                    <a:pt x="147" y="528"/>
                  </a:lnTo>
                  <a:lnTo>
                    <a:pt x="150" y="528"/>
                  </a:lnTo>
                  <a:lnTo>
                    <a:pt x="154" y="528"/>
                  </a:lnTo>
                  <a:lnTo>
                    <a:pt x="159" y="542"/>
                  </a:lnTo>
                  <a:lnTo>
                    <a:pt x="162" y="554"/>
                  </a:lnTo>
                  <a:lnTo>
                    <a:pt x="167" y="565"/>
                  </a:lnTo>
                  <a:lnTo>
                    <a:pt x="173" y="572"/>
                  </a:lnTo>
                  <a:lnTo>
                    <a:pt x="178" y="578"/>
                  </a:lnTo>
                  <a:lnTo>
                    <a:pt x="183" y="583"/>
                  </a:lnTo>
                  <a:lnTo>
                    <a:pt x="189" y="585"/>
                  </a:lnTo>
                  <a:lnTo>
                    <a:pt x="193" y="588"/>
                  </a:lnTo>
                  <a:lnTo>
                    <a:pt x="212" y="594"/>
                  </a:lnTo>
                  <a:lnTo>
                    <a:pt x="230" y="599"/>
                  </a:lnTo>
                  <a:lnTo>
                    <a:pt x="247" y="603"/>
                  </a:lnTo>
                  <a:lnTo>
                    <a:pt x="261" y="606"/>
                  </a:lnTo>
                  <a:lnTo>
                    <a:pt x="273" y="608"/>
                  </a:lnTo>
                  <a:lnTo>
                    <a:pt x="284" y="609"/>
                  </a:lnTo>
                  <a:lnTo>
                    <a:pt x="294" y="611"/>
                  </a:lnTo>
                  <a:lnTo>
                    <a:pt x="301" y="611"/>
                  </a:lnTo>
                  <a:lnTo>
                    <a:pt x="301" y="697"/>
                  </a:lnTo>
                  <a:lnTo>
                    <a:pt x="294" y="699"/>
                  </a:lnTo>
                  <a:lnTo>
                    <a:pt x="288" y="701"/>
                  </a:lnTo>
                  <a:lnTo>
                    <a:pt x="282" y="704"/>
                  </a:lnTo>
                  <a:lnTo>
                    <a:pt x="277" y="706"/>
                  </a:lnTo>
                  <a:lnTo>
                    <a:pt x="272" y="710"/>
                  </a:lnTo>
                  <a:lnTo>
                    <a:pt x="267" y="712"/>
                  </a:lnTo>
                  <a:lnTo>
                    <a:pt x="265" y="714"/>
                  </a:lnTo>
                  <a:lnTo>
                    <a:pt x="263" y="718"/>
                  </a:lnTo>
                  <a:lnTo>
                    <a:pt x="260" y="725"/>
                  </a:lnTo>
                  <a:lnTo>
                    <a:pt x="259" y="732"/>
                  </a:lnTo>
                  <a:lnTo>
                    <a:pt x="258" y="741"/>
                  </a:lnTo>
                  <a:lnTo>
                    <a:pt x="258" y="748"/>
                  </a:lnTo>
                  <a:lnTo>
                    <a:pt x="240" y="753"/>
                  </a:lnTo>
                  <a:lnTo>
                    <a:pt x="221" y="756"/>
                  </a:lnTo>
                  <a:lnTo>
                    <a:pt x="202" y="761"/>
                  </a:lnTo>
                  <a:lnTo>
                    <a:pt x="181" y="767"/>
                  </a:lnTo>
                  <a:lnTo>
                    <a:pt x="161" y="772"/>
                  </a:lnTo>
                  <a:lnTo>
                    <a:pt x="142" y="778"/>
                  </a:lnTo>
                  <a:lnTo>
                    <a:pt x="122" y="783"/>
                  </a:lnTo>
                  <a:lnTo>
                    <a:pt x="104" y="789"/>
                  </a:lnTo>
                  <a:lnTo>
                    <a:pt x="86" y="795"/>
                  </a:lnTo>
                  <a:lnTo>
                    <a:pt x="69" y="801"/>
                  </a:lnTo>
                  <a:lnTo>
                    <a:pt x="54" y="807"/>
                  </a:lnTo>
                  <a:lnTo>
                    <a:pt x="40" y="812"/>
                  </a:lnTo>
                  <a:lnTo>
                    <a:pt x="30" y="818"/>
                  </a:lnTo>
                  <a:lnTo>
                    <a:pt x="20" y="824"/>
                  </a:lnTo>
                  <a:lnTo>
                    <a:pt x="14" y="829"/>
                  </a:lnTo>
                  <a:lnTo>
                    <a:pt x="11" y="835"/>
                  </a:lnTo>
                  <a:lnTo>
                    <a:pt x="9" y="839"/>
                  </a:lnTo>
                  <a:lnTo>
                    <a:pt x="9" y="842"/>
                  </a:lnTo>
                  <a:lnTo>
                    <a:pt x="9" y="847"/>
                  </a:lnTo>
                  <a:lnTo>
                    <a:pt x="12" y="851"/>
                  </a:lnTo>
                  <a:lnTo>
                    <a:pt x="19" y="860"/>
                  </a:lnTo>
                  <a:lnTo>
                    <a:pt x="24" y="869"/>
                  </a:lnTo>
                  <a:lnTo>
                    <a:pt x="27" y="873"/>
                  </a:lnTo>
                  <a:lnTo>
                    <a:pt x="29" y="877"/>
                  </a:lnTo>
                  <a:lnTo>
                    <a:pt x="0" y="1292"/>
                  </a:lnTo>
                  <a:lnTo>
                    <a:pt x="9" y="1295"/>
                  </a:lnTo>
                  <a:lnTo>
                    <a:pt x="13" y="1297"/>
                  </a:lnTo>
                  <a:lnTo>
                    <a:pt x="21" y="1299"/>
                  </a:lnTo>
                  <a:lnTo>
                    <a:pt x="32" y="1301"/>
                  </a:lnTo>
                  <a:lnTo>
                    <a:pt x="48" y="1306"/>
                  </a:lnTo>
                  <a:lnTo>
                    <a:pt x="66" y="1310"/>
                  </a:lnTo>
                  <a:lnTo>
                    <a:pt x="86" y="1314"/>
                  </a:lnTo>
                  <a:lnTo>
                    <a:pt x="109" y="1319"/>
                  </a:lnTo>
                  <a:lnTo>
                    <a:pt x="134" y="1323"/>
                  </a:lnTo>
                  <a:lnTo>
                    <a:pt x="161" y="1328"/>
                  </a:lnTo>
                  <a:lnTo>
                    <a:pt x="189" y="1330"/>
                  </a:lnTo>
                  <a:lnTo>
                    <a:pt x="218" y="1332"/>
                  </a:lnTo>
                  <a:lnTo>
                    <a:pt x="248" y="1334"/>
                  </a:lnTo>
                  <a:lnTo>
                    <a:pt x="278" y="1334"/>
                  </a:lnTo>
                  <a:lnTo>
                    <a:pt x="308" y="1331"/>
                  </a:lnTo>
                  <a:lnTo>
                    <a:pt x="338" y="1328"/>
                  </a:lnTo>
                  <a:lnTo>
                    <a:pt x="368" y="1322"/>
                  </a:lnTo>
                  <a:lnTo>
                    <a:pt x="395" y="1314"/>
                  </a:lnTo>
                  <a:lnTo>
                    <a:pt x="421" y="1307"/>
                  </a:lnTo>
                  <a:lnTo>
                    <a:pt x="446" y="1300"/>
                  </a:lnTo>
                  <a:lnTo>
                    <a:pt x="469" y="1293"/>
                  </a:lnTo>
                  <a:lnTo>
                    <a:pt x="491" y="1286"/>
                  </a:lnTo>
                  <a:lnTo>
                    <a:pt x="511" y="1279"/>
                  </a:lnTo>
                  <a:lnTo>
                    <a:pt x="529" y="1271"/>
                  </a:lnTo>
                  <a:lnTo>
                    <a:pt x="546" y="1265"/>
                  </a:lnTo>
                  <a:lnTo>
                    <a:pt x="560" y="1259"/>
                  </a:lnTo>
                  <a:lnTo>
                    <a:pt x="573" y="1253"/>
                  </a:lnTo>
                  <a:lnTo>
                    <a:pt x="584" y="1249"/>
                  </a:lnTo>
                  <a:lnTo>
                    <a:pt x="593" y="1245"/>
                  </a:lnTo>
                  <a:lnTo>
                    <a:pt x="601" y="1242"/>
                  </a:lnTo>
                  <a:lnTo>
                    <a:pt x="607" y="1238"/>
                  </a:lnTo>
                  <a:lnTo>
                    <a:pt x="610" y="1237"/>
                  </a:lnTo>
                  <a:lnTo>
                    <a:pt x="611" y="1236"/>
                  </a:lnTo>
                  <a:lnTo>
                    <a:pt x="617" y="1232"/>
                  </a:lnTo>
                  <a:lnTo>
                    <a:pt x="596" y="860"/>
                  </a:lnTo>
                  <a:lnTo>
                    <a:pt x="603" y="859"/>
                  </a:lnTo>
                  <a:lnTo>
                    <a:pt x="610" y="859"/>
                  </a:lnTo>
                  <a:lnTo>
                    <a:pt x="616" y="857"/>
                  </a:lnTo>
                  <a:lnTo>
                    <a:pt x="622" y="856"/>
                  </a:lnTo>
                  <a:lnTo>
                    <a:pt x="627" y="853"/>
                  </a:lnTo>
                  <a:lnTo>
                    <a:pt x="632" y="850"/>
                  </a:lnTo>
                  <a:lnTo>
                    <a:pt x="635" y="846"/>
                  </a:lnTo>
                  <a:lnTo>
                    <a:pt x="638" y="841"/>
                  </a:lnTo>
                  <a:lnTo>
                    <a:pt x="638" y="829"/>
                  </a:lnTo>
                  <a:lnTo>
                    <a:pt x="630" y="818"/>
                  </a:lnTo>
                  <a:lnTo>
                    <a:pt x="622" y="810"/>
                  </a:lnTo>
                  <a:lnTo>
                    <a:pt x="614" y="80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41320" y="4694400"/>
              <a:ext cx="331920" cy="815760"/>
            </a:xfrm>
            <a:custGeom>
              <a:avLst/>
              <a:gdLst/>
              <a:ahLst/>
              <a:rect l="l" t="t" r="r" b="b"/>
              <a:pathLst>
                <a:path w="209" h="514">
                  <a:moveTo>
                    <a:pt x="209" y="61"/>
                  </a:moveTo>
                  <a:lnTo>
                    <a:pt x="203" y="62"/>
                  </a:lnTo>
                  <a:lnTo>
                    <a:pt x="196" y="62"/>
                  </a:lnTo>
                  <a:lnTo>
                    <a:pt x="189" y="63"/>
                  </a:lnTo>
                  <a:lnTo>
                    <a:pt x="182" y="63"/>
                  </a:lnTo>
                  <a:lnTo>
                    <a:pt x="169" y="62"/>
                  </a:lnTo>
                  <a:lnTo>
                    <a:pt x="190" y="445"/>
                  </a:lnTo>
                  <a:lnTo>
                    <a:pt x="181" y="449"/>
                  </a:lnTo>
                  <a:lnTo>
                    <a:pt x="166" y="457"/>
                  </a:lnTo>
                  <a:lnTo>
                    <a:pt x="148" y="464"/>
                  </a:lnTo>
                  <a:lnTo>
                    <a:pt x="127" y="473"/>
                  </a:lnTo>
                  <a:lnTo>
                    <a:pt x="101" y="483"/>
                  </a:lnTo>
                  <a:lnTo>
                    <a:pt x="71" y="492"/>
                  </a:lnTo>
                  <a:lnTo>
                    <a:pt x="37" y="503"/>
                  </a:lnTo>
                  <a:lnTo>
                    <a:pt x="0" y="514"/>
                  </a:lnTo>
                  <a:lnTo>
                    <a:pt x="43" y="0"/>
                  </a:lnTo>
                  <a:lnTo>
                    <a:pt x="58" y="4"/>
                  </a:lnTo>
                  <a:lnTo>
                    <a:pt x="76" y="8"/>
                  </a:lnTo>
                  <a:lnTo>
                    <a:pt x="96" y="14"/>
                  </a:lnTo>
                  <a:lnTo>
                    <a:pt x="120" y="20"/>
                  </a:lnTo>
                  <a:lnTo>
                    <a:pt x="142" y="28"/>
                  </a:lnTo>
                  <a:lnTo>
                    <a:pt x="164" y="36"/>
                  </a:lnTo>
                  <a:lnTo>
                    <a:pt x="183" y="44"/>
                  </a:lnTo>
                  <a:lnTo>
                    <a:pt x="199" y="53"/>
                  </a:lnTo>
                  <a:lnTo>
                    <a:pt x="202" y="55"/>
                  </a:lnTo>
                  <a:lnTo>
                    <a:pt x="205" y="57"/>
                  </a:lnTo>
                  <a:lnTo>
                    <a:pt x="207" y="59"/>
                  </a:lnTo>
                  <a:lnTo>
                    <a:pt x="209" y="61"/>
                  </a:lnTo>
                  <a:close/>
                </a:path>
              </a:pathLst>
            </a:custGeom>
            <a:solidFill>
              <a:srgbClr val="a8112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44440" y="4711680"/>
              <a:ext cx="351000" cy="831960"/>
            </a:xfrm>
            <a:custGeom>
              <a:avLst/>
              <a:gdLst/>
              <a:ahLst/>
              <a:rect l="l" t="t" r="r" b="b"/>
              <a:pathLst>
                <a:path w="221" h="524">
                  <a:moveTo>
                    <a:pt x="26" y="85"/>
                  </a:moveTo>
                  <a:lnTo>
                    <a:pt x="25" y="83"/>
                  </a:lnTo>
                  <a:lnTo>
                    <a:pt x="23" y="79"/>
                  </a:lnTo>
                  <a:lnTo>
                    <a:pt x="18" y="70"/>
                  </a:lnTo>
                  <a:lnTo>
                    <a:pt x="10" y="58"/>
                  </a:lnTo>
                  <a:lnTo>
                    <a:pt x="19" y="52"/>
                  </a:lnTo>
                  <a:lnTo>
                    <a:pt x="32" y="46"/>
                  </a:lnTo>
                  <a:lnTo>
                    <a:pt x="51" y="39"/>
                  </a:lnTo>
                  <a:lnTo>
                    <a:pt x="73" y="32"/>
                  </a:lnTo>
                  <a:lnTo>
                    <a:pt x="98" y="25"/>
                  </a:lnTo>
                  <a:lnTo>
                    <a:pt x="126" y="17"/>
                  </a:lnTo>
                  <a:lnTo>
                    <a:pt x="155" y="8"/>
                  </a:lnTo>
                  <a:lnTo>
                    <a:pt x="186" y="0"/>
                  </a:lnTo>
                  <a:lnTo>
                    <a:pt x="221" y="524"/>
                  </a:lnTo>
                  <a:lnTo>
                    <a:pt x="203" y="524"/>
                  </a:lnTo>
                  <a:lnTo>
                    <a:pt x="184" y="523"/>
                  </a:lnTo>
                  <a:lnTo>
                    <a:pt x="166" y="522"/>
                  </a:lnTo>
                  <a:lnTo>
                    <a:pt x="148" y="520"/>
                  </a:lnTo>
                  <a:lnTo>
                    <a:pt x="131" y="517"/>
                  </a:lnTo>
                  <a:lnTo>
                    <a:pt x="115" y="516"/>
                  </a:lnTo>
                  <a:lnTo>
                    <a:pt x="99" y="513"/>
                  </a:lnTo>
                  <a:lnTo>
                    <a:pt x="84" y="510"/>
                  </a:lnTo>
                  <a:lnTo>
                    <a:pt x="69" y="508"/>
                  </a:lnTo>
                  <a:lnTo>
                    <a:pt x="56" y="505"/>
                  </a:lnTo>
                  <a:lnTo>
                    <a:pt x="44" y="502"/>
                  </a:lnTo>
                  <a:lnTo>
                    <a:pt x="32" y="499"/>
                  </a:lnTo>
                  <a:lnTo>
                    <a:pt x="23" y="497"/>
                  </a:lnTo>
                  <a:lnTo>
                    <a:pt x="13" y="495"/>
                  </a:lnTo>
                  <a:lnTo>
                    <a:pt x="6" y="492"/>
                  </a:lnTo>
                  <a:lnTo>
                    <a:pt x="0" y="491"/>
                  </a:lnTo>
                  <a:lnTo>
                    <a:pt x="28" y="88"/>
                  </a:lnTo>
                  <a:lnTo>
                    <a:pt x="26" y="85"/>
                  </a:lnTo>
                  <a:close/>
                </a:path>
              </a:pathLst>
            </a:custGeom>
            <a:solidFill>
              <a:srgbClr val="a8112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11000" y="4851360"/>
              <a:ext cx="30240" cy="42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4" y="0"/>
                  </a:moveTo>
                  <a:lnTo>
                    <a:pt x="17" y="6"/>
                  </a:lnTo>
                  <a:lnTo>
                    <a:pt x="18" y="12"/>
                  </a:lnTo>
                  <a:lnTo>
                    <a:pt x="19" y="17"/>
                  </a:lnTo>
                  <a:lnTo>
                    <a:pt x="18" y="22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1" y="24"/>
                  </a:lnTo>
                  <a:lnTo>
                    <a:pt x="7" y="22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5670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65280" y="4930920"/>
              <a:ext cx="79200" cy="612720"/>
            </a:xfrm>
            <a:custGeom>
              <a:avLst/>
              <a:gdLst/>
              <a:ahLst/>
              <a:rect l="l" t="t" r="r" b="b"/>
              <a:pathLst>
                <a:path w="50" h="386">
                  <a:moveTo>
                    <a:pt x="42" y="0"/>
                  </a:moveTo>
                  <a:lnTo>
                    <a:pt x="50" y="380"/>
                  </a:lnTo>
                  <a:lnTo>
                    <a:pt x="44" y="382"/>
                  </a:lnTo>
                  <a:lnTo>
                    <a:pt x="38" y="382"/>
                  </a:lnTo>
                  <a:lnTo>
                    <a:pt x="32" y="383"/>
                  </a:lnTo>
                  <a:lnTo>
                    <a:pt x="25" y="384"/>
                  </a:lnTo>
                  <a:lnTo>
                    <a:pt x="19" y="385"/>
                  </a:lnTo>
                  <a:lnTo>
                    <a:pt x="13" y="385"/>
                  </a:lnTo>
                  <a:lnTo>
                    <a:pt x="6" y="386"/>
                  </a:lnTo>
                  <a:lnTo>
                    <a:pt x="0" y="386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5670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99880" y="3506760"/>
              <a:ext cx="689040" cy="1057320"/>
            </a:xfrm>
            <a:custGeom>
              <a:avLst/>
              <a:gdLst/>
              <a:ahLst/>
              <a:rect l="l" t="t" r="r" b="b"/>
              <a:pathLst>
                <a:path w="434" h="666">
                  <a:moveTo>
                    <a:pt x="251" y="562"/>
                  </a:moveTo>
                  <a:lnTo>
                    <a:pt x="249" y="562"/>
                  </a:lnTo>
                  <a:lnTo>
                    <a:pt x="243" y="562"/>
                  </a:lnTo>
                  <a:lnTo>
                    <a:pt x="235" y="562"/>
                  </a:lnTo>
                  <a:lnTo>
                    <a:pt x="224" y="559"/>
                  </a:lnTo>
                  <a:lnTo>
                    <a:pt x="209" y="557"/>
                  </a:lnTo>
                  <a:lnTo>
                    <a:pt x="190" y="553"/>
                  </a:lnTo>
                  <a:lnTo>
                    <a:pt x="166" y="547"/>
                  </a:lnTo>
                  <a:lnTo>
                    <a:pt x="139" y="539"/>
                  </a:lnTo>
                  <a:lnTo>
                    <a:pt x="135" y="537"/>
                  </a:lnTo>
                  <a:lnTo>
                    <a:pt x="129" y="529"/>
                  </a:lnTo>
                  <a:lnTo>
                    <a:pt x="123" y="515"/>
                  </a:lnTo>
                  <a:lnTo>
                    <a:pt x="116" y="492"/>
                  </a:lnTo>
                  <a:lnTo>
                    <a:pt x="119" y="491"/>
                  </a:lnTo>
                  <a:lnTo>
                    <a:pt x="123" y="491"/>
                  </a:lnTo>
                  <a:lnTo>
                    <a:pt x="125" y="491"/>
                  </a:lnTo>
                  <a:lnTo>
                    <a:pt x="129" y="492"/>
                  </a:lnTo>
                  <a:lnTo>
                    <a:pt x="148" y="498"/>
                  </a:lnTo>
                  <a:lnTo>
                    <a:pt x="160" y="502"/>
                  </a:lnTo>
                  <a:lnTo>
                    <a:pt x="168" y="504"/>
                  </a:lnTo>
                  <a:lnTo>
                    <a:pt x="173" y="507"/>
                  </a:lnTo>
                  <a:lnTo>
                    <a:pt x="175" y="509"/>
                  </a:lnTo>
                  <a:lnTo>
                    <a:pt x="175" y="510"/>
                  </a:lnTo>
                  <a:lnTo>
                    <a:pt x="176" y="511"/>
                  </a:lnTo>
                  <a:lnTo>
                    <a:pt x="178" y="513"/>
                  </a:lnTo>
                  <a:lnTo>
                    <a:pt x="181" y="490"/>
                  </a:lnTo>
                  <a:lnTo>
                    <a:pt x="180" y="489"/>
                  </a:lnTo>
                  <a:lnTo>
                    <a:pt x="178" y="488"/>
                  </a:lnTo>
                  <a:lnTo>
                    <a:pt x="174" y="485"/>
                  </a:lnTo>
                  <a:lnTo>
                    <a:pt x="169" y="483"/>
                  </a:lnTo>
                  <a:lnTo>
                    <a:pt x="163" y="479"/>
                  </a:lnTo>
                  <a:lnTo>
                    <a:pt x="155" y="476"/>
                  </a:lnTo>
                  <a:lnTo>
                    <a:pt x="145" y="473"/>
                  </a:lnTo>
                  <a:lnTo>
                    <a:pt x="135" y="470"/>
                  </a:lnTo>
                  <a:lnTo>
                    <a:pt x="129" y="468"/>
                  </a:lnTo>
                  <a:lnTo>
                    <a:pt x="123" y="467"/>
                  </a:lnTo>
                  <a:lnTo>
                    <a:pt x="118" y="467"/>
                  </a:lnTo>
                  <a:lnTo>
                    <a:pt x="112" y="468"/>
                  </a:lnTo>
                  <a:lnTo>
                    <a:pt x="110" y="446"/>
                  </a:lnTo>
                  <a:lnTo>
                    <a:pt x="107" y="418"/>
                  </a:lnTo>
                  <a:lnTo>
                    <a:pt x="106" y="387"/>
                  </a:lnTo>
                  <a:lnTo>
                    <a:pt x="106" y="350"/>
                  </a:lnTo>
                  <a:lnTo>
                    <a:pt x="106" y="338"/>
                  </a:lnTo>
                  <a:lnTo>
                    <a:pt x="94" y="338"/>
                  </a:lnTo>
                  <a:lnTo>
                    <a:pt x="76" y="339"/>
                  </a:lnTo>
                  <a:lnTo>
                    <a:pt x="61" y="339"/>
                  </a:lnTo>
                  <a:lnTo>
                    <a:pt x="46" y="341"/>
                  </a:lnTo>
                  <a:lnTo>
                    <a:pt x="33" y="342"/>
                  </a:lnTo>
                  <a:lnTo>
                    <a:pt x="22" y="342"/>
                  </a:lnTo>
                  <a:lnTo>
                    <a:pt x="13" y="343"/>
                  </a:lnTo>
                  <a:lnTo>
                    <a:pt x="6" y="343"/>
                  </a:lnTo>
                  <a:lnTo>
                    <a:pt x="0" y="343"/>
                  </a:lnTo>
                  <a:lnTo>
                    <a:pt x="0" y="342"/>
                  </a:lnTo>
                  <a:lnTo>
                    <a:pt x="0" y="341"/>
                  </a:lnTo>
                  <a:lnTo>
                    <a:pt x="0" y="339"/>
                  </a:lnTo>
                  <a:lnTo>
                    <a:pt x="0" y="338"/>
                  </a:lnTo>
                  <a:lnTo>
                    <a:pt x="3" y="337"/>
                  </a:lnTo>
                  <a:lnTo>
                    <a:pt x="8" y="336"/>
                  </a:lnTo>
                  <a:lnTo>
                    <a:pt x="15" y="335"/>
                  </a:lnTo>
                  <a:lnTo>
                    <a:pt x="25" y="333"/>
                  </a:lnTo>
                  <a:lnTo>
                    <a:pt x="38" y="332"/>
                  </a:lnTo>
                  <a:lnTo>
                    <a:pt x="53" y="330"/>
                  </a:lnTo>
                  <a:lnTo>
                    <a:pt x="73" y="329"/>
                  </a:lnTo>
                  <a:lnTo>
                    <a:pt x="95" y="327"/>
                  </a:lnTo>
                  <a:lnTo>
                    <a:pt x="107" y="327"/>
                  </a:lnTo>
                  <a:lnTo>
                    <a:pt x="107" y="315"/>
                  </a:lnTo>
                  <a:lnTo>
                    <a:pt x="112" y="235"/>
                  </a:lnTo>
                  <a:lnTo>
                    <a:pt x="118" y="164"/>
                  </a:lnTo>
                  <a:lnTo>
                    <a:pt x="124" y="106"/>
                  </a:lnTo>
                  <a:lnTo>
                    <a:pt x="128" y="72"/>
                  </a:lnTo>
                  <a:lnTo>
                    <a:pt x="134" y="68"/>
                  </a:lnTo>
                  <a:lnTo>
                    <a:pt x="143" y="64"/>
                  </a:lnTo>
                  <a:lnTo>
                    <a:pt x="154" y="58"/>
                  </a:lnTo>
                  <a:lnTo>
                    <a:pt x="167" y="52"/>
                  </a:lnTo>
                  <a:lnTo>
                    <a:pt x="181" y="46"/>
                  </a:lnTo>
                  <a:lnTo>
                    <a:pt x="197" y="39"/>
                  </a:lnTo>
                  <a:lnTo>
                    <a:pt x="215" y="32"/>
                  </a:lnTo>
                  <a:lnTo>
                    <a:pt x="234" y="25"/>
                  </a:lnTo>
                  <a:lnTo>
                    <a:pt x="253" y="19"/>
                  </a:lnTo>
                  <a:lnTo>
                    <a:pt x="272" y="13"/>
                  </a:lnTo>
                  <a:lnTo>
                    <a:pt x="292" y="8"/>
                  </a:lnTo>
                  <a:lnTo>
                    <a:pt x="314" y="3"/>
                  </a:lnTo>
                  <a:lnTo>
                    <a:pt x="334" y="1"/>
                  </a:lnTo>
                  <a:lnTo>
                    <a:pt x="354" y="0"/>
                  </a:lnTo>
                  <a:lnTo>
                    <a:pt x="374" y="0"/>
                  </a:lnTo>
                  <a:lnTo>
                    <a:pt x="393" y="1"/>
                  </a:lnTo>
                  <a:lnTo>
                    <a:pt x="402" y="2"/>
                  </a:lnTo>
                  <a:lnTo>
                    <a:pt x="411" y="3"/>
                  </a:lnTo>
                  <a:lnTo>
                    <a:pt x="417" y="6"/>
                  </a:lnTo>
                  <a:lnTo>
                    <a:pt x="423" y="7"/>
                  </a:lnTo>
                  <a:lnTo>
                    <a:pt x="427" y="8"/>
                  </a:lnTo>
                  <a:lnTo>
                    <a:pt x="431" y="9"/>
                  </a:lnTo>
                  <a:lnTo>
                    <a:pt x="433" y="11"/>
                  </a:lnTo>
                  <a:lnTo>
                    <a:pt x="434" y="12"/>
                  </a:lnTo>
                  <a:lnTo>
                    <a:pt x="428" y="17"/>
                  </a:lnTo>
                  <a:lnTo>
                    <a:pt x="420" y="21"/>
                  </a:lnTo>
                  <a:lnTo>
                    <a:pt x="412" y="26"/>
                  </a:lnTo>
                  <a:lnTo>
                    <a:pt x="403" y="31"/>
                  </a:lnTo>
                  <a:lnTo>
                    <a:pt x="394" y="36"/>
                  </a:lnTo>
                  <a:lnTo>
                    <a:pt x="385" y="42"/>
                  </a:lnTo>
                  <a:lnTo>
                    <a:pt x="377" y="46"/>
                  </a:lnTo>
                  <a:lnTo>
                    <a:pt x="370" y="51"/>
                  </a:lnTo>
                  <a:lnTo>
                    <a:pt x="360" y="60"/>
                  </a:lnTo>
                  <a:lnTo>
                    <a:pt x="354" y="67"/>
                  </a:lnTo>
                  <a:lnTo>
                    <a:pt x="351" y="74"/>
                  </a:lnTo>
                  <a:lnTo>
                    <a:pt x="350" y="81"/>
                  </a:lnTo>
                  <a:lnTo>
                    <a:pt x="352" y="87"/>
                  </a:lnTo>
                  <a:lnTo>
                    <a:pt x="356" y="92"/>
                  </a:lnTo>
                  <a:lnTo>
                    <a:pt x="362" y="95"/>
                  </a:lnTo>
                  <a:lnTo>
                    <a:pt x="368" y="98"/>
                  </a:lnTo>
                  <a:lnTo>
                    <a:pt x="372" y="100"/>
                  </a:lnTo>
                  <a:lnTo>
                    <a:pt x="378" y="104"/>
                  </a:lnTo>
                  <a:lnTo>
                    <a:pt x="384" y="107"/>
                  </a:lnTo>
                  <a:lnTo>
                    <a:pt x="390" y="111"/>
                  </a:lnTo>
                  <a:lnTo>
                    <a:pt x="393" y="112"/>
                  </a:lnTo>
                  <a:lnTo>
                    <a:pt x="394" y="115"/>
                  </a:lnTo>
                  <a:lnTo>
                    <a:pt x="395" y="116"/>
                  </a:lnTo>
                  <a:lnTo>
                    <a:pt x="396" y="117"/>
                  </a:lnTo>
                  <a:lnTo>
                    <a:pt x="395" y="118"/>
                  </a:lnTo>
                  <a:lnTo>
                    <a:pt x="394" y="118"/>
                  </a:lnTo>
                  <a:lnTo>
                    <a:pt x="393" y="119"/>
                  </a:lnTo>
                  <a:lnTo>
                    <a:pt x="391" y="121"/>
                  </a:lnTo>
                  <a:lnTo>
                    <a:pt x="385" y="123"/>
                  </a:lnTo>
                  <a:lnTo>
                    <a:pt x="381" y="127"/>
                  </a:lnTo>
                  <a:lnTo>
                    <a:pt x="375" y="131"/>
                  </a:lnTo>
                  <a:lnTo>
                    <a:pt x="369" y="136"/>
                  </a:lnTo>
                  <a:lnTo>
                    <a:pt x="360" y="147"/>
                  </a:lnTo>
                  <a:lnTo>
                    <a:pt x="357" y="155"/>
                  </a:lnTo>
                  <a:lnTo>
                    <a:pt x="357" y="164"/>
                  </a:lnTo>
                  <a:lnTo>
                    <a:pt x="362" y="173"/>
                  </a:lnTo>
                  <a:lnTo>
                    <a:pt x="364" y="177"/>
                  </a:lnTo>
                  <a:lnTo>
                    <a:pt x="365" y="179"/>
                  </a:lnTo>
                  <a:lnTo>
                    <a:pt x="368" y="184"/>
                  </a:lnTo>
                  <a:lnTo>
                    <a:pt x="369" y="190"/>
                  </a:lnTo>
                  <a:lnTo>
                    <a:pt x="369" y="191"/>
                  </a:lnTo>
                  <a:lnTo>
                    <a:pt x="369" y="192"/>
                  </a:lnTo>
                  <a:lnTo>
                    <a:pt x="369" y="194"/>
                  </a:lnTo>
                  <a:lnTo>
                    <a:pt x="369" y="194"/>
                  </a:lnTo>
                  <a:lnTo>
                    <a:pt x="365" y="195"/>
                  </a:lnTo>
                  <a:lnTo>
                    <a:pt x="360" y="195"/>
                  </a:lnTo>
                  <a:lnTo>
                    <a:pt x="354" y="194"/>
                  </a:lnTo>
                  <a:lnTo>
                    <a:pt x="348" y="192"/>
                  </a:lnTo>
                  <a:lnTo>
                    <a:pt x="333" y="189"/>
                  </a:lnTo>
                  <a:lnTo>
                    <a:pt x="333" y="191"/>
                  </a:lnTo>
                  <a:lnTo>
                    <a:pt x="333" y="196"/>
                  </a:lnTo>
                  <a:lnTo>
                    <a:pt x="333" y="202"/>
                  </a:lnTo>
                  <a:lnTo>
                    <a:pt x="333" y="204"/>
                  </a:lnTo>
                  <a:lnTo>
                    <a:pt x="333" y="205"/>
                  </a:lnTo>
                  <a:lnTo>
                    <a:pt x="333" y="209"/>
                  </a:lnTo>
                  <a:lnTo>
                    <a:pt x="333" y="216"/>
                  </a:lnTo>
                  <a:lnTo>
                    <a:pt x="332" y="228"/>
                  </a:lnTo>
                  <a:lnTo>
                    <a:pt x="294" y="231"/>
                  </a:lnTo>
                  <a:lnTo>
                    <a:pt x="295" y="247"/>
                  </a:lnTo>
                  <a:lnTo>
                    <a:pt x="331" y="245"/>
                  </a:lnTo>
                  <a:lnTo>
                    <a:pt x="331" y="246"/>
                  </a:lnTo>
                  <a:lnTo>
                    <a:pt x="331" y="247"/>
                  </a:lnTo>
                  <a:lnTo>
                    <a:pt x="331" y="248"/>
                  </a:lnTo>
                  <a:lnTo>
                    <a:pt x="331" y="250"/>
                  </a:lnTo>
                  <a:lnTo>
                    <a:pt x="303" y="251"/>
                  </a:lnTo>
                  <a:lnTo>
                    <a:pt x="304" y="269"/>
                  </a:lnTo>
                  <a:lnTo>
                    <a:pt x="329" y="266"/>
                  </a:lnTo>
                  <a:lnTo>
                    <a:pt x="329" y="268"/>
                  </a:lnTo>
                  <a:lnTo>
                    <a:pt x="329" y="269"/>
                  </a:lnTo>
                  <a:lnTo>
                    <a:pt x="329" y="271"/>
                  </a:lnTo>
                  <a:lnTo>
                    <a:pt x="329" y="272"/>
                  </a:lnTo>
                  <a:lnTo>
                    <a:pt x="295" y="275"/>
                  </a:lnTo>
                  <a:lnTo>
                    <a:pt x="296" y="292"/>
                  </a:lnTo>
                  <a:lnTo>
                    <a:pt x="328" y="289"/>
                  </a:lnTo>
                  <a:lnTo>
                    <a:pt x="326" y="330"/>
                  </a:lnTo>
                  <a:lnTo>
                    <a:pt x="328" y="330"/>
                  </a:lnTo>
                  <a:lnTo>
                    <a:pt x="333" y="329"/>
                  </a:lnTo>
                  <a:lnTo>
                    <a:pt x="338" y="329"/>
                  </a:lnTo>
                  <a:lnTo>
                    <a:pt x="340" y="329"/>
                  </a:lnTo>
                  <a:lnTo>
                    <a:pt x="351" y="327"/>
                  </a:lnTo>
                  <a:lnTo>
                    <a:pt x="360" y="326"/>
                  </a:lnTo>
                  <a:lnTo>
                    <a:pt x="366" y="326"/>
                  </a:lnTo>
                  <a:lnTo>
                    <a:pt x="371" y="327"/>
                  </a:lnTo>
                  <a:lnTo>
                    <a:pt x="369" y="330"/>
                  </a:lnTo>
                  <a:lnTo>
                    <a:pt x="365" y="331"/>
                  </a:lnTo>
                  <a:lnTo>
                    <a:pt x="362" y="333"/>
                  </a:lnTo>
                  <a:lnTo>
                    <a:pt x="357" y="337"/>
                  </a:lnTo>
                  <a:lnTo>
                    <a:pt x="352" y="339"/>
                  </a:lnTo>
                  <a:lnTo>
                    <a:pt x="345" y="343"/>
                  </a:lnTo>
                  <a:lnTo>
                    <a:pt x="338" y="346"/>
                  </a:lnTo>
                  <a:lnTo>
                    <a:pt x="329" y="350"/>
                  </a:lnTo>
                  <a:lnTo>
                    <a:pt x="323" y="354"/>
                  </a:lnTo>
                  <a:lnTo>
                    <a:pt x="322" y="361"/>
                  </a:lnTo>
                  <a:lnTo>
                    <a:pt x="314" y="455"/>
                  </a:lnTo>
                  <a:lnTo>
                    <a:pt x="304" y="552"/>
                  </a:lnTo>
                  <a:lnTo>
                    <a:pt x="297" y="627"/>
                  </a:lnTo>
                  <a:lnTo>
                    <a:pt x="294" y="660"/>
                  </a:lnTo>
                  <a:lnTo>
                    <a:pt x="295" y="660"/>
                  </a:lnTo>
                  <a:lnTo>
                    <a:pt x="286" y="661"/>
                  </a:lnTo>
                  <a:lnTo>
                    <a:pt x="279" y="662"/>
                  </a:lnTo>
                  <a:lnTo>
                    <a:pt x="271" y="664"/>
                  </a:lnTo>
                  <a:lnTo>
                    <a:pt x="264" y="666"/>
                  </a:lnTo>
                  <a:lnTo>
                    <a:pt x="264" y="560"/>
                  </a:lnTo>
                  <a:lnTo>
                    <a:pt x="251" y="562"/>
                  </a:lnTo>
                  <a:close/>
                </a:path>
              </a:pathLst>
            </a:custGeom>
            <a:solidFill>
              <a:srgbClr val="ad96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50880" y="4579920"/>
              <a:ext cx="234720" cy="95400"/>
            </a:xfrm>
            <a:custGeom>
              <a:avLst/>
              <a:gdLst/>
              <a:ahLst/>
              <a:rect l="l" t="t" r="r" b="b"/>
              <a:pathLst>
                <a:path w="148" h="60">
                  <a:moveTo>
                    <a:pt x="2" y="29"/>
                  </a:moveTo>
                  <a:lnTo>
                    <a:pt x="12" y="24"/>
                  </a:lnTo>
                  <a:lnTo>
                    <a:pt x="27" y="18"/>
                  </a:lnTo>
                  <a:lnTo>
                    <a:pt x="49" y="13"/>
                  </a:lnTo>
                  <a:lnTo>
                    <a:pt x="71" y="9"/>
                  </a:lnTo>
                  <a:lnTo>
                    <a:pt x="95" y="5"/>
                  </a:lnTo>
                  <a:lnTo>
                    <a:pt x="117" y="2"/>
                  </a:lnTo>
                  <a:lnTo>
                    <a:pt x="135" y="0"/>
                  </a:lnTo>
                  <a:lnTo>
                    <a:pt x="147" y="2"/>
                  </a:lnTo>
                  <a:lnTo>
                    <a:pt x="148" y="8"/>
                  </a:lnTo>
                  <a:lnTo>
                    <a:pt x="148" y="17"/>
                  </a:lnTo>
                  <a:lnTo>
                    <a:pt x="145" y="30"/>
                  </a:lnTo>
                  <a:lnTo>
                    <a:pt x="143" y="45"/>
                  </a:lnTo>
                  <a:lnTo>
                    <a:pt x="1" y="60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98400" y="4692600"/>
              <a:ext cx="152280" cy="100080"/>
            </a:xfrm>
            <a:custGeom>
              <a:avLst/>
              <a:gdLst/>
              <a:ahLst/>
              <a:rect l="l" t="t" r="r" b="b"/>
              <a:pathLst>
                <a:path w="96" h="63">
                  <a:moveTo>
                    <a:pt x="96" y="0"/>
                  </a:moveTo>
                  <a:lnTo>
                    <a:pt x="29" y="63"/>
                  </a:lnTo>
                  <a:lnTo>
                    <a:pt x="0" y="1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ff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77800" y="4694400"/>
              <a:ext cx="138240" cy="806400"/>
            </a:xfrm>
            <a:custGeom>
              <a:avLst/>
              <a:gdLst/>
              <a:ahLst/>
              <a:rect l="l" t="t" r="r" b="b"/>
              <a:pathLst>
                <a:path w="87" h="508">
                  <a:moveTo>
                    <a:pt x="28" y="14"/>
                  </a:moveTo>
                  <a:lnTo>
                    <a:pt x="49" y="12"/>
                  </a:lnTo>
                  <a:lnTo>
                    <a:pt x="87" y="78"/>
                  </a:lnTo>
                  <a:lnTo>
                    <a:pt x="79" y="84"/>
                  </a:lnTo>
                  <a:lnTo>
                    <a:pt x="71" y="92"/>
                  </a:lnTo>
                  <a:lnTo>
                    <a:pt x="64" y="102"/>
                  </a:lnTo>
                  <a:lnTo>
                    <a:pt x="60" y="112"/>
                  </a:lnTo>
                  <a:lnTo>
                    <a:pt x="61" y="118"/>
                  </a:lnTo>
                  <a:lnTo>
                    <a:pt x="62" y="124"/>
                  </a:lnTo>
                  <a:lnTo>
                    <a:pt x="66" y="129"/>
                  </a:lnTo>
                  <a:lnTo>
                    <a:pt x="71" y="134"/>
                  </a:lnTo>
                  <a:lnTo>
                    <a:pt x="72" y="135"/>
                  </a:lnTo>
                  <a:lnTo>
                    <a:pt x="73" y="135"/>
                  </a:lnTo>
                  <a:lnTo>
                    <a:pt x="73" y="136"/>
                  </a:lnTo>
                  <a:lnTo>
                    <a:pt x="74" y="137"/>
                  </a:lnTo>
                  <a:lnTo>
                    <a:pt x="34" y="508"/>
                  </a:lnTo>
                  <a:lnTo>
                    <a:pt x="0" y="5"/>
                  </a:lnTo>
                  <a:lnTo>
                    <a:pt x="6" y="4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25" y="4"/>
                  </a:lnTo>
                  <a:lnTo>
                    <a:pt x="27" y="8"/>
                  </a:lnTo>
                  <a:lnTo>
                    <a:pt x="28" y="13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ffff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63560" y="4729320"/>
              <a:ext cx="106200" cy="796680"/>
            </a:xfrm>
            <a:custGeom>
              <a:avLst/>
              <a:gdLst/>
              <a:ahLst/>
              <a:rect l="l" t="t" r="r" b="b"/>
              <a:pathLst>
                <a:path w="67" h="502">
                  <a:moveTo>
                    <a:pt x="12" y="502"/>
                  </a:moveTo>
                  <a:lnTo>
                    <a:pt x="4" y="114"/>
                  </a:lnTo>
                  <a:lnTo>
                    <a:pt x="5" y="112"/>
                  </a:lnTo>
                  <a:lnTo>
                    <a:pt x="6" y="111"/>
                  </a:lnTo>
                  <a:lnTo>
                    <a:pt x="8" y="108"/>
                  </a:lnTo>
                  <a:lnTo>
                    <a:pt x="8" y="107"/>
                  </a:lnTo>
                  <a:lnTo>
                    <a:pt x="10" y="95"/>
                  </a:lnTo>
                  <a:lnTo>
                    <a:pt x="9" y="82"/>
                  </a:lnTo>
                  <a:lnTo>
                    <a:pt x="5" y="71"/>
                  </a:lnTo>
                  <a:lnTo>
                    <a:pt x="0" y="62"/>
                  </a:lnTo>
                  <a:lnTo>
                    <a:pt x="67" y="0"/>
                  </a:lnTo>
                  <a:lnTo>
                    <a:pt x="24" y="499"/>
                  </a:lnTo>
                  <a:lnTo>
                    <a:pt x="22" y="500"/>
                  </a:lnTo>
                  <a:lnTo>
                    <a:pt x="18" y="500"/>
                  </a:lnTo>
                  <a:lnTo>
                    <a:pt x="16" y="500"/>
                  </a:lnTo>
                  <a:lnTo>
                    <a:pt x="12" y="502"/>
                  </a:lnTo>
                  <a:close/>
                </a:path>
              </a:pathLst>
            </a:custGeom>
            <a:solidFill>
              <a:srgbClr val="ffff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85840" y="382104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24" y="0"/>
                  </a:moveTo>
                  <a:lnTo>
                    <a:pt x="23" y="3"/>
                  </a:lnTo>
                  <a:lnTo>
                    <a:pt x="18" y="9"/>
                  </a:lnTo>
                  <a:lnTo>
                    <a:pt x="12" y="18"/>
                  </a:lnTo>
                  <a:lnTo>
                    <a:pt x="6" y="29"/>
                  </a:lnTo>
                  <a:lnTo>
                    <a:pt x="2" y="40"/>
                  </a:lnTo>
                  <a:lnTo>
                    <a:pt x="0" y="52"/>
                  </a:lnTo>
                  <a:lnTo>
                    <a:pt x="2" y="61"/>
                  </a:lnTo>
                  <a:lnTo>
                    <a:pt x="9" y="70"/>
                  </a:lnTo>
                  <a:lnTo>
                    <a:pt x="19" y="74"/>
                  </a:lnTo>
                  <a:lnTo>
                    <a:pt x="31" y="76"/>
                  </a:lnTo>
                  <a:lnTo>
                    <a:pt x="43" y="76"/>
                  </a:lnTo>
                  <a:lnTo>
                    <a:pt x="55" y="72"/>
                  </a:lnTo>
                  <a:lnTo>
                    <a:pt x="65" y="68"/>
                  </a:lnTo>
                  <a:lnTo>
                    <a:pt x="72" y="62"/>
                  </a:lnTo>
                  <a:lnTo>
                    <a:pt x="76" y="55"/>
                  </a:lnTo>
                  <a:lnTo>
                    <a:pt x="76" y="47"/>
                  </a:lnTo>
                  <a:lnTo>
                    <a:pt x="73" y="40"/>
                  </a:lnTo>
                  <a:lnTo>
                    <a:pt x="68" y="33"/>
                  </a:lnTo>
                  <a:lnTo>
                    <a:pt x="64" y="28"/>
                  </a:lnTo>
                  <a:lnTo>
                    <a:pt x="59" y="24"/>
                  </a:lnTo>
                  <a:lnTo>
                    <a:pt x="53" y="21"/>
                  </a:lnTo>
                  <a:lnTo>
                    <a:pt x="47" y="19"/>
                  </a:lnTo>
                  <a:lnTo>
                    <a:pt x="42" y="18"/>
                  </a:lnTo>
                  <a:lnTo>
                    <a:pt x="37" y="19"/>
                  </a:lnTo>
                  <a:lnTo>
                    <a:pt x="33" y="25"/>
                  </a:lnTo>
                  <a:lnTo>
                    <a:pt x="30" y="35"/>
                  </a:lnTo>
                  <a:lnTo>
                    <a:pt x="29" y="45"/>
                  </a:lnTo>
                  <a:lnTo>
                    <a:pt x="29" y="48"/>
                  </a:lnTo>
                  <a:lnTo>
                    <a:pt x="31" y="46"/>
                  </a:lnTo>
                  <a:lnTo>
                    <a:pt x="36" y="40"/>
                  </a:lnTo>
                  <a:lnTo>
                    <a:pt x="43" y="34"/>
                  </a:lnTo>
                  <a:lnTo>
                    <a:pt x="49" y="33"/>
                  </a:lnTo>
                  <a:lnTo>
                    <a:pt x="55" y="35"/>
                  </a:lnTo>
                  <a:lnTo>
                    <a:pt x="59" y="40"/>
                  </a:lnTo>
                  <a:lnTo>
                    <a:pt x="60" y="46"/>
                  </a:lnTo>
                  <a:lnTo>
                    <a:pt x="58" y="53"/>
                  </a:lnTo>
                  <a:lnTo>
                    <a:pt x="54" y="58"/>
                  </a:lnTo>
                  <a:lnTo>
                    <a:pt x="49" y="61"/>
                  </a:lnTo>
                  <a:lnTo>
                    <a:pt x="43" y="66"/>
                  </a:lnTo>
                  <a:lnTo>
                    <a:pt x="36" y="68"/>
                  </a:lnTo>
                  <a:lnTo>
                    <a:pt x="30" y="70"/>
                  </a:lnTo>
                  <a:lnTo>
                    <a:pt x="23" y="70"/>
                  </a:lnTo>
                  <a:lnTo>
                    <a:pt x="18" y="66"/>
                  </a:lnTo>
                  <a:lnTo>
                    <a:pt x="15" y="60"/>
                  </a:lnTo>
                  <a:lnTo>
                    <a:pt x="12" y="42"/>
                  </a:lnTo>
                  <a:lnTo>
                    <a:pt x="16" y="22"/>
                  </a:lnTo>
                  <a:lnTo>
                    <a:pt x="22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47560" y="3941640"/>
              <a:ext cx="138240" cy="162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9" y="35"/>
                  </a:moveTo>
                  <a:lnTo>
                    <a:pt x="9" y="33"/>
                  </a:lnTo>
                  <a:lnTo>
                    <a:pt x="10" y="28"/>
                  </a:lnTo>
                  <a:lnTo>
                    <a:pt x="12" y="21"/>
                  </a:lnTo>
                  <a:lnTo>
                    <a:pt x="16" y="14"/>
                  </a:lnTo>
                  <a:lnTo>
                    <a:pt x="22" y="7"/>
                  </a:lnTo>
                  <a:lnTo>
                    <a:pt x="29" y="2"/>
                  </a:lnTo>
                  <a:lnTo>
                    <a:pt x="38" y="0"/>
                  </a:lnTo>
                  <a:lnTo>
                    <a:pt x="52" y="3"/>
                  </a:lnTo>
                  <a:lnTo>
                    <a:pt x="65" y="12"/>
                  </a:lnTo>
                  <a:lnTo>
                    <a:pt x="75" y="25"/>
                  </a:lnTo>
                  <a:lnTo>
                    <a:pt x="83" y="40"/>
                  </a:lnTo>
                  <a:lnTo>
                    <a:pt x="86" y="56"/>
                  </a:lnTo>
                  <a:lnTo>
                    <a:pt x="87" y="72"/>
                  </a:lnTo>
                  <a:lnTo>
                    <a:pt x="84" y="87"/>
                  </a:lnTo>
                  <a:lnTo>
                    <a:pt x="75" y="98"/>
                  </a:lnTo>
                  <a:lnTo>
                    <a:pt x="63" y="102"/>
                  </a:lnTo>
                  <a:lnTo>
                    <a:pt x="49" y="102"/>
                  </a:lnTo>
                  <a:lnTo>
                    <a:pt x="35" y="101"/>
                  </a:lnTo>
                  <a:lnTo>
                    <a:pt x="22" y="96"/>
                  </a:lnTo>
                  <a:lnTo>
                    <a:pt x="12" y="90"/>
                  </a:lnTo>
                  <a:lnTo>
                    <a:pt x="4" y="84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6" y="61"/>
                  </a:lnTo>
                  <a:lnTo>
                    <a:pt x="15" y="53"/>
                  </a:lnTo>
                  <a:lnTo>
                    <a:pt x="22" y="47"/>
                  </a:lnTo>
                  <a:lnTo>
                    <a:pt x="29" y="43"/>
                  </a:lnTo>
                  <a:lnTo>
                    <a:pt x="35" y="39"/>
                  </a:lnTo>
                  <a:lnTo>
                    <a:pt x="41" y="37"/>
                  </a:lnTo>
                  <a:lnTo>
                    <a:pt x="46" y="37"/>
                  </a:lnTo>
                  <a:lnTo>
                    <a:pt x="50" y="39"/>
                  </a:lnTo>
                  <a:lnTo>
                    <a:pt x="55" y="44"/>
                  </a:lnTo>
                  <a:lnTo>
                    <a:pt x="61" y="56"/>
                  </a:lnTo>
                  <a:lnTo>
                    <a:pt x="62" y="68"/>
                  </a:lnTo>
                  <a:lnTo>
                    <a:pt x="62" y="77"/>
                  </a:lnTo>
                  <a:lnTo>
                    <a:pt x="61" y="81"/>
                  </a:lnTo>
                  <a:lnTo>
                    <a:pt x="60" y="76"/>
                  </a:lnTo>
                  <a:lnTo>
                    <a:pt x="56" y="64"/>
                  </a:lnTo>
                  <a:lnTo>
                    <a:pt x="50" y="55"/>
                  </a:lnTo>
                  <a:lnTo>
                    <a:pt x="41" y="52"/>
                  </a:lnTo>
                  <a:lnTo>
                    <a:pt x="30" y="59"/>
                  </a:lnTo>
                  <a:lnTo>
                    <a:pt x="22" y="71"/>
                  </a:lnTo>
                  <a:lnTo>
                    <a:pt x="19" y="83"/>
                  </a:lnTo>
                  <a:lnTo>
                    <a:pt x="26" y="90"/>
                  </a:lnTo>
                  <a:lnTo>
                    <a:pt x="34" y="92"/>
                  </a:lnTo>
                  <a:lnTo>
                    <a:pt x="42" y="92"/>
                  </a:lnTo>
                  <a:lnTo>
                    <a:pt x="49" y="92"/>
                  </a:lnTo>
                  <a:lnTo>
                    <a:pt x="56" y="90"/>
                  </a:lnTo>
                  <a:lnTo>
                    <a:pt x="62" y="87"/>
                  </a:lnTo>
                  <a:lnTo>
                    <a:pt x="67" y="81"/>
                  </a:lnTo>
                  <a:lnTo>
                    <a:pt x="71" y="74"/>
                  </a:lnTo>
                  <a:lnTo>
                    <a:pt x="72" y="63"/>
                  </a:lnTo>
                  <a:lnTo>
                    <a:pt x="71" y="43"/>
                  </a:lnTo>
                  <a:lnTo>
                    <a:pt x="65" y="27"/>
                  </a:lnTo>
                  <a:lnTo>
                    <a:pt x="56" y="19"/>
                  </a:lnTo>
                  <a:lnTo>
                    <a:pt x="43" y="16"/>
                  </a:lnTo>
                  <a:lnTo>
                    <a:pt x="29" y="19"/>
                  </a:lnTo>
                  <a:lnTo>
                    <a:pt x="18" y="26"/>
                  </a:lnTo>
                  <a:lnTo>
                    <a:pt x="11" y="32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63520" y="3568680"/>
              <a:ext cx="336240" cy="509760"/>
            </a:xfrm>
            <a:custGeom>
              <a:avLst/>
              <a:gdLst/>
              <a:ahLst/>
              <a:rect l="l" t="t" r="r" b="b"/>
              <a:pathLst>
                <a:path w="212" h="321">
                  <a:moveTo>
                    <a:pt x="65" y="321"/>
                  </a:moveTo>
                  <a:lnTo>
                    <a:pt x="63" y="310"/>
                  </a:lnTo>
                  <a:lnTo>
                    <a:pt x="70" y="309"/>
                  </a:lnTo>
                  <a:lnTo>
                    <a:pt x="76" y="306"/>
                  </a:lnTo>
                  <a:lnTo>
                    <a:pt x="81" y="305"/>
                  </a:lnTo>
                  <a:lnTo>
                    <a:pt x="87" y="303"/>
                  </a:lnTo>
                  <a:lnTo>
                    <a:pt x="91" y="300"/>
                  </a:lnTo>
                  <a:lnTo>
                    <a:pt x="94" y="298"/>
                  </a:lnTo>
                  <a:lnTo>
                    <a:pt x="97" y="296"/>
                  </a:lnTo>
                  <a:lnTo>
                    <a:pt x="99" y="293"/>
                  </a:lnTo>
                  <a:lnTo>
                    <a:pt x="101" y="287"/>
                  </a:lnTo>
                  <a:lnTo>
                    <a:pt x="101" y="279"/>
                  </a:lnTo>
                  <a:lnTo>
                    <a:pt x="100" y="269"/>
                  </a:lnTo>
                  <a:lnTo>
                    <a:pt x="98" y="257"/>
                  </a:lnTo>
                  <a:lnTo>
                    <a:pt x="56" y="90"/>
                  </a:lnTo>
                  <a:lnTo>
                    <a:pt x="54" y="83"/>
                  </a:lnTo>
                  <a:lnTo>
                    <a:pt x="51" y="77"/>
                  </a:lnTo>
                  <a:lnTo>
                    <a:pt x="49" y="72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4"/>
                  </a:lnTo>
                  <a:lnTo>
                    <a:pt x="37" y="64"/>
                  </a:lnTo>
                  <a:lnTo>
                    <a:pt x="32" y="64"/>
                  </a:lnTo>
                  <a:lnTo>
                    <a:pt x="30" y="64"/>
                  </a:lnTo>
                  <a:lnTo>
                    <a:pt x="26" y="65"/>
                  </a:lnTo>
                  <a:lnTo>
                    <a:pt x="22" y="67"/>
                  </a:lnTo>
                  <a:lnTo>
                    <a:pt x="18" y="70"/>
                  </a:lnTo>
                  <a:lnTo>
                    <a:pt x="15" y="72"/>
                  </a:lnTo>
                  <a:lnTo>
                    <a:pt x="12" y="74"/>
                  </a:lnTo>
                  <a:lnTo>
                    <a:pt x="7" y="77"/>
                  </a:lnTo>
                  <a:lnTo>
                    <a:pt x="2" y="80"/>
                  </a:lnTo>
                  <a:lnTo>
                    <a:pt x="0" y="70"/>
                  </a:lnTo>
                  <a:lnTo>
                    <a:pt x="87" y="2"/>
                  </a:lnTo>
                  <a:lnTo>
                    <a:pt x="94" y="0"/>
                  </a:lnTo>
                  <a:lnTo>
                    <a:pt x="157" y="249"/>
                  </a:lnTo>
                  <a:lnTo>
                    <a:pt x="160" y="260"/>
                  </a:lnTo>
                  <a:lnTo>
                    <a:pt x="163" y="268"/>
                  </a:lnTo>
                  <a:lnTo>
                    <a:pt x="168" y="275"/>
                  </a:lnTo>
                  <a:lnTo>
                    <a:pt x="173" y="280"/>
                  </a:lnTo>
                  <a:lnTo>
                    <a:pt x="175" y="281"/>
                  </a:lnTo>
                  <a:lnTo>
                    <a:pt x="179" y="282"/>
                  </a:lnTo>
                  <a:lnTo>
                    <a:pt x="183" y="284"/>
                  </a:lnTo>
                  <a:lnTo>
                    <a:pt x="186" y="284"/>
                  </a:lnTo>
                  <a:lnTo>
                    <a:pt x="191" y="284"/>
                  </a:lnTo>
                  <a:lnTo>
                    <a:pt x="197" y="284"/>
                  </a:lnTo>
                  <a:lnTo>
                    <a:pt x="203" y="282"/>
                  </a:lnTo>
                  <a:lnTo>
                    <a:pt x="210" y="281"/>
                  </a:lnTo>
                  <a:lnTo>
                    <a:pt x="212" y="292"/>
                  </a:lnTo>
                  <a:lnTo>
                    <a:pt x="65" y="32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19320" y="3963960"/>
              <a:ext cx="269640" cy="600120"/>
            </a:xfrm>
            <a:custGeom>
              <a:avLst/>
              <a:gdLst/>
              <a:ahLst/>
              <a:rect l="l" t="t" r="r" b="b"/>
              <a:pathLst>
                <a:path w="170" h="378">
                  <a:moveTo>
                    <a:pt x="133" y="0"/>
                  </a:moveTo>
                  <a:lnTo>
                    <a:pt x="0" y="374"/>
                  </a:lnTo>
                  <a:lnTo>
                    <a:pt x="38" y="378"/>
                  </a:lnTo>
                  <a:lnTo>
                    <a:pt x="170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17480" y="5219640"/>
              <a:ext cx="344520" cy="13500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41"/>
                  </a:moveTo>
                  <a:lnTo>
                    <a:pt x="205" y="0"/>
                  </a:lnTo>
                  <a:lnTo>
                    <a:pt x="217" y="46"/>
                  </a:lnTo>
                  <a:lnTo>
                    <a:pt x="12" y="85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80760" y="5072040"/>
              <a:ext cx="343080" cy="135000"/>
            </a:xfrm>
            <a:custGeom>
              <a:avLst/>
              <a:gdLst/>
              <a:ahLst/>
              <a:rect l="l" t="t" r="r" b="b"/>
              <a:pathLst>
                <a:path w="216" h="85">
                  <a:moveTo>
                    <a:pt x="0" y="41"/>
                  </a:moveTo>
                  <a:lnTo>
                    <a:pt x="204" y="0"/>
                  </a:lnTo>
                  <a:lnTo>
                    <a:pt x="216" y="45"/>
                  </a:lnTo>
                  <a:lnTo>
                    <a:pt x="11" y="85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52440" y="3008160"/>
              <a:ext cx="282240" cy="69840"/>
            </a:xfrm>
            <a:custGeom>
              <a:avLst/>
              <a:gdLst/>
              <a:ahLst/>
              <a:rect l="l" t="t" r="r" b="b"/>
              <a:pathLst>
                <a:path w="178" h="44">
                  <a:moveTo>
                    <a:pt x="178" y="17"/>
                  </a:moveTo>
                  <a:lnTo>
                    <a:pt x="175" y="44"/>
                  </a:lnTo>
                  <a:lnTo>
                    <a:pt x="0" y="25"/>
                  </a:lnTo>
                  <a:lnTo>
                    <a:pt x="2" y="0"/>
                  </a:lnTo>
                  <a:lnTo>
                    <a:pt x="178" y="1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66480" y="2811600"/>
              <a:ext cx="292320" cy="215640"/>
            </a:xfrm>
            <a:custGeom>
              <a:avLst/>
              <a:gdLst/>
              <a:ahLst/>
              <a:rect l="l" t="t" r="r" b="b"/>
              <a:pathLst>
                <a:path w="184" h="136">
                  <a:moveTo>
                    <a:pt x="181" y="27"/>
                  </a:moveTo>
                  <a:lnTo>
                    <a:pt x="47" y="54"/>
                  </a:lnTo>
                  <a:lnTo>
                    <a:pt x="172" y="109"/>
                  </a:lnTo>
                  <a:lnTo>
                    <a:pt x="170" y="136"/>
                  </a:lnTo>
                  <a:lnTo>
                    <a:pt x="0" y="61"/>
                  </a:lnTo>
                  <a:lnTo>
                    <a:pt x="3" y="38"/>
                  </a:lnTo>
                  <a:lnTo>
                    <a:pt x="184" y="0"/>
                  </a:lnTo>
                  <a:lnTo>
                    <a:pt x="181" y="2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03360" y="2622600"/>
              <a:ext cx="95040" cy="9360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0" y="29"/>
                  </a:moveTo>
                  <a:lnTo>
                    <a:pt x="1" y="23"/>
                  </a:lnTo>
                  <a:lnTo>
                    <a:pt x="2" y="18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4" y="5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48" y="5"/>
                  </a:lnTo>
                  <a:lnTo>
                    <a:pt x="51" y="8"/>
                  </a:lnTo>
                  <a:lnTo>
                    <a:pt x="55" y="13"/>
                  </a:lnTo>
                  <a:lnTo>
                    <a:pt x="57" y="18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8" y="36"/>
                  </a:lnTo>
                  <a:lnTo>
                    <a:pt x="57" y="42"/>
                  </a:lnTo>
                  <a:lnTo>
                    <a:pt x="54" y="47"/>
                  </a:lnTo>
                  <a:lnTo>
                    <a:pt x="50" y="51"/>
                  </a:lnTo>
                  <a:lnTo>
                    <a:pt x="45" y="55"/>
                  </a:lnTo>
                  <a:lnTo>
                    <a:pt x="40" y="56"/>
                  </a:lnTo>
                  <a:lnTo>
                    <a:pt x="34" y="59"/>
                  </a:lnTo>
                  <a:lnTo>
                    <a:pt x="27" y="59"/>
                  </a:lnTo>
                  <a:lnTo>
                    <a:pt x="21" y="57"/>
                  </a:lnTo>
                  <a:lnTo>
                    <a:pt x="17" y="56"/>
                  </a:lnTo>
                  <a:lnTo>
                    <a:pt x="12" y="53"/>
                  </a:lnTo>
                  <a:lnTo>
                    <a:pt x="7" y="49"/>
                  </a:lnTo>
                  <a:lnTo>
                    <a:pt x="3" y="44"/>
                  </a:lnTo>
                  <a:lnTo>
                    <a:pt x="1" y="39"/>
                  </a:lnTo>
                  <a:lnTo>
                    <a:pt x="0" y="35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68240" y="2308320"/>
              <a:ext cx="249480" cy="425520"/>
            </a:xfrm>
            <a:custGeom>
              <a:avLst/>
              <a:gdLst/>
              <a:ahLst/>
              <a:rect l="l" t="t" r="r" b="b"/>
              <a:pathLst>
                <a:path w="157" h="268">
                  <a:moveTo>
                    <a:pt x="24" y="212"/>
                  </a:moveTo>
                  <a:lnTo>
                    <a:pt x="31" y="215"/>
                  </a:lnTo>
                  <a:lnTo>
                    <a:pt x="39" y="218"/>
                  </a:lnTo>
                  <a:lnTo>
                    <a:pt x="47" y="223"/>
                  </a:lnTo>
                  <a:lnTo>
                    <a:pt x="56" y="231"/>
                  </a:lnTo>
                  <a:lnTo>
                    <a:pt x="64" y="240"/>
                  </a:lnTo>
                  <a:lnTo>
                    <a:pt x="73" y="246"/>
                  </a:lnTo>
                  <a:lnTo>
                    <a:pt x="79" y="249"/>
                  </a:lnTo>
                  <a:lnTo>
                    <a:pt x="85" y="251"/>
                  </a:lnTo>
                  <a:lnTo>
                    <a:pt x="94" y="251"/>
                  </a:lnTo>
                  <a:lnTo>
                    <a:pt x="101" y="248"/>
                  </a:lnTo>
                  <a:lnTo>
                    <a:pt x="107" y="243"/>
                  </a:lnTo>
                  <a:lnTo>
                    <a:pt x="112" y="237"/>
                  </a:lnTo>
                  <a:lnTo>
                    <a:pt x="116" y="230"/>
                  </a:lnTo>
                  <a:lnTo>
                    <a:pt x="118" y="223"/>
                  </a:lnTo>
                  <a:lnTo>
                    <a:pt x="119" y="215"/>
                  </a:lnTo>
                  <a:lnTo>
                    <a:pt x="119" y="205"/>
                  </a:lnTo>
                  <a:lnTo>
                    <a:pt x="118" y="190"/>
                  </a:lnTo>
                  <a:lnTo>
                    <a:pt x="112" y="175"/>
                  </a:lnTo>
                  <a:lnTo>
                    <a:pt x="104" y="163"/>
                  </a:lnTo>
                  <a:lnTo>
                    <a:pt x="93" y="151"/>
                  </a:lnTo>
                  <a:lnTo>
                    <a:pt x="89" y="149"/>
                  </a:lnTo>
                  <a:lnTo>
                    <a:pt x="85" y="145"/>
                  </a:lnTo>
                  <a:lnTo>
                    <a:pt x="80" y="143"/>
                  </a:lnTo>
                  <a:lnTo>
                    <a:pt x="75" y="141"/>
                  </a:lnTo>
                  <a:lnTo>
                    <a:pt x="69" y="138"/>
                  </a:lnTo>
                  <a:lnTo>
                    <a:pt x="63" y="135"/>
                  </a:lnTo>
                  <a:lnTo>
                    <a:pt x="56" y="132"/>
                  </a:lnTo>
                  <a:lnTo>
                    <a:pt x="49" y="130"/>
                  </a:lnTo>
                  <a:lnTo>
                    <a:pt x="49" y="124"/>
                  </a:lnTo>
                  <a:lnTo>
                    <a:pt x="58" y="119"/>
                  </a:lnTo>
                  <a:lnTo>
                    <a:pt x="65" y="115"/>
                  </a:lnTo>
                  <a:lnTo>
                    <a:pt x="73" y="111"/>
                  </a:lnTo>
                  <a:lnTo>
                    <a:pt x="77" y="107"/>
                  </a:lnTo>
                  <a:lnTo>
                    <a:pt x="83" y="100"/>
                  </a:lnTo>
                  <a:lnTo>
                    <a:pt x="88" y="90"/>
                  </a:lnTo>
                  <a:lnTo>
                    <a:pt x="90" y="81"/>
                  </a:lnTo>
                  <a:lnTo>
                    <a:pt x="92" y="70"/>
                  </a:lnTo>
                  <a:lnTo>
                    <a:pt x="90" y="61"/>
                  </a:lnTo>
                  <a:lnTo>
                    <a:pt x="89" y="53"/>
                  </a:lnTo>
                  <a:lnTo>
                    <a:pt x="86" y="46"/>
                  </a:lnTo>
                  <a:lnTo>
                    <a:pt x="81" y="41"/>
                  </a:lnTo>
                  <a:lnTo>
                    <a:pt x="76" y="38"/>
                  </a:lnTo>
                  <a:lnTo>
                    <a:pt x="70" y="35"/>
                  </a:lnTo>
                  <a:lnTo>
                    <a:pt x="63" y="34"/>
                  </a:lnTo>
                  <a:lnTo>
                    <a:pt x="56" y="34"/>
                  </a:lnTo>
                  <a:lnTo>
                    <a:pt x="49" y="35"/>
                  </a:lnTo>
                  <a:lnTo>
                    <a:pt x="43" y="39"/>
                  </a:lnTo>
                  <a:lnTo>
                    <a:pt x="37" y="43"/>
                  </a:lnTo>
                  <a:lnTo>
                    <a:pt x="31" y="49"/>
                  </a:lnTo>
                  <a:lnTo>
                    <a:pt x="27" y="52"/>
                  </a:lnTo>
                  <a:lnTo>
                    <a:pt x="24" y="57"/>
                  </a:lnTo>
                  <a:lnTo>
                    <a:pt x="20" y="63"/>
                  </a:lnTo>
                  <a:lnTo>
                    <a:pt x="16" y="70"/>
                  </a:lnTo>
                  <a:lnTo>
                    <a:pt x="9" y="66"/>
                  </a:lnTo>
                  <a:lnTo>
                    <a:pt x="14" y="57"/>
                  </a:lnTo>
                  <a:lnTo>
                    <a:pt x="19" y="47"/>
                  </a:lnTo>
                  <a:lnTo>
                    <a:pt x="25" y="39"/>
                  </a:lnTo>
                  <a:lnTo>
                    <a:pt x="32" y="31"/>
                  </a:lnTo>
                  <a:lnTo>
                    <a:pt x="38" y="25"/>
                  </a:lnTo>
                  <a:lnTo>
                    <a:pt x="44" y="19"/>
                  </a:lnTo>
                  <a:lnTo>
                    <a:pt x="50" y="14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70" y="3"/>
                  </a:lnTo>
                  <a:lnTo>
                    <a:pt x="77" y="1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5" y="1"/>
                  </a:lnTo>
                  <a:lnTo>
                    <a:pt x="108" y="2"/>
                  </a:lnTo>
                  <a:lnTo>
                    <a:pt x="113" y="4"/>
                  </a:lnTo>
                  <a:lnTo>
                    <a:pt x="118" y="7"/>
                  </a:lnTo>
                  <a:lnTo>
                    <a:pt x="122" y="9"/>
                  </a:lnTo>
                  <a:lnTo>
                    <a:pt x="129" y="16"/>
                  </a:lnTo>
                  <a:lnTo>
                    <a:pt x="135" y="25"/>
                  </a:lnTo>
                  <a:lnTo>
                    <a:pt x="138" y="34"/>
                  </a:lnTo>
                  <a:lnTo>
                    <a:pt x="139" y="45"/>
                  </a:lnTo>
                  <a:lnTo>
                    <a:pt x="138" y="61"/>
                  </a:lnTo>
                  <a:lnTo>
                    <a:pt x="135" y="75"/>
                  </a:lnTo>
                  <a:lnTo>
                    <a:pt x="128" y="88"/>
                  </a:lnTo>
                  <a:lnTo>
                    <a:pt x="116" y="99"/>
                  </a:lnTo>
                  <a:lnTo>
                    <a:pt x="116" y="101"/>
                  </a:lnTo>
                  <a:lnTo>
                    <a:pt x="125" y="106"/>
                  </a:lnTo>
                  <a:lnTo>
                    <a:pt x="133" y="112"/>
                  </a:lnTo>
                  <a:lnTo>
                    <a:pt x="141" y="119"/>
                  </a:lnTo>
                  <a:lnTo>
                    <a:pt x="147" y="129"/>
                  </a:lnTo>
                  <a:lnTo>
                    <a:pt x="151" y="138"/>
                  </a:lnTo>
                  <a:lnTo>
                    <a:pt x="155" y="148"/>
                  </a:lnTo>
                  <a:lnTo>
                    <a:pt x="156" y="157"/>
                  </a:lnTo>
                  <a:lnTo>
                    <a:pt x="157" y="168"/>
                  </a:lnTo>
                  <a:lnTo>
                    <a:pt x="156" y="190"/>
                  </a:lnTo>
                  <a:lnTo>
                    <a:pt x="151" y="209"/>
                  </a:lnTo>
                  <a:lnTo>
                    <a:pt x="143" y="225"/>
                  </a:lnTo>
                  <a:lnTo>
                    <a:pt x="131" y="241"/>
                  </a:lnTo>
                  <a:lnTo>
                    <a:pt x="123" y="248"/>
                  </a:lnTo>
                  <a:lnTo>
                    <a:pt x="114" y="254"/>
                  </a:lnTo>
                  <a:lnTo>
                    <a:pt x="106" y="259"/>
                  </a:lnTo>
                  <a:lnTo>
                    <a:pt x="96" y="264"/>
                  </a:lnTo>
                  <a:lnTo>
                    <a:pt x="86" y="266"/>
                  </a:lnTo>
                  <a:lnTo>
                    <a:pt x="75" y="268"/>
                  </a:lnTo>
                  <a:lnTo>
                    <a:pt x="64" y="268"/>
                  </a:lnTo>
                  <a:lnTo>
                    <a:pt x="52" y="268"/>
                  </a:lnTo>
                  <a:lnTo>
                    <a:pt x="46" y="268"/>
                  </a:lnTo>
                  <a:lnTo>
                    <a:pt x="42" y="267"/>
                  </a:lnTo>
                  <a:lnTo>
                    <a:pt x="37" y="267"/>
                  </a:lnTo>
                  <a:lnTo>
                    <a:pt x="32" y="266"/>
                  </a:lnTo>
                  <a:lnTo>
                    <a:pt x="27" y="264"/>
                  </a:lnTo>
                  <a:lnTo>
                    <a:pt x="22" y="262"/>
                  </a:lnTo>
                  <a:lnTo>
                    <a:pt x="18" y="260"/>
                  </a:lnTo>
                  <a:lnTo>
                    <a:pt x="14" y="258"/>
                  </a:lnTo>
                  <a:lnTo>
                    <a:pt x="7" y="253"/>
                  </a:lnTo>
                  <a:lnTo>
                    <a:pt x="2" y="247"/>
                  </a:lnTo>
                  <a:lnTo>
                    <a:pt x="0" y="241"/>
                  </a:lnTo>
                  <a:lnTo>
                    <a:pt x="0" y="234"/>
                  </a:lnTo>
                  <a:lnTo>
                    <a:pt x="0" y="230"/>
                  </a:lnTo>
                  <a:lnTo>
                    <a:pt x="1" y="227"/>
                  </a:lnTo>
                  <a:lnTo>
                    <a:pt x="2" y="223"/>
                  </a:lnTo>
                  <a:lnTo>
                    <a:pt x="5" y="219"/>
                  </a:lnTo>
                  <a:lnTo>
                    <a:pt x="8" y="216"/>
                  </a:lnTo>
                  <a:lnTo>
                    <a:pt x="13" y="213"/>
                  </a:lnTo>
                  <a:lnTo>
                    <a:pt x="18" y="212"/>
                  </a:lnTo>
                  <a:lnTo>
                    <a:pt x="24" y="21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46160" y="2271600"/>
              <a:ext cx="257040" cy="474840"/>
            </a:xfrm>
            <a:custGeom>
              <a:avLst/>
              <a:gdLst/>
              <a:ahLst/>
              <a:rect l="l" t="t" r="r" b="b"/>
              <a:pathLst>
                <a:path w="162" h="299">
                  <a:moveTo>
                    <a:pt x="4" y="291"/>
                  </a:moveTo>
                  <a:lnTo>
                    <a:pt x="4" y="282"/>
                  </a:lnTo>
                  <a:lnTo>
                    <a:pt x="17" y="265"/>
                  </a:lnTo>
                  <a:lnTo>
                    <a:pt x="28" y="250"/>
                  </a:lnTo>
                  <a:lnTo>
                    <a:pt x="38" y="236"/>
                  </a:lnTo>
                  <a:lnTo>
                    <a:pt x="47" y="223"/>
                  </a:lnTo>
                  <a:lnTo>
                    <a:pt x="55" y="211"/>
                  </a:lnTo>
                  <a:lnTo>
                    <a:pt x="62" y="201"/>
                  </a:lnTo>
                  <a:lnTo>
                    <a:pt x="67" y="191"/>
                  </a:lnTo>
                  <a:lnTo>
                    <a:pt x="72" y="183"/>
                  </a:lnTo>
                  <a:lnTo>
                    <a:pt x="81" y="161"/>
                  </a:lnTo>
                  <a:lnTo>
                    <a:pt x="87" y="141"/>
                  </a:lnTo>
                  <a:lnTo>
                    <a:pt x="91" y="122"/>
                  </a:lnTo>
                  <a:lnTo>
                    <a:pt x="91" y="104"/>
                  </a:lnTo>
                  <a:lnTo>
                    <a:pt x="90" y="93"/>
                  </a:lnTo>
                  <a:lnTo>
                    <a:pt x="86" y="84"/>
                  </a:lnTo>
                  <a:lnTo>
                    <a:pt x="83" y="75"/>
                  </a:lnTo>
                  <a:lnTo>
                    <a:pt x="78" y="67"/>
                  </a:lnTo>
                  <a:lnTo>
                    <a:pt x="72" y="60"/>
                  </a:lnTo>
                  <a:lnTo>
                    <a:pt x="65" y="54"/>
                  </a:lnTo>
                  <a:lnTo>
                    <a:pt x="58" y="51"/>
                  </a:lnTo>
                  <a:lnTo>
                    <a:pt x="48" y="51"/>
                  </a:lnTo>
                  <a:lnTo>
                    <a:pt x="40" y="54"/>
                  </a:lnTo>
                  <a:lnTo>
                    <a:pt x="33" y="57"/>
                  </a:lnTo>
                  <a:lnTo>
                    <a:pt x="25" y="63"/>
                  </a:lnTo>
                  <a:lnTo>
                    <a:pt x="19" y="70"/>
                  </a:lnTo>
                  <a:lnTo>
                    <a:pt x="17" y="75"/>
                  </a:lnTo>
                  <a:lnTo>
                    <a:pt x="15" y="80"/>
                  </a:lnTo>
                  <a:lnTo>
                    <a:pt x="11" y="86"/>
                  </a:lnTo>
                  <a:lnTo>
                    <a:pt x="9" y="93"/>
                  </a:lnTo>
                  <a:lnTo>
                    <a:pt x="0" y="94"/>
                  </a:lnTo>
                  <a:lnTo>
                    <a:pt x="5" y="74"/>
                  </a:lnTo>
                  <a:lnTo>
                    <a:pt x="11" y="56"/>
                  </a:lnTo>
                  <a:lnTo>
                    <a:pt x="18" y="40"/>
                  </a:lnTo>
                  <a:lnTo>
                    <a:pt x="27" y="27"/>
                  </a:lnTo>
                  <a:lnTo>
                    <a:pt x="31" y="21"/>
                  </a:lnTo>
                  <a:lnTo>
                    <a:pt x="36" y="17"/>
                  </a:lnTo>
                  <a:lnTo>
                    <a:pt x="41" y="12"/>
                  </a:lnTo>
                  <a:lnTo>
                    <a:pt x="46" y="8"/>
                  </a:lnTo>
                  <a:lnTo>
                    <a:pt x="50" y="5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0" y="2"/>
                  </a:lnTo>
                  <a:lnTo>
                    <a:pt x="95" y="5"/>
                  </a:lnTo>
                  <a:lnTo>
                    <a:pt x="101" y="7"/>
                  </a:lnTo>
                  <a:lnTo>
                    <a:pt x="105" y="11"/>
                  </a:lnTo>
                  <a:lnTo>
                    <a:pt x="110" y="15"/>
                  </a:lnTo>
                  <a:lnTo>
                    <a:pt x="119" y="26"/>
                  </a:lnTo>
                  <a:lnTo>
                    <a:pt x="126" y="40"/>
                  </a:lnTo>
                  <a:lnTo>
                    <a:pt x="132" y="57"/>
                  </a:lnTo>
                  <a:lnTo>
                    <a:pt x="134" y="76"/>
                  </a:lnTo>
                  <a:lnTo>
                    <a:pt x="135" y="87"/>
                  </a:lnTo>
                  <a:lnTo>
                    <a:pt x="134" y="99"/>
                  </a:lnTo>
                  <a:lnTo>
                    <a:pt x="133" y="110"/>
                  </a:lnTo>
                  <a:lnTo>
                    <a:pt x="130" y="122"/>
                  </a:lnTo>
                  <a:lnTo>
                    <a:pt x="126" y="134"/>
                  </a:lnTo>
                  <a:lnTo>
                    <a:pt x="121" y="146"/>
                  </a:lnTo>
                  <a:lnTo>
                    <a:pt x="114" y="159"/>
                  </a:lnTo>
                  <a:lnTo>
                    <a:pt x="104" y="172"/>
                  </a:lnTo>
                  <a:lnTo>
                    <a:pt x="55" y="235"/>
                  </a:lnTo>
                  <a:lnTo>
                    <a:pt x="55" y="239"/>
                  </a:lnTo>
                  <a:lnTo>
                    <a:pt x="105" y="239"/>
                  </a:lnTo>
                  <a:lnTo>
                    <a:pt x="117" y="239"/>
                  </a:lnTo>
                  <a:lnTo>
                    <a:pt x="127" y="238"/>
                  </a:lnTo>
                  <a:lnTo>
                    <a:pt x="134" y="236"/>
                  </a:lnTo>
                  <a:lnTo>
                    <a:pt x="139" y="234"/>
                  </a:lnTo>
                  <a:lnTo>
                    <a:pt x="142" y="231"/>
                  </a:lnTo>
                  <a:lnTo>
                    <a:pt x="146" y="225"/>
                  </a:lnTo>
                  <a:lnTo>
                    <a:pt x="150" y="216"/>
                  </a:lnTo>
                  <a:lnTo>
                    <a:pt x="153" y="205"/>
                  </a:lnTo>
                  <a:lnTo>
                    <a:pt x="162" y="205"/>
                  </a:lnTo>
                  <a:lnTo>
                    <a:pt x="154" y="299"/>
                  </a:lnTo>
                  <a:lnTo>
                    <a:pt x="4" y="2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19040" y="2227320"/>
              <a:ext cx="262080" cy="533520"/>
            </a:xfrm>
            <a:custGeom>
              <a:avLst/>
              <a:gdLst/>
              <a:ahLst/>
              <a:rect l="l" t="t" r="r" b="b"/>
              <a:pathLst>
                <a:path w="165" h="336">
                  <a:moveTo>
                    <a:pt x="30" y="329"/>
                  </a:moveTo>
                  <a:lnTo>
                    <a:pt x="29" y="318"/>
                  </a:lnTo>
                  <a:lnTo>
                    <a:pt x="42" y="318"/>
                  </a:lnTo>
                  <a:lnTo>
                    <a:pt x="52" y="317"/>
                  </a:lnTo>
                  <a:lnTo>
                    <a:pt x="59" y="315"/>
                  </a:lnTo>
                  <a:lnTo>
                    <a:pt x="64" y="310"/>
                  </a:lnTo>
                  <a:lnTo>
                    <a:pt x="66" y="304"/>
                  </a:lnTo>
                  <a:lnTo>
                    <a:pt x="67" y="297"/>
                  </a:lnTo>
                  <a:lnTo>
                    <a:pt x="67" y="286"/>
                  </a:lnTo>
                  <a:lnTo>
                    <a:pt x="66" y="274"/>
                  </a:lnTo>
                  <a:lnTo>
                    <a:pt x="44" y="92"/>
                  </a:lnTo>
                  <a:lnTo>
                    <a:pt x="43" y="84"/>
                  </a:lnTo>
                  <a:lnTo>
                    <a:pt x="42" y="77"/>
                  </a:lnTo>
                  <a:lnTo>
                    <a:pt x="40" y="72"/>
                  </a:lnTo>
                  <a:lnTo>
                    <a:pt x="38" y="67"/>
                  </a:lnTo>
                  <a:lnTo>
                    <a:pt x="36" y="64"/>
                  </a:lnTo>
                  <a:lnTo>
                    <a:pt x="34" y="63"/>
                  </a:lnTo>
                  <a:lnTo>
                    <a:pt x="31" y="61"/>
                  </a:lnTo>
                  <a:lnTo>
                    <a:pt x="28" y="61"/>
                  </a:lnTo>
                  <a:lnTo>
                    <a:pt x="25" y="61"/>
                  </a:lnTo>
                  <a:lnTo>
                    <a:pt x="22" y="63"/>
                  </a:lnTo>
                  <a:lnTo>
                    <a:pt x="19" y="65"/>
                  </a:lnTo>
                  <a:lnTo>
                    <a:pt x="16" y="66"/>
                  </a:lnTo>
                  <a:lnTo>
                    <a:pt x="13" y="68"/>
                  </a:lnTo>
                  <a:lnTo>
                    <a:pt x="10" y="70"/>
                  </a:lnTo>
                  <a:lnTo>
                    <a:pt x="6" y="72"/>
                  </a:lnTo>
                  <a:lnTo>
                    <a:pt x="1" y="76"/>
                  </a:lnTo>
                  <a:lnTo>
                    <a:pt x="0" y="64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120" y="278"/>
                  </a:lnTo>
                  <a:lnTo>
                    <a:pt x="122" y="290"/>
                  </a:lnTo>
                  <a:lnTo>
                    <a:pt x="124" y="300"/>
                  </a:lnTo>
                  <a:lnTo>
                    <a:pt x="127" y="308"/>
                  </a:lnTo>
                  <a:lnTo>
                    <a:pt x="130" y="313"/>
                  </a:lnTo>
                  <a:lnTo>
                    <a:pt x="135" y="318"/>
                  </a:lnTo>
                  <a:lnTo>
                    <a:pt x="142" y="322"/>
                  </a:lnTo>
                  <a:lnTo>
                    <a:pt x="152" y="324"/>
                  </a:lnTo>
                  <a:lnTo>
                    <a:pt x="164" y="325"/>
                  </a:lnTo>
                  <a:lnTo>
                    <a:pt x="165" y="336"/>
                  </a:lnTo>
                  <a:lnTo>
                    <a:pt x="30" y="32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63480" y="2189160"/>
              <a:ext cx="211320" cy="582480"/>
            </a:xfrm>
            <a:custGeom>
              <a:avLst/>
              <a:gdLst/>
              <a:ahLst/>
              <a:rect l="l" t="t" r="r" b="b"/>
              <a:pathLst>
                <a:path w="133" h="367">
                  <a:moveTo>
                    <a:pt x="4" y="134"/>
                  </a:moveTo>
                  <a:lnTo>
                    <a:pt x="0" y="20"/>
                  </a:lnTo>
                  <a:lnTo>
                    <a:pt x="133" y="0"/>
                  </a:lnTo>
                  <a:lnTo>
                    <a:pt x="120" y="367"/>
                  </a:lnTo>
                  <a:lnTo>
                    <a:pt x="85" y="365"/>
                  </a:lnTo>
                  <a:lnTo>
                    <a:pt x="104" y="84"/>
                  </a:lnTo>
                  <a:lnTo>
                    <a:pt x="104" y="83"/>
                  </a:lnTo>
                  <a:lnTo>
                    <a:pt x="104" y="82"/>
                  </a:lnTo>
                  <a:lnTo>
                    <a:pt x="103" y="81"/>
                  </a:lnTo>
                  <a:lnTo>
                    <a:pt x="103" y="81"/>
                  </a:lnTo>
                  <a:lnTo>
                    <a:pt x="41" y="87"/>
                  </a:lnTo>
                  <a:lnTo>
                    <a:pt x="34" y="88"/>
                  </a:lnTo>
                  <a:lnTo>
                    <a:pt x="28" y="90"/>
                  </a:lnTo>
                  <a:lnTo>
                    <a:pt x="23" y="92"/>
                  </a:lnTo>
                  <a:lnTo>
                    <a:pt x="19" y="96"/>
                  </a:lnTo>
                  <a:lnTo>
                    <a:pt x="17" y="102"/>
                  </a:lnTo>
                  <a:lnTo>
                    <a:pt x="15" y="109"/>
                  </a:lnTo>
                  <a:lnTo>
                    <a:pt x="13" y="120"/>
                  </a:lnTo>
                  <a:lnTo>
                    <a:pt x="12" y="133"/>
                  </a:lnTo>
                  <a:lnTo>
                    <a:pt x="4" y="13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73080" y="5094360"/>
              <a:ext cx="33480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211" y="92"/>
                  </a:moveTo>
                  <a:lnTo>
                    <a:pt x="204" y="95"/>
                  </a:lnTo>
                  <a:lnTo>
                    <a:pt x="200" y="86"/>
                  </a:lnTo>
                  <a:lnTo>
                    <a:pt x="197" y="80"/>
                  </a:lnTo>
                  <a:lnTo>
                    <a:pt x="193" y="77"/>
                  </a:lnTo>
                  <a:lnTo>
                    <a:pt x="188" y="74"/>
                  </a:lnTo>
                  <a:lnTo>
                    <a:pt x="184" y="73"/>
                  </a:lnTo>
                  <a:lnTo>
                    <a:pt x="179" y="74"/>
                  </a:lnTo>
                  <a:lnTo>
                    <a:pt x="173" y="76"/>
                  </a:lnTo>
                  <a:lnTo>
                    <a:pt x="166" y="79"/>
                  </a:lnTo>
                  <a:lnTo>
                    <a:pt x="63" y="129"/>
                  </a:lnTo>
                  <a:lnTo>
                    <a:pt x="55" y="134"/>
                  </a:lnTo>
                  <a:lnTo>
                    <a:pt x="50" y="139"/>
                  </a:lnTo>
                  <a:lnTo>
                    <a:pt x="47" y="144"/>
                  </a:lnTo>
                  <a:lnTo>
                    <a:pt x="49" y="148"/>
                  </a:lnTo>
                  <a:lnTo>
                    <a:pt x="50" y="151"/>
                  </a:lnTo>
                  <a:lnTo>
                    <a:pt x="51" y="152"/>
                  </a:lnTo>
                  <a:lnTo>
                    <a:pt x="52" y="154"/>
                  </a:lnTo>
                  <a:lnTo>
                    <a:pt x="55" y="157"/>
                  </a:lnTo>
                  <a:lnTo>
                    <a:pt x="57" y="158"/>
                  </a:lnTo>
                  <a:lnTo>
                    <a:pt x="58" y="160"/>
                  </a:lnTo>
                  <a:lnTo>
                    <a:pt x="61" y="163"/>
                  </a:lnTo>
                  <a:lnTo>
                    <a:pt x="63" y="165"/>
                  </a:lnTo>
                  <a:lnTo>
                    <a:pt x="57" y="169"/>
                  </a:lnTo>
                  <a:lnTo>
                    <a:pt x="1" y="121"/>
                  </a:lnTo>
                  <a:lnTo>
                    <a:pt x="0" y="117"/>
                  </a:lnTo>
                  <a:lnTo>
                    <a:pt x="151" y="42"/>
                  </a:lnTo>
                  <a:lnTo>
                    <a:pt x="157" y="38"/>
                  </a:lnTo>
                  <a:lnTo>
                    <a:pt x="163" y="35"/>
                  </a:lnTo>
                  <a:lnTo>
                    <a:pt x="167" y="31"/>
                  </a:lnTo>
                  <a:lnTo>
                    <a:pt x="169" y="28"/>
                  </a:lnTo>
                  <a:lnTo>
                    <a:pt x="170" y="24"/>
                  </a:lnTo>
                  <a:lnTo>
                    <a:pt x="170" y="18"/>
                  </a:lnTo>
                  <a:lnTo>
                    <a:pt x="168" y="12"/>
                  </a:lnTo>
                  <a:lnTo>
                    <a:pt x="166" y="4"/>
                  </a:lnTo>
                  <a:lnTo>
                    <a:pt x="172" y="0"/>
                  </a:lnTo>
                  <a:lnTo>
                    <a:pt x="211" y="9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71560" y="4978440"/>
              <a:ext cx="339480" cy="210960"/>
            </a:xfrm>
            <a:custGeom>
              <a:avLst/>
              <a:gdLst/>
              <a:ahLst/>
              <a:rect l="l" t="t" r="r" b="b"/>
              <a:pathLst>
                <a:path w="214" h="133">
                  <a:moveTo>
                    <a:pt x="107" y="115"/>
                  </a:moveTo>
                  <a:lnTo>
                    <a:pt x="43" y="133"/>
                  </a:lnTo>
                  <a:lnTo>
                    <a:pt x="0" y="33"/>
                  </a:lnTo>
                  <a:lnTo>
                    <a:pt x="205" y="0"/>
                  </a:lnTo>
                  <a:lnTo>
                    <a:pt x="214" y="23"/>
                  </a:lnTo>
                  <a:lnTo>
                    <a:pt x="53" y="46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51" y="47"/>
                  </a:lnTo>
                  <a:lnTo>
                    <a:pt x="71" y="94"/>
                  </a:lnTo>
                  <a:lnTo>
                    <a:pt x="73" y="100"/>
                  </a:lnTo>
                  <a:lnTo>
                    <a:pt x="77" y="103"/>
                  </a:lnTo>
                  <a:lnTo>
                    <a:pt x="79" y="107"/>
                  </a:lnTo>
                  <a:lnTo>
                    <a:pt x="82" y="109"/>
                  </a:lnTo>
                  <a:lnTo>
                    <a:pt x="85" y="110"/>
                  </a:lnTo>
                  <a:lnTo>
                    <a:pt x="91" y="110"/>
                  </a:lnTo>
                  <a:lnTo>
                    <a:pt x="97" y="110"/>
                  </a:lnTo>
                  <a:lnTo>
                    <a:pt x="104" y="109"/>
                  </a:lnTo>
                  <a:lnTo>
                    <a:pt x="107" y="11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12680" y="2295360"/>
              <a:ext cx="212760" cy="23364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58" y="91"/>
                  </a:moveTo>
                  <a:lnTo>
                    <a:pt x="7" y="101"/>
                  </a:lnTo>
                  <a:lnTo>
                    <a:pt x="0" y="72"/>
                  </a:lnTo>
                  <a:lnTo>
                    <a:pt x="51" y="63"/>
                  </a:lnTo>
                  <a:lnTo>
                    <a:pt x="37" y="5"/>
                  </a:lnTo>
                  <a:lnTo>
                    <a:pt x="62" y="0"/>
                  </a:lnTo>
                  <a:lnTo>
                    <a:pt x="76" y="58"/>
                  </a:lnTo>
                  <a:lnTo>
                    <a:pt x="127" y="47"/>
                  </a:lnTo>
                  <a:lnTo>
                    <a:pt x="134" y="76"/>
                  </a:lnTo>
                  <a:lnTo>
                    <a:pt x="83" y="85"/>
                  </a:lnTo>
                  <a:lnTo>
                    <a:pt x="97" y="143"/>
                  </a:lnTo>
                  <a:lnTo>
                    <a:pt x="72" y="147"/>
                  </a:lnTo>
                  <a:lnTo>
                    <a:pt x="58" y="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39480" y="2830680"/>
              <a:ext cx="2781360" cy="618840"/>
            </a:xfrm>
            <a:custGeom>
              <a:avLst/>
              <a:gdLst/>
              <a:ahLst/>
              <a:rect l="l" t="t" r="r" b="b"/>
              <a:pathLst>
                <a:path w="1752" h="390">
                  <a:moveTo>
                    <a:pt x="721" y="126"/>
                  </a:moveTo>
                  <a:lnTo>
                    <a:pt x="666" y="139"/>
                  </a:lnTo>
                  <a:lnTo>
                    <a:pt x="613" y="153"/>
                  </a:lnTo>
                  <a:lnTo>
                    <a:pt x="561" y="168"/>
                  </a:lnTo>
                  <a:lnTo>
                    <a:pt x="510" y="182"/>
                  </a:lnTo>
                  <a:lnTo>
                    <a:pt x="458" y="196"/>
                  </a:lnTo>
                  <a:lnTo>
                    <a:pt x="409" y="212"/>
                  </a:lnTo>
                  <a:lnTo>
                    <a:pt x="361" y="227"/>
                  </a:lnTo>
                  <a:lnTo>
                    <a:pt x="315" y="242"/>
                  </a:lnTo>
                  <a:lnTo>
                    <a:pt x="269" y="257"/>
                  </a:lnTo>
                  <a:lnTo>
                    <a:pt x="226" y="273"/>
                  </a:lnTo>
                  <a:lnTo>
                    <a:pt x="185" y="288"/>
                  </a:lnTo>
                  <a:lnTo>
                    <a:pt x="144" y="304"/>
                  </a:lnTo>
                  <a:lnTo>
                    <a:pt x="105" y="320"/>
                  </a:lnTo>
                  <a:lnTo>
                    <a:pt x="68" y="335"/>
                  </a:lnTo>
                  <a:lnTo>
                    <a:pt x="33" y="349"/>
                  </a:lnTo>
                  <a:lnTo>
                    <a:pt x="0" y="365"/>
                  </a:lnTo>
                  <a:lnTo>
                    <a:pt x="32" y="352"/>
                  </a:lnTo>
                  <a:lnTo>
                    <a:pt x="65" y="340"/>
                  </a:lnTo>
                  <a:lnTo>
                    <a:pt x="100" y="327"/>
                  </a:lnTo>
                  <a:lnTo>
                    <a:pt x="136" y="314"/>
                  </a:lnTo>
                  <a:lnTo>
                    <a:pt x="172" y="300"/>
                  </a:lnTo>
                  <a:lnTo>
                    <a:pt x="210" y="287"/>
                  </a:lnTo>
                  <a:lnTo>
                    <a:pt x="249" y="274"/>
                  </a:lnTo>
                  <a:lnTo>
                    <a:pt x="290" y="262"/>
                  </a:lnTo>
                  <a:lnTo>
                    <a:pt x="330" y="249"/>
                  </a:lnTo>
                  <a:lnTo>
                    <a:pt x="372" y="236"/>
                  </a:lnTo>
                  <a:lnTo>
                    <a:pt x="415" y="224"/>
                  </a:lnTo>
                  <a:lnTo>
                    <a:pt x="459" y="211"/>
                  </a:lnTo>
                  <a:lnTo>
                    <a:pt x="504" y="199"/>
                  </a:lnTo>
                  <a:lnTo>
                    <a:pt x="549" y="187"/>
                  </a:lnTo>
                  <a:lnTo>
                    <a:pt x="594" y="175"/>
                  </a:lnTo>
                  <a:lnTo>
                    <a:pt x="641" y="163"/>
                  </a:lnTo>
                  <a:lnTo>
                    <a:pt x="691" y="151"/>
                  </a:lnTo>
                  <a:lnTo>
                    <a:pt x="741" y="139"/>
                  </a:lnTo>
                  <a:lnTo>
                    <a:pt x="791" y="128"/>
                  </a:lnTo>
                  <a:lnTo>
                    <a:pt x="840" y="118"/>
                  </a:lnTo>
                  <a:lnTo>
                    <a:pt x="888" y="108"/>
                  </a:lnTo>
                  <a:lnTo>
                    <a:pt x="936" y="98"/>
                  </a:lnTo>
                  <a:lnTo>
                    <a:pt x="981" y="90"/>
                  </a:lnTo>
                  <a:lnTo>
                    <a:pt x="1028" y="82"/>
                  </a:lnTo>
                  <a:lnTo>
                    <a:pt x="1072" y="75"/>
                  </a:lnTo>
                  <a:lnTo>
                    <a:pt x="1115" y="67"/>
                  </a:lnTo>
                  <a:lnTo>
                    <a:pt x="1157" y="61"/>
                  </a:lnTo>
                  <a:lnTo>
                    <a:pt x="1199" y="55"/>
                  </a:lnTo>
                  <a:lnTo>
                    <a:pt x="1238" y="51"/>
                  </a:lnTo>
                  <a:lnTo>
                    <a:pt x="1276" y="46"/>
                  </a:lnTo>
                  <a:lnTo>
                    <a:pt x="1313" y="42"/>
                  </a:lnTo>
                  <a:lnTo>
                    <a:pt x="1349" y="40"/>
                  </a:lnTo>
                  <a:lnTo>
                    <a:pt x="1384" y="37"/>
                  </a:lnTo>
                  <a:lnTo>
                    <a:pt x="1416" y="35"/>
                  </a:lnTo>
                  <a:lnTo>
                    <a:pt x="1446" y="34"/>
                  </a:lnTo>
                  <a:lnTo>
                    <a:pt x="1476" y="34"/>
                  </a:lnTo>
                  <a:lnTo>
                    <a:pt x="1503" y="35"/>
                  </a:lnTo>
                  <a:lnTo>
                    <a:pt x="1528" y="35"/>
                  </a:lnTo>
                  <a:lnTo>
                    <a:pt x="1552" y="37"/>
                  </a:lnTo>
                  <a:lnTo>
                    <a:pt x="1574" y="40"/>
                  </a:lnTo>
                  <a:lnTo>
                    <a:pt x="1593" y="43"/>
                  </a:lnTo>
                  <a:lnTo>
                    <a:pt x="1611" y="47"/>
                  </a:lnTo>
                  <a:lnTo>
                    <a:pt x="1625" y="52"/>
                  </a:lnTo>
                  <a:lnTo>
                    <a:pt x="1638" y="57"/>
                  </a:lnTo>
                  <a:lnTo>
                    <a:pt x="1649" y="63"/>
                  </a:lnTo>
                  <a:lnTo>
                    <a:pt x="1657" y="70"/>
                  </a:lnTo>
                  <a:lnTo>
                    <a:pt x="1663" y="77"/>
                  </a:lnTo>
                  <a:lnTo>
                    <a:pt x="1667" y="85"/>
                  </a:lnTo>
                  <a:lnTo>
                    <a:pt x="1663" y="103"/>
                  </a:lnTo>
                  <a:lnTo>
                    <a:pt x="1648" y="125"/>
                  </a:lnTo>
                  <a:lnTo>
                    <a:pt x="1619" y="147"/>
                  </a:lnTo>
                  <a:lnTo>
                    <a:pt x="1582" y="171"/>
                  </a:lnTo>
                  <a:lnTo>
                    <a:pt x="1537" y="196"/>
                  </a:lnTo>
                  <a:lnTo>
                    <a:pt x="1485" y="223"/>
                  </a:lnTo>
                  <a:lnTo>
                    <a:pt x="1430" y="248"/>
                  </a:lnTo>
                  <a:lnTo>
                    <a:pt x="1373" y="273"/>
                  </a:lnTo>
                  <a:lnTo>
                    <a:pt x="1316" y="297"/>
                  </a:lnTo>
                  <a:lnTo>
                    <a:pt x="1261" y="320"/>
                  </a:lnTo>
                  <a:lnTo>
                    <a:pt x="1209" y="340"/>
                  </a:lnTo>
                  <a:lnTo>
                    <a:pt x="1164" y="357"/>
                  </a:lnTo>
                  <a:lnTo>
                    <a:pt x="1126" y="371"/>
                  </a:lnTo>
                  <a:lnTo>
                    <a:pt x="1097" y="382"/>
                  </a:lnTo>
                  <a:lnTo>
                    <a:pt x="1079" y="389"/>
                  </a:lnTo>
                  <a:lnTo>
                    <a:pt x="1076" y="390"/>
                  </a:lnTo>
                  <a:lnTo>
                    <a:pt x="1174" y="365"/>
                  </a:lnTo>
                  <a:lnTo>
                    <a:pt x="1262" y="341"/>
                  </a:lnTo>
                  <a:lnTo>
                    <a:pt x="1342" y="318"/>
                  </a:lnTo>
                  <a:lnTo>
                    <a:pt x="1414" y="294"/>
                  </a:lnTo>
                  <a:lnTo>
                    <a:pt x="1478" y="273"/>
                  </a:lnTo>
                  <a:lnTo>
                    <a:pt x="1534" y="251"/>
                  </a:lnTo>
                  <a:lnTo>
                    <a:pt x="1583" y="230"/>
                  </a:lnTo>
                  <a:lnTo>
                    <a:pt x="1626" y="208"/>
                  </a:lnTo>
                  <a:lnTo>
                    <a:pt x="1661" y="189"/>
                  </a:lnTo>
                  <a:lnTo>
                    <a:pt x="1691" y="169"/>
                  </a:lnTo>
                  <a:lnTo>
                    <a:pt x="1713" y="150"/>
                  </a:lnTo>
                  <a:lnTo>
                    <a:pt x="1730" y="131"/>
                  </a:lnTo>
                  <a:lnTo>
                    <a:pt x="1742" y="112"/>
                  </a:lnTo>
                  <a:lnTo>
                    <a:pt x="1749" y="92"/>
                  </a:lnTo>
                  <a:lnTo>
                    <a:pt x="1752" y="75"/>
                  </a:lnTo>
                  <a:lnTo>
                    <a:pt x="1749" y="57"/>
                  </a:lnTo>
                  <a:lnTo>
                    <a:pt x="1746" y="48"/>
                  </a:lnTo>
                  <a:lnTo>
                    <a:pt x="1740" y="40"/>
                  </a:lnTo>
                  <a:lnTo>
                    <a:pt x="1731" y="33"/>
                  </a:lnTo>
                  <a:lnTo>
                    <a:pt x="1720" y="27"/>
                  </a:lnTo>
                  <a:lnTo>
                    <a:pt x="1707" y="21"/>
                  </a:lnTo>
                  <a:lnTo>
                    <a:pt x="1692" y="16"/>
                  </a:lnTo>
                  <a:lnTo>
                    <a:pt x="1674" y="11"/>
                  </a:lnTo>
                  <a:lnTo>
                    <a:pt x="1655" y="8"/>
                  </a:lnTo>
                  <a:lnTo>
                    <a:pt x="1633" y="5"/>
                  </a:lnTo>
                  <a:lnTo>
                    <a:pt x="1609" y="3"/>
                  </a:lnTo>
                  <a:lnTo>
                    <a:pt x="1584" y="2"/>
                  </a:lnTo>
                  <a:lnTo>
                    <a:pt x="1557" y="0"/>
                  </a:lnTo>
                  <a:lnTo>
                    <a:pt x="1527" y="0"/>
                  </a:lnTo>
                  <a:lnTo>
                    <a:pt x="1496" y="0"/>
                  </a:lnTo>
                  <a:lnTo>
                    <a:pt x="1464" y="3"/>
                  </a:lnTo>
                  <a:lnTo>
                    <a:pt x="1430" y="4"/>
                  </a:lnTo>
                  <a:lnTo>
                    <a:pt x="1394" y="8"/>
                  </a:lnTo>
                  <a:lnTo>
                    <a:pt x="1357" y="10"/>
                  </a:lnTo>
                  <a:lnTo>
                    <a:pt x="1318" y="15"/>
                  </a:lnTo>
                  <a:lnTo>
                    <a:pt x="1279" y="20"/>
                  </a:lnTo>
                  <a:lnTo>
                    <a:pt x="1238" y="24"/>
                  </a:lnTo>
                  <a:lnTo>
                    <a:pt x="1195" y="30"/>
                  </a:lnTo>
                  <a:lnTo>
                    <a:pt x="1152" y="37"/>
                  </a:lnTo>
                  <a:lnTo>
                    <a:pt x="1108" y="45"/>
                  </a:lnTo>
                  <a:lnTo>
                    <a:pt x="1062" y="53"/>
                  </a:lnTo>
                  <a:lnTo>
                    <a:pt x="1016" y="61"/>
                  </a:lnTo>
                  <a:lnTo>
                    <a:pt x="968" y="70"/>
                  </a:lnTo>
                  <a:lnTo>
                    <a:pt x="920" y="80"/>
                  </a:lnTo>
                  <a:lnTo>
                    <a:pt x="871" y="91"/>
                  </a:lnTo>
                  <a:lnTo>
                    <a:pt x="821" y="102"/>
                  </a:lnTo>
                  <a:lnTo>
                    <a:pt x="771" y="114"/>
                  </a:lnTo>
                  <a:lnTo>
                    <a:pt x="721" y="12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38160" y="2976480"/>
              <a:ext cx="204840" cy="317520"/>
            </a:xfrm>
            <a:custGeom>
              <a:avLst/>
              <a:gdLst/>
              <a:ahLst/>
              <a:rect l="l" t="t" r="r" b="b"/>
              <a:pathLst>
                <a:path w="129" h="200">
                  <a:moveTo>
                    <a:pt x="118" y="22"/>
                  </a:moveTo>
                  <a:lnTo>
                    <a:pt x="116" y="16"/>
                  </a:lnTo>
                  <a:lnTo>
                    <a:pt x="112" y="12"/>
                  </a:lnTo>
                  <a:lnTo>
                    <a:pt x="107" y="9"/>
                  </a:lnTo>
                  <a:lnTo>
                    <a:pt x="103" y="5"/>
                  </a:lnTo>
                  <a:lnTo>
                    <a:pt x="98" y="3"/>
                  </a:lnTo>
                  <a:lnTo>
                    <a:pt x="92" y="2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80" y="21"/>
                  </a:lnTo>
                  <a:lnTo>
                    <a:pt x="84" y="22"/>
                  </a:lnTo>
                  <a:lnTo>
                    <a:pt x="86" y="23"/>
                  </a:lnTo>
                  <a:lnTo>
                    <a:pt x="88" y="26"/>
                  </a:lnTo>
                  <a:lnTo>
                    <a:pt x="91" y="28"/>
                  </a:lnTo>
                  <a:lnTo>
                    <a:pt x="95" y="34"/>
                  </a:lnTo>
                  <a:lnTo>
                    <a:pt x="98" y="40"/>
                  </a:lnTo>
                  <a:lnTo>
                    <a:pt x="99" y="48"/>
                  </a:lnTo>
                  <a:lnTo>
                    <a:pt x="99" y="57"/>
                  </a:lnTo>
                  <a:lnTo>
                    <a:pt x="98" y="66"/>
                  </a:lnTo>
                  <a:lnTo>
                    <a:pt x="94" y="75"/>
                  </a:lnTo>
                  <a:lnTo>
                    <a:pt x="91" y="83"/>
                  </a:lnTo>
                  <a:lnTo>
                    <a:pt x="85" y="90"/>
                  </a:lnTo>
                  <a:lnTo>
                    <a:pt x="78" y="96"/>
                  </a:lnTo>
                  <a:lnTo>
                    <a:pt x="70" y="101"/>
                  </a:lnTo>
                  <a:lnTo>
                    <a:pt x="62" y="104"/>
                  </a:lnTo>
                  <a:lnTo>
                    <a:pt x="54" y="106"/>
                  </a:lnTo>
                  <a:lnTo>
                    <a:pt x="47" y="106"/>
                  </a:lnTo>
                  <a:lnTo>
                    <a:pt x="39" y="104"/>
                  </a:lnTo>
                  <a:lnTo>
                    <a:pt x="33" y="102"/>
                  </a:lnTo>
                  <a:lnTo>
                    <a:pt x="29" y="97"/>
                  </a:lnTo>
                  <a:lnTo>
                    <a:pt x="25" y="92"/>
                  </a:lnTo>
                  <a:lnTo>
                    <a:pt x="24" y="85"/>
                  </a:lnTo>
                  <a:lnTo>
                    <a:pt x="23" y="79"/>
                  </a:lnTo>
                  <a:lnTo>
                    <a:pt x="23" y="71"/>
                  </a:lnTo>
                  <a:lnTo>
                    <a:pt x="24" y="65"/>
                  </a:lnTo>
                  <a:lnTo>
                    <a:pt x="25" y="58"/>
                  </a:lnTo>
                  <a:lnTo>
                    <a:pt x="27" y="52"/>
                  </a:lnTo>
                  <a:lnTo>
                    <a:pt x="31" y="46"/>
                  </a:lnTo>
                  <a:lnTo>
                    <a:pt x="35" y="40"/>
                  </a:lnTo>
                  <a:lnTo>
                    <a:pt x="38" y="35"/>
                  </a:lnTo>
                  <a:lnTo>
                    <a:pt x="43" y="32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7" y="20"/>
                  </a:lnTo>
                  <a:lnTo>
                    <a:pt x="69" y="20"/>
                  </a:lnTo>
                  <a:lnTo>
                    <a:pt x="74" y="20"/>
                  </a:lnTo>
                  <a:lnTo>
                    <a:pt x="78" y="21"/>
                  </a:lnTo>
                  <a:lnTo>
                    <a:pt x="80" y="21"/>
                  </a:lnTo>
                  <a:lnTo>
                    <a:pt x="80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7" y="4"/>
                  </a:lnTo>
                  <a:lnTo>
                    <a:pt x="50" y="6"/>
                  </a:lnTo>
                  <a:lnTo>
                    <a:pt x="44" y="9"/>
                  </a:lnTo>
                  <a:lnTo>
                    <a:pt x="38" y="12"/>
                  </a:lnTo>
                  <a:lnTo>
                    <a:pt x="33" y="17"/>
                  </a:lnTo>
                  <a:lnTo>
                    <a:pt x="27" y="22"/>
                  </a:lnTo>
                  <a:lnTo>
                    <a:pt x="23" y="27"/>
                  </a:lnTo>
                  <a:lnTo>
                    <a:pt x="14" y="37"/>
                  </a:lnTo>
                  <a:lnTo>
                    <a:pt x="7" y="49"/>
                  </a:lnTo>
                  <a:lnTo>
                    <a:pt x="2" y="63"/>
                  </a:lnTo>
                  <a:lnTo>
                    <a:pt x="0" y="75"/>
                  </a:lnTo>
                  <a:lnTo>
                    <a:pt x="0" y="90"/>
                  </a:lnTo>
                  <a:lnTo>
                    <a:pt x="4" y="103"/>
                  </a:lnTo>
                  <a:lnTo>
                    <a:pt x="11" y="113"/>
                  </a:lnTo>
                  <a:lnTo>
                    <a:pt x="21" y="120"/>
                  </a:lnTo>
                  <a:lnTo>
                    <a:pt x="29" y="122"/>
                  </a:lnTo>
                  <a:lnTo>
                    <a:pt x="36" y="125"/>
                  </a:lnTo>
                  <a:lnTo>
                    <a:pt x="43" y="125"/>
                  </a:lnTo>
                  <a:lnTo>
                    <a:pt x="50" y="125"/>
                  </a:lnTo>
                  <a:lnTo>
                    <a:pt x="58" y="124"/>
                  </a:lnTo>
                  <a:lnTo>
                    <a:pt x="66" y="121"/>
                  </a:lnTo>
                  <a:lnTo>
                    <a:pt x="73" y="118"/>
                  </a:lnTo>
                  <a:lnTo>
                    <a:pt x="80" y="113"/>
                  </a:lnTo>
                  <a:lnTo>
                    <a:pt x="87" y="108"/>
                  </a:lnTo>
                  <a:lnTo>
                    <a:pt x="93" y="103"/>
                  </a:lnTo>
                  <a:lnTo>
                    <a:pt x="99" y="97"/>
                  </a:lnTo>
                  <a:lnTo>
                    <a:pt x="105" y="90"/>
                  </a:lnTo>
                  <a:lnTo>
                    <a:pt x="104" y="95"/>
                  </a:lnTo>
                  <a:lnTo>
                    <a:pt x="101" y="112"/>
                  </a:lnTo>
                  <a:lnTo>
                    <a:pt x="98" y="128"/>
                  </a:lnTo>
                  <a:lnTo>
                    <a:pt x="92" y="143"/>
                  </a:lnTo>
                  <a:lnTo>
                    <a:pt x="84" y="155"/>
                  </a:lnTo>
                  <a:lnTo>
                    <a:pt x="79" y="161"/>
                  </a:lnTo>
                  <a:lnTo>
                    <a:pt x="75" y="165"/>
                  </a:lnTo>
                  <a:lnTo>
                    <a:pt x="70" y="170"/>
                  </a:lnTo>
                  <a:lnTo>
                    <a:pt x="64" y="174"/>
                  </a:lnTo>
                  <a:lnTo>
                    <a:pt x="60" y="177"/>
                  </a:lnTo>
                  <a:lnTo>
                    <a:pt x="54" y="180"/>
                  </a:lnTo>
                  <a:lnTo>
                    <a:pt x="47" y="181"/>
                  </a:lnTo>
                  <a:lnTo>
                    <a:pt x="41" y="182"/>
                  </a:lnTo>
                  <a:lnTo>
                    <a:pt x="36" y="182"/>
                  </a:lnTo>
                  <a:lnTo>
                    <a:pt x="31" y="182"/>
                  </a:lnTo>
                  <a:lnTo>
                    <a:pt x="26" y="181"/>
                  </a:lnTo>
                  <a:lnTo>
                    <a:pt x="21" y="181"/>
                  </a:lnTo>
                  <a:lnTo>
                    <a:pt x="17" y="180"/>
                  </a:lnTo>
                  <a:lnTo>
                    <a:pt x="12" y="179"/>
                  </a:lnTo>
                  <a:lnTo>
                    <a:pt x="7" y="177"/>
                  </a:lnTo>
                  <a:lnTo>
                    <a:pt x="2" y="176"/>
                  </a:lnTo>
                  <a:lnTo>
                    <a:pt x="0" y="198"/>
                  </a:lnTo>
                  <a:lnTo>
                    <a:pt x="5" y="199"/>
                  </a:lnTo>
                  <a:lnTo>
                    <a:pt x="9" y="199"/>
                  </a:lnTo>
                  <a:lnTo>
                    <a:pt x="14" y="200"/>
                  </a:lnTo>
                  <a:lnTo>
                    <a:pt x="19" y="200"/>
                  </a:lnTo>
                  <a:lnTo>
                    <a:pt x="24" y="200"/>
                  </a:lnTo>
                  <a:lnTo>
                    <a:pt x="29" y="200"/>
                  </a:lnTo>
                  <a:lnTo>
                    <a:pt x="33" y="200"/>
                  </a:lnTo>
                  <a:lnTo>
                    <a:pt x="38" y="200"/>
                  </a:lnTo>
                  <a:lnTo>
                    <a:pt x="47" y="199"/>
                  </a:lnTo>
                  <a:lnTo>
                    <a:pt x="55" y="198"/>
                  </a:lnTo>
                  <a:lnTo>
                    <a:pt x="63" y="195"/>
                  </a:lnTo>
                  <a:lnTo>
                    <a:pt x="72" y="192"/>
                  </a:lnTo>
                  <a:lnTo>
                    <a:pt x="79" y="187"/>
                  </a:lnTo>
                  <a:lnTo>
                    <a:pt x="86" y="182"/>
                  </a:lnTo>
                  <a:lnTo>
                    <a:pt x="93" y="176"/>
                  </a:lnTo>
                  <a:lnTo>
                    <a:pt x="99" y="169"/>
                  </a:lnTo>
                  <a:lnTo>
                    <a:pt x="110" y="152"/>
                  </a:lnTo>
                  <a:lnTo>
                    <a:pt x="119" y="134"/>
                  </a:lnTo>
                  <a:lnTo>
                    <a:pt x="124" y="114"/>
                  </a:lnTo>
                  <a:lnTo>
                    <a:pt x="128" y="91"/>
                  </a:lnTo>
                  <a:lnTo>
                    <a:pt x="129" y="71"/>
                  </a:lnTo>
                  <a:lnTo>
                    <a:pt x="128" y="52"/>
                  </a:lnTo>
                  <a:lnTo>
                    <a:pt x="124" y="36"/>
                  </a:lnTo>
                  <a:lnTo>
                    <a:pt x="118" y="2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22000" y="3490920"/>
              <a:ext cx="311400" cy="487440"/>
            </a:xfrm>
            <a:custGeom>
              <a:avLst/>
              <a:gdLst/>
              <a:ahLst/>
              <a:rect l="l" t="t" r="r" b="b"/>
              <a:pathLst>
                <a:path w="196" h="307">
                  <a:moveTo>
                    <a:pt x="134" y="186"/>
                  </a:moveTo>
                  <a:lnTo>
                    <a:pt x="138" y="199"/>
                  </a:lnTo>
                  <a:lnTo>
                    <a:pt x="143" y="215"/>
                  </a:lnTo>
                  <a:lnTo>
                    <a:pt x="145" y="231"/>
                  </a:lnTo>
                  <a:lnTo>
                    <a:pt x="147" y="244"/>
                  </a:lnTo>
                  <a:lnTo>
                    <a:pt x="148" y="255"/>
                  </a:lnTo>
                  <a:lnTo>
                    <a:pt x="148" y="270"/>
                  </a:lnTo>
                  <a:lnTo>
                    <a:pt x="147" y="282"/>
                  </a:lnTo>
                  <a:lnTo>
                    <a:pt x="143" y="291"/>
                  </a:lnTo>
                  <a:lnTo>
                    <a:pt x="135" y="294"/>
                  </a:lnTo>
                  <a:lnTo>
                    <a:pt x="128" y="294"/>
                  </a:lnTo>
                  <a:lnTo>
                    <a:pt x="122" y="292"/>
                  </a:lnTo>
                  <a:lnTo>
                    <a:pt x="116" y="287"/>
                  </a:lnTo>
                  <a:lnTo>
                    <a:pt x="110" y="280"/>
                  </a:lnTo>
                  <a:lnTo>
                    <a:pt x="104" y="269"/>
                  </a:lnTo>
                  <a:lnTo>
                    <a:pt x="97" y="254"/>
                  </a:lnTo>
                  <a:lnTo>
                    <a:pt x="91" y="233"/>
                  </a:lnTo>
                  <a:lnTo>
                    <a:pt x="84" y="209"/>
                  </a:lnTo>
                  <a:lnTo>
                    <a:pt x="59" y="110"/>
                  </a:lnTo>
                  <a:lnTo>
                    <a:pt x="53" y="86"/>
                  </a:lnTo>
                  <a:lnTo>
                    <a:pt x="49" y="66"/>
                  </a:lnTo>
                  <a:lnTo>
                    <a:pt x="47" y="49"/>
                  </a:lnTo>
                  <a:lnTo>
                    <a:pt x="47" y="37"/>
                  </a:lnTo>
                  <a:lnTo>
                    <a:pt x="49" y="29"/>
                  </a:lnTo>
                  <a:lnTo>
                    <a:pt x="53" y="22"/>
                  </a:lnTo>
                  <a:lnTo>
                    <a:pt x="57" y="17"/>
                  </a:lnTo>
                  <a:lnTo>
                    <a:pt x="63" y="15"/>
                  </a:lnTo>
                  <a:lnTo>
                    <a:pt x="68" y="15"/>
                  </a:lnTo>
                  <a:lnTo>
                    <a:pt x="76" y="16"/>
                  </a:lnTo>
                  <a:lnTo>
                    <a:pt x="82" y="22"/>
                  </a:lnTo>
                  <a:lnTo>
                    <a:pt x="88" y="29"/>
                  </a:lnTo>
                  <a:lnTo>
                    <a:pt x="94" y="40"/>
                  </a:lnTo>
                  <a:lnTo>
                    <a:pt x="100" y="55"/>
                  </a:lnTo>
                  <a:lnTo>
                    <a:pt x="105" y="76"/>
                  </a:lnTo>
                  <a:lnTo>
                    <a:pt x="113" y="100"/>
                  </a:lnTo>
                  <a:lnTo>
                    <a:pt x="134" y="186"/>
                  </a:lnTo>
                  <a:lnTo>
                    <a:pt x="195" y="186"/>
                  </a:lnTo>
                  <a:lnTo>
                    <a:pt x="193" y="169"/>
                  </a:lnTo>
                  <a:lnTo>
                    <a:pt x="191" y="156"/>
                  </a:lnTo>
                  <a:lnTo>
                    <a:pt x="189" y="145"/>
                  </a:lnTo>
                  <a:lnTo>
                    <a:pt x="187" y="134"/>
                  </a:lnTo>
                  <a:lnTo>
                    <a:pt x="182" y="119"/>
                  </a:lnTo>
                  <a:lnTo>
                    <a:pt x="177" y="103"/>
                  </a:lnTo>
                  <a:lnTo>
                    <a:pt x="171" y="90"/>
                  </a:lnTo>
                  <a:lnTo>
                    <a:pt x="164" y="76"/>
                  </a:lnTo>
                  <a:lnTo>
                    <a:pt x="157" y="64"/>
                  </a:lnTo>
                  <a:lnTo>
                    <a:pt x="150" y="52"/>
                  </a:lnTo>
                  <a:lnTo>
                    <a:pt x="141" y="41"/>
                  </a:lnTo>
                  <a:lnTo>
                    <a:pt x="133" y="31"/>
                  </a:lnTo>
                  <a:lnTo>
                    <a:pt x="123" y="23"/>
                  </a:lnTo>
                  <a:lnTo>
                    <a:pt x="115" y="16"/>
                  </a:lnTo>
                  <a:lnTo>
                    <a:pt x="105" y="10"/>
                  </a:lnTo>
                  <a:lnTo>
                    <a:pt x="96" y="5"/>
                  </a:lnTo>
                  <a:lnTo>
                    <a:pt x="88" y="3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9" y="2"/>
                  </a:lnTo>
                  <a:lnTo>
                    <a:pt x="51" y="4"/>
                  </a:lnTo>
                  <a:lnTo>
                    <a:pt x="43" y="7"/>
                  </a:lnTo>
                  <a:lnTo>
                    <a:pt x="37" y="11"/>
                  </a:lnTo>
                  <a:lnTo>
                    <a:pt x="31" y="16"/>
                  </a:lnTo>
                  <a:lnTo>
                    <a:pt x="25" y="22"/>
                  </a:lnTo>
                  <a:lnTo>
                    <a:pt x="21" y="29"/>
                  </a:lnTo>
                  <a:lnTo>
                    <a:pt x="16" y="37"/>
                  </a:lnTo>
                  <a:lnTo>
                    <a:pt x="11" y="47"/>
                  </a:lnTo>
                  <a:lnTo>
                    <a:pt x="3" y="73"/>
                  </a:lnTo>
                  <a:lnTo>
                    <a:pt x="0" y="103"/>
                  </a:lnTo>
                  <a:lnTo>
                    <a:pt x="3" y="138"/>
                  </a:lnTo>
                  <a:lnTo>
                    <a:pt x="10" y="175"/>
                  </a:lnTo>
                  <a:lnTo>
                    <a:pt x="15" y="188"/>
                  </a:lnTo>
                  <a:lnTo>
                    <a:pt x="18" y="200"/>
                  </a:lnTo>
                  <a:lnTo>
                    <a:pt x="22" y="211"/>
                  </a:lnTo>
                  <a:lnTo>
                    <a:pt x="25" y="219"/>
                  </a:lnTo>
                  <a:lnTo>
                    <a:pt x="31" y="231"/>
                  </a:lnTo>
                  <a:lnTo>
                    <a:pt x="39" y="243"/>
                  </a:lnTo>
                  <a:lnTo>
                    <a:pt x="46" y="254"/>
                  </a:lnTo>
                  <a:lnTo>
                    <a:pt x="53" y="264"/>
                  </a:lnTo>
                  <a:lnTo>
                    <a:pt x="58" y="269"/>
                  </a:lnTo>
                  <a:lnTo>
                    <a:pt x="63" y="275"/>
                  </a:lnTo>
                  <a:lnTo>
                    <a:pt x="67" y="280"/>
                  </a:lnTo>
                  <a:lnTo>
                    <a:pt x="72" y="284"/>
                  </a:lnTo>
                  <a:lnTo>
                    <a:pt x="77" y="288"/>
                  </a:lnTo>
                  <a:lnTo>
                    <a:pt x="82" y="292"/>
                  </a:lnTo>
                  <a:lnTo>
                    <a:pt x="88" y="296"/>
                  </a:lnTo>
                  <a:lnTo>
                    <a:pt x="92" y="299"/>
                  </a:lnTo>
                  <a:lnTo>
                    <a:pt x="98" y="302"/>
                  </a:lnTo>
                  <a:lnTo>
                    <a:pt x="103" y="304"/>
                  </a:lnTo>
                  <a:lnTo>
                    <a:pt x="109" y="306"/>
                  </a:lnTo>
                  <a:lnTo>
                    <a:pt x="114" y="307"/>
                  </a:lnTo>
                  <a:lnTo>
                    <a:pt x="120" y="307"/>
                  </a:lnTo>
                  <a:lnTo>
                    <a:pt x="126" y="307"/>
                  </a:lnTo>
                  <a:lnTo>
                    <a:pt x="132" y="307"/>
                  </a:lnTo>
                  <a:lnTo>
                    <a:pt x="138" y="306"/>
                  </a:lnTo>
                  <a:lnTo>
                    <a:pt x="146" y="304"/>
                  </a:lnTo>
                  <a:lnTo>
                    <a:pt x="153" y="302"/>
                  </a:lnTo>
                  <a:lnTo>
                    <a:pt x="160" y="297"/>
                  </a:lnTo>
                  <a:lnTo>
                    <a:pt x="168" y="291"/>
                  </a:lnTo>
                  <a:lnTo>
                    <a:pt x="174" y="285"/>
                  </a:lnTo>
                  <a:lnTo>
                    <a:pt x="178" y="278"/>
                  </a:lnTo>
                  <a:lnTo>
                    <a:pt x="183" y="268"/>
                  </a:lnTo>
                  <a:lnTo>
                    <a:pt x="188" y="258"/>
                  </a:lnTo>
                  <a:lnTo>
                    <a:pt x="193" y="243"/>
                  </a:lnTo>
                  <a:lnTo>
                    <a:pt x="195" y="225"/>
                  </a:lnTo>
                  <a:lnTo>
                    <a:pt x="196" y="206"/>
                  </a:lnTo>
                  <a:lnTo>
                    <a:pt x="195" y="186"/>
                  </a:lnTo>
                  <a:lnTo>
                    <a:pt x="134" y="1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87120" y="4489560"/>
              <a:ext cx="271440" cy="255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171" y="13"/>
                  </a:moveTo>
                  <a:lnTo>
                    <a:pt x="156" y="0"/>
                  </a:lnTo>
                  <a:lnTo>
                    <a:pt x="81" y="19"/>
                  </a:lnTo>
                  <a:lnTo>
                    <a:pt x="81" y="30"/>
                  </a:lnTo>
                  <a:lnTo>
                    <a:pt x="116" y="19"/>
                  </a:lnTo>
                  <a:lnTo>
                    <a:pt x="117" y="20"/>
                  </a:lnTo>
                  <a:lnTo>
                    <a:pt x="66" y="81"/>
                  </a:lnTo>
                  <a:lnTo>
                    <a:pt x="29" y="47"/>
                  </a:lnTo>
                  <a:lnTo>
                    <a:pt x="31" y="44"/>
                  </a:lnTo>
                  <a:lnTo>
                    <a:pt x="81" y="30"/>
                  </a:lnTo>
                  <a:lnTo>
                    <a:pt x="82" y="19"/>
                  </a:lnTo>
                  <a:lnTo>
                    <a:pt x="80" y="20"/>
                  </a:lnTo>
                  <a:lnTo>
                    <a:pt x="74" y="21"/>
                  </a:lnTo>
                  <a:lnTo>
                    <a:pt x="66" y="24"/>
                  </a:lnTo>
                  <a:lnTo>
                    <a:pt x="56" y="27"/>
                  </a:lnTo>
                  <a:lnTo>
                    <a:pt x="45" y="30"/>
                  </a:lnTo>
                  <a:lnTo>
                    <a:pt x="36" y="32"/>
                  </a:lnTo>
                  <a:lnTo>
                    <a:pt x="29" y="35"/>
                  </a:lnTo>
                  <a:lnTo>
                    <a:pt x="25" y="36"/>
                  </a:lnTo>
                  <a:lnTo>
                    <a:pt x="24" y="37"/>
                  </a:lnTo>
                  <a:lnTo>
                    <a:pt x="23" y="37"/>
                  </a:lnTo>
                  <a:lnTo>
                    <a:pt x="21" y="37"/>
                  </a:lnTo>
                  <a:lnTo>
                    <a:pt x="20" y="38"/>
                  </a:lnTo>
                  <a:lnTo>
                    <a:pt x="0" y="62"/>
                  </a:lnTo>
                  <a:lnTo>
                    <a:pt x="45" y="105"/>
                  </a:lnTo>
                  <a:lnTo>
                    <a:pt x="19" y="136"/>
                  </a:lnTo>
                  <a:lnTo>
                    <a:pt x="45" y="161"/>
                  </a:lnTo>
                  <a:lnTo>
                    <a:pt x="72" y="130"/>
                  </a:lnTo>
                  <a:lnTo>
                    <a:pt x="82" y="141"/>
                  </a:lnTo>
                  <a:lnTo>
                    <a:pt x="103" y="117"/>
                  </a:lnTo>
                  <a:lnTo>
                    <a:pt x="92" y="106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85760" y="3975120"/>
              <a:ext cx="241200" cy="284040"/>
            </a:xfrm>
            <a:custGeom>
              <a:avLst/>
              <a:gdLst/>
              <a:ahLst/>
              <a:rect l="l" t="t" r="r" b="b"/>
              <a:pathLst>
                <a:path w="152" h="179">
                  <a:moveTo>
                    <a:pt x="146" y="92"/>
                  </a:moveTo>
                  <a:lnTo>
                    <a:pt x="144" y="83"/>
                  </a:lnTo>
                  <a:lnTo>
                    <a:pt x="140" y="73"/>
                  </a:lnTo>
                  <a:lnTo>
                    <a:pt x="135" y="65"/>
                  </a:lnTo>
                  <a:lnTo>
                    <a:pt x="132" y="55"/>
                  </a:lnTo>
                  <a:lnTo>
                    <a:pt x="126" y="48"/>
                  </a:lnTo>
                  <a:lnTo>
                    <a:pt x="121" y="40"/>
                  </a:lnTo>
                  <a:lnTo>
                    <a:pt x="115" y="32"/>
                  </a:lnTo>
                  <a:lnTo>
                    <a:pt x="109" y="26"/>
                  </a:lnTo>
                  <a:lnTo>
                    <a:pt x="103" y="22"/>
                  </a:lnTo>
                  <a:lnTo>
                    <a:pt x="97" y="18"/>
                  </a:lnTo>
                  <a:lnTo>
                    <a:pt x="90" y="14"/>
                  </a:lnTo>
                  <a:lnTo>
                    <a:pt x="83" y="11"/>
                  </a:lnTo>
                  <a:lnTo>
                    <a:pt x="76" y="7"/>
                  </a:lnTo>
                  <a:lnTo>
                    <a:pt x="68" y="5"/>
                  </a:lnTo>
                  <a:lnTo>
                    <a:pt x="61" y="2"/>
                  </a:lnTo>
                  <a:lnTo>
                    <a:pt x="55" y="1"/>
                  </a:lnTo>
                  <a:lnTo>
                    <a:pt x="55" y="30"/>
                  </a:lnTo>
                  <a:lnTo>
                    <a:pt x="64" y="32"/>
                  </a:lnTo>
                  <a:lnTo>
                    <a:pt x="73" y="36"/>
                  </a:lnTo>
                  <a:lnTo>
                    <a:pt x="83" y="42"/>
                  </a:lnTo>
                  <a:lnTo>
                    <a:pt x="90" y="48"/>
                  </a:lnTo>
                  <a:lnTo>
                    <a:pt x="97" y="57"/>
                  </a:lnTo>
                  <a:lnTo>
                    <a:pt x="102" y="67"/>
                  </a:lnTo>
                  <a:lnTo>
                    <a:pt x="107" y="79"/>
                  </a:lnTo>
                  <a:lnTo>
                    <a:pt x="110" y="91"/>
                  </a:lnTo>
                  <a:lnTo>
                    <a:pt x="113" y="103"/>
                  </a:lnTo>
                  <a:lnTo>
                    <a:pt x="115" y="114"/>
                  </a:lnTo>
                  <a:lnTo>
                    <a:pt x="115" y="124"/>
                  </a:lnTo>
                  <a:lnTo>
                    <a:pt x="115" y="134"/>
                  </a:lnTo>
                  <a:lnTo>
                    <a:pt x="113" y="142"/>
                  </a:lnTo>
                  <a:lnTo>
                    <a:pt x="108" y="147"/>
                  </a:lnTo>
                  <a:lnTo>
                    <a:pt x="102" y="151"/>
                  </a:lnTo>
                  <a:lnTo>
                    <a:pt x="94" y="151"/>
                  </a:lnTo>
                  <a:lnTo>
                    <a:pt x="84" y="149"/>
                  </a:lnTo>
                  <a:lnTo>
                    <a:pt x="76" y="146"/>
                  </a:lnTo>
                  <a:lnTo>
                    <a:pt x="68" y="140"/>
                  </a:lnTo>
                  <a:lnTo>
                    <a:pt x="61" y="132"/>
                  </a:lnTo>
                  <a:lnTo>
                    <a:pt x="55" y="122"/>
                  </a:lnTo>
                  <a:lnTo>
                    <a:pt x="49" y="111"/>
                  </a:lnTo>
                  <a:lnTo>
                    <a:pt x="45" y="100"/>
                  </a:lnTo>
                  <a:lnTo>
                    <a:pt x="41" y="89"/>
                  </a:lnTo>
                  <a:lnTo>
                    <a:pt x="39" y="77"/>
                  </a:lnTo>
                  <a:lnTo>
                    <a:pt x="36" y="65"/>
                  </a:lnTo>
                  <a:lnTo>
                    <a:pt x="36" y="55"/>
                  </a:lnTo>
                  <a:lnTo>
                    <a:pt x="37" y="46"/>
                  </a:lnTo>
                  <a:lnTo>
                    <a:pt x="40" y="40"/>
                  </a:lnTo>
                  <a:lnTo>
                    <a:pt x="43" y="34"/>
                  </a:lnTo>
                  <a:lnTo>
                    <a:pt x="48" y="31"/>
                  </a:lnTo>
                  <a:lnTo>
                    <a:pt x="55" y="30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5" y="1"/>
                  </a:lnTo>
                  <a:lnTo>
                    <a:pt x="29" y="4"/>
                  </a:lnTo>
                  <a:lnTo>
                    <a:pt x="23" y="6"/>
                  </a:lnTo>
                  <a:lnTo>
                    <a:pt x="18" y="10"/>
                  </a:lnTo>
                  <a:lnTo>
                    <a:pt x="13" y="13"/>
                  </a:lnTo>
                  <a:lnTo>
                    <a:pt x="10" y="18"/>
                  </a:lnTo>
                  <a:lnTo>
                    <a:pt x="6" y="24"/>
                  </a:lnTo>
                  <a:lnTo>
                    <a:pt x="2" y="37"/>
                  </a:lnTo>
                  <a:lnTo>
                    <a:pt x="0" y="51"/>
                  </a:lnTo>
                  <a:lnTo>
                    <a:pt x="2" y="68"/>
                  </a:lnTo>
                  <a:lnTo>
                    <a:pt x="5" y="87"/>
                  </a:lnTo>
                  <a:lnTo>
                    <a:pt x="8" y="97"/>
                  </a:lnTo>
                  <a:lnTo>
                    <a:pt x="11" y="106"/>
                  </a:lnTo>
                  <a:lnTo>
                    <a:pt x="16" y="115"/>
                  </a:lnTo>
                  <a:lnTo>
                    <a:pt x="21" y="123"/>
                  </a:lnTo>
                  <a:lnTo>
                    <a:pt x="25" y="132"/>
                  </a:lnTo>
                  <a:lnTo>
                    <a:pt x="30" y="139"/>
                  </a:lnTo>
                  <a:lnTo>
                    <a:pt x="36" y="146"/>
                  </a:lnTo>
                  <a:lnTo>
                    <a:pt x="42" y="152"/>
                  </a:lnTo>
                  <a:lnTo>
                    <a:pt x="49" y="158"/>
                  </a:lnTo>
                  <a:lnTo>
                    <a:pt x="55" y="164"/>
                  </a:lnTo>
                  <a:lnTo>
                    <a:pt x="62" y="169"/>
                  </a:lnTo>
                  <a:lnTo>
                    <a:pt x="70" y="172"/>
                  </a:lnTo>
                  <a:lnTo>
                    <a:pt x="78" y="175"/>
                  </a:lnTo>
                  <a:lnTo>
                    <a:pt x="85" y="177"/>
                  </a:lnTo>
                  <a:lnTo>
                    <a:pt x="92" y="178"/>
                  </a:lnTo>
                  <a:lnTo>
                    <a:pt x="101" y="179"/>
                  </a:lnTo>
                  <a:lnTo>
                    <a:pt x="109" y="179"/>
                  </a:lnTo>
                  <a:lnTo>
                    <a:pt x="116" y="178"/>
                  </a:lnTo>
                  <a:lnTo>
                    <a:pt x="123" y="177"/>
                  </a:lnTo>
                  <a:lnTo>
                    <a:pt x="129" y="175"/>
                  </a:lnTo>
                  <a:lnTo>
                    <a:pt x="134" y="172"/>
                  </a:lnTo>
                  <a:lnTo>
                    <a:pt x="139" y="167"/>
                  </a:lnTo>
                  <a:lnTo>
                    <a:pt x="142" y="164"/>
                  </a:lnTo>
                  <a:lnTo>
                    <a:pt x="146" y="158"/>
                  </a:lnTo>
                  <a:lnTo>
                    <a:pt x="150" y="145"/>
                  </a:lnTo>
                  <a:lnTo>
                    <a:pt x="152" y="129"/>
                  </a:lnTo>
                  <a:lnTo>
                    <a:pt x="150" y="111"/>
                  </a:lnTo>
                  <a:lnTo>
                    <a:pt x="146" y="9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04720" y="4292640"/>
              <a:ext cx="238320" cy="284040"/>
            </a:xfrm>
            <a:custGeom>
              <a:avLst/>
              <a:gdLst/>
              <a:ahLst/>
              <a:rect l="l" t="t" r="r" b="b"/>
              <a:pathLst>
                <a:path w="150" h="179">
                  <a:moveTo>
                    <a:pt x="144" y="92"/>
                  </a:moveTo>
                  <a:lnTo>
                    <a:pt x="142" y="82"/>
                  </a:lnTo>
                  <a:lnTo>
                    <a:pt x="139" y="73"/>
                  </a:lnTo>
                  <a:lnTo>
                    <a:pt x="135" y="64"/>
                  </a:lnTo>
                  <a:lnTo>
                    <a:pt x="130" y="55"/>
                  </a:lnTo>
                  <a:lnTo>
                    <a:pt x="125" y="47"/>
                  </a:lnTo>
                  <a:lnTo>
                    <a:pt x="121" y="39"/>
                  </a:lnTo>
                  <a:lnTo>
                    <a:pt x="115" y="32"/>
                  </a:lnTo>
                  <a:lnTo>
                    <a:pt x="109" y="26"/>
                  </a:lnTo>
                  <a:lnTo>
                    <a:pt x="103" y="21"/>
                  </a:lnTo>
                  <a:lnTo>
                    <a:pt x="97" y="16"/>
                  </a:lnTo>
                  <a:lnTo>
                    <a:pt x="90" y="13"/>
                  </a:lnTo>
                  <a:lnTo>
                    <a:pt x="82" y="9"/>
                  </a:lnTo>
                  <a:lnTo>
                    <a:pt x="75" y="6"/>
                  </a:lnTo>
                  <a:lnTo>
                    <a:pt x="68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55" y="28"/>
                  </a:lnTo>
                  <a:lnTo>
                    <a:pt x="63" y="31"/>
                  </a:lnTo>
                  <a:lnTo>
                    <a:pt x="73" y="36"/>
                  </a:lnTo>
                  <a:lnTo>
                    <a:pt x="82" y="40"/>
                  </a:lnTo>
                  <a:lnTo>
                    <a:pt x="90" y="47"/>
                  </a:lnTo>
                  <a:lnTo>
                    <a:pt x="96" y="57"/>
                  </a:lnTo>
                  <a:lnTo>
                    <a:pt x="102" y="67"/>
                  </a:lnTo>
                  <a:lnTo>
                    <a:pt x="106" y="79"/>
                  </a:lnTo>
                  <a:lnTo>
                    <a:pt x="110" y="91"/>
                  </a:lnTo>
                  <a:lnTo>
                    <a:pt x="112" y="102"/>
                  </a:lnTo>
                  <a:lnTo>
                    <a:pt x="115" y="113"/>
                  </a:lnTo>
                  <a:lnTo>
                    <a:pt x="115" y="124"/>
                  </a:lnTo>
                  <a:lnTo>
                    <a:pt x="113" y="134"/>
                  </a:lnTo>
                  <a:lnTo>
                    <a:pt x="111" y="141"/>
                  </a:lnTo>
                  <a:lnTo>
                    <a:pt x="106" y="147"/>
                  </a:lnTo>
                  <a:lnTo>
                    <a:pt x="100" y="149"/>
                  </a:lnTo>
                  <a:lnTo>
                    <a:pt x="92" y="150"/>
                  </a:lnTo>
                  <a:lnTo>
                    <a:pt x="84" y="148"/>
                  </a:lnTo>
                  <a:lnTo>
                    <a:pt x="75" y="144"/>
                  </a:lnTo>
                  <a:lnTo>
                    <a:pt x="68" y="140"/>
                  </a:lnTo>
                  <a:lnTo>
                    <a:pt x="61" y="131"/>
                  </a:lnTo>
                  <a:lnTo>
                    <a:pt x="54" y="122"/>
                  </a:lnTo>
                  <a:lnTo>
                    <a:pt x="49" y="111"/>
                  </a:lnTo>
                  <a:lnTo>
                    <a:pt x="43" y="100"/>
                  </a:lnTo>
                  <a:lnTo>
                    <a:pt x="39" y="88"/>
                  </a:lnTo>
                  <a:lnTo>
                    <a:pt x="37" y="76"/>
                  </a:lnTo>
                  <a:lnTo>
                    <a:pt x="35" y="64"/>
                  </a:lnTo>
                  <a:lnTo>
                    <a:pt x="35" y="55"/>
                  </a:lnTo>
                  <a:lnTo>
                    <a:pt x="36" y="45"/>
                  </a:lnTo>
                  <a:lnTo>
                    <a:pt x="38" y="38"/>
                  </a:lnTo>
                  <a:lnTo>
                    <a:pt x="42" y="33"/>
                  </a:lnTo>
                  <a:lnTo>
                    <a:pt x="48" y="30"/>
                  </a:lnTo>
                  <a:lnTo>
                    <a:pt x="55" y="28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5" y="1"/>
                  </a:lnTo>
                  <a:lnTo>
                    <a:pt x="27" y="3"/>
                  </a:lnTo>
                  <a:lnTo>
                    <a:pt x="23" y="6"/>
                  </a:lnTo>
                  <a:lnTo>
                    <a:pt x="17" y="8"/>
                  </a:lnTo>
                  <a:lnTo>
                    <a:pt x="12" y="13"/>
                  </a:lnTo>
                  <a:lnTo>
                    <a:pt x="8" y="16"/>
                  </a:lnTo>
                  <a:lnTo>
                    <a:pt x="5" y="22"/>
                  </a:lnTo>
                  <a:lnTo>
                    <a:pt x="1" y="36"/>
                  </a:lnTo>
                  <a:lnTo>
                    <a:pt x="0" y="50"/>
                  </a:lnTo>
                  <a:lnTo>
                    <a:pt x="1" y="67"/>
                  </a:lnTo>
                  <a:lnTo>
                    <a:pt x="5" y="86"/>
                  </a:lnTo>
                  <a:lnTo>
                    <a:pt x="7" y="95"/>
                  </a:lnTo>
                  <a:lnTo>
                    <a:pt x="11" y="105"/>
                  </a:lnTo>
                  <a:lnTo>
                    <a:pt x="14" y="113"/>
                  </a:lnTo>
                  <a:lnTo>
                    <a:pt x="19" y="122"/>
                  </a:lnTo>
                  <a:lnTo>
                    <a:pt x="24" y="130"/>
                  </a:lnTo>
                  <a:lnTo>
                    <a:pt x="30" y="138"/>
                  </a:lnTo>
                  <a:lnTo>
                    <a:pt x="36" y="145"/>
                  </a:lnTo>
                  <a:lnTo>
                    <a:pt x="42" y="151"/>
                  </a:lnTo>
                  <a:lnTo>
                    <a:pt x="48" y="157"/>
                  </a:lnTo>
                  <a:lnTo>
                    <a:pt x="55" y="162"/>
                  </a:lnTo>
                  <a:lnTo>
                    <a:pt x="62" y="167"/>
                  </a:lnTo>
                  <a:lnTo>
                    <a:pt x="69" y="171"/>
                  </a:lnTo>
                  <a:lnTo>
                    <a:pt x="76" y="174"/>
                  </a:lnTo>
                  <a:lnTo>
                    <a:pt x="85" y="177"/>
                  </a:lnTo>
                  <a:lnTo>
                    <a:pt x="92" y="178"/>
                  </a:lnTo>
                  <a:lnTo>
                    <a:pt x="100" y="179"/>
                  </a:lnTo>
                  <a:lnTo>
                    <a:pt x="109" y="179"/>
                  </a:lnTo>
                  <a:lnTo>
                    <a:pt x="116" y="178"/>
                  </a:lnTo>
                  <a:lnTo>
                    <a:pt x="122" y="177"/>
                  </a:lnTo>
                  <a:lnTo>
                    <a:pt x="128" y="174"/>
                  </a:lnTo>
                  <a:lnTo>
                    <a:pt x="133" y="171"/>
                  </a:lnTo>
                  <a:lnTo>
                    <a:pt x="137" y="167"/>
                  </a:lnTo>
                  <a:lnTo>
                    <a:pt x="141" y="162"/>
                  </a:lnTo>
                  <a:lnTo>
                    <a:pt x="144" y="156"/>
                  </a:lnTo>
                  <a:lnTo>
                    <a:pt x="149" y="143"/>
                  </a:lnTo>
                  <a:lnTo>
                    <a:pt x="150" y="129"/>
                  </a:lnTo>
                  <a:lnTo>
                    <a:pt x="149" y="111"/>
                  </a:lnTo>
                  <a:lnTo>
                    <a:pt x="144" y="9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95280" y="3110040"/>
              <a:ext cx="304920" cy="515880"/>
            </a:xfrm>
            <a:custGeom>
              <a:avLst/>
              <a:gdLst/>
              <a:ahLst/>
              <a:rect l="l" t="t" r="r" b="b"/>
              <a:pathLst>
                <a:path w="192" h="325">
                  <a:moveTo>
                    <a:pt x="187" y="204"/>
                  </a:moveTo>
                  <a:lnTo>
                    <a:pt x="184" y="194"/>
                  </a:lnTo>
                  <a:lnTo>
                    <a:pt x="180" y="184"/>
                  </a:lnTo>
                  <a:lnTo>
                    <a:pt x="176" y="175"/>
                  </a:lnTo>
                  <a:lnTo>
                    <a:pt x="172" y="166"/>
                  </a:lnTo>
                  <a:lnTo>
                    <a:pt x="167" y="159"/>
                  </a:lnTo>
                  <a:lnTo>
                    <a:pt x="161" y="153"/>
                  </a:lnTo>
                  <a:lnTo>
                    <a:pt x="155" y="147"/>
                  </a:lnTo>
                  <a:lnTo>
                    <a:pt x="149" y="142"/>
                  </a:lnTo>
                  <a:lnTo>
                    <a:pt x="144" y="139"/>
                  </a:lnTo>
                  <a:lnTo>
                    <a:pt x="138" y="136"/>
                  </a:lnTo>
                  <a:lnTo>
                    <a:pt x="133" y="134"/>
                  </a:lnTo>
                  <a:lnTo>
                    <a:pt x="128" y="132"/>
                  </a:lnTo>
                  <a:lnTo>
                    <a:pt x="123" y="130"/>
                  </a:lnTo>
                  <a:lnTo>
                    <a:pt x="117" y="130"/>
                  </a:lnTo>
                  <a:lnTo>
                    <a:pt x="112" y="129"/>
                  </a:lnTo>
                  <a:lnTo>
                    <a:pt x="106" y="129"/>
                  </a:lnTo>
                  <a:lnTo>
                    <a:pt x="101" y="164"/>
                  </a:lnTo>
                  <a:lnTo>
                    <a:pt x="102" y="165"/>
                  </a:lnTo>
                  <a:lnTo>
                    <a:pt x="105" y="166"/>
                  </a:lnTo>
                  <a:lnTo>
                    <a:pt x="106" y="169"/>
                  </a:lnTo>
                  <a:lnTo>
                    <a:pt x="107" y="170"/>
                  </a:lnTo>
                  <a:lnTo>
                    <a:pt x="113" y="181"/>
                  </a:lnTo>
                  <a:lnTo>
                    <a:pt x="120" y="196"/>
                  </a:lnTo>
                  <a:lnTo>
                    <a:pt x="128" y="216"/>
                  </a:lnTo>
                  <a:lnTo>
                    <a:pt x="133" y="240"/>
                  </a:lnTo>
                  <a:lnTo>
                    <a:pt x="137" y="257"/>
                  </a:lnTo>
                  <a:lnTo>
                    <a:pt x="141" y="270"/>
                  </a:lnTo>
                  <a:lnTo>
                    <a:pt x="142" y="281"/>
                  </a:lnTo>
                  <a:lnTo>
                    <a:pt x="143" y="288"/>
                  </a:lnTo>
                  <a:lnTo>
                    <a:pt x="142" y="296"/>
                  </a:lnTo>
                  <a:lnTo>
                    <a:pt x="138" y="304"/>
                  </a:lnTo>
                  <a:lnTo>
                    <a:pt x="133" y="308"/>
                  </a:lnTo>
                  <a:lnTo>
                    <a:pt x="126" y="311"/>
                  </a:lnTo>
                  <a:lnTo>
                    <a:pt x="120" y="311"/>
                  </a:lnTo>
                  <a:lnTo>
                    <a:pt x="114" y="310"/>
                  </a:lnTo>
                  <a:lnTo>
                    <a:pt x="110" y="307"/>
                  </a:lnTo>
                  <a:lnTo>
                    <a:pt x="106" y="304"/>
                  </a:lnTo>
                  <a:lnTo>
                    <a:pt x="99" y="294"/>
                  </a:lnTo>
                  <a:lnTo>
                    <a:pt x="92" y="282"/>
                  </a:lnTo>
                  <a:lnTo>
                    <a:pt x="87" y="268"/>
                  </a:lnTo>
                  <a:lnTo>
                    <a:pt x="81" y="251"/>
                  </a:lnTo>
                  <a:lnTo>
                    <a:pt x="79" y="243"/>
                  </a:lnTo>
                  <a:lnTo>
                    <a:pt x="76" y="233"/>
                  </a:lnTo>
                  <a:lnTo>
                    <a:pt x="73" y="222"/>
                  </a:lnTo>
                  <a:lnTo>
                    <a:pt x="70" y="212"/>
                  </a:lnTo>
                  <a:lnTo>
                    <a:pt x="69" y="206"/>
                  </a:lnTo>
                  <a:lnTo>
                    <a:pt x="68" y="201"/>
                  </a:lnTo>
                  <a:lnTo>
                    <a:pt x="67" y="195"/>
                  </a:lnTo>
                  <a:lnTo>
                    <a:pt x="65" y="190"/>
                  </a:lnTo>
                  <a:lnTo>
                    <a:pt x="64" y="185"/>
                  </a:lnTo>
                  <a:lnTo>
                    <a:pt x="63" y="181"/>
                  </a:lnTo>
                  <a:lnTo>
                    <a:pt x="63" y="177"/>
                  </a:lnTo>
                  <a:lnTo>
                    <a:pt x="62" y="175"/>
                  </a:lnTo>
                  <a:lnTo>
                    <a:pt x="62" y="170"/>
                  </a:lnTo>
                  <a:lnTo>
                    <a:pt x="62" y="166"/>
                  </a:lnTo>
                  <a:lnTo>
                    <a:pt x="62" y="164"/>
                  </a:lnTo>
                  <a:lnTo>
                    <a:pt x="63" y="161"/>
                  </a:lnTo>
                  <a:lnTo>
                    <a:pt x="64" y="159"/>
                  </a:lnTo>
                  <a:lnTo>
                    <a:pt x="68" y="157"/>
                  </a:lnTo>
                  <a:lnTo>
                    <a:pt x="71" y="155"/>
                  </a:lnTo>
                  <a:lnTo>
                    <a:pt x="76" y="154"/>
                  </a:lnTo>
                  <a:lnTo>
                    <a:pt x="82" y="153"/>
                  </a:lnTo>
                  <a:lnTo>
                    <a:pt x="89" y="153"/>
                  </a:lnTo>
                  <a:lnTo>
                    <a:pt x="95" y="157"/>
                  </a:lnTo>
                  <a:lnTo>
                    <a:pt x="101" y="164"/>
                  </a:lnTo>
                  <a:lnTo>
                    <a:pt x="106" y="129"/>
                  </a:lnTo>
                  <a:lnTo>
                    <a:pt x="104" y="129"/>
                  </a:lnTo>
                  <a:lnTo>
                    <a:pt x="99" y="129"/>
                  </a:lnTo>
                  <a:lnTo>
                    <a:pt x="95" y="130"/>
                  </a:lnTo>
                  <a:lnTo>
                    <a:pt x="93" y="130"/>
                  </a:lnTo>
                  <a:lnTo>
                    <a:pt x="88" y="132"/>
                  </a:lnTo>
                  <a:lnTo>
                    <a:pt x="83" y="133"/>
                  </a:lnTo>
                  <a:lnTo>
                    <a:pt x="79" y="135"/>
                  </a:lnTo>
                  <a:lnTo>
                    <a:pt x="74" y="138"/>
                  </a:lnTo>
                  <a:lnTo>
                    <a:pt x="71" y="139"/>
                  </a:lnTo>
                  <a:lnTo>
                    <a:pt x="68" y="140"/>
                  </a:lnTo>
                  <a:lnTo>
                    <a:pt x="65" y="142"/>
                  </a:lnTo>
                  <a:lnTo>
                    <a:pt x="62" y="144"/>
                  </a:lnTo>
                  <a:lnTo>
                    <a:pt x="61" y="142"/>
                  </a:lnTo>
                  <a:lnTo>
                    <a:pt x="61" y="120"/>
                  </a:lnTo>
                  <a:lnTo>
                    <a:pt x="64" y="98"/>
                  </a:lnTo>
                  <a:lnTo>
                    <a:pt x="69" y="79"/>
                  </a:lnTo>
                  <a:lnTo>
                    <a:pt x="77" y="62"/>
                  </a:lnTo>
                  <a:lnTo>
                    <a:pt x="82" y="54"/>
                  </a:lnTo>
                  <a:lnTo>
                    <a:pt x="88" y="47"/>
                  </a:lnTo>
                  <a:lnTo>
                    <a:pt x="95" y="40"/>
                  </a:lnTo>
                  <a:lnTo>
                    <a:pt x="101" y="32"/>
                  </a:lnTo>
                  <a:lnTo>
                    <a:pt x="110" y="26"/>
                  </a:lnTo>
                  <a:lnTo>
                    <a:pt x="118" y="22"/>
                  </a:lnTo>
                  <a:lnTo>
                    <a:pt x="126" y="17"/>
                  </a:lnTo>
                  <a:lnTo>
                    <a:pt x="136" y="12"/>
                  </a:lnTo>
                  <a:lnTo>
                    <a:pt x="133" y="0"/>
                  </a:lnTo>
                  <a:lnTo>
                    <a:pt x="116" y="6"/>
                  </a:lnTo>
                  <a:lnTo>
                    <a:pt x="100" y="13"/>
                  </a:lnTo>
                  <a:lnTo>
                    <a:pt x="85" y="20"/>
                  </a:lnTo>
                  <a:lnTo>
                    <a:pt x="71" y="30"/>
                  </a:lnTo>
                  <a:lnTo>
                    <a:pt x="58" y="40"/>
                  </a:lnTo>
                  <a:lnTo>
                    <a:pt x="46" y="51"/>
                  </a:lnTo>
                  <a:lnTo>
                    <a:pt x="36" y="63"/>
                  </a:lnTo>
                  <a:lnTo>
                    <a:pt x="26" y="77"/>
                  </a:lnTo>
                  <a:lnTo>
                    <a:pt x="9" y="108"/>
                  </a:lnTo>
                  <a:lnTo>
                    <a:pt x="1" y="142"/>
                  </a:lnTo>
                  <a:lnTo>
                    <a:pt x="0" y="178"/>
                  </a:lnTo>
                  <a:lnTo>
                    <a:pt x="6" y="218"/>
                  </a:lnTo>
                  <a:lnTo>
                    <a:pt x="10" y="232"/>
                  </a:lnTo>
                  <a:lnTo>
                    <a:pt x="15" y="244"/>
                  </a:lnTo>
                  <a:lnTo>
                    <a:pt x="20" y="257"/>
                  </a:lnTo>
                  <a:lnTo>
                    <a:pt x="26" y="268"/>
                  </a:lnTo>
                  <a:lnTo>
                    <a:pt x="32" y="277"/>
                  </a:lnTo>
                  <a:lnTo>
                    <a:pt x="39" y="287"/>
                  </a:lnTo>
                  <a:lnTo>
                    <a:pt x="47" y="295"/>
                  </a:lnTo>
                  <a:lnTo>
                    <a:pt x="56" y="302"/>
                  </a:lnTo>
                  <a:lnTo>
                    <a:pt x="64" y="310"/>
                  </a:lnTo>
                  <a:lnTo>
                    <a:pt x="73" y="314"/>
                  </a:lnTo>
                  <a:lnTo>
                    <a:pt x="82" y="319"/>
                  </a:lnTo>
                  <a:lnTo>
                    <a:pt x="90" y="322"/>
                  </a:lnTo>
                  <a:lnTo>
                    <a:pt x="100" y="324"/>
                  </a:lnTo>
                  <a:lnTo>
                    <a:pt x="108" y="325"/>
                  </a:lnTo>
                  <a:lnTo>
                    <a:pt x="118" y="324"/>
                  </a:lnTo>
                  <a:lnTo>
                    <a:pt x="128" y="323"/>
                  </a:lnTo>
                  <a:lnTo>
                    <a:pt x="136" y="322"/>
                  </a:lnTo>
                  <a:lnTo>
                    <a:pt x="143" y="318"/>
                  </a:lnTo>
                  <a:lnTo>
                    <a:pt x="151" y="314"/>
                  </a:lnTo>
                  <a:lnTo>
                    <a:pt x="157" y="311"/>
                  </a:lnTo>
                  <a:lnTo>
                    <a:pt x="165" y="305"/>
                  </a:lnTo>
                  <a:lnTo>
                    <a:pt x="171" y="300"/>
                  </a:lnTo>
                  <a:lnTo>
                    <a:pt x="175" y="293"/>
                  </a:lnTo>
                  <a:lnTo>
                    <a:pt x="180" y="286"/>
                  </a:lnTo>
                  <a:lnTo>
                    <a:pt x="188" y="269"/>
                  </a:lnTo>
                  <a:lnTo>
                    <a:pt x="192" y="250"/>
                  </a:lnTo>
                  <a:lnTo>
                    <a:pt x="192" y="228"/>
                  </a:lnTo>
                  <a:lnTo>
                    <a:pt x="187" y="20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35160" y="3354480"/>
              <a:ext cx="249120" cy="366480"/>
            </a:xfrm>
            <a:custGeom>
              <a:avLst/>
              <a:gdLst/>
              <a:ahLst/>
              <a:rect l="l" t="t" r="r" b="b"/>
              <a:pathLst>
                <a:path w="157" h="231">
                  <a:moveTo>
                    <a:pt x="116" y="169"/>
                  </a:moveTo>
                  <a:lnTo>
                    <a:pt x="117" y="171"/>
                  </a:lnTo>
                  <a:lnTo>
                    <a:pt x="118" y="172"/>
                  </a:lnTo>
                  <a:lnTo>
                    <a:pt x="118" y="175"/>
                  </a:lnTo>
                  <a:lnTo>
                    <a:pt x="119" y="177"/>
                  </a:lnTo>
                  <a:lnTo>
                    <a:pt x="122" y="187"/>
                  </a:lnTo>
                  <a:lnTo>
                    <a:pt x="122" y="195"/>
                  </a:lnTo>
                  <a:lnTo>
                    <a:pt x="120" y="202"/>
                  </a:lnTo>
                  <a:lnTo>
                    <a:pt x="118" y="207"/>
                  </a:lnTo>
                  <a:lnTo>
                    <a:pt x="116" y="212"/>
                  </a:lnTo>
                  <a:lnTo>
                    <a:pt x="112" y="215"/>
                  </a:lnTo>
                  <a:lnTo>
                    <a:pt x="108" y="218"/>
                  </a:lnTo>
                  <a:lnTo>
                    <a:pt x="104" y="219"/>
                  </a:lnTo>
                  <a:lnTo>
                    <a:pt x="95" y="219"/>
                  </a:lnTo>
                  <a:lnTo>
                    <a:pt x="87" y="217"/>
                  </a:lnTo>
                  <a:lnTo>
                    <a:pt x="80" y="212"/>
                  </a:lnTo>
                  <a:lnTo>
                    <a:pt x="74" y="203"/>
                  </a:lnTo>
                  <a:lnTo>
                    <a:pt x="70" y="197"/>
                  </a:lnTo>
                  <a:lnTo>
                    <a:pt x="68" y="193"/>
                  </a:lnTo>
                  <a:lnTo>
                    <a:pt x="65" y="187"/>
                  </a:lnTo>
                  <a:lnTo>
                    <a:pt x="63" y="180"/>
                  </a:lnTo>
                  <a:lnTo>
                    <a:pt x="62" y="172"/>
                  </a:lnTo>
                  <a:lnTo>
                    <a:pt x="61" y="165"/>
                  </a:lnTo>
                  <a:lnTo>
                    <a:pt x="61" y="158"/>
                  </a:lnTo>
                  <a:lnTo>
                    <a:pt x="61" y="152"/>
                  </a:lnTo>
                  <a:lnTo>
                    <a:pt x="61" y="147"/>
                  </a:lnTo>
                  <a:lnTo>
                    <a:pt x="62" y="142"/>
                  </a:lnTo>
                  <a:lnTo>
                    <a:pt x="64" y="137"/>
                  </a:lnTo>
                  <a:lnTo>
                    <a:pt x="65" y="129"/>
                  </a:lnTo>
                  <a:lnTo>
                    <a:pt x="77" y="134"/>
                  </a:lnTo>
                  <a:lnTo>
                    <a:pt x="86" y="139"/>
                  </a:lnTo>
                  <a:lnTo>
                    <a:pt x="93" y="144"/>
                  </a:lnTo>
                  <a:lnTo>
                    <a:pt x="99" y="147"/>
                  </a:lnTo>
                  <a:lnTo>
                    <a:pt x="105" y="152"/>
                  </a:lnTo>
                  <a:lnTo>
                    <a:pt x="110" y="157"/>
                  </a:lnTo>
                  <a:lnTo>
                    <a:pt x="113" y="163"/>
                  </a:lnTo>
                  <a:lnTo>
                    <a:pt x="116" y="169"/>
                  </a:lnTo>
                  <a:lnTo>
                    <a:pt x="157" y="169"/>
                  </a:lnTo>
                  <a:lnTo>
                    <a:pt x="156" y="164"/>
                  </a:lnTo>
                  <a:lnTo>
                    <a:pt x="156" y="159"/>
                  </a:lnTo>
                  <a:lnTo>
                    <a:pt x="156" y="156"/>
                  </a:lnTo>
                  <a:lnTo>
                    <a:pt x="155" y="151"/>
                  </a:lnTo>
                  <a:lnTo>
                    <a:pt x="151" y="140"/>
                  </a:lnTo>
                  <a:lnTo>
                    <a:pt x="145" y="129"/>
                  </a:lnTo>
                  <a:lnTo>
                    <a:pt x="139" y="121"/>
                  </a:lnTo>
                  <a:lnTo>
                    <a:pt x="131" y="113"/>
                  </a:lnTo>
                  <a:lnTo>
                    <a:pt x="129" y="110"/>
                  </a:lnTo>
                  <a:lnTo>
                    <a:pt x="125" y="108"/>
                  </a:lnTo>
                  <a:lnTo>
                    <a:pt x="122" y="105"/>
                  </a:lnTo>
                  <a:lnTo>
                    <a:pt x="117" y="103"/>
                  </a:lnTo>
                  <a:lnTo>
                    <a:pt x="112" y="99"/>
                  </a:lnTo>
                  <a:lnTo>
                    <a:pt x="107" y="97"/>
                  </a:lnTo>
                  <a:lnTo>
                    <a:pt x="101" y="95"/>
                  </a:lnTo>
                  <a:lnTo>
                    <a:pt x="95" y="91"/>
                  </a:lnTo>
                  <a:lnTo>
                    <a:pt x="95" y="89"/>
                  </a:lnTo>
                  <a:lnTo>
                    <a:pt x="101" y="84"/>
                  </a:lnTo>
                  <a:lnTo>
                    <a:pt x="107" y="79"/>
                  </a:lnTo>
                  <a:lnTo>
                    <a:pt x="111" y="76"/>
                  </a:lnTo>
                  <a:lnTo>
                    <a:pt x="114" y="71"/>
                  </a:lnTo>
                  <a:lnTo>
                    <a:pt x="117" y="67"/>
                  </a:lnTo>
                  <a:lnTo>
                    <a:pt x="118" y="64"/>
                  </a:lnTo>
                  <a:lnTo>
                    <a:pt x="120" y="61"/>
                  </a:lnTo>
                  <a:lnTo>
                    <a:pt x="122" y="58"/>
                  </a:lnTo>
                  <a:lnTo>
                    <a:pt x="89" y="58"/>
                  </a:lnTo>
                  <a:lnTo>
                    <a:pt x="89" y="60"/>
                  </a:lnTo>
                  <a:lnTo>
                    <a:pt x="89" y="62"/>
                  </a:lnTo>
                  <a:lnTo>
                    <a:pt x="89" y="66"/>
                  </a:lnTo>
                  <a:lnTo>
                    <a:pt x="89" y="68"/>
                  </a:lnTo>
                  <a:lnTo>
                    <a:pt x="89" y="72"/>
                  </a:lnTo>
                  <a:lnTo>
                    <a:pt x="88" y="76"/>
                  </a:lnTo>
                  <a:lnTo>
                    <a:pt x="86" y="80"/>
                  </a:lnTo>
                  <a:lnTo>
                    <a:pt x="85" y="85"/>
                  </a:lnTo>
                  <a:lnTo>
                    <a:pt x="79" y="83"/>
                  </a:lnTo>
                  <a:lnTo>
                    <a:pt x="73" y="80"/>
                  </a:lnTo>
                  <a:lnTo>
                    <a:pt x="65" y="78"/>
                  </a:lnTo>
                  <a:lnTo>
                    <a:pt x="59" y="74"/>
                  </a:lnTo>
                  <a:lnTo>
                    <a:pt x="51" y="67"/>
                  </a:lnTo>
                  <a:lnTo>
                    <a:pt x="44" y="60"/>
                  </a:lnTo>
                  <a:lnTo>
                    <a:pt x="38" y="52"/>
                  </a:lnTo>
                  <a:lnTo>
                    <a:pt x="34" y="43"/>
                  </a:lnTo>
                  <a:lnTo>
                    <a:pt x="33" y="39"/>
                  </a:lnTo>
                  <a:lnTo>
                    <a:pt x="33" y="33"/>
                  </a:lnTo>
                  <a:lnTo>
                    <a:pt x="34" y="28"/>
                  </a:lnTo>
                  <a:lnTo>
                    <a:pt x="37" y="23"/>
                  </a:lnTo>
                  <a:lnTo>
                    <a:pt x="39" y="19"/>
                  </a:lnTo>
                  <a:lnTo>
                    <a:pt x="43" y="16"/>
                  </a:lnTo>
                  <a:lnTo>
                    <a:pt x="46" y="13"/>
                  </a:lnTo>
                  <a:lnTo>
                    <a:pt x="51" y="12"/>
                  </a:lnTo>
                  <a:lnTo>
                    <a:pt x="58" y="11"/>
                  </a:lnTo>
                  <a:lnTo>
                    <a:pt x="64" y="12"/>
                  </a:lnTo>
                  <a:lnTo>
                    <a:pt x="69" y="15"/>
                  </a:lnTo>
                  <a:lnTo>
                    <a:pt x="74" y="19"/>
                  </a:lnTo>
                  <a:lnTo>
                    <a:pt x="79" y="25"/>
                  </a:lnTo>
                  <a:lnTo>
                    <a:pt x="82" y="31"/>
                  </a:lnTo>
                  <a:lnTo>
                    <a:pt x="85" y="39"/>
                  </a:lnTo>
                  <a:lnTo>
                    <a:pt x="87" y="47"/>
                  </a:lnTo>
                  <a:lnTo>
                    <a:pt x="88" y="49"/>
                  </a:lnTo>
                  <a:lnTo>
                    <a:pt x="88" y="52"/>
                  </a:lnTo>
                  <a:lnTo>
                    <a:pt x="89" y="55"/>
                  </a:lnTo>
                  <a:lnTo>
                    <a:pt x="89" y="58"/>
                  </a:lnTo>
                  <a:lnTo>
                    <a:pt x="122" y="58"/>
                  </a:lnTo>
                  <a:lnTo>
                    <a:pt x="123" y="52"/>
                  </a:lnTo>
                  <a:lnTo>
                    <a:pt x="123" y="47"/>
                  </a:lnTo>
                  <a:lnTo>
                    <a:pt x="123" y="41"/>
                  </a:lnTo>
                  <a:lnTo>
                    <a:pt x="122" y="36"/>
                  </a:lnTo>
                  <a:lnTo>
                    <a:pt x="118" y="28"/>
                  </a:lnTo>
                  <a:lnTo>
                    <a:pt x="113" y="19"/>
                  </a:lnTo>
                  <a:lnTo>
                    <a:pt x="107" y="13"/>
                  </a:lnTo>
                  <a:lnTo>
                    <a:pt x="99" y="7"/>
                  </a:lnTo>
                  <a:lnTo>
                    <a:pt x="94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4" y="1"/>
                  </a:lnTo>
                  <a:lnTo>
                    <a:pt x="46" y="3"/>
                  </a:lnTo>
                  <a:lnTo>
                    <a:pt x="39" y="5"/>
                  </a:lnTo>
                  <a:lnTo>
                    <a:pt x="33" y="7"/>
                  </a:lnTo>
                  <a:lnTo>
                    <a:pt x="27" y="11"/>
                  </a:lnTo>
                  <a:lnTo>
                    <a:pt x="22" y="15"/>
                  </a:lnTo>
                  <a:lnTo>
                    <a:pt x="18" y="18"/>
                  </a:lnTo>
                  <a:lnTo>
                    <a:pt x="14" y="23"/>
                  </a:lnTo>
                  <a:lnTo>
                    <a:pt x="11" y="28"/>
                  </a:lnTo>
                  <a:lnTo>
                    <a:pt x="5" y="37"/>
                  </a:lnTo>
                  <a:lnTo>
                    <a:pt x="1" y="48"/>
                  </a:lnTo>
                  <a:lnTo>
                    <a:pt x="0" y="59"/>
                  </a:lnTo>
                  <a:lnTo>
                    <a:pt x="2" y="71"/>
                  </a:lnTo>
                  <a:lnTo>
                    <a:pt x="5" y="79"/>
                  </a:lnTo>
                  <a:lnTo>
                    <a:pt x="8" y="86"/>
                  </a:lnTo>
                  <a:lnTo>
                    <a:pt x="13" y="95"/>
                  </a:lnTo>
                  <a:lnTo>
                    <a:pt x="20" y="102"/>
                  </a:lnTo>
                  <a:lnTo>
                    <a:pt x="24" y="105"/>
                  </a:lnTo>
                  <a:lnTo>
                    <a:pt x="28" y="109"/>
                  </a:lnTo>
                  <a:lnTo>
                    <a:pt x="33" y="113"/>
                  </a:lnTo>
                  <a:lnTo>
                    <a:pt x="39" y="116"/>
                  </a:lnTo>
                  <a:lnTo>
                    <a:pt x="45" y="120"/>
                  </a:lnTo>
                  <a:lnTo>
                    <a:pt x="49" y="121"/>
                  </a:lnTo>
                  <a:lnTo>
                    <a:pt x="52" y="123"/>
                  </a:lnTo>
                  <a:lnTo>
                    <a:pt x="55" y="123"/>
                  </a:lnTo>
                  <a:lnTo>
                    <a:pt x="56" y="126"/>
                  </a:lnTo>
                  <a:lnTo>
                    <a:pt x="49" y="131"/>
                  </a:lnTo>
                  <a:lnTo>
                    <a:pt x="44" y="135"/>
                  </a:lnTo>
                  <a:lnTo>
                    <a:pt x="38" y="140"/>
                  </a:lnTo>
                  <a:lnTo>
                    <a:pt x="34" y="145"/>
                  </a:lnTo>
                  <a:lnTo>
                    <a:pt x="30" y="154"/>
                  </a:lnTo>
                  <a:lnTo>
                    <a:pt x="27" y="164"/>
                  </a:lnTo>
                  <a:lnTo>
                    <a:pt x="27" y="176"/>
                  </a:lnTo>
                  <a:lnTo>
                    <a:pt x="28" y="188"/>
                  </a:lnTo>
                  <a:lnTo>
                    <a:pt x="33" y="200"/>
                  </a:lnTo>
                  <a:lnTo>
                    <a:pt x="39" y="211"/>
                  </a:lnTo>
                  <a:lnTo>
                    <a:pt x="48" y="219"/>
                  </a:lnTo>
                  <a:lnTo>
                    <a:pt x="58" y="225"/>
                  </a:lnTo>
                  <a:lnTo>
                    <a:pt x="64" y="227"/>
                  </a:lnTo>
                  <a:lnTo>
                    <a:pt x="69" y="229"/>
                  </a:lnTo>
                  <a:lnTo>
                    <a:pt x="75" y="230"/>
                  </a:lnTo>
                  <a:lnTo>
                    <a:pt x="81" y="231"/>
                  </a:lnTo>
                  <a:lnTo>
                    <a:pt x="86" y="231"/>
                  </a:lnTo>
                  <a:lnTo>
                    <a:pt x="92" y="231"/>
                  </a:lnTo>
                  <a:lnTo>
                    <a:pt x="97" y="231"/>
                  </a:lnTo>
                  <a:lnTo>
                    <a:pt x="102" y="230"/>
                  </a:lnTo>
                  <a:lnTo>
                    <a:pt x="110" y="229"/>
                  </a:lnTo>
                  <a:lnTo>
                    <a:pt x="117" y="226"/>
                  </a:lnTo>
                  <a:lnTo>
                    <a:pt x="123" y="224"/>
                  </a:lnTo>
                  <a:lnTo>
                    <a:pt x="129" y="220"/>
                  </a:lnTo>
                  <a:lnTo>
                    <a:pt x="135" y="217"/>
                  </a:lnTo>
                  <a:lnTo>
                    <a:pt x="139" y="213"/>
                  </a:lnTo>
                  <a:lnTo>
                    <a:pt x="143" y="208"/>
                  </a:lnTo>
                  <a:lnTo>
                    <a:pt x="148" y="203"/>
                  </a:lnTo>
                  <a:lnTo>
                    <a:pt x="151" y="195"/>
                  </a:lnTo>
                  <a:lnTo>
                    <a:pt x="155" y="187"/>
                  </a:lnTo>
                  <a:lnTo>
                    <a:pt x="156" y="178"/>
                  </a:lnTo>
                  <a:lnTo>
                    <a:pt x="157" y="169"/>
                  </a:lnTo>
                  <a:lnTo>
                    <a:pt x="116" y="16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0240" y="4064040"/>
              <a:ext cx="1719360" cy="387360"/>
            </a:xfrm>
            <a:custGeom>
              <a:avLst/>
              <a:gdLst/>
              <a:ahLst/>
              <a:rect l="l" t="t" r="r" b="b"/>
              <a:pathLst>
                <a:path w="1083" h="244">
                  <a:moveTo>
                    <a:pt x="688" y="144"/>
                  </a:moveTo>
                  <a:lnTo>
                    <a:pt x="626" y="159"/>
                  </a:lnTo>
                  <a:lnTo>
                    <a:pt x="563" y="172"/>
                  </a:lnTo>
                  <a:lnTo>
                    <a:pt x="505" y="184"/>
                  </a:lnTo>
                  <a:lnTo>
                    <a:pt x="448" y="195"/>
                  </a:lnTo>
                  <a:lnTo>
                    <a:pt x="393" y="203"/>
                  </a:lnTo>
                  <a:lnTo>
                    <a:pt x="341" y="211"/>
                  </a:lnTo>
                  <a:lnTo>
                    <a:pt x="294" y="217"/>
                  </a:lnTo>
                  <a:lnTo>
                    <a:pt x="248" y="220"/>
                  </a:lnTo>
                  <a:lnTo>
                    <a:pt x="206" y="223"/>
                  </a:lnTo>
                  <a:lnTo>
                    <a:pt x="169" y="224"/>
                  </a:lnTo>
                  <a:lnTo>
                    <a:pt x="137" y="223"/>
                  </a:lnTo>
                  <a:lnTo>
                    <a:pt x="110" y="220"/>
                  </a:lnTo>
                  <a:lnTo>
                    <a:pt x="86" y="215"/>
                  </a:lnTo>
                  <a:lnTo>
                    <a:pt x="69" y="209"/>
                  </a:lnTo>
                  <a:lnTo>
                    <a:pt x="57" y="201"/>
                  </a:lnTo>
                  <a:lnTo>
                    <a:pt x="51" y="191"/>
                  </a:lnTo>
                  <a:lnTo>
                    <a:pt x="51" y="183"/>
                  </a:lnTo>
                  <a:lnTo>
                    <a:pt x="55" y="174"/>
                  </a:lnTo>
                  <a:lnTo>
                    <a:pt x="61" y="164"/>
                  </a:lnTo>
                  <a:lnTo>
                    <a:pt x="71" y="154"/>
                  </a:lnTo>
                  <a:lnTo>
                    <a:pt x="85" y="144"/>
                  </a:lnTo>
                  <a:lnTo>
                    <a:pt x="101" y="132"/>
                  </a:lnTo>
                  <a:lnTo>
                    <a:pt x="120" y="120"/>
                  </a:lnTo>
                  <a:lnTo>
                    <a:pt x="142" y="108"/>
                  </a:lnTo>
                  <a:lnTo>
                    <a:pt x="167" y="96"/>
                  </a:lnTo>
                  <a:lnTo>
                    <a:pt x="194" y="83"/>
                  </a:lnTo>
                  <a:lnTo>
                    <a:pt x="224" y="70"/>
                  </a:lnTo>
                  <a:lnTo>
                    <a:pt x="255" y="56"/>
                  </a:lnTo>
                  <a:lnTo>
                    <a:pt x="290" y="43"/>
                  </a:lnTo>
                  <a:lnTo>
                    <a:pt x="326" y="30"/>
                  </a:lnTo>
                  <a:lnTo>
                    <a:pt x="364" y="17"/>
                  </a:lnTo>
                  <a:lnTo>
                    <a:pt x="403" y="4"/>
                  </a:lnTo>
                  <a:lnTo>
                    <a:pt x="403" y="0"/>
                  </a:lnTo>
                  <a:lnTo>
                    <a:pt x="358" y="15"/>
                  </a:lnTo>
                  <a:lnTo>
                    <a:pt x="315" y="29"/>
                  </a:lnTo>
                  <a:lnTo>
                    <a:pt x="274" y="43"/>
                  </a:lnTo>
                  <a:lnTo>
                    <a:pt x="235" y="58"/>
                  </a:lnTo>
                  <a:lnTo>
                    <a:pt x="199" y="72"/>
                  </a:lnTo>
                  <a:lnTo>
                    <a:pt x="165" y="88"/>
                  </a:lnTo>
                  <a:lnTo>
                    <a:pt x="134" y="101"/>
                  </a:lnTo>
                  <a:lnTo>
                    <a:pt x="105" y="115"/>
                  </a:lnTo>
                  <a:lnTo>
                    <a:pt x="80" y="129"/>
                  </a:lnTo>
                  <a:lnTo>
                    <a:pt x="57" y="142"/>
                  </a:lnTo>
                  <a:lnTo>
                    <a:pt x="39" y="154"/>
                  </a:lnTo>
                  <a:lnTo>
                    <a:pt x="24" y="168"/>
                  </a:lnTo>
                  <a:lnTo>
                    <a:pt x="12" y="178"/>
                  </a:lnTo>
                  <a:lnTo>
                    <a:pt x="3" y="190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6" y="220"/>
                  </a:lnTo>
                  <a:lnTo>
                    <a:pt x="18" y="229"/>
                  </a:lnTo>
                  <a:lnTo>
                    <a:pt x="36" y="235"/>
                  </a:lnTo>
                  <a:lnTo>
                    <a:pt x="58" y="239"/>
                  </a:lnTo>
                  <a:lnTo>
                    <a:pt x="87" y="243"/>
                  </a:lnTo>
                  <a:lnTo>
                    <a:pt x="119" y="244"/>
                  </a:lnTo>
                  <a:lnTo>
                    <a:pt x="157" y="244"/>
                  </a:lnTo>
                  <a:lnTo>
                    <a:pt x="198" y="242"/>
                  </a:lnTo>
                  <a:lnTo>
                    <a:pt x="243" y="238"/>
                  </a:lnTo>
                  <a:lnTo>
                    <a:pt x="292" y="232"/>
                  </a:lnTo>
                  <a:lnTo>
                    <a:pt x="344" y="225"/>
                  </a:lnTo>
                  <a:lnTo>
                    <a:pt x="397" y="217"/>
                  </a:lnTo>
                  <a:lnTo>
                    <a:pt x="455" y="207"/>
                  </a:lnTo>
                  <a:lnTo>
                    <a:pt x="515" y="195"/>
                  </a:lnTo>
                  <a:lnTo>
                    <a:pt x="575" y="181"/>
                  </a:lnTo>
                  <a:lnTo>
                    <a:pt x="638" y="166"/>
                  </a:lnTo>
                  <a:lnTo>
                    <a:pt x="671" y="158"/>
                  </a:lnTo>
                  <a:lnTo>
                    <a:pt x="704" y="150"/>
                  </a:lnTo>
                  <a:lnTo>
                    <a:pt x="737" y="140"/>
                  </a:lnTo>
                  <a:lnTo>
                    <a:pt x="768" y="132"/>
                  </a:lnTo>
                  <a:lnTo>
                    <a:pt x="799" y="122"/>
                  </a:lnTo>
                  <a:lnTo>
                    <a:pt x="830" y="114"/>
                  </a:lnTo>
                  <a:lnTo>
                    <a:pt x="860" y="104"/>
                  </a:lnTo>
                  <a:lnTo>
                    <a:pt x="888" y="95"/>
                  </a:lnTo>
                  <a:lnTo>
                    <a:pt x="916" y="85"/>
                  </a:lnTo>
                  <a:lnTo>
                    <a:pt x="943" y="76"/>
                  </a:lnTo>
                  <a:lnTo>
                    <a:pt x="968" y="66"/>
                  </a:lnTo>
                  <a:lnTo>
                    <a:pt x="993" y="56"/>
                  </a:lnTo>
                  <a:lnTo>
                    <a:pt x="1017" y="47"/>
                  </a:lnTo>
                  <a:lnTo>
                    <a:pt x="1041" y="37"/>
                  </a:lnTo>
                  <a:lnTo>
                    <a:pt x="1063" y="28"/>
                  </a:lnTo>
                  <a:lnTo>
                    <a:pt x="1083" y="18"/>
                  </a:lnTo>
                  <a:lnTo>
                    <a:pt x="1063" y="27"/>
                  </a:lnTo>
                  <a:lnTo>
                    <a:pt x="1042" y="35"/>
                  </a:lnTo>
                  <a:lnTo>
                    <a:pt x="1021" y="42"/>
                  </a:lnTo>
                  <a:lnTo>
                    <a:pt x="999" y="50"/>
                  </a:lnTo>
                  <a:lnTo>
                    <a:pt x="976" y="59"/>
                  </a:lnTo>
                  <a:lnTo>
                    <a:pt x="953" y="67"/>
                  </a:lnTo>
                  <a:lnTo>
                    <a:pt x="929" y="74"/>
                  </a:lnTo>
                  <a:lnTo>
                    <a:pt x="904" y="83"/>
                  </a:lnTo>
                  <a:lnTo>
                    <a:pt x="879" y="91"/>
                  </a:lnTo>
                  <a:lnTo>
                    <a:pt x="852" y="98"/>
                  </a:lnTo>
                  <a:lnTo>
                    <a:pt x="826" y="107"/>
                  </a:lnTo>
                  <a:lnTo>
                    <a:pt x="799" y="114"/>
                  </a:lnTo>
                  <a:lnTo>
                    <a:pt x="772" y="122"/>
                  </a:lnTo>
                  <a:lnTo>
                    <a:pt x="744" y="129"/>
                  </a:lnTo>
                  <a:lnTo>
                    <a:pt x="716" y="137"/>
                  </a:lnTo>
                  <a:lnTo>
                    <a:pt x="688" y="14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 txBox="1"/>
          <p:nvPr/>
        </p:nvSpPr>
        <p:spPr>
          <a:xfrm>
            <a:off x="1066680" y="1523880"/>
            <a:ext cx="70106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erc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ra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360" y="2711520"/>
            <a:ext cx="253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0% 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200400" y="1752480"/>
            <a:ext cx="4264920" cy="2564280"/>
            <a:chOff x="3200400" y="1752480"/>
            <a:chExt cx="4264920" cy="2564280"/>
          </a:xfrm>
        </p:grpSpPr>
        <p:sp>
          <p:nvSpPr>
            <p:cNvPr id="274" name=""/>
            <p:cNvSpPr/>
            <p:nvPr/>
          </p:nvSpPr>
          <p:spPr>
            <a:xfrm>
              <a:off x="3200400" y="1752480"/>
              <a:ext cx="18252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622400" y="2049120"/>
              <a:ext cx="2842920" cy="2267640"/>
              <a:chOff x="4622400" y="2049120"/>
              <a:chExt cx="2842920" cy="2267640"/>
            </a:xfrm>
          </p:grpSpPr>
          <p:sp>
            <p:nvSpPr>
              <p:cNvPr id="276" name=""/>
              <p:cNvSpPr/>
              <p:nvPr/>
            </p:nvSpPr>
            <p:spPr>
              <a:xfrm>
                <a:off x="4923360" y="3327120"/>
                <a:ext cx="2241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968000" y="2049120"/>
                <a:ext cx="21567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3333cc"/>
                    </a:solidFill>
                    <a:latin typeface="Comic Sans MS"/>
                  </a:rPr>
                  <a:t>50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22400" y="3308400"/>
                <a:ext cx="2842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3759120" y="4419720"/>
            <a:ext cx="207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  <a:ea typeface="Tahoma"/>
              </a:rPr>
              <a:t>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20000" y="1295280"/>
            <a:ext cx="42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Fifty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perc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9040" y="1752480"/>
            <a:ext cx="1849320" cy="2378160"/>
          </a:xfrm>
          <a:prstGeom prst="wedgeEllipseCallout">
            <a:avLst>
              <a:gd name="adj1" fmla="val 77726"/>
              <a:gd name="adj2" fmla="val 1082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0% 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4130640"/>
            <a:ext cx="2438280" cy="1965240"/>
          </a:xfrm>
          <a:prstGeom prst="wedgeEllipseCallout">
            <a:avLst>
              <a:gd name="adj1" fmla="val 20768"/>
              <a:gd name="adj2" fmla="val -1094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eah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lf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68440" y="5334120"/>
            <a:ext cx="1960560" cy="10760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7010280" y="1905120"/>
            <a:ext cx="1636920" cy="109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62320" y="2274840"/>
            <a:ext cx="33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% 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per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004360" y="1981080"/>
            <a:ext cx="2251440" cy="1587960"/>
            <a:chOff x="5004360" y="1981080"/>
            <a:chExt cx="2251440" cy="1587960"/>
          </a:xfrm>
        </p:grpSpPr>
        <p:sp>
          <p:nvSpPr>
            <p:cNvPr id="288" name=""/>
            <p:cNvSpPr/>
            <p:nvPr/>
          </p:nvSpPr>
          <p:spPr>
            <a:xfrm>
              <a:off x="5004360" y="2228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5729400" y="1981080"/>
              <a:ext cx="1526400" cy="1587960"/>
              <a:chOff x="5729400" y="1981080"/>
              <a:chExt cx="1526400" cy="1587960"/>
            </a:xfrm>
          </p:grpSpPr>
          <p:sp>
            <p:nvSpPr>
              <p:cNvPr id="290" name=""/>
              <p:cNvSpPr/>
              <p:nvPr/>
            </p:nvSpPr>
            <p:spPr>
              <a:xfrm>
                <a:off x="5891040" y="2817360"/>
                <a:ext cx="120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042240" y="1981080"/>
                <a:ext cx="9007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ff"/>
                    </a:solidFill>
                    <a:latin typeface="Comic Sans MS"/>
                  </a:rPr>
                  <a:t>P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729400" y="2804760"/>
                <a:ext cx="1526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3" name=""/>
          <p:cNvSpPr/>
          <p:nvPr/>
        </p:nvSpPr>
        <p:spPr>
          <a:xfrm>
            <a:off x="875160" y="3778200"/>
            <a:ext cx="38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5% 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per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054760" y="3581280"/>
            <a:ext cx="2564280" cy="1363320"/>
            <a:chOff x="5054760" y="3581280"/>
            <a:chExt cx="2564280" cy="1363320"/>
          </a:xfrm>
        </p:grpSpPr>
        <p:sp>
          <p:nvSpPr>
            <p:cNvPr id="295" name=""/>
            <p:cNvSpPr/>
            <p:nvPr/>
          </p:nvSpPr>
          <p:spPr>
            <a:xfrm>
              <a:off x="5054760" y="37638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920200" y="3581280"/>
              <a:ext cx="1698840" cy="1363320"/>
              <a:chOff x="5920200" y="3581280"/>
              <a:chExt cx="1698840" cy="1363320"/>
            </a:xfrm>
          </p:grpSpPr>
          <p:sp>
            <p:nvSpPr>
              <p:cNvPr id="297" name=""/>
              <p:cNvSpPr/>
              <p:nvPr/>
            </p:nvSpPr>
            <p:spPr>
              <a:xfrm>
                <a:off x="6099840" y="4251240"/>
                <a:ext cx="1338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094080" y="3581280"/>
                <a:ext cx="1351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Comic Sans MS"/>
                  </a:rPr>
                  <a:t>25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920200" y="4241160"/>
                <a:ext cx="1698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040480" y="4933800"/>
            <a:ext cx="2835720" cy="1617840"/>
            <a:chOff x="2040480" y="4933800"/>
            <a:chExt cx="2835720" cy="1617840"/>
          </a:xfrm>
        </p:grpSpPr>
        <p:sp>
          <p:nvSpPr>
            <p:cNvPr id="301" name=""/>
            <p:cNvSpPr/>
            <p:nvPr/>
          </p:nvSpPr>
          <p:spPr>
            <a:xfrm>
              <a:off x="2040480" y="51674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802960" y="4933800"/>
              <a:ext cx="2073240" cy="1617840"/>
              <a:chOff x="2802960" y="4933800"/>
              <a:chExt cx="2073240" cy="1617840"/>
            </a:xfrm>
          </p:grpSpPr>
          <p:sp>
            <p:nvSpPr>
              <p:cNvPr id="303" name=""/>
              <p:cNvSpPr/>
              <p:nvPr/>
            </p:nvSpPr>
            <p:spPr>
              <a:xfrm>
                <a:off x="2873520" y="5799960"/>
                <a:ext cx="1933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1000" y="4933800"/>
                <a:ext cx="1939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ff"/>
                    </a:solidFill>
                    <a:latin typeface="Comic Sans MS"/>
                  </a:rPr>
                  <a:t>25 • 1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02960" y="5787360"/>
                <a:ext cx="20732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5 • 4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5014440" y="4950000"/>
            <a:ext cx="2375640" cy="1603800"/>
            <a:chOff x="5014440" y="4950000"/>
            <a:chExt cx="2375640" cy="1603800"/>
          </a:xfrm>
        </p:grpSpPr>
        <p:sp>
          <p:nvSpPr>
            <p:cNvPr id="307" name=""/>
            <p:cNvSpPr/>
            <p:nvPr/>
          </p:nvSpPr>
          <p:spPr>
            <a:xfrm>
              <a:off x="5014440" y="52524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209640" y="4950000"/>
              <a:ext cx="1180440" cy="1603800"/>
              <a:chOff x="6209640" y="4950000"/>
              <a:chExt cx="1180440" cy="1603800"/>
            </a:xfrm>
          </p:grpSpPr>
          <p:sp>
            <p:nvSpPr>
              <p:cNvPr id="309" name=""/>
              <p:cNvSpPr/>
              <p:nvPr/>
            </p:nvSpPr>
            <p:spPr>
              <a:xfrm>
                <a:off x="6262200" y="5863680"/>
                <a:ext cx="1075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258240" y="4950000"/>
                <a:ext cx="1079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209640" y="5850360"/>
                <a:ext cx="1180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651600" y="129528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ff"/>
                </a:solidFill>
                <a:latin typeface="Comic Sans MS"/>
              </a:rPr>
              <a:t>25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02040" y="1568520"/>
            <a:ext cx="12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%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183680" y="2593800"/>
            <a:ext cx="4118400" cy="1954080"/>
            <a:chOff x="1183680" y="2593800"/>
            <a:chExt cx="4118400" cy="1954080"/>
          </a:xfrm>
        </p:grpSpPr>
        <p:sp>
          <p:nvSpPr>
            <p:cNvPr id="316" name=""/>
            <p:cNvSpPr/>
            <p:nvPr/>
          </p:nvSpPr>
          <p:spPr>
            <a:xfrm>
              <a:off x="1183680" y="3371760"/>
              <a:ext cx="239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3 1/3</a:t>
              </a: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%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5120" y="28908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31560" y="2593800"/>
              <a:ext cx="442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ff"/>
                  </a:solidFill>
                  <a:uFillTx/>
                  <a:latin typeface="Comic Sans MS"/>
                </a:rPr>
                <a:t>1</a:t>
              </a:r>
              <a:br>
                <a:rPr sz="3600"/>
              </a:b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30560" y="3784680"/>
              <a:ext cx="12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74560" y="390528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637240" y="2641680"/>
            <a:ext cx="2162160" cy="1931400"/>
            <a:chOff x="5637240" y="2641680"/>
            <a:chExt cx="2162160" cy="1931400"/>
          </a:xfrm>
        </p:grpSpPr>
        <p:sp>
          <p:nvSpPr>
            <p:cNvPr id="322" name=""/>
            <p:cNvSpPr/>
            <p:nvPr/>
          </p:nvSpPr>
          <p:spPr>
            <a:xfrm>
              <a:off x="5637240" y="33037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71520" y="2641680"/>
              <a:ext cx="966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00</a:t>
              </a:r>
              <a:br>
                <a:rPr sz="3600"/>
              </a:b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  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70800" y="3200400"/>
              <a:ext cx="949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27880" y="3809880"/>
              <a:ext cx="12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71520" y="393048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5181480" y="1981080"/>
            <a:ext cx="1271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49160" y="20257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45080" y="13716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098800" y="4572000"/>
            <a:ext cx="4835520" cy="1931760"/>
            <a:chOff x="2098800" y="4572000"/>
            <a:chExt cx="4835520" cy="1931760"/>
          </a:xfrm>
        </p:grpSpPr>
        <p:sp>
          <p:nvSpPr>
            <p:cNvPr id="331" name=""/>
            <p:cNvSpPr/>
            <p:nvPr/>
          </p:nvSpPr>
          <p:spPr>
            <a:xfrm>
              <a:off x="2242440" y="4572000"/>
              <a:ext cx="966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00</a:t>
              </a:r>
              <a:br>
                <a:rPr sz="3600"/>
              </a:b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  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51080" y="5167440"/>
              <a:ext cx="949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98800" y="5740560"/>
              <a:ext cx="12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42440" y="586116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97400" y="5167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36320" y="4978440"/>
              <a:ext cx="966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00</a:t>
              </a:r>
              <a:br>
                <a:rPr sz="3600"/>
              </a:b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  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44960" y="5573880"/>
              <a:ext cx="949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33240" y="5259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62440" y="5619600"/>
              <a:ext cx="127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25680" y="57405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47760" y="494676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13720" y="1447920"/>
            <a:ext cx="24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Comic Sans MS"/>
              </a:rPr>
              <a:t>33 1/3 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447200" y="1523880"/>
            <a:ext cx="23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3 1/3 %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022480" y="2286000"/>
            <a:ext cx="4835520" cy="1931760"/>
            <a:chOff x="2022480" y="2286000"/>
            <a:chExt cx="4835520" cy="1931760"/>
          </a:xfrm>
        </p:grpSpPr>
        <p:sp>
          <p:nvSpPr>
            <p:cNvPr id="345" name=""/>
            <p:cNvSpPr/>
            <p:nvPr/>
          </p:nvSpPr>
          <p:spPr>
            <a:xfrm>
              <a:off x="2166120" y="2286000"/>
              <a:ext cx="966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00</a:t>
              </a:r>
              <a:br>
                <a:rPr sz="3600"/>
              </a:b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  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74760" y="2881440"/>
              <a:ext cx="949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22480" y="3454560"/>
              <a:ext cx="12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66120" y="357516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1080" y="2881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60000" y="2692440"/>
              <a:ext cx="966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00</a:t>
              </a:r>
              <a:br>
                <a:rPr sz="3600"/>
              </a:b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  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68640" y="3287880"/>
              <a:ext cx="949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56920" y="2973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86480" y="3333600"/>
              <a:ext cx="12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49360" y="34545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71440" y="266076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916680" y="4511520"/>
            <a:ext cx="1085760" cy="1191240"/>
            <a:chOff x="6916680" y="4511520"/>
            <a:chExt cx="1085760" cy="1191240"/>
          </a:xfrm>
        </p:grpSpPr>
        <p:grpSp>
          <p:nvGrpSpPr>
            <p:cNvPr id="357" name=""/>
            <p:cNvGrpSpPr/>
            <p:nvPr/>
          </p:nvGrpSpPr>
          <p:grpSpPr>
            <a:xfrm>
              <a:off x="6916680" y="4511520"/>
              <a:ext cx="1075320" cy="1191240"/>
              <a:chOff x="6916680" y="4511520"/>
              <a:chExt cx="1075320" cy="1191240"/>
            </a:xfrm>
          </p:grpSpPr>
          <p:sp>
            <p:nvSpPr>
              <p:cNvPr id="358" name=""/>
              <p:cNvSpPr/>
              <p:nvPr/>
            </p:nvSpPr>
            <p:spPr>
              <a:xfrm>
                <a:off x="6916680" y="47563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49200" y="4511520"/>
                <a:ext cx="442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br>
                  <a:rPr sz="3600"/>
                </a:b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7539120" y="5106960"/>
              <a:ext cx="463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213200" y="4419720"/>
            <a:ext cx="5616360" cy="1436400"/>
            <a:chOff x="1213200" y="4419720"/>
            <a:chExt cx="5616360" cy="1436400"/>
          </a:xfrm>
        </p:grpSpPr>
        <p:sp>
          <p:nvSpPr>
            <p:cNvPr id="362" name=""/>
            <p:cNvSpPr/>
            <p:nvPr/>
          </p:nvSpPr>
          <p:spPr>
            <a:xfrm>
              <a:off x="4075200" y="5105520"/>
              <a:ext cx="949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1213200" y="4419720"/>
              <a:ext cx="5616360" cy="1436400"/>
              <a:chOff x="1213200" y="4419720"/>
              <a:chExt cx="5616360" cy="1436400"/>
            </a:xfrm>
          </p:grpSpPr>
          <p:sp>
            <p:nvSpPr>
              <p:cNvPr id="364" name=""/>
              <p:cNvSpPr/>
              <p:nvPr/>
            </p:nvSpPr>
            <p:spPr>
              <a:xfrm>
                <a:off x="3492720" y="48927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557680" y="5092560"/>
                <a:ext cx="1271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84040" y="521352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30280" y="44197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066560" y="4511520"/>
                <a:ext cx="966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00</a:t>
                </a:r>
                <a:br>
                  <a:rPr sz="3600"/>
                </a:b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  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037120" y="4756320"/>
                <a:ext cx="368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213200" y="4892760"/>
                <a:ext cx="2017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3 1/3 %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074840" y="4756320"/>
            <a:ext cx="2549520" cy="869760"/>
            <a:chOff x="4074840" y="4756320"/>
            <a:chExt cx="2549520" cy="869760"/>
          </a:xfrm>
        </p:grpSpPr>
        <p:sp>
          <p:nvSpPr>
            <p:cNvPr id="373" name=""/>
            <p:cNvSpPr/>
            <p:nvPr/>
          </p:nvSpPr>
          <p:spPr>
            <a:xfrm flipH="1">
              <a:off x="4074840" y="4756320"/>
              <a:ext cx="949320" cy="30456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5675040" y="5321160"/>
              <a:ext cx="949320" cy="3049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37440" y="1660680"/>
            <a:ext cx="8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25680" y="2886120"/>
            <a:ext cx="3403440" cy="1530000"/>
            <a:chOff x="1525680" y="2886120"/>
            <a:chExt cx="3403440" cy="1530000"/>
          </a:xfrm>
        </p:grpSpPr>
        <p:sp>
          <p:nvSpPr>
            <p:cNvPr id="378" name=""/>
            <p:cNvSpPr/>
            <p:nvPr/>
          </p:nvSpPr>
          <p:spPr>
            <a:xfrm>
              <a:off x="1525680" y="3367080"/>
              <a:ext cx="184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00</a:t>
              </a: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%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61640" y="288612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57600" y="3652920"/>
              <a:ext cx="12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1240" y="377352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442040" y="1660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52880" y="1949400"/>
            <a:ext cx="1271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20560" y="1949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75080" y="130824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092920" y="2890800"/>
            <a:ext cx="1231560" cy="1530000"/>
            <a:chOff x="5092920" y="2890800"/>
            <a:chExt cx="1231560" cy="1530000"/>
          </a:xfrm>
        </p:grpSpPr>
        <p:sp>
          <p:nvSpPr>
            <p:cNvPr id="387" name=""/>
            <p:cNvSpPr/>
            <p:nvPr/>
          </p:nvSpPr>
          <p:spPr>
            <a:xfrm>
              <a:off x="5092920" y="3298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41360" y="2890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84840" y="365760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80960" y="3778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123800" y="2935440"/>
            <a:ext cx="632160" cy="1277640"/>
            <a:chOff x="4123800" y="2935440"/>
            <a:chExt cx="632160" cy="1277640"/>
          </a:xfrm>
        </p:grpSpPr>
        <p:sp>
          <p:nvSpPr>
            <p:cNvPr id="392" name=""/>
            <p:cNvSpPr/>
            <p:nvPr/>
          </p:nvSpPr>
          <p:spPr>
            <a:xfrm flipH="1">
              <a:off x="4158720" y="2935440"/>
              <a:ext cx="597240" cy="4316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123800" y="3881520"/>
              <a:ext cx="600120" cy="33156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504120" y="3271680"/>
            <a:ext cx="876960" cy="642600"/>
            <a:chOff x="6504120" y="3271680"/>
            <a:chExt cx="876960" cy="642600"/>
          </a:xfrm>
        </p:grpSpPr>
        <p:sp>
          <p:nvSpPr>
            <p:cNvPr id="395" name=""/>
            <p:cNvSpPr/>
            <p:nvPr/>
          </p:nvSpPr>
          <p:spPr>
            <a:xfrm>
              <a:off x="6504120" y="3271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38280" y="3271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040040" y="4724280"/>
            <a:ext cx="3460680" cy="1638360"/>
            <a:chOff x="1040040" y="4724280"/>
            <a:chExt cx="3460680" cy="1638360"/>
          </a:xfrm>
        </p:grpSpPr>
        <p:sp>
          <p:nvSpPr>
            <p:cNvPr id="398" name=""/>
            <p:cNvSpPr/>
            <p:nvPr/>
          </p:nvSpPr>
          <p:spPr>
            <a:xfrm>
              <a:off x="1040040" y="5302080"/>
              <a:ext cx="213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00</a:t>
              </a: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% of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3124080" y="4724280"/>
              <a:ext cx="1376640" cy="163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"/>
          <p:cNvGrpSpPr/>
          <p:nvPr/>
        </p:nvGrpSpPr>
        <p:grpSpPr>
          <a:xfrm>
            <a:off x="4903920" y="4648320"/>
            <a:ext cx="3249360" cy="1676160"/>
            <a:chOff x="4903920" y="4648320"/>
            <a:chExt cx="3249360" cy="1676160"/>
          </a:xfrm>
        </p:grpSpPr>
        <p:sp>
          <p:nvSpPr>
            <p:cNvPr id="401" name=""/>
            <p:cNvSpPr/>
            <p:nvPr/>
          </p:nvSpPr>
          <p:spPr>
            <a:xfrm>
              <a:off x="4903920" y="5226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2" name="" descr=""/>
            <p:cNvPicPr/>
            <p:nvPr/>
          </p:nvPicPr>
          <p:blipFill>
            <a:blip r:embed="rId2"/>
            <a:stretch/>
          </p:blipFill>
          <p:spPr>
            <a:xfrm>
              <a:off x="5334120" y="4686480"/>
              <a:ext cx="1376280" cy="163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3"/>
            <a:stretch/>
          </p:blipFill>
          <p:spPr>
            <a:xfrm>
              <a:off x="6777000" y="4648320"/>
              <a:ext cx="1376280" cy="163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"/>
          <p:cNvSpPr/>
          <p:nvPr/>
        </p:nvSpPr>
        <p:spPr>
          <a:xfrm>
            <a:off x="774720" y="1536840"/>
            <a:ext cx="189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ff"/>
                </a:solidFill>
                <a:latin typeface="Comic Sans MS"/>
              </a:rPr>
              <a:t>200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49720" y="1828800"/>
            <a:ext cx="12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%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59080" y="4129200"/>
            <a:ext cx="220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50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Tahoma"/>
              </a:rPr>
              <a:t>¾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%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2133720"/>
            <a:ext cx="12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30040" y="21337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84560" y="14922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657600" y="3305160"/>
            <a:ext cx="1271520" cy="1873080"/>
            <a:chOff x="3657600" y="3305160"/>
            <a:chExt cx="1271520" cy="1873080"/>
          </a:xfrm>
        </p:grpSpPr>
        <p:sp>
          <p:nvSpPr>
            <p:cNvPr id="412" name=""/>
            <p:cNvSpPr/>
            <p:nvPr/>
          </p:nvSpPr>
          <p:spPr>
            <a:xfrm>
              <a:off x="3657600" y="4414680"/>
              <a:ext cx="12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736800" y="3305160"/>
              <a:ext cx="1031400" cy="1873080"/>
              <a:chOff x="3736800" y="3305160"/>
              <a:chExt cx="1031400" cy="1873080"/>
            </a:xfrm>
          </p:grpSpPr>
          <p:sp>
            <p:nvSpPr>
              <p:cNvPr id="414" name=""/>
              <p:cNvSpPr/>
              <p:nvPr/>
            </p:nvSpPr>
            <p:spPr>
              <a:xfrm>
                <a:off x="3764520" y="3305160"/>
                <a:ext cx="966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603</a:t>
                </a:r>
                <a:br>
                  <a:rPr sz="3600"/>
                </a:b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  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801240" y="453564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36800" y="3886200"/>
                <a:ext cx="1022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5092920" y="3276720"/>
            <a:ext cx="1741320" cy="2471400"/>
            <a:chOff x="5092920" y="3276720"/>
            <a:chExt cx="1741320" cy="2471400"/>
          </a:xfrm>
        </p:grpSpPr>
        <p:sp>
          <p:nvSpPr>
            <p:cNvPr id="418" name=""/>
            <p:cNvSpPr/>
            <p:nvPr/>
          </p:nvSpPr>
          <p:spPr>
            <a:xfrm>
              <a:off x="5092920" y="4060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69640" y="3276720"/>
              <a:ext cx="966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603</a:t>
              </a:r>
              <a:br>
                <a:rPr sz="3600"/>
              </a:b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  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62720" y="4386240"/>
              <a:ext cx="12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06360" y="450684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41920" y="38577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15000" y="51055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93640" y="5105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723600" y="1600200"/>
            <a:ext cx="236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ff"/>
                </a:solidFill>
                <a:latin typeface="Comic Sans MS"/>
              </a:rPr>
              <a:t>150</a:t>
            </a:r>
            <a:r>
              <a:rPr b="0" lang="en-US" sz="4800" spc="-1" strike="noStrike">
                <a:solidFill>
                  <a:srgbClr val="ff66ff"/>
                </a:solidFill>
                <a:latin typeface="Comic Sans MS"/>
                <a:ea typeface="Tahoma"/>
              </a:rPr>
              <a:t>¾</a:t>
            </a:r>
            <a:r>
              <a:rPr b="0" lang="en-US" sz="4800" spc="-1" strike="noStrike">
                <a:solidFill>
                  <a:srgbClr val="ff66ff"/>
                </a:solidFill>
                <a:latin typeface="Comic Sans MS"/>
              </a:rPr>
              <a:t>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151440" y="2238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61640" y="1889280"/>
            <a:ext cx="9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603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14240" y="25430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733920" y="2470320"/>
            <a:ext cx="102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2498760"/>
            <a:ext cx="102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480" y="18288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04920" y="2117880"/>
            <a:ext cx="3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39560" y="2254320"/>
            <a:ext cx="182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50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Tahoma"/>
              </a:rPr>
              <a:t>¾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27800" y="2209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2640" y="1905120"/>
            <a:ext cx="9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603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054920" y="2486160"/>
            <a:ext cx="102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187800" y="3457440"/>
            <a:ext cx="1873080" cy="1191240"/>
            <a:chOff x="3187800" y="3457440"/>
            <a:chExt cx="1873080" cy="1191240"/>
          </a:xfrm>
        </p:grpSpPr>
        <p:sp>
          <p:nvSpPr>
            <p:cNvPr id="438" name=""/>
            <p:cNvSpPr/>
            <p:nvPr/>
          </p:nvSpPr>
          <p:spPr>
            <a:xfrm>
              <a:off x="3187800" y="37339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31680" y="37339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66200" y="3457440"/>
              <a:ext cx="966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03</a:t>
              </a:r>
              <a:br>
                <a:rPr sz="3600"/>
              </a:b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4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38480" y="40384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121000" y="3581280"/>
            <a:ext cx="1401120" cy="795240"/>
            <a:chOff x="5121000" y="3581280"/>
            <a:chExt cx="1401120" cy="795240"/>
          </a:xfrm>
        </p:grpSpPr>
        <p:sp>
          <p:nvSpPr>
            <p:cNvPr id="443" name=""/>
            <p:cNvSpPr/>
            <p:nvPr/>
          </p:nvSpPr>
          <p:spPr>
            <a:xfrm>
              <a:off x="5121000" y="3581280"/>
              <a:ext cx="584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08440" y="3733920"/>
              <a:ext cx="91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765720" y="4724280"/>
            <a:ext cx="4720680" cy="1638360"/>
            <a:chOff x="765720" y="4724280"/>
            <a:chExt cx="4720680" cy="1638360"/>
          </a:xfrm>
        </p:grpSpPr>
        <p:sp>
          <p:nvSpPr>
            <p:cNvPr id="446" name=""/>
            <p:cNvSpPr/>
            <p:nvPr/>
          </p:nvSpPr>
          <p:spPr>
            <a:xfrm>
              <a:off x="765720" y="5302080"/>
              <a:ext cx="249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50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  <a:ea typeface="Tahoma"/>
                </a:rPr>
                <a:t>¾</a:t>
              </a: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% of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3124080" y="4724280"/>
              <a:ext cx="137664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903920" y="5226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18000" y="5035680"/>
              <a:ext cx="68400" cy="6804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29" y="0"/>
                  </a:moveTo>
                  <a:lnTo>
                    <a:pt x="70" y="19"/>
                  </a:lnTo>
                  <a:lnTo>
                    <a:pt x="21" y="60"/>
                  </a:lnTo>
                  <a:lnTo>
                    <a:pt x="0" y="124"/>
                  </a:lnTo>
                  <a:lnTo>
                    <a:pt x="44" y="129"/>
                  </a:lnTo>
                  <a:lnTo>
                    <a:pt x="113" y="82"/>
                  </a:lnTo>
                  <a:lnTo>
                    <a:pt x="130" y="35"/>
                  </a:lnTo>
                  <a:lnTo>
                    <a:pt x="129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334120" y="4375080"/>
            <a:ext cx="3400920" cy="2095560"/>
            <a:chOff x="5334120" y="4375080"/>
            <a:chExt cx="3400920" cy="2095560"/>
          </a:xfrm>
        </p:grpSpPr>
        <p:sp>
          <p:nvSpPr>
            <p:cNvPr id="452" name=""/>
            <p:cNvSpPr/>
            <p:nvPr/>
          </p:nvSpPr>
          <p:spPr>
            <a:xfrm>
              <a:off x="6145200" y="6143760"/>
              <a:ext cx="169920" cy="155520"/>
            </a:xfrm>
            <a:custGeom>
              <a:avLst/>
              <a:gdLst/>
              <a:ahLst/>
              <a:rect l="l" t="t" r="r" b="b"/>
              <a:pathLst>
                <a:path w="322" h="296">
                  <a:moveTo>
                    <a:pt x="162" y="21"/>
                  </a:moveTo>
                  <a:lnTo>
                    <a:pt x="94" y="0"/>
                  </a:lnTo>
                  <a:lnTo>
                    <a:pt x="40" y="52"/>
                  </a:lnTo>
                  <a:lnTo>
                    <a:pt x="0" y="167"/>
                  </a:lnTo>
                  <a:lnTo>
                    <a:pt x="28" y="204"/>
                  </a:lnTo>
                  <a:lnTo>
                    <a:pt x="73" y="200"/>
                  </a:lnTo>
                  <a:lnTo>
                    <a:pt x="70" y="251"/>
                  </a:lnTo>
                  <a:lnTo>
                    <a:pt x="98" y="261"/>
                  </a:lnTo>
                  <a:lnTo>
                    <a:pt x="145" y="246"/>
                  </a:lnTo>
                  <a:lnTo>
                    <a:pt x="164" y="286"/>
                  </a:lnTo>
                  <a:lnTo>
                    <a:pt x="209" y="296"/>
                  </a:lnTo>
                  <a:lnTo>
                    <a:pt x="312" y="195"/>
                  </a:lnTo>
                  <a:lnTo>
                    <a:pt x="322" y="110"/>
                  </a:lnTo>
                  <a:lnTo>
                    <a:pt x="218" y="68"/>
                  </a:lnTo>
                  <a:lnTo>
                    <a:pt x="162" y="21"/>
                  </a:lnTo>
                  <a:lnTo>
                    <a:pt x="162" y="21"/>
                  </a:lnTo>
                  <a:close/>
                </a:path>
              </a:pathLst>
            </a:custGeom>
            <a:solidFill>
              <a:srgbClr val="ff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10120" y="6141960"/>
              <a:ext cx="189000" cy="155520"/>
            </a:xfrm>
            <a:custGeom>
              <a:avLst/>
              <a:gdLst/>
              <a:ahLst/>
              <a:rect l="l" t="t" r="r" b="b"/>
              <a:pathLst>
                <a:path w="358" h="295">
                  <a:moveTo>
                    <a:pt x="66" y="11"/>
                  </a:moveTo>
                  <a:lnTo>
                    <a:pt x="30" y="131"/>
                  </a:lnTo>
                  <a:lnTo>
                    <a:pt x="0" y="202"/>
                  </a:lnTo>
                  <a:lnTo>
                    <a:pt x="16" y="232"/>
                  </a:lnTo>
                  <a:lnTo>
                    <a:pt x="89" y="253"/>
                  </a:lnTo>
                  <a:lnTo>
                    <a:pt x="124" y="253"/>
                  </a:lnTo>
                  <a:lnTo>
                    <a:pt x="133" y="275"/>
                  </a:lnTo>
                  <a:lnTo>
                    <a:pt x="190" y="241"/>
                  </a:lnTo>
                  <a:lnTo>
                    <a:pt x="194" y="295"/>
                  </a:lnTo>
                  <a:lnTo>
                    <a:pt x="256" y="291"/>
                  </a:lnTo>
                  <a:lnTo>
                    <a:pt x="319" y="247"/>
                  </a:lnTo>
                  <a:lnTo>
                    <a:pt x="358" y="159"/>
                  </a:lnTo>
                  <a:lnTo>
                    <a:pt x="352" y="77"/>
                  </a:lnTo>
                  <a:lnTo>
                    <a:pt x="333" y="0"/>
                  </a:lnTo>
                  <a:lnTo>
                    <a:pt x="232" y="45"/>
                  </a:lnTo>
                  <a:lnTo>
                    <a:pt x="143" y="37"/>
                  </a:lnTo>
                  <a:lnTo>
                    <a:pt x="66" y="11"/>
                  </a:lnTo>
                  <a:lnTo>
                    <a:pt x="66" y="11"/>
                  </a:lnTo>
                  <a:close/>
                </a:path>
              </a:pathLst>
            </a:custGeom>
            <a:solidFill>
              <a:srgbClr val="ff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61040" y="5681520"/>
              <a:ext cx="189000" cy="239760"/>
            </a:xfrm>
            <a:custGeom>
              <a:avLst/>
              <a:gdLst/>
              <a:ahLst/>
              <a:rect l="l" t="t" r="r" b="b"/>
              <a:pathLst>
                <a:path w="358" h="454">
                  <a:moveTo>
                    <a:pt x="339" y="0"/>
                  </a:moveTo>
                  <a:lnTo>
                    <a:pt x="168" y="151"/>
                  </a:lnTo>
                  <a:lnTo>
                    <a:pt x="38" y="177"/>
                  </a:lnTo>
                  <a:lnTo>
                    <a:pt x="48" y="233"/>
                  </a:lnTo>
                  <a:lnTo>
                    <a:pt x="20" y="301"/>
                  </a:lnTo>
                  <a:lnTo>
                    <a:pt x="0" y="319"/>
                  </a:lnTo>
                  <a:lnTo>
                    <a:pt x="0" y="373"/>
                  </a:lnTo>
                  <a:lnTo>
                    <a:pt x="38" y="381"/>
                  </a:lnTo>
                  <a:lnTo>
                    <a:pt x="121" y="319"/>
                  </a:lnTo>
                  <a:lnTo>
                    <a:pt x="136" y="325"/>
                  </a:lnTo>
                  <a:lnTo>
                    <a:pt x="124" y="388"/>
                  </a:lnTo>
                  <a:lnTo>
                    <a:pt x="124" y="435"/>
                  </a:lnTo>
                  <a:lnTo>
                    <a:pt x="156" y="442"/>
                  </a:lnTo>
                  <a:lnTo>
                    <a:pt x="190" y="414"/>
                  </a:lnTo>
                  <a:lnTo>
                    <a:pt x="209" y="348"/>
                  </a:lnTo>
                  <a:lnTo>
                    <a:pt x="222" y="341"/>
                  </a:lnTo>
                  <a:lnTo>
                    <a:pt x="241" y="363"/>
                  </a:lnTo>
                  <a:lnTo>
                    <a:pt x="238" y="430"/>
                  </a:lnTo>
                  <a:lnTo>
                    <a:pt x="263" y="454"/>
                  </a:lnTo>
                  <a:lnTo>
                    <a:pt x="298" y="430"/>
                  </a:lnTo>
                  <a:lnTo>
                    <a:pt x="316" y="350"/>
                  </a:lnTo>
                  <a:lnTo>
                    <a:pt x="358" y="315"/>
                  </a:lnTo>
                  <a:lnTo>
                    <a:pt x="329" y="214"/>
                  </a:lnTo>
                  <a:lnTo>
                    <a:pt x="335" y="73"/>
                  </a:lnTo>
                  <a:lnTo>
                    <a:pt x="339" y="0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78680" y="5851440"/>
              <a:ext cx="177840" cy="303120"/>
            </a:xfrm>
            <a:custGeom>
              <a:avLst/>
              <a:gdLst/>
              <a:ahLst/>
              <a:rect l="l" t="t" r="r" b="b"/>
              <a:pathLst>
                <a:path w="336" h="571">
                  <a:moveTo>
                    <a:pt x="307" y="0"/>
                  </a:moveTo>
                  <a:lnTo>
                    <a:pt x="282" y="41"/>
                  </a:lnTo>
                  <a:lnTo>
                    <a:pt x="260" y="108"/>
                  </a:lnTo>
                  <a:lnTo>
                    <a:pt x="225" y="129"/>
                  </a:lnTo>
                  <a:lnTo>
                    <a:pt x="202" y="98"/>
                  </a:lnTo>
                  <a:lnTo>
                    <a:pt x="205" y="42"/>
                  </a:lnTo>
                  <a:lnTo>
                    <a:pt x="187" y="23"/>
                  </a:lnTo>
                  <a:lnTo>
                    <a:pt x="167" y="42"/>
                  </a:lnTo>
                  <a:lnTo>
                    <a:pt x="161" y="94"/>
                  </a:lnTo>
                  <a:lnTo>
                    <a:pt x="132" y="125"/>
                  </a:lnTo>
                  <a:lnTo>
                    <a:pt x="148" y="202"/>
                  </a:lnTo>
                  <a:lnTo>
                    <a:pt x="143" y="303"/>
                  </a:lnTo>
                  <a:lnTo>
                    <a:pt x="111" y="362"/>
                  </a:lnTo>
                  <a:lnTo>
                    <a:pt x="23" y="430"/>
                  </a:lnTo>
                  <a:lnTo>
                    <a:pt x="0" y="465"/>
                  </a:lnTo>
                  <a:lnTo>
                    <a:pt x="19" y="546"/>
                  </a:lnTo>
                  <a:lnTo>
                    <a:pt x="85" y="571"/>
                  </a:lnTo>
                  <a:lnTo>
                    <a:pt x="174" y="493"/>
                  </a:lnTo>
                  <a:lnTo>
                    <a:pt x="336" y="133"/>
                  </a:lnTo>
                  <a:lnTo>
                    <a:pt x="336" y="34"/>
                  </a:lnTo>
                  <a:lnTo>
                    <a:pt x="307" y="0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59360" y="5846760"/>
              <a:ext cx="136800" cy="314280"/>
            </a:xfrm>
            <a:custGeom>
              <a:avLst/>
              <a:gdLst/>
              <a:ahLst/>
              <a:rect l="l" t="t" r="r" b="b"/>
              <a:pathLst>
                <a:path w="259" h="592">
                  <a:moveTo>
                    <a:pt x="53" y="0"/>
                  </a:moveTo>
                  <a:lnTo>
                    <a:pt x="0" y="129"/>
                  </a:lnTo>
                  <a:lnTo>
                    <a:pt x="19" y="204"/>
                  </a:lnTo>
                  <a:lnTo>
                    <a:pt x="104" y="296"/>
                  </a:lnTo>
                  <a:lnTo>
                    <a:pt x="142" y="366"/>
                  </a:lnTo>
                  <a:lnTo>
                    <a:pt x="113" y="466"/>
                  </a:lnTo>
                  <a:lnTo>
                    <a:pt x="139" y="555"/>
                  </a:lnTo>
                  <a:lnTo>
                    <a:pt x="218" y="592"/>
                  </a:lnTo>
                  <a:lnTo>
                    <a:pt x="259" y="590"/>
                  </a:lnTo>
                  <a:lnTo>
                    <a:pt x="218" y="505"/>
                  </a:lnTo>
                  <a:lnTo>
                    <a:pt x="234" y="401"/>
                  </a:lnTo>
                  <a:lnTo>
                    <a:pt x="237" y="324"/>
                  </a:lnTo>
                  <a:lnTo>
                    <a:pt x="217" y="280"/>
                  </a:lnTo>
                  <a:lnTo>
                    <a:pt x="136" y="218"/>
                  </a:lnTo>
                  <a:lnTo>
                    <a:pt x="111" y="186"/>
                  </a:lnTo>
                  <a:lnTo>
                    <a:pt x="107" y="82"/>
                  </a:lnTo>
                  <a:lnTo>
                    <a:pt x="82" y="35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56320" y="5138640"/>
              <a:ext cx="971640" cy="1027080"/>
            </a:xfrm>
            <a:custGeom>
              <a:avLst/>
              <a:gdLst/>
              <a:ahLst/>
              <a:rect l="l" t="t" r="r" b="b"/>
              <a:pathLst>
                <a:path w="1836" h="1941">
                  <a:moveTo>
                    <a:pt x="222" y="92"/>
                  </a:moveTo>
                  <a:lnTo>
                    <a:pt x="180" y="121"/>
                  </a:lnTo>
                  <a:lnTo>
                    <a:pt x="114" y="152"/>
                  </a:lnTo>
                  <a:lnTo>
                    <a:pt x="114" y="203"/>
                  </a:lnTo>
                  <a:lnTo>
                    <a:pt x="29" y="288"/>
                  </a:lnTo>
                  <a:lnTo>
                    <a:pt x="0" y="377"/>
                  </a:lnTo>
                  <a:lnTo>
                    <a:pt x="90" y="521"/>
                  </a:lnTo>
                  <a:lnTo>
                    <a:pt x="70" y="963"/>
                  </a:lnTo>
                  <a:lnTo>
                    <a:pt x="292" y="1335"/>
                  </a:lnTo>
                  <a:lnTo>
                    <a:pt x="471" y="1379"/>
                  </a:lnTo>
                  <a:lnTo>
                    <a:pt x="499" y="1449"/>
                  </a:lnTo>
                  <a:lnTo>
                    <a:pt x="491" y="1529"/>
                  </a:lnTo>
                  <a:lnTo>
                    <a:pt x="600" y="1613"/>
                  </a:lnTo>
                  <a:lnTo>
                    <a:pt x="630" y="1698"/>
                  </a:lnTo>
                  <a:lnTo>
                    <a:pt x="604" y="1825"/>
                  </a:lnTo>
                  <a:lnTo>
                    <a:pt x="616" y="1910"/>
                  </a:lnTo>
                  <a:lnTo>
                    <a:pt x="690" y="1941"/>
                  </a:lnTo>
                  <a:lnTo>
                    <a:pt x="822" y="1904"/>
                  </a:lnTo>
                  <a:lnTo>
                    <a:pt x="850" y="1840"/>
                  </a:lnTo>
                  <a:lnTo>
                    <a:pt x="825" y="1764"/>
                  </a:lnTo>
                  <a:lnTo>
                    <a:pt x="743" y="1658"/>
                  </a:lnTo>
                  <a:lnTo>
                    <a:pt x="721" y="1557"/>
                  </a:lnTo>
                  <a:lnTo>
                    <a:pt x="727" y="1453"/>
                  </a:lnTo>
                  <a:lnTo>
                    <a:pt x="617" y="1261"/>
                  </a:lnTo>
                  <a:lnTo>
                    <a:pt x="651" y="1158"/>
                  </a:lnTo>
                  <a:lnTo>
                    <a:pt x="1074" y="1200"/>
                  </a:lnTo>
                  <a:lnTo>
                    <a:pt x="1289" y="1041"/>
                  </a:lnTo>
                  <a:lnTo>
                    <a:pt x="1284" y="1273"/>
                  </a:lnTo>
                  <a:lnTo>
                    <a:pt x="1320" y="1379"/>
                  </a:lnTo>
                  <a:lnTo>
                    <a:pt x="1318" y="1491"/>
                  </a:lnTo>
                  <a:lnTo>
                    <a:pt x="1495" y="1437"/>
                  </a:lnTo>
                  <a:lnTo>
                    <a:pt x="1603" y="1178"/>
                  </a:lnTo>
                  <a:lnTo>
                    <a:pt x="1836" y="338"/>
                  </a:lnTo>
                  <a:lnTo>
                    <a:pt x="1808" y="232"/>
                  </a:lnTo>
                  <a:lnTo>
                    <a:pt x="1732" y="121"/>
                  </a:lnTo>
                  <a:lnTo>
                    <a:pt x="1669" y="61"/>
                  </a:lnTo>
                  <a:lnTo>
                    <a:pt x="1622" y="38"/>
                  </a:lnTo>
                  <a:lnTo>
                    <a:pt x="1519" y="80"/>
                  </a:lnTo>
                  <a:lnTo>
                    <a:pt x="1441" y="47"/>
                  </a:lnTo>
                  <a:lnTo>
                    <a:pt x="1388" y="4"/>
                  </a:lnTo>
                  <a:lnTo>
                    <a:pt x="1324" y="0"/>
                  </a:lnTo>
                  <a:lnTo>
                    <a:pt x="1256" y="35"/>
                  </a:lnTo>
                  <a:lnTo>
                    <a:pt x="1153" y="202"/>
                  </a:lnTo>
                  <a:lnTo>
                    <a:pt x="869" y="278"/>
                  </a:lnTo>
                  <a:lnTo>
                    <a:pt x="531" y="136"/>
                  </a:lnTo>
                  <a:lnTo>
                    <a:pt x="395" y="108"/>
                  </a:lnTo>
                  <a:lnTo>
                    <a:pt x="292" y="133"/>
                  </a:lnTo>
                  <a:lnTo>
                    <a:pt x="222" y="92"/>
                  </a:lnTo>
                  <a:lnTo>
                    <a:pt x="222" y="92"/>
                  </a:lnTo>
                  <a:close/>
                </a:path>
              </a:pathLst>
            </a:custGeom>
            <a:solidFill>
              <a:srgbClr val="f0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87840" y="4929120"/>
              <a:ext cx="303480" cy="292320"/>
            </a:xfrm>
            <a:custGeom>
              <a:avLst/>
              <a:gdLst/>
              <a:ahLst/>
              <a:rect l="l" t="t" r="r" b="b"/>
              <a:pathLst>
                <a:path w="572" h="552">
                  <a:moveTo>
                    <a:pt x="474" y="54"/>
                  </a:moveTo>
                  <a:lnTo>
                    <a:pt x="404" y="21"/>
                  </a:lnTo>
                  <a:lnTo>
                    <a:pt x="366" y="0"/>
                  </a:lnTo>
                  <a:lnTo>
                    <a:pt x="324" y="3"/>
                  </a:lnTo>
                  <a:lnTo>
                    <a:pt x="299" y="38"/>
                  </a:lnTo>
                  <a:lnTo>
                    <a:pt x="258" y="58"/>
                  </a:lnTo>
                  <a:lnTo>
                    <a:pt x="199" y="113"/>
                  </a:lnTo>
                  <a:lnTo>
                    <a:pt x="230" y="199"/>
                  </a:lnTo>
                  <a:lnTo>
                    <a:pt x="202" y="284"/>
                  </a:lnTo>
                  <a:lnTo>
                    <a:pt x="144" y="287"/>
                  </a:lnTo>
                  <a:lnTo>
                    <a:pt x="82" y="306"/>
                  </a:lnTo>
                  <a:lnTo>
                    <a:pt x="47" y="341"/>
                  </a:lnTo>
                  <a:lnTo>
                    <a:pt x="12" y="385"/>
                  </a:lnTo>
                  <a:lnTo>
                    <a:pt x="0" y="436"/>
                  </a:lnTo>
                  <a:lnTo>
                    <a:pt x="15" y="490"/>
                  </a:lnTo>
                  <a:lnTo>
                    <a:pt x="68" y="526"/>
                  </a:lnTo>
                  <a:lnTo>
                    <a:pt x="157" y="547"/>
                  </a:lnTo>
                  <a:lnTo>
                    <a:pt x="252" y="552"/>
                  </a:lnTo>
                  <a:lnTo>
                    <a:pt x="343" y="545"/>
                  </a:lnTo>
                  <a:lnTo>
                    <a:pt x="410" y="549"/>
                  </a:lnTo>
                  <a:lnTo>
                    <a:pt x="463" y="537"/>
                  </a:lnTo>
                  <a:lnTo>
                    <a:pt x="546" y="479"/>
                  </a:lnTo>
                  <a:lnTo>
                    <a:pt x="572" y="420"/>
                  </a:lnTo>
                  <a:lnTo>
                    <a:pt x="564" y="366"/>
                  </a:lnTo>
                  <a:lnTo>
                    <a:pt x="523" y="319"/>
                  </a:lnTo>
                  <a:lnTo>
                    <a:pt x="455" y="296"/>
                  </a:lnTo>
                  <a:lnTo>
                    <a:pt x="479" y="234"/>
                  </a:lnTo>
                  <a:lnTo>
                    <a:pt x="480" y="95"/>
                  </a:lnTo>
                  <a:lnTo>
                    <a:pt x="474" y="54"/>
                  </a:lnTo>
                  <a:lnTo>
                    <a:pt x="474" y="54"/>
                  </a:lnTo>
                  <a:close/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81520" y="5132520"/>
              <a:ext cx="60480" cy="29880"/>
            </a:xfrm>
            <a:custGeom>
              <a:avLst/>
              <a:gdLst/>
              <a:ahLst/>
              <a:rect l="l" t="t" r="r" b="b"/>
              <a:pathLst>
                <a:path w="114" h="57">
                  <a:moveTo>
                    <a:pt x="0" y="57"/>
                  </a:moveTo>
                  <a:lnTo>
                    <a:pt x="19" y="12"/>
                  </a:lnTo>
                  <a:lnTo>
                    <a:pt x="51" y="0"/>
                  </a:lnTo>
                  <a:lnTo>
                    <a:pt x="97" y="0"/>
                  </a:lnTo>
                  <a:lnTo>
                    <a:pt x="114" y="22"/>
                  </a:lnTo>
                  <a:lnTo>
                    <a:pt x="106" y="54"/>
                  </a:lnTo>
                  <a:lnTo>
                    <a:pt x="69" y="50"/>
                  </a:lnTo>
                  <a:lnTo>
                    <a:pt x="19" y="54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33920" y="5140440"/>
              <a:ext cx="46080" cy="2700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86" y="16"/>
                  </a:moveTo>
                  <a:lnTo>
                    <a:pt x="49" y="0"/>
                  </a:lnTo>
                  <a:lnTo>
                    <a:pt x="23" y="6"/>
                  </a:lnTo>
                  <a:lnTo>
                    <a:pt x="2" y="34"/>
                  </a:lnTo>
                  <a:lnTo>
                    <a:pt x="0" y="50"/>
                  </a:lnTo>
                  <a:lnTo>
                    <a:pt x="45" y="45"/>
                  </a:lnTo>
                  <a:lnTo>
                    <a:pt x="70" y="41"/>
                  </a:lnTo>
                  <a:lnTo>
                    <a:pt x="86" y="16"/>
                  </a:lnTo>
                  <a:lnTo>
                    <a:pt x="86" y="16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61000" y="5040360"/>
              <a:ext cx="25560" cy="2700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34" y="0"/>
                  </a:moveTo>
                  <a:lnTo>
                    <a:pt x="6" y="4"/>
                  </a:lnTo>
                  <a:lnTo>
                    <a:pt x="0" y="30"/>
                  </a:lnTo>
                  <a:lnTo>
                    <a:pt x="6" y="51"/>
                  </a:lnTo>
                  <a:lnTo>
                    <a:pt x="29" y="51"/>
                  </a:lnTo>
                  <a:lnTo>
                    <a:pt x="47" y="23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570640" y="5032440"/>
              <a:ext cx="30240" cy="39600"/>
            </a:xfrm>
            <a:custGeom>
              <a:avLst/>
              <a:gdLst/>
              <a:ahLst/>
              <a:rect l="l" t="t" r="r" b="b"/>
              <a:pathLst>
                <a:path w="57" h="76">
                  <a:moveTo>
                    <a:pt x="23" y="0"/>
                  </a:moveTo>
                  <a:lnTo>
                    <a:pt x="3" y="26"/>
                  </a:lnTo>
                  <a:lnTo>
                    <a:pt x="0" y="76"/>
                  </a:lnTo>
                  <a:lnTo>
                    <a:pt x="45" y="76"/>
                  </a:lnTo>
                  <a:lnTo>
                    <a:pt x="57" y="28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02240" y="4829040"/>
              <a:ext cx="235080" cy="150840"/>
            </a:xfrm>
            <a:custGeom>
              <a:avLst/>
              <a:gdLst/>
              <a:ahLst/>
              <a:rect l="l" t="t" r="r" b="b"/>
              <a:pathLst>
                <a:path w="444" h="287">
                  <a:moveTo>
                    <a:pt x="0" y="174"/>
                  </a:moveTo>
                  <a:lnTo>
                    <a:pt x="3" y="274"/>
                  </a:lnTo>
                  <a:lnTo>
                    <a:pt x="63" y="287"/>
                  </a:lnTo>
                  <a:lnTo>
                    <a:pt x="170" y="227"/>
                  </a:lnTo>
                  <a:lnTo>
                    <a:pt x="237" y="249"/>
                  </a:lnTo>
                  <a:lnTo>
                    <a:pt x="268" y="229"/>
                  </a:lnTo>
                  <a:lnTo>
                    <a:pt x="294" y="200"/>
                  </a:lnTo>
                  <a:lnTo>
                    <a:pt x="341" y="183"/>
                  </a:lnTo>
                  <a:lnTo>
                    <a:pt x="388" y="221"/>
                  </a:lnTo>
                  <a:lnTo>
                    <a:pt x="436" y="243"/>
                  </a:lnTo>
                  <a:lnTo>
                    <a:pt x="439" y="165"/>
                  </a:lnTo>
                  <a:lnTo>
                    <a:pt x="444" y="100"/>
                  </a:lnTo>
                  <a:lnTo>
                    <a:pt x="357" y="66"/>
                  </a:lnTo>
                  <a:lnTo>
                    <a:pt x="322" y="57"/>
                  </a:lnTo>
                  <a:lnTo>
                    <a:pt x="316" y="0"/>
                  </a:lnTo>
                  <a:lnTo>
                    <a:pt x="117" y="29"/>
                  </a:lnTo>
                  <a:lnTo>
                    <a:pt x="110" y="62"/>
                  </a:lnTo>
                  <a:lnTo>
                    <a:pt x="24" y="113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02240" y="4782960"/>
              <a:ext cx="238320" cy="163800"/>
            </a:xfrm>
            <a:custGeom>
              <a:avLst/>
              <a:gdLst/>
              <a:ahLst/>
              <a:rect l="l" t="t" r="r" b="b"/>
              <a:pathLst>
                <a:path w="448" h="309">
                  <a:moveTo>
                    <a:pt x="0" y="309"/>
                  </a:moveTo>
                  <a:lnTo>
                    <a:pt x="3" y="248"/>
                  </a:lnTo>
                  <a:lnTo>
                    <a:pt x="61" y="163"/>
                  </a:lnTo>
                  <a:lnTo>
                    <a:pt x="101" y="149"/>
                  </a:lnTo>
                  <a:lnTo>
                    <a:pt x="123" y="60"/>
                  </a:lnTo>
                  <a:lnTo>
                    <a:pt x="158" y="72"/>
                  </a:lnTo>
                  <a:lnTo>
                    <a:pt x="190" y="0"/>
                  </a:lnTo>
                  <a:lnTo>
                    <a:pt x="234" y="48"/>
                  </a:lnTo>
                  <a:lnTo>
                    <a:pt x="275" y="15"/>
                  </a:lnTo>
                  <a:lnTo>
                    <a:pt x="287" y="75"/>
                  </a:lnTo>
                  <a:lnTo>
                    <a:pt x="319" y="66"/>
                  </a:lnTo>
                  <a:lnTo>
                    <a:pt x="322" y="149"/>
                  </a:lnTo>
                  <a:lnTo>
                    <a:pt x="350" y="145"/>
                  </a:lnTo>
                  <a:lnTo>
                    <a:pt x="448" y="177"/>
                  </a:lnTo>
                  <a:lnTo>
                    <a:pt x="420" y="201"/>
                  </a:lnTo>
                  <a:lnTo>
                    <a:pt x="392" y="240"/>
                  </a:lnTo>
                  <a:lnTo>
                    <a:pt x="388" y="194"/>
                  </a:lnTo>
                  <a:lnTo>
                    <a:pt x="401" y="180"/>
                  </a:lnTo>
                  <a:lnTo>
                    <a:pt x="372" y="182"/>
                  </a:lnTo>
                  <a:lnTo>
                    <a:pt x="357" y="215"/>
                  </a:lnTo>
                  <a:lnTo>
                    <a:pt x="353" y="248"/>
                  </a:lnTo>
                  <a:lnTo>
                    <a:pt x="322" y="211"/>
                  </a:lnTo>
                  <a:lnTo>
                    <a:pt x="319" y="163"/>
                  </a:lnTo>
                  <a:lnTo>
                    <a:pt x="281" y="196"/>
                  </a:lnTo>
                  <a:lnTo>
                    <a:pt x="259" y="271"/>
                  </a:lnTo>
                  <a:lnTo>
                    <a:pt x="261" y="201"/>
                  </a:lnTo>
                  <a:lnTo>
                    <a:pt x="281" y="116"/>
                  </a:lnTo>
                  <a:lnTo>
                    <a:pt x="234" y="128"/>
                  </a:lnTo>
                  <a:lnTo>
                    <a:pt x="224" y="163"/>
                  </a:lnTo>
                  <a:lnTo>
                    <a:pt x="199" y="130"/>
                  </a:lnTo>
                  <a:lnTo>
                    <a:pt x="179" y="161"/>
                  </a:lnTo>
                  <a:lnTo>
                    <a:pt x="202" y="217"/>
                  </a:lnTo>
                  <a:lnTo>
                    <a:pt x="195" y="255"/>
                  </a:lnTo>
                  <a:lnTo>
                    <a:pt x="176" y="211"/>
                  </a:lnTo>
                  <a:lnTo>
                    <a:pt x="141" y="192"/>
                  </a:lnTo>
                  <a:lnTo>
                    <a:pt x="152" y="227"/>
                  </a:lnTo>
                  <a:lnTo>
                    <a:pt x="98" y="211"/>
                  </a:lnTo>
                  <a:lnTo>
                    <a:pt x="85" y="246"/>
                  </a:lnTo>
                  <a:lnTo>
                    <a:pt x="50" y="227"/>
                  </a:lnTo>
                  <a:lnTo>
                    <a:pt x="44" y="281"/>
                  </a:lnTo>
                  <a:lnTo>
                    <a:pt x="22" y="258"/>
                  </a:lnTo>
                  <a:lnTo>
                    <a:pt x="0" y="309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78560" y="5216400"/>
              <a:ext cx="122040" cy="36720"/>
            </a:xfrm>
            <a:custGeom>
              <a:avLst/>
              <a:gdLst/>
              <a:ahLst/>
              <a:rect l="l" t="t" r="r" b="b"/>
              <a:pathLst>
                <a:path w="229" h="68">
                  <a:moveTo>
                    <a:pt x="0" y="0"/>
                  </a:moveTo>
                  <a:lnTo>
                    <a:pt x="127" y="7"/>
                  </a:lnTo>
                  <a:lnTo>
                    <a:pt x="229" y="4"/>
                  </a:lnTo>
                  <a:lnTo>
                    <a:pt x="191" y="45"/>
                  </a:lnTo>
                  <a:lnTo>
                    <a:pt x="146" y="68"/>
                  </a:lnTo>
                  <a:lnTo>
                    <a:pt x="90" y="66"/>
                  </a:lnTo>
                  <a:lnTo>
                    <a:pt x="39" y="47"/>
                  </a:lnTo>
                  <a:lnTo>
                    <a:pt x="7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91160" y="5222880"/>
              <a:ext cx="87480" cy="23760"/>
            </a:xfrm>
            <a:custGeom>
              <a:avLst/>
              <a:gdLst/>
              <a:ahLst/>
              <a:rect l="l" t="t" r="r" b="b"/>
              <a:pathLst>
                <a:path w="164" h="45">
                  <a:moveTo>
                    <a:pt x="0" y="0"/>
                  </a:moveTo>
                  <a:lnTo>
                    <a:pt x="120" y="10"/>
                  </a:lnTo>
                  <a:lnTo>
                    <a:pt x="51" y="17"/>
                  </a:lnTo>
                  <a:lnTo>
                    <a:pt x="123" y="29"/>
                  </a:lnTo>
                  <a:lnTo>
                    <a:pt x="164" y="13"/>
                  </a:lnTo>
                  <a:lnTo>
                    <a:pt x="120" y="45"/>
                  </a:lnTo>
                  <a:lnTo>
                    <a:pt x="44" y="32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60920" y="5216400"/>
              <a:ext cx="157320" cy="85680"/>
            </a:xfrm>
            <a:custGeom>
              <a:avLst/>
              <a:gdLst/>
              <a:ahLst/>
              <a:rect l="l" t="t" r="r" b="b"/>
              <a:pathLst>
                <a:path w="297" h="164">
                  <a:moveTo>
                    <a:pt x="0" y="0"/>
                  </a:moveTo>
                  <a:lnTo>
                    <a:pt x="15" y="68"/>
                  </a:lnTo>
                  <a:lnTo>
                    <a:pt x="60" y="142"/>
                  </a:lnTo>
                  <a:lnTo>
                    <a:pt x="162" y="164"/>
                  </a:lnTo>
                  <a:lnTo>
                    <a:pt x="215" y="140"/>
                  </a:lnTo>
                  <a:lnTo>
                    <a:pt x="278" y="75"/>
                  </a:lnTo>
                  <a:lnTo>
                    <a:pt x="297" y="12"/>
                  </a:lnTo>
                  <a:lnTo>
                    <a:pt x="266" y="9"/>
                  </a:lnTo>
                  <a:lnTo>
                    <a:pt x="225" y="41"/>
                  </a:lnTo>
                  <a:lnTo>
                    <a:pt x="193" y="66"/>
                  </a:lnTo>
                  <a:lnTo>
                    <a:pt x="124" y="70"/>
                  </a:lnTo>
                  <a:lnTo>
                    <a:pt x="79" y="51"/>
                  </a:lnTo>
                  <a:lnTo>
                    <a:pt x="3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61120" y="4992840"/>
              <a:ext cx="168120" cy="160200"/>
            </a:xfrm>
            <a:custGeom>
              <a:avLst/>
              <a:gdLst/>
              <a:ahLst/>
              <a:rect l="l" t="t" r="r" b="b"/>
              <a:pathLst>
                <a:path w="319" h="303">
                  <a:moveTo>
                    <a:pt x="300" y="0"/>
                  </a:moveTo>
                  <a:lnTo>
                    <a:pt x="187" y="29"/>
                  </a:lnTo>
                  <a:lnTo>
                    <a:pt x="94" y="75"/>
                  </a:lnTo>
                  <a:lnTo>
                    <a:pt x="28" y="148"/>
                  </a:lnTo>
                  <a:lnTo>
                    <a:pt x="0" y="231"/>
                  </a:lnTo>
                  <a:lnTo>
                    <a:pt x="23" y="278"/>
                  </a:lnTo>
                  <a:lnTo>
                    <a:pt x="66" y="303"/>
                  </a:lnTo>
                  <a:lnTo>
                    <a:pt x="148" y="296"/>
                  </a:lnTo>
                  <a:lnTo>
                    <a:pt x="250" y="227"/>
                  </a:lnTo>
                  <a:lnTo>
                    <a:pt x="319" y="133"/>
                  </a:lnTo>
                  <a:lnTo>
                    <a:pt x="300" y="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f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42000" y="4986360"/>
              <a:ext cx="131760" cy="125280"/>
            </a:xfrm>
            <a:custGeom>
              <a:avLst/>
              <a:gdLst/>
              <a:ahLst/>
              <a:rect l="l" t="t" r="r" b="b"/>
              <a:pathLst>
                <a:path w="249" h="237">
                  <a:moveTo>
                    <a:pt x="0" y="0"/>
                  </a:moveTo>
                  <a:lnTo>
                    <a:pt x="0" y="125"/>
                  </a:lnTo>
                  <a:lnTo>
                    <a:pt x="56" y="185"/>
                  </a:lnTo>
                  <a:lnTo>
                    <a:pt x="109" y="223"/>
                  </a:lnTo>
                  <a:lnTo>
                    <a:pt x="154" y="237"/>
                  </a:lnTo>
                  <a:lnTo>
                    <a:pt x="224" y="223"/>
                  </a:lnTo>
                  <a:lnTo>
                    <a:pt x="249" y="160"/>
                  </a:lnTo>
                  <a:lnTo>
                    <a:pt x="217" y="79"/>
                  </a:lnTo>
                  <a:lnTo>
                    <a:pt x="109" y="5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72240" y="5008680"/>
              <a:ext cx="58680" cy="68040"/>
            </a:xfrm>
            <a:custGeom>
              <a:avLst/>
              <a:gdLst/>
              <a:ahLst/>
              <a:rect l="l" t="t" r="r" b="b"/>
              <a:pathLst>
                <a:path w="110" h="127">
                  <a:moveTo>
                    <a:pt x="0" y="0"/>
                  </a:moveTo>
                  <a:lnTo>
                    <a:pt x="8" y="57"/>
                  </a:lnTo>
                  <a:lnTo>
                    <a:pt x="28" y="94"/>
                  </a:lnTo>
                  <a:lnTo>
                    <a:pt x="57" y="120"/>
                  </a:lnTo>
                  <a:lnTo>
                    <a:pt x="110" y="127"/>
                  </a:lnTo>
                  <a:lnTo>
                    <a:pt x="101" y="81"/>
                  </a:lnTo>
                  <a:lnTo>
                    <a:pt x="69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34080" y="4813200"/>
              <a:ext cx="146160" cy="150840"/>
            </a:xfrm>
            <a:custGeom>
              <a:avLst/>
              <a:gdLst/>
              <a:ahLst/>
              <a:rect l="l" t="t" r="r" b="b"/>
              <a:pathLst>
                <a:path w="278" h="284">
                  <a:moveTo>
                    <a:pt x="214" y="0"/>
                  </a:moveTo>
                  <a:lnTo>
                    <a:pt x="191" y="74"/>
                  </a:lnTo>
                  <a:lnTo>
                    <a:pt x="148" y="124"/>
                  </a:lnTo>
                  <a:lnTo>
                    <a:pt x="34" y="133"/>
                  </a:lnTo>
                  <a:lnTo>
                    <a:pt x="15" y="133"/>
                  </a:lnTo>
                  <a:lnTo>
                    <a:pt x="3" y="164"/>
                  </a:lnTo>
                  <a:lnTo>
                    <a:pt x="0" y="250"/>
                  </a:lnTo>
                  <a:lnTo>
                    <a:pt x="50" y="284"/>
                  </a:lnTo>
                  <a:lnTo>
                    <a:pt x="189" y="278"/>
                  </a:lnTo>
                  <a:lnTo>
                    <a:pt x="261" y="222"/>
                  </a:lnTo>
                  <a:lnTo>
                    <a:pt x="278" y="83"/>
                  </a:lnTo>
                  <a:lnTo>
                    <a:pt x="240" y="19"/>
                  </a:lnTo>
                  <a:lnTo>
                    <a:pt x="214" y="0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42040" y="4848120"/>
              <a:ext cx="176040" cy="155520"/>
            </a:xfrm>
            <a:custGeom>
              <a:avLst/>
              <a:gdLst/>
              <a:ahLst/>
              <a:rect l="l" t="t" r="r" b="b"/>
              <a:pathLst>
                <a:path w="332" h="292">
                  <a:moveTo>
                    <a:pt x="25" y="0"/>
                  </a:moveTo>
                  <a:lnTo>
                    <a:pt x="1" y="62"/>
                  </a:lnTo>
                  <a:lnTo>
                    <a:pt x="0" y="160"/>
                  </a:lnTo>
                  <a:lnTo>
                    <a:pt x="29" y="240"/>
                  </a:lnTo>
                  <a:lnTo>
                    <a:pt x="85" y="284"/>
                  </a:lnTo>
                  <a:lnTo>
                    <a:pt x="159" y="292"/>
                  </a:lnTo>
                  <a:lnTo>
                    <a:pt x="307" y="233"/>
                  </a:lnTo>
                  <a:lnTo>
                    <a:pt x="304" y="141"/>
                  </a:lnTo>
                  <a:lnTo>
                    <a:pt x="332" y="82"/>
                  </a:lnTo>
                  <a:lnTo>
                    <a:pt x="253" y="88"/>
                  </a:lnTo>
                  <a:lnTo>
                    <a:pt x="184" y="97"/>
                  </a:lnTo>
                  <a:lnTo>
                    <a:pt x="126" y="116"/>
                  </a:lnTo>
                  <a:lnTo>
                    <a:pt x="74" y="71"/>
                  </a:lnTo>
                  <a:lnTo>
                    <a:pt x="51" y="1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34080" y="4813200"/>
              <a:ext cx="144360" cy="150840"/>
            </a:xfrm>
            <a:custGeom>
              <a:avLst/>
              <a:gdLst/>
              <a:ahLst/>
              <a:rect l="l" t="t" r="r" b="b"/>
              <a:pathLst>
                <a:path w="275" h="285">
                  <a:moveTo>
                    <a:pt x="6" y="173"/>
                  </a:moveTo>
                  <a:lnTo>
                    <a:pt x="0" y="212"/>
                  </a:lnTo>
                  <a:lnTo>
                    <a:pt x="10" y="260"/>
                  </a:lnTo>
                  <a:lnTo>
                    <a:pt x="69" y="285"/>
                  </a:lnTo>
                  <a:lnTo>
                    <a:pt x="160" y="281"/>
                  </a:lnTo>
                  <a:lnTo>
                    <a:pt x="224" y="260"/>
                  </a:lnTo>
                  <a:lnTo>
                    <a:pt x="271" y="173"/>
                  </a:lnTo>
                  <a:lnTo>
                    <a:pt x="275" y="74"/>
                  </a:lnTo>
                  <a:lnTo>
                    <a:pt x="217" y="0"/>
                  </a:lnTo>
                  <a:lnTo>
                    <a:pt x="226" y="58"/>
                  </a:lnTo>
                  <a:lnTo>
                    <a:pt x="224" y="111"/>
                  </a:lnTo>
                  <a:lnTo>
                    <a:pt x="200" y="159"/>
                  </a:lnTo>
                  <a:lnTo>
                    <a:pt x="160" y="180"/>
                  </a:lnTo>
                  <a:lnTo>
                    <a:pt x="116" y="192"/>
                  </a:lnTo>
                  <a:lnTo>
                    <a:pt x="45" y="184"/>
                  </a:lnTo>
                  <a:lnTo>
                    <a:pt x="6" y="173"/>
                  </a:lnTo>
                  <a:lnTo>
                    <a:pt x="6" y="17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8800" y="4848120"/>
              <a:ext cx="176040" cy="157320"/>
            </a:xfrm>
            <a:custGeom>
              <a:avLst/>
              <a:gdLst/>
              <a:ahLst/>
              <a:rect l="l" t="t" r="r" b="b"/>
              <a:pathLst>
                <a:path w="334" h="296">
                  <a:moveTo>
                    <a:pt x="41" y="0"/>
                  </a:moveTo>
                  <a:lnTo>
                    <a:pt x="34" y="69"/>
                  </a:lnTo>
                  <a:lnTo>
                    <a:pt x="73" y="139"/>
                  </a:lnTo>
                  <a:lnTo>
                    <a:pt x="139" y="162"/>
                  </a:lnTo>
                  <a:lnTo>
                    <a:pt x="262" y="139"/>
                  </a:lnTo>
                  <a:lnTo>
                    <a:pt x="334" y="101"/>
                  </a:lnTo>
                  <a:lnTo>
                    <a:pt x="310" y="141"/>
                  </a:lnTo>
                  <a:lnTo>
                    <a:pt x="310" y="233"/>
                  </a:lnTo>
                  <a:lnTo>
                    <a:pt x="146" y="296"/>
                  </a:lnTo>
                  <a:lnTo>
                    <a:pt x="79" y="287"/>
                  </a:lnTo>
                  <a:lnTo>
                    <a:pt x="31" y="240"/>
                  </a:lnTo>
                  <a:lnTo>
                    <a:pt x="0" y="158"/>
                  </a:lnTo>
                  <a:lnTo>
                    <a:pt x="6" y="43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11800" y="4716360"/>
              <a:ext cx="133560" cy="255600"/>
            </a:xfrm>
            <a:custGeom>
              <a:avLst/>
              <a:gdLst/>
              <a:ahLst/>
              <a:rect l="l" t="t" r="r" b="b"/>
              <a:pathLst>
                <a:path w="251" h="482">
                  <a:moveTo>
                    <a:pt x="204" y="0"/>
                  </a:moveTo>
                  <a:lnTo>
                    <a:pt x="154" y="63"/>
                  </a:lnTo>
                  <a:lnTo>
                    <a:pt x="40" y="125"/>
                  </a:lnTo>
                  <a:lnTo>
                    <a:pt x="9" y="172"/>
                  </a:lnTo>
                  <a:lnTo>
                    <a:pt x="0" y="245"/>
                  </a:lnTo>
                  <a:lnTo>
                    <a:pt x="21" y="346"/>
                  </a:lnTo>
                  <a:lnTo>
                    <a:pt x="12" y="482"/>
                  </a:lnTo>
                  <a:lnTo>
                    <a:pt x="56" y="458"/>
                  </a:lnTo>
                  <a:lnTo>
                    <a:pt x="134" y="397"/>
                  </a:lnTo>
                  <a:lnTo>
                    <a:pt x="214" y="347"/>
                  </a:lnTo>
                  <a:lnTo>
                    <a:pt x="249" y="249"/>
                  </a:lnTo>
                  <a:lnTo>
                    <a:pt x="251" y="155"/>
                  </a:lnTo>
                  <a:lnTo>
                    <a:pt x="183" y="198"/>
                  </a:lnTo>
                  <a:lnTo>
                    <a:pt x="176" y="170"/>
                  </a:lnTo>
                  <a:lnTo>
                    <a:pt x="214" y="90"/>
                  </a:lnTo>
                  <a:lnTo>
                    <a:pt x="214" y="34"/>
                  </a:lnTo>
                  <a:lnTo>
                    <a:pt x="204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f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34120" y="4772160"/>
              <a:ext cx="554040" cy="239400"/>
            </a:xfrm>
            <a:custGeom>
              <a:avLst/>
              <a:gdLst/>
              <a:ahLst/>
              <a:rect l="l" t="t" r="r" b="b"/>
              <a:pathLst>
                <a:path w="1046" h="453">
                  <a:moveTo>
                    <a:pt x="428" y="68"/>
                  </a:moveTo>
                  <a:lnTo>
                    <a:pt x="421" y="156"/>
                  </a:lnTo>
                  <a:lnTo>
                    <a:pt x="382" y="167"/>
                  </a:lnTo>
                  <a:lnTo>
                    <a:pt x="333" y="208"/>
                  </a:lnTo>
                  <a:lnTo>
                    <a:pt x="302" y="218"/>
                  </a:lnTo>
                  <a:lnTo>
                    <a:pt x="269" y="212"/>
                  </a:lnTo>
                  <a:lnTo>
                    <a:pt x="223" y="216"/>
                  </a:lnTo>
                  <a:lnTo>
                    <a:pt x="188" y="231"/>
                  </a:lnTo>
                  <a:lnTo>
                    <a:pt x="160" y="242"/>
                  </a:lnTo>
                  <a:lnTo>
                    <a:pt x="131" y="238"/>
                  </a:lnTo>
                  <a:lnTo>
                    <a:pt x="94" y="187"/>
                  </a:lnTo>
                  <a:lnTo>
                    <a:pt x="74" y="149"/>
                  </a:lnTo>
                  <a:lnTo>
                    <a:pt x="39" y="130"/>
                  </a:lnTo>
                  <a:lnTo>
                    <a:pt x="12" y="165"/>
                  </a:lnTo>
                  <a:lnTo>
                    <a:pt x="3" y="223"/>
                  </a:lnTo>
                  <a:lnTo>
                    <a:pt x="0" y="292"/>
                  </a:lnTo>
                  <a:lnTo>
                    <a:pt x="16" y="362"/>
                  </a:lnTo>
                  <a:lnTo>
                    <a:pt x="57" y="421"/>
                  </a:lnTo>
                  <a:lnTo>
                    <a:pt x="96" y="447"/>
                  </a:lnTo>
                  <a:lnTo>
                    <a:pt x="145" y="453"/>
                  </a:lnTo>
                  <a:lnTo>
                    <a:pt x="206" y="437"/>
                  </a:lnTo>
                  <a:lnTo>
                    <a:pt x="307" y="402"/>
                  </a:lnTo>
                  <a:lnTo>
                    <a:pt x="342" y="379"/>
                  </a:lnTo>
                  <a:lnTo>
                    <a:pt x="366" y="396"/>
                  </a:lnTo>
                  <a:lnTo>
                    <a:pt x="390" y="387"/>
                  </a:lnTo>
                  <a:lnTo>
                    <a:pt x="409" y="361"/>
                  </a:lnTo>
                  <a:lnTo>
                    <a:pt x="435" y="325"/>
                  </a:lnTo>
                  <a:lnTo>
                    <a:pt x="462" y="313"/>
                  </a:lnTo>
                  <a:lnTo>
                    <a:pt x="493" y="316"/>
                  </a:lnTo>
                  <a:lnTo>
                    <a:pt x="518" y="343"/>
                  </a:lnTo>
                  <a:lnTo>
                    <a:pt x="544" y="362"/>
                  </a:lnTo>
                  <a:lnTo>
                    <a:pt x="571" y="362"/>
                  </a:lnTo>
                  <a:lnTo>
                    <a:pt x="594" y="346"/>
                  </a:lnTo>
                  <a:lnTo>
                    <a:pt x="610" y="316"/>
                  </a:lnTo>
                  <a:lnTo>
                    <a:pt x="631" y="307"/>
                  </a:lnTo>
                  <a:lnTo>
                    <a:pt x="665" y="305"/>
                  </a:lnTo>
                  <a:lnTo>
                    <a:pt x="689" y="324"/>
                  </a:lnTo>
                  <a:lnTo>
                    <a:pt x="705" y="350"/>
                  </a:lnTo>
                  <a:lnTo>
                    <a:pt x="744" y="359"/>
                  </a:lnTo>
                  <a:lnTo>
                    <a:pt x="778" y="375"/>
                  </a:lnTo>
                  <a:lnTo>
                    <a:pt x="817" y="381"/>
                  </a:lnTo>
                  <a:lnTo>
                    <a:pt x="894" y="383"/>
                  </a:lnTo>
                  <a:lnTo>
                    <a:pt x="955" y="371"/>
                  </a:lnTo>
                  <a:lnTo>
                    <a:pt x="1004" y="343"/>
                  </a:lnTo>
                  <a:lnTo>
                    <a:pt x="1033" y="296"/>
                  </a:lnTo>
                  <a:lnTo>
                    <a:pt x="1046" y="212"/>
                  </a:lnTo>
                  <a:lnTo>
                    <a:pt x="1045" y="156"/>
                  </a:lnTo>
                  <a:lnTo>
                    <a:pt x="1029" y="113"/>
                  </a:lnTo>
                  <a:lnTo>
                    <a:pt x="991" y="78"/>
                  </a:lnTo>
                  <a:lnTo>
                    <a:pt x="968" y="68"/>
                  </a:lnTo>
                  <a:lnTo>
                    <a:pt x="959" y="86"/>
                  </a:lnTo>
                  <a:lnTo>
                    <a:pt x="988" y="113"/>
                  </a:lnTo>
                  <a:lnTo>
                    <a:pt x="1007" y="149"/>
                  </a:lnTo>
                  <a:lnTo>
                    <a:pt x="1014" y="204"/>
                  </a:lnTo>
                  <a:lnTo>
                    <a:pt x="1003" y="282"/>
                  </a:lnTo>
                  <a:lnTo>
                    <a:pt x="971" y="323"/>
                  </a:lnTo>
                  <a:lnTo>
                    <a:pt x="933" y="343"/>
                  </a:lnTo>
                  <a:lnTo>
                    <a:pt x="887" y="351"/>
                  </a:lnTo>
                  <a:lnTo>
                    <a:pt x="817" y="346"/>
                  </a:lnTo>
                  <a:lnTo>
                    <a:pt x="782" y="336"/>
                  </a:lnTo>
                  <a:lnTo>
                    <a:pt x="763" y="315"/>
                  </a:lnTo>
                  <a:lnTo>
                    <a:pt x="763" y="262"/>
                  </a:lnTo>
                  <a:lnTo>
                    <a:pt x="770" y="219"/>
                  </a:lnTo>
                  <a:lnTo>
                    <a:pt x="743" y="187"/>
                  </a:lnTo>
                  <a:lnTo>
                    <a:pt x="751" y="223"/>
                  </a:lnTo>
                  <a:lnTo>
                    <a:pt x="750" y="307"/>
                  </a:lnTo>
                  <a:lnTo>
                    <a:pt x="720" y="319"/>
                  </a:lnTo>
                  <a:lnTo>
                    <a:pt x="692" y="308"/>
                  </a:lnTo>
                  <a:lnTo>
                    <a:pt x="668" y="286"/>
                  </a:lnTo>
                  <a:lnTo>
                    <a:pt x="638" y="282"/>
                  </a:lnTo>
                  <a:lnTo>
                    <a:pt x="613" y="290"/>
                  </a:lnTo>
                  <a:lnTo>
                    <a:pt x="586" y="317"/>
                  </a:lnTo>
                  <a:lnTo>
                    <a:pt x="575" y="339"/>
                  </a:lnTo>
                  <a:lnTo>
                    <a:pt x="553" y="348"/>
                  </a:lnTo>
                  <a:lnTo>
                    <a:pt x="529" y="331"/>
                  </a:lnTo>
                  <a:lnTo>
                    <a:pt x="509" y="308"/>
                  </a:lnTo>
                  <a:lnTo>
                    <a:pt x="485" y="296"/>
                  </a:lnTo>
                  <a:lnTo>
                    <a:pt x="464" y="293"/>
                  </a:lnTo>
                  <a:lnTo>
                    <a:pt x="435" y="304"/>
                  </a:lnTo>
                  <a:lnTo>
                    <a:pt x="416" y="324"/>
                  </a:lnTo>
                  <a:lnTo>
                    <a:pt x="394" y="352"/>
                  </a:lnTo>
                  <a:lnTo>
                    <a:pt x="380" y="374"/>
                  </a:lnTo>
                  <a:lnTo>
                    <a:pt x="362" y="374"/>
                  </a:lnTo>
                  <a:lnTo>
                    <a:pt x="341" y="359"/>
                  </a:lnTo>
                  <a:lnTo>
                    <a:pt x="314" y="366"/>
                  </a:lnTo>
                  <a:lnTo>
                    <a:pt x="289" y="383"/>
                  </a:lnTo>
                  <a:lnTo>
                    <a:pt x="198" y="416"/>
                  </a:lnTo>
                  <a:lnTo>
                    <a:pt x="145" y="426"/>
                  </a:lnTo>
                  <a:lnTo>
                    <a:pt x="105" y="416"/>
                  </a:lnTo>
                  <a:lnTo>
                    <a:pt x="70" y="393"/>
                  </a:lnTo>
                  <a:lnTo>
                    <a:pt x="54" y="366"/>
                  </a:lnTo>
                  <a:lnTo>
                    <a:pt x="23" y="284"/>
                  </a:lnTo>
                  <a:lnTo>
                    <a:pt x="23" y="211"/>
                  </a:lnTo>
                  <a:lnTo>
                    <a:pt x="42" y="165"/>
                  </a:lnTo>
                  <a:lnTo>
                    <a:pt x="58" y="175"/>
                  </a:lnTo>
                  <a:lnTo>
                    <a:pt x="69" y="204"/>
                  </a:lnTo>
                  <a:lnTo>
                    <a:pt x="93" y="243"/>
                  </a:lnTo>
                  <a:lnTo>
                    <a:pt x="121" y="265"/>
                  </a:lnTo>
                  <a:lnTo>
                    <a:pt x="158" y="273"/>
                  </a:lnTo>
                  <a:lnTo>
                    <a:pt x="193" y="261"/>
                  </a:lnTo>
                  <a:lnTo>
                    <a:pt x="228" y="247"/>
                  </a:lnTo>
                  <a:lnTo>
                    <a:pt x="267" y="243"/>
                  </a:lnTo>
                  <a:lnTo>
                    <a:pt x="298" y="253"/>
                  </a:lnTo>
                  <a:lnTo>
                    <a:pt x="331" y="239"/>
                  </a:lnTo>
                  <a:lnTo>
                    <a:pt x="312" y="272"/>
                  </a:lnTo>
                  <a:lnTo>
                    <a:pt x="319" y="344"/>
                  </a:lnTo>
                  <a:lnTo>
                    <a:pt x="328" y="278"/>
                  </a:lnTo>
                  <a:lnTo>
                    <a:pt x="358" y="234"/>
                  </a:lnTo>
                  <a:lnTo>
                    <a:pt x="392" y="196"/>
                  </a:lnTo>
                  <a:lnTo>
                    <a:pt x="438" y="181"/>
                  </a:lnTo>
                  <a:lnTo>
                    <a:pt x="447" y="98"/>
                  </a:lnTo>
                  <a:lnTo>
                    <a:pt x="482" y="117"/>
                  </a:lnTo>
                  <a:lnTo>
                    <a:pt x="509" y="41"/>
                  </a:lnTo>
                  <a:lnTo>
                    <a:pt x="552" y="86"/>
                  </a:lnTo>
                  <a:lnTo>
                    <a:pt x="587" y="55"/>
                  </a:lnTo>
                  <a:lnTo>
                    <a:pt x="598" y="105"/>
                  </a:lnTo>
                  <a:lnTo>
                    <a:pt x="630" y="105"/>
                  </a:lnTo>
                  <a:lnTo>
                    <a:pt x="634" y="179"/>
                  </a:lnTo>
                  <a:lnTo>
                    <a:pt x="708" y="168"/>
                  </a:lnTo>
                  <a:lnTo>
                    <a:pt x="649" y="160"/>
                  </a:lnTo>
                  <a:lnTo>
                    <a:pt x="650" y="71"/>
                  </a:lnTo>
                  <a:lnTo>
                    <a:pt x="614" y="90"/>
                  </a:lnTo>
                  <a:lnTo>
                    <a:pt x="603" y="20"/>
                  </a:lnTo>
                  <a:lnTo>
                    <a:pt x="553" y="55"/>
                  </a:lnTo>
                  <a:lnTo>
                    <a:pt x="508" y="0"/>
                  </a:lnTo>
                  <a:lnTo>
                    <a:pt x="475" y="78"/>
                  </a:lnTo>
                  <a:lnTo>
                    <a:pt x="428" y="68"/>
                  </a:lnTo>
                  <a:lnTo>
                    <a:pt x="42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86560" y="4813200"/>
              <a:ext cx="161640" cy="79560"/>
            </a:xfrm>
            <a:custGeom>
              <a:avLst/>
              <a:gdLst/>
              <a:ahLst/>
              <a:rect l="l" t="t" r="r" b="b"/>
              <a:pathLst>
                <a:path w="307" h="150">
                  <a:moveTo>
                    <a:pt x="0" y="96"/>
                  </a:moveTo>
                  <a:lnTo>
                    <a:pt x="89" y="140"/>
                  </a:lnTo>
                  <a:lnTo>
                    <a:pt x="124" y="147"/>
                  </a:lnTo>
                  <a:lnTo>
                    <a:pt x="205" y="150"/>
                  </a:lnTo>
                  <a:lnTo>
                    <a:pt x="250" y="137"/>
                  </a:lnTo>
                  <a:lnTo>
                    <a:pt x="277" y="109"/>
                  </a:lnTo>
                  <a:lnTo>
                    <a:pt x="299" y="63"/>
                  </a:lnTo>
                  <a:lnTo>
                    <a:pt x="307" y="0"/>
                  </a:lnTo>
                  <a:lnTo>
                    <a:pt x="299" y="8"/>
                  </a:lnTo>
                  <a:lnTo>
                    <a:pt x="285" y="36"/>
                  </a:lnTo>
                  <a:lnTo>
                    <a:pt x="273" y="62"/>
                  </a:lnTo>
                  <a:lnTo>
                    <a:pt x="255" y="96"/>
                  </a:lnTo>
                  <a:lnTo>
                    <a:pt x="222" y="106"/>
                  </a:lnTo>
                  <a:lnTo>
                    <a:pt x="148" y="109"/>
                  </a:lnTo>
                  <a:lnTo>
                    <a:pt x="81" y="108"/>
                  </a:lnTo>
                  <a:lnTo>
                    <a:pt x="34" y="89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53200" y="4967280"/>
              <a:ext cx="174600" cy="193680"/>
            </a:xfrm>
            <a:custGeom>
              <a:avLst/>
              <a:gdLst/>
              <a:ahLst/>
              <a:rect l="l" t="t" r="r" b="b"/>
              <a:pathLst>
                <a:path w="330" h="365">
                  <a:moveTo>
                    <a:pt x="292" y="15"/>
                  </a:moveTo>
                  <a:lnTo>
                    <a:pt x="284" y="30"/>
                  </a:lnTo>
                  <a:lnTo>
                    <a:pt x="256" y="47"/>
                  </a:lnTo>
                  <a:lnTo>
                    <a:pt x="217" y="59"/>
                  </a:lnTo>
                  <a:lnTo>
                    <a:pt x="174" y="74"/>
                  </a:lnTo>
                  <a:lnTo>
                    <a:pt x="132" y="94"/>
                  </a:lnTo>
                  <a:lnTo>
                    <a:pt x="96" y="118"/>
                  </a:lnTo>
                  <a:lnTo>
                    <a:pt x="60" y="147"/>
                  </a:lnTo>
                  <a:lnTo>
                    <a:pt x="27" y="191"/>
                  </a:lnTo>
                  <a:lnTo>
                    <a:pt x="7" y="238"/>
                  </a:lnTo>
                  <a:lnTo>
                    <a:pt x="0" y="281"/>
                  </a:lnTo>
                  <a:lnTo>
                    <a:pt x="11" y="315"/>
                  </a:lnTo>
                  <a:lnTo>
                    <a:pt x="45" y="347"/>
                  </a:lnTo>
                  <a:lnTo>
                    <a:pt x="76" y="361"/>
                  </a:lnTo>
                  <a:lnTo>
                    <a:pt x="117" y="365"/>
                  </a:lnTo>
                  <a:lnTo>
                    <a:pt x="179" y="346"/>
                  </a:lnTo>
                  <a:lnTo>
                    <a:pt x="279" y="280"/>
                  </a:lnTo>
                  <a:lnTo>
                    <a:pt x="330" y="203"/>
                  </a:lnTo>
                  <a:lnTo>
                    <a:pt x="315" y="178"/>
                  </a:lnTo>
                  <a:lnTo>
                    <a:pt x="256" y="267"/>
                  </a:lnTo>
                  <a:lnTo>
                    <a:pt x="167" y="329"/>
                  </a:lnTo>
                  <a:lnTo>
                    <a:pt x="103" y="337"/>
                  </a:lnTo>
                  <a:lnTo>
                    <a:pt x="65" y="326"/>
                  </a:lnTo>
                  <a:lnTo>
                    <a:pt x="37" y="298"/>
                  </a:lnTo>
                  <a:lnTo>
                    <a:pt x="33" y="276"/>
                  </a:lnTo>
                  <a:lnTo>
                    <a:pt x="41" y="240"/>
                  </a:lnTo>
                  <a:lnTo>
                    <a:pt x="52" y="207"/>
                  </a:lnTo>
                  <a:lnTo>
                    <a:pt x="77" y="174"/>
                  </a:lnTo>
                  <a:lnTo>
                    <a:pt x="138" y="122"/>
                  </a:lnTo>
                  <a:lnTo>
                    <a:pt x="179" y="101"/>
                  </a:lnTo>
                  <a:lnTo>
                    <a:pt x="224" y="82"/>
                  </a:lnTo>
                  <a:lnTo>
                    <a:pt x="286" y="71"/>
                  </a:lnTo>
                  <a:lnTo>
                    <a:pt x="294" y="58"/>
                  </a:lnTo>
                  <a:lnTo>
                    <a:pt x="311" y="0"/>
                  </a:lnTo>
                  <a:lnTo>
                    <a:pt x="292" y="15"/>
                  </a:lnTo>
                  <a:lnTo>
                    <a:pt x="29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02240" y="4932360"/>
              <a:ext cx="290520" cy="291960"/>
            </a:xfrm>
            <a:custGeom>
              <a:avLst/>
              <a:gdLst/>
              <a:ahLst/>
              <a:rect l="l" t="t" r="r" b="b"/>
              <a:pathLst>
                <a:path w="549" h="551">
                  <a:moveTo>
                    <a:pt x="22" y="67"/>
                  </a:moveTo>
                  <a:lnTo>
                    <a:pt x="0" y="133"/>
                  </a:lnTo>
                  <a:lnTo>
                    <a:pt x="14" y="210"/>
                  </a:lnTo>
                  <a:lnTo>
                    <a:pt x="36" y="285"/>
                  </a:lnTo>
                  <a:lnTo>
                    <a:pt x="49" y="312"/>
                  </a:lnTo>
                  <a:lnTo>
                    <a:pt x="78" y="298"/>
                  </a:lnTo>
                  <a:lnTo>
                    <a:pt x="104" y="292"/>
                  </a:lnTo>
                  <a:lnTo>
                    <a:pt x="137" y="294"/>
                  </a:lnTo>
                  <a:lnTo>
                    <a:pt x="164" y="296"/>
                  </a:lnTo>
                  <a:lnTo>
                    <a:pt x="193" y="304"/>
                  </a:lnTo>
                  <a:lnTo>
                    <a:pt x="217" y="316"/>
                  </a:lnTo>
                  <a:lnTo>
                    <a:pt x="244" y="330"/>
                  </a:lnTo>
                  <a:lnTo>
                    <a:pt x="271" y="337"/>
                  </a:lnTo>
                  <a:lnTo>
                    <a:pt x="298" y="329"/>
                  </a:lnTo>
                  <a:lnTo>
                    <a:pt x="329" y="310"/>
                  </a:lnTo>
                  <a:lnTo>
                    <a:pt x="353" y="292"/>
                  </a:lnTo>
                  <a:lnTo>
                    <a:pt x="380" y="285"/>
                  </a:lnTo>
                  <a:lnTo>
                    <a:pt x="407" y="291"/>
                  </a:lnTo>
                  <a:lnTo>
                    <a:pt x="443" y="299"/>
                  </a:lnTo>
                  <a:lnTo>
                    <a:pt x="482" y="312"/>
                  </a:lnTo>
                  <a:lnTo>
                    <a:pt x="516" y="338"/>
                  </a:lnTo>
                  <a:lnTo>
                    <a:pt x="529" y="362"/>
                  </a:lnTo>
                  <a:lnTo>
                    <a:pt x="535" y="382"/>
                  </a:lnTo>
                  <a:lnTo>
                    <a:pt x="533" y="415"/>
                  </a:lnTo>
                  <a:lnTo>
                    <a:pt x="522" y="444"/>
                  </a:lnTo>
                  <a:lnTo>
                    <a:pt x="490" y="485"/>
                  </a:lnTo>
                  <a:lnTo>
                    <a:pt x="442" y="520"/>
                  </a:lnTo>
                  <a:lnTo>
                    <a:pt x="397" y="536"/>
                  </a:lnTo>
                  <a:lnTo>
                    <a:pt x="303" y="536"/>
                  </a:lnTo>
                  <a:lnTo>
                    <a:pt x="256" y="532"/>
                  </a:lnTo>
                  <a:lnTo>
                    <a:pt x="210" y="535"/>
                  </a:lnTo>
                  <a:lnTo>
                    <a:pt x="168" y="535"/>
                  </a:lnTo>
                  <a:lnTo>
                    <a:pt x="116" y="528"/>
                  </a:lnTo>
                  <a:lnTo>
                    <a:pt x="66" y="516"/>
                  </a:lnTo>
                  <a:lnTo>
                    <a:pt x="62" y="535"/>
                  </a:lnTo>
                  <a:lnTo>
                    <a:pt x="105" y="544"/>
                  </a:lnTo>
                  <a:lnTo>
                    <a:pt x="171" y="551"/>
                  </a:lnTo>
                  <a:lnTo>
                    <a:pt x="213" y="551"/>
                  </a:lnTo>
                  <a:lnTo>
                    <a:pt x="257" y="548"/>
                  </a:lnTo>
                  <a:lnTo>
                    <a:pt x="304" y="551"/>
                  </a:lnTo>
                  <a:lnTo>
                    <a:pt x="397" y="551"/>
                  </a:lnTo>
                  <a:lnTo>
                    <a:pt x="450" y="532"/>
                  </a:lnTo>
                  <a:lnTo>
                    <a:pt x="505" y="491"/>
                  </a:lnTo>
                  <a:lnTo>
                    <a:pt x="535" y="451"/>
                  </a:lnTo>
                  <a:lnTo>
                    <a:pt x="548" y="415"/>
                  </a:lnTo>
                  <a:lnTo>
                    <a:pt x="549" y="377"/>
                  </a:lnTo>
                  <a:lnTo>
                    <a:pt x="541" y="347"/>
                  </a:lnTo>
                  <a:lnTo>
                    <a:pt x="520" y="324"/>
                  </a:lnTo>
                  <a:lnTo>
                    <a:pt x="486" y="300"/>
                  </a:lnTo>
                  <a:lnTo>
                    <a:pt x="444" y="285"/>
                  </a:lnTo>
                  <a:lnTo>
                    <a:pt x="459" y="241"/>
                  </a:lnTo>
                  <a:lnTo>
                    <a:pt x="460" y="190"/>
                  </a:lnTo>
                  <a:lnTo>
                    <a:pt x="462" y="120"/>
                  </a:lnTo>
                  <a:lnTo>
                    <a:pt x="456" y="59"/>
                  </a:lnTo>
                  <a:lnTo>
                    <a:pt x="438" y="48"/>
                  </a:lnTo>
                  <a:lnTo>
                    <a:pt x="443" y="112"/>
                  </a:lnTo>
                  <a:lnTo>
                    <a:pt x="444" y="180"/>
                  </a:lnTo>
                  <a:lnTo>
                    <a:pt x="440" y="234"/>
                  </a:lnTo>
                  <a:lnTo>
                    <a:pt x="427" y="276"/>
                  </a:lnTo>
                  <a:lnTo>
                    <a:pt x="411" y="272"/>
                  </a:lnTo>
                  <a:lnTo>
                    <a:pt x="378" y="268"/>
                  </a:lnTo>
                  <a:lnTo>
                    <a:pt x="350" y="273"/>
                  </a:lnTo>
                  <a:lnTo>
                    <a:pt x="331" y="284"/>
                  </a:lnTo>
                  <a:lnTo>
                    <a:pt x="310" y="304"/>
                  </a:lnTo>
                  <a:lnTo>
                    <a:pt x="277" y="316"/>
                  </a:lnTo>
                  <a:lnTo>
                    <a:pt x="253" y="320"/>
                  </a:lnTo>
                  <a:lnTo>
                    <a:pt x="228" y="302"/>
                  </a:lnTo>
                  <a:lnTo>
                    <a:pt x="199" y="287"/>
                  </a:lnTo>
                  <a:lnTo>
                    <a:pt x="190" y="260"/>
                  </a:lnTo>
                  <a:lnTo>
                    <a:pt x="206" y="214"/>
                  </a:lnTo>
                  <a:lnTo>
                    <a:pt x="174" y="219"/>
                  </a:lnTo>
                  <a:lnTo>
                    <a:pt x="174" y="237"/>
                  </a:lnTo>
                  <a:lnTo>
                    <a:pt x="164" y="246"/>
                  </a:lnTo>
                  <a:lnTo>
                    <a:pt x="144" y="253"/>
                  </a:lnTo>
                  <a:lnTo>
                    <a:pt x="143" y="229"/>
                  </a:lnTo>
                  <a:lnTo>
                    <a:pt x="156" y="207"/>
                  </a:lnTo>
                  <a:lnTo>
                    <a:pt x="203" y="137"/>
                  </a:lnTo>
                  <a:lnTo>
                    <a:pt x="234" y="54"/>
                  </a:lnTo>
                  <a:lnTo>
                    <a:pt x="195" y="17"/>
                  </a:lnTo>
                  <a:lnTo>
                    <a:pt x="154" y="0"/>
                  </a:lnTo>
                  <a:lnTo>
                    <a:pt x="119" y="7"/>
                  </a:lnTo>
                  <a:lnTo>
                    <a:pt x="58" y="79"/>
                  </a:lnTo>
                  <a:lnTo>
                    <a:pt x="22" y="67"/>
                  </a:lnTo>
                  <a:lnTo>
                    <a:pt x="2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67400" y="4983120"/>
              <a:ext cx="57240" cy="73080"/>
            </a:xfrm>
            <a:custGeom>
              <a:avLst/>
              <a:gdLst/>
              <a:ahLst/>
              <a:rect l="l" t="t" r="r" b="b"/>
              <a:pathLst>
                <a:path w="107" h="138">
                  <a:moveTo>
                    <a:pt x="88" y="0"/>
                  </a:moveTo>
                  <a:lnTo>
                    <a:pt x="84" y="23"/>
                  </a:lnTo>
                  <a:lnTo>
                    <a:pt x="91" y="50"/>
                  </a:lnTo>
                  <a:lnTo>
                    <a:pt x="107" y="82"/>
                  </a:lnTo>
                  <a:lnTo>
                    <a:pt x="103" y="105"/>
                  </a:lnTo>
                  <a:lnTo>
                    <a:pt x="82" y="121"/>
                  </a:lnTo>
                  <a:lnTo>
                    <a:pt x="51" y="129"/>
                  </a:lnTo>
                  <a:lnTo>
                    <a:pt x="36" y="115"/>
                  </a:lnTo>
                  <a:lnTo>
                    <a:pt x="12" y="138"/>
                  </a:lnTo>
                  <a:lnTo>
                    <a:pt x="0" y="101"/>
                  </a:lnTo>
                  <a:lnTo>
                    <a:pt x="41" y="51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37320" y="4976640"/>
              <a:ext cx="141120" cy="14148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8" y="0"/>
                  </a:moveTo>
                  <a:lnTo>
                    <a:pt x="67" y="4"/>
                  </a:lnTo>
                  <a:lnTo>
                    <a:pt x="129" y="17"/>
                  </a:lnTo>
                  <a:lnTo>
                    <a:pt x="178" y="42"/>
                  </a:lnTo>
                  <a:lnTo>
                    <a:pt x="214" y="65"/>
                  </a:lnTo>
                  <a:lnTo>
                    <a:pt x="245" y="101"/>
                  </a:lnTo>
                  <a:lnTo>
                    <a:pt x="263" y="150"/>
                  </a:lnTo>
                  <a:lnTo>
                    <a:pt x="267" y="186"/>
                  </a:lnTo>
                  <a:lnTo>
                    <a:pt x="261" y="217"/>
                  </a:lnTo>
                  <a:lnTo>
                    <a:pt x="236" y="254"/>
                  </a:lnTo>
                  <a:lnTo>
                    <a:pt x="183" y="267"/>
                  </a:lnTo>
                  <a:lnTo>
                    <a:pt x="139" y="263"/>
                  </a:lnTo>
                  <a:lnTo>
                    <a:pt x="82" y="233"/>
                  </a:lnTo>
                  <a:lnTo>
                    <a:pt x="27" y="184"/>
                  </a:lnTo>
                  <a:lnTo>
                    <a:pt x="0" y="158"/>
                  </a:lnTo>
                  <a:lnTo>
                    <a:pt x="8" y="128"/>
                  </a:lnTo>
                  <a:lnTo>
                    <a:pt x="27" y="146"/>
                  </a:lnTo>
                  <a:lnTo>
                    <a:pt x="92" y="204"/>
                  </a:lnTo>
                  <a:lnTo>
                    <a:pt x="139" y="239"/>
                  </a:lnTo>
                  <a:lnTo>
                    <a:pt x="184" y="246"/>
                  </a:lnTo>
                  <a:lnTo>
                    <a:pt x="217" y="233"/>
                  </a:lnTo>
                  <a:lnTo>
                    <a:pt x="237" y="211"/>
                  </a:lnTo>
                  <a:lnTo>
                    <a:pt x="241" y="185"/>
                  </a:lnTo>
                  <a:lnTo>
                    <a:pt x="237" y="153"/>
                  </a:lnTo>
                  <a:lnTo>
                    <a:pt x="219" y="112"/>
                  </a:lnTo>
                  <a:lnTo>
                    <a:pt x="191" y="84"/>
                  </a:lnTo>
                  <a:lnTo>
                    <a:pt x="152" y="53"/>
                  </a:lnTo>
                  <a:lnTo>
                    <a:pt x="118" y="35"/>
                  </a:lnTo>
                  <a:lnTo>
                    <a:pt x="55" y="26"/>
                  </a:lnTo>
                  <a:lnTo>
                    <a:pt x="11" y="2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72240" y="5003640"/>
              <a:ext cx="66600" cy="79560"/>
            </a:xfrm>
            <a:custGeom>
              <a:avLst/>
              <a:gdLst/>
              <a:ahLst/>
              <a:rect l="l" t="t" r="r" b="b"/>
              <a:pathLst>
                <a:path w="128" h="150">
                  <a:moveTo>
                    <a:pt x="8" y="18"/>
                  </a:moveTo>
                  <a:lnTo>
                    <a:pt x="59" y="43"/>
                  </a:lnTo>
                  <a:lnTo>
                    <a:pt x="91" y="79"/>
                  </a:lnTo>
                  <a:lnTo>
                    <a:pt x="97" y="105"/>
                  </a:lnTo>
                  <a:lnTo>
                    <a:pt x="101" y="126"/>
                  </a:lnTo>
                  <a:lnTo>
                    <a:pt x="128" y="150"/>
                  </a:lnTo>
                  <a:lnTo>
                    <a:pt x="119" y="114"/>
                  </a:lnTo>
                  <a:lnTo>
                    <a:pt x="107" y="75"/>
                  </a:lnTo>
                  <a:lnTo>
                    <a:pt x="70" y="32"/>
                  </a:lnTo>
                  <a:lnTo>
                    <a:pt x="0" y="0"/>
                  </a:lnTo>
                  <a:lnTo>
                    <a:pt x="8" y="18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67560" y="5002200"/>
              <a:ext cx="72720" cy="81000"/>
            </a:xfrm>
            <a:custGeom>
              <a:avLst/>
              <a:gdLst/>
              <a:ahLst/>
              <a:rect l="l" t="t" r="r" b="b"/>
              <a:pathLst>
                <a:path w="136" h="153">
                  <a:moveTo>
                    <a:pt x="19" y="21"/>
                  </a:moveTo>
                  <a:lnTo>
                    <a:pt x="25" y="52"/>
                  </a:lnTo>
                  <a:lnTo>
                    <a:pt x="35" y="86"/>
                  </a:lnTo>
                  <a:lnTo>
                    <a:pt x="69" y="121"/>
                  </a:lnTo>
                  <a:lnTo>
                    <a:pt x="108" y="129"/>
                  </a:lnTo>
                  <a:lnTo>
                    <a:pt x="136" y="153"/>
                  </a:lnTo>
                  <a:lnTo>
                    <a:pt x="63" y="143"/>
                  </a:lnTo>
                  <a:lnTo>
                    <a:pt x="24" y="108"/>
                  </a:lnTo>
                  <a:lnTo>
                    <a:pt x="0" y="50"/>
                  </a:lnTo>
                  <a:lnTo>
                    <a:pt x="4" y="0"/>
                  </a:lnTo>
                  <a:lnTo>
                    <a:pt x="19" y="21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57760" y="5037120"/>
              <a:ext cx="25560" cy="3816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44" y="10"/>
                  </a:moveTo>
                  <a:lnTo>
                    <a:pt x="20" y="16"/>
                  </a:lnTo>
                  <a:lnTo>
                    <a:pt x="12" y="35"/>
                  </a:lnTo>
                  <a:lnTo>
                    <a:pt x="16" y="53"/>
                  </a:lnTo>
                  <a:lnTo>
                    <a:pt x="40" y="49"/>
                  </a:lnTo>
                  <a:lnTo>
                    <a:pt x="48" y="63"/>
                  </a:lnTo>
                  <a:lnTo>
                    <a:pt x="16" y="72"/>
                  </a:lnTo>
                  <a:lnTo>
                    <a:pt x="5" y="64"/>
                  </a:lnTo>
                  <a:lnTo>
                    <a:pt x="0" y="39"/>
                  </a:lnTo>
                  <a:lnTo>
                    <a:pt x="6" y="10"/>
                  </a:lnTo>
                  <a:lnTo>
                    <a:pt x="44" y="0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75400" y="5037120"/>
              <a:ext cx="15840" cy="33480"/>
            </a:xfrm>
            <a:custGeom>
              <a:avLst/>
              <a:gdLst/>
              <a:ahLst/>
              <a:rect l="l" t="t" r="r" b="b"/>
              <a:pathLst>
                <a:path w="28" h="62">
                  <a:moveTo>
                    <a:pt x="3" y="11"/>
                  </a:moveTo>
                  <a:lnTo>
                    <a:pt x="14" y="25"/>
                  </a:lnTo>
                  <a:lnTo>
                    <a:pt x="0" y="51"/>
                  </a:lnTo>
                  <a:lnTo>
                    <a:pt x="15" y="62"/>
                  </a:lnTo>
                  <a:lnTo>
                    <a:pt x="28" y="27"/>
                  </a:lnTo>
                  <a:lnTo>
                    <a:pt x="11" y="0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73600" y="5127480"/>
              <a:ext cx="74880" cy="47880"/>
            </a:xfrm>
            <a:custGeom>
              <a:avLst/>
              <a:gdLst/>
              <a:ahLst/>
              <a:rect l="l" t="t" r="r" b="b"/>
              <a:pathLst>
                <a:path w="143" h="91">
                  <a:moveTo>
                    <a:pt x="0" y="91"/>
                  </a:moveTo>
                  <a:lnTo>
                    <a:pt x="3" y="57"/>
                  </a:lnTo>
                  <a:lnTo>
                    <a:pt x="16" y="28"/>
                  </a:lnTo>
                  <a:lnTo>
                    <a:pt x="40" y="6"/>
                  </a:lnTo>
                  <a:lnTo>
                    <a:pt x="73" y="0"/>
                  </a:lnTo>
                  <a:lnTo>
                    <a:pt x="106" y="1"/>
                  </a:lnTo>
                  <a:lnTo>
                    <a:pt x="130" y="10"/>
                  </a:lnTo>
                  <a:lnTo>
                    <a:pt x="143" y="29"/>
                  </a:lnTo>
                  <a:lnTo>
                    <a:pt x="137" y="45"/>
                  </a:lnTo>
                  <a:lnTo>
                    <a:pt x="125" y="49"/>
                  </a:lnTo>
                  <a:lnTo>
                    <a:pt x="124" y="33"/>
                  </a:lnTo>
                  <a:lnTo>
                    <a:pt x="118" y="28"/>
                  </a:lnTo>
                  <a:lnTo>
                    <a:pt x="101" y="20"/>
                  </a:lnTo>
                  <a:lnTo>
                    <a:pt x="73" y="17"/>
                  </a:lnTo>
                  <a:lnTo>
                    <a:pt x="55" y="24"/>
                  </a:lnTo>
                  <a:lnTo>
                    <a:pt x="39" y="40"/>
                  </a:lnTo>
                  <a:lnTo>
                    <a:pt x="28" y="57"/>
                  </a:lnTo>
                  <a:lnTo>
                    <a:pt x="24" y="87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86560" y="5145120"/>
              <a:ext cx="60120" cy="22320"/>
            </a:xfrm>
            <a:custGeom>
              <a:avLst/>
              <a:gdLst/>
              <a:ahLst/>
              <a:rect l="l" t="t" r="r" b="b"/>
              <a:pathLst>
                <a:path w="114" h="41">
                  <a:moveTo>
                    <a:pt x="100" y="0"/>
                  </a:moveTo>
                  <a:lnTo>
                    <a:pt x="96" y="22"/>
                  </a:lnTo>
                  <a:lnTo>
                    <a:pt x="71" y="18"/>
                  </a:lnTo>
                  <a:lnTo>
                    <a:pt x="54" y="22"/>
                  </a:lnTo>
                  <a:lnTo>
                    <a:pt x="4" y="19"/>
                  </a:lnTo>
                  <a:lnTo>
                    <a:pt x="0" y="37"/>
                  </a:lnTo>
                  <a:lnTo>
                    <a:pt x="54" y="38"/>
                  </a:lnTo>
                  <a:lnTo>
                    <a:pt x="71" y="33"/>
                  </a:lnTo>
                  <a:lnTo>
                    <a:pt x="105" y="41"/>
                  </a:lnTo>
                  <a:lnTo>
                    <a:pt x="114" y="8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27800" y="5137200"/>
              <a:ext cx="74520" cy="41400"/>
            </a:xfrm>
            <a:custGeom>
              <a:avLst/>
              <a:gdLst/>
              <a:ahLst/>
              <a:rect l="l" t="t" r="r" b="b"/>
              <a:pathLst>
                <a:path w="140" h="80">
                  <a:moveTo>
                    <a:pt x="140" y="73"/>
                  </a:moveTo>
                  <a:lnTo>
                    <a:pt x="131" y="43"/>
                  </a:lnTo>
                  <a:lnTo>
                    <a:pt x="101" y="11"/>
                  </a:lnTo>
                  <a:lnTo>
                    <a:pt x="78" y="1"/>
                  </a:lnTo>
                  <a:lnTo>
                    <a:pt x="47" y="0"/>
                  </a:lnTo>
                  <a:lnTo>
                    <a:pt x="22" y="15"/>
                  </a:lnTo>
                  <a:lnTo>
                    <a:pt x="3" y="36"/>
                  </a:lnTo>
                  <a:lnTo>
                    <a:pt x="0" y="74"/>
                  </a:lnTo>
                  <a:lnTo>
                    <a:pt x="22" y="73"/>
                  </a:lnTo>
                  <a:lnTo>
                    <a:pt x="24" y="51"/>
                  </a:lnTo>
                  <a:lnTo>
                    <a:pt x="28" y="34"/>
                  </a:lnTo>
                  <a:lnTo>
                    <a:pt x="49" y="22"/>
                  </a:lnTo>
                  <a:lnTo>
                    <a:pt x="76" y="23"/>
                  </a:lnTo>
                  <a:lnTo>
                    <a:pt x="94" y="31"/>
                  </a:lnTo>
                  <a:lnTo>
                    <a:pt x="116" y="54"/>
                  </a:lnTo>
                  <a:lnTo>
                    <a:pt x="124" y="80"/>
                  </a:lnTo>
                  <a:lnTo>
                    <a:pt x="140" y="73"/>
                  </a:lnTo>
                  <a:lnTo>
                    <a:pt x="1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38960" y="5151600"/>
              <a:ext cx="45720" cy="23760"/>
            </a:xfrm>
            <a:custGeom>
              <a:avLst/>
              <a:gdLst/>
              <a:ahLst/>
              <a:rect l="l" t="t" r="r" b="b"/>
              <a:pathLst>
                <a:path w="87" h="46">
                  <a:moveTo>
                    <a:pt x="2" y="23"/>
                  </a:moveTo>
                  <a:lnTo>
                    <a:pt x="27" y="19"/>
                  </a:lnTo>
                  <a:lnTo>
                    <a:pt x="54" y="19"/>
                  </a:lnTo>
                  <a:lnTo>
                    <a:pt x="73" y="0"/>
                  </a:lnTo>
                  <a:lnTo>
                    <a:pt x="87" y="13"/>
                  </a:lnTo>
                  <a:lnTo>
                    <a:pt x="60" y="35"/>
                  </a:lnTo>
                  <a:lnTo>
                    <a:pt x="29" y="36"/>
                  </a:lnTo>
                  <a:lnTo>
                    <a:pt x="0" y="46"/>
                  </a:lnTo>
                  <a:lnTo>
                    <a:pt x="2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483160" y="5089680"/>
              <a:ext cx="57240" cy="125280"/>
            </a:xfrm>
            <a:custGeom>
              <a:avLst/>
              <a:gdLst/>
              <a:ahLst/>
              <a:rect l="l" t="t" r="r" b="b"/>
              <a:pathLst>
                <a:path w="107" h="237">
                  <a:moveTo>
                    <a:pt x="95" y="5"/>
                  </a:moveTo>
                  <a:lnTo>
                    <a:pt x="51" y="52"/>
                  </a:lnTo>
                  <a:lnTo>
                    <a:pt x="28" y="86"/>
                  </a:lnTo>
                  <a:lnTo>
                    <a:pt x="23" y="126"/>
                  </a:lnTo>
                  <a:lnTo>
                    <a:pt x="29" y="168"/>
                  </a:lnTo>
                  <a:lnTo>
                    <a:pt x="62" y="205"/>
                  </a:lnTo>
                  <a:lnTo>
                    <a:pt x="107" y="221"/>
                  </a:lnTo>
                  <a:lnTo>
                    <a:pt x="98" y="237"/>
                  </a:lnTo>
                  <a:lnTo>
                    <a:pt x="41" y="215"/>
                  </a:lnTo>
                  <a:lnTo>
                    <a:pt x="9" y="170"/>
                  </a:lnTo>
                  <a:lnTo>
                    <a:pt x="0" y="122"/>
                  </a:lnTo>
                  <a:lnTo>
                    <a:pt x="8" y="89"/>
                  </a:lnTo>
                  <a:lnTo>
                    <a:pt x="33" y="48"/>
                  </a:lnTo>
                  <a:lnTo>
                    <a:pt x="83" y="0"/>
                  </a:lnTo>
                  <a:lnTo>
                    <a:pt x="95" y="5"/>
                  </a:lnTo>
                  <a:lnTo>
                    <a:pt x="9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407200" y="5029200"/>
              <a:ext cx="90360" cy="85680"/>
            </a:xfrm>
            <a:custGeom>
              <a:avLst/>
              <a:gdLst/>
              <a:ahLst/>
              <a:rect l="l" t="t" r="r" b="b"/>
              <a:pathLst>
                <a:path w="169" h="162">
                  <a:moveTo>
                    <a:pt x="146" y="24"/>
                  </a:moveTo>
                  <a:lnTo>
                    <a:pt x="101" y="34"/>
                  </a:lnTo>
                  <a:lnTo>
                    <a:pt x="54" y="77"/>
                  </a:lnTo>
                  <a:lnTo>
                    <a:pt x="31" y="136"/>
                  </a:lnTo>
                  <a:lnTo>
                    <a:pt x="0" y="162"/>
                  </a:lnTo>
                  <a:lnTo>
                    <a:pt x="29" y="71"/>
                  </a:lnTo>
                  <a:lnTo>
                    <a:pt x="89" y="19"/>
                  </a:lnTo>
                  <a:lnTo>
                    <a:pt x="169" y="0"/>
                  </a:lnTo>
                  <a:lnTo>
                    <a:pt x="146" y="24"/>
                  </a:lnTo>
                  <a:lnTo>
                    <a:pt x="14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07200" y="5030640"/>
              <a:ext cx="87120" cy="82800"/>
            </a:xfrm>
            <a:custGeom>
              <a:avLst/>
              <a:gdLst/>
              <a:ahLst/>
              <a:rect l="l" t="t" r="r" b="b"/>
              <a:pathLst>
                <a:path w="165" h="155">
                  <a:moveTo>
                    <a:pt x="146" y="11"/>
                  </a:moveTo>
                  <a:lnTo>
                    <a:pt x="142" y="48"/>
                  </a:lnTo>
                  <a:lnTo>
                    <a:pt x="119" y="86"/>
                  </a:lnTo>
                  <a:lnTo>
                    <a:pt x="70" y="122"/>
                  </a:lnTo>
                  <a:lnTo>
                    <a:pt x="33" y="126"/>
                  </a:lnTo>
                  <a:lnTo>
                    <a:pt x="0" y="155"/>
                  </a:lnTo>
                  <a:lnTo>
                    <a:pt x="70" y="147"/>
                  </a:lnTo>
                  <a:lnTo>
                    <a:pt x="133" y="108"/>
                  </a:lnTo>
                  <a:lnTo>
                    <a:pt x="161" y="54"/>
                  </a:lnTo>
                  <a:lnTo>
                    <a:pt x="165" y="0"/>
                  </a:lnTo>
                  <a:lnTo>
                    <a:pt x="146" y="11"/>
                  </a:lnTo>
                  <a:lnTo>
                    <a:pt x="1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70640" y="5219640"/>
              <a:ext cx="135000" cy="38160"/>
            </a:xfrm>
            <a:custGeom>
              <a:avLst/>
              <a:gdLst/>
              <a:ahLst/>
              <a:rect l="l" t="t" r="r" b="b"/>
              <a:pathLst>
                <a:path w="257" h="72">
                  <a:moveTo>
                    <a:pt x="0" y="0"/>
                  </a:moveTo>
                  <a:lnTo>
                    <a:pt x="27" y="33"/>
                  </a:lnTo>
                  <a:lnTo>
                    <a:pt x="72" y="62"/>
                  </a:lnTo>
                  <a:lnTo>
                    <a:pt x="125" y="72"/>
                  </a:lnTo>
                  <a:lnTo>
                    <a:pt x="169" y="70"/>
                  </a:lnTo>
                  <a:lnTo>
                    <a:pt x="207" y="56"/>
                  </a:lnTo>
                  <a:lnTo>
                    <a:pt x="257" y="7"/>
                  </a:lnTo>
                  <a:lnTo>
                    <a:pt x="222" y="6"/>
                  </a:lnTo>
                  <a:lnTo>
                    <a:pt x="189" y="37"/>
                  </a:lnTo>
                  <a:lnTo>
                    <a:pt x="189" y="6"/>
                  </a:lnTo>
                  <a:lnTo>
                    <a:pt x="175" y="7"/>
                  </a:lnTo>
                  <a:lnTo>
                    <a:pt x="175" y="46"/>
                  </a:lnTo>
                  <a:lnTo>
                    <a:pt x="163" y="53"/>
                  </a:lnTo>
                  <a:lnTo>
                    <a:pt x="138" y="57"/>
                  </a:lnTo>
                  <a:lnTo>
                    <a:pt x="138" y="4"/>
                  </a:lnTo>
                  <a:lnTo>
                    <a:pt x="118" y="4"/>
                  </a:lnTo>
                  <a:lnTo>
                    <a:pt x="118" y="53"/>
                  </a:lnTo>
                  <a:lnTo>
                    <a:pt x="99" y="53"/>
                  </a:lnTo>
                  <a:lnTo>
                    <a:pt x="87" y="49"/>
                  </a:lnTo>
                  <a:lnTo>
                    <a:pt x="87" y="6"/>
                  </a:lnTo>
                  <a:lnTo>
                    <a:pt x="72" y="4"/>
                  </a:lnTo>
                  <a:lnTo>
                    <a:pt x="72" y="39"/>
                  </a:lnTo>
                  <a:lnTo>
                    <a:pt x="45" y="25"/>
                  </a:lnTo>
                  <a:lnTo>
                    <a:pt x="37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556240" y="5216400"/>
              <a:ext cx="814320" cy="1090800"/>
            </a:xfrm>
            <a:custGeom>
              <a:avLst/>
              <a:gdLst/>
              <a:ahLst/>
              <a:rect l="l" t="t" r="r" b="b"/>
              <a:pathLst>
                <a:path w="1540" h="2059">
                  <a:moveTo>
                    <a:pt x="295" y="7"/>
                  </a:moveTo>
                  <a:lnTo>
                    <a:pt x="297" y="30"/>
                  </a:lnTo>
                  <a:lnTo>
                    <a:pt x="290" y="51"/>
                  </a:lnTo>
                  <a:lnTo>
                    <a:pt x="269" y="84"/>
                  </a:lnTo>
                  <a:lnTo>
                    <a:pt x="215" y="127"/>
                  </a:lnTo>
                  <a:lnTo>
                    <a:pt x="184" y="139"/>
                  </a:lnTo>
                  <a:lnTo>
                    <a:pt x="138" y="140"/>
                  </a:lnTo>
                  <a:lnTo>
                    <a:pt x="79" y="127"/>
                  </a:lnTo>
                  <a:lnTo>
                    <a:pt x="48" y="86"/>
                  </a:lnTo>
                  <a:lnTo>
                    <a:pt x="25" y="39"/>
                  </a:lnTo>
                  <a:lnTo>
                    <a:pt x="24" y="0"/>
                  </a:lnTo>
                  <a:lnTo>
                    <a:pt x="0" y="0"/>
                  </a:lnTo>
                  <a:lnTo>
                    <a:pt x="6" y="42"/>
                  </a:lnTo>
                  <a:lnTo>
                    <a:pt x="20" y="96"/>
                  </a:lnTo>
                  <a:lnTo>
                    <a:pt x="31" y="156"/>
                  </a:lnTo>
                  <a:lnTo>
                    <a:pt x="29" y="206"/>
                  </a:lnTo>
                  <a:lnTo>
                    <a:pt x="39" y="282"/>
                  </a:lnTo>
                  <a:lnTo>
                    <a:pt x="58" y="358"/>
                  </a:lnTo>
                  <a:lnTo>
                    <a:pt x="94" y="411"/>
                  </a:lnTo>
                  <a:lnTo>
                    <a:pt x="140" y="465"/>
                  </a:lnTo>
                  <a:lnTo>
                    <a:pt x="173" y="515"/>
                  </a:lnTo>
                  <a:lnTo>
                    <a:pt x="188" y="586"/>
                  </a:lnTo>
                  <a:lnTo>
                    <a:pt x="198" y="659"/>
                  </a:lnTo>
                  <a:lnTo>
                    <a:pt x="210" y="756"/>
                  </a:lnTo>
                  <a:lnTo>
                    <a:pt x="246" y="843"/>
                  </a:lnTo>
                  <a:lnTo>
                    <a:pt x="288" y="907"/>
                  </a:lnTo>
                  <a:lnTo>
                    <a:pt x="304" y="982"/>
                  </a:lnTo>
                  <a:lnTo>
                    <a:pt x="323" y="1049"/>
                  </a:lnTo>
                  <a:lnTo>
                    <a:pt x="360" y="1115"/>
                  </a:lnTo>
                  <a:lnTo>
                    <a:pt x="428" y="1185"/>
                  </a:lnTo>
                  <a:lnTo>
                    <a:pt x="488" y="1235"/>
                  </a:lnTo>
                  <a:lnTo>
                    <a:pt x="529" y="1274"/>
                  </a:lnTo>
                  <a:lnTo>
                    <a:pt x="544" y="1331"/>
                  </a:lnTo>
                  <a:lnTo>
                    <a:pt x="553" y="1375"/>
                  </a:lnTo>
                  <a:lnTo>
                    <a:pt x="579" y="1406"/>
                  </a:lnTo>
                  <a:lnTo>
                    <a:pt x="646" y="1465"/>
                  </a:lnTo>
                  <a:lnTo>
                    <a:pt x="684" y="1514"/>
                  </a:lnTo>
                  <a:lnTo>
                    <a:pt x="693" y="1552"/>
                  </a:lnTo>
                  <a:lnTo>
                    <a:pt x="690" y="1601"/>
                  </a:lnTo>
                  <a:lnTo>
                    <a:pt x="678" y="1631"/>
                  </a:lnTo>
                  <a:lnTo>
                    <a:pt x="677" y="1673"/>
                  </a:lnTo>
                  <a:lnTo>
                    <a:pt x="685" y="1713"/>
                  </a:lnTo>
                  <a:lnTo>
                    <a:pt x="709" y="1751"/>
                  </a:lnTo>
                  <a:lnTo>
                    <a:pt x="721" y="1771"/>
                  </a:lnTo>
                  <a:lnTo>
                    <a:pt x="713" y="1805"/>
                  </a:lnTo>
                  <a:lnTo>
                    <a:pt x="657" y="1926"/>
                  </a:lnTo>
                  <a:lnTo>
                    <a:pt x="647" y="1981"/>
                  </a:lnTo>
                  <a:lnTo>
                    <a:pt x="690" y="2016"/>
                  </a:lnTo>
                  <a:lnTo>
                    <a:pt x="737" y="2015"/>
                  </a:lnTo>
                  <a:lnTo>
                    <a:pt x="786" y="2011"/>
                  </a:lnTo>
                  <a:lnTo>
                    <a:pt x="789" y="2046"/>
                  </a:lnTo>
                  <a:lnTo>
                    <a:pt x="818" y="2042"/>
                  </a:lnTo>
                  <a:lnTo>
                    <a:pt x="851" y="2008"/>
                  </a:lnTo>
                  <a:lnTo>
                    <a:pt x="844" y="2058"/>
                  </a:lnTo>
                  <a:lnTo>
                    <a:pt x="914" y="2059"/>
                  </a:lnTo>
                  <a:lnTo>
                    <a:pt x="964" y="2039"/>
                  </a:lnTo>
                  <a:lnTo>
                    <a:pt x="1017" y="1983"/>
                  </a:lnTo>
                  <a:lnTo>
                    <a:pt x="1043" y="1926"/>
                  </a:lnTo>
                  <a:lnTo>
                    <a:pt x="1048" y="1856"/>
                  </a:lnTo>
                  <a:lnTo>
                    <a:pt x="1039" y="1809"/>
                  </a:lnTo>
                  <a:lnTo>
                    <a:pt x="1024" y="1771"/>
                  </a:lnTo>
                  <a:lnTo>
                    <a:pt x="1043" y="1735"/>
                  </a:lnTo>
                  <a:lnTo>
                    <a:pt x="1051" y="1689"/>
                  </a:lnTo>
                  <a:lnTo>
                    <a:pt x="1043" y="1649"/>
                  </a:lnTo>
                  <a:lnTo>
                    <a:pt x="1000" y="1576"/>
                  </a:lnTo>
                  <a:lnTo>
                    <a:pt x="942" y="1499"/>
                  </a:lnTo>
                  <a:lnTo>
                    <a:pt x="925" y="1445"/>
                  </a:lnTo>
                  <a:lnTo>
                    <a:pt x="933" y="1381"/>
                  </a:lnTo>
                  <a:lnTo>
                    <a:pt x="941" y="1328"/>
                  </a:lnTo>
                  <a:lnTo>
                    <a:pt x="921" y="1284"/>
                  </a:lnTo>
                  <a:lnTo>
                    <a:pt x="860" y="1191"/>
                  </a:lnTo>
                  <a:lnTo>
                    <a:pt x="837" y="1130"/>
                  </a:lnTo>
                  <a:lnTo>
                    <a:pt x="840" y="1082"/>
                  </a:lnTo>
                  <a:lnTo>
                    <a:pt x="872" y="1059"/>
                  </a:lnTo>
                  <a:lnTo>
                    <a:pt x="946" y="1051"/>
                  </a:lnTo>
                  <a:lnTo>
                    <a:pt x="1035" y="1055"/>
                  </a:lnTo>
                  <a:lnTo>
                    <a:pt x="1078" y="1063"/>
                  </a:lnTo>
                  <a:lnTo>
                    <a:pt x="1160" y="1071"/>
                  </a:lnTo>
                  <a:lnTo>
                    <a:pt x="1252" y="1068"/>
                  </a:lnTo>
                  <a:lnTo>
                    <a:pt x="1316" y="1047"/>
                  </a:lnTo>
                  <a:lnTo>
                    <a:pt x="1423" y="959"/>
                  </a:lnTo>
                  <a:lnTo>
                    <a:pt x="1481" y="901"/>
                  </a:lnTo>
                  <a:lnTo>
                    <a:pt x="1514" y="841"/>
                  </a:lnTo>
                  <a:lnTo>
                    <a:pt x="1536" y="761"/>
                  </a:lnTo>
                  <a:lnTo>
                    <a:pt x="1540" y="617"/>
                  </a:lnTo>
                  <a:lnTo>
                    <a:pt x="1506" y="594"/>
                  </a:lnTo>
                  <a:lnTo>
                    <a:pt x="1502" y="639"/>
                  </a:lnTo>
                  <a:lnTo>
                    <a:pt x="1516" y="647"/>
                  </a:lnTo>
                  <a:lnTo>
                    <a:pt x="1512" y="749"/>
                  </a:lnTo>
                  <a:lnTo>
                    <a:pt x="1489" y="831"/>
                  </a:lnTo>
                  <a:lnTo>
                    <a:pt x="1463" y="878"/>
                  </a:lnTo>
                  <a:lnTo>
                    <a:pt x="1400" y="947"/>
                  </a:lnTo>
                  <a:lnTo>
                    <a:pt x="1312" y="1012"/>
                  </a:lnTo>
                  <a:lnTo>
                    <a:pt x="1269" y="1020"/>
                  </a:lnTo>
                  <a:lnTo>
                    <a:pt x="1225" y="1010"/>
                  </a:lnTo>
                  <a:lnTo>
                    <a:pt x="1194" y="966"/>
                  </a:lnTo>
                  <a:lnTo>
                    <a:pt x="1156" y="938"/>
                  </a:lnTo>
                  <a:lnTo>
                    <a:pt x="1152" y="908"/>
                  </a:lnTo>
                  <a:lnTo>
                    <a:pt x="1168" y="882"/>
                  </a:lnTo>
                  <a:lnTo>
                    <a:pt x="1186" y="838"/>
                  </a:lnTo>
                  <a:lnTo>
                    <a:pt x="1186" y="788"/>
                  </a:lnTo>
                  <a:lnTo>
                    <a:pt x="1168" y="762"/>
                  </a:lnTo>
                  <a:lnTo>
                    <a:pt x="1131" y="741"/>
                  </a:lnTo>
                  <a:lnTo>
                    <a:pt x="1090" y="741"/>
                  </a:lnTo>
                  <a:lnTo>
                    <a:pt x="1047" y="769"/>
                  </a:lnTo>
                  <a:lnTo>
                    <a:pt x="1019" y="815"/>
                  </a:lnTo>
                  <a:lnTo>
                    <a:pt x="1001" y="837"/>
                  </a:lnTo>
                  <a:lnTo>
                    <a:pt x="960" y="842"/>
                  </a:lnTo>
                  <a:lnTo>
                    <a:pt x="934" y="857"/>
                  </a:lnTo>
                  <a:lnTo>
                    <a:pt x="921" y="884"/>
                  </a:lnTo>
                  <a:lnTo>
                    <a:pt x="898" y="904"/>
                  </a:lnTo>
                  <a:lnTo>
                    <a:pt x="868" y="904"/>
                  </a:lnTo>
                  <a:lnTo>
                    <a:pt x="834" y="886"/>
                  </a:lnTo>
                  <a:lnTo>
                    <a:pt x="810" y="849"/>
                  </a:lnTo>
                  <a:lnTo>
                    <a:pt x="795" y="812"/>
                  </a:lnTo>
                  <a:lnTo>
                    <a:pt x="763" y="775"/>
                  </a:lnTo>
                  <a:lnTo>
                    <a:pt x="736" y="745"/>
                  </a:lnTo>
                  <a:lnTo>
                    <a:pt x="720" y="761"/>
                  </a:lnTo>
                  <a:lnTo>
                    <a:pt x="755" y="808"/>
                  </a:lnTo>
                  <a:lnTo>
                    <a:pt x="783" y="849"/>
                  </a:lnTo>
                  <a:lnTo>
                    <a:pt x="798" y="892"/>
                  </a:lnTo>
                  <a:lnTo>
                    <a:pt x="809" y="951"/>
                  </a:lnTo>
                  <a:lnTo>
                    <a:pt x="798" y="989"/>
                  </a:lnTo>
                  <a:lnTo>
                    <a:pt x="787" y="1068"/>
                  </a:lnTo>
                  <a:lnTo>
                    <a:pt x="789" y="1122"/>
                  </a:lnTo>
                  <a:lnTo>
                    <a:pt x="809" y="1181"/>
                  </a:lnTo>
                  <a:lnTo>
                    <a:pt x="857" y="1247"/>
                  </a:lnTo>
                  <a:lnTo>
                    <a:pt x="895" y="1292"/>
                  </a:lnTo>
                  <a:lnTo>
                    <a:pt x="912" y="1339"/>
                  </a:lnTo>
                  <a:lnTo>
                    <a:pt x="906" y="1375"/>
                  </a:lnTo>
                  <a:lnTo>
                    <a:pt x="898" y="1429"/>
                  </a:lnTo>
                  <a:lnTo>
                    <a:pt x="899" y="1467"/>
                  </a:lnTo>
                  <a:lnTo>
                    <a:pt x="915" y="1507"/>
                  </a:lnTo>
                  <a:lnTo>
                    <a:pt x="941" y="1550"/>
                  </a:lnTo>
                  <a:lnTo>
                    <a:pt x="985" y="1603"/>
                  </a:lnTo>
                  <a:lnTo>
                    <a:pt x="1013" y="1651"/>
                  </a:lnTo>
                  <a:lnTo>
                    <a:pt x="1024" y="1681"/>
                  </a:lnTo>
                  <a:lnTo>
                    <a:pt x="1016" y="1719"/>
                  </a:lnTo>
                  <a:lnTo>
                    <a:pt x="987" y="1760"/>
                  </a:lnTo>
                  <a:lnTo>
                    <a:pt x="999" y="1789"/>
                  </a:lnTo>
                  <a:lnTo>
                    <a:pt x="1012" y="1821"/>
                  </a:lnTo>
                  <a:lnTo>
                    <a:pt x="1017" y="1853"/>
                  </a:lnTo>
                  <a:lnTo>
                    <a:pt x="1013" y="1917"/>
                  </a:lnTo>
                  <a:lnTo>
                    <a:pt x="989" y="1969"/>
                  </a:lnTo>
                  <a:lnTo>
                    <a:pt x="947" y="2011"/>
                  </a:lnTo>
                  <a:lnTo>
                    <a:pt x="910" y="2030"/>
                  </a:lnTo>
                  <a:lnTo>
                    <a:pt x="875" y="2034"/>
                  </a:lnTo>
                  <a:lnTo>
                    <a:pt x="875" y="1996"/>
                  </a:lnTo>
                  <a:lnTo>
                    <a:pt x="888" y="1934"/>
                  </a:lnTo>
                  <a:lnTo>
                    <a:pt x="869" y="1922"/>
                  </a:lnTo>
                  <a:lnTo>
                    <a:pt x="845" y="1987"/>
                  </a:lnTo>
                  <a:lnTo>
                    <a:pt x="820" y="2005"/>
                  </a:lnTo>
                  <a:lnTo>
                    <a:pt x="805" y="2001"/>
                  </a:lnTo>
                  <a:lnTo>
                    <a:pt x="806" y="1938"/>
                  </a:lnTo>
                  <a:lnTo>
                    <a:pt x="814" y="1903"/>
                  </a:lnTo>
                  <a:lnTo>
                    <a:pt x="852" y="1837"/>
                  </a:lnTo>
                  <a:lnTo>
                    <a:pt x="869" y="1794"/>
                  </a:lnTo>
                  <a:lnTo>
                    <a:pt x="840" y="1791"/>
                  </a:lnTo>
                  <a:lnTo>
                    <a:pt x="837" y="1817"/>
                  </a:lnTo>
                  <a:lnTo>
                    <a:pt x="801" y="1878"/>
                  </a:lnTo>
                  <a:lnTo>
                    <a:pt x="787" y="1911"/>
                  </a:lnTo>
                  <a:lnTo>
                    <a:pt x="782" y="1944"/>
                  </a:lnTo>
                  <a:lnTo>
                    <a:pt x="781" y="1987"/>
                  </a:lnTo>
                  <a:lnTo>
                    <a:pt x="754" y="1989"/>
                  </a:lnTo>
                  <a:lnTo>
                    <a:pt x="762" y="1927"/>
                  </a:lnTo>
                  <a:lnTo>
                    <a:pt x="754" y="1888"/>
                  </a:lnTo>
                  <a:lnTo>
                    <a:pt x="740" y="1892"/>
                  </a:lnTo>
                  <a:lnTo>
                    <a:pt x="739" y="1934"/>
                  </a:lnTo>
                  <a:lnTo>
                    <a:pt x="721" y="1976"/>
                  </a:lnTo>
                  <a:lnTo>
                    <a:pt x="693" y="1974"/>
                  </a:lnTo>
                  <a:lnTo>
                    <a:pt x="688" y="1938"/>
                  </a:lnTo>
                  <a:lnTo>
                    <a:pt x="712" y="1888"/>
                  </a:lnTo>
                  <a:lnTo>
                    <a:pt x="736" y="1808"/>
                  </a:lnTo>
                  <a:lnTo>
                    <a:pt x="748" y="1754"/>
                  </a:lnTo>
                  <a:lnTo>
                    <a:pt x="731" y="1732"/>
                  </a:lnTo>
                  <a:lnTo>
                    <a:pt x="709" y="1702"/>
                  </a:lnTo>
                  <a:lnTo>
                    <a:pt x="702" y="1671"/>
                  </a:lnTo>
                  <a:lnTo>
                    <a:pt x="702" y="1632"/>
                  </a:lnTo>
                  <a:lnTo>
                    <a:pt x="713" y="1601"/>
                  </a:lnTo>
                  <a:lnTo>
                    <a:pt x="723" y="1560"/>
                  </a:lnTo>
                  <a:lnTo>
                    <a:pt x="716" y="1518"/>
                  </a:lnTo>
                  <a:lnTo>
                    <a:pt x="692" y="1467"/>
                  </a:lnTo>
                  <a:lnTo>
                    <a:pt x="632" y="1406"/>
                  </a:lnTo>
                  <a:lnTo>
                    <a:pt x="606" y="1377"/>
                  </a:lnTo>
                  <a:lnTo>
                    <a:pt x="596" y="1328"/>
                  </a:lnTo>
                  <a:lnTo>
                    <a:pt x="606" y="1298"/>
                  </a:lnTo>
                  <a:lnTo>
                    <a:pt x="632" y="1257"/>
                  </a:lnTo>
                  <a:lnTo>
                    <a:pt x="643" y="1195"/>
                  </a:lnTo>
                  <a:lnTo>
                    <a:pt x="593" y="1121"/>
                  </a:lnTo>
                  <a:lnTo>
                    <a:pt x="544" y="1051"/>
                  </a:lnTo>
                  <a:lnTo>
                    <a:pt x="505" y="985"/>
                  </a:lnTo>
                  <a:lnTo>
                    <a:pt x="471" y="919"/>
                  </a:lnTo>
                  <a:lnTo>
                    <a:pt x="435" y="831"/>
                  </a:lnTo>
                  <a:lnTo>
                    <a:pt x="425" y="846"/>
                  </a:lnTo>
                  <a:lnTo>
                    <a:pt x="456" y="931"/>
                  </a:lnTo>
                  <a:lnTo>
                    <a:pt x="488" y="1012"/>
                  </a:lnTo>
                  <a:lnTo>
                    <a:pt x="437" y="956"/>
                  </a:lnTo>
                  <a:lnTo>
                    <a:pt x="385" y="928"/>
                  </a:lnTo>
                  <a:lnTo>
                    <a:pt x="340" y="896"/>
                  </a:lnTo>
                  <a:lnTo>
                    <a:pt x="303" y="861"/>
                  </a:lnTo>
                  <a:lnTo>
                    <a:pt x="278" y="818"/>
                  </a:lnTo>
                  <a:lnTo>
                    <a:pt x="273" y="762"/>
                  </a:lnTo>
                  <a:lnTo>
                    <a:pt x="297" y="718"/>
                  </a:lnTo>
                  <a:lnTo>
                    <a:pt x="332" y="679"/>
                  </a:lnTo>
                  <a:lnTo>
                    <a:pt x="342" y="626"/>
                  </a:lnTo>
                  <a:lnTo>
                    <a:pt x="370" y="590"/>
                  </a:lnTo>
                  <a:lnTo>
                    <a:pt x="401" y="547"/>
                  </a:lnTo>
                  <a:lnTo>
                    <a:pt x="410" y="490"/>
                  </a:lnTo>
                  <a:lnTo>
                    <a:pt x="430" y="458"/>
                  </a:lnTo>
                  <a:lnTo>
                    <a:pt x="466" y="430"/>
                  </a:lnTo>
                  <a:lnTo>
                    <a:pt x="474" y="388"/>
                  </a:lnTo>
                  <a:lnTo>
                    <a:pt x="457" y="345"/>
                  </a:lnTo>
                  <a:lnTo>
                    <a:pt x="422" y="315"/>
                  </a:lnTo>
                  <a:lnTo>
                    <a:pt x="370" y="294"/>
                  </a:lnTo>
                  <a:lnTo>
                    <a:pt x="336" y="302"/>
                  </a:lnTo>
                  <a:lnTo>
                    <a:pt x="300" y="315"/>
                  </a:lnTo>
                  <a:lnTo>
                    <a:pt x="270" y="314"/>
                  </a:lnTo>
                  <a:lnTo>
                    <a:pt x="241" y="280"/>
                  </a:lnTo>
                  <a:lnTo>
                    <a:pt x="223" y="220"/>
                  </a:lnTo>
                  <a:lnTo>
                    <a:pt x="227" y="152"/>
                  </a:lnTo>
                  <a:lnTo>
                    <a:pt x="260" y="119"/>
                  </a:lnTo>
                  <a:lnTo>
                    <a:pt x="305" y="74"/>
                  </a:lnTo>
                  <a:lnTo>
                    <a:pt x="319" y="38"/>
                  </a:lnTo>
                  <a:lnTo>
                    <a:pt x="319" y="0"/>
                  </a:lnTo>
                  <a:lnTo>
                    <a:pt x="295" y="7"/>
                  </a:lnTo>
                  <a:lnTo>
                    <a:pt x="29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67560" y="4923000"/>
              <a:ext cx="928440" cy="1285560"/>
            </a:xfrm>
            <a:custGeom>
              <a:avLst/>
              <a:gdLst/>
              <a:ahLst/>
              <a:rect l="l" t="t" r="r" b="b"/>
              <a:pathLst>
                <a:path w="1755" h="2432">
                  <a:moveTo>
                    <a:pt x="18" y="481"/>
                  </a:moveTo>
                  <a:lnTo>
                    <a:pt x="43" y="509"/>
                  </a:lnTo>
                  <a:lnTo>
                    <a:pt x="80" y="526"/>
                  </a:lnTo>
                  <a:lnTo>
                    <a:pt x="114" y="524"/>
                  </a:lnTo>
                  <a:lnTo>
                    <a:pt x="149" y="509"/>
                  </a:lnTo>
                  <a:lnTo>
                    <a:pt x="196" y="503"/>
                  </a:lnTo>
                  <a:lnTo>
                    <a:pt x="251" y="505"/>
                  </a:lnTo>
                  <a:lnTo>
                    <a:pt x="311" y="525"/>
                  </a:lnTo>
                  <a:lnTo>
                    <a:pt x="382" y="557"/>
                  </a:lnTo>
                  <a:lnTo>
                    <a:pt x="455" y="579"/>
                  </a:lnTo>
                  <a:lnTo>
                    <a:pt x="577" y="610"/>
                  </a:lnTo>
                  <a:lnTo>
                    <a:pt x="673" y="621"/>
                  </a:lnTo>
                  <a:lnTo>
                    <a:pt x="741" y="621"/>
                  </a:lnTo>
                  <a:lnTo>
                    <a:pt x="838" y="610"/>
                  </a:lnTo>
                  <a:lnTo>
                    <a:pt x="903" y="586"/>
                  </a:lnTo>
                  <a:lnTo>
                    <a:pt x="981" y="511"/>
                  </a:lnTo>
                  <a:lnTo>
                    <a:pt x="1017" y="459"/>
                  </a:lnTo>
                  <a:lnTo>
                    <a:pt x="1060" y="416"/>
                  </a:lnTo>
                  <a:lnTo>
                    <a:pt x="1093" y="401"/>
                  </a:lnTo>
                  <a:lnTo>
                    <a:pt x="1136" y="393"/>
                  </a:lnTo>
                  <a:lnTo>
                    <a:pt x="1180" y="400"/>
                  </a:lnTo>
                  <a:lnTo>
                    <a:pt x="1215" y="419"/>
                  </a:lnTo>
                  <a:lnTo>
                    <a:pt x="1261" y="456"/>
                  </a:lnTo>
                  <a:lnTo>
                    <a:pt x="1292" y="471"/>
                  </a:lnTo>
                  <a:lnTo>
                    <a:pt x="1318" y="476"/>
                  </a:lnTo>
                  <a:lnTo>
                    <a:pt x="1351" y="454"/>
                  </a:lnTo>
                  <a:lnTo>
                    <a:pt x="1378" y="436"/>
                  </a:lnTo>
                  <a:lnTo>
                    <a:pt x="1414" y="433"/>
                  </a:lnTo>
                  <a:lnTo>
                    <a:pt x="1464" y="451"/>
                  </a:lnTo>
                  <a:lnTo>
                    <a:pt x="1507" y="491"/>
                  </a:lnTo>
                  <a:lnTo>
                    <a:pt x="1529" y="526"/>
                  </a:lnTo>
                  <a:lnTo>
                    <a:pt x="1554" y="573"/>
                  </a:lnTo>
                  <a:lnTo>
                    <a:pt x="1599" y="557"/>
                  </a:lnTo>
                  <a:lnTo>
                    <a:pt x="1654" y="497"/>
                  </a:lnTo>
                  <a:lnTo>
                    <a:pt x="1661" y="412"/>
                  </a:lnTo>
                  <a:lnTo>
                    <a:pt x="1631" y="339"/>
                  </a:lnTo>
                  <a:lnTo>
                    <a:pt x="1556" y="270"/>
                  </a:lnTo>
                  <a:lnTo>
                    <a:pt x="1482" y="243"/>
                  </a:lnTo>
                  <a:lnTo>
                    <a:pt x="1385" y="233"/>
                  </a:lnTo>
                  <a:lnTo>
                    <a:pt x="1281" y="242"/>
                  </a:lnTo>
                  <a:lnTo>
                    <a:pt x="1191" y="268"/>
                  </a:lnTo>
                  <a:lnTo>
                    <a:pt x="1124" y="293"/>
                  </a:lnTo>
                  <a:lnTo>
                    <a:pt x="1021" y="304"/>
                  </a:lnTo>
                  <a:lnTo>
                    <a:pt x="935" y="305"/>
                  </a:lnTo>
                  <a:lnTo>
                    <a:pt x="868" y="279"/>
                  </a:lnTo>
                  <a:lnTo>
                    <a:pt x="814" y="233"/>
                  </a:lnTo>
                  <a:lnTo>
                    <a:pt x="797" y="168"/>
                  </a:lnTo>
                  <a:lnTo>
                    <a:pt x="802" y="109"/>
                  </a:lnTo>
                  <a:lnTo>
                    <a:pt x="840" y="51"/>
                  </a:lnTo>
                  <a:lnTo>
                    <a:pt x="873" y="0"/>
                  </a:lnTo>
                  <a:lnTo>
                    <a:pt x="872" y="74"/>
                  </a:lnTo>
                  <a:lnTo>
                    <a:pt x="965" y="19"/>
                  </a:lnTo>
                  <a:lnTo>
                    <a:pt x="897" y="103"/>
                  </a:lnTo>
                  <a:lnTo>
                    <a:pt x="883" y="142"/>
                  </a:lnTo>
                  <a:lnTo>
                    <a:pt x="895" y="183"/>
                  </a:lnTo>
                  <a:lnTo>
                    <a:pt x="935" y="215"/>
                  </a:lnTo>
                  <a:lnTo>
                    <a:pt x="1017" y="221"/>
                  </a:lnTo>
                  <a:lnTo>
                    <a:pt x="1114" y="199"/>
                  </a:lnTo>
                  <a:lnTo>
                    <a:pt x="1184" y="173"/>
                  </a:lnTo>
                  <a:lnTo>
                    <a:pt x="1265" y="157"/>
                  </a:lnTo>
                  <a:lnTo>
                    <a:pt x="1350" y="151"/>
                  </a:lnTo>
                  <a:lnTo>
                    <a:pt x="1451" y="153"/>
                  </a:lnTo>
                  <a:lnTo>
                    <a:pt x="1534" y="168"/>
                  </a:lnTo>
                  <a:lnTo>
                    <a:pt x="1630" y="225"/>
                  </a:lnTo>
                  <a:lnTo>
                    <a:pt x="1719" y="322"/>
                  </a:lnTo>
                  <a:lnTo>
                    <a:pt x="1755" y="462"/>
                  </a:lnTo>
                  <a:lnTo>
                    <a:pt x="1739" y="525"/>
                  </a:lnTo>
                  <a:lnTo>
                    <a:pt x="1677" y="608"/>
                  </a:lnTo>
                  <a:lnTo>
                    <a:pt x="1612" y="664"/>
                  </a:lnTo>
                  <a:lnTo>
                    <a:pt x="1634" y="726"/>
                  </a:lnTo>
                  <a:lnTo>
                    <a:pt x="1639" y="789"/>
                  </a:lnTo>
                  <a:lnTo>
                    <a:pt x="1627" y="856"/>
                  </a:lnTo>
                  <a:lnTo>
                    <a:pt x="1612" y="934"/>
                  </a:lnTo>
                  <a:lnTo>
                    <a:pt x="1604" y="1003"/>
                  </a:lnTo>
                  <a:lnTo>
                    <a:pt x="1607" y="1078"/>
                  </a:lnTo>
                  <a:lnTo>
                    <a:pt x="1614" y="1130"/>
                  </a:lnTo>
                  <a:lnTo>
                    <a:pt x="1614" y="1200"/>
                  </a:lnTo>
                  <a:lnTo>
                    <a:pt x="1595" y="1258"/>
                  </a:lnTo>
                  <a:lnTo>
                    <a:pt x="1553" y="1334"/>
                  </a:lnTo>
                  <a:lnTo>
                    <a:pt x="1490" y="1411"/>
                  </a:lnTo>
                  <a:lnTo>
                    <a:pt x="1447" y="1486"/>
                  </a:lnTo>
                  <a:lnTo>
                    <a:pt x="1410" y="1569"/>
                  </a:lnTo>
                  <a:lnTo>
                    <a:pt x="1389" y="1645"/>
                  </a:lnTo>
                  <a:lnTo>
                    <a:pt x="1381" y="1714"/>
                  </a:lnTo>
                  <a:lnTo>
                    <a:pt x="1379" y="1765"/>
                  </a:lnTo>
                  <a:lnTo>
                    <a:pt x="1388" y="1820"/>
                  </a:lnTo>
                  <a:lnTo>
                    <a:pt x="1388" y="1854"/>
                  </a:lnTo>
                  <a:lnTo>
                    <a:pt x="1370" y="1890"/>
                  </a:lnTo>
                  <a:lnTo>
                    <a:pt x="1326" y="1936"/>
                  </a:lnTo>
                  <a:lnTo>
                    <a:pt x="1266" y="1998"/>
                  </a:lnTo>
                  <a:lnTo>
                    <a:pt x="1203" y="2082"/>
                  </a:lnTo>
                  <a:lnTo>
                    <a:pt x="1163" y="2169"/>
                  </a:lnTo>
                  <a:lnTo>
                    <a:pt x="1140" y="2239"/>
                  </a:lnTo>
                  <a:lnTo>
                    <a:pt x="1133" y="2311"/>
                  </a:lnTo>
                  <a:lnTo>
                    <a:pt x="1130" y="2358"/>
                  </a:lnTo>
                  <a:lnTo>
                    <a:pt x="1089" y="2405"/>
                  </a:lnTo>
                  <a:lnTo>
                    <a:pt x="1042" y="2430"/>
                  </a:lnTo>
                  <a:lnTo>
                    <a:pt x="969" y="2432"/>
                  </a:lnTo>
                  <a:lnTo>
                    <a:pt x="912" y="2413"/>
                  </a:lnTo>
                  <a:lnTo>
                    <a:pt x="857" y="2370"/>
                  </a:lnTo>
                  <a:lnTo>
                    <a:pt x="857" y="2331"/>
                  </a:lnTo>
                  <a:lnTo>
                    <a:pt x="865" y="2281"/>
                  </a:lnTo>
                  <a:lnTo>
                    <a:pt x="912" y="2223"/>
                  </a:lnTo>
                  <a:lnTo>
                    <a:pt x="972" y="2176"/>
                  </a:lnTo>
                  <a:lnTo>
                    <a:pt x="1007" y="2114"/>
                  </a:lnTo>
                  <a:lnTo>
                    <a:pt x="1035" y="2045"/>
                  </a:lnTo>
                  <a:lnTo>
                    <a:pt x="1063" y="1958"/>
                  </a:lnTo>
                  <a:lnTo>
                    <a:pt x="1097" y="1884"/>
                  </a:lnTo>
                  <a:lnTo>
                    <a:pt x="1125" y="1865"/>
                  </a:lnTo>
                  <a:lnTo>
                    <a:pt x="1190" y="1858"/>
                  </a:lnTo>
                  <a:lnTo>
                    <a:pt x="1239" y="1839"/>
                  </a:lnTo>
                  <a:lnTo>
                    <a:pt x="1270" y="1776"/>
                  </a:lnTo>
                  <a:lnTo>
                    <a:pt x="1281" y="1729"/>
                  </a:lnTo>
                  <a:lnTo>
                    <a:pt x="1309" y="1687"/>
                  </a:lnTo>
                  <a:lnTo>
                    <a:pt x="1353" y="1652"/>
                  </a:lnTo>
                  <a:lnTo>
                    <a:pt x="1377" y="1569"/>
                  </a:lnTo>
                  <a:lnTo>
                    <a:pt x="1385" y="1515"/>
                  </a:lnTo>
                  <a:lnTo>
                    <a:pt x="1384" y="1462"/>
                  </a:lnTo>
                  <a:lnTo>
                    <a:pt x="1357" y="1496"/>
                  </a:lnTo>
                  <a:lnTo>
                    <a:pt x="1313" y="1515"/>
                  </a:lnTo>
                  <a:lnTo>
                    <a:pt x="1269" y="1515"/>
                  </a:lnTo>
                  <a:lnTo>
                    <a:pt x="1239" y="1503"/>
                  </a:lnTo>
                  <a:lnTo>
                    <a:pt x="1226" y="1453"/>
                  </a:lnTo>
                  <a:lnTo>
                    <a:pt x="1222" y="1392"/>
                  </a:lnTo>
                  <a:lnTo>
                    <a:pt x="1238" y="1324"/>
                  </a:lnTo>
                  <a:lnTo>
                    <a:pt x="1278" y="1235"/>
                  </a:lnTo>
                  <a:lnTo>
                    <a:pt x="1336" y="1138"/>
                  </a:lnTo>
                  <a:lnTo>
                    <a:pt x="1414" y="1056"/>
                  </a:lnTo>
                  <a:lnTo>
                    <a:pt x="1460" y="988"/>
                  </a:lnTo>
                  <a:lnTo>
                    <a:pt x="1499" y="907"/>
                  </a:lnTo>
                  <a:lnTo>
                    <a:pt x="1529" y="833"/>
                  </a:lnTo>
                  <a:lnTo>
                    <a:pt x="1563" y="788"/>
                  </a:lnTo>
                  <a:lnTo>
                    <a:pt x="1607" y="753"/>
                  </a:lnTo>
                  <a:lnTo>
                    <a:pt x="1608" y="720"/>
                  </a:lnTo>
                  <a:lnTo>
                    <a:pt x="1589" y="662"/>
                  </a:lnTo>
                  <a:lnTo>
                    <a:pt x="1552" y="627"/>
                  </a:lnTo>
                  <a:lnTo>
                    <a:pt x="1526" y="568"/>
                  </a:lnTo>
                  <a:lnTo>
                    <a:pt x="1493" y="518"/>
                  </a:lnTo>
                  <a:lnTo>
                    <a:pt x="1459" y="482"/>
                  </a:lnTo>
                  <a:lnTo>
                    <a:pt x="1419" y="463"/>
                  </a:lnTo>
                  <a:lnTo>
                    <a:pt x="1381" y="470"/>
                  </a:lnTo>
                  <a:lnTo>
                    <a:pt x="1339" y="495"/>
                  </a:lnTo>
                  <a:lnTo>
                    <a:pt x="1304" y="528"/>
                  </a:lnTo>
                  <a:lnTo>
                    <a:pt x="1273" y="556"/>
                  </a:lnTo>
                  <a:lnTo>
                    <a:pt x="1234" y="573"/>
                  </a:lnTo>
                  <a:lnTo>
                    <a:pt x="1199" y="564"/>
                  </a:lnTo>
                  <a:lnTo>
                    <a:pt x="1238" y="553"/>
                  </a:lnTo>
                  <a:lnTo>
                    <a:pt x="1272" y="534"/>
                  </a:lnTo>
                  <a:lnTo>
                    <a:pt x="1291" y="505"/>
                  </a:lnTo>
                  <a:lnTo>
                    <a:pt x="1261" y="491"/>
                  </a:lnTo>
                  <a:lnTo>
                    <a:pt x="1219" y="468"/>
                  </a:lnTo>
                  <a:lnTo>
                    <a:pt x="1192" y="437"/>
                  </a:lnTo>
                  <a:lnTo>
                    <a:pt x="1164" y="424"/>
                  </a:lnTo>
                  <a:lnTo>
                    <a:pt x="1136" y="419"/>
                  </a:lnTo>
                  <a:lnTo>
                    <a:pt x="1098" y="429"/>
                  </a:lnTo>
                  <a:lnTo>
                    <a:pt x="1075" y="444"/>
                  </a:lnTo>
                  <a:lnTo>
                    <a:pt x="1039" y="482"/>
                  </a:lnTo>
                  <a:lnTo>
                    <a:pt x="1008" y="521"/>
                  </a:lnTo>
                  <a:lnTo>
                    <a:pt x="989" y="553"/>
                  </a:lnTo>
                  <a:lnTo>
                    <a:pt x="1044" y="525"/>
                  </a:lnTo>
                  <a:lnTo>
                    <a:pt x="1090" y="503"/>
                  </a:lnTo>
                  <a:lnTo>
                    <a:pt x="1140" y="486"/>
                  </a:lnTo>
                  <a:lnTo>
                    <a:pt x="1184" y="482"/>
                  </a:lnTo>
                  <a:lnTo>
                    <a:pt x="1234" y="495"/>
                  </a:lnTo>
                  <a:lnTo>
                    <a:pt x="1182" y="498"/>
                  </a:lnTo>
                  <a:lnTo>
                    <a:pt x="1140" y="514"/>
                  </a:lnTo>
                  <a:lnTo>
                    <a:pt x="1102" y="540"/>
                  </a:lnTo>
                  <a:lnTo>
                    <a:pt x="1083" y="591"/>
                  </a:lnTo>
                  <a:lnTo>
                    <a:pt x="1075" y="649"/>
                  </a:lnTo>
                  <a:lnTo>
                    <a:pt x="1078" y="699"/>
                  </a:lnTo>
                  <a:lnTo>
                    <a:pt x="1095" y="743"/>
                  </a:lnTo>
                  <a:lnTo>
                    <a:pt x="1124" y="792"/>
                  </a:lnTo>
                  <a:lnTo>
                    <a:pt x="1138" y="840"/>
                  </a:lnTo>
                  <a:lnTo>
                    <a:pt x="1130" y="886"/>
                  </a:lnTo>
                  <a:lnTo>
                    <a:pt x="1103" y="944"/>
                  </a:lnTo>
                  <a:lnTo>
                    <a:pt x="1059" y="987"/>
                  </a:lnTo>
                  <a:lnTo>
                    <a:pt x="1013" y="1050"/>
                  </a:lnTo>
                  <a:lnTo>
                    <a:pt x="988" y="1093"/>
                  </a:lnTo>
                  <a:lnTo>
                    <a:pt x="962" y="1153"/>
                  </a:lnTo>
                  <a:lnTo>
                    <a:pt x="920" y="1190"/>
                  </a:lnTo>
                  <a:lnTo>
                    <a:pt x="879" y="1224"/>
                  </a:lnTo>
                  <a:lnTo>
                    <a:pt x="836" y="1239"/>
                  </a:lnTo>
                  <a:lnTo>
                    <a:pt x="788" y="1232"/>
                  </a:lnTo>
                  <a:lnTo>
                    <a:pt x="736" y="1188"/>
                  </a:lnTo>
                  <a:lnTo>
                    <a:pt x="696" y="1135"/>
                  </a:lnTo>
                  <a:lnTo>
                    <a:pt x="624" y="1064"/>
                  </a:lnTo>
                  <a:lnTo>
                    <a:pt x="566" y="990"/>
                  </a:lnTo>
                  <a:lnTo>
                    <a:pt x="531" y="937"/>
                  </a:lnTo>
                  <a:lnTo>
                    <a:pt x="511" y="911"/>
                  </a:lnTo>
                  <a:lnTo>
                    <a:pt x="477" y="910"/>
                  </a:lnTo>
                  <a:lnTo>
                    <a:pt x="449" y="910"/>
                  </a:lnTo>
                  <a:lnTo>
                    <a:pt x="418" y="889"/>
                  </a:lnTo>
                  <a:lnTo>
                    <a:pt x="398" y="845"/>
                  </a:lnTo>
                  <a:lnTo>
                    <a:pt x="389" y="784"/>
                  </a:lnTo>
                  <a:lnTo>
                    <a:pt x="395" y="718"/>
                  </a:lnTo>
                  <a:lnTo>
                    <a:pt x="406" y="666"/>
                  </a:lnTo>
                  <a:lnTo>
                    <a:pt x="399" y="622"/>
                  </a:lnTo>
                  <a:lnTo>
                    <a:pt x="372" y="592"/>
                  </a:lnTo>
                  <a:lnTo>
                    <a:pt x="302" y="559"/>
                  </a:lnTo>
                  <a:lnTo>
                    <a:pt x="259" y="542"/>
                  </a:lnTo>
                  <a:lnTo>
                    <a:pt x="207" y="540"/>
                  </a:lnTo>
                  <a:lnTo>
                    <a:pt x="150" y="541"/>
                  </a:lnTo>
                  <a:lnTo>
                    <a:pt x="114" y="557"/>
                  </a:lnTo>
                  <a:lnTo>
                    <a:pt x="60" y="553"/>
                  </a:lnTo>
                  <a:lnTo>
                    <a:pt x="26" y="534"/>
                  </a:lnTo>
                  <a:lnTo>
                    <a:pt x="0" y="501"/>
                  </a:lnTo>
                  <a:lnTo>
                    <a:pt x="18" y="481"/>
                  </a:lnTo>
                  <a:lnTo>
                    <a:pt x="18" y="4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51680" y="5673600"/>
              <a:ext cx="210960" cy="254160"/>
            </a:xfrm>
            <a:custGeom>
              <a:avLst/>
              <a:gdLst/>
              <a:ahLst/>
              <a:rect l="l" t="t" r="r" b="b"/>
              <a:pathLst>
                <a:path w="398" h="482">
                  <a:moveTo>
                    <a:pt x="24" y="193"/>
                  </a:moveTo>
                  <a:lnTo>
                    <a:pt x="44" y="226"/>
                  </a:lnTo>
                  <a:lnTo>
                    <a:pt x="49" y="251"/>
                  </a:lnTo>
                  <a:lnTo>
                    <a:pt x="39" y="287"/>
                  </a:lnTo>
                  <a:lnTo>
                    <a:pt x="14" y="317"/>
                  </a:lnTo>
                  <a:lnTo>
                    <a:pt x="1" y="349"/>
                  </a:lnTo>
                  <a:lnTo>
                    <a:pt x="0" y="384"/>
                  </a:lnTo>
                  <a:lnTo>
                    <a:pt x="10" y="410"/>
                  </a:lnTo>
                  <a:lnTo>
                    <a:pt x="40" y="416"/>
                  </a:lnTo>
                  <a:lnTo>
                    <a:pt x="71" y="408"/>
                  </a:lnTo>
                  <a:lnTo>
                    <a:pt x="94" y="385"/>
                  </a:lnTo>
                  <a:lnTo>
                    <a:pt x="115" y="366"/>
                  </a:lnTo>
                  <a:lnTo>
                    <a:pt x="129" y="360"/>
                  </a:lnTo>
                  <a:lnTo>
                    <a:pt x="140" y="369"/>
                  </a:lnTo>
                  <a:lnTo>
                    <a:pt x="133" y="401"/>
                  </a:lnTo>
                  <a:lnTo>
                    <a:pt x="123" y="434"/>
                  </a:lnTo>
                  <a:lnTo>
                    <a:pt x="123" y="459"/>
                  </a:lnTo>
                  <a:lnTo>
                    <a:pt x="145" y="477"/>
                  </a:lnTo>
                  <a:lnTo>
                    <a:pt x="176" y="478"/>
                  </a:lnTo>
                  <a:lnTo>
                    <a:pt x="204" y="455"/>
                  </a:lnTo>
                  <a:lnTo>
                    <a:pt x="222" y="426"/>
                  </a:lnTo>
                  <a:lnTo>
                    <a:pt x="227" y="381"/>
                  </a:lnTo>
                  <a:lnTo>
                    <a:pt x="238" y="376"/>
                  </a:lnTo>
                  <a:lnTo>
                    <a:pt x="243" y="391"/>
                  </a:lnTo>
                  <a:lnTo>
                    <a:pt x="245" y="430"/>
                  </a:lnTo>
                  <a:lnTo>
                    <a:pt x="245" y="457"/>
                  </a:lnTo>
                  <a:lnTo>
                    <a:pt x="262" y="473"/>
                  </a:lnTo>
                  <a:lnTo>
                    <a:pt x="292" y="482"/>
                  </a:lnTo>
                  <a:lnTo>
                    <a:pt x="319" y="470"/>
                  </a:lnTo>
                  <a:lnTo>
                    <a:pt x="336" y="426"/>
                  </a:lnTo>
                  <a:lnTo>
                    <a:pt x="343" y="387"/>
                  </a:lnTo>
                  <a:lnTo>
                    <a:pt x="356" y="357"/>
                  </a:lnTo>
                  <a:lnTo>
                    <a:pt x="368" y="377"/>
                  </a:lnTo>
                  <a:lnTo>
                    <a:pt x="366" y="431"/>
                  </a:lnTo>
                  <a:lnTo>
                    <a:pt x="366" y="482"/>
                  </a:lnTo>
                  <a:lnTo>
                    <a:pt x="398" y="451"/>
                  </a:lnTo>
                  <a:lnTo>
                    <a:pt x="398" y="350"/>
                  </a:lnTo>
                  <a:lnTo>
                    <a:pt x="371" y="303"/>
                  </a:lnTo>
                  <a:lnTo>
                    <a:pt x="362" y="253"/>
                  </a:lnTo>
                  <a:lnTo>
                    <a:pt x="366" y="194"/>
                  </a:lnTo>
                  <a:lnTo>
                    <a:pt x="363" y="119"/>
                  </a:lnTo>
                  <a:lnTo>
                    <a:pt x="371" y="50"/>
                  </a:lnTo>
                  <a:lnTo>
                    <a:pt x="374" y="0"/>
                  </a:lnTo>
                  <a:lnTo>
                    <a:pt x="343" y="45"/>
                  </a:lnTo>
                  <a:lnTo>
                    <a:pt x="335" y="112"/>
                  </a:lnTo>
                  <a:lnTo>
                    <a:pt x="339" y="189"/>
                  </a:lnTo>
                  <a:lnTo>
                    <a:pt x="332" y="256"/>
                  </a:lnTo>
                  <a:lnTo>
                    <a:pt x="350" y="311"/>
                  </a:lnTo>
                  <a:lnTo>
                    <a:pt x="351" y="334"/>
                  </a:lnTo>
                  <a:lnTo>
                    <a:pt x="317" y="342"/>
                  </a:lnTo>
                  <a:lnTo>
                    <a:pt x="317" y="375"/>
                  </a:lnTo>
                  <a:lnTo>
                    <a:pt x="315" y="418"/>
                  </a:lnTo>
                  <a:lnTo>
                    <a:pt x="298" y="443"/>
                  </a:lnTo>
                  <a:lnTo>
                    <a:pt x="278" y="446"/>
                  </a:lnTo>
                  <a:lnTo>
                    <a:pt x="267" y="416"/>
                  </a:lnTo>
                  <a:lnTo>
                    <a:pt x="267" y="384"/>
                  </a:lnTo>
                  <a:lnTo>
                    <a:pt x="257" y="350"/>
                  </a:lnTo>
                  <a:lnTo>
                    <a:pt x="239" y="338"/>
                  </a:lnTo>
                  <a:lnTo>
                    <a:pt x="219" y="342"/>
                  </a:lnTo>
                  <a:lnTo>
                    <a:pt x="208" y="375"/>
                  </a:lnTo>
                  <a:lnTo>
                    <a:pt x="200" y="412"/>
                  </a:lnTo>
                  <a:lnTo>
                    <a:pt x="188" y="442"/>
                  </a:lnTo>
                  <a:lnTo>
                    <a:pt x="160" y="442"/>
                  </a:lnTo>
                  <a:lnTo>
                    <a:pt x="152" y="414"/>
                  </a:lnTo>
                  <a:lnTo>
                    <a:pt x="160" y="383"/>
                  </a:lnTo>
                  <a:lnTo>
                    <a:pt x="173" y="340"/>
                  </a:lnTo>
                  <a:lnTo>
                    <a:pt x="164" y="313"/>
                  </a:lnTo>
                  <a:lnTo>
                    <a:pt x="145" y="303"/>
                  </a:lnTo>
                  <a:lnTo>
                    <a:pt x="115" y="315"/>
                  </a:lnTo>
                  <a:lnTo>
                    <a:pt x="100" y="344"/>
                  </a:lnTo>
                  <a:lnTo>
                    <a:pt x="72" y="368"/>
                  </a:lnTo>
                  <a:lnTo>
                    <a:pt x="44" y="375"/>
                  </a:lnTo>
                  <a:lnTo>
                    <a:pt x="30" y="369"/>
                  </a:lnTo>
                  <a:lnTo>
                    <a:pt x="29" y="342"/>
                  </a:lnTo>
                  <a:lnTo>
                    <a:pt x="44" y="321"/>
                  </a:lnTo>
                  <a:lnTo>
                    <a:pt x="71" y="294"/>
                  </a:lnTo>
                  <a:lnTo>
                    <a:pt x="87" y="267"/>
                  </a:lnTo>
                  <a:lnTo>
                    <a:pt x="87" y="234"/>
                  </a:lnTo>
                  <a:lnTo>
                    <a:pt x="72" y="191"/>
                  </a:lnTo>
                  <a:lnTo>
                    <a:pt x="24" y="193"/>
                  </a:lnTo>
                  <a:lnTo>
                    <a:pt x="24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38720" y="5913360"/>
              <a:ext cx="187560" cy="397080"/>
            </a:xfrm>
            <a:custGeom>
              <a:avLst/>
              <a:gdLst/>
              <a:ahLst/>
              <a:rect l="l" t="t" r="r" b="b"/>
              <a:pathLst>
                <a:path w="355" h="750">
                  <a:moveTo>
                    <a:pt x="184" y="11"/>
                  </a:moveTo>
                  <a:lnTo>
                    <a:pt x="199" y="42"/>
                  </a:lnTo>
                  <a:lnTo>
                    <a:pt x="207" y="93"/>
                  </a:lnTo>
                  <a:lnTo>
                    <a:pt x="209" y="158"/>
                  </a:lnTo>
                  <a:lnTo>
                    <a:pt x="201" y="194"/>
                  </a:lnTo>
                  <a:lnTo>
                    <a:pt x="167" y="237"/>
                  </a:lnTo>
                  <a:lnTo>
                    <a:pt x="121" y="272"/>
                  </a:lnTo>
                  <a:lnTo>
                    <a:pt x="85" y="300"/>
                  </a:lnTo>
                  <a:lnTo>
                    <a:pt x="66" y="335"/>
                  </a:lnTo>
                  <a:lnTo>
                    <a:pt x="66" y="382"/>
                  </a:lnTo>
                  <a:lnTo>
                    <a:pt x="85" y="426"/>
                  </a:lnTo>
                  <a:lnTo>
                    <a:pt x="59" y="446"/>
                  </a:lnTo>
                  <a:lnTo>
                    <a:pt x="34" y="481"/>
                  </a:lnTo>
                  <a:lnTo>
                    <a:pt x="13" y="525"/>
                  </a:lnTo>
                  <a:lnTo>
                    <a:pt x="0" y="586"/>
                  </a:lnTo>
                  <a:lnTo>
                    <a:pt x="4" y="636"/>
                  </a:lnTo>
                  <a:lnTo>
                    <a:pt x="35" y="656"/>
                  </a:lnTo>
                  <a:lnTo>
                    <a:pt x="75" y="649"/>
                  </a:lnTo>
                  <a:lnTo>
                    <a:pt x="74" y="684"/>
                  </a:lnTo>
                  <a:lnTo>
                    <a:pt x="94" y="710"/>
                  </a:lnTo>
                  <a:lnTo>
                    <a:pt x="139" y="708"/>
                  </a:lnTo>
                  <a:lnTo>
                    <a:pt x="151" y="692"/>
                  </a:lnTo>
                  <a:lnTo>
                    <a:pt x="157" y="741"/>
                  </a:lnTo>
                  <a:lnTo>
                    <a:pt x="186" y="750"/>
                  </a:lnTo>
                  <a:lnTo>
                    <a:pt x="227" y="743"/>
                  </a:lnTo>
                  <a:lnTo>
                    <a:pt x="276" y="706"/>
                  </a:lnTo>
                  <a:lnTo>
                    <a:pt x="339" y="637"/>
                  </a:lnTo>
                  <a:lnTo>
                    <a:pt x="355" y="583"/>
                  </a:lnTo>
                  <a:lnTo>
                    <a:pt x="351" y="533"/>
                  </a:lnTo>
                  <a:lnTo>
                    <a:pt x="316" y="543"/>
                  </a:lnTo>
                  <a:lnTo>
                    <a:pt x="324" y="578"/>
                  </a:lnTo>
                  <a:lnTo>
                    <a:pt x="320" y="613"/>
                  </a:lnTo>
                  <a:lnTo>
                    <a:pt x="271" y="675"/>
                  </a:lnTo>
                  <a:lnTo>
                    <a:pt x="221" y="714"/>
                  </a:lnTo>
                  <a:lnTo>
                    <a:pt x="180" y="716"/>
                  </a:lnTo>
                  <a:lnTo>
                    <a:pt x="172" y="665"/>
                  </a:lnTo>
                  <a:lnTo>
                    <a:pt x="184" y="595"/>
                  </a:lnTo>
                  <a:lnTo>
                    <a:pt x="166" y="597"/>
                  </a:lnTo>
                  <a:lnTo>
                    <a:pt x="149" y="656"/>
                  </a:lnTo>
                  <a:lnTo>
                    <a:pt x="135" y="683"/>
                  </a:lnTo>
                  <a:lnTo>
                    <a:pt x="102" y="688"/>
                  </a:lnTo>
                  <a:lnTo>
                    <a:pt x="94" y="665"/>
                  </a:lnTo>
                  <a:lnTo>
                    <a:pt x="94" y="632"/>
                  </a:lnTo>
                  <a:lnTo>
                    <a:pt x="101" y="586"/>
                  </a:lnTo>
                  <a:lnTo>
                    <a:pt x="136" y="543"/>
                  </a:lnTo>
                  <a:lnTo>
                    <a:pt x="201" y="501"/>
                  </a:lnTo>
                  <a:lnTo>
                    <a:pt x="166" y="489"/>
                  </a:lnTo>
                  <a:lnTo>
                    <a:pt x="118" y="528"/>
                  </a:lnTo>
                  <a:lnTo>
                    <a:pt x="89" y="562"/>
                  </a:lnTo>
                  <a:lnTo>
                    <a:pt x="75" y="606"/>
                  </a:lnTo>
                  <a:lnTo>
                    <a:pt x="55" y="622"/>
                  </a:lnTo>
                  <a:lnTo>
                    <a:pt x="35" y="615"/>
                  </a:lnTo>
                  <a:lnTo>
                    <a:pt x="32" y="583"/>
                  </a:lnTo>
                  <a:lnTo>
                    <a:pt x="44" y="540"/>
                  </a:lnTo>
                  <a:lnTo>
                    <a:pt x="65" y="492"/>
                  </a:lnTo>
                  <a:lnTo>
                    <a:pt x="94" y="462"/>
                  </a:lnTo>
                  <a:lnTo>
                    <a:pt x="110" y="448"/>
                  </a:lnTo>
                  <a:lnTo>
                    <a:pt x="159" y="474"/>
                  </a:lnTo>
                  <a:lnTo>
                    <a:pt x="167" y="438"/>
                  </a:lnTo>
                  <a:lnTo>
                    <a:pt x="118" y="428"/>
                  </a:lnTo>
                  <a:lnTo>
                    <a:pt x="105" y="409"/>
                  </a:lnTo>
                  <a:lnTo>
                    <a:pt x="96" y="378"/>
                  </a:lnTo>
                  <a:lnTo>
                    <a:pt x="97" y="343"/>
                  </a:lnTo>
                  <a:lnTo>
                    <a:pt x="116" y="316"/>
                  </a:lnTo>
                  <a:lnTo>
                    <a:pt x="148" y="296"/>
                  </a:lnTo>
                  <a:lnTo>
                    <a:pt x="191" y="268"/>
                  </a:lnTo>
                  <a:lnTo>
                    <a:pt x="226" y="219"/>
                  </a:lnTo>
                  <a:lnTo>
                    <a:pt x="238" y="151"/>
                  </a:lnTo>
                  <a:lnTo>
                    <a:pt x="241" y="79"/>
                  </a:lnTo>
                  <a:lnTo>
                    <a:pt x="218" y="0"/>
                  </a:lnTo>
                  <a:lnTo>
                    <a:pt x="184" y="11"/>
                  </a:lnTo>
                  <a:lnTo>
                    <a:pt x="18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889600" y="5848200"/>
              <a:ext cx="209520" cy="324000"/>
            </a:xfrm>
            <a:custGeom>
              <a:avLst/>
              <a:gdLst/>
              <a:ahLst/>
              <a:rect l="l" t="t" r="r" b="b"/>
              <a:pathLst>
                <a:path w="397" h="612">
                  <a:moveTo>
                    <a:pt x="0" y="26"/>
                  </a:moveTo>
                  <a:lnTo>
                    <a:pt x="28" y="58"/>
                  </a:lnTo>
                  <a:lnTo>
                    <a:pt x="43" y="97"/>
                  </a:lnTo>
                  <a:lnTo>
                    <a:pt x="39" y="140"/>
                  </a:lnTo>
                  <a:lnTo>
                    <a:pt x="39" y="174"/>
                  </a:lnTo>
                  <a:lnTo>
                    <a:pt x="54" y="209"/>
                  </a:lnTo>
                  <a:lnTo>
                    <a:pt x="90" y="241"/>
                  </a:lnTo>
                  <a:lnTo>
                    <a:pt x="136" y="270"/>
                  </a:lnTo>
                  <a:lnTo>
                    <a:pt x="160" y="298"/>
                  </a:lnTo>
                  <a:lnTo>
                    <a:pt x="169" y="338"/>
                  </a:lnTo>
                  <a:lnTo>
                    <a:pt x="176" y="392"/>
                  </a:lnTo>
                  <a:lnTo>
                    <a:pt x="165" y="431"/>
                  </a:lnTo>
                  <a:lnTo>
                    <a:pt x="152" y="481"/>
                  </a:lnTo>
                  <a:lnTo>
                    <a:pt x="156" y="514"/>
                  </a:lnTo>
                  <a:lnTo>
                    <a:pt x="165" y="544"/>
                  </a:lnTo>
                  <a:lnTo>
                    <a:pt x="175" y="569"/>
                  </a:lnTo>
                  <a:lnTo>
                    <a:pt x="152" y="570"/>
                  </a:lnTo>
                  <a:lnTo>
                    <a:pt x="113" y="558"/>
                  </a:lnTo>
                  <a:lnTo>
                    <a:pt x="103" y="577"/>
                  </a:lnTo>
                  <a:lnTo>
                    <a:pt x="140" y="596"/>
                  </a:lnTo>
                  <a:lnTo>
                    <a:pt x="188" y="608"/>
                  </a:lnTo>
                  <a:lnTo>
                    <a:pt x="225" y="608"/>
                  </a:lnTo>
                  <a:lnTo>
                    <a:pt x="266" y="612"/>
                  </a:lnTo>
                  <a:lnTo>
                    <a:pt x="311" y="602"/>
                  </a:lnTo>
                  <a:lnTo>
                    <a:pt x="366" y="581"/>
                  </a:lnTo>
                  <a:lnTo>
                    <a:pt x="397" y="515"/>
                  </a:lnTo>
                  <a:lnTo>
                    <a:pt x="354" y="546"/>
                  </a:lnTo>
                  <a:lnTo>
                    <a:pt x="304" y="573"/>
                  </a:lnTo>
                  <a:lnTo>
                    <a:pt x="262" y="581"/>
                  </a:lnTo>
                  <a:lnTo>
                    <a:pt x="225" y="575"/>
                  </a:lnTo>
                  <a:lnTo>
                    <a:pt x="194" y="551"/>
                  </a:lnTo>
                  <a:lnTo>
                    <a:pt x="177" y="523"/>
                  </a:lnTo>
                  <a:lnTo>
                    <a:pt x="172" y="488"/>
                  </a:lnTo>
                  <a:lnTo>
                    <a:pt x="183" y="431"/>
                  </a:lnTo>
                  <a:lnTo>
                    <a:pt x="199" y="379"/>
                  </a:lnTo>
                  <a:lnTo>
                    <a:pt x="198" y="332"/>
                  </a:lnTo>
                  <a:lnTo>
                    <a:pt x="177" y="278"/>
                  </a:lnTo>
                  <a:lnTo>
                    <a:pt x="145" y="244"/>
                  </a:lnTo>
                  <a:lnTo>
                    <a:pt x="98" y="211"/>
                  </a:lnTo>
                  <a:lnTo>
                    <a:pt x="68" y="185"/>
                  </a:lnTo>
                  <a:lnTo>
                    <a:pt x="60" y="154"/>
                  </a:lnTo>
                  <a:lnTo>
                    <a:pt x="64" y="115"/>
                  </a:lnTo>
                  <a:lnTo>
                    <a:pt x="64" y="77"/>
                  </a:lnTo>
                  <a:lnTo>
                    <a:pt x="52" y="42"/>
                  </a:lnTo>
                  <a:lnTo>
                    <a:pt x="11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02440" y="4699080"/>
              <a:ext cx="149040" cy="258840"/>
            </a:xfrm>
            <a:custGeom>
              <a:avLst/>
              <a:gdLst/>
              <a:ahLst/>
              <a:rect l="l" t="t" r="r" b="b"/>
              <a:pathLst>
                <a:path w="282" h="490">
                  <a:moveTo>
                    <a:pt x="19" y="474"/>
                  </a:moveTo>
                  <a:lnTo>
                    <a:pt x="27" y="423"/>
                  </a:lnTo>
                  <a:lnTo>
                    <a:pt x="25" y="358"/>
                  </a:lnTo>
                  <a:lnTo>
                    <a:pt x="6" y="310"/>
                  </a:lnTo>
                  <a:lnTo>
                    <a:pt x="0" y="260"/>
                  </a:lnTo>
                  <a:lnTo>
                    <a:pt x="7" y="206"/>
                  </a:lnTo>
                  <a:lnTo>
                    <a:pt x="34" y="160"/>
                  </a:lnTo>
                  <a:lnTo>
                    <a:pt x="105" y="120"/>
                  </a:lnTo>
                  <a:lnTo>
                    <a:pt x="159" y="91"/>
                  </a:lnTo>
                  <a:lnTo>
                    <a:pt x="206" y="46"/>
                  </a:lnTo>
                  <a:lnTo>
                    <a:pt x="231" y="0"/>
                  </a:lnTo>
                  <a:lnTo>
                    <a:pt x="244" y="43"/>
                  </a:lnTo>
                  <a:lnTo>
                    <a:pt x="245" y="96"/>
                  </a:lnTo>
                  <a:lnTo>
                    <a:pt x="233" y="167"/>
                  </a:lnTo>
                  <a:lnTo>
                    <a:pt x="210" y="209"/>
                  </a:lnTo>
                  <a:lnTo>
                    <a:pt x="236" y="199"/>
                  </a:lnTo>
                  <a:lnTo>
                    <a:pt x="268" y="156"/>
                  </a:lnTo>
                  <a:lnTo>
                    <a:pt x="279" y="188"/>
                  </a:lnTo>
                  <a:lnTo>
                    <a:pt x="282" y="264"/>
                  </a:lnTo>
                  <a:lnTo>
                    <a:pt x="282" y="314"/>
                  </a:lnTo>
                  <a:lnTo>
                    <a:pt x="247" y="385"/>
                  </a:lnTo>
                  <a:lnTo>
                    <a:pt x="209" y="428"/>
                  </a:lnTo>
                  <a:lnTo>
                    <a:pt x="101" y="478"/>
                  </a:lnTo>
                  <a:lnTo>
                    <a:pt x="60" y="490"/>
                  </a:lnTo>
                  <a:lnTo>
                    <a:pt x="107" y="442"/>
                  </a:lnTo>
                  <a:lnTo>
                    <a:pt x="173" y="400"/>
                  </a:lnTo>
                  <a:lnTo>
                    <a:pt x="219" y="369"/>
                  </a:lnTo>
                  <a:lnTo>
                    <a:pt x="241" y="327"/>
                  </a:lnTo>
                  <a:lnTo>
                    <a:pt x="252" y="265"/>
                  </a:lnTo>
                  <a:lnTo>
                    <a:pt x="254" y="218"/>
                  </a:lnTo>
                  <a:lnTo>
                    <a:pt x="223" y="242"/>
                  </a:lnTo>
                  <a:lnTo>
                    <a:pt x="181" y="252"/>
                  </a:lnTo>
                  <a:lnTo>
                    <a:pt x="180" y="214"/>
                  </a:lnTo>
                  <a:lnTo>
                    <a:pt x="204" y="166"/>
                  </a:lnTo>
                  <a:lnTo>
                    <a:pt x="219" y="101"/>
                  </a:lnTo>
                  <a:lnTo>
                    <a:pt x="219" y="69"/>
                  </a:lnTo>
                  <a:lnTo>
                    <a:pt x="181" y="108"/>
                  </a:lnTo>
                  <a:lnTo>
                    <a:pt x="123" y="137"/>
                  </a:lnTo>
                  <a:lnTo>
                    <a:pt x="61" y="179"/>
                  </a:lnTo>
                  <a:lnTo>
                    <a:pt x="34" y="217"/>
                  </a:lnTo>
                  <a:lnTo>
                    <a:pt x="29" y="264"/>
                  </a:lnTo>
                  <a:lnTo>
                    <a:pt x="37" y="314"/>
                  </a:lnTo>
                  <a:lnTo>
                    <a:pt x="52" y="351"/>
                  </a:lnTo>
                  <a:lnTo>
                    <a:pt x="61" y="396"/>
                  </a:lnTo>
                  <a:lnTo>
                    <a:pt x="48" y="450"/>
                  </a:lnTo>
                  <a:lnTo>
                    <a:pt x="19" y="474"/>
                  </a:lnTo>
                  <a:lnTo>
                    <a:pt x="19" y="4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2"/>
            <a:stretch/>
          </p:blipFill>
          <p:spPr>
            <a:xfrm>
              <a:off x="6777000" y="4648320"/>
              <a:ext cx="1376280" cy="16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" descr=""/>
            <p:cNvPicPr/>
            <p:nvPr/>
          </p:nvPicPr>
          <p:blipFill>
            <a:blip r:embed="rId3"/>
            <a:stretch/>
          </p:blipFill>
          <p:spPr>
            <a:xfrm>
              <a:off x="7543800" y="4375080"/>
              <a:ext cx="76212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" descr=""/>
            <p:cNvPicPr/>
            <p:nvPr/>
          </p:nvPicPr>
          <p:blipFill>
            <a:blip r:embed="rId4"/>
            <a:stretch/>
          </p:blipFill>
          <p:spPr>
            <a:xfrm>
              <a:off x="7858080" y="4724280"/>
              <a:ext cx="44784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7818120" y="5607000"/>
              <a:ext cx="91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  <a:ea typeface="Tahoma"/>
                </a:rPr>
                <a:t>¾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0"/>
              <a:endCxn id="502" idx="2"/>
            </p:cNvCxnSpPr>
            <p:nvPr/>
          </p:nvCxnSpPr>
          <p:spPr>
            <a:xfrm flipV="1" rot="16200000">
              <a:off x="7923600" y="5253120"/>
              <a:ext cx="511920" cy="195840"/>
            </a:xfrm>
            <a:prstGeom prst="curvedConnector5">
              <a:avLst>
                <a:gd name="adj1" fmla="val 49964"/>
                <a:gd name="adj2" fmla="val 49907"/>
                <a:gd name="adj3" fmla="val 4996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2286000"/>
            <a:ext cx="556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 percent as a 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 percent as a decima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1371600"/>
            <a:ext cx="783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bought a pizza cut into 5 slices (all for me).  When my wife begged, I told her she could have 40% of the pizza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any slices did I agree to give aw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456080" cy="29415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609480" y="1371600"/>
            <a:ext cx="783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bought a pizza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ut into 5 slic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(all for me).  When my wife begged, I told her she could hav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40%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the pizza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any slic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id I agree to give aw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1295280"/>
            <a:ext cx="783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ut into 5 slic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40%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the pizz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k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any slices?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456080" cy="29419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666880" y="3886200"/>
            <a:ext cx="1600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666880" y="38862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599840" y="3886200"/>
            <a:ext cx="106668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1752480" y="3580920"/>
            <a:ext cx="91440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2666880" y="3429000"/>
            <a:ext cx="68580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486400" y="2022480"/>
            <a:ext cx="289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alys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40% as a fr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by 5 sli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80880" y="1295280"/>
            <a:ext cx="783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ut into 5 slic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40%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the pizz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k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any slices?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456080" cy="29419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666880" y="3886200"/>
            <a:ext cx="1600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66880" y="38862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599840" y="3886200"/>
            <a:ext cx="106668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1752480" y="3580920"/>
            <a:ext cx="91440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666880" y="3429000"/>
            <a:ext cx="68580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261760" y="1447920"/>
            <a:ext cx="2562480" cy="1191240"/>
            <a:chOff x="5261760" y="1447920"/>
            <a:chExt cx="2562480" cy="1191240"/>
          </a:xfrm>
        </p:grpSpPr>
        <p:sp>
          <p:nvSpPr>
            <p:cNvPr id="529" name=""/>
            <p:cNvSpPr/>
            <p:nvPr/>
          </p:nvSpPr>
          <p:spPr>
            <a:xfrm>
              <a:off x="5261760" y="170028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0% =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57280" y="1447920"/>
              <a:ext cx="966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40</a:t>
              </a:r>
              <a:br>
                <a:rPr sz="3600"/>
              </a:b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321520" y="2514600"/>
            <a:ext cx="1906920" cy="1238760"/>
            <a:chOff x="5321520" y="2514600"/>
            <a:chExt cx="1906920" cy="1238760"/>
          </a:xfrm>
        </p:grpSpPr>
        <p:sp>
          <p:nvSpPr>
            <p:cNvPr id="532" name=""/>
            <p:cNvSpPr/>
            <p:nvPr/>
          </p:nvSpPr>
          <p:spPr>
            <a:xfrm>
              <a:off x="5321520" y="27590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37240" y="2514600"/>
              <a:ext cx="704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4</a:t>
              </a:r>
              <a:br>
                <a:rPr sz="3600"/>
              </a:b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11880" y="27590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85640" y="2562120"/>
              <a:ext cx="442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2</a:t>
              </a:r>
              <a:br>
                <a:rPr sz="3600"/>
              </a:b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5621400" y="39369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5114160" y="3760920"/>
            <a:ext cx="3294720" cy="1634400"/>
            <a:chOff x="5114160" y="3760920"/>
            <a:chExt cx="3294720" cy="1634400"/>
          </a:xfrm>
        </p:grpSpPr>
        <p:sp>
          <p:nvSpPr>
            <p:cNvPr id="538" name=""/>
            <p:cNvSpPr/>
            <p:nvPr/>
          </p:nvSpPr>
          <p:spPr>
            <a:xfrm>
              <a:off x="5114160" y="3760920"/>
              <a:ext cx="442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2</a:t>
              </a:r>
              <a:br>
                <a:rPr sz="3600"/>
              </a:b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33920" y="3960720"/>
              <a:ext cx="2874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5 slices 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5885640" y="4876920"/>
            <a:ext cx="209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2 Sl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3352680" y="2449440"/>
            <a:ext cx="4586760" cy="3188880"/>
            <a:chOff x="3352680" y="2449440"/>
            <a:chExt cx="4586760" cy="3188880"/>
          </a:xfrm>
        </p:grpSpPr>
        <p:grpSp>
          <p:nvGrpSpPr>
            <p:cNvPr id="542" name=""/>
            <p:cNvGrpSpPr/>
            <p:nvPr/>
          </p:nvGrpSpPr>
          <p:grpSpPr>
            <a:xfrm>
              <a:off x="3352680" y="2449440"/>
              <a:ext cx="4552920" cy="3188880"/>
              <a:chOff x="3352680" y="2449440"/>
              <a:chExt cx="4552920" cy="3188880"/>
            </a:xfrm>
          </p:grpSpPr>
          <p:sp>
            <p:nvSpPr>
              <p:cNvPr id="543" name=""/>
              <p:cNvSpPr/>
              <p:nvPr/>
            </p:nvSpPr>
            <p:spPr>
              <a:xfrm>
                <a:off x="4529160" y="2612880"/>
                <a:ext cx="2200320" cy="2183760"/>
              </a:xfrm>
              <a:custGeom>
                <a:avLst/>
                <a:gdLst/>
                <a:ahLst/>
                <a:rect l="l" t="t" r="r" b="b"/>
                <a:pathLst>
                  <a:path w="2774" h="2752">
                    <a:moveTo>
                      <a:pt x="0" y="407"/>
                    </a:moveTo>
                    <a:lnTo>
                      <a:pt x="2413" y="0"/>
                    </a:lnTo>
                    <a:lnTo>
                      <a:pt x="2774" y="2330"/>
                    </a:lnTo>
                    <a:lnTo>
                      <a:pt x="576" y="2752"/>
                    </a:lnTo>
                    <a:lnTo>
                      <a:pt x="0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d3ede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65720" y="5140080"/>
                <a:ext cx="288720" cy="472680"/>
              </a:xfrm>
              <a:custGeom>
                <a:avLst/>
                <a:gdLst/>
                <a:ahLst/>
                <a:rect l="l" t="t" r="r" b="b"/>
                <a:pathLst>
                  <a:path w="365" h="595">
                    <a:moveTo>
                      <a:pt x="0" y="595"/>
                    </a:moveTo>
                    <a:lnTo>
                      <a:pt x="127" y="536"/>
                    </a:lnTo>
                    <a:lnTo>
                      <a:pt x="254" y="391"/>
                    </a:lnTo>
                    <a:lnTo>
                      <a:pt x="365" y="34"/>
                    </a:lnTo>
                    <a:lnTo>
                      <a:pt x="289" y="0"/>
                    </a:lnTo>
                    <a:lnTo>
                      <a:pt x="230" y="178"/>
                    </a:lnTo>
                    <a:lnTo>
                      <a:pt x="93" y="382"/>
                    </a:lnTo>
                    <a:lnTo>
                      <a:pt x="0" y="595"/>
                    </a:lnTo>
                    <a:lnTo>
                      <a:pt x="0" y="595"/>
                    </a:lnTo>
                    <a:close/>
                  </a:path>
                </a:pathLst>
              </a:custGeom>
              <a:solidFill>
                <a:srgbClr val="ffd97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382920" y="3605040"/>
                <a:ext cx="1252440" cy="1193400"/>
              </a:xfrm>
              <a:custGeom>
                <a:avLst/>
                <a:gdLst/>
                <a:ahLst/>
                <a:rect l="l" t="t" r="r" b="b"/>
                <a:pathLst>
                  <a:path w="1578" h="1503">
                    <a:moveTo>
                      <a:pt x="1578" y="1503"/>
                    </a:moveTo>
                    <a:lnTo>
                      <a:pt x="1578" y="840"/>
                    </a:lnTo>
                    <a:lnTo>
                      <a:pt x="1492" y="433"/>
                    </a:lnTo>
                    <a:lnTo>
                      <a:pt x="1042" y="289"/>
                    </a:lnTo>
                    <a:lnTo>
                      <a:pt x="601" y="103"/>
                    </a:lnTo>
                    <a:lnTo>
                      <a:pt x="186" y="0"/>
                    </a:lnTo>
                    <a:lnTo>
                      <a:pt x="59" y="34"/>
                    </a:lnTo>
                    <a:lnTo>
                      <a:pt x="0" y="169"/>
                    </a:lnTo>
                    <a:lnTo>
                      <a:pt x="203" y="169"/>
                    </a:lnTo>
                    <a:lnTo>
                      <a:pt x="627" y="323"/>
                    </a:lnTo>
                    <a:lnTo>
                      <a:pt x="1280" y="543"/>
                    </a:lnTo>
                    <a:lnTo>
                      <a:pt x="1399" y="781"/>
                    </a:lnTo>
                    <a:lnTo>
                      <a:pt x="1578" y="1503"/>
                    </a:lnTo>
                    <a:lnTo>
                      <a:pt x="1578" y="1503"/>
                    </a:lnTo>
                    <a:close/>
                  </a:path>
                </a:pathLst>
              </a:custGeom>
              <a:solidFill>
                <a:srgbClr val="ffd97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382920" y="3700080"/>
                <a:ext cx="1225440" cy="1920600"/>
              </a:xfrm>
              <a:custGeom>
                <a:avLst/>
                <a:gdLst/>
                <a:ahLst/>
                <a:rect l="l" t="t" r="r" b="b"/>
                <a:pathLst>
                  <a:path w="1544" h="2419">
                    <a:moveTo>
                      <a:pt x="0" y="0"/>
                    </a:moveTo>
                    <a:lnTo>
                      <a:pt x="289" y="66"/>
                    </a:lnTo>
                    <a:lnTo>
                      <a:pt x="789" y="228"/>
                    </a:lnTo>
                    <a:lnTo>
                      <a:pt x="1357" y="441"/>
                    </a:lnTo>
                    <a:lnTo>
                      <a:pt x="1527" y="1170"/>
                    </a:lnTo>
                    <a:lnTo>
                      <a:pt x="1544" y="1604"/>
                    </a:lnTo>
                    <a:lnTo>
                      <a:pt x="1458" y="1969"/>
                    </a:lnTo>
                    <a:lnTo>
                      <a:pt x="1306" y="2241"/>
                    </a:lnTo>
                    <a:lnTo>
                      <a:pt x="1238" y="2419"/>
                    </a:lnTo>
                    <a:lnTo>
                      <a:pt x="1069" y="2324"/>
                    </a:lnTo>
                    <a:lnTo>
                      <a:pt x="838" y="2172"/>
                    </a:lnTo>
                    <a:lnTo>
                      <a:pt x="424" y="2003"/>
                    </a:lnTo>
                    <a:lnTo>
                      <a:pt x="228" y="1807"/>
                    </a:lnTo>
                    <a:lnTo>
                      <a:pt x="348" y="1611"/>
                    </a:lnTo>
                    <a:lnTo>
                      <a:pt x="397" y="1425"/>
                    </a:lnTo>
                    <a:lnTo>
                      <a:pt x="491" y="1136"/>
                    </a:lnTo>
                    <a:lnTo>
                      <a:pt x="424" y="796"/>
                    </a:lnTo>
                    <a:lnTo>
                      <a:pt x="238" y="526"/>
                    </a:lnTo>
                    <a:lnTo>
                      <a:pt x="110" y="26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d8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513320" y="4965480"/>
                <a:ext cx="174600" cy="196560"/>
              </a:xfrm>
              <a:custGeom>
                <a:avLst/>
                <a:gdLst/>
                <a:ahLst/>
                <a:rect l="l" t="t" r="r" b="b"/>
                <a:pathLst>
                  <a:path w="221" h="247">
                    <a:moveTo>
                      <a:pt x="221" y="0"/>
                    </a:moveTo>
                    <a:lnTo>
                      <a:pt x="221" y="145"/>
                    </a:lnTo>
                    <a:lnTo>
                      <a:pt x="169" y="247"/>
                    </a:lnTo>
                    <a:lnTo>
                      <a:pt x="0" y="171"/>
                    </a:lnTo>
                    <a:lnTo>
                      <a:pt x="10" y="103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cca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678120" y="4589280"/>
                <a:ext cx="162000" cy="194760"/>
              </a:xfrm>
              <a:custGeom>
                <a:avLst/>
                <a:gdLst/>
                <a:ahLst/>
                <a:rect l="l" t="t" r="r" b="b"/>
                <a:pathLst>
                  <a:path w="203" h="247">
                    <a:moveTo>
                      <a:pt x="102" y="0"/>
                    </a:moveTo>
                    <a:lnTo>
                      <a:pt x="0" y="93"/>
                    </a:lnTo>
                    <a:lnTo>
                      <a:pt x="0" y="196"/>
                    </a:lnTo>
                    <a:lnTo>
                      <a:pt x="102" y="247"/>
                    </a:lnTo>
                    <a:lnTo>
                      <a:pt x="203" y="169"/>
                    </a:lnTo>
                    <a:lnTo>
                      <a:pt x="169" y="103"/>
                    </a:lnTo>
                    <a:lnTo>
                      <a:pt x="102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cca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608360" y="4225680"/>
                <a:ext cx="914400" cy="1157040"/>
              </a:xfrm>
              <a:custGeom>
                <a:avLst/>
                <a:gdLst/>
                <a:ahLst/>
                <a:rect l="l" t="t" r="r" b="b"/>
                <a:pathLst>
                  <a:path w="1152" h="1460">
                    <a:moveTo>
                      <a:pt x="34" y="152"/>
                    </a:moveTo>
                    <a:lnTo>
                      <a:pt x="253" y="51"/>
                    </a:lnTo>
                    <a:lnTo>
                      <a:pt x="542" y="0"/>
                    </a:lnTo>
                    <a:lnTo>
                      <a:pt x="1007" y="255"/>
                    </a:lnTo>
                    <a:lnTo>
                      <a:pt x="1152" y="627"/>
                    </a:lnTo>
                    <a:lnTo>
                      <a:pt x="1118" y="1239"/>
                    </a:lnTo>
                    <a:lnTo>
                      <a:pt x="831" y="1452"/>
                    </a:lnTo>
                    <a:lnTo>
                      <a:pt x="473" y="1460"/>
                    </a:lnTo>
                    <a:lnTo>
                      <a:pt x="0" y="1408"/>
                    </a:lnTo>
                    <a:lnTo>
                      <a:pt x="49" y="1205"/>
                    </a:lnTo>
                    <a:lnTo>
                      <a:pt x="93" y="968"/>
                    </a:lnTo>
                    <a:lnTo>
                      <a:pt x="0" y="933"/>
                    </a:lnTo>
                    <a:lnTo>
                      <a:pt x="49" y="513"/>
                    </a:lnTo>
                    <a:lnTo>
                      <a:pt x="34" y="152"/>
                    </a:lnTo>
                    <a:lnTo>
                      <a:pt x="34" y="152"/>
                    </a:lnTo>
                    <a:close/>
                  </a:path>
                </a:pathLst>
              </a:custGeom>
              <a:solidFill>
                <a:srgbClr val="d9b3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594320" y="4331880"/>
                <a:ext cx="693720" cy="701280"/>
              </a:xfrm>
              <a:custGeom>
                <a:avLst/>
                <a:gdLst/>
                <a:ahLst/>
                <a:rect l="l" t="t" r="r" b="b"/>
                <a:pathLst>
                  <a:path w="872" h="884">
                    <a:moveTo>
                      <a:pt x="76" y="222"/>
                    </a:moveTo>
                    <a:lnTo>
                      <a:pt x="279" y="86"/>
                    </a:lnTo>
                    <a:lnTo>
                      <a:pt x="500" y="0"/>
                    </a:lnTo>
                    <a:lnTo>
                      <a:pt x="872" y="222"/>
                    </a:lnTo>
                    <a:lnTo>
                      <a:pt x="696" y="468"/>
                    </a:lnTo>
                    <a:lnTo>
                      <a:pt x="279" y="781"/>
                    </a:lnTo>
                    <a:lnTo>
                      <a:pt x="110" y="884"/>
                    </a:lnTo>
                    <a:lnTo>
                      <a:pt x="0" y="732"/>
                    </a:lnTo>
                    <a:lnTo>
                      <a:pt x="76" y="222"/>
                    </a:lnTo>
                    <a:lnTo>
                      <a:pt x="76" y="222"/>
                    </a:lnTo>
                    <a:close/>
                  </a:path>
                </a:pathLst>
              </a:custGeom>
              <a:solidFill>
                <a:srgbClr val="f2e5f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608360" y="4473360"/>
                <a:ext cx="451080" cy="518760"/>
              </a:xfrm>
              <a:custGeom>
                <a:avLst/>
                <a:gdLst/>
                <a:ahLst/>
                <a:rect l="l" t="t" r="r" b="b"/>
                <a:pathLst>
                  <a:path w="568" h="654">
                    <a:moveTo>
                      <a:pt x="76" y="654"/>
                    </a:moveTo>
                    <a:lnTo>
                      <a:pt x="449" y="188"/>
                    </a:lnTo>
                    <a:lnTo>
                      <a:pt x="568" y="0"/>
                    </a:lnTo>
                    <a:lnTo>
                      <a:pt x="338" y="173"/>
                    </a:lnTo>
                    <a:lnTo>
                      <a:pt x="17" y="425"/>
                    </a:lnTo>
                    <a:lnTo>
                      <a:pt x="0" y="629"/>
                    </a:lnTo>
                    <a:lnTo>
                      <a:pt x="76" y="654"/>
                    </a:lnTo>
                    <a:lnTo>
                      <a:pt x="76" y="654"/>
                    </a:lnTo>
                    <a:close/>
                  </a:path>
                </a:pathLst>
              </a:custGeom>
              <a:solidFill>
                <a:srgbClr val="bf3f8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011560" y="3058920"/>
                <a:ext cx="525600" cy="452160"/>
              </a:xfrm>
              <a:custGeom>
                <a:avLst/>
                <a:gdLst/>
                <a:ahLst/>
                <a:rect l="l" t="t" r="r" b="b"/>
                <a:pathLst>
                  <a:path w="662" h="570">
                    <a:moveTo>
                      <a:pt x="662" y="350"/>
                    </a:moveTo>
                    <a:lnTo>
                      <a:pt x="476" y="78"/>
                    </a:lnTo>
                    <a:lnTo>
                      <a:pt x="314" y="0"/>
                    </a:lnTo>
                    <a:lnTo>
                      <a:pt x="172" y="95"/>
                    </a:lnTo>
                    <a:lnTo>
                      <a:pt x="0" y="144"/>
                    </a:lnTo>
                    <a:lnTo>
                      <a:pt x="52" y="179"/>
                    </a:lnTo>
                    <a:lnTo>
                      <a:pt x="10" y="264"/>
                    </a:lnTo>
                    <a:lnTo>
                      <a:pt x="128" y="289"/>
                    </a:lnTo>
                    <a:lnTo>
                      <a:pt x="103" y="382"/>
                    </a:lnTo>
                    <a:lnTo>
                      <a:pt x="221" y="416"/>
                    </a:lnTo>
                    <a:lnTo>
                      <a:pt x="324" y="485"/>
                    </a:lnTo>
                    <a:lnTo>
                      <a:pt x="434" y="570"/>
                    </a:lnTo>
                    <a:lnTo>
                      <a:pt x="662" y="350"/>
                    </a:lnTo>
                    <a:lnTo>
                      <a:pt x="662" y="350"/>
                    </a:lnTo>
                    <a:close/>
                  </a:path>
                </a:pathLst>
              </a:custGeom>
              <a:solidFill>
                <a:srgbClr val="ffe5d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971960" y="3282840"/>
                <a:ext cx="962280" cy="1239480"/>
              </a:xfrm>
              <a:custGeom>
                <a:avLst/>
                <a:gdLst/>
                <a:ahLst/>
                <a:rect l="l" t="t" r="r" b="b"/>
                <a:pathLst>
                  <a:path w="1213" h="1563">
                    <a:moveTo>
                      <a:pt x="456" y="238"/>
                    </a:moveTo>
                    <a:lnTo>
                      <a:pt x="466" y="101"/>
                    </a:lnTo>
                    <a:lnTo>
                      <a:pt x="525" y="34"/>
                    </a:lnTo>
                    <a:lnTo>
                      <a:pt x="652" y="0"/>
                    </a:lnTo>
                    <a:lnTo>
                      <a:pt x="821" y="280"/>
                    </a:lnTo>
                    <a:lnTo>
                      <a:pt x="907" y="527"/>
                    </a:lnTo>
                    <a:lnTo>
                      <a:pt x="1213" y="840"/>
                    </a:lnTo>
                    <a:lnTo>
                      <a:pt x="1127" y="865"/>
                    </a:lnTo>
                    <a:lnTo>
                      <a:pt x="897" y="798"/>
                    </a:lnTo>
                    <a:lnTo>
                      <a:pt x="880" y="892"/>
                    </a:lnTo>
                    <a:lnTo>
                      <a:pt x="618" y="1085"/>
                    </a:lnTo>
                    <a:lnTo>
                      <a:pt x="567" y="1274"/>
                    </a:lnTo>
                    <a:lnTo>
                      <a:pt x="373" y="1536"/>
                    </a:lnTo>
                    <a:lnTo>
                      <a:pt x="211" y="1563"/>
                    </a:lnTo>
                    <a:lnTo>
                      <a:pt x="84" y="1519"/>
                    </a:lnTo>
                    <a:lnTo>
                      <a:pt x="0" y="1374"/>
                    </a:lnTo>
                    <a:lnTo>
                      <a:pt x="84" y="1205"/>
                    </a:lnTo>
                    <a:lnTo>
                      <a:pt x="356" y="840"/>
                    </a:lnTo>
                    <a:lnTo>
                      <a:pt x="534" y="483"/>
                    </a:lnTo>
                    <a:lnTo>
                      <a:pt x="517" y="331"/>
                    </a:lnTo>
                    <a:lnTo>
                      <a:pt x="456" y="238"/>
                    </a:lnTo>
                    <a:lnTo>
                      <a:pt x="456" y="238"/>
                    </a:lnTo>
                    <a:close/>
                  </a:path>
                </a:pathLst>
              </a:custGeom>
              <a:solidFill>
                <a:srgbClr val="cca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087960" y="2736720"/>
                <a:ext cx="1771920" cy="2485440"/>
              </a:xfrm>
              <a:custGeom>
                <a:avLst/>
                <a:gdLst/>
                <a:ahLst/>
                <a:rect l="l" t="t" r="r" b="b"/>
                <a:pathLst>
                  <a:path w="2230" h="3132">
                    <a:moveTo>
                      <a:pt x="0" y="306"/>
                    </a:moveTo>
                    <a:lnTo>
                      <a:pt x="42" y="1281"/>
                    </a:lnTo>
                    <a:lnTo>
                      <a:pt x="110" y="2045"/>
                    </a:lnTo>
                    <a:lnTo>
                      <a:pt x="76" y="2777"/>
                    </a:lnTo>
                    <a:lnTo>
                      <a:pt x="314" y="2895"/>
                    </a:lnTo>
                    <a:lnTo>
                      <a:pt x="1110" y="3047"/>
                    </a:lnTo>
                    <a:lnTo>
                      <a:pt x="2179" y="3132"/>
                    </a:lnTo>
                    <a:lnTo>
                      <a:pt x="2230" y="2826"/>
                    </a:lnTo>
                    <a:lnTo>
                      <a:pt x="2179" y="2173"/>
                    </a:lnTo>
                    <a:lnTo>
                      <a:pt x="2095" y="1494"/>
                    </a:lnTo>
                    <a:lnTo>
                      <a:pt x="2103" y="960"/>
                    </a:lnTo>
                    <a:lnTo>
                      <a:pt x="2137" y="407"/>
                    </a:lnTo>
                    <a:lnTo>
                      <a:pt x="2163" y="8"/>
                    </a:lnTo>
                    <a:lnTo>
                      <a:pt x="1992" y="0"/>
                    </a:lnTo>
                    <a:lnTo>
                      <a:pt x="1424" y="120"/>
                    </a:lnTo>
                    <a:lnTo>
                      <a:pt x="509" y="314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ffae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170760" y="3039840"/>
                <a:ext cx="120600" cy="126720"/>
              </a:xfrm>
              <a:custGeom>
                <a:avLst/>
                <a:gdLst/>
                <a:ahLst/>
                <a:rect l="l" t="t" r="r" b="b"/>
                <a:pathLst>
                  <a:path w="152" h="162">
                    <a:moveTo>
                      <a:pt x="24" y="145"/>
                    </a:moveTo>
                    <a:lnTo>
                      <a:pt x="125" y="162"/>
                    </a:lnTo>
                    <a:lnTo>
                      <a:pt x="152" y="69"/>
                    </a:lnTo>
                    <a:lnTo>
                      <a:pt x="100" y="0"/>
                    </a:lnTo>
                    <a:lnTo>
                      <a:pt x="32" y="8"/>
                    </a:lnTo>
                    <a:lnTo>
                      <a:pt x="0" y="59"/>
                    </a:lnTo>
                    <a:lnTo>
                      <a:pt x="24" y="145"/>
                    </a:lnTo>
                    <a:lnTo>
                      <a:pt x="24" y="145"/>
                    </a:lnTo>
                    <a:close/>
                  </a:path>
                </a:pathLst>
              </a:custGeom>
              <a:solidFill>
                <a:srgbClr val="ffbf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570800" y="2803320"/>
                <a:ext cx="139680" cy="115560"/>
              </a:xfrm>
              <a:custGeom>
                <a:avLst/>
                <a:gdLst/>
                <a:ahLst/>
                <a:rect l="l" t="t" r="r" b="b"/>
                <a:pathLst>
                  <a:path w="177" h="144">
                    <a:moveTo>
                      <a:pt x="8" y="24"/>
                    </a:moveTo>
                    <a:lnTo>
                      <a:pt x="84" y="0"/>
                    </a:lnTo>
                    <a:lnTo>
                      <a:pt x="177" y="76"/>
                    </a:lnTo>
                    <a:lnTo>
                      <a:pt x="125" y="144"/>
                    </a:lnTo>
                    <a:lnTo>
                      <a:pt x="42" y="144"/>
                    </a:lnTo>
                    <a:lnTo>
                      <a:pt x="0" y="76"/>
                    </a:lnTo>
                    <a:lnTo>
                      <a:pt x="8" y="24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ffbf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170760" y="3035160"/>
                <a:ext cx="152280" cy="144000"/>
              </a:xfrm>
              <a:custGeom>
                <a:avLst/>
                <a:gdLst/>
                <a:ahLst/>
                <a:rect l="l" t="t" r="r" b="b"/>
                <a:pathLst>
                  <a:path w="192" h="183">
                    <a:moveTo>
                      <a:pt x="74" y="12"/>
                    </a:moveTo>
                    <a:lnTo>
                      <a:pt x="117" y="0"/>
                    </a:lnTo>
                    <a:lnTo>
                      <a:pt x="171" y="33"/>
                    </a:lnTo>
                    <a:lnTo>
                      <a:pt x="192" y="97"/>
                    </a:lnTo>
                    <a:lnTo>
                      <a:pt x="165" y="145"/>
                    </a:lnTo>
                    <a:lnTo>
                      <a:pt x="117" y="183"/>
                    </a:lnTo>
                    <a:lnTo>
                      <a:pt x="30" y="183"/>
                    </a:lnTo>
                    <a:lnTo>
                      <a:pt x="0" y="130"/>
                    </a:lnTo>
                    <a:lnTo>
                      <a:pt x="3" y="76"/>
                    </a:lnTo>
                    <a:lnTo>
                      <a:pt x="41" y="65"/>
                    </a:lnTo>
                    <a:lnTo>
                      <a:pt x="91" y="113"/>
                    </a:lnTo>
                    <a:lnTo>
                      <a:pt x="117" y="86"/>
                    </a:lnTo>
                    <a:lnTo>
                      <a:pt x="100" y="54"/>
                    </a:lnTo>
                    <a:lnTo>
                      <a:pt x="74" y="12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559640" y="2784240"/>
                <a:ext cx="179280" cy="151920"/>
              </a:xfrm>
              <a:custGeom>
                <a:avLst/>
                <a:gdLst/>
                <a:ahLst/>
                <a:rect l="l" t="t" r="r" b="b"/>
                <a:pathLst>
                  <a:path w="226" h="192">
                    <a:moveTo>
                      <a:pt x="0" y="118"/>
                    </a:moveTo>
                    <a:lnTo>
                      <a:pt x="28" y="173"/>
                    </a:lnTo>
                    <a:lnTo>
                      <a:pt x="83" y="192"/>
                    </a:lnTo>
                    <a:lnTo>
                      <a:pt x="138" y="192"/>
                    </a:lnTo>
                    <a:lnTo>
                      <a:pt x="188" y="163"/>
                    </a:lnTo>
                    <a:lnTo>
                      <a:pt x="226" y="99"/>
                    </a:lnTo>
                    <a:lnTo>
                      <a:pt x="192" y="34"/>
                    </a:lnTo>
                    <a:lnTo>
                      <a:pt x="123" y="0"/>
                    </a:lnTo>
                    <a:lnTo>
                      <a:pt x="53" y="15"/>
                    </a:lnTo>
                    <a:lnTo>
                      <a:pt x="24" y="65"/>
                    </a:lnTo>
                    <a:lnTo>
                      <a:pt x="68" y="80"/>
                    </a:lnTo>
                    <a:lnTo>
                      <a:pt x="123" y="80"/>
                    </a:lnTo>
                    <a:lnTo>
                      <a:pt x="152" y="99"/>
                    </a:lnTo>
                    <a:lnTo>
                      <a:pt x="138" y="123"/>
                    </a:lnTo>
                    <a:lnTo>
                      <a:pt x="78" y="129"/>
                    </a:lnTo>
                    <a:lnTo>
                      <a:pt x="43" y="108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153120" y="2698560"/>
                <a:ext cx="1752480" cy="2617200"/>
              </a:xfrm>
              <a:custGeom>
                <a:avLst/>
                <a:gdLst/>
                <a:ahLst/>
                <a:rect l="l" t="t" r="r" b="b"/>
                <a:pathLst>
                  <a:path w="2207" h="3297">
                    <a:moveTo>
                      <a:pt x="0" y="327"/>
                    </a:moveTo>
                    <a:lnTo>
                      <a:pt x="188" y="330"/>
                    </a:lnTo>
                    <a:lnTo>
                      <a:pt x="494" y="311"/>
                    </a:lnTo>
                    <a:lnTo>
                      <a:pt x="768" y="252"/>
                    </a:lnTo>
                    <a:lnTo>
                      <a:pt x="1089" y="173"/>
                    </a:lnTo>
                    <a:lnTo>
                      <a:pt x="1464" y="89"/>
                    </a:lnTo>
                    <a:lnTo>
                      <a:pt x="1735" y="28"/>
                    </a:lnTo>
                    <a:lnTo>
                      <a:pt x="1964" y="0"/>
                    </a:lnTo>
                    <a:lnTo>
                      <a:pt x="2062" y="0"/>
                    </a:lnTo>
                    <a:lnTo>
                      <a:pt x="2102" y="9"/>
                    </a:lnTo>
                    <a:lnTo>
                      <a:pt x="2127" y="34"/>
                    </a:lnTo>
                    <a:lnTo>
                      <a:pt x="2127" y="138"/>
                    </a:lnTo>
                    <a:lnTo>
                      <a:pt x="2102" y="509"/>
                    </a:lnTo>
                    <a:lnTo>
                      <a:pt x="2068" y="959"/>
                    </a:lnTo>
                    <a:lnTo>
                      <a:pt x="2059" y="1419"/>
                    </a:lnTo>
                    <a:lnTo>
                      <a:pt x="2078" y="1782"/>
                    </a:lnTo>
                    <a:lnTo>
                      <a:pt x="2121" y="2085"/>
                    </a:lnTo>
                    <a:lnTo>
                      <a:pt x="2177" y="2470"/>
                    </a:lnTo>
                    <a:lnTo>
                      <a:pt x="2207" y="2811"/>
                    </a:lnTo>
                    <a:lnTo>
                      <a:pt x="2196" y="3035"/>
                    </a:lnTo>
                    <a:lnTo>
                      <a:pt x="2177" y="3162"/>
                    </a:lnTo>
                    <a:lnTo>
                      <a:pt x="2142" y="3233"/>
                    </a:lnTo>
                    <a:lnTo>
                      <a:pt x="2186" y="3267"/>
                    </a:lnTo>
                    <a:lnTo>
                      <a:pt x="2177" y="3297"/>
                    </a:lnTo>
                    <a:lnTo>
                      <a:pt x="2078" y="3276"/>
                    </a:lnTo>
                    <a:lnTo>
                      <a:pt x="1760" y="3236"/>
                    </a:lnTo>
                    <a:lnTo>
                      <a:pt x="1426" y="3208"/>
                    </a:lnTo>
                    <a:lnTo>
                      <a:pt x="1074" y="3214"/>
                    </a:lnTo>
                    <a:lnTo>
                      <a:pt x="842" y="3223"/>
                    </a:lnTo>
                    <a:lnTo>
                      <a:pt x="602" y="3208"/>
                    </a:lnTo>
                    <a:lnTo>
                      <a:pt x="445" y="3178"/>
                    </a:lnTo>
                    <a:lnTo>
                      <a:pt x="346" y="3138"/>
                    </a:lnTo>
                    <a:lnTo>
                      <a:pt x="302" y="3103"/>
                    </a:lnTo>
                    <a:lnTo>
                      <a:pt x="277" y="3035"/>
                    </a:lnTo>
                    <a:lnTo>
                      <a:pt x="243" y="2995"/>
                    </a:lnTo>
                    <a:lnTo>
                      <a:pt x="188" y="2980"/>
                    </a:lnTo>
                    <a:lnTo>
                      <a:pt x="123" y="2940"/>
                    </a:lnTo>
                    <a:lnTo>
                      <a:pt x="99" y="2875"/>
                    </a:lnTo>
                    <a:lnTo>
                      <a:pt x="119" y="2841"/>
                    </a:lnTo>
                    <a:lnTo>
                      <a:pt x="169" y="2841"/>
                    </a:lnTo>
                    <a:lnTo>
                      <a:pt x="262" y="2881"/>
                    </a:lnTo>
                    <a:lnTo>
                      <a:pt x="505" y="2951"/>
                    </a:lnTo>
                    <a:lnTo>
                      <a:pt x="895" y="2989"/>
                    </a:lnTo>
                    <a:lnTo>
                      <a:pt x="1275" y="2999"/>
                    </a:lnTo>
                    <a:lnTo>
                      <a:pt x="1583" y="3029"/>
                    </a:lnTo>
                    <a:lnTo>
                      <a:pt x="1772" y="3060"/>
                    </a:lnTo>
                    <a:lnTo>
                      <a:pt x="1945" y="3100"/>
                    </a:lnTo>
                    <a:lnTo>
                      <a:pt x="2009" y="3124"/>
                    </a:lnTo>
                    <a:lnTo>
                      <a:pt x="2047" y="3113"/>
                    </a:lnTo>
                    <a:lnTo>
                      <a:pt x="2062" y="3060"/>
                    </a:lnTo>
                    <a:lnTo>
                      <a:pt x="2068" y="2872"/>
                    </a:lnTo>
                    <a:lnTo>
                      <a:pt x="2062" y="2623"/>
                    </a:lnTo>
                    <a:lnTo>
                      <a:pt x="2034" y="2277"/>
                    </a:lnTo>
                    <a:lnTo>
                      <a:pt x="1985" y="1841"/>
                    </a:lnTo>
                    <a:lnTo>
                      <a:pt x="1960" y="1395"/>
                    </a:lnTo>
                    <a:lnTo>
                      <a:pt x="1998" y="830"/>
                    </a:lnTo>
                    <a:lnTo>
                      <a:pt x="2038" y="444"/>
                    </a:lnTo>
                    <a:lnTo>
                      <a:pt x="2059" y="182"/>
                    </a:lnTo>
                    <a:lnTo>
                      <a:pt x="2053" y="93"/>
                    </a:lnTo>
                    <a:lnTo>
                      <a:pt x="2019" y="62"/>
                    </a:lnTo>
                    <a:lnTo>
                      <a:pt x="1850" y="78"/>
                    </a:lnTo>
                    <a:lnTo>
                      <a:pt x="1574" y="148"/>
                    </a:lnTo>
                    <a:lnTo>
                      <a:pt x="1152" y="241"/>
                    </a:lnTo>
                    <a:lnTo>
                      <a:pt x="836" y="311"/>
                    </a:lnTo>
                    <a:lnTo>
                      <a:pt x="614" y="361"/>
                    </a:lnTo>
                    <a:lnTo>
                      <a:pt x="401" y="395"/>
                    </a:lnTo>
                    <a:lnTo>
                      <a:pt x="34" y="391"/>
                    </a:lnTo>
                    <a:lnTo>
                      <a:pt x="0" y="370"/>
                    </a:lnTo>
                    <a:lnTo>
                      <a:pt x="0" y="327"/>
                    </a:lnTo>
                    <a:lnTo>
                      <a:pt x="0" y="327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067440" y="2952360"/>
                <a:ext cx="165240" cy="2039760"/>
              </a:xfrm>
              <a:custGeom>
                <a:avLst/>
                <a:gdLst/>
                <a:ahLst/>
                <a:rect l="l" t="t" r="r" b="b"/>
                <a:pathLst>
                  <a:path w="208" h="2570">
                    <a:moveTo>
                      <a:pt x="4" y="40"/>
                    </a:moveTo>
                    <a:lnTo>
                      <a:pt x="0" y="386"/>
                    </a:lnTo>
                    <a:lnTo>
                      <a:pt x="4" y="733"/>
                    </a:lnTo>
                    <a:lnTo>
                      <a:pt x="19" y="1188"/>
                    </a:lnTo>
                    <a:lnTo>
                      <a:pt x="54" y="1653"/>
                    </a:lnTo>
                    <a:lnTo>
                      <a:pt x="78" y="1891"/>
                    </a:lnTo>
                    <a:lnTo>
                      <a:pt x="93" y="2165"/>
                    </a:lnTo>
                    <a:lnTo>
                      <a:pt x="65" y="2406"/>
                    </a:lnTo>
                    <a:lnTo>
                      <a:pt x="50" y="2530"/>
                    </a:lnTo>
                    <a:lnTo>
                      <a:pt x="99" y="2570"/>
                    </a:lnTo>
                    <a:lnTo>
                      <a:pt x="139" y="2551"/>
                    </a:lnTo>
                    <a:lnTo>
                      <a:pt x="173" y="2511"/>
                    </a:lnTo>
                    <a:lnTo>
                      <a:pt x="208" y="2227"/>
                    </a:lnTo>
                    <a:lnTo>
                      <a:pt x="189" y="1748"/>
                    </a:lnTo>
                    <a:lnTo>
                      <a:pt x="139" y="1326"/>
                    </a:lnTo>
                    <a:lnTo>
                      <a:pt x="99" y="935"/>
                    </a:lnTo>
                    <a:lnTo>
                      <a:pt x="78" y="561"/>
                    </a:lnTo>
                    <a:lnTo>
                      <a:pt x="74" y="173"/>
                    </a:lnTo>
                    <a:lnTo>
                      <a:pt x="74" y="44"/>
                    </a:lnTo>
                    <a:lnTo>
                      <a:pt x="65" y="0"/>
                    </a:lnTo>
                    <a:lnTo>
                      <a:pt x="35" y="0"/>
                    </a:lnTo>
                    <a:lnTo>
                      <a:pt x="4" y="40"/>
                    </a:lnTo>
                    <a:lnTo>
                      <a:pt x="4" y="4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933800" y="2808000"/>
                <a:ext cx="88920" cy="69480"/>
              </a:xfrm>
              <a:custGeom>
                <a:avLst/>
                <a:gdLst/>
                <a:ahLst/>
                <a:rect l="l" t="t" r="r" b="b"/>
                <a:pathLst>
                  <a:path w="113" h="88">
                    <a:moveTo>
                      <a:pt x="0" y="50"/>
                    </a:moveTo>
                    <a:lnTo>
                      <a:pt x="16" y="19"/>
                    </a:lnTo>
                    <a:lnTo>
                      <a:pt x="59" y="0"/>
                    </a:lnTo>
                    <a:lnTo>
                      <a:pt x="97" y="10"/>
                    </a:lnTo>
                    <a:lnTo>
                      <a:pt x="113" y="44"/>
                    </a:lnTo>
                    <a:lnTo>
                      <a:pt x="88" y="78"/>
                    </a:lnTo>
                    <a:lnTo>
                      <a:pt x="44" y="88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756320" y="3041280"/>
                <a:ext cx="133200" cy="125280"/>
              </a:xfrm>
              <a:custGeom>
                <a:avLst/>
                <a:gdLst/>
                <a:ahLst/>
                <a:rect l="l" t="t" r="r" b="b"/>
                <a:pathLst>
                  <a:path w="167" h="158">
                    <a:moveTo>
                      <a:pt x="32" y="19"/>
                    </a:moveTo>
                    <a:lnTo>
                      <a:pt x="95" y="0"/>
                    </a:lnTo>
                    <a:lnTo>
                      <a:pt x="152" y="23"/>
                    </a:lnTo>
                    <a:lnTo>
                      <a:pt x="167" y="70"/>
                    </a:lnTo>
                    <a:lnTo>
                      <a:pt x="148" y="133"/>
                    </a:lnTo>
                    <a:lnTo>
                      <a:pt x="101" y="158"/>
                    </a:lnTo>
                    <a:lnTo>
                      <a:pt x="32" y="143"/>
                    </a:lnTo>
                    <a:lnTo>
                      <a:pt x="0" y="101"/>
                    </a:lnTo>
                    <a:lnTo>
                      <a:pt x="0" y="53"/>
                    </a:lnTo>
                    <a:lnTo>
                      <a:pt x="32" y="19"/>
                    </a:lnTo>
                    <a:lnTo>
                      <a:pt x="32" y="1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603680" y="3282840"/>
                <a:ext cx="82800" cy="91440"/>
              </a:xfrm>
              <a:custGeom>
                <a:avLst/>
                <a:gdLst/>
                <a:ahLst/>
                <a:rect l="l" t="t" r="r" b="b"/>
                <a:pathLst>
                  <a:path w="105" h="116">
                    <a:moveTo>
                      <a:pt x="0" y="57"/>
                    </a:moveTo>
                    <a:lnTo>
                      <a:pt x="13" y="19"/>
                    </a:lnTo>
                    <a:lnTo>
                      <a:pt x="57" y="0"/>
                    </a:lnTo>
                    <a:lnTo>
                      <a:pt x="95" y="25"/>
                    </a:lnTo>
                    <a:lnTo>
                      <a:pt x="105" y="78"/>
                    </a:lnTo>
                    <a:lnTo>
                      <a:pt x="70" y="116"/>
                    </a:lnTo>
                    <a:lnTo>
                      <a:pt x="32" y="97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87840" y="3506400"/>
                <a:ext cx="71640" cy="69480"/>
              </a:xfrm>
              <a:custGeom>
                <a:avLst/>
                <a:gdLst/>
                <a:ahLst/>
                <a:rect l="l" t="t" r="r" b="b"/>
                <a:pathLst>
                  <a:path w="91" h="88">
                    <a:moveTo>
                      <a:pt x="6" y="25"/>
                    </a:moveTo>
                    <a:lnTo>
                      <a:pt x="34" y="0"/>
                    </a:lnTo>
                    <a:lnTo>
                      <a:pt x="72" y="6"/>
                    </a:lnTo>
                    <a:lnTo>
                      <a:pt x="91" y="35"/>
                    </a:lnTo>
                    <a:lnTo>
                      <a:pt x="78" y="88"/>
                    </a:lnTo>
                    <a:lnTo>
                      <a:pt x="40" y="88"/>
                    </a:lnTo>
                    <a:lnTo>
                      <a:pt x="0" y="63"/>
                    </a:lnTo>
                    <a:lnTo>
                      <a:pt x="6" y="25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102200" y="3187440"/>
                <a:ext cx="409320" cy="309240"/>
              </a:xfrm>
              <a:custGeom>
                <a:avLst/>
                <a:gdLst/>
                <a:ahLst/>
                <a:rect l="l" t="t" r="r" b="b"/>
                <a:pathLst>
                  <a:path w="515" h="390">
                    <a:moveTo>
                      <a:pt x="515" y="371"/>
                    </a:moveTo>
                    <a:lnTo>
                      <a:pt x="481" y="390"/>
                    </a:lnTo>
                    <a:lnTo>
                      <a:pt x="346" y="322"/>
                    </a:lnTo>
                    <a:lnTo>
                      <a:pt x="222" y="255"/>
                    </a:lnTo>
                    <a:lnTo>
                      <a:pt x="91" y="158"/>
                    </a:lnTo>
                    <a:lnTo>
                      <a:pt x="0" y="86"/>
                    </a:lnTo>
                    <a:lnTo>
                      <a:pt x="0" y="33"/>
                    </a:lnTo>
                    <a:lnTo>
                      <a:pt x="53" y="0"/>
                    </a:lnTo>
                    <a:lnTo>
                      <a:pt x="125" y="14"/>
                    </a:lnTo>
                    <a:lnTo>
                      <a:pt x="251" y="120"/>
                    </a:lnTo>
                    <a:lnTo>
                      <a:pt x="367" y="217"/>
                    </a:lnTo>
                    <a:lnTo>
                      <a:pt x="515" y="371"/>
                    </a:lnTo>
                    <a:lnTo>
                      <a:pt x="515" y="37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172040" y="2838240"/>
                <a:ext cx="396720" cy="428040"/>
              </a:xfrm>
              <a:custGeom>
                <a:avLst/>
                <a:gdLst/>
                <a:ahLst/>
                <a:rect l="l" t="t" r="r" b="b"/>
                <a:pathLst>
                  <a:path w="500" h="540">
                    <a:moveTo>
                      <a:pt x="481" y="540"/>
                    </a:moveTo>
                    <a:lnTo>
                      <a:pt x="331" y="453"/>
                    </a:lnTo>
                    <a:lnTo>
                      <a:pt x="154" y="276"/>
                    </a:lnTo>
                    <a:lnTo>
                      <a:pt x="23" y="141"/>
                    </a:lnTo>
                    <a:lnTo>
                      <a:pt x="0" y="78"/>
                    </a:lnTo>
                    <a:lnTo>
                      <a:pt x="23" y="25"/>
                    </a:lnTo>
                    <a:lnTo>
                      <a:pt x="86" y="0"/>
                    </a:lnTo>
                    <a:lnTo>
                      <a:pt x="145" y="35"/>
                    </a:lnTo>
                    <a:lnTo>
                      <a:pt x="221" y="113"/>
                    </a:lnTo>
                    <a:lnTo>
                      <a:pt x="299" y="238"/>
                    </a:lnTo>
                    <a:lnTo>
                      <a:pt x="390" y="381"/>
                    </a:lnTo>
                    <a:lnTo>
                      <a:pt x="443" y="453"/>
                    </a:lnTo>
                    <a:lnTo>
                      <a:pt x="500" y="515"/>
                    </a:lnTo>
                    <a:lnTo>
                      <a:pt x="481" y="540"/>
                    </a:lnTo>
                    <a:lnTo>
                      <a:pt x="481" y="54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362480" y="2528640"/>
                <a:ext cx="374760" cy="479160"/>
              </a:xfrm>
              <a:custGeom>
                <a:avLst/>
                <a:gdLst/>
                <a:ahLst/>
                <a:rect l="l" t="t" r="r" b="b"/>
                <a:pathLst>
                  <a:path w="471" h="602">
                    <a:moveTo>
                      <a:pt x="424" y="602"/>
                    </a:moveTo>
                    <a:lnTo>
                      <a:pt x="456" y="597"/>
                    </a:lnTo>
                    <a:lnTo>
                      <a:pt x="462" y="555"/>
                    </a:lnTo>
                    <a:lnTo>
                      <a:pt x="471" y="414"/>
                    </a:lnTo>
                    <a:lnTo>
                      <a:pt x="462" y="370"/>
                    </a:lnTo>
                    <a:lnTo>
                      <a:pt x="395" y="351"/>
                    </a:lnTo>
                    <a:lnTo>
                      <a:pt x="352" y="357"/>
                    </a:lnTo>
                    <a:lnTo>
                      <a:pt x="371" y="289"/>
                    </a:lnTo>
                    <a:lnTo>
                      <a:pt x="374" y="213"/>
                    </a:lnTo>
                    <a:lnTo>
                      <a:pt x="374" y="83"/>
                    </a:lnTo>
                    <a:lnTo>
                      <a:pt x="355" y="24"/>
                    </a:lnTo>
                    <a:lnTo>
                      <a:pt x="317" y="5"/>
                    </a:lnTo>
                    <a:lnTo>
                      <a:pt x="241" y="0"/>
                    </a:lnTo>
                    <a:lnTo>
                      <a:pt x="173" y="78"/>
                    </a:lnTo>
                    <a:lnTo>
                      <a:pt x="78" y="188"/>
                    </a:lnTo>
                    <a:lnTo>
                      <a:pt x="19" y="275"/>
                    </a:lnTo>
                    <a:lnTo>
                      <a:pt x="0" y="323"/>
                    </a:lnTo>
                    <a:lnTo>
                      <a:pt x="28" y="357"/>
                    </a:lnTo>
                    <a:lnTo>
                      <a:pt x="72" y="380"/>
                    </a:lnTo>
                    <a:lnTo>
                      <a:pt x="135" y="361"/>
                    </a:lnTo>
                    <a:lnTo>
                      <a:pt x="173" y="313"/>
                    </a:lnTo>
                    <a:lnTo>
                      <a:pt x="226" y="169"/>
                    </a:lnTo>
                    <a:lnTo>
                      <a:pt x="245" y="194"/>
                    </a:lnTo>
                    <a:lnTo>
                      <a:pt x="255" y="270"/>
                    </a:lnTo>
                    <a:lnTo>
                      <a:pt x="232" y="376"/>
                    </a:lnTo>
                    <a:lnTo>
                      <a:pt x="198" y="467"/>
                    </a:lnTo>
                    <a:lnTo>
                      <a:pt x="220" y="496"/>
                    </a:lnTo>
                    <a:lnTo>
                      <a:pt x="289" y="496"/>
                    </a:lnTo>
                    <a:lnTo>
                      <a:pt x="342" y="486"/>
                    </a:lnTo>
                    <a:lnTo>
                      <a:pt x="346" y="534"/>
                    </a:lnTo>
                    <a:lnTo>
                      <a:pt x="424" y="602"/>
                    </a:lnTo>
                    <a:lnTo>
                      <a:pt x="424" y="602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748040" y="2449440"/>
                <a:ext cx="171720" cy="301320"/>
              </a:xfrm>
              <a:custGeom>
                <a:avLst/>
                <a:gdLst/>
                <a:ahLst/>
                <a:rect l="l" t="t" r="r" b="b"/>
                <a:pathLst>
                  <a:path w="214" h="380">
                    <a:moveTo>
                      <a:pt x="211" y="380"/>
                    </a:moveTo>
                    <a:lnTo>
                      <a:pt x="214" y="314"/>
                    </a:lnTo>
                    <a:lnTo>
                      <a:pt x="161" y="144"/>
                    </a:lnTo>
                    <a:lnTo>
                      <a:pt x="119" y="29"/>
                    </a:lnTo>
                    <a:lnTo>
                      <a:pt x="70" y="0"/>
                    </a:lnTo>
                    <a:lnTo>
                      <a:pt x="9" y="19"/>
                    </a:lnTo>
                    <a:lnTo>
                      <a:pt x="0" y="63"/>
                    </a:lnTo>
                    <a:lnTo>
                      <a:pt x="41" y="135"/>
                    </a:lnTo>
                    <a:lnTo>
                      <a:pt x="133" y="304"/>
                    </a:lnTo>
                    <a:lnTo>
                      <a:pt x="211" y="380"/>
                    </a:lnTo>
                    <a:lnTo>
                      <a:pt x="211" y="38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10200" y="3282840"/>
                <a:ext cx="198360" cy="78840"/>
              </a:xfrm>
              <a:custGeom>
                <a:avLst/>
                <a:gdLst/>
                <a:ahLst/>
                <a:rect l="l" t="t" r="r" b="b"/>
                <a:pathLst>
                  <a:path w="249" h="101">
                    <a:moveTo>
                      <a:pt x="47" y="101"/>
                    </a:moveTo>
                    <a:lnTo>
                      <a:pt x="114" y="88"/>
                    </a:lnTo>
                    <a:lnTo>
                      <a:pt x="230" y="88"/>
                    </a:lnTo>
                    <a:lnTo>
                      <a:pt x="249" y="48"/>
                    </a:lnTo>
                    <a:lnTo>
                      <a:pt x="201" y="10"/>
                    </a:lnTo>
                    <a:lnTo>
                      <a:pt x="123" y="0"/>
                    </a:lnTo>
                    <a:lnTo>
                      <a:pt x="32" y="15"/>
                    </a:lnTo>
                    <a:lnTo>
                      <a:pt x="0" y="44"/>
                    </a:lnTo>
                    <a:lnTo>
                      <a:pt x="4" y="88"/>
                    </a:lnTo>
                    <a:lnTo>
                      <a:pt x="47" y="101"/>
                    </a:lnTo>
                    <a:lnTo>
                      <a:pt x="47" y="10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033880" y="3182760"/>
                <a:ext cx="266760" cy="83520"/>
              </a:xfrm>
              <a:custGeom>
                <a:avLst/>
                <a:gdLst/>
                <a:ahLst/>
                <a:rect l="l" t="t" r="r" b="b"/>
                <a:pathLst>
                  <a:path w="336" h="106">
                    <a:moveTo>
                      <a:pt x="0" y="100"/>
                    </a:moveTo>
                    <a:lnTo>
                      <a:pt x="116" y="106"/>
                    </a:lnTo>
                    <a:lnTo>
                      <a:pt x="211" y="87"/>
                    </a:lnTo>
                    <a:lnTo>
                      <a:pt x="298" y="100"/>
                    </a:lnTo>
                    <a:lnTo>
                      <a:pt x="336" y="100"/>
                    </a:lnTo>
                    <a:lnTo>
                      <a:pt x="336" y="49"/>
                    </a:lnTo>
                    <a:lnTo>
                      <a:pt x="298" y="15"/>
                    </a:lnTo>
                    <a:lnTo>
                      <a:pt x="211" y="0"/>
                    </a:lnTo>
                    <a:lnTo>
                      <a:pt x="97" y="15"/>
                    </a:lnTo>
                    <a:lnTo>
                      <a:pt x="19" y="53"/>
                    </a:lnTo>
                    <a:lnTo>
                      <a:pt x="0" y="10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30640" y="3041280"/>
                <a:ext cx="460440" cy="210960"/>
              </a:xfrm>
              <a:custGeom>
                <a:avLst/>
                <a:gdLst/>
                <a:ahLst/>
                <a:rect l="l" t="t" r="r" b="b"/>
                <a:pathLst>
                  <a:path w="580" h="264">
                    <a:moveTo>
                      <a:pt x="0" y="139"/>
                    </a:moveTo>
                    <a:lnTo>
                      <a:pt x="42" y="85"/>
                    </a:lnTo>
                    <a:lnTo>
                      <a:pt x="110" y="63"/>
                    </a:lnTo>
                    <a:lnTo>
                      <a:pt x="215" y="70"/>
                    </a:lnTo>
                    <a:lnTo>
                      <a:pt x="224" y="32"/>
                    </a:lnTo>
                    <a:lnTo>
                      <a:pt x="259" y="0"/>
                    </a:lnTo>
                    <a:lnTo>
                      <a:pt x="350" y="4"/>
                    </a:lnTo>
                    <a:lnTo>
                      <a:pt x="394" y="23"/>
                    </a:lnTo>
                    <a:lnTo>
                      <a:pt x="460" y="57"/>
                    </a:lnTo>
                    <a:lnTo>
                      <a:pt x="523" y="124"/>
                    </a:lnTo>
                    <a:lnTo>
                      <a:pt x="572" y="192"/>
                    </a:lnTo>
                    <a:lnTo>
                      <a:pt x="580" y="264"/>
                    </a:lnTo>
                    <a:lnTo>
                      <a:pt x="519" y="264"/>
                    </a:lnTo>
                    <a:lnTo>
                      <a:pt x="485" y="196"/>
                    </a:lnTo>
                    <a:lnTo>
                      <a:pt x="418" y="124"/>
                    </a:lnTo>
                    <a:lnTo>
                      <a:pt x="340" y="63"/>
                    </a:lnTo>
                    <a:lnTo>
                      <a:pt x="283" y="70"/>
                    </a:lnTo>
                    <a:lnTo>
                      <a:pt x="293" y="110"/>
                    </a:lnTo>
                    <a:lnTo>
                      <a:pt x="287" y="143"/>
                    </a:lnTo>
                    <a:lnTo>
                      <a:pt x="224" y="154"/>
                    </a:lnTo>
                    <a:lnTo>
                      <a:pt x="105" y="158"/>
                    </a:lnTo>
                    <a:lnTo>
                      <a:pt x="42" y="182"/>
                    </a:lnTo>
                    <a:lnTo>
                      <a:pt x="13" y="173"/>
                    </a:lnTo>
                    <a:lnTo>
                      <a:pt x="0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613480" y="3885840"/>
                <a:ext cx="287280" cy="98280"/>
              </a:xfrm>
              <a:custGeom>
                <a:avLst/>
                <a:gdLst/>
                <a:ahLst/>
                <a:rect l="l" t="t" r="r" b="b"/>
                <a:pathLst>
                  <a:path w="361" h="126">
                    <a:moveTo>
                      <a:pt x="0" y="29"/>
                    </a:moveTo>
                    <a:lnTo>
                      <a:pt x="53" y="0"/>
                    </a:lnTo>
                    <a:lnTo>
                      <a:pt x="126" y="4"/>
                    </a:lnTo>
                    <a:lnTo>
                      <a:pt x="203" y="38"/>
                    </a:lnTo>
                    <a:lnTo>
                      <a:pt x="304" y="78"/>
                    </a:lnTo>
                    <a:lnTo>
                      <a:pt x="361" y="101"/>
                    </a:lnTo>
                    <a:lnTo>
                      <a:pt x="348" y="126"/>
                    </a:lnTo>
                    <a:lnTo>
                      <a:pt x="245" y="126"/>
                    </a:lnTo>
                    <a:lnTo>
                      <a:pt x="154" y="101"/>
                    </a:lnTo>
                    <a:lnTo>
                      <a:pt x="91" y="78"/>
                    </a:lnTo>
                    <a:lnTo>
                      <a:pt x="19" y="67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65880" y="3261960"/>
                <a:ext cx="506160" cy="699840"/>
              </a:xfrm>
              <a:custGeom>
                <a:avLst/>
                <a:gdLst/>
                <a:ahLst/>
                <a:rect l="l" t="t" r="r" b="b"/>
                <a:pathLst>
                  <a:path w="639" h="882">
                    <a:moveTo>
                      <a:pt x="53" y="0"/>
                    </a:moveTo>
                    <a:lnTo>
                      <a:pt x="138" y="107"/>
                    </a:lnTo>
                    <a:lnTo>
                      <a:pt x="182" y="208"/>
                    </a:lnTo>
                    <a:lnTo>
                      <a:pt x="254" y="358"/>
                    </a:lnTo>
                    <a:lnTo>
                      <a:pt x="302" y="478"/>
                    </a:lnTo>
                    <a:lnTo>
                      <a:pt x="408" y="607"/>
                    </a:lnTo>
                    <a:lnTo>
                      <a:pt x="513" y="727"/>
                    </a:lnTo>
                    <a:lnTo>
                      <a:pt x="591" y="814"/>
                    </a:lnTo>
                    <a:lnTo>
                      <a:pt x="639" y="871"/>
                    </a:lnTo>
                    <a:lnTo>
                      <a:pt x="610" y="882"/>
                    </a:lnTo>
                    <a:lnTo>
                      <a:pt x="566" y="871"/>
                    </a:lnTo>
                    <a:lnTo>
                      <a:pt x="408" y="738"/>
                    </a:lnTo>
                    <a:lnTo>
                      <a:pt x="283" y="593"/>
                    </a:lnTo>
                    <a:lnTo>
                      <a:pt x="211" y="443"/>
                    </a:lnTo>
                    <a:lnTo>
                      <a:pt x="148" y="276"/>
                    </a:lnTo>
                    <a:lnTo>
                      <a:pt x="81" y="132"/>
                    </a:lnTo>
                    <a:lnTo>
                      <a:pt x="24" y="50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946760" y="3384360"/>
                <a:ext cx="492120" cy="1053720"/>
              </a:xfrm>
              <a:custGeom>
                <a:avLst/>
                <a:gdLst/>
                <a:ahLst/>
                <a:rect l="l" t="t" r="r" b="b"/>
                <a:pathLst>
                  <a:path w="619" h="1329">
                    <a:moveTo>
                      <a:pt x="374" y="0"/>
                    </a:moveTo>
                    <a:lnTo>
                      <a:pt x="446" y="25"/>
                    </a:lnTo>
                    <a:lnTo>
                      <a:pt x="543" y="101"/>
                    </a:lnTo>
                    <a:lnTo>
                      <a:pt x="610" y="238"/>
                    </a:lnTo>
                    <a:lnTo>
                      <a:pt x="619" y="362"/>
                    </a:lnTo>
                    <a:lnTo>
                      <a:pt x="581" y="468"/>
                    </a:lnTo>
                    <a:lnTo>
                      <a:pt x="462" y="666"/>
                    </a:lnTo>
                    <a:lnTo>
                      <a:pt x="336" y="848"/>
                    </a:lnTo>
                    <a:lnTo>
                      <a:pt x="207" y="1040"/>
                    </a:lnTo>
                    <a:lnTo>
                      <a:pt x="135" y="1131"/>
                    </a:lnTo>
                    <a:lnTo>
                      <a:pt x="119" y="1209"/>
                    </a:lnTo>
                    <a:lnTo>
                      <a:pt x="24" y="1329"/>
                    </a:lnTo>
                    <a:lnTo>
                      <a:pt x="0" y="1238"/>
                    </a:lnTo>
                    <a:lnTo>
                      <a:pt x="24" y="1147"/>
                    </a:lnTo>
                    <a:lnTo>
                      <a:pt x="91" y="1059"/>
                    </a:lnTo>
                    <a:lnTo>
                      <a:pt x="144" y="968"/>
                    </a:lnTo>
                    <a:lnTo>
                      <a:pt x="273" y="801"/>
                    </a:lnTo>
                    <a:lnTo>
                      <a:pt x="399" y="635"/>
                    </a:lnTo>
                    <a:lnTo>
                      <a:pt x="490" y="420"/>
                    </a:lnTo>
                    <a:lnTo>
                      <a:pt x="524" y="333"/>
                    </a:lnTo>
                    <a:lnTo>
                      <a:pt x="519" y="238"/>
                    </a:lnTo>
                    <a:lnTo>
                      <a:pt x="471" y="141"/>
                    </a:lnTo>
                    <a:lnTo>
                      <a:pt x="370" y="82"/>
                    </a:lnTo>
                    <a:lnTo>
                      <a:pt x="346" y="40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11880" y="3922560"/>
                <a:ext cx="320760" cy="229680"/>
              </a:xfrm>
              <a:custGeom>
                <a:avLst/>
                <a:gdLst/>
                <a:ahLst/>
                <a:rect l="l" t="t" r="r" b="b"/>
                <a:pathLst>
                  <a:path w="405" h="289">
                    <a:moveTo>
                      <a:pt x="314" y="0"/>
                    </a:moveTo>
                    <a:lnTo>
                      <a:pt x="314" y="49"/>
                    </a:lnTo>
                    <a:lnTo>
                      <a:pt x="285" y="97"/>
                    </a:lnTo>
                    <a:lnTo>
                      <a:pt x="217" y="144"/>
                    </a:lnTo>
                    <a:lnTo>
                      <a:pt x="116" y="217"/>
                    </a:lnTo>
                    <a:lnTo>
                      <a:pt x="0" y="276"/>
                    </a:lnTo>
                    <a:lnTo>
                      <a:pt x="50" y="289"/>
                    </a:lnTo>
                    <a:lnTo>
                      <a:pt x="126" y="276"/>
                    </a:lnTo>
                    <a:lnTo>
                      <a:pt x="204" y="241"/>
                    </a:lnTo>
                    <a:lnTo>
                      <a:pt x="314" y="160"/>
                    </a:lnTo>
                    <a:lnTo>
                      <a:pt x="371" y="106"/>
                    </a:lnTo>
                    <a:lnTo>
                      <a:pt x="405" y="19"/>
                    </a:lnTo>
                    <a:lnTo>
                      <a:pt x="314" y="0"/>
                    </a:lnTo>
                    <a:lnTo>
                      <a:pt x="314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998960" y="4125600"/>
                <a:ext cx="488880" cy="423720"/>
              </a:xfrm>
              <a:custGeom>
                <a:avLst/>
                <a:gdLst/>
                <a:ahLst/>
                <a:rect l="l" t="t" r="r" b="b"/>
                <a:pathLst>
                  <a:path w="616" h="534">
                    <a:moveTo>
                      <a:pt x="50" y="385"/>
                    </a:moveTo>
                    <a:lnTo>
                      <a:pt x="122" y="429"/>
                    </a:lnTo>
                    <a:lnTo>
                      <a:pt x="207" y="458"/>
                    </a:lnTo>
                    <a:lnTo>
                      <a:pt x="299" y="452"/>
                    </a:lnTo>
                    <a:lnTo>
                      <a:pt x="361" y="410"/>
                    </a:lnTo>
                    <a:lnTo>
                      <a:pt x="428" y="323"/>
                    </a:lnTo>
                    <a:lnTo>
                      <a:pt x="496" y="197"/>
                    </a:lnTo>
                    <a:lnTo>
                      <a:pt x="544" y="78"/>
                    </a:lnTo>
                    <a:lnTo>
                      <a:pt x="553" y="15"/>
                    </a:lnTo>
                    <a:lnTo>
                      <a:pt x="616" y="0"/>
                    </a:lnTo>
                    <a:lnTo>
                      <a:pt x="612" y="93"/>
                    </a:lnTo>
                    <a:lnTo>
                      <a:pt x="578" y="188"/>
                    </a:lnTo>
                    <a:lnTo>
                      <a:pt x="534" y="285"/>
                    </a:lnTo>
                    <a:lnTo>
                      <a:pt x="472" y="380"/>
                    </a:lnTo>
                    <a:lnTo>
                      <a:pt x="438" y="448"/>
                    </a:lnTo>
                    <a:lnTo>
                      <a:pt x="390" y="500"/>
                    </a:lnTo>
                    <a:lnTo>
                      <a:pt x="308" y="534"/>
                    </a:lnTo>
                    <a:lnTo>
                      <a:pt x="204" y="534"/>
                    </a:lnTo>
                    <a:lnTo>
                      <a:pt x="135" y="515"/>
                    </a:lnTo>
                    <a:lnTo>
                      <a:pt x="63" y="492"/>
                    </a:lnTo>
                    <a:lnTo>
                      <a:pt x="0" y="439"/>
                    </a:lnTo>
                    <a:lnTo>
                      <a:pt x="50" y="385"/>
                    </a:lnTo>
                    <a:lnTo>
                      <a:pt x="50" y="385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621320" y="4198680"/>
                <a:ext cx="442800" cy="182160"/>
              </a:xfrm>
              <a:custGeom>
                <a:avLst/>
                <a:gdLst/>
                <a:ahLst/>
                <a:rect l="l" t="t" r="r" b="b"/>
                <a:pathLst>
                  <a:path w="557" h="230">
                    <a:moveTo>
                      <a:pt x="0" y="177"/>
                    </a:moveTo>
                    <a:lnTo>
                      <a:pt x="97" y="110"/>
                    </a:lnTo>
                    <a:lnTo>
                      <a:pt x="241" y="47"/>
                    </a:lnTo>
                    <a:lnTo>
                      <a:pt x="384" y="9"/>
                    </a:lnTo>
                    <a:lnTo>
                      <a:pt x="557" y="0"/>
                    </a:lnTo>
                    <a:lnTo>
                      <a:pt x="538" y="66"/>
                    </a:lnTo>
                    <a:lnTo>
                      <a:pt x="414" y="72"/>
                    </a:lnTo>
                    <a:lnTo>
                      <a:pt x="283" y="114"/>
                    </a:lnTo>
                    <a:lnTo>
                      <a:pt x="179" y="152"/>
                    </a:lnTo>
                    <a:lnTo>
                      <a:pt x="19" y="230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686480" y="4317840"/>
                <a:ext cx="304560" cy="174240"/>
              </a:xfrm>
              <a:custGeom>
                <a:avLst/>
                <a:gdLst/>
                <a:ahLst/>
                <a:rect l="l" t="t" r="r" b="b"/>
                <a:pathLst>
                  <a:path w="384" h="220">
                    <a:moveTo>
                      <a:pt x="0" y="198"/>
                    </a:moveTo>
                    <a:lnTo>
                      <a:pt x="100" y="110"/>
                    </a:lnTo>
                    <a:lnTo>
                      <a:pt x="226" y="48"/>
                    </a:lnTo>
                    <a:lnTo>
                      <a:pt x="292" y="25"/>
                    </a:lnTo>
                    <a:lnTo>
                      <a:pt x="384" y="0"/>
                    </a:lnTo>
                    <a:lnTo>
                      <a:pt x="370" y="82"/>
                    </a:lnTo>
                    <a:lnTo>
                      <a:pt x="254" y="101"/>
                    </a:lnTo>
                    <a:lnTo>
                      <a:pt x="169" y="139"/>
                    </a:lnTo>
                    <a:lnTo>
                      <a:pt x="91" y="169"/>
                    </a:lnTo>
                    <a:lnTo>
                      <a:pt x="0" y="220"/>
                    </a:lnTo>
                    <a:lnTo>
                      <a:pt x="0" y="198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619520" y="4458960"/>
                <a:ext cx="449280" cy="556920"/>
              </a:xfrm>
              <a:custGeom>
                <a:avLst/>
                <a:gdLst/>
                <a:ahLst/>
                <a:rect l="l" t="t" r="r" b="b"/>
                <a:pathLst>
                  <a:path w="567" h="701">
                    <a:moveTo>
                      <a:pt x="504" y="0"/>
                    </a:moveTo>
                    <a:lnTo>
                      <a:pt x="369" y="119"/>
                    </a:lnTo>
                    <a:lnTo>
                      <a:pt x="215" y="254"/>
                    </a:lnTo>
                    <a:lnTo>
                      <a:pt x="29" y="427"/>
                    </a:lnTo>
                    <a:lnTo>
                      <a:pt x="38" y="490"/>
                    </a:lnTo>
                    <a:lnTo>
                      <a:pt x="110" y="412"/>
                    </a:lnTo>
                    <a:lnTo>
                      <a:pt x="245" y="289"/>
                    </a:lnTo>
                    <a:lnTo>
                      <a:pt x="369" y="182"/>
                    </a:lnTo>
                    <a:lnTo>
                      <a:pt x="456" y="110"/>
                    </a:lnTo>
                    <a:lnTo>
                      <a:pt x="451" y="154"/>
                    </a:lnTo>
                    <a:lnTo>
                      <a:pt x="375" y="220"/>
                    </a:lnTo>
                    <a:lnTo>
                      <a:pt x="274" y="317"/>
                    </a:lnTo>
                    <a:lnTo>
                      <a:pt x="192" y="431"/>
                    </a:lnTo>
                    <a:lnTo>
                      <a:pt x="42" y="634"/>
                    </a:lnTo>
                    <a:lnTo>
                      <a:pt x="0" y="701"/>
                    </a:lnTo>
                    <a:lnTo>
                      <a:pt x="95" y="692"/>
                    </a:lnTo>
                    <a:lnTo>
                      <a:pt x="192" y="557"/>
                    </a:lnTo>
                    <a:lnTo>
                      <a:pt x="316" y="384"/>
                    </a:lnTo>
                    <a:lnTo>
                      <a:pt x="432" y="264"/>
                    </a:lnTo>
                    <a:lnTo>
                      <a:pt x="498" y="167"/>
                    </a:lnTo>
                    <a:lnTo>
                      <a:pt x="567" y="57"/>
                    </a:lnTo>
                    <a:lnTo>
                      <a:pt x="504" y="0"/>
                    </a:lnTo>
                    <a:lnTo>
                      <a:pt x="504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29320" y="4492440"/>
                <a:ext cx="598320" cy="510840"/>
              </a:xfrm>
              <a:custGeom>
                <a:avLst/>
                <a:gdLst/>
                <a:ahLst/>
                <a:rect l="l" t="t" r="r" b="b"/>
                <a:pathLst>
                  <a:path w="755" h="645">
                    <a:moveTo>
                      <a:pt x="663" y="25"/>
                    </a:moveTo>
                    <a:lnTo>
                      <a:pt x="591" y="145"/>
                    </a:lnTo>
                    <a:lnTo>
                      <a:pt x="490" y="248"/>
                    </a:lnTo>
                    <a:lnTo>
                      <a:pt x="317" y="405"/>
                    </a:lnTo>
                    <a:lnTo>
                      <a:pt x="116" y="535"/>
                    </a:lnTo>
                    <a:lnTo>
                      <a:pt x="0" y="626"/>
                    </a:lnTo>
                    <a:lnTo>
                      <a:pt x="28" y="645"/>
                    </a:lnTo>
                    <a:lnTo>
                      <a:pt x="158" y="565"/>
                    </a:lnTo>
                    <a:lnTo>
                      <a:pt x="293" y="481"/>
                    </a:lnTo>
                    <a:lnTo>
                      <a:pt x="447" y="377"/>
                    </a:lnTo>
                    <a:lnTo>
                      <a:pt x="566" y="267"/>
                    </a:lnTo>
                    <a:lnTo>
                      <a:pt x="673" y="145"/>
                    </a:lnTo>
                    <a:lnTo>
                      <a:pt x="755" y="0"/>
                    </a:lnTo>
                    <a:lnTo>
                      <a:pt x="663" y="25"/>
                    </a:lnTo>
                    <a:lnTo>
                      <a:pt x="663" y="25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610160" y="4358880"/>
                <a:ext cx="1584360" cy="1064880"/>
              </a:xfrm>
              <a:custGeom>
                <a:avLst/>
                <a:gdLst/>
                <a:ahLst/>
                <a:rect l="l" t="t" r="r" b="b"/>
                <a:pathLst>
                  <a:path w="1996" h="1342">
                    <a:moveTo>
                      <a:pt x="981" y="0"/>
                    </a:moveTo>
                    <a:lnTo>
                      <a:pt x="1043" y="76"/>
                    </a:lnTo>
                    <a:lnTo>
                      <a:pt x="1110" y="230"/>
                    </a:lnTo>
                    <a:lnTo>
                      <a:pt x="1178" y="422"/>
                    </a:lnTo>
                    <a:lnTo>
                      <a:pt x="1188" y="610"/>
                    </a:lnTo>
                    <a:lnTo>
                      <a:pt x="1192" y="711"/>
                    </a:lnTo>
                    <a:lnTo>
                      <a:pt x="1188" y="871"/>
                    </a:lnTo>
                    <a:lnTo>
                      <a:pt x="1169" y="987"/>
                    </a:lnTo>
                    <a:lnTo>
                      <a:pt x="1255" y="996"/>
                    </a:lnTo>
                    <a:lnTo>
                      <a:pt x="1481" y="1015"/>
                    </a:lnTo>
                    <a:lnTo>
                      <a:pt x="1597" y="1034"/>
                    </a:lnTo>
                    <a:lnTo>
                      <a:pt x="1678" y="1068"/>
                    </a:lnTo>
                    <a:lnTo>
                      <a:pt x="1755" y="1106"/>
                    </a:lnTo>
                    <a:lnTo>
                      <a:pt x="1865" y="1116"/>
                    </a:lnTo>
                    <a:lnTo>
                      <a:pt x="1947" y="1135"/>
                    </a:lnTo>
                    <a:lnTo>
                      <a:pt x="1986" y="1163"/>
                    </a:lnTo>
                    <a:lnTo>
                      <a:pt x="1996" y="1207"/>
                    </a:lnTo>
                    <a:lnTo>
                      <a:pt x="1956" y="1236"/>
                    </a:lnTo>
                    <a:lnTo>
                      <a:pt x="1751" y="1260"/>
                    </a:lnTo>
                    <a:lnTo>
                      <a:pt x="1601" y="1260"/>
                    </a:lnTo>
                    <a:lnTo>
                      <a:pt x="1496" y="1283"/>
                    </a:lnTo>
                    <a:lnTo>
                      <a:pt x="1361" y="1308"/>
                    </a:lnTo>
                    <a:lnTo>
                      <a:pt x="1015" y="1323"/>
                    </a:lnTo>
                    <a:lnTo>
                      <a:pt x="688" y="1342"/>
                    </a:lnTo>
                    <a:lnTo>
                      <a:pt x="433" y="1333"/>
                    </a:lnTo>
                    <a:lnTo>
                      <a:pt x="237" y="1304"/>
                    </a:lnTo>
                    <a:lnTo>
                      <a:pt x="59" y="1276"/>
                    </a:lnTo>
                    <a:lnTo>
                      <a:pt x="0" y="1232"/>
                    </a:lnTo>
                    <a:lnTo>
                      <a:pt x="11" y="1182"/>
                    </a:lnTo>
                    <a:lnTo>
                      <a:pt x="116" y="1207"/>
                    </a:lnTo>
                    <a:lnTo>
                      <a:pt x="342" y="1226"/>
                    </a:lnTo>
                    <a:lnTo>
                      <a:pt x="606" y="1236"/>
                    </a:lnTo>
                    <a:lnTo>
                      <a:pt x="754" y="1232"/>
                    </a:lnTo>
                    <a:lnTo>
                      <a:pt x="880" y="1207"/>
                    </a:lnTo>
                    <a:lnTo>
                      <a:pt x="977" y="1173"/>
                    </a:lnTo>
                    <a:lnTo>
                      <a:pt x="1024" y="1116"/>
                    </a:lnTo>
                    <a:lnTo>
                      <a:pt x="1072" y="987"/>
                    </a:lnTo>
                    <a:lnTo>
                      <a:pt x="1091" y="833"/>
                    </a:lnTo>
                    <a:lnTo>
                      <a:pt x="1110" y="639"/>
                    </a:lnTo>
                    <a:lnTo>
                      <a:pt x="1091" y="403"/>
                    </a:lnTo>
                    <a:lnTo>
                      <a:pt x="1000" y="183"/>
                    </a:lnTo>
                    <a:lnTo>
                      <a:pt x="952" y="48"/>
                    </a:lnTo>
                    <a:lnTo>
                      <a:pt x="981" y="0"/>
                    </a:lnTo>
                    <a:lnTo>
                      <a:pt x="981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541760" y="4981320"/>
                <a:ext cx="187560" cy="560160"/>
              </a:xfrm>
              <a:custGeom>
                <a:avLst/>
                <a:gdLst/>
                <a:ahLst/>
                <a:rect l="l" t="t" r="r" b="b"/>
                <a:pathLst>
                  <a:path w="236" h="707">
                    <a:moveTo>
                      <a:pt x="139" y="19"/>
                    </a:moveTo>
                    <a:lnTo>
                      <a:pt x="129" y="207"/>
                    </a:lnTo>
                    <a:lnTo>
                      <a:pt x="110" y="304"/>
                    </a:lnTo>
                    <a:lnTo>
                      <a:pt x="72" y="396"/>
                    </a:lnTo>
                    <a:lnTo>
                      <a:pt x="29" y="496"/>
                    </a:lnTo>
                    <a:lnTo>
                      <a:pt x="0" y="572"/>
                    </a:lnTo>
                    <a:lnTo>
                      <a:pt x="6" y="669"/>
                    </a:lnTo>
                    <a:lnTo>
                      <a:pt x="44" y="707"/>
                    </a:lnTo>
                    <a:lnTo>
                      <a:pt x="57" y="603"/>
                    </a:lnTo>
                    <a:lnTo>
                      <a:pt x="97" y="515"/>
                    </a:lnTo>
                    <a:lnTo>
                      <a:pt x="120" y="449"/>
                    </a:lnTo>
                    <a:lnTo>
                      <a:pt x="148" y="337"/>
                    </a:lnTo>
                    <a:lnTo>
                      <a:pt x="173" y="236"/>
                    </a:lnTo>
                    <a:lnTo>
                      <a:pt x="164" y="173"/>
                    </a:lnTo>
                    <a:lnTo>
                      <a:pt x="207" y="141"/>
                    </a:lnTo>
                    <a:lnTo>
                      <a:pt x="236" y="88"/>
                    </a:lnTo>
                    <a:lnTo>
                      <a:pt x="236" y="35"/>
                    </a:lnTo>
                    <a:lnTo>
                      <a:pt x="179" y="0"/>
                    </a:lnTo>
                    <a:lnTo>
                      <a:pt x="139" y="19"/>
                    </a:lnTo>
                    <a:lnTo>
                      <a:pt x="139" y="1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481640" y="4970160"/>
                <a:ext cx="906480" cy="282240"/>
              </a:xfrm>
              <a:custGeom>
                <a:avLst/>
                <a:gdLst/>
                <a:ahLst/>
                <a:rect l="l" t="t" r="r" b="b"/>
                <a:pathLst>
                  <a:path w="1143" h="355">
                    <a:moveTo>
                      <a:pt x="1120" y="135"/>
                    </a:moveTo>
                    <a:lnTo>
                      <a:pt x="1019" y="163"/>
                    </a:lnTo>
                    <a:lnTo>
                      <a:pt x="840" y="211"/>
                    </a:lnTo>
                    <a:lnTo>
                      <a:pt x="724" y="230"/>
                    </a:lnTo>
                    <a:lnTo>
                      <a:pt x="548" y="239"/>
                    </a:lnTo>
                    <a:lnTo>
                      <a:pt x="428" y="220"/>
                    </a:lnTo>
                    <a:lnTo>
                      <a:pt x="234" y="186"/>
                    </a:lnTo>
                    <a:lnTo>
                      <a:pt x="158" y="167"/>
                    </a:lnTo>
                    <a:lnTo>
                      <a:pt x="101" y="144"/>
                    </a:lnTo>
                    <a:lnTo>
                      <a:pt x="101" y="116"/>
                    </a:lnTo>
                    <a:lnTo>
                      <a:pt x="196" y="53"/>
                    </a:lnTo>
                    <a:lnTo>
                      <a:pt x="240" y="13"/>
                    </a:lnTo>
                    <a:lnTo>
                      <a:pt x="202" y="0"/>
                    </a:lnTo>
                    <a:lnTo>
                      <a:pt x="120" y="29"/>
                    </a:lnTo>
                    <a:lnTo>
                      <a:pt x="70" y="57"/>
                    </a:lnTo>
                    <a:lnTo>
                      <a:pt x="38" y="82"/>
                    </a:lnTo>
                    <a:lnTo>
                      <a:pt x="0" y="135"/>
                    </a:lnTo>
                    <a:lnTo>
                      <a:pt x="13" y="186"/>
                    </a:lnTo>
                    <a:lnTo>
                      <a:pt x="67" y="211"/>
                    </a:lnTo>
                    <a:lnTo>
                      <a:pt x="205" y="279"/>
                    </a:lnTo>
                    <a:lnTo>
                      <a:pt x="359" y="327"/>
                    </a:lnTo>
                    <a:lnTo>
                      <a:pt x="498" y="346"/>
                    </a:lnTo>
                    <a:lnTo>
                      <a:pt x="664" y="355"/>
                    </a:lnTo>
                    <a:lnTo>
                      <a:pt x="831" y="340"/>
                    </a:lnTo>
                    <a:lnTo>
                      <a:pt x="1004" y="308"/>
                    </a:lnTo>
                    <a:lnTo>
                      <a:pt x="1101" y="279"/>
                    </a:lnTo>
                    <a:lnTo>
                      <a:pt x="1129" y="239"/>
                    </a:lnTo>
                    <a:lnTo>
                      <a:pt x="1143" y="177"/>
                    </a:lnTo>
                    <a:lnTo>
                      <a:pt x="1120" y="135"/>
                    </a:lnTo>
                    <a:lnTo>
                      <a:pt x="1120" y="135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68680" y="3987360"/>
                <a:ext cx="208080" cy="1047600"/>
              </a:xfrm>
              <a:custGeom>
                <a:avLst/>
                <a:gdLst/>
                <a:ahLst/>
                <a:rect l="l" t="t" r="r" b="b"/>
                <a:pathLst>
                  <a:path w="260" h="1319">
                    <a:moveTo>
                      <a:pt x="188" y="15"/>
                    </a:moveTo>
                    <a:lnTo>
                      <a:pt x="217" y="207"/>
                    </a:lnTo>
                    <a:lnTo>
                      <a:pt x="236" y="462"/>
                    </a:lnTo>
                    <a:lnTo>
                      <a:pt x="260" y="747"/>
                    </a:lnTo>
                    <a:lnTo>
                      <a:pt x="260" y="1030"/>
                    </a:lnTo>
                    <a:lnTo>
                      <a:pt x="255" y="1112"/>
                    </a:lnTo>
                    <a:lnTo>
                      <a:pt x="217" y="1269"/>
                    </a:lnTo>
                    <a:lnTo>
                      <a:pt x="144" y="1319"/>
                    </a:lnTo>
                    <a:lnTo>
                      <a:pt x="135" y="1150"/>
                    </a:lnTo>
                    <a:lnTo>
                      <a:pt x="120" y="923"/>
                    </a:lnTo>
                    <a:lnTo>
                      <a:pt x="97" y="707"/>
                    </a:lnTo>
                    <a:lnTo>
                      <a:pt x="57" y="534"/>
                    </a:lnTo>
                    <a:lnTo>
                      <a:pt x="9" y="289"/>
                    </a:lnTo>
                    <a:lnTo>
                      <a:pt x="0" y="150"/>
                    </a:lnTo>
                    <a:lnTo>
                      <a:pt x="28" y="100"/>
                    </a:lnTo>
                    <a:lnTo>
                      <a:pt x="97" y="275"/>
                    </a:lnTo>
                    <a:lnTo>
                      <a:pt x="144" y="515"/>
                    </a:lnTo>
                    <a:lnTo>
                      <a:pt x="177" y="684"/>
                    </a:lnTo>
                    <a:lnTo>
                      <a:pt x="198" y="615"/>
                    </a:lnTo>
                    <a:lnTo>
                      <a:pt x="169" y="327"/>
                    </a:lnTo>
                    <a:lnTo>
                      <a:pt x="144" y="121"/>
                    </a:lnTo>
                    <a:lnTo>
                      <a:pt x="135" y="24"/>
                    </a:lnTo>
                    <a:lnTo>
                      <a:pt x="158" y="0"/>
                    </a:lnTo>
                    <a:lnTo>
                      <a:pt x="188" y="15"/>
                    </a:lnTo>
                    <a:lnTo>
                      <a:pt x="188" y="15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587760" y="5125680"/>
                <a:ext cx="1019160" cy="512640"/>
              </a:xfrm>
              <a:custGeom>
                <a:avLst/>
                <a:gdLst/>
                <a:ahLst/>
                <a:rect l="l" t="t" r="r" b="b"/>
                <a:pathLst>
                  <a:path w="1283" h="646">
                    <a:moveTo>
                      <a:pt x="1207" y="0"/>
                    </a:moveTo>
                    <a:lnTo>
                      <a:pt x="1192" y="125"/>
                    </a:lnTo>
                    <a:lnTo>
                      <a:pt x="1154" y="197"/>
                    </a:lnTo>
                    <a:lnTo>
                      <a:pt x="1072" y="317"/>
                    </a:lnTo>
                    <a:lnTo>
                      <a:pt x="1019" y="395"/>
                    </a:lnTo>
                    <a:lnTo>
                      <a:pt x="984" y="483"/>
                    </a:lnTo>
                    <a:lnTo>
                      <a:pt x="975" y="543"/>
                    </a:lnTo>
                    <a:lnTo>
                      <a:pt x="927" y="534"/>
                    </a:lnTo>
                    <a:lnTo>
                      <a:pt x="827" y="439"/>
                    </a:lnTo>
                    <a:lnTo>
                      <a:pt x="711" y="357"/>
                    </a:lnTo>
                    <a:lnTo>
                      <a:pt x="562" y="294"/>
                    </a:lnTo>
                    <a:lnTo>
                      <a:pt x="418" y="247"/>
                    </a:lnTo>
                    <a:lnTo>
                      <a:pt x="270" y="197"/>
                    </a:lnTo>
                    <a:lnTo>
                      <a:pt x="154" y="150"/>
                    </a:lnTo>
                    <a:lnTo>
                      <a:pt x="97" y="93"/>
                    </a:lnTo>
                    <a:lnTo>
                      <a:pt x="57" y="49"/>
                    </a:lnTo>
                    <a:lnTo>
                      <a:pt x="15" y="62"/>
                    </a:lnTo>
                    <a:lnTo>
                      <a:pt x="0" y="106"/>
                    </a:lnTo>
                    <a:lnTo>
                      <a:pt x="28" y="159"/>
                    </a:lnTo>
                    <a:lnTo>
                      <a:pt x="125" y="237"/>
                    </a:lnTo>
                    <a:lnTo>
                      <a:pt x="279" y="313"/>
                    </a:lnTo>
                    <a:lnTo>
                      <a:pt x="500" y="389"/>
                    </a:lnTo>
                    <a:lnTo>
                      <a:pt x="616" y="448"/>
                    </a:lnTo>
                    <a:lnTo>
                      <a:pt x="711" y="502"/>
                    </a:lnTo>
                    <a:lnTo>
                      <a:pt x="798" y="564"/>
                    </a:lnTo>
                    <a:lnTo>
                      <a:pt x="884" y="636"/>
                    </a:lnTo>
                    <a:lnTo>
                      <a:pt x="962" y="646"/>
                    </a:lnTo>
                    <a:lnTo>
                      <a:pt x="1015" y="646"/>
                    </a:lnTo>
                    <a:lnTo>
                      <a:pt x="1047" y="612"/>
                    </a:lnTo>
                    <a:lnTo>
                      <a:pt x="1053" y="564"/>
                    </a:lnTo>
                    <a:lnTo>
                      <a:pt x="1106" y="439"/>
                    </a:lnTo>
                    <a:lnTo>
                      <a:pt x="1173" y="338"/>
                    </a:lnTo>
                    <a:lnTo>
                      <a:pt x="1249" y="207"/>
                    </a:lnTo>
                    <a:lnTo>
                      <a:pt x="1279" y="106"/>
                    </a:lnTo>
                    <a:lnTo>
                      <a:pt x="1283" y="15"/>
                    </a:lnTo>
                    <a:lnTo>
                      <a:pt x="1207" y="0"/>
                    </a:lnTo>
                    <a:lnTo>
                      <a:pt x="1207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495600" y="4798800"/>
                <a:ext cx="244440" cy="367920"/>
              </a:xfrm>
              <a:custGeom>
                <a:avLst/>
                <a:gdLst/>
                <a:ahLst/>
                <a:rect l="l" t="t" r="r" b="b"/>
                <a:pathLst>
                  <a:path w="308" h="466">
                    <a:moveTo>
                      <a:pt x="216" y="23"/>
                    </a:moveTo>
                    <a:lnTo>
                      <a:pt x="203" y="135"/>
                    </a:lnTo>
                    <a:lnTo>
                      <a:pt x="163" y="227"/>
                    </a:lnTo>
                    <a:lnTo>
                      <a:pt x="91" y="327"/>
                    </a:lnTo>
                    <a:lnTo>
                      <a:pt x="0" y="447"/>
                    </a:lnTo>
                    <a:lnTo>
                      <a:pt x="28" y="466"/>
                    </a:lnTo>
                    <a:lnTo>
                      <a:pt x="78" y="462"/>
                    </a:lnTo>
                    <a:lnTo>
                      <a:pt x="159" y="380"/>
                    </a:lnTo>
                    <a:lnTo>
                      <a:pt x="232" y="289"/>
                    </a:lnTo>
                    <a:lnTo>
                      <a:pt x="275" y="207"/>
                    </a:lnTo>
                    <a:lnTo>
                      <a:pt x="308" y="82"/>
                    </a:lnTo>
                    <a:lnTo>
                      <a:pt x="294" y="38"/>
                    </a:lnTo>
                    <a:lnTo>
                      <a:pt x="275" y="10"/>
                    </a:lnTo>
                    <a:lnTo>
                      <a:pt x="241" y="0"/>
                    </a:lnTo>
                    <a:lnTo>
                      <a:pt x="216" y="23"/>
                    </a:lnTo>
                    <a:lnTo>
                      <a:pt x="216" y="23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643200" y="4611240"/>
                <a:ext cx="243000" cy="182520"/>
              </a:xfrm>
              <a:custGeom>
                <a:avLst/>
                <a:gdLst/>
                <a:ahLst/>
                <a:rect l="l" t="t" r="r" b="b"/>
                <a:pathLst>
                  <a:path w="306" h="230">
                    <a:moveTo>
                      <a:pt x="171" y="57"/>
                    </a:moveTo>
                    <a:lnTo>
                      <a:pt x="192" y="38"/>
                    </a:lnTo>
                    <a:lnTo>
                      <a:pt x="240" y="38"/>
                    </a:lnTo>
                    <a:lnTo>
                      <a:pt x="287" y="85"/>
                    </a:lnTo>
                    <a:lnTo>
                      <a:pt x="306" y="148"/>
                    </a:lnTo>
                    <a:lnTo>
                      <a:pt x="274" y="182"/>
                    </a:lnTo>
                    <a:lnTo>
                      <a:pt x="211" y="211"/>
                    </a:lnTo>
                    <a:lnTo>
                      <a:pt x="124" y="230"/>
                    </a:lnTo>
                    <a:lnTo>
                      <a:pt x="48" y="192"/>
                    </a:lnTo>
                    <a:lnTo>
                      <a:pt x="4" y="135"/>
                    </a:lnTo>
                    <a:lnTo>
                      <a:pt x="0" y="81"/>
                    </a:lnTo>
                    <a:lnTo>
                      <a:pt x="29" y="28"/>
                    </a:lnTo>
                    <a:lnTo>
                      <a:pt x="76" y="0"/>
                    </a:lnTo>
                    <a:lnTo>
                      <a:pt x="129" y="19"/>
                    </a:lnTo>
                    <a:lnTo>
                      <a:pt x="139" y="57"/>
                    </a:lnTo>
                    <a:lnTo>
                      <a:pt x="101" y="91"/>
                    </a:lnTo>
                    <a:lnTo>
                      <a:pt x="80" y="116"/>
                    </a:lnTo>
                    <a:lnTo>
                      <a:pt x="114" y="157"/>
                    </a:lnTo>
                    <a:lnTo>
                      <a:pt x="158" y="182"/>
                    </a:lnTo>
                    <a:lnTo>
                      <a:pt x="181" y="154"/>
                    </a:lnTo>
                    <a:lnTo>
                      <a:pt x="202" y="116"/>
                    </a:lnTo>
                    <a:lnTo>
                      <a:pt x="186" y="85"/>
                    </a:lnTo>
                    <a:lnTo>
                      <a:pt x="171" y="57"/>
                    </a:lnTo>
                    <a:lnTo>
                      <a:pt x="171" y="57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352680" y="3686040"/>
                <a:ext cx="465120" cy="934560"/>
              </a:xfrm>
              <a:custGeom>
                <a:avLst/>
                <a:gdLst/>
                <a:ahLst/>
                <a:rect l="l" t="t" r="r" b="b"/>
                <a:pathLst>
                  <a:path w="586" h="1178">
                    <a:moveTo>
                      <a:pt x="0" y="0"/>
                    </a:moveTo>
                    <a:lnTo>
                      <a:pt x="13" y="77"/>
                    </a:lnTo>
                    <a:lnTo>
                      <a:pt x="67" y="173"/>
                    </a:lnTo>
                    <a:lnTo>
                      <a:pt x="99" y="254"/>
                    </a:lnTo>
                    <a:lnTo>
                      <a:pt x="148" y="395"/>
                    </a:lnTo>
                    <a:lnTo>
                      <a:pt x="202" y="501"/>
                    </a:lnTo>
                    <a:lnTo>
                      <a:pt x="268" y="577"/>
                    </a:lnTo>
                    <a:lnTo>
                      <a:pt x="331" y="678"/>
                    </a:lnTo>
                    <a:lnTo>
                      <a:pt x="407" y="838"/>
                    </a:lnTo>
                    <a:lnTo>
                      <a:pt x="445" y="942"/>
                    </a:lnTo>
                    <a:lnTo>
                      <a:pt x="470" y="1039"/>
                    </a:lnTo>
                    <a:lnTo>
                      <a:pt x="489" y="1149"/>
                    </a:lnTo>
                    <a:lnTo>
                      <a:pt x="527" y="1178"/>
                    </a:lnTo>
                    <a:lnTo>
                      <a:pt x="557" y="1159"/>
                    </a:lnTo>
                    <a:lnTo>
                      <a:pt x="580" y="1115"/>
                    </a:lnTo>
                    <a:lnTo>
                      <a:pt x="586" y="1005"/>
                    </a:lnTo>
                    <a:lnTo>
                      <a:pt x="551" y="895"/>
                    </a:lnTo>
                    <a:lnTo>
                      <a:pt x="494" y="760"/>
                    </a:lnTo>
                    <a:lnTo>
                      <a:pt x="416" y="625"/>
                    </a:lnTo>
                    <a:lnTo>
                      <a:pt x="331" y="520"/>
                    </a:lnTo>
                    <a:lnTo>
                      <a:pt x="259" y="423"/>
                    </a:lnTo>
                    <a:lnTo>
                      <a:pt x="221" y="313"/>
                    </a:lnTo>
                    <a:lnTo>
                      <a:pt x="162" y="163"/>
                    </a:lnTo>
                    <a:lnTo>
                      <a:pt x="86" y="53"/>
                    </a:lnTo>
                    <a:lnTo>
                      <a:pt x="4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65360" y="3706560"/>
                <a:ext cx="1084320" cy="367920"/>
              </a:xfrm>
              <a:custGeom>
                <a:avLst/>
                <a:gdLst/>
                <a:ahLst/>
                <a:rect l="l" t="t" r="r" b="b"/>
                <a:pathLst>
                  <a:path w="1365" h="466">
                    <a:moveTo>
                      <a:pt x="5" y="19"/>
                    </a:moveTo>
                    <a:lnTo>
                      <a:pt x="81" y="0"/>
                    </a:lnTo>
                    <a:lnTo>
                      <a:pt x="226" y="19"/>
                    </a:lnTo>
                    <a:lnTo>
                      <a:pt x="389" y="57"/>
                    </a:lnTo>
                    <a:lnTo>
                      <a:pt x="591" y="139"/>
                    </a:lnTo>
                    <a:lnTo>
                      <a:pt x="811" y="226"/>
                    </a:lnTo>
                    <a:lnTo>
                      <a:pt x="984" y="304"/>
                    </a:lnTo>
                    <a:lnTo>
                      <a:pt x="1144" y="352"/>
                    </a:lnTo>
                    <a:lnTo>
                      <a:pt x="1365" y="405"/>
                    </a:lnTo>
                    <a:lnTo>
                      <a:pt x="1327" y="424"/>
                    </a:lnTo>
                    <a:lnTo>
                      <a:pt x="1249" y="456"/>
                    </a:lnTo>
                    <a:lnTo>
                      <a:pt x="1192" y="466"/>
                    </a:lnTo>
                    <a:lnTo>
                      <a:pt x="1053" y="447"/>
                    </a:lnTo>
                    <a:lnTo>
                      <a:pt x="846" y="380"/>
                    </a:lnTo>
                    <a:lnTo>
                      <a:pt x="629" y="283"/>
                    </a:lnTo>
                    <a:lnTo>
                      <a:pt x="443" y="217"/>
                    </a:lnTo>
                    <a:lnTo>
                      <a:pt x="302" y="145"/>
                    </a:lnTo>
                    <a:lnTo>
                      <a:pt x="144" y="82"/>
                    </a:lnTo>
                    <a:lnTo>
                      <a:pt x="49" y="63"/>
                    </a:lnTo>
                    <a:lnTo>
                      <a:pt x="0" y="53"/>
                    </a:lnTo>
                    <a:lnTo>
                      <a:pt x="5" y="19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495600" y="3598560"/>
                <a:ext cx="1108080" cy="393480"/>
              </a:xfrm>
              <a:custGeom>
                <a:avLst/>
                <a:gdLst/>
                <a:ahLst/>
                <a:rect l="l" t="t" r="r" b="b"/>
                <a:pathLst>
                  <a:path w="1395" h="496">
                    <a:moveTo>
                      <a:pt x="5" y="48"/>
                    </a:moveTo>
                    <a:lnTo>
                      <a:pt x="207" y="73"/>
                    </a:lnTo>
                    <a:lnTo>
                      <a:pt x="386" y="130"/>
                    </a:lnTo>
                    <a:lnTo>
                      <a:pt x="568" y="198"/>
                    </a:lnTo>
                    <a:lnTo>
                      <a:pt x="751" y="295"/>
                    </a:lnTo>
                    <a:lnTo>
                      <a:pt x="886" y="361"/>
                    </a:lnTo>
                    <a:lnTo>
                      <a:pt x="1038" y="428"/>
                    </a:lnTo>
                    <a:lnTo>
                      <a:pt x="1159" y="458"/>
                    </a:lnTo>
                    <a:lnTo>
                      <a:pt x="1289" y="496"/>
                    </a:lnTo>
                    <a:lnTo>
                      <a:pt x="1346" y="491"/>
                    </a:lnTo>
                    <a:lnTo>
                      <a:pt x="1384" y="434"/>
                    </a:lnTo>
                    <a:lnTo>
                      <a:pt x="1395" y="371"/>
                    </a:lnTo>
                    <a:lnTo>
                      <a:pt x="1332" y="361"/>
                    </a:lnTo>
                    <a:lnTo>
                      <a:pt x="1260" y="371"/>
                    </a:lnTo>
                    <a:lnTo>
                      <a:pt x="1131" y="346"/>
                    </a:lnTo>
                    <a:lnTo>
                      <a:pt x="924" y="274"/>
                    </a:lnTo>
                    <a:lnTo>
                      <a:pt x="578" y="150"/>
                    </a:lnTo>
                    <a:lnTo>
                      <a:pt x="399" y="82"/>
                    </a:lnTo>
                    <a:lnTo>
                      <a:pt x="173" y="29"/>
                    </a:lnTo>
                    <a:lnTo>
                      <a:pt x="0" y="0"/>
                    </a:lnTo>
                    <a:lnTo>
                      <a:pt x="5" y="48"/>
                    </a:lnTo>
                    <a:lnTo>
                      <a:pt x="5" y="4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5992920" y="3200400"/>
              <a:ext cx="181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irCut"/>
                </a:rPr>
                <a:t>2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irCut"/>
                </a:rPr>
                <a:t> 100 = 2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89680" y="3718080"/>
              <a:ext cx="194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irCut"/>
                </a:rPr>
                <a:t>2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2000" spc="-1" strike="noStrike">
                  <a:solidFill>
                    <a:srgbClr val="000000"/>
                  </a:solidFill>
                  <a:latin typeface="AirCut"/>
                </a:rPr>
                <a:t> 100 = 0.02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914400" y="1600200"/>
            <a:ext cx="69580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ercents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as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cimals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57200" y="1981080"/>
            <a:ext cx="3946680" cy="3419640"/>
            <a:chOff x="457200" y="1981080"/>
            <a:chExt cx="3946680" cy="3419640"/>
          </a:xfrm>
        </p:grpSpPr>
        <p:sp>
          <p:nvSpPr>
            <p:cNvPr id="596" name=""/>
            <p:cNvSpPr/>
            <p:nvPr/>
          </p:nvSpPr>
          <p:spPr>
            <a:xfrm>
              <a:off x="3290760" y="3848040"/>
              <a:ext cx="1113120" cy="1549440"/>
            </a:xfrm>
            <a:custGeom>
              <a:avLst/>
              <a:gdLst/>
              <a:ahLst/>
              <a:rect l="l" t="t" r="r" b="b"/>
              <a:pathLst>
                <a:path w="1401" h="1952">
                  <a:moveTo>
                    <a:pt x="0" y="1789"/>
                  </a:moveTo>
                  <a:lnTo>
                    <a:pt x="0" y="1952"/>
                  </a:lnTo>
                  <a:lnTo>
                    <a:pt x="121" y="1943"/>
                  </a:lnTo>
                  <a:lnTo>
                    <a:pt x="329" y="1880"/>
                  </a:lnTo>
                  <a:lnTo>
                    <a:pt x="422" y="1834"/>
                  </a:lnTo>
                  <a:lnTo>
                    <a:pt x="466" y="1808"/>
                  </a:lnTo>
                  <a:lnTo>
                    <a:pt x="509" y="1777"/>
                  </a:lnTo>
                  <a:lnTo>
                    <a:pt x="551" y="1747"/>
                  </a:lnTo>
                  <a:lnTo>
                    <a:pt x="589" y="1713"/>
                  </a:lnTo>
                  <a:lnTo>
                    <a:pt x="627" y="1675"/>
                  </a:lnTo>
                  <a:lnTo>
                    <a:pt x="663" y="1637"/>
                  </a:lnTo>
                  <a:lnTo>
                    <a:pt x="697" y="1597"/>
                  </a:lnTo>
                  <a:lnTo>
                    <a:pt x="730" y="1553"/>
                  </a:lnTo>
                  <a:lnTo>
                    <a:pt x="760" y="1507"/>
                  </a:lnTo>
                  <a:lnTo>
                    <a:pt x="787" y="1462"/>
                  </a:lnTo>
                  <a:lnTo>
                    <a:pt x="813" y="1409"/>
                  </a:lnTo>
                  <a:lnTo>
                    <a:pt x="836" y="1355"/>
                  </a:lnTo>
                  <a:lnTo>
                    <a:pt x="871" y="1251"/>
                  </a:lnTo>
                  <a:lnTo>
                    <a:pt x="907" y="1028"/>
                  </a:lnTo>
                  <a:lnTo>
                    <a:pt x="1009" y="983"/>
                  </a:lnTo>
                  <a:lnTo>
                    <a:pt x="1101" y="945"/>
                  </a:lnTo>
                  <a:lnTo>
                    <a:pt x="1171" y="920"/>
                  </a:lnTo>
                  <a:lnTo>
                    <a:pt x="1241" y="895"/>
                  </a:lnTo>
                  <a:lnTo>
                    <a:pt x="1384" y="854"/>
                  </a:lnTo>
                  <a:lnTo>
                    <a:pt x="1401" y="624"/>
                  </a:lnTo>
                  <a:lnTo>
                    <a:pt x="1274" y="658"/>
                  </a:lnTo>
                  <a:lnTo>
                    <a:pt x="1146" y="698"/>
                  </a:lnTo>
                  <a:lnTo>
                    <a:pt x="1021" y="741"/>
                  </a:lnTo>
                  <a:lnTo>
                    <a:pt x="895" y="783"/>
                  </a:lnTo>
                  <a:lnTo>
                    <a:pt x="882" y="724"/>
                  </a:lnTo>
                  <a:lnTo>
                    <a:pt x="865" y="656"/>
                  </a:lnTo>
                  <a:lnTo>
                    <a:pt x="840" y="589"/>
                  </a:lnTo>
                  <a:lnTo>
                    <a:pt x="812" y="525"/>
                  </a:lnTo>
                  <a:lnTo>
                    <a:pt x="777" y="462"/>
                  </a:lnTo>
                  <a:lnTo>
                    <a:pt x="758" y="432"/>
                  </a:lnTo>
                  <a:lnTo>
                    <a:pt x="739" y="401"/>
                  </a:lnTo>
                  <a:lnTo>
                    <a:pt x="718" y="373"/>
                  </a:lnTo>
                  <a:lnTo>
                    <a:pt x="696" y="346"/>
                  </a:lnTo>
                  <a:lnTo>
                    <a:pt x="673" y="317"/>
                  </a:lnTo>
                  <a:lnTo>
                    <a:pt x="650" y="293"/>
                  </a:lnTo>
                  <a:lnTo>
                    <a:pt x="625" y="266"/>
                  </a:lnTo>
                  <a:lnTo>
                    <a:pt x="599" y="241"/>
                  </a:lnTo>
                  <a:lnTo>
                    <a:pt x="568" y="215"/>
                  </a:lnTo>
                  <a:lnTo>
                    <a:pt x="536" y="188"/>
                  </a:lnTo>
                  <a:lnTo>
                    <a:pt x="502" y="164"/>
                  </a:lnTo>
                  <a:lnTo>
                    <a:pt x="467" y="141"/>
                  </a:lnTo>
                  <a:lnTo>
                    <a:pt x="395" y="101"/>
                  </a:lnTo>
                  <a:lnTo>
                    <a:pt x="321" y="67"/>
                  </a:lnTo>
                  <a:lnTo>
                    <a:pt x="243" y="40"/>
                  </a:lnTo>
                  <a:lnTo>
                    <a:pt x="163" y="21"/>
                  </a:lnTo>
                  <a:lnTo>
                    <a:pt x="0" y="0"/>
                  </a:lnTo>
                  <a:lnTo>
                    <a:pt x="0" y="167"/>
                  </a:lnTo>
                  <a:lnTo>
                    <a:pt x="114" y="230"/>
                  </a:lnTo>
                  <a:lnTo>
                    <a:pt x="156" y="281"/>
                  </a:lnTo>
                  <a:lnTo>
                    <a:pt x="188" y="342"/>
                  </a:lnTo>
                  <a:lnTo>
                    <a:pt x="235" y="500"/>
                  </a:lnTo>
                  <a:lnTo>
                    <a:pt x="262" y="669"/>
                  </a:lnTo>
                  <a:lnTo>
                    <a:pt x="272" y="1006"/>
                  </a:lnTo>
                  <a:lnTo>
                    <a:pt x="205" y="1032"/>
                  </a:lnTo>
                  <a:lnTo>
                    <a:pt x="137" y="1057"/>
                  </a:lnTo>
                  <a:lnTo>
                    <a:pt x="68" y="1082"/>
                  </a:lnTo>
                  <a:lnTo>
                    <a:pt x="0" y="1106"/>
                  </a:lnTo>
                  <a:lnTo>
                    <a:pt x="0" y="1553"/>
                  </a:lnTo>
                  <a:lnTo>
                    <a:pt x="45" y="1524"/>
                  </a:lnTo>
                  <a:lnTo>
                    <a:pt x="89" y="1498"/>
                  </a:lnTo>
                  <a:lnTo>
                    <a:pt x="133" y="1469"/>
                  </a:lnTo>
                  <a:lnTo>
                    <a:pt x="177" y="1441"/>
                  </a:lnTo>
                  <a:lnTo>
                    <a:pt x="247" y="1399"/>
                  </a:lnTo>
                  <a:lnTo>
                    <a:pt x="218" y="1519"/>
                  </a:lnTo>
                  <a:lnTo>
                    <a:pt x="199" y="1580"/>
                  </a:lnTo>
                  <a:lnTo>
                    <a:pt x="175" y="1637"/>
                  </a:lnTo>
                  <a:lnTo>
                    <a:pt x="159" y="1663"/>
                  </a:lnTo>
                  <a:lnTo>
                    <a:pt x="144" y="1688"/>
                  </a:lnTo>
                  <a:lnTo>
                    <a:pt x="125" y="1713"/>
                  </a:lnTo>
                  <a:lnTo>
                    <a:pt x="106" y="1734"/>
                  </a:lnTo>
                  <a:lnTo>
                    <a:pt x="59" y="1768"/>
                  </a:lnTo>
                  <a:lnTo>
                    <a:pt x="0" y="1789"/>
                  </a:lnTo>
                  <a:lnTo>
                    <a:pt x="0" y="1789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27080" y="2100240"/>
              <a:ext cx="2678040" cy="3300480"/>
            </a:xfrm>
            <a:custGeom>
              <a:avLst/>
              <a:gdLst/>
              <a:ahLst/>
              <a:rect l="l" t="t" r="r" b="b"/>
              <a:pathLst>
                <a:path w="3373" h="4157">
                  <a:moveTo>
                    <a:pt x="2852" y="2617"/>
                  </a:moveTo>
                  <a:lnTo>
                    <a:pt x="2882" y="2671"/>
                  </a:lnTo>
                  <a:lnTo>
                    <a:pt x="2895" y="2728"/>
                  </a:lnTo>
                  <a:lnTo>
                    <a:pt x="2890" y="2855"/>
                  </a:lnTo>
                  <a:lnTo>
                    <a:pt x="2873" y="2914"/>
                  </a:lnTo>
                  <a:lnTo>
                    <a:pt x="2852" y="2971"/>
                  </a:lnTo>
                  <a:lnTo>
                    <a:pt x="2825" y="3041"/>
                  </a:lnTo>
                  <a:lnTo>
                    <a:pt x="2793" y="3108"/>
                  </a:lnTo>
                  <a:lnTo>
                    <a:pt x="2776" y="3140"/>
                  </a:lnTo>
                  <a:lnTo>
                    <a:pt x="2755" y="3170"/>
                  </a:lnTo>
                  <a:lnTo>
                    <a:pt x="2736" y="3201"/>
                  </a:lnTo>
                  <a:lnTo>
                    <a:pt x="2713" y="3229"/>
                  </a:lnTo>
                  <a:lnTo>
                    <a:pt x="2690" y="3254"/>
                  </a:lnTo>
                  <a:lnTo>
                    <a:pt x="2665" y="3279"/>
                  </a:lnTo>
                  <a:lnTo>
                    <a:pt x="2643" y="3304"/>
                  </a:lnTo>
                  <a:lnTo>
                    <a:pt x="2618" y="3328"/>
                  </a:lnTo>
                  <a:lnTo>
                    <a:pt x="2595" y="3353"/>
                  </a:lnTo>
                  <a:lnTo>
                    <a:pt x="2570" y="3378"/>
                  </a:lnTo>
                  <a:lnTo>
                    <a:pt x="2547" y="3402"/>
                  </a:lnTo>
                  <a:lnTo>
                    <a:pt x="2523" y="3427"/>
                  </a:lnTo>
                  <a:lnTo>
                    <a:pt x="2605" y="3399"/>
                  </a:lnTo>
                  <a:lnTo>
                    <a:pt x="2686" y="3368"/>
                  </a:lnTo>
                  <a:lnTo>
                    <a:pt x="2770" y="3338"/>
                  </a:lnTo>
                  <a:lnTo>
                    <a:pt x="2852" y="3307"/>
                  </a:lnTo>
                  <a:lnTo>
                    <a:pt x="3373" y="3300"/>
                  </a:lnTo>
                  <a:lnTo>
                    <a:pt x="2852" y="3754"/>
                  </a:lnTo>
                  <a:lnTo>
                    <a:pt x="2791" y="3792"/>
                  </a:lnTo>
                  <a:lnTo>
                    <a:pt x="2728" y="3828"/>
                  </a:lnTo>
                  <a:lnTo>
                    <a:pt x="2665" y="3864"/>
                  </a:lnTo>
                  <a:lnTo>
                    <a:pt x="2605" y="3898"/>
                  </a:lnTo>
                  <a:lnTo>
                    <a:pt x="2654" y="3942"/>
                  </a:lnTo>
                  <a:lnTo>
                    <a:pt x="2703" y="3973"/>
                  </a:lnTo>
                  <a:lnTo>
                    <a:pt x="2759" y="3990"/>
                  </a:lnTo>
                  <a:lnTo>
                    <a:pt x="2825" y="3994"/>
                  </a:lnTo>
                  <a:lnTo>
                    <a:pt x="2852" y="3990"/>
                  </a:lnTo>
                  <a:lnTo>
                    <a:pt x="3308" y="3948"/>
                  </a:lnTo>
                  <a:lnTo>
                    <a:pt x="2852" y="4153"/>
                  </a:lnTo>
                  <a:lnTo>
                    <a:pt x="2601" y="4138"/>
                  </a:lnTo>
                  <a:lnTo>
                    <a:pt x="2365" y="4056"/>
                  </a:lnTo>
                  <a:lnTo>
                    <a:pt x="2331" y="4039"/>
                  </a:lnTo>
                  <a:lnTo>
                    <a:pt x="2228" y="4079"/>
                  </a:lnTo>
                  <a:lnTo>
                    <a:pt x="2125" y="4111"/>
                  </a:lnTo>
                  <a:lnTo>
                    <a:pt x="2019" y="4130"/>
                  </a:lnTo>
                  <a:lnTo>
                    <a:pt x="1911" y="4130"/>
                  </a:lnTo>
                  <a:lnTo>
                    <a:pt x="1848" y="4104"/>
                  </a:lnTo>
                  <a:lnTo>
                    <a:pt x="1787" y="4073"/>
                  </a:lnTo>
                  <a:lnTo>
                    <a:pt x="1728" y="4037"/>
                  </a:lnTo>
                  <a:lnTo>
                    <a:pt x="1675" y="3995"/>
                  </a:lnTo>
                  <a:lnTo>
                    <a:pt x="1631" y="3948"/>
                  </a:lnTo>
                  <a:lnTo>
                    <a:pt x="1601" y="3893"/>
                  </a:lnTo>
                  <a:lnTo>
                    <a:pt x="1584" y="3828"/>
                  </a:lnTo>
                  <a:lnTo>
                    <a:pt x="1585" y="3756"/>
                  </a:lnTo>
                  <a:lnTo>
                    <a:pt x="1603" y="3697"/>
                  </a:lnTo>
                  <a:lnTo>
                    <a:pt x="1627" y="3642"/>
                  </a:lnTo>
                  <a:lnTo>
                    <a:pt x="1658" y="3589"/>
                  </a:lnTo>
                  <a:lnTo>
                    <a:pt x="1675" y="3562"/>
                  </a:lnTo>
                  <a:lnTo>
                    <a:pt x="1692" y="3537"/>
                  </a:lnTo>
                  <a:lnTo>
                    <a:pt x="1711" y="3513"/>
                  </a:lnTo>
                  <a:lnTo>
                    <a:pt x="1730" y="3488"/>
                  </a:lnTo>
                  <a:lnTo>
                    <a:pt x="1751" y="3463"/>
                  </a:lnTo>
                  <a:lnTo>
                    <a:pt x="1772" y="3440"/>
                  </a:lnTo>
                  <a:lnTo>
                    <a:pt x="1814" y="3395"/>
                  </a:lnTo>
                  <a:lnTo>
                    <a:pt x="1853" y="3353"/>
                  </a:lnTo>
                  <a:lnTo>
                    <a:pt x="1842" y="3131"/>
                  </a:lnTo>
                  <a:lnTo>
                    <a:pt x="1848" y="3055"/>
                  </a:lnTo>
                  <a:lnTo>
                    <a:pt x="1768" y="3079"/>
                  </a:lnTo>
                  <a:lnTo>
                    <a:pt x="1688" y="3106"/>
                  </a:lnTo>
                  <a:lnTo>
                    <a:pt x="1608" y="3131"/>
                  </a:lnTo>
                  <a:lnTo>
                    <a:pt x="1528" y="3157"/>
                  </a:lnTo>
                  <a:lnTo>
                    <a:pt x="1449" y="3182"/>
                  </a:lnTo>
                  <a:lnTo>
                    <a:pt x="1369" y="3207"/>
                  </a:lnTo>
                  <a:lnTo>
                    <a:pt x="1207" y="3252"/>
                  </a:lnTo>
                  <a:lnTo>
                    <a:pt x="1080" y="3286"/>
                  </a:lnTo>
                  <a:lnTo>
                    <a:pt x="614" y="4007"/>
                  </a:lnTo>
                  <a:lnTo>
                    <a:pt x="517" y="4157"/>
                  </a:lnTo>
                  <a:lnTo>
                    <a:pt x="91" y="4157"/>
                  </a:lnTo>
                  <a:lnTo>
                    <a:pt x="591" y="3385"/>
                  </a:lnTo>
                  <a:lnTo>
                    <a:pt x="424" y="3397"/>
                  </a:lnTo>
                  <a:lnTo>
                    <a:pt x="256" y="3383"/>
                  </a:lnTo>
                  <a:lnTo>
                    <a:pt x="108" y="3321"/>
                  </a:lnTo>
                  <a:lnTo>
                    <a:pt x="47" y="3265"/>
                  </a:lnTo>
                  <a:lnTo>
                    <a:pt x="23" y="3229"/>
                  </a:lnTo>
                  <a:lnTo>
                    <a:pt x="0" y="3188"/>
                  </a:lnTo>
                  <a:lnTo>
                    <a:pt x="0" y="3066"/>
                  </a:lnTo>
                  <a:lnTo>
                    <a:pt x="17" y="3011"/>
                  </a:lnTo>
                  <a:lnTo>
                    <a:pt x="43" y="2958"/>
                  </a:lnTo>
                  <a:lnTo>
                    <a:pt x="59" y="2933"/>
                  </a:lnTo>
                  <a:lnTo>
                    <a:pt x="76" y="2908"/>
                  </a:lnTo>
                  <a:lnTo>
                    <a:pt x="95" y="2883"/>
                  </a:lnTo>
                  <a:lnTo>
                    <a:pt x="114" y="2859"/>
                  </a:lnTo>
                  <a:lnTo>
                    <a:pt x="156" y="2813"/>
                  </a:lnTo>
                  <a:lnTo>
                    <a:pt x="196" y="2769"/>
                  </a:lnTo>
                  <a:lnTo>
                    <a:pt x="245" y="2726"/>
                  </a:lnTo>
                  <a:lnTo>
                    <a:pt x="294" y="2682"/>
                  </a:lnTo>
                  <a:lnTo>
                    <a:pt x="346" y="2640"/>
                  </a:lnTo>
                  <a:lnTo>
                    <a:pt x="397" y="2598"/>
                  </a:lnTo>
                  <a:lnTo>
                    <a:pt x="450" y="2558"/>
                  </a:lnTo>
                  <a:lnTo>
                    <a:pt x="504" y="2518"/>
                  </a:lnTo>
                  <a:lnTo>
                    <a:pt x="559" y="2480"/>
                  </a:lnTo>
                  <a:lnTo>
                    <a:pt x="614" y="2442"/>
                  </a:lnTo>
                  <a:lnTo>
                    <a:pt x="661" y="2412"/>
                  </a:lnTo>
                  <a:lnTo>
                    <a:pt x="709" y="2380"/>
                  </a:lnTo>
                  <a:lnTo>
                    <a:pt x="758" y="2349"/>
                  </a:lnTo>
                  <a:lnTo>
                    <a:pt x="806" y="2319"/>
                  </a:lnTo>
                  <a:lnTo>
                    <a:pt x="855" y="2290"/>
                  </a:lnTo>
                  <a:lnTo>
                    <a:pt x="905" y="2260"/>
                  </a:lnTo>
                  <a:lnTo>
                    <a:pt x="954" y="2231"/>
                  </a:lnTo>
                  <a:lnTo>
                    <a:pt x="1004" y="2201"/>
                  </a:lnTo>
                  <a:lnTo>
                    <a:pt x="1053" y="2173"/>
                  </a:lnTo>
                  <a:lnTo>
                    <a:pt x="1102" y="2144"/>
                  </a:lnTo>
                  <a:lnTo>
                    <a:pt x="1152" y="2115"/>
                  </a:lnTo>
                  <a:lnTo>
                    <a:pt x="1201" y="2087"/>
                  </a:lnTo>
                  <a:lnTo>
                    <a:pt x="1251" y="2058"/>
                  </a:lnTo>
                  <a:lnTo>
                    <a:pt x="1300" y="2030"/>
                  </a:lnTo>
                  <a:lnTo>
                    <a:pt x="1350" y="2001"/>
                  </a:lnTo>
                  <a:lnTo>
                    <a:pt x="1397" y="1973"/>
                  </a:lnTo>
                  <a:lnTo>
                    <a:pt x="1201" y="2007"/>
                  </a:lnTo>
                  <a:lnTo>
                    <a:pt x="1006" y="2043"/>
                  </a:lnTo>
                  <a:lnTo>
                    <a:pt x="810" y="2077"/>
                  </a:lnTo>
                  <a:lnTo>
                    <a:pt x="614" y="2112"/>
                  </a:lnTo>
                  <a:lnTo>
                    <a:pt x="614" y="1555"/>
                  </a:lnTo>
                  <a:lnTo>
                    <a:pt x="774" y="1519"/>
                  </a:lnTo>
                  <a:lnTo>
                    <a:pt x="813" y="1260"/>
                  </a:lnTo>
                  <a:lnTo>
                    <a:pt x="827" y="998"/>
                  </a:lnTo>
                  <a:lnTo>
                    <a:pt x="796" y="1034"/>
                  </a:lnTo>
                  <a:lnTo>
                    <a:pt x="764" y="1070"/>
                  </a:lnTo>
                  <a:lnTo>
                    <a:pt x="734" y="1104"/>
                  </a:lnTo>
                  <a:lnTo>
                    <a:pt x="701" y="1140"/>
                  </a:lnTo>
                  <a:lnTo>
                    <a:pt x="678" y="1167"/>
                  </a:lnTo>
                  <a:lnTo>
                    <a:pt x="656" y="1194"/>
                  </a:lnTo>
                  <a:lnTo>
                    <a:pt x="635" y="1222"/>
                  </a:lnTo>
                  <a:lnTo>
                    <a:pt x="614" y="1251"/>
                  </a:lnTo>
                  <a:lnTo>
                    <a:pt x="614" y="777"/>
                  </a:lnTo>
                  <a:lnTo>
                    <a:pt x="661" y="743"/>
                  </a:lnTo>
                  <a:lnTo>
                    <a:pt x="711" y="709"/>
                  </a:lnTo>
                  <a:lnTo>
                    <a:pt x="760" y="673"/>
                  </a:lnTo>
                  <a:lnTo>
                    <a:pt x="810" y="640"/>
                  </a:lnTo>
                  <a:lnTo>
                    <a:pt x="793" y="519"/>
                  </a:lnTo>
                  <a:lnTo>
                    <a:pt x="777" y="454"/>
                  </a:lnTo>
                  <a:lnTo>
                    <a:pt x="758" y="391"/>
                  </a:lnTo>
                  <a:lnTo>
                    <a:pt x="734" y="331"/>
                  </a:lnTo>
                  <a:lnTo>
                    <a:pt x="717" y="302"/>
                  </a:lnTo>
                  <a:lnTo>
                    <a:pt x="701" y="275"/>
                  </a:lnTo>
                  <a:lnTo>
                    <a:pt x="682" y="253"/>
                  </a:lnTo>
                  <a:lnTo>
                    <a:pt x="661" y="230"/>
                  </a:lnTo>
                  <a:lnTo>
                    <a:pt x="614" y="194"/>
                  </a:lnTo>
                  <a:lnTo>
                    <a:pt x="614" y="7"/>
                  </a:lnTo>
                  <a:lnTo>
                    <a:pt x="880" y="70"/>
                  </a:lnTo>
                  <a:lnTo>
                    <a:pt x="986" y="123"/>
                  </a:lnTo>
                  <a:lnTo>
                    <a:pt x="1038" y="154"/>
                  </a:lnTo>
                  <a:lnTo>
                    <a:pt x="1085" y="188"/>
                  </a:lnTo>
                  <a:lnTo>
                    <a:pt x="1131" y="224"/>
                  </a:lnTo>
                  <a:lnTo>
                    <a:pt x="1173" y="264"/>
                  </a:lnTo>
                  <a:lnTo>
                    <a:pt x="1215" y="306"/>
                  </a:lnTo>
                  <a:lnTo>
                    <a:pt x="1255" y="350"/>
                  </a:lnTo>
                  <a:lnTo>
                    <a:pt x="1319" y="312"/>
                  </a:lnTo>
                  <a:lnTo>
                    <a:pt x="1384" y="274"/>
                  </a:lnTo>
                  <a:lnTo>
                    <a:pt x="1450" y="236"/>
                  </a:lnTo>
                  <a:lnTo>
                    <a:pt x="1517" y="199"/>
                  </a:lnTo>
                  <a:lnTo>
                    <a:pt x="1585" y="165"/>
                  </a:lnTo>
                  <a:lnTo>
                    <a:pt x="1654" y="131"/>
                  </a:lnTo>
                  <a:lnTo>
                    <a:pt x="1722" y="101"/>
                  </a:lnTo>
                  <a:lnTo>
                    <a:pt x="1793" y="74"/>
                  </a:lnTo>
                  <a:lnTo>
                    <a:pt x="1796" y="74"/>
                  </a:lnTo>
                  <a:lnTo>
                    <a:pt x="1844" y="268"/>
                  </a:lnTo>
                  <a:lnTo>
                    <a:pt x="1719" y="323"/>
                  </a:lnTo>
                  <a:lnTo>
                    <a:pt x="1660" y="353"/>
                  </a:lnTo>
                  <a:lnTo>
                    <a:pt x="1599" y="388"/>
                  </a:lnTo>
                  <a:lnTo>
                    <a:pt x="1542" y="422"/>
                  </a:lnTo>
                  <a:lnTo>
                    <a:pt x="1483" y="458"/>
                  </a:lnTo>
                  <a:lnTo>
                    <a:pt x="1426" y="494"/>
                  </a:lnTo>
                  <a:lnTo>
                    <a:pt x="1369" y="532"/>
                  </a:lnTo>
                  <a:lnTo>
                    <a:pt x="1391" y="589"/>
                  </a:lnTo>
                  <a:lnTo>
                    <a:pt x="1412" y="646"/>
                  </a:lnTo>
                  <a:lnTo>
                    <a:pt x="1460" y="922"/>
                  </a:lnTo>
                  <a:lnTo>
                    <a:pt x="1458" y="1062"/>
                  </a:lnTo>
                  <a:lnTo>
                    <a:pt x="1439" y="1199"/>
                  </a:lnTo>
                  <a:lnTo>
                    <a:pt x="1428" y="1249"/>
                  </a:lnTo>
                  <a:lnTo>
                    <a:pt x="1412" y="1300"/>
                  </a:lnTo>
                  <a:lnTo>
                    <a:pt x="1378" y="1397"/>
                  </a:lnTo>
                  <a:lnTo>
                    <a:pt x="1519" y="1370"/>
                  </a:lnTo>
                  <a:lnTo>
                    <a:pt x="1660" y="1348"/>
                  </a:lnTo>
                  <a:lnTo>
                    <a:pt x="1941" y="1300"/>
                  </a:lnTo>
                  <a:lnTo>
                    <a:pt x="2783" y="0"/>
                  </a:lnTo>
                  <a:lnTo>
                    <a:pt x="2852" y="0"/>
                  </a:lnTo>
                  <a:lnTo>
                    <a:pt x="3209" y="0"/>
                  </a:lnTo>
                  <a:lnTo>
                    <a:pt x="2852" y="549"/>
                  </a:lnTo>
                  <a:lnTo>
                    <a:pt x="2401" y="1247"/>
                  </a:lnTo>
                  <a:lnTo>
                    <a:pt x="2793" y="1235"/>
                  </a:lnTo>
                  <a:lnTo>
                    <a:pt x="2852" y="1239"/>
                  </a:lnTo>
                  <a:lnTo>
                    <a:pt x="3040" y="1275"/>
                  </a:lnTo>
                  <a:lnTo>
                    <a:pt x="3110" y="1321"/>
                  </a:lnTo>
                  <a:lnTo>
                    <a:pt x="3127" y="1355"/>
                  </a:lnTo>
                  <a:lnTo>
                    <a:pt x="3129" y="1397"/>
                  </a:lnTo>
                  <a:lnTo>
                    <a:pt x="3116" y="1435"/>
                  </a:lnTo>
                  <a:lnTo>
                    <a:pt x="3095" y="1471"/>
                  </a:lnTo>
                  <a:lnTo>
                    <a:pt x="3072" y="1507"/>
                  </a:lnTo>
                  <a:lnTo>
                    <a:pt x="3044" y="1541"/>
                  </a:lnTo>
                  <a:lnTo>
                    <a:pt x="3013" y="1574"/>
                  </a:lnTo>
                  <a:lnTo>
                    <a:pt x="2983" y="1606"/>
                  </a:lnTo>
                  <a:lnTo>
                    <a:pt x="2951" y="1635"/>
                  </a:lnTo>
                  <a:lnTo>
                    <a:pt x="2922" y="1661"/>
                  </a:lnTo>
                  <a:lnTo>
                    <a:pt x="2888" y="1692"/>
                  </a:lnTo>
                  <a:lnTo>
                    <a:pt x="2852" y="1720"/>
                  </a:lnTo>
                  <a:lnTo>
                    <a:pt x="2816" y="1751"/>
                  </a:lnTo>
                  <a:lnTo>
                    <a:pt x="2778" y="1781"/>
                  </a:lnTo>
                  <a:lnTo>
                    <a:pt x="2740" y="1811"/>
                  </a:lnTo>
                  <a:lnTo>
                    <a:pt x="2701" y="1842"/>
                  </a:lnTo>
                  <a:lnTo>
                    <a:pt x="2663" y="1872"/>
                  </a:lnTo>
                  <a:lnTo>
                    <a:pt x="2625" y="1901"/>
                  </a:lnTo>
                  <a:lnTo>
                    <a:pt x="2587" y="1929"/>
                  </a:lnTo>
                  <a:lnTo>
                    <a:pt x="2549" y="1960"/>
                  </a:lnTo>
                  <a:lnTo>
                    <a:pt x="2509" y="1988"/>
                  </a:lnTo>
                  <a:lnTo>
                    <a:pt x="2471" y="2015"/>
                  </a:lnTo>
                  <a:lnTo>
                    <a:pt x="2433" y="2045"/>
                  </a:lnTo>
                  <a:lnTo>
                    <a:pt x="2393" y="2072"/>
                  </a:lnTo>
                  <a:lnTo>
                    <a:pt x="2354" y="2100"/>
                  </a:lnTo>
                  <a:lnTo>
                    <a:pt x="2316" y="2129"/>
                  </a:lnTo>
                  <a:lnTo>
                    <a:pt x="2276" y="2155"/>
                  </a:lnTo>
                  <a:lnTo>
                    <a:pt x="2236" y="2184"/>
                  </a:lnTo>
                  <a:lnTo>
                    <a:pt x="2196" y="2211"/>
                  </a:lnTo>
                  <a:lnTo>
                    <a:pt x="2158" y="2237"/>
                  </a:lnTo>
                  <a:lnTo>
                    <a:pt x="2118" y="2266"/>
                  </a:lnTo>
                  <a:lnTo>
                    <a:pt x="2078" y="2292"/>
                  </a:lnTo>
                  <a:lnTo>
                    <a:pt x="2038" y="2319"/>
                  </a:lnTo>
                  <a:lnTo>
                    <a:pt x="1998" y="2347"/>
                  </a:lnTo>
                  <a:lnTo>
                    <a:pt x="1958" y="2374"/>
                  </a:lnTo>
                  <a:lnTo>
                    <a:pt x="1918" y="2401"/>
                  </a:lnTo>
                  <a:lnTo>
                    <a:pt x="1878" y="2427"/>
                  </a:lnTo>
                  <a:lnTo>
                    <a:pt x="1838" y="2454"/>
                  </a:lnTo>
                  <a:lnTo>
                    <a:pt x="1798" y="2482"/>
                  </a:lnTo>
                  <a:lnTo>
                    <a:pt x="1758" y="2509"/>
                  </a:lnTo>
                  <a:lnTo>
                    <a:pt x="1719" y="2536"/>
                  </a:lnTo>
                  <a:lnTo>
                    <a:pt x="1679" y="2562"/>
                  </a:lnTo>
                  <a:lnTo>
                    <a:pt x="1639" y="2591"/>
                  </a:lnTo>
                  <a:lnTo>
                    <a:pt x="1601" y="2617"/>
                  </a:lnTo>
                  <a:lnTo>
                    <a:pt x="1720" y="2583"/>
                  </a:lnTo>
                  <a:lnTo>
                    <a:pt x="1840" y="2551"/>
                  </a:lnTo>
                  <a:lnTo>
                    <a:pt x="1962" y="2522"/>
                  </a:lnTo>
                  <a:lnTo>
                    <a:pt x="2085" y="2501"/>
                  </a:lnTo>
                  <a:lnTo>
                    <a:pt x="2110" y="2479"/>
                  </a:lnTo>
                  <a:lnTo>
                    <a:pt x="2135" y="2454"/>
                  </a:lnTo>
                  <a:lnTo>
                    <a:pt x="2186" y="2410"/>
                  </a:lnTo>
                  <a:lnTo>
                    <a:pt x="2241" y="2368"/>
                  </a:lnTo>
                  <a:lnTo>
                    <a:pt x="2298" y="2328"/>
                  </a:lnTo>
                  <a:lnTo>
                    <a:pt x="2359" y="2294"/>
                  </a:lnTo>
                  <a:lnTo>
                    <a:pt x="2420" y="2266"/>
                  </a:lnTo>
                  <a:lnTo>
                    <a:pt x="2485" y="2243"/>
                  </a:lnTo>
                  <a:lnTo>
                    <a:pt x="2553" y="2228"/>
                  </a:lnTo>
                  <a:lnTo>
                    <a:pt x="2701" y="2205"/>
                  </a:lnTo>
                  <a:lnTo>
                    <a:pt x="2852" y="2201"/>
                  </a:lnTo>
                  <a:lnTo>
                    <a:pt x="3183" y="2351"/>
                  </a:lnTo>
                  <a:lnTo>
                    <a:pt x="2852" y="2368"/>
                  </a:lnTo>
                  <a:lnTo>
                    <a:pt x="2825" y="2363"/>
                  </a:lnTo>
                  <a:lnTo>
                    <a:pt x="2690" y="2391"/>
                  </a:lnTo>
                  <a:lnTo>
                    <a:pt x="2639" y="2431"/>
                  </a:lnTo>
                  <a:lnTo>
                    <a:pt x="2587" y="2484"/>
                  </a:lnTo>
                  <a:lnTo>
                    <a:pt x="2713" y="2518"/>
                  </a:lnTo>
                  <a:lnTo>
                    <a:pt x="2823" y="2581"/>
                  </a:lnTo>
                  <a:lnTo>
                    <a:pt x="2852" y="2617"/>
                  </a:lnTo>
                  <a:lnTo>
                    <a:pt x="2852" y="2617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82480" y="2106720"/>
              <a:ext cx="1265400" cy="1731960"/>
            </a:xfrm>
            <a:custGeom>
              <a:avLst/>
              <a:gdLst/>
              <a:ahLst/>
              <a:rect l="l" t="t" r="r" b="b"/>
              <a:pathLst>
                <a:path w="1593" h="2183">
                  <a:moveTo>
                    <a:pt x="1175" y="187"/>
                  </a:moveTo>
                  <a:lnTo>
                    <a:pt x="1498" y="128"/>
                  </a:lnTo>
                  <a:lnTo>
                    <a:pt x="1175" y="0"/>
                  </a:lnTo>
                  <a:lnTo>
                    <a:pt x="926" y="4"/>
                  </a:lnTo>
                  <a:lnTo>
                    <a:pt x="680" y="63"/>
                  </a:lnTo>
                  <a:lnTo>
                    <a:pt x="593" y="105"/>
                  </a:lnTo>
                  <a:lnTo>
                    <a:pt x="507" y="158"/>
                  </a:lnTo>
                  <a:lnTo>
                    <a:pt x="468" y="187"/>
                  </a:lnTo>
                  <a:lnTo>
                    <a:pt x="430" y="219"/>
                  </a:lnTo>
                  <a:lnTo>
                    <a:pt x="391" y="253"/>
                  </a:lnTo>
                  <a:lnTo>
                    <a:pt x="357" y="288"/>
                  </a:lnTo>
                  <a:lnTo>
                    <a:pt x="323" y="326"/>
                  </a:lnTo>
                  <a:lnTo>
                    <a:pt x="293" y="364"/>
                  </a:lnTo>
                  <a:lnTo>
                    <a:pt x="262" y="403"/>
                  </a:lnTo>
                  <a:lnTo>
                    <a:pt x="236" y="447"/>
                  </a:lnTo>
                  <a:lnTo>
                    <a:pt x="190" y="535"/>
                  </a:lnTo>
                  <a:lnTo>
                    <a:pt x="154" y="626"/>
                  </a:lnTo>
                  <a:lnTo>
                    <a:pt x="118" y="765"/>
                  </a:lnTo>
                  <a:lnTo>
                    <a:pt x="102" y="909"/>
                  </a:lnTo>
                  <a:lnTo>
                    <a:pt x="106" y="1057"/>
                  </a:lnTo>
                  <a:lnTo>
                    <a:pt x="125" y="1198"/>
                  </a:lnTo>
                  <a:lnTo>
                    <a:pt x="135" y="1246"/>
                  </a:lnTo>
                  <a:lnTo>
                    <a:pt x="148" y="1291"/>
                  </a:lnTo>
                  <a:lnTo>
                    <a:pt x="163" y="1335"/>
                  </a:lnTo>
                  <a:lnTo>
                    <a:pt x="182" y="1379"/>
                  </a:lnTo>
                  <a:lnTo>
                    <a:pt x="201" y="1420"/>
                  </a:lnTo>
                  <a:lnTo>
                    <a:pt x="224" y="1462"/>
                  </a:lnTo>
                  <a:lnTo>
                    <a:pt x="247" y="1504"/>
                  </a:lnTo>
                  <a:lnTo>
                    <a:pt x="272" y="1546"/>
                  </a:lnTo>
                  <a:lnTo>
                    <a:pt x="232" y="1591"/>
                  </a:lnTo>
                  <a:lnTo>
                    <a:pt x="190" y="1639"/>
                  </a:lnTo>
                  <a:lnTo>
                    <a:pt x="152" y="1688"/>
                  </a:lnTo>
                  <a:lnTo>
                    <a:pt x="114" y="1738"/>
                  </a:lnTo>
                  <a:lnTo>
                    <a:pt x="80" y="1789"/>
                  </a:lnTo>
                  <a:lnTo>
                    <a:pt x="49" y="1844"/>
                  </a:lnTo>
                  <a:lnTo>
                    <a:pt x="23" y="1901"/>
                  </a:lnTo>
                  <a:lnTo>
                    <a:pt x="2" y="1960"/>
                  </a:lnTo>
                  <a:lnTo>
                    <a:pt x="0" y="2025"/>
                  </a:lnTo>
                  <a:lnTo>
                    <a:pt x="13" y="2074"/>
                  </a:lnTo>
                  <a:lnTo>
                    <a:pt x="28" y="2095"/>
                  </a:lnTo>
                  <a:lnTo>
                    <a:pt x="47" y="2112"/>
                  </a:lnTo>
                  <a:lnTo>
                    <a:pt x="102" y="2147"/>
                  </a:lnTo>
                  <a:lnTo>
                    <a:pt x="232" y="2175"/>
                  </a:lnTo>
                  <a:lnTo>
                    <a:pt x="365" y="2183"/>
                  </a:lnTo>
                  <a:lnTo>
                    <a:pt x="631" y="2175"/>
                  </a:lnTo>
                  <a:lnTo>
                    <a:pt x="903" y="2145"/>
                  </a:lnTo>
                  <a:lnTo>
                    <a:pt x="1175" y="2105"/>
                  </a:lnTo>
                  <a:lnTo>
                    <a:pt x="1593" y="1821"/>
                  </a:lnTo>
                  <a:lnTo>
                    <a:pt x="1175" y="1548"/>
                  </a:lnTo>
                  <a:lnTo>
                    <a:pt x="1076" y="1569"/>
                  </a:lnTo>
                  <a:lnTo>
                    <a:pt x="977" y="1590"/>
                  </a:lnTo>
                  <a:lnTo>
                    <a:pt x="998" y="1542"/>
                  </a:lnTo>
                  <a:lnTo>
                    <a:pt x="1019" y="1498"/>
                  </a:lnTo>
                  <a:lnTo>
                    <a:pt x="1042" y="1453"/>
                  </a:lnTo>
                  <a:lnTo>
                    <a:pt x="1065" y="1409"/>
                  </a:lnTo>
                  <a:lnTo>
                    <a:pt x="1091" y="1367"/>
                  </a:lnTo>
                  <a:lnTo>
                    <a:pt x="1118" y="1325"/>
                  </a:lnTo>
                  <a:lnTo>
                    <a:pt x="1144" y="1284"/>
                  </a:lnTo>
                  <a:lnTo>
                    <a:pt x="1175" y="1244"/>
                  </a:lnTo>
                  <a:lnTo>
                    <a:pt x="1498" y="808"/>
                  </a:lnTo>
                  <a:lnTo>
                    <a:pt x="1175" y="770"/>
                  </a:lnTo>
                  <a:lnTo>
                    <a:pt x="1118" y="812"/>
                  </a:lnTo>
                  <a:lnTo>
                    <a:pt x="1061" y="856"/>
                  </a:lnTo>
                  <a:lnTo>
                    <a:pt x="1006" y="898"/>
                  </a:lnTo>
                  <a:lnTo>
                    <a:pt x="950" y="941"/>
                  </a:lnTo>
                  <a:lnTo>
                    <a:pt x="897" y="983"/>
                  </a:lnTo>
                  <a:lnTo>
                    <a:pt x="844" y="1025"/>
                  </a:lnTo>
                  <a:lnTo>
                    <a:pt x="791" y="1067"/>
                  </a:lnTo>
                  <a:lnTo>
                    <a:pt x="739" y="1111"/>
                  </a:lnTo>
                  <a:lnTo>
                    <a:pt x="738" y="945"/>
                  </a:lnTo>
                  <a:lnTo>
                    <a:pt x="739" y="780"/>
                  </a:lnTo>
                  <a:lnTo>
                    <a:pt x="753" y="599"/>
                  </a:lnTo>
                  <a:lnTo>
                    <a:pt x="770" y="500"/>
                  </a:lnTo>
                  <a:lnTo>
                    <a:pt x="781" y="451"/>
                  </a:lnTo>
                  <a:lnTo>
                    <a:pt x="795" y="402"/>
                  </a:lnTo>
                  <a:lnTo>
                    <a:pt x="812" y="356"/>
                  </a:lnTo>
                  <a:lnTo>
                    <a:pt x="833" y="312"/>
                  </a:lnTo>
                  <a:lnTo>
                    <a:pt x="855" y="272"/>
                  </a:lnTo>
                  <a:lnTo>
                    <a:pt x="884" y="236"/>
                  </a:lnTo>
                  <a:lnTo>
                    <a:pt x="916" y="208"/>
                  </a:lnTo>
                  <a:lnTo>
                    <a:pt x="954" y="183"/>
                  </a:lnTo>
                  <a:lnTo>
                    <a:pt x="1042" y="156"/>
                  </a:lnTo>
                  <a:lnTo>
                    <a:pt x="1175" y="187"/>
                  </a:lnTo>
                  <a:lnTo>
                    <a:pt x="1175" y="187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2960" y="2238480"/>
              <a:ext cx="3357720" cy="3012840"/>
            </a:xfrm>
            <a:custGeom>
              <a:avLst/>
              <a:gdLst/>
              <a:ahLst/>
              <a:rect l="l" t="t" r="r" b="b"/>
              <a:pathLst>
                <a:path w="4230" h="3796">
                  <a:moveTo>
                    <a:pt x="1494" y="0"/>
                  </a:moveTo>
                  <a:lnTo>
                    <a:pt x="1838" y="64"/>
                  </a:lnTo>
                  <a:lnTo>
                    <a:pt x="1652" y="409"/>
                  </a:lnTo>
                  <a:lnTo>
                    <a:pt x="1247" y="802"/>
                  </a:lnTo>
                  <a:lnTo>
                    <a:pt x="1053" y="696"/>
                  </a:lnTo>
                  <a:lnTo>
                    <a:pt x="741" y="1203"/>
                  </a:lnTo>
                  <a:lnTo>
                    <a:pt x="812" y="1340"/>
                  </a:lnTo>
                  <a:lnTo>
                    <a:pt x="1055" y="1249"/>
                  </a:lnTo>
                  <a:lnTo>
                    <a:pt x="1215" y="1089"/>
                  </a:lnTo>
                  <a:lnTo>
                    <a:pt x="1684" y="967"/>
                  </a:lnTo>
                  <a:lnTo>
                    <a:pt x="1818" y="1146"/>
                  </a:lnTo>
                  <a:lnTo>
                    <a:pt x="2143" y="1068"/>
                  </a:lnTo>
                  <a:lnTo>
                    <a:pt x="2386" y="908"/>
                  </a:lnTo>
                  <a:lnTo>
                    <a:pt x="2804" y="863"/>
                  </a:lnTo>
                  <a:lnTo>
                    <a:pt x="2778" y="1013"/>
                  </a:lnTo>
                  <a:lnTo>
                    <a:pt x="1985" y="2311"/>
                  </a:lnTo>
                  <a:lnTo>
                    <a:pt x="2367" y="2211"/>
                  </a:lnTo>
                  <a:lnTo>
                    <a:pt x="2591" y="2106"/>
                  </a:lnTo>
                  <a:lnTo>
                    <a:pt x="2956" y="2019"/>
                  </a:lnTo>
                  <a:lnTo>
                    <a:pt x="2991" y="2266"/>
                  </a:lnTo>
                  <a:lnTo>
                    <a:pt x="2924" y="3246"/>
                  </a:lnTo>
                  <a:lnTo>
                    <a:pt x="3015" y="3724"/>
                  </a:lnTo>
                  <a:lnTo>
                    <a:pt x="3401" y="3725"/>
                  </a:lnTo>
                  <a:lnTo>
                    <a:pt x="3517" y="3353"/>
                  </a:lnTo>
                  <a:lnTo>
                    <a:pt x="3297" y="3340"/>
                  </a:lnTo>
                  <a:lnTo>
                    <a:pt x="3369" y="3034"/>
                  </a:lnTo>
                  <a:lnTo>
                    <a:pt x="3580" y="2682"/>
                  </a:lnTo>
                  <a:lnTo>
                    <a:pt x="4025" y="2577"/>
                  </a:lnTo>
                  <a:lnTo>
                    <a:pt x="4230" y="2766"/>
                  </a:lnTo>
                  <a:lnTo>
                    <a:pt x="4160" y="2897"/>
                  </a:lnTo>
                  <a:lnTo>
                    <a:pt x="4012" y="3113"/>
                  </a:lnTo>
                  <a:lnTo>
                    <a:pt x="3487" y="3705"/>
                  </a:lnTo>
                  <a:lnTo>
                    <a:pt x="3335" y="3792"/>
                  </a:lnTo>
                  <a:lnTo>
                    <a:pt x="2991" y="3784"/>
                  </a:lnTo>
                  <a:lnTo>
                    <a:pt x="2791" y="3744"/>
                  </a:lnTo>
                  <a:lnTo>
                    <a:pt x="2472" y="3796"/>
                  </a:lnTo>
                  <a:lnTo>
                    <a:pt x="2088" y="3254"/>
                  </a:lnTo>
                  <a:lnTo>
                    <a:pt x="2238" y="2918"/>
                  </a:lnTo>
                  <a:lnTo>
                    <a:pt x="2217" y="2821"/>
                  </a:lnTo>
                  <a:lnTo>
                    <a:pt x="2048" y="2682"/>
                  </a:lnTo>
                  <a:lnTo>
                    <a:pt x="1570" y="2902"/>
                  </a:lnTo>
                  <a:lnTo>
                    <a:pt x="1272" y="3134"/>
                  </a:lnTo>
                  <a:lnTo>
                    <a:pt x="901" y="3214"/>
                  </a:lnTo>
                  <a:lnTo>
                    <a:pt x="893" y="2956"/>
                  </a:lnTo>
                  <a:lnTo>
                    <a:pt x="1816" y="1534"/>
                  </a:lnTo>
                  <a:lnTo>
                    <a:pt x="987" y="1714"/>
                  </a:lnTo>
                  <a:lnTo>
                    <a:pt x="40" y="1635"/>
                  </a:lnTo>
                  <a:lnTo>
                    <a:pt x="51" y="1317"/>
                  </a:lnTo>
                  <a:lnTo>
                    <a:pt x="0" y="1083"/>
                  </a:lnTo>
                  <a:lnTo>
                    <a:pt x="430" y="711"/>
                  </a:lnTo>
                  <a:lnTo>
                    <a:pt x="667" y="836"/>
                  </a:lnTo>
                  <a:lnTo>
                    <a:pt x="1101" y="426"/>
                  </a:lnTo>
                  <a:lnTo>
                    <a:pt x="1226" y="87"/>
                  </a:lnTo>
                  <a:lnTo>
                    <a:pt x="1494" y="0"/>
                  </a:lnTo>
                  <a:lnTo>
                    <a:pt x="1494" y="0"/>
                  </a:lnTo>
                  <a:close/>
                </a:path>
              </a:pathLst>
            </a:custGeom>
            <a:solidFill>
              <a:srgbClr val="5c5c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58920" y="4654440"/>
              <a:ext cx="611280" cy="639720"/>
            </a:xfrm>
            <a:custGeom>
              <a:avLst/>
              <a:gdLst/>
              <a:ahLst/>
              <a:rect l="l" t="t" r="r" b="b"/>
              <a:pathLst>
                <a:path w="770" h="806">
                  <a:moveTo>
                    <a:pt x="770" y="717"/>
                  </a:moveTo>
                  <a:lnTo>
                    <a:pt x="711" y="743"/>
                  </a:lnTo>
                  <a:lnTo>
                    <a:pt x="654" y="762"/>
                  </a:lnTo>
                  <a:lnTo>
                    <a:pt x="543" y="795"/>
                  </a:lnTo>
                  <a:lnTo>
                    <a:pt x="346" y="806"/>
                  </a:lnTo>
                  <a:lnTo>
                    <a:pt x="253" y="766"/>
                  </a:lnTo>
                  <a:lnTo>
                    <a:pt x="177" y="724"/>
                  </a:lnTo>
                  <a:lnTo>
                    <a:pt x="114" y="679"/>
                  </a:lnTo>
                  <a:lnTo>
                    <a:pt x="66" y="633"/>
                  </a:lnTo>
                  <a:lnTo>
                    <a:pt x="11" y="536"/>
                  </a:lnTo>
                  <a:lnTo>
                    <a:pt x="0" y="433"/>
                  </a:lnTo>
                  <a:lnTo>
                    <a:pt x="11" y="380"/>
                  </a:lnTo>
                  <a:lnTo>
                    <a:pt x="28" y="327"/>
                  </a:lnTo>
                  <a:lnTo>
                    <a:pt x="55" y="274"/>
                  </a:lnTo>
                  <a:lnTo>
                    <a:pt x="70" y="245"/>
                  </a:lnTo>
                  <a:lnTo>
                    <a:pt x="89" y="219"/>
                  </a:lnTo>
                  <a:lnTo>
                    <a:pt x="106" y="192"/>
                  </a:lnTo>
                  <a:lnTo>
                    <a:pt x="127" y="164"/>
                  </a:lnTo>
                  <a:lnTo>
                    <a:pt x="148" y="137"/>
                  </a:lnTo>
                  <a:lnTo>
                    <a:pt x="171" y="110"/>
                  </a:lnTo>
                  <a:lnTo>
                    <a:pt x="196" y="82"/>
                  </a:lnTo>
                  <a:lnTo>
                    <a:pt x="220" y="55"/>
                  </a:lnTo>
                  <a:lnTo>
                    <a:pt x="245" y="27"/>
                  </a:lnTo>
                  <a:lnTo>
                    <a:pt x="272" y="0"/>
                  </a:lnTo>
                  <a:lnTo>
                    <a:pt x="285" y="78"/>
                  </a:lnTo>
                  <a:lnTo>
                    <a:pt x="306" y="154"/>
                  </a:lnTo>
                  <a:lnTo>
                    <a:pt x="317" y="190"/>
                  </a:lnTo>
                  <a:lnTo>
                    <a:pt x="332" y="226"/>
                  </a:lnTo>
                  <a:lnTo>
                    <a:pt x="363" y="295"/>
                  </a:lnTo>
                  <a:lnTo>
                    <a:pt x="399" y="363"/>
                  </a:lnTo>
                  <a:lnTo>
                    <a:pt x="420" y="395"/>
                  </a:lnTo>
                  <a:lnTo>
                    <a:pt x="443" y="426"/>
                  </a:lnTo>
                  <a:lnTo>
                    <a:pt x="466" y="456"/>
                  </a:lnTo>
                  <a:lnTo>
                    <a:pt x="490" y="487"/>
                  </a:lnTo>
                  <a:lnTo>
                    <a:pt x="517" y="517"/>
                  </a:lnTo>
                  <a:lnTo>
                    <a:pt x="543" y="546"/>
                  </a:lnTo>
                  <a:lnTo>
                    <a:pt x="570" y="572"/>
                  </a:lnTo>
                  <a:lnTo>
                    <a:pt x="597" y="597"/>
                  </a:lnTo>
                  <a:lnTo>
                    <a:pt x="625" y="620"/>
                  </a:lnTo>
                  <a:lnTo>
                    <a:pt x="652" y="641"/>
                  </a:lnTo>
                  <a:lnTo>
                    <a:pt x="711" y="682"/>
                  </a:lnTo>
                  <a:lnTo>
                    <a:pt x="770" y="717"/>
                  </a:lnTo>
                  <a:lnTo>
                    <a:pt x="770" y="717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908520" y="4219560"/>
              <a:ext cx="407880" cy="353880"/>
            </a:xfrm>
            <a:custGeom>
              <a:avLst/>
              <a:gdLst/>
              <a:ahLst/>
              <a:rect l="l" t="t" r="r" b="b"/>
              <a:pathLst>
                <a:path w="514" h="446">
                  <a:moveTo>
                    <a:pt x="0" y="159"/>
                  </a:moveTo>
                  <a:lnTo>
                    <a:pt x="73" y="135"/>
                  </a:lnTo>
                  <a:lnTo>
                    <a:pt x="143" y="110"/>
                  </a:lnTo>
                  <a:lnTo>
                    <a:pt x="278" y="66"/>
                  </a:lnTo>
                  <a:lnTo>
                    <a:pt x="403" y="30"/>
                  </a:lnTo>
                  <a:lnTo>
                    <a:pt x="514" y="0"/>
                  </a:lnTo>
                  <a:lnTo>
                    <a:pt x="493" y="273"/>
                  </a:lnTo>
                  <a:lnTo>
                    <a:pt x="375" y="306"/>
                  </a:lnTo>
                  <a:lnTo>
                    <a:pt x="257" y="346"/>
                  </a:lnTo>
                  <a:lnTo>
                    <a:pt x="137" y="393"/>
                  </a:lnTo>
                  <a:lnTo>
                    <a:pt x="76" y="418"/>
                  </a:lnTo>
                  <a:lnTo>
                    <a:pt x="16" y="446"/>
                  </a:lnTo>
                  <a:lnTo>
                    <a:pt x="19" y="372"/>
                  </a:lnTo>
                  <a:lnTo>
                    <a:pt x="14" y="262"/>
                  </a:lnTo>
                  <a:lnTo>
                    <a:pt x="0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01960" y="3960720"/>
              <a:ext cx="484200" cy="1136880"/>
            </a:xfrm>
            <a:custGeom>
              <a:avLst/>
              <a:gdLst/>
              <a:ahLst/>
              <a:rect l="l" t="t" r="r" b="b"/>
              <a:pathLst>
                <a:path w="610" h="1431">
                  <a:moveTo>
                    <a:pt x="131" y="0"/>
                  </a:moveTo>
                  <a:lnTo>
                    <a:pt x="283" y="51"/>
                  </a:lnTo>
                  <a:lnTo>
                    <a:pt x="388" y="146"/>
                  </a:lnTo>
                  <a:lnTo>
                    <a:pt x="417" y="212"/>
                  </a:lnTo>
                  <a:lnTo>
                    <a:pt x="426" y="292"/>
                  </a:lnTo>
                  <a:lnTo>
                    <a:pt x="415" y="387"/>
                  </a:lnTo>
                  <a:lnTo>
                    <a:pt x="401" y="441"/>
                  </a:lnTo>
                  <a:lnTo>
                    <a:pt x="382" y="498"/>
                  </a:lnTo>
                  <a:lnTo>
                    <a:pt x="363" y="547"/>
                  </a:lnTo>
                  <a:lnTo>
                    <a:pt x="344" y="589"/>
                  </a:lnTo>
                  <a:lnTo>
                    <a:pt x="308" y="661"/>
                  </a:lnTo>
                  <a:lnTo>
                    <a:pt x="291" y="691"/>
                  </a:lnTo>
                  <a:lnTo>
                    <a:pt x="274" y="716"/>
                  </a:lnTo>
                  <a:lnTo>
                    <a:pt x="242" y="762"/>
                  </a:lnTo>
                  <a:lnTo>
                    <a:pt x="209" y="798"/>
                  </a:lnTo>
                  <a:lnTo>
                    <a:pt x="175" y="832"/>
                  </a:lnTo>
                  <a:lnTo>
                    <a:pt x="143" y="866"/>
                  </a:lnTo>
                  <a:lnTo>
                    <a:pt x="107" y="904"/>
                  </a:lnTo>
                  <a:lnTo>
                    <a:pt x="213" y="864"/>
                  </a:lnTo>
                  <a:lnTo>
                    <a:pt x="335" y="821"/>
                  </a:lnTo>
                  <a:lnTo>
                    <a:pt x="399" y="796"/>
                  </a:lnTo>
                  <a:lnTo>
                    <a:pt x="468" y="771"/>
                  </a:lnTo>
                  <a:lnTo>
                    <a:pt x="538" y="747"/>
                  </a:lnTo>
                  <a:lnTo>
                    <a:pt x="610" y="720"/>
                  </a:lnTo>
                  <a:lnTo>
                    <a:pt x="601" y="971"/>
                  </a:lnTo>
                  <a:lnTo>
                    <a:pt x="590" y="1077"/>
                  </a:lnTo>
                  <a:lnTo>
                    <a:pt x="574" y="1171"/>
                  </a:lnTo>
                  <a:lnTo>
                    <a:pt x="519" y="1207"/>
                  </a:lnTo>
                  <a:lnTo>
                    <a:pt x="464" y="1239"/>
                  </a:lnTo>
                  <a:lnTo>
                    <a:pt x="409" y="1273"/>
                  </a:lnTo>
                  <a:lnTo>
                    <a:pt x="356" y="1305"/>
                  </a:lnTo>
                  <a:lnTo>
                    <a:pt x="302" y="1338"/>
                  </a:lnTo>
                  <a:lnTo>
                    <a:pt x="249" y="1370"/>
                  </a:lnTo>
                  <a:lnTo>
                    <a:pt x="198" y="1401"/>
                  </a:lnTo>
                  <a:lnTo>
                    <a:pt x="147" y="1431"/>
                  </a:lnTo>
                  <a:lnTo>
                    <a:pt x="72" y="1302"/>
                  </a:lnTo>
                  <a:lnTo>
                    <a:pt x="42" y="1188"/>
                  </a:lnTo>
                  <a:lnTo>
                    <a:pt x="19" y="1039"/>
                  </a:lnTo>
                  <a:lnTo>
                    <a:pt x="0" y="648"/>
                  </a:lnTo>
                  <a:lnTo>
                    <a:pt x="6" y="475"/>
                  </a:lnTo>
                  <a:lnTo>
                    <a:pt x="21" y="325"/>
                  </a:lnTo>
                  <a:lnTo>
                    <a:pt x="44" y="197"/>
                  </a:lnTo>
                  <a:lnTo>
                    <a:pt x="59" y="144"/>
                  </a:lnTo>
                  <a:lnTo>
                    <a:pt x="78" y="95"/>
                  </a:lnTo>
                  <a:lnTo>
                    <a:pt x="103" y="43"/>
                  </a:lnTo>
                  <a:lnTo>
                    <a:pt x="116" y="21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89200" y="2962080"/>
              <a:ext cx="1630440" cy="1660680"/>
            </a:xfrm>
            <a:custGeom>
              <a:avLst/>
              <a:gdLst/>
              <a:ahLst/>
              <a:rect l="l" t="t" r="r" b="b"/>
              <a:pathLst>
                <a:path w="2053" h="2091">
                  <a:moveTo>
                    <a:pt x="1348" y="8"/>
                  </a:moveTo>
                  <a:lnTo>
                    <a:pt x="1743" y="0"/>
                  </a:lnTo>
                  <a:lnTo>
                    <a:pt x="1892" y="21"/>
                  </a:lnTo>
                  <a:lnTo>
                    <a:pt x="1998" y="61"/>
                  </a:lnTo>
                  <a:lnTo>
                    <a:pt x="2053" y="122"/>
                  </a:lnTo>
                  <a:lnTo>
                    <a:pt x="2050" y="207"/>
                  </a:lnTo>
                  <a:lnTo>
                    <a:pt x="2025" y="261"/>
                  </a:lnTo>
                  <a:lnTo>
                    <a:pt x="2006" y="289"/>
                  </a:lnTo>
                  <a:lnTo>
                    <a:pt x="1983" y="321"/>
                  </a:lnTo>
                  <a:lnTo>
                    <a:pt x="1954" y="354"/>
                  </a:lnTo>
                  <a:lnTo>
                    <a:pt x="1922" y="388"/>
                  </a:lnTo>
                  <a:lnTo>
                    <a:pt x="1884" y="424"/>
                  </a:lnTo>
                  <a:lnTo>
                    <a:pt x="1842" y="462"/>
                  </a:lnTo>
                  <a:lnTo>
                    <a:pt x="1804" y="494"/>
                  </a:lnTo>
                  <a:lnTo>
                    <a:pt x="1768" y="527"/>
                  </a:lnTo>
                  <a:lnTo>
                    <a:pt x="1730" y="557"/>
                  </a:lnTo>
                  <a:lnTo>
                    <a:pt x="1694" y="588"/>
                  </a:lnTo>
                  <a:lnTo>
                    <a:pt x="1656" y="616"/>
                  </a:lnTo>
                  <a:lnTo>
                    <a:pt x="1620" y="647"/>
                  </a:lnTo>
                  <a:lnTo>
                    <a:pt x="1584" y="675"/>
                  </a:lnTo>
                  <a:lnTo>
                    <a:pt x="1546" y="704"/>
                  </a:lnTo>
                  <a:lnTo>
                    <a:pt x="1510" y="732"/>
                  </a:lnTo>
                  <a:lnTo>
                    <a:pt x="1472" y="761"/>
                  </a:lnTo>
                  <a:lnTo>
                    <a:pt x="1435" y="787"/>
                  </a:lnTo>
                  <a:lnTo>
                    <a:pt x="1397" y="814"/>
                  </a:lnTo>
                  <a:lnTo>
                    <a:pt x="1361" y="840"/>
                  </a:lnTo>
                  <a:lnTo>
                    <a:pt x="1323" y="867"/>
                  </a:lnTo>
                  <a:lnTo>
                    <a:pt x="1287" y="894"/>
                  </a:lnTo>
                  <a:lnTo>
                    <a:pt x="1249" y="920"/>
                  </a:lnTo>
                  <a:lnTo>
                    <a:pt x="1211" y="947"/>
                  </a:lnTo>
                  <a:lnTo>
                    <a:pt x="1175" y="973"/>
                  </a:lnTo>
                  <a:lnTo>
                    <a:pt x="1137" y="998"/>
                  </a:lnTo>
                  <a:lnTo>
                    <a:pt x="1099" y="1025"/>
                  </a:lnTo>
                  <a:lnTo>
                    <a:pt x="1061" y="1051"/>
                  </a:lnTo>
                  <a:lnTo>
                    <a:pt x="1023" y="1076"/>
                  </a:lnTo>
                  <a:lnTo>
                    <a:pt x="983" y="1103"/>
                  </a:lnTo>
                  <a:lnTo>
                    <a:pt x="945" y="1129"/>
                  </a:lnTo>
                  <a:lnTo>
                    <a:pt x="905" y="1154"/>
                  </a:lnTo>
                  <a:lnTo>
                    <a:pt x="867" y="1181"/>
                  </a:lnTo>
                  <a:lnTo>
                    <a:pt x="827" y="1207"/>
                  </a:lnTo>
                  <a:lnTo>
                    <a:pt x="787" y="1234"/>
                  </a:lnTo>
                  <a:lnTo>
                    <a:pt x="747" y="1262"/>
                  </a:lnTo>
                  <a:lnTo>
                    <a:pt x="707" y="1289"/>
                  </a:lnTo>
                  <a:lnTo>
                    <a:pt x="667" y="1318"/>
                  </a:lnTo>
                  <a:lnTo>
                    <a:pt x="627" y="1344"/>
                  </a:lnTo>
                  <a:lnTo>
                    <a:pt x="772" y="1308"/>
                  </a:lnTo>
                  <a:lnTo>
                    <a:pt x="873" y="1287"/>
                  </a:lnTo>
                  <a:lnTo>
                    <a:pt x="985" y="1268"/>
                  </a:lnTo>
                  <a:lnTo>
                    <a:pt x="956" y="1299"/>
                  </a:lnTo>
                  <a:lnTo>
                    <a:pt x="930" y="1331"/>
                  </a:lnTo>
                  <a:lnTo>
                    <a:pt x="905" y="1365"/>
                  </a:lnTo>
                  <a:lnTo>
                    <a:pt x="882" y="1399"/>
                  </a:lnTo>
                  <a:lnTo>
                    <a:pt x="861" y="1433"/>
                  </a:lnTo>
                  <a:lnTo>
                    <a:pt x="840" y="1468"/>
                  </a:lnTo>
                  <a:lnTo>
                    <a:pt x="804" y="1542"/>
                  </a:lnTo>
                  <a:lnTo>
                    <a:pt x="755" y="1700"/>
                  </a:lnTo>
                  <a:lnTo>
                    <a:pt x="728" y="1871"/>
                  </a:lnTo>
                  <a:lnTo>
                    <a:pt x="644" y="1897"/>
                  </a:lnTo>
                  <a:lnTo>
                    <a:pt x="557" y="1926"/>
                  </a:lnTo>
                  <a:lnTo>
                    <a:pt x="468" y="1952"/>
                  </a:lnTo>
                  <a:lnTo>
                    <a:pt x="376" y="1981"/>
                  </a:lnTo>
                  <a:lnTo>
                    <a:pt x="283" y="2009"/>
                  </a:lnTo>
                  <a:lnTo>
                    <a:pt x="188" y="2038"/>
                  </a:lnTo>
                  <a:lnTo>
                    <a:pt x="93" y="2065"/>
                  </a:lnTo>
                  <a:lnTo>
                    <a:pt x="0" y="2091"/>
                  </a:lnTo>
                  <a:lnTo>
                    <a:pt x="1348" y="8"/>
                  </a:lnTo>
                  <a:lnTo>
                    <a:pt x="1348" y="8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57200" y="3014640"/>
              <a:ext cx="1995480" cy="1693800"/>
            </a:xfrm>
            <a:custGeom>
              <a:avLst/>
              <a:gdLst/>
              <a:ahLst/>
              <a:rect l="l" t="t" r="r" b="b"/>
              <a:pathLst>
                <a:path w="2514" h="2133">
                  <a:moveTo>
                    <a:pt x="1994" y="87"/>
                  </a:moveTo>
                  <a:lnTo>
                    <a:pt x="2251" y="42"/>
                  </a:lnTo>
                  <a:lnTo>
                    <a:pt x="2514" y="0"/>
                  </a:lnTo>
                  <a:lnTo>
                    <a:pt x="1133" y="2131"/>
                  </a:lnTo>
                  <a:lnTo>
                    <a:pt x="894" y="2133"/>
                  </a:lnTo>
                  <a:lnTo>
                    <a:pt x="715" y="2079"/>
                  </a:lnTo>
                  <a:lnTo>
                    <a:pt x="660" y="2041"/>
                  </a:lnTo>
                  <a:lnTo>
                    <a:pt x="616" y="2001"/>
                  </a:lnTo>
                  <a:lnTo>
                    <a:pt x="565" y="1914"/>
                  </a:lnTo>
                  <a:lnTo>
                    <a:pt x="553" y="1823"/>
                  </a:lnTo>
                  <a:lnTo>
                    <a:pt x="561" y="1775"/>
                  </a:lnTo>
                  <a:lnTo>
                    <a:pt x="578" y="1726"/>
                  </a:lnTo>
                  <a:lnTo>
                    <a:pt x="603" y="1676"/>
                  </a:lnTo>
                  <a:lnTo>
                    <a:pt x="618" y="1652"/>
                  </a:lnTo>
                  <a:lnTo>
                    <a:pt x="635" y="1627"/>
                  </a:lnTo>
                  <a:lnTo>
                    <a:pt x="652" y="1602"/>
                  </a:lnTo>
                  <a:lnTo>
                    <a:pt x="673" y="1576"/>
                  </a:lnTo>
                  <a:lnTo>
                    <a:pt x="694" y="1551"/>
                  </a:lnTo>
                  <a:lnTo>
                    <a:pt x="717" y="1526"/>
                  </a:lnTo>
                  <a:lnTo>
                    <a:pt x="740" y="1500"/>
                  </a:lnTo>
                  <a:lnTo>
                    <a:pt x="766" y="1475"/>
                  </a:lnTo>
                  <a:lnTo>
                    <a:pt x="793" y="1450"/>
                  </a:lnTo>
                  <a:lnTo>
                    <a:pt x="819" y="1423"/>
                  </a:lnTo>
                  <a:lnTo>
                    <a:pt x="848" y="1399"/>
                  </a:lnTo>
                  <a:lnTo>
                    <a:pt x="878" y="1374"/>
                  </a:lnTo>
                  <a:lnTo>
                    <a:pt x="909" y="1347"/>
                  </a:lnTo>
                  <a:lnTo>
                    <a:pt x="939" y="1323"/>
                  </a:lnTo>
                  <a:lnTo>
                    <a:pt x="972" y="1298"/>
                  </a:lnTo>
                  <a:lnTo>
                    <a:pt x="1004" y="1273"/>
                  </a:lnTo>
                  <a:lnTo>
                    <a:pt x="1036" y="1251"/>
                  </a:lnTo>
                  <a:lnTo>
                    <a:pt x="1070" y="1226"/>
                  </a:lnTo>
                  <a:lnTo>
                    <a:pt x="1137" y="1178"/>
                  </a:lnTo>
                  <a:lnTo>
                    <a:pt x="1207" y="1133"/>
                  </a:lnTo>
                  <a:lnTo>
                    <a:pt x="1276" y="1087"/>
                  </a:lnTo>
                  <a:lnTo>
                    <a:pt x="1344" y="1043"/>
                  </a:lnTo>
                  <a:lnTo>
                    <a:pt x="1413" y="1002"/>
                  </a:lnTo>
                  <a:lnTo>
                    <a:pt x="1479" y="962"/>
                  </a:lnTo>
                  <a:lnTo>
                    <a:pt x="1542" y="924"/>
                  </a:lnTo>
                  <a:lnTo>
                    <a:pt x="1603" y="887"/>
                  </a:lnTo>
                  <a:lnTo>
                    <a:pt x="1662" y="853"/>
                  </a:lnTo>
                  <a:lnTo>
                    <a:pt x="1715" y="823"/>
                  </a:lnTo>
                  <a:lnTo>
                    <a:pt x="1763" y="796"/>
                  </a:lnTo>
                  <a:lnTo>
                    <a:pt x="1806" y="770"/>
                  </a:lnTo>
                  <a:lnTo>
                    <a:pt x="1875" y="728"/>
                  </a:lnTo>
                  <a:lnTo>
                    <a:pt x="1664" y="766"/>
                  </a:lnTo>
                  <a:lnTo>
                    <a:pt x="1462" y="804"/>
                  </a:lnTo>
                  <a:lnTo>
                    <a:pt x="1266" y="840"/>
                  </a:lnTo>
                  <a:lnTo>
                    <a:pt x="1076" y="872"/>
                  </a:lnTo>
                  <a:lnTo>
                    <a:pt x="888" y="899"/>
                  </a:lnTo>
                  <a:lnTo>
                    <a:pt x="702" y="918"/>
                  </a:lnTo>
                  <a:lnTo>
                    <a:pt x="325" y="927"/>
                  </a:lnTo>
                  <a:lnTo>
                    <a:pt x="175" y="910"/>
                  </a:lnTo>
                  <a:lnTo>
                    <a:pt x="72" y="868"/>
                  </a:lnTo>
                  <a:lnTo>
                    <a:pt x="15" y="808"/>
                  </a:lnTo>
                  <a:lnTo>
                    <a:pt x="0" y="728"/>
                  </a:lnTo>
                  <a:lnTo>
                    <a:pt x="4" y="680"/>
                  </a:lnTo>
                  <a:lnTo>
                    <a:pt x="19" y="631"/>
                  </a:lnTo>
                  <a:lnTo>
                    <a:pt x="42" y="578"/>
                  </a:lnTo>
                  <a:lnTo>
                    <a:pt x="74" y="521"/>
                  </a:lnTo>
                  <a:lnTo>
                    <a:pt x="93" y="490"/>
                  </a:lnTo>
                  <a:lnTo>
                    <a:pt x="112" y="462"/>
                  </a:lnTo>
                  <a:lnTo>
                    <a:pt x="135" y="429"/>
                  </a:lnTo>
                  <a:lnTo>
                    <a:pt x="158" y="399"/>
                  </a:lnTo>
                  <a:lnTo>
                    <a:pt x="184" y="367"/>
                  </a:lnTo>
                  <a:lnTo>
                    <a:pt x="211" y="334"/>
                  </a:lnTo>
                  <a:lnTo>
                    <a:pt x="240" y="300"/>
                  </a:lnTo>
                  <a:lnTo>
                    <a:pt x="270" y="268"/>
                  </a:lnTo>
                  <a:lnTo>
                    <a:pt x="295" y="304"/>
                  </a:lnTo>
                  <a:lnTo>
                    <a:pt x="323" y="340"/>
                  </a:lnTo>
                  <a:lnTo>
                    <a:pt x="354" y="374"/>
                  </a:lnTo>
                  <a:lnTo>
                    <a:pt x="384" y="408"/>
                  </a:lnTo>
                  <a:lnTo>
                    <a:pt x="420" y="443"/>
                  </a:lnTo>
                  <a:lnTo>
                    <a:pt x="456" y="475"/>
                  </a:lnTo>
                  <a:lnTo>
                    <a:pt x="494" y="505"/>
                  </a:lnTo>
                  <a:lnTo>
                    <a:pt x="534" y="534"/>
                  </a:lnTo>
                  <a:lnTo>
                    <a:pt x="574" y="561"/>
                  </a:lnTo>
                  <a:lnTo>
                    <a:pt x="614" y="583"/>
                  </a:lnTo>
                  <a:lnTo>
                    <a:pt x="700" y="623"/>
                  </a:lnTo>
                  <a:lnTo>
                    <a:pt x="789" y="656"/>
                  </a:lnTo>
                  <a:lnTo>
                    <a:pt x="882" y="676"/>
                  </a:lnTo>
                  <a:lnTo>
                    <a:pt x="1084" y="695"/>
                  </a:lnTo>
                  <a:lnTo>
                    <a:pt x="1281" y="676"/>
                  </a:lnTo>
                  <a:lnTo>
                    <a:pt x="1464" y="623"/>
                  </a:lnTo>
                  <a:lnTo>
                    <a:pt x="1550" y="583"/>
                  </a:lnTo>
                  <a:lnTo>
                    <a:pt x="1631" y="534"/>
                  </a:lnTo>
                  <a:lnTo>
                    <a:pt x="1669" y="505"/>
                  </a:lnTo>
                  <a:lnTo>
                    <a:pt x="1709" y="475"/>
                  </a:lnTo>
                  <a:lnTo>
                    <a:pt x="1745" y="441"/>
                  </a:lnTo>
                  <a:lnTo>
                    <a:pt x="1782" y="407"/>
                  </a:lnTo>
                  <a:lnTo>
                    <a:pt x="1816" y="370"/>
                  </a:lnTo>
                  <a:lnTo>
                    <a:pt x="1848" y="332"/>
                  </a:lnTo>
                  <a:lnTo>
                    <a:pt x="1877" y="294"/>
                  </a:lnTo>
                  <a:lnTo>
                    <a:pt x="1905" y="254"/>
                  </a:lnTo>
                  <a:lnTo>
                    <a:pt x="1930" y="215"/>
                  </a:lnTo>
                  <a:lnTo>
                    <a:pt x="1955" y="173"/>
                  </a:lnTo>
                  <a:lnTo>
                    <a:pt x="1994" y="87"/>
                  </a:lnTo>
                  <a:lnTo>
                    <a:pt x="1994" y="87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77840" y="2496960"/>
              <a:ext cx="482760" cy="909720"/>
            </a:xfrm>
            <a:custGeom>
              <a:avLst/>
              <a:gdLst/>
              <a:ahLst/>
              <a:rect l="l" t="t" r="r" b="b"/>
              <a:pathLst>
                <a:path w="609" h="1144">
                  <a:moveTo>
                    <a:pt x="607" y="424"/>
                  </a:moveTo>
                  <a:lnTo>
                    <a:pt x="578" y="458"/>
                  </a:lnTo>
                  <a:lnTo>
                    <a:pt x="548" y="490"/>
                  </a:lnTo>
                  <a:lnTo>
                    <a:pt x="520" y="524"/>
                  </a:lnTo>
                  <a:lnTo>
                    <a:pt x="493" y="557"/>
                  </a:lnTo>
                  <a:lnTo>
                    <a:pt x="466" y="589"/>
                  </a:lnTo>
                  <a:lnTo>
                    <a:pt x="442" y="623"/>
                  </a:lnTo>
                  <a:lnTo>
                    <a:pt x="417" y="656"/>
                  </a:lnTo>
                  <a:lnTo>
                    <a:pt x="394" y="688"/>
                  </a:lnTo>
                  <a:lnTo>
                    <a:pt x="371" y="720"/>
                  </a:lnTo>
                  <a:lnTo>
                    <a:pt x="350" y="753"/>
                  </a:lnTo>
                  <a:lnTo>
                    <a:pt x="331" y="785"/>
                  </a:lnTo>
                  <a:lnTo>
                    <a:pt x="312" y="815"/>
                  </a:lnTo>
                  <a:lnTo>
                    <a:pt x="280" y="876"/>
                  </a:lnTo>
                  <a:lnTo>
                    <a:pt x="253" y="937"/>
                  </a:lnTo>
                  <a:lnTo>
                    <a:pt x="352" y="916"/>
                  </a:lnTo>
                  <a:lnTo>
                    <a:pt x="559" y="870"/>
                  </a:lnTo>
                  <a:lnTo>
                    <a:pt x="535" y="952"/>
                  </a:lnTo>
                  <a:lnTo>
                    <a:pt x="514" y="996"/>
                  </a:lnTo>
                  <a:lnTo>
                    <a:pt x="491" y="1036"/>
                  </a:lnTo>
                  <a:lnTo>
                    <a:pt x="466" y="1068"/>
                  </a:lnTo>
                  <a:lnTo>
                    <a:pt x="440" y="1097"/>
                  </a:lnTo>
                  <a:lnTo>
                    <a:pt x="409" y="1117"/>
                  </a:lnTo>
                  <a:lnTo>
                    <a:pt x="377" y="1133"/>
                  </a:lnTo>
                  <a:lnTo>
                    <a:pt x="305" y="1144"/>
                  </a:lnTo>
                  <a:lnTo>
                    <a:pt x="229" y="1133"/>
                  </a:lnTo>
                  <a:lnTo>
                    <a:pt x="164" y="1097"/>
                  </a:lnTo>
                  <a:lnTo>
                    <a:pt x="111" y="1036"/>
                  </a:lnTo>
                  <a:lnTo>
                    <a:pt x="71" y="950"/>
                  </a:lnTo>
                  <a:lnTo>
                    <a:pt x="23" y="743"/>
                  </a:lnTo>
                  <a:lnTo>
                    <a:pt x="0" y="443"/>
                  </a:lnTo>
                  <a:lnTo>
                    <a:pt x="37" y="414"/>
                  </a:lnTo>
                  <a:lnTo>
                    <a:pt x="73" y="386"/>
                  </a:lnTo>
                  <a:lnTo>
                    <a:pt x="107" y="357"/>
                  </a:lnTo>
                  <a:lnTo>
                    <a:pt x="143" y="329"/>
                  </a:lnTo>
                  <a:lnTo>
                    <a:pt x="181" y="300"/>
                  </a:lnTo>
                  <a:lnTo>
                    <a:pt x="217" y="272"/>
                  </a:lnTo>
                  <a:lnTo>
                    <a:pt x="253" y="243"/>
                  </a:lnTo>
                  <a:lnTo>
                    <a:pt x="291" y="216"/>
                  </a:lnTo>
                  <a:lnTo>
                    <a:pt x="327" y="188"/>
                  </a:lnTo>
                  <a:lnTo>
                    <a:pt x="366" y="159"/>
                  </a:lnTo>
                  <a:lnTo>
                    <a:pt x="404" y="133"/>
                  </a:lnTo>
                  <a:lnTo>
                    <a:pt x="440" y="106"/>
                  </a:lnTo>
                  <a:lnTo>
                    <a:pt x="478" y="80"/>
                  </a:lnTo>
                  <a:lnTo>
                    <a:pt x="516" y="51"/>
                  </a:lnTo>
                  <a:lnTo>
                    <a:pt x="554" y="25"/>
                  </a:lnTo>
                  <a:lnTo>
                    <a:pt x="590" y="0"/>
                  </a:lnTo>
                  <a:lnTo>
                    <a:pt x="609" y="350"/>
                  </a:lnTo>
                  <a:lnTo>
                    <a:pt x="607" y="424"/>
                  </a:lnTo>
                  <a:lnTo>
                    <a:pt x="607" y="424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19160" y="2035080"/>
              <a:ext cx="486000" cy="390600"/>
            </a:xfrm>
            <a:custGeom>
              <a:avLst/>
              <a:gdLst/>
              <a:ahLst/>
              <a:rect l="l" t="t" r="r" b="b"/>
              <a:pathLst>
                <a:path w="613" h="493">
                  <a:moveTo>
                    <a:pt x="613" y="236"/>
                  </a:moveTo>
                  <a:lnTo>
                    <a:pt x="502" y="280"/>
                  </a:lnTo>
                  <a:lnTo>
                    <a:pt x="445" y="306"/>
                  </a:lnTo>
                  <a:lnTo>
                    <a:pt x="384" y="337"/>
                  </a:lnTo>
                  <a:lnTo>
                    <a:pt x="324" y="371"/>
                  </a:lnTo>
                  <a:lnTo>
                    <a:pt x="263" y="409"/>
                  </a:lnTo>
                  <a:lnTo>
                    <a:pt x="200" y="449"/>
                  </a:lnTo>
                  <a:lnTo>
                    <a:pt x="135" y="493"/>
                  </a:lnTo>
                  <a:lnTo>
                    <a:pt x="109" y="436"/>
                  </a:lnTo>
                  <a:lnTo>
                    <a:pt x="94" y="409"/>
                  </a:lnTo>
                  <a:lnTo>
                    <a:pt x="76" y="380"/>
                  </a:lnTo>
                  <a:lnTo>
                    <a:pt x="59" y="354"/>
                  </a:lnTo>
                  <a:lnTo>
                    <a:pt x="40" y="327"/>
                  </a:lnTo>
                  <a:lnTo>
                    <a:pt x="21" y="302"/>
                  </a:lnTo>
                  <a:lnTo>
                    <a:pt x="0" y="278"/>
                  </a:lnTo>
                  <a:lnTo>
                    <a:pt x="42" y="253"/>
                  </a:lnTo>
                  <a:lnTo>
                    <a:pt x="84" y="228"/>
                  </a:lnTo>
                  <a:lnTo>
                    <a:pt x="164" y="183"/>
                  </a:lnTo>
                  <a:lnTo>
                    <a:pt x="242" y="141"/>
                  </a:lnTo>
                  <a:lnTo>
                    <a:pt x="314" y="103"/>
                  </a:lnTo>
                  <a:lnTo>
                    <a:pt x="383" y="71"/>
                  </a:lnTo>
                  <a:lnTo>
                    <a:pt x="445" y="42"/>
                  </a:lnTo>
                  <a:lnTo>
                    <a:pt x="554" y="0"/>
                  </a:lnTo>
                  <a:lnTo>
                    <a:pt x="613" y="236"/>
                  </a:lnTo>
                  <a:lnTo>
                    <a:pt x="613" y="236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70200" y="4573440"/>
              <a:ext cx="1152360" cy="741600"/>
            </a:xfrm>
            <a:custGeom>
              <a:avLst/>
              <a:gdLst/>
              <a:ahLst/>
              <a:rect l="l" t="t" r="r" b="b"/>
              <a:pathLst>
                <a:path w="1450" h="934">
                  <a:moveTo>
                    <a:pt x="1450" y="0"/>
                  </a:moveTo>
                  <a:lnTo>
                    <a:pt x="1441" y="93"/>
                  </a:lnTo>
                  <a:lnTo>
                    <a:pt x="1424" y="183"/>
                  </a:lnTo>
                  <a:lnTo>
                    <a:pt x="1399" y="268"/>
                  </a:lnTo>
                  <a:lnTo>
                    <a:pt x="1386" y="310"/>
                  </a:lnTo>
                  <a:lnTo>
                    <a:pt x="1369" y="352"/>
                  </a:lnTo>
                  <a:lnTo>
                    <a:pt x="1350" y="390"/>
                  </a:lnTo>
                  <a:lnTo>
                    <a:pt x="1331" y="430"/>
                  </a:lnTo>
                  <a:lnTo>
                    <a:pt x="1308" y="468"/>
                  </a:lnTo>
                  <a:lnTo>
                    <a:pt x="1283" y="506"/>
                  </a:lnTo>
                  <a:lnTo>
                    <a:pt x="1258" y="540"/>
                  </a:lnTo>
                  <a:lnTo>
                    <a:pt x="1230" y="576"/>
                  </a:lnTo>
                  <a:lnTo>
                    <a:pt x="1201" y="610"/>
                  </a:lnTo>
                  <a:lnTo>
                    <a:pt x="1169" y="645"/>
                  </a:lnTo>
                  <a:lnTo>
                    <a:pt x="1133" y="679"/>
                  </a:lnTo>
                  <a:lnTo>
                    <a:pt x="1097" y="711"/>
                  </a:lnTo>
                  <a:lnTo>
                    <a:pt x="1059" y="742"/>
                  </a:lnTo>
                  <a:lnTo>
                    <a:pt x="1021" y="772"/>
                  </a:lnTo>
                  <a:lnTo>
                    <a:pt x="981" y="797"/>
                  </a:lnTo>
                  <a:lnTo>
                    <a:pt x="939" y="821"/>
                  </a:lnTo>
                  <a:lnTo>
                    <a:pt x="855" y="861"/>
                  </a:lnTo>
                  <a:lnTo>
                    <a:pt x="766" y="894"/>
                  </a:lnTo>
                  <a:lnTo>
                    <a:pt x="673" y="917"/>
                  </a:lnTo>
                  <a:lnTo>
                    <a:pt x="475" y="934"/>
                  </a:lnTo>
                  <a:lnTo>
                    <a:pt x="224" y="905"/>
                  </a:lnTo>
                  <a:lnTo>
                    <a:pt x="110" y="869"/>
                  </a:lnTo>
                  <a:lnTo>
                    <a:pt x="0" y="820"/>
                  </a:lnTo>
                  <a:lnTo>
                    <a:pt x="76" y="785"/>
                  </a:lnTo>
                  <a:lnTo>
                    <a:pt x="152" y="747"/>
                  </a:lnTo>
                  <a:lnTo>
                    <a:pt x="230" y="706"/>
                  </a:lnTo>
                  <a:lnTo>
                    <a:pt x="312" y="660"/>
                  </a:lnTo>
                  <a:lnTo>
                    <a:pt x="346" y="690"/>
                  </a:lnTo>
                  <a:lnTo>
                    <a:pt x="386" y="713"/>
                  </a:lnTo>
                  <a:lnTo>
                    <a:pt x="475" y="730"/>
                  </a:lnTo>
                  <a:lnTo>
                    <a:pt x="547" y="719"/>
                  </a:lnTo>
                  <a:lnTo>
                    <a:pt x="608" y="683"/>
                  </a:lnTo>
                  <a:lnTo>
                    <a:pt x="659" y="622"/>
                  </a:lnTo>
                  <a:lnTo>
                    <a:pt x="701" y="538"/>
                  </a:lnTo>
                  <a:lnTo>
                    <a:pt x="739" y="401"/>
                  </a:lnTo>
                  <a:lnTo>
                    <a:pt x="783" y="375"/>
                  </a:lnTo>
                  <a:lnTo>
                    <a:pt x="827" y="348"/>
                  </a:lnTo>
                  <a:lnTo>
                    <a:pt x="871" y="322"/>
                  </a:lnTo>
                  <a:lnTo>
                    <a:pt x="914" y="295"/>
                  </a:lnTo>
                  <a:lnTo>
                    <a:pt x="958" y="268"/>
                  </a:lnTo>
                  <a:lnTo>
                    <a:pt x="1002" y="242"/>
                  </a:lnTo>
                  <a:lnTo>
                    <a:pt x="1047" y="215"/>
                  </a:lnTo>
                  <a:lnTo>
                    <a:pt x="1091" y="190"/>
                  </a:lnTo>
                  <a:lnTo>
                    <a:pt x="1135" y="164"/>
                  </a:lnTo>
                  <a:lnTo>
                    <a:pt x="1180" y="139"/>
                  </a:lnTo>
                  <a:lnTo>
                    <a:pt x="1226" y="114"/>
                  </a:lnTo>
                  <a:lnTo>
                    <a:pt x="1270" y="92"/>
                  </a:lnTo>
                  <a:lnTo>
                    <a:pt x="1359" y="44"/>
                  </a:lnTo>
                  <a:lnTo>
                    <a:pt x="1450" y="0"/>
                  </a:lnTo>
                  <a:lnTo>
                    <a:pt x="1450" y="0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71840" y="3728880"/>
              <a:ext cx="1336680" cy="804960"/>
            </a:xfrm>
            <a:custGeom>
              <a:avLst/>
              <a:gdLst/>
              <a:ahLst/>
              <a:rect l="l" t="t" r="r" b="b"/>
              <a:pathLst>
                <a:path w="1684" h="1013">
                  <a:moveTo>
                    <a:pt x="0" y="302"/>
                  </a:moveTo>
                  <a:lnTo>
                    <a:pt x="19" y="281"/>
                  </a:lnTo>
                  <a:lnTo>
                    <a:pt x="55" y="249"/>
                  </a:lnTo>
                  <a:lnTo>
                    <a:pt x="91" y="217"/>
                  </a:lnTo>
                  <a:lnTo>
                    <a:pt x="129" y="186"/>
                  </a:lnTo>
                  <a:lnTo>
                    <a:pt x="167" y="160"/>
                  </a:lnTo>
                  <a:lnTo>
                    <a:pt x="207" y="133"/>
                  </a:lnTo>
                  <a:lnTo>
                    <a:pt x="247" y="110"/>
                  </a:lnTo>
                  <a:lnTo>
                    <a:pt x="332" y="70"/>
                  </a:lnTo>
                  <a:lnTo>
                    <a:pt x="424" y="40"/>
                  </a:lnTo>
                  <a:lnTo>
                    <a:pt x="517" y="17"/>
                  </a:lnTo>
                  <a:lnTo>
                    <a:pt x="720" y="0"/>
                  </a:lnTo>
                  <a:lnTo>
                    <a:pt x="924" y="17"/>
                  </a:lnTo>
                  <a:lnTo>
                    <a:pt x="1108" y="70"/>
                  </a:lnTo>
                  <a:lnTo>
                    <a:pt x="1194" y="110"/>
                  </a:lnTo>
                  <a:lnTo>
                    <a:pt x="1276" y="160"/>
                  </a:lnTo>
                  <a:lnTo>
                    <a:pt x="1314" y="186"/>
                  </a:lnTo>
                  <a:lnTo>
                    <a:pt x="1352" y="217"/>
                  </a:lnTo>
                  <a:lnTo>
                    <a:pt x="1388" y="249"/>
                  </a:lnTo>
                  <a:lnTo>
                    <a:pt x="1424" y="281"/>
                  </a:lnTo>
                  <a:lnTo>
                    <a:pt x="1449" y="308"/>
                  </a:lnTo>
                  <a:lnTo>
                    <a:pt x="1473" y="336"/>
                  </a:lnTo>
                  <a:lnTo>
                    <a:pt x="1496" y="363"/>
                  </a:lnTo>
                  <a:lnTo>
                    <a:pt x="1517" y="391"/>
                  </a:lnTo>
                  <a:lnTo>
                    <a:pt x="1538" y="420"/>
                  </a:lnTo>
                  <a:lnTo>
                    <a:pt x="1557" y="450"/>
                  </a:lnTo>
                  <a:lnTo>
                    <a:pt x="1591" y="511"/>
                  </a:lnTo>
                  <a:lnTo>
                    <a:pt x="1622" y="574"/>
                  </a:lnTo>
                  <a:lnTo>
                    <a:pt x="1646" y="639"/>
                  </a:lnTo>
                  <a:lnTo>
                    <a:pt x="1684" y="777"/>
                  </a:lnTo>
                  <a:lnTo>
                    <a:pt x="1603" y="806"/>
                  </a:lnTo>
                  <a:lnTo>
                    <a:pt x="1521" y="834"/>
                  </a:lnTo>
                  <a:lnTo>
                    <a:pt x="1437" y="863"/>
                  </a:lnTo>
                  <a:lnTo>
                    <a:pt x="1355" y="893"/>
                  </a:lnTo>
                  <a:lnTo>
                    <a:pt x="1272" y="924"/>
                  </a:lnTo>
                  <a:lnTo>
                    <a:pt x="1188" y="954"/>
                  </a:lnTo>
                  <a:lnTo>
                    <a:pt x="1106" y="983"/>
                  </a:lnTo>
                  <a:lnTo>
                    <a:pt x="1026" y="1013"/>
                  </a:lnTo>
                  <a:lnTo>
                    <a:pt x="1026" y="998"/>
                  </a:lnTo>
                  <a:lnTo>
                    <a:pt x="1021" y="806"/>
                  </a:lnTo>
                  <a:lnTo>
                    <a:pt x="1007" y="642"/>
                  </a:lnTo>
                  <a:lnTo>
                    <a:pt x="985" y="505"/>
                  </a:lnTo>
                  <a:lnTo>
                    <a:pt x="969" y="447"/>
                  </a:lnTo>
                  <a:lnTo>
                    <a:pt x="952" y="395"/>
                  </a:lnTo>
                  <a:lnTo>
                    <a:pt x="933" y="352"/>
                  </a:lnTo>
                  <a:lnTo>
                    <a:pt x="910" y="312"/>
                  </a:lnTo>
                  <a:lnTo>
                    <a:pt x="888" y="277"/>
                  </a:lnTo>
                  <a:lnTo>
                    <a:pt x="859" y="251"/>
                  </a:lnTo>
                  <a:lnTo>
                    <a:pt x="831" y="230"/>
                  </a:lnTo>
                  <a:lnTo>
                    <a:pt x="798" y="215"/>
                  </a:lnTo>
                  <a:lnTo>
                    <a:pt x="726" y="203"/>
                  </a:lnTo>
                  <a:lnTo>
                    <a:pt x="627" y="226"/>
                  </a:lnTo>
                  <a:lnTo>
                    <a:pt x="547" y="293"/>
                  </a:lnTo>
                  <a:lnTo>
                    <a:pt x="279" y="275"/>
                  </a:lnTo>
                  <a:lnTo>
                    <a:pt x="0" y="302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367000" y="4351320"/>
              <a:ext cx="330120" cy="303120"/>
            </a:xfrm>
            <a:custGeom>
              <a:avLst/>
              <a:gdLst/>
              <a:ahLst/>
              <a:rect l="l" t="t" r="r" b="b"/>
              <a:pathLst>
                <a:path w="417" h="384">
                  <a:moveTo>
                    <a:pt x="0" y="213"/>
                  </a:moveTo>
                  <a:lnTo>
                    <a:pt x="2" y="122"/>
                  </a:lnTo>
                  <a:lnTo>
                    <a:pt x="124" y="84"/>
                  </a:lnTo>
                  <a:lnTo>
                    <a:pt x="234" y="49"/>
                  </a:lnTo>
                  <a:lnTo>
                    <a:pt x="333" y="21"/>
                  </a:lnTo>
                  <a:lnTo>
                    <a:pt x="417" y="0"/>
                  </a:lnTo>
                  <a:lnTo>
                    <a:pt x="373" y="42"/>
                  </a:lnTo>
                  <a:lnTo>
                    <a:pt x="325" y="87"/>
                  </a:lnTo>
                  <a:lnTo>
                    <a:pt x="276" y="135"/>
                  </a:lnTo>
                  <a:lnTo>
                    <a:pt x="223" y="182"/>
                  </a:lnTo>
                  <a:lnTo>
                    <a:pt x="196" y="205"/>
                  </a:lnTo>
                  <a:lnTo>
                    <a:pt x="169" y="230"/>
                  </a:lnTo>
                  <a:lnTo>
                    <a:pt x="143" y="257"/>
                  </a:lnTo>
                  <a:lnTo>
                    <a:pt x="116" y="281"/>
                  </a:lnTo>
                  <a:lnTo>
                    <a:pt x="90" y="306"/>
                  </a:lnTo>
                  <a:lnTo>
                    <a:pt x="63" y="331"/>
                  </a:lnTo>
                  <a:lnTo>
                    <a:pt x="38" y="357"/>
                  </a:lnTo>
                  <a:lnTo>
                    <a:pt x="12" y="384"/>
                  </a:lnTo>
                  <a:lnTo>
                    <a:pt x="0" y="213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454120" y="1981080"/>
              <a:ext cx="1046160" cy="1033560"/>
            </a:xfrm>
            <a:custGeom>
              <a:avLst/>
              <a:gdLst/>
              <a:ahLst/>
              <a:rect l="l" t="t" r="r" b="b"/>
              <a:pathLst>
                <a:path w="1318" h="1302">
                  <a:moveTo>
                    <a:pt x="0" y="1302"/>
                  </a:moveTo>
                  <a:lnTo>
                    <a:pt x="843" y="0"/>
                  </a:lnTo>
                  <a:lnTo>
                    <a:pt x="1318" y="0"/>
                  </a:lnTo>
                  <a:lnTo>
                    <a:pt x="514" y="1243"/>
                  </a:lnTo>
                  <a:lnTo>
                    <a:pt x="0" y="1302"/>
                  </a:lnTo>
                  <a:lnTo>
                    <a:pt x="0" y="1302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961920" y="4622760"/>
              <a:ext cx="827280" cy="692280"/>
            </a:xfrm>
            <a:custGeom>
              <a:avLst/>
              <a:gdLst/>
              <a:ahLst/>
              <a:rect l="l" t="t" r="r" b="b"/>
              <a:pathLst>
                <a:path w="1042" h="873">
                  <a:moveTo>
                    <a:pt x="0" y="873"/>
                  </a:moveTo>
                  <a:lnTo>
                    <a:pt x="498" y="107"/>
                  </a:lnTo>
                  <a:lnTo>
                    <a:pt x="759" y="67"/>
                  </a:lnTo>
                  <a:lnTo>
                    <a:pt x="899" y="34"/>
                  </a:lnTo>
                  <a:lnTo>
                    <a:pt x="1042" y="0"/>
                  </a:lnTo>
                  <a:lnTo>
                    <a:pt x="475" y="873"/>
                  </a:lnTo>
                  <a:lnTo>
                    <a:pt x="0" y="873"/>
                  </a:lnTo>
                  <a:lnTo>
                    <a:pt x="0" y="873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21000" y="2425680"/>
              <a:ext cx="576000" cy="763560"/>
            </a:xfrm>
            <a:custGeom>
              <a:avLst/>
              <a:gdLst/>
              <a:ahLst/>
              <a:rect l="l" t="t" r="r" b="b"/>
              <a:pathLst>
                <a:path w="727" h="961">
                  <a:moveTo>
                    <a:pt x="639" y="0"/>
                  </a:moveTo>
                  <a:lnTo>
                    <a:pt x="660" y="49"/>
                  </a:lnTo>
                  <a:lnTo>
                    <a:pt x="677" y="100"/>
                  </a:lnTo>
                  <a:lnTo>
                    <a:pt x="704" y="207"/>
                  </a:lnTo>
                  <a:lnTo>
                    <a:pt x="727" y="435"/>
                  </a:lnTo>
                  <a:lnTo>
                    <a:pt x="721" y="539"/>
                  </a:lnTo>
                  <a:lnTo>
                    <a:pt x="708" y="640"/>
                  </a:lnTo>
                  <a:lnTo>
                    <a:pt x="685" y="737"/>
                  </a:lnTo>
                  <a:lnTo>
                    <a:pt x="654" y="830"/>
                  </a:lnTo>
                  <a:lnTo>
                    <a:pt x="470" y="864"/>
                  </a:lnTo>
                  <a:lnTo>
                    <a:pt x="299" y="899"/>
                  </a:lnTo>
                  <a:lnTo>
                    <a:pt x="141" y="931"/>
                  </a:lnTo>
                  <a:lnTo>
                    <a:pt x="0" y="961"/>
                  </a:lnTo>
                  <a:lnTo>
                    <a:pt x="35" y="766"/>
                  </a:lnTo>
                  <a:lnTo>
                    <a:pt x="48" y="517"/>
                  </a:lnTo>
                  <a:lnTo>
                    <a:pt x="82" y="480"/>
                  </a:lnTo>
                  <a:lnTo>
                    <a:pt x="115" y="446"/>
                  </a:lnTo>
                  <a:lnTo>
                    <a:pt x="151" y="410"/>
                  </a:lnTo>
                  <a:lnTo>
                    <a:pt x="185" y="376"/>
                  </a:lnTo>
                  <a:lnTo>
                    <a:pt x="221" y="342"/>
                  </a:lnTo>
                  <a:lnTo>
                    <a:pt x="257" y="307"/>
                  </a:lnTo>
                  <a:lnTo>
                    <a:pt x="295" y="275"/>
                  </a:lnTo>
                  <a:lnTo>
                    <a:pt x="331" y="241"/>
                  </a:lnTo>
                  <a:lnTo>
                    <a:pt x="369" y="209"/>
                  </a:lnTo>
                  <a:lnTo>
                    <a:pt x="407" y="176"/>
                  </a:lnTo>
                  <a:lnTo>
                    <a:pt x="445" y="146"/>
                  </a:lnTo>
                  <a:lnTo>
                    <a:pt x="483" y="116"/>
                  </a:lnTo>
                  <a:lnTo>
                    <a:pt x="523" y="85"/>
                  </a:lnTo>
                  <a:lnTo>
                    <a:pt x="561" y="57"/>
                  </a:lnTo>
                  <a:lnTo>
                    <a:pt x="599" y="28"/>
                  </a:lnTo>
                  <a:lnTo>
                    <a:pt x="639" y="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9640" y="1981080"/>
              <a:ext cx="1379520" cy="1246320"/>
            </a:xfrm>
            <a:custGeom>
              <a:avLst/>
              <a:gdLst/>
              <a:ahLst/>
              <a:rect l="l" t="t" r="r" b="b"/>
              <a:pathLst>
                <a:path w="1737" h="1570">
                  <a:moveTo>
                    <a:pt x="0" y="994"/>
                  </a:moveTo>
                  <a:lnTo>
                    <a:pt x="3" y="889"/>
                  </a:lnTo>
                  <a:lnTo>
                    <a:pt x="17" y="789"/>
                  </a:lnTo>
                  <a:lnTo>
                    <a:pt x="38" y="694"/>
                  </a:lnTo>
                  <a:lnTo>
                    <a:pt x="68" y="602"/>
                  </a:lnTo>
                  <a:lnTo>
                    <a:pt x="87" y="557"/>
                  </a:lnTo>
                  <a:lnTo>
                    <a:pt x="108" y="515"/>
                  </a:lnTo>
                  <a:lnTo>
                    <a:pt x="131" y="473"/>
                  </a:lnTo>
                  <a:lnTo>
                    <a:pt x="155" y="433"/>
                  </a:lnTo>
                  <a:lnTo>
                    <a:pt x="182" y="393"/>
                  </a:lnTo>
                  <a:lnTo>
                    <a:pt x="213" y="355"/>
                  </a:lnTo>
                  <a:lnTo>
                    <a:pt x="243" y="317"/>
                  </a:lnTo>
                  <a:lnTo>
                    <a:pt x="277" y="283"/>
                  </a:lnTo>
                  <a:lnTo>
                    <a:pt x="311" y="249"/>
                  </a:lnTo>
                  <a:lnTo>
                    <a:pt x="349" y="216"/>
                  </a:lnTo>
                  <a:lnTo>
                    <a:pt x="386" y="186"/>
                  </a:lnTo>
                  <a:lnTo>
                    <a:pt x="425" y="159"/>
                  </a:lnTo>
                  <a:lnTo>
                    <a:pt x="465" y="133"/>
                  </a:lnTo>
                  <a:lnTo>
                    <a:pt x="505" y="110"/>
                  </a:lnTo>
                  <a:lnTo>
                    <a:pt x="591" y="70"/>
                  </a:lnTo>
                  <a:lnTo>
                    <a:pt x="682" y="40"/>
                  </a:lnTo>
                  <a:lnTo>
                    <a:pt x="775" y="17"/>
                  </a:lnTo>
                  <a:lnTo>
                    <a:pt x="979" y="0"/>
                  </a:lnTo>
                  <a:lnTo>
                    <a:pt x="1180" y="17"/>
                  </a:lnTo>
                  <a:lnTo>
                    <a:pt x="1367" y="70"/>
                  </a:lnTo>
                  <a:lnTo>
                    <a:pt x="1452" y="110"/>
                  </a:lnTo>
                  <a:lnTo>
                    <a:pt x="1532" y="159"/>
                  </a:lnTo>
                  <a:lnTo>
                    <a:pt x="1572" y="186"/>
                  </a:lnTo>
                  <a:lnTo>
                    <a:pt x="1610" y="216"/>
                  </a:lnTo>
                  <a:lnTo>
                    <a:pt x="1646" y="249"/>
                  </a:lnTo>
                  <a:lnTo>
                    <a:pt x="1682" y="283"/>
                  </a:lnTo>
                  <a:lnTo>
                    <a:pt x="1711" y="313"/>
                  </a:lnTo>
                  <a:lnTo>
                    <a:pt x="1737" y="344"/>
                  </a:lnTo>
                  <a:lnTo>
                    <a:pt x="1682" y="378"/>
                  </a:lnTo>
                  <a:lnTo>
                    <a:pt x="1625" y="412"/>
                  </a:lnTo>
                  <a:lnTo>
                    <a:pt x="1566" y="450"/>
                  </a:lnTo>
                  <a:lnTo>
                    <a:pt x="1507" y="488"/>
                  </a:lnTo>
                  <a:lnTo>
                    <a:pt x="1448" y="526"/>
                  </a:lnTo>
                  <a:lnTo>
                    <a:pt x="1388" y="566"/>
                  </a:lnTo>
                  <a:lnTo>
                    <a:pt x="1329" y="608"/>
                  </a:lnTo>
                  <a:lnTo>
                    <a:pt x="1268" y="650"/>
                  </a:lnTo>
                  <a:lnTo>
                    <a:pt x="1243" y="509"/>
                  </a:lnTo>
                  <a:lnTo>
                    <a:pt x="1228" y="448"/>
                  </a:lnTo>
                  <a:lnTo>
                    <a:pt x="1211" y="395"/>
                  </a:lnTo>
                  <a:lnTo>
                    <a:pt x="1190" y="349"/>
                  </a:lnTo>
                  <a:lnTo>
                    <a:pt x="1169" y="311"/>
                  </a:lnTo>
                  <a:lnTo>
                    <a:pt x="1144" y="277"/>
                  </a:lnTo>
                  <a:lnTo>
                    <a:pt x="1116" y="251"/>
                  </a:lnTo>
                  <a:lnTo>
                    <a:pt x="1087" y="230"/>
                  </a:lnTo>
                  <a:lnTo>
                    <a:pt x="1053" y="215"/>
                  </a:lnTo>
                  <a:lnTo>
                    <a:pt x="983" y="203"/>
                  </a:lnTo>
                  <a:lnTo>
                    <a:pt x="910" y="215"/>
                  </a:lnTo>
                  <a:lnTo>
                    <a:pt x="848" y="249"/>
                  </a:lnTo>
                  <a:lnTo>
                    <a:pt x="794" y="306"/>
                  </a:lnTo>
                  <a:lnTo>
                    <a:pt x="751" y="386"/>
                  </a:lnTo>
                  <a:lnTo>
                    <a:pt x="695" y="616"/>
                  </a:lnTo>
                  <a:lnTo>
                    <a:pt x="676" y="941"/>
                  </a:lnTo>
                  <a:lnTo>
                    <a:pt x="678" y="1093"/>
                  </a:lnTo>
                  <a:lnTo>
                    <a:pt x="640" y="1125"/>
                  </a:lnTo>
                  <a:lnTo>
                    <a:pt x="604" y="1154"/>
                  </a:lnTo>
                  <a:lnTo>
                    <a:pt x="570" y="1184"/>
                  </a:lnTo>
                  <a:lnTo>
                    <a:pt x="534" y="1216"/>
                  </a:lnTo>
                  <a:lnTo>
                    <a:pt x="500" y="1247"/>
                  </a:lnTo>
                  <a:lnTo>
                    <a:pt x="465" y="1275"/>
                  </a:lnTo>
                  <a:lnTo>
                    <a:pt x="431" y="1306"/>
                  </a:lnTo>
                  <a:lnTo>
                    <a:pt x="399" y="1336"/>
                  </a:lnTo>
                  <a:lnTo>
                    <a:pt x="367" y="1366"/>
                  </a:lnTo>
                  <a:lnTo>
                    <a:pt x="336" y="1395"/>
                  </a:lnTo>
                  <a:lnTo>
                    <a:pt x="306" y="1425"/>
                  </a:lnTo>
                  <a:lnTo>
                    <a:pt x="275" y="1456"/>
                  </a:lnTo>
                  <a:lnTo>
                    <a:pt x="247" y="1484"/>
                  </a:lnTo>
                  <a:lnTo>
                    <a:pt x="218" y="1513"/>
                  </a:lnTo>
                  <a:lnTo>
                    <a:pt x="192" y="1541"/>
                  </a:lnTo>
                  <a:lnTo>
                    <a:pt x="165" y="1570"/>
                  </a:lnTo>
                  <a:lnTo>
                    <a:pt x="144" y="1539"/>
                  </a:lnTo>
                  <a:lnTo>
                    <a:pt x="127" y="1507"/>
                  </a:lnTo>
                  <a:lnTo>
                    <a:pt x="93" y="1442"/>
                  </a:lnTo>
                  <a:lnTo>
                    <a:pt x="64" y="1374"/>
                  </a:lnTo>
                  <a:lnTo>
                    <a:pt x="40" y="1304"/>
                  </a:lnTo>
                  <a:lnTo>
                    <a:pt x="9" y="1154"/>
                  </a:lnTo>
                  <a:lnTo>
                    <a:pt x="0" y="994"/>
                  </a:lnTo>
                  <a:lnTo>
                    <a:pt x="0" y="994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66680" y="1600200"/>
            <a:ext cx="71614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-25000">
                <a:solidFill>
                  <a:srgbClr val="000000"/>
                </a:solidFill>
                <a:latin typeface="Comic Sans MS"/>
              </a:rPr>
              <a:t>82%  =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 82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Comic Sans MS"/>
              </a:rPr>
              <a:t>=  0.8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19320" y="3079800"/>
            <a:ext cx="757080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-25000">
                <a:solidFill>
                  <a:srgbClr val="3333cc"/>
                </a:solidFill>
                <a:latin typeface="Comic Sans MS"/>
              </a:rPr>
              <a:t>2%  =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  2  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US" sz="5400" spc="-1" strike="noStrike" baseline="-25000">
                <a:solidFill>
                  <a:srgbClr val="3333cc"/>
                </a:solidFill>
                <a:latin typeface="Comic Sans MS"/>
              </a:rPr>
              <a:t>=  0.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66680" y="4648320"/>
            <a:ext cx="71614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baseline="-25000">
                <a:solidFill>
                  <a:srgbClr val="cc66ff"/>
                </a:solidFill>
                <a:latin typeface="Comic Sans MS"/>
              </a:rPr>
              <a:t>157%  =</a:t>
            </a:r>
            <a:r>
              <a:rPr b="1" lang="en-US" sz="3600" spc="-1" strike="noStrike">
                <a:solidFill>
                  <a:srgbClr val="cc66ff"/>
                </a:solidFill>
                <a:latin typeface="Comic Sans MS"/>
              </a:rPr>
              <a:t>  </a:t>
            </a:r>
            <a:r>
              <a:rPr b="1" lang="en-US" sz="3600" spc="-1" strike="noStrike" u="sng">
                <a:solidFill>
                  <a:srgbClr val="cc66ff"/>
                </a:solidFill>
                <a:uFillTx/>
                <a:latin typeface="Comic Sans MS"/>
              </a:rPr>
              <a:t>157 </a:t>
            </a:r>
            <a:r>
              <a:rPr b="1" lang="en-US" sz="3600" spc="-1" strike="noStrike">
                <a:solidFill>
                  <a:srgbClr val="cc66ff"/>
                </a:solidFill>
                <a:latin typeface="Comic Sans MS"/>
              </a:rPr>
              <a:t>  </a:t>
            </a:r>
            <a:r>
              <a:rPr b="1" lang="en-US" sz="5400" spc="-1" strike="noStrike" baseline="-25000">
                <a:solidFill>
                  <a:srgbClr val="cc66ff"/>
                </a:solidFill>
                <a:latin typeface="Comic Sans MS"/>
              </a:rPr>
              <a:t>=  1.5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Comic Sans MS"/>
              </a:rPr>
              <a:t>            </a:t>
            </a:r>
            <a:r>
              <a:rPr b="1" lang="en-US" sz="3600" spc="-1" strike="noStrike">
                <a:solidFill>
                  <a:srgbClr val="cc66ff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774880" y="176832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3.3%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983120" y="1447920"/>
            <a:ext cx="108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33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4254480" y="2743200"/>
            <a:ext cx="2948400" cy="1191240"/>
            <a:chOff x="4254480" y="2743200"/>
            <a:chExt cx="2948400" cy="1191240"/>
          </a:xfrm>
        </p:grpSpPr>
        <p:sp>
          <p:nvSpPr>
            <p:cNvPr id="622" name=""/>
            <p:cNvSpPr/>
            <p:nvPr/>
          </p:nvSpPr>
          <p:spPr>
            <a:xfrm>
              <a:off x="5109480" y="2743200"/>
              <a:ext cx="2093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33.3 x 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 x 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54480" y="2971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86520" y="4114800"/>
            <a:ext cx="2081160" cy="1191240"/>
            <a:chOff x="4286520" y="4114800"/>
            <a:chExt cx="2081160" cy="1191240"/>
          </a:xfrm>
        </p:grpSpPr>
        <p:sp>
          <p:nvSpPr>
            <p:cNvPr id="625" name=""/>
            <p:cNvSpPr/>
            <p:nvPr/>
          </p:nvSpPr>
          <p:spPr>
            <a:xfrm>
              <a:off x="5138280" y="411480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333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86520" y="4343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835000" y="5683320"/>
            <a:ext cx="3248280" cy="642600"/>
            <a:chOff x="2835000" y="5683320"/>
            <a:chExt cx="3248280" cy="642600"/>
          </a:xfrm>
        </p:grpSpPr>
        <p:sp>
          <p:nvSpPr>
            <p:cNvPr id="628" name=""/>
            <p:cNvSpPr/>
            <p:nvPr/>
          </p:nvSpPr>
          <p:spPr>
            <a:xfrm>
              <a:off x="4613400" y="5683320"/>
              <a:ext cx="146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0.33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35000" y="5683320"/>
              <a:ext cx="184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3.3%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0" y="2514600"/>
            <a:ext cx="61689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baseline="-25000">
                <a:solidFill>
                  <a:srgbClr val="000000"/>
                </a:solidFill>
                <a:latin typeface="Comic Sans MS"/>
              </a:rPr>
              <a:t>82%  =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82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omic Sans MS"/>
              </a:rPr>
              <a:t>=  0.8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29600" y="4191120"/>
            <a:ext cx="20512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82 %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533520" y="1324080"/>
            <a:ext cx="2266920" cy="253188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4032000" y="4191120"/>
            <a:ext cx="103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0 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106600" y="4038480"/>
            <a:ext cx="619200" cy="2286360"/>
            <a:chOff x="5106600" y="4038480"/>
            <a:chExt cx="619200" cy="2286360"/>
          </a:xfrm>
        </p:grpSpPr>
        <p:sp>
          <p:nvSpPr>
            <p:cNvPr id="636" name=""/>
            <p:cNvSpPr/>
            <p:nvPr/>
          </p:nvSpPr>
          <p:spPr>
            <a:xfrm flipH="1">
              <a:off x="5497200" y="4848120"/>
              <a:ext cx="228600" cy="91440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5322600" y="4919760"/>
              <a:ext cx="174600" cy="76680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17760" y="5748480"/>
              <a:ext cx="519840" cy="576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06600" y="4038480"/>
              <a:ext cx="38484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725800" y="4022640"/>
            <a:ext cx="826200" cy="2273760"/>
            <a:chOff x="5725800" y="4022640"/>
            <a:chExt cx="826200" cy="2273760"/>
          </a:xfrm>
        </p:grpSpPr>
        <p:sp>
          <p:nvSpPr>
            <p:cNvPr id="641" name=""/>
            <p:cNvSpPr/>
            <p:nvPr/>
          </p:nvSpPr>
          <p:spPr>
            <a:xfrm flipH="1">
              <a:off x="6030720" y="4857840"/>
              <a:ext cx="347400" cy="904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5725800" y="4847760"/>
              <a:ext cx="304920" cy="838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167160" y="4022640"/>
              <a:ext cx="38484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43880" y="5715000"/>
              <a:ext cx="4140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27280" y="4129200"/>
            <a:ext cx="103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8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12840" y="4205160"/>
            <a:ext cx="189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= 0.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80880" y="1320840"/>
            <a:ext cx="8534520" cy="4851360"/>
          </a:xfrm>
          <a:custGeom>
            <a:avLst/>
            <a:gdLst>
              <a:gd name="textAreaLeft" fmla="*/ 1948320 w 8534520"/>
              <a:gd name="textAreaRight" fmla="*/ 6586200 w 8534520"/>
              <a:gd name="textAreaTop" fmla="*/ 1107360 h 4851360"/>
              <a:gd name="textAreaBottom" fmla="*/ 3744000 h 4851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679400" y="2895480"/>
            <a:ext cx="1581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45%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3962520" y="3580920"/>
            <a:ext cx="650160" cy="1448280"/>
            <a:chOff x="3962520" y="3580920"/>
            <a:chExt cx="650160" cy="1448280"/>
          </a:xfrm>
        </p:grpSpPr>
        <p:sp>
          <p:nvSpPr>
            <p:cNvPr id="650" name=""/>
            <p:cNvSpPr/>
            <p:nvPr/>
          </p:nvSpPr>
          <p:spPr>
            <a:xfrm flipH="1">
              <a:off x="4419360" y="3581280"/>
              <a:ext cx="152280" cy="8384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3962520" y="3580920"/>
              <a:ext cx="457200" cy="762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197960" y="4452840"/>
              <a:ext cx="414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99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408640" y="2895480"/>
            <a:ext cx="21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= 0.4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345840" y="2895480"/>
            <a:ext cx="171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= 4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4572000" y="3580920"/>
            <a:ext cx="609120" cy="1420200"/>
            <a:chOff x="4572000" y="3580920"/>
            <a:chExt cx="609120" cy="1420200"/>
          </a:xfrm>
        </p:grpSpPr>
        <p:sp>
          <p:nvSpPr>
            <p:cNvPr id="657" name=""/>
            <p:cNvSpPr/>
            <p:nvPr/>
          </p:nvSpPr>
          <p:spPr>
            <a:xfrm flipH="1">
              <a:off x="4952520" y="3581280"/>
              <a:ext cx="228600" cy="8384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4572000" y="3580920"/>
              <a:ext cx="380880" cy="8384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758480" y="44197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99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7200" y="147636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61560" y="254160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1%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460600" y="2238480"/>
            <a:ext cx="1885680" cy="1345320"/>
            <a:chOff x="2460600" y="2238480"/>
            <a:chExt cx="1885680" cy="1345320"/>
          </a:xfrm>
        </p:grpSpPr>
        <p:sp>
          <p:nvSpPr>
            <p:cNvPr id="664" name=""/>
            <p:cNvSpPr/>
            <p:nvPr/>
          </p:nvSpPr>
          <p:spPr>
            <a:xfrm>
              <a:off x="2630880" y="2889720"/>
              <a:ext cx="154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43480" y="2238480"/>
              <a:ext cx="1519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.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60600" y="2880360"/>
              <a:ext cx="188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4294440" y="2587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591080" y="2238480"/>
            <a:ext cx="3529440" cy="1345320"/>
            <a:chOff x="4591080" y="2238480"/>
            <a:chExt cx="3529440" cy="1345320"/>
          </a:xfrm>
        </p:grpSpPr>
        <p:sp>
          <p:nvSpPr>
            <p:cNvPr id="669" name=""/>
            <p:cNvSpPr/>
            <p:nvPr/>
          </p:nvSpPr>
          <p:spPr>
            <a:xfrm>
              <a:off x="4910400" y="2889720"/>
              <a:ext cx="289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33440" y="2238480"/>
              <a:ext cx="284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.1 x 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91080" y="2880360"/>
              <a:ext cx="352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00 x 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4294440" y="3730680"/>
            <a:ext cx="3164760" cy="1529280"/>
            <a:chOff x="4294440" y="3730680"/>
            <a:chExt cx="3164760" cy="1529280"/>
          </a:xfrm>
        </p:grpSpPr>
        <p:grpSp>
          <p:nvGrpSpPr>
            <p:cNvPr id="673" name=""/>
            <p:cNvGrpSpPr/>
            <p:nvPr/>
          </p:nvGrpSpPr>
          <p:grpSpPr>
            <a:xfrm>
              <a:off x="5448240" y="3730680"/>
              <a:ext cx="2010960" cy="1529280"/>
              <a:chOff x="5448240" y="3730680"/>
              <a:chExt cx="2010960" cy="1529280"/>
            </a:xfrm>
          </p:grpSpPr>
          <p:sp>
            <p:nvSpPr>
              <p:cNvPr id="674" name=""/>
              <p:cNvSpPr/>
              <p:nvPr/>
            </p:nvSpPr>
            <p:spPr>
              <a:xfrm>
                <a:off x="5688720" y="4569120"/>
                <a:ext cx="153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52160" y="3730680"/>
                <a:ext cx="1199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3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448240" y="4556520"/>
                <a:ext cx="2010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294440" y="4191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958320" y="5464080"/>
            <a:ext cx="6441840" cy="901440"/>
            <a:chOff x="958320" y="5464080"/>
            <a:chExt cx="6441840" cy="901440"/>
          </a:xfrm>
        </p:grpSpPr>
        <p:sp>
          <p:nvSpPr>
            <p:cNvPr id="679" name=""/>
            <p:cNvSpPr/>
            <p:nvPr/>
          </p:nvSpPr>
          <p:spPr>
            <a:xfrm>
              <a:off x="958320" y="5464080"/>
              <a:ext cx="154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3.1%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13800" y="54957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60280" y="5540400"/>
              <a:ext cx="1739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0.03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55040" y="1371600"/>
            <a:ext cx="661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3.1% to a decimal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17528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335600" y="3200400"/>
            <a:ext cx="25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.1%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723560" y="3200400"/>
            <a:ext cx="125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0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928120" y="3124080"/>
            <a:ext cx="1250640" cy="1191240"/>
            <a:chOff x="5928120" y="3124080"/>
            <a:chExt cx="1250640" cy="1191240"/>
          </a:xfrm>
        </p:grpSpPr>
        <p:sp>
          <p:nvSpPr>
            <p:cNvPr id="688" name=""/>
            <p:cNvSpPr/>
            <p:nvPr/>
          </p:nvSpPr>
          <p:spPr>
            <a:xfrm>
              <a:off x="5928120" y="3200400"/>
              <a:ext cx="1250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3 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63000" y="3124080"/>
              <a:ext cx="42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627840" y="1812960"/>
            <a:ext cx="661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3.1% to a decimal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5832360" y="4114800"/>
            <a:ext cx="797040" cy="839520"/>
            <a:chOff x="5832360" y="4114800"/>
            <a:chExt cx="797040" cy="839520"/>
          </a:xfrm>
        </p:grpSpPr>
        <p:sp>
          <p:nvSpPr>
            <p:cNvPr id="692" name=""/>
            <p:cNvSpPr/>
            <p:nvPr/>
          </p:nvSpPr>
          <p:spPr>
            <a:xfrm flipH="1" flipV="1">
              <a:off x="5832360" y="4114800"/>
              <a:ext cx="797040" cy="517680"/>
            </a:xfrm>
            <a:custGeom>
              <a:avLst/>
              <a:gdLst>
                <a:gd name="textAreaLeft" fmla="*/ 141120 w 797040"/>
                <a:gd name="textAreaRight" fmla="*/ 504000 w 797040"/>
                <a:gd name="textAreaTop" fmla="*/ 69120 h 517680"/>
                <a:gd name="textAreaBottom" fmla="*/ 44856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50" hR="21600" stAng="10800000" swAng="5400000"/>
                  <a:lnTo>
                    <a:pt x="9834" y="0"/>
                  </a:lnTo>
                  <a:arcTo wR="7650" hR="21600" stAng="-5400000" swAng="2702867"/>
                  <a:lnTo>
                    <a:pt x="21163" y="14400"/>
                  </a:lnTo>
                  <a:lnTo>
                    <a:pt x="16391" y="21600"/>
                  </a:lnTo>
                  <a:lnTo>
                    <a:pt x="10745" y="14400"/>
                  </a:lnTo>
                  <a:lnTo>
                    <a:pt x="14862" y="14400"/>
                  </a:lnTo>
                  <a:arcTo wR="7650" hR="21600" stAng="-2697133" swAng="-2527423"/>
                  <a:lnTo>
                    <a:pt x="8742" y="221"/>
                  </a:lnTo>
                  <a:arcTo wR="7650" hR="21600" stAng="-5575443" swAng="-5224557"/>
                  <a:close/>
                </a:path>
                <a:path fill="darkenLess" w="21600" h="21600">
                  <a:moveTo>
                    <a:pt x="0" y="21600"/>
                  </a:moveTo>
                  <a:arcTo wR="7650" hR="21600" stAng="10800000" swAng="5400000"/>
                  <a:lnTo>
                    <a:pt x="7650" y="0"/>
                  </a:lnTo>
                  <a:arcTo wR="7650" hR="21600" stAng="-5400000" swAng="175443"/>
                  <a:lnTo>
                    <a:pt x="8742" y="221"/>
                  </a:lnTo>
                  <a:arcTo wR="7650" hR="21600" stAng="-5575443" swAng="-5224557"/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069960" y="43117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5173920" y="3048120"/>
            <a:ext cx="846000" cy="1906200"/>
            <a:chOff x="5173920" y="3048120"/>
            <a:chExt cx="846000" cy="1906200"/>
          </a:xfrm>
        </p:grpSpPr>
        <p:sp>
          <p:nvSpPr>
            <p:cNvPr id="695" name=""/>
            <p:cNvSpPr/>
            <p:nvPr/>
          </p:nvSpPr>
          <p:spPr>
            <a:xfrm flipH="1" flipV="1">
              <a:off x="5222880" y="4114800"/>
              <a:ext cx="797040" cy="517680"/>
            </a:xfrm>
            <a:custGeom>
              <a:avLst/>
              <a:gdLst>
                <a:gd name="textAreaLeft" fmla="*/ 141120 w 797040"/>
                <a:gd name="textAreaRight" fmla="*/ 504000 w 797040"/>
                <a:gd name="textAreaTop" fmla="*/ 69120 h 517680"/>
                <a:gd name="textAreaBottom" fmla="*/ 44856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50" hR="21600" stAng="10800000" swAng="5400000"/>
                  <a:lnTo>
                    <a:pt x="9834" y="0"/>
                  </a:lnTo>
                  <a:arcTo wR="7650" hR="21600" stAng="-5400000" swAng="2702867"/>
                  <a:lnTo>
                    <a:pt x="21163" y="14400"/>
                  </a:lnTo>
                  <a:lnTo>
                    <a:pt x="16391" y="21600"/>
                  </a:lnTo>
                  <a:lnTo>
                    <a:pt x="10745" y="14400"/>
                  </a:lnTo>
                  <a:lnTo>
                    <a:pt x="14862" y="14400"/>
                  </a:lnTo>
                  <a:arcTo wR="7650" hR="21600" stAng="-2697133" swAng="-2527423"/>
                  <a:lnTo>
                    <a:pt x="8742" y="221"/>
                  </a:lnTo>
                  <a:arcTo wR="7650" hR="21600" stAng="-5575443" swAng="-5224557"/>
                  <a:close/>
                </a:path>
                <a:path fill="darkenLess" w="21600" h="21600">
                  <a:moveTo>
                    <a:pt x="0" y="21600"/>
                  </a:moveTo>
                  <a:arcTo wR="7650" hR="21600" stAng="10800000" swAng="5400000"/>
                  <a:lnTo>
                    <a:pt x="7650" y="0"/>
                  </a:lnTo>
                  <a:arcTo wR="7650" hR="21600" stAng="-5400000" swAng="175443"/>
                  <a:lnTo>
                    <a:pt x="8742" y="221"/>
                  </a:lnTo>
                  <a:arcTo wR="7650" hR="21600" stAng="-5575443" swAng="-5224557"/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86400" y="43117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173920" y="3048120"/>
              <a:ext cx="42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1536480" y="5013360"/>
            <a:ext cx="546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.1% =     0.03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286000"/>
            <a:ext cx="556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 fraction as a per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 decimal number as a per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14800" y="417528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396800" y="3200400"/>
            <a:ext cx="25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.03%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70280" y="3200400"/>
            <a:ext cx="188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0 0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6363000" y="3124080"/>
            <a:ext cx="1225800" cy="1191240"/>
            <a:chOff x="6363000" y="3124080"/>
            <a:chExt cx="1225800" cy="1191240"/>
          </a:xfrm>
        </p:grpSpPr>
        <p:sp>
          <p:nvSpPr>
            <p:cNvPr id="704" name=""/>
            <p:cNvSpPr/>
            <p:nvPr/>
          </p:nvSpPr>
          <p:spPr>
            <a:xfrm>
              <a:off x="6536520" y="320040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0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363000" y="3124080"/>
              <a:ext cx="42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668520" y="1812960"/>
            <a:ext cx="661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.03% to a decimal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5832360" y="4114800"/>
            <a:ext cx="797040" cy="839520"/>
            <a:chOff x="5832360" y="4114800"/>
            <a:chExt cx="797040" cy="839520"/>
          </a:xfrm>
        </p:grpSpPr>
        <p:sp>
          <p:nvSpPr>
            <p:cNvPr id="708" name=""/>
            <p:cNvSpPr/>
            <p:nvPr/>
          </p:nvSpPr>
          <p:spPr>
            <a:xfrm flipH="1" flipV="1">
              <a:off x="5832360" y="4114800"/>
              <a:ext cx="797040" cy="517680"/>
            </a:xfrm>
            <a:custGeom>
              <a:avLst/>
              <a:gdLst>
                <a:gd name="textAreaLeft" fmla="*/ 141120 w 797040"/>
                <a:gd name="textAreaRight" fmla="*/ 504000 w 797040"/>
                <a:gd name="textAreaTop" fmla="*/ 69120 h 517680"/>
                <a:gd name="textAreaBottom" fmla="*/ 44856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50" hR="21600" stAng="10800000" swAng="5400000"/>
                  <a:lnTo>
                    <a:pt x="9834" y="0"/>
                  </a:lnTo>
                  <a:arcTo wR="7650" hR="21600" stAng="-5400000" swAng="2702867"/>
                  <a:lnTo>
                    <a:pt x="21163" y="14400"/>
                  </a:lnTo>
                  <a:lnTo>
                    <a:pt x="16391" y="21600"/>
                  </a:lnTo>
                  <a:lnTo>
                    <a:pt x="10745" y="14400"/>
                  </a:lnTo>
                  <a:lnTo>
                    <a:pt x="14862" y="14400"/>
                  </a:lnTo>
                  <a:arcTo wR="7650" hR="21600" stAng="-2697133" swAng="-2527423"/>
                  <a:lnTo>
                    <a:pt x="8742" y="221"/>
                  </a:lnTo>
                  <a:arcTo wR="7650" hR="21600" stAng="-5575443" swAng="-5224557"/>
                  <a:close/>
                </a:path>
                <a:path fill="darkenLess" w="21600" h="21600">
                  <a:moveTo>
                    <a:pt x="0" y="21600"/>
                  </a:moveTo>
                  <a:arcTo wR="7650" hR="21600" stAng="10800000" swAng="5400000"/>
                  <a:lnTo>
                    <a:pt x="7650" y="0"/>
                  </a:lnTo>
                  <a:arcTo wR="7650" hR="21600" stAng="-5400000" swAng="175443"/>
                  <a:lnTo>
                    <a:pt x="8742" y="221"/>
                  </a:lnTo>
                  <a:arcTo wR="7650" hR="21600" stAng="-5575443" swAng="-5224557"/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069960" y="43117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5173920" y="3048120"/>
            <a:ext cx="846000" cy="1906200"/>
            <a:chOff x="5173920" y="3048120"/>
            <a:chExt cx="846000" cy="1906200"/>
          </a:xfrm>
        </p:grpSpPr>
        <p:sp>
          <p:nvSpPr>
            <p:cNvPr id="711" name=""/>
            <p:cNvSpPr/>
            <p:nvPr/>
          </p:nvSpPr>
          <p:spPr>
            <a:xfrm flipH="1" flipV="1">
              <a:off x="5222880" y="4114800"/>
              <a:ext cx="797040" cy="517680"/>
            </a:xfrm>
            <a:custGeom>
              <a:avLst/>
              <a:gdLst>
                <a:gd name="textAreaLeft" fmla="*/ 141120 w 797040"/>
                <a:gd name="textAreaRight" fmla="*/ 504000 w 797040"/>
                <a:gd name="textAreaTop" fmla="*/ 69120 h 517680"/>
                <a:gd name="textAreaBottom" fmla="*/ 44856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50" hR="21600" stAng="10800000" swAng="5400000"/>
                  <a:lnTo>
                    <a:pt x="9834" y="0"/>
                  </a:lnTo>
                  <a:arcTo wR="7650" hR="21600" stAng="-5400000" swAng="2702867"/>
                  <a:lnTo>
                    <a:pt x="21163" y="14400"/>
                  </a:lnTo>
                  <a:lnTo>
                    <a:pt x="16391" y="21600"/>
                  </a:lnTo>
                  <a:lnTo>
                    <a:pt x="10745" y="14400"/>
                  </a:lnTo>
                  <a:lnTo>
                    <a:pt x="14862" y="14400"/>
                  </a:lnTo>
                  <a:arcTo wR="7650" hR="21600" stAng="-2697133" swAng="-2527423"/>
                  <a:lnTo>
                    <a:pt x="8742" y="221"/>
                  </a:lnTo>
                  <a:arcTo wR="7650" hR="21600" stAng="-5575443" swAng="-5224557"/>
                  <a:close/>
                </a:path>
                <a:path fill="darkenLess" w="21600" h="21600">
                  <a:moveTo>
                    <a:pt x="0" y="21600"/>
                  </a:moveTo>
                  <a:arcTo wR="7650" hR="21600" stAng="10800000" swAng="5400000"/>
                  <a:lnTo>
                    <a:pt x="7650" y="0"/>
                  </a:lnTo>
                  <a:arcTo wR="7650" hR="21600" stAng="-5400000" swAng="175443"/>
                  <a:lnTo>
                    <a:pt x="8742" y="221"/>
                  </a:lnTo>
                  <a:arcTo wR="7650" hR="21600" stAng="-5575443" swAng="-5224557"/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486400" y="43117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73920" y="3048120"/>
              <a:ext cx="42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673280" y="5013360"/>
            <a:ext cx="5898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.03% =     0.000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 as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4800" y="417528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357200" y="3200400"/>
            <a:ext cx="275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51%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55160" y="3108240"/>
            <a:ext cx="188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 5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2240" y="181296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351% to a decimal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5832360" y="3124080"/>
            <a:ext cx="956880" cy="1830240"/>
            <a:chOff x="5832360" y="3124080"/>
            <a:chExt cx="956880" cy="1830240"/>
          </a:xfrm>
        </p:grpSpPr>
        <p:sp>
          <p:nvSpPr>
            <p:cNvPr id="722" name=""/>
            <p:cNvSpPr/>
            <p:nvPr/>
          </p:nvSpPr>
          <p:spPr>
            <a:xfrm>
              <a:off x="6363000" y="3124080"/>
              <a:ext cx="42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5832360" y="4114800"/>
              <a:ext cx="797040" cy="517680"/>
            </a:xfrm>
            <a:custGeom>
              <a:avLst/>
              <a:gdLst>
                <a:gd name="textAreaLeft" fmla="*/ 141120 w 797040"/>
                <a:gd name="textAreaRight" fmla="*/ 504000 w 797040"/>
                <a:gd name="textAreaTop" fmla="*/ 69120 h 517680"/>
                <a:gd name="textAreaBottom" fmla="*/ 44856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50" hR="21600" stAng="10800000" swAng="5400000"/>
                  <a:lnTo>
                    <a:pt x="9834" y="0"/>
                  </a:lnTo>
                  <a:arcTo wR="7650" hR="21600" stAng="-5400000" swAng="2702867"/>
                  <a:lnTo>
                    <a:pt x="21163" y="14400"/>
                  </a:lnTo>
                  <a:lnTo>
                    <a:pt x="16391" y="21600"/>
                  </a:lnTo>
                  <a:lnTo>
                    <a:pt x="10745" y="14400"/>
                  </a:lnTo>
                  <a:lnTo>
                    <a:pt x="14862" y="14400"/>
                  </a:lnTo>
                  <a:arcTo wR="7650" hR="21600" stAng="-2697133" swAng="-2527423"/>
                  <a:lnTo>
                    <a:pt x="8742" y="221"/>
                  </a:lnTo>
                  <a:arcTo wR="7650" hR="21600" stAng="-5575443" swAng="-5224557"/>
                  <a:close/>
                </a:path>
                <a:path fill="darkenLess" w="21600" h="21600">
                  <a:moveTo>
                    <a:pt x="0" y="21600"/>
                  </a:moveTo>
                  <a:arcTo wR="7650" hR="21600" stAng="10800000" swAng="5400000"/>
                  <a:lnTo>
                    <a:pt x="7650" y="0"/>
                  </a:lnTo>
                  <a:arcTo wR="7650" hR="21600" stAng="-5400000" swAng="175443"/>
                  <a:lnTo>
                    <a:pt x="8742" y="221"/>
                  </a:lnTo>
                  <a:arcTo wR="7650" hR="21600" stAng="-5575443" swAng="-5224557"/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069960" y="43117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5173920" y="3048120"/>
            <a:ext cx="846000" cy="1906200"/>
            <a:chOff x="5173920" y="3048120"/>
            <a:chExt cx="846000" cy="1906200"/>
          </a:xfrm>
        </p:grpSpPr>
        <p:sp>
          <p:nvSpPr>
            <p:cNvPr id="726" name=""/>
            <p:cNvSpPr/>
            <p:nvPr/>
          </p:nvSpPr>
          <p:spPr>
            <a:xfrm flipH="1" flipV="1">
              <a:off x="5222880" y="4114800"/>
              <a:ext cx="797040" cy="517680"/>
            </a:xfrm>
            <a:custGeom>
              <a:avLst/>
              <a:gdLst>
                <a:gd name="textAreaLeft" fmla="*/ 141120 w 797040"/>
                <a:gd name="textAreaRight" fmla="*/ 504000 w 797040"/>
                <a:gd name="textAreaTop" fmla="*/ 69120 h 517680"/>
                <a:gd name="textAreaBottom" fmla="*/ 44856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50" hR="21600" stAng="10800000" swAng="5400000"/>
                  <a:lnTo>
                    <a:pt x="9834" y="0"/>
                  </a:lnTo>
                  <a:arcTo wR="7650" hR="21600" stAng="-5400000" swAng="2702867"/>
                  <a:lnTo>
                    <a:pt x="21163" y="14400"/>
                  </a:lnTo>
                  <a:lnTo>
                    <a:pt x="16391" y="21600"/>
                  </a:lnTo>
                  <a:lnTo>
                    <a:pt x="10745" y="14400"/>
                  </a:lnTo>
                  <a:lnTo>
                    <a:pt x="14862" y="14400"/>
                  </a:lnTo>
                  <a:arcTo wR="7650" hR="21600" stAng="-2697133" swAng="-2527423"/>
                  <a:lnTo>
                    <a:pt x="8742" y="221"/>
                  </a:lnTo>
                  <a:arcTo wR="7650" hR="21600" stAng="-5575443" swAng="-5224557"/>
                  <a:close/>
                </a:path>
                <a:path fill="darkenLess" w="21600" h="21600">
                  <a:moveTo>
                    <a:pt x="0" y="21600"/>
                  </a:moveTo>
                  <a:arcTo wR="7650" hR="21600" stAng="10800000" swAng="5400000"/>
                  <a:lnTo>
                    <a:pt x="7650" y="0"/>
                  </a:lnTo>
                  <a:arcTo wR="7650" hR="21600" stAng="-5400000" swAng="175443"/>
                  <a:lnTo>
                    <a:pt x="8742" y="221"/>
                  </a:lnTo>
                  <a:arcTo wR="7650" hR="21600" stAng="-5575443" swAng="-5224557"/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486400" y="43117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73920" y="3048120"/>
              <a:ext cx="42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543320" y="5013360"/>
            <a:ext cx="525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51% =     3.5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1066680" y="2039760"/>
            <a:ext cx="4278600" cy="36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irCut"/>
              </a:rPr>
              <a:t>7.56</a:t>
            </a:r>
            <a:endParaRPr b="0" lang="en-US" sz="2400" spc="1" strike="noStrike">
              <a:ln w="0">
                <a:noFill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irCut"/>
              <a:ea typeface="AirCut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4724280" y="1295280"/>
            <a:ext cx="3946680" cy="3419640"/>
            <a:chOff x="4724280" y="1295280"/>
            <a:chExt cx="3946680" cy="3419640"/>
          </a:xfrm>
        </p:grpSpPr>
        <p:sp>
          <p:nvSpPr>
            <p:cNvPr id="732" name=""/>
            <p:cNvSpPr/>
            <p:nvPr/>
          </p:nvSpPr>
          <p:spPr>
            <a:xfrm>
              <a:off x="7557840" y="3162240"/>
              <a:ext cx="1113120" cy="1549440"/>
            </a:xfrm>
            <a:custGeom>
              <a:avLst/>
              <a:gdLst/>
              <a:ahLst/>
              <a:rect l="l" t="t" r="r" b="b"/>
              <a:pathLst>
                <a:path w="1401" h="1952">
                  <a:moveTo>
                    <a:pt x="0" y="1789"/>
                  </a:moveTo>
                  <a:lnTo>
                    <a:pt x="0" y="1952"/>
                  </a:lnTo>
                  <a:lnTo>
                    <a:pt x="121" y="1943"/>
                  </a:lnTo>
                  <a:lnTo>
                    <a:pt x="329" y="1880"/>
                  </a:lnTo>
                  <a:lnTo>
                    <a:pt x="422" y="1834"/>
                  </a:lnTo>
                  <a:lnTo>
                    <a:pt x="466" y="1808"/>
                  </a:lnTo>
                  <a:lnTo>
                    <a:pt x="509" y="1777"/>
                  </a:lnTo>
                  <a:lnTo>
                    <a:pt x="551" y="1747"/>
                  </a:lnTo>
                  <a:lnTo>
                    <a:pt x="589" y="1713"/>
                  </a:lnTo>
                  <a:lnTo>
                    <a:pt x="627" y="1675"/>
                  </a:lnTo>
                  <a:lnTo>
                    <a:pt x="663" y="1637"/>
                  </a:lnTo>
                  <a:lnTo>
                    <a:pt x="697" y="1597"/>
                  </a:lnTo>
                  <a:lnTo>
                    <a:pt x="730" y="1553"/>
                  </a:lnTo>
                  <a:lnTo>
                    <a:pt x="760" y="1507"/>
                  </a:lnTo>
                  <a:lnTo>
                    <a:pt x="787" y="1462"/>
                  </a:lnTo>
                  <a:lnTo>
                    <a:pt x="813" y="1409"/>
                  </a:lnTo>
                  <a:lnTo>
                    <a:pt x="836" y="1355"/>
                  </a:lnTo>
                  <a:lnTo>
                    <a:pt x="871" y="1251"/>
                  </a:lnTo>
                  <a:lnTo>
                    <a:pt x="907" y="1028"/>
                  </a:lnTo>
                  <a:lnTo>
                    <a:pt x="1009" y="983"/>
                  </a:lnTo>
                  <a:lnTo>
                    <a:pt x="1101" y="945"/>
                  </a:lnTo>
                  <a:lnTo>
                    <a:pt x="1171" y="920"/>
                  </a:lnTo>
                  <a:lnTo>
                    <a:pt x="1241" y="895"/>
                  </a:lnTo>
                  <a:lnTo>
                    <a:pt x="1384" y="854"/>
                  </a:lnTo>
                  <a:lnTo>
                    <a:pt x="1401" y="624"/>
                  </a:lnTo>
                  <a:lnTo>
                    <a:pt x="1274" y="658"/>
                  </a:lnTo>
                  <a:lnTo>
                    <a:pt x="1146" y="698"/>
                  </a:lnTo>
                  <a:lnTo>
                    <a:pt x="1021" y="741"/>
                  </a:lnTo>
                  <a:lnTo>
                    <a:pt x="895" y="783"/>
                  </a:lnTo>
                  <a:lnTo>
                    <a:pt x="882" y="724"/>
                  </a:lnTo>
                  <a:lnTo>
                    <a:pt x="865" y="656"/>
                  </a:lnTo>
                  <a:lnTo>
                    <a:pt x="840" y="589"/>
                  </a:lnTo>
                  <a:lnTo>
                    <a:pt x="812" y="525"/>
                  </a:lnTo>
                  <a:lnTo>
                    <a:pt x="777" y="462"/>
                  </a:lnTo>
                  <a:lnTo>
                    <a:pt x="758" y="432"/>
                  </a:lnTo>
                  <a:lnTo>
                    <a:pt x="739" y="401"/>
                  </a:lnTo>
                  <a:lnTo>
                    <a:pt x="718" y="373"/>
                  </a:lnTo>
                  <a:lnTo>
                    <a:pt x="696" y="346"/>
                  </a:lnTo>
                  <a:lnTo>
                    <a:pt x="673" y="317"/>
                  </a:lnTo>
                  <a:lnTo>
                    <a:pt x="650" y="293"/>
                  </a:lnTo>
                  <a:lnTo>
                    <a:pt x="625" y="266"/>
                  </a:lnTo>
                  <a:lnTo>
                    <a:pt x="599" y="241"/>
                  </a:lnTo>
                  <a:lnTo>
                    <a:pt x="568" y="215"/>
                  </a:lnTo>
                  <a:lnTo>
                    <a:pt x="536" y="188"/>
                  </a:lnTo>
                  <a:lnTo>
                    <a:pt x="502" y="164"/>
                  </a:lnTo>
                  <a:lnTo>
                    <a:pt x="467" y="141"/>
                  </a:lnTo>
                  <a:lnTo>
                    <a:pt x="395" y="101"/>
                  </a:lnTo>
                  <a:lnTo>
                    <a:pt x="321" y="67"/>
                  </a:lnTo>
                  <a:lnTo>
                    <a:pt x="243" y="40"/>
                  </a:lnTo>
                  <a:lnTo>
                    <a:pt x="163" y="21"/>
                  </a:lnTo>
                  <a:lnTo>
                    <a:pt x="0" y="0"/>
                  </a:lnTo>
                  <a:lnTo>
                    <a:pt x="0" y="167"/>
                  </a:lnTo>
                  <a:lnTo>
                    <a:pt x="114" y="230"/>
                  </a:lnTo>
                  <a:lnTo>
                    <a:pt x="156" y="281"/>
                  </a:lnTo>
                  <a:lnTo>
                    <a:pt x="188" y="342"/>
                  </a:lnTo>
                  <a:lnTo>
                    <a:pt x="235" y="500"/>
                  </a:lnTo>
                  <a:lnTo>
                    <a:pt x="262" y="669"/>
                  </a:lnTo>
                  <a:lnTo>
                    <a:pt x="272" y="1006"/>
                  </a:lnTo>
                  <a:lnTo>
                    <a:pt x="205" y="1032"/>
                  </a:lnTo>
                  <a:lnTo>
                    <a:pt x="137" y="1057"/>
                  </a:lnTo>
                  <a:lnTo>
                    <a:pt x="68" y="1082"/>
                  </a:lnTo>
                  <a:lnTo>
                    <a:pt x="0" y="1106"/>
                  </a:lnTo>
                  <a:lnTo>
                    <a:pt x="0" y="1553"/>
                  </a:lnTo>
                  <a:lnTo>
                    <a:pt x="45" y="1524"/>
                  </a:lnTo>
                  <a:lnTo>
                    <a:pt x="89" y="1498"/>
                  </a:lnTo>
                  <a:lnTo>
                    <a:pt x="133" y="1469"/>
                  </a:lnTo>
                  <a:lnTo>
                    <a:pt x="177" y="1441"/>
                  </a:lnTo>
                  <a:lnTo>
                    <a:pt x="247" y="1399"/>
                  </a:lnTo>
                  <a:lnTo>
                    <a:pt x="218" y="1519"/>
                  </a:lnTo>
                  <a:lnTo>
                    <a:pt x="199" y="1580"/>
                  </a:lnTo>
                  <a:lnTo>
                    <a:pt x="175" y="1637"/>
                  </a:lnTo>
                  <a:lnTo>
                    <a:pt x="159" y="1663"/>
                  </a:lnTo>
                  <a:lnTo>
                    <a:pt x="144" y="1688"/>
                  </a:lnTo>
                  <a:lnTo>
                    <a:pt x="125" y="1713"/>
                  </a:lnTo>
                  <a:lnTo>
                    <a:pt x="106" y="1734"/>
                  </a:lnTo>
                  <a:lnTo>
                    <a:pt x="59" y="1768"/>
                  </a:lnTo>
                  <a:lnTo>
                    <a:pt x="0" y="1789"/>
                  </a:lnTo>
                  <a:lnTo>
                    <a:pt x="0" y="1789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294160" y="1414440"/>
              <a:ext cx="2678040" cy="3300480"/>
            </a:xfrm>
            <a:custGeom>
              <a:avLst/>
              <a:gdLst/>
              <a:ahLst/>
              <a:rect l="l" t="t" r="r" b="b"/>
              <a:pathLst>
                <a:path w="3373" h="4157">
                  <a:moveTo>
                    <a:pt x="2852" y="2617"/>
                  </a:moveTo>
                  <a:lnTo>
                    <a:pt x="2882" y="2671"/>
                  </a:lnTo>
                  <a:lnTo>
                    <a:pt x="2895" y="2728"/>
                  </a:lnTo>
                  <a:lnTo>
                    <a:pt x="2890" y="2855"/>
                  </a:lnTo>
                  <a:lnTo>
                    <a:pt x="2873" y="2914"/>
                  </a:lnTo>
                  <a:lnTo>
                    <a:pt x="2852" y="2971"/>
                  </a:lnTo>
                  <a:lnTo>
                    <a:pt x="2825" y="3041"/>
                  </a:lnTo>
                  <a:lnTo>
                    <a:pt x="2793" y="3108"/>
                  </a:lnTo>
                  <a:lnTo>
                    <a:pt x="2776" y="3140"/>
                  </a:lnTo>
                  <a:lnTo>
                    <a:pt x="2755" y="3170"/>
                  </a:lnTo>
                  <a:lnTo>
                    <a:pt x="2736" y="3201"/>
                  </a:lnTo>
                  <a:lnTo>
                    <a:pt x="2713" y="3229"/>
                  </a:lnTo>
                  <a:lnTo>
                    <a:pt x="2690" y="3254"/>
                  </a:lnTo>
                  <a:lnTo>
                    <a:pt x="2665" y="3279"/>
                  </a:lnTo>
                  <a:lnTo>
                    <a:pt x="2643" y="3304"/>
                  </a:lnTo>
                  <a:lnTo>
                    <a:pt x="2618" y="3328"/>
                  </a:lnTo>
                  <a:lnTo>
                    <a:pt x="2595" y="3353"/>
                  </a:lnTo>
                  <a:lnTo>
                    <a:pt x="2570" y="3378"/>
                  </a:lnTo>
                  <a:lnTo>
                    <a:pt x="2547" y="3402"/>
                  </a:lnTo>
                  <a:lnTo>
                    <a:pt x="2523" y="3427"/>
                  </a:lnTo>
                  <a:lnTo>
                    <a:pt x="2605" y="3399"/>
                  </a:lnTo>
                  <a:lnTo>
                    <a:pt x="2686" y="3368"/>
                  </a:lnTo>
                  <a:lnTo>
                    <a:pt x="2770" y="3338"/>
                  </a:lnTo>
                  <a:lnTo>
                    <a:pt x="2852" y="3307"/>
                  </a:lnTo>
                  <a:lnTo>
                    <a:pt x="3373" y="3300"/>
                  </a:lnTo>
                  <a:lnTo>
                    <a:pt x="2852" y="3754"/>
                  </a:lnTo>
                  <a:lnTo>
                    <a:pt x="2791" y="3792"/>
                  </a:lnTo>
                  <a:lnTo>
                    <a:pt x="2728" y="3828"/>
                  </a:lnTo>
                  <a:lnTo>
                    <a:pt x="2665" y="3864"/>
                  </a:lnTo>
                  <a:lnTo>
                    <a:pt x="2605" y="3898"/>
                  </a:lnTo>
                  <a:lnTo>
                    <a:pt x="2654" y="3942"/>
                  </a:lnTo>
                  <a:lnTo>
                    <a:pt x="2703" y="3973"/>
                  </a:lnTo>
                  <a:lnTo>
                    <a:pt x="2759" y="3990"/>
                  </a:lnTo>
                  <a:lnTo>
                    <a:pt x="2825" y="3994"/>
                  </a:lnTo>
                  <a:lnTo>
                    <a:pt x="2852" y="3990"/>
                  </a:lnTo>
                  <a:lnTo>
                    <a:pt x="3308" y="3948"/>
                  </a:lnTo>
                  <a:lnTo>
                    <a:pt x="2852" y="4153"/>
                  </a:lnTo>
                  <a:lnTo>
                    <a:pt x="2601" y="4138"/>
                  </a:lnTo>
                  <a:lnTo>
                    <a:pt x="2365" y="4056"/>
                  </a:lnTo>
                  <a:lnTo>
                    <a:pt x="2331" y="4039"/>
                  </a:lnTo>
                  <a:lnTo>
                    <a:pt x="2228" y="4079"/>
                  </a:lnTo>
                  <a:lnTo>
                    <a:pt x="2125" y="4111"/>
                  </a:lnTo>
                  <a:lnTo>
                    <a:pt x="2019" y="4130"/>
                  </a:lnTo>
                  <a:lnTo>
                    <a:pt x="1911" y="4130"/>
                  </a:lnTo>
                  <a:lnTo>
                    <a:pt x="1848" y="4104"/>
                  </a:lnTo>
                  <a:lnTo>
                    <a:pt x="1787" y="4073"/>
                  </a:lnTo>
                  <a:lnTo>
                    <a:pt x="1728" y="4037"/>
                  </a:lnTo>
                  <a:lnTo>
                    <a:pt x="1675" y="3995"/>
                  </a:lnTo>
                  <a:lnTo>
                    <a:pt x="1631" y="3948"/>
                  </a:lnTo>
                  <a:lnTo>
                    <a:pt x="1601" y="3893"/>
                  </a:lnTo>
                  <a:lnTo>
                    <a:pt x="1584" y="3828"/>
                  </a:lnTo>
                  <a:lnTo>
                    <a:pt x="1585" y="3756"/>
                  </a:lnTo>
                  <a:lnTo>
                    <a:pt x="1603" y="3697"/>
                  </a:lnTo>
                  <a:lnTo>
                    <a:pt x="1627" y="3642"/>
                  </a:lnTo>
                  <a:lnTo>
                    <a:pt x="1658" y="3589"/>
                  </a:lnTo>
                  <a:lnTo>
                    <a:pt x="1675" y="3562"/>
                  </a:lnTo>
                  <a:lnTo>
                    <a:pt x="1692" y="3537"/>
                  </a:lnTo>
                  <a:lnTo>
                    <a:pt x="1711" y="3513"/>
                  </a:lnTo>
                  <a:lnTo>
                    <a:pt x="1730" y="3488"/>
                  </a:lnTo>
                  <a:lnTo>
                    <a:pt x="1751" y="3463"/>
                  </a:lnTo>
                  <a:lnTo>
                    <a:pt x="1772" y="3440"/>
                  </a:lnTo>
                  <a:lnTo>
                    <a:pt x="1814" y="3395"/>
                  </a:lnTo>
                  <a:lnTo>
                    <a:pt x="1853" y="3353"/>
                  </a:lnTo>
                  <a:lnTo>
                    <a:pt x="1842" y="3131"/>
                  </a:lnTo>
                  <a:lnTo>
                    <a:pt x="1848" y="3055"/>
                  </a:lnTo>
                  <a:lnTo>
                    <a:pt x="1768" y="3079"/>
                  </a:lnTo>
                  <a:lnTo>
                    <a:pt x="1688" y="3106"/>
                  </a:lnTo>
                  <a:lnTo>
                    <a:pt x="1608" y="3131"/>
                  </a:lnTo>
                  <a:lnTo>
                    <a:pt x="1528" y="3157"/>
                  </a:lnTo>
                  <a:lnTo>
                    <a:pt x="1449" y="3182"/>
                  </a:lnTo>
                  <a:lnTo>
                    <a:pt x="1369" y="3207"/>
                  </a:lnTo>
                  <a:lnTo>
                    <a:pt x="1207" y="3252"/>
                  </a:lnTo>
                  <a:lnTo>
                    <a:pt x="1080" y="3286"/>
                  </a:lnTo>
                  <a:lnTo>
                    <a:pt x="614" y="4007"/>
                  </a:lnTo>
                  <a:lnTo>
                    <a:pt x="517" y="4157"/>
                  </a:lnTo>
                  <a:lnTo>
                    <a:pt x="91" y="4157"/>
                  </a:lnTo>
                  <a:lnTo>
                    <a:pt x="591" y="3385"/>
                  </a:lnTo>
                  <a:lnTo>
                    <a:pt x="424" y="3397"/>
                  </a:lnTo>
                  <a:lnTo>
                    <a:pt x="256" y="3383"/>
                  </a:lnTo>
                  <a:lnTo>
                    <a:pt x="108" y="3321"/>
                  </a:lnTo>
                  <a:lnTo>
                    <a:pt x="47" y="3265"/>
                  </a:lnTo>
                  <a:lnTo>
                    <a:pt x="23" y="3229"/>
                  </a:lnTo>
                  <a:lnTo>
                    <a:pt x="0" y="3188"/>
                  </a:lnTo>
                  <a:lnTo>
                    <a:pt x="0" y="3066"/>
                  </a:lnTo>
                  <a:lnTo>
                    <a:pt x="17" y="3011"/>
                  </a:lnTo>
                  <a:lnTo>
                    <a:pt x="43" y="2958"/>
                  </a:lnTo>
                  <a:lnTo>
                    <a:pt x="59" y="2933"/>
                  </a:lnTo>
                  <a:lnTo>
                    <a:pt x="76" y="2908"/>
                  </a:lnTo>
                  <a:lnTo>
                    <a:pt x="95" y="2883"/>
                  </a:lnTo>
                  <a:lnTo>
                    <a:pt x="114" y="2859"/>
                  </a:lnTo>
                  <a:lnTo>
                    <a:pt x="156" y="2813"/>
                  </a:lnTo>
                  <a:lnTo>
                    <a:pt x="196" y="2769"/>
                  </a:lnTo>
                  <a:lnTo>
                    <a:pt x="245" y="2726"/>
                  </a:lnTo>
                  <a:lnTo>
                    <a:pt x="294" y="2682"/>
                  </a:lnTo>
                  <a:lnTo>
                    <a:pt x="346" y="2640"/>
                  </a:lnTo>
                  <a:lnTo>
                    <a:pt x="397" y="2598"/>
                  </a:lnTo>
                  <a:lnTo>
                    <a:pt x="450" y="2558"/>
                  </a:lnTo>
                  <a:lnTo>
                    <a:pt x="504" y="2518"/>
                  </a:lnTo>
                  <a:lnTo>
                    <a:pt x="559" y="2480"/>
                  </a:lnTo>
                  <a:lnTo>
                    <a:pt x="614" y="2442"/>
                  </a:lnTo>
                  <a:lnTo>
                    <a:pt x="661" y="2412"/>
                  </a:lnTo>
                  <a:lnTo>
                    <a:pt x="709" y="2380"/>
                  </a:lnTo>
                  <a:lnTo>
                    <a:pt x="758" y="2349"/>
                  </a:lnTo>
                  <a:lnTo>
                    <a:pt x="806" y="2319"/>
                  </a:lnTo>
                  <a:lnTo>
                    <a:pt x="855" y="2290"/>
                  </a:lnTo>
                  <a:lnTo>
                    <a:pt x="905" y="2260"/>
                  </a:lnTo>
                  <a:lnTo>
                    <a:pt x="954" y="2231"/>
                  </a:lnTo>
                  <a:lnTo>
                    <a:pt x="1004" y="2201"/>
                  </a:lnTo>
                  <a:lnTo>
                    <a:pt x="1053" y="2173"/>
                  </a:lnTo>
                  <a:lnTo>
                    <a:pt x="1102" y="2144"/>
                  </a:lnTo>
                  <a:lnTo>
                    <a:pt x="1152" y="2115"/>
                  </a:lnTo>
                  <a:lnTo>
                    <a:pt x="1201" y="2087"/>
                  </a:lnTo>
                  <a:lnTo>
                    <a:pt x="1251" y="2058"/>
                  </a:lnTo>
                  <a:lnTo>
                    <a:pt x="1300" y="2030"/>
                  </a:lnTo>
                  <a:lnTo>
                    <a:pt x="1350" y="2001"/>
                  </a:lnTo>
                  <a:lnTo>
                    <a:pt x="1397" y="1973"/>
                  </a:lnTo>
                  <a:lnTo>
                    <a:pt x="1201" y="2007"/>
                  </a:lnTo>
                  <a:lnTo>
                    <a:pt x="1006" y="2043"/>
                  </a:lnTo>
                  <a:lnTo>
                    <a:pt x="810" y="2077"/>
                  </a:lnTo>
                  <a:lnTo>
                    <a:pt x="614" y="2112"/>
                  </a:lnTo>
                  <a:lnTo>
                    <a:pt x="614" y="1555"/>
                  </a:lnTo>
                  <a:lnTo>
                    <a:pt x="774" y="1519"/>
                  </a:lnTo>
                  <a:lnTo>
                    <a:pt x="813" y="1260"/>
                  </a:lnTo>
                  <a:lnTo>
                    <a:pt x="827" y="998"/>
                  </a:lnTo>
                  <a:lnTo>
                    <a:pt x="796" y="1034"/>
                  </a:lnTo>
                  <a:lnTo>
                    <a:pt x="764" y="1070"/>
                  </a:lnTo>
                  <a:lnTo>
                    <a:pt x="734" y="1104"/>
                  </a:lnTo>
                  <a:lnTo>
                    <a:pt x="701" y="1140"/>
                  </a:lnTo>
                  <a:lnTo>
                    <a:pt x="678" y="1167"/>
                  </a:lnTo>
                  <a:lnTo>
                    <a:pt x="656" y="1194"/>
                  </a:lnTo>
                  <a:lnTo>
                    <a:pt x="635" y="1222"/>
                  </a:lnTo>
                  <a:lnTo>
                    <a:pt x="614" y="1251"/>
                  </a:lnTo>
                  <a:lnTo>
                    <a:pt x="614" y="777"/>
                  </a:lnTo>
                  <a:lnTo>
                    <a:pt x="661" y="743"/>
                  </a:lnTo>
                  <a:lnTo>
                    <a:pt x="711" y="709"/>
                  </a:lnTo>
                  <a:lnTo>
                    <a:pt x="760" y="673"/>
                  </a:lnTo>
                  <a:lnTo>
                    <a:pt x="810" y="640"/>
                  </a:lnTo>
                  <a:lnTo>
                    <a:pt x="793" y="519"/>
                  </a:lnTo>
                  <a:lnTo>
                    <a:pt x="777" y="454"/>
                  </a:lnTo>
                  <a:lnTo>
                    <a:pt x="758" y="391"/>
                  </a:lnTo>
                  <a:lnTo>
                    <a:pt x="734" y="331"/>
                  </a:lnTo>
                  <a:lnTo>
                    <a:pt x="717" y="302"/>
                  </a:lnTo>
                  <a:lnTo>
                    <a:pt x="701" y="275"/>
                  </a:lnTo>
                  <a:lnTo>
                    <a:pt x="682" y="253"/>
                  </a:lnTo>
                  <a:lnTo>
                    <a:pt x="661" y="230"/>
                  </a:lnTo>
                  <a:lnTo>
                    <a:pt x="614" y="194"/>
                  </a:lnTo>
                  <a:lnTo>
                    <a:pt x="614" y="7"/>
                  </a:lnTo>
                  <a:lnTo>
                    <a:pt x="880" y="70"/>
                  </a:lnTo>
                  <a:lnTo>
                    <a:pt x="986" y="123"/>
                  </a:lnTo>
                  <a:lnTo>
                    <a:pt x="1038" y="154"/>
                  </a:lnTo>
                  <a:lnTo>
                    <a:pt x="1085" y="188"/>
                  </a:lnTo>
                  <a:lnTo>
                    <a:pt x="1131" y="224"/>
                  </a:lnTo>
                  <a:lnTo>
                    <a:pt x="1173" y="264"/>
                  </a:lnTo>
                  <a:lnTo>
                    <a:pt x="1215" y="306"/>
                  </a:lnTo>
                  <a:lnTo>
                    <a:pt x="1255" y="350"/>
                  </a:lnTo>
                  <a:lnTo>
                    <a:pt x="1319" y="312"/>
                  </a:lnTo>
                  <a:lnTo>
                    <a:pt x="1384" y="274"/>
                  </a:lnTo>
                  <a:lnTo>
                    <a:pt x="1450" y="236"/>
                  </a:lnTo>
                  <a:lnTo>
                    <a:pt x="1517" y="199"/>
                  </a:lnTo>
                  <a:lnTo>
                    <a:pt x="1585" y="165"/>
                  </a:lnTo>
                  <a:lnTo>
                    <a:pt x="1654" y="131"/>
                  </a:lnTo>
                  <a:lnTo>
                    <a:pt x="1722" y="101"/>
                  </a:lnTo>
                  <a:lnTo>
                    <a:pt x="1793" y="74"/>
                  </a:lnTo>
                  <a:lnTo>
                    <a:pt x="1796" y="74"/>
                  </a:lnTo>
                  <a:lnTo>
                    <a:pt x="1844" y="268"/>
                  </a:lnTo>
                  <a:lnTo>
                    <a:pt x="1719" y="323"/>
                  </a:lnTo>
                  <a:lnTo>
                    <a:pt x="1660" y="353"/>
                  </a:lnTo>
                  <a:lnTo>
                    <a:pt x="1599" y="388"/>
                  </a:lnTo>
                  <a:lnTo>
                    <a:pt x="1542" y="422"/>
                  </a:lnTo>
                  <a:lnTo>
                    <a:pt x="1483" y="458"/>
                  </a:lnTo>
                  <a:lnTo>
                    <a:pt x="1426" y="494"/>
                  </a:lnTo>
                  <a:lnTo>
                    <a:pt x="1369" y="532"/>
                  </a:lnTo>
                  <a:lnTo>
                    <a:pt x="1391" y="589"/>
                  </a:lnTo>
                  <a:lnTo>
                    <a:pt x="1412" y="646"/>
                  </a:lnTo>
                  <a:lnTo>
                    <a:pt x="1460" y="922"/>
                  </a:lnTo>
                  <a:lnTo>
                    <a:pt x="1458" y="1062"/>
                  </a:lnTo>
                  <a:lnTo>
                    <a:pt x="1439" y="1199"/>
                  </a:lnTo>
                  <a:lnTo>
                    <a:pt x="1428" y="1249"/>
                  </a:lnTo>
                  <a:lnTo>
                    <a:pt x="1412" y="1300"/>
                  </a:lnTo>
                  <a:lnTo>
                    <a:pt x="1378" y="1397"/>
                  </a:lnTo>
                  <a:lnTo>
                    <a:pt x="1519" y="1370"/>
                  </a:lnTo>
                  <a:lnTo>
                    <a:pt x="1660" y="1348"/>
                  </a:lnTo>
                  <a:lnTo>
                    <a:pt x="1941" y="1300"/>
                  </a:lnTo>
                  <a:lnTo>
                    <a:pt x="2783" y="0"/>
                  </a:lnTo>
                  <a:lnTo>
                    <a:pt x="2852" y="0"/>
                  </a:lnTo>
                  <a:lnTo>
                    <a:pt x="3209" y="0"/>
                  </a:lnTo>
                  <a:lnTo>
                    <a:pt x="2852" y="549"/>
                  </a:lnTo>
                  <a:lnTo>
                    <a:pt x="2401" y="1247"/>
                  </a:lnTo>
                  <a:lnTo>
                    <a:pt x="2793" y="1235"/>
                  </a:lnTo>
                  <a:lnTo>
                    <a:pt x="2852" y="1239"/>
                  </a:lnTo>
                  <a:lnTo>
                    <a:pt x="3040" y="1275"/>
                  </a:lnTo>
                  <a:lnTo>
                    <a:pt x="3110" y="1321"/>
                  </a:lnTo>
                  <a:lnTo>
                    <a:pt x="3127" y="1355"/>
                  </a:lnTo>
                  <a:lnTo>
                    <a:pt x="3129" y="1397"/>
                  </a:lnTo>
                  <a:lnTo>
                    <a:pt x="3116" y="1435"/>
                  </a:lnTo>
                  <a:lnTo>
                    <a:pt x="3095" y="1471"/>
                  </a:lnTo>
                  <a:lnTo>
                    <a:pt x="3072" y="1507"/>
                  </a:lnTo>
                  <a:lnTo>
                    <a:pt x="3044" y="1541"/>
                  </a:lnTo>
                  <a:lnTo>
                    <a:pt x="3013" y="1574"/>
                  </a:lnTo>
                  <a:lnTo>
                    <a:pt x="2983" y="1606"/>
                  </a:lnTo>
                  <a:lnTo>
                    <a:pt x="2951" y="1635"/>
                  </a:lnTo>
                  <a:lnTo>
                    <a:pt x="2922" y="1661"/>
                  </a:lnTo>
                  <a:lnTo>
                    <a:pt x="2888" y="1692"/>
                  </a:lnTo>
                  <a:lnTo>
                    <a:pt x="2852" y="1720"/>
                  </a:lnTo>
                  <a:lnTo>
                    <a:pt x="2816" y="1751"/>
                  </a:lnTo>
                  <a:lnTo>
                    <a:pt x="2778" y="1781"/>
                  </a:lnTo>
                  <a:lnTo>
                    <a:pt x="2740" y="1811"/>
                  </a:lnTo>
                  <a:lnTo>
                    <a:pt x="2701" y="1842"/>
                  </a:lnTo>
                  <a:lnTo>
                    <a:pt x="2663" y="1872"/>
                  </a:lnTo>
                  <a:lnTo>
                    <a:pt x="2625" y="1901"/>
                  </a:lnTo>
                  <a:lnTo>
                    <a:pt x="2587" y="1929"/>
                  </a:lnTo>
                  <a:lnTo>
                    <a:pt x="2549" y="1960"/>
                  </a:lnTo>
                  <a:lnTo>
                    <a:pt x="2509" y="1988"/>
                  </a:lnTo>
                  <a:lnTo>
                    <a:pt x="2471" y="2015"/>
                  </a:lnTo>
                  <a:lnTo>
                    <a:pt x="2433" y="2045"/>
                  </a:lnTo>
                  <a:lnTo>
                    <a:pt x="2393" y="2072"/>
                  </a:lnTo>
                  <a:lnTo>
                    <a:pt x="2354" y="2100"/>
                  </a:lnTo>
                  <a:lnTo>
                    <a:pt x="2316" y="2129"/>
                  </a:lnTo>
                  <a:lnTo>
                    <a:pt x="2276" y="2155"/>
                  </a:lnTo>
                  <a:lnTo>
                    <a:pt x="2236" y="2184"/>
                  </a:lnTo>
                  <a:lnTo>
                    <a:pt x="2196" y="2211"/>
                  </a:lnTo>
                  <a:lnTo>
                    <a:pt x="2158" y="2237"/>
                  </a:lnTo>
                  <a:lnTo>
                    <a:pt x="2118" y="2266"/>
                  </a:lnTo>
                  <a:lnTo>
                    <a:pt x="2078" y="2292"/>
                  </a:lnTo>
                  <a:lnTo>
                    <a:pt x="2038" y="2319"/>
                  </a:lnTo>
                  <a:lnTo>
                    <a:pt x="1998" y="2347"/>
                  </a:lnTo>
                  <a:lnTo>
                    <a:pt x="1958" y="2374"/>
                  </a:lnTo>
                  <a:lnTo>
                    <a:pt x="1918" y="2401"/>
                  </a:lnTo>
                  <a:lnTo>
                    <a:pt x="1878" y="2427"/>
                  </a:lnTo>
                  <a:lnTo>
                    <a:pt x="1838" y="2454"/>
                  </a:lnTo>
                  <a:lnTo>
                    <a:pt x="1798" y="2482"/>
                  </a:lnTo>
                  <a:lnTo>
                    <a:pt x="1758" y="2509"/>
                  </a:lnTo>
                  <a:lnTo>
                    <a:pt x="1719" y="2536"/>
                  </a:lnTo>
                  <a:lnTo>
                    <a:pt x="1679" y="2562"/>
                  </a:lnTo>
                  <a:lnTo>
                    <a:pt x="1639" y="2591"/>
                  </a:lnTo>
                  <a:lnTo>
                    <a:pt x="1601" y="2617"/>
                  </a:lnTo>
                  <a:lnTo>
                    <a:pt x="1720" y="2583"/>
                  </a:lnTo>
                  <a:lnTo>
                    <a:pt x="1840" y="2551"/>
                  </a:lnTo>
                  <a:lnTo>
                    <a:pt x="1962" y="2522"/>
                  </a:lnTo>
                  <a:lnTo>
                    <a:pt x="2085" y="2501"/>
                  </a:lnTo>
                  <a:lnTo>
                    <a:pt x="2110" y="2479"/>
                  </a:lnTo>
                  <a:lnTo>
                    <a:pt x="2135" y="2454"/>
                  </a:lnTo>
                  <a:lnTo>
                    <a:pt x="2186" y="2410"/>
                  </a:lnTo>
                  <a:lnTo>
                    <a:pt x="2241" y="2368"/>
                  </a:lnTo>
                  <a:lnTo>
                    <a:pt x="2298" y="2328"/>
                  </a:lnTo>
                  <a:lnTo>
                    <a:pt x="2359" y="2294"/>
                  </a:lnTo>
                  <a:lnTo>
                    <a:pt x="2420" y="2266"/>
                  </a:lnTo>
                  <a:lnTo>
                    <a:pt x="2485" y="2243"/>
                  </a:lnTo>
                  <a:lnTo>
                    <a:pt x="2553" y="2228"/>
                  </a:lnTo>
                  <a:lnTo>
                    <a:pt x="2701" y="2205"/>
                  </a:lnTo>
                  <a:lnTo>
                    <a:pt x="2852" y="2201"/>
                  </a:lnTo>
                  <a:lnTo>
                    <a:pt x="3183" y="2351"/>
                  </a:lnTo>
                  <a:lnTo>
                    <a:pt x="2852" y="2368"/>
                  </a:lnTo>
                  <a:lnTo>
                    <a:pt x="2825" y="2363"/>
                  </a:lnTo>
                  <a:lnTo>
                    <a:pt x="2690" y="2391"/>
                  </a:lnTo>
                  <a:lnTo>
                    <a:pt x="2639" y="2431"/>
                  </a:lnTo>
                  <a:lnTo>
                    <a:pt x="2587" y="2484"/>
                  </a:lnTo>
                  <a:lnTo>
                    <a:pt x="2713" y="2518"/>
                  </a:lnTo>
                  <a:lnTo>
                    <a:pt x="2823" y="2581"/>
                  </a:lnTo>
                  <a:lnTo>
                    <a:pt x="2852" y="2617"/>
                  </a:lnTo>
                  <a:lnTo>
                    <a:pt x="2852" y="2617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849560" y="1420920"/>
              <a:ext cx="1265400" cy="1731960"/>
            </a:xfrm>
            <a:custGeom>
              <a:avLst/>
              <a:gdLst/>
              <a:ahLst/>
              <a:rect l="l" t="t" r="r" b="b"/>
              <a:pathLst>
                <a:path w="1593" h="2183">
                  <a:moveTo>
                    <a:pt x="1175" y="187"/>
                  </a:moveTo>
                  <a:lnTo>
                    <a:pt x="1498" y="128"/>
                  </a:lnTo>
                  <a:lnTo>
                    <a:pt x="1175" y="0"/>
                  </a:lnTo>
                  <a:lnTo>
                    <a:pt x="926" y="4"/>
                  </a:lnTo>
                  <a:lnTo>
                    <a:pt x="680" y="63"/>
                  </a:lnTo>
                  <a:lnTo>
                    <a:pt x="593" y="105"/>
                  </a:lnTo>
                  <a:lnTo>
                    <a:pt x="507" y="158"/>
                  </a:lnTo>
                  <a:lnTo>
                    <a:pt x="468" y="187"/>
                  </a:lnTo>
                  <a:lnTo>
                    <a:pt x="430" y="219"/>
                  </a:lnTo>
                  <a:lnTo>
                    <a:pt x="391" y="253"/>
                  </a:lnTo>
                  <a:lnTo>
                    <a:pt x="357" y="288"/>
                  </a:lnTo>
                  <a:lnTo>
                    <a:pt x="323" y="326"/>
                  </a:lnTo>
                  <a:lnTo>
                    <a:pt x="293" y="364"/>
                  </a:lnTo>
                  <a:lnTo>
                    <a:pt x="262" y="403"/>
                  </a:lnTo>
                  <a:lnTo>
                    <a:pt x="236" y="447"/>
                  </a:lnTo>
                  <a:lnTo>
                    <a:pt x="190" y="535"/>
                  </a:lnTo>
                  <a:lnTo>
                    <a:pt x="154" y="626"/>
                  </a:lnTo>
                  <a:lnTo>
                    <a:pt x="118" y="765"/>
                  </a:lnTo>
                  <a:lnTo>
                    <a:pt x="102" y="909"/>
                  </a:lnTo>
                  <a:lnTo>
                    <a:pt x="106" y="1057"/>
                  </a:lnTo>
                  <a:lnTo>
                    <a:pt x="125" y="1198"/>
                  </a:lnTo>
                  <a:lnTo>
                    <a:pt x="135" y="1246"/>
                  </a:lnTo>
                  <a:lnTo>
                    <a:pt x="148" y="1291"/>
                  </a:lnTo>
                  <a:lnTo>
                    <a:pt x="163" y="1335"/>
                  </a:lnTo>
                  <a:lnTo>
                    <a:pt x="182" y="1379"/>
                  </a:lnTo>
                  <a:lnTo>
                    <a:pt x="201" y="1420"/>
                  </a:lnTo>
                  <a:lnTo>
                    <a:pt x="224" y="1462"/>
                  </a:lnTo>
                  <a:lnTo>
                    <a:pt x="247" y="1504"/>
                  </a:lnTo>
                  <a:lnTo>
                    <a:pt x="272" y="1546"/>
                  </a:lnTo>
                  <a:lnTo>
                    <a:pt x="232" y="1591"/>
                  </a:lnTo>
                  <a:lnTo>
                    <a:pt x="190" y="1639"/>
                  </a:lnTo>
                  <a:lnTo>
                    <a:pt x="152" y="1688"/>
                  </a:lnTo>
                  <a:lnTo>
                    <a:pt x="114" y="1738"/>
                  </a:lnTo>
                  <a:lnTo>
                    <a:pt x="80" y="1789"/>
                  </a:lnTo>
                  <a:lnTo>
                    <a:pt x="49" y="1844"/>
                  </a:lnTo>
                  <a:lnTo>
                    <a:pt x="23" y="1901"/>
                  </a:lnTo>
                  <a:lnTo>
                    <a:pt x="2" y="1960"/>
                  </a:lnTo>
                  <a:lnTo>
                    <a:pt x="0" y="2025"/>
                  </a:lnTo>
                  <a:lnTo>
                    <a:pt x="13" y="2074"/>
                  </a:lnTo>
                  <a:lnTo>
                    <a:pt x="28" y="2095"/>
                  </a:lnTo>
                  <a:lnTo>
                    <a:pt x="47" y="2112"/>
                  </a:lnTo>
                  <a:lnTo>
                    <a:pt x="102" y="2147"/>
                  </a:lnTo>
                  <a:lnTo>
                    <a:pt x="232" y="2175"/>
                  </a:lnTo>
                  <a:lnTo>
                    <a:pt x="365" y="2183"/>
                  </a:lnTo>
                  <a:lnTo>
                    <a:pt x="631" y="2175"/>
                  </a:lnTo>
                  <a:lnTo>
                    <a:pt x="903" y="2145"/>
                  </a:lnTo>
                  <a:lnTo>
                    <a:pt x="1175" y="2105"/>
                  </a:lnTo>
                  <a:lnTo>
                    <a:pt x="1593" y="1821"/>
                  </a:lnTo>
                  <a:lnTo>
                    <a:pt x="1175" y="1548"/>
                  </a:lnTo>
                  <a:lnTo>
                    <a:pt x="1076" y="1569"/>
                  </a:lnTo>
                  <a:lnTo>
                    <a:pt x="977" y="1590"/>
                  </a:lnTo>
                  <a:lnTo>
                    <a:pt x="998" y="1542"/>
                  </a:lnTo>
                  <a:lnTo>
                    <a:pt x="1019" y="1498"/>
                  </a:lnTo>
                  <a:lnTo>
                    <a:pt x="1042" y="1453"/>
                  </a:lnTo>
                  <a:lnTo>
                    <a:pt x="1065" y="1409"/>
                  </a:lnTo>
                  <a:lnTo>
                    <a:pt x="1091" y="1367"/>
                  </a:lnTo>
                  <a:lnTo>
                    <a:pt x="1118" y="1325"/>
                  </a:lnTo>
                  <a:lnTo>
                    <a:pt x="1144" y="1284"/>
                  </a:lnTo>
                  <a:lnTo>
                    <a:pt x="1175" y="1244"/>
                  </a:lnTo>
                  <a:lnTo>
                    <a:pt x="1498" y="808"/>
                  </a:lnTo>
                  <a:lnTo>
                    <a:pt x="1175" y="770"/>
                  </a:lnTo>
                  <a:lnTo>
                    <a:pt x="1118" y="812"/>
                  </a:lnTo>
                  <a:lnTo>
                    <a:pt x="1061" y="856"/>
                  </a:lnTo>
                  <a:lnTo>
                    <a:pt x="1006" y="898"/>
                  </a:lnTo>
                  <a:lnTo>
                    <a:pt x="950" y="941"/>
                  </a:lnTo>
                  <a:lnTo>
                    <a:pt x="897" y="983"/>
                  </a:lnTo>
                  <a:lnTo>
                    <a:pt x="844" y="1025"/>
                  </a:lnTo>
                  <a:lnTo>
                    <a:pt x="791" y="1067"/>
                  </a:lnTo>
                  <a:lnTo>
                    <a:pt x="739" y="1111"/>
                  </a:lnTo>
                  <a:lnTo>
                    <a:pt x="738" y="945"/>
                  </a:lnTo>
                  <a:lnTo>
                    <a:pt x="739" y="780"/>
                  </a:lnTo>
                  <a:lnTo>
                    <a:pt x="753" y="599"/>
                  </a:lnTo>
                  <a:lnTo>
                    <a:pt x="770" y="500"/>
                  </a:lnTo>
                  <a:lnTo>
                    <a:pt x="781" y="451"/>
                  </a:lnTo>
                  <a:lnTo>
                    <a:pt x="795" y="402"/>
                  </a:lnTo>
                  <a:lnTo>
                    <a:pt x="812" y="356"/>
                  </a:lnTo>
                  <a:lnTo>
                    <a:pt x="833" y="312"/>
                  </a:lnTo>
                  <a:lnTo>
                    <a:pt x="855" y="272"/>
                  </a:lnTo>
                  <a:lnTo>
                    <a:pt x="884" y="236"/>
                  </a:lnTo>
                  <a:lnTo>
                    <a:pt x="916" y="208"/>
                  </a:lnTo>
                  <a:lnTo>
                    <a:pt x="954" y="183"/>
                  </a:lnTo>
                  <a:lnTo>
                    <a:pt x="1042" y="156"/>
                  </a:lnTo>
                  <a:lnTo>
                    <a:pt x="1175" y="187"/>
                  </a:lnTo>
                  <a:lnTo>
                    <a:pt x="1175" y="187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10040" y="1552680"/>
              <a:ext cx="3357720" cy="3012840"/>
            </a:xfrm>
            <a:custGeom>
              <a:avLst/>
              <a:gdLst/>
              <a:ahLst/>
              <a:rect l="l" t="t" r="r" b="b"/>
              <a:pathLst>
                <a:path w="4230" h="3796">
                  <a:moveTo>
                    <a:pt x="1494" y="0"/>
                  </a:moveTo>
                  <a:lnTo>
                    <a:pt x="1838" y="64"/>
                  </a:lnTo>
                  <a:lnTo>
                    <a:pt x="1652" y="409"/>
                  </a:lnTo>
                  <a:lnTo>
                    <a:pt x="1247" y="802"/>
                  </a:lnTo>
                  <a:lnTo>
                    <a:pt x="1053" y="696"/>
                  </a:lnTo>
                  <a:lnTo>
                    <a:pt x="741" y="1203"/>
                  </a:lnTo>
                  <a:lnTo>
                    <a:pt x="812" y="1340"/>
                  </a:lnTo>
                  <a:lnTo>
                    <a:pt x="1055" y="1249"/>
                  </a:lnTo>
                  <a:lnTo>
                    <a:pt x="1215" y="1089"/>
                  </a:lnTo>
                  <a:lnTo>
                    <a:pt x="1684" y="967"/>
                  </a:lnTo>
                  <a:lnTo>
                    <a:pt x="1818" y="1146"/>
                  </a:lnTo>
                  <a:lnTo>
                    <a:pt x="2143" y="1068"/>
                  </a:lnTo>
                  <a:lnTo>
                    <a:pt x="2386" y="908"/>
                  </a:lnTo>
                  <a:lnTo>
                    <a:pt x="2804" y="863"/>
                  </a:lnTo>
                  <a:lnTo>
                    <a:pt x="2778" y="1013"/>
                  </a:lnTo>
                  <a:lnTo>
                    <a:pt x="1985" y="2311"/>
                  </a:lnTo>
                  <a:lnTo>
                    <a:pt x="2367" y="2211"/>
                  </a:lnTo>
                  <a:lnTo>
                    <a:pt x="2591" y="2106"/>
                  </a:lnTo>
                  <a:lnTo>
                    <a:pt x="2956" y="2019"/>
                  </a:lnTo>
                  <a:lnTo>
                    <a:pt x="2991" y="2266"/>
                  </a:lnTo>
                  <a:lnTo>
                    <a:pt x="2924" y="3246"/>
                  </a:lnTo>
                  <a:lnTo>
                    <a:pt x="3015" y="3724"/>
                  </a:lnTo>
                  <a:lnTo>
                    <a:pt x="3401" y="3725"/>
                  </a:lnTo>
                  <a:lnTo>
                    <a:pt x="3517" y="3353"/>
                  </a:lnTo>
                  <a:lnTo>
                    <a:pt x="3297" y="3340"/>
                  </a:lnTo>
                  <a:lnTo>
                    <a:pt x="3369" y="3034"/>
                  </a:lnTo>
                  <a:lnTo>
                    <a:pt x="3580" y="2682"/>
                  </a:lnTo>
                  <a:lnTo>
                    <a:pt x="4025" y="2577"/>
                  </a:lnTo>
                  <a:lnTo>
                    <a:pt x="4230" y="2766"/>
                  </a:lnTo>
                  <a:lnTo>
                    <a:pt x="4160" y="2897"/>
                  </a:lnTo>
                  <a:lnTo>
                    <a:pt x="4012" y="3113"/>
                  </a:lnTo>
                  <a:lnTo>
                    <a:pt x="3487" y="3705"/>
                  </a:lnTo>
                  <a:lnTo>
                    <a:pt x="3335" y="3792"/>
                  </a:lnTo>
                  <a:lnTo>
                    <a:pt x="2991" y="3784"/>
                  </a:lnTo>
                  <a:lnTo>
                    <a:pt x="2791" y="3744"/>
                  </a:lnTo>
                  <a:lnTo>
                    <a:pt x="2472" y="3796"/>
                  </a:lnTo>
                  <a:lnTo>
                    <a:pt x="2088" y="3254"/>
                  </a:lnTo>
                  <a:lnTo>
                    <a:pt x="2238" y="2918"/>
                  </a:lnTo>
                  <a:lnTo>
                    <a:pt x="2217" y="2821"/>
                  </a:lnTo>
                  <a:lnTo>
                    <a:pt x="2048" y="2682"/>
                  </a:lnTo>
                  <a:lnTo>
                    <a:pt x="1570" y="2902"/>
                  </a:lnTo>
                  <a:lnTo>
                    <a:pt x="1272" y="3134"/>
                  </a:lnTo>
                  <a:lnTo>
                    <a:pt x="901" y="3214"/>
                  </a:lnTo>
                  <a:lnTo>
                    <a:pt x="893" y="2956"/>
                  </a:lnTo>
                  <a:lnTo>
                    <a:pt x="1816" y="1534"/>
                  </a:lnTo>
                  <a:lnTo>
                    <a:pt x="987" y="1714"/>
                  </a:lnTo>
                  <a:lnTo>
                    <a:pt x="40" y="1635"/>
                  </a:lnTo>
                  <a:lnTo>
                    <a:pt x="51" y="1317"/>
                  </a:lnTo>
                  <a:lnTo>
                    <a:pt x="0" y="1083"/>
                  </a:lnTo>
                  <a:lnTo>
                    <a:pt x="430" y="711"/>
                  </a:lnTo>
                  <a:lnTo>
                    <a:pt x="667" y="836"/>
                  </a:lnTo>
                  <a:lnTo>
                    <a:pt x="1101" y="426"/>
                  </a:lnTo>
                  <a:lnTo>
                    <a:pt x="1226" y="87"/>
                  </a:lnTo>
                  <a:lnTo>
                    <a:pt x="1494" y="0"/>
                  </a:lnTo>
                  <a:lnTo>
                    <a:pt x="1494" y="0"/>
                  </a:lnTo>
                  <a:close/>
                </a:path>
              </a:pathLst>
            </a:custGeom>
            <a:solidFill>
              <a:srgbClr val="5c5c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26000" y="3968640"/>
              <a:ext cx="611280" cy="639720"/>
            </a:xfrm>
            <a:custGeom>
              <a:avLst/>
              <a:gdLst/>
              <a:ahLst/>
              <a:rect l="l" t="t" r="r" b="b"/>
              <a:pathLst>
                <a:path w="770" h="806">
                  <a:moveTo>
                    <a:pt x="770" y="717"/>
                  </a:moveTo>
                  <a:lnTo>
                    <a:pt x="711" y="743"/>
                  </a:lnTo>
                  <a:lnTo>
                    <a:pt x="654" y="762"/>
                  </a:lnTo>
                  <a:lnTo>
                    <a:pt x="543" y="795"/>
                  </a:lnTo>
                  <a:lnTo>
                    <a:pt x="346" y="806"/>
                  </a:lnTo>
                  <a:lnTo>
                    <a:pt x="253" y="766"/>
                  </a:lnTo>
                  <a:lnTo>
                    <a:pt x="177" y="724"/>
                  </a:lnTo>
                  <a:lnTo>
                    <a:pt x="114" y="679"/>
                  </a:lnTo>
                  <a:lnTo>
                    <a:pt x="66" y="633"/>
                  </a:lnTo>
                  <a:lnTo>
                    <a:pt x="11" y="536"/>
                  </a:lnTo>
                  <a:lnTo>
                    <a:pt x="0" y="433"/>
                  </a:lnTo>
                  <a:lnTo>
                    <a:pt x="11" y="380"/>
                  </a:lnTo>
                  <a:lnTo>
                    <a:pt x="28" y="327"/>
                  </a:lnTo>
                  <a:lnTo>
                    <a:pt x="55" y="274"/>
                  </a:lnTo>
                  <a:lnTo>
                    <a:pt x="70" y="245"/>
                  </a:lnTo>
                  <a:lnTo>
                    <a:pt x="89" y="219"/>
                  </a:lnTo>
                  <a:lnTo>
                    <a:pt x="106" y="192"/>
                  </a:lnTo>
                  <a:lnTo>
                    <a:pt x="127" y="164"/>
                  </a:lnTo>
                  <a:lnTo>
                    <a:pt x="148" y="137"/>
                  </a:lnTo>
                  <a:lnTo>
                    <a:pt x="171" y="110"/>
                  </a:lnTo>
                  <a:lnTo>
                    <a:pt x="196" y="82"/>
                  </a:lnTo>
                  <a:lnTo>
                    <a:pt x="220" y="55"/>
                  </a:lnTo>
                  <a:lnTo>
                    <a:pt x="245" y="27"/>
                  </a:lnTo>
                  <a:lnTo>
                    <a:pt x="272" y="0"/>
                  </a:lnTo>
                  <a:lnTo>
                    <a:pt x="285" y="78"/>
                  </a:lnTo>
                  <a:lnTo>
                    <a:pt x="306" y="154"/>
                  </a:lnTo>
                  <a:lnTo>
                    <a:pt x="317" y="190"/>
                  </a:lnTo>
                  <a:lnTo>
                    <a:pt x="332" y="226"/>
                  </a:lnTo>
                  <a:lnTo>
                    <a:pt x="363" y="295"/>
                  </a:lnTo>
                  <a:lnTo>
                    <a:pt x="399" y="363"/>
                  </a:lnTo>
                  <a:lnTo>
                    <a:pt x="420" y="395"/>
                  </a:lnTo>
                  <a:lnTo>
                    <a:pt x="443" y="426"/>
                  </a:lnTo>
                  <a:lnTo>
                    <a:pt x="466" y="456"/>
                  </a:lnTo>
                  <a:lnTo>
                    <a:pt x="490" y="487"/>
                  </a:lnTo>
                  <a:lnTo>
                    <a:pt x="517" y="517"/>
                  </a:lnTo>
                  <a:lnTo>
                    <a:pt x="543" y="546"/>
                  </a:lnTo>
                  <a:lnTo>
                    <a:pt x="570" y="572"/>
                  </a:lnTo>
                  <a:lnTo>
                    <a:pt x="597" y="597"/>
                  </a:lnTo>
                  <a:lnTo>
                    <a:pt x="625" y="620"/>
                  </a:lnTo>
                  <a:lnTo>
                    <a:pt x="652" y="641"/>
                  </a:lnTo>
                  <a:lnTo>
                    <a:pt x="711" y="682"/>
                  </a:lnTo>
                  <a:lnTo>
                    <a:pt x="770" y="717"/>
                  </a:lnTo>
                  <a:lnTo>
                    <a:pt x="770" y="717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175600" y="3533760"/>
              <a:ext cx="407880" cy="353880"/>
            </a:xfrm>
            <a:custGeom>
              <a:avLst/>
              <a:gdLst/>
              <a:ahLst/>
              <a:rect l="l" t="t" r="r" b="b"/>
              <a:pathLst>
                <a:path w="514" h="446">
                  <a:moveTo>
                    <a:pt x="0" y="159"/>
                  </a:moveTo>
                  <a:lnTo>
                    <a:pt x="73" y="135"/>
                  </a:lnTo>
                  <a:lnTo>
                    <a:pt x="143" y="110"/>
                  </a:lnTo>
                  <a:lnTo>
                    <a:pt x="278" y="66"/>
                  </a:lnTo>
                  <a:lnTo>
                    <a:pt x="403" y="30"/>
                  </a:lnTo>
                  <a:lnTo>
                    <a:pt x="514" y="0"/>
                  </a:lnTo>
                  <a:lnTo>
                    <a:pt x="493" y="273"/>
                  </a:lnTo>
                  <a:lnTo>
                    <a:pt x="375" y="306"/>
                  </a:lnTo>
                  <a:lnTo>
                    <a:pt x="257" y="346"/>
                  </a:lnTo>
                  <a:lnTo>
                    <a:pt x="137" y="393"/>
                  </a:lnTo>
                  <a:lnTo>
                    <a:pt x="76" y="418"/>
                  </a:lnTo>
                  <a:lnTo>
                    <a:pt x="16" y="446"/>
                  </a:lnTo>
                  <a:lnTo>
                    <a:pt x="19" y="372"/>
                  </a:lnTo>
                  <a:lnTo>
                    <a:pt x="14" y="262"/>
                  </a:lnTo>
                  <a:lnTo>
                    <a:pt x="0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69040" y="3274920"/>
              <a:ext cx="484200" cy="1136880"/>
            </a:xfrm>
            <a:custGeom>
              <a:avLst/>
              <a:gdLst/>
              <a:ahLst/>
              <a:rect l="l" t="t" r="r" b="b"/>
              <a:pathLst>
                <a:path w="610" h="1431">
                  <a:moveTo>
                    <a:pt x="131" y="0"/>
                  </a:moveTo>
                  <a:lnTo>
                    <a:pt x="283" y="51"/>
                  </a:lnTo>
                  <a:lnTo>
                    <a:pt x="388" y="146"/>
                  </a:lnTo>
                  <a:lnTo>
                    <a:pt x="417" y="212"/>
                  </a:lnTo>
                  <a:lnTo>
                    <a:pt x="426" y="292"/>
                  </a:lnTo>
                  <a:lnTo>
                    <a:pt x="415" y="387"/>
                  </a:lnTo>
                  <a:lnTo>
                    <a:pt x="401" y="441"/>
                  </a:lnTo>
                  <a:lnTo>
                    <a:pt x="382" y="498"/>
                  </a:lnTo>
                  <a:lnTo>
                    <a:pt x="363" y="547"/>
                  </a:lnTo>
                  <a:lnTo>
                    <a:pt x="344" y="589"/>
                  </a:lnTo>
                  <a:lnTo>
                    <a:pt x="308" y="661"/>
                  </a:lnTo>
                  <a:lnTo>
                    <a:pt x="291" y="691"/>
                  </a:lnTo>
                  <a:lnTo>
                    <a:pt x="274" y="716"/>
                  </a:lnTo>
                  <a:lnTo>
                    <a:pt x="242" y="762"/>
                  </a:lnTo>
                  <a:lnTo>
                    <a:pt x="209" y="798"/>
                  </a:lnTo>
                  <a:lnTo>
                    <a:pt x="175" y="832"/>
                  </a:lnTo>
                  <a:lnTo>
                    <a:pt x="143" y="866"/>
                  </a:lnTo>
                  <a:lnTo>
                    <a:pt x="107" y="904"/>
                  </a:lnTo>
                  <a:lnTo>
                    <a:pt x="213" y="864"/>
                  </a:lnTo>
                  <a:lnTo>
                    <a:pt x="335" y="821"/>
                  </a:lnTo>
                  <a:lnTo>
                    <a:pt x="399" y="796"/>
                  </a:lnTo>
                  <a:lnTo>
                    <a:pt x="468" y="771"/>
                  </a:lnTo>
                  <a:lnTo>
                    <a:pt x="538" y="747"/>
                  </a:lnTo>
                  <a:lnTo>
                    <a:pt x="610" y="720"/>
                  </a:lnTo>
                  <a:lnTo>
                    <a:pt x="601" y="971"/>
                  </a:lnTo>
                  <a:lnTo>
                    <a:pt x="590" y="1077"/>
                  </a:lnTo>
                  <a:lnTo>
                    <a:pt x="574" y="1171"/>
                  </a:lnTo>
                  <a:lnTo>
                    <a:pt x="519" y="1207"/>
                  </a:lnTo>
                  <a:lnTo>
                    <a:pt x="464" y="1239"/>
                  </a:lnTo>
                  <a:lnTo>
                    <a:pt x="409" y="1273"/>
                  </a:lnTo>
                  <a:lnTo>
                    <a:pt x="356" y="1305"/>
                  </a:lnTo>
                  <a:lnTo>
                    <a:pt x="302" y="1338"/>
                  </a:lnTo>
                  <a:lnTo>
                    <a:pt x="249" y="1370"/>
                  </a:lnTo>
                  <a:lnTo>
                    <a:pt x="198" y="1401"/>
                  </a:lnTo>
                  <a:lnTo>
                    <a:pt x="147" y="1431"/>
                  </a:lnTo>
                  <a:lnTo>
                    <a:pt x="72" y="1302"/>
                  </a:lnTo>
                  <a:lnTo>
                    <a:pt x="42" y="1188"/>
                  </a:lnTo>
                  <a:lnTo>
                    <a:pt x="19" y="1039"/>
                  </a:lnTo>
                  <a:lnTo>
                    <a:pt x="0" y="648"/>
                  </a:lnTo>
                  <a:lnTo>
                    <a:pt x="6" y="475"/>
                  </a:lnTo>
                  <a:lnTo>
                    <a:pt x="21" y="325"/>
                  </a:lnTo>
                  <a:lnTo>
                    <a:pt x="44" y="197"/>
                  </a:lnTo>
                  <a:lnTo>
                    <a:pt x="59" y="144"/>
                  </a:lnTo>
                  <a:lnTo>
                    <a:pt x="78" y="95"/>
                  </a:lnTo>
                  <a:lnTo>
                    <a:pt x="103" y="43"/>
                  </a:lnTo>
                  <a:lnTo>
                    <a:pt x="116" y="21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056280" y="2276280"/>
              <a:ext cx="1630440" cy="1660680"/>
            </a:xfrm>
            <a:custGeom>
              <a:avLst/>
              <a:gdLst/>
              <a:ahLst/>
              <a:rect l="l" t="t" r="r" b="b"/>
              <a:pathLst>
                <a:path w="2053" h="2091">
                  <a:moveTo>
                    <a:pt x="1348" y="8"/>
                  </a:moveTo>
                  <a:lnTo>
                    <a:pt x="1743" y="0"/>
                  </a:lnTo>
                  <a:lnTo>
                    <a:pt x="1892" y="21"/>
                  </a:lnTo>
                  <a:lnTo>
                    <a:pt x="1998" y="61"/>
                  </a:lnTo>
                  <a:lnTo>
                    <a:pt x="2053" y="122"/>
                  </a:lnTo>
                  <a:lnTo>
                    <a:pt x="2050" y="207"/>
                  </a:lnTo>
                  <a:lnTo>
                    <a:pt x="2025" y="261"/>
                  </a:lnTo>
                  <a:lnTo>
                    <a:pt x="2006" y="289"/>
                  </a:lnTo>
                  <a:lnTo>
                    <a:pt x="1983" y="321"/>
                  </a:lnTo>
                  <a:lnTo>
                    <a:pt x="1954" y="354"/>
                  </a:lnTo>
                  <a:lnTo>
                    <a:pt x="1922" y="388"/>
                  </a:lnTo>
                  <a:lnTo>
                    <a:pt x="1884" y="424"/>
                  </a:lnTo>
                  <a:lnTo>
                    <a:pt x="1842" y="462"/>
                  </a:lnTo>
                  <a:lnTo>
                    <a:pt x="1804" y="494"/>
                  </a:lnTo>
                  <a:lnTo>
                    <a:pt x="1768" y="527"/>
                  </a:lnTo>
                  <a:lnTo>
                    <a:pt x="1730" y="557"/>
                  </a:lnTo>
                  <a:lnTo>
                    <a:pt x="1694" y="588"/>
                  </a:lnTo>
                  <a:lnTo>
                    <a:pt x="1656" y="616"/>
                  </a:lnTo>
                  <a:lnTo>
                    <a:pt x="1620" y="647"/>
                  </a:lnTo>
                  <a:lnTo>
                    <a:pt x="1584" y="675"/>
                  </a:lnTo>
                  <a:lnTo>
                    <a:pt x="1546" y="704"/>
                  </a:lnTo>
                  <a:lnTo>
                    <a:pt x="1510" y="732"/>
                  </a:lnTo>
                  <a:lnTo>
                    <a:pt x="1472" y="761"/>
                  </a:lnTo>
                  <a:lnTo>
                    <a:pt x="1435" y="787"/>
                  </a:lnTo>
                  <a:lnTo>
                    <a:pt x="1397" y="814"/>
                  </a:lnTo>
                  <a:lnTo>
                    <a:pt x="1361" y="840"/>
                  </a:lnTo>
                  <a:lnTo>
                    <a:pt x="1323" y="867"/>
                  </a:lnTo>
                  <a:lnTo>
                    <a:pt x="1287" y="894"/>
                  </a:lnTo>
                  <a:lnTo>
                    <a:pt x="1249" y="920"/>
                  </a:lnTo>
                  <a:lnTo>
                    <a:pt x="1211" y="947"/>
                  </a:lnTo>
                  <a:lnTo>
                    <a:pt x="1175" y="973"/>
                  </a:lnTo>
                  <a:lnTo>
                    <a:pt x="1137" y="998"/>
                  </a:lnTo>
                  <a:lnTo>
                    <a:pt x="1099" y="1025"/>
                  </a:lnTo>
                  <a:lnTo>
                    <a:pt x="1061" y="1051"/>
                  </a:lnTo>
                  <a:lnTo>
                    <a:pt x="1023" y="1076"/>
                  </a:lnTo>
                  <a:lnTo>
                    <a:pt x="983" y="1103"/>
                  </a:lnTo>
                  <a:lnTo>
                    <a:pt x="945" y="1129"/>
                  </a:lnTo>
                  <a:lnTo>
                    <a:pt x="905" y="1154"/>
                  </a:lnTo>
                  <a:lnTo>
                    <a:pt x="867" y="1181"/>
                  </a:lnTo>
                  <a:lnTo>
                    <a:pt x="827" y="1207"/>
                  </a:lnTo>
                  <a:lnTo>
                    <a:pt x="787" y="1234"/>
                  </a:lnTo>
                  <a:lnTo>
                    <a:pt x="747" y="1262"/>
                  </a:lnTo>
                  <a:lnTo>
                    <a:pt x="707" y="1289"/>
                  </a:lnTo>
                  <a:lnTo>
                    <a:pt x="667" y="1318"/>
                  </a:lnTo>
                  <a:lnTo>
                    <a:pt x="627" y="1344"/>
                  </a:lnTo>
                  <a:lnTo>
                    <a:pt x="772" y="1308"/>
                  </a:lnTo>
                  <a:lnTo>
                    <a:pt x="873" y="1287"/>
                  </a:lnTo>
                  <a:lnTo>
                    <a:pt x="985" y="1268"/>
                  </a:lnTo>
                  <a:lnTo>
                    <a:pt x="956" y="1299"/>
                  </a:lnTo>
                  <a:lnTo>
                    <a:pt x="930" y="1331"/>
                  </a:lnTo>
                  <a:lnTo>
                    <a:pt x="905" y="1365"/>
                  </a:lnTo>
                  <a:lnTo>
                    <a:pt x="882" y="1399"/>
                  </a:lnTo>
                  <a:lnTo>
                    <a:pt x="861" y="1433"/>
                  </a:lnTo>
                  <a:lnTo>
                    <a:pt x="840" y="1468"/>
                  </a:lnTo>
                  <a:lnTo>
                    <a:pt x="804" y="1542"/>
                  </a:lnTo>
                  <a:lnTo>
                    <a:pt x="755" y="1700"/>
                  </a:lnTo>
                  <a:lnTo>
                    <a:pt x="728" y="1871"/>
                  </a:lnTo>
                  <a:lnTo>
                    <a:pt x="644" y="1897"/>
                  </a:lnTo>
                  <a:lnTo>
                    <a:pt x="557" y="1926"/>
                  </a:lnTo>
                  <a:lnTo>
                    <a:pt x="468" y="1952"/>
                  </a:lnTo>
                  <a:lnTo>
                    <a:pt x="376" y="1981"/>
                  </a:lnTo>
                  <a:lnTo>
                    <a:pt x="283" y="2009"/>
                  </a:lnTo>
                  <a:lnTo>
                    <a:pt x="188" y="2038"/>
                  </a:lnTo>
                  <a:lnTo>
                    <a:pt x="93" y="2065"/>
                  </a:lnTo>
                  <a:lnTo>
                    <a:pt x="0" y="2091"/>
                  </a:lnTo>
                  <a:lnTo>
                    <a:pt x="1348" y="8"/>
                  </a:lnTo>
                  <a:lnTo>
                    <a:pt x="1348" y="8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24280" y="2328840"/>
              <a:ext cx="1995480" cy="1693800"/>
            </a:xfrm>
            <a:custGeom>
              <a:avLst/>
              <a:gdLst/>
              <a:ahLst/>
              <a:rect l="l" t="t" r="r" b="b"/>
              <a:pathLst>
                <a:path w="2514" h="2133">
                  <a:moveTo>
                    <a:pt x="1994" y="87"/>
                  </a:moveTo>
                  <a:lnTo>
                    <a:pt x="2251" y="42"/>
                  </a:lnTo>
                  <a:lnTo>
                    <a:pt x="2514" y="0"/>
                  </a:lnTo>
                  <a:lnTo>
                    <a:pt x="1133" y="2131"/>
                  </a:lnTo>
                  <a:lnTo>
                    <a:pt x="894" y="2133"/>
                  </a:lnTo>
                  <a:lnTo>
                    <a:pt x="715" y="2079"/>
                  </a:lnTo>
                  <a:lnTo>
                    <a:pt x="660" y="2041"/>
                  </a:lnTo>
                  <a:lnTo>
                    <a:pt x="616" y="2001"/>
                  </a:lnTo>
                  <a:lnTo>
                    <a:pt x="565" y="1914"/>
                  </a:lnTo>
                  <a:lnTo>
                    <a:pt x="553" y="1823"/>
                  </a:lnTo>
                  <a:lnTo>
                    <a:pt x="561" y="1775"/>
                  </a:lnTo>
                  <a:lnTo>
                    <a:pt x="578" y="1726"/>
                  </a:lnTo>
                  <a:lnTo>
                    <a:pt x="603" y="1676"/>
                  </a:lnTo>
                  <a:lnTo>
                    <a:pt x="618" y="1652"/>
                  </a:lnTo>
                  <a:lnTo>
                    <a:pt x="635" y="1627"/>
                  </a:lnTo>
                  <a:lnTo>
                    <a:pt x="652" y="1602"/>
                  </a:lnTo>
                  <a:lnTo>
                    <a:pt x="673" y="1576"/>
                  </a:lnTo>
                  <a:lnTo>
                    <a:pt x="694" y="1551"/>
                  </a:lnTo>
                  <a:lnTo>
                    <a:pt x="717" y="1526"/>
                  </a:lnTo>
                  <a:lnTo>
                    <a:pt x="740" y="1500"/>
                  </a:lnTo>
                  <a:lnTo>
                    <a:pt x="766" y="1475"/>
                  </a:lnTo>
                  <a:lnTo>
                    <a:pt x="793" y="1450"/>
                  </a:lnTo>
                  <a:lnTo>
                    <a:pt x="819" y="1423"/>
                  </a:lnTo>
                  <a:lnTo>
                    <a:pt x="848" y="1399"/>
                  </a:lnTo>
                  <a:lnTo>
                    <a:pt x="878" y="1374"/>
                  </a:lnTo>
                  <a:lnTo>
                    <a:pt x="909" y="1347"/>
                  </a:lnTo>
                  <a:lnTo>
                    <a:pt x="939" y="1323"/>
                  </a:lnTo>
                  <a:lnTo>
                    <a:pt x="972" y="1298"/>
                  </a:lnTo>
                  <a:lnTo>
                    <a:pt x="1004" y="1273"/>
                  </a:lnTo>
                  <a:lnTo>
                    <a:pt x="1036" y="1251"/>
                  </a:lnTo>
                  <a:lnTo>
                    <a:pt x="1070" y="1226"/>
                  </a:lnTo>
                  <a:lnTo>
                    <a:pt x="1137" y="1178"/>
                  </a:lnTo>
                  <a:lnTo>
                    <a:pt x="1207" y="1133"/>
                  </a:lnTo>
                  <a:lnTo>
                    <a:pt x="1276" y="1087"/>
                  </a:lnTo>
                  <a:lnTo>
                    <a:pt x="1344" y="1043"/>
                  </a:lnTo>
                  <a:lnTo>
                    <a:pt x="1413" y="1002"/>
                  </a:lnTo>
                  <a:lnTo>
                    <a:pt x="1479" y="962"/>
                  </a:lnTo>
                  <a:lnTo>
                    <a:pt x="1542" y="924"/>
                  </a:lnTo>
                  <a:lnTo>
                    <a:pt x="1603" y="887"/>
                  </a:lnTo>
                  <a:lnTo>
                    <a:pt x="1662" y="853"/>
                  </a:lnTo>
                  <a:lnTo>
                    <a:pt x="1715" y="823"/>
                  </a:lnTo>
                  <a:lnTo>
                    <a:pt x="1763" y="796"/>
                  </a:lnTo>
                  <a:lnTo>
                    <a:pt x="1806" y="770"/>
                  </a:lnTo>
                  <a:lnTo>
                    <a:pt x="1875" y="728"/>
                  </a:lnTo>
                  <a:lnTo>
                    <a:pt x="1664" y="766"/>
                  </a:lnTo>
                  <a:lnTo>
                    <a:pt x="1462" y="804"/>
                  </a:lnTo>
                  <a:lnTo>
                    <a:pt x="1266" y="840"/>
                  </a:lnTo>
                  <a:lnTo>
                    <a:pt x="1076" y="872"/>
                  </a:lnTo>
                  <a:lnTo>
                    <a:pt x="888" y="899"/>
                  </a:lnTo>
                  <a:lnTo>
                    <a:pt x="702" y="918"/>
                  </a:lnTo>
                  <a:lnTo>
                    <a:pt x="325" y="927"/>
                  </a:lnTo>
                  <a:lnTo>
                    <a:pt x="175" y="910"/>
                  </a:lnTo>
                  <a:lnTo>
                    <a:pt x="72" y="868"/>
                  </a:lnTo>
                  <a:lnTo>
                    <a:pt x="15" y="808"/>
                  </a:lnTo>
                  <a:lnTo>
                    <a:pt x="0" y="728"/>
                  </a:lnTo>
                  <a:lnTo>
                    <a:pt x="4" y="680"/>
                  </a:lnTo>
                  <a:lnTo>
                    <a:pt x="19" y="631"/>
                  </a:lnTo>
                  <a:lnTo>
                    <a:pt x="42" y="578"/>
                  </a:lnTo>
                  <a:lnTo>
                    <a:pt x="74" y="521"/>
                  </a:lnTo>
                  <a:lnTo>
                    <a:pt x="93" y="490"/>
                  </a:lnTo>
                  <a:lnTo>
                    <a:pt x="112" y="462"/>
                  </a:lnTo>
                  <a:lnTo>
                    <a:pt x="135" y="429"/>
                  </a:lnTo>
                  <a:lnTo>
                    <a:pt x="158" y="399"/>
                  </a:lnTo>
                  <a:lnTo>
                    <a:pt x="184" y="367"/>
                  </a:lnTo>
                  <a:lnTo>
                    <a:pt x="211" y="334"/>
                  </a:lnTo>
                  <a:lnTo>
                    <a:pt x="240" y="300"/>
                  </a:lnTo>
                  <a:lnTo>
                    <a:pt x="270" y="268"/>
                  </a:lnTo>
                  <a:lnTo>
                    <a:pt x="295" y="304"/>
                  </a:lnTo>
                  <a:lnTo>
                    <a:pt x="323" y="340"/>
                  </a:lnTo>
                  <a:lnTo>
                    <a:pt x="354" y="374"/>
                  </a:lnTo>
                  <a:lnTo>
                    <a:pt x="384" y="408"/>
                  </a:lnTo>
                  <a:lnTo>
                    <a:pt x="420" y="443"/>
                  </a:lnTo>
                  <a:lnTo>
                    <a:pt x="456" y="475"/>
                  </a:lnTo>
                  <a:lnTo>
                    <a:pt x="494" y="505"/>
                  </a:lnTo>
                  <a:lnTo>
                    <a:pt x="534" y="534"/>
                  </a:lnTo>
                  <a:lnTo>
                    <a:pt x="574" y="561"/>
                  </a:lnTo>
                  <a:lnTo>
                    <a:pt x="614" y="583"/>
                  </a:lnTo>
                  <a:lnTo>
                    <a:pt x="700" y="623"/>
                  </a:lnTo>
                  <a:lnTo>
                    <a:pt x="789" y="656"/>
                  </a:lnTo>
                  <a:lnTo>
                    <a:pt x="882" y="676"/>
                  </a:lnTo>
                  <a:lnTo>
                    <a:pt x="1084" y="695"/>
                  </a:lnTo>
                  <a:lnTo>
                    <a:pt x="1281" y="676"/>
                  </a:lnTo>
                  <a:lnTo>
                    <a:pt x="1464" y="623"/>
                  </a:lnTo>
                  <a:lnTo>
                    <a:pt x="1550" y="583"/>
                  </a:lnTo>
                  <a:lnTo>
                    <a:pt x="1631" y="534"/>
                  </a:lnTo>
                  <a:lnTo>
                    <a:pt x="1669" y="505"/>
                  </a:lnTo>
                  <a:lnTo>
                    <a:pt x="1709" y="475"/>
                  </a:lnTo>
                  <a:lnTo>
                    <a:pt x="1745" y="441"/>
                  </a:lnTo>
                  <a:lnTo>
                    <a:pt x="1782" y="407"/>
                  </a:lnTo>
                  <a:lnTo>
                    <a:pt x="1816" y="370"/>
                  </a:lnTo>
                  <a:lnTo>
                    <a:pt x="1848" y="332"/>
                  </a:lnTo>
                  <a:lnTo>
                    <a:pt x="1877" y="294"/>
                  </a:lnTo>
                  <a:lnTo>
                    <a:pt x="1905" y="254"/>
                  </a:lnTo>
                  <a:lnTo>
                    <a:pt x="1930" y="215"/>
                  </a:lnTo>
                  <a:lnTo>
                    <a:pt x="1955" y="173"/>
                  </a:lnTo>
                  <a:lnTo>
                    <a:pt x="1994" y="87"/>
                  </a:lnTo>
                  <a:lnTo>
                    <a:pt x="1994" y="87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44920" y="1811160"/>
              <a:ext cx="482760" cy="909720"/>
            </a:xfrm>
            <a:custGeom>
              <a:avLst/>
              <a:gdLst/>
              <a:ahLst/>
              <a:rect l="l" t="t" r="r" b="b"/>
              <a:pathLst>
                <a:path w="609" h="1144">
                  <a:moveTo>
                    <a:pt x="607" y="424"/>
                  </a:moveTo>
                  <a:lnTo>
                    <a:pt x="578" y="458"/>
                  </a:lnTo>
                  <a:lnTo>
                    <a:pt x="548" y="490"/>
                  </a:lnTo>
                  <a:lnTo>
                    <a:pt x="520" y="524"/>
                  </a:lnTo>
                  <a:lnTo>
                    <a:pt x="493" y="557"/>
                  </a:lnTo>
                  <a:lnTo>
                    <a:pt x="466" y="589"/>
                  </a:lnTo>
                  <a:lnTo>
                    <a:pt x="442" y="623"/>
                  </a:lnTo>
                  <a:lnTo>
                    <a:pt x="417" y="656"/>
                  </a:lnTo>
                  <a:lnTo>
                    <a:pt x="394" y="688"/>
                  </a:lnTo>
                  <a:lnTo>
                    <a:pt x="371" y="720"/>
                  </a:lnTo>
                  <a:lnTo>
                    <a:pt x="350" y="753"/>
                  </a:lnTo>
                  <a:lnTo>
                    <a:pt x="331" y="785"/>
                  </a:lnTo>
                  <a:lnTo>
                    <a:pt x="312" y="815"/>
                  </a:lnTo>
                  <a:lnTo>
                    <a:pt x="280" y="876"/>
                  </a:lnTo>
                  <a:lnTo>
                    <a:pt x="253" y="937"/>
                  </a:lnTo>
                  <a:lnTo>
                    <a:pt x="352" y="916"/>
                  </a:lnTo>
                  <a:lnTo>
                    <a:pt x="559" y="870"/>
                  </a:lnTo>
                  <a:lnTo>
                    <a:pt x="535" y="952"/>
                  </a:lnTo>
                  <a:lnTo>
                    <a:pt x="514" y="996"/>
                  </a:lnTo>
                  <a:lnTo>
                    <a:pt x="491" y="1036"/>
                  </a:lnTo>
                  <a:lnTo>
                    <a:pt x="466" y="1068"/>
                  </a:lnTo>
                  <a:lnTo>
                    <a:pt x="440" y="1097"/>
                  </a:lnTo>
                  <a:lnTo>
                    <a:pt x="409" y="1117"/>
                  </a:lnTo>
                  <a:lnTo>
                    <a:pt x="377" y="1133"/>
                  </a:lnTo>
                  <a:lnTo>
                    <a:pt x="305" y="1144"/>
                  </a:lnTo>
                  <a:lnTo>
                    <a:pt x="229" y="1133"/>
                  </a:lnTo>
                  <a:lnTo>
                    <a:pt x="164" y="1097"/>
                  </a:lnTo>
                  <a:lnTo>
                    <a:pt x="111" y="1036"/>
                  </a:lnTo>
                  <a:lnTo>
                    <a:pt x="71" y="950"/>
                  </a:lnTo>
                  <a:lnTo>
                    <a:pt x="23" y="743"/>
                  </a:lnTo>
                  <a:lnTo>
                    <a:pt x="0" y="443"/>
                  </a:lnTo>
                  <a:lnTo>
                    <a:pt x="37" y="414"/>
                  </a:lnTo>
                  <a:lnTo>
                    <a:pt x="73" y="386"/>
                  </a:lnTo>
                  <a:lnTo>
                    <a:pt x="107" y="357"/>
                  </a:lnTo>
                  <a:lnTo>
                    <a:pt x="143" y="329"/>
                  </a:lnTo>
                  <a:lnTo>
                    <a:pt x="181" y="300"/>
                  </a:lnTo>
                  <a:lnTo>
                    <a:pt x="217" y="272"/>
                  </a:lnTo>
                  <a:lnTo>
                    <a:pt x="253" y="243"/>
                  </a:lnTo>
                  <a:lnTo>
                    <a:pt x="291" y="216"/>
                  </a:lnTo>
                  <a:lnTo>
                    <a:pt x="327" y="188"/>
                  </a:lnTo>
                  <a:lnTo>
                    <a:pt x="366" y="159"/>
                  </a:lnTo>
                  <a:lnTo>
                    <a:pt x="404" y="133"/>
                  </a:lnTo>
                  <a:lnTo>
                    <a:pt x="440" y="106"/>
                  </a:lnTo>
                  <a:lnTo>
                    <a:pt x="478" y="80"/>
                  </a:lnTo>
                  <a:lnTo>
                    <a:pt x="516" y="51"/>
                  </a:lnTo>
                  <a:lnTo>
                    <a:pt x="554" y="25"/>
                  </a:lnTo>
                  <a:lnTo>
                    <a:pt x="590" y="0"/>
                  </a:lnTo>
                  <a:lnTo>
                    <a:pt x="609" y="350"/>
                  </a:lnTo>
                  <a:lnTo>
                    <a:pt x="607" y="424"/>
                  </a:lnTo>
                  <a:lnTo>
                    <a:pt x="607" y="424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86240" y="1349280"/>
              <a:ext cx="486000" cy="390600"/>
            </a:xfrm>
            <a:custGeom>
              <a:avLst/>
              <a:gdLst/>
              <a:ahLst/>
              <a:rect l="l" t="t" r="r" b="b"/>
              <a:pathLst>
                <a:path w="613" h="493">
                  <a:moveTo>
                    <a:pt x="613" y="236"/>
                  </a:moveTo>
                  <a:lnTo>
                    <a:pt x="502" y="280"/>
                  </a:lnTo>
                  <a:lnTo>
                    <a:pt x="445" y="306"/>
                  </a:lnTo>
                  <a:lnTo>
                    <a:pt x="384" y="337"/>
                  </a:lnTo>
                  <a:lnTo>
                    <a:pt x="324" y="371"/>
                  </a:lnTo>
                  <a:lnTo>
                    <a:pt x="263" y="409"/>
                  </a:lnTo>
                  <a:lnTo>
                    <a:pt x="200" y="449"/>
                  </a:lnTo>
                  <a:lnTo>
                    <a:pt x="135" y="493"/>
                  </a:lnTo>
                  <a:lnTo>
                    <a:pt x="109" y="436"/>
                  </a:lnTo>
                  <a:lnTo>
                    <a:pt x="94" y="409"/>
                  </a:lnTo>
                  <a:lnTo>
                    <a:pt x="76" y="380"/>
                  </a:lnTo>
                  <a:lnTo>
                    <a:pt x="59" y="354"/>
                  </a:lnTo>
                  <a:lnTo>
                    <a:pt x="40" y="327"/>
                  </a:lnTo>
                  <a:lnTo>
                    <a:pt x="21" y="302"/>
                  </a:lnTo>
                  <a:lnTo>
                    <a:pt x="0" y="278"/>
                  </a:lnTo>
                  <a:lnTo>
                    <a:pt x="42" y="253"/>
                  </a:lnTo>
                  <a:lnTo>
                    <a:pt x="84" y="228"/>
                  </a:lnTo>
                  <a:lnTo>
                    <a:pt x="164" y="183"/>
                  </a:lnTo>
                  <a:lnTo>
                    <a:pt x="242" y="141"/>
                  </a:lnTo>
                  <a:lnTo>
                    <a:pt x="314" y="103"/>
                  </a:lnTo>
                  <a:lnTo>
                    <a:pt x="383" y="71"/>
                  </a:lnTo>
                  <a:lnTo>
                    <a:pt x="445" y="42"/>
                  </a:lnTo>
                  <a:lnTo>
                    <a:pt x="554" y="0"/>
                  </a:lnTo>
                  <a:lnTo>
                    <a:pt x="613" y="236"/>
                  </a:lnTo>
                  <a:lnTo>
                    <a:pt x="613" y="236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037280" y="3887640"/>
              <a:ext cx="1152360" cy="741600"/>
            </a:xfrm>
            <a:custGeom>
              <a:avLst/>
              <a:gdLst/>
              <a:ahLst/>
              <a:rect l="l" t="t" r="r" b="b"/>
              <a:pathLst>
                <a:path w="1450" h="934">
                  <a:moveTo>
                    <a:pt x="1450" y="0"/>
                  </a:moveTo>
                  <a:lnTo>
                    <a:pt x="1441" y="93"/>
                  </a:lnTo>
                  <a:lnTo>
                    <a:pt x="1424" y="183"/>
                  </a:lnTo>
                  <a:lnTo>
                    <a:pt x="1399" y="268"/>
                  </a:lnTo>
                  <a:lnTo>
                    <a:pt x="1386" y="310"/>
                  </a:lnTo>
                  <a:lnTo>
                    <a:pt x="1369" y="352"/>
                  </a:lnTo>
                  <a:lnTo>
                    <a:pt x="1350" y="390"/>
                  </a:lnTo>
                  <a:lnTo>
                    <a:pt x="1331" y="430"/>
                  </a:lnTo>
                  <a:lnTo>
                    <a:pt x="1308" y="468"/>
                  </a:lnTo>
                  <a:lnTo>
                    <a:pt x="1283" y="506"/>
                  </a:lnTo>
                  <a:lnTo>
                    <a:pt x="1258" y="540"/>
                  </a:lnTo>
                  <a:lnTo>
                    <a:pt x="1230" y="576"/>
                  </a:lnTo>
                  <a:lnTo>
                    <a:pt x="1201" y="610"/>
                  </a:lnTo>
                  <a:lnTo>
                    <a:pt x="1169" y="645"/>
                  </a:lnTo>
                  <a:lnTo>
                    <a:pt x="1133" y="679"/>
                  </a:lnTo>
                  <a:lnTo>
                    <a:pt x="1097" y="711"/>
                  </a:lnTo>
                  <a:lnTo>
                    <a:pt x="1059" y="742"/>
                  </a:lnTo>
                  <a:lnTo>
                    <a:pt x="1021" y="772"/>
                  </a:lnTo>
                  <a:lnTo>
                    <a:pt x="981" y="797"/>
                  </a:lnTo>
                  <a:lnTo>
                    <a:pt x="939" y="821"/>
                  </a:lnTo>
                  <a:lnTo>
                    <a:pt x="855" y="861"/>
                  </a:lnTo>
                  <a:lnTo>
                    <a:pt x="766" y="894"/>
                  </a:lnTo>
                  <a:lnTo>
                    <a:pt x="673" y="917"/>
                  </a:lnTo>
                  <a:lnTo>
                    <a:pt x="475" y="934"/>
                  </a:lnTo>
                  <a:lnTo>
                    <a:pt x="224" y="905"/>
                  </a:lnTo>
                  <a:lnTo>
                    <a:pt x="110" y="869"/>
                  </a:lnTo>
                  <a:lnTo>
                    <a:pt x="0" y="820"/>
                  </a:lnTo>
                  <a:lnTo>
                    <a:pt x="76" y="785"/>
                  </a:lnTo>
                  <a:lnTo>
                    <a:pt x="152" y="747"/>
                  </a:lnTo>
                  <a:lnTo>
                    <a:pt x="230" y="706"/>
                  </a:lnTo>
                  <a:lnTo>
                    <a:pt x="312" y="660"/>
                  </a:lnTo>
                  <a:lnTo>
                    <a:pt x="346" y="690"/>
                  </a:lnTo>
                  <a:lnTo>
                    <a:pt x="386" y="713"/>
                  </a:lnTo>
                  <a:lnTo>
                    <a:pt x="475" y="730"/>
                  </a:lnTo>
                  <a:lnTo>
                    <a:pt x="547" y="719"/>
                  </a:lnTo>
                  <a:lnTo>
                    <a:pt x="608" y="683"/>
                  </a:lnTo>
                  <a:lnTo>
                    <a:pt x="659" y="622"/>
                  </a:lnTo>
                  <a:lnTo>
                    <a:pt x="701" y="538"/>
                  </a:lnTo>
                  <a:lnTo>
                    <a:pt x="739" y="401"/>
                  </a:lnTo>
                  <a:lnTo>
                    <a:pt x="783" y="375"/>
                  </a:lnTo>
                  <a:lnTo>
                    <a:pt x="827" y="348"/>
                  </a:lnTo>
                  <a:lnTo>
                    <a:pt x="871" y="322"/>
                  </a:lnTo>
                  <a:lnTo>
                    <a:pt x="914" y="295"/>
                  </a:lnTo>
                  <a:lnTo>
                    <a:pt x="958" y="268"/>
                  </a:lnTo>
                  <a:lnTo>
                    <a:pt x="1002" y="242"/>
                  </a:lnTo>
                  <a:lnTo>
                    <a:pt x="1047" y="215"/>
                  </a:lnTo>
                  <a:lnTo>
                    <a:pt x="1091" y="190"/>
                  </a:lnTo>
                  <a:lnTo>
                    <a:pt x="1135" y="164"/>
                  </a:lnTo>
                  <a:lnTo>
                    <a:pt x="1180" y="139"/>
                  </a:lnTo>
                  <a:lnTo>
                    <a:pt x="1226" y="114"/>
                  </a:lnTo>
                  <a:lnTo>
                    <a:pt x="1270" y="92"/>
                  </a:lnTo>
                  <a:lnTo>
                    <a:pt x="1359" y="44"/>
                  </a:lnTo>
                  <a:lnTo>
                    <a:pt x="1450" y="0"/>
                  </a:lnTo>
                  <a:lnTo>
                    <a:pt x="1450" y="0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38920" y="3043080"/>
              <a:ext cx="1336680" cy="804960"/>
            </a:xfrm>
            <a:custGeom>
              <a:avLst/>
              <a:gdLst/>
              <a:ahLst/>
              <a:rect l="l" t="t" r="r" b="b"/>
              <a:pathLst>
                <a:path w="1684" h="1013">
                  <a:moveTo>
                    <a:pt x="0" y="302"/>
                  </a:moveTo>
                  <a:lnTo>
                    <a:pt x="19" y="281"/>
                  </a:lnTo>
                  <a:lnTo>
                    <a:pt x="55" y="249"/>
                  </a:lnTo>
                  <a:lnTo>
                    <a:pt x="91" y="217"/>
                  </a:lnTo>
                  <a:lnTo>
                    <a:pt x="129" y="186"/>
                  </a:lnTo>
                  <a:lnTo>
                    <a:pt x="167" y="160"/>
                  </a:lnTo>
                  <a:lnTo>
                    <a:pt x="207" y="133"/>
                  </a:lnTo>
                  <a:lnTo>
                    <a:pt x="247" y="110"/>
                  </a:lnTo>
                  <a:lnTo>
                    <a:pt x="332" y="70"/>
                  </a:lnTo>
                  <a:lnTo>
                    <a:pt x="424" y="40"/>
                  </a:lnTo>
                  <a:lnTo>
                    <a:pt x="517" y="17"/>
                  </a:lnTo>
                  <a:lnTo>
                    <a:pt x="720" y="0"/>
                  </a:lnTo>
                  <a:lnTo>
                    <a:pt x="924" y="17"/>
                  </a:lnTo>
                  <a:lnTo>
                    <a:pt x="1108" y="70"/>
                  </a:lnTo>
                  <a:lnTo>
                    <a:pt x="1194" y="110"/>
                  </a:lnTo>
                  <a:lnTo>
                    <a:pt x="1276" y="160"/>
                  </a:lnTo>
                  <a:lnTo>
                    <a:pt x="1314" y="186"/>
                  </a:lnTo>
                  <a:lnTo>
                    <a:pt x="1352" y="217"/>
                  </a:lnTo>
                  <a:lnTo>
                    <a:pt x="1388" y="249"/>
                  </a:lnTo>
                  <a:lnTo>
                    <a:pt x="1424" y="281"/>
                  </a:lnTo>
                  <a:lnTo>
                    <a:pt x="1449" y="308"/>
                  </a:lnTo>
                  <a:lnTo>
                    <a:pt x="1473" y="336"/>
                  </a:lnTo>
                  <a:lnTo>
                    <a:pt x="1496" y="363"/>
                  </a:lnTo>
                  <a:lnTo>
                    <a:pt x="1517" y="391"/>
                  </a:lnTo>
                  <a:lnTo>
                    <a:pt x="1538" y="420"/>
                  </a:lnTo>
                  <a:lnTo>
                    <a:pt x="1557" y="450"/>
                  </a:lnTo>
                  <a:lnTo>
                    <a:pt x="1591" y="511"/>
                  </a:lnTo>
                  <a:lnTo>
                    <a:pt x="1622" y="574"/>
                  </a:lnTo>
                  <a:lnTo>
                    <a:pt x="1646" y="639"/>
                  </a:lnTo>
                  <a:lnTo>
                    <a:pt x="1684" y="777"/>
                  </a:lnTo>
                  <a:lnTo>
                    <a:pt x="1603" y="806"/>
                  </a:lnTo>
                  <a:lnTo>
                    <a:pt x="1521" y="834"/>
                  </a:lnTo>
                  <a:lnTo>
                    <a:pt x="1437" y="863"/>
                  </a:lnTo>
                  <a:lnTo>
                    <a:pt x="1355" y="893"/>
                  </a:lnTo>
                  <a:lnTo>
                    <a:pt x="1272" y="924"/>
                  </a:lnTo>
                  <a:lnTo>
                    <a:pt x="1188" y="954"/>
                  </a:lnTo>
                  <a:lnTo>
                    <a:pt x="1106" y="983"/>
                  </a:lnTo>
                  <a:lnTo>
                    <a:pt x="1026" y="1013"/>
                  </a:lnTo>
                  <a:lnTo>
                    <a:pt x="1026" y="998"/>
                  </a:lnTo>
                  <a:lnTo>
                    <a:pt x="1021" y="806"/>
                  </a:lnTo>
                  <a:lnTo>
                    <a:pt x="1007" y="642"/>
                  </a:lnTo>
                  <a:lnTo>
                    <a:pt x="985" y="505"/>
                  </a:lnTo>
                  <a:lnTo>
                    <a:pt x="969" y="447"/>
                  </a:lnTo>
                  <a:lnTo>
                    <a:pt x="952" y="395"/>
                  </a:lnTo>
                  <a:lnTo>
                    <a:pt x="933" y="352"/>
                  </a:lnTo>
                  <a:lnTo>
                    <a:pt x="910" y="312"/>
                  </a:lnTo>
                  <a:lnTo>
                    <a:pt x="888" y="277"/>
                  </a:lnTo>
                  <a:lnTo>
                    <a:pt x="859" y="251"/>
                  </a:lnTo>
                  <a:lnTo>
                    <a:pt x="831" y="230"/>
                  </a:lnTo>
                  <a:lnTo>
                    <a:pt x="798" y="215"/>
                  </a:lnTo>
                  <a:lnTo>
                    <a:pt x="726" y="203"/>
                  </a:lnTo>
                  <a:lnTo>
                    <a:pt x="627" y="226"/>
                  </a:lnTo>
                  <a:lnTo>
                    <a:pt x="547" y="293"/>
                  </a:lnTo>
                  <a:lnTo>
                    <a:pt x="279" y="275"/>
                  </a:lnTo>
                  <a:lnTo>
                    <a:pt x="0" y="302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34080" y="3665520"/>
              <a:ext cx="330120" cy="303120"/>
            </a:xfrm>
            <a:custGeom>
              <a:avLst/>
              <a:gdLst/>
              <a:ahLst/>
              <a:rect l="l" t="t" r="r" b="b"/>
              <a:pathLst>
                <a:path w="417" h="384">
                  <a:moveTo>
                    <a:pt x="0" y="213"/>
                  </a:moveTo>
                  <a:lnTo>
                    <a:pt x="2" y="122"/>
                  </a:lnTo>
                  <a:lnTo>
                    <a:pt x="124" y="84"/>
                  </a:lnTo>
                  <a:lnTo>
                    <a:pt x="234" y="49"/>
                  </a:lnTo>
                  <a:lnTo>
                    <a:pt x="333" y="21"/>
                  </a:lnTo>
                  <a:lnTo>
                    <a:pt x="417" y="0"/>
                  </a:lnTo>
                  <a:lnTo>
                    <a:pt x="373" y="42"/>
                  </a:lnTo>
                  <a:lnTo>
                    <a:pt x="325" y="87"/>
                  </a:lnTo>
                  <a:lnTo>
                    <a:pt x="276" y="135"/>
                  </a:lnTo>
                  <a:lnTo>
                    <a:pt x="223" y="182"/>
                  </a:lnTo>
                  <a:lnTo>
                    <a:pt x="196" y="205"/>
                  </a:lnTo>
                  <a:lnTo>
                    <a:pt x="169" y="230"/>
                  </a:lnTo>
                  <a:lnTo>
                    <a:pt x="143" y="257"/>
                  </a:lnTo>
                  <a:lnTo>
                    <a:pt x="116" y="281"/>
                  </a:lnTo>
                  <a:lnTo>
                    <a:pt x="90" y="306"/>
                  </a:lnTo>
                  <a:lnTo>
                    <a:pt x="63" y="331"/>
                  </a:lnTo>
                  <a:lnTo>
                    <a:pt x="38" y="357"/>
                  </a:lnTo>
                  <a:lnTo>
                    <a:pt x="12" y="384"/>
                  </a:lnTo>
                  <a:lnTo>
                    <a:pt x="0" y="213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721200" y="1295280"/>
              <a:ext cx="1046160" cy="1033560"/>
            </a:xfrm>
            <a:custGeom>
              <a:avLst/>
              <a:gdLst/>
              <a:ahLst/>
              <a:rect l="l" t="t" r="r" b="b"/>
              <a:pathLst>
                <a:path w="1318" h="1302">
                  <a:moveTo>
                    <a:pt x="0" y="1302"/>
                  </a:moveTo>
                  <a:lnTo>
                    <a:pt x="843" y="0"/>
                  </a:lnTo>
                  <a:lnTo>
                    <a:pt x="1318" y="0"/>
                  </a:lnTo>
                  <a:lnTo>
                    <a:pt x="514" y="1243"/>
                  </a:lnTo>
                  <a:lnTo>
                    <a:pt x="0" y="1302"/>
                  </a:lnTo>
                  <a:lnTo>
                    <a:pt x="0" y="1302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229000" y="3936960"/>
              <a:ext cx="827280" cy="692280"/>
            </a:xfrm>
            <a:custGeom>
              <a:avLst/>
              <a:gdLst/>
              <a:ahLst/>
              <a:rect l="l" t="t" r="r" b="b"/>
              <a:pathLst>
                <a:path w="1042" h="873">
                  <a:moveTo>
                    <a:pt x="0" y="873"/>
                  </a:moveTo>
                  <a:lnTo>
                    <a:pt x="498" y="107"/>
                  </a:lnTo>
                  <a:lnTo>
                    <a:pt x="759" y="67"/>
                  </a:lnTo>
                  <a:lnTo>
                    <a:pt x="899" y="34"/>
                  </a:lnTo>
                  <a:lnTo>
                    <a:pt x="1042" y="0"/>
                  </a:lnTo>
                  <a:lnTo>
                    <a:pt x="475" y="873"/>
                  </a:lnTo>
                  <a:lnTo>
                    <a:pt x="0" y="873"/>
                  </a:lnTo>
                  <a:lnTo>
                    <a:pt x="0" y="873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88080" y="1739880"/>
              <a:ext cx="576000" cy="763560"/>
            </a:xfrm>
            <a:custGeom>
              <a:avLst/>
              <a:gdLst/>
              <a:ahLst/>
              <a:rect l="l" t="t" r="r" b="b"/>
              <a:pathLst>
                <a:path w="727" h="961">
                  <a:moveTo>
                    <a:pt x="639" y="0"/>
                  </a:moveTo>
                  <a:lnTo>
                    <a:pt x="660" y="49"/>
                  </a:lnTo>
                  <a:lnTo>
                    <a:pt x="677" y="100"/>
                  </a:lnTo>
                  <a:lnTo>
                    <a:pt x="704" y="207"/>
                  </a:lnTo>
                  <a:lnTo>
                    <a:pt x="727" y="435"/>
                  </a:lnTo>
                  <a:lnTo>
                    <a:pt x="721" y="539"/>
                  </a:lnTo>
                  <a:lnTo>
                    <a:pt x="708" y="640"/>
                  </a:lnTo>
                  <a:lnTo>
                    <a:pt x="685" y="737"/>
                  </a:lnTo>
                  <a:lnTo>
                    <a:pt x="654" y="830"/>
                  </a:lnTo>
                  <a:lnTo>
                    <a:pt x="470" y="864"/>
                  </a:lnTo>
                  <a:lnTo>
                    <a:pt x="299" y="899"/>
                  </a:lnTo>
                  <a:lnTo>
                    <a:pt x="141" y="931"/>
                  </a:lnTo>
                  <a:lnTo>
                    <a:pt x="0" y="961"/>
                  </a:lnTo>
                  <a:lnTo>
                    <a:pt x="35" y="766"/>
                  </a:lnTo>
                  <a:lnTo>
                    <a:pt x="48" y="517"/>
                  </a:lnTo>
                  <a:lnTo>
                    <a:pt x="82" y="480"/>
                  </a:lnTo>
                  <a:lnTo>
                    <a:pt x="115" y="446"/>
                  </a:lnTo>
                  <a:lnTo>
                    <a:pt x="151" y="410"/>
                  </a:lnTo>
                  <a:lnTo>
                    <a:pt x="185" y="376"/>
                  </a:lnTo>
                  <a:lnTo>
                    <a:pt x="221" y="342"/>
                  </a:lnTo>
                  <a:lnTo>
                    <a:pt x="257" y="307"/>
                  </a:lnTo>
                  <a:lnTo>
                    <a:pt x="295" y="275"/>
                  </a:lnTo>
                  <a:lnTo>
                    <a:pt x="331" y="241"/>
                  </a:lnTo>
                  <a:lnTo>
                    <a:pt x="369" y="209"/>
                  </a:lnTo>
                  <a:lnTo>
                    <a:pt x="407" y="176"/>
                  </a:lnTo>
                  <a:lnTo>
                    <a:pt x="445" y="146"/>
                  </a:lnTo>
                  <a:lnTo>
                    <a:pt x="483" y="116"/>
                  </a:lnTo>
                  <a:lnTo>
                    <a:pt x="523" y="85"/>
                  </a:lnTo>
                  <a:lnTo>
                    <a:pt x="561" y="57"/>
                  </a:lnTo>
                  <a:lnTo>
                    <a:pt x="599" y="28"/>
                  </a:lnTo>
                  <a:lnTo>
                    <a:pt x="639" y="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6720" y="1295280"/>
              <a:ext cx="1379520" cy="1246320"/>
            </a:xfrm>
            <a:custGeom>
              <a:avLst/>
              <a:gdLst/>
              <a:ahLst/>
              <a:rect l="l" t="t" r="r" b="b"/>
              <a:pathLst>
                <a:path w="1737" h="1570">
                  <a:moveTo>
                    <a:pt x="0" y="994"/>
                  </a:moveTo>
                  <a:lnTo>
                    <a:pt x="3" y="889"/>
                  </a:lnTo>
                  <a:lnTo>
                    <a:pt x="17" y="789"/>
                  </a:lnTo>
                  <a:lnTo>
                    <a:pt x="38" y="694"/>
                  </a:lnTo>
                  <a:lnTo>
                    <a:pt x="68" y="602"/>
                  </a:lnTo>
                  <a:lnTo>
                    <a:pt x="87" y="557"/>
                  </a:lnTo>
                  <a:lnTo>
                    <a:pt x="108" y="515"/>
                  </a:lnTo>
                  <a:lnTo>
                    <a:pt x="131" y="473"/>
                  </a:lnTo>
                  <a:lnTo>
                    <a:pt x="155" y="433"/>
                  </a:lnTo>
                  <a:lnTo>
                    <a:pt x="182" y="393"/>
                  </a:lnTo>
                  <a:lnTo>
                    <a:pt x="213" y="355"/>
                  </a:lnTo>
                  <a:lnTo>
                    <a:pt x="243" y="317"/>
                  </a:lnTo>
                  <a:lnTo>
                    <a:pt x="277" y="283"/>
                  </a:lnTo>
                  <a:lnTo>
                    <a:pt x="311" y="249"/>
                  </a:lnTo>
                  <a:lnTo>
                    <a:pt x="349" y="216"/>
                  </a:lnTo>
                  <a:lnTo>
                    <a:pt x="386" y="186"/>
                  </a:lnTo>
                  <a:lnTo>
                    <a:pt x="425" y="159"/>
                  </a:lnTo>
                  <a:lnTo>
                    <a:pt x="465" y="133"/>
                  </a:lnTo>
                  <a:lnTo>
                    <a:pt x="505" y="110"/>
                  </a:lnTo>
                  <a:lnTo>
                    <a:pt x="591" y="70"/>
                  </a:lnTo>
                  <a:lnTo>
                    <a:pt x="682" y="40"/>
                  </a:lnTo>
                  <a:lnTo>
                    <a:pt x="775" y="17"/>
                  </a:lnTo>
                  <a:lnTo>
                    <a:pt x="979" y="0"/>
                  </a:lnTo>
                  <a:lnTo>
                    <a:pt x="1180" y="17"/>
                  </a:lnTo>
                  <a:lnTo>
                    <a:pt x="1367" y="70"/>
                  </a:lnTo>
                  <a:lnTo>
                    <a:pt x="1452" y="110"/>
                  </a:lnTo>
                  <a:lnTo>
                    <a:pt x="1532" y="159"/>
                  </a:lnTo>
                  <a:lnTo>
                    <a:pt x="1572" y="186"/>
                  </a:lnTo>
                  <a:lnTo>
                    <a:pt x="1610" y="216"/>
                  </a:lnTo>
                  <a:lnTo>
                    <a:pt x="1646" y="249"/>
                  </a:lnTo>
                  <a:lnTo>
                    <a:pt x="1682" y="283"/>
                  </a:lnTo>
                  <a:lnTo>
                    <a:pt x="1711" y="313"/>
                  </a:lnTo>
                  <a:lnTo>
                    <a:pt x="1737" y="344"/>
                  </a:lnTo>
                  <a:lnTo>
                    <a:pt x="1682" y="378"/>
                  </a:lnTo>
                  <a:lnTo>
                    <a:pt x="1625" y="412"/>
                  </a:lnTo>
                  <a:lnTo>
                    <a:pt x="1566" y="450"/>
                  </a:lnTo>
                  <a:lnTo>
                    <a:pt x="1507" y="488"/>
                  </a:lnTo>
                  <a:lnTo>
                    <a:pt x="1448" y="526"/>
                  </a:lnTo>
                  <a:lnTo>
                    <a:pt x="1388" y="566"/>
                  </a:lnTo>
                  <a:lnTo>
                    <a:pt x="1329" y="608"/>
                  </a:lnTo>
                  <a:lnTo>
                    <a:pt x="1268" y="650"/>
                  </a:lnTo>
                  <a:lnTo>
                    <a:pt x="1243" y="509"/>
                  </a:lnTo>
                  <a:lnTo>
                    <a:pt x="1228" y="448"/>
                  </a:lnTo>
                  <a:lnTo>
                    <a:pt x="1211" y="395"/>
                  </a:lnTo>
                  <a:lnTo>
                    <a:pt x="1190" y="349"/>
                  </a:lnTo>
                  <a:lnTo>
                    <a:pt x="1169" y="311"/>
                  </a:lnTo>
                  <a:lnTo>
                    <a:pt x="1144" y="277"/>
                  </a:lnTo>
                  <a:lnTo>
                    <a:pt x="1116" y="251"/>
                  </a:lnTo>
                  <a:lnTo>
                    <a:pt x="1087" y="230"/>
                  </a:lnTo>
                  <a:lnTo>
                    <a:pt x="1053" y="215"/>
                  </a:lnTo>
                  <a:lnTo>
                    <a:pt x="983" y="203"/>
                  </a:lnTo>
                  <a:lnTo>
                    <a:pt x="910" y="215"/>
                  </a:lnTo>
                  <a:lnTo>
                    <a:pt x="848" y="249"/>
                  </a:lnTo>
                  <a:lnTo>
                    <a:pt x="794" y="306"/>
                  </a:lnTo>
                  <a:lnTo>
                    <a:pt x="751" y="386"/>
                  </a:lnTo>
                  <a:lnTo>
                    <a:pt x="695" y="616"/>
                  </a:lnTo>
                  <a:lnTo>
                    <a:pt x="676" y="941"/>
                  </a:lnTo>
                  <a:lnTo>
                    <a:pt x="678" y="1093"/>
                  </a:lnTo>
                  <a:lnTo>
                    <a:pt x="640" y="1125"/>
                  </a:lnTo>
                  <a:lnTo>
                    <a:pt x="604" y="1154"/>
                  </a:lnTo>
                  <a:lnTo>
                    <a:pt x="570" y="1184"/>
                  </a:lnTo>
                  <a:lnTo>
                    <a:pt x="534" y="1216"/>
                  </a:lnTo>
                  <a:lnTo>
                    <a:pt x="500" y="1247"/>
                  </a:lnTo>
                  <a:lnTo>
                    <a:pt x="465" y="1275"/>
                  </a:lnTo>
                  <a:lnTo>
                    <a:pt x="431" y="1306"/>
                  </a:lnTo>
                  <a:lnTo>
                    <a:pt x="399" y="1336"/>
                  </a:lnTo>
                  <a:lnTo>
                    <a:pt x="367" y="1366"/>
                  </a:lnTo>
                  <a:lnTo>
                    <a:pt x="336" y="1395"/>
                  </a:lnTo>
                  <a:lnTo>
                    <a:pt x="306" y="1425"/>
                  </a:lnTo>
                  <a:lnTo>
                    <a:pt x="275" y="1456"/>
                  </a:lnTo>
                  <a:lnTo>
                    <a:pt x="247" y="1484"/>
                  </a:lnTo>
                  <a:lnTo>
                    <a:pt x="218" y="1513"/>
                  </a:lnTo>
                  <a:lnTo>
                    <a:pt x="192" y="1541"/>
                  </a:lnTo>
                  <a:lnTo>
                    <a:pt x="165" y="1570"/>
                  </a:lnTo>
                  <a:lnTo>
                    <a:pt x="144" y="1539"/>
                  </a:lnTo>
                  <a:lnTo>
                    <a:pt x="127" y="1507"/>
                  </a:lnTo>
                  <a:lnTo>
                    <a:pt x="93" y="1442"/>
                  </a:lnTo>
                  <a:lnTo>
                    <a:pt x="64" y="1374"/>
                  </a:lnTo>
                  <a:lnTo>
                    <a:pt x="40" y="1304"/>
                  </a:lnTo>
                  <a:lnTo>
                    <a:pt x="9" y="1154"/>
                  </a:lnTo>
                  <a:lnTo>
                    <a:pt x="0" y="994"/>
                  </a:lnTo>
                  <a:lnTo>
                    <a:pt x="0" y="994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as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066680" y="1371600"/>
            <a:ext cx="76201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cimal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a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erc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2286000" y="2514600"/>
            <a:ext cx="61689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baseline="-25000">
                <a:solidFill>
                  <a:srgbClr val="000000"/>
                </a:solidFill>
                <a:latin typeface="Comic Sans MS"/>
              </a:rPr>
              <a:t>.82  =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82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omic Sans MS"/>
              </a:rPr>
              <a:t>=  82%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322720" y="4191120"/>
            <a:ext cx="15501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.82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4495680" y="4834080"/>
            <a:ext cx="655560" cy="1490760"/>
            <a:chOff x="4495680" y="4834080"/>
            <a:chExt cx="655560" cy="1490760"/>
          </a:xfrm>
        </p:grpSpPr>
        <p:sp>
          <p:nvSpPr>
            <p:cNvPr id="755" name=""/>
            <p:cNvSpPr/>
            <p:nvPr/>
          </p:nvSpPr>
          <p:spPr>
            <a:xfrm>
              <a:off x="4495680" y="4834080"/>
              <a:ext cx="381240" cy="852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4876920" y="4834080"/>
              <a:ext cx="16344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631400" y="5748480"/>
              <a:ext cx="5198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533520" y="1324080"/>
            <a:ext cx="2266920" cy="253188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as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4308120" y="4191120"/>
            <a:ext cx="1294200" cy="839160"/>
            <a:chOff x="4308120" y="4191120"/>
            <a:chExt cx="1294200" cy="839160"/>
          </a:xfrm>
        </p:grpSpPr>
        <p:sp>
          <p:nvSpPr>
            <p:cNvPr id="761" name=""/>
            <p:cNvSpPr/>
            <p:nvPr/>
          </p:nvSpPr>
          <p:spPr>
            <a:xfrm>
              <a:off x="4308120" y="4191120"/>
              <a:ext cx="343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65160" y="4205160"/>
              <a:ext cx="1037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8 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5931000" y="4248000"/>
            <a:ext cx="189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= 82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5040360" y="3973680"/>
            <a:ext cx="768240" cy="2356200"/>
            <a:chOff x="5040360" y="3973680"/>
            <a:chExt cx="768240" cy="2356200"/>
          </a:xfrm>
        </p:grpSpPr>
        <p:sp>
          <p:nvSpPr>
            <p:cNvPr id="765" name=""/>
            <p:cNvSpPr/>
            <p:nvPr/>
          </p:nvSpPr>
          <p:spPr>
            <a:xfrm>
              <a:off x="5403960" y="3973680"/>
              <a:ext cx="404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cc"/>
                  </a:solidFill>
                  <a:latin typeface="Comic Sans MS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5040360" y="4834080"/>
              <a:ext cx="585720" cy="1495800"/>
              <a:chOff x="5040360" y="4834080"/>
              <a:chExt cx="585720" cy="1495800"/>
            </a:xfrm>
          </p:grpSpPr>
          <p:sp>
            <p:nvSpPr>
              <p:cNvPr id="767" name=""/>
              <p:cNvSpPr/>
              <p:nvPr/>
            </p:nvSpPr>
            <p:spPr>
              <a:xfrm>
                <a:off x="5040360" y="4848120"/>
                <a:ext cx="293760" cy="83844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5334120" y="4834080"/>
                <a:ext cx="291960" cy="838080"/>
              </a:xfrm>
              <a:prstGeom prst="line">
                <a:avLst/>
              </a:prstGeom>
              <a:ln w="507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126760" y="57484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4114800" y="417528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444680" y="3200400"/>
            <a:ext cx="296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0.025 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05840" y="3127320"/>
            <a:ext cx="294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0 2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35840" y="181296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0.025 to a percent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6324480" y="3122640"/>
            <a:ext cx="873000" cy="1831680"/>
            <a:chOff x="6324480" y="3122640"/>
            <a:chExt cx="873000" cy="1831680"/>
          </a:xfrm>
        </p:grpSpPr>
        <p:sp>
          <p:nvSpPr>
            <p:cNvPr id="775" name=""/>
            <p:cNvSpPr/>
            <p:nvPr/>
          </p:nvSpPr>
          <p:spPr>
            <a:xfrm>
              <a:off x="6738480" y="3122640"/>
              <a:ext cx="42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6324480" y="4082400"/>
              <a:ext cx="873000" cy="593640"/>
            </a:xfrm>
            <a:custGeom>
              <a:avLst/>
              <a:gdLst>
                <a:gd name="textAreaLeft" fmla="*/ 154440 w 873000"/>
                <a:gd name="textAreaRight" fmla="*/ 552240 w 873000"/>
                <a:gd name="textAreaTop" fmla="*/ 79560 h 593640"/>
                <a:gd name="textAreaBottom" fmla="*/ 51408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50" hR="21600" stAng="10800000" swAng="5400000"/>
                  <a:lnTo>
                    <a:pt x="9834" y="0"/>
                  </a:lnTo>
                  <a:arcTo wR="7650" hR="21600" stAng="-5400000" swAng="2702867"/>
                  <a:lnTo>
                    <a:pt x="21163" y="14400"/>
                  </a:lnTo>
                  <a:lnTo>
                    <a:pt x="16391" y="21600"/>
                  </a:lnTo>
                  <a:lnTo>
                    <a:pt x="10745" y="14400"/>
                  </a:lnTo>
                  <a:lnTo>
                    <a:pt x="14862" y="14400"/>
                  </a:lnTo>
                  <a:arcTo wR="7650" hR="21600" stAng="-2697133" swAng="-2527423"/>
                  <a:lnTo>
                    <a:pt x="8742" y="221"/>
                  </a:lnTo>
                  <a:arcTo wR="7650" hR="21600" stAng="-5575443" swAng="-5224557"/>
                  <a:close/>
                </a:path>
                <a:path fill="darkenLess" w="21600" h="21600">
                  <a:moveTo>
                    <a:pt x="0" y="21600"/>
                  </a:moveTo>
                  <a:arcTo wR="7650" hR="21600" stAng="10800000" swAng="5400000"/>
                  <a:lnTo>
                    <a:pt x="7650" y="0"/>
                  </a:lnTo>
                  <a:arcTo wR="7650" hR="21600" stAng="-5400000" swAng="175443"/>
                  <a:lnTo>
                    <a:pt x="8742" y="221"/>
                  </a:lnTo>
                  <a:arcTo wR="7650" hR="21600" stAng="-5575443" swAng="-5224557"/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415920" y="4311720"/>
              <a:ext cx="64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5151600" y="3184560"/>
            <a:ext cx="1172520" cy="1769760"/>
            <a:chOff x="5151600" y="3184560"/>
            <a:chExt cx="1172520" cy="1769760"/>
          </a:xfrm>
        </p:grpSpPr>
        <p:sp>
          <p:nvSpPr>
            <p:cNvPr id="779" name=""/>
            <p:cNvSpPr/>
            <p:nvPr/>
          </p:nvSpPr>
          <p:spPr>
            <a:xfrm flipV="1">
              <a:off x="5375520" y="4098240"/>
              <a:ext cx="948600" cy="593640"/>
            </a:xfrm>
            <a:custGeom>
              <a:avLst/>
              <a:gdLst>
                <a:gd name="textAreaLeft" fmla="*/ 167760 w 948600"/>
                <a:gd name="textAreaRight" fmla="*/ 599760 w 948600"/>
                <a:gd name="textAreaTop" fmla="*/ 79560 h 593640"/>
                <a:gd name="textAreaBottom" fmla="*/ 51408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50" hR="21600" stAng="10800000" swAng="5400000"/>
                  <a:lnTo>
                    <a:pt x="9834" y="0"/>
                  </a:lnTo>
                  <a:arcTo wR="7650" hR="21600" stAng="-5400000" swAng="2702867"/>
                  <a:lnTo>
                    <a:pt x="21163" y="14400"/>
                  </a:lnTo>
                  <a:lnTo>
                    <a:pt x="16391" y="21600"/>
                  </a:lnTo>
                  <a:lnTo>
                    <a:pt x="10745" y="14400"/>
                  </a:lnTo>
                  <a:lnTo>
                    <a:pt x="14862" y="14400"/>
                  </a:lnTo>
                  <a:arcTo wR="7650" hR="21600" stAng="-2697133" swAng="-2527423"/>
                  <a:lnTo>
                    <a:pt x="8742" y="221"/>
                  </a:lnTo>
                  <a:arcTo wR="7650" hR="21600" stAng="-5575443" swAng="-5224557"/>
                  <a:close/>
                </a:path>
                <a:path fill="darkenLess" w="21600" h="21600">
                  <a:moveTo>
                    <a:pt x="0" y="21600"/>
                  </a:moveTo>
                  <a:arcTo wR="7650" hR="21600" stAng="10800000" swAng="5400000"/>
                  <a:lnTo>
                    <a:pt x="7650" y="0"/>
                  </a:lnTo>
                  <a:arcTo wR="7650" hR="21600" stAng="-5400000" swAng="175443"/>
                  <a:lnTo>
                    <a:pt x="8742" y="221"/>
                  </a:lnTo>
                  <a:arcTo wR="7650" hR="21600" stAng="-5575443" swAng="-5224557"/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525280" y="43117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151600" y="3184560"/>
              <a:ext cx="1828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1596960" y="5013360"/>
            <a:ext cx="566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0.025  =     2.5%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as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4114800" y="417528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430280" y="3200400"/>
            <a:ext cx="276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.0007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536520" y="320040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0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70280" y="3200400"/>
            <a:ext cx="188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0 0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35840" y="181296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.0007 to a percent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11640" y="5013360"/>
            <a:ext cx="609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.0007 =     0. 07%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as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5334120" y="3962160"/>
            <a:ext cx="772920" cy="855720"/>
            <a:chOff x="5334120" y="3962160"/>
            <a:chExt cx="772920" cy="855720"/>
          </a:xfrm>
        </p:grpSpPr>
        <p:sp>
          <p:nvSpPr>
            <p:cNvPr id="792" name=""/>
            <p:cNvSpPr/>
            <p:nvPr/>
          </p:nvSpPr>
          <p:spPr>
            <a:xfrm flipV="1">
              <a:off x="5334120" y="3961800"/>
              <a:ext cx="772920" cy="593640"/>
            </a:xfrm>
            <a:custGeom>
              <a:avLst/>
              <a:gdLst>
                <a:gd name="textAreaLeft" fmla="*/ 136800 w 772920"/>
                <a:gd name="textAreaRight" fmla="*/ 488880 w 772920"/>
                <a:gd name="textAreaTop" fmla="*/ 79560 h 593640"/>
                <a:gd name="textAreaBottom" fmla="*/ 51408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50" hR="21600" stAng="10800000" swAng="5400000"/>
                  <a:lnTo>
                    <a:pt x="9834" y="0"/>
                  </a:lnTo>
                  <a:arcTo wR="7650" hR="21600" stAng="-5400000" swAng="2702867"/>
                  <a:lnTo>
                    <a:pt x="21163" y="14400"/>
                  </a:lnTo>
                  <a:lnTo>
                    <a:pt x="16391" y="21600"/>
                  </a:lnTo>
                  <a:lnTo>
                    <a:pt x="10745" y="14400"/>
                  </a:lnTo>
                  <a:lnTo>
                    <a:pt x="14862" y="14400"/>
                  </a:lnTo>
                  <a:arcTo wR="7650" hR="21600" stAng="-2697133" swAng="-2527423"/>
                  <a:lnTo>
                    <a:pt x="8742" y="221"/>
                  </a:lnTo>
                  <a:arcTo wR="7650" hR="21600" stAng="-5575443" swAng="-5224557"/>
                  <a:close/>
                </a:path>
                <a:path fill="darkenLess" w="21600" h="21600">
                  <a:moveTo>
                    <a:pt x="0" y="21600"/>
                  </a:moveTo>
                  <a:arcTo wR="7650" hR="21600" stAng="10800000" swAng="5400000"/>
                  <a:lnTo>
                    <a:pt x="7650" y="0"/>
                  </a:lnTo>
                  <a:arcTo wR="7650" hR="21600" stAng="-5400000" swAng="175443"/>
                  <a:lnTo>
                    <a:pt x="8742" y="221"/>
                  </a:lnTo>
                  <a:arcTo wR="7650" hR="21600" stAng="-5575443" swAng="-5224557"/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450760" y="41752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5943600" y="3124080"/>
            <a:ext cx="845640" cy="1709640"/>
            <a:chOff x="5943600" y="3124080"/>
            <a:chExt cx="845640" cy="1709640"/>
          </a:xfrm>
        </p:grpSpPr>
        <p:sp>
          <p:nvSpPr>
            <p:cNvPr id="795" name=""/>
            <p:cNvSpPr/>
            <p:nvPr/>
          </p:nvSpPr>
          <p:spPr>
            <a:xfrm flipV="1">
              <a:off x="5943600" y="3961800"/>
              <a:ext cx="727200" cy="593640"/>
            </a:xfrm>
            <a:custGeom>
              <a:avLst/>
              <a:gdLst>
                <a:gd name="textAreaLeft" fmla="*/ 128520 w 727200"/>
                <a:gd name="textAreaRight" fmla="*/ 459720 w 727200"/>
                <a:gd name="textAreaTop" fmla="*/ 79560 h 593640"/>
                <a:gd name="textAreaBottom" fmla="*/ 51408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50" hR="21600" stAng="10800000" swAng="5400000"/>
                  <a:lnTo>
                    <a:pt x="9834" y="0"/>
                  </a:lnTo>
                  <a:arcTo wR="7650" hR="21600" stAng="-5400000" swAng="2702867"/>
                  <a:lnTo>
                    <a:pt x="21163" y="14400"/>
                  </a:lnTo>
                  <a:lnTo>
                    <a:pt x="16391" y="21600"/>
                  </a:lnTo>
                  <a:lnTo>
                    <a:pt x="10745" y="14400"/>
                  </a:lnTo>
                  <a:lnTo>
                    <a:pt x="14862" y="14400"/>
                  </a:lnTo>
                  <a:arcTo wR="7650" hR="21600" stAng="-2697133" swAng="-2527423"/>
                  <a:lnTo>
                    <a:pt x="8742" y="221"/>
                  </a:lnTo>
                  <a:arcTo wR="7650" hR="21600" stAng="-5575443" swAng="-5224557"/>
                  <a:close/>
                </a:path>
                <a:path fill="darkenLess" w="21600" h="21600">
                  <a:moveTo>
                    <a:pt x="0" y="21600"/>
                  </a:moveTo>
                  <a:arcTo wR="7650" hR="21600" stAng="10800000" swAng="5400000"/>
                  <a:lnTo>
                    <a:pt x="7650" y="0"/>
                  </a:lnTo>
                  <a:arcTo wR="7650" hR="21600" stAng="-5400000" swAng="175443"/>
                  <a:lnTo>
                    <a:pt x="8742" y="221"/>
                  </a:lnTo>
                  <a:arcTo wR="7650" hR="21600" stAng="-5575443" swAng="-5224557"/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19920" y="41911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363000" y="3124080"/>
              <a:ext cx="42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</a:rPr>
                <a:t>.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5173920" y="304812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4114800" y="417528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383840" y="3200400"/>
            <a:ext cx="296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9.65 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691880" y="3108240"/>
            <a:ext cx="292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 9 . 6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95520" y="181296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19.65 to a percent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391400" y="5013360"/>
            <a:ext cx="573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9.65  =  1965%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as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6045120" y="3962160"/>
            <a:ext cx="1000080" cy="915840"/>
            <a:chOff x="6045120" y="3962160"/>
            <a:chExt cx="1000080" cy="915840"/>
          </a:xfrm>
        </p:grpSpPr>
        <p:sp>
          <p:nvSpPr>
            <p:cNvPr id="806" name=""/>
            <p:cNvSpPr/>
            <p:nvPr/>
          </p:nvSpPr>
          <p:spPr>
            <a:xfrm flipV="1">
              <a:off x="6045120" y="3961800"/>
              <a:ext cx="1000080" cy="593640"/>
            </a:xfrm>
            <a:custGeom>
              <a:avLst/>
              <a:gdLst>
                <a:gd name="textAreaLeft" fmla="*/ 177120 w 1000080"/>
                <a:gd name="textAreaRight" fmla="*/ 632520 w 1000080"/>
                <a:gd name="textAreaTop" fmla="*/ 79560 h 593640"/>
                <a:gd name="textAreaBottom" fmla="*/ 51408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50" hR="21600" stAng="10800000" swAng="5400000"/>
                  <a:lnTo>
                    <a:pt x="9834" y="0"/>
                  </a:lnTo>
                  <a:arcTo wR="7650" hR="21600" stAng="-5400000" swAng="2702867"/>
                  <a:lnTo>
                    <a:pt x="21163" y="14400"/>
                  </a:lnTo>
                  <a:lnTo>
                    <a:pt x="16391" y="21600"/>
                  </a:lnTo>
                  <a:lnTo>
                    <a:pt x="10745" y="14400"/>
                  </a:lnTo>
                  <a:lnTo>
                    <a:pt x="14862" y="14400"/>
                  </a:lnTo>
                  <a:arcTo wR="7650" hR="21600" stAng="-2697133" swAng="-2527423"/>
                  <a:lnTo>
                    <a:pt x="8742" y="221"/>
                  </a:lnTo>
                  <a:arcTo wR="7650" hR="21600" stAng="-5575443" swAng="-5224557"/>
                  <a:close/>
                </a:path>
                <a:path fill="darkenLess" w="21600" h="21600">
                  <a:moveTo>
                    <a:pt x="0" y="21600"/>
                  </a:moveTo>
                  <a:arcTo wR="7650" hR="21600" stAng="10800000" swAng="5400000"/>
                  <a:lnTo>
                    <a:pt x="7650" y="0"/>
                  </a:lnTo>
                  <a:arcTo wR="7650" hR="21600" stAng="-5400000" swAng="175443"/>
                  <a:lnTo>
                    <a:pt x="8742" y="221"/>
                  </a:lnTo>
                  <a:arcTo wR="7650" hR="21600" stAng="-5575443" swAng="-5224557"/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98560" y="4235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6934320" y="2801880"/>
            <a:ext cx="967680" cy="2076120"/>
            <a:chOff x="6934320" y="2801880"/>
            <a:chExt cx="967680" cy="2076120"/>
          </a:xfrm>
        </p:grpSpPr>
        <p:sp>
          <p:nvSpPr>
            <p:cNvPr id="809" name=""/>
            <p:cNvSpPr/>
            <p:nvPr/>
          </p:nvSpPr>
          <p:spPr>
            <a:xfrm flipV="1">
              <a:off x="6934320" y="3961800"/>
              <a:ext cx="938160" cy="593640"/>
            </a:xfrm>
            <a:custGeom>
              <a:avLst/>
              <a:gdLst>
                <a:gd name="textAreaLeft" fmla="*/ 165960 w 938160"/>
                <a:gd name="textAreaRight" fmla="*/ 593280 w 938160"/>
                <a:gd name="textAreaTop" fmla="*/ 79560 h 593640"/>
                <a:gd name="textAreaBottom" fmla="*/ 51408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650" hR="21600" stAng="10800000" swAng="5400000"/>
                  <a:lnTo>
                    <a:pt x="9834" y="0"/>
                  </a:lnTo>
                  <a:arcTo wR="7650" hR="21600" stAng="-5400000" swAng="2702867"/>
                  <a:lnTo>
                    <a:pt x="21163" y="14400"/>
                  </a:lnTo>
                  <a:lnTo>
                    <a:pt x="16391" y="21600"/>
                  </a:lnTo>
                  <a:lnTo>
                    <a:pt x="10745" y="14400"/>
                  </a:lnTo>
                  <a:lnTo>
                    <a:pt x="14862" y="14400"/>
                  </a:lnTo>
                  <a:arcTo wR="7650" hR="21600" stAng="-2697133" swAng="-2527423"/>
                  <a:lnTo>
                    <a:pt x="8742" y="221"/>
                  </a:lnTo>
                  <a:arcTo wR="7650" hR="21600" stAng="-5575443" swAng="-5224557"/>
                  <a:close/>
                </a:path>
                <a:path fill="darkenLess" w="21600" h="21600">
                  <a:moveTo>
                    <a:pt x="0" y="21600"/>
                  </a:moveTo>
                  <a:arcTo wR="7650" hR="21600" stAng="10800000" swAng="5400000"/>
                  <a:lnTo>
                    <a:pt x="7650" y="0"/>
                  </a:lnTo>
                  <a:arcTo wR="7650" hR="21600" stAng="-5400000" swAng="175443"/>
                  <a:lnTo>
                    <a:pt x="8742" y="221"/>
                  </a:lnTo>
                  <a:arcTo wR="7650" hR="21600" stAng="-5575443" swAng="-5224557"/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62920" y="42354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22480" y="2801880"/>
              <a:ext cx="479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914400" y="1981080"/>
            <a:ext cx="5029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ick Quiz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733920" y="1878120"/>
            <a:ext cx="4763880" cy="4446360"/>
            <a:chOff x="3733920" y="1878120"/>
            <a:chExt cx="4763880" cy="4446360"/>
          </a:xfrm>
        </p:grpSpPr>
        <p:pic>
          <p:nvPicPr>
            <p:cNvPr id="814" name="" descr=""/>
            <p:cNvPicPr/>
            <p:nvPr/>
          </p:nvPicPr>
          <p:blipFill>
            <a:blip r:embed="rId1"/>
            <a:stretch/>
          </p:blipFill>
          <p:spPr>
            <a:xfrm>
              <a:off x="3733920" y="1878120"/>
              <a:ext cx="4763880" cy="44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"/>
            <p:cNvSpPr/>
            <p:nvPr/>
          </p:nvSpPr>
          <p:spPr>
            <a:xfrm rot="13632000">
              <a:off x="5419440" y="44830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as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825480" y="1500120"/>
            <a:ext cx="74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vert the decimals to a 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690160" y="23385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32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667480" y="337644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32.51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681520" y="4414680"/>
            <a:ext cx="8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698800" y="54547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325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08160" y="2141640"/>
            <a:ext cx="10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0.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188720" y="324468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0.325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08160" y="4349880"/>
            <a:ext cx="10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0.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08160" y="5454720"/>
            <a:ext cx="10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3.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as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"/>
          <p:cNvGrpSpPr/>
          <p:nvPr/>
        </p:nvGrpSpPr>
        <p:grpSpPr>
          <a:xfrm>
            <a:off x="1143000" y="1603440"/>
            <a:ext cx="4194000" cy="4784760"/>
            <a:chOff x="1143000" y="1603440"/>
            <a:chExt cx="4194000" cy="4784760"/>
          </a:xfrm>
        </p:grpSpPr>
        <p:sp>
          <p:nvSpPr>
            <p:cNvPr id="828" name=""/>
            <p:cNvSpPr/>
            <p:nvPr/>
          </p:nvSpPr>
          <p:spPr>
            <a:xfrm>
              <a:off x="1143000" y="1603440"/>
              <a:ext cx="4194000" cy="4784760"/>
            </a:xfrm>
            <a:custGeom>
              <a:avLst/>
              <a:gdLst/>
              <a:ahLst/>
              <a:rect l="l" t="t" r="r" b="b"/>
              <a:pathLst>
                <a:path w="2642" h="3014">
                  <a:moveTo>
                    <a:pt x="1530" y="3013"/>
                  </a:moveTo>
                  <a:lnTo>
                    <a:pt x="1480" y="2977"/>
                  </a:lnTo>
                  <a:lnTo>
                    <a:pt x="1480" y="2885"/>
                  </a:lnTo>
                  <a:lnTo>
                    <a:pt x="1467" y="2851"/>
                  </a:lnTo>
                  <a:lnTo>
                    <a:pt x="1453" y="2813"/>
                  </a:lnTo>
                  <a:lnTo>
                    <a:pt x="1440" y="2769"/>
                  </a:lnTo>
                  <a:lnTo>
                    <a:pt x="1426" y="2726"/>
                  </a:lnTo>
                  <a:lnTo>
                    <a:pt x="1410" y="2685"/>
                  </a:lnTo>
                  <a:lnTo>
                    <a:pt x="1395" y="2646"/>
                  </a:lnTo>
                  <a:lnTo>
                    <a:pt x="1376" y="2614"/>
                  </a:lnTo>
                  <a:lnTo>
                    <a:pt x="1358" y="2588"/>
                  </a:lnTo>
                  <a:lnTo>
                    <a:pt x="1332" y="2592"/>
                  </a:lnTo>
                  <a:lnTo>
                    <a:pt x="1306" y="2594"/>
                  </a:lnTo>
                  <a:lnTo>
                    <a:pt x="1281" y="2595"/>
                  </a:lnTo>
                  <a:lnTo>
                    <a:pt x="1255" y="2595"/>
                  </a:lnTo>
                  <a:lnTo>
                    <a:pt x="1229" y="2595"/>
                  </a:lnTo>
                  <a:lnTo>
                    <a:pt x="1201" y="2595"/>
                  </a:lnTo>
                  <a:lnTo>
                    <a:pt x="1175" y="2594"/>
                  </a:lnTo>
                  <a:lnTo>
                    <a:pt x="1147" y="2594"/>
                  </a:lnTo>
                  <a:lnTo>
                    <a:pt x="1127" y="2626"/>
                  </a:lnTo>
                  <a:lnTo>
                    <a:pt x="1107" y="2659"/>
                  </a:lnTo>
                  <a:lnTo>
                    <a:pt x="1090" y="2694"/>
                  </a:lnTo>
                  <a:lnTo>
                    <a:pt x="1073" y="2729"/>
                  </a:lnTo>
                  <a:lnTo>
                    <a:pt x="1056" y="2765"/>
                  </a:lnTo>
                  <a:lnTo>
                    <a:pt x="1041" y="2802"/>
                  </a:lnTo>
                  <a:lnTo>
                    <a:pt x="1024" y="2837"/>
                  </a:lnTo>
                  <a:lnTo>
                    <a:pt x="1008" y="2873"/>
                  </a:lnTo>
                  <a:lnTo>
                    <a:pt x="1024" y="2890"/>
                  </a:lnTo>
                  <a:lnTo>
                    <a:pt x="1039" y="2903"/>
                  </a:lnTo>
                  <a:lnTo>
                    <a:pt x="1056" y="2916"/>
                  </a:lnTo>
                  <a:lnTo>
                    <a:pt x="1073" y="2927"/>
                  </a:lnTo>
                  <a:lnTo>
                    <a:pt x="1090" y="2939"/>
                  </a:lnTo>
                  <a:lnTo>
                    <a:pt x="1104" y="2953"/>
                  </a:lnTo>
                  <a:lnTo>
                    <a:pt x="1118" y="2970"/>
                  </a:lnTo>
                  <a:lnTo>
                    <a:pt x="1129" y="2990"/>
                  </a:lnTo>
                  <a:lnTo>
                    <a:pt x="1122" y="3000"/>
                  </a:lnTo>
                  <a:lnTo>
                    <a:pt x="955" y="2987"/>
                  </a:lnTo>
                  <a:lnTo>
                    <a:pt x="939" y="2971"/>
                  </a:lnTo>
                  <a:lnTo>
                    <a:pt x="931" y="2954"/>
                  </a:lnTo>
                  <a:lnTo>
                    <a:pt x="931" y="2939"/>
                  </a:lnTo>
                  <a:lnTo>
                    <a:pt x="936" y="2922"/>
                  </a:lnTo>
                  <a:lnTo>
                    <a:pt x="942" y="2907"/>
                  </a:lnTo>
                  <a:lnTo>
                    <a:pt x="950" y="2888"/>
                  </a:lnTo>
                  <a:lnTo>
                    <a:pt x="955" y="2870"/>
                  </a:lnTo>
                  <a:lnTo>
                    <a:pt x="958" y="2850"/>
                  </a:lnTo>
                  <a:lnTo>
                    <a:pt x="951" y="2788"/>
                  </a:lnTo>
                  <a:lnTo>
                    <a:pt x="944" y="2726"/>
                  </a:lnTo>
                  <a:lnTo>
                    <a:pt x="936" y="2665"/>
                  </a:lnTo>
                  <a:lnTo>
                    <a:pt x="928" y="2605"/>
                  </a:lnTo>
                  <a:lnTo>
                    <a:pt x="921" y="2543"/>
                  </a:lnTo>
                  <a:lnTo>
                    <a:pt x="915" y="2482"/>
                  </a:lnTo>
                  <a:lnTo>
                    <a:pt x="911" y="2420"/>
                  </a:lnTo>
                  <a:lnTo>
                    <a:pt x="910" y="2360"/>
                  </a:lnTo>
                  <a:lnTo>
                    <a:pt x="868" y="2335"/>
                  </a:lnTo>
                  <a:lnTo>
                    <a:pt x="864" y="2294"/>
                  </a:lnTo>
                  <a:lnTo>
                    <a:pt x="870" y="2258"/>
                  </a:lnTo>
                  <a:lnTo>
                    <a:pt x="879" y="2223"/>
                  </a:lnTo>
                  <a:lnTo>
                    <a:pt x="888" y="2184"/>
                  </a:lnTo>
                  <a:lnTo>
                    <a:pt x="859" y="2184"/>
                  </a:lnTo>
                  <a:lnTo>
                    <a:pt x="830" y="2228"/>
                  </a:lnTo>
                  <a:lnTo>
                    <a:pt x="811" y="2189"/>
                  </a:lnTo>
                  <a:lnTo>
                    <a:pt x="761" y="2189"/>
                  </a:lnTo>
                  <a:lnTo>
                    <a:pt x="710" y="2187"/>
                  </a:lnTo>
                  <a:lnTo>
                    <a:pt x="659" y="2187"/>
                  </a:lnTo>
                  <a:lnTo>
                    <a:pt x="610" y="2187"/>
                  </a:lnTo>
                  <a:lnTo>
                    <a:pt x="559" y="2186"/>
                  </a:lnTo>
                  <a:lnTo>
                    <a:pt x="508" y="2186"/>
                  </a:lnTo>
                  <a:lnTo>
                    <a:pt x="457" y="2186"/>
                  </a:lnTo>
                  <a:lnTo>
                    <a:pt x="406" y="2186"/>
                  </a:lnTo>
                  <a:lnTo>
                    <a:pt x="356" y="2186"/>
                  </a:lnTo>
                  <a:lnTo>
                    <a:pt x="305" y="2184"/>
                  </a:lnTo>
                  <a:lnTo>
                    <a:pt x="254" y="2184"/>
                  </a:lnTo>
                  <a:lnTo>
                    <a:pt x="203" y="2184"/>
                  </a:lnTo>
                  <a:lnTo>
                    <a:pt x="152" y="2184"/>
                  </a:lnTo>
                  <a:lnTo>
                    <a:pt x="102" y="2184"/>
                  </a:lnTo>
                  <a:lnTo>
                    <a:pt x="51" y="2184"/>
                  </a:lnTo>
                  <a:lnTo>
                    <a:pt x="0" y="2184"/>
                  </a:lnTo>
                  <a:lnTo>
                    <a:pt x="5" y="1647"/>
                  </a:lnTo>
                  <a:lnTo>
                    <a:pt x="15" y="1110"/>
                  </a:lnTo>
                  <a:lnTo>
                    <a:pt x="25" y="571"/>
                  </a:lnTo>
                  <a:lnTo>
                    <a:pt x="26" y="32"/>
                  </a:lnTo>
                  <a:lnTo>
                    <a:pt x="32" y="16"/>
                  </a:lnTo>
                  <a:lnTo>
                    <a:pt x="97" y="16"/>
                  </a:lnTo>
                  <a:lnTo>
                    <a:pt x="160" y="16"/>
                  </a:lnTo>
                  <a:lnTo>
                    <a:pt x="225" y="16"/>
                  </a:lnTo>
                  <a:lnTo>
                    <a:pt x="288" y="16"/>
                  </a:lnTo>
                  <a:lnTo>
                    <a:pt x="353" y="15"/>
                  </a:lnTo>
                  <a:lnTo>
                    <a:pt x="417" y="15"/>
                  </a:lnTo>
                  <a:lnTo>
                    <a:pt x="480" y="15"/>
                  </a:lnTo>
                  <a:lnTo>
                    <a:pt x="545" y="13"/>
                  </a:lnTo>
                  <a:lnTo>
                    <a:pt x="608" y="13"/>
                  </a:lnTo>
                  <a:lnTo>
                    <a:pt x="673" y="13"/>
                  </a:lnTo>
                  <a:lnTo>
                    <a:pt x="736" y="12"/>
                  </a:lnTo>
                  <a:lnTo>
                    <a:pt x="801" y="12"/>
                  </a:lnTo>
                  <a:lnTo>
                    <a:pt x="864" y="10"/>
                  </a:lnTo>
                  <a:lnTo>
                    <a:pt x="928" y="10"/>
                  </a:lnTo>
                  <a:lnTo>
                    <a:pt x="992" y="9"/>
                  </a:lnTo>
                  <a:lnTo>
                    <a:pt x="1056" y="9"/>
                  </a:lnTo>
                  <a:lnTo>
                    <a:pt x="1121" y="9"/>
                  </a:lnTo>
                  <a:lnTo>
                    <a:pt x="1184" y="7"/>
                  </a:lnTo>
                  <a:lnTo>
                    <a:pt x="1249" y="7"/>
                  </a:lnTo>
                  <a:lnTo>
                    <a:pt x="1312" y="6"/>
                  </a:lnTo>
                  <a:lnTo>
                    <a:pt x="1376" y="6"/>
                  </a:lnTo>
                  <a:lnTo>
                    <a:pt x="1440" y="4"/>
                  </a:lnTo>
                  <a:lnTo>
                    <a:pt x="1504" y="4"/>
                  </a:lnTo>
                  <a:lnTo>
                    <a:pt x="1567" y="4"/>
                  </a:lnTo>
                  <a:lnTo>
                    <a:pt x="1632" y="3"/>
                  </a:lnTo>
                  <a:lnTo>
                    <a:pt x="1695" y="3"/>
                  </a:lnTo>
                  <a:lnTo>
                    <a:pt x="1760" y="3"/>
                  </a:lnTo>
                  <a:lnTo>
                    <a:pt x="1824" y="1"/>
                  </a:lnTo>
                  <a:lnTo>
                    <a:pt x="1888" y="1"/>
                  </a:lnTo>
                  <a:lnTo>
                    <a:pt x="1952" y="1"/>
                  </a:lnTo>
                  <a:lnTo>
                    <a:pt x="2015" y="1"/>
                  </a:lnTo>
                  <a:lnTo>
                    <a:pt x="2080" y="1"/>
                  </a:lnTo>
                  <a:lnTo>
                    <a:pt x="2115" y="1"/>
                  </a:lnTo>
                  <a:lnTo>
                    <a:pt x="2149" y="1"/>
                  </a:lnTo>
                  <a:lnTo>
                    <a:pt x="2185" y="1"/>
                  </a:lnTo>
                  <a:lnTo>
                    <a:pt x="2220" y="1"/>
                  </a:lnTo>
                  <a:lnTo>
                    <a:pt x="2256" y="1"/>
                  </a:lnTo>
                  <a:lnTo>
                    <a:pt x="2291" y="1"/>
                  </a:lnTo>
                  <a:lnTo>
                    <a:pt x="2326" y="1"/>
                  </a:lnTo>
                  <a:lnTo>
                    <a:pt x="2362" y="3"/>
                  </a:lnTo>
                  <a:lnTo>
                    <a:pt x="2396" y="3"/>
                  </a:lnTo>
                  <a:lnTo>
                    <a:pt x="2431" y="3"/>
                  </a:lnTo>
                  <a:lnTo>
                    <a:pt x="2466" y="3"/>
                  </a:lnTo>
                  <a:lnTo>
                    <a:pt x="2502" y="3"/>
                  </a:lnTo>
                  <a:lnTo>
                    <a:pt x="2537" y="3"/>
                  </a:lnTo>
                  <a:lnTo>
                    <a:pt x="2573" y="1"/>
                  </a:lnTo>
                  <a:lnTo>
                    <a:pt x="2607" y="1"/>
                  </a:lnTo>
                  <a:lnTo>
                    <a:pt x="2642" y="0"/>
                  </a:lnTo>
                  <a:lnTo>
                    <a:pt x="2636" y="312"/>
                  </a:lnTo>
                  <a:lnTo>
                    <a:pt x="2633" y="623"/>
                  </a:lnTo>
                  <a:lnTo>
                    <a:pt x="2630" y="936"/>
                  </a:lnTo>
                  <a:lnTo>
                    <a:pt x="2627" y="1247"/>
                  </a:lnTo>
                  <a:lnTo>
                    <a:pt x="2617" y="1475"/>
                  </a:lnTo>
                  <a:lnTo>
                    <a:pt x="2611" y="1702"/>
                  </a:lnTo>
                  <a:lnTo>
                    <a:pt x="2607" y="1930"/>
                  </a:lnTo>
                  <a:lnTo>
                    <a:pt x="2605" y="2158"/>
                  </a:lnTo>
                  <a:lnTo>
                    <a:pt x="2591" y="2178"/>
                  </a:lnTo>
                  <a:lnTo>
                    <a:pt x="2542" y="2178"/>
                  </a:lnTo>
                  <a:lnTo>
                    <a:pt x="2493" y="2178"/>
                  </a:lnTo>
                  <a:lnTo>
                    <a:pt x="2442" y="2178"/>
                  </a:lnTo>
                  <a:lnTo>
                    <a:pt x="2393" y="2178"/>
                  </a:lnTo>
                  <a:lnTo>
                    <a:pt x="2343" y="2178"/>
                  </a:lnTo>
                  <a:lnTo>
                    <a:pt x="2294" y="2178"/>
                  </a:lnTo>
                  <a:lnTo>
                    <a:pt x="2245" y="2178"/>
                  </a:lnTo>
                  <a:lnTo>
                    <a:pt x="2196" y="2178"/>
                  </a:lnTo>
                  <a:lnTo>
                    <a:pt x="2146" y="2178"/>
                  </a:lnTo>
                  <a:lnTo>
                    <a:pt x="2095" y="2178"/>
                  </a:lnTo>
                  <a:lnTo>
                    <a:pt x="2046" y="2178"/>
                  </a:lnTo>
                  <a:lnTo>
                    <a:pt x="1997" y="2178"/>
                  </a:lnTo>
                  <a:lnTo>
                    <a:pt x="1948" y="2178"/>
                  </a:lnTo>
                  <a:lnTo>
                    <a:pt x="1898" y="2178"/>
                  </a:lnTo>
                  <a:lnTo>
                    <a:pt x="1849" y="2178"/>
                  </a:lnTo>
                  <a:lnTo>
                    <a:pt x="1800" y="2178"/>
                  </a:lnTo>
                  <a:lnTo>
                    <a:pt x="1709" y="2184"/>
                  </a:lnTo>
                  <a:lnTo>
                    <a:pt x="1706" y="2204"/>
                  </a:lnTo>
                  <a:lnTo>
                    <a:pt x="1703" y="2226"/>
                  </a:lnTo>
                  <a:lnTo>
                    <a:pt x="1700" y="2248"/>
                  </a:lnTo>
                  <a:lnTo>
                    <a:pt x="1695" y="2269"/>
                  </a:lnTo>
                  <a:lnTo>
                    <a:pt x="1689" y="2291"/>
                  </a:lnTo>
                  <a:lnTo>
                    <a:pt x="1680" y="2311"/>
                  </a:lnTo>
                  <a:lnTo>
                    <a:pt x="1669" y="2328"/>
                  </a:lnTo>
                  <a:lnTo>
                    <a:pt x="1654" y="2341"/>
                  </a:lnTo>
                  <a:lnTo>
                    <a:pt x="1649" y="2411"/>
                  </a:lnTo>
                  <a:lnTo>
                    <a:pt x="1641" y="2482"/>
                  </a:lnTo>
                  <a:lnTo>
                    <a:pt x="1632" y="2551"/>
                  </a:lnTo>
                  <a:lnTo>
                    <a:pt x="1618" y="2620"/>
                  </a:lnTo>
                  <a:lnTo>
                    <a:pt x="1603" y="2689"/>
                  </a:lnTo>
                  <a:lnTo>
                    <a:pt x="1586" y="2759"/>
                  </a:lnTo>
                  <a:lnTo>
                    <a:pt x="1566" y="2826"/>
                  </a:lnTo>
                  <a:lnTo>
                    <a:pt x="1544" y="2894"/>
                  </a:lnTo>
                  <a:lnTo>
                    <a:pt x="1558" y="2907"/>
                  </a:lnTo>
                  <a:lnTo>
                    <a:pt x="1573" y="2920"/>
                  </a:lnTo>
                  <a:lnTo>
                    <a:pt x="1590" y="2933"/>
                  </a:lnTo>
                  <a:lnTo>
                    <a:pt x="1609" y="2945"/>
                  </a:lnTo>
                  <a:lnTo>
                    <a:pt x="1629" y="2957"/>
                  </a:lnTo>
                  <a:lnTo>
                    <a:pt x="1647" y="2970"/>
                  </a:lnTo>
                  <a:lnTo>
                    <a:pt x="1664" y="2982"/>
                  </a:lnTo>
                  <a:lnTo>
                    <a:pt x="1681" y="2994"/>
                  </a:lnTo>
                  <a:lnTo>
                    <a:pt x="1666" y="3004"/>
                  </a:lnTo>
                  <a:lnTo>
                    <a:pt x="1647" y="3008"/>
                  </a:lnTo>
                  <a:lnTo>
                    <a:pt x="1629" y="3013"/>
                  </a:lnTo>
                  <a:lnTo>
                    <a:pt x="1609" y="3014"/>
                  </a:lnTo>
                  <a:lnTo>
                    <a:pt x="1587" y="3014"/>
                  </a:lnTo>
                  <a:lnTo>
                    <a:pt x="1567" y="3014"/>
                  </a:lnTo>
                  <a:lnTo>
                    <a:pt x="1549" y="3013"/>
                  </a:lnTo>
                  <a:lnTo>
                    <a:pt x="1530" y="30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543480" y="6238800"/>
              <a:ext cx="172800" cy="106560"/>
            </a:xfrm>
            <a:custGeom>
              <a:avLst/>
              <a:gdLst/>
              <a:ahLst/>
              <a:rect l="l" t="t" r="r" b="b"/>
              <a:pathLst>
                <a:path w="109" h="67">
                  <a:moveTo>
                    <a:pt x="37" y="67"/>
                  </a:moveTo>
                  <a:lnTo>
                    <a:pt x="18" y="67"/>
                  </a:lnTo>
                  <a:lnTo>
                    <a:pt x="5" y="53"/>
                  </a:lnTo>
                  <a:lnTo>
                    <a:pt x="0" y="43"/>
                  </a:lnTo>
                  <a:lnTo>
                    <a:pt x="0" y="25"/>
                  </a:lnTo>
                  <a:lnTo>
                    <a:pt x="9" y="0"/>
                  </a:lnTo>
                  <a:lnTo>
                    <a:pt x="49" y="22"/>
                  </a:lnTo>
                  <a:lnTo>
                    <a:pt x="77" y="33"/>
                  </a:lnTo>
                  <a:lnTo>
                    <a:pt x="88" y="43"/>
                  </a:lnTo>
                  <a:lnTo>
                    <a:pt x="109" y="62"/>
                  </a:lnTo>
                  <a:lnTo>
                    <a:pt x="105" y="67"/>
                  </a:lnTo>
                  <a:lnTo>
                    <a:pt x="37" y="6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79840" y="6211800"/>
              <a:ext cx="161640" cy="111240"/>
            </a:xfrm>
            <a:custGeom>
              <a:avLst/>
              <a:gdLst/>
              <a:ahLst/>
              <a:rect l="l" t="t" r="r" b="b"/>
              <a:pathLst>
                <a:path w="102" h="70">
                  <a:moveTo>
                    <a:pt x="82" y="70"/>
                  </a:moveTo>
                  <a:lnTo>
                    <a:pt x="28" y="65"/>
                  </a:lnTo>
                  <a:lnTo>
                    <a:pt x="5" y="54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4" y="0"/>
                  </a:lnTo>
                  <a:lnTo>
                    <a:pt x="30" y="11"/>
                  </a:lnTo>
                  <a:lnTo>
                    <a:pt x="77" y="42"/>
                  </a:lnTo>
                  <a:lnTo>
                    <a:pt x="102" y="60"/>
                  </a:lnTo>
                  <a:lnTo>
                    <a:pt x="82" y="7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633760" y="5268960"/>
              <a:ext cx="1090440" cy="922320"/>
            </a:xfrm>
            <a:custGeom>
              <a:avLst/>
              <a:gdLst/>
              <a:ahLst/>
              <a:rect l="l" t="t" r="r" b="b"/>
              <a:pathLst>
                <a:path w="687" h="581">
                  <a:moveTo>
                    <a:pt x="568" y="581"/>
                  </a:moveTo>
                  <a:lnTo>
                    <a:pt x="556" y="550"/>
                  </a:lnTo>
                  <a:lnTo>
                    <a:pt x="545" y="519"/>
                  </a:lnTo>
                  <a:lnTo>
                    <a:pt x="533" y="490"/>
                  </a:lnTo>
                  <a:lnTo>
                    <a:pt x="522" y="459"/>
                  </a:lnTo>
                  <a:lnTo>
                    <a:pt x="511" y="430"/>
                  </a:lnTo>
                  <a:lnTo>
                    <a:pt x="499" y="399"/>
                  </a:lnTo>
                  <a:lnTo>
                    <a:pt x="487" y="370"/>
                  </a:lnTo>
                  <a:lnTo>
                    <a:pt x="473" y="340"/>
                  </a:lnTo>
                  <a:lnTo>
                    <a:pt x="471" y="322"/>
                  </a:lnTo>
                  <a:lnTo>
                    <a:pt x="467" y="305"/>
                  </a:lnTo>
                  <a:lnTo>
                    <a:pt x="461" y="286"/>
                  </a:lnTo>
                  <a:lnTo>
                    <a:pt x="456" y="271"/>
                  </a:lnTo>
                  <a:lnTo>
                    <a:pt x="462" y="265"/>
                  </a:lnTo>
                  <a:lnTo>
                    <a:pt x="468" y="260"/>
                  </a:lnTo>
                  <a:lnTo>
                    <a:pt x="474" y="257"/>
                  </a:lnTo>
                  <a:lnTo>
                    <a:pt x="481" y="254"/>
                  </a:lnTo>
                  <a:lnTo>
                    <a:pt x="485" y="251"/>
                  </a:lnTo>
                  <a:lnTo>
                    <a:pt x="491" y="250"/>
                  </a:lnTo>
                  <a:lnTo>
                    <a:pt x="499" y="248"/>
                  </a:lnTo>
                  <a:lnTo>
                    <a:pt x="508" y="246"/>
                  </a:lnTo>
                  <a:lnTo>
                    <a:pt x="527" y="230"/>
                  </a:lnTo>
                  <a:lnTo>
                    <a:pt x="524" y="216"/>
                  </a:lnTo>
                  <a:lnTo>
                    <a:pt x="513" y="213"/>
                  </a:lnTo>
                  <a:lnTo>
                    <a:pt x="504" y="213"/>
                  </a:lnTo>
                  <a:lnTo>
                    <a:pt x="497" y="213"/>
                  </a:lnTo>
                  <a:lnTo>
                    <a:pt x="493" y="214"/>
                  </a:lnTo>
                  <a:lnTo>
                    <a:pt x="488" y="217"/>
                  </a:lnTo>
                  <a:lnTo>
                    <a:pt x="482" y="222"/>
                  </a:lnTo>
                  <a:lnTo>
                    <a:pt x="476" y="228"/>
                  </a:lnTo>
                  <a:lnTo>
                    <a:pt x="468" y="237"/>
                  </a:lnTo>
                  <a:lnTo>
                    <a:pt x="447" y="243"/>
                  </a:lnTo>
                  <a:lnTo>
                    <a:pt x="425" y="248"/>
                  </a:lnTo>
                  <a:lnTo>
                    <a:pt x="404" y="253"/>
                  </a:lnTo>
                  <a:lnTo>
                    <a:pt x="382" y="257"/>
                  </a:lnTo>
                  <a:lnTo>
                    <a:pt x="360" y="259"/>
                  </a:lnTo>
                  <a:lnTo>
                    <a:pt x="339" y="262"/>
                  </a:lnTo>
                  <a:lnTo>
                    <a:pt x="317" y="262"/>
                  </a:lnTo>
                  <a:lnTo>
                    <a:pt x="296" y="262"/>
                  </a:lnTo>
                  <a:lnTo>
                    <a:pt x="273" y="262"/>
                  </a:lnTo>
                  <a:lnTo>
                    <a:pt x="251" y="260"/>
                  </a:lnTo>
                  <a:lnTo>
                    <a:pt x="230" y="257"/>
                  </a:lnTo>
                  <a:lnTo>
                    <a:pt x="208" y="254"/>
                  </a:lnTo>
                  <a:lnTo>
                    <a:pt x="186" y="250"/>
                  </a:lnTo>
                  <a:lnTo>
                    <a:pt x="165" y="243"/>
                  </a:lnTo>
                  <a:lnTo>
                    <a:pt x="143" y="236"/>
                  </a:lnTo>
                  <a:lnTo>
                    <a:pt x="122" y="228"/>
                  </a:lnTo>
                  <a:lnTo>
                    <a:pt x="106" y="228"/>
                  </a:lnTo>
                  <a:lnTo>
                    <a:pt x="102" y="242"/>
                  </a:lnTo>
                  <a:lnTo>
                    <a:pt x="180" y="271"/>
                  </a:lnTo>
                  <a:lnTo>
                    <a:pt x="166" y="303"/>
                  </a:lnTo>
                  <a:lnTo>
                    <a:pt x="153" y="334"/>
                  </a:lnTo>
                  <a:lnTo>
                    <a:pt x="137" y="365"/>
                  </a:lnTo>
                  <a:lnTo>
                    <a:pt x="122" y="396"/>
                  </a:lnTo>
                  <a:lnTo>
                    <a:pt x="105" y="427"/>
                  </a:lnTo>
                  <a:lnTo>
                    <a:pt x="88" y="456"/>
                  </a:lnTo>
                  <a:lnTo>
                    <a:pt x="71" y="487"/>
                  </a:lnTo>
                  <a:lnTo>
                    <a:pt x="53" y="517"/>
                  </a:lnTo>
                  <a:lnTo>
                    <a:pt x="46" y="501"/>
                  </a:lnTo>
                  <a:lnTo>
                    <a:pt x="43" y="485"/>
                  </a:lnTo>
                  <a:lnTo>
                    <a:pt x="40" y="471"/>
                  </a:lnTo>
                  <a:lnTo>
                    <a:pt x="37" y="454"/>
                  </a:lnTo>
                  <a:lnTo>
                    <a:pt x="29" y="410"/>
                  </a:lnTo>
                  <a:lnTo>
                    <a:pt x="20" y="359"/>
                  </a:lnTo>
                  <a:lnTo>
                    <a:pt x="12" y="303"/>
                  </a:lnTo>
                  <a:lnTo>
                    <a:pt x="5" y="246"/>
                  </a:lnTo>
                  <a:lnTo>
                    <a:pt x="0" y="191"/>
                  </a:lnTo>
                  <a:lnTo>
                    <a:pt x="0" y="139"/>
                  </a:lnTo>
                  <a:lnTo>
                    <a:pt x="5" y="91"/>
                  </a:lnTo>
                  <a:lnTo>
                    <a:pt x="16" y="54"/>
                  </a:lnTo>
                  <a:lnTo>
                    <a:pt x="40" y="59"/>
                  </a:lnTo>
                  <a:lnTo>
                    <a:pt x="71" y="62"/>
                  </a:lnTo>
                  <a:lnTo>
                    <a:pt x="103" y="66"/>
                  </a:lnTo>
                  <a:lnTo>
                    <a:pt x="139" y="68"/>
                  </a:lnTo>
                  <a:lnTo>
                    <a:pt x="174" y="69"/>
                  </a:lnTo>
                  <a:lnTo>
                    <a:pt x="206" y="66"/>
                  </a:lnTo>
                  <a:lnTo>
                    <a:pt x="236" y="59"/>
                  </a:lnTo>
                  <a:lnTo>
                    <a:pt x="259" y="46"/>
                  </a:lnTo>
                  <a:lnTo>
                    <a:pt x="290" y="0"/>
                  </a:lnTo>
                  <a:lnTo>
                    <a:pt x="297" y="17"/>
                  </a:lnTo>
                  <a:lnTo>
                    <a:pt x="300" y="31"/>
                  </a:lnTo>
                  <a:lnTo>
                    <a:pt x="307" y="46"/>
                  </a:lnTo>
                  <a:lnTo>
                    <a:pt x="322" y="63"/>
                  </a:lnTo>
                  <a:lnTo>
                    <a:pt x="345" y="66"/>
                  </a:lnTo>
                  <a:lnTo>
                    <a:pt x="368" y="69"/>
                  </a:lnTo>
                  <a:lnTo>
                    <a:pt x="391" y="71"/>
                  </a:lnTo>
                  <a:lnTo>
                    <a:pt x="414" y="74"/>
                  </a:lnTo>
                  <a:lnTo>
                    <a:pt x="437" y="74"/>
                  </a:lnTo>
                  <a:lnTo>
                    <a:pt x="459" y="76"/>
                  </a:lnTo>
                  <a:lnTo>
                    <a:pt x="482" y="76"/>
                  </a:lnTo>
                  <a:lnTo>
                    <a:pt x="505" y="76"/>
                  </a:lnTo>
                  <a:lnTo>
                    <a:pt x="528" y="74"/>
                  </a:lnTo>
                  <a:lnTo>
                    <a:pt x="550" y="72"/>
                  </a:lnTo>
                  <a:lnTo>
                    <a:pt x="573" y="69"/>
                  </a:lnTo>
                  <a:lnTo>
                    <a:pt x="596" y="68"/>
                  </a:lnTo>
                  <a:lnTo>
                    <a:pt x="618" y="63"/>
                  </a:lnTo>
                  <a:lnTo>
                    <a:pt x="641" y="59"/>
                  </a:lnTo>
                  <a:lnTo>
                    <a:pt x="664" y="54"/>
                  </a:lnTo>
                  <a:lnTo>
                    <a:pt x="687" y="48"/>
                  </a:lnTo>
                  <a:lnTo>
                    <a:pt x="641" y="393"/>
                  </a:lnTo>
                  <a:lnTo>
                    <a:pt x="631" y="414"/>
                  </a:lnTo>
                  <a:lnTo>
                    <a:pt x="622" y="437"/>
                  </a:lnTo>
                  <a:lnTo>
                    <a:pt x="614" y="460"/>
                  </a:lnTo>
                  <a:lnTo>
                    <a:pt x="607" y="485"/>
                  </a:lnTo>
                  <a:lnTo>
                    <a:pt x="599" y="510"/>
                  </a:lnTo>
                  <a:lnTo>
                    <a:pt x="593" y="534"/>
                  </a:lnTo>
                  <a:lnTo>
                    <a:pt x="588" y="557"/>
                  </a:lnTo>
                  <a:lnTo>
                    <a:pt x="584" y="581"/>
                  </a:lnTo>
                  <a:lnTo>
                    <a:pt x="568" y="581"/>
                  </a:lnTo>
                  <a:close/>
                </a:path>
              </a:pathLst>
            </a:custGeom>
            <a:solidFill>
              <a:srgbClr val="7c5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20840" y="3402000"/>
              <a:ext cx="2060640" cy="1940040"/>
            </a:xfrm>
            <a:custGeom>
              <a:avLst/>
              <a:gdLst/>
              <a:ahLst/>
              <a:rect l="l" t="t" r="r" b="b"/>
              <a:pathLst>
                <a:path w="1298" h="1222">
                  <a:moveTo>
                    <a:pt x="650" y="1222"/>
                  </a:moveTo>
                  <a:lnTo>
                    <a:pt x="591" y="1213"/>
                  </a:lnTo>
                  <a:lnTo>
                    <a:pt x="585" y="1184"/>
                  </a:lnTo>
                  <a:lnTo>
                    <a:pt x="574" y="1151"/>
                  </a:lnTo>
                  <a:lnTo>
                    <a:pt x="562" y="1122"/>
                  </a:lnTo>
                  <a:lnTo>
                    <a:pt x="548" y="1096"/>
                  </a:lnTo>
                  <a:lnTo>
                    <a:pt x="480" y="1208"/>
                  </a:lnTo>
                  <a:lnTo>
                    <a:pt x="462" y="1207"/>
                  </a:lnTo>
                  <a:lnTo>
                    <a:pt x="443" y="1207"/>
                  </a:lnTo>
                  <a:lnTo>
                    <a:pt x="426" y="1207"/>
                  </a:lnTo>
                  <a:lnTo>
                    <a:pt x="408" y="1205"/>
                  </a:lnTo>
                  <a:lnTo>
                    <a:pt x="391" y="1205"/>
                  </a:lnTo>
                  <a:lnTo>
                    <a:pt x="374" y="1204"/>
                  </a:lnTo>
                  <a:lnTo>
                    <a:pt x="357" y="1204"/>
                  </a:lnTo>
                  <a:lnTo>
                    <a:pt x="340" y="1202"/>
                  </a:lnTo>
                  <a:lnTo>
                    <a:pt x="325" y="1201"/>
                  </a:lnTo>
                  <a:lnTo>
                    <a:pt x="308" y="1198"/>
                  </a:lnTo>
                  <a:lnTo>
                    <a:pt x="291" y="1195"/>
                  </a:lnTo>
                  <a:lnTo>
                    <a:pt x="276" y="1192"/>
                  </a:lnTo>
                  <a:lnTo>
                    <a:pt x="259" y="1187"/>
                  </a:lnTo>
                  <a:lnTo>
                    <a:pt x="243" y="1181"/>
                  </a:lnTo>
                  <a:lnTo>
                    <a:pt x="226" y="1175"/>
                  </a:lnTo>
                  <a:lnTo>
                    <a:pt x="209" y="1167"/>
                  </a:lnTo>
                  <a:lnTo>
                    <a:pt x="211" y="1145"/>
                  </a:lnTo>
                  <a:lnTo>
                    <a:pt x="216" y="1121"/>
                  </a:lnTo>
                  <a:lnTo>
                    <a:pt x="222" y="1096"/>
                  </a:lnTo>
                  <a:lnTo>
                    <a:pt x="231" y="1071"/>
                  </a:lnTo>
                  <a:lnTo>
                    <a:pt x="240" y="1047"/>
                  </a:lnTo>
                  <a:lnTo>
                    <a:pt x="251" y="1022"/>
                  </a:lnTo>
                  <a:lnTo>
                    <a:pt x="260" y="999"/>
                  </a:lnTo>
                  <a:lnTo>
                    <a:pt x="271" y="979"/>
                  </a:lnTo>
                  <a:lnTo>
                    <a:pt x="279" y="948"/>
                  </a:lnTo>
                  <a:lnTo>
                    <a:pt x="286" y="917"/>
                  </a:lnTo>
                  <a:lnTo>
                    <a:pt x="294" y="888"/>
                  </a:lnTo>
                  <a:lnTo>
                    <a:pt x="302" y="857"/>
                  </a:lnTo>
                  <a:lnTo>
                    <a:pt x="311" y="828"/>
                  </a:lnTo>
                  <a:lnTo>
                    <a:pt x="319" y="797"/>
                  </a:lnTo>
                  <a:lnTo>
                    <a:pt x="326" y="768"/>
                  </a:lnTo>
                  <a:lnTo>
                    <a:pt x="336" y="737"/>
                  </a:lnTo>
                  <a:lnTo>
                    <a:pt x="340" y="600"/>
                  </a:lnTo>
                  <a:lnTo>
                    <a:pt x="299" y="583"/>
                  </a:lnTo>
                  <a:lnTo>
                    <a:pt x="263" y="585"/>
                  </a:lnTo>
                  <a:lnTo>
                    <a:pt x="236" y="600"/>
                  </a:lnTo>
                  <a:lnTo>
                    <a:pt x="212" y="630"/>
                  </a:lnTo>
                  <a:lnTo>
                    <a:pt x="197" y="665"/>
                  </a:lnTo>
                  <a:lnTo>
                    <a:pt x="188" y="706"/>
                  </a:lnTo>
                  <a:lnTo>
                    <a:pt x="186" y="748"/>
                  </a:lnTo>
                  <a:lnTo>
                    <a:pt x="189" y="788"/>
                  </a:lnTo>
                  <a:lnTo>
                    <a:pt x="205" y="820"/>
                  </a:lnTo>
                  <a:lnTo>
                    <a:pt x="209" y="839"/>
                  </a:lnTo>
                  <a:lnTo>
                    <a:pt x="203" y="859"/>
                  </a:lnTo>
                  <a:lnTo>
                    <a:pt x="188" y="894"/>
                  </a:lnTo>
                  <a:lnTo>
                    <a:pt x="129" y="911"/>
                  </a:lnTo>
                  <a:lnTo>
                    <a:pt x="75" y="867"/>
                  </a:lnTo>
                  <a:lnTo>
                    <a:pt x="37" y="816"/>
                  </a:lnTo>
                  <a:lnTo>
                    <a:pt x="11" y="759"/>
                  </a:lnTo>
                  <a:lnTo>
                    <a:pt x="0" y="699"/>
                  </a:lnTo>
                  <a:lnTo>
                    <a:pt x="3" y="639"/>
                  </a:lnTo>
                  <a:lnTo>
                    <a:pt x="22" y="579"/>
                  </a:lnTo>
                  <a:lnTo>
                    <a:pt x="55" y="522"/>
                  </a:lnTo>
                  <a:lnTo>
                    <a:pt x="106" y="469"/>
                  </a:lnTo>
                  <a:lnTo>
                    <a:pt x="135" y="452"/>
                  </a:lnTo>
                  <a:lnTo>
                    <a:pt x="165" y="436"/>
                  </a:lnTo>
                  <a:lnTo>
                    <a:pt x="194" y="417"/>
                  </a:lnTo>
                  <a:lnTo>
                    <a:pt x="222" y="400"/>
                  </a:lnTo>
                  <a:lnTo>
                    <a:pt x="249" y="383"/>
                  </a:lnTo>
                  <a:lnTo>
                    <a:pt x="279" y="368"/>
                  </a:lnTo>
                  <a:lnTo>
                    <a:pt x="309" y="352"/>
                  </a:lnTo>
                  <a:lnTo>
                    <a:pt x="340" y="340"/>
                  </a:lnTo>
                  <a:lnTo>
                    <a:pt x="359" y="332"/>
                  </a:lnTo>
                  <a:lnTo>
                    <a:pt x="376" y="325"/>
                  </a:lnTo>
                  <a:lnTo>
                    <a:pt x="391" y="317"/>
                  </a:lnTo>
                  <a:lnTo>
                    <a:pt x="405" y="311"/>
                  </a:lnTo>
                  <a:lnTo>
                    <a:pt x="419" y="306"/>
                  </a:lnTo>
                  <a:lnTo>
                    <a:pt x="434" y="305"/>
                  </a:lnTo>
                  <a:lnTo>
                    <a:pt x="453" y="305"/>
                  </a:lnTo>
                  <a:lnTo>
                    <a:pt x="473" y="308"/>
                  </a:lnTo>
                  <a:lnTo>
                    <a:pt x="490" y="305"/>
                  </a:lnTo>
                  <a:lnTo>
                    <a:pt x="507" y="303"/>
                  </a:lnTo>
                  <a:lnTo>
                    <a:pt x="523" y="302"/>
                  </a:lnTo>
                  <a:lnTo>
                    <a:pt x="540" y="300"/>
                  </a:lnTo>
                  <a:lnTo>
                    <a:pt x="556" y="300"/>
                  </a:lnTo>
                  <a:lnTo>
                    <a:pt x="573" y="300"/>
                  </a:lnTo>
                  <a:lnTo>
                    <a:pt x="590" y="300"/>
                  </a:lnTo>
                  <a:lnTo>
                    <a:pt x="605" y="300"/>
                  </a:lnTo>
                  <a:lnTo>
                    <a:pt x="622" y="302"/>
                  </a:lnTo>
                  <a:lnTo>
                    <a:pt x="639" y="302"/>
                  </a:lnTo>
                  <a:lnTo>
                    <a:pt x="654" y="303"/>
                  </a:lnTo>
                  <a:lnTo>
                    <a:pt x="671" y="305"/>
                  </a:lnTo>
                  <a:lnTo>
                    <a:pt x="688" y="306"/>
                  </a:lnTo>
                  <a:lnTo>
                    <a:pt x="704" y="306"/>
                  </a:lnTo>
                  <a:lnTo>
                    <a:pt x="721" y="308"/>
                  </a:lnTo>
                  <a:lnTo>
                    <a:pt x="737" y="309"/>
                  </a:lnTo>
                  <a:lnTo>
                    <a:pt x="751" y="315"/>
                  </a:lnTo>
                  <a:lnTo>
                    <a:pt x="765" y="318"/>
                  </a:lnTo>
                  <a:lnTo>
                    <a:pt x="781" y="320"/>
                  </a:lnTo>
                  <a:lnTo>
                    <a:pt x="798" y="320"/>
                  </a:lnTo>
                  <a:lnTo>
                    <a:pt x="814" y="318"/>
                  </a:lnTo>
                  <a:lnTo>
                    <a:pt x="831" y="315"/>
                  </a:lnTo>
                  <a:lnTo>
                    <a:pt x="848" y="312"/>
                  </a:lnTo>
                  <a:lnTo>
                    <a:pt x="867" y="306"/>
                  </a:lnTo>
                  <a:lnTo>
                    <a:pt x="884" y="302"/>
                  </a:lnTo>
                  <a:lnTo>
                    <a:pt x="902" y="294"/>
                  </a:lnTo>
                  <a:lnTo>
                    <a:pt x="919" y="288"/>
                  </a:lnTo>
                  <a:lnTo>
                    <a:pt x="936" y="280"/>
                  </a:lnTo>
                  <a:lnTo>
                    <a:pt x="951" y="274"/>
                  </a:lnTo>
                  <a:lnTo>
                    <a:pt x="967" y="266"/>
                  </a:lnTo>
                  <a:lnTo>
                    <a:pt x="981" y="258"/>
                  </a:lnTo>
                  <a:lnTo>
                    <a:pt x="995" y="252"/>
                  </a:lnTo>
                  <a:lnTo>
                    <a:pt x="1015" y="234"/>
                  </a:lnTo>
                  <a:lnTo>
                    <a:pt x="1035" y="214"/>
                  </a:lnTo>
                  <a:lnTo>
                    <a:pt x="1056" y="194"/>
                  </a:lnTo>
                  <a:lnTo>
                    <a:pt x="1076" y="172"/>
                  </a:lnTo>
                  <a:lnTo>
                    <a:pt x="1095" y="151"/>
                  </a:lnTo>
                  <a:lnTo>
                    <a:pt x="1113" y="129"/>
                  </a:lnTo>
                  <a:lnTo>
                    <a:pt x="1129" y="104"/>
                  </a:lnTo>
                  <a:lnTo>
                    <a:pt x="1141" y="80"/>
                  </a:lnTo>
                  <a:lnTo>
                    <a:pt x="1155" y="57"/>
                  </a:lnTo>
                  <a:lnTo>
                    <a:pt x="1167" y="37"/>
                  </a:lnTo>
                  <a:lnTo>
                    <a:pt x="1176" y="21"/>
                  </a:lnTo>
                  <a:lnTo>
                    <a:pt x="1187" y="9"/>
                  </a:lnTo>
                  <a:lnTo>
                    <a:pt x="1199" y="1"/>
                  </a:lnTo>
                  <a:lnTo>
                    <a:pt x="1215" y="0"/>
                  </a:lnTo>
                  <a:lnTo>
                    <a:pt x="1235" y="4"/>
                  </a:lnTo>
                  <a:lnTo>
                    <a:pt x="1259" y="17"/>
                  </a:lnTo>
                  <a:lnTo>
                    <a:pt x="1290" y="48"/>
                  </a:lnTo>
                  <a:lnTo>
                    <a:pt x="1298" y="95"/>
                  </a:lnTo>
                  <a:lnTo>
                    <a:pt x="1290" y="154"/>
                  </a:lnTo>
                  <a:lnTo>
                    <a:pt x="1269" y="217"/>
                  </a:lnTo>
                  <a:lnTo>
                    <a:pt x="1241" y="282"/>
                  </a:lnTo>
                  <a:lnTo>
                    <a:pt x="1209" y="342"/>
                  </a:lnTo>
                  <a:lnTo>
                    <a:pt x="1179" y="391"/>
                  </a:lnTo>
                  <a:lnTo>
                    <a:pt x="1158" y="426"/>
                  </a:lnTo>
                  <a:lnTo>
                    <a:pt x="1136" y="451"/>
                  </a:lnTo>
                  <a:lnTo>
                    <a:pt x="1113" y="474"/>
                  </a:lnTo>
                  <a:lnTo>
                    <a:pt x="1090" y="496"/>
                  </a:lnTo>
                  <a:lnTo>
                    <a:pt x="1065" y="517"/>
                  </a:lnTo>
                  <a:lnTo>
                    <a:pt x="1041" y="539"/>
                  </a:lnTo>
                  <a:lnTo>
                    <a:pt x="1016" y="559"/>
                  </a:lnTo>
                  <a:lnTo>
                    <a:pt x="991" y="580"/>
                  </a:lnTo>
                  <a:lnTo>
                    <a:pt x="967" y="600"/>
                  </a:lnTo>
                  <a:lnTo>
                    <a:pt x="968" y="642"/>
                  </a:lnTo>
                  <a:lnTo>
                    <a:pt x="975" y="685"/>
                  </a:lnTo>
                  <a:lnTo>
                    <a:pt x="982" y="728"/>
                  </a:lnTo>
                  <a:lnTo>
                    <a:pt x="993" y="770"/>
                  </a:lnTo>
                  <a:lnTo>
                    <a:pt x="995" y="824"/>
                  </a:lnTo>
                  <a:lnTo>
                    <a:pt x="999" y="879"/>
                  </a:lnTo>
                  <a:lnTo>
                    <a:pt x="1001" y="931"/>
                  </a:lnTo>
                  <a:lnTo>
                    <a:pt x="1002" y="985"/>
                  </a:lnTo>
                  <a:lnTo>
                    <a:pt x="999" y="1038"/>
                  </a:lnTo>
                  <a:lnTo>
                    <a:pt x="991" y="1088"/>
                  </a:lnTo>
                  <a:lnTo>
                    <a:pt x="978" y="1141"/>
                  </a:lnTo>
                  <a:lnTo>
                    <a:pt x="956" y="1192"/>
                  </a:lnTo>
                  <a:lnTo>
                    <a:pt x="936" y="1195"/>
                  </a:lnTo>
                  <a:lnTo>
                    <a:pt x="916" y="1199"/>
                  </a:lnTo>
                  <a:lnTo>
                    <a:pt x="898" y="1202"/>
                  </a:lnTo>
                  <a:lnTo>
                    <a:pt x="879" y="1205"/>
                  </a:lnTo>
                  <a:lnTo>
                    <a:pt x="859" y="1207"/>
                  </a:lnTo>
                  <a:lnTo>
                    <a:pt x="841" y="1210"/>
                  </a:lnTo>
                  <a:lnTo>
                    <a:pt x="822" y="1213"/>
                  </a:lnTo>
                  <a:lnTo>
                    <a:pt x="804" y="1215"/>
                  </a:lnTo>
                  <a:lnTo>
                    <a:pt x="784" y="1216"/>
                  </a:lnTo>
                  <a:lnTo>
                    <a:pt x="765" y="1218"/>
                  </a:lnTo>
                  <a:lnTo>
                    <a:pt x="747" y="1219"/>
                  </a:lnTo>
                  <a:lnTo>
                    <a:pt x="728" y="1221"/>
                  </a:lnTo>
                  <a:lnTo>
                    <a:pt x="708" y="1221"/>
                  </a:lnTo>
                  <a:lnTo>
                    <a:pt x="690" y="1222"/>
                  </a:lnTo>
                  <a:lnTo>
                    <a:pt x="670" y="1222"/>
                  </a:lnTo>
                  <a:lnTo>
                    <a:pt x="650" y="1222"/>
                  </a:lnTo>
                  <a:close/>
                </a:path>
              </a:pathLst>
            </a:custGeom>
            <a:solidFill>
              <a:srgbClr val="7c5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70000" y="4951440"/>
              <a:ext cx="1255680" cy="77760"/>
            </a:xfrm>
            <a:custGeom>
              <a:avLst/>
              <a:gdLst/>
              <a:ahLst/>
              <a:rect l="l" t="t" r="r" b="b"/>
              <a:pathLst>
                <a:path w="791" h="49">
                  <a:moveTo>
                    <a:pt x="11" y="49"/>
                  </a:moveTo>
                  <a:lnTo>
                    <a:pt x="0" y="45"/>
                  </a:lnTo>
                  <a:lnTo>
                    <a:pt x="5" y="9"/>
                  </a:lnTo>
                  <a:lnTo>
                    <a:pt x="54" y="9"/>
                  </a:lnTo>
                  <a:lnTo>
                    <a:pt x="103" y="9"/>
                  </a:lnTo>
                  <a:lnTo>
                    <a:pt x="152" y="9"/>
                  </a:lnTo>
                  <a:lnTo>
                    <a:pt x="202" y="8"/>
                  </a:lnTo>
                  <a:lnTo>
                    <a:pt x="251" y="8"/>
                  </a:lnTo>
                  <a:lnTo>
                    <a:pt x="300" y="8"/>
                  </a:lnTo>
                  <a:lnTo>
                    <a:pt x="349" y="8"/>
                  </a:lnTo>
                  <a:lnTo>
                    <a:pt x="399" y="6"/>
                  </a:lnTo>
                  <a:lnTo>
                    <a:pt x="448" y="6"/>
                  </a:lnTo>
                  <a:lnTo>
                    <a:pt x="497" y="5"/>
                  </a:lnTo>
                  <a:lnTo>
                    <a:pt x="547" y="5"/>
                  </a:lnTo>
                  <a:lnTo>
                    <a:pt x="596" y="3"/>
                  </a:lnTo>
                  <a:lnTo>
                    <a:pt x="645" y="3"/>
                  </a:lnTo>
                  <a:lnTo>
                    <a:pt x="694" y="1"/>
                  </a:lnTo>
                  <a:lnTo>
                    <a:pt x="742" y="1"/>
                  </a:lnTo>
                  <a:lnTo>
                    <a:pt x="791" y="0"/>
                  </a:lnTo>
                  <a:lnTo>
                    <a:pt x="791" y="49"/>
                  </a:lnTo>
                  <a:lnTo>
                    <a:pt x="742" y="49"/>
                  </a:lnTo>
                  <a:lnTo>
                    <a:pt x="694" y="49"/>
                  </a:lnTo>
                  <a:lnTo>
                    <a:pt x="645" y="49"/>
                  </a:lnTo>
                  <a:lnTo>
                    <a:pt x="597" y="49"/>
                  </a:lnTo>
                  <a:lnTo>
                    <a:pt x="548" y="49"/>
                  </a:lnTo>
                  <a:lnTo>
                    <a:pt x="500" y="49"/>
                  </a:lnTo>
                  <a:lnTo>
                    <a:pt x="451" y="49"/>
                  </a:lnTo>
                  <a:lnTo>
                    <a:pt x="402" y="49"/>
                  </a:lnTo>
                  <a:lnTo>
                    <a:pt x="354" y="49"/>
                  </a:lnTo>
                  <a:lnTo>
                    <a:pt x="305" y="49"/>
                  </a:lnTo>
                  <a:lnTo>
                    <a:pt x="256" y="49"/>
                  </a:lnTo>
                  <a:lnTo>
                    <a:pt x="206" y="49"/>
                  </a:lnTo>
                  <a:lnTo>
                    <a:pt x="159" y="49"/>
                  </a:lnTo>
                  <a:lnTo>
                    <a:pt x="109" y="49"/>
                  </a:lnTo>
                  <a:lnTo>
                    <a:pt x="60" y="49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a84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52720" y="4915080"/>
              <a:ext cx="1389240" cy="109440"/>
            </a:xfrm>
            <a:custGeom>
              <a:avLst/>
              <a:gdLst/>
              <a:ahLst/>
              <a:rect l="l" t="t" r="r" b="b"/>
              <a:pathLst>
                <a:path w="875" h="69">
                  <a:moveTo>
                    <a:pt x="261" y="69"/>
                  </a:moveTo>
                  <a:lnTo>
                    <a:pt x="0" y="69"/>
                  </a:lnTo>
                  <a:lnTo>
                    <a:pt x="2" y="14"/>
                  </a:lnTo>
                  <a:lnTo>
                    <a:pt x="24" y="12"/>
                  </a:lnTo>
                  <a:lnTo>
                    <a:pt x="47" y="12"/>
                  </a:lnTo>
                  <a:lnTo>
                    <a:pt x="68" y="11"/>
                  </a:lnTo>
                  <a:lnTo>
                    <a:pt x="90" y="9"/>
                  </a:lnTo>
                  <a:lnTo>
                    <a:pt x="111" y="9"/>
                  </a:lnTo>
                  <a:lnTo>
                    <a:pt x="134" y="9"/>
                  </a:lnTo>
                  <a:lnTo>
                    <a:pt x="156" y="9"/>
                  </a:lnTo>
                  <a:lnTo>
                    <a:pt x="178" y="11"/>
                  </a:lnTo>
                  <a:lnTo>
                    <a:pt x="221" y="11"/>
                  </a:lnTo>
                  <a:lnTo>
                    <a:pt x="265" y="9"/>
                  </a:lnTo>
                  <a:lnTo>
                    <a:pt x="308" y="9"/>
                  </a:lnTo>
                  <a:lnTo>
                    <a:pt x="351" y="8"/>
                  </a:lnTo>
                  <a:lnTo>
                    <a:pt x="395" y="6"/>
                  </a:lnTo>
                  <a:lnTo>
                    <a:pt x="439" y="6"/>
                  </a:lnTo>
                  <a:lnTo>
                    <a:pt x="482" y="4"/>
                  </a:lnTo>
                  <a:lnTo>
                    <a:pt x="525" y="4"/>
                  </a:lnTo>
                  <a:lnTo>
                    <a:pt x="569" y="3"/>
                  </a:lnTo>
                  <a:lnTo>
                    <a:pt x="613" y="3"/>
                  </a:lnTo>
                  <a:lnTo>
                    <a:pt x="656" y="1"/>
                  </a:lnTo>
                  <a:lnTo>
                    <a:pt x="699" y="1"/>
                  </a:lnTo>
                  <a:lnTo>
                    <a:pt x="744" y="0"/>
                  </a:lnTo>
                  <a:lnTo>
                    <a:pt x="787" y="0"/>
                  </a:lnTo>
                  <a:lnTo>
                    <a:pt x="832" y="0"/>
                  </a:lnTo>
                  <a:lnTo>
                    <a:pt x="875" y="0"/>
                  </a:lnTo>
                  <a:lnTo>
                    <a:pt x="875" y="60"/>
                  </a:lnTo>
                  <a:lnTo>
                    <a:pt x="866" y="69"/>
                  </a:lnTo>
                  <a:lnTo>
                    <a:pt x="829" y="66"/>
                  </a:lnTo>
                  <a:lnTo>
                    <a:pt x="790" y="65"/>
                  </a:lnTo>
                  <a:lnTo>
                    <a:pt x="753" y="63"/>
                  </a:lnTo>
                  <a:lnTo>
                    <a:pt x="715" y="63"/>
                  </a:lnTo>
                  <a:lnTo>
                    <a:pt x="676" y="63"/>
                  </a:lnTo>
                  <a:lnTo>
                    <a:pt x="639" y="63"/>
                  </a:lnTo>
                  <a:lnTo>
                    <a:pt x="601" y="63"/>
                  </a:lnTo>
                  <a:lnTo>
                    <a:pt x="562" y="63"/>
                  </a:lnTo>
                  <a:lnTo>
                    <a:pt x="524" y="65"/>
                  </a:lnTo>
                  <a:lnTo>
                    <a:pt x="487" y="65"/>
                  </a:lnTo>
                  <a:lnTo>
                    <a:pt x="448" y="66"/>
                  </a:lnTo>
                  <a:lnTo>
                    <a:pt x="410" y="68"/>
                  </a:lnTo>
                  <a:lnTo>
                    <a:pt x="373" y="68"/>
                  </a:lnTo>
                  <a:lnTo>
                    <a:pt x="335" y="69"/>
                  </a:lnTo>
                  <a:lnTo>
                    <a:pt x="298" y="69"/>
                  </a:lnTo>
                  <a:lnTo>
                    <a:pt x="261" y="69"/>
                  </a:lnTo>
                  <a:close/>
                </a:path>
              </a:pathLst>
            </a:custGeom>
            <a:solidFill>
              <a:srgbClr val="a84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462040" y="4775040"/>
              <a:ext cx="184320" cy="284400"/>
            </a:xfrm>
            <a:custGeom>
              <a:avLst/>
              <a:gdLst/>
              <a:ahLst/>
              <a:rect l="l" t="t" r="r" b="b"/>
              <a:pathLst>
                <a:path w="116" h="179">
                  <a:moveTo>
                    <a:pt x="10" y="179"/>
                  </a:moveTo>
                  <a:lnTo>
                    <a:pt x="0" y="77"/>
                  </a:lnTo>
                  <a:lnTo>
                    <a:pt x="16" y="71"/>
                  </a:lnTo>
                  <a:lnTo>
                    <a:pt x="28" y="63"/>
                  </a:lnTo>
                  <a:lnTo>
                    <a:pt x="39" y="56"/>
                  </a:lnTo>
                  <a:lnTo>
                    <a:pt x="48" y="48"/>
                  </a:lnTo>
                  <a:lnTo>
                    <a:pt x="56" y="39"/>
                  </a:lnTo>
                  <a:lnTo>
                    <a:pt x="64" y="28"/>
                  </a:lnTo>
                  <a:lnTo>
                    <a:pt x="71" y="14"/>
                  </a:lnTo>
                  <a:lnTo>
                    <a:pt x="79" y="0"/>
                  </a:lnTo>
                  <a:lnTo>
                    <a:pt x="116" y="9"/>
                  </a:lnTo>
                  <a:lnTo>
                    <a:pt x="113" y="40"/>
                  </a:lnTo>
                  <a:lnTo>
                    <a:pt x="104" y="71"/>
                  </a:lnTo>
                  <a:lnTo>
                    <a:pt x="91" y="103"/>
                  </a:lnTo>
                  <a:lnTo>
                    <a:pt x="79" y="133"/>
                  </a:lnTo>
                  <a:lnTo>
                    <a:pt x="68" y="131"/>
                  </a:lnTo>
                  <a:lnTo>
                    <a:pt x="57" y="128"/>
                  </a:lnTo>
                  <a:lnTo>
                    <a:pt x="47" y="125"/>
                  </a:lnTo>
                  <a:lnTo>
                    <a:pt x="34" y="122"/>
                  </a:lnTo>
                  <a:lnTo>
                    <a:pt x="10" y="179"/>
                  </a:lnTo>
                  <a:close/>
                </a:path>
              </a:pathLst>
            </a:custGeom>
            <a:solidFill>
              <a:srgbClr val="ffce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70000" y="1641600"/>
              <a:ext cx="4121280" cy="3292200"/>
            </a:xfrm>
            <a:custGeom>
              <a:avLst/>
              <a:gdLst/>
              <a:ahLst/>
              <a:rect l="l" t="t" r="r" b="b"/>
              <a:pathLst>
                <a:path w="2596" h="2074">
                  <a:moveTo>
                    <a:pt x="9" y="2071"/>
                  </a:moveTo>
                  <a:lnTo>
                    <a:pt x="0" y="2062"/>
                  </a:lnTo>
                  <a:lnTo>
                    <a:pt x="12" y="1751"/>
                  </a:lnTo>
                  <a:lnTo>
                    <a:pt x="18" y="1440"/>
                  </a:lnTo>
                  <a:lnTo>
                    <a:pt x="21" y="1129"/>
                  </a:lnTo>
                  <a:lnTo>
                    <a:pt x="23" y="818"/>
                  </a:lnTo>
                  <a:lnTo>
                    <a:pt x="52" y="14"/>
                  </a:lnTo>
                  <a:lnTo>
                    <a:pt x="131" y="14"/>
                  </a:lnTo>
                  <a:lnTo>
                    <a:pt x="211" y="14"/>
                  </a:lnTo>
                  <a:lnTo>
                    <a:pt x="289" y="14"/>
                  </a:lnTo>
                  <a:lnTo>
                    <a:pt x="369" y="14"/>
                  </a:lnTo>
                  <a:lnTo>
                    <a:pt x="448" y="14"/>
                  </a:lnTo>
                  <a:lnTo>
                    <a:pt x="528" y="14"/>
                  </a:lnTo>
                  <a:lnTo>
                    <a:pt x="607" y="12"/>
                  </a:lnTo>
                  <a:lnTo>
                    <a:pt x="687" y="12"/>
                  </a:lnTo>
                  <a:lnTo>
                    <a:pt x="765" y="12"/>
                  </a:lnTo>
                  <a:lnTo>
                    <a:pt x="844" y="12"/>
                  </a:lnTo>
                  <a:lnTo>
                    <a:pt x="924" y="12"/>
                  </a:lnTo>
                  <a:lnTo>
                    <a:pt x="1002" y="11"/>
                  </a:lnTo>
                  <a:lnTo>
                    <a:pt x="1082" y="11"/>
                  </a:lnTo>
                  <a:lnTo>
                    <a:pt x="1161" y="11"/>
                  </a:lnTo>
                  <a:lnTo>
                    <a:pt x="1241" y="11"/>
                  </a:lnTo>
                  <a:lnTo>
                    <a:pt x="1319" y="9"/>
                  </a:lnTo>
                  <a:lnTo>
                    <a:pt x="1398" y="9"/>
                  </a:lnTo>
                  <a:lnTo>
                    <a:pt x="1478" y="9"/>
                  </a:lnTo>
                  <a:lnTo>
                    <a:pt x="1556" y="8"/>
                  </a:lnTo>
                  <a:lnTo>
                    <a:pt x="1637" y="8"/>
                  </a:lnTo>
                  <a:lnTo>
                    <a:pt x="1715" y="8"/>
                  </a:lnTo>
                  <a:lnTo>
                    <a:pt x="1795" y="6"/>
                  </a:lnTo>
                  <a:lnTo>
                    <a:pt x="1874" y="6"/>
                  </a:lnTo>
                  <a:lnTo>
                    <a:pt x="1952" y="6"/>
                  </a:lnTo>
                  <a:lnTo>
                    <a:pt x="2032" y="5"/>
                  </a:lnTo>
                  <a:lnTo>
                    <a:pt x="2111" y="5"/>
                  </a:lnTo>
                  <a:lnTo>
                    <a:pt x="2191" y="3"/>
                  </a:lnTo>
                  <a:lnTo>
                    <a:pt x="2269" y="3"/>
                  </a:lnTo>
                  <a:lnTo>
                    <a:pt x="2349" y="2"/>
                  </a:lnTo>
                  <a:lnTo>
                    <a:pt x="2428" y="2"/>
                  </a:lnTo>
                  <a:lnTo>
                    <a:pt x="2508" y="0"/>
                  </a:lnTo>
                  <a:lnTo>
                    <a:pt x="2587" y="0"/>
                  </a:lnTo>
                  <a:lnTo>
                    <a:pt x="2596" y="8"/>
                  </a:lnTo>
                  <a:lnTo>
                    <a:pt x="2588" y="493"/>
                  </a:lnTo>
                  <a:lnTo>
                    <a:pt x="2580" y="978"/>
                  </a:lnTo>
                  <a:lnTo>
                    <a:pt x="2574" y="1463"/>
                  </a:lnTo>
                  <a:lnTo>
                    <a:pt x="2565" y="1946"/>
                  </a:lnTo>
                  <a:lnTo>
                    <a:pt x="2565" y="2043"/>
                  </a:lnTo>
                  <a:lnTo>
                    <a:pt x="2362" y="2043"/>
                  </a:lnTo>
                  <a:lnTo>
                    <a:pt x="2320" y="2043"/>
                  </a:lnTo>
                  <a:lnTo>
                    <a:pt x="2279" y="2045"/>
                  </a:lnTo>
                  <a:lnTo>
                    <a:pt x="2237" y="2045"/>
                  </a:lnTo>
                  <a:lnTo>
                    <a:pt x="2194" y="2046"/>
                  </a:lnTo>
                  <a:lnTo>
                    <a:pt x="2151" y="2048"/>
                  </a:lnTo>
                  <a:lnTo>
                    <a:pt x="2109" y="2050"/>
                  </a:lnTo>
                  <a:lnTo>
                    <a:pt x="2066" y="2051"/>
                  </a:lnTo>
                  <a:lnTo>
                    <a:pt x="2023" y="2053"/>
                  </a:lnTo>
                  <a:lnTo>
                    <a:pt x="1981" y="2053"/>
                  </a:lnTo>
                  <a:lnTo>
                    <a:pt x="1938" y="2054"/>
                  </a:lnTo>
                  <a:lnTo>
                    <a:pt x="1895" y="2053"/>
                  </a:lnTo>
                  <a:lnTo>
                    <a:pt x="1854" y="2053"/>
                  </a:lnTo>
                  <a:lnTo>
                    <a:pt x="1812" y="2051"/>
                  </a:lnTo>
                  <a:lnTo>
                    <a:pt x="1769" y="2048"/>
                  </a:lnTo>
                  <a:lnTo>
                    <a:pt x="1729" y="2045"/>
                  </a:lnTo>
                  <a:lnTo>
                    <a:pt x="1687" y="2040"/>
                  </a:lnTo>
                  <a:lnTo>
                    <a:pt x="1655" y="1732"/>
                  </a:lnTo>
                  <a:lnTo>
                    <a:pt x="1727" y="1649"/>
                  </a:lnTo>
                  <a:lnTo>
                    <a:pt x="1734" y="1645"/>
                  </a:lnTo>
                  <a:lnTo>
                    <a:pt x="1740" y="1640"/>
                  </a:lnTo>
                  <a:lnTo>
                    <a:pt x="1747" y="1634"/>
                  </a:lnTo>
                  <a:lnTo>
                    <a:pt x="1755" y="1629"/>
                  </a:lnTo>
                  <a:lnTo>
                    <a:pt x="1763" y="1623"/>
                  </a:lnTo>
                  <a:lnTo>
                    <a:pt x="1771" y="1617"/>
                  </a:lnTo>
                  <a:lnTo>
                    <a:pt x="1780" y="1609"/>
                  </a:lnTo>
                  <a:lnTo>
                    <a:pt x="1787" y="1601"/>
                  </a:lnTo>
                  <a:lnTo>
                    <a:pt x="1827" y="1552"/>
                  </a:lnTo>
                  <a:lnTo>
                    <a:pt x="1868" y="1500"/>
                  </a:lnTo>
                  <a:lnTo>
                    <a:pt x="1906" y="1441"/>
                  </a:lnTo>
                  <a:lnTo>
                    <a:pt x="1938" y="1380"/>
                  </a:lnTo>
                  <a:lnTo>
                    <a:pt x="1965" y="1315"/>
                  </a:lnTo>
                  <a:lnTo>
                    <a:pt x="1981" y="1250"/>
                  </a:lnTo>
                  <a:lnTo>
                    <a:pt x="1989" y="1184"/>
                  </a:lnTo>
                  <a:lnTo>
                    <a:pt x="1985" y="1120"/>
                  </a:lnTo>
                  <a:lnTo>
                    <a:pt x="1978" y="1095"/>
                  </a:lnTo>
                  <a:lnTo>
                    <a:pt x="1981" y="1067"/>
                  </a:lnTo>
                  <a:lnTo>
                    <a:pt x="1991" y="1039"/>
                  </a:lnTo>
                  <a:lnTo>
                    <a:pt x="2001" y="1015"/>
                  </a:lnTo>
                  <a:lnTo>
                    <a:pt x="2011" y="986"/>
                  </a:lnTo>
                  <a:lnTo>
                    <a:pt x="2020" y="958"/>
                  </a:lnTo>
                  <a:lnTo>
                    <a:pt x="2028" y="929"/>
                  </a:lnTo>
                  <a:lnTo>
                    <a:pt x="2031" y="902"/>
                  </a:lnTo>
                  <a:lnTo>
                    <a:pt x="2028" y="876"/>
                  </a:lnTo>
                  <a:lnTo>
                    <a:pt x="2018" y="855"/>
                  </a:lnTo>
                  <a:lnTo>
                    <a:pt x="2000" y="833"/>
                  </a:lnTo>
                  <a:lnTo>
                    <a:pt x="1971" y="816"/>
                  </a:lnTo>
                  <a:lnTo>
                    <a:pt x="1972" y="778"/>
                  </a:lnTo>
                  <a:lnTo>
                    <a:pt x="1975" y="739"/>
                  </a:lnTo>
                  <a:lnTo>
                    <a:pt x="1983" y="701"/>
                  </a:lnTo>
                  <a:lnTo>
                    <a:pt x="1997" y="664"/>
                  </a:lnTo>
                  <a:lnTo>
                    <a:pt x="2025" y="645"/>
                  </a:lnTo>
                  <a:lnTo>
                    <a:pt x="2045" y="624"/>
                  </a:lnTo>
                  <a:lnTo>
                    <a:pt x="2058" y="604"/>
                  </a:lnTo>
                  <a:lnTo>
                    <a:pt x="2066" y="582"/>
                  </a:lnTo>
                  <a:lnTo>
                    <a:pt x="2069" y="561"/>
                  </a:lnTo>
                  <a:lnTo>
                    <a:pt x="2066" y="541"/>
                  </a:lnTo>
                  <a:lnTo>
                    <a:pt x="2060" y="521"/>
                  </a:lnTo>
                  <a:lnTo>
                    <a:pt x="2048" y="502"/>
                  </a:lnTo>
                  <a:lnTo>
                    <a:pt x="2032" y="487"/>
                  </a:lnTo>
                  <a:lnTo>
                    <a:pt x="2014" y="474"/>
                  </a:lnTo>
                  <a:lnTo>
                    <a:pt x="1992" y="464"/>
                  </a:lnTo>
                  <a:lnTo>
                    <a:pt x="1968" y="457"/>
                  </a:lnTo>
                  <a:lnTo>
                    <a:pt x="1941" y="454"/>
                  </a:lnTo>
                  <a:lnTo>
                    <a:pt x="1914" y="457"/>
                  </a:lnTo>
                  <a:lnTo>
                    <a:pt x="1884" y="464"/>
                  </a:lnTo>
                  <a:lnTo>
                    <a:pt x="1855" y="476"/>
                  </a:lnTo>
                  <a:lnTo>
                    <a:pt x="1801" y="530"/>
                  </a:lnTo>
                  <a:lnTo>
                    <a:pt x="1792" y="608"/>
                  </a:lnTo>
                  <a:lnTo>
                    <a:pt x="1814" y="625"/>
                  </a:lnTo>
                  <a:lnTo>
                    <a:pt x="1874" y="618"/>
                  </a:lnTo>
                  <a:lnTo>
                    <a:pt x="1880" y="598"/>
                  </a:lnTo>
                  <a:lnTo>
                    <a:pt x="1888" y="578"/>
                  </a:lnTo>
                  <a:lnTo>
                    <a:pt x="1894" y="559"/>
                  </a:lnTo>
                  <a:lnTo>
                    <a:pt x="1897" y="541"/>
                  </a:lnTo>
                  <a:lnTo>
                    <a:pt x="1966" y="534"/>
                  </a:lnTo>
                  <a:lnTo>
                    <a:pt x="1980" y="554"/>
                  </a:lnTo>
                  <a:lnTo>
                    <a:pt x="1985" y="573"/>
                  </a:lnTo>
                  <a:lnTo>
                    <a:pt x="1983" y="590"/>
                  </a:lnTo>
                  <a:lnTo>
                    <a:pt x="1975" y="604"/>
                  </a:lnTo>
                  <a:lnTo>
                    <a:pt x="1965" y="616"/>
                  </a:lnTo>
                  <a:lnTo>
                    <a:pt x="1948" y="628"/>
                  </a:lnTo>
                  <a:lnTo>
                    <a:pt x="1931" y="638"/>
                  </a:lnTo>
                  <a:lnTo>
                    <a:pt x="1911" y="648"/>
                  </a:lnTo>
                  <a:lnTo>
                    <a:pt x="1901" y="779"/>
                  </a:lnTo>
                  <a:lnTo>
                    <a:pt x="1864" y="782"/>
                  </a:lnTo>
                  <a:lnTo>
                    <a:pt x="1861" y="795"/>
                  </a:lnTo>
                  <a:lnTo>
                    <a:pt x="1792" y="735"/>
                  </a:lnTo>
                  <a:lnTo>
                    <a:pt x="1746" y="735"/>
                  </a:lnTo>
                  <a:lnTo>
                    <a:pt x="1734" y="761"/>
                  </a:lnTo>
                  <a:lnTo>
                    <a:pt x="1724" y="781"/>
                  </a:lnTo>
                  <a:lnTo>
                    <a:pt x="1721" y="799"/>
                  </a:lnTo>
                  <a:lnTo>
                    <a:pt x="1723" y="815"/>
                  </a:lnTo>
                  <a:lnTo>
                    <a:pt x="1727" y="830"/>
                  </a:lnTo>
                  <a:lnTo>
                    <a:pt x="1738" y="845"/>
                  </a:lnTo>
                  <a:lnTo>
                    <a:pt x="1752" y="862"/>
                  </a:lnTo>
                  <a:lnTo>
                    <a:pt x="1771" y="882"/>
                  </a:lnTo>
                  <a:lnTo>
                    <a:pt x="1763" y="904"/>
                  </a:lnTo>
                  <a:lnTo>
                    <a:pt x="1754" y="922"/>
                  </a:lnTo>
                  <a:lnTo>
                    <a:pt x="1749" y="941"/>
                  </a:lnTo>
                  <a:lnTo>
                    <a:pt x="1746" y="962"/>
                  </a:lnTo>
                  <a:lnTo>
                    <a:pt x="1757" y="978"/>
                  </a:lnTo>
                  <a:lnTo>
                    <a:pt x="1769" y="993"/>
                  </a:lnTo>
                  <a:lnTo>
                    <a:pt x="1783" y="1009"/>
                  </a:lnTo>
                  <a:lnTo>
                    <a:pt x="1795" y="1023"/>
                  </a:lnTo>
                  <a:lnTo>
                    <a:pt x="1807" y="1036"/>
                  </a:lnTo>
                  <a:lnTo>
                    <a:pt x="1820" y="1050"/>
                  </a:lnTo>
                  <a:lnTo>
                    <a:pt x="1832" y="1066"/>
                  </a:lnTo>
                  <a:lnTo>
                    <a:pt x="1843" y="1083"/>
                  </a:lnTo>
                  <a:lnTo>
                    <a:pt x="1826" y="1112"/>
                  </a:lnTo>
                  <a:lnTo>
                    <a:pt x="1809" y="1140"/>
                  </a:lnTo>
                  <a:lnTo>
                    <a:pt x="1792" y="1166"/>
                  </a:lnTo>
                  <a:lnTo>
                    <a:pt x="1775" y="1192"/>
                  </a:lnTo>
                  <a:lnTo>
                    <a:pt x="1758" y="1215"/>
                  </a:lnTo>
                  <a:lnTo>
                    <a:pt x="1741" y="1238"/>
                  </a:lnTo>
                  <a:lnTo>
                    <a:pt x="1724" y="1258"/>
                  </a:lnTo>
                  <a:lnTo>
                    <a:pt x="1706" y="1278"/>
                  </a:lnTo>
                  <a:lnTo>
                    <a:pt x="1686" y="1297"/>
                  </a:lnTo>
                  <a:lnTo>
                    <a:pt x="1664" y="1314"/>
                  </a:lnTo>
                  <a:lnTo>
                    <a:pt x="1643" y="1329"/>
                  </a:lnTo>
                  <a:lnTo>
                    <a:pt x="1618" y="1341"/>
                  </a:lnTo>
                  <a:lnTo>
                    <a:pt x="1592" y="1354"/>
                  </a:lnTo>
                  <a:lnTo>
                    <a:pt x="1564" y="1364"/>
                  </a:lnTo>
                  <a:lnTo>
                    <a:pt x="1533" y="1374"/>
                  </a:lnTo>
                  <a:lnTo>
                    <a:pt x="1500" y="1380"/>
                  </a:lnTo>
                  <a:lnTo>
                    <a:pt x="1493" y="1367"/>
                  </a:lnTo>
                  <a:lnTo>
                    <a:pt x="1486" y="1357"/>
                  </a:lnTo>
                  <a:lnTo>
                    <a:pt x="1478" y="1347"/>
                  </a:lnTo>
                  <a:lnTo>
                    <a:pt x="1469" y="1340"/>
                  </a:lnTo>
                  <a:lnTo>
                    <a:pt x="1458" y="1334"/>
                  </a:lnTo>
                  <a:lnTo>
                    <a:pt x="1447" y="1327"/>
                  </a:lnTo>
                  <a:lnTo>
                    <a:pt x="1436" y="1321"/>
                  </a:lnTo>
                  <a:lnTo>
                    <a:pt x="1424" y="1314"/>
                  </a:lnTo>
                  <a:lnTo>
                    <a:pt x="1436" y="1289"/>
                  </a:lnTo>
                  <a:lnTo>
                    <a:pt x="1450" y="1263"/>
                  </a:lnTo>
                  <a:lnTo>
                    <a:pt x="1463" y="1235"/>
                  </a:lnTo>
                  <a:lnTo>
                    <a:pt x="1476" y="1207"/>
                  </a:lnTo>
                  <a:lnTo>
                    <a:pt x="1489" y="1181"/>
                  </a:lnTo>
                  <a:lnTo>
                    <a:pt x="1501" y="1153"/>
                  </a:lnTo>
                  <a:lnTo>
                    <a:pt x="1513" y="1126"/>
                  </a:lnTo>
                  <a:lnTo>
                    <a:pt x="1526" y="1098"/>
                  </a:lnTo>
                  <a:lnTo>
                    <a:pt x="1569" y="1109"/>
                  </a:lnTo>
                  <a:lnTo>
                    <a:pt x="1581" y="1092"/>
                  </a:lnTo>
                  <a:lnTo>
                    <a:pt x="1597" y="1072"/>
                  </a:lnTo>
                  <a:lnTo>
                    <a:pt x="1612" y="1050"/>
                  </a:lnTo>
                  <a:lnTo>
                    <a:pt x="1624" y="1026"/>
                  </a:lnTo>
                  <a:lnTo>
                    <a:pt x="1635" y="1001"/>
                  </a:lnTo>
                  <a:lnTo>
                    <a:pt x="1641" y="978"/>
                  </a:lnTo>
                  <a:lnTo>
                    <a:pt x="1640" y="955"/>
                  </a:lnTo>
                  <a:lnTo>
                    <a:pt x="1629" y="933"/>
                  </a:lnTo>
                  <a:lnTo>
                    <a:pt x="1595" y="907"/>
                  </a:lnTo>
                  <a:lnTo>
                    <a:pt x="1630" y="827"/>
                  </a:lnTo>
                  <a:lnTo>
                    <a:pt x="1655" y="768"/>
                  </a:lnTo>
                  <a:lnTo>
                    <a:pt x="1677" y="708"/>
                  </a:lnTo>
                  <a:lnTo>
                    <a:pt x="1690" y="650"/>
                  </a:lnTo>
                  <a:lnTo>
                    <a:pt x="1695" y="593"/>
                  </a:lnTo>
                  <a:lnTo>
                    <a:pt x="1687" y="542"/>
                  </a:lnTo>
                  <a:lnTo>
                    <a:pt x="1663" y="494"/>
                  </a:lnTo>
                  <a:lnTo>
                    <a:pt x="1618" y="456"/>
                  </a:lnTo>
                  <a:lnTo>
                    <a:pt x="1550" y="425"/>
                  </a:lnTo>
                  <a:lnTo>
                    <a:pt x="1521" y="419"/>
                  </a:lnTo>
                  <a:lnTo>
                    <a:pt x="1490" y="413"/>
                  </a:lnTo>
                  <a:lnTo>
                    <a:pt x="1460" y="410"/>
                  </a:lnTo>
                  <a:lnTo>
                    <a:pt x="1429" y="407"/>
                  </a:lnTo>
                  <a:lnTo>
                    <a:pt x="1398" y="405"/>
                  </a:lnTo>
                  <a:lnTo>
                    <a:pt x="1367" y="405"/>
                  </a:lnTo>
                  <a:lnTo>
                    <a:pt x="1336" y="407"/>
                  </a:lnTo>
                  <a:lnTo>
                    <a:pt x="1307" y="410"/>
                  </a:lnTo>
                  <a:lnTo>
                    <a:pt x="1278" y="416"/>
                  </a:lnTo>
                  <a:lnTo>
                    <a:pt x="1250" y="425"/>
                  </a:lnTo>
                  <a:lnTo>
                    <a:pt x="1222" y="436"/>
                  </a:lnTo>
                  <a:lnTo>
                    <a:pt x="1196" y="448"/>
                  </a:lnTo>
                  <a:lnTo>
                    <a:pt x="1170" y="465"/>
                  </a:lnTo>
                  <a:lnTo>
                    <a:pt x="1147" y="484"/>
                  </a:lnTo>
                  <a:lnTo>
                    <a:pt x="1125" y="507"/>
                  </a:lnTo>
                  <a:lnTo>
                    <a:pt x="1105" y="533"/>
                  </a:lnTo>
                  <a:lnTo>
                    <a:pt x="1101" y="588"/>
                  </a:lnTo>
                  <a:lnTo>
                    <a:pt x="1102" y="644"/>
                  </a:lnTo>
                  <a:lnTo>
                    <a:pt x="1107" y="699"/>
                  </a:lnTo>
                  <a:lnTo>
                    <a:pt x="1112" y="755"/>
                  </a:lnTo>
                  <a:lnTo>
                    <a:pt x="1099" y="776"/>
                  </a:lnTo>
                  <a:lnTo>
                    <a:pt x="1092" y="798"/>
                  </a:lnTo>
                  <a:lnTo>
                    <a:pt x="1084" y="818"/>
                  </a:lnTo>
                  <a:lnTo>
                    <a:pt x="1070" y="838"/>
                  </a:lnTo>
                  <a:lnTo>
                    <a:pt x="1065" y="822"/>
                  </a:lnTo>
                  <a:lnTo>
                    <a:pt x="1064" y="807"/>
                  </a:lnTo>
                  <a:lnTo>
                    <a:pt x="1065" y="795"/>
                  </a:lnTo>
                  <a:lnTo>
                    <a:pt x="1065" y="784"/>
                  </a:lnTo>
                  <a:lnTo>
                    <a:pt x="1064" y="778"/>
                  </a:lnTo>
                  <a:lnTo>
                    <a:pt x="1058" y="773"/>
                  </a:lnTo>
                  <a:lnTo>
                    <a:pt x="1044" y="772"/>
                  </a:lnTo>
                  <a:lnTo>
                    <a:pt x="1024" y="773"/>
                  </a:lnTo>
                  <a:lnTo>
                    <a:pt x="975" y="779"/>
                  </a:lnTo>
                  <a:lnTo>
                    <a:pt x="970" y="852"/>
                  </a:lnTo>
                  <a:lnTo>
                    <a:pt x="982" y="855"/>
                  </a:lnTo>
                  <a:lnTo>
                    <a:pt x="991" y="858"/>
                  </a:lnTo>
                  <a:lnTo>
                    <a:pt x="1002" y="858"/>
                  </a:lnTo>
                  <a:lnTo>
                    <a:pt x="1011" y="856"/>
                  </a:lnTo>
                  <a:lnTo>
                    <a:pt x="1022" y="855"/>
                  </a:lnTo>
                  <a:lnTo>
                    <a:pt x="1031" y="853"/>
                  </a:lnTo>
                  <a:lnTo>
                    <a:pt x="1042" y="852"/>
                  </a:lnTo>
                  <a:lnTo>
                    <a:pt x="1053" y="849"/>
                  </a:lnTo>
                  <a:lnTo>
                    <a:pt x="1047" y="876"/>
                  </a:lnTo>
                  <a:lnTo>
                    <a:pt x="1041" y="907"/>
                  </a:lnTo>
                  <a:lnTo>
                    <a:pt x="1035" y="938"/>
                  </a:lnTo>
                  <a:lnTo>
                    <a:pt x="1031" y="967"/>
                  </a:lnTo>
                  <a:lnTo>
                    <a:pt x="1031" y="995"/>
                  </a:lnTo>
                  <a:lnTo>
                    <a:pt x="1039" y="1021"/>
                  </a:lnTo>
                  <a:lnTo>
                    <a:pt x="1055" y="1043"/>
                  </a:lnTo>
                  <a:lnTo>
                    <a:pt x="1081" y="1059"/>
                  </a:lnTo>
                  <a:lnTo>
                    <a:pt x="1144" y="1047"/>
                  </a:lnTo>
                  <a:lnTo>
                    <a:pt x="1172" y="1307"/>
                  </a:lnTo>
                  <a:lnTo>
                    <a:pt x="1156" y="1315"/>
                  </a:lnTo>
                  <a:lnTo>
                    <a:pt x="1142" y="1320"/>
                  </a:lnTo>
                  <a:lnTo>
                    <a:pt x="1128" y="1326"/>
                  </a:lnTo>
                  <a:lnTo>
                    <a:pt x="1118" y="1330"/>
                  </a:lnTo>
                  <a:lnTo>
                    <a:pt x="1108" y="1338"/>
                  </a:lnTo>
                  <a:lnTo>
                    <a:pt x="1099" y="1347"/>
                  </a:lnTo>
                  <a:lnTo>
                    <a:pt x="1095" y="1361"/>
                  </a:lnTo>
                  <a:lnTo>
                    <a:pt x="1090" y="1380"/>
                  </a:lnTo>
                  <a:lnTo>
                    <a:pt x="965" y="1434"/>
                  </a:lnTo>
                  <a:lnTo>
                    <a:pt x="948" y="1443"/>
                  </a:lnTo>
                  <a:lnTo>
                    <a:pt x="930" y="1452"/>
                  </a:lnTo>
                  <a:lnTo>
                    <a:pt x="910" y="1463"/>
                  </a:lnTo>
                  <a:lnTo>
                    <a:pt x="891" y="1472"/>
                  </a:lnTo>
                  <a:lnTo>
                    <a:pt x="871" y="1484"/>
                  </a:lnTo>
                  <a:lnTo>
                    <a:pt x="851" y="1495"/>
                  </a:lnTo>
                  <a:lnTo>
                    <a:pt x="831" y="1508"/>
                  </a:lnTo>
                  <a:lnTo>
                    <a:pt x="813" y="1520"/>
                  </a:lnTo>
                  <a:lnTo>
                    <a:pt x="793" y="1532"/>
                  </a:lnTo>
                  <a:lnTo>
                    <a:pt x="774" y="1546"/>
                  </a:lnTo>
                  <a:lnTo>
                    <a:pt x="756" y="1560"/>
                  </a:lnTo>
                  <a:lnTo>
                    <a:pt x="739" y="1574"/>
                  </a:lnTo>
                  <a:lnTo>
                    <a:pt x="722" y="1589"/>
                  </a:lnTo>
                  <a:lnTo>
                    <a:pt x="708" y="1603"/>
                  </a:lnTo>
                  <a:lnTo>
                    <a:pt x="694" y="1618"/>
                  </a:lnTo>
                  <a:lnTo>
                    <a:pt x="682" y="1634"/>
                  </a:lnTo>
                  <a:lnTo>
                    <a:pt x="653" y="1689"/>
                  </a:lnTo>
                  <a:lnTo>
                    <a:pt x="637" y="1746"/>
                  </a:lnTo>
                  <a:lnTo>
                    <a:pt x="636" y="1805"/>
                  </a:lnTo>
                  <a:lnTo>
                    <a:pt x="645" y="1862"/>
                  </a:lnTo>
                  <a:lnTo>
                    <a:pt x="665" y="1917"/>
                  </a:lnTo>
                  <a:lnTo>
                    <a:pt x="696" y="1966"/>
                  </a:lnTo>
                  <a:lnTo>
                    <a:pt x="737" y="2011"/>
                  </a:lnTo>
                  <a:lnTo>
                    <a:pt x="787" y="2048"/>
                  </a:lnTo>
                  <a:lnTo>
                    <a:pt x="785" y="2057"/>
                  </a:lnTo>
                  <a:lnTo>
                    <a:pt x="761" y="2060"/>
                  </a:lnTo>
                  <a:lnTo>
                    <a:pt x="734" y="2062"/>
                  </a:lnTo>
                  <a:lnTo>
                    <a:pt x="710" y="2063"/>
                  </a:lnTo>
                  <a:lnTo>
                    <a:pt x="684" y="2063"/>
                  </a:lnTo>
                  <a:lnTo>
                    <a:pt x="657" y="2063"/>
                  </a:lnTo>
                  <a:lnTo>
                    <a:pt x="631" y="2063"/>
                  </a:lnTo>
                  <a:lnTo>
                    <a:pt x="607" y="2062"/>
                  </a:lnTo>
                  <a:lnTo>
                    <a:pt x="580" y="2062"/>
                  </a:lnTo>
                  <a:lnTo>
                    <a:pt x="545" y="2063"/>
                  </a:lnTo>
                  <a:lnTo>
                    <a:pt x="510" y="2063"/>
                  </a:lnTo>
                  <a:lnTo>
                    <a:pt x="474" y="2065"/>
                  </a:lnTo>
                  <a:lnTo>
                    <a:pt x="439" y="2065"/>
                  </a:lnTo>
                  <a:lnTo>
                    <a:pt x="405" y="2065"/>
                  </a:lnTo>
                  <a:lnTo>
                    <a:pt x="369" y="2066"/>
                  </a:lnTo>
                  <a:lnTo>
                    <a:pt x="334" y="2066"/>
                  </a:lnTo>
                  <a:lnTo>
                    <a:pt x="299" y="2068"/>
                  </a:lnTo>
                  <a:lnTo>
                    <a:pt x="263" y="2068"/>
                  </a:lnTo>
                  <a:lnTo>
                    <a:pt x="228" y="2070"/>
                  </a:lnTo>
                  <a:lnTo>
                    <a:pt x="192" y="2070"/>
                  </a:lnTo>
                  <a:lnTo>
                    <a:pt x="157" y="2070"/>
                  </a:lnTo>
                  <a:lnTo>
                    <a:pt x="122" y="2071"/>
                  </a:lnTo>
                  <a:lnTo>
                    <a:pt x="86" y="2073"/>
                  </a:lnTo>
                  <a:lnTo>
                    <a:pt x="51" y="2073"/>
                  </a:lnTo>
                  <a:lnTo>
                    <a:pt x="15" y="2074"/>
                  </a:lnTo>
                  <a:lnTo>
                    <a:pt x="9" y="2071"/>
                  </a:lnTo>
                  <a:close/>
                </a:path>
              </a:pathLst>
            </a:custGeom>
            <a:solidFill>
              <a:srgbClr val="004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552760" y="4368960"/>
              <a:ext cx="174600" cy="372960"/>
            </a:xfrm>
            <a:custGeom>
              <a:avLst/>
              <a:gdLst/>
              <a:ahLst/>
              <a:rect l="l" t="t" r="r" b="b"/>
              <a:pathLst>
                <a:path w="110" h="235">
                  <a:moveTo>
                    <a:pt x="54" y="235"/>
                  </a:moveTo>
                  <a:lnTo>
                    <a:pt x="45" y="233"/>
                  </a:lnTo>
                  <a:lnTo>
                    <a:pt x="36" y="228"/>
                  </a:lnTo>
                  <a:lnTo>
                    <a:pt x="28" y="221"/>
                  </a:lnTo>
                  <a:lnTo>
                    <a:pt x="22" y="213"/>
                  </a:lnTo>
                  <a:lnTo>
                    <a:pt x="16" y="204"/>
                  </a:lnTo>
                  <a:lnTo>
                    <a:pt x="10" y="193"/>
                  </a:lnTo>
                  <a:lnTo>
                    <a:pt x="5" y="184"/>
                  </a:lnTo>
                  <a:lnTo>
                    <a:pt x="2" y="176"/>
                  </a:lnTo>
                  <a:lnTo>
                    <a:pt x="0" y="144"/>
                  </a:lnTo>
                  <a:lnTo>
                    <a:pt x="0" y="113"/>
                  </a:lnTo>
                  <a:lnTo>
                    <a:pt x="0" y="84"/>
                  </a:lnTo>
                  <a:lnTo>
                    <a:pt x="5" y="59"/>
                  </a:lnTo>
                  <a:lnTo>
                    <a:pt x="16" y="37"/>
                  </a:lnTo>
                  <a:lnTo>
                    <a:pt x="31" y="21"/>
                  </a:lnTo>
                  <a:lnTo>
                    <a:pt x="56" y="8"/>
                  </a:lnTo>
                  <a:lnTo>
                    <a:pt x="90" y="0"/>
                  </a:lnTo>
                  <a:lnTo>
                    <a:pt x="102" y="21"/>
                  </a:lnTo>
                  <a:lnTo>
                    <a:pt x="110" y="45"/>
                  </a:lnTo>
                  <a:lnTo>
                    <a:pt x="110" y="74"/>
                  </a:lnTo>
                  <a:lnTo>
                    <a:pt x="107" y="105"/>
                  </a:lnTo>
                  <a:lnTo>
                    <a:pt x="100" y="136"/>
                  </a:lnTo>
                  <a:lnTo>
                    <a:pt x="93" y="168"/>
                  </a:lnTo>
                  <a:lnTo>
                    <a:pt x="84" y="196"/>
                  </a:lnTo>
                  <a:lnTo>
                    <a:pt x="76" y="221"/>
                  </a:lnTo>
                  <a:lnTo>
                    <a:pt x="54" y="235"/>
                  </a:lnTo>
                  <a:close/>
                </a:path>
              </a:pathLst>
            </a:custGeom>
            <a:solidFill>
              <a:srgbClr val="004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935440" y="3780000"/>
              <a:ext cx="563400" cy="95040"/>
            </a:xfrm>
            <a:custGeom>
              <a:avLst/>
              <a:gdLst/>
              <a:ahLst/>
              <a:rect l="l" t="t" r="r" b="b"/>
              <a:pathLst>
                <a:path w="355" h="60">
                  <a:moveTo>
                    <a:pt x="324" y="57"/>
                  </a:moveTo>
                  <a:lnTo>
                    <a:pt x="301" y="56"/>
                  </a:lnTo>
                  <a:lnTo>
                    <a:pt x="278" y="54"/>
                  </a:lnTo>
                  <a:lnTo>
                    <a:pt x="255" y="50"/>
                  </a:lnTo>
                  <a:lnTo>
                    <a:pt x="230" y="45"/>
                  </a:lnTo>
                  <a:lnTo>
                    <a:pt x="207" y="42"/>
                  </a:lnTo>
                  <a:lnTo>
                    <a:pt x="184" y="37"/>
                  </a:lnTo>
                  <a:lnTo>
                    <a:pt x="160" y="36"/>
                  </a:lnTo>
                  <a:lnTo>
                    <a:pt x="137" y="34"/>
                  </a:lnTo>
                  <a:lnTo>
                    <a:pt x="120" y="36"/>
                  </a:lnTo>
                  <a:lnTo>
                    <a:pt x="103" y="37"/>
                  </a:lnTo>
                  <a:lnTo>
                    <a:pt x="86" y="39"/>
                  </a:lnTo>
                  <a:lnTo>
                    <a:pt x="69" y="40"/>
                  </a:lnTo>
                  <a:lnTo>
                    <a:pt x="50" y="42"/>
                  </a:lnTo>
                  <a:lnTo>
                    <a:pt x="33" y="40"/>
                  </a:lnTo>
                  <a:lnTo>
                    <a:pt x="16" y="37"/>
                  </a:lnTo>
                  <a:lnTo>
                    <a:pt x="0" y="33"/>
                  </a:lnTo>
                  <a:lnTo>
                    <a:pt x="15" y="7"/>
                  </a:lnTo>
                  <a:lnTo>
                    <a:pt x="53" y="2"/>
                  </a:lnTo>
                  <a:lnTo>
                    <a:pt x="69" y="2"/>
                  </a:lnTo>
                  <a:lnTo>
                    <a:pt x="86" y="2"/>
                  </a:lnTo>
                  <a:lnTo>
                    <a:pt x="104" y="0"/>
                  </a:lnTo>
                  <a:lnTo>
                    <a:pt x="124" y="0"/>
                  </a:lnTo>
                  <a:lnTo>
                    <a:pt x="144" y="0"/>
                  </a:lnTo>
                  <a:lnTo>
                    <a:pt x="164" y="0"/>
                  </a:lnTo>
                  <a:lnTo>
                    <a:pt x="186" y="0"/>
                  </a:lnTo>
                  <a:lnTo>
                    <a:pt x="207" y="0"/>
                  </a:lnTo>
                  <a:lnTo>
                    <a:pt x="227" y="0"/>
                  </a:lnTo>
                  <a:lnTo>
                    <a:pt x="249" y="2"/>
                  </a:lnTo>
                  <a:lnTo>
                    <a:pt x="269" y="4"/>
                  </a:lnTo>
                  <a:lnTo>
                    <a:pt x="289" y="7"/>
                  </a:lnTo>
                  <a:lnTo>
                    <a:pt x="307" y="10"/>
                  </a:lnTo>
                  <a:lnTo>
                    <a:pt x="324" y="14"/>
                  </a:lnTo>
                  <a:lnTo>
                    <a:pt x="341" y="19"/>
                  </a:lnTo>
                  <a:lnTo>
                    <a:pt x="355" y="25"/>
                  </a:lnTo>
                  <a:lnTo>
                    <a:pt x="337" y="60"/>
                  </a:lnTo>
                  <a:lnTo>
                    <a:pt x="324" y="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854440" y="2325600"/>
              <a:ext cx="957240" cy="1406520"/>
            </a:xfrm>
            <a:custGeom>
              <a:avLst/>
              <a:gdLst/>
              <a:ahLst/>
              <a:rect l="l" t="t" r="r" b="b"/>
              <a:pathLst>
                <a:path w="603" h="886">
                  <a:moveTo>
                    <a:pt x="522" y="511"/>
                  </a:moveTo>
                  <a:lnTo>
                    <a:pt x="546" y="518"/>
                  </a:lnTo>
                  <a:lnTo>
                    <a:pt x="549" y="541"/>
                  </a:lnTo>
                  <a:lnTo>
                    <a:pt x="549" y="558"/>
                  </a:lnTo>
                  <a:lnTo>
                    <a:pt x="549" y="573"/>
                  </a:lnTo>
                  <a:lnTo>
                    <a:pt x="546" y="585"/>
                  </a:lnTo>
                  <a:lnTo>
                    <a:pt x="540" y="599"/>
                  </a:lnTo>
                  <a:lnTo>
                    <a:pt x="532" y="612"/>
                  </a:lnTo>
                  <a:lnTo>
                    <a:pt x="522" y="627"/>
                  </a:lnTo>
                  <a:lnTo>
                    <a:pt x="509" y="645"/>
                  </a:lnTo>
                  <a:lnTo>
                    <a:pt x="466" y="621"/>
                  </a:lnTo>
                  <a:lnTo>
                    <a:pt x="449" y="625"/>
                  </a:lnTo>
                  <a:lnTo>
                    <a:pt x="434" y="655"/>
                  </a:lnTo>
                  <a:lnTo>
                    <a:pt x="420" y="685"/>
                  </a:lnTo>
                  <a:lnTo>
                    <a:pt x="406" y="715"/>
                  </a:lnTo>
                  <a:lnTo>
                    <a:pt x="392" y="744"/>
                  </a:lnTo>
                  <a:lnTo>
                    <a:pt x="377" y="775"/>
                  </a:lnTo>
                  <a:lnTo>
                    <a:pt x="363" y="804"/>
                  </a:lnTo>
                  <a:lnTo>
                    <a:pt x="349" y="833"/>
                  </a:lnTo>
                  <a:lnTo>
                    <a:pt x="334" y="863"/>
                  </a:lnTo>
                  <a:lnTo>
                    <a:pt x="329" y="886"/>
                  </a:lnTo>
                  <a:lnTo>
                    <a:pt x="306" y="886"/>
                  </a:lnTo>
                  <a:lnTo>
                    <a:pt x="285" y="884"/>
                  </a:lnTo>
                  <a:lnTo>
                    <a:pt x="261" y="883"/>
                  </a:lnTo>
                  <a:lnTo>
                    <a:pt x="240" y="881"/>
                  </a:lnTo>
                  <a:lnTo>
                    <a:pt x="218" y="881"/>
                  </a:lnTo>
                  <a:lnTo>
                    <a:pt x="197" y="879"/>
                  </a:lnTo>
                  <a:lnTo>
                    <a:pt x="174" y="879"/>
                  </a:lnTo>
                  <a:lnTo>
                    <a:pt x="152" y="878"/>
                  </a:lnTo>
                  <a:lnTo>
                    <a:pt x="129" y="876"/>
                  </a:lnTo>
                  <a:lnTo>
                    <a:pt x="124" y="850"/>
                  </a:lnTo>
                  <a:lnTo>
                    <a:pt x="117" y="787"/>
                  </a:lnTo>
                  <a:lnTo>
                    <a:pt x="108" y="721"/>
                  </a:lnTo>
                  <a:lnTo>
                    <a:pt x="100" y="655"/>
                  </a:lnTo>
                  <a:lnTo>
                    <a:pt x="97" y="590"/>
                  </a:lnTo>
                  <a:lnTo>
                    <a:pt x="64" y="584"/>
                  </a:lnTo>
                  <a:lnTo>
                    <a:pt x="41" y="593"/>
                  </a:lnTo>
                  <a:lnTo>
                    <a:pt x="23" y="598"/>
                  </a:lnTo>
                  <a:lnTo>
                    <a:pt x="0" y="585"/>
                  </a:lnTo>
                  <a:lnTo>
                    <a:pt x="0" y="548"/>
                  </a:lnTo>
                  <a:lnTo>
                    <a:pt x="3" y="507"/>
                  </a:lnTo>
                  <a:lnTo>
                    <a:pt x="9" y="467"/>
                  </a:lnTo>
                  <a:lnTo>
                    <a:pt x="23" y="433"/>
                  </a:lnTo>
                  <a:lnTo>
                    <a:pt x="40" y="444"/>
                  </a:lnTo>
                  <a:lnTo>
                    <a:pt x="57" y="458"/>
                  </a:lnTo>
                  <a:lnTo>
                    <a:pt x="72" y="471"/>
                  </a:lnTo>
                  <a:lnTo>
                    <a:pt x="89" y="485"/>
                  </a:lnTo>
                  <a:lnTo>
                    <a:pt x="106" y="495"/>
                  </a:lnTo>
                  <a:lnTo>
                    <a:pt x="124" y="498"/>
                  </a:lnTo>
                  <a:lnTo>
                    <a:pt x="143" y="493"/>
                  </a:lnTo>
                  <a:lnTo>
                    <a:pt x="164" y="476"/>
                  </a:lnTo>
                  <a:lnTo>
                    <a:pt x="138" y="438"/>
                  </a:lnTo>
                  <a:lnTo>
                    <a:pt x="164" y="418"/>
                  </a:lnTo>
                  <a:lnTo>
                    <a:pt x="164" y="396"/>
                  </a:lnTo>
                  <a:lnTo>
                    <a:pt x="132" y="378"/>
                  </a:lnTo>
                  <a:lnTo>
                    <a:pt x="183" y="330"/>
                  </a:lnTo>
                  <a:lnTo>
                    <a:pt x="178" y="314"/>
                  </a:lnTo>
                  <a:lnTo>
                    <a:pt x="83" y="304"/>
                  </a:lnTo>
                  <a:lnTo>
                    <a:pt x="80" y="257"/>
                  </a:lnTo>
                  <a:lnTo>
                    <a:pt x="74" y="217"/>
                  </a:lnTo>
                  <a:lnTo>
                    <a:pt x="69" y="182"/>
                  </a:lnTo>
                  <a:lnTo>
                    <a:pt x="69" y="150"/>
                  </a:lnTo>
                  <a:lnTo>
                    <a:pt x="75" y="119"/>
                  </a:lnTo>
                  <a:lnTo>
                    <a:pt x="92" y="88"/>
                  </a:lnTo>
                  <a:lnTo>
                    <a:pt x="123" y="59"/>
                  </a:lnTo>
                  <a:lnTo>
                    <a:pt x="169" y="26"/>
                  </a:lnTo>
                  <a:lnTo>
                    <a:pt x="197" y="20"/>
                  </a:lnTo>
                  <a:lnTo>
                    <a:pt x="226" y="14"/>
                  </a:lnTo>
                  <a:lnTo>
                    <a:pt x="255" y="10"/>
                  </a:lnTo>
                  <a:lnTo>
                    <a:pt x="285" y="5"/>
                  </a:lnTo>
                  <a:lnTo>
                    <a:pt x="314" y="2"/>
                  </a:lnTo>
                  <a:lnTo>
                    <a:pt x="343" y="0"/>
                  </a:lnTo>
                  <a:lnTo>
                    <a:pt x="371" y="2"/>
                  </a:lnTo>
                  <a:lnTo>
                    <a:pt x="400" y="3"/>
                  </a:lnTo>
                  <a:lnTo>
                    <a:pt x="428" y="8"/>
                  </a:lnTo>
                  <a:lnTo>
                    <a:pt x="455" y="14"/>
                  </a:lnTo>
                  <a:lnTo>
                    <a:pt x="482" y="23"/>
                  </a:lnTo>
                  <a:lnTo>
                    <a:pt x="508" y="36"/>
                  </a:lnTo>
                  <a:lnTo>
                    <a:pt x="532" y="50"/>
                  </a:lnTo>
                  <a:lnTo>
                    <a:pt x="556" y="68"/>
                  </a:lnTo>
                  <a:lnTo>
                    <a:pt x="579" y="88"/>
                  </a:lnTo>
                  <a:lnTo>
                    <a:pt x="599" y="113"/>
                  </a:lnTo>
                  <a:lnTo>
                    <a:pt x="603" y="150"/>
                  </a:lnTo>
                  <a:lnTo>
                    <a:pt x="603" y="185"/>
                  </a:lnTo>
                  <a:lnTo>
                    <a:pt x="600" y="217"/>
                  </a:lnTo>
                  <a:lnTo>
                    <a:pt x="592" y="248"/>
                  </a:lnTo>
                  <a:lnTo>
                    <a:pt x="580" y="279"/>
                  </a:lnTo>
                  <a:lnTo>
                    <a:pt x="568" y="311"/>
                  </a:lnTo>
                  <a:lnTo>
                    <a:pt x="554" y="344"/>
                  </a:lnTo>
                  <a:lnTo>
                    <a:pt x="539" y="378"/>
                  </a:lnTo>
                  <a:lnTo>
                    <a:pt x="537" y="391"/>
                  </a:lnTo>
                  <a:lnTo>
                    <a:pt x="531" y="407"/>
                  </a:lnTo>
                  <a:lnTo>
                    <a:pt x="523" y="422"/>
                  </a:lnTo>
                  <a:lnTo>
                    <a:pt x="514" y="438"/>
                  </a:lnTo>
                  <a:lnTo>
                    <a:pt x="505" y="453"/>
                  </a:lnTo>
                  <a:lnTo>
                    <a:pt x="497" y="470"/>
                  </a:lnTo>
                  <a:lnTo>
                    <a:pt x="491" y="488"/>
                  </a:lnTo>
                  <a:lnTo>
                    <a:pt x="489" y="505"/>
                  </a:lnTo>
                  <a:lnTo>
                    <a:pt x="497" y="511"/>
                  </a:lnTo>
                  <a:lnTo>
                    <a:pt x="522" y="511"/>
                  </a:lnTo>
                  <a:close/>
                </a:path>
              </a:pathLst>
            </a:custGeom>
            <a:solidFill>
              <a:srgbClr val="ffce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22520" y="3081240"/>
              <a:ext cx="303120" cy="439920"/>
            </a:xfrm>
            <a:custGeom>
              <a:avLst/>
              <a:gdLst/>
              <a:ahLst/>
              <a:rect l="l" t="t" r="r" b="b"/>
              <a:pathLst>
                <a:path w="191" h="277">
                  <a:moveTo>
                    <a:pt x="91" y="274"/>
                  </a:moveTo>
                  <a:lnTo>
                    <a:pt x="86" y="168"/>
                  </a:lnTo>
                  <a:lnTo>
                    <a:pt x="7" y="165"/>
                  </a:lnTo>
                  <a:lnTo>
                    <a:pt x="7" y="125"/>
                  </a:lnTo>
                  <a:lnTo>
                    <a:pt x="4" y="85"/>
                  </a:lnTo>
                  <a:lnTo>
                    <a:pt x="3" y="45"/>
                  </a:lnTo>
                  <a:lnTo>
                    <a:pt x="0" y="5"/>
                  </a:lnTo>
                  <a:lnTo>
                    <a:pt x="54" y="8"/>
                  </a:lnTo>
                  <a:lnTo>
                    <a:pt x="57" y="25"/>
                  </a:lnTo>
                  <a:lnTo>
                    <a:pt x="60" y="39"/>
                  </a:lnTo>
                  <a:lnTo>
                    <a:pt x="60" y="54"/>
                  </a:lnTo>
                  <a:lnTo>
                    <a:pt x="60" y="71"/>
                  </a:lnTo>
                  <a:lnTo>
                    <a:pt x="81" y="71"/>
                  </a:lnTo>
                  <a:lnTo>
                    <a:pt x="77" y="0"/>
                  </a:lnTo>
                  <a:lnTo>
                    <a:pt x="141" y="0"/>
                  </a:lnTo>
                  <a:lnTo>
                    <a:pt x="141" y="23"/>
                  </a:lnTo>
                  <a:lnTo>
                    <a:pt x="143" y="45"/>
                  </a:lnTo>
                  <a:lnTo>
                    <a:pt x="146" y="66"/>
                  </a:lnTo>
                  <a:lnTo>
                    <a:pt x="148" y="88"/>
                  </a:lnTo>
                  <a:lnTo>
                    <a:pt x="191" y="99"/>
                  </a:lnTo>
                  <a:lnTo>
                    <a:pt x="188" y="162"/>
                  </a:lnTo>
                  <a:lnTo>
                    <a:pt x="151" y="163"/>
                  </a:lnTo>
                  <a:lnTo>
                    <a:pt x="141" y="277"/>
                  </a:lnTo>
                  <a:lnTo>
                    <a:pt x="91" y="27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644480" y="3116160"/>
              <a:ext cx="255600" cy="378000"/>
            </a:xfrm>
            <a:custGeom>
              <a:avLst/>
              <a:gdLst/>
              <a:ahLst/>
              <a:rect l="l" t="t" r="r" b="b"/>
              <a:pathLst>
                <a:path w="161" h="238">
                  <a:moveTo>
                    <a:pt x="89" y="237"/>
                  </a:moveTo>
                  <a:lnTo>
                    <a:pt x="92" y="211"/>
                  </a:lnTo>
                  <a:lnTo>
                    <a:pt x="95" y="177"/>
                  </a:lnTo>
                  <a:lnTo>
                    <a:pt x="94" y="146"/>
                  </a:lnTo>
                  <a:lnTo>
                    <a:pt x="86" y="123"/>
                  </a:lnTo>
                  <a:lnTo>
                    <a:pt x="6" y="123"/>
                  </a:lnTo>
                  <a:lnTo>
                    <a:pt x="0" y="4"/>
                  </a:lnTo>
                  <a:lnTo>
                    <a:pt x="23" y="7"/>
                  </a:lnTo>
                  <a:lnTo>
                    <a:pt x="20" y="63"/>
                  </a:lnTo>
                  <a:lnTo>
                    <a:pt x="24" y="66"/>
                  </a:lnTo>
                  <a:lnTo>
                    <a:pt x="32" y="69"/>
                  </a:lnTo>
                  <a:lnTo>
                    <a:pt x="40" y="70"/>
                  </a:lnTo>
                  <a:lnTo>
                    <a:pt x="47" y="70"/>
                  </a:lnTo>
                  <a:lnTo>
                    <a:pt x="55" y="70"/>
                  </a:lnTo>
                  <a:lnTo>
                    <a:pt x="63" y="69"/>
                  </a:lnTo>
                  <a:lnTo>
                    <a:pt x="70" y="69"/>
                  </a:lnTo>
                  <a:lnTo>
                    <a:pt x="77" y="69"/>
                  </a:lnTo>
                  <a:lnTo>
                    <a:pt x="81" y="0"/>
                  </a:lnTo>
                  <a:lnTo>
                    <a:pt x="112" y="4"/>
                  </a:lnTo>
                  <a:lnTo>
                    <a:pt x="112" y="24"/>
                  </a:lnTo>
                  <a:lnTo>
                    <a:pt x="110" y="47"/>
                  </a:lnTo>
                  <a:lnTo>
                    <a:pt x="112" y="70"/>
                  </a:lnTo>
                  <a:lnTo>
                    <a:pt x="118" y="87"/>
                  </a:lnTo>
                  <a:lnTo>
                    <a:pt x="161" y="87"/>
                  </a:lnTo>
                  <a:lnTo>
                    <a:pt x="160" y="123"/>
                  </a:lnTo>
                  <a:lnTo>
                    <a:pt x="130" y="123"/>
                  </a:lnTo>
                  <a:lnTo>
                    <a:pt x="115" y="238"/>
                  </a:lnTo>
                  <a:lnTo>
                    <a:pt x="89" y="23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992400" y="2913120"/>
              <a:ext cx="370080" cy="484200"/>
            </a:xfrm>
            <a:custGeom>
              <a:avLst/>
              <a:gdLst/>
              <a:ahLst/>
              <a:rect l="l" t="t" r="r" b="b"/>
              <a:pathLst>
                <a:path w="233" h="305">
                  <a:moveTo>
                    <a:pt x="174" y="305"/>
                  </a:moveTo>
                  <a:lnTo>
                    <a:pt x="145" y="282"/>
                  </a:lnTo>
                  <a:lnTo>
                    <a:pt x="134" y="279"/>
                  </a:lnTo>
                  <a:lnTo>
                    <a:pt x="91" y="274"/>
                  </a:lnTo>
                  <a:lnTo>
                    <a:pt x="79" y="255"/>
                  </a:lnTo>
                  <a:lnTo>
                    <a:pt x="59" y="234"/>
                  </a:lnTo>
                  <a:lnTo>
                    <a:pt x="56" y="228"/>
                  </a:lnTo>
                  <a:lnTo>
                    <a:pt x="19" y="197"/>
                  </a:lnTo>
                  <a:lnTo>
                    <a:pt x="3" y="177"/>
                  </a:lnTo>
                  <a:lnTo>
                    <a:pt x="0" y="161"/>
                  </a:lnTo>
                  <a:lnTo>
                    <a:pt x="5" y="117"/>
                  </a:lnTo>
                  <a:lnTo>
                    <a:pt x="33" y="128"/>
                  </a:lnTo>
                  <a:lnTo>
                    <a:pt x="56" y="132"/>
                  </a:lnTo>
                  <a:lnTo>
                    <a:pt x="79" y="121"/>
                  </a:lnTo>
                  <a:lnTo>
                    <a:pt x="102" y="106"/>
                  </a:lnTo>
                  <a:lnTo>
                    <a:pt x="114" y="85"/>
                  </a:lnTo>
                  <a:lnTo>
                    <a:pt x="114" y="58"/>
                  </a:lnTo>
                  <a:lnTo>
                    <a:pt x="110" y="46"/>
                  </a:lnTo>
                  <a:lnTo>
                    <a:pt x="102" y="26"/>
                  </a:lnTo>
                  <a:lnTo>
                    <a:pt x="106" y="0"/>
                  </a:lnTo>
                  <a:lnTo>
                    <a:pt x="134" y="0"/>
                  </a:lnTo>
                  <a:lnTo>
                    <a:pt x="145" y="4"/>
                  </a:lnTo>
                  <a:lnTo>
                    <a:pt x="179" y="26"/>
                  </a:lnTo>
                  <a:lnTo>
                    <a:pt x="182" y="32"/>
                  </a:lnTo>
                  <a:lnTo>
                    <a:pt x="187" y="41"/>
                  </a:lnTo>
                  <a:lnTo>
                    <a:pt x="187" y="69"/>
                  </a:lnTo>
                  <a:lnTo>
                    <a:pt x="188" y="77"/>
                  </a:lnTo>
                  <a:lnTo>
                    <a:pt x="202" y="74"/>
                  </a:lnTo>
                  <a:lnTo>
                    <a:pt x="197" y="35"/>
                  </a:lnTo>
                  <a:lnTo>
                    <a:pt x="216" y="41"/>
                  </a:lnTo>
                  <a:lnTo>
                    <a:pt x="230" y="74"/>
                  </a:lnTo>
                  <a:lnTo>
                    <a:pt x="233" y="81"/>
                  </a:lnTo>
                  <a:lnTo>
                    <a:pt x="230" y="140"/>
                  </a:lnTo>
                  <a:lnTo>
                    <a:pt x="220" y="158"/>
                  </a:lnTo>
                  <a:lnTo>
                    <a:pt x="213" y="177"/>
                  </a:lnTo>
                  <a:lnTo>
                    <a:pt x="205" y="195"/>
                  </a:lnTo>
                  <a:lnTo>
                    <a:pt x="199" y="214"/>
                  </a:lnTo>
                  <a:lnTo>
                    <a:pt x="193" y="232"/>
                  </a:lnTo>
                  <a:lnTo>
                    <a:pt x="188" y="249"/>
                  </a:lnTo>
                  <a:lnTo>
                    <a:pt x="185" y="268"/>
                  </a:lnTo>
                  <a:lnTo>
                    <a:pt x="182" y="286"/>
                  </a:lnTo>
                  <a:lnTo>
                    <a:pt x="174" y="305"/>
                  </a:lnTo>
                  <a:close/>
                </a:path>
              </a:pathLst>
            </a:custGeom>
            <a:solidFill>
              <a:srgbClr val="ffce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47920" y="2660760"/>
              <a:ext cx="347760" cy="577800"/>
            </a:xfrm>
            <a:custGeom>
              <a:avLst/>
              <a:gdLst/>
              <a:ahLst/>
              <a:rect l="l" t="t" r="r" b="b"/>
              <a:pathLst>
                <a:path w="219" h="364">
                  <a:moveTo>
                    <a:pt x="82" y="364"/>
                  </a:moveTo>
                  <a:lnTo>
                    <a:pt x="75" y="316"/>
                  </a:lnTo>
                  <a:lnTo>
                    <a:pt x="72" y="268"/>
                  </a:lnTo>
                  <a:lnTo>
                    <a:pt x="72" y="220"/>
                  </a:lnTo>
                  <a:lnTo>
                    <a:pt x="71" y="171"/>
                  </a:lnTo>
                  <a:lnTo>
                    <a:pt x="0" y="60"/>
                  </a:lnTo>
                  <a:lnTo>
                    <a:pt x="80" y="26"/>
                  </a:lnTo>
                  <a:lnTo>
                    <a:pt x="108" y="60"/>
                  </a:lnTo>
                  <a:lnTo>
                    <a:pt x="109" y="25"/>
                  </a:lnTo>
                  <a:lnTo>
                    <a:pt x="219" y="0"/>
                  </a:lnTo>
                  <a:lnTo>
                    <a:pt x="151" y="163"/>
                  </a:lnTo>
                  <a:lnTo>
                    <a:pt x="140" y="362"/>
                  </a:lnTo>
                  <a:lnTo>
                    <a:pt x="82" y="36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89320" y="2700360"/>
              <a:ext cx="263520" cy="515880"/>
            </a:xfrm>
            <a:custGeom>
              <a:avLst/>
              <a:gdLst/>
              <a:ahLst/>
              <a:rect l="l" t="t" r="r" b="b"/>
              <a:pathLst>
                <a:path w="166" h="325">
                  <a:moveTo>
                    <a:pt x="77" y="325"/>
                  </a:moveTo>
                  <a:lnTo>
                    <a:pt x="76" y="279"/>
                  </a:lnTo>
                  <a:lnTo>
                    <a:pt x="74" y="232"/>
                  </a:lnTo>
                  <a:lnTo>
                    <a:pt x="71" y="186"/>
                  </a:lnTo>
                  <a:lnTo>
                    <a:pt x="69" y="138"/>
                  </a:lnTo>
                  <a:lnTo>
                    <a:pt x="60" y="126"/>
                  </a:lnTo>
                  <a:lnTo>
                    <a:pt x="53" y="112"/>
                  </a:lnTo>
                  <a:lnTo>
                    <a:pt x="45" y="100"/>
                  </a:lnTo>
                  <a:lnTo>
                    <a:pt x="36" y="88"/>
                  </a:lnTo>
                  <a:lnTo>
                    <a:pt x="28" y="75"/>
                  </a:lnTo>
                  <a:lnTo>
                    <a:pt x="19" y="61"/>
                  </a:lnTo>
                  <a:lnTo>
                    <a:pt x="9" y="49"/>
                  </a:lnTo>
                  <a:lnTo>
                    <a:pt x="0" y="37"/>
                  </a:lnTo>
                  <a:lnTo>
                    <a:pt x="42" y="20"/>
                  </a:lnTo>
                  <a:lnTo>
                    <a:pt x="82" y="94"/>
                  </a:lnTo>
                  <a:lnTo>
                    <a:pt x="93" y="94"/>
                  </a:lnTo>
                  <a:lnTo>
                    <a:pt x="105" y="6"/>
                  </a:lnTo>
                  <a:lnTo>
                    <a:pt x="166" y="0"/>
                  </a:lnTo>
                  <a:lnTo>
                    <a:pt x="146" y="41"/>
                  </a:lnTo>
                  <a:lnTo>
                    <a:pt x="130" y="80"/>
                  </a:lnTo>
                  <a:lnTo>
                    <a:pt x="117" y="117"/>
                  </a:lnTo>
                  <a:lnTo>
                    <a:pt x="106" y="154"/>
                  </a:lnTo>
                  <a:lnTo>
                    <a:pt x="99" y="191"/>
                  </a:lnTo>
                  <a:lnTo>
                    <a:pt x="96" y="229"/>
                  </a:lnTo>
                  <a:lnTo>
                    <a:pt x="94" y="271"/>
                  </a:lnTo>
                  <a:lnTo>
                    <a:pt x="97" y="317"/>
                  </a:lnTo>
                  <a:lnTo>
                    <a:pt x="77" y="32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054160" y="2787480"/>
              <a:ext cx="290520" cy="381240"/>
            </a:xfrm>
            <a:custGeom>
              <a:avLst/>
              <a:gdLst/>
              <a:ahLst/>
              <a:rect l="l" t="t" r="r" b="b"/>
              <a:pathLst>
                <a:path w="183" h="240">
                  <a:moveTo>
                    <a:pt x="119" y="240"/>
                  </a:moveTo>
                  <a:lnTo>
                    <a:pt x="54" y="237"/>
                  </a:lnTo>
                  <a:lnTo>
                    <a:pt x="51" y="156"/>
                  </a:lnTo>
                  <a:lnTo>
                    <a:pt x="2" y="156"/>
                  </a:lnTo>
                  <a:lnTo>
                    <a:pt x="0" y="74"/>
                  </a:lnTo>
                  <a:lnTo>
                    <a:pt x="37" y="73"/>
                  </a:lnTo>
                  <a:lnTo>
                    <a:pt x="39" y="0"/>
                  </a:lnTo>
                  <a:lnTo>
                    <a:pt x="117" y="2"/>
                  </a:lnTo>
                  <a:lnTo>
                    <a:pt x="117" y="77"/>
                  </a:lnTo>
                  <a:lnTo>
                    <a:pt x="183" y="79"/>
                  </a:lnTo>
                  <a:lnTo>
                    <a:pt x="183" y="153"/>
                  </a:lnTo>
                  <a:lnTo>
                    <a:pt x="125" y="154"/>
                  </a:lnTo>
                  <a:lnTo>
                    <a:pt x="119" y="2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084400" y="2819520"/>
              <a:ext cx="236520" cy="317520"/>
            </a:xfrm>
            <a:custGeom>
              <a:avLst/>
              <a:gdLst/>
              <a:ahLst/>
              <a:rect l="l" t="t" r="r" b="b"/>
              <a:pathLst>
                <a:path w="149" h="200">
                  <a:moveTo>
                    <a:pt x="69" y="199"/>
                  </a:moveTo>
                  <a:lnTo>
                    <a:pt x="49" y="199"/>
                  </a:lnTo>
                  <a:lnTo>
                    <a:pt x="46" y="117"/>
                  </a:lnTo>
                  <a:lnTo>
                    <a:pt x="0" y="117"/>
                  </a:lnTo>
                  <a:lnTo>
                    <a:pt x="3" y="71"/>
                  </a:lnTo>
                  <a:lnTo>
                    <a:pt x="35" y="71"/>
                  </a:lnTo>
                  <a:lnTo>
                    <a:pt x="40" y="54"/>
                  </a:lnTo>
                  <a:lnTo>
                    <a:pt x="40" y="37"/>
                  </a:lnTo>
                  <a:lnTo>
                    <a:pt x="40" y="22"/>
                  </a:lnTo>
                  <a:lnTo>
                    <a:pt x="41" y="3"/>
                  </a:lnTo>
                  <a:lnTo>
                    <a:pt x="88" y="0"/>
                  </a:lnTo>
                  <a:lnTo>
                    <a:pt x="89" y="20"/>
                  </a:lnTo>
                  <a:lnTo>
                    <a:pt x="89" y="40"/>
                  </a:lnTo>
                  <a:lnTo>
                    <a:pt x="88" y="59"/>
                  </a:lnTo>
                  <a:lnTo>
                    <a:pt x="83" y="76"/>
                  </a:lnTo>
                  <a:lnTo>
                    <a:pt x="146" y="80"/>
                  </a:lnTo>
                  <a:lnTo>
                    <a:pt x="149" y="113"/>
                  </a:lnTo>
                  <a:lnTo>
                    <a:pt x="92" y="117"/>
                  </a:lnTo>
                  <a:lnTo>
                    <a:pt x="84" y="200"/>
                  </a:lnTo>
                  <a:lnTo>
                    <a:pt x="69" y="19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33720" y="2846520"/>
              <a:ext cx="203400" cy="239760"/>
            </a:xfrm>
            <a:custGeom>
              <a:avLst/>
              <a:gdLst/>
              <a:ahLst/>
              <a:rect l="l" t="t" r="r" b="b"/>
              <a:pathLst>
                <a:path w="128" h="151">
                  <a:moveTo>
                    <a:pt x="65" y="148"/>
                  </a:moveTo>
                  <a:lnTo>
                    <a:pt x="56" y="137"/>
                  </a:lnTo>
                  <a:lnTo>
                    <a:pt x="48" y="123"/>
                  </a:lnTo>
                  <a:lnTo>
                    <a:pt x="42" y="110"/>
                  </a:lnTo>
                  <a:lnTo>
                    <a:pt x="37" y="96"/>
                  </a:lnTo>
                  <a:lnTo>
                    <a:pt x="83" y="54"/>
                  </a:lnTo>
                  <a:lnTo>
                    <a:pt x="62" y="50"/>
                  </a:lnTo>
                  <a:lnTo>
                    <a:pt x="34" y="83"/>
                  </a:lnTo>
                  <a:lnTo>
                    <a:pt x="0" y="59"/>
                  </a:lnTo>
                  <a:lnTo>
                    <a:pt x="25" y="0"/>
                  </a:lnTo>
                  <a:lnTo>
                    <a:pt x="39" y="3"/>
                  </a:lnTo>
                  <a:lnTo>
                    <a:pt x="56" y="14"/>
                  </a:lnTo>
                  <a:lnTo>
                    <a:pt x="73" y="30"/>
                  </a:lnTo>
                  <a:lnTo>
                    <a:pt x="90" y="48"/>
                  </a:lnTo>
                  <a:lnTo>
                    <a:pt x="105" y="68"/>
                  </a:lnTo>
                  <a:lnTo>
                    <a:pt x="117" y="88"/>
                  </a:lnTo>
                  <a:lnTo>
                    <a:pt x="125" y="108"/>
                  </a:lnTo>
                  <a:lnTo>
                    <a:pt x="128" y="123"/>
                  </a:lnTo>
                  <a:lnTo>
                    <a:pt x="120" y="134"/>
                  </a:lnTo>
                  <a:lnTo>
                    <a:pt x="113" y="143"/>
                  </a:lnTo>
                  <a:lnTo>
                    <a:pt x="108" y="148"/>
                  </a:lnTo>
                  <a:lnTo>
                    <a:pt x="103" y="151"/>
                  </a:lnTo>
                  <a:lnTo>
                    <a:pt x="97" y="151"/>
                  </a:lnTo>
                  <a:lnTo>
                    <a:pt x="90" y="151"/>
                  </a:lnTo>
                  <a:lnTo>
                    <a:pt x="79" y="150"/>
                  </a:lnTo>
                  <a:lnTo>
                    <a:pt x="65" y="14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565280" y="2570040"/>
              <a:ext cx="360360" cy="493920"/>
            </a:xfrm>
            <a:custGeom>
              <a:avLst/>
              <a:gdLst/>
              <a:ahLst/>
              <a:rect l="l" t="t" r="r" b="b"/>
              <a:pathLst>
                <a:path w="227" h="311">
                  <a:moveTo>
                    <a:pt x="11" y="311"/>
                  </a:moveTo>
                  <a:lnTo>
                    <a:pt x="0" y="304"/>
                  </a:lnTo>
                  <a:lnTo>
                    <a:pt x="11" y="242"/>
                  </a:lnTo>
                  <a:lnTo>
                    <a:pt x="19" y="244"/>
                  </a:lnTo>
                  <a:lnTo>
                    <a:pt x="25" y="245"/>
                  </a:lnTo>
                  <a:lnTo>
                    <a:pt x="33" y="245"/>
                  </a:lnTo>
                  <a:lnTo>
                    <a:pt x="39" y="245"/>
                  </a:lnTo>
                  <a:lnTo>
                    <a:pt x="45" y="245"/>
                  </a:lnTo>
                  <a:lnTo>
                    <a:pt x="51" y="244"/>
                  </a:lnTo>
                  <a:lnTo>
                    <a:pt x="57" y="240"/>
                  </a:lnTo>
                  <a:lnTo>
                    <a:pt x="63" y="237"/>
                  </a:lnTo>
                  <a:lnTo>
                    <a:pt x="27" y="216"/>
                  </a:lnTo>
                  <a:lnTo>
                    <a:pt x="80" y="123"/>
                  </a:lnTo>
                  <a:lnTo>
                    <a:pt x="70" y="114"/>
                  </a:lnTo>
                  <a:lnTo>
                    <a:pt x="60" y="107"/>
                  </a:lnTo>
                  <a:lnTo>
                    <a:pt x="51" y="97"/>
                  </a:lnTo>
                  <a:lnTo>
                    <a:pt x="43" y="90"/>
                  </a:lnTo>
                  <a:lnTo>
                    <a:pt x="36" y="80"/>
                  </a:lnTo>
                  <a:lnTo>
                    <a:pt x="30" y="71"/>
                  </a:lnTo>
                  <a:lnTo>
                    <a:pt x="23" y="59"/>
                  </a:lnTo>
                  <a:lnTo>
                    <a:pt x="17" y="45"/>
                  </a:lnTo>
                  <a:lnTo>
                    <a:pt x="70" y="11"/>
                  </a:lnTo>
                  <a:lnTo>
                    <a:pt x="90" y="19"/>
                  </a:lnTo>
                  <a:lnTo>
                    <a:pt x="97" y="37"/>
                  </a:lnTo>
                  <a:lnTo>
                    <a:pt x="105" y="48"/>
                  </a:lnTo>
                  <a:lnTo>
                    <a:pt x="113" y="60"/>
                  </a:lnTo>
                  <a:lnTo>
                    <a:pt x="125" y="74"/>
                  </a:lnTo>
                  <a:lnTo>
                    <a:pt x="154" y="0"/>
                  </a:lnTo>
                  <a:lnTo>
                    <a:pt x="227" y="19"/>
                  </a:lnTo>
                  <a:lnTo>
                    <a:pt x="225" y="28"/>
                  </a:lnTo>
                  <a:lnTo>
                    <a:pt x="221" y="42"/>
                  </a:lnTo>
                  <a:lnTo>
                    <a:pt x="213" y="57"/>
                  </a:lnTo>
                  <a:lnTo>
                    <a:pt x="205" y="74"/>
                  </a:lnTo>
                  <a:lnTo>
                    <a:pt x="197" y="91"/>
                  </a:lnTo>
                  <a:lnTo>
                    <a:pt x="190" y="108"/>
                  </a:lnTo>
                  <a:lnTo>
                    <a:pt x="182" y="122"/>
                  </a:lnTo>
                  <a:lnTo>
                    <a:pt x="177" y="133"/>
                  </a:lnTo>
                  <a:lnTo>
                    <a:pt x="214" y="183"/>
                  </a:lnTo>
                  <a:lnTo>
                    <a:pt x="205" y="193"/>
                  </a:lnTo>
                  <a:lnTo>
                    <a:pt x="197" y="199"/>
                  </a:lnTo>
                  <a:lnTo>
                    <a:pt x="190" y="205"/>
                  </a:lnTo>
                  <a:lnTo>
                    <a:pt x="182" y="210"/>
                  </a:lnTo>
                  <a:lnTo>
                    <a:pt x="174" y="213"/>
                  </a:lnTo>
                  <a:lnTo>
                    <a:pt x="167" y="214"/>
                  </a:lnTo>
                  <a:lnTo>
                    <a:pt x="156" y="213"/>
                  </a:lnTo>
                  <a:lnTo>
                    <a:pt x="144" y="211"/>
                  </a:lnTo>
                  <a:lnTo>
                    <a:pt x="131" y="188"/>
                  </a:lnTo>
                  <a:lnTo>
                    <a:pt x="122" y="188"/>
                  </a:lnTo>
                  <a:lnTo>
                    <a:pt x="96" y="231"/>
                  </a:lnTo>
                  <a:lnTo>
                    <a:pt x="107" y="228"/>
                  </a:lnTo>
                  <a:lnTo>
                    <a:pt x="119" y="227"/>
                  </a:lnTo>
                  <a:lnTo>
                    <a:pt x="133" y="227"/>
                  </a:lnTo>
                  <a:lnTo>
                    <a:pt x="147" y="225"/>
                  </a:lnTo>
                  <a:lnTo>
                    <a:pt x="162" y="225"/>
                  </a:lnTo>
                  <a:lnTo>
                    <a:pt x="176" y="225"/>
                  </a:lnTo>
                  <a:lnTo>
                    <a:pt x="190" y="225"/>
                  </a:lnTo>
                  <a:lnTo>
                    <a:pt x="201" y="224"/>
                  </a:lnTo>
                  <a:lnTo>
                    <a:pt x="210" y="231"/>
                  </a:lnTo>
                  <a:lnTo>
                    <a:pt x="214" y="290"/>
                  </a:lnTo>
                  <a:lnTo>
                    <a:pt x="190" y="291"/>
                  </a:lnTo>
                  <a:lnTo>
                    <a:pt x="164" y="293"/>
                  </a:lnTo>
                  <a:lnTo>
                    <a:pt x="139" y="296"/>
                  </a:lnTo>
                  <a:lnTo>
                    <a:pt x="113" y="301"/>
                  </a:lnTo>
                  <a:lnTo>
                    <a:pt x="87" y="305"/>
                  </a:lnTo>
                  <a:lnTo>
                    <a:pt x="62" y="308"/>
                  </a:lnTo>
                  <a:lnTo>
                    <a:pt x="36" y="310"/>
                  </a:lnTo>
                  <a:lnTo>
                    <a:pt x="11" y="3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27520" y="2849400"/>
              <a:ext cx="131760" cy="222480"/>
            </a:xfrm>
            <a:custGeom>
              <a:avLst/>
              <a:gdLst/>
              <a:ahLst/>
              <a:rect l="l" t="t" r="r" b="b"/>
              <a:pathLst>
                <a:path w="83" h="140">
                  <a:moveTo>
                    <a:pt x="58" y="135"/>
                  </a:moveTo>
                  <a:lnTo>
                    <a:pt x="41" y="125"/>
                  </a:lnTo>
                  <a:lnTo>
                    <a:pt x="28" y="108"/>
                  </a:lnTo>
                  <a:lnTo>
                    <a:pt x="5" y="88"/>
                  </a:lnTo>
                  <a:lnTo>
                    <a:pt x="5" y="72"/>
                  </a:lnTo>
                  <a:lnTo>
                    <a:pt x="0" y="48"/>
                  </a:lnTo>
                  <a:lnTo>
                    <a:pt x="9" y="34"/>
                  </a:lnTo>
                  <a:lnTo>
                    <a:pt x="23" y="7"/>
                  </a:lnTo>
                  <a:lnTo>
                    <a:pt x="41" y="0"/>
                  </a:lnTo>
                  <a:lnTo>
                    <a:pt x="72" y="3"/>
                  </a:lnTo>
                  <a:lnTo>
                    <a:pt x="35" y="44"/>
                  </a:lnTo>
                  <a:lnTo>
                    <a:pt x="35" y="57"/>
                  </a:lnTo>
                  <a:lnTo>
                    <a:pt x="41" y="61"/>
                  </a:lnTo>
                  <a:lnTo>
                    <a:pt x="72" y="71"/>
                  </a:lnTo>
                  <a:lnTo>
                    <a:pt x="63" y="103"/>
                  </a:lnTo>
                  <a:lnTo>
                    <a:pt x="72" y="117"/>
                  </a:lnTo>
                  <a:lnTo>
                    <a:pt x="83" y="140"/>
                  </a:lnTo>
                  <a:lnTo>
                    <a:pt x="58" y="135"/>
                  </a:lnTo>
                  <a:close/>
                </a:path>
              </a:pathLst>
            </a:custGeom>
            <a:solidFill>
              <a:srgbClr val="a8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01640" y="2963880"/>
              <a:ext cx="265320" cy="58680"/>
            </a:xfrm>
            <a:custGeom>
              <a:avLst/>
              <a:gdLst/>
              <a:ahLst/>
              <a:rect l="l" t="t" r="r" b="b"/>
              <a:pathLst>
                <a:path w="167" h="37">
                  <a:moveTo>
                    <a:pt x="0" y="37"/>
                  </a:moveTo>
                  <a:lnTo>
                    <a:pt x="0" y="22"/>
                  </a:lnTo>
                  <a:lnTo>
                    <a:pt x="13" y="16"/>
                  </a:lnTo>
                  <a:lnTo>
                    <a:pt x="33" y="11"/>
                  </a:lnTo>
                  <a:lnTo>
                    <a:pt x="57" y="6"/>
                  </a:lnTo>
                  <a:lnTo>
                    <a:pt x="85" y="3"/>
                  </a:lnTo>
                  <a:lnTo>
                    <a:pt x="113" y="2"/>
                  </a:lnTo>
                  <a:lnTo>
                    <a:pt x="137" y="0"/>
                  </a:lnTo>
                  <a:lnTo>
                    <a:pt x="156" y="2"/>
                  </a:lnTo>
                  <a:lnTo>
                    <a:pt x="167" y="5"/>
                  </a:lnTo>
                  <a:lnTo>
                    <a:pt x="161" y="26"/>
                  </a:lnTo>
                  <a:lnTo>
                    <a:pt x="141" y="31"/>
                  </a:lnTo>
                  <a:lnTo>
                    <a:pt x="121" y="32"/>
                  </a:lnTo>
                  <a:lnTo>
                    <a:pt x="101" y="36"/>
                  </a:lnTo>
                  <a:lnTo>
                    <a:pt x="81" y="36"/>
                  </a:lnTo>
                  <a:lnTo>
                    <a:pt x="60" y="37"/>
                  </a:lnTo>
                  <a:lnTo>
                    <a:pt x="40" y="37"/>
                  </a:lnTo>
                  <a:lnTo>
                    <a:pt x="2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738520" y="2903400"/>
              <a:ext cx="93600" cy="68400"/>
            </a:xfrm>
            <a:custGeom>
              <a:avLst/>
              <a:gdLst/>
              <a:ahLst/>
              <a:rect l="l" t="t" r="r" b="b"/>
              <a:pathLst>
                <a:path w="59" h="43">
                  <a:moveTo>
                    <a:pt x="3" y="43"/>
                  </a:moveTo>
                  <a:lnTo>
                    <a:pt x="0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0" y="3"/>
                  </a:lnTo>
                  <a:lnTo>
                    <a:pt x="37" y="3"/>
                  </a:lnTo>
                  <a:lnTo>
                    <a:pt x="45" y="1"/>
                  </a:lnTo>
                  <a:lnTo>
                    <a:pt x="51" y="1"/>
                  </a:lnTo>
                  <a:lnTo>
                    <a:pt x="59" y="0"/>
                  </a:lnTo>
                  <a:lnTo>
                    <a:pt x="59" y="38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641600" y="2606760"/>
              <a:ext cx="239760" cy="298440"/>
            </a:xfrm>
            <a:custGeom>
              <a:avLst/>
              <a:gdLst/>
              <a:ahLst/>
              <a:rect l="l" t="t" r="r" b="b"/>
              <a:pathLst>
                <a:path w="151" h="188">
                  <a:moveTo>
                    <a:pt x="19" y="188"/>
                  </a:moveTo>
                  <a:lnTo>
                    <a:pt x="15" y="187"/>
                  </a:lnTo>
                  <a:lnTo>
                    <a:pt x="59" y="110"/>
                  </a:lnTo>
                  <a:lnTo>
                    <a:pt x="0" y="36"/>
                  </a:lnTo>
                  <a:lnTo>
                    <a:pt x="6" y="25"/>
                  </a:lnTo>
                  <a:lnTo>
                    <a:pt x="32" y="22"/>
                  </a:lnTo>
                  <a:lnTo>
                    <a:pt x="77" y="84"/>
                  </a:lnTo>
                  <a:lnTo>
                    <a:pt x="85" y="74"/>
                  </a:lnTo>
                  <a:lnTo>
                    <a:pt x="91" y="63"/>
                  </a:lnTo>
                  <a:lnTo>
                    <a:pt x="97" y="54"/>
                  </a:lnTo>
                  <a:lnTo>
                    <a:pt x="103" y="43"/>
                  </a:lnTo>
                  <a:lnTo>
                    <a:pt x="108" y="33"/>
                  </a:lnTo>
                  <a:lnTo>
                    <a:pt x="114" y="22"/>
                  </a:lnTo>
                  <a:lnTo>
                    <a:pt x="119" y="11"/>
                  </a:lnTo>
                  <a:lnTo>
                    <a:pt x="125" y="0"/>
                  </a:lnTo>
                  <a:lnTo>
                    <a:pt x="151" y="10"/>
                  </a:lnTo>
                  <a:lnTo>
                    <a:pt x="139" y="33"/>
                  </a:lnTo>
                  <a:lnTo>
                    <a:pt x="126" y="51"/>
                  </a:lnTo>
                  <a:lnTo>
                    <a:pt x="117" y="68"/>
                  </a:lnTo>
                  <a:lnTo>
                    <a:pt x="111" y="85"/>
                  </a:lnTo>
                  <a:lnTo>
                    <a:pt x="108" y="100"/>
                  </a:lnTo>
                  <a:lnTo>
                    <a:pt x="109" y="117"/>
                  </a:lnTo>
                  <a:lnTo>
                    <a:pt x="117" y="136"/>
                  </a:lnTo>
                  <a:lnTo>
                    <a:pt x="132" y="156"/>
                  </a:lnTo>
                  <a:lnTo>
                    <a:pt x="120" y="171"/>
                  </a:lnTo>
                  <a:lnTo>
                    <a:pt x="83" y="134"/>
                  </a:lnTo>
                  <a:lnTo>
                    <a:pt x="74" y="131"/>
                  </a:lnTo>
                  <a:lnTo>
                    <a:pt x="68" y="140"/>
                  </a:lnTo>
                  <a:lnTo>
                    <a:pt x="62" y="150"/>
                  </a:lnTo>
                  <a:lnTo>
                    <a:pt x="56" y="157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37" y="176"/>
                  </a:lnTo>
                  <a:lnTo>
                    <a:pt x="28" y="182"/>
                  </a:lnTo>
                  <a:lnTo>
                    <a:pt x="19" y="18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037040" y="2389320"/>
              <a:ext cx="390600" cy="514080"/>
            </a:xfrm>
            <a:custGeom>
              <a:avLst/>
              <a:gdLst/>
              <a:ahLst/>
              <a:rect l="l" t="t" r="r" b="b"/>
              <a:pathLst>
                <a:path w="246" h="324">
                  <a:moveTo>
                    <a:pt x="132" y="319"/>
                  </a:moveTo>
                  <a:lnTo>
                    <a:pt x="118" y="294"/>
                  </a:lnTo>
                  <a:lnTo>
                    <a:pt x="115" y="261"/>
                  </a:lnTo>
                  <a:lnTo>
                    <a:pt x="115" y="225"/>
                  </a:lnTo>
                  <a:lnTo>
                    <a:pt x="117" y="193"/>
                  </a:lnTo>
                  <a:lnTo>
                    <a:pt x="135" y="179"/>
                  </a:lnTo>
                  <a:lnTo>
                    <a:pt x="152" y="167"/>
                  </a:lnTo>
                  <a:lnTo>
                    <a:pt x="169" y="154"/>
                  </a:lnTo>
                  <a:lnTo>
                    <a:pt x="183" y="142"/>
                  </a:lnTo>
                  <a:lnTo>
                    <a:pt x="192" y="127"/>
                  </a:lnTo>
                  <a:lnTo>
                    <a:pt x="197" y="110"/>
                  </a:lnTo>
                  <a:lnTo>
                    <a:pt x="194" y="88"/>
                  </a:lnTo>
                  <a:lnTo>
                    <a:pt x="183" y="63"/>
                  </a:lnTo>
                  <a:lnTo>
                    <a:pt x="163" y="54"/>
                  </a:lnTo>
                  <a:lnTo>
                    <a:pt x="143" y="51"/>
                  </a:lnTo>
                  <a:lnTo>
                    <a:pt x="122" y="50"/>
                  </a:lnTo>
                  <a:lnTo>
                    <a:pt x="102" y="54"/>
                  </a:lnTo>
                  <a:lnTo>
                    <a:pt x="83" y="62"/>
                  </a:lnTo>
                  <a:lnTo>
                    <a:pt x="68" y="74"/>
                  </a:lnTo>
                  <a:lnTo>
                    <a:pt x="58" y="91"/>
                  </a:lnTo>
                  <a:lnTo>
                    <a:pt x="55" y="114"/>
                  </a:lnTo>
                  <a:lnTo>
                    <a:pt x="46" y="119"/>
                  </a:lnTo>
                  <a:lnTo>
                    <a:pt x="38" y="122"/>
                  </a:lnTo>
                  <a:lnTo>
                    <a:pt x="32" y="125"/>
                  </a:lnTo>
                  <a:lnTo>
                    <a:pt x="28" y="127"/>
                  </a:lnTo>
                  <a:lnTo>
                    <a:pt x="23" y="127"/>
                  </a:lnTo>
                  <a:lnTo>
                    <a:pt x="17" y="127"/>
                  </a:lnTo>
                  <a:lnTo>
                    <a:pt x="9" y="125"/>
                  </a:lnTo>
                  <a:lnTo>
                    <a:pt x="0" y="122"/>
                  </a:lnTo>
                  <a:lnTo>
                    <a:pt x="9" y="90"/>
                  </a:lnTo>
                  <a:lnTo>
                    <a:pt x="18" y="67"/>
                  </a:lnTo>
                  <a:lnTo>
                    <a:pt x="28" y="50"/>
                  </a:lnTo>
                  <a:lnTo>
                    <a:pt x="37" y="37"/>
                  </a:lnTo>
                  <a:lnTo>
                    <a:pt x="49" y="28"/>
                  </a:lnTo>
                  <a:lnTo>
                    <a:pt x="66" y="20"/>
                  </a:lnTo>
                  <a:lnTo>
                    <a:pt x="86" y="11"/>
                  </a:lnTo>
                  <a:lnTo>
                    <a:pt x="111" y="0"/>
                  </a:lnTo>
                  <a:lnTo>
                    <a:pt x="135" y="5"/>
                  </a:lnTo>
                  <a:lnTo>
                    <a:pt x="157" y="8"/>
                  </a:lnTo>
                  <a:lnTo>
                    <a:pt x="177" y="13"/>
                  </a:lnTo>
                  <a:lnTo>
                    <a:pt x="195" y="17"/>
                  </a:lnTo>
                  <a:lnTo>
                    <a:pt x="211" y="25"/>
                  </a:lnTo>
                  <a:lnTo>
                    <a:pt x="225" y="37"/>
                  </a:lnTo>
                  <a:lnTo>
                    <a:pt x="237" y="54"/>
                  </a:lnTo>
                  <a:lnTo>
                    <a:pt x="246" y="79"/>
                  </a:lnTo>
                  <a:lnTo>
                    <a:pt x="246" y="99"/>
                  </a:lnTo>
                  <a:lnTo>
                    <a:pt x="242" y="117"/>
                  </a:lnTo>
                  <a:lnTo>
                    <a:pt x="234" y="134"/>
                  </a:lnTo>
                  <a:lnTo>
                    <a:pt x="222" y="150"/>
                  </a:lnTo>
                  <a:lnTo>
                    <a:pt x="208" y="165"/>
                  </a:lnTo>
                  <a:lnTo>
                    <a:pt x="192" y="177"/>
                  </a:lnTo>
                  <a:lnTo>
                    <a:pt x="175" y="190"/>
                  </a:lnTo>
                  <a:lnTo>
                    <a:pt x="160" y="202"/>
                  </a:lnTo>
                  <a:lnTo>
                    <a:pt x="142" y="324"/>
                  </a:lnTo>
                  <a:lnTo>
                    <a:pt x="132" y="31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25760" y="2841480"/>
              <a:ext cx="303120" cy="303480"/>
            </a:xfrm>
            <a:custGeom>
              <a:avLst/>
              <a:gdLst/>
              <a:ahLst/>
              <a:rect l="l" t="t" r="r" b="b"/>
              <a:pathLst>
                <a:path w="191" h="191">
                  <a:moveTo>
                    <a:pt x="140" y="188"/>
                  </a:moveTo>
                  <a:lnTo>
                    <a:pt x="120" y="186"/>
                  </a:lnTo>
                  <a:lnTo>
                    <a:pt x="99" y="188"/>
                  </a:lnTo>
                  <a:lnTo>
                    <a:pt x="77" y="190"/>
                  </a:lnTo>
                  <a:lnTo>
                    <a:pt x="57" y="191"/>
                  </a:lnTo>
                  <a:lnTo>
                    <a:pt x="37" y="188"/>
                  </a:lnTo>
                  <a:lnTo>
                    <a:pt x="20" y="180"/>
                  </a:lnTo>
                  <a:lnTo>
                    <a:pt x="8" y="165"/>
                  </a:lnTo>
                  <a:lnTo>
                    <a:pt x="0" y="139"/>
                  </a:lnTo>
                  <a:lnTo>
                    <a:pt x="45" y="123"/>
                  </a:lnTo>
                  <a:lnTo>
                    <a:pt x="35" y="93"/>
                  </a:lnTo>
                  <a:lnTo>
                    <a:pt x="48" y="74"/>
                  </a:lnTo>
                  <a:lnTo>
                    <a:pt x="85" y="79"/>
                  </a:lnTo>
                  <a:lnTo>
                    <a:pt x="72" y="11"/>
                  </a:lnTo>
                  <a:lnTo>
                    <a:pt x="85" y="0"/>
                  </a:lnTo>
                  <a:lnTo>
                    <a:pt x="168" y="48"/>
                  </a:lnTo>
                  <a:lnTo>
                    <a:pt x="188" y="69"/>
                  </a:lnTo>
                  <a:lnTo>
                    <a:pt x="191" y="96"/>
                  </a:lnTo>
                  <a:lnTo>
                    <a:pt x="186" y="116"/>
                  </a:lnTo>
                  <a:lnTo>
                    <a:pt x="183" y="125"/>
                  </a:lnTo>
                  <a:lnTo>
                    <a:pt x="180" y="134"/>
                  </a:lnTo>
                  <a:lnTo>
                    <a:pt x="171" y="156"/>
                  </a:lnTo>
                  <a:lnTo>
                    <a:pt x="159" y="179"/>
                  </a:lnTo>
                  <a:lnTo>
                    <a:pt x="140" y="18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76520" y="2922480"/>
              <a:ext cx="203400" cy="185760"/>
            </a:xfrm>
            <a:custGeom>
              <a:avLst/>
              <a:gdLst/>
              <a:ahLst/>
              <a:rect l="l" t="t" r="r" b="b"/>
              <a:pathLst>
                <a:path w="128" h="117">
                  <a:moveTo>
                    <a:pt x="23" y="115"/>
                  </a:moveTo>
                  <a:lnTo>
                    <a:pt x="43" y="117"/>
                  </a:lnTo>
                  <a:lnTo>
                    <a:pt x="65" y="111"/>
                  </a:lnTo>
                  <a:lnTo>
                    <a:pt x="96" y="109"/>
                  </a:lnTo>
                  <a:lnTo>
                    <a:pt x="103" y="95"/>
                  </a:lnTo>
                  <a:lnTo>
                    <a:pt x="122" y="79"/>
                  </a:lnTo>
                  <a:lnTo>
                    <a:pt x="124" y="63"/>
                  </a:lnTo>
                  <a:lnTo>
                    <a:pt x="128" y="34"/>
                  </a:lnTo>
                  <a:lnTo>
                    <a:pt x="117" y="15"/>
                  </a:lnTo>
                  <a:lnTo>
                    <a:pt x="91" y="0"/>
                  </a:lnTo>
                  <a:lnTo>
                    <a:pt x="96" y="55"/>
                  </a:lnTo>
                  <a:lnTo>
                    <a:pt x="88" y="66"/>
                  </a:lnTo>
                  <a:lnTo>
                    <a:pt x="80" y="66"/>
                  </a:lnTo>
                  <a:lnTo>
                    <a:pt x="51" y="55"/>
                  </a:lnTo>
                  <a:lnTo>
                    <a:pt x="39" y="86"/>
                  </a:lnTo>
                  <a:lnTo>
                    <a:pt x="23" y="92"/>
                  </a:lnTo>
                  <a:lnTo>
                    <a:pt x="0" y="105"/>
                  </a:lnTo>
                  <a:lnTo>
                    <a:pt x="23" y="115"/>
                  </a:lnTo>
                  <a:close/>
                </a:path>
              </a:pathLst>
            </a:custGeom>
            <a:solidFill>
              <a:srgbClr val="a8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 txBox="1"/>
          <p:nvPr/>
        </p:nvSpPr>
        <p:spPr>
          <a:xfrm>
            <a:off x="609480" y="1676520"/>
            <a:ext cx="792504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raction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a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erc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 as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47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6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 as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348200" y="1447920"/>
            <a:ext cx="654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ction -&gt;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decima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&gt;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795760" y="2133720"/>
            <a:ext cx="61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3790440" y="2438280"/>
            <a:ext cx="4431240" cy="1099440"/>
            <a:chOff x="3790440" y="2438280"/>
            <a:chExt cx="4431240" cy="1099440"/>
          </a:xfrm>
        </p:grpSpPr>
        <p:sp>
          <p:nvSpPr>
            <p:cNvPr id="862" name=""/>
            <p:cNvSpPr/>
            <p:nvPr/>
          </p:nvSpPr>
          <p:spPr>
            <a:xfrm>
              <a:off x="4648320" y="2438280"/>
              <a:ext cx="3573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3 </a:t>
              </a: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 4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790440" y="25146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533520" y="3352680"/>
            <a:ext cx="1981080" cy="2971800"/>
            <a:chOff x="533520" y="3352680"/>
            <a:chExt cx="1981080" cy="2971800"/>
          </a:xfrm>
        </p:grpSpPr>
        <p:sp>
          <p:nvSpPr>
            <p:cNvPr id="865" name=""/>
            <p:cNvSpPr/>
            <p:nvPr/>
          </p:nvSpPr>
          <p:spPr>
            <a:xfrm>
              <a:off x="533520" y="3352680"/>
              <a:ext cx="1981080" cy="297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97040" y="4159080"/>
              <a:ext cx="117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4 3.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1142640" y="41911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1066680" y="4191120"/>
              <a:ext cx="76320" cy="48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86640" y="3747960"/>
              <a:ext cx="68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.7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090080" y="4572000"/>
              <a:ext cx="67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1143000" y="50292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388160" y="50292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388160" y="53481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1143000" y="58672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3790440" y="3657600"/>
            <a:ext cx="2128320" cy="1099440"/>
            <a:chOff x="3790440" y="3657600"/>
            <a:chExt cx="2128320" cy="1099440"/>
          </a:xfrm>
        </p:grpSpPr>
        <p:sp>
          <p:nvSpPr>
            <p:cNvPr id="876" name=""/>
            <p:cNvSpPr/>
            <p:nvPr/>
          </p:nvSpPr>
          <p:spPr>
            <a:xfrm>
              <a:off x="4554000" y="3657600"/>
              <a:ext cx="1364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ff"/>
                  </a:solidFill>
                  <a:latin typeface="Comic Sans MS"/>
                </a:rPr>
                <a:t>.75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790440" y="37339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759400" y="4495680"/>
            <a:ext cx="3765600" cy="1922760"/>
            <a:chOff x="2759400" y="4495680"/>
            <a:chExt cx="3765600" cy="1922760"/>
          </a:xfrm>
        </p:grpSpPr>
        <p:sp>
          <p:nvSpPr>
            <p:cNvPr id="879" name=""/>
            <p:cNvSpPr/>
            <p:nvPr/>
          </p:nvSpPr>
          <p:spPr>
            <a:xfrm>
              <a:off x="4687560" y="5089680"/>
              <a:ext cx="1837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cc99"/>
                  </a:solidFill>
                  <a:latin typeface="Comic Sans MS"/>
                </a:rPr>
                <a:t>75%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90440" y="51656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759400" y="4495680"/>
              <a:ext cx="616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 as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48200" y="1447920"/>
            <a:ext cx="654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ction -&gt;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decima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&gt;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795760" y="2133720"/>
            <a:ext cx="5425920" cy="1922760"/>
            <a:chOff x="2795760" y="2133720"/>
            <a:chExt cx="5425920" cy="1922760"/>
          </a:xfrm>
        </p:grpSpPr>
        <p:sp>
          <p:nvSpPr>
            <p:cNvPr id="885" name=""/>
            <p:cNvSpPr/>
            <p:nvPr/>
          </p:nvSpPr>
          <p:spPr>
            <a:xfrm>
              <a:off x="4648320" y="2438280"/>
              <a:ext cx="3573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 3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95760" y="2133720"/>
              <a:ext cx="616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790440" y="25146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33520" y="3352680"/>
            <a:ext cx="1981080" cy="2971800"/>
            <a:chOff x="533520" y="3352680"/>
            <a:chExt cx="1981080" cy="2971800"/>
          </a:xfrm>
        </p:grpSpPr>
        <p:sp>
          <p:nvSpPr>
            <p:cNvPr id="889" name=""/>
            <p:cNvSpPr/>
            <p:nvPr/>
          </p:nvSpPr>
          <p:spPr>
            <a:xfrm>
              <a:off x="533520" y="3352680"/>
              <a:ext cx="1981080" cy="2971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04600" y="41590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 2.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1143000" y="419112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1066680" y="4191120"/>
              <a:ext cx="76320" cy="48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273680" y="3747960"/>
              <a:ext cx="116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.666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061640" y="4572000"/>
              <a:ext cx="67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1143000" y="50292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388160" y="50292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359720" y="53481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1143000" y="58672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3790440" y="3657600"/>
            <a:ext cx="4689720" cy="1099440"/>
            <a:chOff x="3790440" y="3657600"/>
            <a:chExt cx="4689720" cy="1099440"/>
          </a:xfrm>
        </p:grpSpPr>
        <p:grpSp>
          <p:nvGrpSpPr>
            <p:cNvPr id="900" name=""/>
            <p:cNvGrpSpPr/>
            <p:nvPr/>
          </p:nvGrpSpPr>
          <p:grpSpPr>
            <a:xfrm>
              <a:off x="3790440" y="3657600"/>
              <a:ext cx="4689720" cy="1099440"/>
              <a:chOff x="3790440" y="3657600"/>
              <a:chExt cx="4689720" cy="1099440"/>
            </a:xfrm>
          </p:grpSpPr>
          <p:sp>
            <p:nvSpPr>
              <p:cNvPr id="901" name=""/>
              <p:cNvSpPr/>
              <p:nvPr/>
            </p:nvSpPr>
            <p:spPr>
              <a:xfrm>
                <a:off x="4567320" y="3657600"/>
                <a:ext cx="39128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0000ff"/>
                    </a:solidFill>
                    <a:latin typeface="Comic Sans MS"/>
                  </a:rPr>
                  <a:t>.666.. = .6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90440" y="373392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 flipH="1">
              <a:off x="7949880" y="3733920"/>
              <a:ext cx="5079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2759400" y="4708440"/>
            <a:ext cx="4476960" cy="1922760"/>
            <a:chOff x="2759400" y="4708440"/>
            <a:chExt cx="4476960" cy="1922760"/>
          </a:xfrm>
        </p:grpSpPr>
        <p:grpSp>
          <p:nvGrpSpPr>
            <p:cNvPr id="905" name=""/>
            <p:cNvGrpSpPr/>
            <p:nvPr/>
          </p:nvGrpSpPr>
          <p:grpSpPr>
            <a:xfrm>
              <a:off x="2759400" y="4708440"/>
              <a:ext cx="4476960" cy="1922760"/>
              <a:chOff x="2759400" y="4708440"/>
              <a:chExt cx="4476960" cy="1922760"/>
            </a:xfrm>
          </p:grpSpPr>
          <p:sp>
            <p:nvSpPr>
              <p:cNvPr id="906" name=""/>
              <p:cNvSpPr/>
              <p:nvPr/>
            </p:nvSpPr>
            <p:spPr>
              <a:xfrm>
                <a:off x="4695120" y="5089680"/>
                <a:ext cx="25412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00cc99"/>
                    </a:solidFill>
                    <a:latin typeface="Comic Sans MS"/>
                  </a:rPr>
                  <a:t>66.6%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90440" y="516564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759400" y="4708440"/>
                <a:ext cx="61668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9" name=""/>
            <p:cNvSpPr/>
            <p:nvPr/>
          </p:nvSpPr>
          <p:spPr>
            <a:xfrm flipH="1">
              <a:off x="5943240" y="5165640"/>
              <a:ext cx="5079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 as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348200" y="1447920"/>
            <a:ext cx="654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ction -&gt;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decima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&gt;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76800" y="2193840"/>
            <a:ext cx="61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79040" y="254304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2571480" y="2193840"/>
            <a:ext cx="1879920" cy="1922760"/>
            <a:chOff x="2571480" y="2193840"/>
            <a:chExt cx="1879920" cy="1922760"/>
          </a:xfrm>
        </p:grpSpPr>
        <p:sp>
          <p:nvSpPr>
            <p:cNvPr id="915" name=""/>
            <p:cNvSpPr/>
            <p:nvPr/>
          </p:nvSpPr>
          <p:spPr>
            <a:xfrm>
              <a:off x="2571480" y="25750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399120" y="2193840"/>
              <a:ext cx="10522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5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933440" y="2590920"/>
            <a:ext cx="3600720" cy="1099440"/>
            <a:chOff x="4933440" y="2590920"/>
            <a:chExt cx="3600720" cy="1099440"/>
          </a:xfrm>
        </p:grpSpPr>
        <p:sp>
          <p:nvSpPr>
            <p:cNvPr id="918" name=""/>
            <p:cNvSpPr/>
            <p:nvPr/>
          </p:nvSpPr>
          <p:spPr>
            <a:xfrm>
              <a:off x="4933440" y="2666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293160" y="266688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5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627880" y="26668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6322680" y="2666880"/>
              <a:ext cx="221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6261120" y="2666880"/>
              <a:ext cx="61920" cy="82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44920" y="2590920"/>
              <a:ext cx="1364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cc"/>
                  </a:solidFill>
                  <a:latin typeface="Comic Sans MS"/>
                </a:rPr>
                <a:t>.00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971280" y="4648320"/>
            <a:ext cx="3009600" cy="1099440"/>
            <a:chOff x="971280" y="4648320"/>
            <a:chExt cx="3009600" cy="1099440"/>
          </a:xfrm>
        </p:grpSpPr>
        <p:sp>
          <p:nvSpPr>
            <p:cNvPr id="925" name=""/>
            <p:cNvSpPr/>
            <p:nvPr/>
          </p:nvSpPr>
          <p:spPr>
            <a:xfrm>
              <a:off x="971280" y="47242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656000" y="4648320"/>
              <a:ext cx="2324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cc"/>
                  </a:solidFill>
                  <a:latin typeface="Comic Sans MS"/>
                </a:rPr>
                <a:t>6.375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4169880" y="4572000"/>
            <a:ext cx="3855960" cy="1099440"/>
            <a:chOff x="4169880" y="4572000"/>
            <a:chExt cx="3855960" cy="1099440"/>
          </a:xfrm>
        </p:grpSpPr>
        <p:sp>
          <p:nvSpPr>
            <p:cNvPr id="928" name=""/>
            <p:cNvSpPr/>
            <p:nvPr/>
          </p:nvSpPr>
          <p:spPr>
            <a:xfrm>
              <a:off x="4169880" y="47242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04360" y="4572000"/>
              <a:ext cx="30214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cc99"/>
                  </a:solidFill>
                  <a:latin typeface="Comic Sans MS"/>
                </a:rPr>
                <a:t>637.5%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>
            <a:off x="3276720" y="3125880"/>
            <a:ext cx="5105160" cy="30589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3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3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743200" y="20574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a percent as a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tretch/>
        </p:blipFill>
        <p:spPr>
          <a:xfrm>
            <a:off x="3276720" y="3125880"/>
            <a:ext cx="5105160" cy="30319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9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95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a percent as a decimal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3276720" y="3137040"/>
            <a:ext cx="5105160" cy="30477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5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057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a decimal number as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per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3276720" y="3137040"/>
            <a:ext cx="5105160" cy="30477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1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119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43200" y="20574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a fraction as a per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7246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6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95360" y="1752480"/>
            <a:ext cx="8153280" cy="40388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7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772400" cy="46483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7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" y="1397160"/>
            <a:ext cx="7696080" cy="4952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2720" y="1968480"/>
            <a:ext cx="891216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5% of all truck owner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have F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             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75% of the pie was ea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Canadian dollar is worth 83% of an American dol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An interest rate of 8% is comm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909800"/>
            <a:ext cx="2210040" cy="1824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9:34:36Z</dcterms:modified>
  <cp:revision>334</cp:revision>
  <dc:subject/>
  <dc:title>PowerPoint Presentation</dc:title>
</cp:coreProperties>
</file>