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png" ContentType="image/png"/>
  <Override PartName="/ppt/media/image6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4  Uni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9760" y="1511280"/>
            <a:ext cx="7954920" cy="487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28800" y="1852560"/>
            <a:ext cx="5611680" cy="38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The Rectangula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Coordinate 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968720" y="4040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70720" y="2549520"/>
            <a:ext cx="209520" cy="20952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6520" y="1525680"/>
            <a:ext cx="3836880" cy="1042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tesian Coordin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70560" y="4681440"/>
            <a:ext cx="2406600" cy="946080"/>
          </a:xfrm>
          <a:prstGeom prst="wedgeRoundRectCallout">
            <a:avLst>
              <a:gd name="adj1" fmla="val -42810"/>
              <a:gd name="adj2" fmla="val -2761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98640" y="1908000"/>
            <a:ext cx="122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2,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27720" y="1681200"/>
            <a:ext cx="117144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, 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62840" y="3260880"/>
            <a:ext cx="476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1160" y="1300320"/>
            <a:ext cx="44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52200" y="3330720"/>
            <a:ext cx="1239120" cy="520560"/>
            <a:chOff x="4552200" y="3330720"/>
            <a:chExt cx="1239120" cy="520560"/>
          </a:xfrm>
        </p:grpSpPr>
        <p:sp>
          <p:nvSpPr>
            <p:cNvPr id="282" name=""/>
            <p:cNvSpPr/>
            <p:nvPr/>
          </p:nvSpPr>
          <p:spPr>
            <a:xfrm>
              <a:off x="4552200" y="3330720"/>
              <a:ext cx="121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over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3833640"/>
              <a:ext cx="1143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773680" y="2666520"/>
            <a:ext cx="813960" cy="1143000"/>
            <a:chOff x="5773680" y="2666520"/>
            <a:chExt cx="813960" cy="1143000"/>
          </a:xfrm>
        </p:grpSpPr>
        <p:sp>
          <p:nvSpPr>
            <p:cNvPr id="285" name=""/>
            <p:cNvSpPr/>
            <p:nvPr/>
          </p:nvSpPr>
          <p:spPr>
            <a:xfrm flipV="1">
              <a:off x="5773680" y="2666520"/>
              <a:ext cx="0" cy="1143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77640" y="31352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Comic Sans MS"/>
                </a:rPr>
                <a:t>u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14520" y="278604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re it falls in relation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: a negative number, zero, 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ositive number. This is your firs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To determine the coordinates of a given poi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4520" y="278604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re it falls in relation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: a negative number, zero, 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ositive number. This is your seco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To determine the coordinates of a given poin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14520" y="4432320"/>
            <a:ext cx="5995440" cy="1492200"/>
            <a:chOff x="614520" y="4432320"/>
            <a:chExt cx="5995440" cy="1492200"/>
          </a:xfrm>
        </p:grpSpPr>
        <p:sp>
          <p:nvSpPr>
            <p:cNvPr id="295" name=""/>
            <p:cNvSpPr/>
            <p:nvPr/>
          </p:nvSpPr>
          <p:spPr>
            <a:xfrm>
              <a:off x="614520" y="4965840"/>
              <a:ext cx="38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cc9900"/>
                  </a:solidFill>
                  <a:latin typeface="Comic Sans MS"/>
                </a:rPr>
                <a:t>Remember: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(x, 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414680" y="4432320"/>
              <a:ext cx="2195280" cy="1492200"/>
              <a:chOff x="4414680" y="4432320"/>
              <a:chExt cx="2195280" cy="1492200"/>
            </a:xfrm>
          </p:grpSpPr>
          <p:sp>
            <p:nvSpPr>
              <p:cNvPr id="297" name=""/>
              <p:cNvSpPr/>
              <p:nvPr/>
            </p:nvSpPr>
            <p:spPr>
              <a:xfrm>
                <a:off x="4937040" y="4756320"/>
                <a:ext cx="0" cy="116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14680" y="5299200"/>
                <a:ext cx="106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37080" y="5102280"/>
                <a:ext cx="11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X - ax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496400" y="443232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Y - ax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287960" y="1346040"/>
            <a:ext cx="4077720" cy="2717640"/>
            <a:chOff x="4287960" y="1346040"/>
            <a:chExt cx="4077720" cy="2717640"/>
          </a:xfrm>
        </p:grpSpPr>
        <p:sp>
          <p:nvSpPr>
            <p:cNvPr id="302" name=""/>
            <p:cNvSpPr/>
            <p:nvPr/>
          </p:nvSpPr>
          <p:spPr>
            <a:xfrm>
              <a:off x="5341680" y="1485000"/>
              <a:ext cx="1970640" cy="1861560"/>
            </a:xfrm>
            <a:custGeom>
              <a:avLst/>
              <a:gdLst/>
              <a:ahLst/>
              <a:rect l="l" t="t" r="r" b="b"/>
              <a:pathLst>
                <a:path w="2774" h="2752">
                  <a:moveTo>
                    <a:pt x="0" y="407"/>
                  </a:moveTo>
                  <a:lnTo>
                    <a:pt x="2413" y="0"/>
                  </a:lnTo>
                  <a:lnTo>
                    <a:pt x="2774" y="2330"/>
                  </a:lnTo>
                  <a:lnTo>
                    <a:pt x="576" y="2752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d3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95160" y="3639240"/>
              <a:ext cx="258480" cy="402840"/>
            </a:xfrm>
            <a:custGeom>
              <a:avLst/>
              <a:gdLst/>
              <a:ahLst/>
              <a:rect l="l" t="t" r="r" b="b"/>
              <a:pathLst>
                <a:path w="365" h="595">
                  <a:moveTo>
                    <a:pt x="0" y="595"/>
                  </a:moveTo>
                  <a:lnTo>
                    <a:pt x="127" y="536"/>
                  </a:lnTo>
                  <a:lnTo>
                    <a:pt x="254" y="391"/>
                  </a:lnTo>
                  <a:lnTo>
                    <a:pt x="365" y="34"/>
                  </a:lnTo>
                  <a:lnTo>
                    <a:pt x="289" y="0"/>
                  </a:lnTo>
                  <a:lnTo>
                    <a:pt x="230" y="178"/>
                  </a:lnTo>
                  <a:lnTo>
                    <a:pt x="93" y="382"/>
                  </a:lnTo>
                  <a:lnTo>
                    <a:pt x="0" y="595"/>
                  </a:lnTo>
                  <a:lnTo>
                    <a:pt x="0" y="595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14960" y="2331000"/>
              <a:ext cx="1121760" cy="1017360"/>
            </a:xfrm>
            <a:custGeom>
              <a:avLst/>
              <a:gdLst/>
              <a:ahLst/>
              <a:rect l="l" t="t" r="r" b="b"/>
              <a:pathLst>
                <a:path w="1578" h="1503">
                  <a:moveTo>
                    <a:pt x="1578" y="1503"/>
                  </a:moveTo>
                  <a:lnTo>
                    <a:pt x="1578" y="840"/>
                  </a:lnTo>
                  <a:lnTo>
                    <a:pt x="1492" y="433"/>
                  </a:lnTo>
                  <a:lnTo>
                    <a:pt x="1042" y="289"/>
                  </a:lnTo>
                  <a:lnTo>
                    <a:pt x="601" y="103"/>
                  </a:lnTo>
                  <a:lnTo>
                    <a:pt x="186" y="0"/>
                  </a:lnTo>
                  <a:lnTo>
                    <a:pt x="59" y="34"/>
                  </a:lnTo>
                  <a:lnTo>
                    <a:pt x="0" y="169"/>
                  </a:lnTo>
                  <a:lnTo>
                    <a:pt x="203" y="169"/>
                  </a:lnTo>
                  <a:lnTo>
                    <a:pt x="627" y="323"/>
                  </a:lnTo>
                  <a:lnTo>
                    <a:pt x="1280" y="543"/>
                  </a:lnTo>
                  <a:lnTo>
                    <a:pt x="1399" y="781"/>
                  </a:lnTo>
                  <a:lnTo>
                    <a:pt x="1578" y="1503"/>
                  </a:lnTo>
                  <a:lnTo>
                    <a:pt x="1578" y="1503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14960" y="2412000"/>
              <a:ext cx="1097640" cy="1636920"/>
            </a:xfrm>
            <a:custGeom>
              <a:avLst/>
              <a:gdLst/>
              <a:ahLst/>
              <a:rect l="l" t="t" r="r" b="b"/>
              <a:pathLst>
                <a:path w="1544" h="2419">
                  <a:moveTo>
                    <a:pt x="0" y="0"/>
                  </a:moveTo>
                  <a:lnTo>
                    <a:pt x="289" y="66"/>
                  </a:lnTo>
                  <a:lnTo>
                    <a:pt x="789" y="228"/>
                  </a:lnTo>
                  <a:lnTo>
                    <a:pt x="1357" y="441"/>
                  </a:lnTo>
                  <a:lnTo>
                    <a:pt x="1527" y="1170"/>
                  </a:lnTo>
                  <a:lnTo>
                    <a:pt x="1544" y="1604"/>
                  </a:lnTo>
                  <a:lnTo>
                    <a:pt x="1458" y="1969"/>
                  </a:lnTo>
                  <a:lnTo>
                    <a:pt x="1306" y="2241"/>
                  </a:lnTo>
                  <a:lnTo>
                    <a:pt x="1238" y="2419"/>
                  </a:lnTo>
                  <a:lnTo>
                    <a:pt x="1069" y="2324"/>
                  </a:lnTo>
                  <a:lnTo>
                    <a:pt x="838" y="2172"/>
                  </a:lnTo>
                  <a:lnTo>
                    <a:pt x="424" y="2003"/>
                  </a:lnTo>
                  <a:lnTo>
                    <a:pt x="228" y="1807"/>
                  </a:lnTo>
                  <a:lnTo>
                    <a:pt x="348" y="1611"/>
                  </a:lnTo>
                  <a:lnTo>
                    <a:pt x="397" y="1425"/>
                  </a:lnTo>
                  <a:lnTo>
                    <a:pt x="491" y="1136"/>
                  </a:lnTo>
                  <a:lnTo>
                    <a:pt x="424" y="796"/>
                  </a:lnTo>
                  <a:lnTo>
                    <a:pt x="238" y="526"/>
                  </a:lnTo>
                  <a:lnTo>
                    <a:pt x="110" y="26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27280" y="3490560"/>
              <a:ext cx="156240" cy="167400"/>
            </a:xfrm>
            <a:custGeom>
              <a:avLst/>
              <a:gdLst/>
              <a:ahLst/>
              <a:rect l="l" t="t" r="r" b="b"/>
              <a:pathLst>
                <a:path w="221" h="247">
                  <a:moveTo>
                    <a:pt x="221" y="0"/>
                  </a:moveTo>
                  <a:lnTo>
                    <a:pt x="221" y="145"/>
                  </a:lnTo>
                  <a:lnTo>
                    <a:pt x="169" y="247"/>
                  </a:lnTo>
                  <a:lnTo>
                    <a:pt x="0" y="171"/>
                  </a:lnTo>
                  <a:lnTo>
                    <a:pt x="10" y="103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9200" y="3169800"/>
              <a:ext cx="145080" cy="165960"/>
            </a:xfrm>
            <a:custGeom>
              <a:avLst/>
              <a:gdLst/>
              <a:ahLst/>
              <a:rect l="l" t="t" r="r" b="b"/>
              <a:pathLst>
                <a:path w="203" h="247">
                  <a:moveTo>
                    <a:pt x="102" y="0"/>
                  </a:moveTo>
                  <a:lnTo>
                    <a:pt x="0" y="93"/>
                  </a:lnTo>
                  <a:lnTo>
                    <a:pt x="0" y="196"/>
                  </a:lnTo>
                  <a:lnTo>
                    <a:pt x="102" y="247"/>
                  </a:lnTo>
                  <a:lnTo>
                    <a:pt x="203" y="169"/>
                  </a:lnTo>
                  <a:lnTo>
                    <a:pt x="169" y="103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ca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2600" y="2859840"/>
              <a:ext cx="819000" cy="986040"/>
            </a:xfrm>
            <a:custGeom>
              <a:avLst/>
              <a:gdLst/>
              <a:ahLst/>
              <a:rect l="l" t="t" r="r" b="b"/>
              <a:pathLst>
                <a:path w="1152" h="1460">
                  <a:moveTo>
                    <a:pt x="34" y="152"/>
                  </a:moveTo>
                  <a:lnTo>
                    <a:pt x="253" y="51"/>
                  </a:lnTo>
                  <a:lnTo>
                    <a:pt x="542" y="0"/>
                  </a:lnTo>
                  <a:lnTo>
                    <a:pt x="1007" y="255"/>
                  </a:lnTo>
                  <a:lnTo>
                    <a:pt x="1152" y="627"/>
                  </a:lnTo>
                  <a:lnTo>
                    <a:pt x="1118" y="1239"/>
                  </a:lnTo>
                  <a:lnTo>
                    <a:pt x="831" y="1452"/>
                  </a:lnTo>
                  <a:lnTo>
                    <a:pt x="473" y="1460"/>
                  </a:lnTo>
                  <a:lnTo>
                    <a:pt x="0" y="1408"/>
                  </a:lnTo>
                  <a:lnTo>
                    <a:pt x="49" y="1205"/>
                  </a:lnTo>
                  <a:lnTo>
                    <a:pt x="93" y="968"/>
                  </a:lnTo>
                  <a:lnTo>
                    <a:pt x="0" y="933"/>
                  </a:lnTo>
                  <a:lnTo>
                    <a:pt x="49" y="513"/>
                  </a:lnTo>
                  <a:lnTo>
                    <a:pt x="34" y="152"/>
                  </a:lnTo>
                  <a:lnTo>
                    <a:pt x="34" y="152"/>
                  </a:lnTo>
                  <a:close/>
                </a:path>
              </a:pathLst>
            </a:custGeom>
            <a:solidFill>
              <a:srgbClr val="d9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00000" y="2950560"/>
              <a:ext cx="621360" cy="597960"/>
            </a:xfrm>
            <a:custGeom>
              <a:avLst/>
              <a:gdLst/>
              <a:ahLst/>
              <a:rect l="l" t="t" r="r" b="b"/>
              <a:pathLst>
                <a:path w="872" h="884">
                  <a:moveTo>
                    <a:pt x="76" y="222"/>
                  </a:moveTo>
                  <a:lnTo>
                    <a:pt x="279" y="86"/>
                  </a:lnTo>
                  <a:lnTo>
                    <a:pt x="500" y="0"/>
                  </a:lnTo>
                  <a:lnTo>
                    <a:pt x="872" y="222"/>
                  </a:lnTo>
                  <a:lnTo>
                    <a:pt x="696" y="468"/>
                  </a:lnTo>
                  <a:lnTo>
                    <a:pt x="279" y="781"/>
                  </a:lnTo>
                  <a:lnTo>
                    <a:pt x="110" y="884"/>
                  </a:lnTo>
                  <a:lnTo>
                    <a:pt x="0" y="732"/>
                  </a:lnTo>
                  <a:lnTo>
                    <a:pt x="76" y="222"/>
                  </a:lnTo>
                  <a:lnTo>
                    <a:pt x="76" y="222"/>
                  </a:lnTo>
                  <a:close/>
                </a:path>
              </a:pathLst>
            </a:custGeom>
            <a:solidFill>
              <a:srgbClr val="f2e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12600" y="3071160"/>
              <a:ext cx="403920" cy="442080"/>
            </a:xfrm>
            <a:custGeom>
              <a:avLst/>
              <a:gdLst/>
              <a:ahLst/>
              <a:rect l="l" t="t" r="r" b="b"/>
              <a:pathLst>
                <a:path w="568" h="654">
                  <a:moveTo>
                    <a:pt x="76" y="654"/>
                  </a:moveTo>
                  <a:lnTo>
                    <a:pt x="449" y="188"/>
                  </a:lnTo>
                  <a:lnTo>
                    <a:pt x="568" y="0"/>
                  </a:lnTo>
                  <a:lnTo>
                    <a:pt x="338" y="173"/>
                  </a:lnTo>
                  <a:lnTo>
                    <a:pt x="17" y="425"/>
                  </a:lnTo>
                  <a:lnTo>
                    <a:pt x="0" y="629"/>
                  </a:lnTo>
                  <a:lnTo>
                    <a:pt x="76" y="654"/>
                  </a:lnTo>
                  <a:lnTo>
                    <a:pt x="76" y="654"/>
                  </a:lnTo>
                  <a:close/>
                </a:path>
              </a:pathLst>
            </a:custGeom>
            <a:solidFill>
              <a:srgbClr val="bf3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73680" y="1865520"/>
              <a:ext cx="470520" cy="385200"/>
            </a:xfrm>
            <a:custGeom>
              <a:avLst/>
              <a:gdLst/>
              <a:ahLst/>
              <a:rect l="l" t="t" r="r" b="b"/>
              <a:pathLst>
                <a:path w="662" h="570">
                  <a:moveTo>
                    <a:pt x="662" y="350"/>
                  </a:moveTo>
                  <a:lnTo>
                    <a:pt x="476" y="78"/>
                  </a:lnTo>
                  <a:lnTo>
                    <a:pt x="314" y="0"/>
                  </a:lnTo>
                  <a:lnTo>
                    <a:pt x="172" y="95"/>
                  </a:lnTo>
                  <a:lnTo>
                    <a:pt x="0" y="144"/>
                  </a:lnTo>
                  <a:lnTo>
                    <a:pt x="52" y="179"/>
                  </a:lnTo>
                  <a:lnTo>
                    <a:pt x="10" y="264"/>
                  </a:lnTo>
                  <a:lnTo>
                    <a:pt x="128" y="289"/>
                  </a:lnTo>
                  <a:lnTo>
                    <a:pt x="103" y="382"/>
                  </a:lnTo>
                  <a:lnTo>
                    <a:pt x="221" y="416"/>
                  </a:lnTo>
                  <a:lnTo>
                    <a:pt x="324" y="485"/>
                  </a:lnTo>
                  <a:lnTo>
                    <a:pt x="434" y="570"/>
                  </a:lnTo>
                  <a:lnTo>
                    <a:pt x="662" y="350"/>
                  </a:lnTo>
                  <a:lnTo>
                    <a:pt x="662" y="35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38040" y="2055960"/>
              <a:ext cx="861480" cy="1056600"/>
            </a:xfrm>
            <a:custGeom>
              <a:avLst/>
              <a:gdLst/>
              <a:ahLst/>
              <a:rect l="l" t="t" r="r" b="b"/>
              <a:pathLst>
                <a:path w="1213" h="1563">
                  <a:moveTo>
                    <a:pt x="456" y="238"/>
                  </a:moveTo>
                  <a:lnTo>
                    <a:pt x="466" y="101"/>
                  </a:lnTo>
                  <a:lnTo>
                    <a:pt x="525" y="34"/>
                  </a:lnTo>
                  <a:lnTo>
                    <a:pt x="652" y="0"/>
                  </a:lnTo>
                  <a:lnTo>
                    <a:pt x="821" y="280"/>
                  </a:lnTo>
                  <a:lnTo>
                    <a:pt x="907" y="527"/>
                  </a:lnTo>
                  <a:lnTo>
                    <a:pt x="1213" y="840"/>
                  </a:lnTo>
                  <a:lnTo>
                    <a:pt x="1127" y="865"/>
                  </a:lnTo>
                  <a:lnTo>
                    <a:pt x="897" y="798"/>
                  </a:lnTo>
                  <a:lnTo>
                    <a:pt x="880" y="892"/>
                  </a:lnTo>
                  <a:lnTo>
                    <a:pt x="618" y="1085"/>
                  </a:lnTo>
                  <a:lnTo>
                    <a:pt x="567" y="1274"/>
                  </a:lnTo>
                  <a:lnTo>
                    <a:pt x="373" y="1536"/>
                  </a:lnTo>
                  <a:lnTo>
                    <a:pt x="211" y="1563"/>
                  </a:lnTo>
                  <a:lnTo>
                    <a:pt x="84" y="1519"/>
                  </a:lnTo>
                  <a:lnTo>
                    <a:pt x="0" y="1374"/>
                  </a:lnTo>
                  <a:lnTo>
                    <a:pt x="84" y="1205"/>
                  </a:lnTo>
                  <a:lnTo>
                    <a:pt x="356" y="840"/>
                  </a:lnTo>
                  <a:lnTo>
                    <a:pt x="534" y="483"/>
                  </a:lnTo>
                  <a:lnTo>
                    <a:pt x="517" y="331"/>
                  </a:lnTo>
                  <a:lnTo>
                    <a:pt x="456" y="238"/>
                  </a:lnTo>
                  <a:lnTo>
                    <a:pt x="456" y="2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37760" y="1590840"/>
              <a:ext cx="1586520" cy="2118600"/>
            </a:xfrm>
            <a:custGeom>
              <a:avLst/>
              <a:gdLst/>
              <a:ahLst/>
              <a:rect l="l" t="t" r="r" b="b"/>
              <a:pathLst>
                <a:path w="2230" h="3132">
                  <a:moveTo>
                    <a:pt x="0" y="306"/>
                  </a:moveTo>
                  <a:lnTo>
                    <a:pt x="42" y="1281"/>
                  </a:lnTo>
                  <a:lnTo>
                    <a:pt x="110" y="2045"/>
                  </a:lnTo>
                  <a:lnTo>
                    <a:pt x="76" y="2777"/>
                  </a:lnTo>
                  <a:lnTo>
                    <a:pt x="314" y="2895"/>
                  </a:lnTo>
                  <a:lnTo>
                    <a:pt x="1110" y="3047"/>
                  </a:lnTo>
                  <a:lnTo>
                    <a:pt x="2179" y="3132"/>
                  </a:lnTo>
                  <a:lnTo>
                    <a:pt x="2230" y="2826"/>
                  </a:lnTo>
                  <a:lnTo>
                    <a:pt x="2179" y="2173"/>
                  </a:lnTo>
                  <a:lnTo>
                    <a:pt x="2095" y="1494"/>
                  </a:lnTo>
                  <a:lnTo>
                    <a:pt x="2103" y="960"/>
                  </a:lnTo>
                  <a:lnTo>
                    <a:pt x="2137" y="407"/>
                  </a:lnTo>
                  <a:lnTo>
                    <a:pt x="2163" y="8"/>
                  </a:lnTo>
                  <a:lnTo>
                    <a:pt x="1992" y="0"/>
                  </a:lnTo>
                  <a:lnTo>
                    <a:pt x="1424" y="120"/>
                  </a:lnTo>
                  <a:lnTo>
                    <a:pt x="509" y="314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11560" y="1849320"/>
              <a:ext cx="108000" cy="107640"/>
            </a:xfrm>
            <a:custGeom>
              <a:avLst/>
              <a:gdLst/>
              <a:ahLst/>
              <a:rect l="l" t="t" r="r" b="b"/>
              <a:pathLst>
                <a:path w="152" h="162">
                  <a:moveTo>
                    <a:pt x="24" y="145"/>
                  </a:moveTo>
                  <a:lnTo>
                    <a:pt x="125" y="162"/>
                  </a:lnTo>
                  <a:lnTo>
                    <a:pt x="152" y="69"/>
                  </a:lnTo>
                  <a:lnTo>
                    <a:pt x="100" y="0"/>
                  </a:lnTo>
                  <a:lnTo>
                    <a:pt x="32" y="8"/>
                  </a:lnTo>
                  <a:lnTo>
                    <a:pt x="0" y="59"/>
                  </a:lnTo>
                  <a:lnTo>
                    <a:pt x="24" y="145"/>
                  </a:lnTo>
                  <a:lnTo>
                    <a:pt x="24" y="145"/>
                  </a:lnTo>
                  <a:close/>
                </a:path>
              </a:pathLst>
            </a:custGeom>
            <a:solidFill>
              <a:srgbClr val="ffb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66160" y="1647720"/>
              <a:ext cx="124920" cy="9864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8" y="24"/>
                  </a:moveTo>
                  <a:lnTo>
                    <a:pt x="84" y="0"/>
                  </a:lnTo>
                  <a:lnTo>
                    <a:pt x="177" y="76"/>
                  </a:lnTo>
                  <a:lnTo>
                    <a:pt x="125" y="144"/>
                  </a:lnTo>
                  <a:lnTo>
                    <a:pt x="42" y="144"/>
                  </a:lnTo>
                  <a:lnTo>
                    <a:pt x="0" y="76"/>
                  </a:lnTo>
                  <a:lnTo>
                    <a:pt x="8" y="24"/>
                  </a:lnTo>
                  <a:lnTo>
                    <a:pt x="8" y="24"/>
                  </a:lnTo>
                  <a:close/>
                </a:path>
              </a:pathLst>
            </a:custGeom>
            <a:solidFill>
              <a:srgbClr val="ffb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11560" y="1845000"/>
              <a:ext cx="136440" cy="123120"/>
            </a:xfrm>
            <a:custGeom>
              <a:avLst/>
              <a:gdLst/>
              <a:ahLst/>
              <a:rect l="l" t="t" r="r" b="b"/>
              <a:pathLst>
                <a:path w="192" h="183">
                  <a:moveTo>
                    <a:pt x="74" y="12"/>
                  </a:moveTo>
                  <a:lnTo>
                    <a:pt x="117" y="0"/>
                  </a:lnTo>
                  <a:lnTo>
                    <a:pt x="171" y="33"/>
                  </a:lnTo>
                  <a:lnTo>
                    <a:pt x="192" y="97"/>
                  </a:lnTo>
                  <a:lnTo>
                    <a:pt x="165" y="145"/>
                  </a:lnTo>
                  <a:lnTo>
                    <a:pt x="117" y="183"/>
                  </a:lnTo>
                  <a:lnTo>
                    <a:pt x="30" y="183"/>
                  </a:lnTo>
                  <a:lnTo>
                    <a:pt x="0" y="130"/>
                  </a:lnTo>
                  <a:lnTo>
                    <a:pt x="3" y="76"/>
                  </a:lnTo>
                  <a:lnTo>
                    <a:pt x="41" y="65"/>
                  </a:lnTo>
                  <a:lnTo>
                    <a:pt x="91" y="113"/>
                  </a:lnTo>
                  <a:lnTo>
                    <a:pt x="117" y="86"/>
                  </a:lnTo>
                  <a:lnTo>
                    <a:pt x="100" y="54"/>
                  </a:lnTo>
                  <a:lnTo>
                    <a:pt x="74" y="12"/>
                  </a:lnTo>
                  <a:lnTo>
                    <a:pt x="7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56080" y="1631520"/>
              <a:ext cx="160560" cy="129600"/>
            </a:xfrm>
            <a:custGeom>
              <a:avLst/>
              <a:gdLst/>
              <a:ahLst/>
              <a:rect l="l" t="t" r="r" b="b"/>
              <a:pathLst>
                <a:path w="226" h="192">
                  <a:moveTo>
                    <a:pt x="0" y="118"/>
                  </a:moveTo>
                  <a:lnTo>
                    <a:pt x="28" y="173"/>
                  </a:lnTo>
                  <a:lnTo>
                    <a:pt x="83" y="192"/>
                  </a:lnTo>
                  <a:lnTo>
                    <a:pt x="138" y="192"/>
                  </a:lnTo>
                  <a:lnTo>
                    <a:pt x="188" y="163"/>
                  </a:lnTo>
                  <a:lnTo>
                    <a:pt x="226" y="99"/>
                  </a:lnTo>
                  <a:lnTo>
                    <a:pt x="192" y="34"/>
                  </a:lnTo>
                  <a:lnTo>
                    <a:pt x="123" y="0"/>
                  </a:lnTo>
                  <a:lnTo>
                    <a:pt x="53" y="15"/>
                  </a:lnTo>
                  <a:lnTo>
                    <a:pt x="24" y="65"/>
                  </a:lnTo>
                  <a:lnTo>
                    <a:pt x="68" y="80"/>
                  </a:lnTo>
                  <a:lnTo>
                    <a:pt x="123" y="80"/>
                  </a:lnTo>
                  <a:lnTo>
                    <a:pt x="152" y="99"/>
                  </a:lnTo>
                  <a:lnTo>
                    <a:pt x="138" y="123"/>
                  </a:lnTo>
                  <a:lnTo>
                    <a:pt x="78" y="129"/>
                  </a:lnTo>
                  <a:lnTo>
                    <a:pt x="43" y="108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96080" y="1558440"/>
              <a:ext cx="1569600" cy="2230560"/>
            </a:xfrm>
            <a:custGeom>
              <a:avLst/>
              <a:gdLst/>
              <a:ahLst/>
              <a:rect l="l" t="t" r="r" b="b"/>
              <a:pathLst>
                <a:path w="2207" h="3297">
                  <a:moveTo>
                    <a:pt x="0" y="327"/>
                  </a:moveTo>
                  <a:lnTo>
                    <a:pt x="188" y="330"/>
                  </a:lnTo>
                  <a:lnTo>
                    <a:pt x="494" y="311"/>
                  </a:lnTo>
                  <a:lnTo>
                    <a:pt x="768" y="252"/>
                  </a:lnTo>
                  <a:lnTo>
                    <a:pt x="1089" y="173"/>
                  </a:lnTo>
                  <a:lnTo>
                    <a:pt x="1464" y="89"/>
                  </a:lnTo>
                  <a:lnTo>
                    <a:pt x="1735" y="28"/>
                  </a:lnTo>
                  <a:lnTo>
                    <a:pt x="1964" y="0"/>
                  </a:lnTo>
                  <a:lnTo>
                    <a:pt x="2062" y="0"/>
                  </a:lnTo>
                  <a:lnTo>
                    <a:pt x="2102" y="9"/>
                  </a:lnTo>
                  <a:lnTo>
                    <a:pt x="2127" y="34"/>
                  </a:lnTo>
                  <a:lnTo>
                    <a:pt x="2127" y="138"/>
                  </a:lnTo>
                  <a:lnTo>
                    <a:pt x="2102" y="509"/>
                  </a:lnTo>
                  <a:lnTo>
                    <a:pt x="2068" y="959"/>
                  </a:lnTo>
                  <a:lnTo>
                    <a:pt x="2059" y="1419"/>
                  </a:lnTo>
                  <a:lnTo>
                    <a:pt x="2078" y="1782"/>
                  </a:lnTo>
                  <a:lnTo>
                    <a:pt x="2121" y="2085"/>
                  </a:lnTo>
                  <a:lnTo>
                    <a:pt x="2177" y="2470"/>
                  </a:lnTo>
                  <a:lnTo>
                    <a:pt x="2207" y="2811"/>
                  </a:lnTo>
                  <a:lnTo>
                    <a:pt x="2196" y="3035"/>
                  </a:lnTo>
                  <a:lnTo>
                    <a:pt x="2177" y="3162"/>
                  </a:lnTo>
                  <a:lnTo>
                    <a:pt x="2142" y="3233"/>
                  </a:lnTo>
                  <a:lnTo>
                    <a:pt x="2186" y="3267"/>
                  </a:lnTo>
                  <a:lnTo>
                    <a:pt x="2177" y="3297"/>
                  </a:lnTo>
                  <a:lnTo>
                    <a:pt x="2078" y="3276"/>
                  </a:lnTo>
                  <a:lnTo>
                    <a:pt x="1760" y="3236"/>
                  </a:lnTo>
                  <a:lnTo>
                    <a:pt x="1426" y="3208"/>
                  </a:lnTo>
                  <a:lnTo>
                    <a:pt x="1074" y="3214"/>
                  </a:lnTo>
                  <a:lnTo>
                    <a:pt x="842" y="3223"/>
                  </a:lnTo>
                  <a:lnTo>
                    <a:pt x="602" y="3208"/>
                  </a:lnTo>
                  <a:lnTo>
                    <a:pt x="445" y="3178"/>
                  </a:lnTo>
                  <a:lnTo>
                    <a:pt x="346" y="3138"/>
                  </a:lnTo>
                  <a:lnTo>
                    <a:pt x="302" y="3103"/>
                  </a:lnTo>
                  <a:lnTo>
                    <a:pt x="277" y="3035"/>
                  </a:lnTo>
                  <a:lnTo>
                    <a:pt x="243" y="2995"/>
                  </a:lnTo>
                  <a:lnTo>
                    <a:pt x="188" y="2980"/>
                  </a:lnTo>
                  <a:lnTo>
                    <a:pt x="123" y="2940"/>
                  </a:lnTo>
                  <a:lnTo>
                    <a:pt x="99" y="2875"/>
                  </a:lnTo>
                  <a:lnTo>
                    <a:pt x="119" y="2841"/>
                  </a:lnTo>
                  <a:lnTo>
                    <a:pt x="169" y="2841"/>
                  </a:lnTo>
                  <a:lnTo>
                    <a:pt x="262" y="2881"/>
                  </a:lnTo>
                  <a:lnTo>
                    <a:pt x="505" y="2951"/>
                  </a:lnTo>
                  <a:lnTo>
                    <a:pt x="895" y="2989"/>
                  </a:lnTo>
                  <a:lnTo>
                    <a:pt x="1275" y="2999"/>
                  </a:lnTo>
                  <a:lnTo>
                    <a:pt x="1583" y="3029"/>
                  </a:lnTo>
                  <a:lnTo>
                    <a:pt x="1772" y="3060"/>
                  </a:lnTo>
                  <a:lnTo>
                    <a:pt x="1945" y="3100"/>
                  </a:lnTo>
                  <a:lnTo>
                    <a:pt x="2009" y="3124"/>
                  </a:lnTo>
                  <a:lnTo>
                    <a:pt x="2047" y="3113"/>
                  </a:lnTo>
                  <a:lnTo>
                    <a:pt x="2062" y="3060"/>
                  </a:lnTo>
                  <a:lnTo>
                    <a:pt x="2068" y="2872"/>
                  </a:lnTo>
                  <a:lnTo>
                    <a:pt x="2062" y="2623"/>
                  </a:lnTo>
                  <a:lnTo>
                    <a:pt x="2034" y="2277"/>
                  </a:lnTo>
                  <a:lnTo>
                    <a:pt x="1985" y="1841"/>
                  </a:lnTo>
                  <a:lnTo>
                    <a:pt x="1960" y="1395"/>
                  </a:lnTo>
                  <a:lnTo>
                    <a:pt x="1998" y="830"/>
                  </a:lnTo>
                  <a:lnTo>
                    <a:pt x="2038" y="444"/>
                  </a:lnTo>
                  <a:lnTo>
                    <a:pt x="2059" y="182"/>
                  </a:lnTo>
                  <a:lnTo>
                    <a:pt x="2053" y="93"/>
                  </a:lnTo>
                  <a:lnTo>
                    <a:pt x="2019" y="62"/>
                  </a:lnTo>
                  <a:lnTo>
                    <a:pt x="1850" y="78"/>
                  </a:lnTo>
                  <a:lnTo>
                    <a:pt x="1574" y="148"/>
                  </a:lnTo>
                  <a:lnTo>
                    <a:pt x="1152" y="241"/>
                  </a:lnTo>
                  <a:lnTo>
                    <a:pt x="836" y="311"/>
                  </a:lnTo>
                  <a:lnTo>
                    <a:pt x="614" y="361"/>
                  </a:lnTo>
                  <a:lnTo>
                    <a:pt x="401" y="395"/>
                  </a:lnTo>
                  <a:lnTo>
                    <a:pt x="34" y="391"/>
                  </a:lnTo>
                  <a:lnTo>
                    <a:pt x="0" y="370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19400" y="1774800"/>
              <a:ext cx="147600" cy="1738440"/>
            </a:xfrm>
            <a:custGeom>
              <a:avLst/>
              <a:gdLst/>
              <a:ahLst/>
              <a:rect l="l" t="t" r="r" b="b"/>
              <a:pathLst>
                <a:path w="208" h="2570">
                  <a:moveTo>
                    <a:pt x="4" y="40"/>
                  </a:moveTo>
                  <a:lnTo>
                    <a:pt x="0" y="386"/>
                  </a:lnTo>
                  <a:lnTo>
                    <a:pt x="4" y="733"/>
                  </a:lnTo>
                  <a:lnTo>
                    <a:pt x="19" y="1188"/>
                  </a:lnTo>
                  <a:lnTo>
                    <a:pt x="54" y="1653"/>
                  </a:lnTo>
                  <a:lnTo>
                    <a:pt x="78" y="1891"/>
                  </a:lnTo>
                  <a:lnTo>
                    <a:pt x="93" y="2165"/>
                  </a:lnTo>
                  <a:lnTo>
                    <a:pt x="65" y="2406"/>
                  </a:lnTo>
                  <a:lnTo>
                    <a:pt x="50" y="2530"/>
                  </a:lnTo>
                  <a:lnTo>
                    <a:pt x="99" y="2570"/>
                  </a:lnTo>
                  <a:lnTo>
                    <a:pt x="139" y="2551"/>
                  </a:lnTo>
                  <a:lnTo>
                    <a:pt x="173" y="2511"/>
                  </a:lnTo>
                  <a:lnTo>
                    <a:pt x="208" y="2227"/>
                  </a:lnTo>
                  <a:lnTo>
                    <a:pt x="189" y="1748"/>
                  </a:lnTo>
                  <a:lnTo>
                    <a:pt x="139" y="1326"/>
                  </a:lnTo>
                  <a:lnTo>
                    <a:pt x="99" y="935"/>
                  </a:lnTo>
                  <a:lnTo>
                    <a:pt x="78" y="561"/>
                  </a:lnTo>
                  <a:lnTo>
                    <a:pt x="74" y="173"/>
                  </a:lnTo>
                  <a:lnTo>
                    <a:pt x="74" y="44"/>
                  </a:lnTo>
                  <a:lnTo>
                    <a:pt x="65" y="0"/>
                  </a:lnTo>
                  <a:lnTo>
                    <a:pt x="35" y="0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03840" y="1651680"/>
              <a:ext cx="79560" cy="59400"/>
            </a:xfrm>
            <a:custGeom>
              <a:avLst/>
              <a:gdLst/>
              <a:ahLst/>
              <a:rect l="l" t="t" r="r" b="b"/>
              <a:pathLst>
                <a:path w="113" h="88">
                  <a:moveTo>
                    <a:pt x="0" y="50"/>
                  </a:moveTo>
                  <a:lnTo>
                    <a:pt x="16" y="19"/>
                  </a:lnTo>
                  <a:lnTo>
                    <a:pt x="59" y="0"/>
                  </a:lnTo>
                  <a:lnTo>
                    <a:pt x="97" y="10"/>
                  </a:lnTo>
                  <a:lnTo>
                    <a:pt x="113" y="44"/>
                  </a:lnTo>
                  <a:lnTo>
                    <a:pt x="88" y="78"/>
                  </a:lnTo>
                  <a:lnTo>
                    <a:pt x="44" y="88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44720" y="1850400"/>
              <a:ext cx="119520" cy="10656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32" y="19"/>
                  </a:moveTo>
                  <a:lnTo>
                    <a:pt x="95" y="0"/>
                  </a:lnTo>
                  <a:lnTo>
                    <a:pt x="152" y="23"/>
                  </a:lnTo>
                  <a:lnTo>
                    <a:pt x="167" y="70"/>
                  </a:lnTo>
                  <a:lnTo>
                    <a:pt x="148" y="133"/>
                  </a:lnTo>
                  <a:lnTo>
                    <a:pt x="101" y="158"/>
                  </a:lnTo>
                  <a:lnTo>
                    <a:pt x="32" y="143"/>
                  </a:lnTo>
                  <a:lnTo>
                    <a:pt x="0" y="101"/>
                  </a:lnTo>
                  <a:lnTo>
                    <a:pt x="0" y="53"/>
                  </a:lnTo>
                  <a:lnTo>
                    <a:pt x="32" y="19"/>
                  </a:lnTo>
                  <a:lnTo>
                    <a:pt x="3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08280" y="2055960"/>
              <a:ext cx="73800" cy="78480"/>
            </a:xfrm>
            <a:custGeom>
              <a:avLst/>
              <a:gdLst/>
              <a:ahLst/>
              <a:rect l="l" t="t" r="r" b="b"/>
              <a:pathLst>
                <a:path w="105" h="116">
                  <a:moveTo>
                    <a:pt x="0" y="57"/>
                  </a:moveTo>
                  <a:lnTo>
                    <a:pt x="13" y="19"/>
                  </a:lnTo>
                  <a:lnTo>
                    <a:pt x="57" y="0"/>
                  </a:lnTo>
                  <a:lnTo>
                    <a:pt x="95" y="25"/>
                  </a:lnTo>
                  <a:lnTo>
                    <a:pt x="105" y="78"/>
                  </a:lnTo>
                  <a:lnTo>
                    <a:pt x="70" y="116"/>
                  </a:lnTo>
                  <a:lnTo>
                    <a:pt x="32" y="9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94240" y="2247120"/>
              <a:ext cx="63720" cy="5940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6" y="25"/>
                  </a:moveTo>
                  <a:lnTo>
                    <a:pt x="34" y="0"/>
                  </a:lnTo>
                  <a:lnTo>
                    <a:pt x="72" y="6"/>
                  </a:lnTo>
                  <a:lnTo>
                    <a:pt x="91" y="35"/>
                  </a:lnTo>
                  <a:lnTo>
                    <a:pt x="78" y="88"/>
                  </a:lnTo>
                  <a:lnTo>
                    <a:pt x="40" y="88"/>
                  </a:lnTo>
                  <a:lnTo>
                    <a:pt x="0" y="63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59000" y="1974960"/>
              <a:ext cx="366480" cy="263520"/>
            </a:xfrm>
            <a:custGeom>
              <a:avLst/>
              <a:gdLst/>
              <a:ahLst/>
              <a:rect l="l" t="t" r="r" b="b"/>
              <a:pathLst>
                <a:path w="515" h="390">
                  <a:moveTo>
                    <a:pt x="515" y="371"/>
                  </a:moveTo>
                  <a:lnTo>
                    <a:pt x="481" y="390"/>
                  </a:lnTo>
                  <a:lnTo>
                    <a:pt x="346" y="322"/>
                  </a:lnTo>
                  <a:lnTo>
                    <a:pt x="222" y="255"/>
                  </a:lnTo>
                  <a:lnTo>
                    <a:pt x="91" y="158"/>
                  </a:lnTo>
                  <a:lnTo>
                    <a:pt x="0" y="86"/>
                  </a:lnTo>
                  <a:lnTo>
                    <a:pt x="0" y="33"/>
                  </a:lnTo>
                  <a:lnTo>
                    <a:pt x="53" y="0"/>
                  </a:lnTo>
                  <a:lnTo>
                    <a:pt x="125" y="14"/>
                  </a:lnTo>
                  <a:lnTo>
                    <a:pt x="251" y="120"/>
                  </a:lnTo>
                  <a:lnTo>
                    <a:pt x="367" y="217"/>
                  </a:lnTo>
                  <a:lnTo>
                    <a:pt x="515" y="371"/>
                  </a:lnTo>
                  <a:lnTo>
                    <a:pt x="515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21640" y="1677600"/>
              <a:ext cx="355320" cy="365040"/>
            </a:xfrm>
            <a:custGeom>
              <a:avLst/>
              <a:gdLst/>
              <a:ahLst/>
              <a:rect l="l" t="t" r="r" b="b"/>
              <a:pathLst>
                <a:path w="500" h="540">
                  <a:moveTo>
                    <a:pt x="481" y="540"/>
                  </a:moveTo>
                  <a:lnTo>
                    <a:pt x="331" y="453"/>
                  </a:lnTo>
                  <a:lnTo>
                    <a:pt x="154" y="276"/>
                  </a:lnTo>
                  <a:lnTo>
                    <a:pt x="23" y="141"/>
                  </a:lnTo>
                  <a:lnTo>
                    <a:pt x="0" y="78"/>
                  </a:lnTo>
                  <a:lnTo>
                    <a:pt x="23" y="25"/>
                  </a:lnTo>
                  <a:lnTo>
                    <a:pt x="86" y="0"/>
                  </a:lnTo>
                  <a:lnTo>
                    <a:pt x="145" y="35"/>
                  </a:lnTo>
                  <a:lnTo>
                    <a:pt x="221" y="113"/>
                  </a:lnTo>
                  <a:lnTo>
                    <a:pt x="299" y="238"/>
                  </a:lnTo>
                  <a:lnTo>
                    <a:pt x="390" y="381"/>
                  </a:lnTo>
                  <a:lnTo>
                    <a:pt x="443" y="453"/>
                  </a:lnTo>
                  <a:lnTo>
                    <a:pt x="500" y="515"/>
                  </a:lnTo>
                  <a:lnTo>
                    <a:pt x="481" y="540"/>
                  </a:lnTo>
                  <a:lnTo>
                    <a:pt x="481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92280" y="1413720"/>
              <a:ext cx="335160" cy="408240"/>
            </a:xfrm>
            <a:custGeom>
              <a:avLst/>
              <a:gdLst/>
              <a:ahLst/>
              <a:rect l="l" t="t" r="r" b="b"/>
              <a:pathLst>
                <a:path w="471" h="602">
                  <a:moveTo>
                    <a:pt x="424" y="602"/>
                  </a:moveTo>
                  <a:lnTo>
                    <a:pt x="456" y="597"/>
                  </a:lnTo>
                  <a:lnTo>
                    <a:pt x="462" y="555"/>
                  </a:lnTo>
                  <a:lnTo>
                    <a:pt x="471" y="414"/>
                  </a:lnTo>
                  <a:lnTo>
                    <a:pt x="462" y="370"/>
                  </a:lnTo>
                  <a:lnTo>
                    <a:pt x="395" y="351"/>
                  </a:lnTo>
                  <a:lnTo>
                    <a:pt x="352" y="357"/>
                  </a:lnTo>
                  <a:lnTo>
                    <a:pt x="371" y="289"/>
                  </a:lnTo>
                  <a:lnTo>
                    <a:pt x="374" y="213"/>
                  </a:lnTo>
                  <a:lnTo>
                    <a:pt x="374" y="83"/>
                  </a:lnTo>
                  <a:lnTo>
                    <a:pt x="355" y="24"/>
                  </a:lnTo>
                  <a:lnTo>
                    <a:pt x="317" y="5"/>
                  </a:lnTo>
                  <a:lnTo>
                    <a:pt x="241" y="0"/>
                  </a:lnTo>
                  <a:lnTo>
                    <a:pt x="173" y="78"/>
                  </a:lnTo>
                  <a:lnTo>
                    <a:pt x="78" y="188"/>
                  </a:lnTo>
                  <a:lnTo>
                    <a:pt x="19" y="275"/>
                  </a:lnTo>
                  <a:lnTo>
                    <a:pt x="0" y="323"/>
                  </a:lnTo>
                  <a:lnTo>
                    <a:pt x="28" y="357"/>
                  </a:lnTo>
                  <a:lnTo>
                    <a:pt x="72" y="380"/>
                  </a:lnTo>
                  <a:lnTo>
                    <a:pt x="135" y="361"/>
                  </a:lnTo>
                  <a:lnTo>
                    <a:pt x="173" y="313"/>
                  </a:lnTo>
                  <a:lnTo>
                    <a:pt x="226" y="169"/>
                  </a:lnTo>
                  <a:lnTo>
                    <a:pt x="245" y="194"/>
                  </a:lnTo>
                  <a:lnTo>
                    <a:pt x="255" y="270"/>
                  </a:lnTo>
                  <a:lnTo>
                    <a:pt x="232" y="376"/>
                  </a:lnTo>
                  <a:lnTo>
                    <a:pt x="198" y="467"/>
                  </a:lnTo>
                  <a:lnTo>
                    <a:pt x="220" y="496"/>
                  </a:lnTo>
                  <a:lnTo>
                    <a:pt x="289" y="496"/>
                  </a:lnTo>
                  <a:lnTo>
                    <a:pt x="342" y="486"/>
                  </a:lnTo>
                  <a:lnTo>
                    <a:pt x="346" y="534"/>
                  </a:lnTo>
                  <a:lnTo>
                    <a:pt x="424" y="602"/>
                  </a:lnTo>
                  <a:lnTo>
                    <a:pt x="424" y="6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37520" y="1346040"/>
              <a:ext cx="153720" cy="257040"/>
            </a:xfrm>
            <a:custGeom>
              <a:avLst/>
              <a:gdLst/>
              <a:ahLst/>
              <a:rect l="l" t="t" r="r" b="b"/>
              <a:pathLst>
                <a:path w="214" h="380">
                  <a:moveTo>
                    <a:pt x="211" y="380"/>
                  </a:moveTo>
                  <a:lnTo>
                    <a:pt x="214" y="314"/>
                  </a:lnTo>
                  <a:lnTo>
                    <a:pt x="161" y="144"/>
                  </a:lnTo>
                  <a:lnTo>
                    <a:pt x="119" y="29"/>
                  </a:lnTo>
                  <a:lnTo>
                    <a:pt x="70" y="0"/>
                  </a:lnTo>
                  <a:lnTo>
                    <a:pt x="9" y="19"/>
                  </a:lnTo>
                  <a:lnTo>
                    <a:pt x="0" y="63"/>
                  </a:lnTo>
                  <a:lnTo>
                    <a:pt x="41" y="135"/>
                  </a:lnTo>
                  <a:lnTo>
                    <a:pt x="133" y="304"/>
                  </a:lnTo>
                  <a:lnTo>
                    <a:pt x="211" y="380"/>
                  </a:lnTo>
                  <a:lnTo>
                    <a:pt x="211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61880" y="2055960"/>
              <a:ext cx="177480" cy="67680"/>
            </a:xfrm>
            <a:custGeom>
              <a:avLst/>
              <a:gdLst/>
              <a:ahLst/>
              <a:rect l="l" t="t" r="r" b="b"/>
              <a:pathLst>
                <a:path w="249" h="101">
                  <a:moveTo>
                    <a:pt x="47" y="101"/>
                  </a:moveTo>
                  <a:lnTo>
                    <a:pt x="114" y="88"/>
                  </a:lnTo>
                  <a:lnTo>
                    <a:pt x="230" y="88"/>
                  </a:lnTo>
                  <a:lnTo>
                    <a:pt x="249" y="48"/>
                  </a:lnTo>
                  <a:lnTo>
                    <a:pt x="201" y="10"/>
                  </a:lnTo>
                  <a:lnTo>
                    <a:pt x="123" y="0"/>
                  </a:lnTo>
                  <a:lnTo>
                    <a:pt x="32" y="15"/>
                  </a:lnTo>
                  <a:lnTo>
                    <a:pt x="0" y="44"/>
                  </a:lnTo>
                  <a:lnTo>
                    <a:pt x="4" y="88"/>
                  </a:lnTo>
                  <a:lnTo>
                    <a:pt x="47" y="101"/>
                  </a:lnTo>
                  <a:lnTo>
                    <a:pt x="47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3480" y="1971000"/>
              <a:ext cx="238680" cy="71280"/>
            </a:xfrm>
            <a:custGeom>
              <a:avLst/>
              <a:gdLst/>
              <a:ahLst/>
              <a:rect l="l" t="t" r="r" b="b"/>
              <a:pathLst>
                <a:path w="336" h="106">
                  <a:moveTo>
                    <a:pt x="0" y="100"/>
                  </a:moveTo>
                  <a:lnTo>
                    <a:pt x="116" y="106"/>
                  </a:lnTo>
                  <a:lnTo>
                    <a:pt x="211" y="87"/>
                  </a:lnTo>
                  <a:lnTo>
                    <a:pt x="298" y="100"/>
                  </a:lnTo>
                  <a:lnTo>
                    <a:pt x="336" y="100"/>
                  </a:lnTo>
                  <a:lnTo>
                    <a:pt x="336" y="49"/>
                  </a:lnTo>
                  <a:lnTo>
                    <a:pt x="298" y="15"/>
                  </a:lnTo>
                  <a:lnTo>
                    <a:pt x="211" y="0"/>
                  </a:lnTo>
                  <a:lnTo>
                    <a:pt x="97" y="15"/>
                  </a:lnTo>
                  <a:lnTo>
                    <a:pt x="19" y="53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0600" y="1850400"/>
              <a:ext cx="412200" cy="180000"/>
            </a:xfrm>
            <a:custGeom>
              <a:avLst/>
              <a:gdLst/>
              <a:ahLst/>
              <a:rect l="l" t="t" r="r" b="b"/>
              <a:pathLst>
                <a:path w="580" h="264">
                  <a:moveTo>
                    <a:pt x="0" y="139"/>
                  </a:moveTo>
                  <a:lnTo>
                    <a:pt x="42" y="85"/>
                  </a:lnTo>
                  <a:lnTo>
                    <a:pt x="110" y="63"/>
                  </a:lnTo>
                  <a:lnTo>
                    <a:pt x="215" y="70"/>
                  </a:lnTo>
                  <a:lnTo>
                    <a:pt x="224" y="32"/>
                  </a:lnTo>
                  <a:lnTo>
                    <a:pt x="259" y="0"/>
                  </a:lnTo>
                  <a:lnTo>
                    <a:pt x="350" y="4"/>
                  </a:lnTo>
                  <a:lnTo>
                    <a:pt x="394" y="23"/>
                  </a:lnTo>
                  <a:lnTo>
                    <a:pt x="460" y="57"/>
                  </a:lnTo>
                  <a:lnTo>
                    <a:pt x="523" y="124"/>
                  </a:lnTo>
                  <a:lnTo>
                    <a:pt x="572" y="192"/>
                  </a:lnTo>
                  <a:lnTo>
                    <a:pt x="580" y="264"/>
                  </a:lnTo>
                  <a:lnTo>
                    <a:pt x="519" y="264"/>
                  </a:lnTo>
                  <a:lnTo>
                    <a:pt x="485" y="196"/>
                  </a:lnTo>
                  <a:lnTo>
                    <a:pt x="418" y="124"/>
                  </a:lnTo>
                  <a:lnTo>
                    <a:pt x="340" y="63"/>
                  </a:lnTo>
                  <a:lnTo>
                    <a:pt x="283" y="70"/>
                  </a:lnTo>
                  <a:lnTo>
                    <a:pt x="293" y="110"/>
                  </a:lnTo>
                  <a:lnTo>
                    <a:pt x="287" y="143"/>
                  </a:lnTo>
                  <a:lnTo>
                    <a:pt x="224" y="154"/>
                  </a:lnTo>
                  <a:lnTo>
                    <a:pt x="105" y="158"/>
                  </a:lnTo>
                  <a:lnTo>
                    <a:pt x="42" y="182"/>
                  </a:lnTo>
                  <a:lnTo>
                    <a:pt x="13" y="173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12960" y="2570400"/>
              <a:ext cx="257040" cy="83520"/>
            </a:xfrm>
            <a:custGeom>
              <a:avLst/>
              <a:gdLst/>
              <a:ahLst/>
              <a:rect l="l" t="t" r="r" b="b"/>
              <a:pathLst>
                <a:path w="361" h="126">
                  <a:moveTo>
                    <a:pt x="0" y="29"/>
                  </a:moveTo>
                  <a:lnTo>
                    <a:pt x="53" y="0"/>
                  </a:lnTo>
                  <a:lnTo>
                    <a:pt x="126" y="4"/>
                  </a:lnTo>
                  <a:lnTo>
                    <a:pt x="203" y="38"/>
                  </a:lnTo>
                  <a:lnTo>
                    <a:pt x="304" y="78"/>
                  </a:lnTo>
                  <a:lnTo>
                    <a:pt x="361" y="101"/>
                  </a:lnTo>
                  <a:lnTo>
                    <a:pt x="348" y="126"/>
                  </a:lnTo>
                  <a:lnTo>
                    <a:pt x="245" y="126"/>
                  </a:lnTo>
                  <a:lnTo>
                    <a:pt x="154" y="101"/>
                  </a:lnTo>
                  <a:lnTo>
                    <a:pt x="91" y="78"/>
                  </a:lnTo>
                  <a:lnTo>
                    <a:pt x="19" y="67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80480" y="2038680"/>
              <a:ext cx="453240" cy="596520"/>
            </a:xfrm>
            <a:custGeom>
              <a:avLst/>
              <a:gdLst/>
              <a:ahLst/>
              <a:rect l="l" t="t" r="r" b="b"/>
              <a:pathLst>
                <a:path w="639" h="882">
                  <a:moveTo>
                    <a:pt x="53" y="0"/>
                  </a:moveTo>
                  <a:lnTo>
                    <a:pt x="138" y="107"/>
                  </a:lnTo>
                  <a:lnTo>
                    <a:pt x="182" y="208"/>
                  </a:lnTo>
                  <a:lnTo>
                    <a:pt x="254" y="358"/>
                  </a:lnTo>
                  <a:lnTo>
                    <a:pt x="302" y="478"/>
                  </a:lnTo>
                  <a:lnTo>
                    <a:pt x="408" y="607"/>
                  </a:lnTo>
                  <a:lnTo>
                    <a:pt x="513" y="727"/>
                  </a:lnTo>
                  <a:lnTo>
                    <a:pt x="591" y="814"/>
                  </a:lnTo>
                  <a:lnTo>
                    <a:pt x="639" y="871"/>
                  </a:lnTo>
                  <a:lnTo>
                    <a:pt x="610" y="882"/>
                  </a:lnTo>
                  <a:lnTo>
                    <a:pt x="566" y="871"/>
                  </a:lnTo>
                  <a:lnTo>
                    <a:pt x="408" y="738"/>
                  </a:lnTo>
                  <a:lnTo>
                    <a:pt x="283" y="593"/>
                  </a:lnTo>
                  <a:lnTo>
                    <a:pt x="211" y="443"/>
                  </a:lnTo>
                  <a:lnTo>
                    <a:pt x="148" y="276"/>
                  </a:lnTo>
                  <a:lnTo>
                    <a:pt x="81" y="132"/>
                  </a:lnTo>
                  <a:lnTo>
                    <a:pt x="24" y="5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5720" y="2143080"/>
              <a:ext cx="440640" cy="898200"/>
            </a:xfrm>
            <a:custGeom>
              <a:avLst/>
              <a:gdLst/>
              <a:ahLst/>
              <a:rect l="l" t="t" r="r" b="b"/>
              <a:pathLst>
                <a:path w="619" h="1329">
                  <a:moveTo>
                    <a:pt x="374" y="0"/>
                  </a:moveTo>
                  <a:lnTo>
                    <a:pt x="446" y="25"/>
                  </a:lnTo>
                  <a:lnTo>
                    <a:pt x="543" y="101"/>
                  </a:lnTo>
                  <a:lnTo>
                    <a:pt x="610" y="238"/>
                  </a:lnTo>
                  <a:lnTo>
                    <a:pt x="619" y="362"/>
                  </a:lnTo>
                  <a:lnTo>
                    <a:pt x="581" y="468"/>
                  </a:lnTo>
                  <a:lnTo>
                    <a:pt x="462" y="666"/>
                  </a:lnTo>
                  <a:lnTo>
                    <a:pt x="336" y="848"/>
                  </a:lnTo>
                  <a:lnTo>
                    <a:pt x="207" y="1040"/>
                  </a:lnTo>
                  <a:lnTo>
                    <a:pt x="135" y="1131"/>
                  </a:lnTo>
                  <a:lnTo>
                    <a:pt x="119" y="1209"/>
                  </a:lnTo>
                  <a:lnTo>
                    <a:pt x="24" y="1329"/>
                  </a:lnTo>
                  <a:lnTo>
                    <a:pt x="0" y="1238"/>
                  </a:lnTo>
                  <a:lnTo>
                    <a:pt x="24" y="1147"/>
                  </a:lnTo>
                  <a:lnTo>
                    <a:pt x="91" y="1059"/>
                  </a:lnTo>
                  <a:lnTo>
                    <a:pt x="144" y="968"/>
                  </a:lnTo>
                  <a:lnTo>
                    <a:pt x="273" y="801"/>
                  </a:lnTo>
                  <a:lnTo>
                    <a:pt x="399" y="635"/>
                  </a:lnTo>
                  <a:lnTo>
                    <a:pt x="490" y="420"/>
                  </a:lnTo>
                  <a:lnTo>
                    <a:pt x="524" y="333"/>
                  </a:lnTo>
                  <a:lnTo>
                    <a:pt x="519" y="238"/>
                  </a:lnTo>
                  <a:lnTo>
                    <a:pt x="471" y="141"/>
                  </a:lnTo>
                  <a:lnTo>
                    <a:pt x="370" y="82"/>
                  </a:lnTo>
                  <a:lnTo>
                    <a:pt x="346" y="4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32240" y="2601360"/>
              <a:ext cx="286920" cy="196200"/>
            </a:xfrm>
            <a:custGeom>
              <a:avLst/>
              <a:gdLst/>
              <a:ahLst/>
              <a:rect l="l" t="t" r="r" b="b"/>
              <a:pathLst>
                <a:path w="405" h="289">
                  <a:moveTo>
                    <a:pt x="314" y="0"/>
                  </a:moveTo>
                  <a:lnTo>
                    <a:pt x="314" y="49"/>
                  </a:lnTo>
                  <a:lnTo>
                    <a:pt x="285" y="97"/>
                  </a:lnTo>
                  <a:lnTo>
                    <a:pt x="217" y="144"/>
                  </a:lnTo>
                  <a:lnTo>
                    <a:pt x="116" y="217"/>
                  </a:lnTo>
                  <a:lnTo>
                    <a:pt x="0" y="276"/>
                  </a:lnTo>
                  <a:lnTo>
                    <a:pt x="50" y="289"/>
                  </a:lnTo>
                  <a:lnTo>
                    <a:pt x="126" y="276"/>
                  </a:lnTo>
                  <a:lnTo>
                    <a:pt x="204" y="241"/>
                  </a:lnTo>
                  <a:lnTo>
                    <a:pt x="314" y="160"/>
                  </a:lnTo>
                  <a:lnTo>
                    <a:pt x="371" y="106"/>
                  </a:lnTo>
                  <a:lnTo>
                    <a:pt x="405" y="19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2520" y="2774520"/>
              <a:ext cx="437760" cy="361080"/>
            </a:xfrm>
            <a:custGeom>
              <a:avLst/>
              <a:gdLst/>
              <a:ahLst/>
              <a:rect l="l" t="t" r="r" b="b"/>
              <a:pathLst>
                <a:path w="616" h="534">
                  <a:moveTo>
                    <a:pt x="50" y="385"/>
                  </a:moveTo>
                  <a:lnTo>
                    <a:pt x="122" y="429"/>
                  </a:lnTo>
                  <a:lnTo>
                    <a:pt x="207" y="458"/>
                  </a:lnTo>
                  <a:lnTo>
                    <a:pt x="299" y="452"/>
                  </a:lnTo>
                  <a:lnTo>
                    <a:pt x="361" y="410"/>
                  </a:lnTo>
                  <a:lnTo>
                    <a:pt x="428" y="323"/>
                  </a:lnTo>
                  <a:lnTo>
                    <a:pt x="496" y="197"/>
                  </a:lnTo>
                  <a:lnTo>
                    <a:pt x="544" y="78"/>
                  </a:lnTo>
                  <a:lnTo>
                    <a:pt x="553" y="15"/>
                  </a:lnTo>
                  <a:lnTo>
                    <a:pt x="616" y="0"/>
                  </a:lnTo>
                  <a:lnTo>
                    <a:pt x="612" y="93"/>
                  </a:lnTo>
                  <a:lnTo>
                    <a:pt x="578" y="188"/>
                  </a:lnTo>
                  <a:lnTo>
                    <a:pt x="534" y="285"/>
                  </a:lnTo>
                  <a:lnTo>
                    <a:pt x="472" y="380"/>
                  </a:lnTo>
                  <a:lnTo>
                    <a:pt x="438" y="448"/>
                  </a:lnTo>
                  <a:lnTo>
                    <a:pt x="390" y="500"/>
                  </a:lnTo>
                  <a:lnTo>
                    <a:pt x="308" y="534"/>
                  </a:lnTo>
                  <a:lnTo>
                    <a:pt x="204" y="534"/>
                  </a:lnTo>
                  <a:lnTo>
                    <a:pt x="135" y="515"/>
                  </a:lnTo>
                  <a:lnTo>
                    <a:pt x="63" y="492"/>
                  </a:lnTo>
                  <a:lnTo>
                    <a:pt x="0" y="439"/>
                  </a:lnTo>
                  <a:lnTo>
                    <a:pt x="50" y="385"/>
                  </a:lnTo>
                  <a:lnTo>
                    <a:pt x="50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24120" y="2836800"/>
              <a:ext cx="396360" cy="155520"/>
            </a:xfrm>
            <a:custGeom>
              <a:avLst/>
              <a:gdLst/>
              <a:ahLst/>
              <a:rect l="l" t="t" r="r" b="b"/>
              <a:pathLst>
                <a:path w="557" h="230">
                  <a:moveTo>
                    <a:pt x="0" y="177"/>
                  </a:moveTo>
                  <a:lnTo>
                    <a:pt x="97" y="110"/>
                  </a:lnTo>
                  <a:lnTo>
                    <a:pt x="241" y="47"/>
                  </a:lnTo>
                  <a:lnTo>
                    <a:pt x="384" y="9"/>
                  </a:lnTo>
                  <a:lnTo>
                    <a:pt x="557" y="0"/>
                  </a:lnTo>
                  <a:lnTo>
                    <a:pt x="538" y="66"/>
                  </a:lnTo>
                  <a:lnTo>
                    <a:pt x="414" y="72"/>
                  </a:lnTo>
                  <a:lnTo>
                    <a:pt x="283" y="114"/>
                  </a:lnTo>
                  <a:lnTo>
                    <a:pt x="179" y="152"/>
                  </a:lnTo>
                  <a:lnTo>
                    <a:pt x="19" y="230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2080" y="2938320"/>
              <a:ext cx="272880" cy="149040"/>
            </a:xfrm>
            <a:custGeom>
              <a:avLst/>
              <a:gdLst/>
              <a:ahLst/>
              <a:rect l="l" t="t" r="r" b="b"/>
              <a:pathLst>
                <a:path w="384" h="220">
                  <a:moveTo>
                    <a:pt x="0" y="198"/>
                  </a:moveTo>
                  <a:lnTo>
                    <a:pt x="100" y="110"/>
                  </a:lnTo>
                  <a:lnTo>
                    <a:pt x="226" y="48"/>
                  </a:lnTo>
                  <a:lnTo>
                    <a:pt x="292" y="25"/>
                  </a:lnTo>
                  <a:lnTo>
                    <a:pt x="384" y="0"/>
                  </a:lnTo>
                  <a:lnTo>
                    <a:pt x="370" y="82"/>
                  </a:lnTo>
                  <a:lnTo>
                    <a:pt x="254" y="101"/>
                  </a:lnTo>
                  <a:lnTo>
                    <a:pt x="169" y="139"/>
                  </a:lnTo>
                  <a:lnTo>
                    <a:pt x="91" y="169"/>
                  </a:lnTo>
                  <a:lnTo>
                    <a:pt x="0" y="220"/>
                  </a:lnTo>
                  <a:lnTo>
                    <a:pt x="0" y="198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2680" y="3058920"/>
              <a:ext cx="402120" cy="474840"/>
            </a:xfrm>
            <a:custGeom>
              <a:avLst/>
              <a:gdLst/>
              <a:ahLst/>
              <a:rect l="l" t="t" r="r" b="b"/>
              <a:pathLst>
                <a:path w="567" h="701">
                  <a:moveTo>
                    <a:pt x="504" y="0"/>
                  </a:moveTo>
                  <a:lnTo>
                    <a:pt x="369" y="119"/>
                  </a:lnTo>
                  <a:lnTo>
                    <a:pt x="215" y="254"/>
                  </a:lnTo>
                  <a:lnTo>
                    <a:pt x="29" y="427"/>
                  </a:lnTo>
                  <a:lnTo>
                    <a:pt x="38" y="490"/>
                  </a:lnTo>
                  <a:lnTo>
                    <a:pt x="110" y="412"/>
                  </a:lnTo>
                  <a:lnTo>
                    <a:pt x="245" y="289"/>
                  </a:lnTo>
                  <a:lnTo>
                    <a:pt x="369" y="182"/>
                  </a:lnTo>
                  <a:lnTo>
                    <a:pt x="456" y="110"/>
                  </a:lnTo>
                  <a:lnTo>
                    <a:pt x="451" y="154"/>
                  </a:lnTo>
                  <a:lnTo>
                    <a:pt x="375" y="220"/>
                  </a:lnTo>
                  <a:lnTo>
                    <a:pt x="274" y="317"/>
                  </a:lnTo>
                  <a:lnTo>
                    <a:pt x="192" y="431"/>
                  </a:lnTo>
                  <a:lnTo>
                    <a:pt x="42" y="634"/>
                  </a:lnTo>
                  <a:lnTo>
                    <a:pt x="0" y="701"/>
                  </a:lnTo>
                  <a:lnTo>
                    <a:pt x="95" y="692"/>
                  </a:lnTo>
                  <a:lnTo>
                    <a:pt x="192" y="557"/>
                  </a:lnTo>
                  <a:lnTo>
                    <a:pt x="316" y="384"/>
                  </a:lnTo>
                  <a:lnTo>
                    <a:pt x="432" y="264"/>
                  </a:lnTo>
                  <a:lnTo>
                    <a:pt x="498" y="167"/>
                  </a:lnTo>
                  <a:lnTo>
                    <a:pt x="567" y="57"/>
                  </a:lnTo>
                  <a:lnTo>
                    <a:pt x="504" y="0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20600" y="3087360"/>
              <a:ext cx="536040" cy="435240"/>
            </a:xfrm>
            <a:custGeom>
              <a:avLst/>
              <a:gdLst/>
              <a:ahLst/>
              <a:rect l="l" t="t" r="r" b="b"/>
              <a:pathLst>
                <a:path w="755" h="645">
                  <a:moveTo>
                    <a:pt x="663" y="25"/>
                  </a:moveTo>
                  <a:lnTo>
                    <a:pt x="591" y="145"/>
                  </a:lnTo>
                  <a:lnTo>
                    <a:pt x="490" y="248"/>
                  </a:lnTo>
                  <a:lnTo>
                    <a:pt x="317" y="405"/>
                  </a:lnTo>
                  <a:lnTo>
                    <a:pt x="116" y="535"/>
                  </a:lnTo>
                  <a:lnTo>
                    <a:pt x="0" y="626"/>
                  </a:lnTo>
                  <a:lnTo>
                    <a:pt x="28" y="645"/>
                  </a:lnTo>
                  <a:lnTo>
                    <a:pt x="158" y="565"/>
                  </a:lnTo>
                  <a:lnTo>
                    <a:pt x="293" y="481"/>
                  </a:lnTo>
                  <a:lnTo>
                    <a:pt x="447" y="377"/>
                  </a:lnTo>
                  <a:lnTo>
                    <a:pt x="566" y="267"/>
                  </a:lnTo>
                  <a:lnTo>
                    <a:pt x="673" y="145"/>
                  </a:lnTo>
                  <a:lnTo>
                    <a:pt x="755" y="0"/>
                  </a:lnTo>
                  <a:lnTo>
                    <a:pt x="663" y="25"/>
                  </a:lnTo>
                  <a:lnTo>
                    <a:pt x="66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4040" y="2973600"/>
              <a:ext cx="1419120" cy="907560"/>
            </a:xfrm>
            <a:custGeom>
              <a:avLst/>
              <a:gdLst/>
              <a:ahLst/>
              <a:rect l="l" t="t" r="r" b="b"/>
              <a:pathLst>
                <a:path w="1996" h="1342">
                  <a:moveTo>
                    <a:pt x="981" y="0"/>
                  </a:moveTo>
                  <a:lnTo>
                    <a:pt x="1043" y="76"/>
                  </a:lnTo>
                  <a:lnTo>
                    <a:pt x="1110" y="230"/>
                  </a:lnTo>
                  <a:lnTo>
                    <a:pt x="1178" y="422"/>
                  </a:lnTo>
                  <a:lnTo>
                    <a:pt x="1188" y="610"/>
                  </a:lnTo>
                  <a:lnTo>
                    <a:pt x="1192" y="711"/>
                  </a:lnTo>
                  <a:lnTo>
                    <a:pt x="1188" y="871"/>
                  </a:lnTo>
                  <a:lnTo>
                    <a:pt x="1169" y="987"/>
                  </a:lnTo>
                  <a:lnTo>
                    <a:pt x="1255" y="996"/>
                  </a:lnTo>
                  <a:lnTo>
                    <a:pt x="1481" y="1015"/>
                  </a:lnTo>
                  <a:lnTo>
                    <a:pt x="1597" y="1034"/>
                  </a:lnTo>
                  <a:lnTo>
                    <a:pt x="1678" y="1068"/>
                  </a:lnTo>
                  <a:lnTo>
                    <a:pt x="1755" y="1106"/>
                  </a:lnTo>
                  <a:lnTo>
                    <a:pt x="1865" y="1116"/>
                  </a:lnTo>
                  <a:lnTo>
                    <a:pt x="1947" y="1135"/>
                  </a:lnTo>
                  <a:lnTo>
                    <a:pt x="1986" y="1163"/>
                  </a:lnTo>
                  <a:lnTo>
                    <a:pt x="1996" y="1207"/>
                  </a:lnTo>
                  <a:lnTo>
                    <a:pt x="1956" y="1236"/>
                  </a:lnTo>
                  <a:lnTo>
                    <a:pt x="1751" y="1260"/>
                  </a:lnTo>
                  <a:lnTo>
                    <a:pt x="1601" y="1260"/>
                  </a:lnTo>
                  <a:lnTo>
                    <a:pt x="1496" y="1283"/>
                  </a:lnTo>
                  <a:lnTo>
                    <a:pt x="1361" y="1308"/>
                  </a:lnTo>
                  <a:lnTo>
                    <a:pt x="1015" y="1323"/>
                  </a:lnTo>
                  <a:lnTo>
                    <a:pt x="688" y="1342"/>
                  </a:lnTo>
                  <a:lnTo>
                    <a:pt x="433" y="1333"/>
                  </a:lnTo>
                  <a:lnTo>
                    <a:pt x="237" y="1304"/>
                  </a:lnTo>
                  <a:lnTo>
                    <a:pt x="59" y="1276"/>
                  </a:lnTo>
                  <a:lnTo>
                    <a:pt x="0" y="1232"/>
                  </a:lnTo>
                  <a:lnTo>
                    <a:pt x="11" y="1182"/>
                  </a:lnTo>
                  <a:lnTo>
                    <a:pt x="116" y="1207"/>
                  </a:lnTo>
                  <a:lnTo>
                    <a:pt x="342" y="1226"/>
                  </a:lnTo>
                  <a:lnTo>
                    <a:pt x="606" y="1236"/>
                  </a:lnTo>
                  <a:lnTo>
                    <a:pt x="754" y="1232"/>
                  </a:lnTo>
                  <a:lnTo>
                    <a:pt x="880" y="1207"/>
                  </a:lnTo>
                  <a:lnTo>
                    <a:pt x="977" y="1173"/>
                  </a:lnTo>
                  <a:lnTo>
                    <a:pt x="1024" y="1116"/>
                  </a:lnTo>
                  <a:lnTo>
                    <a:pt x="1072" y="987"/>
                  </a:lnTo>
                  <a:lnTo>
                    <a:pt x="1091" y="833"/>
                  </a:lnTo>
                  <a:lnTo>
                    <a:pt x="1110" y="639"/>
                  </a:lnTo>
                  <a:lnTo>
                    <a:pt x="1091" y="403"/>
                  </a:lnTo>
                  <a:lnTo>
                    <a:pt x="1000" y="183"/>
                  </a:lnTo>
                  <a:lnTo>
                    <a:pt x="952" y="48"/>
                  </a:lnTo>
                  <a:lnTo>
                    <a:pt x="981" y="0"/>
                  </a:lnTo>
                  <a:lnTo>
                    <a:pt x="9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2840" y="3503880"/>
              <a:ext cx="167400" cy="477360"/>
            </a:xfrm>
            <a:custGeom>
              <a:avLst/>
              <a:gdLst/>
              <a:ahLst/>
              <a:rect l="l" t="t" r="r" b="b"/>
              <a:pathLst>
                <a:path w="236" h="707">
                  <a:moveTo>
                    <a:pt x="139" y="19"/>
                  </a:moveTo>
                  <a:lnTo>
                    <a:pt x="129" y="207"/>
                  </a:lnTo>
                  <a:lnTo>
                    <a:pt x="110" y="304"/>
                  </a:lnTo>
                  <a:lnTo>
                    <a:pt x="72" y="396"/>
                  </a:lnTo>
                  <a:lnTo>
                    <a:pt x="29" y="496"/>
                  </a:lnTo>
                  <a:lnTo>
                    <a:pt x="0" y="572"/>
                  </a:lnTo>
                  <a:lnTo>
                    <a:pt x="6" y="669"/>
                  </a:lnTo>
                  <a:lnTo>
                    <a:pt x="44" y="707"/>
                  </a:lnTo>
                  <a:lnTo>
                    <a:pt x="57" y="603"/>
                  </a:lnTo>
                  <a:lnTo>
                    <a:pt x="97" y="515"/>
                  </a:lnTo>
                  <a:lnTo>
                    <a:pt x="120" y="449"/>
                  </a:lnTo>
                  <a:lnTo>
                    <a:pt x="148" y="337"/>
                  </a:lnTo>
                  <a:lnTo>
                    <a:pt x="173" y="236"/>
                  </a:lnTo>
                  <a:lnTo>
                    <a:pt x="164" y="173"/>
                  </a:lnTo>
                  <a:lnTo>
                    <a:pt x="207" y="141"/>
                  </a:lnTo>
                  <a:lnTo>
                    <a:pt x="236" y="88"/>
                  </a:lnTo>
                  <a:lnTo>
                    <a:pt x="236" y="35"/>
                  </a:lnTo>
                  <a:lnTo>
                    <a:pt x="179" y="0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8840" y="3494520"/>
              <a:ext cx="811800" cy="240840"/>
            </a:xfrm>
            <a:custGeom>
              <a:avLst/>
              <a:gdLst/>
              <a:ahLst/>
              <a:rect l="l" t="t" r="r" b="b"/>
              <a:pathLst>
                <a:path w="1143" h="355">
                  <a:moveTo>
                    <a:pt x="1120" y="135"/>
                  </a:moveTo>
                  <a:lnTo>
                    <a:pt x="1019" y="163"/>
                  </a:lnTo>
                  <a:lnTo>
                    <a:pt x="840" y="211"/>
                  </a:lnTo>
                  <a:lnTo>
                    <a:pt x="724" y="230"/>
                  </a:lnTo>
                  <a:lnTo>
                    <a:pt x="548" y="239"/>
                  </a:lnTo>
                  <a:lnTo>
                    <a:pt x="428" y="220"/>
                  </a:lnTo>
                  <a:lnTo>
                    <a:pt x="234" y="186"/>
                  </a:lnTo>
                  <a:lnTo>
                    <a:pt x="158" y="167"/>
                  </a:lnTo>
                  <a:lnTo>
                    <a:pt x="101" y="144"/>
                  </a:lnTo>
                  <a:lnTo>
                    <a:pt x="101" y="116"/>
                  </a:lnTo>
                  <a:lnTo>
                    <a:pt x="196" y="53"/>
                  </a:lnTo>
                  <a:lnTo>
                    <a:pt x="240" y="13"/>
                  </a:lnTo>
                  <a:lnTo>
                    <a:pt x="202" y="0"/>
                  </a:lnTo>
                  <a:lnTo>
                    <a:pt x="120" y="29"/>
                  </a:lnTo>
                  <a:lnTo>
                    <a:pt x="70" y="57"/>
                  </a:lnTo>
                  <a:lnTo>
                    <a:pt x="38" y="82"/>
                  </a:lnTo>
                  <a:lnTo>
                    <a:pt x="0" y="135"/>
                  </a:lnTo>
                  <a:lnTo>
                    <a:pt x="13" y="186"/>
                  </a:lnTo>
                  <a:lnTo>
                    <a:pt x="67" y="211"/>
                  </a:lnTo>
                  <a:lnTo>
                    <a:pt x="205" y="279"/>
                  </a:lnTo>
                  <a:lnTo>
                    <a:pt x="359" y="327"/>
                  </a:lnTo>
                  <a:lnTo>
                    <a:pt x="498" y="346"/>
                  </a:lnTo>
                  <a:lnTo>
                    <a:pt x="664" y="355"/>
                  </a:lnTo>
                  <a:lnTo>
                    <a:pt x="831" y="340"/>
                  </a:lnTo>
                  <a:lnTo>
                    <a:pt x="1004" y="308"/>
                  </a:lnTo>
                  <a:lnTo>
                    <a:pt x="1101" y="279"/>
                  </a:lnTo>
                  <a:lnTo>
                    <a:pt x="1129" y="239"/>
                  </a:lnTo>
                  <a:lnTo>
                    <a:pt x="1143" y="177"/>
                  </a:lnTo>
                  <a:lnTo>
                    <a:pt x="1120" y="135"/>
                  </a:lnTo>
                  <a:lnTo>
                    <a:pt x="112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7320" y="2656800"/>
              <a:ext cx="186120" cy="892800"/>
            </a:xfrm>
            <a:custGeom>
              <a:avLst/>
              <a:gdLst/>
              <a:ahLst/>
              <a:rect l="l" t="t" r="r" b="b"/>
              <a:pathLst>
                <a:path w="260" h="1319">
                  <a:moveTo>
                    <a:pt x="188" y="15"/>
                  </a:moveTo>
                  <a:lnTo>
                    <a:pt x="217" y="207"/>
                  </a:lnTo>
                  <a:lnTo>
                    <a:pt x="236" y="462"/>
                  </a:lnTo>
                  <a:lnTo>
                    <a:pt x="260" y="747"/>
                  </a:lnTo>
                  <a:lnTo>
                    <a:pt x="260" y="1030"/>
                  </a:lnTo>
                  <a:lnTo>
                    <a:pt x="255" y="1112"/>
                  </a:lnTo>
                  <a:lnTo>
                    <a:pt x="217" y="1269"/>
                  </a:lnTo>
                  <a:lnTo>
                    <a:pt x="144" y="1319"/>
                  </a:lnTo>
                  <a:lnTo>
                    <a:pt x="135" y="1150"/>
                  </a:lnTo>
                  <a:lnTo>
                    <a:pt x="120" y="923"/>
                  </a:lnTo>
                  <a:lnTo>
                    <a:pt x="97" y="707"/>
                  </a:lnTo>
                  <a:lnTo>
                    <a:pt x="57" y="534"/>
                  </a:lnTo>
                  <a:lnTo>
                    <a:pt x="9" y="289"/>
                  </a:lnTo>
                  <a:lnTo>
                    <a:pt x="0" y="150"/>
                  </a:lnTo>
                  <a:lnTo>
                    <a:pt x="28" y="100"/>
                  </a:lnTo>
                  <a:lnTo>
                    <a:pt x="97" y="275"/>
                  </a:lnTo>
                  <a:lnTo>
                    <a:pt x="144" y="515"/>
                  </a:lnTo>
                  <a:lnTo>
                    <a:pt x="177" y="684"/>
                  </a:lnTo>
                  <a:lnTo>
                    <a:pt x="198" y="615"/>
                  </a:lnTo>
                  <a:lnTo>
                    <a:pt x="169" y="327"/>
                  </a:lnTo>
                  <a:lnTo>
                    <a:pt x="144" y="121"/>
                  </a:lnTo>
                  <a:lnTo>
                    <a:pt x="135" y="24"/>
                  </a:lnTo>
                  <a:lnTo>
                    <a:pt x="158" y="0"/>
                  </a:lnTo>
                  <a:lnTo>
                    <a:pt x="188" y="15"/>
                  </a:lnTo>
                  <a:lnTo>
                    <a:pt x="18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98200" y="3627000"/>
              <a:ext cx="912600" cy="436680"/>
            </a:xfrm>
            <a:custGeom>
              <a:avLst/>
              <a:gdLst/>
              <a:ahLst/>
              <a:rect l="l" t="t" r="r" b="b"/>
              <a:pathLst>
                <a:path w="1283" h="646">
                  <a:moveTo>
                    <a:pt x="1207" y="0"/>
                  </a:moveTo>
                  <a:lnTo>
                    <a:pt x="1192" y="125"/>
                  </a:lnTo>
                  <a:lnTo>
                    <a:pt x="1154" y="197"/>
                  </a:lnTo>
                  <a:lnTo>
                    <a:pt x="1072" y="317"/>
                  </a:lnTo>
                  <a:lnTo>
                    <a:pt x="1019" y="395"/>
                  </a:lnTo>
                  <a:lnTo>
                    <a:pt x="984" y="483"/>
                  </a:lnTo>
                  <a:lnTo>
                    <a:pt x="975" y="543"/>
                  </a:lnTo>
                  <a:lnTo>
                    <a:pt x="927" y="534"/>
                  </a:lnTo>
                  <a:lnTo>
                    <a:pt x="827" y="439"/>
                  </a:lnTo>
                  <a:lnTo>
                    <a:pt x="711" y="357"/>
                  </a:lnTo>
                  <a:lnTo>
                    <a:pt x="562" y="294"/>
                  </a:lnTo>
                  <a:lnTo>
                    <a:pt x="418" y="247"/>
                  </a:lnTo>
                  <a:lnTo>
                    <a:pt x="270" y="197"/>
                  </a:lnTo>
                  <a:lnTo>
                    <a:pt x="154" y="150"/>
                  </a:lnTo>
                  <a:lnTo>
                    <a:pt x="97" y="93"/>
                  </a:lnTo>
                  <a:lnTo>
                    <a:pt x="57" y="49"/>
                  </a:lnTo>
                  <a:lnTo>
                    <a:pt x="15" y="62"/>
                  </a:lnTo>
                  <a:lnTo>
                    <a:pt x="0" y="106"/>
                  </a:lnTo>
                  <a:lnTo>
                    <a:pt x="28" y="159"/>
                  </a:lnTo>
                  <a:lnTo>
                    <a:pt x="125" y="237"/>
                  </a:lnTo>
                  <a:lnTo>
                    <a:pt x="279" y="313"/>
                  </a:lnTo>
                  <a:lnTo>
                    <a:pt x="500" y="389"/>
                  </a:lnTo>
                  <a:lnTo>
                    <a:pt x="616" y="448"/>
                  </a:lnTo>
                  <a:lnTo>
                    <a:pt x="711" y="502"/>
                  </a:lnTo>
                  <a:lnTo>
                    <a:pt x="798" y="564"/>
                  </a:lnTo>
                  <a:lnTo>
                    <a:pt x="884" y="636"/>
                  </a:lnTo>
                  <a:lnTo>
                    <a:pt x="962" y="646"/>
                  </a:lnTo>
                  <a:lnTo>
                    <a:pt x="1015" y="646"/>
                  </a:lnTo>
                  <a:lnTo>
                    <a:pt x="1047" y="612"/>
                  </a:lnTo>
                  <a:lnTo>
                    <a:pt x="1053" y="564"/>
                  </a:lnTo>
                  <a:lnTo>
                    <a:pt x="1106" y="439"/>
                  </a:lnTo>
                  <a:lnTo>
                    <a:pt x="1173" y="338"/>
                  </a:lnTo>
                  <a:lnTo>
                    <a:pt x="1249" y="207"/>
                  </a:lnTo>
                  <a:lnTo>
                    <a:pt x="1279" y="106"/>
                  </a:lnTo>
                  <a:lnTo>
                    <a:pt x="1283" y="15"/>
                  </a:lnTo>
                  <a:lnTo>
                    <a:pt x="1207" y="0"/>
                  </a:lnTo>
                  <a:lnTo>
                    <a:pt x="1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15760" y="3348360"/>
              <a:ext cx="218880" cy="313560"/>
            </a:xfrm>
            <a:custGeom>
              <a:avLst/>
              <a:gdLst/>
              <a:ahLst/>
              <a:rect l="l" t="t" r="r" b="b"/>
              <a:pathLst>
                <a:path w="308" h="466">
                  <a:moveTo>
                    <a:pt x="216" y="23"/>
                  </a:moveTo>
                  <a:lnTo>
                    <a:pt x="203" y="135"/>
                  </a:lnTo>
                  <a:lnTo>
                    <a:pt x="163" y="227"/>
                  </a:lnTo>
                  <a:lnTo>
                    <a:pt x="91" y="327"/>
                  </a:lnTo>
                  <a:lnTo>
                    <a:pt x="0" y="447"/>
                  </a:lnTo>
                  <a:lnTo>
                    <a:pt x="28" y="466"/>
                  </a:lnTo>
                  <a:lnTo>
                    <a:pt x="78" y="462"/>
                  </a:lnTo>
                  <a:lnTo>
                    <a:pt x="159" y="380"/>
                  </a:lnTo>
                  <a:lnTo>
                    <a:pt x="232" y="289"/>
                  </a:lnTo>
                  <a:lnTo>
                    <a:pt x="275" y="207"/>
                  </a:lnTo>
                  <a:lnTo>
                    <a:pt x="308" y="82"/>
                  </a:lnTo>
                  <a:lnTo>
                    <a:pt x="294" y="38"/>
                  </a:lnTo>
                  <a:lnTo>
                    <a:pt x="275" y="10"/>
                  </a:lnTo>
                  <a:lnTo>
                    <a:pt x="241" y="0"/>
                  </a:lnTo>
                  <a:lnTo>
                    <a:pt x="216" y="23"/>
                  </a:lnTo>
                  <a:lnTo>
                    <a:pt x="21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47880" y="3188520"/>
              <a:ext cx="217440" cy="155520"/>
            </a:xfrm>
            <a:custGeom>
              <a:avLst/>
              <a:gdLst/>
              <a:ahLst/>
              <a:rect l="l" t="t" r="r" b="b"/>
              <a:pathLst>
                <a:path w="306" h="230">
                  <a:moveTo>
                    <a:pt x="171" y="57"/>
                  </a:moveTo>
                  <a:lnTo>
                    <a:pt x="192" y="38"/>
                  </a:lnTo>
                  <a:lnTo>
                    <a:pt x="240" y="38"/>
                  </a:lnTo>
                  <a:lnTo>
                    <a:pt x="287" y="85"/>
                  </a:lnTo>
                  <a:lnTo>
                    <a:pt x="306" y="148"/>
                  </a:lnTo>
                  <a:lnTo>
                    <a:pt x="274" y="182"/>
                  </a:lnTo>
                  <a:lnTo>
                    <a:pt x="211" y="211"/>
                  </a:lnTo>
                  <a:lnTo>
                    <a:pt x="124" y="230"/>
                  </a:lnTo>
                  <a:lnTo>
                    <a:pt x="48" y="192"/>
                  </a:lnTo>
                  <a:lnTo>
                    <a:pt x="4" y="135"/>
                  </a:lnTo>
                  <a:lnTo>
                    <a:pt x="0" y="81"/>
                  </a:lnTo>
                  <a:lnTo>
                    <a:pt x="29" y="28"/>
                  </a:lnTo>
                  <a:lnTo>
                    <a:pt x="76" y="0"/>
                  </a:lnTo>
                  <a:lnTo>
                    <a:pt x="129" y="19"/>
                  </a:lnTo>
                  <a:lnTo>
                    <a:pt x="139" y="57"/>
                  </a:lnTo>
                  <a:lnTo>
                    <a:pt x="101" y="91"/>
                  </a:lnTo>
                  <a:lnTo>
                    <a:pt x="80" y="116"/>
                  </a:lnTo>
                  <a:lnTo>
                    <a:pt x="114" y="157"/>
                  </a:lnTo>
                  <a:lnTo>
                    <a:pt x="158" y="182"/>
                  </a:lnTo>
                  <a:lnTo>
                    <a:pt x="181" y="154"/>
                  </a:lnTo>
                  <a:lnTo>
                    <a:pt x="202" y="116"/>
                  </a:lnTo>
                  <a:lnTo>
                    <a:pt x="186" y="85"/>
                  </a:lnTo>
                  <a:lnTo>
                    <a:pt x="171" y="57"/>
                  </a:lnTo>
                  <a:lnTo>
                    <a:pt x="17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87960" y="2399760"/>
              <a:ext cx="416520" cy="797040"/>
            </a:xfrm>
            <a:custGeom>
              <a:avLst/>
              <a:gdLst/>
              <a:ahLst/>
              <a:rect l="l" t="t" r="r" b="b"/>
              <a:pathLst>
                <a:path w="586" h="1178">
                  <a:moveTo>
                    <a:pt x="0" y="0"/>
                  </a:moveTo>
                  <a:lnTo>
                    <a:pt x="13" y="77"/>
                  </a:lnTo>
                  <a:lnTo>
                    <a:pt x="67" y="173"/>
                  </a:lnTo>
                  <a:lnTo>
                    <a:pt x="99" y="254"/>
                  </a:lnTo>
                  <a:lnTo>
                    <a:pt x="148" y="395"/>
                  </a:lnTo>
                  <a:lnTo>
                    <a:pt x="202" y="501"/>
                  </a:lnTo>
                  <a:lnTo>
                    <a:pt x="268" y="577"/>
                  </a:lnTo>
                  <a:lnTo>
                    <a:pt x="331" y="678"/>
                  </a:lnTo>
                  <a:lnTo>
                    <a:pt x="407" y="838"/>
                  </a:lnTo>
                  <a:lnTo>
                    <a:pt x="445" y="942"/>
                  </a:lnTo>
                  <a:lnTo>
                    <a:pt x="470" y="1039"/>
                  </a:lnTo>
                  <a:lnTo>
                    <a:pt x="489" y="1149"/>
                  </a:lnTo>
                  <a:lnTo>
                    <a:pt x="527" y="1178"/>
                  </a:lnTo>
                  <a:lnTo>
                    <a:pt x="557" y="1159"/>
                  </a:lnTo>
                  <a:lnTo>
                    <a:pt x="580" y="1115"/>
                  </a:lnTo>
                  <a:lnTo>
                    <a:pt x="586" y="1005"/>
                  </a:lnTo>
                  <a:lnTo>
                    <a:pt x="551" y="895"/>
                  </a:lnTo>
                  <a:lnTo>
                    <a:pt x="494" y="760"/>
                  </a:lnTo>
                  <a:lnTo>
                    <a:pt x="416" y="625"/>
                  </a:lnTo>
                  <a:lnTo>
                    <a:pt x="331" y="520"/>
                  </a:lnTo>
                  <a:lnTo>
                    <a:pt x="259" y="423"/>
                  </a:lnTo>
                  <a:lnTo>
                    <a:pt x="221" y="313"/>
                  </a:lnTo>
                  <a:lnTo>
                    <a:pt x="162" y="163"/>
                  </a:lnTo>
                  <a:lnTo>
                    <a:pt x="86" y="53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88760" y="2417400"/>
              <a:ext cx="970920" cy="313560"/>
            </a:xfrm>
            <a:custGeom>
              <a:avLst/>
              <a:gdLst/>
              <a:ahLst/>
              <a:rect l="l" t="t" r="r" b="b"/>
              <a:pathLst>
                <a:path w="1365" h="466">
                  <a:moveTo>
                    <a:pt x="5" y="19"/>
                  </a:moveTo>
                  <a:lnTo>
                    <a:pt x="81" y="0"/>
                  </a:lnTo>
                  <a:lnTo>
                    <a:pt x="226" y="19"/>
                  </a:lnTo>
                  <a:lnTo>
                    <a:pt x="389" y="57"/>
                  </a:lnTo>
                  <a:lnTo>
                    <a:pt x="591" y="139"/>
                  </a:lnTo>
                  <a:lnTo>
                    <a:pt x="811" y="226"/>
                  </a:lnTo>
                  <a:lnTo>
                    <a:pt x="984" y="304"/>
                  </a:lnTo>
                  <a:lnTo>
                    <a:pt x="1144" y="352"/>
                  </a:lnTo>
                  <a:lnTo>
                    <a:pt x="1365" y="405"/>
                  </a:lnTo>
                  <a:lnTo>
                    <a:pt x="1327" y="424"/>
                  </a:lnTo>
                  <a:lnTo>
                    <a:pt x="1249" y="456"/>
                  </a:lnTo>
                  <a:lnTo>
                    <a:pt x="1192" y="466"/>
                  </a:lnTo>
                  <a:lnTo>
                    <a:pt x="1053" y="447"/>
                  </a:lnTo>
                  <a:lnTo>
                    <a:pt x="846" y="380"/>
                  </a:lnTo>
                  <a:lnTo>
                    <a:pt x="629" y="283"/>
                  </a:lnTo>
                  <a:lnTo>
                    <a:pt x="443" y="217"/>
                  </a:lnTo>
                  <a:lnTo>
                    <a:pt x="302" y="145"/>
                  </a:lnTo>
                  <a:lnTo>
                    <a:pt x="144" y="82"/>
                  </a:lnTo>
                  <a:lnTo>
                    <a:pt x="49" y="63"/>
                  </a:lnTo>
                  <a:lnTo>
                    <a:pt x="0" y="53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15760" y="2325600"/>
              <a:ext cx="992520" cy="335160"/>
            </a:xfrm>
            <a:custGeom>
              <a:avLst/>
              <a:gdLst/>
              <a:ahLst/>
              <a:rect l="l" t="t" r="r" b="b"/>
              <a:pathLst>
                <a:path w="1395" h="496">
                  <a:moveTo>
                    <a:pt x="5" y="48"/>
                  </a:moveTo>
                  <a:lnTo>
                    <a:pt x="207" y="73"/>
                  </a:lnTo>
                  <a:lnTo>
                    <a:pt x="386" y="130"/>
                  </a:lnTo>
                  <a:lnTo>
                    <a:pt x="568" y="198"/>
                  </a:lnTo>
                  <a:lnTo>
                    <a:pt x="751" y="295"/>
                  </a:lnTo>
                  <a:lnTo>
                    <a:pt x="886" y="361"/>
                  </a:lnTo>
                  <a:lnTo>
                    <a:pt x="1038" y="428"/>
                  </a:lnTo>
                  <a:lnTo>
                    <a:pt x="1159" y="458"/>
                  </a:lnTo>
                  <a:lnTo>
                    <a:pt x="1289" y="496"/>
                  </a:lnTo>
                  <a:lnTo>
                    <a:pt x="1346" y="491"/>
                  </a:lnTo>
                  <a:lnTo>
                    <a:pt x="1384" y="434"/>
                  </a:lnTo>
                  <a:lnTo>
                    <a:pt x="1395" y="371"/>
                  </a:lnTo>
                  <a:lnTo>
                    <a:pt x="1332" y="361"/>
                  </a:lnTo>
                  <a:lnTo>
                    <a:pt x="1260" y="371"/>
                  </a:lnTo>
                  <a:lnTo>
                    <a:pt x="1131" y="346"/>
                  </a:lnTo>
                  <a:lnTo>
                    <a:pt x="924" y="274"/>
                  </a:lnTo>
                  <a:lnTo>
                    <a:pt x="578" y="150"/>
                  </a:lnTo>
                  <a:lnTo>
                    <a:pt x="399" y="82"/>
                  </a:lnTo>
                  <a:lnTo>
                    <a:pt x="173" y="29"/>
                  </a:lnTo>
                  <a:lnTo>
                    <a:pt x="0" y="0"/>
                  </a:lnTo>
                  <a:lnTo>
                    <a:pt x="5" y="48"/>
                  </a:lnTo>
                  <a:lnTo>
                    <a:pt x="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6810480" y="1747800"/>
              <a:ext cx="1464840" cy="1828800"/>
              <a:chOff x="6810480" y="1747800"/>
              <a:chExt cx="1464840" cy="1828800"/>
            </a:xfrm>
          </p:grpSpPr>
          <p:sp>
            <p:nvSpPr>
              <p:cNvPr id="351" name=""/>
              <p:cNvSpPr/>
              <p:nvPr/>
            </p:nvSpPr>
            <p:spPr>
              <a:xfrm>
                <a:off x="7435800" y="1857240"/>
                <a:ext cx="0" cy="171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025840" y="2610720"/>
                <a:ext cx="249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5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50120" y="1747800"/>
                <a:ext cx="231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10480" y="2702880"/>
                <a:ext cx="127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0852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0932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8768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09056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8992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289640" y="2673000"/>
                <a:ext cx="0" cy="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09160" y="2440440"/>
                <a:ext cx="5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20320" y="2191320"/>
                <a:ext cx="5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10240" y="3314160"/>
                <a:ext cx="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10240" y="3081600"/>
                <a:ext cx="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10240" y="2965320"/>
                <a:ext cx="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66440" y="2526840"/>
                <a:ext cx="39960" cy="47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52400" y="2483640"/>
                <a:ext cx="21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033320" y="2635200"/>
                <a:ext cx="4104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35760" y="2487600"/>
                <a:ext cx="27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74720" y="2869200"/>
                <a:ext cx="3996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94440" y="2882880"/>
                <a:ext cx="258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74040" y="2897640"/>
                <a:ext cx="3996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22560" y="275688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572600" y="3260160"/>
                <a:ext cx="3960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61440" y="319104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82160" y="3013920"/>
                <a:ext cx="3960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14400" y="2958480"/>
                <a:ext cx="259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52560" y="2385000"/>
                <a:ext cx="39960" cy="47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234920" y="2349720"/>
                <a:ext cx="23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292520" y="2045160"/>
                <a:ext cx="3960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82360" y="2007360"/>
                <a:ext cx="243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45600" y="2091240"/>
                <a:ext cx="3960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494120" y="1953360"/>
                <a:ext cx="208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omic Sans MS"/>
                  </a:rPr>
                  <a:t>J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 txBox="1"/>
          <p:nvPr/>
        </p:nvSpPr>
        <p:spPr>
          <a:xfrm>
            <a:off x="1344600" y="2860560"/>
            <a:ext cx="6461280" cy="31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lotting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ordinate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63600" y="54086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3,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23160" y="207792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4,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4560" y="1459080"/>
            <a:ext cx="1349640" cy="14745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6923160" y="2871720"/>
            <a:ext cx="168120" cy="168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72000" y="3371760"/>
            <a:ext cx="2446200" cy="520560"/>
            <a:chOff x="4572000" y="3371760"/>
            <a:chExt cx="2446200" cy="520560"/>
          </a:xfrm>
        </p:grpSpPr>
        <p:sp>
          <p:nvSpPr>
            <p:cNvPr id="393" name=""/>
            <p:cNvSpPr/>
            <p:nvPr/>
          </p:nvSpPr>
          <p:spPr>
            <a:xfrm>
              <a:off x="4572000" y="3889440"/>
              <a:ext cx="2446200" cy="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3480" y="337176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righ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010280" y="2971800"/>
            <a:ext cx="1028520" cy="914400"/>
            <a:chOff x="7010280" y="2971800"/>
            <a:chExt cx="1028520" cy="914400"/>
          </a:xfrm>
        </p:grpSpPr>
        <p:sp>
          <p:nvSpPr>
            <p:cNvPr id="396" name=""/>
            <p:cNvSpPr/>
            <p:nvPr/>
          </p:nvSpPr>
          <p:spPr>
            <a:xfrm flipV="1">
              <a:off x="7010280" y="2971800"/>
              <a:ext cx="0" cy="91440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25120" y="300528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up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754000" y="3375000"/>
            <a:ext cx="1817640" cy="520560"/>
            <a:chOff x="2754000" y="3375000"/>
            <a:chExt cx="1817640" cy="520560"/>
          </a:xfrm>
        </p:grpSpPr>
        <p:sp>
          <p:nvSpPr>
            <p:cNvPr id="399" name=""/>
            <p:cNvSpPr/>
            <p:nvPr/>
          </p:nvSpPr>
          <p:spPr>
            <a:xfrm flipH="1">
              <a:off x="2754000" y="3886200"/>
              <a:ext cx="1817640" cy="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5760" y="3375000"/>
              <a:ext cx="101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left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670120" y="4956120"/>
            <a:ext cx="168480" cy="168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320120" y="3894120"/>
            <a:ext cx="1434240" cy="1128600"/>
            <a:chOff x="1320120" y="3894120"/>
            <a:chExt cx="1434240" cy="1128600"/>
          </a:xfrm>
        </p:grpSpPr>
        <p:sp>
          <p:nvSpPr>
            <p:cNvPr id="403" name=""/>
            <p:cNvSpPr/>
            <p:nvPr/>
          </p:nvSpPr>
          <p:spPr>
            <a:xfrm>
              <a:off x="1320120" y="4172040"/>
              <a:ext cx="140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down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4360" y="3894120"/>
              <a:ext cx="0" cy="112860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4821120" y="22050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0,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71600" y="417204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4,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74560" y="1459080"/>
            <a:ext cx="134964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76600" y="2879640"/>
            <a:ext cx="168480" cy="168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60840" y="2955960"/>
            <a:ext cx="1028520" cy="914400"/>
            <a:chOff x="4560840" y="2955960"/>
            <a:chExt cx="1028520" cy="914400"/>
          </a:xfrm>
        </p:grpSpPr>
        <p:sp>
          <p:nvSpPr>
            <p:cNvPr id="412" name=""/>
            <p:cNvSpPr/>
            <p:nvPr/>
          </p:nvSpPr>
          <p:spPr>
            <a:xfrm flipV="1">
              <a:off x="4560840" y="2955960"/>
              <a:ext cx="0" cy="91440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75680" y="298944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up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114640" y="3375000"/>
            <a:ext cx="2457360" cy="520560"/>
            <a:chOff x="2114640" y="3375000"/>
            <a:chExt cx="2457360" cy="520560"/>
          </a:xfrm>
        </p:grpSpPr>
        <p:sp>
          <p:nvSpPr>
            <p:cNvPr id="415" name=""/>
            <p:cNvSpPr/>
            <p:nvPr/>
          </p:nvSpPr>
          <p:spPr>
            <a:xfrm flipH="1">
              <a:off x="2114640" y="3886200"/>
              <a:ext cx="2457360" cy="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75760" y="3375000"/>
              <a:ext cx="101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left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030400" y="3786120"/>
            <a:ext cx="168120" cy="168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684360" y="1822320"/>
            <a:ext cx="13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(4,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935760" y="1687680"/>
            <a:ext cx="168480" cy="16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43560" y="3763800"/>
            <a:ext cx="168480" cy="168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6360" y="1314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0080" y="249696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3,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120" y="3146400"/>
            <a:ext cx="18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Comic Sans MS"/>
              </a:rPr>
              <a:t>(-3,-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71920" y="5259240"/>
            <a:ext cx="168120" cy="1684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752480" y="1731960"/>
            <a:ext cx="4628160" cy="4406760"/>
            <a:chOff x="1752480" y="1731960"/>
            <a:chExt cx="4628160" cy="4406760"/>
          </a:xfrm>
        </p:grpSpPr>
        <p:sp>
          <p:nvSpPr>
            <p:cNvPr id="428" name=""/>
            <p:cNvSpPr/>
            <p:nvPr/>
          </p:nvSpPr>
          <p:spPr>
            <a:xfrm>
              <a:off x="1882440" y="221292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82440" y="5946480"/>
              <a:ext cx="415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52480" y="5489280"/>
              <a:ext cx="25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2480" y="4803480"/>
              <a:ext cx="25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52480" y="4117680"/>
              <a:ext cx="25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52480" y="3431880"/>
              <a:ext cx="25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52480" y="2822400"/>
              <a:ext cx="25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5480" y="583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24880" y="583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04280" y="583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83680" y="583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63080" y="5832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66160" y="1731960"/>
              <a:ext cx="38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91120" y="5618160"/>
              <a:ext cx="38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66440" y="2655720"/>
            <a:ext cx="1078200" cy="2998080"/>
            <a:chOff x="766440" y="2655720"/>
            <a:chExt cx="1078200" cy="2998080"/>
          </a:xfrm>
        </p:grpSpPr>
        <p:sp>
          <p:nvSpPr>
            <p:cNvPr id="443" name=""/>
            <p:cNvSpPr/>
            <p:nvPr/>
          </p:nvSpPr>
          <p:spPr>
            <a:xfrm>
              <a:off x="853200" y="531648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5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0840" y="463680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10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5240" y="395100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15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6440" y="326520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20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440" y="265572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25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968120" y="5997600"/>
            <a:ext cx="4172040" cy="337320"/>
            <a:chOff x="1968120" y="5997600"/>
            <a:chExt cx="4172040" cy="337320"/>
          </a:xfrm>
        </p:grpSpPr>
        <p:sp>
          <p:nvSpPr>
            <p:cNvPr id="449" name=""/>
            <p:cNvSpPr/>
            <p:nvPr/>
          </p:nvSpPr>
          <p:spPr>
            <a:xfrm>
              <a:off x="1968120" y="5997600"/>
              <a:ext cx="81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1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75960" y="5997600"/>
              <a:ext cx="81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2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05040" y="5997600"/>
              <a:ext cx="81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3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34120" y="5997600"/>
              <a:ext cx="81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4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22240" y="5997600"/>
              <a:ext cx="81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$5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2268720" y="138276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ing Increas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259000" y="3218040"/>
            <a:ext cx="6284880" cy="2484720"/>
            <a:chOff x="2259000" y="3218040"/>
            <a:chExt cx="6284880" cy="2484720"/>
          </a:xfrm>
        </p:grpSpPr>
        <p:sp>
          <p:nvSpPr>
            <p:cNvPr id="456" name=""/>
            <p:cNvSpPr/>
            <p:nvPr/>
          </p:nvSpPr>
          <p:spPr>
            <a:xfrm>
              <a:off x="5759280" y="3218040"/>
              <a:ext cx="27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. (1,000, 50,0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59000" y="49384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938680" y="3689280"/>
            <a:ext cx="5605200" cy="1676880"/>
            <a:chOff x="2938680" y="3689280"/>
            <a:chExt cx="5605200" cy="1676880"/>
          </a:xfrm>
        </p:grpSpPr>
        <p:sp>
          <p:nvSpPr>
            <p:cNvPr id="459" name=""/>
            <p:cNvSpPr/>
            <p:nvPr/>
          </p:nvSpPr>
          <p:spPr>
            <a:xfrm>
              <a:off x="5759280" y="3689280"/>
              <a:ext cx="27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. (2,000, 75,0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38680" y="460188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624480" y="3535200"/>
            <a:ext cx="5109840" cy="1086840"/>
            <a:chOff x="3624480" y="3535200"/>
            <a:chExt cx="5109840" cy="1086840"/>
          </a:xfrm>
        </p:grpSpPr>
        <p:sp>
          <p:nvSpPr>
            <p:cNvPr id="462" name=""/>
            <p:cNvSpPr/>
            <p:nvPr/>
          </p:nvSpPr>
          <p:spPr>
            <a:xfrm>
              <a:off x="5759280" y="4162320"/>
              <a:ext cx="29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 (3,000, 150,0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24480" y="353520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316400" y="2881440"/>
            <a:ext cx="4417920" cy="2215440"/>
            <a:chOff x="4316400" y="2881440"/>
            <a:chExt cx="4417920" cy="2215440"/>
          </a:xfrm>
        </p:grpSpPr>
        <p:sp>
          <p:nvSpPr>
            <p:cNvPr id="465" name=""/>
            <p:cNvSpPr/>
            <p:nvPr/>
          </p:nvSpPr>
          <p:spPr>
            <a:xfrm>
              <a:off x="5759280" y="4637160"/>
              <a:ext cx="29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. (4,000, 200,0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16400" y="288144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996080" y="2424240"/>
            <a:ext cx="3738240" cy="3145680"/>
            <a:chOff x="4996080" y="2424240"/>
            <a:chExt cx="3738240" cy="3145680"/>
          </a:xfrm>
        </p:grpSpPr>
        <p:sp>
          <p:nvSpPr>
            <p:cNvPr id="468" name=""/>
            <p:cNvSpPr/>
            <p:nvPr/>
          </p:nvSpPr>
          <p:spPr>
            <a:xfrm>
              <a:off x="5759280" y="5110200"/>
              <a:ext cx="29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 (5,000, 225,00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96080" y="2424240"/>
              <a:ext cx="34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886040" y="2975040"/>
            <a:ext cx="3276360" cy="2971800"/>
          </a:xfrm>
          <a:custGeom>
            <a:avLst/>
            <a:gdLst/>
            <a:ahLst/>
            <a:rect l="l" t="t" r="r" b="b"/>
            <a:pathLst>
              <a:path w="2064" h="1872">
                <a:moveTo>
                  <a:pt x="0" y="1872"/>
                </a:moveTo>
                <a:cubicBezTo>
                  <a:pt x="104" y="1768"/>
                  <a:pt x="208" y="1664"/>
                  <a:pt x="336" y="1584"/>
                </a:cubicBezTo>
                <a:cubicBezTo>
                  <a:pt x="464" y="1504"/>
                  <a:pt x="624" y="1536"/>
                  <a:pt x="768" y="1392"/>
                </a:cubicBezTo>
                <a:cubicBezTo>
                  <a:pt x="912" y="1248"/>
                  <a:pt x="1056" y="904"/>
                  <a:pt x="1200" y="720"/>
                </a:cubicBezTo>
                <a:cubicBezTo>
                  <a:pt x="1344" y="536"/>
                  <a:pt x="1488" y="408"/>
                  <a:pt x="1632" y="288"/>
                </a:cubicBezTo>
                <a:cubicBezTo>
                  <a:pt x="1776" y="168"/>
                  <a:pt x="1920" y="84"/>
                  <a:pt x="2064" y="0"/>
                </a:cubicBezTo>
              </a:path>
            </a:pathLst>
          </a:custGeom>
          <a:noFill/>
          <a:ln cap="rnd" w="57240">
            <a:solidFill>
              <a:srgbClr val="00cc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6226200" y="1800360"/>
            <a:ext cx="2147760" cy="1358280"/>
            <a:chOff x="6226200" y="1800360"/>
            <a:chExt cx="2147760" cy="1358280"/>
          </a:xfrm>
        </p:grpSpPr>
        <p:sp>
          <p:nvSpPr>
            <p:cNvPr id="472" name=""/>
            <p:cNvSpPr/>
            <p:nvPr/>
          </p:nvSpPr>
          <p:spPr>
            <a:xfrm>
              <a:off x="6764400" y="1836720"/>
              <a:ext cx="1054080" cy="1051920"/>
            </a:xfrm>
            <a:custGeom>
              <a:avLst/>
              <a:gdLst/>
              <a:ahLst/>
              <a:rect l="l" t="t" r="r" b="b"/>
              <a:pathLst>
                <a:path w="1328" h="1327">
                  <a:moveTo>
                    <a:pt x="664" y="329"/>
                  </a:moveTo>
                  <a:lnTo>
                    <a:pt x="722" y="0"/>
                  </a:lnTo>
                  <a:lnTo>
                    <a:pt x="722" y="335"/>
                  </a:lnTo>
                  <a:lnTo>
                    <a:pt x="840" y="22"/>
                  </a:lnTo>
                  <a:lnTo>
                    <a:pt x="780" y="351"/>
                  </a:lnTo>
                  <a:lnTo>
                    <a:pt x="952" y="63"/>
                  </a:lnTo>
                  <a:lnTo>
                    <a:pt x="835" y="377"/>
                  </a:lnTo>
                  <a:lnTo>
                    <a:pt x="1055" y="124"/>
                  </a:lnTo>
                  <a:lnTo>
                    <a:pt x="883" y="411"/>
                  </a:lnTo>
                  <a:lnTo>
                    <a:pt x="1144" y="202"/>
                  </a:lnTo>
                  <a:lnTo>
                    <a:pt x="924" y="455"/>
                  </a:lnTo>
                  <a:lnTo>
                    <a:pt x="1218" y="295"/>
                  </a:lnTo>
                  <a:lnTo>
                    <a:pt x="957" y="505"/>
                  </a:lnTo>
                  <a:lnTo>
                    <a:pt x="1275" y="401"/>
                  </a:lnTo>
                  <a:lnTo>
                    <a:pt x="980" y="559"/>
                  </a:lnTo>
                  <a:lnTo>
                    <a:pt x="1312" y="514"/>
                  </a:lnTo>
                  <a:lnTo>
                    <a:pt x="993" y="618"/>
                  </a:lnTo>
                  <a:lnTo>
                    <a:pt x="1328" y="632"/>
                  </a:lnTo>
                  <a:lnTo>
                    <a:pt x="996" y="677"/>
                  </a:lnTo>
                  <a:lnTo>
                    <a:pt x="1323" y="751"/>
                  </a:lnTo>
                  <a:lnTo>
                    <a:pt x="988" y="736"/>
                  </a:lnTo>
                  <a:lnTo>
                    <a:pt x="1296" y="867"/>
                  </a:lnTo>
                  <a:lnTo>
                    <a:pt x="969" y="793"/>
                  </a:lnTo>
                  <a:lnTo>
                    <a:pt x="1249" y="976"/>
                  </a:lnTo>
                  <a:lnTo>
                    <a:pt x="941" y="845"/>
                  </a:lnTo>
                  <a:lnTo>
                    <a:pt x="1184" y="1076"/>
                  </a:lnTo>
                  <a:lnTo>
                    <a:pt x="905" y="892"/>
                  </a:lnTo>
                  <a:lnTo>
                    <a:pt x="1102" y="1163"/>
                  </a:lnTo>
                  <a:lnTo>
                    <a:pt x="859" y="931"/>
                  </a:lnTo>
                  <a:lnTo>
                    <a:pt x="1004" y="1232"/>
                  </a:lnTo>
                  <a:lnTo>
                    <a:pt x="807" y="961"/>
                  </a:lnTo>
                  <a:lnTo>
                    <a:pt x="898" y="1284"/>
                  </a:lnTo>
                  <a:lnTo>
                    <a:pt x="753" y="982"/>
                  </a:lnTo>
                  <a:lnTo>
                    <a:pt x="783" y="1316"/>
                  </a:lnTo>
                  <a:lnTo>
                    <a:pt x="694" y="993"/>
                  </a:lnTo>
                  <a:lnTo>
                    <a:pt x="664" y="1327"/>
                  </a:lnTo>
                  <a:lnTo>
                    <a:pt x="633" y="993"/>
                  </a:lnTo>
                  <a:lnTo>
                    <a:pt x="544" y="1316"/>
                  </a:lnTo>
                  <a:lnTo>
                    <a:pt x="575" y="982"/>
                  </a:lnTo>
                  <a:lnTo>
                    <a:pt x="429" y="1284"/>
                  </a:lnTo>
                  <a:lnTo>
                    <a:pt x="520" y="961"/>
                  </a:lnTo>
                  <a:lnTo>
                    <a:pt x="324" y="1232"/>
                  </a:lnTo>
                  <a:lnTo>
                    <a:pt x="468" y="931"/>
                  </a:lnTo>
                  <a:lnTo>
                    <a:pt x="227" y="1163"/>
                  </a:lnTo>
                  <a:lnTo>
                    <a:pt x="423" y="892"/>
                  </a:lnTo>
                  <a:lnTo>
                    <a:pt x="145" y="1076"/>
                  </a:lnTo>
                  <a:lnTo>
                    <a:pt x="386" y="845"/>
                  </a:lnTo>
                  <a:lnTo>
                    <a:pt x="79" y="978"/>
                  </a:lnTo>
                  <a:lnTo>
                    <a:pt x="360" y="793"/>
                  </a:lnTo>
                  <a:lnTo>
                    <a:pt x="32" y="868"/>
                  </a:lnTo>
                  <a:lnTo>
                    <a:pt x="341" y="736"/>
                  </a:lnTo>
                  <a:lnTo>
                    <a:pt x="5" y="752"/>
                  </a:lnTo>
                  <a:lnTo>
                    <a:pt x="332" y="677"/>
                  </a:lnTo>
                  <a:lnTo>
                    <a:pt x="0" y="633"/>
                  </a:lnTo>
                  <a:lnTo>
                    <a:pt x="335" y="618"/>
                  </a:lnTo>
                  <a:lnTo>
                    <a:pt x="16" y="514"/>
                  </a:lnTo>
                  <a:lnTo>
                    <a:pt x="349" y="559"/>
                  </a:lnTo>
                  <a:lnTo>
                    <a:pt x="53" y="401"/>
                  </a:lnTo>
                  <a:lnTo>
                    <a:pt x="372" y="505"/>
                  </a:lnTo>
                  <a:lnTo>
                    <a:pt x="109" y="297"/>
                  </a:lnTo>
                  <a:lnTo>
                    <a:pt x="403" y="455"/>
                  </a:lnTo>
                  <a:lnTo>
                    <a:pt x="183" y="204"/>
                  </a:lnTo>
                  <a:lnTo>
                    <a:pt x="445" y="411"/>
                  </a:lnTo>
                  <a:lnTo>
                    <a:pt x="273" y="124"/>
                  </a:lnTo>
                  <a:lnTo>
                    <a:pt x="492" y="377"/>
                  </a:lnTo>
                  <a:lnTo>
                    <a:pt x="376" y="63"/>
                  </a:lnTo>
                  <a:lnTo>
                    <a:pt x="546" y="351"/>
                  </a:lnTo>
                  <a:lnTo>
                    <a:pt x="486" y="22"/>
                  </a:lnTo>
                  <a:lnTo>
                    <a:pt x="603" y="335"/>
                  </a:lnTo>
                  <a:lnTo>
                    <a:pt x="603" y="0"/>
                  </a:lnTo>
                  <a:lnTo>
                    <a:pt x="664" y="329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85200" y="2425680"/>
              <a:ext cx="788760" cy="678960"/>
            </a:xfrm>
            <a:custGeom>
              <a:avLst/>
              <a:gdLst/>
              <a:ahLst/>
              <a:rect l="l" t="t" r="r" b="b"/>
              <a:pathLst>
                <a:path w="993" h="855">
                  <a:moveTo>
                    <a:pt x="768" y="487"/>
                  </a:moveTo>
                  <a:lnTo>
                    <a:pt x="770" y="485"/>
                  </a:lnTo>
                  <a:lnTo>
                    <a:pt x="777" y="482"/>
                  </a:lnTo>
                  <a:lnTo>
                    <a:pt x="788" y="477"/>
                  </a:lnTo>
                  <a:lnTo>
                    <a:pt x="802" y="469"/>
                  </a:lnTo>
                  <a:lnTo>
                    <a:pt x="818" y="461"/>
                  </a:lnTo>
                  <a:lnTo>
                    <a:pt x="836" y="451"/>
                  </a:lnTo>
                  <a:lnTo>
                    <a:pt x="857" y="440"/>
                  </a:lnTo>
                  <a:lnTo>
                    <a:pt x="877" y="428"/>
                  </a:lnTo>
                  <a:lnTo>
                    <a:pt x="898" y="415"/>
                  </a:lnTo>
                  <a:lnTo>
                    <a:pt x="918" y="402"/>
                  </a:lnTo>
                  <a:lnTo>
                    <a:pt x="937" y="389"/>
                  </a:lnTo>
                  <a:lnTo>
                    <a:pt x="954" y="376"/>
                  </a:lnTo>
                  <a:lnTo>
                    <a:pt x="969" y="363"/>
                  </a:lnTo>
                  <a:lnTo>
                    <a:pt x="981" y="350"/>
                  </a:lnTo>
                  <a:lnTo>
                    <a:pt x="989" y="339"/>
                  </a:lnTo>
                  <a:lnTo>
                    <a:pt x="993" y="328"/>
                  </a:lnTo>
                  <a:lnTo>
                    <a:pt x="992" y="316"/>
                  </a:lnTo>
                  <a:lnTo>
                    <a:pt x="985" y="301"/>
                  </a:lnTo>
                  <a:lnTo>
                    <a:pt x="973" y="281"/>
                  </a:lnTo>
                  <a:lnTo>
                    <a:pt x="958" y="261"/>
                  </a:lnTo>
                  <a:lnTo>
                    <a:pt x="937" y="239"/>
                  </a:lnTo>
                  <a:lnTo>
                    <a:pt x="917" y="216"/>
                  </a:lnTo>
                  <a:lnTo>
                    <a:pt x="892" y="191"/>
                  </a:lnTo>
                  <a:lnTo>
                    <a:pt x="869" y="168"/>
                  </a:lnTo>
                  <a:lnTo>
                    <a:pt x="844" y="145"/>
                  </a:lnTo>
                  <a:lnTo>
                    <a:pt x="820" y="123"/>
                  </a:lnTo>
                  <a:lnTo>
                    <a:pt x="798" y="104"/>
                  </a:lnTo>
                  <a:lnTo>
                    <a:pt x="777" y="86"/>
                  </a:lnTo>
                  <a:lnTo>
                    <a:pt x="761" y="71"/>
                  </a:lnTo>
                  <a:lnTo>
                    <a:pt x="747" y="60"/>
                  </a:lnTo>
                  <a:lnTo>
                    <a:pt x="739" y="53"/>
                  </a:lnTo>
                  <a:lnTo>
                    <a:pt x="736" y="50"/>
                  </a:lnTo>
                  <a:lnTo>
                    <a:pt x="524" y="0"/>
                  </a:lnTo>
                  <a:lnTo>
                    <a:pt x="303" y="27"/>
                  </a:lnTo>
                  <a:lnTo>
                    <a:pt x="115" y="88"/>
                  </a:lnTo>
                  <a:lnTo>
                    <a:pt x="135" y="413"/>
                  </a:lnTo>
                  <a:lnTo>
                    <a:pt x="0" y="855"/>
                  </a:lnTo>
                  <a:lnTo>
                    <a:pt x="654" y="855"/>
                  </a:lnTo>
                  <a:lnTo>
                    <a:pt x="611" y="566"/>
                  </a:lnTo>
                  <a:lnTo>
                    <a:pt x="709" y="291"/>
                  </a:lnTo>
                  <a:lnTo>
                    <a:pt x="829" y="348"/>
                  </a:lnTo>
                  <a:lnTo>
                    <a:pt x="735" y="426"/>
                  </a:lnTo>
                  <a:lnTo>
                    <a:pt x="768" y="487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47120" y="2036520"/>
              <a:ext cx="412560" cy="488520"/>
            </a:xfrm>
            <a:custGeom>
              <a:avLst/>
              <a:gdLst/>
              <a:ahLst/>
              <a:rect l="l" t="t" r="r" b="b"/>
              <a:pathLst>
                <a:path w="520" h="617">
                  <a:moveTo>
                    <a:pt x="45" y="169"/>
                  </a:moveTo>
                  <a:lnTo>
                    <a:pt x="45" y="158"/>
                  </a:lnTo>
                  <a:lnTo>
                    <a:pt x="43" y="136"/>
                  </a:lnTo>
                  <a:lnTo>
                    <a:pt x="42" y="115"/>
                  </a:lnTo>
                  <a:lnTo>
                    <a:pt x="42" y="104"/>
                  </a:lnTo>
                  <a:lnTo>
                    <a:pt x="45" y="88"/>
                  </a:lnTo>
                  <a:lnTo>
                    <a:pt x="50" y="73"/>
                  </a:lnTo>
                  <a:lnTo>
                    <a:pt x="57" y="61"/>
                  </a:lnTo>
                  <a:lnTo>
                    <a:pt x="65" y="50"/>
                  </a:lnTo>
                  <a:lnTo>
                    <a:pt x="76" y="39"/>
                  </a:lnTo>
                  <a:lnTo>
                    <a:pt x="86" y="28"/>
                  </a:lnTo>
                  <a:lnTo>
                    <a:pt x="98" y="17"/>
                  </a:lnTo>
                  <a:lnTo>
                    <a:pt x="109" y="5"/>
                  </a:lnTo>
                  <a:lnTo>
                    <a:pt x="147" y="0"/>
                  </a:lnTo>
                  <a:lnTo>
                    <a:pt x="182" y="0"/>
                  </a:lnTo>
                  <a:lnTo>
                    <a:pt x="213" y="5"/>
                  </a:lnTo>
                  <a:lnTo>
                    <a:pt x="242" y="11"/>
                  </a:lnTo>
                  <a:lnTo>
                    <a:pt x="267" y="21"/>
                  </a:lnTo>
                  <a:lnTo>
                    <a:pt x="290" y="33"/>
                  </a:lnTo>
                  <a:lnTo>
                    <a:pt x="310" y="47"/>
                  </a:lnTo>
                  <a:lnTo>
                    <a:pt x="328" y="61"/>
                  </a:lnTo>
                  <a:lnTo>
                    <a:pt x="343" y="76"/>
                  </a:lnTo>
                  <a:lnTo>
                    <a:pt x="356" y="91"/>
                  </a:lnTo>
                  <a:lnTo>
                    <a:pt x="366" y="104"/>
                  </a:lnTo>
                  <a:lnTo>
                    <a:pt x="375" y="117"/>
                  </a:lnTo>
                  <a:lnTo>
                    <a:pt x="382" y="128"/>
                  </a:lnTo>
                  <a:lnTo>
                    <a:pt x="386" y="137"/>
                  </a:lnTo>
                  <a:lnTo>
                    <a:pt x="388" y="143"/>
                  </a:lnTo>
                  <a:lnTo>
                    <a:pt x="390" y="144"/>
                  </a:lnTo>
                  <a:lnTo>
                    <a:pt x="420" y="114"/>
                  </a:lnTo>
                  <a:lnTo>
                    <a:pt x="444" y="103"/>
                  </a:lnTo>
                  <a:lnTo>
                    <a:pt x="464" y="106"/>
                  </a:lnTo>
                  <a:lnTo>
                    <a:pt x="480" y="119"/>
                  </a:lnTo>
                  <a:lnTo>
                    <a:pt x="494" y="140"/>
                  </a:lnTo>
                  <a:lnTo>
                    <a:pt x="505" y="162"/>
                  </a:lnTo>
                  <a:lnTo>
                    <a:pt x="513" y="185"/>
                  </a:lnTo>
                  <a:lnTo>
                    <a:pt x="520" y="202"/>
                  </a:lnTo>
                  <a:lnTo>
                    <a:pt x="438" y="359"/>
                  </a:lnTo>
                  <a:lnTo>
                    <a:pt x="428" y="498"/>
                  </a:lnTo>
                  <a:lnTo>
                    <a:pt x="273" y="617"/>
                  </a:lnTo>
                  <a:lnTo>
                    <a:pt x="225" y="519"/>
                  </a:lnTo>
                  <a:lnTo>
                    <a:pt x="205" y="431"/>
                  </a:lnTo>
                  <a:lnTo>
                    <a:pt x="204" y="431"/>
                  </a:lnTo>
                  <a:lnTo>
                    <a:pt x="201" y="433"/>
                  </a:lnTo>
                  <a:lnTo>
                    <a:pt x="197" y="435"/>
                  </a:lnTo>
                  <a:lnTo>
                    <a:pt x="190" y="438"/>
                  </a:lnTo>
                  <a:lnTo>
                    <a:pt x="183" y="441"/>
                  </a:lnTo>
                  <a:lnTo>
                    <a:pt x="175" y="444"/>
                  </a:lnTo>
                  <a:lnTo>
                    <a:pt x="165" y="446"/>
                  </a:lnTo>
                  <a:lnTo>
                    <a:pt x="154" y="449"/>
                  </a:lnTo>
                  <a:lnTo>
                    <a:pt x="142" y="451"/>
                  </a:lnTo>
                  <a:lnTo>
                    <a:pt x="128" y="453"/>
                  </a:lnTo>
                  <a:lnTo>
                    <a:pt x="113" y="455"/>
                  </a:lnTo>
                  <a:lnTo>
                    <a:pt x="98" y="456"/>
                  </a:lnTo>
                  <a:lnTo>
                    <a:pt x="84" y="455"/>
                  </a:lnTo>
                  <a:lnTo>
                    <a:pt x="72" y="449"/>
                  </a:lnTo>
                  <a:lnTo>
                    <a:pt x="61" y="441"/>
                  </a:lnTo>
                  <a:lnTo>
                    <a:pt x="54" y="429"/>
                  </a:lnTo>
                  <a:lnTo>
                    <a:pt x="52" y="420"/>
                  </a:lnTo>
                  <a:lnTo>
                    <a:pt x="53" y="409"/>
                  </a:lnTo>
                  <a:lnTo>
                    <a:pt x="54" y="397"/>
                  </a:lnTo>
                  <a:lnTo>
                    <a:pt x="56" y="383"/>
                  </a:lnTo>
                  <a:lnTo>
                    <a:pt x="53" y="378"/>
                  </a:lnTo>
                  <a:lnTo>
                    <a:pt x="49" y="370"/>
                  </a:lnTo>
                  <a:lnTo>
                    <a:pt x="43" y="363"/>
                  </a:lnTo>
                  <a:lnTo>
                    <a:pt x="41" y="356"/>
                  </a:lnTo>
                  <a:lnTo>
                    <a:pt x="56" y="356"/>
                  </a:lnTo>
                  <a:lnTo>
                    <a:pt x="69" y="356"/>
                  </a:lnTo>
                  <a:lnTo>
                    <a:pt x="82" y="356"/>
                  </a:lnTo>
                  <a:lnTo>
                    <a:pt x="93" y="355"/>
                  </a:lnTo>
                  <a:lnTo>
                    <a:pt x="101" y="352"/>
                  </a:lnTo>
                  <a:lnTo>
                    <a:pt x="108" y="351"/>
                  </a:lnTo>
                  <a:lnTo>
                    <a:pt x="112" y="347"/>
                  </a:lnTo>
                  <a:lnTo>
                    <a:pt x="113" y="344"/>
                  </a:lnTo>
                  <a:lnTo>
                    <a:pt x="124" y="341"/>
                  </a:lnTo>
                  <a:lnTo>
                    <a:pt x="124" y="337"/>
                  </a:lnTo>
                  <a:lnTo>
                    <a:pt x="121" y="331"/>
                  </a:lnTo>
                  <a:lnTo>
                    <a:pt x="119" y="323"/>
                  </a:lnTo>
                  <a:lnTo>
                    <a:pt x="115" y="321"/>
                  </a:lnTo>
                  <a:lnTo>
                    <a:pt x="105" y="319"/>
                  </a:lnTo>
                  <a:lnTo>
                    <a:pt x="93" y="316"/>
                  </a:lnTo>
                  <a:lnTo>
                    <a:pt x="78" y="315"/>
                  </a:lnTo>
                  <a:lnTo>
                    <a:pt x="61" y="312"/>
                  </a:lnTo>
                  <a:lnTo>
                    <a:pt x="49" y="311"/>
                  </a:lnTo>
                  <a:lnTo>
                    <a:pt x="39" y="308"/>
                  </a:lnTo>
                  <a:lnTo>
                    <a:pt x="35" y="307"/>
                  </a:lnTo>
                  <a:lnTo>
                    <a:pt x="38" y="303"/>
                  </a:lnTo>
                  <a:lnTo>
                    <a:pt x="41" y="292"/>
                  </a:lnTo>
                  <a:lnTo>
                    <a:pt x="41" y="278"/>
                  </a:lnTo>
                  <a:lnTo>
                    <a:pt x="41" y="273"/>
                  </a:lnTo>
                  <a:lnTo>
                    <a:pt x="0" y="258"/>
                  </a:lnTo>
                  <a:lnTo>
                    <a:pt x="45" y="169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8400" y="2165040"/>
              <a:ext cx="95400" cy="45720"/>
            </a:xfrm>
            <a:custGeom>
              <a:avLst/>
              <a:gdLst/>
              <a:ahLst/>
              <a:rect l="l" t="t" r="r" b="b"/>
              <a:pathLst>
                <a:path w="120" h="58">
                  <a:moveTo>
                    <a:pt x="65" y="2"/>
                  </a:moveTo>
                  <a:lnTo>
                    <a:pt x="75" y="4"/>
                  </a:lnTo>
                  <a:lnTo>
                    <a:pt x="84" y="7"/>
                  </a:lnTo>
                  <a:lnTo>
                    <a:pt x="93" y="11"/>
                  </a:lnTo>
                  <a:lnTo>
                    <a:pt x="101" y="17"/>
                  </a:lnTo>
                  <a:lnTo>
                    <a:pt x="106" y="22"/>
                  </a:lnTo>
                  <a:lnTo>
                    <a:pt x="112" y="28"/>
                  </a:lnTo>
                  <a:lnTo>
                    <a:pt x="117" y="34"/>
                  </a:lnTo>
                  <a:lnTo>
                    <a:pt x="120" y="41"/>
                  </a:lnTo>
                  <a:lnTo>
                    <a:pt x="115" y="47"/>
                  </a:lnTo>
                  <a:lnTo>
                    <a:pt x="108" y="49"/>
                  </a:lnTo>
                  <a:lnTo>
                    <a:pt x="101" y="54"/>
                  </a:lnTo>
                  <a:lnTo>
                    <a:pt x="93" y="56"/>
                  </a:lnTo>
                  <a:lnTo>
                    <a:pt x="83" y="58"/>
                  </a:lnTo>
                  <a:lnTo>
                    <a:pt x="75" y="58"/>
                  </a:lnTo>
                  <a:lnTo>
                    <a:pt x="64" y="58"/>
                  </a:lnTo>
                  <a:lnTo>
                    <a:pt x="54" y="56"/>
                  </a:lnTo>
                  <a:lnTo>
                    <a:pt x="45" y="54"/>
                  </a:lnTo>
                  <a:lnTo>
                    <a:pt x="37" y="51"/>
                  </a:lnTo>
                  <a:lnTo>
                    <a:pt x="28" y="47"/>
                  </a:lnTo>
                  <a:lnTo>
                    <a:pt x="20" y="41"/>
                  </a:lnTo>
                  <a:lnTo>
                    <a:pt x="13" y="37"/>
                  </a:lnTo>
                  <a:lnTo>
                    <a:pt x="8" y="30"/>
                  </a:lnTo>
                  <a:lnTo>
                    <a:pt x="4" y="25"/>
                  </a:lnTo>
                  <a:lnTo>
                    <a:pt x="0" y="18"/>
                  </a:lnTo>
                  <a:lnTo>
                    <a:pt x="5" y="13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23080" y="2124000"/>
              <a:ext cx="103320" cy="51840"/>
            </a:xfrm>
            <a:custGeom>
              <a:avLst/>
              <a:gdLst/>
              <a:ahLst/>
              <a:rect l="l" t="t" r="r" b="b"/>
              <a:pathLst>
                <a:path w="130" h="66">
                  <a:moveTo>
                    <a:pt x="119" y="63"/>
                  </a:moveTo>
                  <a:lnTo>
                    <a:pt x="119" y="63"/>
                  </a:lnTo>
                  <a:lnTo>
                    <a:pt x="119" y="62"/>
                  </a:lnTo>
                  <a:lnTo>
                    <a:pt x="116" y="58"/>
                  </a:lnTo>
                  <a:lnTo>
                    <a:pt x="114" y="52"/>
                  </a:lnTo>
                  <a:lnTo>
                    <a:pt x="108" y="45"/>
                  </a:lnTo>
                  <a:lnTo>
                    <a:pt x="103" y="37"/>
                  </a:lnTo>
                  <a:lnTo>
                    <a:pt x="95" y="30"/>
                  </a:lnTo>
                  <a:lnTo>
                    <a:pt x="86" y="23"/>
                  </a:lnTo>
                  <a:lnTo>
                    <a:pt x="75" y="18"/>
                  </a:lnTo>
                  <a:lnTo>
                    <a:pt x="68" y="15"/>
                  </a:lnTo>
                  <a:lnTo>
                    <a:pt x="60" y="14"/>
                  </a:lnTo>
                  <a:lnTo>
                    <a:pt x="52" y="13"/>
                  </a:lnTo>
                  <a:lnTo>
                    <a:pt x="44" y="13"/>
                  </a:lnTo>
                  <a:lnTo>
                    <a:pt x="36" y="14"/>
                  </a:lnTo>
                  <a:lnTo>
                    <a:pt x="26" y="17"/>
                  </a:lnTo>
                  <a:lnTo>
                    <a:pt x="18" y="19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4" y="8"/>
                  </a:lnTo>
                  <a:lnTo>
                    <a:pt x="23" y="4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2" y="2"/>
                  </a:lnTo>
                  <a:lnTo>
                    <a:pt x="71" y="3"/>
                  </a:lnTo>
                  <a:lnTo>
                    <a:pt x="79" y="6"/>
                  </a:lnTo>
                  <a:lnTo>
                    <a:pt x="92" y="13"/>
                  </a:lnTo>
                  <a:lnTo>
                    <a:pt x="103" y="21"/>
                  </a:lnTo>
                  <a:lnTo>
                    <a:pt x="111" y="29"/>
                  </a:lnTo>
                  <a:lnTo>
                    <a:pt x="118" y="37"/>
                  </a:lnTo>
                  <a:lnTo>
                    <a:pt x="123" y="45"/>
                  </a:lnTo>
                  <a:lnTo>
                    <a:pt x="127" y="52"/>
                  </a:lnTo>
                  <a:lnTo>
                    <a:pt x="129" y="56"/>
                  </a:lnTo>
                  <a:lnTo>
                    <a:pt x="130" y="59"/>
                  </a:lnTo>
                  <a:lnTo>
                    <a:pt x="130" y="59"/>
                  </a:lnTo>
                  <a:lnTo>
                    <a:pt x="130" y="62"/>
                  </a:lnTo>
                  <a:lnTo>
                    <a:pt x="130" y="63"/>
                  </a:lnTo>
                  <a:lnTo>
                    <a:pt x="129" y="65"/>
                  </a:lnTo>
                  <a:lnTo>
                    <a:pt x="127" y="66"/>
                  </a:lnTo>
                  <a:lnTo>
                    <a:pt x="125" y="66"/>
                  </a:lnTo>
                  <a:lnTo>
                    <a:pt x="123" y="66"/>
                  </a:lnTo>
                  <a:lnTo>
                    <a:pt x="121" y="65"/>
                  </a:lnTo>
                  <a:lnTo>
                    <a:pt x="119" y="63"/>
                  </a:lnTo>
                  <a:lnTo>
                    <a:pt x="1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729560" y="2166840"/>
              <a:ext cx="33480" cy="345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17" y="42"/>
                  </a:moveTo>
                  <a:lnTo>
                    <a:pt x="8" y="38"/>
                  </a:lnTo>
                  <a:lnTo>
                    <a:pt x="3" y="33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4" y="8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9" y="10"/>
                  </a:lnTo>
                  <a:lnTo>
                    <a:pt x="43" y="16"/>
                  </a:lnTo>
                  <a:lnTo>
                    <a:pt x="43" y="25"/>
                  </a:lnTo>
                  <a:lnTo>
                    <a:pt x="39" y="33"/>
                  </a:lnTo>
                  <a:lnTo>
                    <a:pt x="33" y="38"/>
                  </a:lnTo>
                  <a:lnTo>
                    <a:pt x="25" y="42"/>
                  </a:lnTo>
                  <a:lnTo>
                    <a:pt x="17" y="42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36040" y="2176200"/>
              <a:ext cx="15840" cy="154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7" y="19"/>
                  </a:moveTo>
                  <a:lnTo>
                    <a:pt x="3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1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48640" y="2178000"/>
              <a:ext cx="7920" cy="5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lnTo>
                    <a:pt x="3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5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51800" y="1976400"/>
              <a:ext cx="487440" cy="410760"/>
            </a:xfrm>
            <a:custGeom>
              <a:avLst/>
              <a:gdLst/>
              <a:ahLst/>
              <a:rect l="l" t="t" r="r" b="b"/>
              <a:pathLst>
                <a:path w="615" h="519">
                  <a:moveTo>
                    <a:pt x="248" y="129"/>
                  </a:moveTo>
                  <a:lnTo>
                    <a:pt x="238" y="168"/>
                  </a:lnTo>
                  <a:lnTo>
                    <a:pt x="0" y="151"/>
                  </a:lnTo>
                  <a:lnTo>
                    <a:pt x="1" y="145"/>
                  </a:lnTo>
                  <a:lnTo>
                    <a:pt x="6" y="130"/>
                  </a:lnTo>
                  <a:lnTo>
                    <a:pt x="16" y="110"/>
                  </a:lnTo>
                  <a:lnTo>
                    <a:pt x="33" y="85"/>
                  </a:lnTo>
                  <a:lnTo>
                    <a:pt x="58" y="59"/>
                  </a:lnTo>
                  <a:lnTo>
                    <a:pt x="93" y="34"/>
                  </a:lnTo>
                  <a:lnTo>
                    <a:pt x="140" y="15"/>
                  </a:lnTo>
                  <a:lnTo>
                    <a:pt x="200" y="3"/>
                  </a:lnTo>
                  <a:lnTo>
                    <a:pt x="223" y="2"/>
                  </a:lnTo>
                  <a:lnTo>
                    <a:pt x="246" y="0"/>
                  </a:lnTo>
                  <a:lnTo>
                    <a:pt x="271" y="2"/>
                  </a:lnTo>
                  <a:lnTo>
                    <a:pt x="296" y="3"/>
                  </a:lnTo>
                  <a:lnTo>
                    <a:pt x="318" y="6"/>
                  </a:lnTo>
                  <a:lnTo>
                    <a:pt x="340" y="8"/>
                  </a:lnTo>
                  <a:lnTo>
                    <a:pt x="359" y="12"/>
                  </a:lnTo>
                  <a:lnTo>
                    <a:pt x="374" y="17"/>
                  </a:lnTo>
                  <a:lnTo>
                    <a:pt x="387" y="21"/>
                  </a:lnTo>
                  <a:lnTo>
                    <a:pt x="400" y="26"/>
                  </a:lnTo>
                  <a:lnTo>
                    <a:pt x="412" y="30"/>
                  </a:lnTo>
                  <a:lnTo>
                    <a:pt x="423" y="36"/>
                  </a:lnTo>
                  <a:lnTo>
                    <a:pt x="431" y="40"/>
                  </a:lnTo>
                  <a:lnTo>
                    <a:pt x="439" y="45"/>
                  </a:lnTo>
                  <a:lnTo>
                    <a:pt x="446" y="49"/>
                  </a:lnTo>
                  <a:lnTo>
                    <a:pt x="452" y="54"/>
                  </a:lnTo>
                  <a:lnTo>
                    <a:pt x="490" y="80"/>
                  </a:lnTo>
                  <a:lnTo>
                    <a:pt x="523" y="107"/>
                  </a:lnTo>
                  <a:lnTo>
                    <a:pt x="550" y="134"/>
                  </a:lnTo>
                  <a:lnTo>
                    <a:pt x="572" y="163"/>
                  </a:lnTo>
                  <a:lnTo>
                    <a:pt x="589" y="190"/>
                  </a:lnTo>
                  <a:lnTo>
                    <a:pt x="601" y="219"/>
                  </a:lnTo>
                  <a:lnTo>
                    <a:pt x="611" y="248"/>
                  </a:lnTo>
                  <a:lnTo>
                    <a:pt x="615" y="277"/>
                  </a:lnTo>
                  <a:lnTo>
                    <a:pt x="613" y="324"/>
                  </a:lnTo>
                  <a:lnTo>
                    <a:pt x="600" y="370"/>
                  </a:lnTo>
                  <a:lnTo>
                    <a:pt x="579" y="411"/>
                  </a:lnTo>
                  <a:lnTo>
                    <a:pt x="554" y="446"/>
                  </a:lnTo>
                  <a:lnTo>
                    <a:pt x="528" y="476"/>
                  </a:lnTo>
                  <a:lnTo>
                    <a:pt x="505" y="500"/>
                  </a:lnTo>
                  <a:lnTo>
                    <a:pt x="490" y="513"/>
                  </a:lnTo>
                  <a:lnTo>
                    <a:pt x="483" y="519"/>
                  </a:lnTo>
                  <a:lnTo>
                    <a:pt x="305" y="452"/>
                  </a:lnTo>
                  <a:lnTo>
                    <a:pt x="331" y="416"/>
                  </a:lnTo>
                  <a:lnTo>
                    <a:pt x="349" y="380"/>
                  </a:lnTo>
                  <a:lnTo>
                    <a:pt x="360" y="346"/>
                  </a:lnTo>
                  <a:lnTo>
                    <a:pt x="366" y="315"/>
                  </a:lnTo>
                  <a:lnTo>
                    <a:pt x="367" y="286"/>
                  </a:lnTo>
                  <a:lnTo>
                    <a:pt x="366" y="264"/>
                  </a:lnTo>
                  <a:lnTo>
                    <a:pt x="363" y="249"/>
                  </a:lnTo>
                  <a:lnTo>
                    <a:pt x="361" y="241"/>
                  </a:lnTo>
                  <a:lnTo>
                    <a:pt x="353" y="226"/>
                  </a:lnTo>
                  <a:lnTo>
                    <a:pt x="345" y="209"/>
                  </a:lnTo>
                  <a:lnTo>
                    <a:pt x="334" y="194"/>
                  </a:lnTo>
                  <a:lnTo>
                    <a:pt x="322" y="178"/>
                  </a:lnTo>
                  <a:lnTo>
                    <a:pt x="308" y="163"/>
                  </a:lnTo>
                  <a:lnTo>
                    <a:pt x="292" y="149"/>
                  </a:lnTo>
                  <a:lnTo>
                    <a:pt x="271" y="138"/>
                  </a:lnTo>
                  <a:lnTo>
                    <a:pt x="24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21800" y="2166840"/>
              <a:ext cx="63360" cy="6768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36" y="85"/>
                  </a:moveTo>
                  <a:lnTo>
                    <a:pt x="44" y="85"/>
                  </a:lnTo>
                  <a:lnTo>
                    <a:pt x="51" y="82"/>
                  </a:lnTo>
                  <a:lnTo>
                    <a:pt x="59" y="79"/>
                  </a:lnTo>
                  <a:lnTo>
                    <a:pt x="64" y="75"/>
                  </a:lnTo>
                  <a:lnTo>
                    <a:pt x="70" y="68"/>
                  </a:lnTo>
                  <a:lnTo>
                    <a:pt x="74" y="62"/>
                  </a:lnTo>
                  <a:lnTo>
                    <a:pt x="78" y="53"/>
                  </a:lnTo>
                  <a:lnTo>
                    <a:pt x="79" y="45"/>
                  </a:lnTo>
                  <a:lnTo>
                    <a:pt x="78" y="29"/>
                  </a:lnTo>
                  <a:lnTo>
                    <a:pt x="70" y="1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0" y="5"/>
                  </a:lnTo>
                  <a:lnTo>
                    <a:pt x="15" y="11"/>
                  </a:lnTo>
                  <a:lnTo>
                    <a:pt x="10" y="16"/>
                  </a:lnTo>
                  <a:lnTo>
                    <a:pt x="5" y="23"/>
                  </a:lnTo>
                  <a:lnTo>
                    <a:pt x="1" y="31"/>
                  </a:lnTo>
                  <a:lnTo>
                    <a:pt x="0" y="40"/>
                  </a:lnTo>
                  <a:lnTo>
                    <a:pt x="3" y="56"/>
                  </a:lnTo>
                  <a:lnTo>
                    <a:pt x="10" y="70"/>
                  </a:lnTo>
                  <a:lnTo>
                    <a:pt x="20" y="81"/>
                  </a:lnTo>
                  <a:lnTo>
                    <a:pt x="36" y="8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939080" y="2211120"/>
              <a:ext cx="17640" cy="154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9" y="20"/>
                  </a:moveTo>
                  <a:lnTo>
                    <a:pt x="14" y="20"/>
                  </a:lnTo>
                  <a:lnTo>
                    <a:pt x="18" y="19"/>
                  </a:lnTo>
                  <a:lnTo>
                    <a:pt x="19" y="15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19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14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04000" y="2001600"/>
              <a:ext cx="114480" cy="80640"/>
            </a:xfrm>
            <a:custGeom>
              <a:avLst/>
              <a:gdLst/>
              <a:ahLst/>
              <a:rect l="l" t="t" r="r" b="b"/>
              <a:pathLst>
                <a:path w="145" h="101">
                  <a:moveTo>
                    <a:pt x="145" y="0"/>
                  </a:moveTo>
                  <a:lnTo>
                    <a:pt x="139" y="1"/>
                  </a:lnTo>
                  <a:lnTo>
                    <a:pt x="127" y="3"/>
                  </a:lnTo>
                  <a:lnTo>
                    <a:pt x="108" y="8"/>
                  </a:lnTo>
                  <a:lnTo>
                    <a:pt x="85" y="18"/>
                  </a:lnTo>
                  <a:lnTo>
                    <a:pt x="60" y="30"/>
                  </a:lnTo>
                  <a:lnTo>
                    <a:pt x="37" y="48"/>
                  </a:lnTo>
                  <a:lnTo>
                    <a:pt x="15" y="71"/>
                  </a:lnTo>
                  <a:lnTo>
                    <a:pt x="0" y="101"/>
                  </a:lnTo>
                  <a:lnTo>
                    <a:pt x="3" y="97"/>
                  </a:lnTo>
                  <a:lnTo>
                    <a:pt x="12" y="89"/>
                  </a:lnTo>
                  <a:lnTo>
                    <a:pt x="26" y="75"/>
                  </a:lnTo>
                  <a:lnTo>
                    <a:pt x="44" y="59"/>
                  </a:lnTo>
                  <a:lnTo>
                    <a:pt x="64" y="41"/>
                  </a:lnTo>
                  <a:lnTo>
                    <a:pt x="89" y="25"/>
                  </a:lnTo>
                  <a:lnTo>
                    <a:pt x="116" y="1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32800" y="2011320"/>
              <a:ext cx="98280" cy="7740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123" y="0"/>
                  </a:moveTo>
                  <a:lnTo>
                    <a:pt x="119" y="1"/>
                  </a:lnTo>
                  <a:lnTo>
                    <a:pt x="108" y="4"/>
                  </a:lnTo>
                  <a:lnTo>
                    <a:pt x="93" y="10"/>
                  </a:lnTo>
                  <a:lnTo>
                    <a:pt x="74" y="19"/>
                  </a:lnTo>
                  <a:lnTo>
                    <a:pt x="53" y="31"/>
                  </a:lnTo>
                  <a:lnTo>
                    <a:pt x="33" y="48"/>
                  </a:lnTo>
                  <a:lnTo>
                    <a:pt x="15" y="70"/>
                  </a:lnTo>
                  <a:lnTo>
                    <a:pt x="0" y="97"/>
                  </a:lnTo>
                  <a:lnTo>
                    <a:pt x="2" y="93"/>
                  </a:lnTo>
                  <a:lnTo>
                    <a:pt x="12" y="85"/>
                  </a:lnTo>
                  <a:lnTo>
                    <a:pt x="24" y="71"/>
                  </a:lnTo>
                  <a:lnTo>
                    <a:pt x="42" y="55"/>
                  </a:lnTo>
                  <a:lnTo>
                    <a:pt x="61" y="38"/>
                  </a:lnTo>
                  <a:lnTo>
                    <a:pt x="82" y="23"/>
                  </a:lnTo>
                  <a:lnTo>
                    <a:pt x="102" y="1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70960" y="2023920"/>
              <a:ext cx="72720" cy="6480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90" y="0"/>
                  </a:moveTo>
                  <a:lnTo>
                    <a:pt x="87" y="2"/>
                  </a:lnTo>
                  <a:lnTo>
                    <a:pt x="79" y="6"/>
                  </a:lnTo>
                  <a:lnTo>
                    <a:pt x="67" y="13"/>
                  </a:lnTo>
                  <a:lnTo>
                    <a:pt x="52" y="21"/>
                  </a:lnTo>
                  <a:lnTo>
                    <a:pt x="37" y="33"/>
                  </a:lnTo>
                  <a:lnTo>
                    <a:pt x="22" y="47"/>
                  </a:lnTo>
                  <a:lnTo>
                    <a:pt x="9" y="63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11" y="70"/>
                  </a:lnTo>
                  <a:lnTo>
                    <a:pt x="22" y="59"/>
                  </a:lnTo>
                  <a:lnTo>
                    <a:pt x="35" y="46"/>
                  </a:lnTo>
                  <a:lnTo>
                    <a:pt x="49" y="32"/>
                  </a:lnTo>
                  <a:lnTo>
                    <a:pt x="64" y="18"/>
                  </a:lnTo>
                  <a:lnTo>
                    <a:pt x="78" y="7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6440" y="2109600"/>
              <a:ext cx="41400" cy="228240"/>
            </a:xfrm>
            <a:custGeom>
              <a:avLst/>
              <a:gdLst/>
              <a:ahLst/>
              <a:rect l="l" t="t" r="r" b="b"/>
              <a:pathLst>
                <a:path w="50" h="288">
                  <a:moveTo>
                    <a:pt x="12" y="0"/>
                  </a:moveTo>
                  <a:lnTo>
                    <a:pt x="16" y="6"/>
                  </a:lnTo>
                  <a:lnTo>
                    <a:pt x="26" y="24"/>
                  </a:lnTo>
                  <a:lnTo>
                    <a:pt x="37" y="50"/>
                  </a:lnTo>
                  <a:lnTo>
                    <a:pt x="46" y="85"/>
                  </a:lnTo>
                  <a:lnTo>
                    <a:pt x="50" y="128"/>
                  </a:lnTo>
                  <a:lnTo>
                    <a:pt x="46" y="177"/>
                  </a:lnTo>
                  <a:lnTo>
                    <a:pt x="31" y="230"/>
                  </a:lnTo>
                  <a:lnTo>
                    <a:pt x="0" y="288"/>
                  </a:lnTo>
                  <a:lnTo>
                    <a:pt x="2" y="281"/>
                  </a:lnTo>
                  <a:lnTo>
                    <a:pt x="11" y="262"/>
                  </a:lnTo>
                  <a:lnTo>
                    <a:pt x="20" y="232"/>
                  </a:lnTo>
                  <a:lnTo>
                    <a:pt x="30" y="195"/>
                  </a:lnTo>
                  <a:lnTo>
                    <a:pt x="35" y="151"/>
                  </a:lnTo>
                  <a:lnTo>
                    <a:pt x="37" y="102"/>
                  </a:lnTo>
                  <a:lnTo>
                    <a:pt x="30" y="5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08920" y="2143080"/>
              <a:ext cx="52560" cy="188280"/>
            </a:xfrm>
            <a:custGeom>
              <a:avLst/>
              <a:gdLst/>
              <a:ahLst/>
              <a:rect l="l" t="t" r="r" b="b"/>
              <a:pathLst>
                <a:path w="66" h="239">
                  <a:moveTo>
                    <a:pt x="55" y="0"/>
                  </a:moveTo>
                  <a:lnTo>
                    <a:pt x="57" y="6"/>
                  </a:lnTo>
                  <a:lnTo>
                    <a:pt x="61" y="22"/>
                  </a:lnTo>
                  <a:lnTo>
                    <a:pt x="65" y="46"/>
                  </a:lnTo>
                  <a:lnTo>
                    <a:pt x="66" y="77"/>
                  </a:lnTo>
                  <a:lnTo>
                    <a:pt x="62" y="113"/>
                  </a:lnTo>
                  <a:lnTo>
                    <a:pt x="51" y="154"/>
                  </a:lnTo>
                  <a:lnTo>
                    <a:pt x="32" y="196"/>
                  </a:lnTo>
                  <a:lnTo>
                    <a:pt x="0" y="239"/>
                  </a:lnTo>
                  <a:lnTo>
                    <a:pt x="3" y="233"/>
                  </a:lnTo>
                  <a:lnTo>
                    <a:pt x="13" y="218"/>
                  </a:lnTo>
                  <a:lnTo>
                    <a:pt x="24" y="195"/>
                  </a:lnTo>
                  <a:lnTo>
                    <a:pt x="36" y="165"/>
                  </a:lnTo>
                  <a:lnTo>
                    <a:pt x="47" y="129"/>
                  </a:lnTo>
                  <a:lnTo>
                    <a:pt x="57" y="89"/>
                  </a:lnTo>
                  <a:lnTo>
                    <a:pt x="59" y="4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70760" y="2187360"/>
              <a:ext cx="58680" cy="134640"/>
            </a:xfrm>
            <a:custGeom>
              <a:avLst/>
              <a:gdLst/>
              <a:ahLst/>
              <a:rect l="l" t="t" r="r" b="b"/>
              <a:pathLst>
                <a:path w="72" h="171">
                  <a:moveTo>
                    <a:pt x="65" y="0"/>
                  </a:moveTo>
                  <a:lnTo>
                    <a:pt x="67" y="4"/>
                  </a:lnTo>
                  <a:lnTo>
                    <a:pt x="69" y="13"/>
                  </a:lnTo>
                  <a:lnTo>
                    <a:pt x="72" y="30"/>
                  </a:lnTo>
                  <a:lnTo>
                    <a:pt x="71" y="52"/>
                  </a:lnTo>
                  <a:lnTo>
                    <a:pt x="65" y="76"/>
                  </a:lnTo>
                  <a:lnTo>
                    <a:pt x="53" y="106"/>
                  </a:lnTo>
                  <a:lnTo>
                    <a:pt x="32" y="138"/>
                  </a:lnTo>
                  <a:lnTo>
                    <a:pt x="0" y="171"/>
                  </a:lnTo>
                  <a:lnTo>
                    <a:pt x="2" y="166"/>
                  </a:lnTo>
                  <a:lnTo>
                    <a:pt x="12" y="154"/>
                  </a:lnTo>
                  <a:lnTo>
                    <a:pt x="24" y="136"/>
                  </a:lnTo>
                  <a:lnTo>
                    <a:pt x="38" y="113"/>
                  </a:lnTo>
                  <a:lnTo>
                    <a:pt x="50" y="87"/>
                  </a:lnTo>
                  <a:lnTo>
                    <a:pt x="61" y="58"/>
                  </a:lnTo>
                  <a:lnTo>
                    <a:pt x="67" y="28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47000" y="2246040"/>
              <a:ext cx="36360" cy="71280"/>
            </a:xfrm>
            <a:custGeom>
              <a:avLst/>
              <a:gdLst/>
              <a:ahLst/>
              <a:rect l="l" t="t" r="r" b="b"/>
              <a:pathLst>
                <a:path w="47" h="89">
                  <a:moveTo>
                    <a:pt x="45" y="0"/>
                  </a:moveTo>
                  <a:lnTo>
                    <a:pt x="45" y="1"/>
                  </a:lnTo>
                  <a:lnTo>
                    <a:pt x="47" y="7"/>
                  </a:lnTo>
                  <a:lnTo>
                    <a:pt x="47" y="15"/>
                  </a:lnTo>
                  <a:lnTo>
                    <a:pt x="45" y="24"/>
                  </a:lnTo>
                  <a:lnTo>
                    <a:pt x="41" y="38"/>
                  </a:lnTo>
                  <a:lnTo>
                    <a:pt x="33" y="53"/>
                  </a:lnTo>
                  <a:lnTo>
                    <a:pt x="19" y="70"/>
                  </a:lnTo>
                  <a:lnTo>
                    <a:pt x="0" y="89"/>
                  </a:lnTo>
                  <a:lnTo>
                    <a:pt x="1" y="87"/>
                  </a:lnTo>
                  <a:lnTo>
                    <a:pt x="6" y="82"/>
                  </a:lnTo>
                  <a:lnTo>
                    <a:pt x="12" y="74"/>
                  </a:lnTo>
                  <a:lnTo>
                    <a:pt x="21" y="63"/>
                  </a:lnTo>
                  <a:lnTo>
                    <a:pt x="27" y="49"/>
                  </a:lnTo>
                  <a:lnTo>
                    <a:pt x="36" y="34"/>
                  </a:lnTo>
                  <a:lnTo>
                    <a:pt x="41" y="1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77000" y="2295360"/>
              <a:ext cx="74880" cy="42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54" y="48"/>
                  </a:moveTo>
                  <a:lnTo>
                    <a:pt x="41" y="52"/>
                  </a:lnTo>
                  <a:lnTo>
                    <a:pt x="28" y="54"/>
                  </a:lnTo>
                  <a:lnTo>
                    <a:pt x="19" y="52"/>
                  </a:lnTo>
                  <a:lnTo>
                    <a:pt x="11" y="50"/>
                  </a:lnTo>
                  <a:lnTo>
                    <a:pt x="4" y="44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1" y="21"/>
                  </a:lnTo>
                  <a:lnTo>
                    <a:pt x="21" y="24"/>
                  </a:lnTo>
                  <a:lnTo>
                    <a:pt x="31" y="24"/>
                  </a:lnTo>
                  <a:lnTo>
                    <a:pt x="43" y="24"/>
                  </a:lnTo>
                  <a:lnTo>
                    <a:pt x="54" y="21"/>
                  </a:lnTo>
                  <a:lnTo>
                    <a:pt x="67" y="17"/>
                  </a:lnTo>
                  <a:lnTo>
                    <a:pt x="80" y="10"/>
                  </a:lnTo>
                  <a:lnTo>
                    <a:pt x="94" y="0"/>
                  </a:lnTo>
                  <a:lnTo>
                    <a:pt x="93" y="2"/>
                  </a:lnTo>
                  <a:lnTo>
                    <a:pt x="90" y="7"/>
                  </a:lnTo>
                  <a:lnTo>
                    <a:pt x="86" y="14"/>
                  </a:lnTo>
                  <a:lnTo>
                    <a:pt x="80" y="22"/>
                  </a:lnTo>
                  <a:lnTo>
                    <a:pt x="73" y="30"/>
                  </a:lnTo>
                  <a:lnTo>
                    <a:pt x="67" y="39"/>
                  </a:lnTo>
                  <a:lnTo>
                    <a:pt x="60" y="44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74120" y="2273040"/>
              <a:ext cx="77760" cy="21960"/>
            </a:xfrm>
            <a:custGeom>
              <a:avLst/>
              <a:gdLst/>
              <a:ahLst/>
              <a:rect l="l" t="t" r="r" b="b"/>
              <a:pathLst>
                <a:path w="99" h="28">
                  <a:moveTo>
                    <a:pt x="99" y="28"/>
                  </a:moveTo>
                  <a:lnTo>
                    <a:pt x="91" y="28"/>
                  </a:lnTo>
                  <a:lnTo>
                    <a:pt x="80" y="28"/>
                  </a:lnTo>
                  <a:lnTo>
                    <a:pt x="68" y="28"/>
                  </a:lnTo>
                  <a:lnTo>
                    <a:pt x="55" y="27"/>
                  </a:lnTo>
                  <a:lnTo>
                    <a:pt x="42" y="27"/>
                  </a:lnTo>
                  <a:lnTo>
                    <a:pt x="28" y="24"/>
                  </a:lnTo>
                  <a:lnTo>
                    <a:pt x="16" y="23"/>
                  </a:lnTo>
                  <a:lnTo>
                    <a:pt x="5" y="20"/>
                  </a:lnTo>
                  <a:lnTo>
                    <a:pt x="2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5" y="0"/>
                  </a:lnTo>
                  <a:lnTo>
                    <a:pt x="14" y="0"/>
                  </a:lnTo>
                  <a:lnTo>
                    <a:pt x="32" y="2"/>
                  </a:lnTo>
                  <a:lnTo>
                    <a:pt x="59" y="12"/>
                  </a:lnTo>
                  <a:lnTo>
                    <a:pt x="99" y="2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26200" y="2145960"/>
              <a:ext cx="77760" cy="4572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0" y="4"/>
                  </a:moveTo>
                  <a:lnTo>
                    <a:pt x="0" y="51"/>
                  </a:lnTo>
                  <a:lnTo>
                    <a:pt x="96" y="56"/>
                  </a:lnTo>
                  <a:lnTo>
                    <a:pt x="9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26200" y="2280960"/>
              <a:ext cx="93600" cy="155160"/>
            </a:xfrm>
            <a:custGeom>
              <a:avLst/>
              <a:gdLst/>
              <a:ahLst/>
              <a:rect l="l" t="t" r="r" b="b"/>
              <a:pathLst>
                <a:path w="118" h="197">
                  <a:moveTo>
                    <a:pt x="70" y="197"/>
                  </a:moveTo>
                  <a:lnTo>
                    <a:pt x="118" y="185"/>
                  </a:lnTo>
                  <a:lnTo>
                    <a:pt x="96" y="103"/>
                  </a:lnTo>
                  <a:lnTo>
                    <a:pt x="110" y="40"/>
                  </a:lnTo>
                  <a:lnTo>
                    <a:pt x="86" y="65"/>
                  </a:lnTo>
                  <a:lnTo>
                    <a:pt x="38" y="0"/>
                  </a:lnTo>
                  <a:lnTo>
                    <a:pt x="52" y="54"/>
                  </a:lnTo>
                  <a:lnTo>
                    <a:pt x="8" y="17"/>
                  </a:lnTo>
                  <a:lnTo>
                    <a:pt x="36" y="66"/>
                  </a:lnTo>
                  <a:lnTo>
                    <a:pt x="0" y="52"/>
                  </a:lnTo>
                  <a:lnTo>
                    <a:pt x="34" y="84"/>
                  </a:lnTo>
                  <a:lnTo>
                    <a:pt x="0" y="86"/>
                  </a:lnTo>
                  <a:lnTo>
                    <a:pt x="41" y="103"/>
                  </a:lnTo>
                  <a:lnTo>
                    <a:pt x="70" y="197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59680" y="2379600"/>
              <a:ext cx="64800" cy="3780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9" y="49"/>
                  </a:moveTo>
                  <a:lnTo>
                    <a:pt x="0" y="12"/>
                  </a:lnTo>
                  <a:lnTo>
                    <a:pt x="68" y="0"/>
                  </a:lnTo>
                  <a:lnTo>
                    <a:pt x="81" y="43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54640" y="2403360"/>
              <a:ext cx="838440" cy="709200"/>
            </a:xfrm>
            <a:custGeom>
              <a:avLst/>
              <a:gdLst/>
              <a:ahLst/>
              <a:rect l="l" t="t" r="r" b="b"/>
              <a:pathLst>
                <a:path w="1055" h="893">
                  <a:moveTo>
                    <a:pt x="955" y="98"/>
                  </a:moveTo>
                  <a:lnTo>
                    <a:pt x="773" y="70"/>
                  </a:lnTo>
                  <a:lnTo>
                    <a:pt x="532" y="131"/>
                  </a:lnTo>
                  <a:lnTo>
                    <a:pt x="454" y="82"/>
                  </a:lnTo>
                  <a:lnTo>
                    <a:pt x="286" y="128"/>
                  </a:lnTo>
                  <a:lnTo>
                    <a:pt x="130" y="154"/>
                  </a:lnTo>
                  <a:lnTo>
                    <a:pt x="97" y="0"/>
                  </a:lnTo>
                  <a:lnTo>
                    <a:pt x="0" y="11"/>
                  </a:lnTo>
                  <a:lnTo>
                    <a:pt x="23" y="249"/>
                  </a:lnTo>
                  <a:lnTo>
                    <a:pt x="261" y="433"/>
                  </a:lnTo>
                  <a:lnTo>
                    <a:pt x="267" y="454"/>
                  </a:lnTo>
                  <a:lnTo>
                    <a:pt x="276" y="506"/>
                  </a:lnTo>
                  <a:lnTo>
                    <a:pt x="290" y="579"/>
                  </a:lnTo>
                  <a:lnTo>
                    <a:pt x="305" y="662"/>
                  </a:lnTo>
                  <a:lnTo>
                    <a:pt x="319" y="745"/>
                  </a:lnTo>
                  <a:lnTo>
                    <a:pt x="331" y="818"/>
                  </a:lnTo>
                  <a:lnTo>
                    <a:pt x="340" y="870"/>
                  </a:lnTo>
                  <a:lnTo>
                    <a:pt x="343" y="889"/>
                  </a:lnTo>
                  <a:lnTo>
                    <a:pt x="872" y="893"/>
                  </a:lnTo>
                  <a:lnTo>
                    <a:pt x="903" y="858"/>
                  </a:lnTo>
                  <a:lnTo>
                    <a:pt x="929" y="808"/>
                  </a:lnTo>
                  <a:lnTo>
                    <a:pt x="952" y="754"/>
                  </a:lnTo>
                  <a:lnTo>
                    <a:pt x="972" y="693"/>
                  </a:lnTo>
                  <a:lnTo>
                    <a:pt x="989" y="636"/>
                  </a:lnTo>
                  <a:lnTo>
                    <a:pt x="1009" y="583"/>
                  </a:lnTo>
                  <a:lnTo>
                    <a:pt x="1028" y="540"/>
                  </a:lnTo>
                  <a:lnTo>
                    <a:pt x="1051" y="510"/>
                  </a:lnTo>
                  <a:lnTo>
                    <a:pt x="1055" y="495"/>
                  </a:lnTo>
                  <a:lnTo>
                    <a:pt x="1054" y="468"/>
                  </a:lnTo>
                  <a:lnTo>
                    <a:pt x="1048" y="432"/>
                  </a:lnTo>
                  <a:lnTo>
                    <a:pt x="1040" y="394"/>
                  </a:lnTo>
                  <a:lnTo>
                    <a:pt x="1032" y="354"/>
                  </a:lnTo>
                  <a:lnTo>
                    <a:pt x="1025" y="319"/>
                  </a:lnTo>
                  <a:lnTo>
                    <a:pt x="1022" y="291"/>
                  </a:lnTo>
                  <a:lnTo>
                    <a:pt x="1026" y="275"/>
                  </a:lnTo>
                  <a:lnTo>
                    <a:pt x="955" y="98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515280" y="2239920"/>
              <a:ext cx="72720" cy="3600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0" y="0"/>
                  </a:moveTo>
                  <a:lnTo>
                    <a:pt x="3" y="34"/>
                  </a:lnTo>
                  <a:lnTo>
                    <a:pt x="82" y="47"/>
                  </a:lnTo>
                  <a:lnTo>
                    <a:pt x="9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65960" y="1998360"/>
              <a:ext cx="469800" cy="504720"/>
            </a:xfrm>
            <a:custGeom>
              <a:avLst/>
              <a:gdLst/>
              <a:ahLst/>
              <a:rect l="l" t="t" r="r" b="b"/>
              <a:pathLst>
                <a:path w="593" h="635">
                  <a:moveTo>
                    <a:pt x="479" y="89"/>
                  </a:moveTo>
                  <a:lnTo>
                    <a:pt x="479" y="87"/>
                  </a:lnTo>
                  <a:lnTo>
                    <a:pt x="478" y="85"/>
                  </a:lnTo>
                  <a:lnTo>
                    <a:pt x="475" y="81"/>
                  </a:lnTo>
                  <a:lnTo>
                    <a:pt x="471" y="75"/>
                  </a:lnTo>
                  <a:lnTo>
                    <a:pt x="464" y="70"/>
                  </a:lnTo>
                  <a:lnTo>
                    <a:pt x="456" y="61"/>
                  </a:lnTo>
                  <a:lnTo>
                    <a:pt x="446" y="55"/>
                  </a:lnTo>
                  <a:lnTo>
                    <a:pt x="434" y="46"/>
                  </a:lnTo>
                  <a:lnTo>
                    <a:pt x="419" y="38"/>
                  </a:lnTo>
                  <a:lnTo>
                    <a:pt x="401" y="30"/>
                  </a:lnTo>
                  <a:lnTo>
                    <a:pt x="381" y="22"/>
                  </a:lnTo>
                  <a:lnTo>
                    <a:pt x="356" y="15"/>
                  </a:lnTo>
                  <a:lnTo>
                    <a:pt x="329" y="9"/>
                  </a:lnTo>
                  <a:lnTo>
                    <a:pt x="297" y="5"/>
                  </a:lnTo>
                  <a:lnTo>
                    <a:pt x="262" y="1"/>
                  </a:lnTo>
                  <a:lnTo>
                    <a:pt x="222" y="0"/>
                  </a:lnTo>
                  <a:lnTo>
                    <a:pt x="118" y="100"/>
                  </a:lnTo>
                  <a:lnTo>
                    <a:pt x="118" y="107"/>
                  </a:lnTo>
                  <a:lnTo>
                    <a:pt x="118" y="124"/>
                  </a:lnTo>
                  <a:lnTo>
                    <a:pt x="118" y="141"/>
                  </a:lnTo>
                  <a:lnTo>
                    <a:pt x="118" y="149"/>
                  </a:lnTo>
                  <a:lnTo>
                    <a:pt x="25" y="239"/>
                  </a:lnTo>
                  <a:lnTo>
                    <a:pt x="60" y="260"/>
                  </a:lnTo>
                  <a:lnTo>
                    <a:pt x="59" y="264"/>
                  </a:lnTo>
                  <a:lnTo>
                    <a:pt x="55" y="275"/>
                  </a:lnTo>
                  <a:lnTo>
                    <a:pt x="49" y="290"/>
                  </a:lnTo>
                  <a:lnTo>
                    <a:pt x="43" y="306"/>
                  </a:lnTo>
                  <a:lnTo>
                    <a:pt x="155" y="308"/>
                  </a:lnTo>
                  <a:lnTo>
                    <a:pt x="122" y="398"/>
                  </a:lnTo>
                  <a:lnTo>
                    <a:pt x="28" y="360"/>
                  </a:lnTo>
                  <a:lnTo>
                    <a:pt x="36" y="412"/>
                  </a:lnTo>
                  <a:lnTo>
                    <a:pt x="0" y="451"/>
                  </a:lnTo>
                  <a:lnTo>
                    <a:pt x="73" y="518"/>
                  </a:lnTo>
                  <a:lnTo>
                    <a:pt x="167" y="484"/>
                  </a:lnTo>
                  <a:lnTo>
                    <a:pt x="282" y="622"/>
                  </a:lnTo>
                  <a:lnTo>
                    <a:pt x="493" y="635"/>
                  </a:lnTo>
                  <a:lnTo>
                    <a:pt x="488" y="451"/>
                  </a:lnTo>
                  <a:lnTo>
                    <a:pt x="570" y="315"/>
                  </a:lnTo>
                  <a:lnTo>
                    <a:pt x="574" y="310"/>
                  </a:lnTo>
                  <a:lnTo>
                    <a:pt x="581" y="300"/>
                  </a:lnTo>
                  <a:lnTo>
                    <a:pt x="589" y="280"/>
                  </a:lnTo>
                  <a:lnTo>
                    <a:pt x="593" y="256"/>
                  </a:lnTo>
                  <a:lnTo>
                    <a:pt x="587" y="223"/>
                  </a:lnTo>
                  <a:lnTo>
                    <a:pt x="570" y="185"/>
                  </a:lnTo>
                  <a:lnTo>
                    <a:pt x="535" y="139"/>
                  </a:lnTo>
                  <a:lnTo>
                    <a:pt x="479" y="8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97720" y="2317680"/>
              <a:ext cx="174600" cy="175680"/>
            </a:xfrm>
            <a:custGeom>
              <a:avLst/>
              <a:gdLst/>
              <a:ahLst/>
              <a:rect l="l" t="t" r="r" b="b"/>
              <a:pathLst>
                <a:path w="219" h="223">
                  <a:moveTo>
                    <a:pt x="89" y="108"/>
                  </a:moveTo>
                  <a:lnTo>
                    <a:pt x="0" y="83"/>
                  </a:lnTo>
                  <a:lnTo>
                    <a:pt x="39" y="173"/>
                  </a:lnTo>
                  <a:lnTo>
                    <a:pt x="101" y="223"/>
                  </a:lnTo>
                  <a:lnTo>
                    <a:pt x="151" y="141"/>
                  </a:lnTo>
                  <a:lnTo>
                    <a:pt x="219" y="0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92840" y="2249280"/>
              <a:ext cx="55800" cy="6156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54" y="2"/>
                  </a:moveTo>
                  <a:lnTo>
                    <a:pt x="59" y="9"/>
                  </a:lnTo>
                  <a:lnTo>
                    <a:pt x="66" y="21"/>
                  </a:lnTo>
                  <a:lnTo>
                    <a:pt x="70" y="38"/>
                  </a:lnTo>
                  <a:lnTo>
                    <a:pt x="66" y="56"/>
                  </a:lnTo>
                  <a:lnTo>
                    <a:pt x="63" y="61"/>
                  </a:lnTo>
                  <a:lnTo>
                    <a:pt x="58" y="65"/>
                  </a:lnTo>
                  <a:lnTo>
                    <a:pt x="52" y="69"/>
                  </a:lnTo>
                  <a:lnTo>
                    <a:pt x="45" y="72"/>
                  </a:lnTo>
                  <a:lnTo>
                    <a:pt x="37" y="75"/>
                  </a:lnTo>
                  <a:lnTo>
                    <a:pt x="29" y="76"/>
                  </a:lnTo>
                  <a:lnTo>
                    <a:pt x="18" y="78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4" y="76"/>
                  </a:lnTo>
                  <a:lnTo>
                    <a:pt x="2" y="75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2" y="64"/>
                  </a:lnTo>
                  <a:lnTo>
                    <a:pt x="4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17" y="62"/>
                  </a:lnTo>
                  <a:lnTo>
                    <a:pt x="25" y="62"/>
                  </a:lnTo>
                  <a:lnTo>
                    <a:pt x="32" y="61"/>
                  </a:lnTo>
                  <a:lnTo>
                    <a:pt x="39" y="60"/>
                  </a:lnTo>
                  <a:lnTo>
                    <a:pt x="44" y="58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5" y="39"/>
                  </a:lnTo>
                  <a:lnTo>
                    <a:pt x="52" y="28"/>
                  </a:lnTo>
                  <a:lnTo>
                    <a:pt x="48" y="17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05640" y="2074680"/>
              <a:ext cx="88920" cy="5040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101" y="62"/>
                  </a:moveTo>
                  <a:lnTo>
                    <a:pt x="101" y="62"/>
                  </a:lnTo>
                  <a:lnTo>
                    <a:pt x="100" y="56"/>
                  </a:lnTo>
                  <a:lnTo>
                    <a:pt x="94" y="44"/>
                  </a:lnTo>
                  <a:lnTo>
                    <a:pt x="83" y="30"/>
                  </a:lnTo>
                  <a:lnTo>
                    <a:pt x="65" y="18"/>
                  </a:lnTo>
                  <a:lnTo>
                    <a:pt x="59" y="15"/>
                  </a:lnTo>
                  <a:lnTo>
                    <a:pt x="53" y="13"/>
                  </a:lnTo>
                  <a:lnTo>
                    <a:pt x="46" y="11"/>
                  </a:lnTo>
                  <a:lnTo>
                    <a:pt x="38" y="11"/>
                  </a:lnTo>
                  <a:lnTo>
                    <a:pt x="31" y="11"/>
                  </a:lnTo>
                  <a:lnTo>
                    <a:pt x="23" y="13"/>
                  </a:lnTo>
                  <a:lnTo>
                    <a:pt x="15" y="14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12" y="4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4" y="4"/>
                  </a:lnTo>
                  <a:lnTo>
                    <a:pt x="71" y="8"/>
                  </a:lnTo>
                  <a:lnTo>
                    <a:pt x="82" y="15"/>
                  </a:lnTo>
                  <a:lnTo>
                    <a:pt x="90" y="22"/>
                  </a:lnTo>
                  <a:lnTo>
                    <a:pt x="97" y="30"/>
                  </a:lnTo>
                  <a:lnTo>
                    <a:pt x="102" y="39"/>
                  </a:lnTo>
                  <a:lnTo>
                    <a:pt x="107" y="47"/>
                  </a:lnTo>
                  <a:lnTo>
                    <a:pt x="109" y="52"/>
                  </a:lnTo>
                  <a:lnTo>
                    <a:pt x="111" y="58"/>
                  </a:lnTo>
                  <a:lnTo>
                    <a:pt x="112" y="59"/>
                  </a:lnTo>
                  <a:lnTo>
                    <a:pt x="112" y="59"/>
                  </a:lnTo>
                  <a:lnTo>
                    <a:pt x="112" y="60"/>
                  </a:lnTo>
                  <a:lnTo>
                    <a:pt x="111" y="63"/>
                  </a:lnTo>
                  <a:lnTo>
                    <a:pt x="109" y="65"/>
                  </a:lnTo>
                  <a:lnTo>
                    <a:pt x="108" y="66"/>
                  </a:lnTo>
                  <a:lnTo>
                    <a:pt x="107" y="66"/>
                  </a:lnTo>
                  <a:lnTo>
                    <a:pt x="104" y="65"/>
                  </a:lnTo>
                  <a:lnTo>
                    <a:pt x="102" y="63"/>
                  </a:lnTo>
                  <a:lnTo>
                    <a:pt x="101" y="62"/>
                  </a:lnTo>
                  <a:lnTo>
                    <a:pt x="10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78640" y="2120760"/>
              <a:ext cx="82440" cy="51840"/>
            </a:xfrm>
            <a:custGeom>
              <a:avLst/>
              <a:gdLst/>
              <a:ahLst/>
              <a:rect l="l" t="t" r="r" b="b"/>
              <a:pathLst>
                <a:path w="103" h="66">
                  <a:moveTo>
                    <a:pt x="67" y="4"/>
                  </a:moveTo>
                  <a:lnTo>
                    <a:pt x="82" y="15"/>
                  </a:lnTo>
                  <a:lnTo>
                    <a:pt x="93" y="29"/>
                  </a:lnTo>
                  <a:lnTo>
                    <a:pt x="98" y="44"/>
                  </a:lnTo>
                  <a:lnTo>
                    <a:pt x="103" y="59"/>
                  </a:lnTo>
                  <a:lnTo>
                    <a:pt x="97" y="62"/>
                  </a:lnTo>
                  <a:lnTo>
                    <a:pt x="90" y="64"/>
                  </a:lnTo>
                  <a:lnTo>
                    <a:pt x="82" y="66"/>
                  </a:lnTo>
                  <a:lnTo>
                    <a:pt x="74" y="66"/>
                  </a:lnTo>
                  <a:lnTo>
                    <a:pt x="66" y="66"/>
                  </a:lnTo>
                  <a:lnTo>
                    <a:pt x="57" y="64"/>
                  </a:lnTo>
                  <a:lnTo>
                    <a:pt x="49" y="62"/>
                  </a:lnTo>
                  <a:lnTo>
                    <a:pt x="41" y="59"/>
                  </a:lnTo>
                  <a:lnTo>
                    <a:pt x="33" y="55"/>
                  </a:lnTo>
                  <a:lnTo>
                    <a:pt x="25" y="49"/>
                  </a:lnTo>
                  <a:lnTo>
                    <a:pt x="19" y="44"/>
                  </a:lnTo>
                  <a:lnTo>
                    <a:pt x="12" y="37"/>
                  </a:lnTo>
                  <a:lnTo>
                    <a:pt x="8" y="32"/>
                  </a:lnTo>
                  <a:lnTo>
                    <a:pt x="4" y="25"/>
                  </a:lnTo>
                  <a:lnTo>
                    <a:pt x="1" y="18"/>
                  </a:lnTo>
                  <a:lnTo>
                    <a:pt x="0" y="11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88000" y="2130120"/>
              <a:ext cx="25560" cy="266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9" y="32"/>
                  </a:moveTo>
                  <a:lnTo>
                    <a:pt x="4" y="28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29" y="6"/>
                  </a:lnTo>
                  <a:lnTo>
                    <a:pt x="31" y="11"/>
                  </a:lnTo>
                  <a:lnTo>
                    <a:pt x="33" y="17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93040" y="2136600"/>
              <a:ext cx="12600" cy="12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4" y="15"/>
                  </a:move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7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03840" y="2139840"/>
              <a:ext cx="6480" cy="57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586560" y="2438280"/>
              <a:ext cx="293760" cy="371160"/>
            </a:xfrm>
            <a:custGeom>
              <a:avLst/>
              <a:gdLst/>
              <a:ahLst/>
              <a:rect l="l" t="t" r="r" b="b"/>
              <a:pathLst>
                <a:path w="371" h="466">
                  <a:moveTo>
                    <a:pt x="45" y="10"/>
                  </a:moveTo>
                  <a:lnTo>
                    <a:pt x="10" y="97"/>
                  </a:lnTo>
                  <a:lnTo>
                    <a:pt x="0" y="466"/>
                  </a:lnTo>
                  <a:lnTo>
                    <a:pt x="195" y="174"/>
                  </a:lnTo>
                  <a:lnTo>
                    <a:pt x="371" y="63"/>
                  </a:lnTo>
                  <a:lnTo>
                    <a:pt x="344" y="0"/>
                  </a:lnTo>
                  <a:lnTo>
                    <a:pt x="92" y="48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586560" y="2498400"/>
              <a:ext cx="125280" cy="118800"/>
            </a:xfrm>
            <a:custGeom>
              <a:avLst/>
              <a:gdLst/>
              <a:ahLst/>
              <a:rect l="l" t="t" r="r" b="b"/>
              <a:pathLst>
                <a:path w="158" h="149">
                  <a:moveTo>
                    <a:pt x="74" y="7"/>
                  </a:moveTo>
                  <a:lnTo>
                    <a:pt x="0" y="103"/>
                  </a:lnTo>
                  <a:lnTo>
                    <a:pt x="79" y="55"/>
                  </a:lnTo>
                  <a:lnTo>
                    <a:pt x="158" y="149"/>
                  </a:lnTo>
                  <a:lnTo>
                    <a:pt x="91" y="0"/>
                  </a:lnTo>
                  <a:lnTo>
                    <a:pt x="74" y="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613560" y="1944360"/>
              <a:ext cx="341280" cy="429840"/>
            </a:xfrm>
            <a:custGeom>
              <a:avLst/>
              <a:gdLst/>
              <a:ahLst/>
              <a:rect l="l" t="t" r="r" b="b"/>
              <a:pathLst>
                <a:path w="430" h="542">
                  <a:moveTo>
                    <a:pt x="36" y="69"/>
                  </a:moveTo>
                  <a:lnTo>
                    <a:pt x="61" y="106"/>
                  </a:lnTo>
                  <a:lnTo>
                    <a:pt x="93" y="135"/>
                  </a:lnTo>
                  <a:lnTo>
                    <a:pt x="129" y="156"/>
                  </a:lnTo>
                  <a:lnTo>
                    <a:pt x="166" y="173"/>
                  </a:lnTo>
                  <a:lnTo>
                    <a:pt x="199" y="184"/>
                  </a:lnTo>
                  <a:lnTo>
                    <a:pt x="228" y="192"/>
                  </a:lnTo>
                  <a:lnTo>
                    <a:pt x="247" y="195"/>
                  </a:lnTo>
                  <a:lnTo>
                    <a:pt x="254" y="196"/>
                  </a:lnTo>
                  <a:lnTo>
                    <a:pt x="210" y="248"/>
                  </a:lnTo>
                  <a:lnTo>
                    <a:pt x="207" y="407"/>
                  </a:lnTo>
                  <a:lnTo>
                    <a:pt x="210" y="404"/>
                  </a:lnTo>
                  <a:lnTo>
                    <a:pt x="217" y="394"/>
                  </a:lnTo>
                  <a:lnTo>
                    <a:pt x="226" y="384"/>
                  </a:lnTo>
                  <a:lnTo>
                    <a:pt x="239" y="371"/>
                  </a:lnTo>
                  <a:lnTo>
                    <a:pt x="254" y="362"/>
                  </a:lnTo>
                  <a:lnTo>
                    <a:pt x="270" y="355"/>
                  </a:lnTo>
                  <a:lnTo>
                    <a:pt x="285" y="356"/>
                  </a:lnTo>
                  <a:lnTo>
                    <a:pt x="302" y="364"/>
                  </a:lnTo>
                  <a:lnTo>
                    <a:pt x="318" y="396"/>
                  </a:lnTo>
                  <a:lnTo>
                    <a:pt x="317" y="427"/>
                  </a:lnTo>
                  <a:lnTo>
                    <a:pt x="307" y="453"/>
                  </a:lnTo>
                  <a:lnTo>
                    <a:pt x="302" y="463"/>
                  </a:lnTo>
                  <a:lnTo>
                    <a:pt x="300" y="542"/>
                  </a:lnTo>
                  <a:lnTo>
                    <a:pt x="308" y="540"/>
                  </a:lnTo>
                  <a:lnTo>
                    <a:pt x="330" y="529"/>
                  </a:lnTo>
                  <a:lnTo>
                    <a:pt x="359" y="512"/>
                  </a:lnTo>
                  <a:lnTo>
                    <a:pt x="389" y="486"/>
                  </a:lnTo>
                  <a:lnTo>
                    <a:pt x="415" y="451"/>
                  </a:lnTo>
                  <a:lnTo>
                    <a:pt x="430" y="407"/>
                  </a:lnTo>
                  <a:lnTo>
                    <a:pt x="429" y="353"/>
                  </a:lnTo>
                  <a:lnTo>
                    <a:pt x="404" y="288"/>
                  </a:lnTo>
                  <a:lnTo>
                    <a:pt x="404" y="282"/>
                  </a:lnTo>
                  <a:lnTo>
                    <a:pt x="403" y="270"/>
                  </a:lnTo>
                  <a:lnTo>
                    <a:pt x="400" y="252"/>
                  </a:lnTo>
                  <a:lnTo>
                    <a:pt x="395" y="230"/>
                  </a:lnTo>
                  <a:lnTo>
                    <a:pt x="382" y="208"/>
                  </a:lnTo>
                  <a:lnTo>
                    <a:pt x="366" y="189"/>
                  </a:lnTo>
                  <a:lnTo>
                    <a:pt x="341" y="176"/>
                  </a:lnTo>
                  <a:lnTo>
                    <a:pt x="307" y="169"/>
                  </a:lnTo>
                  <a:lnTo>
                    <a:pt x="307" y="166"/>
                  </a:lnTo>
                  <a:lnTo>
                    <a:pt x="306" y="159"/>
                  </a:lnTo>
                  <a:lnTo>
                    <a:pt x="304" y="150"/>
                  </a:lnTo>
                  <a:lnTo>
                    <a:pt x="302" y="136"/>
                  </a:lnTo>
                  <a:lnTo>
                    <a:pt x="296" y="121"/>
                  </a:lnTo>
                  <a:lnTo>
                    <a:pt x="289" y="104"/>
                  </a:lnTo>
                  <a:lnTo>
                    <a:pt x="280" y="87"/>
                  </a:lnTo>
                  <a:lnTo>
                    <a:pt x="267" y="69"/>
                  </a:lnTo>
                  <a:lnTo>
                    <a:pt x="249" y="52"/>
                  </a:lnTo>
                  <a:lnTo>
                    <a:pt x="230" y="36"/>
                  </a:lnTo>
                  <a:lnTo>
                    <a:pt x="204" y="22"/>
                  </a:lnTo>
                  <a:lnTo>
                    <a:pt x="176" y="11"/>
                  </a:lnTo>
                  <a:lnTo>
                    <a:pt x="140" y="5"/>
                  </a:lnTo>
                  <a:lnTo>
                    <a:pt x="100" y="0"/>
                  </a:lnTo>
                  <a:lnTo>
                    <a:pt x="54" y="3"/>
                  </a:lnTo>
                  <a:lnTo>
                    <a:pt x="0" y="10"/>
                  </a:lnTo>
                  <a:lnTo>
                    <a:pt x="2" y="98"/>
                  </a:lnTo>
                  <a:lnTo>
                    <a:pt x="3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72240" y="1969920"/>
              <a:ext cx="109440" cy="83880"/>
            </a:xfrm>
            <a:custGeom>
              <a:avLst/>
              <a:gdLst/>
              <a:ahLst/>
              <a:rect l="l" t="t" r="r" b="b"/>
              <a:pathLst>
                <a:path w="140" h="107">
                  <a:moveTo>
                    <a:pt x="0" y="5"/>
                  </a:moveTo>
                  <a:lnTo>
                    <a:pt x="3" y="7"/>
                  </a:lnTo>
                  <a:lnTo>
                    <a:pt x="14" y="8"/>
                  </a:lnTo>
                  <a:lnTo>
                    <a:pt x="33" y="11"/>
                  </a:lnTo>
                  <a:lnTo>
                    <a:pt x="56" y="18"/>
                  </a:lnTo>
                  <a:lnTo>
                    <a:pt x="82" y="29"/>
                  </a:lnTo>
                  <a:lnTo>
                    <a:pt x="106" y="46"/>
                  </a:lnTo>
                  <a:lnTo>
                    <a:pt x="126" y="72"/>
                  </a:lnTo>
                  <a:lnTo>
                    <a:pt x="140" y="107"/>
                  </a:lnTo>
                  <a:lnTo>
                    <a:pt x="140" y="101"/>
                  </a:lnTo>
                  <a:lnTo>
                    <a:pt x="137" y="86"/>
                  </a:lnTo>
                  <a:lnTo>
                    <a:pt x="130" y="66"/>
                  </a:lnTo>
                  <a:lnTo>
                    <a:pt x="119" y="42"/>
                  </a:lnTo>
                  <a:lnTo>
                    <a:pt x="102" y="22"/>
                  </a:lnTo>
                  <a:lnTo>
                    <a:pt x="77" y="7"/>
                  </a:lnTo>
                  <a:lnTo>
                    <a:pt x="4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38840" y="1981080"/>
              <a:ext cx="88920" cy="82080"/>
            </a:xfrm>
            <a:custGeom>
              <a:avLst/>
              <a:gdLst/>
              <a:ahLst/>
              <a:rect l="l" t="t" r="r" b="b"/>
              <a:pathLst>
                <a:path w="111" h="104">
                  <a:moveTo>
                    <a:pt x="0" y="0"/>
                  </a:moveTo>
                  <a:lnTo>
                    <a:pt x="4" y="0"/>
                  </a:lnTo>
                  <a:lnTo>
                    <a:pt x="15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70" y="19"/>
                  </a:lnTo>
                  <a:lnTo>
                    <a:pt x="88" y="37"/>
                  </a:lnTo>
                  <a:lnTo>
                    <a:pt x="103" y="65"/>
                  </a:lnTo>
                  <a:lnTo>
                    <a:pt x="111" y="104"/>
                  </a:lnTo>
                  <a:lnTo>
                    <a:pt x="110" y="100"/>
                  </a:lnTo>
                  <a:lnTo>
                    <a:pt x="107" y="91"/>
                  </a:lnTo>
                  <a:lnTo>
                    <a:pt x="100" y="78"/>
                  </a:lnTo>
                  <a:lnTo>
                    <a:pt x="90" y="61"/>
                  </a:lnTo>
                  <a:lnTo>
                    <a:pt x="75" y="43"/>
                  </a:lnTo>
                  <a:lnTo>
                    <a:pt x="56" y="26"/>
                  </a:lnTo>
                  <a:lnTo>
                    <a:pt x="3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6560" y="2195280"/>
              <a:ext cx="48960" cy="85320"/>
            </a:xfrm>
            <a:custGeom>
              <a:avLst/>
              <a:gdLst/>
              <a:ahLst/>
              <a:rect l="l" t="t" r="r" b="b"/>
              <a:pathLst>
                <a:path w="62" h="106">
                  <a:moveTo>
                    <a:pt x="0" y="0"/>
                  </a:moveTo>
                  <a:lnTo>
                    <a:pt x="3" y="1"/>
                  </a:lnTo>
                  <a:lnTo>
                    <a:pt x="10" y="5"/>
                  </a:lnTo>
                  <a:lnTo>
                    <a:pt x="19" y="12"/>
                  </a:lnTo>
                  <a:lnTo>
                    <a:pt x="30" y="23"/>
                  </a:lnTo>
                  <a:lnTo>
                    <a:pt x="41" y="36"/>
                  </a:lnTo>
                  <a:lnTo>
                    <a:pt x="51" y="56"/>
                  </a:lnTo>
                  <a:lnTo>
                    <a:pt x="57" y="79"/>
                  </a:lnTo>
                  <a:lnTo>
                    <a:pt x="60" y="106"/>
                  </a:lnTo>
                  <a:lnTo>
                    <a:pt x="60" y="101"/>
                  </a:lnTo>
                  <a:lnTo>
                    <a:pt x="62" y="88"/>
                  </a:lnTo>
                  <a:lnTo>
                    <a:pt x="62" y="71"/>
                  </a:lnTo>
                  <a:lnTo>
                    <a:pt x="60" y="50"/>
                  </a:lnTo>
                  <a:lnTo>
                    <a:pt x="53" y="31"/>
                  </a:lnTo>
                  <a:lnTo>
                    <a:pt x="42" y="13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10240" y="2171520"/>
              <a:ext cx="65160" cy="5364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9" y="43"/>
                  </a:moveTo>
                  <a:lnTo>
                    <a:pt x="58" y="61"/>
                  </a:lnTo>
                  <a:lnTo>
                    <a:pt x="73" y="0"/>
                  </a:lnTo>
                  <a:lnTo>
                    <a:pt x="84" y="43"/>
                  </a:lnTo>
                  <a:lnTo>
                    <a:pt x="80" y="69"/>
                  </a:lnTo>
                  <a:lnTo>
                    <a:pt x="0" y="66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75400" y="2157120"/>
              <a:ext cx="55440" cy="5220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0" y="0"/>
                  </a:moveTo>
                  <a:lnTo>
                    <a:pt x="3" y="2"/>
                  </a:lnTo>
                  <a:lnTo>
                    <a:pt x="11" y="7"/>
                  </a:lnTo>
                  <a:lnTo>
                    <a:pt x="22" y="14"/>
                  </a:lnTo>
                  <a:lnTo>
                    <a:pt x="35" y="24"/>
                  </a:lnTo>
                  <a:lnTo>
                    <a:pt x="47" y="34"/>
                  </a:lnTo>
                  <a:lnTo>
                    <a:pt x="58" y="45"/>
                  </a:lnTo>
                  <a:lnTo>
                    <a:pt x="66" y="56"/>
                  </a:lnTo>
                  <a:lnTo>
                    <a:pt x="70" y="67"/>
                  </a:lnTo>
                  <a:lnTo>
                    <a:pt x="70" y="65"/>
                  </a:lnTo>
                  <a:lnTo>
                    <a:pt x="72" y="56"/>
                  </a:lnTo>
                  <a:lnTo>
                    <a:pt x="70" y="45"/>
                  </a:lnTo>
                  <a:lnTo>
                    <a:pt x="66" y="33"/>
                  </a:lnTo>
                  <a:lnTo>
                    <a:pt x="59" y="21"/>
                  </a:lnTo>
                  <a:lnTo>
                    <a:pt x="47" y="10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4760" y="2122200"/>
              <a:ext cx="41400" cy="4896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8" y="7"/>
                  </a:lnTo>
                  <a:lnTo>
                    <a:pt x="28" y="14"/>
                  </a:lnTo>
                  <a:lnTo>
                    <a:pt x="37" y="22"/>
                  </a:lnTo>
                  <a:lnTo>
                    <a:pt x="45" y="33"/>
                  </a:lnTo>
                  <a:lnTo>
                    <a:pt x="51" y="47"/>
                  </a:lnTo>
                  <a:lnTo>
                    <a:pt x="52" y="63"/>
                  </a:lnTo>
                  <a:lnTo>
                    <a:pt x="52" y="61"/>
                  </a:lnTo>
                  <a:lnTo>
                    <a:pt x="54" y="54"/>
                  </a:lnTo>
                  <a:lnTo>
                    <a:pt x="54" y="44"/>
                  </a:lnTo>
                  <a:lnTo>
                    <a:pt x="52" y="33"/>
                  </a:lnTo>
                  <a:lnTo>
                    <a:pt x="47" y="21"/>
                  </a:lnTo>
                  <a:lnTo>
                    <a:pt x="37" y="11"/>
                  </a:lnTo>
                  <a:lnTo>
                    <a:pt x="2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85040" y="2323800"/>
              <a:ext cx="46080" cy="219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5" y="0"/>
                  </a:moveTo>
                  <a:lnTo>
                    <a:pt x="0" y="12"/>
                  </a:lnTo>
                  <a:lnTo>
                    <a:pt x="59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75400" y="2476440"/>
              <a:ext cx="101520" cy="340920"/>
            </a:xfrm>
            <a:custGeom>
              <a:avLst/>
              <a:gdLst/>
              <a:ahLst/>
              <a:rect l="l" t="t" r="r" b="b"/>
              <a:pathLst>
                <a:path w="127" h="428">
                  <a:moveTo>
                    <a:pt x="104" y="0"/>
                  </a:moveTo>
                  <a:lnTo>
                    <a:pt x="72" y="50"/>
                  </a:lnTo>
                  <a:lnTo>
                    <a:pt x="78" y="107"/>
                  </a:lnTo>
                  <a:lnTo>
                    <a:pt x="0" y="306"/>
                  </a:lnTo>
                  <a:lnTo>
                    <a:pt x="12" y="428"/>
                  </a:lnTo>
                  <a:lnTo>
                    <a:pt x="120" y="283"/>
                  </a:lnTo>
                  <a:lnTo>
                    <a:pt x="104" y="115"/>
                  </a:lnTo>
                  <a:lnTo>
                    <a:pt x="127" y="78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53160" y="2234880"/>
              <a:ext cx="88920" cy="10440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112" y="0"/>
                  </a:moveTo>
                  <a:lnTo>
                    <a:pt x="40" y="33"/>
                  </a:lnTo>
                  <a:lnTo>
                    <a:pt x="0" y="131"/>
                  </a:lnTo>
                  <a:lnTo>
                    <a:pt x="52" y="48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78640" y="2109600"/>
              <a:ext cx="82440" cy="56880"/>
            </a:xfrm>
            <a:custGeom>
              <a:avLst/>
              <a:gdLst/>
              <a:ahLst/>
              <a:rect l="l" t="t" r="r" b="b"/>
              <a:pathLst>
                <a:path w="103" h="73">
                  <a:moveTo>
                    <a:pt x="0" y="25"/>
                  </a:moveTo>
                  <a:lnTo>
                    <a:pt x="4" y="22"/>
                  </a:lnTo>
                  <a:lnTo>
                    <a:pt x="15" y="14"/>
                  </a:lnTo>
                  <a:lnTo>
                    <a:pt x="30" y="6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2" y="10"/>
                  </a:lnTo>
                  <a:lnTo>
                    <a:pt x="94" y="33"/>
                  </a:lnTo>
                  <a:lnTo>
                    <a:pt x="103" y="73"/>
                  </a:lnTo>
                  <a:lnTo>
                    <a:pt x="101" y="70"/>
                  </a:lnTo>
                  <a:lnTo>
                    <a:pt x="94" y="62"/>
                  </a:lnTo>
                  <a:lnTo>
                    <a:pt x="86" y="51"/>
                  </a:lnTo>
                  <a:lnTo>
                    <a:pt x="74" y="40"/>
                  </a:lnTo>
                  <a:lnTo>
                    <a:pt x="59" y="29"/>
                  </a:lnTo>
                  <a:lnTo>
                    <a:pt x="41" y="22"/>
                  </a:lnTo>
                  <a:lnTo>
                    <a:pt x="22" y="2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da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43680" y="2328840"/>
              <a:ext cx="795240" cy="780480"/>
            </a:xfrm>
            <a:custGeom>
              <a:avLst/>
              <a:gdLst/>
              <a:ahLst/>
              <a:rect l="l" t="t" r="r" b="b"/>
              <a:pathLst>
                <a:path w="1003" h="984">
                  <a:moveTo>
                    <a:pt x="992" y="236"/>
                  </a:moveTo>
                  <a:lnTo>
                    <a:pt x="746" y="26"/>
                  </a:lnTo>
                  <a:lnTo>
                    <a:pt x="746" y="29"/>
                  </a:lnTo>
                  <a:lnTo>
                    <a:pt x="737" y="22"/>
                  </a:lnTo>
                  <a:lnTo>
                    <a:pt x="377" y="0"/>
                  </a:lnTo>
                  <a:lnTo>
                    <a:pt x="117" y="92"/>
                  </a:lnTo>
                  <a:lnTo>
                    <a:pt x="0" y="364"/>
                  </a:lnTo>
                  <a:lnTo>
                    <a:pt x="24" y="984"/>
                  </a:lnTo>
                  <a:lnTo>
                    <a:pt x="553" y="984"/>
                  </a:lnTo>
                  <a:lnTo>
                    <a:pt x="837" y="984"/>
                  </a:lnTo>
                  <a:lnTo>
                    <a:pt x="847" y="957"/>
                  </a:lnTo>
                  <a:lnTo>
                    <a:pt x="870" y="886"/>
                  </a:lnTo>
                  <a:lnTo>
                    <a:pt x="903" y="782"/>
                  </a:lnTo>
                  <a:lnTo>
                    <a:pt x="939" y="658"/>
                  </a:lnTo>
                  <a:lnTo>
                    <a:pt x="970" y="528"/>
                  </a:lnTo>
                  <a:lnTo>
                    <a:pt x="995" y="407"/>
                  </a:lnTo>
                  <a:lnTo>
                    <a:pt x="1003" y="304"/>
                  </a:lnTo>
                  <a:lnTo>
                    <a:pt x="992" y="23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78760" y="2293920"/>
              <a:ext cx="357120" cy="339120"/>
            </a:xfrm>
            <a:custGeom>
              <a:avLst/>
              <a:gdLst/>
              <a:ahLst/>
              <a:rect l="l" t="t" r="r" b="b"/>
              <a:pathLst>
                <a:path w="449" h="428">
                  <a:moveTo>
                    <a:pt x="80" y="1"/>
                  </a:moveTo>
                  <a:lnTo>
                    <a:pt x="68" y="83"/>
                  </a:lnTo>
                  <a:lnTo>
                    <a:pt x="0" y="428"/>
                  </a:lnTo>
                  <a:lnTo>
                    <a:pt x="449" y="69"/>
                  </a:lnTo>
                  <a:lnTo>
                    <a:pt x="439" y="0"/>
                  </a:lnTo>
                  <a:lnTo>
                    <a:pt x="149" y="48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254720" y="2462040"/>
              <a:ext cx="14400" cy="1728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0" y="23"/>
                  </a:moveTo>
                  <a:lnTo>
                    <a:pt x="14" y="22"/>
                  </a:lnTo>
                  <a:lnTo>
                    <a:pt x="16" y="19"/>
                  </a:lnTo>
                  <a:lnTo>
                    <a:pt x="18" y="16"/>
                  </a:lnTo>
                  <a:lnTo>
                    <a:pt x="19" y="11"/>
                  </a:lnTo>
                  <a:lnTo>
                    <a:pt x="18" y="7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1" y="7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74000" y="1860480"/>
              <a:ext cx="450720" cy="478800"/>
            </a:xfrm>
            <a:custGeom>
              <a:avLst/>
              <a:gdLst/>
              <a:ahLst/>
              <a:rect l="l" t="t" r="r" b="b"/>
              <a:pathLst>
                <a:path w="568" h="603">
                  <a:moveTo>
                    <a:pt x="568" y="215"/>
                  </a:moveTo>
                  <a:lnTo>
                    <a:pt x="558" y="195"/>
                  </a:lnTo>
                  <a:lnTo>
                    <a:pt x="546" y="172"/>
                  </a:lnTo>
                  <a:lnTo>
                    <a:pt x="531" y="148"/>
                  </a:lnTo>
                  <a:lnTo>
                    <a:pt x="515" y="126"/>
                  </a:lnTo>
                  <a:lnTo>
                    <a:pt x="494" y="113"/>
                  </a:lnTo>
                  <a:lnTo>
                    <a:pt x="471" y="112"/>
                  </a:lnTo>
                  <a:lnTo>
                    <a:pt x="445" y="127"/>
                  </a:lnTo>
                  <a:lnTo>
                    <a:pt x="415" y="164"/>
                  </a:lnTo>
                  <a:lnTo>
                    <a:pt x="415" y="161"/>
                  </a:lnTo>
                  <a:lnTo>
                    <a:pt x="415" y="153"/>
                  </a:lnTo>
                  <a:lnTo>
                    <a:pt x="415" y="141"/>
                  </a:lnTo>
                  <a:lnTo>
                    <a:pt x="413" y="124"/>
                  </a:lnTo>
                  <a:lnTo>
                    <a:pt x="410" y="106"/>
                  </a:lnTo>
                  <a:lnTo>
                    <a:pt x="405" y="87"/>
                  </a:lnTo>
                  <a:lnTo>
                    <a:pt x="397" y="68"/>
                  </a:lnTo>
                  <a:lnTo>
                    <a:pt x="386" y="49"/>
                  </a:lnTo>
                  <a:lnTo>
                    <a:pt x="369" y="33"/>
                  </a:lnTo>
                  <a:lnTo>
                    <a:pt x="349" y="18"/>
                  </a:lnTo>
                  <a:lnTo>
                    <a:pt x="321" y="7"/>
                  </a:lnTo>
                  <a:lnTo>
                    <a:pt x="289" y="0"/>
                  </a:lnTo>
                  <a:lnTo>
                    <a:pt x="250" y="0"/>
                  </a:lnTo>
                  <a:lnTo>
                    <a:pt x="204" y="5"/>
                  </a:lnTo>
                  <a:lnTo>
                    <a:pt x="149" y="18"/>
                  </a:lnTo>
                  <a:lnTo>
                    <a:pt x="86" y="39"/>
                  </a:lnTo>
                  <a:lnTo>
                    <a:pt x="75" y="55"/>
                  </a:lnTo>
                  <a:lnTo>
                    <a:pt x="64" y="67"/>
                  </a:lnTo>
                  <a:lnTo>
                    <a:pt x="55" y="79"/>
                  </a:lnTo>
                  <a:lnTo>
                    <a:pt x="46" y="91"/>
                  </a:lnTo>
                  <a:lnTo>
                    <a:pt x="39" y="106"/>
                  </a:lnTo>
                  <a:lnTo>
                    <a:pt x="35" y="124"/>
                  </a:lnTo>
                  <a:lnTo>
                    <a:pt x="34" y="148"/>
                  </a:lnTo>
                  <a:lnTo>
                    <a:pt x="35" y="175"/>
                  </a:lnTo>
                  <a:lnTo>
                    <a:pt x="39" y="183"/>
                  </a:lnTo>
                  <a:lnTo>
                    <a:pt x="48" y="200"/>
                  </a:lnTo>
                  <a:lnTo>
                    <a:pt x="57" y="217"/>
                  </a:lnTo>
                  <a:lnTo>
                    <a:pt x="61" y="224"/>
                  </a:lnTo>
                  <a:lnTo>
                    <a:pt x="0" y="317"/>
                  </a:lnTo>
                  <a:lnTo>
                    <a:pt x="50" y="347"/>
                  </a:lnTo>
                  <a:lnTo>
                    <a:pt x="48" y="384"/>
                  </a:lnTo>
                  <a:lnTo>
                    <a:pt x="138" y="380"/>
                  </a:lnTo>
                  <a:lnTo>
                    <a:pt x="139" y="381"/>
                  </a:lnTo>
                  <a:lnTo>
                    <a:pt x="141" y="387"/>
                  </a:lnTo>
                  <a:lnTo>
                    <a:pt x="142" y="395"/>
                  </a:lnTo>
                  <a:lnTo>
                    <a:pt x="144" y="403"/>
                  </a:lnTo>
                  <a:lnTo>
                    <a:pt x="141" y="414"/>
                  </a:lnTo>
                  <a:lnTo>
                    <a:pt x="137" y="425"/>
                  </a:lnTo>
                  <a:lnTo>
                    <a:pt x="128" y="435"/>
                  </a:lnTo>
                  <a:lnTo>
                    <a:pt x="115" y="444"/>
                  </a:lnTo>
                  <a:lnTo>
                    <a:pt x="104" y="449"/>
                  </a:lnTo>
                  <a:lnTo>
                    <a:pt x="93" y="450"/>
                  </a:lnTo>
                  <a:lnTo>
                    <a:pt x="82" y="451"/>
                  </a:lnTo>
                  <a:lnTo>
                    <a:pt x="72" y="450"/>
                  </a:lnTo>
                  <a:lnTo>
                    <a:pt x="63" y="449"/>
                  </a:lnTo>
                  <a:lnTo>
                    <a:pt x="56" y="447"/>
                  </a:lnTo>
                  <a:lnTo>
                    <a:pt x="52" y="446"/>
                  </a:lnTo>
                  <a:lnTo>
                    <a:pt x="50" y="446"/>
                  </a:lnTo>
                  <a:lnTo>
                    <a:pt x="53" y="470"/>
                  </a:lnTo>
                  <a:lnTo>
                    <a:pt x="42" y="479"/>
                  </a:lnTo>
                  <a:lnTo>
                    <a:pt x="30" y="491"/>
                  </a:lnTo>
                  <a:lnTo>
                    <a:pt x="20" y="503"/>
                  </a:lnTo>
                  <a:lnTo>
                    <a:pt x="16" y="517"/>
                  </a:lnTo>
                  <a:lnTo>
                    <a:pt x="18" y="525"/>
                  </a:lnTo>
                  <a:lnTo>
                    <a:pt x="20" y="533"/>
                  </a:lnTo>
                  <a:lnTo>
                    <a:pt x="24" y="540"/>
                  </a:lnTo>
                  <a:lnTo>
                    <a:pt x="30" y="547"/>
                  </a:lnTo>
                  <a:lnTo>
                    <a:pt x="37" y="552"/>
                  </a:lnTo>
                  <a:lnTo>
                    <a:pt x="44" y="557"/>
                  </a:lnTo>
                  <a:lnTo>
                    <a:pt x="52" y="558"/>
                  </a:lnTo>
                  <a:lnTo>
                    <a:pt x="61" y="559"/>
                  </a:lnTo>
                  <a:lnTo>
                    <a:pt x="71" y="558"/>
                  </a:lnTo>
                  <a:lnTo>
                    <a:pt x="81" y="555"/>
                  </a:lnTo>
                  <a:lnTo>
                    <a:pt x="89" y="551"/>
                  </a:lnTo>
                  <a:lnTo>
                    <a:pt x="96" y="544"/>
                  </a:lnTo>
                  <a:lnTo>
                    <a:pt x="98" y="546"/>
                  </a:lnTo>
                  <a:lnTo>
                    <a:pt x="100" y="554"/>
                  </a:lnTo>
                  <a:lnTo>
                    <a:pt x="102" y="562"/>
                  </a:lnTo>
                  <a:lnTo>
                    <a:pt x="107" y="569"/>
                  </a:lnTo>
                  <a:lnTo>
                    <a:pt x="112" y="574"/>
                  </a:lnTo>
                  <a:lnTo>
                    <a:pt x="119" y="580"/>
                  </a:lnTo>
                  <a:lnTo>
                    <a:pt x="126" y="584"/>
                  </a:lnTo>
                  <a:lnTo>
                    <a:pt x="134" y="585"/>
                  </a:lnTo>
                  <a:lnTo>
                    <a:pt x="144" y="587"/>
                  </a:lnTo>
                  <a:lnTo>
                    <a:pt x="153" y="585"/>
                  </a:lnTo>
                  <a:lnTo>
                    <a:pt x="163" y="583"/>
                  </a:lnTo>
                  <a:lnTo>
                    <a:pt x="171" y="578"/>
                  </a:lnTo>
                  <a:lnTo>
                    <a:pt x="178" y="573"/>
                  </a:lnTo>
                  <a:lnTo>
                    <a:pt x="178" y="573"/>
                  </a:lnTo>
                  <a:lnTo>
                    <a:pt x="231" y="550"/>
                  </a:lnTo>
                  <a:lnTo>
                    <a:pt x="274" y="603"/>
                  </a:lnTo>
                  <a:lnTo>
                    <a:pt x="550" y="550"/>
                  </a:lnTo>
                  <a:lnTo>
                    <a:pt x="557" y="379"/>
                  </a:lnTo>
                  <a:lnTo>
                    <a:pt x="568" y="215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57960" y="2125440"/>
              <a:ext cx="147600" cy="21888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0" y="215"/>
                  </a:moveTo>
                  <a:lnTo>
                    <a:pt x="34" y="275"/>
                  </a:lnTo>
                  <a:lnTo>
                    <a:pt x="108" y="254"/>
                  </a:lnTo>
                  <a:lnTo>
                    <a:pt x="114" y="239"/>
                  </a:lnTo>
                  <a:lnTo>
                    <a:pt x="125" y="201"/>
                  </a:lnTo>
                  <a:lnTo>
                    <a:pt x="141" y="150"/>
                  </a:lnTo>
                  <a:lnTo>
                    <a:pt x="159" y="94"/>
                  </a:lnTo>
                  <a:lnTo>
                    <a:pt x="174" y="45"/>
                  </a:lnTo>
                  <a:lnTo>
                    <a:pt x="185" y="10"/>
                  </a:lnTo>
                  <a:lnTo>
                    <a:pt x="186" y="0"/>
                  </a:lnTo>
                  <a:lnTo>
                    <a:pt x="175" y="23"/>
                  </a:lnTo>
                  <a:lnTo>
                    <a:pt x="155" y="66"/>
                  </a:lnTo>
                  <a:lnTo>
                    <a:pt x="129" y="103"/>
                  </a:lnTo>
                  <a:lnTo>
                    <a:pt x="100" y="135"/>
                  </a:lnTo>
                  <a:lnTo>
                    <a:pt x="70" y="163"/>
                  </a:lnTo>
                  <a:lnTo>
                    <a:pt x="44" y="185"/>
                  </a:lnTo>
                  <a:lnTo>
                    <a:pt x="21" y="201"/>
                  </a:lnTo>
                  <a:lnTo>
                    <a:pt x="6" y="212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147080" y="2011320"/>
              <a:ext cx="110880" cy="48600"/>
            </a:xfrm>
            <a:custGeom>
              <a:avLst/>
              <a:gdLst/>
              <a:ahLst/>
              <a:rect l="l" t="t" r="r" b="b"/>
              <a:pathLst>
                <a:path w="138" h="63">
                  <a:moveTo>
                    <a:pt x="70" y="0"/>
                  </a:moveTo>
                  <a:lnTo>
                    <a:pt x="81" y="0"/>
                  </a:lnTo>
                  <a:lnTo>
                    <a:pt x="92" y="3"/>
                  </a:lnTo>
                  <a:lnTo>
                    <a:pt x="101" y="5"/>
                  </a:lnTo>
                  <a:lnTo>
                    <a:pt x="111" y="8"/>
                  </a:lnTo>
                  <a:lnTo>
                    <a:pt x="119" y="12"/>
                  </a:lnTo>
                  <a:lnTo>
                    <a:pt x="126" y="18"/>
                  </a:lnTo>
                  <a:lnTo>
                    <a:pt x="133" y="23"/>
                  </a:lnTo>
                  <a:lnTo>
                    <a:pt x="138" y="30"/>
                  </a:lnTo>
                  <a:lnTo>
                    <a:pt x="133" y="37"/>
                  </a:lnTo>
                  <a:lnTo>
                    <a:pt x="126" y="44"/>
                  </a:lnTo>
                  <a:lnTo>
                    <a:pt x="119" y="49"/>
                  </a:lnTo>
                  <a:lnTo>
                    <a:pt x="111" y="53"/>
                  </a:lnTo>
                  <a:lnTo>
                    <a:pt x="101" y="57"/>
                  </a:lnTo>
                  <a:lnTo>
                    <a:pt x="92" y="60"/>
                  </a:lnTo>
                  <a:lnTo>
                    <a:pt x="81" y="63"/>
                  </a:lnTo>
                  <a:lnTo>
                    <a:pt x="70" y="63"/>
                  </a:lnTo>
                  <a:lnTo>
                    <a:pt x="59" y="63"/>
                  </a:lnTo>
                  <a:lnTo>
                    <a:pt x="48" y="60"/>
                  </a:lnTo>
                  <a:lnTo>
                    <a:pt x="38" y="57"/>
                  </a:lnTo>
                  <a:lnTo>
                    <a:pt x="29" y="55"/>
                  </a:lnTo>
                  <a:lnTo>
                    <a:pt x="20" y="51"/>
                  </a:lnTo>
                  <a:lnTo>
                    <a:pt x="12" y="45"/>
                  </a:lnTo>
                  <a:lnTo>
                    <a:pt x="5" y="40"/>
                  </a:lnTo>
                  <a:lnTo>
                    <a:pt x="0" y="33"/>
                  </a:lnTo>
                  <a:lnTo>
                    <a:pt x="5" y="26"/>
                  </a:lnTo>
                  <a:lnTo>
                    <a:pt x="12" y="19"/>
                  </a:lnTo>
                  <a:lnTo>
                    <a:pt x="19" y="15"/>
                  </a:lnTo>
                  <a:lnTo>
                    <a:pt x="27" y="10"/>
                  </a:lnTo>
                  <a:lnTo>
                    <a:pt x="37" y="5"/>
                  </a:lnTo>
                  <a:lnTo>
                    <a:pt x="48" y="3"/>
                  </a:lnTo>
                  <a:lnTo>
                    <a:pt x="59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57880" y="1957320"/>
              <a:ext cx="113040" cy="63000"/>
            </a:xfrm>
            <a:custGeom>
              <a:avLst/>
              <a:gdLst/>
              <a:ahLst/>
              <a:rect l="l" t="t" r="r" b="b"/>
              <a:pathLst>
                <a:path w="144" h="80">
                  <a:moveTo>
                    <a:pt x="132" y="75"/>
                  </a:moveTo>
                  <a:lnTo>
                    <a:pt x="132" y="75"/>
                  </a:lnTo>
                  <a:lnTo>
                    <a:pt x="132" y="73"/>
                  </a:lnTo>
                  <a:lnTo>
                    <a:pt x="129" y="68"/>
                  </a:lnTo>
                  <a:lnTo>
                    <a:pt x="126" y="62"/>
                  </a:lnTo>
                  <a:lnTo>
                    <a:pt x="121" y="54"/>
                  </a:lnTo>
                  <a:lnTo>
                    <a:pt x="115" y="45"/>
                  </a:lnTo>
                  <a:lnTo>
                    <a:pt x="107" y="36"/>
                  </a:lnTo>
                  <a:lnTo>
                    <a:pt x="97" y="28"/>
                  </a:lnTo>
                  <a:lnTo>
                    <a:pt x="85" y="21"/>
                  </a:lnTo>
                  <a:lnTo>
                    <a:pt x="77" y="17"/>
                  </a:lnTo>
                  <a:lnTo>
                    <a:pt x="69" y="16"/>
                  </a:lnTo>
                  <a:lnTo>
                    <a:pt x="59" y="15"/>
                  </a:lnTo>
                  <a:lnTo>
                    <a:pt x="49" y="13"/>
                  </a:lnTo>
                  <a:lnTo>
                    <a:pt x="40" y="15"/>
                  </a:lnTo>
                  <a:lnTo>
                    <a:pt x="30" y="16"/>
                  </a:lnTo>
                  <a:lnTo>
                    <a:pt x="21" y="19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7" y="6"/>
                  </a:lnTo>
                  <a:lnTo>
                    <a:pt x="28" y="2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71" y="2"/>
                  </a:lnTo>
                  <a:lnTo>
                    <a:pt x="81" y="5"/>
                  </a:lnTo>
                  <a:lnTo>
                    <a:pt x="91" y="9"/>
                  </a:lnTo>
                  <a:lnTo>
                    <a:pt x="104" y="17"/>
                  </a:lnTo>
                  <a:lnTo>
                    <a:pt x="115" y="26"/>
                  </a:lnTo>
                  <a:lnTo>
                    <a:pt x="125" y="36"/>
                  </a:lnTo>
                  <a:lnTo>
                    <a:pt x="132" y="46"/>
                  </a:lnTo>
                  <a:lnTo>
                    <a:pt x="137" y="56"/>
                  </a:lnTo>
                  <a:lnTo>
                    <a:pt x="141" y="62"/>
                  </a:lnTo>
                  <a:lnTo>
                    <a:pt x="144" y="68"/>
                  </a:lnTo>
                  <a:lnTo>
                    <a:pt x="144" y="71"/>
                  </a:lnTo>
                  <a:lnTo>
                    <a:pt x="144" y="71"/>
                  </a:lnTo>
                  <a:lnTo>
                    <a:pt x="144" y="73"/>
                  </a:lnTo>
                  <a:lnTo>
                    <a:pt x="144" y="76"/>
                  </a:lnTo>
                  <a:lnTo>
                    <a:pt x="143" y="79"/>
                  </a:lnTo>
                  <a:lnTo>
                    <a:pt x="140" y="80"/>
                  </a:lnTo>
                  <a:lnTo>
                    <a:pt x="137" y="80"/>
                  </a:lnTo>
                  <a:lnTo>
                    <a:pt x="136" y="79"/>
                  </a:lnTo>
                  <a:lnTo>
                    <a:pt x="133" y="78"/>
                  </a:lnTo>
                  <a:lnTo>
                    <a:pt x="132" y="75"/>
                  </a:lnTo>
                  <a:lnTo>
                    <a:pt x="13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19960" y="2033280"/>
              <a:ext cx="63360" cy="9180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43" y="1"/>
                  </a:moveTo>
                  <a:lnTo>
                    <a:pt x="47" y="4"/>
                  </a:lnTo>
                  <a:lnTo>
                    <a:pt x="52" y="8"/>
                  </a:lnTo>
                  <a:lnTo>
                    <a:pt x="59" y="15"/>
                  </a:lnTo>
                  <a:lnTo>
                    <a:pt x="66" y="23"/>
                  </a:lnTo>
                  <a:lnTo>
                    <a:pt x="73" y="31"/>
                  </a:lnTo>
                  <a:lnTo>
                    <a:pt x="78" y="42"/>
                  </a:lnTo>
                  <a:lnTo>
                    <a:pt x="81" y="53"/>
                  </a:lnTo>
                  <a:lnTo>
                    <a:pt x="81" y="65"/>
                  </a:lnTo>
                  <a:lnTo>
                    <a:pt x="78" y="74"/>
                  </a:lnTo>
                  <a:lnTo>
                    <a:pt x="74" y="80"/>
                  </a:lnTo>
                  <a:lnTo>
                    <a:pt x="69" y="87"/>
                  </a:lnTo>
                  <a:lnTo>
                    <a:pt x="60" y="94"/>
                  </a:lnTo>
                  <a:lnTo>
                    <a:pt x="51" y="100"/>
                  </a:lnTo>
                  <a:lnTo>
                    <a:pt x="40" y="105"/>
                  </a:lnTo>
                  <a:lnTo>
                    <a:pt x="26" y="110"/>
                  </a:lnTo>
                  <a:lnTo>
                    <a:pt x="11" y="115"/>
                  </a:lnTo>
                  <a:lnTo>
                    <a:pt x="11" y="115"/>
                  </a:lnTo>
                  <a:lnTo>
                    <a:pt x="8" y="115"/>
                  </a:lnTo>
                  <a:lnTo>
                    <a:pt x="4" y="113"/>
                  </a:lnTo>
                  <a:lnTo>
                    <a:pt x="1" y="112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1" y="101"/>
                  </a:lnTo>
                  <a:lnTo>
                    <a:pt x="3" y="98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19" y="93"/>
                  </a:lnTo>
                  <a:lnTo>
                    <a:pt x="29" y="90"/>
                  </a:lnTo>
                  <a:lnTo>
                    <a:pt x="38" y="86"/>
                  </a:lnTo>
                  <a:lnTo>
                    <a:pt x="45" y="82"/>
                  </a:lnTo>
                  <a:lnTo>
                    <a:pt x="52" y="76"/>
                  </a:lnTo>
                  <a:lnTo>
                    <a:pt x="56" y="72"/>
                  </a:lnTo>
                  <a:lnTo>
                    <a:pt x="60" y="68"/>
                  </a:lnTo>
                  <a:lnTo>
                    <a:pt x="62" y="63"/>
                  </a:lnTo>
                  <a:lnTo>
                    <a:pt x="59" y="49"/>
                  </a:lnTo>
                  <a:lnTo>
                    <a:pt x="52" y="35"/>
                  </a:lnTo>
                  <a:lnTo>
                    <a:pt x="41" y="24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0" y="15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30" y="4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d6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75520" y="2008080"/>
              <a:ext cx="42840" cy="424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28" y="53"/>
                  </a:moveTo>
                  <a:lnTo>
                    <a:pt x="17" y="52"/>
                  </a:lnTo>
                  <a:lnTo>
                    <a:pt x="9" y="46"/>
                  </a:lnTo>
                  <a:lnTo>
                    <a:pt x="3" y="38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7" y="8"/>
                  </a:lnTo>
                  <a:lnTo>
                    <a:pt x="16" y="3"/>
                  </a:lnTo>
                  <a:lnTo>
                    <a:pt x="26" y="0"/>
                  </a:lnTo>
                  <a:lnTo>
                    <a:pt x="37" y="1"/>
                  </a:lnTo>
                  <a:lnTo>
                    <a:pt x="46" y="7"/>
                  </a:lnTo>
                  <a:lnTo>
                    <a:pt x="51" y="15"/>
                  </a:lnTo>
                  <a:lnTo>
                    <a:pt x="54" y="26"/>
                  </a:lnTo>
                  <a:lnTo>
                    <a:pt x="52" y="37"/>
                  </a:lnTo>
                  <a:lnTo>
                    <a:pt x="47" y="45"/>
                  </a:lnTo>
                  <a:lnTo>
                    <a:pt x="39" y="50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84880" y="2019240"/>
              <a:ext cx="20880" cy="1872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4" y="24"/>
                  </a:moveTo>
                  <a:lnTo>
                    <a:pt x="9" y="24"/>
                  </a:lnTo>
                  <a:lnTo>
                    <a:pt x="5" y="21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2" y="4"/>
                  </a:lnTo>
                  <a:lnTo>
                    <a:pt x="25" y="6"/>
                  </a:lnTo>
                  <a:lnTo>
                    <a:pt x="26" y="12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20" y="23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201080" y="2020680"/>
              <a:ext cx="7920" cy="75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5" y="10"/>
                  </a:moveTo>
                  <a:lnTo>
                    <a:pt x="4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20080" y="1800360"/>
              <a:ext cx="423720" cy="360000"/>
            </a:xfrm>
            <a:custGeom>
              <a:avLst/>
              <a:gdLst/>
              <a:ahLst/>
              <a:rect l="l" t="t" r="r" b="b"/>
              <a:pathLst>
                <a:path w="532" h="454">
                  <a:moveTo>
                    <a:pt x="241" y="0"/>
                  </a:moveTo>
                  <a:lnTo>
                    <a:pt x="215" y="1"/>
                  </a:lnTo>
                  <a:lnTo>
                    <a:pt x="189" y="5"/>
                  </a:lnTo>
                  <a:lnTo>
                    <a:pt x="164" y="12"/>
                  </a:lnTo>
                  <a:lnTo>
                    <a:pt x="141" y="20"/>
                  </a:lnTo>
                  <a:lnTo>
                    <a:pt x="119" y="31"/>
                  </a:lnTo>
                  <a:lnTo>
                    <a:pt x="97" y="43"/>
                  </a:lnTo>
                  <a:lnTo>
                    <a:pt x="78" y="58"/>
                  </a:lnTo>
                  <a:lnTo>
                    <a:pt x="59" y="75"/>
                  </a:lnTo>
                  <a:lnTo>
                    <a:pt x="54" y="72"/>
                  </a:lnTo>
                  <a:lnTo>
                    <a:pt x="49" y="69"/>
                  </a:lnTo>
                  <a:lnTo>
                    <a:pt x="42" y="68"/>
                  </a:lnTo>
                  <a:lnTo>
                    <a:pt x="35" y="68"/>
                  </a:lnTo>
                  <a:lnTo>
                    <a:pt x="22" y="71"/>
                  </a:lnTo>
                  <a:lnTo>
                    <a:pt x="11" y="78"/>
                  </a:lnTo>
                  <a:lnTo>
                    <a:pt x="2" y="88"/>
                  </a:lnTo>
                  <a:lnTo>
                    <a:pt x="0" y="102"/>
                  </a:lnTo>
                  <a:lnTo>
                    <a:pt x="4" y="116"/>
                  </a:lnTo>
                  <a:lnTo>
                    <a:pt x="12" y="127"/>
                  </a:lnTo>
                  <a:lnTo>
                    <a:pt x="23" y="134"/>
                  </a:lnTo>
                  <a:lnTo>
                    <a:pt x="37" y="135"/>
                  </a:lnTo>
                  <a:lnTo>
                    <a:pt x="50" y="132"/>
                  </a:lnTo>
                  <a:lnTo>
                    <a:pt x="61" y="127"/>
                  </a:lnTo>
                  <a:lnTo>
                    <a:pt x="68" y="117"/>
                  </a:lnTo>
                  <a:lnTo>
                    <a:pt x="72" y="106"/>
                  </a:lnTo>
                  <a:lnTo>
                    <a:pt x="85" y="105"/>
                  </a:lnTo>
                  <a:lnTo>
                    <a:pt x="97" y="105"/>
                  </a:lnTo>
                  <a:lnTo>
                    <a:pt x="109" y="105"/>
                  </a:lnTo>
                  <a:lnTo>
                    <a:pt x="121" y="106"/>
                  </a:lnTo>
                  <a:lnTo>
                    <a:pt x="132" y="108"/>
                  </a:lnTo>
                  <a:lnTo>
                    <a:pt x="143" y="109"/>
                  </a:lnTo>
                  <a:lnTo>
                    <a:pt x="154" y="112"/>
                  </a:lnTo>
                  <a:lnTo>
                    <a:pt x="165" y="114"/>
                  </a:lnTo>
                  <a:lnTo>
                    <a:pt x="175" y="112"/>
                  </a:lnTo>
                  <a:lnTo>
                    <a:pt x="189" y="109"/>
                  </a:lnTo>
                  <a:lnTo>
                    <a:pt x="206" y="105"/>
                  </a:lnTo>
                  <a:lnTo>
                    <a:pt x="226" y="101"/>
                  </a:lnTo>
                  <a:lnTo>
                    <a:pt x="243" y="97"/>
                  </a:lnTo>
                  <a:lnTo>
                    <a:pt x="258" y="93"/>
                  </a:lnTo>
                  <a:lnTo>
                    <a:pt x="269" y="91"/>
                  </a:lnTo>
                  <a:lnTo>
                    <a:pt x="273" y="90"/>
                  </a:lnTo>
                  <a:lnTo>
                    <a:pt x="198" y="127"/>
                  </a:lnTo>
                  <a:lnTo>
                    <a:pt x="226" y="142"/>
                  </a:lnTo>
                  <a:lnTo>
                    <a:pt x="250" y="160"/>
                  </a:lnTo>
                  <a:lnTo>
                    <a:pt x="272" y="179"/>
                  </a:lnTo>
                  <a:lnTo>
                    <a:pt x="293" y="199"/>
                  </a:lnTo>
                  <a:lnTo>
                    <a:pt x="309" y="220"/>
                  </a:lnTo>
                  <a:lnTo>
                    <a:pt x="324" y="240"/>
                  </a:lnTo>
                  <a:lnTo>
                    <a:pt x="336" y="259"/>
                  </a:lnTo>
                  <a:lnTo>
                    <a:pt x="346" y="276"/>
                  </a:lnTo>
                  <a:lnTo>
                    <a:pt x="301" y="402"/>
                  </a:lnTo>
                  <a:lnTo>
                    <a:pt x="350" y="398"/>
                  </a:lnTo>
                  <a:lnTo>
                    <a:pt x="365" y="306"/>
                  </a:lnTo>
                  <a:lnTo>
                    <a:pt x="399" y="284"/>
                  </a:lnTo>
                  <a:lnTo>
                    <a:pt x="427" y="283"/>
                  </a:lnTo>
                  <a:lnTo>
                    <a:pt x="450" y="296"/>
                  </a:lnTo>
                  <a:lnTo>
                    <a:pt x="469" y="322"/>
                  </a:lnTo>
                  <a:lnTo>
                    <a:pt x="482" y="355"/>
                  </a:lnTo>
                  <a:lnTo>
                    <a:pt x="491" y="391"/>
                  </a:lnTo>
                  <a:lnTo>
                    <a:pt x="497" y="425"/>
                  </a:lnTo>
                  <a:lnTo>
                    <a:pt x="498" y="454"/>
                  </a:lnTo>
                  <a:lnTo>
                    <a:pt x="532" y="265"/>
                  </a:lnTo>
                  <a:lnTo>
                    <a:pt x="531" y="233"/>
                  </a:lnTo>
                  <a:lnTo>
                    <a:pt x="527" y="205"/>
                  </a:lnTo>
                  <a:lnTo>
                    <a:pt x="520" y="177"/>
                  </a:lnTo>
                  <a:lnTo>
                    <a:pt x="509" y="151"/>
                  </a:lnTo>
                  <a:lnTo>
                    <a:pt x="495" y="127"/>
                  </a:lnTo>
                  <a:lnTo>
                    <a:pt x="480" y="105"/>
                  </a:lnTo>
                  <a:lnTo>
                    <a:pt x="462" y="86"/>
                  </a:lnTo>
                  <a:lnTo>
                    <a:pt x="442" y="67"/>
                  </a:lnTo>
                  <a:lnTo>
                    <a:pt x="421" y="52"/>
                  </a:lnTo>
                  <a:lnTo>
                    <a:pt x="398" y="38"/>
                  </a:lnTo>
                  <a:lnTo>
                    <a:pt x="373" y="26"/>
                  </a:lnTo>
                  <a:lnTo>
                    <a:pt x="347" y="16"/>
                  </a:lnTo>
                  <a:lnTo>
                    <a:pt x="321" y="8"/>
                  </a:lnTo>
                  <a:lnTo>
                    <a:pt x="295" y="4"/>
                  </a:lnTo>
                  <a:lnTo>
                    <a:pt x="268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3880" y="1884240"/>
              <a:ext cx="38160" cy="43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3" y="7"/>
                  </a:lnTo>
                  <a:lnTo>
                    <a:pt x="23" y="11"/>
                  </a:lnTo>
                  <a:lnTo>
                    <a:pt x="30" y="19"/>
                  </a:lnTo>
                  <a:lnTo>
                    <a:pt x="34" y="30"/>
                  </a:lnTo>
                  <a:lnTo>
                    <a:pt x="32" y="38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34" y="52"/>
                  </a:lnTo>
                  <a:lnTo>
                    <a:pt x="42" y="45"/>
                  </a:lnTo>
                  <a:lnTo>
                    <a:pt x="48" y="35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2680" y="1895400"/>
              <a:ext cx="39600" cy="4572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16" y="0"/>
                  </a:move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13" y="8"/>
                  </a:lnTo>
                  <a:lnTo>
                    <a:pt x="23" y="12"/>
                  </a:lnTo>
                  <a:lnTo>
                    <a:pt x="30" y="20"/>
                  </a:lnTo>
                  <a:lnTo>
                    <a:pt x="32" y="31"/>
                  </a:lnTo>
                  <a:lnTo>
                    <a:pt x="32" y="38"/>
                  </a:lnTo>
                  <a:lnTo>
                    <a:pt x="31" y="45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34" y="53"/>
                  </a:lnTo>
                  <a:lnTo>
                    <a:pt x="42" y="46"/>
                  </a:lnTo>
                  <a:lnTo>
                    <a:pt x="47" y="37"/>
                  </a:lnTo>
                  <a:lnTo>
                    <a:pt x="49" y="26"/>
                  </a:lnTo>
                  <a:lnTo>
                    <a:pt x="45" y="15"/>
                  </a:lnTo>
                  <a:lnTo>
                    <a:pt x="38" y="7"/>
                  </a:lnTo>
                  <a:lnTo>
                    <a:pt x="28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94400" y="1923840"/>
              <a:ext cx="38160" cy="4428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0"/>
                  </a:moveTo>
                  <a:lnTo>
                    <a:pt x="11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13" y="7"/>
                  </a:lnTo>
                  <a:lnTo>
                    <a:pt x="23" y="12"/>
                  </a:lnTo>
                  <a:lnTo>
                    <a:pt x="30" y="21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1" y="45"/>
                  </a:lnTo>
                  <a:lnTo>
                    <a:pt x="27" y="51"/>
                  </a:lnTo>
                  <a:lnTo>
                    <a:pt x="23" y="56"/>
                  </a:lnTo>
                  <a:lnTo>
                    <a:pt x="34" y="52"/>
                  </a:lnTo>
                  <a:lnTo>
                    <a:pt x="42" y="45"/>
                  </a:lnTo>
                  <a:lnTo>
                    <a:pt x="48" y="36"/>
                  </a:lnTo>
                  <a:lnTo>
                    <a:pt x="49" y="25"/>
                  </a:lnTo>
                  <a:lnTo>
                    <a:pt x="46" y="14"/>
                  </a:lnTo>
                  <a:lnTo>
                    <a:pt x="38" y="6"/>
                  </a:lnTo>
                  <a:lnTo>
                    <a:pt x="28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59480" y="1906560"/>
              <a:ext cx="39960" cy="43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0"/>
                  </a:move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14" y="6"/>
                  </a:lnTo>
                  <a:lnTo>
                    <a:pt x="23" y="12"/>
                  </a:lnTo>
                  <a:lnTo>
                    <a:pt x="30" y="20"/>
                  </a:lnTo>
                  <a:lnTo>
                    <a:pt x="33" y="31"/>
                  </a:lnTo>
                  <a:lnTo>
                    <a:pt x="33" y="38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34" y="52"/>
                  </a:lnTo>
                  <a:lnTo>
                    <a:pt x="42" y="45"/>
                  </a:lnTo>
                  <a:lnTo>
                    <a:pt x="48" y="35"/>
                  </a:lnTo>
                  <a:lnTo>
                    <a:pt x="49" y="24"/>
                  </a:lnTo>
                  <a:lnTo>
                    <a:pt x="46" y="13"/>
                  </a:lnTo>
                  <a:lnTo>
                    <a:pt x="38" y="5"/>
                  </a:lnTo>
                  <a:lnTo>
                    <a:pt x="2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35800" y="1925640"/>
              <a:ext cx="38160" cy="43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15" y="0"/>
                  </a:moveTo>
                  <a:lnTo>
                    <a:pt x="11" y="1"/>
                  </a:lnTo>
                  <a:lnTo>
                    <a:pt x="6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13" y="8"/>
                  </a:lnTo>
                  <a:lnTo>
                    <a:pt x="23" y="12"/>
                  </a:lnTo>
                  <a:lnTo>
                    <a:pt x="30" y="20"/>
                  </a:lnTo>
                  <a:lnTo>
                    <a:pt x="32" y="31"/>
                  </a:lnTo>
                  <a:lnTo>
                    <a:pt x="32" y="38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34" y="53"/>
                  </a:lnTo>
                  <a:lnTo>
                    <a:pt x="42" y="46"/>
                  </a:lnTo>
                  <a:lnTo>
                    <a:pt x="48" y="37"/>
                  </a:lnTo>
                  <a:lnTo>
                    <a:pt x="48" y="26"/>
                  </a:lnTo>
                  <a:lnTo>
                    <a:pt x="45" y="15"/>
                  </a:lnTo>
                  <a:lnTo>
                    <a:pt x="37" y="7"/>
                  </a:lnTo>
                  <a:lnTo>
                    <a:pt x="27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29680" y="1873080"/>
              <a:ext cx="37800" cy="43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7" y="0"/>
                  </a:moveTo>
                  <a:lnTo>
                    <a:pt x="13" y="2"/>
                  </a:lnTo>
                  <a:lnTo>
                    <a:pt x="9" y="3"/>
                  </a:lnTo>
                  <a:lnTo>
                    <a:pt x="5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14" y="7"/>
                  </a:lnTo>
                  <a:lnTo>
                    <a:pt x="24" y="13"/>
                  </a:lnTo>
                  <a:lnTo>
                    <a:pt x="31" y="21"/>
                  </a:lnTo>
                  <a:lnTo>
                    <a:pt x="35" y="32"/>
                  </a:lnTo>
                  <a:lnTo>
                    <a:pt x="33" y="39"/>
                  </a:lnTo>
                  <a:lnTo>
                    <a:pt x="32" y="45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35" y="52"/>
                  </a:lnTo>
                  <a:lnTo>
                    <a:pt x="43" y="45"/>
                  </a:lnTo>
                  <a:lnTo>
                    <a:pt x="48" y="36"/>
                  </a:lnTo>
                  <a:lnTo>
                    <a:pt x="50" y="25"/>
                  </a:lnTo>
                  <a:lnTo>
                    <a:pt x="47" y="14"/>
                  </a:lnTo>
                  <a:lnTo>
                    <a:pt x="39" y="6"/>
                  </a:lnTo>
                  <a:lnTo>
                    <a:pt x="2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81800" y="1850760"/>
              <a:ext cx="39600" cy="4428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0"/>
                  </a:moveTo>
                  <a:lnTo>
                    <a:pt x="11" y="1"/>
                  </a:lnTo>
                  <a:lnTo>
                    <a:pt x="6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13" y="7"/>
                  </a:lnTo>
                  <a:lnTo>
                    <a:pt x="23" y="12"/>
                  </a:lnTo>
                  <a:lnTo>
                    <a:pt x="30" y="20"/>
                  </a:lnTo>
                  <a:lnTo>
                    <a:pt x="32" y="31"/>
                  </a:lnTo>
                  <a:lnTo>
                    <a:pt x="32" y="38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34" y="53"/>
                  </a:lnTo>
                  <a:lnTo>
                    <a:pt x="42" y="45"/>
                  </a:lnTo>
                  <a:lnTo>
                    <a:pt x="47" y="35"/>
                  </a:lnTo>
                  <a:lnTo>
                    <a:pt x="49" y="24"/>
                  </a:lnTo>
                  <a:lnTo>
                    <a:pt x="45" y="14"/>
                  </a:lnTo>
                  <a:lnTo>
                    <a:pt x="38" y="5"/>
                  </a:lnTo>
                  <a:lnTo>
                    <a:pt x="28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56520" y="1825560"/>
              <a:ext cx="39600" cy="360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9" y="4"/>
                  </a:moveTo>
                  <a:lnTo>
                    <a:pt x="7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1" y="11"/>
                  </a:lnTo>
                  <a:lnTo>
                    <a:pt x="20" y="11"/>
                  </a:lnTo>
                  <a:lnTo>
                    <a:pt x="29" y="15"/>
                  </a:lnTo>
                  <a:lnTo>
                    <a:pt x="35" y="22"/>
                  </a:lnTo>
                  <a:lnTo>
                    <a:pt x="38" y="27"/>
                  </a:lnTo>
                  <a:lnTo>
                    <a:pt x="41" y="34"/>
                  </a:lnTo>
                  <a:lnTo>
                    <a:pt x="41" y="40"/>
                  </a:lnTo>
                  <a:lnTo>
                    <a:pt x="38" y="47"/>
                  </a:lnTo>
                  <a:lnTo>
                    <a:pt x="45" y="40"/>
                  </a:lnTo>
                  <a:lnTo>
                    <a:pt x="49" y="30"/>
                  </a:lnTo>
                  <a:lnTo>
                    <a:pt x="49" y="21"/>
                  </a:lnTo>
                  <a:lnTo>
                    <a:pt x="46" y="11"/>
                  </a:lnTo>
                  <a:lnTo>
                    <a:pt x="39" y="4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30960" y="1838160"/>
              <a:ext cx="39960" cy="3600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0" y="5"/>
                  </a:move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1" y="11"/>
                  </a:lnTo>
                  <a:lnTo>
                    <a:pt x="21" y="11"/>
                  </a:lnTo>
                  <a:lnTo>
                    <a:pt x="30" y="15"/>
                  </a:lnTo>
                  <a:lnTo>
                    <a:pt x="37" y="22"/>
                  </a:lnTo>
                  <a:lnTo>
                    <a:pt x="40" y="28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0" y="47"/>
                  </a:lnTo>
                  <a:lnTo>
                    <a:pt x="47" y="40"/>
                  </a:lnTo>
                  <a:lnTo>
                    <a:pt x="51" y="31"/>
                  </a:lnTo>
                  <a:lnTo>
                    <a:pt x="51" y="21"/>
                  </a:lnTo>
                  <a:lnTo>
                    <a:pt x="47" y="11"/>
                  </a:lnTo>
                  <a:lnTo>
                    <a:pt x="40" y="5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70840" y="2339640"/>
              <a:ext cx="126720" cy="299880"/>
            </a:xfrm>
            <a:custGeom>
              <a:avLst/>
              <a:gdLst/>
              <a:ahLst/>
              <a:rect l="l" t="t" r="r" b="b"/>
              <a:pathLst>
                <a:path w="159" h="378">
                  <a:moveTo>
                    <a:pt x="142" y="6"/>
                  </a:moveTo>
                  <a:lnTo>
                    <a:pt x="107" y="57"/>
                  </a:lnTo>
                  <a:lnTo>
                    <a:pt x="119" y="85"/>
                  </a:lnTo>
                  <a:lnTo>
                    <a:pt x="25" y="248"/>
                  </a:lnTo>
                  <a:lnTo>
                    <a:pt x="0" y="378"/>
                  </a:lnTo>
                  <a:lnTo>
                    <a:pt x="129" y="281"/>
                  </a:lnTo>
                  <a:lnTo>
                    <a:pt x="134" y="89"/>
                  </a:lnTo>
                  <a:lnTo>
                    <a:pt x="156" y="83"/>
                  </a:lnTo>
                  <a:lnTo>
                    <a:pt x="159" y="0"/>
                  </a:lnTo>
                  <a:lnTo>
                    <a:pt x="142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04240" y="2152440"/>
              <a:ext cx="79200" cy="14040"/>
            </a:xfrm>
            <a:custGeom>
              <a:avLst/>
              <a:gdLst/>
              <a:ahLst/>
              <a:rect l="l" t="t" r="r" b="b"/>
              <a:pathLst>
                <a:path w="100" h="19">
                  <a:moveTo>
                    <a:pt x="100" y="12"/>
                  </a:moveTo>
                  <a:lnTo>
                    <a:pt x="3" y="19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3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60" y="3"/>
                  </a:lnTo>
                  <a:lnTo>
                    <a:pt x="100" y="12"/>
                  </a:lnTo>
                  <a:close/>
                </a:path>
              </a:pathLst>
            </a:custGeom>
            <a:solidFill>
              <a:srgbClr val="d66d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62920" y="2104920"/>
              <a:ext cx="56880" cy="9324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2" y="15"/>
                  </a:lnTo>
                  <a:lnTo>
                    <a:pt x="34" y="26"/>
                  </a:lnTo>
                  <a:lnTo>
                    <a:pt x="47" y="42"/>
                  </a:lnTo>
                  <a:lnTo>
                    <a:pt x="56" y="63"/>
                  </a:lnTo>
                  <a:lnTo>
                    <a:pt x="63" y="89"/>
                  </a:lnTo>
                  <a:lnTo>
                    <a:pt x="63" y="119"/>
                  </a:lnTo>
                  <a:lnTo>
                    <a:pt x="64" y="113"/>
                  </a:lnTo>
                  <a:lnTo>
                    <a:pt x="68" y="101"/>
                  </a:lnTo>
                  <a:lnTo>
                    <a:pt x="71" y="83"/>
                  </a:lnTo>
                  <a:lnTo>
                    <a:pt x="71" y="61"/>
                  </a:lnTo>
                  <a:lnTo>
                    <a:pt x="66" y="39"/>
                  </a:lnTo>
                  <a:lnTo>
                    <a:pt x="55" y="20"/>
                  </a:lnTo>
                  <a:lnTo>
                    <a:pt x="3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02440" y="2233440"/>
              <a:ext cx="55440" cy="14040"/>
            </a:xfrm>
            <a:custGeom>
              <a:avLst/>
              <a:gdLst/>
              <a:ahLst/>
              <a:rect l="l" t="t" r="r" b="b"/>
              <a:pathLst>
                <a:path w="72" h="19">
                  <a:moveTo>
                    <a:pt x="18" y="1"/>
                  </a:moveTo>
                  <a:lnTo>
                    <a:pt x="20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8" y="6"/>
                  </a:lnTo>
                  <a:lnTo>
                    <a:pt x="65" y="11"/>
                  </a:lnTo>
                  <a:lnTo>
                    <a:pt x="72" y="19"/>
                  </a:lnTo>
                  <a:lnTo>
                    <a:pt x="69" y="19"/>
                  </a:lnTo>
                  <a:lnTo>
                    <a:pt x="62" y="18"/>
                  </a:lnTo>
                  <a:lnTo>
                    <a:pt x="51" y="16"/>
                  </a:lnTo>
                  <a:lnTo>
                    <a:pt x="39" y="15"/>
                  </a:lnTo>
                  <a:lnTo>
                    <a:pt x="26" y="14"/>
                  </a:lnTo>
                  <a:lnTo>
                    <a:pt x="14" y="14"/>
                  </a:lnTo>
                  <a:lnTo>
                    <a:pt x="6" y="15"/>
                  </a:lnTo>
                  <a:lnTo>
                    <a:pt x="0" y="18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74000" y="2112840"/>
              <a:ext cx="69840" cy="37800"/>
            </a:xfrm>
            <a:custGeom>
              <a:avLst/>
              <a:gdLst/>
              <a:ahLst/>
              <a:rect l="l" t="t" r="r" b="b"/>
              <a:pathLst>
                <a:path w="87" h="48">
                  <a:moveTo>
                    <a:pt x="0" y="0"/>
                  </a:moveTo>
                  <a:lnTo>
                    <a:pt x="87" y="19"/>
                  </a:lnTo>
                  <a:lnTo>
                    <a:pt x="50" y="48"/>
                  </a:lnTo>
                  <a:lnTo>
                    <a:pt x="5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32440" y="2597040"/>
              <a:ext cx="508320" cy="462960"/>
            </a:xfrm>
            <a:custGeom>
              <a:avLst/>
              <a:gdLst/>
              <a:ahLst/>
              <a:rect l="l" t="t" r="r" b="b"/>
              <a:pathLst>
                <a:path w="641" h="585">
                  <a:moveTo>
                    <a:pt x="0" y="41"/>
                  </a:moveTo>
                  <a:lnTo>
                    <a:pt x="98" y="483"/>
                  </a:lnTo>
                  <a:lnTo>
                    <a:pt x="304" y="450"/>
                  </a:lnTo>
                  <a:lnTo>
                    <a:pt x="517" y="585"/>
                  </a:lnTo>
                  <a:lnTo>
                    <a:pt x="641" y="82"/>
                  </a:lnTo>
                  <a:lnTo>
                    <a:pt x="312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99440" y="2511360"/>
              <a:ext cx="371520" cy="421920"/>
            </a:xfrm>
            <a:custGeom>
              <a:avLst/>
              <a:gdLst/>
              <a:ahLst/>
              <a:rect l="l" t="t" r="r" b="b"/>
              <a:pathLst>
                <a:path w="468" h="534">
                  <a:moveTo>
                    <a:pt x="405" y="0"/>
                  </a:moveTo>
                  <a:lnTo>
                    <a:pt x="159" y="164"/>
                  </a:lnTo>
                  <a:lnTo>
                    <a:pt x="166" y="329"/>
                  </a:lnTo>
                  <a:lnTo>
                    <a:pt x="1" y="329"/>
                  </a:lnTo>
                  <a:lnTo>
                    <a:pt x="0" y="506"/>
                  </a:lnTo>
                  <a:lnTo>
                    <a:pt x="390" y="534"/>
                  </a:lnTo>
                  <a:lnTo>
                    <a:pt x="397" y="515"/>
                  </a:lnTo>
                  <a:lnTo>
                    <a:pt x="414" y="465"/>
                  </a:lnTo>
                  <a:lnTo>
                    <a:pt x="435" y="393"/>
                  </a:lnTo>
                  <a:lnTo>
                    <a:pt x="456" y="308"/>
                  </a:lnTo>
                  <a:lnTo>
                    <a:pt x="468" y="216"/>
                  </a:lnTo>
                  <a:lnTo>
                    <a:pt x="468" y="129"/>
                  </a:lnTo>
                  <a:lnTo>
                    <a:pt x="449" y="54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16920" y="2761920"/>
              <a:ext cx="191880" cy="112680"/>
            </a:xfrm>
            <a:custGeom>
              <a:avLst/>
              <a:gdLst/>
              <a:ahLst/>
              <a:rect l="l" t="t" r="r" b="b"/>
              <a:pathLst>
                <a:path w="244" h="143">
                  <a:moveTo>
                    <a:pt x="240" y="143"/>
                  </a:moveTo>
                  <a:lnTo>
                    <a:pt x="244" y="71"/>
                  </a:lnTo>
                  <a:lnTo>
                    <a:pt x="144" y="56"/>
                  </a:lnTo>
                  <a:lnTo>
                    <a:pt x="88" y="0"/>
                  </a:lnTo>
                  <a:lnTo>
                    <a:pt x="99" y="40"/>
                  </a:lnTo>
                  <a:lnTo>
                    <a:pt x="1" y="48"/>
                  </a:lnTo>
                  <a:lnTo>
                    <a:pt x="64" y="69"/>
                  </a:lnTo>
                  <a:lnTo>
                    <a:pt x="0" y="88"/>
                  </a:lnTo>
                  <a:lnTo>
                    <a:pt x="67" y="93"/>
                  </a:lnTo>
                  <a:lnTo>
                    <a:pt x="29" y="119"/>
                  </a:lnTo>
                  <a:lnTo>
                    <a:pt x="84" y="106"/>
                  </a:lnTo>
                  <a:lnTo>
                    <a:pt x="64" y="141"/>
                  </a:lnTo>
                  <a:lnTo>
                    <a:pt x="107" y="111"/>
                  </a:lnTo>
                  <a:lnTo>
                    <a:pt x="240" y="143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78560" y="2786040"/>
              <a:ext cx="36720" cy="10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74040" y="2568240"/>
              <a:ext cx="66600" cy="199800"/>
            </a:xfrm>
            <a:custGeom>
              <a:avLst/>
              <a:gdLst/>
              <a:ahLst/>
              <a:rect l="l" t="t" r="r" b="b"/>
              <a:pathLst>
                <a:path w="83" h="251">
                  <a:moveTo>
                    <a:pt x="83" y="0"/>
                  </a:moveTo>
                  <a:lnTo>
                    <a:pt x="79" y="7"/>
                  </a:lnTo>
                  <a:lnTo>
                    <a:pt x="69" y="24"/>
                  </a:lnTo>
                  <a:lnTo>
                    <a:pt x="54" y="53"/>
                  </a:lnTo>
                  <a:lnTo>
                    <a:pt x="39" y="89"/>
                  </a:lnTo>
                  <a:lnTo>
                    <a:pt x="24" y="128"/>
                  </a:lnTo>
                  <a:lnTo>
                    <a:pt x="15" y="169"/>
                  </a:lnTo>
                  <a:lnTo>
                    <a:pt x="10" y="212"/>
                  </a:lnTo>
                  <a:lnTo>
                    <a:pt x="15" y="251"/>
                  </a:lnTo>
                  <a:lnTo>
                    <a:pt x="12" y="245"/>
                  </a:lnTo>
                  <a:lnTo>
                    <a:pt x="6" y="225"/>
                  </a:lnTo>
                  <a:lnTo>
                    <a:pt x="2" y="197"/>
                  </a:lnTo>
                  <a:lnTo>
                    <a:pt x="0" y="160"/>
                  </a:lnTo>
                  <a:lnTo>
                    <a:pt x="4" y="120"/>
                  </a:lnTo>
                  <a:lnTo>
                    <a:pt x="17" y="78"/>
                  </a:lnTo>
                  <a:lnTo>
                    <a:pt x="43" y="3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37600" y="2768400"/>
              <a:ext cx="223560" cy="34560"/>
            </a:xfrm>
            <a:custGeom>
              <a:avLst/>
              <a:gdLst/>
              <a:ahLst/>
              <a:rect l="l" t="t" r="r" b="b"/>
              <a:pathLst>
                <a:path w="282" h="44">
                  <a:moveTo>
                    <a:pt x="0" y="16"/>
                  </a:moveTo>
                  <a:lnTo>
                    <a:pt x="3" y="16"/>
                  </a:lnTo>
                  <a:lnTo>
                    <a:pt x="8" y="14"/>
                  </a:lnTo>
                  <a:lnTo>
                    <a:pt x="18" y="11"/>
                  </a:lnTo>
                  <a:lnTo>
                    <a:pt x="31" y="9"/>
                  </a:lnTo>
                  <a:lnTo>
                    <a:pt x="47" y="6"/>
                  </a:lnTo>
                  <a:lnTo>
                    <a:pt x="66" y="5"/>
                  </a:lnTo>
                  <a:lnTo>
                    <a:pt x="85" y="2"/>
                  </a:lnTo>
                  <a:lnTo>
                    <a:pt x="107" y="0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77" y="3"/>
                  </a:lnTo>
                  <a:lnTo>
                    <a:pt x="200" y="7"/>
                  </a:lnTo>
                  <a:lnTo>
                    <a:pt x="222" y="13"/>
                  </a:lnTo>
                  <a:lnTo>
                    <a:pt x="244" y="21"/>
                  </a:lnTo>
                  <a:lnTo>
                    <a:pt x="264" y="31"/>
                  </a:lnTo>
                  <a:lnTo>
                    <a:pt x="282" y="44"/>
                  </a:lnTo>
                  <a:lnTo>
                    <a:pt x="281" y="44"/>
                  </a:lnTo>
                  <a:lnTo>
                    <a:pt x="277" y="42"/>
                  </a:lnTo>
                  <a:lnTo>
                    <a:pt x="270" y="40"/>
                  </a:lnTo>
                  <a:lnTo>
                    <a:pt x="261" y="36"/>
                  </a:lnTo>
                  <a:lnTo>
                    <a:pt x="249" y="33"/>
                  </a:lnTo>
                  <a:lnTo>
                    <a:pt x="235" y="29"/>
                  </a:lnTo>
                  <a:lnTo>
                    <a:pt x="220" y="25"/>
                  </a:lnTo>
                  <a:lnTo>
                    <a:pt x="203" y="21"/>
                  </a:lnTo>
                  <a:lnTo>
                    <a:pt x="183" y="17"/>
                  </a:lnTo>
                  <a:lnTo>
                    <a:pt x="162" y="14"/>
                  </a:lnTo>
                  <a:lnTo>
                    <a:pt x="138" y="11"/>
                  </a:lnTo>
                  <a:lnTo>
                    <a:pt x="114" y="10"/>
                  </a:lnTo>
                  <a:lnTo>
                    <a:pt x="88" y="10"/>
                  </a:lnTo>
                  <a:lnTo>
                    <a:pt x="59" y="10"/>
                  </a:lnTo>
                  <a:lnTo>
                    <a:pt x="30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437600" y="2840040"/>
              <a:ext cx="20520" cy="201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4" y="26"/>
                  </a:moveTo>
                  <a:lnTo>
                    <a:pt x="20" y="24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9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058160" y="2414520"/>
              <a:ext cx="23760" cy="137520"/>
            </a:xfrm>
            <a:custGeom>
              <a:avLst/>
              <a:gdLst/>
              <a:ahLst/>
              <a:rect l="l" t="t" r="r" b="b"/>
              <a:pathLst>
                <a:path w="32" h="172">
                  <a:moveTo>
                    <a:pt x="0" y="18"/>
                  </a:moveTo>
                  <a:lnTo>
                    <a:pt x="32" y="172"/>
                  </a:lnTo>
                  <a:lnTo>
                    <a:pt x="13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0" y="2433600"/>
              <a:ext cx="230040" cy="183600"/>
            </a:xfrm>
            <a:custGeom>
              <a:avLst/>
              <a:gdLst/>
              <a:ahLst/>
              <a:rect l="l" t="t" r="r" b="b"/>
              <a:pathLst>
                <a:path w="291" h="231">
                  <a:moveTo>
                    <a:pt x="282" y="0"/>
                  </a:moveTo>
                  <a:lnTo>
                    <a:pt x="270" y="111"/>
                  </a:lnTo>
                  <a:lnTo>
                    <a:pt x="267" y="112"/>
                  </a:lnTo>
                  <a:lnTo>
                    <a:pt x="258" y="116"/>
                  </a:lnTo>
                  <a:lnTo>
                    <a:pt x="244" y="122"/>
                  </a:lnTo>
                  <a:lnTo>
                    <a:pt x="226" y="130"/>
                  </a:lnTo>
                  <a:lnTo>
                    <a:pt x="206" y="140"/>
                  </a:lnTo>
                  <a:lnTo>
                    <a:pt x="183" y="149"/>
                  </a:lnTo>
                  <a:lnTo>
                    <a:pt x="158" y="160"/>
                  </a:lnTo>
                  <a:lnTo>
                    <a:pt x="132" y="173"/>
                  </a:lnTo>
                  <a:lnTo>
                    <a:pt x="107" y="183"/>
                  </a:lnTo>
                  <a:lnTo>
                    <a:pt x="83" y="194"/>
                  </a:lnTo>
                  <a:lnTo>
                    <a:pt x="59" y="204"/>
                  </a:lnTo>
                  <a:lnTo>
                    <a:pt x="39" y="214"/>
                  </a:lnTo>
                  <a:lnTo>
                    <a:pt x="22" y="222"/>
                  </a:lnTo>
                  <a:lnTo>
                    <a:pt x="10" y="227"/>
                  </a:lnTo>
                  <a:lnTo>
                    <a:pt x="2" y="230"/>
                  </a:lnTo>
                  <a:lnTo>
                    <a:pt x="0" y="231"/>
                  </a:lnTo>
                  <a:lnTo>
                    <a:pt x="5" y="230"/>
                  </a:lnTo>
                  <a:lnTo>
                    <a:pt x="16" y="226"/>
                  </a:lnTo>
                  <a:lnTo>
                    <a:pt x="29" y="220"/>
                  </a:lnTo>
                  <a:lnTo>
                    <a:pt x="48" y="214"/>
                  </a:lnTo>
                  <a:lnTo>
                    <a:pt x="70" y="205"/>
                  </a:lnTo>
                  <a:lnTo>
                    <a:pt x="95" y="196"/>
                  </a:lnTo>
                  <a:lnTo>
                    <a:pt x="121" y="186"/>
                  </a:lnTo>
                  <a:lnTo>
                    <a:pt x="148" y="177"/>
                  </a:lnTo>
                  <a:lnTo>
                    <a:pt x="174" y="166"/>
                  </a:lnTo>
                  <a:lnTo>
                    <a:pt x="200" y="156"/>
                  </a:lnTo>
                  <a:lnTo>
                    <a:pt x="225" y="148"/>
                  </a:lnTo>
                  <a:lnTo>
                    <a:pt x="247" y="140"/>
                  </a:lnTo>
                  <a:lnTo>
                    <a:pt x="265" y="133"/>
                  </a:lnTo>
                  <a:lnTo>
                    <a:pt x="278" y="127"/>
                  </a:lnTo>
                  <a:lnTo>
                    <a:pt x="288" y="125"/>
                  </a:lnTo>
                  <a:lnTo>
                    <a:pt x="291" y="123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83560" y="2651040"/>
              <a:ext cx="164880" cy="24840"/>
            </a:xfrm>
            <a:custGeom>
              <a:avLst/>
              <a:gdLst/>
              <a:ahLst/>
              <a:rect l="l" t="t" r="r" b="b"/>
              <a:pathLst>
                <a:path w="208" h="31">
                  <a:moveTo>
                    <a:pt x="4" y="28"/>
                  </a:moveTo>
                  <a:lnTo>
                    <a:pt x="10" y="26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22"/>
                  </a:lnTo>
                  <a:lnTo>
                    <a:pt x="43" y="23"/>
                  </a:lnTo>
                  <a:lnTo>
                    <a:pt x="49" y="24"/>
                  </a:lnTo>
                  <a:lnTo>
                    <a:pt x="56" y="27"/>
                  </a:lnTo>
                  <a:lnTo>
                    <a:pt x="60" y="28"/>
                  </a:lnTo>
                  <a:lnTo>
                    <a:pt x="66" y="30"/>
                  </a:lnTo>
                  <a:lnTo>
                    <a:pt x="70" y="31"/>
                  </a:lnTo>
                  <a:lnTo>
                    <a:pt x="76" y="31"/>
                  </a:lnTo>
                  <a:lnTo>
                    <a:pt x="81" y="31"/>
                  </a:lnTo>
                  <a:lnTo>
                    <a:pt x="86" y="31"/>
                  </a:lnTo>
                  <a:lnTo>
                    <a:pt x="92" y="30"/>
                  </a:lnTo>
                  <a:lnTo>
                    <a:pt x="97" y="28"/>
                  </a:lnTo>
                  <a:lnTo>
                    <a:pt x="97" y="28"/>
                  </a:lnTo>
                  <a:lnTo>
                    <a:pt x="102" y="27"/>
                  </a:lnTo>
                  <a:lnTo>
                    <a:pt x="104" y="26"/>
                  </a:lnTo>
                  <a:lnTo>
                    <a:pt x="108" y="23"/>
                  </a:lnTo>
                  <a:lnTo>
                    <a:pt x="111" y="20"/>
                  </a:lnTo>
                  <a:lnTo>
                    <a:pt x="114" y="18"/>
                  </a:lnTo>
                  <a:lnTo>
                    <a:pt x="118" y="15"/>
                  </a:lnTo>
                  <a:lnTo>
                    <a:pt x="121" y="13"/>
                  </a:lnTo>
                  <a:lnTo>
                    <a:pt x="125" y="12"/>
                  </a:lnTo>
                  <a:lnTo>
                    <a:pt x="123" y="12"/>
                  </a:lnTo>
                  <a:lnTo>
                    <a:pt x="133" y="11"/>
                  </a:lnTo>
                  <a:lnTo>
                    <a:pt x="143" y="9"/>
                  </a:lnTo>
                  <a:lnTo>
                    <a:pt x="152" y="11"/>
                  </a:lnTo>
                  <a:lnTo>
                    <a:pt x="160" y="13"/>
                  </a:lnTo>
                  <a:lnTo>
                    <a:pt x="160" y="13"/>
                  </a:lnTo>
                  <a:lnTo>
                    <a:pt x="160" y="13"/>
                  </a:lnTo>
                  <a:lnTo>
                    <a:pt x="166" y="15"/>
                  </a:lnTo>
                  <a:lnTo>
                    <a:pt x="171" y="15"/>
                  </a:lnTo>
                  <a:lnTo>
                    <a:pt x="178" y="15"/>
                  </a:lnTo>
                  <a:lnTo>
                    <a:pt x="185" y="15"/>
                  </a:lnTo>
                  <a:lnTo>
                    <a:pt x="192" y="13"/>
                  </a:lnTo>
                  <a:lnTo>
                    <a:pt x="197" y="11"/>
                  </a:lnTo>
                  <a:lnTo>
                    <a:pt x="203" y="8"/>
                  </a:lnTo>
                  <a:lnTo>
                    <a:pt x="208" y="5"/>
                  </a:lnTo>
                  <a:lnTo>
                    <a:pt x="203" y="0"/>
                  </a:lnTo>
                  <a:lnTo>
                    <a:pt x="195" y="5"/>
                  </a:lnTo>
                  <a:lnTo>
                    <a:pt x="184" y="7"/>
                  </a:lnTo>
                  <a:lnTo>
                    <a:pt x="173" y="8"/>
                  </a:lnTo>
                  <a:lnTo>
                    <a:pt x="163" y="7"/>
                  </a:lnTo>
                  <a:lnTo>
                    <a:pt x="163" y="7"/>
                  </a:lnTo>
                  <a:lnTo>
                    <a:pt x="159" y="4"/>
                  </a:lnTo>
                  <a:lnTo>
                    <a:pt x="154" y="2"/>
                  </a:lnTo>
                  <a:lnTo>
                    <a:pt x="148" y="2"/>
                  </a:lnTo>
                  <a:lnTo>
                    <a:pt x="143" y="2"/>
                  </a:lnTo>
                  <a:lnTo>
                    <a:pt x="138" y="2"/>
                  </a:lnTo>
                  <a:lnTo>
                    <a:pt x="133" y="2"/>
                  </a:lnTo>
                  <a:lnTo>
                    <a:pt x="128" y="4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18" y="7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107" y="15"/>
                  </a:lnTo>
                  <a:lnTo>
                    <a:pt x="104" y="16"/>
                  </a:lnTo>
                  <a:lnTo>
                    <a:pt x="102" y="19"/>
                  </a:lnTo>
                  <a:lnTo>
                    <a:pt x="97" y="20"/>
                  </a:lnTo>
                  <a:lnTo>
                    <a:pt x="95" y="22"/>
                  </a:lnTo>
                  <a:lnTo>
                    <a:pt x="95" y="22"/>
                  </a:lnTo>
                  <a:lnTo>
                    <a:pt x="95" y="22"/>
                  </a:lnTo>
                  <a:lnTo>
                    <a:pt x="86" y="24"/>
                  </a:lnTo>
                  <a:lnTo>
                    <a:pt x="77" y="24"/>
                  </a:lnTo>
                  <a:lnTo>
                    <a:pt x="67" y="23"/>
                  </a:lnTo>
                  <a:lnTo>
                    <a:pt x="59" y="20"/>
                  </a:lnTo>
                  <a:lnTo>
                    <a:pt x="52" y="18"/>
                  </a:lnTo>
                  <a:lnTo>
                    <a:pt x="44" y="15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22" y="15"/>
                  </a:lnTo>
                  <a:lnTo>
                    <a:pt x="14" y="16"/>
                  </a:lnTo>
                  <a:lnTo>
                    <a:pt x="7" y="19"/>
                  </a:lnTo>
                  <a:lnTo>
                    <a:pt x="0" y="22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99400" y="2716200"/>
              <a:ext cx="156960" cy="24840"/>
            </a:xfrm>
            <a:custGeom>
              <a:avLst/>
              <a:gdLst/>
              <a:ahLst/>
              <a:rect l="l" t="t" r="r" b="b"/>
              <a:pathLst>
                <a:path w="199" h="31">
                  <a:moveTo>
                    <a:pt x="4" y="29"/>
                  </a:moveTo>
                  <a:lnTo>
                    <a:pt x="10" y="26"/>
                  </a:lnTo>
                  <a:lnTo>
                    <a:pt x="17" y="23"/>
                  </a:lnTo>
                  <a:lnTo>
                    <a:pt x="22" y="22"/>
                  </a:lnTo>
                  <a:lnTo>
                    <a:pt x="29" y="22"/>
                  </a:lnTo>
                  <a:lnTo>
                    <a:pt x="36" y="22"/>
                  </a:lnTo>
                  <a:lnTo>
                    <a:pt x="41" y="22"/>
                  </a:lnTo>
                  <a:lnTo>
                    <a:pt x="48" y="23"/>
                  </a:lnTo>
                  <a:lnTo>
                    <a:pt x="54" y="26"/>
                  </a:lnTo>
                  <a:lnTo>
                    <a:pt x="63" y="29"/>
                  </a:lnTo>
                  <a:lnTo>
                    <a:pt x="73" y="31"/>
                  </a:lnTo>
                  <a:lnTo>
                    <a:pt x="84" y="31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8" y="27"/>
                  </a:lnTo>
                  <a:lnTo>
                    <a:pt x="100" y="24"/>
                  </a:lnTo>
                  <a:lnTo>
                    <a:pt x="104" y="23"/>
                  </a:lnTo>
                  <a:lnTo>
                    <a:pt x="107" y="20"/>
                  </a:lnTo>
                  <a:lnTo>
                    <a:pt x="110" y="18"/>
                  </a:lnTo>
                  <a:lnTo>
                    <a:pt x="113" y="15"/>
                  </a:lnTo>
                  <a:lnTo>
                    <a:pt x="115" y="14"/>
                  </a:lnTo>
                  <a:lnTo>
                    <a:pt x="119" y="12"/>
                  </a:lnTo>
                  <a:lnTo>
                    <a:pt x="118" y="12"/>
                  </a:lnTo>
                  <a:lnTo>
                    <a:pt x="128" y="11"/>
                  </a:lnTo>
                  <a:lnTo>
                    <a:pt x="137" y="11"/>
                  </a:lnTo>
                  <a:lnTo>
                    <a:pt x="145" y="11"/>
                  </a:lnTo>
                  <a:lnTo>
                    <a:pt x="152" y="14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59" y="15"/>
                  </a:lnTo>
                  <a:lnTo>
                    <a:pt x="165" y="15"/>
                  </a:lnTo>
                  <a:lnTo>
                    <a:pt x="170" y="16"/>
                  </a:lnTo>
                  <a:lnTo>
                    <a:pt x="177" y="15"/>
                  </a:lnTo>
                  <a:lnTo>
                    <a:pt x="182" y="14"/>
                  </a:lnTo>
                  <a:lnTo>
                    <a:pt x="188" y="12"/>
                  </a:lnTo>
                  <a:lnTo>
                    <a:pt x="193" y="9"/>
                  </a:lnTo>
                  <a:lnTo>
                    <a:pt x="199" y="5"/>
                  </a:lnTo>
                  <a:lnTo>
                    <a:pt x="195" y="0"/>
                  </a:lnTo>
                  <a:lnTo>
                    <a:pt x="187" y="5"/>
                  </a:lnTo>
                  <a:lnTo>
                    <a:pt x="176" y="7"/>
                  </a:lnTo>
                  <a:lnTo>
                    <a:pt x="165" y="8"/>
                  </a:lnTo>
                  <a:lnTo>
                    <a:pt x="156" y="7"/>
                  </a:lnTo>
                  <a:lnTo>
                    <a:pt x="156" y="7"/>
                  </a:lnTo>
                  <a:lnTo>
                    <a:pt x="147" y="4"/>
                  </a:lnTo>
                  <a:lnTo>
                    <a:pt x="137" y="3"/>
                  </a:lnTo>
                  <a:lnTo>
                    <a:pt x="128" y="3"/>
                  </a:lnTo>
                  <a:lnTo>
                    <a:pt x="118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3" y="7"/>
                  </a:lnTo>
                  <a:lnTo>
                    <a:pt x="109" y="9"/>
                  </a:lnTo>
                  <a:lnTo>
                    <a:pt x="104" y="12"/>
                  </a:lnTo>
                  <a:lnTo>
                    <a:pt x="102" y="15"/>
                  </a:lnTo>
                  <a:lnTo>
                    <a:pt x="99" y="16"/>
                  </a:lnTo>
                  <a:lnTo>
                    <a:pt x="98" y="19"/>
                  </a:lnTo>
                  <a:lnTo>
                    <a:pt x="95" y="20"/>
                  </a:lnTo>
                  <a:lnTo>
                    <a:pt x="92" y="20"/>
                  </a:lnTo>
                  <a:lnTo>
                    <a:pt x="92" y="22"/>
                  </a:lnTo>
                  <a:lnTo>
                    <a:pt x="91" y="22"/>
                  </a:lnTo>
                  <a:lnTo>
                    <a:pt x="83" y="23"/>
                  </a:lnTo>
                  <a:lnTo>
                    <a:pt x="74" y="23"/>
                  </a:lnTo>
                  <a:lnTo>
                    <a:pt x="66" y="22"/>
                  </a:lnTo>
                  <a:lnTo>
                    <a:pt x="58" y="19"/>
                  </a:lnTo>
                  <a:lnTo>
                    <a:pt x="51" y="16"/>
                  </a:lnTo>
                  <a:lnTo>
                    <a:pt x="43" y="15"/>
                  </a:lnTo>
                  <a:lnTo>
                    <a:pt x="36" y="14"/>
                  </a:lnTo>
                  <a:lnTo>
                    <a:pt x="29" y="14"/>
                  </a:lnTo>
                  <a:lnTo>
                    <a:pt x="21" y="15"/>
                  </a:lnTo>
                  <a:lnTo>
                    <a:pt x="14" y="16"/>
                  </a:lnTo>
                  <a:lnTo>
                    <a:pt x="7" y="19"/>
                  </a:lnTo>
                  <a:lnTo>
                    <a:pt x="0" y="2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15240" y="2782800"/>
              <a:ext cx="149040" cy="23400"/>
            </a:xfrm>
            <a:custGeom>
              <a:avLst/>
              <a:gdLst/>
              <a:ahLst/>
              <a:rect l="l" t="t" r="r" b="b"/>
              <a:pathLst>
                <a:path w="187" h="30">
                  <a:moveTo>
                    <a:pt x="4" y="26"/>
                  </a:moveTo>
                  <a:lnTo>
                    <a:pt x="9" y="24"/>
                  </a:lnTo>
                  <a:lnTo>
                    <a:pt x="15" y="22"/>
                  </a:lnTo>
                  <a:lnTo>
                    <a:pt x="20" y="21"/>
                  </a:lnTo>
                  <a:lnTo>
                    <a:pt x="27" y="21"/>
                  </a:lnTo>
                  <a:lnTo>
                    <a:pt x="33" y="21"/>
                  </a:lnTo>
                  <a:lnTo>
                    <a:pt x="38" y="21"/>
                  </a:lnTo>
                  <a:lnTo>
                    <a:pt x="45" y="22"/>
                  </a:lnTo>
                  <a:lnTo>
                    <a:pt x="51" y="25"/>
                  </a:lnTo>
                  <a:lnTo>
                    <a:pt x="59" y="28"/>
                  </a:lnTo>
                  <a:lnTo>
                    <a:pt x="68" y="30"/>
                  </a:lnTo>
                  <a:lnTo>
                    <a:pt x="78" y="30"/>
                  </a:lnTo>
                  <a:lnTo>
                    <a:pt x="88" y="28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98" y="22"/>
                  </a:lnTo>
                  <a:lnTo>
                    <a:pt x="101" y="19"/>
                  </a:lnTo>
                  <a:lnTo>
                    <a:pt x="104" y="17"/>
                  </a:lnTo>
                  <a:lnTo>
                    <a:pt x="107" y="15"/>
                  </a:lnTo>
                  <a:lnTo>
                    <a:pt x="109" y="13"/>
                  </a:lnTo>
                  <a:lnTo>
                    <a:pt x="112" y="11"/>
                  </a:lnTo>
                  <a:lnTo>
                    <a:pt x="112" y="11"/>
                  </a:lnTo>
                  <a:lnTo>
                    <a:pt x="120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5" y="13"/>
                  </a:lnTo>
                  <a:lnTo>
                    <a:pt x="149" y="14"/>
                  </a:lnTo>
                  <a:lnTo>
                    <a:pt x="155" y="14"/>
                  </a:lnTo>
                  <a:lnTo>
                    <a:pt x="160" y="15"/>
                  </a:lnTo>
                  <a:lnTo>
                    <a:pt x="167" y="14"/>
                  </a:lnTo>
                  <a:lnTo>
                    <a:pt x="172" y="13"/>
                  </a:lnTo>
                  <a:lnTo>
                    <a:pt x="178" y="11"/>
                  </a:lnTo>
                  <a:lnTo>
                    <a:pt x="183" y="8"/>
                  </a:lnTo>
                  <a:lnTo>
                    <a:pt x="187" y="6"/>
                  </a:lnTo>
                  <a:lnTo>
                    <a:pt x="183" y="0"/>
                  </a:lnTo>
                  <a:lnTo>
                    <a:pt x="175" y="4"/>
                  </a:lnTo>
                  <a:lnTo>
                    <a:pt x="166" y="7"/>
                  </a:lnTo>
                  <a:lnTo>
                    <a:pt x="155" y="7"/>
                  </a:lnTo>
                  <a:lnTo>
                    <a:pt x="146" y="6"/>
                  </a:lnTo>
                  <a:lnTo>
                    <a:pt x="148" y="6"/>
                  </a:lnTo>
                  <a:lnTo>
                    <a:pt x="138" y="3"/>
                  </a:lnTo>
                  <a:lnTo>
                    <a:pt x="130" y="2"/>
                  </a:lnTo>
                  <a:lnTo>
                    <a:pt x="120" y="3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5" y="6"/>
                  </a:lnTo>
                  <a:lnTo>
                    <a:pt x="103" y="8"/>
                  </a:lnTo>
                  <a:lnTo>
                    <a:pt x="98" y="11"/>
                  </a:lnTo>
                  <a:lnTo>
                    <a:pt x="96" y="14"/>
                  </a:lnTo>
                  <a:lnTo>
                    <a:pt x="93" y="15"/>
                  </a:lnTo>
                  <a:lnTo>
                    <a:pt x="92" y="18"/>
                  </a:lnTo>
                  <a:lnTo>
                    <a:pt x="89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78" y="22"/>
                  </a:lnTo>
                  <a:lnTo>
                    <a:pt x="70" y="22"/>
                  </a:lnTo>
                  <a:lnTo>
                    <a:pt x="62" y="21"/>
                  </a:lnTo>
                  <a:lnTo>
                    <a:pt x="53" y="18"/>
                  </a:lnTo>
                  <a:lnTo>
                    <a:pt x="46" y="15"/>
                  </a:lnTo>
                  <a:lnTo>
                    <a:pt x="40" y="14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2" y="14"/>
                  </a:lnTo>
                  <a:lnTo>
                    <a:pt x="7" y="17"/>
                  </a:lnTo>
                  <a:lnTo>
                    <a:pt x="0" y="19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31080" y="2847960"/>
              <a:ext cx="141120" cy="21600"/>
            </a:xfrm>
            <a:custGeom>
              <a:avLst/>
              <a:gdLst/>
              <a:ahLst/>
              <a:rect l="l" t="t" r="r" b="b"/>
              <a:pathLst>
                <a:path w="177" h="29">
                  <a:moveTo>
                    <a:pt x="3" y="26"/>
                  </a:moveTo>
                  <a:lnTo>
                    <a:pt x="9" y="24"/>
                  </a:lnTo>
                  <a:lnTo>
                    <a:pt x="14" y="22"/>
                  </a:lnTo>
                  <a:lnTo>
                    <a:pt x="20" y="21"/>
                  </a:lnTo>
                  <a:lnTo>
                    <a:pt x="25" y="21"/>
                  </a:lnTo>
                  <a:lnTo>
                    <a:pt x="31" y="21"/>
                  </a:lnTo>
                  <a:lnTo>
                    <a:pt x="37" y="21"/>
                  </a:lnTo>
                  <a:lnTo>
                    <a:pt x="43" y="22"/>
                  </a:lnTo>
                  <a:lnTo>
                    <a:pt x="48" y="25"/>
                  </a:lnTo>
                  <a:lnTo>
                    <a:pt x="57" y="28"/>
                  </a:lnTo>
                  <a:lnTo>
                    <a:pt x="65" y="29"/>
                  </a:lnTo>
                  <a:lnTo>
                    <a:pt x="74" y="29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2"/>
                  </a:lnTo>
                  <a:lnTo>
                    <a:pt x="95" y="20"/>
                  </a:lnTo>
                  <a:lnTo>
                    <a:pt x="98" y="18"/>
                  </a:lnTo>
                  <a:lnTo>
                    <a:pt x="100" y="15"/>
                  </a:lnTo>
                  <a:lnTo>
                    <a:pt x="103" y="14"/>
                  </a:lnTo>
                  <a:lnTo>
                    <a:pt x="106" y="13"/>
                  </a:lnTo>
                  <a:lnTo>
                    <a:pt x="106" y="13"/>
                  </a:lnTo>
                  <a:lnTo>
                    <a:pt x="114" y="11"/>
                  </a:lnTo>
                  <a:lnTo>
                    <a:pt x="122" y="10"/>
                  </a:lnTo>
                  <a:lnTo>
                    <a:pt x="129" y="11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36" y="14"/>
                  </a:lnTo>
                  <a:lnTo>
                    <a:pt x="141" y="15"/>
                  </a:lnTo>
                  <a:lnTo>
                    <a:pt x="147" y="15"/>
                  </a:lnTo>
                  <a:lnTo>
                    <a:pt x="152" y="15"/>
                  </a:lnTo>
                  <a:lnTo>
                    <a:pt x="158" y="14"/>
                  </a:lnTo>
                  <a:lnTo>
                    <a:pt x="163" y="14"/>
                  </a:lnTo>
                  <a:lnTo>
                    <a:pt x="169" y="11"/>
                  </a:lnTo>
                  <a:lnTo>
                    <a:pt x="173" y="9"/>
                  </a:lnTo>
                  <a:lnTo>
                    <a:pt x="177" y="6"/>
                  </a:lnTo>
                  <a:lnTo>
                    <a:pt x="173" y="0"/>
                  </a:lnTo>
                  <a:lnTo>
                    <a:pt x="166" y="4"/>
                  </a:lnTo>
                  <a:lnTo>
                    <a:pt x="157" y="7"/>
                  </a:lnTo>
                  <a:lnTo>
                    <a:pt x="147" y="7"/>
                  </a:lnTo>
                  <a:lnTo>
                    <a:pt x="139" y="6"/>
                  </a:lnTo>
                  <a:lnTo>
                    <a:pt x="140" y="7"/>
                  </a:lnTo>
                  <a:lnTo>
                    <a:pt x="132" y="4"/>
                  </a:lnTo>
                  <a:lnTo>
                    <a:pt x="122" y="3"/>
                  </a:lnTo>
                  <a:lnTo>
                    <a:pt x="114" y="3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3" y="4"/>
                  </a:lnTo>
                  <a:lnTo>
                    <a:pt x="99" y="6"/>
                  </a:lnTo>
                  <a:lnTo>
                    <a:pt x="96" y="9"/>
                  </a:lnTo>
                  <a:lnTo>
                    <a:pt x="94" y="10"/>
                  </a:lnTo>
                  <a:lnTo>
                    <a:pt x="91" y="13"/>
                  </a:lnTo>
                  <a:lnTo>
                    <a:pt x="88" y="15"/>
                  </a:lnTo>
                  <a:lnTo>
                    <a:pt x="85" y="17"/>
                  </a:lnTo>
                  <a:lnTo>
                    <a:pt x="84" y="18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58" y="21"/>
                  </a:lnTo>
                  <a:lnTo>
                    <a:pt x="51" y="18"/>
                  </a:lnTo>
                  <a:lnTo>
                    <a:pt x="44" y="15"/>
                  </a:lnTo>
                  <a:lnTo>
                    <a:pt x="39" y="14"/>
                  </a:lnTo>
                  <a:lnTo>
                    <a:pt x="32" y="13"/>
                  </a:lnTo>
                  <a:lnTo>
                    <a:pt x="25" y="13"/>
                  </a:lnTo>
                  <a:lnTo>
                    <a:pt x="18" y="13"/>
                  </a:lnTo>
                  <a:lnTo>
                    <a:pt x="13" y="14"/>
                  </a:lnTo>
                  <a:lnTo>
                    <a:pt x="6" y="17"/>
                  </a:lnTo>
                  <a:lnTo>
                    <a:pt x="0" y="20"/>
                  </a:lnTo>
                  <a:lnTo>
                    <a:pt x="3" y="2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946920" y="2912760"/>
              <a:ext cx="131760" cy="21960"/>
            </a:xfrm>
            <a:custGeom>
              <a:avLst/>
              <a:gdLst/>
              <a:ahLst/>
              <a:rect l="l" t="t" r="r" b="b"/>
              <a:pathLst>
                <a:path w="167" h="27">
                  <a:moveTo>
                    <a:pt x="4" y="24"/>
                  </a:moveTo>
                  <a:lnTo>
                    <a:pt x="8" y="22"/>
                  </a:lnTo>
                  <a:lnTo>
                    <a:pt x="13" y="20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5" y="23"/>
                  </a:lnTo>
                  <a:lnTo>
                    <a:pt x="53" y="26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9" y="24"/>
                  </a:lnTo>
                  <a:lnTo>
                    <a:pt x="78" y="24"/>
                  </a:lnTo>
                  <a:lnTo>
                    <a:pt x="82" y="23"/>
                  </a:lnTo>
                  <a:lnTo>
                    <a:pt x="84" y="22"/>
                  </a:lnTo>
                  <a:lnTo>
                    <a:pt x="87" y="19"/>
                  </a:lnTo>
                  <a:lnTo>
                    <a:pt x="90" y="18"/>
                  </a:lnTo>
                  <a:lnTo>
                    <a:pt x="93" y="16"/>
                  </a:lnTo>
                  <a:lnTo>
                    <a:pt x="95" y="13"/>
                  </a:lnTo>
                  <a:lnTo>
                    <a:pt x="97" y="12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21" y="9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38" y="13"/>
                  </a:lnTo>
                  <a:lnTo>
                    <a:pt x="147" y="13"/>
                  </a:lnTo>
                  <a:lnTo>
                    <a:pt x="157" y="11"/>
                  </a:lnTo>
                  <a:lnTo>
                    <a:pt x="167" y="5"/>
                  </a:lnTo>
                  <a:lnTo>
                    <a:pt x="161" y="0"/>
                  </a:lnTo>
                  <a:lnTo>
                    <a:pt x="154" y="4"/>
                  </a:lnTo>
                  <a:lnTo>
                    <a:pt x="146" y="5"/>
                  </a:lnTo>
                  <a:lnTo>
                    <a:pt x="138" y="7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15" y="1"/>
                  </a:lnTo>
                  <a:lnTo>
                    <a:pt x="106" y="1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8" y="3"/>
                  </a:lnTo>
                  <a:lnTo>
                    <a:pt x="94" y="4"/>
                  </a:lnTo>
                  <a:lnTo>
                    <a:pt x="91" y="7"/>
                  </a:lnTo>
                  <a:lnTo>
                    <a:pt x="87" y="8"/>
                  </a:lnTo>
                  <a:lnTo>
                    <a:pt x="84" y="11"/>
                  </a:lnTo>
                  <a:lnTo>
                    <a:pt x="83" y="12"/>
                  </a:lnTo>
                  <a:lnTo>
                    <a:pt x="80" y="15"/>
                  </a:lnTo>
                  <a:lnTo>
                    <a:pt x="79" y="1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69" y="19"/>
                  </a:lnTo>
                  <a:lnTo>
                    <a:pt x="61" y="19"/>
                  </a:lnTo>
                  <a:lnTo>
                    <a:pt x="54" y="18"/>
                  </a:lnTo>
                  <a:lnTo>
                    <a:pt x="49" y="16"/>
                  </a:lnTo>
                  <a:lnTo>
                    <a:pt x="42" y="13"/>
                  </a:lnTo>
                  <a:lnTo>
                    <a:pt x="37" y="12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1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16840" y="2662200"/>
              <a:ext cx="154080" cy="40680"/>
            </a:xfrm>
            <a:custGeom>
              <a:avLst/>
              <a:gdLst/>
              <a:ahLst/>
              <a:rect l="l" t="t" r="r" b="b"/>
              <a:pathLst>
                <a:path w="193" h="54">
                  <a:moveTo>
                    <a:pt x="57" y="11"/>
                  </a:moveTo>
                  <a:lnTo>
                    <a:pt x="58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5"/>
                  </a:lnTo>
                  <a:lnTo>
                    <a:pt x="61" y="17"/>
                  </a:lnTo>
                  <a:lnTo>
                    <a:pt x="63" y="20"/>
                  </a:lnTo>
                  <a:lnTo>
                    <a:pt x="64" y="22"/>
                  </a:lnTo>
                  <a:lnTo>
                    <a:pt x="65" y="25"/>
                  </a:lnTo>
                  <a:lnTo>
                    <a:pt x="67" y="28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75" y="33"/>
                  </a:lnTo>
                  <a:lnTo>
                    <a:pt x="80" y="35"/>
                  </a:lnTo>
                  <a:lnTo>
                    <a:pt x="86" y="37"/>
                  </a:lnTo>
                  <a:lnTo>
                    <a:pt x="91" y="37"/>
                  </a:lnTo>
                  <a:lnTo>
                    <a:pt x="95" y="39"/>
                  </a:lnTo>
                  <a:lnTo>
                    <a:pt x="101" y="39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9" y="39"/>
                  </a:lnTo>
                  <a:lnTo>
                    <a:pt x="124" y="39"/>
                  </a:lnTo>
                  <a:lnTo>
                    <a:pt x="131" y="39"/>
                  </a:lnTo>
                  <a:lnTo>
                    <a:pt x="136" y="40"/>
                  </a:lnTo>
                  <a:lnTo>
                    <a:pt x="138" y="40"/>
                  </a:lnTo>
                  <a:lnTo>
                    <a:pt x="138" y="40"/>
                  </a:lnTo>
                  <a:lnTo>
                    <a:pt x="139" y="40"/>
                  </a:lnTo>
                  <a:lnTo>
                    <a:pt x="141" y="41"/>
                  </a:lnTo>
                  <a:lnTo>
                    <a:pt x="141" y="43"/>
                  </a:lnTo>
                  <a:lnTo>
                    <a:pt x="142" y="44"/>
                  </a:lnTo>
                  <a:lnTo>
                    <a:pt x="143" y="47"/>
                  </a:lnTo>
                  <a:lnTo>
                    <a:pt x="146" y="48"/>
                  </a:lnTo>
                  <a:lnTo>
                    <a:pt x="149" y="51"/>
                  </a:lnTo>
                  <a:lnTo>
                    <a:pt x="151" y="52"/>
                  </a:lnTo>
                  <a:lnTo>
                    <a:pt x="153" y="54"/>
                  </a:lnTo>
                  <a:lnTo>
                    <a:pt x="153" y="54"/>
                  </a:lnTo>
                  <a:lnTo>
                    <a:pt x="156" y="54"/>
                  </a:lnTo>
                  <a:lnTo>
                    <a:pt x="158" y="54"/>
                  </a:lnTo>
                  <a:lnTo>
                    <a:pt x="160" y="54"/>
                  </a:lnTo>
                  <a:lnTo>
                    <a:pt x="162" y="54"/>
                  </a:lnTo>
                  <a:lnTo>
                    <a:pt x="169" y="54"/>
                  </a:lnTo>
                  <a:lnTo>
                    <a:pt x="178" y="54"/>
                  </a:lnTo>
                  <a:lnTo>
                    <a:pt x="186" y="54"/>
                  </a:lnTo>
                  <a:lnTo>
                    <a:pt x="193" y="51"/>
                  </a:lnTo>
                  <a:lnTo>
                    <a:pt x="190" y="43"/>
                  </a:lnTo>
                  <a:lnTo>
                    <a:pt x="183" y="46"/>
                  </a:lnTo>
                  <a:lnTo>
                    <a:pt x="176" y="46"/>
                  </a:lnTo>
                  <a:lnTo>
                    <a:pt x="169" y="47"/>
                  </a:lnTo>
                  <a:lnTo>
                    <a:pt x="162" y="46"/>
                  </a:lnTo>
                  <a:lnTo>
                    <a:pt x="161" y="46"/>
                  </a:lnTo>
                  <a:lnTo>
                    <a:pt x="158" y="46"/>
                  </a:lnTo>
                  <a:lnTo>
                    <a:pt x="157" y="46"/>
                  </a:lnTo>
                  <a:lnTo>
                    <a:pt x="154" y="46"/>
                  </a:lnTo>
                  <a:lnTo>
                    <a:pt x="153" y="44"/>
                  </a:lnTo>
                  <a:lnTo>
                    <a:pt x="151" y="43"/>
                  </a:lnTo>
                  <a:lnTo>
                    <a:pt x="149" y="40"/>
                  </a:lnTo>
                  <a:lnTo>
                    <a:pt x="147" y="39"/>
                  </a:lnTo>
                  <a:lnTo>
                    <a:pt x="145" y="37"/>
                  </a:lnTo>
                  <a:lnTo>
                    <a:pt x="143" y="35"/>
                  </a:lnTo>
                  <a:lnTo>
                    <a:pt x="141" y="33"/>
                  </a:lnTo>
                  <a:lnTo>
                    <a:pt x="138" y="33"/>
                  </a:lnTo>
                  <a:lnTo>
                    <a:pt x="139" y="33"/>
                  </a:lnTo>
                  <a:lnTo>
                    <a:pt x="132" y="32"/>
                  </a:lnTo>
                  <a:lnTo>
                    <a:pt x="125" y="31"/>
                  </a:lnTo>
                  <a:lnTo>
                    <a:pt x="119" y="31"/>
                  </a:lnTo>
                  <a:lnTo>
                    <a:pt x="112" y="32"/>
                  </a:lnTo>
                  <a:lnTo>
                    <a:pt x="102" y="32"/>
                  </a:lnTo>
                  <a:lnTo>
                    <a:pt x="93" y="31"/>
                  </a:lnTo>
                  <a:lnTo>
                    <a:pt x="83" y="28"/>
                  </a:lnTo>
                  <a:lnTo>
                    <a:pt x="73" y="24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72" y="22"/>
                  </a:lnTo>
                  <a:lnTo>
                    <a:pt x="72" y="21"/>
                  </a:lnTo>
                  <a:lnTo>
                    <a:pt x="71" y="18"/>
                  </a:lnTo>
                  <a:lnTo>
                    <a:pt x="69" y="17"/>
                  </a:lnTo>
                  <a:lnTo>
                    <a:pt x="68" y="13"/>
                  </a:lnTo>
                  <a:lnTo>
                    <a:pt x="67" y="9"/>
                  </a:lnTo>
                  <a:lnTo>
                    <a:pt x="64" y="6"/>
                  </a:lnTo>
                  <a:lnTo>
                    <a:pt x="60" y="5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3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5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6" y="9"/>
                  </a:lnTo>
                  <a:lnTo>
                    <a:pt x="31" y="9"/>
                  </a:lnTo>
                  <a:lnTo>
                    <a:pt x="37" y="9"/>
                  </a:lnTo>
                  <a:lnTo>
                    <a:pt x="42" y="9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13600" y="2730240"/>
              <a:ext cx="144360" cy="42480"/>
            </a:xfrm>
            <a:custGeom>
              <a:avLst/>
              <a:gdLst/>
              <a:ahLst/>
              <a:rect l="l" t="t" r="r" b="b"/>
              <a:pathLst>
                <a:path w="183" h="54">
                  <a:moveTo>
                    <a:pt x="154" y="46"/>
                  </a:moveTo>
                  <a:lnTo>
                    <a:pt x="152" y="46"/>
                  </a:lnTo>
                  <a:lnTo>
                    <a:pt x="150" y="46"/>
                  </a:lnTo>
                  <a:lnTo>
                    <a:pt x="148" y="46"/>
                  </a:lnTo>
                  <a:lnTo>
                    <a:pt x="146" y="46"/>
                  </a:lnTo>
                  <a:lnTo>
                    <a:pt x="144" y="45"/>
                  </a:lnTo>
                  <a:lnTo>
                    <a:pt x="143" y="43"/>
                  </a:lnTo>
                  <a:lnTo>
                    <a:pt x="141" y="41"/>
                  </a:lnTo>
                  <a:lnTo>
                    <a:pt x="140" y="39"/>
                  </a:lnTo>
                  <a:lnTo>
                    <a:pt x="137" y="38"/>
                  </a:lnTo>
                  <a:lnTo>
                    <a:pt x="136" y="35"/>
                  </a:lnTo>
                  <a:lnTo>
                    <a:pt x="133" y="34"/>
                  </a:lnTo>
                  <a:lnTo>
                    <a:pt x="130" y="32"/>
                  </a:lnTo>
                  <a:lnTo>
                    <a:pt x="132" y="32"/>
                  </a:lnTo>
                  <a:lnTo>
                    <a:pt x="125" y="31"/>
                  </a:lnTo>
                  <a:lnTo>
                    <a:pt x="120" y="31"/>
                  </a:lnTo>
                  <a:lnTo>
                    <a:pt x="113" y="31"/>
                  </a:lnTo>
                  <a:lnTo>
                    <a:pt x="106" y="31"/>
                  </a:lnTo>
                  <a:lnTo>
                    <a:pt x="96" y="31"/>
                  </a:lnTo>
                  <a:lnTo>
                    <a:pt x="88" y="30"/>
                  </a:lnTo>
                  <a:lnTo>
                    <a:pt x="78" y="27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70" y="21"/>
                  </a:lnTo>
                  <a:lnTo>
                    <a:pt x="69" y="21"/>
                  </a:lnTo>
                  <a:lnTo>
                    <a:pt x="69" y="19"/>
                  </a:lnTo>
                  <a:lnTo>
                    <a:pt x="68" y="17"/>
                  </a:lnTo>
                  <a:lnTo>
                    <a:pt x="68" y="16"/>
                  </a:lnTo>
                  <a:lnTo>
                    <a:pt x="66" y="12"/>
                  </a:lnTo>
                  <a:lnTo>
                    <a:pt x="65" y="8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36" y="6"/>
                  </a:lnTo>
                  <a:lnTo>
                    <a:pt x="46" y="8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8" y="12"/>
                  </a:lnTo>
                  <a:lnTo>
                    <a:pt x="59" y="13"/>
                  </a:lnTo>
                  <a:lnTo>
                    <a:pt x="59" y="16"/>
                  </a:lnTo>
                  <a:lnTo>
                    <a:pt x="61" y="19"/>
                  </a:lnTo>
                  <a:lnTo>
                    <a:pt x="62" y="21"/>
                  </a:lnTo>
                  <a:lnTo>
                    <a:pt x="63" y="24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76" y="34"/>
                  </a:lnTo>
                  <a:lnTo>
                    <a:pt x="85" y="37"/>
                  </a:lnTo>
                  <a:lnTo>
                    <a:pt x="96" y="38"/>
                  </a:lnTo>
                  <a:lnTo>
                    <a:pt x="106" y="38"/>
                  </a:lnTo>
                  <a:lnTo>
                    <a:pt x="111" y="38"/>
                  </a:lnTo>
                  <a:lnTo>
                    <a:pt x="118" y="38"/>
                  </a:lnTo>
                  <a:lnTo>
                    <a:pt x="124" y="39"/>
                  </a:lnTo>
                  <a:lnTo>
                    <a:pt x="129" y="41"/>
                  </a:lnTo>
                  <a:lnTo>
                    <a:pt x="130" y="41"/>
                  </a:lnTo>
                  <a:lnTo>
                    <a:pt x="130" y="41"/>
                  </a:lnTo>
                  <a:lnTo>
                    <a:pt x="132" y="41"/>
                  </a:lnTo>
                  <a:lnTo>
                    <a:pt x="132" y="42"/>
                  </a:lnTo>
                  <a:lnTo>
                    <a:pt x="133" y="43"/>
                  </a:lnTo>
                  <a:lnTo>
                    <a:pt x="133" y="45"/>
                  </a:lnTo>
                  <a:lnTo>
                    <a:pt x="136" y="47"/>
                  </a:lnTo>
                  <a:lnTo>
                    <a:pt x="137" y="49"/>
                  </a:lnTo>
                  <a:lnTo>
                    <a:pt x="140" y="52"/>
                  </a:lnTo>
                  <a:lnTo>
                    <a:pt x="144" y="53"/>
                  </a:lnTo>
                  <a:lnTo>
                    <a:pt x="144" y="53"/>
                  </a:lnTo>
                  <a:lnTo>
                    <a:pt x="144" y="53"/>
                  </a:lnTo>
                  <a:lnTo>
                    <a:pt x="147" y="53"/>
                  </a:lnTo>
                  <a:lnTo>
                    <a:pt x="150" y="53"/>
                  </a:lnTo>
                  <a:lnTo>
                    <a:pt x="151" y="54"/>
                  </a:lnTo>
                  <a:lnTo>
                    <a:pt x="154" y="54"/>
                  </a:lnTo>
                  <a:lnTo>
                    <a:pt x="161" y="54"/>
                  </a:lnTo>
                  <a:lnTo>
                    <a:pt x="169" y="54"/>
                  </a:lnTo>
                  <a:lnTo>
                    <a:pt x="176" y="54"/>
                  </a:lnTo>
                  <a:lnTo>
                    <a:pt x="183" y="52"/>
                  </a:lnTo>
                  <a:lnTo>
                    <a:pt x="180" y="45"/>
                  </a:lnTo>
                  <a:lnTo>
                    <a:pt x="173" y="46"/>
                  </a:lnTo>
                  <a:lnTo>
                    <a:pt x="167" y="47"/>
                  </a:lnTo>
                  <a:lnTo>
                    <a:pt x="161" y="47"/>
                  </a:lnTo>
                  <a:lnTo>
                    <a:pt x="154" y="4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10360" y="2796840"/>
              <a:ext cx="101520" cy="29880"/>
            </a:xfrm>
            <a:custGeom>
              <a:avLst/>
              <a:gdLst/>
              <a:ahLst/>
              <a:rect l="l" t="t" r="r" b="b"/>
              <a:pathLst>
                <a:path w="128" h="40">
                  <a:moveTo>
                    <a:pt x="52" y="14"/>
                  </a:moveTo>
                  <a:lnTo>
                    <a:pt x="52" y="14"/>
                  </a:lnTo>
                  <a:lnTo>
                    <a:pt x="54" y="14"/>
                  </a:lnTo>
                  <a:lnTo>
                    <a:pt x="55" y="14"/>
                  </a:lnTo>
                  <a:lnTo>
                    <a:pt x="55" y="16"/>
                  </a:lnTo>
                  <a:lnTo>
                    <a:pt x="55" y="18"/>
                  </a:lnTo>
                  <a:lnTo>
                    <a:pt x="56" y="21"/>
                  </a:lnTo>
                  <a:lnTo>
                    <a:pt x="58" y="23"/>
                  </a:lnTo>
                  <a:lnTo>
                    <a:pt x="59" y="26"/>
                  </a:lnTo>
                  <a:lnTo>
                    <a:pt x="61" y="29"/>
                  </a:lnTo>
                  <a:lnTo>
                    <a:pt x="62" y="30"/>
                  </a:lnTo>
                  <a:lnTo>
                    <a:pt x="61" y="30"/>
                  </a:lnTo>
                  <a:lnTo>
                    <a:pt x="69" y="36"/>
                  </a:lnTo>
                  <a:lnTo>
                    <a:pt x="80" y="38"/>
                  </a:lnTo>
                  <a:lnTo>
                    <a:pt x="91" y="40"/>
                  </a:lnTo>
                  <a:lnTo>
                    <a:pt x="102" y="40"/>
                  </a:lnTo>
                  <a:lnTo>
                    <a:pt x="111" y="40"/>
                  </a:lnTo>
                  <a:lnTo>
                    <a:pt x="119" y="38"/>
                  </a:lnTo>
                  <a:lnTo>
                    <a:pt x="125" y="37"/>
                  </a:lnTo>
                  <a:lnTo>
                    <a:pt x="128" y="37"/>
                  </a:lnTo>
                  <a:lnTo>
                    <a:pt x="125" y="30"/>
                  </a:lnTo>
                  <a:lnTo>
                    <a:pt x="119" y="32"/>
                  </a:lnTo>
                  <a:lnTo>
                    <a:pt x="113" y="32"/>
                  </a:lnTo>
                  <a:lnTo>
                    <a:pt x="106" y="33"/>
                  </a:lnTo>
                  <a:lnTo>
                    <a:pt x="98" y="33"/>
                  </a:lnTo>
                  <a:lnTo>
                    <a:pt x="88" y="33"/>
                  </a:lnTo>
                  <a:lnTo>
                    <a:pt x="80" y="32"/>
                  </a:lnTo>
                  <a:lnTo>
                    <a:pt x="73" y="29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5" y="23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3" y="19"/>
                  </a:lnTo>
                  <a:lnTo>
                    <a:pt x="62" y="15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5" y="7"/>
                  </a:lnTo>
                  <a:lnTo>
                    <a:pt x="46" y="4"/>
                  </a:lnTo>
                  <a:lnTo>
                    <a:pt x="36" y="3"/>
                  </a:lnTo>
                  <a:lnTo>
                    <a:pt x="25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4" y="8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24" y="10"/>
                  </a:lnTo>
                  <a:lnTo>
                    <a:pt x="35" y="10"/>
                  </a:lnTo>
                  <a:lnTo>
                    <a:pt x="44" y="11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07120" y="2863800"/>
              <a:ext cx="127080" cy="48600"/>
            </a:xfrm>
            <a:custGeom>
              <a:avLst/>
              <a:gdLst/>
              <a:ahLst/>
              <a:rect l="l" t="t" r="r" b="b"/>
              <a:pathLst>
                <a:path w="160" h="63">
                  <a:moveTo>
                    <a:pt x="134" y="53"/>
                  </a:moveTo>
                  <a:lnTo>
                    <a:pt x="133" y="53"/>
                  </a:lnTo>
                  <a:lnTo>
                    <a:pt x="132" y="52"/>
                  </a:lnTo>
                  <a:lnTo>
                    <a:pt x="129" y="52"/>
                  </a:lnTo>
                  <a:lnTo>
                    <a:pt x="128" y="52"/>
                  </a:lnTo>
                  <a:lnTo>
                    <a:pt x="126" y="51"/>
                  </a:lnTo>
                  <a:lnTo>
                    <a:pt x="126" y="49"/>
                  </a:lnTo>
                  <a:lnTo>
                    <a:pt x="125" y="48"/>
                  </a:lnTo>
                  <a:lnTo>
                    <a:pt x="123" y="46"/>
                  </a:lnTo>
                  <a:lnTo>
                    <a:pt x="122" y="44"/>
                  </a:lnTo>
                  <a:lnTo>
                    <a:pt x="119" y="42"/>
                  </a:lnTo>
                  <a:lnTo>
                    <a:pt x="118" y="40"/>
                  </a:lnTo>
                  <a:lnTo>
                    <a:pt x="115" y="40"/>
                  </a:lnTo>
                  <a:lnTo>
                    <a:pt x="115" y="40"/>
                  </a:lnTo>
                  <a:lnTo>
                    <a:pt x="110" y="38"/>
                  </a:lnTo>
                  <a:lnTo>
                    <a:pt x="104" y="37"/>
                  </a:lnTo>
                  <a:lnTo>
                    <a:pt x="99" y="37"/>
                  </a:lnTo>
                  <a:lnTo>
                    <a:pt x="93" y="35"/>
                  </a:lnTo>
                  <a:lnTo>
                    <a:pt x="85" y="34"/>
                  </a:lnTo>
                  <a:lnTo>
                    <a:pt x="77" y="33"/>
                  </a:lnTo>
                  <a:lnTo>
                    <a:pt x="69" y="30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3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9" y="16"/>
                  </a:lnTo>
                  <a:lnTo>
                    <a:pt x="58" y="12"/>
                  </a:lnTo>
                  <a:lnTo>
                    <a:pt x="55" y="9"/>
                  </a:lnTo>
                  <a:lnTo>
                    <a:pt x="52" y="8"/>
                  </a:lnTo>
                  <a:lnTo>
                    <a:pt x="43" y="5"/>
                  </a:lnTo>
                  <a:lnTo>
                    <a:pt x="34" y="3"/>
                  </a:lnTo>
                  <a:lnTo>
                    <a:pt x="25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7"/>
                  </a:lnTo>
                  <a:lnTo>
                    <a:pt x="4" y="8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23" y="9"/>
                  </a:lnTo>
                  <a:lnTo>
                    <a:pt x="32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1" y="15"/>
                  </a:lnTo>
                  <a:lnTo>
                    <a:pt x="51" y="18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54" y="25"/>
                  </a:lnTo>
                  <a:lnTo>
                    <a:pt x="55" y="27"/>
                  </a:lnTo>
                  <a:lnTo>
                    <a:pt x="56" y="29"/>
                  </a:lnTo>
                  <a:lnTo>
                    <a:pt x="58" y="31"/>
                  </a:lnTo>
                  <a:lnTo>
                    <a:pt x="56" y="30"/>
                  </a:lnTo>
                  <a:lnTo>
                    <a:pt x="65" y="37"/>
                  </a:lnTo>
                  <a:lnTo>
                    <a:pt x="74" y="41"/>
                  </a:lnTo>
                  <a:lnTo>
                    <a:pt x="82" y="42"/>
                  </a:lnTo>
                  <a:lnTo>
                    <a:pt x="92" y="44"/>
                  </a:lnTo>
                  <a:lnTo>
                    <a:pt x="97" y="44"/>
                  </a:lnTo>
                  <a:lnTo>
                    <a:pt x="103" y="45"/>
                  </a:lnTo>
                  <a:lnTo>
                    <a:pt x="108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15" y="49"/>
                  </a:lnTo>
                  <a:lnTo>
                    <a:pt x="115" y="49"/>
                  </a:lnTo>
                  <a:lnTo>
                    <a:pt x="117" y="51"/>
                  </a:lnTo>
                  <a:lnTo>
                    <a:pt x="118" y="53"/>
                  </a:lnTo>
                  <a:lnTo>
                    <a:pt x="119" y="55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8" y="60"/>
                  </a:lnTo>
                  <a:lnTo>
                    <a:pt x="130" y="60"/>
                  </a:lnTo>
                  <a:lnTo>
                    <a:pt x="132" y="60"/>
                  </a:lnTo>
                  <a:lnTo>
                    <a:pt x="133" y="61"/>
                  </a:lnTo>
                  <a:lnTo>
                    <a:pt x="140" y="63"/>
                  </a:lnTo>
                  <a:lnTo>
                    <a:pt x="147" y="63"/>
                  </a:lnTo>
                  <a:lnTo>
                    <a:pt x="154" y="63"/>
                  </a:lnTo>
                  <a:lnTo>
                    <a:pt x="160" y="61"/>
                  </a:lnTo>
                  <a:lnTo>
                    <a:pt x="158" y="55"/>
                  </a:lnTo>
                  <a:lnTo>
                    <a:pt x="152" y="55"/>
                  </a:lnTo>
                  <a:lnTo>
                    <a:pt x="147" y="55"/>
                  </a:lnTo>
                  <a:lnTo>
                    <a:pt x="140" y="55"/>
                  </a:lnTo>
                  <a:lnTo>
                    <a:pt x="134" y="5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05680" y="2930400"/>
              <a:ext cx="115920" cy="51840"/>
            </a:xfrm>
            <a:custGeom>
              <a:avLst/>
              <a:gdLst/>
              <a:ahLst/>
              <a:rect l="l" t="t" r="r" b="b"/>
              <a:pathLst>
                <a:path w="147" h="67">
                  <a:moveTo>
                    <a:pt x="124" y="58"/>
                  </a:moveTo>
                  <a:lnTo>
                    <a:pt x="122" y="58"/>
                  </a:lnTo>
                  <a:lnTo>
                    <a:pt x="121" y="56"/>
                  </a:lnTo>
                  <a:lnTo>
                    <a:pt x="118" y="56"/>
                  </a:lnTo>
                  <a:lnTo>
                    <a:pt x="117" y="56"/>
                  </a:lnTo>
                  <a:lnTo>
                    <a:pt x="115" y="55"/>
                  </a:lnTo>
                  <a:lnTo>
                    <a:pt x="115" y="54"/>
                  </a:lnTo>
                  <a:lnTo>
                    <a:pt x="114" y="52"/>
                  </a:lnTo>
                  <a:lnTo>
                    <a:pt x="113" y="51"/>
                  </a:lnTo>
                  <a:lnTo>
                    <a:pt x="111" y="48"/>
                  </a:lnTo>
                  <a:lnTo>
                    <a:pt x="110" y="47"/>
                  </a:lnTo>
                  <a:lnTo>
                    <a:pt x="109" y="44"/>
                  </a:lnTo>
                  <a:lnTo>
                    <a:pt x="106" y="44"/>
                  </a:lnTo>
                  <a:lnTo>
                    <a:pt x="107" y="44"/>
                  </a:lnTo>
                  <a:lnTo>
                    <a:pt x="102" y="43"/>
                  </a:lnTo>
                  <a:lnTo>
                    <a:pt x="96" y="41"/>
                  </a:lnTo>
                  <a:lnTo>
                    <a:pt x="91" y="40"/>
                  </a:lnTo>
                  <a:lnTo>
                    <a:pt x="85" y="39"/>
                  </a:lnTo>
                  <a:lnTo>
                    <a:pt x="77" y="37"/>
                  </a:lnTo>
                  <a:lnTo>
                    <a:pt x="70" y="36"/>
                  </a:lnTo>
                  <a:lnTo>
                    <a:pt x="63" y="33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6"/>
                  </a:lnTo>
                  <a:lnTo>
                    <a:pt x="57" y="25"/>
                  </a:lnTo>
                  <a:lnTo>
                    <a:pt x="55" y="24"/>
                  </a:lnTo>
                  <a:lnTo>
                    <a:pt x="55" y="22"/>
                  </a:lnTo>
                  <a:lnTo>
                    <a:pt x="55" y="19"/>
                  </a:lnTo>
                  <a:lnTo>
                    <a:pt x="54" y="15"/>
                  </a:lnTo>
                  <a:lnTo>
                    <a:pt x="51" y="13"/>
                  </a:lnTo>
                  <a:lnTo>
                    <a:pt x="48" y="11"/>
                  </a:lnTo>
                  <a:lnTo>
                    <a:pt x="40" y="7"/>
                  </a:lnTo>
                  <a:lnTo>
                    <a:pt x="31" y="6"/>
                  </a:lnTo>
                  <a:lnTo>
                    <a:pt x="22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7" y="9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21" y="11"/>
                  </a:lnTo>
                  <a:lnTo>
                    <a:pt x="29" y="13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8" y="24"/>
                  </a:lnTo>
                  <a:lnTo>
                    <a:pt x="48" y="26"/>
                  </a:lnTo>
                  <a:lnTo>
                    <a:pt x="50" y="29"/>
                  </a:lnTo>
                  <a:lnTo>
                    <a:pt x="51" y="32"/>
                  </a:lnTo>
                  <a:lnTo>
                    <a:pt x="53" y="33"/>
                  </a:lnTo>
                  <a:lnTo>
                    <a:pt x="51" y="33"/>
                  </a:lnTo>
                  <a:lnTo>
                    <a:pt x="59" y="39"/>
                  </a:lnTo>
                  <a:lnTo>
                    <a:pt x="68" y="43"/>
                  </a:lnTo>
                  <a:lnTo>
                    <a:pt x="76" y="45"/>
                  </a:lnTo>
                  <a:lnTo>
                    <a:pt x="84" y="47"/>
                  </a:lnTo>
                  <a:lnTo>
                    <a:pt x="89" y="48"/>
                  </a:lnTo>
                  <a:lnTo>
                    <a:pt x="95" y="48"/>
                  </a:lnTo>
                  <a:lnTo>
                    <a:pt x="99" y="50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5" y="51"/>
                  </a:lnTo>
                  <a:lnTo>
                    <a:pt x="105" y="52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6" y="55"/>
                  </a:lnTo>
                  <a:lnTo>
                    <a:pt x="107" y="58"/>
                  </a:lnTo>
                  <a:lnTo>
                    <a:pt x="110" y="59"/>
                  </a:lnTo>
                  <a:lnTo>
                    <a:pt x="111" y="62"/>
                  </a:lnTo>
                  <a:lnTo>
                    <a:pt x="114" y="63"/>
                  </a:lnTo>
                  <a:lnTo>
                    <a:pt x="114" y="63"/>
                  </a:lnTo>
                  <a:lnTo>
                    <a:pt x="115" y="63"/>
                  </a:lnTo>
                  <a:lnTo>
                    <a:pt x="117" y="65"/>
                  </a:lnTo>
                  <a:lnTo>
                    <a:pt x="118" y="65"/>
                  </a:lnTo>
                  <a:lnTo>
                    <a:pt x="121" y="65"/>
                  </a:lnTo>
                  <a:lnTo>
                    <a:pt x="122" y="66"/>
                  </a:lnTo>
                  <a:lnTo>
                    <a:pt x="129" y="67"/>
                  </a:lnTo>
                  <a:lnTo>
                    <a:pt x="135" y="67"/>
                  </a:lnTo>
                  <a:lnTo>
                    <a:pt x="141" y="67"/>
                  </a:lnTo>
                  <a:lnTo>
                    <a:pt x="147" y="67"/>
                  </a:lnTo>
                  <a:lnTo>
                    <a:pt x="146" y="59"/>
                  </a:lnTo>
                  <a:lnTo>
                    <a:pt x="140" y="59"/>
                  </a:lnTo>
                  <a:lnTo>
                    <a:pt x="135" y="59"/>
                  </a:lnTo>
                  <a:lnTo>
                    <a:pt x="129" y="59"/>
                  </a:lnTo>
                  <a:lnTo>
                    <a:pt x="124" y="5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34240" y="2700000"/>
              <a:ext cx="50760" cy="79200"/>
            </a:xfrm>
            <a:custGeom>
              <a:avLst/>
              <a:gdLst/>
              <a:ahLst/>
              <a:rect l="l" t="t" r="r" b="b"/>
              <a:pathLst>
                <a:path w="66" h="100">
                  <a:moveTo>
                    <a:pt x="4" y="4"/>
                  </a:moveTo>
                  <a:lnTo>
                    <a:pt x="0" y="51"/>
                  </a:lnTo>
                  <a:lnTo>
                    <a:pt x="24" y="100"/>
                  </a:lnTo>
                  <a:lnTo>
                    <a:pt x="66" y="96"/>
                  </a:lnTo>
                  <a:lnTo>
                    <a:pt x="32" y="62"/>
                  </a:lnTo>
                  <a:lnTo>
                    <a:pt x="62" y="47"/>
                  </a:lnTo>
                  <a:lnTo>
                    <a:pt x="24" y="28"/>
                  </a:lnTo>
                  <a:lnTo>
                    <a:pt x="51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826400" y="2766960"/>
              <a:ext cx="398520" cy="391680"/>
            </a:xfrm>
            <a:custGeom>
              <a:avLst/>
              <a:gdLst/>
              <a:ahLst/>
              <a:rect l="l" t="t" r="r" b="b"/>
              <a:pathLst>
                <a:path w="502" h="494">
                  <a:moveTo>
                    <a:pt x="306" y="494"/>
                  </a:moveTo>
                  <a:lnTo>
                    <a:pt x="502" y="286"/>
                  </a:lnTo>
                  <a:lnTo>
                    <a:pt x="196" y="0"/>
                  </a:lnTo>
                  <a:lnTo>
                    <a:pt x="0" y="208"/>
                  </a:lnTo>
                  <a:lnTo>
                    <a:pt x="306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53560" y="2823840"/>
              <a:ext cx="106200" cy="10296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71"/>
                  </a:moveTo>
                  <a:lnTo>
                    <a:pt x="120" y="60"/>
                  </a:lnTo>
                  <a:lnTo>
                    <a:pt x="68" y="11"/>
                  </a:lnTo>
                  <a:lnTo>
                    <a:pt x="56" y="0"/>
                  </a:lnTo>
                  <a:lnTo>
                    <a:pt x="45" y="13"/>
                  </a:lnTo>
                  <a:lnTo>
                    <a:pt x="0" y="60"/>
                  </a:lnTo>
                  <a:lnTo>
                    <a:pt x="15" y="74"/>
                  </a:lnTo>
                  <a:lnTo>
                    <a:pt x="57" y="29"/>
                  </a:lnTo>
                  <a:lnTo>
                    <a:pt x="105" y="74"/>
                  </a:lnTo>
                  <a:lnTo>
                    <a:pt x="63" y="119"/>
                  </a:lnTo>
                  <a:lnTo>
                    <a:pt x="76" y="132"/>
                  </a:lnTo>
                  <a:lnTo>
                    <a:pt x="121" y="84"/>
                  </a:lnTo>
                  <a:lnTo>
                    <a:pt x="1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1920" y="2796840"/>
              <a:ext cx="212760" cy="318960"/>
            </a:xfrm>
            <a:custGeom>
              <a:avLst/>
              <a:gdLst/>
              <a:ahLst/>
              <a:rect l="l" t="t" r="r" b="b"/>
              <a:pathLst>
                <a:path w="269" h="404">
                  <a:moveTo>
                    <a:pt x="0" y="0"/>
                  </a:moveTo>
                  <a:lnTo>
                    <a:pt x="236" y="234"/>
                  </a:lnTo>
                  <a:lnTo>
                    <a:pt x="102" y="404"/>
                  </a:lnTo>
                  <a:lnTo>
                    <a:pt x="269" y="2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099280" y="2765160"/>
              <a:ext cx="79560" cy="12024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88" y="0"/>
                  </a:moveTo>
                  <a:lnTo>
                    <a:pt x="3" y="54"/>
                  </a:lnTo>
                  <a:lnTo>
                    <a:pt x="0" y="124"/>
                  </a:lnTo>
                  <a:lnTo>
                    <a:pt x="14" y="100"/>
                  </a:lnTo>
                  <a:lnTo>
                    <a:pt x="17" y="143"/>
                  </a:lnTo>
                  <a:lnTo>
                    <a:pt x="26" y="108"/>
                  </a:lnTo>
                  <a:lnTo>
                    <a:pt x="41" y="152"/>
                  </a:lnTo>
                  <a:lnTo>
                    <a:pt x="44" y="96"/>
                  </a:lnTo>
                  <a:lnTo>
                    <a:pt x="45" y="95"/>
                  </a:lnTo>
                  <a:lnTo>
                    <a:pt x="51" y="92"/>
                  </a:lnTo>
                  <a:lnTo>
                    <a:pt x="56" y="88"/>
                  </a:lnTo>
                  <a:lnTo>
                    <a:pt x="64" y="81"/>
                  </a:lnTo>
                  <a:lnTo>
                    <a:pt x="73" y="74"/>
                  </a:lnTo>
                  <a:lnTo>
                    <a:pt x="81" y="65"/>
                  </a:lnTo>
                  <a:lnTo>
                    <a:pt x="86" y="54"/>
                  </a:lnTo>
                  <a:lnTo>
                    <a:pt x="90" y="41"/>
                  </a:lnTo>
                  <a:lnTo>
                    <a:pt x="100" y="3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9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10640" y="2393640"/>
              <a:ext cx="101520" cy="222120"/>
            </a:xfrm>
            <a:custGeom>
              <a:avLst/>
              <a:gdLst/>
              <a:ahLst/>
              <a:rect l="l" t="t" r="r" b="b"/>
              <a:pathLst>
                <a:path w="129" h="280">
                  <a:moveTo>
                    <a:pt x="100" y="0"/>
                  </a:moveTo>
                  <a:lnTo>
                    <a:pt x="129" y="45"/>
                  </a:lnTo>
                  <a:lnTo>
                    <a:pt x="67" y="280"/>
                  </a:lnTo>
                  <a:lnTo>
                    <a:pt x="0" y="12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97960" y="2414520"/>
              <a:ext cx="52200" cy="175680"/>
            </a:xfrm>
            <a:custGeom>
              <a:avLst/>
              <a:gdLst/>
              <a:ahLst/>
              <a:rect l="l" t="t" r="r" b="b"/>
              <a:pathLst>
                <a:path w="66" h="223">
                  <a:moveTo>
                    <a:pt x="25" y="0"/>
                  </a:moveTo>
                  <a:lnTo>
                    <a:pt x="5" y="50"/>
                  </a:lnTo>
                  <a:lnTo>
                    <a:pt x="0" y="223"/>
                  </a:lnTo>
                  <a:lnTo>
                    <a:pt x="66" y="10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56640" y="2562120"/>
              <a:ext cx="28440" cy="4068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20" y="52"/>
                  </a:moveTo>
                  <a:lnTo>
                    <a:pt x="26" y="49"/>
                  </a:lnTo>
                  <a:lnTo>
                    <a:pt x="32" y="43"/>
                  </a:lnTo>
                  <a:lnTo>
                    <a:pt x="36" y="35"/>
                  </a:lnTo>
                  <a:lnTo>
                    <a:pt x="37" y="26"/>
                  </a:lnTo>
                  <a:lnTo>
                    <a:pt x="36" y="16"/>
                  </a:lnTo>
                  <a:lnTo>
                    <a:pt x="32" y="8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6" y="8"/>
                  </a:lnTo>
                  <a:lnTo>
                    <a:pt x="2" y="1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6" y="43"/>
                  </a:lnTo>
                  <a:lnTo>
                    <a:pt x="11" y="49"/>
                  </a:lnTo>
                  <a:lnTo>
                    <a:pt x="2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54840" y="2674800"/>
              <a:ext cx="30240" cy="3924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19" y="50"/>
                  </a:moveTo>
                  <a:lnTo>
                    <a:pt x="26" y="48"/>
                  </a:lnTo>
                  <a:lnTo>
                    <a:pt x="32" y="42"/>
                  </a:lnTo>
                  <a:lnTo>
                    <a:pt x="36" y="34"/>
                  </a:lnTo>
                  <a:lnTo>
                    <a:pt x="37" y="24"/>
                  </a:lnTo>
                  <a:lnTo>
                    <a:pt x="36" y="15"/>
                  </a:lnTo>
                  <a:lnTo>
                    <a:pt x="32" y="7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7"/>
                  </a:lnTo>
                  <a:lnTo>
                    <a:pt x="1" y="15"/>
                  </a:lnTo>
                  <a:lnTo>
                    <a:pt x="0" y="24"/>
                  </a:lnTo>
                  <a:lnTo>
                    <a:pt x="1" y="34"/>
                  </a:lnTo>
                  <a:lnTo>
                    <a:pt x="6" y="42"/>
                  </a:lnTo>
                  <a:lnTo>
                    <a:pt x="11" y="48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7840" y="1959120"/>
            <a:ext cx="125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513120" y="584352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v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755800" y="67320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t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0080" y="141912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110120" y="2039760"/>
            <a:ext cx="3938400" cy="2581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78" name=""/>
          <p:cNvSpPr/>
          <p:nvPr/>
        </p:nvSpPr>
        <p:spPr>
          <a:xfrm>
            <a:off x="584280" y="2060640"/>
            <a:ext cx="3216240" cy="2653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: Go right (+) or left (-) the number of units indicated by the first number in the ordered 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2200" y="4913280"/>
            <a:ext cx="7788240" cy="1434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Y: Go up (+) or down (-) the number of units indicated by the second number in the ordered pair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the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"/>
          <p:cNvGrpSpPr/>
          <p:nvPr/>
        </p:nvGrpSpPr>
        <p:grpSpPr>
          <a:xfrm>
            <a:off x="2171880" y="1601640"/>
            <a:ext cx="4323960" cy="4306680"/>
            <a:chOff x="2171880" y="1601640"/>
            <a:chExt cx="4323960" cy="4306680"/>
          </a:xfrm>
        </p:grpSpPr>
        <p:sp>
          <p:nvSpPr>
            <p:cNvPr id="581" name=""/>
            <p:cNvSpPr/>
            <p:nvPr/>
          </p:nvSpPr>
          <p:spPr>
            <a:xfrm>
              <a:off x="2433240" y="1866600"/>
              <a:ext cx="3722760" cy="4023000"/>
            </a:xfrm>
            <a:custGeom>
              <a:avLst/>
              <a:gdLst/>
              <a:ahLst/>
              <a:rect l="l" t="t" r="r" b="b"/>
              <a:pathLst>
                <a:path w="2149" h="2380">
                  <a:moveTo>
                    <a:pt x="2058" y="2380"/>
                  </a:moveTo>
                  <a:lnTo>
                    <a:pt x="2077" y="2379"/>
                  </a:lnTo>
                  <a:lnTo>
                    <a:pt x="2093" y="2373"/>
                  </a:lnTo>
                  <a:lnTo>
                    <a:pt x="2108" y="2365"/>
                  </a:lnTo>
                  <a:lnTo>
                    <a:pt x="2122" y="2353"/>
                  </a:lnTo>
                  <a:lnTo>
                    <a:pt x="2134" y="2339"/>
                  </a:lnTo>
                  <a:lnTo>
                    <a:pt x="2142" y="2324"/>
                  </a:lnTo>
                  <a:lnTo>
                    <a:pt x="2148" y="2308"/>
                  </a:lnTo>
                  <a:lnTo>
                    <a:pt x="2149" y="2289"/>
                  </a:lnTo>
                  <a:lnTo>
                    <a:pt x="2149" y="91"/>
                  </a:lnTo>
                  <a:lnTo>
                    <a:pt x="2148" y="72"/>
                  </a:lnTo>
                  <a:lnTo>
                    <a:pt x="2142" y="55"/>
                  </a:lnTo>
                  <a:lnTo>
                    <a:pt x="2134" y="40"/>
                  </a:lnTo>
                  <a:lnTo>
                    <a:pt x="2122" y="27"/>
                  </a:lnTo>
                  <a:lnTo>
                    <a:pt x="2108" y="15"/>
                  </a:lnTo>
                  <a:lnTo>
                    <a:pt x="2093" y="6"/>
                  </a:lnTo>
                  <a:lnTo>
                    <a:pt x="2077" y="1"/>
                  </a:lnTo>
                  <a:lnTo>
                    <a:pt x="2058" y="0"/>
                  </a:lnTo>
                  <a:lnTo>
                    <a:pt x="91" y="0"/>
                  </a:lnTo>
                  <a:lnTo>
                    <a:pt x="72" y="1"/>
                  </a:lnTo>
                  <a:lnTo>
                    <a:pt x="56" y="6"/>
                  </a:lnTo>
                  <a:lnTo>
                    <a:pt x="41" y="15"/>
                  </a:lnTo>
                  <a:lnTo>
                    <a:pt x="27" y="27"/>
                  </a:lnTo>
                  <a:lnTo>
                    <a:pt x="15" y="40"/>
                  </a:lnTo>
                  <a:lnTo>
                    <a:pt x="7" y="55"/>
                  </a:lnTo>
                  <a:lnTo>
                    <a:pt x="2" y="72"/>
                  </a:lnTo>
                  <a:lnTo>
                    <a:pt x="0" y="91"/>
                  </a:lnTo>
                  <a:lnTo>
                    <a:pt x="0" y="2289"/>
                  </a:lnTo>
                  <a:lnTo>
                    <a:pt x="2" y="2308"/>
                  </a:lnTo>
                  <a:lnTo>
                    <a:pt x="7" y="2324"/>
                  </a:lnTo>
                  <a:lnTo>
                    <a:pt x="15" y="2339"/>
                  </a:lnTo>
                  <a:lnTo>
                    <a:pt x="27" y="2353"/>
                  </a:lnTo>
                  <a:lnTo>
                    <a:pt x="41" y="2365"/>
                  </a:lnTo>
                  <a:lnTo>
                    <a:pt x="56" y="2373"/>
                  </a:lnTo>
                  <a:lnTo>
                    <a:pt x="72" y="2379"/>
                  </a:lnTo>
                  <a:lnTo>
                    <a:pt x="91" y="2380"/>
                  </a:lnTo>
                  <a:lnTo>
                    <a:pt x="2058" y="2380"/>
                  </a:lnTo>
                  <a:close/>
                </a:path>
              </a:pathLst>
            </a:custGeom>
            <a:solidFill>
              <a:srgbClr val="0089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9920" y="2109960"/>
              <a:ext cx="65880" cy="64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19"/>
                  </a:moveTo>
                  <a:lnTo>
                    <a:pt x="1" y="27"/>
                  </a:lnTo>
                  <a:lnTo>
                    <a:pt x="6" y="32"/>
                  </a:lnTo>
                  <a:lnTo>
                    <a:pt x="12" y="37"/>
                  </a:lnTo>
                  <a:lnTo>
                    <a:pt x="19" y="38"/>
                  </a:lnTo>
                  <a:lnTo>
                    <a:pt x="27" y="37"/>
                  </a:lnTo>
                  <a:lnTo>
                    <a:pt x="33" y="32"/>
                  </a:lnTo>
                  <a:lnTo>
                    <a:pt x="37" y="27"/>
                  </a:lnTo>
                  <a:lnTo>
                    <a:pt x="38" y="19"/>
                  </a:lnTo>
                  <a:lnTo>
                    <a:pt x="37" y="12"/>
                  </a:lnTo>
                  <a:lnTo>
                    <a:pt x="33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10600" y="2685240"/>
              <a:ext cx="63720" cy="637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0" y="19"/>
                  </a:moveTo>
                  <a:lnTo>
                    <a:pt x="2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8" y="38"/>
                  </a:lnTo>
                  <a:lnTo>
                    <a:pt x="26" y="37"/>
                  </a:lnTo>
                  <a:lnTo>
                    <a:pt x="32" y="33"/>
                  </a:lnTo>
                  <a:lnTo>
                    <a:pt x="36" y="27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96240" y="2250360"/>
              <a:ext cx="62280" cy="6264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19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1" y="35"/>
                  </a:lnTo>
                  <a:lnTo>
                    <a:pt x="19" y="37"/>
                  </a:lnTo>
                  <a:lnTo>
                    <a:pt x="26" y="35"/>
                  </a:lnTo>
                  <a:lnTo>
                    <a:pt x="31" y="31"/>
                  </a:lnTo>
                  <a:lnTo>
                    <a:pt x="35" y="26"/>
                  </a:lnTo>
                  <a:lnTo>
                    <a:pt x="36" y="19"/>
                  </a:lnTo>
                  <a:lnTo>
                    <a:pt x="35" y="11"/>
                  </a:lnTo>
                  <a:lnTo>
                    <a:pt x="31" y="5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5" y="5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744720" y="4622040"/>
              <a:ext cx="65880" cy="64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19"/>
                  </a:moveTo>
                  <a:lnTo>
                    <a:pt x="2" y="27"/>
                  </a:lnTo>
                  <a:lnTo>
                    <a:pt x="6" y="33"/>
                  </a:lnTo>
                  <a:lnTo>
                    <a:pt x="11" y="37"/>
                  </a:lnTo>
                  <a:lnTo>
                    <a:pt x="19" y="38"/>
                  </a:lnTo>
                  <a:lnTo>
                    <a:pt x="27" y="37"/>
                  </a:lnTo>
                  <a:lnTo>
                    <a:pt x="33" y="33"/>
                  </a:lnTo>
                  <a:lnTo>
                    <a:pt x="37" y="27"/>
                  </a:lnTo>
                  <a:lnTo>
                    <a:pt x="38" y="19"/>
                  </a:lnTo>
                  <a:lnTo>
                    <a:pt x="37" y="11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89440" y="4549680"/>
              <a:ext cx="67320" cy="604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0" y="19"/>
                  </a:moveTo>
                  <a:lnTo>
                    <a:pt x="2" y="25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20" y="36"/>
                  </a:lnTo>
                  <a:lnTo>
                    <a:pt x="28" y="35"/>
                  </a:lnTo>
                  <a:lnTo>
                    <a:pt x="33" y="31"/>
                  </a:lnTo>
                  <a:lnTo>
                    <a:pt x="37" y="25"/>
                  </a:lnTo>
                  <a:lnTo>
                    <a:pt x="39" y="19"/>
                  </a:lnTo>
                  <a:lnTo>
                    <a:pt x="37" y="10"/>
                  </a:lnTo>
                  <a:lnTo>
                    <a:pt x="33" y="5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1" y="1"/>
                  </a:lnTo>
                  <a:lnTo>
                    <a:pt x="6" y="5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86400" y="3709440"/>
              <a:ext cx="67320" cy="640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19"/>
                  </a:moveTo>
                  <a:lnTo>
                    <a:pt x="2" y="27"/>
                  </a:lnTo>
                  <a:lnTo>
                    <a:pt x="6" y="32"/>
                  </a:lnTo>
                  <a:lnTo>
                    <a:pt x="13" y="37"/>
                  </a:lnTo>
                  <a:lnTo>
                    <a:pt x="19" y="38"/>
                  </a:lnTo>
                  <a:lnTo>
                    <a:pt x="28" y="37"/>
                  </a:lnTo>
                  <a:lnTo>
                    <a:pt x="33" y="32"/>
                  </a:lnTo>
                  <a:lnTo>
                    <a:pt x="37" y="27"/>
                  </a:lnTo>
                  <a:lnTo>
                    <a:pt x="39" y="19"/>
                  </a:lnTo>
                  <a:lnTo>
                    <a:pt x="37" y="11"/>
                  </a:lnTo>
                  <a:lnTo>
                    <a:pt x="33" y="5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44000" y="285084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3" y="16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10880" y="347940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1" y="13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16" y="16"/>
                  </a:lnTo>
                  <a:lnTo>
                    <a:pt x="18" y="13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32960" y="3033000"/>
              <a:ext cx="34560" cy="320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2" y="13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8" y="13"/>
                  </a:lnTo>
                  <a:lnTo>
                    <a:pt x="20" y="9"/>
                  </a:lnTo>
                  <a:lnTo>
                    <a:pt x="18" y="5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63000" y="317016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9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67520" y="472356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7" y="14"/>
                  </a:lnTo>
                  <a:lnTo>
                    <a:pt x="19" y="10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83520" y="4311000"/>
              <a:ext cx="3240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2" y="17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9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20920" y="3511440"/>
              <a:ext cx="3240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1" y="13"/>
                  </a:lnTo>
                  <a:lnTo>
                    <a:pt x="2" y="16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33400" y="2288160"/>
              <a:ext cx="29160" cy="31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9"/>
                  </a:moveTo>
                  <a:lnTo>
                    <a:pt x="1" y="13"/>
                  </a:lnTo>
                  <a:lnTo>
                    <a:pt x="2" y="16"/>
                  </a:lnTo>
                  <a:lnTo>
                    <a:pt x="5" y="17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9"/>
                  </a:lnTo>
                  <a:lnTo>
                    <a:pt x="16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12240" y="576828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2"/>
                  </a:lnTo>
                  <a:lnTo>
                    <a:pt x="3" y="16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19" y="10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2440" y="557532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1" y="13"/>
                  </a:lnTo>
                  <a:lnTo>
                    <a:pt x="2" y="16"/>
                  </a:lnTo>
                  <a:lnTo>
                    <a:pt x="5" y="17"/>
                  </a:lnTo>
                  <a:lnTo>
                    <a:pt x="9" y="19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4000" y="5056560"/>
              <a:ext cx="32400" cy="316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8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16000" y="4488480"/>
              <a:ext cx="32760" cy="320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10"/>
                  </a:moveTo>
                  <a:lnTo>
                    <a:pt x="1" y="14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10" y="19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0"/>
                  </a:lnTo>
                  <a:lnTo>
                    <a:pt x="18" y="6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71880" y="1601640"/>
              <a:ext cx="4323960" cy="4306680"/>
            </a:xfrm>
            <a:custGeom>
              <a:avLst/>
              <a:gdLst/>
              <a:ahLst/>
              <a:rect l="l" t="t" r="r" b="b"/>
              <a:pathLst>
                <a:path w="2496" h="2548">
                  <a:moveTo>
                    <a:pt x="2446" y="1938"/>
                  </a:moveTo>
                  <a:lnTo>
                    <a:pt x="2433" y="1927"/>
                  </a:lnTo>
                  <a:lnTo>
                    <a:pt x="2420" y="1918"/>
                  </a:lnTo>
                  <a:lnTo>
                    <a:pt x="2406" y="1910"/>
                  </a:lnTo>
                  <a:lnTo>
                    <a:pt x="2391" y="1901"/>
                  </a:lnTo>
                  <a:lnTo>
                    <a:pt x="2376" y="1896"/>
                  </a:lnTo>
                  <a:lnTo>
                    <a:pt x="2361" y="1892"/>
                  </a:lnTo>
                  <a:lnTo>
                    <a:pt x="2345" y="1891"/>
                  </a:lnTo>
                  <a:lnTo>
                    <a:pt x="2329" y="1889"/>
                  </a:lnTo>
                  <a:lnTo>
                    <a:pt x="2316" y="1889"/>
                  </a:lnTo>
                  <a:lnTo>
                    <a:pt x="2305" y="1891"/>
                  </a:lnTo>
                  <a:lnTo>
                    <a:pt x="2294" y="1893"/>
                  </a:lnTo>
                  <a:lnTo>
                    <a:pt x="2282" y="1895"/>
                  </a:lnTo>
                  <a:lnTo>
                    <a:pt x="2271" y="1899"/>
                  </a:lnTo>
                  <a:lnTo>
                    <a:pt x="2260" y="1903"/>
                  </a:lnTo>
                  <a:lnTo>
                    <a:pt x="2251" y="1908"/>
                  </a:lnTo>
                  <a:lnTo>
                    <a:pt x="2240" y="1914"/>
                  </a:lnTo>
                  <a:lnTo>
                    <a:pt x="2222" y="1925"/>
                  </a:lnTo>
                  <a:lnTo>
                    <a:pt x="2203" y="1934"/>
                  </a:lnTo>
                  <a:lnTo>
                    <a:pt x="2186" y="1945"/>
                  </a:lnTo>
                  <a:lnTo>
                    <a:pt x="2166" y="1955"/>
                  </a:lnTo>
                  <a:lnTo>
                    <a:pt x="2147" y="1964"/>
                  </a:lnTo>
                  <a:lnTo>
                    <a:pt x="2128" y="1974"/>
                  </a:lnTo>
                  <a:lnTo>
                    <a:pt x="2109" y="1983"/>
                  </a:lnTo>
                  <a:lnTo>
                    <a:pt x="2090" y="1993"/>
                  </a:lnTo>
                  <a:lnTo>
                    <a:pt x="1938" y="1628"/>
                  </a:lnTo>
                  <a:lnTo>
                    <a:pt x="1818" y="1628"/>
                  </a:lnTo>
                  <a:lnTo>
                    <a:pt x="2004" y="2031"/>
                  </a:lnTo>
                  <a:lnTo>
                    <a:pt x="1965" y="2047"/>
                  </a:lnTo>
                  <a:lnTo>
                    <a:pt x="1924" y="2062"/>
                  </a:lnTo>
                  <a:lnTo>
                    <a:pt x="1883" y="2076"/>
                  </a:lnTo>
                  <a:lnTo>
                    <a:pt x="1842" y="2089"/>
                  </a:lnTo>
                  <a:lnTo>
                    <a:pt x="1802" y="2102"/>
                  </a:lnTo>
                  <a:lnTo>
                    <a:pt x="1761" y="2112"/>
                  </a:lnTo>
                  <a:lnTo>
                    <a:pt x="1718" y="2123"/>
                  </a:lnTo>
                  <a:lnTo>
                    <a:pt x="1678" y="2133"/>
                  </a:lnTo>
                  <a:lnTo>
                    <a:pt x="1635" y="2141"/>
                  </a:lnTo>
                  <a:lnTo>
                    <a:pt x="1593" y="2149"/>
                  </a:lnTo>
                  <a:lnTo>
                    <a:pt x="1550" y="2156"/>
                  </a:lnTo>
                  <a:lnTo>
                    <a:pt x="1507" y="2163"/>
                  </a:lnTo>
                  <a:lnTo>
                    <a:pt x="1465" y="2168"/>
                  </a:lnTo>
                  <a:lnTo>
                    <a:pt x="1422" y="2172"/>
                  </a:lnTo>
                  <a:lnTo>
                    <a:pt x="1378" y="2175"/>
                  </a:lnTo>
                  <a:lnTo>
                    <a:pt x="1334" y="2178"/>
                  </a:lnTo>
                  <a:lnTo>
                    <a:pt x="1332" y="2171"/>
                  </a:lnTo>
                  <a:lnTo>
                    <a:pt x="1329" y="2166"/>
                  </a:lnTo>
                  <a:lnTo>
                    <a:pt x="1325" y="2160"/>
                  </a:lnTo>
                  <a:lnTo>
                    <a:pt x="1321" y="2156"/>
                  </a:lnTo>
                  <a:lnTo>
                    <a:pt x="1315" y="2151"/>
                  </a:lnTo>
                  <a:lnTo>
                    <a:pt x="1310" y="2146"/>
                  </a:lnTo>
                  <a:lnTo>
                    <a:pt x="1303" y="2145"/>
                  </a:lnTo>
                  <a:lnTo>
                    <a:pt x="1296" y="2144"/>
                  </a:lnTo>
                  <a:lnTo>
                    <a:pt x="1294" y="2144"/>
                  </a:lnTo>
                  <a:lnTo>
                    <a:pt x="1311" y="1319"/>
                  </a:lnTo>
                  <a:lnTo>
                    <a:pt x="1321" y="1319"/>
                  </a:lnTo>
                  <a:lnTo>
                    <a:pt x="1330" y="1319"/>
                  </a:lnTo>
                  <a:lnTo>
                    <a:pt x="1340" y="1319"/>
                  </a:lnTo>
                  <a:lnTo>
                    <a:pt x="1351" y="1320"/>
                  </a:lnTo>
                  <a:lnTo>
                    <a:pt x="1360" y="1320"/>
                  </a:lnTo>
                  <a:lnTo>
                    <a:pt x="1370" y="1320"/>
                  </a:lnTo>
                  <a:lnTo>
                    <a:pt x="1379" y="1322"/>
                  </a:lnTo>
                  <a:lnTo>
                    <a:pt x="1389" y="1322"/>
                  </a:lnTo>
                  <a:lnTo>
                    <a:pt x="1389" y="1284"/>
                  </a:lnTo>
                  <a:lnTo>
                    <a:pt x="1386" y="1284"/>
                  </a:lnTo>
                  <a:lnTo>
                    <a:pt x="1383" y="1282"/>
                  </a:lnTo>
                  <a:lnTo>
                    <a:pt x="1379" y="1282"/>
                  </a:lnTo>
                  <a:lnTo>
                    <a:pt x="1377" y="1282"/>
                  </a:lnTo>
                  <a:lnTo>
                    <a:pt x="1313" y="1281"/>
                  </a:lnTo>
                  <a:lnTo>
                    <a:pt x="1313" y="1248"/>
                  </a:lnTo>
                  <a:lnTo>
                    <a:pt x="1318" y="1248"/>
                  </a:lnTo>
                  <a:lnTo>
                    <a:pt x="1326" y="1248"/>
                  </a:lnTo>
                  <a:lnTo>
                    <a:pt x="1334" y="1248"/>
                  </a:lnTo>
                  <a:lnTo>
                    <a:pt x="1345" y="1248"/>
                  </a:lnTo>
                  <a:lnTo>
                    <a:pt x="1356" y="1248"/>
                  </a:lnTo>
                  <a:lnTo>
                    <a:pt x="1367" y="1248"/>
                  </a:lnTo>
                  <a:lnTo>
                    <a:pt x="1378" y="1250"/>
                  </a:lnTo>
                  <a:lnTo>
                    <a:pt x="1389" y="1250"/>
                  </a:lnTo>
                  <a:lnTo>
                    <a:pt x="1389" y="1213"/>
                  </a:lnTo>
                  <a:lnTo>
                    <a:pt x="1381" y="1213"/>
                  </a:lnTo>
                  <a:lnTo>
                    <a:pt x="1371" y="1213"/>
                  </a:lnTo>
                  <a:lnTo>
                    <a:pt x="1362" y="1213"/>
                  </a:lnTo>
                  <a:lnTo>
                    <a:pt x="1352" y="1211"/>
                  </a:lnTo>
                  <a:lnTo>
                    <a:pt x="1343" y="1211"/>
                  </a:lnTo>
                  <a:lnTo>
                    <a:pt x="1333" y="1211"/>
                  </a:lnTo>
                  <a:lnTo>
                    <a:pt x="1324" y="1211"/>
                  </a:lnTo>
                  <a:lnTo>
                    <a:pt x="1314" y="1211"/>
                  </a:lnTo>
                  <a:lnTo>
                    <a:pt x="1328" y="566"/>
                  </a:lnTo>
                  <a:lnTo>
                    <a:pt x="1635" y="1233"/>
                  </a:lnTo>
                  <a:lnTo>
                    <a:pt x="1622" y="1232"/>
                  </a:lnTo>
                  <a:lnTo>
                    <a:pt x="1608" y="1229"/>
                  </a:lnTo>
                  <a:lnTo>
                    <a:pt x="1593" y="1228"/>
                  </a:lnTo>
                  <a:lnTo>
                    <a:pt x="1580" y="1226"/>
                  </a:lnTo>
                  <a:lnTo>
                    <a:pt x="1565" y="1224"/>
                  </a:lnTo>
                  <a:lnTo>
                    <a:pt x="1550" y="1222"/>
                  </a:lnTo>
                  <a:lnTo>
                    <a:pt x="1535" y="1221"/>
                  </a:lnTo>
                  <a:lnTo>
                    <a:pt x="1520" y="1220"/>
                  </a:lnTo>
                  <a:lnTo>
                    <a:pt x="1505" y="1218"/>
                  </a:lnTo>
                  <a:lnTo>
                    <a:pt x="1488" y="1218"/>
                  </a:lnTo>
                  <a:lnTo>
                    <a:pt x="1472" y="1217"/>
                  </a:lnTo>
                  <a:lnTo>
                    <a:pt x="1457" y="1215"/>
                  </a:lnTo>
                  <a:lnTo>
                    <a:pt x="1439" y="1214"/>
                  </a:lnTo>
                  <a:lnTo>
                    <a:pt x="1423" y="1214"/>
                  </a:lnTo>
                  <a:lnTo>
                    <a:pt x="1407" y="1213"/>
                  </a:lnTo>
                  <a:lnTo>
                    <a:pt x="1389" y="1213"/>
                  </a:lnTo>
                  <a:lnTo>
                    <a:pt x="1389" y="1250"/>
                  </a:lnTo>
                  <a:lnTo>
                    <a:pt x="1401" y="1250"/>
                  </a:lnTo>
                  <a:lnTo>
                    <a:pt x="1413" y="1251"/>
                  </a:lnTo>
                  <a:lnTo>
                    <a:pt x="1424" y="1251"/>
                  </a:lnTo>
                  <a:lnTo>
                    <a:pt x="1433" y="1252"/>
                  </a:lnTo>
                  <a:lnTo>
                    <a:pt x="1441" y="1252"/>
                  </a:lnTo>
                  <a:lnTo>
                    <a:pt x="1446" y="1254"/>
                  </a:lnTo>
                  <a:lnTo>
                    <a:pt x="1449" y="1254"/>
                  </a:lnTo>
                  <a:lnTo>
                    <a:pt x="1450" y="1254"/>
                  </a:lnTo>
                  <a:lnTo>
                    <a:pt x="1450" y="1254"/>
                  </a:lnTo>
                  <a:lnTo>
                    <a:pt x="1450" y="1254"/>
                  </a:lnTo>
                  <a:lnTo>
                    <a:pt x="1457" y="1255"/>
                  </a:lnTo>
                  <a:lnTo>
                    <a:pt x="1462" y="1259"/>
                  </a:lnTo>
                  <a:lnTo>
                    <a:pt x="1467" y="1264"/>
                  </a:lnTo>
                  <a:lnTo>
                    <a:pt x="1468" y="1270"/>
                  </a:lnTo>
                  <a:lnTo>
                    <a:pt x="1467" y="1277"/>
                  </a:lnTo>
                  <a:lnTo>
                    <a:pt x="1462" y="1282"/>
                  </a:lnTo>
                  <a:lnTo>
                    <a:pt x="1457" y="1286"/>
                  </a:lnTo>
                  <a:lnTo>
                    <a:pt x="1450" y="1288"/>
                  </a:lnTo>
                  <a:lnTo>
                    <a:pt x="1449" y="1288"/>
                  </a:lnTo>
                  <a:lnTo>
                    <a:pt x="1446" y="1288"/>
                  </a:lnTo>
                  <a:lnTo>
                    <a:pt x="1439" y="1286"/>
                  </a:lnTo>
                  <a:lnTo>
                    <a:pt x="1433" y="1286"/>
                  </a:lnTo>
                  <a:lnTo>
                    <a:pt x="1423" y="1285"/>
                  </a:lnTo>
                  <a:lnTo>
                    <a:pt x="1412" y="1285"/>
                  </a:lnTo>
                  <a:lnTo>
                    <a:pt x="1401" y="1284"/>
                  </a:lnTo>
                  <a:lnTo>
                    <a:pt x="1389" y="1284"/>
                  </a:lnTo>
                  <a:lnTo>
                    <a:pt x="1389" y="1322"/>
                  </a:lnTo>
                  <a:lnTo>
                    <a:pt x="1408" y="1323"/>
                  </a:lnTo>
                  <a:lnTo>
                    <a:pt x="1428" y="1323"/>
                  </a:lnTo>
                  <a:lnTo>
                    <a:pt x="1447" y="1324"/>
                  </a:lnTo>
                  <a:lnTo>
                    <a:pt x="1467" y="1326"/>
                  </a:lnTo>
                  <a:lnTo>
                    <a:pt x="1486" y="1327"/>
                  </a:lnTo>
                  <a:lnTo>
                    <a:pt x="1505" y="1328"/>
                  </a:lnTo>
                  <a:lnTo>
                    <a:pt x="1524" y="1330"/>
                  </a:lnTo>
                  <a:lnTo>
                    <a:pt x="1543" y="1333"/>
                  </a:lnTo>
                  <a:lnTo>
                    <a:pt x="1562" y="1334"/>
                  </a:lnTo>
                  <a:lnTo>
                    <a:pt x="1580" y="1337"/>
                  </a:lnTo>
                  <a:lnTo>
                    <a:pt x="1599" y="1338"/>
                  </a:lnTo>
                  <a:lnTo>
                    <a:pt x="1616" y="1341"/>
                  </a:lnTo>
                  <a:lnTo>
                    <a:pt x="1635" y="1343"/>
                  </a:lnTo>
                  <a:lnTo>
                    <a:pt x="1653" y="1346"/>
                  </a:lnTo>
                  <a:lnTo>
                    <a:pt x="1671" y="1349"/>
                  </a:lnTo>
                  <a:lnTo>
                    <a:pt x="1689" y="1352"/>
                  </a:lnTo>
                  <a:lnTo>
                    <a:pt x="1818" y="1628"/>
                  </a:lnTo>
                  <a:lnTo>
                    <a:pt x="1938" y="1628"/>
                  </a:lnTo>
                  <a:lnTo>
                    <a:pt x="1501" y="577"/>
                  </a:lnTo>
                  <a:lnTo>
                    <a:pt x="1513" y="570"/>
                  </a:lnTo>
                  <a:lnTo>
                    <a:pt x="1522" y="562"/>
                  </a:lnTo>
                  <a:lnTo>
                    <a:pt x="1532" y="553"/>
                  </a:lnTo>
                  <a:lnTo>
                    <a:pt x="1540" y="542"/>
                  </a:lnTo>
                  <a:lnTo>
                    <a:pt x="1546" y="531"/>
                  </a:lnTo>
                  <a:lnTo>
                    <a:pt x="1550" y="519"/>
                  </a:lnTo>
                  <a:lnTo>
                    <a:pt x="1552" y="505"/>
                  </a:lnTo>
                  <a:lnTo>
                    <a:pt x="1554" y="491"/>
                  </a:lnTo>
                  <a:lnTo>
                    <a:pt x="1552" y="472"/>
                  </a:lnTo>
                  <a:lnTo>
                    <a:pt x="1546" y="455"/>
                  </a:lnTo>
                  <a:lnTo>
                    <a:pt x="1537" y="437"/>
                  </a:lnTo>
                  <a:lnTo>
                    <a:pt x="1525" y="422"/>
                  </a:lnTo>
                  <a:lnTo>
                    <a:pt x="1518" y="415"/>
                  </a:lnTo>
                  <a:lnTo>
                    <a:pt x="1510" y="410"/>
                  </a:lnTo>
                  <a:lnTo>
                    <a:pt x="1502" y="406"/>
                  </a:lnTo>
                  <a:lnTo>
                    <a:pt x="1492" y="402"/>
                  </a:lnTo>
                  <a:lnTo>
                    <a:pt x="1484" y="399"/>
                  </a:lnTo>
                  <a:lnTo>
                    <a:pt x="1475" y="396"/>
                  </a:lnTo>
                  <a:lnTo>
                    <a:pt x="1465" y="395"/>
                  </a:lnTo>
                  <a:lnTo>
                    <a:pt x="1456" y="395"/>
                  </a:lnTo>
                  <a:lnTo>
                    <a:pt x="1449" y="395"/>
                  </a:lnTo>
                  <a:lnTo>
                    <a:pt x="1442" y="396"/>
                  </a:lnTo>
                  <a:lnTo>
                    <a:pt x="1435" y="399"/>
                  </a:lnTo>
                  <a:lnTo>
                    <a:pt x="1428" y="400"/>
                  </a:lnTo>
                  <a:lnTo>
                    <a:pt x="1394" y="317"/>
                  </a:lnTo>
                  <a:lnTo>
                    <a:pt x="1404" y="304"/>
                  </a:lnTo>
                  <a:lnTo>
                    <a:pt x="1413" y="290"/>
                  </a:lnTo>
                  <a:lnTo>
                    <a:pt x="1422" y="275"/>
                  </a:lnTo>
                  <a:lnTo>
                    <a:pt x="1427" y="260"/>
                  </a:lnTo>
                  <a:lnTo>
                    <a:pt x="1433" y="244"/>
                  </a:lnTo>
                  <a:lnTo>
                    <a:pt x="1437" y="227"/>
                  </a:lnTo>
                  <a:lnTo>
                    <a:pt x="1438" y="211"/>
                  </a:lnTo>
                  <a:lnTo>
                    <a:pt x="1439" y="193"/>
                  </a:lnTo>
                  <a:lnTo>
                    <a:pt x="1438" y="174"/>
                  </a:lnTo>
                  <a:lnTo>
                    <a:pt x="1435" y="155"/>
                  </a:lnTo>
                  <a:lnTo>
                    <a:pt x="1431" y="137"/>
                  </a:lnTo>
                  <a:lnTo>
                    <a:pt x="1424" y="118"/>
                  </a:lnTo>
                  <a:lnTo>
                    <a:pt x="1416" y="102"/>
                  </a:lnTo>
                  <a:lnTo>
                    <a:pt x="1407" y="86"/>
                  </a:lnTo>
                  <a:lnTo>
                    <a:pt x="1396" y="71"/>
                  </a:lnTo>
                  <a:lnTo>
                    <a:pt x="1383" y="57"/>
                  </a:lnTo>
                  <a:lnTo>
                    <a:pt x="1369" y="44"/>
                  </a:lnTo>
                  <a:lnTo>
                    <a:pt x="1354" y="33"/>
                  </a:lnTo>
                  <a:lnTo>
                    <a:pt x="1337" y="23"/>
                  </a:lnTo>
                  <a:lnTo>
                    <a:pt x="1321" y="15"/>
                  </a:lnTo>
                  <a:lnTo>
                    <a:pt x="1303" y="8"/>
                  </a:lnTo>
                  <a:lnTo>
                    <a:pt x="1284" y="4"/>
                  </a:lnTo>
                  <a:lnTo>
                    <a:pt x="1266" y="1"/>
                  </a:lnTo>
                  <a:lnTo>
                    <a:pt x="1247" y="0"/>
                  </a:lnTo>
                  <a:lnTo>
                    <a:pt x="1209" y="4"/>
                  </a:lnTo>
                  <a:lnTo>
                    <a:pt x="1172" y="15"/>
                  </a:lnTo>
                  <a:lnTo>
                    <a:pt x="1140" y="33"/>
                  </a:lnTo>
                  <a:lnTo>
                    <a:pt x="1111" y="57"/>
                  </a:lnTo>
                  <a:lnTo>
                    <a:pt x="1087" y="86"/>
                  </a:lnTo>
                  <a:lnTo>
                    <a:pt x="1069" y="118"/>
                  </a:lnTo>
                  <a:lnTo>
                    <a:pt x="1058" y="155"/>
                  </a:lnTo>
                  <a:lnTo>
                    <a:pt x="1054" y="193"/>
                  </a:lnTo>
                  <a:lnTo>
                    <a:pt x="1055" y="211"/>
                  </a:lnTo>
                  <a:lnTo>
                    <a:pt x="1057" y="227"/>
                  </a:lnTo>
                  <a:lnTo>
                    <a:pt x="1061" y="244"/>
                  </a:lnTo>
                  <a:lnTo>
                    <a:pt x="1066" y="259"/>
                  </a:lnTo>
                  <a:lnTo>
                    <a:pt x="1072" y="275"/>
                  </a:lnTo>
                  <a:lnTo>
                    <a:pt x="1080" y="290"/>
                  </a:lnTo>
                  <a:lnTo>
                    <a:pt x="1089" y="304"/>
                  </a:lnTo>
                  <a:lnTo>
                    <a:pt x="1099" y="317"/>
                  </a:lnTo>
                  <a:lnTo>
                    <a:pt x="1095" y="325"/>
                  </a:lnTo>
                  <a:lnTo>
                    <a:pt x="1091" y="324"/>
                  </a:lnTo>
                  <a:lnTo>
                    <a:pt x="1087" y="324"/>
                  </a:lnTo>
                  <a:lnTo>
                    <a:pt x="1081" y="324"/>
                  </a:lnTo>
                  <a:lnTo>
                    <a:pt x="1077" y="324"/>
                  </a:lnTo>
                  <a:lnTo>
                    <a:pt x="1063" y="324"/>
                  </a:lnTo>
                  <a:lnTo>
                    <a:pt x="1050" y="327"/>
                  </a:lnTo>
                  <a:lnTo>
                    <a:pt x="1038" y="332"/>
                  </a:lnTo>
                  <a:lnTo>
                    <a:pt x="1025" y="339"/>
                  </a:lnTo>
                  <a:lnTo>
                    <a:pt x="1016" y="347"/>
                  </a:lnTo>
                  <a:lnTo>
                    <a:pt x="1006" y="357"/>
                  </a:lnTo>
                  <a:lnTo>
                    <a:pt x="998" y="368"/>
                  </a:lnTo>
                  <a:lnTo>
                    <a:pt x="993" y="380"/>
                  </a:lnTo>
                  <a:lnTo>
                    <a:pt x="941" y="411"/>
                  </a:lnTo>
                  <a:lnTo>
                    <a:pt x="919" y="459"/>
                  </a:lnTo>
                  <a:lnTo>
                    <a:pt x="915" y="457"/>
                  </a:lnTo>
                  <a:lnTo>
                    <a:pt x="907" y="457"/>
                  </a:lnTo>
                  <a:lnTo>
                    <a:pt x="897" y="456"/>
                  </a:lnTo>
                  <a:lnTo>
                    <a:pt x="888" y="457"/>
                  </a:lnTo>
                  <a:lnTo>
                    <a:pt x="876" y="460"/>
                  </a:lnTo>
                  <a:lnTo>
                    <a:pt x="865" y="466"/>
                  </a:lnTo>
                  <a:lnTo>
                    <a:pt x="854" y="472"/>
                  </a:lnTo>
                  <a:lnTo>
                    <a:pt x="844" y="483"/>
                  </a:lnTo>
                  <a:lnTo>
                    <a:pt x="832" y="505"/>
                  </a:lnTo>
                  <a:lnTo>
                    <a:pt x="828" y="525"/>
                  </a:lnTo>
                  <a:lnTo>
                    <a:pt x="829" y="543"/>
                  </a:lnTo>
                  <a:lnTo>
                    <a:pt x="836" y="558"/>
                  </a:lnTo>
                  <a:lnTo>
                    <a:pt x="844" y="570"/>
                  </a:lnTo>
                  <a:lnTo>
                    <a:pt x="852" y="580"/>
                  </a:lnTo>
                  <a:lnTo>
                    <a:pt x="859" y="585"/>
                  </a:lnTo>
                  <a:lnTo>
                    <a:pt x="863" y="588"/>
                  </a:lnTo>
                  <a:lnTo>
                    <a:pt x="818" y="691"/>
                  </a:lnTo>
                  <a:lnTo>
                    <a:pt x="784" y="675"/>
                  </a:lnTo>
                  <a:lnTo>
                    <a:pt x="757" y="732"/>
                  </a:lnTo>
                  <a:lnTo>
                    <a:pt x="793" y="750"/>
                  </a:lnTo>
                  <a:lnTo>
                    <a:pt x="752" y="841"/>
                  </a:lnTo>
                  <a:lnTo>
                    <a:pt x="737" y="840"/>
                  </a:lnTo>
                  <a:lnTo>
                    <a:pt x="722" y="840"/>
                  </a:lnTo>
                  <a:lnTo>
                    <a:pt x="707" y="843"/>
                  </a:lnTo>
                  <a:lnTo>
                    <a:pt x="692" y="848"/>
                  </a:lnTo>
                  <a:lnTo>
                    <a:pt x="678" y="855"/>
                  </a:lnTo>
                  <a:lnTo>
                    <a:pt x="666" y="863"/>
                  </a:lnTo>
                  <a:lnTo>
                    <a:pt x="655" y="875"/>
                  </a:lnTo>
                  <a:lnTo>
                    <a:pt x="645" y="887"/>
                  </a:lnTo>
                  <a:lnTo>
                    <a:pt x="637" y="905"/>
                  </a:lnTo>
                  <a:lnTo>
                    <a:pt x="632" y="924"/>
                  </a:lnTo>
                  <a:lnTo>
                    <a:pt x="630" y="943"/>
                  </a:lnTo>
                  <a:lnTo>
                    <a:pt x="633" y="962"/>
                  </a:lnTo>
                  <a:lnTo>
                    <a:pt x="639" y="981"/>
                  </a:lnTo>
                  <a:lnTo>
                    <a:pt x="650" y="999"/>
                  </a:lnTo>
                  <a:lnTo>
                    <a:pt x="662" y="1014"/>
                  </a:lnTo>
                  <a:lnTo>
                    <a:pt x="678" y="1028"/>
                  </a:lnTo>
                  <a:lnTo>
                    <a:pt x="690" y="1039"/>
                  </a:lnTo>
                  <a:lnTo>
                    <a:pt x="694" y="1047"/>
                  </a:lnTo>
                  <a:lnTo>
                    <a:pt x="694" y="1052"/>
                  </a:lnTo>
                  <a:lnTo>
                    <a:pt x="694" y="1055"/>
                  </a:lnTo>
                  <a:lnTo>
                    <a:pt x="693" y="1056"/>
                  </a:lnTo>
                  <a:lnTo>
                    <a:pt x="693" y="1056"/>
                  </a:lnTo>
                  <a:lnTo>
                    <a:pt x="693" y="1056"/>
                  </a:lnTo>
                  <a:lnTo>
                    <a:pt x="693" y="1058"/>
                  </a:lnTo>
                  <a:lnTo>
                    <a:pt x="693" y="1058"/>
                  </a:lnTo>
                  <a:lnTo>
                    <a:pt x="690" y="1071"/>
                  </a:lnTo>
                  <a:lnTo>
                    <a:pt x="686" y="1085"/>
                  </a:lnTo>
                  <a:lnTo>
                    <a:pt x="682" y="1100"/>
                  </a:lnTo>
                  <a:lnTo>
                    <a:pt x="681" y="1115"/>
                  </a:lnTo>
                  <a:lnTo>
                    <a:pt x="682" y="1128"/>
                  </a:lnTo>
                  <a:lnTo>
                    <a:pt x="685" y="1141"/>
                  </a:lnTo>
                  <a:lnTo>
                    <a:pt x="689" y="1153"/>
                  </a:lnTo>
                  <a:lnTo>
                    <a:pt x="696" y="1164"/>
                  </a:lnTo>
                  <a:lnTo>
                    <a:pt x="703" y="1173"/>
                  </a:lnTo>
                  <a:lnTo>
                    <a:pt x="712" y="1183"/>
                  </a:lnTo>
                  <a:lnTo>
                    <a:pt x="722" y="1191"/>
                  </a:lnTo>
                  <a:lnTo>
                    <a:pt x="734" y="1196"/>
                  </a:lnTo>
                  <a:lnTo>
                    <a:pt x="554" y="1628"/>
                  </a:lnTo>
                  <a:lnTo>
                    <a:pt x="674" y="1628"/>
                  </a:lnTo>
                  <a:lnTo>
                    <a:pt x="801" y="1354"/>
                  </a:lnTo>
                  <a:lnTo>
                    <a:pt x="820" y="1352"/>
                  </a:lnTo>
                  <a:lnTo>
                    <a:pt x="837" y="1348"/>
                  </a:lnTo>
                  <a:lnTo>
                    <a:pt x="857" y="1345"/>
                  </a:lnTo>
                  <a:lnTo>
                    <a:pt x="874" y="1342"/>
                  </a:lnTo>
                  <a:lnTo>
                    <a:pt x="893" y="1339"/>
                  </a:lnTo>
                  <a:lnTo>
                    <a:pt x="911" y="1337"/>
                  </a:lnTo>
                  <a:lnTo>
                    <a:pt x="930" y="1335"/>
                  </a:lnTo>
                  <a:lnTo>
                    <a:pt x="949" y="1333"/>
                  </a:lnTo>
                  <a:lnTo>
                    <a:pt x="968" y="1331"/>
                  </a:lnTo>
                  <a:lnTo>
                    <a:pt x="986" y="1328"/>
                  </a:lnTo>
                  <a:lnTo>
                    <a:pt x="1005" y="1327"/>
                  </a:lnTo>
                  <a:lnTo>
                    <a:pt x="1024" y="1326"/>
                  </a:lnTo>
                  <a:lnTo>
                    <a:pt x="1043" y="1324"/>
                  </a:lnTo>
                  <a:lnTo>
                    <a:pt x="1062" y="1323"/>
                  </a:lnTo>
                  <a:lnTo>
                    <a:pt x="1081" y="1323"/>
                  </a:lnTo>
                  <a:lnTo>
                    <a:pt x="1100" y="1322"/>
                  </a:lnTo>
                  <a:lnTo>
                    <a:pt x="1100" y="1284"/>
                  </a:lnTo>
                  <a:lnTo>
                    <a:pt x="1089" y="1284"/>
                  </a:lnTo>
                  <a:lnTo>
                    <a:pt x="1078" y="1285"/>
                  </a:lnTo>
                  <a:lnTo>
                    <a:pt x="1069" y="1285"/>
                  </a:lnTo>
                  <a:lnTo>
                    <a:pt x="1061" y="1286"/>
                  </a:lnTo>
                  <a:lnTo>
                    <a:pt x="1053" y="1286"/>
                  </a:lnTo>
                  <a:lnTo>
                    <a:pt x="1047" y="1288"/>
                  </a:lnTo>
                  <a:lnTo>
                    <a:pt x="1044" y="1288"/>
                  </a:lnTo>
                  <a:lnTo>
                    <a:pt x="1043" y="1288"/>
                  </a:lnTo>
                  <a:lnTo>
                    <a:pt x="1040" y="1288"/>
                  </a:lnTo>
                  <a:lnTo>
                    <a:pt x="1038" y="1286"/>
                  </a:lnTo>
                  <a:lnTo>
                    <a:pt x="1034" y="1284"/>
                  </a:lnTo>
                  <a:lnTo>
                    <a:pt x="1031" y="1282"/>
                  </a:lnTo>
                  <a:lnTo>
                    <a:pt x="1028" y="1277"/>
                  </a:lnTo>
                  <a:lnTo>
                    <a:pt x="1027" y="1270"/>
                  </a:lnTo>
                  <a:lnTo>
                    <a:pt x="1028" y="1263"/>
                  </a:lnTo>
                  <a:lnTo>
                    <a:pt x="1031" y="1258"/>
                  </a:lnTo>
                  <a:lnTo>
                    <a:pt x="1034" y="1256"/>
                  </a:lnTo>
                  <a:lnTo>
                    <a:pt x="1038" y="1255"/>
                  </a:lnTo>
                  <a:lnTo>
                    <a:pt x="1040" y="1254"/>
                  </a:lnTo>
                  <a:lnTo>
                    <a:pt x="1043" y="1254"/>
                  </a:lnTo>
                  <a:lnTo>
                    <a:pt x="1043" y="1254"/>
                  </a:lnTo>
                  <a:lnTo>
                    <a:pt x="1044" y="1254"/>
                  </a:lnTo>
                  <a:lnTo>
                    <a:pt x="1046" y="1254"/>
                  </a:lnTo>
                  <a:lnTo>
                    <a:pt x="1049" y="1254"/>
                  </a:lnTo>
                  <a:lnTo>
                    <a:pt x="1054" y="1252"/>
                  </a:lnTo>
                  <a:lnTo>
                    <a:pt x="1061" y="1252"/>
                  </a:lnTo>
                  <a:lnTo>
                    <a:pt x="1068" y="1251"/>
                  </a:lnTo>
                  <a:lnTo>
                    <a:pt x="1077" y="1251"/>
                  </a:lnTo>
                  <a:lnTo>
                    <a:pt x="1088" y="1250"/>
                  </a:lnTo>
                  <a:lnTo>
                    <a:pt x="1100" y="1250"/>
                  </a:lnTo>
                  <a:lnTo>
                    <a:pt x="1100" y="1214"/>
                  </a:lnTo>
                  <a:lnTo>
                    <a:pt x="1084" y="1215"/>
                  </a:lnTo>
                  <a:lnTo>
                    <a:pt x="1069" y="1215"/>
                  </a:lnTo>
                  <a:lnTo>
                    <a:pt x="1053" y="1217"/>
                  </a:lnTo>
                  <a:lnTo>
                    <a:pt x="1036" y="1218"/>
                  </a:lnTo>
                  <a:lnTo>
                    <a:pt x="1021" y="1220"/>
                  </a:lnTo>
                  <a:lnTo>
                    <a:pt x="1005" y="1221"/>
                  </a:lnTo>
                  <a:lnTo>
                    <a:pt x="990" y="1222"/>
                  </a:lnTo>
                  <a:lnTo>
                    <a:pt x="975" y="1224"/>
                  </a:lnTo>
                  <a:lnTo>
                    <a:pt x="959" y="1225"/>
                  </a:lnTo>
                  <a:lnTo>
                    <a:pt x="944" y="1226"/>
                  </a:lnTo>
                  <a:lnTo>
                    <a:pt x="929" y="1228"/>
                  </a:lnTo>
                  <a:lnTo>
                    <a:pt x="912" y="1229"/>
                  </a:lnTo>
                  <a:lnTo>
                    <a:pt x="897" y="1232"/>
                  </a:lnTo>
                  <a:lnTo>
                    <a:pt x="882" y="1233"/>
                  </a:lnTo>
                  <a:lnTo>
                    <a:pt x="867" y="1236"/>
                  </a:lnTo>
                  <a:lnTo>
                    <a:pt x="852" y="1237"/>
                  </a:lnTo>
                  <a:lnTo>
                    <a:pt x="1167" y="568"/>
                  </a:lnTo>
                  <a:lnTo>
                    <a:pt x="1181" y="1211"/>
                  </a:lnTo>
                  <a:lnTo>
                    <a:pt x="1171" y="1211"/>
                  </a:lnTo>
                  <a:lnTo>
                    <a:pt x="1162" y="1211"/>
                  </a:lnTo>
                  <a:lnTo>
                    <a:pt x="1151" y="1211"/>
                  </a:lnTo>
                  <a:lnTo>
                    <a:pt x="1140" y="1213"/>
                  </a:lnTo>
                  <a:lnTo>
                    <a:pt x="1129" y="1213"/>
                  </a:lnTo>
                  <a:lnTo>
                    <a:pt x="1119" y="1213"/>
                  </a:lnTo>
                  <a:lnTo>
                    <a:pt x="1110" y="1214"/>
                  </a:lnTo>
                  <a:lnTo>
                    <a:pt x="1100" y="1214"/>
                  </a:lnTo>
                  <a:lnTo>
                    <a:pt x="1100" y="1250"/>
                  </a:lnTo>
                  <a:lnTo>
                    <a:pt x="1103" y="1250"/>
                  </a:lnTo>
                  <a:lnTo>
                    <a:pt x="1107" y="1248"/>
                  </a:lnTo>
                  <a:lnTo>
                    <a:pt x="1110" y="1248"/>
                  </a:lnTo>
                  <a:lnTo>
                    <a:pt x="1113" y="1248"/>
                  </a:lnTo>
                  <a:lnTo>
                    <a:pt x="1123" y="1248"/>
                  </a:lnTo>
                  <a:lnTo>
                    <a:pt x="1134" y="1248"/>
                  </a:lnTo>
                  <a:lnTo>
                    <a:pt x="1144" y="1248"/>
                  </a:lnTo>
                  <a:lnTo>
                    <a:pt x="1153" y="1248"/>
                  </a:lnTo>
                  <a:lnTo>
                    <a:pt x="1162" y="1248"/>
                  </a:lnTo>
                  <a:lnTo>
                    <a:pt x="1170" y="1248"/>
                  </a:lnTo>
                  <a:lnTo>
                    <a:pt x="1177" y="1248"/>
                  </a:lnTo>
                  <a:lnTo>
                    <a:pt x="1182" y="1248"/>
                  </a:lnTo>
                  <a:lnTo>
                    <a:pt x="1182" y="1281"/>
                  </a:lnTo>
                  <a:lnTo>
                    <a:pt x="1117" y="1282"/>
                  </a:lnTo>
                  <a:lnTo>
                    <a:pt x="1114" y="1282"/>
                  </a:lnTo>
                  <a:lnTo>
                    <a:pt x="1108" y="1282"/>
                  </a:lnTo>
                  <a:lnTo>
                    <a:pt x="1103" y="1284"/>
                  </a:lnTo>
                  <a:lnTo>
                    <a:pt x="1100" y="1284"/>
                  </a:lnTo>
                  <a:lnTo>
                    <a:pt x="1100" y="1322"/>
                  </a:lnTo>
                  <a:lnTo>
                    <a:pt x="1110" y="1322"/>
                  </a:lnTo>
                  <a:lnTo>
                    <a:pt x="1121" y="1322"/>
                  </a:lnTo>
                  <a:lnTo>
                    <a:pt x="1130" y="1320"/>
                  </a:lnTo>
                  <a:lnTo>
                    <a:pt x="1142" y="1320"/>
                  </a:lnTo>
                  <a:lnTo>
                    <a:pt x="1153" y="1320"/>
                  </a:lnTo>
                  <a:lnTo>
                    <a:pt x="1163" y="1319"/>
                  </a:lnTo>
                  <a:lnTo>
                    <a:pt x="1174" y="1319"/>
                  </a:lnTo>
                  <a:lnTo>
                    <a:pt x="1183" y="1319"/>
                  </a:lnTo>
                  <a:lnTo>
                    <a:pt x="1200" y="2144"/>
                  </a:lnTo>
                  <a:lnTo>
                    <a:pt x="1198" y="2144"/>
                  </a:lnTo>
                  <a:lnTo>
                    <a:pt x="1186" y="2146"/>
                  </a:lnTo>
                  <a:lnTo>
                    <a:pt x="1175" y="2153"/>
                  </a:lnTo>
                  <a:lnTo>
                    <a:pt x="1167" y="2164"/>
                  </a:lnTo>
                  <a:lnTo>
                    <a:pt x="1160" y="2178"/>
                  </a:lnTo>
                  <a:lnTo>
                    <a:pt x="1117" y="2175"/>
                  </a:lnTo>
                  <a:lnTo>
                    <a:pt x="1073" y="2172"/>
                  </a:lnTo>
                  <a:lnTo>
                    <a:pt x="1029" y="2168"/>
                  </a:lnTo>
                  <a:lnTo>
                    <a:pt x="986" y="2163"/>
                  </a:lnTo>
                  <a:lnTo>
                    <a:pt x="944" y="2156"/>
                  </a:lnTo>
                  <a:lnTo>
                    <a:pt x="901" y="2149"/>
                  </a:lnTo>
                  <a:lnTo>
                    <a:pt x="858" y="2141"/>
                  </a:lnTo>
                  <a:lnTo>
                    <a:pt x="817" y="2133"/>
                  </a:lnTo>
                  <a:lnTo>
                    <a:pt x="775" y="2123"/>
                  </a:lnTo>
                  <a:lnTo>
                    <a:pt x="733" y="2112"/>
                  </a:lnTo>
                  <a:lnTo>
                    <a:pt x="692" y="2100"/>
                  </a:lnTo>
                  <a:lnTo>
                    <a:pt x="651" y="2088"/>
                  </a:lnTo>
                  <a:lnTo>
                    <a:pt x="610" y="2076"/>
                  </a:lnTo>
                  <a:lnTo>
                    <a:pt x="569" y="2061"/>
                  </a:lnTo>
                  <a:lnTo>
                    <a:pt x="528" y="2046"/>
                  </a:lnTo>
                  <a:lnTo>
                    <a:pt x="489" y="2029"/>
                  </a:lnTo>
                  <a:lnTo>
                    <a:pt x="674" y="1628"/>
                  </a:lnTo>
                  <a:lnTo>
                    <a:pt x="554" y="1628"/>
                  </a:lnTo>
                  <a:lnTo>
                    <a:pt x="403" y="1993"/>
                  </a:lnTo>
                  <a:lnTo>
                    <a:pt x="383" y="1983"/>
                  </a:lnTo>
                  <a:lnTo>
                    <a:pt x="362" y="1972"/>
                  </a:lnTo>
                  <a:lnTo>
                    <a:pt x="342" y="1963"/>
                  </a:lnTo>
                  <a:lnTo>
                    <a:pt x="321" y="1952"/>
                  </a:lnTo>
                  <a:lnTo>
                    <a:pt x="302" y="1941"/>
                  </a:lnTo>
                  <a:lnTo>
                    <a:pt x="282" y="1930"/>
                  </a:lnTo>
                  <a:lnTo>
                    <a:pt x="263" y="1919"/>
                  </a:lnTo>
                  <a:lnTo>
                    <a:pt x="244" y="1907"/>
                  </a:lnTo>
                  <a:lnTo>
                    <a:pt x="234" y="1903"/>
                  </a:lnTo>
                  <a:lnTo>
                    <a:pt x="225" y="1900"/>
                  </a:lnTo>
                  <a:lnTo>
                    <a:pt x="215" y="1896"/>
                  </a:lnTo>
                  <a:lnTo>
                    <a:pt x="206" y="1893"/>
                  </a:lnTo>
                  <a:lnTo>
                    <a:pt x="196" y="1892"/>
                  </a:lnTo>
                  <a:lnTo>
                    <a:pt x="187" y="1891"/>
                  </a:lnTo>
                  <a:lnTo>
                    <a:pt x="177" y="1889"/>
                  </a:lnTo>
                  <a:lnTo>
                    <a:pt x="167" y="1889"/>
                  </a:lnTo>
                  <a:lnTo>
                    <a:pt x="133" y="1892"/>
                  </a:lnTo>
                  <a:lnTo>
                    <a:pt x="102" y="1903"/>
                  </a:lnTo>
                  <a:lnTo>
                    <a:pt x="74" y="1918"/>
                  </a:lnTo>
                  <a:lnTo>
                    <a:pt x="49" y="1938"/>
                  </a:lnTo>
                  <a:lnTo>
                    <a:pt x="29" y="1963"/>
                  </a:lnTo>
                  <a:lnTo>
                    <a:pt x="14" y="1991"/>
                  </a:lnTo>
                  <a:lnTo>
                    <a:pt x="3" y="2023"/>
                  </a:lnTo>
                  <a:lnTo>
                    <a:pt x="0" y="2057"/>
                  </a:lnTo>
                  <a:lnTo>
                    <a:pt x="1" y="2077"/>
                  </a:lnTo>
                  <a:lnTo>
                    <a:pt x="5" y="2097"/>
                  </a:lnTo>
                  <a:lnTo>
                    <a:pt x="11" y="2117"/>
                  </a:lnTo>
                  <a:lnTo>
                    <a:pt x="19" y="2136"/>
                  </a:lnTo>
                  <a:lnTo>
                    <a:pt x="30" y="2152"/>
                  </a:lnTo>
                  <a:lnTo>
                    <a:pt x="42" y="2168"/>
                  </a:lnTo>
                  <a:lnTo>
                    <a:pt x="57" y="2183"/>
                  </a:lnTo>
                  <a:lnTo>
                    <a:pt x="74" y="2195"/>
                  </a:lnTo>
                  <a:lnTo>
                    <a:pt x="105" y="2213"/>
                  </a:lnTo>
                  <a:lnTo>
                    <a:pt x="136" y="2231"/>
                  </a:lnTo>
                  <a:lnTo>
                    <a:pt x="167" y="2247"/>
                  </a:lnTo>
                  <a:lnTo>
                    <a:pt x="200" y="2264"/>
                  </a:lnTo>
                  <a:lnTo>
                    <a:pt x="233" y="2280"/>
                  </a:lnTo>
                  <a:lnTo>
                    <a:pt x="264" y="2295"/>
                  </a:lnTo>
                  <a:lnTo>
                    <a:pt x="297" y="2310"/>
                  </a:lnTo>
                  <a:lnTo>
                    <a:pt x="330" y="2323"/>
                  </a:lnTo>
                  <a:lnTo>
                    <a:pt x="364" y="2337"/>
                  </a:lnTo>
                  <a:lnTo>
                    <a:pt x="396" y="2351"/>
                  </a:lnTo>
                  <a:lnTo>
                    <a:pt x="429" y="2363"/>
                  </a:lnTo>
                  <a:lnTo>
                    <a:pt x="463" y="2375"/>
                  </a:lnTo>
                  <a:lnTo>
                    <a:pt x="497" y="2387"/>
                  </a:lnTo>
                  <a:lnTo>
                    <a:pt x="531" y="2398"/>
                  </a:lnTo>
                  <a:lnTo>
                    <a:pt x="565" y="2409"/>
                  </a:lnTo>
                  <a:lnTo>
                    <a:pt x="599" y="2420"/>
                  </a:lnTo>
                  <a:lnTo>
                    <a:pt x="633" y="2430"/>
                  </a:lnTo>
                  <a:lnTo>
                    <a:pt x="667" y="2439"/>
                  </a:lnTo>
                  <a:lnTo>
                    <a:pt x="703" y="2447"/>
                  </a:lnTo>
                  <a:lnTo>
                    <a:pt x="737" y="2455"/>
                  </a:lnTo>
                  <a:lnTo>
                    <a:pt x="772" y="2464"/>
                  </a:lnTo>
                  <a:lnTo>
                    <a:pt x="806" y="2470"/>
                  </a:lnTo>
                  <a:lnTo>
                    <a:pt x="842" y="2477"/>
                  </a:lnTo>
                  <a:lnTo>
                    <a:pt x="877" y="2483"/>
                  </a:lnTo>
                  <a:lnTo>
                    <a:pt x="911" y="2488"/>
                  </a:lnTo>
                  <a:lnTo>
                    <a:pt x="946" y="2494"/>
                  </a:lnTo>
                  <a:lnTo>
                    <a:pt x="982" y="2498"/>
                  </a:lnTo>
                  <a:lnTo>
                    <a:pt x="1017" y="2502"/>
                  </a:lnTo>
                  <a:lnTo>
                    <a:pt x="1053" y="2504"/>
                  </a:lnTo>
                  <a:lnTo>
                    <a:pt x="1088" y="2507"/>
                  </a:lnTo>
                  <a:lnTo>
                    <a:pt x="1123" y="2510"/>
                  </a:lnTo>
                  <a:lnTo>
                    <a:pt x="1159" y="2511"/>
                  </a:lnTo>
                  <a:lnTo>
                    <a:pt x="1162" y="2519"/>
                  </a:lnTo>
                  <a:lnTo>
                    <a:pt x="1164" y="2526"/>
                  </a:lnTo>
                  <a:lnTo>
                    <a:pt x="1168" y="2532"/>
                  </a:lnTo>
                  <a:lnTo>
                    <a:pt x="1172" y="2537"/>
                  </a:lnTo>
                  <a:lnTo>
                    <a:pt x="1179" y="2543"/>
                  </a:lnTo>
                  <a:lnTo>
                    <a:pt x="1185" y="2545"/>
                  </a:lnTo>
                  <a:lnTo>
                    <a:pt x="1191" y="2548"/>
                  </a:lnTo>
                  <a:lnTo>
                    <a:pt x="1198" y="2548"/>
                  </a:lnTo>
                  <a:lnTo>
                    <a:pt x="1296" y="2548"/>
                  </a:lnTo>
                  <a:lnTo>
                    <a:pt x="1303" y="2548"/>
                  </a:lnTo>
                  <a:lnTo>
                    <a:pt x="1310" y="2545"/>
                  </a:lnTo>
                  <a:lnTo>
                    <a:pt x="1315" y="2543"/>
                  </a:lnTo>
                  <a:lnTo>
                    <a:pt x="1321" y="2537"/>
                  </a:lnTo>
                  <a:lnTo>
                    <a:pt x="1325" y="2532"/>
                  </a:lnTo>
                  <a:lnTo>
                    <a:pt x="1329" y="2526"/>
                  </a:lnTo>
                  <a:lnTo>
                    <a:pt x="1333" y="2519"/>
                  </a:lnTo>
                  <a:lnTo>
                    <a:pt x="1336" y="2511"/>
                  </a:lnTo>
                  <a:lnTo>
                    <a:pt x="1371" y="2510"/>
                  </a:lnTo>
                  <a:lnTo>
                    <a:pt x="1407" y="2507"/>
                  </a:lnTo>
                  <a:lnTo>
                    <a:pt x="1442" y="2504"/>
                  </a:lnTo>
                  <a:lnTo>
                    <a:pt x="1477" y="2502"/>
                  </a:lnTo>
                  <a:lnTo>
                    <a:pt x="1513" y="2498"/>
                  </a:lnTo>
                  <a:lnTo>
                    <a:pt x="1548" y="2494"/>
                  </a:lnTo>
                  <a:lnTo>
                    <a:pt x="1582" y="2489"/>
                  </a:lnTo>
                  <a:lnTo>
                    <a:pt x="1618" y="2484"/>
                  </a:lnTo>
                  <a:lnTo>
                    <a:pt x="1653" y="2477"/>
                  </a:lnTo>
                  <a:lnTo>
                    <a:pt x="1687" y="2472"/>
                  </a:lnTo>
                  <a:lnTo>
                    <a:pt x="1723" y="2465"/>
                  </a:lnTo>
                  <a:lnTo>
                    <a:pt x="1757" y="2457"/>
                  </a:lnTo>
                  <a:lnTo>
                    <a:pt x="1791" y="2449"/>
                  </a:lnTo>
                  <a:lnTo>
                    <a:pt x="1826" y="2440"/>
                  </a:lnTo>
                  <a:lnTo>
                    <a:pt x="1860" y="2431"/>
                  </a:lnTo>
                  <a:lnTo>
                    <a:pt x="1894" y="2421"/>
                  </a:lnTo>
                  <a:lnTo>
                    <a:pt x="1928" y="2412"/>
                  </a:lnTo>
                  <a:lnTo>
                    <a:pt x="1961" y="2401"/>
                  </a:lnTo>
                  <a:lnTo>
                    <a:pt x="1995" y="2390"/>
                  </a:lnTo>
                  <a:lnTo>
                    <a:pt x="2029" y="2378"/>
                  </a:lnTo>
                  <a:lnTo>
                    <a:pt x="2062" y="2366"/>
                  </a:lnTo>
                  <a:lnTo>
                    <a:pt x="2094" y="2353"/>
                  </a:lnTo>
                  <a:lnTo>
                    <a:pt x="2127" y="2340"/>
                  </a:lnTo>
                  <a:lnTo>
                    <a:pt x="2160" y="2326"/>
                  </a:lnTo>
                  <a:lnTo>
                    <a:pt x="2192" y="2313"/>
                  </a:lnTo>
                  <a:lnTo>
                    <a:pt x="2225" y="2298"/>
                  </a:lnTo>
                  <a:lnTo>
                    <a:pt x="2256" y="2283"/>
                  </a:lnTo>
                  <a:lnTo>
                    <a:pt x="2289" y="2268"/>
                  </a:lnTo>
                  <a:lnTo>
                    <a:pt x="2320" y="2251"/>
                  </a:lnTo>
                  <a:lnTo>
                    <a:pt x="2352" y="2235"/>
                  </a:lnTo>
                  <a:lnTo>
                    <a:pt x="2382" y="2217"/>
                  </a:lnTo>
                  <a:lnTo>
                    <a:pt x="2413" y="2200"/>
                  </a:lnTo>
                  <a:lnTo>
                    <a:pt x="2432" y="2187"/>
                  </a:lnTo>
                  <a:lnTo>
                    <a:pt x="2448" y="2172"/>
                  </a:lnTo>
                  <a:lnTo>
                    <a:pt x="2462" y="2156"/>
                  </a:lnTo>
                  <a:lnTo>
                    <a:pt x="2474" y="2138"/>
                  </a:lnTo>
                  <a:lnTo>
                    <a:pt x="2484" y="2119"/>
                  </a:lnTo>
                  <a:lnTo>
                    <a:pt x="2491" y="2099"/>
                  </a:lnTo>
                  <a:lnTo>
                    <a:pt x="2495" y="2078"/>
                  </a:lnTo>
                  <a:lnTo>
                    <a:pt x="2496" y="2057"/>
                  </a:lnTo>
                  <a:lnTo>
                    <a:pt x="2495" y="2040"/>
                  </a:lnTo>
                  <a:lnTo>
                    <a:pt x="2493" y="2024"/>
                  </a:lnTo>
                  <a:lnTo>
                    <a:pt x="2489" y="2008"/>
                  </a:lnTo>
                  <a:lnTo>
                    <a:pt x="2484" y="1993"/>
                  </a:lnTo>
                  <a:lnTo>
                    <a:pt x="2476" y="1978"/>
                  </a:lnTo>
                  <a:lnTo>
                    <a:pt x="2467" y="1964"/>
                  </a:lnTo>
                  <a:lnTo>
                    <a:pt x="2457" y="1950"/>
                  </a:lnTo>
                  <a:lnTo>
                    <a:pt x="2446" y="19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51120" y="2397600"/>
              <a:ext cx="178200" cy="84600"/>
            </a:xfrm>
            <a:custGeom>
              <a:avLst/>
              <a:gdLst/>
              <a:ahLst/>
              <a:rect l="l" t="t" r="r" b="b"/>
              <a:pathLst>
                <a:path w="103" h="50">
                  <a:moveTo>
                    <a:pt x="1" y="22"/>
                  </a:moveTo>
                  <a:lnTo>
                    <a:pt x="9" y="14"/>
                  </a:lnTo>
                  <a:lnTo>
                    <a:pt x="19" y="7"/>
                  </a:lnTo>
                  <a:lnTo>
                    <a:pt x="28" y="3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9" y="9"/>
                  </a:lnTo>
                  <a:lnTo>
                    <a:pt x="83" y="12"/>
                  </a:lnTo>
                  <a:lnTo>
                    <a:pt x="91" y="20"/>
                  </a:lnTo>
                  <a:lnTo>
                    <a:pt x="96" y="29"/>
                  </a:lnTo>
                  <a:lnTo>
                    <a:pt x="101" y="39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103" y="50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566d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33840" y="2462040"/>
              <a:ext cx="195480" cy="62280"/>
            </a:xfrm>
            <a:custGeom>
              <a:avLst/>
              <a:gdLst/>
              <a:ahLst/>
              <a:rect l="l" t="t" r="r" b="b"/>
              <a:pathLst>
                <a:path w="113" h="37">
                  <a:moveTo>
                    <a:pt x="112" y="37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13" y="27"/>
                  </a:lnTo>
                  <a:lnTo>
                    <a:pt x="113" y="30"/>
                  </a:lnTo>
                  <a:lnTo>
                    <a:pt x="113" y="31"/>
                  </a:lnTo>
                  <a:lnTo>
                    <a:pt x="112" y="34"/>
                  </a:lnTo>
                  <a:lnTo>
                    <a:pt x="112" y="37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32040" y="2500560"/>
              <a:ext cx="183600" cy="87480"/>
            </a:xfrm>
            <a:custGeom>
              <a:avLst/>
              <a:gdLst/>
              <a:ahLst/>
              <a:rect l="l" t="t" r="r" b="b"/>
              <a:pathLst>
                <a:path w="106" h="52">
                  <a:moveTo>
                    <a:pt x="0" y="0"/>
                  </a:moveTo>
                  <a:lnTo>
                    <a:pt x="106" y="26"/>
                  </a:lnTo>
                  <a:lnTo>
                    <a:pt x="103" y="29"/>
                  </a:lnTo>
                  <a:lnTo>
                    <a:pt x="99" y="34"/>
                  </a:lnTo>
                  <a:lnTo>
                    <a:pt x="91" y="40"/>
                  </a:lnTo>
                  <a:lnTo>
                    <a:pt x="82" y="46"/>
                  </a:lnTo>
                  <a:lnTo>
                    <a:pt x="69" y="51"/>
                  </a:lnTo>
                  <a:lnTo>
                    <a:pt x="54" y="52"/>
                  </a:lnTo>
                  <a:lnTo>
                    <a:pt x="39" y="49"/>
                  </a:lnTo>
                  <a:lnTo>
                    <a:pt x="22" y="41"/>
                  </a:lnTo>
                  <a:lnTo>
                    <a:pt x="12" y="33"/>
                  </a:lnTo>
                  <a:lnTo>
                    <a:pt x="7" y="23"/>
                  </a:lnTo>
                  <a:lnTo>
                    <a:pt x="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6d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11160" y="2172960"/>
              <a:ext cx="446760" cy="682560"/>
            </a:xfrm>
            <a:custGeom>
              <a:avLst/>
              <a:gdLst/>
              <a:ahLst/>
              <a:rect l="l" t="t" r="r" b="b"/>
              <a:pathLst>
                <a:path w="258" h="404">
                  <a:moveTo>
                    <a:pt x="45" y="257"/>
                  </a:moveTo>
                  <a:lnTo>
                    <a:pt x="53" y="260"/>
                  </a:lnTo>
                  <a:lnTo>
                    <a:pt x="61" y="261"/>
                  </a:lnTo>
                  <a:lnTo>
                    <a:pt x="69" y="261"/>
                  </a:lnTo>
                  <a:lnTo>
                    <a:pt x="79" y="261"/>
                  </a:lnTo>
                  <a:lnTo>
                    <a:pt x="85" y="260"/>
                  </a:lnTo>
                  <a:lnTo>
                    <a:pt x="92" y="258"/>
                  </a:lnTo>
                  <a:lnTo>
                    <a:pt x="99" y="255"/>
                  </a:lnTo>
                  <a:lnTo>
                    <a:pt x="104" y="253"/>
                  </a:lnTo>
                  <a:lnTo>
                    <a:pt x="111" y="250"/>
                  </a:lnTo>
                  <a:lnTo>
                    <a:pt x="117" y="245"/>
                  </a:lnTo>
                  <a:lnTo>
                    <a:pt x="121" y="240"/>
                  </a:lnTo>
                  <a:lnTo>
                    <a:pt x="126" y="235"/>
                  </a:lnTo>
                  <a:lnTo>
                    <a:pt x="134" y="223"/>
                  </a:lnTo>
                  <a:lnTo>
                    <a:pt x="139" y="209"/>
                  </a:lnTo>
                  <a:lnTo>
                    <a:pt x="141" y="196"/>
                  </a:lnTo>
                  <a:lnTo>
                    <a:pt x="141" y="182"/>
                  </a:lnTo>
                  <a:lnTo>
                    <a:pt x="139" y="168"/>
                  </a:lnTo>
                  <a:lnTo>
                    <a:pt x="132" y="155"/>
                  </a:lnTo>
                  <a:lnTo>
                    <a:pt x="124" y="142"/>
                  </a:lnTo>
                  <a:lnTo>
                    <a:pt x="114" y="133"/>
                  </a:lnTo>
                  <a:lnTo>
                    <a:pt x="111" y="132"/>
                  </a:lnTo>
                  <a:lnTo>
                    <a:pt x="109" y="129"/>
                  </a:lnTo>
                  <a:lnTo>
                    <a:pt x="104" y="128"/>
                  </a:lnTo>
                  <a:lnTo>
                    <a:pt x="102" y="126"/>
                  </a:lnTo>
                  <a:lnTo>
                    <a:pt x="121" y="83"/>
                  </a:lnTo>
                  <a:lnTo>
                    <a:pt x="174" y="53"/>
                  </a:lnTo>
                  <a:lnTo>
                    <a:pt x="174" y="50"/>
                  </a:lnTo>
                  <a:lnTo>
                    <a:pt x="179" y="39"/>
                  </a:lnTo>
                  <a:lnTo>
                    <a:pt x="185" y="30"/>
                  </a:lnTo>
                  <a:lnTo>
                    <a:pt x="193" y="21"/>
                  </a:lnTo>
                  <a:lnTo>
                    <a:pt x="201" y="13"/>
                  </a:lnTo>
                  <a:lnTo>
                    <a:pt x="212" y="8"/>
                  </a:lnTo>
                  <a:lnTo>
                    <a:pt x="222" y="4"/>
                  </a:lnTo>
                  <a:lnTo>
                    <a:pt x="232" y="1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2" y="0"/>
                  </a:lnTo>
                  <a:lnTo>
                    <a:pt x="256" y="1"/>
                  </a:lnTo>
                  <a:lnTo>
                    <a:pt x="258" y="1"/>
                  </a:lnTo>
                  <a:lnTo>
                    <a:pt x="91" y="404"/>
                  </a:lnTo>
                  <a:lnTo>
                    <a:pt x="0" y="360"/>
                  </a:lnTo>
                  <a:lnTo>
                    <a:pt x="45" y="257"/>
                  </a:lnTo>
                  <a:close/>
                </a:path>
              </a:pathLst>
            </a:custGeom>
            <a:solidFill>
              <a:srgbClr val="849b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16120" y="2813400"/>
              <a:ext cx="299520" cy="15552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69" y="92"/>
                  </a:moveTo>
                  <a:lnTo>
                    <a:pt x="0" y="8"/>
                  </a:lnTo>
                  <a:lnTo>
                    <a:pt x="4" y="0"/>
                  </a:lnTo>
                  <a:lnTo>
                    <a:pt x="173" y="82"/>
                  </a:lnTo>
                  <a:lnTo>
                    <a:pt x="169" y="92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34840" y="2774880"/>
              <a:ext cx="299520" cy="153360"/>
            </a:xfrm>
            <a:custGeom>
              <a:avLst/>
              <a:gdLst/>
              <a:ahLst/>
              <a:rect l="l" t="t" r="r" b="b"/>
              <a:pathLst>
                <a:path w="173" h="91">
                  <a:moveTo>
                    <a:pt x="169" y="91"/>
                  </a:moveTo>
                  <a:lnTo>
                    <a:pt x="0" y="10"/>
                  </a:lnTo>
                  <a:lnTo>
                    <a:pt x="4" y="0"/>
                  </a:lnTo>
                  <a:lnTo>
                    <a:pt x="173" y="83"/>
                  </a:lnTo>
                  <a:lnTo>
                    <a:pt x="169" y="91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87520" y="2881080"/>
              <a:ext cx="437760" cy="721440"/>
            </a:xfrm>
            <a:custGeom>
              <a:avLst/>
              <a:gdLst/>
              <a:ahLst/>
              <a:rect l="l" t="t" r="r" b="b"/>
              <a:pathLst>
                <a:path w="253" h="427">
                  <a:moveTo>
                    <a:pt x="52" y="358"/>
                  </a:moveTo>
                  <a:lnTo>
                    <a:pt x="53" y="344"/>
                  </a:lnTo>
                  <a:lnTo>
                    <a:pt x="56" y="331"/>
                  </a:lnTo>
                  <a:lnTo>
                    <a:pt x="60" y="317"/>
                  </a:lnTo>
                  <a:lnTo>
                    <a:pt x="63" y="303"/>
                  </a:lnTo>
                  <a:lnTo>
                    <a:pt x="65" y="298"/>
                  </a:lnTo>
                  <a:lnTo>
                    <a:pt x="65" y="287"/>
                  </a:lnTo>
                  <a:lnTo>
                    <a:pt x="59" y="273"/>
                  </a:lnTo>
                  <a:lnTo>
                    <a:pt x="42" y="258"/>
                  </a:lnTo>
                  <a:lnTo>
                    <a:pt x="29" y="248"/>
                  </a:lnTo>
                  <a:lnTo>
                    <a:pt x="16" y="234"/>
                  </a:lnTo>
                  <a:lnTo>
                    <a:pt x="8" y="219"/>
                  </a:lnTo>
                  <a:lnTo>
                    <a:pt x="3" y="203"/>
                  </a:lnTo>
                  <a:lnTo>
                    <a:pt x="0" y="186"/>
                  </a:lnTo>
                  <a:lnTo>
                    <a:pt x="1" y="170"/>
                  </a:lnTo>
                  <a:lnTo>
                    <a:pt x="6" y="154"/>
                  </a:lnTo>
                  <a:lnTo>
                    <a:pt x="14" y="137"/>
                  </a:lnTo>
                  <a:lnTo>
                    <a:pt x="22" y="126"/>
                  </a:lnTo>
                  <a:lnTo>
                    <a:pt x="33" y="117"/>
                  </a:lnTo>
                  <a:lnTo>
                    <a:pt x="44" y="109"/>
                  </a:lnTo>
                  <a:lnTo>
                    <a:pt x="56" y="102"/>
                  </a:lnTo>
                  <a:lnTo>
                    <a:pt x="70" y="98"/>
                  </a:lnTo>
                  <a:lnTo>
                    <a:pt x="83" y="96"/>
                  </a:lnTo>
                  <a:lnTo>
                    <a:pt x="97" y="96"/>
                  </a:lnTo>
                  <a:lnTo>
                    <a:pt x="110" y="99"/>
                  </a:lnTo>
                  <a:lnTo>
                    <a:pt x="117" y="102"/>
                  </a:lnTo>
                  <a:lnTo>
                    <a:pt x="161" y="0"/>
                  </a:lnTo>
                  <a:lnTo>
                    <a:pt x="253" y="45"/>
                  </a:lnTo>
                  <a:lnTo>
                    <a:pt x="95" y="427"/>
                  </a:lnTo>
                  <a:lnTo>
                    <a:pt x="86" y="422"/>
                  </a:lnTo>
                  <a:lnTo>
                    <a:pt x="76" y="415"/>
                  </a:lnTo>
                  <a:lnTo>
                    <a:pt x="70" y="408"/>
                  </a:lnTo>
                  <a:lnTo>
                    <a:pt x="63" y="399"/>
                  </a:lnTo>
                  <a:lnTo>
                    <a:pt x="57" y="389"/>
                  </a:lnTo>
                  <a:lnTo>
                    <a:pt x="55" y="380"/>
                  </a:lnTo>
                  <a:lnTo>
                    <a:pt x="52" y="369"/>
                  </a:lnTo>
                  <a:lnTo>
                    <a:pt x="52" y="358"/>
                  </a:lnTo>
                  <a:close/>
                </a:path>
              </a:pathLst>
            </a:custGeom>
            <a:solidFill>
              <a:srgbClr val="849b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96000" y="2156040"/>
              <a:ext cx="2025000" cy="3667680"/>
            </a:xfrm>
            <a:custGeom>
              <a:avLst/>
              <a:gdLst/>
              <a:ahLst/>
              <a:rect l="l" t="t" r="r" b="b"/>
              <a:pathLst>
                <a:path w="1169" h="2170">
                  <a:moveTo>
                    <a:pt x="68" y="1855"/>
                  </a:moveTo>
                  <a:lnTo>
                    <a:pt x="53" y="1844"/>
                  </a:lnTo>
                  <a:lnTo>
                    <a:pt x="39" y="1831"/>
                  </a:lnTo>
                  <a:lnTo>
                    <a:pt x="28" y="1816"/>
                  </a:lnTo>
                  <a:lnTo>
                    <a:pt x="17" y="1801"/>
                  </a:lnTo>
                  <a:lnTo>
                    <a:pt x="11" y="1784"/>
                  </a:lnTo>
                  <a:lnTo>
                    <a:pt x="4" y="1767"/>
                  </a:lnTo>
                  <a:lnTo>
                    <a:pt x="1" y="1748"/>
                  </a:lnTo>
                  <a:lnTo>
                    <a:pt x="0" y="1729"/>
                  </a:lnTo>
                  <a:lnTo>
                    <a:pt x="1" y="1714"/>
                  </a:lnTo>
                  <a:lnTo>
                    <a:pt x="2" y="1699"/>
                  </a:lnTo>
                  <a:lnTo>
                    <a:pt x="6" y="1684"/>
                  </a:lnTo>
                  <a:lnTo>
                    <a:pt x="12" y="1670"/>
                  </a:lnTo>
                  <a:lnTo>
                    <a:pt x="17" y="1657"/>
                  </a:lnTo>
                  <a:lnTo>
                    <a:pt x="25" y="1644"/>
                  </a:lnTo>
                  <a:lnTo>
                    <a:pt x="35" y="1632"/>
                  </a:lnTo>
                  <a:lnTo>
                    <a:pt x="45" y="1621"/>
                  </a:lnTo>
                  <a:lnTo>
                    <a:pt x="57" y="1610"/>
                  </a:lnTo>
                  <a:lnTo>
                    <a:pt x="69" y="1602"/>
                  </a:lnTo>
                  <a:lnTo>
                    <a:pt x="81" y="1594"/>
                  </a:lnTo>
                  <a:lnTo>
                    <a:pt x="95" y="1587"/>
                  </a:lnTo>
                  <a:lnTo>
                    <a:pt x="109" y="1583"/>
                  </a:lnTo>
                  <a:lnTo>
                    <a:pt x="124" y="1579"/>
                  </a:lnTo>
                  <a:lnTo>
                    <a:pt x="139" y="1578"/>
                  </a:lnTo>
                  <a:lnTo>
                    <a:pt x="153" y="1576"/>
                  </a:lnTo>
                  <a:lnTo>
                    <a:pt x="163" y="1576"/>
                  </a:lnTo>
                  <a:lnTo>
                    <a:pt x="171" y="1578"/>
                  </a:lnTo>
                  <a:lnTo>
                    <a:pt x="181" y="1579"/>
                  </a:lnTo>
                  <a:lnTo>
                    <a:pt x="189" y="1580"/>
                  </a:lnTo>
                  <a:lnTo>
                    <a:pt x="198" y="1583"/>
                  </a:lnTo>
                  <a:lnTo>
                    <a:pt x="207" y="1586"/>
                  </a:lnTo>
                  <a:lnTo>
                    <a:pt x="215" y="1588"/>
                  </a:lnTo>
                  <a:lnTo>
                    <a:pt x="223" y="1593"/>
                  </a:lnTo>
                  <a:lnTo>
                    <a:pt x="246" y="1605"/>
                  </a:lnTo>
                  <a:lnTo>
                    <a:pt x="272" y="1620"/>
                  </a:lnTo>
                  <a:lnTo>
                    <a:pt x="302" y="1635"/>
                  </a:lnTo>
                  <a:lnTo>
                    <a:pt x="331" y="1650"/>
                  </a:lnTo>
                  <a:lnTo>
                    <a:pt x="356" y="1663"/>
                  </a:lnTo>
                  <a:lnTo>
                    <a:pt x="377" y="1674"/>
                  </a:lnTo>
                  <a:lnTo>
                    <a:pt x="392" y="1681"/>
                  </a:lnTo>
                  <a:lnTo>
                    <a:pt x="397" y="1684"/>
                  </a:lnTo>
                  <a:lnTo>
                    <a:pt x="897" y="479"/>
                  </a:lnTo>
                  <a:lnTo>
                    <a:pt x="938" y="500"/>
                  </a:lnTo>
                  <a:lnTo>
                    <a:pt x="965" y="442"/>
                  </a:lnTo>
                  <a:lnTo>
                    <a:pt x="921" y="421"/>
                  </a:lnTo>
                  <a:lnTo>
                    <a:pt x="1096" y="0"/>
                  </a:lnTo>
                  <a:lnTo>
                    <a:pt x="1099" y="1"/>
                  </a:lnTo>
                  <a:lnTo>
                    <a:pt x="1100" y="4"/>
                  </a:lnTo>
                  <a:lnTo>
                    <a:pt x="1103" y="5"/>
                  </a:lnTo>
                  <a:lnTo>
                    <a:pt x="1104" y="8"/>
                  </a:lnTo>
                  <a:lnTo>
                    <a:pt x="1109" y="12"/>
                  </a:lnTo>
                  <a:lnTo>
                    <a:pt x="1115" y="18"/>
                  </a:lnTo>
                  <a:lnTo>
                    <a:pt x="1120" y="22"/>
                  </a:lnTo>
                  <a:lnTo>
                    <a:pt x="1126" y="26"/>
                  </a:lnTo>
                  <a:lnTo>
                    <a:pt x="1131" y="29"/>
                  </a:lnTo>
                  <a:lnTo>
                    <a:pt x="1137" y="33"/>
                  </a:lnTo>
                  <a:lnTo>
                    <a:pt x="1143" y="37"/>
                  </a:lnTo>
                  <a:lnTo>
                    <a:pt x="1149" y="40"/>
                  </a:lnTo>
                  <a:lnTo>
                    <a:pt x="1153" y="207"/>
                  </a:lnTo>
                  <a:lnTo>
                    <a:pt x="815" y="927"/>
                  </a:lnTo>
                  <a:lnTo>
                    <a:pt x="828" y="926"/>
                  </a:lnTo>
                  <a:lnTo>
                    <a:pt x="848" y="923"/>
                  </a:lnTo>
                  <a:lnTo>
                    <a:pt x="868" y="920"/>
                  </a:lnTo>
                  <a:lnTo>
                    <a:pt x="889" y="917"/>
                  </a:lnTo>
                  <a:lnTo>
                    <a:pt x="909" y="915"/>
                  </a:lnTo>
                  <a:lnTo>
                    <a:pt x="930" y="912"/>
                  </a:lnTo>
                  <a:lnTo>
                    <a:pt x="951" y="911"/>
                  </a:lnTo>
                  <a:lnTo>
                    <a:pt x="972" y="908"/>
                  </a:lnTo>
                  <a:lnTo>
                    <a:pt x="994" y="907"/>
                  </a:lnTo>
                  <a:lnTo>
                    <a:pt x="1015" y="904"/>
                  </a:lnTo>
                  <a:lnTo>
                    <a:pt x="1036" y="902"/>
                  </a:lnTo>
                  <a:lnTo>
                    <a:pt x="1058" y="901"/>
                  </a:lnTo>
                  <a:lnTo>
                    <a:pt x="1079" y="900"/>
                  </a:lnTo>
                  <a:lnTo>
                    <a:pt x="1101" y="900"/>
                  </a:lnTo>
                  <a:lnTo>
                    <a:pt x="1123" y="898"/>
                  </a:lnTo>
                  <a:lnTo>
                    <a:pt x="1145" y="897"/>
                  </a:lnTo>
                  <a:lnTo>
                    <a:pt x="1167" y="897"/>
                  </a:lnTo>
                  <a:lnTo>
                    <a:pt x="1167" y="907"/>
                  </a:lnTo>
                  <a:lnTo>
                    <a:pt x="1161" y="907"/>
                  </a:lnTo>
                  <a:lnTo>
                    <a:pt x="1154" y="907"/>
                  </a:lnTo>
                  <a:lnTo>
                    <a:pt x="1146" y="907"/>
                  </a:lnTo>
                  <a:lnTo>
                    <a:pt x="1138" y="907"/>
                  </a:lnTo>
                  <a:lnTo>
                    <a:pt x="1128" y="907"/>
                  </a:lnTo>
                  <a:lnTo>
                    <a:pt x="1119" y="907"/>
                  </a:lnTo>
                  <a:lnTo>
                    <a:pt x="1108" y="907"/>
                  </a:lnTo>
                  <a:lnTo>
                    <a:pt x="1097" y="907"/>
                  </a:lnTo>
                  <a:lnTo>
                    <a:pt x="1084" y="907"/>
                  </a:lnTo>
                  <a:lnTo>
                    <a:pt x="1070" y="908"/>
                  </a:lnTo>
                  <a:lnTo>
                    <a:pt x="1059" y="908"/>
                  </a:lnTo>
                  <a:lnTo>
                    <a:pt x="1048" y="909"/>
                  </a:lnTo>
                  <a:lnTo>
                    <a:pt x="1040" y="909"/>
                  </a:lnTo>
                  <a:lnTo>
                    <a:pt x="1033" y="911"/>
                  </a:lnTo>
                  <a:lnTo>
                    <a:pt x="1029" y="911"/>
                  </a:lnTo>
                  <a:lnTo>
                    <a:pt x="1028" y="911"/>
                  </a:lnTo>
                  <a:lnTo>
                    <a:pt x="1029" y="911"/>
                  </a:lnTo>
                  <a:lnTo>
                    <a:pt x="1017" y="913"/>
                  </a:lnTo>
                  <a:lnTo>
                    <a:pt x="1007" y="920"/>
                  </a:lnTo>
                  <a:lnTo>
                    <a:pt x="1000" y="930"/>
                  </a:lnTo>
                  <a:lnTo>
                    <a:pt x="998" y="942"/>
                  </a:lnTo>
                  <a:lnTo>
                    <a:pt x="998" y="947"/>
                  </a:lnTo>
                  <a:lnTo>
                    <a:pt x="1000" y="954"/>
                  </a:lnTo>
                  <a:lnTo>
                    <a:pt x="1003" y="960"/>
                  </a:lnTo>
                  <a:lnTo>
                    <a:pt x="1007" y="964"/>
                  </a:lnTo>
                  <a:lnTo>
                    <a:pt x="1011" y="968"/>
                  </a:lnTo>
                  <a:lnTo>
                    <a:pt x="1017" y="971"/>
                  </a:lnTo>
                  <a:lnTo>
                    <a:pt x="1024" y="973"/>
                  </a:lnTo>
                  <a:lnTo>
                    <a:pt x="1029" y="973"/>
                  </a:lnTo>
                  <a:lnTo>
                    <a:pt x="1032" y="973"/>
                  </a:lnTo>
                  <a:lnTo>
                    <a:pt x="1036" y="973"/>
                  </a:lnTo>
                  <a:lnTo>
                    <a:pt x="1044" y="972"/>
                  </a:lnTo>
                  <a:lnTo>
                    <a:pt x="1054" y="972"/>
                  </a:lnTo>
                  <a:lnTo>
                    <a:pt x="1064" y="971"/>
                  </a:lnTo>
                  <a:lnTo>
                    <a:pt x="1078" y="971"/>
                  </a:lnTo>
                  <a:lnTo>
                    <a:pt x="1090" y="969"/>
                  </a:lnTo>
                  <a:lnTo>
                    <a:pt x="1104" y="969"/>
                  </a:lnTo>
                  <a:lnTo>
                    <a:pt x="1168" y="966"/>
                  </a:lnTo>
                  <a:lnTo>
                    <a:pt x="1169" y="976"/>
                  </a:lnTo>
                  <a:lnTo>
                    <a:pt x="1145" y="977"/>
                  </a:lnTo>
                  <a:lnTo>
                    <a:pt x="1120" y="977"/>
                  </a:lnTo>
                  <a:lnTo>
                    <a:pt x="1096" y="979"/>
                  </a:lnTo>
                  <a:lnTo>
                    <a:pt x="1070" y="980"/>
                  </a:lnTo>
                  <a:lnTo>
                    <a:pt x="1045" y="983"/>
                  </a:lnTo>
                  <a:lnTo>
                    <a:pt x="1021" y="984"/>
                  </a:lnTo>
                  <a:lnTo>
                    <a:pt x="998" y="985"/>
                  </a:lnTo>
                  <a:lnTo>
                    <a:pt x="973" y="988"/>
                  </a:lnTo>
                  <a:lnTo>
                    <a:pt x="949" y="991"/>
                  </a:lnTo>
                  <a:lnTo>
                    <a:pt x="924" y="994"/>
                  </a:lnTo>
                  <a:lnTo>
                    <a:pt x="900" y="996"/>
                  </a:lnTo>
                  <a:lnTo>
                    <a:pt x="877" y="999"/>
                  </a:lnTo>
                  <a:lnTo>
                    <a:pt x="852" y="1002"/>
                  </a:lnTo>
                  <a:lnTo>
                    <a:pt x="829" y="1006"/>
                  </a:lnTo>
                  <a:lnTo>
                    <a:pt x="804" y="1009"/>
                  </a:lnTo>
                  <a:lnTo>
                    <a:pt x="781" y="1013"/>
                  </a:lnTo>
                  <a:lnTo>
                    <a:pt x="777" y="1013"/>
                  </a:lnTo>
                  <a:lnTo>
                    <a:pt x="453" y="1710"/>
                  </a:lnTo>
                  <a:lnTo>
                    <a:pt x="494" y="1726"/>
                  </a:lnTo>
                  <a:lnTo>
                    <a:pt x="535" y="1741"/>
                  </a:lnTo>
                  <a:lnTo>
                    <a:pt x="576" y="1756"/>
                  </a:lnTo>
                  <a:lnTo>
                    <a:pt x="618" y="1769"/>
                  </a:lnTo>
                  <a:lnTo>
                    <a:pt x="660" y="1783"/>
                  </a:lnTo>
                  <a:lnTo>
                    <a:pt x="702" y="1795"/>
                  </a:lnTo>
                  <a:lnTo>
                    <a:pt x="746" y="1806"/>
                  </a:lnTo>
                  <a:lnTo>
                    <a:pt x="789" y="1816"/>
                  </a:lnTo>
                  <a:lnTo>
                    <a:pt x="833" y="1825"/>
                  </a:lnTo>
                  <a:lnTo>
                    <a:pt x="877" y="1833"/>
                  </a:lnTo>
                  <a:lnTo>
                    <a:pt x="920" y="1842"/>
                  </a:lnTo>
                  <a:lnTo>
                    <a:pt x="965" y="1847"/>
                  </a:lnTo>
                  <a:lnTo>
                    <a:pt x="1009" y="1853"/>
                  </a:lnTo>
                  <a:lnTo>
                    <a:pt x="1054" y="1858"/>
                  </a:lnTo>
                  <a:lnTo>
                    <a:pt x="1097" y="1861"/>
                  </a:lnTo>
                  <a:lnTo>
                    <a:pt x="1142" y="1863"/>
                  </a:lnTo>
                  <a:lnTo>
                    <a:pt x="1141" y="1866"/>
                  </a:lnTo>
                  <a:lnTo>
                    <a:pt x="1141" y="1870"/>
                  </a:lnTo>
                  <a:lnTo>
                    <a:pt x="1141" y="1874"/>
                  </a:lnTo>
                  <a:lnTo>
                    <a:pt x="1141" y="1878"/>
                  </a:lnTo>
                  <a:lnTo>
                    <a:pt x="1141" y="1907"/>
                  </a:lnTo>
                  <a:lnTo>
                    <a:pt x="1090" y="1904"/>
                  </a:lnTo>
                  <a:lnTo>
                    <a:pt x="1040" y="1900"/>
                  </a:lnTo>
                  <a:lnTo>
                    <a:pt x="991" y="1895"/>
                  </a:lnTo>
                  <a:lnTo>
                    <a:pt x="943" y="1888"/>
                  </a:lnTo>
                  <a:lnTo>
                    <a:pt x="896" y="1880"/>
                  </a:lnTo>
                  <a:lnTo>
                    <a:pt x="851" y="1872"/>
                  </a:lnTo>
                  <a:lnTo>
                    <a:pt x="806" y="1863"/>
                  </a:lnTo>
                  <a:lnTo>
                    <a:pt x="764" y="1854"/>
                  </a:lnTo>
                  <a:lnTo>
                    <a:pt x="721" y="1843"/>
                  </a:lnTo>
                  <a:lnTo>
                    <a:pt x="680" y="1832"/>
                  </a:lnTo>
                  <a:lnTo>
                    <a:pt x="641" y="1821"/>
                  </a:lnTo>
                  <a:lnTo>
                    <a:pt x="603" y="1809"/>
                  </a:lnTo>
                  <a:lnTo>
                    <a:pt x="567" y="1797"/>
                  </a:lnTo>
                  <a:lnTo>
                    <a:pt x="532" y="1784"/>
                  </a:lnTo>
                  <a:lnTo>
                    <a:pt x="498" y="1772"/>
                  </a:lnTo>
                  <a:lnTo>
                    <a:pt x="467" y="1760"/>
                  </a:lnTo>
                  <a:lnTo>
                    <a:pt x="437" y="1748"/>
                  </a:lnTo>
                  <a:lnTo>
                    <a:pt x="408" y="1735"/>
                  </a:lnTo>
                  <a:lnTo>
                    <a:pt x="381" y="1725"/>
                  </a:lnTo>
                  <a:lnTo>
                    <a:pt x="355" y="1712"/>
                  </a:lnTo>
                  <a:lnTo>
                    <a:pt x="332" y="1701"/>
                  </a:lnTo>
                  <a:lnTo>
                    <a:pt x="310" y="1691"/>
                  </a:lnTo>
                  <a:lnTo>
                    <a:pt x="291" y="1681"/>
                  </a:lnTo>
                  <a:lnTo>
                    <a:pt x="272" y="1671"/>
                  </a:lnTo>
                  <a:lnTo>
                    <a:pt x="257" y="1663"/>
                  </a:lnTo>
                  <a:lnTo>
                    <a:pt x="242" y="1655"/>
                  </a:lnTo>
                  <a:lnTo>
                    <a:pt x="230" y="1648"/>
                  </a:lnTo>
                  <a:lnTo>
                    <a:pt x="220" y="1643"/>
                  </a:lnTo>
                  <a:lnTo>
                    <a:pt x="212" y="1639"/>
                  </a:lnTo>
                  <a:lnTo>
                    <a:pt x="207" y="1635"/>
                  </a:lnTo>
                  <a:lnTo>
                    <a:pt x="203" y="1633"/>
                  </a:lnTo>
                  <a:lnTo>
                    <a:pt x="201" y="1632"/>
                  </a:lnTo>
                  <a:lnTo>
                    <a:pt x="201" y="1631"/>
                  </a:lnTo>
                  <a:lnTo>
                    <a:pt x="201" y="1631"/>
                  </a:lnTo>
                  <a:lnTo>
                    <a:pt x="201" y="1631"/>
                  </a:lnTo>
                  <a:lnTo>
                    <a:pt x="200" y="1631"/>
                  </a:lnTo>
                  <a:lnTo>
                    <a:pt x="200" y="1631"/>
                  </a:lnTo>
                  <a:lnTo>
                    <a:pt x="194" y="1628"/>
                  </a:lnTo>
                  <a:lnTo>
                    <a:pt x="189" y="1627"/>
                  </a:lnTo>
                  <a:lnTo>
                    <a:pt x="183" y="1624"/>
                  </a:lnTo>
                  <a:lnTo>
                    <a:pt x="177" y="1622"/>
                  </a:lnTo>
                  <a:lnTo>
                    <a:pt x="171" y="1621"/>
                  </a:lnTo>
                  <a:lnTo>
                    <a:pt x="164" y="1621"/>
                  </a:lnTo>
                  <a:lnTo>
                    <a:pt x="159" y="1620"/>
                  </a:lnTo>
                  <a:lnTo>
                    <a:pt x="152" y="1620"/>
                  </a:lnTo>
                  <a:lnTo>
                    <a:pt x="130" y="1622"/>
                  </a:lnTo>
                  <a:lnTo>
                    <a:pt x="111" y="1628"/>
                  </a:lnTo>
                  <a:lnTo>
                    <a:pt x="92" y="1637"/>
                  </a:lnTo>
                  <a:lnTo>
                    <a:pt x="77" y="1651"/>
                  </a:lnTo>
                  <a:lnTo>
                    <a:pt x="64" y="1666"/>
                  </a:lnTo>
                  <a:lnTo>
                    <a:pt x="54" y="1685"/>
                  </a:lnTo>
                  <a:lnTo>
                    <a:pt x="49" y="1704"/>
                  </a:lnTo>
                  <a:lnTo>
                    <a:pt x="46" y="1726"/>
                  </a:lnTo>
                  <a:lnTo>
                    <a:pt x="47" y="1740"/>
                  </a:lnTo>
                  <a:lnTo>
                    <a:pt x="50" y="1753"/>
                  </a:lnTo>
                  <a:lnTo>
                    <a:pt x="54" y="1767"/>
                  </a:lnTo>
                  <a:lnTo>
                    <a:pt x="61" y="1779"/>
                  </a:lnTo>
                  <a:lnTo>
                    <a:pt x="68" y="1791"/>
                  </a:lnTo>
                  <a:lnTo>
                    <a:pt x="77" y="1801"/>
                  </a:lnTo>
                  <a:lnTo>
                    <a:pt x="87" y="1810"/>
                  </a:lnTo>
                  <a:lnTo>
                    <a:pt x="99" y="1818"/>
                  </a:lnTo>
                  <a:lnTo>
                    <a:pt x="100" y="1820"/>
                  </a:lnTo>
                  <a:lnTo>
                    <a:pt x="104" y="1823"/>
                  </a:lnTo>
                  <a:lnTo>
                    <a:pt x="111" y="1827"/>
                  </a:lnTo>
                  <a:lnTo>
                    <a:pt x="119" y="1832"/>
                  </a:lnTo>
                  <a:lnTo>
                    <a:pt x="130" y="1838"/>
                  </a:lnTo>
                  <a:lnTo>
                    <a:pt x="144" y="1846"/>
                  </a:lnTo>
                  <a:lnTo>
                    <a:pt x="159" y="1855"/>
                  </a:lnTo>
                  <a:lnTo>
                    <a:pt x="177" y="1865"/>
                  </a:lnTo>
                  <a:lnTo>
                    <a:pt x="197" y="1876"/>
                  </a:lnTo>
                  <a:lnTo>
                    <a:pt x="219" y="1887"/>
                  </a:lnTo>
                  <a:lnTo>
                    <a:pt x="242" y="1899"/>
                  </a:lnTo>
                  <a:lnTo>
                    <a:pt x="268" y="1911"/>
                  </a:lnTo>
                  <a:lnTo>
                    <a:pt x="295" y="1925"/>
                  </a:lnTo>
                  <a:lnTo>
                    <a:pt x="325" y="1938"/>
                  </a:lnTo>
                  <a:lnTo>
                    <a:pt x="356" y="1952"/>
                  </a:lnTo>
                  <a:lnTo>
                    <a:pt x="390" y="1965"/>
                  </a:lnTo>
                  <a:lnTo>
                    <a:pt x="426" y="1979"/>
                  </a:lnTo>
                  <a:lnTo>
                    <a:pt x="463" y="1993"/>
                  </a:lnTo>
                  <a:lnTo>
                    <a:pt x="501" y="2006"/>
                  </a:lnTo>
                  <a:lnTo>
                    <a:pt x="542" y="2020"/>
                  </a:lnTo>
                  <a:lnTo>
                    <a:pt x="582" y="2034"/>
                  </a:lnTo>
                  <a:lnTo>
                    <a:pt x="626" y="2046"/>
                  </a:lnTo>
                  <a:lnTo>
                    <a:pt x="672" y="2058"/>
                  </a:lnTo>
                  <a:lnTo>
                    <a:pt x="719" y="2070"/>
                  </a:lnTo>
                  <a:lnTo>
                    <a:pt x="766" y="2081"/>
                  </a:lnTo>
                  <a:lnTo>
                    <a:pt x="815" y="2092"/>
                  </a:lnTo>
                  <a:lnTo>
                    <a:pt x="867" y="2100"/>
                  </a:lnTo>
                  <a:lnTo>
                    <a:pt x="919" y="2108"/>
                  </a:lnTo>
                  <a:lnTo>
                    <a:pt x="973" y="2117"/>
                  </a:lnTo>
                  <a:lnTo>
                    <a:pt x="1028" y="2122"/>
                  </a:lnTo>
                  <a:lnTo>
                    <a:pt x="1084" y="2127"/>
                  </a:lnTo>
                  <a:lnTo>
                    <a:pt x="1141" y="2130"/>
                  </a:lnTo>
                  <a:lnTo>
                    <a:pt x="1141" y="2159"/>
                  </a:lnTo>
                  <a:lnTo>
                    <a:pt x="1141" y="2161"/>
                  </a:lnTo>
                  <a:lnTo>
                    <a:pt x="1141" y="2164"/>
                  </a:lnTo>
                  <a:lnTo>
                    <a:pt x="1141" y="2167"/>
                  </a:lnTo>
                  <a:lnTo>
                    <a:pt x="1141" y="2170"/>
                  </a:lnTo>
                  <a:lnTo>
                    <a:pt x="1105" y="2168"/>
                  </a:lnTo>
                  <a:lnTo>
                    <a:pt x="1071" y="2166"/>
                  </a:lnTo>
                  <a:lnTo>
                    <a:pt x="1036" y="2163"/>
                  </a:lnTo>
                  <a:lnTo>
                    <a:pt x="1000" y="2159"/>
                  </a:lnTo>
                  <a:lnTo>
                    <a:pt x="966" y="2155"/>
                  </a:lnTo>
                  <a:lnTo>
                    <a:pt x="931" y="2151"/>
                  </a:lnTo>
                  <a:lnTo>
                    <a:pt x="897" y="2147"/>
                  </a:lnTo>
                  <a:lnTo>
                    <a:pt x="862" y="2141"/>
                  </a:lnTo>
                  <a:lnTo>
                    <a:pt x="828" y="2134"/>
                  </a:lnTo>
                  <a:lnTo>
                    <a:pt x="792" y="2127"/>
                  </a:lnTo>
                  <a:lnTo>
                    <a:pt x="758" y="2121"/>
                  </a:lnTo>
                  <a:lnTo>
                    <a:pt x="724" y="2114"/>
                  </a:lnTo>
                  <a:lnTo>
                    <a:pt x="690" y="2106"/>
                  </a:lnTo>
                  <a:lnTo>
                    <a:pt x="656" y="2096"/>
                  </a:lnTo>
                  <a:lnTo>
                    <a:pt x="622" y="2088"/>
                  </a:lnTo>
                  <a:lnTo>
                    <a:pt x="588" y="2077"/>
                  </a:lnTo>
                  <a:lnTo>
                    <a:pt x="554" y="2068"/>
                  </a:lnTo>
                  <a:lnTo>
                    <a:pt x="520" y="2057"/>
                  </a:lnTo>
                  <a:lnTo>
                    <a:pt x="486" y="2046"/>
                  </a:lnTo>
                  <a:lnTo>
                    <a:pt x="453" y="2034"/>
                  </a:lnTo>
                  <a:lnTo>
                    <a:pt x="420" y="2023"/>
                  </a:lnTo>
                  <a:lnTo>
                    <a:pt x="386" y="2009"/>
                  </a:lnTo>
                  <a:lnTo>
                    <a:pt x="354" y="1997"/>
                  </a:lnTo>
                  <a:lnTo>
                    <a:pt x="321" y="1982"/>
                  </a:lnTo>
                  <a:lnTo>
                    <a:pt x="288" y="1968"/>
                  </a:lnTo>
                  <a:lnTo>
                    <a:pt x="257" y="1953"/>
                  </a:lnTo>
                  <a:lnTo>
                    <a:pt x="224" y="1938"/>
                  </a:lnTo>
                  <a:lnTo>
                    <a:pt x="193" y="1923"/>
                  </a:lnTo>
                  <a:lnTo>
                    <a:pt x="162" y="1907"/>
                  </a:lnTo>
                  <a:lnTo>
                    <a:pt x="130" y="1891"/>
                  </a:lnTo>
                  <a:lnTo>
                    <a:pt x="99" y="1873"/>
                  </a:lnTo>
                  <a:lnTo>
                    <a:pt x="68" y="1855"/>
                  </a:lnTo>
                  <a:close/>
                </a:path>
              </a:pathLst>
            </a:custGeom>
            <a:solidFill>
              <a:srgbClr val="637f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99680" y="4916520"/>
              <a:ext cx="1872720" cy="814320"/>
            </a:xfrm>
            <a:custGeom>
              <a:avLst/>
              <a:gdLst/>
              <a:ahLst/>
              <a:rect l="l" t="t" r="r" b="b"/>
              <a:pathLst>
                <a:path w="1081" h="482">
                  <a:moveTo>
                    <a:pt x="134" y="11"/>
                  </a:moveTo>
                  <a:lnTo>
                    <a:pt x="137" y="13"/>
                  </a:lnTo>
                  <a:lnTo>
                    <a:pt x="141" y="15"/>
                  </a:lnTo>
                  <a:lnTo>
                    <a:pt x="149" y="21"/>
                  </a:lnTo>
                  <a:lnTo>
                    <a:pt x="160" y="26"/>
                  </a:lnTo>
                  <a:lnTo>
                    <a:pt x="100" y="135"/>
                  </a:lnTo>
                  <a:lnTo>
                    <a:pt x="113" y="142"/>
                  </a:lnTo>
                  <a:lnTo>
                    <a:pt x="172" y="34"/>
                  </a:lnTo>
                  <a:lnTo>
                    <a:pt x="175" y="36"/>
                  </a:lnTo>
                  <a:lnTo>
                    <a:pt x="179" y="37"/>
                  </a:lnTo>
                  <a:lnTo>
                    <a:pt x="183" y="40"/>
                  </a:lnTo>
                  <a:lnTo>
                    <a:pt x="186" y="41"/>
                  </a:lnTo>
                  <a:lnTo>
                    <a:pt x="128" y="150"/>
                  </a:lnTo>
                  <a:lnTo>
                    <a:pt x="140" y="157"/>
                  </a:lnTo>
                  <a:lnTo>
                    <a:pt x="198" y="48"/>
                  </a:lnTo>
                  <a:lnTo>
                    <a:pt x="201" y="49"/>
                  </a:lnTo>
                  <a:lnTo>
                    <a:pt x="205" y="51"/>
                  </a:lnTo>
                  <a:lnTo>
                    <a:pt x="209" y="53"/>
                  </a:lnTo>
                  <a:lnTo>
                    <a:pt x="212" y="55"/>
                  </a:lnTo>
                  <a:lnTo>
                    <a:pt x="155" y="164"/>
                  </a:lnTo>
                  <a:lnTo>
                    <a:pt x="167" y="171"/>
                  </a:lnTo>
                  <a:lnTo>
                    <a:pt x="224" y="62"/>
                  </a:lnTo>
                  <a:lnTo>
                    <a:pt x="227" y="63"/>
                  </a:lnTo>
                  <a:lnTo>
                    <a:pt x="231" y="64"/>
                  </a:lnTo>
                  <a:lnTo>
                    <a:pt x="235" y="67"/>
                  </a:lnTo>
                  <a:lnTo>
                    <a:pt x="238" y="68"/>
                  </a:lnTo>
                  <a:lnTo>
                    <a:pt x="182" y="179"/>
                  </a:lnTo>
                  <a:lnTo>
                    <a:pt x="196" y="185"/>
                  </a:lnTo>
                  <a:lnTo>
                    <a:pt x="250" y="74"/>
                  </a:lnTo>
                  <a:lnTo>
                    <a:pt x="254" y="75"/>
                  </a:lnTo>
                  <a:lnTo>
                    <a:pt x="257" y="78"/>
                  </a:lnTo>
                  <a:lnTo>
                    <a:pt x="261" y="79"/>
                  </a:lnTo>
                  <a:lnTo>
                    <a:pt x="264" y="81"/>
                  </a:lnTo>
                  <a:lnTo>
                    <a:pt x="209" y="192"/>
                  </a:lnTo>
                  <a:lnTo>
                    <a:pt x="223" y="199"/>
                  </a:lnTo>
                  <a:lnTo>
                    <a:pt x="277" y="87"/>
                  </a:lnTo>
                  <a:lnTo>
                    <a:pt x="280" y="89"/>
                  </a:lnTo>
                  <a:lnTo>
                    <a:pt x="284" y="90"/>
                  </a:lnTo>
                  <a:lnTo>
                    <a:pt x="287" y="92"/>
                  </a:lnTo>
                  <a:lnTo>
                    <a:pt x="291" y="93"/>
                  </a:lnTo>
                  <a:lnTo>
                    <a:pt x="238" y="206"/>
                  </a:lnTo>
                  <a:lnTo>
                    <a:pt x="250" y="211"/>
                  </a:lnTo>
                  <a:lnTo>
                    <a:pt x="303" y="100"/>
                  </a:lnTo>
                  <a:lnTo>
                    <a:pt x="307" y="101"/>
                  </a:lnTo>
                  <a:lnTo>
                    <a:pt x="310" y="102"/>
                  </a:lnTo>
                  <a:lnTo>
                    <a:pt x="314" y="104"/>
                  </a:lnTo>
                  <a:lnTo>
                    <a:pt x="317" y="105"/>
                  </a:lnTo>
                  <a:lnTo>
                    <a:pt x="266" y="220"/>
                  </a:lnTo>
                  <a:lnTo>
                    <a:pt x="279" y="225"/>
                  </a:lnTo>
                  <a:lnTo>
                    <a:pt x="330" y="111"/>
                  </a:lnTo>
                  <a:lnTo>
                    <a:pt x="333" y="112"/>
                  </a:lnTo>
                  <a:lnTo>
                    <a:pt x="337" y="113"/>
                  </a:lnTo>
                  <a:lnTo>
                    <a:pt x="340" y="116"/>
                  </a:lnTo>
                  <a:lnTo>
                    <a:pt x="344" y="117"/>
                  </a:lnTo>
                  <a:lnTo>
                    <a:pt x="294" y="232"/>
                  </a:lnTo>
                  <a:lnTo>
                    <a:pt x="307" y="237"/>
                  </a:lnTo>
                  <a:lnTo>
                    <a:pt x="358" y="123"/>
                  </a:lnTo>
                  <a:lnTo>
                    <a:pt x="360" y="124"/>
                  </a:lnTo>
                  <a:lnTo>
                    <a:pt x="364" y="126"/>
                  </a:lnTo>
                  <a:lnTo>
                    <a:pt x="367" y="127"/>
                  </a:lnTo>
                  <a:lnTo>
                    <a:pt x="371" y="128"/>
                  </a:lnTo>
                  <a:lnTo>
                    <a:pt x="322" y="244"/>
                  </a:lnTo>
                  <a:lnTo>
                    <a:pt x="336" y="249"/>
                  </a:lnTo>
                  <a:lnTo>
                    <a:pt x="384" y="134"/>
                  </a:lnTo>
                  <a:lnTo>
                    <a:pt x="388" y="135"/>
                  </a:lnTo>
                  <a:lnTo>
                    <a:pt x="390" y="136"/>
                  </a:lnTo>
                  <a:lnTo>
                    <a:pt x="394" y="138"/>
                  </a:lnTo>
                  <a:lnTo>
                    <a:pt x="397" y="139"/>
                  </a:lnTo>
                  <a:lnTo>
                    <a:pt x="351" y="256"/>
                  </a:lnTo>
                  <a:lnTo>
                    <a:pt x="364" y="260"/>
                  </a:lnTo>
                  <a:lnTo>
                    <a:pt x="411" y="145"/>
                  </a:lnTo>
                  <a:lnTo>
                    <a:pt x="415" y="146"/>
                  </a:lnTo>
                  <a:lnTo>
                    <a:pt x="418" y="147"/>
                  </a:lnTo>
                  <a:lnTo>
                    <a:pt x="422" y="149"/>
                  </a:lnTo>
                  <a:lnTo>
                    <a:pt x="424" y="150"/>
                  </a:lnTo>
                  <a:lnTo>
                    <a:pt x="379" y="267"/>
                  </a:lnTo>
                  <a:lnTo>
                    <a:pt x="393" y="273"/>
                  </a:lnTo>
                  <a:lnTo>
                    <a:pt x="438" y="156"/>
                  </a:lnTo>
                  <a:lnTo>
                    <a:pt x="442" y="157"/>
                  </a:lnTo>
                  <a:lnTo>
                    <a:pt x="446" y="157"/>
                  </a:lnTo>
                  <a:lnTo>
                    <a:pt x="449" y="158"/>
                  </a:lnTo>
                  <a:lnTo>
                    <a:pt x="453" y="160"/>
                  </a:lnTo>
                  <a:lnTo>
                    <a:pt x="409" y="278"/>
                  </a:lnTo>
                  <a:lnTo>
                    <a:pt x="422" y="283"/>
                  </a:lnTo>
                  <a:lnTo>
                    <a:pt x="465" y="165"/>
                  </a:lnTo>
                  <a:lnTo>
                    <a:pt x="469" y="166"/>
                  </a:lnTo>
                  <a:lnTo>
                    <a:pt x="473" y="168"/>
                  </a:lnTo>
                  <a:lnTo>
                    <a:pt x="476" y="169"/>
                  </a:lnTo>
                  <a:lnTo>
                    <a:pt x="480" y="171"/>
                  </a:lnTo>
                  <a:lnTo>
                    <a:pt x="438" y="289"/>
                  </a:lnTo>
                  <a:lnTo>
                    <a:pt x="452" y="293"/>
                  </a:lnTo>
                  <a:lnTo>
                    <a:pt x="494" y="175"/>
                  </a:lnTo>
                  <a:lnTo>
                    <a:pt x="497" y="176"/>
                  </a:lnTo>
                  <a:lnTo>
                    <a:pt x="501" y="177"/>
                  </a:lnTo>
                  <a:lnTo>
                    <a:pt x="503" y="179"/>
                  </a:lnTo>
                  <a:lnTo>
                    <a:pt x="507" y="180"/>
                  </a:lnTo>
                  <a:lnTo>
                    <a:pt x="467" y="298"/>
                  </a:lnTo>
                  <a:lnTo>
                    <a:pt x="480" y="304"/>
                  </a:lnTo>
                  <a:lnTo>
                    <a:pt x="521" y="184"/>
                  </a:lnTo>
                  <a:lnTo>
                    <a:pt x="524" y="185"/>
                  </a:lnTo>
                  <a:lnTo>
                    <a:pt x="528" y="185"/>
                  </a:lnTo>
                  <a:lnTo>
                    <a:pt x="532" y="187"/>
                  </a:lnTo>
                  <a:lnTo>
                    <a:pt x="535" y="188"/>
                  </a:lnTo>
                  <a:lnTo>
                    <a:pt x="497" y="309"/>
                  </a:lnTo>
                  <a:lnTo>
                    <a:pt x="510" y="313"/>
                  </a:lnTo>
                  <a:lnTo>
                    <a:pt x="548" y="192"/>
                  </a:lnTo>
                  <a:lnTo>
                    <a:pt x="552" y="194"/>
                  </a:lnTo>
                  <a:lnTo>
                    <a:pt x="556" y="195"/>
                  </a:lnTo>
                  <a:lnTo>
                    <a:pt x="559" y="196"/>
                  </a:lnTo>
                  <a:lnTo>
                    <a:pt x="563" y="198"/>
                  </a:lnTo>
                  <a:lnTo>
                    <a:pt x="527" y="318"/>
                  </a:lnTo>
                  <a:lnTo>
                    <a:pt x="540" y="322"/>
                  </a:lnTo>
                  <a:lnTo>
                    <a:pt x="577" y="202"/>
                  </a:lnTo>
                  <a:lnTo>
                    <a:pt x="580" y="203"/>
                  </a:lnTo>
                  <a:lnTo>
                    <a:pt x="584" y="203"/>
                  </a:lnTo>
                  <a:lnTo>
                    <a:pt x="588" y="205"/>
                  </a:lnTo>
                  <a:lnTo>
                    <a:pt x="591" y="206"/>
                  </a:lnTo>
                  <a:lnTo>
                    <a:pt x="555" y="327"/>
                  </a:lnTo>
                  <a:lnTo>
                    <a:pt x="569" y="331"/>
                  </a:lnTo>
                  <a:lnTo>
                    <a:pt x="604" y="210"/>
                  </a:lnTo>
                  <a:lnTo>
                    <a:pt x="608" y="211"/>
                  </a:lnTo>
                  <a:lnTo>
                    <a:pt x="612" y="211"/>
                  </a:lnTo>
                  <a:lnTo>
                    <a:pt x="615" y="213"/>
                  </a:lnTo>
                  <a:lnTo>
                    <a:pt x="619" y="214"/>
                  </a:lnTo>
                  <a:lnTo>
                    <a:pt x="585" y="335"/>
                  </a:lnTo>
                  <a:lnTo>
                    <a:pt x="599" y="339"/>
                  </a:lnTo>
                  <a:lnTo>
                    <a:pt x="633" y="217"/>
                  </a:lnTo>
                  <a:lnTo>
                    <a:pt x="637" y="218"/>
                  </a:lnTo>
                  <a:lnTo>
                    <a:pt x="641" y="218"/>
                  </a:lnTo>
                  <a:lnTo>
                    <a:pt x="644" y="220"/>
                  </a:lnTo>
                  <a:lnTo>
                    <a:pt x="648" y="221"/>
                  </a:lnTo>
                  <a:lnTo>
                    <a:pt x="615" y="343"/>
                  </a:lnTo>
                  <a:lnTo>
                    <a:pt x="629" y="347"/>
                  </a:lnTo>
                  <a:lnTo>
                    <a:pt x="661" y="225"/>
                  </a:lnTo>
                  <a:lnTo>
                    <a:pt x="664" y="226"/>
                  </a:lnTo>
                  <a:lnTo>
                    <a:pt x="668" y="226"/>
                  </a:lnTo>
                  <a:lnTo>
                    <a:pt x="672" y="228"/>
                  </a:lnTo>
                  <a:lnTo>
                    <a:pt x="675" y="229"/>
                  </a:lnTo>
                  <a:lnTo>
                    <a:pt x="645" y="352"/>
                  </a:lnTo>
                  <a:lnTo>
                    <a:pt x="659" y="354"/>
                  </a:lnTo>
                  <a:lnTo>
                    <a:pt x="690" y="232"/>
                  </a:lnTo>
                  <a:lnTo>
                    <a:pt x="693" y="233"/>
                  </a:lnTo>
                  <a:lnTo>
                    <a:pt x="697" y="233"/>
                  </a:lnTo>
                  <a:lnTo>
                    <a:pt x="701" y="234"/>
                  </a:lnTo>
                  <a:lnTo>
                    <a:pt x="704" y="236"/>
                  </a:lnTo>
                  <a:lnTo>
                    <a:pt x="675" y="358"/>
                  </a:lnTo>
                  <a:lnTo>
                    <a:pt x="690" y="362"/>
                  </a:lnTo>
                  <a:lnTo>
                    <a:pt x="717" y="239"/>
                  </a:lnTo>
                  <a:lnTo>
                    <a:pt x="721" y="240"/>
                  </a:lnTo>
                  <a:lnTo>
                    <a:pt x="725" y="240"/>
                  </a:lnTo>
                  <a:lnTo>
                    <a:pt x="729" y="241"/>
                  </a:lnTo>
                  <a:lnTo>
                    <a:pt x="732" y="241"/>
                  </a:lnTo>
                  <a:lnTo>
                    <a:pt x="706" y="365"/>
                  </a:lnTo>
                  <a:lnTo>
                    <a:pt x="720" y="368"/>
                  </a:lnTo>
                  <a:lnTo>
                    <a:pt x="746" y="245"/>
                  </a:lnTo>
                  <a:lnTo>
                    <a:pt x="750" y="245"/>
                  </a:lnTo>
                  <a:lnTo>
                    <a:pt x="754" y="247"/>
                  </a:lnTo>
                  <a:lnTo>
                    <a:pt x="757" y="247"/>
                  </a:lnTo>
                  <a:lnTo>
                    <a:pt x="761" y="248"/>
                  </a:lnTo>
                  <a:lnTo>
                    <a:pt x="736" y="372"/>
                  </a:lnTo>
                  <a:lnTo>
                    <a:pt x="750" y="375"/>
                  </a:lnTo>
                  <a:lnTo>
                    <a:pt x="774" y="251"/>
                  </a:lnTo>
                  <a:lnTo>
                    <a:pt x="778" y="252"/>
                  </a:lnTo>
                  <a:lnTo>
                    <a:pt x="783" y="252"/>
                  </a:lnTo>
                  <a:lnTo>
                    <a:pt x="785" y="252"/>
                  </a:lnTo>
                  <a:lnTo>
                    <a:pt x="789" y="254"/>
                  </a:lnTo>
                  <a:lnTo>
                    <a:pt x="766" y="377"/>
                  </a:lnTo>
                  <a:lnTo>
                    <a:pt x="780" y="380"/>
                  </a:lnTo>
                  <a:lnTo>
                    <a:pt x="803" y="256"/>
                  </a:lnTo>
                  <a:lnTo>
                    <a:pt x="807" y="258"/>
                  </a:lnTo>
                  <a:lnTo>
                    <a:pt x="811" y="258"/>
                  </a:lnTo>
                  <a:lnTo>
                    <a:pt x="815" y="258"/>
                  </a:lnTo>
                  <a:lnTo>
                    <a:pt x="818" y="259"/>
                  </a:lnTo>
                  <a:lnTo>
                    <a:pt x="796" y="383"/>
                  </a:lnTo>
                  <a:lnTo>
                    <a:pt x="811" y="386"/>
                  </a:lnTo>
                  <a:lnTo>
                    <a:pt x="832" y="262"/>
                  </a:lnTo>
                  <a:lnTo>
                    <a:pt x="836" y="262"/>
                  </a:lnTo>
                  <a:lnTo>
                    <a:pt x="840" y="263"/>
                  </a:lnTo>
                  <a:lnTo>
                    <a:pt x="844" y="263"/>
                  </a:lnTo>
                  <a:lnTo>
                    <a:pt x="847" y="264"/>
                  </a:lnTo>
                  <a:lnTo>
                    <a:pt x="827" y="388"/>
                  </a:lnTo>
                  <a:lnTo>
                    <a:pt x="841" y="391"/>
                  </a:lnTo>
                  <a:lnTo>
                    <a:pt x="861" y="266"/>
                  </a:lnTo>
                  <a:lnTo>
                    <a:pt x="864" y="267"/>
                  </a:lnTo>
                  <a:lnTo>
                    <a:pt x="868" y="267"/>
                  </a:lnTo>
                  <a:lnTo>
                    <a:pt x="872" y="267"/>
                  </a:lnTo>
                  <a:lnTo>
                    <a:pt x="875" y="269"/>
                  </a:lnTo>
                  <a:lnTo>
                    <a:pt x="857" y="394"/>
                  </a:lnTo>
                  <a:lnTo>
                    <a:pt x="872" y="395"/>
                  </a:lnTo>
                  <a:lnTo>
                    <a:pt x="890" y="270"/>
                  </a:lnTo>
                  <a:lnTo>
                    <a:pt x="893" y="271"/>
                  </a:lnTo>
                  <a:lnTo>
                    <a:pt x="897" y="271"/>
                  </a:lnTo>
                  <a:lnTo>
                    <a:pt x="901" y="271"/>
                  </a:lnTo>
                  <a:lnTo>
                    <a:pt x="905" y="273"/>
                  </a:lnTo>
                  <a:lnTo>
                    <a:pt x="889" y="398"/>
                  </a:lnTo>
                  <a:lnTo>
                    <a:pt x="902" y="399"/>
                  </a:lnTo>
                  <a:lnTo>
                    <a:pt x="919" y="274"/>
                  </a:lnTo>
                  <a:lnTo>
                    <a:pt x="923" y="275"/>
                  </a:lnTo>
                  <a:lnTo>
                    <a:pt x="927" y="275"/>
                  </a:lnTo>
                  <a:lnTo>
                    <a:pt x="930" y="275"/>
                  </a:lnTo>
                  <a:lnTo>
                    <a:pt x="934" y="277"/>
                  </a:lnTo>
                  <a:lnTo>
                    <a:pt x="919" y="402"/>
                  </a:lnTo>
                  <a:lnTo>
                    <a:pt x="934" y="403"/>
                  </a:lnTo>
                  <a:lnTo>
                    <a:pt x="947" y="278"/>
                  </a:lnTo>
                  <a:lnTo>
                    <a:pt x="951" y="278"/>
                  </a:lnTo>
                  <a:lnTo>
                    <a:pt x="955" y="278"/>
                  </a:lnTo>
                  <a:lnTo>
                    <a:pt x="960" y="279"/>
                  </a:lnTo>
                  <a:lnTo>
                    <a:pt x="962" y="279"/>
                  </a:lnTo>
                  <a:lnTo>
                    <a:pt x="950" y="405"/>
                  </a:lnTo>
                  <a:lnTo>
                    <a:pt x="964" y="406"/>
                  </a:lnTo>
                  <a:lnTo>
                    <a:pt x="977" y="281"/>
                  </a:lnTo>
                  <a:lnTo>
                    <a:pt x="980" y="281"/>
                  </a:lnTo>
                  <a:lnTo>
                    <a:pt x="984" y="281"/>
                  </a:lnTo>
                  <a:lnTo>
                    <a:pt x="988" y="282"/>
                  </a:lnTo>
                  <a:lnTo>
                    <a:pt x="992" y="282"/>
                  </a:lnTo>
                  <a:lnTo>
                    <a:pt x="981" y="407"/>
                  </a:lnTo>
                  <a:lnTo>
                    <a:pt x="995" y="409"/>
                  </a:lnTo>
                  <a:lnTo>
                    <a:pt x="1006" y="283"/>
                  </a:lnTo>
                  <a:lnTo>
                    <a:pt x="1010" y="283"/>
                  </a:lnTo>
                  <a:lnTo>
                    <a:pt x="1014" y="283"/>
                  </a:lnTo>
                  <a:lnTo>
                    <a:pt x="1017" y="285"/>
                  </a:lnTo>
                  <a:lnTo>
                    <a:pt x="1021" y="285"/>
                  </a:lnTo>
                  <a:lnTo>
                    <a:pt x="1011" y="410"/>
                  </a:lnTo>
                  <a:lnTo>
                    <a:pt x="1026" y="411"/>
                  </a:lnTo>
                  <a:lnTo>
                    <a:pt x="1034" y="286"/>
                  </a:lnTo>
                  <a:lnTo>
                    <a:pt x="1039" y="286"/>
                  </a:lnTo>
                  <a:lnTo>
                    <a:pt x="1043" y="286"/>
                  </a:lnTo>
                  <a:lnTo>
                    <a:pt x="1047" y="286"/>
                  </a:lnTo>
                  <a:lnTo>
                    <a:pt x="1049" y="286"/>
                  </a:lnTo>
                  <a:lnTo>
                    <a:pt x="1043" y="413"/>
                  </a:lnTo>
                  <a:lnTo>
                    <a:pt x="1058" y="413"/>
                  </a:lnTo>
                  <a:lnTo>
                    <a:pt x="1064" y="288"/>
                  </a:lnTo>
                  <a:lnTo>
                    <a:pt x="1067" y="288"/>
                  </a:lnTo>
                  <a:lnTo>
                    <a:pt x="1071" y="288"/>
                  </a:lnTo>
                  <a:lnTo>
                    <a:pt x="1075" y="288"/>
                  </a:lnTo>
                  <a:lnTo>
                    <a:pt x="1079" y="289"/>
                  </a:lnTo>
                  <a:lnTo>
                    <a:pt x="1074" y="414"/>
                  </a:lnTo>
                  <a:lnTo>
                    <a:pt x="1081" y="414"/>
                  </a:lnTo>
                  <a:lnTo>
                    <a:pt x="1081" y="482"/>
                  </a:lnTo>
                  <a:lnTo>
                    <a:pt x="1024" y="479"/>
                  </a:lnTo>
                  <a:lnTo>
                    <a:pt x="969" y="474"/>
                  </a:lnTo>
                  <a:lnTo>
                    <a:pt x="915" y="469"/>
                  </a:lnTo>
                  <a:lnTo>
                    <a:pt x="861" y="462"/>
                  </a:lnTo>
                  <a:lnTo>
                    <a:pt x="810" y="454"/>
                  </a:lnTo>
                  <a:lnTo>
                    <a:pt x="758" y="444"/>
                  </a:lnTo>
                  <a:lnTo>
                    <a:pt x="709" y="435"/>
                  </a:lnTo>
                  <a:lnTo>
                    <a:pt x="661" y="424"/>
                  </a:lnTo>
                  <a:lnTo>
                    <a:pt x="615" y="411"/>
                  </a:lnTo>
                  <a:lnTo>
                    <a:pt x="571" y="399"/>
                  </a:lnTo>
                  <a:lnTo>
                    <a:pt x="528" y="387"/>
                  </a:lnTo>
                  <a:lnTo>
                    <a:pt x="486" y="373"/>
                  </a:lnTo>
                  <a:lnTo>
                    <a:pt x="446" y="360"/>
                  </a:lnTo>
                  <a:lnTo>
                    <a:pt x="408" y="346"/>
                  </a:lnTo>
                  <a:lnTo>
                    <a:pt x="371" y="332"/>
                  </a:lnTo>
                  <a:lnTo>
                    <a:pt x="336" y="319"/>
                  </a:lnTo>
                  <a:lnTo>
                    <a:pt x="303" y="305"/>
                  </a:lnTo>
                  <a:lnTo>
                    <a:pt x="272" y="292"/>
                  </a:lnTo>
                  <a:lnTo>
                    <a:pt x="242" y="278"/>
                  </a:lnTo>
                  <a:lnTo>
                    <a:pt x="215" y="266"/>
                  </a:lnTo>
                  <a:lnTo>
                    <a:pt x="189" y="252"/>
                  </a:lnTo>
                  <a:lnTo>
                    <a:pt x="166" y="241"/>
                  </a:lnTo>
                  <a:lnTo>
                    <a:pt x="144" y="229"/>
                  </a:lnTo>
                  <a:lnTo>
                    <a:pt x="123" y="220"/>
                  </a:lnTo>
                  <a:lnTo>
                    <a:pt x="106" y="210"/>
                  </a:lnTo>
                  <a:lnTo>
                    <a:pt x="91" y="200"/>
                  </a:lnTo>
                  <a:lnTo>
                    <a:pt x="77" y="192"/>
                  </a:lnTo>
                  <a:lnTo>
                    <a:pt x="66" y="187"/>
                  </a:lnTo>
                  <a:lnTo>
                    <a:pt x="58" y="181"/>
                  </a:lnTo>
                  <a:lnTo>
                    <a:pt x="51" y="177"/>
                  </a:lnTo>
                  <a:lnTo>
                    <a:pt x="47" y="175"/>
                  </a:lnTo>
                  <a:lnTo>
                    <a:pt x="46" y="173"/>
                  </a:lnTo>
                  <a:lnTo>
                    <a:pt x="36" y="166"/>
                  </a:lnTo>
                  <a:lnTo>
                    <a:pt x="27" y="158"/>
                  </a:lnTo>
                  <a:lnTo>
                    <a:pt x="19" y="149"/>
                  </a:lnTo>
                  <a:lnTo>
                    <a:pt x="12" y="139"/>
                  </a:lnTo>
                  <a:lnTo>
                    <a:pt x="6" y="128"/>
                  </a:lnTo>
                  <a:lnTo>
                    <a:pt x="2" y="117"/>
                  </a:lnTo>
                  <a:lnTo>
                    <a:pt x="1" y="105"/>
                  </a:lnTo>
                  <a:lnTo>
                    <a:pt x="0" y="93"/>
                  </a:lnTo>
                  <a:lnTo>
                    <a:pt x="1" y="75"/>
                  </a:lnTo>
                  <a:lnTo>
                    <a:pt x="6" y="58"/>
                  </a:lnTo>
                  <a:lnTo>
                    <a:pt x="15" y="41"/>
                  </a:lnTo>
                  <a:lnTo>
                    <a:pt x="27" y="28"/>
                  </a:lnTo>
                  <a:lnTo>
                    <a:pt x="34" y="21"/>
                  </a:lnTo>
                  <a:lnTo>
                    <a:pt x="40" y="15"/>
                  </a:lnTo>
                  <a:lnTo>
                    <a:pt x="49" y="11"/>
                  </a:lnTo>
                  <a:lnTo>
                    <a:pt x="57" y="7"/>
                  </a:lnTo>
                  <a:lnTo>
                    <a:pt x="65" y="4"/>
                  </a:lnTo>
                  <a:lnTo>
                    <a:pt x="74" y="2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8" y="2"/>
                  </a:lnTo>
                  <a:lnTo>
                    <a:pt x="114" y="3"/>
                  </a:lnTo>
                  <a:lnTo>
                    <a:pt x="119" y="4"/>
                  </a:lnTo>
                  <a:lnTo>
                    <a:pt x="123" y="7"/>
                  </a:lnTo>
                  <a:lnTo>
                    <a:pt x="129" y="9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bfc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23720" y="1626840"/>
              <a:ext cx="618120" cy="4257720"/>
            </a:xfrm>
            <a:custGeom>
              <a:avLst/>
              <a:gdLst/>
              <a:ahLst/>
              <a:rect l="l" t="t" r="r" b="b"/>
              <a:pathLst>
                <a:path w="357" h="2519">
                  <a:moveTo>
                    <a:pt x="227" y="2519"/>
                  </a:moveTo>
                  <a:lnTo>
                    <a:pt x="129" y="2519"/>
                  </a:lnTo>
                  <a:lnTo>
                    <a:pt x="124" y="2518"/>
                  </a:lnTo>
                  <a:lnTo>
                    <a:pt x="120" y="2517"/>
                  </a:lnTo>
                  <a:lnTo>
                    <a:pt x="117" y="2515"/>
                  </a:lnTo>
                  <a:lnTo>
                    <a:pt x="114" y="2513"/>
                  </a:lnTo>
                  <a:lnTo>
                    <a:pt x="108" y="2504"/>
                  </a:lnTo>
                  <a:lnTo>
                    <a:pt x="103" y="2495"/>
                  </a:lnTo>
                  <a:lnTo>
                    <a:pt x="101" y="2484"/>
                  </a:lnTo>
                  <a:lnTo>
                    <a:pt x="99" y="2472"/>
                  </a:lnTo>
                  <a:lnTo>
                    <a:pt x="99" y="2191"/>
                  </a:lnTo>
                  <a:lnTo>
                    <a:pt x="101" y="2179"/>
                  </a:lnTo>
                  <a:lnTo>
                    <a:pt x="103" y="2168"/>
                  </a:lnTo>
                  <a:lnTo>
                    <a:pt x="108" y="2159"/>
                  </a:lnTo>
                  <a:lnTo>
                    <a:pt x="114" y="2151"/>
                  </a:lnTo>
                  <a:lnTo>
                    <a:pt x="117" y="2148"/>
                  </a:lnTo>
                  <a:lnTo>
                    <a:pt x="120" y="2146"/>
                  </a:lnTo>
                  <a:lnTo>
                    <a:pt x="124" y="2144"/>
                  </a:lnTo>
                  <a:lnTo>
                    <a:pt x="129" y="2144"/>
                  </a:lnTo>
                  <a:lnTo>
                    <a:pt x="146" y="2144"/>
                  </a:lnTo>
                  <a:lnTo>
                    <a:pt x="112" y="523"/>
                  </a:lnTo>
                  <a:lnTo>
                    <a:pt x="113" y="520"/>
                  </a:lnTo>
                  <a:lnTo>
                    <a:pt x="112" y="520"/>
                  </a:lnTo>
                  <a:lnTo>
                    <a:pt x="109" y="343"/>
                  </a:lnTo>
                  <a:lnTo>
                    <a:pt x="105" y="342"/>
                  </a:lnTo>
                  <a:lnTo>
                    <a:pt x="105" y="340"/>
                  </a:lnTo>
                  <a:lnTo>
                    <a:pt x="105" y="340"/>
                  </a:lnTo>
                  <a:lnTo>
                    <a:pt x="103" y="340"/>
                  </a:lnTo>
                  <a:lnTo>
                    <a:pt x="103" y="340"/>
                  </a:lnTo>
                  <a:lnTo>
                    <a:pt x="82" y="328"/>
                  </a:lnTo>
                  <a:lnTo>
                    <a:pt x="61" y="313"/>
                  </a:lnTo>
                  <a:lnTo>
                    <a:pt x="44" y="295"/>
                  </a:lnTo>
                  <a:lnTo>
                    <a:pt x="29" y="275"/>
                  </a:lnTo>
                  <a:lnTo>
                    <a:pt x="16" y="253"/>
                  </a:lnTo>
                  <a:lnTo>
                    <a:pt x="7" y="229"/>
                  </a:lnTo>
                  <a:lnTo>
                    <a:pt x="1" y="204"/>
                  </a:lnTo>
                  <a:lnTo>
                    <a:pt x="0" y="178"/>
                  </a:lnTo>
                  <a:lnTo>
                    <a:pt x="1" y="161"/>
                  </a:lnTo>
                  <a:lnTo>
                    <a:pt x="3" y="143"/>
                  </a:lnTo>
                  <a:lnTo>
                    <a:pt x="7" y="127"/>
                  </a:lnTo>
                  <a:lnTo>
                    <a:pt x="14" y="110"/>
                  </a:lnTo>
                  <a:lnTo>
                    <a:pt x="20" y="94"/>
                  </a:lnTo>
                  <a:lnTo>
                    <a:pt x="30" y="79"/>
                  </a:lnTo>
                  <a:lnTo>
                    <a:pt x="39" y="65"/>
                  </a:lnTo>
                  <a:lnTo>
                    <a:pt x="52" y="52"/>
                  </a:lnTo>
                  <a:lnTo>
                    <a:pt x="65" y="39"/>
                  </a:lnTo>
                  <a:lnTo>
                    <a:pt x="79" y="30"/>
                  </a:lnTo>
                  <a:lnTo>
                    <a:pt x="94" y="20"/>
                  </a:lnTo>
                  <a:lnTo>
                    <a:pt x="110" y="14"/>
                  </a:lnTo>
                  <a:lnTo>
                    <a:pt x="127" y="7"/>
                  </a:lnTo>
                  <a:lnTo>
                    <a:pt x="143" y="3"/>
                  </a:lnTo>
                  <a:lnTo>
                    <a:pt x="161" y="1"/>
                  </a:lnTo>
                  <a:lnTo>
                    <a:pt x="178" y="0"/>
                  </a:lnTo>
                  <a:lnTo>
                    <a:pt x="196" y="1"/>
                  </a:lnTo>
                  <a:lnTo>
                    <a:pt x="212" y="3"/>
                  </a:lnTo>
                  <a:lnTo>
                    <a:pt x="229" y="7"/>
                  </a:lnTo>
                  <a:lnTo>
                    <a:pt x="245" y="14"/>
                  </a:lnTo>
                  <a:lnTo>
                    <a:pt x="261" y="20"/>
                  </a:lnTo>
                  <a:lnTo>
                    <a:pt x="276" y="30"/>
                  </a:lnTo>
                  <a:lnTo>
                    <a:pt x="290" y="39"/>
                  </a:lnTo>
                  <a:lnTo>
                    <a:pt x="304" y="52"/>
                  </a:lnTo>
                  <a:lnTo>
                    <a:pt x="316" y="65"/>
                  </a:lnTo>
                  <a:lnTo>
                    <a:pt x="327" y="79"/>
                  </a:lnTo>
                  <a:lnTo>
                    <a:pt x="335" y="94"/>
                  </a:lnTo>
                  <a:lnTo>
                    <a:pt x="343" y="110"/>
                  </a:lnTo>
                  <a:lnTo>
                    <a:pt x="349" y="127"/>
                  </a:lnTo>
                  <a:lnTo>
                    <a:pt x="353" y="143"/>
                  </a:lnTo>
                  <a:lnTo>
                    <a:pt x="355" y="161"/>
                  </a:lnTo>
                  <a:lnTo>
                    <a:pt x="357" y="178"/>
                  </a:lnTo>
                  <a:lnTo>
                    <a:pt x="355" y="204"/>
                  </a:lnTo>
                  <a:lnTo>
                    <a:pt x="350" y="229"/>
                  </a:lnTo>
                  <a:lnTo>
                    <a:pt x="340" y="253"/>
                  </a:lnTo>
                  <a:lnTo>
                    <a:pt x="328" y="275"/>
                  </a:lnTo>
                  <a:lnTo>
                    <a:pt x="313" y="295"/>
                  </a:lnTo>
                  <a:lnTo>
                    <a:pt x="295" y="313"/>
                  </a:lnTo>
                  <a:lnTo>
                    <a:pt x="275" y="328"/>
                  </a:lnTo>
                  <a:lnTo>
                    <a:pt x="253" y="340"/>
                  </a:lnTo>
                  <a:lnTo>
                    <a:pt x="249" y="342"/>
                  </a:lnTo>
                  <a:lnTo>
                    <a:pt x="245" y="520"/>
                  </a:lnTo>
                  <a:lnTo>
                    <a:pt x="244" y="520"/>
                  </a:lnTo>
                  <a:lnTo>
                    <a:pt x="245" y="523"/>
                  </a:lnTo>
                  <a:lnTo>
                    <a:pt x="210" y="2144"/>
                  </a:lnTo>
                  <a:lnTo>
                    <a:pt x="227" y="2144"/>
                  </a:lnTo>
                  <a:lnTo>
                    <a:pt x="231" y="2144"/>
                  </a:lnTo>
                  <a:lnTo>
                    <a:pt x="236" y="2146"/>
                  </a:lnTo>
                  <a:lnTo>
                    <a:pt x="240" y="2148"/>
                  </a:lnTo>
                  <a:lnTo>
                    <a:pt x="242" y="2151"/>
                  </a:lnTo>
                  <a:lnTo>
                    <a:pt x="248" y="2159"/>
                  </a:lnTo>
                  <a:lnTo>
                    <a:pt x="252" y="2168"/>
                  </a:lnTo>
                  <a:lnTo>
                    <a:pt x="255" y="2179"/>
                  </a:lnTo>
                  <a:lnTo>
                    <a:pt x="256" y="2191"/>
                  </a:lnTo>
                  <a:lnTo>
                    <a:pt x="256" y="2193"/>
                  </a:lnTo>
                  <a:lnTo>
                    <a:pt x="162" y="2193"/>
                  </a:lnTo>
                  <a:lnTo>
                    <a:pt x="154" y="2195"/>
                  </a:lnTo>
                  <a:lnTo>
                    <a:pt x="148" y="2205"/>
                  </a:lnTo>
                  <a:lnTo>
                    <a:pt x="144" y="2216"/>
                  </a:lnTo>
                  <a:lnTo>
                    <a:pt x="143" y="2229"/>
                  </a:lnTo>
                  <a:lnTo>
                    <a:pt x="143" y="2229"/>
                  </a:lnTo>
                  <a:lnTo>
                    <a:pt x="143" y="2425"/>
                  </a:lnTo>
                  <a:lnTo>
                    <a:pt x="143" y="2436"/>
                  </a:lnTo>
                  <a:lnTo>
                    <a:pt x="146" y="2449"/>
                  </a:lnTo>
                  <a:lnTo>
                    <a:pt x="148" y="2458"/>
                  </a:lnTo>
                  <a:lnTo>
                    <a:pt x="154" y="2466"/>
                  </a:lnTo>
                  <a:lnTo>
                    <a:pt x="157" y="2468"/>
                  </a:lnTo>
                  <a:lnTo>
                    <a:pt x="158" y="2469"/>
                  </a:lnTo>
                  <a:lnTo>
                    <a:pt x="161" y="2470"/>
                  </a:lnTo>
                  <a:lnTo>
                    <a:pt x="162" y="2470"/>
                  </a:lnTo>
                  <a:lnTo>
                    <a:pt x="256" y="2470"/>
                  </a:lnTo>
                  <a:lnTo>
                    <a:pt x="256" y="2472"/>
                  </a:lnTo>
                  <a:lnTo>
                    <a:pt x="253" y="2489"/>
                  </a:lnTo>
                  <a:lnTo>
                    <a:pt x="248" y="2506"/>
                  </a:lnTo>
                  <a:lnTo>
                    <a:pt x="238" y="2515"/>
                  </a:lnTo>
                  <a:lnTo>
                    <a:pt x="227" y="2519"/>
                  </a:lnTo>
                  <a:close/>
                </a:path>
              </a:pathLst>
            </a:custGeom>
            <a:solidFill>
              <a:srgbClr val="637f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95520" y="4916520"/>
              <a:ext cx="2075400" cy="819360"/>
            </a:xfrm>
            <a:custGeom>
              <a:avLst/>
              <a:gdLst/>
              <a:ahLst/>
              <a:rect l="l" t="t" r="r" b="b"/>
              <a:pathLst>
                <a:path w="1198" h="485">
                  <a:moveTo>
                    <a:pt x="28" y="417"/>
                  </a:moveTo>
                  <a:lnTo>
                    <a:pt x="28" y="290"/>
                  </a:lnTo>
                  <a:lnTo>
                    <a:pt x="31" y="290"/>
                  </a:lnTo>
                  <a:lnTo>
                    <a:pt x="35" y="290"/>
                  </a:lnTo>
                  <a:lnTo>
                    <a:pt x="39" y="290"/>
                  </a:lnTo>
                  <a:lnTo>
                    <a:pt x="42" y="290"/>
                  </a:lnTo>
                  <a:lnTo>
                    <a:pt x="44" y="416"/>
                  </a:lnTo>
                  <a:lnTo>
                    <a:pt x="58" y="416"/>
                  </a:lnTo>
                  <a:lnTo>
                    <a:pt x="57" y="290"/>
                  </a:lnTo>
                  <a:lnTo>
                    <a:pt x="61" y="290"/>
                  </a:lnTo>
                  <a:lnTo>
                    <a:pt x="65" y="290"/>
                  </a:lnTo>
                  <a:lnTo>
                    <a:pt x="68" y="290"/>
                  </a:lnTo>
                  <a:lnTo>
                    <a:pt x="72" y="290"/>
                  </a:lnTo>
                  <a:lnTo>
                    <a:pt x="74" y="416"/>
                  </a:lnTo>
                  <a:lnTo>
                    <a:pt x="89" y="416"/>
                  </a:lnTo>
                  <a:lnTo>
                    <a:pt x="85" y="289"/>
                  </a:lnTo>
                  <a:lnTo>
                    <a:pt x="89" y="289"/>
                  </a:lnTo>
                  <a:lnTo>
                    <a:pt x="93" y="289"/>
                  </a:lnTo>
                  <a:lnTo>
                    <a:pt x="98" y="289"/>
                  </a:lnTo>
                  <a:lnTo>
                    <a:pt x="100" y="289"/>
                  </a:lnTo>
                  <a:lnTo>
                    <a:pt x="106" y="414"/>
                  </a:lnTo>
                  <a:lnTo>
                    <a:pt x="121" y="414"/>
                  </a:lnTo>
                  <a:lnTo>
                    <a:pt x="115" y="288"/>
                  </a:lnTo>
                  <a:lnTo>
                    <a:pt x="118" y="288"/>
                  </a:lnTo>
                  <a:lnTo>
                    <a:pt x="122" y="288"/>
                  </a:lnTo>
                  <a:lnTo>
                    <a:pt x="126" y="288"/>
                  </a:lnTo>
                  <a:lnTo>
                    <a:pt x="130" y="288"/>
                  </a:lnTo>
                  <a:lnTo>
                    <a:pt x="137" y="413"/>
                  </a:lnTo>
                  <a:lnTo>
                    <a:pt x="151" y="413"/>
                  </a:lnTo>
                  <a:lnTo>
                    <a:pt x="144" y="286"/>
                  </a:lnTo>
                  <a:lnTo>
                    <a:pt x="148" y="286"/>
                  </a:lnTo>
                  <a:lnTo>
                    <a:pt x="152" y="286"/>
                  </a:lnTo>
                  <a:lnTo>
                    <a:pt x="155" y="286"/>
                  </a:lnTo>
                  <a:lnTo>
                    <a:pt x="159" y="286"/>
                  </a:lnTo>
                  <a:lnTo>
                    <a:pt x="168" y="411"/>
                  </a:lnTo>
                  <a:lnTo>
                    <a:pt x="182" y="410"/>
                  </a:lnTo>
                  <a:lnTo>
                    <a:pt x="174" y="285"/>
                  </a:lnTo>
                  <a:lnTo>
                    <a:pt x="177" y="285"/>
                  </a:lnTo>
                  <a:lnTo>
                    <a:pt x="181" y="283"/>
                  </a:lnTo>
                  <a:lnTo>
                    <a:pt x="185" y="283"/>
                  </a:lnTo>
                  <a:lnTo>
                    <a:pt x="187" y="283"/>
                  </a:lnTo>
                  <a:lnTo>
                    <a:pt x="198" y="409"/>
                  </a:lnTo>
                  <a:lnTo>
                    <a:pt x="213" y="407"/>
                  </a:lnTo>
                  <a:lnTo>
                    <a:pt x="202" y="282"/>
                  </a:lnTo>
                  <a:lnTo>
                    <a:pt x="205" y="282"/>
                  </a:lnTo>
                  <a:lnTo>
                    <a:pt x="209" y="281"/>
                  </a:lnTo>
                  <a:lnTo>
                    <a:pt x="213" y="281"/>
                  </a:lnTo>
                  <a:lnTo>
                    <a:pt x="217" y="281"/>
                  </a:lnTo>
                  <a:lnTo>
                    <a:pt x="230" y="406"/>
                  </a:lnTo>
                  <a:lnTo>
                    <a:pt x="243" y="405"/>
                  </a:lnTo>
                  <a:lnTo>
                    <a:pt x="231" y="279"/>
                  </a:lnTo>
                  <a:lnTo>
                    <a:pt x="235" y="279"/>
                  </a:lnTo>
                  <a:lnTo>
                    <a:pt x="239" y="278"/>
                  </a:lnTo>
                  <a:lnTo>
                    <a:pt x="242" y="278"/>
                  </a:lnTo>
                  <a:lnTo>
                    <a:pt x="246" y="278"/>
                  </a:lnTo>
                  <a:lnTo>
                    <a:pt x="261" y="403"/>
                  </a:lnTo>
                  <a:lnTo>
                    <a:pt x="275" y="402"/>
                  </a:lnTo>
                  <a:lnTo>
                    <a:pt x="260" y="275"/>
                  </a:lnTo>
                  <a:lnTo>
                    <a:pt x="264" y="275"/>
                  </a:lnTo>
                  <a:lnTo>
                    <a:pt x="268" y="275"/>
                  </a:lnTo>
                  <a:lnTo>
                    <a:pt x="272" y="275"/>
                  </a:lnTo>
                  <a:lnTo>
                    <a:pt x="275" y="274"/>
                  </a:lnTo>
                  <a:lnTo>
                    <a:pt x="291" y="399"/>
                  </a:lnTo>
                  <a:lnTo>
                    <a:pt x="306" y="398"/>
                  </a:lnTo>
                  <a:lnTo>
                    <a:pt x="290" y="273"/>
                  </a:lnTo>
                  <a:lnTo>
                    <a:pt x="292" y="271"/>
                  </a:lnTo>
                  <a:lnTo>
                    <a:pt x="296" y="271"/>
                  </a:lnTo>
                  <a:lnTo>
                    <a:pt x="300" y="271"/>
                  </a:lnTo>
                  <a:lnTo>
                    <a:pt x="305" y="270"/>
                  </a:lnTo>
                  <a:lnTo>
                    <a:pt x="322" y="395"/>
                  </a:lnTo>
                  <a:lnTo>
                    <a:pt x="336" y="394"/>
                  </a:lnTo>
                  <a:lnTo>
                    <a:pt x="318" y="269"/>
                  </a:lnTo>
                  <a:lnTo>
                    <a:pt x="322" y="267"/>
                  </a:lnTo>
                  <a:lnTo>
                    <a:pt x="326" y="267"/>
                  </a:lnTo>
                  <a:lnTo>
                    <a:pt x="329" y="267"/>
                  </a:lnTo>
                  <a:lnTo>
                    <a:pt x="333" y="266"/>
                  </a:lnTo>
                  <a:lnTo>
                    <a:pt x="352" y="391"/>
                  </a:lnTo>
                  <a:lnTo>
                    <a:pt x="367" y="388"/>
                  </a:lnTo>
                  <a:lnTo>
                    <a:pt x="347" y="264"/>
                  </a:lnTo>
                  <a:lnTo>
                    <a:pt x="351" y="263"/>
                  </a:lnTo>
                  <a:lnTo>
                    <a:pt x="355" y="263"/>
                  </a:lnTo>
                  <a:lnTo>
                    <a:pt x="358" y="262"/>
                  </a:lnTo>
                  <a:lnTo>
                    <a:pt x="362" y="262"/>
                  </a:lnTo>
                  <a:lnTo>
                    <a:pt x="384" y="386"/>
                  </a:lnTo>
                  <a:lnTo>
                    <a:pt x="397" y="383"/>
                  </a:lnTo>
                  <a:lnTo>
                    <a:pt x="375" y="259"/>
                  </a:lnTo>
                  <a:lnTo>
                    <a:pt x="379" y="258"/>
                  </a:lnTo>
                  <a:lnTo>
                    <a:pt x="384" y="258"/>
                  </a:lnTo>
                  <a:lnTo>
                    <a:pt x="386" y="258"/>
                  </a:lnTo>
                  <a:lnTo>
                    <a:pt x="390" y="256"/>
                  </a:lnTo>
                  <a:lnTo>
                    <a:pt x="413" y="380"/>
                  </a:lnTo>
                  <a:lnTo>
                    <a:pt x="427" y="377"/>
                  </a:lnTo>
                  <a:lnTo>
                    <a:pt x="404" y="254"/>
                  </a:lnTo>
                  <a:lnTo>
                    <a:pt x="408" y="252"/>
                  </a:lnTo>
                  <a:lnTo>
                    <a:pt x="412" y="252"/>
                  </a:lnTo>
                  <a:lnTo>
                    <a:pt x="415" y="252"/>
                  </a:lnTo>
                  <a:lnTo>
                    <a:pt x="419" y="251"/>
                  </a:lnTo>
                  <a:lnTo>
                    <a:pt x="443" y="375"/>
                  </a:lnTo>
                  <a:lnTo>
                    <a:pt x="458" y="372"/>
                  </a:lnTo>
                  <a:lnTo>
                    <a:pt x="433" y="248"/>
                  </a:lnTo>
                  <a:lnTo>
                    <a:pt x="437" y="247"/>
                  </a:lnTo>
                  <a:lnTo>
                    <a:pt x="441" y="247"/>
                  </a:lnTo>
                  <a:lnTo>
                    <a:pt x="443" y="245"/>
                  </a:lnTo>
                  <a:lnTo>
                    <a:pt x="448" y="245"/>
                  </a:lnTo>
                  <a:lnTo>
                    <a:pt x="475" y="368"/>
                  </a:lnTo>
                  <a:lnTo>
                    <a:pt x="488" y="365"/>
                  </a:lnTo>
                  <a:lnTo>
                    <a:pt x="461" y="241"/>
                  </a:lnTo>
                  <a:lnTo>
                    <a:pt x="465" y="241"/>
                  </a:lnTo>
                  <a:lnTo>
                    <a:pt x="469" y="240"/>
                  </a:lnTo>
                  <a:lnTo>
                    <a:pt x="472" y="240"/>
                  </a:lnTo>
                  <a:lnTo>
                    <a:pt x="476" y="239"/>
                  </a:lnTo>
                  <a:lnTo>
                    <a:pt x="505" y="362"/>
                  </a:lnTo>
                  <a:lnTo>
                    <a:pt x="518" y="358"/>
                  </a:lnTo>
                  <a:lnTo>
                    <a:pt x="490" y="236"/>
                  </a:lnTo>
                  <a:lnTo>
                    <a:pt x="494" y="234"/>
                  </a:lnTo>
                  <a:lnTo>
                    <a:pt x="498" y="233"/>
                  </a:lnTo>
                  <a:lnTo>
                    <a:pt x="501" y="233"/>
                  </a:lnTo>
                  <a:lnTo>
                    <a:pt x="505" y="232"/>
                  </a:lnTo>
                  <a:lnTo>
                    <a:pt x="535" y="354"/>
                  </a:lnTo>
                  <a:lnTo>
                    <a:pt x="548" y="352"/>
                  </a:lnTo>
                  <a:lnTo>
                    <a:pt x="518" y="229"/>
                  </a:lnTo>
                  <a:lnTo>
                    <a:pt x="522" y="228"/>
                  </a:lnTo>
                  <a:lnTo>
                    <a:pt x="527" y="226"/>
                  </a:lnTo>
                  <a:lnTo>
                    <a:pt x="529" y="226"/>
                  </a:lnTo>
                  <a:lnTo>
                    <a:pt x="533" y="225"/>
                  </a:lnTo>
                  <a:lnTo>
                    <a:pt x="565" y="347"/>
                  </a:lnTo>
                  <a:lnTo>
                    <a:pt x="578" y="343"/>
                  </a:lnTo>
                  <a:lnTo>
                    <a:pt x="547" y="221"/>
                  </a:lnTo>
                  <a:lnTo>
                    <a:pt x="550" y="220"/>
                  </a:lnTo>
                  <a:lnTo>
                    <a:pt x="554" y="220"/>
                  </a:lnTo>
                  <a:lnTo>
                    <a:pt x="558" y="220"/>
                  </a:lnTo>
                  <a:lnTo>
                    <a:pt x="561" y="218"/>
                  </a:lnTo>
                  <a:lnTo>
                    <a:pt x="595" y="339"/>
                  </a:lnTo>
                  <a:lnTo>
                    <a:pt x="608" y="335"/>
                  </a:lnTo>
                  <a:lnTo>
                    <a:pt x="576" y="214"/>
                  </a:lnTo>
                  <a:lnTo>
                    <a:pt x="578" y="213"/>
                  </a:lnTo>
                  <a:lnTo>
                    <a:pt x="582" y="211"/>
                  </a:lnTo>
                  <a:lnTo>
                    <a:pt x="586" y="211"/>
                  </a:lnTo>
                  <a:lnTo>
                    <a:pt x="589" y="210"/>
                  </a:lnTo>
                  <a:lnTo>
                    <a:pt x="625" y="331"/>
                  </a:lnTo>
                  <a:lnTo>
                    <a:pt x="638" y="327"/>
                  </a:lnTo>
                  <a:lnTo>
                    <a:pt x="603" y="206"/>
                  </a:lnTo>
                  <a:lnTo>
                    <a:pt x="607" y="205"/>
                  </a:lnTo>
                  <a:lnTo>
                    <a:pt x="611" y="203"/>
                  </a:lnTo>
                  <a:lnTo>
                    <a:pt x="614" y="203"/>
                  </a:lnTo>
                  <a:lnTo>
                    <a:pt x="618" y="202"/>
                  </a:lnTo>
                  <a:lnTo>
                    <a:pt x="655" y="322"/>
                  </a:lnTo>
                  <a:lnTo>
                    <a:pt x="668" y="318"/>
                  </a:lnTo>
                  <a:lnTo>
                    <a:pt x="631" y="198"/>
                  </a:lnTo>
                  <a:lnTo>
                    <a:pt x="634" y="196"/>
                  </a:lnTo>
                  <a:lnTo>
                    <a:pt x="638" y="195"/>
                  </a:lnTo>
                  <a:lnTo>
                    <a:pt x="642" y="195"/>
                  </a:lnTo>
                  <a:lnTo>
                    <a:pt x="645" y="194"/>
                  </a:lnTo>
                  <a:lnTo>
                    <a:pt x="683" y="313"/>
                  </a:lnTo>
                  <a:lnTo>
                    <a:pt x="697" y="309"/>
                  </a:lnTo>
                  <a:lnTo>
                    <a:pt x="659" y="190"/>
                  </a:lnTo>
                  <a:lnTo>
                    <a:pt x="663" y="188"/>
                  </a:lnTo>
                  <a:lnTo>
                    <a:pt x="667" y="187"/>
                  </a:lnTo>
                  <a:lnTo>
                    <a:pt x="669" y="185"/>
                  </a:lnTo>
                  <a:lnTo>
                    <a:pt x="674" y="184"/>
                  </a:lnTo>
                  <a:lnTo>
                    <a:pt x="713" y="304"/>
                  </a:lnTo>
                  <a:lnTo>
                    <a:pt x="727" y="298"/>
                  </a:lnTo>
                  <a:lnTo>
                    <a:pt x="687" y="180"/>
                  </a:lnTo>
                  <a:lnTo>
                    <a:pt x="690" y="179"/>
                  </a:lnTo>
                  <a:lnTo>
                    <a:pt x="694" y="177"/>
                  </a:lnTo>
                  <a:lnTo>
                    <a:pt x="697" y="176"/>
                  </a:lnTo>
                  <a:lnTo>
                    <a:pt x="701" y="175"/>
                  </a:lnTo>
                  <a:lnTo>
                    <a:pt x="743" y="293"/>
                  </a:lnTo>
                  <a:lnTo>
                    <a:pt x="755" y="289"/>
                  </a:lnTo>
                  <a:lnTo>
                    <a:pt x="714" y="171"/>
                  </a:lnTo>
                  <a:lnTo>
                    <a:pt x="717" y="169"/>
                  </a:lnTo>
                  <a:lnTo>
                    <a:pt x="721" y="168"/>
                  </a:lnTo>
                  <a:lnTo>
                    <a:pt x="725" y="166"/>
                  </a:lnTo>
                  <a:lnTo>
                    <a:pt x="728" y="165"/>
                  </a:lnTo>
                  <a:lnTo>
                    <a:pt x="772" y="283"/>
                  </a:lnTo>
                  <a:lnTo>
                    <a:pt x="785" y="278"/>
                  </a:lnTo>
                  <a:lnTo>
                    <a:pt x="742" y="161"/>
                  </a:lnTo>
                  <a:lnTo>
                    <a:pt x="744" y="160"/>
                  </a:lnTo>
                  <a:lnTo>
                    <a:pt x="748" y="158"/>
                  </a:lnTo>
                  <a:lnTo>
                    <a:pt x="753" y="157"/>
                  </a:lnTo>
                  <a:lnTo>
                    <a:pt x="755" y="156"/>
                  </a:lnTo>
                  <a:lnTo>
                    <a:pt x="800" y="273"/>
                  </a:lnTo>
                  <a:lnTo>
                    <a:pt x="814" y="267"/>
                  </a:lnTo>
                  <a:lnTo>
                    <a:pt x="769" y="150"/>
                  </a:lnTo>
                  <a:lnTo>
                    <a:pt x="773" y="149"/>
                  </a:lnTo>
                  <a:lnTo>
                    <a:pt x="776" y="147"/>
                  </a:lnTo>
                  <a:lnTo>
                    <a:pt x="780" y="146"/>
                  </a:lnTo>
                  <a:lnTo>
                    <a:pt x="783" y="145"/>
                  </a:lnTo>
                  <a:lnTo>
                    <a:pt x="829" y="260"/>
                  </a:lnTo>
                  <a:lnTo>
                    <a:pt x="842" y="256"/>
                  </a:lnTo>
                  <a:lnTo>
                    <a:pt x="796" y="141"/>
                  </a:lnTo>
                  <a:lnTo>
                    <a:pt x="800" y="139"/>
                  </a:lnTo>
                  <a:lnTo>
                    <a:pt x="803" y="138"/>
                  </a:lnTo>
                  <a:lnTo>
                    <a:pt x="807" y="136"/>
                  </a:lnTo>
                  <a:lnTo>
                    <a:pt x="810" y="135"/>
                  </a:lnTo>
                  <a:lnTo>
                    <a:pt x="859" y="249"/>
                  </a:lnTo>
                  <a:lnTo>
                    <a:pt x="871" y="244"/>
                  </a:lnTo>
                  <a:lnTo>
                    <a:pt x="823" y="130"/>
                  </a:lnTo>
                  <a:lnTo>
                    <a:pt x="826" y="128"/>
                  </a:lnTo>
                  <a:lnTo>
                    <a:pt x="830" y="126"/>
                  </a:lnTo>
                  <a:lnTo>
                    <a:pt x="834" y="124"/>
                  </a:lnTo>
                  <a:lnTo>
                    <a:pt x="837" y="123"/>
                  </a:lnTo>
                  <a:lnTo>
                    <a:pt x="886" y="237"/>
                  </a:lnTo>
                  <a:lnTo>
                    <a:pt x="900" y="232"/>
                  </a:lnTo>
                  <a:lnTo>
                    <a:pt x="851" y="117"/>
                  </a:lnTo>
                  <a:lnTo>
                    <a:pt x="853" y="116"/>
                  </a:lnTo>
                  <a:lnTo>
                    <a:pt x="857" y="115"/>
                  </a:lnTo>
                  <a:lnTo>
                    <a:pt x="861" y="113"/>
                  </a:lnTo>
                  <a:lnTo>
                    <a:pt x="864" y="112"/>
                  </a:lnTo>
                  <a:lnTo>
                    <a:pt x="915" y="225"/>
                  </a:lnTo>
                  <a:lnTo>
                    <a:pt x="928" y="220"/>
                  </a:lnTo>
                  <a:lnTo>
                    <a:pt x="876" y="107"/>
                  </a:lnTo>
                  <a:lnTo>
                    <a:pt x="881" y="105"/>
                  </a:lnTo>
                  <a:lnTo>
                    <a:pt x="883" y="102"/>
                  </a:lnTo>
                  <a:lnTo>
                    <a:pt x="887" y="101"/>
                  </a:lnTo>
                  <a:lnTo>
                    <a:pt x="890" y="100"/>
                  </a:lnTo>
                  <a:lnTo>
                    <a:pt x="943" y="211"/>
                  </a:lnTo>
                  <a:lnTo>
                    <a:pt x="955" y="206"/>
                  </a:lnTo>
                  <a:lnTo>
                    <a:pt x="904" y="94"/>
                  </a:lnTo>
                  <a:lnTo>
                    <a:pt x="906" y="93"/>
                  </a:lnTo>
                  <a:lnTo>
                    <a:pt x="911" y="92"/>
                  </a:lnTo>
                  <a:lnTo>
                    <a:pt x="915" y="89"/>
                  </a:lnTo>
                  <a:lnTo>
                    <a:pt x="917" y="87"/>
                  </a:lnTo>
                  <a:lnTo>
                    <a:pt x="970" y="199"/>
                  </a:lnTo>
                  <a:lnTo>
                    <a:pt x="984" y="192"/>
                  </a:lnTo>
                  <a:lnTo>
                    <a:pt x="930" y="82"/>
                  </a:lnTo>
                  <a:lnTo>
                    <a:pt x="934" y="81"/>
                  </a:lnTo>
                  <a:lnTo>
                    <a:pt x="936" y="78"/>
                  </a:lnTo>
                  <a:lnTo>
                    <a:pt x="940" y="77"/>
                  </a:lnTo>
                  <a:lnTo>
                    <a:pt x="943" y="75"/>
                  </a:lnTo>
                  <a:lnTo>
                    <a:pt x="999" y="185"/>
                  </a:lnTo>
                  <a:lnTo>
                    <a:pt x="1011" y="179"/>
                  </a:lnTo>
                  <a:lnTo>
                    <a:pt x="957" y="70"/>
                  </a:lnTo>
                  <a:lnTo>
                    <a:pt x="960" y="68"/>
                  </a:lnTo>
                  <a:lnTo>
                    <a:pt x="964" y="66"/>
                  </a:lnTo>
                  <a:lnTo>
                    <a:pt x="966" y="64"/>
                  </a:lnTo>
                  <a:lnTo>
                    <a:pt x="970" y="63"/>
                  </a:lnTo>
                  <a:lnTo>
                    <a:pt x="1026" y="171"/>
                  </a:lnTo>
                  <a:lnTo>
                    <a:pt x="1039" y="164"/>
                  </a:lnTo>
                  <a:lnTo>
                    <a:pt x="983" y="56"/>
                  </a:lnTo>
                  <a:lnTo>
                    <a:pt x="985" y="55"/>
                  </a:lnTo>
                  <a:lnTo>
                    <a:pt x="989" y="52"/>
                  </a:lnTo>
                  <a:lnTo>
                    <a:pt x="994" y="51"/>
                  </a:lnTo>
                  <a:lnTo>
                    <a:pt x="996" y="49"/>
                  </a:lnTo>
                  <a:lnTo>
                    <a:pt x="1053" y="157"/>
                  </a:lnTo>
                  <a:lnTo>
                    <a:pt x="1067" y="150"/>
                  </a:lnTo>
                  <a:lnTo>
                    <a:pt x="1009" y="43"/>
                  </a:lnTo>
                  <a:lnTo>
                    <a:pt x="1011" y="41"/>
                  </a:lnTo>
                  <a:lnTo>
                    <a:pt x="1015" y="38"/>
                  </a:lnTo>
                  <a:lnTo>
                    <a:pt x="1019" y="37"/>
                  </a:lnTo>
                  <a:lnTo>
                    <a:pt x="1022" y="36"/>
                  </a:lnTo>
                  <a:lnTo>
                    <a:pt x="1081" y="142"/>
                  </a:lnTo>
                  <a:lnTo>
                    <a:pt x="1093" y="135"/>
                  </a:lnTo>
                  <a:lnTo>
                    <a:pt x="1034" y="28"/>
                  </a:lnTo>
                  <a:lnTo>
                    <a:pt x="1047" y="21"/>
                  </a:lnTo>
                  <a:lnTo>
                    <a:pt x="1055" y="15"/>
                  </a:lnTo>
                  <a:lnTo>
                    <a:pt x="1060" y="13"/>
                  </a:lnTo>
                  <a:lnTo>
                    <a:pt x="1063" y="11"/>
                  </a:lnTo>
                  <a:lnTo>
                    <a:pt x="1067" y="9"/>
                  </a:lnTo>
                  <a:lnTo>
                    <a:pt x="1073" y="7"/>
                  </a:lnTo>
                  <a:lnTo>
                    <a:pt x="1078" y="4"/>
                  </a:lnTo>
                  <a:lnTo>
                    <a:pt x="1083" y="3"/>
                  </a:lnTo>
                  <a:lnTo>
                    <a:pt x="1089" y="2"/>
                  </a:lnTo>
                  <a:lnTo>
                    <a:pt x="1094" y="2"/>
                  </a:lnTo>
                  <a:lnTo>
                    <a:pt x="1100" y="0"/>
                  </a:lnTo>
                  <a:lnTo>
                    <a:pt x="1105" y="0"/>
                  </a:lnTo>
                  <a:lnTo>
                    <a:pt x="1115" y="0"/>
                  </a:lnTo>
                  <a:lnTo>
                    <a:pt x="1123" y="2"/>
                  </a:lnTo>
                  <a:lnTo>
                    <a:pt x="1132" y="4"/>
                  </a:lnTo>
                  <a:lnTo>
                    <a:pt x="1141" y="7"/>
                  </a:lnTo>
                  <a:lnTo>
                    <a:pt x="1149" y="11"/>
                  </a:lnTo>
                  <a:lnTo>
                    <a:pt x="1157" y="15"/>
                  </a:lnTo>
                  <a:lnTo>
                    <a:pt x="1164" y="21"/>
                  </a:lnTo>
                  <a:lnTo>
                    <a:pt x="1171" y="28"/>
                  </a:lnTo>
                  <a:lnTo>
                    <a:pt x="1183" y="41"/>
                  </a:lnTo>
                  <a:lnTo>
                    <a:pt x="1191" y="58"/>
                  </a:lnTo>
                  <a:lnTo>
                    <a:pt x="1196" y="75"/>
                  </a:lnTo>
                  <a:lnTo>
                    <a:pt x="1198" y="93"/>
                  </a:lnTo>
                  <a:lnTo>
                    <a:pt x="1196" y="105"/>
                  </a:lnTo>
                  <a:lnTo>
                    <a:pt x="1195" y="116"/>
                  </a:lnTo>
                  <a:lnTo>
                    <a:pt x="1191" y="127"/>
                  </a:lnTo>
                  <a:lnTo>
                    <a:pt x="1187" y="138"/>
                  </a:lnTo>
                  <a:lnTo>
                    <a:pt x="1180" y="147"/>
                  </a:lnTo>
                  <a:lnTo>
                    <a:pt x="1172" y="157"/>
                  </a:lnTo>
                  <a:lnTo>
                    <a:pt x="1164" y="165"/>
                  </a:lnTo>
                  <a:lnTo>
                    <a:pt x="1154" y="172"/>
                  </a:lnTo>
                  <a:lnTo>
                    <a:pt x="1153" y="173"/>
                  </a:lnTo>
                  <a:lnTo>
                    <a:pt x="1149" y="176"/>
                  </a:lnTo>
                  <a:lnTo>
                    <a:pt x="1142" y="180"/>
                  </a:lnTo>
                  <a:lnTo>
                    <a:pt x="1132" y="185"/>
                  </a:lnTo>
                  <a:lnTo>
                    <a:pt x="1120" y="194"/>
                  </a:lnTo>
                  <a:lnTo>
                    <a:pt x="1107" y="202"/>
                  </a:lnTo>
                  <a:lnTo>
                    <a:pt x="1090" y="211"/>
                  </a:lnTo>
                  <a:lnTo>
                    <a:pt x="1071" y="222"/>
                  </a:lnTo>
                  <a:lnTo>
                    <a:pt x="1051" y="233"/>
                  </a:lnTo>
                  <a:lnTo>
                    <a:pt x="1028" y="245"/>
                  </a:lnTo>
                  <a:lnTo>
                    <a:pt x="1002" y="259"/>
                  </a:lnTo>
                  <a:lnTo>
                    <a:pt x="975" y="273"/>
                  </a:lnTo>
                  <a:lnTo>
                    <a:pt x="945" y="286"/>
                  </a:lnTo>
                  <a:lnTo>
                    <a:pt x="912" y="300"/>
                  </a:lnTo>
                  <a:lnTo>
                    <a:pt x="879" y="315"/>
                  </a:lnTo>
                  <a:lnTo>
                    <a:pt x="842" y="330"/>
                  </a:lnTo>
                  <a:lnTo>
                    <a:pt x="804" y="343"/>
                  </a:lnTo>
                  <a:lnTo>
                    <a:pt x="765" y="358"/>
                  </a:lnTo>
                  <a:lnTo>
                    <a:pt x="723" y="373"/>
                  </a:lnTo>
                  <a:lnTo>
                    <a:pt x="679" y="387"/>
                  </a:lnTo>
                  <a:lnTo>
                    <a:pt x="634" y="401"/>
                  </a:lnTo>
                  <a:lnTo>
                    <a:pt x="586" y="413"/>
                  </a:lnTo>
                  <a:lnTo>
                    <a:pt x="537" y="425"/>
                  </a:lnTo>
                  <a:lnTo>
                    <a:pt x="487" y="436"/>
                  </a:lnTo>
                  <a:lnTo>
                    <a:pt x="434" y="447"/>
                  </a:lnTo>
                  <a:lnTo>
                    <a:pt x="379" y="456"/>
                  </a:lnTo>
                  <a:lnTo>
                    <a:pt x="324" y="465"/>
                  </a:lnTo>
                  <a:lnTo>
                    <a:pt x="266" y="471"/>
                  </a:lnTo>
                  <a:lnTo>
                    <a:pt x="208" y="477"/>
                  </a:lnTo>
                  <a:lnTo>
                    <a:pt x="147" y="481"/>
                  </a:lnTo>
                  <a:lnTo>
                    <a:pt x="85" y="484"/>
                  </a:lnTo>
                  <a:lnTo>
                    <a:pt x="21" y="485"/>
                  </a:lnTo>
                  <a:lnTo>
                    <a:pt x="19" y="485"/>
                  </a:lnTo>
                  <a:lnTo>
                    <a:pt x="13" y="485"/>
                  </a:lnTo>
                  <a:lnTo>
                    <a:pt x="6" y="485"/>
                  </a:lnTo>
                  <a:lnTo>
                    <a:pt x="1" y="485"/>
                  </a:lnTo>
                  <a:lnTo>
                    <a:pt x="1" y="484"/>
                  </a:lnTo>
                  <a:lnTo>
                    <a:pt x="1" y="482"/>
                  </a:lnTo>
                  <a:lnTo>
                    <a:pt x="0" y="481"/>
                  </a:lnTo>
                  <a:lnTo>
                    <a:pt x="0" y="479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2" y="290"/>
                  </a:lnTo>
                  <a:lnTo>
                    <a:pt x="5" y="290"/>
                  </a:lnTo>
                  <a:lnTo>
                    <a:pt x="9" y="290"/>
                  </a:lnTo>
                  <a:lnTo>
                    <a:pt x="15" y="290"/>
                  </a:lnTo>
                  <a:lnTo>
                    <a:pt x="15" y="417"/>
                  </a:lnTo>
                  <a:lnTo>
                    <a:pt x="28" y="417"/>
                  </a:lnTo>
                  <a:close/>
                </a:path>
              </a:pathLst>
            </a:custGeom>
            <a:solidFill>
              <a:srgbClr val="bfcc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97680" y="2157840"/>
              <a:ext cx="2171880" cy="3666240"/>
            </a:xfrm>
            <a:custGeom>
              <a:avLst/>
              <a:gdLst/>
              <a:ahLst/>
              <a:rect l="l" t="t" r="r" b="b"/>
              <a:pathLst>
                <a:path w="1254" h="2169">
                  <a:moveTo>
                    <a:pt x="1178" y="1858"/>
                  </a:moveTo>
                  <a:lnTo>
                    <a:pt x="1148" y="1876"/>
                  </a:lnTo>
                  <a:lnTo>
                    <a:pt x="1116" y="1892"/>
                  </a:lnTo>
                  <a:lnTo>
                    <a:pt x="1085" y="1909"/>
                  </a:lnTo>
                  <a:lnTo>
                    <a:pt x="1055" y="1925"/>
                  </a:lnTo>
                  <a:lnTo>
                    <a:pt x="1024" y="1940"/>
                  </a:lnTo>
                  <a:lnTo>
                    <a:pt x="991" y="1955"/>
                  </a:lnTo>
                  <a:lnTo>
                    <a:pt x="960" y="1970"/>
                  </a:lnTo>
                  <a:lnTo>
                    <a:pt x="927" y="1984"/>
                  </a:lnTo>
                  <a:lnTo>
                    <a:pt x="896" y="1997"/>
                  </a:lnTo>
                  <a:lnTo>
                    <a:pt x="863" y="2011"/>
                  </a:lnTo>
                  <a:lnTo>
                    <a:pt x="831" y="2023"/>
                  </a:lnTo>
                  <a:lnTo>
                    <a:pt x="798" y="2035"/>
                  </a:lnTo>
                  <a:lnTo>
                    <a:pt x="764" y="2046"/>
                  </a:lnTo>
                  <a:lnTo>
                    <a:pt x="731" y="2057"/>
                  </a:lnTo>
                  <a:lnTo>
                    <a:pt x="697" y="2068"/>
                  </a:lnTo>
                  <a:lnTo>
                    <a:pt x="664" y="2079"/>
                  </a:lnTo>
                  <a:lnTo>
                    <a:pt x="630" y="2088"/>
                  </a:lnTo>
                  <a:lnTo>
                    <a:pt x="596" y="2097"/>
                  </a:lnTo>
                  <a:lnTo>
                    <a:pt x="562" y="2106"/>
                  </a:lnTo>
                  <a:lnTo>
                    <a:pt x="528" y="2113"/>
                  </a:lnTo>
                  <a:lnTo>
                    <a:pt x="494" y="2121"/>
                  </a:lnTo>
                  <a:lnTo>
                    <a:pt x="460" y="2128"/>
                  </a:lnTo>
                  <a:lnTo>
                    <a:pt x="425" y="2135"/>
                  </a:lnTo>
                  <a:lnTo>
                    <a:pt x="391" y="2140"/>
                  </a:lnTo>
                  <a:lnTo>
                    <a:pt x="357" y="2146"/>
                  </a:lnTo>
                  <a:lnTo>
                    <a:pt x="321" y="2151"/>
                  </a:lnTo>
                  <a:lnTo>
                    <a:pt x="286" y="2155"/>
                  </a:lnTo>
                  <a:lnTo>
                    <a:pt x="252" y="2159"/>
                  </a:lnTo>
                  <a:lnTo>
                    <a:pt x="216" y="2162"/>
                  </a:lnTo>
                  <a:lnTo>
                    <a:pt x="182" y="2165"/>
                  </a:lnTo>
                  <a:lnTo>
                    <a:pt x="147" y="2167"/>
                  </a:lnTo>
                  <a:lnTo>
                    <a:pt x="112" y="2169"/>
                  </a:lnTo>
                  <a:lnTo>
                    <a:pt x="112" y="2166"/>
                  </a:lnTo>
                  <a:lnTo>
                    <a:pt x="113" y="2163"/>
                  </a:lnTo>
                  <a:lnTo>
                    <a:pt x="113" y="2160"/>
                  </a:lnTo>
                  <a:lnTo>
                    <a:pt x="113" y="2158"/>
                  </a:lnTo>
                  <a:lnTo>
                    <a:pt x="113" y="2141"/>
                  </a:lnTo>
                  <a:lnTo>
                    <a:pt x="5" y="2141"/>
                  </a:lnTo>
                  <a:lnTo>
                    <a:pt x="4" y="2140"/>
                  </a:lnTo>
                  <a:lnTo>
                    <a:pt x="4" y="2137"/>
                  </a:lnTo>
                  <a:lnTo>
                    <a:pt x="3" y="2135"/>
                  </a:lnTo>
                  <a:lnTo>
                    <a:pt x="1" y="2131"/>
                  </a:lnTo>
                  <a:lnTo>
                    <a:pt x="7" y="2131"/>
                  </a:lnTo>
                  <a:lnTo>
                    <a:pt x="14" y="2131"/>
                  </a:lnTo>
                  <a:lnTo>
                    <a:pt x="18" y="2131"/>
                  </a:lnTo>
                  <a:lnTo>
                    <a:pt x="20" y="2131"/>
                  </a:lnTo>
                  <a:lnTo>
                    <a:pt x="84" y="2129"/>
                  </a:lnTo>
                  <a:lnTo>
                    <a:pt x="147" y="2126"/>
                  </a:lnTo>
                  <a:lnTo>
                    <a:pt x="207" y="2122"/>
                  </a:lnTo>
                  <a:lnTo>
                    <a:pt x="267" y="2117"/>
                  </a:lnTo>
                  <a:lnTo>
                    <a:pt x="325" y="2110"/>
                  </a:lnTo>
                  <a:lnTo>
                    <a:pt x="381" y="2102"/>
                  </a:lnTo>
                  <a:lnTo>
                    <a:pt x="436" y="2092"/>
                  </a:lnTo>
                  <a:lnTo>
                    <a:pt x="489" y="2082"/>
                  </a:lnTo>
                  <a:lnTo>
                    <a:pt x="539" y="2071"/>
                  </a:lnTo>
                  <a:lnTo>
                    <a:pt x="590" y="2058"/>
                  </a:lnTo>
                  <a:lnTo>
                    <a:pt x="637" y="2045"/>
                  </a:lnTo>
                  <a:lnTo>
                    <a:pt x="682" y="2031"/>
                  </a:lnTo>
                  <a:lnTo>
                    <a:pt x="727" y="2018"/>
                  </a:lnTo>
                  <a:lnTo>
                    <a:pt x="769" y="2004"/>
                  </a:lnTo>
                  <a:lnTo>
                    <a:pt x="809" y="1989"/>
                  </a:lnTo>
                  <a:lnTo>
                    <a:pt x="847" y="1974"/>
                  </a:lnTo>
                  <a:lnTo>
                    <a:pt x="884" y="1959"/>
                  </a:lnTo>
                  <a:lnTo>
                    <a:pt x="918" y="1945"/>
                  </a:lnTo>
                  <a:lnTo>
                    <a:pt x="949" y="1930"/>
                  </a:lnTo>
                  <a:lnTo>
                    <a:pt x="980" y="1917"/>
                  </a:lnTo>
                  <a:lnTo>
                    <a:pt x="1008" y="1903"/>
                  </a:lnTo>
                  <a:lnTo>
                    <a:pt x="1033" y="1890"/>
                  </a:lnTo>
                  <a:lnTo>
                    <a:pt x="1057" y="1877"/>
                  </a:lnTo>
                  <a:lnTo>
                    <a:pt x="1078" y="1866"/>
                  </a:lnTo>
                  <a:lnTo>
                    <a:pt x="1096" y="1856"/>
                  </a:lnTo>
                  <a:lnTo>
                    <a:pt x="1114" y="1846"/>
                  </a:lnTo>
                  <a:lnTo>
                    <a:pt x="1127" y="1838"/>
                  </a:lnTo>
                  <a:lnTo>
                    <a:pt x="1140" y="1830"/>
                  </a:lnTo>
                  <a:lnTo>
                    <a:pt x="1148" y="1824"/>
                  </a:lnTo>
                  <a:lnTo>
                    <a:pt x="1155" y="1820"/>
                  </a:lnTo>
                  <a:lnTo>
                    <a:pt x="1160" y="1817"/>
                  </a:lnTo>
                  <a:lnTo>
                    <a:pt x="1161" y="1816"/>
                  </a:lnTo>
                  <a:lnTo>
                    <a:pt x="1172" y="1808"/>
                  </a:lnTo>
                  <a:lnTo>
                    <a:pt x="1182" y="1798"/>
                  </a:lnTo>
                  <a:lnTo>
                    <a:pt x="1190" y="1788"/>
                  </a:lnTo>
                  <a:lnTo>
                    <a:pt x="1197" y="1777"/>
                  </a:lnTo>
                  <a:lnTo>
                    <a:pt x="1202" y="1764"/>
                  </a:lnTo>
                  <a:lnTo>
                    <a:pt x="1206" y="1752"/>
                  </a:lnTo>
                  <a:lnTo>
                    <a:pt x="1209" y="1739"/>
                  </a:lnTo>
                  <a:lnTo>
                    <a:pt x="1210" y="1725"/>
                  </a:lnTo>
                  <a:lnTo>
                    <a:pt x="1209" y="1705"/>
                  </a:lnTo>
                  <a:lnTo>
                    <a:pt x="1202" y="1684"/>
                  </a:lnTo>
                  <a:lnTo>
                    <a:pt x="1193" y="1666"/>
                  </a:lnTo>
                  <a:lnTo>
                    <a:pt x="1179" y="1650"/>
                  </a:lnTo>
                  <a:lnTo>
                    <a:pt x="1171" y="1643"/>
                  </a:lnTo>
                  <a:lnTo>
                    <a:pt x="1163" y="1636"/>
                  </a:lnTo>
                  <a:lnTo>
                    <a:pt x="1155" y="1631"/>
                  </a:lnTo>
                  <a:lnTo>
                    <a:pt x="1145" y="1627"/>
                  </a:lnTo>
                  <a:lnTo>
                    <a:pt x="1136" y="1623"/>
                  </a:lnTo>
                  <a:lnTo>
                    <a:pt x="1125" y="1620"/>
                  </a:lnTo>
                  <a:lnTo>
                    <a:pt x="1115" y="1619"/>
                  </a:lnTo>
                  <a:lnTo>
                    <a:pt x="1104" y="1619"/>
                  </a:lnTo>
                  <a:lnTo>
                    <a:pt x="1097" y="1619"/>
                  </a:lnTo>
                  <a:lnTo>
                    <a:pt x="1091" y="1620"/>
                  </a:lnTo>
                  <a:lnTo>
                    <a:pt x="1085" y="1620"/>
                  </a:lnTo>
                  <a:lnTo>
                    <a:pt x="1078" y="1621"/>
                  </a:lnTo>
                  <a:lnTo>
                    <a:pt x="1073" y="1624"/>
                  </a:lnTo>
                  <a:lnTo>
                    <a:pt x="1066" y="1626"/>
                  </a:lnTo>
                  <a:lnTo>
                    <a:pt x="1061" y="1628"/>
                  </a:lnTo>
                  <a:lnTo>
                    <a:pt x="1055" y="1631"/>
                  </a:lnTo>
                  <a:lnTo>
                    <a:pt x="1054" y="1632"/>
                  </a:lnTo>
                  <a:lnTo>
                    <a:pt x="1050" y="1635"/>
                  </a:lnTo>
                  <a:lnTo>
                    <a:pt x="1043" y="1639"/>
                  </a:lnTo>
                  <a:lnTo>
                    <a:pt x="1033" y="1643"/>
                  </a:lnTo>
                  <a:lnTo>
                    <a:pt x="1023" y="1650"/>
                  </a:lnTo>
                  <a:lnTo>
                    <a:pt x="1009" y="1658"/>
                  </a:lnTo>
                  <a:lnTo>
                    <a:pt x="993" y="1666"/>
                  </a:lnTo>
                  <a:lnTo>
                    <a:pt x="975" y="1676"/>
                  </a:lnTo>
                  <a:lnTo>
                    <a:pt x="954" y="1685"/>
                  </a:lnTo>
                  <a:lnTo>
                    <a:pt x="933" y="1696"/>
                  </a:lnTo>
                  <a:lnTo>
                    <a:pt x="908" y="1709"/>
                  </a:lnTo>
                  <a:lnTo>
                    <a:pt x="882" y="1719"/>
                  </a:lnTo>
                  <a:lnTo>
                    <a:pt x="855" y="1733"/>
                  </a:lnTo>
                  <a:lnTo>
                    <a:pt x="825" y="1745"/>
                  </a:lnTo>
                  <a:lnTo>
                    <a:pt x="792" y="1758"/>
                  </a:lnTo>
                  <a:lnTo>
                    <a:pt x="760" y="1771"/>
                  </a:lnTo>
                  <a:lnTo>
                    <a:pt x="724" y="1783"/>
                  </a:lnTo>
                  <a:lnTo>
                    <a:pt x="688" y="1797"/>
                  </a:lnTo>
                  <a:lnTo>
                    <a:pt x="648" y="1809"/>
                  </a:lnTo>
                  <a:lnTo>
                    <a:pt x="609" y="1822"/>
                  </a:lnTo>
                  <a:lnTo>
                    <a:pt x="566" y="1834"/>
                  </a:lnTo>
                  <a:lnTo>
                    <a:pt x="524" y="1845"/>
                  </a:lnTo>
                  <a:lnTo>
                    <a:pt x="479" y="1856"/>
                  </a:lnTo>
                  <a:lnTo>
                    <a:pt x="433" y="1865"/>
                  </a:lnTo>
                  <a:lnTo>
                    <a:pt x="385" y="1875"/>
                  </a:lnTo>
                  <a:lnTo>
                    <a:pt x="336" y="1883"/>
                  </a:lnTo>
                  <a:lnTo>
                    <a:pt x="287" y="1891"/>
                  </a:lnTo>
                  <a:lnTo>
                    <a:pt x="235" y="1896"/>
                  </a:lnTo>
                  <a:lnTo>
                    <a:pt x="184" y="1902"/>
                  </a:lnTo>
                  <a:lnTo>
                    <a:pt x="131" y="1906"/>
                  </a:lnTo>
                  <a:lnTo>
                    <a:pt x="76" y="1907"/>
                  </a:lnTo>
                  <a:lnTo>
                    <a:pt x="20" y="1909"/>
                  </a:lnTo>
                  <a:lnTo>
                    <a:pt x="14" y="1907"/>
                  </a:lnTo>
                  <a:lnTo>
                    <a:pt x="7" y="1907"/>
                  </a:lnTo>
                  <a:lnTo>
                    <a:pt x="3" y="1907"/>
                  </a:lnTo>
                  <a:lnTo>
                    <a:pt x="0" y="1907"/>
                  </a:lnTo>
                  <a:lnTo>
                    <a:pt x="1" y="1902"/>
                  </a:lnTo>
                  <a:lnTo>
                    <a:pt x="3" y="1898"/>
                  </a:lnTo>
                  <a:lnTo>
                    <a:pt x="4" y="1895"/>
                  </a:lnTo>
                  <a:lnTo>
                    <a:pt x="5" y="1894"/>
                  </a:lnTo>
                  <a:lnTo>
                    <a:pt x="113" y="1894"/>
                  </a:lnTo>
                  <a:lnTo>
                    <a:pt x="113" y="1877"/>
                  </a:lnTo>
                  <a:lnTo>
                    <a:pt x="113" y="1873"/>
                  </a:lnTo>
                  <a:lnTo>
                    <a:pt x="113" y="1869"/>
                  </a:lnTo>
                  <a:lnTo>
                    <a:pt x="112" y="1865"/>
                  </a:lnTo>
                  <a:lnTo>
                    <a:pt x="112" y="1862"/>
                  </a:lnTo>
                  <a:lnTo>
                    <a:pt x="155" y="1860"/>
                  </a:lnTo>
                  <a:lnTo>
                    <a:pt x="200" y="1857"/>
                  </a:lnTo>
                  <a:lnTo>
                    <a:pt x="244" y="1852"/>
                  </a:lnTo>
                  <a:lnTo>
                    <a:pt x="289" y="1846"/>
                  </a:lnTo>
                  <a:lnTo>
                    <a:pt x="332" y="1841"/>
                  </a:lnTo>
                  <a:lnTo>
                    <a:pt x="376" y="1832"/>
                  </a:lnTo>
                  <a:lnTo>
                    <a:pt x="419" y="1824"/>
                  </a:lnTo>
                  <a:lnTo>
                    <a:pt x="463" y="1815"/>
                  </a:lnTo>
                  <a:lnTo>
                    <a:pt x="505" y="1805"/>
                  </a:lnTo>
                  <a:lnTo>
                    <a:pt x="547" y="1794"/>
                  </a:lnTo>
                  <a:lnTo>
                    <a:pt x="591" y="1782"/>
                  </a:lnTo>
                  <a:lnTo>
                    <a:pt x="633" y="1768"/>
                  </a:lnTo>
                  <a:lnTo>
                    <a:pt x="674" y="1755"/>
                  </a:lnTo>
                  <a:lnTo>
                    <a:pt x="715" y="1740"/>
                  </a:lnTo>
                  <a:lnTo>
                    <a:pt x="756" y="1725"/>
                  </a:lnTo>
                  <a:lnTo>
                    <a:pt x="796" y="1709"/>
                  </a:lnTo>
                  <a:lnTo>
                    <a:pt x="472" y="1009"/>
                  </a:lnTo>
                  <a:lnTo>
                    <a:pt x="468" y="1009"/>
                  </a:lnTo>
                  <a:lnTo>
                    <a:pt x="445" y="1005"/>
                  </a:lnTo>
                  <a:lnTo>
                    <a:pt x="423" y="1002"/>
                  </a:lnTo>
                  <a:lnTo>
                    <a:pt x="400" y="999"/>
                  </a:lnTo>
                  <a:lnTo>
                    <a:pt x="377" y="997"/>
                  </a:lnTo>
                  <a:lnTo>
                    <a:pt x="354" y="994"/>
                  </a:lnTo>
                  <a:lnTo>
                    <a:pt x="329" y="991"/>
                  </a:lnTo>
                  <a:lnTo>
                    <a:pt x="306" y="989"/>
                  </a:lnTo>
                  <a:lnTo>
                    <a:pt x="282" y="986"/>
                  </a:lnTo>
                  <a:lnTo>
                    <a:pt x="257" y="984"/>
                  </a:lnTo>
                  <a:lnTo>
                    <a:pt x="234" y="983"/>
                  </a:lnTo>
                  <a:lnTo>
                    <a:pt x="210" y="980"/>
                  </a:lnTo>
                  <a:lnTo>
                    <a:pt x="184" y="979"/>
                  </a:lnTo>
                  <a:lnTo>
                    <a:pt x="159" y="978"/>
                  </a:lnTo>
                  <a:lnTo>
                    <a:pt x="135" y="976"/>
                  </a:lnTo>
                  <a:lnTo>
                    <a:pt x="110" y="976"/>
                  </a:lnTo>
                  <a:lnTo>
                    <a:pt x="84" y="975"/>
                  </a:lnTo>
                  <a:lnTo>
                    <a:pt x="84" y="965"/>
                  </a:lnTo>
                  <a:lnTo>
                    <a:pt x="150" y="968"/>
                  </a:lnTo>
                  <a:lnTo>
                    <a:pt x="162" y="968"/>
                  </a:lnTo>
                  <a:lnTo>
                    <a:pt x="176" y="970"/>
                  </a:lnTo>
                  <a:lnTo>
                    <a:pt x="188" y="970"/>
                  </a:lnTo>
                  <a:lnTo>
                    <a:pt x="199" y="971"/>
                  </a:lnTo>
                  <a:lnTo>
                    <a:pt x="210" y="971"/>
                  </a:lnTo>
                  <a:lnTo>
                    <a:pt x="216" y="972"/>
                  </a:lnTo>
                  <a:lnTo>
                    <a:pt x="222" y="972"/>
                  </a:lnTo>
                  <a:lnTo>
                    <a:pt x="223" y="972"/>
                  </a:lnTo>
                  <a:lnTo>
                    <a:pt x="230" y="972"/>
                  </a:lnTo>
                  <a:lnTo>
                    <a:pt x="235" y="970"/>
                  </a:lnTo>
                  <a:lnTo>
                    <a:pt x="241" y="967"/>
                  </a:lnTo>
                  <a:lnTo>
                    <a:pt x="246" y="963"/>
                  </a:lnTo>
                  <a:lnTo>
                    <a:pt x="250" y="959"/>
                  </a:lnTo>
                  <a:lnTo>
                    <a:pt x="253" y="953"/>
                  </a:lnTo>
                  <a:lnTo>
                    <a:pt x="255" y="946"/>
                  </a:lnTo>
                  <a:lnTo>
                    <a:pt x="255" y="941"/>
                  </a:lnTo>
                  <a:lnTo>
                    <a:pt x="255" y="935"/>
                  </a:lnTo>
                  <a:lnTo>
                    <a:pt x="253" y="929"/>
                  </a:lnTo>
                  <a:lnTo>
                    <a:pt x="250" y="923"/>
                  </a:lnTo>
                  <a:lnTo>
                    <a:pt x="246" y="919"/>
                  </a:lnTo>
                  <a:lnTo>
                    <a:pt x="241" y="915"/>
                  </a:lnTo>
                  <a:lnTo>
                    <a:pt x="235" y="912"/>
                  </a:lnTo>
                  <a:lnTo>
                    <a:pt x="230" y="911"/>
                  </a:lnTo>
                  <a:lnTo>
                    <a:pt x="223" y="910"/>
                  </a:lnTo>
                  <a:lnTo>
                    <a:pt x="225" y="910"/>
                  </a:lnTo>
                  <a:lnTo>
                    <a:pt x="223" y="910"/>
                  </a:lnTo>
                  <a:lnTo>
                    <a:pt x="219" y="910"/>
                  </a:lnTo>
                  <a:lnTo>
                    <a:pt x="212" y="908"/>
                  </a:lnTo>
                  <a:lnTo>
                    <a:pt x="204" y="908"/>
                  </a:lnTo>
                  <a:lnTo>
                    <a:pt x="193" y="907"/>
                  </a:lnTo>
                  <a:lnTo>
                    <a:pt x="182" y="907"/>
                  </a:lnTo>
                  <a:lnTo>
                    <a:pt x="169" y="906"/>
                  </a:lnTo>
                  <a:lnTo>
                    <a:pt x="155" y="906"/>
                  </a:lnTo>
                  <a:lnTo>
                    <a:pt x="144" y="906"/>
                  </a:lnTo>
                  <a:lnTo>
                    <a:pt x="135" y="906"/>
                  </a:lnTo>
                  <a:lnTo>
                    <a:pt x="124" y="906"/>
                  </a:lnTo>
                  <a:lnTo>
                    <a:pt x="114" y="906"/>
                  </a:lnTo>
                  <a:lnTo>
                    <a:pt x="106" y="906"/>
                  </a:lnTo>
                  <a:lnTo>
                    <a:pt x="98" y="906"/>
                  </a:lnTo>
                  <a:lnTo>
                    <a:pt x="91" y="906"/>
                  </a:lnTo>
                  <a:lnTo>
                    <a:pt x="86" y="906"/>
                  </a:lnTo>
                  <a:lnTo>
                    <a:pt x="87" y="896"/>
                  </a:lnTo>
                  <a:lnTo>
                    <a:pt x="112" y="896"/>
                  </a:lnTo>
                  <a:lnTo>
                    <a:pt x="135" y="897"/>
                  </a:lnTo>
                  <a:lnTo>
                    <a:pt x="158" y="897"/>
                  </a:lnTo>
                  <a:lnTo>
                    <a:pt x="181" y="899"/>
                  </a:lnTo>
                  <a:lnTo>
                    <a:pt x="203" y="900"/>
                  </a:lnTo>
                  <a:lnTo>
                    <a:pt x="225" y="901"/>
                  </a:lnTo>
                  <a:lnTo>
                    <a:pt x="245" y="903"/>
                  </a:lnTo>
                  <a:lnTo>
                    <a:pt x="267" y="903"/>
                  </a:lnTo>
                  <a:lnTo>
                    <a:pt x="287" y="906"/>
                  </a:lnTo>
                  <a:lnTo>
                    <a:pt x="308" y="907"/>
                  </a:lnTo>
                  <a:lnTo>
                    <a:pt x="327" y="908"/>
                  </a:lnTo>
                  <a:lnTo>
                    <a:pt x="346" y="910"/>
                  </a:lnTo>
                  <a:lnTo>
                    <a:pt x="365" y="912"/>
                  </a:lnTo>
                  <a:lnTo>
                    <a:pt x="384" y="914"/>
                  </a:lnTo>
                  <a:lnTo>
                    <a:pt x="402" y="916"/>
                  </a:lnTo>
                  <a:lnTo>
                    <a:pt x="419" y="919"/>
                  </a:lnTo>
                  <a:lnTo>
                    <a:pt x="433" y="922"/>
                  </a:lnTo>
                  <a:lnTo>
                    <a:pt x="101" y="205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105" y="37"/>
                  </a:lnTo>
                  <a:lnTo>
                    <a:pt x="112" y="33"/>
                  </a:lnTo>
                  <a:lnTo>
                    <a:pt x="118" y="29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39" y="17"/>
                  </a:lnTo>
                  <a:lnTo>
                    <a:pt x="144" y="11"/>
                  </a:lnTo>
                  <a:lnTo>
                    <a:pt x="151" y="6"/>
                  </a:lnTo>
                  <a:lnTo>
                    <a:pt x="156" y="0"/>
                  </a:lnTo>
                  <a:lnTo>
                    <a:pt x="193" y="90"/>
                  </a:lnTo>
                  <a:lnTo>
                    <a:pt x="201" y="86"/>
                  </a:lnTo>
                  <a:lnTo>
                    <a:pt x="208" y="83"/>
                  </a:lnTo>
                  <a:lnTo>
                    <a:pt x="215" y="82"/>
                  </a:lnTo>
                  <a:lnTo>
                    <a:pt x="222" y="79"/>
                  </a:lnTo>
                  <a:lnTo>
                    <a:pt x="229" y="79"/>
                  </a:lnTo>
                  <a:lnTo>
                    <a:pt x="237" y="79"/>
                  </a:lnTo>
                  <a:lnTo>
                    <a:pt x="245" y="81"/>
                  </a:lnTo>
                  <a:lnTo>
                    <a:pt x="253" y="83"/>
                  </a:lnTo>
                  <a:lnTo>
                    <a:pt x="261" y="85"/>
                  </a:lnTo>
                  <a:lnTo>
                    <a:pt x="268" y="89"/>
                  </a:lnTo>
                  <a:lnTo>
                    <a:pt x="275" y="93"/>
                  </a:lnTo>
                  <a:lnTo>
                    <a:pt x="282" y="98"/>
                  </a:lnTo>
                  <a:lnTo>
                    <a:pt x="287" y="104"/>
                  </a:lnTo>
                  <a:lnTo>
                    <a:pt x="298" y="116"/>
                  </a:lnTo>
                  <a:lnTo>
                    <a:pt x="306" y="131"/>
                  </a:lnTo>
                  <a:lnTo>
                    <a:pt x="310" y="146"/>
                  </a:lnTo>
                  <a:lnTo>
                    <a:pt x="312" y="162"/>
                  </a:lnTo>
                  <a:lnTo>
                    <a:pt x="310" y="175"/>
                  </a:lnTo>
                  <a:lnTo>
                    <a:pt x="308" y="186"/>
                  </a:lnTo>
                  <a:lnTo>
                    <a:pt x="304" y="198"/>
                  </a:lnTo>
                  <a:lnTo>
                    <a:pt x="298" y="207"/>
                  </a:lnTo>
                  <a:lnTo>
                    <a:pt x="291" y="217"/>
                  </a:lnTo>
                  <a:lnTo>
                    <a:pt x="282" y="225"/>
                  </a:lnTo>
                  <a:lnTo>
                    <a:pt x="272" y="233"/>
                  </a:lnTo>
                  <a:lnTo>
                    <a:pt x="261" y="239"/>
                  </a:lnTo>
                  <a:lnTo>
                    <a:pt x="255" y="241"/>
                  </a:lnTo>
                  <a:lnTo>
                    <a:pt x="855" y="1684"/>
                  </a:lnTo>
                  <a:lnTo>
                    <a:pt x="875" y="1675"/>
                  </a:lnTo>
                  <a:lnTo>
                    <a:pt x="897" y="1664"/>
                  </a:lnTo>
                  <a:lnTo>
                    <a:pt x="918" y="1653"/>
                  </a:lnTo>
                  <a:lnTo>
                    <a:pt x="939" y="1642"/>
                  </a:lnTo>
                  <a:lnTo>
                    <a:pt x="961" y="1631"/>
                  </a:lnTo>
                  <a:lnTo>
                    <a:pt x="982" y="1620"/>
                  </a:lnTo>
                  <a:lnTo>
                    <a:pt x="1002" y="1608"/>
                  </a:lnTo>
                  <a:lnTo>
                    <a:pt x="1021" y="1597"/>
                  </a:lnTo>
                  <a:lnTo>
                    <a:pt x="1031" y="1592"/>
                  </a:lnTo>
                  <a:lnTo>
                    <a:pt x="1039" y="1587"/>
                  </a:lnTo>
                  <a:lnTo>
                    <a:pt x="1050" y="1583"/>
                  </a:lnTo>
                  <a:lnTo>
                    <a:pt x="1059" y="1581"/>
                  </a:lnTo>
                  <a:lnTo>
                    <a:pt x="1070" y="1578"/>
                  </a:lnTo>
                  <a:lnTo>
                    <a:pt x="1080" y="1577"/>
                  </a:lnTo>
                  <a:lnTo>
                    <a:pt x="1091" y="1575"/>
                  </a:lnTo>
                  <a:lnTo>
                    <a:pt x="1102" y="1575"/>
                  </a:lnTo>
                  <a:lnTo>
                    <a:pt x="1116" y="1577"/>
                  </a:lnTo>
                  <a:lnTo>
                    <a:pt x="1131" y="1578"/>
                  </a:lnTo>
                  <a:lnTo>
                    <a:pt x="1146" y="1582"/>
                  </a:lnTo>
                  <a:lnTo>
                    <a:pt x="1160" y="1586"/>
                  </a:lnTo>
                  <a:lnTo>
                    <a:pt x="1174" y="1593"/>
                  </a:lnTo>
                  <a:lnTo>
                    <a:pt x="1186" y="1601"/>
                  </a:lnTo>
                  <a:lnTo>
                    <a:pt x="1198" y="1609"/>
                  </a:lnTo>
                  <a:lnTo>
                    <a:pt x="1209" y="1620"/>
                  </a:lnTo>
                  <a:lnTo>
                    <a:pt x="1219" y="1631"/>
                  </a:lnTo>
                  <a:lnTo>
                    <a:pt x="1228" y="1643"/>
                  </a:lnTo>
                  <a:lnTo>
                    <a:pt x="1236" y="1656"/>
                  </a:lnTo>
                  <a:lnTo>
                    <a:pt x="1242" y="1669"/>
                  </a:lnTo>
                  <a:lnTo>
                    <a:pt x="1247" y="1683"/>
                  </a:lnTo>
                  <a:lnTo>
                    <a:pt x="1251" y="1698"/>
                  </a:lnTo>
                  <a:lnTo>
                    <a:pt x="1253" y="1713"/>
                  </a:lnTo>
                  <a:lnTo>
                    <a:pt x="1254" y="1728"/>
                  </a:lnTo>
                  <a:lnTo>
                    <a:pt x="1253" y="1748"/>
                  </a:lnTo>
                  <a:lnTo>
                    <a:pt x="1249" y="1767"/>
                  </a:lnTo>
                  <a:lnTo>
                    <a:pt x="1243" y="1786"/>
                  </a:lnTo>
                  <a:lnTo>
                    <a:pt x="1234" y="1803"/>
                  </a:lnTo>
                  <a:lnTo>
                    <a:pt x="1223" y="1819"/>
                  </a:lnTo>
                  <a:lnTo>
                    <a:pt x="1210" y="1834"/>
                  </a:lnTo>
                  <a:lnTo>
                    <a:pt x="1194" y="1847"/>
                  </a:lnTo>
                  <a:lnTo>
                    <a:pt x="1178" y="1858"/>
                  </a:lnTo>
                  <a:close/>
                </a:path>
              </a:pathLst>
            </a:custGeom>
            <a:solidFill>
              <a:srgbClr val="637f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78560" y="2309760"/>
              <a:ext cx="106920" cy="10296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32"/>
                  </a:moveTo>
                  <a:lnTo>
                    <a:pt x="62" y="26"/>
                  </a:lnTo>
                  <a:lnTo>
                    <a:pt x="60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6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0" y="3"/>
                  </a:lnTo>
                  <a:lnTo>
                    <a:pt x="10" y="10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59"/>
                  </a:lnTo>
                  <a:lnTo>
                    <a:pt x="26" y="61"/>
                  </a:lnTo>
                  <a:lnTo>
                    <a:pt x="32" y="61"/>
                  </a:lnTo>
                  <a:lnTo>
                    <a:pt x="37" y="61"/>
                  </a:lnTo>
                  <a:lnTo>
                    <a:pt x="44" y="59"/>
                  </a:lnTo>
                  <a:lnTo>
                    <a:pt x="50" y="57"/>
                  </a:lnTo>
                  <a:lnTo>
                    <a:pt x="54" y="53"/>
                  </a:lnTo>
                  <a:lnTo>
                    <a:pt x="58" y="48"/>
                  </a:lnTo>
                  <a:lnTo>
                    <a:pt x="60" y="42"/>
                  </a:lnTo>
                  <a:lnTo>
                    <a:pt x="62" y="37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04480" y="2333520"/>
              <a:ext cx="56880" cy="5724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17" y="34"/>
                  </a:moveTo>
                  <a:lnTo>
                    <a:pt x="10" y="33"/>
                  </a:lnTo>
                  <a:lnTo>
                    <a:pt x="5" y="28"/>
                  </a:lnTo>
                  <a:lnTo>
                    <a:pt x="2" y="23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5" y="5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8" y="5"/>
                  </a:lnTo>
                  <a:lnTo>
                    <a:pt x="32" y="11"/>
                  </a:lnTo>
                  <a:lnTo>
                    <a:pt x="33" y="18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4" y="33"/>
                  </a:lnTo>
                  <a:lnTo>
                    <a:pt x="17" y="34"/>
                  </a:lnTo>
                  <a:close/>
                </a:path>
              </a:pathLst>
            </a:custGeom>
            <a:solidFill>
              <a:srgbClr val="7fa8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08400" y="3073680"/>
              <a:ext cx="250920" cy="241560"/>
            </a:xfrm>
            <a:custGeom>
              <a:avLst/>
              <a:gdLst/>
              <a:ahLst/>
              <a:rect l="l" t="t" r="r" b="b"/>
              <a:pathLst>
                <a:path w="145" h="143">
                  <a:moveTo>
                    <a:pt x="123" y="21"/>
                  </a:moveTo>
                  <a:lnTo>
                    <a:pt x="117" y="15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0" y="6"/>
                  </a:lnTo>
                  <a:lnTo>
                    <a:pt x="93" y="3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58" y="1"/>
                  </a:lnTo>
                  <a:lnTo>
                    <a:pt x="44" y="6"/>
                  </a:lnTo>
                  <a:lnTo>
                    <a:pt x="32" y="12"/>
                  </a:lnTo>
                  <a:lnTo>
                    <a:pt x="22" y="21"/>
                  </a:lnTo>
                  <a:lnTo>
                    <a:pt x="13" y="31"/>
                  </a:lnTo>
                  <a:lnTo>
                    <a:pt x="6" y="44"/>
                  </a:lnTo>
                  <a:lnTo>
                    <a:pt x="2" y="56"/>
                  </a:lnTo>
                  <a:lnTo>
                    <a:pt x="0" y="71"/>
                  </a:lnTo>
                  <a:lnTo>
                    <a:pt x="2" y="85"/>
                  </a:lnTo>
                  <a:lnTo>
                    <a:pt x="6" y="98"/>
                  </a:lnTo>
                  <a:lnTo>
                    <a:pt x="11" y="112"/>
                  </a:lnTo>
                  <a:lnTo>
                    <a:pt x="21" y="123"/>
                  </a:lnTo>
                  <a:lnTo>
                    <a:pt x="26" y="128"/>
                  </a:lnTo>
                  <a:lnTo>
                    <a:pt x="32" y="132"/>
                  </a:lnTo>
                  <a:lnTo>
                    <a:pt x="38" y="135"/>
                  </a:lnTo>
                  <a:lnTo>
                    <a:pt x="45" y="138"/>
                  </a:lnTo>
                  <a:lnTo>
                    <a:pt x="51" y="140"/>
                  </a:lnTo>
                  <a:lnTo>
                    <a:pt x="59" y="142"/>
                  </a:lnTo>
                  <a:lnTo>
                    <a:pt x="66" y="143"/>
                  </a:lnTo>
                  <a:lnTo>
                    <a:pt x="73" y="143"/>
                  </a:lnTo>
                  <a:lnTo>
                    <a:pt x="79" y="143"/>
                  </a:lnTo>
                  <a:lnTo>
                    <a:pt x="86" y="142"/>
                  </a:lnTo>
                  <a:lnTo>
                    <a:pt x="93" y="140"/>
                  </a:lnTo>
                  <a:lnTo>
                    <a:pt x="100" y="138"/>
                  </a:lnTo>
                  <a:lnTo>
                    <a:pt x="107" y="135"/>
                  </a:lnTo>
                  <a:lnTo>
                    <a:pt x="112" y="132"/>
                  </a:lnTo>
                  <a:lnTo>
                    <a:pt x="117" y="128"/>
                  </a:lnTo>
                  <a:lnTo>
                    <a:pt x="123" y="123"/>
                  </a:lnTo>
                  <a:lnTo>
                    <a:pt x="132" y="112"/>
                  </a:lnTo>
                  <a:lnTo>
                    <a:pt x="139" y="98"/>
                  </a:lnTo>
                  <a:lnTo>
                    <a:pt x="143" y="85"/>
                  </a:lnTo>
                  <a:lnTo>
                    <a:pt x="145" y="71"/>
                  </a:lnTo>
                  <a:lnTo>
                    <a:pt x="143" y="57"/>
                  </a:lnTo>
                  <a:lnTo>
                    <a:pt x="139" y="44"/>
                  </a:lnTo>
                  <a:lnTo>
                    <a:pt x="132" y="3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4360" y="3103920"/>
              <a:ext cx="96840" cy="180720"/>
            </a:xfrm>
            <a:custGeom>
              <a:avLst/>
              <a:gdLst/>
              <a:ahLst/>
              <a:rect l="l" t="t" r="r" b="b"/>
              <a:pathLst>
                <a:path w="56" h="107">
                  <a:moveTo>
                    <a:pt x="8" y="0"/>
                  </a:moveTo>
                  <a:lnTo>
                    <a:pt x="56" y="103"/>
                  </a:lnTo>
                  <a:lnTo>
                    <a:pt x="53" y="105"/>
                  </a:lnTo>
                  <a:lnTo>
                    <a:pt x="52" y="105"/>
                  </a:lnTo>
                  <a:lnTo>
                    <a:pt x="49" y="106"/>
                  </a:lnTo>
                  <a:lnTo>
                    <a:pt x="46" y="107"/>
                  </a:lnTo>
                  <a:lnTo>
                    <a:pt x="0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32160" y="3124440"/>
              <a:ext cx="109080" cy="16740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18" y="82"/>
                  </a:moveTo>
                  <a:lnTo>
                    <a:pt x="11" y="74"/>
                  </a:lnTo>
                  <a:lnTo>
                    <a:pt x="5" y="63"/>
                  </a:lnTo>
                  <a:lnTo>
                    <a:pt x="1" y="53"/>
                  </a:lnTo>
                  <a:lnTo>
                    <a:pt x="0" y="41"/>
                  </a:lnTo>
                  <a:lnTo>
                    <a:pt x="1" y="30"/>
                  </a:lnTo>
                  <a:lnTo>
                    <a:pt x="5" y="19"/>
                  </a:lnTo>
                  <a:lnTo>
                    <a:pt x="11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3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0" y="99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8"/>
                  </a:lnTo>
                  <a:lnTo>
                    <a:pt x="41" y="97"/>
                  </a:lnTo>
                  <a:lnTo>
                    <a:pt x="37" y="94"/>
                  </a:lnTo>
                  <a:lnTo>
                    <a:pt x="31" y="93"/>
                  </a:lnTo>
                  <a:lnTo>
                    <a:pt x="26" y="89"/>
                  </a:lnTo>
                  <a:lnTo>
                    <a:pt x="22" y="86"/>
                  </a:lnTo>
                  <a:lnTo>
                    <a:pt x="18" y="82"/>
                  </a:lnTo>
                  <a:close/>
                </a:path>
              </a:pathLst>
            </a:custGeom>
            <a:solidFill>
              <a:srgbClr val="566d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24320" y="3097440"/>
              <a:ext cx="109080" cy="1670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45" y="99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42" y="12"/>
                  </a:lnTo>
                  <a:lnTo>
                    <a:pt x="46" y="16"/>
                  </a:lnTo>
                  <a:lnTo>
                    <a:pt x="53" y="26"/>
                  </a:lnTo>
                  <a:lnTo>
                    <a:pt x="59" y="35"/>
                  </a:lnTo>
                  <a:lnTo>
                    <a:pt x="61" y="46"/>
                  </a:lnTo>
                  <a:lnTo>
                    <a:pt x="63" y="57"/>
                  </a:lnTo>
                  <a:lnTo>
                    <a:pt x="61" y="69"/>
                  </a:lnTo>
                  <a:lnTo>
                    <a:pt x="59" y="80"/>
                  </a:lnTo>
                  <a:lnTo>
                    <a:pt x="52" y="90"/>
                  </a:lnTo>
                  <a:lnTo>
                    <a:pt x="45" y="99"/>
                  </a:lnTo>
                  <a:close/>
                </a:path>
              </a:pathLst>
            </a:custGeom>
            <a:solidFill>
              <a:srgbClr val="566d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25040" y="1652040"/>
              <a:ext cx="254520" cy="542520"/>
            </a:xfrm>
            <a:custGeom>
              <a:avLst/>
              <a:gdLst/>
              <a:ahLst/>
              <a:rect l="l" t="t" r="r" b="b"/>
              <a:pathLst>
                <a:path w="147" h="321">
                  <a:moveTo>
                    <a:pt x="62" y="321"/>
                  </a:moveTo>
                  <a:lnTo>
                    <a:pt x="62" y="291"/>
                  </a:lnTo>
                  <a:lnTo>
                    <a:pt x="74" y="287"/>
                  </a:lnTo>
                  <a:lnTo>
                    <a:pt x="85" y="282"/>
                  </a:lnTo>
                  <a:lnTo>
                    <a:pt x="93" y="271"/>
                  </a:lnTo>
                  <a:lnTo>
                    <a:pt x="97" y="257"/>
                  </a:lnTo>
                  <a:lnTo>
                    <a:pt x="98" y="250"/>
                  </a:lnTo>
                  <a:lnTo>
                    <a:pt x="98" y="244"/>
                  </a:lnTo>
                  <a:lnTo>
                    <a:pt x="98" y="237"/>
                  </a:lnTo>
                  <a:lnTo>
                    <a:pt x="97" y="230"/>
                  </a:lnTo>
                  <a:lnTo>
                    <a:pt x="97" y="219"/>
                  </a:lnTo>
                  <a:lnTo>
                    <a:pt x="98" y="211"/>
                  </a:lnTo>
                  <a:lnTo>
                    <a:pt x="100" y="204"/>
                  </a:lnTo>
                  <a:lnTo>
                    <a:pt x="104" y="200"/>
                  </a:lnTo>
                  <a:lnTo>
                    <a:pt x="106" y="197"/>
                  </a:lnTo>
                  <a:lnTo>
                    <a:pt x="111" y="196"/>
                  </a:lnTo>
                  <a:lnTo>
                    <a:pt x="115" y="195"/>
                  </a:lnTo>
                  <a:lnTo>
                    <a:pt x="119" y="193"/>
                  </a:lnTo>
                  <a:lnTo>
                    <a:pt x="128" y="189"/>
                  </a:lnTo>
                  <a:lnTo>
                    <a:pt x="138" y="184"/>
                  </a:lnTo>
                  <a:lnTo>
                    <a:pt x="145" y="174"/>
                  </a:lnTo>
                  <a:lnTo>
                    <a:pt x="147" y="158"/>
                  </a:lnTo>
                  <a:lnTo>
                    <a:pt x="145" y="142"/>
                  </a:lnTo>
                  <a:lnTo>
                    <a:pt x="138" y="132"/>
                  </a:lnTo>
                  <a:lnTo>
                    <a:pt x="128" y="127"/>
                  </a:lnTo>
                  <a:lnTo>
                    <a:pt x="119" y="122"/>
                  </a:lnTo>
                  <a:lnTo>
                    <a:pt x="115" y="121"/>
                  </a:lnTo>
                  <a:lnTo>
                    <a:pt x="111" y="120"/>
                  </a:lnTo>
                  <a:lnTo>
                    <a:pt x="106" y="118"/>
                  </a:lnTo>
                  <a:lnTo>
                    <a:pt x="104" y="116"/>
                  </a:lnTo>
                  <a:lnTo>
                    <a:pt x="100" y="112"/>
                  </a:lnTo>
                  <a:lnTo>
                    <a:pt x="98" y="105"/>
                  </a:lnTo>
                  <a:lnTo>
                    <a:pt x="97" y="97"/>
                  </a:lnTo>
                  <a:lnTo>
                    <a:pt x="97" y="86"/>
                  </a:lnTo>
                  <a:lnTo>
                    <a:pt x="98" y="79"/>
                  </a:lnTo>
                  <a:lnTo>
                    <a:pt x="98" y="72"/>
                  </a:lnTo>
                  <a:lnTo>
                    <a:pt x="98" y="65"/>
                  </a:lnTo>
                  <a:lnTo>
                    <a:pt x="97" y="58"/>
                  </a:lnTo>
                  <a:lnTo>
                    <a:pt x="93" y="45"/>
                  </a:lnTo>
                  <a:lnTo>
                    <a:pt x="85" y="34"/>
                  </a:lnTo>
                  <a:lnTo>
                    <a:pt x="74" y="27"/>
                  </a:lnTo>
                  <a:lnTo>
                    <a:pt x="62" y="24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321"/>
                  </a:lnTo>
                  <a:lnTo>
                    <a:pt x="62" y="3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44120" y="1675800"/>
              <a:ext cx="61920" cy="493560"/>
            </a:xfrm>
            <a:prstGeom prst="rect">
              <a:avLst/>
            </a:pr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82720" y="1892520"/>
              <a:ext cx="26280" cy="316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5" y="1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4"/>
                  </a:lnTo>
                  <a:lnTo>
                    <a:pt x="14" y="9"/>
                  </a:lnTo>
                  <a:lnTo>
                    <a:pt x="15" y="14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56440" y="1902240"/>
              <a:ext cx="34920" cy="388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3" y="0"/>
                  </a:moveTo>
                  <a:lnTo>
                    <a:pt x="20" y="2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0" y="22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32680" y="1717920"/>
              <a:ext cx="120960" cy="400680"/>
            </a:xfrm>
            <a:custGeom>
              <a:avLst/>
              <a:gdLst/>
              <a:ahLst/>
              <a:rect l="l" t="t" r="r" b="b"/>
              <a:pathLst>
                <a:path w="70" h="237">
                  <a:moveTo>
                    <a:pt x="21" y="21"/>
                  </a:moveTo>
                  <a:lnTo>
                    <a:pt x="21" y="26"/>
                  </a:lnTo>
                  <a:lnTo>
                    <a:pt x="21" y="33"/>
                  </a:lnTo>
                  <a:lnTo>
                    <a:pt x="21" y="39"/>
                  </a:lnTo>
                  <a:lnTo>
                    <a:pt x="21" y="45"/>
                  </a:lnTo>
                  <a:lnTo>
                    <a:pt x="20" y="58"/>
                  </a:lnTo>
                  <a:lnTo>
                    <a:pt x="21" y="70"/>
                  </a:lnTo>
                  <a:lnTo>
                    <a:pt x="25" y="79"/>
                  </a:lnTo>
                  <a:lnTo>
                    <a:pt x="34" y="89"/>
                  </a:lnTo>
                  <a:lnTo>
                    <a:pt x="32" y="89"/>
                  </a:lnTo>
                  <a:lnTo>
                    <a:pt x="32" y="88"/>
                  </a:lnTo>
                  <a:lnTo>
                    <a:pt x="31" y="88"/>
                  </a:lnTo>
                  <a:lnTo>
                    <a:pt x="29" y="88"/>
                  </a:lnTo>
                  <a:lnTo>
                    <a:pt x="19" y="90"/>
                  </a:lnTo>
                  <a:lnTo>
                    <a:pt x="9" y="96"/>
                  </a:lnTo>
                  <a:lnTo>
                    <a:pt x="4" y="105"/>
                  </a:lnTo>
                  <a:lnTo>
                    <a:pt x="1" y="117"/>
                  </a:lnTo>
                  <a:lnTo>
                    <a:pt x="1" y="123"/>
                  </a:lnTo>
                  <a:lnTo>
                    <a:pt x="4" y="128"/>
                  </a:lnTo>
                  <a:lnTo>
                    <a:pt x="5" y="134"/>
                  </a:lnTo>
                  <a:lnTo>
                    <a:pt x="9" y="138"/>
                  </a:lnTo>
                  <a:lnTo>
                    <a:pt x="13" y="142"/>
                  </a:lnTo>
                  <a:lnTo>
                    <a:pt x="19" y="143"/>
                  </a:lnTo>
                  <a:lnTo>
                    <a:pt x="24" y="146"/>
                  </a:lnTo>
                  <a:lnTo>
                    <a:pt x="29" y="146"/>
                  </a:lnTo>
                  <a:lnTo>
                    <a:pt x="35" y="146"/>
                  </a:lnTo>
                  <a:lnTo>
                    <a:pt x="40" y="143"/>
                  </a:lnTo>
                  <a:lnTo>
                    <a:pt x="46" y="142"/>
                  </a:lnTo>
                  <a:lnTo>
                    <a:pt x="50" y="138"/>
                  </a:lnTo>
                  <a:lnTo>
                    <a:pt x="54" y="134"/>
                  </a:lnTo>
                  <a:lnTo>
                    <a:pt x="57" y="128"/>
                  </a:lnTo>
                  <a:lnTo>
                    <a:pt x="59" y="123"/>
                  </a:lnTo>
                  <a:lnTo>
                    <a:pt x="59" y="117"/>
                  </a:lnTo>
                  <a:lnTo>
                    <a:pt x="59" y="112"/>
                  </a:lnTo>
                  <a:lnTo>
                    <a:pt x="58" y="107"/>
                  </a:lnTo>
                  <a:lnTo>
                    <a:pt x="55" y="101"/>
                  </a:lnTo>
                  <a:lnTo>
                    <a:pt x="51" y="97"/>
                  </a:lnTo>
                  <a:lnTo>
                    <a:pt x="59" y="100"/>
                  </a:lnTo>
                  <a:lnTo>
                    <a:pt x="65" y="104"/>
                  </a:lnTo>
                  <a:lnTo>
                    <a:pt x="69" y="109"/>
                  </a:lnTo>
                  <a:lnTo>
                    <a:pt x="70" y="119"/>
                  </a:lnTo>
                  <a:lnTo>
                    <a:pt x="69" y="128"/>
                  </a:lnTo>
                  <a:lnTo>
                    <a:pt x="66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7" y="142"/>
                  </a:lnTo>
                  <a:lnTo>
                    <a:pt x="43" y="143"/>
                  </a:lnTo>
                  <a:lnTo>
                    <a:pt x="38" y="146"/>
                  </a:lnTo>
                  <a:lnTo>
                    <a:pt x="34" y="149"/>
                  </a:lnTo>
                  <a:lnTo>
                    <a:pt x="25" y="158"/>
                  </a:lnTo>
                  <a:lnTo>
                    <a:pt x="21" y="168"/>
                  </a:lnTo>
                  <a:lnTo>
                    <a:pt x="20" y="180"/>
                  </a:lnTo>
                  <a:lnTo>
                    <a:pt x="21" y="192"/>
                  </a:lnTo>
                  <a:lnTo>
                    <a:pt x="21" y="198"/>
                  </a:lnTo>
                  <a:lnTo>
                    <a:pt x="21" y="205"/>
                  </a:lnTo>
                  <a:lnTo>
                    <a:pt x="21" y="210"/>
                  </a:lnTo>
                  <a:lnTo>
                    <a:pt x="21" y="217"/>
                  </a:lnTo>
                  <a:lnTo>
                    <a:pt x="19" y="225"/>
                  </a:lnTo>
                  <a:lnTo>
                    <a:pt x="13" y="232"/>
                  </a:lnTo>
                  <a:lnTo>
                    <a:pt x="6" y="236"/>
                  </a:lnTo>
                  <a:lnTo>
                    <a:pt x="0" y="237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6"/>
                  </a:lnTo>
                  <a:lnTo>
                    <a:pt x="19" y="13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a3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 txBox="1"/>
          <p:nvPr/>
        </p:nvSpPr>
        <p:spPr>
          <a:xfrm>
            <a:off x="1147680" y="2063880"/>
            <a:ext cx="6859800" cy="31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termining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Quadrant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438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coordinates of a given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points in the coordinate pla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0760" y="673200"/>
            <a:ext cx="43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109960" y="1562040"/>
            <a:ext cx="4647960" cy="4267080"/>
            <a:chOff x="2109960" y="1562040"/>
            <a:chExt cx="4647960" cy="4267080"/>
          </a:xfrm>
        </p:grpSpPr>
        <p:sp>
          <p:nvSpPr>
            <p:cNvPr id="627" name=""/>
            <p:cNvSpPr/>
            <p:nvPr/>
          </p:nvSpPr>
          <p:spPr>
            <a:xfrm>
              <a:off x="4395960" y="1562040"/>
              <a:ext cx="0" cy="42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09960" y="3543120"/>
              <a:ext cx="46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71120" y="1457280"/>
            <a:ext cx="24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Quad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134040" y="1384200"/>
            <a:ext cx="2392560" cy="214812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5065560" y="2486160"/>
            <a:ext cx="951120" cy="919800"/>
            <a:chOff x="5065560" y="2486160"/>
            <a:chExt cx="951120" cy="919800"/>
          </a:xfrm>
        </p:grpSpPr>
        <p:sp>
          <p:nvSpPr>
            <p:cNvPr id="632" name=""/>
            <p:cNvSpPr/>
            <p:nvPr/>
          </p:nvSpPr>
          <p:spPr>
            <a:xfrm>
              <a:off x="5427720" y="2486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65560" y="294624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8640" y="4564080"/>
            <a:ext cx="1276560" cy="905760"/>
            <a:chOff x="2798640" y="4564080"/>
            <a:chExt cx="1276560" cy="905760"/>
          </a:xfrm>
        </p:grpSpPr>
        <p:sp>
          <p:nvSpPr>
            <p:cNvPr id="635" name=""/>
            <p:cNvSpPr/>
            <p:nvPr/>
          </p:nvSpPr>
          <p:spPr>
            <a:xfrm>
              <a:off x="3106800" y="45640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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98640" y="5010120"/>
              <a:ext cx="12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52720" y="2490840"/>
            <a:ext cx="968400" cy="910440"/>
            <a:chOff x="2952720" y="2490840"/>
            <a:chExt cx="968400" cy="910440"/>
          </a:xfrm>
        </p:grpSpPr>
        <p:sp>
          <p:nvSpPr>
            <p:cNvPr id="638" name=""/>
            <p:cNvSpPr/>
            <p:nvPr/>
          </p:nvSpPr>
          <p:spPr>
            <a:xfrm>
              <a:off x="3197160" y="24908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52720" y="294156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950000" y="4557600"/>
            <a:ext cx="1184040" cy="918360"/>
            <a:chOff x="4950000" y="4557600"/>
            <a:chExt cx="1184040" cy="918360"/>
          </a:xfrm>
        </p:grpSpPr>
        <p:sp>
          <p:nvSpPr>
            <p:cNvPr id="642" name=""/>
            <p:cNvSpPr/>
            <p:nvPr/>
          </p:nvSpPr>
          <p:spPr>
            <a:xfrm>
              <a:off x="5195520" y="4557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50000" y="5016240"/>
              <a:ext cx="118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5317920" y="4587840"/>
              <a:ext cx="55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626400" y="5829480"/>
            <a:ext cx="78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Quadrants numbered counter-clock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16160" y="319572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86960" y="116208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920480" y="2004840"/>
            <a:ext cx="14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 (5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17240" y="254160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 (-5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2360" y="30686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 (-5,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919760" y="361152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 (5,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16160" y="41450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  (5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02760" y="200484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39120" y="253224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35880" y="306864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35880" y="361152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15200" y="4145040"/>
            <a:ext cx="225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 is not in a quadrant, it i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03280" y="1724040"/>
            <a:ext cx="4348080" cy="4014720"/>
            <a:chOff x="503280" y="1724040"/>
            <a:chExt cx="4348080" cy="4014720"/>
          </a:xfrm>
        </p:grpSpPr>
        <p:sp>
          <p:nvSpPr>
            <p:cNvPr id="659" name=""/>
            <p:cNvSpPr/>
            <p:nvPr/>
          </p:nvSpPr>
          <p:spPr>
            <a:xfrm>
              <a:off x="2641680" y="1724040"/>
              <a:ext cx="0" cy="401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3280" y="3587760"/>
              <a:ext cx="434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352680" y="2208240"/>
            <a:ext cx="951120" cy="920160"/>
            <a:chOff x="3352680" y="2208240"/>
            <a:chExt cx="951120" cy="920160"/>
          </a:xfrm>
        </p:grpSpPr>
        <p:sp>
          <p:nvSpPr>
            <p:cNvPr id="662" name=""/>
            <p:cNvSpPr/>
            <p:nvPr/>
          </p:nvSpPr>
          <p:spPr>
            <a:xfrm>
              <a:off x="3714840" y="2208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52680" y="266868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092240" y="4317840"/>
            <a:ext cx="1276200" cy="905760"/>
            <a:chOff x="1092240" y="4317840"/>
            <a:chExt cx="1276200" cy="905760"/>
          </a:xfrm>
        </p:grpSpPr>
        <p:sp>
          <p:nvSpPr>
            <p:cNvPr id="665" name=""/>
            <p:cNvSpPr/>
            <p:nvPr/>
          </p:nvSpPr>
          <p:spPr>
            <a:xfrm>
              <a:off x="1399680" y="431784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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92240" y="4763880"/>
              <a:ext cx="127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246320" y="2212920"/>
            <a:ext cx="968400" cy="910440"/>
            <a:chOff x="1246320" y="2212920"/>
            <a:chExt cx="968400" cy="910440"/>
          </a:xfrm>
        </p:grpSpPr>
        <p:sp>
          <p:nvSpPr>
            <p:cNvPr id="668" name=""/>
            <p:cNvSpPr/>
            <p:nvPr/>
          </p:nvSpPr>
          <p:spPr>
            <a:xfrm>
              <a:off x="1490760" y="2212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46320" y="2663640"/>
              <a:ext cx="96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W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3236760" y="4313160"/>
            <a:ext cx="1184400" cy="918360"/>
            <a:chOff x="3236760" y="4313160"/>
            <a:chExt cx="1184400" cy="918360"/>
          </a:xfrm>
        </p:grpSpPr>
        <p:sp>
          <p:nvSpPr>
            <p:cNvPr id="672" name=""/>
            <p:cNvSpPr/>
            <p:nvPr/>
          </p:nvSpPr>
          <p:spPr>
            <a:xfrm>
              <a:off x="3483000" y="431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36760" y="4771800"/>
              <a:ext cx="11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605040" y="4343400"/>
              <a:ext cx="55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62960" y="142236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+,+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09160" y="1411200"/>
            <a:ext cx="10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-,+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055880" y="53989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-,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95360" y="5429160"/>
            <a:ext cx="10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+,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727200" y="1447920"/>
            <a:ext cx="767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etermine the quadrant for a given coordinate or point, consider the signs of the number in the ordered pa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16120" y="330192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+,+) = Quadra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55720" y="389880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-,+) = Quadran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55720" y="449568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-,-) = Quadran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55720" y="5092560"/>
            <a:ext cx="43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(+,-) = Quadrant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27200" y="1447920"/>
            <a:ext cx="767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etermine the quadrant for a given coordinate or point, consider the signs of the number in the ordered pa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3840" y="322596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(0,y) = no quadrant – point on y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3840" y="3822840"/>
            <a:ext cx="81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(x,0) = no quadrant – point on x-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986480" y="332892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0,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92240" y="392904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10,-2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85040" y="452772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-10,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92240" y="5129280"/>
            <a:ext cx="22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200,-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44080" y="5722920"/>
            <a:ext cx="24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-40,-5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673160" y="332892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adran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05560" y="392904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adrant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705560" y="452916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adran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05560" y="512928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adrant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705560" y="572436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adrant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564000" y="1249200"/>
            <a:ext cx="1942920" cy="21607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533680" y="673200"/>
            <a:ext cx="408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Quad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80880" y="1202760"/>
            <a:ext cx="2289240" cy="1361880"/>
            <a:chOff x="380880" y="1202760"/>
            <a:chExt cx="2289240" cy="1361880"/>
          </a:xfrm>
        </p:grpSpPr>
        <p:sp>
          <p:nvSpPr>
            <p:cNvPr id="702" name=""/>
            <p:cNvSpPr/>
            <p:nvPr/>
          </p:nvSpPr>
          <p:spPr>
            <a:xfrm rot="20897400">
              <a:off x="418680" y="1476000"/>
              <a:ext cx="205740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897400">
              <a:off x="454680" y="1409760"/>
              <a:ext cx="214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775560" y="1428840"/>
            <a:ext cx="1918800" cy="1657440"/>
            <a:chOff x="6775560" y="1428840"/>
            <a:chExt cx="1918800" cy="1657440"/>
          </a:xfrm>
        </p:grpSpPr>
        <p:sp>
          <p:nvSpPr>
            <p:cNvPr id="705" name=""/>
            <p:cNvSpPr/>
            <p:nvPr/>
          </p:nvSpPr>
          <p:spPr>
            <a:xfrm>
              <a:off x="7743600" y="1428840"/>
              <a:ext cx="0" cy="16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815160" y="2174760"/>
              <a:ext cx="1764720" cy="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7724880" y="1517760"/>
              <a:ext cx="950400" cy="611280"/>
              <a:chOff x="7724880" y="1517760"/>
              <a:chExt cx="950400" cy="611280"/>
            </a:xfrm>
          </p:grpSpPr>
          <p:sp>
            <p:nvSpPr>
              <p:cNvPr id="708" name=""/>
              <p:cNvSpPr/>
              <p:nvPr/>
            </p:nvSpPr>
            <p:spPr>
              <a:xfrm>
                <a:off x="8086320" y="151776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724880" y="1760760"/>
                <a:ext cx="95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775560" y="2174760"/>
              <a:ext cx="968040" cy="596880"/>
              <a:chOff x="6775560" y="2174760"/>
              <a:chExt cx="968040" cy="596880"/>
            </a:xfrm>
          </p:grpSpPr>
          <p:sp>
            <p:nvSpPr>
              <p:cNvPr id="711" name=""/>
              <p:cNvSpPr/>
              <p:nvPr/>
            </p:nvSpPr>
            <p:spPr>
              <a:xfrm>
                <a:off x="7083000" y="21747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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775560" y="2403360"/>
                <a:ext cx="96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HR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7003800" y="1536840"/>
              <a:ext cx="968040" cy="601920"/>
              <a:chOff x="7003800" y="1536840"/>
              <a:chExt cx="968040" cy="601920"/>
            </a:xfrm>
          </p:grpSpPr>
          <p:sp>
            <p:nvSpPr>
              <p:cNvPr id="714" name=""/>
              <p:cNvSpPr/>
              <p:nvPr/>
            </p:nvSpPr>
            <p:spPr>
              <a:xfrm>
                <a:off x="7247880" y="153684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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03800" y="1770480"/>
                <a:ext cx="96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W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7772400" y="2201760"/>
              <a:ext cx="921960" cy="601560"/>
              <a:chOff x="7772400" y="2201760"/>
              <a:chExt cx="921960" cy="601560"/>
            </a:xfrm>
          </p:grpSpPr>
          <p:sp>
            <p:nvSpPr>
              <p:cNvPr id="717" name=""/>
              <p:cNvSpPr/>
              <p:nvPr/>
            </p:nvSpPr>
            <p:spPr>
              <a:xfrm>
                <a:off x="7789320" y="2201760"/>
                <a:ext cx="49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772400" y="2435040"/>
                <a:ext cx="92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O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"/>
          <p:cNvGrpSpPr/>
          <p:nvPr/>
        </p:nvGrpSpPr>
        <p:grpSpPr>
          <a:xfrm>
            <a:off x="2554200" y="1765440"/>
            <a:ext cx="4492440" cy="4518000"/>
            <a:chOff x="2554200" y="1765440"/>
            <a:chExt cx="4492440" cy="4518000"/>
          </a:xfrm>
        </p:grpSpPr>
        <p:sp>
          <p:nvSpPr>
            <p:cNvPr id="720" name=""/>
            <p:cNvSpPr/>
            <p:nvPr/>
          </p:nvSpPr>
          <p:spPr>
            <a:xfrm>
              <a:off x="2663640" y="1892520"/>
              <a:ext cx="4251240" cy="4270320"/>
            </a:xfrm>
            <a:custGeom>
              <a:avLst/>
              <a:gdLst/>
              <a:ahLst/>
              <a:rect l="l" t="t" r="r" b="b"/>
              <a:pathLst>
                <a:path w="2678" h="2690">
                  <a:moveTo>
                    <a:pt x="3" y="0"/>
                  </a:moveTo>
                  <a:lnTo>
                    <a:pt x="2678" y="19"/>
                  </a:lnTo>
                  <a:lnTo>
                    <a:pt x="2666" y="2690"/>
                  </a:lnTo>
                  <a:lnTo>
                    <a:pt x="0" y="268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65440" y="2978280"/>
              <a:ext cx="3647880" cy="649080"/>
            </a:xfrm>
            <a:custGeom>
              <a:avLst/>
              <a:gdLst/>
              <a:ahLst/>
              <a:rect l="l" t="t" r="r" b="b"/>
              <a:pathLst>
                <a:path w="2298" h="409">
                  <a:moveTo>
                    <a:pt x="9" y="29"/>
                  </a:moveTo>
                  <a:lnTo>
                    <a:pt x="256" y="19"/>
                  </a:lnTo>
                  <a:lnTo>
                    <a:pt x="421" y="10"/>
                  </a:lnTo>
                  <a:lnTo>
                    <a:pt x="617" y="0"/>
                  </a:lnTo>
                  <a:lnTo>
                    <a:pt x="1388" y="58"/>
                  </a:lnTo>
                  <a:lnTo>
                    <a:pt x="1576" y="80"/>
                  </a:lnTo>
                  <a:lnTo>
                    <a:pt x="1682" y="91"/>
                  </a:lnTo>
                  <a:lnTo>
                    <a:pt x="1822" y="162"/>
                  </a:lnTo>
                  <a:lnTo>
                    <a:pt x="1982" y="176"/>
                  </a:lnTo>
                  <a:lnTo>
                    <a:pt x="2298" y="247"/>
                  </a:lnTo>
                  <a:lnTo>
                    <a:pt x="1882" y="247"/>
                  </a:lnTo>
                  <a:lnTo>
                    <a:pt x="1293" y="233"/>
                  </a:lnTo>
                  <a:lnTo>
                    <a:pt x="1005" y="275"/>
                  </a:lnTo>
                  <a:lnTo>
                    <a:pt x="786" y="275"/>
                  </a:lnTo>
                  <a:lnTo>
                    <a:pt x="0" y="409"/>
                  </a:lnTo>
                  <a:lnTo>
                    <a:pt x="9" y="29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33ad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87400" y="2978280"/>
              <a:ext cx="957240" cy="144360"/>
            </a:xfrm>
            <a:custGeom>
              <a:avLst/>
              <a:gdLst/>
              <a:ahLst/>
              <a:rect l="l" t="t" r="r" b="b"/>
              <a:pathLst>
                <a:path w="603" h="91">
                  <a:moveTo>
                    <a:pt x="125" y="16"/>
                  </a:moveTo>
                  <a:lnTo>
                    <a:pt x="377" y="1"/>
                  </a:lnTo>
                  <a:lnTo>
                    <a:pt x="603" y="0"/>
                  </a:lnTo>
                  <a:lnTo>
                    <a:pt x="494" y="68"/>
                  </a:lnTo>
                  <a:lnTo>
                    <a:pt x="286" y="36"/>
                  </a:lnTo>
                  <a:lnTo>
                    <a:pt x="188" y="57"/>
                  </a:lnTo>
                  <a:lnTo>
                    <a:pt x="237" y="91"/>
                  </a:lnTo>
                  <a:lnTo>
                    <a:pt x="95" y="72"/>
                  </a:lnTo>
                  <a:lnTo>
                    <a:pt x="36" y="78"/>
                  </a:lnTo>
                  <a:lnTo>
                    <a:pt x="0" y="16"/>
                  </a:lnTo>
                  <a:lnTo>
                    <a:pt x="125" y="16"/>
                  </a:lnTo>
                  <a:lnTo>
                    <a:pt x="125" y="16"/>
                  </a:lnTo>
                  <a:close/>
                </a:path>
              </a:pathLst>
            </a:custGeom>
            <a:solidFill>
              <a:srgbClr val="92e5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11760" y="3070440"/>
              <a:ext cx="580680" cy="107640"/>
            </a:xfrm>
            <a:custGeom>
              <a:avLst/>
              <a:gdLst/>
              <a:ahLst/>
              <a:rect l="l" t="t" r="r" b="b"/>
              <a:pathLst>
                <a:path w="366" h="68">
                  <a:moveTo>
                    <a:pt x="55" y="0"/>
                  </a:moveTo>
                  <a:lnTo>
                    <a:pt x="309" y="29"/>
                  </a:lnTo>
                  <a:lnTo>
                    <a:pt x="366" y="53"/>
                  </a:lnTo>
                  <a:lnTo>
                    <a:pt x="275" y="53"/>
                  </a:lnTo>
                  <a:lnTo>
                    <a:pt x="179" y="68"/>
                  </a:lnTo>
                  <a:lnTo>
                    <a:pt x="0" y="3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2e5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483160" y="3233880"/>
              <a:ext cx="739800" cy="125280"/>
            </a:xfrm>
            <a:custGeom>
              <a:avLst/>
              <a:gdLst/>
              <a:ahLst/>
              <a:rect l="l" t="t" r="r" b="b"/>
              <a:pathLst>
                <a:path w="466" h="79">
                  <a:moveTo>
                    <a:pt x="0" y="24"/>
                  </a:moveTo>
                  <a:lnTo>
                    <a:pt x="60" y="0"/>
                  </a:lnTo>
                  <a:lnTo>
                    <a:pt x="191" y="9"/>
                  </a:lnTo>
                  <a:lnTo>
                    <a:pt x="466" y="75"/>
                  </a:lnTo>
                  <a:lnTo>
                    <a:pt x="331" y="79"/>
                  </a:lnTo>
                  <a:lnTo>
                    <a:pt x="102" y="35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92e5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55960" y="2955960"/>
              <a:ext cx="1942920" cy="625680"/>
            </a:xfrm>
            <a:custGeom>
              <a:avLst/>
              <a:gdLst/>
              <a:ahLst/>
              <a:rect l="l" t="t" r="r" b="b"/>
              <a:pathLst>
                <a:path w="1224" h="394">
                  <a:moveTo>
                    <a:pt x="538" y="0"/>
                  </a:moveTo>
                  <a:lnTo>
                    <a:pt x="434" y="14"/>
                  </a:lnTo>
                  <a:lnTo>
                    <a:pt x="252" y="110"/>
                  </a:lnTo>
                  <a:lnTo>
                    <a:pt x="106" y="223"/>
                  </a:lnTo>
                  <a:lnTo>
                    <a:pt x="0" y="394"/>
                  </a:lnTo>
                  <a:lnTo>
                    <a:pt x="429" y="308"/>
                  </a:lnTo>
                  <a:lnTo>
                    <a:pt x="671" y="289"/>
                  </a:lnTo>
                  <a:lnTo>
                    <a:pt x="1091" y="257"/>
                  </a:lnTo>
                  <a:lnTo>
                    <a:pt x="1169" y="110"/>
                  </a:lnTo>
                  <a:lnTo>
                    <a:pt x="1224" y="72"/>
                  </a:lnTo>
                  <a:lnTo>
                    <a:pt x="1051" y="38"/>
                  </a:lnTo>
                  <a:lnTo>
                    <a:pt x="771" y="28"/>
                  </a:lnTo>
                  <a:lnTo>
                    <a:pt x="538" y="0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66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71840" y="2948040"/>
              <a:ext cx="1427040" cy="174600"/>
            </a:xfrm>
            <a:custGeom>
              <a:avLst/>
              <a:gdLst/>
              <a:ahLst/>
              <a:rect l="l" t="t" r="r" b="b"/>
              <a:pathLst>
                <a:path w="899" h="110">
                  <a:moveTo>
                    <a:pt x="96" y="20"/>
                  </a:moveTo>
                  <a:lnTo>
                    <a:pt x="179" y="0"/>
                  </a:lnTo>
                  <a:lnTo>
                    <a:pt x="308" y="13"/>
                  </a:lnTo>
                  <a:lnTo>
                    <a:pt x="499" y="32"/>
                  </a:lnTo>
                  <a:lnTo>
                    <a:pt x="726" y="43"/>
                  </a:lnTo>
                  <a:lnTo>
                    <a:pt x="899" y="77"/>
                  </a:lnTo>
                  <a:lnTo>
                    <a:pt x="860" y="110"/>
                  </a:lnTo>
                  <a:lnTo>
                    <a:pt x="766" y="76"/>
                  </a:lnTo>
                  <a:lnTo>
                    <a:pt x="586" y="91"/>
                  </a:lnTo>
                  <a:lnTo>
                    <a:pt x="424" y="106"/>
                  </a:lnTo>
                  <a:lnTo>
                    <a:pt x="353" y="59"/>
                  </a:lnTo>
                  <a:lnTo>
                    <a:pt x="138" y="106"/>
                  </a:lnTo>
                  <a:lnTo>
                    <a:pt x="0" y="87"/>
                  </a:lnTo>
                  <a:lnTo>
                    <a:pt x="96" y="20"/>
                  </a:lnTo>
                  <a:lnTo>
                    <a:pt x="96" y="20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36720" y="2722680"/>
              <a:ext cx="3264120" cy="745920"/>
            </a:xfrm>
            <a:custGeom>
              <a:avLst/>
              <a:gdLst/>
              <a:ahLst/>
              <a:rect l="l" t="t" r="r" b="b"/>
              <a:pathLst>
                <a:path w="2056" h="470">
                  <a:moveTo>
                    <a:pt x="78" y="91"/>
                  </a:moveTo>
                  <a:lnTo>
                    <a:pt x="356" y="62"/>
                  </a:lnTo>
                  <a:lnTo>
                    <a:pt x="599" y="57"/>
                  </a:lnTo>
                  <a:lnTo>
                    <a:pt x="754" y="14"/>
                  </a:lnTo>
                  <a:lnTo>
                    <a:pt x="927" y="0"/>
                  </a:lnTo>
                  <a:lnTo>
                    <a:pt x="1005" y="62"/>
                  </a:lnTo>
                  <a:lnTo>
                    <a:pt x="1507" y="29"/>
                  </a:lnTo>
                  <a:lnTo>
                    <a:pt x="1612" y="38"/>
                  </a:lnTo>
                  <a:lnTo>
                    <a:pt x="1841" y="52"/>
                  </a:lnTo>
                  <a:lnTo>
                    <a:pt x="1982" y="33"/>
                  </a:lnTo>
                  <a:lnTo>
                    <a:pt x="2056" y="24"/>
                  </a:lnTo>
                  <a:lnTo>
                    <a:pt x="2046" y="470"/>
                  </a:lnTo>
                  <a:lnTo>
                    <a:pt x="1827" y="441"/>
                  </a:lnTo>
                  <a:lnTo>
                    <a:pt x="1525" y="318"/>
                  </a:lnTo>
                  <a:lnTo>
                    <a:pt x="1146" y="233"/>
                  </a:lnTo>
                  <a:lnTo>
                    <a:pt x="945" y="219"/>
                  </a:lnTo>
                  <a:lnTo>
                    <a:pt x="649" y="166"/>
                  </a:lnTo>
                  <a:lnTo>
                    <a:pt x="370" y="152"/>
                  </a:lnTo>
                  <a:lnTo>
                    <a:pt x="165" y="128"/>
                  </a:lnTo>
                  <a:lnTo>
                    <a:pt x="0" y="113"/>
                  </a:lnTo>
                  <a:lnTo>
                    <a:pt x="78" y="91"/>
                  </a:lnTo>
                  <a:lnTo>
                    <a:pt x="78" y="91"/>
                  </a:lnTo>
                  <a:close/>
                </a:path>
              </a:pathLst>
            </a:custGeom>
            <a:solidFill>
              <a:srgbClr val="8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79600" y="2833920"/>
              <a:ext cx="2713320" cy="606240"/>
            </a:xfrm>
            <a:custGeom>
              <a:avLst/>
              <a:gdLst/>
              <a:ahLst/>
              <a:rect l="l" t="t" r="r" b="b"/>
              <a:pathLst>
                <a:path w="1709" h="382">
                  <a:moveTo>
                    <a:pt x="64" y="63"/>
                  </a:moveTo>
                  <a:lnTo>
                    <a:pt x="207" y="15"/>
                  </a:lnTo>
                  <a:lnTo>
                    <a:pt x="316" y="21"/>
                  </a:lnTo>
                  <a:lnTo>
                    <a:pt x="535" y="72"/>
                  </a:lnTo>
                  <a:lnTo>
                    <a:pt x="540" y="39"/>
                  </a:lnTo>
                  <a:lnTo>
                    <a:pt x="631" y="15"/>
                  </a:lnTo>
                  <a:lnTo>
                    <a:pt x="667" y="21"/>
                  </a:lnTo>
                  <a:lnTo>
                    <a:pt x="1243" y="58"/>
                  </a:lnTo>
                  <a:lnTo>
                    <a:pt x="1412" y="82"/>
                  </a:lnTo>
                  <a:lnTo>
                    <a:pt x="1521" y="105"/>
                  </a:lnTo>
                  <a:lnTo>
                    <a:pt x="1627" y="82"/>
                  </a:lnTo>
                  <a:lnTo>
                    <a:pt x="1530" y="48"/>
                  </a:lnTo>
                  <a:lnTo>
                    <a:pt x="1640" y="21"/>
                  </a:lnTo>
                  <a:lnTo>
                    <a:pt x="1709" y="0"/>
                  </a:lnTo>
                  <a:lnTo>
                    <a:pt x="1704" y="382"/>
                  </a:lnTo>
                  <a:lnTo>
                    <a:pt x="1586" y="382"/>
                  </a:lnTo>
                  <a:lnTo>
                    <a:pt x="1225" y="286"/>
                  </a:lnTo>
                  <a:lnTo>
                    <a:pt x="882" y="163"/>
                  </a:lnTo>
                  <a:lnTo>
                    <a:pt x="577" y="144"/>
                  </a:lnTo>
                  <a:lnTo>
                    <a:pt x="243" y="86"/>
                  </a:lnTo>
                  <a:lnTo>
                    <a:pt x="0" y="72"/>
                  </a:lnTo>
                  <a:lnTo>
                    <a:pt x="64" y="63"/>
                  </a:lnTo>
                  <a:lnTo>
                    <a:pt x="64" y="63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8400" y="2722680"/>
              <a:ext cx="1349280" cy="663480"/>
            </a:xfrm>
            <a:custGeom>
              <a:avLst/>
              <a:gdLst/>
              <a:ahLst/>
              <a:rect l="l" t="t" r="r" b="b"/>
              <a:pathLst>
                <a:path w="850" h="418">
                  <a:moveTo>
                    <a:pt x="0" y="0"/>
                  </a:moveTo>
                  <a:lnTo>
                    <a:pt x="174" y="5"/>
                  </a:lnTo>
                  <a:lnTo>
                    <a:pt x="426" y="9"/>
                  </a:lnTo>
                  <a:lnTo>
                    <a:pt x="544" y="9"/>
                  </a:lnTo>
                  <a:lnTo>
                    <a:pt x="612" y="62"/>
                  </a:lnTo>
                  <a:lnTo>
                    <a:pt x="785" y="223"/>
                  </a:lnTo>
                  <a:lnTo>
                    <a:pt x="850" y="418"/>
                  </a:lnTo>
                  <a:lnTo>
                    <a:pt x="562" y="318"/>
                  </a:lnTo>
                  <a:lnTo>
                    <a:pt x="339" y="257"/>
                  </a:lnTo>
                  <a:lnTo>
                    <a:pt x="242" y="228"/>
                  </a:lnTo>
                  <a:lnTo>
                    <a:pt x="164" y="215"/>
                  </a:lnTo>
                  <a:lnTo>
                    <a:pt x="117" y="94"/>
                  </a:lnTo>
                  <a:lnTo>
                    <a:pt x="37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14680" y="2901960"/>
              <a:ext cx="1114560" cy="476280"/>
            </a:xfrm>
            <a:custGeom>
              <a:avLst/>
              <a:gdLst/>
              <a:ahLst/>
              <a:rect l="l" t="t" r="r" b="b"/>
              <a:pathLst>
                <a:path w="702" h="300">
                  <a:moveTo>
                    <a:pt x="0" y="0"/>
                  </a:moveTo>
                  <a:lnTo>
                    <a:pt x="75" y="20"/>
                  </a:lnTo>
                  <a:lnTo>
                    <a:pt x="240" y="53"/>
                  </a:lnTo>
                  <a:lnTo>
                    <a:pt x="409" y="53"/>
                  </a:lnTo>
                  <a:lnTo>
                    <a:pt x="496" y="34"/>
                  </a:lnTo>
                  <a:lnTo>
                    <a:pt x="574" y="24"/>
                  </a:lnTo>
                  <a:lnTo>
                    <a:pt x="697" y="200"/>
                  </a:lnTo>
                  <a:lnTo>
                    <a:pt x="702" y="300"/>
                  </a:lnTo>
                  <a:lnTo>
                    <a:pt x="432" y="205"/>
                  </a:lnTo>
                  <a:lnTo>
                    <a:pt x="135" y="133"/>
                  </a:lnTo>
                  <a:lnTo>
                    <a:pt x="18" y="1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01800" y="2210040"/>
              <a:ext cx="4176720" cy="760320"/>
            </a:xfrm>
            <a:custGeom>
              <a:avLst/>
              <a:gdLst/>
              <a:ahLst/>
              <a:rect l="l" t="t" r="r" b="b"/>
              <a:pathLst>
                <a:path w="2631" h="479">
                  <a:moveTo>
                    <a:pt x="945" y="237"/>
                  </a:moveTo>
                  <a:lnTo>
                    <a:pt x="1429" y="224"/>
                  </a:lnTo>
                  <a:lnTo>
                    <a:pt x="1726" y="219"/>
                  </a:lnTo>
                  <a:lnTo>
                    <a:pt x="1662" y="171"/>
                  </a:lnTo>
                  <a:lnTo>
                    <a:pt x="1968" y="118"/>
                  </a:lnTo>
                  <a:lnTo>
                    <a:pt x="2124" y="80"/>
                  </a:lnTo>
                  <a:lnTo>
                    <a:pt x="2334" y="32"/>
                  </a:lnTo>
                  <a:lnTo>
                    <a:pt x="2430" y="0"/>
                  </a:lnTo>
                  <a:lnTo>
                    <a:pt x="2631" y="75"/>
                  </a:lnTo>
                  <a:lnTo>
                    <a:pt x="2621" y="270"/>
                  </a:lnTo>
                  <a:lnTo>
                    <a:pt x="2352" y="337"/>
                  </a:lnTo>
                  <a:lnTo>
                    <a:pt x="1704" y="289"/>
                  </a:lnTo>
                  <a:lnTo>
                    <a:pt x="1357" y="289"/>
                  </a:lnTo>
                  <a:lnTo>
                    <a:pt x="1055" y="356"/>
                  </a:lnTo>
                  <a:lnTo>
                    <a:pt x="589" y="436"/>
                  </a:lnTo>
                  <a:lnTo>
                    <a:pt x="0" y="479"/>
                  </a:lnTo>
                  <a:lnTo>
                    <a:pt x="0" y="213"/>
                  </a:lnTo>
                  <a:lnTo>
                    <a:pt x="658" y="161"/>
                  </a:lnTo>
                  <a:lnTo>
                    <a:pt x="945" y="237"/>
                  </a:lnTo>
                  <a:lnTo>
                    <a:pt x="945" y="237"/>
                  </a:lnTo>
                  <a:close/>
                </a:path>
              </a:pathLst>
            </a:custGeom>
            <a:solidFill>
              <a:srgbClr val="e3c5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79480" y="2284560"/>
              <a:ext cx="1965600" cy="755640"/>
            </a:xfrm>
            <a:custGeom>
              <a:avLst/>
              <a:gdLst/>
              <a:ahLst/>
              <a:rect l="l" t="t" r="r" b="b"/>
              <a:pathLst>
                <a:path w="1238" h="476">
                  <a:moveTo>
                    <a:pt x="23" y="19"/>
                  </a:moveTo>
                  <a:lnTo>
                    <a:pt x="516" y="0"/>
                  </a:lnTo>
                  <a:lnTo>
                    <a:pt x="872" y="52"/>
                  </a:lnTo>
                  <a:lnTo>
                    <a:pt x="1238" y="199"/>
                  </a:lnTo>
                  <a:lnTo>
                    <a:pt x="885" y="222"/>
                  </a:lnTo>
                  <a:lnTo>
                    <a:pt x="1197" y="285"/>
                  </a:lnTo>
                  <a:lnTo>
                    <a:pt x="772" y="351"/>
                  </a:lnTo>
                  <a:lnTo>
                    <a:pt x="645" y="276"/>
                  </a:lnTo>
                  <a:lnTo>
                    <a:pt x="437" y="315"/>
                  </a:lnTo>
                  <a:lnTo>
                    <a:pt x="565" y="375"/>
                  </a:lnTo>
                  <a:lnTo>
                    <a:pt x="301" y="378"/>
                  </a:lnTo>
                  <a:lnTo>
                    <a:pt x="27" y="476"/>
                  </a:lnTo>
                  <a:lnTo>
                    <a:pt x="0" y="266"/>
                  </a:lnTo>
                  <a:lnTo>
                    <a:pt x="23" y="19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b5a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41760" y="2225880"/>
              <a:ext cx="1473120" cy="488880"/>
            </a:xfrm>
            <a:custGeom>
              <a:avLst/>
              <a:gdLst/>
              <a:ahLst/>
              <a:rect l="l" t="t" r="r" b="b"/>
              <a:pathLst>
                <a:path w="928" h="308">
                  <a:moveTo>
                    <a:pt x="0" y="209"/>
                  </a:moveTo>
                  <a:lnTo>
                    <a:pt x="138" y="198"/>
                  </a:lnTo>
                  <a:lnTo>
                    <a:pt x="42" y="166"/>
                  </a:lnTo>
                  <a:lnTo>
                    <a:pt x="219" y="137"/>
                  </a:lnTo>
                  <a:lnTo>
                    <a:pt x="379" y="142"/>
                  </a:lnTo>
                  <a:lnTo>
                    <a:pt x="435" y="123"/>
                  </a:lnTo>
                  <a:lnTo>
                    <a:pt x="398" y="70"/>
                  </a:lnTo>
                  <a:lnTo>
                    <a:pt x="525" y="75"/>
                  </a:lnTo>
                  <a:lnTo>
                    <a:pt x="695" y="75"/>
                  </a:lnTo>
                  <a:lnTo>
                    <a:pt x="704" y="37"/>
                  </a:lnTo>
                  <a:lnTo>
                    <a:pt x="740" y="0"/>
                  </a:lnTo>
                  <a:lnTo>
                    <a:pt x="900" y="27"/>
                  </a:lnTo>
                  <a:lnTo>
                    <a:pt x="928" y="260"/>
                  </a:lnTo>
                  <a:lnTo>
                    <a:pt x="676" y="308"/>
                  </a:lnTo>
                  <a:lnTo>
                    <a:pt x="513" y="265"/>
                  </a:lnTo>
                  <a:lnTo>
                    <a:pt x="438" y="227"/>
                  </a:lnTo>
                  <a:lnTo>
                    <a:pt x="284" y="236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b5a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79480" y="1817640"/>
              <a:ext cx="4235400" cy="625680"/>
            </a:xfrm>
            <a:custGeom>
              <a:avLst/>
              <a:gdLst/>
              <a:ahLst/>
              <a:rect l="l" t="t" r="r" b="b"/>
              <a:pathLst>
                <a:path w="2668" h="394">
                  <a:moveTo>
                    <a:pt x="0" y="71"/>
                  </a:moveTo>
                  <a:lnTo>
                    <a:pt x="1343" y="0"/>
                  </a:lnTo>
                  <a:lnTo>
                    <a:pt x="2668" y="66"/>
                  </a:lnTo>
                  <a:lnTo>
                    <a:pt x="2646" y="175"/>
                  </a:lnTo>
                  <a:lnTo>
                    <a:pt x="2640" y="284"/>
                  </a:lnTo>
                  <a:lnTo>
                    <a:pt x="2617" y="279"/>
                  </a:lnTo>
                  <a:lnTo>
                    <a:pt x="2548" y="266"/>
                  </a:lnTo>
                  <a:lnTo>
                    <a:pt x="2444" y="247"/>
                  </a:lnTo>
                  <a:lnTo>
                    <a:pt x="2261" y="308"/>
                  </a:lnTo>
                  <a:lnTo>
                    <a:pt x="2119" y="266"/>
                  </a:lnTo>
                  <a:lnTo>
                    <a:pt x="1841" y="233"/>
                  </a:lnTo>
                  <a:lnTo>
                    <a:pt x="1562" y="260"/>
                  </a:lnTo>
                  <a:lnTo>
                    <a:pt x="1695" y="294"/>
                  </a:lnTo>
                  <a:lnTo>
                    <a:pt x="1895" y="327"/>
                  </a:lnTo>
                  <a:lnTo>
                    <a:pt x="1982" y="365"/>
                  </a:lnTo>
                  <a:lnTo>
                    <a:pt x="1832" y="394"/>
                  </a:lnTo>
                  <a:lnTo>
                    <a:pt x="1567" y="361"/>
                  </a:lnTo>
                  <a:lnTo>
                    <a:pt x="1365" y="294"/>
                  </a:lnTo>
                  <a:lnTo>
                    <a:pt x="1211" y="218"/>
                  </a:lnTo>
                  <a:lnTo>
                    <a:pt x="1028" y="204"/>
                  </a:lnTo>
                  <a:lnTo>
                    <a:pt x="950" y="228"/>
                  </a:lnTo>
                  <a:lnTo>
                    <a:pt x="1096" y="257"/>
                  </a:lnTo>
                  <a:lnTo>
                    <a:pt x="1225" y="346"/>
                  </a:lnTo>
                  <a:lnTo>
                    <a:pt x="1325" y="380"/>
                  </a:lnTo>
                  <a:lnTo>
                    <a:pt x="1142" y="394"/>
                  </a:lnTo>
                  <a:lnTo>
                    <a:pt x="950" y="322"/>
                  </a:lnTo>
                  <a:lnTo>
                    <a:pt x="895" y="356"/>
                  </a:lnTo>
                  <a:lnTo>
                    <a:pt x="653" y="276"/>
                  </a:lnTo>
                  <a:lnTo>
                    <a:pt x="457" y="279"/>
                  </a:lnTo>
                  <a:lnTo>
                    <a:pt x="23" y="313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2f4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49240" y="3487680"/>
              <a:ext cx="1400400" cy="1638360"/>
            </a:xfrm>
            <a:custGeom>
              <a:avLst/>
              <a:gdLst/>
              <a:ahLst/>
              <a:rect l="l" t="t" r="r" b="b"/>
              <a:pathLst>
                <a:path w="882" h="1032">
                  <a:moveTo>
                    <a:pt x="0" y="173"/>
                  </a:moveTo>
                  <a:lnTo>
                    <a:pt x="412" y="78"/>
                  </a:lnTo>
                  <a:lnTo>
                    <a:pt x="672" y="35"/>
                  </a:lnTo>
                  <a:lnTo>
                    <a:pt x="801" y="0"/>
                  </a:lnTo>
                  <a:lnTo>
                    <a:pt x="882" y="159"/>
                  </a:lnTo>
                  <a:lnTo>
                    <a:pt x="882" y="349"/>
                  </a:lnTo>
                  <a:lnTo>
                    <a:pt x="718" y="553"/>
                  </a:lnTo>
                  <a:lnTo>
                    <a:pt x="307" y="890"/>
                  </a:lnTo>
                  <a:lnTo>
                    <a:pt x="51" y="1032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8fc28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87840" y="2532240"/>
              <a:ext cx="1090440" cy="156960"/>
            </a:xfrm>
            <a:custGeom>
              <a:avLst/>
              <a:gdLst/>
              <a:ahLst/>
              <a:rect l="l" t="t" r="r" b="b"/>
              <a:pathLst>
                <a:path w="687" h="99">
                  <a:moveTo>
                    <a:pt x="0" y="3"/>
                  </a:moveTo>
                  <a:lnTo>
                    <a:pt x="65" y="16"/>
                  </a:lnTo>
                  <a:lnTo>
                    <a:pt x="152" y="56"/>
                  </a:lnTo>
                  <a:lnTo>
                    <a:pt x="208" y="86"/>
                  </a:lnTo>
                  <a:lnTo>
                    <a:pt x="390" y="96"/>
                  </a:lnTo>
                  <a:lnTo>
                    <a:pt x="687" y="99"/>
                  </a:lnTo>
                  <a:lnTo>
                    <a:pt x="593" y="65"/>
                  </a:lnTo>
                  <a:lnTo>
                    <a:pt x="410" y="29"/>
                  </a:lnTo>
                  <a:lnTo>
                    <a:pt x="21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668320" y="3405240"/>
              <a:ext cx="4357800" cy="2757600"/>
            </a:xfrm>
            <a:custGeom>
              <a:avLst/>
              <a:gdLst/>
              <a:ahLst/>
              <a:rect l="l" t="t" r="r" b="b"/>
              <a:pathLst>
                <a:path w="2745" h="1737">
                  <a:moveTo>
                    <a:pt x="789" y="52"/>
                  </a:moveTo>
                  <a:lnTo>
                    <a:pt x="918" y="228"/>
                  </a:lnTo>
                  <a:lnTo>
                    <a:pt x="865" y="439"/>
                  </a:lnTo>
                  <a:lnTo>
                    <a:pt x="631" y="712"/>
                  </a:lnTo>
                  <a:lnTo>
                    <a:pt x="188" y="986"/>
                  </a:lnTo>
                  <a:lnTo>
                    <a:pt x="22" y="1096"/>
                  </a:lnTo>
                  <a:lnTo>
                    <a:pt x="0" y="1737"/>
                  </a:lnTo>
                  <a:lnTo>
                    <a:pt x="2663" y="1706"/>
                  </a:lnTo>
                  <a:lnTo>
                    <a:pt x="2745" y="517"/>
                  </a:lnTo>
                  <a:lnTo>
                    <a:pt x="2656" y="79"/>
                  </a:lnTo>
                  <a:lnTo>
                    <a:pt x="2452" y="48"/>
                  </a:lnTo>
                  <a:lnTo>
                    <a:pt x="2261" y="13"/>
                  </a:lnTo>
                  <a:lnTo>
                    <a:pt x="1405" y="0"/>
                  </a:lnTo>
                  <a:lnTo>
                    <a:pt x="985" y="38"/>
                  </a:lnTo>
                  <a:lnTo>
                    <a:pt x="789" y="52"/>
                  </a:lnTo>
                  <a:lnTo>
                    <a:pt x="789" y="52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91120" y="3395880"/>
              <a:ext cx="325440" cy="137880"/>
            </a:xfrm>
            <a:custGeom>
              <a:avLst/>
              <a:gdLst/>
              <a:ahLst/>
              <a:rect l="l" t="t" r="r" b="b"/>
              <a:pathLst>
                <a:path w="205" h="87">
                  <a:moveTo>
                    <a:pt x="0" y="10"/>
                  </a:moveTo>
                  <a:lnTo>
                    <a:pt x="47" y="39"/>
                  </a:lnTo>
                  <a:lnTo>
                    <a:pt x="127" y="87"/>
                  </a:lnTo>
                  <a:lnTo>
                    <a:pt x="205" y="63"/>
                  </a:lnTo>
                  <a:lnTo>
                    <a:pt x="140" y="10"/>
                  </a:lnTo>
                  <a:lnTo>
                    <a:pt x="87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7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2080" y="3767040"/>
              <a:ext cx="468360" cy="463680"/>
            </a:xfrm>
            <a:custGeom>
              <a:avLst/>
              <a:gdLst/>
              <a:ahLst/>
              <a:rect l="l" t="t" r="r" b="b"/>
              <a:pathLst>
                <a:path w="295" h="292">
                  <a:moveTo>
                    <a:pt x="0" y="5"/>
                  </a:moveTo>
                  <a:lnTo>
                    <a:pt x="95" y="0"/>
                  </a:lnTo>
                  <a:lnTo>
                    <a:pt x="223" y="99"/>
                  </a:lnTo>
                  <a:lnTo>
                    <a:pt x="295" y="250"/>
                  </a:lnTo>
                  <a:lnTo>
                    <a:pt x="127" y="292"/>
                  </a:lnTo>
                  <a:lnTo>
                    <a:pt x="9" y="41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7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91200" y="4884840"/>
              <a:ext cx="554040" cy="865080"/>
            </a:xfrm>
            <a:custGeom>
              <a:avLst/>
              <a:gdLst/>
              <a:ahLst/>
              <a:rect l="l" t="t" r="r" b="b"/>
              <a:pathLst>
                <a:path w="349" h="545">
                  <a:moveTo>
                    <a:pt x="0" y="13"/>
                  </a:moveTo>
                  <a:lnTo>
                    <a:pt x="18" y="3"/>
                  </a:lnTo>
                  <a:lnTo>
                    <a:pt x="139" y="0"/>
                  </a:lnTo>
                  <a:lnTo>
                    <a:pt x="261" y="161"/>
                  </a:lnTo>
                  <a:lnTo>
                    <a:pt x="349" y="545"/>
                  </a:lnTo>
                  <a:lnTo>
                    <a:pt x="93" y="536"/>
                  </a:lnTo>
                  <a:lnTo>
                    <a:pt x="48" y="492"/>
                  </a:lnTo>
                  <a:lnTo>
                    <a:pt x="41" y="405"/>
                  </a:lnTo>
                  <a:lnTo>
                    <a:pt x="28" y="1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7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7520" y="4403880"/>
              <a:ext cx="3274920" cy="1795320"/>
            </a:xfrm>
            <a:custGeom>
              <a:avLst/>
              <a:gdLst/>
              <a:ahLst/>
              <a:rect l="l" t="t" r="r" b="b"/>
              <a:pathLst>
                <a:path w="2063" h="1131">
                  <a:moveTo>
                    <a:pt x="628" y="58"/>
                  </a:moveTo>
                  <a:lnTo>
                    <a:pt x="745" y="0"/>
                  </a:lnTo>
                  <a:lnTo>
                    <a:pt x="832" y="69"/>
                  </a:lnTo>
                  <a:lnTo>
                    <a:pt x="1002" y="136"/>
                  </a:lnTo>
                  <a:lnTo>
                    <a:pt x="949" y="177"/>
                  </a:lnTo>
                  <a:lnTo>
                    <a:pt x="1018" y="213"/>
                  </a:lnTo>
                  <a:lnTo>
                    <a:pt x="1065" y="267"/>
                  </a:lnTo>
                  <a:lnTo>
                    <a:pt x="1017" y="301"/>
                  </a:lnTo>
                  <a:lnTo>
                    <a:pt x="901" y="298"/>
                  </a:lnTo>
                  <a:lnTo>
                    <a:pt x="757" y="366"/>
                  </a:lnTo>
                  <a:lnTo>
                    <a:pt x="767" y="424"/>
                  </a:lnTo>
                  <a:lnTo>
                    <a:pt x="889" y="439"/>
                  </a:lnTo>
                  <a:lnTo>
                    <a:pt x="945" y="463"/>
                  </a:lnTo>
                  <a:lnTo>
                    <a:pt x="977" y="537"/>
                  </a:lnTo>
                  <a:lnTo>
                    <a:pt x="910" y="531"/>
                  </a:lnTo>
                  <a:lnTo>
                    <a:pt x="789" y="570"/>
                  </a:lnTo>
                  <a:lnTo>
                    <a:pt x="813" y="628"/>
                  </a:lnTo>
                  <a:lnTo>
                    <a:pt x="1012" y="647"/>
                  </a:lnTo>
                  <a:lnTo>
                    <a:pt x="1114" y="774"/>
                  </a:lnTo>
                  <a:lnTo>
                    <a:pt x="1442" y="858"/>
                  </a:lnTo>
                  <a:lnTo>
                    <a:pt x="1605" y="823"/>
                  </a:lnTo>
                  <a:lnTo>
                    <a:pt x="1612" y="778"/>
                  </a:lnTo>
                  <a:lnTo>
                    <a:pt x="1743" y="809"/>
                  </a:lnTo>
                  <a:lnTo>
                    <a:pt x="1801" y="893"/>
                  </a:lnTo>
                  <a:lnTo>
                    <a:pt x="2005" y="957"/>
                  </a:lnTo>
                  <a:lnTo>
                    <a:pt x="1924" y="1005"/>
                  </a:lnTo>
                  <a:lnTo>
                    <a:pt x="2063" y="1083"/>
                  </a:lnTo>
                  <a:lnTo>
                    <a:pt x="734" y="1078"/>
                  </a:lnTo>
                  <a:lnTo>
                    <a:pt x="569" y="922"/>
                  </a:lnTo>
                  <a:lnTo>
                    <a:pt x="705" y="882"/>
                  </a:lnTo>
                  <a:lnTo>
                    <a:pt x="692" y="793"/>
                  </a:lnTo>
                  <a:lnTo>
                    <a:pt x="572" y="774"/>
                  </a:lnTo>
                  <a:lnTo>
                    <a:pt x="560" y="854"/>
                  </a:lnTo>
                  <a:lnTo>
                    <a:pt x="442" y="830"/>
                  </a:lnTo>
                  <a:lnTo>
                    <a:pt x="388" y="884"/>
                  </a:lnTo>
                  <a:lnTo>
                    <a:pt x="499" y="922"/>
                  </a:lnTo>
                  <a:lnTo>
                    <a:pt x="520" y="955"/>
                  </a:lnTo>
                  <a:lnTo>
                    <a:pt x="525" y="995"/>
                  </a:lnTo>
                  <a:lnTo>
                    <a:pt x="490" y="1006"/>
                  </a:lnTo>
                  <a:lnTo>
                    <a:pt x="436" y="1024"/>
                  </a:lnTo>
                  <a:lnTo>
                    <a:pt x="363" y="1045"/>
                  </a:lnTo>
                  <a:lnTo>
                    <a:pt x="384" y="1110"/>
                  </a:lnTo>
                  <a:lnTo>
                    <a:pt x="0" y="1131"/>
                  </a:lnTo>
                  <a:lnTo>
                    <a:pt x="5" y="476"/>
                  </a:lnTo>
                  <a:lnTo>
                    <a:pt x="222" y="410"/>
                  </a:lnTo>
                  <a:lnTo>
                    <a:pt x="335" y="434"/>
                  </a:lnTo>
                  <a:lnTo>
                    <a:pt x="382" y="390"/>
                  </a:lnTo>
                  <a:lnTo>
                    <a:pt x="487" y="405"/>
                  </a:lnTo>
                  <a:lnTo>
                    <a:pt x="502" y="361"/>
                  </a:lnTo>
                  <a:lnTo>
                    <a:pt x="433" y="344"/>
                  </a:lnTo>
                  <a:lnTo>
                    <a:pt x="335" y="301"/>
                  </a:lnTo>
                  <a:lnTo>
                    <a:pt x="506" y="159"/>
                  </a:lnTo>
                  <a:lnTo>
                    <a:pt x="641" y="147"/>
                  </a:lnTo>
                  <a:lnTo>
                    <a:pt x="690" y="117"/>
                  </a:lnTo>
                  <a:lnTo>
                    <a:pt x="628" y="58"/>
                  </a:lnTo>
                  <a:lnTo>
                    <a:pt x="628" y="58"/>
                  </a:lnTo>
                  <a:close/>
                </a:path>
              </a:pathLst>
            </a:custGeom>
            <a:solidFill>
              <a:srgbClr val="4d4d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74800" y="4322880"/>
              <a:ext cx="216000" cy="119160"/>
            </a:xfrm>
            <a:custGeom>
              <a:avLst/>
              <a:gdLst/>
              <a:ahLst/>
              <a:rect l="l" t="t" r="r" b="b"/>
              <a:pathLst>
                <a:path w="136" h="75">
                  <a:moveTo>
                    <a:pt x="136" y="44"/>
                  </a:moveTo>
                  <a:lnTo>
                    <a:pt x="82" y="13"/>
                  </a:lnTo>
                  <a:lnTo>
                    <a:pt x="14" y="0"/>
                  </a:lnTo>
                  <a:lnTo>
                    <a:pt x="0" y="37"/>
                  </a:lnTo>
                  <a:lnTo>
                    <a:pt x="31" y="61"/>
                  </a:lnTo>
                  <a:lnTo>
                    <a:pt x="114" y="75"/>
                  </a:lnTo>
                  <a:lnTo>
                    <a:pt x="136" y="44"/>
                  </a:lnTo>
                  <a:lnTo>
                    <a:pt x="136" y="44"/>
                  </a:lnTo>
                  <a:close/>
                </a:path>
              </a:pathLst>
            </a:custGeom>
            <a:solidFill>
              <a:srgbClr val="5285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40040" y="4388040"/>
              <a:ext cx="787320" cy="401400"/>
            </a:xfrm>
            <a:custGeom>
              <a:avLst/>
              <a:gdLst/>
              <a:ahLst/>
              <a:rect l="l" t="t" r="r" b="b"/>
              <a:pathLst>
                <a:path w="496" h="253">
                  <a:moveTo>
                    <a:pt x="496" y="126"/>
                  </a:moveTo>
                  <a:lnTo>
                    <a:pt x="401" y="74"/>
                  </a:lnTo>
                  <a:lnTo>
                    <a:pt x="337" y="97"/>
                  </a:lnTo>
                  <a:lnTo>
                    <a:pt x="275" y="62"/>
                  </a:lnTo>
                  <a:lnTo>
                    <a:pt x="275" y="0"/>
                  </a:lnTo>
                  <a:lnTo>
                    <a:pt x="208" y="4"/>
                  </a:lnTo>
                  <a:lnTo>
                    <a:pt x="161" y="19"/>
                  </a:lnTo>
                  <a:lnTo>
                    <a:pt x="206" y="63"/>
                  </a:lnTo>
                  <a:lnTo>
                    <a:pt x="142" y="77"/>
                  </a:lnTo>
                  <a:lnTo>
                    <a:pt x="104" y="111"/>
                  </a:lnTo>
                  <a:lnTo>
                    <a:pt x="205" y="130"/>
                  </a:lnTo>
                  <a:lnTo>
                    <a:pt x="145" y="155"/>
                  </a:lnTo>
                  <a:lnTo>
                    <a:pt x="57" y="160"/>
                  </a:lnTo>
                  <a:lnTo>
                    <a:pt x="0" y="185"/>
                  </a:lnTo>
                  <a:lnTo>
                    <a:pt x="59" y="229"/>
                  </a:lnTo>
                  <a:lnTo>
                    <a:pt x="174" y="228"/>
                  </a:lnTo>
                  <a:lnTo>
                    <a:pt x="255" y="253"/>
                  </a:lnTo>
                  <a:lnTo>
                    <a:pt x="496" y="126"/>
                  </a:lnTo>
                  <a:lnTo>
                    <a:pt x="496" y="126"/>
                  </a:lnTo>
                  <a:close/>
                </a:path>
              </a:pathLst>
            </a:custGeom>
            <a:solidFill>
              <a:srgbClr val="5285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65440" y="4781520"/>
              <a:ext cx="436320" cy="30168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80"/>
                  </a:moveTo>
                  <a:lnTo>
                    <a:pt x="188" y="33"/>
                  </a:lnTo>
                  <a:lnTo>
                    <a:pt x="135" y="69"/>
                  </a:lnTo>
                  <a:lnTo>
                    <a:pt x="76" y="11"/>
                  </a:lnTo>
                  <a:lnTo>
                    <a:pt x="0" y="0"/>
                  </a:lnTo>
                  <a:lnTo>
                    <a:pt x="14" y="190"/>
                  </a:lnTo>
                  <a:lnTo>
                    <a:pt x="128" y="180"/>
                  </a:lnTo>
                  <a:lnTo>
                    <a:pt x="275" y="80"/>
                  </a:lnTo>
                  <a:lnTo>
                    <a:pt x="275" y="80"/>
                  </a:lnTo>
                  <a:close/>
                </a:path>
              </a:pathLst>
            </a:custGeom>
            <a:solidFill>
              <a:srgbClr val="5285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71560" y="4442040"/>
              <a:ext cx="179640" cy="16488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0" y="19"/>
                  </a:moveTo>
                  <a:lnTo>
                    <a:pt x="82" y="0"/>
                  </a:lnTo>
                  <a:lnTo>
                    <a:pt x="113" y="54"/>
                  </a:lnTo>
                  <a:lnTo>
                    <a:pt x="80" y="75"/>
                  </a:lnTo>
                  <a:lnTo>
                    <a:pt x="0" y="10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5285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55720" y="2374920"/>
              <a:ext cx="1381320" cy="273240"/>
            </a:xfrm>
            <a:custGeom>
              <a:avLst/>
              <a:gdLst/>
              <a:ahLst/>
              <a:rect l="l" t="t" r="r" b="b"/>
              <a:pathLst>
                <a:path w="870" h="172">
                  <a:moveTo>
                    <a:pt x="497" y="8"/>
                  </a:moveTo>
                  <a:lnTo>
                    <a:pt x="605" y="0"/>
                  </a:lnTo>
                  <a:lnTo>
                    <a:pt x="730" y="39"/>
                  </a:lnTo>
                  <a:lnTo>
                    <a:pt x="870" y="98"/>
                  </a:lnTo>
                  <a:lnTo>
                    <a:pt x="764" y="106"/>
                  </a:lnTo>
                  <a:lnTo>
                    <a:pt x="636" y="109"/>
                  </a:lnTo>
                  <a:lnTo>
                    <a:pt x="756" y="161"/>
                  </a:lnTo>
                  <a:lnTo>
                    <a:pt x="662" y="161"/>
                  </a:lnTo>
                  <a:lnTo>
                    <a:pt x="550" y="130"/>
                  </a:lnTo>
                  <a:lnTo>
                    <a:pt x="433" y="113"/>
                  </a:lnTo>
                  <a:lnTo>
                    <a:pt x="282" y="121"/>
                  </a:lnTo>
                  <a:lnTo>
                    <a:pt x="358" y="161"/>
                  </a:lnTo>
                  <a:lnTo>
                    <a:pt x="271" y="172"/>
                  </a:lnTo>
                  <a:lnTo>
                    <a:pt x="178" y="145"/>
                  </a:lnTo>
                  <a:lnTo>
                    <a:pt x="0" y="109"/>
                  </a:lnTo>
                  <a:lnTo>
                    <a:pt x="15" y="47"/>
                  </a:lnTo>
                  <a:lnTo>
                    <a:pt x="147" y="71"/>
                  </a:lnTo>
                  <a:lnTo>
                    <a:pt x="261" y="78"/>
                  </a:lnTo>
                  <a:lnTo>
                    <a:pt x="422" y="71"/>
                  </a:lnTo>
                  <a:lnTo>
                    <a:pt x="320" y="20"/>
                  </a:lnTo>
                  <a:lnTo>
                    <a:pt x="418" y="24"/>
                  </a:lnTo>
                  <a:lnTo>
                    <a:pt x="561" y="55"/>
                  </a:lnTo>
                  <a:lnTo>
                    <a:pt x="497" y="8"/>
                  </a:lnTo>
                  <a:lnTo>
                    <a:pt x="497" y="8"/>
                  </a:lnTo>
                  <a:close/>
                </a:path>
              </a:pathLst>
            </a:custGeom>
            <a:solidFill>
              <a:srgbClr val="7a7a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57920" y="2357640"/>
              <a:ext cx="1027080" cy="341280"/>
            </a:xfrm>
            <a:custGeom>
              <a:avLst/>
              <a:gdLst/>
              <a:ahLst/>
              <a:rect l="l" t="t" r="r" b="b"/>
              <a:pathLst>
                <a:path w="647" h="215">
                  <a:moveTo>
                    <a:pt x="188" y="94"/>
                  </a:moveTo>
                  <a:lnTo>
                    <a:pt x="297" y="89"/>
                  </a:lnTo>
                  <a:lnTo>
                    <a:pt x="297" y="66"/>
                  </a:lnTo>
                  <a:lnTo>
                    <a:pt x="368" y="63"/>
                  </a:lnTo>
                  <a:lnTo>
                    <a:pt x="443" y="89"/>
                  </a:lnTo>
                  <a:lnTo>
                    <a:pt x="568" y="85"/>
                  </a:lnTo>
                  <a:lnTo>
                    <a:pt x="556" y="39"/>
                  </a:lnTo>
                  <a:lnTo>
                    <a:pt x="620" y="0"/>
                  </a:lnTo>
                  <a:lnTo>
                    <a:pt x="647" y="26"/>
                  </a:lnTo>
                  <a:lnTo>
                    <a:pt x="647" y="144"/>
                  </a:lnTo>
                  <a:lnTo>
                    <a:pt x="639" y="204"/>
                  </a:lnTo>
                  <a:lnTo>
                    <a:pt x="515" y="215"/>
                  </a:lnTo>
                  <a:lnTo>
                    <a:pt x="420" y="172"/>
                  </a:lnTo>
                  <a:lnTo>
                    <a:pt x="537" y="156"/>
                  </a:lnTo>
                  <a:lnTo>
                    <a:pt x="394" y="120"/>
                  </a:lnTo>
                  <a:lnTo>
                    <a:pt x="308" y="124"/>
                  </a:lnTo>
                  <a:lnTo>
                    <a:pt x="345" y="152"/>
                  </a:lnTo>
                  <a:lnTo>
                    <a:pt x="252" y="141"/>
                  </a:lnTo>
                  <a:lnTo>
                    <a:pt x="131" y="113"/>
                  </a:lnTo>
                  <a:lnTo>
                    <a:pt x="0" y="98"/>
                  </a:lnTo>
                  <a:lnTo>
                    <a:pt x="97" y="85"/>
                  </a:lnTo>
                  <a:lnTo>
                    <a:pt x="188" y="94"/>
                  </a:lnTo>
                  <a:lnTo>
                    <a:pt x="188" y="94"/>
                  </a:lnTo>
                  <a:close/>
                </a:path>
              </a:pathLst>
            </a:custGeom>
            <a:solidFill>
              <a:srgbClr val="7a7aa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120" y="3341880"/>
              <a:ext cx="4167000" cy="433080"/>
            </a:xfrm>
            <a:custGeom>
              <a:avLst/>
              <a:gdLst/>
              <a:ahLst/>
              <a:rect l="l" t="t" r="r" b="b"/>
              <a:pathLst>
                <a:path w="2625" h="273">
                  <a:moveTo>
                    <a:pt x="5" y="185"/>
                  </a:moveTo>
                  <a:lnTo>
                    <a:pt x="48" y="166"/>
                  </a:lnTo>
                  <a:lnTo>
                    <a:pt x="89" y="148"/>
                  </a:lnTo>
                  <a:lnTo>
                    <a:pt x="169" y="119"/>
                  </a:lnTo>
                  <a:lnTo>
                    <a:pt x="244" y="98"/>
                  </a:lnTo>
                  <a:lnTo>
                    <a:pt x="317" y="82"/>
                  </a:lnTo>
                  <a:lnTo>
                    <a:pt x="471" y="60"/>
                  </a:lnTo>
                  <a:lnTo>
                    <a:pt x="647" y="44"/>
                  </a:lnTo>
                  <a:lnTo>
                    <a:pt x="747" y="25"/>
                  </a:lnTo>
                  <a:lnTo>
                    <a:pt x="838" y="25"/>
                  </a:lnTo>
                  <a:lnTo>
                    <a:pt x="1032" y="31"/>
                  </a:lnTo>
                  <a:lnTo>
                    <a:pt x="1153" y="15"/>
                  </a:lnTo>
                  <a:lnTo>
                    <a:pt x="1263" y="6"/>
                  </a:lnTo>
                  <a:lnTo>
                    <a:pt x="1467" y="0"/>
                  </a:lnTo>
                  <a:lnTo>
                    <a:pt x="1901" y="7"/>
                  </a:lnTo>
                  <a:lnTo>
                    <a:pt x="2179" y="1"/>
                  </a:lnTo>
                  <a:lnTo>
                    <a:pt x="2368" y="14"/>
                  </a:lnTo>
                  <a:lnTo>
                    <a:pt x="2556" y="26"/>
                  </a:lnTo>
                  <a:lnTo>
                    <a:pt x="2579" y="39"/>
                  </a:lnTo>
                  <a:lnTo>
                    <a:pt x="2605" y="48"/>
                  </a:lnTo>
                  <a:lnTo>
                    <a:pt x="2625" y="74"/>
                  </a:lnTo>
                  <a:lnTo>
                    <a:pt x="2617" y="89"/>
                  </a:lnTo>
                  <a:lnTo>
                    <a:pt x="2601" y="94"/>
                  </a:lnTo>
                  <a:lnTo>
                    <a:pt x="2545" y="82"/>
                  </a:lnTo>
                  <a:lnTo>
                    <a:pt x="2391" y="59"/>
                  </a:lnTo>
                  <a:lnTo>
                    <a:pt x="2327" y="44"/>
                  </a:lnTo>
                  <a:lnTo>
                    <a:pt x="2237" y="36"/>
                  </a:lnTo>
                  <a:lnTo>
                    <a:pt x="1901" y="31"/>
                  </a:lnTo>
                  <a:lnTo>
                    <a:pt x="1468" y="24"/>
                  </a:lnTo>
                  <a:lnTo>
                    <a:pt x="1034" y="54"/>
                  </a:lnTo>
                  <a:lnTo>
                    <a:pt x="844" y="64"/>
                  </a:lnTo>
                  <a:lnTo>
                    <a:pt x="657" y="99"/>
                  </a:lnTo>
                  <a:lnTo>
                    <a:pt x="328" y="153"/>
                  </a:lnTo>
                  <a:lnTo>
                    <a:pt x="253" y="176"/>
                  </a:lnTo>
                  <a:lnTo>
                    <a:pt x="177" y="204"/>
                  </a:lnTo>
                  <a:lnTo>
                    <a:pt x="99" y="235"/>
                  </a:lnTo>
                  <a:lnTo>
                    <a:pt x="58" y="253"/>
                  </a:lnTo>
                  <a:lnTo>
                    <a:pt x="15" y="273"/>
                  </a:lnTo>
                  <a:lnTo>
                    <a:pt x="0" y="234"/>
                  </a:lnTo>
                  <a:lnTo>
                    <a:pt x="5" y="185"/>
                  </a:lnTo>
                  <a:lnTo>
                    <a:pt x="5" y="18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79480" y="2862360"/>
              <a:ext cx="3813120" cy="534960"/>
            </a:xfrm>
            <a:custGeom>
              <a:avLst/>
              <a:gdLst/>
              <a:ahLst/>
              <a:rect l="l" t="t" r="r" b="b"/>
              <a:pathLst>
                <a:path w="2402" h="337">
                  <a:moveTo>
                    <a:pt x="18" y="67"/>
                  </a:moveTo>
                  <a:lnTo>
                    <a:pt x="120" y="44"/>
                  </a:lnTo>
                  <a:lnTo>
                    <a:pt x="222" y="30"/>
                  </a:lnTo>
                  <a:lnTo>
                    <a:pt x="427" y="0"/>
                  </a:lnTo>
                  <a:lnTo>
                    <a:pt x="602" y="1"/>
                  </a:lnTo>
                  <a:lnTo>
                    <a:pt x="769" y="25"/>
                  </a:lnTo>
                  <a:lnTo>
                    <a:pt x="962" y="48"/>
                  </a:lnTo>
                  <a:lnTo>
                    <a:pt x="1154" y="57"/>
                  </a:lnTo>
                  <a:lnTo>
                    <a:pt x="1369" y="86"/>
                  </a:lnTo>
                  <a:lnTo>
                    <a:pt x="1469" y="104"/>
                  </a:lnTo>
                  <a:lnTo>
                    <a:pt x="1583" y="118"/>
                  </a:lnTo>
                  <a:lnTo>
                    <a:pt x="1800" y="131"/>
                  </a:lnTo>
                  <a:lnTo>
                    <a:pt x="1896" y="152"/>
                  </a:lnTo>
                  <a:lnTo>
                    <a:pt x="2003" y="197"/>
                  </a:lnTo>
                  <a:lnTo>
                    <a:pt x="2109" y="220"/>
                  </a:lnTo>
                  <a:lnTo>
                    <a:pt x="2198" y="253"/>
                  </a:lnTo>
                  <a:lnTo>
                    <a:pt x="2241" y="270"/>
                  </a:lnTo>
                  <a:lnTo>
                    <a:pt x="2288" y="287"/>
                  </a:lnTo>
                  <a:lnTo>
                    <a:pt x="2337" y="302"/>
                  </a:lnTo>
                  <a:lnTo>
                    <a:pt x="2393" y="314"/>
                  </a:lnTo>
                  <a:lnTo>
                    <a:pt x="2402" y="327"/>
                  </a:lnTo>
                  <a:lnTo>
                    <a:pt x="2390" y="337"/>
                  </a:lnTo>
                  <a:lnTo>
                    <a:pt x="2283" y="317"/>
                  </a:lnTo>
                  <a:lnTo>
                    <a:pt x="2187" y="297"/>
                  </a:lnTo>
                  <a:lnTo>
                    <a:pt x="2092" y="278"/>
                  </a:lnTo>
                  <a:lnTo>
                    <a:pt x="1983" y="263"/>
                  </a:lnTo>
                  <a:lnTo>
                    <a:pt x="1932" y="235"/>
                  </a:lnTo>
                  <a:lnTo>
                    <a:pt x="1883" y="213"/>
                  </a:lnTo>
                  <a:lnTo>
                    <a:pt x="1835" y="192"/>
                  </a:lnTo>
                  <a:lnTo>
                    <a:pt x="1788" y="177"/>
                  </a:lnTo>
                  <a:lnTo>
                    <a:pt x="1691" y="155"/>
                  </a:lnTo>
                  <a:lnTo>
                    <a:pt x="1582" y="142"/>
                  </a:lnTo>
                  <a:lnTo>
                    <a:pt x="1368" y="109"/>
                  </a:lnTo>
                  <a:lnTo>
                    <a:pt x="1267" y="91"/>
                  </a:lnTo>
                  <a:lnTo>
                    <a:pt x="1154" y="79"/>
                  </a:lnTo>
                  <a:lnTo>
                    <a:pt x="765" y="49"/>
                  </a:lnTo>
                  <a:lnTo>
                    <a:pt x="602" y="49"/>
                  </a:lnTo>
                  <a:lnTo>
                    <a:pt x="433" y="62"/>
                  </a:lnTo>
                  <a:lnTo>
                    <a:pt x="229" y="91"/>
                  </a:lnTo>
                  <a:lnTo>
                    <a:pt x="27" y="112"/>
                  </a:lnTo>
                  <a:lnTo>
                    <a:pt x="0" y="94"/>
                  </a:lnTo>
                  <a:lnTo>
                    <a:pt x="3" y="77"/>
                  </a:lnTo>
                  <a:lnTo>
                    <a:pt x="18" y="67"/>
                  </a:lnTo>
                  <a:lnTo>
                    <a:pt x="18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66880" y="2644920"/>
              <a:ext cx="3351240" cy="269640"/>
            </a:xfrm>
            <a:custGeom>
              <a:avLst/>
              <a:gdLst/>
              <a:ahLst/>
              <a:rect l="l" t="t" r="r" b="b"/>
              <a:pathLst>
                <a:path w="2111" h="170">
                  <a:moveTo>
                    <a:pt x="6" y="148"/>
                  </a:moveTo>
                  <a:lnTo>
                    <a:pt x="103" y="118"/>
                  </a:lnTo>
                  <a:lnTo>
                    <a:pt x="189" y="94"/>
                  </a:lnTo>
                  <a:lnTo>
                    <a:pt x="274" y="77"/>
                  </a:lnTo>
                  <a:lnTo>
                    <a:pt x="374" y="60"/>
                  </a:lnTo>
                  <a:lnTo>
                    <a:pt x="532" y="39"/>
                  </a:lnTo>
                  <a:lnTo>
                    <a:pt x="671" y="24"/>
                  </a:lnTo>
                  <a:lnTo>
                    <a:pt x="966" y="12"/>
                  </a:lnTo>
                  <a:lnTo>
                    <a:pt x="1467" y="24"/>
                  </a:lnTo>
                  <a:lnTo>
                    <a:pt x="1832" y="25"/>
                  </a:lnTo>
                  <a:lnTo>
                    <a:pt x="1958" y="12"/>
                  </a:lnTo>
                  <a:lnTo>
                    <a:pt x="2084" y="0"/>
                  </a:lnTo>
                  <a:lnTo>
                    <a:pt x="2104" y="9"/>
                  </a:lnTo>
                  <a:lnTo>
                    <a:pt x="2111" y="29"/>
                  </a:lnTo>
                  <a:lnTo>
                    <a:pt x="2104" y="49"/>
                  </a:lnTo>
                  <a:lnTo>
                    <a:pt x="2084" y="58"/>
                  </a:lnTo>
                  <a:lnTo>
                    <a:pt x="1958" y="70"/>
                  </a:lnTo>
                  <a:lnTo>
                    <a:pt x="1832" y="83"/>
                  </a:lnTo>
                  <a:lnTo>
                    <a:pt x="1650" y="65"/>
                  </a:lnTo>
                  <a:lnTo>
                    <a:pt x="1565" y="53"/>
                  </a:lnTo>
                  <a:lnTo>
                    <a:pt x="1467" y="46"/>
                  </a:lnTo>
                  <a:lnTo>
                    <a:pt x="966" y="35"/>
                  </a:lnTo>
                  <a:lnTo>
                    <a:pt x="810" y="45"/>
                  </a:lnTo>
                  <a:lnTo>
                    <a:pt x="674" y="70"/>
                  </a:lnTo>
                  <a:lnTo>
                    <a:pt x="538" y="101"/>
                  </a:lnTo>
                  <a:lnTo>
                    <a:pt x="464" y="116"/>
                  </a:lnTo>
                  <a:lnTo>
                    <a:pt x="382" y="129"/>
                  </a:lnTo>
                  <a:lnTo>
                    <a:pt x="196" y="141"/>
                  </a:lnTo>
                  <a:lnTo>
                    <a:pt x="14" y="170"/>
                  </a:lnTo>
                  <a:lnTo>
                    <a:pt x="0" y="162"/>
                  </a:lnTo>
                  <a:lnTo>
                    <a:pt x="6" y="148"/>
                  </a:lnTo>
                  <a:lnTo>
                    <a:pt x="6" y="1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633400" y="2244960"/>
              <a:ext cx="2040120" cy="377640"/>
            </a:xfrm>
            <a:custGeom>
              <a:avLst/>
              <a:gdLst/>
              <a:ahLst/>
              <a:rect l="l" t="t" r="r" b="b"/>
              <a:pathLst>
                <a:path w="1285" h="238">
                  <a:moveTo>
                    <a:pt x="28" y="25"/>
                  </a:moveTo>
                  <a:lnTo>
                    <a:pt x="65" y="43"/>
                  </a:lnTo>
                  <a:lnTo>
                    <a:pt x="361" y="13"/>
                  </a:lnTo>
                  <a:lnTo>
                    <a:pt x="658" y="0"/>
                  </a:lnTo>
                  <a:lnTo>
                    <a:pt x="806" y="27"/>
                  </a:lnTo>
                  <a:lnTo>
                    <a:pt x="881" y="52"/>
                  </a:lnTo>
                  <a:lnTo>
                    <a:pt x="953" y="91"/>
                  </a:lnTo>
                  <a:lnTo>
                    <a:pt x="997" y="111"/>
                  </a:lnTo>
                  <a:lnTo>
                    <a:pt x="1037" y="129"/>
                  </a:lnTo>
                  <a:lnTo>
                    <a:pt x="1113" y="160"/>
                  </a:lnTo>
                  <a:lnTo>
                    <a:pt x="1189" y="186"/>
                  </a:lnTo>
                  <a:lnTo>
                    <a:pt x="1277" y="217"/>
                  </a:lnTo>
                  <a:lnTo>
                    <a:pt x="1285" y="230"/>
                  </a:lnTo>
                  <a:lnTo>
                    <a:pt x="1271" y="238"/>
                  </a:lnTo>
                  <a:lnTo>
                    <a:pt x="934" y="135"/>
                  </a:lnTo>
                  <a:lnTo>
                    <a:pt x="866" y="98"/>
                  </a:lnTo>
                  <a:lnTo>
                    <a:pt x="833" y="83"/>
                  </a:lnTo>
                  <a:lnTo>
                    <a:pt x="794" y="76"/>
                  </a:lnTo>
                  <a:lnTo>
                    <a:pt x="728" y="56"/>
                  </a:lnTo>
                  <a:lnTo>
                    <a:pt x="658" y="51"/>
                  </a:lnTo>
                  <a:lnTo>
                    <a:pt x="363" y="51"/>
                  </a:lnTo>
                  <a:lnTo>
                    <a:pt x="66" y="67"/>
                  </a:lnTo>
                  <a:lnTo>
                    <a:pt x="28" y="85"/>
                  </a:lnTo>
                  <a:lnTo>
                    <a:pt x="7" y="75"/>
                  </a:lnTo>
                  <a:lnTo>
                    <a:pt x="0" y="56"/>
                  </a:lnTo>
                  <a:lnTo>
                    <a:pt x="7" y="36"/>
                  </a:lnTo>
                  <a:lnTo>
                    <a:pt x="28" y="25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9240" y="2201760"/>
              <a:ext cx="2496960" cy="336600"/>
            </a:xfrm>
            <a:custGeom>
              <a:avLst/>
              <a:gdLst/>
              <a:ahLst/>
              <a:rect l="l" t="t" r="r" b="b"/>
              <a:pathLst>
                <a:path w="1573" h="212">
                  <a:moveTo>
                    <a:pt x="0" y="197"/>
                  </a:moveTo>
                  <a:lnTo>
                    <a:pt x="469" y="187"/>
                  </a:lnTo>
                  <a:lnTo>
                    <a:pt x="602" y="152"/>
                  </a:lnTo>
                  <a:lnTo>
                    <a:pt x="671" y="133"/>
                  </a:lnTo>
                  <a:lnTo>
                    <a:pt x="733" y="139"/>
                  </a:lnTo>
                  <a:lnTo>
                    <a:pt x="810" y="141"/>
                  </a:lnTo>
                  <a:lnTo>
                    <a:pt x="888" y="132"/>
                  </a:lnTo>
                  <a:lnTo>
                    <a:pt x="963" y="94"/>
                  </a:lnTo>
                  <a:lnTo>
                    <a:pt x="1022" y="73"/>
                  </a:lnTo>
                  <a:lnTo>
                    <a:pt x="1089" y="70"/>
                  </a:lnTo>
                  <a:lnTo>
                    <a:pt x="1169" y="66"/>
                  </a:lnTo>
                  <a:lnTo>
                    <a:pt x="1271" y="27"/>
                  </a:lnTo>
                  <a:lnTo>
                    <a:pt x="1320" y="8"/>
                  </a:lnTo>
                  <a:lnTo>
                    <a:pt x="1376" y="0"/>
                  </a:lnTo>
                  <a:lnTo>
                    <a:pt x="1548" y="18"/>
                  </a:lnTo>
                  <a:lnTo>
                    <a:pt x="1568" y="30"/>
                  </a:lnTo>
                  <a:lnTo>
                    <a:pt x="1573" y="50"/>
                  </a:lnTo>
                  <a:lnTo>
                    <a:pt x="1566" y="69"/>
                  </a:lnTo>
                  <a:lnTo>
                    <a:pt x="1543" y="76"/>
                  </a:lnTo>
                  <a:lnTo>
                    <a:pt x="1451" y="51"/>
                  </a:lnTo>
                  <a:lnTo>
                    <a:pt x="1407" y="37"/>
                  </a:lnTo>
                  <a:lnTo>
                    <a:pt x="1358" y="31"/>
                  </a:lnTo>
                  <a:lnTo>
                    <a:pt x="1308" y="44"/>
                  </a:lnTo>
                  <a:lnTo>
                    <a:pt x="1269" y="73"/>
                  </a:lnTo>
                  <a:lnTo>
                    <a:pt x="1230" y="104"/>
                  </a:lnTo>
                  <a:lnTo>
                    <a:pt x="1207" y="118"/>
                  </a:lnTo>
                  <a:lnTo>
                    <a:pt x="1181" y="125"/>
                  </a:lnTo>
                  <a:lnTo>
                    <a:pt x="1128" y="119"/>
                  </a:lnTo>
                  <a:lnTo>
                    <a:pt x="1073" y="105"/>
                  </a:lnTo>
                  <a:lnTo>
                    <a:pt x="1028" y="118"/>
                  </a:lnTo>
                  <a:lnTo>
                    <a:pt x="991" y="144"/>
                  </a:lnTo>
                  <a:lnTo>
                    <a:pt x="944" y="164"/>
                  </a:lnTo>
                  <a:lnTo>
                    <a:pt x="894" y="177"/>
                  </a:lnTo>
                  <a:lnTo>
                    <a:pt x="806" y="190"/>
                  </a:lnTo>
                  <a:lnTo>
                    <a:pt x="718" y="192"/>
                  </a:lnTo>
                  <a:lnTo>
                    <a:pt x="671" y="183"/>
                  </a:lnTo>
                  <a:lnTo>
                    <a:pt x="627" y="191"/>
                  </a:lnTo>
                  <a:lnTo>
                    <a:pt x="582" y="205"/>
                  </a:lnTo>
                  <a:lnTo>
                    <a:pt x="531" y="211"/>
                  </a:lnTo>
                  <a:lnTo>
                    <a:pt x="276" y="207"/>
                  </a:lnTo>
                  <a:lnTo>
                    <a:pt x="21" y="212"/>
                  </a:lnTo>
                  <a:lnTo>
                    <a:pt x="0" y="197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03760" y="2506680"/>
              <a:ext cx="958680" cy="192240"/>
            </a:xfrm>
            <a:custGeom>
              <a:avLst/>
              <a:gdLst/>
              <a:ahLst/>
              <a:rect l="l" t="t" r="r" b="b"/>
              <a:pathLst>
                <a:path w="604" h="121">
                  <a:moveTo>
                    <a:pt x="80" y="0"/>
                  </a:moveTo>
                  <a:lnTo>
                    <a:pt x="195" y="10"/>
                  </a:lnTo>
                  <a:lnTo>
                    <a:pt x="396" y="47"/>
                  </a:lnTo>
                  <a:lnTo>
                    <a:pt x="501" y="63"/>
                  </a:lnTo>
                  <a:lnTo>
                    <a:pt x="599" y="101"/>
                  </a:lnTo>
                  <a:lnTo>
                    <a:pt x="604" y="117"/>
                  </a:lnTo>
                  <a:lnTo>
                    <a:pt x="589" y="121"/>
                  </a:lnTo>
                  <a:lnTo>
                    <a:pt x="532" y="97"/>
                  </a:lnTo>
                  <a:lnTo>
                    <a:pt x="479" y="87"/>
                  </a:lnTo>
                  <a:lnTo>
                    <a:pt x="364" y="74"/>
                  </a:lnTo>
                  <a:lnTo>
                    <a:pt x="250" y="40"/>
                  </a:lnTo>
                  <a:lnTo>
                    <a:pt x="119" y="19"/>
                  </a:lnTo>
                  <a:lnTo>
                    <a:pt x="0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28920" y="2746440"/>
              <a:ext cx="239760" cy="32400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23" y="3"/>
                  </a:moveTo>
                  <a:lnTo>
                    <a:pt x="111" y="65"/>
                  </a:lnTo>
                  <a:lnTo>
                    <a:pt x="151" y="200"/>
                  </a:lnTo>
                  <a:lnTo>
                    <a:pt x="128" y="204"/>
                  </a:lnTo>
                  <a:lnTo>
                    <a:pt x="108" y="185"/>
                  </a:lnTo>
                  <a:lnTo>
                    <a:pt x="111" y="130"/>
                  </a:lnTo>
                  <a:lnTo>
                    <a:pt x="88" y="79"/>
                  </a:lnTo>
                  <a:lnTo>
                    <a:pt x="45" y="44"/>
                  </a:lnTo>
                  <a:lnTo>
                    <a:pt x="2" y="14"/>
                  </a:lnTo>
                  <a:lnTo>
                    <a:pt x="0" y="0"/>
                  </a:lnTo>
                  <a:lnTo>
                    <a:pt x="23" y="3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02280" y="2754360"/>
              <a:ext cx="488880" cy="627120"/>
            </a:xfrm>
            <a:custGeom>
              <a:avLst/>
              <a:gdLst/>
              <a:ahLst/>
              <a:rect l="l" t="t" r="r" b="b"/>
              <a:pathLst>
                <a:path w="308" h="395">
                  <a:moveTo>
                    <a:pt x="15" y="0"/>
                  </a:moveTo>
                  <a:lnTo>
                    <a:pt x="68" y="38"/>
                  </a:lnTo>
                  <a:lnTo>
                    <a:pt x="117" y="73"/>
                  </a:lnTo>
                  <a:lnTo>
                    <a:pt x="161" y="111"/>
                  </a:lnTo>
                  <a:lnTo>
                    <a:pt x="201" y="150"/>
                  </a:lnTo>
                  <a:lnTo>
                    <a:pt x="267" y="242"/>
                  </a:lnTo>
                  <a:lnTo>
                    <a:pt x="308" y="360"/>
                  </a:lnTo>
                  <a:lnTo>
                    <a:pt x="304" y="384"/>
                  </a:lnTo>
                  <a:lnTo>
                    <a:pt x="287" y="395"/>
                  </a:lnTo>
                  <a:lnTo>
                    <a:pt x="253" y="374"/>
                  </a:lnTo>
                  <a:lnTo>
                    <a:pt x="236" y="313"/>
                  </a:lnTo>
                  <a:lnTo>
                    <a:pt x="216" y="260"/>
                  </a:lnTo>
                  <a:lnTo>
                    <a:pt x="192" y="213"/>
                  </a:lnTo>
                  <a:lnTo>
                    <a:pt x="165" y="169"/>
                  </a:lnTo>
                  <a:lnTo>
                    <a:pt x="132" y="128"/>
                  </a:lnTo>
                  <a:lnTo>
                    <a:pt x="94" y="91"/>
                  </a:lnTo>
                  <a:lnTo>
                    <a:pt x="50" y="55"/>
                  </a:lnTo>
                  <a:lnTo>
                    <a:pt x="2" y="20"/>
                  </a:lnTo>
                  <a:lnTo>
                    <a:pt x="0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0160" y="2979720"/>
              <a:ext cx="749520" cy="636840"/>
            </a:xfrm>
            <a:custGeom>
              <a:avLst/>
              <a:gdLst/>
              <a:ahLst/>
              <a:rect l="l" t="t" r="r" b="b"/>
              <a:pathLst>
                <a:path w="472" h="401">
                  <a:moveTo>
                    <a:pt x="468" y="20"/>
                  </a:moveTo>
                  <a:lnTo>
                    <a:pt x="401" y="62"/>
                  </a:lnTo>
                  <a:lnTo>
                    <a:pt x="339" y="101"/>
                  </a:lnTo>
                  <a:lnTo>
                    <a:pt x="283" y="139"/>
                  </a:lnTo>
                  <a:lnTo>
                    <a:pt x="231" y="179"/>
                  </a:lnTo>
                  <a:lnTo>
                    <a:pt x="182" y="222"/>
                  </a:lnTo>
                  <a:lnTo>
                    <a:pt x="137" y="269"/>
                  </a:lnTo>
                  <a:lnTo>
                    <a:pt x="92" y="325"/>
                  </a:lnTo>
                  <a:lnTo>
                    <a:pt x="46" y="389"/>
                  </a:lnTo>
                  <a:lnTo>
                    <a:pt x="27" y="401"/>
                  </a:lnTo>
                  <a:lnTo>
                    <a:pt x="7" y="396"/>
                  </a:lnTo>
                  <a:lnTo>
                    <a:pt x="0" y="356"/>
                  </a:lnTo>
                  <a:lnTo>
                    <a:pt x="45" y="290"/>
                  </a:lnTo>
                  <a:lnTo>
                    <a:pt x="68" y="261"/>
                  </a:lnTo>
                  <a:lnTo>
                    <a:pt x="89" y="233"/>
                  </a:lnTo>
                  <a:lnTo>
                    <a:pt x="133" y="185"/>
                  </a:lnTo>
                  <a:lnTo>
                    <a:pt x="181" y="144"/>
                  </a:lnTo>
                  <a:lnTo>
                    <a:pt x="235" y="106"/>
                  </a:lnTo>
                  <a:lnTo>
                    <a:pt x="298" y="71"/>
                  </a:lnTo>
                  <a:lnTo>
                    <a:pt x="332" y="53"/>
                  </a:lnTo>
                  <a:lnTo>
                    <a:pt x="370" y="35"/>
                  </a:lnTo>
                  <a:lnTo>
                    <a:pt x="411" y="18"/>
                  </a:lnTo>
                  <a:lnTo>
                    <a:pt x="456" y="0"/>
                  </a:lnTo>
                  <a:lnTo>
                    <a:pt x="472" y="4"/>
                  </a:lnTo>
                  <a:lnTo>
                    <a:pt x="468" y="20"/>
                  </a:lnTo>
                  <a:lnTo>
                    <a:pt x="468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690800" y="3092400"/>
              <a:ext cx="206640" cy="290520"/>
            </a:xfrm>
            <a:custGeom>
              <a:avLst/>
              <a:gdLst/>
              <a:ahLst/>
              <a:rect l="l" t="t" r="r" b="b"/>
              <a:pathLst>
                <a:path w="130" h="183">
                  <a:moveTo>
                    <a:pt x="109" y="19"/>
                  </a:moveTo>
                  <a:lnTo>
                    <a:pt x="71" y="68"/>
                  </a:lnTo>
                  <a:lnTo>
                    <a:pt x="38" y="178"/>
                  </a:lnTo>
                  <a:lnTo>
                    <a:pt x="7" y="183"/>
                  </a:lnTo>
                  <a:lnTo>
                    <a:pt x="0" y="181"/>
                  </a:lnTo>
                  <a:lnTo>
                    <a:pt x="7" y="109"/>
                  </a:lnTo>
                  <a:lnTo>
                    <a:pt x="22" y="76"/>
                  </a:lnTo>
                  <a:lnTo>
                    <a:pt x="41" y="42"/>
                  </a:lnTo>
                  <a:lnTo>
                    <a:pt x="91" y="0"/>
                  </a:lnTo>
                  <a:lnTo>
                    <a:pt x="130" y="0"/>
                  </a:lnTo>
                  <a:lnTo>
                    <a:pt x="109" y="19"/>
                  </a:lnTo>
                  <a:lnTo>
                    <a:pt x="109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16120" y="3481560"/>
              <a:ext cx="1554120" cy="1871640"/>
            </a:xfrm>
            <a:custGeom>
              <a:avLst/>
              <a:gdLst/>
              <a:ahLst/>
              <a:rect l="l" t="t" r="r" b="b"/>
              <a:pathLst>
                <a:path w="979" h="1179">
                  <a:moveTo>
                    <a:pt x="832" y="2"/>
                  </a:moveTo>
                  <a:lnTo>
                    <a:pt x="863" y="41"/>
                  </a:lnTo>
                  <a:lnTo>
                    <a:pt x="895" y="78"/>
                  </a:lnTo>
                  <a:lnTo>
                    <a:pt x="924" y="113"/>
                  </a:lnTo>
                  <a:lnTo>
                    <a:pt x="949" y="147"/>
                  </a:lnTo>
                  <a:lnTo>
                    <a:pt x="979" y="220"/>
                  </a:lnTo>
                  <a:lnTo>
                    <a:pt x="970" y="307"/>
                  </a:lnTo>
                  <a:lnTo>
                    <a:pt x="942" y="377"/>
                  </a:lnTo>
                  <a:lnTo>
                    <a:pt x="912" y="438"/>
                  </a:lnTo>
                  <a:lnTo>
                    <a:pt x="880" y="491"/>
                  </a:lnTo>
                  <a:lnTo>
                    <a:pt x="842" y="537"/>
                  </a:lnTo>
                  <a:lnTo>
                    <a:pt x="800" y="581"/>
                  </a:lnTo>
                  <a:lnTo>
                    <a:pt x="754" y="624"/>
                  </a:lnTo>
                  <a:lnTo>
                    <a:pt x="702" y="668"/>
                  </a:lnTo>
                  <a:lnTo>
                    <a:pt x="645" y="716"/>
                  </a:lnTo>
                  <a:lnTo>
                    <a:pt x="595" y="751"/>
                  </a:lnTo>
                  <a:lnTo>
                    <a:pt x="544" y="789"/>
                  </a:lnTo>
                  <a:lnTo>
                    <a:pt x="491" y="826"/>
                  </a:lnTo>
                  <a:lnTo>
                    <a:pt x="438" y="865"/>
                  </a:lnTo>
                  <a:lnTo>
                    <a:pt x="385" y="904"/>
                  </a:lnTo>
                  <a:lnTo>
                    <a:pt x="332" y="942"/>
                  </a:lnTo>
                  <a:lnTo>
                    <a:pt x="281" y="979"/>
                  </a:lnTo>
                  <a:lnTo>
                    <a:pt x="229" y="1013"/>
                  </a:lnTo>
                  <a:lnTo>
                    <a:pt x="13" y="1179"/>
                  </a:lnTo>
                  <a:lnTo>
                    <a:pt x="0" y="1160"/>
                  </a:lnTo>
                  <a:lnTo>
                    <a:pt x="9" y="1102"/>
                  </a:lnTo>
                  <a:lnTo>
                    <a:pt x="30" y="1036"/>
                  </a:lnTo>
                  <a:lnTo>
                    <a:pt x="55" y="997"/>
                  </a:lnTo>
                  <a:lnTo>
                    <a:pt x="195" y="914"/>
                  </a:lnTo>
                  <a:lnTo>
                    <a:pt x="244" y="884"/>
                  </a:lnTo>
                  <a:lnTo>
                    <a:pt x="288" y="857"/>
                  </a:lnTo>
                  <a:lnTo>
                    <a:pt x="370" y="805"/>
                  </a:lnTo>
                  <a:lnTo>
                    <a:pt x="450" y="752"/>
                  </a:lnTo>
                  <a:lnTo>
                    <a:pt x="493" y="723"/>
                  </a:lnTo>
                  <a:lnTo>
                    <a:pt x="540" y="691"/>
                  </a:lnTo>
                  <a:lnTo>
                    <a:pt x="596" y="647"/>
                  </a:lnTo>
                  <a:lnTo>
                    <a:pt x="649" y="606"/>
                  </a:lnTo>
                  <a:lnTo>
                    <a:pt x="698" y="569"/>
                  </a:lnTo>
                  <a:lnTo>
                    <a:pt x="745" y="530"/>
                  </a:lnTo>
                  <a:lnTo>
                    <a:pt x="788" y="488"/>
                  </a:lnTo>
                  <a:lnTo>
                    <a:pt x="825" y="440"/>
                  </a:lnTo>
                  <a:lnTo>
                    <a:pt x="885" y="318"/>
                  </a:lnTo>
                  <a:lnTo>
                    <a:pt x="901" y="238"/>
                  </a:lnTo>
                  <a:lnTo>
                    <a:pt x="891" y="161"/>
                  </a:lnTo>
                  <a:lnTo>
                    <a:pt x="862" y="89"/>
                  </a:lnTo>
                  <a:lnTo>
                    <a:pt x="839" y="53"/>
                  </a:lnTo>
                  <a:lnTo>
                    <a:pt x="814" y="16"/>
                  </a:lnTo>
                  <a:lnTo>
                    <a:pt x="815" y="0"/>
                  </a:lnTo>
                  <a:lnTo>
                    <a:pt x="832" y="2"/>
                  </a:lnTo>
                  <a:lnTo>
                    <a:pt x="832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16120" y="1765440"/>
              <a:ext cx="4367160" cy="237960"/>
            </a:xfrm>
            <a:custGeom>
              <a:avLst/>
              <a:gdLst/>
              <a:ahLst/>
              <a:rect l="l" t="t" r="r" b="b"/>
              <a:pathLst>
                <a:path w="2751" h="150">
                  <a:moveTo>
                    <a:pt x="53" y="46"/>
                  </a:moveTo>
                  <a:lnTo>
                    <a:pt x="147" y="57"/>
                  </a:lnTo>
                  <a:lnTo>
                    <a:pt x="232" y="51"/>
                  </a:lnTo>
                  <a:lnTo>
                    <a:pt x="316" y="38"/>
                  </a:lnTo>
                  <a:lnTo>
                    <a:pt x="411" y="32"/>
                  </a:lnTo>
                  <a:lnTo>
                    <a:pt x="873" y="15"/>
                  </a:lnTo>
                  <a:lnTo>
                    <a:pt x="1335" y="0"/>
                  </a:lnTo>
                  <a:lnTo>
                    <a:pt x="1647" y="14"/>
                  </a:lnTo>
                  <a:lnTo>
                    <a:pt x="1843" y="7"/>
                  </a:lnTo>
                  <a:lnTo>
                    <a:pt x="2440" y="32"/>
                  </a:lnTo>
                  <a:lnTo>
                    <a:pt x="2701" y="32"/>
                  </a:lnTo>
                  <a:lnTo>
                    <a:pt x="2741" y="52"/>
                  </a:lnTo>
                  <a:lnTo>
                    <a:pt x="2751" y="92"/>
                  </a:lnTo>
                  <a:lnTo>
                    <a:pt x="2733" y="129"/>
                  </a:lnTo>
                  <a:lnTo>
                    <a:pt x="2717" y="139"/>
                  </a:lnTo>
                  <a:lnTo>
                    <a:pt x="2693" y="141"/>
                  </a:lnTo>
                  <a:lnTo>
                    <a:pt x="2433" y="141"/>
                  </a:lnTo>
                  <a:lnTo>
                    <a:pt x="2139" y="124"/>
                  </a:lnTo>
                  <a:lnTo>
                    <a:pt x="1843" y="116"/>
                  </a:lnTo>
                  <a:lnTo>
                    <a:pt x="1641" y="125"/>
                  </a:lnTo>
                  <a:lnTo>
                    <a:pt x="1335" y="111"/>
                  </a:lnTo>
                  <a:lnTo>
                    <a:pt x="873" y="126"/>
                  </a:lnTo>
                  <a:lnTo>
                    <a:pt x="411" y="141"/>
                  </a:lnTo>
                  <a:lnTo>
                    <a:pt x="223" y="150"/>
                  </a:lnTo>
                  <a:lnTo>
                    <a:pt x="34" y="135"/>
                  </a:lnTo>
                  <a:lnTo>
                    <a:pt x="5" y="114"/>
                  </a:lnTo>
                  <a:lnTo>
                    <a:pt x="0" y="81"/>
                  </a:lnTo>
                  <a:lnTo>
                    <a:pt x="18" y="53"/>
                  </a:lnTo>
                  <a:lnTo>
                    <a:pt x="53" y="46"/>
                  </a:lnTo>
                  <a:lnTo>
                    <a:pt x="53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23080" y="1855800"/>
              <a:ext cx="223560" cy="4383000"/>
            </a:xfrm>
            <a:custGeom>
              <a:avLst/>
              <a:gdLst/>
              <a:ahLst/>
              <a:rect l="l" t="t" r="r" b="b"/>
              <a:pathLst>
                <a:path w="141" h="2761">
                  <a:moveTo>
                    <a:pt x="101" y="54"/>
                  </a:moveTo>
                  <a:lnTo>
                    <a:pt x="119" y="431"/>
                  </a:lnTo>
                  <a:lnTo>
                    <a:pt x="126" y="625"/>
                  </a:lnTo>
                  <a:lnTo>
                    <a:pt x="122" y="795"/>
                  </a:lnTo>
                  <a:lnTo>
                    <a:pt x="111" y="1159"/>
                  </a:lnTo>
                  <a:lnTo>
                    <a:pt x="122" y="1318"/>
                  </a:lnTo>
                  <a:lnTo>
                    <a:pt x="137" y="1477"/>
                  </a:lnTo>
                  <a:lnTo>
                    <a:pt x="141" y="1811"/>
                  </a:lnTo>
                  <a:lnTo>
                    <a:pt x="126" y="2146"/>
                  </a:lnTo>
                  <a:lnTo>
                    <a:pt x="126" y="2268"/>
                  </a:lnTo>
                  <a:lnTo>
                    <a:pt x="126" y="2391"/>
                  </a:lnTo>
                  <a:lnTo>
                    <a:pt x="106" y="2706"/>
                  </a:lnTo>
                  <a:lnTo>
                    <a:pt x="89" y="2747"/>
                  </a:lnTo>
                  <a:lnTo>
                    <a:pt x="53" y="2761"/>
                  </a:lnTo>
                  <a:lnTo>
                    <a:pt x="16" y="2747"/>
                  </a:lnTo>
                  <a:lnTo>
                    <a:pt x="0" y="2706"/>
                  </a:lnTo>
                  <a:lnTo>
                    <a:pt x="20" y="2381"/>
                  </a:lnTo>
                  <a:lnTo>
                    <a:pt x="20" y="2261"/>
                  </a:lnTo>
                  <a:lnTo>
                    <a:pt x="20" y="2138"/>
                  </a:lnTo>
                  <a:lnTo>
                    <a:pt x="31" y="1481"/>
                  </a:lnTo>
                  <a:lnTo>
                    <a:pt x="5" y="1159"/>
                  </a:lnTo>
                  <a:lnTo>
                    <a:pt x="14" y="438"/>
                  </a:lnTo>
                  <a:lnTo>
                    <a:pt x="0" y="236"/>
                  </a:lnTo>
                  <a:lnTo>
                    <a:pt x="15" y="34"/>
                  </a:lnTo>
                  <a:lnTo>
                    <a:pt x="35" y="4"/>
                  </a:lnTo>
                  <a:lnTo>
                    <a:pt x="67" y="0"/>
                  </a:lnTo>
                  <a:lnTo>
                    <a:pt x="94" y="18"/>
                  </a:lnTo>
                  <a:lnTo>
                    <a:pt x="101" y="54"/>
                  </a:lnTo>
                  <a:lnTo>
                    <a:pt x="101" y="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54200" y="1849320"/>
              <a:ext cx="216000" cy="4419720"/>
            </a:xfrm>
            <a:custGeom>
              <a:avLst/>
              <a:gdLst/>
              <a:ahLst/>
              <a:rect l="l" t="t" r="r" b="b"/>
              <a:pathLst>
                <a:path w="136" h="2784">
                  <a:moveTo>
                    <a:pt x="136" y="42"/>
                  </a:moveTo>
                  <a:lnTo>
                    <a:pt x="126" y="200"/>
                  </a:lnTo>
                  <a:lnTo>
                    <a:pt x="136" y="357"/>
                  </a:lnTo>
                  <a:lnTo>
                    <a:pt x="120" y="1062"/>
                  </a:lnTo>
                  <a:lnTo>
                    <a:pt x="103" y="1285"/>
                  </a:lnTo>
                  <a:lnTo>
                    <a:pt x="109" y="1481"/>
                  </a:lnTo>
                  <a:lnTo>
                    <a:pt x="131" y="1900"/>
                  </a:lnTo>
                  <a:lnTo>
                    <a:pt x="113" y="2509"/>
                  </a:lnTo>
                  <a:lnTo>
                    <a:pt x="106" y="2615"/>
                  </a:lnTo>
                  <a:lnTo>
                    <a:pt x="113" y="2721"/>
                  </a:lnTo>
                  <a:lnTo>
                    <a:pt x="103" y="2765"/>
                  </a:lnTo>
                  <a:lnTo>
                    <a:pt x="70" y="2784"/>
                  </a:lnTo>
                  <a:lnTo>
                    <a:pt x="31" y="2778"/>
                  </a:lnTo>
                  <a:lnTo>
                    <a:pt x="9" y="2740"/>
                  </a:lnTo>
                  <a:lnTo>
                    <a:pt x="0" y="2619"/>
                  </a:lnTo>
                  <a:lnTo>
                    <a:pt x="8" y="2498"/>
                  </a:lnTo>
                  <a:lnTo>
                    <a:pt x="25" y="2199"/>
                  </a:lnTo>
                  <a:lnTo>
                    <a:pt x="25" y="2165"/>
                  </a:lnTo>
                  <a:lnTo>
                    <a:pt x="25" y="2148"/>
                  </a:lnTo>
                  <a:lnTo>
                    <a:pt x="25" y="2130"/>
                  </a:lnTo>
                  <a:lnTo>
                    <a:pt x="25" y="2059"/>
                  </a:lnTo>
                  <a:lnTo>
                    <a:pt x="24" y="1900"/>
                  </a:lnTo>
                  <a:lnTo>
                    <a:pt x="14" y="1054"/>
                  </a:lnTo>
                  <a:lnTo>
                    <a:pt x="25" y="706"/>
                  </a:lnTo>
                  <a:lnTo>
                    <a:pt x="38" y="357"/>
                  </a:lnTo>
                  <a:lnTo>
                    <a:pt x="29" y="196"/>
                  </a:lnTo>
                  <a:lnTo>
                    <a:pt x="40" y="35"/>
                  </a:lnTo>
                  <a:lnTo>
                    <a:pt x="48" y="18"/>
                  </a:lnTo>
                  <a:lnTo>
                    <a:pt x="62" y="7"/>
                  </a:lnTo>
                  <a:lnTo>
                    <a:pt x="96" y="0"/>
                  </a:lnTo>
                  <a:lnTo>
                    <a:pt x="127" y="12"/>
                  </a:lnTo>
                  <a:lnTo>
                    <a:pt x="136" y="42"/>
                  </a:lnTo>
                  <a:lnTo>
                    <a:pt x="136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14320" y="6050160"/>
              <a:ext cx="4365720" cy="233280"/>
            </a:xfrm>
            <a:custGeom>
              <a:avLst/>
              <a:gdLst/>
              <a:ahLst/>
              <a:rect l="l" t="t" r="r" b="b"/>
              <a:pathLst>
                <a:path w="2750" h="147">
                  <a:moveTo>
                    <a:pt x="31" y="66"/>
                  </a:moveTo>
                  <a:lnTo>
                    <a:pt x="124" y="45"/>
                  </a:lnTo>
                  <a:lnTo>
                    <a:pt x="221" y="37"/>
                  </a:lnTo>
                  <a:lnTo>
                    <a:pt x="415" y="31"/>
                  </a:lnTo>
                  <a:lnTo>
                    <a:pt x="663" y="15"/>
                  </a:lnTo>
                  <a:lnTo>
                    <a:pt x="882" y="10"/>
                  </a:lnTo>
                  <a:lnTo>
                    <a:pt x="1350" y="12"/>
                  </a:lnTo>
                  <a:lnTo>
                    <a:pt x="1569" y="12"/>
                  </a:lnTo>
                  <a:lnTo>
                    <a:pt x="2190" y="6"/>
                  </a:lnTo>
                  <a:lnTo>
                    <a:pt x="2416" y="0"/>
                  </a:lnTo>
                  <a:lnTo>
                    <a:pt x="2563" y="12"/>
                  </a:lnTo>
                  <a:lnTo>
                    <a:pt x="2710" y="12"/>
                  </a:lnTo>
                  <a:lnTo>
                    <a:pt x="2739" y="27"/>
                  </a:lnTo>
                  <a:lnTo>
                    <a:pt x="2750" y="68"/>
                  </a:lnTo>
                  <a:lnTo>
                    <a:pt x="2739" y="107"/>
                  </a:lnTo>
                  <a:lnTo>
                    <a:pt x="2724" y="119"/>
                  </a:lnTo>
                  <a:lnTo>
                    <a:pt x="2701" y="122"/>
                  </a:lnTo>
                  <a:lnTo>
                    <a:pt x="2412" y="110"/>
                  </a:lnTo>
                  <a:lnTo>
                    <a:pt x="2195" y="117"/>
                  </a:lnTo>
                  <a:lnTo>
                    <a:pt x="1885" y="119"/>
                  </a:lnTo>
                  <a:lnTo>
                    <a:pt x="1573" y="122"/>
                  </a:lnTo>
                  <a:lnTo>
                    <a:pt x="1350" y="122"/>
                  </a:lnTo>
                  <a:lnTo>
                    <a:pt x="886" y="120"/>
                  </a:lnTo>
                  <a:lnTo>
                    <a:pt x="423" y="142"/>
                  </a:lnTo>
                  <a:lnTo>
                    <a:pt x="240" y="133"/>
                  </a:lnTo>
                  <a:lnTo>
                    <a:pt x="60" y="147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1" y="91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087960" y="4930920"/>
              <a:ext cx="150840" cy="687240"/>
            </a:xfrm>
            <a:custGeom>
              <a:avLst/>
              <a:gdLst/>
              <a:ahLst/>
              <a:rect l="l" t="t" r="r" b="b"/>
              <a:pathLst>
                <a:path w="95" h="433">
                  <a:moveTo>
                    <a:pt x="17" y="3"/>
                  </a:moveTo>
                  <a:lnTo>
                    <a:pt x="49" y="59"/>
                  </a:lnTo>
                  <a:lnTo>
                    <a:pt x="63" y="125"/>
                  </a:lnTo>
                  <a:lnTo>
                    <a:pt x="95" y="391"/>
                  </a:lnTo>
                  <a:lnTo>
                    <a:pt x="83" y="423"/>
                  </a:lnTo>
                  <a:lnTo>
                    <a:pt x="55" y="433"/>
                  </a:lnTo>
                  <a:lnTo>
                    <a:pt x="28" y="423"/>
                  </a:lnTo>
                  <a:lnTo>
                    <a:pt x="15" y="391"/>
                  </a:lnTo>
                  <a:lnTo>
                    <a:pt x="21" y="131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11880" y="4883040"/>
              <a:ext cx="401400" cy="914400"/>
            </a:xfrm>
            <a:custGeom>
              <a:avLst/>
              <a:gdLst/>
              <a:ahLst/>
              <a:rect l="l" t="t" r="r" b="b"/>
              <a:pathLst>
                <a:path w="253" h="576">
                  <a:moveTo>
                    <a:pt x="16" y="0"/>
                  </a:moveTo>
                  <a:lnTo>
                    <a:pt x="70" y="59"/>
                  </a:lnTo>
                  <a:lnTo>
                    <a:pt x="114" y="117"/>
                  </a:lnTo>
                  <a:lnTo>
                    <a:pt x="150" y="175"/>
                  </a:lnTo>
                  <a:lnTo>
                    <a:pt x="177" y="235"/>
                  </a:lnTo>
                  <a:lnTo>
                    <a:pt x="253" y="516"/>
                  </a:lnTo>
                  <a:lnTo>
                    <a:pt x="248" y="555"/>
                  </a:lnTo>
                  <a:lnTo>
                    <a:pt x="234" y="566"/>
                  </a:lnTo>
                  <a:lnTo>
                    <a:pt x="212" y="570"/>
                  </a:lnTo>
                  <a:lnTo>
                    <a:pt x="114" y="576"/>
                  </a:lnTo>
                  <a:lnTo>
                    <a:pt x="38" y="567"/>
                  </a:lnTo>
                  <a:lnTo>
                    <a:pt x="7" y="550"/>
                  </a:lnTo>
                  <a:lnTo>
                    <a:pt x="0" y="520"/>
                  </a:lnTo>
                  <a:lnTo>
                    <a:pt x="12" y="492"/>
                  </a:lnTo>
                  <a:lnTo>
                    <a:pt x="45" y="481"/>
                  </a:lnTo>
                  <a:lnTo>
                    <a:pt x="119" y="486"/>
                  </a:lnTo>
                  <a:lnTo>
                    <a:pt x="158" y="484"/>
                  </a:lnTo>
                  <a:lnTo>
                    <a:pt x="121" y="234"/>
                  </a:lnTo>
                  <a:lnTo>
                    <a:pt x="104" y="177"/>
                  </a:lnTo>
                  <a:lnTo>
                    <a:pt x="80" y="123"/>
                  </a:lnTo>
                  <a:lnTo>
                    <a:pt x="46" y="69"/>
                  </a:lnTo>
                  <a:lnTo>
                    <a:pt x="26" y="43"/>
                  </a:lnTo>
                  <a:lnTo>
                    <a:pt x="1" y="18"/>
                  </a:lnTo>
                  <a:lnTo>
                    <a:pt x="1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70440" y="2979720"/>
              <a:ext cx="8748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20" y="0"/>
                  </a:moveTo>
                  <a:lnTo>
                    <a:pt x="55" y="49"/>
                  </a:lnTo>
                  <a:lnTo>
                    <a:pt x="48" y="71"/>
                  </a:lnTo>
                  <a:lnTo>
                    <a:pt x="27" y="62"/>
                  </a:lnTo>
                  <a:lnTo>
                    <a:pt x="0" y="20"/>
                  </a:lnTo>
                  <a:lnTo>
                    <a:pt x="2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9000" y="269712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24" y="5"/>
                  </a:moveTo>
                  <a:lnTo>
                    <a:pt x="45" y="16"/>
                  </a:lnTo>
                  <a:lnTo>
                    <a:pt x="40" y="39"/>
                  </a:lnTo>
                  <a:lnTo>
                    <a:pt x="19" y="34"/>
                  </a:lnTo>
                  <a:lnTo>
                    <a:pt x="1" y="16"/>
                  </a:lnTo>
                  <a:lnTo>
                    <a:pt x="0" y="0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24280" y="2792520"/>
              <a:ext cx="76320" cy="842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26" y="8"/>
                  </a:moveTo>
                  <a:lnTo>
                    <a:pt x="48" y="29"/>
                  </a:lnTo>
                  <a:lnTo>
                    <a:pt x="44" y="53"/>
                  </a:lnTo>
                  <a:lnTo>
                    <a:pt x="20" y="49"/>
                  </a:lnTo>
                  <a:lnTo>
                    <a:pt x="0" y="20"/>
                  </a:lnTo>
                  <a:lnTo>
                    <a:pt x="4" y="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076640" y="3032280"/>
              <a:ext cx="101520" cy="87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64" y="12"/>
                  </a:moveTo>
                  <a:lnTo>
                    <a:pt x="20" y="54"/>
                  </a:lnTo>
                  <a:lnTo>
                    <a:pt x="2" y="55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64" y="12"/>
                  </a:lnTo>
                  <a:lnTo>
                    <a:pt x="64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55960" y="321624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77" y="15"/>
                  </a:moveTo>
                  <a:lnTo>
                    <a:pt x="38" y="70"/>
                  </a:lnTo>
                  <a:lnTo>
                    <a:pt x="9" y="76"/>
                  </a:lnTo>
                  <a:lnTo>
                    <a:pt x="0" y="58"/>
                  </a:lnTo>
                  <a:lnTo>
                    <a:pt x="31" y="25"/>
                  </a:lnTo>
                  <a:lnTo>
                    <a:pt x="65" y="0"/>
                  </a:lnTo>
                  <a:lnTo>
                    <a:pt x="83" y="1"/>
                  </a:lnTo>
                  <a:lnTo>
                    <a:pt x="77" y="15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65600" y="2544840"/>
              <a:ext cx="296640" cy="154080"/>
            </a:xfrm>
            <a:custGeom>
              <a:avLst/>
              <a:gdLst/>
              <a:ahLst/>
              <a:rect l="l" t="t" r="r" b="b"/>
              <a:pathLst>
                <a:path w="187" h="97">
                  <a:moveTo>
                    <a:pt x="4" y="0"/>
                  </a:moveTo>
                  <a:lnTo>
                    <a:pt x="106" y="38"/>
                  </a:lnTo>
                  <a:lnTo>
                    <a:pt x="161" y="67"/>
                  </a:lnTo>
                  <a:lnTo>
                    <a:pt x="187" y="82"/>
                  </a:lnTo>
                  <a:lnTo>
                    <a:pt x="185" y="97"/>
                  </a:lnTo>
                  <a:lnTo>
                    <a:pt x="152" y="92"/>
                  </a:lnTo>
                  <a:lnTo>
                    <a:pt x="96" y="63"/>
                  </a:lnTo>
                  <a:lnTo>
                    <a:pt x="89" y="59"/>
                  </a:lnTo>
                  <a:lnTo>
                    <a:pt x="50" y="31"/>
                  </a:lnTo>
                  <a:lnTo>
                    <a:pt x="0" y="1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695920" y="3762360"/>
              <a:ext cx="368280" cy="39852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58" y="13"/>
                  </a:moveTo>
                  <a:lnTo>
                    <a:pt x="170" y="115"/>
                  </a:lnTo>
                  <a:lnTo>
                    <a:pt x="232" y="227"/>
                  </a:lnTo>
                  <a:lnTo>
                    <a:pt x="219" y="251"/>
                  </a:lnTo>
                  <a:lnTo>
                    <a:pt x="199" y="237"/>
                  </a:lnTo>
                  <a:lnTo>
                    <a:pt x="174" y="171"/>
                  </a:lnTo>
                  <a:lnTo>
                    <a:pt x="135" y="117"/>
                  </a:lnTo>
                  <a:lnTo>
                    <a:pt x="72" y="63"/>
                  </a:lnTo>
                  <a:lnTo>
                    <a:pt x="7" y="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62360" y="3807000"/>
              <a:ext cx="419400" cy="487080"/>
            </a:xfrm>
            <a:custGeom>
              <a:avLst/>
              <a:gdLst/>
              <a:ahLst/>
              <a:rect l="l" t="t" r="r" b="b"/>
              <a:pathLst>
                <a:path w="264" h="307">
                  <a:moveTo>
                    <a:pt x="23" y="4"/>
                  </a:moveTo>
                  <a:lnTo>
                    <a:pt x="48" y="45"/>
                  </a:lnTo>
                  <a:lnTo>
                    <a:pt x="73" y="101"/>
                  </a:lnTo>
                  <a:lnTo>
                    <a:pt x="98" y="150"/>
                  </a:lnTo>
                  <a:lnTo>
                    <a:pt x="137" y="255"/>
                  </a:lnTo>
                  <a:lnTo>
                    <a:pt x="192" y="239"/>
                  </a:lnTo>
                  <a:lnTo>
                    <a:pt x="253" y="229"/>
                  </a:lnTo>
                  <a:lnTo>
                    <a:pt x="264" y="240"/>
                  </a:lnTo>
                  <a:lnTo>
                    <a:pt x="254" y="254"/>
                  </a:lnTo>
                  <a:lnTo>
                    <a:pt x="191" y="275"/>
                  </a:lnTo>
                  <a:lnTo>
                    <a:pt x="130" y="307"/>
                  </a:lnTo>
                  <a:lnTo>
                    <a:pt x="104" y="289"/>
                  </a:lnTo>
                  <a:lnTo>
                    <a:pt x="79" y="187"/>
                  </a:lnTo>
                  <a:lnTo>
                    <a:pt x="40" y="93"/>
                  </a:lnTo>
                  <a:lnTo>
                    <a:pt x="24" y="64"/>
                  </a:lnTo>
                  <a:lnTo>
                    <a:pt x="5" y="36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3" y="4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37200" y="3419640"/>
              <a:ext cx="333360" cy="160200"/>
            </a:xfrm>
            <a:custGeom>
              <a:avLst/>
              <a:gdLst/>
              <a:ahLst/>
              <a:rect l="l" t="t" r="r" b="b"/>
              <a:pathLst>
                <a:path w="210" h="101">
                  <a:moveTo>
                    <a:pt x="13" y="2"/>
                  </a:moveTo>
                  <a:lnTo>
                    <a:pt x="54" y="36"/>
                  </a:lnTo>
                  <a:lnTo>
                    <a:pt x="99" y="62"/>
                  </a:lnTo>
                  <a:lnTo>
                    <a:pt x="158" y="52"/>
                  </a:lnTo>
                  <a:lnTo>
                    <a:pt x="104" y="0"/>
                  </a:lnTo>
                  <a:lnTo>
                    <a:pt x="174" y="28"/>
                  </a:lnTo>
                  <a:lnTo>
                    <a:pt x="210" y="65"/>
                  </a:lnTo>
                  <a:lnTo>
                    <a:pt x="190" y="74"/>
                  </a:lnTo>
                  <a:lnTo>
                    <a:pt x="102" y="101"/>
                  </a:lnTo>
                  <a:lnTo>
                    <a:pt x="87" y="98"/>
                  </a:lnTo>
                  <a:lnTo>
                    <a:pt x="0" y="16"/>
                  </a:lnTo>
                  <a:lnTo>
                    <a:pt x="0" y="2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 txBox="1"/>
          <p:nvPr/>
        </p:nvSpPr>
        <p:spPr>
          <a:xfrm>
            <a:off x="1176480" y="1593720"/>
            <a:ext cx="6794280" cy="379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termining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stanc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4729320" y="249876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,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104240" y="248904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5,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26040" y="349092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3800" y="3505320"/>
            <a:ext cx="131760" cy="13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16200000">
            <a:off x="5956200" y="2958480"/>
            <a:ext cx="944280" cy="2494080"/>
          </a:xfrm>
          <a:custGeom>
            <a:avLst/>
            <a:gdLst>
              <a:gd name="textAreaLeft" fmla="*/ 603360 w 944280"/>
              <a:gd name="textAreaRight" fmla="*/ 944640 w 944280"/>
              <a:gd name="textAreaTop" fmla="*/ 64800 h 2494080"/>
              <a:gd name="textAreaBottom" fmla="*/ 2429280 h 249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65200" y="4665600"/>
            <a:ext cx="308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=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ere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coordin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785" name=""/>
          <p:cNvGrpSpPr/>
          <p:nvPr/>
        </p:nvGrpSpPr>
        <p:grpSpPr>
          <a:xfrm>
            <a:off x="5102640" y="3733560"/>
            <a:ext cx="3355200" cy="2703240"/>
            <a:chOff x="5102640" y="3733560"/>
            <a:chExt cx="3355200" cy="2703240"/>
          </a:xfrm>
        </p:grpSpPr>
        <p:sp>
          <p:nvSpPr>
            <p:cNvPr id="786" name=""/>
            <p:cNvSpPr/>
            <p:nvPr/>
          </p:nvSpPr>
          <p:spPr>
            <a:xfrm rot="16200000">
              <a:off x="5956200" y="2958480"/>
              <a:ext cx="944280" cy="2494080"/>
            </a:xfrm>
            <a:custGeom>
              <a:avLst/>
              <a:gdLst>
                <a:gd name="textAreaLeft" fmla="*/ 603360 w 944280"/>
                <a:gd name="textAreaRight" fmla="*/ 944640 w 944280"/>
                <a:gd name="textAreaTop" fmla="*/ 64800 h 2494080"/>
                <a:gd name="textAreaBottom" fmla="*/ 2429280 h 249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2640" y="4621320"/>
              <a:ext cx="335520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stance =</a:t>
              </a:r>
              <a:br>
                <a:rPr sz="3600"/>
              </a:b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br>
                <a:rPr sz="3600"/>
              </a:b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– 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4 un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4729320" y="1677960"/>
            <a:ext cx="1101240" cy="1944720"/>
            <a:chOff x="4729320" y="1677960"/>
            <a:chExt cx="1101240" cy="1944720"/>
          </a:xfrm>
        </p:grpSpPr>
        <p:sp>
          <p:nvSpPr>
            <p:cNvPr id="790" name=""/>
            <p:cNvSpPr/>
            <p:nvPr/>
          </p:nvSpPr>
          <p:spPr>
            <a:xfrm>
              <a:off x="4729320" y="249876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26040" y="3490920"/>
              <a:ext cx="1317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000400" y="1677960"/>
              <a:ext cx="575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81480" y="2209680"/>
              <a:ext cx="7632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7104240" y="1622520"/>
            <a:ext cx="1101240" cy="2014560"/>
            <a:chOff x="7104240" y="1622520"/>
            <a:chExt cx="1101240" cy="2014560"/>
          </a:xfrm>
        </p:grpSpPr>
        <p:sp>
          <p:nvSpPr>
            <p:cNvPr id="795" name=""/>
            <p:cNvSpPr/>
            <p:nvPr/>
          </p:nvSpPr>
          <p:spPr>
            <a:xfrm>
              <a:off x="7104240" y="248904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1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43800" y="3505320"/>
              <a:ext cx="131760" cy="13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23040" y="1622520"/>
              <a:ext cx="639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456320" y="2189160"/>
              <a:ext cx="76320" cy="304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776160" y="1347840"/>
            <a:ext cx="77058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800" name=""/>
          <p:cNvGrpSpPr/>
          <p:nvPr/>
        </p:nvGrpSpPr>
        <p:grpSpPr>
          <a:xfrm>
            <a:off x="1544760" y="3422520"/>
            <a:ext cx="6474240" cy="3014280"/>
            <a:chOff x="1544760" y="3422520"/>
            <a:chExt cx="6474240" cy="3014280"/>
          </a:xfrm>
        </p:grpSpPr>
        <p:sp>
          <p:nvSpPr>
            <p:cNvPr id="801" name=""/>
            <p:cNvSpPr/>
            <p:nvPr/>
          </p:nvSpPr>
          <p:spPr>
            <a:xfrm rot="16200000">
              <a:off x="3983040" y="984240"/>
              <a:ext cx="1198800" cy="6075360"/>
            </a:xfrm>
            <a:custGeom>
              <a:avLst/>
              <a:gdLst>
                <a:gd name="textAreaLeft" fmla="*/ 766080 w 1198800"/>
                <a:gd name="textAreaRight" fmla="*/ 1199160 w 1198800"/>
                <a:gd name="textAreaTop" fmla="*/ 158400 h 6075360"/>
                <a:gd name="textAreaBottom" fmla="*/ 5916960 h 60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3591"/>
                  </a:lnTo>
                  <a:cubicBezTo>
                    <a:pt x="10800" y="14491"/>
                    <a:pt x="5400" y="15391"/>
                    <a:pt x="0" y="15391"/>
                  </a:cubicBezTo>
                  <a:cubicBezTo>
                    <a:pt x="5400" y="15391"/>
                    <a:pt x="10800" y="16291"/>
                    <a:pt x="10800" y="1719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63480" y="4621320"/>
              <a:ext cx="285552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stance =</a:t>
              </a:r>
              <a:br>
                <a:rPr sz="3600"/>
              </a:b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 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=</a:t>
              </a:r>
              <a:br>
                <a:rPr sz="3600"/>
              </a:b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– 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-5)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143720" y="1427040"/>
            <a:ext cx="1249200" cy="1889280"/>
            <a:chOff x="1143720" y="1427040"/>
            <a:chExt cx="1249200" cy="1889280"/>
          </a:xfrm>
        </p:grpSpPr>
        <p:sp>
          <p:nvSpPr>
            <p:cNvPr id="805" name=""/>
            <p:cNvSpPr/>
            <p:nvPr/>
          </p:nvSpPr>
          <p:spPr>
            <a:xfrm>
              <a:off x="1143720" y="2319480"/>
              <a:ext cx="124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-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468440" y="3184560"/>
              <a:ext cx="1317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76000" y="1427040"/>
              <a:ext cx="575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1657080" y="1959120"/>
              <a:ext cx="7596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7140600" y="1289160"/>
            <a:ext cx="1101240" cy="2025720"/>
            <a:chOff x="7140600" y="1289160"/>
            <a:chExt cx="1101240" cy="2025720"/>
          </a:xfrm>
        </p:grpSpPr>
        <p:sp>
          <p:nvSpPr>
            <p:cNvPr id="810" name=""/>
            <p:cNvSpPr/>
            <p:nvPr/>
          </p:nvSpPr>
          <p:spPr>
            <a:xfrm>
              <a:off x="7223040" y="1289160"/>
              <a:ext cx="639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x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7140600" y="1844640"/>
              <a:ext cx="1101240" cy="1470240"/>
              <a:chOff x="7140600" y="1844640"/>
              <a:chExt cx="1101240" cy="1470240"/>
            </a:xfrm>
          </p:grpSpPr>
          <p:sp>
            <p:nvSpPr>
              <p:cNvPr id="812" name=""/>
              <p:cNvSpPr/>
              <p:nvPr/>
            </p:nvSpPr>
            <p:spPr>
              <a:xfrm>
                <a:off x="7140600" y="2100240"/>
                <a:ext cx="1101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5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,2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566120" y="3182760"/>
                <a:ext cx="131760" cy="13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456320" y="1844640"/>
                <a:ext cx="76320" cy="3049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5" name=""/>
          <p:cNvGrpSpPr/>
          <p:nvPr/>
        </p:nvGrpSpPr>
        <p:grpSpPr>
          <a:xfrm>
            <a:off x="1657440" y="2724120"/>
            <a:ext cx="5875200" cy="642600"/>
            <a:chOff x="1657440" y="2724120"/>
            <a:chExt cx="5875200" cy="642600"/>
          </a:xfrm>
        </p:grpSpPr>
        <p:sp>
          <p:nvSpPr>
            <p:cNvPr id="816" name=""/>
            <p:cNvSpPr/>
            <p:nvPr/>
          </p:nvSpPr>
          <p:spPr>
            <a:xfrm>
              <a:off x="1657440" y="3251160"/>
              <a:ext cx="5875200" cy="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81520" y="2724120"/>
              <a:ext cx="1889280" cy="642600"/>
            </a:xfrm>
            <a:prstGeom prst="rect">
              <a:avLst/>
            </a:prstGeom>
            <a:noFill/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ff"/>
                  </a:solidFill>
                  <a:latin typeface="Comic Sans MS"/>
                </a:rPr>
                <a:t>10 un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776160" y="134784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128600" y="4950000"/>
            <a:ext cx="1863000" cy="1503720"/>
            <a:chOff x="1128600" y="4950000"/>
            <a:chExt cx="1863000" cy="1503720"/>
          </a:xfrm>
        </p:grpSpPr>
        <p:sp>
          <p:nvSpPr>
            <p:cNvPr id="821" name=""/>
            <p:cNvSpPr/>
            <p:nvPr/>
          </p:nvSpPr>
          <p:spPr>
            <a:xfrm>
              <a:off x="1128600" y="526248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-5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,-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68440" y="4950000"/>
              <a:ext cx="1317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25320" y="5735520"/>
              <a:ext cx="566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2057400" y="5866920"/>
              <a:ext cx="3808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144080" y="1373040"/>
            <a:ext cx="2029320" cy="1959120"/>
            <a:chOff x="1144080" y="1373040"/>
            <a:chExt cx="2029320" cy="1959120"/>
          </a:xfrm>
        </p:grpSpPr>
        <p:sp>
          <p:nvSpPr>
            <p:cNvPr id="826" name=""/>
            <p:cNvSpPr/>
            <p:nvPr/>
          </p:nvSpPr>
          <p:spPr>
            <a:xfrm>
              <a:off x="1144080" y="2319480"/>
              <a:ext cx="124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-5,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68440" y="3200400"/>
              <a:ext cx="131760" cy="13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533680" y="1373040"/>
              <a:ext cx="639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y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09320" y="2133720"/>
              <a:ext cx="381240" cy="2286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1828440" y="3200400"/>
            <a:ext cx="5956200" cy="3236400"/>
            <a:chOff x="1828440" y="3200400"/>
            <a:chExt cx="5956200" cy="3236400"/>
          </a:xfrm>
        </p:grpSpPr>
        <p:sp>
          <p:nvSpPr>
            <p:cNvPr id="831" name=""/>
            <p:cNvSpPr/>
            <p:nvPr/>
          </p:nvSpPr>
          <p:spPr>
            <a:xfrm rot="10800000">
              <a:off x="1828440" y="3200400"/>
              <a:ext cx="973080" cy="1751040"/>
            </a:xfrm>
            <a:custGeom>
              <a:avLst/>
              <a:gdLst>
                <a:gd name="textAreaLeft" fmla="*/ 621720 w 973080"/>
                <a:gd name="textAreaRight" fmla="*/ 973440 w 973080"/>
                <a:gd name="textAreaTop" fmla="*/ 45360 h 1751040"/>
                <a:gd name="textAreaBottom" fmla="*/ 170568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3604"/>
                  </a:lnTo>
                  <a:cubicBezTo>
                    <a:pt x="10800" y="4504"/>
                    <a:pt x="5400" y="5404"/>
                    <a:pt x="0" y="5404"/>
                  </a:cubicBezTo>
                  <a:cubicBezTo>
                    <a:pt x="5400" y="5404"/>
                    <a:pt x="10800" y="6304"/>
                    <a:pt x="10800" y="720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91200" y="4621320"/>
              <a:ext cx="259344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stance =</a:t>
              </a:r>
              <a:br>
                <a:rPr sz="3600"/>
              </a:b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y</a:t>
              </a:r>
              <a:r>
                <a:rPr b="0" lang="en-US" sz="3600" spc="-1" strike="noStrike" baseline="-25000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r>
                <a:rPr b="0" lang="en-US" sz="36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br>
                <a:rPr sz="3600"/>
              </a:b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– 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-4)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9520" y="4495680"/>
              <a:ext cx="228600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895480" y="243828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quadrants         for a given 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distance between two points in the coordinat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0760" y="673200"/>
            <a:ext cx="43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2160720" y="144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Pythagorean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024200" y="2081160"/>
            <a:ext cx="2171520" cy="4059000"/>
            <a:chOff x="1024200" y="2081160"/>
            <a:chExt cx="2171520" cy="4059000"/>
          </a:xfrm>
        </p:grpSpPr>
        <p:sp>
          <p:nvSpPr>
            <p:cNvPr id="836" name=""/>
            <p:cNvSpPr/>
            <p:nvPr/>
          </p:nvSpPr>
          <p:spPr>
            <a:xfrm>
              <a:off x="1413000" y="2081160"/>
              <a:ext cx="1782720" cy="35463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13200" y="56196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24200" y="35942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14160" y="3594240"/>
              <a:ext cx="3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13000" y="5445000"/>
              <a:ext cx="125280" cy="18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4406760" y="22194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² = a²+ b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40600" y="286848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² = 3²+ 4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84720" y="35290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² = 9 +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16400" y="41893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² =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510800" y="5500800"/>
            <a:ext cx="116208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 =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4255200" y="4844880"/>
            <a:ext cx="1948680" cy="642600"/>
            <a:chOff x="4255200" y="4844880"/>
            <a:chExt cx="1948680" cy="642600"/>
          </a:xfrm>
        </p:grpSpPr>
        <p:sp>
          <p:nvSpPr>
            <p:cNvPr id="847" name=""/>
            <p:cNvSpPr/>
            <p:nvPr/>
          </p:nvSpPr>
          <p:spPr>
            <a:xfrm>
              <a:off x="4255200" y="4844880"/>
              <a:ext cx="191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5640" y="490680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35720" y="4906800"/>
              <a:ext cx="66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20960" y="500544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76640" y="403704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3546360" y="2506680"/>
            <a:ext cx="33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c² = a²+ b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6759720" y="1333440"/>
            <a:ext cx="1923840" cy="1747800"/>
          </a:xfrm>
          <a:prstGeom prst="rect">
            <a:avLst/>
          </a:prstGeom>
          <a:ln w="0">
            <a:noFill/>
          </a:ln>
        </p:spPr>
      </p:pic>
      <p:grpSp>
        <p:nvGrpSpPr>
          <p:cNvPr id="855" name=""/>
          <p:cNvGrpSpPr/>
          <p:nvPr/>
        </p:nvGrpSpPr>
        <p:grpSpPr>
          <a:xfrm>
            <a:off x="2993400" y="3565440"/>
            <a:ext cx="4059360" cy="642600"/>
            <a:chOff x="2993400" y="3565440"/>
            <a:chExt cx="4059360" cy="642600"/>
          </a:xfrm>
        </p:grpSpPr>
        <p:sp>
          <p:nvSpPr>
            <p:cNvPr id="856" name=""/>
            <p:cNvSpPr/>
            <p:nvPr/>
          </p:nvSpPr>
          <p:spPr>
            <a:xfrm>
              <a:off x="2993400" y="3565440"/>
              <a:ext cx="398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n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 b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79760" y="3624120"/>
              <a:ext cx="48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55880" y="3624120"/>
              <a:ext cx="149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599280" y="4568760"/>
            <a:ext cx="3445920" cy="642600"/>
            <a:chOff x="3599280" y="4568760"/>
            <a:chExt cx="3445920" cy="642600"/>
          </a:xfrm>
        </p:grpSpPr>
        <p:sp>
          <p:nvSpPr>
            <p:cNvPr id="860" name=""/>
            <p:cNvSpPr/>
            <p:nvPr/>
          </p:nvSpPr>
          <p:spPr>
            <a:xfrm>
              <a:off x="3599280" y="4568760"/>
              <a:ext cx="342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nd c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 b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40400" y="4646520"/>
              <a:ext cx="150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024200" y="2081160"/>
            <a:ext cx="2171520" cy="4059000"/>
            <a:chOff x="1024200" y="2081160"/>
            <a:chExt cx="2171520" cy="4059000"/>
          </a:xfrm>
        </p:grpSpPr>
        <p:sp>
          <p:nvSpPr>
            <p:cNvPr id="864" name=""/>
            <p:cNvSpPr/>
            <p:nvPr/>
          </p:nvSpPr>
          <p:spPr>
            <a:xfrm>
              <a:off x="1413000" y="2081160"/>
              <a:ext cx="1782720" cy="35463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13200" y="56196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24200" y="359424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414160" y="3594240"/>
              <a:ext cx="35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13000" y="5445000"/>
              <a:ext cx="125280" cy="182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217440" y="1102680"/>
            <a:ext cx="2289240" cy="1361880"/>
            <a:chOff x="217440" y="1102680"/>
            <a:chExt cx="2289240" cy="1361880"/>
          </a:xfrm>
        </p:grpSpPr>
        <p:sp>
          <p:nvSpPr>
            <p:cNvPr id="870" name=""/>
            <p:cNvSpPr/>
            <p:nvPr/>
          </p:nvSpPr>
          <p:spPr>
            <a:xfrm rot="20897400">
              <a:off x="255240" y="1375920"/>
              <a:ext cx="205740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897400">
              <a:off x="291240" y="1309680"/>
              <a:ext cx="214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776160" y="1425600"/>
            <a:ext cx="77058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873" name=""/>
          <p:cNvGrpSpPr/>
          <p:nvPr/>
        </p:nvGrpSpPr>
        <p:grpSpPr>
          <a:xfrm>
            <a:off x="7550280" y="1751040"/>
            <a:ext cx="1101240" cy="1050840"/>
            <a:chOff x="7550280" y="1751040"/>
            <a:chExt cx="1101240" cy="1050840"/>
          </a:xfrm>
        </p:grpSpPr>
        <p:sp>
          <p:nvSpPr>
            <p:cNvPr id="874" name=""/>
            <p:cNvSpPr/>
            <p:nvPr/>
          </p:nvSpPr>
          <p:spPr>
            <a:xfrm>
              <a:off x="7550280" y="175104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559640" y="2670120"/>
              <a:ext cx="1317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5121360" y="1192320"/>
            <a:ext cx="1402920" cy="711000"/>
            <a:chOff x="5121360" y="1192320"/>
            <a:chExt cx="1402920" cy="711000"/>
          </a:xfrm>
        </p:grpSpPr>
        <p:sp>
          <p:nvSpPr>
            <p:cNvPr id="877" name=""/>
            <p:cNvSpPr/>
            <p:nvPr/>
          </p:nvSpPr>
          <p:spPr>
            <a:xfrm>
              <a:off x="5423040" y="119232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7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21360" y="1771560"/>
              <a:ext cx="131760" cy="13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181480" y="1822320"/>
            <a:ext cx="2438640" cy="920880"/>
            <a:chOff x="5181480" y="1822320"/>
            <a:chExt cx="2438640" cy="920880"/>
          </a:xfrm>
        </p:grpSpPr>
        <p:sp>
          <p:nvSpPr>
            <p:cNvPr id="881" name=""/>
            <p:cNvSpPr/>
            <p:nvPr/>
          </p:nvSpPr>
          <p:spPr>
            <a:xfrm>
              <a:off x="5181480" y="1828800"/>
              <a:ext cx="24386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64080" y="182232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181480" y="2624040"/>
            <a:ext cx="2438640" cy="642600"/>
            <a:chOff x="5181480" y="2624040"/>
            <a:chExt cx="2438640" cy="642600"/>
          </a:xfrm>
        </p:grpSpPr>
        <p:sp>
          <p:nvSpPr>
            <p:cNvPr id="884" name=""/>
            <p:cNvSpPr/>
            <p:nvPr/>
          </p:nvSpPr>
          <p:spPr>
            <a:xfrm flipH="1">
              <a:off x="5181480" y="2743200"/>
              <a:ext cx="2438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81480" y="262404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769640" y="1822320"/>
            <a:ext cx="416880" cy="920880"/>
            <a:chOff x="4769640" y="1822320"/>
            <a:chExt cx="416880" cy="920880"/>
          </a:xfrm>
        </p:grpSpPr>
        <p:sp>
          <p:nvSpPr>
            <p:cNvPr id="887" name=""/>
            <p:cNvSpPr/>
            <p:nvPr/>
          </p:nvSpPr>
          <p:spPr>
            <a:xfrm>
              <a:off x="5186520" y="1822320"/>
              <a:ext cx="0" cy="920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69640" y="196056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442800" y="4235400"/>
            <a:ext cx="8259840" cy="21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54280" y="4162320"/>
            <a:ext cx="188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 =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–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630160" y="423864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 5 – 1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42720" y="4179960"/>
            <a:ext cx="185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339966"/>
                </a:solidFill>
                <a:latin typeface="Comic Sans MS"/>
              </a:rPr>
              <a:t>2 –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339966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89160" y="430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= 7 – 4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442800" y="1465200"/>
                <a:ext cx="3483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711360" y="4956120"/>
                <a:ext cx="37814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4570560" y="4923000"/>
                <a:ext cx="3989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89320" y="5838840"/>
                <a:ext cx="2306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776160" y="1425600"/>
            <a:ext cx="77058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899" name=""/>
          <p:cNvGrpSpPr/>
          <p:nvPr/>
        </p:nvGrpSpPr>
        <p:grpSpPr>
          <a:xfrm>
            <a:off x="6978600" y="2347920"/>
            <a:ext cx="1101240" cy="1050840"/>
            <a:chOff x="6978600" y="2347920"/>
            <a:chExt cx="1101240" cy="1050840"/>
          </a:xfrm>
        </p:grpSpPr>
        <p:sp>
          <p:nvSpPr>
            <p:cNvPr id="900" name=""/>
            <p:cNvSpPr/>
            <p:nvPr/>
          </p:nvSpPr>
          <p:spPr>
            <a:xfrm>
              <a:off x="6978600" y="2347920"/>
              <a:ext cx="110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87960" y="3267000"/>
              <a:ext cx="1317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2700360" y="1490760"/>
            <a:ext cx="1608840" cy="711000"/>
            <a:chOff x="2700360" y="1490760"/>
            <a:chExt cx="1608840" cy="711000"/>
          </a:xfrm>
        </p:grpSpPr>
        <p:sp>
          <p:nvSpPr>
            <p:cNvPr id="903" name=""/>
            <p:cNvSpPr/>
            <p:nvPr/>
          </p:nvSpPr>
          <p:spPr>
            <a:xfrm>
              <a:off x="3060000" y="1490760"/>
              <a:ext cx="124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-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00360" y="2070000"/>
              <a:ext cx="131760" cy="13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533680" y="673200"/>
            <a:ext cx="40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868840" y="2121120"/>
            <a:ext cx="4110480" cy="1203120"/>
            <a:chOff x="2868840" y="2121120"/>
            <a:chExt cx="4110480" cy="1203120"/>
          </a:xfrm>
        </p:grpSpPr>
        <p:sp>
          <p:nvSpPr>
            <p:cNvPr id="907" name=""/>
            <p:cNvSpPr/>
            <p:nvPr/>
          </p:nvSpPr>
          <p:spPr>
            <a:xfrm>
              <a:off x="2868840" y="2121120"/>
              <a:ext cx="4110480" cy="120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239400">
              <a:off x="4873680" y="227124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743200" y="3214800"/>
            <a:ext cx="4312800" cy="642600"/>
            <a:chOff x="2743200" y="3214800"/>
            <a:chExt cx="4312800" cy="642600"/>
          </a:xfrm>
        </p:grpSpPr>
        <p:sp>
          <p:nvSpPr>
            <p:cNvPr id="910" name=""/>
            <p:cNvSpPr/>
            <p:nvPr/>
          </p:nvSpPr>
          <p:spPr>
            <a:xfrm flipH="1">
              <a:off x="2743200" y="3333600"/>
              <a:ext cx="4312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322880" y="32148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326320" y="2162160"/>
            <a:ext cx="416880" cy="1190160"/>
            <a:chOff x="2326320" y="2162160"/>
            <a:chExt cx="416880" cy="1190160"/>
          </a:xfrm>
        </p:grpSpPr>
        <p:sp>
          <p:nvSpPr>
            <p:cNvPr id="913" name=""/>
            <p:cNvSpPr/>
            <p:nvPr/>
          </p:nvSpPr>
          <p:spPr>
            <a:xfrm>
              <a:off x="2743200" y="2162160"/>
              <a:ext cx="0" cy="11901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26320" y="2340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2800" y="4235400"/>
            <a:ext cx="8259840" cy="21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87880" y="4162320"/>
            <a:ext cx="1881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 =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–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432160" y="423864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= 4 – (-3) =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71320" y="4179960"/>
            <a:ext cx="185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 =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339966"/>
                </a:solidFill>
                <a:latin typeface="Comic Sans MS"/>
              </a:rPr>
              <a:t>2 –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y</a:t>
            </a:r>
            <a:r>
              <a:rPr b="0" lang="en-US" sz="3200" spc="-1" strike="noStrike" baseline="-25000">
                <a:solidFill>
                  <a:srgbClr val="339966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828840" y="430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Comic Sans MS"/>
              </a:rPr>
              <a:t>= 6 – 2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09760" y="1425600"/>
                <a:ext cx="21906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2062080" y="4952880"/>
                <a:ext cx="4549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989440" y="5735520"/>
                <a:ext cx="2707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2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2357280" y="2043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coordinates of 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51280" y="6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3776760" y="3108240"/>
            <a:ext cx="4514760" cy="335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8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7000" y="207504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 points on the coordinat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51280" y="6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3757680" y="3103560"/>
            <a:ext cx="4514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4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3814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quadrants for 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51280" y="6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3794040" y="3108240"/>
            <a:ext cx="448632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1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381400" y="2057400"/>
            <a:ext cx="63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distance betwe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oints on the coordinat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51280" y="673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0" name="" descr=""/>
          <p:cNvPicPr/>
          <p:nvPr/>
        </p:nvPicPr>
        <p:blipFill>
          <a:blip r:embed="rId1"/>
          <a:stretch/>
        </p:blipFill>
        <p:spPr>
          <a:xfrm>
            <a:off x="3794040" y="3108240"/>
            <a:ext cx="449748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635200" y="2257560"/>
            <a:ext cx="3890880" cy="3376080"/>
            <a:chOff x="2635200" y="2257560"/>
            <a:chExt cx="3890880" cy="3376080"/>
          </a:xfrm>
        </p:grpSpPr>
        <p:sp>
          <p:nvSpPr>
            <p:cNvPr id="166" name=""/>
            <p:cNvSpPr/>
            <p:nvPr/>
          </p:nvSpPr>
          <p:spPr>
            <a:xfrm>
              <a:off x="4606920" y="4173480"/>
              <a:ext cx="14400" cy="13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2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3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5200" y="3952800"/>
              <a:ext cx="3890880" cy="1680840"/>
            </a:xfrm>
            <a:custGeom>
              <a:avLst/>
              <a:gdLst/>
              <a:ahLst/>
              <a:rect l="l" t="t" r="r" b="b"/>
              <a:pathLst>
                <a:path w="2451" h="1059">
                  <a:moveTo>
                    <a:pt x="2336" y="399"/>
                  </a:moveTo>
                  <a:lnTo>
                    <a:pt x="2300" y="381"/>
                  </a:lnTo>
                  <a:lnTo>
                    <a:pt x="2262" y="365"/>
                  </a:lnTo>
                  <a:lnTo>
                    <a:pt x="2224" y="349"/>
                  </a:lnTo>
                  <a:lnTo>
                    <a:pt x="2187" y="336"/>
                  </a:lnTo>
                  <a:lnTo>
                    <a:pt x="2148" y="326"/>
                  </a:lnTo>
                  <a:lnTo>
                    <a:pt x="2108" y="315"/>
                  </a:lnTo>
                  <a:lnTo>
                    <a:pt x="2069" y="306"/>
                  </a:lnTo>
                  <a:lnTo>
                    <a:pt x="2029" y="299"/>
                  </a:lnTo>
                  <a:lnTo>
                    <a:pt x="1989" y="291"/>
                  </a:lnTo>
                  <a:lnTo>
                    <a:pt x="1949" y="286"/>
                  </a:lnTo>
                  <a:lnTo>
                    <a:pt x="1909" y="281"/>
                  </a:lnTo>
                  <a:lnTo>
                    <a:pt x="1869" y="276"/>
                  </a:lnTo>
                  <a:lnTo>
                    <a:pt x="1827" y="271"/>
                  </a:lnTo>
                  <a:lnTo>
                    <a:pt x="1787" y="268"/>
                  </a:lnTo>
                  <a:lnTo>
                    <a:pt x="1746" y="264"/>
                  </a:lnTo>
                  <a:lnTo>
                    <a:pt x="1706" y="261"/>
                  </a:lnTo>
                  <a:lnTo>
                    <a:pt x="1713" y="230"/>
                  </a:lnTo>
                  <a:lnTo>
                    <a:pt x="1717" y="200"/>
                  </a:lnTo>
                  <a:lnTo>
                    <a:pt x="1714" y="167"/>
                  </a:lnTo>
                  <a:lnTo>
                    <a:pt x="1706" y="135"/>
                  </a:lnTo>
                  <a:lnTo>
                    <a:pt x="1699" y="116"/>
                  </a:lnTo>
                  <a:lnTo>
                    <a:pt x="1690" y="98"/>
                  </a:lnTo>
                  <a:lnTo>
                    <a:pt x="1679" y="83"/>
                  </a:lnTo>
                  <a:lnTo>
                    <a:pt x="1667" y="68"/>
                  </a:lnTo>
                  <a:lnTo>
                    <a:pt x="1654" y="53"/>
                  </a:lnTo>
                  <a:lnTo>
                    <a:pt x="1639" y="42"/>
                  </a:lnTo>
                  <a:lnTo>
                    <a:pt x="1624" y="31"/>
                  </a:lnTo>
                  <a:lnTo>
                    <a:pt x="1607" y="22"/>
                  </a:lnTo>
                  <a:lnTo>
                    <a:pt x="1591" y="14"/>
                  </a:lnTo>
                  <a:lnTo>
                    <a:pt x="1572" y="9"/>
                  </a:lnTo>
                  <a:lnTo>
                    <a:pt x="1554" y="4"/>
                  </a:lnTo>
                  <a:lnTo>
                    <a:pt x="1535" y="2"/>
                  </a:lnTo>
                  <a:lnTo>
                    <a:pt x="1515" y="0"/>
                  </a:lnTo>
                  <a:lnTo>
                    <a:pt x="1496" y="3"/>
                  </a:lnTo>
                  <a:lnTo>
                    <a:pt x="1476" y="5"/>
                  </a:lnTo>
                  <a:lnTo>
                    <a:pt x="1457" y="11"/>
                  </a:lnTo>
                  <a:lnTo>
                    <a:pt x="1453" y="13"/>
                  </a:lnTo>
                  <a:lnTo>
                    <a:pt x="1446" y="17"/>
                  </a:lnTo>
                  <a:lnTo>
                    <a:pt x="1435" y="22"/>
                  </a:lnTo>
                  <a:lnTo>
                    <a:pt x="1423" y="29"/>
                  </a:lnTo>
                  <a:lnTo>
                    <a:pt x="1408" y="37"/>
                  </a:lnTo>
                  <a:lnTo>
                    <a:pt x="1393" y="46"/>
                  </a:lnTo>
                  <a:lnTo>
                    <a:pt x="1376" y="56"/>
                  </a:lnTo>
                  <a:lnTo>
                    <a:pt x="1358" y="66"/>
                  </a:lnTo>
                  <a:lnTo>
                    <a:pt x="1341" y="77"/>
                  </a:lnTo>
                  <a:lnTo>
                    <a:pt x="1324" y="88"/>
                  </a:lnTo>
                  <a:lnTo>
                    <a:pt x="1308" y="98"/>
                  </a:lnTo>
                  <a:lnTo>
                    <a:pt x="1292" y="108"/>
                  </a:lnTo>
                  <a:lnTo>
                    <a:pt x="1278" y="117"/>
                  </a:lnTo>
                  <a:lnTo>
                    <a:pt x="1267" y="126"/>
                  </a:lnTo>
                  <a:lnTo>
                    <a:pt x="1257" y="134"/>
                  </a:lnTo>
                  <a:lnTo>
                    <a:pt x="1250" y="139"/>
                  </a:lnTo>
                  <a:lnTo>
                    <a:pt x="1239" y="151"/>
                  </a:lnTo>
                  <a:lnTo>
                    <a:pt x="1228" y="162"/>
                  </a:lnTo>
                  <a:lnTo>
                    <a:pt x="1217" y="172"/>
                  </a:lnTo>
                  <a:lnTo>
                    <a:pt x="1205" y="182"/>
                  </a:lnTo>
                  <a:lnTo>
                    <a:pt x="1193" y="192"/>
                  </a:lnTo>
                  <a:lnTo>
                    <a:pt x="1182" y="202"/>
                  </a:lnTo>
                  <a:lnTo>
                    <a:pt x="1171" y="213"/>
                  </a:lnTo>
                  <a:lnTo>
                    <a:pt x="1159" y="223"/>
                  </a:lnTo>
                  <a:lnTo>
                    <a:pt x="1148" y="215"/>
                  </a:lnTo>
                  <a:lnTo>
                    <a:pt x="1135" y="208"/>
                  </a:lnTo>
                  <a:lnTo>
                    <a:pt x="1120" y="202"/>
                  </a:lnTo>
                  <a:lnTo>
                    <a:pt x="1107" y="196"/>
                  </a:lnTo>
                  <a:lnTo>
                    <a:pt x="1092" y="192"/>
                  </a:lnTo>
                  <a:lnTo>
                    <a:pt x="1078" y="189"/>
                  </a:lnTo>
                  <a:lnTo>
                    <a:pt x="1063" y="188"/>
                  </a:lnTo>
                  <a:lnTo>
                    <a:pt x="1047" y="187"/>
                  </a:lnTo>
                  <a:lnTo>
                    <a:pt x="1014" y="185"/>
                  </a:lnTo>
                  <a:lnTo>
                    <a:pt x="983" y="183"/>
                  </a:lnTo>
                  <a:lnTo>
                    <a:pt x="951" y="181"/>
                  </a:lnTo>
                  <a:lnTo>
                    <a:pt x="919" y="178"/>
                  </a:lnTo>
                  <a:lnTo>
                    <a:pt x="886" y="175"/>
                  </a:lnTo>
                  <a:lnTo>
                    <a:pt x="854" y="172"/>
                  </a:lnTo>
                  <a:lnTo>
                    <a:pt x="822" y="169"/>
                  </a:lnTo>
                  <a:lnTo>
                    <a:pt x="791" y="165"/>
                  </a:lnTo>
                  <a:lnTo>
                    <a:pt x="759" y="161"/>
                  </a:lnTo>
                  <a:lnTo>
                    <a:pt x="727" y="157"/>
                  </a:lnTo>
                  <a:lnTo>
                    <a:pt x="694" y="152"/>
                  </a:lnTo>
                  <a:lnTo>
                    <a:pt x="662" y="149"/>
                  </a:lnTo>
                  <a:lnTo>
                    <a:pt x="630" y="144"/>
                  </a:lnTo>
                  <a:lnTo>
                    <a:pt x="597" y="139"/>
                  </a:lnTo>
                  <a:lnTo>
                    <a:pt x="565" y="135"/>
                  </a:lnTo>
                  <a:lnTo>
                    <a:pt x="532" y="130"/>
                  </a:lnTo>
                  <a:lnTo>
                    <a:pt x="511" y="126"/>
                  </a:lnTo>
                  <a:lnTo>
                    <a:pt x="490" y="123"/>
                  </a:lnTo>
                  <a:lnTo>
                    <a:pt x="469" y="119"/>
                  </a:lnTo>
                  <a:lnTo>
                    <a:pt x="448" y="116"/>
                  </a:lnTo>
                  <a:lnTo>
                    <a:pt x="426" y="111"/>
                  </a:lnTo>
                  <a:lnTo>
                    <a:pt x="406" y="108"/>
                  </a:lnTo>
                  <a:lnTo>
                    <a:pt x="385" y="104"/>
                  </a:lnTo>
                  <a:lnTo>
                    <a:pt x="364" y="101"/>
                  </a:lnTo>
                  <a:lnTo>
                    <a:pt x="343" y="97"/>
                  </a:lnTo>
                  <a:lnTo>
                    <a:pt x="323" y="95"/>
                  </a:lnTo>
                  <a:lnTo>
                    <a:pt x="302" y="91"/>
                  </a:lnTo>
                  <a:lnTo>
                    <a:pt x="280" y="89"/>
                  </a:lnTo>
                  <a:lnTo>
                    <a:pt x="260" y="86"/>
                  </a:lnTo>
                  <a:lnTo>
                    <a:pt x="239" y="85"/>
                  </a:lnTo>
                  <a:lnTo>
                    <a:pt x="218" y="84"/>
                  </a:lnTo>
                  <a:lnTo>
                    <a:pt x="197" y="83"/>
                  </a:lnTo>
                  <a:lnTo>
                    <a:pt x="177" y="84"/>
                  </a:lnTo>
                  <a:lnTo>
                    <a:pt x="157" y="86"/>
                  </a:lnTo>
                  <a:lnTo>
                    <a:pt x="138" y="91"/>
                  </a:lnTo>
                  <a:lnTo>
                    <a:pt x="119" y="98"/>
                  </a:lnTo>
                  <a:lnTo>
                    <a:pt x="101" y="106"/>
                  </a:lnTo>
                  <a:lnTo>
                    <a:pt x="85" y="116"/>
                  </a:lnTo>
                  <a:lnTo>
                    <a:pt x="69" y="128"/>
                  </a:lnTo>
                  <a:lnTo>
                    <a:pt x="55" y="139"/>
                  </a:lnTo>
                  <a:lnTo>
                    <a:pt x="42" y="154"/>
                  </a:lnTo>
                  <a:lnTo>
                    <a:pt x="31" y="169"/>
                  </a:lnTo>
                  <a:lnTo>
                    <a:pt x="21" y="185"/>
                  </a:lnTo>
                  <a:lnTo>
                    <a:pt x="13" y="202"/>
                  </a:lnTo>
                  <a:lnTo>
                    <a:pt x="7" y="221"/>
                  </a:lnTo>
                  <a:lnTo>
                    <a:pt x="2" y="238"/>
                  </a:lnTo>
                  <a:lnTo>
                    <a:pt x="0" y="258"/>
                  </a:lnTo>
                  <a:lnTo>
                    <a:pt x="0" y="279"/>
                  </a:lnTo>
                  <a:lnTo>
                    <a:pt x="3" y="302"/>
                  </a:lnTo>
                  <a:lnTo>
                    <a:pt x="10" y="325"/>
                  </a:lnTo>
                  <a:lnTo>
                    <a:pt x="21" y="346"/>
                  </a:lnTo>
                  <a:lnTo>
                    <a:pt x="35" y="365"/>
                  </a:lnTo>
                  <a:lnTo>
                    <a:pt x="51" y="382"/>
                  </a:lnTo>
                  <a:lnTo>
                    <a:pt x="67" y="398"/>
                  </a:lnTo>
                  <a:lnTo>
                    <a:pt x="85" y="413"/>
                  </a:lnTo>
                  <a:lnTo>
                    <a:pt x="104" y="425"/>
                  </a:lnTo>
                  <a:lnTo>
                    <a:pt x="121" y="436"/>
                  </a:lnTo>
                  <a:lnTo>
                    <a:pt x="139" y="446"/>
                  </a:lnTo>
                  <a:lnTo>
                    <a:pt x="155" y="453"/>
                  </a:lnTo>
                  <a:lnTo>
                    <a:pt x="170" y="460"/>
                  </a:lnTo>
                  <a:lnTo>
                    <a:pt x="181" y="465"/>
                  </a:lnTo>
                  <a:lnTo>
                    <a:pt x="191" y="468"/>
                  </a:lnTo>
                  <a:lnTo>
                    <a:pt x="195" y="471"/>
                  </a:lnTo>
                  <a:lnTo>
                    <a:pt x="197" y="471"/>
                  </a:lnTo>
                  <a:lnTo>
                    <a:pt x="233" y="479"/>
                  </a:lnTo>
                  <a:lnTo>
                    <a:pt x="269" y="486"/>
                  </a:lnTo>
                  <a:lnTo>
                    <a:pt x="304" y="493"/>
                  </a:lnTo>
                  <a:lnTo>
                    <a:pt x="339" y="499"/>
                  </a:lnTo>
                  <a:lnTo>
                    <a:pt x="373" y="505"/>
                  </a:lnTo>
                  <a:lnTo>
                    <a:pt x="406" y="511"/>
                  </a:lnTo>
                  <a:lnTo>
                    <a:pt x="441" y="515"/>
                  </a:lnTo>
                  <a:lnTo>
                    <a:pt x="474" y="521"/>
                  </a:lnTo>
                  <a:lnTo>
                    <a:pt x="507" y="526"/>
                  </a:lnTo>
                  <a:lnTo>
                    <a:pt x="540" y="530"/>
                  </a:lnTo>
                  <a:lnTo>
                    <a:pt x="573" y="534"/>
                  </a:lnTo>
                  <a:lnTo>
                    <a:pt x="606" y="539"/>
                  </a:lnTo>
                  <a:lnTo>
                    <a:pt x="639" y="543"/>
                  </a:lnTo>
                  <a:lnTo>
                    <a:pt x="672" y="546"/>
                  </a:lnTo>
                  <a:lnTo>
                    <a:pt x="705" y="551"/>
                  </a:lnTo>
                  <a:lnTo>
                    <a:pt x="739" y="554"/>
                  </a:lnTo>
                  <a:lnTo>
                    <a:pt x="723" y="563"/>
                  </a:lnTo>
                  <a:lnTo>
                    <a:pt x="707" y="571"/>
                  </a:lnTo>
                  <a:lnTo>
                    <a:pt x="692" y="579"/>
                  </a:lnTo>
                  <a:lnTo>
                    <a:pt x="676" y="587"/>
                  </a:lnTo>
                  <a:lnTo>
                    <a:pt x="661" y="596"/>
                  </a:lnTo>
                  <a:lnTo>
                    <a:pt x="644" y="603"/>
                  </a:lnTo>
                  <a:lnTo>
                    <a:pt x="629" y="611"/>
                  </a:lnTo>
                  <a:lnTo>
                    <a:pt x="614" y="618"/>
                  </a:lnTo>
                  <a:lnTo>
                    <a:pt x="598" y="626"/>
                  </a:lnTo>
                  <a:lnTo>
                    <a:pt x="583" y="633"/>
                  </a:lnTo>
                  <a:lnTo>
                    <a:pt x="568" y="642"/>
                  </a:lnTo>
                  <a:lnTo>
                    <a:pt x="553" y="650"/>
                  </a:lnTo>
                  <a:lnTo>
                    <a:pt x="537" y="658"/>
                  </a:lnTo>
                  <a:lnTo>
                    <a:pt x="522" y="666"/>
                  </a:lnTo>
                  <a:lnTo>
                    <a:pt x="507" y="675"/>
                  </a:lnTo>
                  <a:lnTo>
                    <a:pt x="491" y="684"/>
                  </a:lnTo>
                  <a:lnTo>
                    <a:pt x="491" y="683"/>
                  </a:lnTo>
                  <a:lnTo>
                    <a:pt x="492" y="683"/>
                  </a:lnTo>
                  <a:lnTo>
                    <a:pt x="492" y="683"/>
                  </a:lnTo>
                  <a:lnTo>
                    <a:pt x="494" y="682"/>
                  </a:lnTo>
                  <a:lnTo>
                    <a:pt x="458" y="701"/>
                  </a:lnTo>
                  <a:lnTo>
                    <a:pt x="429" y="725"/>
                  </a:lnTo>
                  <a:lnTo>
                    <a:pt x="405" y="756"/>
                  </a:lnTo>
                  <a:lnTo>
                    <a:pt x="388" y="789"/>
                  </a:lnTo>
                  <a:lnTo>
                    <a:pt x="377" y="825"/>
                  </a:lnTo>
                  <a:lnTo>
                    <a:pt x="373" y="863"/>
                  </a:lnTo>
                  <a:lnTo>
                    <a:pt x="377" y="902"/>
                  </a:lnTo>
                  <a:lnTo>
                    <a:pt x="389" y="940"/>
                  </a:lnTo>
                  <a:lnTo>
                    <a:pt x="397" y="958"/>
                  </a:lnTo>
                  <a:lnTo>
                    <a:pt x="408" y="974"/>
                  </a:lnTo>
                  <a:lnTo>
                    <a:pt x="419" y="989"/>
                  </a:lnTo>
                  <a:lnTo>
                    <a:pt x="432" y="1003"/>
                  </a:lnTo>
                  <a:lnTo>
                    <a:pt x="446" y="1016"/>
                  </a:lnTo>
                  <a:lnTo>
                    <a:pt x="462" y="1027"/>
                  </a:lnTo>
                  <a:lnTo>
                    <a:pt x="478" y="1036"/>
                  </a:lnTo>
                  <a:lnTo>
                    <a:pt x="496" y="1045"/>
                  </a:lnTo>
                  <a:lnTo>
                    <a:pt x="514" y="1051"/>
                  </a:lnTo>
                  <a:lnTo>
                    <a:pt x="531" y="1055"/>
                  </a:lnTo>
                  <a:lnTo>
                    <a:pt x="550" y="1058"/>
                  </a:lnTo>
                  <a:lnTo>
                    <a:pt x="569" y="1059"/>
                  </a:lnTo>
                  <a:lnTo>
                    <a:pt x="588" y="1058"/>
                  </a:lnTo>
                  <a:lnTo>
                    <a:pt x="608" y="1055"/>
                  </a:lnTo>
                  <a:lnTo>
                    <a:pt x="627" y="1051"/>
                  </a:lnTo>
                  <a:lnTo>
                    <a:pt x="646" y="1044"/>
                  </a:lnTo>
                  <a:lnTo>
                    <a:pt x="669" y="1032"/>
                  </a:lnTo>
                  <a:lnTo>
                    <a:pt x="692" y="1019"/>
                  </a:lnTo>
                  <a:lnTo>
                    <a:pt x="715" y="1008"/>
                  </a:lnTo>
                  <a:lnTo>
                    <a:pt x="739" y="996"/>
                  </a:lnTo>
                  <a:lnTo>
                    <a:pt x="761" y="985"/>
                  </a:lnTo>
                  <a:lnTo>
                    <a:pt x="785" y="973"/>
                  </a:lnTo>
                  <a:lnTo>
                    <a:pt x="807" y="961"/>
                  </a:lnTo>
                  <a:lnTo>
                    <a:pt x="831" y="949"/>
                  </a:lnTo>
                  <a:lnTo>
                    <a:pt x="854" y="937"/>
                  </a:lnTo>
                  <a:lnTo>
                    <a:pt x="877" y="926"/>
                  </a:lnTo>
                  <a:lnTo>
                    <a:pt x="900" y="914"/>
                  </a:lnTo>
                  <a:lnTo>
                    <a:pt x="922" y="901"/>
                  </a:lnTo>
                  <a:lnTo>
                    <a:pt x="946" y="888"/>
                  </a:lnTo>
                  <a:lnTo>
                    <a:pt x="970" y="874"/>
                  </a:lnTo>
                  <a:lnTo>
                    <a:pt x="992" y="860"/>
                  </a:lnTo>
                  <a:lnTo>
                    <a:pt x="1016" y="846"/>
                  </a:lnTo>
                  <a:lnTo>
                    <a:pt x="1037" y="831"/>
                  </a:lnTo>
                  <a:lnTo>
                    <a:pt x="1057" y="817"/>
                  </a:lnTo>
                  <a:lnTo>
                    <a:pt x="1078" y="804"/>
                  </a:lnTo>
                  <a:lnTo>
                    <a:pt x="1098" y="789"/>
                  </a:lnTo>
                  <a:lnTo>
                    <a:pt x="1118" y="775"/>
                  </a:lnTo>
                  <a:lnTo>
                    <a:pt x="1138" y="761"/>
                  </a:lnTo>
                  <a:lnTo>
                    <a:pt x="1157" y="745"/>
                  </a:lnTo>
                  <a:lnTo>
                    <a:pt x="1177" y="731"/>
                  </a:lnTo>
                  <a:lnTo>
                    <a:pt x="1196" y="716"/>
                  </a:lnTo>
                  <a:lnTo>
                    <a:pt x="1215" y="701"/>
                  </a:lnTo>
                  <a:lnTo>
                    <a:pt x="1234" y="685"/>
                  </a:lnTo>
                  <a:lnTo>
                    <a:pt x="1251" y="670"/>
                  </a:lnTo>
                  <a:lnTo>
                    <a:pt x="1270" y="655"/>
                  </a:lnTo>
                  <a:lnTo>
                    <a:pt x="1288" y="639"/>
                  </a:lnTo>
                  <a:lnTo>
                    <a:pt x="1307" y="623"/>
                  </a:lnTo>
                  <a:lnTo>
                    <a:pt x="1324" y="607"/>
                  </a:lnTo>
                  <a:lnTo>
                    <a:pt x="1337" y="612"/>
                  </a:lnTo>
                  <a:lnTo>
                    <a:pt x="1350" y="616"/>
                  </a:lnTo>
                  <a:lnTo>
                    <a:pt x="1363" y="619"/>
                  </a:lnTo>
                  <a:lnTo>
                    <a:pt x="1376" y="623"/>
                  </a:lnTo>
                  <a:lnTo>
                    <a:pt x="1389" y="626"/>
                  </a:lnTo>
                  <a:lnTo>
                    <a:pt x="1402" y="629"/>
                  </a:lnTo>
                  <a:lnTo>
                    <a:pt x="1416" y="631"/>
                  </a:lnTo>
                  <a:lnTo>
                    <a:pt x="1429" y="633"/>
                  </a:lnTo>
                  <a:lnTo>
                    <a:pt x="1442" y="635"/>
                  </a:lnTo>
                  <a:lnTo>
                    <a:pt x="1456" y="637"/>
                  </a:lnTo>
                  <a:lnTo>
                    <a:pt x="1469" y="638"/>
                  </a:lnTo>
                  <a:lnTo>
                    <a:pt x="1483" y="638"/>
                  </a:lnTo>
                  <a:lnTo>
                    <a:pt x="1496" y="639"/>
                  </a:lnTo>
                  <a:lnTo>
                    <a:pt x="1510" y="639"/>
                  </a:lnTo>
                  <a:lnTo>
                    <a:pt x="1523" y="639"/>
                  </a:lnTo>
                  <a:lnTo>
                    <a:pt x="1538" y="639"/>
                  </a:lnTo>
                  <a:lnTo>
                    <a:pt x="1547" y="640"/>
                  </a:lnTo>
                  <a:lnTo>
                    <a:pt x="1556" y="642"/>
                  </a:lnTo>
                  <a:lnTo>
                    <a:pt x="1566" y="643"/>
                  </a:lnTo>
                  <a:lnTo>
                    <a:pt x="1574" y="644"/>
                  </a:lnTo>
                  <a:lnTo>
                    <a:pt x="1582" y="644"/>
                  </a:lnTo>
                  <a:lnTo>
                    <a:pt x="1588" y="645"/>
                  </a:lnTo>
                  <a:lnTo>
                    <a:pt x="1592" y="645"/>
                  </a:lnTo>
                  <a:lnTo>
                    <a:pt x="1592" y="645"/>
                  </a:lnTo>
                  <a:lnTo>
                    <a:pt x="1613" y="647"/>
                  </a:lnTo>
                  <a:lnTo>
                    <a:pt x="1640" y="651"/>
                  </a:lnTo>
                  <a:lnTo>
                    <a:pt x="1673" y="655"/>
                  </a:lnTo>
                  <a:lnTo>
                    <a:pt x="1710" y="659"/>
                  </a:lnTo>
                  <a:lnTo>
                    <a:pt x="1751" y="664"/>
                  </a:lnTo>
                  <a:lnTo>
                    <a:pt x="1793" y="671"/>
                  </a:lnTo>
                  <a:lnTo>
                    <a:pt x="1838" y="677"/>
                  </a:lnTo>
                  <a:lnTo>
                    <a:pt x="1883" y="684"/>
                  </a:lnTo>
                  <a:lnTo>
                    <a:pt x="1929" y="692"/>
                  </a:lnTo>
                  <a:lnTo>
                    <a:pt x="1972" y="701"/>
                  </a:lnTo>
                  <a:lnTo>
                    <a:pt x="2016" y="709"/>
                  </a:lnTo>
                  <a:lnTo>
                    <a:pt x="2056" y="718"/>
                  </a:lnTo>
                  <a:lnTo>
                    <a:pt x="2093" y="728"/>
                  </a:lnTo>
                  <a:lnTo>
                    <a:pt x="2124" y="737"/>
                  </a:lnTo>
                  <a:lnTo>
                    <a:pt x="2151" y="747"/>
                  </a:lnTo>
                  <a:lnTo>
                    <a:pt x="2173" y="756"/>
                  </a:lnTo>
                  <a:lnTo>
                    <a:pt x="2191" y="763"/>
                  </a:lnTo>
                  <a:lnTo>
                    <a:pt x="2210" y="769"/>
                  </a:lnTo>
                  <a:lnTo>
                    <a:pt x="2229" y="772"/>
                  </a:lnTo>
                  <a:lnTo>
                    <a:pt x="2249" y="774"/>
                  </a:lnTo>
                  <a:lnTo>
                    <a:pt x="2268" y="774"/>
                  </a:lnTo>
                  <a:lnTo>
                    <a:pt x="2287" y="771"/>
                  </a:lnTo>
                  <a:lnTo>
                    <a:pt x="2305" y="768"/>
                  </a:lnTo>
                  <a:lnTo>
                    <a:pt x="2323" y="762"/>
                  </a:lnTo>
                  <a:lnTo>
                    <a:pt x="2340" y="755"/>
                  </a:lnTo>
                  <a:lnTo>
                    <a:pt x="2358" y="745"/>
                  </a:lnTo>
                  <a:lnTo>
                    <a:pt x="2373" y="735"/>
                  </a:lnTo>
                  <a:lnTo>
                    <a:pt x="2387" y="723"/>
                  </a:lnTo>
                  <a:lnTo>
                    <a:pt x="2401" y="709"/>
                  </a:lnTo>
                  <a:lnTo>
                    <a:pt x="2413" y="693"/>
                  </a:lnTo>
                  <a:lnTo>
                    <a:pt x="2424" y="677"/>
                  </a:lnTo>
                  <a:lnTo>
                    <a:pt x="2433" y="659"/>
                  </a:lnTo>
                  <a:lnTo>
                    <a:pt x="2446" y="622"/>
                  </a:lnTo>
                  <a:lnTo>
                    <a:pt x="2451" y="584"/>
                  </a:lnTo>
                  <a:lnTo>
                    <a:pt x="2448" y="546"/>
                  </a:lnTo>
                  <a:lnTo>
                    <a:pt x="2439" y="510"/>
                  </a:lnTo>
                  <a:lnTo>
                    <a:pt x="2422" y="475"/>
                  </a:lnTo>
                  <a:lnTo>
                    <a:pt x="2400" y="445"/>
                  </a:lnTo>
                  <a:lnTo>
                    <a:pt x="2371" y="419"/>
                  </a:lnTo>
                  <a:lnTo>
                    <a:pt x="2336" y="399"/>
                  </a:lnTo>
                  <a:close/>
                </a:path>
              </a:pathLst>
            </a:custGeom>
            <a:solidFill>
              <a:srgbClr val="5b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10000" y="2257560"/>
              <a:ext cx="2033640" cy="2044440"/>
            </a:xfrm>
            <a:custGeom>
              <a:avLst/>
              <a:gdLst/>
              <a:ahLst/>
              <a:rect l="l" t="t" r="r" b="b"/>
              <a:pathLst>
                <a:path w="1281" h="1288">
                  <a:moveTo>
                    <a:pt x="1095" y="0"/>
                  </a:moveTo>
                  <a:lnTo>
                    <a:pt x="1103" y="213"/>
                  </a:lnTo>
                  <a:lnTo>
                    <a:pt x="1106" y="223"/>
                  </a:lnTo>
                  <a:lnTo>
                    <a:pt x="1104" y="231"/>
                  </a:lnTo>
                  <a:lnTo>
                    <a:pt x="1098" y="236"/>
                  </a:lnTo>
                  <a:lnTo>
                    <a:pt x="1091" y="238"/>
                  </a:lnTo>
                  <a:lnTo>
                    <a:pt x="1082" y="241"/>
                  </a:lnTo>
                  <a:lnTo>
                    <a:pt x="1073" y="243"/>
                  </a:lnTo>
                  <a:lnTo>
                    <a:pt x="1064" y="247"/>
                  </a:lnTo>
                  <a:lnTo>
                    <a:pt x="1057" y="251"/>
                  </a:lnTo>
                  <a:lnTo>
                    <a:pt x="1047" y="255"/>
                  </a:lnTo>
                  <a:lnTo>
                    <a:pt x="1035" y="259"/>
                  </a:lnTo>
                  <a:lnTo>
                    <a:pt x="1024" y="263"/>
                  </a:lnTo>
                  <a:lnTo>
                    <a:pt x="1014" y="268"/>
                  </a:lnTo>
                  <a:lnTo>
                    <a:pt x="1002" y="273"/>
                  </a:lnTo>
                  <a:lnTo>
                    <a:pt x="991" y="277"/>
                  </a:lnTo>
                  <a:lnTo>
                    <a:pt x="979" y="282"/>
                  </a:lnTo>
                  <a:lnTo>
                    <a:pt x="969" y="287"/>
                  </a:lnTo>
                  <a:lnTo>
                    <a:pt x="972" y="287"/>
                  </a:lnTo>
                  <a:lnTo>
                    <a:pt x="982" y="288"/>
                  </a:lnTo>
                  <a:lnTo>
                    <a:pt x="997" y="289"/>
                  </a:lnTo>
                  <a:lnTo>
                    <a:pt x="1017" y="290"/>
                  </a:lnTo>
                  <a:lnTo>
                    <a:pt x="1041" y="293"/>
                  </a:lnTo>
                  <a:lnTo>
                    <a:pt x="1067" y="295"/>
                  </a:lnTo>
                  <a:lnTo>
                    <a:pt x="1095" y="296"/>
                  </a:lnTo>
                  <a:lnTo>
                    <a:pt x="1123" y="299"/>
                  </a:lnTo>
                  <a:lnTo>
                    <a:pt x="1153" y="302"/>
                  </a:lnTo>
                  <a:lnTo>
                    <a:pt x="1181" y="304"/>
                  </a:lnTo>
                  <a:lnTo>
                    <a:pt x="1207" y="307"/>
                  </a:lnTo>
                  <a:lnTo>
                    <a:pt x="1230" y="309"/>
                  </a:lnTo>
                  <a:lnTo>
                    <a:pt x="1250" y="310"/>
                  </a:lnTo>
                  <a:lnTo>
                    <a:pt x="1267" y="313"/>
                  </a:lnTo>
                  <a:lnTo>
                    <a:pt x="1278" y="314"/>
                  </a:lnTo>
                  <a:lnTo>
                    <a:pt x="1281" y="315"/>
                  </a:lnTo>
                  <a:lnTo>
                    <a:pt x="1263" y="547"/>
                  </a:lnTo>
                  <a:lnTo>
                    <a:pt x="792" y="461"/>
                  </a:lnTo>
                  <a:lnTo>
                    <a:pt x="790" y="482"/>
                  </a:lnTo>
                  <a:lnTo>
                    <a:pt x="786" y="505"/>
                  </a:lnTo>
                  <a:lnTo>
                    <a:pt x="784" y="525"/>
                  </a:lnTo>
                  <a:lnTo>
                    <a:pt x="785" y="545"/>
                  </a:lnTo>
                  <a:lnTo>
                    <a:pt x="1185" y="637"/>
                  </a:lnTo>
                  <a:lnTo>
                    <a:pt x="1180" y="653"/>
                  </a:lnTo>
                  <a:lnTo>
                    <a:pt x="1174" y="685"/>
                  </a:lnTo>
                  <a:lnTo>
                    <a:pt x="1164" y="726"/>
                  </a:lnTo>
                  <a:lnTo>
                    <a:pt x="1156" y="772"/>
                  </a:lnTo>
                  <a:lnTo>
                    <a:pt x="1147" y="818"/>
                  </a:lnTo>
                  <a:lnTo>
                    <a:pt x="1140" y="856"/>
                  </a:lnTo>
                  <a:lnTo>
                    <a:pt x="1135" y="883"/>
                  </a:lnTo>
                  <a:lnTo>
                    <a:pt x="1133" y="894"/>
                  </a:lnTo>
                  <a:lnTo>
                    <a:pt x="1130" y="897"/>
                  </a:lnTo>
                  <a:lnTo>
                    <a:pt x="1127" y="901"/>
                  </a:lnTo>
                  <a:lnTo>
                    <a:pt x="1123" y="906"/>
                  </a:lnTo>
                  <a:lnTo>
                    <a:pt x="1120" y="909"/>
                  </a:lnTo>
                  <a:lnTo>
                    <a:pt x="769" y="724"/>
                  </a:lnTo>
                  <a:lnTo>
                    <a:pt x="761" y="776"/>
                  </a:lnTo>
                  <a:lnTo>
                    <a:pt x="753" y="847"/>
                  </a:lnTo>
                  <a:lnTo>
                    <a:pt x="745" y="930"/>
                  </a:lnTo>
                  <a:lnTo>
                    <a:pt x="738" y="1018"/>
                  </a:lnTo>
                  <a:lnTo>
                    <a:pt x="731" y="1100"/>
                  </a:lnTo>
                  <a:lnTo>
                    <a:pt x="725" y="1170"/>
                  </a:lnTo>
                  <a:lnTo>
                    <a:pt x="721" y="1217"/>
                  </a:lnTo>
                  <a:lnTo>
                    <a:pt x="720" y="1235"/>
                  </a:lnTo>
                  <a:lnTo>
                    <a:pt x="711" y="1244"/>
                  </a:lnTo>
                  <a:lnTo>
                    <a:pt x="701" y="1252"/>
                  </a:lnTo>
                  <a:lnTo>
                    <a:pt x="691" y="1259"/>
                  </a:lnTo>
                  <a:lnTo>
                    <a:pt x="680" y="1266"/>
                  </a:lnTo>
                  <a:lnTo>
                    <a:pt x="670" y="1272"/>
                  </a:lnTo>
                  <a:lnTo>
                    <a:pt x="659" y="1277"/>
                  </a:lnTo>
                  <a:lnTo>
                    <a:pt x="647" y="1283"/>
                  </a:lnTo>
                  <a:lnTo>
                    <a:pt x="637" y="1288"/>
                  </a:lnTo>
                  <a:lnTo>
                    <a:pt x="552" y="1279"/>
                  </a:lnTo>
                  <a:lnTo>
                    <a:pt x="549" y="1259"/>
                  </a:lnTo>
                  <a:lnTo>
                    <a:pt x="542" y="1205"/>
                  </a:lnTo>
                  <a:lnTo>
                    <a:pt x="533" y="1128"/>
                  </a:lnTo>
                  <a:lnTo>
                    <a:pt x="522" y="1041"/>
                  </a:lnTo>
                  <a:lnTo>
                    <a:pt x="511" y="953"/>
                  </a:lnTo>
                  <a:lnTo>
                    <a:pt x="501" y="874"/>
                  </a:lnTo>
                  <a:lnTo>
                    <a:pt x="493" y="817"/>
                  </a:lnTo>
                  <a:lnTo>
                    <a:pt x="488" y="793"/>
                  </a:lnTo>
                  <a:lnTo>
                    <a:pt x="235" y="1130"/>
                  </a:lnTo>
                  <a:lnTo>
                    <a:pt x="228" y="1134"/>
                  </a:lnTo>
                  <a:lnTo>
                    <a:pt x="223" y="1140"/>
                  </a:lnTo>
                  <a:lnTo>
                    <a:pt x="217" y="1146"/>
                  </a:lnTo>
                  <a:lnTo>
                    <a:pt x="212" y="1153"/>
                  </a:lnTo>
                  <a:lnTo>
                    <a:pt x="208" y="1159"/>
                  </a:lnTo>
                  <a:lnTo>
                    <a:pt x="202" y="1165"/>
                  </a:lnTo>
                  <a:lnTo>
                    <a:pt x="197" y="1170"/>
                  </a:lnTo>
                  <a:lnTo>
                    <a:pt x="190" y="1172"/>
                  </a:lnTo>
                  <a:lnTo>
                    <a:pt x="102" y="881"/>
                  </a:lnTo>
                  <a:lnTo>
                    <a:pt x="467" y="580"/>
                  </a:lnTo>
                  <a:lnTo>
                    <a:pt x="466" y="564"/>
                  </a:lnTo>
                  <a:lnTo>
                    <a:pt x="463" y="548"/>
                  </a:lnTo>
                  <a:lnTo>
                    <a:pt x="460" y="533"/>
                  </a:lnTo>
                  <a:lnTo>
                    <a:pt x="456" y="518"/>
                  </a:lnTo>
                  <a:lnTo>
                    <a:pt x="93" y="797"/>
                  </a:lnTo>
                  <a:lnTo>
                    <a:pt x="83" y="783"/>
                  </a:lnTo>
                  <a:lnTo>
                    <a:pt x="70" y="748"/>
                  </a:lnTo>
                  <a:lnTo>
                    <a:pt x="55" y="698"/>
                  </a:lnTo>
                  <a:lnTo>
                    <a:pt x="38" y="642"/>
                  </a:lnTo>
                  <a:lnTo>
                    <a:pt x="24" y="585"/>
                  </a:lnTo>
                  <a:lnTo>
                    <a:pt x="12" y="536"/>
                  </a:lnTo>
                  <a:lnTo>
                    <a:pt x="4" y="500"/>
                  </a:lnTo>
                  <a:lnTo>
                    <a:pt x="0" y="487"/>
                  </a:lnTo>
                  <a:lnTo>
                    <a:pt x="4" y="482"/>
                  </a:lnTo>
                  <a:lnTo>
                    <a:pt x="19" y="477"/>
                  </a:lnTo>
                  <a:lnTo>
                    <a:pt x="42" y="468"/>
                  </a:lnTo>
                  <a:lnTo>
                    <a:pt x="70" y="460"/>
                  </a:lnTo>
                  <a:lnTo>
                    <a:pt x="99" y="452"/>
                  </a:lnTo>
                  <a:lnTo>
                    <a:pt x="130" y="442"/>
                  </a:lnTo>
                  <a:lnTo>
                    <a:pt x="158" y="434"/>
                  </a:lnTo>
                  <a:lnTo>
                    <a:pt x="181" y="427"/>
                  </a:lnTo>
                  <a:lnTo>
                    <a:pt x="171" y="425"/>
                  </a:lnTo>
                  <a:lnTo>
                    <a:pt x="163" y="424"/>
                  </a:lnTo>
                  <a:lnTo>
                    <a:pt x="154" y="424"/>
                  </a:lnTo>
                  <a:lnTo>
                    <a:pt x="144" y="424"/>
                  </a:lnTo>
                  <a:lnTo>
                    <a:pt x="136" y="422"/>
                  </a:lnTo>
                  <a:lnTo>
                    <a:pt x="128" y="421"/>
                  </a:lnTo>
                  <a:lnTo>
                    <a:pt x="121" y="418"/>
                  </a:lnTo>
                  <a:lnTo>
                    <a:pt x="115" y="413"/>
                  </a:lnTo>
                  <a:lnTo>
                    <a:pt x="115" y="350"/>
                  </a:lnTo>
                  <a:lnTo>
                    <a:pt x="116" y="279"/>
                  </a:lnTo>
                  <a:lnTo>
                    <a:pt x="117" y="220"/>
                  </a:lnTo>
                  <a:lnTo>
                    <a:pt x="117" y="195"/>
                  </a:lnTo>
                  <a:lnTo>
                    <a:pt x="423" y="227"/>
                  </a:lnTo>
                  <a:lnTo>
                    <a:pt x="426" y="213"/>
                  </a:lnTo>
                  <a:lnTo>
                    <a:pt x="425" y="200"/>
                  </a:lnTo>
                  <a:lnTo>
                    <a:pt x="420" y="185"/>
                  </a:lnTo>
                  <a:lnTo>
                    <a:pt x="415" y="172"/>
                  </a:lnTo>
                  <a:lnTo>
                    <a:pt x="416" y="169"/>
                  </a:lnTo>
                  <a:lnTo>
                    <a:pt x="422" y="165"/>
                  </a:lnTo>
                  <a:lnTo>
                    <a:pt x="432" y="162"/>
                  </a:lnTo>
                  <a:lnTo>
                    <a:pt x="443" y="157"/>
                  </a:lnTo>
                  <a:lnTo>
                    <a:pt x="458" y="152"/>
                  </a:lnTo>
                  <a:lnTo>
                    <a:pt x="474" y="147"/>
                  </a:lnTo>
                  <a:lnTo>
                    <a:pt x="490" y="142"/>
                  </a:lnTo>
                  <a:lnTo>
                    <a:pt x="508" y="137"/>
                  </a:lnTo>
                  <a:lnTo>
                    <a:pt x="526" y="132"/>
                  </a:lnTo>
                  <a:lnTo>
                    <a:pt x="544" y="128"/>
                  </a:lnTo>
                  <a:lnTo>
                    <a:pt x="559" y="124"/>
                  </a:lnTo>
                  <a:lnTo>
                    <a:pt x="574" y="121"/>
                  </a:lnTo>
                  <a:lnTo>
                    <a:pt x="586" y="118"/>
                  </a:lnTo>
                  <a:lnTo>
                    <a:pt x="595" y="116"/>
                  </a:lnTo>
                  <a:lnTo>
                    <a:pt x="601" y="114"/>
                  </a:lnTo>
                  <a:lnTo>
                    <a:pt x="604" y="114"/>
                  </a:lnTo>
                  <a:lnTo>
                    <a:pt x="798" y="143"/>
                  </a:lnTo>
                  <a:lnTo>
                    <a:pt x="805" y="141"/>
                  </a:lnTo>
                  <a:lnTo>
                    <a:pt x="811" y="142"/>
                  </a:lnTo>
                  <a:lnTo>
                    <a:pt x="816" y="145"/>
                  </a:lnTo>
                  <a:lnTo>
                    <a:pt x="819" y="150"/>
                  </a:lnTo>
                  <a:lnTo>
                    <a:pt x="822" y="156"/>
                  </a:lnTo>
                  <a:lnTo>
                    <a:pt x="825" y="161"/>
                  </a:lnTo>
                  <a:lnTo>
                    <a:pt x="830" y="167"/>
                  </a:lnTo>
                  <a:lnTo>
                    <a:pt x="836" y="170"/>
                  </a:lnTo>
                  <a:lnTo>
                    <a:pt x="838" y="168"/>
                  </a:lnTo>
                  <a:lnTo>
                    <a:pt x="846" y="163"/>
                  </a:lnTo>
                  <a:lnTo>
                    <a:pt x="859" y="155"/>
                  </a:lnTo>
                  <a:lnTo>
                    <a:pt x="876" y="143"/>
                  </a:lnTo>
                  <a:lnTo>
                    <a:pt x="895" y="130"/>
                  </a:lnTo>
                  <a:lnTo>
                    <a:pt x="916" y="116"/>
                  </a:lnTo>
                  <a:lnTo>
                    <a:pt x="939" y="101"/>
                  </a:lnTo>
                  <a:lnTo>
                    <a:pt x="963" y="84"/>
                  </a:lnTo>
                  <a:lnTo>
                    <a:pt x="987" y="69"/>
                  </a:lnTo>
                  <a:lnTo>
                    <a:pt x="1010" y="53"/>
                  </a:lnTo>
                  <a:lnTo>
                    <a:pt x="1033" y="39"/>
                  </a:lnTo>
                  <a:lnTo>
                    <a:pt x="1053" y="26"/>
                  </a:lnTo>
                  <a:lnTo>
                    <a:pt x="1069" y="16"/>
                  </a:lnTo>
                  <a:lnTo>
                    <a:pt x="1082" y="7"/>
                  </a:lnTo>
                  <a:lnTo>
                    <a:pt x="1091" y="2"/>
                  </a:lnTo>
                  <a:lnTo>
                    <a:pt x="10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0600" y="2306520"/>
              <a:ext cx="430200" cy="398160"/>
            </a:xfrm>
            <a:custGeom>
              <a:avLst/>
              <a:gdLst/>
              <a:ahLst/>
              <a:rect l="l" t="t" r="r" b="b"/>
              <a:pathLst>
                <a:path w="271" h="251">
                  <a:moveTo>
                    <a:pt x="271" y="189"/>
                  </a:moveTo>
                  <a:lnTo>
                    <a:pt x="117" y="251"/>
                  </a:lnTo>
                  <a:lnTo>
                    <a:pt x="0" y="242"/>
                  </a:lnTo>
                  <a:lnTo>
                    <a:pt x="3" y="174"/>
                  </a:lnTo>
                  <a:lnTo>
                    <a:pt x="19" y="163"/>
                  </a:lnTo>
                  <a:lnTo>
                    <a:pt x="35" y="152"/>
                  </a:lnTo>
                  <a:lnTo>
                    <a:pt x="51" y="140"/>
                  </a:lnTo>
                  <a:lnTo>
                    <a:pt x="68" y="130"/>
                  </a:lnTo>
                  <a:lnTo>
                    <a:pt x="84" y="118"/>
                  </a:lnTo>
                  <a:lnTo>
                    <a:pt x="100" y="107"/>
                  </a:lnTo>
                  <a:lnTo>
                    <a:pt x="116" y="97"/>
                  </a:lnTo>
                  <a:lnTo>
                    <a:pt x="132" y="85"/>
                  </a:lnTo>
                  <a:lnTo>
                    <a:pt x="149" y="74"/>
                  </a:lnTo>
                  <a:lnTo>
                    <a:pt x="165" y="64"/>
                  </a:lnTo>
                  <a:lnTo>
                    <a:pt x="182" y="53"/>
                  </a:lnTo>
                  <a:lnTo>
                    <a:pt x="198" y="42"/>
                  </a:lnTo>
                  <a:lnTo>
                    <a:pt x="215" y="32"/>
                  </a:lnTo>
                  <a:lnTo>
                    <a:pt x="231" y="21"/>
                  </a:lnTo>
                  <a:lnTo>
                    <a:pt x="248" y="11"/>
                  </a:lnTo>
                  <a:lnTo>
                    <a:pt x="264" y="0"/>
                  </a:lnTo>
                  <a:lnTo>
                    <a:pt x="268" y="46"/>
                  </a:lnTo>
                  <a:lnTo>
                    <a:pt x="269" y="93"/>
                  </a:lnTo>
                  <a:lnTo>
                    <a:pt x="269" y="141"/>
                  </a:lnTo>
                  <a:lnTo>
                    <a:pt x="271" y="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59280" y="2462040"/>
              <a:ext cx="322200" cy="167760"/>
            </a:xfrm>
            <a:custGeom>
              <a:avLst/>
              <a:gdLst/>
              <a:ahLst/>
              <a:rect l="l" t="t" r="r" b="b"/>
              <a:pathLst>
                <a:path w="203" h="106">
                  <a:moveTo>
                    <a:pt x="203" y="7"/>
                  </a:moveTo>
                  <a:lnTo>
                    <a:pt x="201" y="18"/>
                  </a:lnTo>
                  <a:lnTo>
                    <a:pt x="197" y="27"/>
                  </a:lnTo>
                  <a:lnTo>
                    <a:pt x="191" y="36"/>
                  </a:lnTo>
                  <a:lnTo>
                    <a:pt x="184" y="43"/>
                  </a:lnTo>
                  <a:lnTo>
                    <a:pt x="175" y="52"/>
                  </a:lnTo>
                  <a:lnTo>
                    <a:pt x="167" y="59"/>
                  </a:lnTo>
                  <a:lnTo>
                    <a:pt x="161" y="66"/>
                  </a:lnTo>
                  <a:lnTo>
                    <a:pt x="155" y="74"/>
                  </a:lnTo>
                  <a:lnTo>
                    <a:pt x="151" y="75"/>
                  </a:lnTo>
                  <a:lnTo>
                    <a:pt x="147" y="74"/>
                  </a:lnTo>
                  <a:lnTo>
                    <a:pt x="142" y="71"/>
                  </a:lnTo>
                  <a:lnTo>
                    <a:pt x="141" y="66"/>
                  </a:lnTo>
                  <a:lnTo>
                    <a:pt x="144" y="59"/>
                  </a:lnTo>
                  <a:lnTo>
                    <a:pt x="148" y="54"/>
                  </a:lnTo>
                  <a:lnTo>
                    <a:pt x="153" y="49"/>
                  </a:lnTo>
                  <a:lnTo>
                    <a:pt x="157" y="43"/>
                  </a:lnTo>
                  <a:lnTo>
                    <a:pt x="135" y="45"/>
                  </a:lnTo>
                  <a:lnTo>
                    <a:pt x="115" y="52"/>
                  </a:lnTo>
                  <a:lnTo>
                    <a:pt x="96" y="62"/>
                  </a:lnTo>
                  <a:lnTo>
                    <a:pt x="79" y="75"/>
                  </a:lnTo>
                  <a:lnTo>
                    <a:pt x="61" y="88"/>
                  </a:lnTo>
                  <a:lnTo>
                    <a:pt x="42" y="100"/>
                  </a:lnTo>
                  <a:lnTo>
                    <a:pt x="22" y="106"/>
                  </a:lnTo>
                  <a:lnTo>
                    <a:pt x="0" y="106"/>
                  </a:lnTo>
                  <a:lnTo>
                    <a:pt x="1" y="98"/>
                  </a:lnTo>
                  <a:lnTo>
                    <a:pt x="5" y="92"/>
                  </a:lnTo>
                  <a:lnTo>
                    <a:pt x="10" y="87"/>
                  </a:lnTo>
                  <a:lnTo>
                    <a:pt x="19" y="85"/>
                  </a:lnTo>
                  <a:lnTo>
                    <a:pt x="28" y="82"/>
                  </a:lnTo>
                  <a:lnTo>
                    <a:pt x="36" y="80"/>
                  </a:lnTo>
                  <a:lnTo>
                    <a:pt x="46" y="78"/>
                  </a:lnTo>
                  <a:lnTo>
                    <a:pt x="53" y="74"/>
                  </a:lnTo>
                  <a:lnTo>
                    <a:pt x="63" y="66"/>
                  </a:lnTo>
                  <a:lnTo>
                    <a:pt x="74" y="59"/>
                  </a:lnTo>
                  <a:lnTo>
                    <a:pt x="85" y="52"/>
                  </a:lnTo>
                  <a:lnTo>
                    <a:pt x="96" y="45"/>
                  </a:lnTo>
                  <a:lnTo>
                    <a:pt x="107" y="39"/>
                  </a:lnTo>
                  <a:lnTo>
                    <a:pt x="119" y="33"/>
                  </a:lnTo>
                  <a:lnTo>
                    <a:pt x="131" y="27"/>
                  </a:lnTo>
                  <a:lnTo>
                    <a:pt x="142" y="22"/>
                  </a:lnTo>
                  <a:lnTo>
                    <a:pt x="137" y="21"/>
                  </a:lnTo>
                  <a:lnTo>
                    <a:pt x="129" y="21"/>
                  </a:lnTo>
                  <a:lnTo>
                    <a:pt x="122" y="20"/>
                  </a:lnTo>
                  <a:lnTo>
                    <a:pt x="118" y="13"/>
                  </a:lnTo>
                  <a:lnTo>
                    <a:pt x="118" y="6"/>
                  </a:lnTo>
                  <a:lnTo>
                    <a:pt x="128" y="5"/>
                  </a:lnTo>
                  <a:lnTo>
                    <a:pt x="139" y="2"/>
                  </a:lnTo>
                  <a:lnTo>
                    <a:pt x="150" y="1"/>
                  </a:lnTo>
                  <a:lnTo>
                    <a:pt x="160" y="1"/>
                  </a:lnTo>
                  <a:lnTo>
                    <a:pt x="171" y="0"/>
                  </a:lnTo>
                  <a:lnTo>
                    <a:pt x="181" y="1"/>
                  </a:lnTo>
                  <a:lnTo>
                    <a:pt x="192" y="3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03800" y="2474640"/>
              <a:ext cx="382680" cy="47160"/>
            </a:xfrm>
            <a:custGeom>
              <a:avLst/>
              <a:gdLst/>
              <a:ahLst/>
              <a:rect l="l" t="t" r="r" b="b"/>
              <a:pathLst>
                <a:path w="241" h="30">
                  <a:moveTo>
                    <a:pt x="241" y="13"/>
                  </a:moveTo>
                  <a:lnTo>
                    <a:pt x="227" y="17"/>
                  </a:lnTo>
                  <a:lnTo>
                    <a:pt x="212" y="19"/>
                  </a:lnTo>
                  <a:lnTo>
                    <a:pt x="198" y="21"/>
                  </a:lnTo>
                  <a:lnTo>
                    <a:pt x="183" y="24"/>
                  </a:lnTo>
                  <a:lnTo>
                    <a:pt x="168" y="25"/>
                  </a:lnTo>
                  <a:lnTo>
                    <a:pt x="153" y="27"/>
                  </a:lnTo>
                  <a:lnTo>
                    <a:pt x="138" y="28"/>
                  </a:lnTo>
                  <a:lnTo>
                    <a:pt x="122" y="28"/>
                  </a:lnTo>
                  <a:lnTo>
                    <a:pt x="107" y="30"/>
                  </a:lnTo>
                  <a:lnTo>
                    <a:pt x="92" y="30"/>
                  </a:lnTo>
                  <a:lnTo>
                    <a:pt x="77" y="30"/>
                  </a:lnTo>
                  <a:lnTo>
                    <a:pt x="61" y="30"/>
                  </a:lnTo>
                  <a:lnTo>
                    <a:pt x="46" y="28"/>
                  </a:lnTo>
                  <a:lnTo>
                    <a:pt x="31" y="27"/>
                  </a:lnTo>
                  <a:lnTo>
                    <a:pt x="15" y="26"/>
                  </a:lnTo>
                  <a:lnTo>
                    <a:pt x="0" y="24"/>
                  </a:lnTo>
                  <a:lnTo>
                    <a:pt x="13" y="18"/>
                  </a:lnTo>
                  <a:lnTo>
                    <a:pt x="27" y="12"/>
                  </a:lnTo>
                  <a:lnTo>
                    <a:pt x="41" y="7"/>
                  </a:lnTo>
                  <a:lnTo>
                    <a:pt x="56" y="5"/>
                  </a:lnTo>
                  <a:lnTo>
                    <a:pt x="71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8" y="0"/>
                  </a:lnTo>
                  <a:lnTo>
                    <a:pt x="133" y="0"/>
                  </a:lnTo>
                  <a:lnTo>
                    <a:pt x="148" y="1"/>
                  </a:lnTo>
                  <a:lnTo>
                    <a:pt x="164" y="2"/>
                  </a:lnTo>
                  <a:lnTo>
                    <a:pt x="180" y="5"/>
                  </a:lnTo>
                  <a:lnTo>
                    <a:pt x="196" y="6"/>
                  </a:lnTo>
                  <a:lnTo>
                    <a:pt x="211" y="8"/>
                  </a:lnTo>
                  <a:lnTo>
                    <a:pt x="226" y="11"/>
                  </a:lnTo>
                  <a:lnTo>
                    <a:pt x="241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8400" y="2543040"/>
              <a:ext cx="284400" cy="1723680"/>
            </a:xfrm>
            <a:custGeom>
              <a:avLst/>
              <a:gdLst/>
              <a:ahLst/>
              <a:rect l="l" t="t" r="r" b="b"/>
              <a:pathLst>
                <a:path w="179" h="1086">
                  <a:moveTo>
                    <a:pt x="161" y="10"/>
                  </a:moveTo>
                  <a:lnTo>
                    <a:pt x="168" y="189"/>
                  </a:lnTo>
                  <a:lnTo>
                    <a:pt x="174" y="558"/>
                  </a:lnTo>
                  <a:lnTo>
                    <a:pt x="178" y="921"/>
                  </a:lnTo>
                  <a:lnTo>
                    <a:pt x="179" y="1086"/>
                  </a:lnTo>
                  <a:lnTo>
                    <a:pt x="171" y="1084"/>
                  </a:lnTo>
                  <a:lnTo>
                    <a:pt x="162" y="1084"/>
                  </a:lnTo>
                  <a:lnTo>
                    <a:pt x="152" y="1085"/>
                  </a:lnTo>
                  <a:lnTo>
                    <a:pt x="144" y="1085"/>
                  </a:lnTo>
                  <a:lnTo>
                    <a:pt x="135" y="1085"/>
                  </a:lnTo>
                  <a:lnTo>
                    <a:pt x="129" y="1082"/>
                  </a:lnTo>
                  <a:lnTo>
                    <a:pt x="127" y="1075"/>
                  </a:lnTo>
                  <a:lnTo>
                    <a:pt x="127" y="1063"/>
                  </a:lnTo>
                  <a:lnTo>
                    <a:pt x="65" y="592"/>
                  </a:lnTo>
                  <a:lnTo>
                    <a:pt x="73" y="582"/>
                  </a:lnTo>
                  <a:lnTo>
                    <a:pt x="81" y="571"/>
                  </a:lnTo>
                  <a:lnTo>
                    <a:pt x="89" y="561"/>
                  </a:lnTo>
                  <a:lnTo>
                    <a:pt x="98" y="549"/>
                  </a:lnTo>
                  <a:lnTo>
                    <a:pt x="105" y="538"/>
                  </a:lnTo>
                  <a:lnTo>
                    <a:pt x="113" y="529"/>
                  </a:lnTo>
                  <a:lnTo>
                    <a:pt x="121" y="519"/>
                  </a:lnTo>
                  <a:lnTo>
                    <a:pt x="129" y="510"/>
                  </a:lnTo>
                  <a:lnTo>
                    <a:pt x="128" y="480"/>
                  </a:lnTo>
                  <a:lnTo>
                    <a:pt x="122" y="424"/>
                  </a:lnTo>
                  <a:lnTo>
                    <a:pt x="118" y="370"/>
                  </a:lnTo>
                  <a:lnTo>
                    <a:pt x="115" y="345"/>
                  </a:lnTo>
                  <a:lnTo>
                    <a:pt x="113" y="341"/>
                  </a:lnTo>
                  <a:lnTo>
                    <a:pt x="109" y="339"/>
                  </a:lnTo>
                  <a:lnTo>
                    <a:pt x="106" y="337"/>
                  </a:lnTo>
                  <a:lnTo>
                    <a:pt x="101" y="338"/>
                  </a:lnTo>
                  <a:lnTo>
                    <a:pt x="42" y="386"/>
                  </a:lnTo>
                  <a:lnTo>
                    <a:pt x="35" y="326"/>
                  </a:lnTo>
                  <a:lnTo>
                    <a:pt x="119" y="265"/>
                  </a:lnTo>
                  <a:lnTo>
                    <a:pt x="119" y="255"/>
                  </a:lnTo>
                  <a:lnTo>
                    <a:pt x="114" y="238"/>
                  </a:lnTo>
                  <a:lnTo>
                    <a:pt x="109" y="214"/>
                  </a:lnTo>
                  <a:lnTo>
                    <a:pt x="102" y="188"/>
                  </a:lnTo>
                  <a:lnTo>
                    <a:pt x="95" y="162"/>
                  </a:lnTo>
                  <a:lnTo>
                    <a:pt x="88" y="140"/>
                  </a:lnTo>
                  <a:lnTo>
                    <a:pt x="83" y="124"/>
                  </a:lnTo>
                  <a:lnTo>
                    <a:pt x="82" y="119"/>
                  </a:lnTo>
                  <a:lnTo>
                    <a:pt x="14" y="143"/>
                  </a:lnTo>
                  <a:lnTo>
                    <a:pt x="0" y="0"/>
                  </a:lnTo>
                  <a:lnTo>
                    <a:pt x="161" y="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8080" y="2597040"/>
              <a:ext cx="492120" cy="307440"/>
            </a:xfrm>
            <a:custGeom>
              <a:avLst/>
              <a:gdLst/>
              <a:ahLst/>
              <a:rect l="l" t="t" r="r" b="b"/>
              <a:pathLst>
                <a:path w="310" h="194">
                  <a:moveTo>
                    <a:pt x="294" y="33"/>
                  </a:moveTo>
                  <a:lnTo>
                    <a:pt x="299" y="53"/>
                  </a:lnTo>
                  <a:lnTo>
                    <a:pt x="301" y="74"/>
                  </a:lnTo>
                  <a:lnTo>
                    <a:pt x="302" y="95"/>
                  </a:lnTo>
                  <a:lnTo>
                    <a:pt x="310" y="114"/>
                  </a:lnTo>
                  <a:lnTo>
                    <a:pt x="94" y="194"/>
                  </a:lnTo>
                  <a:lnTo>
                    <a:pt x="2" y="191"/>
                  </a:lnTo>
                  <a:lnTo>
                    <a:pt x="4" y="144"/>
                  </a:lnTo>
                  <a:lnTo>
                    <a:pt x="4" y="94"/>
                  </a:lnTo>
                  <a:lnTo>
                    <a:pt x="2" y="46"/>
                  </a:lnTo>
                  <a:lnTo>
                    <a:pt x="0" y="0"/>
                  </a:lnTo>
                  <a:lnTo>
                    <a:pt x="19" y="1"/>
                  </a:lnTo>
                  <a:lnTo>
                    <a:pt x="38" y="3"/>
                  </a:lnTo>
                  <a:lnTo>
                    <a:pt x="57" y="4"/>
                  </a:lnTo>
                  <a:lnTo>
                    <a:pt x="74" y="7"/>
                  </a:lnTo>
                  <a:lnTo>
                    <a:pt x="93" y="9"/>
                  </a:lnTo>
                  <a:lnTo>
                    <a:pt x="111" y="12"/>
                  </a:lnTo>
                  <a:lnTo>
                    <a:pt x="129" y="13"/>
                  </a:lnTo>
                  <a:lnTo>
                    <a:pt x="147" y="15"/>
                  </a:lnTo>
                  <a:lnTo>
                    <a:pt x="165" y="17"/>
                  </a:lnTo>
                  <a:lnTo>
                    <a:pt x="183" y="20"/>
                  </a:lnTo>
                  <a:lnTo>
                    <a:pt x="200" y="22"/>
                  </a:lnTo>
                  <a:lnTo>
                    <a:pt x="219" y="24"/>
                  </a:lnTo>
                  <a:lnTo>
                    <a:pt x="237" y="27"/>
                  </a:lnTo>
                  <a:lnTo>
                    <a:pt x="256" y="28"/>
                  </a:lnTo>
                  <a:lnTo>
                    <a:pt x="275" y="30"/>
                  </a:lnTo>
                  <a:lnTo>
                    <a:pt x="29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1200" y="2670120"/>
              <a:ext cx="374760" cy="124920"/>
            </a:xfrm>
            <a:custGeom>
              <a:avLst/>
              <a:gdLst/>
              <a:ahLst/>
              <a:rect l="l" t="t" r="r" b="b"/>
              <a:pathLst>
                <a:path w="236" h="79">
                  <a:moveTo>
                    <a:pt x="77" y="15"/>
                  </a:moveTo>
                  <a:lnTo>
                    <a:pt x="70" y="19"/>
                  </a:lnTo>
                  <a:lnTo>
                    <a:pt x="64" y="23"/>
                  </a:lnTo>
                  <a:lnTo>
                    <a:pt x="58" y="27"/>
                  </a:lnTo>
                  <a:lnTo>
                    <a:pt x="52" y="33"/>
                  </a:lnTo>
                  <a:lnTo>
                    <a:pt x="60" y="36"/>
                  </a:lnTo>
                  <a:lnTo>
                    <a:pt x="70" y="40"/>
                  </a:lnTo>
                  <a:lnTo>
                    <a:pt x="79" y="42"/>
                  </a:lnTo>
                  <a:lnTo>
                    <a:pt x="90" y="44"/>
                  </a:lnTo>
                  <a:lnTo>
                    <a:pt x="100" y="44"/>
                  </a:lnTo>
                  <a:lnTo>
                    <a:pt x="110" y="43"/>
                  </a:lnTo>
                  <a:lnTo>
                    <a:pt x="119" y="40"/>
                  </a:lnTo>
                  <a:lnTo>
                    <a:pt x="128" y="33"/>
                  </a:lnTo>
                  <a:lnTo>
                    <a:pt x="141" y="34"/>
                  </a:lnTo>
                  <a:lnTo>
                    <a:pt x="152" y="36"/>
                  </a:lnTo>
                  <a:lnTo>
                    <a:pt x="165" y="37"/>
                  </a:lnTo>
                  <a:lnTo>
                    <a:pt x="178" y="39"/>
                  </a:lnTo>
                  <a:lnTo>
                    <a:pt x="191" y="40"/>
                  </a:lnTo>
                  <a:lnTo>
                    <a:pt x="204" y="41"/>
                  </a:lnTo>
                  <a:lnTo>
                    <a:pt x="216" y="42"/>
                  </a:lnTo>
                  <a:lnTo>
                    <a:pt x="229" y="42"/>
                  </a:lnTo>
                  <a:lnTo>
                    <a:pt x="232" y="47"/>
                  </a:lnTo>
                  <a:lnTo>
                    <a:pt x="235" y="52"/>
                  </a:lnTo>
                  <a:lnTo>
                    <a:pt x="236" y="57"/>
                  </a:lnTo>
                  <a:lnTo>
                    <a:pt x="236" y="62"/>
                  </a:lnTo>
                  <a:lnTo>
                    <a:pt x="221" y="63"/>
                  </a:lnTo>
                  <a:lnTo>
                    <a:pt x="204" y="62"/>
                  </a:lnTo>
                  <a:lnTo>
                    <a:pt x="189" y="60"/>
                  </a:lnTo>
                  <a:lnTo>
                    <a:pt x="174" y="56"/>
                  </a:lnTo>
                  <a:lnTo>
                    <a:pt x="157" y="54"/>
                  </a:lnTo>
                  <a:lnTo>
                    <a:pt x="143" y="54"/>
                  </a:lnTo>
                  <a:lnTo>
                    <a:pt x="128" y="56"/>
                  </a:lnTo>
                  <a:lnTo>
                    <a:pt x="113" y="62"/>
                  </a:lnTo>
                  <a:lnTo>
                    <a:pt x="70" y="59"/>
                  </a:lnTo>
                  <a:lnTo>
                    <a:pt x="65" y="79"/>
                  </a:lnTo>
                  <a:lnTo>
                    <a:pt x="57" y="75"/>
                  </a:lnTo>
                  <a:lnTo>
                    <a:pt x="49" y="70"/>
                  </a:lnTo>
                  <a:lnTo>
                    <a:pt x="40" y="66"/>
                  </a:lnTo>
                  <a:lnTo>
                    <a:pt x="32" y="61"/>
                  </a:lnTo>
                  <a:lnTo>
                    <a:pt x="24" y="56"/>
                  </a:lnTo>
                  <a:lnTo>
                    <a:pt x="17" y="50"/>
                  </a:lnTo>
                  <a:lnTo>
                    <a:pt x="9" y="46"/>
                  </a:lnTo>
                  <a:lnTo>
                    <a:pt x="0" y="40"/>
                  </a:lnTo>
                  <a:lnTo>
                    <a:pt x="2" y="3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3" y="6"/>
                  </a:lnTo>
                  <a:lnTo>
                    <a:pt x="76" y="10"/>
                  </a:lnTo>
                  <a:lnTo>
                    <a:pt x="77" y="15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2706480"/>
              <a:ext cx="855720" cy="385560"/>
            </a:xfrm>
            <a:custGeom>
              <a:avLst/>
              <a:gdLst/>
              <a:ahLst/>
              <a:rect l="l" t="t" r="r" b="b"/>
              <a:pathLst>
                <a:path w="539" h="243">
                  <a:moveTo>
                    <a:pt x="539" y="49"/>
                  </a:moveTo>
                  <a:lnTo>
                    <a:pt x="538" y="97"/>
                  </a:lnTo>
                  <a:lnTo>
                    <a:pt x="535" y="146"/>
                  </a:lnTo>
                  <a:lnTo>
                    <a:pt x="530" y="195"/>
                  </a:lnTo>
                  <a:lnTo>
                    <a:pt x="524" y="243"/>
                  </a:lnTo>
                  <a:lnTo>
                    <a:pt x="2" y="146"/>
                  </a:lnTo>
                  <a:lnTo>
                    <a:pt x="1" y="130"/>
                  </a:lnTo>
                  <a:lnTo>
                    <a:pt x="0" y="91"/>
                  </a:lnTo>
                  <a:lnTo>
                    <a:pt x="0" y="44"/>
                  </a:lnTo>
                  <a:lnTo>
                    <a:pt x="3" y="0"/>
                  </a:lnTo>
                  <a:lnTo>
                    <a:pt x="5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56080" y="2766960"/>
              <a:ext cx="801720" cy="709200"/>
            </a:xfrm>
            <a:custGeom>
              <a:avLst/>
              <a:gdLst/>
              <a:ahLst/>
              <a:rect l="l" t="t" r="r" b="b"/>
              <a:pathLst>
                <a:path w="505" h="447">
                  <a:moveTo>
                    <a:pt x="73" y="447"/>
                  </a:moveTo>
                  <a:lnTo>
                    <a:pt x="0" y="182"/>
                  </a:lnTo>
                  <a:lnTo>
                    <a:pt x="487" y="0"/>
                  </a:lnTo>
                  <a:lnTo>
                    <a:pt x="505" y="114"/>
                  </a:lnTo>
                  <a:lnTo>
                    <a:pt x="500" y="118"/>
                  </a:lnTo>
                  <a:lnTo>
                    <a:pt x="489" y="127"/>
                  </a:lnTo>
                  <a:lnTo>
                    <a:pt x="469" y="141"/>
                  </a:lnTo>
                  <a:lnTo>
                    <a:pt x="444" y="161"/>
                  </a:lnTo>
                  <a:lnTo>
                    <a:pt x="413" y="184"/>
                  </a:lnTo>
                  <a:lnTo>
                    <a:pt x="379" y="210"/>
                  </a:lnTo>
                  <a:lnTo>
                    <a:pt x="342" y="238"/>
                  </a:lnTo>
                  <a:lnTo>
                    <a:pt x="305" y="268"/>
                  </a:lnTo>
                  <a:lnTo>
                    <a:pt x="266" y="297"/>
                  </a:lnTo>
                  <a:lnTo>
                    <a:pt x="228" y="327"/>
                  </a:lnTo>
                  <a:lnTo>
                    <a:pt x="192" y="354"/>
                  </a:lnTo>
                  <a:lnTo>
                    <a:pt x="157" y="380"/>
                  </a:lnTo>
                  <a:lnTo>
                    <a:pt x="128" y="403"/>
                  </a:lnTo>
                  <a:lnTo>
                    <a:pt x="103" y="422"/>
                  </a:lnTo>
                  <a:lnTo>
                    <a:pt x="84" y="437"/>
                  </a:lnTo>
                  <a:lnTo>
                    <a:pt x="73" y="4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2822400"/>
              <a:ext cx="698760" cy="159840"/>
            </a:xfrm>
            <a:custGeom>
              <a:avLst/>
              <a:gdLst/>
              <a:ahLst/>
              <a:rect l="l" t="t" r="r" b="b"/>
              <a:pathLst>
                <a:path w="440" h="101">
                  <a:moveTo>
                    <a:pt x="361" y="101"/>
                  </a:moveTo>
                  <a:lnTo>
                    <a:pt x="361" y="98"/>
                  </a:lnTo>
                  <a:lnTo>
                    <a:pt x="364" y="95"/>
                  </a:lnTo>
                  <a:lnTo>
                    <a:pt x="369" y="90"/>
                  </a:lnTo>
                  <a:lnTo>
                    <a:pt x="376" y="85"/>
                  </a:lnTo>
                  <a:lnTo>
                    <a:pt x="384" y="81"/>
                  </a:lnTo>
                  <a:lnTo>
                    <a:pt x="392" y="77"/>
                  </a:lnTo>
                  <a:lnTo>
                    <a:pt x="401" y="72"/>
                  </a:lnTo>
                  <a:lnTo>
                    <a:pt x="408" y="70"/>
                  </a:lnTo>
                  <a:lnTo>
                    <a:pt x="404" y="65"/>
                  </a:lnTo>
                  <a:lnTo>
                    <a:pt x="399" y="65"/>
                  </a:lnTo>
                  <a:lnTo>
                    <a:pt x="395" y="68"/>
                  </a:lnTo>
                  <a:lnTo>
                    <a:pt x="390" y="69"/>
                  </a:lnTo>
                  <a:lnTo>
                    <a:pt x="260" y="45"/>
                  </a:lnTo>
                  <a:lnTo>
                    <a:pt x="239" y="60"/>
                  </a:lnTo>
                  <a:lnTo>
                    <a:pt x="224" y="58"/>
                  </a:lnTo>
                  <a:lnTo>
                    <a:pt x="209" y="57"/>
                  </a:lnTo>
                  <a:lnTo>
                    <a:pt x="193" y="55"/>
                  </a:lnTo>
                  <a:lnTo>
                    <a:pt x="178" y="52"/>
                  </a:lnTo>
                  <a:lnTo>
                    <a:pt x="163" y="50"/>
                  </a:lnTo>
                  <a:lnTo>
                    <a:pt x="147" y="48"/>
                  </a:lnTo>
                  <a:lnTo>
                    <a:pt x="133" y="45"/>
                  </a:lnTo>
                  <a:lnTo>
                    <a:pt x="118" y="43"/>
                  </a:lnTo>
                  <a:lnTo>
                    <a:pt x="103" y="39"/>
                  </a:lnTo>
                  <a:lnTo>
                    <a:pt x="88" y="37"/>
                  </a:lnTo>
                  <a:lnTo>
                    <a:pt x="73" y="35"/>
                  </a:lnTo>
                  <a:lnTo>
                    <a:pt x="59" y="31"/>
                  </a:lnTo>
                  <a:lnTo>
                    <a:pt x="44" y="29"/>
                  </a:lnTo>
                  <a:lnTo>
                    <a:pt x="29" y="25"/>
                  </a:lnTo>
                  <a:lnTo>
                    <a:pt x="14" y="23"/>
                  </a:lnTo>
                  <a:lnTo>
                    <a:pt x="0" y="19"/>
                  </a:lnTo>
                  <a:lnTo>
                    <a:pt x="1" y="0"/>
                  </a:lnTo>
                  <a:lnTo>
                    <a:pt x="15" y="4"/>
                  </a:lnTo>
                  <a:lnTo>
                    <a:pt x="28" y="9"/>
                  </a:lnTo>
                  <a:lnTo>
                    <a:pt x="42" y="12"/>
                  </a:lnTo>
                  <a:lnTo>
                    <a:pt x="57" y="16"/>
                  </a:lnTo>
                  <a:lnTo>
                    <a:pt x="71" y="18"/>
                  </a:lnTo>
                  <a:lnTo>
                    <a:pt x="86" y="22"/>
                  </a:lnTo>
                  <a:lnTo>
                    <a:pt x="100" y="24"/>
                  </a:lnTo>
                  <a:lnTo>
                    <a:pt x="114" y="27"/>
                  </a:lnTo>
                  <a:lnTo>
                    <a:pt x="128" y="30"/>
                  </a:lnTo>
                  <a:lnTo>
                    <a:pt x="144" y="32"/>
                  </a:lnTo>
                  <a:lnTo>
                    <a:pt x="158" y="35"/>
                  </a:lnTo>
                  <a:lnTo>
                    <a:pt x="173" y="37"/>
                  </a:lnTo>
                  <a:lnTo>
                    <a:pt x="187" y="38"/>
                  </a:lnTo>
                  <a:lnTo>
                    <a:pt x="203" y="40"/>
                  </a:lnTo>
                  <a:lnTo>
                    <a:pt x="217" y="42"/>
                  </a:lnTo>
                  <a:lnTo>
                    <a:pt x="232" y="44"/>
                  </a:lnTo>
                  <a:lnTo>
                    <a:pt x="240" y="36"/>
                  </a:lnTo>
                  <a:lnTo>
                    <a:pt x="251" y="31"/>
                  </a:lnTo>
                  <a:lnTo>
                    <a:pt x="262" y="30"/>
                  </a:lnTo>
                  <a:lnTo>
                    <a:pt x="273" y="31"/>
                  </a:lnTo>
                  <a:lnTo>
                    <a:pt x="285" y="33"/>
                  </a:lnTo>
                  <a:lnTo>
                    <a:pt x="297" y="36"/>
                  </a:lnTo>
                  <a:lnTo>
                    <a:pt x="309" y="39"/>
                  </a:lnTo>
                  <a:lnTo>
                    <a:pt x="319" y="40"/>
                  </a:lnTo>
                  <a:lnTo>
                    <a:pt x="328" y="43"/>
                  </a:lnTo>
                  <a:lnTo>
                    <a:pt x="337" y="45"/>
                  </a:lnTo>
                  <a:lnTo>
                    <a:pt x="346" y="48"/>
                  </a:lnTo>
                  <a:lnTo>
                    <a:pt x="356" y="49"/>
                  </a:lnTo>
                  <a:lnTo>
                    <a:pt x="364" y="50"/>
                  </a:lnTo>
                  <a:lnTo>
                    <a:pt x="374" y="51"/>
                  </a:lnTo>
                  <a:lnTo>
                    <a:pt x="383" y="51"/>
                  </a:lnTo>
                  <a:lnTo>
                    <a:pt x="391" y="51"/>
                  </a:lnTo>
                  <a:lnTo>
                    <a:pt x="387" y="40"/>
                  </a:lnTo>
                  <a:lnTo>
                    <a:pt x="383" y="29"/>
                  </a:lnTo>
                  <a:lnTo>
                    <a:pt x="381" y="19"/>
                  </a:lnTo>
                  <a:lnTo>
                    <a:pt x="379" y="14"/>
                  </a:lnTo>
                  <a:lnTo>
                    <a:pt x="440" y="76"/>
                  </a:lnTo>
                  <a:lnTo>
                    <a:pt x="437" y="77"/>
                  </a:lnTo>
                  <a:lnTo>
                    <a:pt x="430" y="78"/>
                  </a:lnTo>
                  <a:lnTo>
                    <a:pt x="421" y="82"/>
                  </a:lnTo>
                  <a:lnTo>
                    <a:pt x="409" y="85"/>
                  </a:lnTo>
                  <a:lnTo>
                    <a:pt x="396" y="90"/>
                  </a:lnTo>
                  <a:lnTo>
                    <a:pt x="383" y="93"/>
                  </a:lnTo>
                  <a:lnTo>
                    <a:pt x="371" y="97"/>
                  </a:lnTo>
                  <a:lnTo>
                    <a:pt x="361" y="101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3440" y="2901600"/>
              <a:ext cx="598680" cy="336240"/>
            </a:xfrm>
            <a:custGeom>
              <a:avLst/>
              <a:gdLst/>
              <a:ahLst/>
              <a:rect l="l" t="t" r="r" b="b"/>
              <a:pathLst>
                <a:path w="377" h="212">
                  <a:moveTo>
                    <a:pt x="377" y="2"/>
                  </a:moveTo>
                  <a:lnTo>
                    <a:pt x="373" y="9"/>
                  </a:lnTo>
                  <a:lnTo>
                    <a:pt x="367" y="15"/>
                  </a:lnTo>
                  <a:lnTo>
                    <a:pt x="362" y="21"/>
                  </a:lnTo>
                  <a:lnTo>
                    <a:pt x="355" y="25"/>
                  </a:lnTo>
                  <a:lnTo>
                    <a:pt x="347" y="28"/>
                  </a:lnTo>
                  <a:lnTo>
                    <a:pt x="339" y="32"/>
                  </a:lnTo>
                  <a:lnTo>
                    <a:pt x="332" y="35"/>
                  </a:lnTo>
                  <a:lnTo>
                    <a:pt x="325" y="39"/>
                  </a:lnTo>
                  <a:lnTo>
                    <a:pt x="310" y="42"/>
                  </a:lnTo>
                  <a:lnTo>
                    <a:pt x="296" y="47"/>
                  </a:lnTo>
                  <a:lnTo>
                    <a:pt x="283" y="54"/>
                  </a:lnTo>
                  <a:lnTo>
                    <a:pt x="268" y="61"/>
                  </a:lnTo>
                  <a:lnTo>
                    <a:pt x="257" y="69"/>
                  </a:lnTo>
                  <a:lnTo>
                    <a:pt x="244" y="78"/>
                  </a:lnTo>
                  <a:lnTo>
                    <a:pt x="231" y="87"/>
                  </a:lnTo>
                  <a:lnTo>
                    <a:pt x="219" y="97"/>
                  </a:lnTo>
                  <a:lnTo>
                    <a:pt x="207" y="106"/>
                  </a:lnTo>
                  <a:lnTo>
                    <a:pt x="194" y="114"/>
                  </a:lnTo>
                  <a:lnTo>
                    <a:pt x="181" y="124"/>
                  </a:lnTo>
                  <a:lnTo>
                    <a:pt x="170" y="132"/>
                  </a:lnTo>
                  <a:lnTo>
                    <a:pt x="155" y="139"/>
                  </a:lnTo>
                  <a:lnTo>
                    <a:pt x="142" y="145"/>
                  </a:lnTo>
                  <a:lnTo>
                    <a:pt x="128" y="150"/>
                  </a:lnTo>
                  <a:lnTo>
                    <a:pt x="113" y="153"/>
                  </a:lnTo>
                  <a:lnTo>
                    <a:pt x="106" y="159"/>
                  </a:lnTo>
                  <a:lnTo>
                    <a:pt x="98" y="164"/>
                  </a:lnTo>
                  <a:lnTo>
                    <a:pt x="91" y="168"/>
                  </a:lnTo>
                  <a:lnTo>
                    <a:pt x="82" y="173"/>
                  </a:lnTo>
                  <a:lnTo>
                    <a:pt x="74" y="178"/>
                  </a:lnTo>
                  <a:lnTo>
                    <a:pt x="67" y="181"/>
                  </a:lnTo>
                  <a:lnTo>
                    <a:pt x="59" y="186"/>
                  </a:lnTo>
                  <a:lnTo>
                    <a:pt x="52" y="192"/>
                  </a:lnTo>
                  <a:lnTo>
                    <a:pt x="61" y="194"/>
                  </a:lnTo>
                  <a:lnTo>
                    <a:pt x="72" y="197"/>
                  </a:lnTo>
                  <a:lnTo>
                    <a:pt x="81" y="200"/>
                  </a:lnTo>
                  <a:lnTo>
                    <a:pt x="86" y="209"/>
                  </a:lnTo>
                  <a:lnTo>
                    <a:pt x="76" y="211"/>
                  </a:lnTo>
                  <a:lnTo>
                    <a:pt x="67" y="212"/>
                  </a:lnTo>
                  <a:lnTo>
                    <a:pt x="56" y="212"/>
                  </a:lnTo>
                  <a:lnTo>
                    <a:pt x="45" y="212"/>
                  </a:lnTo>
                  <a:lnTo>
                    <a:pt x="33" y="211"/>
                  </a:lnTo>
                  <a:lnTo>
                    <a:pt x="22" y="211"/>
                  </a:lnTo>
                  <a:lnTo>
                    <a:pt x="13" y="210"/>
                  </a:lnTo>
                  <a:lnTo>
                    <a:pt x="3" y="209"/>
                  </a:lnTo>
                  <a:lnTo>
                    <a:pt x="1" y="206"/>
                  </a:lnTo>
                  <a:lnTo>
                    <a:pt x="0" y="203"/>
                  </a:lnTo>
                  <a:lnTo>
                    <a:pt x="1" y="199"/>
                  </a:lnTo>
                  <a:lnTo>
                    <a:pt x="1" y="196"/>
                  </a:lnTo>
                  <a:lnTo>
                    <a:pt x="10" y="188"/>
                  </a:lnTo>
                  <a:lnTo>
                    <a:pt x="18" y="180"/>
                  </a:lnTo>
                  <a:lnTo>
                    <a:pt x="25" y="172"/>
                  </a:lnTo>
                  <a:lnTo>
                    <a:pt x="30" y="164"/>
                  </a:lnTo>
                  <a:lnTo>
                    <a:pt x="36" y="154"/>
                  </a:lnTo>
                  <a:lnTo>
                    <a:pt x="42" y="145"/>
                  </a:lnTo>
                  <a:lnTo>
                    <a:pt x="48" y="137"/>
                  </a:lnTo>
                  <a:lnTo>
                    <a:pt x="54" y="128"/>
                  </a:lnTo>
                  <a:lnTo>
                    <a:pt x="59" y="128"/>
                  </a:lnTo>
                  <a:lnTo>
                    <a:pt x="62" y="128"/>
                  </a:lnTo>
                  <a:lnTo>
                    <a:pt x="66" y="131"/>
                  </a:lnTo>
                  <a:lnTo>
                    <a:pt x="67" y="134"/>
                  </a:lnTo>
                  <a:lnTo>
                    <a:pt x="65" y="144"/>
                  </a:lnTo>
                  <a:lnTo>
                    <a:pt x="60" y="152"/>
                  </a:lnTo>
                  <a:lnTo>
                    <a:pt x="55" y="160"/>
                  </a:lnTo>
                  <a:lnTo>
                    <a:pt x="53" y="168"/>
                  </a:lnTo>
                  <a:lnTo>
                    <a:pt x="74" y="153"/>
                  </a:lnTo>
                  <a:lnTo>
                    <a:pt x="96" y="140"/>
                  </a:lnTo>
                  <a:lnTo>
                    <a:pt x="120" y="131"/>
                  </a:lnTo>
                  <a:lnTo>
                    <a:pt x="145" y="120"/>
                  </a:lnTo>
                  <a:lnTo>
                    <a:pt x="168" y="111"/>
                  </a:lnTo>
                  <a:lnTo>
                    <a:pt x="191" y="99"/>
                  </a:lnTo>
                  <a:lnTo>
                    <a:pt x="211" y="85"/>
                  </a:lnTo>
                  <a:lnTo>
                    <a:pt x="230" y="66"/>
                  </a:lnTo>
                  <a:lnTo>
                    <a:pt x="246" y="59"/>
                  </a:lnTo>
                  <a:lnTo>
                    <a:pt x="264" y="51"/>
                  </a:lnTo>
                  <a:lnTo>
                    <a:pt x="280" y="43"/>
                  </a:lnTo>
                  <a:lnTo>
                    <a:pt x="298" y="36"/>
                  </a:lnTo>
                  <a:lnTo>
                    <a:pt x="314" y="29"/>
                  </a:lnTo>
                  <a:lnTo>
                    <a:pt x="331" y="21"/>
                  </a:lnTo>
                  <a:lnTo>
                    <a:pt x="347" y="10"/>
                  </a:lnTo>
                  <a:lnTo>
                    <a:pt x="364" y="0"/>
                  </a:lnTo>
                  <a:lnTo>
                    <a:pt x="367" y="0"/>
                  </a:lnTo>
                  <a:lnTo>
                    <a:pt x="371" y="0"/>
                  </a:lnTo>
                  <a:lnTo>
                    <a:pt x="373" y="1"/>
                  </a:lnTo>
                  <a:lnTo>
                    <a:pt x="377" y="2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30680" y="3116160"/>
              <a:ext cx="725400" cy="542520"/>
            </a:xfrm>
            <a:custGeom>
              <a:avLst/>
              <a:gdLst/>
              <a:ahLst/>
              <a:rect l="l" t="t" r="r" b="b"/>
              <a:pathLst>
                <a:path w="457" h="342">
                  <a:moveTo>
                    <a:pt x="456" y="108"/>
                  </a:moveTo>
                  <a:lnTo>
                    <a:pt x="457" y="108"/>
                  </a:lnTo>
                  <a:lnTo>
                    <a:pt x="409" y="342"/>
                  </a:lnTo>
                  <a:lnTo>
                    <a:pt x="0" y="132"/>
                  </a:lnTo>
                  <a:lnTo>
                    <a:pt x="6" y="0"/>
                  </a:lnTo>
                  <a:lnTo>
                    <a:pt x="456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16280" y="3125520"/>
              <a:ext cx="662040" cy="934920"/>
            </a:xfrm>
            <a:custGeom>
              <a:avLst/>
              <a:gdLst/>
              <a:ahLst/>
              <a:rect l="l" t="t" r="r" b="b"/>
              <a:pathLst>
                <a:path w="417" h="589">
                  <a:moveTo>
                    <a:pt x="72" y="589"/>
                  </a:moveTo>
                  <a:lnTo>
                    <a:pt x="0" y="333"/>
                  </a:lnTo>
                  <a:lnTo>
                    <a:pt x="408" y="0"/>
                  </a:lnTo>
                  <a:lnTo>
                    <a:pt x="417" y="137"/>
                  </a:lnTo>
                  <a:lnTo>
                    <a:pt x="414" y="142"/>
                  </a:lnTo>
                  <a:lnTo>
                    <a:pt x="403" y="156"/>
                  </a:lnTo>
                  <a:lnTo>
                    <a:pt x="386" y="177"/>
                  </a:lnTo>
                  <a:lnTo>
                    <a:pt x="365" y="205"/>
                  </a:lnTo>
                  <a:lnTo>
                    <a:pt x="340" y="238"/>
                  </a:lnTo>
                  <a:lnTo>
                    <a:pt x="312" y="275"/>
                  </a:lnTo>
                  <a:lnTo>
                    <a:pt x="282" y="315"/>
                  </a:lnTo>
                  <a:lnTo>
                    <a:pt x="251" y="356"/>
                  </a:lnTo>
                  <a:lnTo>
                    <a:pt x="219" y="398"/>
                  </a:lnTo>
                  <a:lnTo>
                    <a:pt x="188" y="439"/>
                  </a:lnTo>
                  <a:lnTo>
                    <a:pt x="159" y="477"/>
                  </a:lnTo>
                  <a:lnTo>
                    <a:pt x="133" y="511"/>
                  </a:lnTo>
                  <a:lnTo>
                    <a:pt x="110" y="540"/>
                  </a:lnTo>
                  <a:lnTo>
                    <a:pt x="92" y="565"/>
                  </a:lnTo>
                  <a:lnTo>
                    <a:pt x="79" y="580"/>
                  </a:lnTo>
                  <a:lnTo>
                    <a:pt x="72" y="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7920" y="3241440"/>
              <a:ext cx="145800" cy="204480"/>
            </a:xfrm>
            <a:custGeom>
              <a:avLst/>
              <a:gdLst/>
              <a:ahLst/>
              <a:rect l="l" t="t" r="r" b="b"/>
              <a:pathLst>
                <a:path w="92" h="129">
                  <a:moveTo>
                    <a:pt x="75" y="16"/>
                  </a:moveTo>
                  <a:lnTo>
                    <a:pt x="82" y="25"/>
                  </a:lnTo>
                  <a:lnTo>
                    <a:pt x="89" y="36"/>
                  </a:lnTo>
                  <a:lnTo>
                    <a:pt x="92" y="46"/>
                  </a:lnTo>
                  <a:lnTo>
                    <a:pt x="89" y="58"/>
                  </a:lnTo>
                  <a:lnTo>
                    <a:pt x="85" y="68"/>
                  </a:lnTo>
                  <a:lnTo>
                    <a:pt x="78" y="76"/>
                  </a:lnTo>
                  <a:lnTo>
                    <a:pt x="69" y="82"/>
                  </a:lnTo>
                  <a:lnTo>
                    <a:pt x="59" y="88"/>
                  </a:lnTo>
                  <a:lnTo>
                    <a:pt x="51" y="95"/>
                  </a:lnTo>
                  <a:lnTo>
                    <a:pt x="46" y="101"/>
                  </a:lnTo>
                  <a:lnTo>
                    <a:pt x="45" y="110"/>
                  </a:lnTo>
                  <a:lnTo>
                    <a:pt x="50" y="121"/>
                  </a:lnTo>
                  <a:lnTo>
                    <a:pt x="47" y="123"/>
                  </a:lnTo>
                  <a:lnTo>
                    <a:pt x="46" y="127"/>
                  </a:lnTo>
                  <a:lnTo>
                    <a:pt x="44" y="129"/>
                  </a:lnTo>
                  <a:lnTo>
                    <a:pt x="40" y="128"/>
                  </a:lnTo>
                  <a:lnTo>
                    <a:pt x="36" y="118"/>
                  </a:lnTo>
                  <a:lnTo>
                    <a:pt x="33" y="109"/>
                  </a:lnTo>
                  <a:lnTo>
                    <a:pt x="34" y="98"/>
                  </a:lnTo>
                  <a:lnTo>
                    <a:pt x="37" y="89"/>
                  </a:lnTo>
                  <a:lnTo>
                    <a:pt x="42" y="82"/>
                  </a:lnTo>
                  <a:lnTo>
                    <a:pt x="49" y="76"/>
                  </a:lnTo>
                  <a:lnTo>
                    <a:pt x="57" y="71"/>
                  </a:lnTo>
                  <a:lnTo>
                    <a:pt x="65" y="66"/>
                  </a:lnTo>
                  <a:lnTo>
                    <a:pt x="71" y="62"/>
                  </a:lnTo>
                  <a:lnTo>
                    <a:pt x="76" y="55"/>
                  </a:lnTo>
                  <a:lnTo>
                    <a:pt x="78" y="46"/>
                  </a:lnTo>
                  <a:lnTo>
                    <a:pt x="75" y="36"/>
                  </a:lnTo>
                  <a:lnTo>
                    <a:pt x="70" y="31"/>
                  </a:lnTo>
                  <a:lnTo>
                    <a:pt x="65" y="28"/>
                  </a:lnTo>
                  <a:lnTo>
                    <a:pt x="60" y="24"/>
                  </a:lnTo>
                  <a:lnTo>
                    <a:pt x="55" y="22"/>
                  </a:lnTo>
                  <a:lnTo>
                    <a:pt x="49" y="20"/>
                  </a:lnTo>
                  <a:lnTo>
                    <a:pt x="42" y="19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4" y="30"/>
                  </a:lnTo>
                  <a:lnTo>
                    <a:pt x="23" y="43"/>
                  </a:lnTo>
                  <a:lnTo>
                    <a:pt x="20" y="53"/>
                  </a:lnTo>
                  <a:lnTo>
                    <a:pt x="7" y="57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9" y="18"/>
                  </a:lnTo>
                  <a:lnTo>
                    <a:pt x="16" y="10"/>
                  </a:lnTo>
                  <a:lnTo>
                    <a:pt x="23" y="5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1" y="2"/>
                  </a:lnTo>
                  <a:lnTo>
                    <a:pt x="59" y="5"/>
                  </a:lnTo>
                  <a:lnTo>
                    <a:pt x="67" y="10"/>
                  </a:lnTo>
                  <a:lnTo>
                    <a:pt x="75" y="16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17800" y="3340080"/>
              <a:ext cx="478080" cy="448560"/>
            </a:xfrm>
            <a:custGeom>
              <a:avLst/>
              <a:gdLst/>
              <a:ahLst/>
              <a:rect l="l" t="t" r="r" b="b"/>
              <a:pathLst>
                <a:path w="301" h="283">
                  <a:moveTo>
                    <a:pt x="301" y="4"/>
                  </a:moveTo>
                  <a:lnTo>
                    <a:pt x="301" y="13"/>
                  </a:lnTo>
                  <a:lnTo>
                    <a:pt x="286" y="23"/>
                  </a:lnTo>
                  <a:lnTo>
                    <a:pt x="271" y="34"/>
                  </a:lnTo>
                  <a:lnTo>
                    <a:pt x="256" y="46"/>
                  </a:lnTo>
                  <a:lnTo>
                    <a:pt x="241" y="56"/>
                  </a:lnTo>
                  <a:lnTo>
                    <a:pt x="226" y="69"/>
                  </a:lnTo>
                  <a:lnTo>
                    <a:pt x="213" y="81"/>
                  </a:lnTo>
                  <a:lnTo>
                    <a:pt x="200" y="95"/>
                  </a:lnTo>
                  <a:lnTo>
                    <a:pt x="189" y="111"/>
                  </a:lnTo>
                  <a:lnTo>
                    <a:pt x="182" y="118"/>
                  </a:lnTo>
                  <a:lnTo>
                    <a:pt x="175" y="125"/>
                  </a:lnTo>
                  <a:lnTo>
                    <a:pt x="167" y="129"/>
                  </a:lnTo>
                  <a:lnTo>
                    <a:pt x="160" y="134"/>
                  </a:lnTo>
                  <a:lnTo>
                    <a:pt x="152" y="138"/>
                  </a:lnTo>
                  <a:lnTo>
                    <a:pt x="143" y="142"/>
                  </a:lnTo>
                  <a:lnTo>
                    <a:pt x="136" y="146"/>
                  </a:lnTo>
                  <a:lnTo>
                    <a:pt x="128" y="151"/>
                  </a:lnTo>
                  <a:lnTo>
                    <a:pt x="117" y="164"/>
                  </a:lnTo>
                  <a:lnTo>
                    <a:pt x="106" y="175"/>
                  </a:lnTo>
                  <a:lnTo>
                    <a:pt x="94" y="187"/>
                  </a:lnTo>
                  <a:lnTo>
                    <a:pt x="82" y="199"/>
                  </a:lnTo>
                  <a:lnTo>
                    <a:pt x="70" y="211"/>
                  </a:lnTo>
                  <a:lnTo>
                    <a:pt x="60" y="222"/>
                  </a:lnTo>
                  <a:lnTo>
                    <a:pt x="49" y="234"/>
                  </a:lnTo>
                  <a:lnTo>
                    <a:pt x="40" y="247"/>
                  </a:lnTo>
                  <a:lnTo>
                    <a:pt x="48" y="250"/>
                  </a:lnTo>
                  <a:lnTo>
                    <a:pt x="56" y="250"/>
                  </a:lnTo>
                  <a:lnTo>
                    <a:pt x="64" y="247"/>
                  </a:lnTo>
                  <a:lnTo>
                    <a:pt x="74" y="246"/>
                  </a:lnTo>
                  <a:lnTo>
                    <a:pt x="82" y="244"/>
                  </a:lnTo>
                  <a:lnTo>
                    <a:pt x="89" y="244"/>
                  </a:lnTo>
                  <a:lnTo>
                    <a:pt x="96" y="246"/>
                  </a:lnTo>
                  <a:lnTo>
                    <a:pt x="103" y="252"/>
                  </a:lnTo>
                  <a:lnTo>
                    <a:pt x="100" y="261"/>
                  </a:lnTo>
                  <a:lnTo>
                    <a:pt x="89" y="261"/>
                  </a:lnTo>
                  <a:lnTo>
                    <a:pt x="79" y="264"/>
                  </a:lnTo>
                  <a:lnTo>
                    <a:pt x="68" y="265"/>
                  </a:lnTo>
                  <a:lnTo>
                    <a:pt x="58" y="268"/>
                  </a:lnTo>
                  <a:lnTo>
                    <a:pt x="48" y="271"/>
                  </a:lnTo>
                  <a:lnTo>
                    <a:pt x="37" y="274"/>
                  </a:lnTo>
                  <a:lnTo>
                    <a:pt x="28" y="279"/>
                  </a:lnTo>
                  <a:lnTo>
                    <a:pt x="17" y="283"/>
                  </a:lnTo>
                  <a:lnTo>
                    <a:pt x="9" y="283"/>
                  </a:lnTo>
                  <a:lnTo>
                    <a:pt x="2" y="277"/>
                  </a:lnTo>
                  <a:lnTo>
                    <a:pt x="0" y="270"/>
                  </a:lnTo>
                  <a:lnTo>
                    <a:pt x="3" y="261"/>
                  </a:lnTo>
                  <a:lnTo>
                    <a:pt x="10" y="253"/>
                  </a:lnTo>
                  <a:lnTo>
                    <a:pt x="14" y="244"/>
                  </a:lnTo>
                  <a:lnTo>
                    <a:pt x="17" y="233"/>
                  </a:lnTo>
                  <a:lnTo>
                    <a:pt x="20" y="222"/>
                  </a:lnTo>
                  <a:lnTo>
                    <a:pt x="22" y="213"/>
                  </a:lnTo>
                  <a:lnTo>
                    <a:pt x="25" y="204"/>
                  </a:lnTo>
                  <a:lnTo>
                    <a:pt x="30" y="197"/>
                  </a:lnTo>
                  <a:lnTo>
                    <a:pt x="38" y="191"/>
                  </a:lnTo>
                  <a:lnTo>
                    <a:pt x="43" y="195"/>
                  </a:lnTo>
                  <a:lnTo>
                    <a:pt x="44" y="201"/>
                  </a:lnTo>
                  <a:lnTo>
                    <a:pt x="44" y="207"/>
                  </a:lnTo>
                  <a:lnTo>
                    <a:pt x="47" y="212"/>
                  </a:lnTo>
                  <a:lnTo>
                    <a:pt x="62" y="199"/>
                  </a:lnTo>
                  <a:lnTo>
                    <a:pt x="75" y="184"/>
                  </a:lnTo>
                  <a:lnTo>
                    <a:pt x="89" y="169"/>
                  </a:lnTo>
                  <a:lnTo>
                    <a:pt x="102" y="155"/>
                  </a:lnTo>
                  <a:lnTo>
                    <a:pt x="115" y="141"/>
                  </a:lnTo>
                  <a:lnTo>
                    <a:pt x="129" y="129"/>
                  </a:lnTo>
                  <a:lnTo>
                    <a:pt x="146" y="119"/>
                  </a:lnTo>
                  <a:lnTo>
                    <a:pt x="163" y="112"/>
                  </a:lnTo>
                  <a:lnTo>
                    <a:pt x="176" y="95"/>
                  </a:lnTo>
                  <a:lnTo>
                    <a:pt x="190" y="80"/>
                  </a:lnTo>
                  <a:lnTo>
                    <a:pt x="206" y="66"/>
                  </a:lnTo>
                  <a:lnTo>
                    <a:pt x="222" y="52"/>
                  </a:lnTo>
                  <a:lnTo>
                    <a:pt x="239" y="39"/>
                  </a:lnTo>
                  <a:lnTo>
                    <a:pt x="255" y="26"/>
                  </a:lnTo>
                  <a:lnTo>
                    <a:pt x="272" y="13"/>
                  </a:lnTo>
                  <a:lnTo>
                    <a:pt x="288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9" y="2"/>
                  </a:lnTo>
                  <a:lnTo>
                    <a:pt x="301" y="4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5960" y="346212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16"/>
                  </a:moveTo>
                  <a:lnTo>
                    <a:pt x="28" y="21"/>
                  </a:lnTo>
                  <a:lnTo>
                    <a:pt x="27" y="24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4" y="31"/>
                  </a:lnTo>
                  <a:lnTo>
                    <a:pt x="8" y="28"/>
                  </a:lnTo>
                  <a:lnTo>
                    <a:pt x="3" y="22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2" y="4"/>
                  </a:lnTo>
                  <a:lnTo>
                    <a:pt x="7" y="2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ff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1480" y="2970000"/>
              <a:ext cx="3583080" cy="2498400"/>
            </a:xfrm>
            <a:custGeom>
              <a:avLst/>
              <a:gdLst/>
              <a:ahLst/>
              <a:rect l="l" t="t" r="r" b="b"/>
              <a:pathLst>
                <a:path w="2257" h="1574">
                  <a:moveTo>
                    <a:pt x="1897" y="44"/>
                  </a:moveTo>
                  <a:lnTo>
                    <a:pt x="1905" y="44"/>
                  </a:lnTo>
                  <a:lnTo>
                    <a:pt x="1914" y="44"/>
                  </a:lnTo>
                  <a:lnTo>
                    <a:pt x="1922" y="45"/>
                  </a:lnTo>
                  <a:lnTo>
                    <a:pt x="1930" y="46"/>
                  </a:lnTo>
                  <a:lnTo>
                    <a:pt x="1937" y="50"/>
                  </a:lnTo>
                  <a:lnTo>
                    <a:pt x="1944" y="54"/>
                  </a:lnTo>
                  <a:lnTo>
                    <a:pt x="1950" y="59"/>
                  </a:lnTo>
                  <a:lnTo>
                    <a:pt x="1954" y="66"/>
                  </a:lnTo>
                  <a:lnTo>
                    <a:pt x="1961" y="77"/>
                  </a:lnTo>
                  <a:lnTo>
                    <a:pt x="1965" y="88"/>
                  </a:lnTo>
                  <a:lnTo>
                    <a:pt x="1966" y="101"/>
                  </a:lnTo>
                  <a:lnTo>
                    <a:pt x="1965" y="114"/>
                  </a:lnTo>
                  <a:lnTo>
                    <a:pt x="1972" y="121"/>
                  </a:lnTo>
                  <a:lnTo>
                    <a:pt x="1979" y="129"/>
                  </a:lnTo>
                  <a:lnTo>
                    <a:pt x="1986" y="136"/>
                  </a:lnTo>
                  <a:lnTo>
                    <a:pt x="1992" y="143"/>
                  </a:lnTo>
                  <a:lnTo>
                    <a:pt x="1998" y="150"/>
                  </a:lnTo>
                  <a:lnTo>
                    <a:pt x="2003" y="158"/>
                  </a:lnTo>
                  <a:lnTo>
                    <a:pt x="2004" y="169"/>
                  </a:lnTo>
                  <a:lnTo>
                    <a:pt x="2004" y="180"/>
                  </a:lnTo>
                  <a:lnTo>
                    <a:pt x="2004" y="200"/>
                  </a:lnTo>
                  <a:lnTo>
                    <a:pt x="2001" y="220"/>
                  </a:lnTo>
                  <a:lnTo>
                    <a:pt x="1998" y="239"/>
                  </a:lnTo>
                  <a:lnTo>
                    <a:pt x="1993" y="256"/>
                  </a:lnTo>
                  <a:lnTo>
                    <a:pt x="1986" y="274"/>
                  </a:lnTo>
                  <a:lnTo>
                    <a:pt x="1979" y="290"/>
                  </a:lnTo>
                  <a:lnTo>
                    <a:pt x="1971" y="307"/>
                  </a:lnTo>
                  <a:lnTo>
                    <a:pt x="1961" y="323"/>
                  </a:lnTo>
                  <a:lnTo>
                    <a:pt x="1971" y="349"/>
                  </a:lnTo>
                  <a:lnTo>
                    <a:pt x="1980" y="374"/>
                  </a:lnTo>
                  <a:lnTo>
                    <a:pt x="1991" y="400"/>
                  </a:lnTo>
                  <a:lnTo>
                    <a:pt x="2001" y="425"/>
                  </a:lnTo>
                  <a:lnTo>
                    <a:pt x="2013" y="450"/>
                  </a:lnTo>
                  <a:lnTo>
                    <a:pt x="2027" y="473"/>
                  </a:lnTo>
                  <a:lnTo>
                    <a:pt x="2043" y="496"/>
                  </a:lnTo>
                  <a:lnTo>
                    <a:pt x="2061" y="518"/>
                  </a:lnTo>
                  <a:lnTo>
                    <a:pt x="2073" y="536"/>
                  </a:lnTo>
                  <a:lnTo>
                    <a:pt x="2086" y="553"/>
                  </a:lnTo>
                  <a:lnTo>
                    <a:pt x="2100" y="571"/>
                  </a:lnTo>
                  <a:lnTo>
                    <a:pt x="2115" y="589"/>
                  </a:lnTo>
                  <a:lnTo>
                    <a:pt x="2129" y="606"/>
                  </a:lnTo>
                  <a:lnTo>
                    <a:pt x="2143" y="625"/>
                  </a:lnTo>
                  <a:lnTo>
                    <a:pt x="2153" y="643"/>
                  </a:lnTo>
                  <a:lnTo>
                    <a:pt x="2163" y="663"/>
                  </a:lnTo>
                  <a:lnTo>
                    <a:pt x="2162" y="678"/>
                  </a:lnTo>
                  <a:lnTo>
                    <a:pt x="2157" y="694"/>
                  </a:lnTo>
                  <a:lnTo>
                    <a:pt x="2150" y="707"/>
                  </a:lnTo>
                  <a:lnTo>
                    <a:pt x="2142" y="718"/>
                  </a:lnTo>
                  <a:lnTo>
                    <a:pt x="2131" y="730"/>
                  </a:lnTo>
                  <a:lnTo>
                    <a:pt x="2122" y="742"/>
                  </a:lnTo>
                  <a:lnTo>
                    <a:pt x="2111" y="753"/>
                  </a:lnTo>
                  <a:lnTo>
                    <a:pt x="2100" y="763"/>
                  </a:lnTo>
                  <a:lnTo>
                    <a:pt x="2100" y="780"/>
                  </a:lnTo>
                  <a:lnTo>
                    <a:pt x="2102" y="797"/>
                  </a:lnTo>
                  <a:lnTo>
                    <a:pt x="2104" y="814"/>
                  </a:lnTo>
                  <a:lnTo>
                    <a:pt x="2112" y="828"/>
                  </a:lnTo>
                  <a:lnTo>
                    <a:pt x="2131" y="832"/>
                  </a:lnTo>
                  <a:lnTo>
                    <a:pt x="2149" y="835"/>
                  </a:lnTo>
                  <a:lnTo>
                    <a:pt x="2168" y="840"/>
                  </a:lnTo>
                  <a:lnTo>
                    <a:pt x="2185" y="843"/>
                  </a:lnTo>
                  <a:lnTo>
                    <a:pt x="2203" y="848"/>
                  </a:lnTo>
                  <a:lnTo>
                    <a:pt x="2221" y="853"/>
                  </a:lnTo>
                  <a:lnTo>
                    <a:pt x="2239" y="857"/>
                  </a:lnTo>
                  <a:lnTo>
                    <a:pt x="2257" y="862"/>
                  </a:lnTo>
                  <a:lnTo>
                    <a:pt x="2245" y="926"/>
                  </a:lnTo>
                  <a:lnTo>
                    <a:pt x="2237" y="1004"/>
                  </a:lnTo>
                  <a:lnTo>
                    <a:pt x="2231" y="1074"/>
                  </a:lnTo>
                  <a:lnTo>
                    <a:pt x="2231" y="1119"/>
                  </a:lnTo>
                  <a:lnTo>
                    <a:pt x="2224" y="1127"/>
                  </a:lnTo>
                  <a:lnTo>
                    <a:pt x="2217" y="1134"/>
                  </a:lnTo>
                  <a:lnTo>
                    <a:pt x="2209" y="1142"/>
                  </a:lnTo>
                  <a:lnTo>
                    <a:pt x="2201" y="1149"/>
                  </a:lnTo>
                  <a:lnTo>
                    <a:pt x="2191" y="1156"/>
                  </a:lnTo>
                  <a:lnTo>
                    <a:pt x="2184" y="1163"/>
                  </a:lnTo>
                  <a:lnTo>
                    <a:pt x="2177" y="1171"/>
                  </a:lnTo>
                  <a:lnTo>
                    <a:pt x="2172" y="1179"/>
                  </a:lnTo>
                  <a:lnTo>
                    <a:pt x="2159" y="1179"/>
                  </a:lnTo>
                  <a:lnTo>
                    <a:pt x="2140" y="1179"/>
                  </a:lnTo>
                  <a:lnTo>
                    <a:pt x="2119" y="1177"/>
                  </a:lnTo>
                  <a:lnTo>
                    <a:pt x="2097" y="1176"/>
                  </a:lnTo>
                  <a:lnTo>
                    <a:pt x="2076" y="1173"/>
                  </a:lnTo>
                  <a:lnTo>
                    <a:pt x="2057" y="1171"/>
                  </a:lnTo>
                  <a:lnTo>
                    <a:pt x="2043" y="1170"/>
                  </a:lnTo>
                  <a:lnTo>
                    <a:pt x="2036" y="1169"/>
                  </a:lnTo>
                  <a:lnTo>
                    <a:pt x="2037" y="1198"/>
                  </a:lnTo>
                  <a:lnTo>
                    <a:pt x="2037" y="1229"/>
                  </a:lnTo>
                  <a:lnTo>
                    <a:pt x="2038" y="1261"/>
                  </a:lnTo>
                  <a:lnTo>
                    <a:pt x="2043" y="1290"/>
                  </a:lnTo>
                  <a:lnTo>
                    <a:pt x="2056" y="1301"/>
                  </a:lnTo>
                  <a:lnTo>
                    <a:pt x="2069" y="1311"/>
                  </a:lnTo>
                  <a:lnTo>
                    <a:pt x="2082" y="1323"/>
                  </a:lnTo>
                  <a:lnTo>
                    <a:pt x="2093" y="1335"/>
                  </a:lnTo>
                  <a:lnTo>
                    <a:pt x="2104" y="1347"/>
                  </a:lnTo>
                  <a:lnTo>
                    <a:pt x="2113" y="1360"/>
                  </a:lnTo>
                  <a:lnTo>
                    <a:pt x="2122" y="1375"/>
                  </a:lnTo>
                  <a:lnTo>
                    <a:pt x="2126" y="1390"/>
                  </a:lnTo>
                  <a:lnTo>
                    <a:pt x="2138" y="1396"/>
                  </a:lnTo>
                  <a:lnTo>
                    <a:pt x="2145" y="1404"/>
                  </a:lnTo>
                  <a:lnTo>
                    <a:pt x="2150" y="1415"/>
                  </a:lnTo>
                  <a:lnTo>
                    <a:pt x="2151" y="1428"/>
                  </a:lnTo>
                  <a:lnTo>
                    <a:pt x="2144" y="1448"/>
                  </a:lnTo>
                  <a:lnTo>
                    <a:pt x="2137" y="1468"/>
                  </a:lnTo>
                  <a:lnTo>
                    <a:pt x="2131" y="1489"/>
                  </a:lnTo>
                  <a:lnTo>
                    <a:pt x="2126" y="1512"/>
                  </a:lnTo>
                  <a:lnTo>
                    <a:pt x="2117" y="1518"/>
                  </a:lnTo>
                  <a:lnTo>
                    <a:pt x="2107" y="1522"/>
                  </a:lnTo>
                  <a:lnTo>
                    <a:pt x="2097" y="1526"/>
                  </a:lnTo>
                  <a:lnTo>
                    <a:pt x="2086" y="1527"/>
                  </a:lnTo>
                  <a:lnTo>
                    <a:pt x="2074" y="1528"/>
                  </a:lnTo>
                  <a:lnTo>
                    <a:pt x="2063" y="1529"/>
                  </a:lnTo>
                  <a:lnTo>
                    <a:pt x="2051" y="1529"/>
                  </a:lnTo>
                  <a:lnTo>
                    <a:pt x="2039" y="1529"/>
                  </a:lnTo>
                  <a:lnTo>
                    <a:pt x="2032" y="1528"/>
                  </a:lnTo>
                  <a:lnTo>
                    <a:pt x="2023" y="1527"/>
                  </a:lnTo>
                  <a:lnTo>
                    <a:pt x="2013" y="1525"/>
                  </a:lnTo>
                  <a:lnTo>
                    <a:pt x="2007" y="1521"/>
                  </a:lnTo>
                  <a:lnTo>
                    <a:pt x="2012" y="1513"/>
                  </a:lnTo>
                  <a:lnTo>
                    <a:pt x="2018" y="1505"/>
                  </a:lnTo>
                  <a:lnTo>
                    <a:pt x="2024" y="1496"/>
                  </a:lnTo>
                  <a:lnTo>
                    <a:pt x="2030" y="1489"/>
                  </a:lnTo>
                  <a:lnTo>
                    <a:pt x="2037" y="1481"/>
                  </a:lnTo>
                  <a:lnTo>
                    <a:pt x="2043" y="1474"/>
                  </a:lnTo>
                  <a:lnTo>
                    <a:pt x="2049" y="1466"/>
                  </a:lnTo>
                  <a:lnTo>
                    <a:pt x="2054" y="1457"/>
                  </a:lnTo>
                  <a:lnTo>
                    <a:pt x="2045" y="1447"/>
                  </a:lnTo>
                  <a:lnTo>
                    <a:pt x="2034" y="1436"/>
                  </a:lnTo>
                  <a:lnTo>
                    <a:pt x="2024" y="1427"/>
                  </a:lnTo>
                  <a:lnTo>
                    <a:pt x="2012" y="1419"/>
                  </a:lnTo>
                  <a:lnTo>
                    <a:pt x="2000" y="1411"/>
                  </a:lnTo>
                  <a:lnTo>
                    <a:pt x="1987" y="1404"/>
                  </a:lnTo>
                  <a:lnTo>
                    <a:pt x="1974" y="1399"/>
                  </a:lnTo>
                  <a:lnTo>
                    <a:pt x="1961" y="1394"/>
                  </a:lnTo>
                  <a:lnTo>
                    <a:pt x="1961" y="1410"/>
                  </a:lnTo>
                  <a:lnTo>
                    <a:pt x="1958" y="1427"/>
                  </a:lnTo>
                  <a:lnTo>
                    <a:pt x="1953" y="1442"/>
                  </a:lnTo>
                  <a:lnTo>
                    <a:pt x="1947" y="1457"/>
                  </a:lnTo>
                  <a:lnTo>
                    <a:pt x="1941" y="1472"/>
                  </a:lnTo>
                  <a:lnTo>
                    <a:pt x="1938" y="1487"/>
                  </a:lnTo>
                  <a:lnTo>
                    <a:pt x="1937" y="1502"/>
                  </a:lnTo>
                  <a:lnTo>
                    <a:pt x="1939" y="1519"/>
                  </a:lnTo>
                  <a:lnTo>
                    <a:pt x="1937" y="1528"/>
                  </a:lnTo>
                  <a:lnTo>
                    <a:pt x="1934" y="1538"/>
                  </a:lnTo>
                  <a:lnTo>
                    <a:pt x="1932" y="1548"/>
                  </a:lnTo>
                  <a:lnTo>
                    <a:pt x="1932" y="1560"/>
                  </a:lnTo>
                  <a:lnTo>
                    <a:pt x="1908" y="1559"/>
                  </a:lnTo>
                  <a:lnTo>
                    <a:pt x="1885" y="1560"/>
                  </a:lnTo>
                  <a:lnTo>
                    <a:pt x="1861" y="1564"/>
                  </a:lnTo>
                  <a:lnTo>
                    <a:pt x="1838" y="1566"/>
                  </a:lnTo>
                  <a:lnTo>
                    <a:pt x="1815" y="1569"/>
                  </a:lnTo>
                  <a:lnTo>
                    <a:pt x="1793" y="1571"/>
                  </a:lnTo>
                  <a:lnTo>
                    <a:pt x="1769" y="1571"/>
                  </a:lnTo>
                  <a:lnTo>
                    <a:pt x="1747" y="1567"/>
                  </a:lnTo>
                  <a:lnTo>
                    <a:pt x="1742" y="1561"/>
                  </a:lnTo>
                  <a:lnTo>
                    <a:pt x="1746" y="1554"/>
                  </a:lnTo>
                  <a:lnTo>
                    <a:pt x="1752" y="1548"/>
                  </a:lnTo>
                  <a:lnTo>
                    <a:pt x="1759" y="1544"/>
                  </a:lnTo>
                  <a:lnTo>
                    <a:pt x="1772" y="1540"/>
                  </a:lnTo>
                  <a:lnTo>
                    <a:pt x="1783" y="1534"/>
                  </a:lnTo>
                  <a:lnTo>
                    <a:pt x="1796" y="1527"/>
                  </a:lnTo>
                  <a:lnTo>
                    <a:pt x="1807" y="1519"/>
                  </a:lnTo>
                  <a:lnTo>
                    <a:pt x="1819" y="1511"/>
                  </a:lnTo>
                  <a:lnTo>
                    <a:pt x="1829" y="1501"/>
                  </a:lnTo>
                  <a:lnTo>
                    <a:pt x="1839" y="1492"/>
                  </a:lnTo>
                  <a:lnTo>
                    <a:pt x="1848" y="1481"/>
                  </a:lnTo>
                  <a:lnTo>
                    <a:pt x="1831" y="1469"/>
                  </a:lnTo>
                  <a:lnTo>
                    <a:pt x="1816" y="1455"/>
                  </a:lnTo>
                  <a:lnTo>
                    <a:pt x="1805" y="1439"/>
                  </a:lnTo>
                  <a:lnTo>
                    <a:pt x="1795" y="1421"/>
                  </a:lnTo>
                  <a:lnTo>
                    <a:pt x="1787" y="1402"/>
                  </a:lnTo>
                  <a:lnTo>
                    <a:pt x="1779" y="1383"/>
                  </a:lnTo>
                  <a:lnTo>
                    <a:pt x="1769" y="1364"/>
                  </a:lnTo>
                  <a:lnTo>
                    <a:pt x="1759" y="1347"/>
                  </a:lnTo>
                  <a:lnTo>
                    <a:pt x="1186" y="1230"/>
                  </a:lnTo>
                  <a:lnTo>
                    <a:pt x="777" y="1574"/>
                  </a:lnTo>
                  <a:lnTo>
                    <a:pt x="744" y="1569"/>
                  </a:lnTo>
                  <a:lnTo>
                    <a:pt x="1174" y="1209"/>
                  </a:lnTo>
                  <a:lnTo>
                    <a:pt x="1717" y="1316"/>
                  </a:lnTo>
                  <a:lnTo>
                    <a:pt x="1703" y="1298"/>
                  </a:lnTo>
                  <a:lnTo>
                    <a:pt x="1694" y="1279"/>
                  </a:lnTo>
                  <a:lnTo>
                    <a:pt x="1686" y="1259"/>
                  </a:lnTo>
                  <a:lnTo>
                    <a:pt x="1681" y="1239"/>
                  </a:lnTo>
                  <a:lnTo>
                    <a:pt x="1676" y="1217"/>
                  </a:lnTo>
                  <a:lnTo>
                    <a:pt x="1674" y="1196"/>
                  </a:lnTo>
                  <a:lnTo>
                    <a:pt x="1670" y="1173"/>
                  </a:lnTo>
                  <a:lnTo>
                    <a:pt x="1668" y="1152"/>
                  </a:lnTo>
                  <a:lnTo>
                    <a:pt x="1667" y="1050"/>
                  </a:lnTo>
                  <a:lnTo>
                    <a:pt x="1659" y="1044"/>
                  </a:lnTo>
                  <a:lnTo>
                    <a:pt x="1649" y="1039"/>
                  </a:lnTo>
                  <a:lnTo>
                    <a:pt x="1638" y="1035"/>
                  </a:lnTo>
                  <a:lnTo>
                    <a:pt x="1629" y="1032"/>
                  </a:lnTo>
                  <a:lnTo>
                    <a:pt x="1618" y="1027"/>
                  </a:lnTo>
                  <a:lnTo>
                    <a:pt x="1609" y="1024"/>
                  </a:lnTo>
                  <a:lnTo>
                    <a:pt x="1600" y="1018"/>
                  </a:lnTo>
                  <a:lnTo>
                    <a:pt x="1591" y="1011"/>
                  </a:lnTo>
                  <a:lnTo>
                    <a:pt x="1591" y="992"/>
                  </a:lnTo>
                  <a:lnTo>
                    <a:pt x="1594" y="972"/>
                  </a:lnTo>
                  <a:lnTo>
                    <a:pt x="1593" y="955"/>
                  </a:lnTo>
                  <a:lnTo>
                    <a:pt x="1580" y="946"/>
                  </a:lnTo>
                  <a:lnTo>
                    <a:pt x="1571" y="945"/>
                  </a:lnTo>
                  <a:lnTo>
                    <a:pt x="1563" y="944"/>
                  </a:lnTo>
                  <a:lnTo>
                    <a:pt x="1555" y="944"/>
                  </a:lnTo>
                  <a:lnTo>
                    <a:pt x="1547" y="942"/>
                  </a:lnTo>
                  <a:lnTo>
                    <a:pt x="1538" y="942"/>
                  </a:lnTo>
                  <a:lnTo>
                    <a:pt x="1530" y="940"/>
                  </a:lnTo>
                  <a:lnTo>
                    <a:pt x="1523" y="939"/>
                  </a:lnTo>
                  <a:lnTo>
                    <a:pt x="1516" y="935"/>
                  </a:lnTo>
                  <a:lnTo>
                    <a:pt x="1527" y="922"/>
                  </a:lnTo>
                  <a:lnTo>
                    <a:pt x="1538" y="910"/>
                  </a:lnTo>
                  <a:lnTo>
                    <a:pt x="1552" y="900"/>
                  </a:lnTo>
                  <a:lnTo>
                    <a:pt x="1565" y="889"/>
                  </a:lnTo>
                  <a:lnTo>
                    <a:pt x="1580" y="877"/>
                  </a:lnTo>
                  <a:lnTo>
                    <a:pt x="1594" y="867"/>
                  </a:lnTo>
                  <a:lnTo>
                    <a:pt x="1607" y="854"/>
                  </a:lnTo>
                  <a:lnTo>
                    <a:pt x="1618" y="841"/>
                  </a:lnTo>
                  <a:lnTo>
                    <a:pt x="1623" y="827"/>
                  </a:lnTo>
                  <a:lnTo>
                    <a:pt x="1629" y="811"/>
                  </a:lnTo>
                  <a:lnTo>
                    <a:pt x="1635" y="796"/>
                  </a:lnTo>
                  <a:lnTo>
                    <a:pt x="1642" y="781"/>
                  </a:lnTo>
                  <a:lnTo>
                    <a:pt x="1647" y="766"/>
                  </a:lnTo>
                  <a:lnTo>
                    <a:pt x="1651" y="750"/>
                  </a:lnTo>
                  <a:lnTo>
                    <a:pt x="1655" y="735"/>
                  </a:lnTo>
                  <a:lnTo>
                    <a:pt x="1657" y="720"/>
                  </a:lnTo>
                  <a:lnTo>
                    <a:pt x="1651" y="707"/>
                  </a:lnTo>
                  <a:lnTo>
                    <a:pt x="1647" y="691"/>
                  </a:lnTo>
                  <a:lnTo>
                    <a:pt x="1642" y="671"/>
                  </a:lnTo>
                  <a:lnTo>
                    <a:pt x="1635" y="645"/>
                  </a:lnTo>
                  <a:lnTo>
                    <a:pt x="1631" y="622"/>
                  </a:lnTo>
                  <a:lnTo>
                    <a:pt x="1630" y="598"/>
                  </a:lnTo>
                  <a:lnTo>
                    <a:pt x="1630" y="573"/>
                  </a:lnTo>
                  <a:lnTo>
                    <a:pt x="1631" y="550"/>
                  </a:lnTo>
                  <a:lnTo>
                    <a:pt x="1091" y="898"/>
                  </a:lnTo>
                  <a:lnTo>
                    <a:pt x="0" y="784"/>
                  </a:lnTo>
                  <a:lnTo>
                    <a:pt x="1" y="780"/>
                  </a:lnTo>
                  <a:lnTo>
                    <a:pt x="2" y="776"/>
                  </a:lnTo>
                  <a:lnTo>
                    <a:pt x="3" y="774"/>
                  </a:lnTo>
                  <a:lnTo>
                    <a:pt x="5" y="771"/>
                  </a:lnTo>
                  <a:lnTo>
                    <a:pt x="1086" y="879"/>
                  </a:lnTo>
                  <a:lnTo>
                    <a:pt x="1637" y="523"/>
                  </a:lnTo>
                  <a:lnTo>
                    <a:pt x="1643" y="487"/>
                  </a:lnTo>
                  <a:lnTo>
                    <a:pt x="1646" y="451"/>
                  </a:lnTo>
                  <a:lnTo>
                    <a:pt x="1648" y="415"/>
                  </a:lnTo>
                  <a:lnTo>
                    <a:pt x="1655" y="380"/>
                  </a:lnTo>
                  <a:lnTo>
                    <a:pt x="1687" y="325"/>
                  </a:lnTo>
                  <a:lnTo>
                    <a:pt x="1695" y="329"/>
                  </a:lnTo>
                  <a:lnTo>
                    <a:pt x="1700" y="338"/>
                  </a:lnTo>
                  <a:lnTo>
                    <a:pt x="1703" y="347"/>
                  </a:lnTo>
                  <a:lnTo>
                    <a:pt x="1706" y="356"/>
                  </a:lnTo>
                  <a:lnTo>
                    <a:pt x="1708" y="365"/>
                  </a:lnTo>
                  <a:lnTo>
                    <a:pt x="1713" y="372"/>
                  </a:lnTo>
                  <a:lnTo>
                    <a:pt x="1721" y="374"/>
                  </a:lnTo>
                  <a:lnTo>
                    <a:pt x="1734" y="371"/>
                  </a:lnTo>
                  <a:lnTo>
                    <a:pt x="1737" y="385"/>
                  </a:lnTo>
                  <a:lnTo>
                    <a:pt x="1736" y="401"/>
                  </a:lnTo>
                  <a:lnTo>
                    <a:pt x="1733" y="418"/>
                  </a:lnTo>
                  <a:lnTo>
                    <a:pt x="1729" y="434"/>
                  </a:lnTo>
                  <a:lnTo>
                    <a:pt x="1725" y="446"/>
                  </a:lnTo>
                  <a:lnTo>
                    <a:pt x="1720" y="458"/>
                  </a:lnTo>
                  <a:lnTo>
                    <a:pt x="1714" y="470"/>
                  </a:lnTo>
                  <a:lnTo>
                    <a:pt x="1706" y="480"/>
                  </a:lnTo>
                  <a:lnTo>
                    <a:pt x="1709" y="497"/>
                  </a:lnTo>
                  <a:lnTo>
                    <a:pt x="1714" y="513"/>
                  </a:lnTo>
                  <a:lnTo>
                    <a:pt x="1720" y="529"/>
                  </a:lnTo>
                  <a:lnTo>
                    <a:pt x="1727" y="545"/>
                  </a:lnTo>
                  <a:lnTo>
                    <a:pt x="1740" y="542"/>
                  </a:lnTo>
                  <a:lnTo>
                    <a:pt x="1745" y="530"/>
                  </a:lnTo>
                  <a:lnTo>
                    <a:pt x="1747" y="516"/>
                  </a:lnTo>
                  <a:lnTo>
                    <a:pt x="1752" y="504"/>
                  </a:lnTo>
                  <a:lnTo>
                    <a:pt x="1761" y="490"/>
                  </a:lnTo>
                  <a:lnTo>
                    <a:pt x="1769" y="476"/>
                  </a:lnTo>
                  <a:lnTo>
                    <a:pt x="1779" y="460"/>
                  </a:lnTo>
                  <a:lnTo>
                    <a:pt x="1787" y="446"/>
                  </a:lnTo>
                  <a:lnTo>
                    <a:pt x="1795" y="432"/>
                  </a:lnTo>
                  <a:lnTo>
                    <a:pt x="1805" y="418"/>
                  </a:lnTo>
                  <a:lnTo>
                    <a:pt x="1814" y="404"/>
                  </a:lnTo>
                  <a:lnTo>
                    <a:pt x="1825" y="389"/>
                  </a:lnTo>
                  <a:lnTo>
                    <a:pt x="1812" y="375"/>
                  </a:lnTo>
                  <a:lnTo>
                    <a:pt x="1796" y="366"/>
                  </a:lnTo>
                  <a:lnTo>
                    <a:pt x="1778" y="361"/>
                  </a:lnTo>
                  <a:lnTo>
                    <a:pt x="1759" y="356"/>
                  </a:lnTo>
                  <a:lnTo>
                    <a:pt x="1740" y="352"/>
                  </a:lnTo>
                  <a:lnTo>
                    <a:pt x="1723" y="344"/>
                  </a:lnTo>
                  <a:lnTo>
                    <a:pt x="1709" y="332"/>
                  </a:lnTo>
                  <a:lnTo>
                    <a:pt x="1700" y="313"/>
                  </a:lnTo>
                  <a:lnTo>
                    <a:pt x="1694" y="288"/>
                  </a:lnTo>
                  <a:lnTo>
                    <a:pt x="1696" y="261"/>
                  </a:lnTo>
                  <a:lnTo>
                    <a:pt x="1700" y="235"/>
                  </a:lnTo>
                  <a:lnTo>
                    <a:pt x="1701" y="207"/>
                  </a:lnTo>
                  <a:lnTo>
                    <a:pt x="1694" y="204"/>
                  </a:lnTo>
                  <a:lnTo>
                    <a:pt x="1688" y="201"/>
                  </a:lnTo>
                  <a:lnTo>
                    <a:pt x="1681" y="197"/>
                  </a:lnTo>
                  <a:lnTo>
                    <a:pt x="1677" y="191"/>
                  </a:lnTo>
                  <a:lnTo>
                    <a:pt x="1687" y="175"/>
                  </a:lnTo>
                  <a:lnTo>
                    <a:pt x="1699" y="158"/>
                  </a:lnTo>
                  <a:lnTo>
                    <a:pt x="1712" y="144"/>
                  </a:lnTo>
                  <a:lnTo>
                    <a:pt x="1727" y="130"/>
                  </a:lnTo>
                  <a:lnTo>
                    <a:pt x="1742" y="117"/>
                  </a:lnTo>
                  <a:lnTo>
                    <a:pt x="1759" y="107"/>
                  </a:lnTo>
                  <a:lnTo>
                    <a:pt x="1775" y="96"/>
                  </a:lnTo>
                  <a:lnTo>
                    <a:pt x="1792" y="88"/>
                  </a:lnTo>
                  <a:lnTo>
                    <a:pt x="1785" y="69"/>
                  </a:lnTo>
                  <a:lnTo>
                    <a:pt x="1783" y="49"/>
                  </a:lnTo>
                  <a:lnTo>
                    <a:pt x="1787" y="29"/>
                  </a:lnTo>
                  <a:lnTo>
                    <a:pt x="1795" y="11"/>
                  </a:lnTo>
                  <a:lnTo>
                    <a:pt x="1808" y="4"/>
                  </a:lnTo>
                  <a:lnTo>
                    <a:pt x="1823" y="0"/>
                  </a:lnTo>
                  <a:lnTo>
                    <a:pt x="1838" y="0"/>
                  </a:lnTo>
                  <a:lnTo>
                    <a:pt x="1853" y="4"/>
                  </a:lnTo>
                  <a:lnTo>
                    <a:pt x="1866" y="10"/>
                  </a:lnTo>
                  <a:lnTo>
                    <a:pt x="1879" y="19"/>
                  </a:lnTo>
                  <a:lnTo>
                    <a:pt x="1888" y="31"/>
                  </a:lnTo>
                  <a:lnTo>
                    <a:pt x="189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3560" y="2997000"/>
              <a:ext cx="279360" cy="4125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57" y="28"/>
                  </a:moveTo>
                  <a:lnTo>
                    <a:pt x="58" y="34"/>
                  </a:lnTo>
                  <a:lnTo>
                    <a:pt x="62" y="40"/>
                  </a:lnTo>
                  <a:lnTo>
                    <a:pt x="64" y="45"/>
                  </a:lnTo>
                  <a:lnTo>
                    <a:pt x="69" y="48"/>
                  </a:lnTo>
                  <a:lnTo>
                    <a:pt x="77" y="49"/>
                  </a:lnTo>
                  <a:lnTo>
                    <a:pt x="85" y="48"/>
                  </a:lnTo>
                  <a:lnTo>
                    <a:pt x="95" y="47"/>
                  </a:lnTo>
                  <a:lnTo>
                    <a:pt x="102" y="47"/>
                  </a:lnTo>
                  <a:lnTo>
                    <a:pt x="110" y="47"/>
                  </a:lnTo>
                  <a:lnTo>
                    <a:pt x="117" y="49"/>
                  </a:lnTo>
                  <a:lnTo>
                    <a:pt x="123" y="54"/>
                  </a:lnTo>
                  <a:lnTo>
                    <a:pt x="128" y="64"/>
                  </a:lnTo>
                  <a:lnTo>
                    <a:pt x="129" y="80"/>
                  </a:lnTo>
                  <a:lnTo>
                    <a:pt x="129" y="97"/>
                  </a:lnTo>
                  <a:lnTo>
                    <a:pt x="132" y="112"/>
                  </a:lnTo>
                  <a:lnTo>
                    <a:pt x="148" y="119"/>
                  </a:lnTo>
                  <a:lnTo>
                    <a:pt x="166" y="139"/>
                  </a:lnTo>
                  <a:lnTo>
                    <a:pt x="175" y="164"/>
                  </a:lnTo>
                  <a:lnTo>
                    <a:pt x="176" y="190"/>
                  </a:lnTo>
                  <a:lnTo>
                    <a:pt x="175" y="215"/>
                  </a:lnTo>
                  <a:lnTo>
                    <a:pt x="145" y="260"/>
                  </a:lnTo>
                  <a:lnTo>
                    <a:pt x="141" y="256"/>
                  </a:lnTo>
                  <a:lnTo>
                    <a:pt x="141" y="249"/>
                  </a:lnTo>
                  <a:lnTo>
                    <a:pt x="144" y="240"/>
                  </a:lnTo>
                  <a:lnTo>
                    <a:pt x="149" y="231"/>
                  </a:lnTo>
                  <a:lnTo>
                    <a:pt x="154" y="222"/>
                  </a:lnTo>
                  <a:lnTo>
                    <a:pt x="158" y="211"/>
                  </a:lnTo>
                  <a:lnTo>
                    <a:pt x="159" y="200"/>
                  </a:lnTo>
                  <a:lnTo>
                    <a:pt x="156" y="191"/>
                  </a:lnTo>
                  <a:lnTo>
                    <a:pt x="151" y="184"/>
                  </a:lnTo>
                  <a:lnTo>
                    <a:pt x="145" y="179"/>
                  </a:lnTo>
                  <a:lnTo>
                    <a:pt x="139" y="176"/>
                  </a:lnTo>
                  <a:lnTo>
                    <a:pt x="133" y="172"/>
                  </a:lnTo>
                  <a:lnTo>
                    <a:pt x="126" y="170"/>
                  </a:lnTo>
                  <a:lnTo>
                    <a:pt x="119" y="166"/>
                  </a:lnTo>
                  <a:lnTo>
                    <a:pt x="113" y="164"/>
                  </a:lnTo>
                  <a:lnTo>
                    <a:pt x="108" y="160"/>
                  </a:lnTo>
                  <a:lnTo>
                    <a:pt x="96" y="146"/>
                  </a:lnTo>
                  <a:lnTo>
                    <a:pt x="83" y="133"/>
                  </a:lnTo>
                  <a:lnTo>
                    <a:pt x="69" y="120"/>
                  </a:lnTo>
                  <a:lnTo>
                    <a:pt x="56" y="107"/>
                  </a:lnTo>
                  <a:lnTo>
                    <a:pt x="42" y="94"/>
                  </a:lnTo>
                  <a:lnTo>
                    <a:pt x="29" y="81"/>
                  </a:lnTo>
                  <a:lnTo>
                    <a:pt x="14" y="70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3" y="26"/>
                  </a:lnTo>
                  <a:lnTo>
                    <a:pt x="7" y="13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3" y="7"/>
                  </a:lnTo>
                  <a:lnTo>
                    <a:pt x="47" y="12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7" y="28"/>
                  </a:lnTo>
                  <a:close/>
                </a:path>
              </a:pathLst>
            </a:custGeom>
            <a:solidFill>
              <a:srgbClr val="b58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54800" y="3135240"/>
              <a:ext cx="363600" cy="429840"/>
            </a:xfrm>
            <a:custGeom>
              <a:avLst/>
              <a:gdLst/>
              <a:ahLst/>
              <a:rect l="l" t="t" r="r" b="b"/>
              <a:pathLst>
                <a:path w="229" h="271">
                  <a:moveTo>
                    <a:pt x="219" y="103"/>
                  </a:moveTo>
                  <a:lnTo>
                    <a:pt x="225" y="109"/>
                  </a:lnTo>
                  <a:lnTo>
                    <a:pt x="229" y="117"/>
                  </a:lnTo>
                  <a:lnTo>
                    <a:pt x="229" y="126"/>
                  </a:lnTo>
                  <a:lnTo>
                    <a:pt x="225" y="135"/>
                  </a:lnTo>
                  <a:lnTo>
                    <a:pt x="217" y="144"/>
                  </a:lnTo>
                  <a:lnTo>
                    <a:pt x="212" y="156"/>
                  </a:lnTo>
                  <a:lnTo>
                    <a:pt x="212" y="170"/>
                  </a:lnTo>
                  <a:lnTo>
                    <a:pt x="216" y="182"/>
                  </a:lnTo>
                  <a:lnTo>
                    <a:pt x="219" y="190"/>
                  </a:lnTo>
                  <a:lnTo>
                    <a:pt x="222" y="199"/>
                  </a:lnTo>
                  <a:lnTo>
                    <a:pt x="223" y="209"/>
                  </a:lnTo>
                  <a:lnTo>
                    <a:pt x="225" y="218"/>
                  </a:lnTo>
                  <a:lnTo>
                    <a:pt x="213" y="227"/>
                  </a:lnTo>
                  <a:lnTo>
                    <a:pt x="203" y="234"/>
                  </a:lnTo>
                  <a:lnTo>
                    <a:pt x="191" y="241"/>
                  </a:lnTo>
                  <a:lnTo>
                    <a:pt x="180" y="247"/>
                  </a:lnTo>
                  <a:lnTo>
                    <a:pt x="170" y="252"/>
                  </a:lnTo>
                  <a:lnTo>
                    <a:pt x="158" y="258"/>
                  </a:lnTo>
                  <a:lnTo>
                    <a:pt x="146" y="264"/>
                  </a:lnTo>
                  <a:lnTo>
                    <a:pt x="135" y="271"/>
                  </a:lnTo>
                  <a:lnTo>
                    <a:pt x="123" y="255"/>
                  </a:lnTo>
                  <a:lnTo>
                    <a:pt x="109" y="245"/>
                  </a:lnTo>
                  <a:lnTo>
                    <a:pt x="92" y="240"/>
                  </a:lnTo>
                  <a:lnTo>
                    <a:pt x="74" y="236"/>
                  </a:lnTo>
                  <a:lnTo>
                    <a:pt x="57" y="234"/>
                  </a:lnTo>
                  <a:lnTo>
                    <a:pt x="40" y="228"/>
                  </a:lnTo>
                  <a:lnTo>
                    <a:pt x="26" y="218"/>
                  </a:lnTo>
                  <a:lnTo>
                    <a:pt x="17" y="202"/>
                  </a:lnTo>
                  <a:lnTo>
                    <a:pt x="13" y="176"/>
                  </a:lnTo>
                  <a:lnTo>
                    <a:pt x="16" y="151"/>
                  </a:lnTo>
                  <a:lnTo>
                    <a:pt x="19" y="126"/>
                  </a:lnTo>
                  <a:lnTo>
                    <a:pt x="19" y="99"/>
                  </a:lnTo>
                  <a:lnTo>
                    <a:pt x="0" y="83"/>
                  </a:lnTo>
                  <a:lnTo>
                    <a:pt x="8" y="70"/>
                  </a:lnTo>
                  <a:lnTo>
                    <a:pt x="18" y="58"/>
                  </a:lnTo>
                  <a:lnTo>
                    <a:pt x="30" y="46"/>
                  </a:lnTo>
                  <a:lnTo>
                    <a:pt x="43" y="36"/>
                  </a:lnTo>
                  <a:lnTo>
                    <a:pt x="56" y="26"/>
                  </a:lnTo>
                  <a:lnTo>
                    <a:pt x="69" y="18"/>
                  </a:lnTo>
                  <a:lnTo>
                    <a:pt x="83" y="8"/>
                  </a:lnTo>
                  <a:lnTo>
                    <a:pt x="96" y="0"/>
                  </a:lnTo>
                  <a:lnTo>
                    <a:pt x="112" y="11"/>
                  </a:lnTo>
                  <a:lnTo>
                    <a:pt x="127" y="25"/>
                  </a:lnTo>
                  <a:lnTo>
                    <a:pt x="142" y="40"/>
                  </a:lnTo>
                  <a:lnTo>
                    <a:pt x="157" y="54"/>
                  </a:lnTo>
                  <a:lnTo>
                    <a:pt x="171" y="70"/>
                  </a:lnTo>
                  <a:lnTo>
                    <a:pt x="186" y="84"/>
                  </a:lnTo>
                  <a:lnTo>
                    <a:pt x="203" y="95"/>
                  </a:lnTo>
                  <a:lnTo>
                    <a:pt x="219" y="1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4520" y="3189240"/>
              <a:ext cx="5256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25"/>
                  </a:moveTo>
                  <a:lnTo>
                    <a:pt x="33" y="31"/>
                  </a:lnTo>
                  <a:lnTo>
                    <a:pt x="20" y="33"/>
                  </a:lnTo>
                  <a:lnTo>
                    <a:pt x="11" y="28"/>
                  </a:lnTo>
                  <a:lnTo>
                    <a:pt x="6" y="16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0" y="5"/>
                  </a:lnTo>
                  <a:lnTo>
                    <a:pt x="27" y="15"/>
                  </a:lnTo>
                  <a:lnTo>
                    <a:pt x="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08800" y="3412800"/>
              <a:ext cx="69840" cy="4896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4" y="9"/>
                  </a:moveTo>
                  <a:lnTo>
                    <a:pt x="39" y="15"/>
                  </a:lnTo>
                  <a:lnTo>
                    <a:pt x="33" y="21"/>
                  </a:lnTo>
                  <a:lnTo>
                    <a:pt x="26" y="27"/>
                  </a:lnTo>
                  <a:lnTo>
                    <a:pt x="19" y="31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15" y="8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13320" y="3522600"/>
              <a:ext cx="733680" cy="1199520"/>
            </a:xfrm>
            <a:custGeom>
              <a:avLst/>
              <a:gdLst/>
              <a:ahLst/>
              <a:rect l="l" t="t" r="r" b="b"/>
              <a:pathLst>
                <a:path w="462" h="756">
                  <a:moveTo>
                    <a:pt x="419" y="749"/>
                  </a:moveTo>
                  <a:lnTo>
                    <a:pt x="404" y="753"/>
                  </a:lnTo>
                  <a:lnTo>
                    <a:pt x="388" y="756"/>
                  </a:lnTo>
                  <a:lnTo>
                    <a:pt x="373" y="755"/>
                  </a:lnTo>
                  <a:lnTo>
                    <a:pt x="358" y="751"/>
                  </a:lnTo>
                  <a:lnTo>
                    <a:pt x="343" y="746"/>
                  </a:lnTo>
                  <a:lnTo>
                    <a:pt x="327" y="743"/>
                  </a:lnTo>
                  <a:lnTo>
                    <a:pt x="312" y="739"/>
                  </a:lnTo>
                  <a:lnTo>
                    <a:pt x="297" y="738"/>
                  </a:lnTo>
                  <a:lnTo>
                    <a:pt x="279" y="730"/>
                  </a:lnTo>
                  <a:lnTo>
                    <a:pt x="261" y="723"/>
                  </a:lnTo>
                  <a:lnTo>
                    <a:pt x="242" y="717"/>
                  </a:lnTo>
                  <a:lnTo>
                    <a:pt x="224" y="712"/>
                  </a:lnTo>
                  <a:lnTo>
                    <a:pt x="203" y="709"/>
                  </a:lnTo>
                  <a:lnTo>
                    <a:pt x="183" y="706"/>
                  </a:lnTo>
                  <a:lnTo>
                    <a:pt x="163" y="704"/>
                  </a:lnTo>
                  <a:lnTo>
                    <a:pt x="145" y="702"/>
                  </a:lnTo>
                  <a:lnTo>
                    <a:pt x="125" y="699"/>
                  </a:lnTo>
                  <a:lnTo>
                    <a:pt x="105" y="696"/>
                  </a:lnTo>
                  <a:lnTo>
                    <a:pt x="86" y="692"/>
                  </a:lnTo>
                  <a:lnTo>
                    <a:pt x="67" y="687"/>
                  </a:lnTo>
                  <a:lnTo>
                    <a:pt x="49" y="680"/>
                  </a:lnTo>
                  <a:lnTo>
                    <a:pt x="31" y="673"/>
                  </a:lnTo>
                  <a:lnTo>
                    <a:pt x="15" y="663"/>
                  </a:lnTo>
                  <a:lnTo>
                    <a:pt x="0" y="651"/>
                  </a:lnTo>
                  <a:lnTo>
                    <a:pt x="1" y="617"/>
                  </a:lnTo>
                  <a:lnTo>
                    <a:pt x="4" y="584"/>
                  </a:lnTo>
                  <a:lnTo>
                    <a:pt x="10" y="552"/>
                  </a:lnTo>
                  <a:lnTo>
                    <a:pt x="17" y="520"/>
                  </a:lnTo>
                  <a:lnTo>
                    <a:pt x="27" y="489"/>
                  </a:lnTo>
                  <a:lnTo>
                    <a:pt x="37" y="459"/>
                  </a:lnTo>
                  <a:lnTo>
                    <a:pt x="48" y="429"/>
                  </a:lnTo>
                  <a:lnTo>
                    <a:pt x="60" y="400"/>
                  </a:lnTo>
                  <a:lnTo>
                    <a:pt x="77" y="412"/>
                  </a:lnTo>
                  <a:lnTo>
                    <a:pt x="96" y="422"/>
                  </a:lnTo>
                  <a:lnTo>
                    <a:pt x="115" y="432"/>
                  </a:lnTo>
                  <a:lnTo>
                    <a:pt x="136" y="439"/>
                  </a:lnTo>
                  <a:lnTo>
                    <a:pt x="156" y="445"/>
                  </a:lnTo>
                  <a:lnTo>
                    <a:pt x="179" y="447"/>
                  </a:lnTo>
                  <a:lnTo>
                    <a:pt x="200" y="448"/>
                  </a:lnTo>
                  <a:lnTo>
                    <a:pt x="222" y="446"/>
                  </a:lnTo>
                  <a:lnTo>
                    <a:pt x="240" y="438"/>
                  </a:lnTo>
                  <a:lnTo>
                    <a:pt x="258" y="428"/>
                  </a:lnTo>
                  <a:lnTo>
                    <a:pt x="274" y="415"/>
                  </a:lnTo>
                  <a:lnTo>
                    <a:pt x="290" y="402"/>
                  </a:lnTo>
                  <a:lnTo>
                    <a:pt x="305" y="387"/>
                  </a:lnTo>
                  <a:lnTo>
                    <a:pt x="319" y="372"/>
                  </a:lnTo>
                  <a:lnTo>
                    <a:pt x="333" y="356"/>
                  </a:lnTo>
                  <a:lnTo>
                    <a:pt x="346" y="341"/>
                  </a:lnTo>
                  <a:lnTo>
                    <a:pt x="345" y="334"/>
                  </a:lnTo>
                  <a:lnTo>
                    <a:pt x="343" y="329"/>
                  </a:lnTo>
                  <a:lnTo>
                    <a:pt x="338" y="326"/>
                  </a:lnTo>
                  <a:lnTo>
                    <a:pt x="332" y="322"/>
                  </a:lnTo>
                  <a:lnTo>
                    <a:pt x="325" y="322"/>
                  </a:lnTo>
                  <a:lnTo>
                    <a:pt x="307" y="343"/>
                  </a:lnTo>
                  <a:lnTo>
                    <a:pt x="288" y="363"/>
                  </a:lnTo>
                  <a:lnTo>
                    <a:pt x="269" y="383"/>
                  </a:lnTo>
                  <a:lnTo>
                    <a:pt x="248" y="400"/>
                  </a:lnTo>
                  <a:lnTo>
                    <a:pt x="226" y="414"/>
                  </a:lnTo>
                  <a:lnTo>
                    <a:pt x="201" y="422"/>
                  </a:lnTo>
                  <a:lnTo>
                    <a:pt x="175" y="426"/>
                  </a:lnTo>
                  <a:lnTo>
                    <a:pt x="146" y="422"/>
                  </a:lnTo>
                  <a:lnTo>
                    <a:pt x="128" y="414"/>
                  </a:lnTo>
                  <a:lnTo>
                    <a:pt x="110" y="401"/>
                  </a:lnTo>
                  <a:lnTo>
                    <a:pt x="94" y="383"/>
                  </a:lnTo>
                  <a:lnTo>
                    <a:pt x="77" y="363"/>
                  </a:lnTo>
                  <a:lnTo>
                    <a:pt x="64" y="342"/>
                  </a:lnTo>
                  <a:lnTo>
                    <a:pt x="53" y="322"/>
                  </a:lnTo>
                  <a:lnTo>
                    <a:pt x="46" y="303"/>
                  </a:lnTo>
                  <a:lnTo>
                    <a:pt x="41" y="289"/>
                  </a:lnTo>
                  <a:lnTo>
                    <a:pt x="37" y="249"/>
                  </a:lnTo>
                  <a:lnTo>
                    <a:pt x="41" y="210"/>
                  </a:lnTo>
                  <a:lnTo>
                    <a:pt x="47" y="171"/>
                  </a:lnTo>
                  <a:lnTo>
                    <a:pt x="53" y="132"/>
                  </a:lnTo>
                  <a:lnTo>
                    <a:pt x="59" y="132"/>
                  </a:lnTo>
                  <a:lnTo>
                    <a:pt x="61" y="144"/>
                  </a:lnTo>
                  <a:lnTo>
                    <a:pt x="63" y="156"/>
                  </a:lnTo>
                  <a:lnTo>
                    <a:pt x="66" y="168"/>
                  </a:lnTo>
                  <a:lnTo>
                    <a:pt x="68" y="179"/>
                  </a:lnTo>
                  <a:lnTo>
                    <a:pt x="72" y="191"/>
                  </a:lnTo>
                  <a:lnTo>
                    <a:pt x="77" y="201"/>
                  </a:lnTo>
                  <a:lnTo>
                    <a:pt x="84" y="210"/>
                  </a:lnTo>
                  <a:lnTo>
                    <a:pt x="95" y="217"/>
                  </a:lnTo>
                  <a:lnTo>
                    <a:pt x="108" y="217"/>
                  </a:lnTo>
                  <a:lnTo>
                    <a:pt x="120" y="214"/>
                  </a:lnTo>
                  <a:lnTo>
                    <a:pt x="132" y="208"/>
                  </a:lnTo>
                  <a:lnTo>
                    <a:pt x="142" y="201"/>
                  </a:lnTo>
                  <a:lnTo>
                    <a:pt x="153" y="191"/>
                  </a:lnTo>
                  <a:lnTo>
                    <a:pt x="162" y="182"/>
                  </a:lnTo>
                  <a:lnTo>
                    <a:pt x="170" y="173"/>
                  </a:lnTo>
                  <a:lnTo>
                    <a:pt x="179" y="164"/>
                  </a:lnTo>
                  <a:lnTo>
                    <a:pt x="191" y="150"/>
                  </a:lnTo>
                  <a:lnTo>
                    <a:pt x="202" y="137"/>
                  </a:lnTo>
                  <a:lnTo>
                    <a:pt x="214" y="125"/>
                  </a:lnTo>
                  <a:lnTo>
                    <a:pt x="226" y="115"/>
                  </a:lnTo>
                  <a:lnTo>
                    <a:pt x="239" y="104"/>
                  </a:lnTo>
                  <a:lnTo>
                    <a:pt x="251" y="93"/>
                  </a:lnTo>
                  <a:lnTo>
                    <a:pt x="265" y="84"/>
                  </a:lnTo>
                  <a:lnTo>
                    <a:pt x="279" y="76"/>
                  </a:lnTo>
                  <a:lnTo>
                    <a:pt x="284" y="77"/>
                  </a:lnTo>
                  <a:lnTo>
                    <a:pt x="292" y="76"/>
                  </a:lnTo>
                  <a:lnTo>
                    <a:pt x="299" y="74"/>
                  </a:lnTo>
                  <a:lnTo>
                    <a:pt x="302" y="73"/>
                  </a:lnTo>
                  <a:lnTo>
                    <a:pt x="298" y="67"/>
                  </a:lnTo>
                  <a:lnTo>
                    <a:pt x="293" y="63"/>
                  </a:lnTo>
                  <a:lnTo>
                    <a:pt x="287" y="58"/>
                  </a:lnTo>
                  <a:lnTo>
                    <a:pt x="281" y="54"/>
                  </a:lnTo>
                  <a:lnTo>
                    <a:pt x="274" y="53"/>
                  </a:lnTo>
                  <a:lnTo>
                    <a:pt x="268" y="52"/>
                  </a:lnTo>
                  <a:lnTo>
                    <a:pt x="262" y="54"/>
                  </a:lnTo>
                  <a:lnTo>
                    <a:pt x="257" y="58"/>
                  </a:lnTo>
                  <a:lnTo>
                    <a:pt x="247" y="66"/>
                  </a:lnTo>
                  <a:lnTo>
                    <a:pt x="238" y="76"/>
                  </a:lnTo>
                  <a:lnTo>
                    <a:pt x="227" y="84"/>
                  </a:lnTo>
                  <a:lnTo>
                    <a:pt x="216" y="95"/>
                  </a:lnTo>
                  <a:lnTo>
                    <a:pt x="206" y="104"/>
                  </a:lnTo>
                  <a:lnTo>
                    <a:pt x="195" y="115"/>
                  </a:lnTo>
                  <a:lnTo>
                    <a:pt x="183" y="126"/>
                  </a:lnTo>
                  <a:lnTo>
                    <a:pt x="173" y="138"/>
                  </a:lnTo>
                  <a:lnTo>
                    <a:pt x="178" y="130"/>
                  </a:lnTo>
                  <a:lnTo>
                    <a:pt x="183" y="119"/>
                  </a:lnTo>
                  <a:lnTo>
                    <a:pt x="189" y="109"/>
                  </a:lnTo>
                  <a:lnTo>
                    <a:pt x="196" y="98"/>
                  </a:lnTo>
                  <a:lnTo>
                    <a:pt x="205" y="86"/>
                  </a:lnTo>
                  <a:lnTo>
                    <a:pt x="212" y="74"/>
                  </a:lnTo>
                  <a:lnTo>
                    <a:pt x="220" y="64"/>
                  </a:lnTo>
                  <a:lnTo>
                    <a:pt x="228" y="53"/>
                  </a:lnTo>
                  <a:lnTo>
                    <a:pt x="320" y="0"/>
                  </a:lnTo>
                  <a:lnTo>
                    <a:pt x="339" y="43"/>
                  </a:lnTo>
                  <a:lnTo>
                    <a:pt x="357" y="86"/>
                  </a:lnTo>
                  <a:lnTo>
                    <a:pt x="374" y="130"/>
                  </a:lnTo>
                  <a:lnTo>
                    <a:pt x="392" y="175"/>
                  </a:lnTo>
                  <a:lnTo>
                    <a:pt x="407" y="221"/>
                  </a:lnTo>
                  <a:lnTo>
                    <a:pt x="421" y="267"/>
                  </a:lnTo>
                  <a:lnTo>
                    <a:pt x="434" y="313"/>
                  </a:lnTo>
                  <a:lnTo>
                    <a:pt x="445" y="360"/>
                  </a:lnTo>
                  <a:lnTo>
                    <a:pt x="453" y="408"/>
                  </a:lnTo>
                  <a:lnTo>
                    <a:pt x="459" y="456"/>
                  </a:lnTo>
                  <a:lnTo>
                    <a:pt x="462" y="505"/>
                  </a:lnTo>
                  <a:lnTo>
                    <a:pt x="460" y="553"/>
                  </a:lnTo>
                  <a:lnTo>
                    <a:pt x="457" y="601"/>
                  </a:lnTo>
                  <a:lnTo>
                    <a:pt x="449" y="651"/>
                  </a:lnTo>
                  <a:lnTo>
                    <a:pt x="436" y="699"/>
                  </a:lnTo>
                  <a:lnTo>
                    <a:pt x="419" y="749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97560" y="3568680"/>
              <a:ext cx="54000" cy="12960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22" y="20"/>
                  </a:moveTo>
                  <a:lnTo>
                    <a:pt x="34" y="21"/>
                  </a:lnTo>
                  <a:lnTo>
                    <a:pt x="33" y="37"/>
                  </a:lnTo>
                  <a:lnTo>
                    <a:pt x="28" y="53"/>
                  </a:lnTo>
                  <a:lnTo>
                    <a:pt x="21" y="68"/>
                  </a:lnTo>
                  <a:lnTo>
                    <a:pt x="14" y="82"/>
                  </a:lnTo>
                  <a:lnTo>
                    <a:pt x="6" y="82"/>
                  </a:lnTo>
                  <a:lnTo>
                    <a:pt x="2" y="76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7" y="15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02360" y="3857400"/>
              <a:ext cx="122400" cy="271080"/>
            </a:xfrm>
            <a:custGeom>
              <a:avLst/>
              <a:gdLst/>
              <a:ahLst/>
              <a:rect l="l" t="t" r="r" b="b"/>
              <a:pathLst>
                <a:path w="77" h="171">
                  <a:moveTo>
                    <a:pt x="77" y="126"/>
                  </a:moveTo>
                  <a:lnTo>
                    <a:pt x="70" y="138"/>
                  </a:lnTo>
                  <a:lnTo>
                    <a:pt x="63" y="149"/>
                  </a:lnTo>
                  <a:lnTo>
                    <a:pt x="53" y="161"/>
                  </a:lnTo>
                  <a:lnTo>
                    <a:pt x="44" y="171"/>
                  </a:lnTo>
                  <a:lnTo>
                    <a:pt x="38" y="150"/>
                  </a:lnTo>
                  <a:lnTo>
                    <a:pt x="33" y="130"/>
                  </a:lnTo>
                  <a:lnTo>
                    <a:pt x="28" y="107"/>
                  </a:lnTo>
                  <a:lnTo>
                    <a:pt x="23" y="86"/>
                  </a:lnTo>
                  <a:lnTo>
                    <a:pt x="17" y="64"/>
                  </a:lnTo>
                  <a:lnTo>
                    <a:pt x="12" y="43"/>
                  </a:lnTo>
                  <a:lnTo>
                    <a:pt x="6" y="21"/>
                  </a:lnTo>
                  <a:lnTo>
                    <a:pt x="0" y="0"/>
                  </a:lnTo>
                  <a:lnTo>
                    <a:pt x="15" y="13"/>
                  </a:lnTo>
                  <a:lnTo>
                    <a:pt x="29" y="27"/>
                  </a:lnTo>
                  <a:lnTo>
                    <a:pt x="42" y="43"/>
                  </a:lnTo>
                  <a:lnTo>
                    <a:pt x="53" y="58"/>
                  </a:lnTo>
                  <a:lnTo>
                    <a:pt x="63" y="73"/>
                  </a:lnTo>
                  <a:lnTo>
                    <a:pt x="71" y="91"/>
                  </a:lnTo>
                  <a:lnTo>
                    <a:pt x="76" y="109"/>
                  </a:lnTo>
                  <a:lnTo>
                    <a:pt x="77" y="12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84800" y="4308120"/>
              <a:ext cx="173160" cy="7272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9" y="25"/>
                  </a:moveTo>
                  <a:lnTo>
                    <a:pt x="97" y="39"/>
                  </a:lnTo>
                  <a:lnTo>
                    <a:pt x="85" y="46"/>
                  </a:lnTo>
                  <a:lnTo>
                    <a:pt x="71" y="46"/>
                  </a:lnTo>
                  <a:lnTo>
                    <a:pt x="58" y="43"/>
                  </a:lnTo>
                  <a:lnTo>
                    <a:pt x="44" y="36"/>
                  </a:lnTo>
                  <a:lnTo>
                    <a:pt x="30" y="30"/>
                  </a:lnTo>
                  <a:lnTo>
                    <a:pt x="16" y="24"/>
                  </a:lnTo>
                  <a:lnTo>
                    <a:pt x="3" y="20"/>
                  </a:lnTo>
                  <a:lnTo>
                    <a:pt x="0" y="0"/>
                  </a:lnTo>
                  <a:lnTo>
                    <a:pt x="13" y="4"/>
                  </a:lnTo>
                  <a:lnTo>
                    <a:pt x="27" y="7"/>
                  </a:lnTo>
                  <a:lnTo>
                    <a:pt x="40" y="11"/>
                  </a:lnTo>
                  <a:lnTo>
                    <a:pt x="53" y="14"/>
                  </a:lnTo>
                  <a:lnTo>
                    <a:pt x="67" y="17"/>
                  </a:lnTo>
                  <a:lnTo>
                    <a:pt x="80" y="20"/>
                  </a:lnTo>
                  <a:lnTo>
                    <a:pt x="95" y="23"/>
                  </a:lnTo>
                  <a:lnTo>
                    <a:pt x="109" y="25"/>
                  </a:lnTo>
                  <a:close/>
                </a:path>
              </a:pathLst>
            </a:custGeom>
            <a:solidFill>
              <a:srgbClr val="aa9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56280" y="4371840"/>
              <a:ext cx="230400" cy="434520"/>
            </a:xfrm>
            <a:custGeom>
              <a:avLst/>
              <a:gdLst/>
              <a:ahLst/>
              <a:rect l="l" t="t" r="r" b="b"/>
              <a:pathLst>
                <a:path w="145" h="274">
                  <a:moveTo>
                    <a:pt x="138" y="71"/>
                  </a:moveTo>
                  <a:lnTo>
                    <a:pt x="130" y="119"/>
                  </a:lnTo>
                  <a:lnTo>
                    <a:pt x="126" y="170"/>
                  </a:lnTo>
                  <a:lnTo>
                    <a:pt x="124" y="223"/>
                  </a:lnTo>
                  <a:lnTo>
                    <a:pt x="120" y="274"/>
                  </a:lnTo>
                  <a:lnTo>
                    <a:pt x="7" y="267"/>
                  </a:lnTo>
                  <a:lnTo>
                    <a:pt x="6" y="261"/>
                  </a:lnTo>
                  <a:lnTo>
                    <a:pt x="4" y="255"/>
                  </a:lnTo>
                  <a:lnTo>
                    <a:pt x="2" y="250"/>
                  </a:lnTo>
                  <a:lnTo>
                    <a:pt x="0" y="244"/>
                  </a:lnTo>
                  <a:lnTo>
                    <a:pt x="6" y="242"/>
                  </a:lnTo>
                  <a:lnTo>
                    <a:pt x="14" y="240"/>
                  </a:lnTo>
                  <a:lnTo>
                    <a:pt x="21" y="237"/>
                  </a:lnTo>
                  <a:lnTo>
                    <a:pt x="29" y="235"/>
                  </a:lnTo>
                  <a:lnTo>
                    <a:pt x="35" y="233"/>
                  </a:lnTo>
                  <a:lnTo>
                    <a:pt x="41" y="228"/>
                  </a:lnTo>
                  <a:lnTo>
                    <a:pt x="44" y="221"/>
                  </a:lnTo>
                  <a:lnTo>
                    <a:pt x="45" y="213"/>
                  </a:lnTo>
                  <a:lnTo>
                    <a:pt x="52" y="187"/>
                  </a:lnTo>
                  <a:lnTo>
                    <a:pt x="59" y="161"/>
                  </a:lnTo>
                  <a:lnTo>
                    <a:pt x="66" y="134"/>
                  </a:lnTo>
                  <a:lnTo>
                    <a:pt x="73" y="108"/>
                  </a:lnTo>
                  <a:lnTo>
                    <a:pt x="78" y="82"/>
                  </a:lnTo>
                  <a:lnTo>
                    <a:pt x="82" y="55"/>
                  </a:lnTo>
                  <a:lnTo>
                    <a:pt x="84" y="27"/>
                  </a:lnTo>
                  <a:lnTo>
                    <a:pt x="82" y="0"/>
                  </a:lnTo>
                  <a:lnTo>
                    <a:pt x="94" y="5"/>
                  </a:lnTo>
                  <a:lnTo>
                    <a:pt x="107" y="10"/>
                  </a:lnTo>
                  <a:lnTo>
                    <a:pt x="120" y="15"/>
                  </a:lnTo>
                  <a:lnTo>
                    <a:pt x="132" y="22"/>
                  </a:lnTo>
                  <a:lnTo>
                    <a:pt x="140" y="30"/>
                  </a:lnTo>
                  <a:lnTo>
                    <a:pt x="145" y="40"/>
                  </a:lnTo>
                  <a:lnTo>
                    <a:pt x="145" y="55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aa9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84880" y="4392360"/>
              <a:ext cx="79560" cy="390240"/>
            </a:xfrm>
            <a:custGeom>
              <a:avLst/>
              <a:gdLst/>
              <a:ahLst/>
              <a:rect l="l" t="t" r="r" b="b"/>
              <a:pathLst>
                <a:path w="50" h="246">
                  <a:moveTo>
                    <a:pt x="36" y="214"/>
                  </a:moveTo>
                  <a:lnTo>
                    <a:pt x="32" y="218"/>
                  </a:lnTo>
                  <a:lnTo>
                    <a:pt x="27" y="222"/>
                  </a:lnTo>
                  <a:lnTo>
                    <a:pt x="22" y="226"/>
                  </a:lnTo>
                  <a:lnTo>
                    <a:pt x="17" y="229"/>
                  </a:lnTo>
                  <a:lnTo>
                    <a:pt x="13" y="233"/>
                  </a:lnTo>
                  <a:lnTo>
                    <a:pt x="8" y="236"/>
                  </a:lnTo>
                  <a:lnTo>
                    <a:pt x="4" y="241"/>
                  </a:lnTo>
                  <a:lnTo>
                    <a:pt x="0" y="246"/>
                  </a:lnTo>
                  <a:lnTo>
                    <a:pt x="2" y="189"/>
                  </a:lnTo>
                  <a:lnTo>
                    <a:pt x="10" y="134"/>
                  </a:lnTo>
                  <a:lnTo>
                    <a:pt x="19" y="78"/>
                  </a:lnTo>
                  <a:lnTo>
                    <a:pt x="27" y="23"/>
                  </a:lnTo>
                  <a:lnTo>
                    <a:pt x="50" y="0"/>
                  </a:lnTo>
                  <a:lnTo>
                    <a:pt x="49" y="56"/>
                  </a:lnTo>
                  <a:lnTo>
                    <a:pt x="42" y="108"/>
                  </a:lnTo>
                  <a:lnTo>
                    <a:pt x="35" y="159"/>
                  </a:lnTo>
                  <a:lnTo>
                    <a:pt x="36" y="214"/>
                  </a:lnTo>
                  <a:close/>
                </a:path>
              </a:pathLst>
            </a:custGeom>
            <a:solidFill>
              <a:srgbClr val="aa9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94160" y="4365360"/>
              <a:ext cx="93960" cy="79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44"/>
                  </a:moveTo>
                  <a:lnTo>
                    <a:pt x="59" y="0"/>
                  </a:lnTo>
                  <a:lnTo>
                    <a:pt x="50" y="5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22760" y="4520880"/>
              <a:ext cx="1145880" cy="873000"/>
            </a:xfrm>
            <a:custGeom>
              <a:avLst/>
              <a:gdLst/>
              <a:ahLst/>
              <a:rect l="l" t="t" r="r" b="b"/>
              <a:pathLst>
                <a:path w="722" h="550">
                  <a:moveTo>
                    <a:pt x="711" y="140"/>
                  </a:moveTo>
                  <a:lnTo>
                    <a:pt x="715" y="146"/>
                  </a:lnTo>
                  <a:lnTo>
                    <a:pt x="720" y="149"/>
                  </a:lnTo>
                  <a:lnTo>
                    <a:pt x="722" y="153"/>
                  </a:lnTo>
                  <a:lnTo>
                    <a:pt x="721" y="159"/>
                  </a:lnTo>
                  <a:lnTo>
                    <a:pt x="715" y="162"/>
                  </a:lnTo>
                  <a:lnTo>
                    <a:pt x="697" y="174"/>
                  </a:lnTo>
                  <a:lnTo>
                    <a:pt x="670" y="193"/>
                  </a:lnTo>
                  <a:lnTo>
                    <a:pt x="635" y="215"/>
                  </a:lnTo>
                  <a:lnTo>
                    <a:pt x="592" y="244"/>
                  </a:lnTo>
                  <a:lnTo>
                    <a:pt x="545" y="275"/>
                  </a:lnTo>
                  <a:lnTo>
                    <a:pt x="495" y="308"/>
                  </a:lnTo>
                  <a:lnTo>
                    <a:pt x="442" y="344"/>
                  </a:lnTo>
                  <a:lnTo>
                    <a:pt x="389" y="379"/>
                  </a:lnTo>
                  <a:lnTo>
                    <a:pt x="336" y="413"/>
                  </a:lnTo>
                  <a:lnTo>
                    <a:pt x="286" y="446"/>
                  </a:lnTo>
                  <a:lnTo>
                    <a:pt x="240" y="477"/>
                  </a:lnTo>
                  <a:lnTo>
                    <a:pt x="200" y="503"/>
                  </a:lnTo>
                  <a:lnTo>
                    <a:pt x="167" y="525"/>
                  </a:lnTo>
                  <a:lnTo>
                    <a:pt x="142" y="541"/>
                  </a:lnTo>
                  <a:lnTo>
                    <a:pt x="128" y="550"/>
                  </a:lnTo>
                  <a:lnTo>
                    <a:pt x="99" y="542"/>
                  </a:lnTo>
                  <a:lnTo>
                    <a:pt x="695" y="157"/>
                  </a:lnTo>
                  <a:lnTo>
                    <a:pt x="7" y="20"/>
                  </a:lnTo>
                  <a:lnTo>
                    <a:pt x="3" y="15"/>
                  </a:lnTo>
                  <a:lnTo>
                    <a:pt x="1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71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31040" y="4651200"/>
              <a:ext cx="442800" cy="657000"/>
            </a:xfrm>
            <a:custGeom>
              <a:avLst/>
              <a:gdLst/>
              <a:ahLst/>
              <a:rect l="l" t="t" r="r" b="b"/>
              <a:pathLst>
                <a:path w="279" h="414">
                  <a:moveTo>
                    <a:pt x="228" y="48"/>
                  </a:moveTo>
                  <a:lnTo>
                    <a:pt x="279" y="58"/>
                  </a:lnTo>
                  <a:lnTo>
                    <a:pt x="277" y="77"/>
                  </a:lnTo>
                  <a:lnTo>
                    <a:pt x="272" y="94"/>
                  </a:lnTo>
                  <a:lnTo>
                    <a:pt x="266" y="112"/>
                  </a:lnTo>
                  <a:lnTo>
                    <a:pt x="259" y="129"/>
                  </a:lnTo>
                  <a:lnTo>
                    <a:pt x="253" y="146"/>
                  </a:lnTo>
                  <a:lnTo>
                    <a:pt x="247" y="164"/>
                  </a:lnTo>
                  <a:lnTo>
                    <a:pt x="243" y="182"/>
                  </a:lnTo>
                  <a:lnTo>
                    <a:pt x="240" y="200"/>
                  </a:lnTo>
                  <a:lnTo>
                    <a:pt x="240" y="253"/>
                  </a:lnTo>
                  <a:lnTo>
                    <a:pt x="240" y="309"/>
                  </a:lnTo>
                  <a:lnTo>
                    <a:pt x="234" y="363"/>
                  </a:lnTo>
                  <a:lnTo>
                    <a:pt x="219" y="413"/>
                  </a:lnTo>
                  <a:lnTo>
                    <a:pt x="211" y="414"/>
                  </a:lnTo>
                  <a:lnTo>
                    <a:pt x="204" y="413"/>
                  </a:lnTo>
                  <a:lnTo>
                    <a:pt x="197" y="410"/>
                  </a:lnTo>
                  <a:lnTo>
                    <a:pt x="191" y="408"/>
                  </a:lnTo>
                  <a:lnTo>
                    <a:pt x="185" y="404"/>
                  </a:lnTo>
                  <a:lnTo>
                    <a:pt x="179" y="402"/>
                  </a:lnTo>
                  <a:lnTo>
                    <a:pt x="173" y="400"/>
                  </a:lnTo>
                  <a:lnTo>
                    <a:pt x="166" y="400"/>
                  </a:lnTo>
                  <a:lnTo>
                    <a:pt x="147" y="383"/>
                  </a:lnTo>
                  <a:lnTo>
                    <a:pt x="133" y="362"/>
                  </a:lnTo>
                  <a:lnTo>
                    <a:pt x="121" y="340"/>
                  </a:lnTo>
                  <a:lnTo>
                    <a:pt x="112" y="316"/>
                  </a:lnTo>
                  <a:lnTo>
                    <a:pt x="100" y="294"/>
                  </a:lnTo>
                  <a:lnTo>
                    <a:pt x="87" y="272"/>
                  </a:lnTo>
                  <a:lnTo>
                    <a:pt x="68" y="256"/>
                  </a:lnTo>
                  <a:lnTo>
                    <a:pt x="43" y="243"/>
                  </a:lnTo>
                  <a:lnTo>
                    <a:pt x="33" y="228"/>
                  </a:lnTo>
                  <a:lnTo>
                    <a:pt x="25" y="210"/>
                  </a:lnTo>
                  <a:lnTo>
                    <a:pt x="18" y="193"/>
                  </a:lnTo>
                  <a:lnTo>
                    <a:pt x="13" y="174"/>
                  </a:lnTo>
                  <a:lnTo>
                    <a:pt x="8" y="157"/>
                  </a:lnTo>
                  <a:lnTo>
                    <a:pt x="6" y="138"/>
                  </a:lnTo>
                  <a:lnTo>
                    <a:pt x="3" y="119"/>
                  </a:lnTo>
                  <a:lnTo>
                    <a:pt x="1" y="100"/>
                  </a:lnTo>
                  <a:lnTo>
                    <a:pt x="0" y="0"/>
                  </a:lnTo>
                  <a:lnTo>
                    <a:pt x="15" y="2"/>
                  </a:lnTo>
                  <a:lnTo>
                    <a:pt x="29" y="5"/>
                  </a:lnTo>
                  <a:lnTo>
                    <a:pt x="45" y="7"/>
                  </a:lnTo>
                  <a:lnTo>
                    <a:pt x="59" y="8"/>
                  </a:lnTo>
                  <a:lnTo>
                    <a:pt x="74" y="11"/>
                  </a:lnTo>
                  <a:lnTo>
                    <a:pt x="88" y="13"/>
                  </a:lnTo>
                  <a:lnTo>
                    <a:pt x="104" y="15"/>
                  </a:lnTo>
                  <a:lnTo>
                    <a:pt x="118" y="18"/>
                  </a:lnTo>
                  <a:lnTo>
                    <a:pt x="132" y="20"/>
                  </a:lnTo>
                  <a:lnTo>
                    <a:pt x="146" y="24"/>
                  </a:lnTo>
                  <a:lnTo>
                    <a:pt x="160" y="26"/>
                  </a:lnTo>
                  <a:lnTo>
                    <a:pt x="174" y="29"/>
                  </a:lnTo>
                  <a:lnTo>
                    <a:pt x="188" y="34"/>
                  </a:lnTo>
                  <a:lnTo>
                    <a:pt x="201" y="38"/>
                  </a:lnTo>
                  <a:lnTo>
                    <a:pt x="216" y="42"/>
                  </a:lnTo>
                  <a:lnTo>
                    <a:pt x="228" y="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54760" y="4773240"/>
              <a:ext cx="225360" cy="463320"/>
            </a:xfrm>
            <a:custGeom>
              <a:avLst/>
              <a:gdLst/>
              <a:ahLst/>
              <a:rect l="l" t="t" r="r" b="b"/>
              <a:pathLst>
                <a:path w="142" h="292">
                  <a:moveTo>
                    <a:pt x="56" y="162"/>
                  </a:moveTo>
                  <a:lnTo>
                    <a:pt x="69" y="174"/>
                  </a:lnTo>
                  <a:lnTo>
                    <a:pt x="82" y="185"/>
                  </a:lnTo>
                  <a:lnTo>
                    <a:pt x="96" y="195"/>
                  </a:lnTo>
                  <a:lnTo>
                    <a:pt x="108" y="207"/>
                  </a:lnTo>
                  <a:lnTo>
                    <a:pt x="119" y="220"/>
                  </a:lnTo>
                  <a:lnTo>
                    <a:pt x="130" y="233"/>
                  </a:lnTo>
                  <a:lnTo>
                    <a:pt x="137" y="247"/>
                  </a:lnTo>
                  <a:lnTo>
                    <a:pt x="142" y="264"/>
                  </a:lnTo>
                  <a:lnTo>
                    <a:pt x="105" y="292"/>
                  </a:lnTo>
                  <a:lnTo>
                    <a:pt x="93" y="284"/>
                  </a:lnTo>
                  <a:lnTo>
                    <a:pt x="80" y="275"/>
                  </a:lnTo>
                  <a:lnTo>
                    <a:pt x="69" y="268"/>
                  </a:lnTo>
                  <a:lnTo>
                    <a:pt x="56" y="261"/>
                  </a:lnTo>
                  <a:lnTo>
                    <a:pt x="43" y="254"/>
                  </a:lnTo>
                  <a:lnTo>
                    <a:pt x="29" y="250"/>
                  </a:lnTo>
                  <a:lnTo>
                    <a:pt x="16" y="244"/>
                  </a:lnTo>
                  <a:lnTo>
                    <a:pt x="2" y="240"/>
                  </a:lnTo>
                  <a:lnTo>
                    <a:pt x="0" y="209"/>
                  </a:lnTo>
                  <a:lnTo>
                    <a:pt x="2" y="179"/>
                  </a:lnTo>
                  <a:lnTo>
                    <a:pt x="3" y="148"/>
                  </a:lnTo>
                  <a:lnTo>
                    <a:pt x="6" y="116"/>
                  </a:lnTo>
                  <a:lnTo>
                    <a:pt x="11" y="86"/>
                  </a:lnTo>
                  <a:lnTo>
                    <a:pt x="18" y="56"/>
                  </a:lnTo>
                  <a:lnTo>
                    <a:pt x="26" y="27"/>
                  </a:lnTo>
                  <a:lnTo>
                    <a:pt x="37" y="0"/>
                  </a:lnTo>
                  <a:lnTo>
                    <a:pt x="45" y="40"/>
                  </a:lnTo>
                  <a:lnTo>
                    <a:pt x="49" y="81"/>
                  </a:lnTo>
                  <a:lnTo>
                    <a:pt x="51" y="122"/>
                  </a:lnTo>
                  <a:lnTo>
                    <a:pt x="56" y="16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9120" y="5229000"/>
              <a:ext cx="112680" cy="134640"/>
            </a:xfrm>
            <a:custGeom>
              <a:avLst/>
              <a:gdLst/>
              <a:ahLst/>
              <a:rect l="l" t="t" r="r" b="b"/>
              <a:pathLst>
                <a:path w="71" h="85">
                  <a:moveTo>
                    <a:pt x="71" y="0"/>
                  </a:moveTo>
                  <a:lnTo>
                    <a:pt x="63" y="12"/>
                  </a:lnTo>
                  <a:lnTo>
                    <a:pt x="58" y="27"/>
                  </a:lnTo>
                  <a:lnTo>
                    <a:pt x="54" y="44"/>
                  </a:lnTo>
                  <a:lnTo>
                    <a:pt x="51" y="60"/>
                  </a:lnTo>
                  <a:lnTo>
                    <a:pt x="45" y="75"/>
                  </a:lnTo>
                  <a:lnTo>
                    <a:pt x="37" y="83"/>
                  </a:lnTo>
                  <a:lnTo>
                    <a:pt x="21" y="85"/>
                  </a:lnTo>
                  <a:lnTo>
                    <a:pt x="0" y="79"/>
                  </a:lnTo>
                  <a:lnTo>
                    <a:pt x="11" y="69"/>
                  </a:lnTo>
                  <a:lnTo>
                    <a:pt x="19" y="57"/>
                  </a:lnTo>
                  <a:lnTo>
                    <a:pt x="25" y="45"/>
                  </a:lnTo>
                  <a:lnTo>
                    <a:pt x="31" y="34"/>
                  </a:lnTo>
                  <a:lnTo>
                    <a:pt x="37" y="24"/>
                  </a:lnTo>
                  <a:lnTo>
                    <a:pt x="45" y="13"/>
                  </a:lnTo>
                  <a:lnTo>
                    <a:pt x="55" y="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07080" y="5327280"/>
              <a:ext cx="168120" cy="101520"/>
            </a:xfrm>
            <a:custGeom>
              <a:avLst/>
              <a:gdLst/>
              <a:ahLst/>
              <a:rect l="l" t="t" r="r" b="b"/>
              <a:pathLst>
                <a:path w="106" h="64">
                  <a:moveTo>
                    <a:pt x="106" y="22"/>
                  </a:moveTo>
                  <a:lnTo>
                    <a:pt x="102" y="53"/>
                  </a:lnTo>
                  <a:lnTo>
                    <a:pt x="0" y="64"/>
                  </a:lnTo>
                  <a:lnTo>
                    <a:pt x="9" y="59"/>
                  </a:lnTo>
                  <a:lnTo>
                    <a:pt x="20" y="51"/>
                  </a:lnTo>
                  <a:lnTo>
                    <a:pt x="29" y="44"/>
                  </a:lnTo>
                  <a:lnTo>
                    <a:pt x="40" y="36"/>
                  </a:lnTo>
                  <a:lnTo>
                    <a:pt x="49" y="28"/>
                  </a:lnTo>
                  <a:lnTo>
                    <a:pt x="59" y="18"/>
                  </a:lnTo>
                  <a:lnTo>
                    <a:pt x="67" y="9"/>
                  </a:lnTo>
                  <a:lnTo>
                    <a:pt x="74" y="0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7"/>
                  </a:lnTo>
                  <a:lnTo>
                    <a:pt x="100" y="8"/>
                  </a:lnTo>
                  <a:lnTo>
                    <a:pt x="103" y="10"/>
                  </a:lnTo>
                  <a:lnTo>
                    <a:pt x="106" y="15"/>
                  </a:lnTo>
                  <a:lnTo>
                    <a:pt x="10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 txBox="1"/>
          <p:nvPr/>
        </p:nvSpPr>
        <p:spPr>
          <a:xfrm>
            <a:off x="1387440" y="1523880"/>
            <a:ext cx="6410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termin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ordina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71520" y="1454040"/>
            <a:ext cx="6648480" cy="4910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246560" y="1454040"/>
            <a:ext cx="12600" cy="16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3124080"/>
            <a:ext cx="60984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1880" y="1646280"/>
            <a:ext cx="2058120" cy="764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46560" y="2028960"/>
            <a:ext cx="3673440" cy="914400"/>
          </a:xfrm>
          <a:prstGeom prst="wedgeRectCallout">
            <a:avLst>
              <a:gd name="adj1" fmla="val -44078"/>
              <a:gd name="adj2" fmla="val 1590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roadway (E 0, W 0),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tone (N 0, S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71400" y="4173480"/>
            <a:ext cx="1522440" cy="1522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36640" y="1476360"/>
            <a:ext cx="7392960" cy="4950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43240" y="1746360"/>
            <a:ext cx="3448080" cy="714240"/>
          </a:xfrm>
          <a:prstGeom prst="wedgeRectCallout">
            <a:avLst>
              <a:gd name="adj1" fmla="val -74495"/>
              <a:gd name="adj2" fmla="val 4137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E. 19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, S. 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240" y="5446800"/>
            <a:ext cx="4051440" cy="725400"/>
          </a:xfrm>
          <a:prstGeom prst="wedgeRectCallout">
            <a:avLst>
              <a:gd name="adj1" fmla="val -18810"/>
              <a:gd name="adj2" fmla="val -24781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W. 18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, S. 6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)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90720" y="1476360"/>
            <a:ext cx="1309680" cy="2486160"/>
            <a:chOff x="1890720" y="1476360"/>
            <a:chExt cx="1309680" cy="2486160"/>
          </a:xfrm>
        </p:grpSpPr>
        <p:sp>
          <p:nvSpPr>
            <p:cNvPr id="214" name=""/>
            <p:cNvSpPr/>
            <p:nvPr/>
          </p:nvSpPr>
          <p:spPr>
            <a:xfrm>
              <a:off x="1890720" y="1476360"/>
              <a:ext cx="351000" cy="156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09680" y="2971800"/>
              <a:ext cx="990720" cy="990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561720" y="3200400"/>
            <a:ext cx="2058120" cy="764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uc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33240" y="1413000"/>
            <a:ext cx="1257480" cy="1257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8" name=""/>
          <p:cNvSpPr/>
          <p:nvPr/>
        </p:nvSpPr>
        <p:spPr>
          <a:xfrm>
            <a:off x="1839960" y="3962520"/>
            <a:ext cx="88920" cy="950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11560" y="5029200"/>
            <a:ext cx="88920" cy="954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58760" y="1476360"/>
            <a:ext cx="7170840" cy="495000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1058760" y="1447920"/>
            <a:ext cx="7178760" cy="5025960"/>
            <a:chOff x="1058760" y="1447920"/>
            <a:chExt cx="7178760" cy="5025960"/>
          </a:xfrm>
        </p:grpSpPr>
        <p:sp>
          <p:nvSpPr>
            <p:cNvPr id="223" name=""/>
            <p:cNvSpPr/>
            <p:nvPr/>
          </p:nvSpPr>
          <p:spPr>
            <a:xfrm>
              <a:off x="1066680" y="1498680"/>
              <a:ext cx="7170840" cy="49496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6520" y="147636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1447920"/>
              <a:ext cx="0" cy="494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780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5880" y="1447920"/>
              <a:ext cx="0" cy="494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900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3720" y="15238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7920" y="1511280"/>
              <a:ext cx="0" cy="495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6680" y="198108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58760" y="304812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58760" y="400212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58760" y="504360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8760" y="602280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760" y="4095720"/>
              <a:ext cx="6944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11960" y="4095720"/>
              <a:ext cx="6944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81600" y="4095720"/>
              <a:ext cx="6944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91840" y="4095720"/>
              <a:ext cx="694440" cy="642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4520" y="2589120"/>
              <a:ext cx="1130040" cy="6426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5960" y="3681360"/>
              <a:ext cx="1130040" cy="6426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64520" y="4722840"/>
              <a:ext cx="1130040" cy="6426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1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00880" y="5702400"/>
              <a:ext cx="1130040" cy="6426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73880" y="1673280"/>
              <a:ext cx="1130040" cy="6426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24560" y="1979640"/>
              <a:ext cx="2504880" cy="1251000"/>
            </a:xfrm>
            <a:prstGeom prst="borderCallout1">
              <a:avLst>
                <a:gd name="adj1" fmla="val 18750"/>
                <a:gd name="adj2" fmla="val -8333"/>
                <a:gd name="adj3" fmla="val 83120"/>
                <a:gd name="adj4" fmla="val -81495"/>
              </a:avLst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  <a:headEnd len="med" type="triangle" w="med"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rner of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6,W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327480" y="2959200"/>
            <a:ext cx="209520" cy="20952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7156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71560" y="2201760"/>
            <a:ext cx="3063960" cy="3726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22320" y="1389240"/>
            <a:ext cx="6086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né Descartes (1596--16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05400" y="2201760"/>
            <a:ext cx="3746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He developed a new science, called analytic geometry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32440" y="4162320"/>
            <a:ext cx="4452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"I think, therefore I am.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968720" y="4040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6520" y="1525680"/>
            <a:ext cx="3836880" cy="1042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tesian Coordin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962840" y="3260880"/>
            <a:ext cx="476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91160" y="1300320"/>
            <a:ext cx="44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81640" y="3746520"/>
            <a:ext cx="209520" cy="2095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85760" y="4681440"/>
            <a:ext cx="2406600" cy="946080"/>
          </a:xfrm>
          <a:prstGeom prst="wedgeRoundRectCallout">
            <a:avLst>
              <a:gd name="adj1" fmla="val 94259"/>
              <a:gd name="adj2" fmla="val -13959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607640" y="2568600"/>
            <a:ext cx="1980720" cy="1245240"/>
            <a:chOff x="4607640" y="2568600"/>
            <a:chExt cx="1980720" cy="1245240"/>
          </a:xfrm>
        </p:grpSpPr>
        <p:sp>
          <p:nvSpPr>
            <p:cNvPr id="267" name=""/>
            <p:cNvSpPr/>
            <p:nvPr/>
          </p:nvSpPr>
          <p:spPr>
            <a:xfrm rot="16071000">
              <a:off x="4510800" y="2748240"/>
              <a:ext cx="1166760" cy="930240"/>
            </a:xfrm>
            <a:custGeom>
              <a:avLst/>
              <a:gdLst>
                <a:gd name="textAreaLeft" fmla="*/ 326880 w 1166760"/>
                <a:gd name="textAreaRight" fmla="*/ 919440 w 1166760"/>
                <a:gd name="textAreaTop" fmla="*/ 599400 h 930240"/>
                <a:gd name="textAreaBottom" fmla="*/ 73332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053" y="9340"/>
                  </a:lnTo>
                  <a:lnTo>
                    <a:pt x="6053" y="13919"/>
                  </a:lnTo>
                  <a:lnTo>
                    <a:pt x="13919" y="13919"/>
                  </a:lnTo>
                  <a:lnTo>
                    <a:pt x="13919" y="6053"/>
                  </a:lnTo>
                  <a:lnTo>
                    <a:pt x="9340" y="6053"/>
                  </a:lnTo>
                  <a:lnTo>
                    <a:pt x="15470" y="0"/>
                  </a:lnTo>
                  <a:lnTo>
                    <a:pt x="21600" y="6053"/>
                  </a:lnTo>
                  <a:lnTo>
                    <a:pt x="17021" y="6053"/>
                  </a:lnTo>
                  <a:lnTo>
                    <a:pt x="17021" y="17021"/>
                  </a:lnTo>
                  <a:lnTo>
                    <a:pt x="6053" y="17021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95680" y="2568600"/>
              <a:ext cx="119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973840" y="1525680"/>
            <a:ext cx="1969920" cy="730080"/>
          </a:xfrm>
          <a:prstGeom prst="wedgeRoundRectCallout">
            <a:avLst>
              <a:gd name="adj1" fmla="val -117768"/>
              <a:gd name="adj2" fmla="val 5260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73840" y="5086440"/>
            <a:ext cx="1969920" cy="730080"/>
          </a:xfrm>
          <a:prstGeom prst="wedgeRoundRectCallout">
            <a:avLst>
              <a:gd name="adj1" fmla="val -44921"/>
              <a:gd name="adj2" fmla="val -21412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7:11Z</dcterms:modified>
  <cp:revision>399</cp:revision>
  <dc:subject/>
  <dc:title>PowerPoint Presentation</dc:title>
</cp:coreProperties>
</file>