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426720" y="457200"/>
            <a:ext cx="21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12  Unit 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71800" y="1930320"/>
            <a:ext cx="2743200" cy="3251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2" name=""/>
          <p:cNvSpPr/>
          <p:nvPr/>
        </p:nvSpPr>
        <p:spPr>
          <a:xfrm>
            <a:off x="744480" y="1676520"/>
            <a:ext cx="210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cc"/>
                </a:solidFill>
                <a:latin typeface="Comic Sans MS"/>
              </a:rPr>
              <a:t>Per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89960" y="3657600"/>
            <a:ext cx="264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9900"/>
                </a:solidFill>
                <a:latin typeface="Comic Sans MS"/>
              </a:rPr>
              <a:t>cen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692440" y="673200"/>
            <a:ext cx="37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ing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998640" y="2346480"/>
            <a:ext cx="6902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6000" spc="-1" strike="noStrike">
                <a:solidFill>
                  <a:srgbClr val="0000ff"/>
                </a:solidFill>
                <a:latin typeface="Comic Sans MS"/>
              </a:rPr>
              <a:t>     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of             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s  a                     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1994040" y="1863720"/>
            <a:ext cx="1625400" cy="146052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5159520" y="1943280"/>
            <a:ext cx="3520800" cy="161748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3"/>
          <a:stretch/>
        </p:blipFill>
        <p:spPr>
          <a:xfrm>
            <a:off x="3476520" y="4270320"/>
            <a:ext cx="2667240" cy="216684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896400" y="3657600"/>
            <a:ext cx="73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ord following “of” is the WH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7010280" y="2742840"/>
            <a:ext cx="533520" cy="12193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2692440" y="673200"/>
            <a:ext cx="37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ing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908360" y="1454040"/>
            <a:ext cx="536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One possibility is 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86000" y="3537000"/>
            <a:ext cx="184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iven wh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551480" y="2238480"/>
            <a:ext cx="0" cy="23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301480" y="2468520"/>
            <a:ext cx="226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301840" y="2455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76600" y="3535200"/>
            <a:ext cx="199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Missing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P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49680" y="2449440"/>
            <a:ext cx="0" cy="9144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4533480" y="2459160"/>
            <a:ext cx="3351600" cy="2268720"/>
            <a:chOff x="4533480" y="2459160"/>
            <a:chExt cx="3351600" cy="2268720"/>
          </a:xfrm>
        </p:grpSpPr>
        <p:sp>
          <p:nvSpPr>
            <p:cNvPr id="405" name=""/>
            <p:cNvSpPr/>
            <p:nvPr/>
          </p:nvSpPr>
          <p:spPr>
            <a:xfrm>
              <a:off x="5872320" y="3536640"/>
              <a:ext cx="2012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Given</a:t>
              </a:r>
              <a:br>
                <a:rPr sz="3600"/>
              </a:b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percen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4533480" y="2459160"/>
              <a:ext cx="2265480" cy="914040"/>
              <a:chOff x="4533480" y="2459160"/>
              <a:chExt cx="2265480" cy="914040"/>
            </a:xfrm>
          </p:grpSpPr>
          <p:sp>
            <p:nvSpPr>
              <p:cNvPr id="407" name=""/>
              <p:cNvSpPr/>
              <p:nvPr/>
            </p:nvSpPr>
            <p:spPr>
              <a:xfrm flipH="1">
                <a:off x="4533480" y="2468520"/>
                <a:ext cx="2265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781680" y="2459160"/>
                <a:ext cx="0" cy="91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9" name=""/>
          <p:cNvSpPr/>
          <p:nvPr/>
        </p:nvSpPr>
        <p:spPr>
          <a:xfrm>
            <a:off x="1366920" y="4896000"/>
            <a:ext cx="6721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iven whole and perc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d the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part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2523960" y="689040"/>
            <a:ext cx="42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20000" y="1353960"/>
            <a:ext cx="770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85%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120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what numbe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1547640" y="1933560"/>
            <a:ext cx="5239080" cy="1283760"/>
            <a:chOff x="1547640" y="1933560"/>
            <a:chExt cx="5239080" cy="1283760"/>
          </a:xfrm>
        </p:grpSpPr>
        <p:sp>
          <p:nvSpPr>
            <p:cNvPr id="413" name=""/>
            <p:cNvSpPr/>
            <p:nvPr/>
          </p:nvSpPr>
          <p:spPr>
            <a:xfrm>
              <a:off x="1952640" y="2300400"/>
              <a:ext cx="483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85%</a:t>
              </a: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 • </a:t>
              </a: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120</a:t>
              </a: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547640" y="2017800"/>
              <a:ext cx="703440" cy="46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550960" y="1933560"/>
              <a:ext cx="1276560" cy="65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28880" y="1968480"/>
              <a:ext cx="839880" cy="45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267080" y="1968480"/>
              <a:ext cx="1371600" cy="585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324480" y="2057400"/>
              <a:ext cx="184320" cy="46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1213200" y="3489480"/>
            <a:ext cx="659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nge percent to decim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138400" y="4572000"/>
            <a:ext cx="483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.85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• </a:t>
            </a:r>
            <a:r>
              <a:rPr b="0" lang="en-US" sz="5400" spc="-1" strike="noStrike">
                <a:solidFill>
                  <a:srgbClr val="808080"/>
                </a:solidFill>
                <a:latin typeface="Comic Sans MS"/>
              </a:rPr>
              <a:t>120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720000" y="1353960"/>
            <a:ext cx="770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85%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120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what numbe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138400" y="2438280"/>
            <a:ext cx="483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.85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• </a:t>
            </a:r>
            <a:r>
              <a:rPr b="0" lang="en-US" sz="5400" spc="-1" strike="noStrike">
                <a:solidFill>
                  <a:srgbClr val="808080"/>
                </a:solidFill>
                <a:latin typeface="Comic Sans MS"/>
              </a:rPr>
              <a:t>120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38400" y="3505320"/>
            <a:ext cx="483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102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252520" y="4648320"/>
            <a:ext cx="483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n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10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523960" y="689040"/>
            <a:ext cx="42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75480" y="1353960"/>
            <a:ext cx="857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22 ½ %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34.6 is 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what numbe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85960" y="2209680"/>
            <a:ext cx="719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22 ½ %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4.6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37240" y="4251240"/>
            <a:ext cx="659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nge percent to decim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295280" y="502920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.225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• 34.6 = </a:t>
            </a: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85960" y="3124080"/>
            <a:ext cx="719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22.5 %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4.6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523960" y="689040"/>
            <a:ext cx="42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75480" y="1353960"/>
            <a:ext cx="857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22 ½ %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34.6 is 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what numbe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19320" y="2590920"/>
            <a:ext cx="67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.225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• 34.6 = </a:t>
            </a: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219320" y="3886200"/>
            <a:ext cx="67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7.785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295280" y="518148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n</a:t>
            </a: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7.78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523960" y="700200"/>
            <a:ext cx="42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346320" y="1353960"/>
            <a:ext cx="86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0.003 %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102 is 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what numbe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85960" y="1981080"/>
            <a:ext cx="719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0.003 %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02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060920" y="2895480"/>
            <a:ext cx="659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nge percent to decim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66680" y="518148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.00003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• 102 = </a:t>
            </a: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2847240" y="3336840"/>
            <a:ext cx="3004560" cy="1540080"/>
            <a:chOff x="2847240" y="3336840"/>
            <a:chExt cx="3004560" cy="1540080"/>
          </a:xfrm>
        </p:grpSpPr>
        <p:grpSp>
          <p:nvGrpSpPr>
            <p:cNvPr id="442" name=""/>
            <p:cNvGrpSpPr/>
            <p:nvPr/>
          </p:nvGrpSpPr>
          <p:grpSpPr>
            <a:xfrm>
              <a:off x="2847240" y="3733920"/>
              <a:ext cx="3004560" cy="1143000"/>
              <a:chOff x="2847240" y="3733920"/>
              <a:chExt cx="3004560" cy="1143000"/>
            </a:xfrm>
          </p:grpSpPr>
          <p:sp>
            <p:nvSpPr>
              <p:cNvPr id="443" name=""/>
              <p:cNvSpPr/>
              <p:nvPr/>
            </p:nvSpPr>
            <p:spPr>
              <a:xfrm>
                <a:off x="2847240" y="3733920"/>
                <a:ext cx="30045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3333cc"/>
                    </a:solidFill>
                    <a:latin typeface="Comic Sans MS"/>
                  </a:rPr>
                  <a:t>0 0 0 0.003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4267080" y="4419720"/>
                <a:ext cx="533520" cy="457200"/>
              </a:xfrm>
              <a:custGeom>
                <a:avLst/>
                <a:gdLst>
                  <a:gd name="textAreaLeft" fmla="*/ 99360 w 533520"/>
                  <a:gd name="textAreaRight" fmla="*/ 380880 w 533520"/>
                  <a:gd name="textAreaTop" fmla="*/ 61200 h 457200"/>
                  <a:gd name="textAreaBottom" fmla="*/ 39600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8055" hR="21600" stAng="10800000" swAng="-5400000"/>
                    <a:lnTo>
                      <a:pt x="11385" y="21600"/>
                    </a:lnTo>
                    <a:arcTo wR="8055" hR="21600" stAng="5400000" swAng="-2791608"/>
                    <a:lnTo>
                      <a:pt x="21139" y="7200"/>
                    </a:lnTo>
                    <a:lnTo>
                      <a:pt x="17775" y="0"/>
                    </a:lnTo>
                    <a:lnTo>
                      <a:pt x="13489" y="7200"/>
                    </a:lnTo>
                    <a:lnTo>
                      <a:pt x="15649" y="7200"/>
                    </a:lnTo>
                    <a:arcTo wR="8055" hR="21600" stAng="2608392" swAng="2521324"/>
                    <a:lnTo>
                      <a:pt x="9720" y="21134"/>
                    </a:lnTo>
                    <a:arcTo wR="8055" hR="21600" stAng="5670284" swAng="5129716"/>
                    <a:close/>
                  </a:path>
                  <a:path fill="darkenLess" w="21600" h="21600">
                    <a:moveTo>
                      <a:pt x="0" y="0"/>
                    </a:moveTo>
                    <a:arcTo wR="8055" hR="21600" stAng="10800000" swAng="-5400000"/>
                    <a:lnTo>
                      <a:pt x="11385" y="21600"/>
                    </a:lnTo>
                    <a:arcTo wR="8055" hR="21600" stAng="5400000" swAng="270284"/>
                    <a:lnTo>
                      <a:pt x="9720" y="21134"/>
                    </a:lnTo>
                    <a:arcTo wR="8055" hR="21600" stAng="5670284" swAng="5129716"/>
                    <a:close/>
                  </a:path>
                </a:pathLst>
              </a:cu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3733200" y="4419720"/>
                <a:ext cx="533160" cy="457200"/>
              </a:xfrm>
              <a:custGeom>
                <a:avLst/>
                <a:gdLst>
                  <a:gd name="textAreaLeft" fmla="*/ 99360 w 533160"/>
                  <a:gd name="textAreaRight" fmla="*/ 380520 w 533160"/>
                  <a:gd name="textAreaTop" fmla="*/ 61200 h 457200"/>
                  <a:gd name="textAreaBottom" fmla="*/ 39600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8055" hR="21600" stAng="10800000" swAng="-5400000"/>
                    <a:lnTo>
                      <a:pt x="11385" y="21600"/>
                    </a:lnTo>
                    <a:arcTo wR="8055" hR="21600" stAng="5400000" swAng="-2791608"/>
                    <a:lnTo>
                      <a:pt x="21139" y="7200"/>
                    </a:lnTo>
                    <a:lnTo>
                      <a:pt x="17775" y="0"/>
                    </a:lnTo>
                    <a:lnTo>
                      <a:pt x="13489" y="7200"/>
                    </a:lnTo>
                    <a:lnTo>
                      <a:pt x="15649" y="7200"/>
                    </a:lnTo>
                    <a:arcTo wR="8055" hR="21600" stAng="2608392" swAng="2521324"/>
                    <a:lnTo>
                      <a:pt x="9720" y="21134"/>
                    </a:lnTo>
                    <a:arcTo wR="8055" hR="21600" stAng="5670284" swAng="5129716"/>
                    <a:close/>
                  </a:path>
                  <a:path fill="darkenLess" w="21600" h="21600">
                    <a:moveTo>
                      <a:pt x="0" y="0"/>
                    </a:moveTo>
                    <a:arcTo wR="8055" hR="21600" stAng="10800000" swAng="-5400000"/>
                    <a:lnTo>
                      <a:pt x="11385" y="21600"/>
                    </a:lnTo>
                    <a:arcTo wR="8055" hR="21600" stAng="5400000" swAng="270284"/>
                    <a:lnTo>
                      <a:pt x="9720" y="21134"/>
                    </a:lnTo>
                    <a:arcTo wR="8055" hR="21600" stAng="5670284" swAng="5129716"/>
                    <a:close/>
                  </a:path>
                </a:pathLst>
              </a:cu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3506400" y="3336840"/>
              <a:ext cx="453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3333cc"/>
                  </a:solidFill>
                  <a:latin typeface="Comic Sans MS"/>
                </a:rPr>
                <a:t>.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523960" y="689040"/>
            <a:ext cx="42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46320" y="1353960"/>
            <a:ext cx="86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0.003 %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102 is 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what numbe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066680" y="236232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.00003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• 102 = </a:t>
            </a: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066680" y="373392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0.00306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066680" y="502920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n  = 0.0030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23960" y="689040"/>
            <a:ext cx="42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411120" y="135396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15%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$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12.35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what numbe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85960" y="2300400"/>
            <a:ext cx="719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15%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• $</a:t>
            </a:r>
            <a:r>
              <a:rPr b="0" lang="en-US" sz="5400" spc="-1" strike="noStrike">
                <a:solidFill>
                  <a:srgbClr val="808080"/>
                </a:solidFill>
                <a:latin typeface="Comic Sans MS"/>
              </a:rPr>
              <a:t>12.35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13200" y="3489480"/>
            <a:ext cx="659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nge percent to decim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676520" y="4572000"/>
            <a:ext cx="559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.15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• $</a:t>
            </a:r>
            <a:r>
              <a:rPr b="0" lang="en-US" sz="5400" spc="-1" strike="noStrike">
                <a:solidFill>
                  <a:srgbClr val="808080"/>
                </a:solidFill>
                <a:latin typeface="Comic Sans MS"/>
              </a:rPr>
              <a:t>12.35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523960" y="689040"/>
            <a:ext cx="42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411120" y="135396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15%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$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12.35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what numbe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722600" y="2362320"/>
            <a:ext cx="559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.15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• $</a:t>
            </a:r>
            <a:r>
              <a:rPr b="0" lang="en-US" sz="5400" spc="-1" strike="noStrike">
                <a:solidFill>
                  <a:srgbClr val="808080"/>
                </a:solidFill>
                <a:latin typeface="Comic Sans MS"/>
              </a:rPr>
              <a:t>12.35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874880" y="3733920"/>
            <a:ext cx="559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$</a:t>
            </a:r>
            <a:r>
              <a:rPr b="0" lang="en-US" sz="5400" spc="-1" strike="noStrike">
                <a:solidFill>
                  <a:srgbClr val="808080"/>
                </a:solidFill>
                <a:latin typeface="Comic Sans MS"/>
              </a:rPr>
              <a:t>1.85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874880" y="5029200"/>
            <a:ext cx="559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n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= $</a:t>
            </a:r>
            <a:r>
              <a:rPr b="0" lang="en-US" sz="5400" spc="-1" strike="noStrike">
                <a:solidFill>
                  <a:srgbClr val="808080"/>
                </a:solidFill>
                <a:latin typeface="Comic Sans MS"/>
              </a:rPr>
              <a:t>1.8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523960" y="689040"/>
            <a:ext cx="42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45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57200" y="14479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2286000"/>
            <a:ext cx="57913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y the elements of a percent sen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nslate percent sentences into mathematical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92440" y="689040"/>
            <a:ext cx="37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649440" y="2438280"/>
            <a:ext cx="2666880" cy="23068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2228400" y="1219320"/>
            <a:ext cx="491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t the restaurant …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70360" y="2346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581280" y="2438280"/>
            <a:ext cx="4800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he check is for $43.78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How much tip should I le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377000" y="5334120"/>
            <a:ext cx="650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ypically 15% of the chec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523960" y="689040"/>
            <a:ext cx="42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525600" y="2895480"/>
            <a:ext cx="2666880" cy="230688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2228400" y="1219320"/>
            <a:ext cx="491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t the restaurant …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33520" y="2057400"/>
            <a:ext cx="352080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5% of $43.7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461480" y="1995480"/>
            <a:ext cx="400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5% =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10%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4000" spc="-1" strike="noStrike">
                <a:solidFill>
                  <a:srgbClr val="cc66ff"/>
                </a:solidFill>
                <a:latin typeface="Comic Sans MS"/>
              </a:rPr>
              <a:t>5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714920" y="2868480"/>
            <a:ext cx="147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$4.3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6227640" y="2852640"/>
            <a:ext cx="2053440" cy="719280"/>
            <a:chOff x="6227640" y="2852640"/>
            <a:chExt cx="2053440" cy="719280"/>
          </a:xfrm>
        </p:grpSpPr>
        <p:sp>
          <p:nvSpPr>
            <p:cNvPr id="475" name=""/>
            <p:cNvSpPr/>
            <p:nvPr/>
          </p:nvSpPr>
          <p:spPr>
            <a:xfrm>
              <a:off x="6806520" y="2868480"/>
              <a:ext cx="1474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c66ff"/>
                  </a:solidFill>
                  <a:latin typeface="Comic Sans MS"/>
                </a:rPr>
                <a:t>$2.1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227640" y="285264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2197080" y="5638680"/>
            <a:ext cx="517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$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4.50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$</a:t>
            </a:r>
            <a:r>
              <a:rPr b="0" lang="en-US" sz="4000" spc="-1" strike="noStrike">
                <a:solidFill>
                  <a:srgbClr val="cc66ff"/>
                </a:solidFill>
                <a:latin typeface="Comic Sans MS"/>
              </a:rPr>
              <a:t>2.00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$6.5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42480" y="3570120"/>
            <a:ext cx="377712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ve decimal poi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over one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½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imate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523960" y="689040"/>
            <a:ext cx="42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685800" y="3108240"/>
            <a:ext cx="1795320" cy="262260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533520" y="1447920"/>
            <a:ext cx="2133360" cy="1277640"/>
          </a:xfrm>
          <a:prstGeom prst="wedgeRoundRectCallout">
            <a:avLst>
              <a:gd name="adj1" fmla="val 1115"/>
              <a:gd name="adj2" fmla="val 96333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$8.40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le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278160" y="1447920"/>
            <a:ext cx="322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15% of $8.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098160" y="2270160"/>
            <a:ext cx="316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0% = $0.84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347640" y="3032280"/>
            <a:ext cx="27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% = $0.4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419880" y="2241720"/>
            <a:ext cx="201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Symbol"/>
                <a:ea typeface="Symbol"/>
              </a:rPr>
              <a:t>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$0.9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419880" y="3016080"/>
            <a:ext cx="201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Symbol"/>
                <a:ea typeface="Symbol"/>
              </a:rPr>
              <a:t>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$0.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058200" y="4495680"/>
            <a:ext cx="405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Tip = $1.3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523960" y="689040"/>
            <a:ext cx="42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2229480" y="121932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t the car dealer …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70360" y="2346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81280" y="1965240"/>
            <a:ext cx="4800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new car costs $24,599.  Find the 7% sales tax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609480" y="1851120"/>
            <a:ext cx="2743200" cy="215748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1132560" y="4327560"/>
            <a:ext cx="687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% of $24,599 is how mu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64000" y="5364000"/>
            <a:ext cx="411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.07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$24,599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581280" y="1965240"/>
            <a:ext cx="4800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new car costs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$24,599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Find the 7%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sales tax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23960" y="689040"/>
            <a:ext cx="42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1064160" y="1523880"/>
            <a:ext cx="687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% of $24,599 is how mu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95960" y="2286000"/>
            <a:ext cx="411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.07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$24,599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195640" y="3124080"/>
            <a:ext cx="458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n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 $1721.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617840" y="4098960"/>
            <a:ext cx="574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st of car = price + ta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75760" y="4967280"/>
            <a:ext cx="51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$24,599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$1721.93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$26320.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523960" y="689040"/>
            <a:ext cx="42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908360" y="1454040"/>
            <a:ext cx="536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One possibility is 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386000" y="3537000"/>
            <a:ext cx="184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Missing wh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551480" y="2238480"/>
            <a:ext cx="0" cy="23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2301480" y="2468520"/>
            <a:ext cx="226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301840" y="2455920"/>
            <a:ext cx="0" cy="9144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576600" y="2449440"/>
            <a:ext cx="1990800" cy="2277000"/>
            <a:chOff x="3576600" y="2449440"/>
            <a:chExt cx="1990800" cy="2277000"/>
          </a:xfrm>
        </p:grpSpPr>
        <p:sp>
          <p:nvSpPr>
            <p:cNvPr id="509" name=""/>
            <p:cNvSpPr/>
            <p:nvPr/>
          </p:nvSpPr>
          <p:spPr>
            <a:xfrm>
              <a:off x="3576600" y="3535200"/>
              <a:ext cx="199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Given par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549680" y="244944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4533480" y="2459160"/>
            <a:ext cx="3351600" cy="2268720"/>
            <a:chOff x="4533480" y="2459160"/>
            <a:chExt cx="3351600" cy="2268720"/>
          </a:xfrm>
        </p:grpSpPr>
        <p:sp>
          <p:nvSpPr>
            <p:cNvPr id="512" name=""/>
            <p:cNvSpPr/>
            <p:nvPr/>
          </p:nvSpPr>
          <p:spPr>
            <a:xfrm>
              <a:off x="5872320" y="3536640"/>
              <a:ext cx="2012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Given</a:t>
              </a:r>
              <a:br>
                <a:rPr sz="3600"/>
              </a:b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percen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4533480" y="2459160"/>
              <a:ext cx="2265480" cy="914040"/>
              <a:chOff x="4533480" y="2459160"/>
              <a:chExt cx="2265480" cy="914040"/>
            </a:xfrm>
          </p:grpSpPr>
          <p:sp>
            <p:nvSpPr>
              <p:cNvPr id="514" name=""/>
              <p:cNvSpPr/>
              <p:nvPr/>
            </p:nvSpPr>
            <p:spPr>
              <a:xfrm flipH="1">
                <a:off x="4533480" y="2468520"/>
                <a:ext cx="2265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781680" y="2459160"/>
                <a:ext cx="0" cy="91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6" name=""/>
          <p:cNvSpPr/>
          <p:nvPr/>
        </p:nvSpPr>
        <p:spPr>
          <a:xfrm>
            <a:off x="1610640" y="4896000"/>
            <a:ext cx="622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iven part and perc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d the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whole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23960" y="689040"/>
            <a:ext cx="42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871560" y="1353960"/>
            <a:ext cx="738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10%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what numbe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20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1547640" y="1943280"/>
            <a:ext cx="5794200" cy="1274040"/>
            <a:chOff x="1547640" y="1943280"/>
            <a:chExt cx="5794200" cy="1274040"/>
          </a:xfrm>
        </p:grpSpPr>
        <p:sp>
          <p:nvSpPr>
            <p:cNvPr id="520" name=""/>
            <p:cNvSpPr/>
            <p:nvPr/>
          </p:nvSpPr>
          <p:spPr>
            <a:xfrm>
              <a:off x="1952640" y="2300400"/>
              <a:ext cx="483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10%</a:t>
              </a: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 • </a:t>
              </a: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n</a:t>
              </a: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2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547640" y="2017800"/>
              <a:ext cx="1292400" cy="42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676600" y="2008080"/>
              <a:ext cx="1212840" cy="57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4556160" y="1943280"/>
              <a:ext cx="550800" cy="64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5195880" y="2004840"/>
              <a:ext cx="1387440" cy="54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6324120" y="2036880"/>
              <a:ext cx="1017720" cy="54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1213200" y="3489480"/>
            <a:ext cx="659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nge percent to decim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138400" y="4572000"/>
            <a:ext cx="483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.10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• </a:t>
            </a: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n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5400" spc="-1" strike="noStrike">
                <a:solidFill>
                  <a:srgbClr val="808080"/>
                </a:solidFill>
                <a:latin typeface="Comic Sans MS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23960" y="689040"/>
            <a:ext cx="42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871560" y="1353960"/>
            <a:ext cx="738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10%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what numbe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20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481120" y="2286000"/>
            <a:ext cx="285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.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2481840" y="3200400"/>
            <a:ext cx="3967920" cy="916920"/>
            <a:chOff x="2481840" y="3200400"/>
            <a:chExt cx="3967920" cy="916920"/>
          </a:xfrm>
        </p:grpSpPr>
        <p:sp>
          <p:nvSpPr>
            <p:cNvPr id="532" name=""/>
            <p:cNvSpPr/>
            <p:nvPr/>
          </p:nvSpPr>
          <p:spPr>
            <a:xfrm>
              <a:off x="2514600" y="3200400"/>
              <a:ext cx="108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2481840" y="3200400"/>
              <a:ext cx="3967920" cy="916920"/>
              <a:chOff x="2481840" y="3200400"/>
              <a:chExt cx="3967920" cy="916920"/>
            </a:xfrm>
          </p:grpSpPr>
          <p:sp>
            <p:nvSpPr>
              <p:cNvPr id="534" name=""/>
              <p:cNvSpPr/>
              <p:nvPr/>
            </p:nvSpPr>
            <p:spPr>
              <a:xfrm>
                <a:off x="2481840" y="3200400"/>
                <a:ext cx="1148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3333cc"/>
                    </a:solidFill>
                    <a:latin typeface="Comic Sans MS"/>
                  </a:rPr>
                  <a:t>.10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334120" y="3200400"/>
                <a:ext cx="1082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301360" y="3200400"/>
                <a:ext cx="1148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3333cc"/>
                    </a:solidFill>
                    <a:latin typeface="Comic Sans MS"/>
                  </a:rPr>
                  <a:t>.10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7" name=""/>
          <p:cNvSpPr/>
          <p:nvPr/>
        </p:nvSpPr>
        <p:spPr>
          <a:xfrm>
            <a:off x="5407560" y="220968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Comic Sans MS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615480" y="2286000"/>
            <a:ext cx="16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n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2552400" y="4343400"/>
            <a:ext cx="2300040" cy="2136240"/>
            <a:chOff x="2552400" y="4343400"/>
            <a:chExt cx="2300040" cy="2136240"/>
          </a:xfrm>
        </p:grpSpPr>
        <p:sp>
          <p:nvSpPr>
            <p:cNvPr id="540" name=""/>
            <p:cNvSpPr/>
            <p:nvPr/>
          </p:nvSpPr>
          <p:spPr>
            <a:xfrm>
              <a:off x="2552400" y="4876920"/>
              <a:ext cx="1174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n</a:t>
              </a: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 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736800" y="5334120"/>
              <a:ext cx="108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04040" y="5562720"/>
              <a:ext cx="1148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.1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810600" y="434340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2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5242320" y="4876920"/>
            <a:ext cx="210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mic Sans MS"/>
              </a:rPr>
              <a:t>=  2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523960" y="689040"/>
            <a:ext cx="42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872280" y="1353960"/>
            <a:ext cx="738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22%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what numbe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67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1547640" y="1943280"/>
            <a:ext cx="5794200" cy="1274040"/>
            <a:chOff x="1547640" y="1943280"/>
            <a:chExt cx="5794200" cy="1274040"/>
          </a:xfrm>
        </p:grpSpPr>
        <p:sp>
          <p:nvSpPr>
            <p:cNvPr id="548" name=""/>
            <p:cNvSpPr/>
            <p:nvPr/>
          </p:nvSpPr>
          <p:spPr>
            <a:xfrm>
              <a:off x="1547640" y="2017800"/>
              <a:ext cx="1292400" cy="42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676600" y="2008080"/>
              <a:ext cx="1212840" cy="57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1952640" y="1943280"/>
              <a:ext cx="5389200" cy="1274040"/>
              <a:chOff x="1952640" y="1943280"/>
              <a:chExt cx="5389200" cy="1274040"/>
            </a:xfrm>
          </p:grpSpPr>
          <p:sp>
            <p:nvSpPr>
              <p:cNvPr id="551" name=""/>
              <p:cNvSpPr/>
              <p:nvPr/>
            </p:nvSpPr>
            <p:spPr>
              <a:xfrm>
                <a:off x="1952640" y="2300400"/>
                <a:ext cx="4834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3333cc"/>
                    </a:solidFill>
                    <a:latin typeface="Comic Sans MS"/>
                  </a:rPr>
                  <a:t>22%</a:t>
                </a:r>
                <a:r>
                  <a:rPr b="0" lang="en-US" sz="5400" spc="-1" strike="noStrike">
                    <a:solidFill>
                      <a:srgbClr val="000000"/>
                    </a:solidFill>
                    <a:latin typeface="Comic Sans MS"/>
                  </a:rPr>
                  <a:t> • </a:t>
                </a:r>
                <a:r>
                  <a:rPr b="0" lang="en-US" sz="5400" spc="-1" strike="noStrike">
                    <a:solidFill>
                      <a:srgbClr val="00cc99"/>
                    </a:solidFill>
                    <a:latin typeface="Comic Sans MS"/>
                  </a:rPr>
                  <a:t>n</a:t>
                </a:r>
                <a:r>
                  <a:rPr b="0" lang="en-US" sz="5400" spc="-1" strike="noStrike">
                    <a:solidFill>
                      <a:srgbClr val="000000"/>
                    </a:solidFill>
                    <a:latin typeface="Comic Sans MS"/>
                  </a:rPr>
                  <a:t> = </a:t>
                </a:r>
                <a:r>
                  <a:rPr b="0" lang="en-US" sz="5400" spc="-1" strike="noStrike">
                    <a:solidFill>
                      <a:srgbClr val="808080"/>
                    </a:solidFill>
                    <a:latin typeface="Comic Sans MS"/>
                  </a:rPr>
                  <a:t>67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4556160" y="1943280"/>
                <a:ext cx="550800" cy="642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5195880" y="2004840"/>
                <a:ext cx="1387440" cy="549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6324120" y="2036880"/>
                <a:ext cx="1017720" cy="549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5" name=""/>
          <p:cNvSpPr/>
          <p:nvPr/>
        </p:nvSpPr>
        <p:spPr>
          <a:xfrm>
            <a:off x="1213200" y="3489480"/>
            <a:ext cx="659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nge percent to decim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138400" y="4572000"/>
            <a:ext cx="483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.22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• </a:t>
            </a: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n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5400" spc="-1" strike="noStrike">
                <a:solidFill>
                  <a:srgbClr val="808080"/>
                </a:solidFill>
                <a:latin typeface="Comic Sans MS"/>
              </a:rPr>
              <a:t>6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523960" y="689040"/>
            <a:ext cx="42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872280" y="1353960"/>
            <a:ext cx="738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22%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what numbe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67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481120" y="2286000"/>
            <a:ext cx="285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.2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2481840" y="3200400"/>
            <a:ext cx="3967560" cy="916920"/>
            <a:chOff x="2481840" y="3200400"/>
            <a:chExt cx="3967560" cy="916920"/>
          </a:xfrm>
        </p:grpSpPr>
        <p:sp>
          <p:nvSpPr>
            <p:cNvPr id="561" name=""/>
            <p:cNvSpPr/>
            <p:nvPr/>
          </p:nvSpPr>
          <p:spPr>
            <a:xfrm>
              <a:off x="2481840" y="3200400"/>
              <a:ext cx="1148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.2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514600" y="3200400"/>
              <a:ext cx="108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334120" y="3200400"/>
              <a:ext cx="108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1000" y="3200400"/>
              <a:ext cx="1148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.2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5407560" y="220968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Comic Sans MS"/>
              </a:rPr>
              <a:t>6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615480" y="2286000"/>
            <a:ext cx="16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n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2552400" y="4343400"/>
            <a:ext cx="2300040" cy="2136240"/>
            <a:chOff x="2552400" y="4343400"/>
            <a:chExt cx="2300040" cy="2136240"/>
          </a:xfrm>
        </p:grpSpPr>
        <p:sp>
          <p:nvSpPr>
            <p:cNvPr id="568" name=""/>
            <p:cNvSpPr/>
            <p:nvPr/>
          </p:nvSpPr>
          <p:spPr>
            <a:xfrm>
              <a:off x="2552400" y="4876920"/>
              <a:ext cx="1174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n</a:t>
              </a: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 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736800" y="5334120"/>
              <a:ext cx="108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704040" y="5562720"/>
              <a:ext cx="1148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.2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0600" y="4343400"/>
              <a:ext cx="96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67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5088600" y="4876920"/>
            <a:ext cx="3071880" cy="916920"/>
            <a:chOff x="5088600" y="4876920"/>
            <a:chExt cx="3071880" cy="916920"/>
          </a:xfrm>
        </p:grpSpPr>
        <p:sp>
          <p:nvSpPr>
            <p:cNvPr id="573" name=""/>
            <p:cNvSpPr/>
            <p:nvPr/>
          </p:nvSpPr>
          <p:spPr>
            <a:xfrm>
              <a:off x="5088600" y="4876920"/>
              <a:ext cx="3071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cc33"/>
                  </a:solidFill>
                  <a:latin typeface="Comic Sans MS"/>
                </a:rPr>
                <a:t>=  304.5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315200" y="4876920"/>
              <a:ext cx="76212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2523960" y="689040"/>
            <a:ext cx="42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06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57200" y="14479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286000"/>
            <a:ext cx="558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percent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92440" y="689040"/>
            <a:ext cx="37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886680" y="1219320"/>
            <a:ext cx="738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55 i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23% of 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what numbe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1335240" y="1866960"/>
            <a:ext cx="5451480" cy="1564560"/>
            <a:chOff x="1335240" y="1866960"/>
            <a:chExt cx="5451480" cy="1564560"/>
          </a:xfrm>
        </p:grpSpPr>
        <p:sp>
          <p:nvSpPr>
            <p:cNvPr id="578" name=""/>
            <p:cNvSpPr/>
            <p:nvPr/>
          </p:nvSpPr>
          <p:spPr>
            <a:xfrm>
              <a:off x="1952640" y="2514600"/>
              <a:ext cx="4834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55</a:t>
              </a: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23% </a:t>
              </a: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• </a:t>
              </a: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335240" y="1892160"/>
              <a:ext cx="1417320" cy="65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187720" y="1908000"/>
              <a:ext cx="1376280" cy="80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030480" y="1866960"/>
              <a:ext cx="1525680" cy="71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103640" y="1879560"/>
              <a:ext cx="1479600" cy="87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51520" y="1911240"/>
              <a:ext cx="222120" cy="81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1213200" y="3489480"/>
            <a:ext cx="659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nge percent to decim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138400" y="4572000"/>
            <a:ext cx="483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55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5400" spc="-1" strike="noStrike">
                <a:solidFill>
                  <a:srgbClr val="808080"/>
                </a:solidFill>
                <a:latin typeface="Comic Sans MS"/>
              </a:rPr>
              <a:t>.23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n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523960" y="689040"/>
            <a:ext cx="42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870840" y="1295280"/>
            <a:ext cx="738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55 i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23% of 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what numbe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057400" y="2133720"/>
            <a:ext cx="483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55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5400" spc="-1" strike="noStrike">
                <a:solidFill>
                  <a:srgbClr val="808080"/>
                </a:solidFill>
                <a:latin typeface="Comic Sans MS"/>
              </a:rPr>
              <a:t>.23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n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460960" y="3048120"/>
            <a:ext cx="2999880" cy="916920"/>
            <a:chOff x="2460960" y="3048120"/>
            <a:chExt cx="2999880" cy="916920"/>
          </a:xfrm>
        </p:grpSpPr>
        <p:sp>
          <p:nvSpPr>
            <p:cNvPr id="590" name=""/>
            <p:cNvSpPr/>
            <p:nvPr/>
          </p:nvSpPr>
          <p:spPr>
            <a:xfrm>
              <a:off x="4289760" y="3048120"/>
              <a:ext cx="1148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.2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460960" y="3048120"/>
              <a:ext cx="1148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808080"/>
                  </a:solidFill>
                  <a:latin typeface="Comic Sans MS"/>
                </a:rPr>
                <a:t>.2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267080" y="3048120"/>
              <a:ext cx="119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90920" y="3048120"/>
              <a:ext cx="119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2382480" y="4191120"/>
            <a:ext cx="403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239.31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00cc99"/>
                </a:solidFill>
                <a:latin typeface="Comic Sans MS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446200" y="5486400"/>
            <a:ext cx="448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Comic Sans MS"/>
              </a:rPr>
              <a:t>n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239.3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523960" y="689040"/>
            <a:ext cx="42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815400" y="1312920"/>
            <a:ext cx="77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26320.93 i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107% of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what numbe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600200" y="1868400"/>
            <a:ext cx="6048360" cy="1639080"/>
            <a:chOff x="1600200" y="1868400"/>
            <a:chExt cx="6048360" cy="1639080"/>
          </a:xfrm>
        </p:grpSpPr>
        <p:sp>
          <p:nvSpPr>
            <p:cNvPr id="599" name=""/>
            <p:cNvSpPr/>
            <p:nvPr/>
          </p:nvSpPr>
          <p:spPr>
            <a:xfrm>
              <a:off x="1600200" y="2743200"/>
              <a:ext cx="6048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26320.93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lang="en-US" sz="4400" spc="-1" strike="noStrike">
                  <a:solidFill>
                    <a:srgbClr val="808080"/>
                  </a:solidFill>
                  <a:latin typeface="Comic Sans MS"/>
                </a:rPr>
                <a:t>107% 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• </a:t>
              </a:r>
              <a:r>
                <a:rPr b="0" lang="en-US" sz="4400" spc="-1" strike="noStrike">
                  <a:solidFill>
                    <a:srgbClr val="00cc99"/>
                  </a:solidFill>
                  <a:latin typeface="Comic Sans MS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49600" y="1928880"/>
              <a:ext cx="1177920" cy="91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276720" y="1868400"/>
              <a:ext cx="1433520" cy="1065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114800" y="1892160"/>
              <a:ext cx="1525680" cy="86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257800" y="1908000"/>
              <a:ext cx="1479600" cy="107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72480" y="1892160"/>
              <a:ext cx="190440" cy="86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1213200" y="3581280"/>
            <a:ext cx="659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nge percent to decim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486080" y="4419720"/>
            <a:ext cx="605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26320.93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5400" spc="-1" strike="noStrike">
                <a:solidFill>
                  <a:srgbClr val="808080"/>
                </a:solidFill>
                <a:latin typeface="Comic Sans MS"/>
              </a:rPr>
              <a:t>1.07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n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638360" y="5334120"/>
            <a:ext cx="605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Comic Sans MS"/>
              </a:rPr>
              <a:t>1.07 </a:t>
            </a: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n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26320.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523960" y="689040"/>
            <a:ext cx="42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815400" y="1312920"/>
            <a:ext cx="77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26320.93 i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107% of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what numbe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523880" y="2438280"/>
            <a:ext cx="605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1.07 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26320.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2094840" y="3200400"/>
            <a:ext cx="4763160" cy="764280"/>
            <a:chOff x="2094840" y="3200400"/>
            <a:chExt cx="4763160" cy="764280"/>
          </a:xfrm>
        </p:grpSpPr>
        <p:sp>
          <p:nvSpPr>
            <p:cNvPr id="612" name=""/>
            <p:cNvSpPr/>
            <p:nvPr/>
          </p:nvSpPr>
          <p:spPr>
            <a:xfrm>
              <a:off x="5013000" y="3200400"/>
              <a:ext cx="1290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808080"/>
                  </a:solidFill>
                  <a:latin typeface="Comic Sans MS"/>
                </a:rPr>
                <a:t>1.07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094840" y="3200400"/>
              <a:ext cx="1290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808080"/>
                  </a:solidFill>
                  <a:latin typeface="Comic Sans MS"/>
                </a:rPr>
                <a:t>1.07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111400" y="3200400"/>
              <a:ext cx="108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419720" y="3200400"/>
              <a:ext cx="243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381400" y="4495680"/>
            <a:ext cx="406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Comic Sans MS"/>
              </a:rPr>
              <a:t>n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=  </a:t>
            </a:r>
            <a:r>
              <a:rPr b="0" lang="en-US" sz="6000" spc="-1" strike="noStrike">
                <a:solidFill>
                  <a:srgbClr val="00cc99"/>
                </a:solidFill>
                <a:latin typeface="Comic Sans MS"/>
              </a:rPr>
              <a:t>24,59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523960" y="689040"/>
            <a:ext cx="42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813600" y="131292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0.03 i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0.45%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what numbe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1600200" y="1892160"/>
            <a:ext cx="6048360" cy="1615320"/>
            <a:chOff x="1600200" y="1892160"/>
            <a:chExt cx="6048360" cy="1615320"/>
          </a:xfrm>
        </p:grpSpPr>
        <p:sp>
          <p:nvSpPr>
            <p:cNvPr id="620" name=""/>
            <p:cNvSpPr/>
            <p:nvPr/>
          </p:nvSpPr>
          <p:spPr>
            <a:xfrm>
              <a:off x="1600200" y="2743200"/>
              <a:ext cx="6048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0.03 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0.45%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• </a:t>
              </a:r>
              <a:r>
                <a:rPr b="0" lang="en-US" sz="4400" spc="-1" strike="noStrike">
                  <a:solidFill>
                    <a:srgbClr val="00cc99"/>
                  </a:solidFill>
                  <a:latin typeface="Comic Sans MS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749600" y="1928880"/>
              <a:ext cx="1177920" cy="91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300400" y="1954080"/>
              <a:ext cx="1609560" cy="97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351240" y="1908000"/>
              <a:ext cx="1538280" cy="91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253040" y="1908000"/>
              <a:ext cx="1579320" cy="106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095880" y="1892160"/>
              <a:ext cx="203400" cy="9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1410120" y="3505320"/>
            <a:ext cx="659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nge percent to decim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492200" y="5562720"/>
            <a:ext cx="605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0.0045 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0.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1600200" y="4282920"/>
            <a:ext cx="6048360" cy="977040"/>
            <a:chOff x="1600200" y="4282920"/>
            <a:chExt cx="6048360" cy="977040"/>
          </a:xfrm>
        </p:grpSpPr>
        <p:grpSp>
          <p:nvGrpSpPr>
            <p:cNvPr id="629" name=""/>
            <p:cNvGrpSpPr/>
            <p:nvPr/>
          </p:nvGrpSpPr>
          <p:grpSpPr>
            <a:xfrm>
              <a:off x="1600200" y="4282920"/>
              <a:ext cx="6048360" cy="925560"/>
              <a:chOff x="1600200" y="4282920"/>
              <a:chExt cx="6048360" cy="925560"/>
            </a:xfrm>
          </p:grpSpPr>
          <p:sp>
            <p:nvSpPr>
              <p:cNvPr id="630" name=""/>
              <p:cNvSpPr/>
              <p:nvPr/>
            </p:nvSpPr>
            <p:spPr>
              <a:xfrm>
                <a:off x="1600200" y="4282920"/>
                <a:ext cx="6048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808080"/>
                    </a:solidFill>
                    <a:latin typeface="Comic Sans MS"/>
                  </a:rPr>
                  <a:t>0 0 0.45%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4252320" y="4879800"/>
                <a:ext cx="484200" cy="328680"/>
              </a:xfrm>
              <a:custGeom>
                <a:avLst/>
                <a:gdLst>
                  <a:gd name="textAreaLeft" fmla="*/ 100080 w 484200"/>
                  <a:gd name="textAreaRight" fmla="*/ 334800 w 484200"/>
                  <a:gd name="textAreaTop" fmla="*/ 43920 h 328680"/>
                  <a:gd name="textAreaBottom" fmla="*/ 284760 h 328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8983" hR="21600" stAng="10800000" swAng="-5400000"/>
                    <a:lnTo>
                      <a:pt x="10457" y="21600"/>
                    </a:lnTo>
                    <a:arcTo wR="8983" hR="21600" stAng="5400000" swAng="-2977860"/>
                    <a:lnTo>
                      <a:pt x="21086" y="7200"/>
                    </a:lnTo>
                    <a:lnTo>
                      <a:pt x="18703" y="0"/>
                    </a:lnTo>
                    <a:lnTo>
                      <a:pt x="15292" y="7200"/>
                    </a:lnTo>
                    <a:lnTo>
                      <a:pt x="17452" y="7200"/>
                    </a:lnTo>
                    <a:arcTo wR="8983" hR="21600" stAng="2422140" swAng="2860212"/>
                    <a:lnTo>
                      <a:pt x="9720" y="21527"/>
                    </a:lnTo>
                    <a:arcTo wR="8983" hR="21600" stAng="5517648" swAng="5282352"/>
                    <a:close/>
                  </a:path>
                  <a:path fill="darkenLess" w="21600" h="21600">
                    <a:moveTo>
                      <a:pt x="0" y="0"/>
                    </a:moveTo>
                    <a:arcTo wR="8983" hR="21600" stAng="10800000" swAng="-5400000"/>
                    <a:lnTo>
                      <a:pt x="10457" y="21600"/>
                    </a:lnTo>
                    <a:arcTo wR="8983" hR="21600" stAng="5400000" swAng="117648"/>
                    <a:lnTo>
                      <a:pt x="9720" y="21527"/>
                    </a:lnTo>
                    <a:arcTo wR="8983" hR="21600" stAng="5517648" swAng="5282352"/>
                    <a:close/>
                  </a:path>
                </a:pathLst>
              </a:cu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3733200" y="4876920"/>
                <a:ext cx="484200" cy="328320"/>
              </a:xfrm>
              <a:custGeom>
                <a:avLst/>
                <a:gdLst>
                  <a:gd name="textAreaLeft" fmla="*/ 100080 w 484200"/>
                  <a:gd name="textAreaRight" fmla="*/ 334800 w 484200"/>
                  <a:gd name="textAreaTop" fmla="*/ 43920 h 328320"/>
                  <a:gd name="textAreaBottom" fmla="*/ 284400 h 328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8983" hR="21600" stAng="10800000" swAng="-5400000"/>
                    <a:lnTo>
                      <a:pt x="10457" y="21600"/>
                    </a:lnTo>
                    <a:arcTo wR="8983" hR="21600" stAng="5400000" swAng="-2977860"/>
                    <a:lnTo>
                      <a:pt x="21086" y="7200"/>
                    </a:lnTo>
                    <a:lnTo>
                      <a:pt x="18703" y="0"/>
                    </a:lnTo>
                    <a:lnTo>
                      <a:pt x="15292" y="7200"/>
                    </a:lnTo>
                    <a:lnTo>
                      <a:pt x="17452" y="7200"/>
                    </a:lnTo>
                    <a:arcTo wR="8983" hR="21600" stAng="2422140" swAng="2860212"/>
                    <a:lnTo>
                      <a:pt x="9720" y="21527"/>
                    </a:lnTo>
                    <a:arcTo wR="8983" hR="21600" stAng="5517648" swAng="5282352"/>
                    <a:close/>
                  </a:path>
                  <a:path fill="darkenLess" w="21600" h="21600">
                    <a:moveTo>
                      <a:pt x="0" y="0"/>
                    </a:moveTo>
                    <a:arcTo wR="8983" hR="21600" stAng="10800000" swAng="-5400000"/>
                    <a:lnTo>
                      <a:pt x="10457" y="21600"/>
                    </a:lnTo>
                    <a:arcTo wR="8983" hR="21600" stAng="5400000" swAng="117648"/>
                    <a:lnTo>
                      <a:pt x="9720" y="21527"/>
                    </a:lnTo>
                    <a:arcTo wR="8983" hR="21600" stAng="5517648" swAng="5282352"/>
                    <a:close/>
                  </a:path>
                </a:pathLst>
              </a:cu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3" name=""/>
            <p:cNvSpPr/>
            <p:nvPr/>
          </p:nvSpPr>
          <p:spPr>
            <a:xfrm>
              <a:off x="3566880" y="4495680"/>
              <a:ext cx="390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2523960" y="689040"/>
            <a:ext cx="42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813600" y="131292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0.03 i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0.45%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what numbe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219320" y="2438280"/>
            <a:ext cx="605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0.0045 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=  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0.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905120" y="3200400"/>
            <a:ext cx="5257800" cy="764280"/>
            <a:chOff x="1905120" y="3200400"/>
            <a:chExt cx="5257800" cy="764280"/>
          </a:xfrm>
        </p:grpSpPr>
        <p:sp>
          <p:nvSpPr>
            <p:cNvPr id="638" name=""/>
            <p:cNvSpPr/>
            <p:nvPr/>
          </p:nvSpPr>
          <p:spPr>
            <a:xfrm>
              <a:off x="2031120" y="3200400"/>
              <a:ext cx="1930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808080"/>
                  </a:solidFill>
                  <a:latin typeface="Comic Sans MS"/>
                </a:rPr>
                <a:t>0.004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106240" y="3200400"/>
              <a:ext cx="1930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808080"/>
                  </a:solidFill>
                  <a:latin typeface="Comic Sans MS"/>
                </a:rPr>
                <a:t>0.004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3200400"/>
              <a:ext cx="203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132520" y="3200400"/>
              <a:ext cx="2030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1448640" y="5013360"/>
            <a:ext cx="594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Comic Sans MS"/>
              </a:rPr>
              <a:t>n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6000" spc="-1" strike="noStrike">
                <a:solidFill>
                  <a:srgbClr val="00cc99"/>
                </a:solidFill>
                <a:latin typeface="Comic Sans MS"/>
              </a:rPr>
              <a:t> 5.666…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6000" spc="-1" strike="noStrike">
                <a:solidFill>
                  <a:srgbClr val="00cc99"/>
                </a:solidFill>
                <a:latin typeface="Comic Sans MS"/>
              </a:rPr>
              <a:t> 5.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46840" y="5094360"/>
            <a:ext cx="4888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523960" y="689040"/>
            <a:ext cx="42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908360" y="1454040"/>
            <a:ext cx="536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One possibility is 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386000" y="3537000"/>
            <a:ext cx="184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iven wh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51480" y="2238480"/>
            <a:ext cx="0" cy="23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301480" y="2468520"/>
            <a:ext cx="226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301840" y="2455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576600" y="3535200"/>
            <a:ext cx="199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iv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549680" y="244944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872320" y="3537000"/>
            <a:ext cx="201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Missing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perc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4533480" y="2468520"/>
            <a:ext cx="226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781680" y="2459160"/>
            <a:ext cx="0" cy="9144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833120" y="4896000"/>
            <a:ext cx="5790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iven whole and p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d the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percent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523960" y="689040"/>
            <a:ext cx="42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2120400" y="1671480"/>
            <a:ext cx="609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What percen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30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10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463680" y="2444760"/>
            <a:ext cx="1623960" cy="3494160"/>
          </a:xfrm>
          <a:prstGeom prst="rect">
            <a:avLst/>
          </a:prstGeom>
          <a:ln w="0">
            <a:noFill/>
          </a:ln>
        </p:spPr>
      </p:pic>
      <p:grpSp>
        <p:nvGrpSpPr>
          <p:cNvPr id="659" name=""/>
          <p:cNvGrpSpPr/>
          <p:nvPr/>
        </p:nvGrpSpPr>
        <p:grpSpPr>
          <a:xfrm>
            <a:off x="3329640" y="2214720"/>
            <a:ext cx="4386960" cy="1748880"/>
            <a:chOff x="3329640" y="2214720"/>
            <a:chExt cx="4386960" cy="1748880"/>
          </a:xfrm>
        </p:grpSpPr>
        <p:sp>
          <p:nvSpPr>
            <p:cNvPr id="660" name=""/>
            <p:cNvSpPr/>
            <p:nvPr/>
          </p:nvSpPr>
          <p:spPr>
            <a:xfrm>
              <a:off x="3329640" y="3138480"/>
              <a:ext cx="3861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cc99"/>
                  </a:solidFill>
                  <a:latin typeface="Comic Sans MS"/>
                </a:rPr>
                <a:t>p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• </a:t>
              </a:r>
              <a:r>
                <a:rPr b="0" lang="en-US" sz="4800" spc="-1" strike="noStrike">
                  <a:solidFill>
                    <a:srgbClr val="3333cc"/>
                  </a:solidFill>
                  <a:latin typeface="Comic Sans MS"/>
                </a:rPr>
                <a:t>300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lang="en-US" sz="4800" spc="-1" strike="noStrike">
                  <a:solidFill>
                    <a:srgbClr val="808080"/>
                  </a:solidFill>
                  <a:latin typeface="Comic Sans MS"/>
                </a:rPr>
                <a:t>100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379680" y="2371680"/>
              <a:ext cx="120600" cy="744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4079880" y="2250360"/>
              <a:ext cx="1303200" cy="109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5004000" y="2214720"/>
              <a:ext cx="1082160" cy="947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6742800" y="2307240"/>
              <a:ext cx="973800" cy="87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5919120" y="2234160"/>
              <a:ext cx="1012320" cy="111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3301560" y="4754520"/>
            <a:ext cx="331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300</a:t>
            </a: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p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800" spc="-1" strike="noStrike">
                <a:solidFill>
                  <a:srgbClr val="808080"/>
                </a:solidFill>
                <a:latin typeface="Comic Sans MS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23960" y="689040"/>
            <a:ext cx="42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1301400" y="1295280"/>
            <a:ext cx="674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What percen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300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100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126240" y="2133720"/>
            <a:ext cx="305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300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3168720" y="2908440"/>
            <a:ext cx="3111120" cy="827640"/>
            <a:chOff x="3168720" y="2908440"/>
            <a:chExt cx="3111120" cy="827640"/>
          </a:xfrm>
        </p:grpSpPr>
        <p:sp>
          <p:nvSpPr>
            <p:cNvPr id="671" name=""/>
            <p:cNvSpPr/>
            <p:nvPr/>
          </p:nvSpPr>
          <p:spPr>
            <a:xfrm>
              <a:off x="3168720" y="2971800"/>
              <a:ext cx="1140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30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139000" y="2957400"/>
              <a:ext cx="1140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30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200400" y="290844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181480" y="2922480"/>
              <a:ext cx="1067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2292120" y="3673440"/>
            <a:ext cx="2126880" cy="1434600"/>
            <a:chOff x="2292120" y="3673440"/>
            <a:chExt cx="2126880" cy="1434600"/>
          </a:xfrm>
        </p:grpSpPr>
        <p:sp>
          <p:nvSpPr>
            <p:cNvPr id="676" name=""/>
            <p:cNvSpPr/>
            <p:nvPr/>
          </p:nvSpPr>
          <p:spPr>
            <a:xfrm>
              <a:off x="2292120" y="3978360"/>
              <a:ext cx="99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cc99"/>
                  </a:solidFill>
                  <a:latin typeface="Comic Sans MS"/>
                </a:rPr>
                <a:t>p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278160" y="3673440"/>
              <a:ext cx="1140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 u="sng">
                  <a:solidFill>
                    <a:srgbClr val="808080"/>
                  </a:solidFill>
                  <a:uFillTx/>
                  <a:latin typeface="Comic Sans MS"/>
                </a:rPr>
                <a:t>10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808080"/>
                  </a:solidFill>
                  <a:latin typeface="Comic Sans MS"/>
                </a:rPr>
                <a:t>30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3584520" y="3780000"/>
            <a:ext cx="914400" cy="1212840"/>
            <a:chOff x="3584520" y="3780000"/>
            <a:chExt cx="914400" cy="1212840"/>
          </a:xfrm>
        </p:grpSpPr>
        <p:sp>
          <p:nvSpPr>
            <p:cNvPr id="679" name=""/>
            <p:cNvSpPr/>
            <p:nvPr/>
          </p:nvSpPr>
          <p:spPr>
            <a:xfrm flipH="1">
              <a:off x="3965400" y="3803760"/>
              <a:ext cx="533520" cy="48096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3584520" y="3780000"/>
              <a:ext cx="533520" cy="48096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3584520" y="4511520"/>
              <a:ext cx="533520" cy="4813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3965400" y="4511520"/>
              <a:ext cx="533520" cy="4813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4496400" y="3673440"/>
            <a:ext cx="1063440" cy="1434600"/>
            <a:chOff x="4496400" y="3673440"/>
            <a:chExt cx="1063440" cy="1434600"/>
          </a:xfrm>
        </p:grpSpPr>
        <p:sp>
          <p:nvSpPr>
            <p:cNvPr id="684" name=""/>
            <p:cNvSpPr/>
            <p:nvPr/>
          </p:nvSpPr>
          <p:spPr>
            <a:xfrm>
              <a:off x="5059080" y="3673440"/>
              <a:ext cx="5007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 u="sng">
                  <a:solidFill>
                    <a:srgbClr val="808080"/>
                  </a:solidFill>
                  <a:uFillTx/>
                  <a:latin typeface="Comic Sans MS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808080"/>
                  </a:solidFill>
                  <a:latin typeface="Comic Sans MS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496400" y="397836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5826960" y="3992400"/>
            <a:ext cx="269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=0.3333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218760" y="5562720"/>
            <a:ext cx="2854080" cy="764280"/>
            <a:chOff x="3218760" y="5562720"/>
            <a:chExt cx="2854080" cy="764280"/>
          </a:xfrm>
        </p:grpSpPr>
        <p:sp>
          <p:nvSpPr>
            <p:cNvPr id="688" name=""/>
            <p:cNvSpPr/>
            <p:nvPr/>
          </p:nvSpPr>
          <p:spPr>
            <a:xfrm>
              <a:off x="3218760" y="5562720"/>
              <a:ext cx="2854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cc99"/>
                  </a:solidFill>
                  <a:latin typeface="Comic Sans MS"/>
                </a:rPr>
                <a:t>p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=  33.3%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138640" y="5665680"/>
              <a:ext cx="37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2523960" y="689040"/>
            <a:ext cx="42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179720" y="1355760"/>
            <a:ext cx="703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What percen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250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1500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2402640" y="1998720"/>
            <a:ext cx="4783320" cy="1964880"/>
            <a:chOff x="2402640" y="1998720"/>
            <a:chExt cx="4783320" cy="1964880"/>
          </a:xfrm>
        </p:grpSpPr>
        <p:sp>
          <p:nvSpPr>
            <p:cNvPr id="693" name=""/>
            <p:cNvSpPr/>
            <p:nvPr/>
          </p:nvSpPr>
          <p:spPr>
            <a:xfrm>
              <a:off x="2402640" y="3138480"/>
              <a:ext cx="421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cc99"/>
                  </a:solidFill>
                  <a:latin typeface="Comic Sans MS"/>
                </a:rPr>
                <a:t>p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• </a:t>
              </a:r>
              <a:r>
                <a:rPr b="0" lang="en-US" sz="4800" spc="-1" strike="noStrike">
                  <a:solidFill>
                    <a:srgbClr val="3333cc"/>
                  </a:solidFill>
                  <a:latin typeface="Comic Sans MS"/>
                </a:rPr>
                <a:t>250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lang="en-US" sz="4800" spc="-1" strike="noStrike">
                  <a:solidFill>
                    <a:srgbClr val="808080"/>
                  </a:solidFill>
                  <a:latin typeface="Comic Sans MS"/>
                </a:rPr>
                <a:t>1500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2692440" y="1998720"/>
              <a:ext cx="566640" cy="12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3188880" y="2085120"/>
              <a:ext cx="1480320" cy="127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4183560" y="2108880"/>
              <a:ext cx="1307880" cy="10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6021360" y="2063160"/>
              <a:ext cx="1164600" cy="111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4914720" y="2018880"/>
              <a:ext cx="1715400" cy="127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2553120" y="4572000"/>
            <a:ext cx="382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250</a:t>
            </a: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 p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800" spc="-1" strike="noStrike">
                <a:solidFill>
                  <a:srgbClr val="808080"/>
                </a:solidFill>
                <a:latin typeface="Comic Sans MS"/>
              </a:rPr>
              <a:t>15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463680" y="2444760"/>
            <a:ext cx="1623960" cy="3494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01" name=""/>
          <p:cNvSpPr/>
          <p:nvPr/>
        </p:nvSpPr>
        <p:spPr>
          <a:xfrm>
            <a:off x="2523960" y="689040"/>
            <a:ext cx="42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1477800" y="2023920"/>
            <a:ext cx="3946680" cy="3419640"/>
            <a:chOff x="1477800" y="2023920"/>
            <a:chExt cx="3946680" cy="3419640"/>
          </a:xfrm>
        </p:grpSpPr>
        <p:sp>
          <p:nvSpPr>
            <p:cNvPr id="167" name=""/>
            <p:cNvSpPr/>
            <p:nvPr/>
          </p:nvSpPr>
          <p:spPr>
            <a:xfrm>
              <a:off x="4311720" y="3890880"/>
              <a:ext cx="1112760" cy="1549440"/>
            </a:xfrm>
            <a:custGeom>
              <a:avLst/>
              <a:gdLst/>
              <a:ahLst/>
              <a:rect l="l" t="t" r="r" b="b"/>
              <a:pathLst>
                <a:path w="1401" h="1952">
                  <a:moveTo>
                    <a:pt x="0" y="1789"/>
                  </a:moveTo>
                  <a:lnTo>
                    <a:pt x="0" y="1952"/>
                  </a:lnTo>
                  <a:lnTo>
                    <a:pt x="121" y="1943"/>
                  </a:lnTo>
                  <a:lnTo>
                    <a:pt x="329" y="1880"/>
                  </a:lnTo>
                  <a:lnTo>
                    <a:pt x="422" y="1834"/>
                  </a:lnTo>
                  <a:lnTo>
                    <a:pt x="466" y="1808"/>
                  </a:lnTo>
                  <a:lnTo>
                    <a:pt x="509" y="1777"/>
                  </a:lnTo>
                  <a:lnTo>
                    <a:pt x="551" y="1747"/>
                  </a:lnTo>
                  <a:lnTo>
                    <a:pt x="589" y="1713"/>
                  </a:lnTo>
                  <a:lnTo>
                    <a:pt x="627" y="1675"/>
                  </a:lnTo>
                  <a:lnTo>
                    <a:pt x="663" y="1637"/>
                  </a:lnTo>
                  <a:lnTo>
                    <a:pt x="697" y="1597"/>
                  </a:lnTo>
                  <a:lnTo>
                    <a:pt x="730" y="1553"/>
                  </a:lnTo>
                  <a:lnTo>
                    <a:pt x="760" y="1507"/>
                  </a:lnTo>
                  <a:lnTo>
                    <a:pt x="787" y="1462"/>
                  </a:lnTo>
                  <a:lnTo>
                    <a:pt x="813" y="1409"/>
                  </a:lnTo>
                  <a:lnTo>
                    <a:pt x="836" y="1355"/>
                  </a:lnTo>
                  <a:lnTo>
                    <a:pt x="871" y="1251"/>
                  </a:lnTo>
                  <a:lnTo>
                    <a:pt x="907" y="1028"/>
                  </a:lnTo>
                  <a:lnTo>
                    <a:pt x="1009" y="983"/>
                  </a:lnTo>
                  <a:lnTo>
                    <a:pt x="1101" y="945"/>
                  </a:lnTo>
                  <a:lnTo>
                    <a:pt x="1171" y="920"/>
                  </a:lnTo>
                  <a:lnTo>
                    <a:pt x="1241" y="895"/>
                  </a:lnTo>
                  <a:lnTo>
                    <a:pt x="1384" y="854"/>
                  </a:lnTo>
                  <a:lnTo>
                    <a:pt x="1401" y="624"/>
                  </a:lnTo>
                  <a:lnTo>
                    <a:pt x="1274" y="658"/>
                  </a:lnTo>
                  <a:lnTo>
                    <a:pt x="1146" y="698"/>
                  </a:lnTo>
                  <a:lnTo>
                    <a:pt x="1021" y="741"/>
                  </a:lnTo>
                  <a:lnTo>
                    <a:pt x="895" y="783"/>
                  </a:lnTo>
                  <a:lnTo>
                    <a:pt x="882" y="724"/>
                  </a:lnTo>
                  <a:lnTo>
                    <a:pt x="865" y="656"/>
                  </a:lnTo>
                  <a:lnTo>
                    <a:pt x="840" y="589"/>
                  </a:lnTo>
                  <a:lnTo>
                    <a:pt x="812" y="525"/>
                  </a:lnTo>
                  <a:lnTo>
                    <a:pt x="777" y="462"/>
                  </a:lnTo>
                  <a:lnTo>
                    <a:pt x="758" y="432"/>
                  </a:lnTo>
                  <a:lnTo>
                    <a:pt x="739" y="401"/>
                  </a:lnTo>
                  <a:lnTo>
                    <a:pt x="718" y="373"/>
                  </a:lnTo>
                  <a:lnTo>
                    <a:pt x="696" y="346"/>
                  </a:lnTo>
                  <a:lnTo>
                    <a:pt x="673" y="317"/>
                  </a:lnTo>
                  <a:lnTo>
                    <a:pt x="650" y="293"/>
                  </a:lnTo>
                  <a:lnTo>
                    <a:pt x="625" y="266"/>
                  </a:lnTo>
                  <a:lnTo>
                    <a:pt x="599" y="241"/>
                  </a:lnTo>
                  <a:lnTo>
                    <a:pt x="568" y="215"/>
                  </a:lnTo>
                  <a:lnTo>
                    <a:pt x="536" y="188"/>
                  </a:lnTo>
                  <a:lnTo>
                    <a:pt x="502" y="164"/>
                  </a:lnTo>
                  <a:lnTo>
                    <a:pt x="467" y="141"/>
                  </a:lnTo>
                  <a:lnTo>
                    <a:pt x="395" y="101"/>
                  </a:lnTo>
                  <a:lnTo>
                    <a:pt x="321" y="67"/>
                  </a:lnTo>
                  <a:lnTo>
                    <a:pt x="243" y="40"/>
                  </a:lnTo>
                  <a:lnTo>
                    <a:pt x="163" y="21"/>
                  </a:lnTo>
                  <a:lnTo>
                    <a:pt x="0" y="0"/>
                  </a:lnTo>
                  <a:lnTo>
                    <a:pt x="0" y="167"/>
                  </a:lnTo>
                  <a:lnTo>
                    <a:pt x="114" y="230"/>
                  </a:lnTo>
                  <a:lnTo>
                    <a:pt x="156" y="281"/>
                  </a:lnTo>
                  <a:lnTo>
                    <a:pt x="188" y="342"/>
                  </a:lnTo>
                  <a:lnTo>
                    <a:pt x="235" y="500"/>
                  </a:lnTo>
                  <a:lnTo>
                    <a:pt x="262" y="669"/>
                  </a:lnTo>
                  <a:lnTo>
                    <a:pt x="272" y="1006"/>
                  </a:lnTo>
                  <a:lnTo>
                    <a:pt x="205" y="1032"/>
                  </a:lnTo>
                  <a:lnTo>
                    <a:pt x="137" y="1057"/>
                  </a:lnTo>
                  <a:lnTo>
                    <a:pt x="68" y="1082"/>
                  </a:lnTo>
                  <a:lnTo>
                    <a:pt x="0" y="1106"/>
                  </a:lnTo>
                  <a:lnTo>
                    <a:pt x="0" y="1553"/>
                  </a:lnTo>
                  <a:lnTo>
                    <a:pt x="45" y="1524"/>
                  </a:lnTo>
                  <a:lnTo>
                    <a:pt x="89" y="1498"/>
                  </a:lnTo>
                  <a:lnTo>
                    <a:pt x="133" y="1469"/>
                  </a:lnTo>
                  <a:lnTo>
                    <a:pt x="177" y="1441"/>
                  </a:lnTo>
                  <a:lnTo>
                    <a:pt x="247" y="1399"/>
                  </a:lnTo>
                  <a:lnTo>
                    <a:pt x="218" y="1519"/>
                  </a:lnTo>
                  <a:lnTo>
                    <a:pt x="199" y="1580"/>
                  </a:lnTo>
                  <a:lnTo>
                    <a:pt x="175" y="1637"/>
                  </a:lnTo>
                  <a:lnTo>
                    <a:pt x="159" y="1663"/>
                  </a:lnTo>
                  <a:lnTo>
                    <a:pt x="144" y="1688"/>
                  </a:lnTo>
                  <a:lnTo>
                    <a:pt x="125" y="1713"/>
                  </a:lnTo>
                  <a:lnTo>
                    <a:pt x="106" y="1734"/>
                  </a:lnTo>
                  <a:lnTo>
                    <a:pt x="59" y="1768"/>
                  </a:lnTo>
                  <a:lnTo>
                    <a:pt x="0" y="1789"/>
                  </a:lnTo>
                  <a:lnTo>
                    <a:pt x="0" y="1789"/>
                  </a:lnTo>
                  <a:close/>
                </a:path>
              </a:pathLst>
            </a:custGeom>
            <a:solidFill>
              <a:srgbClr val="99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048040" y="2143080"/>
              <a:ext cx="2678040" cy="3300480"/>
            </a:xfrm>
            <a:custGeom>
              <a:avLst/>
              <a:gdLst/>
              <a:ahLst/>
              <a:rect l="l" t="t" r="r" b="b"/>
              <a:pathLst>
                <a:path w="3373" h="4157">
                  <a:moveTo>
                    <a:pt x="2852" y="2617"/>
                  </a:moveTo>
                  <a:lnTo>
                    <a:pt x="2882" y="2671"/>
                  </a:lnTo>
                  <a:lnTo>
                    <a:pt x="2895" y="2728"/>
                  </a:lnTo>
                  <a:lnTo>
                    <a:pt x="2890" y="2855"/>
                  </a:lnTo>
                  <a:lnTo>
                    <a:pt x="2873" y="2914"/>
                  </a:lnTo>
                  <a:lnTo>
                    <a:pt x="2852" y="2971"/>
                  </a:lnTo>
                  <a:lnTo>
                    <a:pt x="2825" y="3041"/>
                  </a:lnTo>
                  <a:lnTo>
                    <a:pt x="2793" y="3108"/>
                  </a:lnTo>
                  <a:lnTo>
                    <a:pt x="2776" y="3140"/>
                  </a:lnTo>
                  <a:lnTo>
                    <a:pt x="2755" y="3170"/>
                  </a:lnTo>
                  <a:lnTo>
                    <a:pt x="2736" y="3201"/>
                  </a:lnTo>
                  <a:lnTo>
                    <a:pt x="2713" y="3229"/>
                  </a:lnTo>
                  <a:lnTo>
                    <a:pt x="2690" y="3254"/>
                  </a:lnTo>
                  <a:lnTo>
                    <a:pt x="2665" y="3279"/>
                  </a:lnTo>
                  <a:lnTo>
                    <a:pt x="2643" y="3304"/>
                  </a:lnTo>
                  <a:lnTo>
                    <a:pt x="2618" y="3328"/>
                  </a:lnTo>
                  <a:lnTo>
                    <a:pt x="2595" y="3353"/>
                  </a:lnTo>
                  <a:lnTo>
                    <a:pt x="2570" y="3378"/>
                  </a:lnTo>
                  <a:lnTo>
                    <a:pt x="2547" y="3402"/>
                  </a:lnTo>
                  <a:lnTo>
                    <a:pt x="2523" y="3427"/>
                  </a:lnTo>
                  <a:lnTo>
                    <a:pt x="2605" y="3399"/>
                  </a:lnTo>
                  <a:lnTo>
                    <a:pt x="2686" y="3368"/>
                  </a:lnTo>
                  <a:lnTo>
                    <a:pt x="2770" y="3338"/>
                  </a:lnTo>
                  <a:lnTo>
                    <a:pt x="2852" y="3307"/>
                  </a:lnTo>
                  <a:lnTo>
                    <a:pt x="3373" y="3300"/>
                  </a:lnTo>
                  <a:lnTo>
                    <a:pt x="2852" y="3754"/>
                  </a:lnTo>
                  <a:lnTo>
                    <a:pt x="2791" y="3792"/>
                  </a:lnTo>
                  <a:lnTo>
                    <a:pt x="2728" y="3828"/>
                  </a:lnTo>
                  <a:lnTo>
                    <a:pt x="2665" y="3864"/>
                  </a:lnTo>
                  <a:lnTo>
                    <a:pt x="2605" y="3898"/>
                  </a:lnTo>
                  <a:lnTo>
                    <a:pt x="2654" y="3942"/>
                  </a:lnTo>
                  <a:lnTo>
                    <a:pt x="2703" y="3973"/>
                  </a:lnTo>
                  <a:lnTo>
                    <a:pt x="2759" y="3990"/>
                  </a:lnTo>
                  <a:lnTo>
                    <a:pt x="2825" y="3994"/>
                  </a:lnTo>
                  <a:lnTo>
                    <a:pt x="2852" y="3990"/>
                  </a:lnTo>
                  <a:lnTo>
                    <a:pt x="3308" y="3948"/>
                  </a:lnTo>
                  <a:lnTo>
                    <a:pt x="2852" y="4153"/>
                  </a:lnTo>
                  <a:lnTo>
                    <a:pt x="2601" y="4138"/>
                  </a:lnTo>
                  <a:lnTo>
                    <a:pt x="2365" y="4056"/>
                  </a:lnTo>
                  <a:lnTo>
                    <a:pt x="2331" y="4039"/>
                  </a:lnTo>
                  <a:lnTo>
                    <a:pt x="2228" y="4079"/>
                  </a:lnTo>
                  <a:lnTo>
                    <a:pt x="2125" y="4111"/>
                  </a:lnTo>
                  <a:lnTo>
                    <a:pt x="2019" y="4130"/>
                  </a:lnTo>
                  <a:lnTo>
                    <a:pt x="1911" y="4130"/>
                  </a:lnTo>
                  <a:lnTo>
                    <a:pt x="1848" y="4104"/>
                  </a:lnTo>
                  <a:lnTo>
                    <a:pt x="1787" y="4073"/>
                  </a:lnTo>
                  <a:lnTo>
                    <a:pt x="1728" y="4037"/>
                  </a:lnTo>
                  <a:lnTo>
                    <a:pt x="1675" y="3995"/>
                  </a:lnTo>
                  <a:lnTo>
                    <a:pt x="1631" y="3948"/>
                  </a:lnTo>
                  <a:lnTo>
                    <a:pt x="1601" y="3893"/>
                  </a:lnTo>
                  <a:lnTo>
                    <a:pt x="1584" y="3828"/>
                  </a:lnTo>
                  <a:lnTo>
                    <a:pt x="1585" y="3756"/>
                  </a:lnTo>
                  <a:lnTo>
                    <a:pt x="1603" y="3697"/>
                  </a:lnTo>
                  <a:lnTo>
                    <a:pt x="1627" y="3642"/>
                  </a:lnTo>
                  <a:lnTo>
                    <a:pt x="1658" y="3589"/>
                  </a:lnTo>
                  <a:lnTo>
                    <a:pt x="1675" y="3562"/>
                  </a:lnTo>
                  <a:lnTo>
                    <a:pt x="1692" y="3537"/>
                  </a:lnTo>
                  <a:lnTo>
                    <a:pt x="1711" y="3513"/>
                  </a:lnTo>
                  <a:lnTo>
                    <a:pt x="1730" y="3488"/>
                  </a:lnTo>
                  <a:lnTo>
                    <a:pt x="1751" y="3463"/>
                  </a:lnTo>
                  <a:lnTo>
                    <a:pt x="1772" y="3440"/>
                  </a:lnTo>
                  <a:lnTo>
                    <a:pt x="1814" y="3395"/>
                  </a:lnTo>
                  <a:lnTo>
                    <a:pt x="1853" y="3353"/>
                  </a:lnTo>
                  <a:lnTo>
                    <a:pt x="1842" y="3131"/>
                  </a:lnTo>
                  <a:lnTo>
                    <a:pt x="1848" y="3055"/>
                  </a:lnTo>
                  <a:lnTo>
                    <a:pt x="1768" y="3079"/>
                  </a:lnTo>
                  <a:lnTo>
                    <a:pt x="1688" y="3106"/>
                  </a:lnTo>
                  <a:lnTo>
                    <a:pt x="1608" y="3131"/>
                  </a:lnTo>
                  <a:lnTo>
                    <a:pt x="1528" y="3157"/>
                  </a:lnTo>
                  <a:lnTo>
                    <a:pt x="1449" y="3182"/>
                  </a:lnTo>
                  <a:lnTo>
                    <a:pt x="1369" y="3207"/>
                  </a:lnTo>
                  <a:lnTo>
                    <a:pt x="1207" y="3252"/>
                  </a:lnTo>
                  <a:lnTo>
                    <a:pt x="1080" y="3286"/>
                  </a:lnTo>
                  <a:lnTo>
                    <a:pt x="614" y="4007"/>
                  </a:lnTo>
                  <a:lnTo>
                    <a:pt x="517" y="4157"/>
                  </a:lnTo>
                  <a:lnTo>
                    <a:pt x="91" y="4157"/>
                  </a:lnTo>
                  <a:lnTo>
                    <a:pt x="591" y="3385"/>
                  </a:lnTo>
                  <a:lnTo>
                    <a:pt x="424" y="3397"/>
                  </a:lnTo>
                  <a:lnTo>
                    <a:pt x="256" y="3383"/>
                  </a:lnTo>
                  <a:lnTo>
                    <a:pt x="108" y="3321"/>
                  </a:lnTo>
                  <a:lnTo>
                    <a:pt x="47" y="3265"/>
                  </a:lnTo>
                  <a:lnTo>
                    <a:pt x="23" y="3229"/>
                  </a:lnTo>
                  <a:lnTo>
                    <a:pt x="0" y="3188"/>
                  </a:lnTo>
                  <a:lnTo>
                    <a:pt x="0" y="3066"/>
                  </a:lnTo>
                  <a:lnTo>
                    <a:pt x="17" y="3011"/>
                  </a:lnTo>
                  <a:lnTo>
                    <a:pt x="43" y="2958"/>
                  </a:lnTo>
                  <a:lnTo>
                    <a:pt x="59" y="2933"/>
                  </a:lnTo>
                  <a:lnTo>
                    <a:pt x="76" y="2908"/>
                  </a:lnTo>
                  <a:lnTo>
                    <a:pt x="95" y="2883"/>
                  </a:lnTo>
                  <a:lnTo>
                    <a:pt x="114" y="2859"/>
                  </a:lnTo>
                  <a:lnTo>
                    <a:pt x="156" y="2813"/>
                  </a:lnTo>
                  <a:lnTo>
                    <a:pt x="196" y="2769"/>
                  </a:lnTo>
                  <a:lnTo>
                    <a:pt x="245" y="2726"/>
                  </a:lnTo>
                  <a:lnTo>
                    <a:pt x="294" y="2682"/>
                  </a:lnTo>
                  <a:lnTo>
                    <a:pt x="346" y="2640"/>
                  </a:lnTo>
                  <a:lnTo>
                    <a:pt x="397" y="2598"/>
                  </a:lnTo>
                  <a:lnTo>
                    <a:pt x="450" y="2558"/>
                  </a:lnTo>
                  <a:lnTo>
                    <a:pt x="504" y="2518"/>
                  </a:lnTo>
                  <a:lnTo>
                    <a:pt x="559" y="2480"/>
                  </a:lnTo>
                  <a:lnTo>
                    <a:pt x="614" y="2442"/>
                  </a:lnTo>
                  <a:lnTo>
                    <a:pt x="661" y="2412"/>
                  </a:lnTo>
                  <a:lnTo>
                    <a:pt x="709" y="2380"/>
                  </a:lnTo>
                  <a:lnTo>
                    <a:pt x="758" y="2349"/>
                  </a:lnTo>
                  <a:lnTo>
                    <a:pt x="806" y="2319"/>
                  </a:lnTo>
                  <a:lnTo>
                    <a:pt x="855" y="2290"/>
                  </a:lnTo>
                  <a:lnTo>
                    <a:pt x="905" y="2260"/>
                  </a:lnTo>
                  <a:lnTo>
                    <a:pt x="954" y="2231"/>
                  </a:lnTo>
                  <a:lnTo>
                    <a:pt x="1004" y="2201"/>
                  </a:lnTo>
                  <a:lnTo>
                    <a:pt x="1053" y="2173"/>
                  </a:lnTo>
                  <a:lnTo>
                    <a:pt x="1102" y="2144"/>
                  </a:lnTo>
                  <a:lnTo>
                    <a:pt x="1152" y="2115"/>
                  </a:lnTo>
                  <a:lnTo>
                    <a:pt x="1201" y="2087"/>
                  </a:lnTo>
                  <a:lnTo>
                    <a:pt x="1251" y="2058"/>
                  </a:lnTo>
                  <a:lnTo>
                    <a:pt x="1300" y="2030"/>
                  </a:lnTo>
                  <a:lnTo>
                    <a:pt x="1350" y="2001"/>
                  </a:lnTo>
                  <a:lnTo>
                    <a:pt x="1397" y="1973"/>
                  </a:lnTo>
                  <a:lnTo>
                    <a:pt x="1201" y="2007"/>
                  </a:lnTo>
                  <a:lnTo>
                    <a:pt x="1006" y="2043"/>
                  </a:lnTo>
                  <a:lnTo>
                    <a:pt x="810" y="2077"/>
                  </a:lnTo>
                  <a:lnTo>
                    <a:pt x="614" y="2112"/>
                  </a:lnTo>
                  <a:lnTo>
                    <a:pt x="614" y="1555"/>
                  </a:lnTo>
                  <a:lnTo>
                    <a:pt x="774" y="1519"/>
                  </a:lnTo>
                  <a:lnTo>
                    <a:pt x="813" y="1260"/>
                  </a:lnTo>
                  <a:lnTo>
                    <a:pt x="827" y="998"/>
                  </a:lnTo>
                  <a:lnTo>
                    <a:pt x="796" y="1034"/>
                  </a:lnTo>
                  <a:lnTo>
                    <a:pt x="764" y="1070"/>
                  </a:lnTo>
                  <a:lnTo>
                    <a:pt x="734" y="1104"/>
                  </a:lnTo>
                  <a:lnTo>
                    <a:pt x="701" y="1140"/>
                  </a:lnTo>
                  <a:lnTo>
                    <a:pt x="678" y="1167"/>
                  </a:lnTo>
                  <a:lnTo>
                    <a:pt x="656" y="1194"/>
                  </a:lnTo>
                  <a:lnTo>
                    <a:pt x="635" y="1222"/>
                  </a:lnTo>
                  <a:lnTo>
                    <a:pt x="614" y="1251"/>
                  </a:lnTo>
                  <a:lnTo>
                    <a:pt x="614" y="777"/>
                  </a:lnTo>
                  <a:lnTo>
                    <a:pt x="661" y="743"/>
                  </a:lnTo>
                  <a:lnTo>
                    <a:pt x="711" y="709"/>
                  </a:lnTo>
                  <a:lnTo>
                    <a:pt x="760" y="673"/>
                  </a:lnTo>
                  <a:lnTo>
                    <a:pt x="810" y="640"/>
                  </a:lnTo>
                  <a:lnTo>
                    <a:pt x="793" y="519"/>
                  </a:lnTo>
                  <a:lnTo>
                    <a:pt x="777" y="454"/>
                  </a:lnTo>
                  <a:lnTo>
                    <a:pt x="758" y="391"/>
                  </a:lnTo>
                  <a:lnTo>
                    <a:pt x="734" y="331"/>
                  </a:lnTo>
                  <a:lnTo>
                    <a:pt x="717" y="302"/>
                  </a:lnTo>
                  <a:lnTo>
                    <a:pt x="701" y="275"/>
                  </a:lnTo>
                  <a:lnTo>
                    <a:pt x="682" y="253"/>
                  </a:lnTo>
                  <a:lnTo>
                    <a:pt x="661" y="230"/>
                  </a:lnTo>
                  <a:lnTo>
                    <a:pt x="614" y="194"/>
                  </a:lnTo>
                  <a:lnTo>
                    <a:pt x="614" y="7"/>
                  </a:lnTo>
                  <a:lnTo>
                    <a:pt x="880" y="70"/>
                  </a:lnTo>
                  <a:lnTo>
                    <a:pt x="986" y="123"/>
                  </a:lnTo>
                  <a:lnTo>
                    <a:pt x="1038" y="154"/>
                  </a:lnTo>
                  <a:lnTo>
                    <a:pt x="1085" y="188"/>
                  </a:lnTo>
                  <a:lnTo>
                    <a:pt x="1131" y="224"/>
                  </a:lnTo>
                  <a:lnTo>
                    <a:pt x="1173" y="264"/>
                  </a:lnTo>
                  <a:lnTo>
                    <a:pt x="1215" y="306"/>
                  </a:lnTo>
                  <a:lnTo>
                    <a:pt x="1255" y="350"/>
                  </a:lnTo>
                  <a:lnTo>
                    <a:pt x="1319" y="312"/>
                  </a:lnTo>
                  <a:lnTo>
                    <a:pt x="1384" y="274"/>
                  </a:lnTo>
                  <a:lnTo>
                    <a:pt x="1450" y="236"/>
                  </a:lnTo>
                  <a:lnTo>
                    <a:pt x="1517" y="199"/>
                  </a:lnTo>
                  <a:lnTo>
                    <a:pt x="1585" y="165"/>
                  </a:lnTo>
                  <a:lnTo>
                    <a:pt x="1654" y="131"/>
                  </a:lnTo>
                  <a:lnTo>
                    <a:pt x="1722" y="101"/>
                  </a:lnTo>
                  <a:lnTo>
                    <a:pt x="1793" y="74"/>
                  </a:lnTo>
                  <a:lnTo>
                    <a:pt x="1796" y="74"/>
                  </a:lnTo>
                  <a:lnTo>
                    <a:pt x="1844" y="268"/>
                  </a:lnTo>
                  <a:lnTo>
                    <a:pt x="1719" y="323"/>
                  </a:lnTo>
                  <a:lnTo>
                    <a:pt x="1660" y="353"/>
                  </a:lnTo>
                  <a:lnTo>
                    <a:pt x="1599" y="388"/>
                  </a:lnTo>
                  <a:lnTo>
                    <a:pt x="1542" y="422"/>
                  </a:lnTo>
                  <a:lnTo>
                    <a:pt x="1483" y="458"/>
                  </a:lnTo>
                  <a:lnTo>
                    <a:pt x="1426" y="494"/>
                  </a:lnTo>
                  <a:lnTo>
                    <a:pt x="1369" y="532"/>
                  </a:lnTo>
                  <a:lnTo>
                    <a:pt x="1391" y="589"/>
                  </a:lnTo>
                  <a:lnTo>
                    <a:pt x="1412" y="646"/>
                  </a:lnTo>
                  <a:lnTo>
                    <a:pt x="1460" y="922"/>
                  </a:lnTo>
                  <a:lnTo>
                    <a:pt x="1458" y="1062"/>
                  </a:lnTo>
                  <a:lnTo>
                    <a:pt x="1439" y="1199"/>
                  </a:lnTo>
                  <a:lnTo>
                    <a:pt x="1428" y="1249"/>
                  </a:lnTo>
                  <a:lnTo>
                    <a:pt x="1412" y="1300"/>
                  </a:lnTo>
                  <a:lnTo>
                    <a:pt x="1378" y="1397"/>
                  </a:lnTo>
                  <a:lnTo>
                    <a:pt x="1519" y="1370"/>
                  </a:lnTo>
                  <a:lnTo>
                    <a:pt x="1660" y="1348"/>
                  </a:lnTo>
                  <a:lnTo>
                    <a:pt x="1941" y="1300"/>
                  </a:lnTo>
                  <a:lnTo>
                    <a:pt x="2783" y="0"/>
                  </a:lnTo>
                  <a:lnTo>
                    <a:pt x="2852" y="0"/>
                  </a:lnTo>
                  <a:lnTo>
                    <a:pt x="3209" y="0"/>
                  </a:lnTo>
                  <a:lnTo>
                    <a:pt x="2852" y="549"/>
                  </a:lnTo>
                  <a:lnTo>
                    <a:pt x="2401" y="1247"/>
                  </a:lnTo>
                  <a:lnTo>
                    <a:pt x="2793" y="1235"/>
                  </a:lnTo>
                  <a:lnTo>
                    <a:pt x="2852" y="1239"/>
                  </a:lnTo>
                  <a:lnTo>
                    <a:pt x="3040" y="1275"/>
                  </a:lnTo>
                  <a:lnTo>
                    <a:pt x="3110" y="1321"/>
                  </a:lnTo>
                  <a:lnTo>
                    <a:pt x="3127" y="1355"/>
                  </a:lnTo>
                  <a:lnTo>
                    <a:pt x="3129" y="1397"/>
                  </a:lnTo>
                  <a:lnTo>
                    <a:pt x="3116" y="1435"/>
                  </a:lnTo>
                  <a:lnTo>
                    <a:pt x="3095" y="1471"/>
                  </a:lnTo>
                  <a:lnTo>
                    <a:pt x="3072" y="1507"/>
                  </a:lnTo>
                  <a:lnTo>
                    <a:pt x="3044" y="1541"/>
                  </a:lnTo>
                  <a:lnTo>
                    <a:pt x="3013" y="1574"/>
                  </a:lnTo>
                  <a:lnTo>
                    <a:pt x="2983" y="1606"/>
                  </a:lnTo>
                  <a:lnTo>
                    <a:pt x="2951" y="1635"/>
                  </a:lnTo>
                  <a:lnTo>
                    <a:pt x="2922" y="1661"/>
                  </a:lnTo>
                  <a:lnTo>
                    <a:pt x="2888" y="1692"/>
                  </a:lnTo>
                  <a:lnTo>
                    <a:pt x="2852" y="1720"/>
                  </a:lnTo>
                  <a:lnTo>
                    <a:pt x="2816" y="1751"/>
                  </a:lnTo>
                  <a:lnTo>
                    <a:pt x="2778" y="1781"/>
                  </a:lnTo>
                  <a:lnTo>
                    <a:pt x="2740" y="1811"/>
                  </a:lnTo>
                  <a:lnTo>
                    <a:pt x="2701" y="1842"/>
                  </a:lnTo>
                  <a:lnTo>
                    <a:pt x="2663" y="1872"/>
                  </a:lnTo>
                  <a:lnTo>
                    <a:pt x="2625" y="1901"/>
                  </a:lnTo>
                  <a:lnTo>
                    <a:pt x="2587" y="1929"/>
                  </a:lnTo>
                  <a:lnTo>
                    <a:pt x="2549" y="1960"/>
                  </a:lnTo>
                  <a:lnTo>
                    <a:pt x="2509" y="1988"/>
                  </a:lnTo>
                  <a:lnTo>
                    <a:pt x="2471" y="2015"/>
                  </a:lnTo>
                  <a:lnTo>
                    <a:pt x="2433" y="2045"/>
                  </a:lnTo>
                  <a:lnTo>
                    <a:pt x="2393" y="2072"/>
                  </a:lnTo>
                  <a:lnTo>
                    <a:pt x="2354" y="2100"/>
                  </a:lnTo>
                  <a:lnTo>
                    <a:pt x="2316" y="2129"/>
                  </a:lnTo>
                  <a:lnTo>
                    <a:pt x="2276" y="2155"/>
                  </a:lnTo>
                  <a:lnTo>
                    <a:pt x="2236" y="2184"/>
                  </a:lnTo>
                  <a:lnTo>
                    <a:pt x="2196" y="2211"/>
                  </a:lnTo>
                  <a:lnTo>
                    <a:pt x="2158" y="2237"/>
                  </a:lnTo>
                  <a:lnTo>
                    <a:pt x="2118" y="2266"/>
                  </a:lnTo>
                  <a:lnTo>
                    <a:pt x="2078" y="2292"/>
                  </a:lnTo>
                  <a:lnTo>
                    <a:pt x="2038" y="2319"/>
                  </a:lnTo>
                  <a:lnTo>
                    <a:pt x="1998" y="2347"/>
                  </a:lnTo>
                  <a:lnTo>
                    <a:pt x="1958" y="2374"/>
                  </a:lnTo>
                  <a:lnTo>
                    <a:pt x="1918" y="2401"/>
                  </a:lnTo>
                  <a:lnTo>
                    <a:pt x="1878" y="2427"/>
                  </a:lnTo>
                  <a:lnTo>
                    <a:pt x="1838" y="2454"/>
                  </a:lnTo>
                  <a:lnTo>
                    <a:pt x="1798" y="2482"/>
                  </a:lnTo>
                  <a:lnTo>
                    <a:pt x="1758" y="2509"/>
                  </a:lnTo>
                  <a:lnTo>
                    <a:pt x="1719" y="2536"/>
                  </a:lnTo>
                  <a:lnTo>
                    <a:pt x="1679" y="2562"/>
                  </a:lnTo>
                  <a:lnTo>
                    <a:pt x="1639" y="2591"/>
                  </a:lnTo>
                  <a:lnTo>
                    <a:pt x="1601" y="2617"/>
                  </a:lnTo>
                  <a:lnTo>
                    <a:pt x="1720" y="2583"/>
                  </a:lnTo>
                  <a:lnTo>
                    <a:pt x="1840" y="2551"/>
                  </a:lnTo>
                  <a:lnTo>
                    <a:pt x="1962" y="2522"/>
                  </a:lnTo>
                  <a:lnTo>
                    <a:pt x="2085" y="2501"/>
                  </a:lnTo>
                  <a:lnTo>
                    <a:pt x="2110" y="2479"/>
                  </a:lnTo>
                  <a:lnTo>
                    <a:pt x="2135" y="2454"/>
                  </a:lnTo>
                  <a:lnTo>
                    <a:pt x="2186" y="2410"/>
                  </a:lnTo>
                  <a:lnTo>
                    <a:pt x="2241" y="2368"/>
                  </a:lnTo>
                  <a:lnTo>
                    <a:pt x="2298" y="2328"/>
                  </a:lnTo>
                  <a:lnTo>
                    <a:pt x="2359" y="2294"/>
                  </a:lnTo>
                  <a:lnTo>
                    <a:pt x="2420" y="2266"/>
                  </a:lnTo>
                  <a:lnTo>
                    <a:pt x="2485" y="2243"/>
                  </a:lnTo>
                  <a:lnTo>
                    <a:pt x="2553" y="2228"/>
                  </a:lnTo>
                  <a:lnTo>
                    <a:pt x="2701" y="2205"/>
                  </a:lnTo>
                  <a:lnTo>
                    <a:pt x="2852" y="2201"/>
                  </a:lnTo>
                  <a:lnTo>
                    <a:pt x="3183" y="2351"/>
                  </a:lnTo>
                  <a:lnTo>
                    <a:pt x="2852" y="2368"/>
                  </a:lnTo>
                  <a:lnTo>
                    <a:pt x="2825" y="2363"/>
                  </a:lnTo>
                  <a:lnTo>
                    <a:pt x="2690" y="2391"/>
                  </a:lnTo>
                  <a:lnTo>
                    <a:pt x="2639" y="2431"/>
                  </a:lnTo>
                  <a:lnTo>
                    <a:pt x="2587" y="2484"/>
                  </a:lnTo>
                  <a:lnTo>
                    <a:pt x="2713" y="2518"/>
                  </a:lnTo>
                  <a:lnTo>
                    <a:pt x="2823" y="2581"/>
                  </a:lnTo>
                  <a:lnTo>
                    <a:pt x="2852" y="2617"/>
                  </a:lnTo>
                  <a:lnTo>
                    <a:pt x="2852" y="2617"/>
                  </a:lnTo>
                  <a:close/>
                </a:path>
              </a:pathLst>
            </a:custGeom>
            <a:solidFill>
              <a:srgbClr val="99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03440" y="2149560"/>
              <a:ext cx="1265040" cy="1731960"/>
            </a:xfrm>
            <a:custGeom>
              <a:avLst/>
              <a:gdLst/>
              <a:ahLst/>
              <a:rect l="l" t="t" r="r" b="b"/>
              <a:pathLst>
                <a:path w="1593" h="2183">
                  <a:moveTo>
                    <a:pt x="1175" y="187"/>
                  </a:moveTo>
                  <a:lnTo>
                    <a:pt x="1498" y="128"/>
                  </a:lnTo>
                  <a:lnTo>
                    <a:pt x="1175" y="0"/>
                  </a:lnTo>
                  <a:lnTo>
                    <a:pt x="926" y="4"/>
                  </a:lnTo>
                  <a:lnTo>
                    <a:pt x="680" y="63"/>
                  </a:lnTo>
                  <a:lnTo>
                    <a:pt x="593" y="105"/>
                  </a:lnTo>
                  <a:lnTo>
                    <a:pt x="507" y="158"/>
                  </a:lnTo>
                  <a:lnTo>
                    <a:pt x="468" y="187"/>
                  </a:lnTo>
                  <a:lnTo>
                    <a:pt x="430" y="219"/>
                  </a:lnTo>
                  <a:lnTo>
                    <a:pt x="391" y="253"/>
                  </a:lnTo>
                  <a:lnTo>
                    <a:pt x="357" y="288"/>
                  </a:lnTo>
                  <a:lnTo>
                    <a:pt x="323" y="326"/>
                  </a:lnTo>
                  <a:lnTo>
                    <a:pt x="293" y="364"/>
                  </a:lnTo>
                  <a:lnTo>
                    <a:pt x="262" y="403"/>
                  </a:lnTo>
                  <a:lnTo>
                    <a:pt x="236" y="447"/>
                  </a:lnTo>
                  <a:lnTo>
                    <a:pt x="190" y="535"/>
                  </a:lnTo>
                  <a:lnTo>
                    <a:pt x="154" y="626"/>
                  </a:lnTo>
                  <a:lnTo>
                    <a:pt x="118" y="765"/>
                  </a:lnTo>
                  <a:lnTo>
                    <a:pt x="102" y="909"/>
                  </a:lnTo>
                  <a:lnTo>
                    <a:pt x="106" y="1057"/>
                  </a:lnTo>
                  <a:lnTo>
                    <a:pt x="125" y="1198"/>
                  </a:lnTo>
                  <a:lnTo>
                    <a:pt x="135" y="1246"/>
                  </a:lnTo>
                  <a:lnTo>
                    <a:pt x="148" y="1291"/>
                  </a:lnTo>
                  <a:lnTo>
                    <a:pt x="163" y="1335"/>
                  </a:lnTo>
                  <a:lnTo>
                    <a:pt x="182" y="1379"/>
                  </a:lnTo>
                  <a:lnTo>
                    <a:pt x="201" y="1420"/>
                  </a:lnTo>
                  <a:lnTo>
                    <a:pt x="224" y="1462"/>
                  </a:lnTo>
                  <a:lnTo>
                    <a:pt x="247" y="1504"/>
                  </a:lnTo>
                  <a:lnTo>
                    <a:pt x="272" y="1546"/>
                  </a:lnTo>
                  <a:lnTo>
                    <a:pt x="232" y="1591"/>
                  </a:lnTo>
                  <a:lnTo>
                    <a:pt x="190" y="1639"/>
                  </a:lnTo>
                  <a:lnTo>
                    <a:pt x="152" y="1688"/>
                  </a:lnTo>
                  <a:lnTo>
                    <a:pt x="114" y="1738"/>
                  </a:lnTo>
                  <a:lnTo>
                    <a:pt x="80" y="1789"/>
                  </a:lnTo>
                  <a:lnTo>
                    <a:pt x="49" y="1844"/>
                  </a:lnTo>
                  <a:lnTo>
                    <a:pt x="23" y="1901"/>
                  </a:lnTo>
                  <a:lnTo>
                    <a:pt x="2" y="1960"/>
                  </a:lnTo>
                  <a:lnTo>
                    <a:pt x="0" y="2025"/>
                  </a:lnTo>
                  <a:lnTo>
                    <a:pt x="13" y="2074"/>
                  </a:lnTo>
                  <a:lnTo>
                    <a:pt x="28" y="2095"/>
                  </a:lnTo>
                  <a:lnTo>
                    <a:pt x="47" y="2112"/>
                  </a:lnTo>
                  <a:lnTo>
                    <a:pt x="102" y="2147"/>
                  </a:lnTo>
                  <a:lnTo>
                    <a:pt x="232" y="2175"/>
                  </a:lnTo>
                  <a:lnTo>
                    <a:pt x="365" y="2183"/>
                  </a:lnTo>
                  <a:lnTo>
                    <a:pt x="631" y="2175"/>
                  </a:lnTo>
                  <a:lnTo>
                    <a:pt x="903" y="2145"/>
                  </a:lnTo>
                  <a:lnTo>
                    <a:pt x="1175" y="2105"/>
                  </a:lnTo>
                  <a:lnTo>
                    <a:pt x="1593" y="1821"/>
                  </a:lnTo>
                  <a:lnTo>
                    <a:pt x="1175" y="1548"/>
                  </a:lnTo>
                  <a:lnTo>
                    <a:pt x="1076" y="1569"/>
                  </a:lnTo>
                  <a:lnTo>
                    <a:pt x="977" y="1590"/>
                  </a:lnTo>
                  <a:lnTo>
                    <a:pt x="998" y="1542"/>
                  </a:lnTo>
                  <a:lnTo>
                    <a:pt x="1019" y="1498"/>
                  </a:lnTo>
                  <a:lnTo>
                    <a:pt x="1042" y="1453"/>
                  </a:lnTo>
                  <a:lnTo>
                    <a:pt x="1065" y="1409"/>
                  </a:lnTo>
                  <a:lnTo>
                    <a:pt x="1091" y="1367"/>
                  </a:lnTo>
                  <a:lnTo>
                    <a:pt x="1118" y="1325"/>
                  </a:lnTo>
                  <a:lnTo>
                    <a:pt x="1144" y="1284"/>
                  </a:lnTo>
                  <a:lnTo>
                    <a:pt x="1175" y="1244"/>
                  </a:lnTo>
                  <a:lnTo>
                    <a:pt x="1498" y="808"/>
                  </a:lnTo>
                  <a:lnTo>
                    <a:pt x="1175" y="770"/>
                  </a:lnTo>
                  <a:lnTo>
                    <a:pt x="1118" y="812"/>
                  </a:lnTo>
                  <a:lnTo>
                    <a:pt x="1061" y="856"/>
                  </a:lnTo>
                  <a:lnTo>
                    <a:pt x="1006" y="898"/>
                  </a:lnTo>
                  <a:lnTo>
                    <a:pt x="950" y="941"/>
                  </a:lnTo>
                  <a:lnTo>
                    <a:pt x="897" y="983"/>
                  </a:lnTo>
                  <a:lnTo>
                    <a:pt x="844" y="1025"/>
                  </a:lnTo>
                  <a:lnTo>
                    <a:pt x="791" y="1067"/>
                  </a:lnTo>
                  <a:lnTo>
                    <a:pt x="739" y="1111"/>
                  </a:lnTo>
                  <a:lnTo>
                    <a:pt x="738" y="945"/>
                  </a:lnTo>
                  <a:lnTo>
                    <a:pt x="739" y="780"/>
                  </a:lnTo>
                  <a:lnTo>
                    <a:pt x="753" y="599"/>
                  </a:lnTo>
                  <a:lnTo>
                    <a:pt x="770" y="500"/>
                  </a:lnTo>
                  <a:lnTo>
                    <a:pt x="781" y="451"/>
                  </a:lnTo>
                  <a:lnTo>
                    <a:pt x="795" y="402"/>
                  </a:lnTo>
                  <a:lnTo>
                    <a:pt x="812" y="356"/>
                  </a:lnTo>
                  <a:lnTo>
                    <a:pt x="833" y="312"/>
                  </a:lnTo>
                  <a:lnTo>
                    <a:pt x="855" y="272"/>
                  </a:lnTo>
                  <a:lnTo>
                    <a:pt x="884" y="236"/>
                  </a:lnTo>
                  <a:lnTo>
                    <a:pt x="916" y="208"/>
                  </a:lnTo>
                  <a:lnTo>
                    <a:pt x="954" y="183"/>
                  </a:lnTo>
                  <a:lnTo>
                    <a:pt x="1042" y="156"/>
                  </a:lnTo>
                  <a:lnTo>
                    <a:pt x="1175" y="187"/>
                  </a:lnTo>
                  <a:lnTo>
                    <a:pt x="1175" y="187"/>
                  </a:lnTo>
                  <a:close/>
                </a:path>
              </a:pathLst>
            </a:custGeom>
            <a:solidFill>
              <a:srgbClr val="99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63560" y="2281320"/>
              <a:ext cx="3357720" cy="3012840"/>
            </a:xfrm>
            <a:custGeom>
              <a:avLst/>
              <a:gdLst/>
              <a:ahLst/>
              <a:rect l="l" t="t" r="r" b="b"/>
              <a:pathLst>
                <a:path w="4230" h="3796">
                  <a:moveTo>
                    <a:pt x="1494" y="0"/>
                  </a:moveTo>
                  <a:lnTo>
                    <a:pt x="1838" y="64"/>
                  </a:lnTo>
                  <a:lnTo>
                    <a:pt x="1652" y="409"/>
                  </a:lnTo>
                  <a:lnTo>
                    <a:pt x="1247" y="802"/>
                  </a:lnTo>
                  <a:lnTo>
                    <a:pt x="1053" y="696"/>
                  </a:lnTo>
                  <a:lnTo>
                    <a:pt x="741" y="1203"/>
                  </a:lnTo>
                  <a:lnTo>
                    <a:pt x="812" y="1340"/>
                  </a:lnTo>
                  <a:lnTo>
                    <a:pt x="1055" y="1249"/>
                  </a:lnTo>
                  <a:lnTo>
                    <a:pt x="1215" y="1089"/>
                  </a:lnTo>
                  <a:lnTo>
                    <a:pt x="1684" y="967"/>
                  </a:lnTo>
                  <a:lnTo>
                    <a:pt x="1818" y="1146"/>
                  </a:lnTo>
                  <a:lnTo>
                    <a:pt x="2143" y="1068"/>
                  </a:lnTo>
                  <a:lnTo>
                    <a:pt x="2386" y="908"/>
                  </a:lnTo>
                  <a:lnTo>
                    <a:pt x="2804" y="863"/>
                  </a:lnTo>
                  <a:lnTo>
                    <a:pt x="2778" y="1013"/>
                  </a:lnTo>
                  <a:lnTo>
                    <a:pt x="1985" y="2311"/>
                  </a:lnTo>
                  <a:lnTo>
                    <a:pt x="2367" y="2211"/>
                  </a:lnTo>
                  <a:lnTo>
                    <a:pt x="2591" y="2106"/>
                  </a:lnTo>
                  <a:lnTo>
                    <a:pt x="2956" y="2019"/>
                  </a:lnTo>
                  <a:lnTo>
                    <a:pt x="2991" y="2266"/>
                  </a:lnTo>
                  <a:lnTo>
                    <a:pt x="2924" y="3246"/>
                  </a:lnTo>
                  <a:lnTo>
                    <a:pt x="3015" y="3724"/>
                  </a:lnTo>
                  <a:lnTo>
                    <a:pt x="3401" y="3725"/>
                  </a:lnTo>
                  <a:lnTo>
                    <a:pt x="3517" y="3353"/>
                  </a:lnTo>
                  <a:lnTo>
                    <a:pt x="3297" y="3340"/>
                  </a:lnTo>
                  <a:lnTo>
                    <a:pt x="3369" y="3034"/>
                  </a:lnTo>
                  <a:lnTo>
                    <a:pt x="3580" y="2682"/>
                  </a:lnTo>
                  <a:lnTo>
                    <a:pt x="4025" y="2577"/>
                  </a:lnTo>
                  <a:lnTo>
                    <a:pt x="4230" y="2766"/>
                  </a:lnTo>
                  <a:lnTo>
                    <a:pt x="4160" y="2897"/>
                  </a:lnTo>
                  <a:lnTo>
                    <a:pt x="4012" y="3113"/>
                  </a:lnTo>
                  <a:lnTo>
                    <a:pt x="3487" y="3705"/>
                  </a:lnTo>
                  <a:lnTo>
                    <a:pt x="3335" y="3792"/>
                  </a:lnTo>
                  <a:lnTo>
                    <a:pt x="2991" y="3784"/>
                  </a:lnTo>
                  <a:lnTo>
                    <a:pt x="2791" y="3744"/>
                  </a:lnTo>
                  <a:lnTo>
                    <a:pt x="2472" y="3796"/>
                  </a:lnTo>
                  <a:lnTo>
                    <a:pt x="2088" y="3254"/>
                  </a:lnTo>
                  <a:lnTo>
                    <a:pt x="2238" y="2918"/>
                  </a:lnTo>
                  <a:lnTo>
                    <a:pt x="2217" y="2821"/>
                  </a:lnTo>
                  <a:lnTo>
                    <a:pt x="2048" y="2682"/>
                  </a:lnTo>
                  <a:lnTo>
                    <a:pt x="1570" y="2902"/>
                  </a:lnTo>
                  <a:lnTo>
                    <a:pt x="1272" y="3134"/>
                  </a:lnTo>
                  <a:lnTo>
                    <a:pt x="901" y="3214"/>
                  </a:lnTo>
                  <a:lnTo>
                    <a:pt x="893" y="2956"/>
                  </a:lnTo>
                  <a:lnTo>
                    <a:pt x="1816" y="1534"/>
                  </a:lnTo>
                  <a:lnTo>
                    <a:pt x="987" y="1714"/>
                  </a:lnTo>
                  <a:lnTo>
                    <a:pt x="40" y="1635"/>
                  </a:lnTo>
                  <a:lnTo>
                    <a:pt x="51" y="1317"/>
                  </a:lnTo>
                  <a:lnTo>
                    <a:pt x="0" y="1083"/>
                  </a:lnTo>
                  <a:lnTo>
                    <a:pt x="430" y="711"/>
                  </a:lnTo>
                  <a:lnTo>
                    <a:pt x="667" y="836"/>
                  </a:lnTo>
                  <a:lnTo>
                    <a:pt x="1101" y="426"/>
                  </a:lnTo>
                  <a:lnTo>
                    <a:pt x="1226" y="87"/>
                  </a:lnTo>
                  <a:lnTo>
                    <a:pt x="1494" y="0"/>
                  </a:lnTo>
                  <a:lnTo>
                    <a:pt x="1494" y="0"/>
                  </a:lnTo>
                  <a:close/>
                </a:path>
              </a:pathLst>
            </a:custGeom>
            <a:solidFill>
              <a:srgbClr val="5c5c7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79880" y="4697280"/>
              <a:ext cx="610920" cy="639720"/>
            </a:xfrm>
            <a:custGeom>
              <a:avLst/>
              <a:gdLst/>
              <a:ahLst/>
              <a:rect l="l" t="t" r="r" b="b"/>
              <a:pathLst>
                <a:path w="770" h="806">
                  <a:moveTo>
                    <a:pt x="770" y="717"/>
                  </a:moveTo>
                  <a:lnTo>
                    <a:pt x="711" y="743"/>
                  </a:lnTo>
                  <a:lnTo>
                    <a:pt x="654" y="762"/>
                  </a:lnTo>
                  <a:lnTo>
                    <a:pt x="543" y="795"/>
                  </a:lnTo>
                  <a:lnTo>
                    <a:pt x="346" y="806"/>
                  </a:lnTo>
                  <a:lnTo>
                    <a:pt x="253" y="766"/>
                  </a:lnTo>
                  <a:lnTo>
                    <a:pt x="177" y="724"/>
                  </a:lnTo>
                  <a:lnTo>
                    <a:pt x="114" y="679"/>
                  </a:lnTo>
                  <a:lnTo>
                    <a:pt x="66" y="633"/>
                  </a:lnTo>
                  <a:lnTo>
                    <a:pt x="11" y="536"/>
                  </a:lnTo>
                  <a:lnTo>
                    <a:pt x="0" y="433"/>
                  </a:lnTo>
                  <a:lnTo>
                    <a:pt x="11" y="380"/>
                  </a:lnTo>
                  <a:lnTo>
                    <a:pt x="28" y="327"/>
                  </a:lnTo>
                  <a:lnTo>
                    <a:pt x="55" y="274"/>
                  </a:lnTo>
                  <a:lnTo>
                    <a:pt x="70" y="245"/>
                  </a:lnTo>
                  <a:lnTo>
                    <a:pt x="89" y="219"/>
                  </a:lnTo>
                  <a:lnTo>
                    <a:pt x="106" y="192"/>
                  </a:lnTo>
                  <a:lnTo>
                    <a:pt x="127" y="164"/>
                  </a:lnTo>
                  <a:lnTo>
                    <a:pt x="148" y="137"/>
                  </a:lnTo>
                  <a:lnTo>
                    <a:pt x="171" y="110"/>
                  </a:lnTo>
                  <a:lnTo>
                    <a:pt x="196" y="82"/>
                  </a:lnTo>
                  <a:lnTo>
                    <a:pt x="220" y="55"/>
                  </a:lnTo>
                  <a:lnTo>
                    <a:pt x="245" y="27"/>
                  </a:lnTo>
                  <a:lnTo>
                    <a:pt x="272" y="0"/>
                  </a:lnTo>
                  <a:lnTo>
                    <a:pt x="285" y="78"/>
                  </a:lnTo>
                  <a:lnTo>
                    <a:pt x="306" y="154"/>
                  </a:lnTo>
                  <a:lnTo>
                    <a:pt x="317" y="190"/>
                  </a:lnTo>
                  <a:lnTo>
                    <a:pt x="332" y="226"/>
                  </a:lnTo>
                  <a:lnTo>
                    <a:pt x="363" y="295"/>
                  </a:lnTo>
                  <a:lnTo>
                    <a:pt x="399" y="363"/>
                  </a:lnTo>
                  <a:lnTo>
                    <a:pt x="420" y="395"/>
                  </a:lnTo>
                  <a:lnTo>
                    <a:pt x="443" y="426"/>
                  </a:lnTo>
                  <a:lnTo>
                    <a:pt x="466" y="456"/>
                  </a:lnTo>
                  <a:lnTo>
                    <a:pt x="490" y="487"/>
                  </a:lnTo>
                  <a:lnTo>
                    <a:pt x="517" y="517"/>
                  </a:lnTo>
                  <a:lnTo>
                    <a:pt x="543" y="546"/>
                  </a:lnTo>
                  <a:lnTo>
                    <a:pt x="570" y="572"/>
                  </a:lnTo>
                  <a:lnTo>
                    <a:pt x="597" y="597"/>
                  </a:lnTo>
                  <a:lnTo>
                    <a:pt x="625" y="620"/>
                  </a:lnTo>
                  <a:lnTo>
                    <a:pt x="652" y="641"/>
                  </a:lnTo>
                  <a:lnTo>
                    <a:pt x="711" y="682"/>
                  </a:lnTo>
                  <a:lnTo>
                    <a:pt x="770" y="717"/>
                  </a:lnTo>
                  <a:lnTo>
                    <a:pt x="770" y="717"/>
                  </a:ln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29120" y="4262400"/>
              <a:ext cx="407880" cy="353880"/>
            </a:xfrm>
            <a:custGeom>
              <a:avLst/>
              <a:gdLst/>
              <a:ahLst/>
              <a:rect l="l" t="t" r="r" b="b"/>
              <a:pathLst>
                <a:path w="514" h="446">
                  <a:moveTo>
                    <a:pt x="0" y="159"/>
                  </a:moveTo>
                  <a:lnTo>
                    <a:pt x="73" y="135"/>
                  </a:lnTo>
                  <a:lnTo>
                    <a:pt x="143" y="110"/>
                  </a:lnTo>
                  <a:lnTo>
                    <a:pt x="278" y="66"/>
                  </a:lnTo>
                  <a:lnTo>
                    <a:pt x="403" y="30"/>
                  </a:lnTo>
                  <a:lnTo>
                    <a:pt x="514" y="0"/>
                  </a:lnTo>
                  <a:lnTo>
                    <a:pt x="493" y="273"/>
                  </a:lnTo>
                  <a:lnTo>
                    <a:pt x="375" y="306"/>
                  </a:lnTo>
                  <a:lnTo>
                    <a:pt x="257" y="346"/>
                  </a:lnTo>
                  <a:lnTo>
                    <a:pt x="137" y="393"/>
                  </a:lnTo>
                  <a:lnTo>
                    <a:pt x="76" y="418"/>
                  </a:lnTo>
                  <a:lnTo>
                    <a:pt x="16" y="446"/>
                  </a:lnTo>
                  <a:lnTo>
                    <a:pt x="19" y="372"/>
                  </a:lnTo>
                  <a:lnTo>
                    <a:pt x="14" y="262"/>
                  </a:lnTo>
                  <a:lnTo>
                    <a:pt x="0" y="159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22560" y="4003560"/>
              <a:ext cx="484200" cy="1136880"/>
            </a:xfrm>
            <a:custGeom>
              <a:avLst/>
              <a:gdLst/>
              <a:ahLst/>
              <a:rect l="l" t="t" r="r" b="b"/>
              <a:pathLst>
                <a:path w="610" h="1431">
                  <a:moveTo>
                    <a:pt x="131" y="0"/>
                  </a:moveTo>
                  <a:lnTo>
                    <a:pt x="283" y="51"/>
                  </a:lnTo>
                  <a:lnTo>
                    <a:pt x="388" y="146"/>
                  </a:lnTo>
                  <a:lnTo>
                    <a:pt x="417" y="212"/>
                  </a:lnTo>
                  <a:lnTo>
                    <a:pt x="426" y="292"/>
                  </a:lnTo>
                  <a:lnTo>
                    <a:pt x="415" y="387"/>
                  </a:lnTo>
                  <a:lnTo>
                    <a:pt x="401" y="441"/>
                  </a:lnTo>
                  <a:lnTo>
                    <a:pt x="382" y="498"/>
                  </a:lnTo>
                  <a:lnTo>
                    <a:pt x="363" y="547"/>
                  </a:lnTo>
                  <a:lnTo>
                    <a:pt x="344" y="589"/>
                  </a:lnTo>
                  <a:lnTo>
                    <a:pt x="308" y="661"/>
                  </a:lnTo>
                  <a:lnTo>
                    <a:pt x="291" y="691"/>
                  </a:lnTo>
                  <a:lnTo>
                    <a:pt x="274" y="716"/>
                  </a:lnTo>
                  <a:lnTo>
                    <a:pt x="242" y="762"/>
                  </a:lnTo>
                  <a:lnTo>
                    <a:pt x="209" y="798"/>
                  </a:lnTo>
                  <a:lnTo>
                    <a:pt x="175" y="832"/>
                  </a:lnTo>
                  <a:lnTo>
                    <a:pt x="143" y="866"/>
                  </a:lnTo>
                  <a:lnTo>
                    <a:pt x="107" y="904"/>
                  </a:lnTo>
                  <a:lnTo>
                    <a:pt x="213" y="864"/>
                  </a:lnTo>
                  <a:lnTo>
                    <a:pt x="335" y="821"/>
                  </a:lnTo>
                  <a:lnTo>
                    <a:pt x="399" y="796"/>
                  </a:lnTo>
                  <a:lnTo>
                    <a:pt x="468" y="771"/>
                  </a:lnTo>
                  <a:lnTo>
                    <a:pt x="538" y="747"/>
                  </a:lnTo>
                  <a:lnTo>
                    <a:pt x="610" y="720"/>
                  </a:lnTo>
                  <a:lnTo>
                    <a:pt x="601" y="971"/>
                  </a:lnTo>
                  <a:lnTo>
                    <a:pt x="590" y="1077"/>
                  </a:lnTo>
                  <a:lnTo>
                    <a:pt x="574" y="1171"/>
                  </a:lnTo>
                  <a:lnTo>
                    <a:pt x="519" y="1207"/>
                  </a:lnTo>
                  <a:lnTo>
                    <a:pt x="464" y="1239"/>
                  </a:lnTo>
                  <a:lnTo>
                    <a:pt x="409" y="1273"/>
                  </a:lnTo>
                  <a:lnTo>
                    <a:pt x="356" y="1305"/>
                  </a:lnTo>
                  <a:lnTo>
                    <a:pt x="302" y="1338"/>
                  </a:lnTo>
                  <a:lnTo>
                    <a:pt x="249" y="1370"/>
                  </a:lnTo>
                  <a:lnTo>
                    <a:pt x="198" y="1401"/>
                  </a:lnTo>
                  <a:lnTo>
                    <a:pt x="147" y="1431"/>
                  </a:lnTo>
                  <a:lnTo>
                    <a:pt x="72" y="1302"/>
                  </a:lnTo>
                  <a:lnTo>
                    <a:pt x="42" y="1188"/>
                  </a:lnTo>
                  <a:lnTo>
                    <a:pt x="19" y="1039"/>
                  </a:lnTo>
                  <a:lnTo>
                    <a:pt x="0" y="648"/>
                  </a:lnTo>
                  <a:lnTo>
                    <a:pt x="6" y="475"/>
                  </a:lnTo>
                  <a:lnTo>
                    <a:pt x="21" y="325"/>
                  </a:lnTo>
                  <a:lnTo>
                    <a:pt x="44" y="197"/>
                  </a:lnTo>
                  <a:lnTo>
                    <a:pt x="59" y="144"/>
                  </a:lnTo>
                  <a:lnTo>
                    <a:pt x="78" y="95"/>
                  </a:lnTo>
                  <a:lnTo>
                    <a:pt x="103" y="43"/>
                  </a:lnTo>
                  <a:lnTo>
                    <a:pt x="116" y="21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09800" y="3005280"/>
              <a:ext cx="1630440" cy="1660320"/>
            </a:xfrm>
            <a:custGeom>
              <a:avLst/>
              <a:gdLst/>
              <a:ahLst/>
              <a:rect l="l" t="t" r="r" b="b"/>
              <a:pathLst>
                <a:path w="2053" h="2091">
                  <a:moveTo>
                    <a:pt x="1348" y="8"/>
                  </a:moveTo>
                  <a:lnTo>
                    <a:pt x="1743" y="0"/>
                  </a:lnTo>
                  <a:lnTo>
                    <a:pt x="1892" y="21"/>
                  </a:lnTo>
                  <a:lnTo>
                    <a:pt x="1998" y="61"/>
                  </a:lnTo>
                  <a:lnTo>
                    <a:pt x="2053" y="122"/>
                  </a:lnTo>
                  <a:lnTo>
                    <a:pt x="2050" y="207"/>
                  </a:lnTo>
                  <a:lnTo>
                    <a:pt x="2025" y="261"/>
                  </a:lnTo>
                  <a:lnTo>
                    <a:pt x="2006" y="289"/>
                  </a:lnTo>
                  <a:lnTo>
                    <a:pt x="1983" y="321"/>
                  </a:lnTo>
                  <a:lnTo>
                    <a:pt x="1954" y="354"/>
                  </a:lnTo>
                  <a:lnTo>
                    <a:pt x="1922" y="388"/>
                  </a:lnTo>
                  <a:lnTo>
                    <a:pt x="1884" y="424"/>
                  </a:lnTo>
                  <a:lnTo>
                    <a:pt x="1842" y="462"/>
                  </a:lnTo>
                  <a:lnTo>
                    <a:pt x="1804" y="494"/>
                  </a:lnTo>
                  <a:lnTo>
                    <a:pt x="1768" y="527"/>
                  </a:lnTo>
                  <a:lnTo>
                    <a:pt x="1730" y="557"/>
                  </a:lnTo>
                  <a:lnTo>
                    <a:pt x="1694" y="588"/>
                  </a:lnTo>
                  <a:lnTo>
                    <a:pt x="1656" y="616"/>
                  </a:lnTo>
                  <a:lnTo>
                    <a:pt x="1620" y="647"/>
                  </a:lnTo>
                  <a:lnTo>
                    <a:pt x="1584" y="675"/>
                  </a:lnTo>
                  <a:lnTo>
                    <a:pt x="1546" y="704"/>
                  </a:lnTo>
                  <a:lnTo>
                    <a:pt x="1510" y="732"/>
                  </a:lnTo>
                  <a:lnTo>
                    <a:pt x="1472" y="761"/>
                  </a:lnTo>
                  <a:lnTo>
                    <a:pt x="1435" y="787"/>
                  </a:lnTo>
                  <a:lnTo>
                    <a:pt x="1397" y="814"/>
                  </a:lnTo>
                  <a:lnTo>
                    <a:pt x="1361" y="840"/>
                  </a:lnTo>
                  <a:lnTo>
                    <a:pt x="1323" y="867"/>
                  </a:lnTo>
                  <a:lnTo>
                    <a:pt x="1287" y="894"/>
                  </a:lnTo>
                  <a:lnTo>
                    <a:pt x="1249" y="920"/>
                  </a:lnTo>
                  <a:lnTo>
                    <a:pt x="1211" y="947"/>
                  </a:lnTo>
                  <a:lnTo>
                    <a:pt x="1175" y="973"/>
                  </a:lnTo>
                  <a:lnTo>
                    <a:pt x="1137" y="998"/>
                  </a:lnTo>
                  <a:lnTo>
                    <a:pt x="1099" y="1025"/>
                  </a:lnTo>
                  <a:lnTo>
                    <a:pt x="1061" y="1051"/>
                  </a:lnTo>
                  <a:lnTo>
                    <a:pt x="1023" y="1076"/>
                  </a:lnTo>
                  <a:lnTo>
                    <a:pt x="983" y="1103"/>
                  </a:lnTo>
                  <a:lnTo>
                    <a:pt x="945" y="1129"/>
                  </a:lnTo>
                  <a:lnTo>
                    <a:pt x="905" y="1154"/>
                  </a:lnTo>
                  <a:lnTo>
                    <a:pt x="867" y="1181"/>
                  </a:lnTo>
                  <a:lnTo>
                    <a:pt x="827" y="1207"/>
                  </a:lnTo>
                  <a:lnTo>
                    <a:pt x="787" y="1234"/>
                  </a:lnTo>
                  <a:lnTo>
                    <a:pt x="747" y="1262"/>
                  </a:lnTo>
                  <a:lnTo>
                    <a:pt x="707" y="1289"/>
                  </a:lnTo>
                  <a:lnTo>
                    <a:pt x="667" y="1318"/>
                  </a:lnTo>
                  <a:lnTo>
                    <a:pt x="627" y="1344"/>
                  </a:lnTo>
                  <a:lnTo>
                    <a:pt x="772" y="1308"/>
                  </a:lnTo>
                  <a:lnTo>
                    <a:pt x="873" y="1287"/>
                  </a:lnTo>
                  <a:lnTo>
                    <a:pt x="985" y="1268"/>
                  </a:lnTo>
                  <a:lnTo>
                    <a:pt x="956" y="1299"/>
                  </a:lnTo>
                  <a:lnTo>
                    <a:pt x="930" y="1331"/>
                  </a:lnTo>
                  <a:lnTo>
                    <a:pt x="905" y="1365"/>
                  </a:lnTo>
                  <a:lnTo>
                    <a:pt x="882" y="1399"/>
                  </a:lnTo>
                  <a:lnTo>
                    <a:pt x="861" y="1433"/>
                  </a:lnTo>
                  <a:lnTo>
                    <a:pt x="840" y="1468"/>
                  </a:lnTo>
                  <a:lnTo>
                    <a:pt x="804" y="1542"/>
                  </a:lnTo>
                  <a:lnTo>
                    <a:pt x="755" y="1700"/>
                  </a:lnTo>
                  <a:lnTo>
                    <a:pt x="728" y="1871"/>
                  </a:lnTo>
                  <a:lnTo>
                    <a:pt x="644" y="1897"/>
                  </a:lnTo>
                  <a:lnTo>
                    <a:pt x="557" y="1926"/>
                  </a:lnTo>
                  <a:lnTo>
                    <a:pt x="468" y="1952"/>
                  </a:lnTo>
                  <a:lnTo>
                    <a:pt x="376" y="1981"/>
                  </a:lnTo>
                  <a:lnTo>
                    <a:pt x="283" y="2009"/>
                  </a:lnTo>
                  <a:lnTo>
                    <a:pt x="188" y="2038"/>
                  </a:lnTo>
                  <a:lnTo>
                    <a:pt x="93" y="2065"/>
                  </a:lnTo>
                  <a:lnTo>
                    <a:pt x="0" y="2091"/>
                  </a:lnTo>
                  <a:lnTo>
                    <a:pt x="1348" y="8"/>
                  </a:lnTo>
                  <a:lnTo>
                    <a:pt x="1348" y="8"/>
                  </a:ln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77800" y="3057480"/>
              <a:ext cx="1995480" cy="1693800"/>
            </a:xfrm>
            <a:custGeom>
              <a:avLst/>
              <a:gdLst/>
              <a:ahLst/>
              <a:rect l="l" t="t" r="r" b="b"/>
              <a:pathLst>
                <a:path w="2514" h="2133">
                  <a:moveTo>
                    <a:pt x="1994" y="87"/>
                  </a:moveTo>
                  <a:lnTo>
                    <a:pt x="2251" y="42"/>
                  </a:lnTo>
                  <a:lnTo>
                    <a:pt x="2514" y="0"/>
                  </a:lnTo>
                  <a:lnTo>
                    <a:pt x="1133" y="2131"/>
                  </a:lnTo>
                  <a:lnTo>
                    <a:pt x="894" y="2133"/>
                  </a:lnTo>
                  <a:lnTo>
                    <a:pt x="715" y="2079"/>
                  </a:lnTo>
                  <a:lnTo>
                    <a:pt x="660" y="2041"/>
                  </a:lnTo>
                  <a:lnTo>
                    <a:pt x="616" y="2001"/>
                  </a:lnTo>
                  <a:lnTo>
                    <a:pt x="565" y="1914"/>
                  </a:lnTo>
                  <a:lnTo>
                    <a:pt x="553" y="1823"/>
                  </a:lnTo>
                  <a:lnTo>
                    <a:pt x="561" y="1775"/>
                  </a:lnTo>
                  <a:lnTo>
                    <a:pt x="578" y="1726"/>
                  </a:lnTo>
                  <a:lnTo>
                    <a:pt x="603" y="1676"/>
                  </a:lnTo>
                  <a:lnTo>
                    <a:pt x="618" y="1652"/>
                  </a:lnTo>
                  <a:lnTo>
                    <a:pt x="635" y="1627"/>
                  </a:lnTo>
                  <a:lnTo>
                    <a:pt x="652" y="1602"/>
                  </a:lnTo>
                  <a:lnTo>
                    <a:pt x="673" y="1576"/>
                  </a:lnTo>
                  <a:lnTo>
                    <a:pt x="694" y="1551"/>
                  </a:lnTo>
                  <a:lnTo>
                    <a:pt x="717" y="1526"/>
                  </a:lnTo>
                  <a:lnTo>
                    <a:pt x="740" y="1500"/>
                  </a:lnTo>
                  <a:lnTo>
                    <a:pt x="766" y="1475"/>
                  </a:lnTo>
                  <a:lnTo>
                    <a:pt x="793" y="1450"/>
                  </a:lnTo>
                  <a:lnTo>
                    <a:pt x="819" y="1423"/>
                  </a:lnTo>
                  <a:lnTo>
                    <a:pt x="848" y="1399"/>
                  </a:lnTo>
                  <a:lnTo>
                    <a:pt x="878" y="1374"/>
                  </a:lnTo>
                  <a:lnTo>
                    <a:pt x="909" y="1347"/>
                  </a:lnTo>
                  <a:lnTo>
                    <a:pt x="939" y="1323"/>
                  </a:lnTo>
                  <a:lnTo>
                    <a:pt x="972" y="1298"/>
                  </a:lnTo>
                  <a:lnTo>
                    <a:pt x="1004" y="1273"/>
                  </a:lnTo>
                  <a:lnTo>
                    <a:pt x="1036" y="1251"/>
                  </a:lnTo>
                  <a:lnTo>
                    <a:pt x="1070" y="1226"/>
                  </a:lnTo>
                  <a:lnTo>
                    <a:pt x="1137" y="1178"/>
                  </a:lnTo>
                  <a:lnTo>
                    <a:pt x="1207" y="1133"/>
                  </a:lnTo>
                  <a:lnTo>
                    <a:pt x="1276" y="1087"/>
                  </a:lnTo>
                  <a:lnTo>
                    <a:pt x="1344" y="1043"/>
                  </a:lnTo>
                  <a:lnTo>
                    <a:pt x="1413" y="1002"/>
                  </a:lnTo>
                  <a:lnTo>
                    <a:pt x="1479" y="962"/>
                  </a:lnTo>
                  <a:lnTo>
                    <a:pt x="1542" y="924"/>
                  </a:lnTo>
                  <a:lnTo>
                    <a:pt x="1603" y="887"/>
                  </a:lnTo>
                  <a:lnTo>
                    <a:pt x="1662" y="853"/>
                  </a:lnTo>
                  <a:lnTo>
                    <a:pt x="1715" y="823"/>
                  </a:lnTo>
                  <a:lnTo>
                    <a:pt x="1763" y="796"/>
                  </a:lnTo>
                  <a:lnTo>
                    <a:pt x="1806" y="770"/>
                  </a:lnTo>
                  <a:lnTo>
                    <a:pt x="1875" y="728"/>
                  </a:lnTo>
                  <a:lnTo>
                    <a:pt x="1664" y="766"/>
                  </a:lnTo>
                  <a:lnTo>
                    <a:pt x="1462" y="804"/>
                  </a:lnTo>
                  <a:lnTo>
                    <a:pt x="1266" y="840"/>
                  </a:lnTo>
                  <a:lnTo>
                    <a:pt x="1076" y="872"/>
                  </a:lnTo>
                  <a:lnTo>
                    <a:pt x="888" y="899"/>
                  </a:lnTo>
                  <a:lnTo>
                    <a:pt x="702" y="918"/>
                  </a:lnTo>
                  <a:lnTo>
                    <a:pt x="325" y="927"/>
                  </a:lnTo>
                  <a:lnTo>
                    <a:pt x="175" y="910"/>
                  </a:lnTo>
                  <a:lnTo>
                    <a:pt x="72" y="868"/>
                  </a:lnTo>
                  <a:lnTo>
                    <a:pt x="15" y="808"/>
                  </a:lnTo>
                  <a:lnTo>
                    <a:pt x="0" y="728"/>
                  </a:lnTo>
                  <a:lnTo>
                    <a:pt x="4" y="680"/>
                  </a:lnTo>
                  <a:lnTo>
                    <a:pt x="19" y="631"/>
                  </a:lnTo>
                  <a:lnTo>
                    <a:pt x="42" y="578"/>
                  </a:lnTo>
                  <a:lnTo>
                    <a:pt x="74" y="521"/>
                  </a:lnTo>
                  <a:lnTo>
                    <a:pt x="93" y="490"/>
                  </a:lnTo>
                  <a:lnTo>
                    <a:pt x="112" y="462"/>
                  </a:lnTo>
                  <a:lnTo>
                    <a:pt x="135" y="429"/>
                  </a:lnTo>
                  <a:lnTo>
                    <a:pt x="158" y="399"/>
                  </a:lnTo>
                  <a:lnTo>
                    <a:pt x="184" y="367"/>
                  </a:lnTo>
                  <a:lnTo>
                    <a:pt x="211" y="334"/>
                  </a:lnTo>
                  <a:lnTo>
                    <a:pt x="240" y="300"/>
                  </a:lnTo>
                  <a:lnTo>
                    <a:pt x="270" y="268"/>
                  </a:lnTo>
                  <a:lnTo>
                    <a:pt x="295" y="304"/>
                  </a:lnTo>
                  <a:lnTo>
                    <a:pt x="323" y="340"/>
                  </a:lnTo>
                  <a:lnTo>
                    <a:pt x="354" y="374"/>
                  </a:lnTo>
                  <a:lnTo>
                    <a:pt x="384" y="408"/>
                  </a:lnTo>
                  <a:lnTo>
                    <a:pt x="420" y="443"/>
                  </a:lnTo>
                  <a:lnTo>
                    <a:pt x="456" y="475"/>
                  </a:lnTo>
                  <a:lnTo>
                    <a:pt x="494" y="505"/>
                  </a:lnTo>
                  <a:lnTo>
                    <a:pt x="534" y="534"/>
                  </a:lnTo>
                  <a:lnTo>
                    <a:pt x="574" y="561"/>
                  </a:lnTo>
                  <a:lnTo>
                    <a:pt x="614" y="583"/>
                  </a:lnTo>
                  <a:lnTo>
                    <a:pt x="700" y="623"/>
                  </a:lnTo>
                  <a:lnTo>
                    <a:pt x="789" y="656"/>
                  </a:lnTo>
                  <a:lnTo>
                    <a:pt x="882" y="676"/>
                  </a:lnTo>
                  <a:lnTo>
                    <a:pt x="1084" y="695"/>
                  </a:lnTo>
                  <a:lnTo>
                    <a:pt x="1281" y="676"/>
                  </a:lnTo>
                  <a:lnTo>
                    <a:pt x="1464" y="623"/>
                  </a:lnTo>
                  <a:lnTo>
                    <a:pt x="1550" y="583"/>
                  </a:lnTo>
                  <a:lnTo>
                    <a:pt x="1631" y="534"/>
                  </a:lnTo>
                  <a:lnTo>
                    <a:pt x="1669" y="505"/>
                  </a:lnTo>
                  <a:lnTo>
                    <a:pt x="1709" y="475"/>
                  </a:lnTo>
                  <a:lnTo>
                    <a:pt x="1745" y="441"/>
                  </a:lnTo>
                  <a:lnTo>
                    <a:pt x="1782" y="407"/>
                  </a:lnTo>
                  <a:lnTo>
                    <a:pt x="1816" y="370"/>
                  </a:lnTo>
                  <a:lnTo>
                    <a:pt x="1848" y="332"/>
                  </a:lnTo>
                  <a:lnTo>
                    <a:pt x="1877" y="294"/>
                  </a:lnTo>
                  <a:lnTo>
                    <a:pt x="1905" y="254"/>
                  </a:lnTo>
                  <a:lnTo>
                    <a:pt x="1930" y="215"/>
                  </a:lnTo>
                  <a:lnTo>
                    <a:pt x="1955" y="173"/>
                  </a:lnTo>
                  <a:lnTo>
                    <a:pt x="1994" y="87"/>
                  </a:lnTo>
                  <a:lnTo>
                    <a:pt x="1994" y="87"/>
                  </a:ln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98800" y="2540160"/>
              <a:ext cx="482400" cy="909360"/>
            </a:xfrm>
            <a:custGeom>
              <a:avLst/>
              <a:gdLst/>
              <a:ahLst/>
              <a:rect l="l" t="t" r="r" b="b"/>
              <a:pathLst>
                <a:path w="609" h="1144">
                  <a:moveTo>
                    <a:pt x="607" y="424"/>
                  </a:moveTo>
                  <a:lnTo>
                    <a:pt x="578" y="458"/>
                  </a:lnTo>
                  <a:lnTo>
                    <a:pt x="548" y="490"/>
                  </a:lnTo>
                  <a:lnTo>
                    <a:pt x="520" y="524"/>
                  </a:lnTo>
                  <a:lnTo>
                    <a:pt x="493" y="557"/>
                  </a:lnTo>
                  <a:lnTo>
                    <a:pt x="466" y="589"/>
                  </a:lnTo>
                  <a:lnTo>
                    <a:pt x="442" y="623"/>
                  </a:lnTo>
                  <a:lnTo>
                    <a:pt x="417" y="656"/>
                  </a:lnTo>
                  <a:lnTo>
                    <a:pt x="394" y="688"/>
                  </a:lnTo>
                  <a:lnTo>
                    <a:pt x="371" y="720"/>
                  </a:lnTo>
                  <a:lnTo>
                    <a:pt x="350" y="753"/>
                  </a:lnTo>
                  <a:lnTo>
                    <a:pt x="331" y="785"/>
                  </a:lnTo>
                  <a:lnTo>
                    <a:pt x="312" y="815"/>
                  </a:lnTo>
                  <a:lnTo>
                    <a:pt x="280" y="876"/>
                  </a:lnTo>
                  <a:lnTo>
                    <a:pt x="253" y="937"/>
                  </a:lnTo>
                  <a:lnTo>
                    <a:pt x="352" y="916"/>
                  </a:lnTo>
                  <a:lnTo>
                    <a:pt x="559" y="870"/>
                  </a:lnTo>
                  <a:lnTo>
                    <a:pt x="535" y="952"/>
                  </a:lnTo>
                  <a:lnTo>
                    <a:pt x="514" y="996"/>
                  </a:lnTo>
                  <a:lnTo>
                    <a:pt x="491" y="1036"/>
                  </a:lnTo>
                  <a:lnTo>
                    <a:pt x="466" y="1068"/>
                  </a:lnTo>
                  <a:lnTo>
                    <a:pt x="440" y="1097"/>
                  </a:lnTo>
                  <a:lnTo>
                    <a:pt x="409" y="1117"/>
                  </a:lnTo>
                  <a:lnTo>
                    <a:pt x="377" y="1133"/>
                  </a:lnTo>
                  <a:lnTo>
                    <a:pt x="305" y="1144"/>
                  </a:lnTo>
                  <a:lnTo>
                    <a:pt x="229" y="1133"/>
                  </a:lnTo>
                  <a:lnTo>
                    <a:pt x="164" y="1097"/>
                  </a:lnTo>
                  <a:lnTo>
                    <a:pt x="111" y="1036"/>
                  </a:lnTo>
                  <a:lnTo>
                    <a:pt x="71" y="950"/>
                  </a:lnTo>
                  <a:lnTo>
                    <a:pt x="23" y="743"/>
                  </a:lnTo>
                  <a:lnTo>
                    <a:pt x="0" y="443"/>
                  </a:lnTo>
                  <a:lnTo>
                    <a:pt x="37" y="414"/>
                  </a:lnTo>
                  <a:lnTo>
                    <a:pt x="73" y="386"/>
                  </a:lnTo>
                  <a:lnTo>
                    <a:pt x="107" y="357"/>
                  </a:lnTo>
                  <a:lnTo>
                    <a:pt x="143" y="329"/>
                  </a:lnTo>
                  <a:lnTo>
                    <a:pt x="181" y="300"/>
                  </a:lnTo>
                  <a:lnTo>
                    <a:pt x="217" y="272"/>
                  </a:lnTo>
                  <a:lnTo>
                    <a:pt x="253" y="243"/>
                  </a:lnTo>
                  <a:lnTo>
                    <a:pt x="291" y="216"/>
                  </a:lnTo>
                  <a:lnTo>
                    <a:pt x="327" y="188"/>
                  </a:lnTo>
                  <a:lnTo>
                    <a:pt x="366" y="159"/>
                  </a:lnTo>
                  <a:lnTo>
                    <a:pt x="404" y="133"/>
                  </a:lnTo>
                  <a:lnTo>
                    <a:pt x="440" y="106"/>
                  </a:lnTo>
                  <a:lnTo>
                    <a:pt x="478" y="80"/>
                  </a:lnTo>
                  <a:lnTo>
                    <a:pt x="516" y="51"/>
                  </a:lnTo>
                  <a:lnTo>
                    <a:pt x="554" y="25"/>
                  </a:lnTo>
                  <a:lnTo>
                    <a:pt x="590" y="0"/>
                  </a:lnTo>
                  <a:lnTo>
                    <a:pt x="609" y="350"/>
                  </a:lnTo>
                  <a:lnTo>
                    <a:pt x="607" y="424"/>
                  </a:lnTo>
                  <a:lnTo>
                    <a:pt x="607" y="424"/>
                  </a:ln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40120" y="2077920"/>
              <a:ext cx="485640" cy="390600"/>
            </a:xfrm>
            <a:custGeom>
              <a:avLst/>
              <a:gdLst/>
              <a:ahLst/>
              <a:rect l="l" t="t" r="r" b="b"/>
              <a:pathLst>
                <a:path w="613" h="493">
                  <a:moveTo>
                    <a:pt x="613" y="236"/>
                  </a:moveTo>
                  <a:lnTo>
                    <a:pt x="502" y="280"/>
                  </a:lnTo>
                  <a:lnTo>
                    <a:pt x="445" y="306"/>
                  </a:lnTo>
                  <a:lnTo>
                    <a:pt x="384" y="337"/>
                  </a:lnTo>
                  <a:lnTo>
                    <a:pt x="324" y="371"/>
                  </a:lnTo>
                  <a:lnTo>
                    <a:pt x="263" y="409"/>
                  </a:lnTo>
                  <a:lnTo>
                    <a:pt x="200" y="449"/>
                  </a:lnTo>
                  <a:lnTo>
                    <a:pt x="135" y="493"/>
                  </a:lnTo>
                  <a:lnTo>
                    <a:pt x="109" y="436"/>
                  </a:lnTo>
                  <a:lnTo>
                    <a:pt x="94" y="409"/>
                  </a:lnTo>
                  <a:lnTo>
                    <a:pt x="76" y="380"/>
                  </a:lnTo>
                  <a:lnTo>
                    <a:pt x="59" y="354"/>
                  </a:lnTo>
                  <a:lnTo>
                    <a:pt x="40" y="327"/>
                  </a:lnTo>
                  <a:lnTo>
                    <a:pt x="21" y="302"/>
                  </a:lnTo>
                  <a:lnTo>
                    <a:pt x="0" y="278"/>
                  </a:lnTo>
                  <a:lnTo>
                    <a:pt x="42" y="253"/>
                  </a:lnTo>
                  <a:lnTo>
                    <a:pt x="84" y="228"/>
                  </a:lnTo>
                  <a:lnTo>
                    <a:pt x="164" y="183"/>
                  </a:lnTo>
                  <a:lnTo>
                    <a:pt x="242" y="141"/>
                  </a:lnTo>
                  <a:lnTo>
                    <a:pt x="314" y="103"/>
                  </a:lnTo>
                  <a:lnTo>
                    <a:pt x="383" y="71"/>
                  </a:lnTo>
                  <a:lnTo>
                    <a:pt x="445" y="42"/>
                  </a:lnTo>
                  <a:lnTo>
                    <a:pt x="554" y="0"/>
                  </a:lnTo>
                  <a:lnTo>
                    <a:pt x="613" y="236"/>
                  </a:lnTo>
                  <a:lnTo>
                    <a:pt x="613" y="236"/>
                  </a:ln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90800" y="4616280"/>
              <a:ext cx="1152720" cy="741600"/>
            </a:xfrm>
            <a:custGeom>
              <a:avLst/>
              <a:gdLst/>
              <a:ahLst/>
              <a:rect l="l" t="t" r="r" b="b"/>
              <a:pathLst>
                <a:path w="1450" h="934">
                  <a:moveTo>
                    <a:pt x="1450" y="0"/>
                  </a:moveTo>
                  <a:lnTo>
                    <a:pt x="1441" y="93"/>
                  </a:lnTo>
                  <a:lnTo>
                    <a:pt x="1424" y="183"/>
                  </a:lnTo>
                  <a:lnTo>
                    <a:pt x="1399" y="268"/>
                  </a:lnTo>
                  <a:lnTo>
                    <a:pt x="1386" y="310"/>
                  </a:lnTo>
                  <a:lnTo>
                    <a:pt x="1369" y="352"/>
                  </a:lnTo>
                  <a:lnTo>
                    <a:pt x="1350" y="390"/>
                  </a:lnTo>
                  <a:lnTo>
                    <a:pt x="1331" y="430"/>
                  </a:lnTo>
                  <a:lnTo>
                    <a:pt x="1308" y="468"/>
                  </a:lnTo>
                  <a:lnTo>
                    <a:pt x="1283" y="506"/>
                  </a:lnTo>
                  <a:lnTo>
                    <a:pt x="1258" y="540"/>
                  </a:lnTo>
                  <a:lnTo>
                    <a:pt x="1230" y="576"/>
                  </a:lnTo>
                  <a:lnTo>
                    <a:pt x="1201" y="610"/>
                  </a:lnTo>
                  <a:lnTo>
                    <a:pt x="1169" y="645"/>
                  </a:lnTo>
                  <a:lnTo>
                    <a:pt x="1133" y="679"/>
                  </a:lnTo>
                  <a:lnTo>
                    <a:pt x="1097" y="711"/>
                  </a:lnTo>
                  <a:lnTo>
                    <a:pt x="1059" y="742"/>
                  </a:lnTo>
                  <a:lnTo>
                    <a:pt x="1021" y="772"/>
                  </a:lnTo>
                  <a:lnTo>
                    <a:pt x="981" y="797"/>
                  </a:lnTo>
                  <a:lnTo>
                    <a:pt x="939" y="821"/>
                  </a:lnTo>
                  <a:lnTo>
                    <a:pt x="855" y="861"/>
                  </a:lnTo>
                  <a:lnTo>
                    <a:pt x="766" y="894"/>
                  </a:lnTo>
                  <a:lnTo>
                    <a:pt x="673" y="917"/>
                  </a:lnTo>
                  <a:lnTo>
                    <a:pt x="475" y="934"/>
                  </a:lnTo>
                  <a:lnTo>
                    <a:pt x="224" y="905"/>
                  </a:lnTo>
                  <a:lnTo>
                    <a:pt x="110" y="869"/>
                  </a:lnTo>
                  <a:lnTo>
                    <a:pt x="0" y="820"/>
                  </a:lnTo>
                  <a:lnTo>
                    <a:pt x="76" y="785"/>
                  </a:lnTo>
                  <a:lnTo>
                    <a:pt x="152" y="747"/>
                  </a:lnTo>
                  <a:lnTo>
                    <a:pt x="230" y="706"/>
                  </a:lnTo>
                  <a:lnTo>
                    <a:pt x="312" y="660"/>
                  </a:lnTo>
                  <a:lnTo>
                    <a:pt x="346" y="690"/>
                  </a:lnTo>
                  <a:lnTo>
                    <a:pt x="386" y="713"/>
                  </a:lnTo>
                  <a:lnTo>
                    <a:pt x="475" y="730"/>
                  </a:lnTo>
                  <a:lnTo>
                    <a:pt x="547" y="719"/>
                  </a:lnTo>
                  <a:lnTo>
                    <a:pt x="608" y="683"/>
                  </a:lnTo>
                  <a:lnTo>
                    <a:pt x="659" y="622"/>
                  </a:lnTo>
                  <a:lnTo>
                    <a:pt x="701" y="538"/>
                  </a:lnTo>
                  <a:lnTo>
                    <a:pt x="739" y="401"/>
                  </a:lnTo>
                  <a:lnTo>
                    <a:pt x="783" y="375"/>
                  </a:lnTo>
                  <a:lnTo>
                    <a:pt x="827" y="348"/>
                  </a:lnTo>
                  <a:lnTo>
                    <a:pt x="871" y="322"/>
                  </a:lnTo>
                  <a:lnTo>
                    <a:pt x="914" y="295"/>
                  </a:lnTo>
                  <a:lnTo>
                    <a:pt x="958" y="268"/>
                  </a:lnTo>
                  <a:lnTo>
                    <a:pt x="1002" y="242"/>
                  </a:lnTo>
                  <a:lnTo>
                    <a:pt x="1047" y="215"/>
                  </a:lnTo>
                  <a:lnTo>
                    <a:pt x="1091" y="190"/>
                  </a:lnTo>
                  <a:lnTo>
                    <a:pt x="1135" y="164"/>
                  </a:lnTo>
                  <a:lnTo>
                    <a:pt x="1180" y="139"/>
                  </a:lnTo>
                  <a:lnTo>
                    <a:pt x="1226" y="114"/>
                  </a:lnTo>
                  <a:lnTo>
                    <a:pt x="1270" y="92"/>
                  </a:lnTo>
                  <a:lnTo>
                    <a:pt x="1359" y="44"/>
                  </a:lnTo>
                  <a:lnTo>
                    <a:pt x="1450" y="0"/>
                  </a:lnTo>
                  <a:lnTo>
                    <a:pt x="1450" y="0"/>
                  </a:lnTo>
                  <a:close/>
                </a:path>
              </a:pathLst>
            </a:custGeom>
            <a:solidFill>
              <a:srgbClr val="8989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92440" y="3772080"/>
              <a:ext cx="1336680" cy="804600"/>
            </a:xfrm>
            <a:custGeom>
              <a:avLst/>
              <a:gdLst/>
              <a:ahLst/>
              <a:rect l="l" t="t" r="r" b="b"/>
              <a:pathLst>
                <a:path w="1684" h="1013">
                  <a:moveTo>
                    <a:pt x="0" y="302"/>
                  </a:moveTo>
                  <a:lnTo>
                    <a:pt x="19" y="281"/>
                  </a:lnTo>
                  <a:lnTo>
                    <a:pt x="55" y="249"/>
                  </a:lnTo>
                  <a:lnTo>
                    <a:pt x="91" y="217"/>
                  </a:lnTo>
                  <a:lnTo>
                    <a:pt x="129" y="186"/>
                  </a:lnTo>
                  <a:lnTo>
                    <a:pt x="167" y="160"/>
                  </a:lnTo>
                  <a:lnTo>
                    <a:pt x="207" y="133"/>
                  </a:lnTo>
                  <a:lnTo>
                    <a:pt x="247" y="110"/>
                  </a:lnTo>
                  <a:lnTo>
                    <a:pt x="332" y="70"/>
                  </a:lnTo>
                  <a:lnTo>
                    <a:pt x="424" y="40"/>
                  </a:lnTo>
                  <a:lnTo>
                    <a:pt x="517" y="17"/>
                  </a:lnTo>
                  <a:lnTo>
                    <a:pt x="720" y="0"/>
                  </a:lnTo>
                  <a:lnTo>
                    <a:pt x="924" y="17"/>
                  </a:lnTo>
                  <a:lnTo>
                    <a:pt x="1108" y="70"/>
                  </a:lnTo>
                  <a:lnTo>
                    <a:pt x="1194" y="110"/>
                  </a:lnTo>
                  <a:lnTo>
                    <a:pt x="1276" y="160"/>
                  </a:lnTo>
                  <a:lnTo>
                    <a:pt x="1314" y="186"/>
                  </a:lnTo>
                  <a:lnTo>
                    <a:pt x="1352" y="217"/>
                  </a:lnTo>
                  <a:lnTo>
                    <a:pt x="1388" y="249"/>
                  </a:lnTo>
                  <a:lnTo>
                    <a:pt x="1424" y="281"/>
                  </a:lnTo>
                  <a:lnTo>
                    <a:pt x="1449" y="308"/>
                  </a:lnTo>
                  <a:lnTo>
                    <a:pt x="1473" y="336"/>
                  </a:lnTo>
                  <a:lnTo>
                    <a:pt x="1496" y="363"/>
                  </a:lnTo>
                  <a:lnTo>
                    <a:pt x="1517" y="391"/>
                  </a:lnTo>
                  <a:lnTo>
                    <a:pt x="1538" y="420"/>
                  </a:lnTo>
                  <a:lnTo>
                    <a:pt x="1557" y="450"/>
                  </a:lnTo>
                  <a:lnTo>
                    <a:pt x="1591" y="511"/>
                  </a:lnTo>
                  <a:lnTo>
                    <a:pt x="1622" y="574"/>
                  </a:lnTo>
                  <a:lnTo>
                    <a:pt x="1646" y="639"/>
                  </a:lnTo>
                  <a:lnTo>
                    <a:pt x="1684" y="777"/>
                  </a:lnTo>
                  <a:lnTo>
                    <a:pt x="1603" y="806"/>
                  </a:lnTo>
                  <a:lnTo>
                    <a:pt x="1521" y="834"/>
                  </a:lnTo>
                  <a:lnTo>
                    <a:pt x="1437" y="863"/>
                  </a:lnTo>
                  <a:lnTo>
                    <a:pt x="1355" y="893"/>
                  </a:lnTo>
                  <a:lnTo>
                    <a:pt x="1272" y="924"/>
                  </a:lnTo>
                  <a:lnTo>
                    <a:pt x="1188" y="954"/>
                  </a:lnTo>
                  <a:lnTo>
                    <a:pt x="1106" y="983"/>
                  </a:lnTo>
                  <a:lnTo>
                    <a:pt x="1026" y="1013"/>
                  </a:lnTo>
                  <a:lnTo>
                    <a:pt x="1026" y="998"/>
                  </a:lnTo>
                  <a:lnTo>
                    <a:pt x="1021" y="806"/>
                  </a:lnTo>
                  <a:lnTo>
                    <a:pt x="1007" y="642"/>
                  </a:lnTo>
                  <a:lnTo>
                    <a:pt x="985" y="505"/>
                  </a:lnTo>
                  <a:lnTo>
                    <a:pt x="969" y="447"/>
                  </a:lnTo>
                  <a:lnTo>
                    <a:pt x="952" y="395"/>
                  </a:lnTo>
                  <a:lnTo>
                    <a:pt x="933" y="352"/>
                  </a:lnTo>
                  <a:lnTo>
                    <a:pt x="910" y="312"/>
                  </a:lnTo>
                  <a:lnTo>
                    <a:pt x="888" y="277"/>
                  </a:lnTo>
                  <a:lnTo>
                    <a:pt x="859" y="251"/>
                  </a:lnTo>
                  <a:lnTo>
                    <a:pt x="831" y="230"/>
                  </a:lnTo>
                  <a:lnTo>
                    <a:pt x="798" y="215"/>
                  </a:lnTo>
                  <a:lnTo>
                    <a:pt x="726" y="203"/>
                  </a:lnTo>
                  <a:lnTo>
                    <a:pt x="627" y="226"/>
                  </a:lnTo>
                  <a:lnTo>
                    <a:pt x="547" y="293"/>
                  </a:lnTo>
                  <a:lnTo>
                    <a:pt x="279" y="275"/>
                  </a:lnTo>
                  <a:lnTo>
                    <a:pt x="0" y="302"/>
                  </a:lnTo>
                  <a:lnTo>
                    <a:pt x="0" y="302"/>
                  </a:lnTo>
                  <a:close/>
                </a:path>
              </a:pathLst>
            </a:custGeom>
            <a:solidFill>
              <a:srgbClr val="8989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87600" y="4394160"/>
              <a:ext cx="330480" cy="303120"/>
            </a:xfrm>
            <a:custGeom>
              <a:avLst/>
              <a:gdLst/>
              <a:ahLst/>
              <a:rect l="l" t="t" r="r" b="b"/>
              <a:pathLst>
                <a:path w="417" h="384">
                  <a:moveTo>
                    <a:pt x="0" y="213"/>
                  </a:moveTo>
                  <a:lnTo>
                    <a:pt x="2" y="122"/>
                  </a:lnTo>
                  <a:lnTo>
                    <a:pt x="124" y="84"/>
                  </a:lnTo>
                  <a:lnTo>
                    <a:pt x="234" y="49"/>
                  </a:lnTo>
                  <a:lnTo>
                    <a:pt x="333" y="21"/>
                  </a:lnTo>
                  <a:lnTo>
                    <a:pt x="417" y="0"/>
                  </a:lnTo>
                  <a:lnTo>
                    <a:pt x="373" y="42"/>
                  </a:lnTo>
                  <a:lnTo>
                    <a:pt x="325" y="87"/>
                  </a:lnTo>
                  <a:lnTo>
                    <a:pt x="276" y="135"/>
                  </a:lnTo>
                  <a:lnTo>
                    <a:pt x="223" y="182"/>
                  </a:lnTo>
                  <a:lnTo>
                    <a:pt x="196" y="205"/>
                  </a:lnTo>
                  <a:lnTo>
                    <a:pt x="169" y="230"/>
                  </a:lnTo>
                  <a:lnTo>
                    <a:pt x="143" y="257"/>
                  </a:lnTo>
                  <a:lnTo>
                    <a:pt x="116" y="281"/>
                  </a:lnTo>
                  <a:lnTo>
                    <a:pt x="90" y="306"/>
                  </a:lnTo>
                  <a:lnTo>
                    <a:pt x="63" y="331"/>
                  </a:lnTo>
                  <a:lnTo>
                    <a:pt x="38" y="357"/>
                  </a:lnTo>
                  <a:lnTo>
                    <a:pt x="12" y="384"/>
                  </a:lnTo>
                  <a:lnTo>
                    <a:pt x="0" y="213"/>
                  </a:lnTo>
                  <a:lnTo>
                    <a:pt x="0" y="213"/>
                  </a:lnTo>
                  <a:close/>
                </a:path>
              </a:pathLst>
            </a:custGeom>
            <a:solidFill>
              <a:srgbClr val="8989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75080" y="2023920"/>
              <a:ext cx="1046160" cy="1033560"/>
            </a:xfrm>
            <a:custGeom>
              <a:avLst/>
              <a:gdLst/>
              <a:ahLst/>
              <a:rect l="l" t="t" r="r" b="b"/>
              <a:pathLst>
                <a:path w="1318" h="1302">
                  <a:moveTo>
                    <a:pt x="0" y="1302"/>
                  </a:moveTo>
                  <a:lnTo>
                    <a:pt x="843" y="0"/>
                  </a:lnTo>
                  <a:lnTo>
                    <a:pt x="1318" y="0"/>
                  </a:lnTo>
                  <a:lnTo>
                    <a:pt x="514" y="1243"/>
                  </a:lnTo>
                  <a:lnTo>
                    <a:pt x="0" y="1302"/>
                  </a:lnTo>
                  <a:lnTo>
                    <a:pt x="0" y="1302"/>
                  </a:lnTo>
                  <a:close/>
                </a:path>
              </a:pathLst>
            </a:custGeom>
            <a:solidFill>
              <a:srgbClr val="8989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82880" y="4665600"/>
              <a:ext cx="826920" cy="692280"/>
            </a:xfrm>
            <a:custGeom>
              <a:avLst/>
              <a:gdLst/>
              <a:ahLst/>
              <a:rect l="l" t="t" r="r" b="b"/>
              <a:pathLst>
                <a:path w="1042" h="873">
                  <a:moveTo>
                    <a:pt x="0" y="873"/>
                  </a:moveTo>
                  <a:lnTo>
                    <a:pt x="498" y="107"/>
                  </a:lnTo>
                  <a:lnTo>
                    <a:pt x="759" y="67"/>
                  </a:lnTo>
                  <a:lnTo>
                    <a:pt x="899" y="34"/>
                  </a:lnTo>
                  <a:lnTo>
                    <a:pt x="1042" y="0"/>
                  </a:lnTo>
                  <a:lnTo>
                    <a:pt x="475" y="873"/>
                  </a:lnTo>
                  <a:lnTo>
                    <a:pt x="0" y="873"/>
                  </a:lnTo>
                  <a:lnTo>
                    <a:pt x="0" y="873"/>
                  </a:lnTo>
                  <a:close/>
                </a:path>
              </a:pathLst>
            </a:custGeom>
            <a:solidFill>
              <a:srgbClr val="8989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41600" y="2468520"/>
              <a:ext cx="576360" cy="763560"/>
            </a:xfrm>
            <a:custGeom>
              <a:avLst/>
              <a:gdLst/>
              <a:ahLst/>
              <a:rect l="l" t="t" r="r" b="b"/>
              <a:pathLst>
                <a:path w="727" h="961">
                  <a:moveTo>
                    <a:pt x="639" y="0"/>
                  </a:moveTo>
                  <a:lnTo>
                    <a:pt x="660" y="49"/>
                  </a:lnTo>
                  <a:lnTo>
                    <a:pt x="677" y="100"/>
                  </a:lnTo>
                  <a:lnTo>
                    <a:pt x="704" y="207"/>
                  </a:lnTo>
                  <a:lnTo>
                    <a:pt x="727" y="435"/>
                  </a:lnTo>
                  <a:lnTo>
                    <a:pt x="721" y="539"/>
                  </a:lnTo>
                  <a:lnTo>
                    <a:pt x="708" y="640"/>
                  </a:lnTo>
                  <a:lnTo>
                    <a:pt x="685" y="737"/>
                  </a:lnTo>
                  <a:lnTo>
                    <a:pt x="654" y="830"/>
                  </a:lnTo>
                  <a:lnTo>
                    <a:pt x="470" y="864"/>
                  </a:lnTo>
                  <a:lnTo>
                    <a:pt x="299" y="899"/>
                  </a:lnTo>
                  <a:lnTo>
                    <a:pt x="141" y="931"/>
                  </a:lnTo>
                  <a:lnTo>
                    <a:pt x="0" y="961"/>
                  </a:lnTo>
                  <a:lnTo>
                    <a:pt x="35" y="766"/>
                  </a:lnTo>
                  <a:lnTo>
                    <a:pt x="48" y="517"/>
                  </a:lnTo>
                  <a:lnTo>
                    <a:pt x="82" y="480"/>
                  </a:lnTo>
                  <a:lnTo>
                    <a:pt x="115" y="446"/>
                  </a:lnTo>
                  <a:lnTo>
                    <a:pt x="151" y="410"/>
                  </a:lnTo>
                  <a:lnTo>
                    <a:pt x="185" y="376"/>
                  </a:lnTo>
                  <a:lnTo>
                    <a:pt x="221" y="342"/>
                  </a:lnTo>
                  <a:lnTo>
                    <a:pt x="257" y="307"/>
                  </a:lnTo>
                  <a:lnTo>
                    <a:pt x="295" y="275"/>
                  </a:lnTo>
                  <a:lnTo>
                    <a:pt x="331" y="241"/>
                  </a:lnTo>
                  <a:lnTo>
                    <a:pt x="369" y="209"/>
                  </a:lnTo>
                  <a:lnTo>
                    <a:pt x="407" y="176"/>
                  </a:lnTo>
                  <a:lnTo>
                    <a:pt x="445" y="146"/>
                  </a:lnTo>
                  <a:lnTo>
                    <a:pt x="483" y="116"/>
                  </a:lnTo>
                  <a:lnTo>
                    <a:pt x="523" y="85"/>
                  </a:lnTo>
                  <a:lnTo>
                    <a:pt x="561" y="57"/>
                  </a:lnTo>
                  <a:lnTo>
                    <a:pt x="599" y="28"/>
                  </a:lnTo>
                  <a:lnTo>
                    <a:pt x="639" y="0"/>
                  </a:lnTo>
                  <a:lnTo>
                    <a:pt x="639" y="0"/>
                  </a:lnTo>
                  <a:close/>
                </a:path>
              </a:pathLst>
            </a:custGeom>
            <a:solidFill>
              <a:srgbClr val="8989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60600" y="2023920"/>
              <a:ext cx="1379520" cy="1246320"/>
            </a:xfrm>
            <a:custGeom>
              <a:avLst/>
              <a:gdLst/>
              <a:ahLst/>
              <a:rect l="l" t="t" r="r" b="b"/>
              <a:pathLst>
                <a:path w="1737" h="1570">
                  <a:moveTo>
                    <a:pt x="0" y="994"/>
                  </a:moveTo>
                  <a:lnTo>
                    <a:pt x="3" y="889"/>
                  </a:lnTo>
                  <a:lnTo>
                    <a:pt x="17" y="789"/>
                  </a:lnTo>
                  <a:lnTo>
                    <a:pt x="38" y="694"/>
                  </a:lnTo>
                  <a:lnTo>
                    <a:pt x="68" y="602"/>
                  </a:lnTo>
                  <a:lnTo>
                    <a:pt x="87" y="557"/>
                  </a:lnTo>
                  <a:lnTo>
                    <a:pt x="108" y="515"/>
                  </a:lnTo>
                  <a:lnTo>
                    <a:pt x="131" y="473"/>
                  </a:lnTo>
                  <a:lnTo>
                    <a:pt x="155" y="433"/>
                  </a:lnTo>
                  <a:lnTo>
                    <a:pt x="182" y="393"/>
                  </a:lnTo>
                  <a:lnTo>
                    <a:pt x="213" y="355"/>
                  </a:lnTo>
                  <a:lnTo>
                    <a:pt x="243" y="317"/>
                  </a:lnTo>
                  <a:lnTo>
                    <a:pt x="277" y="283"/>
                  </a:lnTo>
                  <a:lnTo>
                    <a:pt x="311" y="249"/>
                  </a:lnTo>
                  <a:lnTo>
                    <a:pt x="349" y="216"/>
                  </a:lnTo>
                  <a:lnTo>
                    <a:pt x="386" y="186"/>
                  </a:lnTo>
                  <a:lnTo>
                    <a:pt x="425" y="159"/>
                  </a:lnTo>
                  <a:lnTo>
                    <a:pt x="465" y="133"/>
                  </a:lnTo>
                  <a:lnTo>
                    <a:pt x="505" y="110"/>
                  </a:lnTo>
                  <a:lnTo>
                    <a:pt x="591" y="70"/>
                  </a:lnTo>
                  <a:lnTo>
                    <a:pt x="682" y="40"/>
                  </a:lnTo>
                  <a:lnTo>
                    <a:pt x="775" y="17"/>
                  </a:lnTo>
                  <a:lnTo>
                    <a:pt x="979" y="0"/>
                  </a:lnTo>
                  <a:lnTo>
                    <a:pt x="1180" y="17"/>
                  </a:lnTo>
                  <a:lnTo>
                    <a:pt x="1367" y="70"/>
                  </a:lnTo>
                  <a:lnTo>
                    <a:pt x="1452" y="110"/>
                  </a:lnTo>
                  <a:lnTo>
                    <a:pt x="1532" y="159"/>
                  </a:lnTo>
                  <a:lnTo>
                    <a:pt x="1572" y="186"/>
                  </a:lnTo>
                  <a:lnTo>
                    <a:pt x="1610" y="216"/>
                  </a:lnTo>
                  <a:lnTo>
                    <a:pt x="1646" y="249"/>
                  </a:lnTo>
                  <a:lnTo>
                    <a:pt x="1682" y="283"/>
                  </a:lnTo>
                  <a:lnTo>
                    <a:pt x="1711" y="313"/>
                  </a:lnTo>
                  <a:lnTo>
                    <a:pt x="1737" y="344"/>
                  </a:lnTo>
                  <a:lnTo>
                    <a:pt x="1682" y="378"/>
                  </a:lnTo>
                  <a:lnTo>
                    <a:pt x="1625" y="412"/>
                  </a:lnTo>
                  <a:lnTo>
                    <a:pt x="1566" y="450"/>
                  </a:lnTo>
                  <a:lnTo>
                    <a:pt x="1507" y="488"/>
                  </a:lnTo>
                  <a:lnTo>
                    <a:pt x="1448" y="526"/>
                  </a:lnTo>
                  <a:lnTo>
                    <a:pt x="1388" y="566"/>
                  </a:lnTo>
                  <a:lnTo>
                    <a:pt x="1329" y="608"/>
                  </a:lnTo>
                  <a:lnTo>
                    <a:pt x="1268" y="650"/>
                  </a:lnTo>
                  <a:lnTo>
                    <a:pt x="1243" y="509"/>
                  </a:lnTo>
                  <a:lnTo>
                    <a:pt x="1228" y="448"/>
                  </a:lnTo>
                  <a:lnTo>
                    <a:pt x="1211" y="395"/>
                  </a:lnTo>
                  <a:lnTo>
                    <a:pt x="1190" y="349"/>
                  </a:lnTo>
                  <a:lnTo>
                    <a:pt x="1169" y="311"/>
                  </a:lnTo>
                  <a:lnTo>
                    <a:pt x="1144" y="277"/>
                  </a:lnTo>
                  <a:lnTo>
                    <a:pt x="1116" y="251"/>
                  </a:lnTo>
                  <a:lnTo>
                    <a:pt x="1087" y="230"/>
                  </a:lnTo>
                  <a:lnTo>
                    <a:pt x="1053" y="215"/>
                  </a:lnTo>
                  <a:lnTo>
                    <a:pt x="983" y="203"/>
                  </a:lnTo>
                  <a:lnTo>
                    <a:pt x="910" y="215"/>
                  </a:lnTo>
                  <a:lnTo>
                    <a:pt x="848" y="249"/>
                  </a:lnTo>
                  <a:lnTo>
                    <a:pt x="794" y="306"/>
                  </a:lnTo>
                  <a:lnTo>
                    <a:pt x="751" y="386"/>
                  </a:lnTo>
                  <a:lnTo>
                    <a:pt x="695" y="616"/>
                  </a:lnTo>
                  <a:lnTo>
                    <a:pt x="676" y="941"/>
                  </a:lnTo>
                  <a:lnTo>
                    <a:pt x="678" y="1093"/>
                  </a:lnTo>
                  <a:lnTo>
                    <a:pt x="640" y="1125"/>
                  </a:lnTo>
                  <a:lnTo>
                    <a:pt x="604" y="1154"/>
                  </a:lnTo>
                  <a:lnTo>
                    <a:pt x="570" y="1184"/>
                  </a:lnTo>
                  <a:lnTo>
                    <a:pt x="534" y="1216"/>
                  </a:lnTo>
                  <a:lnTo>
                    <a:pt x="500" y="1247"/>
                  </a:lnTo>
                  <a:lnTo>
                    <a:pt x="465" y="1275"/>
                  </a:lnTo>
                  <a:lnTo>
                    <a:pt x="431" y="1306"/>
                  </a:lnTo>
                  <a:lnTo>
                    <a:pt x="399" y="1336"/>
                  </a:lnTo>
                  <a:lnTo>
                    <a:pt x="367" y="1366"/>
                  </a:lnTo>
                  <a:lnTo>
                    <a:pt x="336" y="1395"/>
                  </a:lnTo>
                  <a:lnTo>
                    <a:pt x="306" y="1425"/>
                  </a:lnTo>
                  <a:lnTo>
                    <a:pt x="275" y="1456"/>
                  </a:lnTo>
                  <a:lnTo>
                    <a:pt x="247" y="1484"/>
                  </a:lnTo>
                  <a:lnTo>
                    <a:pt x="218" y="1513"/>
                  </a:lnTo>
                  <a:lnTo>
                    <a:pt x="192" y="1541"/>
                  </a:lnTo>
                  <a:lnTo>
                    <a:pt x="165" y="1570"/>
                  </a:lnTo>
                  <a:lnTo>
                    <a:pt x="144" y="1539"/>
                  </a:lnTo>
                  <a:lnTo>
                    <a:pt x="127" y="1507"/>
                  </a:lnTo>
                  <a:lnTo>
                    <a:pt x="93" y="1442"/>
                  </a:lnTo>
                  <a:lnTo>
                    <a:pt x="64" y="1374"/>
                  </a:lnTo>
                  <a:lnTo>
                    <a:pt x="40" y="1304"/>
                  </a:lnTo>
                  <a:lnTo>
                    <a:pt x="9" y="1154"/>
                  </a:lnTo>
                  <a:lnTo>
                    <a:pt x="0" y="994"/>
                  </a:lnTo>
                  <a:lnTo>
                    <a:pt x="0" y="994"/>
                  </a:lnTo>
                  <a:close/>
                </a:path>
              </a:pathLst>
            </a:custGeom>
            <a:solidFill>
              <a:srgbClr val="8989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6372360" y="1558800"/>
            <a:ext cx="2393640" cy="4748400"/>
            <a:chOff x="6372360" y="1558800"/>
            <a:chExt cx="2393640" cy="4748400"/>
          </a:xfrm>
        </p:grpSpPr>
        <p:sp>
          <p:nvSpPr>
            <p:cNvPr id="186" name=""/>
            <p:cNvSpPr/>
            <p:nvPr/>
          </p:nvSpPr>
          <p:spPr>
            <a:xfrm>
              <a:off x="6408720" y="1668600"/>
              <a:ext cx="2298600" cy="4279680"/>
            </a:xfrm>
            <a:custGeom>
              <a:avLst/>
              <a:gdLst/>
              <a:ahLst/>
              <a:rect l="l" t="t" r="r" b="b"/>
              <a:pathLst>
                <a:path w="1448" h="2696">
                  <a:moveTo>
                    <a:pt x="580" y="119"/>
                  </a:moveTo>
                  <a:lnTo>
                    <a:pt x="561" y="76"/>
                  </a:lnTo>
                  <a:lnTo>
                    <a:pt x="593" y="19"/>
                  </a:lnTo>
                  <a:lnTo>
                    <a:pt x="661" y="0"/>
                  </a:lnTo>
                  <a:lnTo>
                    <a:pt x="699" y="7"/>
                  </a:lnTo>
                  <a:lnTo>
                    <a:pt x="742" y="60"/>
                  </a:lnTo>
                  <a:lnTo>
                    <a:pt x="802" y="50"/>
                  </a:lnTo>
                  <a:lnTo>
                    <a:pt x="880" y="85"/>
                  </a:lnTo>
                  <a:lnTo>
                    <a:pt x="1003" y="176"/>
                  </a:lnTo>
                  <a:lnTo>
                    <a:pt x="1141" y="509"/>
                  </a:lnTo>
                  <a:lnTo>
                    <a:pt x="1280" y="651"/>
                  </a:lnTo>
                  <a:lnTo>
                    <a:pt x="1338" y="805"/>
                  </a:lnTo>
                  <a:lnTo>
                    <a:pt x="1251" y="817"/>
                  </a:lnTo>
                  <a:lnTo>
                    <a:pt x="1217" y="797"/>
                  </a:lnTo>
                  <a:lnTo>
                    <a:pt x="1216" y="855"/>
                  </a:lnTo>
                  <a:lnTo>
                    <a:pt x="1196" y="894"/>
                  </a:lnTo>
                  <a:lnTo>
                    <a:pt x="1238" y="963"/>
                  </a:lnTo>
                  <a:lnTo>
                    <a:pt x="1341" y="878"/>
                  </a:lnTo>
                  <a:lnTo>
                    <a:pt x="1380" y="858"/>
                  </a:lnTo>
                  <a:lnTo>
                    <a:pt x="1448" y="846"/>
                  </a:lnTo>
                  <a:lnTo>
                    <a:pt x="1432" y="1441"/>
                  </a:lnTo>
                  <a:lnTo>
                    <a:pt x="1380" y="2607"/>
                  </a:lnTo>
                  <a:lnTo>
                    <a:pt x="1102" y="2547"/>
                  </a:lnTo>
                  <a:lnTo>
                    <a:pt x="677" y="2696"/>
                  </a:lnTo>
                  <a:lnTo>
                    <a:pt x="371" y="2365"/>
                  </a:lnTo>
                  <a:lnTo>
                    <a:pt x="329" y="2167"/>
                  </a:lnTo>
                  <a:lnTo>
                    <a:pt x="244" y="2085"/>
                  </a:lnTo>
                  <a:lnTo>
                    <a:pt x="270" y="2000"/>
                  </a:lnTo>
                  <a:lnTo>
                    <a:pt x="342" y="1918"/>
                  </a:lnTo>
                  <a:lnTo>
                    <a:pt x="425" y="1877"/>
                  </a:lnTo>
                  <a:lnTo>
                    <a:pt x="481" y="1836"/>
                  </a:lnTo>
                  <a:lnTo>
                    <a:pt x="419" y="1733"/>
                  </a:lnTo>
                  <a:lnTo>
                    <a:pt x="296" y="1708"/>
                  </a:lnTo>
                  <a:lnTo>
                    <a:pt x="315" y="1623"/>
                  </a:lnTo>
                  <a:lnTo>
                    <a:pt x="331" y="1592"/>
                  </a:lnTo>
                  <a:lnTo>
                    <a:pt x="216" y="1535"/>
                  </a:lnTo>
                  <a:lnTo>
                    <a:pt x="48" y="1415"/>
                  </a:lnTo>
                  <a:lnTo>
                    <a:pt x="0" y="1309"/>
                  </a:lnTo>
                  <a:lnTo>
                    <a:pt x="0" y="1223"/>
                  </a:lnTo>
                  <a:lnTo>
                    <a:pt x="29" y="1145"/>
                  </a:lnTo>
                  <a:lnTo>
                    <a:pt x="99" y="1095"/>
                  </a:lnTo>
                  <a:lnTo>
                    <a:pt x="171" y="1070"/>
                  </a:lnTo>
                  <a:lnTo>
                    <a:pt x="225" y="1041"/>
                  </a:lnTo>
                  <a:lnTo>
                    <a:pt x="254" y="956"/>
                  </a:lnTo>
                  <a:lnTo>
                    <a:pt x="228" y="883"/>
                  </a:lnTo>
                  <a:lnTo>
                    <a:pt x="134" y="771"/>
                  </a:lnTo>
                  <a:lnTo>
                    <a:pt x="158" y="696"/>
                  </a:lnTo>
                  <a:lnTo>
                    <a:pt x="225" y="584"/>
                  </a:lnTo>
                  <a:lnTo>
                    <a:pt x="202" y="503"/>
                  </a:lnTo>
                  <a:lnTo>
                    <a:pt x="113" y="427"/>
                  </a:lnTo>
                  <a:lnTo>
                    <a:pt x="48" y="358"/>
                  </a:lnTo>
                  <a:lnTo>
                    <a:pt x="52" y="245"/>
                  </a:lnTo>
                  <a:lnTo>
                    <a:pt x="115" y="164"/>
                  </a:lnTo>
                  <a:lnTo>
                    <a:pt x="186" y="117"/>
                  </a:lnTo>
                  <a:lnTo>
                    <a:pt x="261" y="119"/>
                  </a:lnTo>
                  <a:lnTo>
                    <a:pt x="310" y="160"/>
                  </a:lnTo>
                  <a:lnTo>
                    <a:pt x="348" y="214"/>
                  </a:lnTo>
                  <a:lnTo>
                    <a:pt x="331" y="265"/>
                  </a:lnTo>
                  <a:lnTo>
                    <a:pt x="293" y="299"/>
                  </a:lnTo>
                  <a:lnTo>
                    <a:pt x="235" y="299"/>
                  </a:lnTo>
                  <a:lnTo>
                    <a:pt x="164" y="286"/>
                  </a:lnTo>
                  <a:lnTo>
                    <a:pt x="132" y="315"/>
                  </a:lnTo>
                  <a:lnTo>
                    <a:pt x="151" y="356"/>
                  </a:lnTo>
                  <a:lnTo>
                    <a:pt x="303" y="452"/>
                  </a:lnTo>
                  <a:lnTo>
                    <a:pt x="361" y="538"/>
                  </a:lnTo>
                  <a:lnTo>
                    <a:pt x="296" y="758"/>
                  </a:lnTo>
                  <a:lnTo>
                    <a:pt x="331" y="972"/>
                  </a:lnTo>
                  <a:lnTo>
                    <a:pt x="338" y="1132"/>
                  </a:lnTo>
                  <a:lnTo>
                    <a:pt x="270" y="1220"/>
                  </a:lnTo>
                  <a:lnTo>
                    <a:pt x="206" y="1289"/>
                  </a:lnTo>
                  <a:lnTo>
                    <a:pt x="186" y="1390"/>
                  </a:lnTo>
                  <a:lnTo>
                    <a:pt x="219" y="1450"/>
                  </a:lnTo>
                  <a:lnTo>
                    <a:pt x="270" y="1522"/>
                  </a:lnTo>
                  <a:lnTo>
                    <a:pt x="338" y="1553"/>
                  </a:lnTo>
                  <a:lnTo>
                    <a:pt x="368" y="1553"/>
                  </a:lnTo>
                  <a:lnTo>
                    <a:pt x="425" y="1491"/>
                  </a:lnTo>
                  <a:lnTo>
                    <a:pt x="474" y="1460"/>
                  </a:lnTo>
                  <a:lnTo>
                    <a:pt x="567" y="1441"/>
                  </a:lnTo>
                  <a:lnTo>
                    <a:pt x="628" y="1460"/>
                  </a:lnTo>
                  <a:lnTo>
                    <a:pt x="638" y="1585"/>
                  </a:lnTo>
                  <a:lnTo>
                    <a:pt x="680" y="1633"/>
                  </a:lnTo>
                  <a:lnTo>
                    <a:pt x="771" y="1649"/>
                  </a:lnTo>
                  <a:lnTo>
                    <a:pt x="809" y="1626"/>
                  </a:lnTo>
                  <a:lnTo>
                    <a:pt x="809" y="1542"/>
                  </a:lnTo>
                  <a:lnTo>
                    <a:pt x="806" y="1393"/>
                  </a:lnTo>
                  <a:lnTo>
                    <a:pt x="725" y="1403"/>
                  </a:lnTo>
                  <a:lnTo>
                    <a:pt x="600" y="1359"/>
                  </a:lnTo>
                  <a:lnTo>
                    <a:pt x="528" y="1277"/>
                  </a:lnTo>
                  <a:lnTo>
                    <a:pt x="438" y="1097"/>
                  </a:lnTo>
                  <a:lnTo>
                    <a:pt x="451" y="944"/>
                  </a:lnTo>
                  <a:lnTo>
                    <a:pt x="483" y="837"/>
                  </a:lnTo>
                  <a:lnTo>
                    <a:pt x="476" y="789"/>
                  </a:lnTo>
                  <a:lnTo>
                    <a:pt x="516" y="711"/>
                  </a:lnTo>
                  <a:lnTo>
                    <a:pt x="467" y="522"/>
                  </a:lnTo>
                  <a:lnTo>
                    <a:pt x="467" y="324"/>
                  </a:lnTo>
                  <a:lnTo>
                    <a:pt x="506" y="201"/>
                  </a:lnTo>
                  <a:lnTo>
                    <a:pt x="551" y="148"/>
                  </a:lnTo>
                  <a:lnTo>
                    <a:pt x="580" y="119"/>
                  </a:lnTo>
                  <a:lnTo>
                    <a:pt x="580" y="11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61240" y="2422440"/>
              <a:ext cx="879480" cy="1754280"/>
            </a:xfrm>
            <a:custGeom>
              <a:avLst/>
              <a:gdLst/>
              <a:ahLst/>
              <a:rect l="l" t="t" r="r" b="b"/>
              <a:pathLst>
                <a:path w="554" h="1105">
                  <a:moveTo>
                    <a:pt x="48" y="0"/>
                  </a:moveTo>
                  <a:lnTo>
                    <a:pt x="48" y="158"/>
                  </a:lnTo>
                  <a:lnTo>
                    <a:pt x="0" y="279"/>
                  </a:lnTo>
                  <a:lnTo>
                    <a:pt x="63" y="306"/>
                  </a:lnTo>
                  <a:lnTo>
                    <a:pt x="117" y="346"/>
                  </a:lnTo>
                  <a:lnTo>
                    <a:pt x="182" y="444"/>
                  </a:lnTo>
                  <a:lnTo>
                    <a:pt x="190" y="584"/>
                  </a:lnTo>
                  <a:lnTo>
                    <a:pt x="155" y="719"/>
                  </a:lnTo>
                  <a:lnTo>
                    <a:pt x="114" y="830"/>
                  </a:lnTo>
                  <a:lnTo>
                    <a:pt x="213" y="793"/>
                  </a:lnTo>
                  <a:lnTo>
                    <a:pt x="258" y="830"/>
                  </a:lnTo>
                  <a:lnTo>
                    <a:pt x="296" y="913"/>
                  </a:lnTo>
                  <a:lnTo>
                    <a:pt x="359" y="930"/>
                  </a:lnTo>
                  <a:lnTo>
                    <a:pt x="393" y="1037"/>
                  </a:lnTo>
                  <a:lnTo>
                    <a:pt x="448" y="1105"/>
                  </a:lnTo>
                  <a:lnTo>
                    <a:pt x="551" y="977"/>
                  </a:lnTo>
                  <a:lnTo>
                    <a:pt x="554" y="893"/>
                  </a:lnTo>
                  <a:lnTo>
                    <a:pt x="451" y="732"/>
                  </a:lnTo>
                  <a:lnTo>
                    <a:pt x="393" y="856"/>
                  </a:lnTo>
                  <a:lnTo>
                    <a:pt x="368" y="749"/>
                  </a:lnTo>
                  <a:lnTo>
                    <a:pt x="334" y="678"/>
                  </a:lnTo>
                  <a:lnTo>
                    <a:pt x="321" y="725"/>
                  </a:lnTo>
                  <a:lnTo>
                    <a:pt x="294" y="776"/>
                  </a:lnTo>
                  <a:lnTo>
                    <a:pt x="289" y="675"/>
                  </a:lnTo>
                  <a:lnTo>
                    <a:pt x="238" y="605"/>
                  </a:lnTo>
                  <a:lnTo>
                    <a:pt x="220" y="521"/>
                  </a:lnTo>
                  <a:lnTo>
                    <a:pt x="249" y="477"/>
                  </a:lnTo>
                  <a:lnTo>
                    <a:pt x="235" y="373"/>
                  </a:lnTo>
                  <a:lnTo>
                    <a:pt x="162" y="346"/>
                  </a:lnTo>
                  <a:lnTo>
                    <a:pt x="213" y="296"/>
                  </a:lnTo>
                  <a:lnTo>
                    <a:pt x="279" y="320"/>
                  </a:lnTo>
                  <a:lnTo>
                    <a:pt x="327" y="333"/>
                  </a:lnTo>
                  <a:lnTo>
                    <a:pt x="307" y="209"/>
                  </a:lnTo>
                  <a:lnTo>
                    <a:pt x="262" y="161"/>
                  </a:lnTo>
                  <a:lnTo>
                    <a:pt x="256" y="248"/>
                  </a:lnTo>
                  <a:lnTo>
                    <a:pt x="190" y="226"/>
                  </a:lnTo>
                  <a:lnTo>
                    <a:pt x="148" y="261"/>
                  </a:lnTo>
                  <a:lnTo>
                    <a:pt x="139" y="172"/>
                  </a:lnTo>
                  <a:lnTo>
                    <a:pt x="114" y="189"/>
                  </a:lnTo>
                  <a:lnTo>
                    <a:pt x="110" y="115"/>
                  </a:lnTo>
                  <a:lnTo>
                    <a:pt x="135" y="98"/>
                  </a:lnTo>
                  <a:lnTo>
                    <a:pt x="104" y="3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d8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61240" y="2416320"/>
              <a:ext cx="187200" cy="501480"/>
            </a:xfrm>
            <a:custGeom>
              <a:avLst/>
              <a:gdLst/>
              <a:ahLst/>
              <a:rect l="l" t="t" r="r" b="b"/>
              <a:pathLst>
                <a:path w="118" h="316">
                  <a:moveTo>
                    <a:pt x="114" y="193"/>
                  </a:moveTo>
                  <a:lnTo>
                    <a:pt x="57" y="255"/>
                  </a:lnTo>
                  <a:lnTo>
                    <a:pt x="74" y="92"/>
                  </a:lnTo>
                  <a:lnTo>
                    <a:pt x="118" y="49"/>
                  </a:lnTo>
                  <a:lnTo>
                    <a:pt x="63" y="0"/>
                  </a:lnTo>
                  <a:lnTo>
                    <a:pt x="41" y="61"/>
                  </a:lnTo>
                  <a:lnTo>
                    <a:pt x="34" y="184"/>
                  </a:lnTo>
                  <a:lnTo>
                    <a:pt x="0" y="283"/>
                  </a:lnTo>
                  <a:lnTo>
                    <a:pt x="76" y="316"/>
                  </a:lnTo>
                  <a:lnTo>
                    <a:pt x="105" y="252"/>
                  </a:lnTo>
                  <a:lnTo>
                    <a:pt x="114" y="193"/>
                  </a:lnTo>
                  <a:lnTo>
                    <a:pt x="114" y="193"/>
                  </a:lnTo>
                  <a:close/>
                </a:path>
              </a:pathLst>
            </a:custGeom>
            <a:solidFill>
              <a:srgbClr val="efb6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1920" y="3781440"/>
              <a:ext cx="754200" cy="1295280"/>
            </a:xfrm>
            <a:custGeom>
              <a:avLst/>
              <a:gdLst/>
              <a:ahLst/>
              <a:rect l="l" t="t" r="r" b="b"/>
              <a:pathLst>
                <a:path w="475" h="816">
                  <a:moveTo>
                    <a:pt x="56" y="624"/>
                  </a:moveTo>
                  <a:lnTo>
                    <a:pt x="97" y="521"/>
                  </a:lnTo>
                  <a:lnTo>
                    <a:pt x="11" y="326"/>
                  </a:lnTo>
                  <a:lnTo>
                    <a:pt x="0" y="158"/>
                  </a:lnTo>
                  <a:lnTo>
                    <a:pt x="14" y="101"/>
                  </a:lnTo>
                  <a:lnTo>
                    <a:pt x="42" y="81"/>
                  </a:lnTo>
                  <a:lnTo>
                    <a:pt x="97" y="105"/>
                  </a:lnTo>
                  <a:lnTo>
                    <a:pt x="132" y="172"/>
                  </a:lnTo>
                  <a:lnTo>
                    <a:pt x="177" y="181"/>
                  </a:lnTo>
                  <a:lnTo>
                    <a:pt x="217" y="232"/>
                  </a:lnTo>
                  <a:lnTo>
                    <a:pt x="228" y="162"/>
                  </a:lnTo>
                  <a:lnTo>
                    <a:pt x="166" y="111"/>
                  </a:lnTo>
                  <a:lnTo>
                    <a:pt x="125" y="51"/>
                  </a:lnTo>
                  <a:lnTo>
                    <a:pt x="224" y="0"/>
                  </a:lnTo>
                  <a:lnTo>
                    <a:pt x="300" y="14"/>
                  </a:lnTo>
                  <a:lnTo>
                    <a:pt x="327" y="57"/>
                  </a:lnTo>
                  <a:lnTo>
                    <a:pt x="228" y="107"/>
                  </a:lnTo>
                  <a:lnTo>
                    <a:pt x="300" y="121"/>
                  </a:lnTo>
                  <a:lnTo>
                    <a:pt x="358" y="121"/>
                  </a:lnTo>
                  <a:lnTo>
                    <a:pt x="383" y="168"/>
                  </a:lnTo>
                  <a:lnTo>
                    <a:pt x="451" y="188"/>
                  </a:lnTo>
                  <a:lnTo>
                    <a:pt x="475" y="266"/>
                  </a:lnTo>
                  <a:lnTo>
                    <a:pt x="430" y="410"/>
                  </a:lnTo>
                  <a:lnTo>
                    <a:pt x="413" y="524"/>
                  </a:lnTo>
                  <a:lnTo>
                    <a:pt x="403" y="604"/>
                  </a:lnTo>
                  <a:lnTo>
                    <a:pt x="348" y="652"/>
                  </a:lnTo>
                  <a:lnTo>
                    <a:pt x="325" y="812"/>
                  </a:lnTo>
                  <a:lnTo>
                    <a:pt x="255" y="816"/>
                  </a:lnTo>
                  <a:lnTo>
                    <a:pt x="152" y="779"/>
                  </a:lnTo>
                  <a:lnTo>
                    <a:pt x="52" y="659"/>
                  </a:lnTo>
                  <a:lnTo>
                    <a:pt x="56" y="624"/>
                  </a:lnTo>
                  <a:lnTo>
                    <a:pt x="56" y="624"/>
                  </a:lnTo>
                  <a:close/>
                </a:path>
              </a:pathLst>
            </a:custGeom>
            <a:solidFill>
              <a:srgbClr val="ffd8c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45480" y="4221000"/>
              <a:ext cx="554040" cy="855720"/>
            </a:xfrm>
            <a:custGeom>
              <a:avLst/>
              <a:gdLst/>
              <a:ahLst/>
              <a:rect l="l" t="t" r="r" b="b"/>
              <a:pathLst>
                <a:path w="349" h="539">
                  <a:moveTo>
                    <a:pt x="0" y="386"/>
                  </a:moveTo>
                  <a:lnTo>
                    <a:pt x="84" y="433"/>
                  </a:lnTo>
                  <a:lnTo>
                    <a:pt x="136" y="415"/>
                  </a:lnTo>
                  <a:lnTo>
                    <a:pt x="146" y="367"/>
                  </a:lnTo>
                  <a:lnTo>
                    <a:pt x="178" y="329"/>
                  </a:lnTo>
                  <a:lnTo>
                    <a:pt x="150" y="301"/>
                  </a:lnTo>
                  <a:lnTo>
                    <a:pt x="152" y="242"/>
                  </a:lnTo>
                  <a:lnTo>
                    <a:pt x="129" y="175"/>
                  </a:lnTo>
                  <a:lnTo>
                    <a:pt x="136" y="71"/>
                  </a:lnTo>
                  <a:lnTo>
                    <a:pt x="175" y="55"/>
                  </a:lnTo>
                  <a:lnTo>
                    <a:pt x="236" y="62"/>
                  </a:lnTo>
                  <a:lnTo>
                    <a:pt x="307" y="0"/>
                  </a:lnTo>
                  <a:lnTo>
                    <a:pt x="311" y="34"/>
                  </a:lnTo>
                  <a:lnTo>
                    <a:pt x="349" y="43"/>
                  </a:lnTo>
                  <a:lnTo>
                    <a:pt x="346" y="133"/>
                  </a:lnTo>
                  <a:lnTo>
                    <a:pt x="311" y="276"/>
                  </a:lnTo>
                  <a:lnTo>
                    <a:pt x="272" y="333"/>
                  </a:lnTo>
                  <a:lnTo>
                    <a:pt x="201" y="390"/>
                  </a:lnTo>
                  <a:lnTo>
                    <a:pt x="253" y="383"/>
                  </a:lnTo>
                  <a:lnTo>
                    <a:pt x="230" y="442"/>
                  </a:lnTo>
                  <a:lnTo>
                    <a:pt x="232" y="502"/>
                  </a:lnTo>
                  <a:lnTo>
                    <a:pt x="241" y="535"/>
                  </a:lnTo>
                  <a:lnTo>
                    <a:pt x="171" y="539"/>
                  </a:lnTo>
                  <a:lnTo>
                    <a:pt x="108" y="511"/>
                  </a:lnTo>
                  <a:lnTo>
                    <a:pt x="0" y="386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efb6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38880" y="1719360"/>
              <a:ext cx="920880" cy="1146240"/>
            </a:xfrm>
            <a:custGeom>
              <a:avLst/>
              <a:gdLst/>
              <a:ahLst/>
              <a:rect l="l" t="t" r="r" b="b"/>
              <a:pathLst>
                <a:path w="580" h="722">
                  <a:moveTo>
                    <a:pt x="74" y="74"/>
                  </a:moveTo>
                  <a:lnTo>
                    <a:pt x="96" y="24"/>
                  </a:lnTo>
                  <a:lnTo>
                    <a:pt x="138" y="0"/>
                  </a:lnTo>
                  <a:lnTo>
                    <a:pt x="186" y="4"/>
                  </a:lnTo>
                  <a:lnTo>
                    <a:pt x="219" y="28"/>
                  </a:lnTo>
                  <a:lnTo>
                    <a:pt x="205" y="45"/>
                  </a:lnTo>
                  <a:lnTo>
                    <a:pt x="266" y="42"/>
                  </a:lnTo>
                  <a:lnTo>
                    <a:pt x="321" y="67"/>
                  </a:lnTo>
                  <a:lnTo>
                    <a:pt x="346" y="83"/>
                  </a:lnTo>
                  <a:lnTo>
                    <a:pt x="434" y="139"/>
                  </a:lnTo>
                  <a:lnTo>
                    <a:pt x="580" y="459"/>
                  </a:lnTo>
                  <a:lnTo>
                    <a:pt x="377" y="443"/>
                  </a:lnTo>
                  <a:lnTo>
                    <a:pt x="381" y="628"/>
                  </a:lnTo>
                  <a:lnTo>
                    <a:pt x="329" y="722"/>
                  </a:lnTo>
                  <a:lnTo>
                    <a:pt x="260" y="695"/>
                  </a:lnTo>
                  <a:lnTo>
                    <a:pt x="181" y="678"/>
                  </a:lnTo>
                  <a:lnTo>
                    <a:pt x="105" y="689"/>
                  </a:lnTo>
                  <a:lnTo>
                    <a:pt x="47" y="715"/>
                  </a:lnTo>
                  <a:lnTo>
                    <a:pt x="120" y="623"/>
                  </a:lnTo>
                  <a:lnTo>
                    <a:pt x="148" y="588"/>
                  </a:lnTo>
                  <a:lnTo>
                    <a:pt x="205" y="539"/>
                  </a:lnTo>
                  <a:lnTo>
                    <a:pt x="257" y="521"/>
                  </a:lnTo>
                  <a:lnTo>
                    <a:pt x="202" y="504"/>
                  </a:lnTo>
                  <a:lnTo>
                    <a:pt x="110" y="554"/>
                  </a:lnTo>
                  <a:lnTo>
                    <a:pt x="27" y="645"/>
                  </a:lnTo>
                  <a:lnTo>
                    <a:pt x="5" y="467"/>
                  </a:lnTo>
                  <a:lnTo>
                    <a:pt x="0" y="410"/>
                  </a:lnTo>
                  <a:lnTo>
                    <a:pt x="5" y="340"/>
                  </a:lnTo>
                  <a:lnTo>
                    <a:pt x="17" y="279"/>
                  </a:lnTo>
                  <a:lnTo>
                    <a:pt x="29" y="192"/>
                  </a:lnTo>
                  <a:lnTo>
                    <a:pt x="69" y="122"/>
                  </a:lnTo>
                  <a:lnTo>
                    <a:pt x="126" y="70"/>
                  </a:lnTo>
                  <a:lnTo>
                    <a:pt x="74" y="74"/>
                  </a:lnTo>
                  <a:lnTo>
                    <a:pt x="74" y="74"/>
                  </a:lnTo>
                  <a:close/>
                </a:path>
              </a:pathLst>
            </a:custGeom>
            <a:solidFill>
              <a:srgbClr val="efd6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99280" y="2438280"/>
              <a:ext cx="433440" cy="522360"/>
            </a:xfrm>
            <a:custGeom>
              <a:avLst/>
              <a:gdLst/>
              <a:ahLst/>
              <a:rect l="l" t="t" r="r" b="b"/>
              <a:pathLst>
                <a:path w="273" h="329">
                  <a:moveTo>
                    <a:pt x="0" y="0"/>
                  </a:moveTo>
                  <a:lnTo>
                    <a:pt x="155" y="85"/>
                  </a:lnTo>
                  <a:lnTo>
                    <a:pt x="262" y="185"/>
                  </a:lnTo>
                  <a:lnTo>
                    <a:pt x="273" y="303"/>
                  </a:lnTo>
                  <a:lnTo>
                    <a:pt x="242" y="329"/>
                  </a:lnTo>
                  <a:lnTo>
                    <a:pt x="169" y="329"/>
                  </a:lnTo>
                  <a:lnTo>
                    <a:pt x="152" y="312"/>
                  </a:lnTo>
                  <a:lnTo>
                    <a:pt x="114" y="155"/>
                  </a:lnTo>
                  <a:lnTo>
                    <a:pt x="81" y="131"/>
                  </a:lnTo>
                  <a:lnTo>
                    <a:pt x="52" y="78"/>
                  </a:lnTo>
                  <a:lnTo>
                    <a:pt x="87" y="8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91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66000" y="2422440"/>
              <a:ext cx="328680" cy="455760"/>
            </a:xfrm>
            <a:custGeom>
              <a:avLst/>
              <a:gdLst/>
              <a:ahLst/>
              <a:rect l="l" t="t" r="r" b="b"/>
              <a:pathLst>
                <a:path w="207" h="287">
                  <a:moveTo>
                    <a:pt x="36" y="46"/>
                  </a:moveTo>
                  <a:lnTo>
                    <a:pt x="71" y="75"/>
                  </a:lnTo>
                  <a:lnTo>
                    <a:pt x="88" y="109"/>
                  </a:lnTo>
                  <a:lnTo>
                    <a:pt x="112" y="139"/>
                  </a:lnTo>
                  <a:lnTo>
                    <a:pt x="130" y="267"/>
                  </a:lnTo>
                  <a:lnTo>
                    <a:pt x="207" y="287"/>
                  </a:lnTo>
                  <a:lnTo>
                    <a:pt x="184" y="211"/>
                  </a:lnTo>
                  <a:lnTo>
                    <a:pt x="196" y="161"/>
                  </a:lnTo>
                  <a:lnTo>
                    <a:pt x="207" y="139"/>
                  </a:lnTo>
                  <a:lnTo>
                    <a:pt x="162" y="75"/>
                  </a:lnTo>
                  <a:lnTo>
                    <a:pt x="198" y="75"/>
                  </a:lnTo>
                  <a:lnTo>
                    <a:pt x="158" y="12"/>
                  </a:lnTo>
                  <a:lnTo>
                    <a:pt x="101" y="4"/>
                  </a:lnTo>
                  <a:lnTo>
                    <a:pt x="51" y="0"/>
                  </a:lnTo>
                  <a:lnTo>
                    <a:pt x="0" y="8"/>
                  </a:lnTo>
                  <a:lnTo>
                    <a:pt x="36" y="46"/>
                  </a:lnTo>
                  <a:lnTo>
                    <a:pt x="36" y="46"/>
                  </a:lnTo>
                  <a:close/>
                </a:path>
              </a:pathLst>
            </a:custGeom>
            <a:solidFill>
              <a:srgbClr val="a564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73880" y="1982880"/>
              <a:ext cx="568440" cy="2216160"/>
            </a:xfrm>
            <a:custGeom>
              <a:avLst/>
              <a:gdLst/>
              <a:ahLst/>
              <a:rect l="l" t="t" r="r" b="b"/>
              <a:pathLst>
                <a:path w="358" h="1396">
                  <a:moveTo>
                    <a:pt x="271" y="32"/>
                  </a:moveTo>
                  <a:lnTo>
                    <a:pt x="239" y="67"/>
                  </a:lnTo>
                  <a:lnTo>
                    <a:pt x="178" y="51"/>
                  </a:lnTo>
                  <a:lnTo>
                    <a:pt x="217" y="32"/>
                  </a:lnTo>
                  <a:lnTo>
                    <a:pt x="198" y="0"/>
                  </a:lnTo>
                  <a:lnTo>
                    <a:pt x="136" y="3"/>
                  </a:lnTo>
                  <a:lnTo>
                    <a:pt x="98" y="28"/>
                  </a:lnTo>
                  <a:lnTo>
                    <a:pt x="62" y="76"/>
                  </a:lnTo>
                  <a:lnTo>
                    <a:pt x="39" y="126"/>
                  </a:lnTo>
                  <a:lnTo>
                    <a:pt x="55" y="170"/>
                  </a:lnTo>
                  <a:lnTo>
                    <a:pt x="126" y="236"/>
                  </a:lnTo>
                  <a:lnTo>
                    <a:pt x="175" y="283"/>
                  </a:lnTo>
                  <a:lnTo>
                    <a:pt x="194" y="340"/>
                  </a:lnTo>
                  <a:lnTo>
                    <a:pt x="168" y="418"/>
                  </a:lnTo>
                  <a:lnTo>
                    <a:pt x="136" y="484"/>
                  </a:lnTo>
                  <a:lnTo>
                    <a:pt x="93" y="573"/>
                  </a:lnTo>
                  <a:lnTo>
                    <a:pt x="140" y="616"/>
                  </a:lnTo>
                  <a:lnTo>
                    <a:pt x="184" y="698"/>
                  </a:lnTo>
                  <a:lnTo>
                    <a:pt x="222" y="812"/>
                  </a:lnTo>
                  <a:lnTo>
                    <a:pt x="239" y="878"/>
                  </a:lnTo>
                  <a:lnTo>
                    <a:pt x="182" y="943"/>
                  </a:lnTo>
                  <a:lnTo>
                    <a:pt x="100" y="975"/>
                  </a:lnTo>
                  <a:lnTo>
                    <a:pt x="23" y="1029"/>
                  </a:lnTo>
                  <a:lnTo>
                    <a:pt x="0" y="1095"/>
                  </a:lnTo>
                  <a:lnTo>
                    <a:pt x="17" y="1182"/>
                  </a:lnTo>
                  <a:lnTo>
                    <a:pt x="58" y="1252"/>
                  </a:lnTo>
                  <a:lnTo>
                    <a:pt x="126" y="1328"/>
                  </a:lnTo>
                  <a:lnTo>
                    <a:pt x="201" y="1365"/>
                  </a:lnTo>
                  <a:lnTo>
                    <a:pt x="290" y="1394"/>
                  </a:lnTo>
                  <a:lnTo>
                    <a:pt x="343" y="1396"/>
                  </a:lnTo>
                  <a:lnTo>
                    <a:pt x="358" y="1381"/>
                  </a:lnTo>
                  <a:lnTo>
                    <a:pt x="323" y="1374"/>
                  </a:lnTo>
                  <a:lnTo>
                    <a:pt x="245" y="1353"/>
                  </a:lnTo>
                  <a:lnTo>
                    <a:pt x="161" y="1296"/>
                  </a:lnTo>
                  <a:lnTo>
                    <a:pt x="114" y="1214"/>
                  </a:lnTo>
                  <a:lnTo>
                    <a:pt x="136" y="1095"/>
                  </a:lnTo>
                  <a:lnTo>
                    <a:pt x="201" y="1013"/>
                  </a:lnTo>
                  <a:lnTo>
                    <a:pt x="297" y="934"/>
                  </a:lnTo>
                  <a:lnTo>
                    <a:pt x="316" y="856"/>
                  </a:lnTo>
                  <a:lnTo>
                    <a:pt x="307" y="755"/>
                  </a:lnTo>
                  <a:lnTo>
                    <a:pt x="259" y="585"/>
                  </a:lnTo>
                  <a:lnTo>
                    <a:pt x="271" y="491"/>
                  </a:lnTo>
                  <a:lnTo>
                    <a:pt x="311" y="361"/>
                  </a:lnTo>
                  <a:lnTo>
                    <a:pt x="307" y="305"/>
                  </a:lnTo>
                  <a:lnTo>
                    <a:pt x="220" y="224"/>
                  </a:lnTo>
                  <a:lnTo>
                    <a:pt x="110" y="158"/>
                  </a:lnTo>
                  <a:lnTo>
                    <a:pt x="91" y="117"/>
                  </a:lnTo>
                  <a:lnTo>
                    <a:pt x="133" y="78"/>
                  </a:lnTo>
                  <a:lnTo>
                    <a:pt x="194" y="101"/>
                  </a:lnTo>
                  <a:lnTo>
                    <a:pt x="252" y="101"/>
                  </a:lnTo>
                  <a:lnTo>
                    <a:pt x="304" y="69"/>
                  </a:lnTo>
                  <a:lnTo>
                    <a:pt x="271" y="32"/>
                  </a:lnTo>
                  <a:lnTo>
                    <a:pt x="271" y="32"/>
                  </a:lnTo>
                  <a:close/>
                </a:path>
              </a:pathLst>
            </a:custGeom>
            <a:solidFill>
              <a:srgbClr val="e0e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167680" y="3973680"/>
              <a:ext cx="473040" cy="2290680"/>
            </a:xfrm>
            <a:custGeom>
              <a:avLst/>
              <a:gdLst/>
              <a:ahLst/>
              <a:rect l="l" t="t" r="r" b="b"/>
              <a:pathLst>
                <a:path w="298" h="1443">
                  <a:moveTo>
                    <a:pt x="105" y="669"/>
                  </a:moveTo>
                  <a:lnTo>
                    <a:pt x="61" y="531"/>
                  </a:lnTo>
                  <a:lnTo>
                    <a:pt x="137" y="419"/>
                  </a:lnTo>
                  <a:lnTo>
                    <a:pt x="295" y="0"/>
                  </a:lnTo>
                  <a:lnTo>
                    <a:pt x="298" y="1443"/>
                  </a:lnTo>
                  <a:lnTo>
                    <a:pt x="242" y="1306"/>
                  </a:lnTo>
                  <a:lnTo>
                    <a:pt x="88" y="1196"/>
                  </a:lnTo>
                  <a:lnTo>
                    <a:pt x="0" y="1162"/>
                  </a:lnTo>
                  <a:lnTo>
                    <a:pt x="58" y="998"/>
                  </a:lnTo>
                  <a:lnTo>
                    <a:pt x="51" y="909"/>
                  </a:lnTo>
                  <a:lnTo>
                    <a:pt x="92" y="802"/>
                  </a:lnTo>
                  <a:lnTo>
                    <a:pt x="105" y="669"/>
                  </a:lnTo>
                  <a:lnTo>
                    <a:pt x="105" y="669"/>
                  </a:lnTo>
                  <a:close/>
                </a:path>
              </a:pathLst>
            </a:custGeom>
            <a:solidFill>
              <a:srgbClr val="ce91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298000" y="3036960"/>
              <a:ext cx="388800" cy="861840"/>
            </a:xfrm>
            <a:custGeom>
              <a:avLst/>
              <a:gdLst/>
              <a:ahLst/>
              <a:rect l="l" t="t" r="r" b="b"/>
              <a:pathLst>
                <a:path w="245" h="543">
                  <a:moveTo>
                    <a:pt x="245" y="0"/>
                  </a:moveTo>
                  <a:lnTo>
                    <a:pt x="131" y="53"/>
                  </a:lnTo>
                  <a:lnTo>
                    <a:pt x="79" y="120"/>
                  </a:lnTo>
                  <a:lnTo>
                    <a:pt x="44" y="188"/>
                  </a:lnTo>
                  <a:lnTo>
                    <a:pt x="0" y="221"/>
                  </a:lnTo>
                  <a:lnTo>
                    <a:pt x="113" y="345"/>
                  </a:lnTo>
                  <a:lnTo>
                    <a:pt x="216" y="543"/>
                  </a:lnTo>
                  <a:lnTo>
                    <a:pt x="231" y="97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ecce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319960" y="3265560"/>
              <a:ext cx="360360" cy="558720"/>
            </a:xfrm>
            <a:custGeom>
              <a:avLst/>
              <a:gdLst/>
              <a:ahLst/>
              <a:rect l="l" t="t" r="r" b="b"/>
              <a:pathLst>
                <a:path w="227" h="352">
                  <a:moveTo>
                    <a:pt x="0" y="83"/>
                  </a:moveTo>
                  <a:lnTo>
                    <a:pt x="45" y="53"/>
                  </a:lnTo>
                  <a:lnTo>
                    <a:pt x="92" y="81"/>
                  </a:lnTo>
                  <a:lnTo>
                    <a:pt x="206" y="0"/>
                  </a:lnTo>
                  <a:lnTo>
                    <a:pt x="227" y="352"/>
                  </a:lnTo>
                  <a:lnTo>
                    <a:pt x="92" y="168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e91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405560" y="3206880"/>
              <a:ext cx="349200" cy="325440"/>
            </a:xfrm>
            <a:custGeom>
              <a:avLst/>
              <a:gdLst/>
              <a:ahLst/>
              <a:rect l="l" t="t" r="r" b="b"/>
              <a:pathLst>
                <a:path w="220" h="205">
                  <a:moveTo>
                    <a:pt x="59" y="0"/>
                  </a:moveTo>
                  <a:lnTo>
                    <a:pt x="101" y="33"/>
                  </a:lnTo>
                  <a:lnTo>
                    <a:pt x="72" y="94"/>
                  </a:lnTo>
                  <a:lnTo>
                    <a:pt x="110" y="103"/>
                  </a:lnTo>
                  <a:lnTo>
                    <a:pt x="169" y="101"/>
                  </a:lnTo>
                  <a:lnTo>
                    <a:pt x="204" y="148"/>
                  </a:lnTo>
                  <a:lnTo>
                    <a:pt x="220" y="171"/>
                  </a:lnTo>
                  <a:lnTo>
                    <a:pt x="214" y="205"/>
                  </a:lnTo>
                  <a:lnTo>
                    <a:pt x="162" y="201"/>
                  </a:lnTo>
                  <a:lnTo>
                    <a:pt x="101" y="177"/>
                  </a:lnTo>
                  <a:lnTo>
                    <a:pt x="52" y="124"/>
                  </a:lnTo>
                  <a:lnTo>
                    <a:pt x="0" y="37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ddd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04280" y="1825560"/>
              <a:ext cx="542880" cy="623880"/>
            </a:xfrm>
            <a:custGeom>
              <a:avLst/>
              <a:gdLst/>
              <a:ahLst/>
              <a:rect l="l" t="t" r="r" b="b"/>
              <a:pathLst>
                <a:path w="342" h="393">
                  <a:moveTo>
                    <a:pt x="23" y="0"/>
                  </a:moveTo>
                  <a:lnTo>
                    <a:pt x="2" y="18"/>
                  </a:lnTo>
                  <a:lnTo>
                    <a:pt x="0" y="48"/>
                  </a:lnTo>
                  <a:lnTo>
                    <a:pt x="8" y="88"/>
                  </a:lnTo>
                  <a:lnTo>
                    <a:pt x="60" y="184"/>
                  </a:lnTo>
                  <a:lnTo>
                    <a:pt x="120" y="253"/>
                  </a:lnTo>
                  <a:lnTo>
                    <a:pt x="165" y="353"/>
                  </a:lnTo>
                  <a:lnTo>
                    <a:pt x="245" y="355"/>
                  </a:lnTo>
                  <a:lnTo>
                    <a:pt x="342" y="393"/>
                  </a:lnTo>
                  <a:lnTo>
                    <a:pt x="334" y="199"/>
                  </a:lnTo>
                  <a:lnTo>
                    <a:pt x="147" y="44"/>
                  </a:lnTo>
                  <a:lnTo>
                    <a:pt x="65" y="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ce91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21600" y="2998800"/>
              <a:ext cx="530280" cy="741240"/>
            </a:xfrm>
            <a:custGeom>
              <a:avLst/>
              <a:gdLst/>
              <a:ahLst/>
              <a:rect l="l" t="t" r="r" b="b"/>
              <a:pathLst>
                <a:path w="334" h="467">
                  <a:moveTo>
                    <a:pt x="107" y="238"/>
                  </a:moveTo>
                  <a:lnTo>
                    <a:pt x="199" y="339"/>
                  </a:lnTo>
                  <a:lnTo>
                    <a:pt x="268" y="356"/>
                  </a:lnTo>
                  <a:lnTo>
                    <a:pt x="334" y="352"/>
                  </a:lnTo>
                  <a:lnTo>
                    <a:pt x="309" y="413"/>
                  </a:lnTo>
                  <a:lnTo>
                    <a:pt x="278" y="437"/>
                  </a:lnTo>
                  <a:lnTo>
                    <a:pt x="241" y="456"/>
                  </a:lnTo>
                  <a:lnTo>
                    <a:pt x="203" y="467"/>
                  </a:lnTo>
                  <a:lnTo>
                    <a:pt x="100" y="439"/>
                  </a:lnTo>
                  <a:lnTo>
                    <a:pt x="27" y="302"/>
                  </a:lnTo>
                  <a:lnTo>
                    <a:pt x="0" y="171"/>
                  </a:lnTo>
                  <a:lnTo>
                    <a:pt x="24" y="84"/>
                  </a:lnTo>
                  <a:lnTo>
                    <a:pt x="72" y="0"/>
                  </a:lnTo>
                  <a:lnTo>
                    <a:pt x="62" y="101"/>
                  </a:lnTo>
                  <a:lnTo>
                    <a:pt x="83" y="171"/>
                  </a:lnTo>
                  <a:lnTo>
                    <a:pt x="107" y="238"/>
                  </a:lnTo>
                  <a:lnTo>
                    <a:pt x="107" y="238"/>
                  </a:lnTo>
                  <a:close/>
                </a:path>
              </a:pathLst>
            </a:custGeom>
            <a:solidFill>
              <a:srgbClr val="b9f2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73880" y="2897280"/>
              <a:ext cx="441360" cy="531720"/>
            </a:xfrm>
            <a:custGeom>
              <a:avLst/>
              <a:gdLst/>
              <a:ahLst/>
              <a:rect l="l" t="t" r="r" b="b"/>
              <a:pathLst>
                <a:path w="278" h="335">
                  <a:moveTo>
                    <a:pt x="96" y="0"/>
                  </a:moveTo>
                  <a:lnTo>
                    <a:pt x="38" y="43"/>
                  </a:lnTo>
                  <a:lnTo>
                    <a:pt x="14" y="91"/>
                  </a:lnTo>
                  <a:lnTo>
                    <a:pt x="0" y="152"/>
                  </a:lnTo>
                  <a:lnTo>
                    <a:pt x="90" y="167"/>
                  </a:lnTo>
                  <a:lnTo>
                    <a:pt x="175" y="211"/>
                  </a:lnTo>
                  <a:lnTo>
                    <a:pt x="234" y="269"/>
                  </a:lnTo>
                  <a:lnTo>
                    <a:pt x="269" y="335"/>
                  </a:lnTo>
                  <a:lnTo>
                    <a:pt x="278" y="189"/>
                  </a:lnTo>
                  <a:lnTo>
                    <a:pt x="224" y="77"/>
                  </a:lnTo>
                  <a:lnTo>
                    <a:pt x="155" y="21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b2ecf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128080" y="4344840"/>
              <a:ext cx="311040" cy="354240"/>
            </a:xfrm>
            <a:custGeom>
              <a:avLst/>
              <a:gdLst/>
              <a:ahLst/>
              <a:rect l="l" t="t" r="r" b="b"/>
              <a:pathLst>
                <a:path w="196" h="223">
                  <a:moveTo>
                    <a:pt x="27" y="145"/>
                  </a:moveTo>
                  <a:lnTo>
                    <a:pt x="0" y="93"/>
                  </a:lnTo>
                  <a:lnTo>
                    <a:pt x="26" y="29"/>
                  </a:lnTo>
                  <a:lnTo>
                    <a:pt x="101" y="0"/>
                  </a:lnTo>
                  <a:lnTo>
                    <a:pt x="148" y="15"/>
                  </a:lnTo>
                  <a:lnTo>
                    <a:pt x="196" y="125"/>
                  </a:lnTo>
                  <a:lnTo>
                    <a:pt x="151" y="169"/>
                  </a:lnTo>
                  <a:lnTo>
                    <a:pt x="48" y="223"/>
                  </a:lnTo>
                  <a:lnTo>
                    <a:pt x="27" y="145"/>
                  </a:lnTo>
                  <a:lnTo>
                    <a:pt x="27" y="145"/>
                  </a:lnTo>
                  <a:close/>
                </a:path>
              </a:pathLst>
            </a:custGeom>
            <a:solidFill>
              <a:srgbClr val="bcbc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82000" y="2881440"/>
              <a:ext cx="361800" cy="825480"/>
            </a:xfrm>
            <a:custGeom>
              <a:avLst/>
              <a:gdLst/>
              <a:ahLst/>
              <a:rect l="l" t="t" r="r" b="b"/>
              <a:pathLst>
                <a:path w="228" h="520">
                  <a:moveTo>
                    <a:pt x="186" y="0"/>
                  </a:moveTo>
                  <a:lnTo>
                    <a:pt x="121" y="17"/>
                  </a:lnTo>
                  <a:lnTo>
                    <a:pt x="70" y="47"/>
                  </a:lnTo>
                  <a:lnTo>
                    <a:pt x="42" y="90"/>
                  </a:lnTo>
                  <a:lnTo>
                    <a:pt x="14" y="138"/>
                  </a:lnTo>
                  <a:lnTo>
                    <a:pt x="0" y="205"/>
                  </a:lnTo>
                  <a:lnTo>
                    <a:pt x="0" y="286"/>
                  </a:lnTo>
                  <a:lnTo>
                    <a:pt x="32" y="382"/>
                  </a:lnTo>
                  <a:lnTo>
                    <a:pt x="97" y="500"/>
                  </a:lnTo>
                  <a:lnTo>
                    <a:pt x="177" y="511"/>
                  </a:lnTo>
                  <a:lnTo>
                    <a:pt x="228" y="520"/>
                  </a:lnTo>
                  <a:lnTo>
                    <a:pt x="155" y="470"/>
                  </a:lnTo>
                  <a:lnTo>
                    <a:pt x="90" y="373"/>
                  </a:lnTo>
                  <a:lnTo>
                    <a:pt x="56" y="269"/>
                  </a:lnTo>
                  <a:lnTo>
                    <a:pt x="76" y="105"/>
                  </a:lnTo>
                  <a:lnTo>
                    <a:pt x="128" y="44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bcbc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99280" y="2965320"/>
              <a:ext cx="825480" cy="912960"/>
            </a:xfrm>
            <a:custGeom>
              <a:avLst/>
              <a:gdLst/>
              <a:ahLst/>
              <a:rect l="l" t="t" r="r" b="b"/>
              <a:pathLst>
                <a:path w="520" h="575">
                  <a:moveTo>
                    <a:pt x="406" y="0"/>
                  </a:moveTo>
                  <a:lnTo>
                    <a:pt x="444" y="74"/>
                  </a:lnTo>
                  <a:lnTo>
                    <a:pt x="458" y="168"/>
                  </a:lnTo>
                  <a:lnTo>
                    <a:pt x="458" y="242"/>
                  </a:lnTo>
                  <a:lnTo>
                    <a:pt x="437" y="329"/>
                  </a:lnTo>
                  <a:lnTo>
                    <a:pt x="406" y="397"/>
                  </a:lnTo>
                  <a:lnTo>
                    <a:pt x="368" y="447"/>
                  </a:lnTo>
                  <a:lnTo>
                    <a:pt x="323" y="495"/>
                  </a:lnTo>
                  <a:lnTo>
                    <a:pt x="285" y="521"/>
                  </a:lnTo>
                  <a:lnTo>
                    <a:pt x="227" y="538"/>
                  </a:lnTo>
                  <a:lnTo>
                    <a:pt x="148" y="528"/>
                  </a:lnTo>
                  <a:lnTo>
                    <a:pt x="72" y="481"/>
                  </a:lnTo>
                  <a:lnTo>
                    <a:pt x="0" y="417"/>
                  </a:lnTo>
                  <a:lnTo>
                    <a:pt x="48" y="508"/>
                  </a:lnTo>
                  <a:lnTo>
                    <a:pt x="137" y="565"/>
                  </a:lnTo>
                  <a:lnTo>
                    <a:pt x="227" y="575"/>
                  </a:lnTo>
                  <a:lnTo>
                    <a:pt x="296" y="571"/>
                  </a:lnTo>
                  <a:lnTo>
                    <a:pt x="344" y="525"/>
                  </a:lnTo>
                  <a:lnTo>
                    <a:pt x="430" y="501"/>
                  </a:lnTo>
                  <a:lnTo>
                    <a:pt x="489" y="423"/>
                  </a:lnTo>
                  <a:lnTo>
                    <a:pt x="520" y="300"/>
                  </a:lnTo>
                  <a:lnTo>
                    <a:pt x="516" y="183"/>
                  </a:lnTo>
                  <a:lnTo>
                    <a:pt x="496" y="135"/>
                  </a:lnTo>
                  <a:lnTo>
                    <a:pt x="485" y="185"/>
                  </a:lnTo>
                  <a:lnTo>
                    <a:pt x="468" y="89"/>
                  </a:lnTo>
                  <a:lnTo>
                    <a:pt x="437" y="28"/>
                  </a:lnTo>
                  <a:lnTo>
                    <a:pt x="406" y="0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bcbc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65920" y="3936960"/>
              <a:ext cx="530280" cy="515880"/>
            </a:xfrm>
            <a:custGeom>
              <a:avLst/>
              <a:gdLst/>
              <a:ahLst/>
              <a:rect l="l" t="t" r="r" b="b"/>
              <a:pathLst>
                <a:path w="334" h="325">
                  <a:moveTo>
                    <a:pt x="41" y="191"/>
                  </a:moveTo>
                  <a:lnTo>
                    <a:pt x="103" y="191"/>
                  </a:lnTo>
                  <a:lnTo>
                    <a:pt x="103" y="228"/>
                  </a:lnTo>
                  <a:lnTo>
                    <a:pt x="168" y="184"/>
                  </a:lnTo>
                  <a:lnTo>
                    <a:pt x="241" y="83"/>
                  </a:lnTo>
                  <a:lnTo>
                    <a:pt x="190" y="87"/>
                  </a:lnTo>
                  <a:lnTo>
                    <a:pt x="130" y="116"/>
                  </a:lnTo>
                  <a:lnTo>
                    <a:pt x="172" y="46"/>
                  </a:lnTo>
                  <a:lnTo>
                    <a:pt x="293" y="0"/>
                  </a:lnTo>
                  <a:lnTo>
                    <a:pt x="331" y="31"/>
                  </a:lnTo>
                  <a:lnTo>
                    <a:pt x="334" y="103"/>
                  </a:lnTo>
                  <a:lnTo>
                    <a:pt x="269" y="205"/>
                  </a:lnTo>
                  <a:lnTo>
                    <a:pt x="127" y="288"/>
                  </a:lnTo>
                  <a:lnTo>
                    <a:pt x="31" y="325"/>
                  </a:lnTo>
                  <a:lnTo>
                    <a:pt x="0" y="299"/>
                  </a:lnTo>
                  <a:lnTo>
                    <a:pt x="24" y="234"/>
                  </a:lnTo>
                  <a:lnTo>
                    <a:pt x="41" y="191"/>
                  </a:lnTo>
                  <a:lnTo>
                    <a:pt x="41" y="191"/>
                  </a:lnTo>
                  <a:close/>
                </a:path>
              </a:pathLst>
            </a:custGeom>
            <a:solidFill>
              <a:srgbClr val="f5f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69200" y="4249800"/>
              <a:ext cx="420840" cy="311040"/>
            </a:xfrm>
            <a:custGeom>
              <a:avLst/>
              <a:gdLst/>
              <a:ahLst/>
              <a:rect l="l" t="t" r="r" b="b"/>
              <a:pathLst>
                <a:path w="265" h="196">
                  <a:moveTo>
                    <a:pt x="37" y="0"/>
                  </a:moveTo>
                  <a:lnTo>
                    <a:pt x="110" y="58"/>
                  </a:lnTo>
                  <a:lnTo>
                    <a:pt x="171" y="58"/>
                  </a:lnTo>
                  <a:lnTo>
                    <a:pt x="227" y="31"/>
                  </a:lnTo>
                  <a:lnTo>
                    <a:pt x="265" y="146"/>
                  </a:lnTo>
                  <a:lnTo>
                    <a:pt x="124" y="196"/>
                  </a:lnTo>
                  <a:lnTo>
                    <a:pt x="0" y="135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e5e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28000" y="4214880"/>
              <a:ext cx="698400" cy="498240"/>
            </a:xfrm>
            <a:custGeom>
              <a:avLst/>
              <a:gdLst/>
              <a:ahLst/>
              <a:rect l="l" t="t" r="r" b="b"/>
              <a:pathLst>
                <a:path w="440" h="314">
                  <a:moveTo>
                    <a:pt x="0" y="144"/>
                  </a:moveTo>
                  <a:lnTo>
                    <a:pt x="124" y="56"/>
                  </a:lnTo>
                  <a:lnTo>
                    <a:pt x="162" y="0"/>
                  </a:lnTo>
                  <a:lnTo>
                    <a:pt x="213" y="43"/>
                  </a:lnTo>
                  <a:lnTo>
                    <a:pt x="207" y="90"/>
                  </a:lnTo>
                  <a:lnTo>
                    <a:pt x="193" y="124"/>
                  </a:lnTo>
                  <a:lnTo>
                    <a:pt x="251" y="168"/>
                  </a:lnTo>
                  <a:lnTo>
                    <a:pt x="344" y="187"/>
                  </a:lnTo>
                  <a:lnTo>
                    <a:pt x="410" y="153"/>
                  </a:lnTo>
                  <a:lnTo>
                    <a:pt x="440" y="197"/>
                  </a:lnTo>
                  <a:lnTo>
                    <a:pt x="372" y="224"/>
                  </a:lnTo>
                  <a:lnTo>
                    <a:pt x="334" y="292"/>
                  </a:lnTo>
                  <a:lnTo>
                    <a:pt x="218" y="314"/>
                  </a:lnTo>
                  <a:lnTo>
                    <a:pt x="99" y="305"/>
                  </a:lnTo>
                  <a:lnTo>
                    <a:pt x="3" y="201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a38c8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11920" y="3973680"/>
              <a:ext cx="1824120" cy="2328840"/>
            </a:xfrm>
            <a:custGeom>
              <a:avLst/>
              <a:gdLst/>
              <a:ahLst/>
              <a:rect l="l" t="t" r="r" b="b"/>
              <a:pathLst>
                <a:path w="1149" h="1467">
                  <a:moveTo>
                    <a:pt x="1149" y="0"/>
                  </a:moveTo>
                  <a:lnTo>
                    <a:pt x="1049" y="108"/>
                  </a:lnTo>
                  <a:lnTo>
                    <a:pt x="1029" y="185"/>
                  </a:lnTo>
                  <a:lnTo>
                    <a:pt x="1018" y="235"/>
                  </a:lnTo>
                  <a:lnTo>
                    <a:pt x="1004" y="269"/>
                  </a:lnTo>
                  <a:lnTo>
                    <a:pt x="997" y="289"/>
                  </a:lnTo>
                  <a:lnTo>
                    <a:pt x="1025" y="359"/>
                  </a:lnTo>
                  <a:lnTo>
                    <a:pt x="1004" y="409"/>
                  </a:lnTo>
                  <a:lnTo>
                    <a:pt x="973" y="429"/>
                  </a:lnTo>
                  <a:lnTo>
                    <a:pt x="970" y="483"/>
                  </a:lnTo>
                  <a:lnTo>
                    <a:pt x="915" y="531"/>
                  </a:lnTo>
                  <a:lnTo>
                    <a:pt x="908" y="645"/>
                  </a:lnTo>
                  <a:lnTo>
                    <a:pt x="908" y="715"/>
                  </a:lnTo>
                  <a:lnTo>
                    <a:pt x="885" y="745"/>
                  </a:lnTo>
                  <a:lnTo>
                    <a:pt x="771" y="756"/>
                  </a:lnTo>
                  <a:lnTo>
                    <a:pt x="702" y="736"/>
                  </a:lnTo>
                  <a:lnTo>
                    <a:pt x="609" y="634"/>
                  </a:lnTo>
                  <a:lnTo>
                    <a:pt x="567" y="581"/>
                  </a:lnTo>
                  <a:lnTo>
                    <a:pt x="547" y="618"/>
                  </a:lnTo>
                  <a:lnTo>
                    <a:pt x="529" y="684"/>
                  </a:lnTo>
                  <a:lnTo>
                    <a:pt x="516" y="762"/>
                  </a:lnTo>
                  <a:lnTo>
                    <a:pt x="457" y="830"/>
                  </a:lnTo>
                  <a:lnTo>
                    <a:pt x="516" y="826"/>
                  </a:lnTo>
                  <a:lnTo>
                    <a:pt x="551" y="869"/>
                  </a:lnTo>
                  <a:lnTo>
                    <a:pt x="702" y="994"/>
                  </a:lnTo>
                  <a:lnTo>
                    <a:pt x="788" y="1014"/>
                  </a:lnTo>
                  <a:lnTo>
                    <a:pt x="722" y="1037"/>
                  </a:lnTo>
                  <a:lnTo>
                    <a:pt x="602" y="1027"/>
                  </a:lnTo>
                  <a:lnTo>
                    <a:pt x="502" y="902"/>
                  </a:lnTo>
                  <a:lnTo>
                    <a:pt x="444" y="900"/>
                  </a:lnTo>
                  <a:lnTo>
                    <a:pt x="399" y="889"/>
                  </a:lnTo>
                  <a:lnTo>
                    <a:pt x="385" y="980"/>
                  </a:lnTo>
                  <a:lnTo>
                    <a:pt x="347" y="920"/>
                  </a:lnTo>
                  <a:lnTo>
                    <a:pt x="305" y="961"/>
                  </a:lnTo>
                  <a:lnTo>
                    <a:pt x="269" y="902"/>
                  </a:lnTo>
                  <a:lnTo>
                    <a:pt x="316" y="776"/>
                  </a:lnTo>
                  <a:lnTo>
                    <a:pt x="379" y="765"/>
                  </a:lnTo>
                  <a:lnTo>
                    <a:pt x="484" y="675"/>
                  </a:lnTo>
                  <a:lnTo>
                    <a:pt x="513" y="433"/>
                  </a:lnTo>
                  <a:lnTo>
                    <a:pt x="403" y="477"/>
                  </a:lnTo>
                  <a:lnTo>
                    <a:pt x="271" y="396"/>
                  </a:lnTo>
                  <a:lnTo>
                    <a:pt x="202" y="446"/>
                  </a:lnTo>
                  <a:lnTo>
                    <a:pt x="99" y="516"/>
                  </a:lnTo>
                  <a:lnTo>
                    <a:pt x="51" y="601"/>
                  </a:lnTo>
                  <a:lnTo>
                    <a:pt x="0" y="612"/>
                  </a:lnTo>
                  <a:lnTo>
                    <a:pt x="3" y="655"/>
                  </a:lnTo>
                  <a:lnTo>
                    <a:pt x="47" y="702"/>
                  </a:lnTo>
                  <a:lnTo>
                    <a:pt x="92" y="869"/>
                  </a:lnTo>
                  <a:lnTo>
                    <a:pt x="182" y="1107"/>
                  </a:lnTo>
                  <a:lnTo>
                    <a:pt x="209" y="1299"/>
                  </a:lnTo>
                  <a:lnTo>
                    <a:pt x="285" y="1400"/>
                  </a:lnTo>
                  <a:lnTo>
                    <a:pt x="336" y="1437"/>
                  </a:lnTo>
                  <a:lnTo>
                    <a:pt x="455" y="1467"/>
                  </a:lnTo>
                  <a:lnTo>
                    <a:pt x="643" y="1400"/>
                  </a:lnTo>
                  <a:lnTo>
                    <a:pt x="726" y="1299"/>
                  </a:lnTo>
                  <a:lnTo>
                    <a:pt x="760" y="1225"/>
                  </a:lnTo>
                  <a:lnTo>
                    <a:pt x="843" y="1199"/>
                  </a:lnTo>
                  <a:lnTo>
                    <a:pt x="894" y="1101"/>
                  </a:lnTo>
                  <a:lnTo>
                    <a:pt x="949" y="1002"/>
                  </a:lnTo>
                  <a:lnTo>
                    <a:pt x="921" y="939"/>
                  </a:lnTo>
                  <a:lnTo>
                    <a:pt x="946" y="802"/>
                  </a:lnTo>
                  <a:lnTo>
                    <a:pt x="962" y="696"/>
                  </a:lnTo>
                  <a:lnTo>
                    <a:pt x="915" y="531"/>
                  </a:lnTo>
                  <a:lnTo>
                    <a:pt x="981" y="457"/>
                  </a:lnTo>
                  <a:lnTo>
                    <a:pt x="1019" y="495"/>
                  </a:lnTo>
                  <a:lnTo>
                    <a:pt x="1094" y="589"/>
                  </a:lnTo>
                  <a:lnTo>
                    <a:pt x="1084" y="416"/>
                  </a:lnTo>
                  <a:lnTo>
                    <a:pt x="1149" y="0"/>
                  </a:lnTo>
                  <a:lnTo>
                    <a:pt x="1149" y="0"/>
                  </a:lnTo>
                  <a:close/>
                </a:path>
              </a:pathLst>
            </a:custGeom>
            <a:solidFill>
              <a:srgbClr val="eccea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19880" y="1974960"/>
              <a:ext cx="555840" cy="890640"/>
            </a:xfrm>
            <a:custGeom>
              <a:avLst/>
              <a:gdLst/>
              <a:ahLst/>
              <a:rect l="l" t="t" r="r" b="b"/>
              <a:pathLst>
                <a:path w="350" h="561">
                  <a:moveTo>
                    <a:pt x="117" y="0"/>
                  </a:moveTo>
                  <a:lnTo>
                    <a:pt x="117" y="48"/>
                  </a:lnTo>
                  <a:lnTo>
                    <a:pt x="126" y="124"/>
                  </a:lnTo>
                  <a:lnTo>
                    <a:pt x="162" y="201"/>
                  </a:lnTo>
                  <a:lnTo>
                    <a:pt x="200" y="262"/>
                  </a:lnTo>
                  <a:lnTo>
                    <a:pt x="158" y="303"/>
                  </a:lnTo>
                  <a:lnTo>
                    <a:pt x="68" y="336"/>
                  </a:lnTo>
                  <a:lnTo>
                    <a:pt x="23" y="373"/>
                  </a:lnTo>
                  <a:lnTo>
                    <a:pt x="0" y="447"/>
                  </a:lnTo>
                  <a:lnTo>
                    <a:pt x="137" y="353"/>
                  </a:lnTo>
                  <a:lnTo>
                    <a:pt x="223" y="310"/>
                  </a:lnTo>
                  <a:lnTo>
                    <a:pt x="285" y="340"/>
                  </a:lnTo>
                  <a:lnTo>
                    <a:pt x="285" y="467"/>
                  </a:lnTo>
                  <a:lnTo>
                    <a:pt x="251" y="541"/>
                  </a:lnTo>
                  <a:lnTo>
                    <a:pt x="278" y="561"/>
                  </a:lnTo>
                  <a:lnTo>
                    <a:pt x="323" y="484"/>
                  </a:lnTo>
                  <a:lnTo>
                    <a:pt x="334" y="329"/>
                  </a:lnTo>
                  <a:lnTo>
                    <a:pt x="350" y="296"/>
                  </a:lnTo>
                  <a:lnTo>
                    <a:pt x="268" y="2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ce91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77080" y="4633920"/>
              <a:ext cx="749160" cy="673200"/>
            </a:xfrm>
            <a:custGeom>
              <a:avLst/>
              <a:gdLst/>
              <a:ahLst/>
              <a:rect l="l" t="t" r="r" b="b"/>
              <a:pathLst>
                <a:path w="472" h="424">
                  <a:moveTo>
                    <a:pt x="230" y="0"/>
                  </a:moveTo>
                  <a:lnTo>
                    <a:pt x="176" y="57"/>
                  </a:lnTo>
                  <a:lnTo>
                    <a:pt x="110" y="100"/>
                  </a:lnTo>
                  <a:lnTo>
                    <a:pt x="80" y="144"/>
                  </a:lnTo>
                  <a:lnTo>
                    <a:pt x="89" y="189"/>
                  </a:lnTo>
                  <a:lnTo>
                    <a:pt x="127" y="185"/>
                  </a:lnTo>
                  <a:lnTo>
                    <a:pt x="192" y="152"/>
                  </a:lnTo>
                  <a:lnTo>
                    <a:pt x="176" y="196"/>
                  </a:lnTo>
                  <a:lnTo>
                    <a:pt x="116" y="253"/>
                  </a:lnTo>
                  <a:lnTo>
                    <a:pt x="44" y="246"/>
                  </a:lnTo>
                  <a:lnTo>
                    <a:pt x="0" y="262"/>
                  </a:lnTo>
                  <a:lnTo>
                    <a:pt x="27" y="312"/>
                  </a:lnTo>
                  <a:lnTo>
                    <a:pt x="57" y="424"/>
                  </a:lnTo>
                  <a:lnTo>
                    <a:pt x="120" y="312"/>
                  </a:lnTo>
                  <a:lnTo>
                    <a:pt x="224" y="342"/>
                  </a:lnTo>
                  <a:lnTo>
                    <a:pt x="275" y="360"/>
                  </a:lnTo>
                  <a:lnTo>
                    <a:pt x="338" y="349"/>
                  </a:lnTo>
                  <a:lnTo>
                    <a:pt x="416" y="279"/>
                  </a:lnTo>
                  <a:lnTo>
                    <a:pt x="472" y="17"/>
                  </a:lnTo>
                  <a:lnTo>
                    <a:pt x="362" y="48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ce91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45440" y="5513400"/>
              <a:ext cx="874800" cy="777960"/>
            </a:xfrm>
            <a:custGeom>
              <a:avLst/>
              <a:gdLst/>
              <a:ahLst/>
              <a:rect l="l" t="t" r="r" b="b"/>
              <a:pathLst>
                <a:path w="551" h="490">
                  <a:moveTo>
                    <a:pt x="63" y="94"/>
                  </a:moveTo>
                  <a:lnTo>
                    <a:pt x="52" y="148"/>
                  </a:lnTo>
                  <a:lnTo>
                    <a:pt x="128" y="246"/>
                  </a:lnTo>
                  <a:lnTo>
                    <a:pt x="228" y="322"/>
                  </a:lnTo>
                  <a:lnTo>
                    <a:pt x="166" y="386"/>
                  </a:lnTo>
                  <a:lnTo>
                    <a:pt x="63" y="390"/>
                  </a:lnTo>
                  <a:lnTo>
                    <a:pt x="0" y="430"/>
                  </a:lnTo>
                  <a:lnTo>
                    <a:pt x="49" y="484"/>
                  </a:lnTo>
                  <a:lnTo>
                    <a:pt x="184" y="490"/>
                  </a:lnTo>
                  <a:lnTo>
                    <a:pt x="287" y="453"/>
                  </a:lnTo>
                  <a:lnTo>
                    <a:pt x="401" y="305"/>
                  </a:lnTo>
                  <a:lnTo>
                    <a:pt x="417" y="268"/>
                  </a:lnTo>
                  <a:lnTo>
                    <a:pt x="493" y="235"/>
                  </a:lnTo>
                  <a:lnTo>
                    <a:pt x="504" y="168"/>
                  </a:lnTo>
                  <a:lnTo>
                    <a:pt x="551" y="81"/>
                  </a:lnTo>
                  <a:lnTo>
                    <a:pt x="518" y="78"/>
                  </a:lnTo>
                  <a:lnTo>
                    <a:pt x="421" y="122"/>
                  </a:lnTo>
                  <a:lnTo>
                    <a:pt x="314" y="118"/>
                  </a:lnTo>
                  <a:lnTo>
                    <a:pt x="197" y="28"/>
                  </a:lnTo>
                  <a:lnTo>
                    <a:pt x="177" y="87"/>
                  </a:lnTo>
                  <a:lnTo>
                    <a:pt x="135" y="91"/>
                  </a:lnTo>
                  <a:lnTo>
                    <a:pt x="101" y="0"/>
                  </a:lnTo>
                  <a:lnTo>
                    <a:pt x="97" y="87"/>
                  </a:lnTo>
                  <a:lnTo>
                    <a:pt x="63" y="94"/>
                  </a:lnTo>
                  <a:lnTo>
                    <a:pt x="63" y="94"/>
                  </a:lnTo>
                  <a:close/>
                </a:path>
              </a:pathLst>
            </a:custGeom>
            <a:solidFill>
              <a:srgbClr val="ce91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69080" y="5253120"/>
              <a:ext cx="584280" cy="330120"/>
            </a:xfrm>
            <a:custGeom>
              <a:avLst/>
              <a:gdLst/>
              <a:ahLst/>
              <a:rect l="l" t="t" r="r" b="b"/>
              <a:pathLst>
                <a:path w="368" h="208">
                  <a:moveTo>
                    <a:pt x="0" y="46"/>
                  </a:moveTo>
                  <a:lnTo>
                    <a:pt x="76" y="74"/>
                  </a:lnTo>
                  <a:lnTo>
                    <a:pt x="121" y="33"/>
                  </a:lnTo>
                  <a:lnTo>
                    <a:pt x="134" y="0"/>
                  </a:lnTo>
                  <a:lnTo>
                    <a:pt x="189" y="13"/>
                  </a:lnTo>
                  <a:lnTo>
                    <a:pt x="240" y="44"/>
                  </a:lnTo>
                  <a:lnTo>
                    <a:pt x="323" y="37"/>
                  </a:lnTo>
                  <a:lnTo>
                    <a:pt x="341" y="61"/>
                  </a:lnTo>
                  <a:lnTo>
                    <a:pt x="314" y="118"/>
                  </a:lnTo>
                  <a:lnTo>
                    <a:pt x="368" y="120"/>
                  </a:lnTo>
                  <a:lnTo>
                    <a:pt x="345" y="188"/>
                  </a:lnTo>
                  <a:lnTo>
                    <a:pt x="248" y="208"/>
                  </a:lnTo>
                  <a:lnTo>
                    <a:pt x="106" y="171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ce91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18400" y="4619520"/>
              <a:ext cx="147600" cy="208080"/>
            </a:xfrm>
            <a:custGeom>
              <a:avLst/>
              <a:gdLst/>
              <a:ahLst/>
              <a:rect l="l" t="t" r="r" b="b"/>
              <a:pathLst>
                <a:path w="93" h="131">
                  <a:moveTo>
                    <a:pt x="68" y="0"/>
                  </a:moveTo>
                  <a:lnTo>
                    <a:pt x="0" y="37"/>
                  </a:lnTo>
                  <a:lnTo>
                    <a:pt x="27" y="107"/>
                  </a:lnTo>
                  <a:lnTo>
                    <a:pt x="48" y="131"/>
                  </a:lnTo>
                  <a:lnTo>
                    <a:pt x="93" y="26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e91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996320" y="4879800"/>
              <a:ext cx="295200" cy="352440"/>
            </a:xfrm>
            <a:custGeom>
              <a:avLst/>
              <a:gdLst/>
              <a:ahLst/>
              <a:rect l="l" t="t" r="r" b="b"/>
              <a:pathLst>
                <a:path w="186" h="222">
                  <a:moveTo>
                    <a:pt x="159" y="0"/>
                  </a:moveTo>
                  <a:lnTo>
                    <a:pt x="186" y="135"/>
                  </a:lnTo>
                  <a:lnTo>
                    <a:pt x="175" y="198"/>
                  </a:lnTo>
                  <a:lnTo>
                    <a:pt x="131" y="222"/>
                  </a:lnTo>
                  <a:lnTo>
                    <a:pt x="25" y="185"/>
                  </a:lnTo>
                  <a:lnTo>
                    <a:pt x="76" y="168"/>
                  </a:lnTo>
                  <a:lnTo>
                    <a:pt x="0" y="107"/>
                  </a:lnTo>
                  <a:lnTo>
                    <a:pt x="97" y="124"/>
                  </a:lnTo>
                  <a:lnTo>
                    <a:pt x="135" y="98"/>
                  </a:lnTo>
                  <a:lnTo>
                    <a:pt x="159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ce915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169040" y="2890800"/>
              <a:ext cx="290520" cy="711360"/>
            </a:xfrm>
            <a:custGeom>
              <a:avLst/>
              <a:gdLst/>
              <a:ahLst/>
              <a:rect l="l" t="t" r="r" b="b"/>
              <a:pathLst>
                <a:path w="183" h="448">
                  <a:moveTo>
                    <a:pt x="183" y="0"/>
                  </a:moveTo>
                  <a:lnTo>
                    <a:pt x="118" y="17"/>
                  </a:lnTo>
                  <a:lnTo>
                    <a:pt x="67" y="47"/>
                  </a:lnTo>
                  <a:lnTo>
                    <a:pt x="40" y="91"/>
                  </a:lnTo>
                  <a:lnTo>
                    <a:pt x="12" y="148"/>
                  </a:lnTo>
                  <a:lnTo>
                    <a:pt x="0" y="218"/>
                  </a:lnTo>
                  <a:lnTo>
                    <a:pt x="10" y="286"/>
                  </a:lnTo>
                  <a:lnTo>
                    <a:pt x="53" y="407"/>
                  </a:lnTo>
                  <a:lnTo>
                    <a:pt x="101" y="448"/>
                  </a:lnTo>
                  <a:lnTo>
                    <a:pt x="59" y="337"/>
                  </a:lnTo>
                  <a:lnTo>
                    <a:pt x="33" y="236"/>
                  </a:lnTo>
                  <a:lnTo>
                    <a:pt x="38" y="170"/>
                  </a:lnTo>
                  <a:lnTo>
                    <a:pt x="71" y="85"/>
                  </a:lnTo>
                  <a:lnTo>
                    <a:pt x="129" y="31"/>
                  </a:lnTo>
                  <a:lnTo>
                    <a:pt x="183" y="0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7575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04200" y="3355920"/>
              <a:ext cx="482400" cy="515880"/>
            </a:xfrm>
            <a:custGeom>
              <a:avLst/>
              <a:gdLst/>
              <a:ahLst/>
              <a:rect l="l" t="t" r="r" b="b"/>
              <a:pathLst>
                <a:path w="304" h="325">
                  <a:moveTo>
                    <a:pt x="290" y="0"/>
                  </a:moveTo>
                  <a:lnTo>
                    <a:pt x="271" y="85"/>
                  </a:lnTo>
                  <a:lnTo>
                    <a:pt x="241" y="164"/>
                  </a:lnTo>
                  <a:lnTo>
                    <a:pt x="196" y="217"/>
                  </a:lnTo>
                  <a:lnTo>
                    <a:pt x="142" y="267"/>
                  </a:lnTo>
                  <a:lnTo>
                    <a:pt x="84" y="301"/>
                  </a:lnTo>
                  <a:lnTo>
                    <a:pt x="0" y="321"/>
                  </a:lnTo>
                  <a:lnTo>
                    <a:pt x="104" y="325"/>
                  </a:lnTo>
                  <a:lnTo>
                    <a:pt x="152" y="279"/>
                  </a:lnTo>
                  <a:lnTo>
                    <a:pt x="222" y="264"/>
                  </a:lnTo>
                  <a:lnTo>
                    <a:pt x="274" y="171"/>
                  </a:lnTo>
                  <a:lnTo>
                    <a:pt x="304" y="73"/>
                  </a:lnTo>
                  <a:lnTo>
                    <a:pt x="290" y="0"/>
                  </a:lnTo>
                  <a:lnTo>
                    <a:pt x="290" y="0"/>
                  </a:lnTo>
                  <a:close/>
                </a:path>
              </a:pathLst>
            </a:custGeom>
            <a:solidFill>
              <a:srgbClr val="75759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175600" y="5807160"/>
              <a:ext cx="495360" cy="449280"/>
            </a:xfrm>
            <a:custGeom>
              <a:avLst/>
              <a:gdLst/>
              <a:ahLst/>
              <a:rect l="l" t="t" r="r" b="b"/>
              <a:pathLst>
                <a:path w="312" h="283">
                  <a:moveTo>
                    <a:pt x="0" y="25"/>
                  </a:moveTo>
                  <a:lnTo>
                    <a:pt x="90" y="59"/>
                  </a:lnTo>
                  <a:lnTo>
                    <a:pt x="195" y="161"/>
                  </a:lnTo>
                  <a:lnTo>
                    <a:pt x="312" y="283"/>
                  </a:lnTo>
                  <a:lnTo>
                    <a:pt x="296" y="185"/>
                  </a:lnTo>
                  <a:lnTo>
                    <a:pt x="228" y="120"/>
                  </a:lnTo>
                  <a:lnTo>
                    <a:pt x="141" y="32"/>
                  </a:lnTo>
                  <a:lnTo>
                    <a:pt x="9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869240" y="2408400"/>
              <a:ext cx="311040" cy="79200"/>
            </a:xfrm>
            <a:custGeom>
              <a:avLst/>
              <a:gdLst/>
              <a:ahLst/>
              <a:rect l="l" t="t" r="r" b="b"/>
              <a:pathLst>
                <a:path w="196" h="50">
                  <a:moveTo>
                    <a:pt x="44" y="5"/>
                  </a:moveTo>
                  <a:lnTo>
                    <a:pt x="14" y="0"/>
                  </a:lnTo>
                  <a:lnTo>
                    <a:pt x="0" y="15"/>
                  </a:lnTo>
                  <a:lnTo>
                    <a:pt x="10" y="33"/>
                  </a:lnTo>
                  <a:lnTo>
                    <a:pt x="48" y="23"/>
                  </a:lnTo>
                  <a:lnTo>
                    <a:pt x="87" y="30"/>
                  </a:lnTo>
                  <a:lnTo>
                    <a:pt x="121" y="30"/>
                  </a:lnTo>
                  <a:lnTo>
                    <a:pt x="166" y="37"/>
                  </a:lnTo>
                  <a:lnTo>
                    <a:pt x="196" y="50"/>
                  </a:lnTo>
                  <a:lnTo>
                    <a:pt x="188" y="35"/>
                  </a:lnTo>
                  <a:lnTo>
                    <a:pt x="148" y="18"/>
                  </a:lnTo>
                  <a:lnTo>
                    <a:pt x="90" y="5"/>
                  </a:lnTo>
                  <a:lnTo>
                    <a:pt x="44" y="5"/>
                  </a:lnTo>
                  <a:lnTo>
                    <a:pt x="44" y="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39040" y="3735360"/>
              <a:ext cx="331920" cy="423720"/>
            </a:xfrm>
            <a:custGeom>
              <a:avLst/>
              <a:gdLst/>
              <a:ahLst/>
              <a:rect l="l" t="t" r="r" b="b"/>
              <a:pathLst>
                <a:path w="209" h="267">
                  <a:moveTo>
                    <a:pt x="48" y="0"/>
                  </a:moveTo>
                  <a:lnTo>
                    <a:pt x="19" y="73"/>
                  </a:lnTo>
                  <a:lnTo>
                    <a:pt x="0" y="119"/>
                  </a:lnTo>
                  <a:lnTo>
                    <a:pt x="22" y="195"/>
                  </a:lnTo>
                  <a:lnTo>
                    <a:pt x="77" y="267"/>
                  </a:lnTo>
                  <a:lnTo>
                    <a:pt x="202" y="151"/>
                  </a:lnTo>
                  <a:lnTo>
                    <a:pt x="209" y="73"/>
                  </a:lnTo>
                  <a:lnTo>
                    <a:pt x="183" y="41"/>
                  </a:lnTo>
                  <a:lnTo>
                    <a:pt x="115" y="94"/>
                  </a:lnTo>
                  <a:lnTo>
                    <a:pt x="61" y="139"/>
                  </a:lnTo>
                  <a:lnTo>
                    <a:pt x="83" y="62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fb6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45320" y="1741320"/>
              <a:ext cx="573120" cy="730440"/>
            </a:xfrm>
            <a:custGeom>
              <a:avLst/>
              <a:gdLst/>
              <a:ahLst/>
              <a:rect l="l" t="t" r="r" b="b"/>
              <a:pathLst>
                <a:path w="361" h="460">
                  <a:moveTo>
                    <a:pt x="0" y="0"/>
                  </a:moveTo>
                  <a:lnTo>
                    <a:pt x="94" y="22"/>
                  </a:lnTo>
                  <a:lnTo>
                    <a:pt x="136" y="43"/>
                  </a:lnTo>
                  <a:lnTo>
                    <a:pt x="175" y="71"/>
                  </a:lnTo>
                  <a:lnTo>
                    <a:pt x="194" y="86"/>
                  </a:lnTo>
                  <a:lnTo>
                    <a:pt x="212" y="102"/>
                  </a:lnTo>
                  <a:lnTo>
                    <a:pt x="244" y="138"/>
                  </a:lnTo>
                  <a:lnTo>
                    <a:pt x="274" y="175"/>
                  </a:lnTo>
                  <a:lnTo>
                    <a:pt x="300" y="213"/>
                  </a:lnTo>
                  <a:lnTo>
                    <a:pt x="322" y="262"/>
                  </a:lnTo>
                  <a:lnTo>
                    <a:pt x="341" y="330"/>
                  </a:lnTo>
                  <a:lnTo>
                    <a:pt x="361" y="453"/>
                  </a:lnTo>
                  <a:lnTo>
                    <a:pt x="353" y="460"/>
                  </a:lnTo>
                  <a:lnTo>
                    <a:pt x="335" y="457"/>
                  </a:lnTo>
                  <a:lnTo>
                    <a:pt x="303" y="443"/>
                  </a:lnTo>
                  <a:lnTo>
                    <a:pt x="285" y="394"/>
                  </a:lnTo>
                  <a:lnTo>
                    <a:pt x="276" y="338"/>
                  </a:lnTo>
                  <a:lnTo>
                    <a:pt x="265" y="277"/>
                  </a:lnTo>
                  <a:lnTo>
                    <a:pt x="254" y="248"/>
                  </a:lnTo>
                  <a:lnTo>
                    <a:pt x="239" y="219"/>
                  </a:lnTo>
                  <a:lnTo>
                    <a:pt x="225" y="199"/>
                  </a:lnTo>
                  <a:lnTo>
                    <a:pt x="209" y="179"/>
                  </a:lnTo>
                  <a:lnTo>
                    <a:pt x="178" y="142"/>
                  </a:lnTo>
                  <a:lnTo>
                    <a:pt x="160" y="118"/>
                  </a:lnTo>
                  <a:lnTo>
                    <a:pt x="143" y="96"/>
                  </a:lnTo>
                  <a:lnTo>
                    <a:pt x="124" y="73"/>
                  </a:lnTo>
                  <a:lnTo>
                    <a:pt x="105" y="53"/>
                  </a:lnTo>
                  <a:lnTo>
                    <a:pt x="83" y="37"/>
                  </a:lnTo>
                  <a:lnTo>
                    <a:pt x="58" y="23"/>
                  </a:lnTo>
                  <a:lnTo>
                    <a:pt x="31" y="1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869240" y="2448000"/>
              <a:ext cx="210960" cy="404640"/>
            </a:xfrm>
            <a:custGeom>
              <a:avLst/>
              <a:gdLst/>
              <a:ahLst/>
              <a:rect l="l" t="t" r="r" b="b"/>
              <a:pathLst>
                <a:path w="133" h="255">
                  <a:moveTo>
                    <a:pt x="7" y="0"/>
                  </a:moveTo>
                  <a:lnTo>
                    <a:pt x="45" y="29"/>
                  </a:lnTo>
                  <a:lnTo>
                    <a:pt x="84" y="74"/>
                  </a:lnTo>
                  <a:lnTo>
                    <a:pt x="101" y="99"/>
                  </a:lnTo>
                  <a:lnTo>
                    <a:pt x="114" y="124"/>
                  </a:lnTo>
                  <a:lnTo>
                    <a:pt x="132" y="169"/>
                  </a:lnTo>
                  <a:lnTo>
                    <a:pt x="133" y="248"/>
                  </a:lnTo>
                  <a:lnTo>
                    <a:pt x="128" y="255"/>
                  </a:lnTo>
                  <a:lnTo>
                    <a:pt x="121" y="249"/>
                  </a:lnTo>
                  <a:lnTo>
                    <a:pt x="101" y="175"/>
                  </a:lnTo>
                  <a:lnTo>
                    <a:pt x="91" y="140"/>
                  </a:lnTo>
                  <a:lnTo>
                    <a:pt x="76" y="104"/>
                  </a:lnTo>
                  <a:lnTo>
                    <a:pt x="57" y="68"/>
                  </a:lnTo>
                  <a:lnTo>
                    <a:pt x="36" y="39"/>
                  </a:lnTo>
                  <a:lnTo>
                    <a:pt x="18" y="23"/>
                  </a:lnTo>
                  <a:lnTo>
                    <a:pt x="2" y="8"/>
                  </a:lnTo>
                  <a:lnTo>
                    <a:pt x="0" y="1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123400" y="2846520"/>
              <a:ext cx="101520" cy="5868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7" y="0"/>
                  </a:moveTo>
                  <a:lnTo>
                    <a:pt x="57" y="12"/>
                  </a:lnTo>
                  <a:lnTo>
                    <a:pt x="64" y="30"/>
                  </a:lnTo>
                  <a:lnTo>
                    <a:pt x="57" y="37"/>
                  </a:lnTo>
                  <a:lnTo>
                    <a:pt x="45" y="37"/>
                  </a:lnTo>
                  <a:lnTo>
                    <a:pt x="26" y="24"/>
                  </a:lnTo>
                  <a:lnTo>
                    <a:pt x="6" y="10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128080" y="2620800"/>
              <a:ext cx="216000" cy="387360"/>
            </a:xfrm>
            <a:custGeom>
              <a:avLst/>
              <a:gdLst/>
              <a:ahLst/>
              <a:rect l="l" t="t" r="r" b="b"/>
              <a:pathLst>
                <a:path w="136" h="244">
                  <a:moveTo>
                    <a:pt x="34" y="164"/>
                  </a:moveTo>
                  <a:lnTo>
                    <a:pt x="8" y="117"/>
                  </a:lnTo>
                  <a:lnTo>
                    <a:pt x="0" y="73"/>
                  </a:lnTo>
                  <a:lnTo>
                    <a:pt x="8" y="37"/>
                  </a:lnTo>
                  <a:lnTo>
                    <a:pt x="26" y="12"/>
                  </a:lnTo>
                  <a:lnTo>
                    <a:pt x="52" y="0"/>
                  </a:lnTo>
                  <a:lnTo>
                    <a:pt x="79" y="6"/>
                  </a:lnTo>
                  <a:lnTo>
                    <a:pt x="103" y="32"/>
                  </a:lnTo>
                  <a:lnTo>
                    <a:pt x="122" y="81"/>
                  </a:lnTo>
                  <a:lnTo>
                    <a:pt x="136" y="242"/>
                  </a:lnTo>
                  <a:lnTo>
                    <a:pt x="126" y="244"/>
                  </a:lnTo>
                  <a:lnTo>
                    <a:pt x="114" y="197"/>
                  </a:lnTo>
                  <a:lnTo>
                    <a:pt x="103" y="151"/>
                  </a:lnTo>
                  <a:lnTo>
                    <a:pt x="91" y="86"/>
                  </a:lnTo>
                  <a:lnTo>
                    <a:pt x="77" y="49"/>
                  </a:lnTo>
                  <a:lnTo>
                    <a:pt x="69" y="37"/>
                  </a:lnTo>
                  <a:lnTo>
                    <a:pt x="58" y="31"/>
                  </a:lnTo>
                  <a:lnTo>
                    <a:pt x="38" y="36"/>
                  </a:lnTo>
                  <a:lnTo>
                    <a:pt x="27" y="65"/>
                  </a:lnTo>
                  <a:lnTo>
                    <a:pt x="33" y="94"/>
                  </a:lnTo>
                  <a:lnTo>
                    <a:pt x="45" y="123"/>
                  </a:lnTo>
                  <a:lnTo>
                    <a:pt x="58" y="148"/>
                  </a:lnTo>
                  <a:lnTo>
                    <a:pt x="60" y="160"/>
                  </a:lnTo>
                  <a:lnTo>
                    <a:pt x="54" y="168"/>
                  </a:lnTo>
                  <a:lnTo>
                    <a:pt x="34" y="164"/>
                  </a:lnTo>
                  <a:lnTo>
                    <a:pt x="34" y="16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72360" y="2913120"/>
              <a:ext cx="336600" cy="788760"/>
            </a:xfrm>
            <a:custGeom>
              <a:avLst/>
              <a:gdLst/>
              <a:ahLst/>
              <a:rect l="l" t="t" r="r" b="b"/>
              <a:pathLst>
                <a:path w="212" h="497">
                  <a:moveTo>
                    <a:pt x="91" y="8"/>
                  </a:moveTo>
                  <a:lnTo>
                    <a:pt x="52" y="54"/>
                  </a:lnTo>
                  <a:lnTo>
                    <a:pt x="33" y="116"/>
                  </a:lnTo>
                  <a:lnTo>
                    <a:pt x="32" y="189"/>
                  </a:lnTo>
                  <a:lnTo>
                    <a:pt x="46" y="267"/>
                  </a:lnTo>
                  <a:lnTo>
                    <a:pt x="60" y="305"/>
                  </a:lnTo>
                  <a:lnTo>
                    <a:pt x="75" y="342"/>
                  </a:lnTo>
                  <a:lnTo>
                    <a:pt x="93" y="377"/>
                  </a:lnTo>
                  <a:lnTo>
                    <a:pt x="114" y="409"/>
                  </a:lnTo>
                  <a:lnTo>
                    <a:pt x="136" y="436"/>
                  </a:lnTo>
                  <a:lnTo>
                    <a:pt x="148" y="448"/>
                  </a:lnTo>
                  <a:lnTo>
                    <a:pt x="160" y="459"/>
                  </a:lnTo>
                  <a:lnTo>
                    <a:pt x="186" y="477"/>
                  </a:lnTo>
                  <a:lnTo>
                    <a:pt x="212" y="488"/>
                  </a:lnTo>
                  <a:lnTo>
                    <a:pt x="209" y="497"/>
                  </a:lnTo>
                  <a:lnTo>
                    <a:pt x="147" y="465"/>
                  </a:lnTo>
                  <a:lnTo>
                    <a:pt x="117" y="443"/>
                  </a:lnTo>
                  <a:lnTo>
                    <a:pt x="90" y="415"/>
                  </a:lnTo>
                  <a:lnTo>
                    <a:pt x="67" y="383"/>
                  </a:lnTo>
                  <a:lnTo>
                    <a:pt x="45" y="349"/>
                  </a:lnTo>
                  <a:lnTo>
                    <a:pt x="14" y="275"/>
                  </a:lnTo>
                  <a:lnTo>
                    <a:pt x="0" y="197"/>
                  </a:lnTo>
                  <a:lnTo>
                    <a:pt x="4" y="122"/>
                  </a:lnTo>
                  <a:lnTo>
                    <a:pt x="15" y="87"/>
                  </a:lnTo>
                  <a:lnTo>
                    <a:pt x="33" y="54"/>
                  </a:lnTo>
                  <a:lnTo>
                    <a:pt x="56" y="25"/>
                  </a:lnTo>
                  <a:lnTo>
                    <a:pt x="70" y="13"/>
                  </a:lnTo>
                  <a:lnTo>
                    <a:pt x="86" y="0"/>
                  </a:lnTo>
                  <a:lnTo>
                    <a:pt x="91" y="8"/>
                  </a:lnTo>
                  <a:lnTo>
                    <a:pt x="91" y="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83360" y="2828880"/>
              <a:ext cx="708120" cy="1079640"/>
            </a:xfrm>
            <a:custGeom>
              <a:avLst/>
              <a:gdLst/>
              <a:ahLst/>
              <a:rect l="l" t="t" r="r" b="b"/>
              <a:pathLst>
                <a:path w="446" h="680">
                  <a:moveTo>
                    <a:pt x="285" y="9"/>
                  </a:moveTo>
                  <a:lnTo>
                    <a:pt x="210" y="19"/>
                  </a:lnTo>
                  <a:lnTo>
                    <a:pt x="149" y="44"/>
                  </a:lnTo>
                  <a:lnTo>
                    <a:pt x="125" y="62"/>
                  </a:lnTo>
                  <a:lnTo>
                    <a:pt x="102" y="83"/>
                  </a:lnTo>
                  <a:lnTo>
                    <a:pt x="68" y="134"/>
                  </a:lnTo>
                  <a:lnTo>
                    <a:pt x="46" y="193"/>
                  </a:lnTo>
                  <a:lnTo>
                    <a:pt x="35" y="258"/>
                  </a:lnTo>
                  <a:lnTo>
                    <a:pt x="35" y="325"/>
                  </a:lnTo>
                  <a:lnTo>
                    <a:pt x="46" y="393"/>
                  </a:lnTo>
                  <a:lnTo>
                    <a:pt x="56" y="425"/>
                  </a:lnTo>
                  <a:lnTo>
                    <a:pt x="66" y="456"/>
                  </a:lnTo>
                  <a:lnTo>
                    <a:pt x="80" y="488"/>
                  </a:lnTo>
                  <a:lnTo>
                    <a:pt x="96" y="517"/>
                  </a:lnTo>
                  <a:lnTo>
                    <a:pt x="115" y="544"/>
                  </a:lnTo>
                  <a:lnTo>
                    <a:pt x="136" y="567"/>
                  </a:lnTo>
                  <a:lnTo>
                    <a:pt x="159" y="590"/>
                  </a:lnTo>
                  <a:lnTo>
                    <a:pt x="183" y="608"/>
                  </a:lnTo>
                  <a:lnTo>
                    <a:pt x="209" y="624"/>
                  </a:lnTo>
                  <a:lnTo>
                    <a:pt x="237" y="636"/>
                  </a:lnTo>
                  <a:lnTo>
                    <a:pt x="300" y="647"/>
                  </a:lnTo>
                  <a:lnTo>
                    <a:pt x="368" y="639"/>
                  </a:lnTo>
                  <a:lnTo>
                    <a:pt x="442" y="608"/>
                  </a:lnTo>
                  <a:lnTo>
                    <a:pt x="446" y="618"/>
                  </a:lnTo>
                  <a:lnTo>
                    <a:pt x="412" y="637"/>
                  </a:lnTo>
                  <a:lnTo>
                    <a:pt x="380" y="659"/>
                  </a:lnTo>
                  <a:lnTo>
                    <a:pt x="345" y="673"/>
                  </a:lnTo>
                  <a:lnTo>
                    <a:pt x="305" y="680"/>
                  </a:lnTo>
                  <a:lnTo>
                    <a:pt x="243" y="672"/>
                  </a:lnTo>
                  <a:lnTo>
                    <a:pt x="187" y="651"/>
                  </a:lnTo>
                  <a:lnTo>
                    <a:pt x="161" y="635"/>
                  </a:lnTo>
                  <a:lnTo>
                    <a:pt x="137" y="618"/>
                  </a:lnTo>
                  <a:lnTo>
                    <a:pt x="94" y="574"/>
                  </a:lnTo>
                  <a:lnTo>
                    <a:pt x="76" y="549"/>
                  </a:lnTo>
                  <a:lnTo>
                    <a:pt x="58" y="522"/>
                  </a:lnTo>
                  <a:lnTo>
                    <a:pt x="31" y="464"/>
                  </a:lnTo>
                  <a:lnTo>
                    <a:pt x="1" y="340"/>
                  </a:lnTo>
                  <a:lnTo>
                    <a:pt x="0" y="276"/>
                  </a:lnTo>
                  <a:lnTo>
                    <a:pt x="8" y="216"/>
                  </a:lnTo>
                  <a:lnTo>
                    <a:pt x="16" y="185"/>
                  </a:lnTo>
                  <a:lnTo>
                    <a:pt x="26" y="158"/>
                  </a:lnTo>
                  <a:lnTo>
                    <a:pt x="39" y="131"/>
                  </a:lnTo>
                  <a:lnTo>
                    <a:pt x="56" y="106"/>
                  </a:lnTo>
                  <a:lnTo>
                    <a:pt x="73" y="83"/>
                  </a:lnTo>
                  <a:lnTo>
                    <a:pt x="95" y="62"/>
                  </a:lnTo>
                  <a:lnTo>
                    <a:pt x="119" y="45"/>
                  </a:lnTo>
                  <a:lnTo>
                    <a:pt x="146" y="29"/>
                  </a:lnTo>
                  <a:lnTo>
                    <a:pt x="176" y="17"/>
                  </a:lnTo>
                  <a:lnTo>
                    <a:pt x="209" y="8"/>
                  </a:lnTo>
                  <a:lnTo>
                    <a:pt x="285" y="0"/>
                  </a:lnTo>
                  <a:lnTo>
                    <a:pt x="285" y="9"/>
                  </a:lnTo>
                  <a:lnTo>
                    <a:pt x="285" y="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77200" y="2833560"/>
              <a:ext cx="420480" cy="860400"/>
            </a:xfrm>
            <a:custGeom>
              <a:avLst/>
              <a:gdLst/>
              <a:ahLst/>
              <a:rect l="l" t="t" r="r" b="b"/>
              <a:pathLst>
                <a:path w="265" h="542">
                  <a:moveTo>
                    <a:pt x="0" y="0"/>
                  </a:moveTo>
                  <a:lnTo>
                    <a:pt x="93" y="0"/>
                  </a:lnTo>
                  <a:lnTo>
                    <a:pt x="166" y="36"/>
                  </a:lnTo>
                  <a:lnTo>
                    <a:pt x="220" y="98"/>
                  </a:lnTo>
                  <a:lnTo>
                    <a:pt x="254" y="180"/>
                  </a:lnTo>
                  <a:lnTo>
                    <a:pt x="265" y="272"/>
                  </a:lnTo>
                  <a:lnTo>
                    <a:pt x="262" y="321"/>
                  </a:lnTo>
                  <a:lnTo>
                    <a:pt x="253" y="369"/>
                  </a:lnTo>
                  <a:lnTo>
                    <a:pt x="236" y="416"/>
                  </a:lnTo>
                  <a:lnTo>
                    <a:pt x="215" y="461"/>
                  </a:lnTo>
                  <a:lnTo>
                    <a:pt x="201" y="482"/>
                  </a:lnTo>
                  <a:lnTo>
                    <a:pt x="185" y="503"/>
                  </a:lnTo>
                  <a:lnTo>
                    <a:pt x="167" y="523"/>
                  </a:lnTo>
                  <a:lnTo>
                    <a:pt x="150" y="541"/>
                  </a:lnTo>
                  <a:lnTo>
                    <a:pt x="141" y="542"/>
                  </a:lnTo>
                  <a:lnTo>
                    <a:pt x="140" y="534"/>
                  </a:lnTo>
                  <a:lnTo>
                    <a:pt x="156" y="502"/>
                  </a:lnTo>
                  <a:lnTo>
                    <a:pt x="173" y="470"/>
                  </a:lnTo>
                  <a:lnTo>
                    <a:pt x="189" y="437"/>
                  </a:lnTo>
                  <a:lnTo>
                    <a:pt x="205" y="404"/>
                  </a:lnTo>
                  <a:lnTo>
                    <a:pt x="221" y="325"/>
                  </a:lnTo>
                  <a:lnTo>
                    <a:pt x="227" y="244"/>
                  </a:lnTo>
                  <a:lnTo>
                    <a:pt x="219" y="199"/>
                  </a:lnTo>
                  <a:lnTo>
                    <a:pt x="205" y="156"/>
                  </a:lnTo>
                  <a:lnTo>
                    <a:pt x="186" y="114"/>
                  </a:lnTo>
                  <a:lnTo>
                    <a:pt x="174" y="95"/>
                  </a:lnTo>
                  <a:lnTo>
                    <a:pt x="160" y="77"/>
                  </a:lnTo>
                  <a:lnTo>
                    <a:pt x="129" y="46"/>
                  </a:lnTo>
                  <a:lnTo>
                    <a:pt x="112" y="33"/>
                  </a:lnTo>
                  <a:lnTo>
                    <a:pt x="93" y="22"/>
                  </a:lnTo>
                  <a:lnTo>
                    <a:pt x="49" y="9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731000" y="2841480"/>
              <a:ext cx="352440" cy="917640"/>
            </a:xfrm>
            <a:custGeom>
              <a:avLst/>
              <a:gdLst/>
              <a:ahLst/>
              <a:rect l="l" t="t" r="r" b="b"/>
              <a:pathLst>
                <a:path w="222" h="578">
                  <a:moveTo>
                    <a:pt x="132" y="578"/>
                  </a:moveTo>
                  <a:lnTo>
                    <a:pt x="91" y="569"/>
                  </a:lnTo>
                  <a:lnTo>
                    <a:pt x="120" y="530"/>
                  </a:lnTo>
                  <a:lnTo>
                    <a:pt x="144" y="491"/>
                  </a:lnTo>
                  <a:lnTo>
                    <a:pt x="178" y="403"/>
                  </a:lnTo>
                  <a:lnTo>
                    <a:pt x="190" y="284"/>
                  </a:lnTo>
                  <a:lnTo>
                    <a:pt x="184" y="222"/>
                  </a:lnTo>
                  <a:lnTo>
                    <a:pt x="170" y="164"/>
                  </a:lnTo>
                  <a:lnTo>
                    <a:pt x="159" y="136"/>
                  </a:lnTo>
                  <a:lnTo>
                    <a:pt x="146" y="110"/>
                  </a:lnTo>
                  <a:lnTo>
                    <a:pt x="129" y="86"/>
                  </a:lnTo>
                  <a:lnTo>
                    <a:pt x="109" y="65"/>
                  </a:lnTo>
                  <a:lnTo>
                    <a:pt x="87" y="46"/>
                  </a:lnTo>
                  <a:lnTo>
                    <a:pt x="61" y="31"/>
                  </a:lnTo>
                  <a:lnTo>
                    <a:pt x="33" y="19"/>
                  </a:lnTo>
                  <a:lnTo>
                    <a:pt x="2" y="11"/>
                  </a:lnTo>
                  <a:lnTo>
                    <a:pt x="0" y="3"/>
                  </a:lnTo>
                  <a:lnTo>
                    <a:pt x="6" y="0"/>
                  </a:lnTo>
                  <a:lnTo>
                    <a:pt x="30" y="7"/>
                  </a:lnTo>
                  <a:lnTo>
                    <a:pt x="56" y="19"/>
                  </a:lnTo>
                  <a:lnTo>
                    <a:pt x="72" y="27"/>
                  </a:lnTo>
                  <a:lnTo>
                    <a:pt x="99" y="42"/>
                  </a:lnTo>
                  <a:lnTo>
                    <a:pt x="124" y="61"/>
                  </a:lnTo>
                  <a:lnTo>
                    <a:pt x="166" y="105"/>
                  </a:lnTo>
                  <a:lnTo>
                    <a:pt x="197" y="156"/>
                  </a:lnTo>
                  <a:lnTo>
                    <a:pt x="213" y="214"/>
                  </a:lnTo>
                  <a:lnTo>
                    <a:pt x="222" y="319"/>
                  </a:lnTo>
                  <a:lnTo>
                    <a:pt x="212" y="405"/>
                  </a:lnTo>
                  <a:lnTo>
                    <a:pt x="199" y="446"/>
                  </a:lnTo>
                  <a:lnTo>
                    <a:pt x="182" y="485"/>
                  </a:lnTo>
                  <a:lnTo>
                    <a:pt x="159" y="529"/>
                  </a:lnTo>
                  <a:lnTo>
                    <a:pt x="147" y="553"/>
                  </a:lnTo>
                  <a:lnTo>
                    <a:pt x="132" y="578"/>
                  </a:lnTo>
                  <a:lnTo>
                    <a:pt x="132" y="57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07440" y="3187800"/>
              <a:ext cx="244440" cy="172800"/>
            </a:xfrm>
            <a:custGeom>
              <a:avLst/>
              <a:gdLst/>
              <a:ahLst/>
              <a:rect l="l" t="t" r="r" b="b"/>
              <a:pathLst>
                <a:path w="154" h="109">
                  <a:moveTo>
                    <a:pt x="0" y="105"/>
                  </a:moveTo>
                  <a:lnTo>
                    <a:pt x="15" y="74"/>
                  </a:lnTo>
                  <a:lnTo>
                    <a:pt x="29" y="47"/>
                  </a:lnTo>
                  <a:lnTo>
                    <a:pt x="48" y="17"/>
                  </a:lnTo>
                  <a:lnTo>
                    <a:pt x="60" y="7"/>
                  </a:lnTo>
                  <a:lnTo>
                    <a:pt x="72" y="0"/>
                  </a:lnTo>
                  <a:lnTo>
                    <a:pt x="103" y="2"/>
                  </a:lnTo>
                  <a:lnTo>
                    <a:pt x="125" y="15"/>
                  </a:lnTo>
                  <a:lnTo>
                    <a:pt x="154" y="31"/>
                  </a:lnTo>
                  <a:lnTo>
                    <a:pt x="152" y="40"/>
                  </a:lnTo>
                  <a:lnTo>
                    <a:pt x="101" y="35"/>
                  </a:lnTo>
                  <a:lnTo>
                    <a:pt x="65" y="33"/>
                  </a:lnTo>
                  <a:lnTo>
                    <a:pt x="41" y="56"/>
                  </a:lnTo>
                  <a:lnTo>
                    <a:pt x="23" y="85"/>
                  </a:lnTo>
                  <a:lnTo>
                    <a:pt x="10" y="109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13640" y="3243240"/>
              <a:ext cx="68400" cy="104760"/>
            </a:xfrm>
            <a:custGeom>
              <a:avLst/>
              <a:gdLst/>
              <a:ahLst/>
              <a:rect l="l" t="t" r="r" b="b"/>
              <a:pathLst>
                <a:path w="43" h="66">
                  <a:moveTo>
                    <a:pt x="9" y="22"/>
                  </a:moveTo>
                  <a:lnTo>
                    <a:pt x="16" y="8"/>
                  </a:lnTo>
                  <a:lnTo>
                    <a:pt x="31" y="0"/>
                  </a:lnTo>
                  <a:lnTo>
                    <a:pt x="43" y="14"/>
                  </a:lnTo>
                  <a:lnTo>
                    <a:pt x="43" y="41"/>
                  </a:lnTo>
                  <a:lnTo>
                    <a:pt x="36" y="54"/>
                  </a:lnTo>
                  <a:lnTo>
                    <a:pt x="24" y="66"/>
                  </a:lnTo>
                  <a:lnTo>
                    <a:pt x="7" y="66"/>
                  </a:lnTo>
                  <a:lnTo>
                    <a:pt x="0" y="43"/>
                  </a:lnTo>
                  <a:lnTo>
                    <a:pt x="9" y="22"/>
                  </a:lnTo>
                  <a:lnTo>
                    <a:pt x="9" y="2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926480" y="2809800"/>
              <a:ext cx="87120" cy="147600"/>
            </a:xfrm>
            <a:custGeom>
              <a:avLst/>
              <a:gdLst/>
              <a:ahLst/>
              <a:rect l="l" t="t" r="r" b="b"/>
              <a:pathLst>
                <a:path w="55" h="93">
                  <a:moveTo>
                    <a:pt x="0" y="78"/>
                  </a:moveTo>
                  <a:lnTo>
                    <a:pt x="20" y="41"/>
                  </a:lnTo>
                  <a:lnTo>
                    <a:pt x="40" y="4"/>
                  </a:lnTo>
                  <a:lnTo>
                    <a:pt x="51" y="0"/>
                  </a:lnTo>
                  <a:lnTo>
                    <a:pt x="55" y="11"/>
                  </a:lnTo>
                  <a:lnTo>
                    <a:pt x="44" y="40"/>
                  </a:lnTo>
                  <a:lnTo>
                    <a:pt x="33" y="68"/>
                  </a:lnTo>
                  <a:lnTo>
                    <a:pt x="19" y="89"/>
                  </a:lnTo>
                  <a:lnTo>
                    <a:pt x="2" y="93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42320" y="2921040"/>
              <a:ext cx="90360" cy="55440"/>
            </a:xfrm>
            <a:custGeom>
              <a:avLst/>
              <a:gdLst/>
              <a:ahLst/>
              <a:rect l="l" t="t" r="r" b="b"/>
              <a:pathLst>
                <a:path w="57" h="35">
                  <a:moveTo>
                    <a:pt x="7" y="12"/>
                  </a:moveTo>
                  <a:lnTo>
                    <a:pt x="55" y="0"/>
                  </a:lnTo>
                  <a:lnTo>
                    <a:pt x="57" y="8"/>
                  </a:lnTo>
                  <a:lnTo>
                    <a:pt x="42" y="20"/>
                  </a:lnTo>
                  <a:lnTo>
                    <a:pt x="32" y="31"/>
                  </a:lnTo>
                  <a:lnTo>
                    <a:pt x="15" y="35"/>
                  </a:lnTo>
                  <a:lnTo>
                    <a:pt x="0" y="28"/>
                  </a:lnTo>
                  <a:lnTo>
                    <a:pt x="7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866000" y="2633760"/>
              <a:ext cx="85680" cy="279360"/>
            </a:xfrm>
            <a:custGeom>
              <a:avLst/>
              <a:gdLst/>
              <a:ahLst/>
              <a:rect l="l" t="t" r="r" b="b"/>
              <a:pathLst>
                <a:path w="54" h="176">
                  <a:moveTo>
                    <a:pt x="0" y="162"/>
                  </a:moveTo>
                  <a:lnTo>
                    <a:pt x="20" y="109"/>
                  </a:lnTo>
                  <a:lnTo>
                    <a:pt x="40" y="32"/>
                  </a:lnTo>
                  <a:lnTo>
                    <a:pt x="44" y="0"/>
                  </a:lnTo>
                  <a:lnTo>
                    <a:pt x="54" y="2"/>
                  </a:lnTo>
                  <a:lnTo>
                    <a:pt x="51" y="118"/>
                  </a:lnTo>
                  <a:lnTo>
                    <a:pt x="46" y="130"/>
                  </a:lnTo>
                  <a:lnTo>
                    <a:pt x="36" y="146"/>
                  </a:lnTo>
                  <a:lnTo>
                    <a:pt x="16" y="173"/>
                  </a:lnTo>
                  <a:lnTo>
                    <a:pt x="1" y="176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008920" y="3519360"/>
              <a:ext cx="184320" cy="201600"/>
            </a:xfrm>
            <a:custGeom>
              <a:avLst/>
              <a:gdLst/>
              <a:ahLst/>
              <a:rect l="l" t="t" r="r" b="b"/>
              <a:pathLst>
                <a:path w="116" h="127">
                  <a:moveTo>
                    <a:pt x="0" y="123"/>
                  </a:moveTo>
                  <a:lnTo>
                    <a:pt x="11" y="99"/>
                  </a:lnTo>
                  <a:lnTo>
                    <a:pt x="29" y="66"/>
                  </a:lnTo>
                  <a:lnTo>
                    <a:pt x="48" y="34"/>
                  </a:lnTo>
                  <a:lnTo>
                    <a:pt x="64" y="15"/>
                  </a:lnTo>
                  <a:lnTo>
                    <a:pt x="98" y="3"/>
                  </a:lnTo>
                  <a:lnTo>
                    <a:pt x="116" y="0"/>
                  </a:lnTo>
                  <a:lnTo>
                    <a:pt x="114" y="7"/>
                  </a:lnTo>
                  <a:lnTo>
                    <a:pt x="85" y="38"/>
                  </a:lnTo>
                  <a:lnTo>
                    <a:pt x="70" y="53"/>
                  </a:lnTo>
                  <a:lnTo>
                    <a:pt x="53" y="69"/>
                  </a:lnTo>
                  <a:lnTo>
                    <a:pt x="25" y="103"/>
                  </a:lnTo>
                  <a:lnTo>
                    <a:pt x="10" y="127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09000" y="3425760"/>
              <a:ext cx="111240" cy="169920"/>
            </a:xfrm>
            <a:custGeom>
              <a:avLst/>
              <a:gdLst/>
              <a:ahLst/>
              <a:rect l="l" t="t" r="r" b="b"/>
              <a:pathLst>
                <a:path w="70" h="107">
                  <a:moveTo>
                    <a:pt x="7" y="0"/>
                  </a:moveTo>
                  <a:lnTo>
                    <a:pt x="20" y="8"/>
                  </a:lnTo>
                  <a:lnTo>
                    <a:pt x="38" y="22"/>
                  </a:lnTo>
                  <a:lnTo>
                    <a:pt x="56" y="37"/>
                  </a:lnTo>
                  <a:lnTo>
                    <a:pt x="65" y="47"/>
                  </a:lnTo>
                  <a:lnTo>
                    <a:pt x="70" y="105"/>
                  </a:lnTo>
                  <a:lnTo>
                    <a:pt x="61" y="107"/>
                  </a:lnTo>
                  <a:lnTo>
                    <a:pt x="50" y="83"/>
                  </a:lnTo>
                  <a:lnTo>
                    <a:pt x="38" y="60"/>
                  </a:lnTo>
                  <a:lnTo>
                    <a:pt x="22" y="33"/>
                  </a:lnTo>
                  <a:lnTo>
                    <a:pt x="1" y="8"/>
                  </a:lnTo>
                  <a:lnTo>
                    <a:pt x="0" y="1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55160" y="3017880"/>
              <a:ext cx="344160" cy="358560"/>
            </a:xfrm>
            <a:custGeom>
              <a:avLst/>
              <a:gdLst/>
              <a:ahLst/>
              <a:rect l="l" t="t" r="r" b="b"/>
              <a:pathLst>
                <a:path w="217" h="226">
                  <a:moveTo>
                    <a:pt x="217" y="8"/>
                  </a:moveTo>
                  <a:lnTo>
                    <a:pt x="177" y="31"/>
                  </a:lnTo>
                  <a:lnTo>
                    <a:pt x="144" y="53"/>
                  </a:lnTo>
                  <a:lnTo>
                    <a:pt x="117" y="81"/>
                  </a:lnTo>
                  <a:lnTo>
                    <a:pt x="92" y="111"/>
                  </a:lnTo>
                  <a:lnTo>
                    <a:pt x="71" y="144"/>
                  </a:lnTo>
                  <a:lnTo>
                    <a:pt x="49" y="184"/>
                  </a:lnTo>
                  <a:lnTo>
                    <a:pt x="37" y="204"/>
                  </a:lnTo>
                  <a:lnTo>
                    <a:pt x="25" y="220"/>
                  </a:lnTo>
                  <a:lnTo>
                    <a:pt x="4" y="226"/>
                  </a:lnTo>
                  <a:lnTo>
                    <a:pt x="0" y="206"/>
                  </a:lnTo>
                  <a:lnTo>
                    <a:pt x="14" y="179"/>
                  </a:lnTo>
                  <a:lnTo>
                    <a:pt x="34" y="148"/>
                  </a:lnTo>
                  <a:lnTo>
                    <a:pt x="60" y="117"/>
                  </a:lnTo>
                  <a:lnTo>
                    <a:pt x="88" y="85"/>
                  </a:lnTo>
                  <a:lnTo>
                    <a:pt x="105" y="70"/>
                  </a:lnTo>
                  <a:lnTo>
                    <a:pt x="121" y="57"/>
                  </a:lnTo>
                  <a:lnTo>
                    <a:pt x="137" y="44"/>
                  </a:lnTo>
                  <a:lnTo>
                    <a:pt x="154" y="32"/>
                  </a:lnTo>
                  <a:lnTo>
                    <a:pt x="185" y="12"/>
                  </a:lnTo>
                  <a:lnTo>
                    <a:pt x="215" y="0"/>
                  </a:lnTo>
                  <a:lnTo>
                    <a:pt x="217" y="8"/>
                  </a:lnTo>
                  <a:lnTo>
                    <a:pt x="217" y="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267760" y="3344760"/>
              <a:ext cx="474480" cy="690840"/>
            </a:xfrm>
            <a:custGeom>
              <a:avLst/>
              <a:gdLst/>
              <a:ahLst/>
              <a:rect l="l" t="t" r="r" b="b"/>
              <a:pathLst>
                <a:path w="299" h="435">
                  <a:moveTo>
                    <a:pt x="299" y="431"/>
                  </a:moveTo>
                  <a:lnTo>
                    <a:pt x="291" y="435"/>
                  </a:lnTo>
                  <a:lnTo>
                    <a:pt x="269" y="401"/>
                  </a:lnTo>
                  <a:lnTo>
                    <a:pt x="245" y="368"/>
                  </a:lnTo>
                  <a:lnTo>
                    <a:pt x="222" y="334"/>
                  </a:lnTo>
                  <a:lnTo>
                    <a:pt x="201" y="298"/>
                  </a:lnTo>
                  <a:lnTo>
                    <a:pt x="177" y="252"/>
                  </a:lnTo>
                  <a:lnTo>
                    <a:pt x="163" y="229"/>
                  </a:lnTo>
                  <a:lnTo>
                    <a:pt x="150" y="208"/>
                  </a:lnTo>
                  <a:lnTo>
                    <a:pt x="136" y="187"/>
                  </a:lnTo>
                  <a:lnTo>
                    <a:pt x="121" y="166"/>
                  </a:lnTo>
                  <a:lnTo>
                    <a:pt x="105" y="144"/>
                  </a:lnTo>
                  <a:lnTo>
                    <a:pt x="89" y="125"/>
                  </a:lnTo>
                  <a:lnTo>
                    <a:pt x="65" y="101"/>
                  </a:lnTo>
                  <a:lnTo>
                    <a:pt x="52" y="86"/>
                  </a:lnTo>
                  <a:lnTo>
                    <a:pt x="37" y="72"/>
                  </a:lnTo>
                  <a:lnTo>
                    <a:pt x="0" y="16"/>
                  </a:lnTo>
                  <a:lnTo>
                    <a:pt x="4" y="4"/>
                  </a:lnTo>
                  <a:lnTo>
                    <a:pt x="13" y="0"/>
                  </a:lnTo>
                  <a:lnTo>
                    <a:pt x="29" y="12"/>
                  </a:lnTo>
                  <a:lnTo>
                    <a:pt x="42" y="28"/>
                  </a:lnTo>
                  <a:lnTo>
                    <a:pt x="55" y="40"/>
                  </a:lnTo>
                  <a:lnTo>
                    <a:pt x="68" y="52"/>
                  </a:lnTo>
                  <a:lnTo>
                    <a:pt x="83" y="64"/>
                  </a:lnTo>
                  <a:lnTo>
                    <a:pt x="98" y="76"/>
                  </a:lnTo>
                  <a:lnTo>
                    <a:pt x="120" y="98"/>
                  </a:lnTo>
                  <a:lnTo>
                    <a:pt x="154" y="141"/>
                  </a:lnTo>
                  <a:lnTo>
                    <a:pt x="170" y="163"/>
                  </a:lnTo>
                  <a:lnTo>
                    <a:pt x="185" y="185"/>
                  </a:lnTo>
                  <a:lnTo>
                    <a:pt x="200" y="208"/>
                  </a:lnTo>
                  <a:lnTo>
                    <a:pt x="213" y="232"/>
                  </a:lnTo>
                  <a:lnTo>
                    <a:pt x="238" y="281"/>
                  </a:lnTo>
                  <a:lnTo>
                    <a:pt x="268" y="356"/>
                  </a:lnTo>
                  <a:lnTo>
                    <a:pt x="281" y="394"/>
                  </a:lnTo>
                  <a:lnTo>
                    <a:pt x="299" y="431"/>
                  </a:lnTo>
                  <a:lnTo>
                    <a:pt x="299" y="43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62960" y="5292720"/>
              <a:ext cx="610920" cy="314280"/>
            </a:xfrm>
            <a:custGeom>
              <a:avLst/>
              <a:gdLst/>
              <a:ahLst/>
              <a:rect l="l" t="t" r="r" b="b"/>
              <a:pathLst>
                <a:path w="385" h="198">
                  <a:moveTo>
                    <a:pt x="385" y="123"/>
                  </a:moveTo>
                  <a:lnTo>
                    <a:pt x="377" y="144"/>
                  </a:lnTo>
                  <a:lnTo>
                    <a:pt x="364" y="160"/>
                  </a:lnTo>
                  <a:lnTo>
                    <a:pt x="347" y="173"/>
                  </a:lnTo>
                  <a:lnTo>
                    <a:pt x="326" y="183"/>
                  </a:lnTo>
                  <a:lnTo>
                    <a:pt x="281" y="194"/>
                  </a:lnTo>
                  <a:lnTo>
                    <a:pt x="239" y="198"/>
                  </a:lnTo>
                  <a:lnTo>
                    <a:pt x="145" y="179"/>
                  </a:lnTo>
                  <a:lnTo>
                    <a:pt x="98" y="157"/>
                  </a:lnTo>
                  <a:lnTo>
                    <a:pt x="60" y="134"/>
                  </a:lnTo>
                  <a:lnTo>
                    <a:pt x="41" y="111"/>
                  </a:lnTo>
                  <a:lnTo>
                    <a:pt x="22" y="74"/>
                  </a:lnTo>
                  <a:lnTo>
                    <a:pt x="0" y="5"/>
                  </a:lnTo>
                  <a:lnTo>
                    <a:pt x="3" y="0"/>
                  </a:lnTo>
                  <a:lnTo>
                    <a:pt x="9" y="3"/>
                  </a:lnTo>
                  <a:lnTo>
                    <a:pt x="26" y="29"/>
                  </a:lnTo>
                  <a:lnTo>
                    <a:pt x="43" y="53"/>
                  </a:lnTo>
                  <a:lnTo>
                    <a:pt x="64" y="74"/>
                  </a:lnTo>
                  <a:lnTo>
                    <a:pt x="90" y="94"/>
                  </a:lnTo>
                  <a:lnTo>
                    <a:pt x="123" y="114"/>
                  </a:lnTo>
                  <a:lnTo>
                    <a:pt x="160" y="131"/>
                  </a:lnTo>
                  <a:lnTo>
                    <a:pt x="199" y="143"/>
                  </a:lnTo>
                  <a:lnTo>
                    <a:pt x="239" y="147"/>
                  </a:lnTo>
                  <a:lnTo>
                    <a:pt x="315" y="153"/>
                  </a:lnTo>
                  <a:lnTo>
                    <a:pt x="347" y="147"/>
                  </a:lnTo>
                  <a:lnTo>
                    <a:pt x="376" y="120"/>
                  </a:lnTo>
                  <a:lnTo>
                    <a:pt x="385" y="123"/>
                  </a:lnTo>
                  <a:lnTo>
                    <a:pt x="385" y="12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04120" y="5270400"/>
              <a:ext cx="824040" cy="695520"/>
            </a:xfrm>
            <a:custGeom>
              <a:avLst/>
              <a:gdLst/>
              <a:ahLst/>
              <a:rect l="l" t="t" r="r" b="b"/>
              <a:pathLst>
                <a:path w="519" h="438">
                  <a:moveTo>
                    <a:pt x="137" y="9"/>
                  </a:moveTo>
                  <a:lnTo>
                    <a:pt x="79" y="21"/>
                  </a:lnTo>
                  <a:lnTo>
                    <a:pt x="29" y="39"/>
                  </a:lnTo>
                  <a:lnTo>
                    <a:pt x="30" y="59"/>
                  </a:lnTo>
                  <a:lnTo>
                    <a:pt x="35" y="80"/>
                  </a:lnTo>
                  <a:lnTo>
                    <a:pt x="34" y="219"/>
                  </a:lnTo>
                  <a:lnTo>
                    <a:pt x="41" y="237"/>
                  </a:lnTo>
                  <a:lnTo>
                    <a:pt x="54" y="257"/>
                  </a:lnTo>
                  <a:lnTo>
                    <a:pt x="73" y="280"/>
                  </a:lnTo>
                  <a:lnTo>
                    <a:pt x="86" y="290"/>
                  </a:lnTo>
                  <a:lnTo>
                    <a:pt x="99" y="302"/>
                  </a:lnTo>
                  <a:lnTo>
                    <a:pt x="130" y="325"/>
                  </a:lnTo>
                  <a:lnTo>
                    <a:pt x="163" y="346"/>
                  </a:lnTo>
                  <a:lnTo>
                    <a:pt x="201" y="364"/>
                  </a:lnTo>
                  <a:lnTo>
                    <a:pt x="239" y="380"/>
                  </a:lnTo>
                  <a:lnTo>
                    <a:pt x="278" y="392"/>
                  </a:lnTo>
                  <a:lnTo>
                    <a:pt x="319" y="399"/>
                  </a:lnTo>
                  <a:lnTo>
                    <a:pt x="395" y="393"/>
                  </a:lnTo>
                  <a:lnTo>
                    <a:pt x="462" y="355"/>
                  </a:lnTo>
                  <a:lnTo>
                    <a:pt x="509" y="277"/>
                  </a:lnTo>
                  <a:lnTo>
                    <a:pt x="519" y="281"/>
                  </a:lnTo>
                  <a:lnTo>
                    <a:pt x="506" y="310"/>
                  </a:lnTo>
                  <a:lnTo>
                    <a:pt x="490" y="354"/>
                  </a:lnTo>
                  <a:lnTo>
                    <a:pt x="468" y="393"/>
                  </a:lnTo>
                  <a:lnTo>
                    <a:pt x="449" y="415"/>
                  </a:lnTo>
                  <a:lnTo>
                    <a:pt x="424" y="423"/>
                  </a:lnTo>
                  <a:lnTo>
                    <a:pt x="384" y="430"/>
                  </a:lnTo>
                  <a:lnTo>
                    <a:pt x="318" y="438"/>
                  </a:lnTo>
                  <a:lnTo>
                    <a:pt x="212" y="411"/>
                  </a:lnTo>
                  <a:lnTo>
                    <a:pt x="158" y="382"/>
                  </a:lnTo>
                  <a:lnTo>
                    <a:pt x="124" y="359"/>
                  </a:lnTo>
                  <a:lnTo>
                    <a:pt x="106" y="346"/>
                  </a:lnTo>
                  <a:lnTo>
                    <a:pt x="90" y="331"/>
                  </a:lnTo>
                  <a:lnTo>
                    <a:pt x="72" y="318"/>
                  </a:lnTo>
                  <a:lnTo>
                    <a:pt x="57" y="304"/>
                  </a:lnTo>
                  <a:lnTo>
                    <a:pt x="29" y="275"/>
                  </a:lnTo>
                  <a:lnTo>
                    <a:pt x="0" y="224"/>
                  </a:lnTo>
                  <a:lnTo>
                    <a:pt x="0" y="153"/>
                  </a:lnTo>
                  <a:lnTo>
                    <a:pt x="6" y="80"/>
                  </a:lnTo>
                  <a:lnTo>
                    <a:pt x="4" y="27"/>
                  </a:lnTo>
                  <a:lnTo>
                    <a:pt x="26" y="18"/>
                  </a:lnTo>
                  <a:lnTo>
                    <a:pt x="65" y="10"/>
                  </a:lnTo>
                  <a:lnTo>
                    <a:pt x="136" y="0"/>
                  </a:lnTo>
                  <a:lnTo>
                    <a:pt x="137" y="9"/>
                  </a:lnTo>
                  <a:lnTo>
                    <a:pt x="137" y="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05640" y="5433840"/>
              <a:ext cx="181080" cy="255600"/>
            </a:xfrm>
            <a:custGeom>
              <a:avLst/>
              <a:gdLst/>
              <a:ahLst/>
              <a:rect l="l" t="t" r="r" b="b"/>
              <a:pathLst>
                <a:path w="114" h="161">
                  <a:moveTo>
                    <a:pt x="9" y="49"/>
                  </a:moveTo>
                  <a:lnTo>
                    <a:pt x="20" y="92"/>
                  </a:lnTo>
                  <a:lnTo>
                    <a:pt x="31" y="112"/>
                  </a:lnTo>
                  <a:lnTo>
                    <a:pt x="53" y="120"/>
                  </a:lnTo>
                  <a:lnTo>
                    <a:pt x="65" y="112"/>
                  </a:lnTo>
                  <a:lnTo>
                    <a:pt x="69" y="97"/>
                  </a:lnTo>
                  <a:lnTo>
                    <a:pt x="75" y="58"/>
                  </a:lnTo>
                  <a:lnTo>
                    <a:pt x="66" y="21"/>
                  </a:lnTo>
                  <a:lnTo>
                    <a:pt x="53" y="6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6" y="6"/>
                  </a:lnTo>
                  <a:lnTo>
                    <a:pt x="75" y="13"/>
                  </a:lnTo>
                  <a:lnTo>
                    <a:pt x="108" y="55"/>
                  </a:lnTo>
                  <a:lnTo>
                    <a:pt x="114" y="108"/>
                  </a:lnTo>
                  <a:lnTo>
                    <a:pt x="106" y="129"/>
                  </a:lnTo>
                  <a:lnTo>
                    <a:pt x="91" y="146"/>
                  </a:lnTo>
                  <a:lnTo>
                    <a:pt x="72" y="158"/>
                  </a:lnTo>
                  <a:lnTo>
                    <a:pt x="47" y="161"/>
                  </a:lnTo>
                  <a:lnTo>
                    <a:pt x="24" y="149"/>
                  </a:lnTo>
                  <a:lnTo>
                    <a:pt x="11" y="128"/>
                  </a:lnTo>
                  <a:lnTo>
                    <a:pt x="3" y="75"/>
                  </a:lnTo>
                  <a:lnTo>
                    <a:pt x="0" y="50"/>
                  </a:lnTo>
                  <a:lnTo>
                    <a:pt x="9" y="49"/>
                  </a:lnTo>
                  <a:lnTo>
                    <a:pt x="9" y="4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210520" y="5072040"/>
              <a:ext cx="122400" cy="441360"/>
            </a:xfrm>
            <a:custGeom>
              <a:avLst/>
              <a:gdLst/>
              <a:ahLst/>
              <a:rect l="l" t="t" r="r" b="b"/>
              <a:pathLst>
                <a:path w="77" h="278">
                  <a:moveTo>
                    <a:pt x="0" y="275"/>
                  </a:moveTo>
                  <a:lnTo>
                    <a:pt x="12" y="236"/>
                  </a:lnTo>
                  <a:lnTo>
                    <a:pt x="32" y="114"/>
                  </a:lnTo>
                  <a:lnTo>
                    <a:pt x="61" y="0"/>
                  </a:lnTo>
                  <a:lnTo>
                    <a:pt x="70" y="0"/>
                  </a:lnTo>
                  <a:lnTo>
                    <a:pt x="77" y="127"/>
                  </a:lnTo>
                  <a:lnTo>
                    <a:pt x="66" y="152"/>
                  </a:lnTo>
                  <a:lnTo>
                    <a:pt x="43" y="204"/>
                  </a:lnTo>
                  <a:lnTo>
                    <a:pt x="19" y="254"/>
                  </a:lnTo>
                  <a:lnTo>
                    <a:pt x="8" y="278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77000" y="3681360"/>
              <a:ext cx="808200" cy="665280"/>
            </a:xfrm>
            <a:custGeom>
              <a:avLst/>
              <a:gdLst/>
              <a:ahLst/>
              <a:rect l="l" t="t" r="r" b="b"/>
              <a:pathLst>
                <a:path w="509" h="419">
                  <a:moveTo>
                    <a:pt x="0" y="270"/>
                  </a:moveTo>
                  <a:lnTo>
                    <a:pt x="0" y="95"/>
                  </a:lnTo>
                  <a:lnTo>
                    <a:pt x="13" y="79"/>
                  </a:lnTo>
                  <a:lnTo>
                    <a:pt x="28" y="66"/>
                  </a:lnTo>
                  <a:lnTo>
                    <a:pt x="66" y="47"/>
                  </a:lnTo>
                  <a:lnTo>
                    <a:pt x="146" y="25"/>
                  </a:lnTo>
                  <a:lnTo>
                    <a:pt x="185" y="12"/>
                  </a:lnTo>
                  <a:lnTo>
                    <a:pt x="226" y="3"/>
                  </a:lnTo>
                  <a:lnTo>
                    <a:pt x="266" y="0"/>
                  </a:lnTo>
                  <a:lnTo>
                    <a:pt x="306" y="14"/>
                  </a:lnTo>
                  <a:lnTo>
                    <a:pt x="338" y="58"/>
                  </a:lnTo>
                  <a:lnTo>
                    <a:pt x="355" y="88"/>
                  </a:lnTo>
                  <a:lnTo>
                    <a:pt x="367" y="99"/>
                  </a:lnTo>
                  <a:lnTo>
                    <a:pt x="380" y="108"/>
                  </a:lnTo>
                  <a:lnTo>
                    <a:pt x="435" y="148"/>
                  </a:lnTo>
                  <a:lnTo>
                    <a:pt x="446" y="177"/>
                  </a:lnTo>
                  <a:lnTo>
                    <a:pt x="448" y="209"/>
                  </a:lnTo>
                  <a:lnTo>
                    <a:pt x="456" y="233"/>
                  </a:lnTo>
                  <a:lnTo>
                    <a:pt x="470" y="250"/>
                  </a:lnTo>
                  <a:lnTo>
                    <a:pt x="500" y="275"/>
                  </a:lnTo>
                  <a:lnTo>
                    <a:pt x="509" y="321"/>
                  </a:lnTo>
                  <a:lnTo>
                    <a:pt x="497" y="361"/>
                  </a:lnTo>
                  <a:lnTo>
                    <a:pt x="486" y="387"/>
                  </a:lnTo>
                  <a:lnTo>
                    <a:pt x="471" y="419"/>
                  </a:lnTo>
                  <a:lnTo>
                    <a:pt x="463" y="415"/>
                  </a:lnTo>
                  <a:lnTo>
                    <a:pt x="484" y="337"/>
                  </a:lnTo>
                  <a:lnTo>
                    <a:pt x="478" y="309"/>
                  </a:lnTo>
                  <a:lnTo>
                    <a:pt x="466" y="287"/>
                  </a:lnTo>
                  <a:lnTo>
                    <a:pt x="450" y="267"/>
                  </a:lnTo>
                  <a:lnTo>
                    <a:pt x="433" y="250"/>
                  </a:lnTo>
                  <a:lnTo>
                    <a:pt x="414" y="211"/>
                  </a:lnTo>
                  <a:lnTo>
                    <a:pt x="405" y="168"/>
                  </a:lnTo>
                  <a:lnTo>
                    <a:pt x="389" y="152"/>
                  </a:lnTo>
                  <a:lnTo>
                    <a:pt x="374" y="141"/>
                  </a:lnTo>
                  <a:lnTo>
                    <a:pt x="345" y="127"/>
                  </a:lnTo>
                  <a:lnTo>
                    <a:pt x="321" y="106"/>
                  </a:lnTo>
                  <a:lnTo>
                    <a:pt x="304" y="62"/>
                  </a:lnTo>
                  <a:lnTo>
                    <a:pt x="298" y="49"/>
                  </a:lnTo>
                  <a:lnTo>
                    <a:pt x="288" y="38"/>
                  </a:lnTo>
                  <a:lnTo>
                    <a:pt x="235" y="34"/>
                  </a:lnTo>
                  <a:lnTo>
                    <a:pt x="154" y="51"/>
                  </a:lnTo>
                  <a:lnTo>
                    <a:pt x="75" y="81"/>
                  </a:lnTo>
                  <a:lnTo>
                    <a:pt x="32" y="112"/>
                  </a:lnTo>
                  <a:lnTo>
                    <a:pt x="11" y="189"/>
                  </a:lnTo>
                  <a:lnTo>
                    <a:pt x="10" y="230"/>
                  </a:lnTo>
                  <a:lnTo>
                    <a:pt x="10" y="270"/>
                  </a:lnTo>
                  <a:lnTo>
                    <a:pt x="0" y="270"/>
                  </a:lnTo>
                  <a:lnTo>
                    <a:pt x="0" y="27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07200" y="4289400"/>
              <a:ext cx="176400" cy="2412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43" y="74"/>
                  </a:moveTo>
                  <a:lnTo>
                    <a:pt x="35" y="97"/>
                  </a:lnTo>
                  <a:lnTo>
                    <a:pt x="19" y="128"/>
                  </a:lnTo>
                  <a:lnTo>
                    <a:pt x="4" y="152"/>
                  </a:lnTo>
                  <a:lnTo>
                    <a:pt x="0" y="147"/>
                  </a:lnTo>
                  <a:lnTo>
                    <a:pt x="5" y="123"/>
                  </a:lnTo>
                  <a:lnTo>
                    <a:pt x="4" y="61"/>
                  </a:lnTo>
                  <a:lnTo>
                    <a:pt x="6" y="49"/>
                  </a:lnTo>
                  <a:lnTo>
                    <a:pt x="17" y="41"/>
                  </a:lnTo>
                  <a:lnTo>
                    <a:pt x="80" y="17"/>
                  </a:lnTo>
                  <a:lnTo>
                    <a:pt x="104" y="0"/>
                  </a:lnTo>
                  <a:lnTo>
                    <a:pt x="111" y="7"/>
                  </a:lnTo>
                  <a:lnTo>
                    <a:pt x="97" y="24"/>
                  </a:lnTo>
                  <a:lnTo>
                    <a:pt x="78" y="44"/>
                  </a:lnTo>
                  <a:lnTo>
                    <a:pt x="59" y="62"/>
                  </a:lnTo>
                  <a:lnTo>
                    <a:pt x="43" y="74"/>
                  </a:lnTo>
                  <a:lnTo>
                    <a:pt x="43" y="7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53280" y="4411800"/>
              <a:ext cx="308160" cy="30132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123" y="57"/>
                  </a:moveTo>
                  <a:lnTo>
                    <a:pt x="114" y="8"/>
                  </a:lnTo>
                  <a:lnTo>
                    <a:pt x="116" y="0"/>
                  </a:lnTo>
                  <a:lnTo>
                    <a:pt x="121" y="1"/>
                  </a:lnTo>
                  <a:lnTo>
                    <a:pt x="155" y="12"/>
                  </a:lnTo>
                  <a:lnTo>
                    <a:pt x="177" y="38"/>
                  </a:lnTo>
                  <a:lnTo>
                    <a:pt x="194" y="77"/>
                  </a:lnTo>
                  <a:lnTo>
                    <a:pt x="194" y="94"/>
                  </a:lnTo>
                  <a:lnTo>
                    <a:pt x="182" y="116"/>
                  </a:lnTo>
                  <a:lnTo>
                    <a:pt x="163" y="137"/>
                  </a:lnTo>
                  <a:lnTo>
                    <a:pt x="142" y="157"/>
                  </a:lnTo>
                  <a:lnTo>
                    <a:pt x="118" y="170"/>
                  </a:lnTo>
                  <a:lnTo>
                    <a:pt x="83" y="184"/>
                  </a:lnTo>
                  <a:lnTo>
                    <a:pt x="48" y="190"/>
                  </a:lnTo>
                  <a:lnTo>
                    <a:pt x="25" y="186"/>
                  </a:lnTo>
                  <a:lnTo>
                    <a:pt x="7" y="148"/>
                  </a:lnTo>
                  <a:lnTo>
                    <a:pt x="0" y="104"/>
                  </a:lnTo>
                  <a:lnTo>
                    <a:pt x="4" y="98"/>
                  </a:lnTo>
                  <a:lnTo>
                    <a:pt x="10" y="100"/>
                  </a:lnTo>
                  <a:lnTo>
                    <a:pt x="22" y="133"/>
                  </a:lnTo>
                  <a:lnTo>
                    <a:pt x="30" y="151"/>
                  </a:lnTo>
                  <a:lnTo>
                    <a:pt x="44" y="164"/>
                  </a:lnTo>
                  <a:lnTo>
                    <a:pt x="61" y="153"/>
                  </a:lnTo>
                  <a:lnTo>
                    <a:pt x="137" y="118"/>
                  </a:lnTo>
                  <a:lnTo>
                    <a:pt x="148" y="102"/>
                  </a:lnTo>
                  <a:lnTo>
                    <a:pt x="147" y="83"/>
                  </a:lnTo>
                  <a:lnTo>
                    <a:pt x="137" y="67"/>
                  </a:lnTo>
                  <a:lnTo>
                    <a:pt x="123" y="57"/>
                  </a:lnTo>
                  <a:lnTo>
                    <a:pt x="123" y="5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211960" y="4665600"/>
              <a:ext cx="158760" cy="177840"/>
            </a:xfrm>
            <a:custGeom>
              <a:avLst/>
              <a:gdLst/>
              <a:ahLst/>
              <a:rect l="l" t="t" r="r" b="b"/>
              <a:pathLst>
                <a:path w="100" h="112">
                  <a:moveTo>
                    <a:pt x="100" y="1"/>
                  </a:moveTo>
                  <a:lnTo>
                    <a:pt x="98" y="26"/>
                  </a:lnTo>
                  <a:lnTo>
                    <a:pt x="91" y="50"/>
                  </a:lnTo>
                  <a:lnTo>
                    <a:pt x="76" y="65"/>
                  </a:lnTo>
                  <a:lnTo>
                    <a:pt x="50" y="84"/>
                  </a:lnTo>
                  <a:lnTo>
                    <a:pt x="24" y="102"/>
                  </a:lnTo>
                  <a:lnTo>
                    <a:pt x="5" y="112"/>
                  </a:lnTo>
                  <a:lnTo>
                    <a:pt x="0" y="106"/>
                  </a:lnTo>
                  <a:lnTo>
                    <a:pt x="19" y="91"/>
                  </a:lnTo>
                  <a:lnTo>
                    <a:pt x="46" y="66"/>
                  </a:lnTo>
                  <a:lnTo>
                    <a:pt x="71" y="37"/>
                  </a:lnTo>
                  <a:lnTo>
                    <a:pt x="91" y="0"/>
                  </a:lnTo>
                  <a:lnTo>
                    <a:pt x="100" y="1"/>
                  </a:lnTo>
                  <a:lnTo>
                    <a:pt x="100" y="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97880" y="4202280"/>
              <a:ext cx="187200" cy="631800"/>
            </a:xfrm>
            <a:custGeom>
              <a:avLst/>
              <a:gdLst/>
              <a:ahLst/>
              <a:rect l="l" t="t" r="r" b="b"/>
              <a:pathLst>
                <a:path w="118" h="398">
                  <a:moveTo>
                    <a:pt x="9" y="0"/>
                  </a:moveTo>
                  <a:lnTo>
                    <a:pt x="25" y="49"/>
                  </a:lnTo>
                  <a:lnTo>
                    <a:pt x="42" y="99"/>
                  </a:lnTo>
                  <a:lnTo>
                    <a:pt x="59" y="135"/>
                  </a:lnTo>
                  <a:lnTo>
                    <a:pt x="84" y="182"/>
                  </a:lnTo>
                  <a:lnTo>
                    <a:pt x="106" y="228"/>
                  </a:lnTo>
                  <a:lnTo>
                    <a:pt x="118" y="260"/>
                  </a:lnTo>
                  <a:lnTo>
                    <a:pt x="114" y="291"/>
                  </a:lnTo>
                  <a:lnTo>
                    <a:pt x="99" y="330"/>
                  </a:lnTo>
                  <a:lnTo>
                    <a:pt x="80" y="369"/>
                  </a:lnTo>
                  <a:lnTo>
                    <a:pt x="65" y="398"/>
                  </a:lnTo>
                  <a:lnTo>
                    <a:pt x="55" y="394"/>
                  </a:lnTo>
                  <a:lnTo>
                    <a:pt x="76" y="268"/>
                  </a:lnTo>
                  <a:lnTo>
                    <a:pt x="59" y="210"/>
                  </a:lnTo>
                  <a:lnTo>
                    <a:pt x="47" y="176"/>
                  </a:lnTo>
                  <a:lnTo>
                    <a:pt x="35" y="140"/>
                  </a:lnTo>
                  <a:lnTo>
                    <a:pt x="12" y="67"/>
                  </a:lnTo>
                  <a:lnTo>
                    <a:pt x="0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194680" y="4808520"/>
              <a:ext cx="77760" cy="306360"/>
            </a:xfrm>
            <a:custGeom>
              <a:avLst/>
              <a:gdLst/>
              <a:ahLst/>
              <a:rect l="l" t="t" r="r" b="b"/>
              <a:pathLst>
                <a:path w="49" h="193">
                  <a:moveTo>
                    <a:pt x="49" y="12"/>
                  </a:moveTo>
                  <a:lnTo>
                    <a:pt x="37" y="143"/>
                  </a:lnTo>
                  <a:lnTo>
                    <a:pt x="33" y="176"/>
                  </a:lnTo>
                  <a:lnTo>
                    <a:pt x="27" y="193"/>
                  </a:lnTo>
                  <a:lnTo>
                    <a:pt x="22" y="189"/>
                  </a:lnTo>
                  <a:lnTo>
                    <a:pt x="3" y="149"/>
                  </a:lnTo>
                  <a:lnTo>
                    <a:pt x="0" y="90"/>
                  </a:lnTo>
                  <a:lnTo>
                    <a:pt x="12" y="53"/>
                  </a:lnTo>
                  <a:lnTo>
                    <a:pt x="23" y="12"/>
                  </a:lnTo>
                  <a:lnTo>
                    <a:pt x="27" y="4"/>
                  </a:lnTo>
                  <a:lnTo>
                    <a:pt x="37" y="0"/>
                  </a:lnTo>
                  <a:lnTo>
                    <a:pt x="49" y="12"/>
                  </a:lnTo>
                  <a:lnTo>
                    <a:pt x="49" y="1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04000" y="4622760"/>
              <a:ext cx="433440" cy="465120"/>
            </a:xfrm>
            <a:custGeom>
              <a:avLst/>
              <a:gdLst/>
              <a:ahLst/>
              <a:rect l="l" t="t" r="r" b="b"/>
              <a:pathLst>
                <a:path w="273" h="293">
                  <a:moveTo>
                    <a:pt x="74" y="10"/>
                  </a:moveTo>
                  <a:lnTo>
                    <a:pt x="42" y="31"/>
                  </a:lnTo>
                  <a:lnTo>
                    <a:pt x="31" y="65"/>
                  </a:lnTo>
                  <a:lnTo>
                    <a:pt x="40" y="84"/>
                  </a:lnTo>
                  <a:lnTo>
                    <a:pt x="57" y="107"/>
                  </a:lnTo>
                  <a:lnTo>
                    <a:pt x="81" y="134"/>
                  </a:lnTo>
                  <a:lnTo>
                    <a:pt x="108" y="162"/>
                  </a:lnTo>
                  <a:lnTo>
                    <a:pt x="123" y="175"/>
                  </a:lnTo>
                  <a:lnTo>
                    <a:pt x="137" y="188"/>
                  </a:lnTo>
                  <a:lnTo>
                    <a:pt x="152" y="200"/>
                  </a:lnTo>
                  <a:lnTo>
                    <a:pt x="165" y="212"/>
                  </a:lnTo>
                  <a:lnTo>
                    <a:pt x="190" y="232"/>
                  </a:lnTo>
                  <a:lnTo>
                    <a:pt x="209" y="244"/>
                  </a:lnTo>
                  <a:lnTo>
                    <a:pt x="240" y="263"/>
                  </a:lnTo>
                  <a:lnTo>
                    <a:pt x="273" y="283"/>
                  </a:lnTo>
                  <a:lnTo>
                    <a:pt x="271" y="293"/>
                  </a:lnTo>
                  <a:lnTo>
                    <a:pt x="187" y="283"/>
                  </a:lnTo>
                  <a:lnTo>
                    <a:pt x="159" y="266"/>
                  </a:lnTo>
                  <a:lnTo>
                    <a:pt x="129" y="244"/>
                  </a:lnTo>
                  <a:lnTo>
                    <a:pt x="99" y="217"/>
                  </a:lnTo>
                  <a:lnTo>
                    <a:pt x="72" y="188"/>
                  </a:lnTo>
                  <a:lnTo>
                    <a:pt x="46" y="156"/>
                  </a:lnTo>
                  <a:lnTo>
                    <a:pt x="26" y="123"/>
                  </a:lnTo>
                  <a:lnTo>
                    <a:pt x="0" y="59"/>
                  </a:lnTo>
                  <a:lnTo>
                    <a:pt x="4" y="36"/>
                  </a:lnTo>
                  <a:lnTo>
                    <a:pt x="12" y="27"/>
                  </a:lnTo>
                  <a:lnTo>
                    <a:pt x="23" y="19"/>
                  </a:lnTo>
                  <a:lnTo>
                    <a:pt x="47" y="6"/>
                  </a:lnTo>
                  <a:lnTo>
                    <a:pt x="72" y="0"/>
                  </a:lnTo>
                  <a:lnTo>
                    <a:pt x="74" y="10"/>
                  </a:lnTo>
                  <a:lnTo>
                    <a:pt x="74" y="1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86560" y="4533840"/>
              <a:ext cx="319320" cy="681120"/>
            </a:xfrm>
            <a:custGeom>
              <a:avLst/>
              <a:gdLst/>
              <a:ahLst/>
              <a:rect l="l" t="t" r="r" b="b"/>
              <a:pathLst>
                <a:path w="201" h="429">
                  <a:moveTo>
                    <a:pt x="192" y="26"/>
                  </a:moveTo>
                  <a:lnTo>
                    <a:pt x="161" y="33"/>
                  </a:lnTo>
                  <a:lnTo>
                    <a:pt x="138" y="51"/>
                  </a:lnTo>
                  <a:lnTo>
                    <a:pt x="110" y="113"/>
                  </a:lnTo>
                  <a:lnTo>
                    <a:pt x="88" y="251"/>
                  </a:lnTo>
                  <a:lnTo>
                    <a:pt x="76" y="293"/>
                  </a:lnTo>
                  <a:lnTo>
                    <a:pt x="54" y="342"/>
                  </a:lnTo>
                  <a:lnTo>
                    <a:pt x="30" y="391"/>
                  </a:lnTo>
                  <a:lnTo>
                    <a:pt x="19" y="412"/>
                  </a:lnTo>
                  <a:lnTo>
                    <a:pt x="8" y="429"/>
                  </a:lnTo>
                  <a:lnTo>
                    <a:pt x="0" y="427"/>
                  </a:lnTo>
                  <a:lnTo>
                    <a:pt x="21" y="334"/>
                  </a:lnTo>
                  <a:lnTo>
                    <a:pt x="43" y="243"/>
                  </a:lnTo>
                  <a:lnTo>
                    <a:pt x="55" y="166"/>
                  </a:lnTo>
                  <a:lnTo>
                    <a:pt x="63" y="125"/>
                  </a:lnTo>
                  <a:lnTo>
                    <a:pt x="77" y="85"/>
                  </a:lnTo>
                  <a:lnTo>
                    <a:pt x="95" y="51"/>
                  </a:lnTo>
                  <a:lnTo>
                    <a:pt x="120" y="22"/>
                  </a:lnTo>
                  <a:lnTo>
                    <a:pt x="137" y="13"/>
                  </a:lnTo>
                  <a:lnTo>
                    <a:pt x="154" y="5"/>
                  </a:lnTo>
                  <a:lnTo>
                    <a:pt x="201" y="0"/>
                  </a:lnTo>
                  <a:lnTo>
                    <a:pt x="192" y="26"/>
                  </a:lnTo>
                  <a:lnTo>
                    <a:pt x="192" y="2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02520" y="5065560"/>
              <a:ext cx="344520" cy="376560"/>
            </a:xfrm>
            <a:custGeom>
              <a:avLst/>
              <a:gdLst/>
              <a:ahLst/>
              <a:rect l="l" t="t" r="r" b="b"/>
              <a:pathLst>
                <a:path w="217" h="237">
                  <a:moveTo>
                    <a:pt x="217" y="6"/>
                  </a:moveTo>
                  <a:lnTo>
                    <a:pt x="199" y="25"/>
                  </a:lnTo>
                  <a:lnTo>
                    <a:pt x="177" y="44"/>
                  </a:lnTo>
                  <a:lnTo>
                    <a:pt x="146" y="82"/>
                  </a:lnTo>
                  <a:lnTo>
                    <a:pt x="130" y="97"/>
                  </a:lnTo>
                  <a:lnTo>
                    <a:pt x="103" y="105"/>
                  </a:lnTo>
                  <a:lnTo>
                    <a:pt x="90" y="122"/>
                  </a:lnTo>
                  <a:lnTo>
                    <a:pt x="71" y="159"/>
                  </a:lnTo>
                  <a:lnTo>
                    <a:pt x="54" y="200"/>
                  </a:lnTo>
                  <a:lnTo>
                    <a:pt x="42" y="225"/>
                  </a:lnTo>
                  <a:lnTo>
                    <a:pt x="27" y="237"/>
                  </a:lnTo>
                  <a:lnTo>
                    <a:pt x="10" y="236"/>
                  </a:lnTo>
                  <a:lnTo>
                    <a:pt x="0" y="207"/>
                  </a:lnTo>
                  <a:lnTo>
                    <a:pt x="17" y="167"/>
                  </a:lnTo>
                  <a:lnTo>
                    <a:pt x="40" y="121"/>
                  </a:lnTo>
                  <a:lnTo>
                    <a:pt x="55" y="99"/>
                  </a:lnTo>
                  <a:lnTo>
                    <a:pt x="71" y="82"/>
                  </a:lnTo>
                  <a:lnTo>
                    <a:pt x="89" y="72"/>
                  </a:lnTo>
                  <a:lnTo>
                    <a:pt x="107" y="68"/>
                  </a:lnTo>
                  <a:lnTo>
                    <a:pt x="142" y="60"/>
                  </a:lnTo>
                  <a:lnTo>
                    <a:pt x="172" y="37"/>
                  </a:lnTo>
                  <a:lnTo>
                    <a:pt x="180" y="28"/>
                  </a:lnTo>
                  <a:lnTo>
                    <a:pt x="198" y="12"/>
                  </a:lnTo>
                  <a:lnTo>
                    <a:pt x="213" y="0"/>
                  </a:lnTo>
                  <a:lnTo>
                    <a:pt x="217" y="6"/>
                  </a:lnTo>
                  <a:lnTo>
                    <a:pt x="217" y="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50160" y="4664160"/>
              <a:ext cx="266760" cy="306360"/>
            </a:xfrm>
            <a:custGeom>
              <a:avLst/>
              <a:gdLst/>
              <a:ahLst/>
              <a:rect l="l" t="t" r="r" b="b"/>
              <a:pathLst>
                <a:path w="168" h="193">
                  <a:moveTo>
                    <a:pt x="43" y="149"/>
                  </a:moveTo>
                  <a:lnTo>
                    <a:pt x="96" y="150"/>
                  </a:lnTo>
                  <a:lnTo>
                    <a:pt x="144" y="129"/>
                  </a:lnTo>
                  <a:lnTo>
                    <a:pt x="149" y="136"/>
                  </a:lnTo>
                  <a:lnTo>
                    <a:pt x="138" y="146"/>
                  </a:lnTo>
                  <a:lnTo>
                    <a:pt x="122" y="159"/>
                  </a:lnTo>
                  <a:lnTo>
                    <a:pt x="102" y="171"/>
                  </a:lnTo>
                  <a:lnTo>
                    <a:pt x="80" y="182"/>
                  </a:lnTo>
                  <a:lnTo>
                    <a:pt x="38" y="193"/>
                  </a:lnTo>
                  <a:lnTo>
                    <a:pt x="7" y="177"/>
                  </a:lnTo>
                  <a:lnTo>
                    <a:pt x="0" y="145"/>
                  </a:lnTo>
                  <a:lnTo>
                    <a:pt x="13" y="113"/>
                  </a:lnTo>
                  <a:lnTo>
                    <a:pt x="38" y="85"/>
                  </a:lnTo>
                  <a:lnTo>
                    <a:pt x="51" y="74"/>
                  </a:lnTo>
                  <a:lnTo>
                    <a:pt x="64" y="63"/>
                  </a:lnTo>
                  <a:lnTo>
                    <a:pt x="100" y="43"/>
                  </a:lnTo>
                  <a:lnTo>
                    <a:pt x="137" y="23"/>
                  </a:lnTo>
                  <a:lnTo>
                    <a:pt x="161" y="0"/>
                  </a:lnTo>
                  <a:lnTo>
                    <a:pt x="168" y="5"/>
                  </a:lnTo>
                  <a:lnTo>
                    <a:pt x="157" y="22"/>
                  </a:lnTo>
                  <a:lnTo>
                    <a:pt x="140" y="41"/>
                  </a:lnTo>
                  <a:lnTo>
                    <a:pt x="118" y="60"/>
                  </a:lnTo>
                  <a:lnTo>
                    <a:pt x="95" y="80"/>
                  </a:lnTo>
                  <a:lnTo>
                    <a:pt x="73" y="99"/>
                  </a:lnTo>
                  <a:lnTo>
                    <a:pt x="55" y="117"/>
                  </a:lnTo>
                  <a:lnTo>
                    <a:pt x="43" y="149"/>
                  </a:lnTo>
                  <a:lnTo>
                    <a:pt x="43" y="14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57920" y="4668840"/>
              <a:ext cx="403200" cy="436680"/>
            </a:xfrm>
            <a:custGeom>
              <a:avLst/>
              <a:gdLst/>
              <a:ahLst/>
              <a:rect l="l" t="t" r="r" b="b"/>
              <a:pathLst>
                <a:path w="254" h="275">
                  <a:moveTo>
                    <a:pt x="159" y="8"/>
                  </a:moveTo>
                  <a:lnTo>
                    <a:pt x="140" y="27"/>
                  </a:lnTo>
                  <a:lnTo>
                    <a:pt x="121" y="45"/>
                  </a:lnTo>
                  <a:lnTo>
                    <a:pt x="88" y="84"/>
                  </a:lnTo>
                  <a:lnTo>
                    <a:pt x="42" y="176"/>
                  </a:lnTo>
                  <a:lnTo>
                    <a:pt x="43" y="196"/>
                  </a:lnTo>
                  <a:lnTo>
                    <a:pt x="54" y="211"/>
                  </a:lnTo>
                  <a:lnTo>
                    <a:pt x="71" y="223"/>
                  </a:lnTo>
                  <a:lnTo>
                    <a:pt x="90" y="229"/>
                  </a:lnTo>
                  <a:lnTo>
                    <a:pt x="140" y="234"/>
                  </a:lnTo>
                  <a:lnTo>
                    <a:pt x="178" y="224"/>
                  </a:lnTo>
                  <a:lnTo>
                    <a:pt x="210" y="203"/>
                  </a:lnTo>
                  <a:lnTo>
                    <a:pt x="228" y="190"/>
                  </a:lnTo>
                  <a:lnTo>
                    <a:pt x="247" y="175"/>
                  </a:lnTo>
                  <a:lnTo>
                    <a:pt x="254" y="175"/>
                  </a:lnTo>
                  <a:lnTo>
                    <a:pt x="254" y="182"/>
                  </a:lnTo>
                  <a:lnTo>
                    <a:pt x="240" y="201"/>
                  </a:lnTo>
                  <a:lnTo>
                    <a:pt x="223" y="220"/>
                  </a:lnTo>
                  <a:lnTo>
                    <a:pt x="202" y="237"/>
                  </a:lnTo>
                  <a:lnTo>
                    <a:pt x="179" y="253"/>
                  </a:lnTo>
                  <a:lnTo>
                    <a:pt x="155" y="266"/>
                  </a:lnTo>
                  <a:lnTo>
                    <a:pt x="130" y="274"/>
                  </a:lnTo>
                  <a:lnTo>
                    <a:pt x="79" y="275"/>
                  </a:lnTo>
                  <a:lnTo>
                    <a:pt x="43" y="260"/>
                  </a:lnTo>
                  <a:lnTo>
                    <a:pt x="15" y="234"/>
                  </a:lnTo>
                  <a:lnTo>
                    <a:pt x="0" y="201"/>
                  </a:lnTo>
                  <a:lnTo>
                    <a:pt x="3" y="164"/>
                  </a:lnTo>
                  <a:lnTo>
                    <a:pt x="14" y="139"/>
                  </a:lnTo>
                  <a:lnTo>
                    <a:pt x="27" y="117"/>
                  </a:lnTo>
                  <a:lnTo>
                    <a:pt x="42" y="96"/>
                  </a:lnTo>
                  <a:lnTo>
                    <a:pt x="60" y="75"/>
                  </a:lnTo>
                  <a:lnTo>
                    <a:pt x="79" y="55"/>
                  </a:lnTo>
                  <a:lnTo>
                    <a:pt x="103" y="34"/>
                  </a:lnTo>
                  <a:lnTo>
                    <a:pt x="130" y="14"/>
                  </a:lnTo>
                  <a:lnTo>
                    <a:pt x="153" y="0"/>
                  </a:lnTo>
                  <a:lnTo>
                    <a:pt x="159" y="8"/>
                  </a:lnTo>
                  <a:lnTo>
                    <a:pt x="159" y="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880320" y="5095800"/>
              <a:ext cx="426960" cy="1135080"/>
            </a:xfrm>
            <a:custGeom>
              <a:avLst/>
              <a:gdLst/>
              <a:ahLst/>
              <a:rect l="l" t="t" r="r" b="b"/>
              <a:pathLst>
                <a:path w="269" h="715">
                  <a:moveTo>
                    <a:pt x="7" y="0"/>
                  </a:moveTo>
                  <a:lnTo>
                    <a:pt x="36" y="37"/>
                  </a:lnTo>
                  <a:lnTo>
                    <a:pt x="48" y="82"/>
                  </a:lnTo>
                  <a:lnTo>
                    <a:pt x="57" y="123"/>
                  </a:lnTo>
                  <a:lnTo>
                    <a:pt x="70" y="164"/>
                  </a:lnTo>
                  <a:lnTo>
                    <a:pt x="86" y="203"/>
                  </a:lnTo>
                  <a:lnTo>
                    <a:pt x="102" y="243"/>
                  </a:lnTo>
                  <a:lnTo>
                    <a:pt x="120" y="284"/>
                  </a:lnTo>
                  <a:lnTo>
                    <a:pt x="135" y="324"/>
                  </a:lnTo>
                  <a:lnTo>
                    <a:pt x="158" y="406"/>
                  </a:lnTo>
                  <a:lnTo>
                    <a:pt x="184" y="568"/>
                  </a:lnTo>
                  <a:lnTo>
                    <a:pt x="194" y="608"/>
                  </a:lnTo>
                  <a:lnTo>
                    <a:pt x="212" y="644"/>
                  </a:lnTo>
                  <a:lnTo>
                    <a:pt x="236" y="678"/>
                  </a:lnTo>
                  <a:lnTo>
                    <a:pt x="251" y="694"/>
                  </a:lnTo>
                  <a:lnTo>
                    <a:pt x="269" y="708"/>
                  </a:lnTo>
                  <a:lnTo>
                    <a:pt x="264" y="715"/>
                  </a:lnTo>
                  <a:lnTo>
                    <a:pt x="247" y="703"/>
                  </a:lnTo>
                  <a:lnTo>
                    <a:pt x="228" y="690"/>
                  </a:lnTo>
                  <a:lnTo>
                    <a:pt x="209" y="675"/>
                  </a:lnTo>
                  <a:lnTo>
                    <a:pt x="189" y="659"/>
                  </a:lnTo>
                  <a:lnTo>
                    <a:pt x="171" y="644"/>
                  </a:lnTo>
                  <a:lnTo>
                    <a:pt x="155" y="626"/>
                  </a:lnTo>
                  <a:lnTo>
                    <a:pt x="131" y="591"/>
                  </a:lnTo>
                  <a:lnTo>
                    <a:pt x="116" y="503"/>
                  </a:lnTo>
                  <a:lnTo>
                    <a:pt x="108" y="414"/>
                  </a:lnTo>
                  <a:lnTo>
                    <a:pt x="98" y="373"/>
                  </a:lnTo>
                  <a:lnTo>
                    <a:pt x="87" y="332"/>
                  </a:lnTo>
                  <a:lnTo>
                    <a:pt x="74" y="292"/>
                  </a:lnTo>
                  <a:lnTo>
                    <a:pt x="60" y="251"/>
                  </a:lnTo>
                  <a:lnTo>
                    <a:pt x="46" y="210"/>
                  </a:lnTo>
                  <a:lnTo>
                    <a:pt x="34" y="169"/>
                  </a:lnTo>
                  <a:lnTo>
                    <a:pt x="17" y="86"/>
                  </a:lnTo>
                  <a:lnTo>
                    <a:pt x="17" y="45"/>
                  </a:lnTo>
                  <a:lnTo>
                    <a:pt x="13" y="24"/>
                  </a:lnTo>
                  <a:lnTo>
                    <a:pt x="0" y="6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397640" y="5878440"/>
              <a:ext cx="695520" cy="428760"/>
            </a:xfrm>
            <a:custGeom>
              <a:avLst/>
              <a:gdLst/>
              <a:ahLst/>
              <a:rect l="l" t="t" r="r" b="b"/>
              <a:pathLst>
                <a:path w="438" h="270">
                  <a:moveTo>
                    <a:pt x="3" y="244"/>
                  </a:moveTo>
                  <a:lnTo>
                    <a:pt x="92" y="255"/>
                  </a:lnTo>
                  <a:lnTo>
                    <a:pt x="174" y="238"/>
                  </a:lnTo>
                  <a:lnTo>
                    <a:pt x="209" y="219"/>
                  </a:lnTo>
                  <a:lnTo>
                    <a:pt x="243" y="194"/>
                  </a:lnTo>
                  <a:lnTo>
                    <a:pt x="273" y="162"/>
                  </a:lnTo>
                  <a:lnTo>
                    <a:pt x="299" y="125"/>
                  </a:lnTo>
                  <a:lnTo>
                    <a:pt x="314" y="104"/>
                  </a:lnTo>
                  <a:lnTo>
                    <a:pt x="328" y="86"/>
                  </a:lnTo>
                  <a:lnTo>
                    <a:pt x="345" y="71"/>
                  </a:lnTo>
                  <a:lnTo>
                    <a:pt x="362" y="58"/>
                  </a:lnTo>
                  <a:lnTo>
                    <a:pt x="379" y="45"/>
                  </a:lnTo>
                  <a:lnTo>
                    <a:pt x="396" y="32"/>
                  </a:lnTo>
                  <a:lnTo>
                    <a:pt x="414" y="17"/>
                  </a:lnTo>
                  <a:lnTo>
                    <a:pt x="432" y="0"/>
                  </a:lnTo>
                  <a:lnTo>
                    <a:pt x="438" y="7"/>
                  </a:lnTo>
                  <a:lnTo>
                    <a:pt x="411" y="40"/>
                  </a:lnTo>
                  <a:lnTo>
                    <a:pt x="388" y="75"/>
                  </a:lnTo>
                  <a:lnTo>
                    <a:pt x="368" y="112"/>
                  </a:lnTo>
                  <a:lnTo>
                    <a:pt x="347" y="149"/>
                  </a:lnTo>
                  <a:lnTo>
                    <a:pt x="333" y="172"/>
                  </a:lnTo>
                  <a:lnTo>
                    <a:pt x="318" y="193"/>
                  </a:lnTo>
                  <a:lnTo>
                    <a:pt x="300" y="210"/>
                  </a:lnTo>
                  <a:lnTo>
                    <a:pt x="281" y="225"/>
                  </a:lnTo>
                  <a:lnTo>
                    <a:pt x="262" y="238"/>
                  </a:lnTo>
                  <a:lnTo>
                    <a:pt x="240" y="247"/>
                  </a:lnTo>
                  <a:lnTo>
                    <a:pt x="195" y="262"/>
                  </a:lnTo>
                  <a:lnTo>
                    <a:pt x="99" y="270"/>
                  </a:lnTo>
                  <a:lnTo>
                    <a:pt x="0" y="254"/>
                  </a:lnTo>
                  <a:lnTo>
                    <a:pt x="3" y="244"/>
                  </a:lnTo>
                  <a:lnTo>
                    <a:pt x="3" y="24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72400" y="3908520"/>
              <a:ext cx="301680" cy="333360"/>
            </a:xfrm>
            <a:custGeom>
              <a:avLst/>
              <a:gdLst/>
              <a:ahLst/>
              <a:rect l="l" t="t" r="r" b="b"/>
              <a:pathLst>
                <a:path w="190" h="210">
                  <a:moveTo>
                    <a:pt x="87" y="70"/>
                  </a:moveTo>
                  <a:lnTo>
                    <a:pt x="151" y="96"/>
                  </a:lnTo>
                  <a:lnTo>
                    <a:pt x="178" y="123"/>
                  </a:lnTo>
                  <a:lnTo>
                    <a:pt x="189" y="150"/>
                  </a:lnTo>
                  <a:lnTo>
                    <a:pt x="190" y="207"/>
                  </a:lnTo>
                  <a:lnTo>
                    <a:pt x="182" y="210"/>
                  </a:lnTo>
                  <a:lnTo>
                    <a:pt x="166" y="187"/>
                  </a:lnTo>
                  <a:lnTo>
                    <a:pt x="149" y="164"/>
                  </a:lnTo>
                  <a:lnTo>
                    <a:pt x="135" y="141"/>
                  </a:lnTo>
                  <a:lnTo>
                    <a:pt x="120" y="123"/>
                  </a:lnTo>
                  <a:lnTo>
                    <a:pt x="101" y="112"/>
                  </a:lnTo>
                  <a:lnTo>
                    <a:pt x="71" y="109"/>
                  </a:lnTo>
                  <a:lnTo>
                    <a:pt x="54" y="105"/>
                  </a:lnTo>
                  <a:lnTo>
                    <a:pt x="48" y="91"/>
                  </a:lnTo>
                  <a:lnTo>
                    <a:pt x="42" y="42"/>
                  </a:lnTo>
                  <a:lnTo>
                    <a:pt x="34" y="16"/>
                  </a:lnTo>
                  <a:lnTo>
                    <a:pt x="19" y="8"/>
                  </a:lnTo>
                  <a:lnTo>
                    <a:pt x="8" y="13"/>
                  </a:lnTo>
                  <a:lnTo>
                    <a:pt x="0" y="8"/>
                  </a:lnTo>
                  <a:lnTo>
                    <a:pt x="6" y="0"/>
                  </a:lnTo>
                  <a:lnTo>
                    <a:pt x="35" y="2"/>
                  </a:lnTo>
                  <a:lnTo>
                    <a:pt x="61" y="17"/>
                  </a:lnTo>
                  <a:lnTo>
                    <a:pt x="87" y="70"/>
                  </a:lnTo>
                  <a:lnTo>
                    <a:pt x="87" y="7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183520" y="4444920"/>
              <a:ext cx="222120" cy="169920"/>
            </a:xfrm>
            <a:custGeom>
              <a:avLst/>
              <a:gdLst/>
              <a:ahLst/>
              <a:rect l="l" t="t" r="r" b="b"/>
              <a:pathLst>
                <a:path w="140" h="107">
                  <a:moveTo>
                    <a:pt x="117" y="45"/>
                  </a:moveTo>
                  <a:lnTo>
                    <a:pt x="132" y="48"/>
                  </a:lnTo>
                  <a:lnTo>
                    <a:pt x="120" y="56"/>
                  </a:lnTo>
                  <a:lnTo>
                    <a:pt x="75" y="74"/>
                  </a:lnTo>
                  <a:lnTo>
                    <a:pt x="57" y="87"/>
                  </a:lnTo>
                  <a:lnTo>
                    <a:pt x="40" y="101"/>
                  </a:lnTo>
                  <a:lnTo>
                    <a:pt x="21" y="107"/>
                  </a:lnTo>
                  <a:lnTo>
                    <a:pt x="6" y="99"/>
                  </a:lnTo>
                  <a:lnTo>
                    <a:pt x="0" y="85"/>
                  </a:lnTo>
                  <a:lnTo>
                    <a:pt x="9" y="67"/>
                  </a:lnTo>
                  <a:lnTo>
                    <a:pt x="23" y="53"/>
                  </a:lnTo>
                  <a:lnTo>
                    <a:pt x="34" y="42"/>
                  </a:lnTo>
                  <a:lnTo>
                    <a:pt x="52" y="28"/>
                  </a:lnTo>
                  <a:lnTo>
                    <a:pt x="108" y="0"/>
                  </a:lnTo>
                  <a:lnTo>
                    <a:pt x="132" y="0"/>
                  </a:lnTo>
                  <a:lnTo>
                    <a:pt x="140" y="17"/>
                  </a:lnTo>
                  <a:lnTo>
                    <a:pt x="140" y="38"/>
                  </a:lnTo>
                  <a:lnTo>
                    <a:pt x="131" y="40"/>
                  </a:lnTo>
                  <a:lnTo>
                    <a:pt x="117" y="45"/>
                  </a:lnTo>
                  <a:lnTo>
                    <a:pt x="117" y="4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12080" y="4440240"/>
              <a:ext cx="585720" cy="311040"/>
            </a:xfrm>
            <a:custGeom>
              <a:avLst/>
              <a:gdLst/>
              <a:ahLst/>
              <a:rect l="l" t="t" r="r" b="b"/>
              <a:pathLst>
                <a:path w="369" h="196">
                  <a:moveTo>
                    <a:pt x="33" y="0"/>
                  </a:moveTo>
                  <a:lnTo>
                    <a:pt x="77" y="3"/>
                  </a:lnTo>
                  <a:lnTo>
                    <a:pt x="111" y="32"/>
                  </a:lnTo>
                  <a:lnTo>
                    <a:pt x="140" y="69"/>
                  </a:lnTo>
                  <a:lnTo>
                    <a:pt x="156" y="88"/>
                  </a:lnTo>
                  <a:lnTo>
                    <a:pt x="175" y="102"/>
                  </a:lnTo>
                  <a:lnTo>
                    <a:pt x="202" y="117"/>
                  </a:lnTo>
                  <a:lnTo>
                    <a:pt x="236" y="133"/>
                  </a:lnTo>
                  <a:lnTo>
                    <a:pt x="270" y="146"/>
                  </a:lnTo>
                  <a:lnTo>
                    <a:pt x="300" y="150"/>
                  </a:lnTo>
                  <a:lnTo>
                    <a:pt x="348" y="143"/>
                  </a:lnTo>
                  <a:lnTo>
                    <a:pt x="369" y="146"/>
                  </a:lnTo>
                  <a:lnTo>
                    <a:pt x="361" y="162"/>
                  </a:lnTo>
                  <a:lnTo>
                    <a:pt x="343" y="175"/>
                  </a:lnTo>
                  <a:lnTo>
                    <a:pt x="322" y="185"/>
                  </a:lnTo>
                  <a:lnTo>
                    <a:pt x="273" y="196"/>
                  </a:lnTo>
                  <a:lnTo>
                    <a:pt x="223" y="195"/>
                  </a:lnTo>
                  <a:lnTo>
                    <a:pt x="178" y="179"/>
                  </a:lnTo>
                  <a:lnTo>
                    <a:pt x="141" y="154"/>
                  </a:lnTo>
                  <a:lnTo>
                    <a:pt x="125" y="138"/>
                  </a:lnTo>
                  <a:lnTo>
                    <a:pt x="109" y="122"/>
                  </a:lnTo>
                  <a:lnTo>
                    <a:pt x="77" y="89"/>
                  </a:lnTo>
                  <a:lnTo>
                    <a:pt x="48" y="56"/>
                  </a:lnTo>
                  <a:lnTo>
                    <a:pt x="23" y="37"/>
                  </a:lnTo>
                  <a:lnTo>
                    <a:pt x="0" y="19"/>
                  </a:lnTo>
                  <a:lnTo>
                    <a:pt x="12" y="7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609040" y="1558800"/>
              <a:ext cx="156960" cy="4745160"/>
            </a:xfrm>
            <a:custGeom>
              <a:avLst/>
              <a:gdLst/>
              <a:ahLst/>
              <a:rect l="l" t="t" r="r" b="b"/>
              <a:pathLst>
                <a:path w="99" h="2989">
                  <a:moveTo>
                    <a:pt x="89" y="6"/>
                  </a:moveTo>
                  <a:lnTo>
                    <a:pt x="93" y="768"/>
                  </a:lnTo>
                  <a:lnTo>
                    <a:pt x="97" y="1135"/>
                  </a:lnTo>
                  <a:lnTo>
                    <a:pt x="97" y="1139"/>
                  </a:lnTo>
                  <a:lnTo>
                    <a:pt x="97" y="1139"/>
                  </a:lnTo>
                  <a:lnTo>
                    <a:pt x="97" y="1140"/>
                  </a:lnTo>
                  <a:lnTo>
                    <a:pt x="97" y="1141"/>
                  </a:lnTo>
                  <a:lnTo>
                    <a:pt x="97" y="1144"/>
                  </a:lnTo>
                  <a:lnTo>
                    <a:pt x="97" y="1145"/>
                  </a:lnTo>
                  <a:lnTo>
                    <a:pt x="97" y="1147"/>
                  </a:lnTo>
                  <a:lnTo>
                    <a:pt x="97" y="1149"/>
                  </a:lnTo>
                  <a:lnTo>
                    <a:pt x="97" y="1151"/>
                  </a:lnTo>
                  <a:lnTo>
                    <a:pt x="97" y="1152"/>
                  </a:lnTo>
                  <a:lnTo>
                    <a:pt x="97" y="1154"/>
                  </a:lnTo>
                  <a:lnTo>
                    <a:pt x="97" y="1157"/>
                  </a:lnTo>
                  <a:lnTo>
                    <a:pt x="97" y="1161"/>
                  </a:lnTo>
                  <a:lnTo>
                    <a:pt x="97" y="1164"/>
                  </a:lnTo>
                  <a:lnTo>
                    <a:pt x="97" y="1166"/>
                  </a:lnTo>
                  <a:lnTo>
                    <a:pt x="97" y="1169"/>
                  </a:lnTo>
                  <a:lnTo>
                    <a:pt x="97" y="1172"/>
                  </a:lnTo>
                  <a:lnTo>
                    <a:pt x="97" y="1174"/>
                  </a:lnTo>
                  <a:lnTo>
                    <a:pt x="97" y="1177"/>
                  </a:lnTo>
                  <a:lnTo>
                    <a:pt x="97" y="1181"/>
                  </a:lnTo>
                  <a:lnTo>
                    <a:pt x="97" y="1186"/>
                  </a:lnTo>
                  <a:lnTo>
                    <a:pt x="97" y="1191"/>
                  </a:lnTo>
                  <a:lnTo>
                    <a:pt x="97" y="1198"/>
                  </a:lnTo>
                  <a:lnTo>
                    <a:pt x="97" y="1203"/>
                  </a:lnTo>
                  <a:lnTo>
                    <a:pt x="97" y="1209"/>
                  </a:lnTo>
                  <a:lnTo>
                    <a:pt x="97" y="1214"/>
                  </a:lnTo>
                  <a:lnTo>
                    <a:pt x="97" y="1221"/>
                  </a:lnTo>
                  <a:lnTo>
                    <a:pt x="97" y="1226"/>
                  </a:lnTo>
                  <a:lnTo>
                    <a:pt x="97" y="1231"/>
                  </a:lnTo>
                  <a:lnTo>
                    <a:pt x="97" y="1234"/>
                  </a:lnTo>
                  <a:lnTo>
                    <a:pt x="97" y="1238"/>
                  </a:lnTo>
                  <a:lnTo>
                    <a:pt x="97" y="1240"/>
                  </a:lnTo>
                  <a:lnTo>
                    <a:pt x="97" y="1243"/>
                  </a:lnTo>
                  <a:lnTo>
                    <a:pt x="97" y="1246"/>
                  </a:lnTo>
                  <a:lnTo>
                    <a:pt x="97" y="1248"/>
                  </a:lnTo>
                  <a:lnTo>
                    <a:pt x="97" y="1251"/>
                  </a:lnTo>
                  <a:lnTo>
                    <a:pt x="97" y="1254"/>
                  </a:lnTo>
                  <a:lnTo>
                    <a:pt x="97" y="1258"/>
                  </a:lnTo>
                  <a:lnTo>
                    <a:pt x="97" y="1260"/>
                  </a:lnTo>
                  <a:lnTo>
                    <a:pt x="97" y="1262"/>
                  </a:lnTo>
                  <a:lnTo>
                    <a:pt x="97" y="1263"/>
                  </a:lnTo>
                  <a:lnTo>
                    <a:pt x="97" y="1266"/>
                  </a:lnTo>
                  <a:lnTo>
                    <a:pt x="97" y="1267"/>
                  </a:lnTo>
                  <a:lnTo>
                    <a:pt x="97" y="1268"/>
                  </a:lnTo>
                  <a:lnTo>
                    <a:pt x="97" y="1271"/>
                  </a:lnTo>
                  <a:lnTo>
                    <a:pt x="97" y="1272"/>
                  </a:lnTo>
                  <a:lnTo>
                    <a:pt x="97" y="1272"/>
                  </a:lnTo>
                  <a:lnTo>
                    <a:pt x="97" y="1273"/>
                  </a:lnTo>
                  <a:lnTo>
                    <a:pt x="97" y="1277"/>
                  </a:lnTo>
                  <a:lnTo>
                    <a:pt x="97" y="1277"/>
                  </a:lnTo>
                  <a:lnTo>
                    <a:pt x="97" y="1277"/>
                  </a:lnTo>
                  <a:lnTo>
                    <a:pt x="97" y="1279"/>
                  </a:lnTo>
                  <a:lnTo>
                    <a:pt x="97" y="1280"/>
                  </a:lnTo>
                  <a:lnTo>
                    <a:pt x="97" y="1283"/>
                  </a:lnTo>
                  <a:lnTo>
                    <a:pt x="97" y="1283"/>
                  </a:lnTo>
                  <a:lnTo>
                    <a:pt x="97" y="1283"/>
                  </a:lnTo>
                  <a:lnTo>
                    <a:pt x="97" y="1283"/>
                  </a:lnTo>
                  <a:lnTo>
                    <a:pt x="97" y="1283"/>
                  </a:lnTo>
                  <a:lnTo>
                    <a:pt x="97" y="1283"/>
                  </a:lnTo>
                  <a:lnTo>
                    <a:pt x="97" y="1283"/>
                  </a:lnTo>
                  <a:lnTo>
                    <a:pt x="97" y="1284"/>
                  </a:lnTo>
                  <a:lnTo>
                    <a:pt x="97" y="1285"/>
                  </a:lnTo>
                  <a:lnTo>
                    <a:pt x="97" y="1287"/>
                  </a:lnTo>
                  <a:lnTo>
                    <a:pt x="97" y="1288"/>
                  </a:lnTo>
                  <a:lnTo>
                    <a:pt x="97" y="1288"/>
                  </a:lnTo>
                  <a:lnTo>
                    <a:pt x="97" y="1288"/>
                  </a:lnTo>
                  <a:lnTo>
                    <a:pt x="97" y="1291"/>
                  </a:lnTo>
                  <a:lnTo>
                    <a:pt x="97" y="1292"/>
                  </a:lnTo>
                  <a:lnTo>
                    <a:pt x="97" y="1293"/>
                  </a:lnTo>
                  <a:lnTo>
                    <a:pt x="97" y="1293"/>
                  </a:lnTo>
                  <a:lnTo>
                    <a:pt x="97" y="1297"/>
                  </a:lnTo>
                  <a:lnTo>
                    <a:pt x="97" y="1299"/>
                  </a:lnTo>
                  <a:lnTo>
                    <a:pt x="97" y="1300"/>
                  </a:lnTo>
                  <a:lnTo>
                    <a:pt x="99" y="1303"/>
                  </a:lnTo>
                  <a:lnTo>
                    <a:pt x="99" y="1304"/>
                  </a:lnTo>
                  <a:lnTo>
                    <a:pt x="99" y="1305"/>
                  </a:lnTo>
                  <a:lnTo>
                    <a:pt x="99" y="1308"/>
                  </a:lnTo>
                  <a:lnTo>
                    <a:pt x="99" y="1310"/>
                  </a:lnTo>
                  <a:lnTo>
                    <a:pt x="99" y="1313"/>
                  </a:lnTo>
                  <a:lnTo>
                    <a:pt x="99" y="1317"/>
                  </a:lnTo>
                  <a:lnTo>
                    <a:pt x="99" y="1497"/>
                  </a:lnTo>
                  <a:lnTo>
                    <a:pt x="99" y="1588"/>
                  </a:lnTo>
                  <a:lnTo>
                    <a:pt x="99" y="1678"/>
                  </a:lnTo>
                  <a:lnTo>
                    <a:pt x="99" y="1859"/>
                  </a:lnTo>
                  <a:lnTo>
                    <a:pt x="96" y="2227"/>
                  </a:lnTo>
                  <a:lnTo>
                    <a:pt x="89" y="2602"/>
                  </a:lnTo>
                  <a:lnTo>
                    <a:pt x="76" y="2989"/>
                  </a:lnTo>
                  <a:lnTo>
                    <a:pt x="13" y="2989"/>
                  </a:lnTo>
                  <a:lnTo>
                    <a:pt x="0" y="2147"/>
                  </a:lnTo>
                  <a:lnTo>
                    <a:pt x="7" y="1710"/>
                  </a:lnTo>
                  <a:lnTo>
                    <a:pt x="16" y="1281"/>
                  </a:lnTo>
                  <a:lnTo>
                    <a:pt x="28" y="881"/>
                  </a:lnTo>
                  <a:lnTo>
                    <a:pt x="40" y="523"/>
                  </a:lnTo>
                  <a:lnTo>
                    <a:pt x="53" y="0"/>
                  </a:lnTo>
                  <a:lnTo>
                    <a:pt x="89" y="6"/>
                  </a:lnTo>
                  <a:lnTo>
                    <a:pt x="89" y="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372360" y="1832040"/>
              <a:ext cx="644400" cy="2379600"/>
            </a:xfrm>
            <a:custGeom>
              <a:avLst/>
              <a:gdLst/>
              <a:ahLst/>
              <a:rect l="l" t="t" r="r" b="b"/>
              <a:pathLst>
                <a:path w="406" h="1499">
                  <a:moveTo>
                    <a:pt x="406" y="1499"/>
                  </a:moveTo>
                  <a:lnTo>
                    <a:pt x="289" y="1478"/>
                  </a:lnTo>
                  <a:lnTo>
                    <a:pt x="233" y="1457"/>
                  </a:lnTo>
                  <a:lnTo>
                    <a:pt x="182" y="1429"/>
                  </a:lnTo>
                  <a:lnTo>
                    <a:pt x="157" y="1413"/>
                  </a:lnTo>
                  <a:lnTo>
                    <a:pt x="134" y="1396"/>
                  </a:lnTo>
                  <a:lnTo>
                    <a:pt x="113" y="1378"/>
                  </a:lnTo>
                  <a:lnTo>
                    <a:pt x="92" y="1358"/>
                  </a:lnTo>
                  <a:lnTo>
                    <a:pt x="56" y="1317"/>
                  </a:lnTo>
                  <a:lnTo>
                    <a:pt x="27" y="1273"/>
                  </a:lnTo>
                  <a:lnTo>
                    <a:pt x="0" y="1182"/>
                  </a:lnTo>
                  <a:lnTo>
                    <a:pt x="0" y="1137"/>
                  </a:lnTo>
                  <a:lnTo>
                    <a:pt x="11" y="1094"/>
                  </a:lnTo>
                  <a:lnTo>
                    <a:pt x="22" y="1071"/>
                  </a:lnTo>
                  <a:lnTo>
                    <a:pt x="37" y="1050"/>
                  </a:lnTo>
                  <a:lnTo>
                    <a:pt x="54" y="1030"/>
                  </a:lnTo>
                  <a:lnTo>
                    <a:pt x="76" y="1012"/>
                  </a:lnTo>
                  <a:lnTo>
                    <a:pt x="102" y="993"/>
                  </a:lnTo>
                  <a:lnTo>
                    <a:pt x="130" y="976"/>
                  </a:lnTo>
                  <a:lnTo>
                    <a:pt x="164" y="960"/>
                  </a:lnTo>
                  <a:lnTo>
                    <a:pt x="202" y="945"/>
                  </a:lnTo>
                  <a:lnTo>
                    <a:pt x="238" y="916"/>
                  </a:lnTo>
                  <a:lnTo>
                    <a:pt x="251" y="871"/>
                  </a:lnTo>
                  <a:lnTo>
                    <a:pt x="244" y="823"/>
                  </a:lnTo>
                  <a:lnTo>
                    <a:pt x="233" y="801"/>
                  </a:lnTo>
                  <a:lnTo>
                    <a:pt x="217" y="784"/>
                  </a:lnTo>
                  <a:lnTo>
                    <a:pt x="201" y="770"/>
                  </a:lnTo>
                  <a:lnTo>
                    <a:pt x="186" y="756"/>
                  </a:lnTo>
                  <a:lnTo>
                    <a:pt x="163" y="731"/>
                  </a:lnTo>
                  <a:lnTo>
                    <a:pt x="136" y="686"/>
                  </a:lnTo>
                  <a:lnTo>
                    <a:pt x="129" y="648"/>
                  </a:lnTo>
                  <a:lnTo>
                    <a:pt x="138" y="614"/>
                  </a:lnTo>
                  <a:lnTo>
                    <a:pt x="157" y="583"/>
                  </a:lnTo>
                  <a:lnTo>
                    <a:pt x="181" y="553"/>
                  </a:lnTo>
                  <a:lnTo>
                    <a:pt x="212" y="489"/>
                  </a:lnTo>
                  <a:lnTo>
                    <a:pt x="210" y="448"/>
                  </a:lnTo>
                  <a:lnTo>
                    <a:pt x="195" y="414"/>
                  </a:lnTo>
                  <a:lnTo>
                    <a:pt x="170" y="386"/>
                  </a:lnTo>
                  <a:lnTo>
                    <a:pt x="155" y="374"/>
                  </a:lnTo>
                  <a:lnTo>
                    <a:pt x="138" y="361"/>
                  </a:lnTo>
                  <a:lnTo>
                    <a:pt x="107" y="336"/>
                  </a:lnTo>
                  <a:lnTo>
                    <a:pt x="77" y="307"/>
                  </a:lnTo>
                  <a:lnTo>
                    <a:pt x="53" y="273"/>
                  </a:lnTo>
                  <a:lnTo>
                    <a:pt x="41" y="228"/>
                  </a:lnTo>
                  <a:lnTo>
                    <a:pt x="45" y="163"/>
                  </a:lnTo>
                  <a:lnTo>
                    <a:pt x="56" y="134"/>
                  </a:lnTo>
                  <a:lnTo>
                    <a:pt x="71" y="107"/>
                  </a:lnTo>
                  <a:lnTo>
                    <a:pt x="90" y="82"/>
                  </a:lnTo>
                  <a:lnTo>
                    <a:pt x="111" y="58"/>
                  </a:lnTo>
                  <a:lnTo>
                    <a:pt x="137" y="39"/>
                  </a:lnTo>
                  <a:lnTo>
                    <a:pt x="164" y="20"/>
                  </a:lnTo>
                  <a:lnTo>
                    <a:pt x="197" y="6"/>
                  </a:lnTo>
                  <a:lnTo>
                    <a:pt x="228" y="0"/>
                  </a:lnTo>
                  <a:lnTo>
                    <a:pt x="285" y="11"/>
                  </a:lnTo>
                  <a:lnTo>
                    <a:pt x="331" y="43"/>
                  </a:lnTo>
                  <a:lnTo>
                    <a:pt x="362" y="88"/>
                  </a:lnTo>
                  <a:lnTo>
                    <a:pt x="373" y="135"/>
                  </a:lnTo>
                  <a:lnTo>
                    <a:pt x="371" y="158"/>
                  </a:lnTo>
                  <a:lnTo>
                    <a:pt x="361" y="177"/>
                  </a:lnTo>
                  <a:lnTo>
                    <a:pt x="345" y="192"/>
                  </a:lnTo>
                  <a:lnTo>
                    <a:pt x="320" y="204"/>
                  </a:lnTo>
                  <a:lnTo>
                    <a:pt x="247" y="205"/>
                  </a:lnTo>
                  <a:lnTo>
                    <a:pt x="246" y="197"/>
                  </a:lnTo>
                  <a:lnTo>
                    <a:pt x="311" y="179"/>
                  </a:lnTo>
                  <a:lnTo>
                    <a:pt x="343" y="152"/>
                  </a:lnTo>
                  <a:lnTo>
                    <a:pt x="349" y="122"/>
                  </a:lnTo>
                  <a:lnTo>
                    <a:pt x="334" y="90"/>
                  </a:lnTo>
                  <a:lnTo>
                    <a:pt x="320" y="76"/>
                  </a:lnTo>
                  <a:lnTo>
                    <a:pt x="304" y="64"/>
                  </a:lnTo>
                  <a:lnTo>
                    <a:pt x="285" y="52"/>
                  </a:lnTo>
                  <a:lnTo>
                    <a:pt x="266" y="44"/>
                  </a:lnTo>
                  <a:lnTo>
                    <a:pt x="224" y="39"/>
                  </a:lnTo>
                  <a:lnTo>
                    <a:pt x="183" y="49"/>
                  </a:lnTo>
                  <a:lnTo>
                    <a:pt x="160" y="65"/>
                  </a:lnTo>
                  <a:lnTo>
                    <a:pt x="140" y="82"/>
                  </a:lnTo>
                  <a:lnTo>
                    <a:pt x="106" y="122"/>
                  </a:lnTo>
                  <a:lnTo>
                    <a:pt x="86" y="170"/>
                  </a:lnTo>
                  <a:lnTo>
                    <a:pt x="83" y="224"/>
                  </a:lnTo>
                  <a:lnTo>
                    <a:pt x="95" y="262"/>
                  </a:lnTo>
                  <a:lnTo>
                    <a:pt x="119" y="294"/>
                  </a:lnTo>
                  <a:lnTo>
                    <a:pt x="134" y="307"/>
                  </a:lnTo>
                  <a:lnTo>
                    <a:pt x="151" y="322"/>
                  </a:lnTo>
                  <a:lnTo>
                    <a:pt x="167" y="333"/>
                  </a:lnTo>
                  <a:lnTo>
                    <a:pt x="185" y="347"/>
                  </a:lnTo>
                  <a:lnTo>
                    <a:pt x="244" y="406"/>
                  </a:lnTo>
                  <a:lnTo>
                    <a:pt x="259" y="446"/>
                  </a:lnTo>
                  <a:lnTo>
                    <a:pt x="262" y="470"/>
                  </a:lnTo>
                  <a:lnTo>
                    <a:pt x="259" y="496"/>
                  </a:lnTo>
                  <a:lnTo>
                    <a:pt x="248" y="529"/>
                  </a:lnTo>
                  <a:lnTo>
                    <a:pt x="231" y="558"/>
                  </a:lnTo>
                  <a:lnTo>
                    <a:pt x="209" y="585"/>
                  </a:lnTo>
                  <a:lnTo>
                    <a:pt x="191" y="611"/>
                  </a:lnTo>
                  <a:lnTo>
                    <a:pt x="183" y="669"/>
                  </a:lnTo>
                  <a:lnTo>
                    <a:pt x="190" y="686"/>
                  </a:lnTo>
                  <a:lnTo>
                    <a:pt x="204" y="705"/>
                  </a:lnTo>
                  <a:lnTo>
                    <a:pt x="221" y="725"/>
                  </a:lnTo>
                  <a:lnTo>
                    <a:pt x="247" y="747"/>
                  </a:lnTo>
                  <a:lnTo>
                    <a:pt x="284" y="803"/>
                  </a:lnTo>
                  <a:lnTo>
                    <a:pt x="290" y="874"/>
                  </a:lnTo>
                  <a:lnTo>
                    <a:pt x="282" y="908"/>
                  </a:lnTo>
                  <a:lnTo>
                    <a:pt x="266" y="939"/>
                  </a:lnTo>
                  <a:lnTo>
                    <a:pt x="243" y="964"/>
                  </a:lnTo>
                  <a:lnTo>
                    <a:pt x="213" y="981"/>
                  </a:lnTo>
                  <a:lnTo>
                    <a:pt x="160" y="997"/>
                  </a:lnTo>
                  <a:lnTo>
                    <a:pt x="107" y="1017"/>
                  </a:lnTo>
                  <a:lnTo>
                    <a:pt x="64" y="1049"/>
                  </a:lnTo>
                  <a:lnTo>
                    <a:pt x="38" y="1097"/>
                  </a:lnTo>
                  <a:lnTo>
                    <a:pt x="34" y="1168"/>
                  </a:lnTo>
                  <a:lnTo>
                    <a:pt x="41" y="1202"/>
                  </a:lnTo>
                  <a:lnTo>
                    <a:pt x="52" y="1236"/>
                  </a:lnTo>
                  <a:lnTo>
                    <a:pt x="68" y="1269"/>
                  </a:lnTo>
                  <a:lnTo>
                    <a:pt x="88" y="1301"/>
                  </a:lnTo>
                  <a:lnTo>
                    <a:pt x="113" y="1331"/>
                  </a:lnTo>
                  <a:lnTo>
                    <a:pt x="140" y="1361"/>
                  </a:lnTo>
                  <a:lnTo>
                    <a:pt x="155" y="1375"/>
                  </a:lnTo>
                  <a:lnTo>
                    <a:pt x="170" y="1387"/>
                  </a:lnTo>
                  <a:lnTo>
                    <a:pt x="185" y="1400"/>
                  </a:lnTo>
                  <a:lnTo>
                    <a:pt x="201" y="1412"/>
                  </a:lnTo>
                  <a:lnTo>
                    <a:pt x="233" y="1433"/>
                  </a:lnTo>
                  <a:lnTo>
                    <a:pt x="269" y="1452"/>
                  </a:lnTo>
                  <a:lnTo>
                    <a:pt x="303" y="1468"/>
                  </a:lnTo>
                  <a:lnTo>
                    <a:pt x="338" y="1479"/>
                  </a:lnTo>
                  <a:lnTo>
                    <a:pt x="406" y="1490"/>
                  </a:lnTo>
                  <a:lnTo>
                    <a:pt x="406" y="1499"/>
                  </a:lnTo>
                  <a:lnTo>
                    <a:pt x="406" y="149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91240" y="2089080"/>
              <a:ext cx="422280" cy="2011320"/>
            </a:xfrm>
            <a:custGeom>
              <a:avLst/>
              <a:gdLst/>
              <a:ahLst/>
              <a:rect l="l" t="t" r="r" b="b"/>
              <a:pathLst>
                <a:path w="266" h="1267">
                  <a:moveTo>
                    <a:pt x="94" y="5"/>
                  </a:moveTo>
                  <a:lnTo>
                    <a:pt x="38" y="35"/>
                  </a:lnTo>
                  <a:lnTo>
                    <a:pt x="32" y="50"/>
                  </a:lnTo>
                  <a:lnTo>
                    <a:pt x="36" y="64"/>
                  </a:lnTo>
                  <a:lnTo>
                    <a:pt x="49" y="79"/>
                  </a:lnTo>
                  <a:lnTo>
                    <a:pt x="71" y="95"/>
                  </a:lnTo>
                  <a:lnTo>
                    <a:pt x="98" y="111"/>
                  </a:lnTo>
                  <a:lnTo>
                    <a:pt x="128" y="128"/>
                  </a:lnTo>
                  <a:lnTo>
                    <a:pt x="159" y="146"/>
                  </a:lnTo>
                  <a:lnTo>
                    <a:pt x="190" y="166"/>
                  </a:lnTo>
                  <a:lnTo>
                    <a:pt x="219" y="189"/>
                  </a:lnTo>
                  <a:lnTo>
                    <a:pt x="242" y="211"/>
                  </a:lnTo>
                  <a:lnTo>
                    <a:pt x="266" y="265"/>
                  </a:lnTo>
                  <a:lnTo>
                    <a:pt x="264" y="296"/>
                  </a:lnTo>
                  <a:lnTo>
                    <a:pt x="249" y="329"/>
                  </a:lnTo>
                  <a:lnTo>
                    <a:pt x="212" y="411"/>
                  </a:lnTo>
                  <a:lnTo>
                    <a:pt x="204" y="494"/>
                  </a:lnTo>
                  <a:lnTo>
                    <a:pt x="214" y="577"/>
                  </a:lnTo>
                  <a:lnTo>
                    <a:pt x="231" y="659"/>
                  </a:lnTo>
                  <a:lnTo>
                    <a:pt x="254" y="814"/>
                  </a:lnTo>
                  <a:lnTo>
                    <a:pt x="250" y="850"/>
                  </a:lnTo>
                  <a:lnTo>
                    <a:pt x="239" y="884"/>
                  </a:lnTo>
                  <a:lnTo>
                    <a:pt x="220" y="917"/>
                  </a:lnTo>
                  <a:lnTo>
                    <a:pt x="195" y="947"/>
                  </a:lnTo>
                  <a:lnTo>
                    <a:pt x="173" y="969"/>
                  </a:lnTo>
                  <a:lnTo>
                    <a:pt x="151" y="988"/>
                  </a:lnTo>
                  <a:lnTo>
                    <a:pt x="117" y="1029"/>
                  </a:lnTo>
                  <a:lnTo>
                    <a:pt x="100" y="1077"/>
                  </a:lnTo>
                  <a:lnTo>
                    <a:pt x="104" y="1138"/>
                  </a:lnTo>
                  <a:lnTo>
                    <a:pt x="113" y="1172"/>
                  </a:lnTo>
                  <a:lnTo>
                    <a:pt x="127" y="1205"/>
                  </a:lnTo>
                  <a:lnTo>
                    <a:pt x="146" y="1236"/>
                  </a:lnTo>
                  <a:lnTo>
                    <a:pt x="158" y="1249"/>
                  </a:lnTo>
                  <a:lnTo>
                    <a:pt x="171" y="1259"/>
                  </a:lnTo>
                  <a:lnTo>
                    <a:pt x="166" y="1267"/>
                  </a:lnTo>
                  <a:lnTo>
                    <a:pt x="138" y="1246"/>
                  </a:lnTo>
                  <a:lnTo>
                    <a:pt x="112" y="1224"/>
                  </a:lnTo>
                  <a:lnTo>
                    <a:pt x="76" y="1180"/>
                  </a:lnTo>
                  <a:lnTo>
                    <a:pt x="57" y="1138"/>
                  </a:lnTo>
                  <a:lnTo>
                    <a:pt x="53" y="1094"/>
                  </a:lnTo>
                  <a:lnTo>
                    <a:pt x="64" y="1050"/>
                  </a:lnTo>
                  <a:lnTo>
                    <a:pt x="87" y="1007"/>
                  </a:lnTo>
                  <a:lnTo>
                    <a:pt x="104" y="984"/>
                  </a:lnTo>
                  <a:lnTo>
                    <a:pt x="121" y="962"/>
                  </a:lnTo>
                  <a:lnTo>
                    <a:pt x="142" y="939"/>
                  </a:lnTo>
                  <a:lnTo>
                    <a:pt x="165" y="917"/>
                  </a:lnTo>
                  <a:lnTo>
                    <a:pt x="203" y="871"/>
                  </a:lnTo>
                  <a:lnTo>
                    <a:pt x="222" y="824"/>
                  </a:lnTo>
                  <a:lnTo>
                    <a:pt x="227" y="777"/>
                  </a:lnTo>
                  <a:lnTo>
                    <a:pt x="223" y="728"/>
                  </a:lnTo>
                  <a:lnTo>
                    <a:pt x="211" y="679"/>
                  </a:lnTo>
                  <a:lnTo>
                    <a:pt x="193" y="630"/>
                  </a:lnTo>
                  <a:lnTo>
                    <a:pt x="177" y="583"/>
                  </a:lnTo>
                  <a:lnTo>
                    <a:pt x="162" y="536"/>
                  </a:lnTo>
                  <a:lnTo>
                    <a:pt x="158" y="475"/>
                  </a:lnTo>
                  <a:lnTo>
                    <a:pt x="165" y="450"/>
                  </a:lnTo>
                  <a:lnTo>
                    <a:pt x="176" y="427"/>
                  </a:lnTo>
                  <a:lnTo>
                    <a:pt x="188" y="403"/>
                  </a:lnTo>
                  <a:lnTo>
                    <a:pt x="200" y="380"/>
                  </a:lnTo>
                  <a:lnTo>
                    <a:pt x="222" y="330"/>
                  </a:lnTo>
                  <a:lnTo>
                    <a:pt x="220" y="264"/>
                  </a:lnTo>
                  <a:lnTo>
                    <a:pt x="205" y="235"/>
                  </a:lnTo>
                  <a:lnTo>
                    <a:pt x="185" y="208"/>
                  </a:lnTo>
                  <a:lnTo>
                    <a:pt x="173" y="197"/>
                  </a:lnTo>
                  <a:lnTo>
                    <a:pt x="161" y="185"/>
                  </a:lnTo>
                  <a:lnTo>
                    <a:pt x="132" y="162"/>
                  </a:lnTo>
                  <a:lnTo>
                    <a:pt x="102" y="142"/>
                  </a:lnTo>
                  <a:lnTo>
                    <a:pt x="74" y="123"/>
                  </a:lnTo>
                  <a:lnTo>
                    <a:pt x="47" y="105"/>
                  </a:lnTo>
                  <a:lnTo>
                    <a:pt x="25" y="88"/>
                  </a:lnTo>
                  <a:lnTo>
                    <a:pt x="0" y="58"/>
                  </a:lnTo>
                  <a:lnTo>
                    <a:pt x="0" y="43"/>
                  </a:lnTo>
                  <a:lnTo>
                    <a:pt x="13" y="29"/>
                  </a:lnTo>
                  <a:lnTo>
                    <a:pt x="38" y="14"/>
                  </a:lnTo>
                  <a:lnTo>
                    <a:pt x="79" y="0"/>
                  </a:lnTo>
                  <a:lnTo>
                    <a:pt x="94" y="5"/>
                  </a:lnTo>
                  <a:lnTo>
                    <a:pt x="94" y="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373880" y="3989520"/>
              <a:ext cx="324000" cy="318960"/>
            </a:xfrm>
            <a:custGeom>
              <a:avLst/>
              <a:gdLst/>
              <a:ahLst/>
              <a:rect l="l" t="t" r="r" b="b"/>
              <a:pathLst>
                <a:path w="204" h="201">
                  <a:moveTo>
                    <a:pt x="27" y="97"/>
                  </a:moveTo>
                  <a:lnTo>
                    <a:pt x="52" y="135"/>
                  </a:lnTo>
                  <a:lnTo>
                    <a:pt x="61" y="144"/>
                  </a:lnTo>
                  <a:lnTo>
                    <a:pt x="76" y="155"/>
                  </a:lnTo>
                  <a:lnTo>
                    <a:pt x="110" y="171"/>
                  </a:lnTo>
                  <a:lnTo>
                    <a:pt x="145" y="175"/>
                  </a:lnTo>
                  <a:lnTo>
                    <a:pt x="171" y="156"/>
                  </a:lnTo>
                  <a:lnTo>
                    <a:pt x="183" y="120"/>
                  </a:lnTo>
                  <a:lnTo>
                    <a:pt x="186" y="80"/>
                  </a:lnTo>
                  <a:lnTo>
                    <a:pt x="191" y="0"/>
                  </a:lnTo>
                  <a:lnTo>
                    <a:pt x="201" y="0"/>
                  </a:lnTo>
                  <a:lnTo>
                    <a:pt x="201" y="9"/>
                  </a:lnTo>
                  <a:lnTo>
                    <a:pt x="200" y="19"/>
                  </a:lnTo>
                  <a:lnTo>
                    <a:pt x="200" y="39"/>
                  </a:lnTo>
                  <a:lnTo>
                    <a:pt x="204" y="173"/>
                  </a:lnTo>
                  <a:lnTo>
                    <a:pt x="186" y="192"/>
                  </a:lnTo>
                  <a:lnTo>
                    <a:pt x="159" y="201"/>
                  </a:lnTo>
                  <a:lnTo>
                    <a:pt x="92" y="198"/>
                  </a:lnTo>
                  <a:lnTo>
                    <a:pt x="31" y="171"/>
                  </a:lnTo>
                  <a:lnTo>
                    <a:pt x="0" y="127"/>
                  </a:lnTo>
                  <a:lnTo>
                    <a:pt x="10" y="111"/>
                  </a:lnTo>
                  <a:lnTo>
                    <a:pt x="23" y="97"/>
                  </a:lnTo>
                  <a:lnTo>
                    <a:pt x="27" y="97"/>
                  </a:lnTo>
                  <a:lnTo>
                    <a:pt x="27" y="9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86480" y="3265560"/>
              <a:ext cx="257400" cy="411120"/>
            </a:xfrm>
            <a:custGeom>
              <a:avLst/>
              <a:gdLst/>
              <a:ahLst/>
              <a:rect l="l" t="t" r="r" b="b"/>
              <a:pathLst>
                <a:path w="162" h="259">
                  <a:moveTo>
                    <a:pt x="8" y="3"/>
                  </a:moveTo>
                  <a:lnTo>
                    <a:pt x="41" y="42"/>
                  </a:lnTo>
                  <a:lnTo>
                    <a:pt x="57" y="58"/>
                  </a:lnTo>
                  <a:lnTo>
                    <a:pt x="72" y="73"/>
                  </a:lnTo>
                  <a:lnTo>
                    <a:pt x="97" y="98"/>
                  </a:lnTo>
                  <a:lnTo>
                    <a:pt x="128" y="171"/>
                  </a:lnTo>
                  <a:lnTo>
                    <a:pt x="143" y="213"/>
                  </a:lnTo>
                  <a:lnTo>
                    <a:pt x="162" y="253"/>
                  </a:lnTo>
                  <a:lnTo>
                    <a:pt x="160" y="259"/>
                  </a:lnTo>
                  <a:lnTo>
                    <a:pt x="154" y="258"/>
                  </a:lnTo>
                  <a:lnTo>
                    <a:pt x="118" y="220"/>
                  </a:lnTo>
                  <a:lnTo>
                    <a:pt x="93" y="176"/>
                  </a:lnTo>
                  <a:lnTo>
                    <a:pt x="82" y="134"/>
                  </a:lnTo>
                  <a:lnTo>
                    <a:pt x="68" y="101"/>
                  </a:lnTo>
                  <a:lnTo>
                    <a:pt x="48" y="72"/>
                  </a:lnTo>
                  <a:lnTo>
                    <a:pt x="22" y="37"/>
                  </a:lnTo>
                  <a:lnTo>
                    <a:pt x="0" y="7"/>
                  </a:lnTo>
                  <a:lnTo>
                    <a:pt x="2" y="0"/>
                  </a:lnTo>
                  <a:lnTo>
                    <a:pt x="8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313840" y="3657600"/>
              <a:ext cx="120600" cy="279360"/>
            </a:xfrm>
            <a:custGeom>
              <a:avLst/>
              <a:gdLst/>
              <a:ahLst/>
              <a:rect l="l" t="t" r="r" b="b"/>
              <a:pathLst>
                <a:path w="76" h="176">
                  <a:moveTo>
                    <a:pt x="76" y="2"/>
                  </a:moveTo>
                  <a:lnTo>
                    <a:pt x="68" y="60"/>
                  </a:lnTo>
                  <a:lnTo>
                    <a:pt x="57" y="119"/>
                  </a:lnTo>
                  <a:lnTo>
                    <a:pt x="46" y="143"/>
                  </a:lnTo>
                  <a:lnTo>
                    <a:pt x="34" y="166"/>
                  </a:lnTo>
                  <a:lnTo>
                    <a:pt x="23" y="176"/>
                  </a:lnTo>
                  <a:lnTo>
                    <a:pt x="11" y="175"/>
                  </a:lnTo>
                  <a:lnTo>
                    <a:pt x="0" y="152"/>
                  </a:lnTo>
                  <a:lnTo>
                    <a:pt x="12" y="106"/>
                  </a:lnTo>
                  <a:lnTo>
                    <a:pt x="22" y="85"/>
                  </a:lnTo>
                  <a:lnTo>
                    <a:pt x="32" y="65"/>
                  </a:lnTo>
                  <a:lnTo>
                    <a:pt x="57" y="24"/>
                  </a:lnTo>
                  <a:lnTo>
                    <a:pt x="66" y="0"/>
                  </a:lnTo>
                  <a:lnTo>
                    <a:pt x="76" y="2"/>
                  </a:lnTo>
                  <a:lnTo>
                    <a:pt x="76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447040" y="3973680"/>
              <a:ext cx="195480" cy="198360"/>
            </a:xfrm>
            <a:custGeom>
              <a:avLst/>
              <a:gdLst/>
              <a:ahLst/>
              <a:rect l="l" t="t" r="r" b="b"/>
              <a:pathLst>
                <a:path w="123" h="125">
                  <a:moveTo>
                    <a:pt x="0" y="95"/>
                  </a:moveTo>
                  <a:lnTo>
                    <a:pt x="30" y="74"/>
                  </a:lnTo>
                  <a:lnTo>
                    <a:pt x="58" y="53"/>
                  </a:lnTo>
                  <a:lnTo>
                    <a:pt x="73" y="39"/>
                  </a:lnTo>
                  <a:lnTo>
                    <a:pt x="87" y="26"/>
                  </a:lnTo>
                  <a:lnTo>
                    <a:pt x="102" y="13"/>
                  </a:lnTo>
                  <a:lnTo>
                    <a:pt x="117" y="1"/>
                  </a:lnTo>
                  <a:lnTo>
                    <a:pt x="123" y="0"/>
                  </a:lnTo>
                  <a:lnTo>
                    <a:pt x="123" y="6"/>
                  </a:lnTo>
                  <a:lnTo>
                    <a:pt x="104" y="31"/>
                  </a:lnTo>
                  <a:lnTo>
                    <a:pt x="88" y="50"/>
                  </a:lnTo>
                  <a:lnTo>
                    <a:pt x="71" y="70"/>
                  </a:lnTo>
                  <a:lnTo>
                    <a:pt x="35" y="107"/>
                  </a:lnTo>
                  <a:lnTo>
                    <a:pt x="22" y="119"/>
                  </a:lnTo>
                  <a:lnTo>
                    <a:pt x="14" y="125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373960" y="4633920"/>
              <a:ext cx="225360" cy="293760"/>
            </a:xfrm>
            <a:custGeom>
              <a:avLst/>
              <a:gdLst/>
              <a:ahLst/>
              <a:rect l="l" t="t" r="r" b="b"/>
              <a:pathLst>
                <a:path w="142" h="185">
                  <a:moveTo>
                    <a:pt x="142" y="141"/>
                  </a:moveTo>
                  <a:lnTo>
                    <a:pt x="136" y="171"/>
                  </a:lnTo>
                  <a:lnTo>
                    <a:pt x="130" y="185"/>
                  </a:lnTo>
                  <a:lnTo>
                    <a:pt x="122" y="184"/>
                  </a:lnTo>
                  <a:lnTo>
                    <a:pt x="92" y="143"/>
                  </a:lnTo>
                  <a:lnTo>
                    <a:pt x="73" y="97"/>
                  </a:lnTo>
                  <a:lnTo>
                    <a:pt x="65" y="85"/>
                  </a:lnTo>
                  <a:lnTo>
                    <a:pt x="49" y="62"/>
                  </a:lnTo>
                  <a:lnTo>
                    <a:pt x="31" y="38"/>
                  </a:lnTo>
                  <a:lnTo>
                    <a:pt x="22" y="25"/>
                  </a:lnTo>
                  <a:lnTo>
                    <a:pt x="1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30" y="12"/>
                  </a:lnTo>
                  <a:lnTo>
                    <a:pt x="64" y="33"/>
                  </a:lnTo>
                  <a:lnTo>
                    <a:pt x="96" y="57"/>
                  </a:lnTo>
                  <a:lnTo>
                    <a:pt x="114" y="73"/>
                  </a:lnTo>
                  <a:lnTo>
                    <a:pt x="129" y="107"/>
                  </a:lnTo>
                  <a:lnTo>
                    <a:pt x="142" y="141"/>
                  </a:lnTo>
                  <a:lnTo>
                    <a:pt x="142" y="14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997680" y="4051440"/>
              <a:ext cx="268200" cy="268200"/>
            </a:xfrm>
            <a:custGeom>
              <a:avLst/>
              <a:gdLst/>
              <a:ahLst/>
              <a:rect l="l" t="t" r="r" b="b"/>
              <a:pathLst>
                <a:path w="169" h="169">
                  <a:moveTo>
                    <a:pt x="29" y="138"/>
                  </a:moveTo>
                  <a:lnTo>
                    <a:pt x="66" y="95"/>
                  </a:lnTo>
                  <a:lnTo>
                    <a:pt x="78" y="83"/>
                  </a:lnTo>
                  <a:lnTo>
                    <a:pt x="93" y="67"/>
                  </a:lnTo>
                  <a:lnTo>
                    <a:pt x="116" y="38"/>
                  </a:lnTo>
                  <a:lnTo>
                    <a:pt x="120" y="21"/>
                  </a:lnTo>
                  <a:lnTo>
                    <a:pt x="130" y="6"/>
                  </a:lnTo>
                  <a:lnTo>
                    <a:pt x="148" y="0"/>
                  </a:lnTo>
                  <a:lnTo>
                    <a:pt x="164" y="1"/>
                  </a:lnTo>
                  <a:lnTo>
                    <a:pt x="169" y="13"/>
                  </a:lnTo>
                  <a:lnTo>
                    <a:pt x="162" y="30"/>
                  </a:lnTo>
                  <a:lnTo>
                    <a:pt x="152" y="50"/>
                  </a:lnTo>
                  <a:lnTo>
                    <a:pt x="141" y="64"/>
                  </a:lnTo>
                  <a:lnTo>
                    <a:pt x="123" y="85"/>
                  </a:lnTo>
                  <a:lnTo>
                    <a:pt x="105" y="107"/>
                  </a:lnTo>
                  <a:lnTo>
                    <a:pt x="92" y="121"/>
                  </a:lnTo>
                  <a:lnTo>
                    <a:pt x="69" y="141"/>
                  </a:lnTo>
                  <a:lnTo>
                    <a:pt x="42" y="157"/>
                  </a:lnTo>
                  <a:lnTo>
                    <a:pt x="24" y="166"/>
                  </a:lnTo>
                  <a:lnTo>
                    <a:pt x="6" y="169"/>
                  </a:lnTo>
                  <a:lnTo>
                    <a:pt x="0" y="159"/>
                  </a:lnTo>
                  <a:lnTo>
                    <a:pt x="8" y="136"/>
                  </a:lnTo>
                  <a:lnTo>
                    <a:pt x="21" y="115"/>
                  </a:lnTo>
                  <a:lnTo>
                    <a:pt x="27" y="117"/>
                  </a:lnTo>
                  <a:lnTo>
                    <a:pt x="29" y="138"/>
                  </a:lnTo>
                  <a:lnTo>
                    <a:pt x="29" y="13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283520" y="1636560"/>
              <a:ext cx="344520" cy="217800"/>
            </a:xfrm>
            <a:custGeom>
              <a:avLst/>
              <a:gdLst/>
              <a:ahLst/>
              <a:rect l="l" t="t" r="r" b="b"/>
              <a:pathLst>
                <a:path w="217" h="137">
                  <a:moveTo>
                    <a:pt x="217" y="80"/>
                  </a:moveTo>
                  <a:lnTo>
                    <a:pt x="200" y="82"/>
                  </a:lnTo>
                  <a:lnTo>
                    <a:pt x="189" y="92"/>
                  </a:lnTo>
                  <a:lnTo>
                    <a:pt x="179" y="92"/>
                  </a:lnTo>
                  <a:lnTo>
                    <a:pt x="168" y="69"/>
                  </a:lnTo>
                  <a:lnTo>
                    <a:pt x="159" y="59"/>
                  </a:lnTo>
                  <a:lnTo>
                    <a:pt x="145" y="48"/>
                  </a:lnTo>
                  <a:lnTo>
                    <a:pt x="114" y="40"/>
                  </a:lnTo>
                  <a:lnTo>
                    <a:pt x="39" y="68"/>
                  </a:lnTo>
                  <a:lnTo>
                    <a:pt x="20" y="98"/>
                  </a:lnTo>
                  <a:lnTo>
                    <a:pt x="22" y="113"/>
                  </a:lnTo>
                  <a:lnTo>
                    <a:pt x="30" y="130"/>
                  </a:lnTo>
                  <a:lnTo>
                    <a:pt x="31" y="137"/>
                  </a:lnTo>
                  <a:lnTo>
                    <a:pt x="25" y="137"/>
                  </a:lnTo>
                  <a:lnTo>
                    <a:pt x="7" y="119"/>
                  </a:lnTo>
                  <a:lnTo>
                    <a:pt x="0" y="94"/>
                  </a:lnTo>
                  <a:lnTo>
                    <a:pt x="3" y="66"/>
                  </a:lnTo>
                  <a:lnTo>
                    <a:pt x="16" y="44"/>
                  </a:lnTo>
                  <a:lnTo>
                    <a:pt x="37" y="27"/>
                  </a:lnTo>
                  <a:lnTo>
                    <a:pt x="57" y="14"/>
                  </a:lnTo>
                  <a:lnTo>
                    <a:pt x="96" y="0"/>
                  </a:lnTo>
                  <a:lnTo>
                    <a:pt x="164" y="10"/>
                  </a:lnTo>
                  <a:lnTo>
                    <a:pt x="209" y="45"/>
                  </a:lnTo>
                  <a:lnTo>
                    <a:pt x="217" y="80"/>
                  </a:lnTo>
                  <a:lnTo>
                    <a:pt x="217" y="8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94480" y="1785960"/>
              <a:ext cx="398520" cy="658800"/>
            </a:xfrm>
            <a:custGeom>
              <a:avLst/>
              <a:gdLst/>
              <a:ahLst/>
              <a:rect l="l" t="t" r="r" b="b"/>
              <a:pathLst>
                <a:path w="251" h="415">
                  <a:moveTo>
                    <a:pt x="41" y="7"/>
                  </a:moveTo>
                  <a:lnTo>
                    <a:pt x="20" y="43"/>
                  </a:lnTo>
                  <a:lnTo>
                    <a:pt x="27" y="85"/>
                  </a:lnTo>
                  <a:lnTo>
                    <a:pt x="46" y="126"/>
                  </a:lnTo>
                  <a:lnTo>
                    <a:pt x="68" y="163"/>
                  </a:lnTo>
                  <a:lnTo>
                    <a:pt x="92" y="201"/>
                  </a:lnTo>
                  <a:lnTo>
                    <a:pt x="113" y="232"/>
                  </a:lnTo>
                  <a:lnTo>
                    <a:pt x="132" y="255"/>
                  </a:lnTo>
                  <a:lnTo>
                    <a:pt x="151" y="277"/>
                  </a:lnTo>
                  <a:lnTo>
                    <a:pt x="191" y="316"/>
                  </a:lnTo>
                  <a:lnTo>
                    <a:pt x="215" y="341"/>
                  </a:lnTo>
                  <a:lnTo>
                    <a:pt x="242" y="370"/>
                  </a:lnTo>
                  <a:lnTo>
                    <a:pt x="251" y="390"/>
                  </a:lnTo>
                  <a:lnTo>
                    <a:pt x="244" y="407"/>
                  </a:lnTo>
                  <a:lnTo>
                    <a:pt x="228" y="415"/>
                  </a:lnTo>
                  <a:lnTo>
                    <a:pt x="208" y="409"/>
                  </a:lnTo>
                  <a:lnTo>
                    <a:pt x="189" y="394"/>
                  </a:lnTo>
                  <a:lnTo>
                    <a:pt x="168" y="377"/>
                  </a:lnTo>
                  <a:lnTo>
                    <a:pt x="125" y="332"/>
                  </a:lnTo>
                  <a:lnTo>
                    <a:pt x="102" y="306"/>
                  </a:lnTo>
                  <a:lnTo>
                    <a:pt x="82" y="278"/>
                  </a:lnTo>
                  <a:lnTo>
                    <a:pt x="61" y="249"/>
                  </a:lnTo>
                  <a:lnTo>
                    <a:pt x="44" y="218"/>
                  </a:lnTo>
                  <a:lnTo>
                    <a:pt x="0" y="98"/>
                  </a:lnTo>
                  <a:lnTo>
                    <a:pt x="6" y="44"/>
                  </a:lnTo>
                  <a:lnTo>
                    <a:pt x="16" y="20"/>
                  </a:lnTo>
                  <a:lnTo>
                    <a:pt x="34" y="0"/>
                  </a:lnTo>
                  <a:lnTo>
                    <a:pt x="41" y="7"/>
                  </a:lnTo>
                  <a:lnTo>
                    <a:pt x="41" y="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097760" y="1811160"/>
              <a:ext cx="341280" cy="1003320"/>
            </a:xfrm>
            <a:custGeom>
              <a:avLst/>
              <a:gdLst/>
              <a:ahLst/>
              <a:rect l="l" t="t" r="r" b="b"/>
              <a:pathLst>
                <a:path w="215" h="632">
                  <a:moveTo>
                    <a:pt x="85" y="629"/>
                  </a:moveTo>
                  <a:lnTo>
                    <a:pt x="75" y="632"/>
                  </a:lnTo>
                  <a:lnTo>
                    <a:pt x="44" y="594"/>
                  </a:lnTo>
                  <a:lnTo>
                    <a:pt x="23" y="525"/>
                  </a:lnTo>
                  <a:lnTo>
                    <a:pt x="9" y="454"/>
                  </a:lnTo>
                  <a:lnTo>
                    <a:pt x="0" y="308"/>
                  </a:lnTo>
                  <a:lnTo>
                    <a:pt x="10" y="238"/>
                  </a:lnTo>
                  <a:lnTo>
                    <a:pt x="18" y="204"/>
                  </a:lnTo>
                  <a:lnTo>
                    <a:pt x="30" y="171"/>
                  </a:lnTo>
                  <a:lnTo>
                    <a:pt x="45" y="139"/>
                  </a:lnTo>
                  <a:lnTo>
                    <a:pt x="64" y="108"/>
                  </a:lnTo>
                  <a:lnTo>
                    <a:pt x="86" y="79"/>
                  </a:lnTo>
                  <a:lnTo>
                    <a:pt x="113" y="52"/>
                  </a:lnTo>
                  <a:lnTo>
                    <a:pt x="127" y="40"/>
                  </a:lnTo>
                  <a:lnTo>
                    <a:pt x="139" y="29"/>
                  </a:lnTo>
                  <a:lnTo>
                    <a:pt x="163" y="13"/>
                  </a:lnTo>
                  <a:lnTo>
                    <a:pt x="201" y="0"/>
                  </a:lnTo>
                  <a:lnTo>
                    <a:pt x="215" y="4"/>
                  </a:lnTo>
                  <a:lnTo>
                    <a:pt x="201" y="13"/>
                  </a:lnTo>
                  <a:lnTo>
                    <a:pt x="125" y="54"/>
                  </a:lnTo>
                  <a:lnTo>
                    <a:pt x="78" y="114"/>
                  </a:lnTo>
                  <a:lnTo>
                    <a:pt x="55" y="186"/>
                  </a:lnTo>
                  <a:lnTo>
                    <a:pt x="48" y="268"/>
                  </a:lnTo>
                  <a:lnTo>
                    <a:pt x="55" y="353"/>
                  </a:lnTo>
                  <a:lnTo>
                    <a:pt x="68" y="438"/>
                  </a:lnTo>
                  <a:lnTo>
                    <a:pt x="85" y="516"/>
                  </a:lnTo>
                  <a:lnTo>
                    <a:pt x="95" y="584"/>
                  </a:lnTo>
                  <a:lnTo>
                    <a:pt x="89" y="607"/>
                  </a:lnTo>
                  <a:lnTo>
                    <a:pt x="85" y="629"/>
                  </a:lnTo>
                  <a:lnTo>
                    <a:pt x="85" y="62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9960" y="2438280"/>
              <a:ext cx="560520" cy="520920"/>
            </a:xfrm>
            <a:custGeom>
              <a:avLst/>
              <a:gdLst/>
              <a:ahLst/>
              <a:rect l="l" t="t" r="r" b="b"/>
              <a:pathLst>
                <a:path w="353" h="328">
                  <a:moveTo>
                    <a:pt x="353" y="8"/>
                  </a:moveTo>
                  <a:lnTo>
                    <a:pt x="320" y="27"/>
                  </a:lnTo>
                  <a:lnTo>
                    <a:pt x="286" y="44"/>
                  </a:lnTo>
                  <a:lnTo>
                    <a:pt x="261" y="60"/>
                  </a:lnTo>
                  <a:lnTo>
                    <a:pt x="235" y="76"/>
                  </a:lnTo>
                  <a:lnTo>
                    <a:pt x="212" y="92"/>
                  </a:lnTo>
                  <a:lnTo>
                    <a:pt x="189" y="110"/>
                  </a:lnTo>
                  <a:lnTo>
                    <a:pt x="166" y="129"/>
                  </a:lnTo>
                  <a:lnTo>
                    <a:pt x="145" y="150"/>
                  </a:lnTo>
                  <a:lnTo>
                    <a:pt x="106" y="195"/>
                  </a:lnTo>
                  <a:lnTo>
                    <a:pt x="80" y="228"/>
                  </a:lnTo>
                  <a:lnTo>
                    <a:pt x="54" y="259"/>
                  </a:lnTo>
                  <a:lnTo>
                    <a:pt x="31" y="292"/>
                  </a:lnTo>
                  <a:lnTo>
                    <a:pt x="9" y="328"/>
                  </a:lnTo>
                  <a:lnTo>
                    <a:pt x="0" y="326"/>
                  </a:lnTo>
                  <a:lnTo>
                    <a:pt x="9" y="282"/>
                  </a:lnTo>
                  <a:lnTo>
                    <a:pt x="24" y="242"/>
                  </a:lnTo>
                  <a:lnTo>
                    <a:pt x="34" y="224"/>
                  </a:lnTo>
                  <a:lnTo>
                    <a:pt x="45" y="205"/>
                  </a:lnTo>
                  <a:lnTo>
                    <a:pt x="71" y="170"/>
                  </a:lnTo>
                  <a:lnTo>
                    <a:pt x="95" y="143"/>
                  </a:lnTo>
                  <a:lnTo>
                    <a:pt x="110" y="130"/>
                  </a:lnTo>
                  <a:lnTo>
                    <a:pt x="125" y="117"/>
                  </a:lnTo>
                  <a:lnTo>
                    <a:pt x="142" y="103"/>
                  </a:lnTo>
                  <a:lnTo>
                    <a:pt x="160" y="92"/>
                  </a:lnTo>
                  <a:lnTo>
                    <a:pt x="179" y="80"/>
                  </a:lnTo>
                  <a:lnTo>
                    <a:pt x="198" y="69"/>
                  </a:lnTo>
                  <a:lnTo>
                    <a:pt x="236" y="48"/>
                  </a:lnTo>
                  <a:lnTo>
                    <a:pt x="275" y="29"/>
                  </a:lnTo>
                  <a:lnTo>
                    <a:pt x="313" y="14"/>
                  </a:lnTo>
                  <a:lnTo>
                    <a:pt x="349" y="0"/>
                  </a:lnTo>
                  <a:lnTo>
                    <a:pt x="353" y="8"/>
                  </a:lnTo>
                  <a:lnTo>
                    <a:pt x="353" y="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102520" y="2430360"/>
              <a:ext cx="478080" cy="555840"/>
            </a:xfrm>
            <a:custGeom>
              <a:avLst/>
              <a:gdLst/>
              <a:ahLst/>
              <a:rect l="l" t="t" r="r" b="b"/>
              <a:pathLst>
                <a:path w="301" h="350">
                  <a:moveTo>
                    <a:pt x="5" y="0"/>
                  </a:moveTo>
                  <a:lnTo>
                    <a:pt x="95" y="29"/>
                  </a:lnTo>
                  <a:lnTo>
                    <a:pt x="142" y="53"/>
                  </a:lnTo>
                  <a:lnTo>
                    <a:pt x="165" y="66"/>
                  </a:lnTo>
                  <a:lnTo>
                    <a:pt x="187" y="81"/>
                  </a:lnTo>
                  <a:lnTo>
                    <a:pt x="207" y="97"/>
                  </a:lnTo>
                  <a:lnTo>
                    <a:pt x="228" y="112"/>
                  </a:lnTo>
                  <a:lnTo>
                    <a:pt x="262" y="149"/>
                  </a:lnTo>
                  <a:lnTo>
                    <a:pt x="300" y="231"/>
                  </a:lnTo>
                  <a:lnTo>
                    <a:pt x="301" y="279"/>
                  </a:lnTo>
                  <a:lnTo>
                    <a:pt x="297" y="301"/>
                  </a:lnTo>
                  <a:lnTo>
                    <a:pt x="288" y="323"/>
                  </a:lnTo>
                  <a:lnTo>
                    <a:pt x="279" y="333"/>
                  </a:lnTo>
                  <a:lnTo>
                    <a:pt x="267" y="341"/>
                  </a:lnTo>
                  <a:lnTo>
                    <a:pt x="236" y="350"/>
                  </a:lnTo>
                  <a:lnTo>
                    <a:pt x="176" y="342"/>
                  </a:lnTo>
                  <a:lnTo>
                    <a:pt x="179" y="333"/>
                  </a:lnTo>
                  <a:lnTo>
                    <a:pt x="218" y="328"/>
                  </a:lnTo>
                  <a:lnTo>
                    <a:pt x="245" y="300"/>
                  </a:lnTo>
                  <a:lnTo>
                    <a:pt x="254" y="270"/>
                  </a:lnTo>
                  <a:lnTo>
                    <a:pt x="252" y="239"/>
                  </a:lnTo>
                  <a:lnTo>
                    <a:pt x="245" y="212"/>
                  </a:lnTo>
                  <a:lnTo>
                    <a:pt x="236" y="188"/>
                  </a:lnTo>
                  <a:lnTo>
                    <a:pt x="224" y="167"/>
                  </a:lnTo>
                  <a:lnTo>
                    <a:pt x="209" y="148"/>
                  </a:lnTo>
                  <a:lnTo>
                    <a:pt x="193" y="131"/>
                  </a:lnTo>
                  <a:lnTo>
                    <a:pt x="174" y="114"/>
                  </a:lnTo>
                  <a:lnTo>
                    <a:pt x="152" y="99"/>
                  </a:lnTo>
                  <a:lnTo>
                    <a:pt x="130" y="83"/>
                  </a:lnTo>
                  <a:lnTo>
                    <a:pt x="98" y="64"/>
                  </a:lnTo>
                  <a:lnTo>
                    <a:pt x="64" y="45"/>
                  </a:lnTo>
                  <a:lnTo>
                    <a:pt x="31" y="26"/>
                  </a:lnTo>
                  <a:lnTo>
                    <a:pt x="3" y="9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737480" y="2502000"/>
              <a:ext cx="114120" cy="357120"/>
            </a:xfrm>
            <a:custGeom>
              <a:avLst/>
              <a:gdLst/>
              <a:ahLst/>
              <a:rect l="l" t="t" r="r" b="b"/>
              <a:pathLst>
                <a:path w="72" h="225">
                  <a:moveTo>
                    <a:pt x="71" y="0"/>
                  </a:moveTo>
                  <a:lnTo>
                    <a:pt x="72" y="115"/>
                  </a:lnTo>
                  <a:lnTo>
                    <a:pt x="64" y="172"/>
                  </a:lnTo>
                  <a:lnTo>
                    <a:pt x="53" y="198"/>
                  </a:lnTo>
                  <a:lnTo>
                    <a:pt x="37" y="222"/>
                  </a:lnTo>
                  <a:lnTo>
                    <a:pt x="14" y="225"/>
                  </a:lnTo>
                  <a:lnTo>
                    <a:pt x="0" y="211"/>
                  </a:lnTo>
                  <a:lnTo>
                    <a:pt x="13" y="185"/>
                  </a:lnTo>
                  <a:lnTo>
                    <a:pt x="28" y="157"/>
                  </a:lnTo>
                  <a:lnTo>
                    <a:pt x="53" y="81"/>
                  </a:lnTo>
                  <a:lnTo>
                    <a:pt x="62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300800" y="2933640"/>
              <a:ext cx="446040" cy="378000"/>
            </a:xfrm>
            <a:custGeom>
              <a:avLst/>
              <a:gdLst/>
              <a:ahLst/>
              <a:rect l="l" t="t" r="r" b="b"/>
              <a:pathLst>
                <a:path w="281" h="238">
                  <a:moveTo>
                    <a:pt x="281" y="12"/>
                  </a:moveTo>
                  <a:lnTo>
                    <a:pt x="274" y="40"/>
                  </a:lnTo>
                  <a:lnTo>
                    <a:pt x="265" y="57"/>
                  </a:lnTo>
                  <a:lnTo>
                    <a:pt x="252" y="74"/>
                  </a:lnTo>
                  <a:lnTo>
                    <a:pt x="237" y="93"/>
                  </a:lnTo>
                  <a:lnTo>
                    <a:pt x="220" y="111"/>
                  </a:lnTo>
                  <a:lnTo>
                    <a:pt x="202" y="130"/>
                  </a:lnTo>
                  <a:lnTo>
                    <a:pt x="182" y="148"/>
                  </a:lnTo>
                  <a:lnTo>
                    <a:pt x="161" y="166"/>
                  </a:lnTo>
                  <a:lnTo>
                    <a:pt x="141" y="183"/>
                  </a:lnTo>
                  <a:lnTo>
                    <a:pt x="121" y="197"/>
                  </a:lnTo>
                  <a:lnTo>
                    <a:pt x="100" y="212"/>
                  </a:lnTo>
                  <a:lnTo>
                    <a:pt x="65" y="230"/>
                  </a:lnTo>
                  <a:lnTo>
                    <a:pt x="38" y="238"/>
                  </a:lnTo>
                  <a:lnTo>
                    <a:pt x="16" y="232"/>
                  </a:lnTo>
                  <a:lnTo>
                    <a:pt x="1" y="216"/>
                  </a:lnTo>
                  <a:lnTo>
                    <a:pt x="0" y="199"/>
                  </a:lnTo>
                  <a:lnTo>
                    <a:pt x="16" y="188"/>
                  </a:lnTo>
                  <a:lnTo>
                    <a:pt x="114" y="151"/>
                  </a:lnTo>
                  <a:lnTo>
                    <a:pt x="145" y="126"/>
                  </a:lnTo>
                  <a:lnTo>
                    <a:pt x="160" y="114"/>
                  </a:lnTo>
                  <a:lnTo>
                    <a:pt x="175" y="99"/>
                  </a:lnTo>
                  <a:lnTo>
                    <a:pt x="202" y="70"/>
                  </a:lnTo>
                  <a:lnTo>
                    <a:pt x="225" y="40"/>
                  </a:lnTo>
                  <a:lnTo>
                    <a:pt x="250" y="0"/>
                  </a:lnTo>
                  <a:lnTo>
                    <a:pt x="281" y="12"/>
                  </a:lnTo>
                  <a:lnTo>
                    <a:pt x="281" y="1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54760" y="3911760"/>
              <a:ext cx="592200" cy="598320"/>
            </a:xfrm>
            <a:custGeom>
              <a:avLst/>
              <a:gdLst/>
              <a:ahLst/>
              <a:rect l="l" t="t" r="r" b="b"/>
              <a:pathLst>
                <a:path w="373" h="377">
                  <a:moveTo>
                    <a:pt x="115" y="99"/>
                  </a:moveTo>
                  <a:lnTo>
                    <a:pt x="133" y="78"/>
                  </a:lnTo>
                  <a:lnTo>
                    <a:pt x="151" y="62"/>
                  </a:lnTo>
                  <a:lnTo>
                    <a:pt x="171" y="48"/>
                  </a:lnTo>
                  <a:lnTo>
                    <a:pt x="194" y="35"/>
                  </a:lnTo>
                  <a:lnTo>
                    <a:pt x="224" y="20"/>
                  </a:lnTo>
                  <a:lnTo>
                    <a:pt x="257" y="7"/>
                  </a:lnTo>
                  <a:lnTo>
                    <a:pt x="292" y="0"/>
                  </a:lnTo>
                  <a:lnTo>
                    <a:pt x="324" y="6"/>
                  </a:lnTo>
                  <a:lnTo>
                    <a:pt x="366" y="48"/>
                  </a:lnTo>
                  <a:lnTo>
                    <a:pt x="373" y="113"/>
                  </a:lnTo>
                  <a:lnTo>
                    <a:pt x="366" y="148"/>
                  </a:lnTo>
                  <a:lnTo>
                    <a:pt x="356" y="183"/>
                  </a:lnTo>
                  <a:lnTo>
                    <a:pt x="341" y="212"/>
                  </a:lnTo>
                  <a:lnTo>
                    <a:pt x="324" y="234"/>
                  </a:lnTo>
                  <a:lnTo>
                    <a:pt x="296" y="263"/>
                  </a:lnTo>
                  <a:lnTo>
                    <a:pt x="281" y="278"/>
                  </a:lnTo>
                  <a:lnTo>
                    <a:pt x="265" y="292"/>
                  </a:lnTo>
                  <a:lnTo>
                    <a:pt x="248" y="307"/>
                  </a:lnTo>
                  <a:lnTo>
                    <a:pt x="231" y="320"/>
                  </a:lnTo>
                  <a:lnTo>
                    <a:pt x="214" y="332"/>
                  </a:lnTo>
                  <a:lnTo>
                    <a:pt x="198" y="343"/>
                  </a:lnTo>
                  <a:lnTo>
                    <a:pt x="179" y="353"/>
                  </a:lnTo>
                  <a:lnTo>
                    <a:pt x="156" y="362"/>
                  </a:lnTo>
                  <a:lnTo>
                    <a:pt x="106" y="376"/>
                  </a:lnTo>
                  <a:lnTo>
                    <a:pt x="54" y="377"/>
                  </a:lnTo>
                  <a:lnTo>
                    <a:pt x="12" y="359"/>
                  </a:lnTo>
                  <a:lnTo>
                    <a:pt x="0" y="336"/>
                  </a:lnTo>
                  <a:lnTo>
                    <a:pt x="4" y="306"/>
                  </a:lnTo>
                  <a:lnTo>
                    <a:pt x="16" y="275"/>
                  </a:lnTo>
                  <a:lnTo>
                    <a:pt x="27" y="251"/>
                  </a:lnTo>
                  <a:lnTo>
                    <a:pt x="37" y="255"/>
                  </a:lnTo>
                  <a:lnTo>
                    <a:pt x="37" y="286"/>
                  </a:lnTo>
                  <a:lnTo>
                    <a:pt x="54" y="312"/>
                  </a:lnTo>
                  <a:lnTo>
                    <a:pt x="124" y="295"/>
                  </a:lnTo>
                  <a:lnTo>
                    <a:pt x="166" y="269"/>
                  </a:lnTo>
                  <a:lnTo>
                    <a:pt x="186" y="253"/>
                  </a:lnTo>
                  <a:lnTo>
                    <a:pt x="208" y="236"/>
                  </a:lnTo>
                  <a:lnTo>
                    <a:pt x="228" y="218"/>
                  </a:lnTo>
                  <a:lnTo>
                    <a:pt x="247" y="200"/>
                  </a:lnTo>
                  <a:lnTo>
                    <a:pt x="281" y="163"/>
                  </a:lnTo>
                  <a:lnTo>
                    <a:pt x="316" y="102"/>
                  </a:lnTo>
                  <a:lnTo>
                    <a:pt x="315" y="49"/>
                  </a:lnTo>
                  <a:lnTo>
                    <a:pt x="304" y="36"/>
                  </a:lnTo>
                  <a:lnTo>
                    <a:pt x="289" y="31"/>
                  </a:lnTo>
                  <a:lnTo>
                    <a:pt x="250" y="35"/>
                  </a:lnTo>
                  <a:lnTo>
                    <a:pt x="205" y="53"/>
                  </a:lnTo>
                  <a:lnTo>
                    <a:pt x="124" y="105"/>
                  </a:lnTo>
                  <a:lnTo>
                    <a:pt x="115" y="99"/>
                  </a:lnTo>
                  <a:lnTo>
                    <a:pt x="115" y="9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197840" y="3375000"/>
              <a:ext cx="549000" cy="409680"/>
            </a:xfrm>
            <a:custGeom>
              <a:avLst/>
              <a:gdLst/>
              <a:ahLst/>
              <a:rect l="l" t="t" r="r" b="b"/>
              <a:pathLst>
                <a:path w="346" h="258">
                  <a:moveTo>
                    <a:pt x="9" y="3"/>
                  </a:moveTo>
                  <a:lnTo>
                    <a:pt x="38" y="82"/>
                  </a:lnTo>
                  <a:lnTo>
                    <a:pt x="53" y="122"/>
                  </a:lnTo>
                  <a:lnTo>
                    <a:pt x="64" y="143"/>
                  </a:lnTo>
                  <a:lnTo>
                    <a:pt x="79" y="162"/>
                  </a:lnTo>
                  <a:lnTo>
                    <a:pt x="93" y="178"/>
                  </a:lnTo>
                  <a:lnTo>
                    <a:pt x="112" y="190"/>
                  </a:lnTo>
                  <a:lnTo>
                    <a:pt x="156" y="207"/>
                  </a:lnTo>
                  <a:lnTo>
                    <a:pt x="247" y="211"/>
                  </a:lnTo>
                  <a:lnTo>
                    <a:pt x="296" y="194"/>
                  </a:lnTo>
                  <a:lnTo>
                    <a:pt x="338" y="166"/>
                  </a:lnTo>
                  <a:lnTo>
                    <a:pt x="346" y="173"/>
                  </a:lnTo>
                  <a:lnTo>
                    <a:pt x="330" y="194"/>
                  </a:lnTo>
                  <a:lnTo>
                    <a:pt x="308" y="219"/>
                  </a:lnTo>
                  <a:lnTo>
                    <a:pt x="296" y="231"/>
                  </a:lnTo>
                  <a:lnTo>
                    <a:pt x="283" y="242"/>
                  </a:lnTo>
                  <a:lnTo>
                    <a:pt x="260" y="255"/>
                  </a:lnTo>
                  <a:lnTo>
                    <a:pt x="207" y="258"/>
                  </a:lnTo>
                  <a:lnTo>
                    <a:pt x="150" y="240"/>
                  </a:lnTo>
                  <a:lnTo>
                    <a:pt x="99" y="211"/>
                  </a:lnTo>
                  <a:lnTo>
                    <a:pt x="79" y="194"/>
                  </a:lnTo>
                  <a:lnTo>
                    <a:pt x="61" y="176"/>
                  </a:lnTo>
                  <a:lnTo>
                    <a:pt x="20" y="95"/>
                  </a:lnTo>
                  <a:lnTo>
                    <a:pt x="0" y="7"/>
                  </a:lnTo>
                  <a:lnTo>
                    <a:pt x="3" y="0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770960" y="4827600"/>
              <a:ext cx="579240" cy="444600"/>
            </a:xfrm>
            <a:custGeom>
              <a:avLst/>
              <a:gdLst/>
              <a:ahLst/>
              <a:rect l="l" t="t" r="r" b="b"/>
              <a:pathLst>
                <a:path w="365" h="280">
                  <a:moveTo>
                    <a:pt x="0" y="82"/>
                  </a:moveTo>
                  <a:lnTo>
                    <a:pt x="72" y="160"/>
                  </a:lnTo>
                  <a:lnTo>
                    <a:pt x="141" y="210"/>
                  </a:lnTo>
                  <a:lnTo>
                    <a:pt x="220" y="223"/>
                  </a:lnTo>
                  <a:lnTo>
                    <a:pt x="278" y="223"/>
                  </a:lnTo>
                  <a:lnTo>
                    <a:pt x="327" y="199"/>
                  </a:lnTo>
                  <a:lnTo>
                    <a:pt x="338" y="154"/>
                  </a:lnTo>
                  <a:lnTo>
                    <a:pt x="316" y="49"/>
                  </a:lnTo>
                  <a:lnTo>
                    <a:pt x="316" y="0"/>
                  </a:lnTo>
                  <a:lnTo>
                    <a:pt x="351" y="75"/>
                  </a:lnTo>
                  <a:lnTo>
                    <a:pt x="365" y="162"/>
                  </a:lnTo>
                  <a:lnTo>
                    <a:pt x="343" y="256"/>
                  </a:lnTo>
                  <a:lnTo>
                    <a:pt x="309" y="268"/>
                  </a:lnTo>
                  <a:lnTo>
                    <a:pt x="213" y="280"/>
                  </a:lnTo>
                  <a:lnTo>
                    <a:pt x="106" y="240"/>
                  </a:lnTo>
                  <a:lnTo>
                    <a:pt x="27" y="153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 txBox="1"/>
          <p:nvPr/>
        </p:nvSpPr>
        <p:spPr>
          <a:xfrm>
            <a:off x="896760" y="1523880"/>
            <a:ext cx="7635960" cy="473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Identifying Elements 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of a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Percent Sentence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2692440" y="673200"/>
            <a:ext cx="37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ing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1179720" y="1355760"/>
            <a:ext cx="703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What percen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250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1500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857320" y="2057400"/>
            <a:ext cx="35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250</a:t>
            </a: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 p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1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1"/>
          <a:stretch/>
        </p:blipFill>
        <p:spPr>
          <a:xfrm>
            <a:off x="463680" y="2444760"/>
            <a:ext cx="1623960" cy="3494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grpSp>
        <p:nvGrpSpPr>
          <p:cNvPr id="705" name=""/>
          <p:cNvGrpSpPr/>
          <p:nvPr/>
        </p:nvGrpSpPr>
        <p:grpSpPr>
          <a:xfrm>
            <a:off x="2743200" y="2743200"/>
            <a:ext cx="3584520" cy="840600"/>
            <a:chOff x="2743200" y="2743200"/>
            <a:chExt cx="3584520" cy="840600"/>
          </a:xfrm>
        </p:grpSpPr>
        <p:sp>
          <p:nvSpPr>
            <p:cNvPr id="706" name=""/>
            <p:cNvSpPr/>
            <p:nvPr/>
          </p:nvSpPr>
          <p:spPr>
            <a:xfrm>
              <a:off x="2853000" y="2819520"/>
              <a:ext cx="1140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25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106960" y="2792520"/>
              <a:ext cx="1140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25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743200" y="2743200"/>
              <a:ext cx="129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029200" y="2743200"/>
              <a:ext cx="129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2399760" y="3706920"/>
            <a:ext cx="2524320" cy="1434600"/>
            <a:chOff x="2399760" y="3706920"/>
            <a:chExt cx="2524320" cy="1434600"/>
          </a:xfrm>
        </p:grpSpPr>
        <p:sp>
          <p:nvSpPr>
            <p:cNvPr id="711" name=""/>
            <p:cNvSpPr/>
            <p:nvPr/>
          </p:nvSpPr>
          <p:spPr>
            <a:xfrm>
              <a:off x="2399760" y="3935520"/>
              <a:ext cx="99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cc99"/>
                  </a:solidFill>
                  <a:latin typeface="Comic Sans MS"/>
                </a:rPr>
                <a:t>p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463200" y="3706920"/>
              <a:ext cx="14608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 u="sng">
                  <a:solidFill>
                    <a:srgbClr val="00cc99"/>
                  </a:solidFill>
                  <a:uFillTx/>
                  <a:latin typeface="Comic Sans MS"/>
                </a:rPr>
                <a:t>150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cc99"/>
                  </a:solidFill>
                  <a:latin typeface="Comic Sans MS"/>
                </a:rPr>
                <a:t>25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4343040" y="3657600"/>
            <a:ext cx="636480" cy="1447920"/>
            <a:chOff x="4343040" y="3657600"/>
            <a:chExt cx="636480" cy="1447920"/>
          </a:xfrm>
        </p:grpSpPr>
        <p:sp>
          <p:nvSpPr>
            <p:cNvPr id="714" name=""/>
            <p:cNvSpPr/>
            <p:nvPr/>
          </p:nvSpPr>
          <p:spPr>
            <a:xfrm flipH="1">
              <a:off x="4495320" y="3657600"/>
              <a:ext cx="48420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4343040" y="4419720"/>
              <a:ext cx="48420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5052960" y="4025880"/>
            <a:ext cx="268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= 6 = 6.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371400" y="5486400"/>
            <a:ext cx="255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p = 600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523960" y="689040"/>
            <a:ext cx="42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1185480" y="1355760"/>
            <a:ext cx="70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What percen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60%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35%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2411640" y="1998720"/>
            <a:ext cx="4774320" cy="1964880"/>
            <a:chOff x="2411640" y="1998720"/>
            <a:chExt cx="4774320" cy="1964880"/>
          </a:xfrm>
        </p:grpSpPr>
        <p:sp>
          <p:nvSpPr>
            <p:cNvPr id="721" name=""/>
            <p:cNvSpPr/>
            <p:nvPr/>
          </p:nvSpPr>
          <p:spPr>
            <a:xfrm>
              <a:off x="2411640" y="3138480"/>
              <a:ext cx="4174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cc99"/>
                  </a:solidFill>
                  <a:latin typeface="Comic Sans MS"/>
                </a:rPr>
                <a:t>p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• </a:t>
              </a:r>
              <a:r>
                <a:rPr b="0" lang="en-US" sz="4800" spc="-1" strike="noStrike">
                  <a:solidFill>
                    <a:srgbClr val="3333cc"/>
                  </a:solidFill>
                  <a:latin typeface="Comic Sans MS"/>
                </a:rPr>
                <a:t>60%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lang="en-US" sz="4800" spc="-1" strike="noStrike">
                  <a:solidFill>
                    <a:srgbClr val="808080"/>
                  </a:solidFill>
                  <a:latin typeface="Comic Sans MS"/>
                </a:rPr>
                <a:t>35%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2692440" y="1998720"/>
              <a:ext cx="566640" cy="12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3188880" y="2085120"/>
              <a:ext cx="1480320" cy="127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4183560" y="2108880"/>
              <a:ext cx="1307880" cy="104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6021360" y="2063160"/>
              <a:ext cx="1164600" cy="111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4914720" y="2018880"/>
              <a:ext cx="1715400" cy="127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3062160" y="5334120"/>
            <a:ext cx="345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0.6</a:t>
            </a: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 p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800" spc="-1" strike="noStrike">
                <a:solidFill>
                  <a:srgbClr val="808080"/>
                </a:solidFill>
                <a:latin typeface="Comic Sans MS"/>
              </a:rPr>
              <a:t>0.3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463680" y="2444760"/>
            <a:ext cx="1623960" cy="3494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29" name=""/>
          <p:cNvSpPr/>
          <p:nvPr/>
        </p:nvSpPr>
        <p:spPr>
          <a:xfrm>
            <a:off x="2508480" y="4205160"/>
            <a:ext cx="418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p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• 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0.60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800" spc="-1" strike="noStrike">
                <a:solidFill>
                  <a:srgbClr val="808080"/>
                </a:solidFill>
                <a:latin typeface="Comic Sans MS"/>
              </a:rPr>
              <a:t>0.3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523960" y="689040"/>
            <a:ext cx="42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1185480" y="1355760"/>
            <a:ext cx="70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What percen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60%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35%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062160" y="2209680"/>
            <a:ext cx="345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0.6</a:t>
            </a: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 p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800" spc="-1" strike="noStrike">
                <a:solidFill>
                  <a:srgbClr val="808080"/>
                </a:solidFill>
                <a:latin typeface="Comic Sans MS"/>
              </a:rPr>
              <a:t>0.3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1"/>
          <a:stretch/>
        </p:blipFill>
        <p:spPr>
          <a:xfrm>
            <a:off x="463680" y="2444760"/>
            <a:ext cx="1623960" cy="3494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grpSp>
        <p:nvGrpSpPr>
          <p:cNvPr id="734" name=""/>
          <p:cNvGrpSpPr/>
          <p:nvPr/>
        </p:nvGrpSpPr>
        <p:grpSpPr>
          <a:xfrm>
            <a:off x="3048120" y="3033720"/>
            <a:ext cx="3365280" cy="853560"/>
            <a:chOff x="3048120" y="3033720"/>
            <a:chExt cx="3365280" cy="853560"/>
          </a:xfrm>
        </p:grpSpPr>
        <p:sp>
          <p:nvSpPr>
            <p:cNvPr id="735" name=""/>
            <p:cNvSpPr/>
            <p:nvPr/>
          </p:nvSpPr>
          <p:spPr>
            <a:xfrm>
              <a:off x="3066840" y="3062160"/>
              <a:ext cx="1041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cc"/>
                  </a:solidFill>
                  <a:latin typeface="Comic Sans MS"/>
                </a:rPr>
                <a:t>0.6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352840" y="3048120"/>
              <a:ext cx="1041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cc"/>
                  </a:solidFill>
                  <a:latin typeface="Comic Sans MS"/>
                </a:rPr>
                <a:t>0.6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048120" y="3062160"/>
              <a:ext cx="107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334120" y="3033720"/>
              <a:ext cx="107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2161800" y="4610160"/>
            <a:ext cx="5993280" cy="825120"/>
            <a:chOff x="2161800" y="4610160"/>
            <a:chExt cx="5993280" cy="825120"/>
          </a:xfrm>
        </p:grpSpPr>
        <p:sp>
          <p:nvSpPr>
            <p:cNvPr id="740" name=""/>
            <p:cNvSpPr/>
            <p:nvPr/>
          </p:nvSpPr>
          <p:spPr>
            <a:xfrm>
              <a:off x="2161800" y="4610160"/>
              <a:ext cx="5993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cc99"/>
                  </a:solidFill>
                  <a:latin typeface="Comic Sans MS"/>
                </a:rPr>
                <a:t>p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lang="en-US" sz="4800" spc="-1" strike="noStrike">
                  <a:solidFill>
                    <a:srgbClr val="00cc99"/>
                  </a:solidFill>
                  <a:latin typeface="Comic Sans MS"/>
                </a:rPr>
                <a:t>0.5833…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lang="en-US" sz="4800" spc="-1" strike="noStrike">
                  <a:solidFill>
                    <a:srgbClr val="00cc99"/>
                  </a:solidFill>
                  <a:latin typeface="Comic Sans MS"/>
                </a:rPr>
                <a:t>58.3%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238880" y="4610160"/>
              <a:ext cx="38124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2523960" y="689040"/>
            <a:ext cx="42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226520" y="1600200"/>
            <a:ext cx="440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What percen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802120" y="14079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802840" y="19414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842080" y="2013120"/>
            <a:ext cx="39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061040" y="13716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061760" y="19256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101000" y="1965240"/>
            <a:ext cx="390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351480" y="1560600"/>
            <a:ext cx="59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3179160" y="2666880"/>
            <a:ext cx="2600280" cy="1257480"/>
            <a:chOff x="3179160" y="2666880"/>
            <a:chExt cx="2600280" cy="1257480"/>
          </a:xfrm>
        </p:grpSpPr>
        <p:sp>
          <p:nvSpPr>
            <p:cNvPr id="752" name=""/>
            <p:cNvSpPr/>
            <p:nvPr/>
          </p:nvSpPr>
          <p:spPr>
            <a:xfrm>
              <a:off x="3179160" y="2819520"/>
              <a:ext cx="525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cc99"/>
                  </a:solidFill>
                  <a:latin typeface="Comic Sans MS"/>
                </a:rPr>
                <a:t>p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751640" y="29401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651120" y="289548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114800" y="266688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115520" y="32004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154400" y="327168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308560" y="266688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808080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309280" y="32209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808080"/>
                  </a:solidFill>
                  <a:latin typeface="Comic Sans MS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348160" y="326088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3592440" y="4343400"/>
            <a:ext cx="1958400" cy="1257480"/>
            <a:chOff x="3592440" y="4343400"/>
            <a:chExt cx="1958400" cy="1257480"/>
          </a:xfrm>
        </p:grpSpPr>
        <p:sp>
          <p:nvSpPr>
            <p:cNvPr id="762" name=""/>
            <p:cNvSpPr/>
            <p:nvPr/>
          </p:nvSpPr>
          <p:spPr>
            <a:xfrm>
              <a:off x="4012560" y="4495680"/>
              <a:ext cx="525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cc99"/>
                  </a:solidFill>
                  <a:latin typeface="Comic Sans MS"/>
                </a:rPr>
                <a:t>p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523040" y="46162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592440" y="43434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93160" y="48769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632040" y="494820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079960" y="43434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808080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080680" y="489744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808080"/>
                  </a:solidFill>
                  <a:latin typeface="Comic Sans MS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119560" y="493704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2523960" y="689040"/>
            <a:ext cx="42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1226520" y="1600200"/>
            <a:ext cx="440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What percen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802120" y="14079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802840" y="19414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842080" y="2013120"/>
            <a:ext cx="39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061040" y="13716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061760" y="19256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101000" y="1965240"/>
            <a:ext cx="390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351480" y="1560600"/>
            <a:ext cx="59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783960" y="3011400"/>
            <a:ext cx="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294440" y="31320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363840" y="28591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364560" y="33926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403440" y="3463920"/>
            <a:ext cx="39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851360" y="28591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852080" y="34131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890960" y="3452760"/>
            <a:ext cx="39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2260080" y="4357800"/>
            <a:ext cx="1573200" cy="1501200"/>
            <a:chOff x="2260080" y="4357800"/>
            <a:chExt cx="1573200" cy="1501200"/>
          </a:xfrm>
        </p:grpSpPr>
        <p:sp>
          <p:nvSpPr>
            <p:cNvPr id="788" name=""/>
            <p:cNvSpPr/>
            <p:nvPr/>
          </p:nvSpPr>
          <p:spPr>
            <a:xfrm>
              <a:off x="2260080" y="4529160"/>
              <a:ext cx="60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746800" y="467820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cc99"/>
                  </a:solidFill>
                  <a:latin typeface="Comic Sans MS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303720" y="43578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cc99"/>
                  </a:solidFill>
                  <a:latin typeface="Comic Sans MS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303720" y="50338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cc99"/>
                  </a:solidFill>
                  <a:latin typeface="Comic Sans MS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371760" y="509256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2784600" y="3062160"/>
            <a:ext cx="3131640" cy="773280"/>
            <a:chOff x="2784600" y="3062160"/>
            <a:chExt cx="3131640" cy="773280"/>
          </a:xfrm>
        </p:grpSpPr>
        <p:sp>
          <p:nvSpPr>
            <p:cNvPr id="794" name=""/>
            <p:cNvSpPr/>
            <p:nvPr/>
          </p:nvSpPr>
          <p:spPr>
            <a:xfrm>
              <a:off x="2784600" y="3132000"/>
              <a:ext cx="642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274000" y="3062160"/>
              <a:ext cx="642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3961440" y="4433760"/>
            <a:ext cx="1107000" cy="1434960"/>
            <a:chOff x="3961440" y="4433760"/>
            <a:chExt cx="1107000" cy="1434960"/>
          </a:xfrm>
        </p:grpSpPr>
        <p:sp>
          <p:nvSpPr>
            <p:cNvPr id="797" name=""/>
            <p:cNvSpPr/>
            <p:nvPr/>
          </p:nvSpPr>
          <p:spPr>
            <a:xfrm>
              <a:off x="3961440" y="471024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cc99"/>
                  </a:solidFill>
                  <a:latin typeface="Comic Sans MS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538160" y="443376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cc99"/>
                  </a:solidFill>
                  <a:latin typeface="Comic Sans MS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538880" y="50436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cc99"/>
                  </a:solidFill>
                  <a:latin typeface="Comic Sans MS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606920" y="513396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5163480" y="4710240"/>
            <a:ext cx="175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= 50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523960" y="689040"/>
            <a:ext cx="42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" descr=""/>
          <p:cNvPicPr/>
          <p:nvPr/>
        </p:nvPicPr>
        <p:blipFill>
          <a:blip r:embed="rId1"/>
          <a:stretch/>
        </p:blipFill>
        <p:spPr>
          <a:xfrm>
            <a:off x="3090960" y="3311640"/>
            <a:ext cx="4943520" cy="297504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804" name=""/>
          <p:cNvGrpSpPr/>
          <p:nvPr/>
        </p:nvGrpSpPr>
        <p:grpSpPr>
          <a:xfrm>
            <a:off x="500040" y="2895480"/>
            <a:ext cx="2209680" cy="2971800"/>
            <a:chOff x="500040" y="2895480"/>
            <a:chExt cx="2209680" cy="2971800"/>
          </a:xfrm>
        </p:grpSpPr>
        <p:sp>
          <p:nvSpPr>
            <p:cNvPr id="805" name=""/>
            <p:cNvSpPr/>
            <p:nvPr/>
          </p:nvSpPr>
          <p:spPr>
            <a:xfrm>
              <a:off x="50004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0796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12464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24884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14948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32336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39788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46016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52640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60884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5840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0476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2564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03356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67940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74960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79928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85724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89864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30680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53864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31940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38564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5520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42704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58436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61316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18692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17432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18016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00908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380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96768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00080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01304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82260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1432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99404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05596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89036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10808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2324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7724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84500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2884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99252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1864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5368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8616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95112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92628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89316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60884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8336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69596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72476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02960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"/>
          <p:cNvSpPr/>
          <p:nvPr/>
        </p:nvSpPr>
        <p:spPr>
          <a:xfrm>
            <a:off x="65232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709720" y="198108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 the elements of a percent sen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776760" y="7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" descr=""/>
          <p:cNvPicPr/>
          <p:nvPr/>
        </p:nvPicPr>
        <p:blipFill>
          <a:blip r:embed="rId1"/>
          <a:stretch/>
        </p:blipFill>
        <p:spPr>
          <a:xfrm>
            <a:off x="3102120" y="3281400"/>
            <a:ext cx="4932360" cy="300672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866" name=""/>
          <p:cNvGrpSpPr/>
          <p:nvPr/>
        </p:nvGrpSpPr>
        <p:grpSpPr>
          <a:xfrm>
            <a:off x="500040" y="2895480"/>
            <a:ext cx="2209680" cy="2971800"/>
            <a:chOff x="500040" y="2895480"/>
            <a:chExt cx="2209680" cy="2971800"/>
          </a:xfrm>
        </p:grpSpPr>
        <p:sp>
          <p:nvSpPr>
            <p:cNvPr id="867" name=""/>
            <p:cNvSpPr/>
            <p:nvPr/>
          </p:nvSpPr>
          <p:spPr>
            <a:xfrm>
              <a:off x="50004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0796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12464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24884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14948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32336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39788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46016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52640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60884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05840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00476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02564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03356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67940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74960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79928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85724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89864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30680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53864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31940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38564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55520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42704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58436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61316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18692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17432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18016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0908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9380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96768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00080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1304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2260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1432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99404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5596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89036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10808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2324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7724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84500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2884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99252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1864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5368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8616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95112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92628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9316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60884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68336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69596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72476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02960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65232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709720" y="198108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e percent sentences in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mathematical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776760" y="7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" descr=""/>
          <p:cNvPicPr/>
          <p:nvPr/>
        </p:nvPicPr>
        <p:blipFill>
          <a:blip r:embed="rId1"/>
          <a:stretch/>
        </p:blipFill>
        <p:spPr>
          <a:xfrm>
            <a:off x="3102120" y="3186000"/>
            <a:ext cx="4922640" cy="303696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928" name=""/>
          <p:cNvGrpSpPr/>
          <p:nvPr/>
        </p:nvGrpSpPr>
        <p:grpSpPr>
          <a:xfrm>
            <a:off x="500040" y="2895480"/>
            <a:ext cx="2209680" cy="2971800"/>
            <a:chOff x="500040" y="2895480"/>
            <a:chExt cx="2209680" cy="2971800"/>
          </a:xfrm>
        </p:grpSpPr>
        <p:sp>
          <p:nvSpPr>
            <p:cNvPr id="929" name=""/>
            <p:cNvSpPr/>
            <p:nvPr/>
          </p:nvSpPr>
          <p:spPr>
            <a:xfrm>
              <a:off x="50004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0796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12464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24884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14948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32336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39788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46016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52640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60884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05840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00476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02564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03356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67940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74960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79928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85724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89864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30680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53864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31940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38564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55520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42704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58436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61316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18692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17432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18016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0908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9380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96768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00080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01304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2260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1432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99404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05596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89036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10808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2324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7724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84500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2884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99252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1864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5368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8616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95112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92628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89316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60884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68336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69596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72476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02960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65232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709720" y="19810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percent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776760" y="7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692440" y="673200"/>
            <a:ext cx="37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ing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29000" y="125892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Cast of Charac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674640" y="2027160"/>
            <a:ext cx="7882200" cy="1617840"/>
            <a:chOff x="674640" y="2027160"/>
            <a:chExt cx="7882200" cy="1617840"/>
          </a:xfrm>
        </p:grpSpPr>
        <p:pic>
          <p:nvPicPr>
            <p:cNvPr id="281" name="" descr=""/>
            <p:cNvPicPr/>
            <p:nvPr/>
          </p:nvPicPr>
          <p:blipFill>
            <a:blip r:embed="rId1"/>
            <a:stretch/>
          </p:blipFill>
          <p:spPr>
            <a:xfrm>
              <a:off x="674640" y="2027160"/>
              <a:ext cx="3521160" cy="16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4438080" y="2195640"/>
              <a:ext cx="411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“</a:t>
              </a: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The Whole Thing”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3089160" y="2602080"/>
              <a:ext cx="1317600" cy="234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67880" y="2836800"/>
            <a:ext cx="7461720" cy="2166840"/>
            <a:chOff x="767880" y="2836800"/>
            <a:chExt cx="7461720" cy="2166840"/>
          </a:xfrm>
        </p:grpSpPr>
        <p:pic>
          <p:nvPicPr>
            <p:cNvPr id="285" name="" descr=""/>
            <p:cNvPicPr/>
            <p:nvPr/>
          </p:nvPicPr>
          <p:blipFill>
            <a:blip r:embed="rId2"/>
            <a:stretch/>
          </p:blipFill>
          <p:spPr>
            <a:xfrm>
              <a:off x="5562720" y="2836800"/>
              <a:ext cx="2666880" cy="21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767880" y="3843360"/>
              <a:ext cx="487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66ff"/>
                  </a:solidFill>
                  <a:latin typeface="Comic Sans MS"/>
                </a:rPr>
                <a:t>“</a:t>
              </a:r>
              <a:r>
                <a:rPr b="0" lang="en-US" sz="3600" spc="-1" strike="noStrike">
                  <a:solidFill>
                    <a:srgbClr val="cc66ff"/>
                  </a:solidFill>
                  <a:latin typeface="Comic Sans MS"/>
                </a:rPr>
                <a:t>A Part” (of the whole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5732640" y="3843360"/>
              <a:ext cx="971280" cy="334800"/>
            </a:xfrm>
            <a:prstGeom prst="line">
              <a:avLst/>
            </a:prstGeom>
            <a:ln w="38160">
              <a:solidFill>
                <a:srgbClr val="cc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138320" y="4905360"/>
            <a:ext cx="6158520" cy="1460520"/>
            <a:chOff x="1138320" y="4905360"/>
            <a:chExt cx="6158520" cy="1460520"/>
          </a:xfrm>
        </p:grpSpPr>
        <p:pic>
          <p:nvPicPr>
            <p:cNvPr id="289" name="" descr=""/>
            <p:cNvPicPr/>
            <p:nvPr/>
          </p:nvPicPr>
          <p:blipFill>
            <a:blip r:embed="rId3"/>
            <a:stretch/>
          </p:blipFill>
          <p:spPr>
            <a:xfrm>
              <a:off x="1138320" y="4905360"/>
              <a:ext cx="1625400" cy="146052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290" name=""/>
            <p:cNvSpPr/>
            <p:nvPr/>
          </p:nvSpPr>
          <p:spPr>
            <a:xfrm>
              <a:off x="4226760" y="5413320"/>
              <a:ext cx="307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“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The Percent”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2459160" y="5412960"/>
              <a:ext cx="1736640" cy="23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692440" y="673200"/>
            <a:ext cx="37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ing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98640" y="2346480"/>
            <a:ext cx="6902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6000" spc="-1" strike="noStrike">
                <a:solidFill>
                  <a:srgbClr val="0000ff"/>
                </a:solidFill>
                <a:latin typeface="Comic Sans MS"/>
              </a:rPr>
              <a:t>      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of             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s  a                     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994040" y="1863720"/>
            <a:ext cx="1625400" cy="146052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5159520" y="1943280"/>
            <a:ext cx="3520800" cy="16174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3476520" y="4270320"/>
            <a:ext cx="2667240" cy="2166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692440" y="673200"/>
            <a:ext cx="37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ing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1160" y="1501920"/>
            <a:ext cx="78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re are 3 basic elem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1570320" y="2825640"/>
            <a:ext cx="2996640" cy="3068280"/>
            <a:chOff x="1570320" y="2825640"/>
            <a:chExt cx="2996640" cy="3068280"/>
          </a:xfrm>
        </p:grpSpPr>
        <p:grpSp>
          <p:nvGrpSpPr>
            <p:cNvPr id="300" name=""/>
            <p:cNvGrpSpPr/>
            <p:nvPr/>
          </p:nvGrpSpPr>
          <p:grpSpPr>
            <a:xfrm>
              <a:off x="1570320" y="4214880"/>
              <a:ext cx="1474560" cy="1679040"/>
              <a:chOff x="1570320" y="4214880"/>
              <a:chExt cx="1474560" cy="1679040"/>
            </a:xfrm>
          </p:grpSpPr>
          <p:sp>
            <p:nvSpPr>
              <p:cNvPr id="301" name=""/>
              <p:cNvSpPr/>
              <p:nvPr/>
            </p:nvSpPr>
            <p:spPr>
              <a:xfrm>
                <a:off x="1570320" y="5251320"/>
                <a:ext cx="1474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whol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844640" y="4214880"/>
                <a:ext cx="923400" cy="923760"/>
              </a:xfrm>
              <a:prstGeom prst="ellipse">
                <a:avLst/>
              </a:prstGeom>
              <a:solidFill>
                <a:srgbClr val="0000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2301480" y="2825640"/>
              <a:ext cx="2265480" cy="1131840"/>
              <a:chOff x="2301480" y="2825640"/>
              <a:chExt cx="2265480" cy="1131840"/>
            </a:xfrm>
          </p:grpSpPr>
          <p:sp>
            <p:nvSpPr>
              <p:cNvPr id="304" name=""/>
              <p:cNvSpPr/>
              <p:nvPr/>
            </p:nvSpPr>
            <p:spPr>
              <a:xfrm>
                <a:off x="4551480" y="2825640"/>
                <a:ext cx="0" cy="233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2301480" y="3056040"/>
                <a:ext cx="2265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301840" y="3043080"/>
                <a:ext cx="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3862440" y="3036960"/>
            <a:ext cx="1428840" cy="2856960"/>
            <a:chOff x="3862440" y="3036960"/>
            <a:chExt cx="1428840" cy="2856960"/>
          </a:xfrm>
        </p:grpSpPr>
        <p:grpSp>
          <p:nvGrpSpPr>
            <p:cNvPr id="308" name=""/>
            <p:cNvGrpSpPr/>
            <p:nvPr/>
          </p:nvGrpSpPr>
          <p:grpSpPr>
            <a:xfrm>
              <a:off x="3862440" y="4214880"/>
              <a:ext cx="1428840" cy="1679040"/>
              <a:chOff x="3862440" y="4214880"/>
              <a:chExt cx="1428840" cy="167904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3862440" y="4214880"/>
                <a:ext cx="1428840" cy="1168200"/>
                <a:chOff x="3862440" y="4214880"/>
                <a:chExt cx="1428840" cy="1168200"/>
              </a:xfrm>
            </p:grpSpPr>
            <p:grpSp>
              <p:nvGrpSpPr>
                <p:cNvPr id="310" name=""/>
                <p:cNvGrpSpPr/>
                <p:nvPr/>
              </p:nvGrpSpPr>
              <p:grpSpPr>
                <a:xfrm>
                  <a:off x="3862440" y="4214880"/>
                  <a:ext cx="1143720" cy="1168200"/>
                  <a:chOff x="3862440" y="4214880"/>
                  <a:chExt cx="1143720" cy="1168200"/>
                </a:xfrm>
              </p:grpSpPr>
              <p:grpSp>
                <p:nvGrpSpPr>
                  <p:cNvPr id="311" name=""/>
                  <p:cNvGrpSpPr/>
                  <p:nvPr/>
                </p:nvGrpSpPr>
                <p:grpSpPr>
                  <a:xfrm>
                    <a:off x="3862440" y="4214880"/>
                    <a:ext cx="1143720" cy="1168200"/>
                    <a:chOff x="3862440" y="4214880"/>
                    <a:chExt cx="1143720" cy="1168200"/>
                  </a:xfrm>
                </p:grpSpPr>
                <p:sp>
                  <p:nvSpPr>
                    <p:cNvPr id="312" name=""/>
                    <p:cNvSpPr/>
                    <p:nvPr/>
                  </p:nvSpPr>
                  <p:spPr>
                    <a:xfrm>
                      <a:off x="3862440" y="4590360"/>
                      <a:ext cx="1143720" cy="79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2" h="1334">
                          <a:moveTo>
                            <a:pt x="1528" y="472"/>
                          </a:moveTo>
                          <a:lnTo>
                            <a:pt x="1518" y="472"/>
                          </a:lnTo>
                          <a:lnTo>
                            <a:pt x="1511" y="472"/>
                          </a:lnTo>
                          <a:lnTo>
                            <a:pt x="1503" y="472"/>
                          </a:lnTo>
                          <a:lnTo>
                            <a:pt x="1495" y="469"/>
                          </a:lnTo>
                          <a:lnTo>
                            <a:pt x="1480" y="424"/>
                          </a:lnTo>
                          <a:lnTo>
                            <a:pt x="1460" y="380"/>
                          </a:lnTo>
                          <a:lnTo>
                            <a:pt x="1435" y="340"/>
                          </a:lnTo>
                          <a:lnTo>
                            <a:pt x="1404" y="299"/>
                          </a:lnTo>
                          <a:lnTo>
                            <a:pt x="1371" y="259"/>
                          </a:lnTo>
                          <a:lnTo>
                            <a:pt x="1336" y="223"/>
                          </a:lnTo>
                          <a:lnTo>
                            <a:pt x="1295" y="188"/>
                          </a:lnTo>
                          <a:lnTo>
                            <a:pt x="1252" y="155"/>
                          </a:lnTo>
                          <a:lnTo>
                            <a:pt x="1204" y="127"/>
                          </a:lnTo>
                          <a:lnTo>
                            <a:pt x="1153" y="99"/>
                          </a:lnTo>
                          <a:lnTo>
                            <a:pt x="1102" y="73"/>
                          </a:lnTo>
                          <a:lnTo>
                            <a:pt x="1047" y="53"/>
                          </a:lnTo>
                          <a:lnTo>
                            <a:pt x="988" y="35"/>
                          </a:lnTo>
                          <a:lnTo>
                            <a:pt x="930" y="20"/>
                          </a:lnTo>
                          <a:lnTo>
                            <a:pt x="867" y="10"/>
                          </a:lnTo>
                          <a:lnTo>
                            <a:pt x="803" y="2"/>
                          </a:lnTo>
                          <a:lnTo>
                            <a:pt x="727" y="0"/>
                          </a:lnTo>
                          <a:lnTo>
                            <a:pt x="651" y="0"/>
                          </a:lnTo>
                          <a:lnTo>
                            <a:pt x="578" y="10"/>
                          </a:lnTo>
                          <a:lnTo>
                            <a:pt x="507" y="23"/>
                          </a:lnTo>
                          <a:lnTo>
                            <a:pt x="438" y="40"/>
                          </a:lnTo>
                          <a:lnTo>
                            <a:pt x="375" y="63"/>
                          </a:lnTo>
                          <a:lnTo>
                            <a:pt x="314" y="91"/>
                          </a:lnTo>
                          <a:lnTo>
                            <a:pt x="256" y="124"/>
                          </a:lnTo>
                          <a:lnTo>
                            <a:pt x="205" y="160"/>
                          </a:lnTo>
                          <a:lnTo>
                            <a:pt x="157" y="200"/>
                          </a:lnTo>
                          <a:lnTo>
                            <a:pt x="114" y="243"/>
                          </a:lnTo>
                          <a:lnTo>
                            <a:pt x="78" y="289"/>
                          </a:lnTo>
                          <a:lnTo>
                            <a:pt x="48" y="340"/>
                          </a:lnTo>
                          <a:lnTo>
                            <a:pt x="25" y="393"/>
                          </a:lnTo>
                          <a:lnTo>
                            <a:pt x="10" y="446"/>
                          </a:lnTo>
                          <a:lnTo>
                            <a:pt x="0" y="505"/>
                          </a:lnTo>
                          <a:lnTo>
                            <a:pt x="0" y="515"/>
                          </a:lnTo>
                          <a:lnTo>
                            <a:pt x="0" y="528"/>
                          </a:lnTo>
                          <a:lnTo>
                            <a:pt x="0" y="538"/>
                          </a:lnTo>
                          <a:lnTo>
                            <a:pt x="0" y="550"/>
                          </a:lnTo>
                          <a:lnTo>
                            <a:pt x="5" y="606"/>
                          </a:lnTo>
                          <a:lnTo>
                            <a:pt x="15" y="660"/>
                          </a:lnTo>
                          <a:lnTo>
                            <a:pt x="32" y="713"/>
                          </a:lnTo>
                          <a:lnTo>
                            <a:pt x="58" y="764"/>
                          </a:lnTo>
                          <a:lnTo>
                            <a:pt x="86" y="812"/>
                          </a:lnTo>
                          <a:lnTo>
                            <a:pt x="121" y="857"/>
                          </a:lnTo>
                          <a:lnTo>
                            <a:pt x="162" y="901"/>
                          </a:lnTo>
                          <a:lnTo>
                            <a:pt x="207" y="944"/>
                          </a:lnTo>
                          <a:lnTo>
                            <a:pt x="256" y="982"/>
                          </a:lnTo>
                          <a:lnTo>
                            <a:pt x="311" y="1015"/>
                          </a:lnTo>
                          <a:lnTo>
                            <a:pt x="370" y="1048"/>
                          </a:lnTo>
                          <a:lnTo>
                            <a:pt x="431" y="1073"/>
                          </a:lnTo>
                          <a:lnTo>
                            <a:pt x="494" y="1096"/>
                          </a:lnTo>
                          <a:lnTo>
                            <a:pt x="562" y="1116"/>
                          </a:lnTo>
                          <a:lnTo>
                            <a:pt x="633" y="1129"/>
                          </a:lnTo>
                          <a:lnTo>
                            <a:pt x="707" y="1139"/>
                          </a:lnTo>
                          <a:lnTo>
                            <a:pt x="717" y="1139"/>
                          </a:lnTo>
                          <a:lnTo>
                            <a:pt x="727" y="1142"/>
                          </a:lnTo>
                          <a:lnTo>
                            <a:pt x="735" y="1142"/>
                          </a:lnTo>
                          <a:lnTo>
                            <a:pt x="745" y="1142"/>
                          </a:lnTo>
                          <a:lnTo>
                            <a:pt x="755" y="1142"/>
                          </a:lnTo>
                          <a:lnTo>
                            <a:pt x="765" y="1142"/>
                          </a:lnTo>
                          <a:lnTo>
                            <a:pt x="773" y="1142"/>
                          </a:lnTo>
                          <a:lnTo>
                            <a:pt x="783" y="1142"/>
                          </a:lnTo>
                          <a:lnTo>
                            <a:pt x="824" y="1142"/>
                          </a:lnTo>
                          <a:lnTo>
                            <a:pt x="864" y="1139"/>
                          </a:lnTo>
                          <a:lnTo>
                            <a:pt x="902" y="1137"/>
                          </a:lnTo>
                          <a:lnTo>
                            <a:pt x="943" y="1131"/>
                          </a:lnTo>
                          <a:lnTo>
                            <a:pt x="981" y="1124"/>
                          </a:lnTo>
                          <a:lnTo>
                            <a:pt x="1019" y="1116"/>
                          </a:lnTo>
                          <a:lnTo>
                            <a:pt x="1054" y="1106"/>
                          </a:lnTo>
                          <a:lnTo>
                            <a:pt x="1090" y="1096"/>
                          </a:lnTo>
                          <a:lnTo>
                            <a:pt x="1118" y="1142"/>
                          </a:lnTo>
                          <a:lnTo>
                            <a:pt x="1153" y="1185"/>
                          </a:lnTo>
                          <a:lnTo>
                            <a:pt x="1194" y="1225"/>
                          </a:lnTo>
                          <a:lnTo>
                            <a:pt x="1237" y="1258"/>
                          </a:lnTo>
                          <a:lnTo>
                            <a:pt x="1285" y="1286"/>
                          </a:lnTo>
                          <a:lnTo>
                            <a:pt x="1338" y="1309"/>
                          </a:lnTo>
                          <a:lnTo>
                            <a:pt x="1397" y="1324"/>
                          </a:lnTo>
                          <a:lnTo>
                            <a:pt x="1455" y="1334"/>
                          </a:lnTo>
                          <a:lnTo>
                            <a:pt x="1468" y="1334"/>
                          </a:lnTo>
                          <a:lnTo>
                            <a:pt x="1480" y="1334"/>
                          </a:lnTo>
                          <a:lnTo>
                            <a:pt x="1490" y="1334"/>
                          </a:lnTo>
                          <a:lnTo>
                            <a:pt x="1503" y="1334"/>
                          </a:lnTo>
                          <a:lnTo>
                            <a:pt x="1546" y="1332"/>
                          </a:lnTo>
                          <a:lnTo>
                            <a:pt x="1587" y="1327"/>
                          </a:lnTo>
                          <a:lnTo>
                            <a:pt x="1627" y="1317"/>
                          </a:lnTo>
                          <a:lnTo>
                            <a:pt x="1665" y="1304"/>
                          </a:lnTo>
                          <a:lnTo>
                            <a:pt x="1701" y="1286"/>
                          </a:lnTo>
                          <a:lnTo>
                            <a:pt x="1736" y="1268"/>
                          </a:lnTo>
                          <a:lnTo>
                            <a:pt x="1769" y="1246"/>
                          </a:lnTo>
                          <a:lnTo>
                            <a:pt x="1800" y="1220"/>
                          </a:lnTo>
                          <a:lnTo>
                            <a:pt x="1828" y="1192"/>
                          </a:lnTo>
                          <a:lnTo>
                            <a:pt x="1853" y="1162"/>
                          </a:lnTo>
                          <a:lnTo>
                            <a:pt x="1876" y="1131"/>
                          </a:lnTo>
                          <a:lnTo>
                            <a:pt x="1894" y="1096"/>
                          </a:lnTo>
                          <a:lnTo>
                            <a:pt x="1911" y="1060"/>
                          </a:lnTo>
                          <a:lnTo>
                            <a:pt x="1924" y="1022"/>
                          </a:lnTo>
                          <a:lnTo>
                            <a:pt x="1934" y="982"/>
                          </a:lnTo>
                          <a:lnTo>
                            <a:pt x="1939" y="941"/>
                          </a:lnTo>
                          <a:lnTo>
                            <a:pt x="1942" y="898"/>
                          </a:lnTo>
                          <a:lnTo>
                            <a:pt x="1937" y="852"/>
                          </a:lnTo>
                          <a:lnTo>
                            <a:pt x="1929" y="812"/>
                          </a:lnTo>
                          <a:lnTo>
                            <a:pt x="1919" y="771"/>
                          </a:lnTo>
                          <a:lnTo>
                            <a:pt x="1904" y="731"/>
                          </a:lnTo>
                          <a:lnTo>
                            <a:pt x="1883" y="693"/>
                          </a:lnTo>
                          <a:lnTo>
                            <a:pt x="1861" y="657"/>
                          </a:lnTo>
                          <a:lnTo>
                            <a:pt x="1835" y="624"/>
                          </a:lnTo>
                          <a:lnTo>
                            <a:pt x="1805" y="594"/>
                          </a:lnTo>
                          <a:lnTo>
                            <a:pt x="1772" y="566"/>
                          </a:lnTo>
                          <a:lnTo>
                            <a:pt x="1739" y="543"/>
                          </a:lnTo>
                          <a:lnTo>
                            <a:pt x="1701" y="520"/>
                          </a:lnTo>
                          <a:lnTo>
                            <a:pt x="1660" y="502"/>
                          </a:lnTo>
                          <a:lnTo>
                            <a:pt x="1617" y="487"/>
                          </a:lnTo>
                          <a:lnTo>
                            <a:pt x="1574" y="477"/>
                          </a:lnTo>
                          <a:lnTo>
                            <a:pt x="1528" y="472"/>
                          </a:lnTo>
                          <a:close/>
                        </a:path>
                      </a:pathLst>
                    </a:custGeom>
                    <a:solidFill>
                      <a:srgbClr val="bfcef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3924720" y="4214880"/>
                      <a:ext cx="1001880" cy="9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01" h="1609">
                          <a:moveTo>
                            <a:pt x="862" y="1279"/>
                          </a:moveTo>
                          <a:lnTo>
                            <a:pt x="844" y="1279"/>
                          </a:lnTo>
                          <a:lnTo>
                            <a:pt x="829" y="1279"/>
                          </a:lnTo>
                          <a:lnTo>
                            <a:pt x="811" y="1279"/>
                          </a:lnTo>
                          <a:lnTo>
                            <a:pt x="794" y="1276"/>
                          </a:lnTo>
                          <a:lnTo>
                            <a:pt x="776" y="1276"/>
                          </a:lnTo>
                          <a:lnTo>
                            <a:pt x="761" y="1274"/>
                          </a:lnTo>
                          <a:lnTo>
                            <a:pt x="743" y="1271"/>
                          </a:lnTo>
                          <a:lnTo>
                            <a:pt x="725" y="1269"/>
                          </a:lnTo>
                          <a:lnTo>
                            <a:pt x="715" y="1053"/>
                          </a:lnTo>
                          <a:lnTo>
                            <a:pt x="1628" y="1068"/>
                          </a:lnTo>
                          <a:lnTo>
                            <a:pt x="1640" y="1012"/>
                          </a:lnTo>
                          <a:lnTo>
                            <a:pt x="1666" y="888"/>
                          </a:lnTo>
                          <a:lnTo>
                            <a:pt x="1689" y="764"/>
                          </a:lnTo>
                          <a:lnTo>
                            <a:pt x="1701" y="700"/>
                          </a:lnTo>
                          <a:lnTo>
                            <a:pt x="1699" y="624"/>
                          </a:lnTo>
                          <a:lnTo>
                            <a:pt x="1686" y="553"/>
                          </a:lnTo>
                          <a:lnTo>
                            <a:pt x="1666" y="482"/>
                          </a:lnTo>
                          <a:lnTo>
                            <a:pt x="1638" y="419"/>
                          </a:lnTo>
                          <a:lnTo>
                            <a:pt x="1602" y="355"/>
                          </a:lnTo>
                          <a:lnTo>
                            <a:pt x="1562" y="297"/>
                          </a:lnTo>
                          <a:lnTo>
                            <a:pt x="1511" y="244"/>
                          </a:lnTo>
                          <a:lnTo>
                            <a:pt x="1458" y="195"/>
                          </a:lnTo>
                          <a:lnTo>
                            <a:pt x="1397" y="152"/>
                          </a:lnTo>
                          <a:lnTo>
                            <a:pt x="1334" y="114"/>
                          </a:lnTo>
                          <a:lnTo>
                            <a:pt x="1263" y="79"/>
                          </a:lnTo>
                          <a:lnTo>
                            <a:pt x="1189" y="51"/>
                          </a:lnTo>
                          <a:lnTo>
                            <a:pt x="1111" y="30"/>
                          </a:lnTo>
                          <a:lnTo>
                            <a:pt x="1032" y="13"/>
                          </a:lnTo>
                          <a:lnTo>
                            <a:pt x="948" y="3"/>
                          </a:lnTo>
                          <a:lnTo>
                            <a:pt x="862" y="0"/>
                          </a:lnTo>
                          <a:lnTo>
                            <a:pt x="781" y="3"/>
                          </a:lnTo>
                          <a:lnTo>
                            <a:pt x="702" y="13"/>
                          </a:lnTo>
                          <a:lnTo>
                            <a:pt x="626" y="28"/>
                          </a:lnTo>
                          <a:lnTo>
                            <a:pt x="553" y="48"/>
                          </a:lnTo>
                          <a:lnTo>
                            <a:pt x="484" y="74"/>
                          </a:lnTo>
                          <a:lnTo>
                            <a:pt x="416" y="104"/>
                          </a:lnTo>
                          <a:lnTo>
                            <a:pt x="355" y="140"/>
                          </a:lnTo>
                          <a:lnTo>
                            <a:pt x="297" y="178"/>
                          </a:lnTo>
                          <a:lnTo>
                            <a:pt x="243" y="223"/>
                          </a:lnTo>
                          <a:lnTo>
                            <a:pt x="195" y="269"/>
                          </a:lnTo>
                          <a:lnTo>
                            <a:pt x="152" y="320"/>
                          </a:lnTo>
                          <a:lnTo>
                            <a:pt x="114" y="373"/>
                          </a:lnTo>
                          <a:lnTo>
                            <a:pt x="84" y="431"/>
                          </a:lnTo>
                          <a:lnTo>
                            <a:pt x="61" y="490"/>
                          </a:lnTo>
                          <a:lnTo>
                            <a:pt x="43" y="551"/>
                          </a:lnTo>
                          <a:lnTo>
                            <a:pt x="33" y="614"/>
                          </a:lnTo>
                          <a:lnTo>
                            <a:pt x="30" y="614"/>
                          </a:lnTo>
                          <a:lnTo>
                            <a:pt x="0" y="929"/>
                          </a:lnTo>
                          <a:lnTo>
                            <a:pt x="0" y="936"/>
                          </a:lnTo>
                          <a:lnTo>
                            <a:pt x="3" y="954"/>
                          </a:lnTo>
                          <a:lnTo>
                            <a:pt x="3" y="977"/>
                          </a:lnTo>
                          <a:lnTo>
                            <a:pt x="3" y="995"/>
                          </a:lnTo>
                          <a:lnTo>
                            <a:pt x="8" y="1056"/>
                          </a:lnTo>
                          <a:lnTo>
                            <a:pt x="20" y="1114"/>
                          </a:lnTo>
                          <a:lnTo>
                            <a:pt x="38" y="1172"/>
                          </a:lnTo>
                          <a:lnTo>
                            <a:pt x="66" y="1228"/>
                          </a:lnTo>
                          <a:lnTo>
                            <a:pt x="99" y="1279"/>
                          </a:lnTo>
                          <a:lnTo>
                            <a:pt x="139" y="1330"/>
                          </a:lnTo>
                          <a:lnTo>
                            <a:pt x="183" y="1375"/>
                          </a:lnTo>
                          <a:lnTo>
                            <a:pt x="236" y="1418"/>
                          </a:lnTo>
                          <a:lnTo>
                            <a:pt x="292" y="1459"/>
                          </a:lnTo>
                          <a:lnTo>
                            <a:pt x="352" y="1495"/>
                          </a:lnTo>
                          <a:lnTo>
                            <a:pt x="418" y="1525"/>
                          </a:lnTo>
                          <a:lnTo>
                            <a:pt x="489" y="1553"/>
                          </a:lnTo>
                          <a:lnTo>
                            <a:pt x="563" y="1573"/>
                          </a:lnTo>
                          <a:lnTo>
                            <a:pt x="641" y="1591"/>
                          </a:lnTo>
                          <a:lnTo>
                            <a:pt x="723" y="1604"/>
                          </a:lnTo>
                          <a:lnTo>
                            <a:pt x="809" y="1609"/>
                          </a:lnTo>
                          <a:lnTo>
                            <a:pt x="847" y="1609"/>
                          </a:lnTo>
                          <a:lnTo>
                            <a:pt x="885" y="1609"/>
                          </a:lnTo>
                          <a:lnTo>
                            <a:pt x="923" y="1604"/>
                          </a:lnTo>
                          <a:lnTo>
                            <a:pt x="961" y="1599"/>
                          </a:lnTo>
                          <a:lnTo>
                            <a:pt x="996" y="1593"/>
                          </a:lnTo>
                          <a:lnTo>
                            <a:pt x="1032" y="1586"/>
                          </a:lnTo>
                          <a:lnTo>
                            <a:pt x="1067" y="1576"/>
                          </a:lnTo>
                          <a:lnTo>
                            <a:pt x="1103" y="1566"/>
                          </a:lnTo>
                          <a:lnTo>
                            <a:pt x="1108" y="1510"/>
                          </a:lnTo>
                          <a:lnTo>
                            <a:pt x="1042" y="1530"/>
                          </a:lnTo>
                          <a:lnTo>
                            <a:pt x="979" y="1540"/>
                          </a:lnTo>
                          <a:lnTo>
                            <a:pt x="920" y="1548"/>
                          </a:lnTo>
                          <a:lnTo>
                            <a:pt x="870" y="1550"/>
                          </a:lnTo>
                          <a:lnTo>
                            <a:pt x="827" y="1553"/>
                          </a:lnTo>
                          <a:lnTo>
                            <a:pt x="796" y="1550"/>
                          </a:lnTo>
                          <a:lnTo>
                            <a:pt x="776" y="1548"/>
                          </a:lnTo>
                          <a:lnTo>
                            <a:pt x="768" y="1548"/>
                          </a:lnTo>
                          <a:lnTo>
                            <a:pt x="799" y="1507"/>
                          </a:lnTo>
                          <a:lnTo>
                            <a:pt x="811" y="1484"/>
                          </a:lnTo>
                          <a:lnTo>
                            <a:pt x="809" y="1469"/>
                          </a:lnTo>
                          <a:lnTo>
                            <a:pt x="794" y="1467"/>
                          </a:lnTo>
                          <a:lnTo>
                            <a:pt x="776" y="1467"/>
                          </a:lnTo>
                          <a:lnTo>
                            <a:pt x="756" y="1472"/>
                          </a:lnTo>
                          <a:lnTo>
                            <a:pt x="740" y="1477"/>
                          </a:lnTo>
                          <a:lnTo>
                            <a:pt x="735" y="1479"/>
                          </a:lnTo>
                          <a:lnTo>
                            <a:pt x="730" y="1352"/>
                          </a:lnTo>
                          <a:lnTo>
                            <a:pt x="740" y="1352"/>
                          </a:lnTo>
                          <a:lnTo>
                            <a:pt x="751" y="1355"/>
                          </a:lnTo>
                          <a:lnTo>
                            <a:pt x="758" y="1355"/>
                          </a:lnTo>
                          <a:lnTo>
                            <a:pt x="768" y="1355"/>
                          </a:lnTo>
                          <a:lnTo>
                            <a:pt x="778" y="1357"/>
                          </a:lnTo>
                          <a:lnTo>
                            <a:pt x="789" y="1357"/>
                          </a:lnTo>
                          <a:lnTo>
                            <a:pt x="799" y="1357"/>
                          </a:lnTo>
                          <a:lnTo>
                            <a:pt x="809" y="1357"/>
                          </a:lnTo>
                          <a:lnTo>
                            <a:pt x="854" y="1357"/>
                          </a:lnTo>
                          <a:lnTo>
                            <a:pt x="898" y="1357"/>
                          </a:lnTo>
                          <a:lnTo>
                            <a:pt x="941" y="1355"/>
                          </a:lnTo>
                          <a:lnTo>
                            <a:pt x="981" y="1350"/>
                          </a:lnTo>
                          <a:lnTo>
                            <a:pt x="1019" y="1345"/>
                          </a:lnTo>
                          <a:lnTo>
                            <a:pt x="1057" y="1340"/>
                          </a:lnTo>
                          <a:lnTo>
                            <a:pt x="1093" y="1332"/>
                          </a:lnTo>
                          <a:lnTo>
                            <a:pt x="1128" y="1322"/>
                          </a:lnTo>
                          <a:lnTo>
                            <a:pt x="1128" y="1302"/>
                          </a:lnTo>
                          <a:lnTo>
                            <a:pt x="1131" y="1289"/>
                          </a:lnTo>
                          <a:lnTo>
                            <a:pt x="1113" y="1246"/>
                          </a:lnTo>
                          <a:lnTo>
                            <a:pt x="1083" y="1253"/>
                          </a:lnTo>
                          <a:lnTo>
                            <a:pt x="1052" y="1261"/>
                          </a:lnTo>
                          <a:lnTo>
                            <a:pt x="1022" y="1266"/>
                          </a:lnTo>
                          <a:lnTo>
                            <a:pt x="991" y="1271"/>
                          </a:lnTo>
                          <a:lnTo>
                            <a:pt x="961" y="1274"/>
                          </a:lnTo>
                          <a:lnTo>
                            <a:pt x="928" y="1276"/>
                          </a:lnTo>
                          <a:lnTo>
                            <a:pt x="895" y="1279"/>
                          </a:lnTo>
                          <a:lnTo>
                            <a:pt x="862" y="12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3985920" y="4248000"/>
                      <a:ext cx="895680" cy="35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1" h="604">
                          <a:moveTo>
                            <a:pt x="5" y="523"/>
                          </a:moveTo>
                          <a:lnTo>
                            <a:pt x="18" y="469"/>
                          </a:lnTo>
                          <a:lnTo>
                            <a:pt x="35" y="416"/>
                          </a:lnTo>
                          <a:lnTo>
                            <a:pt x="61" y="365"/>
                          </a:lnTo>
                          <a:lnTo>
                            <a:pt x="91" y="317"/>
                          </a:lnTo>
                          <a:lnTo>
                            <a:pt x="124" y="271"/>
                          </a:lnTo>
                          <a:lnTo>
                            <a:pt x="165" y="228"/>
                          </a:lnTo>
                          <a:lnTo>
                            <a:pt x="208" y="188"/>
                          </a:lnTo>
                          <a:lnTo>
                            <a:pt x="256" y="150"/>
                          </a:lnTo>
                          <a:lnTo>
                            <a:pt x="309" y="117"/>
                          </a:lnTo>
                          <a:lnTo>
                            <a:pt x="365" y="89"/>
                          </a:lnTo>
                          <a:lnTo>
                            <a:pt x="423" y="61"/>
                          </a:lnTo>
                          <a:lnTo>
                            <a:pt x="487" y="40"/>
                          </a:lnTo>
                          <a:lnTo>
                            <a:pt x="550" y="23"/>
                          </a:lnTo>
                          <a:lnTo>
                            <a:pt x="619" y="10"/>
                          </a:lnTo>
                          <a:lnTo>
                            <a:pt x="687" y="2"/>
                          </a:lnTo>
                          <a:lnTo>
                            <a:pt x="758" y="0"/>
                          </a:lnTo>
                          <a:lnTo>
                            <a:pt x="837" y="2"/>
                          </a:lnTo>
                          <a:lnTo>
                            <a:pt x="910" y="13"/>
                          </a:lnTo>
                          <a:lnTo>
                            <a:pt x="984" y="28"/>
                          </a:lnTo>
                          <a:lnTo>
                            <a:pt x="1052" y="45"/>
                          </a:lnTo>
                          <a:lnTo>
                            <a:pt x="1121" y="71"/>
                          </a:lnTo>
                          <a:lnTo>
                            <a:pt x="1182" y="101"/>
                          </a:lnTo>
                          <a:lnTo>
                            <a:pt x="1240" y="137"/>
                          </a:lnTo>
                          <a:lnTo>
                            <a:pt x="1296" y="175"/>
                          </a:lnTo>
                          <a:lnTo>
                            <a:pt x="1344" y="218"/>
                          </a:lnTo>
                          <a:lnTo>
                            <a:pt x="1387" y="264"/>
                          </a:lnTo>
                          <a:lnTo>
                            <a:pt x="1427" y="314"/>
                          </a:lnTo>
                          <a:lnTo>
                            <a:pt x="1458" y="368"/>
                          </a:lnTo>
                          <a:lnTo>
                            <a:pt x="1486" y="424"/>
                          </a:lnTo>
                          <a:lnTo>
                            <a:pt x="1504" y="482"/>
                          </a:lnTo>
                          <a:lnTo>
                            <a:pt x="1516" y="540"/>
                          </a:lnTo>
                          <a:lnTo>
                            <a:pt x="1521" y="604"/>
                          </a:lnTo>
                          <a:lnTo>
                            <a:pt x="0" y="561"/>
                          </a:lnTo>
                          <a:lnTo>
                            <a:pt x="0" y="550"/>
                          </a:lnTo>
                          <a:lnTo>
                            <a:pt x="3" y="540"/>
                          </a:lnTo>
                          <a:lnTo>
                            <a:pt x="3" y="533"/>
                          </a:lnTo>
                          <a:lnTo>
                            <a:pt x="5" y="52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4353480" y="5003280"/>
                      <a:ext cx="3852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8">
                          <a:moveTo>
                            <a:pt x="0" y="0"/>
                          </a:moveTo>
                          <a:lnTo>
                            <a:pt x="17" y="3"/>
                          </a:lnTo>
                          <a:lnTo>
                            <a:pt x="33" y="3"/>
                          </a:lnTo>
                          <a:lnTo>
                            <a:pt x="48" y="5"/>
                          </a:lnTo>
                          <a:lnTo>
                            <a:pt x="66" y="8"/>
                          </a:lnTo>
                          <a:lnTo>
                            <a:pt x="48" y="5"/>
                          </a:lnTo>
                          <a:lnTo>
                            <a:pt x="33" y="3"/>
                          </a:lnTo>
                          <a:lnTo>
                            <a:pt x="17" y="3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4393800" y="5008320"/>
                      <a:ext cx="162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0">
                          <a:moveTo>
                            <a:pt x="0" y="0"/>
                          </a:moveTo>
                          <a:lnTo>
                            <a:pt x="8" y="0"/>
                          </a:lnTo>
                          <a:lnTo>
                            <a:pt x="15" y="0"/>
                          </a:lnTo>
                          <a:lnTo>
                            <a:pt x="20" y="0"/>
                          </a:lnTo>
                          <a:lnTo>
                            <a:pt x="28" y="0"/>
                          </a:lnTo>
                          <a:lnTo>
                            <a:pt x="20" y="0"/>
                          </a:lnTo>
                          <a:lnTo>
                            <a:pt x="15" y="0"/>
                          </a:lnTo>
                          <a:lnTo>
                            <a:pt x="8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4412880" y="5008320"/>
                      <a:ext cx="1944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">
                          <a:moveTo>
                            <a:pt x="0" y="0"/>
                          </a:moveTo>
                          <a:lnTo>
                            <a:pt x="10" y="0"/>
                          </a:lnTo>
                          <a:lnTo>
                            <a:pt x="18" y="0"/>
                          </a:lnTo>
                          <a:lnTo>
                            <a:pt x="25" y="2"/>
                          </a:lnTo>
                          <a:lnTo>
                            <a:pt x="33" y="2"/>
                          </a:lnTo>
                          <a:lnTo>
                            <a:pt x="25" y="2"/>
                          </a:lnTo>
                          <a:lnTo>
                            <a:pt x="18" y="0"/>
                          </a:lnTo>
                          <a:lnTo>
                            <a:pt x="1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4665600" y="4421520"/>
                      <a:ext cx="216000" cy="18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" h="309">
                          <a:moveTo>
                            <a:pt x="0" y="28"/>
                          </a:moveTo>
                          <a:lnTo>
                            <a:pt x="40" y="50"/>
                          </a:lnTo>
                          <a:lnTo>
                            <a:pt x="78" y="73"/>
                          </a:lnTo>
                          <a:lnTo>
                            <a:pt x="116" y="99"/>
                          </a:lnTo>
                          <a:lnTo>
                            <a:pt x="149" y="126"/>
                          </a:lnTo>
                          <a:lnTo>
                            <a:pt x="182" y="154"/>
                          </a:lnTo>
                          <a:lnTo>
                            <a:pt x="215" y="185"/>
                          </a:lnTo>
                          <a:lnTo>
                            <a:pt x="243" y="218"/>
                          </a:lnTo>
                          <a:lnTo>
                            <a:pt x="268" y="251"/>
                          </a:lnTo>
                          <a:lnTo>
                            <a:pt x="281" y="258"/>
                          </a:lnTo>
                          <a:lnTo>
                            <a:pt x="294" y="264"/>
                          </a:lnTo>
                          <a:lnTo>
                            <a:pt x="306" y="271"/>
                          </a:lnTo>
                          <a:lnTo>
                            <a:pt x="319" y="279"/>
                          </a:lnTo>
                          <a:lnTo>
                            <a:pt x="329" y="286"/>
                          </a:lnTo>
                          <a:lnTo>
                            <a:pt x="342" y="294"/>
                          </a:lnTo>
                          <a:lnTo>
                            <a:pt x="355" y="302"/>
                          </a:lnTo>
                          <a:lnTo>
                            <a:pt x="367" y="309"/>
                          </a:lnTo>
                          <a:lnTo>
                            <a:pt x="367" y="276"/>
                          </a:lnTo>
                          <a:lnTo>
                            <a:pt x="362" y="246"/>
                          </a:lnTo>
                          <a:lnTo>
                            <a:pt x="357" y="215"/>
                          </a:lnTo>
                          <a:lnTo>
                            <a:pt x="350" y="185"/>
                          </a:lnTo>
                          <a:lnTo>
                            <a:pt x="319" y="165"/>
                          </a:lnTo>
                          <a:lnTo>
                            <a:pt x="286" y="142"/>
                          </a:lnTo>
                          <a:lnTo>
                            <a:pt x="251" y="119"/>
                          </a:lnTo>
                          <a:lnTo>
                            <a:pt x="213" y="96"/>
                          </a:lnTo>
                          <a:lnTo>
                            <a:pt x="172" y="73"/>
                          </a:lnTo>
                          <a:lnTo>
                            <a:pt x="126" y="48"/>
                          </a:lnTo>
                          <a:lnTo>
                            <a:pt x="81" y="22"/>
                          </a:lnTo>
                          <a:lnTo>
                            <a:pt x="30" y="0"/>
                          </a:lnTo>
                          <a:lnTo>
                            <a:pt x="0" y="28"/>
                          </a:lnTo>
                          <a:close/>
                        </a:path>
                      </a:pathLst>
                    </a:cu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4683240" y="4354920"/>
                      <a:ext cx="188280" cy="17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0" h="297">
                          <a:moveTo>
                            <a:pt x="320" y="297"/>
                          </a:moveTo>
                          <a:lnTo>
                            <a:pt x="307" y="254"/>
                          </a:lnTo>
                          <a:lnTo>
                            <a:pt x="289" y="213"/>
                          </a:lnTo>
                          <a:lnTo>
                            <a:pt x="269" y="175"/>
                          </a:lnTo>
                          <a:lnTo>
                            <a:pt x="246" y="137"/>
                          </a:lnTo>
                          <a:lnTo>
                            <a:pt x="218" y="99"/>
                          </a:lnTo>
                          <a:lnTo>
                            <a:pt x="188" y="63"/>
                          </a:lnTo>
                          <a:lnTo>
                            <a:pt x="152" y="30"/>
                          </a:lnTo>
                          <a:lnTo>
                            <a:pt x="117" y="0"/>
                          </a:lnTo>
                          <a:lnTo>
                            <a:pt x="0" y="112"/>
                          </a:lnTo>
                          <a:lnTo>
                            <a:pt x="51" y="134"/>
                          </a:lnTo>
                          <a:lnTo>
                            <a:pt x="96" y="160"/>
                          </a:lnTo>
                          <a:lnTo>
                            <a:pt x="142" y="185"/>
                          </a:lnTo>
                          <a:lnTo>
                            <a:pt x="183" y="208"/>
                          </a:lnTo>
                          <a:lnTo>
                            <a:pt x="221" y="231"/>
                          </a:lnTo>
                          <a:lnTo>
                            <a:pt x="256" y="254"/>
                          </a:lnTo>
                          <a:lnTo>
                            <a:pt x="289" y="277"/>
                          </a:lnTo>
                          <a:lnTo>
                            <a:pt x="320" y="297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4823640" y="4570560"/>
                      <a:ext cx="583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" h="104">
                          <a:moveTo>
                            <a:pt x="64" y="104"/>
                          </a:moveTo>
                          <a:lnTo>
                            <a:pt x="99" y="104"/>
                          </a:lnTo>
                          <a:lnTo>
                            <a:pt x="99" y="96"/>
                          </a:lnTo>
                          <a:lnTo>
                            <a:pt x="99" y="86"/>
                          </a:lnTo>
                          <a:lnTo>
                            <a:pt x="99" y="78"/>
                          </a:lnTo>
                          <a:lnTo>
                            <a:pt x="99" y="68"/>
                          </a:lnTo>
                          <a:lnTo>
                            <a:pt x="99" y="66"/>
                          </a:lnTo>
                          <a:lnTo>
                            <a:pt x="99" y="63"/>
                          </a:lnTo>
                          <a:lnTo>
                            <a:pt x="99" y="61"/>
                          </a:lnTo>
                          <a:lnTo>
                            <a:pt x="99" y="58"/>
                          </a:lnTo>
                          <a:lnTo>
                            <a:pt x="87" y="51"/>
                          </a:lnTo>
                          <a:lnTo>
                            <a:pt x="74" y="43"/>
                          </a:lnTo>
                          <a:lnTo>
                            <a:pt x="61" y="35"/>
                          </a:lnTo>
                          <a:lnTo>
                            <a:pt x="51" y="28"/>
                          </a:lnTo>
                          <a:lnTo>
                            <a:pt x="38" y="20"/>
                          </a:lnTo>
                          <a:lnTo>
                            <a:pt x="26" y="13"/>
                          </a:lnTo>
                          <a:lnTo>
                            <a:pt x="13" y="7"/>
                          </a:lnTo>
                          <a:lnTo>
                            <a:pt x="0" y="0"/>
                          </a:lnTo>
                          <a:lnTo>
                            <a:pt x="18" y="25"/>
                          </a:lnTo>
                          <a:lnTo>
                            <a:pt x="36" y="51"/>
                          </a:lnTo>
                          <a:lnTo>
                            <a:pt x="51" y="76"/>
                          </a:lnTo>
                          <a:lnTo>
                            <a:pt x="64" y="104"/>
                          </a:lnTo>
                          <a:close/>
                        </a:path>
                      </a:pathLst>
                    </a:cu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4428000" y="4329360"/>
                      <a:ext cx="255240" cy="10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4" h="183">
                          <a:moveTo>
                            <a:pt x="434" y="155"/>
                          </a:moveTo>
                          <a:lnTo>
                            <a:pt x="411" y="144"/>
                          </a:lnTo>
                          <a:lnTo>
                            <a:pt x="388" y="134"/>
                          </a:lnTo>
                          <a:lnTo>
                            <a:pt x="363" y="124"/>
                          </a:lnTo>
                          <a:lnTo>
                            <a:pt x="338" y="114"/>
                          </a:lnTo>
                          <a:lnTo>
                            <a:pt x="312" y="104"/>
                          </a:lnTo>
                          <a:lnTo>
                            <a:pt x="287" y="94"/>
                          </a:lnTo>
                          <a:lnTo>
                            <a:pt x="262" y="84"/>
                          </a:lnTo>
                          <a:lnTo>
                            <a:pt x="234" y="73"/>
                          </a:lnTo>
                          <a:lnTo>
                            <a:pt x="206" y="63"/>
                          </a:lnTo>
                          <a:lnTo>
                            <a:pt x="178" y="53"/>
                          </a:lnTo>
                          <a:lnTo>
                            <a:pt x="150" y="43"/>
                          </a:lnTo>
                          <a:lnTo>
                            <a:pt x="122" y="35"/>
                          </a:lnTo>
                          <a:lnTo>
                            <a:pt x="92" y="25"/>
                          </a:lnTo>
                          <a:lnTo>
                            <a:pt x="61" y="18"/>
                          </a:lnTo>
                          <a:lnTo>
                            <a:pt x="31" y="7"/>
                          </a:lnTo>
                          <a:lnTo>
                            <a:pt x="0" y="0"/>
                          </a:lnTo>
                          <a:lnTo>
                            <a:pt x="11" y="81"/>
                          </a:lnTo>
                          <a:lnTo>
                            <a:pt x="64" y="86"/>
                          </a:lnTo>
                          <a:lnTo>
                            <a:pt x="117" y="91"/>
                          </a:lnTo>
                          <a:lnTo>
                            <a:pt x="168" y="101"/>
                          </a:lnTo>
                          <a:lnTo>
                            <a:pt x="219" y="111"/>
                          </a:lnTo>
                          <a:lnTo>
                            <a:pt x="267" y="127"/>
                          </a:lnTo>
                          <a:lnTo>
                            <a:pt x="315" y="142"/>
                          </a:lnTo>
                          <a:lnTo>
                            <a:pt x="361" y="162"/>
                          </a:lnTo>
                          <a:lnTo>
                            <a:pt x="404" y="183"/>
                          </a:lnTo>
                          <a:lnTo>
                            <a:pt x="434" y="155"/>
                          </a:lnTo>
                          <a:close/>
                        </a:path>
                      </a:pathLst>
                    </a:cu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4419000" y="4248000"/>
                      <a:ext cx="333360" cy="17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6" h="292">
                          <a:moveTo>
                            <a:pt x="449" y="292"/>
                          </a:moveTo>
                          <a:lnTo>
                            <a:pt x="566" y="180"/>
                          </a:lnTo>
                          <a:lnTo>
                            <a:pt x="540" y="160"/>
                          </a:lnTo>
                          <a:lnTo>
                            <a:pt x="512" y="139"/>
                          </a:lnTo>
                          <a:lnTo>
                            <a:pt x="482" y="122"/>
                          </a:lnTo>
                          <a:lnTo>
                            <a:pt x="454" y="104"/>
                          </a:lnTo>
                          <a:lnTo>
                            <a:pt x="421" y="89"/>
                          </a:lnTo>
                          <a:lnTo>
                            <a:pt x="391" y="73"/>
                          </a:lnTo>
                          <a:lnTo>
                            <a:pt x="358" y="61"/>
                          </a:lnTo>
                          <a:lnTo>
                            <a:pt x="322" y="48"/>
                          </a:lnTo>
                          <a:lnTo>
                            <a:pt x="287" y="38"/>
                          </a:lnTo>
                          <a:lnTo>
                            <a:pt x="251" y="28"/>
                          </a:lnTo>
                          <a:lnTo>
                            <a:pt x="216" y="20"/>
                          </a:lnTo>
                          <a:lnTo>
                            <a:pt x="178" y="13"/>
                          </a:lnTo>
                          <a:lnTo>
                            <a:pt x="140" y="7"/>
                          </a:lnTo>
                          <a:lnTo>
                            <a:pt x="102" y="2"/>
                          </a:lnTo>
                          <a:lnTo>
                            <a:pt x="64" y="0"/>
                          </a:lnTo>
                          <a:lnTo>
                            <a:pt x="23" y="0"/>
                          </a:lnTo>
                          <a:lnTo>
                            <a:pt x="18" y="0"/>
                          </a:lnTo>
                          <a:lnTo>
                            <a:pt x="13" y="0"/>
                          </a:lnTo>
                          <a:lnTo>
                            <a:pt x="5" y="0"/>
                          </a:lnTo>
                          <a:lnTo>
                            <a:pt x="0" y="0"/>
                          </a:lnTo>
                          <a:lnTo>
                            <a:pt x="15" y="137"/>
                          </a:lnTo>
                          <a:lnTo>
                            <a:pt x="46" y="144"/>
                          </a:lnTo>
                          <a:lnTo>
                            <a:pt x="76" y="155"/>
                          </a:lnTo>
                          <a:lnTo>
                            <a:pt x="107" y="162"/>
                          </a:lnTo>
                          <a:lnTo>
                            <a:pt x="137" y="172"/>
                          </a:lnTo>
                          <a:lnTo>
                            <a:pt x="165" y="180"/>
                          </a:lnTo>
                          <a:lnTo>
                            <a:pt x="193" y="190"/>
                          </a:lnTo>
                          <a:lnTo>
                            <a:pt x="221" y="200"/>
                          </a:lnTo>
                          <a:lnTo>
                            <a:pt x="249" y="210"/>
                          </a:lnTo>
                          <a:lnTo>
                            <a:pt x="277" y="221"/>
                          </a:lnTo>
                          <a:lnTo>
                            <a:pt x="302" y="231"/>
                          </a:lnTo>
                          <a:lnTo>
                            <a:pt x="327" y="241"/>
                          </a:lnTo>
                          <a:lnTo>
                            <a:pt x="353" y="251"/>
                          </a:lnTo>
                          <a:lnTo>
                            <a:pt x="378" y="261"/>
                          </a:lnTo>
                          <a:lnTo>
                            <a:pt x="403" y="271"/>
                          </a:lnTo>
                          <a:lnTo>
                            <a:pt x="426" y="281"/>
                          </a:lnTo>
                          <a:lnTo>
                            <a:pt x="449" y="292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4012920" y="4288320"/>
                      <a:ext cx="420840" cy="191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5" h="323">
                          <a:moveTo>
                            <a:pt x="659" y="147"/>
                          </a:moveTo>
                          <a:lnTo>
                            <a:pt x="674" y="147"/>
                          </a:lnTo>
                          <a:lnTo>
                            <a:pt x="687" y="147"/>
                          </a:lnTo>
                          <a:lnTo>
                            <a:pt x="702" y="147"/>
                          </a:lnTo>
                          <a:lnTo>
                            <a:pt x="715" y="150"/>
                          </a:lnTo>
                          <a:lnTo>
                            <a:pt x="704" y="69"/>
                          </a:lnTo>
                          <a:lnTo>
                            <a:pt x="664" y="59"/>
                          </a:lnTo>
                          <a:lnTo>
                            <a:pt x="623" y="49"/>
                          </a:lnTo>
                          <a:lnTo>
                            <a:pt x="583" y="38"/>
                          </a:lnTo>
                          <a:lnTo>
                            <a:pt x="540" y="31"/>
                          </a:lnTo>
                          <a:lnTo>
                            <a:pt x="497" y="23"/>
                          </a:lnTo>
                          <a:lnTo>
                            <a:pt x="451" y="16"/>
                          </a:lnTo>
                          <a:lnTo>
                            <a:pt x="405" y="8"/>
                          </a:lnTo>
                          <a:lnTo>
                            <a:pt x="360" y="0"/>
                          </a:lnTo>
                          <a:lnTo>
                            <a:pt x="301" y="28"/>
                          </a:lnTo>
                          <a:lnTo>
                            <a:pt x="246" y="61"/>
                          </a:lnTo>
                          <a:lnTo>
                            <a:pt x="192" y="97"/>
                          </a:lnTo>
                          <a:lnTo>
                            <a:pt x="144" y="135"/>
                          </a:lnTo>
                          <a:lnTo>
                            <a:pt x="101" y="178"/>
                          </a:lnTo>
                          <a:lnTo>
                            <a:pt x="63" y="224"/>
                          </a:lnTo>
                          <a:lnTo>
                            <a:pt x="28" y="272"/>
                          </a:lnTo>
                          <a:lnTo>
                            <a:pt x="0" y="323"/>
                          </a:lnTo>
                          <a:lnTo>
                            <a:pt x="15" y="320"/>
                          </a:lnTo>
                          <a:lnTo>
                            <a:pt x="33" y="318"/>
                          </a:lnTo>
                          <a:lnTo>
                            <a:pt x="48" y="312"/>
                          </a:lnTo>
                          <a:lnTo>
                            <a:pt x="66" y="310"/>
                          </a:lnTo>
                          <a:lnTo>
                            <a:pt x="81" y="307"/>
                          </a:lnTo>
                          <a:lnTo>
                            <a:pt x="98" y="302"/>
                          </a:lnTo>
                          <a:lnTo>
                            <a:pt x="114" y="300"/>
                          </a:lnTo>
                          <a:lnTo>
                            <a:pt x="131" y="297"/>
                          </a:lnTo>
                          <a:lnTo>
                            <a:pt x="159" y="279"/>
                          </a:lnTo>
                          <a:lnTo>
                            <a:pt x="187" y="264"/>
                          </a:lnTo>
                          <a:lnTo>
                            <a:pt x="218" y="249"/>
                          </a:lnTo>
                          <a:lnTo>
                            <a:pt x="246" y="234"/>
                          </a:lnTo>
                          <a:lnTo>
                            <a:pt x="279" y="221"/>
                          </a:lnTo>
                          <a:lnTo>
                            <a:pt x="309" y="208"/>
                          </a:lnTo>
                          <a:lnTo>
                            <a:pt x="342" y="198"/>
                          </a:lnTo>
                          <a:lnTo>
                            <a:pt x="375" y="188"/>
                          </a:lnTo>
                          <a:lnTo>
                            <a:pt x="408" y="178"/>
                          </a:lnTo>
                          <a:lnTo>
                            <a:pt x="443" y="170"/>
                          </a:lnTo>
                          <a:lnTo>
                            <a:pt x="476" y="163"/>
                          </a:lnTo>
                          <a:lnTo>
                            <a:pt x="512" y="158"/>
                          </a:lnTo>
                          <a:lnTo>
                            <a:pt x="547" y="153"/>
                          </a:lnTo>
                          <a:lnTo>
                            <a:pt x="585" y="150"/>
                          </a:lnTo>
                          <a:lnTo>
                            <a:pt x="621" y="147"/>
                          </a:lnTo>
                          <a:lnTo>
                            <a:pt x="659" y="147"/>
                          </a:lnTo>
                          <a:close/>
                        </a:path>
                      </a:pathLst>
                    </a:cu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>
                      <a:off x="3988800" y="4464720"/>
                      <a:ext cx="101160" cy="9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2" h="158">
                          <a:moveTo>
                            <a:pt x="172" y="0"/>
                          </a:moveTo>
                          <a:lnTo>
                            <a:pt x="155" y="3"/>
                          </a:lnTo>
                          <a:lnTo>
                            <a:pt x="139" y="5"/>
                          </a:lnTo>
                          <a:lnTo>
                            <a:pt x="122" y="10"/>
                          </a:lnTo>
                          <a:lnTo>
                            <a:pt x="107" y="13"/>
                          </a:lnTo>
                          <a:lnTo>
                            <a:pt x="89" y="15"/>
                          </a:lnTo>
                          <a:lnTo>
                            <a:pt x="74" y="21"/>
                          </a:lnTo>
                          <a:lnTo>
                            <a:pt x="56" y="23"/>
                          </a:lnTo>
                          <a:lnTo>
                            <a:pt x="41" y="26"/>
                          </a:lnTo>
                          <a:lnTo>
                            <a:pt x="28" y="59"/>
                          </a:lnTo>
                          <a:lnTo>
                            <a:pt x="15" y="92"/>
                          </a:lnTo>
                          <a:lnTo>
                            <a:pt x="8" y="125"/>
                          </a:lnTo>
                          <a:lnTo>
                            <a:pt x="0" y="158"/>
                          </a:lnTo>
                          <a:lnTo>
                            <a:pt x="18" y="135"/>
                          </a:lnTo>
                          <a:lnTo>
                            <a:pt x="36" y="114"/>
                          </a:lnTo>
                          <a:lnTo>
                            <a:pt x="56" y="94"/>
                          </a:lnTo>
                          <a:lnTo>
                            <a:pt x="79" y="74"/>
                          </a:lnTo>
                          <a:lnTo>
                            <a:pt x="99" y="53"/>
                          </a:lnTo>
                          <a:lnTo>
                            <a:pt x="124" y="36"/>
                          </a:lnTo>
                          <a:lnTo>
                            <a:pt x="147" y="18"/>
                          </a:lnTo>
                          <a:lnTo>
                            <a:pt x="172" y="0"/>
                          </a:lnTo>
                          <a:close/>
                        </a:path>
                      </a:pathLst>
                    </a:cu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4225320" y="4248000"/>
                      <a:ext cx="202320" cy="8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4" h="137">
                          <a:moveTo>
                            <a:pt x="329" y="0"/>
                          </a:moveTo>
                          <a:lnTo>
                            <a:pt x="286" y="2"/>
                          </a:lnTo>
                          <a:lnTo>
                            <a:pt x="241" y="5"/>
                          </a:lnTo>
                          <a:lnTo>
                            <a:pt x="197" y="13"/>
                          </a:lnTo>
                          <a:lnTo>
                            <a:pt x="157" y="20"/>
                          </a:lnTo>
                          <a:lnTo>
                            <a:pt x="116" y="30"/>
                          </a:lnTo>
                          <a:lnTo>
                            <a:pt x="76" y="40"/>
                          </a:lnTo>
                          <a:lnTo>
                            <a:pt x="38" y="53"/>
                          </a:lnTo>
                          <a:lnTo>
                            <a:pt x="0" y="68"/>
                          </a:lnTo>
                          <a:lnTo>
                            <a:pt x="45" y="76"/>
                          </a:lnTo>
                          <a:lnTo>
                            <a:pt x="91" y="84"/>
                          </a:lnTo>
                          <a:lnTo>
                            <a:pt x="137" y="91"/>
                          </a:lnTo>
                          <a:lnTo>
                            <a:pt x="180" y="99"/>
                          </a:lnTo>
                          <a:lnTo>
                            <a:pt x="223" y="106"/>
                          </a:lnTo>
                          <a:lnTo>
                            <a:pt x="263" y="117"/>
                          </a:lnTo>
                          <a:lnTo>
                            <a:pt x="304" y="127"/>
                          </a:lnTo>
                          <a:lnTo>
                            <a:pt x="344" y="137"/>
                          </a:lnTo>
                          <a:lnTo>
                            <a:pt x="329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560" bIns="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4087440" y="4755960"/>
                      <a:ext cx="455760" cy="21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4" h="368">
                          <a:moveTo>
                            <a:pt x="348" y="117"/>
                          </a:moveTo>
                          <a:lnTo>
                            <a:pt x="338" y="99"/>
                          </a:lnTo>
                          <a:lnTo>
                            <a:pt x="327" y="81"/>
                          </a:lnTo>
                          <a:lnTo>
                            <a:pt x="317" y="66"/>
                          </a:lnTo>
                          <a:lnTo>
                            <a:pt x="307" y="51"/>
                          </a:lnTo>
                          <a:lnTo>
                            <a:pt x="297" y="38"/>
                          </a:lnTo>
                          <a:lnTo>
                            <a:pt x="284" y="25"/>
                          </a:lnTo>
                          <a:lnTo>
                            <a:pt x="274" y="13"/>
                          </a:lnTo>
                          <a:lnTo>
                            <a:pt x="262" y="0"/>
                          </a:lnTo>
                          <a:lnTo>
                            <a:pt x="0" y="147"/>
                          </a:lnTo>
                          <a:lnTo>
                            <a:pt x="28" y="172"/>
                          </a:lnTo>
                          <a:lnTo>
                            <a:pt x="56" y="195"/>
                          </a:lnTo>
                          <a:lnTo>
                            <a:pt x="87" y="218"/>
                          </a:lnTo>
                          <a:lnTo>
                            <a:pt x="117" y="238"/>
                          </a:lnTo>
                          <a:lnTo>
                            <a:pt x="150" y="259"/>
                          </a:lnTo>
                          <a:lnTo>
                            <a:pt x="185" y="276"/>
                          </a:lnTo>
                          <a:lnTo>
                            <a:pt x="221" y="292"/>
                          </a:lnTo>
                          <a:lnTo>
                            <a:pt x="256" y="307"/>
                          </a:lnTo>
                          <a:lnTo>
                            <a:pt x="295" y="322"/>
                          </a:lnTo>
                          <a:lnTo>
                            <a:pt x="335" y="332"/>
                          </a:lnTo>
                          <a:lnTo>
                            <a:pt x="373" y="342"/>
                          </a:lnTo>
                          <a:lnTo>
                            <a:pt x="414" y="353"/>
                          </a:lnTo>
                          <a:lnTo>
                            <a:pt x="457" y="360"/>
                          </a:lnTo>
                          <a:lnTo>
                            <a:pt x="500" y="363"/>
                          </a:lnTo>
                          <a:lnTo>
                            <a:pt x="543" y="368"/>
                          </a:lnTo>
                          <a:lnTo>
                            <a:pt x="586" y="368"/>
                          </a:lnTo>
                          <a:lnTo>
                            <a:pt x="611" y="368"/>
                          </a:lnTo>
                          <a:lnTo>
                            <a:pt x="634" y="368"/>
                          </a:lnTo>
                          <a:lnTo>
                            <a:pt x="660" y="365"/>
                          </a:lnTo>
                          <a:lnTo>
                            <a:pt x="682" y="363"/>
                          </a:lnTo>
                          <a:lnTo>
                            <a:pt x="705" y="360"/>
                          </a:lnTo>
                          <a:lnTo>
                            <a:pt x="728" y="358"/>
                          </a:lnTo>
                          <a:lnTo>
                            <a:pt x="751" y="355"/>
                          </a:lnTo>
                          <a:lnTo>
                            <a:pt x="774" y="350"/>
                          </a:lnTo>
                          <a:lnTo>
                            <a:pt x="758" y="302"/>
                          </a:lnTo>
                          <a:lnTo>
                            <a:pt x="726" y="302"/>
                          </a:lnTo>
                          <a:lnTo>
                            <a:pt x="693" y="299"/>
                          </a:lnTo>
                          <a:lnTo>
                            <a:pt x="660" y="297"/>
                          </a:lnTo>
                          <a:lnTo>
                            <a:pt x="629" y="292"/>
                          </a:lnTo>
                          <a:lnTo>
                            <a:pt x="599" y="287"/>
                          </a:lnTo>
                          <a:lnTo>
                            <a:pt x="568" y="282"/>
                          </a:lnTo>
                          <a:lnTo>
                            <a:pt x="540" y="274"/>
                          </a:lnTo>
                          <a:lnTo>
                            <a:pt x="515" y="264"/>
                          </a:lnTo>
                          <a:lnTo>
                            <a:pt x="490" y="254"/>
                          </a:lnTo>
                          <a:lnTo>
                            <a:pt x="464" y="241"/>
                          </a:lnTo>
                          <a:lnTo>
                            <a:pt x="442" y="226"/>
                          </a:lnTo>
                          <a:lnTo>
                            <a:pt x="419" y="208"/>
                          </a:lnTo>
                          <a:lnTo>
                            <a:pt x="398" y="190"/>
                          </a:lnTo>
                          <a:lnTo>
                            <a:pt x="381" y="167"/>
                          </a:lnTo>
                          <a:lnTo>
                            <a:pt x="363" y="145"/>
                          </a:lnTo>
                          <a:lnTo>
                            <a:pt x="348" y="117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4241520" y="4710960"/>
                      <a:ext cx="291960" cy="22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6" h="378">
                          <a:moveTo>
                            <a:pt x="134" y="0"/>
                          </a:moveTo>
                          <a:lnTo>
                            <a:pt x="0" y="76"/>
                          </a:lnTo>
                          <a:lnTo>
                            <a:pt x="12" y="89"/>
                          </a:lnTo>
                          <a:lnTo>
                            <a:pt x="22" y="101"/>
                          </a:lnTo>
                          <a:lnTo>
                            <a:pt x="35" y="114"/>
                          </a:lnTo>
                          <a:lnTo>
                            <a:pt x="45" y="127"/>
                          </a:lnTo>
                          <a:lnTo>
                            <a:pt x="55" y="142"/>
                          </a:lnTo>
                          <a:lnTo>
                            <a:pt x="65" y="157"/>
                          </a:lnTo>
                          <a:lnTo>
                            <a:pt x="76" y="175"/>
                          </a:lnTo>
                          <a:lnTo>
                            <a:pt x="86" y="193"/>
                          </a:lnTo>
                          <a:lnTo>
                            <a:pt x="101" y="221"/>
                          </a:lnTo>
                          <a:lnTo>
                            <a:pt x="119" y="243"/>
                          </a:lnTo>
                          <a:lnTo>
                            <a:pt x="136" y="266"/>
                          </a:lnTo>
                          <a:lnTo>
                            <a:pt x="157" y="284"/>
                          </a:lnTo>
                          <a:lnTo>
                            <a:pt x="180" y="302"/>
                          </a:lnTo>
                          <a:lnTo>
                            <a:pt x="202" y="317"/>
                          </a:lnTo>
                          <a:lnTo>
                            <a:pt x="228" y="330"/>
                          </a:lnTo>
                          <a:lnTo>
                            <a:pt x="253" y="340"/>
                          </a:lnTo>
                          <a:lnTo>
                            <a:pt x="278" y="350"/>
                          </a:lnTo>
                          <a:lnTo>
                            <a:pt x="306" y="358"/>
                          </a:lnTo>
                          <a:lnTo>
                            <a:pt x="337" y="363"/>
                          </a:lnTo>
                          <a:lnTo>
                            <a:pt x="367" y="368"/>
                          </a:lnTo>
                          <a:lnTo>
                            <a:pt x="398" y="373"/>
                          </a:lnTo>
                          <a:lnTo>
                            <a:pt x="431" y="375"/>
                          </a:lnTo>
                          <a:lnTo>
                            <a:pt x="464" y="378"/>
                          </a:lnTo>
                          <a:lnTo>
                            <a:pt x="496" y="378"/>
                          </a:lnTo>
                          <a:lnTo>
                            <a:pt x="461" y="261"/>
                          </a:lnTo>
                          <a:lnTo>
                            <a:pt x="425" y="241"/>
                          </a:lnTo>
                          <a:lnTo>
                            <a:pt x="393" y="215"/>
                          </a:lnTo>
                          <a:lnTo>
                            <a:pt x="357" y="185"/>
                          </a:lnTo>
                          <a:lnTo>
                            <a:pt x="322" y="150"/>
                          </a:lnTo>
                          <a:lnTo>
                            <a:pt x="284" y="111"/>
                          </a:lnTo>
                          <a:lnTo>
                            <a:pt x="240" y="73"/>
                          </a:lnTo>
                          <a:lnTo>
                            <a:pt x="192" y="35"/>
                          </a:lnTo>
                          <a:lnTo>
                            <a:pt x="134" y="0"/>
                          </a:lnTo>
                          <a:close/>
                        </a:path>
                      </a:pathLst>
                    </a:cu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4320720" y="4641480"/>
                      <a:ext cx="192600" cy="22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7" h="378">
                          <a:moveTo>
                            <a:pt x="327" y="378"/>
                          </a:moveTo>
                          <a:lnTo>
                            <a:pt x="208" y="0"/>
                          </a:lnTo>
                          <a:lnTo>
                            <a:pt x="0" y="117"/>
                          </a:lnTo>
                          <a:lnTo>
                            <a:pt x="58" y="152"/>
                          </a:lnTo>
                          <a:lnTo>
                            <a:pt x="106" y="190"/>
                          </a:lnTo>
                          <a:lnTo>
                            <a:pt x="150" y="228"/>
                          </a:lnTo>
                          <a:lnTo>
                            <a:pt x="188" y="267"/>
                          </a:lnTo>
                          <a:lnTo>
                            <a:pt x="223" y="302"/>
                          </a:lnTo>
                          <a:lnTo>
                            <a:pt x="259" y="332"/>
                          </a:lnTo>
                          <a:lnTo>
                            <a:pt x="291" y="358"/>
                          </a:lnTo>
                          <a:lnTo>
                            <a:pt x="327" y="378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4616280" y="4438080"/>
                      <a:ext cx="207000" cy="13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2" h="223">
                          <a:moveTo>
                            <a:pt x="352" y="223"/>
                          </a:moveTo>
                          <a:lnTo>
                            <a:pt x="327" y="190"/>
                          </a:lnTo>
                          <a:lnTo>
                            <a:pt x="299" y="157"/>
                          </a:lnTo>
                          <a:lnTo>
                            <a:pt x="266" y="126"/>
                          </a:lnTo>
                          <a:lnTo>
                            <a:pt x="233" y="98"/>
                          </a:lnTo>
                          <a:lnTo>
                            <a:pt x="200" y="71"/>
                          </a:lnTo>
                          <a:lnTo>
                            <a:pt x="162" y="45"/>
                          </a:lnTo>
                          <a:lnTo>
                            <a:pt x="124" y="22"/>
                          </a:lnTo>
                          <a:lnTo>
                            <a:pt x="84" y="0"/>
                          </a:lnTo>
                          <a:lnTo>
                            <a:pt x="0" y="78"/>
                          </a:lnTo>
                          <a:lnTo>
                            <a:pt x="43" y="91"/>
                          </a:lnTo>
                          <a:lnTo>
                            <a:pt x="89" y="106"/>
                          </a:lnTo>
                          <a:lnTo>
                            <a:pt x="132" y="121"/>
                          </a:lnTo>
                          <a:lnTo>
                            <a:pt x="177" y="139"/>
                          </a:lnTo>
                          <a:lnTo>
                            <a:pt x="221" y="157"/>
                          </a:lnTo>
                          <a:lnTo>
                            <a:pt x="264" y="177"/>
                          </a:lnTo>
                          <a:lnTo>
                            <a:pt x="309" y="200"/>
                          </a:lnTo>
                          <a:lnTo>
                            <a:pt x="352" y="223"/>
                          </a:lnTo>
                          <a:close/>
                        </a:path>
                      </a:pathLst>
                    </a:cu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4482000" y="4484520"/>
                      <a:ext cx="379080" cy="14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4" h="249">
                          <a:moveTo>
                            <a:pt x="228" y="0"/>
                          </a:moveTo>
                          <a:lnTo>
                            <a:pt x="0" y="216"/>
                          </a:lnTo>
                          <a:lnTo>
                            <a:pt x="644" y="249"/>
                          </a:lnTo>
                          <a:lnTo>
                            <a:pt x="631" y="221"/>
                          </a:lnTo>
                          <a:lnTo>
                            <a:pt x="616" y="196"/>
                          </a:lnTo>
                          <a:lnTo>
                            <a:pt x="598" y="170"/>
                          </a:lnTo>
                          <a:lnTo>
                            <a:pt x="580" y="145"/>
                          </a:lnTo>
                          <a:lnTo>
                            <a:pt x="537" y="122"/>
                          </a:lnTo>
                          <a:lnTo>
                            <a:pt x="492" y="99"/>
                          </a:lnTo>
                          <a:lnTo>
                            <a:pt x="449" y="79"/>
                          </a:lnTo>
                          <a:lnTo>
                            <a:pt x="405" y="61"/>
                          </a:lnTo>
                          <a:lnTo>
                            <a:pt x="360" y="43"/>
                          </a:lnTo>
                          <a:lnTo>
                            <a:pt x="317" y="28"/>
                          </a:lnTo>
                          <a:lnTo>
                            <a:pt x="271" y="13"/>
                          </a:lnTo>
                          <a:lnTo>
                            <a:pt x="228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4434120" y="4377600"/>
                      <a:ext cx="231480" cy="10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3" h="180">
                          <a:moveTo>
                            <a:pt x="393" y="102"/>
                          </a:moveTo>
                          <a:lnTo>
                            <a:pt x="350" y="81"/>
                          </a:lnTo>
                          <a:lnTo>
                            <a:pt x="304" y="61"/>
                          </a:lnTo>
                          <a:lnTo>
                            <a:pt x="256" y="46"/>
                          </a:lnTo>
                          <a:lnTo>
                            <a:pt x="208" y="30"/>
                          </a:lnTo>
                          <a:lnTo>
                            <a:pt x="157" y="20"/>
                          </a:lnTo>
                          <a:lnTo>
                            <a:pt x="106" y="10"/>
                          </a:lnTo>
                          <a:lnTo>
                            <a:pt x="53" y="5"/>
                          </a:lnTo>
                          <a:lnTo>
                            <a:pt x="0" y="0"/>
                          </a:lnTo>
                          <a:lnTo>
                            <a:pt x="15" y="124"/>
                          </a:lnTo>
                          <a:lnTo>
                            <a:pt x="50" y="129"/>
                          </a:lnTo>
                          <a:lnTo>
                            <a:pt x="88" y="135"/>
                          </a:lnTo>
                          <a:lnTo>
                            <a:pt x="124" y="140"/>
                          </a:lnTo>
                          <a:lnTo>
                            <a:pt x="162" y="145"/>
                          </a:lnTo>
                          <a:lnTo>
                            <a:pt x="197" y="152"/>
                          </a:lnTo>
                          <a:lnTo>
                            <a:pt x="235" y="160"/>
                          </a:lnTo>
                          <a:lnTo>
                            <a:pt x="271" y="170"/>
                          </a:lnTo>
                          <a:lnTo>
                            <a:pt x="309" y="180"/>
                          </a:lnTo>
                          <a:lnTo>
                            <a:pt x="393" y="102"/>
                          </a:lnTo>
                          <a:close/>
                        </a:path>
                      </a:pathLst>
                    </a:cu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>
                      <a:off x="4443120" y="4451400"/>
                      <a:ext cx="173160" cy="16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4" h="272">
                          <a:moveTo>
                            <a:pt x="0" y="0"/>
                          </a:moveTo>
                          <a:lnTo>
                            <a:pt x="30" y="269"/>
                          </a:lnTo>
                          <a:lnTo>
                            <a:pt x="66" y="272"/>
                          </a:lnTo>
                          <a:lnTo>
                            <a:pt x="294" y="56"/>
                          </a:lnTo>
                          <a:lnTo>
                            <a:pt x="256" y="46"/>
                          </a:lnTo>
                          <a:lnTo>
                            <a:pt x="220" y="36"/>
                          </a:lnTo>
                          <a:lnTo>
                            <a:pt x="182" y="28"/>
                          </a:lnTo>
                          <a:lnTo>
                            <a:pt x="147" y="21"/>
                          </a:lnTo>
                          <a:lnTo>
                            <a:pt x="109" y="16"/>
                          </a:lnTo>
                          <a:lnTo>
                            <a:pt x="73" y="11"/>
                          </a:lnTo>
                          <a:lnTo>
                            <a:pt x="35" y="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>
                      <a:off x="3984120" y="4608000"/>
                      <a:ext cx="458640" cy="10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9" h="173">
                          <a:moveTo>
                            <a:pt x="571" y="173"/>
                          </a:moveTo>
                          <a:lnTo>
                            <a:pt x="779" y="56"/>
                          </a:lnTo>
                          <a:lnTo>
                            <a:pt x="774" y="36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3"/>
                          </a:lnTo>
                          <a:lnTo>
                            <a:pt x="0" y="3"/>
                          </a:lnTo>
                          <a:lnTo>
                            <a:pt x="0" y="5"/>
                          </a:lnTo>
                          <a:lnTo>
                            <a:pt x="0" y="23"/>
                          </a:lnTo>
                          <a:lnTo>
                            <a:pt x="0" y="41"/>
                          </a:lnTo>
                          <a:lnTo>
                            <a:pt x="3" y="61"/>
                          </a:lnTo>
                          <a:lnTo>
                            <a:pt x="6" y="79"/>
                          </a:lnTo>
                          <a:lnTo>
                            <a:pt x="56" y="76"/>
                          </a:lnTo>
                          <a:lnTo>
                            <a:pt x="104" y="74"/>
                          </a:lnTo>
                          <a:lnTo>
                            <a:pt x="150" y="74"/>
                          </a:lnTo>
                          <a:lnTo>
                            <a:pt x="193" y="76"/>
                          </a:lnTo>
                          <a:lnTo>
                            <a:pt x="236" y="79"/>
                          </a:lnTo>
                          <a:lnTo>
                            <a:pt x="274" y="81"/>
                          </a:lnTo>
                          <a:lnTo>
                            <a:pt x="312" y="87"/>
                          </a:lnTo>
                          <a:lnTo>
                            <a:pt x="348" y="94"/>
                          </a:lnTo>
                          <a:lnTo>
                            <a:pt x="381" y="102"/>
                          </a:lnTo>
                          <a:lnTo>
                            <a:pt x="414" y="109"/>
                          </a:lnTo>
                          <a:lnTo>
                            <a:pt x="442" y="117"/>
                          </a:lnTo>
                          <a:lnTo>
                            <a:pt x="472" y="127"/>
                          </a:lnTo>
                          <a:lnTo>
                            <a:pt x="497" y="137"/>
                          </a:lnTo>
                          <a:lnTo>
                            <a:pt x="523" y="150"/>
                          </a:lnTo>
                          <a:lnTo>
                            <a:pt x="548" y="160"/>
                          </a:lnTo>
                          <a:lnTo>
                            <a:pt x="571" y="173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3987720" y="4651920"/>
                      <a:ext cx="332640" cy="10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5" h="175">
                          <a:moveTo>
                            <a:pt x="431" y="175"/>
                          </a:moveTo>
                          <a:lnTo>
                            <a:pt x="565" y="99"/>
                          </a:lnTo>
                          <a:lnTo>
                            <a:pt x="542" y="86"/>
                          </a:lnTo>
                          <a:lnTo>
                            <a:pt x="517" y="76"/>
                          </a:lnTo>
                          <a:lnTo>
                            <a:pt x="491" y="63"/>
                          </a:lnTo>
                          <a:lnTo>
                            <a:pt x="466" y="53"/>
                          </a:lnTo>
                          <a:lnTo>
                            <a:pt x="436" y="43"/>
                          </a:lnTo>
                          <a:lnTo>
                            <a:pt x="408" y="35"/>
                          </a:lnTo>
                          <a:lnTo>
                            <a:pt x="375" y="28"/>
                          </a:lnTo>
                          <a:lnTo>
                            <a:pt x="342" y="20"/>
                          </a:lnTo>
                          <a:lnTo>
                            <a:pt x="306" y="13"/>
                          </a:lnTo>
                          <a:lnTo>
                            <a:pt x="268" y="7"/>
                          </a:lnTo>
                          <a:lnTo>
                            <a:pt x="230" y="5"/>
                          </a:lnTo>
                          <a:lnTo>
                            <a:pt x="187" y="2"/>
                          </a:lnTo>
                          <a:lnTo>
                            <a:pt x="144" y="0"/>
                          </a:lnTo>
                          <a:lnTo>
                            <a:pt x="98" y="0"/>
                          </a:lnTo>
                          <a:lnTo>
                            <a:pt x="50" y="2"/>
                          </a:lnTo>
                          <a:lnTo>
                            <a:pt x="0" y="5"/>
                          </a:lnTo>
                          <a:lnTo>
                            <a:pt x="2" y="23"/>
                          </a:lnTo>
                          <a:lnTo>
                            <a:pt x="7" y="43"/>
                          </a:lnTo>
                          <a:lnTo>
                            <a:pt x="12" y="61"/>
                          </a:lnTo>
                          <a:lnTo>
                            <a:pt x="17" y="81"/>
                          </a:lnTo>
                          <a:lnTo>
                            <a:pt x="43" y="78"/>
                          </a:lnTo>
                          <a:lnTo>
                            <a:pt x="68" y="76"/>
                          </a:lnTo>
                          <a:lnTo>
                            <a:pt x="96" y="73"/>
                          </a:lnTo>
                          <a:lnTo>
                            <a:pt x="121" y="71"/>
                          </a:lnTo>
                          <a:lnTo>
                            <a:pt x="149" y="73"/>
                          </a:lnTo>
                          <a:lnTo>
                            <a:pt x="177" y="73"/>
                          </a:lnTo>
                          <a:lnTo>
                            <a:pt x="202" y="76"/>
                          </a:lnTo>
                          <a:lnTo>
                            <a:pt x="230" y="81"/>
                          </a:lnTo>
                          <a:lnTo>
                            <a:pt x="258" y="86"/>
                          </a:lnTo>
                          <a:lnTo>
                            <a:pt x="283" y="94"/>
                          </a:lnTo>
                          <a:lnTo>
                            <a:pt x="309" y="101"/>
                          </a:lnTo>
                          <a:lnTo>
                            <a:pt x="337" y="111"/>
                          </a:lnTo>
                          <a:lnTo>
                            <a:pt x="360" y="124"/>
                          </a:lnTo>
                          <a:lnTo>
                            <a:pt x="385" y="139"/>
                          </a:lnTo>
                          <a:lnTo>
                            <a:pt x="408" y="157"/>
                          </a:lnTo>
                          <a:lnTo>
                            <a:pt x="431" y="175"/>
                          </a:lnTo>
                          <a:close/>
                        </a:path>
                      </a:pathLst>
                    </a:cu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3997800" y="4694400"/>
                      <a:ext cx="243720" cy="14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4" h="251">
                          <a:moveTo>
                            <a:pt x="0" y="10"/>
                          </a:moveTo>
                          <a:lnTo>
                            <a:pt x="13" y="43"/>
                          </a:lnTo>
                          <a:lnTo>
                            <a:pt x="26" y="76"/>
                          </a:lnTo>
                          <a:lnTo>
                            <a:pt x="41" y="106"/>
                          </a:lnTo>
                          <a:lnTo>
                            <a:pt x="61" y="137"/>
                          </a:lnTo>
                          <a:lnTo>
                            <a:pt x="81" y="167"/>
                          </a:lnTo>
                          <a:lnTo>
                            <a:pt x="102" y="198"/>
                          </a:lnTo>
                          <a:lnTo>
                            <a:pt x="127" y="226"/>
                          </a:lnTo>
                          <a:lnTo>
                            <a:pt x="152" y="251"/>
                          </a:lnTo>
                          <a:lnTo>
                            <a:pt x="414" y="104"/>
                          </a:lnTo>
                          <a:lnTo>
                            <a:pt x="391" y="86"/>
                          </a:lnTo>
                          <a:lnTo>
                            <a:pt x="368" y="68"/>
                          </a:lnTo>
                          <a:lnTo>
                            <a:pt x="343" y="53"/>
                          </a:lnTo>
                          <a:lnTo>
                            <a:pt x="320" y="40"/>
                          </a:lnTo>
                          <a:lnTo>
                            <a:pt x="292" y="30"/>
                          </a:lnTo>
                          <a:lnTo>
                            <a:pt x="266" y="23"/>
                          </a:lnTo>
                          <a:lnTo>
                            <a:pt x="241" y="15"/>
                          </a:lnTo>
                          <a:lnTo>
                            <a:pt x="213" y="10"/>
                          </a:lnTo>
                          <a:lnTo>
                            <a:pt x="185" y="5"/>
                          </a:lnTo>
                          <a:lnTo>
                            <a:pt x="160" y="2"/>
                          </a:lnTo>
                          <a:lnTo>
                            <a:pt x="132" y="2"/>
                          </a:lnTo>
                          <a:lnTo>
                            <a:pt x="104" y="0"/>
                          </a:lnTo>
                          <a:lnTo>
                            <a:pt x="79" y="2"/>
                          </a:lnTo>
                          <a:lnTo>
                            <a:pt x="51" y="5"/>
                          </a:lnTo>
                          <a:lnTo>
                            <a:pt x="26" y="7"/>
                          </a:lnTo>
                          <a:lnTo>
                            <a:pt x="0" y="1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3984120" y="4445280"/>
                      <a:ext cx="476280" cy="18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9" h="310">
                          <a:moveTo>
                            <a:pt x="761" y="279"/>
                          </a:moveTo>
                          <a:lnTo>
                            <a:pt x="809" y="279"/>
                          </a:lnTo>
                          <a:lnTo>
                            <a:pt x="779" y="10"/>
                          </a:lnTo>
                          <a:lnTo>
                            <a:pt x="738" y="8"/>
                          </a:lnTo>
                          <a:lnTo>
                            <a:pt x="700" y="5"/>
                          </a:lnTo>
                          <a:lnTo>
                            <a:pt x="660" y="3"/>
                          </a:lnTo>
                          <a:lnTo>
                            <a:pt x="622" y="0"/>
                          </a:lnTo>
                          <a:lnTo>
                            <a:pt x="581" y="0"/>
                          </a:lnTo>
                          <a:lnTo>
                            <a:pt x="543" y="0"/>
                          </a:lnTo>
                          <a:lnTo>
                            <a:pt x="505" y="0"/>
                          </a:lnTo>
                          <a:lnTo>
                            <a:pt x="467" y="3"/>
                          </a:lnTo>
                          <a:lnTo>
                            <a:pt x="429" y="5"/>
                          </a:lnTo>
                          <a:lnTo>
                            <a:pt x="393" y="8"/>
                          </a:lnTo>
                          <a:lnTo>
                            <a:pt x="355" y="10"/>
                          </a:lnTo>
                          <a:lnTo>
                            <a:pt x="320" y="13"/>
                          </a:lnTo>
                          <a:lnTo>
                            <a:pt x="284" y="18"/>
                          </a:lnTo>
                          <a:lnTo>
                            <a:pt x="249" y="23"/>
                          </a:lnTo>
                          <a:lnTo>
                            <a:pt x="213" y="28"/>
                          </a:lnTo>
                          <a:lnTo>
                            <a:pt x="180" y="33"/>
                          </a:lnTo>
                          <a:lnTo>
                            <a:pt x="155" y="51"/>
                          </a:lnTo>
                          <a:lnTo>
                            <a:pt x="132" y="69"/>
                          </a:lnTo>
                          <a:lnTo>
                            <a:pt x="107" y="86"/>
                          </a:lnTo>
                          <a:lnTo>
                            <a:pt x="87" y="107"/>
                          </a:lnTo>
                          <a:lnTo>
                            <a:pt x="64" y="127"/>
                          </a:lnTo>
                          <a:lnTo>
                            <a:pt x="44" y="147"/>
                          </a:lnTo>
                          <a:lnTo>
                            <a:pt x="26" y="168"/>
                          </a:lnTo>
                          <a:lnTo>
                            <a:pt x="8" y="191"/>
                          </a:lnTo>
                          <a:lnTo>
                            <a:pt x="6" y="211"/>
                          </a:lnTo>
                          <a:lnTo>
                            <a:pt x="3" y="231"/>
                          </a:lnTo>
                          <a:lnTo>
                            <a:pt x="0" y="254"/>
                          </a:lnTo>
                          <a:lnTo>
                            <a:pt x="0" y="274"/>
                          </a:lnTo>
                          <a:lnTo>
                            <a:pt x="774" y="310"/>
                          </a:lnTo>
                          <a:lnTo>
                            <a:pt x="761" y="279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>
                      <a:off x="4090320" y="4375800"/>
                      <a:ext cx="352440" cy="8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9" h="150">
                          <a:moveTo>
                            <a:pt x="528" y="0"/>
                          </a:moveTo>
                          <a:lnTo>
                            <a:pt x="490" y="0"/>
                          </a:lnTo>
                          <a:lnTo>
                            <a:pt x="454" y="3"/>
                          </a:lnTo>
                          <a:lnTo>
                            <a:pt x="416" y="6"/>
                          </a:lnTo>
                          <a:lnTo>
                            <a:pt x="381" y="11"/>
                          </a:lnTo>
                          <a:lnTo>
                            <a:pt x="345" y="16"/>
                          </a:lnTo>
                          <a:lnTo>
                            <a:pt x="312" y="23"/>
                          </a:lnTo>
                          <a:lnTo>
                            <a:pt x="277" y="31"/>
                          </a:lnTo>
                          <a:lnTo>
                            <a:pt x="244" y="41"/>
                          </a:lnTo>
                          <a:lnTo>
                            <a:pt x="211" y="51"/>
                          </a:lnTo>
                          <a:lnTo>
                            <a:pt x="178" y="61"/>
                          </a:lnTo>
                          <a:lnTo>
                            <a:pt x="148" y="74"/>
                          </a:lnTo>
                          <a:lnTo>
                            <a:pt x="115" y="87"/>
                          </a:lnTo>
                          <a:lnTo>
                            <a:pt x="87" y="102"/>
                          </a:lnTo>
                          <a:lnTo>
                            <a:pt x="56" y="117"/>
                          </a:lnTo>
                          <a:lnTo>
                            <a:pt x="28" y="132"/>
                          </a:lnTo>
                          <a:lnTo>
                            <a:pt x="0" y="150"/>
                          </a:lnTo>
                          <a:lnTo>
                            <a:pt x="33" y="145"/>
                          </a:lnTo>
                          <a:lnTo>
                            <a:pt x="69" y="140"/>
                          </a:lnTo>
                          <a:lnTo>
                            <a:pt x="104" y="135"/>
                          </a:lnTo>
                          <a:lnTo>
                            <a:pt x="140" y="130"/>
                          </a:lnTo>
                          <a:lnTo>
                            <a:pt x="175" y="127"/>
                          </a:lnTo>
                          <a:lnTo>
                            <a:pt x="213" y="125"/>
                          </a:lnTo>
                          <a:lnTo>
                            <a:pt x="249" y="122"/>
                          </a:lnTo>
                          <a:lnTo>
                            <a:pt x="287" y="120"/>
                          </a:lnTo>
                          <a:lnTo>
                            <a:pt x="325" y="117"/>
                          </a:lnTo>
                          <a:lnTo>
                            <a:pt x="363" y="117"/>
                          </a:lnTo>
                          <a:lnTo>
                            <a:pt x="401" y="117"/>
                          </a:lnTo>
                          <a:lnTo>
                            <a:pt x="442" y="117"/>
                          </a:lnTo>
                          <a:lnTo>
                            <a:pt x="480" y="120"/>
                          </a:lnTo>
                          <a:lnTo>
                            <a:pt x="520" y="122"/>
                          </a:lnTo>
                          <a:lnTo>
                            <a:pt x="558" y="125"/>
                          </a:lnTo>
                          <a:lnTo>
                            <a:pt x="599" y="127"/>
                          </a:lnTo>
                          <a:lnTo>
                            <a:pt x="584" y="3"/>
                          </a:lnTo>
                          <a:lnTo>
                            <a:pt x="571" y="0"/>
                          </a:lnTo>
                          <a:lnTo>
                            <a:pt x="556" y="0"/>
                          </a:lnTo>
                          <a:lnTo>
                            <a:pt x="543" y="0"/>
                          </a:lnTo>
                          <a:lnTo>
                            <a:pt x="528" y="0"/>
                          </a:lnTo>
                          <a:close/>
                        </a:path>
                      </a:pathLst>
                    </a:custGeom>
                    <a:solidFill>
                      <a:srgbClr val="336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120" bIns="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3958920" y="4682520"/>
                      <a:ext cx="108720" cy="32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" h="548">
                          <a:moveTo>
                            <a:pt x="33" y="129"/>
                          </a:moveTo>
                          <a:lnTo>
                            <a:pt x="23" y="101"/>
                          </a:lnTo>
                          <a:lnTo>
                            <a:pt x="16" y="63"/>
                          </a:lnTo>
                          <a:lnTo>
                            <a:pt x="8" y="25"/>
                          </a:lnTo>
                          <a:lnTo>
                            <a:pt x="0" y="0"/>
                          </a:lnTo>
                          <a:lnTo>
                            <a:pt x="0" y="195"/>
                          </a:lnTo>
                          <a:lnTo>
                            <a:pt x="0" y="203"/>
                          </a:lnTo>
                          <a:lnTo>
                            <a:pt x="5" y="228"/>
                          </a:lnTo>
                          <a:lnTo>
                            <a:pt x="16" y="263"/>
                          </a:lnTo>
                          <a:lnTo>
                            <a:pt x="31" y="312"/>
                          </a:lnTo>
                          <a:lnTo>
                            <a:pt x="54" y="365"/>
                          </a:lnTo>
                          <a:lnTo>
                            <a:pt x="87" y="426"/>
                          </a:lnTo>
                          <a:lnTo>
                            <a:pt x="130" y="487"/>
                          </a:lnTo>
                          <a:lnTo>
                            <a:pt x="185" y="548"/>
                          </a:lnTo>
                          <a:lnTo>
                            <a:pt x="185" y="352"/>
                          </a:lnTo>
                          <a:lnTo>
                            <a:pt x="158" y="324"/>
                          </a:lnTo>
                          <a:lnTo>
                            <a:pt x="132" y="296"/>
                          </a:lnTo>
                          <a:lnTo>
                            <a:pt x="109" y="269"/>
                          </a:lnTo>
                          <a:lnTo>
                            <a:pt x="92" y="238"/>
                          </a:lnTo>
                          <a:lnTo>
                            <a:pt x="71" y="210"/>
                          </a:lnTo>
                          <a:lnTo>
                            <a:pt x="56" y="182"/>
                          </a:lnTo>
                          <a:lnTo>
                            <a:pt x="43" y="154"/>
                          </a:lnTo>
                          <a:lnTo>
                            <a:pt x="33" y="129"/>
                          </a:lnTo>
                          <a:close/>
                        </a:path>
                      </a:pathLst>
                    </a:custGeom>
                    <a:solidFill>
                      <a:srgbClr val="0000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4488840" y="4649040"/>
                      <a:ext cx="358560" cy="16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9" h="274">
                          <a:moveTo>
                            <a:pt x="0" y="0"/>
                          </a:moveTo>
                          <a:lnTo>
                            <a:pt x="94" y="269"/>
                          </a:lnTo>
                          <a:lnTo>
                            <a:pt x="606" y="274"/>
                          </a:lnTo>
                          <a:lnTo>
                            <a:pt x="609" y="269"/>
                          </a:lnTo>
                          <a:lnTo>
                            <a:pt x="5" y="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7c4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4492080" y="4650480"/>
                      <a:ext cx="383760" cy="15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2" h="267">
                          <a:moveTo>
                            <a:pt x="0" y="0"/>
                          </a:moveTo>
                          <a:lnTo>
                            <a:pt x="604" y="267"/>
                          </a:lnTo>
                          <a:lnTo>
                            <a:pt x="652" y="3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2db6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4084560" y="5009400"/>
                      <a:ext cx="464400" cy="12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9" h="216">
                          <a:moveTo>
                            <a:pt x="0" y="23"/>
                          </a:moveTo>
                          <a:lnTo>
                            <a:pt x="21" y="41"/>
                          </a:lnTo>
                          <a:lnTo>
                            <a:pt x="43" y="56"/>
                          </a:lnTo>
                          <a:lnTo>
                            <a:pt x="66" y="74"/>
                          </a:lnTo>
                          <a:lnTo>
                            <a:pt x="89" y="89"/>
                          </a:lnTo>
                          <a:lnTo>
                            <a:pt x="117" y="104"/>
                          </a:lnTo>
                          <a:lnTo>
                            <a:pt x="142" y="117"/>
                          </a:lnTo>
                          <a:lnTo>
                            <a:pt x="170" y="130"/>
                          </a:lnTo>
                          <a:lnTo>
                            <a:pt x="201" y="142"/>
                          </a:lnTo>
                          <a:lnTo>
                            <a:pt x="234" y="155"/>
                          </a:lnTo>
                          <a:lnTo>
                            <a:pt x="267" y="168"/>
                          </a:lnTo>
                          <a:lnTo>
                            <a:pt x="300" y="178"/>
                          </a:lnTo>
                          <a:lnTo>
                            <a:pt x="335" y="185"/>
                          </a:lnTo>
                          <a:lnTo>
                            <a:pt x="373" y="193"/>
                          </a:lnTo>
                          <a:lnTo>
                            <a:pt x="414" y="201"/>
                          </a:lnTo>
                          <a:lnTo>
                            <a:pt x="454" y="206"/>
                          </a:lnTo>
                          <a:lnTo>
                            <a:pt x="497" y="211"/>
                          </a:lnTo>
                          <a:lnTo>
                            <a:pt x="502" y="211"/>
                          </a:lnTo>
                          <a:lnTo>
                            <a:pt x="520" y="213"/>
                          </a:lnTo>
                          <a:lnTo>
                            <a:pt x="545" y="213"/>
                          </a:lnTo>
                          <a:lnTo>
                            <a:pt x="578" y="216"/>
                          </a:lnTo>
                          <a:lnTo>
                            <a:pt x="619" y="213"/>
                          </a:lnTo>
                          <a:lnTo>
                            <a:pt x="667" y="211"/>
                          </a:lnTo>
                          <a:lnTo>
                            <a:pt x="720" y="203"/>
                          </a:lnTo>
                          <a:lnTo>
                            <a:pt x="776" y="190"/>
                          </a:lnTo>
                          <a:lnTo>
                            <a:pt x="789" y="0"/>
                          </a:lnTo>
                          <a:lnTo>
                            <a:pt x="779" y="3"/>
                          </a:lnTo>
                          <a:lnTo>
                            <a:pt x="766" y="3"/>
                          </a:lnTo>
                          <a:lnTo>
                            <a:pt x="756" y="5"/>
                          </a:lnTo>
                          <a:lnTo>
                            <a:pt x="743" y="8"/>
                          </a:lnTo>
                          <a:lnTo>
                            <a:pt x="718" y="18"/>
                          </a:lnTo>
                          <a:lnTo>
                            <a:pt x="690" y="28"/>
                          </a:lnTo>
                          <a:lnTo>
                            <a:pt x="660" y="41"/>
                          </a:lnTo>
                          <a:lnTo>
                            <a:pt x="624" y="51"/>
                          </a:lnTo>
                          <a:lnTo>
                            <a:pt x="586" y="61"/>
                          </a:lnTo>
                          <a:lnTo>
                            <a:pt x="543" y="71"/>
                          </a:lnTo>
                          <a:lnTo>
                            <a:pt x="500" y="79"/>
                          </a:lnTo>
                          <a:lnTo>
                            <a:pt x="452" y="86"/>
                          </a:lnTo>
                          <a:lnTo>
                            <a:pt x="403" y="89"/>
                          </a:lnTo>
                          <a:lnTo>
                            <a:pt x="350" y="92"/>
                          </a:lnTo>
                          <a:lnTo>
                            <a:pt x="297" y="89"/>
                          </a:lnTo>
                          <a:lnTo>
                            <a:pt x="241" y="84"/>
                          </a:lnTo>
                          <a:lnTo>
                            <a:pt x="183" y="76"/>
                          </a:lnTo>
                          <a:lnTo>
                            <a:pt x="125" y="64"/>
                          </a:lnTo>
                          <a:lnTo>
                            <a:pt x="64" y="46"/>
                          </a:lnTo>
                          <a:lnTo>
                            <a:pt x="0" y="23"/>
                          </a:lnTo>
                          <a:close/>
                        </a:path>
                      </a:pathLst>
                    </a:custGeom>
                    <a:solidFill>
                      <a:srgbClr val="14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4068000" y="4891680"/>
                      <a:ext cx="453960" cy="17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1" h="290">
                          <a:moveTo>
                            <a:pt x="771" y="206"/>
                          </a:moveTo>
                          <a:lnTo>
                            <a:pt x="748" y="208"/>
                          </a:lnTo>
                          <a:lnTo>
                            <a:pt x="723" y="213"/>
                          </a:lnTo>
                          <a:lnTo>
                            <a:pt x="698" y="216"/>
                          </a:lnTo>
                          <a:lnTo>
                            <a:pt x="672" y="216"/>
                          </a:lnTo>
                          <a:lnTo>
                            <a:pt x="647" y="218"/>
                          </a:lnTo>
                          <a:lnTo>
                            <a:pt x="622" y="218"/>
                          </a:lnTo>
                          <a:lnTo>
                            <a:pt x="594" y="218"/>
                          </a:lnTo>
                          <a:lnTo>
                            <a:pt x="566" y="218"/>
                          </a:lnTo>
                          <a:lnTo>
                            <a:pt x="518" y="216"/>
                          </a:lnTo>
                          <a:lnTo>
                            <a:pt x="469" y="211"/>
                          </a:lnTo>
                          <a:lnTo>
                            <a:pt x="426" y="206"/>
                          </a:lnTo>
                          <a:lnTo>
                            <a:pt x="383" y="198"/>
                          </a:lnTo>
                          <a:lnTo>
                            <a:pt x="340" y="188"/>
                          </a:lnTo>
                          <a:lnTo>
                            <a:pt x="302" y="175"/>
                          </a:lnTo>
                          <a:lnTo>
                            <a:pt x="264" y="163"/>
                          </a:lnTo>
                          <a:lnTo>
                            <a:pt x="229" y="150"/>
                          </a:lnTo>
                          <a:lnTo>
                            <a:pt x="193" y="135"/>
                          </a:lnTo>
                          <a:lnTo>
                            <a:pt x="160" y="117"/>
                          </a:lnTo>
                          <a:lnTo>
                            <a:pt x="130" y="99"/>
                          </a:lnTo>
                          <a:lnTo>
                            <a:pt x="102" y="81"/>
                          </a:lnTo>
                          <a:lnTo>
                            <a:pt x="74" y="61"/>
                          </a:lnTo>
                          <a:lnTo>
                            <a:pt x="49" y="41"/>
                          </a:lnTo>
                          <a:lnTo>
                            <a:pt x="23" y="21"/>
                          </a:lnTo>
                          <a:lnTo>
                            <a:pt x="0" y="0"/>
                          </a:lnTo>
                          <a:lnTo>
                            <a:pt x="0" y="196"/>
                          </a:lnTo>
                          <a:lnTo>
                            <a:pt x="5" y="203"/>
                          </a:lnTo>
                          <a:lnTo>
                            <a:pt x="13" y="208"/>
                          </a:lnTo>
                          <a:lnTo>
                            <a:pt x="21" y="216"/>
                          </a:lnTo>
                          <a:lnTo>
                            <a:pt x="28" y="221"/>
                          </a:lnTo>
                          <a:lnTo>
                            <a:pt x="92" y="244"/>
                          </a:lnTo>
                          <a:lnTo>
                            <a:pt x="153" y="262"/>
                          </a:lnTo>
                          <a:lnTo>
                            <a:pt x="211" y="274"/>
                          </a:lnTo>
                          <a:lnTo>
                            <a:pt x="269" y="282"/>
                          </a:lnTo>
                          <a:lnTo>
                            <a:pt x="325" y="287"/>
                          </a:lnTo>
                          <a:lnTo>
                            <a:pt x="378" y="290"/>
                          </a:lnTo>
                          <a:lnTo>
                            <a:pt x="431" y="287"/>
                          </a:lnTo>
                          <a:lnTo>
                            <a:pt x="480" y="284"/>
                          </a:lnTo>
                          <a:lnTo>
                            <a:pt x="528" y="277"/>
                          </a:lnTo>
                          <a:lnTo>
                            <a:pt x="571" y="269"/>
                          </a:lnTo>
                          <a:lnTo>
                            <a:pt x="614" y="259"/>
                          </a:lnTo>
                          <a:lnTo>
                            <a:pt x="652" y="249"/>
                          </a:lnTo>
                          <a:lnTo>
                            <a:pt x="688" y="239"/>
                          </a:lnTo>
                          <a:lnTo>
                            <a:pt x="718" y="226"/>
                          </a:lnTo>
                          <a:lnTo>
                            <a:pt x="746" y="216"/>
                          </a:lnTo>
                          <a:lnTo>
                            <a:pt x="771" y="206"/>
                          </a:lnTo>
                          <a:close/>
                        </a:path>
                      </a:pathLst>
                    </a:custGeom>
                    <a:solidFill>
                      <a:srgbClr val="0000a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>
                      <a:off x="4541400" y="5000400"/>
                      <a:ext cx="47520" cy="12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" h="205">
                          <a:moveTo>
                            <a:pt x="0" y="205"/>
                          </a:moveTo>
                          <a:lnTo>
                            <a:pt x="15" y="200"/>
                          </a:lnTo>
                          <a:lnTo>
                            <a:pt x="31" y="198"/>
                          </a:lnTo>
                          <a:lnTo>
                            <a:pt x="46" y="193"/>
                          </a:lnTo>
                          <a:lnTo>
                            <a:pt x="61" y="188"/>
                          </a:lnTo>
                          <a:lnTo>
                            <a:pt x="81" y="0"/>
                          </a:lnTo>
                          <a:lnTo>
                            <a:pt x="64" y="5"/>
                          </a:lnTo>
                          <a:lnTo>
                            <a:pt x="48" y="10"/>
                          </a:lnTo>
                          <a:lnTo>
                            <a:pt x="31" y="13"/>
                          </a:lnTo>
                          <a:lnTo>
                            <a:pt x="13" y="15"/>
                          </a:lnTo>
                          <a:lnTo>
                            <a:pt x="0" y="20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4" name=""/>
                  <p:cNvSpPr/>
                  <p:nvPr/>
                </p:nvSpPr>
                <p:spPr>
                  <a:xfrm>
                    <a:off x="4443120" y="4623480"/>
                    <a:ext cx="106920" cy="351360"/>
                  </a:xfrm>
                  <a:prstGeom prst="line">
                    <a:avLst/>
                  </a:prstGeom>
                  <a:ln w="114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4589280" y="4513680"/>
                  <a:ext cx="702000" cy="812880"/>
                  <a:chOff x="4589280" y="4513680"/>
                  <a:chExt cx="702000" cy="81288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4762080" y="4799880"/>
                    <a:ext cx="337320" cy="526320"/>
                  </a:xfrm>
                  <a:custGeom>
                    <a:avLst/>
                    <a:gdLst/>
                    <a:ahLst/>
                    <a:rect l="l" t="t" r="r" b="b"/>
                    <a:pathLst>
                      <a:path w="573" h="886">
                        <a:moveTo>
                          <a:pt x="551" y="120"/>
                        </a:moveTo>
                        <a:lnTo>
                          <a:pt x="558" y="92"/>
                        </a:lnTo>
                        <a:lnTo>
                          <a:pt x="566" y="61"/>
                        </a:lnTo>
                        <a:lnTo>
                          <a:pt x="571" y="33"/>
                        </a:lnTo>
                        <a:lnTo>
                          <a:pt x="573" y="3"/>
                        </a:lnTo>
                        <a:lnTo>
                          <a:pt x="505" y="0"/>
                        </a:lnTo>
                        <a:lnTo>
                          <a:pt x="502" y="18"/>
                        </a:lnTo>
                        <a:lnTo>
                          <a:pt x="500" y="33"/>
                        </a:lnTo>
                        <a:lnTo>
                          <a:pt x="497" y="49"/>
                        </a:lnTo>
                        <a:lnTo>
                          <a:pt x="495" y="66"/>
                        </a:lnTo>
                        <a:lnTo>
                          <a:pt x="485" y="107"/>
                        </a:lnTo>
                        <a:lnTo>
                          <a:pt x="472" y="150"/>
                        </a:lnTo>
                        <a:lnTo>
                          <a:pt x="454" y="188"/>
                        </a:lnTo>
                        <a:lnTo>
                          <a:pt x="437" y="229"/>
                        </a:lnTo>
                        <a:lnTo>
                          <a:pt x="414" y="267"/>
                        </a:lnTo>
                        <a:lnTo>
                          <a:pt x="388" y="302"/>
                        </a:lnTo>
                        <a:lnTo>
                          <a:pt x="360" y="338"/>
                        </a:lnTo>
                        <a:lnTo>
                          <a:pt x="333" y="373"/>
                        </a:lnTo>
                        <a:lnTo>
                          <a:pt x="300" y="404"/>
                        </a:lnTo>
                        <a:lnTo>
                          <a:pt x="264" y="434"/>
                        </a:lnTo>
                        <a:lnTo>
                          <a:pt x="226" y="462"/>
                        </a:lnTo>
                        <a:lnTo>
                          <a:pt x="188" y="488"/>
                        </a:lnTo>
                        <a:lnTo>
                          <a:pt x="145" y="513"/>
                        </a:lnTo>
                        <a:lnTo>
                          <a:pt x="102" y="533"/>
                        </a:lnTo>
                        <a:lnTo>
                          <a:pt x="56" y="551"/>
                        </a:lnTo>
                        <a:lnTo>
                          <a:pt x="8" y="566"/>
                        </a:lnTo>
                        <a:lnTo>
                          <a:pt x="26" y="609"/>
                        </a:lnTo>
                        <a:lnTo>
                          <a:pt x="26" y="620"/>
                        </a:lnTo>
                        <a:lnTo>
                          <a:pt x="23" y="642"/>
                        </a:lnTo>
                        <a:lnTo>
                          <a:pt x="102" y="617"/>
                        </a:lnTo>
                        <a:lnTo>
                          <a:pt x="173" y="584"/>
                        </a:lnTo>
                        <a:lnTo>
                          <a:pt x="234" y="546"/>
                        </a:lnTo>
                        <a:lnTo>
                          <a:pt x="284" y="505"/>
                        </a:lnTo>
                        <a:lnTo>
                          <a:pt x="330" y="462"/>
                        </a:lnTo>
                        <a:lnTo>
                          <a:pt x="368" y="422"/>
                        </a:lnTo>
                        <a:lnTo>
                          <a:pt x="399" y="381"/>
                        </a:lnTo>
                        <a:lnTo>
                          <a:pt x="426" y="346"/>
                        </a:lnTo>
                        <a:lnTo>
                          <a:pt x="454" y="305"/>
                        </a:lnTo>
                        <a:lnTo>
                          <a:pt x="472" y="274"/>
                        </a:lnTo>
                        <a:lnTo>
                          <a:pt x="482" y="254"/>
                        </a:lnTo>
                        <a:lnTo>
                          <a:pt x="485" y="247"/>
                        </a:lnTo>
                        <a:lnTo>
                          <a:pt x="477" y="277"/>
                        </a:lnTo>
                        <a:lnTo>
                          <a:pt x="454" y="373"/>
                        </a:lnTo>
                        <a:lnTo>
                          <a:pt x="431" y="422"/>
                        </a:lnTo>
                        <a:lnTo>
                          <a:pt x="409" y="465"/>
                        </a:lnTo>
                        <a:lnTo>
                          <a:pt x="386" y="508"/>
                        </a:lnTo>
                        <a:lnTo>
                          <a:pt x="360" y="549"/>
                        </a:lnTo>
                        <a:lnTo>
                          <a:pt x="333" y="584"/>
                        </a:lnTo>
                        <a:lnTo>
                          <a:pt x="305" y="620"/>
                        </a:lnTo>
                        <a:lnTo>
                          <a:pt x="277" y="650"/>
                        </a:lnTo>
                        <a:lnTo>
                          <a:pt x="249" y="680"/>
                        </a:lnTo>
                        <a:lnTo>
                          <a:pt x="218" y="706"/>
                        </a:lnTo>
                        <a:lnTo>
                          <a:pt x="191" y="731"/>
                        </a:lnTo>
                        <a:lnTo>
                          <a:pt x="160" y="754"/>
                        </a:lnTo>
                        <a:lnTo>
                          <a:pt x="130" y="772"/>
                        </a:lnTo>
                        <a:lnTo>
                          <a:pt x="99" y="790"/>
                        </a:lnTo>
                        <a:lnTo>
                          <a:pt x="66" y="805"/>
                        </a:lnTo>
                        <a:lnTo>
                          <a:pt x="36" y="820"/>
                        </a:lnTo>
                        <a:lnTo>
                          <a:pt x="6" y="830"/>
                        </a:lnTo>
                        <a:lnTo>
                          <a:pt x="0" y="886"/>
                        </a:lnTo>
                        <a:lnTo>
                          <a:pt x="54" y="868"/>
                        </a:lnTo>
                        <a:lnTo>
                          <a:pt x="104" y="845"/>
                        </a:lnTo>
                        <a:lnTo>
                          <a:pt x="155" y="820"/>
                        </a:lnTo>
                        <a:lnTo>
                          <a:pt x="201" y="792"/>
                        </a:lnTo>
                        <a:lnTo>
                          <a:pt x="246" y="759"/>
                        </a:lnTo>
                        <a:lnTo>
                          <a:pt x="287" y="726"/>
                        </a:lnTo>
                        <a:lnTo>
                          <a:pt x="325" y="691"/>
                        </a:lnTo>
                        <a:lnTo>
                          <a:pt x="360" y="653"/>
                        </a:lnTo>
                        <a:lnTo>
                          <a:pt x="393" y="612"/>
                        </a:lnTo>
                        <a:lnTo>
                          <a:pt x="424" y="569"/>
                        </a:lnTo>
                        <a:lnTo>
                          <a:pt x="449" y="526"/>
                        </a:lnTo>
                        <a:lnTo>
                          <a:pt x="470" y="480"/>
                        </a:lnTo>
                        <a:lnTo>
                          <a:pt x="490" y="434"/>
                        </a:lnTo>
                        <a:lnTo>
                          <a:pt x="502" y="386"/>
                        </a:lnTo>
                        <a:lnTo>
                          <a:pt x="513" y="338"/>
                        </a:lnTo>
                        <a:lnTo>
                          <a:pt x="520" y="287"/>
                        </a:lnTo>
                        <a:lnTo>
                          <a:pt x="551" y="1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4690800" y="4961520"/>
                    <a:ext cx="2642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449" h="294">
                        <a:moveTo>
                          <a:pt x="129" y="294"/>
                        </a:moveTo>
                        <a:lnTo>
                          <a:pt x="177" y="279"/>
                        </a:lnTo>
                        <a:lnTo>
                          <a:pt x="223" y="261"/>
                        </a:lnTo>
                        <a:lnTo>
                          <a:pt x="266" y="241"/>
                        </a:lnTo>
                        <a:lnTo>
                          <a:pt x="307" y="218"/>
                        </a:lnTo>
                        <a:lnTo>
                          <a:pt x="347" y="193"/>
                        </a:lnTo>
                        <a:lnTo>
                          <a:pt x="383" y="165"/>
                        </a:lnTo>
                        <a:lnTo>
                          <a:pt x="416" y="134"/>
                        </a:lnTo>
                        <a:lnTo>
                          <a:pt x="449" y="101"/>
                        </a:lnTo>
                        <a:lnTo>
                          <a:pt x="421" y="89"/>
                        </a:lnTo>
                        <a:lnTo>
                          <a:pt x="395" y="76"/>
                        </a:lnTo>
                        <a:lnTo>
                          <a:pt x="367" y="63"/>
                        </a:lnTo>
                        <a:lnTo>
                          <a:pt x="339" y="53"/>
                        </a:lnTo>
                        <a:lnTo>
                          <a:pt x="312" y="46"/>
                        </a:lnTo>
                        <a:lnTo>
                          <a:pt x="284" y="38"/>
                        </a:lnTo>
                        <a:lnTo>
                          <a:pt x="256" y="30"/>
                        </a:lnTo>
                        <a:lnTo>
                          <a:pt x="228" y="23"/>
                        </a:lnTo>
                        <a:lnTo>
                          <a:pt x="200" y="18"/>
                        </a:lnTo>
                        <a:lnTo>
                          <a:pt x="172" y="15"/>
                        </a:lnTo>
                        <a:lnTo>
                          <a:pt x="142" y="10"/>
                        </a:lnTo>
                        <a:lnTo>
                          <a:pt x="114" y="8"/>
                        </a:lnTo>
                        <a:lnTo>
                          <a:pt x="86" y="5"/>
                        </a:lnTo>
                        <a:lnTo>
                          <a:pt x="58" y="2"/>
                        </a:lnTo>
                        <a:lnTo>
                          <a:pt x="28" y="0"/>
                        </a:lnTo>
                        <a:lnTo>
                          <a:pt x="0" y="0"/>
                        </a:lnTo>
                        <a:lnTo>
                          <a:pt x="129" y="294"/>
                        </a:lnTo>
                        <a:close/>
                      </a:path>
                    </a:pathLst>
                  </a:custGeom>
                  <a:solidFill>
                    <a:srgbClr val="7a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4626720" y="4812480"/>
                    <a:ext cx="42984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730" h="180">
                        <a:moveTo>
                          <a:pt x="730" y="18"/>
                        </a:moveTo>
                        <a:lnTo>
                          <a:pt x="0" y="0"/>
                        </a:lnTo>
                        <a:lnTo>
                          <a:pt x="48" y="109"/>
                        </a:lnTo>
                        <a:lnTo>
                          <a:pt x="83" y="109"/>
                        </a:lnTo>
                        <a:lnTo>
                          <a:pt x="121" y="109"/>
                        </a:lnTo>
                        <a:lnTo>
                          <a:pt x="162" y="111"/>
                        </a:lnTo>
                        <a:lnTo>
                          <a:pt x="200" y="114"/>
                        </a:lnTo>
                        <a:lnTo>
                          <a:pt x="243" y="119"/>
                        </a:lnTo>
                        <a:lnTo>
                          <a:pt x="284" y="124"/>
                        </a:lnTo>
                        <a:lnTo>
                          <a:pt x="327" y="129"/>
                        </a:lnTo>
                        <a:lnTo>
                          <a:pt x="367" y="134"/>
                        </a:lnTo>
                        <a:lnTo>
                          <a:pt x="410" y="142"/>
                        </a:lnTo>
                        <a:lnTo>
                          <a:pt x="451" y="147"/>
                        </a:lnTo>
                        <a:lnTo>
                          <a:pt x="494" y="155"/>
                        </a:lnTo>
                        <a:lnTo>
                          <a:pt x="532" y="160"/>
                        </a:lnTo>
                        <a:lnTo>
                          <a:pt x="573" y="167"/>
                        </a:lnTo>
                        <a:lnTo>
                          <a:pt x="611" y="172"/>
                        </a:lnTo>
                        <a:lnTo>
                          <a:pt x="646" y="175"/>
                        </a:lnTo>
                        <a:lnTo>
                          <a:pt x="679" y="180"/>
                        </a:lnTo>
                        <a:lnTo>
                          <a:pt x="694" y="147"/>
                        </a:lnTo>
                        <a:lnTo>
                          <a:pt x="707" y="114"/>
                        </a:lnTo>
                        <a:lnTo>
                          <a:pt x="717" y="78"/>
                        </a:lnTo>
                        <a:lnTo>
                          <a:pt x="725" y="45"/>
                        </a:lnTo>
                        <a:lnTo>
                          <a:pt x="727" y="38"/>
                        </a:lnTo>
                        <a:lnTo>
                          <a:pt x="727" y="30"/>
                        </a:lnTo>
                        <a:lnTo>
                          <a:pt x="727" y="25"/>
                        </a:lnTo>
                        <a:lnTo>
                          <a:pt x="730" y="18"/>
                        </a:lnTo>
                        <a:close/>
                      </a:path>
                    </a:pathLst>
                  </a:custGeom>
                  <a:solidFill>
                    <a:srgbClr val="7a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654800" y="4877280"/>
                    <a:ext cx="37152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631" h="243">
                        <a:moveTo>
                          <a:pt x="0" y="0"/>
                        </a:moveTo>
                        <a:lnTo>
                          <a:pt x="61" y="142"/>
                        </a:lnTo>
                        <a:lnTo>
                          <a:pt x="89" y="142"/>
                        </a:lnTo>
                        <a:lnTo>
                          <a:pt x="119" y="144"/>
                        </a:lnTo>
                        <a:lnTo>
                          <a:pt x="147" y="147"/>
                        </a:lnTo>
                        <a:lnTo>
                          <a:pt x="175" y="150"/>
                        </a:lnTo>
                        <a:lnTo>
                          <a:pt x="203" y="152"/>
                        </a:lnTo>
                        <a:lnTo>
                          <a:pt x="233" y="157"/>
                        </a:lnTo>
                        <a:lnTo>
                          <a:pt x="261" y="160"/>
                        </a:lnTo>
                        <a:lnTo>
                          <a:pt x="289" y="165"/>
                        </a:lnTo>
                        <a:lnTo>
                          <a:pt x="317" y="172"/>
                        </a:lnTo>
                        <a:lnTo>
                          <a:pt x="345" y="180"/>
                        </a:lnTo>
                        <a:lnTo>
                          <a:pt x="373" y="188"/>
                        </a:lnTo>
                        <a:lnTo>
                          <a:pt x="400" y="195"/>
                        </a:lnTo>
                        <a:lnTo>
                          <a:pt x="428" y="205"/>
                        </a:lnTo>
                        <a:lnTo>
                          <a:pt x="456" y="218"/>
                        </a:lnTo>
                        <a:lnTo>
                          <a:pt x="482" y="231"/>
                        </a:lnTo>
                        <a:lnTo>
                          <a:pt x="510" y="243"/>
                        </a:lnTo>
                        <a:lnTo>
                          <a:pt x="527" y="223"/>
                        </a:lnTo>
                        <a:lnTo>
                          <a:pt x="545" y="203"/>
                        </a:lnTo>
                        <a:lnTo>
                          <a:pt x="563" y="183"/>
                        </a:lnTo>
                        <a:lnTo>
                          <a:pt x="578" y="162"/>
                        </a:lnTo>
                        <a:lnTo>
                          <a:pt x="593" y="139"/>
                        </a:lnTo>
                        <a:lnTo>
                          <a:pt x="606" y="117"/>
                        </a:lnTo>
                        <a:lnTo>
                          <a:pt x="619" y="94"/>
                        </a:lnTo>
                        <a:lnTo>
                          <a:pt x="631" y="71"/>
                        </a:lnTo>
                        <a:lnTo>
                          <a:pt x="598" y="66"/>
                        </a:lnTo>
                        <a:lnTo>
                          <a:pt x="563" y="63"/>
                        </a:lnTo>
                        <a:lnTo>
                          <a:pt x="525" y="58"/>
                        </a:lnTo>
                        <a:lnTo>
                          <a:pt x="484" y="51"/>
                        </a:lnTo>
                        <a:lnTo>
                          <a:pt x="446" y="46"/>
                        </a:lnTo>
                        <a:lnTo>
                          <a:pt x="403" y="38"/>
                        </a:lnTo>
                        <a:lnTo>
                          <a:pt x="362" y="33"/>
                        </a:lnTo>
                        <a:lnTo>
                          <a:pt x="319" y="25"/>
                        </a:lnTo>
                        <a:lnTo>
                          <a:pt x="279" y="20"/>
                        </a:lnTo>
                        <a:lnTo>
                          <a:pt x="236" y="15"/>
                        </a:lnTo>
                        <a:lnTo>
                          <a:pt x="195" y="10"/>
                        </a:lnTo>
                        <a:lnTo>
                          <a:pt x="152" y="5"/>
                        </a:lnTo>
                        <a:lnTo>
                          <a:pt x="114" y="2"/>
                        </a:lnTo>
                        <a:lnTo>
                          <a:pt x="73" y="0"/>
                        </a:lnTo>
                        <a:lnTo>
                          <a:pt x="3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fff6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4589280" y="4777560"/>
                    <a:ext cx="479160" cy="549000"/>
                  </a:xfrm>
                  <a:custGeom>
                    <a:avLst/>
                    <a:gdLst/>
                    <a:ahLst/>
                    <a:rect l="l" t="t" r="r" b="b"/>
                    <a:pathLst>
                      <a:path w="814" h="924">
                        <a:moveTo>
                          <a:pt x="92" y="61"/>
                        </a:moveTo>
                        <a:lnTo>
                          <a:pt x="814" y="92"/>
                        </a:lnTo>
                        <a:lnTo>
                          <a:pt x="812" y="79"/>
                        </a:lnTo>
                        <a:lnTo>
                          <a:pt x="807" y="64"/>
                        </a:lnTo>
                        <a:lnTo>
                          <a:pt x="802" y="51"/>
                        </a:lnTo>
                        <a:lnTo>
                          <a:pt x="799" y="38"/>
                        </a:lnTo>
                        <a:lnTo>
                          <a:pt x="764" y="36"/>
                        </a:lnTo>
                        <a:lnTo>
                          <a:pt x="38" y="0"/>
                        </a:lnTo>
                        <a:lnTo>
                          <a:pt x="0" y="396"/>
                        </a:lnTo>
                        <a:lnTo>
                          <a:pt x="294" y="924"/>
                        </a:lnTo>
                        <a:lnTo>
                          <a:pt x="332" y="878"/>
                        </a:lnTo>
                        <a:lnTo>
                          <a:pt x="409" y="604"/>
                        </a:lnTo>
                        <a:lnTo>
                          <a:pt x="92" y="6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4669920" y="4934160"/>
                    <a:ext cx="1087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520">
                        <a:moveTo>
                          <a:pt x="135" y="520"/>
                        </a:moveTo>
                        <a:lnTo>
                          <a:pt x="185" y="340"/>
                        </a:lnTo>
                        <a:lnTo>
                          <a:pt x="0" y="0"/>
                        </a:lnTo>
                        <a:lnTo>
                          <a:pt x="41" y="348"/>
                        </a:lnTo>
                        <a:lnTo>
                          <a:pt x="135" y="520"/>
                        </a:lnTo>
                        <a:close/>
                      </a:path>
                    </a:pathLst>
                  </a:custGeom>
                  <a:solidFill>
                    <a:srgbClr val="f4e06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4622040" y="4863600"/>
                    <a:ext cx="7164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467">
                        <a:moveTo>
                          <a:pt x="0" y="231"/>
                        </a:moveTo>
                        <a:lnTo>
                          <a:pt x="122" y="467"/>
                        </a:lnTo>
                        <a:lnTo>
                          <a:pt x="81" y="119"/>
                        </a:lnTo>
                        <a:lnTo>
                          <a:pt x="18" y="0"/>
                        </a:lnTo>
                        <a:lnTo>
                          <a:pt x="0" y="231"/>
                        </a:lnTo>
                        <a:close/>
                      </a:path>
                    </a:pathLst>
                  </a:custGeom>
                  <a:solidFill>
                    <a:srgbClr val="b7c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5022720" y="4513680"/>
                    <a:ext cx="268560" cy="322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6" h="543">
                        <a:moveTo>
                          <a:pt x="0" y="409"/>
                        </a:moveTo>
                        <a:lnTo>
                          <a:pt x="167" y="0"/>
                        </a:lnTo>
                        <a:lnTo>
                          <a:pt x="126" y="328"/>
                        </a:lnTo>
                        <a:lnTo>
                          <a:pt x="403" y="120"/>
                        </a:lnTo>
                        <a:lnTo>
                          <a:pt x="240" y="391"/>
                        </a:lnTo>
                        <a:lnTo>
                          <a:pt x="456" y="350"/>
                        </a:lnTo>
                        <a:lnTo>
                          <a:pt x="182" y="543"/>
                        </a:lnTo>
                        <a:lnTo>
                          <a:pt x="185" y="536"/>
                        </a:lnTo>
                        <a:lnTo>
                          <a:pt x="187" y="521"/>
                        </a:lnTo>
                        <a:lnTo>
                          <a:pt x="187" y="495"/>
                        </a:lnTo>
                        <a:lnTo>
                          <a:pt x="182" y="470"/>
                        </a:lnTo>
                        <a:lnTo>
                          <a:pt x="164" y="444"/>
                        </a:lnTo>
                        <a:lnTo>
                          <a:pt x="129" y="422"/>
                        </a:lnTo>
                        <a:lnTo>
                          <a:pt x="76" y="409"/>
                        </a:lnTo>
                        <a:lnTo>
                          <a:pt x="0" y="409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4784760" y="4946760"/>
                    <a:ext cx="26316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7" h="570">
                        <a:moveTo>
                          <a:pt x="388" y="99"/>
                        </a:moveTo>
                        <a:lnTo>
                          <a:pt x="366" y="129"/>
                        </a:lnTo>
                        <a:lnTo>
                          <a:pt x="338" y="164"/>
                        </a:lnTo>
                        <a:lnTo>
                          <a:pt x="305" y="203"/>
                        </a:lnTo>
                        <a:lnTo>
                          <a:pt x="267" y="238"/>
                        </a:lnTo>
                        <a:lnTo>
                          <a:pt x="224" y="276"/>
                        </a:lnTo>
                        <a:lnTo>
                          <a:pt x="173" y="312"/>
                        </a:lnTo>
                        <a:lnTo>
                          <a:pt x="115" y="345"/>
                        </a:lnTo>
                        <a:lnTo>
                          <a:pt x="51" y="373"/>
                        </a:lnTo>
                        <a:lnTo>
                          <a:pt x="0" y="570"/>
                        </a:lnTo>
                        <a:lnTo>
                          <a:pt x="28" y="558"/>
                        </a:lnTo>
                        <a:lnTo>
                          <a:pt x="59" y="545"/>
                        </a:lnTo>
                        <a:lnTo>
                          <a:pt x="87" y="527"/>
                        </a:lnTo>
                        <a:lnTo>
                          <a:pt x="115" y="510"/>
                        </a:lnTo>
                        <a:lnTo>
                          <a:pt x="145" y="489"/>
                        </a:lnTo>
                        <a:lnTo>
                          <a:pt x="173" y="466"/>
                        </a:lnTo>
                        <a:lnTo>
                          <a:pt x="198" y="444"/>
                        </a:lnTo>
                        <a:lnTo>
                          <a:pt x="226" y="416"/>
                        </a:lnTo>
                        <a:lnTo>
                          <a:pt x="254" y="388"/>
                        </a:lnTo>
                        <a:lnTo>
                          <a:pt x="279" y="357"/>
                        </a:lnTo>
                        <a:lnTo>
                          <a:pt x="305" y="324"/>
                        </a:lnTo>
                        <a:lnTo>
                          <a:pt x="328" y="289"/>
                        </a:lnTo>
                        <a:lnTo>
                          <a:pt x="350" y="253"/>
                        </a:lnTo>
                        <a:lnTo>
                          <a:pt x="373" y="213"/>
                        </a:lnTo>
                        <a:lnTo>
                          <a:pt x="396" y="172"/>
                        </a:lnTo>
                        <a:lnTo>
                          <a:pt x="416" y="126"/>
                        </a:lnTo>
                        <a:lnTo>
                          <a:pt x="439" y="30"/>
                        </a:lnTo>
                        <a:lnTo>
                          <a:pt x="447" y="0"/>
                        </a:lnTo>
                        <a:lnTo>
                          <a:pt x="444" y="7"/>
                        </a:lnTo>
                        <a:lnTo>
                          <a:pt x="434" y="27"/>
                        </a:lnTo>
                        <a:lnTo>
                          <a:pt x="416" y="58"/>
                        </a:lnTo>
                        <a:lnTo>
                          <a:pt x="388" y="99"/>
                        </a:lnTo>
                        <a:close/>
                      </a:path>
                    </a:pathLst>
                  </a:custGeom>
                  <a:solidFill>
                    <a:srgbClr val="007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55" name=""/>
              <p:cNvSpPr/>
              <p:nvPr/>
            </p:nvSpPr>
            <p:spPr>
              <a:xfrm>
                <a:off x="3897000" y="5251320"/>
                <a:ext cx="107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par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549680" y="303696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4533480" y="3046320"/>
            <a:ext cx="3321360" cy="2847240"/>
            <a:chOff x="4533480" y="3046320"/>
            <a:chExt cx="3321360" cy="2847240"/>
          </a:xfrm>
        </p:grpSpPr>
        <p:sp>
          <p:nvSpPr>
            <p:cNvPr id="358" name=""/>
            <p:cNvSpPr/>
            <p:nvPr/>
          </p:nvSpPr>
          <p:spPr>
            <a:xfrm>
              <a:off x="5904000" y="4702320"/>
              <a:ext cx="195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5 %  percen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4533480" y="3046320"/>
              <a:ext cx="2265480" cy="914400"/>
              <a:chOff x="4533480" y="3046320"/>
              <a:chExt cx="2265480" cy="914400"/>
            </a:xfrm>
          </p:grpSpPr>
          <p:sp>
            <p:nvSpPr>
              <p:cNvPr id="360" name=""/>
              <p:cNvSpPr/>
              <p:nvPr/>
            </p:nvSpPr>
            <p:spPr>
              <a:xfrm flipH="1">
                <a:off x="4533480" y="3056040"/>
                <a:ext cx="2265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81680" y="3046320"/>
                <a:ext cx="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cover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692440" y="673200"/>
            <a:ext cx="37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ing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109520" y="1454040"/>
            <a:ext cx="694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re are 3 possibiliti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386000" y="2238480"/>
            <a:ext cx="3180960" cy="2489400"/>
            <a:chOff x="1386000" y="2238480"/>
            <a:chExt cx="3180960" cy="2489400"/>
          </a:xfrm>
        </p:grpSpPr>
        <p:sp>
          <p:nvSpPr>
            <p:cNvPr id="365" name=""/>
            <p:cNvSpPr/>
            <p:nvPr/>
          </p:nvSpPr>
          <p:spPr>
            <a:xfrm>
              <a:off x="1386000" y="3536640"/>
              <a:ext cx="1841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Missing whol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2301480" y="2238480"/>
              <a:ext cx="2265480" cy="1131120"/>
              <a:chOff x="2301480" y="2238480"/>
              <a:chExt cx="2265480" cy="1131120"/>
            </a:xfrm>
          </p:grpSpPr>
          <p:sp>
            <p:nvSpPr>
              <p:cNvPr id="367" name=""/>
              <p:cNvSpPr/>
              <p:nvPr/>
            </p:nvSpPr>
            <p:spPr>
              <a:xfrm>
                <a:off x="4551480" y="2238480"/>
                <a:ext cx="0" cy="23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2301480" y="2468520"/>
                <a:ext cx="2265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301840" y="2455560"/>
                <a:ext cx="0" cy="91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0" name=""/>
          <p:cNvGrpSpPr/>
          <p:nvPr/>
        </p:nvGrpSpPr>
        <p:grpSpPr>
          <a:xfrm>
            <a:off x="3576600" y="2449440"/>
            <a:ext cx="1990800" cy="2277000"/>
            <a:chOff x="3576600" y="2449440"/>
            <a:chExt cx="1990800" cy="2277000"/>
          </a:xfrm>
        </p:grpSpPr>
        <p:sp>
          <p:nvSpPr>
            <p:cNvPr id="371" name=""/>
            <p:cNvSpPr/>
            <p:nvPr/>
          </p:nvSpPr>
          <p:spPr>
            <a:xfrm>
              <a:off x="3576600" y="3535200"/>
              <a:ext cx="199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Missing par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549680" y="244944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4533480" y="2459160"/>
            <a:ext cx="3351600" cy="2268720"/>
            <a:chOff x="4533480" y="2459160"/>
            <a:chExt cx="3351600" cy="2268720"/>
          </a:xfrm>
        </p:grpSpPr>
        <p:sp>
          <p:nvSpPr>
            <p:cNvPr id="374" name=""/>
            <p:cNvSpPr/>
            <p:nvPr/>
          </p:nvSpPr>
          <p:spPr>
            <a:xfrm>
              <a:off x="5872320" y="3536640"/>
              <a:ext cx="2012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Missing percen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4533480" y="2459160"/>
              <a:ext cx="2265480" cy="914040"/>
              <a:chOff x="4533480" y="2459160"/>
              <a:chExt cx="2265480" cy="914040"/>
            </a:xfrm>
          </p:grpSpPr>
          <p:sp>
            <p:nvSpPr>
              <p:cNvPr id="376" name=""/>
              <p:cNvSpPr/>
              <p:nvPr/>
            </p:nvSpPr>
            <p:spPr>
              <a:xfrm flipH="1">
                <a:off x="4533480" y="2468520"/>
                <a:ext cx="2265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781680" y="2459160"/>
                <a:ext cx="0" cy="91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8" name=""/>
          <p:cNvSpPr/>
          <p:nvPr/>
        </p:nvSpPr>
        <p:spPr>
          <a:xfrm>
            <a:off x="1018080" y="4896000"/>
            <a:ext cx="739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If you know any two,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you can calculate the third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2692440" y="673200"/>
            <a:ext cx="37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ing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5240" y="1355760"/>
            <a:ext cx="66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ranslating words to math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10400" y="2209680"/>
            <a:ext cx="280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(times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564560" y="2362320"/>
            <a:ext cx="102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of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92760" y="2286000"/>
            <a:ext cx="178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e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327672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Exampl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% </a:t>
            </a:r>
            <a:r>
              <a:rPr b="0" lang="en-US" sz="3600" spc="-1" strike="noStrike">
                <a:solidFill>
                  <a:srgbClr val="669900"/>
                </a:solidFill>
                <a:latin typeface="Comic Sans MS"/>
              </a:rPr>
              <a:t>of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80 = 10% 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8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0.10 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80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1464840" y="5334120"/>
            <a:ext cx="6342840" cy="916920"/>
            <a:chOff x="1464840" y="5334120"/>
            <a:chExt cx="6342840" cy="916920"/>
          </a:xfrm>
        </p:grpSpPr>
        <p:sp>
          <p:nvSpPr>
            <p:cNvPr id="386" name=""/>
            <p:cNvSpPr/>
            <p:nvPr/>
          </p:nvSpPr>
          <p:spPr>
            <a:xfrm>
              <a:off x="4522680" y="5334120"/>
              <a:ext cx="3285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=</a:t>
              </a: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 (equals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64840" y="5470560"/>
              <a:ext cx="921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669900"/>
                  </a:solidFill>
                  <a:latin typeface="Comic Sans MS"/>
                </a:rPr>
                <a:t>is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667240" y="5410080"/>
              <a:ext cx="1783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mean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23:15:18Z</dcterms:created>
  <dc:creator>Community Campus</dc:creator>
  <dc:description/>
  <dc:language>en-US</dc:language>
  <cp:lastModifiedBy>iddcws</cp:lastModifiedBy>
  <dcterms:modified xsi:type="dcterms:W3CDTF">2003-01-28T19:34:29Z</dcterms:modified>
  <cp:revision>407</cp:revision>
  <dc:subject/>
  <dc:title>PowerPoint Presentation</dc:title>
</cp:coreProperties>
</file>